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5.wmf" ContentType="image/x-wmf"/>
  <Override PartName="/ppt/media/image7.png" ContentType="image/png"/>
  <Override PartName="/ppt/media/image11.jpeg" ContentType="image/jpeg"/>
  <Override PartName="/ppt/media/image9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F0F-609B-4B48-8AC8-03F0C3F2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3E0-0267-4E6D-A1DB-C35FC831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568-80DC-40C3-9143-429E4C93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4AE-E77A-4C6B-BF12-A887DE35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304-762E-4768-AD80-029A825C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C2D-6CA4-4BA8-94FA-F834D1E0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D24-260F-42B8-83E2-8A830525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F23-1B45-4A7B-8A44-0C847324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FC0-6868-4EA8-8B6C-4624C013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B9D-C703-49C7-9FC5-BEF804E1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017-0799-4B68-BEC2-B905E229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397-46E8-4FBA-99BB-7E882FE8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A714-34F8-4B08-9955-5BA568828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4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nchereau%209" descr=""/>
          <p:cNvPicPr/>
          <p:nvPr/>
        </p:nvPicPr>
        <p:blipFill>
          <a:blip r:embed="rId1"/>
          <a:stretch/>
        </p:blipFill>
        <p:spPr>
          <a:xfrm>
            <a:off x="2625840" y="2338560"/>
            <a:ext cx="3774960" cy="3605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70200" y="5943600"/>
            <a:ext cx="347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Banchereau and Steinman 1998, Nature 392: 245-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5120" y="212760"/>
            <a:ext cx="838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6a0b"/>
                </a:solidFill>
                <a:latin typeface="Arial"/>
              </a:rPr>
              <a:t>CytoActive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6a0b"/>
                </a:solidFill>
                <a:latin typeface="Arial"/>
              </a:rPr>
              <a:t>Introduction to Dendritic Cell (D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6a0b"/>
                </a:solidFill>
                <a:latin typeface="Arial"/>
              </a:rPr>
              <a:t>Maturation and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71440" y="6324480"/>
            <a:ext cx="621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Anne Rascle &amp; Annalisa d’Andrea – March 4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1259640" y="39528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-80640" y="2246400"/>
            <a:ext cx="9553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e96a0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Microarray data: gene expression (m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(Huang et al. 2001. Science 294: 870-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Granucci et al. 2001. Nature 2: 882-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2. Check protein expression (validation): literatur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3. Identify Function (on DC &amp; other cells): literatur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5257800" y="228600"/>
            <a:ext cx="3200400" cy="1752480"/>
            <a:chOff x="5257800" y="228600"/>
            <a:chExt cx="3200400" cy="1752480"/>
          </a:xfrm>
        </p:grpSpPr>
        <p:grpSp>
          <p:nvGrpSpPr>
            <p:cNvPr id="1687" name=""/>
            <p:cNvGrpSpPr/>
            <p:nvPr/>
          </p:nvGrpSpPr>
          <p:grpSpPr>
            <a:xfrm>
              <a:off x="6019920" y="456840"/>
              <a:ext cx="2358720" cy="1370880"/>
              <a:chOff x="6019920" y="456840"/>
              <a:chExt cx="2358720" cy="1370880"/>
            </a:xfrm>
          </p:grpSpPr>
          <p:grpSp>
            <p:nvGrpSpPr>
              <p:cNvPr id="1688" name=""/>
              <p:cNvGrpSpPr/>
              <p:nvPr/>
            </p:nvGrpSpPr>
            <p:grpSpPr>
              <a:xfrm>
                <a:off x="6019920" y="456840"/>
                <a:ext cx="2209680" cy="306360"/>
                <a:chOff x="6019920" y="456840"/>
                <a:chExt cx="2209680" cy="306360"/>
              </a:xfrm>
            </p:grpSpPr>
            <p:sp>
              <p:nvSpPr>
                <p:cNvPr id="1689" name=""/>
                <p:cNvSpPr/>
                <p:nvPr/>
              </p:nvSpPr>
              <p:spPr>
                <a:xfrm>
                  <a:off x="6705720" y="532800"/>
                  <a:ext cx="914400" cy="182160"/>
                </a:xfrm>
                <a:prstGeom prst="rect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7620120" y="608760"/>
                  <a:ext cx="609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6019920" y="608760"/>
                  <a:ext cx="685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2" name=""/>
                <p:cNvGrpSpPr/>
                <p:nvPr/>
              </p:nvGrpSpPr>
              <p:grpSpPr>
                <a:xfrm>
                  <a:off x="7848360" y="532800"/>
                  <a:ext cx="228600" cy="151920"/>
                  <a:chOff x="7848360" y="532800"/>
                  <a:chExt cx="228600" cy="151920"/>
                </a:xfrm>
              </p:grpSpPr>
              <p:sp>
                <p:nvSpPr>
                  <p:cNvPr id="1693" name=""/>
                  <p:cNvSpPr/>
                  <p:nvPr/>
                </p:nvSpPr>
                <p:spPr>
                  <a:xfrm flipH="1">
                    <a:off x="784836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 flipH="1">
                    <a:off x="792468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5" name=""/>
                <p:cNvGrpSpPr/>
                <p:nvPr/>
              </p:nvGrpSpPr>
              <p:grpSpPr>
                <a:xfrm>
                  <a:off x="6171840" y="532800"/>
                  <a:ext cx="228600" cy="151920"/>
                  <a:chOff x="6171840" y="532800"/>
                  <a:chExt cx="228600" cy="151920"/>
                </a:xfrm>
              </p:grpSpPr>
              <p:sp>
                <p:nvSpPr>
                  <p:cNvPr id="1696" name=""/>
                  <p:cNvSpPr/>
                  <p:nvPr/>
                </p:nvSpPr>
                <p:spPr>
                  <a:xfrm flipH="1">
                    <a:off x="617184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 flipH="1">
                    <a:off x="624816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8" name=""/>
                <p:cNvSpPr/>
                <p:nvPr/>
              </p:nvSpPr>
              <p:spPr>
                <a:xfrm>
                  <a:off x="6858000" y="48672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ene 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9" name=""/>
                <p:cNvGrpSpPr/>
                <p:nvPr/>
              </p:nvGrpSpPr>
              <p:grpSpPr>
                <a:xfrm>
                  <a:off x="6705720" y="456840"/>
                  <a:ext cx="228600" cy="151920"/>
                  <a:chOff x="6705720" y="456840"/>
                  <a:chExt cx="228600" cy="151920"/>
                </a:xfrm>
              </p:grpSpPr>
              <p:sp>
                <p:nvSpPr>
                  <p:cNvPr id="1700" name=""/>
                  <p:cNvSpPr/>
                  <p:nvPr/>
                </p:nvSpPr>
                <p:spPr>
                  <a:xfrm flipV="1">
                    <a:off x="6705720" y="456840"/>
                    <a:ext cx="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6705720" y="45684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02" name=""/>
              <p:cNvGrpSpPr/>
              <p:nvPr/>
            </p:nvGrpSpPr>
            <p:grpSpPr>
              <a:xfrm>
                <a:off x="6629400" y="913680"/>
                <a:ext cx="1749240" cy="246240"/>
                <a:chOff x="6629400" y="913680"/>
                <a:chExt cx="1749240" cy="246240"/>
              </a:xfrm>
            </p:grpSpPr>
            <p:sp>
              <p:nvSpPr>
                <p:cNvPr id="1703" name=""/>
                <p:cNvSpPr/>
                <p:nvPr/>
              </p:nvSpPr>
              <p:spPr>
                <a:xfrm>
                  <a:off x="6629400" y="989280"/>
                  <a:ext cx="1179720" cy="104400"/>
                </a:xfrm>
                <a:custGeom>
                  <a:avLst/>
                  <a:gdLst/>
                  <a:ahLst/>
                  <a:rect l="l" t="t" r="r" b="b"/>
                  <a:pathLst>
                    <a:path w="743" h="66">
                      <a:moveTo>
                        <a:pt x="0" y="43"/>
                      </a:moveTo>
                      <a:cubicBezTo>
                        <a:pt x="16" y="38"/>
                        <a:pt x="28" y="23"/>
                        <a:pt x="45" y="21"/>
                      </a:cubicBezTo>
                      <a:cubicBezTo>
                        <a:pt x="75" y="17"/>
                        <a:pt x="123" y="41"/>
                        <a:pt x="151" y="51"/>
                      </a:cubicBezTo>
                      <a:cubicBezTo>
                        <a:pt x="180" y="44"/>
                        <a:pt x="198" y="41"/>
                        <a:pt x="220" y="21"/>
                      </a:cubicBezTo>
                      <a:cubicBezTo>
                        <a:pt x="340" y="35"/>
                        <a:pt x="240" y="14"/>
                        <a:pt x="303" y="43"/>
                      </a:cubicBezTo>
                      <a:cubicBezTo>
                        <a:pt x="317" y="50"/>
                        <a:pt x="348" y="59"/>
                        <a:pt x="348" y="59"/>
                      </a:cubicBezTo>
                      <a:cubicBezTo>
                        <a:pt x="363" y="56"/>
                        <a:pt x="379" y="55"/>
                        <a:pt x="394" y="51"/>
                      </a:cubicBezTo>
                      <a:cubicBezTo>
                        <a:pt x="409" y="47"/>
                        <a:pt x="439" y="36"/>
                        <a:pt x="439" y="36"/>
                      </a:cubicBezTo>
                      <a:cubicBezTo>
                        <a:pt x="464" y="38"/>
                        <a:pt x="490" y="37"/>
                        <a:pt x="515" y="43"/>
                      </a:cubicBezTo>
                      <a:cubicBezTo>
                        <a:pt x="522" y="45"/>
                        <a:pt x="524" y="55"/>
                        <a:pt x="530" y="59"/>
                      </a:cubicBezTo>
                      <a:cubicBezTo>
                        <a:pt x="537" y="63"/>
                        <a:pt x="545" y="64"/>
                        <a:pt x="553" y="66"/>
                      </a:cubicBezTo>
                      <a:cubicBezTo>
                        <a:pt x="583" y="59"/>
                        <a:pt x="593" y="45"/>
                        <a:pt x="621" y="36"/>
                      </a:cubicBezTo>
                      <a:cubicBezTo>
                        <a:pt x="634" y="0"/>
                        <a:pt x="647" y="5"/>
                        <a:pt x="682" y="13"/>
                      </a:cubicBezTo>
                      <a:cubicBezTo>
                        <a:pt x="702" y="26"/>
                        <a:pt x="721" y="33"/>
                        <a:pt x="743" y="43"/>
                      </a:cubicBezTo>
                    </a:path>
                  </a:pathLst>
                </a:custGeom>
                <a:noFill/>
                <a:ln w="5724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7740720" y="913680"/>
                  <a:ext cx="63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AAA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6782040" y="1447200"/>
                <a:ext cx="838080" cy="380520"/>
                <a:chOff x="6782040" y="1447200"/>
                <a:chExt cx="838080" cy="38052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6858360" y="1447200"/>
                  <a:ext cx="685800" cy="380520"/>
                </a:xfrm>
                <a:prstGeom prst="can">
                  <a:avLst>
                    <a:gd name="adj" fmla="val 25000"/>
                  </a:avLst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6782040" y="1523160"/>
                  <a:ext cx="838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Factor 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8" name=""/>
              <p:cNvSpPr/>
              <p:nvPr/>
            </p:nvSpPr>
            <p:spPr>
              <a:xfrm>
                <a:off x="7162920" y="1142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162920" y="76140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0" name=""/>
            <p:cNvSpPr/>
            <p:nvPr/>
          </p:nvSpPr>
          <p:spPr>
            <a:xfrm>
              <a:off x="5330160" y="380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96a0b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336640" y="852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96a0b"/>
                  </a:solidFill>
                  <a:latin typeface="Arial"/>
                </a:rPr>
                <a:t>m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335560" y="146196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96a0b"/>
                  </a:solidFill>
                  <a:latin typeface="Arial"/>
                </a:rPr>
                <a:t>Prote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257800" y="228600"/>
              <a:ext cx="3200400" cy="1752480"/>
            </a:xfrm>
            <a:prstGeom prst="rect">
              <a:avLst/>
            </a:prstGeom>
            <a:noFill/>
            <a:ln w="9360">
              <a:solidFill>
                <a:srgbClr val="e96a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4" name="Fig1%20Huang" descr=""/>
          <p:cNvPicPr/>
          <p:nvPr/>
        </p:nvPicPr>
        <p:blipFill>
          <a:blip r:embed="rId1"/>
          <a:stretch/>
        </p:blipFill>
        <p:spPr>
          <a:xfrm>
            <a:off x="93600" y="1066680"/>
            <a:ext cx="8821800" cy="4618080"/>
          </a:xfrm>
          <a:prstGeom prst="rect">
            <a:avLst/>
          </a:prstGeom>
          <a:ln w="0">
            <a:noFill/>
          </a:ln>
        </p:spPr>
      </p:pic>
      <p:sp>
        <p:nvSpPr>
          <p:cNvPr id="1715" name=""/>
          <p:cNvSpPr/>
          <p:nvPr/>
        </p:nvSpPr>
        <p:spPr>
          <a:xfrm>
            <a:off x="175320" y="6324480"/>
            <a:ext cx="87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ang et al. (2001). The plasticity of DC responses to pathogens and their components. Science 294: 870-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6880" y="74520"/>
            <a:ext cx="90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Pathogen-regulated Gene Expression in Human D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727880" y="586728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-1-2-4-8-12-24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791320" y="5603760"/>
            <a:ext cx="45720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4952880" y="5603760"/>
            <a:ext cx="45720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0" name="se4219886002" descr=""/>
          <p:cNvPicPr/>
          <p:nvPr/>
        </p:nvPicPr>
        <p:blipFill>
          <a:blip r:embed="rId1"/>
          <a:stretch/>
        </p:blipFill>
        <p:spPr>
          <a:xfrm>
            <a:off x="3165480" y="152280"/>
            <a:ext cx="5749920" cy="6616800"/>
          </a:xfrm>
          <a:prstGeom prst="rect">
            <a:avLst/>
          </a:prstGeom>
          <a:ln w="0">
            <a:noFill/>
          </a:ln>
        </p:spPr>
      </p:pic>
      <p:sp>
        <p:nvSpPr>
          <p:cNvPr id="1721" name=""/>
          <p:cNvSpPr/>
          <p:nvPr/>
        </p:nvSpPr>
        <p:spPr>
          <a:xfrm>
            <a:off x="0" y="64771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6a0b"/>
                </a:solidFill>
                <a:latin typeface="Arial"/>
              </a:rPr>
              <a:t>Huang et al. (2001). Science 294: 870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0" y="38088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Expression Kinetics of Common Response Genes in D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3" name=""/>
          <p:cNvGrpSpPr/>
          <p:nvPr/>
        </p:nvGrpSpPr>
        <p:grpSpPr>
          <a:xfrm>
            <a:off x="609480" y="3048120"/>
            <a:ext cx="1218960" cy="990360"/>
            <a:chOff x="609480" y="3048120"/>
            <a:chExt cx="1218960" cy="990360"/>
          </a:xfrm>
        </p:grpSpPr>
        <p:sp>
          <p:nvSpPr>
            <p:cNvPr id="1724" name=""/>
            <p:cNvSpPr/>
            <p:nvPr/>
          </p:nvSpPr>
          <p:spPr>
            <a:xfrm>
              <a:off x="689040" y="3124080"/>
              <a:ext cx="106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E: 0-8h</a:t>
              </a:r>
              <a:r>
                <a:rPr b="1" lang="en-US" sz="1600" spc="-1" strike="noStrike">
                  <a:solidFill>
                    <a:srgbClr val="e96a0b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M: 8-18h</a:t>
              </a:r>
              <a:r>
                <a:rPr b="1" lang="en-US" sz="1600" spc="-1" strike="noStrike">
                  <a:solidFill>
                    <a:srgbClr val="e96a0b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1c903"/>
                  </a:solidFill>
                  <a:latin typeface="Arial"/>
                </a:rPr>
                <a:t>L: 18-48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09480" y="3048120"/>
              <a:ext cx="12189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"/>
          <p:cNvSpPr/>
          <p:nvPr/>
        </p:nvSpPr>
        <p:spPr>
          <a:xfrm>
            <a:off x="-80640" y="2246400"/>
            <a:ext cx="9553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Microarray data: gene expression (m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(Huang et al. 2001. Science 294: 870-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Granucci et al. 2001. Nature 2: 882-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2. Check protein expression (validation): literatur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3. Identify Function (on DC &amp; other cells): literatur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5257800" y="228600"/>
            <a:ext cx="3200400" cy="1752480"/>
            <a:chOff x="5257800" y="228600"/>
            <a:chExt cx="3200400" cy="1752480"/>
          </a:xfrm>
        </p:grpSpPr>
        <p:grpSp>
          <p:nvGrpSpPr>
            <p:cNvPr id="1728" name=""/>
            <p:cNvGrpSpPr/>
            <p:nvPr/>
          </p:nvGrpSpPr>
          <p:grpSpPr>
            <a:xfrm>
              <a:off x="6019920" y="456840"/>
              <a:ext cx="2358720" cy="1370880"/>
              <a:chOff x="6019920" y="456840"/>
              <a:chExt cx="2358720" cy="1370880"/>
            </a:xfrm>
          </p:grpSpPr>
          <p:grpSp>
            <p:nvGrpSpPr>
              <p:cNvPr id="1729" name=""/>
              <p:cNvGrpSpPr/>
              <p:nvPr/>
            </p:nvGrpSpPr>
            <p:grpSpPr>
              <a:xfrm>
                <a:off x="6019920" y="456840"/>
                <a:ext cx="2209680" cy="306360"/>
                <a:chOff x="6019920" y="456840"/>
                <a:chExt cx="2209680" cy="306360"/>
              </a:xfrm>
            </p:grpSpPr>
            <p:sp>
              <p:nvSpPr>
                <p:cNvPr id="1730" name=""/>
                <p:cNvSpPr/>
                <p:nvPr/>
              </p:nvSpPr>
              <p:spPr>
                <a:xfrm>
                  <a:off x="6705720" y="532800"/>
                  <a:ext cx="914400" cy="182160"/>
                </a:xfrm>
                <a:prstGeom prst="rect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7620120" y="608760"/>
                  <a:ext cx="609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6019920" y="608760"/>
                  <a:ext cx="685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3" name=""/>
                <p:cNvGrpSpPr/>
                <p:nvPr/>
              </p:nvGrpSpPr>
              <p:grpSpPr>
                <a:xfrm>
                  <a:off x="7848360" y="532800"/>
                  <a:ext cx="228600" cy="151920"/>
                  <a:chOff x="7848360" y="532800"/>
                  <a:chExt cx="228600" cy="151920"/>
                </a:xfrm>
              </p:grpSpPr>
              <p:sp>
                <p:nvSpPr>
                  <p:cNvPr id="1734" name=""/>
                  <p:cNvSpPr/>
                  <p:nvPr/>
                </p:nvSpPr>
                <p:spPr>
                  <a:xfrm flipH="1">
                    <a:off x="784836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 flipH="1">
                    <a:off x="792468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6" name=""/>
                <p:cNvGrpSpPr/>
                <p:nvPr/>
              </p:nvGrpSpPr>
              <p:grpSpPr>
                <a:xfrm>
                  <a:off x="6171840" y="532800"/>
                  <a:ext cx="228600" cy="151920"/>
                  <a:chOff x="6171840" y="532800"/>
                  <a:chExt cx="228600" cy="15192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 flipH="1">
                    <a:off x="617184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 flipH="1">
                    <a:off x="624816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9" name=""/>
                <p:cNvSpPr/>
                <p:nvPr/>
              </p:nvSpPr>
              <p:spPr>
                <a:xfrm>
                  <a:off x="6858000" y="48672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ene 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0" name=""/>
                <p:cNvGrpSpPr/>
                <p:nvPr/>
              </p:nvGrpSpPr>
              <p:grpSpPr>
                <a:xfrm>
                  <a:off x="6705720" y="456840"/>
                  <a:ext cx="228600" cy="151920"/>
                  <a:chOff x="6705720" y="456840"/>
                  <a:chExt cx="228600" cy="151920"/>
                </a:xfrm>
              </p:grpSpPr>
              <p:sp>
                <p:nvSpPr>
                  <p:cNvPr id="1741" name=""/>
                  <p:cNvSpPr/>
                  <p:nvPr/>
                </p:nvSpPr>
                <p:spPr>
                  <a:xfrm flipV="1">
                    <a:off x="6705720" y="456840"/>
                    <a:ext cx="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6705720" y="45684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3" name=""/>
              <p:cNvGrpSpPr/>
              <p:nvPr/>
            </p:nvGrpSpPr>
            <p:grpSpPr>
              <a:xfrm>
                <a:off x="6629400" y="913680"/>
                <a:ext cx="1749240" cy="246240"/>
                <a:chOff x="6629400" y="913680"/>
                <a:chExt cx="1749240" cy="246240"/>
              </a:xfrm>
            </p:grpSpPr>
            <p:sp>
              <p:nvSpPr>
                <p:cNvPr id="1744" name=""/>
                <p:cNvSpPr/>
                <p:nvPr/>
              </p:nvSpPr>
              <p:spPr>
                <a:xfrm>
                  <a:off x="6629400" y="989280"/>
                  <a:ext cx="1179720" cy="104400"/>
                </a:xfrm>
                <a:custGeom>
                  <a:avLst/>
                  <a:gdLst/>
                  <a:ahLst/>
                  <a:rect l="l" t="t" r="r" b="b"/>
                  <a:pathLst>
                    <a:path w="743" h="66">
                      <a:moveTo>
                        <a:pt x="0" y="43"/>
                      </a:moveTo>
                      <a:cubicBezTo>
                        <a:pt x="16" y="38"/>
                        <a:pt x="28" y="23"/>
                        <a:pt x="45" y="21"/>
                      </a:cubicBezTo>
                      <a:cubicBezTo>
                        <a:pt x="75" y="17"/>
                        <a:pt x="123" y="41"/>
                        <a:pt x="151" y="51"/>
                      </a:cubicBezTo>
                      <a:cubicBezTo>
                        <a:pt x="180" y="44"/>
                        <a:pt x="198" y="41"/>
                        <a:pt x="220" y="21"/>
                      </a:cubicBezTo>
                      <a:cubicBezTo>
                        <a:pt x="340" y="35"/>
                        <a:pt x="240" y="14"/>
                        <a:pt x="303" y="43"/>
                      </a:cubicBezTo>
                      <a:cubicBezTo>
                        <a:pt x="317" y="50"/>
                        <a:pt x="348" y="59"/>
                        <a:pt x="348" y="59"/>
                      </a:cubicBezTo>
                      <a:cubicBezTo>
                        <a:pt x="363" y="56"/>
                        <a:pt x="379" y="55"/>
                        <a:pt x="394" y="51"/>
                      </a:cubicBezTo>
                      <a:cubicBezTo>
                        <a:pt x="409" y="47"/>
                        <a:pt x="439" y="36"/>
                        <a:pt x="439" y="36"/>
                      </a:cubicBezTo>
                      <a:cubicBezTo>
                        <a:pt x="464" y="38"/>
                        <a:pt x="490" y="37"/>
                        <a:pt x="515" y="43"/>
                      </a:cubicBezTo>
                      <a:cubicBezTo>
                        <a:pt x="522" y="45"/>
                        <a:pt x="524" y="55"/>
                        <a:pt x="530" y="59"/>
                      </a:cubicBezTo>
                      <a:cubicBezTo>
                        <a:pt x="537" y="63"/>
                        <a:pt x="545" y="64"/>
                        <a:pt x="553" y="66"/>
                      </a:cubicBezTo>
                      <a:cubicBezTo>
                        <a:pt x="583" y="59"/>
                        <a:pt x="593" y="45"/>
                        <a:pt x="621" y="36"/>
                      </a:cubicBezTo>
                      <a:cubicBezTo>
                        <a:pt x="634" y="0"/>
                        <a:pt x="647" y="5"/>
                        <a:pt x="682" y="13"/>
                      </a:cubicBezTo>
                      <a:cubicBezTo>
                        <a:pt x="702" y="26"/>
                        <a:pt x="721" y="33"/>
                        <a:pt x="743" y="43"/>
                      </a:cubicBezTo>
                    </a:path>
                  </a:pathLst>
                </a:custGeom>
                <a:noFill/>
                <a:ln w="5724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7740720" y="913680"/>
                  <a:ext cx="63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AAA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6" name=""/>
              <p:cNvGrpSpPr/>
              <p:nvPr/>
            </p:nvGrpSpPr>
            <p:grpSpPr>
              <a:xfrm>
                <a:off x="6782040" y="1447200"/>
                <a:ext cx="838080" cy="380520"/>
                <a:chOff x="6782040" y="1447200"/>
                <a:chExt cx="838080" cy="38052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6858360" y="1447200"/>
                  <a:ext cx="685800" cy="380520"/>
                </a:xfrm>
                <a:prstGeom prst="can">
                  <a:avLst>
                    <a:gd name="adj" fmla="val 25000"/>
                  </a:avLst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6782040" y="1523160"/>
                  <a:ext cx="838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Factor 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9" name=""/>
              <p:cNvSpPr/>
              <p:nvPr/>
            </p:nvSpPr>
            <p:spPr>
              <a:xfrm>
                <a:off x="7162920" y="1142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162920" y="76140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1" name=""/>
            <p:cNvSpPr/>
            <p:nvPr/>
          </p:nvSpPr>
          <p:spPr>
            <a:xfrm>
              <a:off x="5330160" y="380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96a0b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336640" y="852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96a0b"/>
                  </a:solidFill>
                  <a:latin typeface="Arial"/>
                </a:rPr>
                <a:t>m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335560" y="146196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96a0b"/>
                  </a:solidFill>
                  <a:latin typeface="Arial"/>
                </a:rPr>
                <a:t>Prote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257800" y="228600"/>
              <a:ext cx="3200400" cy="1752480"/>
            </a:xfrm>
            <a:prstGeom prst="rect">
              <a:avLst/>
            </a:prstGeom>
            <a:noFill/>
            <a:ln w="9360">
              <a:solidFill>
                <a:srgbClr val="e96a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5" name=""/>
          <p:cNvSpPr/>
          <p:nvPr/>
        </p:nvSpPr>
        <p:spPr>
          <a:xfrm>
            <a:off x="1259640" y="39528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6" name="suppl%20Fig1%20Huang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8977320" cy="4684680"/>
          </a:xfrm>
          <a:prstGeom prst="rect">
            <a:avLst/>
          </a:prstGeom>
          <a:ln w="0">
            <a:noFill/>
          </a:ln>
        </p:spPr>
      </p:pic>
      <p:sp>
        <p:nvSpPr>
          <p:cNvPr id="1757" name=""/>
          <p:cNvSpPr/>
          <p:nvPr/>
        </p:nvSpPr>
        <p:spPr>
          <a:xfrm>
            <a:off x="354600" y="74520"/>
            <a:ext cx="847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mRNA and Protein Expression Levels for Sev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Secreted Factors (Cytokines, Chemokines, G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6a0b"/>
                </a:solidFill>
                <a:latin typeface="Arial"/>
              </a:rPr>
              <a:t>(From Huang et al. 2001. Science 294: 870-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990720" y="365760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ET                      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637240" y="373392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MT                      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988920" y="617220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MT                       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637960" y="615636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MS                   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600200" y="1828800"/>
            <a:ext cx="762120" cy="304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248520" y="1905120"/>
            <a:ext cx="761760" cy="304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248520" y="4191120"/>
            <a:ext cx="609480" cy="304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676520" y="4114800"/>
            <a:ext cx="609480" cy="304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"/>
          <p:cNvSpPr/>
          <p:nvPr/>
        </p:nvSpPr>
        <p:spPr>
          <a:xfrm>
            <a:off x="-80640" y="2246400"/>
            <a:ext cx="9553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Microarray data: gene expression (m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(Huang et al. 2001. Science 294: 870-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Granucci et al. 2001. Nature 2: 882-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2. Check protein expression (validation): literatur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3. Identify Function (on DC &amp; other cells): literatur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7" name=""/>
          <p:cNvGrpSpPr/>
          <p:nvPr/>
        </p:nvGrpSpPr>
        <p:grpSpPr>
          <a:xfrm>
            <a:off x="5257800" y="228600"/>
            <a:ext cx="3200400" cy="1752480"/>
            <a:chOff x="5257800" y="228600"/>
            <a:chExt cx="3200400" cy="1752480"/>
          </a:xfrm>
        </p:grpSpPr>
        <p:grpSp>
          <p:nvGrpSpPr>
            <p:cNvPr id="1768" name=""/>
            <p:cNvGrpSpPr/>
            <p:nvPr/>
          </p:nvGrpSpPr>
          <p:grpSpPr>
            <a:xfrm>
              <a:off x="6019920" y="456840"/>
              <a:ext cx="2358720" cy="1370880"/>
              <a:chOff x="6019920" y="456840"/>
              <a:chExt cx="2358720" cy="1370880"/>
            </a:xfrm>
          </p:grpSpPr>
          <p:grpSp>
            <p:nvGrpSpPr>
              <p:cNvPr id="1769" name=""/>
              <p:cNvGrpSpPr/>
              <p:nvPr/>
            </p:nvGrpSpPr>
            <p:grpSpPr>
              <a:xfrm>
                <a:off x="6019920" y="456840"/>
                <a:ext cx="2209680" cy="306360"/>
                <a:chOff x="6019920" y="456840"/>
                <a:chExt cx="2209680" cy="306360"/>
              </a:xfrm>
            </p:grpSpPr>
            <p:sp>
              <p:nvSpPr>
                <p:cNvPr id="1770" name=""/>
                <p:cNvSpPr/>
                <p:nvPr/>
              </p:nvSpPr>
              <p:spPr>
                <a:xfrm>
                  <a:off x="6705720" y="532800"/>
                  <a:ext cx="914400" cy="182160"/>
                </a:xfrm>
                <a:prstGeom prst="rect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7620120" y="608760"/>
                  <a:ext cx="609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6019920" y="608760"/>
                  <a:ext cx="685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3" name=""/>
                <p:cNvGrpSpPr/>
                <p:nvPr/>
              </p:nvGrpSpPr>
              <p:grpSpPr>
                <a:xfrm>
                  <a:off x="7848360" y="532800"/>
                  <a:ext cx="228600" cy="151920"/>
                  <a:chOff x="7848360" y="532800"/>
                  <a:chExt cx="228600" cy="151920"/>
                </a:xfrm>
              </p:grpSpPr>
              <p:sp>
                <p:nvSpPr>
                  <p:cNvPr id="1774" name=""/>
                  <p:cNvSpPr/>
                  <p:nvPr/>
                </p:nvSpPr>
                <p:spPr>
                  <a:xfrm flipH="1">
                    <a:off x="784836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 flipH="1">
                    <a:off x="792468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6" name=""/>
                <p:cNvGrpSpPr/>
                <p:nvPr/>
              </p:nvGrpSpPr>
              <p:grpSpPr>
                <a:xfrm>
                  <a:off x="6171840" y="532800"/>
                  <a:ext cx="228600" cy="151920"/>
                  <a:chOff x="6171840" y="532800"/>
                  <a:chExt cx="228600" cy="151920"/>
                </a:xfrm>
              </p:grpSpPr>
              <p:sp>
                <p:nvSpPr>
                  <p:cNvPr id="1777" name=""/>
                  <p:cNvSpPr/>
                  <p:nvPr/>
                </p:nvSpPr>
                <p:spPr>
                  <a:xfrm flipH="1">
                    <a:off x="617184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 flipH="1">
                    <a:off x="6248160" y="532800"/>
                    <a:ext cx="15228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9" name=""/>
                <p:cNvSpPr/>
                <p:nvPr/>
              </p:nvSpPr>
              <p:spPr>
                <a:xfrm>
                  <a:off x="6858000" y="48672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ene 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0" name=""/>
                <p:cNvGrpSpPr/>
                <p:nvPr/>
              </p:nvGrpSpPr>
              <p:grpSpPr>
                <a:xfrm>
                  <a:off x="6705720" y="456840"/>
                  <a:ext cx="228600" cy="151920"/>
                  <a:chOff x="6705720" y="456840"/>
                  <a:chExt cx="228600" cy="151920"/>
                </a:xfrm>
              </p:grpSpPr>
              <p:sp>
                <p:nvSpPr>
                  <p:cNvPr id="1781" name=""/>
                  <p:cNvSpPr/>
                  <p:nvPr/>
                </p:nvSpPr>
                <p:spPr>
                  <a:xfrm flipV="1">
                    <a:off x="6705720" y="456840"/>
                    <a:ext cx="0" cy="151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6705720" y="45684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3" name=""/>
              <p:cNvGrpSpPr/>
              <p:nvPr/>
            </p:nvGrpSpPr>
            <p:grpSpPr>
              <a:xfrm>
                <a:off x="6629400" y="913680"/>
                <a:ext cx="1749240" cy="246240"/>
                <a:chOff x="6629400" y="913680"/>
                <a:chExt cx="1749240" cy="24624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6629400" y="989280"/>
                  <a:ext cx="1179720" cy="104400"/>
                </a:xfrm>
                <a:custGeom>
                  <a:avLst/>
                  <a:gdLst/>
                  <a:ahLst/>
                  <a:rect l="l" t="t" r="r" b="b"/>
                  <a:pathLst>
                    <a:path w="743" h="66">
                      <a:moveTo>
                        <a:pt x="0" y="43"/>
                      </a:moveTo>
                      <a:cubicBezTo>
                        <a:pt x="16" y="38"/>
                        <a:pt x="28" y="23"/>
                        <a:pt x="45" y="21"/>
                      </a:cubicBezTo>
                      <a:cubicBezTo>
                        <a:pt x="75" y="17"/>
                        <a:pt x="123" y="41"/>
                        <a:pt x="151" y="51"/>
                      </a:cubicBezTo>
                      <a:cubicBezTo>
                        <a:pt x="180" y="44"/>
                        <a:pt x="198" y="41"/>
                        <a:pt x="220" y="21"/>
                      </a:cubicBezTo>
                      <a:cubicBezTo>
                        <a:pt x="340" y="35"/>
                        <a:pt x="240" y="14"/>
                        <a:pt x="303" y="43"/>
                      </a:cubicBezTo>
                      <a:cubicBezTo>
                        <a:pt x="317" y="50"/>
                        <a:pt x="348" y="59"/>
                        <a:pt x="348" y="59"/>
                      </a:cubicBezTo>
                      <a:cubicBezTo>
                        <a:pt x="363" y="56"/>
                        <a:pt x="379" y="55"/>
                        <a:pt x="394" y="51"/>
                      </a:cubicBezTo>
                      <a:cubicBezTo>
                        <a:pt x="409" y="47"/>
                        <a:pt x="439" y="36"/>
                        <a:pt x="439" y="36"/>
                      </a:cubicBezTo>
                      <a:cubicBezTo>
                        <a:pt x="464" y="38"/>
                        <a:pt x="490" y="37"/>
                        <a:pt x="515" y="43"/>
                      </a:cubicBezTo>
                      <a:cubicBezTo>
                        <a:pt x="522" y="45"/>
                        <a:pt x="524" y="55"/>
                        <a:pt x="530" y="59"/>
                      </a:cubicBezTo>
                      <a:cubicBezTo>
                        <a:pt x="537" y="63"/>
                        <a:pt x="545" y="64"/>
                        <a:pt x="553" y="66"/>
                      </a:cubicBezTo>
                      <a:cubicBezTo>
                        <a:pt x="583" y="59"/>
                        <a:pt x="593" y="45"/>
                        <a:pt x="621" y="36"/>
                      </a:cubicBezTo>
                      <a:cubicBezTo>
                        <a:pt x="634" y="0"/>
                        <a:pt x="647" y="5"/>
                        <a:pt x="682" y="13"/>
                      </a:cubicBezTo>
                      <a:cubicBezTo>
                        <a:pt x="702" y="26"/>
                        <a:pt x="721" y="33"/>
                        <a:pt x="743" y="43"/>
                      </a:cubicBezTo>
                    </a:path>
                  </a:pathLst>
                </a:custGeom>
                <a:noFill/>
                <a:ln w="5724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740720" y="913680"/>
                  <a:ext cx="63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AAA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6782040" y="1447200"/>
                <a:ext cx="838080" cy="380520"/>
                <a:chOff x="6782040" y="1447200"/>
                <a:chExt cx="838080" cy="38052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6858360" y="1447200"/>
                  <a:ext cx="685800" cy="380520"/>
                </a:xfrm>
                <a:prstGeom prst="can">
                  <a:avLst>
                    <a:gd name="adj" fmla="val 25000"/>
                  </a:avLst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6782040" y="1523160"/>
                  <a:ext cx="838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Factor 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9" name=""/>
              <p:cNvSpPr/>
              <p:nvPr/>
            </p:nvSpPr>
            <p:spPr>
              <a:xfrm>
                <a:off x="7162920" y="1142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162920" y="76140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1" name=""/>
            <p:cNvSpPr/>
            <p:nvPr/>
          </p:nvSpPr>
          <p:spPr>
            <a:xfrm>
              <a:off x="5330160" y="380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96a0b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36640" y="852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96a0b"/>
                  </a:solidFill>
                  <a:latin typeface="Arial"/>
                </a:rPr>
                <a:t>m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335560" y="146196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96a0b"/>
                  </a:solidFill>
                  <a:latin typeface="Arial"/>
                </a:rPr>
                <a:t>Prote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57800" y="228600"/>
              <a:ext cx="3200400" cy="1752480"/>
            </a:xfrm>
            <a:prstGeom prst="rect">
              <a:avLst/>
            </a:prstGeom>
            <a:noFill/>
            <a:ln w="9360">
              <a:solidFill>
                <a:srgbClr val="e96a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1259640" y="39528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"/>
          <p:cNvGrpSpPr/>
          <p:nvPr/>
        </p:nvGrpSpPr>
        <p:grpSpPr>
          <a:xfrm>
            <a:off x="152280" y="1219320"/>
            <a:ext cx="8821440" cy="2036520"/>
            <a:chOff x="152280" y="1219320"/>
            <a:chExt cx="8821440" cy="2036520"/>
          </a:xfrm>
        </p:grpSpPr>
        <p:graphicFrame>
          <p:nvGraphicFramePr>
            <p:cNvPr id="1797" name=""/>
            <p:cNvGraphicFramePr/>
            <p:nvPr/>
          </p:nvGraphicFramePr>
          <p:xfrm>
            <a:off x="152280" y="1219320"/>
            <a:ext cx="5784480" cy="2036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7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219320"/>
                      <a:ext cx="5784480" cy="20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9" name=""/>
            <p:cNvGraphicFramePr/>
            <p:nvPr/>
          </p:nvGraphicFramePr>
          <p:xfrm>
            <a:off x="5936760" y="1219320"/>
            <a:ext cx="3036960" cy="20242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8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36760" y="1219320"/>
                      <a:ext cx="3036960" cy="20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01" name=""/>
          <p:cNvSpPr/>
          <p:nvPr/>
        </p:nvSpPr>
        <p:spPr>
          <a:xfrm>
            <a:off x="2725560" y="39528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Databas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2" name=""/>
          <p:cNvGrpSpPr/>
          <p:nvPr/>
        </p:nvGrpSpPr>
        <p:grpSpPr>
          <a:xfrm>
            <a:off x="76320" y="3657600"/>
            <a:ext cx="8967240" cy="1865160"/>
            <a:chOff x="76320" y="3657600"/>
            <a:chExt cx="8967240" cy="1865160"/>
          </a:xfrm>
        </p:grpSpPr>
        <p:graphicFrame>
          <p:nvGraphicFramePr>
            <p:cNvPr id="1803" name=""/>
            <p:cNvGraphicFramePr/>
            <p:nvPr/>
          </p:nvGraphicFramePr>
          <p:xfrm>
            <a:off x="76320" y="3657600"/>
            <a:ext cx="3764880" cy="18561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8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3657600"/>
                      <a:ext cx="3764880" cy="185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5" name=""/>
            <p:cNvGraphicFramePr/>
            <p:nvPr/>
          </p:nvGraphicFramePr>
          <p:xfrm>
            <a:off x="3841200" y="3657600"/>
            <a:ext cx="5202360" cy="186516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8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41200" y="3657600"/>
                      <a:ext cx="5202360" cy="18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07" name=""/>
          <p:cNvSpPr/>
          <p:nvPr/>
        </p:nvSpPr>
        <p:spPr>
          <a:xfrm>
            <a:off x="1366200" y="6019920"/>
            <a:ext cx="63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Ex. of “Core” Response to Bacteria, Fungi, &amp;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/>
          <p:nvPr/>
        </p:nvSpPr>
        <p:spPr>
          <a:xfrm>
            <a:off x="3816000" y="39528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Nex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77640" y="1676520"/>
            <a:ext cx="82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e96a0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Specific response to distinct pathogens or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e96a0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Effect of cell-cell interaction and of factors secr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by oth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e96a0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Regulation by DCs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0" name="Banchereau%201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80200" cy="5618160"/>
          </a:xfrm>
          <a:prstGeom prst="rect">
            <a:avLst/>
          </a:prstGeom>
          <a:ln w="0">
            <a:noFill/>
          </a:ln>
        </p:spPr>
      </p:pic>
      <p:sp>
        <p:nvSpPr>
          <p:cNvPr id="1811" name=""/>
          <p:cNvSpPr/>
          <p:nvPr/>
        </p:nvSpPr>
        <p:spPr>
          <a:xfrm>
            <a:off x="2341800" y="657072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96a0b"/>
                </a:solidFill>
                <a:latin typeface="Arial"/>
              </a:rPr>
              <a:t>From Banchereau et al. (2000). Annu. Rev. Immunol. 18: 767-8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975960" y="76320"/>
            <a:ext cx="74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Subsets of Human DCs and Related Macroph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3520" y="2160720"/>
            <a:ext cx="698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e96a0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6a0b"/>
                </a:solidFill>
                <a:latin typeface="Arial"/>
              </a:rPr>
              <a:t>The Immu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e96a0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6a0b"/>
                </a:solidFill>
                <a:latin typeface="Arial"/>
              </a:rPr>
              <a:t>Dendritic Cell (DC)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e96a0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6a0b"/>
                </a:solidFill>
                <a:latin typeface="Arial"/>
              </a:rPr>
              <a:t>Cyto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5760" y="48420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6a0b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12920" y="4316400"/>
            <a:ext cx="373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s of the immune system originate in the bone marrow and descend from self-renewing stem cel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177920" y="2631600"/>
            <a:ext cx="334800" cy="4510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76320" y="-152280"/>
            <a:ext cx="9296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6a0b"/>
                </a:solidFill>
                <a:latin typeface="Arial"/>
              </a:rPr>
              <a:t>Cellular Immune System Particip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040" y="3081240"/>
            <a:ext cx="565200" cy="565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3680" y="363528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35360" y="1828800"/>
            <a:ext cx="565200" cy="5652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4130640"/>
            <a:ext cx="565200" cy="565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25520" y="2031840"/>
            <a:ext cx="565200" cy="565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63520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20800" y="3081240"/>
            <a:ext cx="565200" cy="5652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70440" y="365760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-potential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4200" y="2517840"/>
            <a:ext cx="564840" cy="5652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c19a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84320" y="20318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Lymphoc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94760" y="311940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Lymphoc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53040" y="1484280"/>
            <a:ext cx="588960" cy="650880"/>
          </a:xfrm>
          <a:custGeom>
            <a:avLst/>
            <a:gdLst>
              <a:gd name="textAreaLeft" fmla="*/ 134280 w 588960"/>
              <a:gd name="textAreaRight" fmla="*/ 454680 w 588960"/>
              <a:gd name="textAreaTop" fmla="*/ 148320 h 650880"/>
              <a:gd name="textAreaBottom" fmla="*/ 502560 h 65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86000" y="3405240"/>
            <a:ext cx="10620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943360" y="2486160"/>
            <a:ext cx="137880" cy="512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55840" y="3556080"/>
            <a:ext cx="1163880" cy="711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463920" y="1893960"/>
            <a:ext cx="716040" cy="1951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52760" y="2101680"/>
            <a:ext cx="762120" cy="565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34280" y="5157720"/>
            <a:ext cx="564840" cy="5652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92000" y="56070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4280" y="4290840"/>
            <a:ext cx="564840" cy="565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34040" y="474012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osinoph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34280" y="3424320"/>
            <a:ext cx="564840" cy="565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4600" y="38736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utroph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28480" y="2222640"/>
            <a:ext cx="1579680" cy="1137960"/>
          </a:xfrm>
          <a:prstGeom prst="irregularSeal2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23520" y="300672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roph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29200" y="3352320"/>
            <a:ext cx="1066680" cy="1127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029200" y="4038120"/>
            <a:ext cx="1066680" cy="4460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4495680"/>
            <a:ext cx="1185840" cy="586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4495680"/>
            <a:ext cx="1174680" cy="812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023640" y="5508720"/>
            <a:ext cx="1828080" cy="969120"/>
            <a:chOff x="3023640" y="5508720"/>
            <a:chExt cx="1828080" cy="969120"/>
          </a:xfrm>
        </p:grpSpPr>
        <p:sp>
          <p:nvSpPr>
            <p:cNvPr id="80" name=""/>
            <p:cNvSpPr/>
            <p:nvPr/>
          </p:nvSpPr>
          <p:spPr>
            <a:xfrm>
              <a:off x="3489480" y="5508720"/>
              <a:ext cx="695520" cy="6494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23640" y="6140520"/>
              <a:ext cx="182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atural Killer 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865760" y="5521320"/>
            <a:ext cx="1547640" cy="1002240"/>
            <a:chOff x="4865760" y="5521320"/>
            <a:chExt cx="1547640" cy="1002240"/>
          </a:xfrm>
        </p:grpSpPr>
        <p:sp>
          <p:nvSpPr>
            <p:cNvPr id="83" name=""/>
            <p:cNvSpPr/>
            <p:nvPr/>
          </p:nvSpPr>
          <p:spPr>
            <a:xfrm>
              <a:off x="5170320" y="5521320"/>
              <a:ext cx="828720" cy="718920"/>
            </a:xfrm>
            <a:custGeom>
              <a:avLst/>
              <a:gdLst>
                <a:gd name="textAreaLeft" fmla="*/ 341280 w 828720"/>
                <a:gd name="textAreaRight" fmla="*/ 487440 w 828720"/>
                <a:gd name="textAreaTop" fmla="*/ 296280 h 718920"/>
                <a:gd name="textAreaBottom" fmla="*/ 42264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65760" y="6186240"/>
              <a:ext cx="15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ndritic 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522600" y="1359000"/>
            <a:ext cx="1954440" cy="2241360"/>
          </a:xfrm>
          <a:prstGeom prst="rect">
            <a:avLst/>
          </a:prstGeom>
          <a:noFill/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16080" y="2174760"/>
            <a:ext cx="4770720" cy="4395960"/>
          </a:xfrm>
          <a:custGeom>
            <a:avLst/>
            <a:gdLst/>
            <a:ahLst/>
            <a:rect l="l" t="t" r="r" b="b"/>
            <a:pathLst>
              <a:path w="3005" h="2769">
                <a:moveTo>
                  <a:pt x="1732" y="0"/>
                </a:moveTo>
                <a:lnTo>
                  <a:pt x="1732" y="1976"/>
                </a:lnTo>
                <a:lnTo>
                  <a:pt x="0" y="1976"/>
                </a:lnTo>
                <a:lnTo>
                  <a:pt x="0" y="2769"/>
                </a:lnTo>
                <a:lnTo>
                  <a:pt x="3005" y="2769"/>
                </a:lnTo>
                <a:lnTo>
                  <a:pt x="3005" y="0"/>
                </a:lnTo>
                <a:lnTo>
                  <a:pt x="1732" y="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48920" y="914400"/>
            <a:ext cx="38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6a0b"/>
                </a:solidFill>
                <a:latin typeface="Comic Sans MS"/>
              </a:rPr>
              <a:t>Adaptive (Specific) I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14720" y="173664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6a0b"/>
                </a:solidFill>
                <a:latin typeface="Comic Sans MS"/>
              </a:rPr>
              <a:t>Innate I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4495680"/>
            <a:ext cx="304920" cy="990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651040" y="7632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The Life Cycle of D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2120" y="685800"/>
            <a:ext cx="7616880" cy="5940360"/>
            <a:chOff x="762120" y="685800"/>
            <a:chExt cx="7616880" cy="5940360"/>
          </a:xfrm>
        </p:grpSpPr>
        <p:sp>
          <p:nvSpPr>
            <p:cNvPr id="92" name=""/>
            <p:cNvSpPr/>
            <p:nvPr/>
          </p:nvSpPr>
          <p:spPr>
            <a:xfrm>
              <a:off x="762120" y="6510240"/>
              <a:ext cx="7616880" cy="1159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6392880"/>
              <a:ext cx="7616880" cy="23328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6275520"/>
              <a:ext cx="7616880" cy="234720"/>
            </a:xfrm>
            <a:prstGeom prst="rect">
              <a:avLst/>
            </a:prstGeom>
            <a:solidFill>
              <a:srgbClr val="009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6157800"/>
              <a:ext cx="7616880" cy="235080"/>
            </a:xfrm>
            <a:prstGeom prst="rect">
              <a:avLst/>
            </a:prstGeom>
            <a:solidFill>
              <a:srgbClr val="009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2120" y="6040440"/>
              <a:ext cx="7616880" cy="235080"/>
            </a:xfrm>
            <a:prstGeom prst="rect">
              <a:avLst/>
            </a:prstGeom>
            <a:solidFill>
              <a:srgbClr val="009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120" y="5923080"/>
              <a:ext cx="7616880" cy="234720"/>
            </a:xfrm>
            <a:prstGeom prst="rect">
              <a:avLst/>
            </a:prstGeom>
            <a:solidFill>
              <a:srgbClr val="009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2120" y="5805360"/>
              <a:ext cx="7616880" cy="235080"/>
            </a:xfrm>
            <a:prstGeom prst="rect">
              <a:avLst/>
            </a:prstGeom>
            <a:solidFill>
              <a:srgbClr val="009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120" y="5688000"/>
              <a:ext cx="7616880" cy="235080"/>
            </a:xfrm>
            <a:prstGeom prst="rect">
              <a:avLst/>
            </a:prstGeom>
            <a:solidFill>
              <a:srgbClr val="009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120" y="5570640"/>
              <a:ext cx="7616880" cy="234720"/>
            </a:xfrm>
            <a:prstGeom prst="rect">
              <a:avLst/>
            </a:prstGeom>
            <a:solidFill>
              <a:srgbClr val="009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5454720"/>
              <a:ext cx="7616880" cy="233280"/>
            </a:xfrm>
            <a:prstGeom prst="rect">
              <a:avLst/>
            </a:prstGeom>
            <a:solidFill>
              <a:srgbClr val="009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120" y="5337000"/>
              <a:ext cx="7616880" cy="233640"/>
            </a:xfrm>
            <a:prstGeom prst="rect">
              <a:avLst/>
            </a:prstGeom>
            <a:solidFill>
              <a:srgbClr val="009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5219640"/>
              <a:ext cx="7616880" cy="235080"/>
            </a:xfrm>
            <a:prstGeom prst="rect">
              <a:avLst/>
            </a:prstGeom>
            <a:solidFill>
              <a:srgbClr val="00a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120" y="5102280"/>
              <a:ext cx="7616880" cy="234720"/>
            </a:xfrm>
            <a:prstGeom prst="rect">
              <a:avLst/>
            </a:prstGeom>
            <a:solidFill>
              <a:srgbClr val="00a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120" y="4984920"/>
              <a:ext cx="7616880" cy="234720"/>
            </a:xfrm>
            <a:prstGeom prst="rect">
              <a:avLst/>
            </a:prstGeom>
            <a:solidFill>
              <a:srgbClr val="00a3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120" y="4867200"/>
              <a:ext cx="7616880" cy="235080"/>
            </a:xfrm>
            <a:prstGeom prst="rect">
              <a:avLst/>
            </a:prstGeom>
            <a:solidFill>
              <a:srgbClr val="00a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2120" y="4749840"/>
              <a:ext cx="7616880" cy="235080"/>
            </a:xfrm>
            <a:prstGeom prst="rect">
              <a:avLst/>
            </a:prstGeom>
            <a:solidFill>
              <a:srgbClr val="00a6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4633920"/>
              <a:ext cx="7616880" cy="233280"/>
            </a:xfrm>
            <a:prstGeom prst="rect">
              <a:avLst/>
            </a:prstGeom>
            <a:solidFill>
              <a:srgbClr val="05a7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120" y="4516560"/>
              <a:ext cx="7616880" cy="233280"/>
            </a:xfrm>
            <a:prstGeom prst="rect">
              <a:avLst/>
            </a:prstGeom>
            <a:solidFill>
              <a:srgbClr val="0fa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4398840"/>
              <a:ext cx="7616880" cy="235080"/>
            </a:xfrm>
            <a:prstGeom prst="rect">
              <a:avLst/>
            </a:prstGeom>
            <a:solidFill>
              <a:srgbClr val="18a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120" y="4281480"/>
              <a:ext cx="7616880" cy="235080"/>
            </a:xfrm>
            <a:prstGeom prst="rect">
              <a:avLst/>
            </a:prstGeom>
            <a:solidFill>
              <a:srgbClr val="20a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120" y="4164120"/>
              <a:ext cx="7616880" cy="234720"/>
            </a:xfrm>
            <a:prstGeom prst="rect">
              <a:avLst/>
            </a:prstGeom>
            <a:solidFill>
              <a:srgbClr val="28a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4046400"/>
              <a:ext cx="7616880" cy="235080"/>
            </a:xfrm>
            <a:prstGeom prst="rect">
              <a:avLst/>
            </a:prstGeom>
            <a:solidFill>
              <a:srgbClr val="31b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929040"/>
              <a:ext cx="7616880" cy="235080"/>
            </a:xfrm>
            <a:prstGeom prst="rect">
              <a:avLst/>
            </a:prstGeom>
            <a:solidFill>
              <a:srgbClr val="39b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3811680"/>
              <a:ext cx="7616880" cy="234720"/>
            </a:xfrm>
            <a:prstGeom prst="rect">
              <a:avLst/>
            </a:prstGeom>
            <a:solidFill>
              <a:srgbClr val="40b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2120" y="3695760"/>
              <a:ext cx="7616880" cy="233280"/>
            </a:xfrm>
            <a:prstGeom prst="rect">
              <a:avLst/>
            </a:prstGeom>
            <a:solidFill>
              <a:srgbClr val="47b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3578400"/>
              <a:ext cx="7616880" cy="233280"/>
            </a:xfrm>
            <a:prstGeom prst="rect">
              <a:avLst/>
            </a:prstGeom>
            <a:solidFill>
              <a:srgbClr val="4db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2120" y="3460680"/>
              <a:ext cx="7616880" cy="235080"/>
            </a:xfrm>
            <a:prstGeom prst="rect">
              <a:avLst/>
            </a:prstGeom>
            <a:solidFill>
              <a:srgbClr val="57b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2120" y="3343320"/>
              <a:ext cx="7616880" cy="235080"/>
            </a:xfrm>
            <a:prstGeom prst="rect">
              <a:avLst/>
            </a:prstGeom>
            <a:solidFill>
              <a:srgbClr val="5eb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120" y="3225960"/>
              <a:ext cx="7616880" cy="234720"/>
            </a:xfrm>
            <a:prstGeom prst="rect">
              <a:avLst/>
            </a:prstGeom>
            <a:solidFill>
              <a:srgbClr val="64b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3108240"/>
              <a:ext cx="7616880" cy="235080"/>
            </a:xfrm>
            <a:prstGeom prst="rect">
              <a:avLst/>
            </a:prstGeom>
            <a:solidFill>
              <a:srgbClr val="6bb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990880"/>
              <a:ext cx="7616880" cy="235080"/>
            </a:xfrm>
            <a:prstGeom prst="rect">
              <a:avLst/>
            </a:prstGeom>
            <a:solidFill>
              <a:srgbClr val="71c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2873520"/>
              <a:ext cx="7616880" cy="234720"/>
            </a:xfrm>
            <a:prstGeom prst="rect">
              <a:avLst/>
            </a:prstGeom>
            <a:solidFill>
              <a:srgbClr val="78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2755800"/>
              <a:ext cx="7616880" cy="235080"/>
            </a:xfrm>
            <a:prstGeom prst="rect">
              <a:avLst/>
            </a:prstGeom>
            <a:solidFill>
              <a:srgbClr val="7ec7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2639880"/>
              <a:ext cx="7616880" cy="233640"/>
            </a:xfrm>
            <a:prstGeom prst="rect">
              <a:avLst/>
            </a:prstGeom>
            <a:solidFill>
              <a:srgbClr val="84c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2522520"/>
              <a:ext cx="7616880" cy="233280"/>
            </a:xfrm>
            <a:prstGeom prst="rect">
              <a:avLst/>
            </a:prstGeom>
            <a:solidFill>
              <a:srgbClr val="8ac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2405160"/>
              <a:ext cx="7616880" cy="234720"/>
            </a:xfrm>
            <a:prstGeom prst="rect">
              <a:avLst/>
            </a:prstGeom>
            <a:solidFill>
              <a:srgbClr val="90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120" y="2287440"/>
              <a:ext cx="7616880" cy="235080"/>
            </a:xfrm>
            <a:prstGeom prst="rect">
              <a:avLst/>
            </a:prstGeom>
            <a:solidFill>
              <a:srgbClr val="96d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120" y="2170080"/>
              <a:ext cx="7616880" cy="235080"/>
            </a:xfrm>
            <a:prstGeom prst="rect">
              <a:avLst/>
            </a:prstGeom>
            <a:solidFill>
              <a:srgbClr val="9cd2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120" y="2052720"/>
              <a:ext cx="7616880" cy="234720"/>
            </a:xfrm>
            <a:prstGeom prst="rect">
              <a:avLst/>
            </a:prstGeom>
            <a:solidFill>
              <a:srgbClr val="a2d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120" y="1935000"/>
              <a:ext cx="7616880" cy="235080"/>
            </a:xfrm>
            <a:prstGeom prst="rect">
              <a:avLst/>
            </a:prstGeom>
            <a:solidFill>
              <a:srgbClr val="a9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1819440"/>
              <a:ext cx="7616880" cy="233280"/>
            </a:xfrm>
            <a:prstGeom prst="rect">
              <a:avLst/>
            </a:prstGeom>
            <a:solidFill>
              <a:srgbClr val="af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1701720"/>
              <a:ext cx="7616880" cy="233280"/>
            </a:xfrm>
            <a:prstGeom prst="rect">
              <a:avLst/>
            </a:pr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120" y="1584360"/>
              <a:ext cx="7616880" cy="235080"/>
            </a:xfrm>
            <a:prstGeom prst="rect">
              <a:avLst/>
            </a:prstGeom>
            <a:solidFill>
              <a:srgbClr val="bde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120" y="1467000"/>
              <a:ext cx="7616880" cy="234720"/>
            </a:xfrm>
            <a:prstGeom prst="rect">
              <a:avLst/>
            </a:prstGeom>
            <a:solidFill>
              <a:srgbClr val="c4e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120" y="1349280"/>
              <a:ext cx="7616880" cy="235080"/>
            </a:xfrm>
            <a:prstGeom prst="rect">
              <a:avLst/>
            </a:prstGeom>
            <a:solidFill>
              <a:srgbClr val="cbe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120" y="1231920"/>
              <a:ext cx="7616880" cy="235080"/>
            </a:xfrm>
            <a:prstGeom prst="rect">
              <a:avLst/>
            </a:pr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1114560"/>
              <a:ext cx="7616880" cy="234720"/>
            </a:xfrm>
            <a:prstGeom prst="rect">
              <a:avLst/>
            </a:prstGeom>
            <a:solidFill>
              <a:srgbClr val="db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120" y="996840"/>
              <a:ext cx="7616880" cy="235080"/>
            </a:xfrm>
            <a:prstGeom prst="rect">
              <a:avLst/>
            </a:prstGeom>
            <a:solidFill>
              <a:srgbClr val="e3f2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879480"/>
              <a:ext cx="7616880" cy="235080"/>
            </a:xfrm>
            <a:prstGeom prst="rect">
              <a:avLst/>
            </a:prstGeom>
            <a:solidFill>
              <a:srgbClr val="ebf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2120" y="763560"/>
              <a:ext cx="7616880" cy="233280"/>
            </a:xfrm>
            <a:prstGeom prst="rect">
              <a:avLst/>
            </a:prstGeom>
            <a:solidFill>
              <a:srgbClr val="f2f9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763560"/>
              <a:ext cx="761688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763560"/>
              <a:ext cx="761688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685800"/>
              <a:ext cx="7616880" cy="59403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43080" y="1028880"/>
              <a:ext cx="2427120" cy="1406520"/>
            </a:xfrm>
            <a:custGeom>
              <a:avLst/>
              <a:gdLst/>
              <a:ahLst/>
              <a:rect l="l" t="t" r="r" b="b"/>
              <a:pathLst>
                <a:path w="6115" h="3543">
                  <a:moveTo>
                    <a:pt x="343" y="2832"/>
                  </a:moveTo>
                  <a:lnTo>
                    <a:pt x="362" y="2886"/>
                  </a:lnTo>
                  <a:lnTo>
                    <a:pt x="384" y="2939"/>
                  </a:lnTo>
                  <a:lnTo>
                    <a:pt x="407" y="2993"/>
                  </a:lnTo>
                  <a:lnTo>
                    <a:pt x="431" y="3045"/>
                  </a:lnTo>
                  <a:lnTo>
                    <a:pt x="456" y="3098"/>
                  </a:lnTo>
                  <a:lnTo>
                    <a:pt x="483" y="3148"/>
                  </a:lnTo>
                  <a:lnTo>
                    <a:pt x="513" y="3200"/>
                  </a:lnTo>
                  <a:lnTo>
                    <a:pt x="546" y="3249"/>
                  </a:lnTo>
                  <a:lnTo>
                    <a:pt x="570" y="3287"/>
                  </a:lnTo>
                  <a:lnTo>
                    <a:pt x="595" y="3326"/>
                  </a:lnTo>
                  <a:lnTo>
                    <a:pt x="621" y="3364"/>
                  </a:lnTo>
                  <a:lnTo>
                    <a:pt x="650" y="3401"/>
                  </a:lnTo>
                  <a:lnTo>
                    <a:pt x="666" y="3419"/>
                  </a:lnTo>
                  <a:lnTo>
                    <a:pt x="681" y="3436"/>
                  </a:lnTo>
                  <a:lnTo>
                    <a:pt x="698" y="3453"/>
                  </a:lnTo>
                  <a:lnTo>
                    <a:pt x="716" y="3468"/>
                  </a:lnTo>
                  <a:lnTo>
                    <a:pt x="734" y="3483"/>
                  </a:lnTo>
                  <a:lnTo>
                    <a:pt x="755" y="3496"/>
                  </a:lnTo>
                  <a:lnTo>
                    <a:pt x="775" y="3508"/>
                  </a:lnTo>
                  <a:lnTo>
                    <a:pt x="798" y="3519"/>
                  </a:lnTo>
                  <a:lnTo>
                    <a:pt x="818" y="3526"/>
                  </a:lnTo>
                  <a:lnTo>
                    <a:pt x="839" y="3533"/>
                  </a:lnTo>
                  <a:lnTo>
                    <a:pt x="860" y="3537"/>
                  </a:lnTo>
                  <a:lnTo>
                    <a:pt x="883" y="3540"/>
                  </a:lnTo>
                  <a:lnTo>
                    <a:pt x="906" y="3541"/>
                  </a:lnTo>
                  <a:lnTo>
                    <a:pt x="929" y="3543"/>
                  </a:lnTo>
                  <a:lnTo>
                    <a:pt x="951" y="3543"/>
                  </a:lnTo>
                  <a:lnTo>
                    <a:pt x="974" y="3541"/>
                  </a:lnTo>
                  <a:lnTo>
                    <a:pt x="1022" y="3537"/>
                  </a:lnTo>
                  <a:lnTo>
                    <a:pt x="1069" y="3529"/>
                  </a:lnTo>
                  <a:lnTo>
                    <a:pt x="1115" y="3521"/>
                  </a:lnTo>
                  <a:lnTo>
                    <a:pt x="1160" y="3514"/>
                  </a:lnTo>
                  <a:lnTo>
                    <a:pt x="1181" y="3509"/>
                  </a:lnTo>
                  <a:lnTo>
                    <a:pt x="1200" y="3505"/>
                  </a:lnTo>
                  <a:lnTo>
                    <a:pt x="1220" y="3499"/>
                  </a:lnTo>
                  <a:lnTo>
                    <a:pt x="1239" y="3495"/>
                  </a:lnTo>
                  <a:lnTo>
                    <a:pt x="1278" y="3481"/>
                  </a:lnTo>
                  <a:lnTo>
                    <a:pt x="1316" y="3467"/>
                  </a:lnTo>
                  <a:lnTo>
                    <a:pt x="1353" y="3451"/>
                  </a:lnTo>
                  <a:lnTo>
                    <a:pt x="1391" y="3435"/>
                  </a:lnTo>
                  <a:lnTo>
                    <a:pt x="1428" y="3418"/>
                  </a:lnTo>
                  <a:lnTo>
                    <a:pt x="1464" y="3402"/>
                  </a:lnTo>
                  <a:lnTo>
                    <a:pt x="1481" y="3394"/>
                  </a:lnTo>
                  <a:lnTo>
                    <a:pt x="1497" y="3386"/>
                  </a:lnTo>
                  <a:lnTo>
                    <a:pt x="1513" y="3376"/>
                  </a:lnTo>
                  <a:lnTo>
                    <a:pt x="1530" y="3366"/>
                  </a:lnTo>
                  <a:lnTo>
                    <a:pt x="1561" y="3345"/>
                  </a:lnTo>
                  <a:lnTo>
                    <a:pt x="1591" y="3324"/>
                  </a:lnTo>
                  <a:lnTo>
                    <a:pt x="1623" y="3305"/>
                  </a:lnTo>
                  <a:lnTo>
                    <a:pt x="1656" y="3287"/>
                  </a:lnTo>
                  <a:lnTo>
                    <a:pt x="1673" y="3280"/>
                  </a:lnTo>
                  <a:lnTo>
                    <a:pt x="1689" y="3273"/>
                  </a:lnTo>
                  <a:lnTo>
                    <a:pt x="1707" y="3267"/>
                  </a:lnTo>
                  <a:lnTo>
                    <a:pt x="1727" y="3263"/>
                  </a:lnTo>
                  <a:lnTo>
                    <a:pt x="1749" y="3260"/>
                  </a:lnTo>
                  <a:lnTo>
                    <a:pt x="1772" y="3257"/>
                  </a:lnTo>
                  <a:lnTo>
                    <a:pt x="1795" y="3256"/>
                  </a:lnTo>
                  <a:lnTo>
                    <a:pt x="1818" y="3256"/>
                  </a:lnTo>
                  <a:lnTo>
                    <a:pt x="1865" y="3258"/>
                  </a:lnTo>
                  <a:lnTo>
                    <a:pt x="1911" y="3263"/>
                  </a:lnTo>
                  <a:lnTo>
                    <a:pt x="1958" y="3269"/>
                  </a:lnTo>
                  <a:lnTo>
                    <a:pt x="2005" y="3274"/>
                  </a:lnTo>
                  <a:lnTo>
                    <a:pt x="2029" y="3275"/>
                  </a:lnTo>
                  <a:lnTo>
                    <a:pt x="2052" y="3276"/>
                  </a:lnTo>
                  <a:lnTo>
                    <a:pt x="2076" y="3276"/>
                  </a:lnTo>
                  <a:lnTo>
                    <a:pt x="2099" y="3275"/>
                  </a:lnTo>
                  <a:lnTo>
                    <a:pt x="2160" y="3270"/>
                  </a:lnTo>
                  <a:lnTo>
                    <a:pt x="2221" y="3266"/>
                  </a:lnTo>
                  <a:lnTo>
                    <a:pt x="2282" y="3260"/>
                  </a:lnTo>
                  <a:lnTo>
                    <a:pt x="2343" y="3252"/>
                  </a:lnTo>
                  <a:lnTo>
                    <a:pt x="2403" y="3244"/>
                  </a:lnTo>
                  <a:lnTo>
                    <a:pt x="2463" y="3233"/>
                  </a:lnTo>
                  <a:lnTo>
                    <a:pt x="2493" y="3227"/>
                  </a:lnTo>
                  <a:lnTo>
                    <a:pt x="2523" y="3220"/>
                  </a:lnTo>
                  <a:lnTo>
                    <a:pt x="2552" y="3213"/>
                  </a:lnTo>
                  <a:lnTo>
                    <a:pt x="2581" y="3204"/>
                  </a:lnTo>
                  <a:lnTo>
                    <a:pt x="2606" y="3196"/>
                  </a:lnTo>
                  <a:lnTo>
                    <a:pt x="2630" y="3188"/>
                  </a:lnTo>
                  <a:lnTo>
                    <a:pt x="2654" y="3178"/>
                  </a:lnTo>
                  <a:lnTo>
                    <a:pt x="2678" y="3167"/>
                  </a:lnTo>
                  <a:lnTo>
                    <a:pt x="2724" y="3143"/>
                  </a:lnTo>
                  <a:lnTo>
                    <a:pt x="2768" y="3118"/>
                  </a:lnTo>
                  <a:lnTo>
                    <a:pt x="2813" y="3093"/>
                  </a:lnTo>
                  <a:lnTo>
                    <a:pt x="2858" y="3068"/>
                  </a:lnTo>
                  <a:lnTo>
                    <a:pt x="2881" y="3057"/>
                  </a:lnTo>
                  <a:lnTo>
                    <a:pt x="2904" y="3045"/>
                  </a:lnTo>
                  <a:lnTo>
                    <a:pt x="2928" y="3035"/>
                  </a:lnTo>
                  <a:lnTo>
                    <a:pt x="2952" y="3026"/>
                  </a:lnTo>
                  <a:lnTo>
                    <a:pt x="2989" y="3014"/>
                  </a:lnTo>
                  <a:lnTo>
                    <a:pt x="3025" y="3002"/>
                  </a:lnTo>
                  <a:lnTo>
                    <a:pt x="3062" y="2992"/>
                  </a:lnTo>
                  <a:lnTo>
                    <a:pt x="3101" y="2984"/>
                  </a:lnTo>
                  <a:lnTo>
                    <a:pt x="3139" y="2976"/>
                  </a:lnTo>
                  <a:lnTo>
                    <a:pt x="3177" y="2969"/>
                  </a:lnTo>
                  <a:lnTo>
                    <a:pt x="3216" y="2963"/>
                  </a:lnTo>
                  <a:lnTo>
                    <a:pt x="3254" y="2957"/>
                  </a:lnTo>
                  <a:lnTo>
                    <a:pt x="3288" y="2952"/>
                  </a:lnTo>
                  <a:lnTo>
                    <a:pt x="3323" y="2950"/>
                  </a:lnTo>
                  <a:lnTo>
                    <a:pt x="3356" y="2946"/>
                  </a:lnTo>
                  <a:lnTo>
                    <a:pt x="3391" y="2945"/>
                  </a:lnTo>
                  <a:lnTo>
                    <a:pt x="3459" y="2942"/>
                  </a:lnTo>
                  <a:lnTo>
                    <a:pt x="3529" y="2939"/>
                  </a:lnTo>
                  <a:lnTo>
                    <a:pt x="3597" y="2936"/>
                  </a:lnTo>
                  <a:lnTo>
                    <a:pt x="3666" y="2930"/>
                  </a:lnTo>
                  <a:lnTo>
                    <a:pt x="3699" y="2926"/>
                  </a:lnTo>
                  <a:lnTo>
                    <a:pt x="3733" y="2920"/>
                  </a:lnTo>
                  <a:lnTo>
                    <a:pt x="3767" y="2914"/>
                  </a:lnTo>
                  <a:lnTo>
                    <a:pt x="3800" y="2906"/>
                  </a:lnTo>
                  <a:lnTo>
                    <a:pt x="3831" y="2897"/>
                  </a:lnTo>
                  <a:lnTo>
                    <a:pt x="3861" y="2889"/>
                  </a:lnTo>
                  <a:lnTo>
                    <a:pt x="3893" y="2878"/>
                  </a:lnTo>
                  <a:lnTo>
                    <a:pt x="3923" y="2868"/>
                  </a:lnTo>
                  <a:lnTo>
                    <a:pt x="3953" y="2856"/>
                  </a:lnTo>
                  <a:lnTo>
                    <a:pt x="3983" y="2844"/>
                  </a:lnTo>
                  <a:lnTo>
                    <a:pt x="4013" y="2832"/>
                  </a:lnTo>
                  <a:lnTo>
                    <a:pt x="4041" y="2819"/>
                  </a:lnTo>
                  <a:lnTo>
                    <a:pt x="4070" y="2806"/>
                  </a:lnTo>
                  <a:lnTo>
                    <a:pt x="4099" y="2792"/>
                  </a:lnTo>
                  <a:lnTo>
                    <a:pt x="4127" y="2777"/>
                  </a:lnTo>
                  <a:lnTo>
                    <a:pt x="4154" y="2762"/>
                  </a:lnTo>
                  <a:lnTo>
                    <a:pt x="4181" y="2746"/>
                  </a:lnTo>
                  <a:lnTo>
                    <a:pt x="4207" y="2729"/>
                  </a:lnTo>
                  <a:lnTo>
                    <a:pt x="4232" y="2712"/>
                  </a:lnTo>
                  <a:lnTo>
                    <a:pt x="4257" y="2694"/>
                  </a:lnTo>
                  <a:lnTo>
                    <a:pt x="4272" y="2684"/>
                  </a:lnTo>
                  <a:lnTo>
                    <a:pt x="4286" y="2672"/>
                  </a:lnTo>
                  <a:lnTo>
                    <a:pt x="4299" y="2660"/>
                  </a:lnTo>
                  <a:lnTo>
                    <a:pt x="4311" y="2647"/>
                  </a:lnTo>
                  <a:lnTo>
                    <a:pt x="4322" y="2632"/>
                  </a:lnTo>
                  <a:lnTo>
                    <a:pt x="4333" y="2619"/>
                  </a:lnTo>
                  <a:lnTo>
                    <a:pt x="4344" y="2603"/>
                  </a:lnTo>
                  <a:lnTo>
                    <a:pt x="4353" y="2589"/>
                  </a:lnTo>
                  <a:lnTo>
                    <a:pt x="4370" y="2559"/>
                  </a:lnTo>
                  <a:lnTo>
                    <a:pt x="4387" y="2528"/>
                  </a:lnTo>
                  <a:lnTo>
                    <a:pt x="4403" y="2497"/>
                  </a:lnTo>
                  <a:lnTo>
                    <a:pt x="4418" y="2465"/>
                  </a:lnTo>
                  <a:lnTo>
                    <a:pt x="4423" y="2453"/>
                  </a:lnTo>
                  <a:lnTo>
                    <a:pt x="4428" y="2443"/>
                  </a:lnTo>
                  <a:lnTo>
                    <a:pt x="4430" y="2431"/>
                  </a:lnTo>
                  <a:lnTo>
                    <a:pt x="4433" y="2419"/>
                  </a:lnTo>
                  <a:lnTo>
                    <a:pt x="4436" y="2393"/>
                  </a:lnTo>
                  <a:lnTo>
                    <a:pt x="4440" y="2368"/>
                  </a:lnTo>
                  <a:lnTo>
                    <a:pt x="4443" y="2343"/>
                  </a:lnTo>
                  <a:lnTo>
                    <a:pt x="4448" y="2319"/>
                  </a:lnTo>
                  <a:lnTo>
                    <a:pt x="4452" y="2308"/>
                  </a:lnTo>
                  <a:lnTo>
                    <a:pt x="4457" y="2296"/>
                  </a:lnTo>
                  <a:lnTo>
                    <a:pt x="4463" y="2285"/>
                  </a:lnTo>
                  <a:lnTo>
                    <a:pt x="4471" y="2276"/>
                  </a:lnTo>
                  <a:lnTo>
                    <a:pt x="4484" y="2258"/>
                  </a:lnTo>
                  <a:lnTo>
                    <a:pt x="4500" y="2241"/>
                  </a:lnTo>
                  <a:lnTo>
                    <a:pt x="4515" y="2225"/>
                  </a:lnTo>
                  <a:lnTo>
                    <a:pt x="4531" y="2209"/>
                  </a:lnTo>
                  <a:lnTo>
                    <a:pt x="4566" y="2177"/>
                  </a:lnTo>
                  <a:lnTo>
                    <a:pt x="4602" y="2147"/>
                  </a:lnTo>
                  <a:lnTo>
                    <a:pt x="4639" y="2120"/>
                  </a:lnTo>
                  <a:lnTo>
                    <a:pt x="4679" y="2092"/>
                  </a:lnTo>
                  <a:lnTo>
                    <a:pt x="4718" y="2066"/>
                  </a:lnTo>
                  <a:lnTo>
                    <a:pt x="4759" y="2042"/>
                  </a:lnTo>
                  <a:lnTo>
                    <a:pt x="4791" y="2024"/>
                  </a:lnTo>
                  <a:lnTo>
                    <a:pt x="4825" y="2008"/>
                  </a:lnTo>
                  <a:lnTo>
                    <a:pt x="4860" y="1994"/>
                  </a:lnTo>
                  <a:lnTo>
                    <a:pt x="4895" y="1981"/>
                  </a:lnTo>
                  <a:lnTo>
                    <a:pt x="4931" y="1969"/>
                  </a:lnTo>
                  <a:lnTo>
                    <a:pt x="4968" y="1958"/>
                  </a:lnTo>
                  <a:lnTo>
                    <a:pt x="5004" y="1947"/>
                  </a:lnTo>
                  <a:lnTo>
                    <a:pt x="5041" y="1937"/>
                  </a:lnTo>
                  <a:lnTo>
                    <a:pt x="5102" y="1923"/>
                  </a:lnTo>
                  <a:lnTo>
                    <a:pt x="5163" y="1910"/>
                  </a:lnTo>
                  <a:lnTo>
                    <a:pt x="5226" y="1899"/>
                  </a:lnTo>
                  <a:lnTo>
                    <a:pt x="5288" y="1888"/>
                  </a:lnTo>
                  <a:lnTo>
                    <a:pt x="5351" y="1878"/>
                  </a:lnTo>
                  <a:lnTo>
                    <a:pt x="5413" y="1867"/>
                  </a:lnTo>
                  <a:lnTo>
                    <a:pt x="5474" y="1855"/>
                  </a:lnTo>
                  <a:lnTo>
                    <a:pt x="5535" y="1842"/>
                  </a:lnTo>
                  <a:lnTo>
                    <a:pt x="5576" y="1832"/>
                  </a:lnTo>
                  <a:lnTo>
                    <a:pt x="5617" y="1824"/>
                  </a:lnTo>
                  <a:lnTo>
                    <a:pt x="5658" y="1814"/>
                  </a:lnTo>
                  <a:lnTo>
                    <a:pt x="5699" y="1804"/>
                  </a:lnTo>
                  <a:lnTo>
                    <a:pt x="5738" y="1792"/>
                  </a:lnTo>
                  <a:lnTo>
                    <a:pt x="5777" y="1780"/>
                  </a:lnTo>
                  <a:lnTo>
                    <a:pt x="5796" y="1773"/>
                  </a:lnTo>
                  <a:lnTo>
                    <a:pt x="5814" y="1765"/>
                  </a:lnTo>
                  <a:lnTo>
                    <a:pt x="5832" y="1756"/>
                  </a:lnTo>
                  <a:lnTo>
                    <a:pt x="5850" y="1747"/>
                  </a:lnTo>
                  <a:lnTo>
                    <a:pt x="5887" y="1725"/>
                  </a:lnTo>
                  <a:lnTo>
                    <a:pt x="5924" y="1702"/>
                  </a:lnTo>
                  <a:lnTo>
                    <a:pt x="5943" y="1690"/>
                  </a:lnTo>
                  <a:lnTo>
                    <a:pt x="5961" y="1678"/>
                  </a:lnTo>
                  <a:lnTo>
                    <a:pt x="5978" y="1665"/>
                  </a:lnTo>
                  <a:lnTo>
                    <a:pt x="5995" y="1652"/>
                  </a:lnTo>
                  <a:lnTo>
                    <a:pt x="6012" y="1639"/>
                  </a:lnTo>
                  <a:lnTo>
                    <a:pt x="6027" y="1624"/>
                  </a:lnTo>
                  <a:lnTo>
                    <a:pt x="6042" y="1610"/>
                  </a:lnTo>
                  <a:lnTo>
                    <a:pt x="6055" y="1594"/>
                  </a:lnTo>
                  <a:lnTo>
                    <a:pt x="6067" y="1579"/>
                  </a:lnTo>
                  <a:lnTo>
                    <a:pt x="6078" y="1563"/>
                  </a:lnTo>
                  <a:lnTo>
                    <a:pt x="6087" y="1546"/>
                  </a:lnTo>
                  <a:lnTo>
                    <a:pt x="6095" y="1530"/>
                  </a:lnTo>
                  <a:lnTo>
                    <a:pt x="6102" y="1509"/>
                  </a:lnTo>
                  <a:lnTo>
                    <a:pt x="6108" y="1489"/>
                  </a:lnTo>
                  <a:lnTo>
                    <a:pt x="6111" y="1468"/>
                  </a:lnTo>
                  <a:lnTo>
                    <a:pt x="6114" y="1448"/>
                  </a:lnTo>
                  <a:lnTo>
                    <a:pt x="6115" y="1426"/>
                  </a:lnTo>
                  <a:lnTo>
                    <a:pt x="6115" y="1406"/>
                  </a:lnTo>
                  <a:lnTo>
                    <a:pt x="6114" y="1384"/>
                  </a:lnTo>
                  <a:lnTo>
                    <a:pt x="6111" y="1364"/>
                  </a:lnTo>
                  <a:lnTo>
                    <a:pt x="6108" y="1342"/>
                  </a:lnTo>
                  <a:lnTo>
                    <a:pt x="6104" y="1321"/>
                  </a:lnTo>
                  <a:lnTo>
                    <a:pt x="6099" y="1300"/>
                  </a:lnTo>
                  <a:lnTo>
                    <a:pt x="6095" y="1279"/>
                  </a:lnTo>
                  <a:lnTo>
                    <a:pt x="6083" y="1238"/>
                  </a:lnTo>
                  <a:lnTo>
                    <a:pt x="6069" y="1197"/>
                  </a:lnTo>
                  <a:lnTo>
                    <a:pt x="6059" y="1170"/>
                  </a:lnTo>
                  <a:lnTo>
                    <a:pt x="6048" y="1141"/>
                  </a:lnTo>
                  <a:lnTo>
                    <a:pt x="6037" y="1113"/>
                  </a:lnTo>
                  <a:lnTo>
                    <a:pt x="6024" y="1086"/>
                  </a:lnTo>
                  <a:lnTo>
                    <a:pt x="6012" y="1059"/>
                  </a:lnTo>
                  <a:lnTo>
                    <a:pt x="5997" y="1032"/>
                  </a:lnTo>
                  <a:lnTo>
                    <a:pt x="5984" y="1005"/>
                  </a:lnTo>
                  <a:lnTo>
                    <a:pt x="5969" y="978"/>
                  </a:lnTo>
                  <a:lnTo>
                    <a:pt x="5937" y="925"/>
                  </a:lnTo>
                  <a:lnTo>
                    <a:pt x="5905" y="873"/>
                  </a:lnTo>
                  <a:lnTo>
                    <a:pt x="5870" y="822"/>
                  </a:lnTo>
                  <a:lnTo>
                    <a:pt x="5835" y="771"/>
                  </a:lnTo>
                  <a:lnTo>
                    <a:pt x="5787" y="705"/>
                  </a:lnTo>
                  <a:lnTo>
                    <a:pt x="5737" y="639"/>
                  </a:lnTo>
                  <a:lnTo>
                    <a:pt x="5687" y="575"/>
                  </a:lnTo>
                  <a:lnTo>
                    <a:pt x="5633" y="511"/>
                  </a:lnTo>
                  <a:lnTo>
                    <a:pt x="5579" y="449"/>
                  </a:lnTo>
                  <a:lnTo>
                    <a:pt x="5522" y="388"/>
                  </a:lnTo>
                  <a:lnTo>
                    <a:pt x="5493" y="358"/>
                  </a:lnTo>
                  <a:lnTo>
                    <a:pt x="5463" y="328"/>
                  </a:lnTo>
                  <a:lnTo>
                    <a:pt x="5433" y="298"/>
                  </a:lnTo>
                  <a:lnTo>
                    <a:pt x="5402" y="269"/>
                  </a:lnTo>
                  <a:lnTo>
                    <a:pt x="5383" y="251"/>
                  </a:lnTo>
                  <a:lnTo>
                    <a:pt x="5363" y="233"/>
                  </a:lnTo>
                  <a:lnTo>
                    <a:pt x="5341" y="215"/>
                  </a:lnTo>
                  <a:lnTo>
                    <a:pt x="5319" y="198"/>
                  </a:lnTo>
                  <a:lnTo>
                    <a:pt x="5275" y="166"/>
                  </a:lnTo>
                  <a:lnTo>
                    <a:pt x="5228" y="134"/>
                  </a:lnTo>
                  <a:lnTo>
                    <a:pt x="5181" y="103"/>
                  </a:lnTo>
                  <a:lnTo>
                    <a:pt x="5132" y="74"/>
                  </a:lnTo>
                  <a:lnTo>
                    <a:pt x="5082" y="47"/>
                  </a:lnTo>
                  <a:lnTo>
                    <a:pt x="5031" y="20"/>
                  </a:lnTo>
                  <a:lnTo>
                    <a:pt x="5017" y="13"/>
                  </a:lnTo>
                  <a:lnTo>
                    <a:pt x="5000" y="8"/>
                  </a:lnTo>
                  <a:lnTo>
                    <a:pt x="4982" y="4"/>
                  </a:lnTo>
                  <a:lnTo>
                    <a:pt x="4964" y="1"/>
                  </a:lnTo>
                  <a:lnTo>
                    <a:pt x="4946" y="0"/>
                  </a:lnTo>
                  <a:lnTo>
                    <a:pt x="4928" y="0"/>
                  </a:lnTo>
                  <a:lnTo>
                    <a:pt x="4910" y="2"/>
                  </a:lnTo>
                  <a:lnTo>
                    <a:pt x="4895" y="7"/>
                  </a:lnTo>
                  <a:lnTo>
                    <a:pt x="4589" y="116"/>
                  </a:lnTo>
                  <a:lnTo>
                    <a:pt x="4283" y="224"/>
                  </a:lnTo>
                  <a:lnTo>
                    <a:pt x="3977" y="331"/>
                  </a:lnTo>
                  <a:lnTo>
                    <a:pt x="3669" y="438"/>
                  </a:lnTo>
                  <a:lnTo>
                    <a:pt x="3362" y="545"/>
                  </a:lnTo>
                  <a:lnTo>
                    <a:pt x="3056" y="653"/>
                  </a:lnTo>
                  <a:lnTo>
                    <a:pt x="2750" y="761"/>
                  </a:lnTo>
                  <a:lnTo>
                    <a:pt x="2444" y="869"/>
                  </a:lnTo>
                  <a:lnTo>
                    <a:pt x="2139" y="979"/>
                  </a:lnTo>
                  <a:lnTo>
                    <a:pt x="1836" y="1091"/>
                  </a:lnTo>
                  <a:lnTo>
                    <a:pt x="1683" y="1147"/>
                  </a:lnTo>
                  <a:lnTo>
                    <a:pt x="1532" y="1204"/>
                  </a:lnTo>
                  <a:lnTo>
                    <a:pt x="1382" y="1262"/>
                  </a:lnTo>
                  <a:lnTo>
                    <a:pt x="1231" y="1320"/>
                  </a:lnTo>
                  <a:lnTo>
                    <a:pt x="1081" y="1378"/>
                  </a:lnTo>
                  <a:lnTo>
                    <a:pt x="931" y="1438"/>
                  </a:lnTo>
                  <a:lnTo>
                    <a:pt x="782" y="1498"/>
                  </a:lnTo>
                  <a:lnTo>
                    <a:pt x="633" y="1560"/>
                  </a:lnTo>
                  <a:lnTo>
                    <a:pt x="485" y="1621"/>
                  </a:lnTo>
                  <a:lnTo>
                    <a:pt x="337" y="1684"/>
                  </a:lnTo>
                  <a:lnTo>
                    <a:pt x="189" y="1747"/>
                  </a:lnTo>
                  <a:lnTo>
                    <a:pt x="43" y="1812"/>
                  </a:lnTo>
                  <a:lnTo>
                    <a:pt x="33" y="1816"/>
                  </a:lnTo>
                  <a:lnTo>
                    <a:pt x="25" y="1822"/>
                  </a:lnTo>
                  <a:lnTo>
                    <a:pt x="18" y="1828"/>
                  </a:lnTo>
                  <a:lnTo>
                    <a:pt x="12" y="1836"/>
                  </a:lnTo>
                  <a:lnTo>
                    <a:pt x="7" y="1843"/>
                  </a:lnTo>
                  <a:lnTo>
                    <a:pt x="3" y="1851"/>
                  </a:lnTo>
                  <a:lnTo>
                    <a:pt x="1" y="1860"/>
                  </a:lnTo>
                  <a:lnTo>
                    <a:pt x="0" y="1868"/>
                  </a:lnTo>
                  <a:lnTo>
                    <a:pt x="0" y="1878"/>
                  </a:lnTo>
                  <a:lnTo>
                    <a:pt x="1" y="1887"/>
                  </a:lnTo>
                  <a:lnTo>
                    <a:pt x="2" y="1897"/>
                  </a:lnTo>
                  <a:lnTo>
                    <a:pt x="5" y="1908"/>
                  </a:lnTo>
                  <a:lnTo>
                    <a:pt x="12" y="1928"/>
                  </a:lnTo>
                  <a:lnTo>
                    <a:pt x="21" y="1951"/>
                  </a:lnTo>
                  <a:lnTo>
                    <a:pt x="44" y="1996"/>
                  </a:lnTo>
                  <a:lnTo>
                    <a:pt x="71" y="2042"/>
                  </a:lnTo>
                  <a:lnTo>
                    <a:pt x="83" y="2065"/>
                  </a:lnTo>
                  <a:lnTo>
                    <a:pt x="95" y="2086"/>
                  </a:lnTo>
                  <a:lnTo>
                    <a:pt x="104" y="2108"/>
                  </a:lnTo>
                  <a:lnTo>
                    <a:pt x="113" y="2128"/>
                  </a:lnTo>
                  <a:lnTo>
                    <a:pt x="120" y="2149"/>
                  </a:lnTo>
                  <a:lnTo>
                    <a:pt x="128" y="2169"/>
                  </a:lnTo>
                  <a:lnTo>
                    <a:pt x="138" y="2191"/>
                  </a:lnTo>
                  <a:lnTo>
                    <a:pt x="147" y="2211"/>
                  </a:lnTo>
                  <a:lnTo>
                    <a:pt x="168" y="2251"/>
                  </a:lnTo>
                  <a:lnTo>
                    <a:pt x="189" y="2291"/>
                  </a:lnTo>
                  <a:lnTo>
                    <a:pt x="211" y="2332"/>
                  </a:lnTo>
                  <a:lnTo>
                    <a:pt x="231" y="2372"/>
                  </a:lnTo>
                  <a:lnTo>
                    <a:pt x="241" y="2392"/>
                  </a:lnTo>
                  <a:lnTo>
                    <a:pt x="251" y="2414"/>
                  </a:lnTo>
                  <a:lnTo>
                    <a:pt x="259" y="2434"/>
                  </a:lnTo>
                  <a:lnTo>
                    <a:pt x="266" y="2456"/>
                  </a:lnTo>
                  <a:lnTo>
                    <a:pt x="273" y="2479"/>
                  </a:lnTo>
                  <a:lnTo>
                    <a:pt x="279" y="2501"/>
                  </a:lnTo>
                  <a:lnTo>
                    <a:pt x="284" y="2525"/>
                  </a:lnTo>
                  <a:lnTo>
                    <a:pt x="289" y="2549"/>
                  </a:lnTo>
                  <a:lnTo>
                    <a:pt x="296" y="2596"/>
                  </a:lnTo>
                  <a:lnTo>
                    <a:pt x="303" y="2644"/>
                  </a:lnTo>
                  <a:lnTo>
                    <a:pt x="311" y="2692"/>
                  </a:lnTo>
                  <a:lnTo>
                    <a:pt x="318" y="2739"/>
                  </a:lnTo>
                  <a:lnTo>
                    <a:pt x="323" y="2763"/>
                  </a:lnTo>
                  <a:lnTo>
                    <a:pt x="329" y="2786"/>
                  </a:lnTo>
                  <a:lnTo>
                    <a:pt x="335" y="2810"/>
                  </a:lnTo>
                  <a:lnTo>
                    <a:pt x="343" y="2832"/>
                  </a:lnTo>
                  <a:close/>
                </a:path>
              </a:pathLst>
            </a:custGeom>
            <a:solidFill>
              <a:srgbClr val="fe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87440" y="1819440"/>
              <a:ext cx="496800" cy="255600"/>
            </a:xfrm>
            <a:custGeom>
              <a:avLst/>
              <a:gdLst/>
              <a:ahLst/>
              <a:rect l="l" t="t" r="r" b="b"/>
              <a:pathLst>
                <a:path w="1251" h="646">
                  <a:moveTo>
                    <a:pt x="56" y="533"/>
                  </a:moveTo>
                  <a:lnTo>
                    <a:pt x="52" y="527"/>
                  </a:lnTo>
                  <a:lnTo>
                    <a:pt x="47" y="521"/>
                  </a:lnTo>
                  <a:lnTo>
                    <a:pt x="42" y="514"/>
                  </a:lnTo>
                  <a:lnTo>
                    <a:pt x="36" y="508"/>
                  </a:lnTo>
                  <a:lnTo>
                    <a:pt x="24" y="495"/>
                  </a:lnTo>
                  <a:lnTo>
                    <a:pt x="14" y="483"/>
                  </a:lnTo>
                  <a:lnTo>
                    <a:pt x="9" y="475"/>
                  </a:lnTo>
                  <a:lnTo>
                    <a:pt x="5" y="469"/>
                  </a:lnTo>
                  <a:lnTo>
                    <a:pt x="2" y="462"/>
                  </a:lnTo>
                  <a:lnTo>
                    <a:pt x="0" y="455"/>
                  </a:lnTo>
                  <a:lnTo>
                    <a:pt x="2" y="448"/>
                  </a:lnTo>
                  <a:lnTo>
                    <a:pt x="4" y="441"/>
                  </a:lnTo>
                  <a:lnTo>
                    <a:pt x="9" y="432"/>
                  </a:lnTo>
                  <a:lnTo>
                    <a:pt x="16" y="424"/>
                  </a:lnTo>
                  <a:lnTo>
                    <a:pt x="29" y="412"/>
                  </a:lnTo>
                  <a:lnTo>
                    <a:pt x="44" y="401"/>
                  </a:lnTo>
                  <a:lnTo>
                    <a:pt x="59" y="389"/>
                  </a:lnTo>
                  <a:lnTo>
                    <a:pt x="76" y="378"/>
                  </a:lnTo>
                  <a:lnTo>
                    <a:pt x="114" y="358"/>
                  </a:lnTo>
                  <a:lnTo>
                    <a:pt x="154" y="339"/>
                  </a:lnTo>
                  <a:lnTo>
                    <a:pt x="197" y="319"/>
                  </a:lnTo>
                  <a:lnTo>
                    <a:pt x="240" y="301"/>
                  </a:lnTo>
                  <a:lnTo>
                    <a:pt x="284" y="283"/>
                  </a:lnTo>
                  <a:lnTo>
                    <a:pt x="326" y="265"/>
                  </a:lnTo>
                  <a:lnTo>
                    <a:pt x="378" y="244"/>
                  </a:lnTo>
                  <a:lnTo>
                    <a:pt x="430" y="221"/>
                  </a:lnTo>
                  <a:lnTo>
                    <a:pt x="483" y="201"/>
                  </a:lnTo>
                  <a:lnTo>
                    <a:pt x="536" y="179"/>
                  </a:lnTo>
                  <a:lnTo>
                    <a:pt x="590" y="159"/>
                  </a:lnTo>
                  <a:lnTo>
                    <a:pt x="644" y="138"/>
                  </a:lnTo>
                  <a:lnTo>
                    <a:pt x="698" y="119"/>
                  </a:lnTo>
                  <a:lnTo>
                    <a:pt x="752" y="101"/>
                  </a:lnTo>
                  <a:lnTo>
                    <a:pt x="795" y="85"/>
                  </a:lnTo>
                  <a:lnTo>
                    <a:pt x="838" y="70"/>
                  </a:lnTo>
                  <a:lnTo>
                    <a:pt x="881" y="53"/>
                  </a:lnTo>
                  <a:lnTo>
                    <a:pt x="924" y="39"/>
                  </a:lnTo>
                  <a:lnTo>
                    <a:pt x="969" y="25"/>
                  </a:lnTo>
                  <a:lnTo>
                    <a:pt x="1011" y="13"/>
                  </a:lnTo>
                  <a:lnTo>
                    <a:pt x="1032" y="9"/>
                  </a:lnTo>
                  <a:lnTo>
                    <a:pt x="1054" y="5"/>
                  </a:lnTo>
                  <a:lnTo>
                    <a:pt x="1074" y="3"/>
                  </a:lnTo>
                  <a:lnTo>
                    <a:pt x="1095" y="1"/>
                  </a:lnTo>
                  <a:lnTo>
                    <a:pt x="1109" y="0"/>
                  </a:lnTo>
                  <a:lnTo>
                    <a:pt x="1122" y="1"/>
                  </a:lnTo>
                  <a:lnTo>
                    <a:pt x="1134" y="4"/>
                  </a:lnTo>
                  <a:lnTo>
                    <a:pt x="1146" y="6"/>
                  </a:lnTo>
                  <a:lnTo>
                    <a:pt x="1156" y="9"/>
                  </a:lnTo>
                  <a:lnTo>
                    <a:pt x="1167" y="13"/>
                  </a:lnTo>
                  <a:lnTo>
                    <a:pt x="1175" y="18"/>
                  </a:lnTo>
                  <a:lnTo>
                    <a:pt x="1184" y="23"/>
                  </a:lnTo>
                  <a:lnTo>
                    <a:pt x="1199" y="35"/>
                  </a:lnTo>
                  <a:lnTo>
                    <a:pt x="1212" y="47"/>
                  </a:lnTo>
                  <a:lnTo>
                    <a:pt x="1223" y="61"/>
                  </a:lnTo>
                  <a:lnTo>
                    <a:pt x="1234" y="73"/>
                  </a:lnTo>
                  <a:lnTo>
                    <a:pt x="1241" y="85"/>
                  </a:lnTo>
                  <a:lnTo>
                    <a:pt x="1247" y="99"/>
                  </a:lnTo>
                  <a:lnTo>
                    <a:pt x="1250" y="113"/>
                  </a:lnTo>
                  <a:lnTo>
                    <a:pt x="1251" y="127"/>
                  </a:lnTo>
                  <a:lnTo>
                    <a:pt x="1251" y="142"/>
                  </a:lnTo>
                  <a:lnTo>
                    <a:pt x="1247" y="157"/>
                  </a:lnTo>
                  <a:lnTo>
                    <a:pt x="1244" y="173"/>
                  </a:lnTo>
                  <a:lnTo>
                    <a:pt x="1236" y="189"/>
                  </a:lnTo>
                  <a:lnTo>
                    <a:pt x="1228" y="205"/>
                  </a:lnTo>
                  <a:lnTo>
                    <a:pt x="1218" y="223"/>
                  </a:lnTo>
                  <a:lnTo>
                    <a:pt x="1206" y="243"/>
                  </a:lnTo>
                  <a:lnTo>
                    <a:pt x="1192" y="261"/>
                  </a:lnTo>
                  <a:lnTo>
                    <a:pt x="1176" y="279"/>
                  </a:lnTo>
                  <a:lnTo>
                    <a:pt x="1160" y="297"/>
                  </a:lnTo>
                  <a:lnTo>
                    <a:pt x="1139" y="313"/>
                  </a:lnTo>
                  <a:lnTo>
                    <a:pt x="1116" y="330"/>
                  </a:lnTo>
                  <a:lnTo>
                    <a:pt x="1085" y="349"/>
                  </a:lnTo>
                  <a:lnTo>
                    <a:pt x="1052" y="367"/>
                  </a:lnTo>
                  <a:lnTo>
                    <a:pt x="1017" y="384"/>
                  </a:lnTo>
                  <a:lnTo>
                    <a:pt x="981" y="401"/>
                  </a:lnTo>
                  <a:lnTo>
                    <a:pt x="944" y="417"/>
                  </a:lnTo>
                  <a:lnTo>
                    <a:pt x="905" y="431"/>
                  </a:lnTo>
                  <a:lnTo>
                    <a:pt x="868" y="447"/>
                  </a:lnTo>
                  <a:lnTo>
                    <a:pt x="831" y="461"/>
                  </a:lnTo>
                  <a:lnTo>
                    <a:pt x="792" y="478"/>
                  </a:lnTo>
                  <a:lnTo>
                    <a:pt x="754" y="492"/>
                  </a:lnTo>
                  <a:lnTo>
                    <a:pt x="714" y="508"/>
                  </a:lnTo>
                  <a:lnTo>
                    <a:pt x="676" y="522"/>
                  </a:lnTo>
                  <a:lnTo>
                    <a:pt x="636" y="537"/>
                  </a:lnTo>
                  <a:lnTo>
                    <a:pt x="597" y="551"/>
                  </a:lnTo>
                  <a:lnTo>
                    <a:pt x="557" y="564"/>
                  </a:lnTo>
                  <a:lnTo>
                    <a:pt x="516" y="577"/>
                  </a:lnTo>
                  <a:lnTo>
                    <a:pt x="482" y="588"/>
                  </a:lnTo>
                  <a:lnTo>
                    <a:pt x="447" y="598"/>
                  </a:lnTo>
                  <a:lnTo>
                    <a:pt x="411" y="609"/>
                  </a:lnTo>
                  <a:lnTo>
                    <a:pt x="376" y="618"/>
                  </a:lnTo>
                  <a:lnTo>
                    <a:pt x="340" y="627"/>
                  </a:lnTo>
                  <a:lnTo>
                    <a:pt x="305" y="634"/>
                  </a:lnTo>
                  <a:lnTo>
                    <a:pt x="270" y="640"/>
                  </a:lnTo>
                  <a:lnTo>
                    <a:pt x="236" y="645"/>
                  </a:lnTo>
                  <a:lnTo>
                    <a:pt x="216" y="646"/>
                  </a:lnTo>
                  <a:lnTo>
                    <a:pt x="196" y="646"/>
                  </a:lnTo>
                  <a:lnTo>
                    <a:pt x="178" y="645"/>
                  </a:lnTo>
                  <a:lnTo>
                    <a:pt x="160" y="642"/>
                  </a:lnTo>
                  <a:lnTo>
                    <a:pt x="144" y="639"/>
                  </a:lnTo>
                  <a:lnTo>
                    <a:pt x="130" y="634"/>
                  </a:lnTo>
                  <a:lnTo>
                    <a:pt x="117" y="629"/>
                  </a:lnTo>
                  <a:lnTo>
                    <a:pt x="105" y="622"/>
                  </a:lnTo>
                  <a:lnTo>
                    <a:pt x="99" y="618"/>
                  </a:lnTo>
                  <a:lnTo>
                    <a:pt x="93" y="613"/>
                  </a:lnTo>
                  <a:lnTo>
                    <a:pt x="88" y="609"/>
                  </a:lnTo>
                  <a:lnTo>
                    <a:pt x="84" y="604"/>
                  </a:lnTo>
                  <a:lnTo>
                    <a:pt x="77" y="593"/>
                  </a:lnTo>
                  <a:lnTo>
                    <a:pt x="72" y="581"/>
                  </a:lnTo>
                  <a:lnTo>
                    <a:pt x="69" y="569"/>
                  </a:lnTo>
                  <a:lnTo>
                    <a:pt x="64" y="557"/>
                  </a:lnTo>
                  <a:lnTo>
                    <a:pt x="60" y="545"/>
                  </a:lnTo>
                  <a:lnTo>
                    <a:pt x="56" y="533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92280" y="1925640"/>
              <a:ext cx="103320" cy="65160"/>
            </a:xfrm>
            <a:custGeom>
              <a:avLst/>
              <a:gdLst/>
              <a:ahLst/>
              <a:rect l="l" t="t" r="r" b="b"/>
              <a:pathLst>
                <a:path w="260" h="167">
                  <a:moveTo>
                    <a:pt x="92" y="14"/>
                  </a:moveTo>
                  <a:lnTo>
                    <a:pt x="105" y="9"/>
                  </a:lnTo>
                  <a:lnTo>
                    <a:pt x="117" y="6"/>
                  </a:lnTo>
                  <a:lnTo>
                    <a:pt x="130" y="3"/>
                  </a:lnTo>
                  <a:lnTo>
                    <a:pt x="143" y="1"/>
                  </a:lnTo>
                  <a:lnTo>
                    <a:pt x="155" y="1"/>
                  </a:lnTo>
                  <a:lnTo>
                    <a:pt x="167" y="0"/>
                  </a:lnTo>
                  <a:lnTo>
                    <a:pt x="179" y="1"/>
                  </a:lnTo>
                  <a:lnTo>
                    <a:pt x="190" y="2"/>
                  </a:lnTo>
                  <a:lnTo>
                    <a:pt x="201" y="5"/>
                  </a:lnTo>
                  <a:lnTo>
                    <a:pt x="210" y="7"/>
                  </a:lnTo>
                  <a:lnTo>
                    <a:pt x="220" y="11"/>
                  </a:lnTo>
                  <a:lnTo>
                    <a:pt x="228" y="14"/>
                  </a:lnTo>
                  <a:lnTo>
                    <a:pt x="237" y="19"/>
                  </a:lnTo>
                  <a:lnTo>
                    <a:pt x="243" y="25"/>
                  </a:lnTo>
                  <a:lnTo>
                    <a:pt x="249" y="31"/>
                  </a:lnTo>
                  <a:lnTo>
                    <a:pt x="254" y="38"/>
                  </a:lnTo>
                  <a:lnTo>
                    <a:pt x="256" y="45"/>
                  </a:lnTo>
                  <a:lnTo>
                    <a:pt x="258" y="53"/>
                  </a:lnTo>
                  <a:lnTo>
                    <a:pt x="260" y="61"/>
                  </a:lnTo>
                  <a:lnTo>
                    <a:pt x="258" y="68"/>
                  </a:lnTo>
                  <a:lnTo>
                    <a:pt x="256" y="77"/>
                  </a:lnTo>
                  <a:lnTo>
                    <a:pt x="254" y="85"/>
                  </a:lnTo>
                  <a:lnTo>
                    <a:pt x="249" y="92"/>
                  </a:lnTo>
                  <a:lnTo>
                    <a:pt x="244" y="101"/>
                  </a:lnTo>
                  <a:lnTo>
                    <a:pt x="238" y="108"/>
                  </a:lnTo>
                  <a:lnTo>
                    <a:pt x="231" y="115"/>
                  </a:lnTo>
                  <a:lnTo>
                    <a:pt x="222" y="123"/>
                  </a:lnTo>
                  <a:lnTo>
                    <a:pt x="213" y="129"/>
                  </a:lnTo>
                  <a:lnTo>
                    <a:pt x="203" y="137"/>
                  </a:lnTo>
                  <a:lnTo>
                    <a:pt x="192" y="143"/>
                  </a:lnTo>
                  <a:lnTo>
                    <a:pt x="180" y="147"/>
                  </a:lnTo>
                  <a:lnTo>
                    <a:pt x="168" y="153"/>
                  </a:lnTo>
                  <a:lnTo>
                    <a:pt x="155" y="157"/>
                  </a:lnTo>
                  <a:lnTo>
                    <a:pt x="142" y="161"/>
                  </a:lnTo>
                  <a:lnTo>
                    <a:pt x="130" y="163"/>
                  </a:lnTo>
                  <a:lnTo>
                    <a:pt x="117" y="165"/>
                  </a:lnTo>
                  <a:lnTo>
                    <a:pt x="105" y="167"/>
                  </a:lnTo>
                  <a:lnTo>
                    <a:pt x="93" y="167"/>
                  </a:lnTo>
                  <a:lnTo>
                    <a:pt x="81" y="165"/>
                  </a:lnTo>
                  <a:lnTo>
                    <a:pt x="70" y="164"/>
                  </a:lnTo>
                  <a:lnTo>
                    <a:pt x="59" y="163"/>
                  </a:lnTo>
                  <a:lnTo>
                    <a:pt x="48" y="159"/>
                  </a:lnTo>
                  <a:lnTo>
                    <a:pt x="40" y="156"/>
                  </a:lnTo>
                  <a:lnTo>
                    <a:pt x="30" y="152"/>
                  </a:lnTo>
                  <a:lnTo>
                    <a:pt x="23" y="147"/>
                  </a:lnTo>
                  <a:lnTo>
                    <a:pt x="16" y="141"/>
                  </a:lnTo>
                  <a:lnTo>
                    <a:pt x="11" y="135"/>
                  </a:lnTo>
                  <a:lnTo>
                    <a:pt x="6" y="128"/>
                  </a:lnTo>
                  <a:lnTo>
                    <a:pt x="3" y="121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2" y="98"/>
                  </a:lnTo>
                  <a:lnTo>
                    <a:pt x="3" y="90"/>
                  </a:lnTo>
                  <a:lnTo>
                    <a:pt x="6" y="83"/>
                  </a:lnTo>
                  <a:lnTo>
                    <a:pt x="10" y="74"/>
                  </a:lnTo>
                  <a:lnTo>
                    <a:pt x="16" y="66"/>
                  </a:lnTo>
                  <a:lnTo>
                    <a:pt x="22" y="59"/>
                  </a:lnTo>
                  <a:lnTo>
                    <a:pt x="29" y="51"/>
                  </a:lnTo>
                  <a:lnTo>
                    <a:pt x="38" y="44"/>
                  </a:lnTo>
                  <a:lnTo>
                    <a:pt x="47" y="37"/>
                  </a:lnTo>
                  <a:lnTo>
                    <a:pt x="57" y="30"/>
                  </a:lnTo>
                  <a:lnTo>
                    <a:pt x="68" y="24"/>
                  </a:lnTo>
                  <a:lnTo>
                    <a:pt x="80" y="19"/>
                  </a:lnTo>
                  <a:lnTo>
                    <a:pt x="92" y="14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12800" y="1935000"/>
              <a:ext cx="65160" cy="49320"/>
            </a:xfrm>
            <a:custGeom>
              <a:avLst/>
              <a:gdLst/>
              <a:ahLst/>
              <a:rect l="l" t="t" r="r" b="b"/>
              <a:pathLst>
                <a:path w="164" h="121">
                  <a:moveTo>
                    <a:pt x="53" y="7"/>
                  </a:moveTo>
                  <a:lnTo>
                    <a:pt x="60" y="4"/>
                  </a:lnTo>
                  <a:lnTo>
                    <a:pt x="68" y="3"/>
                  </a:lnTo>
                  <a:lnTo>
                    <a:pt x="77" y="1"/>
                  </a:lnTo>
                  <a:lnTo>
                    <a:pt x="85" y="0"/>
                  </a:lnTo>
                  <a:lnTo>
                    <a:pt x="101" y="0"/>
                  </a:lnTo>
                  <a:lnTo>
                    <a:pt x="115" y="3"/>
                  </a:lnTo>
                  <a:lnTo>
                    <a:pt x="122" y="5"/>
                  </a:lnTo>
                  <a:lnTo>
                    <a:pt x="130" y="7"/>
                  </a:lnTo>
                  <a:lnTo>
                    <a:pt x="136" y="10"/>
                  </a:lnTo>
                  <a:lnTo>
                    <a:pt x="142" y="13"/>
                  </a:lnTo>
                  <a:lnTo>
                    <a:pt x="146" y="18"/>
                  </a:lnTo>
                  <a:lnTo>
                    <a:pt x="151" y="23"/>
                  </a:lnTo>
                  <a:lnTo>
                    <a:pt x="156" y="28"/>
                  </a:lnTo>
                  <a:lnTo>
                    <a:pt x="160" y="33"/>
                  </a:lnTo>
                  <a:lnTo>
                    <a:pt x="162" y="39"/>
                  </a:lnTo>
                  <a:lnTo>
                    <a:pt x="163" y="45"/>
                  </a:lnTo>
                  <a:lnTo>
                    <a:pt x="164" y="51"/>
                  </a:lnTo>
                  <a:lnTo>
                    <a:pt x="164" y="57"/>
                  </a:lnTo>
                  <a:lnTo>
                    <a:pt x="164" y="63"/>
                  </a:lnTo>
                  <a:lnTo>
                    <a:pt x="163" y="67"/>
                  </a:lnTo>
                  <a:lnTo>
                    <a:pt x="161" y="73"/>
                  </a:lnTo>
                  <a:lnTo>
                    <a:pt x="157" y="79"/>
                  </a:lnTo>
                  <a:lnTo>
                    <a:pt x="154" y="85"/>
                  </a:lnTo>
                  <a:lnTo>
                    <a:pt x="150" y="90"/>
                  </a:lnTo>
                  <a:lnTo>
                    <a:pt x="145" y="95"/>
                  </a:lnTo>
                  <a:lnTo>
                    <a:pt x="139" y="100"/>
                  </a:lnTo>
                  <a:lnTo>
                    <a:pt x="133" y="105"/>
                  </a:lnTo>
                  <a:lnTo>
                    <a:pt x="127" y="108"/>
                  </a:lnTo>
                  <a:lnTo>
                    <a:pt x="120" y="112"/>
                  </a:lnTo>
                  <a:lnTo>
                    <a:pt x="112" y="115"/>
                  </a:lnTo>
                  <a:lnTo>
                    <a:pt x="104" y="118"/>
                  </a:lnTo>
                  <a:lnTo>
                    <a:pt x="96" y="120"/>
                  </a:lnTo>
                  <a:lnTo>
                    <a:pt x="88" y="121"/>
                  </a:lnTo>
                  <a:lnTo>
                    <a:pt x="80" y="121"/>
                  </a:lnTo>
                  <a:lnTo>
                    <a:pt x="64" y="121"/>
                  </a:lnTo>
                  <a:lnTo>
                    <a:pt x="49" y="119"/>
                  </a:lnTo>
                  <a:lnTo>
                    <a:pt x="42" y="118"/>
                  </a:lnTo>
                  <a:lnTo>
                    <a:pt x="35" y="114"/>
                  </a:lnTo>
                  <a:lnTo>
                    <a:pt x="29" y="112"/>
                  </a:lnTo>
                  <a:lnTo>
                    <a:pt x="23" y="108"/>
                  </a:lnTo>
                  <a:lnTo>
                    <a:pt x="18" y="105"/>
                  </a:lnTo>
                  <a:lnTo>
                    <a:pt x="13" y="100"/>
                  </a:lnTo>
                  <a:lnTo>
                    <a:pt x="8" y="95"/>
                  </a:lnTo>
                  <a:lnTo>
                    <a:pt x="6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54"/>
                  </a:lnTo>
                  <a:lnTo>
                    <a:pt x="4" y="48"/>
                  </a:lnTo>
                  <a:lnTo>
                    <a:pt x="7" y="42"/>
                  </a:lnTo>
                  <a:lnTo>
                    <a:pt x="11" y="37"/>
                  </a:lnTo>
                  <a:lnTo>
                    <a:pt x="14" y="31"/>
                  </a:lnTo>
                  <a:lnTo>
                    <a:pt x="19" y="27"/>
                  </a:lnTo>
                  <a:lnTo>
                    <a:pt x="25" y="22"/>
                  </a:lnTo>
                  <a:lnTo>
                    <a:pt x="31" y="18"/>
                  </a:lnTo>
                  <a:lnTo>
                    <a:pt x="37" y="13"/>
                  </a:lnTo>
                  <a:lnTo>
                    <a:pt x="44" y="1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35120" y="1944720"/>
              <a:ext cx="17640" cy="93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16" y="2"/>
                  </a:moveTo>
                  <a:lnTo>
                    <a:pt x="20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1" y="8"/>
                  </a:lnTo>
                  <a:lnTo>
                    <a:pt x="41" y="11"/>
                  </a:lnTo>
                  <a:lnTo>
                    <a:pt x="39" y="13"/>
                  </a:lnTo>
                  <a:lnTo>
                    <a:pt x="36" y="15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1"/>
                  </a:lnTo>
                  <a:lnTo>
                    <a:pt x="22" y="23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35120" y="1944720"/>
              <a:ext cx="17640" cy="93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16" y="2"/>
                  </a:moveTo>
                  <a:lnTo>
                    <a:pt x="20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1" y="8"/>
                  </a:lnTo>
                  <a:lnTo>
                    <a:pt x="41" y="11"/>
                  </a:lnTo>
                  <a:lnTo>
                    <a:pt x="39" y="13"/>
                  </a:lnTo>
                  <a:lnTo>
                    <a:pt x="36" y="15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1"/>
                  </a:lnTo>
                  <a:lnTo>
                    <a:pt x="22" y="23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6" y="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11240" y="1638360"/>
              <a:ext cx="473040" cy="234720"/>
            </a:xfrm>
            <a:custGeom>
              <a:avLst/>
              <a:gdLst/>
              <a:ahLst/>
              <a:rect l="l" t="t" r="r" b="b"/>
              <a:pathLst>
                <a:path w="1193" h="589">
                  <a:moveTo>
                    <a:pt x="1" y="506"/>
                  </a:moveTo>
                  <a:lnTo>
                    <a:pt x="0" y="500"/>
                  </a:lnTo>
                  <a:lnTo>
                    <a:pt x="1" y="493"/>
                  </a:lnTo>
                  <a:lnTo>
                    <a:pt x="4" y="486"/>
                  </a:lnTo>
                  <a:lnTo>
                    <a:pt x="7" y="477"/>
                  </a:lnTo>
                  <a:lnTo>
                    <a:pt x="13" y="469"/>
                  </a:lnTo>
                  <a:lnTo>
                    <a:pt x="21" y="459"/>
                  </a:lnTo>
                  <a:lnTo>
                    <a:pt x="29" y="450"/>
                  </a:lnTo>
                  <a:lnTo>
                    <a:pt x="37" y="440"/>
                  </a:lnTo>
                  <a:lnTo>
                    <a:pt x="58" y="420"/>
                  </a:lnTo>
                  <a:lnTo>
                    <a:pt x="79" y="400"/>
                  </a:lnTo>
                  <a:lnTo>
                    <a:pt x="100" y="382"/>
                  </a:lnTo>
                  <a:lnTo>
                    <a:pt x="119" y="366"/>
                  </a:lnTo>
                  <a:lnTo>
                    <a:pt x="142" y="347"/>
                  </a:lnTo>
                  <a:lnTo>
                    <a:pt x="160" y="333"/>
                  </a:lnTo>
                  <a:lnTo>
                    <a:pt x="174" y="323"/>
                  </a:lnTo>
                  <a:lnTo>
                    <a:pt x="189" y="313"/>
                  </a:lnTo>
                  <a:lnTo>
                    <a:pt x="205" y="305"/>
                  </a:lnTo>
                  <a:lnTo>
                    <a:pt x="226" y="296"/>
                  </a:lnTo>
                  <a:lnTo>
                    <a:pt x="252" y="284"/>
                  </a:lnTo>
                  <a:lnTo>
                    <a:pt x="288" y="270"/>
                  </a:lnTo>
                  <a:lnTo>
                    <a:pt x="342" y="247"/>
                  </a:lnTo>
                  <a:lnTo>
                    <a:pt x="401" y="227"/>
                  </a:lnTo>
                  <a:lnTo>
                    <a:pt x="462" y="206"/>
                  </a:lnTo>
                  <a:lnTo>
                    <a:pt x="525" y="186"/>
                  </a:lnTo>
                  <a:lnTo>
                    <a:pt x="587" y="167"/>
                  </a:lnTo>
                  <a:lnTo>
                    <a:pt x="649" y="147"/>
                  </a:lnTo>
                  <a:lnTo>
                    <a:pt x="709" y="128"/>
                  </a:lnTo>
                  <a:lnTo>
                    <a:pt x="766" y="109"/>
                  </a:lnTo>
                  <a:lnTo>
                    <a:pt x="805" y="93"/>
                  </a:lnTo>
                  <a:lnTo>
                    <a:pt x="844" y="78"/>
                  </a:lnTo>
                  <a:lnTo>
                    <a:pt x="879" y="61"/>
                  </a:lnTo>
                  <a:lnTo>
                    <a:pt x="913" y="45"/>
                  </a:lnTo>
                  <a:lnTo>
                    <a:pt x="947" y="30"/>
                  </a:lnTo>
                  <a:lnTo>
                    <a:pt x="982" y="18"/>
                  </a:lnTo>
                  <a:lnTo>
                    <a:pt x="999" y="12"/>
                  </a:lnTo>
                  <a:lnTo>
                    <a:pt x="1017" y="8"/>
                  </a:lnTo>
                  <a:lnTo>
                    <a:pt x="1036" y="3"/>
                  </a:lnTo>
                  <a:lnTo>
                    <a:pt x="1055" y="1"/>
                  </a:lnTo>
                  <a:lnTo>
                    <a:pt x="1068" y="0"/>
                  </a:lnTo>
                  <a:lnTo>
                    <a:pt x="1081" y="0"/>
                  </a:lnTo>
                  <a:lnTo>
                    <a:pt x="1093" y="0"/>
                  </a:lnTo>
                  <a:lnTo>
                    <a:pt x="1104" y="1"/>
                  </a:lnTo>
                  <a:lnTo>
                    <a:pt x="1114" y="3"/>
                  </a:lnTo>
                  <a:lnTo>
                    <a:pt x="1123" y="6"/>
                  </a:lnTo>
                  <a:lnTo>
                    <a:pt x="1131" y="9"/>
                  </a:lnTo>
                  <a:lnTo>
                    <a:pt x="1139" y="13"/>
                  </a:lnTo>
                  <a:lnTo>
                    <a:pt x="1152" y="21"/>
                  </a:lnTo>
                  <a:lnTo>
                    <a:pt x="1163" y="31"/>
                  </a:lnTo>
                  <a:lnTo>
                    <a:pt x="1173" y="42"/>
                  </a:lnTo>
                  <a:lnTo>
                    <a:pt x="1182" y="51"/>
                  </a:lnTo>
                  <a:lnTo>
                    <a:pt x="1188" y="61"/>
                  </a:lnTo>
                  <a:lnTo>
                    <a:pt x="1192" y="71"/>
                  </a:lnTo>
                  <a:lnTo>
                    <a:pt x="1193" y="81"/>
                  </a:lnTo>
                  <a:lnTo>
                    <a:pt x="1193" y="93"/>
                  </a:lnTo>
                  <a:lnTo>
                    <a:pt x="1191" y="105"/>
                  </a:lnTo>
                  <a:lnTo>
                    <a:pt x="1187" y="119"/>
                  </a:lnTo>
                  <a:lnTo>
                    <a:pt x="1181" y="131"/>
                  </a:lnTo>
                  <a:lnTo>
                    <a:pt x="1173" y="144"/>
                  </a:lnTo>
                  <a:lnTo>
                    <a:pt x="1163" y="159"/>
                  </a:lnTo>
                  <a:lnTo>
                    <a:pt x="1151" y="175"/>
                  </a:lnTo>
                  <a:lnTo>
                    <a:pt x="1138" y="191"/>
                  </a:lnTo>
                  <a:lnTo>
                    <a:pt x="1123" y="206"/>
                  </a:lnTo>
                  <a:lnTo>
                    <a:pt x="1107" y="222"/>
                  </a:lnTo>
                  <a:lnTo>
                    <a:pt x="1087" y="237"/>
                  </a:lnTo>
                  <a:lnTo>
                    <a:pt x="1066" y="253"/>
                  </a:lnTo>
                  <a:lnTo>
                    <a:pt x="1043" y="269"/>
                  </a:lnTo>
                  <a:lnTo>
                    <a:pt x="1011" y="285"/>
                  </a:lnTo>
                  <a:lnTo>
                    <a:pt x="977" y="303"/>
                  </a:lnTo>
                  <a:lnTo>
                    <a:pt x="942" y="319"/>
                  </a:lnTo>
                  <a:lnTo>
                    <a:pt x="905" y="335"/>
                  </a:lnTo>
                  <a:lnTo>
                    <a:pt x="868" y="350"/>
                  </a:lnTo>
                  <a:lnTo>
                    <a:pt x="829" y="365"/>
                  </a:lnTo>
                  <a:lnTo>
                    <a:pt x="792" y="380"/>
                  </a:lnTo>
                  <a:lnTo>
                    <a:pt x="755" y="394"/>
                  </a:lnTo>
                  <a:lnTo>
                    <a:pt x="715" y="410"/>
                  </a:lnTo>
                  <a:lnTo>
                    <a:pt x="677" y="426"/>
                  </a:lnTo>
                  <a:lnTo>
                    <a:pt x="637" y="440"/>
                  </a:lnTo>
                  <a:lnTo>
                    <a:pt x="599" y="456"/>
                  </a:lnTo>
                  <a:lnTo>
                    <a:pt x="559" y="470"/>
                  </a:lnTo>
                  <a:lnTo>
                    <a:pt x="520" y="483"/>
                  </a:lnTo>
                  <a:lnTo>
                    <a:pt x="480" y="496"/>
                  </a:lnTo>
                  <a:lnTo>
                    <a:pt x="441" y="510"/>
                  </a:lnTo>
                  <a:lnTo>
                    <a:pt x="406" y="522"/>
                  </a:lnTo>
                  <a:lnTo>
                    <a:pt x="371" y="532"/>
                  </a:lnTo>
                  <a:lnTo>
                    <a:pt x="335" y="543"/>
                  </a:lnTo>
                  <a:lnTo>
                    <a:pt x="300" y="553"/>
                  </a:lnTo>
                  <a:lnTo>
                    <a:pt x="265" y="562"/>
                  </a:lnTo>
                  <a:lnTo>
                    <a:pt x="231" y="571"/>
                  </a:lnTo>
                  <a:lnTo>
                    <a:pt x="197" y="578"/>
                  </a:lnTo>
                  <a:lnTo>
                    <a:pt x="163" y="584"/>
                  </a:lnTo>
                  <a:lnTo>
                    <a:pt x="144" y="586"/>
                  </a:lnTo>
                  <a:lnTo>
                    <a:pt x="125" y="588"/>
                  </a:lnTo>
                  <a:lnTo>
                    <a:pt x="107" y="589"/>
                  </a:lnTo>
                  <a:lnTo>
                    <a:pt x="91" y="588"/>
                  </a:lnTo>
                  <a:lnTo>
                    <a:pt x="76" y="585"/>
                  </a:lnTo>
                  <a:lnTo>
                    <a:pt x="61" y="583"/>
                  </a:lnTo>
                  <a:lnTo>
                    <a:pt x="49" y="579"/>
                  </a:lnTo>
                  <a:lnTo>
                    <a:pt x="39" y="574"/>
                  </a:lnTo>
                  <a:lnTo>
                    <a:pt x="34" y="572"/>
                  </a:lnTo>
                  <a:lnTo>
                    <a:pt x="29" y="568"/>
                  </a:lnTo>
                  <a:lnTo>
                    <a:pt x="25" y="565"/>
                  </a:lnTo>
                  <a:lnTo>
                    <a:pt x="22" y="561"/>
                  </a:lnTo>
                  <a:lnTo>
                    <a:pt x="16" y="553"/>
                  </a:lnTo>
                  <a:lnTo>
                    <a:pt x="12" y="543"/>
                  </a:lnTo>
                  <a:lnTo>
                    <a:pt x="10" y="534"/>
                  </a:lnTo>
                  <a:lnTo>
                    <a:pt x="7" y="524"/>
                  </a:lnTo>
                  <a:lnTo>
                    <a:pt x="4" y="516"/>
                  </a:lnTo>
                  <a:lnTo>
                    <a:pt x="1" y="506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75040" y="1738440"/>
              <a:ext cx="125280" cy="55440"/>
            </a:xfrm>
            <a:custGeom>
              <a:avLst/>
              <a:gdLst/>
              <a:ahLst/>
              <a:rect l="l" t="t" r="r" b="b"/>
              <a:pathLst>
                <a:path w="316" h="142">
                  <a:moveTo>
                    <a:pt x="1" y="126"/>
                  </a:moveTo>
                  <a:lnTo>
                    <a:pt x="0" y="122"/>
                  </a:lnTo>
                  <a:lnTo>
                    <a:pt x="0" y="117"/>
                  </a:lnTo>
                  <a:lnTo>
                    <a:pt x="3" y="111"/>
                  </a:lnTo>
                  <a:lnTo>
                    <a:pt x="6" y="105"/>
                  </a:lnTo>
                  <a:lnTo>
                    <a:pt x="11" y="99"/>
                  </a:lnTo>
                  <a:lnTo>
                    <a:pt x="18" y="92"/>
                  </a:lnTo>
                  <a:lnTo>
                    <a:pt x="25" y="86"/>
                  </a:lnTo>
                  <a:lnTo>
                    <a:pt x="35" y="78"/>
                  </a:lnTo>
                  <a:lnTo>
                    <a:pt x="55" y="65"/>
                  </a:lnTo>
                  <a:lnTo>
                    <a:pt x="81" y="52"/>
                  </a:lnTo>
                  <a:lnTo>
                    <a:pt x="109" y="39"/>
                  </a:lnTo>
                  <a:lnTo>
                    <a:pt x="141" y="27"/>
                  </a:lnTo>
                  <a:lnTo>
                    <a:pt x="172" y="16"/>
                  </a:lnTo>
                  <a:lnTo>
                    <a:pt x="203" y="9"/>
                  </a:lnTo>
                  <a:lnTo>
                    <a:pt x="231" y="4"/>
                  </a:lnTo>
                  <a:lnTo>
                    <a:pt x="256" y="2"/>
                  </a:lnTo>
                  <a:lnTo>
                    <a:pt x="268" y="0"/>
                  </a:lnTo>
                  <a:lnTo>
                    <a:pt x="279" y="0"/>
                  </a:lnTo>
                  <a:lnTo>
                    <a:pt x="287" y="2"/>
                  </a:lnTo>
                  <a:lnTo>
                    <a:pt x="295" y="4"/>
                  </a:lnTo>
                  <a:lnTo>
                    <a:pt x="303" y="6"/>
                  </a:lnTo>
                  <a:lnTo>
                    <a:pt x="309" y="9"/>
                  </a:lnTo>
                  <a:lnTo>
                    <a:pt x="312" y="12"/>
                  </a:lnTo>
                  <a:lnTo>
                    <a:pt x="315" y="17"/>
                  </a:lnTo>
                  <a:lnTo>
                    <a:pt x="316" y="22"/>
                  </a:lnTo>
                  <a:lnTo>
                    <a:pt x="316" y="27"/>
                  </a:lnTo>
                  <a:lnTo>
                    <a:pt x="313" y="33"/>
                  </a:lnTo>
                  <a:lnTo>
                    <a:pt x="310" y="39"/>
                  </a:lnTo>
                  <a:lnTo>
                    <a:pt x="305" y="45"/>
                  </a:lnTo>
                  <a:lnTo>
                    <a:pt x="298" y="51"/>
                  </a:lnTo>
                  <a:lnTo>
                    <a:pt x="291" y="58"/>
                  </a:lnTo>
                  <a:lnTo>
                    <a:pt x="282" y="64"/>
                  </a:lnTo>
                  <a:lnTo>
                    <a:pt x="261" y="78"/>
                  </a:lnTo>
                  <a:lnTo>
                    <a:pt x="235" y="92"/>
                  </a:lnTo>
                  <a:lnTo>
                    <a:pt x="208" y="105"/>
                  </a:lnTo>
                  <a:lnTo>
                    <a:pt x="177" y="117"/>
                  </a:lnTo>
                  <a:lnTo>
                    <a:pt x="144" y="126"/>
                  </a:lnTo>
                  <a:lnTo>
                    <a:pt x="114" y="133"/>
                  </a:lnTo>
                  <a:lnTo>
                    <a:pt x="85" y="139"/>
                  </a:lnTo>
                  <a:lnTo>
                    <a:pt x="60" y="142"/>
                  </a:lnTo>
                  <a:lnTo>
                    <a:pt x="48" y="142"/>
                  </a:lnTo>
                  <a:lnTo>
                    <a:pt x="39" y="142"/>
                  </a:lnTo>
                  <a:lnTo>
                    <a:pt x="29" y="141"/>
                  </a:lnTo>
                  <a:lnTo>
                    <a:pt x="21" y="139"/>
                  </a:lnTo>
                  <a:lnTo>
                    <a:pt x="13" y="137"/>
                  </a:lnTo>
                  <a:lnTo>
                    <a:pt x="9" y="135"/>
                  </a:lnTo>
                  <a:lnTo>
                    <a:pt x="4" y="131"/>
                  </a:lnTo>
                  <a:lnTo>
                    <a:pt x="1" y="126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93760" y="1744560"/>
              <a:ext cx="96840" cy="39960"/>
            </a:xfrm>
            <a:custGeom>
              <a:avLst/>
              <a:gdLst/>
              <a:ahLst/>
              <a:rect l="l" t="t" r="r" b="b"/>
              <a:pathLst>
                <a:path w="245" h="102">
                  <a:moveTo>
                    <a:pt x="0" y="94"/>
                  </a:moveTo>
                  <a:lnTo>
                    <a:pt x="0" y="91"/>
                  </a:lnTo>
                  <a:lnTo>
                    <a:pt x="0" y="88"/>
                  </a:lnTo>
                  <a:lnTo>
                    <a:pt x="2" y="84"/>
                  </a:lnTo>
                  <a:lnTo>
                    <a:pt x="5" y="79"/>
                  </a:lnTo>
                  <a:lnTo>
                    <a:pt x="14" y="71"/>
                  </a:lnTo>
                  <a:lnTo>
                    <a:pt x="27" y="61"/>
                  </a:lnTo>
                  <a:lnTo>
                    <a:pt x="44" y="52"/>
                  </a:lnTo>
                  <a:lnTo>
                    <a:pt x="65" y="42"/>
                  </a:lnTo>
                  <a:lnTo>
                    <a:pt x="86" y="32"/>
                  </a:lnTo>
                  <a:lnTo>
                    <a:pt x="110" y="23"/>
                  </a:lnTo>
                  <a:lnTo>
                    <a:pt x="135" y="16"/>
                  </a:lnTo>
                  <a:lnTo>
                    <a:pt x="159" y="8"/>
                  </a:lnTo>
                  <a:lnTo>
                    <a:pt x="181" y="4"/>
                  </a:lnTo>
                  <a:lnTo>
                    <a:pt x="200" y="1"/>
                  </a:lnTo>
                  <a:lnTo>
                    <a:pt x="217" y="0"/>
                  </a:lnTo>
                  <a:lnTo>
                    <a:pt x="230" y="1"/>
                  </a:lnTo>
                  <a:lnTo>
                    <a:pt x="235" y="2"/>
                  </a:lnTo>
                  <a:lnTo>
                    <a:pt x="240" y="4"/>
                  </a:lnTo>
                  <a:lnTo>
                    <a:pt x="242" y="6"/>
                  </a:lnTo>
                  <a:lnTo>
                    <a:pt x="245" y="8"/>
                  </a:lnTo>
                  <a:lnTo>
                    <a:pt x="245" y="12"/>
                  </a:lnTo>
                  <a:lnTo>
                    <a:pt x="245" y="14"/>
                  </a:lnTo>
                  <a:lnTo>
                    <a:pt x="242" y="19"/>
                  </a:lnTo>
                  <a:lnTo>
                    <a:pt x="239" y="23"/>
                  </a:lnTo>
                  <a:lnTo>
                    <a:pt x="230" y="31"/>
                  </a:lnTo>
                  <a:lnTo>
                    <a:pt x="217" y="41"/>
                  </a:lnTo>
                  <a:lnTo>
                    <a:pt x="200" y="50"/>
                  </a:lnTo>
                  <a:lnTo>
                    <a:pt x="180" y="60"/>
                  </a:lnTo>
                  <a:lnTo>
                    <a:pt x="158" y="70"/>
                  </a:lnTo>
                  <a:lnTo>
                    <a:pt x="133" y="79"/>
                  </a:lnTo>
                  <a:lnTo>
                    <a:pt x="109" y="88"/>
                  </a:lnTo>
                  <a:lnTo>
                    <a:pt x="85" y="94"/>
                  </a:lnTo>
                  <a:lnTo>
                    <a:pt x="63" y="98"/>
                  </a:lnTo>
                  <a:lnTo>
                    <a:pt x="43" y="101"/>
                  </a:lnTo>
                  <a:lnTo>
                    <a:pt x="27" y="102"/>
                  </a:lnTo>
                  <a:lnTo>
                    <a:pt x="14" y="102"/>
                  </a:lnTo>
                  <a:lnTo>
                    <a:pt x="8" y="101"/>
                  </a:lnTo>
                  <a:lnTo>
                    <a:pt x="5" y="98"/>
                  </a:lnTo>
                  <a:lnTo>
                    <a:pt x="1" y="96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11400" y="1766880"/>
              <a:ext cx="17280" cy="7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20"/>
                  </a:move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4" y="3"/>
                  </a:lnTo>
                  <a:lnTo>
                    <a:pt x="46" y="4"/>
                  </a:lnTo>
                  <a:lnTo>
                    <a:pt x="46" y="5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1" y="11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0" y="17"/>
                  </a:lnTo>
                  <a:lnTo>
                    <a:pt x="25" y="18"/>
                  </a:lnTo>
                  <a:lnTo>
                    <a:pt x="22" y="21"/>
                  </a:lnTo>
                  <a:lnTo>
                    <a:pt x="17" y="21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11400" y="1766880"/>
              <a:ext cx="17280" cy="7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20"/>
                  </a:move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4" y="3"/>
                  </a:lnTo>
                  <a:lnTo>
                    <a:pt x="46" y="4"/>
                  </a:lnTo>
                  <a:lnTo>
                    <a:pt x="46" y="5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1" y="11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0" y="17"/>
                  </a:lnTo>
                  <a:lnTo>
                    <a:pt x="25" y="18"/>
                  </a:lnTo>
                  <a:lnTo>
                    <a:pt x="22" y="21"/>
                  </a:lnTo>
                  <a:lnTo>
                    <a:pt x="17" y="21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2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3600" y="1452600"/>
              <a:ext cx="473040" cy="233280"/>
            </a:xfrm>
            <a:custGeom>
              <a:avLst/>
              <a:gdLst/>
              <a:ahLst/>
              <a:rect l="l" t="t" r="r" b="b"/>
              <a:pathLst>
                <a:path w="1192" h="587">
                  <a:moveTo>
                    <a:pt x="1" y="505"/>
                  </a:moveTo>
                  <a:lnTo>
                    <a:pt x="0" y="500"/>
                  </a:lnTo>
                  <a:lnTo>
                    <a:pt x="1" y="493"/>
                  </a:lnTo>
                  <a:lnTo>
                    <a:pt x="3" y="485"/>
                  </a:lnTo>
                  <a:lnTo>
                    <a:pt x="7" y="477"/>
                  </a:lnTo>
                  <a:lnTo>
                    <a:pt x="13" y="469"/>
                  </a:lnTo>
                  <a:lnTo>
                    <a:pt x="20" y="459"/>
                  </a:lnTo>
                  <a:lnTo>
                    <a:pt x="28" y="449"/>
                  </a:lnTo>
                  <a:lnTo>
                    <a:pt x="37" y="440"/>
                  </a:lnTo>
                  <a:lnTo>
                    <a:pt x="57" y="419"/>
                  </a:lnTo>
                  <a:lnTo>
                    <a:pt x="79" y="399"/>
                  </a:lnTo>
                  <a:lnTo>
                    <a:pt x="99" y="381"/>
                  </a:lnTo>
                  <a:lnTo>
                    <a:pt x="118" y="365"/>
                  </a:lnTo>
                  <a:lnTo>
                    <a:pt x="141" y="346"/>
                  </a:lnTo>
                  <a:lnTo>
                    <a:pt x="159" y="332"/>
                  </a:lnTo>
                  <a:lnTo>
                    <a:pt x="174" y="321"/>
                  </a:lnTo>
                  <a:lnTo>
                    <a:pt x="188" y="313"/>
                  </a:lnTo>
                  <a:lnTo>
                    <a:pt x="205" y="304"/>
                  </a:lnTo>
                  <a:lnTo>
                    <a:pt x="225" y="295"/>
                  </a:lnTo>
                  <a:lnTo>
                    <a:pt x="252" y="284"/>
                  </a:lnTo>
                  <a:lnTo>
                    <a:pt x="288" y="268"/>
                  </a:lnTo>
                  <a:lnTo>
                    <a:pt x="342" y="247"/>
                  </a:lnTo>
                  <a:lnTo>
                    <a:pt x="400" y="226"/>
                  </a:lnTo>
                  <a:lnTo>
                    <a:pt x="462" y="205"/>
                  </a:lnTo>
                  <a:lnTo>
                    <a:pt x="524" y="185"/>
                  </a:lnTo>
                  <a:lnTo>
                    <a:pt x="586" y="165"/>
                  </a:lnTo>
                  <a:lnTo>
                    <a:pt x="649" y="146"/>
                  </a:lnTo>
                  <a:lnTo>
                    <a:pt x="709" y="127"/>
                  </a:lnTo>
                  <a:lnTo>
                    <a:pt x="765" y="109"/>
                  </a:lnTo>
                  <a:lnTo>
                    <a:pt x="805" y="93"/>
                  </a:lnTo>
                  <a:lnTo>
                    <a:pt x="843" y="76"/>
                  </a:lnTo>
                  <a:lnTo>
                    <a:pt x="878" y="60"/>
                  </a:lnTo>
                  <a:lnTo>
                    <a:pt x="913" y="44"/>
                  </a:lnTo>
                  <a:lnTo>
                    <a:pt x="946" y="30"/>
                  </a:lnTo>
                  <a:lnTo>
                    <a:pt x="981" y="16"/>
                  </a:lnTo>
                  <a:lnTo>
                    <a:pt x="998" y="12"/>
                  </a:lnTo>
                  <a:lnTo>
                    <a:pt x="1016" y="7"/>
                  </a:lnTo>
                  <a:lnTo>
                    <a:pt x="1035" y="3"/>
                  </a:lnTo>
                  <a:lnTo>
                    <a:pt x="1054" y="1"/>
                  </a:lnTo>
                  <a:lnTo>
                    <a:pt x="1068" y="0"/>
                  </a:lnTo>
                  <a:lnTo>
                    <a:pt x="1081" y="0"/>
                  </a:lnTo>
                  <a:lnTo>
                    <a:pt x="1093" y="0"/>
                  </a:lnTo>
                  <a:lnTo>
                    <a:pt x="1104" y="1"/>
                  </a:lnTo>
                  <a:lnTo>
                    <a:pt x="1113" y="3"/>
                  </a:lnTo>
                  <a:lnTo>
                    <a:pt x="1123" y="6"/>
                  </a:lnTo>
                  <a:lnTo>
                    <a:pt x="1130" y="9"/>
                  </a:lnTo>
                  <a:lnTo>
                    <a:pt x="1138" y="13"/>
                  </a:lnTo>
                  <a:lnTo>
                    <a:pt x="1152" y="21"/>
                  </a:lnTo>
                  <a:lnTo>
                    <a:pt x="1162" y="31"/>
                  </a:lnTo>
                  <a:lnTo>
                    <a:pt x="1172" y="40"/>
                  </a:lnTo>
                  <a:lnTo>
                    <a:pt x="1182" y="51"/>
                  </a:lnTo>
                  <a:lnTo>
                    <a:pt x="1188" y="60"/>
                  </a:lnTo>
                  <a:lnTo>
                    <a:pt x="1191" y="70"/>
                  </a:lnTo>
                  <a:lnTo>
                    <a:pt x="1192" y="81"/>
                  </a:lnTo>
                  <a:lnTo>
                    <a:pt x="1192" y="93"/>
                  </a:lnTo>
                  <a:lnTo>
                    <a:pt x="1190" y="105"/>
                  </a:lnTo>
                  <a:lnTo>
                    <a:pt x="1186" y="117"/>
                  </a:lnTo>
                  <a:lnTo>
                    <a:pt x="1180" y="130"/>
                  </a:lnTo>
                  <a:lnTo>
                    <a:pt x="1172" y="143"/>
                  </a:lnTo>
                  <a:lnTo>
                    <a:pt x="1162" y="158"/>
                  </a:lnTo>
                  <a:lnTo>
                    <a:pt x="1150" y="173"/>
                  </a:lnTo>
                  <a:lnTo>
                    <a:pt x="1137" y="189"/>
                  </a:lnTo>
                  <a:lnTo>
                    <a:pt x="1123" y="206"/>
                  </a:lnTo>
                  <a:lnTo>
                    <a:pt x="1106" y="221"/>
                  </a:lnTo>
                  <a:lnTo>
                    <a:pt x="1087" y="237"/>
                  </a:lnTo>
                  <a:lnTo>
                    <a:pt x="1065" y="253"/>
                  </a:lnTo>
                  <a:lnTo>
                    <a:pt x="1042" y="267"/>
                  </a:lnTo>
                  <a:lnTo>
                    <a:pt x="1010" y="285"/>
                  </a:lnTo>
                  <a:lnTo>
                    <a:pt x="976" y="302"/>
                  </a:lnTo>
                  <a:lnTo>
                    <a:pt x="942" y="319"/>
                  </a:lnTo>
                  <a:lnTo>
                    <a:pt x="904" y="334"/>
                  </a:lnTo>
                  <a:lnTo>
                    <a:pt x="867" y="350"/>
                  </a:lnTo>
                  <a:lnTo>
                    <a:pt x="829" y="364"/>
                  </a:lnTo>
                  <a:lnTo>
                    <a:pt x="792" y="379"/>
                  </a:lnTo>
                  <a:lnTo>
                    <a:pt x="754" y="394"/>
                  </a:lnTo>
                  <a:lnTo>
                    <a:pt x="715" y="410"/>
                  </a:lnTo>
                  <a:lnTo>
                    <a:pt x="676" y="424"/>
                  </a:lnTo>
                  <a:lnTo>
                    <a:pt x="637" y="440"/>
                  </a:lnTo>
                  <a:lnTo>
                    <a:pt x="598" y="454"/>
                  </a:lnTo>
                  <a:lnTo>
                    <a:pt x="559" y="469"/>
                  </a:lnTo>
                  <a:lnTo>
                    <a:pt x="519" y="483"/>
                  </a:lnTo>
                  <a:lnTo>
                    <a:pt x="480" y="496"/>
                  </a:lnTo>
                  <a:lnTo>
                    <a:pt x="440" y="509"/>
                  </a:lnTo>
                  <a:lnTo>
                    <a:pt x="405" y="520"/>
                  </a:lnTo>
                  <a:lnTo>
                    <a:pt x="370" y="531"/>
                  </a:lnTo>
                  <a:lnTo>
                    <a:pt x="334" y="542"/>
                  </a:lnTo>
                  <a:lnTo>
                    <a:pt x="300" y="553"/>
                  </a:lnTo>
                  <a:lnTo>
                    <a:pt x="265" y="562"/>
                  </a:lnTo>
                  <a:lnTo>
                    <a:pt x="230" y="571"/>
                  </a:lnTo>
                  <a:lnTo>
                    <a:pt x="196" y="578"/>
                  </a:lnTo>
                  <a:lnTo>
                    <a:pt x="163" y="584"/>
                  </a:lnTo>
                  <a:lnTo>
                    <a:pt x="144" y="586"/>
                  </a:lnTo>
                  <a:lnTo>
                    <a:pt x="124" y="587"/>
                  </a:lnTo>
                  <a:lnTo>
                    <a:pt x="106" y="587"/>
                  </a:lnTo>
                  <a:lnTo>
                    <a:pt x="91" y="586"/>
                  </a:lnTo>
                  <a:lnTo>
                    <a:pt x="75" y="585"/>
                  </a:lnTo>
                  <a:lnTo>
                    <a:pt x="61" y="583"/>
                  </a:lnTo>
                  <a:lnTo>
                    <a:pt x="49" y="579"/>
                  </a:lnTo>
                  <a:lnTo>
                    <a:pt x="38" y="574"/>
                  </a:lnTo>
                  <a:lnTo>
                    <a:pt x="33" y="571"/>
                  </a:lnTo>
                  <a:lnTo>
                    <a:pt x="28" y="568"/>
                  </a:lnTo>
                  <a:lnTo>
                    <a:pt x="25" y="565"/>
                  </a:lnTo>
                  <a:lnTo>
                    <a:pt x="21" y="560"/>
                  </a:lnTo>
                  <a:lnTo>
                    <a:pt x="15" y="551"/>
                  </a:lnTo>
                  <a:lnTo>
                    <a:pt x="12" y="543"/>
                  </a:lnTo>
                  <a:lnTo>
                    <a:pt x="9" y="533"/>
                  </a:lnTo>
                  <a:lnTo>
                    <a:pt x="7" y="524"/>
                  </a:lnTo>
                  <a:lnTo>
                    <a:pt x="3" y="514"/>
                  </a:lnTo>
                  <a:lnTo>
                    <a:pt x="1" y="505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97040" y="1550880"/>
              <a:ext cx="125640" cy="57240"/>
            </a:xfrm>
            <a:custGeom>
              <a:avLst/>
              <a:gdLst/>
              <a:ahLst/>
              <a:rect l="l" t="t" r="r" b="b"/>
              <a:pathLst>
                <a:path w="315" h="142">
                  <a:moveTo>
                    <a:pt x="1" y="126"/>
                  </a:moveTo>
                  <a:lnTo>
                    <a:pt x="0" y="121"/>
                  </a:lnTo>
                  <a:lnTo>
                    <a:pt x="0" y="115"/>
                  </a:lnTo>
                  <a:lnTo>
                    <a:pt x="2" y="109"/>
                  </a:lnTo>
                  <a:lnTo>
                    <a:pt x="6" y="103"/>
                  </a:lnTo>
                  <a:lnTo>
                    <a:pt x="10" y="97"/>
                  </a:lnTo>
                  <a:lnTo>
                    <a:pt x="18" y="91"/>
                  </a:lnTo>
                  <a:lnTo>
                    <a:pt x="25" y="84"/>
                  </a:lnTo>
                  <a:lnTo>
                    <a:pt x="34" y="78"/>
                  </a:lnTo>
                  <a:lnTo>
                    <a:pt x="55" y="64"/>
                  </a:lnTo>
                  <a:lnTo>
                    <a:pt x="80" y="50"/>
                  </a:lnTo>
                  <a:lnTo>
                    <a:pt x="109" y="37"/>
                  </a:lnTo>
                  <a:lnTo>
                    <a:pt x="140" y="25"/>
                  </a:lnTo>
                  <a:lnTo>
                    <a:pt x="171" y="16"/>
                  </a:lnTo>
                  <a:lnTo>
                    <a:pt x="202" y="8"/>
                  </a:lnTo>
                  <a:lnTo>
                    <a:pt x="230" y="2"/>
                  </a:lnTo>
                  <a:lnTo>
                    <a:pt x="255" y="0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86" y="1"/>
                  </a:lnTo>
                  <a:lnTo>
                    <a:pt x="295" y="2"/>
                  </a:lnTo>
                  <a:lnTo>
                    <a:pt x="302" y="5"/>
                  </a:lnTo>
                  <a:lnTo>
                    <a:pt x="308" y="8"/>
                  </a:lnTo>
                  <a:lnTo>
                    <a:pt x="312" y="12"/>
                  </a:lnTo>
                  <a:lnTo>
                    <a:pt x="314" y="16"/>
                  </a:lnTo>
                  <a:lnTo>
                    <a:pt x="315" y="20"/>
                  </a:lnTo>
                  <a:lnTo>
                    <a:pt x="315" y="26"/>
                  </a:lnTo>
                  <a:lnTo>
                    <a:pt x="313" y="31"/>
                  </a:lnTo>
                  <a:lnTo>
                    <a:pt x="309" y="37"/>
                  </a:lnTo>
                  <a:lnTo>
                    <a:pt x="304" y="44"/>
                  </a:lnTo>
                  <a:lnTo>
                    <a:pt x="297" y="50"/>
                  </a:lnTo>
                  <a:lnTo>
                    <a:pt x="290" y="56"/>
                  </a:lnTo>
                  <a:lnTo>
                    <a:pt x="282" y="64"/>
                  </a:lnTo>
                  <a:lnTo>
                    <a:pt x="260" y="77"/>
                  </a:lnTo>
                  <a:lnTo>
                    <a:pt x="235" y="91"/>
                  </a:lnTo>
                  <a:lnTo>
                    <a:pt x="207" y="103"/>
                  </a:lnTo>
                  <a:lnTo>
                    <a:pt x="176" y="115"/>
                  </a:lnTo>
                  <a:lnTo>
                    <a:pt x="144" y="126"/>
                  </a:lnTo>
                  <a:lnTo>
                    <a:pt x="114" y="133"/>
                  </a:lnTo>
                  <a:lnTo>
                    <a:pt x="85" y="138"/>
                  </a:lnTo>
                  <a:lnTo>
                    <a:pt x="60" y="142"/>
                  </a:lnTo>
                  <a:lnTo>
                    <a:pt x="48" y="142"/>
                  </a:lnTo>
                  <a:lnTo>
                    <a:pt x="38" y="142"/>
                  </a:lnTo>
                  <a:lnTo>
                    <a:pt x="28" y="140"/>
                  </a:lnTo>
                  <a:lnTo>
                    <a:pt x="20" y="139"/>
                  </a:lnTo>
                  <a:lnTo>
                    <a:pt x="13" y="137"/>
                  </a:lnTo>
                  <a:lnTo>
                    <a:pt x="7" y="133"/>
                  </a:lnTo>
                  <a:lnTo>
                    <a:pt x="3" y="130"/>
                  </a:lnTo>
                  <a:lnTo>
                    <a:pt x="1" y="126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16120" y="1557360"/>
              <a:ext cx="96840" cy="41400"/>
            </a:xfrm>
            <a:custGeom>
              <a:avLst/>
              <a:gdLst/>
              <a:ahLst/>
              <a:rect l="l" t="t" r="r" b="b"/>
              <a:pathLst>
                <a:path w="246" h="102">
                  <a:moveTo>
                    <a:pt x="1" y="93"/>
                  </a:moveTo>
                  <a:lnTo>
                    <a:pt x="0" y="90"/>
                  </a:lnTo>
                  <a:lnTo>
                    <a:pt x="1" y="87"/>
                  </a:lnTo>
                  <a:lnTo>
                    <a:pt x="4" y="82"/>
                  </a:lnTo>
                  <a:lnTo>
                    <a:pt x="6" y="79"/>
                  </a:lnTo>
                  <a:lnTo>
                    <a:pt x="16" y="70"/>
                  </a:lnTo>
                  <a:lnTo>
                    <a:pt x="29" y="61"/>
                  </a:lnTo>
                  <a:lnTo>
                    <a:pt x="46" y="51"/>
                  </a:lnTo>
                  <a:lnTo>
                    <a:pt x="66" y="42"/>
                  </a:lnTo>
                  <a:lnTo>
                    <a:pt x="88" y="32"/>
                  </a:lnTo>
                  <a:lnTo>
                    <a:pt x="112" y="22"/>
                  </a:lnTo>
                  <a:lnTo>
                    <a:pt x="137" y="14"/>
                  </a:lnTo>
                  <a:lnTo>
                    <a:pt x="161" y="8"/>
                  </a:lnTo>
                  <a:lnTo>
                    <a:pt x="182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32" y="0"/>
                  </a:lnTo>
                  <a:lnTo>
                    <a:pt x="236" y="1"/>
                  </a:lnTo>
                  <a:lnTo>
                    <a:pt x="241" y="3"/>
                  </a:lnTo>
                  <a:lnTo>
                    <a:pt x="244" y="6"/>
                  </a:lnTo>
                  <a:lnTo>
                    <a:pt x="246" y="8"/>
                  </a:lnTo>
                  <a:lnTo>
                    <a:pt x="246" y="10"/>
                  </a:lnTo>
                  <a:lnTo>
                    <a:pt x="246" y="14"/>
                  </a:lnTo>
                  <a:lnTo>
                    <a:pt x="244" y="18"/>
                  </a:lnTo>
                  <a:lnTo>
                    <a:pt x="240" y="22"/>
                  </a:lnTo>
                  <a:lnTo>
                    <a:pt x="232" y="31"/>
                  </a:lnTo>
                  <a:lnTo>
                    <a:pt x="218" y="40"/>
                  </a:lnTo>
                  <a:lnTo>
                    <a:pt x="202" y="50"/>
                  </a:lnTo>
                  <a:lnTo>
                    <a:pt x="181" y="60"/>
                  </a:lnTo>
                  <a:lnTo>
                    <a:pt x="160" y="69"/>
                  </a:lnTo>
                  <a:lnTo>
                    <a:pt x="134" y="79"/>
                  </a:lnTo>
                  <a:lnTo>
                    <a:pt x="110" y="86"/>
                  </a:lnTo>
                  <a:lnTo>
                    <a:pt x="86" y="93"/>
                  </a:lnTo>
                  <a:lnTo>
                    <a:pt x="65" y="98"/>
                  </a:lnTo>
                  <a:lnTo>
                    <a:pt x="44" y="100"/>
                  </a:lnTo>
                  <a:lnTo>
                    <a:pt x="29" y="102"/>
                  </a:lnTo>
                  <a:lnTo>
                    <a:pt x="16" y="100"/>
                  </a:lnTo>
                  <a:lnTo>
                    <a:pt x="10" y="99"/>
                  </a:lnTo>
                  <a:lnTo>
                    <a:pt x="6" y="98"/>
                  </a:lnTo>
                  <a:lnTo>
                    <a:pt x="2" y="96"/>
                  </a:lnTo>
                  <a:lnTo>
                    <a:pt x="1" y="93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33760" y="1579680"/>
              <a:ext cx="17280" cy="936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18"/>
                  </a:moveTo>
                  <a:lnTo>
                    <a:pt x="0" y="17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6" y="5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6" y="5"/>
                  </a:lnTo>
                  <a:lnTo>
                    <a:pt x="45" y="6"/>
                  </a:lnTo>
                  <a:lnTo>
                    <a:pt x="44" y="8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4"/>
                  </a:lnTo>
                  <a:lnTo>
                    <a:pt x="30" y="17"/>
                  </a:lnTo>
                  <a:lnTo>
                    <a:pt x="26" y="18"/>
                  </a:lnTo>
                  <a:lnTo>
                    <a:pt x="22" y="19"/>
                  </a:lnTo>
                  <a:lnTo>
                    <a:pt x="17" y="20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33760" y="1579680"/>
              <a:ext cx="17280" cy="936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18"/>
                  </a:moveTo>
                  <a:lnTo>
                    <a:pt x="0" y="17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6" y="5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6" y="5"/>
                  </a:lnTo>
                  <a:lnTo>
                    <a:pt x="45" y="6"/>
                  </a:lnTo>
                  <a:lnTo>
                    <a:pt x="44" y="8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4"/>
                  </a:lnTo>
                  <a:lnTo>
                    <a:pt x="30" y="17"/>
                  </a:lnTo>
                  <a:lnTo>
                    <a:pt x="26" y="18"/>
                  </a:lnTo>
                  <a:lnTo>
                    <a:pt x="22" y="19"/>
                  </a:lnTo>
                  <a:lnTo>
                    <a:pt x="17" y="20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33640" y="1274760"/>
              <a:ext cx="473040" cy="206280"/>
            </a:xfrm>
            <a:custGeom>
              <a:avLst/>
              <a:gdLst/>
              <a:ahLst/>
              <a:rect l="l" t="t" r="r" b="b"/>
              <a:pathLst>
                <a:path w="1190" h="521">
                  <a:moveTo>
                    <a:pt x="0" y="474"/>
                  </a:moveTo>
                  <a:lnTo>
                    <a:pt x="0" y="471"/>
                  </a:lnTo>
                  <a:lnTo>
                    <a:pt x="2" y="466"/>
                  </a:lnTo>
                  <a:lnTo>
                    <a:pt x="6" y="460"/>
                  </a:lnTo>
                  <a:lnTo>
                    <a:pt x="11" y="454"/>
                  </a:lnTo>
                  <a:lnTo>
                    <a:pt x="26" y="441"/>
                  </a:lnTo>
                  <a:lnTo>
                    <a:pt x="45" y="425"/>
                  </a:lnTo>
                  <a:lnTo>
                    <a:pt x="67" y="408"/>
                  </a:lnTo>
                  <a:lnTo>
                    <a:pt x="91" y="393"/>
                  </a:lnTo>
                  <a:lnTo>
                    <a:pt x="114" y="377"/>
                  </a:lnTo>
                  <a:lnTo>
                    <a:pt x="134" y="364"/>
                  </a:lnTo>
                  <a:lnTo>
                    <a:pt x="158" y="348"/>
                  </a:lnTo>
                  <a:lnTo>
                    <a:pt x="177" y="336"/>
                  </a:lnTo>
                  <a:lnTo>
                    <a:pt x="193" y="328"/>
                  </a:lnTo>
                  <a:lnTo>
                    <a:pt x="209" y="319"/>
                  </a:lnTo>
                  <a:lnTo>
                    <a:pt x="225" y="312"/>
                  </a:lnTo>
                  <a:lnTo>
                    <a:pt x="246" y="304"/>
                  </a:lnTo>
                  <a:lnTo>
                    <a:pt x="273" y="293"/>
                  </a:lnTo>
                  <a:lnTo>
                    <a:pt x="309" y="277"/>
                  </a:lnTo>
                  <a:lnTo>
                    <a:pt x="363" y="257"/>
                  </a:lnTo>
                  <a:lnTo>
                    <a:pt x="422" y="235"/>
                  </a:lnTo>
                  <a:lnTo>
                    <a:pt x="482" y="215"/>
                  </a:lnTo>
                  <a:lnTo>
                    <a:pt x="545" y="193"/>
                  </a:lnTo>
                  <a:lnTo>
                    <a:pt x="607" y="173"/>
                  </a:lnTo>
                  <a:lnTo>
                    <a:pt x="668" y="153"/>
                  </a:lnTo>
                  <a:lnTo>
                    <a:pt x="728" y="132"/>
                  </a:lnTo>
                  <a:lnTo>
                    <a:pt x="783" y="113"/>
                  </a:lnTo>
                  <a:lnTo>
                    <a:pt x="824" y="97"/>
                  </a:lnTo>
                  <a:lnTo>
                    <a:pt x="863" y="82"/>
                  </a:lnTo>
                  <a:lnTo>
                    <a:pt x="899" y="67"/>
                  </a:lnTo>
                  <a:lnTo>
                    <a:pt x="933" y="52"/>
                  </a:lnTo>
                  <a:lnTo>
                    <a:pt x="967" y="37"/>
                  </a:lnTo>
                  <a:lnTo>
                    <a:pt x="1002" y="25"/>
                  </a:lnTo>
                  <a:lnTo>
                    <a:pt x="1019" y="19"/>
                  </a:lnTo>
                  <a:lnTo>
                    <a:pt x="1037" y="15"/>
                  </a:lnTo>
                  <a:lnTo>
                    <a:pt x="1055" y="10"/>
                  </a:lnTo>
                  <a:lnTo>
                    <a:pt x="1074" y="6"/>
                  </a:lnTo>
                  <a:lnTo>
                    <a:pt x="1099" y="1"/>
                  </a:lnTo>
                  <a:lnTo>
                    <a:pt x="1119" y="0"/>
                  </a:lnTo>
                  <a:lnTo>
                    <a:pt x="1136" y="1"/>
                  </a:lnTo>
                  <a:lnTo>
                    <a:pt x="1151" y="4"/>
                  </a:lnTo>
                  <a:lnTo>
                    <a:pt x="1161" y="9"/>
                  </a:lnTo>
                  <a:lnTo>
                    <a:pt x="1170" y="15"/>
                  </a:lnTo>
                  <a:lnTo>
                    <a:pt x="1177" y="19"/>
                  </a:lnTo>
                  <a:lnTo>
                    <a:pt x="1184" y="25"/>
                  </a:lnTo>
                  <a:lnTo>
                    <a:pt x="1188" y="31"/>
                  </a:lnTo>
                  <a:lnTo>
                    <a:pt x="1190" y="39"/>
                  </a:lnTo>
                  <a:lnTo>
                    <a:pt x="1190" y="46"/>
                  </a:lnTo>
                  <a:lnTo>
                    <a:pt x="1188" y="54"/>
                  </a:lnTo>
                  <a:lnTo>
                    <a:pt x="1183" y="63"/>
                  </a:lnTo>
                  <a:lnTo>
                    <a:pt x="1177" y="72"/>
                  </a:lnTo>
                  <a:lnTo>
                    <a:pt x="1170" y="82"/>
                  </a:lnTo>
                  <a:lnTo>
                    <a:pt x="1160" y="91"/>
                  </a:lnTo>
                  <a:lnTo>
                    <a:pt x="1148" y="103"/>
                  </a:lnTo>
                  <a:lnTo>
                    <a:pt x="1135" y="114"/>
                  </a:lnTo>
                  <a:lnTo>
                    <a:pt x="1119" y="127"/>
                  </a:lnTo>
                  <a:lnTo>
                    <a:pt x="1103" y="139"/>
                  </a:lnTo>
                  <a:lnTo>
                    <a:pt x="1085" y="153"/>
                  </a:lnTo>
                  <a:lnTo>
                    <a:pt x="1064" y="166"/>
                  </a:lnTo>
                  <a:lnTo>
                    <a:pt x="1041" y="179"/>
                  </a:lnTo>
                  <a:lnTo>
                    <a:pt x="1016" y="192"/>
                  </a:lnTo>
                  <a:lnTo>
                    <a:pt x="984" y="208"/>
                  </a:lnTo>
                  <a:lnTo>
                    <a:pt x="949" y="223"/>
                  </a:lnTo>
                  <a:lnTo>
                    <a:pt x="913" y="239"/>
                  </a:lnTo>
                  <a:lnTo>
                    <a:pt x="877" y="253"/>
                  </a:lnTo>
                  <a:lnTo>
                    <a:pt x="839" y="269"/>
                  </a:lnTo>
                  <a:lnTo>
                    <a:pt x="800" y="283"/>
                  </a:lnTo>
                  <a:lnTo>
                    <a:pt x="763" y="298"/>
                  </a:lnTo>
                  <a:lnTo>
                    <a:pt x="725" y="312"/>
                  </a:lnTo>
                  <a:lnTo>
                    <a:pt x="686" y="327"/>
                  </a:lnTo>
                  <a:lnTo>
                    <a:pt x="648" y="342"/>
                  </a:lnTo>
                  <a:lnTo>
                    <a:pt x="608" y="357"/>
                  </a:lnTo>
                  <a:lnTo>
                    <a:pt x="569" y="371"/>
                  </a:lnTo>
                  <a:lnTo>
                    <a:pt x="529" y="385"/>
                  </a:lnTo>
                  <a:lnTo>
                    <a:pt x="491" y="400"/>
                  </a:lnTo>
                  <a:lnTo>
                    <a:pt x="451" y="414"/>
                  </a:lnTo>
                  <a:lnTo>
                    <a:pt x="411" y="427"/>
                  </a:lnTo>
                  <a:lnTo>
                    <a:pt x="377" y="439"/>
                  </a:lnTo>
                  <a:lnTo>
                    <a:pt x="342" y="450"/>
                  </a:lnTo>
                  <a:lnTo>
                    <a:pt x="307" y="462"/>
                  </a:lnTo>
                  <a:lnTo>
                    <a:pt x="272" y="473"/>
                  </a:lnTo>
                  <a:lnTo>
                    <a:pt x="239" y="484"/>
                  </a:lnTo>
                  <a:lnTo>
                    <a:pt x="204" y="493"/>
                  </a:lnTo>
                  <a:lnTo>
                    <a:pt x="171" y="502"/>
                  </a:lnTo>
                  <a:lnTo>
                    <a:pt x="139" y="510"/>
                  </a:lnTo>
                  <a:lnTo>
                    <a:pt x="120" y="514"/>
                  </a:lnTo>
                  <a:lnTo>
                    <a:pt x="102" y="517"/>
                  </a:lnTo>
                  <a:lnTo>
                    <a:pt x="85" y="520"/>
                  </a:lnTo>
                  <a:lnTo>
                    <a:pt x="71" y="521"/>
                  </a:lnTo>
                  <a:lnTo>
                    <a:pt x="56" y="521"/>
                  </a:lnTo>
                  <a:lnTo>
                    <a:pt x="44" y="521"/>
                  </a:lnTo>
                  <a:lnTo>
                    <a:pt x="33" y="520"/>
                  </a:lnTo>
                  <a:lnTo>
                    <a:pt x="24" y="517"/>
                  </a:lnTo>
                  <a:lnTo>
                    <a:pt x="15" y="515"/>
                  </a:lnTo>
                  <a:lnTo>
                    <a:pt x="9" y="510"/>
                  </a:lnTo>
                  <a:lnTo>
                    <a:pt x="6" y="505"/>
                  </a:lnTo>
                  <a:lnTo>
                    <a:pt x="3" y="499"/>
                  </a:lnTo>
                  <a:lnTo>
                    <a:pt x="2" y="493"/>
                  </a:lnTo>
                  <a:lnTo>
                    <a:pt x="2" y="486"/>
                  </a:lnTo>
                  <a:lnTo>
                    <a:pt x="1" y="480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97080" y="1362240"/>
              <a:ext cx="123840" cy="48960"/>
            </a:xfrm>
            <a:custGeom>
              <a:avLst/>
              <a:gdLst/>
              <a:ahLst/>
              <a:rect l="l" t="t" r="r" b="b"/>
              <a:pathLst>
                <a:path w="313" h="124">
                  <a:moveTo>
                    <a:pt x="0" y="118"/>
                  </a:moveTo>
                  <a:lnTo>
                    <a:pt x="0" y="115"/>
                  </a:lnTo>
                  <a:lnTo>
                    <a:pt x="1" y="111"/>
                  </a:lnTo>
                  <a:lnTo>
                    <a:pt x="5" y="106"/>
                  </a:lnTo>
                  <a:lnTo>
                    <a:pt x="9" y="103"/>
                  </a:lnTo>
                  <a:lnTo>
                    <a:pt x="22" y="92"/>
                  </a:lnTo>
                  <a:lnTo>
                    <a:pt x="40" y="81"/>
                  </a:lnTo>
                  <a:lnTo>
                    <a:pt x="61" y="69"/>
                  </a:lnTo>
                  <a:lnTo>
                    <a:pt x="87" y="57"/>
                  </a:lnTo>
                  <a:lnTo>
                    <a:pt x="115" y="45"/>
                  </a:lnTo>
                  <a:lnTo>
                    <a:pt x="148" y="33"/>
                  </a:lnTo>
                  <a:lnTo>
                    <a:pt x="179" y="22"/>
                  </a:lnTo>
                  <a:lnTo>
                    <a:pt x="209" y="14"/>
                  </a:lnTo>
                  <a:lnTo>
                    <a:pt x="237" y="7"/>
                  </a:lnTo>
                  <a:lnTo>
                    <a:pt x="261" y="2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04" y="1"/>
                  </a:lnTo>
                  <a:lnTo>
                    <a:pt x="309" y="2"/>
                  </a:lnTo>
                  <a:lnTo>
                    <a:pt x="311" y="4"/>
                  </a:lnTo>
                  <a:lnTo>
                    <a:pt x="313" y="7"/>
                  </a:lnTo>
                  <a:lnTo>
                    <a:pt x="313" y="10"/>
                  </a:lnTo>
                  <a:lnTo>
                    <a:pt x="312" y="14"/>
                  </a:lnTo>
                  <a:lnTo>
                    <a:pt x="309" y="18"/>
                  </a:lnTo>
                  <a:lnTo>
                    <a:pt x="305" y="22"/>
                  </a:lnTo>
                  <a:lnTo>
                    <a:pt x="292" y="32"/>
                  </a:lnTo>
                  <a:lnTo>
                    <a:pt x="274" y="44"/>
                  </a:lnTo>
                  <a:lnTo>
                    <a:pt x="252" y="55"/>
                  </a:lnTo>
                  <a:lnTo>
                    <a:pt x="226" y="68"/>
                  </a:lnTo>
                  <a:lnTo>
                    <a:pt x="197" y="80"/>
                  </a:lnTo>
                  <a:lnTo>
                    <a:pt x="166" y="91"/>
                  </a:lnTo>
                  <a:lnTo>
                    <a:pt x="135" y="102"/>
                  </a:lnTo>
                  <a:lnTo>
                    <a:pt x="105" y="111"/>
                  </a:lnTo>
                  <a:lnTo>
                    <a:pt x="77" y="117"/>
                  </a:lnTo>
                  <a:lnTo>
                    <a:pt x="53" y="122"/>
                  </a:lnTo>
                  <a:lnTo>
                    <a:pt x="33" y="124"/>
                  </a:lnTo>
                  <a:lnTo>
                    <a:pt x="16" y="124"/>
                  </a:lnTo>
                  <a:lnTo>
                    <a:pt x="10" y="124"/>
                  </a:lnTo>
                  <a:lnTo>
                    <a:pt x="5" y="123"/>
                  </a:lnTo>
                  <a:lnTo>
                    <a:pt x="1" y="12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14720" y="1366920"/>
              <a:ext cx="96840" cy="36360"/>
            </a:xfrm>
            <a:custGeom>
              <a:avLst/>
              <a:gdLst/>
              <a:ahLst/>
              <a:rect l="l" t="t" r="r" b="b"/>
              <a:pathLst>
                <a:path w="243" h="93">
                  <a:moveTo>
                    <a:pt x="0" y="90"/>
                  </a:moveTo>
                  <a:lnTo>
                    <a:pt x="0" y="87"/>
                  </a:lnTo>
                  <a:lnTo>
                    <a:pt x="1" y="85"/>
                  </a:lnTo>
                  <a:lnTo>
                    <a:pt x="3" y="82"/>
                  </a:lnTo>
                  <a:lnTo>
                    <a:pt x="7" y="79"/>
                  </a:lnTo>
                  <a:lnTo>
                    <a:pt x="18" y="72"/>
                  </a:lnTo>
                  <a:lnTo>
                    <a:pt x="31" y="64"/>
                  </a:lnTo>
                  <a:lnTo>
                    <a:pt x="49" y="56"/>
                  </a:lnTo>
                  <a:lnTo>
                    <a:pt x="69" y="46"/>
                  </a:lnTo>
                  <a:lnTo>
                    <a:pt x="91" y="37"/>
                  </a:lnTo>
                  <a:lnTo>
                    <a:pt x="116" y="28"/>
                  </a:lnTo>
                  <a:lnTo>
                    <a:pt x="140" y="20"/>
                  </a:lnTo>
                  <a:lnTo>
                    <a:pt x="164" y="13"/>
                  </a:lnTo>
                  <a:lnTo>
                    <a:pt x="184" y="7"/>
                  </a:lnTo>
                  <a:lnTo>
                    <a:pt x="204" y="3"/>
                  </a:lnTo>
                  <a:lnTo>
                    <a:pt x="219" y="0"/>
                  </a:lnTo>
                  <a:lnTo>
                    <a:pt x="231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2" y="1"/>
                  </a:lnTo>
                  <a:lnTo>
                    <a:pt x="243" y="3"/>
                  </a:lnTo>
                  <a:lnTo>
                    <a:pt x="243" y="4"/>
                  </a:lnTo>
                  <a:lnTo>
                    <a:pt x="242" y="7"/>
                  </a:lnTo>
                  <a:lnTo>
                    <a:pt x="240" y="10"/>
                  </a:lnTo>
                  <a:lnTo>
                    <a:pt x="236" y="13"/>
                  </a:lnTo>
                  <a:lnTo>
                    <a:pt x="226" y="20"/>
                  </a:lnTo>
                  <a:lnTo>
                    <a:pt x="212" y="28"/>
                  </a:lnTo>
                  <a:lnTo>
                    <a:pt x="195" y="37"/>
                  </a:lnTo>
                  <a:lnTo>
                    <a:pt x="175" y="46"/>
                  </a:lnTo>
                  <a:lnTo>
                    <a:pt x="152" y="55"/>
                  </a:lnTo>
                  <a:lnTo>
                    <a:pt x="128" y="64"/>
                  </a:lnTo>
                  <a:lnTo>
                    <a:pt x="103" y="73"/>
                  </a:lnTo>
                  <a:lnTo>
                    <a:pt x="80" y="80"/>
                  </a:lnTo>
                  <a:lnTo>
                    <a:pt x="58" y="86"/>
                  </a:lnTo>
                  <a:lnTo>
                    <a:pt x="39" y="90"/>
                  </a:lnTo>
                  <a:lnTo>
                    <a:pt x="24" y="92"/>
                  </a:lnTo>
                  <a:lnTo>
                    <a:pt x="12" y="93"/>
                  </a:lnTo>
                  <a:lnTo>
                    <a:pt x="7" y="93"/>
                  </a:lnTo>
                  <a:lnTo>
                    <a:pt x="3" y="92"/>
                  </a:lnTo>
                  <a:lnTo>
                    <a:pt x="1" y="9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32000" y="1389240"/>
              <a:ext cx="17640" cy="612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7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5" y="11"/>
                  </a:lnTo>
                  <a:lnTo>
                    <a:pt x="8" y="9"/>
                  </a:lnTo>
                  <a:lnTo>
                    <a:pt x="12" y="7"/>
                  </a:lnTo>
                  <a:lnTo>
                    <a:pt x="16" y="6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4" y="2"/>
                  </a:lnTo>
                  <a:lnTo>
                    <a:pt x="43" y="3"/>
                  </a:lnTo>
                  <a:lnTo>
                    <a:pt x="42" y="5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32000" y="1389240"/>
              <a:ext cx="17640" cy="612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7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5" y="11"/>
                  </a:lnTo>
                  <a:lnTo>
                    <a:pt x="8" y="9"/>
                  </a:lnTo>
                  <a:lnTo>
                    <a:pt x="12" y="7"/>
                  </a:lnTo>
                  <a:lnTo>
                    <a:pt x="16" y="6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4" y="2"/>
                  </a:lnTo>
                  <a:lnTo>
                    <a:pt x="43" y="3"/>
                  </a:lnTo>
                  <a:lnTo>
                    <a:pt x="42" y="5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24160" y="1643040"/>
              <a:ext cx="563400" cy="482760"/>
            </a:xfrm>
            <a:custGeom>
              <a:avLst/>
              <a:gdLst/>
              <a:ahLst/>
              <a:rect l="l" t="t" r="r" b="b"/>
              <a:pathLst>
                <a:path w="1424" h="1216">
                  <a:moveTo>
                    <a:pt x="155" y="797"/>
                  </a:moveTo>
                  <a:lnTo>
                    <a:pt x="144" y="778"/>
                  </a:lnTo>
                  <a:lnTo>
                    <a:pt x="132" y="757"/>
                  </a:lnTo>
                  <a:lnTo>
                    <a:pt x="119" y="738"/>
                  </a:lnTo>
                  <a:lnTo>
                    <a:pt x="106" y="718"/>
                  </a:lnTo>
                  <a:lnTo>
                    <a:pt x="78" y="676"/>
                  </a:lnTo>
                  <a:lnTo>
                    <a:pt x="51" y="635"/>
                  </a:lnTo>
                  <a:lnTo>
                    <a:pt x="39" y="615"/>
                  </a:lnTo>
                  <a:lnTo>
                    <a:pt x="28" y="595"/>
                  </a:lnTo>
                  <a:lnTo>
                    <a:pt x="18" y="575"/>
                  </a:lnTo>
                  <a:lnTo>
                    <a:pt x="10" y="556"/>
                  </a:lnTo>
                  <a:lnTo>
                    <a:pt x="5" y="537"/>
                  </a:lnTo>
                  <a:lnTo>
                    <a:pt x="2" y="519"/>
                  </a:lnTo>
                  <a:lnTo>
                    <a:pt x="0" y="510"/>
                  </a:lnTo>
                  <a:lnTo>
                    <a:pt x="0" y="501"/>
                  </a:lnTo>
                  <a:lnTo>
                    <a:pt x="0" y="492"/>
                  </a:lnTo>
                  <a:lnTo>
                    <a:pt x="3" y="484"/>
                  </a:lnTo>
                  <a:lnTo>
                    <a:pt x="5" y="472"/>
                  </a:lnTo>
                  <a:lnTo>
                    <a:pt x="9" y="460"/>
                  </a:lnTo>
                  <a:lnTo>
                    <a:pt x="14" y="449"/>
                  </a:lnTo>
                  <a:lnTo>
                    <a:pt x="18" y="438"/>
                  </a:lnTo>
                  <a:lnTo>
                    <a:pt x="23" y="429"/>
                  </a:lnTo>
                  <a:lnTo>
                    <a:pt x="29" y="418"/>
                  </a:lnTo>
                  <a:lnTo>
                    <a:pt x="35" y="409"/>
                  </a:lnTo>
                  <a:lnTo>
                    <a:pt x="42" y="400"/>
                  </a:lnTo>
                  <a:lnTo>
                    <a:pt x="57" y="384"/>
                  </a:lnTo>
                  <a:lnTo>
                    <a:pt x="74" y="369"/>
                  </a:lnTo>
                  <a:lnTo>
                    <a:pt x="92" y="354"/>
                  </a:lnTo>
                  <a:lnTo>
                    <a:pt x="110" y="341"/>
                  </a:lnTo>
                  <a:lnTo>
                    <a:pt x="130" y="329"/>
                  </a:lnTo>
                  <a:lnTo>
                    <a:pt x="150" y="317"/>
                  </a:lnTo>
                  <a:lnTo>
                    <a:pt x="171" y="306"/>
                  </a:lnTo>
                  <a:lnTo>
                    <a:pt x="191" y="296"/>
                  </a:lnTo>
                  <a:lnTo>
                    <a:pt x="233" y="274"/>
                  </a:lnTo>
                  <a:lnTo>
                    <a:pt x="273" y="252"/>
                  </a:lnTo>
                  <a:lnTo>
                    <a:pt x="322" y="225"/>
                  </a:lnTo>
                  <a:lnTo>
                    <a:pt x="371" y="198"/>
                  </a:lnTo>
                  <a:lnTo>
                    <a:pt x="423" y="173"/>
                  </a:lnTo>
                  <a:lnTo>
                    <a:pt x="474" y="150"/>
                  </a:lnTo>
                  <a:lnTo>
                    <a:pt x="527" y="129"/>
                  </a:lnTo>
                  <a:lnTo>
                    <a:pt x="581" y="108"/>
                  </a:lnTo>
                  <a:lnTo>
                    <a:pt x="635" y="90"/>
                  </a:lnTo>
                  <a:lnTo>
                    <a:pt x="690" y="72"/>
                  </a:lnTo>
                  <a:lnTo>
                    <a:pt x="734" y="58"/>
                  </a:lnTo>
                  <a:lnTo>
                    <a:pt x="777" y="42"/>
                  </a:lnTo>
                  <a:lnTo>
                    <a:pt x="820" y="27"/>
                  </a:lnTo>
                  <a:lnTo>
                    <a:pt x="866" y="14"/>
                  </a:lnTo>
                  <a:lnTo>
                    <a:pt x="887" y="8"/>
                  </a:lnTo>
                  <a:lnTo>
                    <a:pt x="911" y="4"/>
                  </a:lnTo>
                  <a:lnTo>
                    <a:pt x="934" y="0"/>
                  </a:lnTo>
                  <a:lnTo>
                    <a:pt x="958" y="0"/>
                  </a:lnTo>
                  <a:lnTo>
                    <a:pt x="982" y="0"/>
                  </a:lnTo>
                  <a:lnTo>
                    <a:pt x="1006" y="4"/>
                  </a:lnTo>
                  <a:lnTo>
                    <a:pt x="1031" y="9"/>
                  </a:lnTo>
                  <a:lnTo>
                    <a:pt x="1058" y="17"/>
                  </a:lnTo>
                  <a:lnTo>
                    <a:pt x="1076" y="24"/>
                  </a:lnTo>
                  <a:lnTo>
                    <a:pt x="1095" y="35"/>
                  </a:lnTo>
                  <a:lnTo>
                    <a:pt x="1113" y="47"/>
                  </a:lnTo>
                  <a:lnTo>
                    <a:pt x="1130" y="60"/>
                  </a:lnTo>
                  <a:lnTo>
                    <a:pt x="1148" y="76"/>
                  </a:lnTo>
                  <a:lnTo>
                    <a:pt x="1164" y="93"/>
                  </a:lnTo>
                  <a:lnTo>
                    <a:pt x="1180" y="111"/>
                  </a:lnTo>
                  <a:lnTo>
                    <a:pt x="1197" y="129"/>
                  </a:lnTo>
                  <a:lnTo>
                    <a:pt x="1211" y="149"/>
                  </a:lnTo>
                  <a:lnTo>
                    <a:pt x="1227" y="170"/>
                  </a:lnTo>
                  <a:lnTo>
                    <a:pt x="1241" y="190"/>
                  </a:lnTo>
                  <a:lnTo>
                    <a:pt x="1256" y="212"/>
                  </a:lnTo>
                  <a:lnTo>
                    <a:pt x="1283" y="254"/>
                  </a:lnTo>
                  <a:lnTo>
                    <a:pt x="1308" y="294"/>
                  </a:lnTo>
                  <a:lnTo>
                    <a:pt x="1330" y="330"/>
                  </a:lnTo>
                  <a:lnTo>
                    <a:pt x="1348" y="368"/>
                  </a:lnTo>
                  <a:lnTo>
                    <a:pt x="1365" y="406"/>
                  </a:lnTo>
                  <a:lnTo>
                    <a:pt x="1380" y="445"/>
                  </a:lnTo>
                  <a:lnTo>
                    <a:pt x="1392" y="484"/>
                  </a:lnTo>
                  <a:lnTo>
                    <a:pt x="1402" y="522"/>
                  </a:lnTo>
                  <a:lnTo>
                    <a:pt x="1410" y="561"/>
                  </a:lnTo>
                  <a:lnTo>
                    <a:pt x="1416" y="598"/>
                  </a:lnTo>
                  <a:lnTo>
                    <a:pt x="1420" y="640"/>
                  </a:lnTo>
                  <a:lnTo>
                    <a:pt x="1424" y="681"/>
                  </a:lnTo>
                  <a:lnTo>
                    <a:pt x="1424" y="702"/>
                  </a:lnTo>
                  <a:lnTo>
                    <a:pt x="1424" y="723"/>
                  </a:lnTo>
                  <a:lnTo>
                    <a:pt x="1424" y="743"/>
                  </a:lnTo>
                  <a:lnTo>
                    <a:pt x="1422" y="762"/>
                  </a:lnTo>
                  <a:lnTo>
                    <a:pt x="1420" y="781"/>
                  </a:lnTo>
                  <a:lnTo>
                    <a:pt x="1418" y="801"/>
                  </a:lnTo>
                  <a:lnTo>
                    <a:pt x="1414" y="819"/>
                  </a:lnTo>
                  <a:lnTo>
                    <a:pt x="1410" y="837"/>
                  </a:lnTo>
                  <a:lnTo>
                    <a:pt x="1404" y="855"/>
                  </a:lnTo>
                  <a:lnTo>
                    <a:pt x="1398" y="870"/>
                  </a:lnTo>
                  <a:lnTo>
                    <a:pt x="1391" y="886"/>
                  </a:lnTo>
                  <a:lnTo>
                    <a:pt x="1384" y="900"/>
                  </a:lnTo>
                  <a:lnTo>
                    <a:pt x="1372" y="917"/>
                  </a:lnTo>
                  <a:lnTo>
                    <a:pt x="1360" y="933"/>
                  </a:lnTo>
                  <a:lnTo>
                    <a:pt x="1346" y="947"/>
                  </a:lnTo>
                  <a:lnTo>
                    <a:pt x="1331" y="960"/>
                  </a:lnTo>
                  <a:lnTo>
                    <a:pt x="1317" y="973"/>
                  </a:lnTo>
                  <a:lnTo>
                    <a:pt x="1300" y="984"/>
                  </a:lnTo>
                  <a:lnTo>
                    <a:pt x="1284" y="995"/>
                  </a:lnTo>
                  <a:lnTo>
                    <a:pt x="1266" y="1006"/>
                  </a:lnTo>
                  <a:lnTo>
                    <a:pt x="1232" y="1024"/>
                  </a:lnTo>
                  <a:lnTo>
                    <a:pt x="1194" y="1042"/>
                  </a:lnTo>
                  <a:lnTo>
                    <a:pt x="1158" y="1059"/>
                  </a:lnTo>
                  <a:lnTo>
                    <a:pt x="1122" y="1075"/>
                  </a:lnTo>
                  <a:lnTo>
                    <a:pt x="1085" y="1095"/>
                  </a:lnTo>
                  <a:lnTo>
                    <a:pt x="1048" y="1111"/>
                  </a:lnTo>
                  <a:lnTo>
                    <a:pt x="1010" y="1128"/>
                  </a:lnTo>
                  <a:lnTo>
                    <a:pt x="970" y="1144"/>
                  </a:lnTo>
                  <a:lnTo>
                    <a:pt x="932" y="1158"/>
                  </a:lnTo>
                  <a:lnTo>
                    <a:pt x="891" y="1171"/>
                  </a:lnTo>
                  <a:lnTo>
                    <a:pt x="850" y="1182"/>
                  </a:lnTo>
                  <a:lnTo>
                    <a:pt x="808" y="1192"/>
                  </a:lnTo>
                  <a:lnTo>
                    <a:pt x="771" y="1199"/>
                  </a:lnTo>
                  <a:lnTo>
                    <a:pt x="734" y="1205"/>
                  </a:lnTo>
                  <a:lnTo>
                    <a:pt x="695" y="1211"/>
                  </a:lnTo>
                  <a:lnTo>
                    <a:pt x="657" y="1214"/>
                  </a:lnTo>
                  <a:lnTo>
                    <a:pt x="638" y="1214"/>
                  </a:lnTo>
                  <a:lnTo>
                    <a:pt x="617" y="1216"/>
                  </a:lnTo>
                  <a:lnTo>
                    <a:pt x="598" y="1214"/>
                  </a:lnTo>
                  <a:lnTo>
                    <a:pt x="578" y="1214"/>
                  </a:lnTo>
                  <a:lnTo>
                    <a:pt x="557" y="1212"/>
                  </a:lnTo>
                  <a:lnTo>
                    <a:pt x="537" y="1210"/>
                  </a:lnTo>
                  <a:lnTo>
                    <a:pt x="516" y="1205"/>
                  </a:lnTo>
                  <a:lnTo>
                    <a:pt x="496" y="1200"/>
                  </a:lnTo>
                  <a:lnTo>
                    <a:pt x="483" y="1196"/>
                  </a:lnTo>
                  <a:lnTo>
                    <a:pt x="470" y="1192"/>
                  </a:lnTo>
                  <a:lnTo>
                    <a:pt x="456" y="1187"/>
                  </a:lnTo>
                  <a:lnTo>
                    <a:pt x="444" y="1181"/>
                  </a:lnTo>
                  <a:lnTo>
                    <a:pt x="418" y="1165"/>
                  </a:lnTo>
                  <a:lnTo>
                    <a:pt x="393" y="1148"/>
                  </a:lnTo>
                  <a:lnTo>
                    <a:pt x="368" y="1129"/>
                  </a:lnTo>
                  <a:lnTo>
                    <a:pt x="344" y="1108"/>
                  </a:lnTo>
                  <a:lnTo>
                    <a:pt x="321" y="1085"/>
                  </a:lnTo>
                  <a:lnTo>
                    <a:pt x="299" y="1061"/>
                  </a:lnTo>
                  <a:lnTo>
                    <a:pt x="288" y="1047"/>
                  </a:lnTo>
                  <a:lnTo>
                    <a:pt x="276" y="1031"/>
                  </a:lnTo>
                  <a:lnTo>
                    <a:pt x="266" y="1015"/>
                  </a:lnTo>
                  <a:lnTo>
                    <a:pt x="256" y="1000"/>
                  </a:lnTo>
                  <a:lnTo>
                    <a:pt x="237" y="967"/>
                  </a:lnTo>
                  <a:lnTo>
                    <a:pt x="220" y="934"/>
                  </a:lnTo>
                  <a:lnTo>
                    <a:pt x="203" y="900"/>
                  </a:lnTo>
                  <a:lnTo>
                    <a:pt x="188" y="865"/>
                  </a:lnTo>
                  <a:lnTo>
                    <a:pt x="172" y="831"/>
                  </a:lnTo>
                  <a:lnTo>
                    <a:pt x="155" y="797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92440" y="1835280"/>
              <a:ext cx="544320" cy="423720"/>
            </a:xfrm>
            <a:custGeom>
              <a:avLst/>
              <a:gdLst/>
              <a:ahLst/>
              <a:rect l="l" t="t" r="r" b="b"/>
              <a:pathLst>
                <a:path w="1371" h="1066">
                  <a:moveTo>
                    <a:pt x="129" y="728"/>
                  </a:moveTo>
                  <a:lnTo>
                    <a:pt x="119" y="713"/>
                  </a:lnTo>
                  <a:lnTo>
                    <a:pt x="110" y="696"/>
                  </a:lnTo>
                  <a:lnTo>
                    <a:pt x="99" y="679"/>
                  </a:lnTo>
                  <a:lnTo>
                    <a:pt x="87" y="662"/>
                  </a:lnTo>
                  <a:lnTo>
                    <a:pt x="63" y="629"/>
                  </a:lnTo>
                  <a:lnTo>
                    <a:pt x="40" y="595"/>
                  </a:lnTo>
                  <a:lnTo>
                    <a:pt x="29" y="579"/>
                  </a:lnTo>
                  <a:lnTo>
                    <a:pt x="21" y="562"/>
                  </a:lnTo>
                  <a:lnTo>
                    <a:pt x="12" y="545"/>
                  </a:lnTo>
                  <a:lnTo>
                    <a:pt x="6" y="528"/>
                  </a:lnTo>
                  <a:lnTo>
                    <a:pt x="3" y="513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1"/>
                  </a:lnTo>
                  <a:lnTo>
                    <a:pt x="2" y="474"/>
                  </a:lnTo>
                  <a:lnTo>
                    <a:pt x="4" y="467"/>
                  </a:lnTo>
                  <a:lnTo>
                    <a:pt x="8" y="456"/>
                  </a:lnTo>
                  <a:lnTo>
                    <a:pt x="12" y="445"/>
                  </a:lnTo>
                  <a:lnTo>
                    <a:pt x="17" y="436"/>
                  </a:lnTo>
                  <a:lnTo>
                    <a:pt x="23" y="427"/>
                  </a:lnTo>
                  <a:lnTo>
                    <a:pt x="35" y="409"/>
                  </a:lnTo>
                  <a:lnTo>
                    <a:pt x="50" y="393"/>
                  </a:lnTo>
                  <a:lnTo>
                    <a:pt x="65" y="378"/>
                  </a:lnTo>
                  <a:lnTo>
                    <a:pt x="82" y="364"/>
                  </a:lnTo>
                  <a:lnTo>
                    <a:pt x="100" y="351"/>
                  </a:lnTo>
                  <a:lnTo>
                    <a:pt x="119" y="339"/>
                  </a:lnTo>
                  <a:lnTo>
                    <a:pt x="160" y="316"/>
                  </a:lnTo>
                  <a:lnTo>
                    <a:pt x="202" y="295"/>
                  </a:lnTo>
                  <a:lnTo>
                    <a:pt x="244" y="275"/>
                  </a:lnTo>
                  <a:lnTo>
                    <a:pt x="285" y="253"/>
                  </a:lnTo>
                  <a:lnTo>
                    <a:pt x="334" y="227"/>
                  </a:lnTo>
                  <a:lnTo>
                    <a:pt x="384" y="202"/>
                  </a:lnTo>
                  <a:lnTo>
                    <a:pt x="436" y="178"/>
                  </a:lnTo>
                  <a:lnTo>
                    <a:pt x="489" y="155"/>
                  </a:lnTo>
                  <a:lnTo>
                    <a:pt x="542" y="135"/>
                  </a:lnTo>
                  <a:lnTo>
                    <a:pt x="594" y="114"/>
                  </a:lnTo>
                  <a:lnTo>
                    <a:pt x="650" y="95"/>
                  </a:lnTo>
                  <a:lnTo>
                    <a:pt x="704" y="77"/>
                  </a:lnTo>
                  <a:lnTo>
                    <a:pt x="747" y="63"/>
                  </a:lnTo>
                  <a:lnTo>
                    <a:pt x="790" y="47"/>
                  </a:lnTo>
                  <a:lnTo>
                    <a:pt x="834" y="31"/>
                  </a:lnTo>
                  <a:lnTo>
                    <a:pt x="879" y="17"/>
                  </a:lnTo>
                  <a:lnTo>
                    <a:pt x="900" y="12"/>
                  </a:lnTo>
                  <a:lnTo>
                    <a:pt x="923" y="7"/>
                  </a:lnTo>
                  <a:lnTo>
                    <a:pt x="946" y="4"/>
                  </a:lnTo>
                  <a:lnTo>
                    <a:pt x="970" y="1"/>
                  </a:lnTo>
                  <a:lnTo>
                    <a:pt x="993" y="0"/>
                  </a:lnTo>
                  <a:lnTo>
                    <a:pt x="1017" y="3"/>
                  </a:lnTo>
                  <a:lnTo>
                    <a:pt x="1041" y="5"/>
                  </a:lnTo>
                  <a:lnTo>
                    <a:pt x="1065" y="11"/>
                  </a:lnTo>
                  <a:lnTo>
                    <a:pt x="1083" y="17"/>
                  </a:lnTo>
                  <a:lnTo>
                    <a:pt x="1100" y="24"/>
                  </a:lnTo>
                  <a:lnTo>
                    <a:pt x="1116" y="34"/>
                  </a:lnTo>
                  <a:lnTo>
                    <a:pt x="1132" y="45"/>
                  </a:lnTo>
                  <a:lnTo>
                    <a:pt x="1148" y="57"/>
                  </a:lnTo>
                  <a:lnTo>
                    <a:pt x="1163" y="71"/>
                  </a:lnTo>
                  <a:lnTo>
                    <a:pt x="1178" y="85"/>
                  </a:lnTo>
                  <a:lnTo>
                    <a:pt x="1192" y="101"/>
                  </a:lnTo>
                  <a:lnTo>
                    <a:pt x="1205" y="117"/>
                  </a:lnTo>
                  <a:lnTo>
                    <a:pt x="1218" y="133"/>
                  </a:lnTo>
                  <a:lnTo>
                    <a:pt x="1230" y="150"/>
                  </a:lnTo>
                  <a:lnTo>
                    <a:pt x="1244" y="168"/>
                  </a:lnTo>
                  <a:lnTo>
                    <a:pt x="1266" y="203"/>
                  </a:lnTo>
                  <a:lnTo>
                    <a:pt x="1288" y="237"/>
                  </a:lnTo>
                  <a:lnTo>
                    <a:pt x="1306" y="267"/>
                  </a:lnTo>
                  <a:lnTo>
                    <a:pt x="1322" y="298"/>
                  </a:lnTo>
                  <a:lnTo>
                    <a:pt x="1335" y="330"/>
                  </a:lnTo>
                  <a:lnTo>
                    <a:pt x="1346" y="363"/>
                  </a:lnTo>
                  <a:lnTo>
                    <a:pt x="1355" y="396"/>
                  </a:lnTo>
                  <a:lnTo>
                    <a:pt x="1361" y="429"/>
                  </a:lnTo>
                  <a:lnTo>
                    <a:pt x="1366" y="461"/>
                  </a:lnTo>
                  <a:lnTo>
                    <a:pt x="1370" y="493"/>
                  </a:lnTo>
                  <a:lnTo>
                    <a:pt x="1371" y="528"/>
                  </a:lnTo>
                  <a:lnTo>
                    <a:pt x="1370" y="564"/>
                  </a:lnTo>
                  <a:lnTo>
                    <a:pt x="1367" y="599"/>
                  </a:lnTo>
                  <a:lnTo>
                    <a:pt x="1362" y="634"/>
                  </a:lnTo>
                  <a:lnTo>
                    <a:pt x="1360" y="650"/>
                  </a:lnTo>
                  <a:lnTo>
                    <a:pt x="1355" y="667"/>
                  </a:lnTo>
                  <a:lnTo>
                    <a:pt x="1350" y="683"/>
                  </a:lnTo>
                  <a:lnTo>
                    <a:pt x="1346" y="698"/>
                  </a:lnTo>
                  <a:lnTo>
                    <a:pt x="1338" y="714"/>
                  </a:lnTo>
                  <a:lnTo>
                    <a:pt x="1331" y="728"/>
                  </a:lnTo>
                  <a:lnTo>
                    <a:pt x="1324" y="742"/>
                  </a:lnTo>
                  <a:lnTo>
                    <a:pt x="1314" y="755"/>
                  </a:lnTo>
                  <a:lnTo>
                    <a:pt x="1302" y="770"/>
                  </a:lnTo>
                  <a:lnTo>
                    <a:pt x="1289" y="784"/>
                  </a:lnTo>
                  <a:lnTo>
                    <a:pt x="1275" y="797"/>
                  </a:lnTo>
                  <a:lnTo>
                    <a:pt x="1259" y="809"/>
                  </a:lnTo>
                  <a:lnTo>
                    <a:pt x="1244" y="821"/>
                  </a:lnTo>
                  <a:lnTo>
                    <a:pt x="1228" y="832"/>
                  </a:lnTo>
                  <a:lnTo>
                    <a:pt x="1210" y="841"/>
                  </a:lnTo>
                  <a:lnTo>
                    <a:pt x="1193" y="851"/>
                  </a:lnTo>
                  <a:lnTo>
                    <a:pt x="1157" y="869"/>
                  </a:lnTo>
                  <a:lnTo>
                    <a:pt x="1120" y="886"/>
                  </a:lnTo>
                  <a:lnTo>
                    <a:pt x="1084" y="902"/>
                  </a:lnTo>
                  <a:lnTo>
                    <a:pt x="1047" y="919"/>
                  </a:lnTo>
                  <a:lnTo>
                    <a:pt x="1010" y="937"/>
                  </a:lnTo>
                  <a:lnTo>
                    <a:pt x="972" y="954"/>
                  </a:lnTo>
                  <a:lnTo>
                    <a:pt x="934" y="970"/>
                  </a:lnTo>
                  <a:lnTo>
                    <a:pt x="894" y="985"/>
                  </a:lnTo>
                  <a:lnTo>
                    <a:pt x="855" y="1000"/>
                  </a:lnTo>
                  <a:lnTo>
                    <a:pt x="815" y="1013"/>
                  </a:lnTo>
                  <a:lnTo>
                    <a:pt x="774" y="1025"/>
                  </a:lnTo>
                  <a:lnTo>
                    <a:pt x="734" y="1034"/>
                  </a:lnTo>
                  <a:lnTo>
                    <a:pt x="696" y="1043"/>
                  </a:lnTo>
                  <a:lnTo>
                    <a:pt x="659" y="1050"/>
                  </a:lnTo>
                  <a:lnTo>
                    <a:pt x="622" y="1057"/>
                  </a:lnTo>
                  <a:lnTo>
                    <a:pt x="585" y="1062"/>
                  </a:lnTo>
                  <a:lnTo>
                    <a:pt x="546" y="1066"/>
                  </a:lnTo>
                  <a:lnTo>
                    <a:pt x="507" y="1066"/>
                  </a:lnTo>
                  <a:lnTo>
                    <a:pt x="488" y="1066"/>
                  </a:lnTo>
                  <a:lnTo>
                    <a:pt x="468" y="1064"/>
                  </a:lnTo>
                  <a:lnTo>
                    <a:pt x="448" y="1062"/>
                  </a:lnTo>
                  <a:lnTo>
                    <a:pt x="429" y="1058"/>
                  </a:lnTo>
                  <a:lnTo>
                    <a:pt x="417" y="1056"/>
                  </a:lnTo>
                  <a:lnTo>
                    <a:pt x="405" y="1052"/>
                  </a:lnTo>
                  <a:lnTo>
                    <a:pt x="392" y="1049"/>
                  </a:lnTo>
                  <a:lnTo>
                    <a:pt x="380" y="1044"/>
                  </a:lnTo>
                  <a:lnTo>
                    <a:pt x="356" y="1033"/>
                  </a:lnTo>
                  <a:lnTo>
                    <a:pt x="333" y="1019"/>
                  </a:lnTo>
                  <a:lnTo>
                    <a:pt x="310" y="1003"/>
                  </a:lnTo>
                  <a:lnTo>
                    <a:pt x="288" y="986"/>
                  </a:lnTo>
                  <a:lnTo>
                    <a:pt x="268" y="968"/>
                  </a:lnTo>
                  <a:lnTo>
                    <a:pt x="249" y="949"/>
                  </a:lnTo>
                  <a:lnTo>
                    <a:pt x="238" y="936"/>
                  </a:lnTo>
                  <a:lnTo>
                    <a:pt x="228" y="924"/>
                  </a:lnTo>
                  <a:lnTo>
                    <a:pt x="220" y="911"/>
                  </a:lnTo>
                  <a:lnTo>
                    <a:pt x="212" y="898"/>
                  </a:lnTo>
                  <a:lnTo>
                    <a:pt x="196" y="871"/>
                  </a:lnTo>
                  <a:lnTo>
                    <a:pt x="182" y="842"/>
                  </a:lnTo>
                  <a:lnTo>
                    <a:pt x="168" y="815"/>
                  </a:lnTo>
                  <a:lnTo>
                    <a:pt x="155" y="786"/>
                  </a:lnTo>
                  <a:lnTo>
                    <a:pt x="142" y="757"/>
                  </a:lnTo>
                  <a:lnTo>
                    <a:pt x="129" y="728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50800" y="2044800"/>
              <a:ext cx="379440" cy="304560"/>
            </a:xfrm>
            <a:custGeom>
              <a:avLst/>
              <a:gdLst/>
              <a:ahLst/>
              <a:rect l="l" t="t" r="r" b="b"/>
              <a:pathLst>
                <a:path w="954" h="770">
                  <a:moveTo>
                    <a:pt x="95" y="518"/>
                  </a:moveTo>
                  <a:lnTo>
                    <a:pt x="80" y="494"/>
                  </a:lnTo>
                  <a:lnTo>
                    <a:pt x="64" y="469"/>
                  </a:lnTo>
                  <a:lnTo>
                    <a:pt x="47" y="444"/>
                  </a:lnTo>
                  <a:lnTo>
                    <a:pt x="30" y="418"/>
                  </a:lnTo>
                  <a:lnTo>
                    <a:pt x="23" y="406"/>
                  </a:lnTo>
                  <a:lnTo>
                    <a:pt x="16" y="394"/>
                  </a:lnTo>
                  <a:lnTo>
                    <a:pt x="10" y="381"/>
                  </a:lnTo>
                  <a:lnTo>
                    <a:pt x="5" y="369"/>
                  </a:lnTo>
                  <a:lnTo>
                    <a:pt x="2" y="358"/>
                  </a:lnTo>
                  <a:lnTo>
                    <a:pt x="0" y="346"/>
                  </a:lnTo>
                  <a:lnTo>
                    <a:pt x="0" y="336"/>
                  </a:lnTo>
                  <a:lnTo>
                    <a:pt x="2" y="325"/>
                  </a:lnTo>
                  <a:lnTo>
                    <a:pt x="7" y="309"/>
                  </a:lnTo>
                  <a:lnTo>
                    <a:pt x="14" y="296"/>
                  </a:lnTo>
                  <a:lnTo>
                    <a:pt x="23" y="283"/>
                  </a:lnTo>
                  <a:lnTo>
                    <a:pt x="31" y="271"/>
                  </a:lnTo>
                  <a:lnTo>
                    <a:pt x="42" y="261"/>
                  </a:lnTo>
                  <a:lnTo>
                    <a:pt x="54" y="250"/>
                  </a:lnTo>
                  <a:lnTo>
                    <a:pt x="66" y="242"/>
                  </a:lnTo>
                  <a:lnTo>
                    <a:pt x="79" y="232"/>
                  </a:lnTo>
                  <a:lnTo>
                    <a:pt x="107" y="217"/>
                  </a:lnTo>
                  <a:lnTo>
                    <a:pt x="136" y="202"/>
                  </a:lnTo>
                  <a:lnTo>
                    <a:pt x="164" y="188"/>
                  </a:lnTo>
                  <a:lnTo>
                    <a:pt x="192" y="174"/>
                  </a:lnTo>
                  <a:lnTo>
                    <a:pt x="226" y="154"/>
                  </a:lnTo>
                  <a:lnTo>
                    <a:pt x="260" y="138"/>
                  </a:lnTo>
                  <a:lnTo>
                    <a:pt x="295" y="121"/>
                  </a:lnTo>
                  <a:lnTo>
                    <a:pt x="331" y="105"/>
                  </a:lnTo>
                  <a:lnTo>
                    <a:pt x="367" y="91"/>
                  </a:lnTo>
                  <a:lnTo>
                    <a:pt x="404" y="77"/>
                  </a:lnTo>
                  <a:lnTo>
                    <a:pt x="442" y="63"/>
                  </a:lnTo>
                  <a:lnTo>
                    <a:pt x="479" y="51"/>
                  </a:lnTo>
                  <a:lnTo>
                    <a:pt x="509" y="42"/>
                  </a:lnTo>
                  <a:lnTo>
                    <a:pt x="539" y="31"/>
                  </a:lnTo>
                  <a:lnTo>
                    <a:pt x="569" y="20"/>
                  </a:lnTo>
                  <a:lnTo>
                    <a:pt x="599" y="11"/>
                  </a:lnTo>
                  <a:lnTo>
                    <a:pt x="614" y="7"/>
                  </a:lnTo>
                  <a:lnTo>
                    <a:pt x="630" y="3"/>
                  </a:lnTo>
                  <a:lnTo>
                    <a:pt x="646" y="1"/>
                  </a:lnTo>
                  <a:lnTo>
                    <a:pt x="662" y="0"/>
                  </a:lnTo>
                  <a:lnTo>
                    <a:pt x="678" y="0"/>
                  </a:lnTo>
                  <a:lnTo>
                    <a:pt x="695" y="2"/>
                  </a:lnTo>
                  <a:lnTo>
                    <a:pt x="712" y="5"/>
                  </a:lnTo>
                  <a:lnTo>
                    <a:pt x="728" y="9"/>
                  </a:lnTo>
                  <a:lnTo>
                    <a:pt x="740" y="13"/>
                  </a:lnTo>
                  <a:lnTo>
                    <a:pt x="752" y="19"/>
                  </a:lnTo>
                  <a:lnTo>
                    <a:pt x="764" y="26"/>
                  </a:lnTo>
                  <a:lnTo>
                    <a:pt x="776" y="35"/>
                  </a:lnTo>
                  <a:lnTo>
                    <a:pt x="787" y="44"/>
                  </a:lnTo>
                  <a:lnTo>
                    <a:pt x="798" y="54"/>
                  </a:lnTo>
                  <a:lnTo>
                    <a:pt x="809" y="65"/>
                  </a:lnTo>
                  <a:lnTo>
                    <a:pt x="818" y="77"/>
                  </a:lnTo>
                  <a:lnTo>
                    <a:pt x="838" y="100"/>
                  </a:lnTo>
                  <a:lnTo>
                    <a:pt x="857" y="126"/>
                  </a:lnTo>
                  <a:lnTo>
                    <a:pt x="874" y="152"/>
                  </a:lnTo>
                  <a:lnTo>
                    <a:pt x="889" y="177"/>
                  </a:lnTo>
                  <a:lnTo>
                    <a:pt x="902" y="200"/>
                  </a:lnTo>
                  <a:lnTo>
                    <a:pt x="913" y="223"/>
                  </a:lnTo>
                  <a:lnTo>
                    <a:pt x="924" y="247"/>
                  </a:lnTo>
                  <a:lnTo>
                    <a:pt x="932" y="270"/>
                  </a:lnTo>
                  <a:lnTo>
                    <a:pt x="940" y="295"/>
                  </a:lnTo>
                  <a:lnTo>
                    <a:pt x="944" y="319"/>
                  </a:lnTo>
                  <a:lnTo>
                    <a:pt x="949" y="342"/>
                  </a:lnTo>
                  <a:lnTo>
                    <a:pt x="952" y="366"/>
                  </a:lnTo>
                  <a:lnTo>
                    <a:pt x="953" y="392"/>
                  </a:lnTo>
                  <a:lnTo>
                    <a:pt x="954" y="417"/>
                  </a:lnTo>
                  <a:lnTo>
                    <a:pt x="953" y="444"/>
                  </a:lnTo>
                  <a:lnTo>
                    <a:pt x="950" y="469"/>
                  </a:lnTo>
                  <a:lnTo>
                    <a:pt x="947" y="493"/>
                  </a:lnTo>
                  <a:lnTo>
                    <a:pt x="940" y="516"/>
                  </a:lnTo>
                  <a:lnTo>
                    <a:pt x="936" y="526"/>
                  </a:lnTo>
                  <a:lnTo>
                    <a:pt x="931" y="537"/>
                  </a:lnTo>
                  <a:lnTo>
                    <a:pt x="926" y="547"/>
                  </a:lnTo>
                  <a:lnTo>
                    <a:pt x="920" y="556"/>
                  </a:lnTo>
                  <a:lnTo>
                    <a:pt x="912" y="567"/>
                  </a:lnTo>
                  <a:lnTo>
                    <a:pt x="902" y="577"/>
                  </a:lnTo>
                  <a:lnTo>
                    <a:pt x="893" y="586"/>
                  </a:lnTo>
                  <a:lnTo>
                    <a:pt x="883" y="595"/>
                  </a:lnTo>
                  <a:lnTo>
                    <a:pt x="862" y="610"/>
                  </a:lnTo>
                  <a:lnTo>
                    <a:pt x="838" y="624"/>
                  </a:lnTo>
                  <a:lnTo>
                    <a:pt x="814" y="637"/>
                  </a:lnTo>
                  <a:lnTo>
                    <a:pt x="788" y="649"/>
                  </a:lnTo>
                  <a:lnTo>
                    <a:pt x="763" y="660"/>
                  </a:lnTo>
                  <a:lnTo>
                    <a:pt x="738" y="672"/>
                  </a:lnTo>
                  <a:lnTo>
                    <a:pt x="713" y="684"/>
                  </a:lnTo>
                  <a:lnTo>
                    <a:pt x="686" y="696"/>
                  </a:lnTo>
                  <a:lnTo>
                    <a:pt x="660" y="706"/>
                  </a:lnTo>
                  <a:lnTo>
                    <a:pt x="634" y="717"/>
                  </a:lnTo>
                  <a:lnTo>
                    <a:pt x="606" y="727"/>
                  </a:lnTo>
                  <a:lnTo>
                    <a:pt x="578" y="736"/>
                  </a:lnTo>
                  <a:lnTo>
                    <a:pt x="551" y="744"/>
                  </a:lnTo>
                  <a:lnTo>
                    <a:pt x="522" y="751"/>
                  </a:lnTo>
                  <a:lnTo>
                    <a:pt x="497" y="756"/>
                  </a:lnTo>
                  <a:lnTo>
                    <a:pt x="472" y="762"/>
                  </a:lnTo>
                  <a:lnTo>
                    <a:pt x="446" y="765"/>
                  </a:lnTo>
                  <a:lnTo>
                    <a:pt x="420" y="769"/>
                  </a:lnTo>
                  <a:lnTo>
                    <a:pt x="394" y="770"/>
                  </a:lnTo>
                  <a:lnTo>
                    <a:pt x="366" y="770"/>
                  </a:lnTo>
                  <a:lnTo>
                    <a:pt x="338" y="768"/>
                  </a:lnTo>
                  <a:lnTo>
                    <a:pt x="311" y="764"/>
                  </a:lnTo>
                  <a:lnTo>
                    <a:pt x="294" y="759"/>
                  </a:lnTo>
                  <a:lnTo>
                    <a:pt x="277" y="752"/>
                  </a:lnTo>
                  <a:lnTo>
                    <a:pt x="260" y="744"/>
                  </a:lnTo>
                  <a:lnTo>
                    <a:pt x="244" y="733"/>
                  </a:lnTo>
                  <a:lnTo>
                    <a:pt x="227" y="721"/>
                  </a:lnTo>
                  <a:lnTo>
                    <a:pt x="212" y="709"/>
                  </a:lnTo>
                  <a:lnTo>
                    <a:pt x="197" y="694"/>
                  </a:lnTo>
                  <a:lnTo>
                    <a:pt x="184" y="680"/>
                  </a:lnTo>
                  <a:lnTo>
                    <a:pt x="169" y="662"/>
                  </a:lnTo>
                  <a:lnTo>
                    <a:pt x="156" y="643"/>
                  </a:lnTo>
                  <a:lnTo>
                    <a:pt x="145" y="622"/>
                  </a:lnTo>
                  <a:lnTo>
                    <a:pt x="134" y="602"/>
                  </a:lnTo>
                  <a:lnTo>
                    <a:pt x="124" y="582"/>
                  </a:lnTo>
                  <a:lnTo>
                    <a:pt x="114" y="560"/>
                  </a:lnTo>
                  <a:lnTo>
                    <a:pt x="104" y="538"/>
                  </a:lnTo>
                  <a:lnTo>
                    <a:pt x="95" y="518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22400" y="1531800"/>
              <a:ext cx="316080" cy="287640"/>
            </a:xfrm>
            <a:custGeom>
              <a:avLst/>
              <a:gdLst/>
              <a:ahLst/>
              <a:rect l="l" t="t" r="r" b="b"/>
              <a:pathLst>
                <a:path w="795" h="725">
                  <a:moveTo>
                    <a:pt x="95" y="463"/>
                  </a:moveTo>
                  <a:lnTo>
                    <a:pt x="82" y="438"/>
                  </a:lnTo>
                  <a:lnTo>
                    <a:pt x="66" y="413"/>
                  </a:lnTo>
                  <a:lnTo>
                    <a:pt x="49" y="388"/>
                  </a:lnTo>
                  <a:lnTo>
                    <a:pt x="33" y="362"/>
                  </a:lnTo>
                  <a:lnTo>
                    <a:pt x="25" y="350"/>
                  </a:lnTo>
                  <a:lnTo>
                    <a:pt x="18" y="338"/>
                  </a:lnTo>
                  <a:lnTo>
                    <a:pt x="12" y="326"/>
                  </a:lnTo>
                  <a:lnTo>
                    <a:pt x="7" y="314"/>
                  </a:lnTo>
                  <a:lnTo>
                    <a:pt x="4" y="302"/>
                  </a:lnTo>
                  <a:lnTo>
                    <a:pt x="1" y="292"/>
                  </a:lnTo>
                  <a:lnTo>
                    <a:pt x="0" y="281"/>
                  </a:lnTo>
                  <a:lnTo>
                    <a:pt x="0" y="270"/>
                  </a:lnTo>
                  <a:lnTo>
                    <a:pt x="4" y="256"/>
                  </a:lnTo>
                  <a:lnTo>
                    <a:pt x="7" y="244"/>
                  </a:lnTo>
                  <a:lnTo>
                    <a:pt x="13" y="232"/>
                  </a:lnTo>
                  <a:lnTo>
                    <a:pt x="19" y="221"/>
                  </a:lnTo>
                  <a:lnTo>
                    <a:pt x="28" y="211"/>
                  </a:lnTo>
                  <a:lnTo>
                    <a:pt x="36" y="203"/>
                  </a:lnTo>
                  <a:lnTo>
                    <a:pt x="45" y="194"/>
                  </a:lnTo>
                  <a:lnTo>
                    <a:pt x="55" y="187"/>
                  </a:lnTo>
                  <a:lnTo>
                    <a:pt x="76" y="173"/>
                  </a:lnTo>
                  <a:lnTo>
                    <a:pt x="99" y="161"/>
                  </a:lnTo>
                  <a:lnTo>
                    <a:pt x="120" y="149"/>
                  </a:lnTo>
                  <a:lnTo>
                    <a:pt x="142" y="137"/>
                  </a:lnTo>
                  <a:lnTo>
                    <a:pt x="168" y="121"/>
                  </a:lnTo>
                  <a:lnTo>
                    <a:pt x="195" y="107"/>
                  </a:lnTo>
                  <a:lnTo>
                    <a:pt x="222" y="92"/>
                  </a:lnTo>
                  <a:lnTo>
                    <a:pt x="250" y="80"/>
                  </a:lnTo>
                  <a:lnTo>
                    <a:pt x="279" y="68"/>
                  </a:lnTo>
                  <a:lnTo>
                    <a:pt x="307" y="58"/>
                  </a:lnTo>
                  <a:lnTo>
                    <a:pt x="336" y="47"/>
                  </a:lnTo>
                  <a:lnTo>
                    <a:pt x="366" y="38"/>
                  </a:lnTo>
                  <a:lnTo>
                    <a:pt x="390" y="30"/>
                  </a:lnTo>
                  <a:lnTo>
                    <a:pt x="413" y="22"/>
                  </a:lnTo>
                  <a:lnTo>
                    <a:pt x="437" y="13"/>
                  </a:lnTo>
                  <a:lnTo>
                    <a:pt x="461" y="6"/>
                  </a:lnTo>
                  <a:lnTo>
                    <a:pt x="473" y="4"/>
                  </a:lnTo>
                  <a:lnTo>
                    <a:pt x="486" y="1"/>
                  </a:lnTo>
                  <a:lnTo>
                    <a:pt x="499" y="0"/>
                  </a:lnTo>
                  <a:lnTo>
                    <a:pt x="511" y="0"/>
                  </a:lnTo>
                  <a:lnTo>
                    <a:pt x="526" y="1"/>
                  </a:lnTo>
                  <a:lnTo>
                    <a:pt x="539" y="4"/>
                  </a:lnTo>
                  <a:lnTo>
                    <a:pt x="553" y="7"/>
                  </a:lnTo>
                  <a:lnTo>
                    <a:pt x="568" y="13"/>
                  </a:lnTo>
                  <a:lnTo>
                    <a:pt x="579" y="18"/>
                  </a:lnTo>
                  <a:lnTo>
                    <a:pt x="588" y="25"/>
                  </a:lnTo>
                  <a:lnTo>
                    <a:pt x="599" y="32"/>
                  </a:lnTo>
                  <a:lnTo>
                    <a:pt x="609" y="41"/>
                  </a:lnTo>
                  <a:lnTo>
                    <a:pt x="619" y="50"/>
                  </a:lnTo>
                  <a:lnTo>
                    <a:pt x="629" y="61"/>
                  </a:lnTo>
                  <a:lnTo>
                    <a:pt x="639" y="72"/>
                  </a:lnTo>
                  <a:lnTo>
                    <a:pt x="648" y="84"/>
                  </a:lnTo>
                  <a:lnTo>
                    <a:pt x="666" y="109"/>
                  </a:lnTo>
                  <a:lnTo>
                    <a:pt x="684" y="134"/>
                  </a:lnTo>
                  <a:lnTo>
                    <a:pt x="701" y="161"/>
                  </a:lnTo>
                  <a:lnTo>
                    <a:pt x="717" y="186"/>
                  </a:lnTo>
                  <a:lnTo>
                    <a:pt x="729" y="209"/>
                  </a:lnTo>
                  <a:lnTo>
                    <a:pt x="741" y="232"/>
                  </a:lnTo>
                  <a:lnTo>
                    <a:pt x="751" y="254"/>
                  </a:lnTo>
                  <a:lnTo>
                    <a:pt x="761" y="278"/>
                  </a:lnTo>
                  <a:lnTo>
                    <a:pt x="768" y="302"/>
                  </a:lnTo>
                  <a:lnTo>
                    <a:pt x="775" y="325"/>
                  </a:lnTo>
                  <a:lnTo>
                    <a:pt x="781" y="349"/>
                  </a:lnTo>
                  <a:lnTo>
                    <a:pt x="786" y="372"/>
                  </a:lnTo>
                  <a:lnTo>
                    <a:pt x="790" y="397"/>
                  </a:lnTo>
                  <a:lnTo>
                    <a:pt x="792" y="421"/>
                  </a:lnTo>
                  <a:lnTo>
                    <a:pt x="795" y="446"/>
                  </a:lnTo>
                  <a:lnTo>
                    <a:pt x="795" y="470"/>
                  </a:lnTo>
                  <a:lnTo>
                    <a:pt x="793" y="493"/>
                  </a:lnTo>
                  <a:lnTo>
                    <a:pt x="791" y="515"/>
                  </a:lnTo>
                  <a:lnTo>
                    <a:pt x="789" y="526"/>
                  </a:lnTo>
                  <a:lnTo>
                    <a:pt x="785" y="535"/>
                  </a:lnTo>
                  <a:lnTo>
                    <a:pt x="783" y="545"/>
                  </a:lnTo>
                  <a:lnTo>
                    <a:pt x="778" y="553"/>
                  </a:lnTo>
                  <a:lnTo>
                    <a:pt x="773" y="563"/>
                  </a:lnTo>
                  <a:lnTo>
                    <a:pt x="766" y="572"/>
                  </a:lnTo>
                  <a:lnTo>
                    <a:pt x="759" y="581"/>
                  </a:lnTo>
                  <a:lnTo>
                    <a:pt x="751" y="588"/>
                  </a:lnTo>
                  <a:lnTo>
                    <a:pt x="736" y="601"/>
                  </a:lnTo>
                  <a:lnTo>
                    <a:pt x="718" y="613"/>
                  </a:lnTo>
                  <a:lnTo>
                    <a:pt x="699" y="624"/>
                  </a:lnTo>
                  <a:lnTo>
                    <a:pt x="678" y="634"/>
                  </a:lnTo>
                  <a:lnTo>
                    <a:pt x="659" y="643"/>
                  </a:lnTo>
                  <a:lnTo>
                    <a:pt x="640" y="653"/>
                  </a:lnTo>
                  <a:lnTo>
                    <a:pt x="619" y="662"/>
                  </a:lnTo>
                  <a:lnTo>
                    <a:pt x="600" y="673"/>
                  </a:lnTo>
                  <a:lnTo>
                    <a:pt x="579" y="681"/>
                  </a:lnTo>
                  <a:lnTo>
                    <a:pt x="558" y="690"/>
                  </a:lnTo>
                  <a:lnTo>
                    <a:pt x="537" y="698"/>
                  </a:lnTo>
                  <a:lnTo>
                    <a:pt x="515" y="704"/>
                  </a:lnTo>
                  <a:lnTo>
                    <a:pt x="493" y="710"/>
                  </a:lnTo>
                  <a:lnTo>
                    <a:pt x="471" y="715"/>
                  </a:lnTo>
                  <a:lnTo>
                    <a:pt x="450" y="719"/>
                  </a:lnTo>
                  <a:lnTo>
                    <a:pt x="430" y="721"/>
                  </a:lnTo>
                  <a:lnTo>
                    <a:pt x="408" y="723"/>
                  </a:lnTo>
                  <a:lnTo>
                    <a:pt x="388" y="725"/>
                  </a:lnTo>
                  <a:lnTo>
                    <a:pt x="366" y="725"/>
                  </a:lnTo>
                  <a:lnTo>
                    <a:pt x="343" y="723"/>
                  </a:lnTo>
                  <a:lnTo>
                    <a:pt x="321" y="720"/>
                  </a:lnTo>
                  <a:lnTo>
                    <a:pt x="298" y="714"/>
                  </a:lnTo>
                  <a:lnTo>
                    <a:pt x="283" y="708"/>
                  </a:lnTo>
                  <a:lnTo>
                    <a:pt x="269" y="701"/>
                  </a:lnTo>
                  <a:lnTo>
                    <a:pt x="253" y="691"/>
                  </a:lnTo>
                  <a:lnTo>
                    <a:pt x="239" y="680"/>
                  </a:lnTo>
                  <a:lnTo>
                    <a:pt x="225" y="667"/>
                  </a:lnTo>
                  <a:lnTo>
                    <a:pt x="210" y="654"/>
                  </a:lnTo>
                  <a:lnTo>
                    <a:pt x="197" y="640"/>
                  </a:lnTo>
                  <a:lnTo>
                    <a:pt x="185" y="625"/>
                  </a:lnTo>
                  <a:lnTo>
                    <a:pt x="171" y="606"/>
                  </a:lnTo>
                  <a:lnTo>
                    <a:pt x="159" y="587"/>
                  </a:lnTo>
                  <a:lnTo>
                    <a:pt x="147" y="566"/>
                  </a:lnTo>
                  <a:lnTo>
                    <a:pt x="136" y="546"/>
                  </a:lnTo>
                  <a:lnTo>
                    <a:pt x="126" y="526"/>
                  </a:lnTo>
                  <a:lnTo>
                    <a:pt x="115" y="504"/>
                  </a:lnTo>
                  <a:lnTo>
                    <a:pt x="106" y="484"/>
                  </a:lnTo>
                  <a:lnTo>
                    <a:pt x="95" y="463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06800" y="1335240"/>
              <a:ext cx="482400" cy="388800"/>
            </a:xfrm>
            <a:custGeom>
              <a:avLst/>
              <a:gdLst/>
              <a:ahLst/>
              <a:rect l="l" t="t" r="r" b="b"/>
              <a:pathLst>
                <a:path w="1217" h="981">
                  <a:moveTo>
                    <a:pt x="120" y="660"/>
                  </a:moveTo>
                  <a:lnTo>
                    <a:pt x="102" y="629"/>
                  </a:lnTo>
                  <a:lnTo>
                    <a:pt x="82" y="598"/>
                  </a:lnTo>
                  <a:lnTo>
                    <a:pt x="59" y="565"/>
                  </a:lnTo>
                  <a:lnTo>
                    <a:pt x="38" y="534"/>
                  </a:lnTo>
                  <a:lnTo>
                    <a:pt x="29" y="519"/>
                  </a:lnTo>
                  <a:lnTo>
                    <a:pt x="19" y="503"/>
                  </a:lnTo>
                  <a:lnTo>
                    <a:pt x="12" y="487"/>
                  </a:lnTo>
                  <a:lnTo>
                    <a:pt x="6" y="472"/>
                  </a:lnTo>
                  <a:lnTo>
                    <a:pt x="2" y="457"/>
                  </a:lnTo>
                  <a:lnTo>
                    <a:pt x="0" y="442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1" y="421"/>
                  </a:lnTo>
                  <a:lnTo>
                    <a:pt x="2" y="414"/>
                  </a:lnTo>
                  <a:lnTo>
                    <a:pt x="6" y="405"/>
                  </a:lnTo>
                  <a:lnTo>
                    <a:pt x="10" y="395"/>
                  </a:lnTo>
                  <a:lnTo>
                    <a:pt x="13" y="387"/>
                  </a:lnTo>
                  <a:lnTo>
                    <a:pt x="18" y="378"/>
                  </a:lnTo>
                  <a:lnTo>
                    <a:pt x="29" y="362"/>
                  </a:lnTo>
                  <a:lnTo>
                    <a:pt x="41" y="347"/>
                  </a:lnTo>
                  <a:lnTo>
                    <a:pt x="54" y="333"/>
                  </a:lnTo>
                  <a:lnTo>
                    <a:pt x="68" y="321"/>
                  </a:lnTo>
                  <a:lnTo>
                    <a:pt x="84" y="309"/>
                  </a:lnTo>
                  <a:lnTo>
                    <a:pt x="101" y="298"/>
                  </a:lnTo>
                  <a:lnTo>
                    <a:pt x="137" y="278"/>
                  </a:lnTo>
                  <a:lnTo>
                    <a:pt x="173" y="258"/>
                  </a:lnTo>
                  <a:lnTo>
                    <a:pt x="210" y="240"/>
                  </a:lnTo>
                  <a:lnTo>
                    <a:pt x="245" y="222"/>
                  </a:lnTo>
                  <a:lnTo>
                    <a:pt x="288" y="198"/>
                  </a:lnTo>
                  <a:lnTo>
                    <a:pt x="332" y="176"/>
                  </a:lnTo>
                  <a:lnTo>
                    <a:pt x="377" y="155"/>
                  </a:lnTo>
                  <a:lnTo>
                    <a:pt x="422" y="135"/>
                  </a:lnTo>
                  <a:lnTo>
                    <a:pt x="469" y="116"/>
                  </a:lnTo>
                  <a:lnTo>
                    <a:pt x="516" y="99"/>
                  </a:lnTo>
                  <a:lnTo>
                    <a:pt x="564" y="82"/>
                  </a:lnTo>
                  <a:lnTo>
                    <a:pt x="612" y="66"/>
                  </a:lnTo>
                  <a:lnTo>
                    <a:pt x="649" y="54"/>
                  </a:lnTo>
                  <a:lnTo>
                    <a:pt x="688" y="40"/>
                  </a:lnTo>
                  <a:lnTo>
                    <a:pt x="726" y="27"/>
                  </a:lnTo>
                  <a:lnTo>
                    <a:pt x="764" y="14"/>
                  </a:lnTo>
                  <a:lnTo>
                    <a:pt x="785" y="9"/>
                  </a:lnTo>
                  <a:lnTo>
                    <a:pt x="805" y="5"/>
                  </a:lnTo>
                  <a:lnTo>
                    <a:pt x="824" y="3"/>
                  </a:lnTo>
                  <a:lnTo>
                    <a:pt x="845" y="0"/>
                  </a:lnTo>
                  <a:lnTo>
                    <a:pt x="866" y="0"/>
                  </a:lnTo>
                  <a:lnTo>
                    <a:pt x="887" y="3"/>
                  </a:lnTo>
                  <a:lnTo>
                    <a:pt x="908" y="6"/>
                  </a:lnTo>
                  <a:lnTo>
                    <a:pt x="930" y="11"/>
                  </a:lnTo>
                  <a:lnTo>
                    <a:pt x="946" y="17"/>
                  </a:lnTo>
                  <a:lnTo>
                    <a:pt x="961" y="24"/>
                  </a:lnTo>
                  <a:lnTo>
                    <a:pt x="977" y="34"/>
                  </a:lnTo>
                  <a:lnTo>
                    <a:pt x="991" y="45"/>
                  </a:lnTo>
                  <a:lnTo>
                    <a:pt x="1004" y="56"/>
                  </a:lnTo>
                  <a:lnTo>
                    <a:pt x="1019" y="69"/>
                  </a:lnTo>
                  <a:lnTo>
                    <a:pt x="1032" y="82"/>
                  </a:lnTo>
                  <a:lnTo>
                    <a:pt x="1045" y="98"/>
                  </a:lnTo>
                  <a:lnTo>
                    <a:pt x="1069" y="129"/>
                  </a:lnTo>
                  <a:lnTo>
                    <a:pt x="1093" y="161"/>
                  </a:lnTo>
                  <a:lnTo>
                    <a:pt x="1115" y="194"/>
                  </a:lnTo>
                  <a:lnTo>
                    <a:pt x="1134" y="226"/>
                  </a:lnTo>
                  <a:lnTo>
                    <a:pt x="1151" y="254"/>
                  </a:lnTo>
                  <a:lnTo>
                    <a:pt x="1165" y="284"/>
                  </a:lnTo>
                  <a:lnTo>
                    <a:pt x="1178" y="314"/>
                  </a:lnTo>
                  <a:lnTo>
                    <a:pt x="1189" y="344"/>
                  </a:lnTo>
                  <a:lnTo>
                    <a:pt x="1198" y="374"/>
                  </a:lnTo>
                  <a:lnTo>
                    <a:pt x="1205" y="405"/>
                  </a:lnTo>
                  <a:lnTo>
                    <a:pt x="1211" y="435"/>
                  </a:lnTo>
                  <a:lnTo>
                    <a:pt x="1213" y="465"/>
                  </a:lnTo>
                  <a:lnTo>
                    <a:pt x="1216" y="497"/>
                  </a:lnTo>
                  <a:lnTo>
                    <a:pt x="1217" y="531"/>
                  </a:lnTo>
                  <a:lnTo>
                    <a:pt x="1216" y="563"/>
                  </a:lnTo>
                  <a:lnTo>
                    <a:pt x="1212" y="595"/>
                  </a:lnTo>
                  <a:lnTo>
                    <a:pt x="1210" y="611"/>
                  </a:lnTo>
                  <a:lnTo>
                    <a:pt x="1206" y="627"/>
                  </a:lnTo>
                  <a:lnTo>
                    <a:pt x="1202" y="641"/>
                  </a:lnTo>
                  <a:lnTo>
                    <a:pt x="1199" y="655"/>
                  </a:lnTo>
                  <a:lnTo>
                    <a:pt x="1193" y="669"/>
                  </a:lnTo>
                  <a:lnTo>
                    <a:pt x="1187" y="682"/>
                  </a:lnTo>
                  <a:lnTo>
                    <a:pt x="1181" y="695"/>
                  </a:lnTo>
                  <a:lnTo>
                    <a:pt x="1172" y="707"/>
                  </a:lnTo>
                  <a:lnTo>
                    <a:pt x="1162" y="720"/>
                  </a:lnTo>
                  <a:lnTo>
                    <a:pt x="1151" y="733"/>
                  </a:lnTo>
                  <a:lnTo>
                    <a:pt x="1139" y="745"/>
                  </a:lnTo>
                  <a:lnTo>
                    <a:pt x="1126" y="756"/>
                  </a:lnTo>
                  <a:lnTo>
                    <a:pt x="1112" y="766"/>
                  </a:lnTo>
                  <a:lnTo>
                    <a:pt x="1098" y="777"/>
                  </a:lnTo>
                  <a:lnTo>
                    <a:pt x="1082" y="785"/>
                  </a:lnTo>
                  <a:lnTo>
                    <a:pt x="1068" y="793"/>
                  </a:lnTo>
                  <a:lnTo>
                    <a:pt x="1037" y="810"/>
                  </a:lnTo>
                  <a:lnTo>
                    <a:pt x="1004" y="825"/>
                  </a:lnTo>
                  <a:lnTo>
                    <a:pt x="972" y="839"/>
                  </a:lnTo>
                  <a:lnTo>
                    <a:pt x="940" y="855"/>
                  </a:lnTo>
                  <a:lnTo>
                    <a:pt x="907" y="870"/>
                  </a:lnTo>
                  <a:lnTo>
                    <a:pt x="875" y="885"/>
                  </a:lnTo>
                  <a:lnTo>
                    <a:pt x="841" y="899"/>
                  </a:lnTo>
                  <a:lnTo>
                    <a:pt x="806" y="912"/>
                  </a:lnTo>
                  <a:lnTo>
                    <a:pt x="773" y="925"/>
                  </a:lnTo>
                  <a:lnTo>
                    <a:pt x="737" y="936"/>
                  </a:lnTo>
                  <a:lnTo>
                    <a:pt x="701" y="947"/>
                  </a:lnTo>
                  <a:lnTo>
                    <a:pt x="665" y="955"/>
                  </a:lnTo>
                  <a:lnTo>
                    <a:pt x="632" y="963"/>
                  </a:lnTo>
                  <a:lnTo>
                    <a:pt x="600" y="969"/>
                  </a:lnTo>
                  <a:lnTo>
                    <a:pt x="568" y="973"/>
                  </a:lnTo>
                  <a:lnTo>
                    <a:pt x="534" y="978"/>
                  </a:lnTo>
                  <a:lnTo>
                    <a:pt x="500" y="981"/>
                  </a:lnTo>
                  <a:lnTo>
                    <a:pt x="466" y="981"/>
                  </a:lnTo>
                  <a:lnTo>
                    <a:pt x="449" y="979"/>
                  </a:lnTo>
                  <a:lnTo>
                    <a:pt x="431" y="977"/>
                  </a:lnTo>
                  <a:lnTo>
                    <a:pt x="413" y="975"/>
                  </a:lnTo>
                  <a:lnTo>
                    <a:pt x="396" y="972"/>
                  </a:lnTo>
                  <a:lnTo>
                    <a:pt x="385" y="970"/>
                  </a:lnTo>
                  <a:lnTo>
                    <a:pt x="374" y="966"/>
                  </a:lnTo>
                  <a:lnTo>
                    <a:pt x="362" y="963"/>
                  </a:lnTo>
                  <a:lnTo>
                    <a:pt x="352" y="958"/>
                  </a:lnTo>
                  <a:lnTo>
                    <a:pt x="330" y="947"/>
                  </a:lnTo>
                  <a:lnTo>
                    <a:pt x="310" y="934"/>
                  </a:lnTo>
                  <a:lnTo>
                    <a:pt x="289" y="918"/>
                  </a:lnTo>
                  <a:lnTo>
                    <a:pt x="269" y="903"/>
                  </a:lnTo>
                  <a:lnTo>
                    <a:pt x="251" y="885"/>
                  </a:lnTo>
                  <a:lnTo>
                    <a:pt x="233" y="867"/>
                  </a:lnTo>
                  <a:lnTo>
                    <a:pt x="223" y="855"/>
                  </a:lnTo>
                  <a:lnTo>
                    <a:pt x="215" y="844"/>
                  </a:lnTo>
                  <a:lnTo>
                    <a:pt x="206" y="831"/>
                  </a:lnTo>
                  <a:lnTo>
                    <a:pt x="198" y="819"/>
                  </a:lnTo>
                  <a:lnTo>
                    <a:pt x="184" y="793"/>
                  </a:lnTo>
                  <a:lnTo>
                    <a:pt x="170" y="767"/>
                  </a:lnTo>
                  <a:lnTo>
                    <a:pt x="157" y="741"/>
                  </a:lnTo>
                  <a:lnTo>
                    <a:pt x="145" y="713"/>
                  </a:lnTo>
                  <a:lnTo>
                    <a:pt x="133" y="687"/>
                  </a:lnTo>
                  <a:lnTo>
                    <a:pt x="120" y="660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25720" y="1619280"/>
              <a:ext cx="112680" cy="106200"/>
            </a:xfrm>
            <a:custGeom>
              <a:avLst/>
              <a:gdLst/>
              <a:ahLst/>
              <a:rect l="l" t="t" r="r" b="b"/>
              <a:pathLst>
                <a:path w="285" h="271">
                  <a:moveTo>
                    <a:pt x="72" y="9"/>
                  </a:moveTo>
                  <a:lnTo>
                    <a:pt x="86" y="5"/>
                  </a:lnTo>
                  <a:lnTo>
                    <a:pt x="99" y="1"/>
                  </a:lnTo>
                  <a:lnTo>
                    <a:pt x="112" y="0"/>
                  </a:lnTo>
                  <a:lnTo>
                    <a:pt x="126" y="1"/>
                  </a:lnTo>
                  <a:lnTo>
                    <a:pt x="140" y="3"/>
                  </a:lnTo>
                  <a:lnTo>
                    <a:pt x="154" y="5"/>
                  </a:lnTo>
                  <a:lnTo>
                    <a:pt x="167" y="9"/>
                  </a:lnTo>
                  <a:lnTo>
                    <a:pt x="180" y="13"/>
                  </a:lnTo>
                  <a:lnTo>
                    <a:pt x="194" y="19"/>
                  </a:lnTo>
                  <a:lnTo>
                    <a:pt x="206" y="27"/>
                  </a:lnTo>
                  <a:lnTo>
                    <a:pt x="218" y="35"/>
                  </a:lnTo>
                  <a:lnTo>
                    <a:pt x="230" y="45"/>
                  </a:lnTo>
                  <a:lnTo>
                    <a:pt x="240" y="55"/>
                  </a:lnTo>
                  <a:lnTo>
                    <a:pt x="250" y="66"/>
                  </a:lnTo>
                  <a:lnTo>
                    <a:pt x="258" y="78"/>
                  </a:lnTo>
                  <a:lnTo>
                    <a:pt x="267" y="90"/>
                  </a:lnTo>
                  <a:lnTo>
                    <a:pt x="273" y="103"/>
                  </a:lnTo>
                  <a:lnTo>
                    <a:pt x="278" y="117"/>
                  </a:lnTo>
                  <a:lnTo>
                    <a:pt x="281" y="131"/>
                  </a:lnTo>
                  <a:lnTo>
                    <a:pt x="284" y="144"/>
                  </a:lnTo>
                  <a:lnTo>
                    <a:pt x="285" y="157"/>
                  </a:lnTo>
                  <a:lnTo>
                    <a:pt x="285" y="169"/>
                  </a:lnTo>
                  <a:lnTo>
                    <a:pt x="282" y="183"/>
                  </a:lnTo>
                  <a:lnTo>
                    <a:pt x="280" y="195"/>
                  </a:lnTo>
                  <a:lnTo>
                    <a:pt x="275" y="205"/>
                  </a:lnTo>
                  <a:lnTo>
                    <a:pt x="269" y="216"/>
                  </a:lnTo>
                  <a:lnTo>
                    <a:pt x="263" y="227"/>
                  </a:lnTo>
                  <a:lnTo>
                    <a:pt x="255" y="235"/>
                  </a:lnTo>
                  <a:lnTo>
                    <a:pt x="246" y="244"/>
                  </a:lnTo>
                  <a:lnTo>
                    <a:pt x="237" y="252"/>
                  </a:lnTo>
                  <a:lnTo>
                    <a:pt x="225" y="258"/>
                  </a:lnTo>
                  <a:lnTo>
                    <a:pt x="213" y="263"/>
                  </a:lnTo>
                  <a:lnTo>
                    <a:pt x="200" y="268"/>
                  </a:lnTo>
                  <a:lnTo>
                    <a:pt x="186" y="270"/>
                  </a:lnTo>
                  <a:lnTo>
                    <a:pt x="173" y="271"/>
                  </a:lnTo>
                  <a:lnTo>
                    <a:pt x="159" y="271"/>
                  </a:lnTo>
                  <a:lnTo>
                    <a:pt x="146" y="270"/>
                  </a:lnTo>
                  <a:lnTo>
                    <a:pt x="132" y="267"/>
                  </a:lnTo>
                  <a:lnTo>
                    <a:pt x="118" y="263"/>
                  </a:lnTo>
                  <a:lnTo>
                    <a:pt x="105" y="258"/>
                  </a:lnTo>
                  <a:lnTo>
                    <a:pt x="92" y="252"/>
                  </a:lnTo>
                  <a:lnTo>
                    <a:pt x="80" y="245"/>
                  </a:lnTo>
                  <a:lnTo>
                    <a:pt x="68" y="237"/>
                  </a:lnTo>
                  <a:lnTo>
                    <a:pt x="57" y="227"/>
                  </a:lnTo>
                  <a:lnTo>
                    <a:pt x="46" y="217"/>
                  </a:lnTo>
                  <a:lnTo>
                    <a:pt x="36" y="207"/>
                  </a:lnTo>
                  <a:lnTo>
                    <a:pt x="27" y="195"/>
                  </a:lnTo>
                  <a:lnTo>
                    <a:pt x="20" y="181"/>
                  </a:lnTo>
                  <a:lnTo>
                    <a:pt x="12" y="168"/>
                  </a:lnTo>
                  <a:lnTo>
                    <a:pt x="8" y="155"/>
                  </a:lnTo>
                  <a:lnTo>
                    <a:pt x="4" y="142"/>
                  </a:lnTo>
                  <a:lnTo>
                    <a:pt x="2" y="129"/>
                  </a:lnTo>
                  <a:lnTo>
                    <a:pt x="0" y="115"/>
                  </a:lnTo>
                  <a:lnTo>
                    <a:pt x="2" y="102"/>
                  </a:lnTo>
                  <a:lnTo>
                    <a:pt x="3" y="90"/>
                  </a:lnTo>
                  <a:lnTo>
                    <a:pt x="6" y="78"/>
                  </a:lnTo>
                  <a:lnTo>
                    <a:pt x="10" y="66"/>
                  </a:lnTo>
                  <a:lnTo>
                    <a:pt x="16" y="55"/>
                  </a:lnTo>
                  <a:lnTo>
                    <a:pt x="22" y="46"/>
                  </a:lnTo>
                  <a:lnTo>
                    <a:pt x="30" y="36"/>
                  </a:lnTo>
                  <a:lnTo>
                    <a:pt x="39" y="28"/>
                  </a:lnTo>
                  <a:lnTo>
                    <a:pt x="50" y="21"/>
                  </a:lnTo>
                  <a:lnTo>
                    <a:pt x="60" y="13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48040" y="1633680"/>
              <a:ext cx="74520" cy="82440"/>
            </a:xfrm>
            <a:custGeom>
              <a:avLst/>
              <a:gdLst/>
              <a:ahLst/>
              <a:rect l="l" t="t" r="r" b="b"/>
              <a:pathLst>
                <a:path w="188" h="207">
                  <a:moveTo>
                    <a:pt x="39" y="5"/>
                  </a:moveTo>
                  <a:lnTo>
                    <a:pt x="46" y="2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3" y="1"/>
                  </a:lnTo>
                  <a:lnTo>
                    <a:pt x="82" y="2"/>
                  </a:lnTo>
                  <a:lnTo>
                    <a:pt x="91" y="6"/>
                  </a:lnTo>
                  <a:lnTo>
                    <a:pt x="100" y="9"/>
                  </a:lnTo>
                  <a:lnTo>
                    <a:pt x="109" y="13"/>
                  </a:lnTo>
                  <a:lnTo>
                    <a:pt x="118" y="19"/>
                  </a:lnTo>
                  <a:lnTo>
                    <a:pt x="127" y="25"/>
                  </a:lnTo>
                  <a:lnTo>
                    <a:pt x="135" y="31"/>
                  </a:lnTo>
                  <a:lnTo>
                    <a:pt x="144" y="39"/>
                  </a:lnTo>
                  <a:lnTo>
                    <a:pt x="151" y="47"/>
                  </a:lnTo>
                  <a:lnTo>
                    <a:pt x="158" y="56"/>
                  </a:lnTo>
                  <a:lnTo>
                    <a:pt x="164" y="66"/>
                  </a:lnTo>
                  <a:lnTo>
                    <a:pt x="170" y="75"/>
                  </a:lnTo>
                  <a:lnTo>
                    <a:pt x="176" y="85"/>
                  </a:lnTo>
                  <a:lnTo>
                    <a:pt x="180" y="96"/>
                  </a:lnTo>
                  <a:lnTo>
                    <a:pt x="183" y="107"/>
                  </a:lnTo>
                  <a:lnTo>
                    <a:pt x="186" y="116"/>
                  </a:lnTo>
                  <a:lnTo>
                    <a:pt x="187" y="126"/>
                  </a:lnTo>
                  <a:lnTo>
                    <a:pt x="188" y="135"/>
                  </a:lnTo>
                  <a:lnTo>
                    <a:pt x="187" y="145"/>
                  </a:lnTo>
                  <a:lnTo>
                    <a:pt x="187" y="153"/>
                  </a:lnTo>
                  <a:lnTo>
                    <a:pt x="184" y="162"/>
                  </a:lnTo>
                  <a:lnTo>
                    <a:pt x="182" y="170"/>
                  </a:lnTo>
                  <a:lnTo>
                    <a:pt x="178" y="177"/>
                  </a:lnTo>
                  <a:lnTo>
                    <a:pt x="174" y="185"/>
                  </a:lnTo>
                  <a:lnTo>
                    <a:pt x="169" y="191"/>
                  </a:lnTo>
                  <a:lnTo>
                    <a:pt x="163" y="195"/>
                  </a:lnTo>
                  <a:lnTo>
                    <a:pt x="156" y="199"/>
                  </a:lnTo>
                  <a:lnTo>
                    <a:pt x="148" y="203"/>
                  </a:lnTo>
                  <a:lnTo>
                    <a:pt x="140" y="205"/>
                  </a:lnTo>
                  <a:lnTo>
                    <a:pt x="132" y="206"/>
                  </a:lnTo>
                  <a:lnTo>
                    <a:pt x="123" y="207"/>
                  </a:lnTo>
                  <a:lnTo>
                    <a:pt x="114" y="206"/>
                  </a:lnTo>
                  <a:lnTo>
                    <a:pt x="105" y="204"/>
                  </a:lnTo>
                  <a:lnTo>
                    <a:pt x="96" y="201"/>
                  </a:lnTo>
                  <a:lnTo>
                    <a:pt x="86" y="198"/>
                  </a:lnTo>
                  <a:lnTo>
                    <a:pt x="78" y="194"/>
                  </a:lnTo>
                  <a:lnTo>
                    <a:pt x="69" y="188"/>
                  </a:lnTo>
                  <a:lnTo>
                    <a:pt x="60" y="182"/>
                  </a:lnTo>
                  <a:lnTo>
                    <a:pt x="51" y="176"/>
                  </a:lnTo>
                  <a:lnTo>
                    <a:pt x="44" y="168"/>
                  </a:lnTo>
                  <a:lnTo>
                    <a:pt x="36" y="161"/>
                  </a:lnTo>
                  <a:lnTo>
                    <a:pt x="30" y="151"/>
                  </a:lnTo>
                  <a:lnTo>
                    <a:pt x="22" y="141"/>
                  </a:lnTo>
                  <a:lnTo>
                    <a:pt x="16" y="132"/>
                  </a:lnTo>
                  <a:lnTo>
                    <a:pt x="12" y="121"/>
                  </a:lnTo>
                  <a:lnTo>
                    <a:pt x="7" y="111"/>
                  </a:lnTo>
                  <a:lnTo>
                    <a:pt x="3" y="101"/>
                  </a:lnTo>
                  <a:lnTo>
                    <a:pt x="1" y="91"/>
                  </a:lnTo>
                  <a:lnTo>
                    <a:pt x="0" y="81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1" y="54"/>
                  </a:lnTo>
                  <a:lnTo>
                    <a:pt x="2" y="45"/>
                  </a:lnTo>
                  <a:lnTo>
                    <a:pt x="6" y="37"/>
                  </a:lnTo>
                  <a:lnTo>
                    <a:pt x="9" y="30"/>
                  </a:lnTo>
                  <a:lnTo>
                    <a:pt x="13" y="23"/>
                  </a:lnTo>
                  <a:lnTo>
                    <a:pt x="19" y="17"/>
                  </a:lnTo>
                  <a:lnTo>
                    <a:pt x="25" y="12"/>
                  </a:lnTo>
                  <a:lnTo>
                    <a:pt x="31" y="7"/>
                  </a:lnTo>
                  <a:lnTo>
                    <a:pt x="39" y="5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70360" y="1647720"/>
              <a:ext cx="17280" cy="1584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12" y="2"/>
                  </a:moveTo>
                  <a:lnTo>
                    <a:pt x="17" y="1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7" y="6"/>
                  </a:lnTo>
                  <a:lnTo>
                    <a:pt x="39" y="9"/>
                  </a:lnTo>
                  <a:lnTo>
                    <a:pt x="42" y="12"/>
                  </a:lnTo>
                  <a:lnTo>
                    <a:pt x="44" y="17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3" y="27"/>
                  </a:lnTo>
                  <a:lnTo>
                    <a:pt x="42" y="31"/>
                  </a:lnTo>
                  <a:lnTo>
                    <a:pt x="39" y="33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27" y="39"/>
                  </a:lnTo>
                  <a:lnTo>
                    <a:pt x="24" y="39"/>
                  </a:lnTo>
                  <a:lnTo>
                    <a:pt x="19" y="39"/>
                  </a:lnTo>
                  <a:lnTo>
                    <a:pt x="14" y="38"/>
                  </a:lnTo>
                  <a:lnTo>
                    <a:pt x="11" y="36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2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9"/>
                  </a:lnTo>
                  <a:lnTo>
                    <a:pt x="5" y="6"/>
                  </a:lnTo>
                  <a:lnTo>
                    <a:pt x="8" y="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70360" y="1647720"/>
              <a:ext cx="17280" cy="1584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12" y="2"/>
                  </a:moveTo>
                  <a:lnTo>
                    <a:pt x="17" y="1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7" y="6"/>
                  </a:lnTo>
                  <a:lnTo>
                    <a:pt x="39" y="9"/>
                  </a:lnTo>
                  <a:lnTo>
                    <a:pt x="42" y="12"/>
                  </a:lnTo>
                  <a:lnTo>
                    <a:pt x="44" y="17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3" y="27"/>
                  </a:lnTo>
                  <a:lnTo>
                    <a:pt x="42" y="31"/>
                  </a:lnTo>
                  <a:lnTo>
                    <a:pt x="39" y="33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27" y="39"/>
                  </a:lnTo>
                  <a:lnTo>
                    <a:pt x="24" y="39"/>
                  </a:lnTo>
                  <a:lnTo>
                    <a:pt x="19" y="39"/>
                  </a:lnTo>
                  <a:lnTo>
                    <a:pt x="14" y="38"/>
                  </a:lnTo>
                  <a:lnTo>
                    <a:pt x="11" y="36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2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9"/>
                  </a:lnTo>
                  <a:lnTo>
                    <a:pt x="5" y="6"/>
                  </a:lnTo>
                  <a:lnTo>
                    <a:pt x="8" y="3"/>
                  </a:lnTo>
                  <a:lnTo>
                    <a:pt x="12" y="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95800" y="1452600"/>
              <a:ext cx="134640" cy="88920"/>
            </a:xfrm>
            <a:custGeom>
              <a:avLst/>
              <a:gdLst/>
              <a:ahLst/>
              <a:rect l="l" t="t" r="r" b="b"/>
              <a:pathLst>
                <a:path w="337" h="226">
                  <a:moveTo>
                    <a:pt x="3" y="77"/>
                  </a:moveTo>
                  <a:lnTo>
                    <a:pt x="8" y="66"/>
                  </a:lnTo>
                  <a:lnTo>
                    <a:pt x="14" y="56"/>
                  </a:lnTo>
                  <a:lnTo>
                    <a:pt x="21" y="47"/>
                  </a:lnTo>
                  <a:lnTo>
                    <a:pt x="30" y="38"/>
                  </a:lnTo>
                  <a:lnTo>
                    <a:pt x="41" y="30"/>
                  </a:lnTo>
                  <a:lnTo>
                    <a:pt x="51" y="23"/>
                  </a:lnTo>
                  <a:lnTo>
                    <a:pt x="63" y="17"/>
                  </a:lnTo>
                  <a:lnTo>
                    <a:pt x="77" y="12"/>
                  </a:lnTo>
                  <a:lnTo>
                    <a:pt x="91" y="8"/>
                  </a:lnTo>
                  <a:lnTo>
                    <a:pt x="105" y="4"/>
                  </a:lnTo>
                  <a:lnTo>
                    <a:pt x="121" y="2"/>
                  </a:lnTo>
                  <a:lnTo>
                    <a:pt x="137" y="0"/>
                  </a:lnTo>
                  <a:lnTo>
                    <a:pt x="153" y="0"/>
                  </a:lnTo>
                  <a:lnTo>
                    <a:pt x="170" y="2"/>
                  </a:lnTo>
                  <a:lnTo>
                    <a:pt x="187" y="3"/>
                  </a:lnTo>
                  <a:lnTo>
                    <a:pt x="204" y="6"/>
                  </a:lnTo>
                  <a:lnTo>
                    <a:pt x="221" y="10"/>
                  </a:lnTo>
                  <a:lnTo>
                    <a:pt x="236" y="16"/>
                  </a:lnTo>
                  <a:lnTo>
                    <a:pt x="251" y="22"/>
                  </a:lnTo>
                  <a:lnTo>
                    <a:pt x="265" y="29"/>
                  </a:lnTo>
                  <a:lnTo>
                    <a:pt x="278" y="36"/>
                  </a:lnTo>
                  <a:lnTo>
                    <a:pt x="290" y="45"/>
                  </a:lnTo>
                  <a:lnTo>
                    <a:pt x="300" y="54"/>
                  </a:lnTo>
                  <a:lnTo>
                    <a:pt x="309" y="63"/>
                  </a:lnTo>
                  <a:lnTo>
                    <a:pt x="318" y="74"/>
                  </a:lnTo>
                  <a:lnTo>
                    <a:pt x="325" y="83"/>
                  </a:lnTo>
                  <a:lnTo>
                    <a:pt x="330" y="94"/>
                  </a:lnTo>
                  <a:lnTo>
                    <a:pt x="335" y="105"/>
                  </a:lnTo>
                  <a:lnTo>
                    <a:pt x="336" y="115"/>
                  </a:lnTo>
                  <a:lnTo>
                    <a:pt x="337" y="127"/>
                  </a:lnTo>
                  <a:lnTo>
                    <a:pt x="336" y="138"/>
                  </a:lnTo>
                  <a:lnTo>
                    <a:pt x="333" y="149"/>
                  </a:lnTo>
                  <a:lnTo>
                    <a:pt x="329" y="160"/>
                  </a:lnTo>
                  <a:lnTo>
                    <a:pt x="323" y="171"/>
                  </a:lnTo>
                  <a:lnTo>
                    <a:pt x="315" y="179"/>
                  </a:lnTo>
                  <a:lnTo>
                    <a:pt x="307" y="189"/>
                  </a:lnTo>
                  <a:lnTo>
                    <a:pt x="296" y="196"/>
                  </a:lnTo>
                  <a:lnTo>
                    <a:pt x="285" y="203"/>
                  </a:lnTo>
                  <a:lnTo>
                    <a:pt x="273" y="209"/>
                  </a:lnTo>
                  <a:lnTo>
                    <a:pt x="260" y="214"/>
                  </a:lnTo>
                  <a:lnTo>
                    <a:pt x="246" y="219"/>
                  </a:lnTo>
                  <a:lnTo>
                    <a:pt x="231" y="222"/>
                  </a:lnTo>
                  <a:lnTo>
                    <a:pt x="216" y="225"/>
                  </a:lnTo>
                  <a:lnTo>
                    <a:pt x="200" y="226"/>
                  </a:lnTo>
                  <a:lnTo>
                    <a:pt x="183" y="226"/>
                  </a:lnTo>
                  <a:lnTo>
                    <a:pt x="167" y="225"/>
                  </a:lnTo>
                  <a:lnTo>
                    <a:pt x="150" y="223"/>
                  </a:lnTo>
                  <a:lnTo>
                    <a:pt x="133" y="220"/>
                  </a:lnTo>
                  <a:lnTo>
                    <a:pt x="116" y="216"/>
                  </a:lnTo>
                  <a:lnTo>
                    <a:pt x="101" y="210"/>
                  </a:lnTo>
                  <a:lnTo>
                    <a:pt x="86" y="204"/>
                  </a:lnTo>
                  <a:lnTo>
                    <a:pt x="72" y="197"/>
                  </a:lnTo>
                  <a:lnTo>
                    <a:pt x="59" y="190"/>
                  </a:lnTo>
                  <a:lnTo>
                    <a:pt x="47" y="181"/>
                  </a:lnTo>
                  <a:lnTo>
                    <a:pt x="37" y="172"/>
                  </a:lnTo>
                  <a:lnTo>
                    <a:pt x="27" y="162"/>
                  </a:lnTo>
                  <a:lnTo>
                    <a:pt x="19" y="153"/>
                  </a:lnTo>
                  <a:lnTo>
                    <a:pt x="12" y="143"/>
                  </a:lnTo>
                  <a:lnTo>
                    <a:pt x="7" y="132"/>
                  </a:lnTo>
                  <a:lnTo>
                    <a:pt x="2" y="121"/>
                  </a:lnTo>
                  <a:lnTo>
                    <a:pt x="1" y="110"/>
                  </a:lnTo>
                  <a:lnTo>
                    <a:pt x="0" y="99"/>
                  </a:lnTo>
                  <a:lnTo>
                    <a:pt x="1" y="88"/>
                  </a:lnTo>
                  <a:lnTo>
                    <a:pt x="3" y="77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6320" y="1468440"/>
              <a:ext cx="103320" cy="57240"/>
            </a:xfrm>
            <a:custGeom>
              <a:avLst/>
              <a:gdLst/>
              <a:ahLst/>
              <a:rect l="l" t="t" r="r" b="b"/>
              <a:pathLst>
                <a:path w="262" h="145">
                  <a:moveTo>
                    <a:pt x="2" y="45"/>
                  </a:moveTo>
                  <a:lnTo>
                    <a:pt x="5" y="37"/>
                  </a:lnTo>
                  <a:lnTo>
                    <a:pt x="10" y="31"/>
                  </a:lnTo>
                  <a:lnTo>
                    <a:pt x="14" y="25"/>
                  </a:lnTo>
                  <a:lnTo>
                    <a:pt x="20" y="21"/>
                  </a:lnTo>
                  <a:lnTo>
                    <a:pt x="28" y="16"/>
                  </a:lnTo>
                  <a:lnTo>
                    <a:pt x="36" y="12"/>
                  </a:lnTo>
                  <a:lnTo>
                    <a:pt x="46" y="9"/>
                  </a:lnTo>
                  <a:lnTo>
                    <a:pt x="55" y="6"/>
                  </a:lnTo>
                  <a:lnTo>
                    <a:pt x="66" y="4"/>
                  </a:lnTo>
                  <a:lnTo>
                    <a:pt x="77" y="1"/>
                  </a:lnTo>
                  <a:lnTo>
                    <a:pt x="89" y="0"/>
                  </a:lnTo>
                  <a:lnTo>
                    <a:pt x="101" y="0"/>
                  </a:lnTo>
                  <a:lnTo>
                    <a:pt x="114" y="0"/>
                  </a:lnTo>
                  <a:lnTo>
                    <a:pt x="126" y="1"/>
                  </a:lnTo>
                  <a:lnTo>
                    <a:pt x="139" y="4"/>
                  </a:lnTo>
                  <a:lnTo>
                    <a:pt x="152" y="6"/>
                  </a:lnTo>
                  <a:lnTo>
                    <a:pt x="166" y="10"/>
                  </a:lnTo>
                  <a:lnTo>
                    <a:pt x="178" y="13"/>
                  </a:lnTo>
                  <a:lnTo>
                    <a:pt x="190" y="17"/>
                  </a:lnTo>
                  <a:lnTo>
                    <a:pt x="200" y="23"/>
                  </a:lnTo>
                  <a:lnTo>
                    <a:pt x="211" y="28"/>
                  </a:lnTo>
                  <a:lnTo>
                    <a:pt x="221" y="34"/>
                  </a:lnTo>
                  <a:lnTo>
                    <a:pt x="229" y="40"/>
                  </a:lnTo>
                  <a:lnTo>
                    <a:pt x="238" y="46"/>
                  </a:lnTo>
                  <a:lnTo>
                    <a:pt x="244" y="52"/>
                  </a:lnTo>
                  <a:lnTo>
                    <a:pt x="250" y="59"/>
                  </a:lnTo>
                  <a:lnTo>
                    <a:pt x="254" y="66"/>
                  </a:lnTo>
                  <a:lnTo>
                    <a:pt x="258" y="73"/>
                  </a:lnTo>
                  <a:lnTo>
                    <a:pt x="260" y="80"/>
                  </a:lnTo>
                  <a:lnTo>
                    <a:pt x="262" y="86"/>
                  </a:lnTo>
                  <a:lnTo>
                    <a:pt x="260" y="94"/>
                  </a:lnTo>
                  <a:lnTo>
                    <a:pt x="259" y="101"/>
                  </a:lnTo>
                  <a:lnTo>
                    <a:pt x="257" y="108"/>
                  </a:lnTo>
                  <a:lnTo>
                    <a:pt x="252" y="114"/>
                  </a:lnTo>
                  <a:lnTo>
                    <a:pt x="247" y="120"/>
                  </a:lnTo>
                  <a:lnTo>
                    <a:pt x="240" y="125"/>
                  </a:lnTo>
                  <a:lnTo>
                    <a:pt x="233" y="130"/>
                  </a:lnTo>
                  <a:lnTo>
                    <a:pt x="224" y="133"/>
                  </a:lnTo>
                  <a:lnTo>
                    <a:pt x="216" y="137"/>
                  </a:lnTo>
                  <a:lnTo>
                    <a:pt x="206" y="139"/>
                  </a:lnTo>
                  <a:lnTo>
                    <a:pt x="196" y="142"/>
                  </a:lnTo>
                  <a:lnTo>
                    <a:pt x="185" y="144"/>
                  </a:lnTo>
                  <a:lnTo>
                    <a:pt x="173" y="145"/>
                  </a:lnTo>
                  <a:lnTo>
                    <a:pt x="161" y="145"/>
                  </a:lnTo>
                  <a:lnTo>
                    <a:pt x="148" y="144"/>
                  </a:lnTo>
                  <a:lnTo>
                    <a:pt x="136" y="144"/>
                  </a:lnTo>
                  <a:lnTo>
                    <a:pt x="122" y="142"/>
                  </a:lnTo>
                  <a:lnTo>
                    <a:pt x="109" y="139"/>
                  </a:lnTo>
                  <a:lnTo>
                    <a:pt x="96" y="136"/>
                  </a:lnTo>
                  <a:lnTo>
                    <a:pt x="83" y="132"/>
                  </a:lnTo>
                  <a:lnTo>
                    <a:pt x="72" y="127"/>
                  </a:lnTo>
                  <a:lnTo>
                    <a:pt x="60" y="122"/>
                  </a:lnTo>
                  <a:lnTo>
                    <a:pt x="50" y="118"/>
                  </a:lnTo>
                  <a:lnTo>
                    <a:pt x="41" y="112"/>
                  </a:lnTo>
                  <a:lnTo>
                    <a:pt x="32" y="106"/>
                  </a:lnTo>
                  <a:lnTo>
                    <a:pt x="24" y="100"/>
                  </a:lnTo>
                  <a:lnTo>
                    <a:pt x="18" y="94"/>
                  </a:lnTo>
                  <a:lnTo>
                    <a:pt x="12" y="86"/>
                  </a:lnTo>
                  <a:lnTo>
                    <a:pt x="7" y="79"/>
                  </a:lnTo>
                  <a:lnTo>
                    <a:pt x="4" y="72"/>
                  </a:lnTo>
                  <a:lnTo>
                    <a:pt x="1" y="65"/>
                  </a:lnTo>
                  <a:lnTo>
                    <a:pt x="0" y="58"/>
                  </a:lnTo>
                  <a:lnTo>
                    <a:pt x="1" y="52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35400" y="1481040"/>
              <a:ext cx="19080" cy="1440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" y="13"/>
                  </a:moveTo>
                  <a:lnTo>
                    <a:pt x="3" y="10"/>
                  </a:lnTo>
                  <a:lnTo>
                    <a:pt x="5" y="6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50" y="16"/>
                  </a:lnTo>
                  <a:lnTo>
                    <a:pt x="50" y="19"/>
                  </a:lnTo>
                  <a:lnTo>
                    <a:pt x="48" y="23"/>
                  </a:lnTo>
                  <a:lnTo>
                    <a:pt x="47" y="26"/>
                  </a:lnTo>
                  <a:lnTo>
                    <a:pt x="45" y="30"/>
                  </a:lnTo>
                  <a:lnTo>
                    <a:pt x="41" y="32"/>
                  </a:lnTo>
                  <a:lnTo>
                    <a:pt x="38" y="34"/>
                  </a:lnTo>
                  <a:lnTo>
                    <a:pt x="34" y="36"/>
                  </a:lnTo>
                  <a:lnTo>
                    <a:pt x="29" y="36"/>
                  </a:lnTo>
                  <a:lnTo>
                    <a:pt x="24" y="36"/>
                  </a:lnTo>
                  <a:lnTo>
                    <a:pt x="20" y="36"/>
                  </a:lnTo>
                  <a:lnTo>
                    <a:pt x="15" y="34"/>
                  </a:lnTo>
                  <a:lnTo>
                    <a:pt x="11" y="32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2" y="20"/>
                  </a:lnTo>
                  <a:lnTo>
                    <a:pt x="0" y="17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5400" y="1481040"/>
              <a:ext cx="19080" cy="1440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" y="13"/>
                  </a:moveTo>
                  <a:lnTo>
                    <a:pt x="3" y="10"/>
                  </a:lnTo>
                  <a:lnTo>
                    <a:pt x="5" y="6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50" y="16"/>
                  </a:lnTo>
                  <a:lnTo>
                    <a:pt x="50" y="19"/>
                  </a:lnTo>
                  <a:lnTo>
                    <a:pt x="48" y="23"/>
                  </a:lnTo>
                  <a:lnTo>
                    <a:pt x="47" y="26"/>
                  </a:lnTo>
                  <a:lnTo>
                    <a:pt x="45" y="30"/>
                  </a:lnTo>
                  <a:lnTo>
                    <a:pt x="41" y="32"/>
                  </a:lnTo>
                  <a:lnTo>
                    <a:pt x="38" y="34"/>
                  </a:lnTo>
                  <a:lnTo>
                    <a:pt x="34" y="36"/>
                  </a:lnTo>
                  <a:lnTo>
                    <a:pt x="29" y="36"/>
                  </a:lnTo>
                  <a:lnTo>
                    <a:pt x="24" y="36"/>
                  </a:lnTo>
                  <a:lnTo>
                    <a:pt x="20" y="36"/>
                  </a:lnTo>
                  <a:lnTo>
                    <a:pt x="15" y="34"/>
                  </a:lnTo>
                  <a:lnTo>
                    <a:pt x="11" y="32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2" y="20"/>
                  </a:lnTo>
                  <a:lnTo>
                    <a:pt x="0" y="17"/>
                  </a:lnTo>
                  <a:lnTo>
                    <a:pt x="2" y="1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77960" y="1787400"/>
              <a:ext cx="131760" cy="87480"/>
            </a:xfrm>
            <a:custGeom>
              <a:avLst/>
              <a:gdLst/>
              <a:ahLst/>
              <a:rect l="l" t="t" r="r" b="b"/>
              <a:pathLst>
                <a:path w="332" h="222">
                  <a:moveTo>
                    <a:pt x="8" y="163"/>
                  </a:moveTo>
                  <a:lnTo>
                    <a:pt x="4" y="152"/>
                  </a:lnTo>
                  <a:lnTo>
                    <a:pt x="2" y="141"/>
                  </a:lnTo>
                  <a:lnTo>
                    <a:pt x="0" y="131"/>
                  </a:lnTo>
                  <a:lnTo>
                    <a:pt x="2" y="121"/>
                  </a:lnTo>
                  <a:lnTo>
                    <a:pt x="4" y="110"/>
                  </a:lnTo>
                  <a:lnTo>
                    <a:pt x="9" y="99"/>
                  </a:lnTo>
                  <a:lnTo>
                    <a:pt x="14" y="89"/>
                  </a:lnTo>
                  <a:lnTo>
                    <a:pt x="21" y="78"/>
                  </a:lnTo>
                  <a:lnTo>
                    <a:pt x="29" y="68"/>
                  </a:lnTo>
                  <a:lnTo>
                    <a:pt x="39" y="59"/>
                  </a:lnTo>
                  <a:lnTo>
                    <a:pt x="50" y="49"/>
                  </a:lnTo>
                  <a:lnTo>
                    <a:pt x="62" y="41"/>
                  </a:lnTo>
                  <a:lnTo>
                    <a:pt x="74" y="32"/>
                  </a:lnTo>
                  <a:lnTo>
                    <a:pt x="88" y="25"/>
                  </a:lnTo>
                  <a:lnTo>
                    <a:pt x="104" y="19"/>
                  </a:lnTo>
                  <a:lnTo>
                    <a:pt x="119" y="13"/>
                  </a:lnTo>
                  <a:lnTo>
                    <a:pt x="136" y="8"/>
                  </a:lnTo>
                  <a:lnTo>
                    <a:pt x="152" y="5"/>
                  </a:lnTo>
                  <a:lnTo>
                    <a:pt x="168" y="2"/>
                  </a:lnTo>
                  <a:lnTo>
                    <a:pt x="184" y="1"/>
                  </a:lnTo>
                  <a:lnTo>
                    <a:pt x="201" y="0"/>
                  </a:lnTo>
                  <a:lnTo>
                    <a:pt x="215" y="1"/>
                  </a:lnTo>
                  <a:lnTo>
                    <a:pt x="231" y="2"/>
                  </a:lnTo>
                  <a:lnTo>
                    <a:pt x="245" y="5"/>
                  </a:lnTo>
                  <a:lnTo>
                    <a:pt x="258" y="8"/>
                  </a:lnTo>
                  <a:lnTo>
                    <a:pt x="272" y="13"/>
                  </a:lnTo>
                  <a:lnTo>
                    <a:pt x="284" y="19"/>
                  </a:lnTo>
                  <a:lnTo>
                    <a:pt x="294" y="25"/>
                  </a:lnTo>
                  <a:lnTo>
                    <a:pt x="304" y="32"/>
                  </a:lnTo>
                  <a:lnTo>
                    <a:pt x="312" y="41"/>
                  </a:lnTo>
                  <a:lnTo>
                    <a:pt x="320" y="49"/>
                  </a:lnTo>
                  <a:lnTo>
                    <a:pt x="324" y="59"/>
                  </a:lnTo>
                  <a:lnTo>
                    <a:pt x="329" y="69"/>
                  </a:lnTo>
                  <a:lnTo>
                    <a:pt x="332" y="79"/>
                  </a:lnTo>
                  <a:lnTo>
                    <a:pt x="332" y="90"/>
                  </a:lnTo>
                  <a:lnTo>
                    <a:pt x="330" y="101"/>
                  </a:lnTo>
                  <a:lnTo>
                    <a:pt x="328" y="111"/>
                  </a:lnTo>
                  <a:lnTo>
                    <a:pt x="324" y="122"/>
                  </a:lnTo>
                  <a:lnTo>
                    <a:pt x="318" y="133"/>
                  </a:lnTo>
                  <a:lnTo>
                    <a:pt x="311" y="143"/>
                  </a:lnTo>
                  <a:lnTo>
                    <a:pt x="303" y="153"/>
                  </a:lnTo>
                  <a:lnTo>
                    <a:pt x="294" y="163"/>
                  </a:lnTo>
                  <a:lnTo>
                    <a:pt x="284" y="171"/>
                  </a:lnTo>
                  <a:lnTo>
                    <a:pt x="272" y="181"/>
                  </a:lnTo>
                  <a:lnTo>
                    <a:pt x="258" y="188"/>
                  </a:lnTo>
                  <a:lnTo>
                    <a:pt x="244" y="195"/>
                  </a:lnTo>
                  <a:lnTo>
                    <a:pt x="230" y="203"/>
                  </a:lnTo>
                  <a:lnTo>
                    <a:pt x="213" y="209"/>
                  </a:lnTo>
                  <a:lnTo>
                    <a:pt x="197" y="213"/>
                  </a:lnTo>
                  <a:lnTo>
                    <a:pt x="180" y="217"/>
                  </a:lnTo>
                  <a:lnTo>
                    <a:pt x="164" y="219"/>
                  </a:lnTo>
                  <a:lnTo>
                    <a:pt x="148" y="221"/>
                  </a:lnTo>
                  <a:lnTo>
                    <a:pt x="132" y="222"/>
                  </a:lnTo>
                  <a:lnTo>
                    <a:pt x="117" y="221"/>
                  </a:lnTo>
                  <a:lnTo>
                    <a:pt x="102" y="219"/>
                  </a:lnTo>
                  <a:lnTo>
                    <a:pt x="88" y="216"/>
                  </a:lnTo>
                  <a:lnTo>
                    <a:pt x="74" y="212"/>
                  </a:lnTo>
                  <a:lnTo>
                    <a:pt x="62" y="209"/>
                  </a:lnTo>
                  <a:lnTo>
                    <a:pt x="50" y="203"/>
                  </a:lnTo>
                  <a:lnTo>
                    <a:pt x="39" y="197"/>
                  </a:lnTo>
                  <a:lnTo>
                    <a:pt x="29" y="189"/>
                  </a:lnTo>
                  <a:lnTo>
                    <a:pt x="21" y="181"/>
                  </a:lnTo>
                  <a:lnTo>
                    <a:pt x="14" y="173"/>
                  </a:lnTo>
                  <a:lnTo>
                    <a:pt x="8" y="163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7040" y="1800360"/>
              <a:ext cx="101880" cy="56880"/>
            </a:xfrm>
            <a:custGeom>
              <a:avLst/>
              <a:gdLst/>
              <a:ahLst/>
              <a:rect l="l" t="t" r="r" b="b"/>
              <a:pathLst>
                <a:path w="255" h="147">
                  <a:moveTo>
                    <a:pt x="4" y="114"/>
                  </a:moveTo>
                  <a:lnTo>
                    <a:pt x="2" y="108"/>
                  </a:lnTo>
                  <a:lnTo>
                    <a:pt x="0" y="101"/>
                  </a:lnTo>
                  <a:lnTo>
                    <a:pt x="2" y="94"/>
                  </a:lnTo>
                  <a:lnTo>
                    <a:pt x="3" y="88"/>
                  </a:lnTo>
                  <a:lnTo>
                    <a:pt x="5" y="81"/>
                  </a:lnTo>
                  <a:lnTo>
                    <a:pt x="9" y="73"/>
                  </a:lnTo>
                  <a:lnTo>
                    <a:pt x="14" y="66"/>
                  </a:lnTo>
                  <a:lnTo>
                    <a:pt x="20" y="59"/>
                  </a:lnTo>
                  <a:lnTo>
                    <a:pt x="27" y="52"/>
                  </a:lnTo>
                  <a:lnTo>
                    <a:pt x="34" y="46"/>
                  </a:lnTo>
                  <a:lnTo>
                    <a:pt x="44" y="40"/>
                  </a:lnTo>
                  <a:lnTo>
                    <a:pt x="53" y="34"/>
                  </a:lnTo>
                  <a:lnTo>
                    <a:pt x="63" y="28"/>
                  </a:lnTo>
                  <a:lnTo>
                    <a:pt x="74" y="22"/>
                  </a:lnTo>
                  <a:lnTo>
                    <a:pt x="86" y="17"/>
                  </a:lnTo>
                  <a:lnTo>
                    <a:pt x="99" y="12"/>
                  </a:lnTo>
                  <a:lnTo>
                    <a:pt x="111" y="9"/>
                  </a:lnTo>
                  <a:lnTo>
                    <a:pt x="124" y="6"/>
                  </a:lnTo>
                  <a:lnTo>
                    <a:pt x="136" y="4"/>
                  </a:lnTo>
                  <a:lnTo>
                    <a:pt x="149" y="1"/>
                  </a:lnTo>
                  <a:lnTo>
                    <a:pt x="161" y="1"/>
                  </a:lnTo>
                  <a:lnTo>
                    <a:pt x="172" y="0"/>
                  </a:lnTo>
                  <a:lnTo>
                    <a:pt x="184" y="1"/>
                  </a:lnTo>
                  <a:lnTo>
                    <a:pt x="195" y="3"/>
                  </a:lnTo>
                  <a:lnTo>
                    <a:pt x="204" y="4"/>
                  </a:lnTo>
                  <a:lnTo>
                    <a:pt x="214" y="6"/>
                  </a:lnTo>
                  <a:lnTo>
                    <a:pt x="222" y="9"/>
                  </a:lnTo>
                  <a:lnTo>
                    <a:pt x="230" y="12"/>
                  </a:lnTo>
                  <a:lnTo>
                    <a:pt x="237" y="17"/>
                  </a:lnTo>
                  <a:lnTo>
                    <a:pt x="243" y="22"/>
                  </a:lnTo>
                  <a:lnTo>
                    <a:pt x="248" y="27"/>
                  </a:lnTo>
                  <a:lnTo>
                    <a:pt x="251" y="33"/>
                  </a:lnTo>
                  <a:lnTo>
                    <a:pt x="254" y="40"/>
                  </a:lnTo>
                  <a:lnTo>
                    <a:pt x="255" y="46"/>
                  </a:lnTo>
                  <a:lnTo>
                    <a:pt x="255" y="53"/>
                  </a:lnTo>
                  <a:lnTo>
                    <a:pt x="254" y="60"/>
                  </a:lnTo>
                  <a:lnTo>
                    <a:pt x="250" y="67"/>
                  </a:lnTo>
                  <a:lnTo>
                    <a:pt x="246" y="75"/>
                  </a:lnTo>
                  <a:lnTo>
                    <a:pt x="242" y="81"/>
                  </a:lnTo>
                  <a:lnTo>
                    <a:pt x="236" y="88"/>
                  </a:lnTo>
                  <a:lnTo>
                    <a:pt x="228" y="95"/>
                  </a:lnTo>
                  <a:lnTo>
                    <a:pt x="221" y="101"/>
                  </a:lnTo>
                  <a:lnTo>
                    <a:pt x="213" y="108"/>
                  </a:lnTo>
                  <a:lnTo>
                    <a:pt x="203" y="114"/>
                  </a:lnTo>
                  <a:lnTo>
                    <a:pt x="192" y="120"/>
                  </a:lnTo>
                  <a:lnTo>
                    <a:pt x="182" y="125"/>
                  </a:lnTo>
                  <a:lnTo>
                    <a:pt x="170" y="130"/>
                  </a:lnTo>
                  <a:lnTo>
                    <a:pt x="158" y="135"/>
                  </a:lnTo>
                  <a:lnTo>
                    <a:pt x="144" y="138"/>
                  </a:lnTo>
                  <a:lnTo>
                    <a:pt x="131" y="142"/>
                  </a:lnTo>
                  <a:lnTo>
                    <a:pt x="119" y="144"/>
                  </a:lnTo>
                  <a:lnTo>
                    <a:pt x="107" y="145"/>
                  </a:lnTo>
                  <a:lnTo>
                    <a:pt x="95" y="147"/>
                  </a:lnTo>
                  <a:lnTo>
                    <a:pt x="83" y="147"/>
                  </a:lnTo>
                  <a:lnTo>
                    <a:pt x="72" y="147"/>
                  </a:lnTo>
                  <a:lnTo>
                    <a:pt x="62" y="145"/>
                  </a:lnTo>
                  <a:lnTo>
                    <a:pt x="51" y="143"/>
                  </a:lnTo>
                  <a:lnTo>
                    <a:pt x="41" y="141"/>
                  </a:lnTo>
                  <a:lnTo>
                    <a:pt x="33" y="138"/>
                  </a:lnTo>
                  <a:lnTo>
                    <a:pt x="26" y="135"/>
                  </a:lnTo>
                  <a:lnTo>
                    <a:pt x="18" y="130"/>
                  </a:lnTo>
                  <a:lnTo>
                    <a:pt x="12" y="125"/>
                  </a:lnTo>
                  <a:lnTo>
                    <a:pt x="8" y="120"/>
                  </a:lnTo>
                  <a:lnTo>
                    <a:pt x="4" y="114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14680" y="1827360"/>
              <a:ext cx="19080" cy="140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1" y="26"/>
                  </a:move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8" y="6"/>
                  </a:lnTo>
                  <a:lnTo>
                    <a:pt x="12" y="4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5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48" y="15"/>
                  </a:lnTo>
                  <a:lnTo>
                    <a:pt x="48" y="18"/>
                  </a:lnTo>
                  <a:lnTo>
                    <a:pt x="47" y="21"/>
                  </a:lnTo>
                  <a:lnTo>
                    <a:pt x="45" y="24"/>
                  </a:lnTo>
                  <a:lnTo>
                    <a:pt x="43" y="28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2" y="34"/>
                  </a:lnTo>
                  <a:lnTo>
                    <a:pt x="27" y="35"/>
                  </a:lnTo>
                  <a:lnTo>
                    <a:pt x="23" y="36"/>
                  </a:lnTo>
                  <a:lnTo>
                    <a:pt x="18" y="36"/>
                  </a:lnTo>
                  <a:lnTo>
                    <a:pt x="13" y="35"/>
                  </a:lnTo>
                  <a:lnTo>
                    <a:pt x="9" y="34"/>
                  </a:lnTo>
                  <a:lnTo>
                    <a:pt x="6" y="32"/>
                  </a:lnTo>
                  <a:lnTo>
                    <a:pt x="3" y="29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14680" y="1827360"/>
              <a:ext cx="19080" cy="140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1" y="26"/>
                  </a:move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8" y="6"/>
                  </a:lnTo>
                  <a:lnTo>
                    <a:pt x="12" y="4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5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48" y="15"/>
                  </a:lnTo>
                  <a:lnTo>
                    <a:pt x="48" y="18"/>
                  </a:lnTo>
                  <a:lnTo>
                    <a:pt x="47" y="21"/>
                  </a:lnTo>
                  <a:lnTo>
                    <a:pt x="45" y="24"/>
                  </a:lnTo>
                  <a:lnTo>
                    <a:pt x="43" y="28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2" y="34"/>
                  </a:lnTo>
                  <a:lnTo>
                    <a:pt x="27" y="35"/>
                  </a:lnTo>
                  <a:lnTo>
                    <a:pt x="23" y="36"/>
                  </a:lnTo>
                  <a:lnTo>
                    <a:pt x="18" y="36"/>
                  </a:lnTo>
                  <a:lnTo>
                    <a:pt x="13" y="35"/>
                  </a:lnTo>
                  <a:lnTo>
                    <a:pt x="9" y="34"/>
                  </a:lnTo>
                  <a:lnTo>
                    <a:pt x="6" y="32"/>
                  </a:lnTo>
                  <a:lnTo>
                    <a:pt x="3" y="29"/>
                  </a:lnTo>
                  <a:lnTo>
                    <a:pt x="1" y="2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95480" y="2075040"/>
              <a:ext cx="131760" cy="90360"/>
            </a:xfrm>
            <a:custGeom>
              <a:avLst/>
              <a:gdLst/>
              <a:ahLst/>
              <a:rect l="l" t="t" r="r" b="b"/>
              <a:pathLst>
                <a:path w="334" h="230">
                  <a:moveTo>
                    <a:pt x="9" y="166"/>
                  </a:moveTo>
                  <a:lnTo>
                    <a:pt x="4" y="155"/>
                  </a:lnTo>
                  <a:lnTo>
                    <a:pt x="2" y="145"/>
                  </a:lnTo>
                  <a:lnTo>
                    <a:pt x="0" y="134"/>
                  </a:lnTo>
                  <a:lnTo>
                    <a:pt x="2" y="122"/>
                  </a:lnTo>
                  <a:lnTo>
                    <a:pt x="4" y="111"/>
                  </a:lnTo>
                  <a:lnTo>
                    <a:pt x="8" y="100"/>
                  </a:lnTo>
                  <a:lnTo>
                    <a:pt x="12" y="89"/>
                  </a:lnTo>
                  <a:lnTo>
                    <a:pt x="20" y="79"/>
                  </a:lnTo>
                  <a:lnTo>
                    <a:pt x="28" y="68"/>
                  </a:lnTo>
                  <a:lnTo>
                    <a:pt x="36" y="58"/>
                  </a:lnTo>
                  <a:lnTo>
                    <a:pt x="47" y="49"/>
                  </a:lnTo>
                  <a:lnTo>
                    <a:pt x="59" y="40"/>
                  </a:lnTo>
                  <a:lnTo>
                    <a:pt x="72" y="32"/>
                  </a:lnTo>
                  <a:lnTo>
                    <a:pt x="86" y="25"/>
                  </a:lnTo>
                  <a:lnTo>
                    <a:pt x="101" y="18"/>
                  </a:lnTo>
                  <a:lnTo>
                    <a:pt x="117" y="12"/>
                  </a:lnTo>
                  <a:lnTo>
                    <a:pt x="134" y="7"/>
                  </a:lnTo>
                  <a:lnTo>
                    <a:pt x="150" y="3"/>
                  </a:lnTo>
                  <a:lnTo>
                    <a:pt x="166" y="1"/>
                  </a:lnTo>
                  <a:lnTo>
                    <a:pt x="183" y="0"/>
                  </a:lnTo>
                  <a:lnTo>
                    <a:pt x="198" y="0"/>
                  </a:lnTo>
                  <a:lnTo>
                    <a:pt x="214" y="1"/>
                  </a:lnTo>
                  <a:lnTo>
                    <a:pt x="230" y="2"/>
                  </a:lnTo>
                  <a:lnTo>
                    <a:pt x="244" y="6"/>
                  </a:lnTo>
                  <a:lnTo>
                    <a:pt x="257" y="9"/>
                  </a:lnTo>
                  <a:lnTo>
                    <a:pt x="270" y="14"/>
                  </a:lnTo>
                  <a:lnTo>
                    <a:pt x="282" y="20"/>
                  </a:lnTo>
                  <a:lnTo>
                    <a:pt x="294" y="27"/>
                  </a:lnTo>
                  <a:lnTo>
                    <a:pt x="304" y="34"/>
                  </a:lnTo>
                  <a:lnTo>
                    <a:pt x="312" y="44"/>
                  </a:lnTo>
                  <a:lnTo>
                    <a:pt x="320" y="52"/>
                  </a:lnTo>
                  <a:lnTo>
                    <a:pt x="326" y="63"/>
                  </a:lnTo>
                  <a:lnTo>
                    <a:pt x="330" y="74"/>
                  </a:lnTo>
                  <a:lnTo>
                    <a:pt x="333" y="85"/>
                  </a:lnTo>
                  <a:lnTo>
                    <a:pt x="334" y="95"/>
                  </a:lnTo>
                  <a:lnTo>
                    <a:pt x="333" y="107"/>
                  </a:lnTo>
                  <a:lnTo>
                    <a:pt x="330" y="118"/>
                  </a:lnTo>
                  <a:lnTo>
                    <a:pt x="327" y="129"/>
                  </a:lnTo>
                  <a:lnTo>
                    <a:pt x="321" y="140"/>
                  </a:lnTo>
                  <a:lnTo>
                    <a:pt x="315" y="151"/>
                  </a:lnTo>
                  <a:lnTo>
                    <a:pt x="306" y="161"/>
                  </a:lnTo>
                  <a:lnTo>
                    <a:pt x="297" y="171"/>
                  </a:lnTo>
                  <a:lnTo>
                    <a:pt x="286" y="181"/>
                  </a:lnTo>
                  <a:lnTo>
                    <a:pt x="275" y="189"/>
                  </a:lnTo>
                  <a:lnTo>
                    <a:pt x="262" y="197"/>
                  </a:lnTo>
                  <a:lnTo>
                    <a:pt x="248" y="205"/>
                  </a:lnTo>
                  <a:lnTo>
                    <a:pt x="233" y="212"/>
                  </a:lnTo>
                  <a:lnTo>
                    <a:pt x="218" y="218"/>
                  </a:lnTo>
                  <a:lnTo>
                    <a:pt x="201" y="223"/>
                  </a:lnTo>
                  <a:lnTo>
                    <a:pt x="184" y="226"/>
                  </a:lnTo>
                  <a:lnTo>
                    <a:pt x="167" y="229"/>
                  </a:lnTo>
                  <a:lnTo>
                    <a:pt x="152" y="230"/>
                  </a:lnTo>
                  <a:lnTo>
                    <a:pt x="136" y="230"/>
                  </a:lnTo>
                  <a:lnTo>
                    <a:pt x="120" y="229"/>
                  </a:lnTo>
                  <a:lnTo>
                    <a:pt x="105" y="226"/>
                  </a:lnTo>
                  <a:lnTo>
                    <a:pt x="90" y="224"/>
                  </a:lnTo>
                  <a:lnTo>
                    <a:pt x="76" y="220"/>
                  </a:lnTo>
                  <a:lnTo>
                    <a:pt x="64" y="215"/>
                  </a:lnTo>
                  <a:lnTo>
                    <a:pt x="51" y="209"/>
                  </a:lnTo>
                  <a:lnTo>
                    <a:pt x="40" y="202"/>
                  </a:lnTo>
                  <a:lnTo>
                    <a:pt x="30" y="195"/>
                  </a:lnTo>
                  <a:lnTo>
                    <a:pt x="22" y="185"/>
                  </a:lnTo>
                  <a:lnTo>
                    <a:pt x="15" y="177"/>
                  </a:lnTo>
                  <a:lnTo>
                    <a:pt x="9" y="166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14560" y="2089080"/>
              <a:ext cx="101520" cy="58680"/>
            </a:xfrm>
            <a:custGeom>
              <a:avLst/>
              <a:gdLst/>
              <a:ahLst/>
              <a:rect l="l" t="t" r="r" b="b"/>
              <a:pathLst>
                <a:path w="254" h="151">
                  <a:moveTo>
                    <a:pt x="3" y="115"/>
                  </a:moveTo>
                  <a:lnTo>
                    <a:pt x="1" y="109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3" y="81"/>
                  </a:lnTo>
                  <a:lnTo>
                    <a:pt x="7" y="73"/>
                  </a:lnTo>
                  <a:lnTo>
                    <a:pt x="12" y="66"/>
                  </a:lnTo>
                  <a:lnTo>
                    <a:pt x="18" y="59"/>
                  </a:lnTo>
                  <a:lnTo>
                    <a:pt x="24" y="52"/>
                  </a:lnTo>
                  <a:lnTo>
                    <a:pt x="32" y="45"/>
                  </a:lnTo>
                  <a:lnTo>
                    <a:pt x="40" y="39"/>
                  </a:lnTo>
                  <a:lnTo>
                    <a:pt x="50" y="33"/>
                  </a:lnTo>
                  <a:lnTo>
                    <a:pt x="60" y="27"/>
                  </a:lnTo>
                  <a:lnTo>
                    <a:pt x="72" y="21"/>
                  </a:lnTo>
                  <a:lnTo>
                    <a:pt x="82" y="16"/>
                  </a:lnTo>
                  <a:lnTo>
                    <a:pt x="96" y="11"/>
                  </a:lnTo>
                  <a:lnTo>
                    <a:pt x="109" y="7"/>
                  </a:lnTo>
                  <a:lnTo>
                    <a:pt x="121" y="5"/>
                  </a:lnTo>
                  <a:lnTo>
                    <a:pt x="134" y="3"/>
                  </a:lnTo>
                  <a:lnTo>
                    <a:pt x="146" y="1"/>
                  </a:lnTo>
                  <a:lnTo>
                    <a:pt x="158" y="0"/>
                  </a:lnTo>
                  <a:lnTo>
                    <a:pt x="170" y="0"/>
                  </a:lnTo>
                  <a:lnTo>
                    <a:pt x="181" y="0"/>
                  </a:lnTo>
                  <a:lnTo>
                    <a:pt x="192" y="1"/>
                  </a:lnTo>
                  <a:lnTo>
                    <a:pt x="202" y="4"/>
                  </a:lnTo>
                  <a:lnTo>
                    <a:pt x="212" y="6"/>
                  </a:lnTo>
                  <a:lnTo>
                    <a:pt x="220" y="10"/>
                  </a:lnTo>
                  <a:lnTo>
                    <a:pt x="229" y="13"/>
                  </a:lnTo>
                  <a:lnTo>
                    <a:pt x="236" y="18"/>
                  </a:lnTo>
                  <a:lnTo>
                    <a:pt x="242" y="23"/>
                  </a:lnTo>
                  <a:lnTo>
                    <a:pt x="247" y="29"/>
                  </a:lnTo>
                  <a:lnTo>
                    <a:pt x="250" y="35"/>
                  </a:lnTo>
                  <a:lnTo>
                    <a:pt x="253" y="42"/>
                  </a:lnTo>
                  <a:lnTo>
                    <a:pt x="254" y="49"/>
                  </a:lnTo>
                  <a:lnTo>
                    <a:pt x="254" y="57"/>
                  </a:lnTo>
                  <a:lnTo>
                    <a:pt x="253" y="64"/>
                  </a:lnTo>
                  <a:lnTo>
                    <a:pt x="250" y="71"/>
                  </a:lnTo>
                  <a:lnTo>
                    <a:pt x="247" y="78"/>
                  </a:lnTo>
                  <a:lnTo>
                    <a:pt x="242" y="85"/>
                  </a:lnTo>
                  <a:lnTo>
                    <a:pt x="236" y="93"/>
                  </a:lnTo>
                  <a:lnTo>
                    <a:pt x="229" y="100"/>
                  </a:lnTo>
                  <a:lnTo>
                    <a:pt x="222" y="106"/>
                  </a:lnTo>
                  <a:lnTo>
                    <a:pt x="213" y="113"/>
                  </a:lnTo>
                  <a:lnTo>
                    <a:pt x="204" y="119"/>
                  </a:lnTo>
                  <a:lnTo>
                    <a:pt x="193" y="125"/>
                  </a:lnTo>
                  <a:lnTo>
                    <a:pt x="182" y="130"/>
                  </a:lnTo>
                  <a:lnTo>
                    <a:pt x="170" y="135"/>
                  </a:lnTo>
                  <a:lnTo>
                    <a:pt x="158" y="139"/>
                  </a:lnTo>
                  <a:lnTo>
                    <a:pt x="145" y="143"/>
                  </a:lnTo>
                  <a:lnTo>
                    <a:pt x="132" y="147"/>
                  </a:lnTo>
                  <a:lnTo>
                    <a:pt x="120" y="149"/>
                  </a:lnTo>
                  <a:lnTo>
                    <a:pt x="108" y="150"/>
                  </a:lnTo>
                  <a:lnTo>
                    <a:pt x="96" y="151"/>
                  </a:lnTo>
                  <a:lnTo>
                    <a:pt x="84" y="151"/>
                  </a:lnTo>
                  <a:lnTo>
                    <a:pt x="72" y="150"/>
                  </a:lnTo>
                  <a:lnTo>
                    <a:pt x="61" y="149"/>
                  </a:lnTo>
                  <a:lnTo>
                    <a:pt x="51" y="148"/>
                  </a:lnTo>
                  <a:lnTo>
                    <a:pt x="42" y="144"/>
                  </a:lnTo>
                  <a:lnTo>
                    <a:pt x="33" y="142"/>
                  </a:lnTo>
                  <a:lnTo>
                    <a:pt x="25" y="137"/>
                  </a:lnTo>
                  <a:lnTo>
                    <a:pt x="18" y="133"/>
                  </a:lnTo>
                  <a:lnTo>
                    <a:pt x="12" y="127"/>
                  </a:lnTo>
                  <a:lnTo>
                    <a:pt x="7" y="123"/>
                  </a:lnTo>
                  <a:lnTo>
                    <a:pt x="3" y="115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31840" y="2116080"/>
              <a:ext cx="19080" cy="1440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1" y="25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8"/>
                  </a:lnTo>
                  <a:lnTo>
                    <a:pt x="7" y="6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1" y="4"/>
                  </a:lnTo>
                  <a:lnTo>
                    <a:pt x="44" y="7"/>
                  </a:lnTo>
                  <a:lnTo>
                    <a:pt x="47" y="10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47" y="21"/>
                  </a:lnTo>
                  <a:lnTo>
                    <a:pt x="46" y="25"/>
                  </a:lnTo>
                  <a:lnTo>
                    <a:pt x="43" y="27"/>
                  </a:lnTo>
                  <a:lnTo>
                    <a:pt x="40" y="31"/>
                  </a:lnTo>
                  <a:lnTo>
                    <a:pt x="36" y="33"/>
                  </a:lnTo>
                  <a:lnTo>
                    <a:pt x="32" y="34"/>
                  </a:lnTo>
                  <a:lnTo>
                    <a:pt x="28" y="36"/>
                  </a:lnTo>
                  <a:lnTo>
                    <a:pt x="23" y="37"/>
                  </a:lnTo>
                  <a:lnTo>
                    <a:pt x="18" y="36"/>
                  </a:lnTo>
                  <a:lnTo>
                    <a:pt x="13" y="36"/>
                  </a:lnTo>
                  <a:lnTo>
                    <a:pt x="10" y="33"/>
                  </a:lnTo>
                  <a:lnTo>
                    <a:pt x="6" y="31"/>
                  </a:lnTo>
                  <a:lnTo>
                    <a:pt x="4" y="28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31840" y="2116080"/>
              <a:ext cx="19080" cy="1440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1" y="25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8"/>
                  </a:lnTo>
                  <a:lnTo>
                    <a:pt x="7" y="6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1" y="4"/>
                  </a:lnTo>
                  <a:lnTo>
                    <a:pt x="44" y="7"/>
                  </a:lnTo>
                  <a:lnTo>
                    <a:pt x="47" y="10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47" y="21"/>
                  </a:lnTo>
                  <a:lnTo>
                    <a:pt x="46" y="25"/>
                  </a:lnTo>
                  <a:lnTo>
                    <a:pt x="43" y="27"/>
                  </a:lnTo>
                  <a:lnTo>
                    <a:pt x="40" y="31"/>
                  </a:lnTo>
                  <a:lnTo>
                    <a:pt x="36" y="33"/>
                  </a:lnTo>
                  <a:lnTo>
                    <a:pt x="32" y="34"/>
                  </a:lnTo>
                  <a:lnTo>
                    <a:pt x="28" y="36"/>
                  </a:lnTo>
                  <a:lnTo>
                    <a:pt x="23" y="37"/>
                  </a:lnTo>
                  <a:lnTo>
                    <a:pt x="18" y="36"/>
                  </a:lnTo>
                  <a:lnTo>
                    <a:pt x="13" y="36"/>
                  </a:lnTo>
                  <a:lnTo>
                    <a:pt x="10" y="33"/>
                  </a:lnTo>
                  <a:lnTo>
                    <a:pt x="6" y="31"/>
                  </a:lnTo>
                  <a:lnTo>
                    <a:pt x="4" y="28"/>
                  </a:lnTo>
                  <a:lnTo>
                    <a:pt x="1" y="2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2560" y="2136600"/>
              <a:ext cx="132120" cy="9216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9" y="166"/>
                  </a:moveTo>
                  <a:lnTo>
                    <a:pt x="4" y="156"/>
                  </a:lnTo>
                  <a:lnTo>
                    <a:pt x="1" y="145"/>
                  </a:lnTo>
                  <a:lnTo>
                    <a:pt x="0" y="134"/>
                  </a:lnTo>
                  <a:lnTo>
                    <a:pt x="1" y="122"/>
                  </a:lnTo>
                  <a:lnTo>
                    <a:pt x="4" y="111"/>
                  </a:lnTo>
                  <a:lnTo>
                    <a:pt x="7" y="100"/>
                  </a:lnTo>
                  <a:lnTo>
                    <a:pt x="12" y="90"/>
                  </a:lnTo>
                  <a:lnTo>
                    <a:pt x="19" y="79"/>
                  </a:lnTo>
                  <a:lnTo>
                    <a:pt x="28" y="68"/>
                  </a:lnTo>
                  <a:lnTo>
                    <a:pt x="36" y="58"/>
                  </a:lnTo>
                  <a:lnTo>
                    <a:pt x="47" y="49"/>
                  </a:lnTo>
                  <a:lnTo>
                    <a:pt x="59" y="40"/>
                  </a:lnTo>
                  <a:lnTo>
                    <a:pt x="72" y="32"/>
                  </a:lnTo>
                  <a:lnTo>
                    <a:pt x="85" y="25"/>
                  </a:lnTo>
                  <a:lnTo>
                    <a:pt x="101" y="18"/>
                  </a:lnTo>
                  <a:lnTo>
                    <a:pt x="117" y="12"/>
                  </a:lnTo>
                  <a:lnTo>
                    <a:pt x="133" y="7"/>
                  </a:lnTo>
                  <a:lnTo>
                    <a:pt x="150" y="3"/>
                  </a:lnTo>
                  <a:lnTo>
                    <a:pt x="166" y="1"/>
                  </a:lnTo>
                  <a:lnTo>
                    <a:pt x="183" y="0"/>
                  </a:lnTo>
                  <a:lnTo>
                    <a:pt x="198" y="0"/>
                  </a:lnTo>
                  <a:lnTo>
                    <a:pt x="214" y="1"/>
                  </a:lnTo>
                  <a:lnTo>
                    <a:pt x="229" y="3"/>
                  </a:lnTo>
                  <a:lnTo>
                    <a:pt x="244" y="6"/>
                  </a:lnTo>
                  <a:lnTo>
                    <a:pt x="257" y="9"/>
                  </a:lnTo>
                  <a:lnTo>
                    <a:pt x="270" y="15"/>
                  </a:lnTo>
                  <a:lnTo>
                    <a:pt x="282" y="20"/>
                  </a:lnTo>
                  <a:lnTo>
                    <a:pt x="293" y="27"/>
                  </a:lnTo>
                  <a:lnTo>
                    <a:pt x="304" y="36"/>
                  </a:lnTo>
                  <a:lnTo>
                    <a:pt x="312" y="44"/>
                  </a:lnTo>
                  <a:lnTo>
                    <a:pt x="319" y="54"/>
                  </a:lnTo>
                  <a:lnTo>
                    <a:pt x="325" y="63"/>
                  </a:lnTo>
                  <a:lnTo>
                    <a:pt x="330" y="74"/>
                  </a:lnTo>
                  <a:lnTo>
                    <a:pt x="333" y="85"/>
                  </a:lnTo>
                  <a:lnTo>
                    <a:pt x="333" y="96"/>
                  </a:lnTo>
                  <a:lnTo>
                    <a:pt x="333" y="108"/>
                  </a:lnTo>
                  <a:lnTo>
                    <a:pt x="330" y="118"/>
                  </a:lnTo>
                  <a:lnTo>
                    <a:pt x="327" y="129"/>
                  </a:lnTo>
                  <a:lnTo>
                    <a:pt x="321" y="140"/>
                  </a:lnTo>
                  <a:lnTo>
                    <a:pt x="315" y="151"/>
                  </a:lnTo>
                  <a:lnTo>
                    <a:pt x="306" y="162"/>
                  </a:lnTo>
                  <a:lnTo>
                    <a:pt x="297" y="171"/>
                  </a:lnTo>
                  <a:lnTo>
                    <a:pt x="286" y="181"/>
                  </a:lnTo>
                  <a:lnTo>
                    <a:pt x="275" y="189"/>
                  </a:lnTo>
                  <a:lnTo>
                    <a:pt x="262" y="198"/>
                  </a:lnTo>
                  <a:lnTo>
                    <a:pt x="247" y="205"/>
                  </a:lnTo>
                  <a:lnTo>
                    <a:pt x="233" y="212"/>
                  </a:lnTo>
                  <a:lnTo>
                    <a:pt x="216" y="218"/>
                  </a:lnTo>
                  <a:lnTo>
                    <a:pt x="201" y="223"/>
                  </a:lnTo>
                  <a:lnTo>
                    <a:pt x="184" y="226"/>
                  </a:lnTo>
                  <a:lnTo>
                    <a:pt x="167" y="229"/>
                  </a:lnTo>
                  <a:lnTo>
                    <a:pt x="151" y="230"/>
                  </a:lnTo>
                  <a:lnTo>
                    <a:pt x="135" y="230"/>
                  </a:lnTo>
                  <a:lnTo>
                    <a:pt x="119" y="229"/>
                  </a:lnTo>
                  <a:lnTo>
                    <a:pt x="105" y="228"/>
                  </a:lnTo>
                  <a:lnTo>
                    <a:pt x="90" y="224"/>
                  </a:lnTo>
                  <a:lnTo>
                    <a:pt x="76" y="220"/>
                  </a:lnTo>
                  <a:lnTo>
                    <a:pt x="63" y="216"/>
                  </a:lnTo>
                  <a:lnTo>
                    <a:pt x="51" y="210"/>
                  </a:lnTo>
                  <a:lnTo>
                    <a:pt x="40" y="202"/>
                  </a:lnTo>
                  <a:lnTo>
                    <a:pt x="30" y="195"/>
                  </a:lnTo>
                  <a:lnTo>
                    <a:pt x="22" y="186"/>
                  </a:lnTo>
                  <a:lnTo>
                    <a:pt x="13" y="177"/>
                  </a:lnTo>
                  <a:lnTo>
                    <a:pt x="9" y="166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01640" y="2151000"/>
              <a:ext cx="101880" cy="60480"/>
            </a:xfrm>
            <a:custGeom>
              <a:avLst/>
              <a:gdLst/>
              <a:ahLst/>
              <a:rect l="l" t="t" r="r" b="b"/>
              <a:pathLst>
                <a:path w="255" h="152">
                  <a:moveTo>
                    <a:pt x="4" y="116"/>
                  </a:moveTo>
                  <a:lnTo>
                    <a:pt x="2" y="110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2" y="88"/>
                  </a:lnTo>
                  <a:lnTo>
                    <a:pt x="4" y="81"/>
                  </a:lnTo>
                  <a:lnTo>
                    <a:pt x="8" y="74"/>
                  </a:lnTo>
                  <a:lnTo>
                    <a:pt x="12" y="66"/>
                  </a:lnTo>
                  <a:lnTo>
                    <a:pt x="18" y="59"/>
                  </a:lnTo>
                  <a:lnTo>
                    <a:pt x="24" y="52"/>
                  </a:lnTo>
                  <a:lnTo>
                    <a:pt x="33" y="45"/>
                  </a:lnTo>
                  <a:lnTo>
                    <a:pt x="41" y="39"/>
                  </a:lnTo>
                  <a:lnTo>
                    <a:pt x="51" y="33"/>
                  </a:lnTo>
                  <a:lnTo>
                    <a:pt x="60" y="27"/>
                  </a:lnTo>
                  <a:lnTo>
                    <a:pt x="72" y="21"/>
                  </a:lnTo>
                  <a:lnTo>
                    <a:pt x="83" y="16"/>
                  </a:lnTo>
                  <a:lnTo>
                    <a:pt x="96" y="11"/>
                  </a:lnTo>
                  <a:lnTo>
                    <a:pt x="108" y="8"/>
                  </a:lnTo>
                  <a:lnTo>
                    <a:pt x="122" y="5"/>
                  </a:lnTo>
                  <a:lnTo>
                    <a:pt x="135" y="3"/>
                  </a:lnTo>
                  <a:lnTo>
                    <a:pt x="147" y="2"/>
                  </a:lnTo>
                  <a:lnTo>
                    <a:pt x="159" y="0"/>
                  </a:lnTo>
                  <a:lnTo>
                    <a:pt x="171" y="0"/>
                  </a:lnTo>
                  <a:lnTo>
                    <a:pt x="182" y="0"/>
                  </a:lnTo>
                  <a:lnTo>
                    <a:pt x="192" y="2"/>
                  </a:lnTo>
                  <a:lnTo>
                    <a:pt x="203" y="4"/>
                  </a:lnTo>
                  <a:lnTo>
                    <a:pt x="213" y="6"/>
                  </a:lnTo>
                  <a:lnTo>
                    <a:pt x="221" y="10"/>
                  </a:lnTo>
                  <a:lnTo>
                    <a:pt x="230" y="14"/>
                  </a:lnTo>
                  <a:lnTo>
                    <a:pt x="236" y="18"/>
                  </a:lnTo>
                  <a:lnTo>
                    <a:pt x="242" y="23"/>
                  </a:lnTo>
                  <a:lnTo>
                    <a:pt x="248" y="29"/>
                  </a:lnTo>
                  <a:lnTo>
                    <a:pt x="251" y="35"/>
                  </a:lnTo>
                  <a:lnTo>
                    <a:pt x="254" y="42"/>
                  </a:lnTo>
                  <a:lnTo>
                    <a:pt x="255" y="50"/>
                  </a:lnTo>
                  <a:lnTo>
                    <a:pt x="255" y="57"/>
                  </a:lnTo>
                  <a:lnTo>
                    <a:pt x="254" y="64"/>
                  </a:lnTo>
                  <a:lnTo>
                    <a:pt x="251" y="71"/>
                  </a:lnTo>
                  <a:lnTo>
                    <a:pt x="248" y="78"/>
                  </a:lnTo>
                  <a:lnTo>
                    <a:pt x="243" y="86"/>
                  </a:lnTo>
                  <a:lnTo>
                    <a:pt x="237" y="93"/>
                  </a:lnTo>
                  <a:lnTo>
                    <a:pt x="230" y="100"/>
                  </a:lnTo>
                  <a:lnTo>
                    <a:pt x="222" y="106"/>
                  </a:lnTo>
                  <a:lnTo>
                    <a:pt x="214" y="113"/>
                  </a:lnTo>
                  <a:lnTo>
                    <a:pt x="204" y="119"/>
                  </a:lnTo>
                  <a:lnTo>
                    <a:pt x="194" y="125"/>
                  </a:lnTo>
                  <a:lnTo>
                    <a:pt x="183" y="131"/>
                  </a:lnTo>
                  <a:lnTo>
                    <a:pt x="171" y="136"/>
                  </a:lnTo>
                  <a:lnTo>
                    <a:pt x="159" y="140"/>
                  </a:lnTo>
                  <a:lnTo>
                    <a:pt x="146" y="143"/>
                  </a:lnTo>
                  <a:lnTo>
                    <a:pt x="132" y="147"/>
                  </a:lnTo>
                  <a:lnTo>
                    <a:pt x="120" y="149"/>
                  </a:lnTo>
                  <a:lnTo>
                    <a:pt x="108" y="150"/>
                  </a:lnTo>
                  <a:lnTo>
                    <a:pt x="95" y="152"/>
                  </a:lnTo>
                  <a:lnTo>
                    <a:pt x="84" y="152"/>
                  </a:lnTo>
                  <a:lnTo>
                    <a:pt x="72" y="150"/>
                  </a:lnTo>
                  <a:lnTo>
                    <a:pt x="62" y="149"/>
                  </a:lnTo>
                  <a:lnTo>
                    <a:pt x="52" y="148"/>
                  </a:lnTo>
                  <a:lnTo>
                    <a:pt x="42" y="146"/>
                  </a:lnTo>
                  <a:lnTo>
                    <a:pt x="33" y="142"/>
                  </a:lnTo>
                  <a:lnTo>
                    <a:pt x="26" y="138"/>
                  </a:lnTo>
                  <a:lnTo>
                    <a:pt x="18" y="134"/>
                  </a:lnTo>
                  <a:lnTo>
                    <a:pt x="12" y="128"/>
                  </a:lnTo>
                  <a:lnTo>
                    <a:pt x="8" y="123"/>
                  </a:lnTo>
                  <a:lnTo>
                    <a:pt x="4" y="116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9280" y="2178000"/>
              <a:ext cx="19080" cy="1440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1" y="26"/>
                  </a:move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3" y="8"/>
                  </a:lnTo>
                  <a:lnTo>
                    <a:pt x="7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47" y="14"/>
                  </a:lnTo>
                  <a:lnTo>
                    <a:pt x="48" y="18"/>
                  </a:lnTo>
                  <a:lnTo>
                    <a:pt x="47" y="21"/>
                  </a:lnTo>
                  <a:lnTo>
                    <a:pt x="45" y="25"/>
                  </a:lnTo>
                  <a:lnTo>
                    <a:pt x="43" y="29"/>
                  </a:lnTo>
                  <a:lnTo>
                    <a:pt x="39" y="31"/>
                  </a:lnTo>
                  <a:lnTo>
                    <a:pt x="36" y="33"/>
                  </a:lnTo>
                  <a:lnTo>
                    <a:pt x="31" y="35"/>
                  </a:lnTo>
                  <a:lnTo>
                    <a:pt x="26" y="36"/>
                  </a:lnTo>
                  <a:lnTo>
                    <a:pt x="23" y="37"/>
                  </a:lnTo>
                  <a:lnTo>
                    <a:pt x="18" y="36"/>
                  </a:lnTo>
                  <a:lnTo>
                    <a:pt x="13" y="36"/>
                  </a:lnTo>
                  <a:lnTo>
                    <a:pt x="9" y="33"/>
                  </a:lnTo>
                  <a:lnTo>
                    <a:pt x="6" y="31"/>
                  </a:lnTo>
                  <a:lnTo>
                    <a:pt x="2" y="29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19280" y="2178000"/>
              <a:ext cx="19080" cy="1440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1" y="26"/>
                  </a:move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3" y="8"/>
                  </a:lnTo>
                  <a:lnTo>
                    <a:pt x="7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47" y="14"/>
                  </a:lnTo>
                  <a:lnTo>
                    <a:pt x="48" y="18"/>
                  </a:lnTo>
                  <a:lnTo>
                    <a:pt x="47" y="21"/>
                  </a:lnTo>
                  <a:lnTo>
                    <a:pt x="45" y="25"/>
                  </a:lnTo>
                  <a:lnTo>
                    <a:pt x="43" y="29"/>
                  </a:lnTo>
                  <a:lnTo>
                    <a:pt x="39" y="31"/>
                  </a:lnTo>
                  <a:lnTo>
                    <a:pt x="36" y="33"/>
                  </a:lnTo>
                  <a:lnTo>
                    <a:pt x="31" y="35"/>
                  </a:lnTo>
                  <a:lnTo>
                    <a:pt x="26" y="36"/>
                  </a:lnTo>
                  <a:lnTo>
                    <a:pt x="23" y="37"/>
                  </a:lnTo>
                  <a:lnTo>
                    <a:pt x="18" y="36"/>
                  </a:lnTo>
                  <a:lnTo>
                    <a:pt x="13" y="36"/>
                  </a:lnTo>
                  <a:lnTo>
                    <a:pt x="9" y="33"/>
                  </a:lnTo>
                  <a:lnTo>
                    <a:pt x="6" y="31"/>
                  </a:lnTo>
                  <a:lnTo>
                    <a:pt x="2" y="29"/>
                  </a:lnTo>
                  <a:lnTo>
                    <a:pt x="1" y="2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24080" y="1630440"/>
              <a:ext cx="296640" cy="123840"/>
            </a:xfrm>
            <a:custGeom>
              <a:avLst/>
              <a:gdLst/>
              <a:ahLst/>
              <a:rect l="l" t="t" r="r" b="b"/>
              <a:pathLst>
                <a:path w="752" h="313">
                  <a:moveTo>
                    <a:pt x="0" y="256"/>
                  </a:moveTo>
                  <a:lnTo>
                    <a:pt x="41" y="241"/>
                  </a:lnTo>
                  <a:lnTo>
                    <a:pt x="82" y="226"/>
                  </a:lnTo>
                  <a:lnTo>
                    <a:pt x="123" y="211"/>
                  </a:lnTo>
                  <a:lnTo>
                    <a:pt x="162" y="196"/>
                  </a:lnTo>
                  <a:lnTo>
                    <a:pt x="203" y="181"/>
                  </a:lnTo>
                  <a:lnTo>
                    <a:pt x="244" y="166"/>
                  </a:lnTo>
                  <a:lnTo>
                    <a:pt x="285" y="151"/>
                  </a:lnTo>
                  <a:lnTo>
                    <a:pt x="326" y="137"/>
                  </a:lnTo>
                  <a:lnTo>
                    <a:pt x="368" y="121"/>
                  </a:lnTo>
                  <a:lnTo>
                    <a:pt x="411" y="104"/>
                  </a:lnTo>
                  <a:lnTo>
                    <a:pt x="455" y="89"/>
                  </a:lnTo>
                  <a:lnTo>
                    <a:pt x="498" y="73"/>
                  </a:lnTo>
                  <a:lnTo>
                    <a:pt x="540" y="58"/>
                  </a:lnTo>
                  <a:lnTo>
                    <a:pt x="582" y="43"/>
                  </a:lnTo>
                  <a:lnTo>
                    <a:pt x="621" y="30"/>
                  </a:lnTo>
                  <a:lnTo>
                    <a:pt x="658" y="18"/>
                  </a:lnTo>
                  <a:lnTo>
                    <a:pt x="682" y="11"/>
                  </a:lnTo>
                  <a:lnTo>
                    <a:pt x="700" y="6"/>
                  </a:lnTo>
                  <a:lnTo>
                    <a:pt x="714" y="2"/>
                  </a:lnTo>
                  <a:lnTo>
                    <a:pt x="726" y="1"/>
                  </a:lnTo>
                  <a:lnTo>
                    <a:pt x="735" y="0"/>
                  </a:lnTo>
                  <a:lnTo>
                    <a:pt x="741" y="1"/>
                  </a:lnTo>
                  <a:lnTo>
                    <a:pt x="746" y="2"/>
                  </a:lnTo>
                  <a:lnTo>
                    <a:pt x="749" y="4"/>
                  </a:lnTo>
                  <a:lnTo>
                    <a:pt x="750" y="4"/>
                  </a:lnTo>
                  <a:lnTo>
                    <a:pt x="750" y="5"/>
                  </a:lnTo>
                  <a:lnTo>
                    <a:pt x="752" y="6"/>
                  </a:lnTo>
                  <a:lnTo>
                    <a:pt x="750" y="7"/>
                  </a:lnTo>
                  <a:lnTo>
                    <a:pt x="748" y="10"/>
                  </a:lnTo>
                  <a:lnTo>
                    <a:pt x="743" y="14"/>
                  </a:lnTo>
                  <a:lnTo>
                    <a:pt x="737" y="18"/>
                  </a:lnTo>
                  <a:lnTo>
                    <a:pt x="729" y="24"/>
                  </a:lnTo>
                  <a:lnTo>
                    <a:pt x="719" y="29"/>
                  </a:lnTo>
                  <a:lnTo>
                    <a:pt x="707" y="36"/>
                  </a:lnTo>
                  <a:lnTo>
                    <a:pt x="693" y="43"/>
                  </a:lnTo>
                  <a:lnTo>
                    <a:pt x="677" y="50"/>
                  </a:lnTo>
                  <a:lnTo>
                    <a:pt x="660" y="59"/>
                  </a:lnTo>
                  <a:lnTo>
                    <a:pt x="641" y="68"/>
                  </a:lnTo>
                  <a:lnTo>
                    <a:pt x="621" y="78"/>
                  </a:lnTo>
                  <a:lnTo>
                    <a:pt x="599" y="88"/>
                  </a:lnTo>
                  <a:lnTo>
                    <a:pt x="575" y="97"/>
                  </a:lnTo>
                  <a:lnTo>
                    <a:pt x="549" y="108"/>
                  </a:lnTo>
                  <a:lnTo>
                    <a:pt x="515" y="122"/>
                  </a:lnTo>
                  <a:lnTo>
                    <a:pt x="479" y="136"/>
                  </a:lnTo>
                  <a:lnTo>
                    <a:pt x="443" y="150"/>
                  </a:lnTo>
                  <a:lnTo>
                    <a:pt x="405" y="164"/>
                  </a:lnTo>
                  <a:lnTo>
                    <a:pt x="368" y="179"/>
                  </a:lnTo>
                  <a:lnTo>
                    <a:pt x="329" y="193"/>
                  </a:lnTo>
                  <a:lnTo>
                    <a:pt x="291" y="208"/>
                  </a:lnTo>
                  <a:lnTo>
                    <a:pt x="254" y="221"/>
                  </a:lnTo>
                  <a:lnTo>
                    <a:pt x="222" y="233"/>
                  </a:lnTo>
                  <a:lnTo>
                    <a:pt x="191" y="245"/>
                  </a:lnTo>
                  <a:lnTo>
                    <a:pt x="160" y="256"/>
                  </a:lnTo>
                  <a:lnTo>
                    <a:pt x="128" y="268"/>
                  </a:lnTo>
                  <a:lnTo>
                    <a:pt x="96" y="280"/>
                  </a:lnTo>
                  <a:lnTo>
                    <a:pt x="65" y="290"/>
                  </a:lnTo>
                  <a:lnTo>
                    <a:pt x="34" y="302"/>
                  </a:lnTo>
                  <a:lnTo>
                    <a:pt x="3" y="313"/>
                  </a:lnTo>
                  <a:lnTo>
                    <a:pt x="3" y="306"/>
                  </a:lnTo>
                  <a:lnTo>
                    <a:pt x="2" y="299"/>
                  </a:lnTo>
                  <a:lnTo>
                    <a:pt x="2" y="292"/>
                  </a:lnTo>
                  <a:lnTo>
                    <a:pt x="2" y="284"/>
                  </a:lnTo>
                  <a:lnTo>
                    <a:pt x="2" y="277"/>
                  </a:lnTo>
                  <a:lnTo>
                    <a:pt x="0" y="270"/>
                  </a:lnTo>
                  <a:lnTo>
                    <a:pt x="0" y="263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49520" y="1444680"/>
              <a:ext cx="479160" cy="181080"/>
            </a:xfrm>
            <a:custGeom>
              <a:avLst/>
              <a:gdLst/>
              <a:ahLst/>
              <a:rect l="l" t="t" r="r" b="b"/>
              <a:pathLst>
                <a:path w="1210" h="456">
                  <a:moveTo>
                    <a:pt x="19" y="443"/>
                  </a:moveTo>
                  <a:lnTo>
                    <a:pt x="17" y="442"/>
                  </a:lnTo>
                  <a:lnTo>
                    <a:pt x="13" y="440"/>
                  </a:lnTo>
                  <a:lnTo>
                    <a:pt x="7" y="439"/>
                  </a:lnTo>
                  <a:lnTo>
                    <a:pt x="2" y="439"/>
                  </a:lnTo>
                  <a:lnTo>
                    <a:pt x="1" y="438"/>
                  </a:lnTo>
                  <a:lnTo>
                    <a:pt x="0" y="437"/>
                  </a:lnTo>
                  <a:lnTo>
                    <a:pt x="1" y="436"/>
                  </a:lnTo>
                  <a:lnTo>
                    <a:pt x="2" y="434"/>
                  </a:lnTo>
                  <a:lnTo>
                    <a:pt x="11" y="428"/>
                  </a:lnTo>
                  <a:lnTo>
                    <a:pt x="28" y="421"/>
                  </a:lnTo>
                  <a:lnTo>
                    <a:pt x="60" y="407"/>
                  </a:lnTo>
                  <a:lnTo>
                    <a:pt x="97" y="392"/>
                  </a:lnTo>
                  <a:lnTo>
                    <a:pt x="137" y="377"/>
                  </a:lnTo>
                  <a:lnTo>
                    <a:pt x="180" y="360"/>
                  </a:lnTo>
                  <a:lnTo>
                    <a:pt x="223" y="343"/>
                  </a:lnTo>
                  <a:lnTo>
                    <a:pt x="268" y="326"/>
                  </a:lnTo>
                  <a:lnTo>
                    <a:pt x="312" y="311"/>
                  </a:lnTo>
                  <a:lnTo>
                    <a:pt x="355" y="294"/>
                  </a:lnTo>
                  <a:lnTo>
                    <a:pt x="408" y="274"/>
                  </a:lnTo>
                  <a:lnTo>
                    <a:pt x="462" y="254"/>
                  </a:lnTo>
                  <a:lnTo>
                    <a:pt x="515" y="234"/>
                  </a:lnTo>
                  <a:lnTo>
                    <a:pt x="569" y="214"/>
                  </a:lnTo>
                  <a:lnTo>
                    <a:pt x="623" y="194"/>
                  </a:lnTo>
                  <a:lnTo>
                    <a:pt x="677" y="174"/>
                  </a:lnTo>
                  <a:lnTo>
                    <a:pt x="730" y="155"/>
                  </a:lnTo>
                  <a:lnTo>
                    <a:pt x="784" y="136"/>
                  </a:lnTo>
                  <a:lnTo>
                    <a:pt x="827" y="120"/>
                  </a:lnTo>
                  <a:lnTo>
                    <a:pt x="870" y="103"/>
                  </a:lnTo>
                  <a:lnTo>
                    <a:pt x="913" y="88"/>
                  </a:lnTo>
                  <a:lnTo>
                    <a:pt x="956" y="72"/>
                  </a:lnTo>
                  <a:lnTo>
                    <a:pt x="1000" y="57"/>
                  </a:lnTo>
                  <a:lnTo>
                    <a:pt x="1040" y="42"/>
                  </a:lnTo>
                  <a:lnTo>
                    <a:pt x="1080" y="29"/>
                  </a:lnTo>
                  <a:lnTo>
                    <a:pt x="1116" y="17"/>
                  </a:lnTo>
                  <a:lnTo>
                    <a:pt x="1140" y="10"/>
                  </a:lnTo>
                  <a:lnTo>
                    <a:pt x="1158" y="5"/>
                  </a:lnTo>
                  <a:lnTo>
                    <a:pt x="1174" y="1"/>
                  </a:lnTo>
                  <a:lnTo>
                    <a:pt x="1184" y="0"/>
                  </a:lnTo>
                  <a:lnTo>
                    <a:pt x="1193" y="0"/>
                  </a:lnTo>
                  <a:lnTo>
                    <a:pt x="1199" y="0"/>
                  </a:lnTo>
                  <a:lnTo>
                    <a:pt x="1204" y="1"/>
                  </a:lnTo>
                  <a:lnTo>
                    <a:pt x="1207" y="3"/>
                  </a:lnTo>
                  <a:lnTo>
                    <a:pt x="1208" y="3"/>
                  </a:lnTo>
                  <a:lnTo>
                    <a:pt x="1210" y="4"/>
                  </a:lnTo>
                  <a:lnTo>
                    <a:pt x="1210" y="5"/>
                  </a:lnTo>
                  <a:lnTo>
                    <a:pt x="1208" y="6"/>
                  </a:lnTo>
                  <a:lnTo>
                    <a:pt x="1206" y="9"/>
                  </a:lnTo>
                  <a:lnTo>
                    <a:pt x="1202" y="13"/>
                  </a:lnTo>
                  <a:lnTo>
                    <a:pt x="1195" y="17"/>
                  </a:lnTo>
                  <a:lnTo>
                    <a:pt x="1187" y="23"/>
                  </a:lnTo>
                  <a:lnTo>
                    <a:pt x="1177" y="29"/>
                  </a:lnTo>
                  <a:lnTo>
                    <a:pt x="1165" y="35"/>
                  </a:lnTo>
                  <a:lnTo>
                    <a:pt x="1151" y="42"/>
                  </a:lnTo>
                  <a:lnTo>
                    <a:pt x="1135" y="51"/>
                  </a:lnTo>
                  <a:lnTo>
                    <a:pt x="1118" y="59"/>
                  </a:lnTo>
                  <a:lnTo>
                    <a:pt x="1099" y="67"/>
                  </a:lnTo>
                  <a:lnTo>
                    <a:pt x="1079" y="77"/>
                  </a:lnTo>
                  <a:lnTo>
                    <a:pt x="1057" y="87"/>
                  </a:lnTo>
                  <a:lnTo>
                    <a:pt x="1033" y="96"/>
                  </a:lnTo>
                  <a:lnTo>
                    <a:pt x="1007" y="107"/>
                  </a:lnTo>
                  <a:lnTo>
                    <a:pt x="973" y="121"/>
                  </a:lnTo>
                  <a:lnTo>
                    <a:pt x="937" y="134"/>
                  </a:lnTo>
                  <a:lnTo>
                    <a:pt x="901" y="149"/>
                  </a:lnTo>
                  <a:lnTo>
                    <a:pt x="864" y="163"/>
                  </a:lnTo>
                  <a:lnTo>
                    <a:pt x="826" y="178"/>
                  </a:lnTo>
                  <a:lnTo>
                    <a:pt x="787" y="192"/>
                  </a:lnTo>
                  <a:lnTo>
                    <a:pt x="749" y="206"/>
                  </a:lnTo>
                  <a:lnTo>
                    <a:pt x="712" y="220"/>
                  </a:lnTo>
                  <a:lnTo>
                    <a:pt x="672" y="235"/>
                  </a:lnTo>
                  <a:lnTo>
                    <a:pt x="634" y="250"/>
                  </a:lnTo>
                  <a:lnTo>
                    <a:pt x="594" y="264"/>
                  </a:lnTo>
                  <a:lnTo>
                    <a:pt x="554" y="278"/>
                  </a:lnTo>
                  <a:lnTo>
                    <a:pt x="515" y="293"/>
                  </a:lnTo>
                  <a:lnTo>
                    <a:pt x="476" y="307"/>
                  </a:lnTo>
                  <a:lnTo>
                    <a:pt x="437" y="322"/>
                  </a:lnTo>
                  <a:lnTo>
                    <a:pt x="397" y="336"/>
                  </a:lnTo>
                  <a:lnTo>
                    <a:pt x="364" y="348"/>
                  </a:lnTo>
                  <a:lnTo>
                    <a:pt x="329" y="360"/>
                  </a:lnTo>
                  <a:lnTo>
                    <a:pt x="294" y="372"/>
                  </a:lnTo>
                  <a:lnTo>
                    <a:pt x="260" y="384"/>
                  </a:lnTo>
                  <a:lnTo>
                    <a:pt x="227" y="396"/>
                  </a:lnTo>
                  <a:lnTo>
                    <a:pt x="193" y="407"/>
                  </a:lnTo>
                  <a:lnTo>
                    <a:pt x="162" y="418"/>
                  </a:lnTo>
                  <a:lnTo>
                    <a:pt x="131" y="428"/>
                  </a:lnTo>
                  <a:lnTo>
                    <a:pt x="113" y="434"/>
                  </a:lnTo>
                  <a:lnTo>
                    <a:pt x="96" y="439"/>
                  </a:lnTo>
                  <a:lnTo>
                    <a:pt x="80" y="444"/>
                  </a:lnTo>
                  <a:lnTo>
                    <a:pt x="67" y="448"/>
                  </a:lnTo>
                  <a:lnTo>
                    <a:pt x="54" y="450"/>
                  </a:lnTo>
                  <a:lnTo>
                    <a:pt x="43" y="452"/>
                  </a:lnTo>
                  <a:lnTo>
                    <a:pt x="34" y="455"/>
                  </a:lnTo>
                  <a:lnTo>
                    <a:pt x="26" y="456"/>
                  </a:lnTo>
                  <a:lnTo>
                    <a:pt x="20" y="456"/>
                  </a:lnTo>
                  <a:lnTo>
                    <a:pt x="17" y="456"/>
                  </a:lnTo>
                  <a:lnTo>
                    <a:pt x="14" y="455"/>
                  </a:lnTo>
                  <a:lnTo>
                    <a:pt x="14" y="452"/>
                  </a:lnTo>
                  <a:lnTo>
                    <a:pt x="16" y="450"/>
                  </a:lnTo>
                  <a:lnTo>
                    <a:pt x="17" y="448"/>
                  </a:lnTo>
                  <a:lnTo>
                    <a:pt x="19" y="445"/>
                  </a:lnTo>
                  <a:lnTo>
                    <a:pt x="19" y="443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55680" y="1258920"/>
              <a:ext cx="479520" cy="179280"/>
            </a:xfrm>
            <a:custGeom>
              <a:avLst/>
              <a:gdLst/>
              <a:ahLst/>
              <a:rect l="l" t="t" r="r" b="b"/>
              <a:pathLst>
                <a:path w="1209" h="456">
                  <a:moveTo>
                    <a:pt x="18" y="443"/>
                  </a:moveTo>
                  <a:lnTo>
                    <a:pt x="17" y="442"/>
                  </a:lnTo>
                  <a:lnTo>
                    <a:pt x="12" y="440"/>
                  </a:lnTo>
                  <a:lnTo>
                    <a:pt x="6" y="439"/>
                  </a:lnTo>
                  <a:lnTo>
                    <a:pt x="1" y="439"/>
                  </a:lnTo>
                  <a:lnTo>
                    <a:pt x="0" y="438"/>
                  </a:lnTo>
                  <a:lnTo>
                    <a:pt x="0" y="437"/>
                  </a:lnTo>
                  <a:lnTo>
                    <a:pt x="0" y="436"/>
                  </a:lnTo>
                  <a:lnTo>
                    <a:pt x="3" y="434"/>
                  </a:lnTo>
                  <a:lnTo>
                    <a:pt x="10" y="430"/>
                  </a:lnTo>
                  <a:lnTo>
                    <a:pt x="27" y="421"/>
                  </a:lnTo>
                  <a:lnTo>
                    <a:pt x="59" y="407"/>
                  </a:lnTo>
                  <a:lnTo>
                    <a:pt x="96" y="392"/>
                  </a:lnTo>
                  <a:lnTo>
                    <a:pt x="137" y="377"/>
                  </a:lnTo>
                  <a:lnTo>
                    <a:pt x="179" y="360"/>
                  </a:lnTo>
                  <a:lnTo>
                    <a:pt x="222" y="343"/>
                  </a:lnTo>
                  <a:lnTo>
                    <a:pt x="267" y="326"/>
                  </a:lnTo>
                  <a:lnTo>
                    <a:pt x="311" y="311"/>
                  </a:lnTo>
                  <a:lnTo>
                    <a:pt x="354" y="294"/>
                  </a:lnTo>
                  <a:lnTo>
                    <a:pt x="407" y="275"/>
                  </a:lnTo>
                  <a:lnTo>
                    <a:pt x="461" y="254"/>
                  </a:lnTo>
                  <a:lnTo>
                    <a:pt x="514" y="234"/>
                  </a:lnTo>
                  <a:lnTo>
                    <a:pt x="568" y="215"/>
                  </a:lnTo>
                  <a:lnTo>
                    <a:pt x="622" y="194"/>
                  </a:lnTo>
                  <a:lnTo>
                    <a:pt x="676" y="175"/>
                  </a:lnTo>
                  <a:lnTo>
                    <a:pt x="730" y="155"/>
                  </a:lnTo>
                  <a:lnTo>
                    <a:pt x="784" y="136"/>
                  </a:lnTo>
                  <a:lnTo>
                    <a:pt x="826" y="120"/>
                  </a:lnTo>
                  <a:lnTo>
                    <a:pt x="869" y="104"/>
                  </a:lnTo>
                  <a:lnTo>
                    <a:pt x="912" y="88"/>
                  </a:lnTo>
                  <a:lnTo>
                    <a:pt x="955" y="72"/>
                  </a:lnTo>
                  <a:lnTo>
                    <a:pt x="999" y="56"/>
                  </a:lnTo>
                  <a:lnTo>
                    <a:pt x="1039" y="42"/>
                  </a:lnTo>
                  <a:lnTo>
                    <a:pt x="1079" y="29"/>
                  </a:lnTo>
                  <a:lnTo>
                    <a:pt x="1116" y="17"/>
                  </a:lnTo>
                  <a:lnTo>
                    <a:pt x="1139" y="10"/>
                  </a:lnTo>
                  <a:lnTo>
                    <a:pt x="1158" y="5"/>
                  </a:lnTo>
                  <a:lnTo>
                    <a:pt x="1173" y="2"/>
                  </a:lnTo>
                  <a:lnTo>
                    <a:pt x="1183" y="0"/>
                  </a:lnTo>
                  <a:lnTo>
                    <a:pt x="1192" y="0"/>
                  </a:lnTo>
                  <a:lnTo>
                    <a:pt x="1199" y="0"/>
                  </a:lnTo>
                  <a:lnTo>
                    <a:pt x="1203" y="1"/>
                  </a:lnTo>
                  <a:lnTo>
                    <a:pt x="1206" y="2"/>
                  </a:lnTo>
                  <a:lnTo>
                    <a:pt x="1207" y="2"/>
                  </a:lnTo>
                  <a:lnTo>
                    <a:pt x="1209" y="4"/>
                  </a:lnTo>
                  <a:lnTo>
                    <a:pt x="1209" y="5"/>
                  </a:lnTo>
                  <a:lnTo>
                    <a:pt x="1209" y="6"/>
                  </a:lnTo>
                  <a:lnTo>
                    <a:pt x="1206" y="10"/>
                  </a:lnTo>
                  <a:lnTo>
                    <a:pt x="1201" y="13"/>
                  </a:lnTo>
                  <a:lnTo>
                    <a:pt x="1194" y="18"/>
                  </a:lnTo>
                  <a:lnTo>
                    <a:pt x="1187" y="23"/>
                  </a:lnTo>
                  <a:lnTo>
                    <a:pt x="1176" y="29"/>
                  </a:lnTo>
                  <a:lnTo>
                    <a:pt x="1165" y="35"/>
                  </a:lnTo>
                  <a:lnTo>
                    <a:pt x="1151" y="42"/>
                  </a:lnTo>
                  <a:lnTo>
                    <a:pt x="1135" y="50"/>
                  </a:lnTo>
                  <a:lnTo>
                    <a:pt x="1117" y="59"/>
                  </a:lnTo>
                  <a:lnTo>
                    <a:pt x="1099" y="67"/>
                  </a:lnTo>
                  <a:lnTo>
                    <a:pt x="1079" y="77"/>
                  </a:lnTo>
                  <a:lnTo>
                    <a:pt x="1056" y="86"/>
                  </a:lnTo>
                  <a:lnTo>
                    <a:pt x="1032" y="97"/>
                  </a:lnTo>
                  <a:lnTo>
                    <a:pt x="1006" y="108"/>
                  </a:lnTo>
                  <a:lnTo>
                    <a:pt x="972" y="121"/>
                  </a:lnTo>
                  <a:lnTo>
                    <a:pt x="937" y="136"/>
                  </a:lnTo>
                  <a:lnTo>
                    <a:pt x="900" y="149"/>
                  </a:lnTo>
                  <a:lnTo>
                    <a:pt x="863" y="163"/>
                  </a:lnTo>
                  <a:lnTo>
                    <a:pt x="825" y="178"/>
                  </a:lnTo>
                  <a:lnTo>
                    <a:pt x="786" y="192"/>
                  </a:lnTo>
                  <a:lnTo>
                    <a:pt x="749" y="206"/>
                  </a:lnTo>
                  <a:lnTo>
                    <a:pt x="711" y="220"/>
                  </a:lnTo>
                  <a:lnTo>
                    <a:pt x="672" y="235"/>
                  </a:lnTo>
                  <a:lnTo>
                    <a:pt x="633" y="250"/>
                  </a:lnTo>
                  <a:lnTo>
                    <a:pt x="593" y="264"/>
                  </a:lnTo>
                  <a:lnTo>
                    <a:pt x="553" y="278"/>
                  </a:lnTo>
                  <a:lnTo>
                    <a:pt x="515" y="293"/>
                  </a:lnTo>
                  <a:lnTo>
                    <a:pt x="475" y="307"/>
                  </a:lnTo>
                  <a:lnTo>
                    <a:pt x="436" y="322"/>
                  </a:lnTo>
                  <a:lnTo>
                    <a:pt x="396" y="336"/>
                  </a:lnTo>
                  <a:lnTo>
                    <a:pt x="363" y="348"/>
                  </a:lnTo>
                  <a:lnTo>
                    <a:pt x="328" y="360"/>
                  </a:lnTo>
                  <a:lnTo>
                    <a:pt x="294" y="372"/>
                  </a:lnTo>
                  <a:lnTo>
                    <a:pt x="259" y="384"/>
                  </a:lnTo>
                  <a:lnTo>
                    <a:pt x="226" y="396"/>
                  </a:lnTo>
                  <a:lnTo>
                    <a:pt x="193" y="407"/>
                  </a:lnTo>
                  <a:lnTo>
                    <a:pt x="161" y="418"/>
                  </a:lnTo>
                  <a:lnTo>
                    <a:pt x="130" y="428"/>
                  </a:lnTo>
                  <a:lnTo>
                    <a:pt x="112" y="434"/>
                  </a:lnTo>
                  <a:lnTo>
                    <a:pt x="95" y="439"/>
                  </a:lnTo>
                  <a:lnTo>
                    <a:pt x="79" y="444"/>
                  </a:lnTo>
                  <a:lnTo>
                    <a:pt x="66" y="448"/>
                  </a:lnTo>
                  <a:lnTo>
                    <a:pt x="53" y="450"/>
                  </a:lnTo>
                  <a:lnTo>
                    <a:pt x="42" y="454"/>
                  </a:lnTo>
                  <a:lnTo>
                    <a:pt x="34" y="455"/>
                  </a:lnTo>
                  <a:lnTo>
                    <a:pt x="25" y="456"/>
                  </a:lnTo>
                  <a:lnTo>
                    <a:pt x="19" y="456"/>
                  </a:lnTo>
                  <a:lnTo>
                    <a:pt x="16" y="456"/>
                  </a:lnTo>
                  <a:lnTo>
                    <a:pt x="15" y="455"/>
                  </a:lnTo>
                  <a:lnTo>
                    <a:pt x="15" y="452"/>
                  </a:lnTo>
                  <a:lnTo>
                    <a:pt x="16" y="450"/>
                  </a:lnTo>
                  <a:lnTo>
                    <a:pt x="17" y="448"/>
                  </a:lnTo>
                  <a:lnTo>
                    <a:pt x="18" y="445"/>
                  </a:lnTo>
                  <a:lnTo>
                    <a:pt x="18" y="443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4000" y="1071720"/>
              <a:ext cx="479160" cy="182520"/>
            </a:xfrm>
            <a:custGeom>
              <a:avLst/>
              <a:gdLst/>
              <a:ahLst/>
              <a:rect l="l" t="t" r="r" b="b"/>
              <a:pathLst>
                <a:path w="1209" h="457">
                  <a:moveTo>
                    <a:pt x="19" y="443"/>
                  </a:moveTo>
                  <a:lnTo>
                    <a:pt x="17" y="441"/>
                  </a:lnTo>
                  <a:lnTo>
                    <a:pt x="12" y="440"/>
                  </a:lnTo>
                  <a:lnTo>
                    <a:pt x="7" y="440"/>
                  </a:lnTo>
                  <a:lnTo>
                    <a:pt x="3" y="439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35"/>
                  </a:lnTo>
                  <a:lnTo>
                    <a:pt x="3" y="434"/>
                  </a:lnTo>
                  <a:lnTo>
                    <a:pt x="11" y="429"/>
                  </a:lnTo>
                  <a:lnTo>
                    <a:pt x="27" y="421"/>
                  </a:lnTo>
                  <a:lnTo>
                    <a:pt x="60" y="408"/>
                  </a:lnTo>
                  <a:lnTo>
                    <a:pt x="96" y="392"/>
                  </a:lnTo>
                  <a:lnTo>
                    <a:pt x="137" y="377"/>
                  </a:lnTo>
                  <a:lnTo>
                    <a:pt x="179" y="360"/>
                  </a:lnTo>
                  <a:lnTo>
                    <a:pt x="223" y="343"/>
                  </a:lnTo>
                  <a:lnTo>
                    <a:pt x="268" y="328"/>
                  </a:lnTo>
                  <a:lnTo>
                    <a:pt x="311" y="311"/>
                  </a:lnTo>
                  <a:lnTo>
                    <a:pt x="354" y="294"/>
                  </a:lnTo>
                  <a:lnTo>
                    <a:pt x="408" y="275"/>
                  </a:lnTo>
                  <a:lnTo>
                    <a:pt x="461" y="254"/>
                  </a:lnTo>
                  <a:lnTo>
                    <a:pt x="515" y="234"/>
                  </a:lnTo>
                  <a:lnTo>
                    <a:pt x="568" y="215"/>
                  </a:lnTo>
                  <a:lnTo>
                    <a:pt x="622" y="194"/>
                  </a:lnTo>
                  <a:lnTo>
                    <a:pt x="676" y="175"/>
                  </a:lnTo>
                  <a:lnTo>
                    <a:pt x="730" y="155"/>
                  </a:lnTo>
                  <a:lnTo>
                    <a:pt x="784" y="136"/>
                  </a:lnTo>
                  <a:lnTo>
                    <a:pt x="826" y="120"/>
                  </a:lnTo>
                  <a:lnTo>
                    <a:pt x="869" y="104"/>
                  </a:lnTo>
                  <a:lnTo>
                    <a:pt x="913" y="88"/>
                  </a:lnTo>
                  <a:lnTo>
                    <a:pt x="957" y="72"/>
                  </a:lnTo>
                  <a:lnTo>
                    <a:pt x="999" y="56"/>
                  </a:lnTo>
                  <a:lnTo>
                    <a:pt x="1039" y="42"/>
                  </a:lnTo>
                  <a:lnTo>
                    <a:pt x="1079" y="29"/>
                  </a:lnTo>
                  <a:lnTo>
                    <a:pt x="1116" y="17"/>
                  </a:lnTo>
                  <a:lnTo>
                    <a:pt x="1139" y="10"/>
                  </a:lnTo>
                  <a:lnTo>
                    <a:pt x="1158" y="5"/>
                  </a:lnTo>
                  <a:lnTo>
                    <a:pt x="1173" y="2"/>
                  </a:lnTo>
                  <a:lnTo>
                    <a:pt x="1185" y="0"/>
                  </a:lnTo>
                  <a:lnTo>
                    <a:pt x="1193" y="0"/>
                  </a:lnTo>
                  <a:lnTo>
                    <a:pt x="1199" y="0"/>
                  </a:lnTo>
                  <a:lnTo>
                    <a:pt x="1204" y="1"/>
                  </a:lnTo>
                  <a:lnTo>
                    <a:pt x="1207" y="2"/>
                  </a:lnTo>
                  <a:lnTo>
                    <a:pt x="1209" y="2"/>
                  </a:lnTo>
                  <a:lnTo>
                    <a:pt x="1209" y="4"/>
                  </a:lnTo>
                  <a:lnTo>
                    <a:pt x="1209" y="5"/>
                  </a:lnTo>
                  <a:lnTo>
                    <a:pt x="1209" y="6"/>
                  </a:lnTo>
                  <a:lnTo>
                    <a:pt x="1206" y="10"/>
                  </a:lnTo>
                  <a:lnTo>
                    <a:pt x="1201" y="13"/>
                  </a:lnTo>
                  <a:lnTo>
                    <a:pt x="1195" y="18"/>
                  </a:lnTo>
                  <a:lnTo>
                    <a:pt x="1187" y="23"/>
                  </a:lnTo>
                  <a:lnTo>
                    <a:pt x="1177" y="29"/>
                  </a:lnTo>
                  <a:lnTo>
                    <a:pt x="1165" y="35"/>
                  </a:lnTo>
                  <a:lnTo>
                    <a:pt x="1151" y="42"/>
                  </a:lnTo>
                  <a:lnTo>
                    <a:pt x="1135" y="50"/>
                  </a:lnTo>
                  <a:lnTo>
                    <a:pt x="1119" y="59"/>
                  </a:lnTo>
                  <a:lnTo>
                    <a:pt x="1099" y="67"/>
                  </a:lnTo>
                  <a:lnTo>
                    <a:pt x="1079" y="77"/>
                  </a:lnTo>
                  <a:lnTo>
                    <a:pt x="1056" y="86"/>
                  </a:lnTo>
                  <a:lnTo>
                    <a:pt x="1032" y="97"/>
                  </a:lnTo>
                  <a:lnTo>
                    <a:pt x="1007" y="108"/>
                  </a:lnTo>
                  <a:lnTo>
                    <a:pt x="972" y="121"/>
                  </a:lnTo>
                  <a:lnTo>
                    <a:pt x="937" y="136"/>
                  </a:lnTo>
                  <a:lnTo>
                    <a:pt x="900" y="149"/>
                  </a:lnTo>
                  <a:lnTo>
                    <a:pt x="863" y="163"/>
                  </a:lnTo>
                  <a:lnTo>
                    <a:pt x="826" y="178"/>
                  </a:lnTo>
                  <a:lnTo>
                    <a:pt x="787" y="192"/>
                  </a:lnTo>
                  <a:lnTo>
                    <a:pt x="749" y="206"/>
                  </a:lnTo>
                  <a:lnTo>
                    <a:pt x="711" y="221"/>
                  </a:lnTo>
                  <a:lnTo>
                    <a:pt x="672" y="235"/>
                  </a:lnTo>
                  <a:lnTo>
                    <a:pt x="633" y="250"/>
                  </a:lnTo>
                  <a:lnTo>
                    <a:pt x="593" y="264"/>
                  </a:lnTo>
                  <a:lnTo>
                    <a:pt x="555" y="278"/>
                  </a:lnTo>
                  <a:lnTo>
                    <a:pt x="515" y="293"/>
                  </a:lnTo>
                  <a:lnTo>
                    <a:pt x="475" y="307"/>
                  </a:lnTo>
                  <a:lnTo>
                    <a:pt x="436" y="322"/>
                  </a:lnTo>
                  <a:lnTo>
                    <a:pt x="397" y="336"/>
                  </a:lnTo>
                  <a:lnTo>
                    <a:pt x="363" y="348"/>
                  </a:lnTo>
                  <a:lnTo>
                    <a:pt x="329" y="360"/>
                  </a:lnTo>
                  <a:lnTo>
                    <a:pt x="294" y="372"/>
                  </a:lnTo>
                  <a:lnTo>
                    <a:pt x="261" y="384"/>
                  </a:lnTo>
                  <a:lnTo>
                    <a:pt x="227" y="396"/>
                  </a:lnTo>
                  <a:lnTo>
                    <a:pt x="193" y="408"/>
                  </a:lnTo>
                  <a:lnTo>
                    <a:pt x="161" y="419"/>
                  </a:lnTo>
                  <a:lnTo>
                    <a:pt x="130" y="428"/>
                  </a:lnTo>
                  <a:lnTo>
                    <a:pt x="112" y="434"/>
                  </a:lnTo>
                  <a:lnTo>
                    <a:pt x="96" y="439"/>
                  </a:lnTo>
                  <a:lnTo>
                    <a:pt x="81" y="444"/>
                  </a:lnTo>
                  <a:lnTo>
                    <a:pt x="66" y="447"/>
                  </a:lnTo>
                  <a:lnTo>
                    <a:pt x="54" y="451"/>
                  </a:lnTo>
                  <a:lnTo>
                    <a:pt x="43" y="453"/>
                  </a:lnTo>
                  <a:lnTo>
                    <a:pt x="34" y="455"/>
                  </a:lnTo>
                  <a:lnTo>
                    <a:pt x="27" y="456"/>
                  </a:lnTo>
                  <a:lnTo>
                    <a:pt x="19" y="457"/>
                  </a:lnTo>
                  <a:lnTo>
                    <a:pt x="16" y="456"/>
                  </a:lnTo>
                  <a:lnTo>
                    <a:pt x="15" y="455"/>
                  </a:lnTo>
                  <a:lnTo>
                    <a:pt x="15" y="452"/>
                  </a:lnTo>
                  <a:lnTo>
                    <a:pt x="16" y="450"/>
                  </a:lnTo>
                  <a:lnTo>
                    <a:pt x="17" y="447"/>
                  </a:lnTo>
                  <a:lnTo>
                    <a:pt x="18" y="445"/>
                  </a:lnTo>
                  <a:lnTo>
                    <a:pt x="19" y="443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0160" y="1057320"/>
              <a:ext cx="12600" cy="93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3" y="7"/>
                  </a:moveTo>
                  <a:lnTo>
                    <a:pt x="10" y="7"/>
                  </a:lnTo>
                  <a:lnTo>
                    <a:pt x="7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7"/>
                  </a:lnTo>
                  <a:close/>
                  <a:moveTo>
                    <a:pt x="33" y="22"/>
                  </a:moveTo>
                  <a:lnTo>
                    <a:pt x="31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8" y="23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1" y="24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74960" y="1138320"/>
              <a:ext cx="98280" cy="36360"/>
            </a:xfrm>
            <a:custGeom>
              <a:avLst/>
              <a:gdLst/>
              <a:ahLst/>
              <a:rect l="l" t="t" r="r" b="b"/>
              <a:pathLst>
                <a:path w="247" h="93">
                  <a:moveTo>
                    <a:pt x="118" y="36"/>
                  </a:moveTo>
                  <a:lnTo>
                    <a:pt x="143" y="27"/>
                  </a:lnTo>
                  <a:lnTo>
                    <a:pt x="166" y="19"/>
                  </a:lnTo>
                  <a:lnTo>
                    <a:pt x="187" y="13"/>
                  </a:lnTo>
                  <a:lnTo>
                    <a:pt x="206" y="7"/>
                  </a:lnTo>
                  <a:lnTo>
                    <a:pt x="222" y="3"/>
                  </a:lnTo>
                  <a:lnTo>
                    <a:pt x="235" y="1"/>
                  </a:lnTo>
                  <a:lnTo>
                    <a:pt x="242" y="0"/>
                  </a:lnTo>
                  <a:lnTo>
                    <a:pt x="247" y="1"/>
                  </a:lnTo>
                  <a:lnTo>
                    <a:pt x="245" y="4"/>
                  </a:lnTo>
                  <a:lnTo>
                    <a:pt x="239" y="8"/>
                  </a:lnTo>
                  <a:lnTo>
                    <a:pt x="229" y="14"/>
                  </a:lnTo>
                  <a:lnTo>
                    <a:pt x="215" y="21"/>
                  </a:lnTo>
                  <a:lnTo>
                    <a:pt x="197" y="30"/>
                  </a:lnTo>
                  <a:lnTo>
                    <a:pt x="176" y="38"/>
                  </a:lnTo>
                  <a:lnTo>
                    <a:pt x="154" y="48"/>
                  </a:lnTo>
                  <a:lnTo>
                    <a:pt x="128" y="57"/>
                  </a:lnTo>
                  <a:lnTo>
                    <a:pt x="104" y="66"/>
                  </a:lnTo>
                  <a:lnTo>
                    <a:pt x="80" y="74"/>
                  </a:lnTo>
                  <a:lnTo>
                    <a:pt x="59" y="80"/>
                  </a:lnTo>
                  <a:lnTo>
                    <a:pt x="40" y="86"/>
                  </a:lnTo>
                  <a:lnTo>
                    <a:pt x="24" y="90"/>
                  </a:lnTo>
                  <a:lnTo>
                    <a:pt x="12" y="92"/>
                  </a:lnTo>
                  <a:lnTo>
                    <a:pt x="4" y="93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7" y="84"/>
                  </a:lnTo>
                  <a:lnTo>
                    <a:pt x="18" y="79"/>
                  </a:lnTo>
                  <a:lnTo>
                    <a:pt x="32" y="72"/>
                  </a:lnTo>
                  <a:lnTo>
                    <a:pt x="49" y="63"/>
                  </a:lnTo>
                  <a:lnTo>
                    <a:pt x="70" y="55"/>
                  </a:lnTo>
                  <a:lnTo>
                    <a:pt x="92" y="45"/>
                  </a:lnTo>
                  <a:lnTo>
                    <a:pt x="118" y="36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94040" y="1144440"/>
              <a:ext cx="61920" cy="24120"/>
            </a:xfrm>
            <a:custGeom>
              <a:avLst/>
              <a:gdLst/>
              <a:ahLst/>
              <a:rect l="l" t="t" r="r" b="b"/>
              <a:pathLst>
                <a:path w="154" h="59">
                  <a:moveTo>
                    <a:pt x="72" y="22"/>
                  </a:moveTo>
                  <a:lnTo>
                    <a:pt x="88" y="17"/>
                  </a:lnTo>
                  <a:lnTo>
                    <a:pt x="102" y="12"/>
                  </a:lnTo>
                  <a:lnTo>
                    <a:pt x="115" y="8"/>
                  </a:lnTo>
                  <a:lnTo>
                    <a:pt x="127" y="5"/>
                  </a:lnTo>
                  <a:lnTo>
                    <a:pt x="138" y="3"/>
                  </a:lnTo>
                  <a:lnTo>
                    <a:pt x="145" y="2"/>
                  </a:lnTo>
                  <a:lnTo>
                    <a:pt x="151" y="0"/>
                  </a:lnTo>
                  <a:lnTo>
                    <a:pt x="154" y="2"/>
                  </a:lnTo>
                  <a:lnTo>
                    <a:pt x="153" y="4"/>
                  </a:lnTo>
                  <a:lnTo>
                    <a:pt x="149" y="8"/>
                  </a:lnTo>
                  <a:lnTo>
                    <a:pt x="143" y="11"/>
                  </a:lnTo>
                  <a:lnTo>
                    <a:pt x="135" y="16"/>
                  </a:lnTo>
                  <a:lnTo>
                    <a:pt x="123" y="21"/>
                  </a:lnTo>
                  <a:lnTo>
                    <a:pt x="111" y="27"/>
                  </a:lnTo>
                  <a:lnTo>
                    <a:pt x="96" y="33"/>
                  </a:lnTo>
                  <a:lnTo>
                    <a:pt x="81" y="39"/>
                  </a:lnTo>
                  <a:lnTo>
                    <a:pt x="65" y="44"/>
                  </a:lnTo>
                  <a:lnTo>
                    <a:pt x="51" y="48"/>
                  </a:lnTo>
                  <a:lnTo>
                    <a:pt x="37" y="53"/>
                  </a:lnTo>
                  <a:lnTo>
                    <a:pt x="25" y="56"/>
                  </a:lnTo>
                  <a:lnTo>
                    <a:pt x="16" y="58"/>
                  </a:lnTo>
                  <a:lnTo>
                    <a:pt x="7" y="59"/>
                  </a:lnTo>
                  <a:lnTo>
                    <a:pt x="3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4" y="53"/>
                  </a:lnTo>
                  <a:lnTo>
                    <a:pt x="10" y="50"/>
                  </a:lnTo>
                  <a:lnTo>
                    <a:pt x="19" y="45"/>
                  </a:lnTo>
                  <a:lnTo>
                    <a:pt x="30" y="39"/>
                  </a:lnTo>
                  <a:lnTo>
                    <a:pt x="42" y="34"/>
                  </a:lnTo>
                  <a:lnTo>
                    <a:pt x="57" y="28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19240" y="1150920"/>
              <a:ext cx="16200" cy="648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19" y="6"/>
                  </a:moveTo>
                  <a:lnTo>
                    <a:pt x="22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4"/>
                  </a:lnTo>
                  <a:lnTo>
                    <a:pt x="32" y="5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12" y="10"/>
                  </a:lnTo>
                  <a:lnTo>
                    <a:pt x="15" y="7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19240" y="1150920"/>
              <a:ext cx="16200" cy="648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19" y="6"/>
                  </a:moveTo>
                  <a:lnTo>
                    <a:pt x="22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4"/>
                  </a:lnTo>
                  <a:lnTo>
                    <a:pt x="32" y="5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12" y="10"/>
                  </a:lnTo>
                  <a:lnTo>
                    <a:pt x="15" y="7"/>
                  </a:lnTo>
                  <a:lnTo>
                    <a:pt x="19" y="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27320" y="1695600"/>
              <a:ext cx="123480" cy="45720"/>
            </a:xfrm>
            <a:custGeom>
              <a:avLst/>
              <a:gdLst/>
              <a:ahLst/>
              <a:rect l="l" t="t" r="r" b="b"/>
              <a:pathLst>
                <a:path w="312" h="116">
                  <a:moveTo>
                    <a:pt x="0" y="116"/>
                  </a:moveTo>
                  <a:lnTo>
                    <a:pt x="4" y="112"/>
                  </a:lnTo>
                  <a:lnTo>
                    <a:pt x="12" y="107"/>
                  </a:lnTo>
                  <a:lnTo>
                    <a:pt x="26" y="100"/>
                  </a:lnTo>
                  <a:lnTo>
                    <a:pt x="46" y="92"/>
                  </a:lnTo>
                  <a:lnTo>
                    <a:pt x="70" y="82"/>
                  </a:lnTo>
                  <a:lnTo>
                    <a:pt x="96" y="71"/>
                  </a:lnTo>
                  <a:lnTo>
                    <a:pt x="125" y="60"/>
                  </a:lnTo>
                  <a:lnTo>
                    <a:pt x="157" y="48"/>
                  </a:lnTo>
                  <a:lnTo>
                    <a:pt x="188" y="36"/>
                  </a:lnTo>
                  <a:lnTo>
                    <a:pt x="217" y="27"/>
                  </a:lnTo>
                  <a:lnTo>
                    <a:pt x="244" y="18"/>
                  </a:lnTo>
                  <a:lnTo>
                    <a:pt x="266" y="11"/>
                  </a:lnTo>
                  <a:lnTo>
                    <a:pt x="286" y="5"/>
                  </a:lnTo>
                  <a:lnTo>
                    <a:pt x="300" y="2"/>
                  </a:lnTo>
                  <a:lnTo>
                    <a:pt x="308" y="0"/>
                  </a:lnTo>
                  <a:lnTo>
                    <a:pt x="312" y="2"/>
                  </a:lnTo>
                  <a:lnTo>
                    <a:pt x="308" y="5"/>
                  </a:lnTo>
                  <a:lnTo>
                    <a:pt x="299" y="10"/>
                  </a:lnTo>
                  <a:lnTo>
                    <a:pt x="284" y="17"/>
                  </a:lnTo>
                  <a:lnTo>
                    <a:pt x="265" y="26"/>
                  </a:lnTo>
                  <a:lnTo>
                    <a:pt x="242" y="35"/>
                  </a:lnTo>
                  <a:lnTo>
                    <a:pt x="216" y="46"/>
                  </a:lnTo>
                  <a:lnTo>
                    <a:pt x="186" y="57"/>
                  </a:lnTo>
                  <a:lnTo>
                    <a:pt x="155" y="69"/>
                  </a:lnTo>
                  <a:lnTo>
                    <a:pt x="124" y="80"/>
                  </a:lnTo>
                  <a:lnTo>
                    <a:pt x="95" y="90"/>
                  </a:lnTo>
                  <a:lnTo>
                    <a:pt x="68" y="99"/>
                  </a:lnTo>
                  <a:lnTo>
                    <a:pt x="44" y="106"/>
                  </a:lnTo>
                  <a:lnTo>
                    <a:pt x="26" y="111"/>
                  </a:lnTo>
                  <a:lnTo>
                    <a:pt x="12" y="114"/>
                  </a:lnTo>
                  <a:lnTo>
                    <a:pt x="2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44600" y="1698480"/>
              <a:ext cx="96840" cy="34920"/>
            </a:xfrm>
            <a:custGeom>
              <a:avLst/>
              <a:gdLst/>
              <a:ahLst/>
              <a:rect l="l" t="t" r="r" b="b"/>
              <a:pathLst>
                <a:path w="243" h="89">
                  <a:moveTo>
                    <a:pt x="0" y="89"/>
                  </a:moveTo>
                  <a:lnTo>
                    <a:pt x="3" y="86"/>
                  </a:lnTo>
                  <a:lnTo>
                    <a:pt x="10" y="83"/>
                  </a:lnTo>
                  <a:lnTo>
                    <a:pt x="22" y="78"/>
                  </a:lnTo>
                  <a:lnTo>
                    <a:pt x="36" y="71"/>
                  </a:lnTo>
                  <a:lnTo>
                    <a:pt x="54" y="64"/>
                  </a:lnTo>
                  <a:lnTo>
                    <a:pt x="75" y="56"/>
                  </a:lnTo>
                  <a:lnTo>
                    <a:pt x="98" y="47"/>
                  </a:lnTo>
                  <a:lnTo>
                    <a:pt x="123" y="38"/>
                  </a:lnTo>
                  <a:lnTo>
                    <a:pt x="147" y="30"/>
                  </a:lnTo>
                  <a:lnTo>
                    <a:pt x="170" y="22"/>
                  </a:lnTo>
                  <a:lnTo>
                    <a:pt x="190" y="14"/>
                  </a:lnTo>
                  <a:lnTo>
                    <a:pt x="208" y="8"/>
                  </a:lnTo>
                  <a:lnTo>
                    <a:pt x="222" y="5"/>
                  </a:lnTo>
                  <a:lnTo>
                    <a:pt x="234" y="1"/>
                  </a:lnTo>
                  <a:lnTo>
                    <a:pt x="240" y="0"/>
                  </a:lnTo>
                  <a:lnTo>
                    <a:pt x="243" y="0"/>
                  </a:lnTo>
                  <a:lnTo>
                    <a:pt x="240" y="2"/>
                  </a:lnTo>
                  <a:lnTo>
                    <a:pt x="233" y="6"/>
                  </a:lnTo>
                  <a:lnTo>
                    <a:pt x="222" y="12"/>
                  </a:lnTo>
                  <a:lnTo>
                    <a:pt x="207" y="18"/>
                  </a:lnTo>
                  <a:lnTo>
                    <a:pt x="189" y="25"/>
                  </a:lnTo>
                  <a:lnTo>
                    <a:pt x="168" y="34"/>
                  </a:lnTo>
                  <a:lnTo>
                    <a:pt x="146" y="42"/>
                  </a:lnTo>
                  <a:lnTo>
                    <a:pt x="122" y="50"/>
                  </a:lnTo>
                  <a:lnTo>
                    <a:pt x="96" y="60"/>
                  </a:lnTo>
                  <a:lnTo>
                    <a:pt x="74" y="67"/>
                  </a:lnTo>
                  <a:lnTo>
                    <a:pt x="53" y="74"/>
                  </a:lnTo>
                  <a:lnTo>
                    <a:pt x="35" y="80"/>
                  </a:lnTo>
                  <a:lnTo>
                    <a:pt x="21" y="85"/>
                  </a:lnTo>
                  <a:lnTo>
                    <a:pt x="10" y="88"/>
                  </a:lnTo>
                  <a:lnTo>
                    <a:pt x="3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62240" y="1720800"/>
              <a:ext cx="17280" cy="64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7"/>
                  </a:moveTo>
                  <a:lnTo>
                    <a:pt x="1" y="17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6" y="9"/>
                  </a:lnTo>
                  <a:lnTo>
                    <a:pt x="23" y="11"/>
                  </a:lnTo>
                  <a:lnTo>
                    <a:pt x="18" y="12"/>
                  </a:lnTo>
                  <a:lnTo>
                    <a:pt x="13" y="13"/>
                  </a:lnTo>
                  <a:lnTo>
                    <a:pt x="9" y="15"/>
                  </a:lnTo>
                  <a:lnTo>
                    <a:pt x="6" y="16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62240" y="1720800"/>
              <a:ext cx="17280" cy="64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7"/>
                  </a:moveTo>
                  <a:lnTo>
                    <a:pt x="1" y="17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6" y="9"/>
                  </a:lnTo>
                  <a:lnTo>
                    <a:pt x="23" y="11"/>
                  </a:lnTo>
                  <a:lnTo>
                    <a:pt x="18" y="12"/>
                  </a:lnTo>
                  <a:lnTo>
                    <a:pt x="13" y="13"/>
                  </a:lnTo>
                  <a:lnTo>
                    <a:pt x="9" y="15"/>
                  </a:lnTo>
                  <a:lnTo>
                    <a:pt x="6" y="16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95320" y="1523880"/>
              <a:ext cx="123840" cy="46080"/>
            </a:xfrm>
            <a:custGeom>
              <a:avLst/>
              <a:gdLst/>
              <a:ahLst/>
              <a:rect l="l" t="t" r="r" b="b"/>
              <a:pathLst>
                <a:path w="312" h="115">
                  <a:moveTo>
                    <a:pt x="0" y="114"/>
                  </a:moveTo>
                  <a:lnTo>
                    <a:pt x="3" y="110"/>
                  </a:lnTo>
                  <a:lnTo>
                    <a:pt x="13" y="105"/>
                  </a:lnTo>
                  <a:lnTo>
                    <a:pt x="27" y="98"/>
                  </a:lnTo>
                  <a:lnTo>
                    <a:pt x="46" y="90"/>
                  </a:lnTo>
                  <a:lnTo>
                    <a:pt x="69" y="80"/>
                  </a:lnTo>
                  <a:lnTo>
                    <a:pt x="97" y="69"/>
                  </a:lnTo>
                  <a:lnTo>
                    <a:pt x="126" y="59"/>
                  </a:lnTo>
                  <a:lnTo>
                    <a:pt x="157" y="47"/>
                  </a:lnTo>
                  <a:lnTo>
                    <a:pt x="188" y="36"/>
                  </a:lnTo>
                  <a:lnTo>
                    <a:pt x="218" y="25"/>
                  </a:lnTo>
                  <a:lnTo>
                    <a:pt x="244" y="17"/>
                  </a:lnTo>
                  <a:lnTo>
                    <a:pt x="267" y="9"/>
                  </a:lnTo>
                  <a:lnTo>
                    <a:pt x="286" y="5"/>
                  </a:lnTo>
                  <a:lnTo>
                    <a:pt x="300" y="1"/>
                  </a:lnTo>
                  <a:lnTo>
                    <a:pt x="309" y="0"/>
                  </a:lnTo>
                  <a:lnTo>
                    <a:pt x="312" y="0"/>
                  </a:lnTo>
                  <a:lnTo>
                    <a:pt x="309" y="3"/>
                  </a:lnTo>
                  <a:lnTo>
                    <a:pt x="300" y="8"/>
                  </a:lnTo>
                  <a:lnTo>
                    <a:pt x="285" y="15"/>
                  </a:lnTo>
                  <a:lnTo>
                    <a:pt x="266" y="24"/>
                  </a:lnTo>
                  <a:lnTo>
                    <a:pt x="242" y="33"/>
                  </a:lnTo>
                  <a:lnTo>
                    <a:pt x="216" y="44"/>
                  </a:lnTo>
                  <a:lnTo>
                    <a:pt x="187" y="55"/>
                  </a:lnTo>
                  <a:lnTo>
                    <a:pt x="156" y="67"/>
                  </a:lnTo>
                  <a:lnTo>
                    <a:pt x="124" y="79"/>
                  </a:lnTo>
                  <a:lnTo>
                    <a:pt x="94" y="89"/>
                  </a:lnTo>
                  <a:lnTo>
                    <a:pt x="68" y="97"/>
                  </a:lnTo>
                  <a:lnTo>
                    <a:pt x="45" y="104"/>
                  </a:lnTo>
                  <a:lnTo>
                    <a:pt x="26" y="110"/>
                  </a:lnTo>
                  <a:lnTo>
                    <a:pt x="12" y="114"/>
                  </a:lnTo>
                  <a:lnTo>
                    <a:pt x="3" y="115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12960" y="1528920"/>
              <a:ext cx="96840" cy="34920"/>
            </a:xfrm>
            <a:custGeom>
              <a:avLst/>
              <a:gdLst/>
              <a:ahLst/>
              <a:rect l="l" t="t" r="r" b="b"/>
              <a:pathLst>
                <a:path w="243" h="90">
                  <a:moveTo>
                    <a:pt x="0" y="89"/>
                  </a:moveTo>
                  <a:lnTo>
                    <a:pt x="3" y="88"/>
                  </a:lnTo>
                  <a:lnTo>
                    <a:pt x="10" y="83"/>
                  </a:lnTo>
                  <a:lnTo>
                    <a:pt x="21" y="78"/>
                  </a:lnTo>
                  <a:lnTo>
                    <a:pt x="36" y="72"/>
                  </a:lnTo>
                  <a:lnTo>
                    <a:pt x="54" y="65"/>
                  </a:lnTo>
                  <a:lnTo>
                    <a:pt x="75" y="57"/>
                  </a:lnTo>
                  <a:lnTo>
                    <a:pt x="97" y="48"/>
                  </a:lnTo>
                  <a:lnTo>
                    <a:pt x="121" y="39"/>
                  </a:lnTo>
                  <a:lnTo>
                    <a:pt x="147" y="30"/>
                  </a:lnTo>
                  <a:lnTo>
                    <a:pt x="169" y="22"/>
                  </a:lnTo>
                  <a:lnTo>
                    <a:pt x="190" y="15"/>
                  </a:lnTo>
                  <a:lnTo>
                    <a:pt x="208" y="10"/>
                  </a:lnTo>
                  <a:lnTo>
                    <a:pt x="222" y="5"/>
                  </a:lnTo>
                  <a:lnTo>
                    <a:pt x="233" y="1"/>
                  </a:lnTo>
                  <a:lnTo>
                    <a:pt x="240" y="0"/>
                  </a:lnTo>
                  <a:lnTo>
                    <a:pt x="243" y="1"/>
                  </a:lnTo>
                  <a:lnTo>
                    <a:pt x="240" y="3"/>
                  </a:lnTo>
                  <a:lnTo>
                    <a:pt x="233" y="7"/>
                  </a:lnTo>
                  <a:lnTo>
                    <a:pt x="222" y="12"/>
                  </a:lnTo>
                  <a:lnTo>
                    <a:pt x="207" y="18"/>
                  </a:lnTo>
                  <a:lnTo>
                    <a:pt x="189" y="25"/>
                  </a:lnTo>
                  <a:lnTo>
                    <a:pt x="168" y="34"/>
                  </a:lnTo>
                  <a:lnTo>
                    <a:pt x="145" y="42"/>
                  </a:lnTo>
                  <a:lnTo>
                    <a:pt x="120" y="52"/>
                  </a:lnTo>
                  <a:lnTo>
                    <a:pt x="96" y="60"/>
                  </a:lnTo>
                  <a:lnTo>
                    <a:pt x="73" y="69"/>
                  </a:lnTo>
                  <a:lnTo>
                    <a:pt x="53" y="75"/>
                  </a:lnTo>
                  <a:lnTo>
                    <a:pt x="35" y="81"/>
                  </a:lnTo>
                  <a:lnTo>
                    <a:pt x="21" y="85"/>
                  </a:lnTo>
                  <a:lnTo>
                    <a:pt x="9" y="88"/>
                  </a:lnTo>
                  <a:lnTo>
                    <a:pt x="3" y="9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30240" y="1550880"/>
              <a:ext cx="19080" cy="64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0" y="15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13" y="9"/>
                  </a:lnTo>
                  <a:lnTo>
                    <a:pt x="18" y="7"/>
                  </a:lnTo>
                  <a:lnTo>
                    <a:pt x="21" y="6"/>
                  </a:lnTo>
                  <a:lnTo>
                    <a:pt x="26" y="4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1" y="9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30240" y="1550880"/>
              <a:ext cx="19080" cy="64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0" y="15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13" y="9"/>
                  </a:lnTo>
                  <a:lnTo>
                    <a:pt x="18" y="7"/>
                  </a:lnTo>
                  <a:lnTo>
                    <a:pt x="21" y="6"/>
                  </a:lnTo>
                  <a:lnTo>
                    <a:pt x="26" y="4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1" y="9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13080" y="1295280"/>
              <a:ext cx="123840" cy="46080"/>
            </a:xfrm>
            <a:custGeom>
              <a:avLst/>
              <a:gdLst/>
              <a:ahLst/>
              <a:rect l="l" t="t" r="r" b="b"/>
              <a:pathLst>
                <a:path w="312" h="115">
                  <a:moveTo>
                    <a:pt x="0" y="114"/>
                  </a:moveTo>
                  <a:lnTo>
                    <a:pt x="4" y="111"/>
                  </a:lnTo>
                  <a:lnTo>
                    <a:pt x="12" y="105"/>
                  </a:lnTo>
                  <a:lnTo>
                    <a:pt x="28" y="98"/>
                  </a:lnTo>
                  <a:lnTo>
                    <a:pt x="47" y="90"/>
                  </a:lnTo>
                  <a:lnTo>
                    <a:pt x="70" y="80"/>
                  </a:lnTo>
                  <a:lnTo>
                    <a:pt x="96" y="71"/>
                  </a:lnTo>
                  <a:lnTo>
                    <a:pt x="125" y="59"/>
                  </a:lnTo>
                  <a:lnTo>
                    <a:pt x="157" y="47"/>
                  </a:lnTo>
                  <a:lnTo>
                    <a:pt x="189" y="36"/>
                  </a:lnTo>
                  <a:lnTo>
                    <a:pt x="217" y="26"/>
                  </a:lnTo>
                  <a:lnTo>
                    <a:pt x="244" y="18"/>
                  </a:lnTo>
                  <a:lnTo>
                    <a:pt x="267" y="11"/>
                  </a:lnTo>
                  <a:lnTo>
                    <a:pt x="286" y="5"/>
                  </a:lnTo>
                  <a:lnTo>
                    <a:pt x="300" y="1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09" y="3"/>
                  </a:lnTo>
                  <a:lnTo>
                    <a:pt x="299" y="9"/>
                  </a:lnTo>
                  <a:lnTo>
                    <a:pt x="285" y="17"/>
                  </a:lnTo>
                  <a:lnTo>
                    <a:pt x="265" y="25"/>
                  </a:lnTo>
                  <a:lnTo>
                    <a:pt x="243" y="35"/>
                  </a:lnTo>
                  <a:lnTo>
                    <a:pt x="216" y="44"/>
                  </a:lnTo>
                  <a:lnTo>
                    <a:pt x="186" y="56"/>
                  </a:lnTo>
                  <a:lnTo>
                    <a:pt x="155" y="68"/>
                  </a:lnTo>
                  <a:lnTo>
                    <a:pt x="124" y="79"/>
                  </a:lnTo>
                  <a:lnTo>
                    <a:pt x="95" y="89"/>
                  </a:lnTo>
                  <a:lnTo>
                    <a:pt x="69" y="97"/>
                  </a:lnTo>
                  <a:lnTo>
                    <a:pt x="45" y="104"/>
                  </a:lnTo>
                  <a:lnTo>
                    <a:pt x="27" y="110"/>
                  </a:lnTo>
                  <a:lnTo>
                    <a:pt x="12" y="114"/>
                  </a:lnTo>
                  <a:lnTo>
                    <a:pt x="3" y="115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30360" y="1300320"/>
              <a:ext cx="96840" cy="34920"/>
            </a:xfrm>
            <a:custGeom>
              <a:avLst/>
              <a:gdLst/>
              <a:ahLst/>
              <a:rect l="l" t="t" r="r" b="b"/>
              <a:pathLst>
                <a:path w="242" h="89">
                  <a:moveTo>
                    <a:pt x="0" y="89"/>
                  </a:moveTo>
                  <a:lnTo>
                    <a:pt x="2" y="87"/>
                  </a:lnTo>
                  <a:lnTo>
                    <a:pt x="9" y="83"/>
                  </a:lnTo>
                  <a:lnTo>
                    <a:pt x="21" y="77"/>
                  </a:lnTo>
                  <a:lnTo>
                    <a:pt x="36" y="71"/>
                  </a:lnTo>
                  <a:lnTo>
                    <a:pt x="54" y="64"/>
                  </a:lnTo>
                  <a:lnTo>
                    <a:pt x="74" y="56"/>
                  </a:lnTo>
                  <a:lnTo>
                    <a:pt x="97" y="47"/>
                  </a:lnTo>
                  <a:lnTo>
                    <a:pt x="122" y="38"/>
                  </a:lnTo>
                  <a:lnTo>
                    <a:pt x="146" y="29"/>
                  </a:lnTo>
                  <a:lnTo>
                    <a:pt x="169" y="22"/>
                  </a:lnTo>
                  <a:lnTo>
                    <a:pt x="189" y="15"/>
                  </a:lnTo>
                  <a:lnTo>
                    <a:pt x="207" y="9"/>
                  </a:lnTo>
                  <a:lnTo>
                    <a:pt x="222" y="4"/>
                  </a:lnTo>
                  <a:lnTo>
                    <a:pt x="234" y="2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0" y="3"/>
                  </a:lnTo>
                  <a:lnTo>
                    <a:pt x="232" y="6"/>
                  </a:lnTo>
                  <a:lnTo>
                    <a:pt x="222" y="11"/>
                  </a:lnTo>
                  <a:lnTo>
                    <a:pt x="206" y="17"/>
                  </a:lnTo>
                  <a:lnTo>
                    <a:pt x="188" y="26"/>
                  </a:lnTo>
                  <a:lnTo>
                    <a:pt x="168" y="33"/>
                  </a:lnTo>
                  <a:lnTo>
                    <a:pt x="145" y="42"/>
                  </a:lnTo>
                  <a:lnTo>
                    <a:pt x="121" y="51"/>
                  </a:lnTo>
                  <a:lnTo>
                    <a:pt x="96" y="59"/>
                  </a:lnTo>
                  <a:lnTo>
                    <a:pt x="73" y="68"/>
                  </a:lnTo>
                  <a:lnTo>
                    <a:pt x="52" y="75"/>
                  </a:lnTo>
                  <a:lnTo>
                    <a:pt x="34" y="81"/>
                  </a:lnTo>
                  <a:lnTo>
                    <a:pt x="20" y="84"/>
                  </a:lnTo>
                  <a:lnTo>
                    <a:pt x="9" y="88"/>
                  </a:lnTo>
                  <a:lnTo>
                    <a:pt x="2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49440" y="1320840"/>
              <a:ext cx="17640" cy="792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4" y="9"/>
                  </a:lnTo>
                  <a:lnTo>
                    <a:pt x="18" y="8"/>
                  </a:lnTo>
                  <a:lnTo>
                    <a:pt x="23" y="6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3" y="9"/>
                  </a:lnTo>
                  <a:lnTo>
                    <a:pt x="18" y="12"/>
                  </a:lnTo>
                  <a:lnTo>
                    <a:pt x="13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49440" y="1320840"/>
              <a:ext cx="17640" cy="792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4" y="9"/>
                  </a:lnTo>
                  <a:lnTo>
                    <a:pt x="18" y="8"/>
                  </a:lnTo>
                  <a:lnTo>
                    <a:pt x="23" y="6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3" y="9"/>
                  </a:lnTo>
                  <a:lnTo>
                    <a:pt x="18" y="12"/>
                  </a:lnTo>
                  <a:lnTo>
                    <a:pt x="13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53960" y="1870200"/>
              <a:ext cx="114480" cy="8568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0" y="56"/>
                  </a:moveTo>
                  <a:lnTo>
                    <a:pt x="23" y="47"/>
                  </a:lnTo>
                  <a:lnTo>
                    <a:pt x="45" y="40"/>
                  </a:lnTo>
                  <a:lnTo>
                    <a:pt x="66" y="33"/>
                  </a:lnTo>
                  <a:lnTo>
                    <a:pt x="88" y="27"/>
                  </a:lnTo>
                  <a:lnTo>
                    <a:pt x="109" y="21"/>
                  </a:lnTo>
                  <a:lnTo>
                    <a:pt x="130" y="15"/>
                  </a:lnTo>
                  <a:lnTo>
                    <a:pt x="150" y="10"/>
                  </a:lnTo>
                  <a:lnTo>
                    <a:pt x="169" y="5"/>
                  </a:lnTo>
                  <a:lnTo>
                    <a:pt x="195" y="2"/>
                  </a:lnTo>
                  <a:lnTo>
                    <a:pt x="216" y="0"/>
                  </a:lnTo>
                  <a:lnTo>
                    <a:pt x="233" y="3"/>
                  </a:lnTo>
                  <a:lnTo>
                    <a:pt x="247" y="5"/>
                  </a:lnTo>
                  <a:lnTo>
                    <a:pt x="258" y="10"/>
                  </a:lnTo>
                  <a:lnTo>
                    <a:pt x="268" y="16"/>
                  </a:lnTo>
                  <a:lnTo>
                    <a:pt x="275" y="22"/>
                  </a:lnTo>
                  <a:lnTo>
                    <a:pt x="282" y="28"/>
                  </a:lnTo>
                  <a:lnTo>
                    <a:pt x="286" y="34"/>
                  </a:lnTo>
                  <a:lnTo>
                    <a:pt x="288" y="41"/>
                  </a:lnTo>
                  <a:lnTo>
                    <a:pt x="288" y="50"/>
                  </a:lnTo>
                  <a:lnTo>
                    <a:pt x="286" y="58"/>
                  </a:lnTo>
                  <a:lnTo>
                    <a:pt x="282" y="66"/>
                  </a:lnTo>
                  <a:lnTo>
                    <a:pt x="276" y="76"/>
                  </a:lnTo>
                  <a:lnTo>
                    <a:pt x="269" y="86"/>
                  </a:lnTo>
                  <a:lnTo>
                    <a:pt x="259" y="96"/>
                  </a:lnTo>
                  <a:lnTo>
                    <a:pt x="247" y="108"/>
                  </a:lnTo>
                  <a:lnTo>
                    <a:pt x="234" y="120"/>
                  </a:lnTo>
                  <a:lnTo>
                    <a:pt x="219" y="132"/>
                  </a:lnTo>
                  <a:lnTo>
                    <a:pt x="203" y="146"/>
                  </a:lnTo>
                  <a:lnTo>
                    <a:pt x="184" y="159"/>
                  </a:lnTo>
                  <a:lnTo>
                    <a:pt x="163" y="172"/>
                  </a:lnTo>
                  <a:lnTo>
                    <a:pt x="142" y="185"/>
                  </a:lnTo>
                  <a:lnTo>
                    <a:pt x="117" y="198"/>
                  </a:lnTo>
                  <a:lnTo>
                    <a:pt x="112" y="201"/>
                  </a:lnTo>
                  <a:lnTo>
                    <a:pt x="107" y="203"/>
                  </a:lnTo>
                  <a:lnTo>
                    <a:pt x="103" y="206"/>
                  </a:lnTo>
                  <a:lnTo>
                    <a:pt x="99" y="208"/>
                  </a:lnTo>
                  <a:lnTo>
                    <a:pt x="94" y="210"/>
                  </a:lnTo>
                  <a:lnTo>
                    <a:pt x="89" y="213"/>
                  </a:lnTo>
                  <a:lnTo>
                    <a:pt x="83" y="215"/>
                  </a:lnTo>
                  <a:lnTo>
                    <a:pt x="78" y="218"/>
                  </a:lnTo>
                  <a:lnTo>
                    <a:pt x="77" y="214"/>
                  </a:lnTo>
                  <a:lnTo>
                    <a:pt x="75" y="212"/>
                  </a:lnTo>
                  <a:lnTo>
                    <a:pt x="73" y="208"/>
                  </a:lnTo>
                  <a:lnTo>
                    <a:pt x="71" y="206"/>
                  </a:lnTo>
                  <a:lnTo>
                    <a:pt x="70" y="202"/>
                  </a:lnTo>
                  <a:lnTo>
                    <a:pt x="69" y="198"/>
                  </a:lnTo>
                  <a:lnTo>
                    <a:pt x="66" y="196"/>
                  </a:lnTo>
                  <a:lnTo>
                    <a:pt x="65" y="192"/>
                  </a:lnTo>
                  <a:lnTo>
                    <a:pt x="55" y="176"/>
                  </a:lnTo>
                  <a:lnTo>
                    <a:pt x="47" y="159"/>
                  </a:lnTo>
                  <a:lnTo>
                    <a:pt x="39" y="142"/>
                  </a:lnTo>
                  <a:lnTo>
                    <a:pt x="30" y="124"/>
                  </a:lnTo>
                  <a:lnTo>
                    <a:pt x="22" y="107"/>
                  </a:lnTo>
                  <a:lnTo>
                    <a:pt x="15" y="90"/>
                  </a:lnTo>
                  <a:lnTo>
                    <a:pt x="7" y="7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90760" y="1684440"/>
              <a:ext cx="485640" cy="207720"/>
            </a:xfrm>
            <a:custGeom>
              <a:avLst/>
              <a:gdLst/>
              <a:ahLst/>
              <a:rect l="l" t="t" r="r" b="b"/>
              <a:pathLst>
                <a:path w="1224" h="525">
                  <a:moveTo>
                    <a:pt x="34" y="476"/>
                  </a:moveTo>
                  <a:lnTo>
                    <a:pt x="33" y="472"/>
                  </a:lnTo>
                  <a:lnTo>
                    <a:pt x="29" y="470"/>
                  </a:lnTo>
                  <a:lnTo>
                    <a:pt x="27" y="466"/>
                  </a:lnTo>
                  <a:lnTo>
                    <a:pt x="22" y="464"/>
                  </a:lnTo>
                  <a:lnTo>
                    <a:pt x="14" y="458"/>
                  </a:lnTo>
                  <a:lnTo>
                    <a:pt x="6" y="452"/>
                  </a:lnTo>
                  <a:lnTo>
                    <a:pt x="4" y="448"/>
                  </a:lnTo>
                  <a:lnTo>
                    <a:pt x="2" y="445"/>
                  </a:lnTo>
                  <a:lnTo>
                    <a:pt x="0" y="441"/>
                  </a:lnTo>
                  <a:lnTo>
                    <a:pt x="2" y="438"/>
                  </a:lnTo>
                  <a:lnTo>
                    <a:pt x="3" y="433"/>
                  </a:lnTo>
                  <a:lnTo>
                    <a:pt x="8" y="428"/>
                  </a:lnTo>
                  <a:lnTo>
                    <a:pt x="14" y="423"/>
                  </a:lnTo>
                  <a:lnTo>
                    <a:pt x="22" y="417"/>
                  </a:lnTo>
                  <a:lnTo>
                    <a:pt x="52" y="399"/>
                  </a:lnTo>
                  <a:lnTo>
                    <a:pt x="88" y="381"/>
                  </a:lnTo>
                  <a:lnTo>
                    <a:pt x="126" y="363"/>
                  </a:lnTo>
                  <a:lnTo>
                    <a:pt x="168" y="345"/>
                  </a:lnTo>
                  <a:lnTo>
                    <a:pt x="212" y="327"/>
                  </a:lnTo>
                  <a:lnTo>
                    <a:pt x="256" y="310"/>
                  </a:lnTo>
                  <a:lnTo>
                    <a:pt x="299" y="294"/>
                  </a:lnTo>
                  <a:lnTo>
                    <a:pt x="341" y="277"/>
                  </a:lnTo>
                  <a:lnTo>
                    <a:pt x="394" y="255"/>
                  </a:lnTo>
                  <a:lnTo>
                    <a:pt x="447" y="235"/>
                  </a:lnTo>
                  <a:lnTo>
                    <a:pt x="501" y="215"/>
                  </a:lnTo>
                  <a:lnTo>
                    <a:pt x="554" y="194"/>
                  </a:lnTo>
                  <a:lnTo>
                    <a:pt x="608" y="174"/>
                  </a:lnTo>
                  <a:lnTo>
                    <a:pt x="662" y="153"/>
                  </a:lnTo>
                  <a:lnTo>
                    <a:pt x="716" y="134"/>
                  </a:lnTo>
                  <a:lnTo>
                    <a:pt x="770" y="115"/>
                  </a:lnTo>
                  <a:lnTo>
                    <a:pt x="812" y="99"/>
                  </a:lnTo>
                  <a:lnTo>
                    <a:pt x="855" y="84"/>
                  </a:lnTo>
                  <a:lnTo>
                    <a:pt x="899" y="67"/>
                  </a:lnTo>
                  <a:lnTo>
                    <a:pt x="942" y="53"/>
                  </a:lnTo>
                  <a:lnTo>
                    <a:pt x="986" y="37"/>
                  </a:lnTo>
                  <a:lnTo>
                    <a:pt x="1028" y="25"/>
                  </a:lnTo>
                  <a:lnTo>
                    <a:pt x="1067" y="13"/>
                  </a:lnTo>
                  <a:lnTo>
                    <a:pt x="1106" y="5"/>
                  </a:lnTo>
                  <a:lnTo>
                    <a:pt x="1131" y="1"/>
                  </a:lnTo>
                  <a:lnTo>
                    <a:pt x="1152" y="0"/>
                  </a:lnTo>
                  <a:lnTo>
                    <a:pt x="1169" y="1"/>
                  </a:lnTo>
                  <a:lnTo>
                    <a:pt x="1184" y="5"/>
                  </a:lnTo>
                  <a:lnTo>
                    <a:pt x="1194" y="9"/>
                  </a:lnTo>
                  <a:lnTo>
                    <a:pt x="1204" y="15"/>
                  </a:lnTo>
                  <a:lnTo>
                    <a:pt x="1211" y="21"/>
                  </a:lnTo>
                  <a:lnTo>
                    <a:pt x="1218" y="27"/>
                  </a:lnTo>
                  <a:lnTo>
                    <a:pt x="1222" y="33"/>
                  </a:lnTo>
                  <a:lnTo>
                    <a:pt x="1224" y="41"/>
                  </a:lnTo>
                  <a:lnTo>
                    <a:pt x="1224" y="48"/>
                  </a:lnTo>
                  <a:lnTo>
                    <a:pt x="1222" y="56"/>
                  </a:lnTo>
                  <a:lnTo>
                    <a:pt x="1218" y="66"/>
                  </a:lnTo>
                  <a:lnTo>
                    <a:pt x="1212" y="75"/>
                  </a:lnTo>
                  <a:lnTo>
                    <a:pt x="1205" y="85"/>
                  </a:lnTo>
                  <a:lnTo>
                    <a:pt x="1196" y="95"/>
                  </a:lnTo>
                  <a:lnTo>
                    <a:pt x="1184" y="107"/>
                  </a:lnTo>
                  <a:lnTo>
                    <a:pt x="1170" y="119"/>
                  </a:lnTo>
                  <a:lnTo>
                    <a:pt x="1156" y="132"/>
                  </a:lnTo>
                  <a:lnTo>
                    <a:pt x="1139" y="145"/>
                  </a:lnTo>
                  <a:lnTo>
                    <a:pt x="1120" y="158"/>
                  </a:lnTo>
                  <a:lnTo>
                    <a:pt x="1100" y="171"/>
                  </a:lnTo>
                  <a:lnTo>
                    <a:pt x="1078" y="185"/>
                  </a:lnTo>
                  <a:lnTo>
                    <a:pt x="1053" y="198"/>
                  </a:lnTo>
                  <a:lnTo>
                    <a:pt x="1020" y="213"/>
                  </a:lnTo>
                  <a:lnTo>
                    <a:pt x="986" y="229"/>
                  </a:lnTo>
                  <a:lnTo>
                    <a:pt x="950" y="245"/>
                  </a:lnTo>
                  <a:lnTo>
                    <a:pt x="914" y="260"/>
                  </a:lnTo>
                  <a:lnTo>
                    <a:pt x="875" y="274"/>
                  </a:lnTo>
                  <a:lnTo>
                    <a:pt x="838" y="289"/>
                  </a:lnTo>
                  <a:lnTo>
                    <a:pt x="800" y="303"/>
                  </a:lnTo>
                  <a:lnTo>
                    <a:pt x="762" y="319"/>
                  </a:lnTo>
                  <a:lnTo>
                    <a:pt x="723" y="333"/>
                  </a:lnTo>
                  <a:lnTo>
                    <a:pt x="684" y="349"/>
                  </a:lnTo>
                  <a:lnTo>
                    <a:pt x="645" y="363"/>
                  </a:lnTo>
                  <a:lnTo>
                    <a:pt x="605" y="378"/>
                  </a:lnTo>
                  <a:lnTo>
                    <a:pt x="567" y="392"/>
                  </a:lnTo>
                  <a:lnTo>
                    <a:pt x="527" y="406"/>
                  </a:lnTo>
                  <a:lnTo>
                    <a:pt x="488" y="420"/>
                  </a:lnTo>
                  <a:lnTo>
                    <a:pt x="448" y="434"/>
                  </a:lnTo>
                  <a:lnTo>
                    <a:pt x="413" y="445"/>
                  </a:lnTo>
                  <a:lnTo>
                    <a:pt x="378" y="457"/>
                  </a:lnTo>
                  <a:lnTo>
                    <a:pt x="344" y="468"/>
                  </a:lnTo>
                  <a:lnTo>
                    <a:pt x="309" y="480"/>
                  </a:lnTo>
                  <a:lnTo>
                    <a:pt x="275" y="489"/>
                  </a:lnTo>
                  <a:lnTo>
                    <a:pt x="240" y="499"/>
                  </a:lnTo>
                  <a:lnTo>
                    <a:pt x="208" y="508"/>
                  </a:lnTo>
                  <a:lnTo>
                    <a:pt x="176" y="516"/>
                  </a:lnTo>
                  <a:lnTo>
                    <a:pt x="156" y="519"/>
                  </a:lnTo>
                  <a:lnTo>
                    <a:pt x="138" y="523"/>
                  </a:lnTo>
                  <a:lnTo>
                    <a:pt x="122" y="524"/>
                  </a:lnTo>
                  <a:lnTo>
                    <a:pt x="106" y="525"/>
                  </a:lnTo>
                  <a:lnTo>
                    <a:pt x="93" y="525"/>
                  </a:lnTo>
                  <a:lnTo>
                    <a:pt x="80" y="525"/>
                  </a:lnTo>
                  <a:lnTo>
                    <a:pt x="69" y="524"/>
                  </a:lnTo>
                  <a:lnTo>
                    <a:pt x="59" y="522"/>
                  </a:lnTo>
                  <a:lnTo>
                    <a:pt x="51" y="518"/>
                  </a:lnTo>
                  <a:lnTo>
                    <a:pt x="45" y="513"/>
                  </a:lnTo>
                  <a:lnTo>
                    <a:pt x="41" y="508"/>
                  </a:lnTo>
                  <a:lnTo>
                    <a:pt x="39" y="502"/>
                  </a:lnTo>
                  <a:lnTo>
                    <a:pt x="38" y="495"/>
                  </a:lnTo>
                  <a:lnTo>
                    <a:pt x="36" y="489"/>
                  </a:lnTo>
                  <a:lnTo>
                    <a:pt x="36" y="482"/>
                  </a:lnTo>
                  <a:lnTo>
                    <a:pt x="34" y="476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96920" y="1498680"/>
              <a:ext cx="486000" cy="209520"/>
            </a:xfrm>
            <a:custGeom>
              <a:avLst/>
              <a:gdLst/>
              <a:ahLst/>
              <a:rect l="l" t="t" r="r" b="b"/>
              <a:pathLst>
                <a:path w="1224" h="526">
                  <a:moveTo>
                    <a:pt x="33" y="476"/>
                  </a:moveTo>
                  <a:lnTo>
                    <a:pt x="32" y="473"/>
                  </a:lnTo>
                  <a:lnTo>
                    <a:pt x="30" y="469"/>
                  </a:lnTo>
                  <a:lnTo>
                    <a:pt x="26" y="467"/>
                  </a:lnTo>
                  <a:lnTo>
                    <a:pt x="21" y="463"/>
                  </a:lnTo>
                  <a:lnTo>
                    <a:pt x="13" y="457"/>
                  </a:lnTo>
                  <a:lnTo>
                    <a:pt x="6" y="451"/>
                  </a:lnTo>
                  <a:lnTo>
                    <a:pt x="3" y="449"/>
                  </a:lnTo>
                  <a:lnTo>
                    <a:pt x="1" y="445"/>
                  </a:lnTo>
                  <a:lnTo>
                    <a:pt x="0" y="442"/>
                  </a:lnTo>
                  <a:lnTo>
                    <a:pt x="1" y="437"/>
                  </a:lnTo>
                  <a:lnTo>
                    <a:pt x="3" y="433"/>
                  </a:lnTo>
                  <a:lnTo>
                    <a:pt x="7" y="428"/>
                  </a:lnTo>
                  <a:lnTo>
                    <a:pt x="13" y="422"/>
                  </a:lnTo>
                  <a:lnTo>
                    <a:pt x="21" y="416"/>
                  </a:lnTo>
                  <a:lnTo>
                    <a:pt x="51" y="398"/>
                  </a:lnTo>
                  <a:lnTo>
                    <a:pt x="87" y="380"/>
                  </a:lnTo>
                  <a:lnTo>
                    <a:pt x="126" y="362"/>
                  </a:lnTo>
                  <a:lnTo>
                    <a:pt x="168" y="346"/>
                  </a:lnTo>
                  <a:lnTo>
                    <a:pt x="211" y="328"/>
                  </a:lnTo>
                  <a:lnTo>
                    <a:pt x="255" y="311"/>
                  </a:lnTo>
                  <a:lnTo>
                    <a:pt x="298" y="293"/>
                  </a:lnTo>
                  <a:lnTo>
                    <a:pt x="342" y="276"/>
                  </a:lnTo>
                  <a:lnTo>
                    <a:pt x="393" y="256"/>
                  </a:lnTo>
                  <a:lnTo>
                    <a:pt x="446" y="234"/>
                  </a:lnTo>
                  <a:lnTo>
                    <a:pt x="500" y="214"/>
                  </a:lnTo>
                  <a:lnTo>
                    <a:pt x="553" y="193"/>
                  </a:lnTo>
                  <a:lnTo>
                    <a:pt x="607" y="173"/>
                  </a:lnTo>
                  <a:lnTo>
                    <a:pt x="661" y="154"/>
                  </a:lnTo>
                  <a:lnTo>
                    <a:pt x="715" y="134"/>
                  </a:lnTo>
                  <a:lnTo>
                    <a:pt x="769" y="114"/>
                  </a:lnTo>
                  <a:lnTo>
                    <a:pt x="811" y="100"/>
                  </a:lnTo>
                  <a:lnTo>
                    <a:pt x="854" y="83"/>
                  </a:lnTo>
                  <a:lnTo>
                    <a:pt x="898" y="67"/>
                  </a:lnTo>
                  <a:lnTo>
                    <a:pt x="942" y="52"/>
                  </a:lnTo>
                  <a:lnTo>
                    <a:pt x="985" y="37"/>
                  </a:lnTo>
                  <a:lnTo>
                    <a:pt x="1027" y="24"/>
                  </a:lnTo>
                  <a:lnTo>
                    <a:pt x="1066" y="13"/>
                  </a:lnTo>
                  <a:lnTo>
                    <a:pt x="1106" y="5"/>
                  </a:lnTo>
                  <a:lnTo>
                    <a:pt x="1131" y="0"/>
                  </a:lnTo>
                  <a:lnTo>
                    <a:pt x="1152" y="0"/>
                  </a:lnTo>
                  <a:lnTo>
                    <a:pt x="1168" y="1"/>
                  </a:lnTo>
                  <a:lnTo>
                    <a:pt x="1183" y="5"/>
                  </a:lnTo>
                  <a:lnTo>
                    <a:pt x="1194" y="8"/>
                  </a:lnTo>
                  <a:lnTo>
                    <a:pt x="1203" y="14"/>
                  </a:lnTo>
                  <a:lnTo>
                    <a:pt x="1210" y="20"/>
                  </a:lnTo>
                  <a:lnTo>
                    <a:pt x="1218" y="28"/>
                  </a:lnTo>
                  <a:lnTo>
                    <a:pt x="1221" y="34"/>
                  </a:lnTo>
                  <a:lnTo>
                    <a:pt x="1224" y="40"/>
                  </a:lnTo>
                  <a:lnTo>
                    <a:pt x="1224" y="48"/>
                  </a:lnTo>
                  <a:lnTo>
                    <a:pt x="1221" y="56"/>
                  </a:lnTo>
                  <a:lnTo>
                    <a:pt x="1218" y="65"/>
                  </a:lnTo>
                  <a:lnTo>
                    <a:pt x="1212" y="74"/>
                  </a:lnTo>
                  <a:lnTo>
                    <a:pt x="1204" y="84"/>
                  </a:lnTo>
                  <a:lnTo>
                    <a:pt x="1195" y="95"/>
                  </a:lnTo>
                  <a:lnTo>
                    <a:pt x="1183" y="107"/>
                  </a:lnTo>
                  <a:lnTo>
                    <a:pt x="1170" y="119"/>
                  </a:lnTo>
                  <a:lnTo>
                    <a:pt x="1155" y="132"/>
                  </a:lnTo>
                  <a:lnTo>
                    <a:pt x="1138" y="144"/>
                  </a:lnTo>
                  <a:lnTo>
                    <a:pt x="1119" y="157"/>
                  </a:lnTo>
                  <a:lnTo>
                    <a:pt x="1100" y="170"/>
                  </a:lnTo>
                  <a:lnTo>
                    <a:pt x="1077" y="184"/>
                  </a:lnTo>
                  <a:lnTo>
                    <a:pt x="1052" y="198"/>
                  </a:lnTo>
                  <a:lnTo>
                    <a:pt x="1020" y="214"/>
                  </a:lnTo>
                  <a:lnTo>
                    <a:pt x="985" y="229"/>
                  </a:lnTo>
                  <a:lnTo>
                    <a:pt x="950" y="245"/>
                  </a:lnTo>
                  <a:lnTo>
                    <a:pt x="913" y="259"/>
                  </a:lnTo>
                  <a:lnTo>
                    <a:pt x="874" y="275"/>
                  </a:lnTo>
                  <a:lnTo>
                    <a:pt x="837" y="289"/>
                  </a:lnTo>
                  <a:lnTo>
                    <a:pt x="799" y="304"/>
                  </a:lnTo>
                  <a:lnTo>
                    <a:pt x="762" y="318"/>
                  </a:lnTo>
                  <a:lnTo>
                    <a:pt x="722" y="334"/>
                  </a:lnTo>
                  <a:lnTo>
                    <a:pt x="684" y="348"/>
                  </a:lnTo>
                  <a:lnTo>
                    <a:pt x="644" y="364"/>
                  </a:lnTo>
                  <a:lnTo>
                    <a:pt x="606" y="378"/>
                  </a:lnTo>
                  <a:lnTo>
                    <a:pt x="566" y="392"/>
                  </a:lnTo>
                  <a:lnTo>
                    <a:pt x="526" y="407"/>
                  </a:lnTo>
                  <a:lnTo>
                    <a:pt x="487" y="420"/>
                  </a:lnTo>
                  <a:lnTo>
                    <a:pt x="447" y="433"/>
                  </a:lnTo>
                  <a:lnTo>
                    <a:pt x="412" y="445"/>
                  </a:lnTo>
                  <a:lnTo>
                    <a:pt x="378" y="457"/>
                  </a:lnTo>
                  <a:lnTo>
                    <a:pt x="343" y="468"/>
                  </a:lnTo>
                  <a:lnTo>
                    <a:pt x="308" y="479"/>
                  </a:lnTo>
                  <a:lnTo>
                    <a:pt x="274" y="490"/>
                  </a:lnTo>
                  <a:lnTo>
                    <a:pt x="240" y="499"/>
                  </a:lnTo>
                  <a:lnTo>
                    <a:pt x="207" y="508"/>
                  </a:lnTo>
                  <a:lnTo>
                    <a:pt x="175" y="516"/>
                  </a:lnTo>
                  <a:lnTo>
                    <a:pt x="156" y="520"/>
                  </a:lnTo>
                  <a:lnTo>
                    <a:pt x="138" y="522"/>
                  </a:lnTo>
                  <a:lnTo>
                    <a:pt x="121" y="524"/>
                  </a:lnTo>
                  <a:lnTo>
                    <a:pt x="105" y="526"/>
                  </a:lnTo>
                  <a:lnTo>
                    <a:pt x="92" y="526"/>
                  </a:lnTo>
                  <a:lnTo>
                    <a:pt x="79" y="526"/>
                  </a:lnTo>
                  <a:lnTo>
                    <a:pt x="68" y="523"/>
                  </a:lnTo>
                  <a:lnTo>
                    <a:pt x="58" y="522"/>
                  </a:lnTo>
                  <a:lnTo>
                    <a:pt x="50" y="518"/>
                  </a:lnTo>
                  <a:lnTo>
                    <a:pt x="44" y="514"/>
                  </a:lnTo>
                  <a:lnTo>
                    <a:pt x="40" y="508"/>
                  </a:lnTo>
                  <a:lnTo>
                    <a:pt x="38" y="502"/>
                  </a:lnTo>
                  <a:lnTo>
                    <a:pt x="37" y="496"/>
                  </a:lnTo>
                  <a:lnTo>
                    <a:pt x="36" y="488"/>
                  </a:lnTo>
                  <a:lnTo>
                    <a:pt x="36" y="482"/>
                  </a:lnTo>
                  <a:lnTo>
                    <a:pt x="33" y="476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05240" y="1312920"/>
              <a:ext cx="485640" cy="209520"/>
            </a:xfrm>
            <a:custGeom>
              <a:avLst/>
              <a:gdLst/>
              <a:ahLst/>
              <a:rect l="l" t="t" r="r" b="b"/>
              <a:pathLst>
                <a:path w="1224" h="527">
                  <a:moveTo>
                    <a:pt x="33" y="476"/>
                  </a:moveTo>
                  <a:lnTo>
                    <a:pt x="32" y="474"/>
                  </a:lnTo>
                  <a:lnTo>
                    <a:pt x="30" y="470"/>
                  </a:lnTo>
                  <a:lnTo>
                    <a:pt x="26" y="467"/>
                  </a:lnTo>
                  <a:lnTo>
                    <a:pt x="21" y="464"/>
                  </a:lnTo>
                  <a:lnTo>
                    <a:pt x="13" y="459"/>
                  </a:lnTo>
                  <a:lnTo>
                    <a:pt x="6" y="453"/>
                  </a:lnTo>
                  <a:lnTo>
                    <a:pt x="3" y="449"/>
                  </a:lnTo>
                  <a:lnTo>
                    <a:pt x="1" y="447"/>
                  </a:lnTo>
                  <a:lnTo>
                    <a:pt x="0" y="442"/>
                  </a:lnTo>
                  <a:lnTo>
                    <a:pt x="1" y="438"/>
                  </a:lnTo>
                  <a:lnTo>
                    <a:pt x="3" y="433"/>
                  </a:lnTo>
                  <a:lnTo>
                    <a:pt x="7" y="429"/>
                  </a:lnTo>
                  <a:lnTo>
                    <a:pt x="13" y="424"/>
                  </a:lnTo>
                  <a:lnTo>
                    <a:pt x="21" y="418"/>
                  </a:lnTo>
                  <a:lnTo>
                    <a:pt x="51" y="400"/>
                  </a:lnTo>
                  <a:lnTo>
                    <a:pt x="87" y="382"/>
                  </a:lnTo>
                  <a:lnTo>
                    <a:pt x="126" y="364"/>
                  </a:lnTo>
                  <a:lnTo>
                    <a:pt x="168" y="346"/>
                  </a:lnTo>
                  <a:lnTo>
                    <a:pt x="211" y="329"/>
                  </a:lnTo>
                  <a:lnTo>
                    <a:pt x="255" y="311"/>
                  </a:lnTo>
                  <a:lnTo>
                    <a:pt x="299" y="294"/>
                  </a:lnTo>
                  <a:lnTo>
                    <a:pt x="342" y="277"/>
                  </a:lnTo>
                  <a:lnTo>
                    <a:pt x="393" y="256"/>
                  </a:lnTo>
                  <a:lnTo>
                    <a:pt x="447" y="235"/>
                  </a:lnTo>
                  <a:lnTo>
                    <a:pt x="500" y="215"/>
                  </a:lnTo>
                  <a:lnTo>
                    <a:pt x="553" y="195"/>
                  </a:lnTo>
                  <a:lnTo>
                    <a:pt x="607" y="174"/>
                  </a:lnTo>
                  <a:lnTo>
                    <a:pt x="661" y="154"/>
                  </a:lnTo>
                  <a:lnTo>
                    <a:pt x="715" y="135"/>
                  </a:lnTo>
                  <a:lnTo>
                    <a:pt x="769" y="115"/>
                  </a:lnTo>
                  <a:lnTo>
                    <a:pt x="811" y="100"/>
                  </a:lnTo>
                  <a:lnTo>
                    <a:pt x="854" y="84"/>
                  </a:lnTo>
                  <a:lnTo>
                    <a:pt x="899" y="69"/>
                  </a:lnTo>
                  <a:lnTo>
                    <a:pt x="942" y="53"/>
                  </a:lnTo>
                  <a:lnTo>
                    <a:pt x="985" y="39"/>
                  </a:lnTo>
                  <a:lnTo>
                    <a:pt x="1027" y="25"/>
                  </a:lnTo>
                  <a:lnTo>
                    <a:pt x="1067" y="15"/>
                  </a:lnTo>
                  <a:lnTo>
                    <a:pt x="1106" y="5"/>
                  </a:lnTo>
                  <a:lnTo>
                    <a:pt x="1131" y="1"/>
                  </a:lnTo>
                  <a:lnTo>
                    <a:pt x="1152" y="0"/>
                  </a:lnTo>
                  <a:lnTo>
                    <a:pt x="1169" y="1"/>
                  </a:lnTo>
                  <a:lnTo>
                    <a:pt x="1183" y="5"/>
                  </a:lnTo>
                  <a:lnTo>
                    <a:pt x="1195" y="10"/>
                  </a:lnTo>
                  <a:lnTo>
                    <a:pt x="1203" y="16"/>
                  </a:lnTo>
                  <a:lnTo>
                    <a:pt x="1211" y="22"/>
                  </a:lnTo>
                  <a:lnTo>
                    <a:pt x="1218" y="28"/>
                  </a:lnTo>
                  <a:lnTo>
                    <a:pt x="1221" y="34"/>
                  </a:lnTo>
                  <a:lnTo>
                    <a:pt x="1224" y="41"/>
                  </a:lnTo>
                  <a:lnTo>
                    <a:pt x="1224" y="48"/>
                  </a:lnTo>
                  <a:lnTo>
                    <a:pt x="1221" y="57"/>
                  </a:lnTo>
                  <a:lnTo>
                    <a:pt x="1218" y="66"/>
                  </a:lnTo>
                  <a:lnTo>
                    <a:pt x="1212" y="76"/>
                  </a:lnTo>
                  <a:lnTo>
                    <a:pt x="1205" y="85"/>
                  </a:lnTo>
                  <a:lnTo>
                    <a:pt x="1195" y="96"/>
                  </a:lnTo>
                  <a:lnTo>
                    <a:pt x="1183" y="108"/>
                  </a:lnTo>
                  <a:lnTo>
                    <a:pt x="1170" y="120"/>
                  </a:lnTo>
                  <a:lnTo>
                    <a:pt x="1155" y="132"/>
                  </a:lnTo>
                  <a:lnTo>
                    <a:pt x="1139" y="145"/>
                  </a:lnTo>
                  <a:lnTo>
                    <a:pt x="1121" y="159"/>
                  </a:lnTo>
                  <a:lnTo>
                    <a:pt x="1100" y="172"/>
                  </a:lnTo>
                  <a:lnTo>
                    <a:pt x="1077" y="185"/>
                  </a:lnTo>
                  <a:lnTo>
                    <a:pt x="1053" y="198"/>
                  </a:lnTo>
                  <a:lnTo>
                    <a:pt x="1020" y="215"/>
                  </a:lnTo>
                  <a:lnTo>
                    <a:pt x="986" y="231"/>
                  </a:lnTo>
                  <a:lnTo>
                    <a:pt x="950" y="245"/>
                  </a:lnTo>
                  <a:lnTo>
                    <a:pt x="913" y="261"/>
                  </a:lnTo>
                  <a:lnTo>
                    <a:pt x="875" y="275"/>
                  </a:lnTo>
                  <a:lnTo>
                    <a:pt x="837" y="291"/>
                  </a:lnTo>
                  <a:lnTo>
                    <a:pt x="799" y="305"/>
                  </a:lnTo>
                  <a:lnTo>
                    <a:pt x="762" y="319"/>
                  </a:lnTo>
                  <a:lnTo>
                    <a:pt x="722" y="334"/>
                  </a:lnTo>
                  <a:lnTo>
                    <a:pt x="684" y="349"/>
                  </a:lnTo>
                  <a:lnTo>
                    <a:pt x="644" y="364"/>
                  </a:lnTo>
                  <a:lnTo>
                    <a:pt x="606" y="378"/>
                  </a:lnTo>
                  <a:lnTo>
                    <a:pt x="566" y="393"/>
                  </a:lnTo>
                  <a:lnTo>
                    <a:pt x="527" y="407"/>
                  </a:lnTo>
                  <a:lnTo>
                    <a:pt x="487" y="421"/>
                  </a:lnTo>
                  <a:lnTo>
                    <a:pt x="447" y="435"/>
                  </a:lnTo>
                  <a:lnTo>
                    <a:pt x="413" y="447"/>
                  </a:lnTo>
                  <a:lnTo>
                    <a:pt x="378" y="457"/>
                  </a:lnTo>
                  <a:lnTo>
                    <a:pt x="343" y="469"/>
                  </a:lnTo>
                  <a:lnTo>
                    <a:pt x="309" y="480"/>
                  </a:lnTo>
                  <a:lnTo>
                    <a:pt x="275" y="490"/>
                  </a:lnTo>
                  <a:lnTo>
                    <a:pt x="241" y="499"/>
                  </a:lnTo>
                  <a:lnTo>
                    <a:pt x="207" y="509"/>
                  </a:lnTo>
                  <a:lnTo>
                    <a:pt x="175" y="516"/>
                  </a:lnTo>
                  <a:lnTo>
                    <a:pt x="156" y="521"/>
                  </a:lnTo>
                  <a:lnTo>
                    <a:pt x="138" y="523"/>
                  </a:lnTo>
                  <a:lnTo>
                    <a:pt x="121" y="526"/>
                  </a:lnTo>
                  <a:lnTo>
                    <a:pt x="105" y="526"/>
                  </a:lnTo>
                  <a:lnTo>
                    <a:pt x="92" y="527"/>
                  </a:lnTo>
                  <a:lnTo>
                    <a:pt x="79" y="526"/>
                  </a:lnTo>
                  <a:lnTo>
                    <a:pt x="68" y="524"/>
                  </a:lnTo>
                  <a:lnTo>
                    <a:pt x="59" y="522"/>
                  </a:lnTo>
                  <a:lnTo>
                    <a:pt x="50" y="518"/>
                  </a:lnTo>
                  <a:lnTo>
                    <a:pt x="44" y="515"/>
                  </a:lnTo>
                  <a:lnTo>
                    <a:pt x="41" y="509"/>
                  </a:lnTo>
                  <a:lnTo>
                    <a:pt x="38" y="503"/>
                  </a:lnTo>
                  <a:lnTo>
                    <a:pt x="37" y="497"/>
                  </a:lnTo>
                  <a:lnTo>
                    <a:pt x="37" y="490"/>
                  </a:lnTo>
                  <a:lnTo>
                    <a:pt x="36" y="484"/>
                  </a:lnTo>
                  <a:lnTo>
                    <a:pt x="33" y="476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13200" y="1182600"/>
              <a:ext cx="322200" cy="154080"/>
            </a:xfrm>
            <a:custGeom>
              <a:avLst/>
              <a:gdLst/>
              <a:ahLst/>
              <a:rect l="l" t="t" r="r" b="b"/>
              <a:pathLst>
                <a:path w="809" h="390">
                  <a:moveTo>
                    <a:pt x="34" y="341"/>
                  </a:moveTo>
                  <a:lnTo>
                    <a:pt x="31" y="337"/>
                  </a:lnTo>
                  <a:lnTo>
                    <a:pt x="29" y="334"/>
                  </a:lnTo>
                  <a:lnTo>
                    <a:pt x="25" y="331"/>
                  </a:lnTo>
                  <a:lnTo>
                    <a:pt x="22" y="329"/>
                  </a:lnTo>
                  <a:lnTo>
                    <a:pt x="13" y="323"/>
                  </a:lnTo>
                  <a:lnTo>
                    <a:pt x="5" y="317"/>
                  </a:lnTo>
                  <a:lnTo>
                    <a:pt x="3" y="313"/>
                  </a:lnTo>
                  <a:lnTo>
                    <a:pt x="0" y="310"/>
                  </a:lnTo>
                  <a:lnTo>
                    <a:pt x="0" y="306"/>
                  </a:lnTo>
                  <a:lnTo>
                    <a:pt x="0" y="302"/>
                  </a:lnTo>
                  <a:lnTo>
                    <a:pt x="3" y="298"/>
                  </a:lnTo>
                  <a:lnTo>
                    <a:pt x="6" y="293"/>
                  </a:lnTo>
                  <a:lnTo>
                    <a:pt x="12" y="288"/>
                  </a:lnTo>
                  <a:lnTo>
                    <a:pt x="21" y="282"/>
                  </a:lnTo>
                  <a:lnTo>
                    <a:pt x="51" y="263"/>
                  </a:lnTo>
                  <a:lnTo>
                    <a:pt x="87" y="245"/>
                  </a:lnTo>
                  <a:lnTo>
                    <a:pt x="125" y="228"/>
                  </a:lnTo>
                  <a:lnTo>
                    <a:pt x="167" y="210"/>
                  </a:lnTo>
                  <a:lnTo>
                    <a:pt x="210" y="192"/>
                  </a:lnTo>
                  <a:lnTo>
                    <a:pt x="255" y="175"/>
                  </a:lnTo>
                  <a:lnTo>
                    <a:pt x="298" y="158"/>
                  </a:lnTo>
                  <a:lnTo>
                    <a:pt x="341" y="140"/>
                  </a:lnTo>
                  <a:lnTo>
                    <a:pt x="387" y="122"/>
                  </a:lnTo>
                  <a:lnTo>
                    <a:pt x="432" y="104"/>
                  </a:lnTo>
                  <a:lnTo>
                    <a:pt x="478" y="86"/>
                  </a:lnTo>
                  <a:lnTo>
                    <a:pt x="525" y="70"/>
                  </a:lnTo>
                  <a:lnTo>
                    <a:pt x="570" y="52"/>
                  </a:lnTo>
                  <a:lnTo>
                    <a:pt x="617" y="35"/>
                  </a:lnTo>
                  <a:lnTo>
                    <a:pt x="664" y="17"/>
                  </a:lnTo>
                  <a:lnTo>
                    <a:pt x="711" y="0"/>
                  </a:lnTo>
                  <a:lnTo>
                    <a:pt x="720" y="15"/>
                  </a:lnTo>
                  <a:lnTo>
                    <a:pt x="731" y="30"/>
                  </a:lnTo>
                  <a:lnTo>
                    <a:pt x="741" y="45"/>
                  </a:lnTo>
                  <a:lnTo>
                    <a:pt x="750" y="60"/>
                  </a:lnTo>
                  <a:lnTo>
                    <a:pt x="760" y="76"/>
                  </a:lnTo>
                  <a:lnTo>
                    <a:pt x="769" y="91"/>
                  </a:lnTo>
                  <a:lnTo>
                    <a:pt x="778" y="107"/>
                  </a:lnTo>
                  <a:lnTo>
                    <a:pt x="787" y="122"/>
                  </a:lnTo>
                  <a:lnTo>
                    <a:pt x="790" y="127"/>
                  </a:lnTo>
                  <a:lnTo>
                    <a:pt x="792" y="133"/>
                  </a:lnTo>
                  <a:lnTo>
                    <a:pt x="796" y="138"/>
                  </a:lnTo>
                  <a:lnTo>
                    <a:pt x="798" y="143"/>
                  </a:lnTo>
                  <a:lnTo>
                    <a:pt x="801" y="149"/>
                  </a:lnTo>
                  <a:lnTo>
                    <a:pt x="803" y="154"/>
                  </a:lnTo>
                  <a:lnTo>
                    <a:pt x="807" y="160"/>
                  </a:lnTo>
                  <a:lnTo>
                    <a:pt x="809" y="164"/>
                  </a:lnTo>
                  <a:lnTo>
                    <a:pt x="803" y="167"/>
                  </a:lnTo>
                  <a:lnTo>
                    <a:pt x="797" y="169"/>
                  </a:lnTo>
                  <a:lnTo>
                    <a:pt x="791" y="172"/>
                  </a:lnTo>
                  <a:lnTo>
                    <a:pt x="785" y="174"/>
                  </a:lnTo>
                  <a:lnTo>
                    <a:pt x="779" y="176"/>
                  </a:lnTo>
                  <a:lnTo>
                    <a:pt x="773" y="179"/>
                  </a:lnTo>
                  <a:lnTo>
                    <a:pt x="767" y="180"/>
                  </a:lnTo>
                  <a:lnTo>
                    <a:pt x="761" y="182"/>
                  </a:lnTo>
                  <a:lnTo>
                    <a:pt x="723" y="198"/>
                  </a:lnTo>
                  <a:lnTo>
                    <a:pt x="683" y="212"/>
                  </a:lnTo>
                  <a:lnTo>
                    <a:pt x="645" y="228"/>
                  </a:lnTo>
                  <a:lnTo>
                    <a:pt x="605" y="242"/>
                  </a:lnTo>
                  <a:lnTo>
                    <a:pt x="565" y="257"/>
                  </a:lnTo>
                  <a:lnTo>
                    <a:pt x="526" y="271"/>
                  </a:lnTo>
                  <a:lnTo>
                    <a:pt x="486" y="284"/>
                  </a:lnTo>
                  <a:lnTo>
                    <a:pt x="447" y="299"/>
                  </a:lnTo>
                  <a:lnTo>
                    <a:pt x="412" y="310"/>
                  </a:lnTo>
                  <a:lnTo>
                    <a:pt x="378" y="322"/>
                  </a:lnTo>
                  <a:lnTo>
                    <a:pt x="343" y="332"/>
                  </a:lnTo>
                  <a:lnTo>
                    <a:pt x="309" y="343"/>
                  </a:lnTo>
                  <a:lnTo>
                    <a:pt x="274" y="354"/>
                  </a:lnTo>
                  <a:lnTo>
                    <a:pt x="240" y="364"/>
                  </a:lnTo>
                  <a:lnTo>
                    <a:pt x="207" y="372"/>
                  </a:lnTo>
                  <a:lnTo>
                    <a:pt x="174" y="380"/>
                  </a:lnTo>
                  <a:lnTo>
                    <a:pt x="155" y="384"/>
                  </a:lnTo>
                  <a:lnTo>
                    <a:pt x="137" y="388"/>
                  </a:lnTo>
                  <a:lnTo>
                    <a:pt x="120" y="389"/>
                  </a:lnTo>
                  <a:lnTo>
                    <a:pt x="106" y="390"/>
                  </a:lnTo>
                  <a:lnTo>
                    <a:pt x="91" y="390"/>
                  </a:lnTo>
                  <a:lnTo>
                    <a:pt x="78" y="390"/>
                  </a:lnTo>
                  <a:lnTo>
                    <a:pt x="67" y="389"/>
                  </a:lnTo>
                  <a:lnTo>
                    <a:pt x="58" y="386"/>
                  </a:lnTo>
                  <a:lnTo>
                    <a:pt x="49" y="383"/>
                  </a:lnTo>
                  <a:lnTo>
                    <a:pt x="43" y="378"/>
                  </a:lnTo>
                  <a:lnTo>
                    <a:pt x="40" y="373"/>
                  </a:lnTo>
                  <a:lnTo>
                    <a:pt x="37" y="367"/>
                  </a:lnTo>
                  <a:lnTo>
                    <a:pt x="36" y="360"/>
                  </a:lnTo>
                  <a:lnTo>
                    <a:pt x="36" y="354"/>
                  </a:lnTo>
                  <a:lnTo>
                    <a:pt x="35" y="347"/>
                  </a:lnTo>
                  <a:lnTo>
                    <a:pt x="34" y="341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24120" y="1390680"/>
              <a:ext cx="98280" cy="46080"/>
            </a:xfrm>
            <a:custGeom>
              <a:avLst/>
              <a:gdLst/>
              <a:ahLst/>
              <a:rect l="l" t="t" r="r" b="b"/>
              <a:pathLst>
                <a:path w="249" h="116">
                  <a:moveTo>
                    <a:pt x="105" y="23"/>
                  </a:moveTo>
                  <a:lnTo>
                    <a:pt x="130" y="14"/>
                  </a:lnTo>
                  <a:lnTo>
                    <a:pt x="154" y="7"/>
                  </a:lnTo>
                  <a:lnTo>
                    <a:pt x="177" y="3"/>
                  </a:lnTo>
                  <a:lnTo>
                    <a:pt x="198" y="1"/>
                  </a:lnTo>
                  <a:lnTo>
                    <a:pt x="216" y="0"/>
                  </a:lnTo>
                  <a:lnTo>
                    <a:pt x="230" y="2"/>
                  </a:lnTo>
                  <a:lnTo>
                    <a:pt x="236" y="5"/>
                  </a:lnTo>
                  <a:lnTo>
                    <a:pt x="241" y="6"/>
                  </a:lnTo>
                  <a:lnTo>
                    <a:pt x="246" y="9"/>
                  </a:lnTo>
                  <a:lnTo>
                    <a:pt x="248" y="13"/>
                  </a:lnTo>
                  <a:lnTo>
                    <a:pt x="249" y="17"/>
                  </a:lnTo>
                  <a:lnTo>
                    <a:pt x="249" y="20"/>
                  </a:lnTo>
                  <a:lnTo>
                    <a:pt x="248" y="25"/>
                  </a:lnTo>
                  <a:lnTo>
                    <a:pt x="246" y="30"/>
                  </a:lnTo>
                  <a:lnTo>
                    <a:pt x="242" y="36"/>
                  </a:lnTo>
                  <a:lnTo>
                    <a:pt x="237" y="41"/>
                  </a:lnTo>
                  <a:lnTo>
                    <a:pt x="232" y="45"/>
                  </a:lnTo>
                  <a:lnTo>
                    <a:pt x="225" y="51"/>
                  </a:lnTo>
                  <a:lnTo>
                    <a:pt x="210" y="62"/>
                  </a:lnTo>
                  <a:lnTo>
                    <a:pt x="190" y="73"/>
                  </a:lnTo>
                  <a:lnTo>
                    <a:pt x="169" y="84"/>
                  </a:lnTo>
                  <a:lnTo>
                    <a:pt x="144" y="93"/>
                  </a:lnTo>
                  <a:lnTo>
                    <a:pt x="118" y="102"/>
                  </a:lnTo>
                  <a:lnTo>
                    <a:pt x="94" y="109"/>
                  </a:lnTo>
                  <a:lnTo>
                    <a:pt x="72" y="113"/>
                  </a:lnTo>
                  <a:lnTo>
                    <a:pt x="51" y="115"/>
                  </a:lnTo>
                  <a:lnTo>
                    <a:pt x="33" y="116"/>
                  </a:lnTo>
                  <a:lnTo>
                    <a:pt x="19" y="114"/>
                  </a:lnTo>
                  <a:lnTo>
                    <a:pt x="13" y="113"/>
                  </a:lnTo>
                  <a:lnTo>
                    <a:pt x="7" y="110"/>
                  </a:lnTo>
                  <a:lnTo>
                    <a:pt x="3" y="107"/>
                  </a:lnTo>
                  <a:lnTo>
                    <a:pt x="1" y="103"/>
                  </a:lnTo>
                  <a:lnTo>
                    <a:pt x="0" y="99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6"/>
                  </a:lnTo>
                  <a:lnTo>
                    <a:pt x="7" y="81"/>
                  </a:lnTo>
                  <a:lnTo>
                    <a:pt x="12" y="75"/>
                  </a:lnTo>
                  <a:lnTo>
                    <a:pt x="16" y="71"/>
                  </a:lnTo>
                  <a:lnTo>
                    <a:pt x="24" y="65"/>
                  </a:lnTo>
                  <a:lnTo>
                    <a:pt x="39" y="54"/>
                  </a:lnTo>
                  <a:lnTo>
                    <a:pt x="58" y="43"/>
                  </a:lnTo>
                  <a:lnTo>
                    <a:pt x="80" y="32"/>
                  </a:lnTo>
                  <a:lnTo>
                    <a:pt x="105" y="23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43200" y="1398600"/>
              <a:ext cx="63360" cy="3168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63" y="12"/>
                  </a:moveTo>
                  <a:lnTo>
                    <a:pt x="79" y="6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22" y="0"/>
                  </a:lnTo>
                  <a:lnTo>
                    <a:pt x="134" y="0"/>
                  </a:lnTo>
                  <a:lnTo>
                    <a:pt x="144" y="3"/>
                  </a:lnTo>
                  <a:lnTo>
                    <a:pt x="147" y="4"/>
                  </a:lnTo>
                  <a:lnTo>
                    <a:pt x="151" y="6"/>
                  </a:lnTo>
                  <a:lnTo>
                    <a:pt x="153" y="9"/>
                  </a:lnTo>
                  <a:lnTo>
                    <a:pt x="156" y="11"/>
                  </a:lnTo>
                  <a:lnTo>
                    <a:pt x="157" y="15"/>
                  </a:lnTo>
                  <a:lnTo>
                    <a:pt x="157" y="17"/>
                  </a:lnTo>
                  <a:lnTo>
                    <a:pt x="157" y="21"/>
                  </a:lnTo>
                  <a:lnTo>
                    <a:pt x="156" y="24"/>
                  </a:lnTo>
                  <a:lnTo>
                    <a:pt x="151" y="31"/>
                  </a:lnTo>
                  <a:lnTo>
                    <a:pt x="144" y="40"/>
                  </a:lnTo>
                  <a:lnTo>
                    <a:pt x="134" y="47"/>
                  </a:lnTo>
                  <a:lnTo>
                    <a:pt x="122" y="54"/>
                  </a:lnTo>
                  <a:lnTo>
                    <a:pt x="109" y="61"/>
                  </a:lnTo>
                  <a:lnTo>
                    <a:pt x="93" y="67"/>
                  </a:lnTo>
                  <a:lnTo>
                    <a:pt x="78" y="72"/>
                  </a:lnTo>
                  <a:lnTo>
                    <a:pt x="63" y="76"/>
                  </a:lnTo>
                  <a:lnTo>
                    <a:pt x="48" y="78"/>
                  </a:lnTo>
                  <a:lnTo>
                    <a:pt x="35" y="79"/>
                  </a:lnTo>
                  <a:lnTo>
                    <a:pt x="24" y="78"/>
                  </a:lnTo>
                  <a:lnTo>
                    <a:pt x="14" y="77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3" y="71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2" y="54"/>
                  </a:lnTo>
                  <a:lnTo>
                    <a:pt x="6" y="47"/>
                  </a:lnTo>
                  <a:lnTo>
                    <a:pt x="13" y="40"/>
                  </a:lnTo>
                  <a:lnTo>
                    <a:pt x="23" y="33"/>
                  </a:lnTo>
                  <a:lnTo>
                    <a:pt x="35" y="25"/>
                  </a:lnTo>
                  <a:lnTo>
                    <a:pt x="48" y="18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66960" y="1405080"/>
              <a:ext cx="15840" cy="61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7" y="4"/>
                  </a:moveTo>
                  <a:lnTo>
                    <a:pt x="21" y="2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8" y="6"/>
                  </a:lnTo>
                  <a:lnTo>
                    <a:pt x="36" y="8"/>
                  </a:lnTo>
                  <a:lnTo>
                    <a:pt x="33" y="9"/>
                  </a:lnTo>
                  <a:lnTo>
                    <a:pt x="30" y="10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19" y="15"/>
                  </a:lnTo>
                  <a:lnTo>
                    <a:pt x="14" y="16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6" y="9"/>
                  </a:lnTo>
                  <a:lnTo>
                    <a:pt x="9" y="7"/>
                  </a:lnTo>
                  <a:lnTo>
                    <a:pt x="13" y="6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66960" y="1405080"/>
              <a:ext cx="15840" cy="61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7" y="4"/>
                  </a:moveTo>
                  <a:lnTo>
                    <a:pt x="21" y="2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8" y="6"/>
                  </a:lnTo>
                  <a:lnTo>
                    <a:pt x="36" y="8"/>
                  </a:lnTo>
                  <a:lnTo>
                    <a:pt x="33" y="9"/>
                  </a:lnTo>
                  <a:lnTo>
                    <a:pt x="30" y="10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19" y="15"/>
                  </a:lnTo>
                  <a:lnTo>
                    <a:pt x="14" y="16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6" y="9"/>
                  </a:lnTo>
                  <a:lnTo>
                    <a:pt x="9" y="7"/>
                  </a:lnTo>
                  <a:lnTo>
                    <a:pt x="13" y="6"/>
                  </a:lnTo>
                  <a:lnTo>
                    <a:pt x="17" y="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89240" y="1217520"/>
              <a:ext cx="117360" cy="42840"/>
            </a:xfrm>
            <a:custGeom>
              <a:avLst/>
              <a:gdLst/>
              <a:ahLst/>
              <a:rect l="l" t="t" r="r" b="b"/>
              <a:pathLst>
                <a:path w="296" h="110">
                  <a:moveTo>
                    <a:pt x="15" y="77"/>
                  </a:moveTo>
                  <a:lnTo>
                    <a:pt x="31" y="66"/>
                  </a:lnTo>
                  <a:lnTo>
                    <a:pt x="51" y="55"/>
                  </a:lnTo>
                  <a:lnTo>
                    <a:pt x="74" y="45"/>
                  </a:lnTo>
                  <a:lnTo>
                    <a:pt x="101" y="35"/>
                  </a:lnTo>
                  <a:lnTo>
                    <a:pt x="128" y="25"/>
                  </a:lnTo>
                  <a:lnTo>
                    <a:pt x="157" y="17"/>
                  </a:lnTo>
                  <a:lnTo>
                    <a:pt x="186" y="11"/>
                  </a:lnTo>
                  <a:lnTo>
                    <a:pt x="215" y="5"/>
                  </a:lnTo>
                  <a:lnTo>
                    <a:pt x="240" y="1"/>
                  </a:lnTo>
                  <a:lnTo>
                    <a:pt x="260" y="0"/>
                  </a:lnTo>
                  <a:lnTo>
                    <a:pt x="270" y="1"/>
                  </a:lnTo>
                  <a:lnTo>
                    <a:pt x="277" y="1"/>
                  </a:lnTo>
                  <a:lnTo>
                    <a:pt x="283" y="2"/>
                  </a:lnTo>
                  <a:lnTo>
                    <a:pt x="289" y="5"/>
                  </a:lnTo>
                  <a:lnTo>
                    <a:pt x="293" y="7"/>
                  </a:lnTo>
                  <a:lnTo>
                    <a:pt x="295" y="9"/>
                  </a:lnTo>
                  <a:lnTo>
                    <a:pt x="296" y="12"/>
                  </a:lnTo>
                  <a:lnTo>
                    <a:pt x="296" y="15"/>
                  </a:lnTo>
                  <a:lnTo>
                    <a:pt x="295" y="20"/>
                  </a:lnTo>
                  <a:lnTo>
                    <a:pt x="291" y="24"/>
                  </a:lnTo>
                  <a:lnTo>
                    <a:pt x="287" y="29"/>
                  </a:lnTo>
                  <a:lnTo>
                    <a:pt x="281" y="33"/>
                  </a:lnTo>
                  <a:lnTo>
                    <a:pt x="265" y="44"/>
                  </a:lnTo>
                  <a:lnTo>
                    <a:pt x="245" y="55"/>
                  </a:lnTo>
                  <a:lnTo>
                    <a:pt x="222" y="66"/>
                  </a:lnTo>
                  <a:lnTo>
                    <a:pt x="195" y="75"/>
                  </a:lnTo>
                  <a:lnTo>
                    <a:pt x="168" y="85"/>
                  </a:lnTo>
                  <a:lnTo>
                    <a:pt x="139" y="93"/>
                  </a:lnTo>
                  <a:lnTo>
                    <a:pt x="110" y="101"/>
                  </a:lnTo>
                  <a:lnTo>
                    <a:pt x="81" y="107"/>
                  </a:lnTo>
                  <a:lnTo>
                    <a:pt x="56" y="109"/>
                  </a:lnTo>
                  <a:lnTo>
                    <a:pt x="36" y="110"/>
                  </a:lnTo>
                  <a:lnTo>
                    <a:pt x="26" y="110"/>
                  </a:lnTo>
                  <a:lnTo>
                    <a:pt x="19" y="109"/>
                  </a:lnTo>
                  <a:lnTo>
                    <a:pt x="12" y="108"/>
                  </a:lnTo>
                  <a:lnTo>
                    <a:pt x="7" y="107"/>
                  </a:lnTo>
                  <a:lnTo>
                    <a:pt x="3" y="104"/>
                  </a:lnTo>
                  <a:lnTo>
                    <a:pt x="1" y="102"/>
                  </a:lnTo>
                  <a:lnTo>
                    <a:pt x="0" y="98"/>
                  </a:lnTo>
                  <a:lnTo>
                    <a:pt x="0" y="95"/>
                  </a:lnTo>
                  <a:lnTo>
                    <a:pt x="1" y="91"/>
                  </a:lnTo>
                  <a:lnTo>
                    <a:pt x="5" y="86"/>
                  </a:lnTo>
                  <a:lnTo>
                    <a:pt x="8" y="83"/>
                  </a:lnTo>
                  <a:lnTo>
                    <a:pt x="15" y="77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6880" y="1224000"/>
              <a:ext cx="88920" cy="28440"/>
            </a:xfrm>
            <a:custGeom>
              <a:avLst/>
              <a:gdLst/>
              <a:ahLst/>
              <a:rect l="l" t="t" r="r" b="b"/>
              <a:pathLst>
                <a:path w="222" h="71">
                  <a:moveTo>
                    <a:pt x="7" y="51"/>
                  </a:moveTo>
                  <a:lnTo>
                    <a:pt x="18" y="45"/>
                  </a:lnTo>
                  <a:lnTo>
                    <a:pt x="31" y="38"/>
                  </a:lnTo>
                  <a:lnTo>
                    <a:pt x="48" y="31"/>
                  </a:lnTo>
                  <a:lnTo>
                    <a:pt x="67" y="25"/>
                  </a:lnTo>
                  <a:lnTo>
                    <a:pt x="87" y="18"/>
                  </a:lnTo>
                  <a:lnTo>
                    <a:pt x="109" y="13"/>
                  </a:lnTo>
                  <a:lnTo>
                    <a:pt x="130" y="7"/>
                  </a:lnTo>
                  <a:lnTo>
                    <a:pt x="152" y="3"/>
                  </a:lnTo>
                  <a:lnTo>
                    <a:pt x="172" y="1"/>
                  </a:lnTo>
                  <a:lnTo>
                    <a:pt x="189" y="0"/>
                  </a:lnTo>
                  <a:lnTo>
                    <a:pt x="202" y="0"/>
                  </a:lnTo>
                  <a:lnTo>
                    <a:pt x="213" y="1"/>
                  </a:lnTo>
                  <a:lnTo>
                    <a:pt x="217" y="2"/>
                  </a:lnTo>
                  <a:lnTo>
                    <a:pt x="219" y="3"/>
                  </a:lnTo>
                  <a:lnTo>
                    <a:pt x="222" y="6"/>
                  </a:lnTo>
                  <a:lnTo>
                    <a:pt x="222" y="7"/>
                  </a:lnTo>
                  <a:lnTo>
                    <a:pt x="222" y="9"/>
                  </a:lnTo>
                  <a:lnTo>
                    <a:pt x="220" y="12"/>
                  </a:lnTo>
                  <a:lnTo>
                    <a:pt x="218" y="15"/>
                  </a:lnTo>
                  <a:lnTo>
                    <a:pt x="214" y="18"/>
                  </a:lnTo>
                  <a:lnTo>
                    <a:pt x="204" y="25"/>
                  </a:lnTo>
                  <a:lnTo>
                    <a:pt x="190" y="32"/>
                  </a:lnTo>
                  <a:lnTo>
                    <a:pt x="174" y="38"/>
                  </a:lnTo>
                  <a:lnTo>
                    <a:pt x="154" y="45"/>
                  </a:lnTo>
                  <a:lnTo>
                    <a:pt x="134" y="51"/>
                  </a:lnTo>
                  <a:lnTo>
                    <a:pt x="114" y="57"/>
                  </a:lnTo>
                  <a:lnTo>
                    <a:pt x="91" y="62"/>
                  </a:lnTo>
                  <a:lnTo>
                    <a:pt x="69" y="67"/>
                  </a:lnTo>
                  <a:lnTo>
                    <a:pt x="50" y="69"/>
                  </a:lnTo>
                  <a:lnTo>
                    <a:pt x="32" y="71"/>
                  </a:lnTo>
                  <a:lnTo>
                    <a:pt x="19" y="71"/>
                  </a:lnTo>
                  <a:lnTo>
                    <a:pt x="8" y="69"/>
                  </a:lnTo>
                  <a:lnTo>
                    <a:pt x="4" y="68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5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25960" y="1236600"/>
              <a:ext cx="17280" cy="64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3" y="12"/>
                  </a:moveTo>
                  <a:lnTo>
                    <a:pt x="6" y="10"/>
                  </a:lnTo>
                  <a:lnTo>
                    <a:pt x="9" y="8"/>
                  </a:lnTo>
                  <a:lnTo>
                    <a:pt x="12" y="6"/>
                  </a:lnTo>
                  <a:lnTo>
                    <a:pt x="16" y="5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7"/>
                  </a:lnTo>
                  <a:lnTo>
                    <a:pt x="35" y="8"/>
                  </a:lnTo>
                  <a:lnTo>
                    <a:pt x="32" y="11"/>
                  </a:lnTo>
                  <a:lnTo>
                    <a:pt x="28" y="12"/>
                  </a:lnTo>
                  <a:lnTo>
                    <a:pt x="24" y="13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25960" y="1236600"/>
              <a:ext cx="17280" cy="64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3" y="12"/>
                  </a:moveTo>
                  <a:lnTo>
                    <a:pt x="6" y="10"/>
                  </a:lnTo>
                  <a:lnTo>
                    <a:pt x="9" y="8"/>
                  </a:lnTo>
                  <a:lnTo>
                    <a:pt x="12" y="6"/>
                  </a:lnTo>
                  <a:lnTo>
                    <a:pt x="16" y="5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7"/>
                  </a:lnTo>
                  <a:lnTo>
                    <a:pt x="35" y="8"/>
                  </a:lnTo>
                  <a:lnTo>
                    <a:pt x="32" y="11"/>
                  </a:lnTo>
                  <a:lnTo>
                    <a:pt x="28" y="12"/>
                  </a:lnTo>
                  <a:lnTo>
                    <a:pt x="24" y="13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3" y="1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44480" y="1778040"/>
              <a:ext cx="123840" cy="50760"/>
            </a:xfrm>
            <a:custGeom>
              <a:avLst/>
              <a:gdLst/>
              <a:ahLst/>
              <a:rect l="l" t="t" r="r" b="b"/>
              <a:pathLst>
                <a:path w="314" h="127">
                  <a:moveTo>
                    <a:pt x="0" y="119"/>
                  </a:moveTo>
                  <a:lnTo>
                    <a:pt x="0" y="117"/>
                  </a:lnTo>
                  <a:lnTo>
                    <a:pt x="1" y="112"/>
                  </a:lnTo>
                  <a:lnTo>
                    <a:pt x="5" y="108"/>
                  </a:lnTo>
                  <a:lnTo>
                    <a:pt x="8" y="103"/>
                  </a:lnTo>
                  <a:lnTo>
                    <a:pt x="22" y="93"/>
                  </a:lnTo>
                  <a:lnTo>
                    <a:pt x="40" y="82"/>
                  </a:lnTo>
                  <a:lnTo>
                    <a:pt x="61" y="70"/>
                  </a:lnTo>
                  <a:lnTo>
                    <a:pt x="86" y="58"/>
                  </a:lnTo>
                  <a:lnTo>
                    <a:pt x="115" y="46"/>
                  </a:lnTo>
                  <a:lnTo>
                    <a:pt x="146" y="34"/>
                  </a:lnTo>
                  <a:lnTo>
                    <a:pt x="179" y="23"/>
                  </a:lnTo>
                  <a:lnTo>
                    <a:pt x="209" y="15"/>
                  </a:lnTo>
                  <a:lnTo>
                    <a:pt x="236" y="8"/>
                  </a:lnTo>
                  <a:lnTo>
                    <a:pt x="260" y="3"/>
                  </a:lnTo>
                  <a:lnTo>
                    <a:pt x="281" y="0"/>
                  </a:lnTo>
                  <a:lnTo>
                    <a:pt x="298" y="0"/>
                  </a:lnTo>
                  <a:lnTo>
                    <a:pt x="304" y="2"/>
                  </a:lnTo>
                  <a:lnTo>
                    <a:pt x="308" y="3"/>
                  </a:lnTo>
                  <a:lnTo>
                    <a:pt x="312" y="5"/>
                  </a:lnTo>
                  <a:lnTo>
                    <a:pt x="313" y="9"/>
                  </a:lnTo>
                  <a:lnTo>
                    <a:pt x="314" y="11"/>
                  </a:lnTo>
                  <a:lnTo>
                    <a:pt x="312" y="16"/>
                  </a:lnTo>
                  <a:lnTo>
                    <a:pt x="310" y="20"/>
                  </a:lnTo>
                  <a:lnTo>
                    <a:pt x="305" y="24"/>
                  </a:lnTo>
                  <a:lnTo>
                    <a:pt x="293" y="35"/>
                  </a:lnTo>
                  <a:lnTo>
                    <a:pt x="275" y="46"/>
                  </a:lnTo>
                  <a:lnTo>
                    <a:pt x="253" y="58"/>
                  </a:lnTo>
                  <a:lnTo>
                    <a:pt x="227" y="70"/>
                  </a:lnTo>
                  <a:lnTo>
                    <a:pt x="198" y="82"/>
                  </a:lnTo>
                  <a:lnTo>
                    <a:pt x="167" y="94"/>
                  </a:lnTo>
                  <a:lnTo>
                    <a:pt x="136" y="105"/>
                  </a:lnTo>
                  <a:lnTo>
                    <a:pt x="106" y="113"/>
                  </a:lnTo>
                  <a:lnTo>
                    <a:pt x="78" y="120"/>
                  </a:lnTo>
                  <a:lnTo>
                    <a:pt x="54" y="125"/>
                  </a:lnTo>
                  <a:lnTo>
                    <a:pt x="34" y="127"/>
                  </a:lnTo>
                  <a:lnTo>
                    <a:pt x="17" y="127"/>
                  </a:lnTo>
                  <a:lnTo>
                    <a:pt x="11" y="126"/>
                  </a:lnTo>
                  <a:lnTo>
                    <a:pt x="6" y="124"/>
                  </a:lnTo>
                  <a:lnTo>
                    <a:pt x="2" y="123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62120" y="1782720"/>
              <a:ext cx="96840" cy="38160"/>
            </a:xfrm>
            <a:custGeom>
              <a:avLst/>
              <a:gdLst/>
              <a:ahLst/>
              <a:rect l="l" t="t" r="r" b="b"/>
              <a:pathLst>
                <a:path w="243" h="95">
                  <a:moveTo>
                    <a:pt x="0" y="91"/>
                  </a:moveTo>
                  <a:lnTo>
                    <a:pt x="0" y="89"/>
                  </a:lnTo>
                  <a:lnTo>
                    <a:pt x="1" y="87"/>
                  </a:lnTo>
                  <a:lnTo>
                    <a:pt x="3" y="83"/>
                  </a:lnTo>
                  <a:lnTo>
                    <a:pt x="7" y="81"/>
                  </a:lnTo>
                  <a:lnTo>
                    <a:pt x="16" y="73"/>
                  </a:lnTo>
                  <a:lnTo>
                    <a:pt x="31" y="65"/>
                  </a:lnTo>
                  <a:lnTo>
                    <a:pt x="48" y="57"/>
                  </a:lnTo>
                  <a:lnTo>
                    <a:pt x="68" y="47"/>
                  </a:lnTo>
                  <a:lnTo>
                    <a:pt x="91" y="37"/>
                  </a:lnTo>
                  <a:lnTo>
                    <a:pt x="115" y="29"/>
                  </a:lnTo>
                  <a:lnTo>
                    <a:pt x="140" y="21"/>
                  </a:lnTo>
                  <a:lnTo>
                    <a:pt x="163" y="14"/>
                  </a:lnTo>
                  <a:lnTo>
                    <a:pt x="184" y="8"/>
                  </a:lnTo>
                  <a:lnTo>
                    <a:pt x="202" y="4"/>
                  </a:lnTo>
                  <a:lnTo>
                    <a:pt x="219" y="2"/>
                  </a:lnTo>
                  <a:lnTo>
                    <a:pt x="231" y="0"/>
                  </a:lnTo>
                  <a:lnTo>
                    <a:pt x="236" y="0"/>
                  </a:lnTo>
                  <a:lnTo>
                    <a:pt x="240" y="2"/>
                  </a:lnTo>
                  <a:lnTo>
                    <a:pt x="242" y="3"/>
                  </a:lnTo>
                  <a:lnTo>
                    <a:pt x="243" y="4"/>
                  </a:lnTo>
                  <a:lnTo>
                    <a:pt x="243" y="6"/>
                  </a:lnTo>
                  <a:lnTo>
                    <a:pt x="242" y="9"/>
                  </a:lnTo>
                  <a:lnTo>
                    <a:pt x="240" y="12"/>
                  </a:lnTo>
                  <a:lnTo>
                    <a:pt x="236" y="15"/>
                  </a:lnTo>
                  <a:lnTo>
                    <a:pt x="225" y="22"/>
                  </a:lnTo>
                  <a:lnTo>
                    <a:pt x="212" y="30"/>
                  </a:lnTo>
                  <a:lnTo>
                    <a:pt x="194" y="39"/>
                  </a:lnTo>
                  <a:lnTo>
                    <a:pt x="175" y="48"/>
                  </a:lnTo>
                  <a:lnTo>
                    <a:pt x="152" y="58"/>
                  </a:lnTo>
                  <a:lnTo>
                    <a:pt x="128" y="66"/>
                  </a:lnTo>
                  <a:lnTo>
                    <a:pt x="103" y="75"/>
                  </a:lnTo>
                  <a:lnTo>
                    <a:pt x="80" y="82"/>
                  </a:lnTo>
                  <a:lnTo>
                    <a:pt x="58" y="88"/>
                  </a:lnTo>
                  <a:lnTo>
                    <a:pt x="39" y="91"/>
                  </a:lnTo>
                  <a:lnTo>
                    <a:pt x="24" y="94"/>
                  </a:lnTo>
                  <a:lnTo>
                    <a:pt x="12" y="95"/>
                  </a:lnTo>
                  <a:lnTo>
                    <a:pt x="7" y="95"/>
                  </a:lnTo>
                  <a:lnTo>
                    <a:pt x="3" y="94"/>
                  </a:lnTo>
                  <a:lnTo>
                    <a:pt x="1" y="9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79400" y="1805040"/>
              <a:ext cx="17640" cy="792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0" y="18"/>
                  </a:moveTo>
                  <a:lnTo>
                    <a:pt x="0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2" y="9"/>
                  </a:lnTo>
                  <a:lnTo>
                    <a:pt x="17" y="6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8"/>
                  </a:lnTo>
                  <a:lnTo>
                    <a:pt x="37" y="10"/>
                  </a:lnTo>
                  <a:lnTo>
                    <a:pt x="32" y="11"/>
                  </a:lnTo>
                  <a:lnTo>
                    <a:pt x="29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8" y="20"/>
                  </a:lnTo>
                  <a:lnTo>
                    <a:pt x="5" y="20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79400" y="1805040"/>
              <a:ext cx="17640" cy="792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0" y="18"/>
                  </a:moveTo>
                  <a:lnTo>
                    <a:pt x="0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2" y="9"/>
                  </a:lnTo>
                  <a:lnTo>
                    <a:pt x="17" y="6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8"/>
                  </a:lnTo>
                  <a:lnTo>
                    <a:pt x="37" y="10"/>
                  </a:lnTo>
                  <a:lnTo>
                    <a:pt x="32" y="11"/>
                  </a:lnTo>
                  <a:lnTo>
                    <a:pt x="29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8" y="20"/>
                  </a:lnTo>
                  <a:lnTo>
                    <a:pt x="5" y="20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60440" y="1546200"/>
              <a:ext cx="123840" cy="49320"/>
            </a:xfrm>
            <a:custGeom>
              <a:avLst/>
              <a:gdLst/>
              <a:ahLst/>
              <a:rect l="l" t="t" r="r" b="b"/>
              <a:pathLst>
                <a:path w="313" h="126">
                  <a:moveTo>
                    <a:pt x="0" y="119"/>
                  </a:moveTo>
                  <a:lnTo>
                    <a:pt x="0" y="115"/>
                  </a:lnTo>
                  <a:lnTo>
                    <a:pt x="1" y="111"/>
                  </a:lnTo>
                  <a:lnTo>
                    <a:pt x="3" y="108"/>
                  </a:lnTo>
                  <a:lnTo>
                    <a:pt x="8" y="103"/>
                  </a:lnTo>
                  <a:lnTo>
                    <a:pt x="20" y="92"/>
                  </a:lnTo>
                  <a:lnTo>
                    <a:pt x="38" y="81"/>
                  </a:lnTo>
                  <a:lnTo>
                    <a:pt x="60" y="69"/>
                  </a:lnTo>
                  <a:lnTo>
                    <a:pt x="86" y="57"/>
                  </a:lnTo>
                  <a:lnTo>
                    <a:pt x="115" y="44"/>
                  </a:lnTo>
                  <a:lnTo>
                    <a:pt x="146" y="33"/>
                  </a:lnTo>
                  <a:lnTo>
                    <a:pt x="177" y="23"/>
                  </a:lnTo>
                  <a:lnTo>
                    <a:pt x="207" y="13"/>
                  </a:lnTo>
                  <a:lnTo>
                    <a:pt x="235" y="7"/>
                  </a:lnTo>
                  <a:lnTo>
                    <a:pt x="259" y="2"/>
                  </a:lnTo>
                  <a:lnTo>
                    <a:pt x="281" y="0"/>
                  </a:lnTo>
                  <a:lnTo>
                    <a:pt x="296" y="0"/>
                  </a:lnTo>
                  <a:lnTo>
                    <a:pt x="302" y="1"/>
                  </a:lnTo>
                  <a:lnTo>
                    <a:pt x="307" y="2"/>
                  </a:lnTo>
                  <a:lnTo>
                    <a:pt x="311" y="5"/>
                  </a:lnTo>
                  <a:lnTo>
                    <a:pt x="313" y="7"/>
                  </a:lnTo>
                  <a:lnTo>
                    <a:pt x="313" y="11"/>
                  </a:lnTo>
                  <a:lnTo>
                    <a:pt x="312" y="14"/>
                  </a:lnTo>
                  <a:lnTo>
                    <a:pt x="308" y="19"/>
                  </a:lnTo>
                  <a:lnTo>
                    <a:pt x="305" y="24"/>
                  </a:lnTo>
                  <a:lnTo>
                    <a:pt x="291" y="35"/>
                  </a:lnTo>
                  <a:lnTo>
                    <a:pt x="273" y="45"/>
                  </a:lnTo>
                  <a:lnTo>
                    <a:pt x="252" y="57"/>
                  </a:lnTo>
                  <a:lnTo>
                    <a:pt x="227" y="69"/>
                  </a:lnTo>
                  <a:lnTo>
                    <a:pt x="198" y="81"/>
                  </a:lnTo>
                  <a:lnTo>
                    <a:pt x="167" y="93"/>
                  </a:lnTo>
                  <a:lnTo>
                    <a:pt x="134" y="104"/>
                  </a:lnTo>
                  <a:lnTo>
                    <a:pt x="104" y="113"/>
                  </a:lnTo>
                  <a:lnTo>
                    <a:pt x="77" y="120"/>
                  </a:lnTo>
                  <a:lnTo>
                    <a:pt x="53" y="123"/>
                  </a:lnTo>
                  <a:lnTo>
                    <a:pt x="32" y="126"/>
                  </a:lnTo>
                  <a:lnTo>
                    <a:pt x="15" y="126"/>
                  </a:lnTo>
                  <a:lnTo>
                    <a:pt x="9" y="126"/>
                  </a:lnTo>
                  <a:lnTo>
                    <a:pt x="5" y="123"/>
                  </a:lnTo>
                  <a:lnTo>
                    <a:pt x="1" y="122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78080" y="1550880"/>
              <a:ext cx="96840" cy="38160"/>
            </a:xfrm>
            <a:custGeom>
              <a:avLst/>
              <a:gdLst/>
              <a:ahLst/>
              <a:rect l="l" t="t" r="r" b="b"/>
              <a:pathLst>
                <a:path w="244" h="95">
                  <a:moveTo>
                    <a:pt x="0" y="91"/>
                  </a:moveTo>
                  <a:lnTo>
                    <a:pt x="0" y="89"/>
                  </a:lnTo>
                  <a:lnTo>
                    <a:pt x="1" y="86"/>
                  </a:lnTo>
                  <a:lnTo>
                    <a:pt x="4" y="83"/>
                  </a:lnTo>
                  <a:lnTo>
                    <a:pt x="7" y="80"/>
                  </a:lnTo>
                  <a:lnTo>
                    <a:pt x="17" y="73"/>
                  </a:lnTo>
                  <a:lnTo>
                    <a:pt x="31" y="65"/>
                  </a:lnTo>
                  <a:lnTo>
                    <a:pt x="48" y="56"/>
                  </a:lnTo>
                  <a:lnTo>
                    <a:pt x="69" y="47"/>
                  </a:lnTo>
                  <a:lnTo>
                    <a:pt x="91" y="37"/>
                  </a:lnTo>
                  <a:lnTo>
                    <a:pt x="115" y="29"/>
                  </a:lnTo>
                  <a:lnTo>
                    <a:pt x="141" y="20"/>
                  </a:lnTo>
                  <a:lnTo>
                    <a:pt x="163" y="13"/>
                  </a:lnTo>
                  <a:lnTo>
                    <a:pt x="185" y="7"/>
                  </a:lnTo>
                  <a:lnTo>
                    <a:pt x="204" y="3"/>
                  </a:lnTo>
                  <a:lnTo>
                    <a:pt x="220" y="1"/>
                  </a:lnTo>
                  <a:lnTo>
                    <a:pt x="232" y="0"/>
                  </a:lnTo>
                  <a:lnTo>
                    <a:pt x="237" y="0"/>
                  </a:lnTo>
                  <a:lnTo>
                    <a:pt x="240" y="1"/>
                  </a:lnTo>
                  <a:lnTo>
                    <a:pt x="243" y="2"/>
                  </a:lnTo>
                  <a:lnTo>
                    <a:pt x="244" y="3"/>
                  </a:lnTo>
                  <a:lnTo>
                    <a:pt x="244" y="6"/>
                  </a:lnTo>
                  <a:lnTo>
                    <a:pt x="243" y="8"/>
                  </a:lnTo>
                  <a:lnTo>
                    <a:pt x="240" y="12"/>
                  </a:lnTo>
                  <a:lnTo>
                    <a:pt x="237" y="14"/>
                  </a:lnTo>
                  <a:lnTo>
                    <a:pt x="227" y="21"/>
                  </a:lnTo>
                  <a:lnTo>
                    <a:pt x="213" y="30"/>
                  </a:lnTo>
                  <a:lnTo>
                    <a:pt x="196" y="38"/>
                  </a:lnTo>
                  <a:lnTo>
                    <a:pt x="175" y="48"/>
                  </a:lnTo>
                  <a:lnTo>
                    <a:pt x="153" y="57"/>
                  </a:lnTo>
                  <a:lnTo>
                    <a:pt x="129" y="66"/>
                  </a:lnTo>
                  <a:lnTo>
                    <a:pt x="103" y="74"/>
                  </a:lnTo>
                  <a:lnTo>
                    <a:pt x="81" y="81"/>
                  </a:lnTo>
                  <a:lnTo>
                    <a:pt x="59" y="87"/>
                  </a:lnTo>
                  <a:lnTo>
                    <a:pt x="40" y="91"/>
                  </a:lnTo>
                  <a:lnTo>
                    <a:pt x="24" y="93"/>
                  </a:lnTo>
                  <a:lnTo>
                    <a:pt x="12" y="95"/>
                  </a:lnTo>
                  <a:lnTo>
                    <a:pt x="7" y="95"/>
                  </a:lnTo>
                  <a:lnTo>
                    <a:pt x="4" y="93"/>
                  </a:lnTo>
                  <a:lnTo>
                    <a:pt x="1" y="9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95360" y="1573200"/>
              <a:ext cx="17640" cy="792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0" y="18"/>
                  </a:moveTo>
                  <a:lnTo>
                    <a:pt x="0" y="17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2" y="8"/>
                  </a:lnTo>
                  <a:lnTo>
                    <a:pt x="15" y="6"/>
                  </a:lnTo>
                  <a:lnTo>
                    <a:pt x="20" y="5"/>
                  </a:lnTo>
                  <a:lnTo>
                    <a:pt x="25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4" y="2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8" y="7"/>
                  </a:lnTo>
                  <a:lnTo>
                    <a:pt x="36" y="10"/>
                  </a:lnTo>
                  <a:lnTo>
                    <a:pt x="32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19" y="16"/>
                  </a:lnTo>
                  <a:lnTo>
                    <a:pt x="14" y="17"/>
                  </a:lnTo>
                  <a:lnTo>
                    <a:pt x="10" y="18"/>
                  </a:lnTo>
                  <a:lnTo>
                    <a:pt x="7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95360" y="1573200"/>
              <a:ext cx="17640" cy="792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0" y="18"/>
                  </a:moveTo>
                  <a:lnTo>
                    <a:pt x="0" y="17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2" y="8"/>
                  </a:lnTo>
                  <a:lnTo>
                    <a:pt x="15" y="6"/>
                  </a:lnTo>
                  <a:lnTo>
                    <a:pt x="20" y="5"/>
                  </a:lnTo>
                  <a:lnTo>
                    <a:pt x="25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4" y="2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8" y="7"/>
                  </a:lnTo>
                  <a:lnTo>
                    <a:pt x="36" y="10"/>
                  </a:lnTo>
                  <a:lnTo>
                    <a:pt x="32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19" y="16"/>
                  </a:lnTo>
                  <a:lnTo>
                    <a:pt x="14" y="17"/>
                  </a:lnTo>
                  <a:lnTo>
                    <a:pt x="10" y="18"/>
                  </a:lnTo>
                  <a:lnTo>
                    <a:pt x="7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35240" y="1743120"/>
              <a:ext cx="279360" cy="138240"/>
            </a:xfrm>
            <a:custGeom>
              <a:avLst/>
              <a:gdLst/>
              <a:ahLst/>
              <a:rect l="l" t="t" r="r" b="b"/>
              <a:pathLst>
                <a:path w="703" h="346">
                  <a:moveTo>
                    <a:pt x="0" y="217"/>
                  </a:moveTo>
                  <a:lnTo>
                    <a:pt x="33" y="205"/>
                  </a:lnTo>
                  <a:lnTo>
                    <a:pt x="65" y="193"/>
                  </a:lnTo>
                  <a:lnTo>
                    <a:pt x="97" y="179"/>
                  </a:lnTo>
                  <a:lnTo>
                    <a:pt x="130" y="167"/>
                  </a:lnTo>
                  <a:lnTo>
                    <a:pt x="162" y="155"/>
                  </a:lnTo>
                  <a:lnTo>
                    <a:pt x="195" y="145"/>
                  </a:lnTo>
                  <a:lnTo>
                    <a:pt x="227" y="133"/>
                  </a:lnTo>
                  <a:lnTo>
                    <a:pt x="261" y="121"/>
                  </a:lnTo>
                  <a:lnTo>
                    <a:pt x="303" y="105"/>
                  </a:lnTo>
                  <a:lnTo>
                    <a:pt x="346" y="90"/>
                  </a:lnTo>
                  <a:lnTo>
                    <a:pt x="389" y="74"/>
                  </a:lnTo>
                  <a:lnTo>
                    <a:pt x="433" y="58"/>
                  </a:lnTo>
                  <a:lnTo>
                    <a:pt x="475" y="43"/>
                  </a:lnTo>
                  <a:lnTo>
                    <a:pt x="517" y="30"/>
                  </a:lnTo>
                  <a:lnTo>
                    <a:pt x="557" y="18"/>
                  </a:lnTo>
                  <a:lnTo>
                    <a:pt x="595" y="7"/>
                  </a:lnTo>
                  <a:lnTo>
                    <a:pt x="619" y="2"/>
                  </a:lnTo>
                  <a:lnTo>
                    <a:pt x="640" y="0"/>
                  </a:lnTo>
                  <a:lnTo>
                    <a:pt x="655" y="0"/>
                  </a:lnTo>
                  <a:lnTo>
                    <a:pt x="669" y="1"/>
                  </a:lnTo>
                  <a:lnTo>
                    <a:pt x="679" y="3"/>
                  </a:lnTo>
                  <a:lnTo>
                    <a:pt x="687" y="7"/>
                  </a:lnTo>
                  <a:lnTo>
                    <a:pt x="693" y="10"/>
                  </a:lnTo>
                  <a:lnTo>
                    <a:pt x="699" y="15"/>
                  </a:lnTo>
                  <a:lnTo>
                    <a:pt x="702" y="19"/>
                  </a:lnTo>
                  <a:lnTo>
                    <a:pt x="703" y="25"/>
                  </a:lnTo>
                  <a:lnTo>
                    <a:pt x="702" y="30"/>
                  </a:lnTo>
                  <a:lnTo>
                    <a:pt x="699" y="37"/>
                  </a:lnTo>
                  <a:lnTo>
                    <a:pt x="694" y="44"/>
                  </a:lnTo>
                  <a:lnTo>
                    <a:pt x="687" y="51"/>
                  </a:lnTo>
                  <a:lnTo>
                    <a:pt x="678" y="60"/>
                  </a:lnTo>
                  <a:lnTo>
                    <a:pt x="669" y="68"/>
                  </a:lnTo>
                  <a:lnTo>
                    <a:pt x="655" y="79"/>
                  </a:lnTo>
                  <a:lnTo>
                    <a:pt x="641" y="88"/>
                  </a:lnTo>
                  <a:lnTo>
                    <a:pt x="625" y="100"/>
                  </a:lnTo>
                  <a:lnTo>
                    <a:pt x="607" y="111"/>
                  </a:lnTo>
                  <a:lnTo>
                    <a:pt x="588" y="123"/>
                  </a:lnTo>
                  <a:lnTo>
                    <a:pt x="568" y="134"/>
                  </a:lnTo>
                  <a:lnTo>
                    <a:pt x="545" y="147"/>
                  </a:lnTo>
                  <a:lnTo>
                    <a:pt x="520" y="159"/>
                  </a:lnTo>
                  <a:lnTo>
                    <a:pt x="486" y="173"/>
                  </a:lnTo>
                  <a:lnTo>
                    <a:pt x="451" y="189"/>
                  </a:lnTo>
                  <a:lnTo>
                    <a:pt x="415" y="203"/>
                  </a:lnTo>
                  <a:lnTo>
                    <a:pt x="378" y="218"/>
                  </a:lnTo>
                  <a:lnTo>
                    <a:pt x="340" y="233"/>
                  </a:lnTo>
                  <a:lnTo>
                    <a:pt x="301" y="248"/>
                  </a:lnTo>
                  <a:lnTo>
                    <a:pt x="264" y="262"/>
                  </a:lnTo>
                  <a:lnTo>
                    <a:pt x="226" y="277"/>
                  </a:lnTo>
                  <a:lnTo>
                    <a:pt x="203" y="285"/>
                  </a:lnTo>
                  <a:lnTo>
                    <a:pt x="180" y="295"/>
                  </a:lnTo>
                  <a:lnTo>
                    <a:pt x="156" y="303"/>
                  </a:lnTo>
                  <a:lnTo>
                    <a:pt x="133" y="311"/>
                  </a:lnTo>
                  <a:lnTo>
                    <a:pt x="109" y="321"/>
                  </a:lnTo>
                  <a:lnTo>
                    <a:pt x="85" y="329"/>
                  </a:lnTo>
                  <a:lnTo>
                    <a:pt x="63" y="338"/>
                  </a:lnTo>
                  <a:lnTo>
                    <a:pt x="39" y="346"/>
                  </a:lnTo>
                  <a:lnTo>
                    <a:pt x="33" y="331"/>
                  </a:lnTo>
                  <a:lnTo>
                    <a:pt x="28" y="314"/>
                  </a:lnTo>
                  <a:lnTo>
                    <a:pt x="22" y="298"/>
                  </a:lnTo>
                  <a:lnTo>
                    <a:pt x="17" y="281"/>
                  </a:lnTo>
                  <a:lnTo>
                    <a:pt x="12" y="266"/>
                  </a:lnTo>
                  <a:lnTo>
                    <a:pt x="9" y="249"/>
                  </a:lnTo>
                  <a:lnTo>
                    <a:pt x="4" y="2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38360" y="1557360"/>
              <a:ext cx="482400" cy="196920"/>
            </a:xfrm>
            <a:custGeom>
              <a:avLst/>
              <a:gdLst/>
              <a:ahLst/>
              <a:rect l="l" t="t" r="r" b="b"/>
              <a:pathLst>
                <a:path w="1216" h="494">
                  <a:moveTo>
                    <a:pt x="27" y="460"/>
                  </a:moveTo>
                  <a:lnTo>
                    <a:pt x="24" y="456"/>
                  </a:lnTo>
                  <a:lnTo>
                    <a:pt x="18" y="452"/>
                  </a:lnTo>
                  <a:lnTo>
                    <a:pt x="10" y="448"/>
                  </a:lnTo>
                  <a:lnTo>
                    <a:pt x="3" y="445"/>
                  </a:lnTo>
                  <a:lnTo>
                    <a:pt x="1" y="442"/>
                  </a:lnTo>
                  <a:lnTo>
                    <a:pt x="0" y="440"/>
                  </a:lnTo>
                  <a:lnTo>
                    <a:pt x="0" y="438"/>
                  </a:lnTo>
                  <a:lnTo>
                    <a:pt x="1" y="434"/>
                  </a:lnTo>
                  <a:lnTo>
                    <a:pt x="3" y="430"/>
                  </a:lnTo>
                  <a:lnTo>
                    <a:pt x="8" y="427"/>
                  </a:lnTo>
                  <a:lnTo>
                    <a:pt x="14" y="422"/>
                  </a:lnTo>
                  <a:lnTo>
                    <a:pt x="22" y="416"/>
                  </a:lnTo>
                  <a:lnTo>
                    <a:pt x="54" y="400"/>
                  </a:lnTo>
                  <a:lnTo>
                    <a:pt x="90" y="384"/>
                  </a:lnTo>
                  <a:lnTo>
                    <a:pt x="129" y="367"/>
                  </a:lnTo>
                  <a:lnTo>
                    <a:pt x="171" y="349"/>
                  </a:lnTo>
                  <a:lnTo>
                    <a:pt x="216" y="332"/>
                  </a:lnTo>
                  <a:lnTo>
                    <a:pt x="259" y="315"/>
                  </a:lnTo>
                  <a:lnTo>
                    <a:pt x="303" y="298"/>
                  </a:lnTo>
                  <a:lnTo>
                    <a:pt x="345" y="282"/>
                  </a:lnTo>
                  <a:lnTo>
                    <a:pt x="398" y="261"/>
                  </a:lnTo>
                  <a:lnTo>
                    <a:pt x="452" y="241"/>
                  </a:lnTo>
                  <a:lnTo>
                    <a:pt x="505" y="220"/>
                  </a:lnTo>
                  <a:lnTo>
                    <a:pt x="559" y="200"/>
                  </a:lnTo>
                  <a:lnTo>
                    <a:pt x="613" y="180"/>
                  </a:lnTo>
                  <a:lnTo>
                    <a:pt x="666" y="160"/>
                  </a:lnTo>
                  <a:lnTo>
                    <a:pt x="720" y="140"/>
                  </a:lnTo>
                  <a:lnTo>
                    <a:pt x="774" y="121"/>
                  </a:lnTo>
                  <a:lnTo>
                    <a:pt x="817" y="105"/>
                  </a:lnTo>
                  <a:lnTo>
                    <a:pt x="860" y="90"/>
                  </a:lnTo>
                  <a:lnTo>
                    <a:pt x="903" y="74"/>
                  </a:lnTo>
                  <a:lnTo>
                    <a:pt x="946" y="58"/>
                  </a:lnTo>
                  <a:lnTo>
                    <a:pt x="990" y="43"/>
                  </a:lnTo>
                  <a:lnTo>
                    <a:pt x="1032" y="30"/>
                  </a:lnTo>
                  <a:lnTo>
                    <a:pt x="1071" y="18"/>
                  </a:lnTo>
                  <a:lnTo>
                    <a:pt x="1108" y="7"/>
                  </a:lnTo>
                  <a:lnTo>
                    <a:pt x="1134" y="2"/>
                  </a:lnTo>
                  <a:lnTo>
                    <a:pt x="1154" y="0"/>
                  </a:lnTo>
                  <a:lnTo>
                    <a:pt x="1170" y="0"/>
                  </a:lnTo>
                  <a:lnTo>
                    <a:pt x="1183" y="1"/>
                  </a:lnTo>
                  <a:lnTo>
                    <a:pt x="1192" y="3"/>
                  </a:lnTo>
                  <a:lnTo>
                    <a:pt x="1201" y="7"/>
                  </a:lnTo>
                  <a:lnTo>
                    <a:pt x="1207" y="10"/>
                  </a:lnTo>
                  <a:lnTo>
                    <a:pt x="1213" y="15"/>
                  </a:lnTo>
                  <a:lnTo>
                    <a:pt x="1215" y="19"/>
                  </a:lnTo>
                  <a:lnTo>
                    <a:pt x="1216" y="25"/>
                  </a:lnTo>
                  <a:lnTo>
                    <a:pt x="1216" y="30"/>
                  </a:lnTo>
                  <a:lnTo>
                    <a:pt x="1213" y="37"/>
                  </a:lnTo>
                  <a:lnTo>
                    <a:pt x="1208" y="44"/>
                  </a:lnTo>
                  <a:lnTo>
                    <a:pt x="1201" y="51"/>
                  </a:lnTo>
                  <a:lnTo>
                    <a:pt x="1192" y="60"/>
                  </a:lnTo>
                  <a:lnTo>
                    <a:pt x="1182" y="68"/>
                  </a:lnTo>
                  <a:lnTo>
                    <a:pt x="1170" y="79"/>
                  </a:lnTo>
                  <a:lnTo>
                    <a:pt x="1155" y="88"/>
                  </a:lnTo>
                  <a:lnTo>
                    <a:pt x="1140" y="100"/>
                  </a:lnTo>
                  <a:lnTo>
                    <a:pt x="1122" y="111"/>
                  </a:lnTo>
                  <a:lnTo>
                    <a:pt x="1102" y="123"/>
                  </a:lnTo>
                  <a:lnTo>
                    <a:pt x="1082" y="134"/>
                  </a:lnTo>
                  <a:lnTo>
                    <a:pt x="1058" y="147"/>
                  </a:lnTo>
                  <a:lnTo>
                    <a:pt x="1033" y="159"/>
                  </a:lnTo>
                  <a:lnTo>
                    <a:pt x="1000" y="174"/>
                  </a:lnTo>
                  <a:lnTo>
                    <a:pt x="966" y="189"/>
                  </a:lnTo>
                  <a:lnTo>
                    <a:pt x="930" y="204"/>
                  </a:lnTo>
                  <a:lnTo>
                    <a:pt x="892" y="218"/>
                  </a:lnTo>
                  <a:lnTo>
                    <a:pt x="854" y="234"/>
                  </a:lnTo>
                  <a:lnTo>
                    <a:pt x="816" y="248"/>
                  </a:lnTo>
                  <a:lnTo>
                    <a:pt x="778" y="262"/>
                  </a:lnTo>
                  <a:lnTo>
                    <a:pt x="740" y="277"/>
                  </a:lnTo>
                  <a:lnTo>
                    <a:pt x="702" y="291"/>
                  </a:lnTo>
                  <a:lnTo>
                    <a:pt x="662" y="306"/>
                  </a:lnTo>
                  <a:lnTo>
                    <a:pt x="624" y="321"/>
                  </a:lnTo>
                  <a:lnTo>
                    <a:pt x="584" y="336"/>
                  </a:lnTo>
                  <a:lnTo>
                    <a:pt x="544" y="350"/>
                  </a:lnTo>
                  <a:lnTo>
                    <a:pt x="505" y="364"/>
                  </a:lnTo>
                  <a:lnTo>
                    <a:pt x="465" y="378"/>
                  </a:lnTo>
                  <a:lnTo>
                    <a:pt x="427" y="392"/>
                  </a:lnTo>
                  <a:lnTo>
                    <a:pt x="392" y="404"/>
                  </a:lnTo>
                  <a:lnTo>
                    <a:pt x="357" y="416"/>
                  </a:lnTo>
                  <a:lnTo>
                    <a:pt x="322" y="427"/>
                  </a:lnTo>
                  <a:lnTo>
                    <a:pt x="289" y="439"/>
                  </a:lnTo>
                  <a:lnTo>
                    <a:pt x="254" y="450"/>
                  </a:lnTo>
                  <a:lnTo>
                    <a:pt x="220" y="460"/>
                  </a:lnTo>
                  <a:lnTo>
                    <a:pt x="188" y="470"/>
                  </a:lnTo>
                  <a:lnTo>
                    <a:pt x="156" y="478"/>
                  </a:lnTo>
                  <a:lnTo>
                    <a:pt x="138" y="483"/>
                  </a:lnTo>
                  <a:lnTo>
                    <a:pt x="120" y="487"/>
                  </a:lnTo>
                  <a:lnTo>
                    <a:pt x="104" y="489"/>
                  </a:lnTo>
                  <a:lnTo>
                    <a:pt x="90" y="492"/>
                  </a:lnTo>
                  <a:lnTo>
                    <a:pt x="75" y="493"/>
                  </a:lnTo>
                  <a:lnTo>
                    <a:pt x="63" y="494"/>
                  </a:lnTo>
                  <a:lnTo>
                    <a:pt x="54" y="494"/>
                  </a:lnTo>
                  <a:lnTo>
                    <a:pt x="45" y="493"/>
                  </a:lnTo>
                  <a:lnTo>
                    <a:pt x="37" y="492"/>
                  </a:lnTo>
                  <a:lnTo>
                    <a:pt x="32" y="488"/>
                  </a:lnTo>
                  <a:lnTo>
                    <a:pt x="30" y="484"/>
                  </a:lnTo>
                  <a:lnTo>
                    <a:pt x="28" y="480"/>
                  </a:lnTo>
                  <a:lnTo>
                    <a:pt x="27" y="475"/>
                  </a:lnTo>
                  <a:lnTo>
                    <a:pt x="27" y="470"/>
                  </a:lnTo>
                  <a:lnTo>
                    <a:pt x="27" y="465"/>
                  </a:lnTo>
                  <a:lnTo>
                    <a:pt x="27" y="460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46320" y="1371600"/>
              <a:ext cx="482760" cy="196920"/>
            </a:xfrm>
            <a:custGeom>
              <a:avLst/>
              <a:gdLst/>
              <a:ahLst/>
              <a:rect l="l" t="t" r="r" b="b"/>
              <a:pathLst>
                <a:path w="1217" h="494">
                  <a:moveTo>
                    <a:pt x="27" y="460"/>
                  </a:moveTo>
                  <a:lnTo>
                    <a:pt x="24" y="456"/>
                  </a:lnTo>
                  <a:lnTo>
                    <a:pt x="17" y="452"/>
                  </a:lnTo>
                  <a:lnTo>
                    <a:pt x="9" y="448"/>
                  </a:lnTo>
                  <a:lnTo>
                    <a:pt x="3" y="445"/>
                  </a:lnTo>
                  <a:lnTo>
                    <a:pt x="1" y="442"/>
                  </a:lnTo>
                  <a:lnTo>
                    <a:pt x="0" y="440"/>
                  </a:lnTo>
                  <a:lnTo>
                    <a:pt x="0" y="438"/>
                  </a:lnTo>
                  <a:lnTo>
                    <a:pt x="1" y="434"/>
                  </a:lnTo>
                  <a:lnTo>
                    <a:pt x="3" y="430"/>
                  </a:lnTo>
                  <a:lnTo>
                    <a:pt x="7" y="427"/>
                  </a:lnTo>
                  <a:lnTo>
                    <a:pt x="14" y="422"/>
                  </a:lnTo>
                  <a:lnTo>
                    <a:pt x="23" y="416"/>
                  </a:lnTo>
                  <a:lnTo>
                    <a:pt x="54" y="400"/>
                  </a:lnTo>
                  <a:lnTo>
                    <a:pt x="90" y="384"/>
                  </a:lnTo>
                  <a:lnTo>
                    <a:pt x="129" y="367"/>
                  </a:lnTo>
                  <a:lnTo>
                    <a:pt x="171" y="349"/>
                  </a:lnTo>
                  <a:lnTo>
                    <a:pt x="215" y="332"/>
                  </a:lnTo>
                  <a:lnTo>
                    <a:pt x="259" y="315"/>
                  </a:lnTo>
                  <a:lnTo>
                    <a:pt x="303" y="299"/>
                  </a:lnTo>
                  <a:lnTo>
                    <a:pt x="345" y="282"/>
                  </a:lnTo>
                  <a:lnTo>
                    <a:pt x="398" y="261"/>
                  </a:lnTo>
                  <a:lnTo>
                    <a:pt x="452" y="241"/>
                  </a:lnTo>
                  <a:lnTo>
                    <a:pt x="505" y="221"/>
                  </a:lnTo>
                  <a:lnTo>
                    <a:pt x="559" y="200"/>
                  </a:lnTo>
                  <a:lnTo>
                    <a:pt x="612" y="180"/>
                  </a:lnTo>
                  <a:lnTo>
                    <a:pt x="666" y="161"/>
                  </a:lnTo>
                  <a:lnTo>
                    <a:pt x="720" y="140"/>
                  </a:lnTo>
                  <a:lnTo>
                    <a:pt x="774" y="121"/>
                  </a:lnTo>
                  <a:lnTo>
                    <a:pt x="816" y="105"/>
                  </a:lnTo>
                  <a:lnTo>
                    <a:pt x="860" y="90"/>
                  </a:lnTo>
                  <a:lnTo>
                    <a:pt x="903" y="74"/>
                  </a:lnTo>
                  <a:lnTo>
                    <a:pt x="947" y="59"/>
                  </a:lnTo>
                  <a:lnTo>
                    <a:pt x="990" y="43"/>
                  </a:lnTo>
                  <a:lnTo>
                    <a:pt x="1031" y="30"/>
                  </a:lnTo>
                  <a:lnTo>
                    <a:pt x="1071" y="18"/>
                  </a:lnTo>
                  <a:lnTo>
                    <a:pt x="1109" y="7"/>
                  </a:lnTo>
                  <a:lnTo>
                    <a:pt x="1134" y="2"/>
                  </a:lnTo>
                  <a:lnTo>
                    <a:pt x="1153" y="0"/>
                  </a:lnTo>
                  <a:lnTo>
                    <a:pt x="1170" y="0"/>
                  </a:lnTo>
                  <a:lnTo>
                    <a:pt x="1183" y="1"/>
                  </a:lnTo>
                  <a:lnTo>
                    <a:pt x="1193" y="3"/>
                  </a:lnTo>
                  <a:lnTo>
                    <a:pt x="1201" y="7"/>
                  </a:lnTo>
                  <a:lnTo>
                    <a:pt x="1207" y="11"/>
                  </a:lnTo>
                  <a:lnTo>
                    <a:pt x="1212" y="15"/>
                  </a:lnTo>
                  <a:lnTo>
                    <a:pt x="1215" y="19"/>
                  </a:lnTo>
                  <a:lnTo>
                    <a:pt x="1217" y="25"/>
                  </a:lnTo>
                  <a:lnTo>
                    <a:pt x="1215" y="30"/>
                  </a:lnTo>
                  <a:lnTo>
                    <a:pt x="1213" y="37"/>
                  </a:lnTo>
                  <a:lnTo>
                    <a:pt x="1208" y="44"/>
                  </a:lnTo>
                  <a:lnTo>
                    <a:pt x="1201" y="51"/>
                  </a:lnTo>
                  <a:lnTo>
                    <a:pt x="1193" y="60"/>
                  </a:lnTo>
                  <a:lnTo>
                    <a:pt x="1182" y="68"/>
                  </a:lnTo>
                  <a:lnTo>
                    <a:pt x="1170" y="79"/>
                  </a:lnTo>
                  <a:lnTo>
                    <a:pt x="1155" y="89"/>
                  </a:lnTo>
                  <a:lnTo>
                    <a:pt x="1139" y="101"/>
                  </a:lnTo>
                  <a:lnTo>
                    <a:pt x="1122" y="111"/>
                  </a:lnTo>
                  <a:lnTo>
                    <a:pt x="1103" y="123"/>
                  </a:lnTo>
                  <a:lnTo>
                    <a:pt x="1081" y="134"/>
                  </a:lnTo>
                  <a:lnTo>
                    <a:pt x="1058" y="147"/>
                  </a:lnTo>
                  <a:lnTo>
                    <a:pt x="1033" y="159"/>
                  </a:lnTo>
                  <a:lnTo>
                    <a:pt x="1001" y="174"/>
                  </a:lnTo>
                  <a:lnTo>
                    <a:pt x="965" y="189"/>
                  </a:lnTo>
                  <a:lnTo>
                    <a:pt x="929" y="204"/>
                  </a:lnTo>
                  <a:lnTo>
                    <a:pt x="891" y="218"/>
                  </a:lnTo>
                  <a:lnTo>
                    <a:pt x="854" y="234"/>
                  </a:lnTo>
                  <a:lnTo>
                    <a:pt x="816" y="248"/>
                  </a:lnTo>
                  <a:lnTo>
                    <a:pt x="777" y="263"/>
                  </a:lnTo>
                  <a:lnTo>
                    <a:pt x="740" y="277"/>
                  </a:lnTo>
                  <a:lnTo>
                    <a:pt x="702" y="291"/>
                  </a:lnTo>
                  <a:lnTo>
                    <a:pt x="662" y="306"/>
                  </a:lnTo>
                  <a:lnTo>
                    <a:pt x="623" y="321"/>
                  </a:lnTo>
                  <a:lnTo>
                    <a:pt x="584" y="336"/>
                  </a:lnTo>
                  <a:lnTo>
                    <a:pt x="545" y="350"/>
                  </a:lnTo>
                  <a:lnTo>
                    <a:pt x="505" y="364"/>
                  </a:lnTo>
                  <a:lnTo>
                    <a:pt x="465" y="378"/>
                  </a:lnTo>
                  <a:lnTo>
                    <a:pt x="426" y="392"/>
                  </a:lnTo>
                  <a:lnTo>
                    <a:pt x="392" y="404"/>
                  </a:lnTo>
                  <a:lnTo>
                    <a:pt x="357" y="416"/>
                  </a:lnTo>
                  <a:lnTo>
                    <a:pt x="323" y="427"/>
                  </a:lnTo>
                  <a:lnTo>
                    <a:pt x="288" y="439"/>
                  </a:lnTo>
                  <a:lnTo>
                    <a:pt x="254" y="450"/>
                  </a:lnTo>
                  <a:lnTo>
                    <a:pt x="221" y="460"/>
                  </a:lnTo>
                  <a:lnTo>
                    <a:pt x="188" y="470"/>
                  </a:lnTo>
                  <a:lnTo>
                    <a:pt x="156" y="478"/>
                  </a:lnTo>
                  <a:lnTo>
                    <a:pt x="138" y="483"/>
                  </a:lnTo>
                  <a:lnTo>
                    <a:pt x="120" y="487"/>
                  </a:lnTo>
                  <a:lnTo>
                    <a:pt x="104" y="489"/>
                  </a:lnTo>
                  <a:lnTo>
                    <a:pt x="89" y="492"/>
                  </a:lnTo>
                  <a:lnTo>
                    <a:pt x="75" y="493"/>
                  </a:lnTo>
                  <a:lnTo>
                    <a:pt x="63" y="494"/>
                  </a:lnTo>
                  <a:lnTo>
                    <a:pt x="54" y="494"/>
                  </a:lnTo>
                  <a:lnTo>
                    <a:pt x="44" y="493"/>
                  </a:lnTo>
                  <a:lnTo>
                    <a:pt x="37" y="492"/>
                  </a:lnTo>
                  <a:lnTo>
                    <a:pt x="32" y="488"/>
                  </a:lnTo>
                  <a:lnTo>
                    <a:pt x="29" y="484"/>
                  </a:lnTo>
                  <a:lnTo>
                    <a:pt x="27" y="480"/>
                  </a:lnTo>
                  <a:lnTo>
                    <a:pt x="27" y="475"/>
                  </a:lnTo>
                  <a:lnTo>
                    <a:pt x="27" y="470"/>
                  </a:lnTo>
                  <a:lnTo>
                    <a:pt x="27" y="465"/>
                  </a:lnTo>
                  <a:lnTo>
                    <a:pt x="27" y="460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52840" y="1185840"/>
              <a:ext cx="484200" cy="196920"/>
            </a:xfrm>
            <a:custGeom>
              <a:avLst/>
              <a:gdLst/>
              <a:ahLst/>
              <a:rect l="l" t="t" r="r" b="b"/>
              <a:pathLst>
                <a:path w="1218" h="494">
                  <a:moveTo>
                    <a:pt x="27" y="461"/>
                  </a:moveTo>
                  <a:lnTo>
                    <a:pt x="24" y="456"/>
                  </a:lnTo>
                  <a:lnTo>
                    <a:pt x="18" y="452"/>
                  </a:lnTo>
                  <a:lnTo>
                    <a:pt x="11" y="449"/>
                  </a:lnTo>
                  <a:lnTo>
                    <a:pt x="5" y="445"/>
                  </a:lnTo>
                  <a:lnTo>
                    <a:pt x="2" y="443"/>
                  </a:lnTo>
                  <a:lnTo>
                    <a:pt x="1" y="440"/>
                  </a:lnTo>
                  <a:lnTo>
                    <a:pt x="0" y="438"/>
                  </a:lnTo>
                  <a:lnTo>
                    <a:pt x="1" y="434"/>
                  </a:lnTo>
                  <a:lnTo>
                    <a:pt x="3" y="431"/>
                  </a:lnTo>
                  <a:lnTo>
                    <a:pt x="8" y="427"/>
                  </a:lnTo>
                  <a:lnTo>
                    <a:pt x="15" y="422"/>
                  </a:lnTo>
                  <a:lnTo>
                    <a:pt x="24" y="416"/>
                  </a:lnTo>
                  <a:lnTo>
                    <a:pt x="55" y="401"/>
                  </a:lnTo>
                  <a:lnTo>
                    <a:pt x="91" y="384"/>
                  </a:lnTo>
                  <a:lnTo>
                    <a:pt x="131" y="367"/>
                  </a:lnTo>
                  <a:lnTo>
                    <a:pt x="173" y="349"/>
                  </a:lnTo>
                  <a:lnTo>
                    <a:pt x="216" y="332"/>
                  </a:lnTo>
                  <a:lnTo>
                    <a:pt x="260" y="315"/>
                  </a:lnTo>
                  <a:lnTo>
                    <a:pt x="303" y="299"/>
                  </a:lnTo>
                  <a:lnTo>
                    <a:pt x="347" y="282"/>
                  </a:lnTo>
                  <a:lnTo>
                    <a:pt x="399" y="261"/>
                  </a:lnTo>
                  <a:lnTo>
                    <a:pt x="452" y="241"/>
                  </a:lnTo>
                  <a:lnTo>
                    <a:pt x="506" y="221"/>
                  </a:lnTo>
                  <a:lnTo>
                    <a:pt x="559" y="200"/>
                  </a:lnTo>
                  <a:lnTo>
                    <a:pt x="613" y="180"/>
                  </a:lnTo>
                  <a:lnTo>
                    <a:pt x="667" y="161"/>
                  </a:lnTo>
                  <a:lnTo>
                    <a:pt x="721" y="140"/>
                  </a:lnTo>
                  <a:lnTo>
                    <a:pt x="775" y="121"/>
                  </a:lnTo>
                  <a:lnTo>
                    <a:pt x="817" y="105"/>
                  </a:lnTo>
                  <a:lnTo>
                    <a:pt x="860" y="90"/>
                  </a:lnTo>
                  <a:lnTo>
                    <a:pt x="905" y="74"/>
                  </a:lnTo>
                  <a:lnTo>
                    <a:pt x="948" y="59"/>
                  </a:lnTo>
                  <a:lnTo>
                    <a:pt x="990" y="43"/>
                  </a:lnTo>
                  <a:lnTo>
                    <a:pt x="1032" y="30"/>
                  </a:lnTo>
                  <a:lnTo>
                    <a:pt x="1071" y="18"/>
                  </a:lnTo>
                  <a:lnTo>
                    <a:pt x="1110" y="8"/>
                  </a:lnTo>
                  <a:lnTo>
                    <a:pt x="1134" y="2"/>
                  </a:lnTo>
                  <a:lnTo>
                    <a:pt x="1154" y="0"/>
                  </a:lnTo>
                  <a:lnTo>
                    <a:pt x="1171" y="0"/>
                  </a:lnTo>
                  <a:lnTo>
                    <a:pt x="1183" y="1"/>
                  </a:lnTo>
                  <a:lnTo>
                    <a:pt x="1194" y="4"/>
                  </a:lnTo>
                  <a:lnTo>
                    <a:pt x="1201" y="7"/>
                  </a:lnTo>
                  <a:lnTo>
                    <a:pt x="1208" y="11"/>
                  </a:lnTo>
                  <a:lnTo>
                    <a:pt x="1213" y="16"/>
                  </a:lnTo>
                  <a:lnTo>
                    <a:pt x="1217" y="19"/>
                  </a:lnTo>
                  <a:lnTo>
                    <a:pt x="1218" y="25"/>
                  </a:lnTo>
                  <a:lnTo>
                    <a:pt x="1217" y="30"/>
                  </a:lnTo>
                  <a:lnTo>
                    <a:pt x="1214" y="37"/>
                  </a:lnTo>
                  <a:lnTo>
                    <a:pt x="1208" y="44"/>
                  </a:lnTo>
                  <a:lnTo>
                    <a:pt x="1202" y="51"/>
                  </a:lnTo>
                  <a:lnTo>
                    <a:pt x="1193" y="60"/>
                  </a:lnTo>
                  <a:lnTo>
                    <a:pt x="1183" y="68"/>
                  </a:lnTo>
                  <a:lnTo>
                    <a:pt x="1170" y="79"/>
                  </a:lnTo>
                  <a:lnTo>
                    <a:pt x="1155" y="89"/>
                  </a:lnTo>
                  <a:lnTo>
                    <a:pt x="1140" y="101"/>
                  </a:lnTo>
                  <a:lnTo>
                    <a:pt x="1123" y="111"/>
                  </a:lnTo>
                  <a:lnTo>
                    <a:pt x="1104" y="123"/>
                  </a:lnTo>
                  <a:lnTo>
                    <a:pt x="1082" y="134"/>
                  </a:lnTo>
                  <a:lnTo>
                    <a:pt x="1059" y="147"/>
                  </a:lnTo>
                  <a:lnTo>
                    <a:pt x="1034" y="159"/>
                  </a:lnTo>
                  <a:lnTo>
                    <a:pt x="1001" y="174"/>
                  </a:lnTo>
                  <a:lnTo>
                    <a:pt x="966" y="189"/>
                  </a:lnTo>
                  <a:lnTo>
                    <a:pt x="930" y="204"/>
                  </a:lnTo>
                  <a:lnTo>
                    <a:pt x="893" y="218"/>
                  </a:lnTo>
                  <a:lnTo>
                    <a:pt x="855" y="234"/>
                  </a:lnTo>
                  <a:lnTo>
                    <a:pt x="817" y="248"/>
                  </a:lnTo>
                  <a:lnTo>
                    <a:pt x="779" y="263"/>
                  </a:lnTo>
                  <a:lnTo>
                    <a:pt x="741" y="277"/>
                  </a:lnTo>
                  <a:lnTo>
                    <a:pt x="702" y="291"/>
                  </a:lnTo>
                  <a:lnTo>
                    <a:pt x="663" y="306"/>
                  </a:lnTo>
                  <a:lnTo>
                    <a:pt x="624" y="321"/>
                  </a:lnTo>
                  <a:lnTo>
                    <a:pt x="584" y="336"/>
                  </a:lnTo>
                  <a:lnTo>
                    <a:pt x="546" y="350"/>
                  </a:lnTo>
                  <a:lnTo>
                    <a:pt x="506" y="365"/>
                  </a:lnTo>
                  <a:lnTo>
                    <a:pt x="467" y="378"/>
                  </a:lnTo>
                  <a:lnTo>
                    <a:pt x="427" y="392"/>
                  </a:lnTo>
                  <a:lnTo>
                    <a:pt x="392" y="404"/>
                  </a:lnTo>
                  <a:lnTo>
                    <a:pt x="359" y="416"/>
                  </a:lnTo>
                  <a:lnTo>
                    <a:pt x="324" y="427"/>
                  </a:lnTo>
                  <a:lnTo>
                    <a:pt x="289" y="439"/>
                  </a:lnTo>
                  <a:lnTo>
                    <a:pt x="255" y="450"/>
                  </a:lnTo>
                  <a:lnTo>
                    <a:pt x="222" y="461"/>
                  </a:lnTo>
                  <a:lnTo>
                    <a:pt x="188" y="470"/>
                  </a:lnTo>
                  <a:lnTo>
                    <a:pt x="157" y="479"/>
                  </a:lnTo>
                  <a:lnTo>
                    <a:pt x="138" y="483"/>
                  </a:lnTo>
                  <a:lnTo>
                    <a:pt x="121" y="487"/>
                  </a:lnTo>
                  <a:lnTo>
                    <a:pt x="104" y="489"/>
                  </a:lnTo>
                  <a:lnTo>
                    <a:pt x="90" y="492"/>
                  </a:lnTo>
                  <a:lnTo>
                    <a:pt x="77" y="493"/>
                  </a:lnTo>
                  <a:lnTo>
                    <a:pt x="65" y="494"/>
                  </a:lnTo>
                  <a:lnTo>
                    <a:pt x="54" y="494"/>
                  </a:lnTo>
                  <a:lnTo>
                    <a:pt x="45" y="493"/>
                  </a:lnTo>
                  <a:lnTo>
                    <a:pt x="38" y="492"/>
                  </a:lnTo>
                  <a:lnTo>
                    <a:pt x="33" y="488"/>
                  </a:lnTo>
                  <a:lnTo>
                    <a:pt x="30" y="485"/>
                  </a:lnTo>
                  <a:lnTo>
                    <a:pt x="29" y="480"/>
                  </a:lnTo>
                  <a:lnTo>
                    <a:pt x="29" y="475"/>
                  </a:lnTo>
                  <a:lnTo>
                    <a:pt x="29" y="470"/>
                  </a:lnTo>
                  <a:lnTo>
                    <a:pt x="29" y="465"/>
                  </a:lnTo>
                  <a:lnTo>
                    <a:pt x="27" y="461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60800" y="1130400"/>
              <a:ext cx="127080" cy="66600"/>
            </a:xfrm>
            <a:custGeom>
              <a:avLst/>
              <a:gdLst/>
              <a:ahLst/>
              <a:rect l="l" t="t" r="r" b="b"/>
              <a:pathLst>
                <a:path w="318" h="168">
                  <a:moveTo>
                    <a:pt x="28" y="135"/>
                  </a:moveTo>
                  <a:lnTo>
                    <a:pt x="24" y="130"/>
                  </a:lnTo>
                  <a:lnTo>
                    <a:pt x="18" y="126"/>
                  </a:lnTo>
                  <a:lnTo>
                    <a:pt x="11" y="123"/>
                  </a:lnTo>
                  <a:lnTo>
                    <a:pt x="5" y="119"/>
                  </a:lnTo>
                  <a:lnTo>
                    <a:pt x="2" y="117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1" y="108"/>
                  </a:lnTo>
                  <a:lnTo>
                    <a:pt x="4" y="105"/>
                  </a:lnTo>
                  <a:lnTo>
                    <a:pt x="8" y="101"/>
                  </a:lnTo>
                  <a:lnTo>
                    <a:pt x="14" y="96"/>
                  </a:lnTo>
                  <a:lnTo>
                    <a:pt x="24" y="90"/>
                  </a:lnTo>
                  <a:lnTo>
                    <a:pt x="44" y="80"/>
                  </a:lnTo>
                  <a:lnTo>
                    <a:pt x="67" y="69"/>
                  </a:lnTo>
                  <a:lnTo>
                    <a:pt x="91" y="58"/>
                  </a:lnTo>
                  <a:lnTo>
                    <a:pt x="118" y="46"/>
                  </a:lnTo>
                  <a:lnTo>
                    <a:pt x="145" y="35"/>
                  </a:lnTo>
                  <a:lnTo>
                    <a:pt x="173" y="23"/>
                  </a:lnTo>
                  <a:lnTo>
                    <a:pt x="203" y="11"/>
                  </a:lnTo>
                  <a:lnTo>
                    <a:pt x="232" y="0"/>
                  </a:lnTo>
                  <a:lnTo>
                    <a:pt x="244" y="12"/>
                  </a:lnTo>
                  <a:lnTo>
                    <a:pt x="254" y="26"/>
                  </a:lnTo>
                  <a:lnTo>
                    <a:pt x="266" y="38"/>
                  </a:lnTo>
                  <a:lnTo>
                    <a:pt x="277" y="51"/>
                  </a:lnTo>
                  <a:lnTo>
                    <a:pt x="288" y="64"/>
                  </a:lnTo>
                  <a:lnTo>
                    <a:pt x="298" y="77"/>
                  </a:lnTo>
                  <a:lnTo>
                    <a:pt x="308" y="90"/>
                  </a:lnTo>
                  <a:lnTo>
                    <a:pt x="318" y="104"/>
                  </a:lnTo>
                  <a:lnTo>
                    <a:pt x="298" y="110"/>
                  </a:lnTo>
                  <a:lnTo>
                    <a:pt x="277" y="117"/>
                  </a:lnTo>
                  <a:lnTo>
                    <a:pt x="256" y="124"/>
                  </a:lnTo>
                  <a:lnTo>
                    <a:pt x="235" y="130"/>
                  </a:lnTo>
                  <a:lnTo>
                    <a:pt x="216" y="136"/>
                  </a:lnTo>
                  <a:lnTo>
                    <a:pt x="196" y="142"/>
                  </a:lnTo>
                  <a:lnTo>
                    <a:pt x="176" y="148"/>
                  </a:lnTo>
                  <a:lnTo>
                    <a:pt x="157" y="153"/>
                  </a:lnTo>
                  <a:lnTo>
                    <a:pt x="138" y="158"/>
                  </a:lnTo>
                  <a:lnTo>
                    <a:pt x="121" y="161"/>
                  </a:lnTo>
                  <a:lnTo>
                    <a:pt x="104" y="164"/>
                  </a:lnTo>
                  <a:lnTo>
                    <a:pt x="90" y="166"/>
                  </a:lnTo>
                  <a:lnTo>
                    <a:pt x="77" y="167"/>
                  </a:lnTo>
                  <a:lnTo>
                    <a:pt x="65" y="168"/>
                  </a:lnTo>
                  <a:lnTo>
                    <a:pt x="54" y="168"/>
                  </a:lnTo>
                  <a:lnTo>
                    <a:pt x="46" y="167"/>
                  </a:lnTo>
                  <a:lnTo>
                    <a:pt x="38" y="166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4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29" y="140"/>
                  </a:lnTo>
                  <a:lnTo>
                    <a:pt x="28" y="135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68480" y="1258920"/>
              <a:ext cx="98640" cy="41400"/>
            </a:xfrm>
            <a:custGeom>
              <a:avLst/>
              <a:gdLst/>
              <a:ahLst/>
              <a:rect l="l" t="t" r="r" b="b"/>
              <a:pathLst>
                <a:path w="249" h="105">
                  <a:moveTo>
                    <a:pt x="111" y="27"/>
                  </a:moveTo>
                  <a:lnTo>
                    <a:pt x="136" y="18"/>
                  </a:lnTo>
                  <a:lnTo>
                    <a:pt x="160" y="11"/>
                  </a:lnTo>
                  <a:lnTo>
                    <a:pt x="182" y="6"/>
                  </a:lnTo>
                  <a:lnTo>
                    <a:pt x="202" y="3"/>
                  </a:lnTo>
                  <a:lnTo>
                    <a:pt x="219" y="0"/>
                  </a:lnTo>
                  <a:lnTo>
                    <a:pt x="233" y="1"/>
                  </a:lnTo>
                  <a:lnTo>
                    <a:pt x="238" y="1"/>
                  </a:lnTo>
                  <a:lnTo>
                    <a:pt x="243" y="3"/>
                  </a:lnTo>
                  <a:lnTo>
                    <a:pt x="246" y="5"/>
                  </a:lnTo>
                  <a:lnTo>
                    <a:pt x="248" y="7"/>
                  </a:lnTo>
                  <a:lnTo>
                    <a:pt x="249" y="10"/>
                  </a:lnTo>
                  <a:lnTo>
                    <a:pt x="249" y="13"/>
                  </a:lnTo>
                  <a:lnTo>
                    <a:pt x="246" y="17"/>
                  </a:lnTo>
                  <a:lnTo>
                    <a:pt x="244" y="21"/>
                  </a:lnTo>
                  <a:lnTo>
                    <a:pt x="234" y="29"/>
                  </a:lnTo>
                  <a:lnTo>
                    <a:pt x="221" y="39"/>
                  </a:lnTo>
                  <a:lnTo>
                    <a:pt x="206" y="48"/>
                  </a:lnTo>
                  <a:lnTo>
                    <a:pt x="185" y="59"/>
                  </a:lnTo>
                  <a:lnTo>
                    <a:pt x="164" y="69"/>
                  </a:lnTo>
                  <a:lnTo>
                    <a:pt x="138" y="78"/>
                  </a:lnTo>
                  <a:lnTo>
                    <a:pt x="113" y="87"/>
                  </a:lnTo>
                  <a:lnTo>
                    <a:pt x="89" y="94"/>
                  </a:lnTo>
                  <a:lnTo>
                    <a:pt x="68" y="99"/>
                  </a:lnTo>
                  <a:lnTo>
                    <a:pt x="47" y="102"/>
                  </a:lnTo>
                  <a:lnTo>
                    <a:pt x="30" y="105"/>
                  </a:lnTo>
                  <a:lnTo>
                    <a:pt x="16" y="105"/>
                  </a:lnTo>
                  <a:lnTo>
                    <a:pt x="11" y="103"/>
                  </a:lnTo>
                  <a:lnTo>
                    <a:pt x="6" y="102"/>
                  </a:lnTo>
                  <a:lnTo>
                    <a:pt x="3" y="101"/>
                  </a:lnTo>
                  <a:lnTo>
                    <a:pt x="2" y="99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3" y="89"/>
                  </a:lnTo>
                  <a:lnTo>
                    <a:pt x="5" y="84"/>
                  </a:lnTo>
                  <a:lnTo>
                    <a:pt x="15" y="76"/>
                  </a:lnTo>
                  <a:lnTo>
                    <a:pt x="28" y="66"/>
                  </a:lnTo>
                  <a:lnTo>
                    <a:pt x="44" y="57"/>
                  </a:lnTo>
                  <a:lnTo>
                    <a:pt x="64" y="47"/>
                  </a:lnTo>
                  <a:lnTo>
                    <a:pt x="86" y="36"/>
                  </a:lnTo>
                  <a:lnTo>
                    <a:pt x="111" y="27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87560" y="1266840"/>
              <a:ext cx="61920" cy="27000"/>
            </a:xfrm>
            <a:custGeom>
              <a:avLst/>
              <a:gdLst/>
              <a:ahLst/>
              <a:rect l="l" t="t" r="r" b="b"/>
              <a:pathLst>
                <a:path w="156" h="69">
                  <a:moveTo>
                    <a:pt x="67" y="15"/>
                  </a:moveTo>
                  <a:lnTo>
                    <a:pt x="82" y="10"/>
                  </a:lnTo>
                  <a:lnTo>
                    <a:pt x="97" y="5"/>
                  </a:lnTo>
                  <a:lnTo>
                    <a:pt x="111" y="3"/>
                  </a:lnTo>
                  <a:lnTo>
                    <a:pt x="124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47" y="2"/>
                  </a:lnTo>
                  <a:lnTo>
                    <a:pt x="151" y="3"/>
                  </a:lnTo>
                  <a:lnTo>
                    <a:pt x="153" y="4"/>
                  </a:lnTo>
                  <a:lnTo>
                    <a:pt x="154" y="6"/>
                  </a:lnTo>
                  <a:lnTo>
                    <a:pt x="156" y="9"/>
                  </a:lnTo>
                  <a:lnTo>
                    <a:pt x="154" y="11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7" y="22"/>
                  </a:lnTo>
                  <a:lnTo>
                    <a:pt x="140" y="29"/>
                  </a:lnTo>
                  <a:lnTo>
                    <a:pt x="129" y="35"/>
                  </a:lnTo>
                  <a:lnTo>
                    <a:pt x="117" y="42"/>
                  </a:lnTo>
                  <a:lnTo>
                    <a:pt x="104" y="48"/>
                  </a:lnTo>
                  <a:lnTo>
                    <a:pt x="88" y="54"/>
                  </a:lnTo>
                  <a:lnTo>
                    <a:pt x="73" y="59"/>
                  </a:lnTo>
                  <a:lnTo>
                    <a:pt x="57" y="64"/>
                  </a:lnTo>
                  <a:lnTo>
                    <a:pt x="44" y="66"/>
                  </a:lnTo>
                  <a:lnTo>
                    <a:pt x="31" y="69"/>
                  </a:lnTo>
                  <a:lnTo>
                    <a:pt x="20" y="69"/>
                  </a:lnTo>
                  <a:lnTo>
                    <a:pt x="10" y="69"/>
                  </a:lnTo>
                  <a:lnTo>
                    <a:pt x="7" y="68"/>
                  </a:lnTo>
                  <a:lnTo>
                    <a:pt x="4" y="66"/>
                  </a:lnTo>
                  <a:lnTo>
                    <a:pt x="2" y="65"/>
                  </a:lnTo>
                  <a:lnTo>
                    <a:pt x="1" y="63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1" y="56"/>
                  </a:lnTo>
                  <a:lnTo>
                    <a:pt x="2" y="53"/>
                  </a:lnTo>
                  <a:lnTo>
                    <a:pt x="8" y="47"/>
                  </a:lnTo>
                  <a:lnTo>
                    <a:pt x="15" y="40"/>
                  </a:lnTo>
                  <a:lnTo>
                    <a:pt x="26" y="34"/>
                  </a:lnTo>
                  <a:lnTo>
                    <a:pt x="38" y="27"/>
                  </a:lnTo>
                  <a:lnTo>
                    <a:pt x="51" y="21"/>
                  </a:lnTo>
                  <a:lnTo>
                    <a:pt x="67" y="15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13120" y="1271520"/>
              <a:ext cx="15840" cy="648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18" y="5"/>
                  </a:moveTo>
                  <a:lnTo>
                    <a:pt x="21" y="2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4" y="14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7" y="8"/>
                  </a:lnTo>
                  <a:lnTo>
                    <a:pt x="9" y="7"/>
                  </a:lnTo>
                  <a:lnTo>
                    <a:pt x="14" y="6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3120" y="1271520"/>
              <a:ext cx="15840" cy="648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18" y="5"/>
                  </a:moveTo>
                  <a:lnTo>
                    <a:pt x="21" y="2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4" y="14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7" y="8"/>
                  </a:lnTo>
                  <a:lnTo>
                    <a:pt x="9" y="7"/>
                  </a:lnTo>
                  <a:lnTo>
                    <a:pt x="14" y="6"/>
                  </a:lnTo>
                  <a:lnTo>
                    <a:pt x="18" y="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39920" y="1814400"/>
              <a:ext cx="104760" cy="46080"/>
            </a:xfrm>
            <a:custGeom>
              <a:avLst/>
              <a:gdLst/>
              <a:ahLst/>
              <a:rect l="l" t="t" r="r" b="b"/>
              <a:pathLst>
                <a:path w="264" h="114">
                  <a:moveTo>
                    <a:pt x="0" y="81"/>
                  </a:moveTo>
                  <a:lnTo>
                    <a:pt x="11" y="76"/>
                  </a:lnTo>
                  <a:lnTo>
                    <a:pt x="22" y="71"/>
                  </a:lnTo>
                  <a:lnTo>
                    <a:pt x="34" y="65"/>
                  </a:lnTo>
                  <a:lnTo>
                    <a:pt x="47" y="60"/>
                  </a:lnTo>
                  <a:lnTo>
                    <a:pt x="59" y="56"/>
                  </a:lnTo>
                  <a:lnTo>
                    <a:pt x="73" y="50"/>
                  </a:lnTo>
                  <a:lnTo>
                    <a:pt x="88" y="45"/>
                  </a:lnTo>
                  <a:lnTo>
                    <a:pt x="102" y="39"/>
                  </a:lnTo>
                  <a:lnTo>
                    <a:pt x="133" y="28"/>
                  </a:lnTo>
                  <a:lnTo>
                    <a:pt x="163" y="18"/>
                  </a:lnTo>
                  <a:lnTo>
                    <a:pt x="190" y="11"/>
                  </a:lnTo>
                  <a:lnTo>
                    <a:pt x="214" y="5"/>
                  </a:lnTo>
                  <a:lnTo>
                    <a:pt x="234" y="2"/>
                  </a:lnTo>
                  <a:lnTo>
                    <a:pt x="250" y="0"/>
                  </a:lnTo>
                  <a:lnTo>
                    <a:pt x="254" y="0"/>
                  </a:lnTo>
                  <a:lnTo>
                    <a:pt x="259" y="2"/>
                  </a:lnTo>
                  <a:lnTo>
                    <a:pt x="263" y="3"/>
                  </a:lnTo>
                  <a:lnTo>
                    <a:pt x="264" y="5"/>
                  </a:lnTo>
                  <a:lnTo>
                    <a:pt x="264" y="8"/>
                  </a:lnTo>
                  <a:lnTo>
                    <a:pt x="262" y="10"/>
                  </a:lnTo>
                  <a:lnTo>
                    <a:pt x="258" y="14"/>
                  </a:lnTo>
                  <a:lnTo>
                    <a:pt x="253" y="18"/>
                  </a:lnTo>
                  <a:lnTo>
                    <a:pt x="240" y="27"/>
                  </a:lnTo>
                  <a:lnTo>
                    <a:pt x="222" y="38"/>
                  </a:lnTo>
                  <a:lnTo>
                    <a:pt x="199" y="48"/>
                  </a:lnTo>
                  <a:lnTo>
                    <a:pt x="173" y="59"/>
                  </a:lnTo>
                  <a:lnTo>
                    <a:pt x="144" y="71"/>
                  </a:lnTo>
                  <a:lnTo>
                    <a:pt x="113" y="83"/>
                  </a:lnTo>
                  <a:lnTo>
                    <a:pt x="98" y="88"/>
                  </a:lnTo>
                  <a:lnTo>
                    <a:pt x="84" y="93"/>
                  </a:lnTo>
                  <a:lnTo>
                    <a:pt x="71" y="98"/>
                  </a:lnTo>
                  <a:lnTo>
                    <a:pt x="58" y="101"/>
                  </a:lnTo>
                  <a:lnTo>
                    <a:pt x="44" y="106"/>
                  </a:lnTo>
                  <a:lnTo>
                    <a:pt x="32" y="108"/>
                  </a:lnTo>
                  <a:lnTo>
                    <a:pt x="20" y="112"/>
                  </a:lnTo>
                  <a:lnTo>
                    <a:pt x="10" y="114"/>
                  </a:lnTo>
                  <a:lnTo>
                    <a:pt x="8" y="111"/>
                  </a:lnTo>
                  <a:lnTo>
                    <a:pt x="7" y="106"/>
                  </a:lnTo>
                  <a:lnTo>
                    <a:pt x="6" y="102"/>
                  </a:lnTo>
                  <a:lnTo>
                    <a:pt x="5" y="98"/>
                  </a:lnTo>
                  <a:lnTo>
                    <a:pt x="4" y="94"/>
                  </a:lnTo>
                  <a:lnTo>
                    <a:pt x="2" y="89"/>
                  </a:lnTo>
                  <a:lnTo>
                    <a:pt x="1" y="86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39920" y="1819440"/>
              <a:ext cx="93600" cy="36360"/>
            </a:xfrm>
            <a:custGeom>
              <a:avLst/>
              <a:gdLst/>
              <a:ahLst/>
              <a:rect l="l" t="t" r="r" b="b"/>
              <a:pathLst>
                <a:path w="235" h="91">
                  <a:moveTo>
                    <a:pt x="0" y="82"/>
                  </a:moveTo>
                  <a:lnTo>
                    <a:pt x="7" y="77"/>
                  </a:lnTo>
                  <a:lnTo>
                    <a:pt x="16" y="71"/>
                  </a:lnTo>
                  <a:lnTo>
                    <a:pt x="28" y="65"/>
                  </a:lnTo>
                  <a:lnTo>
                    <a:pt x="42" y="59"/>
                  </a:lnTo>
                  <a:lnTo>
                    <a:pt x="57" y="53"/>
                  </a:lnTo>
                  <a:lnTo>
                    <a:pt x="74" y="46"/>
                  </a:lnTo>
                  <a:lnTo>
                    <a:pt x="91" y="39"/>
                  </a:lnTo>
                  <a:lnTo>
                    <a:pt x="110" y="33"/>
                  </a:lnTo>
                  <a:lnTo>
                    <a:pt x="134" y="24"/>
                  </a:lnTo>
                  <a:lnTo>
                    <a:pt x="158" y="16"/>
                  </a:lnTo>
                  <a:lnTo>
                    <a:pt x="178" y="10"/>
                  </a:lnTo>
                  <a:lnTo>
                    <a:pt x="198" y="5"/>
                  </a:lnTo>
                  <a:lnTo>
                    <a:pt x="212" y="3"/>
                  </a:lnTo>
                  <a:lnTo>
                    <a:pt x="224" y="0"/>
                  </a:lnTo>
                  <a:lnTo>
                    <a:pt x="229" y="0"/>
                  </a:lnTo>
                  <a:lnTo>
                    <a:pt x="232" y="0"/>
                  </a:lnTo>
                  <a:lnTo>
                    <a:pt x="235" y="1"/>
                  </a:lnTo>
                  <a:lnTo>
                    <a:pt x="235" y="3"/>
                  </a:lnTo>
                  <a:lnTo>
                    <a:pt x="235" y="4"/>
                  </a:lnTo>
                  <a:lnTo>
                    <a:pt x="234" y="6"/>
                  </a:lnTo>
                  <a:lnTo>
                    <a:pt x="231" y="9"/>
                  </a:lnTo>
                  <a:lnTo>
                    <a:pt x="228" y="11"/>
                  </a:lnTo>
                  <a:lnTo>
                    <a:pt x="217" y="17"/>
                  </a:lnTo>
                  <a:lnTo>
                    <a:pt x="202" y="25"/>
                  </a:lnTo>
                  <a:lnTo>
                    <a:pt x="184" y="33"/>
                  </a:lnTo>
                  <a:lnTo>
                    <a:pt x="164" y="42"/>
                  </a:lnTo>
                  <a:lnTo>
                    <a:pt x="141" y="51"/>
                  </a:lnTo>
                  <a:lnTo>
                    <a:pt x="117" y="60"/>
                  </a:lnTo>
                  <a:lnTo>
                    <a:pt x="98" y="66"/>
                  </a:lnTo>
                  <a:lnTo>
                    <a:pt x="81" y="72"/>
                  </a:lnTo>
                  <a:lnTo>
                    <a:pt x="63" y="77"/>
                  </a:lnTo>
                  <a:lnTo>
                    <a:pt x="49" y="82"/>
                  </a:lnTo>
                  <a:lnTo>
                    <a:pt x="34" y="85"/>
                  </a:lnTo>
                  <a:lnTo>
                    <a:pt x="21" y="89"/>
                  </a:lnTo>
                  <a:lnTo>
                    <a:pt x="10" y="90"/>
                  </a:lnTo>
                  <a:lnTo>
                    <a:pt x="2" y="91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3960" y="1841400"/>
              <a:ext cx="19080" cy="648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0" y="17"/>
                  </a:moveTo>
                  <a:lnTo>
                    <a:pt x="1" y="16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9" y="11"/>
                  </a:lnTo>
                  <a:lnTo>
                    <a:pt x="13" y="9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6" y="4"/>
                  </a:lnTo>
                  <a:lnTo>
                    <a:pt x="30" y="3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3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6" y="8"/>
                  </a:lnTo>
                  <a:lnTo>
                    <a:pt x="32" y="10"/>
                  </a:lnTo>
                  <a:lnTo>
                    <a:pt x="27" y="11"/>
                  </a:lnTo>
                  <a:lnTo>
                    <a:pt x="24" y="12"/>
                  </a:lnTo>
                  <a:lnTo>
                    <a:pt x="19" y="15"/>
                  </a:lnTo>
                  <a:lnTo>
                    <a:pt x="14" y="16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53960" y="1841400"/>
              <a:ext cx="19080" cy="648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0" y="17"/>
                  </a:moveTo>
                  <a:lnTo>
                    <a:pt x="1" y="16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9" y="11"/>
                  </a:lnTo>
                  <a:lnTo>
                    <a:pt x="13" y="9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6" y="4"/>
                  </a:lnTo>
                  <a:lnTo>
                    <a:pt x="30" y="3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3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6" y="8"/>
                  </a:lnTo>
                  <a:lnTo>
                    <a:pt x="32" y="10"/>
                  </a:lnTo>
                  <a:lnTo>
                    <a:pt x="27" y="11"/>
                  </a:lnTo>
                  <a:lnTo>
                    <a:pt x="24" y="12"/>
                  </a:lnTo>
                  <a:lnTo>
                    <a:pt x="19" y="15"/>
                  </a:lnTo>
                  <a:lnTo>
                    <a:pt x="14" y="16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89200" y="1646280"/>
              <a:ext cx="123840" cy="47520"/>
            </a:xfrm>
            <a:custGeom>
              <a:avLst/>
              <a:gdLst/>
              <a:ahLst/>
              <a:rect l="l" t="t" r="r" b="b"/>
              <a:pathLst>
                <a:path w="312" h="121">
                  <a:moveTo>
                    <a:pt x="0" y="116"/>
                  </a:moveTo>
                  <a:lnTo>
                    <a:pt x="0" y="114"/>
                  </a:lnTo>
                  <a:lnTo>
                    <a:pt x="2" y="111"/>
                  </a:lnTo>
                  <a:lnTo>
                    <a:pt x="5" y="108"/>
                  </a:lnTo>
                  <a:lnTo>
                    <a:pt x="10" y="103"/>
                  </a:lnTo>
                  <a:lnTo>
                    <a:pt x="24" y="94"/>
                  </a:lnTo>
                  <a:lnTo>
                    <a:pt x="42" y="84"/>
                  </a:lnTo>
                  <a:lnTo>
                    <a:pt x="64" y="73"/>
                  </a:lnTo>
                  <a:lnTo>
                    <a:pt x="90" y="62"/>
                  </a:lnTo>
                  <a:lnTo>
                    <a:pt x="119" y="50"/>
                  </a:lnTo>
                  <a:lnTo>
                    <a:pt x="150" y="38"/>
                  </a:lnTo>
                  <a:lnTo>
                    <a:pt x="182" y="27"/>
                  </a:lnTo>
                  <a:lnTo>
                    <a:pt x="211" y="18"/>
                  </a:lnTo>
                  <a:lnTo>
                    <a:pt x="239" y="10"/>
                  </a:lnTo>
                  <a:lnTo>
                    <a:pt x="263" y="4"/>
                  </a:lnTo>
                  <a:lnTo>
                    <a:pt x="282" y="1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8" y="1"/>
                  </a:lnTo>
                  <a:lnTo>
                    <a:pt x="311" y="2"/>
                  </a:lnTo>
                  <a:lnTo>
                    <a:pt x="312" y="4"/>
                  </a:lnTo>
                  <a:lnTo>
                    <a:pt x="312" y="7"/>
                  </a:lnTo>
                  <a:lnTo>
                    <a:pt x="311" y="9"/>
                  </a:lnTo>
                  <a:lnTo>
                    <a:pt x="307" y="13"/>
                  </a:lnTo>
                  <a:lnTo>
                    <a:pt x="302" y="18"/>
                  </a:lnTo>
                  <a:lnTo>
                    <a:pt x="289" y="26"/>
                  </a:lnTo>
                  <a:lnTo>
                    <a:pt x="271" y="37"/>
                  </a:lnTo>
                  <a:lnTo>
                    <a:pt x="248" y="48"/>
                  </a:lnTo>
                  <a:lnTo>
                    <a:pt x="222" y="58"/>
                  </a:lnTo>
                  <a:lnTo>
                    <a:pt x="193" y="70"/>
                  </a:lnTo>
                  <a:lnTo>
                    <a:pt x="162" y="82"/>
                  </a:lnTo>
                  <a:lnTo>
                    <a:pt x="131" y="93"/>
                  </a:lnTo>
                  <a:lnTo>
                    <a:pt x="101" y="103"/>
                  </a:lnTo>
                  <a:lnTo>
                    <a:pt x="73" y="110"/>
                  </a:lnTo>
                  <a:lnTo>
                    <a:pt x="49" y="116"/>
                  </a:lnTo>
                  <a:lnTo>
                    <a:pt x="30" y="120"/>
                  </a:lnTo>
                  <a:lnTo>
                    <a:pt x="14" y="121"/>
                  </a:lnTo>
                  <a:lnTo>
                    <a:pt x="8" y="121"/>
                  </a:lnTo>
                  <a:lnTo>
                    <a:pt x="4" y="120"/>
                  </a:lnTo>
                  <a:lnTo>
                    <a:pt x="1" y="11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06480" y="1649520"/>
              <a:ext cx="96840" cy="3636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0" y="90"/>
                  </a:moveTo>
                  <a:lnTo>
                    <a:pt x="0" y="88"/>
                  </a:lnTo>
                  <a:lnTo>
                    <a:pt x="3" y="87"/>
                  </a:lnTo>
                  <a:lnTo>
                    <a:pt x="5" y="84"/>
                  </a:lnTo>
                  <a:lnTo>
                    <a:pt x="9" y="81"/>
                  </a:lnTo>
                  <a:lnTo>
                    <a:pt x="20" y="75"/>
                  </a:lnTo>
                  <a:lnTo>
                    <a:pt x="34" y="68"/>
                  </a:lnTo>
                  <a:lnTo>
                    <a:pt x="51" y="59"/>
                  </a:lnTo>
                  <a:lnTo>
                    <a:pt x="71" y="51"/>
                  </a:lnTo>
                  <a:lnTo>
                    <a:pt x="94" y="41"/>
                  </a:lnTo>
                  <a:lnTo>
                    <a:pt x="119" y="33"/>
                  </a:lnTo>
                  <a:lnTo>
                    <a:pt x="143" y="24"/>
                  </a:lnTo>
                  <a:lnTo>
                    <a:pt x="166" y="16"/>
                  </a:lnTo>
                  <a:lnTo>
                    <a:pt x="188" y="10"/>
                  </a:lnTo>
                  <a:lnTo>
                    <a:pt x="206" y="5"/>
                  </a:lnTo>
                  <a:lnTo>
                    <a:pt x="221" y="3"/>
                  </a:lnTo>
                  <a:lnTo>
                    <a:pt x="233" y="0"/>
                  </a:lnTo>
                  <a:lnTo>
                    <a:pt x="238" y="0"/>
                  </a:lnTo>
                  <a:lnTo>
                    <a:pt x="240" y="0"/>
                  </a:lnTo>
                  <a:lnTo>
                    <a:pt x="243" y="2"/>
                  </a:lnTo>
                  <a:lnTo>
                    <a:pt x="244" y="3"/>
                  </a:lnTo>
                  <a:lnTo>
                    <a:pt x="244" y="4"/>
                  </a:lnTo>
                  <a:lnTo>
                    <a:pt x="243" y="6"/>
                  </a:lnTo>
                  <a:lnTo>
                    <a:pt x="239" y="9"/>
                  </a:lnTo>
                  <a:lnTo>
                    <a:pt x="236" y="11"/>
                  </a:lnTo>
                  <a:lnTo>
                    <a:pt x="225" y="17"/>
                  </a:lnTo>
                  <a:lnTo>
                    <a:pt x="210" y="26"/>
                  </a:lnTo>
                  <a:lnTo>
                    <a:pt x="194" y="33"/>
                  </a:lnTo>
                  <a:lnTo>
                    <a:pt x="173" y="42"/>
                  </a:lnTo>
                  <a:lnTo>
                    <a:pt x="150" y="51"/>
                  </a:lnTo>
                  <a:lnTo>
                    <a:pt x="125" y="60"/>
                  </a:lnTo>
                  <a:lnTo>
                    <a:pt x="101" y="69"/>
                  </a:lnTo>
                  <a:lnTo>
                    <a:pt x="78" y="76"/>
                  </a:lnTo>
                  <a:lnTo>
                    <a:pt x="57" y="82"/>
                  </a:lnTo>
                  <a:lnTo>
                    <a:pt x="39" y="87"/>
                  </a:lnTo>
                  <a:lnTo>
                    <a:pt x="23" y="90"/>
                  </a:lnTo>
                  <a:lnTo>
                    <a:pt x="11" y="92"/>
                  </a:lnTo>
                  <a:lnTo>
                    <a:pt x="6" y="92"/>
                  </a:lnTo>
                  <a:lnTo>
                    <a:pt x="4" y="92"/>
                  </a:lnTo>
                  <a:lnTo>
                    <a:pt x="2" y="92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4120" y="1671480"/>
              <a:ext cx="17280" cy="792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6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3" y="8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1" y="9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24120" y="1671480"/>
              <a:ext cx="17280" cy="792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6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3" y="8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1" y="9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06600" y="1414440"/>
              <a:ext cx="123840" cy="47520"/>
            </a:xfrm>
            <a:custGeom>
              <a:avLst/>
              <a:gdLst/>
              <a:ahLst/>
              <a:rect l="l" t="t" r="r" b="b"/>
              <a:pathLst>
                <a:path w="312" h="121">
                  <a:moveTo>
                    <a:pt x="0" y="116"/>
                  </a:moveTo>
                  <a:lnTo>
                    <a:pt x="0" y="114"/>
                  </a:lnTo>
                  <a:lnTo>
                    <a:pt x="2" y="110"/>
                  </a:lnTo>
                  <a:lnTo>
                    <a:pt x="5" y="108"/>
                  </a:lnTo>
                  <a:lnTo>
                    <a:pt x="10" y="103"/>
                  </a:lnTo>
                  <a:lnTo>
                    <a:pt x="23" y="95"/>
                  </a:lnTo>
                  <a:lnTo>
                    <a:pt x="42" y="84"/>
                  </a:lnTo>
                  <a:lnTo>
                    <a:pt x="64" y="73"/>
                  </a:lnTo>
                  <a:lnTo>
                    <a:pt x="90" y="61"/>
                  </a:lnTo>
                  <a:lnTo>
                    <a:pt x="119" y="50"/>
                  </a:lnTo>
                  <a:lnTo>
                    <a:pt x="150" y="38"/>
                  </a:lnTo>
                  <a:lnTo>
                    <a:pt x="182" y="27"/>
                  </a:lnTo>
                  <a:lnTo>
                    <a:pt x="211" y="18"/>
                  </a:lnTo>
                  <a:lnTo>
                    <a:pt x="239" y="11"/>
                  </a:lnTo>
                  <a:lnTo>
                    <a:pt x="263" y="5"/>
                  </a:lnTo>
                  <a:lnTo>
                    <a:pt x="282" y="1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8" y="1"/>
                  </a:lnTo>
                  <a:lnTo>
                    <a:pt x="311" y="2"/>
                  </a:lnTo>
                  <a:lnTo>
                    <a:pt x="312" y="5"/>
                  </a:lnTo>
                  <a:lnTo>
                    <a:pt x="312" y="7"/>
                  </a:lnTo>
                  <a:lnTo>
                    <a:pt x="311" y="9"/>
                  </a:lnTo>
                  <a:lnTo>
                    <a:pt x="307" y="13"/>
                  </a:lnTo>
                  <a:lnTo>
                    <a:pt x="302" y="17"/>
                  </a:lnTo>
                  <a:lnTo>
                    <a:pt x="289" y="26"/>
                  </a:lnTo>
                  <a:lnTo>
                    <a:pt x="270" y="36"/>
                  </a:lnTo>
                  <a:lnTo>
                    <a:pt x="248" y="48"/>
                  </a:lnTo>
                  <a:lnTo>
                    <a:pt x="222" y="59"/>
                  </a:lnTo>
                  <a:lnTo>
                    <a:pt x="193" y="71"/>
                  </a:lnTo>
                  <a:lnTo>
                    <a:pt x="162" y="83"/>
                  </a:lnTo>
                  <a:lnTo>
                    <a:pt x="131" y="93"/>
                  </a:lnTo>
                  <a:lnTo>
                    <a:pt x="101" y="103"/>
                  </a:lnTo>
                  <a:lnTo>
                    <a:pt x="73" y="110"/>
                  </a:lnTo>
                  <a:lnTo>
                    <a:pt x="49" y="115"/>
                  </a:lnTo>
                  <a:lnTo>
                    <a:pt x="30" y="119"/>
                  </a:lnTo>
                  <a:lnTo>
                    <a:pt x="14" y="121"/>
                  </a:lnTo>
                  <a:lnTo>
                    <a:pt x="8" y="121"/>
                  </a:lnTo>
                  <a:lnTo>
                    <a:pt x="4" y="120"/>
                  </a:lnTo>
                  <a:lnTo>
                    <a:pt x="1" y="119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4240" y="1419120"/>
              <a:ext cx="96840" cy="36720"/>
            </a:xfrm>
            <a:custGeom>
              <a:avLst/>
              <a:gdLst/>
              <a:ahLst/>
              <a:rect l="l" t="t" r="r" b="b"/>
              <a:pathLst>
                <a:path w="244" h="91">
                  <a:moveTo>
                    <a:pt x="0" y="88"/>
                  </a:moveTo>
                  <a:lnTo>
                    <a:pt x="0" y="87"/>
                  </a:lnTo>
                  <a:lnTo>
                    <a:pt x="2" y="85"/>
                  </a:lnTo>
                  <a:lnTo>
                    <a:pt x="5" y="82"/>
                  </a:lnTo>
                  <a:lnTo>
                    <a:pt x="9" y="80"/>
                  </a:lnTo>
                  <a:lnTo>
                    <a:pt x="20" y="74"/>
                  </a:lnTo>
                  <a:lnTo>
                    <a:pt x="34" y="67"/>
                  </a:lnTo>
                  <a:lnTo>
                    <a:pt x="51" y="58"/>
                  </a:lnTo>
                  <a:lnTo>
                    <a:pt x="71" y="50"/>
                  </a:lnTo>
                  <a:lnTo>
                    <a:pt x="94" y="40"/>
                  </a:lnTo>
                  <a:lnTo>
                    <a:pt x="119" y="31"/>
                  </a:lnTo>
                  <a:lnTo>
                    <a:pt x="143" y="22"/>
                  </a:lnTo>
                  <a:lnTo>
                    <a:pt x="166" y="15"/>
                  </a:lnTo>
                  <a:lnTo>
                    <a:pt x="188" y="9"/>
                  </a:lnTo>
                  <a:lnTo>
                    <a:pt x="206" y="4"/>
                  </a:lnTo>
                  <a:lnTo>
                    <a:pt x="221" y="1"/>
                  </a:lnTo>
                  <a:lnTo>
                    <a:pt x="233" y="0"/>
                  </a:lnTo>
                  <a:lnTo>
                    <a:pt x="238" y="0"/>
                  </a:lnTo>
                  <a:lnTo>
                    <a:pt x="240" y="0"/>
                  </a:lnTo>
                  <a:lnTo>
                    <a:pt x="243" y="1"/>
                  </a:lnTo>
                  <a:lnTo>
                    <a:pt x="244" y="2"/>
                  </a:lnTo>
                  <a:lnTo>
                    <a:pt x="244" y="3"/>
                  </a:lnTo>
                  <a:lnTo>
                    <a:pt x="242" y="6"/>
                  </a:lnTo>
                  <a:lnTo>
                    <a:pt x="239" y="8"/>
                  </a:lnTo>
                  <a:lnTo>
                    <a:pt x="236" y="10"/>
                  </a:lnTo>
                  <a:lnTo>
                    <a:pt x="225" y="16"/>
                  </a:lnTo>
                  <a:lnTo>
                    <a:pt x="210" y="24"/>
                  </a:lnTo>
                  <a:lnTo>
                    <a:pt x="194" y="32"/>
                  </a:lnTo>
                  <a:lnTo>
                    <a:pt x="173" y="40"/>
                  </a:lnTo>
                  <a:lnTo>
                    <a:pt x="150" y="50"/>
                  </a:lnTo>
                  <a:lnTo>
                    <a:pt x="125" y="60"/>
                  </a:lnTo>
                  <a:lnTo>
                    <a:pt x="101" y="68"/>
                  </a:lnTo>
                  <a:lnTo>
                    <a:pt x="78" y="75"/>
                  </a:lnTo>
                  <a:lnTo>
                    <a:pt x="57" y="81"/>
                  </a:lnTo>
                  <a:lnTo>
                    <a:pt x="39" y="86"/>
                  </a:lnTo>
                  <a:lnTo>
                    <a:pt x="23" y="90"/>
                  </a:lnTo>
                  <a:lnTo>
                    <a:pt x="11" y="91"/>
                  </a:lnTo>
                  <a:lnTo>
                    <a:pt x="6" y="91"/>
                  </a:lnTo>
                  <a:lnTo>
                    <a:pt x="4" y="91"/>
                  </a:lnTo>
                  <a:lnTo>
                    <a:pt x="2" y="9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41520" y="1441440"/>
              <a:ext cx="17640" cy="648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7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3" y="8"/>
                  </a:lnTo>
                  <a:lnTo>
                    <a:pt x="17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41520" y="1441440"/>
              <a:ext cx="17640" cy="648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7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3" y="8"/>
                  </a:lnTo>
                  <a:lnTo>
                    <a:pt x="17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25520" y="1771560"/>
              <a:ext cx="34920" cy="3960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0" y="5"/>
                  </a:moveTo>
                  <a:lnTo>
                    <a:pt x="20" y="2"/>
                  </a:lnTo>
                  <a:lnTo>
                    <a:pt x="35" y="0"/>
                  </a:lnTo>
                  <a:lnTo>
                    <a:pt x="48" y="2"/>
                  </a:lnTo>
                  <a:lnTo>
                    <a:pt x="59" y="3"/>
                  </a:lnTo>
                  <a:lnTo>
                    <a:pt x="68" y="5"/>
                  </a:lnTo>
                  <a:lnTo>
                    <a:pt x="74" y="9"/>
                  </a:lnTo>
                  <a:lnTo>
                    <a:pt x="80" y="12"/>
                  </a:lnTo>
                  <a:lnTo>
                    <a:pt x="84" y="17"/>
                  </a:lnTo>
                  <a:lnTo>
                    <a:pt x="88" y="21"/>
                  </a:lnTo>
                  <a:lnTo>
                    <a:pt x="89" y="26"/>
                  </a:lnTo>
                  <a:lnTo>
                    <a:pt x="88" y="32"/>
                  </a:lnTo>
                  <a:lnTo>
                    <a:pt x="84" y="39"/>
                  </a:lnTo>
                  <a:lnTo>
                    <a:pt x="80" y="46"/>
                  </a:lnTo>
                  <a:lnTo>
                    <a:pt x="74" y="53"/>
                  </a:lnTo>
                  <a:lnTo>
                    <a:pt x="65" y="61"/>
                  </a:lnTo>
                  <a:lnTo>
                    <a:pt x="54" y="70"/>
                  </a:lnTo>
                  <a:lnTo>
                    <a:pt x="50" y="73"/>
                  </a:lnTo>
                  <a:lnTo>
                    <a:pt x="45" y="77"/>
                  </a:lnTo>
                  <a:lnTo>
                    <a:pt x="40" y="81"/>
                  </a:lnTo>
                  <a:lnTo>
                    <a:pt x="35" y="84"/>
                  </a:lnTo>
                  <a:lnTo>
                    <a:pt x="30" y="89"/>
                  </a:lnTo>
                  <a:lnTo>
                    <a:pt x="26" y="93"/>
                  </a:lnTo>
                  <a:lnTo>
                    <a:pt x="20" y="96"/>
                  </a:lnTo>
                  <a:lnTo>
                    <a:pt x="14" y="100"/>
                  </a:lnTo>
                  <a:lnTo>
                    <a:pt x="11" y="88"/>
                  </a:lnTo>
                  <a:lnTo>
                    <a:pt x="10" y="76"/>
                  </a:lnTo>
                  <a:lnTo>
                    <a:pt x="8" y="64"/>
                  </a:lnTo>
                  <a:lnTo>
                    <a:pt x="6" y="53"/>
                  </a:lnTo>
                  <a:lnTo>
                    <a:pt x="4" y="41"/>
                  </a:lnTo>
                  <a:lnTo>
                    <a:pt x="3" y="29"/>
                  </a:lnTo>
                  <a:lnTo>
                    <a:pt x="2" y="1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86000" y="1585800"/>
              <a:ext cx="482400" cy="196920"/>
            </a:xfrm>
            <a:custGeom>
              <a:avLst/>
              <a:gdLst/>
              <a:ahLst/>
              <a:rect l="l" t="t" r="r" b="b"/>
              <a:pathLst>
                <a:path w="1218" h="496">
                  <a:moveTo>
                    <a:pt x="28" y="462"/>
                  </a:moveTo>
                  <a:lnTo>
                    <a:pt x="24" y="458"/>
                  </a:lnTo>
                  <a:lnTo>
                    <a:pt x="18" y="454"/>
                  </a:lnTo>
                  <a:lnTo>
                    <a:pt x="11" y="450"/>
                  </a:lnTo>
                  <a:lnTo>
                    <a:pt x="5" y="446"/>
                  </a:lnTo>
                  <a:lnTo>
                    <a:pt x="3" y="444"/>
                  </a:lnTo>
                  <a:lnTo>
                    <a:pt x="0" y="442"/>
                  </a:lnTo>
                  <a:lnTo>
                    <a:pt x="0" y="438"/>
                  </a:lnTo>
                  <a:lnTo>
                    <a:pt x="2" y="436"/>
                  </a:lnTo>
                  <a:lnTo>
                    <a:pt x="4" y="432"/>
                  </a:lnTo>
                  <a:lnTo>
                    <a:pt x="9" y="428"/>
                  </a:lnTo>
                  <a:lnTo>
                    <a:pt x="15" y="423"/>
                  </a:lnTo>
                  <a:lnTo>
                    <a:pt x="23" y="418"/>
                  </a:lnTo>
                  <a:lnTo>
                    <a:pt x="56" y="401"/>
                  </a:lnTo>
                  <a:lnTo>
                    <a:pt x="92" y="384"/>
                  </a:lnTo>
                  <a:lnTo>
                    <a:pt x="130" y="368"/>
                  </a:lnTo>
                  <a:lnTo>
                    <a:pt x="172" y="351"/>
                  </a:lnTo>
                  <a:lnTo>
                    <a:pt x="216" y="334"/>
                  </a:lnTo>
                  <a:lnTo>
                    <a:pt x="260" y="316"/>
                  </a:lnTo>
                  <a:lnTo>
                    <a:pt x="304" y="299"/>
                  </a:lnTo>
                  <a:lnTo>
                    <a:pt x="347" y="282"/>
                  </a:lnTo>
                  <a:lnTo>
                    <a:pt x="400" y="262"/>
                  </a:lnTo>
                  <a:lnTo>
                    <a:pt x="453" y="242"/>
                  </a:lnTo>
                  <a:lnTo>
                    <a:pt x="506" y="221"/>
                  </a:lnTo>
                  <a:lnTo>
                    <a:pt x="560" y="201"/>
                  </a:lnTo>
                  <a:lnTo>
                    <a:pt x="614" y="182"/>
                  </a:lnTo>
                  <a:lnTo>
                    <a:pt x="668" y="161"/>
                  </a:lnTo>
                  <a:lnTo>
                    <a:pt x="720" y="142"/>
                  </a:lnTo>
                  <a:lnTo>
                    <a:pt x="774" y="122"/>
                  </a:lnTo>
                  <a:lnTo>
                    <a:pt x="818" y="107"/>
                  </a:lnTo>
                  <a:lnTo>
                    <a:pt x="861" y="90"/>
                  </a:lnTo>
                  <a:lnTo>
                    <a:pt x="904" y="75"/>
                  </a:lnTo>
                  <a:lnTo>
                    <a:pt x="947" y="59"/>
                  </a:lnTo>
                  <a:lnTo>
                    <a:pt x="990" y="45"/>
                  </a:lnTo>
                  <a:lnTo>
                    <a:pt x="1032" y="30"/>
                  </a:lnTo>
                  <a:lnTo>
                    <a:pt x="1072" y="18"/>
                  </a:lnTo>
                  <a:lnTo>
                    <a:pt x="1110" y="9"/>
                  </a:lnTo>
                  <a:lnTo>
                    <a:pt x="1134" y="4"/>
                  </a:lnTo>
                  <a:lnTo>
                    <a:pt x="1155" y="2"/>
                  </a:lnTo>
                  <a:lnTo>
                    <a:pt x="1170" y="0"/>
                  </a:lnTo>
                  <a:lnTo>
                    <a:pt x="1184" y="2"/>
                  </a:lnTo>
                  <a:lnTo>
                    <a:pt x="1193" y="5"/>
                  </a:lnTo>
                  <a:lnTo>
                    <a:pt x="1202" y="9"/>
                  </a:lnTo>
                  <a:lnTo>
                    <a:pt x="1208" y="12"/>
                  </a:lnTo>
                  <a:lnTo>
                    <a:pt x="1214" y="17"/>
                  </a:lnTo>
                  <a:lnTo>
                    <a:pt x="1217" y="21"/>
                  </a:lnTo>
                  <a:lnTo>
                    <a:pt x="1218" y="26"/>
                  </a:lnTo>
                  <a:lnTo>
                    <a:pt x="1217" y="32"/>
                  </a:lnTo>
                  <a:lnTo>
                    <a:pt x="1214" y="39"/>
                  </a:lnTo>
                  <a:lnTo>
                    <a:pt x="1209" y="46"/>
                  </a:lnTo>
                  <a:lnTo>
                    <a:pt x="1202" y="53"/>
                  </a:lnTo>
                  <a:lnTo>
                    <a:pt x="1193" y="62"/>
                  </a:lnTo>
                  <a:lnTo>
                    <a:pt x="1184" y="70"/>
                  </a:lnTo>
                  <a:lnTo>
                    <a:pt x="1170" y="81"/>
                  </a:lnTo>
                  <a:lnTo>
                    <a:pt x="1156" y="90"/>
                  </a:lnTo>
                  <a:lnTo>
                    <a:pt x="1140" y="102"/>
                  </a:lnTo>
                  <a:lnTo>
                    <a:pt x="1124" y="113"/>
                  </a:lnTo>
                  <a:lnTo>
                    <a:pt x="1104" y="125"/>
                  </a:lnTo>
                  <a:lnTo>
                    <a:pt x="1083" y="137"/>
                  </a:lnTo>
                  <a:lnTo>
                    <a:pt x="1060" y="149"/>
                  </a:lnTo>
                  <a:lnTo>
                    <a:pt x="1035" y="161"/>
                  </a:lnTo>
                  <a:lnTo>
                    <a:pt x="1001" y="176"/>
                  </a:lnTo>
                  <a:lnTo>
                    <a:pt x="966" y="191"/>
                  </a:lnTo>
                  <a:lnTo>
                    <a:pt x="930" y="206"/>
                  </a:lnTo>
                  <a:lnTo>
                    <a:pt x="893" y="221"/>
                  </a:lnTo>
                  <a:lnTo>
                    <a:pt x="855" y="236"/>
                  </a:lnTo>
                  <a:lnTo>
                    <a:pt x="818" y="250"/>
                  </a:lnTo>
                  <a:lnTo>
                    <a:pt x="779" y="264"/>
                  </a:lnTo>
                  <a:lnTo>
                    <a:pt x="742" y="279"/>
                  </a:lnTo>
                  <a:lnTo>
                    <a:pt x="702" y="293"/>
                  </a:lnTo>
                  <a:lnTo>
                    <a:pt x="664" y="309"/>
                  </a:lnTo>
                  <a:lnTo>
                    <a:pt x="624" y="323"/>
                  </a:lnTo>
                  <a:lnTo>
                    <a:pt x="585" y="338"/>
                  </a:lnTo>
                  <a:lnTo>
                    <a:pt x="545" y="352"/>
                  </a:lnTo>
                  <a:lnTo>
                    <a:pt x="507" y="366"/>
                  </a:lnTo>
                  <a:lnTo>
                    <a:pt x="467" y="381"/>
                  </a:lnTo>
                  <a:lnTo>
                    <a:pt x="428" y="394"/>
                  </a:lnTo>
                  <a:lnTo>
                    <a:pt x="393" y="406"/>
                  </a:lnTo>
                  <a:lnTo>
                    <a:pt x="359" y="418"/>
                  </a:lnTo>
                  <a:lnTo>
                    <a:pt x="324" y="429"/>
                  </a:lnTo>
                  <a:lnTo>
                    <a:pt x="290" y="441"/>
                  </a:lnTo>
                  <a:lnTo>
                    <a:pt x="256" y="452"/>
                  </a:lnTo>
                  <a:lnTo>
                    <a:pt x="222" y="462"/>
                  </a:lnTo>
                  <a:lnTo>
                    <a:pt x="189" y="472"/>
                  </a:lnTo>
                  <a:lnTo>
                    <a:pt x="158" y="480"/>
                  </a:lnTo>
                  <a:lnTo>
                    <a:pt x="138" y="485"/>
                  </a:lnTo>
                  <a:lnTo>
                    <a:pt x="122" y="489"/>
                  </a:lnTo>
                  <a:lnTo>
                    <a:pt x="105" y="491"/>
                  </a:lnTo>
                  <a:lnTo>
                    <a:pt x="90" y="494"/>
                  </a:lnTo>
                  <a:lnTo>
                    <a:pt x="77" y="495"/>
                  </a:lnTo>
                  <a:lnTo>
                    <a:pt x="65" y="496"/>
                  </a:lnTo>
                  <a:lnTo>
                    <a:pt x="54" y="496"/>
                  </a:lnTo>
                  <a:lnTo>
                    <a:pt x="46" y="495"/>
                  </a:lnTo>
                  <a:lnTo>
                    <a:pt x="39" y="494"/>
                  </a:lnTo>
                  <a:lnTo>
                    <a:pt x="33" y="490"/>
                  </a:lnTo>
                  <a:lnTo>
                    <a:pt x="30" y="486"/>
                  </a:lnTo>
                  <a:lnTo>
                    <a:pt x="29" y="482"/>
                  </a:lnTo>
                  <a:lnTo>
                    <a:pt x="29" y="477"/>
                  </a:lnTo>
                  <a:lnTo>
                    <a:pt x="29" y="472"/>
                  </a:lnTo>
                  <a:lnTo>
                    <a:pt x="29" y="467"/>
                  </a:lnTo>
                  <a:lnTo>
                    <a:pt x="28" y="462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92160" y="1400040"/>
              <a:ext cx="484200" cy="196920"/>
            </a:xfrm>
            <a:custGeom>
              <a:avLst/>
              <a:gdLst/>
              <a:ahLst/>
              <a:rect l="l" t="t" r="r" b="b"/>
              <a:pathLst>
                <a:path w="1216" h="495">
                  <a:moveTo>
                    <a:pt x="27" y="461"/>
                  </a:moveTo>
                  <a:lnTo>
                    <a:pt x="24" y="457"/>
                  </a:lnTo>
                  <a:lnTo>
                    <a:pt x="18" y="453"/>
                  </a:lnTo>
                  <a:lnTo>
                    <a:pt x="10" y="449"/>
                  </a:lnTo>
                  <a:lnTo>
                    <a:pt x="3" y="445"/>
                  </a:lnTo>
                  <a:lnTo>
                    <a:pt x="1" y="443"/>
                  </a:lnTo>
                  <a:lnTo>
                    <a:pt x="0" y="441"/>
                  </a:lnTo>
                  <a:lnTo>
                    <a:pt x="0" y="437"/>
                  </a:lnTo>
                  <a:lnTo>
                    <a:pt x="1" y="435"/>
                  </a:lnTo>
                  <a:lnTo>
                    <a:pt x="3" y="431"/>
                  </a:lnTo>
                  <a:lnTo>
                    <a:pt x="8" y="427"/>
                  </a:lnTo>
                  <a:lnTo>
                    <a:pt x="14" y="422"/>
                  </a:lnTo>
                  <a:lnTo>
                    <a:pt x="22" y="417"/>
                  </a:lnTo>
                  <a:lnTo>
                    <a:pt x="54" y="400"/>
                  </a:lnTo>
                  <a:lnTo>
                    <a:pt x="90" y="383"/>
                  </a:lnTo>
                  <a:lnTo>
                    <a:pt x="129" y="367"/>
                  </a:lnTo>
                  <a:lnTo>
                    <a:pt x="171" y="350"/>
                  </a:lnTo>
                  <a:lnTo>
                    <a:pt x="214" y="333"/>
                  </a:lnTo>
                  <a:lnTo>
                    <a:pt x="259" y="315"/>
                  </a:lnTo>
                  <a:lnTo>
                    <a:pt x="303" y="298"/>
                  </a:lnTo>
                  <a:lnTo>
                    <a:pt x="345" y="281"/>
                  </a:lnTo>
                  <a:lnTo>
                    <a:pt x="398" y="261"/>
                  </a:lnTo>
                  <a:lnTo>
                    <a:pt x="452" y="241"/>
                  </a:lnTo>
                  <a:lnTo>
                    <a:pt x="505" y="220"/>
                  </a:lnTo>
                  <a:lnTo>
                    <a:pt x="559" y="200"/>
                  </a:lnTo>
                  <a:lnTo>
                    <a:pt x="612" y="181"/>
                  </a:lnTo>
                  <a:lnTo>
                    <a:pt x="666" y="160"/>
                  </a:lnTo>
                  <a:lnTo>
                    <a:pt x="720" y="141"/>
                  </a:lnTo>
                  <a:lnTo>
                    <a:pt x="774" y="121"/>
                  </a:lnTo>
                  <a:lnTo>
                    <a:pt x="817" y="106"/>
                  </a:lnTo>
                  <a:lnTo>
                    <a:pt x="860" y="90"/>
                  </a:lnTo>
                  <a:lnTo>
                    <a:pt x="903" y="74"/>
                  </a:lnTo>
                  <a:lnTo>
                    <a:pt x="946" y="58"/>
                  </a:lnTo>
                  <a:lnTo>
                    <a:pt x="990" y="44"/>
                  </a:lnTo>
                  <a:lnTo>
                    <a:pt x="1030" y="30"/>
                  </a:lnTo>
                  <a:lnTo>
                    <a:pt x="1071" y="18"/>
                  </a:lnTo>
                  <a:lnTo>
                    <a:pt x="1108" y="8"/>
                  </a:lnTo>
                  <a:lnTo>
                    <a:pt x="1134" y="3"/>
                  </a:lnTo>
                  <a:lnTo>
                    <a:pt x="1154" y="1"/>
                  </a:lnTo>
                  <a:lnTo>
                    <a:pt x="1170" y="0"/>
                  </a:lnTo>
                  <a:lnTo>
                    <a:pt x="1183" y="1"/>
                  </a:lnTo>
                  <a:lnTo>
                    <a:pt x="1192" y="4"/>
                  </a:lnTo>
                  <a:lnTo>
                    <a:pt x="1201" y="8"/>
                  </a:lnTo>
                  <a:lnTo>
                    <a:pt x="1207" y="12"/>
                  </a:lnTo>
                  <a:lnTo>
                    <a:pt x="1213" y="16"/>
                  </a:lnTo>
                  <a:lnTo>
                    <a:pt x="1216" y="20"/>
                  </a:lnTo>
                  <a:lnTo>
                    <a:pt x="1216" y="25"/>
                  </a:lnTo>
                  <a:lnTo>
                    <a:pt x="1216" y="31"/>
                  </a:lnTo>
                  <a:lnTo>
                    <a:pt x="1213" y="38"/>
                  </a:lnTo>
                  <a:lnTo>
                    <a:pt x="1208" y="45"/>
                  </a:lnTo>
                  <a:lnTo>
                    <a:pt x="1201" y="52"/>
                  </a:lnTo>
                  <a:lnTo>
                    <a:pt x="1192" y="61"/>
                  </a:lnTo>
                  <a:lnTo>
                    <a:pt x="1183" y="69"/>
                  </a:lnTo>
                  <a:lnTo>
                    <a:pt x="1170" y="80"/>
                  </a:lnTo>
                  <a:lnTo>
                    <a:pt x="1155" y="90"/>
                  </a:lnTo>
                  <a:lnTo>
                    <a:pt x="1140" y="102"/>
                  </a:lnTo>
                  <a:lnTo>
                    <a:pt x="1122" y="112"/>
                  </a:lnTo>
                  <a:lnTo>
                    <a:pt x="1102" y="124"/>
                  </a:lnTo>
                  <a:lnTo>
                    <a:pt x="1082" y="136"/>
                  </a:lnTo>
                  <a:lnTo>
                    <a:pt x="1059" y="148"/>
                  </a:lnTo>
                  <a:lnTo>
                    <a:pt x="1034" y="160"/>
                  </a:lnTo>
                  <a:lnTo>
                    <a:pt x="1000" y="175"/>
                  </a:lnTo>
                  <a:lnTo>
                    <a:pt x="966" y="190"/>
                  </a:lnTo>
                  <a:lnTo>
                    <a:pt x="930" y="205"/>
                  </a:lnTo>
                  <a:lnTo>
                    <a:pt x="892" y="220"/>
                  </a:lnTo>
                  <a:lnTo>
                    <a:pt x="854" y="235"/>
                  </a:lnTo>
                  <a:lnTo>
                    <a:pt x="816" y="249"/>
                  </a:lnTo>
                  <a:lnTo>
                    <a:pt x="778" y="263"/>
                  </a:lnTo>
                  <a:lnTo>
                    <a:pt x="740" y="278"/>
                  </a:lnTo>
                  <a:lnTo>
                    <a:pt x="702" y="292"/>
                  </a:lnTo>
                  <a:lnTo>
                    <a:pt x="662" y="308"/>
                  </a:lnTo>
                  <a:lnTo>
                    <a:pt x="624" y="322"/>
                  </a:lnTo>
                  <a:lnTo>
                    <a:pt x="584" y="337"/>
                  </a:lnTo>
                  <a:lnTo>
                    <a:pt x="544" y="351"/>
                  </a:lnTo>
                  <a:lnTo>
                    <a:pt x="505" y="365"/>
                  </a:lnTo>
                  <a:lnTo>
                    <a:pt x="466" y="380"/>
                  </a:lnTo>
                  <a:lnTo>
                    <a:pt x="427" y="393"/>
                  </a:lnTo>
                  <a:lnTo>
                    <a:pt x="392" y="405"/>
                  </a:lnTo>
                  <a:lnTo>
                    <a:pt x="357" y="417"/>
                  </a:lnTo>
                  <a:lnTo>
                    <a:pt x="322" y="428"/>
                  </a:lnTo>
                  <a:lnTo>
                    <a:pt x="289" y="440"/>
                  </a:lnTo>
                  <a:lnTo>
                    <a:pt x="254" y="451"/>
                  </a:lnTo>
                  <a:lnTo>
                    <a:pt x="220" y="461"/>
                  </a:lnTo>
                  <a:lnTo>
                    <a:pt x="188" y="471"/>
                  </a:lnTo>
                  <a:lnTo>
                    <a:pt x="156" y="479"/>
                  </a:lnTo>
                  <a:lnTo>
                    <a:pt x="138" y="484"/>
                  </a:lnTo>
                  <a:lnTo>
                    <a:pt x="121" y="488"/>
                  </a:lnTo>
                  <a:lnTo>
                    <a:pt x="104" y="490"/>
                  </a:lnTo>
                  <a:lnTo>
                    <a:pt x="90" y="493"/>
                  </a:lnTo>
                  <a:lnTo>
                    <a:pt x="75" y="494"/>
                  </a:lnTo>
                  <a:lnTo>
                    <a:pt x="64" y="495"/>
                  </a:lnTo>
                  <a:lnTo>
                    <a:pt x="54" y="495"/>
                  </a:lnTo>
                  <a:lnTo>
                    <a:pt x="45" y="494"/>
                  </a:lnTo>
                  <a:lnTo>
                    <a:pt x="37" y="493"/>
                  </a:lnTo>
                  <a:lnTo>
                    <a:pt x="32" y="489"/>
                  </a:lnTo>
                  <a:lnTo>
                    <a:pt x="30" y="485"/>
                  </a:lnTo>
                  <a:lnTo>
                    <a:pt x="28" y="481"/>
                  </a:lnTo>
                  <a:lnTo>
                    <a:pt x="27" y="476"/>
                  </a:lnTo>
                  <a:lnTo>
                    <a:pt x="27" y="471"/>
                  </a:lnTo>
                  <a:lnTo>
                    <a:pt x="27" y="466"/>
                  </a:lnTo>
                  <a:lnTo>
                    <a:pt x="27" y="461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00480" y="1214280"/>
              <a:ext cx="482400" cy="196920"/>
            </a:xfrm>
            <a:custGeom>
              <a:avLst/>
              <a:gdLst/>
              <a:ahLst/>
              <a:rect l="l" t="t" r="r" b="b"/>
              <a:pathLst>
                <a:path w="1217" h="495">
                  <a:moveTo>
                    <a:pt x="27" y="462"/>
                  </a:moveTo>
                  <a:lnTo>
                    <a:pt x="24" y="457"/>
                  </a:lnTo>
                  <a:lnTo>
                    <a:pt x="17" y="453"/>
                  </a:lnTo>
                  <a:lnTo>
                    <a:pt x="9" y="450"/>
                  </a:lnTo>
                  <a:lnTo>
                    <a:pt x="3" y="445"/>
                  </a:lnTo>
                  <a:lnTo>
                    <a:pt x="1" y="444"/>
                  </a:lnTo>
                  <a:lnTo>
                    <a:pt x="0" y="441"/>
                  </a:lnTo>
                  <a:lnTo>
                    <a:pt x="0" y="438"/>
                  </a:lnTo>
                  <a:lnTo>
                    <a:pt x="1" y="435"/>
                  </a:lnTo>
                  <a:lnTo>
                    <a:pt x="3" y="432"/>
                  </a:lnTo>
                  <a:lnTo>
                    <a:pt x="7" y="427"/>
                  </a:lnTo>
                  <a:lnTo>
                    <a:pt x="14" y="422"/>
                  </a:lnTo>
                  <a:lnTo>
                    <a:pt x="23" y="417"/>
                  </a:lnTo>
                  <a:lnTo>
                    <a:pt x="54" y="400"/>
                  </a:lnTo>
                  <a:lnTo>
                    <a:pt x="90" y="384"/>
                  </a:lnTo>
                  <a:lnTo>
                    <a:pt x="129" y="367"/>
                  </a:lnTo>
                  <a:lnTo>
                    <a:pt x="171" y="350"/>
                  </a:lnTo>
                  <a:lnTo>
                    <a:pt x="215" y="333"/>
                  </a:lnTo>
                  <a:lnTo>
                    <a:pt x="259" y="315"/>
                  </a:lnTo>
                  <a:lnTo>
                    <a:pt x="303" y="298"/>
                  </a:lnTo>
                  <a:lnTo>
                    <a:pt x="345" y="282"/>
                  </a:lnTo>
                  <a:lnTo>
                    <a:pt x="398" y="261"/>
                  </a:lnTo>
                  <a:lnTo>
                    <a:pt x="451" y="241"/>
                  </a:lnTo>
                  <a:lnTo>
                    <a:pt x="505" y="220"/>
                  </a:lnTo>
                  <a:lnTo>
                    <a:pt x="559" y="200"/>
                  </a:lnTo>
                  <a:lnTo>
                    <a:pt x="612" y="181"/>
                  </a:lnTo>
                  <a:lnTo>
                    <a:pt x="666" y="160"/>
                  </a:lnTo>
                  <a:lnTo>
                    <a:pt x="720" y="141"/>
                  </a:lnTo>
                  <a:lnTo>
                    <a:pt x="774" y="122"/>
                  </a:lnTo>
                  <a:lnTo>
                    <a:pt x="816" y="106"/>
                  </a:lnTo>
                  <a:lnTo>
                    <a:pt x="859" y="90"/>
                  </a:lnTo>
                  <a:lnTo>
                    <a:pt x="903" y="74"/>
                  </a:lnTo>
                  <a:lnTo>
                    <a:pt x="947" y="58"/>
                  </a:lnTo>
                  <a:lnTo>
                    <a:pt x="990" y="44"/>
                  </a:lnTo>
                  <a:lnTo>
                    <a:pt x="1031" y="30"/>
                  </a:lnTo>
                  <a:lnTo>
                    <a:pt x="1071" y="18"/>
                  </a:lnTo>
                  <a:lnTo>
                    <a:pt x="1109" y="8"/>
                  </a:lnTo>
                  <a:lnTo>
                    <a:pt x="1134" y="3"/>
                  </a:lnTo>
                  <a:lnTo>
                    <a:pt x="1153" y="1"/>
                  </a:lnTo>
                  <a:lnTo>
                    <a:pt x="1170" y="0"/>
                  </a:lnTo>
                  <a:lnTo>
                    <a:pt x="1183" y="1"/>
                  </a:lnTo>
                  <a:lnTo>
                    <a:pt x="1193" y="4"/>
                  </a:lnTo>
                  <a:lnTo>
                    <a:pt x="1201" y="8"/>
                  </a:lnTo>
                  <a:lnTo>
                    <a:pt x="1207" y="12"/>
                  </a:lnTo>
                  <a:lnTo>
                    <a:pt x="1212" y="16"/>
                  </a:lnTo>
                  <a:lnTo>
                    <a:pt x="1215" y="20"/>
                  </a:lnTo>
                  <a:lnTo>
                    <a:pt x="1217" y="25"/>
                  </a:lnTo>
                  <a:lnTo>
                    <a:pt x="1215" y="31"/>
                  </a:lnTo>
                  <a:lnTo>
                    <a:pt x="1213" y="38"/>
                  </a:lnTo>
                  <a:lnTo>
                    <a:pt x="1208" y="45"/>
                  </a:lnTo>
                  <a:lnTo>
                    <a:pt x="1201" y="52"/>
                  </a:lnTo>
                  <a:lnTo>
                    <a:pt x="1193" y="61"/>
                  </a:lnTo>
                  <a:lnTo>
                    <a:pt x="1182" y="69"/>
                  </a:lnTo>
                  <a:lnTo>
                    <a:pt x="1170" y="80"/>
                  </a:lnTo>
                  <a:lnTo>
                    <a:pt x="1155" y="90"/>
                  </a:lnTo>
                  <a:lnTo>
                    <a:pt x="1140" y="102"/>
                  </a:lnTo>
                  <a:lnTo>
                    <a:pt x="1122" y="112"/>
                  </a:lnTo>
                  <a:lnTo>
                    <a:pt x="1103" y="124"/>
                  </a:lnTo>
                  <a:lnTo>
                    <a:pt x="1082" y="136"/>
                  </a:lnTo>
                  <a:lnTo>
                    <a:pt x="1058" y="148"/>
                  </a:lnTo>
                  <a:lnTo>
                    <a:pt x="1033" y="160"/>
                  </a:lnTo>
                  <a:lnTo>
                    <a:pt x="1001" y="175"/>
                  </a:lnTo>
                  <a:lnTo>
                    <a:pt x="966" y="190"/>
                  </a:lnTo>
                  <a:lnTo>
                    <a:pt x="930" y="205"/>
                  </a:lnTo>
                  <a:lnTo>
                    <a:pt x="893" y="220"/>
                  </a:lnTo>
                  <a:lnTo>
                    <a:pt x="854" y="235"/>
                  </a:lnTo>
                  <a:lnTo>
                    <a:pt x="816" y="249"/>
                  </a:lnTo>
                  <a:lnTo>
                    <a:pt x="779" y="264"/>
                  </a:lnTo>
                  <a:lnTo>
                    <a:pt x="740" y="278"/>
                  </a:lnTo>
                  <a:lnTo>
                    <a:pt x="702" y="292"/>
                  </a:lnTo>
                  <a:lnTo>
                    <a:pt x="662" y="308"/>
                  </a:lnTo>
                  <a:lnTo>
                    <a:pt x="624" y="322"/>
                  </a:lnTo>
                  <a:lnTo>
                    <a:pt x="584" y="337"/>
                  </a:lnTo>
                  <a:lnTo>
                    <a:pt x="545" y="351"/>
                  </a:lnTo>
                  <a:lnTo>
                    <a:pt x="505" y="366"/>
                  </a:lnTo>
                  <a:lnTo>
                    <a:pt x="465" y="380"/>
                  </a:lnTo>
                  <a:lnTo>
                    <a:pt x="427" y="393"/>
                  </a:lnTo>
                  <a:lnTo>
                    <a:pt x="392" y="405"/>
                  </a:lnTo>
                  <a:lnTo>
                    <a:pt x="357" y="417"/>
                  </a:lnTo>
                  <a:lnTo>
                    <a:pt x="323" y="428"/>
                  </a:lnTo>
                  <a:lnTo>
                    <a:pt x="289" y="440"/>
                  </a:lnTo>
                  <a:lnTo>
                    <a:pt x="254" y="451"/>
                  </a:lnTo>
                  <a:lnTo>
                    <a:pt x="221" y="462"/>
                  </a:lnTo>
                  <a:lnTo>
                    <a:pt x="188" y="471"/>
                  </a:lnTo>
                  <a:lnTo>
                    <a:pt x="156" y="480"/>
                  </a:lnTo>
                  <a:lnTo>
                    <a:pt x="138" y="484"/>
                  </a:lnTo>
                  <a:lnTo>
                    <a:pt x="120" y="488"/>
                  </a:lnTo>
                  <a:lnTo>
                    <a:pt x="104" y="490"/>
                  </a:lnTo>
                  <a:lnTo>
                    <a:pt x="89" y="493"/>
                  </a:lnTo>
                  <a:lnTo>
                    <a:pt x="75" y="494"/>
                  </a:lnTo>
                  <a:lnTo>
                    <a:pt x="63" y="495"/>
                  </a:lnTo>
                  <a:lnTo>
                    <a:pt x="54" y="495"/>
                  </a:lnTo>
                  <a:lnTo>
                    <a:pt x="45" y="494"/>
                  </a:lnTo>
                  <a:lnTo>
                    <a:pt x="37" y="493"/>
                  </a:lnTo>
                  <a:lnTo>
                    <a:pt x="32" y="489"/>
                  </a:lnTo>
                  <a:lnTo>
                    <a:pt x="30" y="486"/>
                  </a:lnTo>
                  <a:lnTo>
                    <a:pt x="27" y="481"/>
                  </a:lnTo>
                  <a:lnTo>
                    <a:pt x="27" y="476"/>
                  </a:lnTo>
                  <a:lnTo>
                    <a:pt x="27" y="471"/>
                  </a:lnTo>
                  <a:lnTo>
                    <a:pt x="27" y="466"/>
                  </a:lnTo>
                  <a:lnTo>
                    <a:pt x="27" y="462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08440" y="1081080"/>
              <a:ext cx="336240" cy="144360"/>
            </a:xfrm>
            <a:custGeom>
              <a:avLst/>
              <a:gdLst/>
              <a:ahLst/>
              <a:rect l="l" t="t" r="r" b="b"/>
              <a:pathLst>
                <a:path w="851" h="362">
                  <a:moveTo>
                    <a:pt x="27" y="329"/>
                  </a:moveTo>
                  <a:lnTo>
                    <a:pt x="24" y="324"/>
                  </a:lnTo>
                  <a:lnTo>
                    <a:pt x="18" y="320"/>
                  </a:lnTo>
                  <a:lnTo>
                    <a:pt x="11" y="317"/>
                  </a:lnTo>
                  <a:lnTo>
                    <a:pt x="5" y="312"/>
                  </a:lnTo>
                  <a:lnTo>
                    <a:pt x="2" y="311"/>
                  </a:lnTo>
                  <a:lnTo>
                    <a:pt x="1" y="308"/>
                  </a:lnTo>
                  <a:lnTo>
                    <a:pt x="0" y="305"/>
                  </a:lnTo>
                  <a:lnTo>
                    <a:pt x="1" y="302"/>
                  </a:lnTo>
                  <a:lnTo>
                    <a:pt x="3" y="299"/>
                  </a:lnTo>
                  <a:lnTo>
                    <a:pt x="8" y="294"/>
                  </a:lnTo>
                  <a:lnTo>
                    <a:pt x="14" y="289"/>
                  </a:lnTo>
                  <a:lnTo>
                    <a:pt x="24" y="284"/>
                  </a:lnTo>
                  <a:lnTo>
                    <a:pt x="55" y="268"/>
                  </a:lnTo>
                  <a:lnTo>
                    <a:pt x="91" y="251"/>
                  </a:lnTo>
                  <a:lnTo>
                    <a:pt x="131" y="234"/>
                  </a:lnTo>
                  <a:lnTo>
                    <a:pt x="173" y="217"/>
                  </a:lnTo>
                  <a:lnTo>
                    <a:pt x="216" y="200"/>
                  </a:lnTo>
                  <a:lnTo>
                    <a:pt x="260" y="182"/>
                  </a:lnTo>
                  <a:lnTo>
                    <a:pt x="303" y="166"/>
                  </a:lnTo>
                  <a:lnTo>
                    <a:pt x="347" y="149"/>
                  </a:lnTo>
                  <a:lnTo>
                    <a:pt x="396" y="131"/>
                  </a:lnTo>
                  <a:lnTo>
                    <a:pt x="444" y="112"/>
                  </a:lnTo>
                  <a:lnTo>
                    <a:pt x="493" y="92"/>
                  </a:lnTo>
                  <a:lnTo>
                    <a:pt x="543" y="73"/>
                  </a:lnTo>
                  <a:lnTo>
                    <a:pt x="593" y="55"/>
                  </a:lnTo>
                  <a:lnTo>
                    <a:pt x="642" y="37"/>
                  </a:lnTo>
                  <a:lnTo>
                    <a:pt x="692" y="19"/>
                  </a:lnTo>
                  <a:lnTo>
                    <a:pt x="741" y="0"/>
                  </a:lnTo>
                  <a:lnTo>
                    <a:pt x="756" y="13"/>
                  </a:lnTo>
                  <a:lnTo>
                    <a:pt x="770" y="25"/>
                  </a:lnTo>
                  <a:lnTo>
                    <a:pt x="785" y="38"/>
                  </a:lnTo>
                  <a:lnTo>
                    <a:pt x="798" y="50"/>
                  </a:lnTo>
                  <a:lnTo>
                    <a:pt x="811" y="64"/>
                  </a:lnTo>
                  <a:lnTo>
                    <a:pt x="825" y="77"/>
                  </a:lnTo>
                  <a:lnTo>
                    <a:pt x="839" y="90"/>
                  </a:lnTo>
                  <a:lnTo>
                    <a:pt x="851" y="103"/>
                  </a:lnTo>
                  <a:lnTo>
                    <a:pt x="837" y="108"/>
                  </a:lnTo>
                  <a:lnTo>
                    <a:pt x="823" y="114"/>
                  </a:lnTo>
                  <a:lnTo>
                    <a:pt x="810" y="119"/>
                  </a:lnTo>
                  <a:lnTo>
                    <a:pt x="795" y="125"/>
                  </a:lnTo>
                  <a:lnTo>
                    <a:pt x="782" y="130"/>
                  </a:lnTo>
                  <a:lnTo>
                    <a:pt x="769" y="134"/>
                  </a:lnTo>
                  <a:lnTo>
                    <a:pt x="755" y="140"/>
                  </a:lnTo>
                  <a:lnTo>
                    <a:pt x="741" y="145"/>
                  </a:lnTo>
                  <a:lnTo>
                    <a:pt x="703" y="160"/>
                  </a:lnTo>
                  <a:lnTo>
                    <a:pt x="663" y="175"/>
                  </a:lnTo>
                  <a:lnTo>
                    <a:pt x="624" y="190"/>
                  </a:lnTo>
                  <a:lnTo>
                    <a:pt x="585" y="204"/>
                  </a:lnTo>
                  <a:lnTo>
                    <a:pt x="546" y="218"/>
                  </a:lnTo>
                  <a:lnTo>
                    <a:pt x="506" y="233"/>
                  </a:lnTo>
                  <a:lnTo>
                    <a:pt x="467" y="247"/>
                  </a:lnTo>
                  <a:lnTo>
                    <a:pt x="427" y="260"/>
                  </a:lnTo>
                  <a:lnTo>
                    <a:pt x="393" y="272"/>
                  </a:lnTo>
                  <a:lnTo>
                    <a:pt x="359" y="284"/>
                  </a:lnTo>
                  <a:lnTo>
                    <a:pt x="324" y="295"/>
                  </a:lnTo>
                  <a:lnTo>
                    <a:pt x="289" y="307"/>
                  </a:lnTo>
                  <a:lnTo>
                    <a:pt x="255" y="318"/>
                  </a:lnTo>
                  <a:lnTo>
                    <a:pt x="222" y="329"/>
                  </a:lnTo>
                  <a:lnTo>
                    <a:pt x="189" y="338"/>
                  </a:lnTo>
                  <a:lnTo>
                    <a:pt x="157" y="347"/>
                  </a:lnTo>
                  <a:lnTo>
                    <a:pt x="139" y="351"/>
                  </a:lnTo>
                  <a:lnTo>
                    <a:pt x="121" y="355"/>
                  </a:lnTo>
                  <a:lnTo>
                    <a:pt x="105" y="357"/>
                  </a:lnTo>
                  <a:lnTo>
                    <a:pt x="90" y="360"/>
                  </a:lnTo>
                  <a:lnTo>
                    <a:pt x="77" y="361"/>
                  </a:lnTo>
                  <a:lnTo>
                    <a:pt x="65" y="362"/>
                  </a:lnTo>
                  <a:lnTo>
                    <a:pt x="55" y="362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3" y="356"/>
                  </a:lnTo>
                  <a:lnTo>
                    <a:pt x="30" y="353"/>
                  </a:lnTo>
                  <a:lnTo>
                    <a:pt x="29" y="348"/>
                  </a:lnTo>
                  <a:lnTo>
                    <a:pt x="29" y="343"/>
                  </a:lnTo>
                  <a:lnTo>
                    <a:pt x="29" y="338"/>
                  </a:lnTo>
                  <a:lnTo>
                    <a:pt x="29" y="333"/>
                  </a:lnTo>
                  <a:lnTo>
                    <a:pt x="27" y="329"/>
                  </a:lnTo>
                  <a:close/>
                </a:path>
              </a:pathLst>
            </a:custGeom>
            <a:solidFill>
              <a:srgbClr val="fd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16120" y="1287360"/>
              <a:ext cx="98640" cy="41400"/>
            </a:xfrm>
            <a:custGeom>
              <a:avLst/>
              <a:gdLst/>
              <a:ahLst/>
              <a:rect l="l" t="t" r="r" b="b"/>
              <a:pathLst>
                <a:path w="249" h="105">
                  <a:moveTo>
                    <a:pt x="111" y="27"/>
                  </a:moveTo>
                  <a:lnTo>
                    <a:pt x="136" y="18"/>
                  </a:lnTo>
                  <a:lnTo>
                    <a:pt x="160" y="11"/>
                  </a:lnTo>
                  <a:lnTo>
                    <a:pt x="181" y="6"/>
                  </a:lnTo>
                  <a:lnTo>
                    <a:pt x="202" y="3"/>
                  </a:lnTo>
                  <a:lnTo>
                    <a:pt x="219" y="0"/>
                  </a:lnTo>
                  <a:lnTo>
                    <a:pt x="233" y="0"/>
                  </a:lnTo>
                  <a:lnTo>
                    <a:pt x="238" y="1"/>
                  </a:lnTo>
                  <a:lnTo>
                    <a:pt x="243" y="3"/>
                  </a:lnTo>
                  <a:lnTo>
                    <a:pt x="246" y="5"/>
                  </a:lnTo>
                  <a:lnTo>
                    <a:pt x="249" y="7"/>
                  </a:lnTo>
                  <a:lnTo>
                    <a:pt x="249" y="10"/>
                  </a:lnTo>
                  <a:lnTo>
                    <a:pt x="249" y="13"/>
                  </a:lnTo>
                  <a:lnTo>
                    <a:pt x="246" y="17"/>
                  </a:lnTo>
                  <a:lnTo>
                    <a:pt x="244" y="21"/>
                  </a:lnTo>
                  <a:lnTo>
                    <a:pt x="235" y="29"/>
                  </a:lnTo>
                  <a:lnTo>
                    <a:pt x="222" y="39"/>
                  </a:lnTo>
                  <a:lnTo>
                    <a:pt x="205" y="48"/>
                  </a:lnTo>
                  <a:lnTo>
                    <a:pt x="186" y="59"/>
                  </a:lnTo>
                  <a:lnTo>
                    <a:pt x="163" y="69"/>
                  </a:lnTo>
                  <a:lnTo>
                    <a:pt x="138" y="78"/>
                  </a:lnTo>
                  <a:lnTo>
                    <a:pt x="114" y="87"/>
                  </a:lnTo>
                  <a:lnTo>
                    <a:pt x="90" y="94"/>
                  </a:lnTo>
                  <a:lnTo>
                    <a:pt x="67" y="99"/>
                  </a:lnTo>
                  <a:lnTo>
                    <a:pt x="47" y="102"/>
                  </a:lnTo>
                  <a:lnTo>
                    <a:pt x="30" y="105"/>
                  </a:lnTo>
                  <a:lnTo>
                    <a:pt x="17" y="105"/>
                  </a:lnTo>
                  <a:lnTo>
                    <a:pt x="11" y="103"/>
                  </a:lnTo>
                  <a:lnTo>
                    <a:pt x="6" y="102"/>
                  </a:lnTo>
                  <a:lnTo>
                    <a:pt x="4" y="100"/>
                  </a:lnTo>
                  <a:lnTo>
                    <a:pt x="1" y="97"/>
                  </a:lnTo>
                  <a:lnTo>
                    <a:pt x="0" y="95"/>
                  </a:lnTo>
                  <a:lnTo>
                    <a:pt x="1" y="91"/>
                  </a:lnTo>
                  <a:lnTo>
                    <a:pt x="3" y="88"/>
                  </a:lnTo>
                  <a:lnTo>
                    <a:pt x="5" y="84"/>
                  </a:lnTo>
                  <a:lnTo>
                    <a:pt x="15" y="76"/>
                  </a:lnTo>
                  <a:lnTo>
                    <a:pt x="28" y="66"/>
                  </a:lnTo>
                  <a:lnTo>
                    <a:pt x="45" y="57"/>
                  </a:lnTo>
                  <a:lnTo>
                    <a:pt x="64" y="47"/>
                  </a:lnTo>
                  <a:lnTo>
                    <a:pt x="87" y="36"/>
                  </a:lnTo>
                  <a:lnTo>
                    <a:pt x="111" y="27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35200" y="1293840"/>
              <a:ext cx="61920" cy="28440"/>
            </a:xfrm>
            <a:custGeom>
              <a:avLst/>
              <a:gdLst/>
              <a:ahLst/>
              <a:rect l="l" t="t" r="r" b="b"/>
              <a:pathLst>
                <a:path w="156" h="70">
                  <a:moveTo>
                    <a:pt x="68" y="16"/>
                  </a:moveTo>
                  <a:lnTo>
                    <a:pt x="83" y="10"/>
                  </a:lnTo>
                  <a:lnTo>
                    <a:pt x="99" y="6"/>
                  </a:lnTo>
                  <a:lnTo>
                    <a:pt x="112" y="3"/>
                  </a:lnTo>
                  <a:lnTo>
                    <a:pt x="125" y="1"/>
                  </a:lnTo>
                  <a:lnTo>
                    <a:pt x="136" y="0"/>
                  </a:lnTo>
                  <a:lnTo>
                    <a:pt x="146" y="1"/>
                  </a:lnTo>
                  <a:lnTo>
                    <a:pt x="149" y="3"/>
                  </a:lnTo>
                  <a:lnTo>
                    <a:pt x="152" y="4"/>
                  </a:lnTo>
                  <a:lnTo>
                    <a:pt x="154" y="5"/>
                  </a:lnTo>
                  <a:lnTo>
                    <a:pt x="155" y="7"/>
                  </a:lnTo>
                  <a:lnTo>
                    <a:pt x="156" y="10"/>
                  </a:lnTo>
                  <a:lnTo>
                    <a:pt x="156" y="12"/>
                  </a:lnTo>
                  <a:lnTo>
                    <a:pt x="155" y="15"/>
                  </a:lnTo>
                  <a:lnTo>
                    <a:pt x="154" y="17"/>
                  </a:lnTo>
                  <a:lnTo>
                    <a:pt x="148" y="23"/>
                  </a:lnTo>
                  <a:lnTo>
                    <a:pt x="141" y="29"/>
                  </a:lnTo>
                  <a:lnTo>
                    <a:pt x="131" y="36"/>
                  </a:lnTo>
                  <a:lnTo>
                    <a:pt x="119" y="43"/>
                  </a:lnTo>
                  <a:lnTo>
                    <a:pt x="105" y="49"/>
                  </a:lnTo>
                  <a:lnTo>
                    <a:pt x="89" y="55"/>
                  </a:lnTo>
                  <a:lnTo>
                    <a:pt x="74" y="60"/>
                  </a:lnTo>
                  <a:lnTo>
                    <a:pt x="59" y="65"/>
                  </a:lnTo>
                  <a:lnTo>
                    <a:pt x="45" y="67"/>
                  </a:lnTo>
                  <a:lnTo>
                    <a:pt x="32" y="70"/>
                  </a:lnTo>
                  <a:lnTo>
                    <a:pt x="21" y="70"/>
                  </a:lnTo>
                  <a:lnTo>
                    <a:pt x="12" y="70"/>
                  </a:lnTo>
                  <a:lnTo>
                    <a:pt x="9" y="69"/>
                  </a:lnTo>
                  <a:lnTo>
                    <a:pt x="5" y="67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0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4" y="54"/>
                  </a:lnTo>
                  <a:lnTo>
                    <a:pt x="9" y="48"/>
                  </a:lnTo>
                  <a:lnTo>
                    <a:pt x="16" y="41"/>
                  </a:lnTo>
                  <a:lnTo>
                    <a:pt x="27" y="35"/>
                  </a:lnTo>
                  <a:lnTo>
                    <a:pt x="39" y="28"/>
                  </a:lnTo>
                  <a:lnTo>
                    <a:pt x="52" y="22"/>
                  </a:lnTo>
                  <a:lnTo>
                    <a:pt x="68" y="16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58960" y="1300320"/>
              <a:ext cx="17640" cy="612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18" y="4"/>
                  </a:move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30" y="9"/>
                  </a:lnTo>
                  <a:lnTo>
                    <a:pt x="26" y="10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0" y="15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7" y="9"/>
                  </a:lnTo>
                  <a:lnTo>
                    <a:pt x="10" y="8"/>
                  </a:lnTo>
                  <a:lnTo>
                    <a:pt x="14" y="7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58960" y="1300320"/>
              <a:ext cx="17640" cy="612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18" y="4"/>
                  </a:move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30" y="9"/>
                  </a:lnTo>
                  <a:lnTo>
                    <a:pt x="26" y="10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0" y="15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7" y="9"/>
                  </a:lnTo>
                  <a:lnTo>
                    <a:pt x="10" y="8"/>
                  </a:lnTo>
                  <a:lnTo>
                    <a:pt x="14" y="7"/>
                  </a:lnTo>
                  <a:lnTo>
                    <a:pt x="18" y="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81240" y="1112760"/>
              <a:ext cx="115920" cy="41400"/>
            </a:xfrm>
            <a:custGeom>
              <a:avLst/>
              <a:gdLst/>
              <a:ahLst/>
              <a:rect l="l" t="t" r="r" b="b"/>
              <a:pathLst>
                <a:path w="294" h="104">
                  <a:moveTo>
                    <a:pt x="16" y="80"/>
                  </a:moveTo>
                  <a:lnTo>
                    <a:pt x="33" y="71"/>
                  </a:lnTo>
                  <a:lnTo>
                    <a:pt x="54" y="61"/>
                  </a:lnTo>
                  <a:lnTo>
                    <a:pt x="78" y="50"/>
                  </a:lnTo>
                  <a:lnTo>
                    <a:pt x="104" y="41"/>
                  </a:lnTo>
                  <a:lnTo>
                    <a:pt x="132" y="31"/>
                  </a:lnTo>
                  <a:lnTo>
                    <a:pt x="160" y="23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1" y="4"/>
                  </a:lnTo>
                  <a:lnTo>
                    <a:pt x="261" y="0"/>
                  </a:lnTo>
                  <a:lnTo>
                    <a:pt x="277" y="0"/>
                  </a:lnTo>
                  <a:lnTo>
                    <a:pt x="288" y="1"/>
                  </a:lnTo>
                  <a:lnTo>
                    <a:pt x="290" y="2"/>
                  </a:lnTo>
                  <a:lnTo>
                    <a:pt x="292" y="5"/>
                  </a:lnTo>
                  <a:lnTo>
                    <a:pt x="294" y="6"/>
                  </a:lnTo>
                  <a:lnTo>
                    <a:pt x="292" y="10"/>
                  </a:lnTo>
                  <a:lnTo>
                    <a:pt x="291" y="12"/>
                  </a:lnTo>
                  <a:lnTo>
                    <a:pt x="288" y="16"/>
                  </a:lnTo>
                  <a:lnTo>
                    <a:pt x="283" y="20"/>
                  </a:lnTo>
                  <a:lnTo>
                    <a:pt x="276" y="24"/>
                  </a:lnTo>
                  <a:lnTo>
                    <a:pt x="259" y="34"/>
                  </a:lnTo>
                  <a:lnTo>
                    <a:pt x="238" y="43"/>
                  </a:lnTo>
                  <a:lnTo>
                    <a:pt x="216" y="54"/>
                  </a:lnTo>
                  <a:lnTo>
                    <a:pt x="189" y="64"/>
                  </a:lnTo>
                  <a:lnTo>
                    <a:pt x="162" y="73"/>
                  </a:lnTo>
                  <a:lnTo>
                    <a:pt x="133" y="83"/>
                  </a:lnTo>
                  <a:lnTo>
                    <a:pt x="104" y="90"/>
                  </a:lnTo>
                  <a:lnTo>
                    <a:pt x="76" y="97"/>
                  </a:lnTo>
                  <a:lnTo>
                    <a:pt x="52" y="102"/>
                  </a:lnTo>
                  <a:lnTo>
                    <a:pt x="32" y="104"/>
                  </a:lnTo>
                  <a:lnTo>
                    <a:pt x="16" y="104"/>
                  </a:lnTo>
                  <a:lnTo>
                    <a:pt x="6" y="103"/>
                  </a:lnTo>
                  <a:lnTo>
                    <a:pt x="2" y="102"/>
                  </a:lnTo>
                  <a:lnTo>
                    <a:pt x="1" y="101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2"/>
                  </a:lnTo>
                  <a:lnTo>
                    <a:pt x="6" y="89"/>
                  </a:lnTo>
                  <a:lnTo>
                    <a:pt x="10" y="85"/>
                  </a:lnTo>
                  <a:lnTo>
                    <a:pt x="16" y="80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00320" y="1117440"/>
              <a:ext cx="87480" cy="28800"/>
            </a:xfrm>
            <a:custGeom>
              <a:avLst/>
              <a:gdLst/>
              <a:ahLst/>
              <a:rect l="l" t="t" r="r" b="b"/>
              <a:pathLst>
                <a:path w="220" h="71">
                  <a:moveTo>
                    <a:pt x="9" y="58"/>
                  </a:moveTo>
                  <a:lnTo>
                    <a:pt x="20" y="52"/>
                  </a:lnTo>
                  <a:lnTo>
                    <a:pt x="34" y="45"/>
                  </a:lnTo>
                  <a:lnTo>
                    <a:pt x="51" y="39"/>
                  </a:lnTo>
                  <a:lnTo>
                    <a:pt x="69" y="32"/>
                  </a:lnTo>
                  <a:lnTo>
                    <a:pt x="89" y="26"/>
                  </a:lnTo>
                  <a:lnTo>
                    <a:pt x="111" y="18"/>
                  </a:lnTo>
                  <a:lnTo>
                    <a:pt x="132" y="14"/>
                  </a:lnTo>
                  <a:lnTo>
                    <a:pt x="153" y="8"/>
                  </a:lnTo>
                  <a:lnTo>
                    <a:pt x="173" y="4"/>
                  </a:lnTo>
                  <a:lnTo>
                    <a:pt x="189" y="2"/>
                  </a:lnTo>
                  <a:lnTo>
                    <a:pt x="202" y="0"/>
                  </a:lnTo>
                  <a:lnTo>
                    <a:pt x="212" y="0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19" y="3"/>
                  </a:lnTo>
                  <a:lnTo>
                    <a:pt x="220" y="5"/>
                  </a:lnTo>
                  <a:lnTo>
                    <a:pt x="218" y="9"/>
                  </a:lnTo>
                  <a:lnTo>
                    <a:pt x="210" y="14"/>
                  </a:lnTo>
                  <a:lnTo>
                    <a:pt x="201" y="20"/>
                  </a:lnTo>
                  <a:lnTo>
                    <a:pt x="186" y="27"/>
                  </a:lnTo>
                  <a:lnTo>
                    <a:pt x="170" y="33"/>
                  </a:lnTo>
                  <a:lnTo>
                    <a:pt x="150" y="40"/>
                  </a:lnTo>
                  <a:lnTo>
                    <a:pt x="130" y="46"/>
                  </a:lnTo>
                  <a:lnTo>
                    <a:pt x="110" y="53"/>
                  </a:lnTo>
                  <a:lnTo>
                    <a:pt x="88" y="58"/>
                  </a:lnTo>
                  <a:lnTo>
                    <a:pt x="66" y="64"/>
                  </a:lnTo>
                  <a:lnTo>
                    <a:pt x="47" y="68"/>
                  </a:lnTo>
                  <a:lnTo>
                    <a:pt x="30" y="70"/>
                  </a:lnTo>
                  <a:lnTo>
                    <a:pt x="17" y="71"/>
                  </a:lnTo>
                  <a:lnTo>
                    <a:pt x="8" y="71"/>
                  </a:lnTo>
                  <a:lnTo>
                    <a:pt x="5" y="70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3" y="63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17960" y="1131840"/>
              <a:ext cx="17280" cy="648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" y="13"/>
                  </a:moveTo>
                  <a:lnTo>
                    <a:pt x="6" y="11"/>
                  </a:lnTo>
                  <a:lnTo>
                    <a:pt x="10" y="10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3" y="2"/>
                  </a:lnTo>
                  <a:lnTo>
                    <a:pt x="42" y="4"/>
                  </a:lnTo>
                  <a:lnTo>
                    <a:pt x="41" y="5"/>
                  </a:lnTo>
                  <a:lnTo>
                    <a:pt x="37" y="6"/>
                  </a:lnTo>
                  <a:lnTo>
                    <a:pt x="35" y="8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15" y="16"/>
                  </a:lnTo>
                  <a:lnTo>
                    <a:pt x="11" y="16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17960" y="1131840"/>
              <a:ext cx="17280" cy="648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" y="13"/>
                  </a:moveTo>
                  <a:lnTo>
                    <a:pt x="6" y="11"/>
                  </a:lnTo>
                  <a:lnTo>
                    <a:pt x="10" y="10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3" y="2"/>
                  </a:lnTo>
                  <a:lnTo>
                    <a:pt x="42" y="4"/>
                  </a:lnTo>
                  <a:lnTo>
                    <a:pt x="41" y="5"/>
                  </a:lnTo>
                  <a:lnTo>
                    <a:pt x="37" y="6"/>
                  </a:lnTo>
                  <a:lnTo>
                    <a:pt x="35" y="8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15" y="16"/>
                  </a:lnTo>
                  <a:lnTo>
                    <a:pt x="11" y="16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4" y="1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36840" y="1674720"/>
              <a:ext cx="123840" cy="47880"/>
            </a:xfrm>
            <a:custGeom>
              <a:avLst/>
              <a:gdLst/>
              <a:ahLst/>
              <a:rect l="l" t="t" r="r" b="b"/>
              <a:pathLst>
                <a:path w="313" h="121">
                  <a:moveTo>
                    <a:pt x="0" y="116"/>
                  </a:moveTo>
                  <a:lnTo>
                    <a:pt x="0" y="114"/>
                  </a:lnTo>
                  <a:lnTo>
                    <a:pt x="2" y="110"/>
                  </a:lnTo>
                  <a:lnTo>
                    <a:pt x="6" y="106"/>
                  </a:lnTo>
                  <a:lnTo>
                    <a:pt x="11" y="103"/>
                  </a:lnTo>
                  <a:lnTo>
                    <a:pt x="24" y="94"/>
                  </a:lnTo>
                  <a:lnTo>
                    <a:pt x="42" y="84"/>
                  </a:lnTo>
                  <a:lnTo>
                    <a:pt x="65" y="73"/>
                  </a:lnTo>
                  <a:lnTo>
                    <a:pt x="90" y="61"/>
                  </a:lnTo>
                  <a:lnTo>
                    <a:pt x="120" y="49"/>
                  </a:lnTo>
                  <a:lnTo>
                    <a:pt x="151" y="38"/>
                  </a:lnTo>
                  <a:lnTo>
                    <a:pt x="182" y="27"/>
                  </a:lnTo>
                  <a:lnTo>
                    <a:pt x="212" y="18"/>
                  </a:lnTo>
                  <a:lnTo>
                    <a:pt x="239" y="10"/>
                  </a:lnTo>
                  <a:lnTo>
                    <a:pt x="263" y="4"/>
                  </a:lnTo>
                  <a:lnTo>
                    <a:pt x="283" y="1"/>
                  </a:lnTo>
                  <a:lnTo>
                    <a:pt x="299" y="0"/>
                  </a:lnTo>
                  <a:lnTo>
                    <a:pt x="303" y="0"/>
                  </a:lnTo>
                  <a:lnTo>
                    <a:pt x="308" y="1"/>
                  </a:lnTo>
                  <a:lnTo>
                    <a:pt x="312" y="2"/>
                  </a:lnTo>
                  <a:lnTo>
                    <a:pt x="313" y="4"/>
                  </a:lnTo>
                  <a:lnTo>
                    <a:pt x="312" y="7"/>
                  </a:lnTo>
                  <a:lnTo>
                    <a:pt x="311" y="9"/>
                  </a:lnTo>
                  <a:lnTo>
                    <a:pt x="307" y="13"/>
                  </a:lnTo>
                  <a:lnTo>
                    <a:pt x="302" y="16"/>
                  </a:lnTo>
                  <a:lnTo>
                    <a:pt x="289" y="26"/>
                  </a:lnTo>
                  <a:lnTo>
                    <a:pt x="271" y="36"/>
                  </a:lnTo>
                  <a:lnTo>
                    <a:pt x="248" y="48"/>
                  </a:lnTo>
                  <a:lnTo>
                    <a:pt x="222" y="58"/>
                  </a:lnTo>
                  <a:lnTo>
                    <a:pt x="193" y="70"/>
                  </a:lnTo>
                  <a:lnTo>
                    <a:pt x="162" y="82"/>
                  </a:lnTo>
                  <a:lnTo>
                    <a:pt x="131" y="93"/>
                  </a:lnTo>
                  <a:lnTo>
                    <a:pt x="101" y="103"/>
                  </a:lnTo>
                  <a:lnTo>
                    <a:pt x="74" y="110"/>
                  </a:lnTo>
                  <a:lnTo>
                    <a:pt x="50" y="115"/>
                  </a:lnTo>
                  <a:lnTo>
                    <a:pt x="30" y="118"/>
                  </a:lnTo>
                  <a:lnTo>
                    <a:pt x="14" y="121"/>
                  </a:lnTo>
                  <a:lnTo>
                    <a:pt x="8" y="120"/>
                  </a:lnTo>
                  <a:lnTo>
                    <a:pt x="5" y="120"/>
                  </a:lnTo>
                  <a:lnTo>
                    <a:pt x="1" y="11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54120" y="1677960"/>
              <a:ext cx="96840" cy="3672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0" y="89"/>
                  </a:moveTo>
                  <a:lnTo>
                    <a:pt x="1" y="88"/>
                  </a:lnTo>
                  <a:lnTo>
                    <a:pt x="3" y="86"/>
                  </a:lnTo>
                  <a:lnTo>
                    <a:pt x="5" y="83"/>
                  </a:lnTo>
                  <a:lnTo>
                    <a:pt x="9" y="81"/>
                  </a:lnTo>
                  <a:lnTo>
                    <a:pt x="19" y="75"/>
                  </a:lnTo>
                  <a:lnTo>
                    <a:pt x="34" y="68"/>
                  </a:lnTo>
                  <a:lnTo>
                    <a:pt x="52" y="59"/>
                  </a:lnTo>
                  <a:lnTo>
                    <a:pt x="72" y="50"/>
                  </a:lnTo>
                  <a:lnTo>
                    <a:pt x="94" y="41"/>
                  </a:lnTo>
                  <a:lnTo>
                    <a:pt x="119" y="32"/>
                  </a:lnTo>
                  <a:lnTo>
                    <a:pt x="143" y="23"/>
                  </a:lnTo>
                  <a:lnTo>
                    <a:pt x="166" y="16"/>
                  </a:lnTo>
                  <a:lnTo>
                    <a:pt x="187" y="10"/>
                  </a:lnTo>
                  <a:lnTo>
                    <a:pt x="205" y="5"/>
                  </a:lnTo>
                  <a:lnTo>
                    <a:pt x="221" y="2"/>
                  </a:lnTo>
                  <a:lnTo>
                    <a:pt x="233" y="0"/>
                  </a:lnTo>
                  <a:lnTo>
                    <a:pt x="238" y="0"/>
                  </a:lnTo>
                  <a:lnTo>
                    <a:pt x="241" y="0"/>
                  </a:lnTo>
                  <a:lnTo>
                    <a:pt x="243" y="2"/>
                  </a:lnTo>
                  <a:lnTo>
                    <a:pt x="244" y="3"/>
                  </a:lnTo>
                  <a:lnTo>
                    <a:pt x="244" y="4"/>
                  </a:lnTo>
                  <a:lnTo>
                    <a:pt x="243" y="6"/>
                  </a:lnTo>
                  <a:lnTo>
                    <a:pt x="240" y="9"/>
                  </a:lnTo>
                  <a:lnTo>
                    <a:pt x="235" y="11"/>
                  </a:lnTo>
                  <a:lnTo>
                    <a:pt x="226" y="17"/>
                  </a:lnTo>
                  <a:lnTo>
                    <a:pt x="211" y="24"/>
                  </a:lnTo>
                  <a:lnTo>
                    <a:pt x="193" y="33"/>
                  </a:lnTo>
                  <a:lnTo>
                    <a:pt x="173" y="41"/>
                  </a:lnTo>
                  <a:lnTo>
                    <a:pt x="150" y="51"/>
                  </a:lnTo>
                  <a:lnTo>
                    <a:pt x="126" y="60"/>
                  </a:lnTo>
                  <a:lnTo>
                    <a:pt x="101" y="69"/>
                  </a:lnTo>
                  <a:lnTo>
                    <a:pt x="78" y="76"/>
                  </a:lnTo>
                  <a:lnTo>
                    <a:pt x="58" y="82"/>
                  </a:lnTo>
                  <a:lnTo>
                    <a:pt x="39" y="87"/>
                  </a:lnTo>
                  <a:lnTo>
                    <a:pt x="23" y="90"/>
                  </a:lnTo>
                  <a:lnTo>
                    <a:pt x="11" y="92"/>
                  </a:lnTo>
                  <a:lnTo>
                    <a:pt x="7" y="92"/>
                  </a:lnTo>
                  <a:lnTo>
                    <a:pt x="4" y="92"/>
                  </a:lnTo>
                  <a:lnTo>
                    <a:pt x="1" y="9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71760" y="1700280"/>
              <a:ext cx="17280" cy="612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8"/>
                  </a:lnTo>
                  <a:lnTo>
                    <a:pt x="16" y="6"/>
                  </a:lnTo>
                  <a:lnTo>
                    <a:pt x="21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4" y="12"/>
                  </a:lnTo>
                  <a:lnTo>
                    <a:pt x="19" y="13"/>
                  </a:lnTo>
                  <a:lnTo>
                    <a:pt x="14" y="15"/>
                  </a:lnTo>
                  <a:lnTo>
                    <a:pt x="10" y="15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71760" y="1700280"/>
              <a:ext cx="17280" cy="612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8"/>
                  </a:lnTo>
                  <a:lnTo>
                    <a:pt x="16" y="6"/>
                  </a:lnTo>
                  <a:lnTo>
                    <a:pt x="21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4" y="12"/>
                  </a:lnTo>
                  <a:lnTo>
                    <a:pt x="19" y="13"/>
                  </a:lnTo>
                  <a:lnTo>
                    <a:pt x="14" y="15"/>
                  </a:lnTo>
                  <a:lnTo>
                    <a:pt x="10" y="15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52800" y="1442880"/>
              <a:ext cx="125280" cy="47880"/>
            </a:xfrm>
            <a:custGeom>
              <a:avLst/>
              <a:gdLst/>
              <a:ahLst/>
              <a:rect l="l" t="t" r="r" b="b"/>
              <a:pathLst>
                <a:path w="313" h="120">
                  <a:moveTo>
                    <a:pt x="0" y="116"/>
                  </a:moveTo>
                  <a:lnTo>
                    <a:pt x="0" y="114"/>
                  </a:lnTo>
                  <a:lnTo>
                    <a:pt x="2" y="110"/>
                  </a:lnTo>
                  <a:lnTo>
                    <a:pt x="6" y="107"/>
                  </a:lnTo>
                  <a:lnTo>
                    <a:pt x="9" y="103"/>
                  </a:lnTo>
                  <a:lnTo>
                    <a:pt x="24" y="95"/>
                  </a:lnTo>
                  <a:lnTo>
                    <a:pt x="42" y="84"/>
                  </a:lnTo>
                  <a:lnTo>
                    <a:pt x="65" y="73"/>
                  </a:lnTo>
                  <a:lnTo>
                    <a:pt x="90" y="61"/>
                  </a:lnTo>
                  <a:lnTo>
                    <a:pt x="119" y="49"/>
                  </a:lnTo>
                  <a:lnTo>
                    <a:pt x="151" y="38"/>
                  </a:lnTo>
                  <a:lnTo>
                    <a:pt x="182" y="27"/>
                  </a:lnTo>
                  <a:lnTo>
                    <a:pt x="212" y="18"/>
                  </a:lnTo>
                  <a:lnTo>
                    <a:pt x="239" y="11"/>
                  </a:lnTo>
                  <a:lnTo>
                    <a:pt x="263" y="5"/>
                  </a:lnTo>
                  <a:lnTo>
                    <a:pt x="283" y="1"/>
                  </a:lnTo>
                  <a:lnTo>
                    <a:pt x="297" y="0"/>
                  </a:lnTo>
                  <a:lnTo>
                    <a:pt x="303" y="0"/>
                  </a:lnTo>
                  <a:lnTo>
                    <a:pt x="308" y="1"/>
                  </a:lnTo>
                  <a:lnTo>
                    <a:pt x="311" y="2"/>
                  </a:lnTo>
                  <a:lnTo>
                    <a:pt x="313" y="3"/>
                  </a:lnTo>
                  <a:lnTo>
                    <a:pt x="312" y="7"/>
                  </a:lnTo>
                  <a:lnTo>
                    <a:pt x="311" y="9"/>
                  </a:lnTo>
                  <a:lnTo>
                    <a:pt x="307" y="13"/>
                  </a:lnTo>
                  <a:lnTo>
                    <a:pt x="302" y="17"/>
                  </a:lnTo>
                  <a:lnTo>
                    <a:pt x="289" y="26"/>
                  </a:lnTo>
                  <a:lnTo>
                    <a:pt x="271" y="36"/>
                  </a:lnTo>
                  <a:lnTo>
                    <a:pt x="248" y="47"/>
                  </a:lnTo>
                  <a:lnTo>
                    <a:pt x="222" y="59"/>
                  </a:lnTo>
                  <a:lnTo>
                    <a:pt x="193" y="71"/>
                  </a:lnTo>
                  <a:lnTo>
                    <a:pt x="162" y="83"/>
                  </a:lnTo>
                  <a:lnTo>
                    <a:pt x="131" y="93"/>
                  </a:lnTo>
                  <a:lnTo>
                    <a:pt x="101" y="102"/>
                  </a:lnTo>
                  <a:lnTo>
                    <a:pt x="74" y="110"/>
                  </a:lnTo>
                  <a:lnTo>
                    <a:pt x="50" y="115"/>
                  </a:lnTo>
                  <a:lnTo>
                    <a:pt x="30" y="119"/>
                  </a:lnTo>
                  <a:lnTo>
                    <a:pt x="14" y="120"/>
                  </a:lnTo>
                  <a:lnTo>
                    <a:pt x="8" y="120"/>
                  </a:lnTo>
                  <a:lnTo>
                    <a:pt x="5" y="120"/>
                  </a:lnTo>
                  <a:lnTo>
                    <a:pt x="1" y="119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17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70080" y="1447920"/>
              <a:ext cx="96840" cy="36360"/>
            </a:xfrm>
            <a:custGeom>
              <a:avLst/>
              <a:gdLst/>
              <a:ahLst/>
              <a:rect l="l" t="t" r="r" b="b"/>
              <a:pathLst>
                <a:path w="244" h="91">
                  <a:moveTo>
                    <a:pt x="0" y="88"/>
                  </a:moveTo>
                  <a:lnTo>
                    <a:pt x="0" y="87"/>
                  </a:lnTo>
                  <a:lnTo>
                    <a:pt x="3" y="85"/>
                  </a:lnTo>
                  <a:lnTo>
                    <a:pt x="5" y="82"/>
                  </a:lnTo>
                  <a:lnTo>
                    <a:pt x="9" y="80"/>
                  </a:lnTo>
                  <a:lnTo>
                    <a:pt x="19" y="74"/>
                  </a:lnTo>
                  <a:lnTo>
                    <a:pt x="34" y="66"/>
                  </a:lnTo>
                  <a:lnTo>
                    <a:pt x="52" y="58"/>
                  </a:lnTo>
                  <a:lnTo>
                    <a:pt x="72" y="49"/>
                  </a:lnTo>
                  <a:lnTo>
                    <a:pt x="94" y="40"/>
                  </a:lnTo>
                  <a:lnTo>
                    <a:pt x="119" y="31"/>
                  </a:lnTo>
                  <a:lnTo>
                    <a:pt x="143" y="22"/>
                  </a:lnTo>
                  <a:lnTo>
                    <a:pt x="166" y="15"/>
                  </a:lnTo>
                  <a:lnTo>
                    <a:pt x="187" y="9"/>
                  </a:lnTo>
                  <a:lnTo>
                    <a:pt x="205" y="4"/>
                  </a:lnTo>
                  <a:lnTo>
                    <a:pt x="221" y="1"/>
                  </a:lnTo>
                  <a:lnTo>
                    <a:pt x="233" y="0"/>
                  </a:lnTo>
                  <a:lnTo>
                    <a:pt x="238" y="0"/>
                  </a:lnTo>
                  <a:lnTo>
                    <a:pt x="241" y="0"/>
                  </a:lnTo>
                  <a:lnTo>
                    <a:pt x="243" y="0"/>
                  </a:lnTo>
                  <a:lnTo>
                    <a:pt x="244" y="1"/>
                  </a:lnTo>
                  <a:lnTo>
                    <a:pt x="244" y="3"/>
                  </a:lnTo>
                  <a:lnTo>
                    <a:pt x="243" y="4"/>
                  </a:lnTo>
                  <a:lnTo>
                    <a:pt x="240" y="7"/>
                  </a:lnTo>
                  <a:lnTo>
                    <a:pt x="235" y="10"/>
                  </a:lnTo>
                  <a:lnTo>
                    <a:pt x="226" y="16"/>
                  </a:lnTo>
                  <a:lnTo>
                    <a:pt x="211" y="24"/>
                  </a:lnTo>
                  <a:lnTo>
                    <a:pt x="193" y="32"/>
                  </a:lnTo>
                  <a:lnTo>
                    <a:pt x="173" y="40"/>
                  </a:lnTo>
                  <a:lnTo>
                    <a:pt x="150" y="50"/>
                  </a:lnTo>
                  <a:lnTo>
                    <a:pt x="126" y="58"/>
                  </a:lnTo>
                  <a:lnTo>
                    <a:pt x="101" y="67"/>
                  </a:lnTo>
                  <a:lnTo>
                    <a:pt x="78" y="75"/>
                  </a:lnTo>
                  <a:lnTo>
                    <a:pt x="58" y="81"/>
                  </a:lnTo>
                  <a:lnTo>
                    <a:pt x="39" y="86"/>
                  </a:lnTo>
                  <a:lnTo>
                    <a:pt x="23" y="88"/>
                  </a:lnTo>
                  <a:lnTo>
                    <a:pt x="11" y="91"/>
                  </a:lnTo>
                  <a:lnTo>
                    <a:pt x="7" y="91"/>
                  </a:lnTo>
                  <a:lnTo>
                    <a:pt x="4" y="91"/>
                  </a:lnTo>
                  <a:lnTo>
                    <a:pt x="1" y="9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9f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87720" y="1469880"/>
              <a:ext cx="19080" cy="64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7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8"/>
                  </a:lnTo>
                  <a:lnTo>
                    <a:pt x="16" y="6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38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4" y="12"/>
                  </a:lnTo>
                  <a:lnTo>
                    <a:pt x="19" y="13"/>
                  </a:lnTo>
                  <a:lnTo>
                    <a:pt x="14" y="14"/>
                  </a:lnTo>
                  <a:lnTo>
                    <a:pt x="10" y="15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32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87720" y="1469880"/>
              <a:ext cx="19080" cy="64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7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8"/>
                  </a:lnTo>
                  <a:lnTo>
                    <a:pt x="16" y="6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38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4" y="12"/>
                  </a:lnTo>
                  <a:lnTo>
                    <a:pt x="19" y="13"/>
                  </a:lnTo>
                  <a:lnTo>
                    <a:pt x="14" y="14"/>
                  </a:lnTo>
                  <a:lnTo>
                    <a:pt x="10" y="15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43520" y="5400720"/>
              <a:ext cx="104760" cy="190440"/>
            </a:xfrm>
            <a:custGeom>
              <a:avLst/>
              <a:gdLst/>
              <a:ahLst/>
              <a:rect l="l" t="t" r="r" b="b"/>
              <a:pathLst>
                <a:path w="264" h="482">
                  <a:moveTo>
                    <a:pt x="264" y="482"/>
                  </a:moveTo>
                  <a:lnTo>
                    <a:pt x="240" y="461"/>
                  </a:lnTo>
                  <a:lnTo>
                    <a:pt x="219" y="441"/>
                  </a:lnTo>
                  <a:lnTo>
                    <a:pt x="200" y="419"/>
                  </a:lnTo>
                  <a:lnTo>
                    <a:pt x="183" y="399"/>
                  </a:lnTo>
                  <a:lnTo>
                    <a:pt x="167" y="377"/>
                  </a:lnTo>
                  <a:lnTo>
                    <a:pt x="153" y="354"/>
                  </a:lnTo>
                  <a:lnTo>
                    <a:pt x="140" y="332"/>
                  </a:lnTo>
                  <a:lnTo>
                    <a:pt x="126" y="308"/>
                  </a:lnTo>
                  <a:lnTo>
                    <a:pt x="102" y="257"/>
                  </a:lnTo>
                  <a:lnTo>
                    <a:pt x="76" y="203"/>
                  </a:lnTo>
                  <a:lnTo>
                    <a:pt x="63" y="173"/>
                  </a:lnTo>
                  <a:lnTo>
                    <a:pt x="47" y="143"/>
                  </a:lnTo>
                  <a:lnTo>
                    <a:pt x="30" y="112"/>
                  </a:lnTo>
                  <a:lnTo>
                    <a:pt x="12" y="80"/>
                  </a:lnTo>
                  <a:lnTo>
                    <a:pt x="8" y="70"/>
                  </a:lnTo>
                  <a:lnTo>
                    <a:pt x="4" y="60"/>
                  </a:lnTo>
                  <a:lnTo>
                    <a:pt x="2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2" y="21"/>
                  </a:lnTo>
                  <a:lnTo>
                    <a:pt x="4" y="11"/>
                  </a:lnTo>
                  <a:lnTo>
                    <a:pt x="6" y="0"/>
                  </a:lnTo>
                  <a:lnTo>
                    <a:pt x="35" y="63"/>
                  </a:lnTo>
                  <a:lnTo>
                    <a:pt x="66" y="124"/>
                  </a:lnTo>
                  <a:lnTo>
                    <a:pt x="98" y="184"/>
                  </a:lnTo>
                  <a:lnTo>
                    <a:pt x="129" y="245"/>
                  </a:lnTo>
                  <a:lnTo>
                    <a:pt x="162" y="304"/>
                  </a:lnTo>
                  <a:lnTo>
                    <a:pt x="195" y="364"/>
                  </a:lnTo>
                  <a:lnTo>
                    <a:pt x="230" y="423"/>
                  </a:lnTo>
                  <a:lnTo>
                    <a:pt x="264" y="482"/>
                  </a:lnTo>
                  <a:close/>
                </a:path>
              </a:pathLst>
            </a:custGeom>
            <a:solidFill>
              <a:srgbClr val="f7cb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43520" y="5353200"/>
              <a:ext cx="201600" cy="298440"/>
            </a:xfrm>
            <a:custGeom>
              <a:avLst/>
              <a:gdLst/>
              <a:ahLst/>
              <a:rect l="l" t="t" r="r" b="b"/>
              <a:pathLst>
                <a:path w="509" h="754">
                  <a:moveTo>
                    <a:pt x="509" y="754"/>
                  </a:moveTo>
                  <a:lnTo>
                    <a:pt x="488" y="742"/>
                  </a:lnTo>
                  <a:lnTo>
                    <a:pt x="467" y="728"/>
                  </a:lnTo>
                  <a:lnTo>
                    <a:pt x="446" y="716"/>
                  </a:lnTo>
                  <a:lnTo>
                    <a:pt x="425" y="703"/>
                  </a:lnTo>
                  <a:lnTo>
                    <a:pt x="404" y="691"/>
                  </a:lnTo>
                  <a:lnTo>
                    <a:pt x="382" y="678"/>
                  </a:lnTo>
                  <a:lnTo>
                    <a:pt x="360" y="666"/>
                  </a:lnTo>
                  <a:lnTo>
                    <a:pt x="339" y="653"/>
                  </a:lnTo>
                  <a:lnTo>
                    <a:pt x="321" y="642"/>
                  </a:lnTo>
                  <a:lnTo>
                    <a:pt x="303" y="630"/>
                  </a:lnTo>
                  <a:lnTo>
                    <a:pt x="286" y="618"/>
                  </a:lnTo>
                  <a:lnTo>
                    <a:pt x="270" y="607"/>
                  </a:lnTo>
                  <a:lnTo>
                    <a:pt x="256" y="595"/>
                  </a:lnTo>
                  <a:lnTo>
                    <a:pt x="243" y="583"/>
                  </a:lnTo>
                  <a:lnTo>
                    <a:pt x="230" y="573"/>
                  </a:lnTo>
                  <a:lnTo>
                    <a:pt x="218" y="561"/>
                  </a:lnTo>
                  <a:lnTo>
                    <a:pt x="196" y="535"/>
                  </a:lnTo>
                  <a:lnTo>
                    <a:pt x="177" y="511"/>
                  </a:lnTo>
                  <a:lnTo>
                    <a:pt x="159" y="485"/>
                  </a:lnTo>
                  <a:lnTo>
                    <a:pt x="143" y="459"/>
                  </a:lnTo>
                  <a:lnTo>
                    <a:pt x="129" y="431"/>
                  </a:lnTo>
                  <a:lnTo>
                    <a:pt x="114" y="402"/>
                  </a:lnTo>
                  <a:lnTo>
                    <a:pt x="100" y="373"/>
                  </a:lnTo>
                  <a:lnTo>
                    <a:pt x="84" y="342"/>
                  </a:lnTo>
                  <a:lnTo>
                    <a:pt x="69" y="309"/>
                  </a:lnTo>
                  <a:lnTo>
                    <a:pt x="52" y="275"/>
                  </a:lnTo>
                  <a:lnTo>
                    <a:pt x="33" y="238"/>
                  </a:lnTo>
                  <a:lnTo>
                    <a:pt x="12" y="201"/>
                  </a:lnTo>
                  <a:lnTo>
                    <a:pt x="6" y="190"/>
                  </a:lnTo>
                  <a:lnTo>
                    <a:pt x="3" y="178"/>
                  </a:lnTo>
                  <a:lnTo>
                    <a:pt x="2" y="166"/>
                  </a:lnTo>
                  <a:lnTo>
                    <a:pt x="0" y="154"/>
                  </a:lnTo>
                  <a:lnTo>
                    <a:pt x="2" y="142"/>
                  </a:lnTo>
                  <a:lnTo>
                    <a:pt x="4" y="130"/>
                  </a:lnTo>
                  <a:lnTo>
                    <a:pt x="8" y="118"/>
                  </a:lnTo>
                  <a:lnTo>
                    <a:pt x="12" y="105"/>
                  </a:lnTo>
                  <a:lnTo>
                    <a:pt x="18" y="91"/>
                  </a:lnTo>
                  <a:lnTo>
                    <a:pt x="26" y="79"/>
                  </a:lnTo>
                  <a:lnTo>
                    <a:pt x="34" y="66"/>
                  </a:lnTo>
                  <a:lnTo>
                    <a:pt x="42" y="53"/>
                  </a:lnTo>
                  <a:lnTo>
                    <a:pt x="63" y="27"/>
                  </a:lnTo>
                  <a:lnTo>
                    <a:pt x="86" y="0"/>
                  </a:lnTo>
                  <a:lnTo>
                    <a:pt x="131" y="99"/>
                  </a:lnTo>
                  <a:lnTo>
                    <a:pt x="179" y="196"/>
                  </a:lnTo>
                  <a:lnTo>
                    <a:pt x="230" y="292"/>
                  </a:lnTo>
                  <a:lnTo>
                    <a:pt x="281" y="387"/>
                  </a:lnTo>
                  <a:lnTo>
                    <a:pt x="335" y="480"/>
                  </a:lnTo>
                  <a:lnTo>
                    <a:pt x="392" y="573"/>
                  </a:lnTo>
                  <a:lnTo>
                    <a:pt x="449" y="664"/>
                  </a:lnTo>
                  <a:lnTo>
                    <a:pt x="509" y="754"/>
                  </a:lnTo>
                  <a:close/>
                </a:path>
              </a:pathLst>
            </a:custGeom>
            <a:solidFill>
              <a:srgbClr val="f7cb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4960" y="3025800"/>
              <a:ext cx="3376440" cy="2687760"/>
            </a:xfrm>
            <a:custGeom>
              <a:avLst/>
              <a:gdLst/>
              <a:ahLst/>
              <a:rect l="l" t="t" r="r" b="b"/>
              <a:pathLst>
                <a:path w="8506" h="6776">
                  <a:moveTo>
                    <a:pt x="0" y="5986"/>
                  </a:moveTo>
                  <a:lnTo>
                    <a:pt x="29" y="6049"/>
                  </a:lnTo>
                  <a:lnTo>
                    <a:pt x="60" y="6110"/>
                  </a:lnTo>
                  <a:lnTo>
                    <a:pt x="92" y="6170"/>
                  </a:lnTo>
                  <a:lnTo>
                    <a:pt x="123" y="6231"/>
                  </a:lnTo>
                  <a:lnTo>
                    <a:pt x="156" y="6290"/>
                  </a:lnTo>
                  <a:lnTo>
                    <a:pt x="189" y="6350"/>
                  </a:lnTo>
                  <a:lnTo>
                    <a:pt x="224" y="6409"/>
                  </a:lnTo>
                  <a:lnTo>
                    <a:pt x="258" y="6468"/>
                  </a:lnTo>
                  <a:lnTo>
                    <a:pt x="267" y="6474"/>
                  </a:lnTo>
                  <a:lnTo>
                    <a:pt x="275" y="6480"/>
                  </a:lnTo>
                  <a:lnTo>
                    <a:pt x="284" y="6487"/>
                  </a:lnTo>
                  <a:lnTo>
                    <a:pt x="293" y="6493"/>
                  </a:lnTo>
                  <a:lnTo>
                    <a:pt x="303" y="6499"/>
                  </a:lnTo>
                  <a:lnTo>
                    <a:pt x="312" y="6506"/>
                  </a:lnTo>
                  <a:lnTo>
                    <a:pt x="323" y="6512"/>
                  </a:lnTo>
                  <a:lnTo>
                    <a:pt x="333" y="6518"/>
                  </a:lnTo>
                  <a:lnTo>
                    <a:pt x="389" y="6551"/>
                  </a:lnTo>
                  <a:lnTo>
                    <a:pt x="444" y="6584"/>
                  </a:lnTo>
                  <a:lnTo>
                    <a:pt x="498" y="6616"/>
                  </a:lnTo>
                  <a:lnTo>
                    <a:pt x="552" y="6649"/>
                  </a:lnTo>
                  <a:lnTo>
                    <a:pt x="608" y="6681"/>
                  </a:lnTo>
                  <a:lnTo>
                    <a:pt x="660" y="6712"/>
                  </a:lnTo>
                  <a:lnTo>
                    <a:pt x="714" y="6745"/>
                  </a:lnTo>
                  <a:lnTo>
                    <a:pt x="768" y="6776"/>
                  </a:lnTo>
                  <a:lnTo>
                    <a:pt x="724" y="6717"/>
                  </a:lnTo>
                  <a:lnTo>
                    <a:pt x="682" y="6658"/>
                  </a:lnTo>
                  <a:lnTo>
                    <a:pt x="639" y="6599"/>
                  </a:lnTo>
                  <a:lnTo>
                    <a:pt x="598" y="6539"/>
                  </a:lnTo>
                  <a:lnTo>
                    <a:pt x="557" y="6478"/>
                  </a:lnTo>
                  <a:lnTo>
                    <a:pt x="518" y="6417"/>
                  </a:lnTo>
                  <a:lnTo>
                    <a:pt x="479" y="6355"/>
                  </a:lnTo>
                  <a:lnTo>
                    <a:pt x="442" y="6292"/>
                  </a:lnTo>
                  <a:lnTo>
                    <a:pt x="405" y="6229"/>
                  </a:lnTo>
                  <a:lnTo>
                    <a:pt x="369" y="6165"/>
                  </a:lnTo>
                  <a:lnTo>
                    <a:pt x="334" y="6102"/>
                  </a:lnTo>
                  <a:lnTo>
                    <a:pt x="300" y="6037"/>
                  </a:lnTo>
                  <a:lnTo>
                    <a:pt x="267" y="5971"/>
                  </a:lnTo>
                  <a:lnTo>
                    <a:pt x="234" y="5905"/>
                  </a:lnTo>
                  <a:lnTo>
                    <a:pt x="203" y="5839"/>
                  </a:lnTo>
                  <a:lnTo>
                    <a:pt x="173" y="5772"/>
                  </a:lnTo>
                  <a:lnTo>
                    <a:pt x="146" y="5797"/>
                  </a:lnTo>
                  <a:lnTo>
                    <a:pt x="118" y="5824"/>
                  </a:lnTo>
                  <a:lnTo>
                    <a:pt x="92" y="5851"/>
                  </a:lnTo>
                  <a:lnTo>
                    <a:pt x="68" y="5878"/>
                  </a:lnTo>
                  <a:lnTo>
                    <a:pt x="56" y="5893"/>
                  </a:lnTo>
                  <a:lnTo>
                    <a:pt x="45" y="5906"/>
                  </a:lnTo>
                  <a:lnTo>
                    <a:pt x="35" y="5919"/>
                  </a:lnTo>
                  <a:lnTo>
                    <a:pt x="26" y="5934"/>
                  </a:lnTo>
                  <a:lnTo>
                    <a:pt x="18" y="5947"/>
                  </a:lnTo>
                  <a:lnTo>
                    <a:pt x="11" y="5960"/>
                  </a:lnTo>
                  <a:lnTo>
                    <a:pt x="5" y="5973"/>
                  </a:lnTo>
                  <a:lnTo>
                    <a:pt x="0" y="5986"/>
                  </a:lnTo>
                  <a:close/>
                  <a:moveTo>
                    <a:pt x="7856" y="0"/>
                  </a:moveTo>
                  <a:lnTo>
                    <a:pt x="7898" y="20"/>
                  </a:lnTo>
                  <a:lnTo>
                    <a:pt x="7937" y="43"/>
                  </a:lnTo>
                  <a:lnTo>
                    <a:pt x="7977" y="66"/>
                  </a:lnTo>
                  <a:lnTo>
                    <a:pt x="8015" y="91"/>
                  </a:lnTo>
                  <a:lnTo>
                    <a:pt x="8054" y="118"/>
                  </a:lnTo>
                  <a:lnTo>
                    <a:pt x="8090" y="145"/>
                  </a:lnTo>
                  <a:lnTo>
                    <a:pt x="8124" y="174"/>
                  </a:lnTo>
                  <a:lnTo>
                    <a:pt x="8157" y="205"/>
                  </a:lnTo>
                  <a:lnTo>
                    <a:pt x="8183" y="230"/>
                  </a:lnTo>
                  <a:lnTo>
                    <a:pt x="8207" y="256"/>
                  </a:lnTo>
                  <a:lnTo>
                    <a:pt x="8232" y="282"/>
                  </a:lnTo>
                  <a:lnTo>
                    <a:pt x="8256" y="308"/>
                  </a:lnTo>
                  <a:lnTo>
                    <a:pt x="8279" y="335"/>
                  </a:lnTo>
                  <a:lnTo>
                    <a:pt x="8302" y="362"/>
                  </a:lnTo>
                  <a:lnTo>
                    <a:pt x="8325" y="390"/>
                  </a:lnTo>
                  <a:lnTo>
                    <a:pt x="8346" y="419"/>
                  </a:lnTo>
                  <a:lnTo>
                    <a:pt x="8388" y="476"/>
                  </a:lnTo>
                  <a:lnTo>
                    <a:pt x="8429" y="535"/>
                  </a:lnTo>
                  <a:lnTo>
                    <a:pt x="8468" y="595"/>
                  </a:lnTo>
                  <a:lnTo>
                    <a:pt x="8506" y="657"/>
                  </a:lnTo>
                  <a:lnTo>
                    <a:pt x="8469" y="613"/>
                  </a:lnTo>
                  <a:lnTo>
                    <a:pt x="8432" y="569"/>
                  </a:lnTo>
                  <a:lnTo>
                    <a:pt x="8393" y="526"/>
                  </a:lnTo>
                  <a:lnTo>
                    <a:pt x="8355" y="482"/>
                  </a:lnTo>
                  <a:lnTo>
                    <a:pt x="8316" y="439"/>
                  </a:lnTo>
                  <a:lnTo>
                    <a:pt x="8277" y="397"/>
                  </a:lnTo>
                  <a:lnTo>
                    <a:pt x="8236" y="355"/>
                  </a:lnTo>
                  <a:lnTo>
                    <a:pt x="8196" y="313"/>
                  </a:lnTo>
                  <a:lnTo>
                    <a:pt x="8156" y="272"/>
                  </a:lnTo>
                  <a:lnTo>
                    <a:pt x="8114" y="233"/>
                  </a:lnTo>
                  <a:lnTo>
                    <a:pt x="8072" y="192"/>
                  </a:lnTo>
                  <a:lnTo>
                    <a:pt x="8030" y="152"/>
                  </a:lnTo>
                  <a:lnTo>
                    <a:pt x="7986" y="114"/>
                  </a:lnTo>
                  <a:lnTo>
                    <a:pt x="7943" y="76"/>
                  </a:lnTo>
                  <a:lnTo>
                    <a:pt x="7900" y="37"/>
                  </a:lnTo>
                  <a:lnTo>
                    <a:pt x="7856" y="0"/>
                  </a:lnTo>
                  <a:close/>
                </a:path>
              </a:pathLst>
            </a:custGeom>
            <a:solidFill>
              <a:srgbClr val="f8c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76640" y="2976480"/>
              <a:ext cx="3462480" cy="2801880"/>
            </a:xfrm>
            <a:custGeom>
              <a:avLst/>
              <a:gdLst/>
              <a:ahLst/>
              <a:rect l="l" t="t" r="r" b="b"/>
              <a:pathLst>
                <a:path w="8724" h="7063">
                  <a:moveTo>
                    <a:pt x="0" y="5989"/>
                  </a:moveTo>
                  <a:lnTo>
                    <a:pt x="45" y="6088"/>
                  </a:lnTo>
                  <a:lnTo>
                    <a:pt x="93" y="6185"/>
                  </a:lnTo>
                  <a:lnTo>
                    <a:pt x="144" y="6281"/>
                  </a:lnTo>
                  <a:lnTo>
                    <a:pt x="195" y="6376"/>
                  </a:lnTo>
                  <a:lnTo>
                    <a:pt x="249" y="6469"/>
                  </a:lnTo>
                  <a:lnTo>
                    <a:pt x="306" y="6562"/>
                  </a:lnTo>
                  <a:lnTo>
                    <a:pt x="363" y="6653"/>
                  </a:lnTo>
                  <a:lnTo>
                    <a:pt x="423" y="6743"/>
                  </a:lnTo>
                  <a:lnTo>
                    <a:pt x="493" y="6785"/>
                  </a:lnTo>
                  <a:lnTo>
                    <a:pt x="562" y="6825"/>
                  </a:lnTo>
                  <a:lnTo>
                    <a:pt x="632" y="6866"/>
                  </a:lnTo>
                  <a:lnTo>
                    <a:pt x="702" y="6907"/>
                  </a:lnTo>
                  <a:lnTo>
                    <a:pt x="771" y="6947"/>
                  </a:lnTo>
                  <a:lnTo>
                    <a:pt x="841" y="6986"/>
                  </a:lnTo>
                  <a:lnTo>
                    <a:pt x="910" y="7025"/>
                  </a:lnTo>
                  <a:lnTo>
                    <a:pt x="981" y="7063"/>
                  </a:lnTo>
                  <a:lnTo>
                    <a:pt x="921" y="6992"/>
                  </a:lnTo>
                  <a:lnTo>
                    <a:pt x="861" y="6920"/>
                  </a:lnTo>
                  <a:lnTo>
                    <a:pt x="804" y="6848"/>
                  </a:lnTo>
                  <a:lnTo>
                    <a:pt x="747" y="6774"/>
                  </a:lnTo>
                  <a:lnTo>
                    <a:pt x="693" y="6698"/>
                  </a:lnTo>
                  <a:lnTo>
                    <a:pt x="639" y="6623"/>
                  </a:lnTo>
                  <a:lnTo>
                    <a:pt x="588" y="6545"/>
                  </a:lnTo>
                  <a:lnTo>
                    <a:pt x="537" y="6467"/>
                  </a:lnTo>
                  <a:lnTo>
                    <a:pt x="488" y="6388"/>
                  </a:lnTo>
                  <a:lnTo>
                    <a:pt x="440" y="6307"/>
                  </a:lnTo>
                  <a:lnTo>
                    <a:pt x="394" y="6226"/>
                  </a:lnTo>
                  <a:lnTo>
                    <a:pt x="350" y="6143"/>
                  </a:lnTo>
                  <a:lnTo>
                    <a:pt x="307" y="6060"/>
                  </a:lnTo>
                  <a:lnTo>
                    <a:pt x="266" y="5975"/>
                  </a:lnTo>
                  <a:lnTo>
                    <a:pt x="225" y="5890"/>
                  </a:lnTo>
                  <a:lnTo>
                    <a:pt x="188" y="5803"/>
                  </a:lnTo>
                  <a:lnTo>
                    <a:pt x="168" y="5824"/>
                  </a:lnTo>
                  <a:lnTo>
                    <a:pt x="146" y="5845"/>
                  </a:lnTo>
                  <a:lnTo>
                    <a:pt x="123" y="5868"/>
                  </a:lnTo>
                  <a:lnTo>
                    <a:pt x="98" y="5891"/>
                  </a:lnTo>
                  <a:lnTo>
                    <a:pt x="73" y="5915"/>
                  </a:lnTo>
                  <a:lnTo>
                    <a:pt x="48" y="5939"/>
                  </a:lnTo>
                  <a:lnTo>
                    <a:pt x="22" y="5964"/>
                  </a:lnTo>
                  <a:lnTo>
                    <a:pt x="0" y="5989"/>
                  </a:lnTo>
                  <a:close/>
                  <a:moveTo>
                    <a:pt x="7417" y="0"/>
                  </a:moveTo>
                  <a:lnTo>
                    <a:pt x="7462" y="12"/>
                  </a:lnTo>
                  <a:lnTo>
                    <a:pt x="7508" y="24"/>
                  </a:lnTo>
                  <a:lnTo>
                    <a:pt x="7552" y="38"/>
                  </a:lnTo>
                  <a:lnTo>
                    <a:pt x="7598" y="52"/>
                  </a:lnTo>
                  <a:lnTo>
                    <a:pt x="7642" y="68"/>
                  </a:lnTo>
                  <a:lnTo>
                    <a:pt x="7686" y="84"/>
                  </a:lnTo>
                  <a:lnTo>
                    <a:pt x="7729" y="102"/>
                  </a:lnTo>
                  <a:lnTo>
                    <a:pt x="7772" y="123"/>
                  </a:lnTo>
                  <a:lnTo>
                    <a:pt x="7814" y="143"/>
                  </a:lnTo>
                  <a:lnTo>
                    <a:pt x="7855" y="165"/>
                  </a:lnTo>
                  <a:lnTo>
                    <a:pt x="7894" y="189"/>
                  </a:lnTo>
                  <a:lnTo>
                    <a:pt x="7934" y="214"/>
                  </a:lnTo>
                  <a:lnTo>
                    <a:pt x="7971" y="240"/>
                  </a:lnTo>
                  <a:lnTo>
                    <a:pt x="8008" y="268"/>
                  </a:lnTo>
                  <a:lnTo>
                    <a:pt x="8043" y="298"/>
                  </a:lnTo>
                  <a:lnTo>
                    <a:pt x="8077" y="329"/>
                  </a:lnTo>
                  <a:lnTo>
                    <a:pt x="8103" y="354"/>
                  </a:lnTo>
                  <a:lnTo>
                    <a:pt x="8128" y="380"/>
                  </a:lnTo>
                  <a:lnTo>
                    <a:pt x="8152" y="406"/>
                  </a:lnTo>
                  <a:lnTo>
                    <a:pt x="8176" y="434"/>
                  </a:lnTo>
                  <a:lnTo>
                    <a:pt x="8200" y="460"/>
                  </a:lnTo>
                  <a:lnTo>
                    <a:pt x="8223" y="488"/>
                  </a:lnTo>
                  <a:lnTo>
                    <a:pt x="8246" y="516"/>
                  </a:lnTo>
                  <a:lnTo>
                    <a:pt x="8268" y="545"/>
                  </a:lnTo>
                  <a:lnTo>
                    <a:pt x="8311" y="603"/>
                  </a:lnTo>
                  <a:lnTo>
                    <a:pt x="8352" y="663"/>
                  </a:lnTo>
                  <a:lnTo>
                    <a:pt x="8391" y="724"/>
                  </a:lnTo>
                  <a:lnTo>
                    <a:pt x="8428" y="786"/>
                  </a:lnTo>
                  <a:lnTo>
                    <a:pt x="8464" y="850"/>
                  </a:lnTo>
                  <a:lnTo>
                    <a:pt x="8499" y="913"/>
                  </a:lnTo>
                  <a:lnTo>
                    <a:pt x="8533" y="978"/>
                  </a:lnTo>
                  <a:lnTo>
                    <a:pt x="8564" y="1044"/>
                  </a:lnTo>
                  <a:lnTo>
                    <a:pt x="8595" y="1110"/>
                  </a:lnTo>
                  <a:lnTo>
                    <a:pt x="8625" y="1176"/>
                  </a:lnTo>
                  <a:lnTo>
                    <a:pt x="8654" y="1243"/>
                  </a:lnTo>
                  <a:lnTo>
                    <a:pt x="8682" y="1309"/>
                  </a:lnTo>
                  <a:lnTo>
                    <a:pt x="8686" y="1323"/>
                  </a:lnTo>
                  <a:lnTo>
                    <a:pt x="8692" y="1336"/>
                  </a:lnTo>
                  <a:lnTo>
                    <a:pt x="8697" y="1349"/>
                  </a:lnTo>
                  <a:lnTo>
                    <a:pt x="8702" y="1362"/>
                  </a:lnTo>
                  <a:lnTo>
                    <a:pt x="8708" y="1377"/>
                  </a:lnTo>
                  <a:lnTo>
                    <a:pt x="8713" y="1390"/>
                  </a:lnTo>
                  <a:lnTo>
                    <a:pt x="8719" y="1403"/>
                  </a:lnTo>
                  <a:lnTo>
                    <a:pt x="8724" y="1416"/>
                  </a:lnTo>
                  <a:lnTo>
                    <a:pt x="8692" y="1363"/>
                  </a:lnTo>
                  <a:lnTo>
                    <a:pt x="8660" y="1313"/>
                  </a:lnTo>
                  <a:lnTo>
                    <a:pt x="8626" y="1261"/>
                  </a:lnTo>
                  <a:lnTo>
                    <a:pt x="8593" y="1211"/>
                  </a:lnTo>
                  <a:lnTo>
                    <a:pt x="8558" y="1161"/>
                  </a:lnTo>
                  <a:lnTo>
                    <a:pt x="8523" y="1111"/>
                  </a:lnTo>
                  <a:lnTo>
                    <a:pt x="8487" y="1062"/>
                  </a:lnTo>
                  <a:lnTo>
                    <a:pt x="8451" y="1014"/>
                  </a:lnTo>
                  <a:lnTo>
                    <a:pt x="8415" y="965"/>
                  </a:lnTo>
                  <a:lnTo>
                    <a:pt x="8377" y="918"/>
                  </a:lnTo>
                  <a:lnTo>
                    <a:pt x="8340" y="870"/>
                  </a:lnTo>
                  <a:lnTo>
                    <a:pt x="8301" y="823"/>
                  </a:lnTo>
                  <a:lnTo>
                    <a:pt x="8262" y="778"/>
                  </a:lnTo>
                  <a:lnTo>
                    <a:pt x="8222" y="732"/>
                  </a:lnTo>
                  <a:lnTo>
                    <a:pt x="8182" y="687"/>
                  </a:lnTo>
                  <a:lnTo>
                    <a:pt x="8142" y="642"/>
                  </a:lnTo>
                  <a:lnTo>
                    <a:pt x="8100" y="598"/>
                  </a:lnTo>
                  <a:lnTo>
                    <a:pt x="8058" y="555"/>
                  </a:lnTo>
                  <a:lnTo>
                    <a:pt x="8016" y="512"/>
                  </a:lnTo>
                  <a:lnTo>
                    <a:pt x="7972" y="468"/>
                  </a:lnTo>
                  <a:lnTo>
                    <a:pt x="7929" y="426"/>
                  </a:lnTo>
                  <a:lnTo>
                    <a:pt x="7885" y="384"/>
                  </a:lnTo>
                  <a:lnTo>
                    <a:pt x="7840" y="344"/>
                  </a:lnTo>
                  <a:lnTo>
                    <a:pt x="7795" y="304"/>
                  </a:lnTo>
                  <a:lnTo>
                    <a:pt x="7749" y="263"/>
                  </a:lnTo>
                  <a:lnTo>
                    <a:pt x="7704" y="225"/>
                  </a:lnTo>
                  <a:lnTo>
                    <a:pt x="7657" y="185"/>
                  </a:lnTo>
                  <a:lnTo>
                    <a:pt x="7610" y="148"/>
                  </a:lnTo>
                  <a:lnTo>
                    <a:pt x="7562" y="110"/>
                  </a:lnTo>
                  <a:lnTo>
                    <a:pt x="7514" y="74"/>
                  </a:lnTo>
                  <a:lnTo>
                    <a:pt x="7466" y="36"/>
                  </a:lnTo>
                  <a:lnTo>
                    <a:pt x="7417" y="0"/>
                  </a:lnTo>
                  <a:close/>
                </a:path>
              </a:pathLst>
            </a:custGeom>
            <a:solidFill>
              <a:srgbClr val="f8c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13360" y="2954160"/>
              <a:ext cx="3654360" cy="2887920"/>
            </a:xfrm>
            <a:custGeom>
              <a:avLst/>
              <a:gdLst/>
              <a:ahLst/>
              <a:rect l="l" t="t" r="r" b="b"/>
              <a:pathLst>
                <a:path w="9208" h="7272">
                  <a:moveTo>
                    <a:pt x="8333" y="833"/>
                  </a:moveTo>
                  <a:lnTo>
                    <a:pt x="8296" y="789"/>
                  </a:lnTo>
                  <a:lnTo>
                    <a:pt x="8259" y="745"/>
                  </a:lnTo>
                  <a:lnTo>
                    <a:pt x="8220" y="702"/>
                  </a:lnTo>
                  <a:lnTo>
                    <a:pt x="8182" y="658"/>
                  </a:lnTo>
                  <a:lnTo>
                    <a:pt x="8143" y="615"/>
                  </a:lnTo>
                  <a:lnTo>
                    <a:pt x="8104" y="573"/>
                  </a:lnTo>
                  <a:lnTo>
                    <a:pt x="8063" y="531"/>
                  </a:lnTo>
                  <a:lnTo>
                    <a:pt x="8023" y="489"/>
                  </a:lnTo>
                  <a:lnTo>
                    <a:pt x="7983" y="448"/>
                  </a:lnTo>
                  <a:lnTo>
                    <a:pt x="7941" y="409"/>
                  </a:lnTo>
                  <a:lnTo>
                    <a:pt x="7899" y="368"/>
                  </a:lnTo>
                  <a:lnTo>
                    <a:pt x="7857" y="328"/>
                  </a:lnTo>
                  <a:lnTo>
                    <a:pt x="7813" y="290"/>
                  </a:lnTo>
                  <a:lnTo>
                    <a:pt x="7770" y="252"/>
                  </a:lnTo>
                  <a:lnTo>
                    <a:pt x="7727" y="213"/>
                  </a:lnTo>
                  <a:lnTo>
                    <a:pt x="7683" y="176"/>
                  </a:lnTo>
                  <a:lnTo>
                    <a:pt x="7655" y="163"/>
                  </a:lnTo>
                  <a:lnTo>
                    <a:pt x="7626" y="150"/>
                  </a:lnTo>
                  <a:lnTo>
                    <a:pt x="7596" y="138"/>
                  </a:lnTo>
                  <a:lnTo>
                    <a:pt x="7567" y="127"/>
                  </a:lnTo>
                  <a:lnTo>
                    <a:pt x="7507" y="105"/>
                  </a:lnTo>
                  <a:lnTo>
                    <a:pt x="7447" y="86"/>
                  </a:lnTo>
                  <a:lnTo>
                    <a:pt x="7387" y="69"/>
                  </a:lnTo>
                  <a:lnTo>
                    <a:pt x="7326" y="54"/>
                  </a:lnTo>
                  <a:lnTo>
                    <a:pt x="7265" y="40"/>
                  </a:lnTo>
                  <a:lnTo>
                    <a:pt x="7205" y="28"/>
                  </a:lnTo>
                  <a:lnTo>
                    <a:pt x="7182" y="25"/>
                  </a:lnTo>
                  <a:lnTo>
                    <a:pt x="7161" y="21"/>
                  </a:lnTo>
                  <a:lnTo>
                    <a:pt x="7138" y="18"/>
                  </a:lnTo>
                  <a:lnTo>
                    <a:pt x="7116" y="14"/>
                  </a:lnTo>
                  <a:lnTo>
                    <a:pt x="7093" y="11"/>
                  </a:lnTo>
                  <a:lnTo>
                    <a:pt x="7071" y="7"/>
                  </a:lnTo>
                  <a:lnTo>
                    <a:pt x="7049" y="3"/>
                  </a:lnTo>
                  <a:lnTo>
                    <a:pt x="7026" y="0"/>
                  </a:lnTo>
                  <a:lnTo>
                    <a:pt x="7147" y="80"/>
                  </a:lnTo>
                  <a:lnTo>
                    <a:pt x="7266" y="163"/>
                  </a:lnTo>
                  <a:lnTo>
                    <a:pt x="7383" y="250"/>
                  </a:lnTo>
                  <a:lnTo>
                    <a:pt x="7495" y="340"/>
                  </a:lnTo>
                  <a:lnTo>
                    <a:pt x="7606" y="434"/>
                  </a:lnTo>
                  <a:lnTo>
                    <a:pt x="7713" y="531"/>
                  </a:lnTo>
                  <a:lnTo>
                    <a:pt x="7817" y="632"/>
                  </a:lnTo>
                  <a:lnTo>
                    <a:pt x="7918" y="735"/>
                  </a:lnTo>
                  <a:lnTo>
                    <a:pt x="8015" y="842"/>
                  </a:lnTo>
                  <a:lnTo>
                    <a:pt x="8110" y="951"/>
                  </a:lnTo>
                  <a:lnTo>
                    <a:pt x="8201" y="1064"/>
                  </a:lnTo>
                  <a:lnTo>
                    <a:pt x="8289" y="1179"/>
                  </a:lnTo>
                  <a:lnTo>
                    <a:pt x="8373" y="1297"/>
                  </a:lnTo>
                  <a:lnTo>
                    <a:pt x="8454" y="1418"/>
                  </a:lnTo>
                  <a:lnTo>
                    <a:pt x="8531" y="1540"/>
                  </a:lnTo>
                  <a:lnTo>
                    <a:pt x="8604" y="1666"/>
                  </a:lnTo>
                  <a:lnTo>
                    <a:pt x="8674" y="1794"/>
                  </a:lnTo>
                  <a:lnTo>
                    <a:pt x="8739" y="1925"/>
                  </a:lnTo>
                  <a:lnTo>
                    <a:pt x="8800" y="2057"/>
                  </a:lnTo>
                  <a:lnTo>
                    <a:pt x="8857" y="2193"/>
                  </a:lnTo>
                  <a:lnTo>
                    <a:pt x="8911" y="2329"/>
                  </a:lnTo>
                  <a:lnTo>
                    <a:pt x="8959" y="2469"/>
                  </a:lnTo>
                  <a:lnTo>
                    <a:pt x="9005" y="2610"/>
                  </a:lnTo>
                  <a:lnTo>
                    <a:pt x="9045" y="2753"/>
                  </a:lnTo>
                  <a:lnTo>
                    <a:pt x="9081" y="2898"/>
                  </a:lnTo>
                  <a:lnTo>
                    <a:pt x="9112" y="3044"/>
                  </a:lnTo>
                  <a:lnTo>
                    <a:pt x="9139" y="3193"/>
                  </a:lnTo>
                  <a:lnTo>
                    <a:pt x="9161" y="3343"/>
                  </a:lnTo>
                  <a:lnTo>
                    <a:pt x="9179" y="3494"/>
                  </a:lnTo>
                  <a:lnTo>
                    <a:pt x="9191" y="3647"/>
                  </a:lnTo>
                  <a:lnTo>
                    <a:pt x="9198" y="3800"/>
                  </a:lnTo>
                  <a:lnTo>
                    <a:pt x="9201" y="3956"/>
                  </a:lnTo>
                  <a:lnTo>
                    <a:pt x="9201" y="3960"/>
                  </a:lnTo>
                  <a:lnTo>
                    <a:pt x="9201" y="3963"/>
                  </a:lnTo>
                  <a:lnTo>
                    <a:pt x="9201" y="3967"/>
                  </a:lnTo>
                  <a:lnTo>
                    <a:pt x="9201" y="3971"/>
                  </a:lnTo>
                  <a:lnTo>
                    <a:pt x="9201" y="3974"/>
                  </a:lnTo>
                  <a:lnTo>
                    <a:pt x="9201" y="3977"/>
                  </a:lnTo>
                  <a:lnTo>
                    <a:pt x="9201" y="3980"/>
                  </a:lnTo>
                  <a:lnTo>
                    <a:pt x="9201" y="3984"/>
                  </a:lnTo>
                  <a:lnTo>
                    <a:pt x="9205" y="3895"/>
                  </a:lnTo>
                  <a:lnTo>
                    <a:pt x="9207" y="3805"/>
                  </a:lnTo>
                  <a:lnTo>
                    <a:pt x="9208" y="3761"/>
                  </a:lnTo>
                  <a:lnTo>
                    <a:pt x="9207" y="3716"/>
                  </a:lnTo>
                  <a:lnTo>
                    <a:pt x="9205" y="3672"/>
                  </a:lnTo>
                  <a:lnTo>
                    <a:pt x="9204" y="3626"/>
                  </a:lnTo>
                  <a:lnTo>
                    <a:pt x="9202" y="3582"/>
                  </a:lnTo>
                  <a:lnTo>
                    <a:pt x="9199" y="3538"/>
                  </a:lnTo>
                  <a:lnTo>
                    <a:pt x="9196" y="3493"/>
                  </a:lnTo>
                  <a:lnTo>
                    <a:pt x="9191" y="3450"/>
                  </a:lnTo>
                  <a:lnTo>
                    <a:pt x="9186" y="3406"/>
                  </a:lnTo>
                  <a:lnTo>
                    <a:pt x="9180" y="3361"/>
                  </a:lnTo>
                  <a:lnTo>
                    <a:pt x="9174" y="3317"/>
                  </a:lnTo>
                  <a:lnTo>
                    <a:pt x="9167" y="3274"/>
                  </a:lnTo>
                  <a:lnTo>
                    <a:pt x="9144" y="3151"/>
                  </a:lnTo>
                  <a:lnTo>
                    <a:pt x="9119" y="3029"/>
                  </a:lnTo>
                  <a:lnTo>
                    <a:pt x="9093" y="2907"/>
                  </a:lnTo>
                  <a:lnTo>
                    <a:pt x="9063" y="2785"/>
                  </a:lnTo>
                  <a:lnTo>
                    <a:pt x="9033" y="2664"/>
                  </a:lnTo>
                  <a:lnTo>
                    <a:pt x="8999" y="2543"/>
                  </a:lnTo>
                  <a:lnTo>
                    <a:pt x="8965" y="2423"/>
                  </a:lnTo>
                  <a:lnTo>
                    <a:pt x="8928" y="2303"/>
                  </a:lnTo>
                  <a:lnTo>
                    <a:pt x="8891" y="2183"/>
                  </a:lnTo>
                  <a:lnTo>
                    <a:pt x="8851" y="2064"/>
                  </a:lnTo>
                  <a:lnTo>
                    <a:pt x="8811" y="1947"/>
                  </a:lnTo>
                  <a:lnTo>
                    <a:pt x="8769" y="1828"/>
                  </a:lnTo>
                  <a:lnTo>
                    <a:pt x="8725" y="1710"/>
                  </a:lnTo>
                  <a:lnTo>
                    <a:pt x="8681" y="1594"/>
                  </a:lnTo>
                  <a:lnTo>
                    <a:pt x="8635" y="1478"/>
                  </a:lnTo>
                  <a:lnTo>
                    <a:pt x="8589" y="1361"/>
                  </a:lnTo>
                  <a:lnTo>
                    <a:pt x="8560" y="1294"/>
                  </a:lnTo>
                  <a:lnTo>
                    <a:pt x="8531" y="1227"/>
                  </a:lnTo>
                  <a:lnTo>
                    <a:pt x="8501" y="1160"/>
                  </a:lnTo>
                  <a:lnTo>
                    <a:pt x="8470" y="1094"/>
                  </a:lnTo>
                  <a:lnTo>
                    <a:pt x="8437" y="1028"/>
                  </a:lnTo>
                  <a:lnTo>
                    <a:pt x="8404" y="962"/>
                  </a:lnTo>
                  <a:lnTo>
                    <a:pt x="8369" y="897"/>
                  </a:lnTo>
                  <a:lnTo>
                    <a:pt x="8333" y="833"/>
                  </a:lnTo>
                  <a:close/>
                  <a:moveTo>
                    <a:pt x="0" y="5948"/>
                  </a:moveTo>
                  <a:lnTo>
                    <a:pt x="30" y="6015"/>
                  </a:lnTo>
                  <a:lnTo>
                    <a:pt x="61" y="6081"/>
                  </a:lnTo>
                  <a:lnTo>
                    <a:pt x="94" y="6147"/>
                  </a:lnTo>
                  <a:lnTo>
                    <a:pt x="127" y="6213"/>
                  </a:lnTo>
                  <a:lnTo>
                    <a:pt x="161" y="6278"/>
                  </a:lnTo>
                  <a:lnTo>
                    <a:pt x="196" y="6341"/>
                  </a:lnTo>
                  <a:lnTo>
                    <a:pt x="232" y="6405"/>
                  </a:lnTo>
                  <a:lnTo>
                    <a:pt x="269" y="6468"/>
                  </a:lnTo>
                  <a:lnTo>
                    <a:pt x="306" y="6531"/>
                  </a:lnTo>
                  <a:lnTo>
                    <a:pt x="345" y="6593"/>
                  </a:lnTo>
                  <a:lnTo>
                    <a:pt x="384" y="6654"/>
                  </a:lnTo>
                  <a:lnTo>
                    <a:pt x="425" y="6715"/>
                  </a:lnTo>
                  <a:lnTo>
                    <a:pt x="466" y="6775"/>
                  </a:lnTo>
                  <a:lnTo>
                    <a:pt x="509" y="6834"/>
                  </a:lnTo>
                  <a:lnTo>
                    <a:pt x="551" y="6893"/>
                  </a:lnTo>
                  <a:lnTo>
                    <a:pt x="595" y="6952"/>
                  </a:lnTo>
                  <a:lnTo>
                    <a:pt x="670" y="6994"/>
                  </a:lnTo>
                  <a:lnTo>
                    <a:pt x="743" y="7036"/>
                  </a:lnTo>
                  <a:lnTo>
                    <a:pt x="819" y="7078"/>
                  </a:lnTo>
                  <a:lnTo>
                    <a:pt x="893" y="7117"/>
                  </a:lnTo>
                  <a:lnTo>
                    <a:pt x="970" y="7158"/>
                  </a:lnTo>
                  <a:lnTo>
                    <a:pt x="1047" y="7197"/>
                  </a:lnTo>
                  <a:lnTo>
                    <a:pt x="1125" y="7235"/>
                  </a:lnTo>
                  <a:lnTo>
                    <a:pt x="1204" y="7272"/>
                  </a:lnTo>
                  <a:lnTo>
                    <a:pt x="1164" y="7233"/>
                  </a:lnTo>
                  <a:lnTo>
                    <a:pt x="1125" y="7192"/>
                  </a:lnTo>
                  <a:lnTo>
                    <a:pt x="1085" y="7150"/>
                  </a:lnTo>
                  <a:lnTo>
                    <a:pt x="1047" y="7109"/>
                  </a:lnTo>
                  <a:lnTo>
                    <a:pt x="1009" y="7066"/>
                  </a:lnTo>
                  <a:lnTo>
                    <a:pt x="972" y="7024"/>
                  </a:lnTo>
                  <a:lnTo>
                    <a:pt x="935" y="6981"/>
                  </a:lnTo>
                  <a:lnTo>
                    <a:pt x="899" y="6937"/>
                  </a:lnTo>
                  <a:lnTo>
                    <a:pt x="863" y="6893"/>
                  </a:lnTo>
                  <a:lnTo>
                    <a:pt x="828" y="6849"/>
                  </a:lnTo>
                  <a:lnTo>
                    <a:pt x="793" y="6804"/>
                  </a:lnTo>
                  <a:lnTo>
                    <a:pt x="759" y="6759"/>
                  </a:lnTo>
                  <a:lnTo>
                    <a:pt x="725" y="6713"/>
                  </a:lnTo>
                  <a:lnTo>
                    <a:pt x="691" y="6668"/>
                  </a:lnTo>
                  <a:lnTo>
                    <a:pt x="659" y="6621"/>
                  </a:lnTo>
                  <a:lnTo>
                    <a:pt x="627" y="6574"/>
                  </a:lnTo>
                  <a:lnTo>
                    <a:pt x="595" y="6527"/>
                  </a:lnTo>
                  <a:lnTo>
                    <a:pt x="564" y="6479"/>
                  </a:lnTo>
                  <a:lnTo>
                    <a:pt x="534" y="6431"/>
                  </a:lnTo>
                  <a:lnTo>
                    <a:pt x="504" y="6383"/>
                  </a:lnTo>
                  <a:lnTo>
                    <a:pt x="475" y="6334"/>
                  </a:lnTo>
                  <a:lnTo>
                    <a:pt x="447" y="6285"/>
                  </a:lnTo>
                  <a:lnTo>
                    <a:pt x="419" y="6234"/>
                  </a:lnTo>
                  <a:lnTo>
                    <a:pt x="391" y="6185"/>
                  </a:lnTo>
                  <a:lnTo>
                    <a:pt x="364" y="6135"/>
                  </a:lnTo>
                  <a:lnTo>
                    <a:pt x="337" y="6083"/>
                  </a:lnTo>
                  <a:lnTo>
                    <a:pt x="312" y="6033"/>
                  </a:lnTo>
                  <a:lnTo>
                    <a:pt x="287" y="5981"/>
                  </a:lnTo>
                  <a:lnTo>
                    <a:pt x="263" y="5930"/>
                  </a:lnTo>
                  <a:lnTo>
                    <a:pt x="239" y="5877"/>
                  </a:lnTo>
                  <a:lnTo>
                    <a:pt x="215" y="5825"/>
                  </a:lnTo>
                  <a:lnTo>
                    <a:pt x="193" y="5773"/>
                  </a:lnTo>
                  <a:lnTo>
                    <a:pt x="181" y="5779"/>
                  </a:lnTo>
                  <a:lnTo>
                    <a:pt x="171" y="5786"/>
                  </a:lnTo>
                  <a:lnTo>
                    <a:pt x="159" y="5794"/>
                  </a:lnTo>
                  <a:lnTo>
                    <a:pt x="149" y="5801"/>
                  </a:lnTo>
                  <a:lnTo>
                    <a:pt x="138" y="5810"/>
                  </a:lnTo>
                  <a:lnTo>
                    <a:pt x="129" y="5819"/>
                  </a:lnTo>
                  <a:lnTo>
                    <a:pt x="119" y="5829"/>
                  </a:lnTo>
                  <a:lnTo>
                    <a:pt x="109" y="5839"/>
                  </a:lnTo>
                  <a:lnTo>
                    <a:pt x="100" y="5851"/>
                  </a:lnTo>
                  <a:lnTo>
                    <a:pt x="88" y="5864"/>
                  </a:lnTo>
                  <a:lnTo>
                    <a:pt x="75" y="5876"/>
                  </a:lnTo>
                  <a:lnTo>
                    <a:pt x="61" y="5890"/>
                  </a:lnTo>
                  <a:lnTo>
                    <a:pt x="47" y="5903"/>
                  </a:lnTo>
                  <a:lnTo>
                    <a:pt x="31" y="5918"/>
                  </a:lnTo>
                  <a:lnTo>
                    <a:pt x="16" y="5932"/>
                  </a:lnTo>
                  <a:lnTo>
                    <a:pt x="0" y="5948"/>
                  </a:lnTo>
                  <a:close/>
                  <a:moveTo>
                    <a:pt x="8869" y="5690"/>
                  </a:moveTo>
                  <a:lnTo>
                    <a:pt x="8833" y="5797"/>
                  </a:lnTo>
                  <a:lnTo>
                    <a:pt x="8795" y="5902"/>
                  </a:lnTo>
                  <a:lnTo>
                    <a:pt x="8776" y="5954"/>
                  </a:lnTo>
                  <a:lnTo>
                    <a:pt x="8755" y="6006"/>
                  </a:lnTo>
                  <a:lnTo>
                    <a:pt x="8734" y="6058"/>
                  </a:lnTo>
                  <a:lnTo>
                    <a:pt x="8712" y="6111"/>
                  </a:lnTo>
                  <a:lnTo>
                    <a:pt x="8689" y="6162"/>
                  </a:lnTo>
                  <a:lnTo>
                    <a:pt x="8667" y="6214"/>
                  </a:lnTo>
                  <a:lnTo>
                    <a:pt x="8643" y="6264"/>
                  </a:lnTo>
                  <a:lnTo>
                    <a:pt x="8617" y="6316"/>
                  </a:lnTo>
                  <a:lnTo>
                    <a:pt x="8592" y="6366"/>
                  </a:lnTo>
                  <a:lnTo>
                    <a:pt x="8567" y="6418"/>
                  </a:lnTo>
                  <a:lnTo>
                    <a:pt x="8541" y="6468"/>
                  </a:lnTo>
                  <a:lnTo>
                    <a:pt x="8513" y="6518"/>
                  </a:lnTo>
                  <a:lnTo>
                    <a:pt x="8483" y="6570"/>
                  </a:lnTo>
                  <a:lnTo>
                    <a:pt x="8451" y="6622"/>
                  </a:lnTo>
                  <a:lnTo>
                    <a:pt x="8418" y="6672"/>
                  </a:lnTo>
                  <a:lnTo>
                    <a:pt x="8383" y="6720"/>
                  </a:lnTo>
                  <a:lnTo>
                    <a:pt x="8347" y="6768"/>
                  </a:lnTo>
                  <a:lnTo>
                    <a:pt x="8310" y="6815"/>
                  </a:lnTo>
                  <a:lnTo>
                    <a:pt x="8273" y="6859"/>
                  </a:lnTo>
                  <a:lnTo>
                    <a:pt x="8233" y="6904"/>
                  </a:lnTo>
                  <a:lnTo>
                    <a:pt x="8193" y="6947"/>
                  </a:lnTo>
                  <a:lnTo>
                    <a:pt x="8151" y="6989"/>
                  </a:lnTo>
                  <a:lnTo>
                    <a:pt x="8109" y="7029"/>
                  </a:lnTo>
                  <a:lnTo>
                    <a:pt x="8064" y="7068"/>
                  </a:lnTo>
                  <a:lnTo>
                    <a:pt x="8020" y="7108"/>
                  </a:lnTo>
                  <a:lnTo>
                    <a:pt x="7974" y="7145"/>
                  </a:lnTo>
                  <a:lnTo>
                    <a:pt x="7927" y="7181"/>
                  </a:lnTo>
                  <a:lnTo>
                    <a:pt x="7879" y="7217"/>
                  </a:lnTo>
                  <a:lnTo>
                    <a:pt x="7919" y="7176"/>
                  </a:lnTo>
                  <a:lnTo>
                    <a:pt x="7957" y="7134"/>
                  </a:lnTo>
                  <a:lnTo>
                    <a:pt x="7996" y="7092"/>
                  </a:lnTo>
                  <a:lnTo>
                    <a:pt x="8034" y="7050"/>
                  </a:lnTo>
                  <a:lnTo>
                    <a:pt x="8071" y="7007"/>
                  </a:lnTo>
                  <a:lnTo>
                    <a:pt x="8109" y="6964"/>
                  </a:lnTo>
                  <a:lnTo>
                    <a:pt x="8145" y="6919"/>
                  </a:lnTo>
                  <a:lnTo>
                    <a:pt x="8181" y="6875"/>
                  </a:lnTo>
                  <a:lnTo>
                    <a:pt x="8215" y="6831"/>
                  </a:lnTo>
                  <a:lnTo>
                    <a:pt x="8250" y="6785"/>
                  </a:lnTo>
                  <a:lnTo>
                    <a:pt x="8285" y="6739"/>
                  </a:lnTo>
                  <a:lnTo>
                    <a:pt x="8319" y="6694"/>
                  </a:lnTo>
                  <a:lnTo>
                    <a:pt x="8351" y="6647"/>
                  </a:lnTo>
                  <a:lnTo>
                    <a:pt x="8383" y="6600"/>
                  </a:lnTo>
                  <a:lnTo>
                    <a:pt x="8416" y="6552"/>
                  </a:lnTo>
                  <a:lnTo>
                    <a:pt x="8447" y="6506"/>
                  </a:lnTo>
                  <a:lnTo>
                    <a:pt x="8478" y="6456"/>
                  </a:lnTo>
                  <a:lnTo>
                    <a:pt x="8508" y="6408"/>
                  </a:lnTo>
                  <a:lnTo>
                    <a:pt x="8538" y="6359"/>
                  </a:lnTo>
                  <a:lnTo>
                    <a:pt x="8567" y="6310"/>
                  </a:lnTo>
                  <a:lnTo>
                    <a:pt x="8596" y="6261"/>
                  </a:lnTo>
                  <a:lnTo>
                    <a:pt x="8623" y="6210"/>
                  </a:lnTo>
                  <a:lnTo>
                    <a:pt x="8651" y="6160"/>
                  </a:lnTo>
                  <a:lnTo>
                    <a:pt x="8677" y="6110"/>
                  </a:lnTo>
                  <a:lnTo>
                    <a:pt x="8704" y="6058"/>
                  </a:lnTo>
                  <a:lnTo>
                    <a:pt x="8729" y="6006"/>
                  </a:lnTo>
                  <a:lnTo>
                    <a:pt x="8754" y="5955"/>
                  </a:lnTo>
                  <a:lnTo>
                    <a:pt x="8778" y="5902"/>
                  </a:lnTo>
                  <a:lnTo>
                    <a:pt x="8802" y="5849"/>
                  </a:lnTo>
                  <a:lnTo>
                    <a:pt x="8825" y="5797"/>
                  </a:lnTo>
                  <a:lnTo>
                    <a:pt x="8848" y="5744"/>
                  </a:lnTo>
                  <a:lnTo>
                    <a:pt x="8869" y="5690"/>
                  </a:lnTo>
                  <a:close/>
                </a:path>
              </a:pathLst>
            </a:custGeom>
            <a:solidFill>
              <a:srgbClr val="f8c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51160" y="2941560"/>
              <a:ext cx="3616560" cy="2997360"/>
            </a:xfrm>
            <a:custGeom>
              <a:avLst/>
              <a:gdLst/>
              <a:ahLst/>
              <a:rect l="l" t="t" r="r" b="b"/>
              <a:pathLst>
                <a:path w="9112" h="7554">
                  <a:moveTo>
                    <a:pt x="8536" y="1503"/>
                  </a:moveTo>
                  <a:lnTo>
                    <a:pt x="8504" y="1450"/>
                  </a:lnTo>
                  <a:lnTo>
                    <a:pt x="8472" y="1400"/>
                  </a:lnTo>
                  <a:lnTo>
                    <a:pt x="8438" y="1348"/>
                  </a:lnTo>
                  <a:lnTo>
                    <a:pt x="8405" y="1298"/>
                  </a:lnTo>
                  <a:lnTo>
                    <a:pt x="8370" y="1248"/>
                  </a:lnTo>
                  <a:lnTo>
                    <a:pt x="8335" y="1198"/>
                  </a:lnTo>
                  <a:lnTo>
                    <a:pt x="8299" y="1149"/>
                  </a:lnTo>
                  <a:lnTo>
                    <a:pt x="8263" y="1101"/>
                  </a:lnTo>
                  <a:lnTo>
                    <a:pt x="8227" y="1052"/>
                  </a:lnTo>
                  <a:lnTo>
                    <a:pt x="8189" y="1005"/>
                  </a:lnTo>
                  <a:lnTo>
                    <a:pt x="8152" y="957"/>
                  </a:lnTo>
                  <a:lnTo>
                    <a:pt x="8113" y="910"/>
                  </a:lnTo>
                  <a:lnTo>
                    <a:pt x="8074" y="865"/>
                  </a:lnTo>
                  <a:lnTo>
                    <a:pt x="8034" y="819"/>
                  </a:lnTo>
                  <a:lnTo>
                    <a:pt x="7994" y="774"/>
                  </a:lnTo>
                  <a:lnTo>
                    <a:pt x="7954" y="729"/>
                  </a:lnTo>
                  <a:lnTo>
                    <a:pt x="7912" y="685"/>
                  </a:lnTo>
                  <a:lnTo>
                    <a:pt x="7870" y="642"/>
                  </a:lnTo>
                  <a:lnTo>
                    <a:pt x="7828" y="599"/>
                  </a:lnTo>
                  <a:lnTo>
                    <a:pt x="7784" y="555"/>
                  </a:lnTo>
                  <a:lnTo>
                    <a:pt x="7741" y="513"/>
                  </a:lnTo>
                  <a:lnTo>
                    <a:pt x="7697" y="471"/>
                  </a:lnTo>
                  <a:lnTo>
                    <a:pt x="7652" y="431"/>
                  </a:lnTo>
                  <a:lnTo>
                    <a:pt x="7607" y="391"/>
                  </a:lnTo>
                  <a:lnTo>
                    <a:pt x="7561" y="350"/>
                  </a:lnTo>
                  <a:lnTo>
                    <a:pt x="7516" y="312"/>
                  </a:lnTo>
                  <a:lnTo>
                    <a:pt x="7469" y="272"/>
                  </a:lnTo>
                  <a:lnTo>
                    <a:pt x="7422" y="235"/>
                  </a:lnTo>
                  <a:lnTo>
                    <a:pt x="7374" y="197"/>
                  </a:lnTo>
                  <a:lnTo>
                    <a:pt x="7326" y="161"/>
                  </a:lnTo>
                  <a:lnTo>
                    <a:pt x="7278" y="123"/>
                  </a:lnTo>
                  <a:lnTo>
                    <a:pt x="7229" y="87"/>
                  </a:lnTo>
                  <a:lnTo>
                    <a:pt x="7214" y="85"/>
                  </a:lnTo>
                  <a:lnTo>
                    <a:pt x="7199" y="81"/>
                  </a:lnTo>
                  <a:lnTo>
                    <a:pt x="7184" y="78"/>
                  </a:lnTo>
                  <a:lnTo>
                    <a:pt x="7169" y="75"/>
                  </a:lnTo>
                  <a:lnTo>
                    <a:pt x="7154" y="72"/>
                  </a:lnTo>
                  <a:lnTo>
                    <a:pt x="7139" y="69"/>
                  </a:lnTo>
                  <a:lnTo>
                    <a:pt x="7124" y="67"/>
                  </a:lnTo>
                  <a:lnTo>
                    <a:pt x="7110" y="63"/>
                  </a:lnTo>
                  <a:lnTo>
                    <a:pt x="7050" y="54"/>
                  </a:lnTo>
                  <a:lnTo>
                    <a:pt x="6991" y="44"/>
                  </a:lnTo>
                  <a:lnTo>
                    <a:pt x="6932" y="35"/>
                  </a:lnTo>
                  <a:lnTo>
                    <a:pt x="6872" y="26"/>
                  </a:lnTo>
                  <a:lnTo>
                    <a:pt x="6812" y="19"/>
                  </a:lnTo>
                  <a:lnTo>
                    <a:pt x="6751" y="12"/>
                  </a:lnTo>
                  <a:lnTo>
                    <a:pt x="6691" y="6"/>
                  </a:lnTo>
                  <a:lnTo>
                    <a:pt x="6631" y="0"/>
                  </a:lnTo>
                  <a:lnTo>
                    <a:pt x="6761" y="75"/>
                  </a:lnTo>
                  <a:lnTo>
                    <a:pt x="6888" y="155"/>
                  </a:lnTo>
                  <a:lnTo>
                    <a:pt x="7013" y="237"/>
                  </a:lnTo>
                  <a:lnTo>
                    <a:pt x="7135" y="325"/>
                  </a:lnTo>
                  <a:lnTo>
                    <a:pt x="7253" y="415"/>
                  </a:lnTo>
                  <a:lnTo>
                    <a:pt x="7369" y="510"/>
                  </a:lnTo>
                  <a:lnTo>
                    <a:pt x="7481" y="608"/>
                  </a:lnTo>
                  <a:lnTo>
                    <a:pt x="7590" y="710"/>
                  </a:lnTo>
                  <a:lnTo>
                    <a:pt x="7696" y="816"/>
                  </a:lnTo>
                  <a:lnTo>
                    <a:pt x="7798" y="925"/>
                  </a:lnTo>
                  <a:lnTo>
                    <a:pt x="7896" y="1036"/>
                  </a:lnTo>
                  <a:lnTo>
                    <a:pt x="7991" y="1152"/>
                  </a:lnTo>
                  <a:lnTo>
                    <a:pt x="8082" y="1270"/>
                  </a:lnTo>
                  <a:lnTo>
                    <a:pt x="8170" y="1392"/>
                  </a:lnTo>
                  <a:lnTo>
                    <a:pt x="8254" y="1516"/>
                  </a:lnTo>
                  <a:lnTo>
                    <a:pt x="8333" y="1643"/>
                  </a:lnTo>
                  <a:lnTo>
                    <a:pt x="8408" y="1773"/>
                  </a:lnTo>
                  <a:lnTo>
                    <a:pt x="8479" y="1906"/>
                  </a:lnTo>
                  <a:lnTo>
                    <a:pt x="8546" y="2042"/>
                  </a:lnTo>
                  <a:lnTo>
                    <a:pt x="8609" y="2179"/>
                  </a:lnTo>
                  <a:lnTo>
                    <a:pt x="8666" y="2319"/>
                  </a:lnTo>
                  <a:lnTo>
                    <a:pt x="8719" y="2462"/>
                  </a:lnTo>
                  <a:lnTo>
                    <a:pt x="8768" y="2606"/>
                  </a:lnTo>
                  <a:lnTo>
                    <a:pt x="8813" y="2752"/>
                  </a:lnTo>
                  <a:lnTo>
                    <a:pt x="8851" y="2901"/>
                  </a:lnTo>
                  <a:lnTo>
                    <a:pt x="8886" y="3052"/>
                  </a:lnTo>
                  <a:lnTo>
                    <a:pt x="8915" y="3204"/>
                  </a:lnTo>
                  <a:lnTo>
                    <a:pt x="8939" y="3359"/>
                  </a:lnTo>
                  <a:lnTo>
                    <a:pt x="8958" y="3515"/>
                  </a:lnTo>
                  <a:lnTo>
                    <a:pt x="8971" y="3672"/>
                  </a:lnTo>
                  <a:lnTo>
                    <a:pt x="8980" y="3830"/>
                  </a:lnTo>
                  <a:lnTo>
                    <a:pt x="8983" y="3991"/>
                  </a:lnTo>
                  <a:lnTo>
                    <a:pt x="8981" y="4126"/>
                  </a:lnTo>
                  <a:lnTo>
                    <a:pt x="8975" y="4260"/>
                  </a:lnTo>
                  <a:lnTo>
                    <a:pt x="8965" y="4392"/>
                  </a:lnTo>
                  <a:lnTo>
                    <a:pt x="8952" y="4524"/>
                  </a:lnTo>
                  <a:lnTo>
                    <a:pt x="8935" y="4655"/>
                  </a:lnTo>
                  <a:lnTo>
                    <a:pt x="8914" y="4784"/>
                  </a:lnTo>
                  <a:lnTo>
                    <a:pt x="8890" y="4911"/>
                  </a:lnTo>
                  <a:lnTo>
                    <a:pt x="8862" y="5039"/>
                  </a:lnTo>
                  <a:lnTo>
                    <a:pt x="8831" y="5165"/>
                  </a:lnTo>
                  <a:lnTo>
                    <a:pt x="8796" y="5288"/>
                  </a:lnTo>
                  <a:lnTo>
                    <a:pt x="8758" y="5410"/>
                  </a:lnTo>
                  <a:lnTo>
                    <a:pt x="8716" y="5532"/>
                  </a:lnTo>
                  <a:lnTo>
                    <a:pt x="8671" y="5652"/>
                  </a:lnTo>
                  <a:lnTo>
                    <a:pt x="8623" y="5769"/>
                  </a:lnTo>
                  <a:lnTo>
                    <a:pt x="8572" y="5886"/>
                  </a:lnTo>
                  <a:lnTo>
                    <a:pt x="8518" y="5999"/>
                  </a:lnTo>
                  <a:lnTo>
                    <a:pt x="8460" y="6112"/>
                  </a:lnTo>
                  <a:lnTo>
                    <a:pt x="8400" y="6224"/>
                  </a:lnTo>
                  <a:lnTo>
                    <a:pt x="8336" y="6333"/>
                  </a:lnTo>
                  <a:lnTo>
                    <a:pt x="8270" y="6440"/>
                  </a:lnTo>
                  <a:lnTo>
                    <a:pt x="8201" y="6545"/>
                  </a:lnTo>
                  <a:lnTo>
                    <a:pt x="8129" y="6649"/>
                  </a:lnTo>
                  <a:lnTo>
                    <a:pt x="8054" y="6749"/>
                  </a:lnTo>
                  <a:lnTo>
                    <a:pt x="7978" y="6848"/>
                  </a:lnTo>
                  <a:lnTo>
                    <a:pt x="7897" y="6945"/>
                  </a:lnTo>
                  <a:lnTo>
                    <a:pt x="7814" y="7038"/>
                  </a:lnTo>
                  <a:lnTo>
                    <a:pt x="7729" y="7131"/>
                  </a:lnTo>
                  <a:lnTo>
                    <a:pt x="7642" y="7221"/>
                  </a:lnTo>
                  <a:lnTo>
                    <a:pt x="7553" y="7307"/>
                  </a:lnTo>
                  <a:lnTo>
                    <a:pt x="7460" y="7392"/>
                  </a:lnTo>
                  <a:lnTo>
                    <a:pt x="7366" y="7475"/>
                  </a:lnTo>
                  <a:lnTo>
                    <a:pt x="7268" y="7554"/>
                  </a:lnTo>
                  <a:lnTo>
                    <a:pt x="7286" y="7546"/>
                  </a:lnTo>
                  <a:lnTo>
                    <a:pt x="7304" y="7537"/>
                  </a:lnTo>
                  <a:lnTo>
                    <a:pt x="7322" y="7529"/>
                  </a:lnTo>
                  <a:lnTo>
                    <a:pt x="7340" y="7519"/>
                  </a:lnTo>
                  <a:lnTo>
                    <a:pt x="7358" y="7511"/>
                  </a:lnTo>
                  <a:lnTo>
                    <a:pt x="7376" y="7503"/>
                  </a:lnTo>
                  <a:lnTo>
                    <a:pt x="7393" y="7493"/>
                  </a:lnTo>
                  <a:lnTo>
                    <a:pt x="7411" y="7483"/>
                  </a:lnTo>
                  <a:lnTo>
                    <a:pt x="7489" y="7442"/>
                  </a:lnTo>
                  <a:lnTo>
                    <a:pt x="7565" y="7397"/>
                  </a:lnTo>
                  <a:lnTo>
                    <a:pt x="7602" y="7374"/>
                  </a:lnTo>
                  <a:lnTo>
                    <a:pt x="7639" y="7350"/>
                  </a:lnTo>
                  <a:lnTo>
                    <a:pt x="7676" y="7326"/>
                  </a:lnTo>
                  <a:lnTo>
                    <a:pt x="7712" y="7302"/>
                  </a:lnTo>
                  <a:lnTo>
                    <a:pt x="7748" y="7278"/>
                  </a:lnTo>
                  <a:lnTo>
                    <a:pt x="7783" y="7253"/>
                  </a:lnTo>
                  <a:lnTo>
                    <a:pt x="7818" y="7227"/>
                  </a:lnTo>
                  <a:lnTo>
                    <a:pt x="7853" y="7200"/>
                  </a:lnTo>
                  <a:lnTo>
                    <a:pt x="7886" y="7174"/>
                  </a:lnTo>
                  <a:lnTo>
                    <a:pt x="7920" y="7146"/>
                  </a:lnTo>
                  <a:lnTo>
                    <a:pt x="7952" y="7119"/>
                  </a:lnTo>
                  <a:lnTo>
                    <a:pt x="7985" y="7090"/>
                  </a:lnTo>
                  <a:lnTo>
                    <a:pt x="8017" y="7061"/>
                  </a:lnTo>
                  <a:lnTo>
                    <a:pt x="8048" y="7031"/>
                  </a:lnTo>
                  <a:lnTo>
                    <a:pt x="8078" y="7001"/>
                  </a:lnTo>
                  <a:lnTo>
                    <a:pt x="8108" y="6970"/>
                  </a:lnTo>
                  <a:lnTo>
                    <a:pt x="8137" y="6939"/>
                  </a:lnTo>
                  <a:lnTo>
                    <a:pt x="8166" y="6908"/>
                  </a:lnTo>
                  <a:lnTo>
                    <a:pt x="8195" y="6875"/>
                  </a:lnTo>
                  <a:lnTo>
                    <a:pt x="8222" y="6842"/>
                  </a:lnTo>
                  <a:lnTo>
                    <a:pt x="8249" y="6808"/>
                  </a:lnTo>
                  <a:lnTo>
                    <a:pt x="8275" y="6773"/>
                  </a:lnTo>
                  <a:lnTo>
                    <a:pt x="8300" y="6738"/>
                  </a:lnTo>
                  <a:lnTo>
                    <a:pt x="8326" y="6703"/>
                  </a:lnTo>
                  <a:lnTo>
                    <a:pt x="8350" y="6667"/>
                  </a:lnTo>
                  <a:lnTo>
                    <a:pt x="8374" y="6629"/>
                  </a:lnTo>
                  <a:lnTo>
                    <a:pt x="8395" y="6591"/>
                  </a:lnTo>
                  <a:lnTo>
                    <a:pt x="8418" y="6553"/>
                  </a:lnTo>
                  <a:lnTo>
                    <a:pt x="8449" y="6494"/>
                  </a:lnTo>
                  <a:lnTo>
                    <a:pt x="8480" y="6435"/>
                  </a:lnTo>
                  <a:lnTo>
                    <a:pt x="8510" y="6376"/>
                  </a:lnTo>
                  <a:lnTo>
                    <a:pt x="8540" y="6316"/>
                  </a:lnTo>
                  <a:lnTo>
                    <a:pt x="8568" y="6256"/>
                  </a:lnTo>
                  <a:lnTo>
                    <a:pt x="8596" y="6195"/>
                  </a:lnTo>
                  <a:lnTo>
                    <a:pt x="8622" y="6135"/>
                  </a:lnTo>
                  <a:lnTo>
                    <a:pt x="8647" y="6074"/>
                  </a:lnTo>
                  <a:lnTo>
                    <a:pt x="8671" y="6013"/>
                  </a:lnTo>
                  <a:lnTo>
                    <a:pt x="8695" y="5952"/>
                  </a:lnTo>
                  <a:lnTo>
                    <a:pt x="8718" y="5890"/>
                  </a:lnTo>
                  <a:lnTo>
                    <a:pt x="8740" y="5828"/>
                  </a:lnTo>
                  <a:lnTo>
                    <a:pt x="8761" y="5766"/>
                  </a:lnTo>
                  <a:lnTo>
                    <a:pt x="8782" y="5703"/>
                  </a:lnTo>
                  <a:lnTo>
                    <a:pt x="8801" y="5641"/>
                  </a:lnTo>
                  <a:lnTo>
                    <a:pt x="8820" y="5577"/>
                  </a:lnTo>
                  <a:lnTo>
                    <a:pt x="8839" y="5514"/>
                  </a:lnTo>
                  <a:lnTo>
                    <a:pt x="8856" y="5451"/>
                  </a:lnTo>
                  <a:lnTo>
                    <a:pt x="8874" y="5388"/>
                  </a:lnTo>
                  <a:lnTo>
                    <a:pt x="8890" y="5323"/>
                  </a:lnTo>
                  <a:lnTo>
                    <a:pt x="8921" y="5195"/>
                  </a:lnTo>
                  <a:lnTo>
                    <a:pt x="8950" y="5065"/>
                  </a:lnTo>
                  <a:lnTo>
                    <a:pt x="8977" y="4935"/>
                  </a:lnTo>
                  <a:lnTo>
                    <a:pt x="9001" y="4805"/>
                  </a:lnTo>
                  <a:lnTo>
                    <a:pt x="9025" y="4673"/>
                  </a:lnTo>
                  <a:lnTo>
                    <a:pt x="9047" y="4541"/>
                  </a:lnTo>
                  <a:lnTo>
                    <a:pt x="9059" y="4465"/>
                  </a:lnTo>
                  <a:lnTo>
                    <a:pt x="9070" y="4388"/>
                  </a:lnTo>
                  <a:lnTo>
                    <a:pt x="9079" y="4312"/>
                  </a:lnTo>
                  <a:lnTo>
                    <a:pt x="9088" y="4234"/>
                  </a:lnTo>
                  <a:lnTo>
                    <a:pt x="9096" y="4157"/>
                  </a:lnTo>
                  <a:lnTo>
                    <a:pt x="9102" y="4079"/>
                  </a:lnTo>
                  <a:lnTo>
                    <a:pt x="9107" y="4002"/>
                  </a:lnTo>
                  <a:lnTo>
                    <a:pt x="9110" y="3924"/>
                  </a:lnTo>
                  <a:lnTo>
                    <a:pt x="9112" y="3847"/>
                  </a:lnTo>
                  <a:lnTo>
                    <a:pt x="9112" y="3769"/>
                  </a:lnTo>
                  <a:lnTo>
                    <a:pt x="9110" y="3691"/>
                  </a:lnTo>
                  <a:lnTo>
                    <a:pt x="9107" y="3615"/>
                  </a:lnTo>
                  <a:lnTo>
                    <a:pt x="9102" y="3538"/>
                  </a:lnTo>
                  <a:lnTo>
                    <a:pt x="9094" y="3461"/>
                  </a:lnTo>
                  <a:lnTo>
                    <a:pt x="9084" y="3384"/>
                  </a:lnTo>
                  <a:lnTo>
                    <a:pt x="9072" y="3309"/>
                  </a:lnTo>
                  <a:lnTo>
                    <a:pt x="9050" y="3192"/>
                  </a:lnTo>
                  <a:lnTo>
                    <a:pt x="9028" y="3077"/>
                  </a:lnTo>
                  <a:lnTo>
                    <a:pt x="9002" y="2962"/>
                  </a:lnTo>
                  <a:lnTo>
                    <a:pt x="8975" y="2848"/>
                  </a:lnTo>
                  <a:lnTo>
                    <a:pt x="8946" y="2733"/>
                  </a:lnTo>
                  <a:lnTo>
                    <a:pt x="8916" y="2619"/>
                  </a:lnTo>
                  <a:lnTo>
                    <a:pt x="8884" y="2506"/>
                  </a:lnTo>
                  <a:lnTo>
                    <a:pt x="8850" y="2392"/>
                  </a:lnTo>
                  <a:lnTo>
                    <a:pt x="8815" y="2279"/>
                  </a:lnTo>
                  <a:lnTo>
                    <a:pt x="8779" y="2168"/>
                  </a:lnTo>
                  <a:lnTo>
                    <a:pt x="8742" y="2055"/>
                  </a:lnTo>
                  <a:lnTo>
                    <a:pt x="8702" y="1945"/>
                  </a:lnTo>
                  <a:lnTo>
                    <a:pt x="8663" y="1833"/>
                  </a:lnTo>
                  <a:lnTo>
                    <a:pt x="8621" y="1723"/>
                  </a:lnTo>
                  <a:lnTo>
                    <a:pt x="8579" y="1612"/>
                  </a:lnTo>
                  <a:lnTo>
                    <a:pt x="8536" y="1503"/>
                  </a:lnTo>
                  <a:close/>
                  <a:moveTo>
                    <a:pt x="0" y="5890"/>
                  </a:moveTo>
                  <a:lnTo>
                    <a:pt x="37" y="5977"/>
                  </a:lnTo>
                  <a:lnTo>
                    <a:pt x="78" y="6062"/>
                  </a:lnTo>
                  <a:lnTo>
                    <a:pt x="119" y="6147"/>
                  </a:lnTo>
                  <a:lnTo>
                    <a:pt x="162" y="6230"/>
                  </a:lnTo>
                  <a:lnTo>
                    <a:pt x="206" y="6313"/>
                  </a:lnTo>
                  <a:lnTo>
                    <a:pt x="252" y="6394"/>
                  </a:lnTo>
                  <a:lnTo>
                    <a:pt x="300" y="6475"/>
                  </a:lnTo>
                  <a:lnTo>
                    <a:pt x="349" y="6554"/>
                  </a:lnTo>
                  <a:lnTo>
                    <a:pt x="400" y="6632"/>
                  </a:lnTo>
                  <a:lnTo>
                    <a:pt x="451" y="6710"/>
                  </a:lnTo>
                  <a:lnTo>
                    <a:pt x="505" y="6785"/>
                  </a:lnTo>
                  <a:lnTo>
                    <a:pt x="559" y="6861"/>
                  </a:lnTo>
                  <a:lnTo>
                    <a:pt x="616" y="6935"/>
                  </a:lnTo>
                  <a:lnTo>
                    <a:pt x="673" y="7007"/>
                  </a:lnTo>
                  <a:lnTo>
                    <a:pt x="733" y="7079"/>
                  </a:lnTo>
                  <a:lnTo>
                    <a:pt x="793" y="7150"/>
                  </a:lnTo>
                  <a:lnTo>
                    <a:pt x="845" y="7178"/>
                  </a:lnTo>
                  <a:lnTo>
                    <a:pt x="898" y="7204"/>
                  </a:lnTo>
                  <a:lnTo>
                    <a:pt x="950" y="7232"/>
                  </a:lnTo>
                  <a:lnTo>
                    <a:pt x="1003" y="7258"/>
                  </a:lnTo>
                  <a:lnTo>
                    <a:pt x="1057" y="7283"/>
                  </a:lnTo>
                  <a:lnTo>
                    <a:pt x="1111" y="7308"/>
                  </a:lnTo>
                  <a:lnTo>
                    <a:pt x="1166" y="7334"/>
                  </a:lnTo>
                  <a:lnTo>
                    <a:pt x="1223" y="7358"/>
                  </a:lnTo>
                  <a:lnTo>
                    <a:pt x="1247" y="7368"/>
                  </a:lnTo>
                  <a:lnTo>
                    <a:pt x="1272" y="7379"/>
                  </a:lnTo>
                  <a:lnTo>
                    <a:pt x="1297" y="7389"/>
                  </a:lnTo>
                  <a:lnTo>
                    <a:pt x="1324" y="7398"/>
                  </a:lnTo>
                  <a:lnTo>
                    <a:pt x="1349" y="7409"/>
                  </a:lnTo>
                  <a:lnTo>
                    <a:pt x="1375" y="7419"/>
                  </a:lnTo>
                  <a:lnTo>
                    <a:pt x="1402" y="7427"/>
                  </a:lnTo>
                  <a:lnTo>
                    <a:pt x="1429" y="7437"/>
                  </a:lnTo>
                  <a:lnTo>
                    <a:pt x="1380" y="7394"/>
                  </a:lnTo>
                  <a:lnTo>
                    <a:pt x="1332" y="7350"/>
                  </a:lnTo>
                  <a:lnTo>
                    <a:pt x="1284" y="7306"/>
                  </a:lnTo>
                  <a:lnTo>
                    <a:pt x="1237" y="7260"/>
                  </a:lnTo>
                  <a:lnTo>
                    <a:pt x="1190" y="7215"/>
                  </a:lnTo>
                  <a:lnTo>
                    <a:pt x="1145" y="7169"/>
                  </a:lnTo>
                  <a:lnTo>
                    <a:pt x="1100" y="7122"/>
                  </a:lnTo>
                  <a:lnTo>
                    <a:pt x="1056" y="7074"/>
                  </a:lnTo>
                  <a:lnTo>
                    <a:pt x="1013" y="7026"/>
                  </a:lnTo>
                  <a:lnTo>
                    <a:pt x="970" y="6977"/>
                  </a:lnTo>
                  <a:lnTo>
                    <a:pt x="928" y="6928"/>
                  </a:lnTo>
                  <a:lnTo>
                    <a:pt x="886" y="6878"/>
                  </a:lnTo>
                  <a:lnTo>
                    <a:pt x="845" y="6827"/>
                  </a:lnTo>
                  <a:lnTo>
                    <a:pt x="805" y="6776"/>
                  </a:lnTo>
                  <a:lnTo>
                    <a:pt x="766" y="6724"/>
                  </a:lnTo>
                  <a:lnTo>
                    <a:pt x="727" y="6671"/>
                  </a:lnTo>
                  <a:lnTo>
                    <a:pt x="689" y="6619"/>
                  </a:lnTo>
                  <a:lnTo>
                    <a:pt x="652" y="6566"/>
                  </a:lnTo>
                  <a:lnTo>
                    <a:pt x="614" y="6511"/>
                  </a:lnTo>
                  <a:lnTo>
                    <a:pt x="580" y="6457"/>
                  </a:lnTo>
                  <a:lnTo>
                    <a:pt x="545" y="6401"/>
                  </a:lnTo>
                  <a:lnTo>
                    <a:pt x="510" y="6346"/>
                  </a:lnTo>
                  <a:lnTo>
                    <a:pt x="476" y="6290"/>
                  </a:lnTo>
                  <a:lnTo>
                    <a:pt x="444" y="6232"/>
                  </a:lnTo>
                  <a:lnTo>
                    <a:pt x="413" y="6176"/>
                  </a:lnTo>
                  <a:lnTo>
                    <a:pt x="382" y="6118"/>
                  </a:lnTo>
                  <a:lnTo>
                    <a:pt x="352" y="6059"/>
                  </a:lnTo>
                  <a:lnTo>
                    <a:pt x="322" y="6001"/>
                  </a:lnTo>
                  <a:lnTo>
                    <a:pt x="293" y="5942"/>
                  </a:lnTo>
                  <a:lnTo>
                    <a:pt x="265" y="5882"/>
                  </a:lnTo>
                  <a:lnTo>
                    <a:pt x="239" y="5822"/>
                  </a:lnTo>
                  <a:lnTo>
                    <a:pt x="212" y="5761"/>
                  </a:lnTo>
                  <a:lnTo>
                    <a:pt x="184" y="5770"/>
                  </a:lnTo>
                  <a:lnTo>
                    <a:pt x="156" y="5780"/>
                  </a:lnTo>
                  <a:lnTo>
                    <a:pt x="128" y="5792"/>
                  </a:lnTo>
                  <a:lnTo>
                    <a:pt x="103" y="5804"/>
                  </a:lnTo>
                  <a:lnTo>
                    <a:pt x="79" y="5818"/>
                  </a:lnTo>
                  <a:lnTo>
                    <a:pt x="55" y="5835"/>
                  </a:lnTo>
                  <a:lnTo>
                    <a:pt x="44" y="5844"/>
                  </a:lnTo>
                  <a:lnTo>
                    <a:pt x="35" y="5853"/>
                  </a:lnTo>
                  <a:lnTo>
                    <a:pt x="24" y="5863"/>
                  </a:lnTo>
                  <a:lnTo>
                    <a:pt x="14" y="5874"/>
                  </a:lnTo>
                  <a:lnTo>
                    <a:pt x="13" y="5876"/>
                  </a:lnTo>
                  <a:lnTo>
                    <a:pt x="11" y="5878"/>
                  </a:lnTo>
                  <a:lnTo>
                    <a:pt x="10" y="5881"/>
                  </a:lnTo>
                  <a:lnTo>
                    <a:pt x="7" y="5882"/>
                  </a:lnTo>
                  <a:lnTo>
                    <a:pt x="6" y="5884"/>
                  </a:lnTo>
                  <a:lnTo>
                    <a:pt x="4" y="5887"/>
                  </a:lnTo>
                  <a:lnTo>
                    <a:pt x="1" y="5889"/>
                  </a:lnTo>
                  <a:lnTo>
                    <a:pt x="0" y="5890"/>
                  </a:lnTo>
                  <a:close/>
                </a:path>
              </a:pathLst>
            </a:custGeom>
            <a:solidFill>
              <a:srgbClr val="f8c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91120" y="2936880"/>
              <a:ext cx="3573360" cy="3068640"/>
            </a:xfrm>
            <a:custGeom>
              <a:avLst/>
              <a:gdLst/>
              <a:ahLst/>
              <a:rect l="l" t="t" r="r" b="b"/>
              <a:pathLst>
                <a:path w="9008" h="7731">
                  <a:moveTo>
                    <a:pt x="9008" y="4001"/>
                  </a:moveTo>
                  <a:lnTo>
                    <a:pt x="9005" y="3845"/>
                  </a:lnTo>
                  <a:lnTo>
                    <a:pt x="8998" y="3692"/>
                  </a:lnTo>
                  <a:lnTo>
                    <a:pt x="8986" y="3539"/>
                  </a:lnTo>
                  <a:lnTo>
                    <a:pt x="8968" y="3388"/>
                  </a:lnTo>
                  <a:lnTo>
                    <a:pt x="8946" y="3238"/>
                  </a:lnTo>
                  <a:lnTo>
                    <a:pt x="8919" y="3089"/>
                  </a:lnTo>
                  <a:lnTo>
                    <a:pt x="8888" y="2943"/>
                  </a:lnTo>
                  <a:lnTo>
                    <a:pt x="8852" y="2798"/>
                  </a:lnTo>
                  <a:lnTo>
                    <a:pt x="8812" y="2655"/>
                  </a:lnTo>
                  <a:lnTo>
                    <a:pt x="8766" y="2514"/>
                  </a:lnTo>
                  <a:lnTo>
                    <a:pt x="8718" y="2374"/>
                  </a:lnTo>
                  <a:lnTo>
                    <a:pt x="8664" y="2238"/>
                  </a:lnTo>
                  <a:lnTo>
                    <a:pt x="8607" y="2102"/>
                  </a:lnTo>
                  <a:lnTo>
                    <a:pt x="8546" y="1970"/>
                  </a:lnTo>
                  <a:lnTo>
                    <a:pt x="8481" y="1839"/>
                  </a:lnTo>
                  <a:lnTo>
                    <a:pt x="8411" y="1711"/>
                  </a:lnTo>
                  <a:lnTo>
                    <a:pt x="8338" y="1585"/>
                  </a:lnTo>
                  <a:lnTo>
                    <a:pt x="8261" y="1463"/>
                  </a:lnTo>
                  <a:lnTo>
                    <a:pt x="8180" y="1342"/>
                  </a:lnTo>
                  <a:lnTo>
                    <a:pt x="8096" y="1224"/>
                  </a:lnTo>
                  <a:lnTo>
                    <a:pt x="8008" y="1109"/>
                  </a:lnTo>
                  <a:lnTo>
                    <a:pt x="7917" y="996"/>
                  </a:lnTo>
                  <a:lnTo>
                    <a:pt x="7822" y="887"/>
                  </a:lnTo>
                  <a:lnTo>
                    <a:pt x="7725" y="780"/>
                  </a:lnTo>
                  <a:lnTo>
                    <a:pt x="7624" y="677"/>
                  </a:lnTo>
                  <a:lnTo>
                    <a:pt x="7520" y="576"/>
                  </a:lnTo>
                  <a:lnTo>
                    <a:pt x="7413" y="479"/>
                  </a:lnTo>
                  <a:lnTo>
                    <a:pt x="7302" y="385"/>
                  </a:lnTo>
                  <a:lnTo>
                    <a:pt x="7190" y="295"/>
                  </a:lnTo>
                  <a:lnTo>
                    <a:pt x="7073" y="208"/>
                  </a:lnTo>
                  <a:lnTo>
                    <a:pt x="6954" y="125"/>
                  </a:lnTo>
                  <a:lnTo>
                    <a:pt x="6833" y="45"/>
                  </a:lnTo>
                  <a:lnTo>
                    <a:pt x="6761" y="35"/>
                  </a:lnTo>
                  <a:lnTo>
                    <a:pt x="6688" y="26"/>
                  </a:lnTo>
                  <a:lnTo>
                    <a:pt x="6615" y="17"/>
                  </a:lnTo>
                  <a:lnTo>
                    <a:pt x="6542" y="11"/>
                  </a:lnTo>
                  <a:lnTo>
                    <a:pt x="6467" y="5"/>
                  </a:lnTo>
                  <a:lnTo>
                    <a:pt x="6394" y="2"/>
                  </a:lnTo>
                  <a:lnTo>
                    <a:pt x="6321" y="0"/>
                  </a:lnTo>
                  <a:lnTo>
                    <a:pt x="6248" y="0"/>
                  </a:lnTo>
                  <a:lnTo>
                    <a:pt x="6386" y="70"/>
                  </a:lnTo>
                  <a:lnTo>
                    <a:pt x="6521" y="144"/>
                  </a:lnTo>
                  <a:lnTo>
                    <a:pt x="6653" y="223"/>
                  </a:lnTo>
                  <a:lnTo>
                    <a:pt x="6783" y="306"/>
                  </a:lnTo>
                  <a:lnTo>
                    <a:pt x="6909" y="394"/>
                  </a:lnTo>
                  <a:lnTo>
                    <a:pt x="7032" y="485"/>
                  </a:lnTo>
                  <a:lnTo>
                    <a:pt x="7151" y="581"/>
                  </a:lnTo>
                  <a:lnTo>
                    <a:pt x="7268" y="681"/>
                  </a:lnTo>
                  <a:lnTo>
                    <a:pt x="7380" y="785"/>
                  </a:lnTo>
                  <a:lnTo>
                    <a:pt x="7490" y="892"/>
                  </a:lnTo>
                  <a:lnTo>
                    <a:pt x="7595" y="1003"/>
                  </a:lnTo>
                  <a:lnTo>
                    <a:pt x="7697" y="1117"/>
                  </a:lnTo>
                  <a:lnTo>
                    <a:pt x="7794" y="1236"/>
                  </a:lnTo>
                  <a:lnTo>
                    <a:pt x="7888" y="1357"/>
                  </a:lnTo>
                  <a:lnTo>
                    <a:pt x="7977" y="1482"/>
                  </a:lnTo>
                  <a:lnTo>
                    <a:pt x="8062" y="1609"/>
                  </a:lnTo>
                  <a:lnTo>
                    <a:pt x="8144" y="1740"/>
                  </a:lnTo>
                  <a:lnTo>
                    <a:pt x="8219" y="1874"/>
                  </a:lnTo>
                  <a:lnTo>
                    <a:pt x="8291" y="2011"/>
                  </a:lnTo>
                  <a:lnTo>
                    <a:pt x="8358" y="2150"/>
                  </a:lnTo>
                  <a:lnTo>
                    <a:pt x="8421" y="2293"/>
                  </a:lnTo>
                  <a:lnTo>
                    <a:pt x="8478" y="2437"/>
                  </a:lnTo>
                  <a:lnTo>
                    <a:pt x="8530" y="2584"/>
                  </a:lnTo>
                  <a:lnTo>
                    <a:pt x="8578" y="2734"/>
                  </a:lnTo>
                  <a:lnTo>
                    <a:pt x="8620" y="2886"/>
                  </a:lnTo>
                  <a:lnTo>
                    <a:pt x="8657" y="3039"/>
                  </a:lnTo>
                  <a:lnTo>
                    <a:pt x="8688" y="3195"/>
                  </a:lnTo>
                  <a:lnTo>
                    <a:pt x="8715" y="3353"/>
                  </a:lnTo>
                  <a:lnTo>
                    <a:pt x="8735" y="3513"/>
                  </a:lnTo>
                  <a:lnTo>
                    <a:pt x="8750" y="3674"/>
                  </a:lnTo>
                  <a:lnTo>
                    <a:pt x="8758" y="3837"/>
                  </a:lnTo>
                  <a:lnTo>
                    <a:pt x="8762" y="4001"/>
                  </a:lnTo>
                  <a:lnTo>
                    <a:pt x="8759" y="4148"/>
                  </a:lnTo>
                  <a:lnTo>
                    <a:pt x="8752" y="4292"/>
                  </a:lnTo>
                  <a:lnTo>
                    <a:pt x="8740" y="4436"/>
                  </a:lnTo>
                  <a:lnTo>
                    <a:pt x="8724" y="4578"/>
                  </a:lnTo>
                  <a:lnTo>
                    <a:pt x="8704" y="4719"/>
                  </a:lnTo>
                  <a:lnTo>
                    <a:pt x="8679" y="4858"/>
                  </a:lnTo>
                  <a:lnTo>
                    <a:pt x="8649" y="4996"/>
                  </a:lnTo>
                  <a:lnTo>
                    <a:pt x="8616" y="5133"/>
                  </a:lnTo>
                  <a:lnTo>
                    <a:pt x="8578" y="5267"/>
                  </a:lnTo>
                  <a:lnTo>
                    <a:pt x="8536" y="5400"/>
                  </a:lnTo>
                  <a:lnTo>
                    <a:pt x="8490" y="5531"/>
                  </a:lnTo>
                  <a:lnTo>
                    <a:pt x="8441" y="5660"/>
                  </a:lnTo>
                  <a:lnTo>
                    <a:pt x="8387" y="5788"/>
                  </a:lnTo>
                  <a:lnTo>
                    <a:pt x="8330" y="5912"/>
                  </a:lnTo>
                  <a:lnTo>
                    <a:pt x="8268" y="6035"/>
                  </a:lnTo>
                  <a:lnTo>
                    <a:pt x="8204" y="6156"/>
                  </a:lnTo>
                  <a:lnTo>
                    <a:pt x="8135" y="6275"/>
                  </a:lnTo>
                  <a:lnTo>
                    <a:pt x="8063" y="6391"/>
                  </a:lnTo>
                  <a:lnTo>
                    <a:pt x="7989" y="6504"/>
                  </a:lnTo>
                  <a:lnTo>
                    <a:pt x="7910" y="6615"/>
                  </a:lnTo>
                  <a:lnTo>
                    <a:pt x="7828" y="6724"/>
                  </a:lnTo>
                  <a:lnTo>
                    <a:pt x="7743" y="6830"/>
                  </a:lnTo>
                  <a:lnTo>
                    <a:pt x="7654" y="6933"/>
                  </a:lnTo>
                  <a:lnTo>
                    <a:pt x="7563" y="7034"/>
                  </a:lnTo>
                  <a:lnTo>
                    <a:pt x="7468" y="7132"/>
                  </a:lnTo>
                  <a:lnTo>
                    <a:pt x="7371" y="7227"/>
                  </a:lnTo>
                  <a:lnTo>
                    <a:pt x="7271" y="7318"/>
                  </a:lnTo>
                  <a:lnTo>
                    <a:pt x="7168" y="7407"/>
                  </a:lnTo>
                  <a:lnTo>
                    <a:pt x="7062" y="7493"/>
                  </a:lnTo>
                  <a:lnTo>
                    <a:pt x="6953" y="7576"/>
                  </a:lnTo>
                  <a:lnTo>
                    <a:pt x="6843" y="7655"/>
                  </a:lnTo>
                  <a:lnTo>
                    <a:pt x="6730" y="7731"/>
                  </a:lnTo>
                  <a:lnTo>
                    <a:pt x="6804" y="7707"/>
                  </a:lnTo>
                  <a:lnTo>
                    <a:pt x="6880" y="7682"/>
                  </a:lnTo>
                  <a:lnTo>
                    <a:pt x="6954" y="7654"/>
                  </a:lnTo>
                  <a:lnTo>
                    <a:pt x="7028" y="7627"/>
                  </a:lnTo>
                  <a:lnTo>
                    <a:pt x="7101" y="7595"/>
                  </a:lnTo>
                  <a:lnTo>
                    <a:pt x="7173" y="7563"/>
                  </a:lnTo>
                  <a:lnTo>
                    <a:pt x="7244" y="7529"/>
                  </a:lnTo>
                  <a:lnTo>
                    <a:pt x="7313" y="7493"/>
                  </a:lnTo>
                  <a:lnTo>
                    <a:pt x="7362" y="7467"/>
                  </a:lnTo>
                  <a:lnTo>
                    <a:pt x="7410" y="7440"/>
                  </a:lnTo>
                  <a:lnTo>
                    <a:pt x="7458" y="7412"/>
                  </a:lnTo>
                  <a:lnTo>
                    <a:pt x="7505" y="7383"/>
                  </a:lnTo>
                  <a:lnTo>
                    <a:pt x="7551" y="7354"/>
                  </a:lnTo>
                  <a:lnTo>
                    <a:pt x="7596" y="7324"/>
                  </a:lnTo>
                  <a:lnTo>
                    <a:pt x="7642" y="7293"/>
                  </a:lnTo>
                  <a:lnTo>
                    <a:pt x="7686" y="7262"/>
                  </a:lnTo>
                  <a:lnTo>
                    <a:pt x="7726" y="7221"/>
                  </a:lnTo>
                  <a:lnTo>
                    <a:pt x="7764" y="7179"/>
                  </a:lnTo>
                  <a:lnTo>
                    <a:pt x="7803" y="7137"/>
                  </a:lnTo>
                  <a:lnTo>
                    <a:pt x="7841" y="7095"/>
                  </a:lnTo>
                  <a:lnTo>
                    <a:pt x="7878" y="7052"/>
                  </a:lnTo>
                  <a:lnTo>
                    <a:pt x="7916" y="7009"/>
                  </a:lnTo>
                  <a:lnTo>
                    <a:pt x="7952" y="6964"/>
                  </a:lnTo>
                  <a:lnTo>
                    <a:pt x="7988" y="6920"/>
                  </a:lnTo>
                  <a:lnTo>
                    <a:pt x="8022" y="6876"/>
                  </a:lnTo>
                  <a:lnTo>
                    <a:pt x="8057" y="6830"/>
                  </a:lnTo>
                  <a:lnTo>
                    <a:pt x="8092" y="6784"/>
                  </a:lnTo>
                  <a:lnTo>
                    <a:pt x="8126" y="6739"/>
                  </a:lnTo>
                  <a:lnTo>
                    <a:pt x="8158" y="6692"/>
                  </a:lnTo>
                  <a:lnTo>
                    <a:pt x="8190" y="6645"/>
                  </a:lnTo>
                  <a:lnTo>
                    <a:pt x="8223" y="6597"/>
                  </a:lnTo>
                  <a:lnTo>
                    <a:pt x="8254" y="6549"/>
                  </a:lnTo>
                  <a:lnTo>
                    <a:pt x="8285" y="6501"/>
                  </a:lnTo>
                  <a:lnTo>
                    <a:pt x="8315" y="6453"/>
                  </a:lnTo>
                  <a:lnTo>
                    <a:pt x="8345" y="6404"/>
                  </a:lnTo>
                  <a:lnTo>
                    <a:pt x="8374" y="6355"/>
                  </a:lnTo>
                  <a:lnTo>
                    <a:pt x="8403" y="6306"/>
                  </a:lnTo>
                  <a:lnTo>
                    <a:pt x="8430" y="6255"/>
                  </a:lnTo>
                  <a:lnTo>
                    <a:pt x="8458" y="6205"/>
                  </a:lnTo>
                  <a:lnTo>
                    <a:pt x="8484" y="6153"/>
                  </a:lnTo>
                  <a:lnTo>
                    <a:pt x="8511" y="6103"/>
                  </a:lnTo>
                  <a:lnTo>
                    <a:pt x="8536" y="6051"/>
                  </a:lnTo>
                  <a:lnTo>
                    <a:pt x="8561" y="6000"/>
                  </a:lnTo>
                  <a:lnTo>
                    <a:pt x="8585" y="5947"/>
                  </a:lnTo>
                  <a:lnTo>
                    <a:pt x="8609" y="5894"/>
                  </a:lnTo>
                  <a:lnTo>
                    <a:pt x="8632" y="5842"/>
                  </a:lnTo>
                  <a:lnTo>
                    <a:pt x="8655" y="5789"/>
                  </a:lnTo>
                  <a:lnTo>
                    <a:pt x="8676" y="5735"/>
                  </a:lnTo>
                  <a:lnTo>
                    <a:pt x="8699" y="5663"/>
                  </a:lnTo>
                  <a:lnTo>
                    <a:pt x="8721" y="5591"/>
                  </a:lnTo>
                  <a:lnTo>
                    <a:pt x="8742" y="5519"/>
                  </a:lnTo>
                  <a:lnTo>
                    <a:pt x="8763" y="5446"/>
                  </a:lnTo>
                  <a:lnTo>
                    <a:pt x="8782" y="5372"/>
                  </a:lnTo>
                  <a:lnTo>
                    <a:pt x="8800" y="5299"/>
                  </a:lnTo>
                  <a:lnTo>
                    <a:pt x="8818" y="5225"/>
                  </a:lnTo>
                  <a:lnTo>
                    <a:pt x="8835" y="5152"/>
                  </a:lnTo>
                  <a:lnTo>
                    <a:pt x="8852" y="5077"/>
                  </a:lnTo>
                  <a:lnTo>
                    <a:pt x="8867" y="5003"/>
                  </a:lnTo>
                  <a:lnTo>
                    <a:pt x="8882" y="4929"/>
                  </a:lnTo>
                  <a:lnTo>
                    <a:pt x="8896" y="4853"/>
                  </a:lnTo>
                  <a:lnTo>
                    <a:pt x="8924" y="4702"/>
                  </a:lnTo>
                  <a:lnTo>
                    <a:pt x="8949" y="4551"/>
                  </a:lnTo>
                  <a:lnTo>
                    <a:pt x="8958" y="4486"/>
                  </a:lnTo>
                  <a:lnTo>
                    <a:pt x="8968" y="4421"/>
                  </a:lnTo>
                  <a:lnTo>
                    <a:pt x="8976" y="4356"/>
                  </a:lnTo>
                  <a:lnTo>
                    <a:pt x="8985" y="4292"/>
                  </a:lnTo>
                  <a:lnTo>
                    <a:pt x="8992" y="4226"/>
                  </a:lnTo>
                  <a:lnTo>
                    <a:pt x="8998" y="4161"/>
                  </a:lnTo>
                  <a:lnTo>
                    <a:pt x="9003" y="4095"/>
                  </a:lnTo>
                  <a:lnTo>
                    <a:pt x="9008" y="4029"/>
                  </a:lnTo>
                  <a:lnTo>
                    <a:pt x="9008" y="4025"/>
                  </a:lnTo>
                  <a:lnTo>
                    <a:pt x="9008" y="4023"/>
                  </a:lnTo>
                  <a:lnTo>
                    <a:pt x="9008" y="4019"/>
                  </a:lnTo>
                  <a:lnTo>
                    <a:pt x="9008" y="4016"/>
                  </a:lnTo>
                  <a:lnTo>
                    <a:pt x="9008" y="4012"/>
                  </a:lnTo>
                  <a:lnTo>
                    <a:pt x="9008" y="4008"/>
                  </a:lnTo>
                  <a:lnTo>
                    <a:pt x="9008" y="4005"/>
                  </a:lnTo>
                  <a:lnTo>
                    <a:pt x="9008" y="4001"/>
                  </a:lnTo>
                  <a:close/>
                  <a:moveTo>
                    <a:pt x="0" y="5818"/>
                  </a:moveTo>
                  <a:lnTo>
                    <a:pt x="22" y="5870"/>
                  </a:lnTo>
                  <a:lnTo>
                    <a:pt x="46" y="5922"/>
                  </a:lnTo>
                  <a:lnTo>
                    <a:pt x="70" y="5975"/>
                  </a:lnTo>
                  <a:lnTo>
                    <a:pt x="94" y="6026"/>
                  </a:lnTo>
                  <a:lnTo>
                    <a:pt x="119" y="6078"/>
                  </a:lnTo>
                  <a:lnTo>
                    <a:pt x="144" y="6128"/>
                  </a:lnTo>
                  <a:lnTo>
                    <a:pt x="171" y="6180"/>
                  </a:lnTo>
                  <a:lnTo>
                    <a:pt x="198" y="6230"/>
                  </a:lnTo>
                  <a:lnTo>
                    <a:pt x="226" y="6279"/>
                  </a:lnTo>
                  <a:lnTo>
                    <a:pt x="254" y="6330"/>
                  </a:lnTo>
                  <a:lnTo>
                    <a:pt x="282" y="6379"/>
                  </a:lnTo>
                  <a:lnTo>
                    <a:pt x="311" y="6428"/>
                  </a:lnTo>
                  <a:lnTo>
                    <a:pt x="341" y="6476"/>
                  </a:lnTo>
                  <a:lnTo>
                    <a:pt x="371" y="6524"/>
                  </a:lnTo>
                  <a:lnTo>
                    <a:pt x="402" y="6572"/>
                  </a:lnTo>
                  <a:lnTo>
                    <a:pt x="434" y="6619"/>
                  </a:lnTo>
                  <a:lnTo>
                    <a:pt x="466" y="6666"/>
                  </a:lnTo>
                  <a:lnTo>
                    <a:pt x="498" y="6713"/>
                  </a:lnTo>
                  <a:lnTo>
                    <a:pt x="532" y="6758"/>
                  </a:lnTo>
                  <a:lnTo>
                    <a:pt x="566" y="6804"/>
                  </a:lnTo>
                  <a:lnTo>
                    <a:pt x="600" y="6849"/>
                  </a:lnTo>
                  <a:lnTo>
                    <a:pt x="635" y="6894"/>
                  </a:lnTo>
                  <a:lnTo>
                    <a:pt x="670" y="6938"/>
                  </a:lnTo>
                  <a:lnTo>
                    <a:pt x="706" y="6982"/>
                  </a:lnTo>
                  <a:lnTo>
                    <a:pt x="742" y="7026"/>
                  </a:lnTo>
                  <a:lnTo>
                    <a:pt x="779" y="7069"/>
                  </a:lnTo>
                  <a:lnTo>
                    <a:pt x="816" y="7111"/>
                  </a:lnTo>
                  <a:lnTo>
                    <a:pt x="854" y="7154"/>
                  </a:lnTo>
                  <a:lnTo>
                    <a:pt x="892" y="7195"/>
                  </a:lnTo>
                  <a:lnTo>
                    <a:pt x="932" y="7237"/>
                  </a:lnTo>
                  <a:lnTo>
                    <a:pt x="971" y="7278"/>
                  </a:lnTo>
                  <a:lnTo>
                    <a:pt x="1011" y="7317"/>
                  </a:lnTo>
                  <a:lnTo>
                    <a:pt x="1025" y="7323"/>
                  </a:lnTo>
                  <a:lnTo>
                    <a:pt x="1038" y="7330"/>
                  </a:lnTo>
                  <a:lnTo>
                    <a:pt x="1053" y="7336"/>
                  </a:lnTo>
                  <a:lnTo>
                    <a:pt x="1067" y="7342"/>
                  </a:lnTo>
                  <a:lnTo>
                    <a:pt x="1082" y="7350"/>
                  </a:lnTo>
                  <a:lnTo>
                    <a:pt x="1096" y="7356"/>
                  </a:lnTo>
                  <a:lnTo>
                    <a:pt x="1110" y="7362"/>
                  </a:lnTo>
                  <a:lnTo>
                    <a:pt x="1125" y="7368"/>
                  </a:lnTo>
                  <a:lnTo>
                    <a:pt x="1185" y="7393"/>
                  </a:lnTo>
                  <a:lnTo>
                    <a:pt x="1246" y="7417"/>
                  </a:lnTo>
                  <a:lnTo>
                    <a:pt x="1310" y="7440"/>
                  </a:lnTo>
                  <a:lnTo>
                    <a:pt x="1373" y="7461"/>
                  </a:lnTo>
                  <a:lnTo>
                    <a:pt x="1439" y="7483"/>
                  </a:lnTo>
                  <a:lnTo>
                    <a:pt x="1506" y="7502"/>
                  </a:lnTo>
                  <a:lnTo>
                    <a:pt x="1574" y="7521"/>
                  </a:lnTo>
                  <a:lnTo>
                    <a:pt x="1642" y="7540"/>
                  </a:lnTo>
                  <a:lnTo>
                    <a:pt x="1584" y="7496"/>
                  </a:lnTo>
                  <a:lnTo>
                    <a:pt x="1528" y="7452"/>
                  </a:lnTo>
                  <a:lnTo>
                    <a:pt x="1473" y="7406"/>
                  </a:lnTo>
                  <a:lnTo>
                    <a:pt x="1418" y="7359"/>
                  </a:lnTo>
                  <a:lnTo>
                    <a:pt x="1364" y="7311"/>
                  </a:lnTo>
                  <a:lnTo>
                    <a:pt x="1311" y="7263"/>
                  </a:lnTo>
                  <a:lnTo>
                    <a:pt x="1258" y="7214"/>
                  </a:lnTo>
                  <a:lnTo>
                    <a:pt x="1206" y="7164"/>
                  </a:lnTo>
                  <a:lnTo>
                    <a:pt x="1156" y="7113"/>
                  </a:lnTo>
                  <a:lnTo>
                    <a:pt x="1106" y="7062"/>
                  </a:lnTo>
                  <a:lnTo>
                    <a:pt x="1056" y="7009"/>
                  </a:lnTo>
                  <a:lnTo>
                    <a:pt x="1008" y="6956"/>
                  </a:lnTo>
                  <a:lnTo>
                    <a:pt x="960" y="6902"/>
                  </a:lnTo>
                  <a:lnTo>
                    <a:pt x="915" y="6847"/>
                  </a:lnTo>
                  <a:lnTo>
                    <a:pt x="868" y="6792"/>
                  </a:lnTo>
                  <a:lnTo>
                    <a:pt x="824" y="6735"/>
                  </a:lnTo>
                  <a:lnTo>
                    <a:pt x="780" y="6678"/>
                  </a:lnTo>
                  <a:lnTo>
                    <a:pt x="737" y="6620"/>
                  </a:lnTo>
                  <a:lnTo>
                    <a:pt x="695" y="6563"/>
                  </a:lnTo>
                  <a:lnTo>
                    <a:pt x="653" y="6503"/>
                  </a:lnTo>
                  <a:lnTo>
                    <a:pt x="614" y="6443"/>
                  </a:lnTo>
                  <a:lnTo>
                    <a:pt x="574" y="6383"/>
                  </a:lnTo>
                  <a:lnTo>
                    <a:pt x="536" y="6321"/>
                  </a:lnTo>
                  <a:lnTo>
                    <a:pt x="498" y="6259"/>
                  </a:lnTo>
                  <a:lnTo>
                    <a:pt x="462" y="6197"/>
                  </a:lnTo>
                  <a:lnTo>
                    <a:pt x="426" y="6133"/>
                  </a:lnTo>
                  <a:lnTo>
                    <a:pt x="393" y="6069"/>
                  </a:lnTo>
                  <a:lnTo>
                    <a:pt x="359" y="6006"/>
                  </a:lnTo>
                  <a:lnTo>
                    <a:pt x="327" y="5940"/>
                  </a:lnTo>
                  <a:lnTo>
                    <a:pt x="296" y="5875"/>
                  </a:lnTo>
                  <a:lnTo>
                    <a:pt x="266" y="5808"/>
                  </a:lnTo>
                  <a:lnTo>
                    <a:pt x="236" y="5742"/>
                  </a:lnTo>
                  <a:lnTo>
                    <a:pt x="204" y="5748"/>
                  </a:lnTo>
                  <a:lnTo>
                    <a:pt x="173" y="5755"/>
                  </a:lnTo>
                  <a:lnTo>
                    <a:pt x="142" y="5764"/>
                  </a:lnTo>
                  <a:lnTo>
                    <a:pt x="112" y="5772"/>
                  </a:lnTo>
                  <a:lnTo>
                    <a:pt x="82" y="5782"/>
                  </a:lnTo>
                  <a:lnTo>
                    <a:pt x="54" y="5792"/>
                  </a:lnTo>
                  <a:lnTo>
                    <a:pt x="27" y="5803"/>
                  </a:lnTo>
                  <a:lnTo>
                    <a:pt x="0" y="5818"/>
                  </a:lnTo>
                  <a:close/>
                </a:path>
              </a:pathLst>
            </a:custGeom>
            <a:solidFill>
              <a:srgbClr val="f8c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35400" y="2936880"/>
              <a:ext cx="3481560" cy="3111480"/>
            </a:xfrm>
            <a:custGeom>
              <a:avLst/>
              <a:gdLst/>
              <a:ahLst/>
              <a:rect l="l" t="t" r="r" b="b"/>
              <a:pathLst>
                <a:path w="8771" h="7839">
                  <a:moveTo>
                    <a:pt x="8771" y="4001"/>
                  </a:moveTo>
                  <a:lnTo>
                    <a:pt x="8768" y="3840"/>
                  </a:lnTo>
                  <a:lnTo>
                    <a:pt x="8759" y="3682"/>
                  </a:lnTo>
                  <a:lnTo>
                    <a:pt x="8746" y="3525"/>
                  </a:lnTo>
                  <a:lnTo>
                    <a:pt x="8727" y="3369"/>
                  </a:lnTo>
                  <a:lnTo>
                    <a:pt x="8703" y="3214"/>
                  </a:lnTo>
                  <a:lnTo>
                    <a:pt x="8674" y="3062"/>
                  </a:lnTo>
                  <a:lnTo>
                    <a:pt x="8639" y="2911"/>
                  </a:lnTo>
                  <a:lnTo>
                    <a:pt x="8601" y="2762"/>
                  </a:lnTo>
                  <a:lnTo>
                    <a:pt x="8556" y="2616"/>
                  </a:lnTo>
                  <a:lnTo>
                    <a:pt x="8507" y="2472"/>
                  </a:lnTo>
                  <a:lnTo>
                    <a:pt x="8454" y="2329"/>
                  </a:lnTo>
                  <a:lnTo>
                    <a:pt x="8397" y="2189"/>
                  </a:lnTo>
                  <a:lnTo>
                    <a:pt x="8334" y="2052"/>
                  </a:lnTo>
                  <a:lnTo>
                    <a:pt x="8267" y="1916"/>
                  </a:lnTo>
                  <a:lnTo>
                    <a:pt x="8196" y="1783"/>
                  </a:lnTo>
                  <a:lnTo>
                    <a:pt x="8121" y="1653"/>
                  </a:lnTo>
                  <a:lnTo>
                    <a:pt x="8042" y="1526"/>
                  </a:lnTo>
                  <a:lnTo>
                    <a:pt x="7958" y="1402"/>
                  </a:lnTo>
                  <a:lnTo>
                    <a:pt x="7870" y="1280"/>
                  </a:lnTo>
                  <a:lnTo>
                    <a:pt x="7779" y="1162"/>
                  </a:lnTo>
                  <a:lnTo>
                    <a:pt x="7684" y="1046"/>
                  </a:lnTo>
                  <a:lnTo>
                    <a:pt x="7586" y="935"/>
                  </a:lnTo>
                  <a:lnTo>
                    <a:pt x="7484" y="826"/>
                  </a:lnTo>
                  <a:lnTo>
                    <a:pt x="7378" y="720"/>
                  </a:lnTo>
                  <a:lnTo>
                    <a:pt x="7269" y="618"/>
                  </a:lnTo>
                  <a:lnTo>
                    <a:pt x="7157" y="520"/>
                  </a:lnTo>
                  <a:lnTo>
                    <a:pt x="7041" y="425"/>
                  </a:lnTo>
                  <a:lnTo>
                    <a:pt x="6923" y="335"/>
                  </a:lnTo>
                  <a:lnTo>
                    <a:pt x="6801" y="247"/>
                  </a:lnTo>
                  <a:lnTo>
                    <a:pt x="6676" y="165"/>
                  </a:lnTo>
                  <a:lnTo>
                    <a:pt x="6549" y="85"/>
                  </a:lnTo>
                  <a:lnTo>
                    <a:pt x="6419" y="10"/>
                  </a:lnTo>
                  <a:lnTo>
                    <a:pt x="6351" y="5"/>
                  </a:lnTo>
                  <a:lnTo>
                    <a:pt x="6282" y="2"/>
                  </a:lnTo>
                  <a:lnTo>
                    <a:pt x="6215" y="0"/>
                  </a:lnTo>
                  <a:lnTo>
                    <a:pt x="6147" y="0"/>
                  </a:lnTo>
                  <a:lnTo>
                    <a:pt x="6080" y="3"/>
                  </a:lnTo>
                  <a:lnTo>
                    <a:pt x="6012" y="6"/>
                  </a:lnTo>
                  <a:lnTo>
                    <a:pt x="5945" y="12"/>
                  </a:lnTo>
                  <a:lnTo>
                    <a:pt x="5879" y="21"/>
                  </a:lnTo>
                  <a:lnTo>
                    <a:pt x="6023" y="85"/>
                  </a:lnTo>
                  <a:lnTo>
                    <a:pt x="6165" y="154"/>
                  </a:lnTo>
                  <a:lnTo>
                    <a:pt x="6303" y="227"/>
                  </a:lnTo>
                  <a:lnTo>
                    <a:pt x="6438" y="306"/>
                  </a:lnTo>
                  <a:lnTo>
                    <a:pt x="6570" y="389"/>
                  </a:lnTo>
                  <a:lnTo>
                    <a:pt x="6700" y="478"/>
                  </a:lnTo>
                  <a:lnTo>
                    <a:pt x="6826" y="570"/>
                  </a:lnTo>
                  <a:lnTo>
                    <a:pt x="6947" y="667"/>
                  </a:lnTo>
                  <a:lnTo>
                    <a:pt x="7066" y="768"/>
                  </a:lnTo>
                  <a:lnTo>
                    <a:pt x="7181" y="872"/>
                  </a:lnTo>
                  <a:lnTo>
                    <a:pt x="7292" y="982"/>
                  </a:lnTo>
                  <a:lnTo>
                    <a:pt x="7398" y="1096"/>
                  </a:lnTo>
                  <a:lnTo>
                    <a:pt x="7502" y="1212"/>
                  </a:lnTo>
                  <a:lnTo>
                    <a:pt x="7600" y="1333"/>
                  </a:lnTo>
                  <a:lnTo>
                    <a:pt x="7695" y="1457"/>
                  </a:lnTo>
                  <a:lnTo>
                    <a:pt x="7784" y="1585"/>
                  </a:lnTo>
                  <a:lnTo>
                    <a:pt x="7870" y="1716"/>
                  </a:lnTo>
                  <a:lnTo>
                    <a:pt x="7950" y="1849"/>
                  </a:lnTo>
                  <a:lnTo>
                    <a:pt x="8026" y="1987"/>
                  </a:lnTo>
                  <a:lnTo>
                    <a:pt x="8097" y="2127"/>
                  </a:lnTo>
                  <a:lnTo>
                    <a:pt x="8163" y="2270"/>
                  </a:lnTo>
                  <a:lnTo>
                    <a:pt x="8224" y="2416"/>
                  </a:lnTo>
                  <a:lnTo>
                    <a:pt x="8279" y="2564"/>
                  </a:lnTo>
                  <a:lnTo>
                    <a:pt x="8330" y="2715"/>
                  </a:lnTo>
                  <a:lnTo>
                    <a:pt x="8374" y="2869"/>
                  </a:lnTo>
                  <a:lnTo>
                    <a:pt x="8414" y="3025"/>
                  </a:lnTo>
                  <a:lnTo>
                    <a:pt x="8446" y="3183"/>
                  </a:lnTo>
                  <a:lnTo>
                    <a:pt x="8474" y="3343"/>
                  </a:lnTo>
                  <a:lnTo>
                    <a:pt x="8495" y="3505"/>
                  </a:lnTo>
                  <a:lnTo>
                    <a:pt x="8511" y="3669"/>
                  </a:lnTo>
                  <a:lnTo>
                    <a:pt x="8520" y="3834"/>
                  </a:lnTo>
                  <a:lnTo>
                    <a:pt x="8524" y="4001"/>
                  </a:lnTo>
                  <a:lnTo>
                    <a:pt x="8522" y="4157"/>
                  </a:lnTo>
                  <a:lnTo>
                    <a:pt x="8513" y="4312"/>
                  </a:lnTo>
                  <a:lnTo>
                    <a:pt x="8499" y="4466"/>
                  </a:lnTo>
                  <a:lnTo>
                    <a:pt x="8481" y="4617"/>
                  </a:lnTo>
                  <a:lnTo>
                    <a:pt x="8457" y="4767"/>
                  </a:lnTo>
                  <a:lnTo>
                    <a:pt x="8427" y="4914"/>
                  </a:lnTo>
                  <a:lnTo>
                    <a:pt x="8393" y="5061"/>
                  </a:lnTo>
                  <a:lnTo>
                    <a:pt x="8354" y="5206"/>
                  </a:lnTo>
                  <a:lnTo>
                    <a:pt x="8309" y="5347"/>
                  </a:lnTo>
                  <a:lnTo>
                    <a:pt x="8261" y="5488"/>
                  </a:lnTo>
                  <a:lnTo>
                    <a:pt x="8207" y="5626"/>
                  </a:lnTo>
                  <a:lnTo>
                    <a:pt x="8150" y="5761"/>
                  </a:lnTo>
                  <a:lnTo>
                    <a:pt x="8087" y="5894"/>
                  </a:lnTo>
                  <a:lnTo>
                    <a:pt x="8021" y="6025"/>
                  </a:lnTo>
                  <a:lnTo>
                    <a:pt x="7949" y="6153"/>
                  </a:lnTo>
                  <a:lnTo>
                    <a:pt x="7875" y="6278"/>
                  </a:lnTo>
                  <a:lnTo>
                    <a:pt x="7796" y="6401"/>
                  </a:lnTo>
                  <a:lnTo>
                    <a:pt x="7712" y="6521"/>
                  </a:lnTo>
                  <a:lnTo>
                    <a:pt x="7625" y="6637"/>
                  </a:lnTo>
                  <a:lnTo>
                    <a:pt x="7534" y="6751"/>
                  </a:lnTo>
                  <a:lnTo>
                    <a:pt x="7439" y="6861"/>
                  </a:lnTo>
                  <a:lnTo>
                    <a:pt x="7342" y="6968"/>
                  </a:lnTo>
                  <a:lnTo>
                    <a:pt x="7240" y="7072"/>
                  </a:lnTo>
                  <a:lnTo>
                    <a:pt x="7134" y="7172"/>
                  </a:lnTo>
                  <a:lnTo>
                    <a:pt x="7026" y="7269"/>
                  </a:lnTo>
                  <a:lnTo>
                    <a:pt x="6915" y="7363"/>
                  </a:lnTo>
                  <a:lnTo>
                    <a:pt x="6800" y="7452"/>
                  </a:lnTo>
                  <a:lnTo>
                    <a:pt x="6682" y="7538"/>
                  </a:lnTo>
                  <a:lnTo>
                    <a:pt x="6561" y="7619"/>
                  </a:lnTo>
                  <a:lnTo>
                    <a:pt x="6437" y="7696"/>
                  </a:lnTo>
                  <a:lnTo>
                    <a:pt x="6311" y="7771"/>
                  </a:lnTo>
                  <a:lnTo>
                    <a:pt x="6182" y="7839"/>
                  </a:lnTo>
                  <a:lnTo>
                    <a:pt x="6238" y="7828"/>
                  </a:lnTo>
                  <a:lnTo>
                    <a:pt x="6294" y="7815"/>
                  </a:lnTo>
                  <a:lnTo>
                    <a:pt x="6351" y="7802"/>
                  </a:lnTo>
                  <a:lnTo>
                    <a:pt x="6406" y="7789"/>
                  </a:lnTo>
                  <a:lnTo>
                    <a:pt x="6462" y="7774"/>
                  </a:lnTo>
                  <a:lnTo>
                    <a:pt x="6518" y="7759"/>
                  </a:lnTo>
                  <a:lnTo>
                    <a:pt x="6573" y="7743"/>
                  </a:lnTo>
                  <a:lnTo>
                    <a:pt x="6628" y="7727"/>
                  </a:lnTo>
                  <a:lnTo>
                    <a:pt x="6683" y="7709"/>
                  </a:lnTo>
                  <a:lnTo>
                    <a:pt x="6737" y="7691"/>
                  </a:lnTo>
                  <a:lnTo>
                    <a:pt x="6791" y="7672"/>
                  </a:lnTo>
                  <a:lnTo>
                    <a:pt x="6845" y="7653"/>
                  </a:lnTo>
                  <a:lnTo>
                    <a:pt x="6899" y="7633"/>
                  </a:lnTo>
                  <a:lnTo>
                    <a:pt x="6952" y="7611"/>
                  </a:lnTo>
                  <a:lnTo>
                    <a:pt x="7005" y="7588"/>
                  </a:lnTo>
                  <a:lnTo>
                    <a:pt x="7056" y="7564"/>
                  </a:lnTo>
                  <a:lnTo>
                    <a:pt x="7154" y="7485"/>
                  </a:lnTo>
                  <a:lnTo>
                    <a:pt x="7248" y="7402"/>
                  </a:lnTo>
                  <a:lnTo>
                    <a:pt x="7341" y="7317"/>
                  </a:lnTo>
                  <a:lnTo>
                    <a:pt x="7430" y="7231"/>
                  </a:lnTo>
                  <a:lnTo>
                    <a:pt x="7517" y="7141"/>
                  </a:lnTo>
                  <a:lnTo>
                    <a:pt x="7602" y="7048"/>
                  </a:lnTo>
                  <a:lnTo>
                    <a:pt x="7685" y="6955"/>
                  </a:lnTo>
                  <a:lnTo>
                    <a:pt x="7766" y="6858"/>
                  </a:lnTo>
                  <a:lnTo>
                    <a:pt x="7842" y="6759"/>
                  </a:lnTo>
                  <a:lnTo>
                    <a:pt x="7917" y="6659"/>
                  </a:lnTo>
                  <a:lnTo>
                    <a:pt x="7989" y="6555"/>
                  </a:lnTo>
                  <a:lnTo>
                    <a:pt x="8058" y="6450"/>
                  </a:lnTo>
                  <a:lnTo>
                    <a:pt x="8124" y="6343"/>
                  </a:lnTo>
                  <a:lnTo>
                    <a:pt x="8188" y="6234"/>
                  </a:lnTo>
                  <a:lnTo>
                    <a:pt x="8248" y="6122"/>
                  </a:lnTo>
                  <a:lnTo>
                    <a:pt x="8306" y="6009"/>
                  </a:lnTo>
                  <a:lnTo>
                    <a:pt x="8360" y="5896"/>
                  </a:lnTo>
                  <a:lnTo>
                    <a:pt x="8411" y="5779"/>
                  </a:lnTo>
                  <a:lnTo>
                    <a:pt x="8459" y="5662"/>
                  </a:lnTo>
                  <a:lnTo>
                    <a:pt x="8504" y="5542"/>
                  </a:lnTo>
                  <a:lnTo>
                    <a:pt x="8546" y="5420"/>
                  </a:lnTo>
                  <a:lnTo>
                    <a:pt x="8584" y="5298"/>
                  </a:lnTo>
                  <a:lnTo>
                    <a:pt x="8619" y="5175"/>
                  </a:lnTo>
                  <a:lnTo>
                    <a:pt x="8650" y="5049"/>
                  </a:lnTo>
                  <a:lnTo>
                    <a:pt x="8678" y="4921"/>
                  </a:lnTo>
                  <a:lnTo>
                    <a:pt x="8702" y="4794"/>
                  </a:lnTo>
                  <a:lnTo>
                    <a:pt x="8723" y="4665"/>
                  </a:lnTo>
                  <a:lnTo>
                    <a:pt x="8740" y="4534"/>
                  </a:lnTo>
                  <a:lnTo>
                    <a:pt x="8753" y="4402"/>
                  </a:lnTo>
                  <a:lnTo>
                    <a:pt x="8763" y="4270"/>
                  </a:lnTo>
                  <a:lnTo>
                    <a:pt x="8769" y="4136"/>
                  </a:lnTo>
                  <a:lnTo>
                    <a:pt x="8771" y="4001"/>
                  </a:lnTo>
                  <a:close/>
                  <a:moveTo>
                    <a:pt x="0" y="5771"/>
                  </a:moveTo>
                  <a:lnTo>
                    <a:pt x="27" y="5832"/>
                  </a:lnTo>
                  <a:lnTo>
                    <a:pt x="53" y="5892"/>
                  </a:lnTo>
                  <a:lnTo>
                    <a:pt x="81" y="5952"/>
                  </a:lnTo>
                  <a:lnTo>
                    <a:pt x="110" y="6011"/>
                  </a:lnTo>
                  <a:lnTo>
                    <a:pt x="140" y="6069"/>
                  </a:lnTo>
                  <a:lnTo>
                    <a:pt x="170" y="6128"/>
                  </a:lnTo>
                  <a:lnTo>
                    <a:pt x="201" y="6186"/>
                  </a:lnTo>
                  <a:lnTo>
                    <a:pt x="232" y="6242"/>
                  </a:lnTo>
                  <a:lnTo>
                    <a:pt x="264" y="6300"/>
                  </a:lnTo>
                  <a:lnTo>
                    <a:pt x="298" y="6356"/>
                  </a:lnTo>
                  <a:lnTo>
                    <a:pt x="333" y="6411"/>
                  </a:lnTo>
                  <a:lnTo>
                    <a:pt x="368" y="6467"/>
                  </a:lnTo>
                  <a:lnTo>
                    <a:pt x="402" y="6521"/>
                  </a:lnTo>
                  <a:lnTo>
                    <a:pt x="440" y="6576"/>
                  </a:lnTo>
                  <a:lnTo>
                    <a:pt x="477" y="6629"/>
                  </a:lnTo>
                  <a:lnTo>
                    <a:pt x="515" y="6681"/>
                  </a:lnTo>
                  <a:lnTo>
                    <a:pt x="554" y="6734"/>
                  </a:lnTo>
                  <a:lnTo>
                    <a:pt x="593" y="6786"/>
                  </a:lnTo>
                  <a:lnTo>
                    <a:pt x="633" y="6837"/>
                  </a:lnTo>
                  <a:lnTo>
                    <a:pt x="674" y="6888"/>
                  </a:lnTo>
                  <a:lnTo>
                    <a:pt x="716" y="6938"/>
                  </a:lnTo>
                  <a:lnTo>
                    <a:pt x="758" y="6987"/>
                  </a:lnTo>
                  <a:lnTo>
                    <a:pt x="801" y="7036"/>
                  </a:lnTo>
                  <a:lnTo>
                    <a:pt x="844" y="7084"/>
                  </a:lnTo>
                  <a:lnTo>
                    <a:pt x="888" y="7132"/>
                  </a:lnTo>
                  <a:lnTo>
                    <a:pt x="933" y="7179"/>
                  </a:lnTo>
                  <a:lnTo>
                    <a:pt x="978" y="7225"/>
                  </a:lnTo>
                  <a:lnTo>
                    <a:pt x="1025" y="7270"/>
                  </a:lnTo>
                  <a:lnTo>
                    <a:pt x="1072" y="7316"/>
                  </a:lnTo>
                  <a:lnTo>
                    <a:pt x="1120" y="7360"/>
                  </a:lnTo>
                  <a:lnTo>
                    <a:pt x="1168" y="7404"/>
                  </a:lnTo>
                  <a:lnTo>
                    <a:pt x="1217" y="7447"/>
                  </a:lnTo>
                  <a:lnTo>
                    <a:pt x="1293" y="7472"/>
                  </a:lnTo>
                  <a:lnTo>
                    <a:pt x="1371" y="7496"/>
                  </a:lnTo>
                  <a:lnTo>
                    <a:pt x="1449" y="7519"/>
                  </a:lnTo>
                  <a:lnTo>
                    <a:pt x="1529" y="7540"/>
                  </a:lnTo>
                  <a:lnTo>
                    <a:pt x="1610" y="7562"/>
                  </a:lnTo>
                  <a:lnTo>
                    <a:pt x="1691" y="7581"/>
                  </a:lnTo>
                  <a:lnTo>
                    <a:pt x="1773" y="7600"/>
                  </a:lnTo>
                  <a:lnTo>
                    <a:pt x="1854" y="7619"/>
                  </a:lnTo>
                  <a:lnTo>
                    <a:pt x="1788" y="7575"/>
                  </a:lnTo>
                  <a:lnTo>
                    <a:pt x="1724" y="7531"/>
                  </a:lnTo>
                  <a:lnTo>
                    <a:pt x="1659" y="7485"/>
                  </a:lnTo>
                  <a:lnTo>
                    <a:pt x="1596" y="7437"/>
                  </a:lnTo>
                  <a:lnTo>
                    <a:pt x="1534" y="7389"/>
                  </a:lnTo>
                  <a:lnTo>
                    <a:pt x="1472" y="7340"/>
                  </a:lnTo>
                  <a:lnTo>
                    <a:pt x="1412" y="7288"/>
                  </a:lnTo>
                  <a:lnTo>
                    <a:pt x="1352" y="7237"/>
                  </a:lnTo>
                  <a:lnTo>
                    <a:pt x="1293" y="7184"/>
                  </a:lnTo>
                  <a:lnTo>
                    <a:pt x="1235" y="7131"/>
                  </a:lnTo>
                  <a:lnTo>
                    <a:pt x="1179" y="7076"/>
                  </a:lnTo>
                  <a:lnTo>
                    <a:pt x="1124" y="7020"/>
                  </a:lnTo>
                  <a:lnTo>
                    <a:pt x="1068" y="6963"/>
                  </a:lnTo>
                  <a:lnTo>
                    <a:pt x="1014" y="6906"/>
                  </a:lnTo>
                  <a:lnTo>
                    <a:pt x="963" y="6847"/>
                  </a:lnTo>
                  <a:lnTo>
                    <a:pt x="911" y="6787"/>
                  </a:lnTo>
                  <a:lnTo>
                    <a:pt x="861" y="6726"/>
                  </a:lnTo>
                  <a:lnTo>
                    <a:pt x="812" y="6665"/>
                  </a:lnTo>
                  <a:lnTo>
                    <a:pt x="762" y="6602"/>
                  </a:lnTo>
                  <a:lnTo>
                    <a:pt x="716" y="6539"/>
                  </a:lnTo>
                  <a:lnTo>
                    <a:pt x="670" y="6474"/>
                  </a:lnTo>
                  <a:lnTo>
                    <a:pt x="626" y="6409"/>
                  </a:lnTo>
                  <a:lnTo>
                    <a:pt x="581" y="6343"/>
                  </a:lnTo>
                  <a:lnTo>
                    <a:pt x="539" y="6276"/>
                  </a:lnTo>
                  <a:lnTo>
                    <a:pt x="497" y="6209"/>
                  </a:lnTo>
                  <a:lnTo>
                    <a:pt x="458" y="6140"/>
                  </a:lnTo>
                  <a:lnTo>
                    <a:pt x="419" y="6071"/>
                  </a:lnTo>
                  <a:lnTo>
                    <a:pt x="381" y="6001"/>
                  </a:lnTo>
                  <a:lnTo>
                    <a:pt x="345" y="5930"/>
                  </a:lnTo>
                  <a:lnTo>
                    <a:pt x="310" y="5858"/>
                  </a:lnTo>
                  <a:lnTo>
                    <a:pt x="276" y="5786"/>
                  </a:lnTo>
                  <a:lnTo>
                    <a:pt x="244" y="5713"/>
                  </a:lnTo>
                  <a:lnTo>
                    <a:pt x="214" y="5720"/>
                  </a:lnTo>
                  <a:lnTo>
                    <a:pt x="184" y="5728"/>
                  </a:lnTo>
                  <a:lnTo>
                    <a:pt x="153" y="5735"/>
                  </a:lnTo>
                  <a:lnTo>
                    <a:pt x="122" y="5742"/>
                  </a:lnTo>
                  <a:lnTo>
                    <a:pt x="92" y="5748"/>
                  </a:lnTo>
                  <a:lnTo>
                    <a:pt x="60" y="5755"/>
                  </a:lnTo>
                  <a:lnTo>
                    <a:pt x="30" y="5764"/>
                  </a:lnTo>
                  <a:lnTo>
                    <a:pt x="0" y="5771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82920" y="2936880"/>
              <a:ext cx="3384720" cy="3144960"/>
            </a:xfrm>
            <a:custGeom>
              <a:avLst/>
              <a:gdLst/>
              <a:ahLst/>
              <a:rect l="l" t="t" r="r" b="b"/>
              <a:pathLst>
                <a:path w="8526" h="7922">
                  <a:moveTo>
                    <a:pt x="8526" y="4001"/>
                  </a:moveTo>
                  <a:lnTo>
                    <a:pt x="8522" y="3837"/>
                  </a:lnTo>
                  <a:lnTo>
                    <a:pt x="8514" y="3674"/>
                  </a:lnTo>
                  <a:lnTo>
                    <a:pt x="8499" y="3513"/>
                  </a:lnTo>
                  <a:lnTo>
                    <a:pt x="8479" y="3353"/>
                  </a:lnTo>
                  <a:lnTo>
                    <a:pt x="8452" y="3195"/>
                  </a:lnTo>
                  <a:lnTo>
                    <a:pt x="8421" y="3039"/>
                  </a:lnTo>
                  <a:lnTo>
                    <a:pt x="8384" y="2886"/>
                  </a:lnTo>
                  <a:lnTo>
                    <a:pt x="8342" y="2734"/>
                  </a:lnTo>
                  <a:lnTo>
                    <a:pt x="8294" y="2584"/>
                  </a:lnTo>
                  <a:lnTo>
                    <a:pt x="8242" y="2437"/>
                  </a:lnTo>
                  <a:lnTo>
                    <a:pt x="8185" y="2293"/>
                  </a:lnTo>
                  <a:lnTo>
                    <a:pt x="8122" y="2150"/>
                  </a:lnTo>
                  <a:lnTo>
                    <a:pt x="8055" y="2011"/>
                  </a:lnTo>
                  <a:lnTo>
                    <a:pt x="7983" y="1874"/>
                  </a:lnTo>
                  <a:lnTo>
                    <a:pt x="7908" y="1740"/>
                  </a:lnTo>
                  <a:lnTo>
                    <a:pt x="7826" y="1609"/>
                  </a:lnTo>
                  <a:lnTo>
                    <a:pt x="7741" y="1482"/>
                  </a:lnTo>
                  <a:lnTo>
                    <a:pt x="7652" y="1357"/>
                  </a:lnTo>
                  <a:lnTo>
                    <a:pt x="7558" y="1236"/>
                  </a:lnTo>
                  <a:lnTo>
                    <a:pt x="7461" y="1117"/>
                  </a:lnTo>
                  <a:lnTo>
                    <a:pt x="7359" y="1003"/>
                  </a:lnTo>
                  <a:lnTo>
                    <a:pt x="7254" y="892"/>
                  </a:lnTo>
                  <a:lnTo>
                    <a:pt x="7144" y="785"/>
                  </a:lnTo>
                  <a:lnTo>
                    <a:pt x="7032" y="681"/>
                  </a:lnTo>
                  <a:lnTo>
                    <a:pt x="6915" y="581"/>
                  </a:lnTo>
                  <a:lnTo>
                    <a:pt x="6796" y="485"/>
                  </a:lnTo>
                  <a:lnTo>
                    <a:pt x="6673" y="394"/>
                  </a:lnTo>
                  <a:lnTo>
                    <a:pt x="6547" y="306"/>
                  </a:lnTo>
                  <a:lnTo>
                    <a:pt x="6417" y="223"/>
                  </a:lnTo>
                  <a:lnTo>
                    <a:pt x="6285" y="144"/>
                  </a:lnTo>
                  <a:lnTo>
                    <a:pt x="6150" y="70"/>
                  </a:lnTo>
                  <a:lnTo>
                    <a:pt x="6012" y="0"/>
                  </a:lnTo>
                  <a:lnTo>
                    <a:pt x="5952" y="3"/>
                  </a:lnTo>
                  <a:lnTo>
                    <a:pt x="5892" y="6"/>
                  </a:lnTo>
                  <a:lnTo>
                    <a:pt x="5832" y="12"/>
                  </a:lnTo>
                  <a:lnTo>
                    <a:pt x="5773" y="20"/>
                  </a:lnTo>
                  <a:lnTo>
                    <a:pt x="5713" y="28"/>
                  </a:lnTo>
                  <a:lnTo>
                    <a:pt x="5654" y="39"/>
                  </a:lnTo>
                  <a:lnTo>
                    <a:pt x="5596" y="52"/>
                  </a:lnTo>
                  <a:lnTo>
                    <a:pt x="5539" y="67"/>
                  </a:lnTo>
                  <a:lnTo>
                    <a:pt x="5688" y="126"/>
                  </a:lnTo>
                  <a:lnTo>
                    <a:pt x="5833" y="190"/>
                  </a:lnTo>
                  <a:lnTo>
                    <a:pt x="5976" y="258"/>
                  </a:lnTo>
                  <a:lnTo>
                    <a:pt x="6116" y="333"/>
                  </a:lnTo>
                  <a:lnTo>
                    <a:pt x="6253" y="412"/>
                  </a:lnTo>
                  <a:lnTo>
                    <a:pt x="6386" y="496"/>
                  </a:lnTo>
                  <a:lnTo>
                    <a:pt x="6516" y="585"/>
                  </a:lnTo>
                  <a:lnTo>
                    <a:pt x="6642" y="678"/>
                  </a:lnTo>
                  <a:lnTo>
                    <a:pt x="6764" y="777"/>
                  </a:lnTo>
                  <a:lnTo>
                    <a:pt x="6883" y="878"/>
                  </a:lnTo>
                  <a:lnTo>
                    <a:pt x="6998" y="985"/>
                  </a:lnTo>
                  <a:lnTo>
                    <a:pt x="7108" y="1096"/>
                  </a:lnTo>
                  <a:lnTo>
                    <a:pt x="7215" y="1211"/>
                  </a:lnTo>
                  <a:lnTo>
                    <a:pt x="7317" y="1331"/>
                  </a:lnTo>
                  <a:lnTo>
                    <a:pt x="7416" y="1453"/>
                  </a:lnTo>
                  <a:lnTo>
                    <a:pt x="7508" y="1579"/>
                  </a:lnTo>
                  <a:lnTo>
                    <a:pt x="7597" y="1710"/>
                  </a:lnTo>
                  <a:lnTo>
                    <a:pt x="7681" y="1843"/>
                  </a:lnTo>
                  <a:lnTo>
                    <a:pt x="7760" y="1980"/>
                  </a:lnTo>
                  <a:lnTo>
                    <a:pt x="7833" y="2119"/>
                  </a:lnTo>
                  <a:lnTo>
                    <a:pt x="7902" y="2263"/>
                  </a:lnTo>
                  <a:lnTo>
                    <a:pt x="7965" y="2408"/>
                  </a:lnTo>
                  <a:lnTo>
                    <a:pt x="8023" y="2557"/>
                  </a:lnTo>
                  <a:lnTo>
                    <a:pt x="8076" y="2708"/>
                  </a:lnTo>
                  <a:lnTo>
                    <a:pt x="8122" y="2863"/>
                  </a:lnTo>
                  <a:lnTo>
                    <a:pt x="8163" y="3019"/>
                  </a:lnTo>
                  <a:lnTo>
                    <a:pt x="8198" y="3177"/>
                  </a:lnTo>
                  <a:lnTo>
                    <a:pt x="8227" y="3338"/>
                  </a:lnTo>
                  <a:lnTo>
                    <a:pt x="8250" y="3501"/>
                  </a:lnTo>
                  <a:lnTo>
                    <a:pt x="8265" y="3667"/>
                  </a:lnTo>
                  <a:lnTo>
                    <a:pt x="8275" y="3833"/>
                  </a:lnTo>
                  <a:lnTo>
                    <a:pt x="8278" y="4001"/>
                  </a:lnTo>
                  <a:lnTo>
                    <a:pt x="8276" y="4168"/>
                  </a:lnTo>
                  <a:lnTo>
                    <a:pt x="8265" y="4334"/>
                  </a:lnTo>
                  <a:lnTo>
                    <a:pt x="8250" y="4498"/>
                  </a:lnTo>
                  <a:lnTo>
                    <a:pt x="8227" y="4660"/>
                  </a:lnTo>
                  <a:lnTo>
                    <a:pt x="8199" y="4819"/>
                  </a:lnTo>
                  <a:lnTo>
                    <a:pt x="8164" y="4977"/>
                  </a:lnTo>
                  <a:lnTo>
                    <a:pt x="8124" y="5133"/>
                  </a:lnTo>
                  <a:lnTo>
                    <a:pt x="8078" y="5285"/>
                  </a:lnTo>
                  <a:lnTo>
                    <a:pt x="8026" y="5436"/>
                  </a:lnTo>
                  <a:lnTo>
                    <a:pt x="7970" y="5584"/>
                  </a:lnTo>
                  <a:lnTo>
                    <a:pt x="7908" y="5729"/>
                  </a:lnTo>
                  <a:lnTo>
                    <a:pt x="7839" y="5872"/>
                  </a:lnTo>
                  <a:lnTo>
                    <a:pt x="7766" y="6011"/>
                  </a:lnTo>
                  <a:lnTo>
                    <a:pt x="7688" y="6146"/>
                  </a:lnTo>
                  <a:lnTo>
                    <a:pt x="7606" y="6279"/>
                  </a:lnTo>
                  <a:lnTo>
                    <a:pt x="7519" y="6409"/>
                  </a:lnTo>
                  <a:lnTo>
                    <a:pt x="7426" y="6535"/>
                  </a:lnTo>
                  <a:lnTo>
                    <a:pt x="7329" y="6657"/>
                  </a:lnTo>
                  <a:lnTo>
                    <a:pt x="7228" y="6776"/>
                  </a:lnTo>
                  <a:lnTo>
                    <a:pt x="7123" y="6890"/>
                  </a:lnTo>
                  <a:lnTo>
                    <a:pt x="7014" y="7002"/>
                  </a:lnTo>
                  <a:lnTo>
                    <a:pt x="6901" y="7108"/>
                  </a:lnTo>
                  <a:lnTo>
                    <a:pt x="6783" y="7210"/>
                  </a:lnTo>
                  <a:lnTo>
                    <a:pt x="6662" y="7309"/>
                  </a:lnTo>
                  <a:lnTo>
                    <a:pt x="6537" y="7402"/>
                  </a:lnTo>
                  <a:lnTo>
                    <a:pt x="6409" y="7491"/>
                  </a:lnTo>
                  <a:lnTo>
                    <a:pt x="6277" y="7575"/>
                  </a:lnTo>
                  <a:lnTo>
                    <a:pt x="6142" y="7655"/>
                  </a:lnTo>
                  <a:lnTo>
                    <a:pt x="6003" y="7730"/>
                  </a:lnTo>
                  <a:lnTo>
                    <a:pt x="5863" y="7799"/>
                  </a:lnTo>
                  <a:lnTo>
                    <a:pt x="5719" y="7863"/>
                  </a:lnTo>
                  <a:lnTo>
                    <a:pt x="5571" y="7922"/>
                  </a:lnTo>
                  <a:lnTo>
                    <a:pt x="5612" y="7917"/>
                  </a:lnTo>
                  <a:lnTo>
                    <a:pt x="5653" y="7911"/>
                  </a:lnTo>
                  <a:lnTo>
                    <a:pt x="5692" y="7904"/>
                  </a:lnTo>
                  <a:lnTo>
                    <a:pt x="5733" y="7898"/>
                  </a:lnTo>
                  <a:lnTo>
                    <a:pt x="5774" y="7892"/>
                  </a:lnTo>
                  <a:lnTo>
                    <a:pt x="5815" y="7885"/>
                  </a:lnTo>
                  <a:lnTo>
                    <a:pt x="5854" y="7877"/>
                  </a:lnTo>
                  <a:lnTo>
                    <a:pt x="5895" y="7871"/>
                  </a:lnTo>
                  <a:lnTo>
                    <a:pt x="5971" y="7857"/>
                  </a:lnTo>
                  <a:lnTo>
                    <a:pt x="6045" y="7843"/>
                  </a:lnTo>
                  <a:lnTo>
                    <a:pt x="6121" y="7827"/>
                  </a:lnTo>
                  <a:lnTo>
                    <a:pt x="6196" y="7810"/>
                  </a:lnTo>
                  <a:lnTo>
                    <a:pt x="6271" y="7792"/>
                  </a:lnTo>
                  <a:lnTo>
                    <a:pt x="6345" y="7773"/>
                  </a:lnTo>
                  <a:lnTo>
                    <a:pt x="6420" y="7753"/>
                  </a:lnTo>
                  <a:lnTo>
                    <a:pt x="6494" y="7731"/>
                  </a:lnTo>
                  <a:lnTo>
                    <a:pt x="6607" y="7655"/>
                  </a:lnTo>
                  <a:lnTo>
                    <a:pt x="6717" y="7576"/>
                  </a:lnTo>
                  <a:lnTo>
                    <a:pt x="6826" y="7493"/>
                  </a:lnTo>
                  <a:lnTo>
                    <a:pt x="6932" y="7407"/>
                  </a:lnTo>
                  <a:lnTo>
                    <a:pt x="7035" y="7318"/>
                  </a:lnTo>
                  <a:lnTo>
                    <a:pt x="7135" y="7227"/>
                  </a:lnTo>
                  <a:lnTo>
                    <a:pt x="7232" y="7132"/>
                  </a:lnTo>
                  <a:lnTo>
                    <a:pt x="7327" y="7034"/>
                  </a:lnTo>
                  <a:lnTo>
                    <a:pt x="7418" y="6933"/>
                  </a:lnTo>
                  <a:lnTo>
                    <a:pt x="7507" y="6830"/>
                  </a:lnTo>
                  <a:lnTo>
                    <a:pt x="7592" y="6724"/>
                  </a:lnTo>
                  <a:lnTo>
                    <a:pt x="7674" y="6615"/>
                  </a:lnTo>
                  <a:lnTo>
                    <a:pt x="7753" y="6504"/>
                  </a:lnTo>
                  <a:lnTo>
                    <a:pt x="7827" y="6391"/>
                  </a:lnTo>
                  <a:lnTo>
                    <a:pt x="7899" y="6275"/>
                  </a:lnTo>
                  <a:lnTo>
                    <a:pt x="7968" y="6156"/>
                  </a:lnTo>
                  <a:lnTo>
                    <a:pt x="8032" y="6035"/>
                  </a:lnTo>
                  <a:lnTo>
                    <a:pt x="8094" y="5912"/>
                  </a:lnTo>
                  <a:lnTo>
                    <a:pt x="8151" y="5788"/>
                  </a:lnTo>
                  <a:lnTo>
                    <a:pt x="8205" y="5660"/>
                  </a:lnTo>
                  <a:lnTo>
                    <a:pt x="8254" y="5531"/>
                  </a:lnTo>
                  <a:lnTo>
                    <a:pt x="8300" y="5400"/>
                  </a:lnTo>
                  <a:lnTo>
                    <a:pt x="8342" y="5267"/>
                  </a:lnTo>
                  <a:lnTo>
                    <a:pt x="8380" y="5133"/>
                  </a:lnTo>
                  <a:lnTo>
                    <a:pt x="8413" y="4996"/>
                  </a:lnTo>
                  <a:lnTo>
                    <a:pt x="8443" y="4858"/>
                  </a:lnTo>
                  <a:lnTo>
                    <a:pt x="8468" y="4719"/>
                  </a:lnTo>
                  <a:lnTo>
                    <a:pt x="8488" y="4578"/>
                  </a:lnTo>
                  <a:lnTo>
                    <a:pt x="8504" y="4436"/>
                  </a:lnTo>
                  <a:lnTo>
                    <a:pt x="8516" y="4292"/>
                  </a:lnTo>
                  <a:lnTo>
                    <a:pt x="8523" y="4148"/>
                  </a:lnTo>
                  <a:lnTo>
                    <a:pt x="8526" y="4001"/>
                  </a:lnTo>
                  <a:close/>
                  <a:moveTo>
                    <a:pt x="0" y="5742"/>
                  </a:moveTo>
                  <a:lnTo>
                    <a:pt x="30" y="5808"/>
                  </a:lnTo>
                  <a:lnTo>
                    <a:pt x="60" y="5875"/>
                  </a:lnTo>
                  <a:lnTo>
                    <a:pt x="91" y="5940"/>
                  </a:lnTo>
                  <a:lnTo>
                    <a:pt x="123" y="6006"/>
                  </a:lnTo>
                  <a:lnTo>
                    <a:pt x="157" y="6069"/>
                  </a:lnTo>
                  <a:lnTo>
                    <a:pt x="190" y="6133"/>
                  </a:lnTo>
                  <a:lnTo>
                    <a:pt x="226" y="6197"/>
                  </a:lnTo>
                  <a:lnTo>
                    <a:pt x="262" y="6259"/>
                  </a:lnTo>
                  <a:lnTo>
                    <a:pt x="300" y="6321"/>
                  </a:lnTo>
                  <a:lnTo>
                    <a:pt x="338" y="6383"/>
                  </a:lnTo>
                  <a:lnTo>
                    <a:pt x="378" y="6443"/>
                  </a:lnTo>
                  <a:lnTo>
                    <a:pt x="417" y="6503"/>
                  </a:lnTo>
                  <a:lnTo>
                    <a:pt x="459" y="6563"/>
                  </a:lnTo>
                  <a:lnTo>
                    <a:pt x="501" y="6620"/>
                  </a:lnTo>
                  <a:lnTo>
                    <a:pt x="544" y="6678"/>
                  </a:lnTo>
                  <a:lnTo>
                    <a:pt x="588" y="6735"/>
                  </a:lnTo>
                  <a:lnTo>
                    <a:pt x="633" y="6792"/>
                  </a:lnTo>
                  <a:lnTo>
                    <a:pt x="679" y="6847"/>
                  </a:lnTo>
                  <a:lnTo>
                    <a:pt x="724" y="6902"/>
                  </a:lnTo>
                  <a:lnTo>
                    <a:pt x="772" y="6956"/>
                  </a:lnTo>
                  <a:lnTo>
                    <a:pt x="820" y="7009"/>
                  </a:lnTo>
                  <a:lnTo>
                    <a:pt x="870" y="7062"/>
                  </a:lnTo>
                  <a:lnTo>
                    <a:pt x="920" y="7113"/>
                  </a:lnTo>
                  <a:lnTo>
                    <a:pt x="970" y="7164"/>
                  </a:lnTo>
                  <a:lnTo>
                    <a:pt x="1022" y="7214"/>
                  </a:lnTo>
                  <a:lnTo>
                    <a:pt x="1075" y="7263"/>
                  </a:lnTo>
                  <a:lnTo>
                    <a:pt x="1128" y="7311"/>
                  </a:lnTo>
                  <a:lnTo>
                    <a:pt x="1182" y="7359"/>
                  </a:lnTo>
                  <a:lnTo>
                    <a:pt x="1237" y="7406"/>
                  </a:lnTo>
                  <a:lnTo>
                    <a:pt x="1292" y="7452"/>
                  </a:lnTo>
                  <a:lnTo>
                    <a:pt x="1348" y="7496"/>
                  </a:lnTo>
                  <a:lnTo>
                    <a:pt x="1406" y="7540"/>
                  </a:lnTo>
                  <a:lnTo>
                    <a:pt x="1494" y="7563"/>
                  </a:lnTo>
                  <a:lnTo>
                    <a:pt x="1582" y="7585"/>
                  </a:lnTo>
                  <a:lnTo>
                    <a:pt x="1671" y="7605"/>
                  </a:lnTo>
                  <a:lnTo>
                    <a:pt x="1760" y="7625"/>
                  </a:lnTo>
                  <a:lnTo>
                    <a:pt x="1849" y="7645"/>
                  </a:lnTo>
                  <a:lnTo>
                    <a:pt x="1938" y="7664"/>
                  </a:lnTo>
                  <a:lnTo>
                    <a:pt x="2025" y="7682"/>
                  </a:lnTo>
                  <a:lnTo>
                    <a:pt x="2110" y="7700"/>
                  </a:lnTo>
                  <a:lnTo>
                    <a:pt x="2034" y="7658"/>
                  </a:lnTo>
                  <a:lnTo>
                    <a:pt x="1957" y="7613"/>
                  </a:lnTo>
                  <a:lnTo>
                    <a:pt x="1881" y="7568"/>
                  </a:lnTo>
                  <a:lnTo>
                    <a:pt x="1807" y="7521"/>
                  </a:lnTo>
                  <a:lnTo>
                    <a:pt x="1734" y="7472"/>
                  </a:lnTo>
                  <a:lnTo>
                    <a:pt x="1662" y="7423"/>
                  </a:lnTo>
                  <a:lnTo>
                    <a:pt x="1591" y="7371"/>
                  </a:lnTo>
                  <a:lnTo>
                    <a:pt x="1521" y="7318"/>
                  </a:lnTo>
                  <a:lnTo>
                    <a:pt x="1452" y="7263"/>
                  </a:lnTo>
                  <a:lnTo>
                    <a:pt x="1384" y="7208"/>
                  </a:lnTo>
                  <a:lnTo>
                    <a:pt x="1318" y="7150"/>
                  </a:lnTo>
                  <a:lnTo>
                    <a:pt x="1252" y="7092"/>
                  </a:lnTo>
                  <a:lnTo>
                    <a:pt x="1189" y="7032"/>
                  </a:lnTo>
                  <a:lnTo>
                    <a:pt x="1126" y="6970"/>
                  </a:lnTo>
                  <a:lnTo>
                    <a:pt x="1065" y="6908"/>
                  </a:lnTo>
                  <a:lnTo>
                    <a:pt x="1004" y="6844"/>
                  </a:lnTo>
                  <a:lnTo>
                    <a:pt x="945" y="6780"/>
                  </a:lnTo>
                  <a:lnTo>
                    <a:pt x="889" y="6714"/>
                  </a:lnTo>
                  <a:lnTo>
                    <a:pt x="832" y="6647"/>
                  </a:lnTo>
                  <a:lnTo>
                    <a:pt x="777" y="6577"/>
                  </a:lnTo>
                  <a:lnTo>
                    <a:pt x="724" y="6507"/>
                  </a:lnTo>
                  <a:lnTo>
                    <a:pt x="673" y="6437"/>
                  </a:lnTo>
                  <a:lnTo>
                    <a:pt x="622" y="6365"/>
                  </a:lnTo>
                  <a:lnTo>
                    <a:pt x="573" y="6291"/>
                  </a:lnTo>
                  <a:lnTo>
                    <a:pt x="526" y="6218"/>
                  </a:lnTo>
                  <a:lnTo>
                    <a:pt x="480" y="6143"/>
                  </a:lnTo>
                  <a:lnTo>
                    <a:pt x="435" y="6066"/>
                  </a:lnTo>
                  <a:lnTo>
                    <a:pt x="393" y="5989"/>
                  </a:lnTo>
                  <a:lnTo>
                    <a:pt x="352" y="5911"/>
                  </a:lnTo>
                  <a:lnTo>
                    <a:pt x="313" y="5832"/>
                  </a:lnTo>
                  <a:lnTo>
                    <a:pt x="274" y="5752"/>
                  </a:lnTo>
                  <a:lnTo>
                    <a:pt x="238" y="5671"/>
                  </a:lnTo>
                  <a:lnTo>
                    <a:pt x="235" y="5672"/>
                  </a:lnTo>
                  <a:lnTo>
                    <a:pt x="231" y="5674"/>
                  </a:lnTo>
                  <a:lnTo>
                    <a:pt x="228" y="5675"/>
                  </a:lnTo>
                  <a:lnTo>
                    <a:pt x="224" y="5677"/>
                  </a:lnTo>
                  <a:lnTo>
                    <a:pt x="220" y="5678"/>
                  </a:lnTo>
                  <a:lnTo>
                    <a:pt x="217" y="5680"/>
                  </a:lnTo>
                  <a:lnTo>
                    <a:pt x="213" y="5681"/>
                  </a:lnTo>
                  <a:lnTo>
                    <a:pt x="210" y="5683"/>
                  </a:lnTo>
                  <a:lnTo>
                    <a:pt x="186" y="5693"/>
                  </a:lnTo>
                  <a:lnTo>
                    <a:pt x="160" y="5701"/>
                  </a:lnTo>
                  <a:lnTo>
                    <a:pt x="134" y="5710"/>
                  </a:lnTo>
                  <a:lnTo>
                    <a:pt x="109" y="5717"/>
                  </a:lnTo>
                  <a:lnTo>
                    <a:pt x="81" y="5723"/>
                  </a:lnTo>
                  <a:lnTo>
                    <a:pt x="55" y="5730"/>
                  </a:lnTo>
                  <a:lnTo>
                    <a:pt x="27" y="5736"/>
                  </a:lnTo>
                  <a:lnTo>
                    <a:pt x="0" y="5742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32240" y="2944800"/>
              <a:ext cx="3286080" cy="3162240"/>
            </a:xfrm>
            <a:custGeom>
              <a:avLst/>
              <a:gdLst/>
              <a:ahLst/>
              <a:rect l="l" t="t" r="r" b="b"/>
              <a:pathLst>
                <a:path w="8280" h="7968">
                  <a:moveTo>
                    <a:pt x="8280" y="3980"/>
                  </a:moveTo>
                  <a:lnTo>
                    <a:pt x="8276" y="3813"/>
                  </a:lnTo>
                  <a:lnTo>
                    <a:pt x="8268" y="3648"/>
                  </a:lnTo>
                  <a:lnTo>
                    <a:pt x="8251" y="3484"/>
                  </a:lnTo>
                  <a:lnTo>
                    <a:pt x="8230" y="3322"/>
                  </a:lnTo>
                  <a:lnTo>
                    <a:pt x="8202" y="3162"/>
                  </a:lnTo>
                  <a:lnTo>
                    <a:pt x="8170" y="3004"/>
                  </a:lnTo>
                  <a:lnTo>
                    <a:pt x="8130" y="2848"/>
                  </a:lnTo>
                  <a:lnTo>
                    <a:pt x="8086" y="2694"/>
                  </a:lnTo>
                  <a:lnTo>
                    <a:pt x="8035" y="2543"/>
                  </a:lnTo>
                  <a:lnTo>
                    <a:pt x="7980" y="2395"/>
                  </a:lnTo>
                  <a:lnTo>
                    <a:pt x="7919" y="2249"/>
                  </a:lnTo>
                  <a:lnTo>
                    <a:pt x="7853" y="2106"/>
                  </a:lnTo>
                  <a:lnTo>
                    <a:pt x="7782" y="1966"/>
                  </a:lnTo>
                  <a:lnTo>
                    <a:pt x="7706" y="1828"/>
                  </a:lnTo>
                  <a:lnTo>
                    <a:pt x="7626" y="1695"/>
                  </a:lnTo>
                  <a:lnTo>
                    <a:pt x="7540" y="1564"/>
                  </a:lnTo>
                  <a:lnTo>
                    <a:pt x="7451" y="1436"/>
                  </a:lnTo>
                  <a:lnTo>
                    <a:pt x="7356" y="1312"/>
                  </a:lnTo>
                  <a:lnTo>
                    <a:pt x="7258" y="1191"/>
                  </a:lnTo>
                  <a:lnTo>
                    <a:pt x="7154" y="1075"/>
                  </a:lnTo>
                  <a:lnTo>
                    <a:pt x="7048" y="961"/>
                  </a:lnTo>
                  <a:lnTo>
                    <a:pt x="6937" y="851"/>
                  </a:lnTo>
                  <a:lnTo>
                    <a:pt x="6822" y="747"/>
                  </a:lnTo>
                  <a:lnTo>
                    <a:pt x="6703" y="646"/>
                  </a:lnTo>
                  <a:lnTo>
                    <a:pt x="6582" y="549"/>
                  </a:lnTo>
                  <a:lnTo>
                    <a:pt x="6456" y="457"/>
                  </a:lnTo>
                  <a:lnTo>
                    <a:pt x="6326" y="368"/>
                  </a:lnTo>
                  <a:lnTo>
                    <a:pt x="6194" y="285"/>
                  </a:lnTo>
                  <a:lnTo>
                    <a:pt x="6059" y="206"/>
                  </a:lnTo>
                  <a:lnTo>
                    <a:pt x="5921" y="133"/>
                  </a:lnTo>
                  <a:lnTo>
                    <a:pt x="5779" y="64"/>
                  </a:lnTo>
                  <a:lnTo>
                    <a:pt x="5635" y="0"/>
                  </a:lnTo>
                  <a:lnTo>
                    <a:pt x="5604" y="5"/>
                  </a:lnTo>
                  <a:lnTo>
                    <a:pt x="5574" y="11"/>
                  </a:lnTo>
                  <a:lnTo>
                    <a:pt x="5544" y="15"/>
                  </a:lnTo>
                  <a:lnTo>
                    <a:pt x="5514" y="23"/>
                  </a:lnTo>
                  <a:lnTo>
                    <a:pt x="5484" y="29"/>
                  </a:lnTo>
                  <a:lnTo>
                    <a:pt x="5454" y="36"/>
                  </a:lnTo>
                  <a:lnTo>
                    <a:pt x="5425" y="44"/>
                  </a:lnTo>
                  <a:lnTo>
                    <a:pt x="5395" y="52"/>
                  </a:lnTo>
                  <a:lnTo>
                    <a:pt x="5375" y="60"/>
                  </a:lnTo>
                  <a:lnTo>
                    <a:pt x="5356" y="67"/>
                  </a:lnTo>
                  <a:lnTo>
                    <a:pt x="5338" y="74"/>
                  </a:lnTo>
                  <a:lnTo>
                    <a:pt x="5318" y="82"/>
                  </a:lnTo>
                  <a:lnTo>
                    <a:pt x="5302" y="91"/>
                  </a:lnTo>
                  <a:lnTo>
                    <a:pt x="5285" y="100"/>
                  </a:lnTo>
                  <a:lnTo>
                    <a:pt x="5268" y="110"/>
                  </a:lnTo>
                  <a:lnTo>
                    <a:pt x="5252" y="120"/>
                  </a:lnTo>
                  <a:lnTo>
                    <a:pt x="5402" y="174"/>
                  </a:lnTo>
                  <a:lnTo>
                    <a:pt x="5550" y="232"/>
                  </a:lnTo>
                  <a:lnTo>
                    <a:pt x="5694" y="297"/>
                  </a:lnTo>
                  <a:lnTo>
                    <a:pt x="5836" y="367"/>
                  </a:lnTo>
                  <a:lnTo>
                    <a:pt x="5974" y="442"/>
                  </a:lnTo>
                  <a:lnTo>
                    <a:pt x="6109" y="523"/>
                  </a:lnTo>
                  <a:lnTo>
                    <a:pt x="6240" y="608"/>
                  </a:lnTo>
                  <a:lnTo>
                    <a:pt x="6368" y="698"/>
                  </a:lnTo>
                  <a:lnTo>
                    <a:pt x="6493" y="793"/>
                  </a:lnTo>
                  <a:lnTo>
                    <a:pt x="6613" y="892"/>
                  </a:lnTo>
                  <a:lnTo>
                    <a:pt x="6730" y="995"/>
                  </a:lnTo>
                  <a:lnTo>
                    <a:pt x="6842" y="1105"/>
                  </a:lnTo>
                  <a:lnTo>
                    <a:pt x="6950" y="1217"/>
                  </a:lnTo>
                  <a:lnTo>
                    <a:pt x="7055" y="1334"/>
                  </a:lnTo>
                  <a:lnTo>
                    <a:pt x="7154" y="1454"/>
                  </a:lnTo>
                  <a:lnTo>
                    <a:pt x="7249" y="1578"/>
                  </a:lnTo>
                  <a:lnTo>
                    <a:pt x="7339" y="1707"/>
                  </a:lnTo>
                  <a:lnTo>
                    <a:pt x="7424" y="1838"/>
                  </a:lnTo>
                  <a:lnTo>
                    <a:pt x="7505" y="1973"/>
                  </a:lnTo>
                  <a:lnTo>
                    <a:pt x="7579" y="2111"/>
                  </a:lnTo>
                  <a:lnTo>
                    <a:pt x="7649" y="2253"/>
                  </a:lnTo>
                  <a:lnTo>
                    <a:pt x="7714" y="2397"/>
                  </a:lnTo>
                  <a:lnTo>
                    <a:pt x="7772" y="2544"/>
                  </a:lnTo>
                  <a:lnTo>
                    <a:pt x="7826" y="2694"/>
                  </a:lnTo>
                  <a:lnTo>
                    <a:pt x="7873" y="2848"/>
                  </a:lnTo>
                  <a:lnTo>
                    <a:pt x="7915" y="3002"/>
                  </a:lnTo>
                  <a:lnTo>
                    <a:pt x="7951" y="3161"/>
                  </a:lnTo>
                  <a:lnTo>
                    <a:pt x="7980" y="3320"/>
                  </a:lnTo>
                  <a:lnTo>
                    <a:pt x="8003" y="3482"/>
                  </a:lnTo>
                  <a:lnTo>
                    <a:pt x="8020" y="3647"/>
                  </a:lnTo>
                  <a:lnTo>
                    <a:pt x="8030" y="3812"/>
                  </a:lnTo>
                  <a:lnTo>
                    <a:pt x="8033" y="3980"/>
                  </a:lnTo>
                  <a:lnTo>
                    <a:pt x="8029" y="4164"/>
                  </a:lnTo>
                  <a:lnTo>
                    <a:pt x="8017" y="4345"/>
                  </a:lnTo>
                  <a:lnTo>
                    <a:pt x="7997" y="4525"/>
                  </a:lnTo>
                  <a:lnTo>
                    <a:pt x="7969" y="4701"/>
                  </a:lnTo>
                  <a:lnTo>
                    <a:pt x="7934" y="4875"/>
                  </a:lnTo>
                  <a:lnTo>
                    <a:pt x="7892" y="5047"/>
                  </a:lnTo>
                  <a:lnTo>
                    <a:pt x="7842" y="5216"/>
                  </a:lnTo>
                  <a:lnTo>
                    <a:pt x="7786" y="5380"/>
                  </a:lnTo>
                  <a:lnTo>
                    <a:pt x="7722" y="5543"/>
                  </a:lnTo>
                  <a:lnTo>
                    <a:pt x="7652" y="5702"/>
                  </a:lnTo>
                  <a:lnTo>
                    <a:pt x="7576" y="5857"/>
                  </a:lnTo>
                  <a:lnTo>
                    <a:pt x="7493" y="6008"/>
                  </a:lnTo>
                  <a:lnTo>
                    <a:pt x="7404" y="6155"/>
                  </a:lnTo>
                  <a:lnTo>
                    <a:pt x="7309" y="6298"/>
                  </a:lnTo>
                  <a:lnTo>
                    <a:pt x="7208" y="6437"/>
                  </a:lnTo>
                  <a:lnTo>
                    <a:pt x="7102" y="6572"/>
                  </a:lnTo>
                  <a:lnTo>
                    <a:pt x="6990" y="6701"/>
                  </a:lnTo>
                  <a:lnTo>
                    <a:pt x="6872" y="6826"/>
                  </a:lnTo>
                  <a:lnTo>
                    <a:pt x="6750" y="6945"/>
                  </a:lnTo>
                  <a:lnTo>
                    <a:pt x="6623" y="7060"/>
                  </a:lnTo>
                  <a:lnTo>
                    <a:pt x="6492" y="7169"/>
                  </a:lnTo>
                  <a:lnTo>
                    <a:pt x="6355" y="7272"/>
                  </a:lnTo>
                  <a:lnTo>
                    <a:pt x="6214" y="7371"/>
                  </a:lnTo>
                  <a:lnTo>
                    <a:pt x="6070" y="7463"/>
                  </a:lnTo>
                  <a:lnTo>
                    <a:pt x="5920" y="7549"/>
                  </a:lnTo>
                  <a:lnTo>
                    <a:pt x="5767" y="7628"/>
                  </a:lnTo>
                  <a:lnTo>
                    <a:pt x="5610" y="7702"/>
                  </a:lnTo>
                  <a:lnTo>
                    <a:pt x="5449" y="7769"/>
                  </a:lnTo>
                  <a:lnTo>
                    <a:pt x="5286" y="7829"/>
                  </a:lnTo>
                  <a:lnTo>
                    <a:pt x="5119" y="7883"/>
                  </a:lnTo>
                  <a:lnTo>
                    <a:pt x="4949" y="7928"/>
                  </a:lnTo>
                  <a:lnTo>
                    <a:pt x="4776" y="7968"/>
                  </a:lnTo>
                  <a:lnTo>
                    <a:pt x="4902" y="7960"/>
                  </a:lnTo>
                  <a:lnTo>
                    <a:pt x="5027" y="7950"/>
                  </a:lnTo>
                  <a:lnTo>
                    <a:pt x="5152" y="7938"/>
                  </a:lnTo>
                  <a:lnTo>
                    <a:pt x="5276" y="7924"/>
                  </a:lnTo>
                  <a:lnTo>
                    <a:pt x="5401" y="7908"/>
                  </a:lnTo>
                  <a:lnTo>
                    <a:pt x="5526" y="7890"/>
                  </a:lnTo>
                  <a:lnTo>
                    <a:pt x="5650" y="7871"/>
                  </a:lnTo>
                  <a:lnTo>
                    <a:pt x="5773" y="7850"/>
                  </a:lnTo>
                  <a:lnTo>
                    <a:pt x="5794" y="7847"/>
                  </a:lnTo>
                  <a:lnTo>
                    <a:pt x="5814" y="7842"/>
                  </a:lnTo>
                  <a:lnTo>
                    <a:pt x="5834" y="7838"/>
                  </a:lnTo>
                  <a:lnTo>
                    <a:pt x="5856" y="7835"/>
                  </a:lnTo>
                  <a:lnTo>
                    <a:pt x="5876" y="7831"/>
                  </a:lnTo>
                  <a:lnTo>
                    <a:pt x="5897" y="7826"/>
                  </a:lnTo>
                  <a:lnTo>
                    <a:pt x="5917" y="7823"/>
                  </a:lnTo>
                  <a:lnTo>
                    <a:pt x="5938" y="7818"/>
                  </a:lnTo>
                  <a:lnTo>
                    <a:pt x="6067" y="7750"/>
                  </a:lnTo>
                  <a:lnTo>
                    <a:pt x="6193" y="7675"/>
                  </a:lnTo>
                  <a:lnTo>
                    <a:pt x="6317" y="7598"/>
                  </a:lnTo>
                  <a:lnTo>
                    <a:pt x="6438" y="7517"/>
                  </a:lnTo>
                  <a:lnTo>
                    <a:pt x="6556" y="7431"/>
                  </a:lnTo>
                  <a:lnTo>
                    <a:pt x="6671" y="7342"/>
                  </a:lnTo>
                  <a:lnTo>
                    <a:pt x="6782" y="7248"/>
                  </a:lnTo>
                  <a:lnTo>
                    <a:pt x="6890" y="7151"/>
                  </a:lnTo>
                  <a:lnTo>
                    <a:pt x="6996" y="7051"/>
                  </a:lnTo>
                  <a:lnTo>
                    <a:pt x="7098" y="6947"/>
                  </a:lnTo>
                  <a:lnTo>
                    <a:pt x="7195" y="6840"/>
                  </a:lnTo>
                  <a:lnTo>
                    <a:pt x="7290" y="6730"/>
                  </a:lnTo>
                  <a:lnTo>
                    <a:pt x="7381" y="6616"/>
                  </a:lnTo>
                  <a:lnTo>
                    <a:pt x="7468" y="6500"/>
                  </a:lnTo>
                  <a:lnTo>
                    <a:pt x="7552" y="6380"/>
                  </a:lnTo>
                  <a:lnTo>
                    <a:pt x="7631" y="6257"/>
                  </a:lnTo>
                  <a:lnTo>
                    <a:pt x="7705" y="6132"/>
                  </a:lnTo>
                  <a:lnTo>
                    <a:pt x="7777" y="6004"/>
                  </a:lnTo>
                  <a:lnTo>
                    <a:pt x="7843" y="5873"/>
                  </a:lnTo>
                  <a:lnTo>
                    <a:pt x="7906" y="5740"/>
                  </a:lnTo>
                  <a:lnTo>
                    <a:pt x="7963" y="5605"/>
                  </a:lnTo>
                  <a:lnTo>
                    <a:pt x="8017" y="5467"/>
                  </a:lnTo>
                  <a:lnTo>
                    <a:pt x="8065" y="5326"/>
                  </a:lnTo>
                  <a:lnTo>
                    <a:pt x="8110" y="5185"/>
                  </a:lnTo>
                  <a:lnTo>
                    <a:pt x="8149" y="5040"/>
                  </a:lnTo>
                  <a:lnTo>
                    <a:pt x="8183" y="4893"/>
                  </a:lnTo>
                  <a:lnTo>
                    <a:pt x="8213" y="4746"/>
                  </a:lnTo>
                  <a:lnTo>
                    <a:pt x="8237" y="4596"/>
                  </a:lnTo>
                  <a:lnTo>
                    <a:pt x="8255" y="4445"/>
                  </a:lnTo>
                  <a:lnTo>
                    <a:pt x="8269" y="4291"/>
                  </a:lnTo>
                  <a:lnTo>
                    <a:pt x="8278" y="4136"/>
                  </a:lnTo>
                  <a:lnTo>
                    <a:pt x="8280" y="3980"/>
                  </a:lnTo>
                  <a:close/>
                  <a:moveTo>
                    <a:pt x="0" y="5692"/>
                  </a:moveTo>
                  <a:lnTo>
                    <a:pt x="32" y="5765"/>
                  </a:lnTo>
                  <a:lnTo>
                    <a:pt x="66" y="5837"/>
                  </a:lnTo>
                  <a:lnTo>
                    <a:pt x="101" y="5909"/>
                  </a:lnTo>
                  <a:lnTo>
                    <a:pt x="137" y="5980"/>
                  </a:lnTo>
                  <a:lnTo>
                    <a:pt x="175" y="6050"/>
                  </a:lnTo>
                  <a:lnTo>
                    <a:pt x="214" y="6119"/>
                  </a:lnTo>
                  <a:lnTo>
                    <a:pt x="253" y="6188"/>
                  </a:lnTo>
                  <a:lnTo>
                    <a:pt x="295" y="6255"/>
                  </a:lnTo>
                  <a:lnTo>
                    <a:pt x="337" y="6322"/>
                  </a:lnTo>
                  <a:lnTo>
                    <a:pt x="382" y="6388"/>
                  </a:lnTo>
                  <a:lnTo>
                    <a:pt x="426" y="6453"/>
                  </a:lnTo>
                  <a:lnTo>
                    <a:pt x="472" y="6518"/>
                  </a:lnTo>
                  <a:lnTo>
                    <a:pt x="518" y="6581"/>
                  </a:lnTo>
                  <a:lnTo>
                    <a:pt x="568" y="6644"/>
                  </a:lnTo>
                  <a:lnTo>
                    <a:pt x="617" y="6705"/>
                  </a:lnTo>
                  <a:lnTo>
                    <a:pt x="667" y="6766"/>
                  </a:lnTo>
                  <a:lnTo>
                    <a:pt x="719" y="6826"/>
                  </a:lnTo>
                  <a:lnTo>
                    <a:pt x="770" y="6885"/>
                  </a:lnTo>
                  <a:lnTo>
                    <a:pt x="824" y="6942"/>
                  </a:lnTo>
                  <a:lnTo>
                    <a:pt x="880" y="6999"/>
                  </a:lnTo>
                  <a:lnTo>
                    <a:pt x="935" y="7055"/>
                  </a:lnTo>
                  <a:lnTo>
                    <a:pt x="991" y="7110"/>
                  </a:lnTo>
                  <a:lnTo>
                    <a:pt x="1049" y="7163"/>
                  </a:lnTo>
                  <a:lnTo>
                    <a:pt x="1108" y="7216"/>
                  </a:lnTo>
                  <a:lnTo>
                    <a:pt x="1168" y="7267"/>
                  </a:lnTo>
                  <a:lnTo>
                    <a:pt x="1228" y="7319"/>
                  </a:lnTo>
                  <a:lnTo>
                    <a:pt x="1290" y="7368"/>
                  </a:lnTo>
                  <a:lnTo>
                    <a:pt x="1352" y="7416"/>
                  </a:lnTo>
                  <a:lnTo>
                    <a:pt x="1415" y="7464"/>
                  </a:lnTo>
                  <a:lnTo>
                    <a:pt x="1480" y="7510"/>
                  </a:lnTo>
                  <a:lnTo>
                    <a:pt x="1544" y="7554"/>
                  </a:lnTo>
                  <a:lnTo>
                    <a:pt x="1610" y="7598"/>
                  </a:lnTo>
                  <a:lnTo>
                    <a:pt x="1687" y="7615"/>
                  </a:lnTo>
                  <a:lnTo>
                    <a:pt x="1763" y="7632"/>
                  </a:lnTo>
                  <a:lnTo>
                    <a:pt x="1838" y="7648"/>
                  </a:lnTo>
                  <a:lnTo>
                    <a:pt x="1913" y="7663"/>
                  </a:lnTo>
                  <a:lnTo>
                    <a:pt x="1986" y="7679"/>
                  </a:lnTo>
                  <a:lnTo>
                    <a:pt x="2059" y="7694"/>
                  </a:lnTo>
                  <a:lnTo>
                    <a:pt x="2131" y="7709"/>
                  </a:lnTo>
                  <a:lnTo>
                    <a:pt x="2201" y="7724"/>
                  </a:lnTo>
                  <a:lnTo>
                    <a:pt x="2243" y="7733"/>
                  </a:lnTo>
                  <a:lnTo>
                    <a:pt x="2286" y="7742"/>
                  </a:lnTo>
                  <a:lnTo>
                    <a:pt x="2328" y="7752"/>
                  </a:lnTo>
                  <a:lnTo>
                    <a:pt x="2371" y="7760"/>
                  </a:lnTo>
                  <a:lnTo>
                    <a:pt x="2414" y="7769"/>
                  </a:lnTo>
                  <a:lnTo>
                    <a:pt x="2456" y="7777"/>
                  </a:lnTo>
                  <a:lnTo>
                    <a:pt x="2500" y="7786"/>
                  </a:lnTo>
                  <a:lnTo>
                    <a:pt x="2543" y="7794"/>
                  </a:lnTo>
                  <a:lnTo>
                    <a:pt x="2447" y="7757"/>
                  </a:lnTo>
                  <a:lnTo>
                    <a:pt x="2351" y="7717"/>
                  </a:lnTo>
                  <a:lnTo>
                    <a:pt x="2257" y="7675"/>
                  </a:lnTo>
                  <a:lnTo>
                    <a:pt x="2165" y="7631"/>
                  </a:lnTo>
                  <a:lnTo>
                    <a:pt x="2074" y="7584"/>
                  </a:lnTo>
                  <a:lnTo>
                    <a:pt x="1984" y="7536"/>
                  </a:lnTo>
                  <a:lnTo>
                    <a:pt x="1895" y="7484"/>
                  </a:lnTo>
                  <a:lnTo>
                    <a:pt x="1807" y="7432"/>
                  </a:lnTo>
                  <a:lnTo>
                    <a:pt x="1722" y="7377"/>
                  </a:lnTo>
                  <a:lnTo>
                    <a:pt x="1637" y="7319"/>
                  </a:lnTo>
                  <a:lnTo>
                    <a:pt x="1554" y="7260"/>
                  </a:lnTo>
                  <a:lnTo>
                    <a:pt x="1474" y="7199"/>
                  </a:lnTo>
                  <a:lnTo>
                    <a:pt x="1393" y="7135"/>
                  </a:lnTo>
                  <a:lnTo>
                    <a:pt x="1316" y="7071"/>
                  </a:lnTo>
                  <a:lnTo>
                    <a:pt x="1240" y="7003"/>
                  </a:lnTo>
                  <a:lnTo>
                    <a:pt x="1165" y="6934"/>
                  </a:lnTo>
                  <a:lnTo>
                    <a:pt x="1092" y="6863"/>
                  </a:lnTo>
                  <a:lnTo>
                    <a:pt x="1021" y="6791"/>
                  </a:lnTo>
                  <a:lnTo>
                    <a:pt x="952" y="6717"/>
                  </a:lnTo>
                  <a:lnTo>
                    <a:pt x="884" y="6641"/>
                  </a:lnTo>
                  <a:lnTo>
                    <a:pt x="818" y="6563"/>
                  </a:lnTo>
                  <a:lnTo>
                    <a:pt x="755" y="6484"/>
                  </a:lnTo>
                  <a:lnTo>
                    <a:pt x="694" y="6402"/>
                  </a:lnTo>
                  <a:lnTo>
                    <a:pt x="634" y="6321"/>
                  </a:lnTo>
                  <a:lnTo>
                    <a:pt x="576" y="6237"/>
                  </a:lnTo>
                  <a:lnTo>
                    <a:pt x="521" y="6152"/>
                  </a:lnTo>
                  <a:lnTo>
                    <a:pt x="468" y="6064"/>
                  </a:lnTo>
                  <a:lnTo>
                    <a:pt x="416" y="5975"/>
                  </a:lnTo>
                  <a:lnTo>
                    <a:pt x="367" y="5887"/>
                  </a:lnTo>
                  <a:lnTo>
                    <a:pt x="320" y="5795"/>
                  </a:lnTo>
                  <a:lnTo>
                    <a:pt x="275" y="5703"/>
                  </a:lnTo>
                  <a:lnTo>
                    <a:pt x="233" y="5609"/>
                  </a:lnTo>
                  <a:lnTo>
                    <a:pt x="214" y="5615"/>
                  </a:lnTo>
                  <a:lnTo>
                    <a:pt x="193" y="5621"/>
                  </a:lnTo>
                  <a:lnTo>
                    <a:pt x="174" y="5629"/>
                  </a:lnTo>
                  <a:lnTo>
                    <a:pt x="156" y="5635"/>
                  </a:lnTo>
                  <a:lnTo>
                    <a:pt x="138" y="5642"/>
                  </a:lnTo>
                  <a:lnTo>
                    <a:pt x="120" y="5648"/>
                  </a:lnTo>
                  <a:lnTo>
                    <a:pt x="103" y="5655"/>
                  </a:lnTo>
                  <a:lnTo>
                    <a:pt x="88" y="5662"/>
                  </a:lnTo>
                  <a:lnTo>
                    <a:pt x="77" y="5666"/>
                  </a:lnTo>
                  <a:lnTo>
                    <a:pt x="66" y="5671"/>
                  </a:lnTo>
                  <a:lnTo>
                    <a:pt x="55" y="5674"/>
                  </a:lnTo>
                  <a:lnTo>
                    <a:pt x="44" y="5678"/>
                  </a:lnTo>
                  <a:lnTo>
                    <a:pt x="34" y="5681"/>
                  </a:lnTo>
                  <a:lnTo>
                    <a:pt x="23" y="5685"/>
                  </a:lnTo>
                  <a:lnTo>
                    <a:pt x="11" y="5689"/>
                  </a:lnTo>
                  <a:lnTo>
                    <a:pt x="0" y="5692"/>
                  </a:lnTo>
                  <a:close/>
                </a:path>
              </a:pathLst>
            </a:custGeom>
            <a:solidFill>
              <a:srgbClr val="f9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8320" y="2963880"/>
              <a:ext cx="3191040" cy="3147840"/>
            </a:xfrm>
            <a:custGeom>
              <a:avLst/>
              <a:gdLst/>
              <a:ahLst/>
              <a:rect l="l" t="t" r="r" b="b"/>
              <a:pathLst>
                <a:path w="8040" h="7934">
                  <a:moveTo>
                    <a:pt x="8040" y="3934"/>
                  </a:moveTo>
                  <a:lnTo>
                    <a:pt x="8037" y="3766"/>
                  </a:lnTo>
                  <a:lnTo>
                    <a:pt x="8027" y="3600"/>
                  </a:lnTo>
                  <a:lnTo>
                    <a:pt x="8012" y="3434"/>
                  </a:lnTo>
                  <a:lnTo>
                    <a:pt x="7989" y="3271"/>
                  </a:lnTo>
                  <a:lnTo>
                    <a:pt x="7960" y="3110"/>
                  </a:lnTo>
                  <a:lnTo>
                    <a:pt x="7925" y="2952"/>
                  </a:lnTo>
                  <a:lnTo>
                    <a:pt x="7884" y="2796"/>
                  </a:lnTo>
                  <a:lnTo>
                    <a:pt x="7838" y="2641"/>
                  </a:lnTo>
                  <a:lnTo>
                    <a:pt x="7785" y="2490"/>
                  </a:lnTo>
                  <a:lnTo>
                    <a:pt x="7727" y="2341"/>
                  </a:lnTo>
                  <a:lnTo>
                    <a:pt x="7664" y="2196"/>
                  </a:lnTo>
                  <a:lnTo>
                    <a:pt x="7595" y="2052"/>
                  </a:lnTo>
                  <a:lnTo>
                    <a:pt x="7522" y="1913"/>
                  </a:lnTo>
                  <a:lnTo>
                    <a:pt x="7443" y="1776"/>
                  </a:lnTo>
                  <a:lnTo>
                    <a:pt x="7359" y="1643"/>
                  </a:lnTo>
                  <a:lnTo>
                    <a:pt x="7270" y="1512"/>
                  </a:lnTo>
                  <a:lnTo>
                    <a:pt x="7178" y="1386"/>
                  </a:lnTo>
                  <a:lnTo>
                    <a:pt x="7079" y="1264"/>
                  </a:lnTo>
                  <a:lnTo>
                    <a:pt x="6977" y="1144"/>
                  </a:lnTo>
                  <a:lnTo>
                    <a:pt x="6870" y="1029"/>
                  </a:lnTo>
                  <a:lnTo>
                    <a:pt x="6760" y="918"/>
                  </a:lnTo>
                  <a:lnTo>
                    <a:pt x="6645" y="811"/>
                  </a:lnTo>
                  <a:lnTo>
                    <a:pt x="6526" y="710"/>
                  </a:lnTo>
                  <a:lnTo>
                    <a:pt x="6404" y="611"/>
                  </a:lnTo>
                  <a:lnTo>
                    <a:pt x="6278" y="518"/>
                  </a:lnTo>
                  <a:lnTo>
                    <a:pt x="6148" y="429"/>
                  </a:lnTo>
                  <a:lnTo>
                    <a:pt x="6015" y="345"/>
                  </a:lnTo>
                  <a:lnTo>
                    <a:pt x="5878" y="266"/>
                  </a:lnTo>
                  <a:lnTo>
                    <a:pt x="5738" y="191"/>
                  </a:lnTo>
                  <a:lnTo>
                    <a:pt x="5595" y="123"/>
                  </a:lnTo>
                  <a:lnTo>
                    <a:pt x="5450" y="59"/>
                  </a:lnTo>
                  <a:lnTo>
                    <a:pt x="5301" y="0"/>
                  </a:lnTo>
                  <a:lnTo>
                    <a:pt x="5298" y="2"/>
                  </a:lnTo>
                  <a:lnTo>
                    <a:pt x="5295" y="2"/>
                  </a:lnTo>
                  <a:lnTo>
                    <a:pt x="5292" y="3"/>
                  </a:lnTo>
                  <a:lnTo>
                    <a:pt x="5290" y="4"/>
                  </a:lnTo>
                  <a:lnTo>
                    <a:pt x="5288" y="4"/>
                  </a:lnTo>
                  <a:lnTo>
                    <a:pt x="5285" y="5"/>
                  </a:lnTo>
                  <a:lnTo>
                    <a:pt x="5283" y="6"/>
                  </a:lnTo>
                  <a:lnTo>
                    <a:pt x="5279" y="6"/>
                  </a:lnTo>
                  <a:lnTo>
                    <a:pt x="5260" y="14"/>
                  </a:lnTo>
                  <a:lnTo>
                    <a:pt x="5240" y="21"/>
                  </a:lnTo>
                  <a:lnTo>
                    <a:pt x="5222" y="28"/>
                  </a:lnTo>
                  <a:lnTo>
                    <a:pt x="5204" y="36"/>
                  </a:lnTo>
                  <a:lnTo>
                    <a:pt x="5186" y="45"/>
                  </a:lnTo>
                  <a:lnTo>
                    <a:pt x="5169" y="53"/>
                  </a:lnTo>
                  <a:lnTo>
                    <a:pt x="5153" y="63"/>
                  </a:lnTo>
                  <a:lnTo>
                    <a:pt x="5136" y="74"/>
                  </a:lnTo>
                  <a:lnTo>
                    <a:pt x="5122" y="83"/>
                  </a:lnTo>
                  <a:lnTo>
                    <a:pt x="5106" y="94"/>
                  </a:lnTo>
                  <a:lnTo>
                    <a:pt x="5092" y="106"/>
                  </a:lnTo>
                  <a:lnTo>
                    <a:pt x="5079" y="118"/>
                  </a:lnTo>
                  <a:lnTo>
                    <a:pt x="5052" y="142"/>
                  </a:lnTo>
                  <a:lnTo>
                    <a:pt x="5027" y="167"/>
                  </a:lnTo>
                  <a:lnTo>
                    <a:pt x="5176" y="218"/>
                  </a:lnTo>
                  <a:lnTo>
                    <a:pt x="5322" y="273"/>
                  </a:lnTo>
                  <a:lnTo>
                    <a:pt x="5465" y="334"/>
                  </a:lnTo>
                  <a:lnTo>
                    <a:pt x="5606" y="401"/>
                  </a:lnTo>
                  <a:lnTo>
                    <a:pt x="5744" y="473"/>
                  </a:lnTo>
                  <a:lnTo>
                    <a:pt x="5878" y="550"/>
                  </a:lnTo>
                  <a:lnTo>
                    <a:pt x="6009" y="633"/>
                  </a:lnTo>
                  <a:lnTo>
                    <a:pt x="6136" y="719"/>
                  </a:lnTo>
                  <a:lnTo>
                    <a:pt x="6260" y="811"/>
                  </a:lnTo>
                  <a:lnTo>
                    <a:pt x="6380" y="907"/>
                  </a:lnTo>
                  <a:lnTo>
                    <a:pt x="6495" y="1008"/>
                  </a:lnTo>
                  <a:lnTo>
                    <a:pt x="6606" y="1114"/>
                  </a:lnTo>
                  <a:lnTo>
                    <a:pt x="6714" y="1223"/>
                  </a:lnTo>
                  <a:lnTo>
                    <a:pt x="6819" y="1337"/>
                  </a:lnTo>
                  <a:lnTo>
                    <a:pt x="6917" y="1455"/>
                  </a:lnTo>
                  <a:lnTo>
                    <a:pt x="7012" y="1576"/>
                  </a:lnTo>
                  <a:lnTo>
                    <a:pt x="7102" y="1702"/>
                  </a:lnTo>
                  <a:lnTo>
                    <a:pt x="7186" y="1830"/>
                  </a:lnTo>
                  <a:lnTo>
                    <a:pt x="7266" y="1962"/>
                  </a:lnTo>
                  <a:lnTo>
                    <a:pt x="7341" y="2098"/>
                  </a:lnTo>
                  <a:lnTo>
                    <a:pt x="7410" y="2237"/>
                  </a:lnTo>
                  <a:lnTo>
                    <a:pt x="7475" y="2378"/>
                  </a:lnTo>
                  <a:lnTo>
                    <a:pt x="7534" y="2522"/>
                  </a:lnTo>
                  <a:lnTo>
                    <a:pt x="7587" y="2670"/>
                  </a:lnTo>
                  <a:lnTo>
                    <a:pt x="7635" y="2820"/>
                  </a:lnTo>
                  <a:lnTo>
                    <a:pt x="7676" y="2973"/>
                  </a:lnTo>
                  <a:lnTo>
                    <a:pt x="7712" y="3128"/>
                  </a:lnTo>
                  <a:lnTo>
                    <a:pt x="7740" y="3285"/>
                  </a:lnTo>
                  <a:lnTo>
                    <a:pt x="7764" y="3445"/>
                  </a:lnTo>
                  <a:lnTo>
                    <a:pt x="7780" y="3606"/>
                  </a:lnTo>
                  <a:lnTo>
                    <a:pt x="7791" y="3769"/>
                  </a:lnTo>
                  <a:lnTo>
                    <a:pt x="7794" y="3934"/>
                  </a:lnTo>
                  <a:lnTo>
                    <a:pt x="7788" y="4137"/>
                  </a:lnTo>
                  <a:lnTo>
                    <a:pt x="7774" y="4337"/>
                  </a:lnTo>
                  <a:lnTo>
                    <a:pt x="7749" y="4535"/>
                  </a:lnTo>
                  <a:lnTo>
                    <a:pt x="7714" y="4730"/>
                  </a:lnTo>
                  <a:lnTo>
                    <a:pt x="7670" y="4920"/>
                  </a:lnTo>
                  <a:lnTo>
                    <a:pt x="7617" y="5108"/>
                  </a:lnTo>
                  <a:lnTo>
                    <a:pt x="7554" y="5291"/>
                  </a:lnTo>
                  <a:lnTo>
                    <a:pt x="7484" y="5470"/>
                  </a:lnTo>
                  <a:lnTo>
                    <a:pt x="7404" y="5645"/>
                  </a:lnTo>
                  <a:lnTo>
                    <a:pt x="7318" y="5815"/>
                  </a:lnTo>
                  <a:lnTo>
                    <a:pt x="7223" y="5980"/>
                  </a:lnTo>
                  <a:lnTo>
                    <a:pt x="7120" y="6140"/>
                  </a:lnTo>
                  <a:lnTo>
                    <a:pt x="7010" y="6295"/>
                  </a:lnTo>
                  <a:lnTo>
                    <a:pt x="6893" y="6444"/>
                  </a:lnTo>
                  <a:lnTo>
                    <a:pt x="6768" y="6587"/>
                  </a:lnTo>
                  <a:lnTo>
                    <a:pt x="6638" y="6723"/>
                  </a:lnTo>
                  <a:lnTo>
                    <a:pt x="6501" y="6854"/>
                  </a:lnTo>
                  <a:lnTo>
                    <a:pt x="6358" y="6979"/>
                  </a:lnTo>
                  <a:lnTo>
                    <a:pt x="6209" y="7095"/>
                  </a:lnTo>
                  <a:lnTo>
                    <a:pt x="6054" y="7206"/>
                  </a:lnTo>
                  <a:lnTo>
                    <a:pt x="5894" y="7309"/>
                  </a:lnTo>
                  <a:lnTo>
                    <a:pt x="5728" y="7404"/>
                  </a:lnTo>
                  <a:lnTo>
                    <a:pt x="5559" y="7491"/>
                  </a:lnTo>
                  <a:lnTo>
                    <a:pt x="5384" y="7569"/>
                  </a:lnTo>
                  <a:lnTo>
                    <a:pt x="5205" y="7640"/>
                  </a:lnTo>
                  <a:lnTo>
                    <a:pt x="5021" y="7702"/>
                  </a:lnTo>
                  <a:lnTo>
                    <a:pt x="4834" y="7755"/>
                  </a:lnTo>
                  <a:lnTo>
                    <a:pt x="4643" y="7800"/>
                  </a:lnTo>
                  <a:lnTo>
                    <a:pt x="4449" y="7834"/>
                  </a:lnTo>
                  <a:lnTo>
                    <a:pt x="4251" y="7860"/>
                  </a:lnTo>
                  <a:lnTo>
                    <a:pt x="4050" y="7875"/>
                  </a:lnTo>
                  <a:lnTo>
                    <a:pt x="3848" y="7880"/>
                  </a:lnTo>
                  <a:lnTo>
                    <a:pt x="3696" y="7878"/>
                  </a:lnTo>
                  <a:lnTo>
                    <a:pt x="3548" y="7869"/>
                  </a:lnTo>
                  <a:lnTo>
                    <a:pt x="3400" y="7855"/>
                  </a:lnTo>
                  <a:lnTo>
                    <a:pt x="3255" y="7836"/>
                  </a:lnTo>
                  <a:lnTo>
                    <a:pt x="3111" y="7812"/>
                  </a:lnTo>
                  <a:lnTo>
                    <a:pt x="2968" y="7782"/>
                  </a:lnTo>
                  <a:lnTo>
                    <a:pt x="2828" y="7747"/>
                  </a:lnTo>
                  <a:lnTo>
                    <a:pt x="2690" y="7707"/>
                  </a:lnTo>
                  <a:lnTo>
                    <a:pt x="2553" y="7663"/>
                  </a:lnTo>
                  <a:lnTo>
                    <a:pt x="2420" y="7614"/>
                  </a:lnTo>
                  <a:lnTo>
                    <a:pt x="2288" y="7560"/>
                  </a:lnTo>
                  <a:lnTo>
                    <a:pt x="2158" y="7501"/>
                  </a:lnTo>
                  <a:lnTo>
                    <a:pt x="2032" y="7438"/>
                  </a:lnTo>
                  <a:lnTo>
                    <a:pt x="1907" y="7371"/>
                  </a:lnTo>
                  <a:lnTo>
                    <a:pt x="1786" y="7299"/>
                  </a:lnTo>
                  <a:lnTo>
                    <a:pt x="1667" y="7224"/>
                  </a:lnTo>
                  <a:lnTo>
                    <a:pt x="1552" y="7143"/>
                  </a:lnTo>
                  <a:lnTo>
                    <a:pt x="1439" y="7061"/>
                  </a:lnTo>
                  <a:lnTo>
                    <a:pt x="1330" y="6973"/>
                  </a:lnTo>
                  <a:lnTo>
                    <a:pt x="1223" y="6882"/>
                  </a:lnTo>
                  <a:lnTo>
                    <a:pt x="1121" y="6786"/>
                  </a:lnTo>
                  <a:lnTo>
                    <a:pt x="1022" y="6687"/>
                  </a:lnTo>
                  <a:lnTo>
                    <a:pt x="926" y="6586"/>
                  </a:lnTo>
                  <a:lnTo>
                    <a:pt x="833" y="6480"/>
                  </a:lnTo>
                  <a:lnTo>
                    <a:pt x="744" y="6372"/>
                  </a:lnTo>
                  <a:lnTo>
                    <a:pt x="659" y="6260"/>
                  </a:lnTo>
                  <a:lnTo>
                    <a:pt x="579" y="6145"/>
                  </a:lnTo>
                  <a:lnTo>
                    <a:pt x="502" y="6028"/>
                  </a:lnTo>
                  <a:lnTo>
                    <a:pt x="429" y="5907"/>
                  </a:lnTo>
                  <a:lnTo>
                    <a:pt x="360" y="5784"/>
                  </a:lnTo>
                  <a:lnTo>
                    <a:pt x="297" y="5658"/>
                  </a:lnTo>
                  <a:lnTo>
                    <a:pt x="237" y="5529"/>
                  </a:lnTo>
                  <a:lnTo>
                    <a:pt x="204" y="5537"/>
                  </a:lnTo>
                  <a:lnTo>
                    <a:pt x="173" y="5547"/>
                  </a:lnTo>
                  <a:lnTo>
                    <a:pt x="142" y="5555"/>
                  </a:lnTo>
                  <a:lnTo>
                    <a:pt x="112" y="5565"/>
                  </a:lnTo>
                  <a:lnTo>
                    <a:pt x="82" y="5574"/>
                  </a:lnTo>
                  <a:lnTo>
                    <a:pt x="53" y="5584"/>
                  </a:lnTo>
                  <a:lnTo>
                    <a:pt x="27" y="5593"/>
                  </a:lnTo>
                  <a:lnTo>
                    <a:pt x="0" y="5604"/>
                  </a:lnTo>
                  <a:lnTo>
                    <a:pt x="36" y="5685"/>
                  </a:lnTo>
                  <a:lnTo>
                    <a:pt x="75" y="5765"/>
                  </a:lnTo>
                  <a:lnTo>
                    <a:pt x="114" y="5844"/>
                  </a:lnTo>
                  <a:lnTo>
                    <a:pt x="155" y="5922"/>
                  </a:lnTo>
                  <a:lnTo>
                    <a:pt x="197" y="5999"/>
                  </a:lnTo>
                  <a:lnTo>
                    <a:pt x="242" y="6076"/>
                  </a:lnTo>
                  <a:lnTo>
                    <a:pt x="288" y="6151"/>
                  </a:lnTo>
                  <a:lnTo>
                    <a:pt x="335" y="6224"/>
                  </a:lnTo>
                  <a:lnTo>
                    <a:pt x="384" y="6298"/>
                  </a:lnTo>
                  <a:lnTo>
                    <a:pt x="435" y="6370"/>
                  </a:lnTo>
                  <a:lnTo>
                    <a:pt x="486" y="6440"/>
                  </a:lnTo>
                  <a:lnTo>
                    <a:pt x="539" y="6510"/>
                  </a:lnTo>
                  <a:lnTo>
                    <a:pt x="594" y="6580"/>
                  </a:lnTo>
                  <a:lnTo>
                    <a:pt x="651" y="6647"/>
                  </a:lnTo>
                  <a:lnTo>
                    <a:pt x="707" y="6713"/>
                  </a:lnTo>
                  <a:lnTo>
                    <a:pt x="766" y="6777"/>
                  </a:lnTo>
                  <a:lnTo>
                    <a:pt x="827" y="6841"/>
                  </a:lnTo>
                  <a:lnTo>
                    <a:pt x="888" y="6903"/>
                  </a:lnTo>
                  <a:lnTo>
                    <a:pt x="951" y="6965"/>
                  </a:lnTo>
                  <a:lnTo>
                    <a:pt x="1014" y="7025"/>
                  </a:lnTo>
                  <a:lnTo>
                    <a:pt x="1080" y="7083"/>
                  </a:lnTo>
                  <a:lnTo>
                    <a:pt x="1146" y="7141"/>
                  </a:lnTo>
                  <a:lnTo>
                    <a:pt x="1214" y="7196"/>
                  </a:lnTo>
                  <a:lnTo>
                    <a:pt x="1283" y="7251"/>
                  </a:lnTo>
                  <a:lnTo>
                    <a:pt x="1353" y="7304"/>
                  </a:lnTo>
                  <a:lnTo>
                    <a:pt x="1424" y="7356"/>
                  </a:lnTo>
                  <a:lnTo>
                    <a:pt x="1496" y="7405"/>
                  </a:lnTo>
                  <a:lnTo>
                    <a:pt x="1569" y="7454"/>
                  </a:lnTo>
                  <a:lnTo>
                    <a:pt x="1643" y="7501"/>
                  </a:lnTo>
                  <a:lnTo>
                    <a:pt x="1719" y="7546"/>
                  </a:lnTo>
                  <a:lnTo>
                    <a:pt x="1796" y="7591"/>
                  </a:lnTo>
                  <a:lnTo>
                    <a:pt x="1872" y="7633"/>
                  </a:lnTo>
                  <a:lnTo>
                    <a:pt x="1900" y="7639"/>
                  </a:lnTo>
                  <a:lnTo>
                    <a:pt x="1926" y="7645"/>
                  </a:lnTo>
                  <a:lnTo>
                    <a:pt x="1954" y="7650"/>
                  </a:lnTo>
                  <a:lnTo>
                    <a:pt x="1980" y="7656"/>
                  </a:lnTo>
                  <a:lnTo>
                    <a:pt x="2007" y="7662"/>
                  </a:lnTo>
                  <a:lnTo>
                    <a:pt x="2033" y="7666"/>
                  </a:lnTo>
                  <a:lnTo>
                    <a:pt x="2058" y="7672"/>
                  </a:lnTo>
                  <a:lnTo>
                    <a:pt x="2085" y="7678"/>
                  </a:lnTo>
                  <a:lnTo>
                    <a:pt x="2202" y="7704"/>
                  </a:lnTo>
                  <a:lnTo>
                    <a:pt x="2321" y="7728"/>
                  </a:lnTo>
                  <a:lnTo>
                    <a:pt x="2439" y="7750"/>
                  </a:lnTo>
                  <a:lnTo>
                    <a:pt x="2558" y="7772"/>
                  </a:lnTo>
                  <a:lnTo>
                    <a:pt x="2676" y="7792"/>
                  </a:lnTo>
                  <a:lnTo>
                    <a:pt x="2796" y="7812"/>
                  </a:lnTo>
                  <a:lnTo>
                    <a:pt x="2915" y="7830"/>
                  </a:lnTo>
                  <a:lnTo>
                    <a:pt x="3035" y="7846"/>
                  </a:lnTo>
                  <a:lnTo>
                    <a:pt x="3155" y="7862"/>
                  </a:lnTo>
                  <a:lnTo>
                    <a:pt x="3275" y="7876"/>
                  </a:lnTo>
                  <a:lnTo>
                    <a:pt x="3395" y="7890"/>
                  </a:lnTo>
                  <a:lnTo>
                    <a:pt x="3515" y="7900"/>
                  </a:lnTo>
                  <a:lnTo>
                    <a:pt x="3635" y="7910"/>
                  </a:lnTo>
                  <a:lnTo>
                    <a:pt x="3755" y="7918"/>
                  </a:lnTo>
                  <a:lnTo>
                    <a:pt x="3876" y="7924"/>
                  </a:lnTo>
                  <a:lnTo>
                    <a:pt x="3996" y="7929"/>
                  </a:lnTo>
                  <a:lnTo>
                    <a:pt x="4080" y="7932"/>
                  </a:lnTo>
                  <a:lnTo>
                    <a:pt x="4163" y="7934"/>
                  </a:lnTo>
                  <a:lnTo>
                    <a:pt x="4247" y="7934"/>
                  </a:lnTo>
                  <a:lnTo>
                    <a:pt x="4331" y="7933"/>
                  </a:lnTo>
                  <a:lnTo>
                    <a:pt x="4415" y="7932"/>
                  </a:lnTo>
                  <a:lnTo>
                    <a:pt x="4499" y="7929"/>
                  </a:lnTo>
                  <a:lnTo>
                    <a:pt x="4582" y="7926"/>
                  </a:lnTo>
                  <a:lnTo>
                    <a:pt x="4666" y="7922"/>
                  </a:lnTo>
                  <a:lnTo>
                    <a:pt x="4750" y="7916"/>
                  </a:lnTo>
                  <a:lnTo>
                    <a:pt x="4833" y="7910"/>
                  </a:lnTo>
                  <a:lnTo>
                    <a:pt x="4917" y="7903"/>
                  </a:lnTo>
                  <a:lnTo>
                    <a:pt x="5001" y="7896"/>
                  </a:lnTo>
                  <a:lnTo>
                    <a:pt x="5084" y="7886"/>
                  </a:lnTo>
                  <a:lnTo>
                    <a:pt x="5168" y="7876"/>
                  </a:lnTo>
                  <a:lnTo>
                    <a:pt x="5250" y="7867"/>
                  </a:lnTo>
                  <a:lnTo>
                    <a:pt x="5333" y="7855"/>
                  </a:lnTo>
                  <a:lnTo>
                    <a:pt x="5481" y="7796"/>
                  </a:lnTo>
                  <a:lnTo>
                    <a:pt x="5625" y="7732"/>
                  </a:lnTo>
                  <a:lnTo>
                    <a:pt x="5765" y="7663"/>
                  </a:lnTo>
                  <a:lnTo>
                    <a:pt x="5904" y="7588"/>
                  </a:lnTo>
                  <a:lnTo>
                    <a:pt x="6039" y="7508"/>
                  </a:lnTo>
                  <a:lnTo>
                    <a:pt x="6171" y="7424"/>
                  </a:lnTo>
                  <a:lnTo>
                    <a:pt x="6299" y="7335"/>
                  </a:lnTo>
                  <a:lnTo>
                    <a:pt x="6424" y="7242"/>
                  </a:lnTo>
                  <a:lnTo>
                    <a:pt x="6545" y="7143"/>
                  </a:lnTo>
                  <a:lnTo>
                    <a:pt x="6663" y="7041"/>
                  </a:lnTo>
                  <a:lnTo>
                    <a:pt x="6776" y="6935"/>
                  </a:lnTo>
                  <a:lnTo>
                    <a:pt x="6885" y="6823"/>
                  </a:lnTo>
                  <a:lnTo>
                    <a:pt x="6990" y="6709"/>
                  </a:lnTo>
                  <a:lnTo>
                    <a:pt x="7091" y="6590"/>
                  </a:lnTo>
                  <a:lnTo>
                    <a:pt x="7188" y="6468"/>
                  </a:lnTo>
                  <a:lnTo>
                    <a:pt x="7281" y="6342"/>
                  </a:lnTo>
                  <a:lnTo>
                    <a:pt x="7368" y="6212"/>
                  </a:lnTo>
                  <a:lnTo>
                    <a:pt x="7450" y="6079"/>
                  </a:lnTo>
                  <a:lnTo>
                    <a:pt x="7528" y="5944"/>
                  </a:lnTo>
                  <a:lnTo>
                    <a:pt x="7601" y="5805"/>
                  </a:lnTo>
                  <a:lnTo>
                    <a:pt x="7668" y="5662"/>
                  </a:lnTo>
                  <a:lnTo>
                    <a:pt x="7732" y="5517"/>
                  </a:lnTo>
                  <a:lnTo>
                    <a:pt x="7788" y="5369"/>
                  </a:lnTo>
                  <a:lnTo>
                    <a:pt x="7840" y="5218"/>
                  </a:lnTo>
                  <a:lnTo>
                    <a:pt x="7886" y="5066"/>
                  </a:lnTo>
                  <a:lnTo>
                    <a:pt x="7926" y="4910"/>
                  </a:lnTo>
                  <a:lnTo>
                    <a:pt x="7961" y="4752"/>
                  </a:lnTo>
                  <a:lnTo>
                    <a:pt x="7989" y="4593"/>
                  </a:lnTo>
                  <a:lnTo>
                    <a:pt x="8012" y="4431"/>
                  </a:lnTo>
                  <a:lnTo>
                    <a:pt x="8027" y="4267"/>
                  </a:lnTo>
                  <a:lnTo>
                    <a:pt x="8038" y="4101"/>
                  </a:lnTo>
                  <a:lnTo>
                    <a:pt x="8040" y="3934"/>
                  </a:lnTo>
                  <a:close/>
                </a:path>
              </a:pathLst>
            </a:custGeom>
            <a:solidFill>
              <a:srgbClr val="f9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24400" y="2992320"/>
              <a:ext cx="3095640" cy="3119400"/>
            </a:xfrm>
            <a:custGeom>
              <a:avLst/>
              <a:gdLst/>
              <a:ahLst/>
              <a:rect l="l" t="t" r="r" b="b"/>
              <a:pathLst>
                <a:path w="7800" h="7860">
                  <a:moveTo>
                    <a:pt x="7800" y="3860"/>
                  </a:moveTo>
                  <a:lnTo>
                    <a:pt x="7797" y="3692"/>
                  </a:lnTo>
                  <a:lnTo>
                    <a:pt x="7787" y="3527"/>
                  </a:lnTo>
                  <a:lnTo>
                    <a:pt x="7770" y="3362"/>
                  </a:lnTo>
                  <a:lnTo>
                    <a:pt x="7747" y="3200"/>
                  </a:lnTo>
                  <a:lnTo>
                    <a:pt x="7718" y="3041"/>
                  </a:lnTo>
                  <a:lnTo>
                    <a:pt x="7682" y="2882"/>
                  </a:lnTo>
                  <a:lnTo>
                    <a:pt x="7640" y="2728"/>
                  </a:lnTo>
                  <a:lnTo>
                    <a:pt x="7593" y="2574"/>
                  </a:lnTo>
                  <a:lnTo>
                    <a:pt x="7539" y="2424"/>
                  </a:lnTo>
                  <a:lnTo>
                    <a:pt x="7481" y="2277"/>
                  </a:lnTo>
                  <a:lnTo>
                    <a:pt x="7416" y="2133"/>
                  </a:lnTo>
                  <a:lnTo>
                    <a:pt x="7346" y="1991"/>
                  </a:lnTo>
                  <a:lnTo>
                    <a:pt x="7272" y="1853"/>
                  </a:lnTo>
                  <a:lnTo>
                    <a:pt x="7191" y="1718"/>
                  </a:lnTo>
                  <a:lnTo>
                    <a:pt x="7106" y="1587"/>
                  </a:lnTo>
                  <a:lnTo>
                    <a:pt x="7016" y="1458"/>
                  </a:lnTo>
                  <a:lnTo>
                    <a:pt x="6921" y="1334"/>
                  </a:lnTo>
                  <a:lnTo>
                    <a:pt x="6822" y="1214"/>
                  </a:lnTo>
                  <a:lnTo>
                    <a:pt x="6717" y="1097"/>
                  </a:lnTo>
                  <a:lnTo>
                    <a:pt x="6609" y="985"/>
                  </a:lnTo>
                  <a:lnTo>
                    <a:pt x="6497" y="875"/>
                  </a:lnTo>
                  <a:lnTo>
                    <a:pt x="6380" y="772"/>
                  </a:lnTo>
                  <a:lnTo>
                    <a:pt x="6260" y="673"/>
                  </a:lnTo>
                  <a:lnTo>
                    <a:pt x="6135" y="578"/>
                  </a:lnTo>
                  <a:lnTo>
                    <a:pt x="6007" y="488"/>
                  </a:lnTo>
                  <a:lnTo>
                    <a:pt x="5876" y="403"/>
                  </a:lnTo>
                  <a:lnTo>
                    <a:pt x="5741" y="322"/>
                  </a:lnTo>
                  <a:lnTo>
                    <a:pt x="5603" y="247"/>
                  </a:lnTo>
                  <a:lnTo>
                    <a:pt x="5461" y="177"/>
                  </a:lnTo>
                  <a:lnTo>
                    <a:pt x="5317" y="112"/>
                  </a:lnTo>
                  <a:lnTo>
                    <a:pt x="5169" y="54"/>
                  </a:lnTo>
                  <a:lnTo>
                    <a:pt x="5019" y="0"/>
                  </a:lnTo>
                  <a:lnTo>
                    <a:pt x="4991" y="20"/>
                  </a:lnTo>
                  <a:lnTo>
                    <a:pt x="4964" y="42"/>
                  </a:lnTo>
                  <a:lnTo>
                    <a:pt x="4938" y="64"/>
                  </a:lnTo>
                  <a:lnTo>
                    <a:pt x="4914" y="90"/>
                  </a:lnTo>
                  <a:lnTo>
                    <a:pt x="4891" y="115"/>
                  </a:lnTo>
                  <a:lnTo>
                    <a:pt x="4868" y="141"/>
                  </a:lnTo>
                  <a:lnTo>
                    <a:pt x="4848" y="169"/>
                  </a:lnTo>
                  <a:lnTo>
                    <a:pt x="4826" y="198"/>
                  </a:lnTo>
                  <a:lnTo>
                    <a:pt x="4974" y="244"/>
                  </a:lnTo>
                  <a:lnTo>
                    <a:pt x="5117" y="297"/>
                  </a:lnTo>
                  <a:lnTo>
                    <a:pt x="5258" y="356"/>
                  </a:lnTo>
                  <a:lnTo>
                    <a:pt x="5396" y="420"/>
                  </a:lnTo>
                  <a:lnTo>
                    <a:pt x="5532" y="488"/>
                  </a:lnTo>
                  <a:lnTo>
                    <a:pt x="5664" y="562"/>
                  </a:lnTo>
                  <a:lnTo>
                    <a:pt x="5792" y="642"/>
                  </a:lnTo>
                  <a:lnTo>
                    <a:pt x="5918" y="725"/>
                  </a:lnTo>
                  <a:lnTo>
                    <a:pt x="6039" y="814"/>
                  </a:lnTo>
                  <a:lnTo>
                    <a:pt x="6158" y="908"/>
                  </a:lnTo>
                  <a:lnTo>
                    <a:pt x="6272" y="1005"/>
                  </a:lnTo>
                  <a:lnTo>
                    <a:pt x="6383" y="1107"/>
                  </a:lnTo>
                  <a:lnTo>
                    <a:pt x="6488" y="1214"/>
                  </a:lnTo>
                  <a:lnTo>
                    <a:pt x="6590" y="1324"/>
                  </a:lnTo>
                  <a:lnTo>
                    <a:pt x="6689" y="1438"/>
                  </a:lnTo>
                  <a:lnTo>
                    <a:pt x="6782" y="1557"/>
                  </a:lnTo>
                  <a:lnTo>
                    <a:pt x="6870" y="1679"/>
                  </a:lnTo>
                  <a:lnTo>
                    <a:pt x="6954" y="1804"/>
                  </a:lnTo>
                  <a:lnTo>
                    <a:pt x="7033" y="1934"/>
                  </a:lnTo>
                  <a:lnTo>
                    <a:pt x="7106" y="2066"/>
                  </a:lnTo>
                  <a:lnTo>
                    <a:pt x="7176" y="2201"/>
                  </a:lnTo>
                  <a:lnTo>
                    <a:pt x="7239" y="2339"/>
                  </a:lnTo>
                  <a:lnTo>
                    <a:pt x="7297" y="2481"/>
                  </a:lnTo>
                  <a:lnTo>
                    <a:pt x="7350" y="2625"/>
                  </a:lnTo>
                  <a:lnTo>
                    <a:pt x="7397" y="2771"/>
                  </a:lnTo>
                  <a:lnTo>
                    <a:pt x="7437" y="2920"/>
                  </a:lnTo>
                  <a:lnTo>
                    <a:pt x="7472" y="3072"/>
                  </a:lnTo>
                  <a:lnTo>
                    <a:pt x="7501" y="3226"/>
                  </a:lnTo>
                  <a:lnTo>
                    <a:pt x="7524" y="3382"/>
                  </a:lnTo>
                  <a:lnTo>
                    <a:pt x="7541" y="3539"/>
                  </a:lnTo>
                  <a:lnTo>
                    <a:pt x="7550" y="3698"/>
                  </a:lnTo>
                  <a:lnTo>
                    <a:pt x="7554" y="3860"/>
                  </a:lnTo>
                  <a:lnTo>
                    <a:pt x="7549" y="4057"/>
                  </a:lnTo>
                  <a:lnTo>
                    <a:pt x="7533" y="4251"/>
                  </a:lnTo>
                  <a:lnTo>
                    <a:pt x="7509" y="4442"/>
                  </a:lnTo>
                  <a:lnTo>
                    <a:pt x="7476" y="4630"/>
                  </a:lnTo>
                  <a:lnTo>
                    <a:pt x="7434" y="4815"/>
                  </a:lnTo>
                  <a:lnTo>
                    <a:pt x="7382" y="4996"/>
                  </a:lnTo>
                  <a:lnTo>
                    <a:pt x="7322" y="5174"/>
                  </a:lnTo>
                  <a:lnTo>
                    <a:pt x="7254" y="5348"/>
                  </a:lnTo>
                  <a:lnTo>
                    <a:pt x="7177" y="5517"/>
                  </a:lnTo>
                  <a:lnTo>
                    <a:pt x="7092" y="5683"/>
                  </a:lnTo>
                  <a:lnTo>
                    <a:pt x="7001" y="5842"/>
                  </a:lnTo>
                  <a:lnTo>
                    <a:pt x="6901" y="5997"/>
                  </a:lnTo>
                  <a:lnTo>
                    <a:pt x="6794" y="6147"/>
                  </a:lnTo>
                  <a:lnTo>
                    <a:pt x="6680" y="6292"/>
                  </a:lnTo>
                  <a:lnTo>
                    <a:pt x="6560" y="6430"/>
                  </a:lnTo>
                  <a:lnTo>
                    <a:pt x="6434" y="6563"/>
                  </a:lnTo>
                  <a:lnTo>
                    <a:pt x="6301" y="6689"/>
                  </a:lnTo>
                  <a:lnTo>
                    <a:pt x="6162" y="6809"/>
                  </a:lnTo>
                  <a:lnTo>
                    <a:pt x="6018" y="6923"/>
                  </a:lnTo>
                  <a:lnTo>
                    <a:pt x="5868" y="7030"/>
                  </a:lnTo>
                  <a:lnTo>
                    <a:pt x="5713" y="7129"/>
                  </a:lnTo>
                  <a:lnTo>
                    <a:pt x="5552" y="7222"/>
                  </a:lnTo>
                  <a:lnTo>
                    <a:pt x="5388" y="7306"/>
                  </a:lnTo>
                  <a:lnTo>
                    <a:pt x="5219" y="7382"/>
                  </a:lnTo>
                  <a:lnTo>
                    <a:pt x="5045" y="7451"/>
                  </a:lnTo>
                  <a:lnTo>
                    <a:pt x="4867" y="7511"/>
                  </a:lnTo>
                  <a:lnTo>
                    <a:pt x="4686" y="7562"/>
                  </a:lnTo>
                  <a:lnTo>
                    <a:pt x="4501" y="7604"/>
                  </a:lnTo>
                  <a:lnTo>
                    <a:pt x="4313" y="7638"/>
                  </a:lnTo>
                  <a:lnTo>
                    <a:pt x="4122" y="7663"/>
                  </a:lnTo>
                  <a:lnTo>
                    <a:pt x="3927" y="7678"/>
                  </a:lnTo>
                  <a:lnTo>
                    <a:pt x="3731" y="7682"/>
                  </a:lnTo>
                  <a:lnTo>
                    <a:pt x="3585" y="7680"/>
                  </a:lnTo>
                  <a:lnTo>
                    <a:pt x="3441" y="7672"/>
                  </a:lnTo>
                  <a:lnTo>
                    <a:pt x="3300" y="7658"/>
                  </a:lnTo>
                  <a:lnTo>
                    <a:pt x="3159" y="7640"/>
                  </a:lnTo>
                  <a:lnTo>
                    <a:pt x="3020" y="7616"/>
                  </a:lnTo>
                  <a:lnTo>
                    <a:pt x="2883" y="7589"/>
                  </a:lnTo>
                  <a:lnTo>
                    <a:pt x="2748" y="7555"/>
                  </a:lnTo>
                  <a:lnTo>
                    <a:pt x="2615" y="7517"/>
                  </a:lnTo>
                  <a:lnTo>
                    <a:pt x="2483" y="7475"/>
                  </a:lnTo>
                  <a:lnTo>
                    <a:pt x="2354" y="7427"/>
                  </a:lnTo>
                  <a:lnTo>
                    <a:pt x="2227" y="7375"/>
                  </a:lnTo>
                  <a:lnTo>
                    <a:pt x="2102" y="7319"/>
                  </a:lnTo>
                  <a:lnTo>
                    <a:pt x="1980" y="7259"/>
                  </a:lnTo>
                  <a:lnTo>
                    <a:pt x="1860" y="7194"/>
                  </a:lnTo>
                  <a:lnTo>
                    <a:pt x="1742" y="7126"/>
                  </a:lnTo>
                  <a:lnTo>
                    <a:pt x="1628" y="7054"/>
                  </a:lnTo>
                  <a:lnTo>
                    <a:pt x="1517" y="6977"/>
                  </a:lnTo>
                  <a:lnTo>
                    <a:pt x="1407" y="6897"/>
                  </a:lnTo>
                  <a:lnTo>
                    <a:pt x="1302" y="6813"/>
                  </a:lnTo>
                  <a:lnTo>
                    <a:pt x="1200" y="6725"/>
                  </a:lnTo>
                  <a:lnTo>
                    <a:pt x="1100" y="6634"/>
                  </a:lnTo>
                  <a:lnTo>
                    <a:pt x="1003" y="6539"/>
                  </a:lnTo>
                  <a:lnTo>
                    <a:pt x="911" y="6441"/>
                  </a:lnTo>
                  <a:lnTo>
                    <a:pt x="821" y="6340"/>
                  </a:lnTo>
                  <a:lnTo>
                    <a:pt x="735" y="6236"/>
                  </a:lnTo>
                  <a:lnTo>
                    <a:pt x="653" y="6129"/>
                  </a:lnTo>
                  <a:lnTo>
                    <a:pt x="575" y="6018"/>
                  </a:lnTo>
                  <a:lnTo>
                    <a:pt x="500" y="5906"/>
                  </a:lnTo>
                  <a:lnTo>
                    <a:pt x="429" y="5789"/>
                  </a:lnTo>
                  <a:lnTo>
                    <a:pt x="362" y="5672"/>
                  </a:lnTo>
                  <a:lnTo>
                    <a:pt x="300" y="5551"/>
                  </a:lnTo>
                  <a:lnTo>
                    <a:pt x="242" y="5427"/>
                  </a:lnTo>
                  <a:lnTo>
                    <a:pt x="211" y="5433"/>
                  </a:lnTo>
                  <a:lnTo>
                    <a:pt x="181" y="5440"/>
                  </a:lnTo>
                  <a:lnTo>
                    <a:pt x="150" y="5447"/>
                  </a:lnTo>
                  <a:lnTo>
                    <a:pt x="120" y="5456"/>
                  </a:lnTo>
                  <a:lnTo>
                    <a:pt x="89" y="5463"/>
                  </a:lnTo>
                  <a:lnTo>
                    <a:pt x="59" y="5471"/>
                  </a:lnTo>
                  <a:lnTo>
                    <a:pt x="29" y="5480"/>
                  </a:lnTo>
                  <a:lnTo>
                    <a:pt x="0" y="5489"/>
                  </a:lnTo>
                  <a:lnTo>
                    <a:pt x="42" y="5583"/>
                  </a:lnTo>
                  <a:lnTo>
                    <a:pt x="87" y="5675"/>
                  </a:lnTo>
                  <a:lnTo>
                    <a:pt x="134" y="5767"/>
                  </a:lnTo>
                  <a:lnTo>
                    <a:pt x="183" y="5855"/>
                  </a:lnTo>
                  <a:lnTo>
                    <a:pt x="235" y="5944"/>
                  </a:lnTo>
                  <a:lnTo>
                    <a:pt x="288" y="6032"/>
                  </a:lnTo>
                  <a:lnTo>
                    <a:pt x="343" y="6117"/>
                  </a:lnTo>
                  <a:lnTo>
                    <a:pt x="401" y="6201"/>
                  </a:lnTo>
                  <a:lnTo>
                    <a:pt x="461" y="6282"/>
                  </a:lnTo>
                  <a:lnTo>
                    <a:pt x="522" y="6364"/>
                  </a:lnTo>
                  <a:lnTo>
                    <a:pt x="585" y="6443"/>
                  </a:lnTo>
                  <a:lnTo>
                    <a:pt x="651" y="6521"/>
                  </a:lnTo>
                  <a:lnTo>
                    <a:pt x="719" y="6597"/>
                  </a:lnTo>
                  <a:lnTo>
                    <a:pt x="788" y="6671"/>
                  </a:lnTo>
                  <a:lnTo>
                    <a:pt x="859" y="6743"/>
                  </a:lnTo>
                  <a:lnTo>
                    <a:pt x="932" y="6814"/>
                  </a:lnTo>
                  <a:lnTo>
                    <a:pt x="1007" y="6883"/>
                  </a:lnTo>
                  <a:lnTo>
                    <a:pt x="1083" y="6951"/>
                  </a:lnTo>
                  <a:lnTo>
                    <a:pt x="1160" y="7015"/>
                  </a:lnTo>
                  <a:lnTo>
                    <a:pt x="1241" y="7079"/>
                  </a:lnTo>
                  <a:lnTo>
                    <a:pt x="1321" y="7140"/>
                  </a:lnTo>
                  <a:lnTo>
                    <a:pt x="1404" y="7199"/>
                  </a:lnTo>
                  <a:lnTo>
                    <a:pt x="1489" y="7257"/>
                  </a:lnTo>
                  <a:lnTo>
                    <a:pt x="1574" y="7312"/>
                  </a:lnTo>
                  <a:lnTo>
                    <a:pt x="1662" y="7364"/>
                  </a:lnTo>
                  <a:lnTo>
                    <a:pt x="1751" y="7416"/>
                  </a:lnTo>
                  <a:lnTo>
                    <a:pt x="1841" y="7464"/>
                  </a:lnTo>
                  <a:lnTo>
                    <a:pt x="1932" y="7511"/>
                  </a:lnTo>
                  <a:lnTo>
                    <a:pt x="2024" y="7555"/>
                  </a:lnTo>
                  <a:lnTo>
                    <a:pt x="2118" y="7597"/>
                  </a:lnTo>
                  <a:lnTo>
                    <a:pt x="2214" y="7637"/>
                  </a:lnTo>
                  <a:lnTo>
                    <a:pt x="2310" y="7674"/>
                  </a:lnTo>
                  <a:lnTo>
                    <a:pt x="2407" y="7692"/>
                  </a:lnTo>
                  <a:lnTo>
                    <a:pt x="2504" y="7709"/>
                  </a:lnTo>
                  <a:lnTo>
                    <a:pt x="2601" y="7726"/>
                  </a:lnTo>
                  <a:lnTo>
                    <a:pt x="2700" y="7741"/>
                  </a:lnTo>
                  <a:lnTo>
                    <a:pt x="2797" y="7756"/>
                  </a:lnTo>
                  <a:lnTo>
                    <a:pt x="2895" y="7770"/>
                  </a:lnTo>
                  <a:lnTo>
                    <a:pt x="2994" y="7783"/>
                  </a:lnTo>
                  <a:lnTo>
                    <a:pt x="3091" y="7795"/>
                  </a:lnTo>
                  <a:lnTo>
                    <a:pt x="3189" y="7806"/>
                  </a:lnTo>
                  <a:lnTo>
                    <a:pt x="3288" y="7816"/>
                  </a:lnTo>
                  <a:lnTo>
                    <a:pt x="3386" y="7825"/>
                  </a:lnTo>
                  <a:lnTo>
                    <a:pt x="3485" y="7834"/>
                  </a:lnTo>
                  <a:lnTo>
                    <a:pt x="3584" y="7841"/>
                  </a:lnTo>
                  <a:lnTo>
                    <a:pt x="3683" y="7847"/>
                  </a:lnTo>
                  <a:lnTo>
                    <a:pt x="3781" y="7852"/>
                  </a:lnTo>
                  <a:lnTo>
                    <a:pt x="3879" y="7855"/>
                  </a:lnTo>
                  <a:lnTo>
                    <a:pt x="3962" y="7858"/>
                  </a:lnTo>
                  <a:lnTo>
                    <a:pt x="4045" y="7860"/>
                  </a:lnTo>
                  <a:lnTo>
                    <a:pt x="4128" y="7860"/>
                  </a:lnTo>
                  <a:lnTo>
                    <a:pt x="4212" y="7860"/>
                  </a:lnTo>
                  <a:lnTo>
                    <a:pt x="4295" y="7858"/>
                  </a:lnTo>
                  <a:lnTo>
                    <a:pt x="4377" y="7855"/>
                  </a:lnTo>
                  <a:lnTo>
                    <a:pt x="4460" y="7852"/>
                  </a:lnTo>
                  <a:lnTo>
                    <a:pt x="4543" y="7848"/>
                  </a:lnTo>
                  <a:lnTo>
                    <a:pt x="4716" y="7808"/>
                  </a:lnTo>
                  <a:lnTo>
                    <a:pt x="4886" y="7763"/>
                  </a:lnTo>
                  <a:lnTo>
                    <a:pt x="5053" y="7709"/>
                  </a:lnTo>
                  <a:lnTo>
                    <a:pt x="5216" y="7649"/>
                  </a:lnTo>
                  <a:lnTo>
                    <a:pt x="5377" y="7582"/>
                  </a:lnTo>
                  <a:lnTo>
                    <a:pt x="5534" y="7508"/>
                  </a:lnTo>
                  <a:lnTo>
                    <a:pt x="5687" y="7429"/>
                  </a:lnTo>
                  <a:lnTo>
                    <a:pt x="5837" y="7343"/>
                  </a:lnTo>
                  <a:lnTo>
                    <a:pt x="5981" y="7251"/>
                  </a:lnTo>
                  <a:lnTo>
                    <a:pt x="6122" y="7152"/>
                  </a:lnTo>
                  <a:lnTo>
                    <a:pt x="6259" y="7049"/>
                  </a:lnTo>
                  <a:lnTo>
                    <a:pt x="6390" y="6940"/>
                  </a:lnTo>
                  <a:lnTo>
                    <a:pt x="6517" y="6825"/>
                  </a:lnTo>
                  <a:lnTo>
                    <a:pt x="6639" y="6706"/>
                  </a:lnTo>
                  <a:lnTo>
                    <a:pt x="6757" y="6581"/>
                  </a:lnTo>
                  <a:lnTo>
                    <a:pt x="6869" y="6452"/>
                  </a:lnTo>
                  <a:lnTo>
                    <a:pt x="6975" y="6317"/>
                  </a:lnTo>
                  <a:lnTo>
                    <a:pt x="7076" y="6178"/>
                  </a:lnTo>
                  <a:lnTo>
                    <a:pt x="7171" y="6035"/>
                  </a:lnTo>
                  <a:lnTo>
                    <a:pt x="7260" y="5888"/>
                  </a:lnTo>
                  <a:lnTo>
                    <a:pt x="7343" y="5737"/>
                  </a:lnTo>
                  <a:lnTo>
                    <a:pt x="7419" y="5582"/>
                  </a:lnTo>
                  <a:lnTo>
                    <a:pt x="7489" y="5423"/>
                  </a:lnTo>
                  <a:lnTo>
                    <a:pt x="7553" y="5260"/>
                  </a:lnTo>
                  <a:lnTo>
                    <a:pt x="7609" y="5096"/>
                  </a:lnTo>
                  <a:lnTo>
                    <a:pt x="7659" y="4927"/>
                  </a:lnTo>
                  <a:lnTo>
                    <a:pt x="7701" y="4755"/>
                  </a:lnTo>
                  <a:lnTo>
                    <a:pt x="7736" y="4581"/>
                  </a:lnTo>
                  <a:lnTo>
                    <a:pt x="7764" y="4405"/>
                  </a:lnTo>
                  <a:lnTo>
                    <a:pt x="7784" y="4225"/>
                  </a:lnTo>
                  <a:lnTo>
                    <a:pt x="7796" y="4044"/>
                  </a:lnTo>
                  <a:lnTo>
                    <a:pt x="7800" y="3860"/>
                  </a:lnTo>
                  <a:close/>
                </a:path>
              </a:pathLst>
            </a:custGeom>
            <a:solidFill>
              <a:srgbClr val="f9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71920" y="3030480"/>
              <a:ext cx="3000600" cy="3060720"/>
            </a:xfrm>
            <a:custGeom>
              <a:avLst/>
              <a:gdLst/>
              <a:ahLst/>
              <a:rect l="l" t="t" r="r" b="b"/>
              <a:pathLst>
                <a:path w="7557" h="7713">
                  <a:moveTo>
                    <a:pt x="7557" y="3767"/>
                  </a:moveTo>
                  <a:lnTo>
                    <a:pt x="7554" y="3602"/>
                  </a:lnTo>
                  <a:lnTo>
                    <a:pt x="7543" y="3439"/>
                  </a:lnTo>
                  <a:lnTo>
                    <a:pt x="7527" y="3278"/>
                  </a:lnTo>
                  <a:lnTo>
                    <a:pt x="7503" y="3118"/>
                  </a:lnTo>
                  <a:lnTo>
                    <a:pt x="7475" y="2961"/>
                  </a:lnTo>
                  <a:lnTo>
                    <a:pt x="7439" y="2806"/>
                  </a:lnTo>
                  <a:lnTo>
                    <a:pt x="7398" y="2653"/>
                  </a:lnTo>
                  <a:lnTo>
                    <a:pt x="7350" y="2503"/>
                  </a:lnTo>
                  <a:lnTo>
                    <a:pt x="7297" y="2355"/>
                  </a:lnTo>
                  <a:lnTo>
                    <a:pt x="7238" y="2211"/>
                  </a:lnTo>
                  <a:lnTo>
                    <a:pt x="7173" y="2070"/>
                  </a:lnTo>
                  <a:lnTo>
                    <a:pt x="7104" y="1931"/>
                  </a:lnTo>
                  <a:lnTo>
                    <a:pt x="7029" y="1795"/>
                  </a:lnTo>
                  <a:lnTo>
                    <a:pt x="6949" y="1663"/>
                  </a:lnTo>
                  <a:lnTo>
                    <a:pt x="6865" y="1535"/>
                  </a:lnTo>
                  <a:lnTo>
                    <a:pt x="6775" y="1409"/>
                  </a:lnTo>
                  <a:lnTo>
                    <a:pt x="6680" y="1288"/>
                  </a:lnTo>
                  <a:lnTo>
                    <a:pt x="6582" y="1170"/>
                  </a:lnTo>
                  <a:lnTo>
                    <a:pt x="6477" y="1056"/>
                  </a:lnTo>
                  <a:lnTo>
                    <a:pt x="6369" y="947"/>
                  </a:lnTo>
                  <a:lnTo>
                    <a:pt x="6258" y="841"/>
                  </a:lnTo>
                  <a:lnTo>
                    <a:pt x="6143" y="740"/>
                  </a:lnTo>
                  <a:lnTo>
                    <a:pt x="6023" y="644"/>
                  </a:lnTo>
                  <a:lnTo>
                    <a:pt x="5899" y="552"/>
                  </a:lnTo>
                  <a:lnTo>
                    <a:pt x="5772" y="466"/>
                  </a:lnTo>
                  <a:lnTo>
                    <a:pt x="5641" y="383"/>
                  </a:lnTo>
                  <a:lnTo>
                    <a:pt x="5507" y="306"/>
                  </a:lnTo>
                  <a:lnTo>
                    <a:pt x="5369" y="234"/>
                  </a:lnTo>
                  <a:lnTo>
                    <a:pt x="5228" y="167"/>
                  </a:lnTo>
                  <a:lnTo>
                    <a:pt x="5085" y="106"/>
                  </a:lnTo>
                  <a:lnTo>
                    <a:pt x="4939" y="51"/>
                  </a:lnTo>
                  <a:lnTo>
                    <a:pt x="4790" y="0"/>
                  </a:lnTo>
                  <a:lnTo>
                    <a:pt x="4769" y="24"/>
                  </a:lnTo>
                  <a:lnTo>
                    <a:pt x="4748" y="49"/>
                  </a:lnTo>
                  <a:lnTo>
                    <a:pt x="4728" y="75"/>
                  </a:lnTo>
                  <a:lnTo>
                    <a:pt x="4709" y="101"/>
                  </a:lnTo>
                  <a:lnTo>
                    <a:pt x="4691" y="129"/>
                  </a:lnTo>
                  <a:lnTo>
                    <a:pt x="4671" y="155"/>
                  </a:lnTo>
                  <a:lnTo>
                    <a:pt x="4653" y="184"/>
                  </a:lnTo>
                  <a:lnTo>
                    <a:pt x="4634" y="211"/>
                  </a:lnTo>
                  <a:lnTo>
                    <a:pt x="4778" y="256"/>
                  </a:lnTo>
                  <a:lnTo>
                    <a:pt x="4919" y="306"/>
                  </a:lnTo>
                  <a:lnTo>
                    <a:pt x="5058" y="361"/>
                  </a:lnTo>
                  <a:lnTo>
                    <a:pt x="5193" y="423"/>
                  </a:lnTo>
                  <a:lnTo>
                    <a:pt x="5325" y="489"/>
                  </a:lnTo>
                  <a:lnTo>
                    <a:pt x="5455" y="561"/>
                  </a:lnTo>
                  <a:lnTo>
                    <a:pt x="5581" y="636"/>
                  </a:lnTo>
                  <a:lnTo>
                    <a:pt x="5705" y="718"/>
                  </a:lnTo>
                  <a:lnTo>
                    <a:pt x="5823" y="803"/>
                  </a:lnTo>
                  <a:lnTo>
                    <a:pt x="5940" y="893"/>
                  </a:lnTo>
                  <a:lnTo>
                    <a:pt x="6051" y="988"/>
                  </a:lnTo>
                  <a:lnTo>
                    <a:pt x="6161" y="1087"/>
                  </a:lnTo>
                  <a:lnTo>
                    <a:pt x="6264" y="1190"/>
                  </a:lnTo>
                  <a:lnTo>
                    <a:pt x="6365" y="1297"/>
                  </a:lnTo>
                  <a:lnTo>
                    <a:pt x="6461" y="1409"/>
                  </a:lnTo>
                  <a:lnTo>
                    <a:pt x="6552" y="1523"/>
                  </a:lnTo>
                  <a:lnTo>
                    <a:pt x="6638" y="1641"/>
                  </a:lnTo>
                  <a:lnTo>
                    <a:pt x="6721" y="1764"/>
                  </a:lnTo>
                  <a:lnTo>
                    <a:pt x="6799" y="1889"/>
                  </a:lnTo>
                  <a:lnTo>
                    <a:pt x="6871" y="2018"/>
                  </a:lnTo>
                  <a:lnTo>
                    <a:pt x="6938" y="2149"/>
                  </a:lnTo>
                  <a:lnTo>
                    <a:pt x="7001" y="2284"/>
                  </a:lnTo>
                  <a:lnTo>
                    <a:pt x="7058" y="2421"/>
                  </a:lnTo>
                  <a:lnTo>
                    <a:pt x="7110" y="2562"/>
                  </a:lnTo>
                  <a:lnTo>
                    <a:pt x="7155" y="2706"/>
                  </a:lnTo>
                  <a:lnTo>
                    <a:pt x="7196" y="2851"/>
                  </a:lnTo>
                  <a:lnTo>
                    <a:pt x="7230" y="2998"/>
                  </a:lnTo>
                  <a:lnTo>
                    <a:pt x="7259" y="3148"/>
                  </a:lnTo>
                  <a:lnTo>
                    <a:pt x="7281" y="3301"/>
                  </a:lnTo>
                  <a:lnTo>
                    <a:pt x="7297" y="3454"/>
                  </a:lnTo>
                  <a:lnTo>
                    <a:pt x="7307" y="3610"/>
                  </a:lnTo>
                  <a:lnTo>
                    <a:pt x="7310" y="3767"/>
                  </a:lnTo>
                  <a:lnTo>
                    <a:pt x="7305" y="3958"/>
                  </a:lnTo>
                  <a:lnTo>
                    <a:pt x="7291" y="4145"/>
                  </a:lnTo>
                  <a:lnTo>
                    <a:pt x="7268" y="4330"/>
                  </a:lnTo>
                  <a:lnTo>
                    <a:pt x="7235" y="4512"/>
                  </a:lnTo>
                  <a:lnTo>
                    <a:pt x="7194" y="4691"/>
                  </a:lnTo>
                  <a:lnTo>
                    <a:pt x="7145" y="4867"/>
                  </a:lnTo>
                  <a:lnTo>
                    <a:pt x="7086" y="5039"/>
                  </a:lnTo>
                  <a:lnTo>
                    <a:pt x="7020" y="5207"/>
                  </a:lnTo>
                  <a:lnTo>
                    <a:pt x="6945" y="5371"/>
                  </a:lnTo>
                  <a:lnTo>
                    <a:pt x="6864" y="5531"/>
                  </a:lnTo>
                  <a:lnTo>
                    <a:pt x="6775" y="5686"/>
                  </a:lnTo>
                  <a:lnTo>
                    <a:pt x="6679" y="5835"/>
                  </a:lnTo>
                  <a:lnTo>
                    <a:pt x="6576" y="5981"/>
                  </a:lnTo>
                  <a:lnTo>
                    <a:pt x="6465" y="6120"/>
                  </a:lnTo>
                  <a:lnTo>
                    <a:pt x="6349" y="6254"/>
                  </a:lnTo>
                  <a:lnTo>
                    <a:pt x="6227" y="6383"/>
                  </a:lnTo>
                  <a:lnTo>
                    <a:pt x="6098" y="6505"/>
                  </a:lnTo>
                  <a:lnTo>
                    <a:pt x="5964" y="6621"/>
                  </a:lnTo>
                  <a:lnTo>
                    <a:pt x="5825" y="6732"/>
                  </a:lnTo>
                  <a:lnTo>
                    <a:pt x="5679" y="6835"/>
                  </a:lnTo>
                  <a:lnTo>
                    <a:pt x="5529" y="6931"/>
                  </a:lnTo>
                  <a:lnTo>
                    <a:pt x="5373" y="7020"/>
                  </a:lnTo>
                  <a:lnTo>
                    <a:pt x="5214" y="7101"/>
                  </a:lnTo>
                  <a:lnTo>
                    <a:pt x="5051" y="7176"/>
                  </a:lnTo>
                  <a:lnTo>
                    <a:pt x="4883" y="7241"/>
                  </a:lnTo>
                  <a:lnTo>
                    <a:pt x="4711" y="7300"/>
                  </a:lnTo>
                  <a:lnTo>
                    <a:pt x="4535" y="7349"/>
                  </a:lnTo>
                  <a:lnTo>
                    <a:pt x="4356" y="7391"/>
                  </a:lnTo>
                  <a:lnTo>
                    <a:pt x="4173" y="7424"/>
                  </a:lnTo>
                  <a:lnTo>
                    <a:pt x="3989" y="7447"/>
                  </a:lnTo>
                  <a:lnTo>
                    <a:pt x="3800" y="7461"/>
                  </a:lnTo>
                  <a:lnTo>
                    <a:pt x="3611" y="7466"/>
                  </a:lnTo>
                  <a:lnTo>
                    <a:pt x="3471" y="7463"/>
                  </a:lnTo>
                  <a:lnTo>
                    <a:pt x="3333" y="7456"/>
                  </a:lnTo>
                  <a:lnTo>
                    <a:pt x="3197" y="7443"/>
                  </a:lnTo>
                  <a:lnTo>
                    <a:pt x="3061" y="7426"/>
                  </a:lnTo>
                  <a:lnTo>
                    <a:pt x="2928" y="7403"/>
                  </a:lnTo>
                  <a:lnTo>
                    <a:pt x="2796" y="7376"/>
                  </a:lnTo>
                  <a:lnTo>
                    <a:pt x="2666" y="7345"/>
                  </a:lnTo>
                  <a:lnTo>
                    <a:pt x="2538" y="7309"/>
                  </a:lnTo>
                  <a:lnTo>
                    <a:pt x="2412" y="7268"/>
                  </a:lnTo>
                  <a:lnTo>
                    <a:pt x="2287" y="7222"/>
                  </a:lnTo>
                  <a:lnTo>
                    <a:pt x="2165" y="7173"/>
                  </a:lnTo>
                  <a:lnTo>
                    <a:pt x="2045" y="7119"/>
                  </a:lnTo>
                  <a:lnTo>
                    <a:pt x="1927" y="7062"/>
                  </a:lnTo>
                  <a:lnTo>
                    <a:pt x="1812" y="7000"/>
                  </a:lnTo>
                  <a:lnTo>
                    <a:pt x="1699" y="6934"/>
                  </a:lnTo>
                  <a:lnTo>
                    <a:pt x="1589" y="6865"/>
                  </a:lnTo>
                  <a:lnTo>
                    <a:pt x="1481" y="6793"/>
                  </a:lnTo>
                  <a:lnTo>
                    <a:pt x="1376" y="6716"/>
                  </a:lnTo>
                  <a:lnTo>
                    <a:pt x="1274" y="6636"/>
                  </a:lnTo>
                  <a:lnTo>
                    <a:pt x="1175" y="6552"/>
                  </a:lnTo>
                  <a:lnTo>
                    <a:pt x="1079" y="6464"/>
                  </a:lnTo>
                  <a:lnTo>
                    <a:pt x="986" y="6374"/>
                  </a:lnTo>
                  <a:lnTo>
                    <a:pt x="896" y="6281"/>
                  </a:lnTo>
                  <a:lnTo>
                    <a:pt x="810" y="6185"/>
                  </a:lnTo>
                  <a:lnTo>
                    <a:pt x="727" y="6084"/>
                  </a:lnTo>
                  <a:lnTo>
                    <a:pt x="647" y="5982"/>
                  </a:lnTo>
                  <a:lnTo>
                    <a:pt x="571" y="5876"/>
                  </a:lnTo>
                  <a:lnTo>
                    <a:pt x="498" y="5768"/>
                  </a:lnTo>
                  <a:lnTo>
                    <a:pt x="429" y="5658"/>
                  </a:lnTo>
                  <a:lnTo>
                    <a:pt x="365" y="5544"/>
                  </a:lnTo>
                  <a:lnTo>
                    <a:pt x="303" y="5429"/>
                  </a:lnTo>
                  <a:lnTo>
                    <a:pt x="247" y="5310"/>
                  </a:lnTo>
                  <a:lnTo>
                    <a:pt x="218" y="5315"/>
                  </a:lnTo>
                  <a:lnTo>
                    <a:pt x="188" y="5321"/>
                  </a:lnTo>
                  <a:lnTo>
                    <a:pt x="157" y="5327"/>
                  </a:lnTo>
                  <a:lnTo>
                    <a:pt x="126" y="5333"/>
                  </a:lnTo>
                  <a:lnTo>
                    <a:pt x="95" y="5340"/>
                  </a:lnTo>
                  <a:lnTo>
                    <a:pt x="63" y="5347"/>
                  </a:lnTo>
                  <a:lnTo>
                    <a:pt x="31" y="5354"/>
                  </a:lnTo>
                  <a:lnTo>
                    <a:pt x="0" y="5362"/>
                  </a:lnTo>
                  <a:lnTo>
                    <a:pt x="60" y="5491"/>
                  </a:lnTo>
                  <a:lnTo>
                    <a:pt x="123" y="5617"/>
                  </a:lnTo>
                  <a:lnTo>
                    <a:pt x="192" y="5740"/>
                  </a:lnTo>
                  <a:lnTo>
                    <a:pt x="265" y="5861"/>
                  </a:lnTo>
                  <a:lnTo>
                    <a:pt x="342" y="5978"/>
                  </a:lnTo>
                  <a:lnTo>
                    <a:pt x="422" y="6093"/>
                  </a:lnTo>
                  <a:lnTo>
                    <a:pt x="507" y="6205"/>
                  </a:lnTo>
                  <a:lnTo>
                    <a:pt x="596" y="6313"/>
                  </a:lnTo>
                  <a:lnTo>
                    <a:pt x="689" y="6419"/>
                  </a:lnTo>
                  <a:lnTo>
                    <a:pt x="785" y="6520"/>
                  </a:lnTo>
                  <a:lnTo>
                    <a:pt x="884" y="6619"/>
                  </a:lnTo>
                  <a:lnTo>
                    <a:pt x="986" y="6715"/>
                  </a:lnTo>
                  <a:lnTo>
                    <a:pt x="1093" y="6806"/>
                  </a:lnTo>
                  <a:lnTo>
                    <a:pt x="1202" y="6894"/>
                  </a:lnTo>
                  <a:lnTo>
                    <a:pt x="1315" y="6976"/>
                  </a:lnTo>
                  <a:lnTo>
                    <a:pt x="1430" y="7057"/>
                  </a:lnTo>
                  <a:lnTo>
                    <a:pt x="1549" y="7132"/>
                  </a:lnTo>
                  <a:lnTo>
                    <a:pt x="1670" y="7204"/>
                  </a:lnTo>
                  <a:lnTo>
                    <a:pt x="1795" y="7271"/>
                  </a:lnTo>
                  <a:lnTo>
                    <a:pt x="1921" y="7334"/>
                  </a:lnTo>
                  <a:lnTo>
                    <a:pt x="2051" y="7393"/>
                  </a:lnTo>
                  <a:lnTo>
                    <a:pt x="2183" y="7447"/>
                  </a:lnTo>
                  <a:lnTo>
                    <a:pt x="2316" y="7496"/>
                  </a:lnTo>
                  <a:lnTo>
                    <a:pt x="2453" y="7540"/>
                  </a:lnTo>
                  <a:lnTo>
                    <a:pt x="2591" y="7580"/>
                  </a:lnTo>
                  <a:lnTo>
                    <a:pt x="2731" y="7615"/>
                  </a:lnTo>
                  <a:lnTo>
                    <a:pt x="2874" y="7645"/>
                  </a:lnTo>
                  <a:lnTo>
                    <a:pt x="3018" y="7669"/>
                  </a:lnTo>
                  <a:lnTo>
                    <a:pt x="3163" y="7688"/>
                  </a:lnTo>
                  <a:lnTo>
                    <a:pt x="3311" y="7702"/>
                  </a:lnTo>
                  <a:lnTo>
                    <a:pt x="3459" y="7711"/>
                  </a:lnTo>
                  <a:lnTo>
                    <a:pt x="3611" y="7713"/>
                  </a:lnTo>
                  <a:lnTo>
                    <a:pt x="3813" y="7708"/>
                  </a:lnTo>
                  <a:lnTo>
                    <a:pt x="4014" y="7693"/>
                  </a:lnTo>
                  <a:lnTo>
                    <a:pt x="4212" y="7667"/>
                  </a:lnTo>
                  <a:lnTo>
                    <a:pt x="4406" y="7633"/>
                  </a:lnTo>
                  <a:lnTo>
                    <a:pt x="4597" y="7588"/>
                  </a:lnTo>
                  <a:lnTo>
                    <a:pt x="4784" y="7535"/>
                  </a:lnTo>
                  <a:lnTo>
                    <a:pt x="4968" y="7473"/>
                  </a:lnTo>
                  <a:lnTo>
                    <a:pt x="5147" y="7402"/>
                  </a:lnTo>
                  <a:lnTo>
                    <a:pt x="5322" y="7324"/>
                  </a:lnTo>
                  <a:lnTo>
                    <a:pt x="5491" y="7237"/>
                  </a:lnTo>
                  <a:lnTo>
                    <a:pt x="5657" y="7142"/>
                  </a:lnTo>
                  <a:lnTo>
                    <a:pt x="5817" y="7039"/>
                  </a:lnTo>
                  <a:lnTo>
                    <a:pt x="5972" y="6928"/>
                  </a:lnTo>
                  <a:lnTo>
                    <a:pt x="6121" y="6812"/>
                  </a:lnTo>
                  <a:lnTo>
                    <a:pt x="6264" y="6687"/>
                  </a:lnTo>
                  <a:lnTo>
                    <a:pt x="6401" y="6556"/>
                  </a:lnTo>
                  <a:lnTo>
                    <a:pt x="6531" y="6420"/>
                  </a:lnTo>
                  <a:lnTo>
                    <a:pt x="6656" y="6277"/>
                  </a:lnTo>
                  <a:lnTo>
                    <a:pt x="6773" y="6128"/>
                  </a:lnTo>
                  <a:lnTo>
                    <a:pt x="6883" y="5973"/>
                  </a:lnTo>
                  <a:lnTo>
                    <a:pt x="6986" y="5813"/>
                  </a:lnTo>
                  <a:lnTo>
                    <a:pt x="7081" y="5648"/>
                  </a:lnTo>
                  <a:lnTo>
                    <a:pt x="7167" y="5478"/>
                  </a:lnTo>
                  <a:lnTo>
                    <a:pt x="7247" y="5303"/>
                  </a:lnTo>
                  <a:lnTo>
                    <a:pt x="7317" y="5124"/>
                  </a:lnTo>
                  <a:lnTo>
                    <a:pt x="7380" y="4941"/>
                  </a:lnTo>
                  <a:lnTo>
                    <a:pt x="7433" y="4753"/>
                  </a:lnTo>
                  <a:lnTo>
                    <a:pt x="7477" y="4563"/>
                  </a:lnTo>
                  <a:lnTo>
                    <a:pt x="7512" y="4368"/>
                  </a:lnTo>
                  <a:lnTo>
                    <a:pt x="7537" y="4170"/>
                  </a:lnTo>
                  <a:lnTo>
                    <a:pt x="7551" y="3970"/>
                  </a:lnTo>
                  <a:lnTo>
                    <a:pt x="7557" y="3767"/>
                  </a:lnTo>
                  <a:close/>
                </a:path>
              </a:pathLst>
            </a:custGeom>
            <a:solidFill>
              <a:srgbClr val="fad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21240" y="3071880"/>
              <a:ext cx="2901960" cy="2970000"/>
            </a:xfrm>
            <a:custGeom>
              <a:avLst/>
              <a:gdLst/>
              <a:ahLst/>
              <a:rect l="l" t="t" r="r" b="b"/>
              <a:pathLst>
                <a:path w="7312" h="7484">
                  <a:moveTo>
                    <a:pt x="7312" y="3662"/>
                  </a:moveTo>
                  <a:lnTo>
                    <a:pt x="7308" y="3500"/>
                  </a:lnTo>
                  <a:lnTo>
                    <a:pt x="7299" y="3341"/>
                  </a:lnTo>
                  <a:lnTo>
                    <a:pt x="7282" y="3184"/>
                  </a:lnTo>
                  <a:lnTo>
                    <a:pt x="7259" y="3028"/>
                  </a:lnTo>
                  <a:lnTo>
                    <a:pt x="7230" y="2874"/>
                  </a:lnTo>
                  <a:lnTo>
                    <a:pt x="7195" y="2722"/>
                  </a:lnTo>
                  <a:lnTo>
                    <a:pt x="7155" y="2573"/>
                  </a:lnTo>
                  <a:lnTo>
                    <a:pt x="7108" y="2427"/>
                  </a:lnTo>
                  <a:lnTo>
                    <a:pt x="7055" y="2283"/>
                  </a:lnTo>
                  <a:lnTo>
                    <a:pt x="6997" y="2141"/>
                  </a:lnTo>
                  <a:lnTo>
                    <a:pt x="6934" y="2003"/>
                  </a:lnTo>
                  <a:lnTo>
                    <a:pt x="6864" y="1868"/>
                  </a:lnTo>
                  <a:lnTo>
                    <a:pt x="6791" y="1736"/>
                  </a:lnTo>
                  <a:lnTo>
                    <a:pt x="6712" y="1606"/>
                  </a:lnTo>
                  <a:lnTo>
                    <a:pt x="6628" y="1481"/>
                  </a:lnTo>
                  <a:lnTo>
                    <a:pt x="6540" y="1359"/>
                  </a:lnTo>
                  <a:lnTo>
                    <a:pt x="6447" y="1240"/>
                  </a:lnTo>
                  <a:lnTo>
                    <a:pt x="6348" y="1126"/>
                  </a:lnTo>
                  <a:lnTo>
                    <a:pt x="6246" y="1016"/>
                  </a:lnTo>
                  <a:lnTo>
                    <a:pt x="6141" y="909"/>
                  </a:lnTo>
                  <a:lnTo>
                    <a:pt x="6030" y="807"/>
                  </a:lnTo>
                  <a:lnTo>
                    <a:pt x="5916" y="710"/>
                  </a:lnTo>
                  <a:lnTo>
                    <a:pt x="5797" y="616"/>
                  </a:lnTo>
                  <a:lnTo>
                    <a:pt x="5676" y="527"/>
                  </a:lnTo>
                  <a:lnTo>
                    <a:pt x="5550" y="444"/>
                  </a:lnTo>
                  <a:lnTo>
                    <a:pt x="5422" y="364"/>
                  </a:lnTo>
                  <a:lnTo>
                    <a:pt x="5290" y="290"/>
                  </a:lnTo>
                  <a:lnTo>
                    <a:pt x="5154" y="222"/>
                  </a:lnTo>
                  <a:lnTo>
                    <a:pt x="5016" y="158"/>
                  </a:lnTo>
                  <a:lnTo>
                    <a:pt x="4875" y="99"/>
                  </a:lnTo>
                  <a:lnTo>
                    <a:pt x="4732" y="46"/>
                  </a:lnTo>
                  <a:lnTo>
                    <a:pt x="4584" y="0"/>
                  </a:lnTo>
                  <a:lnTo>
                    <a:pt x="4566" y="25"/>
                  </a:lnTo>
                  <a:lnTo>
                    <a:pt x="4549" y="51"/>
                  </a:lnTo>
                  <a:lnTo>
                    <a:pt x="4531" y="78"/>
                  </a:lnTo>
                  <a:lnTo>
                    <a:pt x="4513" y="105"/>
                  </a:lnTo>
                  <a:lnTo>
                    <a:pt x="4495" y="132"/>
                  </a:lnTo>
                  <a:lnTo>
                    <a:pt x="4477" y="159"/>
                  </a:lnTo>
                  <a:lnTo>
                    <a:pt x="4458" y="187"/>
                  </a:lnTo>
                  <a:lnTo>
                    <a:pt x="4439" y="214"/>
                  </a:lnTo>
                  <a:lnTo>
                    <a:pt x="4581" y="256"/>
                  </a:lnTo>
                  <a:lnTo>
                    <a:pt x="4719" y="304"/>
                  </a:lnTo>
                  <a:lnTo>
                    <a:pt x="4854" y="357"/>
                  </a:lnTo>
                  <a:lnTo>
                    <a:pt x="4987" y="415"/>
                  </a:lnTo>
                  <a:lnTo>
                    <a:pt x="5117" y="478"/>
                  </a:lnTo>
                  <a:lnTo>
                    <a:pt x="5244" y="547"/>
                  </a:lnTo>
                  <a:lnTo>
                    <a:pt x="5368" y="620"/>
                  </a:lnTo>
                  <a:lnTo>
                    <a:pt x="5488" y="698"/>
                  </a:lnTo>
                  <a:lnTo>
                    <a:pt x="5605" y="781"/>
                  </a:lnTo>
                  <a:lnTo>
                    <a:pt x="5719" y="867"/>
                  </a:lnTo>
                  <a:lnTo>
                    <a:pt x="5829" y="959"/>
                  </a:lnTo>
                  <a:lnTo>
                    <a:pt x="5935" y="1054"/>
                  </a:lnTo>
                  <a:lnTo>
                    <a:pt x="6037" y="1155"/>
                  </a:lnTo>
                  <a:lnTo>
                    <a:pt x="6136" y="1258"/>
                  </a:lnTo>
                  <a:lnTo>
                    <a:pt x="6231" y="1366"/>
                  </a:lnTo>
                  <a:lnTo>
                    <a:pt x="6319" y="1478"/>
                  </a:lnTo>
                  <a:lnTo>
                    <a:pt x="6406" y="1593"/>
                  </a:lnTo>
                  <a:lnTo>
                    <a:pt x="6486" y="1712"/>
                  </a:lnTo>
                  <a:lnTo>
                    <a:pt x="6562" y="1833"/>
                  </a:lnTo>
                  <a:lnTo>
                    <a:pt x="6634" y="1957"/>
                  </a:lnTo>
                  <a:lnTo>
                    <a:pt x="6700" y="2086"/>
                  </a:lnTo>
                  <a:lnTo>
                    <a:pt x="6761" y="2218"/>
                  </a:lnTo>
                  <a:lnTo>
                    <a:pt x="6817" y="2351"/>
                  </a:lnTo>
                  <a:lnTo>
                    <a:pt x="6868" y="2488"/>
                  </a:lnTo>
                  <a:lnTo>
                    <a:pt x="6913" y="2627"/>
                  </a:lnTo>
                  <a:lnTo>
                    <a:pt x="6953" y="2768"/>
                  </a:lnTo>
                  <a:lnTo>
                    <a:pt x="6987" y="2912"/>
                  </a:lnTo>
                  <a:lnTo>
                    <a:pt x="7014" y="3059"/>
                  </a:lnTo>
                  <a:lnTo>
                    <a:pt x="7036" y="3206"/>
                  </a:lnTo>
                  <a:lnTo>
                    <a:pt x="7053" y="3356"/>
                  </a:lnTo>
                  <a:lnTo>
                    <a:pt x="7062" y="3509"/>
                  </a:lnTo>
                  <a:lnTo>
                    <a:pt x="7065" y="3662"/>
                  </a:lnTo>
                  <a:lnTo>
                    <a:pt x="7060" y="3846"/>
                  </a:lnTo>
                  <a:lnTo>
                    <a:pt x="7047" y="4028"/>
                  </a:lnTo>
                  <a:lnTo>
                    <a:pt x="7024" y="4207"/>
                  </a:lnTo>
                  <a:lnTo>
                    <a:pt x="6993" y="4383"/>
                  </a:lnTo>
                  <a:lnTo>
                    <a:pt x="6953" y="4556"/>
                  </a:lnTo>
                  <a:lnTo>
                    <a:pt x="6904" y="4725"/>
                  </a:lnTo>
                  <a:lnTo>
                    <a:pt x="6847" y="4892"/>
                  </a:lnTo>
                  <a:lnTo>
                    <a:pt x="6784" y="5054"/>
                  </a:lnTo>
                  <a:lnTo>
                    <a:pt x="6712" y="5212"/>
                  </a:lnTo>
                  <a:lnTo>
                    <a:pt x="6634" y="5367"/>
                  </a:lnTo>
                  <a:lnTo>
                    <a:pt x="6547" y="5516"/>
                  </a:lnTo>
                  <a:lnTo>
                    <a:pt x="6454" y="5661"/>
                  </a:lnTo>
                  <a:lnTo>
                    <a:pt x="6354" y="5801"/>
                  </a:lnTo>
                  <a:lnTo>
                    <a:pt x="6249" y="5937"/>
                  </a:lnTo>
                  <a:lnTo>
                    <a:pt x="6136" y="6066"/>
                  </a:lnTo>
                  <a:lnTo>
                    <a:pt x="6017" y="6190"/>
                  </a:lnTo>
                  <a:lnTo>
                    <a:pt x="5893" y="6309"/>
                  </a:lnTo>
                  <a:lnTo>
                    <a:pt x="5764" y="6421"/>
                  </a:lnTo>
                  <a:lnTo>
                    <a:pt x="5628" y="6527"/>
                  </a:lnTo>
                  <a:lnTo>
                    <a:pt x="5488" y="6627"/>
                  </a:lnTo>
                  <a:lnTo>
                    <a:pt x="5343" y="6720"/>
                  </a:lnTo>
                  <a:lnTo>
                    <a:pt x="5193" y="6807"/>
                  </a:lnTo>
                  <a:lnTo>
                    <a:pt x="5039" y="6886"/>
                  </a:lnTo>
                  <a:lnTo>
                    <a:pt x="4881" y="6957"/>
                  </a:lnTo>
                  <a:lnTo>
                    <a:pt x="4719" y="7021"/>
                  </a:lnTo>
                  <a:lnTo>
                    <a:pt x="4552" y="7078"/>
                  </a:lnTo>
                  <a:lnTo>
                    <a:pt x="4383" y="7126"/>
                  </a:lnTo>
                  <a:lnTo>
                    <a:pt x="4209" y="7165"/>
                  </a:lnTo>
                  <a:lnTo>
                    <a:pt x="4033" y="7196"/>
                  </a:lnTo>
                  <a:lnTo>
                    <a:pt x="3855" y="7219"/>
                  </a:lnTo>
                  <a:lnTo>
                    <a:pt x="3672" y="7234"/>
                  </a:lnTo>
                  <a:lnTo>
                    <a:pt x="3489" y="7238"/>
                  </a:lnTo>
                  <a:lnTo>
                    <a:pt x="3355" y="7235"/>
                  </a:lnTo>
                  <a:lnTo>
                    <a:pt x="3223" y="7228"/>
                  </a:lnTo>
                  <a:lnTo>
                    <a:pt x="3091" y="7216"/>
                  </a:lnTo>
                  <a:lnTo>
                    <a:pt x="2963" y="7200"/>
                  </a:lnTo>
                  <a:lnTo>
                    <a:pt x="2835" y="7178"/>
                  </a:lnTo>
                  <a:lnTo>
                    <a:pt x="2709" y="7152"/>
                  </a:lnTo>
                  <a:lnTo>
                    <a:pt x="2584" y="7122"/>
                  </a:lnTo>
                  <a:lnTo>
                    <a:pt x="2460" y="7089"/>
                  </a:lnTo>
                  <a:lnTo>
                    <a:pt x="2339" y="7049"/>
                  </a:lnTo>
                  <a:lnTo>
                    <a:pt x="2220" y="7007"/>
                  </a:lnTo>
                  <a:lnTo>
                    <a:pt x="2103" y="6960"/>
                  </a:lnTo>
                  <a:lnTo>
                    <a:pt x="1987" y="6909"/>
                  </a:lnTo>
                  <a:lnTo>
                    <a:pt x="1875" y="6855"/>
                  </a:lnTo>
                  <a:lnTo>
                    <a:pt x="1764" y="6796"/>
                  </a:lnTo>
                  <a:lnTo>
                    <a:pt x="1656" y="6733"/>
                  </a:lnTo>
                  <a:lnTo>
                    <a:pt x="1549" y="6667"/>
                  </a:lnTo>
                  <a:lnTo>
                    <a:pt x="1446" y="6598"/>
                  </a:lnTo>
                  <a:lnTo>
                    <a:pt x="1345" y="6525"/>
                  </a:lnTo>
                  <a:lnTo>
                    <a:pt x="1247" y="6449"/>
                  </a:lnTo>
                  <a:lnTo>
                    <a:pt x="1152" y="6369"/>
                  </a:lnTo>
                  <a:lnTo>
                    <a:pt x="1060" y="6286"/>
                  </a:lnTo>
                  <a:lnTo>
                    <a:pt x="970" y="6201"/>
                  </a:lnTo>
                  <a:lnTo>
                    <a:pt x="883" y="6112"/>
                  </a:lnTo>
                  <a:lnTo>
                    <a:pt x="799" y="6020"/>
                  </a:lnTo>
                  <a:lnTo>
                    <a:pt x="719" y="5925"/>
                  </a:lnTo>
                  <a:lnTo>
                    <a:pt x="642" y="5828"/>
                  </a:lnTo>
                  <a:lnTo>
                    <a:pt x="568" y="5727"/>
                  </a:lnTo>
                  <a:lnTo>
                    <a:pt x="498" y="5624"/>
                  </a:lnTo>
                  <a:lnTo>
                    <a:pt x="431" y="5519"/>
                  </a:lnTo>
                  <a:lnTo>
                    <a:pt x="369" y="5411"/>
                  </a:lnTo>
                  <a:lnTo>
                    <a:pt x="309" y="5301"/>
                  </a:lnTo>
                  <a:lnTo>
                    <a:pt x="253" y="5188"/>
                  </a:lnTo>
                  <a:lnTo>
                    <a:pt x="249" y="5189"/>
                  </a:lnTo>
                  <a:lnTo>
                    <a:pt x="244" y="5189"/>
                  </a:lnTo>
                  <a:lnTo>
                    <a:pt x="240" y="5191"/>
                  </a:lnTo>
                  <a:lnTo>
                    <a:pt x="235" y="5191"/>
                  </a:lnTo>
                  <a:lnTo>
                    <a:pt x="231" y="5191"/>
                  </a:lnTo>
                  <a:lnTo>
                    <a:pt x="226" y="5192"/>
                  </a:lnTo>
                  <a:lnTo>
                    <a:pt x="221" y="5192"/>
                  </a:lnTo>
                  <a:lnTo>
                    <a:pt x="216" y="5193"/>
                  </a:lnTo>
                  <a:lnTo>
                    <a:pt x="192" y="5195"/>
                  </a:lnTo>
                  <a:lnTo>
                    <a:pt x="167" y="5199"/>
                  </a:lnTo>
                  <a:lnTo>
                    <a:pt x="141" y="5203"/>
                  </a:lnTo>
                  <a:lnTo>
                    <a:pt x="114" y="5207"/>
                  </a:lnTo>
                  <a:lnTo>
                    <a:pt x="87" y="5212"/>
                  </a:lnTo>
                  <a:lnTo>
                    <a:pt x="58" y="5217"/>
                  </a:lnTo>
                  <a:lnTo>
                    <a:pt x="29" y="5223"/>
                  </a:lnTo>
                  <a:lnTo>
                    <a:pt x="0" y="5229"/>
                  </a:lnTo>
                  <a:lnTo>
                    <a:pt x="58" y="5353"/>
                  </a:lnTo>
                  <a:lnTo>
                    <a:pt x="120" y="5474"/>
                  </a:lnTo>
                  <a:lnTo>
                    <a:pt x="187" y="5591"/>
                  </a:lnTo>
                  <a:lnTo>
                    <a:pt x="258" y="5708"/>
                  </a:lnTo>
                  <a:lnTo>
                    <a:pt x="333" y="5820"/>
                  </a:lnTo>
                  <a:lnTo>
                    <a:pt x="411" y="5931"/>
                  </a:lnTo>
                  <a:lnTo>
                    <a:pt x="493" y="6038"/>
                  </a:lnTo>
                  <a:lnTo>
                    <a:pt x="580" y="6142"/>
                  </a:lnTo>
                  <a:lnTo>
                    <a:pt x="669" y="6243"/>
                  </a:lnTo>
                  <a:lnTo>
                    <a:pt x="761" y="6341"/>
                  </a:lnTo>
                  <a:lnTo>
                    <a:pt x="858" y="6436"/>
                  </a:lnTo>
                  <a:lnTo>
                    <a:pt x="958" y="6527"/>
                  </a:lnTo>
                  <a:lnTo>
                    <a:pt x="1060" y="6615"/>
                  </a:lnTo>
                  <a:lnTo>
                    <a:pt x="1165" y="6699"/>
                  </a:lnTo>
                  <a:lnTo>
                    <a:pt x="1275" y="6779"/>
                  </a:lnTo>
                  <a:lnTo>
                    <a:pt x="1386" y="6856"/>
                  </a:lnTo>
                  <a:lnTo>
                    <a:pt x="1500" y="6928"/>
                  </a:lnTo>
                  <a:lnTo>
                    <a:pt x="1618" y="6996"/>
                  </a:lnTo>
                  <a:lnTo>
                    <a:pt x="1738" y="7061"/>
                  </a:lnTo>
                  <a:lnTo>
                    <a:pt x="1860" y="7121"/>
                  </a:lnTo>
                  <a:lnTo>
                    <a:pt x="1985" y="7177"/>
                  </a:lnTo>
                  <a:lnTo>
                    <a:pt x="2112" y="7229"/>
                  </a:lnTo>
                  <a:lnTo>
                    <a:pt x="2241" y="7277"/>
                  </a:lnTo>
                  <a:lnTo>
                    <a:pt x="2373" y="7319"/>
                  </a:lnTo>
                  <a:lnTo>
                    <a:pt x="2506" y="7357"/>
                  </a:lnTo>
                  <a:lnTo>
                    <a:pt x="2641" y="7391"/>
                  </a:lnTo>
                  <a:lnTo>
                    <a:pt x="2778" y="7418"/>
                  </a:lnTo>
                  <a:lnTo>
                    <a:pt x="2917" y="7442"/>
                  </a:lnTo>
                  <a:lnTo>
                    <a:pt x="3058" y="7460"/>
                  </a:lnTo>
                  <a:lnTo>
                    <a:pt x="3199" y="7474"/>
                  </a:lnTo>
                  <a:lnTo>
                    <a:pt x="3343" y="7482"/>
                  </a:lnTo>
                  <a:lnTo>
                    <a:pt x="3489" y="7484"/>
                  </a:lnTo>
                  <a:lnTo>
                    <a:pt x="3685" y="7480"/>
                  </a:lnTo>
                  <a:lnTo>
                    <a:pt x="3880" y="7465"/>
                  </a:lnTo>
                  <a:lnTo>
                    <a:pt x="4071" y="7440"/>
                  </a:lnTo>
                  <a:lnTo>
                    <a:pt x="4259" y="7406"/>
                  </a:lnTo>
                  <a:lnTo>
                    <a:pt x="4444" y="7364"/>
                  </a:lnTo>
                  <a:lnTo>
                    <a:pt x="4625" y="7313"/>
                  </a:lnTo>
                  <a:lnTo>
                    <a:pt x="4803" y="7253"/>
                  </a:lnTo>
                  <a:lnTo>
                    <a:pt x="4977" y="7184"/>
                  </a:lnTo>
                  <a:lnTo>
                    <a:pt x="5146" y="7108"/>
                  </a:lnTo>
                  <a:lnTo>
                    <a:pt x="5310" y="7024"/>
                  </a:lnTo>
                  <a:lnTo>
                    <a:pt x="5471" y="6931"/>
                  </a:lnTo>
                  <a:lnTo>
                    <a:pt x="5626" y="6832"/>
                  </a:lnTo>
                  <a:lnTo>
                    <a:pt x="5776" y="6725"/>
                  </a:lnTo>
                  <a:lnTo>
                    <a:pt x="5920" y="6611"/>
                  </a:lnTo>
                  <a:lnTo>
                    <a:pt x="6059" y="6491"/>
                  </a:lnTo>
                  <a:lnTo>
                    <a:pt x="6192" y="6365"/>
                  </a:lnTo>
                  <a:lnTo>
                    <a:pt x="6318" y="6232"/>
                  </a:lnTo>
                  <a:lnTo>
                    <a:pt x="6438" y="6094"/>
                  </a:lnTo>
                  <a:lnTo>
                    <a:pt x="6552" y="5949"/>
                  </a:lnTo>
                  <a:lnTo>
                    <a:pt x="6659" y="5799"/>
                  </a:lnTo>
                  <a:lnTo>
                    <a:pt x="6759" y="5644"/>
                  </a:lnTo>
                  <a:lnTo>
                    <a:pt x="6850" y="5485"/>
                  </a:lnTo>
                  <a:lnTo>
                    <a:pt x="6935" y="5319"/>
                  </a:lnTo>
                  <a:lnTo>
                    <a:pt x="7012" y="5150"/>
                  </a:lnTo>
                  <a:lnTo>
                    <a:pt x="7080" y="4976"/>
                  </a:lnTo>
                  <a:lnTo>
                    <a:pt x="7140" y="4798"/>
                  </a:lnTo>
                  <a:lnTo>
                    <a:pt x="7192" y="4617"/>
                  </a:lnTo>
                  <a:lnTo>
                    <a:pt x="7234" y="4432"/>
                  </a:lnTo>
                  <a:lnTo>
                    <a:pt x="7267" y="4244"/>
                  </a:lnTo>
                  <a:lnTo>
                    <a:pt x="7291" y="4053"/>
                  </a:lnTo>
                  <a:lnTo>
                    <a:pt x="7307" y="3859"/>
                  </a:lnTo>
                  <a:lnTo>
                    <a:pt x="7312" y="3662"/>
                  </a:lnTo>
                  <a:close/>
                </a:path>
              </a:pathLst>
            </a:custGeom>
            <a:solidFill>
              <a:srgbClr val="fad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0560" y="3114720"/>
              <a:ext cx="2803320" cy="2878200"/>
            </a:xfrm>
            <a:custGeom>
              <a:avLst/>
              <a:gdLst/>
              <a:ahLst/>
              <a:rect l="l" t="t" r="r" b="b"/>
              <a:pathLst>
                <a:path w="7063" h="7255">
                  <a:moveTo>
                    <a:pt x="7063" y="3556"/>
                  </a:moveTo>
                  <a:lnTo>
                    <a:pt x="7060" y="3399"/>
                  </a:lnTo>
                  <a:lnTo>
                    <a:pt x="7050" y="3243"/>
                  </a:lnTo>
                  <a:lnTo>
                    <a:pt x="7034" y="3090"/>
                  </a:lnTo>
                  <a:lnTo>
                    <a:pt x="7012" y="2937"/>
                  </a:lnTo>
                  <a:lnTo>
                    <a:pt x="6983" y="2787"/>
                  </a:lnTo>
                  <a:lnTo>
                    <a:pt x="6949" y="2640"/>
                  </a:lnTo>
                  <a:lnTo>
                    <a:pt x="6908" y="2495"/>
                  </a:lnTo>
                  <a:lnTo>
                    <a:pt x="6863" y="2351"/>
                  </a:lnTo>
                  <a:lnTo>
                    <a:pt x="6811" y="2210"/>
                  </a:lnTo>
                  <a:lnTo>
                    <a:pt x="6754" y="2073"/>
                  </a:lnTo>
                  <a:lnTo>
                    <a:pt x="6691" y="1938"/>
                  </a:lnTo>
                  <a:lnTo>
                    <a:pt x="6624" y="1807"/>
                  </a:lnTo>
                  <a:lnTo>
                    <a:pt x="6552" y="1678"/>
                  </a:lnTo>
                  <a:lnTo>
                    <a:pt x="6474" y="1553"/>
                  </a:lnTo>
                  <a:lnTo>
                    <a:pt x="6391" y="1430"/>
                  </a:lnTo>
                  <a:lnTo>
                    <a:pt x="6305" y="1312"/>
                  </a:lnTo>
                  <a:lnTo>
                    <a:pt x="6214" y="1198"/>
                  </a:lnTo>
                  <a:lnTo>
                    <a:pt x="6118" y="1086"/>
                  </a:lnTo>
                  <a:lnTo>
                    <a:pt x="6017" y="979"/>
                  </a:lnTo>
                  <a:lnTo>
                    <a:pt x="5914" y="876"/>
                  </a:lnTo>
                  <a:lnTo>
                    <a:pt x="5804" y="777"/>
                  </a:lnTo>
                  <a:lnTo>
                    <a:pt x="5693" y="682"/>
                  </a:lnTo>
                  <a:lnTo>
                    <a:pt x="5576" y="592"/>
                  </a:lnTo>
                  <a:lnTo>
                    <a:pt x="5458" y="507"/>
                  </a:lnTo>
                  <a:lnTo>
                    <a:pt x="5334" y="425"/>
                  </a:lnTo>
                  <a:lnTo>
                    <a:pt x="5208" y="350"/>
                  </a:lnTo>
                  <a:lnTo>
                    <a:pt x="5078" y="278"/>
                  </a:lnTo>
                  <a:lnTo>
                    <a:pt x="4946" y="212"/>
                  </a:lnTo>
                  <a:lnTo>
                    <a:pt x="4811" y="150"/>
                  </a:lnTo>
                  <a:lnTo>
                    <a:pt x="4672" y="95"/>
                  </a:lnTo>
                  <a:lnTo>
                    <a:pt x="4531" y="45"/>
                  </a:lnTo>
                  <a:lnTo>
                    <a:pt x="4387" y="0"/>
                  </a:lnTo>
                  <a:lnTo>
                    <a:pt x="4369" y="27"/>
                  </a:lnTo>
                  <a:lnTo>
                    <a:pt x="4352" y="54"/>
                  </a:lnTo>
                  <a:lnTo>
                    <a:pt x="4334" y="81"/>
                  </a:lnTo>
                  <a:lnTo>
                    <a:pt x="4315" y="107"/>
                  </a:lnTo>
                  <a:lnTo>
                    <a:pt x="4296" y="135"/>
                  </a:lnTo>
                  <a:lnTo>
                    <a:pt x="4276" y="161"/>
                  </a:lnTo>
                  <a:lnTo>
                    <a:pt x="4255" y="188"/>
                  </a:lnTo>
                  <a:lnTo>
                    <a:pt x="4232" y="214"/>
                  </a:lnTo>
                  <a:lnTo>
                    <a:pt x="4372" y="254"/>
                  </a:lnTo>
                  <a:lnTo>
                    <a:pt x="4507" y="298"/>
                  </a:lnTo>
                  <a:lnTo>
                    <a:pt x="4640" y="347"/>
                  </a:lnTo>
                  <a:lnTo>
                    <a:pt x="4771" y="402"/>
                  </a:lnTo>
                  <a:lnTo>
                    <a:pt x="4898" y="462"/>
                  </a:lnTo>
                  <a:lnTo>
                    <a:pt x="5023" y="528"/>
                  </a:lnTo>
                  <a:lnTo>
                    <a:pt x="5146" y="598"/>
                  </a:lnTo>
                  <a:lnTo>
                    <a:pt x="5263" y="673"/>
                  </a:lnTo>
                  <a:lnTo>
                    <a:pt x="5378" y="753"/>
                  </a:lnTo>
                  <a:lnTo>
                    <a:pt x="5491" y="837"/>
                  </a:lnTo>
                  <a:lnTo>
                    <a:pt x="5599" y="925"/>
                  </a:lnTo>
                  <a:lnTo>
                    <a:pt x="5704" y="1018"/>
                  </a:lnTo>
                  <a:lnTo>
                    <a:pt x="5804" y="1114"/>
                  </a:lnTo>
                  <a:lnTo>
                    <a:pt x="5902" y="1214"/>
                  </a:lnTo>
                  <a:lnTo>
                    <a:pt x="5994" y="1319"/>
                  </a:lnTo>
                  <a:lnTo>
                    <a:pt x="6082" y="1427"/>
                  </a:lnTo>
                  <a:lnTo>
                    <a:pt x="6166" y="1540"/>
                  </a:lnTo>
                  <a:lnTo>
                    <a:pt x="6246" y="1655"/>
                  </a:lnTo>
                  <a:lnTo>
                    <a:pt x="6320" y="1772"/>
                  </a:lnTo>
                  <a:lnTo>
                    <a:pt x="6391" y="1895"/>
                  </a:lnTo>
                  <a:lnTo>
                    <a:pt x="6456" y="2019"/>
                  </a:lnTo>
                  <a:lnTo>
                    <a:pt x="6517" y="2147"/>
                  </a:lnTo>
                  <a:lnTo>
                    <a:pt x="6572" y="2277"/>
                  </a:lnTo>
                  <a:lnTo>
                    <a:pt x="6622" y="2411"/>
                  </a:lnTo>
                  <a:lnTo>
                    <a:pt x="6666" y="2546"/>
                  </a:lnTo>
                  <a:lnTo>
                    <a:pt x="6706" y="2684"/>
                  </a:lnTo>
                  <a:lnTo>
                    <a:pt x="6739" y="2824"/>
                  </a:lnTo>
                  <a:lnTo>
                    <a:pt x="6767" y="2967"/>
                  </a:lnTo>
                  <a:lnTo>
                    <a:pt x="6788" y="3111"/>
                  </a:lnTo>
                  <a:lnTo>
                    <a:pt x="6804" y="3259"/>
                  </a:lnTo>
                  <a:lnTo>
                    <a:pt x="6814" y="3406"/>
                  </a:lnTo>
                  <a:lnTo>
                    <a:pt x="6817" y="3556"/>
                  </a:lnTo>
                  <a:lnTo>
                    <a:pt x="6812" y="3734"/>
                  </a:lnTo>
                  <a:lnTo>
                    <a:pt x="6799" y="3909"/>
                  </a:lnTo>
                  <a:lnTo>
                    <a:pt x="6776" y="4082"/>
                  </a:lnTo>
                  <a:lnTo>
                    <a:pt x="6746" y="4252"/>
                  </a:lnTo>
                  <a:lnTo>
                    <a:pt x="6708" y="4419"/>
                  </a:lnTo>
                  <a:lnTo>
                    <a:pt x="6661" y="4583"/>
                  </a:lnTo>
                  <a:lnTo>
                    <a:pt x="6607" y="4743"/>
                  </a:lnTo>
                  <a:lnTo>
                    <a:pt x="6545" y="4900"/>
                  </a:lnTo>
                  <a:lnTo>
                    <a:pt x="6476" y="5053"/>
                  </a:lnTo>
                  <a:lnTo>
                    <a:pt x="6400" y="5202"/>
                  </a:lnTo>
                  <a:lnTo>
                    <a:pt x="6317" y="5346"/>
                  </a:lnTo>
                  <a:lnTo>
                    <a:pt x="6227" y="5487"/>
                  </a:lnTo>
                  <a:lnTo>
                    <a:pt x="6131" y="5622"/>
                  </a:lnTo>
                  <a:lnTo>
                    <a:pt x="6028" y="5752"/>
                  </a:lnTo>
                  <a:lnTo>
                    <a:pt x="5920" y="5878"/>
                  </a:lnTo>
                  <a:lnTo>
                    <a:pt x="5806" y="5998"/>
                  </a:lnTo>
                  <a:lnTo>
                    <a:pt x="5686" y="6112"/>
                  </a:lnTo>
                  <a:lnTo>
                    <a:pt x="5560" y="6221"/>
                  </a:lnTo>
                  <a:lnTo>
                    <a:pt x="5430" y="6323"/>
                  </a:lnTo>
                  <a:lnTo>
                    <a:pt x="5294" y="6419"/>
                  </a:lnTo>
                  <a:lnTo>
                    <a:pt x="5154" y="6509"/>
                  </a:lnTo>
                  <a:lnTo>
                    <a:pt x="5009" y="6591"/>
                  </a:lnTo>
                  <a:lnTo>
                    <a:pt x="4860" y="6668"/>
                  </a:lnTo>
                  <a:lnTo>
                    <a:pt x="4708" y="6738"/>
                  </a:lnTo>
                  <a:lnTo>
                    <a:pt x="4550" y="6799"/>
                  </a:lnTo>
                  <a:lnTo>
                    <a:pt x="4391" y="6853"/>
                  </a:lnTo>
                  <a:lnTo>
                    <a:pt x="4226" y="6900"/>
                  </a:lnTo>
                  <a:lnTo>
                    <a:pt x="4060" y="6938"/>
                  </a:lnTo>
                  <a:lnTo>
                    <a:pt x="3889" y="6969"/>
                  </a:lnTo>
                  <a:lnTo>
                    <a:pt x="3716" y="6991"/>
                  </a:lnTo>
                  <a:lnTo>
                    <a:pt x="3541" y="7004"/>
                  </a:lnTo>
                  <a:lnTo>
                    <a:pt x="3364" y="7009"/>
                  </a:lnTo>
                  <a:lnTo>
                    <a:pt x="3236" y="7007"/>
                  </a:lnTo>
                  <a:lnTo>
                    <a:pt x="3109" y="6999"/>
                  </a:lnTo>
                  <a:lnTo>
                    <a:pt x="2984" y="6989"/>
                  </a:lnTo>
                  <a:lnTo>
                    <a:pt x="2861" y="6972"/>
                  </a:lnTo>
                  <a:lnTo>
                    <a:pt x="2738" y="6953"/>
                  </a:lnTo>
                  <a:lnTo>
                    <a:pt x="2617" y="6927"/>
                  </a:lnTo>
                  <a:lnTo>
                    <a:pt x="2497" y="6900"/>
                  </a:lnTo>
                  <a:lnTo>
                    <a:pt x="2380" y="6866"/>
                  </a:lnTo>
                  <a:lnTo>
                    <a:pt x="2264" y="6830"/>
                  </a:lnTo>
                  <a:lnTo>
                    <a:pt x="2150" y="6789"/>
                  </a:lnTo>
                  <a:lnTo>
                    <a:pt x="2038" y="6745"/>
                  </a:lnTo>
                  <a:lnTo>
                    <a:pt x="1927" y="6697"/>
                  </a:lnTo>
                  <a:lnTo>
                    <a:pt x="1819" y="6645"/>
                  </a:lnTo>
                  <a:lnTo>
                    <a:pt x="1712" y="6589"/>
                  </a:lnTo>
                  <a:lnTo>
                    <a:pt x="1609" y="6530"/>
                  </a:lnTo>
                  <a:lnTo>
                    <a:pt x="1507" y="6468"/>
                  </a:lnTo>
                  <a:lnTo>
                    <a:pt x="1408" y="6402"/>
                  </a:lnTo>
                  <a:lnTo>
                    <a:pt x="1310" y="6332"/>
                  </a:lnTo>
                  <a:lnTo>
                    <a:pt x="1217" y="6260"/>
                  </a:lnTo>
                  <a:lnTo>
                    <a:pt x="1124" y="6185"/>
                  </a:lnTo>
                  <a:lnTo>
                    <a:pt x="1036" y="6107"/>
                  </a:lnTo>
                  <a:lnTo>
                    <a:pt x="949" y="6025"/>
                  </a:lnTo>
                  <a:lnTo>
                    <a:pt x="866" y="5940"/>
                  </a:lnTo>
                  <a:lnTo>
                    <a:pt x="786" y="5854"/>
                  </a:lnTo>
                  <a:lnTo>
                    <a:pt x="708" y="5764"/>
                  </a:lnTo>
                  <a:lnTo>
                    <a:pt x="634" y="5670"/>
                  </a:lnTo>
                  <a:lnTo>
                    <a:pt x="562" y="5575"/>
                  </a:lnTo>
                  <a:lnTo>
                    <a:pt x="494" y="5478"/>
                  </a:lnTo>
                  <a:lnTo>
                    <a:pt x="430" y="5377"/>
                  </a:lnTo>
                  <a:lnTo>
                    <a:pt x="368" y="5275"/>
                  </a:lnTo>
                  <a:lnTo>
                    <a:pt x="310" y="5170"/>
                  </a:lnTo>
                  <a:lnTo>
                    <a:pt x="256" y="5063"/>
                  </a:lnTo>
                  <a:lnTo>
                    <a:pt x="240" y="5067"/>
                  </a:lnTo>
                  <a:lnTo>
                    <a:pt x="223" y="5069"/>
                  </a:lnTo>
                  <a:lnTo>
                    <a:pt x="205" y="5071"/>
                  </a:lnTo>
                  <a:lnTo>
                    <a:pt x="186" y="5075"/>
                  </a:lnTo>
                  <a:lnTo>
                    <a:pt x="166" y="5077"/>
                  </a:lnTo>
                  <a:lnTo>
                    <a:pt x="143" y="5081"/>
                  </a:lnTo>
                  <a:lnTo>
                    <a:pt x="118" y="5083"/>
                  </a:lnTo>
                  <a:lnTo>
                    <a:pt x="91" y="5087"/>
                  </a:lnTo>
                  <a:lnTo>
                    <a:pt x="80" y="5088"/>
                  </a:lnTo>
                  <a:lnTo>
                    <a:pt x="70" y="5089"/>
                  </a:lnTo>
                  <a:lnTo>
                    <a:pt x="59" y="5091"/>
                  </a:lnTo>
                  <a:lnTo>
                    <a:pt x="47" y="5092"/>
                  </a:lnTo>
                  <a:lnTo>
                    <a:pt x="36" y="5094"/>
                  </a:lnTo>
                  <a:lnTo>
                    <a:pt x="24" y="5095"/>
                  </a:lnTo>
                  <a:lnTo>
                    <a:pt x="12" y="5098"/>
                  </a:lnTo>
                  <a:lnTo>
                    <a:pt x="0" y="5099"/>
                  </a:lnTo>
                  <a:lnTo>
                    <a:pt x="56" y="5218"/>
                  </a:lnTo>
                  <a:lnTo>
                    <a:pt x="118" y="5333"/>
                  </a:lnTo>
                  <a:lnTo>
                    <a:pt x="182" y="5447"/>
                  </a:lnTo>
                  <a:lnTo>
                    <a:pt x="251" y="5557"/>
                  </a:lnTo>
                  <a:lnTo>
                    <a:pt x="324" y="5665"/>
                  </a:lnTo>
                  <a:lnTo>
                    <a:pt x="400" y="5771"/>
                  </a:lnTo>
                  <a:lnTo>
                    <a:pt x="480" y="5873"/>
                  </a:lnTo>
                  <a:lnTo>
                    <a:pt x="563" y="5974"/>
                  </a:lnTo>
                  <a:lnTo>
                    <a:pt x="649" y="6070"/>
                  </a:lnTo>
                  <a:lnTo>
                    <a:pt x="739" y="6163"/>
                  </a:lnTo>
                  <a:lnTo>
                    <a:pt x="832" y="6253"/>
                  </a:lnTo>
                  <a:lnTo>
                    <a:pt x="928" y="6341"/>
                  </a:lnTo>
                  <a:lnTo>
                    <a:pt x="1027" y="6425"/>
                  </a:lnTo>
                  <a:lnTo>
                    <a:pt x="1129" y="6505"/>
                  </a:lnTo>
                  <a:lnTo>
                    <a:pt x="1234" y="6582"/>
                  </a:lnTo>
                  <a:lnTo>
                    <a:pt x="1342" y="6654"/>
                  </a:lnTo>
                  <a:lnTo>
                    <a:pt x="1452" y="6723"/>
                  </a:lnTo>
                  <a:lnTo>
                    <a:pt x="1565" y="6789"/>
                  </a:lnTo>
                  <a:lnTo>
                    <a:pt x="1680" y="6851"/>
                  </a:lnTo>
                  <a:lnTo>
                    <a:pt x="1798" y="6908"/>
                  </a:lnTo>
                  <a:lnTo>
                    <a:pt x="1918" y="6962"/>
                  </a:lnTo>
                  <a:lnTo>
                    <a:pt x="2040" y="7011"/>
                  </a:lnTo>
                  <a:lnTo>
                    <a:pt x="2165" y="7057"/>
                  </a:lnTo>
                  <a:lnTo>
                    <a:pt x="2291" y="7098"/>
                  </a:lnTo>
                  <a:lnTo>
                    <a:pt x="2419" y="7134"/>
                  </a:lnTo>
                  <a:lnTo>
                    <a:pt x="2549" y="7165"/>
                  </a:lnTo>
                  <a:lnTo>
                    <a:pt x="2681" y="7192"/>
                  </a:lnTo>
                  <a:lnTo>
                    <a:pt x="2814" y="7215"/>
                  </a:lnTo>
                  <a:lnTo>
                    <a:pt x="2950" y="7232"/>
                  </a:lnTo>
                  <a:lnTo>
                    <a:pt x="3086" y="7245"/>
                  </a:lnTo>
                  <a:lnTo>
                    <a:pt x="3224" y="7252"/>
                  </a:lnTo>
                  <a:lnTo>
                    <a:pt x="3364" y="7255"/>
                  </a:lnTo>
                  <a:lnTo>
                    <a:pt x="3553" y="7250"/>
                  </a:lnTo>
                  <a:lnTo>
                    <a:pt x="3742" y="7236"/>
                  </a:lnTo>
                  <a:lnTo>
                    <a:pt x="3926" y="7213"/>
                  </a:lnTo>
                  <a:lnTo>
                    <a:pt x="4109" y="7180"/>
                  </a:lnTo>
                  <a:lnTo>
                    <a:pt x="4288" y="7138"/>
                  </a:lnTo>
                  <a:lnTo>
                    <a:pt x="4464" y="7089"/>
                  </a:lnTo>
                  <a:lnTo>
                    <a:pt x="4636" y="7030"/>
                  </a:lnTo>
                  <a:lnTo>
                    <a:pt x="4804" y="6965"/>
                  </a:lnTo>
                  <a:lnTo>
                    <a:pt x="4967" y="6890"/>
                  </a:lnTo>
                  <a:lnTo>
                    <a:pt x="5126" y="6809"/>
                  </a:lnTo>
                  <a:lnTo>
                    <a:pt x="5282" y="6720"/>
                  </a:lnTo>
                  <a:lnTo>
                    <a:pt x="5432" y="6624"/>
                  </a:lnTo>
                  <a:lnTo>
                    <a:pt x="5578" y="6521"/>
                  </a:lnTo>
                  <a:lnTo>
                    <a:pt x="5717" y="6410"/>
                  </a:lnTo>
                  <a:lnTo>
                    <a:pt x="5851" y="6294"/>
                  </a:lnTo>
                  <a:lnTo>
                    <a:pt x="5980" y="6172"/>
                  </a:lnTo>
                  <a:lnTo>
                    <a:pt x="6102" y="6043"/>
                  </a:lnTo>
                  <a:lnTo>
                    <a:pt x="6218" y="5909"/>
                  </a:lnTo>
                  <a:lnTo>
                    <a:pt x="6329" y="5770"/>
                  </a:lnTo>
                  <a:lnTo>
                    <a:pt x="6432" y="5624"/>
                  </a:lnTo>
                  <a:lnTo>
                    <a:pt x="6528" y="5475"/>
                  </a:lnTo>
                  <a:lnTo>
                    <a:pt x="6617" y="5320"/>
                  </a:lnTo>
                  <a:lnTo>
                    <a:pt x="6698" y="5160"/>
                  </a:lnTo>
                  <a:lnTo>
                    <a:pt x="6773" y="4996"/>
                  </a:lnTo>
                  <a:lnTo>
                    <a:pt x="6839" y="4828"/>
                  </a:lnTo>
                  <a:lnTo>
                    <a:pt x="6898" y="4656"/>
                  </a:lnTo>
                  <a:lnTo>
                    <a:pt x="6947" y="4480"/>
                  </a:lnTo>
                  <a:lnTo>
                    <a:pt x="6988" y="4301"/>
                  </a:lnTo>
                  <a:lnTo>
                    <a:pt x="7021" y="4119"/>
                  </a:lnTo>
                  <a:lnTo>
                    <a:pt x="7044" y="3934"/>
                  </a:lnTo>
                  <a:lnTo>
                    <a:pt x="7058" y="3747"/>
                  </a:lnTo>
                  <a:lnTo>
                    <a:pt x="7063" y="3556"/>
                  </a:lnTo>
                  <a:close/>
                </a:path>
              </a:pathLst>
            </a:custGeom>
            <a:solidFill>
              <a:srgbClr val="fad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21320" y="3157560"/>
              <a:ext cx="2703240" cy="2787480"/>
            </a:xfrm>
            <a:custGeom>
              <a:avLst/>
              <a:gdLst/>
              <a:ahLst/>
              <a:rect l="l" t="t" r="r" b="b"/>
              <a:pathLst>
                <a:path w="6812" h="7024">
                  <a:moveTo>
                    <a:pt x="6812" y="3448"/>
                  </a:moveTo>
                  <a:lnTo>
                    <a:pt x="6809" y="3295"/>
                  </a:lnTo>
                  <a:lnTo>
                    <a:pt x="6800" y="3142"/>
                  </a:lnTo>
                  <a:lnTo>
                    <a:pt x="6783" y="2992"/>
                  </a:lnTo>
                  <a:lnTo>
                    <a:pt x="6761" y="2845"/>
                  </a:lnTo>
                  <a:lnTo>
                    <a:pt x="6734" y="2698"/>
                  </a:lnTo>
                  <a:lnTo>
                    <a:pt x="6700" y="2554"/>
                  </a:lnTo>
                  <a:lnTo>
                    <a:pt x="6660" y="2413"/>
                  </a:lnTo>
                  <a:lnTo>
                    <a:pt x="6615" y="2274"/>
                  </a:lnTo>
                  <a:lnTo>
                    <a:pt x="6564" y="2137"/>
                  </a:lnTo>
                  <a:lnTo>
                    <a:pt x="6508" y="2004"/>
                  </a:lnTo>
                  <a:lnTo>
                    <a:pt x="6447" y="1872"/>
                  </a:lnTo>
                  <a:lnTo>
                    <a:pt x="6381" y="1743"/>
                  </a:lnTo>
                  <a:lnTo>
                    <a:pt x="6309" y="1619"/>
                  </a:lnTo>
                  <a:lnTo>
                    <a:pt x="6233" y="1498"/>
                  </a:lnTo>
                  <a:lnTo>
                    <a:pt x="6152" y="1379"/>
                  </a:lnTo>
                  <a:lnTo>
                    <a:pt x="6066" y="1264"/>
                  </a:lnTo>
                  <a:lnTo>
                    <a:pt x="5978" y="1152"/>
                  </a:lnTo>
                  <a:lnTo>
                    <a:pt x="5883" y="1044"/>
                  </a:lnTo>
                  <a:lnTo>
                    <a:pt x="5784" y="941"/>
                  </a:lnTo>
                  <a:lnTo>
                    <a:pt x="5682" y="840"/>
                  </a:lnTo>
                  <a:lnTo>
                    <a:pt x="5576" y="745"/>
                  </a:lnTo>
                  <a:lnTo>
                    <a:pt x="5466" y="653"/>
                  </a:lnTo>
                  <a:lnTo>
                    <a:pt x="5352" y="567"/>
                  </a:lnTo>
                  <a:lnTo>
                    <a:pt x="5235" y="484"/>
                  </a:lnTo>
                  <a:lnTo>
                    <a:pt x="5115" y="406"/>
                  </a:lnTo>
                  <a:lnTo>
                    <a:pt x="4991" y="333"/>
                  </a:lnTo>
                  <a:lnTo>
                    <a:pt x="4864" y="264"/>
                  </a:lnTo>
                  <a:lnTo>
                    <a:pt x="4734" y="201"/>
                  </a:lnTo>
                  <a:lnTo>
                    <a:pt x="4601" y="143"/>
                  </a:lnTo>
                  <a:lnTo>
                    <a:pt x="4466" y="90"/>
                  </a:lnTo>
                  <a:lnTo>
                    <a:pt x="4328" y="42"/>
                  </a:lnTo>
                  <a:lnTo>
                    <a:pt x="4186" y="0"/>
                  </a:lnTo>
                  <a:lnTo>
                    <a:pt x="4175" y="16"/>
                  </a:lnTo>
                  <a:lnTo>
                    <a:pt x="4164" y="32"/>
                  </a:lnTo>
                  <a:lnTo>
                    <a:pt x="4152" y="47"/>
                  </a:lnTo>
                  <a:lnTo>
                    <a:pt x="4140" y="63"/>
                  </a:lnTo>
                  <a:lnTo>
                    <a:pt x="4128" y="78"/>
                  </a:lnTo>
                  <a:lnTo>
                    <a:pt x="4115" y="94"/>
                  </a:lnTo>
                  <a:lnTo>
                    <a:pt x="4102" y="110"/>
                  </a:lnTo>
                  <a:lnTo>
                    <a:pt x="4089" y="124"/>
                  </a:lnTo>
                  <a:lnTo>
                    <a:pt x="4079" y="135"/>
                  </a:lnTo>
                  <a:lnTo>
                    <a:pt x="4071" y="146"/>
                  </a:lnTo>
                  <a:lnTo>
                    <a:pt x="4062" y="156"/>
                  </a:lnTo>
                  <a:lnTo>
                    <a:pt x="4054" y="167"/>
                  </a:lnTo>
                  <a:lnTo>
                    <a:pt x="4046" y="179"/>
                  </a:lnTo>
                  <a:lnTo>
                    <a:pt x="4037" y="190"/>
                  </a:lnTo>
                  <a:lnTo>
                    <a:pt x="4030" y="201"/>
                  </a:lnTo>
                  <a:lnTo>
                    <a:pt x="4022" y="213"/>
                  </a:lnTo>
                  <a:lnTo>
                    <a:pt x="4157" y="249"/>
                  </a:lnTo>
                  <a:lnTo>
                    <a:pt x="4290" y="289"/>
                  </a:lnTo>
                  <a:lnTo>
                    <a:pt x="4422" y="336"/>
                  </a:lnTo>
                  <a:lnTo>
                    <a:pt x="4551" y="389"/>
                  </a:lnTo>
                  <a:lnTo>
                    <a:pt x="4676" y="445"/>
                  </a:lnTo>
                  <a:lnTo>
                    <a:pt x="4798" y="508"/>
                  </a:lnTo>
                  <a:lnTo>
                    <a:pt x="4918" y="575"/>
                  </a:lnTo>
                  <a:lnTo>
                    <a:pt x="5036" y="647"/>
                  </a:lnTo>
                  <a:lnTo>
                    <a:pt x="5148" y="724"/>
                  </a:lnTo>
                  <a:lnTo>
                    <a:pt x="5259" y="804"/>
                  </a:lnTo>
                  <a:lnTo>
                    <a:pt x="5366" y="889"/>
                  </a:lnTo>
                  <a:lnTo>
                    <a:pt x="5468" y="978"/>
                  </a:lnTo>
                  <a:lnTo>
                    <a:pt x="5567" y="1072"/>
                  </a:lnTo>
                  <a:lnTo>
                    <a:pt x="5662" y="1169"/>
                  </a:lnTo>
                  <a:lnTo>
                    <a:pt x="5753" y="1271"/>
                  </a:lnTo>
                  <a:lnTo>
                    <a:pt x="5841" y="1375"/>
                  </a:lnTo>
                  <a:lnTo>
                    <a:pt x="5924" y="1483"/>
                  </a:lnTo>
                  <a:lnTo>
                    <a:pt x="6003" y="1595"/>
                  </a:lnTo>
                  <a:lnTo>
                    <a:pt x="6076" y="1710"/>
                  </a:lnTo>
                  <a:lnTo>
                    <a:pt x="6146" y="1829"/>
                  </a:lnTo>
                  <a:lnTo>
                    <a:pt x="6210" y="1950"/>
                  </a:lnTo>
                  <a:lnTo>
                    <a:pt x="6269" y="2075"/>
                  </a:lnTo>
                  <a:lnTo>
                    <a:pt x="6324" y="2202"/>
                  </a:lnTo>
                  <a:lnTo>
                    <a:pt x="6374" y="2331"/>
                  </a:lnTo>
                  <a:lnTo>
                    <a:pt x="6417" y="2463"/>
                  </a:lnTo>
                  <a:lnTo>
                    <a:pt x="6455" y="2598"/>
                  </a:lnTo>
                  <a:lnTo>
                    <a:pt x="6489" y="2734"/>
                  </a:lnTo>
                  <a:lnTo>
                    <a:pt x="6516" y="2874"/>
                  </a:lnTo>
                  <a:lnTo>
                    <a:pt x="6537" y="3014"/>
                  </a:lnTo>
                  <a:lnTo>
                    <a:pt x="6552" y="3158"/>
                  </a:lnTo>
                  <a:lnTo>
                    <a:pt x="6562" y="3302"/>
                  </a:lnTo>
                  <a:lnTo>
                    <a:pt x="6566" y="3448"/>
                  </a:lnTo>
                  <a:lnTo>
                    <a:pt x="6561" y="3620"/>
                  </a:lnTo>
                  <a:lnTo>
                    <a:pt x="6548" y="3789"/>
                  </a:lnTo>
                  <a:lnTo>
                    <a:pt x="6527" y="3954"/>
                  </a:lnTo>
                  <a:lnTo>
                    <a:pt x="6497" y="4119"/>
                  </a:lnTo>
                  <a:lnTo>
                    <a:pt x="6460" y="4280"/>
                  </a:lnTo>
                  <a:lnTo>
                    <a:pt x="6416" y="4438"/>
                  </a:lnTo>
                  <a:lnTo>
                    <a:pt x="6363" y="4593"/>
                  </a:lnTo>
                  <a:lnTo>
                    <a:pt x="6304" y="4744"/>
                  </a:lnTo>
                  <a:lnTo>
                    <a:pt x="6237" y="4891"/>
                  </a:lnTo>
                  <a:lnTo>
                    <a:pt x="6164" y="5035"/>
                  </a:lnTo>
                  <a:lnTo>
                    <a:pt x="6083" y="5175"/>
                  </a:lnTo>
                  <a:lnTo>
                    <a:pt x="5997" y="5309"/>
                  </a:lnTo>
                  <a:lnTo>
                    <a:pt x="5903" y="5440"/>
                  </a:lnTo>
                  <a:lnTo>
                    <a:pt x="5805" y="5566"/>
                  </a:lnTo>
                  <a:lnTo>
                    <a:pt x="5700" y="5687"/>
                  </a:lnTo>
                  <a:lnTo>
                    <a:pt x="5590" y="5802"/>
                  </a:lnTo>
                  <a:lnTo>
                    <a:pt x="5475" y="5912"/>
                  </a:lnTo>
                  <a:lnTo>
                    <a:pt x="5354" y="6017"/>
                  </a:lnTo>
                  <a:lnTo>
                    <a:pt x="5228" y="6116"/>
                  </a:lnTo>
                  <a:lnTo>
                    <a:pt x="5097" y="6209"/>
                  </a:lnTo>
                  <a:lnTo>
                    <a:pt x="4962" y="6295"/>
                  </a:lnTo>
                  <a:lnTo>
                    <a:pt x="4822" y="6375"/>
                  </a:lnTo>
                  <a:lnTo>
                    <a:pt x="4679" y="6449"/>
                  </a:lnTo>
                  <a:lnTo>
                    <a:pt x="4532" y="6516"/>
                  </a:lnTo>
                  <a:lnTo>
                    <a:pt x="4380" y="6576"/>
                  </a:lnTo>
                  <a:lnTo>
                    <a:pt x="4226" y="6627"/>
                  </a:lnTo>
                  <a:lnTo>
                    <a:pt x="4067" y="6673"/>
                  </a:lnTo>
                  <a:lnTo>
                    <a:pt x="3906" y="6710"/>
                  </a:lnTo>
                  <a:lnTo>
                    <a:pt x="3742" y="6739"/>
                  </a:lnTo>
                  <a:lnTo>
                    <a:pt x="3576" y="6761"/>
                  </a:lnTo>
                  <a:lnTo>
                    <a:pt x="3407" y="6773"/>
                  </a:lnTo>
                  <a:lnTo>
                    <a:pt x="3236" y="6777"/>
                  </a:lnTo>
                  <a:lnTo>
                    <a:pt x="3113" y="6775"/>
                  </a:lnTo>
                  <a:lnTo>
                    <a:pt x="2992" y="6769"/>
                  </a:lnTo>
                  <a:lnTo>
                    <a:pt x="2872" y="6758"/>
                  </a:lnTo>
                  <a:lnTo>
                    <a:pt x="2753" y="6743"/>
                  </a:lnTo>
                  <a:lnTo>
                    <a:pt x="2636" y="6723"/>
                  </a:lnTo>
                  <a:lnTo>
                    <a:pt x="2519" y="6701"/>
                  </a:lnTo>
                  <a:lnTo>
                    <a:pt x="2405" y="6673"/>
                  </a:lnTo>
                  <a:lnTo>
                    <a:pt x="2292" y="6642"/>
                  </a:lnTo>
                  <a:lnTo>
                    <a:pt x="2181" y="6607"/>
                  </a:lnTo>
                  <a:lnTo>
                    <a:pt x="2072" y="6569"/>
                  </a:lnTo>
                  <a:lnTo>
                    <a:pt x="1964" y="6525"/>
                  </a:lnTo>
                  <a:lnTo>
                    <a:pt x="1858" y="6480"/>
                  </a:lnTo>
                  <a:lnTo>
                    <a:pt x="1754" y="6431"/>
                  </a:lnTo>
                  <a:lnTo>
                    <a:pt x="1652" y="6378"/>
                  </a:lnTo>
                  <a:lnTo>
                    <a:pt x="1552" y="6321"/>
                  </a:lnTo>
                  <a:lnTo>
                    <a:pt x="1454" y="6261"/>
                  </a:lnTo>
                  <a:lnTo>
                    <a:pt x="1359" y="6198"/>
                  </a:lnTo>
                  <a:lnTo>
                    <a:pt x="1265" y="6132"/>
                  </a:lnTo>
                  <a:lnTo>
                    <a:pt x="1175" y="6064"/>
                  </a:lnTo>
                  <a:lnTo>
                    <a:pt x="1086" y="5992"/>
                  </a:lnTo>
                  <a:lnTo>
                    <a:pt x="1001" y="5916"/>
                  </a:lnTo>
                  <a:lnTo>
                    <a:pt x="917" y="5838"/>
                  </a:lnTo>
                  <a:lnTo>
                    <a:pt x="837" y="5758"/>
                  </a:lnTo>
                  <a:lnTo>
                    <a:pt x="760" y="5675"/>
                  </a:lnTo>
                  <a:lnTo>
                    <a:pt x="686" y="5588"/>
                  </a:lnTo>
                  <a:lnTo>
                    <a:pt x="614" y="5500"/>
                  </a:lnTo>
                  <a:lnTo>
                    <a:pt x="544" y="5409"/>
                  </a:lnTo>
                  <a:lnTo>
                    <a:pt x="479" y="5316"/>
                  </a:lnTo>
                  <a:lnTo>
                    <a:pt x="416" y="5220"/>
                  </a:lnTo>
                  <a:lnTo>
                    <a:pt x="357" y="5122"/>
                  </a:lnTo>
                  <a:lnTo>
                    <a:pt x="300" y="5022"/>
                  </a:lnTo>
                  <a:lnTo>
                    <a:pt x="248" y="4920"/>
                  </a:lnTo>
                  <a:lnTo>
                    <a:pt x="230" y="4927"/>
                  </a:lnTo>
                  <a:lnTo>
                    <a:pt x="209" y="4935"/>
                  </a:lnTo>
                  <a:lnTo>
                    <a:pt x="188" y="4942"/>
                  </a:lnTo>
                  <a:lnTo>
                    <a:pt x="162" y="4948"/>
                  </a:lnTo>
                  <a:lnTo>
                    <a:pt x="131" y="4955"/>
                  </a:lnTo>
                  <a:lnTo>
                    <a:pt x="95" y="4961"/>
                  </a:lnTo>
                  <a:lnTo>
                    <a:pt x="52" y="4968"/>
                  </a:lnTo>
                  <a:lnTo>
                    <a:pt x="0" y="4974"/>
                  </a:lnTo>
                  <a:lnTo>
                    <a:pt x="56" y="5087"/>
                  </a:lnTo>
                  <a:lnTo>
                    <a:pt x="116" y="5197"/>
                  </a:lnTo>
                  <a:lnTo>
                    <a:pt x="178" y="5305"/>
                  </a:lnTo>
                  <a:lnTo>
                    <a:pt x="245" y="5410"/>
                  </a:lnTo>
                  <a:lnTo>
                    <a:pt x="315" y="5513"/>
                  </a:lnTo>
                  <a:lnTo>
                    <a:pt x="389" y="5614"/>
                  </a:lnTo>
                  <a:lnTo>
                    <a:pt x="466" y="5711"/>
                  </a:lnTo>
                  <a:lnTo>
                    <a:pt x="546" y="5806"/>
                  </a:lnTo>
                  <a:lnTo>
                    <a:pt x="630" y="5898"/>
                  </a:lnTo>
                  <a:lnTo>
                    <a:pt x="717" y="5987"/>
                  </a:lnTo>
                  <a:lnTo>
                    <a:pt x="807" y="6072"/>
                  </a:lnTo>
                  <a:lnTo>
                    <a:pt x="899" y="6155"/>
                  </a:lnTo>
                  <a:lnTo>
                    <a:pt x="994" y="6235"/>
                  </a:lnTo>
                  <a:lnTo>
                    <a:pt x="1092" y="6311"/>
                  </a:lnTo>
                  <a:lnTo>
                    <a:pt x="1193" y="6384"/>
                  </a:lnTo>
                  <a:lnTo>
                    <a:pt x="1296" y="6453"/>
                  </a:lnTo>
                  <a:lnTo>
                    <a:pt x="1403" y="6519"/>
                  </a:lnTo>
                  <a:lnTo>
                    <a:pt x="1511" y="6582"/>
                  </a:lnTo>
                  <a:lnTo>
                    <a:pt x="1622" y="6641"/>
                  </a:lnTo>
                  <a:lnTo>
                    <a:pt x="1734" y="6695"/>
                  </a:lnTo>
                  <a:lnTo>
                    <a:pt x="1850" y="6746"/>
                  </a:lnTo>
                  <a:lnTo>
                    <a:pt x="1967" y="6793"/>
                  </a:lnTo>
                  <a:lnTo>
                    <a:pt x="2086" y="6835"/>
                  </a:lnTo>
                  <a:lnTo>
                    <a:pt x="2207" y="6875"/>
                  </a:lnTo>
                  <a:lnTo>
                    <a:pt x="2331" y="6908"/>
                  </a:lnTo>
                  <a:lnTo>
                    <a:pt x="2456" y="6938"/>
                  </a:lnTo>
                  <a:lnTo>
                    <a:pt x="2582" y="6964"/>
                  </a:lnTo>
                  <a:lnTo>
                    <a:pt x="2710" y="6986"/>
                  </a:lnTo>
                  <a:lnTo>
                    <a:pt x="2838" y="7002"/>
                  </a:lnTo>
                  <a:lnTo>
                    <a:pt x="2970" y="7014"/>
                  </a:lnTo>
                  <a:lnTo>
                    <a:pt x="3102" y="7021"/>
                  </a:lnTo>
                  <a:lnTo>
                    <a:pt x="3236" y="7024"/>
                  </a:lnTo>
                  <a:lnTo>
                    <a:pt x="3419" y="7020"/>
                  </a:lnTo>
                  <a:lnTo>
                    <a:pt x="3602" y="7005"/>
                  </a:lnTo>
                  <a:lnTo>
                    <a:pt x="3780" y="6982"/>
                  </a:lnTo>
                  <a:lnTo>
                    <a:pt x="3956" y="6951"/>
                  </a:lnTo>
                  <a:lnTo>
                    <a:pt x="4130" y="6912"/>
                  </a:lnTo>
                  <a:lnTo>
                    <a:pt x="4299" y="6864"/>
                  </a:lnTo>
                  <a:lnTo>
                    <a:pt x="4466" y="6807"/>
                  </a:lnTo>
                  <a:lnTo>
                    <a:pt x="4628" y="6743"/>
                  </a:lnTo>
                  <a:lnTo>
                    <a:pt x="4786" y="6672"/>
                  </a:lnTo>
                  <a:lnTo>
                    <a:pt x="4940" y="6593"/>
                  </a:lnTo>
                  <a:lnTo>
                    <a:pt x="5090" y="6506"/>
                  </a:lnTo>
                  <a:lnTo>
                    <a:pt x="5235" y="6413"/>
                  </a:lnTo>
                  <a:lnTo>
                    <a:pt x="5375" y="6313"/>
                  </a:lnTo>
                  <a:lnTo>
                    <a:pt x="5511" y="6207"/>
                  </a:lnTo>
                  <a:lnTo>
                    <a:pt x="5640" y="6095"/>
                  </a:lnTo>
                  <a:lnTo>
                    <a:pt x="5764" y="5976"/>
                  </a:lnTo>
                  <a:lnTo>
                    <a:pt x="5883" y="5852"/>
                  </a:lnTo>
                  <a:lnTo>
                    <a:pt x="5996" y="5723"/>
                  </a:lnTo>
                  <a:lnTo>
                    <a:pt x="6101" y="5587"/>
                  </a:lnTo>
                  <a:lnTo>
                    <a:pt x="6201" y="5447"/>
                  </a:lnTo>
                  <a:lnTo>
                    <a:pt x="6294" y="5302"/>
                  </a:lnTo>
                  <a:lnTo>
                    <a:pt x="6381" y="5153"/>
                  </a:lnTo>
                  <a:lnTo>
                    <a:pt x="6459" y="4998"/>
                  </a:lnTo>
                  <a:lnTo>
                    <a:pt x="6531" y="4840"/>
                  </a:lnTo>
                  <a:lnTo>
                    <a:pt x="6594" y="4678"/>
                  </a:lnTo>
                  <a:lnTo>
                    <a:pt x="6651" y="4511"/>
                  </a:lnTo>
                  <a:lnTo>
                    <a:pt x="6700" y="4342"/>
                  </a:lnTo>
                  <a:lnTo>
                    <a:pt x="6740" y="4169"/>
                  </a:lnTo>
                  <a:lnTo>
                    <a:pt x="6771" y="3993"/>
                  </a:lnTo>
                  <a:lnTo>
                    <a:pt x="6794" y="3814"/>
                  </a:lnTo>
                  <a:lnTo>
                    <a:pt x="6807" y="3632"/>
                  </a:lnTo>
                  <a:lnTo>
                    <a:pt x="6812" y="3448"/>
                  </a:lnTo>
                  <a:close/>
                </a:path>
              </a:pathLst>
            </a:custGeom>
            <a:solidFill>
              <a:srgbClr val="fad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2080" y="3198960"/>
              <a:ext cx="2603520" cy="2697120"/>
            </a:xfrm>
            <a:custGeom>
              <a:avLst/>
              <a:gdLst/>
              <a:ahLst/>
              <a:rect l="l" t="t" r="r" b="b"/>
              <a:pathLst>
                <a:path w="6561" h="6795">
                  <a:moveTo>
                    <a:pt x="6561" y="3342"/>
                  </a:moveTo>
                  <a:lnTo>
                    <a:pt x="6558" y="3192"/>
                  </a:lnTo>
                  <a:lnTo>
                    <a:pt x="6548" y="3045"/>
                  </a:lnTo>
                  <a:lnTo>
                    <a:pt x="6532" y="2897"/>
                  </a:lnTo>
                  <a:lnTo>
                    <a:pt x="6511" y="2753"/>
                  </a:lnTo>
                  <a:lnTo>
                    <a:pt x="6483" y="2610"/>
                  </a:lnTo>
                  <a:lnTo>
                    <a:pt x="6450" y="2470"/>
                  </a:lnTo>
                  <a:lnTo>
                    <a:pt x="6410" y="2332"/>
                  </a:lnTo>
                  <a:lnTo>
                    <a:pt x="6366" y="2197"/>
                  </a:lnTo>
                  <a:lnTo>
                    <a:pt x="6316" y="2063"/>
                  </a:lnTo>
                  <a:lnTo>
                    <a:pt x="6261" y="1933"/>
                  </a:lnTo>
                  <a:lnTo>
                    <a:pt x="6200" y="1805"/>
                  </a:lnTo>
                  <a:lnTo>
                    <a:pt x="6135" y="1681"/>
                  </a:lnTo>
                  <a:lnTo>
                    <a:pt x="6064" y="1558"/>
                  </a:lnTo>
                  <a:lnTo>
                    <a:pt x="5990" y="1441"/>
                  </a:lnTo>
                  <a:lnTo>
                    <a:pt x="5911" y="1326"/>
                  </a:lnTo>
                  <a:lnTo>
                    <a:pt x="5826" y="1213"/>
                  </a:lnTo>
                  <a:lnTo>
                    <a:pt x="5738" y="1105"/>
                  </a:lnTo>
                  <a:lnTo>
                    <a:pt x="5646" y="1000"/>
                  </a:lnTo>
                  <a:lnTo>
                    <a:pt x="5548" y="900"/>
                  </a:lnTo>
                  <a:lnTo>
                    <a:pt x="5448" y="804"/>
                  </a:lnTo>
                  <a:lnTo>
                    <a:pt x="5343" y="711"/>
                  </a:lnTo>
                  <a:lnTo>
                    <a:pt x="5235" y="623"/>
                  </a:lnTo>
                  <a:lnTo>
                    <a:pt x="5122" y="539"/>
                  </a:lnTo>
                  <a:lnTo>
                    <a:pt x="5007" y="459"/>
                  </a:lnTo>
                  <a:lnTo>
                    <a:pt x="4890" y="384"/>
                  </a:lnTo>
                  <a:lnTo>
                    <a:pt x="4767" y="314"/>
                  </a:lnTo>
                  <a:lnTo>
                    <a:pt x="4642" y="248"/>
                  </a:lnTo>
                  <a:lnTo>
                    <a:pt x="4515" y="188"/>
                  </a:lnTo>
                  <a:lnTo>
                    <a:pt x="4384" y="133"/>
                  </a:lnTo>
                  <a:lnTo>
                    <a:pt x="4251" y="84"/>
                  </a:lnTo>
                  <a:lnTo>
                    <a:pt x="4116" y="40"/>
                  </a:lnTo>
                  <a:lnTo>
                    <a:pt x="3976" y="0"/>
                  </a:lnTo>
                  <a:lnTo>
                    <a:pt x="3975" y="2"/>
                  </a:lnTo>
                  <a:lnTo>
                    <a:pt x="3973" y="5"/>
                  </a:lnTo>
                  <a:lnTo>
                    <a:pt x="3970" y="7"/>
                  </a:lnTo>
                  <a:lnTo>
                    <a:pt x="3969" y="10"/>
                  </a:lnTo>
                  <a:lnTo>
                    <a:pt x="3967" y="12"/>
                  </a:lnTo>
                  <a:lnTo>
                    <a:pt x="3964" y="14"/>
                  </a:lnTo>
                  <a:lnTo>
                    <a:pt x="3963" y="17"/>
                  </a:lnTo>
                  <a:lnTo>
                    <a:pt x="3961" y="18"/>
                  </a:lnTo>
                  <a:lnTo>
                    <a:pt x="3942" y="42"/>
                  </a:lnTo>
                  <a:lnTo>
                    <a:pt x="3922" y="65"/>
                  </a:lnTo>
                  <a:lnTo>
                    <a:pt x="3906" y="90"/>
                  </a:lnTo>
                  <a:lnTo>
                    <a:pt x="3889" y="114"/>
                  </a:lnTo>
                  <a:lnTo>
                    <a:pt x="3873" y="140"/>
                  </a:lnTo>
                  <a:lnTo>
                    <a:pt x="3859" y="165"/>
                  </a:lnTo>
                  <a:lnTo>
                    <a:pt x="3844" y="192"/>
                  </a:lnTo>
                  <a:lnTo>
                    <a:pt x="3831" y="218"/>
                  </a:lnTo>
                  <a:lnTo>
                    <a:pt x="3963" y="252"/>
                  </a:lnTo>
                  <a:lnTo>
                    <a:pt x="4094" y="290"/>
                  </a:lnTo>
                  <a:lnTo>
                    <a:pt x="4221" y="335"/>
                  </a:lnTo>
                  <a:lnTo>
                    <a:pt x="4346" y="385"/>
                  </a:lnTo>
                  <a:lnTo>
                    <a:pt x="4468" y="439"/>
                  </a:lnTo>
                  <a:lnTo>
                    <a:pt x="4588" y="498"/>
                  </a:lnTo>
                  <a:lnTo>
                    <a:pt x="4706" y="563"/>
                  </a:lnTo>
                  <a:lnTo>
                    <a:pt x="4819" y="631"/>
                  </a:lnTo>
                  <a:lnTo>
                    <a:pt x="4930" y="704"/>
                  </a:lnTo>
                  <a:lnTo>
                    <a:pt x="5037" y="782"/>
                  </a:lnTo>
                  <a:lnTo>
                    <a:pt x="5142" y="864"/>
                  </a:lnTo>
                  <a:lnTo>
                    <a:pt x="5242" y="950"/>
                  </a:lnTo>
                  <a:lnTo>
                    <a:pt x="5338" y="1040"/>
                  </a:lnTo>
                  <a:lnTo>
                    <a:pt x="5432" y="1134"/>
                  </a:lnTo>
                  <a:lnTo>
                    <a:pt x="5521" y="1232"/>
                  </a:lnTo>
                  <a:lnTo>
                    <a:pt x="5606" y="1333"/>
                  </a:lnTo>
                  <a:lnTo>
                    <a:pt x="5686" y="1437"/>
                  </a:lnTo>
                  <a:lnTo>
                    <a:pt x="5763" y="1546"/>
                  </a:lnTo>
                  <a:lnTo>
                    <a:pt x="5836" y="1657"/>
                  </a:lnTo>
                  <a:lnTo>
                    <a:pt x="5904" y="1772"/>
                  </a:lnTo>
                  <a:lnTo>
                    <a:pt x="5966" y="1889"/>
                  </a:lnTo>
                  <a:lnTo>
                    <a:pt x="6025" y="2009"/>
                  </a:lnTo>
                  <a:lnTo>
                    <a:pt x="6078" y="2133"/>
                  </a:lnTo>
                  <a:lnTo>
                    <a:pt x="6126" y="2259"/>
                  </a:lnTo>
                  <a:lnTo>
                    <a:pt x="6169" y="2386"/>
                  </a:lnTo>
                  <a:lnTo>
                    <a:pt x="6207" y="2517"/>
                  </a:lnTo>
                  <a:lnTo>
                    <a:pt x="6240" y="2650"/>
                  </a:lnTo>
                  <a:lnTo>
                    <a:pt x="6266" y="2784"/>
                  </a:lnTo>
                  <a:lnTo>
                    <a:pt x="6286" y="2921"/>
                  </a:lnTo>
                  <a:lnTo>
                    <a:pt x="6302" y="3060"/>
                  </a:lnTo>
                  <a:lnTo>
                    <a:pt x="6310" y="3201"/>
                  </a:lnTo>
                  <a:lnTo>
                    <a:pt x="6314" y="3342"/>
                  </a:lnTo>
                  <a:lnTo>
                    <a:pt x="6310" y="3507"/>
                  </a:lnTo>
                  <a:lnTo>
                    <a:pt x="6297" y="3670"/>
                  </a:lnTo>
                  <a:lnTo>
                    <a:pt x="6277" y="3831"/>
                  </a:lnTo>
                  <a:lnTo>
                    <a:pt x="6249" y="3988"/>
                  </a:lnTo>
                  <a:lnTo>
                    <a:pt x="6213" y="4144"/>
                  </a:lnTo>
                  <a:lnTo>
                    <a:pt x="6170" y="4296"/>
                  </a:lnTo>
                  <a:lnTo>
                    <a:pt x="6120" y="4445"/>
                  </a:lnTo>
                  <a:lnTo>
                    <a:pt x="6062" y="4590"/>
                  </a:lnTo>
                  <a:lnTo>
                    <a:pt x="5997" y="4731"/>
                  </a:lnTo>
                  <a:lnTo>
                    <a:pt x="5926" y="4871"/>
                  </a:lnTo>
                  <a:lnTo>
                    <a:pt x="5850" y="5005"/>
                  </a:lnTo>
                  <a:lnTo>
                    <a:pt x="5767" y="5135"/>
                  </a:lnTo>
                  <a:lnTo>
                    <a:pt x="5677" y="5261"/>
                  </a:lnTo>
                  <a:lnTo>
                    <a:pt x="5582" y="5382"/>
                  </a:lnTo>
                  <a:lnTo>
                    <a:pt x="5481" y="5498"/>
                  </a:lnTo>
                  <a:lnTo>
                    <a:pt x="5374" y="5608"/>
                  </a:lnTo>
                  <a:lnTo>
                    <a:pt x="5263" y="5715"/>
                  </a:lnTo>
                  <a:lnTo>
                    <a:pt x="5148" y="5816"/>
                  </a:lnTo>
                  <a:lnTo>
                    <a:pt x="5026" y="5911"/>
                  </a:lnTo>
                  <a:lnTo>
                    <a:pt x="4900" y="6001"/>
                  </a:lnTo>
                  <a:lnTo>
                    <a:pt x="4770" y="6083"/>
                  </a:lnTo>
                  <a:lnTo>
                    <a:pt x="4635" y="6161"/>
                  </a:lnTo>
                  <a:lnTo>
                    <a:pt x="4497" y="6232"/>
                  </a:lnTo>
                  <a:lnTo>
                    <a:pt x="4356" y="6296"/>
                  </a:lnTo>
                  <a:lnTo>
                    <a:pt x="4210" y="6353"/>
                  </a:lnTo>
                  <a:lnTo>
                    <a:pt x="4060" y="6404"/>
                  </a:lnTo>
                  <a:lnTo>
                    <a:pt x="3909" y="6447"/>
                  </a:lnTo>
                  <a:lnTo>
                    <a:pt x="3753" y="6483"/>
                  </a:lnTo>
                  <a:lnTo>
                    <a:pt x="3596" y="6511"/>
                  </a:lnTo>
                  <a:lnTo>
                    <a:pt x="3435" y="6531"/>
                  </a:lnTo>
                  <a:lnTo>
                    <a:pt x="3272" y="6544"/>
                  </a:lnTo>
                  <a:lnTo>
                    <a:pt x="3108" y="6548"/>
                  </a:lnTo>
                  <a:lnTo>
                    <a:pt x="2990" y="6545"/>
                  </a:lnTo>
                  <a:lnTo>
                    <a:pt x="2874" y="6539"/>
                  </a:lnTo>
                  <a:lnTo>
                    <a:pt x="2758" y="6530"/>
                  </a:lnTo>
                  <a:lnTo>
                    <a:pt x="2644" y="6514"/>
                  </a:lnTo>
                  <a:lnTo>
                    <a:pt x="2532" y="6496"/>
                  </a:lnTo>
                  <a:lnTo>
                    <a:pt x="2420" y="6475"/>
                  </a:lnTo>
                  <a:lnTo>
                    <a:pt x="2310" y="6448"/>
                  </a:lnTo>
                  <a:lnTo>
                    <a:pt x="2202" y="6418"/>
                  </a:lnTo>
                  <a:lnTo>
                    <a:pt x="2095" y="6385"/>
                  </a:lnTo>
                  <a:lnTo>
                    <a:pt x="1989" y="6347"/>
                  </a:lnTo>
                  <a:lnTo>
                    <a:pt x="1886" y="6307"/>
                  </a:lnTo>
                  <a:lnTo>
                    <a:pt x="1784" y="6263"/>
                  </a:lnTo>
                  <a:lnTo>
                    <a:pt x="1684" y="6215"/>
                  </a:lnTo>
                  <a:lnTo>
                    <a:pt x="1586" y="6165"/>
                  </a:lnTo>
                  <a:lnTo>
                    <a:pt x="1490" y="6111"/>
                  </a:lnTo>
                  <a:lnTo>
                    <a:pt x="1396" y="6054"/>
                  </a:lnTo>
                  <a:lnTo>
                    <a:pt x="1304" y="5994"/>
                  </a:lnTo>
                  <a:lnTo>
                    <a:pt x="1215" y="5930"/>
                  </a:lnTo>
                  <a:lnTo>
                    <a:pt x="1128" y="5864"/>
                  </a:lnTo>
                  <a:lnTo>
                    <a:pt x="1042" y="5794"/>
                  </a:lnTo>
                  <a:lnTo>
                    <a:pt x="960" y="5722"/>
                  </a:lnTo>
                  <a:lnTo>
                    <a:pt x="880" y="5648"/>
                  </a:lnTo>
                  <a:lnTo>
                    <a:pt x="802" y="5571"/>
                  </a:lnTo>
                  <a:lnTo>
                    <a:pt x="728" y="5491"/>
                  </a:lnTo>
                  <a:lnTo>
                    <a:pt x="656" y="5408"/>
                  </a:lnTo>
                  <a:lnTo>
                    <a:pt x="586" y="5324"/>
                  </a:lnTo>
                  <a:lnTo>
                    <a:pt x="520" y="5237"/>
                  </a:lnTo>
                  <a:lnTo>
                    <a:pt x="457" y="5148"/>
                  </a:lnTo>
                  <a:lnTo>
                    <a:pt x="397" y="5055"/>
                  </a:lnTo>
                  <a:lnTo>
                    <a:pt x="339" y="4962"/>
                  </a:lnTo>
                  <a:lnTo>
                    <a:pt x="285" y="4866"/>
                  </a:lnTo>
                  <a:lnTo>
                    <a:pt x="235" y="4767"/>
                  </a:lnTo>
                  <a:lnTo>
                    <a:pt x="198" y="4782"/>
                  </a:lnTo>
                  <a:lnTo>
                    <a:pt x="166" y="4794"/>
                  </a:lnTo>
                  <a:lnTo>
                    <a:pt x="140" y="4805"/>
                  </a:lnTo>
                  <a:lnTo>
                    <a:pt x="117" y="4815"/>
                  </a:lnTo>
                  <a:lnTo>
                    <a:pt x="93" y="4825"/>
                  </a:lnTo>
                  <a:lnTo>
                    <a:pt x="68" y="4833"/>
                  </a:lnTo>
                  <a:lnTo>
                    <a:pt x="37" y="4842"/>
                  </a:lnTo>
                  <a:lnTo>
                    <a:pt x="0" y="4849"/>
                  </a:lnTo>
                  <a:lnTo>
                    <a:pt x="54" y="4956"/>
                  </a:lnTo>
                  <a:lnTo>
                    <a:pt x="112" y="5061"/>
                  </a:lnTo>
                  <a:lnTo>
                    <a:pt x="174" y="5163"/>
                  </a:lnTo>
                  <a:lnTo>
                    <a:pt x="238" y="5264"/>
                  </a:lnTo>
                  <a:lnTo>
                    <a:pt x="306" y="5361"/>
                  </a:lnTo>
                  <a:lnTo>
                    <a:pt x="378" y="5456"/>
                  </a:lnTo>
                  <a:lnTo>
                    <a:pt x="452" y="5550"/>
                  </a:lnTo>
                  <a:lnTo>
                    <a:pt x="530" y="5640"/>
                  </a:lnTo>
                  <a:lnTo>
                    <a:pt x="610" y="5726"/>
                  </a:lnTo>
                  <a:lnTo>
                    <a:pt x="693" y="5811"/>
                  </a:lnTo>
                  <a:lnTo>
                    <a:pt x="780" y="5893"/>
                  </a:lnTo>
                  <a:lnTo>
                    <a:pt x="868" y="5971"/>
                  </a:lnTo>
                  <a:lnTo>
                    <a:pt x="961" y="6046"/>
                  </a:lnTo>
                  <a:lnTo>
                    <a:pt x="1054" y="6118"/>
                  </a:lnTo>
                  <a:lnTo>
                    <a:pt x="1152" y="6188"/>
                  </a:lnTo>
                  <a:lnTo>
                    <a:pt x="1251" y="6254"/>
                  </a:lnTo>
                  <a:lnTo>
                    <a:pt x="1353" y="6316"/>
                  </a:lnTo>
                  <a:lnTo>
                    <a:pt x="1456" y="6375"/>
                  </a:lnTo>
                  <a:lnTo>
                    <a:pt x="1563" y="6431"/>
                  </a:lnTo>
                  <a:lnTo>
                    <a:pt x="1671" y="6483"/>
                  </a:lnTo>
                  <a:lnTo>
                    <a:pt x="1782" y="6531"/>
                  </a:lnTo>
                  <a:lnTo>
                    <a:pt x="1894" y="6575"/>
                  </a:lnTo>
                  <a:lnTo>
                    <a:pt x="2008" y="6616"/>
                  </a:lnTo>
                  <a:lnTo>
                    <a:pt x="2124" y="6652"/>
                  </a:lnTo>
                  <a:lnTo>
                    <a:pt x="2241" y="6686"/>
                  </a:lnTo>
                  <a:lnTo>
                    <a:pt x="2361" y="6713"/>
                  </a:lnTo>
                  <a:lnTo>
                    <a:pt x="2482" y="6739"/>
                  </a:lnTo>
                  <a:lnTo>
                    <a:pt x="2605" y="6758"/>
                  </a:lnTo>
                  <a:lnTo>
                    <a:pt x="2728" y="6775"/>
                  </a:lnTo>
                  <a:lnTo>
                    <a:pt x="2853" y="6785"/>
                  </a:lnTo>
                  <a:lnTo>
                    <a:pt x="2980" y="6793"/>
                  </a:lnTo>
                  <a:lnTo>
                    <a:pt x="3108" y="6795"/>
                  </a:lnTo>
                  <a:lnTo>
                    <a:pt x="3285" y="6790"/>
                  </a:lnTo>
                  <a:lnTo>
                    <a:pt x="3460" y="6777"/>
                  </a:lnTo>
                  <a:lnTo>
                    <a:pt x="3633" y="6755"/>
                  </a:lnTo>
                  <a:lnTo>
                    <a:pt x="3804" y="6724"/>
                  </a:lnTo>
                  <a:lnTo>
                    <a:pt x="3970" y="6686"/>
                  </a:lnTo>
                  <a:lnTo>
                    <a:pt x="4135" y="6639"/>
                  </a:lnTo>
                  <a:lnTo>
                    <a:pt x="4294" y="6585"/>
                  </a:lnTo>
                  <a:lnTo>
                    <a:pt x="4452" y="6524"/>
                  </a:lnTo>
                  <a:lnTo>
                    <a:pt x="4604" y="6454"/>
                  </a:lnTo>
                  <a:lnTo>
                    <a:pt x="4753" y="6377"/>
                  </a:lnTo>
                  <a:lnTo>
                    <a:pt x="4898" y="6295"/>
                  </a:lnTo>
                  <a:lnTo>
                    <a:pt x="5038" y="6205"/>
                  </a:lnTo>
                  <a:lnTo>
                    <a:pt x="5174" y="6109"/>
                  </a:lnTo>
                  <a:lnTo>
                    <a:pt x="5304" y="6007"/>
                  </a:lnTo>
                  <a:lnTo>
                    <a:pt x="5430" y="5898"/>
                  </a:lnTo>
                  <a:lnTo>
                    <a:pt x="5550" y="5784"/>
                  </a:lnTo>
                  <a:lnTo>
                    <a:pt x="5664" y="5664"/>
                  </a:lnTo>
                  <a:lnTo>
                    <a:pt x="5772" y="5538"/>
                  </a:lnTo>
                  <a:lnTo>
                    <a:pt x="5875" y="5408"/>
                  </a:lnTo>
                  <a:lnTo>
                    <a:pt x="5971" y="5273"/>
                  </a:lnTo>
                  <a:lnTo>
                    <a:pt x="6061" y="5132"/>
                  </a:lnTo>
                  <a:lnTo>
                    <a:pt x="6144" y="4988"/>
                  </a:lnTo>
                  <a:lnTo>
                    <a:pt x="6220" y="4839"/>
                  </a:lnTo>
                  <a:lnTo>
                    <a:pt x="6289" y="4686"/>
                  </a:lnTo>
                  <a:lnTo>
                    <a:pt x="6351" y="4529"/>
                  </a:lnTo>
                  <a:lnTo>
                    <a:pt x="6405" y="4369"/>
                  </a:lnTo>
                  <a:lnTo>
                    <a:pt x="6452" y="4205"/>
                  </a:lnTo>
                  <a:lnTo>
                    <a:pt x="6490" y="4038"/>
                  </a:lnTo>
                  <a:lnTo>
                    <a:pt x="6520" y="3868"/>
                  </a:lnTo>
                  <a:lnTo>
                    <a:pt x="6543" y="3695"/>
                  </a:lnTo>
                  <a:lnTo>
                    <a:pt x="6556" y="3520"/>
                  </a:lnTo>
                  <a:lnTo>
                    <a:pt x="6561" y="3342"/>
                  </a:lnTo>
                  <a:close/>
                </a:path>
              </a:pathLst>
            </a:custGeom>
            <a:solidFill>
              <a:srgbClr val="fad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116240" y="1301760"/>
              <a:ext cx="3110040" cy="4545000"/>
              <a:chOff x="4116240" y="1301760"/>
              <a:chExt cx="3110040" cy="45450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19600" y="3241800"/>
                <a:ext cx="2506680" cy="2604960"/>
              </a:xfrm>
              <a:custGeom>
                <a:avLst/>
                <a:gdLst/>
                <a:ahLst/>
                <a:rect l="l" t="t" r="r" b="b"/>
                <a:pathLst>
                  <a:path w="6318" h="6564">
                    <a:moveTo>
                      <a:pt x="6318" y="3235"/>
                    </a:moveTo>
                    <a:lnTo>
                      <a:pt x="6314" y="3089"/>
                    </a:lnTo>
                    <a:lnTo>
                      <a:pt x="6304" y="2945"/>
                    </a:lnTo>
                    <a:lnTo>
                      <a:pt x="6289" y="2801"/>
                    </a:lnTo>
                    <a:lnTo>
                      <a:pt x="6268" y="2661"/>
                    </a:lnTo>
                    <a:lnTo>
                      <a:pt x="6241" y="2521"/>
                    </a:lnTo>
                    <a:lnTo>
                      <a:pt x="6207" y="2385"/>
                    </a:lnTo>
                    <a:lnTo>
                      <a:pt x="6169" y="2250"/>
                    </a:lnTo>
                    <a:lnTo>
                      <a:pt x="6126" y="2118"/>
                    </a:lnTo>
                    <a:lnTo>
                      <a:pt x="6076" y="1989"/>
                    </a:lnTo>
                    <a:lnTo>
                      <a:pt x="6021" y="1862"/>
                    </a:lnTo>
                    <a:lnTo>
                      <a:pt x="5962" y="1737"/>
                    </a:lnTo>
                    <a:lnTo>
                      <a:pt x="5898" y="1616"/>
                    </a:lnTo>
                    <a:lnTo>
                      <a:pt x="5828" y="1497"/>
                    </a:lnTo>
                    <a:lnTo>
                      <a:pt x="5755" y="1382"/>
                    </a:lnTo>
                    <a:lnTo>
                      <a:pt x="5676" y="1270"/>
                    </a:lnTo>
                    <a:lnTo>
                      <a:pt x="5593" y="1162"/>
                    </a:lnTo>
                    <a:lnTo>
                      <a:pt x="5505" y="1058"/>
                    </a:lnTo>
                    <a:lnTo>
                      <a:pt x="5414" y="956"/>
                    </a:lnTo>
                    <a:lnTo>
                      <a:pt x="5319" y="859"/>
                    </a:lnTo>
                    <a:lnTo>
                      <a:pt x="5220" y="765"/>
                    </a:lnTo>
                    <a:lnTo>
                      <a:pt x="5118" y="676"/>
                    </a:lnTo>
                    <a:lnTo>
                      <a:pt x="5011" y="591"/>
                    </a:lnTo>
                    <a:lnTo>
                      <a:pt x="4900" y="511"/>
                    </a:lnTo>
                    <a:lnTo>
                      <a:pt x="4786" y="434"/>
                    </a:lnTo>
                    <a:lnTo>
                      <a:pt x="4670" y="362"/>
                    </a:lnTo>
                    <a:lnTo>
                      <a:pt x="4550" y="295"/>
                    </a:lnTo>
                    <a:lnTo>
                      <a:pt x="4428" y="232"/>
                    </a:lnTo>
                    <a:lnTo>
                      <a:pt x="4302" y="176"/>
                    </a:lnTo>
                    <a:lnTo>
                      <a:pt x="4174" y="123"/>
                    </a:lnTo>
                    <a:lnTo>
                      <a:pt x="4042" y="76"/>
                    </a:lnTo>
                    <a:lnTo>
                      <a:pt x="3909" y="36"/>
                    </a:lnTo>
                    <a:lnTo>
                      <a:pt x="3774" y="0"/>
                    </a:lnTo>
                    <a:lnTo>
                      <a:pt x="3757" y="26"/>
                    </a:lnTo>
                    <a:lnTo>
                      <a:pt x="3741" y="54"/>
                    </a:lnTo>
                    <a:lnTo>
                      <a:pt x="3727" y="81"/>
                    </a:lnTo>
                    <a:lnTo>
                      <a:pt x="3712" y="110"/>
                    </a:lnTo>
                    <a:lnTo>
                      <a:pt x="3698" y="139"/>
                    </a:lnTo>
                    <a:lnTo>
                      <a:pt x="3686" y="168"/>
                    </a:lnTo>
                    <a:lnTo>
                      <a:pt x="3673" y="196"/>
                    </a:lnTo>
                    <a:lnTo>
                      <a:pt x="3661" y="226"/>
                    </a:lnTo>
                    <a:lnTo>
                      <a:pt x="3789" y="258"/>
                    </a:lnTo>
                    <a:lnTo>
                      <a:pt x="3915" y="295"/>
                    </a:lnTo>
                    <a:lnTo>
                      <a:pt x="4039" y="337"/>
                    </a:lnTo>
                    <a:lnTo>
                      <a:pt x="4160" y="384"/>
                    </a:lnTo>
                    <a:lnTo>
                      <a:pt x="4279" y="435"/>
                    </a:lnTo>
                    <a:lnTo>
                      <a:pt x="4395" y="493"/>
                    </a:lnTo>
                    <a:lnTo>
                      <a:pt x="4509" y="554"/>
                    </a:lnTo>
                    <a:lnTo>
                      <a:pt x="4620" y="620"/>
                    </a:lnTo>
                    <a:lnTo>
                      <a:pt x="4726" y="690"/>
                    </a:lnTo>
                    <a:lnTo>
                      <a:pt x="4831" y="764"/>
                    </a:lnTo>
                    <a:lnTo>
                      <a:pt x="4932" y="843"/>
                    </a:lnTo>
                    <a:lnTo>
                      <a:pt x="5029" y="926"/>
                    </a:lnTo>
                    <a:lnTo>
                      <a:pt x="5124" y="1012"/>
                    </a:lnTo>
                    <a:lnTo>
                      <a:pt x="5214" y="1102"/>
                    </a:lnTo>
                    <a:lnTo>
                      <a:pt x="5300" y="1197"/>
                    </a:lnTo>
                    <a:lnTo>
                      <a:pt x="5383" y="1294"/>
                    </a:lnTo>
                    <a:lnTo>
                      <a:pt x="5462" y="1395"/>
                    </a:lnTo>
                    <a:lnTo>
                      <a:pt x="5536" y="1499"/>
                    </a:lnTo>
                    <a:lnTo>
                      <a:pt x="5606" y="1607"/>
                    </a:lnTo>
                    <a:lnTo>
                      <a:pt x="5672" y="1718"/>
                    </a:lnTo>
                    <a:lnTo>
                      <a:pt x="5733" y="1832"/>
                    </a:lnTo>
                    <a:lnTo>
                      <a:pt x="5790" y="1948"/>
                    </a:lnTo>
                    <a:lnTo>
                      <a:pt x="5841" y="2067"/>
                    </a:lnTo>
                    <a:lnTo>
                      <a:pt x="5888" y="2188"/>
                    </a:lnTo>
                    <a:lnTo>
                      <a:pt x="5930" y="2311"/>
                    </a:lnTo>
                    <a:lnTo>
                      <a:pt x="5966" y="2437"/>
                    </a:lnTo>
                    <a:lnTo>
                      <a:pt x="5997" y="2566"/>
                    </a:lnTo>
                    <a:lnTo>
                      <a:pt x="6024" y="2697"/>
                    </a:lnTo>
                    <a:lnTo>
                      <a:pt x="6044" y="2829"/>
                    </a:lnTo>
                    <a:lnTo>
                      <a:pt x="6058" y="2962"/>
                    </a:lnTo>
                    <a:lnTo>
                      <a:pt x="6068" y="3098"/>
                    </a:lnTo>
                    <a:lnTo>
                      <a:pt x="6070" y="3235"/>
                    </a:lnTo>
                    <a:lnTo>
                      <a:pt x="6067" y="3394"/>
                    </a:lnTo>
                    <a:lnTo>
                      <a:pt x="6055" y="3551"/>
                    </a:lnTo>
                    <a:lnTo>
                      <a:pt x="6036" y="3704"/>
                    </a:lnTo>
                    <a:lnTo>
                      <a:pt x="6008" y="3857"/>
                    </a:lnTo>
                    <a:lnTo>
                      <a:pt x="5973" y="4005"/>
                    </a:lnTo>
                    <a:lnTo>
                      <a:pt x="5932" y="4152"/>
                    </a:lnTo>
                    <a:lnTo>
                      <a:pt x="5883" y="4295"/>
                    </a:lnTo>
                    <a:lnTo>
                      <a:pt x="5828" y="4435"/>
                    </a:lnTo>
                    <a:lnTo>
                      <a:pt x="5767" y="4572"/>
                    </a:lnTo>
                    <a:lnTo>
                      <a:pt x="5698" y="4705"/>
                    </a:lnTo>
                    <a:lnTo>
                      <a:pt x="5624" y="4833"/>
                    </a:lnTo>
                    <a:lnTo>
                      <a:pt x="5544" y="4958"/>
                    </a:lnTo>
                    <a:lnTo>
                      <a:pt x="5458" y="5079"/>
                    </a:lnTo>
                    <a:lnTo>
                      <a:pt x="5366" y="5196"/>
                    </a:lnTo>
                    <a:lnTo>
                      <a:pt x="5270" y="5308"/>
                    </a:lnTo>
                    <a:lnTo>
                      <a:pt x="5168" y="5415"/>
                    </a:lnTo>
                    <a:lnTo>
                      <a:pt x="5060" y="5517"/>
                    </a:lnTo>
                    <a:lnTo>
                      <a:pt x="4948" y="5614"/>
                    </a:lnTo>
                    <a:lnTo>
                      <a:pt x="4832" y="5705"/>
                    </a:lnTo>
                    <a:lnTo>
                      <a:pt x="4711" y="5792"/>
                    </a:lnTo>
                    <a:lnTo>
                      <a:pt x="4586" y="5871"/>
                    </a:lnTo>
                    <a:lnTo>
                      <a:pt x="4458" y="5945"/>
                    </a:lnTo>
                    <a:lnTo>
                      <a:pt x="4324" y="6014"/>
                    </a:lnTo>
                    <a:lnTo>
                      <a:pt x="4188" y="6075"/>
                    </a:lnTo>
                    <a:lnTo>
                      <a:pt x="4047" y="6130"/>
                    </a:lnTo>
                    <a:lnTo>
                      <a:pt x="3904" y="6179"/>
                    </a:lnTo>
                    <a:lnTo>
                      <a:pt x="3758" y="6221"/>
                    </a:lnTo>
                    <a:lnTo>
                      <a:pt x="3609" y="6255"/>
                    </a:lnTo>
                    <a:lnTo>
                      <a:pt x="3457" y="6282"/>
                    </a:lnTo>
                    <a:lnTo>
                      <a:pt x="3302" y="6302"/>
                    </a:lnTo>
                    <a:lnTo>
                      <a:pt x="3146" y="6314"/>
                    </a:lnTo>
                    <a:lnTo>
                      <a:pt x="2988" y="6317"/>
                    </a:lnTo>
                    <a:lnTo>
                      <a:pt x="2875" y="6316"/>
                    </a:lnTo>
                    <a:lnTo>
                      <a:pt x="2763" y="6310"/>
                    </a:lnTo>
                    <a:lnTo>
                      <a:pt x="2654" y="6300"/>
                    </a:lnTo>
                    <a:lnTo>
                      <a:pt x="2545" y="6286"/>
                    </a:lnTo>
                    <a:lnTo>
                      <a:pt x="2437" y="6269"/>
                    </a:lnTo>
                    <a:lnTo>
                      <a:pt x="2330" y="6248"/>
                    </a:lnTo>
                    <a:lnTo>
                      <a:pt x="2224" y="6222"/>
                    </a:lnTo>
                    <a:lnTo>
                      <a:pt x="2121" y="6195"/>
                    </a:lnTo>
                    <a:lnTo>
                      <a:pt x="2019" y="6162"/>
                    </a:lnTo>
                    <a:lnTo>
                      <a:pt x="1918" y="6128"/>
                    </a:lnTo>
                    <a:lnTo>
                      <a:pt x="1819" y="6088"/>
                    </a:lnTo>
                    <a:lnTo>
                      <a:pt x="1722" y="6047"/>
                    </a:lnTo>
                    <a:lnTo>
                      <a:pt x="1626" y="6002"/>
                    </a:lnTo>
                    <a:lnTo>
                      <a:pt x="1532" y="5954"/>
                    </a:lnTo>
                    <a:lnTo>
                      <a:pt x="1441" y="5902"/>
                    </a:lnTo>
                    <a:lnTo>
                      <a:pt x="1351" y="5848"/>
                    </a:lnTo>
                    <a:lnTo>
                      <a:pt x="1262" y="5791"/>
                    </a:lnTo>
                    <a:lnTo>
                      <a:pt x="1177" y="5731"/>
                    </a:lnTo>
                    <a:lnTo>
                      <a:pt x="1093" y="5667"/>
                    </a:lnTo>
                    <a:lnTo>
                      <a:pt x="1011" y="5601"/>
                    </a:lnTo>
                    <a:lnTo>
                      <a:pt x="932" y="5533"/>
                    </a:lnTo>
                    <a:lnTo>
                      <a:pt x="855" y="5462"/>
                    </a:lnTo>
                    <a:lnTo>
                      <a:pt x="781" y="5389"/>
                    </a:lnTo>
                    <a:lnTo>
                      <a:pt x="710" y="5313"/>
                    </a:lnTo>
                    <a:lnTo>
                      <a:pt x="640" y="5234"/>
                    </a:lnTo>
                    <a:lnTo>
                      <a:pt x="574" y="5154"/>
                    </a:lnTo>
                    <a:lnTo>
                      <a:pt x="510" y="5071"/>
                    </a:lnTo>
                    <a:lnTo>
                      <a:pt x="450" y="4986"/>
                    </a:lnTo>
                    <a:lnTo>
                      <a:pt x="391" y="4898"/>
                    </a:lnTo>
                    <a:lnTo>
                      <a:pt x="336" y="4809"/>
                    </a:lnTo>
                    <a:lnTo>
                      <a:pt x="284" y="4717"/>
                    </a:lnTo>
                    <a:lnTo>
                      <a:pt x="235" y="4624"/>
                    </a:lnTo>
                    <a:lnTo>
                      <a:pt x="187" y="4638"/>
                    </a:lnTo>
                    <a:lnTo>
                      <a:pt x="146" y="4651"/>
                    </a:lnTo>
                    <a:lnTo>
                      <a:pt x="111" y="4662"/>
                    </a:lnTo>
                    <a:lnTo>
                      <a:pt x="82" y="4672"/>
                    </a:lnTo>
                    <a:lnTo>
                      <a:pt x="58" y="4682"/>
                    </a:lnTo>
                    <a:lnTo>
                      <a:pt x="37" y="4692"/>
                    </a:lnTo>
                    <a:lnTo>
                      <a:pt x="18" y="4699"/>
                    </a:lnTo>
                    <a:lnTo>
                      <a:pt x="0" y="4707"/>
                    </a:lnTo>
                    <a:lnTo>
                      <a:pt x="52" y="4809"/>
                    </a:lnTo>
                    <a:lnTo>
                      <a:pt x="109" y="4909"/>
                    </a:lnTo>
                    <a:lnTo>
                      <a:pt x="168" y="5007"/>
                    </a:lnTo>
                    <a:lnTo>
                      <a:pt x="231" y="5103"/>
                    </a:lnTo>
                    <a:lnTo>
                      <a:pt x="296" y="5196"/>
                    </a:lnTo>
                    <a:lnTo>
                      <a:pt x="366" y="5287"/>
                    </a:lnTo>
                    <a:lnTo>
                      <a:pt x="438" y="5375"/>
                    </a:lnTo>
                    <a:lnTo>
                      <a:pt x="512" y="5462"/>
                    </a:lnTo>
                    <a:lnTo>
                      <a:pt x="589" y="5545"/>
                    </a:lnTo>
                    <a:lnTo>
                      <a:pt x="669" y="5625"/>
                    </a:lnTo>
                    <a:lnTo>
                      <a:pt x="753" y="5703"/>
                    </a:lnTo>
                    <a:lnTo>
                      <a:pt x="838" y="5779"/>
                    </a:lnTo>
                    <a:lnTo>
                      <a:pt x="927" y="5851"/>
                    </a:lnTo>
                    <a:lnTo>
                      <a:pt x="1017" y="5919"/>
                    </a:lnTo>
                    <a:lnTo>
                      <a:pt x="1111" y="5985"/>
                    </a:lnTo>
                    <a:lnTo>
                      <a:pt x="1206" y="6048"/>
                    </a:lnTo>
                    <a:lnTo>
                      <a:pt x="1304" y="6108"/>
                    </a:lnTo>
                    <a:lnTo>
                      <a:pt x="1404" y="6165"/>
                    </a:lnTo>
                    <a:lnTo>
                      <a:pt x="1506" y="6218"/>
                    </a:lnTo>
                    <a:lnTo>
                      <a:pt x="1610" y="6267"/>
                    </a:lnTo>
                    <a:lnTo>
                      <a:pt x="1716" y="6312"/>
                    </a:lnTo>
                    <a:lnTo>
                      <a:pt x="1824" y="6356"/>
                    </a:lnTo>
                    <a:lnTo>
                      <a:pt x="1933" y="6394"/>
                    </a:lnTo>
                    <a:lnTo>
                      <a:pt x="2044" y="6429"/>
                    </a:lnTo>
                    <a:lnTo>
                      <a:pt x="2157" y="6460"/>
                    </a:lnTo>
                    <a:lnTo>
                      <a:pt x="2271" y="6488"/>
                    </a:lnTo>
                    <a:lnTo>
                      <a:pt x="2388" y="6510"/>
                    </a:lnTo>
                    <a:lnTo>
                      <a:pt x="2505" y="6530"/>
                    </a:lnTo>
                    <a:lnTo>
                      <a:pt x="2624" y="6545"/>
                    </a:lnTo>
                    <a:lnTo>
                      <a:pt x="2744" y="6556"/>
                    </a:lnTo>
                    <a:lnTo>
                      <a:pt x="2865" y="6562"/>
                    </a:lnTo>
                    <a:lnTo>
                      <a:pt x="2988" y="6564"/>
                    </a:lnTo>
                    <a:lnTo>
                      <a:pt x="3159" y="6560"/>
                    </a:lnTo>
                    <a:lnTo>
                      <a:pt x="3328" y="6548"/>
                    </a:lnTo>
                    <a:lnTo>
                      <a:pt x="3494" y="6526"/>
                    </a:lnTo>
                    <a:lnTo>
                      <a:pt x="3658" y="6497"/>
                    </a:lnTo>
                    <a:lnTo>
                      <a:pt x="3819" y="6460"/>
                    </a:lnTo>
                    <a:lnTo>
                      <a:pt x="3978" y="6414"/>
                    </a:lnTo>
                    <a:lnTo>
                      <a:pt x="4132" y="6363"/>
                    </a:lnTo>
                    <a:lnTo>
                      <a:pt x="4284" y="6303"/>
                    </a:lnTo>
                    <a:lnTo>
                      <a:pt x="4431" y="6236"/>
                    </a:lnTo>
                    <a:lnTo>
                      <a:pt x="4574" y="6162"/>
                    </a:lnTo>
                    <a:lnTo>
                      <a:pt x="4714" y="6082"/>
                    </a:lnTo>
                    <a:lnTo>
                      <a:pt x="4849" y="5996"/>
                    </a:lnTo>
                    <a:lnTo>
                      <a:pt x="4980" y="5903"/>
                    </a:lnTo>
                    <a:lnTo>
                      <a:pt x="5106" y="5804"/>
                    </a:lnTo>
                    <a:lnTo>
                      <a:pt x="5227" y="5699"/>
                    </a:lnTo>
                    <a:lnTo>
                      <a:pt x="5342" y="5589"/>
                    </a:lnTo>
                    <a:lnTo>
                      <a:pt x="5452" y="5474"/>
                    </a:lnTo>
                    <a:lnTo>
                      <a:pt x="5557" y="5353"/>
                    </a:lnTo>
                    <a:lnTo>
                      <a:pt x="5655" y="5227"/>
                    </a:lnTo>
                    <a:lnTo>
                      <a:pt x="5749" y="5096"/>
                    </a:lnTo>
                    <a:lnTo>
                      <a:pt x="5835" y="4962"/>
                    </a:lnTo>
                    <a:lnTo>
                      <a:pt x="5916" y="4822"/>
                    </a:lnTo>
                    <a:lnTo>
                      <a:pt x="5989" y="4678"/>
                    </a:lnTo>
                    <a:lnTo>
                      <a:pt x="6056" y="4531"/>
                    </a:lnTo>
                    <a:lnTo>
                      <a:pt x="6115" y="4380"/>
                    </a:lnTo>
                    <a:lnTo>
                      <a:pt x="6168" y="4225"/>
                    </a:lnTo>
                    <a:lnTo>
                      <a:pt x="6212" y="4067"/>
                    </a:lnTo>
                    <a:lnTo>
                      <a:pt x="6249" y="3906"/>
                    </a:lnTo>
                    <a:lnTo>
                      <a:pt x="6279" y="3741"/>
                    </a:lnTo>
                    <a:lnTo>
                      <a:pt x="6300" y="3576"/>
                    </a:lnTo>
                    <a:lnTo>
                      <a:pt x="6313" y="3407"/>
                    </a:lnTo>
                    <a:lnTo>
                      <a:pt x="6318" y="3235"/>
                    </a:lnTo>
                    <a:close/>
                  </a:path>
                </a:pathLst>
              </a:custGeom>
              <a:solidFill>
                <a:srgbClr val="fa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65680" y="3286080"/>
                <a:ext cx="2413080" cy="2511360"/>
              </a:xfrm>
              <a:custGeom>
                <a:avLst/>
                <a:gdLst/>
                <a:ahLst/>
                <a:rect l="l" t="t" r="r" b="b"/>
                <a:pathLst>
                  <a:path w="6079" h="6330">
                    <a:moveTo>
                      <a:pt x="6079" y="3124"/>
                    </a:moveTo>
                    <a:lnTo>
                      <a:pt x="6075" y="2983"/>
                    </a:lnTo>
                    <a:lnTo>
                      <a:pt x="6067" y="2842"/>
                    </a:lnTo>
                    <a:lnTo>
                      <a:pt x="6051" y="2703"/>
                    </a:lnTo>
                    <a:lnTo>
                      <a:pt x="6031" y="2566"/>
                    </a:lnTo>
                    <a:lnTo>
                      <a:pt x="6005" y="2432"/>
                    </a:lnTo>
                    <a:lnTo>
                      <a:pt x="5972" y="2299"/>
                    </a:lnTo>
                    <a:lnTo>
                      <a:pt x="5934" y="2168"/>
                    </a:lnTo>
                    <a:lnTo>
                      <a:pt x="5891" y="2041"/>
                    </a:lnTo>
                    <a:lnTo>
                      <a:pt x="5843" y="1915"/>
                    </a:lnTo>
                    <a:lnTo>
                      <a:pt x="5790" y="1791"/>
                    </a:lnTo>
                    <a:lnTo>
                      <a:pt x="5731" y="1671"/>
                    </a:lnTo>
                    <a:lnTo>
                      <a:pt x="5669" y="1554"/>
                    </a:lnTo>
                    <a:lnTo>
                      <a:pt x="5601" y="1439"/>
                    </a:lnTo>
                    <a:lnTo>
                      <a:pt x="5528" y="1328"/>
                    </a:lnTo>
                    <a:lnTo>
                      <a:pt x="5451" y="1219"/>
                    </a:lnTo>
                    <a:lnTo>
                      <a:pt x="5371" y="1115"/>
                    </a:lnTo>
                    <a:lnTo>
                      <a:pt x="5286" y="1014"/>
                    </a:lnTo>
                    <a:lnTo>
                      <a:pt x="5197" y="916"/>
                    </a:lnTo>
                    <a:lnTo>
                      <a:pt x="5103" y="822"/>
                    </a:lnTo>
                    <a:lnTo>
                      <a:pt x="5007" y="732"/>
                    </a:lnTo>
                    <a:lnTo>
                      <a:pt x="4907" y="646"/>
                    </a:lnTo>
                    <a:lnTo>
                      <a:pt x="4802" y="564"/>
                    </a:lnTo>
                    <a:lnTo>
                      <a:pt x="4695" y="486"/>
                    </a:lnTo>
                    <a:lnTo>
                      <a:pt x="4584" y="413"/>
                    </a:lnTo>
                    <a:lnTo>
                      <a:pt x="4471" y="345"/>
                    </a:lnTo>
                    <a:lnTo>
                      <a:pt x="4353" y="280"/>
                    </a:lnTo>
                    <a:lnTo>
                      <a:pt x="4233" y="221"/>
                    </a:lnTo>
                    <a:lnTo>
                      <a:pt x="4111" y="166"/>
                    </a:lnTo>
                    <a:lnTo>
                      <a:pt x="3986" y="117"/>
                    </a:lnTo>
                    <a:lnTo>
                      <a:pt x="3859" y="72"/>
                    </a:lnTo>
                    <a:lnTo>
                      <a:pt x="3728" y="34"/>
                    </a:lnTo>
                    <a:lnTo>
                      <a:pt x="3596" y="0"/>
                    </a:lnTo>
                    <a:lnTo>
                      <a:pt x="3583" y="29"/>
                    </a:lnTo>
                    <a:lnTo>
                      <a:pt x="3571" y="57"/>
                    </a:lnTo>
                    <a:lnTo>
                      <a:pt x="3558" y="85"/>
                    </a:lnTo>
                    <a:lnTo>
                      <a:pt x="3546" y="114"/>
                    </a:lnTo>
                    <a:lnTo>
                      <a:pt x="3535" y="144"/>
                    </a:lnTo>
                    <a:lnTo>
                      <a:pt x="3523" y="173"/>
                    </a:lnTo>
                    <a:lnTo>
                      <a:pt x="3511" y="202"/>
                    </a:lnTo>
                    <a:lnTo>
                      <a:pt x="3500" y="232"/>
                    </a:lnTo>
                    <a:lnTo>
                      <a:pt x="3624" y="262"/>
                    </a:lnTo>
                    <a:lnTo>
                      <a:pt x="3746" y="297"/>
                    </a:lnTo>
                    <a:lnTo>
                      <a:pt x="3865" y="336"/>
                    </a:lnTo>
                    <a:lnTo>
                      <a:pt x="3983" y="381"/>
                    </a:lnTo>
                    <a:lnTo>
                      <a:pt x="4098" y="430"/>
                    </a:lnTo>
                    <a:lnTo>
                      <a:pt x="4211" y="484"/>
                    </a:lnTo>
                    <a:lnTo>
                      <a:pt x="4320" y="543"/>
                    </a:lnTo>
                    <a:lnTo>
                      <a:pt x="4427" y="606"/>
                    </a:lnTo>
                    <a:lnTo>
                      <a:pt x="4531" y="673"/>
                    </a:lnTo>
                    <a:lnTo>
                      <a:pt x="4632" y="744"/>
                    </a:lnTo>
                    <a:lnTo>
                      <a:pt x="4729" y="820"/>
                    </a:lnTo>
                    <a:lnTo>
                      <a:pt x="4824" y="899"/>
                    </a:lnTo>
                    <a:lnTo>
                      <a:pt x="4915" y="983"/>
                    </a:lnTo>
                    <a:lnTo>
                      <a:pt x="5003" y="1069"/>
                    </a:lnTo>
                    <a:lnTo>
                      <a:pt x="5087" y="1160"/>
                    </a:lnTo>
                    <a:lnTo>
                      <a:pt x="5166" y="1254"/>
                    </a:lnTo>
                    <a:lnTo>
                      <a:pt x="5243" y="1351"/>
                    </a:lnTo>
                    <a:lnTo>
                      <a:pt x="5315" y="1452"/>
                    </a:lnTo>
                    <a:lnTo>
                      <a:pt x="5382" y="1555"/>
                    </a:lnTo>
                    <a:lnTo>
                      <a:pt x="5445" y="1662"/>
                    </a:lnTo>
                    <a:lnTo>
                      <a:pt x="5505" y="1771"/>
                    </a:lnTo>
                    <a:lnTo>
                      <a:pt x="5559" y="1883"/>
                    </a:lnTo>
                    <a:lnTo>
                      <a:pt x="5610" y="1997"/>
                    </a:lnTo>
                    <a:lnTo>
                      <a:pt x="5655" y="2114"/>
                    </a:lnTo>
                    <a:lnTo>
                      <a:pt x="5696" y="2233"/>
                    </a:lnTo>
                    <a:lnTo>
                      <a:pt x="5731" y="2355"/>
                    </a:lnTo>
                    <a:lnTo>
                      <a:pt x="5762" y="2479"/>
                    </a:lnTo>
                    <a:lnTo>
                      <a:pt x="5787" y="2605"/>
                    </a:lnTo>
                    <a:lnTo>
                      <a:pt x="5807" y="2732"/>
                    </a:lnTo>
                    <a:lnTo>
                      <a:pt x="5821" y="2862"/>
                    </a:lnTo>
                    <a:lnTo>
                      <a:pt x="5829" y="2992"/>
                    </a:lnTo>
                    <a:lnTo>
                      <a:pt x="5832" y="3124"/>
                    </a:lnTo>
                    <a:lnTo>
                      <a:pt x="5828" y="3277"/>
                    </a:lnTo>
                    <a:lnTo>
                      <a:pt x="5817" y="3427"/>
                    </a:lnTo>
                    <a:lnTo>
                      <a:pt x="5798" y="3575"/>
                    </a:lnTo>
                    <a:lnTo>
                      <a:pt x="5772" y="3720"/>
                    </a:lnTo>
                    <a:lnTo>
                      <a:pt x="5739" y="3863"/>
                    </a:lnTo>
                    <a:lnTo>
                      <a:pt x="5700" y="4004"/>
                    </a:lnTo>
                    <a:lnTo>
                      <a:pt x="5653" y="4142"/>
                    </a:lnTo>
                    <a:lnTo>
                      <a:pt x="5600" y="4276"/>
                    </a:lnTo>
                    <a:lnTo>
                      <a:pt x="5540" y="4407"/>
                    </a:lnTo>
                    <a:lnTo>
                      <a:pt x="5475" y="4535"/>
                    </a:lnTo>
                    <a:lnTo>
                      <a:pt x="5403" y="4659"/>
                    </a:lnTo>
                    <a:lnTo>
                      <a:pt x="5327" y="4779"/>
                    </a:lnTo>
                    <a:lnTo>
                      <a:pt x="5244" y="4895"/>
                    </a:lnTo>
                    <a:lnTo>
                      <a:pt x="5156" y="5007"/>
                    </a:lnTo>
                    <a:lnTo>
                      <a:pt x="5064" y="5113"/>
                    </a:lnTo>
                    <a:lnTo>
                      <a:pt x="4965" y="5216"/>
                    </a:lnTo>
                    <a:lnTo>
                      <a:pt x="4862" y="5315"/>
                    </a:lnTo>
                    <a:lnTo>
                      <a:pt x="4755" y="5407"/>
                    </a:lnTo>
                    <a:lnTo>
                      <a:pt x="4644" y="5496"/>
                    </a:lnTo>
                    <a:lnTo>
                      <a:pt x="4527" y="5578"/>
                    </a:lnTo>
                    <a:lnTo>
                      <a:pt x="4407" y="5654"/>
                    </a:lnTo>
                    <a:lnTo>
                      <a:pt x="4284" y="5726"/>
                    </a:lnTo>
                    <a:lnTo>
                      <a:pt x="4155" y="5791"/>
                    </a:lnTo>
                    <a:lnTo>
                      <a:pt x="4025" y="5851"/>
                    </a:lnTo>
                    <a:lnTo>
                      <a:pt x="3890" y="5904"/>
                    </a:lnTo>
                    <a:lnTo>
                      <a:pt x="3752" y="5951"/>
                    </a:lnTo>
                    <a:lnTo>
                      <a:pt x="3612" y="5990"/>
                    </a:lnTo>
                    <a:lnTo>
                      <a:pt x="3469" y="6024"/>
                    </a:lnTo>
                    <a:lnTo>
                      <a:pt x="3323" y="6049"/>
                    </a:lnTo>
                    <a:lnTo>
                      <a:pt x="3175" y="6068"/>
                    </a:lnTo>
                    <a:lnTo>
                      <a:pt x="3025" y="6079"/>
                    </a:lnTo>
                    <a:lnTo>
                      <a:pt x="2873" y="6084"/>
                    </a:lnTo>
                    <a:lnTo>
                      <a:pt x="2766" y="6081"/>
                    </a:lnTo>
                    <a:lnTo>
                      <a:pt x="2659" y="6075"/>
                    </a:lnTo>
                    <a:lnTo>
                      <a:pt x="2555" y="6067"/>
                    </a:lnTo>
                    <a:lnTo>
                      <a:pt x="2450" y="6054"/>
                    </a:lnTo>
                    <a:lnTo>
                      <a:pt x="2347" y="6037"/>
                    </a:lnTo>
                    <a:lnTo>
                      <a:pt x="2246" y="6017"/>
                    </a:lnTo>
                    <a:lnTo>
                      <a:pt x="2145" y="5994"/>
                    </a:lnTo>
                    <a:lnTo>
                      <a:pt x="2047" y="5966"/>
                    </a:lnTo>
                    <a:lnTo>
                      <a:pt x="1949" y="5936"/>
                    </a:lnTo>
                    <a:lnTo>
                      <a:pt x="1853" y="5903"/>
                    </a:lnTo>
                    <a:lnTo>
                      <a:pt x="1758" y="5867"/>
                    </a:lnTo>
                    <a:lnTo>
                      <a:pt x="1665" y="5827"/>
                    </a:lnTo>
                    <a:lnTo>
                      <a:pt x="1574" y="5784"/>
                    </a:lnTo>
                    <a:lnTo>
                      <a:pt x="1484" y="5738"/>
                    </a:lnTo>
                    <a:lnTo>
                      <a:pt x="1397" y="5690"/>
                    </a:lnTo>
                    <a:lnTo>
                      <a:pt x="1310" y="5639"/>
                    </a:lnTo>
                    <a:lnTo>
                      <a:pt x="1226" y="5584"/>
                    </a:lnTo>
                    <a:lnTo>
                      <a:pt x="1145" y="5527"/>
                    </a:lnTo>
                    <a:lnTo>
                      <a:pt x="1064" y="5467"/>
                    </a:lnTo>
                    <a:lnTo>
                      <a:pt x="986" y="5405"/>
                    </a:lnTo>
                    <a:lnTo>
                      <a:pt x="911" y="5340"/>
                    </a:lnTo>
                    <a:lnTo>
                      <a:pt x="837" y="5273"/>
                    </a:lnTo>
                    <a:lnTo>
                      <a:pt x="767" y="5203"/>
                    </a:lnTo>
                    <a:lnTo>
                      <a:pt x="697" y="5131"/>
                    </a:lnTo>
                    <a:lnTo>
                      <a:pt x="631" y="5057"/>
                    </a:lnTo>
                    <a:lnTo>
                      <a:pt x="567" y="4980"/>
                    </a:lnTo>
                    <a:lnTo>
                      <a:pt x="506" y="4902"/>
                    </a:lnTo>
                    <a:lnTo>
                      <a:pt x="447" y="4821"/>
                    </a:lnTo>
                    <a:lnTo>
                      <a:pt x="391" y="4738"/>
                    </a:lnTo>
                    <a:lnTo>
                      <a:pt x="338" y="4654"/>
                    </a:lnTo>
                    <a:lnTo>
                      <a:pt x="288" y="4567"/>
                    </a:lnTo>
                    <a:lnTo>
                      <a:pt x="240" y="4479"/>
                    </a:lnTo>
                    <a:lnTo>
                      <a:pt x="229" y="4482"/>
                    </a:lnTo>
                    <a:lnTo>
                      <a:pt x="218" y="4486"/>
                    </a:lnTo>
                    <a:lnTo>
                      <a:pt x="207" y="4488"/>
                    </a:lnTo>
                    <a:lnTo>
                      <a:pt x="197" y="4492"/>
                    </a:lnTo>
                    <a:lnTo>
                      <a:pt x="186" y="4495"/>
                    </a:lnTo>
                    <a:lnTo>
                      <a:pt x="175" y="4498"/>
                    </a:lnTo>
                    <a:lnTo>
                      <a:pt x="164" y="4501"/>
                    </a:lnTo>
                    <a:lnTo>
                      <a:pt x="153" y="4504"/>
                    </a:lnTo>
                    <a:lnTo>
                      <a:pt x="129" y="4510"/>
                    </a:lnTo>
                    <a:lnTo>
                      <a:pt x="107" y="4517"/>
                    </a:lnTo>
                    <a:lnTo>
                      <a:pt x="85" y="4523"/>
                    </a:lnTo>
                    <a:lnTo>
                      <a:pt x="66" y="4529"/>
                    </a:lnTo>
                    <a:lnTo>
                      <a:pt x="47" y="4534"/>
                    </a:lnTo>
                    <a:lnTo>
                      <a:pt x="30" y="4540"/>
                    </a:lnTo>
                    <a:lnTo>
                      <a:pt x="14" y="4545"/>
                    </a:lnTo>
                    <a:lnTo>
                      <a:pt x="0" y="4549"/>
                    </a:lnTo>
                    <a:lnTo>
                      <a:pt x="50" y="4648"/>
                    </a:lnTo>
                    <a:lnTo>
                      <a:pt x="104" y="4744"/>
                    </a:lnTo>
                    <a:lnTo>
                      <a:pt x="162" y="4837"/>
                    </a:lnTo>
                    <a:lnTo>
                      <a:pt x="222" y="4930"/>
                    </a:lnTo>
                    <a:lnTo>
                      <a:pt x="285" y="5019"/>
                    </a:lnTo>
                    <a:lnTo>
                      <a:pt x="351" y="5106"/>
                    </a:lnTo>
                    <a:lnTo>
                      <a:pt x="421" y="5190"/>
                    </a:lnTo>
                    <a:lnTo>
                      <a:pt x="493" y="5273"/>
                    </a:lnTo>
                    <a:lnTo>
                      <a:pt x="567" y="5353"/>
                    </a:lnTo>
                    <a:lnTo>
                      <a:pt x="645" y="5430"/>
                    </a:lnTo>
                    <a:lnTo>
                      <a:pt x="725" y="5504"/>
                    </a:lnTo>
                    <a:lnTo>
                      <a:pt x="807" y="5576"/>
                    </a:lnTo>
                    <a:lnTo>
                      <a:pt x="893" y="5646"/>
                    </a:lnTo>
                    <a:lnTo>
                      <a:pt x="980" y="5712"/>
                    </a:lnTo>
                    <a:lnTo>
                      <a:pt x="1069" y="5776"/>
                    </a:lnTo>
                    <a:lnTo>
                      <a:pt x="1161" y="5836"/>
                    </a:lnTo>
                    <a:lnTo>
                      <a:pt x="1255" y="5893"/>
                    </a:lnTo>
                    <a:lnTo>
                      <a:pt x="1351" y="5947"/>
                    </a:lnTo>
                    <a:lnTo>
                      <a:pt x="1449" y="5997"/>
                    </a:lnTo>
                    <a:lnTo>
                      <a:pt x="1549" y="6045"/>
                    </a:lnTo>
                    <a:lnTo>
                      <a:pt x="1651" y="6089"/>
                    </a:lnTo>
                    <a:lnTo>
                      <a:pt x="1754" y="6129"/>
                    </a:lnTo>
                    <a:lnTo>
                      <a:pt x="1860" y="6167"/>
                    </a:lnTo>
                    <a:lnTo>
                      <a:pt x="1967" y="6200"/>
                    </a:lnTo>
                    <a:lnTo>
                      <a:pt x="2075" y="6230"/>
                    </a:lnTo>
                    <a:lnTo>
                      <a:pt x="2185" y="6257"/>
                    </a:lnTo>
                    <a:lnTo>
                      <a:pt x="2297" y="6278"/>
                    </a:lnTo>
                    <a:lnTo>
                      <a:pt x="2409" y="6296"/>
                    </a:lnTo>
                    <a:lnTo>
                      <a:pt x="2523" y="6312"/>
                    </a:lnTo>
                    <a:lnTo>
                      <a:pt x="2639" y="6321"/>
                    </a:lnTo>
                    <a:lnTo>
                      <a:pt x="2755" y="6327"/>
                    </a:lnTo>
                    <a:lnTo>
                      <a:pt x="2873" y="6330"/>
                    </a:lnTo>
                    <a:lnTo>
                      <a:pt x="3037" y="6326"/>
                    </a:lnTo>
                    <a:lnTo>
                      <a:pt x="3200" y="6313"/>
                    </a:lnTo>
                    <a:lnTo>
                      <a:pt x="3361" y="6293"/>
                    </a:lnTo>
                    <a:lnTo>
                      <a:pt x="3518" y="6265"/>
                    </a:lnTo>
                    <a:lnTo>
                      <a:pt x="3674" y="6229"/>
                    </a:lnTo>
                    <a:lnTo>
                      <a:pt x="3825" y="6186"/>
                    </a:lnTo>
                    <a:lnTo>
                      <a:pt x="3975" y="6135"/>
                    </a:lnTo>
                    <a:lnTo>
                      <a:pt x="4121" y="6078"/>
                    </a:lnTo>
                    <a:lnTo>
                      <a:pt x="4262" y="6014"/>
                    </a:lnTo>
                    <a:lnTo>
                      <a:pt x="4400" y="5943"/>
                    </a:lnTo>
                    <a:lnTo>
                      <a:pt x="4535" y="5865"/>
                    </a:lnTo>
                    <a:lnTo>
                      <a:pt x="4665" y="5783"/>
                    </a:lnTo>
                    <a:lnTo>
                      <a:pt x="4791" y="5693"/>
                    </a:lnTo>
                    <a:lnTo>
                      <a:pt x="4913" y="5598"/>
                    </a:lnTo>
                    <a:lnTo>
                      <a:pt x="5028" y="5497"/>
                    </a:lnTo>
                    <a:lnTo>
                      <a:pt x="5139" y="5390"/>
                    </a:lnTo>
                    <a:lnTo>
                      <a:pt x="5246" y="5280"/>
                    </a:lnTo>
                    <a:lnTo>
                      <a:pt x="5347" y="5164"/>
                    </a:lnTo>
                    <a:lnTo>
                      <a:pt x="5442" y="5043"/>
                    </a:lnTo>
                    <a:lnTo>
                      <a:pt x="5532" y="4917"/>
                    </a:lnTo>
                    <a:lnTo>
                      <a:pt x="5615" y="4787"/>
                    </a:lnTo>
                    <a:lnTo>
                      <a:pt x="5691" y="4653"/>
                    </a:lnTo>
                    <a:lnTo>
                      <a:pt x="5762" y="4513"/>
                    </a:lnTo>
                    <a:lnTo>
                      <a:pt x="5827" y="4372"/>
                    </a:lnTo>
                    <a:lnTo>
                      <a:pt x="5885" y="4227"/>
                    </a:lnTo>
                    <a:lnTo>
                      <a:pt x="5935" y="4078"/>
                    </a:lnTo>
                    <a:lnTo>
                      <a:pt x="5978" y="3926"/>
                    </a:lnTo>
                    <a:lnTo>
                      <a:pt x="6014" y="3770"/>
                    </a:lnTo>
                    <a:lnTo>
                      <a:pt x="6042" y="3613"/>
                    </a:lnTo>
                    <a:lnTo>
                      <a:pt x="6062" y="3452"/>
                    </a:lnTo>
                    <a:lnTo>
                      <a:pt x="6075" y="3289"/>
                    </a:lnTo>
                    <a:lnTo>
                      <a:pt x="6079" y="3124"/>
                    </a:lnTo>
                    <a:close/>
                  </a:path>
                </a:pathLst>
              </a:custGeom>
              <a:solidFill>
                <a:srgbClr val="fa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13200" y="3330720"/>
                <a:ext cx="2316240" cy="2417760"/>
              </a:xfrm>
              <a:custGeom>
                <a:avLst/>
                <a:gdLst/>
                <a:ahLst/>
                <a:rect l="l" t="t" r="r" b="b"/>
                <a:pathLst>
                  <a:path w="5835" h="6091">
                    <a:moveTo>
                      <a:pt x="5835" y="3009"/>
                    </a:moveTo>
                    <a:lnTo>
                      <a:pt x="5833" y="2872"/>
                    </a:lnTo>
                    <a:lnTo>
                      <a:pt x="5823" y="2736"/>
                    </a:lnTo>
                    <a:lnTo>
                      <a:pt x="5809" y="2603"/>
                    </a:lnTo>
                    <a:lnTo>
                      <a:pt x="5789" y="2471"/>
                    </a:lnTo>
                    <a:lnTo>
                      <a:pt x="5762" y="2340"/>
                    </a:lnTo>
                    <a:lnTo>
                      <a:pt x="5731" y="2211"/>
                    </a:lnTo>
                    <a:lnTo>
                      <a:pt x="5695" y="2085"/>
                    </a:lnTo>
                    <a:lnTo>
                      <a:pt x="5653" y="1962"/>
                    </a:lnTo>
                    <a:lnTo>
                      <a:pt x="5606" y="1841"/>
                    </a:lnTo>
                    <a:lnTo>
                      <a:pt x="5555" y="1722"/>
                    </a:lnTo>
                    <a:lnTo>
                      <a:pt x="5498" y="1606"/>
                    </a:lnTo>
                    <a:lnTo>
                      <a:pt x="5437" y="1492"/>
                    </a:lnTo>
                    <a:lnTo>
                      <a:pt x="5371" y="1381"/>
                    </a:lnTo>
                    <a:lnTo>
                      <a:pt x="5301" y="1273"/>
                    </a:lnTo>
                    <a:lnTo>
                      <a:pt x="5227" y="1169"/>
                    </a:lnTo>
                    <a:lnTo>
                      <a:pt x="5148" y="1068"/>
                    </a:lnTo>
                    <a:lnTo>
                      <a:pt x="5065" y="971"/>
                    </a:lnTo>
                    <a:lnTo>
                      <a:pt x="4979" y="876"/>
                    </a:lnTo>
                    <a:lnTo>
                      <a:pt x="4889" y="786"/>
                    </a:lnTo>
                    <a:lnTo>
                      <a:pt x="4794" y="700"/>
                    </a:lnTo>
                    <a:lnTo>
                      <a:pt x="4697" y="617"/>
                    </a:lnTo>
                    <a:lnTo>
                      <a:pt x="4596" y="538"/>
                    </a:lnTo>
                    <a:lnTo>
                      <a:pt x="4491" y="464"/>
                    </a:lnTo>
                    <a:lnTo>
                      <a:pt x="4385" y="394"/>
                    </a:lnTo>
                    <a:lnTo>
                      <a:pt x="4274" y="328"/>
                    </a:lnTo>
                    <a:lnTo>
                      <a:pt x="4160" y="267"/>
                    </a:lnTo>
                    <a:lnTo>
                      <a:pt x="4044" y="209"/>
                    </a:lnTo>
                    <a:lnTo>
                      <a:pt x="3925" y="158"/>
                    </a:lnTo>
                    <a:lnTo>
                      <a:pt x="3804" y="111"/>
                    </a:lnTo>
                    <a:lnTo>
                      <a:pt x="3680" y="69"/>
                    </a:lnTo>
                    <a:lnTo>
                      <a:pt x="3554" y="32"/>
                    </a:lnTo>
                    <a:lnTo>
                      <a:pt x="3426" y="0"/>
                    </a:lnTo>
                    <a:lnTo>
                      <a:pt x="3414" y="29"/>
                    </a:lnTo>
                    <a:lnTo>
                      <a:pt x="3403" y="58"/>
                    </a:lnTo>
                    <a:lnTo>
                      <a:pt x="3391" y="88"/>
                    </a:lnTo>
                    <a:lnTo>
                      <a:pt x="3380" y="117"/>
                    </a:lnTo>
                    <a:lnTo>
                      <a:pt x="3368" y="146"/>
                    </a:lnTo>
                    <a:lnTo>
                      <a:pt x="3356" y="174"/>
                    </a:lnTo>
                    <a:lnTo>
                      <a:pt x="3344" y="203"/>
                    </a:lnTo>
                    <a:lnTo>
                      <a:pt x="3332" y="232"/>
                    </a:lnTo>
                    <a:lnTo>
                      <a:pt x="3452" y="260"/>
                    </a:lnTo>
                    <a:lnTo>
                      <a:pt x="3570" y="293"/>
                    </a:lnTo>
                    <a:lnTo>
                      <a:pt x="3685" y="330"/>
                    </a:lnTo>
                    <a:lnTo>
                      <a:pt x="3799" y="372"/>
                    </a:lnTo>
                    <a:lnTo>
                      <a:pt x="3911" y="419"/>
                    </a:lnTo>
                    <a:lnTo>
                      <a:pt x="4019" y="471"/>
                    </a:lnTo>
                    <a:lnTo>
                      <a:pt x="4125" y="527"/>
                    </a:lnTo>
                    <a:lnTo>
                      <a:pt x="4229" y="587"/>
                    </a:lnTo>
                    <a:lnTo>
                      <a:pt x="4329" y="652"/>
                    </a:lnTo>
                    <a:lnTo>
                      <a:pt x="4427" y="720"/>
                    </a:lnTo>
                    <a:lnTo>
                      <a:pt x="4521" y="792"/>
                    </a:lnTo>
                    <a:lnTo>
                      <a:pt x="4613" y="868"/>
                    </a:lnTo>
                    <a:lnTo>
                      <a:pt x="4700" y="948"/>
                    </a:lnTo>
                    <a:lnTo>
                      <a:pt x="4785" y="1031"/>
                    </a:lnTo>
                    <a:lnTo>
                      <a:pt x="4866" y="1119"/>
                    </a:lnTo>
                    <a:lnTo>
                      <a:pt x="4944" y="1209"/>
                    </a:lnTo>
                    <a:lnTo>
                      <a:pt x="5017" y="1302"/>
                    </a:lnTo>
                    <a:lnTo>
                      <a:pt x="5088" y="1398"/>
                    </a:lnTo>
                    <a:lnTo>
                      <a:pt x="5153" y="1498"/>
                    </a:lnTo>
                    <a:lnTo>
                      <a:pt x="5215" y="1600"/>
                    </a:lnTo>
                    <a:lnTo>
                      <a:pt x="5273" y="1705"/>
                    </a:lnTo>
                    <a:lnTo>
                      <a:pt x="5325" y="1813"/>
                    </a:lnTo>
                    <a:lnTo>
                      <a:pt x="5373" y="1924"/>
                    </a:lnTo>
                    <a:lnTo>
                      <a:pt x="5418" y="2036"/>
                    </a:lnTo>
                    <a:lnTo>
                      <a:pt x="5456" y="2151"/>
                    </a:lnTo>
                    <a:lnTo>
                      <a:pt x="5491" y="2268"/>
                    </a:lnTo>
                    <a:lnTo>
                      <a:pt x="5521" y="2387"/>
                    </a:lnTo>
                    <a:lnTo>
                      <a:pt x="5545" y="2508"/>
                    </a:lnTo>
                    <a:lnTo>
                      <a:pt x="5564" y="2631"/>
                    </a:lnTo>
                    <a:lnTo>
                      <a:pt x="5577" y="2756"/>
                    </a:lnTo>
                    <a:lnTo>
                      <a:pt x="5586" y="2882"/>
                    </a:lnTo>
                    <a:lnTo>
                      <a:pt x="5589" y="3009"/>
                    </a:lnTo>
                    <a:lnTo>
                      <a:pt x="5586" y="3156"/>
                    </a:lnTo>
                    <a:lnTo>
                      <a:pt x="5574" y="3300"/>
                    </a:lnTo>
                    <a:lnTo>
                      <a:pt x="5556" y="3441"/>
                    </a:lnTo>
                    <a:lnTo>
                      <a:pt x="5532" y="3580"/>
                    </a:lnTo>
                    <a:lnTo>
                      <a:pt x="5499" y="3718"/>
                    </a:lnTo>
                    <a:lnTo>
                      <a:pt x="5461" y="3853"/>
                    </a:lnTo>
                    <a:lnTo>
                      <a:pt x="5417" y="3985"/>
                    </a:lnTo>
                    <a:lnTo>
                      <a:pt x="5366" y="4113"/>
                    </a:lnTo>
                    <a:lnTo>
                      <a:pt x="5310" y="4239"/>
                    </a:lnTo>
                    <a:lnTo>
                      <a:pt x="5246" y="4361"/>
                    </a:lnTo>
                    <a:lnTo>
                      <a:pt x="5178" y="4480"/>
                    </a:lnTo>
                    <a:lnTo>
                      <a:pt x="5105" y="4595"/>
                    </a:lnTo>
                    <a:lnTo>
                      <a:pt x="5025" y="4706"/>
                    </a:lnTo>
                    <a:lnTo>
                      <a:pt x="4941" y="4814"/>
                    </a:lnTo>
                    <a:lnTo>
                      <a:pt x="4853" y="4916"/>
                    </a:lnTo>
                    <a:lnTo>
                      <a:pt x="4758" y="5014"/>
                    </a:lnTo>
                    <a:lnTo>
                      <a:pt x="4659" y="5109"/>
                    </a:lnTo>
                    <a:lnTo>
                      <a:pt x="4556" y="5197"/>
                    </a:lnTo>
                    <a:lnTo>
                      <a:pt x="4449" y="5281"/>
                    </a:lnTo>
                    <a:lnTo>
                      <a:pt x="4338" y="5361"/>
                    </a:lnTo>
                    <a:lnTo>
                      <a:pt x="4224" y="5435"/>
                    </a:lnTo>
                    <a:lnTo>
                      <a:pt x="4105" y="5503"/>
                    </a:lnTo>
                    <a:lnTo>
                      <a:pt x="3983" y="5566"/>
                    </a:lnTo>
                    <a:lnTo>
                      <a:pt x="3857" y="5622"/>
                    </a:lnTo>
                    <a:lnTo>
                      <a:pt x="3728" y="5673"/>
                    </a:lnTo>
                    <a:lnTo>
                      <a:pt x="3596" y="5718"/>
                    </a:lnTo>
                    <a:lnTo>
                      <a:pt x="3462" y="5755"/>
                    </a:lnTo>
                    <a:lnTo>
                      <a:pt x="3324" y="5788"/>
                    </a:lnTo>
                    <a:lnTo>
                      <a:pt x="3185" y="5813"/>
                    </a:lnTo>
                    <a:lnTo>
                      <a:pt x="3042" y="5831"/>
                    </a:lnTo>
                    <a:lnTo>
                      <a:pt x="2898" y="5842"/>
                    </a:lnTo>
                    <a:lnTo>
                      <a:pt x="2753" y="5845"/>
                    </a:lnTo>
                    <a:lnTo>
                      <a:pt x="2651" y="5843"/>
                    </a:lnTo>
                    <a:lnTo>
                      <a:pt x="2549" y="5838"/>
                    </a:lnTo>
                    <a:lnTo>
                      <a:pt x="2449" y="5828"/>
                    </a:lnTo>
                    <a:lnTo>
                      <a:pt x="2349" y="5816"/>
                    </a:lnTo>
                    <a:lnTo>
                      <a:pt x="2252" y="5801"/>
                    </a:lnTo>
                    <a:lnTo>
                      <a:pt x="2155" y="5782"/>
                    </a:lnTo>
                    <a:lnTo>
                      <a:pt x="2059" y="5760"/>
                    </a:lnTo>
                    <a:lnTo>
                      <a:pt x="1965" y="5735"/>
                    </a:lnTo>
                    <a:lnTo>
                      <a:pt x="1872" y="5706"/>
                    </a:lnTo>
                    <a:lnTo>
                      <a:pt x="1781" y="5674"/>
                    </a:lnTo>
                    <a:lnTo>
                      <a:pt x="1689" y="5639"/>
                    </a:lnTo>
                    <a:lnTo>
                      <a:pt x="1601" y="5602"/>
                    </a:lnTo>
                    <a:lnTo>
                      <a:pt x="1514" y="5561"/>
                    </a:lnTo>
                    <a:lnTo>
                      <a:pt x="1429" y="5518"/>
                    </a:lnTo>
                    <a:lnTo>
                      <a:pt x="1345" y="5472"/>
                    </a:lnTo>
                    <a:lnTo>
                      <a:pt x="1262" y="5423"/>
                    </a:lnTo>
                    <a:lnTo>
                      <a:pt x="1182" y="5371"/>
                    </a:lnTo>
                    <a:lnTo>
                      <a:pt x="1104" y="5317"/>
                    </a:lnTo>
                    <a:lnTo>
                      <a:pt x="1027" y="5261"/>
                    </a:lnTo>
                    <a:lnTo>
                      <a:pt x="953" y="5201"/>
                    </a:lnTo>
                    <a:lnTo>
                      <a:pt x="881" y="5140"/>
                    </a:lnTo>
                    <a:lnTo>
                      <a:pt x="810" y="5076"/>
                    </a:lnTo>
                    <a:lnTo>
                      <a:pt x="743" y="5010"/>
                    </a:lnTo>
                    <a:lnTo>
                      <a:pt x="677" y="4942"/>
                    </a:lnTo>
                    <a:lnTo>
                      <a:pt x="613" y="4871"/>
                    </a:lnTo>
                    <a:lnTo>
                      <a:pt x="552" y="4798"/>
                    </a:lnTo>
                    <a:lnTo>
                      <a:pt x="493" y="4724"/>
                    </a:lnTo>
                    <a:lnTo>
                      <a:pt x="437" y="4647"/>
                    </a:lnTo>
                    <a:lnTo>
                      <a:pt x="383" y="4568"/>
                    </a:lnTo>
                    <a:lnTo>
                      <a:pt x="331" y="4487"/>
                    </a:lnTo>
                    <a:lnTo>
                      <a:pt x="283" y="4406"/>
                    </a:lnTo>
                    <a:lnTo>
                      <a:pt x="237" y="4322"/>
                    </a:lnTo>
                    <a:lnTo>
                      <a:pt x="212" y="4331"/>
                    </a:lnTo>
                    <a:lnTo>
                      <a:pt x="186" y="4341"/>
                    </a:lnTo>
                    <a:lnTo>
                      <a:pt x="161" y="4349"/>
                    </a:lnTo>
                    <a:lnTo>
                      <a:pt x="135" y="4359"/>
                    </a:lnTo>
                    <a:lnTo>
                      <a:pt x="110" y="4367"/>
                    </a:lnTo>
                    <a:lnTo>
                      <a:pt x="85" y="4374"/>
                    </a:lnTo>
                    <a:lnTo>
                      <a:pt x="59" y="4382"/>
                    </a:lnTo>
                    <a:lnTo>
                      <a:pt x="33" y="4389"/>
                    </a:lnTo>
                    <a:lnTo>
                      <a:pt x="29" y="4390"/>
                    </a:lnTo>
                    <a:lnTo>
                      <a:pt x="25" y="4391"/>
                    </a:lnTo>
                    <a:lnTo>
                      <a:pt x="20" y="4392"/>
                    </a:lnTo>
                    <a:lnTo>
                      <a:pt x="15" y="4394"/>
                    </a:lnTo>
                    <a:lnTo>
                      <a:pt x="12" y="4395"/>
                    </a:lnTo>
                    <a:lnTo>
                      <a:pt x="7" y="4396"/>
                    </a:lnTo>
                    <a:lnTo>
                      <a:pt x="3" y="4397"/>
                    </a:lnTo>
                    <a:lnTo>
                      <a:pt x="0" y="4398"/>
                    </a:lnTo>
                    <a:lnTo>
                      <a:pt x="49" y="4491"/>
                    </a:lnTo>
                    <a:lnTo>
                      <a:pt x="101" y="4583"/>
                    </a:lnTo>
                    <a:lnTo>
                      <a:pt x="156" y="4672"/>
                    </a:lnTo>
                    <a:lnTo>
                      <a:pt x="215" y="4760"/>
                    </a:lnTo>
                    <a:lnTo>
                      <a:pt x="275" y="4845"/>
                    </a:lnTo>
                    <a:lnTo>
                      <a:pt x="339" y="4928"/>
                    </a:lnTo>
                    <a:lnTo>
                      <a:pt x="405" y="5008"/>
                    </a:lnTo>
                    <a:lnTo>
                      <a:pt x="475" y="5087"/>
                    </a:lnTo>
                    <a:lnTo>
                      <a:pt x="546" y="5163"/>
                    </a:lnTo>
                    <a:lnTo>
                      <a:pt x="620" y="5236"/>
                    </a:lnTo>
                    <a:lnTo>
                      <a:pt x="697" y="5307"/>
                    </a:lnTo>
                    <a:lnTo>
                      <a:pt x="776" y="5375"/>
                    </a:lnTo>
                    <a:lnTo>
                      <a:pt x="858" y="5441"/>
                    </a:lnTo>
                    <a:lnTo>
                      <a:pt x="942" y="5505"/>
                    </a:lnTo>
                    <a:lnTo>
                      <a:pt x="1027" y="5565"/>
                    </a:lnTo>
                    <a:lnTo>
                      <a:pt x="1116" y="5622"/>
                    </a:lnTo>
                    <a:lnTo>
                      <a:pt x="1206" y="5676"/>
                    </a:lnTo>
                    <a:lnTo>
                      <a:pt x="1297" y="5728"/>
                    </a:lnTo>
                    <a:lnTo>
                      <a:pt x="1391" y="5776"/>
                    </a:lnTo>
                    <a:lnTo>
                      <a:pt x="1487" y="5821"/>
                    </a:lnTo>
                    <a:lnTo>
                      <a:pt x="1584" y="5862"/>
                    </a:lnTo>
                    <a:lnTo>
                      <a:pt x="1683" y="5902"/>
                    </a:lnTo>
                    <a:lnTo>
                      <a:pt x="1784" y="5936"/>
                    </a:lnTo>
                    <a:lnTo>
                      <a:pt x="1886" y="5969"/>
                    </a:lnTo>
                    <a:lnTo>
                      <a:pt x="1989" y="5996"/>
                    </a:lnTo>
                    <a:lnTo>
                      <a:pt x="2095" y="6022"/>
                    </a:lnTo>
                    <a:lnTo>
                      <a:pt x="2202" y="6043"/>
                    </a:lnTo>
                    <a:lnTo>
                      <a:pt x="2310" y="6060"/>
                    </a:lnTo>
                    <a:lnTo>
                      <a:pt x="2419" y="6074"/>
                    </a:lnTo>
                    <a:lnTo>
                      <a:pt x="2528" y="6084"/>
                    </a:lnTo>
                    <a:lnTo>
                      <a:pt x="2640" y="6090"/>
                    </a:lnTo>
                    <a:lnTo>
                      <a:pt x="2753" y="6091"/>
                    </a:lnTo>
                    <a:lnTo>
                      <a:pt x="2911" y="6088"/>
                    </a:lnTo>
                    <a:lnTo>
                      <a:pt x="3067" y="6076"/>
                    </a:lnTo>
                    <a:lnTo>
                      <a:pt x="3222" y="6056"/>
                    </a:lnTo>
                    <a:lnTo>
                      <a:pt x="3374" y="6029"/>
                    </a:lnTo>
                    <a:lnTo>
                      <a:pt x="3523" y="5995"/>
                    </a:lnTo>
                    <a:lnTo>
                      <a:pt x="3669" y="5953"/>
                    </a:lnTo>
                    <a:lnTo>
                      <a:pt x="3812" y="5904"/>
                    </a:lnTo>
                    <a:lnTo>
                      <a:pt x="3953" y="5849"/>
                    </a:lnTo>
                    <a:lnTo>
                      <a:pt x="4089" y="5788"/>
                    </a:lnTo>
                    <a:lnTo>
                      <a:pt x="4223" y="5719"/>
                    </a:lnTo>
                    <a:lnTo>
                      <a:pt x="4351" y="5645"/>
                    </a:lnTo>
                    <a:lnTo>
                      <a:pt x="4476" y="5566"/>
                    </a:lnTo>
                    <a:lnTo>
                      <a:pt x="4597" y="5479"/>
                    </a:lnTo>
                    <a:lnTo>
                      <a:pt x="4713" y="5388"/>
                    </a:lnTo>
                    <a:lnTo>
                      <a:pt x="4825" y="5291"/>
                    </a:lnTo>
                    <a:lnTo>
                      <a:pt x="4933" y="5189"/>
                    </a:lnTo>
                    <a:lnTo>
                      <a:pt x="5035" y="5082"/>
                    </a:lnTo>
                    <a:lnTo>
                      <a:pt x="5131" y="4970"/>
                    </a:lnTo>
                    <a:lnTo>
                      <a:pt x="5223" y="4853"/>
                    </a:lnTo>
                    <a:lnTo>
                      <a:pt x="5309" y="4732"/>
                    </a:lnTo>
                    <a:lnTo>
                      <a:pt x="5389" y="4607"/>
                    </a:lnTo>
                    <a:lnTo>
                      <a:pt x="5463" y="4479"/>
                    </a:lnTo>
                    <a:lnTo>
                      <a:pt x="5532" y="4346"/>
                    </a:lnTo>
                    <a:lnTo>
                      <a:pt x="5593" y="4209"/>
                    </a:lnTo>
                    <a:lnTo>
                      <a:pt x="5648" y="4069"/>
                    </a:lnTo>
                    <a:lnTo>
                      <a:pt x="5697" y="3926"/>
                    </a:lnTo>
                    <a:lnTo>
                      <a:pt x="5738" y="3779"/>
                    </a:lnTo>
                    <a:lnTo>
                      <a:pt x="5773" y="3631"/>
                    </a:lnTo>
                    <a:lnTo>
                      <a:pt x="5801" y="3478"/>
                    </a:lnTo>
                    <a:lnTo>
                      <a:pt x="5820" y="3325"/>
                    </a:lnTo>
                    <a:lnTo>
                      <a:pt x="5832" y="3168"/>
                    </a:lnTo>
                    <a:lnTo>
                      <a:pt x="5835" y="3009"/>
                    </a:lnTo>
                    <a:close/>
                  </a:path>
                </a:pathLst>
              </a:custGeom>
              <a:solidFill>
                <a:srgbClr val="fbe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60720" y="3376440"/>
                <a:ext cx="2219400" cy="2322720"/>
              </a:xfrm>
              <a:custGeom>
                <a:avLst/>
                <a:gdLst/>
                <a:ahLst/>
                <a:rect l="l" t="t" r="r" b="b"/>
                <a:pathLst>
                  <a:path w="5592" h="5852">
                    <a:moveTo>
                      <a:pt x="5592" y="2892"/>
                    </a:moveTo>
                    <a:lnTo>
                      <a:pt x="5589" y="2760"/>
                    </a:lnTo>
                    <a:lnTo>
                      <a:pt x="5581" y="2630"/>
                    </a:lnTo>
                    <a:lnTo>
                      <a:pt x="5567" y="2500"/>
                    </a:lnTo>
                    <a:lnTo>
                      <a:pt x="5547" y="2373"/>
                    </a:lnTo>
                    <a:lnTo>
                      <a:pt x="5522" y="2247"/>
                    </a:lnTo>
                    <a:lnTo>
                      <a:pt x="5491" y="2123"/>
                    </a:lnTo>
                    <a:lnTo>
                      <a:pt x="5456" y="2001"/>
                    </a:lnTo>
                    <a:lnTo>
                      <a:pt x="5415" y="1882"/>
                    </a:lnTo>
                    <a:lnTo>
                      <a:pt x="5370" y="1765"/>
                    </a:lnTo>
                    <a:lnTo>
                      <a:pt x="5319" y="1651"/>
                    </a:lnTo>
                    <a:lnTo>
                      <a:pt x="5265" y="1539"/>
                    </a:lnTo>
                    <a:lnTo>
                      <a:pt x="5205" y="1430"/>
                    </a:lnTo>
                    <a:lnTo>
                      <a:pt x="5142" y="1323"/>
                    </a:lnTo>
                    <a:lnTo>
                      <a:pt x="5075" y="1220"/>
                    </a:lnTo>
                    <a:lnTo>
                      <a:pt x="5003" y="1119"/>
                    </a:lnTo>
                    <a:lnTo>
                      <a:pt x="4926" y="1022"/>
                    </a:lnTo>
                    <a:lnTo>
                      <a:pt x="4847" y="928"/>
                    </a:lnTo>
                    <a:lnTo>
                      <a:pt x="4763" y="837"/>
                    </a:lnTo>
                    <a:lnTo>
                      <a:pt x="4675" y="751"/>
                    </a:lnTo>
                    <a:lnTo>
                      <a:pt x="4584" y="667"/>
                    </a:lnTo>
                    <a:lnTo>
                      <a:pt x="4489" y="588"/>
                    </a:lnTo>
                    <a:lnTo>
                      <a:pt x="4392" y="512"/>
                    </a:lnTo>
                    <a:lnTo>
                      <a:pt x="4291" y="441"/>
                    </a:lnTo>
                    <a:lnTo>
                      <a:pt x="4187" y="374"/>
                    </a:lnTo>
                    <a:lnTo>
                      <a:pt x="4080" y="311"/>
                    </a:lnTo>
                    <a:lnTo>
                      <a:pt x="3971" y="252"/>
                    </a:lnTo>
                    <a:lnTo>
                      <a:pt x="3858" y="198"/>
                    </a:lnTo>
                    <a:lnTo>
                      <a:pt x="3743" y="149"/>
                    </a:lnTo>
                    <a:lnTo>
                      <a:pt x="3625" y="104"/>
                    </a:lnTo>
                    <a:lnTo>
                      <a:pt x="3506" y="65"/>
                    </a:lnTo>
                    <a:lnTo>
                      <a:pt x="3384" y="30"/>
                    </a:lnTo>
                    <a:lnTo>
                      <a:pt x="3260" y="0"/>
                    </a:lnTo>
                    <a:lnTo>
                      <a:pt x="3254" y="15"/>
                    </a:lnTo>
                    <a:lnTo>
                      <a:pt x="3248" y="31"/>
                    </a:lnTo>
                    <a:lnTo>
                      <a:pt x="3241" y="45"/>
                    </a:lnTo>
                    <a:lnTo>
                      <a:pt x="3235" y="61"/>
                    </a:lnTo>
                    <a:lnTo>
                      <a:pt x="3229" y="77"/>
                    </a:lnTo>
                    <a:lnTo>
                      <a:pt x="3223" y="91"/>
                    </a:lnTo>
                    <a:lnTo>
                      <a:pt x="3216" y="107"/>
                    </a:lnTo>
                    <a:lnTo>
                      <a:pt x="3210" y="122"/>
                    </a:lnTo>
                    <a:lnTo>
                      <a:pt x="3203" y="135"/>
                    </a:lnTo>
                    <a:lnTo>
                      <a:pt x="3198" y="150"/>
                    </a:lnTo>
                    <a:lnTo>
                      <a:pt x="3192" y="163"/>
                    </a:lnTo>
                    <a:lnTo>
                      <a:pt x="3186" y="176"/>
                    </a:lnTo>
                    <a:lnTo>
                      <a:pt x="3180" y="191"/>
                    </a:lnTo>
                    <a:lnTo>
                      <a:pt x="3175" y="204"/>
                    </a:lnTo>
                    <a:lnTo>
                      <a:pt x="3169" y="218"/>
                    </a:lnTo>
                    <a:lnTo>
                      <a:pt x="3164" y="231"/>
                    </a:lnTo>
                    <a:lnTo>
                      <a:pt x="3281" y="258"/>
                    </a:lnTo>
                    <a:lnTo>
                      <a:pt x="3393" y="288"/>
                    </a:lnTo>
                    <a:lnTo>
                      <a:pt x="3505" y="324"/>
                    </a:lnTo>
                    <a:lnTo>
                      <a:pt x="3615" y="363"/>
                    </a:lnTo>
                    <a:lnTo>
                      <a:pt x="3722" y="408"/>
                    </a:lnTo>
                    <a:lnTo>
                      <a:pt x="3828" y="457"/>
                    </a:lnTo>
                    <a:lnTo>
                      <a:pt x="3930" y="510"/>
                    </a:lnTo>
                    <a:lnTo>
                      <a:pt x="4029" y="567"/>
                    </a:lnTo>
                    <a:lnTo>
                      <a:pt x="4127" y="628"/>
                    </a:lnTo>
                    <a:lnTo>
                      <a:pt x="4221" y="693"/>
                    </a:lnTo>
                    <a:lnTo>
                      <a:pt x="4313" y="763"/>
                    </a:lnTo>
                    <a:lnTo>
                      <a:pt x="4401" y="835"/>
                    </a:lnTo>
                    <a:lnTo>
                      <a:pt x="4487" y="912"/>
                    </a:lnTo>
                    <a:lnTo>
                      <a:pt x="4568" y="992"/>
                    </a:lnTo>
                    <a:lnTo>
                      <a:pt x="4646" y="1075"/>
                    </a:lnTo>
                    <a:lnTo>
                      <a:pt x="4722" y="1161"/>
                    </a:lnTo>
                    <a:lnTo>
                      <a:pt x="4793" y="1251"/>
                    </a:lnTo>
                    <a:lnTo>
                      <a:pt x="4860" y="1343"/>
                    </a:lnTo>
                    <a:lnTo>
                      <a:pt x="4923" y="1439"/>
                    </a:lnTo>
                    <a:lnTo>
                      <a:pt x="4983" y="1538"/>
                    </a:lnTo>
                    <a:lnTo>
                      <a:pt x="5039" y="1639"/>
                    </a:lnTo>
                    <a:lnTo>
                      <a:pt x="5090" y="1742"/>
                    </a:lnTo>
                    <a:lnTo>
                      <a:pt x="5137" y="1847"/>
                    </a:lnTo>
                    <a:lnTo>
                      <a:pt x="5180" y="1956"/>
                    </a:lnTo>
                    <a:lnTo>
                      <a:pt x="5217" y="2067"/>
                    </a:lnTo>
                    <a:lnTo>
                      <a:pt x="5251" y="2180"/>
                    </a:lnTo>
                    <a:lnTo>
                      <a:pt x="5280" y="2294"/>
                    </a:lnTo>
                    <a:lnTo>
                      <a:pt x="5303" y="2410"/>
                    </a:lnTo>
                    <a:lnTo>
                      <a:pt x="5322" y="2529"/>
                    </a:lnTo>
                    <a:lnTo>
                      <a:pt x="5335" y="2649"/>
                    </a:lnTo>
                    <a:lnTo>
                      <a:pt x="5343" y="2770"/>
                    </a:lnTo>
                    <a:lnTo>
                      <a:pt x="5346" y="2892"/>
                    </a:lnTo>
                    <a:lnTo>
                      <a:pt x="5342" y="3031"/>
                    </a:lnTo>
                    <a:lnTo>
                      <a:pt x="5331" y="3169"/>
                    </a:lnTo>
                    <a:lnTo>
                      <a:pt x="5315" y="3305"/>
                    </a:lnTo>
                    <a:lnTo>
                      <a:pt x="5291" y="3439"/>
                    </a:lnTo>
                    <a:lnTo>
                      <a:pt x="5261" y="3570"/>
                    </a:lnTo>
                    <a:lnTo>
                      <a:pt x="5223" y="3698"/>
                    </a:lnTo>
                    <a:lnTo>
                      <a:pt x="5181" y="3824"/>
                    </a:lnTo>
                    <a:lnTo>
                      <a:pt x="5132" y="3948"/>
                    </a:lnTo>
                    <a:lnTo>
                      <a:pt x="5078" y="4068"/>
                    </a:lnTo>
                    <a:lnTo>
                      <a:pt x="5018" y="4185"/>
                    </a:lnTo>
                    <a:lnTo>
                      <a:pt x="4953" y="4298"/>
                    </a:lnTo>
                    <a:lnTo>
                      <a:pt x="4883" y="4409"/>
                    </a:lnTo>
                    <a:lnTo>
                      <a:pt x="4807" y="4515"/>
                    </a:lnTo>
                    <a:lnTo>
                      <a:pt x="4727" y="4617"/>
                    </a:lnTo>
                    <a:lnTo>
                      <a:pt x="4640" y="4716"/>
                    </a:lnTo>
                    <a:lnTo>
                      <a:pt x="4551" y="4811"/>
                    </a:lnTo>
                    <a:lnTo>
                      <a:pt x="4457" y="4900"/>
                    </a:lnTo>
                    <a:lnTo>
                      <a:pt x="4358" y="4986"/>
                    </a:lnTo>
                    <a:lnTo>
                      <a:pt x="4256" y="5066"/>
                    </a:lnTo>
                    <a:lnTo>
                      <a:pt x="4149" y="5142"/>
                    </a:lnTo>
                    <a:lnTo>
                      <a:pt x="4039" y="5212"/>
                    </a:lnTo>
                    <a:lnTo>
                      <a:pt x="3926" y="5277"/>
                    </a:lnTo>
                    <a:lnTo>
                      <a:pt x="3809" y="5337"/>
                    </a:lnTo>
                    <a:lnTo>
                      <a:pt x="3689" y="5391"/>
                    </a:lnTo>
                    <a:lnTo>
                      <a:pt x="3565" y="5440"/>
                    </a:lnTo>
                    <a:lnTo>
                      <a:pt x="3439" y="5482"/>
                    </a:lnTo>
                    <a:lnTo>
                      <a:pt x="3311" y="5520"/>
                    </a:lnTo>
                    <a:lnTo>
                      <a:pt x="3179" y="5550"/>
                    </a:lnTo>
                    <a:lnTo>
                      <a:pt x="3045" y="5574"/>
                    </a:lnTo>
                    <a:lnTo>
                      <a:pt x="2910" y="5590"/>
                    </a:lnTo>
                    <a:lnTo>
                      <a:pt x="2772" y="5601"/>
                    </a:lnTo>
                    <a:lnTo>
                      <a:pt x="2633" y="5605"/>
                    </a:lnTo>
                    <a:lnTo>
                      <a:pt x="2535" y="5604"/>
                    </a:lnTo>
                    <a:lnTo>
                      <a:pt x="2438" y="5598"/>
                    </a:lnTo>
                    <a:lnTo>
                      <a:pt x="2343" y="5589"/>
                    </a:lnTo>
                    <a:lnTo>
                      <a:pt x="2249" y="5578"/>
                    </a:lnTo>
                    <a:lnTo>
                      <a:pt x="2155" y="5563"/>
                    </a:lnTo>
                    <a:lnTo>
                      <a:pt x="2063" y="5545"/>
                    </a:lnTo>
                    <a:lnTo>
                      <a:pt x="1971" y="5523"/>
                    </a:lnTo>
                    <a:lnTo>
                      <a:pt x="1881" y="5499"/>
                    </a:lnTo>
                    <a:lnTo>
                      <a:pt x="1793" y="5473"/>
                    </a:lnTo>
                    <a:lnTo>
                      <a:pt x="1705" y="5442"/>
                    </a:lnTo>
                    <a:lnTo>
                      <a:pt x="1619" y="5409"/>
                    </a:lnTo>
                    <a:lnTo>
                      <a:pt x="1533" y="5373"/>
                    </a:lnTo>
                    <a:lnTo>
                      <a:pt x="1451" y="5335"/>
                    </a:lnTo>
                    <a:lnTo>
                      <a:pt x="1369" y="5293"/>
                    </a:lnTo>
                    <a:lnTo>
                      <a:pt x="1289" y="5250"/>
                    </a:lnTo>
                    <a:lnTo>
                      <a:pt x="1211" y="5203"/>
                    </a:lnTo>
                    <a:lnTo>
                      <a:pt x="1134" y="5154"/>
                    </a:lnTo>
                    <a:lnTo>
                      <a:pt x="1059" y="5102"/>
                    </a:lnTo>
                    <a:lnTo>
                      <a:pt x="986" y="5048"/>
                    </a:lnTo>
                    <a:lnTo>
                      <a:pt x="915" y="4992"/>
                    </a:lnTo>
                    <a:lnTo>
                      <a:pt x="846" y="4934"/>
                    </a:lnTo>
                    <a:lnTo>
                      <a:pt x="779" y="4873"/>
                    </a:lnTo>
                    <a:lnTo>
                      <a:pt x="714" y="4809"/>
                    </a:lnTo>
                    <a:lnTo>
                      <a:pt x="650" y="4745"/>
                    </a:lnTo>
                    <a:lnTo>
                      <a:pt x="590" y="4677"/>
                    </a:lnTo>
                    <a:lnTo>
                      <a:pt x="531" y="4608"/>
                    </a:lnTo>
                    <a:lnTo>
                      <a:pt x="475" y="4537"/>
                    </a:lnTo>
                    <a:lnTo>
                      <a:pt x="421" y="4464"/>
                    </a:lnTo>
                    <a:lnTo>
                      <a:pt x="369" y="4389"/>
                    </a:lnTo>
                    <a:lnTo>
                      <a:pt x="320" y="4313"/>
                    </a:lnTo>
                    <a:lnTo>
                      <a:pt x="275" y="4235"/>
                    </a:lnTo>
                    <a:lnTo>
                      <a:pt x="230" y="4154"/>
                    </a:lnTo>
                    <a:lnTo>
                      <a:pt x="201" y="4167"/>
                    </a:lnTo>
                    <a:lnTo>
                      <a:pt x="174" y="4181"/>
                    </a:lnTo>
                    <a:lnTo>
                      <a:pt x="145" y="4193"/>
                    </a:lnTo>
                    <a:lnTo>
                      <a:pt x="116" y="4205"/>
                    </a:lnTo>
                    <a:lnTo>
                      <a:pt x="87" y="4215"/>
                    </a:lnTo>
                    <a:lnTo>
                      <a:pt x="59" y="4226"/>
                    </a:lnTo>
                    <a:lnTo>
                      <a:pt x="29" y="4237"/>
                    </a:lnTo>
                    <a:lnTo>
                      <a:pt x="0" y="4247"/>
                    </a:lnTo>
                    <a:lnTo>
                      <a:pt x="48" y="4335"/>
                    </a:lnTo>
                    <a:lnTo>
                      <a:pt x="98" y="4422"/>
                    </a:lnTo>
                    <a:lnTo>
                      <a:pt x="151" y="4506"/>
                    </a:lnTo>
                    <a:lnTo>
                      <a:pt x="207" y="4589"/>
                    </a:lnTo>
                    <a:lnTo>
                      <a:pt x="266" y="4670"/>
                    </a:lnTo>
                    <a:lnTo>
                      <a:pt x="327" y="4748"/>
                    </a:lnTo>
                    <a:lnTo>
                      <a:pt x="391" y="4825"/>
                    </a:lnTo>
                    <a:lnTo>
                      <a:pt x="457" y="4899"/>
                    </a:lnTo>
                    <a:lnTo>
                      <a:pt x="527" y="4971"/>
                    </a:lnTo>
                    <a:lnTo>
                      <a:pt x="597" y="5041"/>
                    </a:lnTo>
                    <a:lnTo>
                      <a:pt x="671" y="5108"/>
                    </a:lnTo>
                    <a:lnTo>
                      <a:pt x="746" y="5173"/>
                    </a:lnTo>
                    <a:lnTo>
                      <a:pt x="824" y="5235"/>
                    </a:lnTo>
                    <a:lnTo>
                      <a:pt x="905" y="5295"/>
                    </a:lnTo>
                    <a:lnTo>
                      <a:pt x="986" y="5352"/>
                    </a:lnTo>
                    <a:lnTo>
                      <a:pt x="1070" y="5407"/>
                    </a:lnTo>
                    <a:lnTo>
                      <a:pt x="1157" y="5458"/>
                    </a:lnTo>
                    <a:lnTo>
                      <a:pt x="1244" y="5506"/>
                    </a:lnTo>
                    <a:lnTo>
                      <a:pt x="1334" y="5552"/>
                    </a:lnTo>
                    <a:lnTo>
                      <a:pt x="1425" y="5595"/>
                    </a:lnTo>
                    <a:lnTo>
                      <a:pt x="1518" y="5635"/>
                    </a:lnTo>
                    <a:lnTo>
                      <a:pt x="1613" y="5671"/>
                    </a:lnTo>
                    <a:lnTo>
                      <a:pt x="1709" y="5704"/>
                    </a:lnTo>
                    <a:lnTo>
                      <a:pt x="1807" y="5734"/>
                    </a:lnTo>
                    <a:lnTo>
                      <a:pt x="1905" y="5762"/>
                    </a:lnTo>
                    <a:lnTo>
                      <a:pt x="2006" y="5785"/>
                    </a:lnTo>
                    <a:lnTo>
                      <a:pt x="2107" y="5805"/>
                    </a:lnTo>
                    <a:lnTo>
                      <a:pt x="2210" y="5822"/>
                    </a:lnTo>
                    <a:lnTo>
                      <a:pt x="2315" y="5835"/>
                    </a:lnTo>
                    <a:lnTo>
                      <a:pt x="2419" y="5843"/>
                    </a:lnTo>
                    <a:lnTo>
                      <a:pt x="2526" y="5849"/>
                    </a:lnTo>
                    <a:lnTo>
                      <a:pt x="2633" y="5852"/>
                    </a:lnTo>
                    <a:lnTo>
                      <a:pt x="2785" y="5847"/>
                    </a:lnTo>
                    <a:lnTo>
                      <a:pt x="2935" y="5836"/>
                    </a:lnTo>
                    <a:lnTo>
                      <a:pt x="3083" y="5817"/>
                    </a:lnTo>
                    <a:lnTo>
                      <a:pt x="3229" y="5792"/>
                    </a:lnTo>
                    <a:lnTo>
                      <a:pt x="3372" y="5758"/>
                    </a:lnTo>
                    <a:lnTo>
                      <a:pt x="3512" y="5719"/>
                    </a:lnTo>
                    <a:lnTo>
                      <a:pt x="3650" y="5672"/>
                    </a:lnTo>
                    <a:lnTo>
                      <a:pt x="3785" y="5619"/>
                    </a:lnTo>
                    <a:lnTo>
                      <a:pt x="3915" y="5559"/>
                    </a:lnTo>
                    <a:lnTo>
                      <a:pt x="4044" y="5494"/>
                    </a:lnTo>
                    <a:lnTo>
                      <a:pt x="4167" y="5422"/>
                    </a:lnTo>
                    <a:lnTo>
                      <a:pt x="4287" y="5346"/>
                    </a:lnTo>
                    <a:lnTo>
                      <a:pt x="4404" y="5264"/>
                    </a:lnTo>
                    <a:lnTo>
                      <a:pt x="4515" y="5175"/>
                    </a:lnTo>
                    <a:lnTo>
                      <a:pt x="4622" y="5083"/>
                    </a:lnTo>
                    <a:lnTo>
                      <a:pt x="4725" y="4984"/>
                    </a:lnTo>
                    <a:lnTo>
                      <a:pt x="4824" y="4881"/>
                    </a:lnTo>
                    <a:lnTo>
                      <a:pt x="4916" y="4775"/>
                    </a:lnTo>
                    <a:lnTo>
                      <a:pt x="5004" y="4663"/>
                    </a:lnTo>
                    <a:lnTo>
                      <a:pt x="5087" y="4547"/>
                    </a:lnTo>
                    <a:lnTo>
                      <a:pt x="5163" y="4427"/>
                    </a:lnTo>
                    <a:lnTo>
                      <a:pt x="5235" y="4303"/>
                    </a:lnTo>
                    <a:lnTo>
                      <a:pt x="5300" y="4175"/>
                    </a:lnTo>
                    <a:lnTo>
                      <a:pt x="5360" y="4044"/>
                    </a:lnTo>
                    <a:lnTo>
                      <a:pt x="5413" y="3910"/>
                    </a:lnTo>
                    <a:lnTo>
                      <a:pt x="5460" y="3772"/>
                    </a:lnTo>
                    <a:lnTo>
                      <a:pt x="5499" y="3631"/>
                    </a:lnTo>
                    <a:lnTo>
                      <a:pt x="5532" y="3488"/>
                    </a:lnTo>
                    <a:lnTo>
                      <a:pt x="5558" y="3343"/>
                    </a:lnTo>
                    <a:lnTo>
                      <a:pt x="5577" y="3195"/>
                    </a:lnTo>
                    <a:lnTo>
                      <a:pt x="5588" y="3045"/>
                    </a:lnTo>
                    <a:lnTo>
                      <a:pt x="5592" y="2892"/>
                    </a:lnTo>
                    <a:close/>
                  </a:path>
                </a:pathLst>
              </a:custGeom>
              <a:solidFill>
                <a:srgbClr val="fbe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906800" y="3422520"/>
                <a:ext cx="2124000" cy="2229120"/>
              </a:xfrm>
              <a:custGeom>
                <a:avLst/>
                <a:gdLst/>
                <a:ahLst/>
                <a:rect l="l" t="t" r="r" b="b"/>
                <a:pathLst>
                  <a:path w="5352" h="5613">
                    <a:moveTo>
                      <a:pt x="5352" y="2777"/>
                    </a:moveTo>
                    <a:lnTo>
                      <a:pt x="5349" y="2650"/>
                    </a:lnTo>
                    <a:lnTo>
                      <a:pt x="5340" y="2524"/>
                    </a:lnTo>
                    <a:lnTo>
                      <a:pt x="5327" y="2399"/>
                    </a:lnTo>
                    <a:lnTo>
                      <a:pt x="5308" y="2276"/>
                    </a:lnTo>
                    <a:lnTo>
                      <a:pt x="5284" y="2155"/>
                    </a:lnTo>
                    <a:lnTo>
                      <a:pt x="5254" y="2036"/>
                    </a:lnTo>
                    <a:lnTo>
                      <a:pt x="5219" y="1919"/>
                    </a:lnTo>
                    <a:lnTo>
                      <a:pt x="5181" y="1804"/>
                    </a:lnTo>
                    <a:lnTo>
                      <a:pt x="5136" y="1692"/>
                    </a:lnTo>
                    <a:lnTo>
                      <a:pt x="5088" y="1581"/>
                    </a:lnTo>
                    <a:lnTo>
                      <a:pt x="5036" y="1473"/>
                    </a:lnTo>
                    <a:lnTo>
                      <a:pt x="4978" y="1368"/>
                    </a:lnTo>
                    <a:lnTo>
                      <a:pt x="4916" y="1266"/>
                    </a:lnTo>
                    <a:lnTo>
                      <a:pt x="4851" y="1166"/>
                    </a:lnTo>
                    <a:lnTo>
                      <a:pt x="4780" y="1070"/>
                    </a:lnTo>
                    <a:lnTo>
                      <a:pt x="4707" y="977"/>
                    </a:lnTo>
                    <a:lnTo>
                      <a:pt x="4629" y="887"/>
                    </a:lnTo>
                    <a:lnTo>
                      <a:pt x="4548" y="799"/>
                    </a:lnTo>
                    <a:lnTo>
                      <a:pt x="4463" y="716"/>
                    </a:lnTo>
                    <a:lnTo>
                      <a:pt x="4376" y="636"/>
                    </a:lnTo>
                    <a:lnTo>
                      <a:pt x="4284" y="560"/>
                    </a:lnTo>
                    <a:lnTo>
                      <a:pt x="4190" y="487"/>
                    </a:lnTo>
                    <a:lnTo>
                      <a:pt x="4092" y="419"/>
                    </a:lnTo>
                    <a:lnTo>
                      <a:pt x="3992" y="355"/>
                    </a:lnTo>
                    <a:lnTo>
                      <a:pt x="3888" y="295"/>
                    </a:lnTo>
                    <a:lnTo>
                      <a:pt x="3782" y="239"/>
                    </a:lnTo>
                    <a:lnTo>
                      <a:pt x="3674" y="187"/>
                    </a:lnTo>
                    <a:lnTo>
                      <a:pt x="3562" y="140"/>
                    </a:lnTo>
                    <a:lnTo>
                      <a:pt x="3448" y="98"/>
                    </a:lnTo>
                    <a:lnTo>
                      <a:pt x="3333" y="61"/>
                    </a:lnTo>
                    <a:lnTo>
                      <a:pt x="3215" y="28"/>
                    </a:lnTo>
                    <a:lnTo>
                      <a:pt x="3095" y="0"/>
                    </a:lnTo>
                    <a:lnTo>
                      <a:pt x="3095" y="1"/>
                    </a:lnTo>
                    <a:lnTo>
                      <a:pt x="3094" y="2"/>
                    </a:lnTo>
                    <a:lnTo>
                      <a:pt x="3094" y="2"/>
                    </a:lnTo>
                    <a:lnTo>
                      <a:pt x="3094" y="4"/>
                    </a:lnTo>
                    <a:lnTo>
                      <a:pt x="3093" y="5"/>
                    </a:lnTo>
                    <a:lnTo>
                      <a:pt x="3093" y="5"/>
                    </a:lnTo>
                    <a:lnTo>
                      <a:pt x="3093" y="6"/>
                    </a:lnTo>
                    <a:lnTo>
                      <a:pt x="3093" y="7"/>
                    </a:lnTo>
                    <a:lnTo>
                      <a:pt x="3080" y="35"/>
                    </a:lnTo>
                    <a:lnTo>
                      <a:pt x="3068" y="64"/>
                    </a:lnTo>
                    <a:lnTo>
                      <a:pt x="3057" y="91"/>
                    </a:lnTo>
                    <a:lnTo>
                      <a:pt x="3046" y="120"/>
                    </a:lnTo>
                    <a:lnTo>
                      <a:pt x="3036" y="149"/>
                    </a:lnTo>
                    <a:lnTo>
                      <a:pt x="3026" y="178"/>
                    </a:lnTo>
                    <a:lnTo>
                      <a:pt x="3016" y="206"/>
                    </a:lnTo>
                    <a:lnTo>
                      <a:pt x="3008" y="235"/>
                    </a:lnTo>
                    <a:lnTo>
                      <a:pt x="3118" y="259"/>
                    </a:lnTo>
                    <a:lnTo>
                      <a:pt x="3227" y="287"/>
                    </a:lnTo>
                    <a:lnTo>
                      <a:pt x="3335" y="320"/>
                    </a:lnTo>
                    <a:lnTo>
                      <a:pt x="3441" y="357"/>
                    </a:lnTo>
                    <a:lnTo>
                      <a:pt x="3544" y="401"/>
                    </a:lnTo>
                    <a:lnTo>
                      <a:pt x="3645" y="446"/>
                    </a:lnTo>
                    <a:lnTo>
                      <a:pt x="3743" y="497"/>
                    </a:lnTo>
                    <a:lnTo>
                      <a:pt x="3839" y="552"/>
                    </a:lnTo>
                    <a:lnTo>
                      <a:pt x="3933" y="609"/>
                    </a:lnTo>
                    <a:lnTo>
                      <a:pt x="4023" y="672"/>
                    </a:lnTo>
                    <a:lnTo>
                      <a:pt x="4112" y="738"/>
                    </a:lnTo>
                    <a:lnTo>
                      <a:pt x="4197" y="807"/>
                    </a:lnTo>
                    <a:lnTo>
                      <a:pt x="4278" y="881"/>
                    </a:lnTo>
                    <a:lnTo>
                      <a:pt x="4356" y="956"/>
                    </a:lnTo>
                    <a:lnTo>
                      <a:pt x="4432" y="1037"/>
                    </a:lnTo>
                    <a:lnTo>
                      <a:pt x="4504" y="1119"/>
                    </a:lnTo>
                    <a:lnTo>
                      <a:pt x="4572" y="1204"/>
                    </a:lnTo>
                    <a:lnTo>
                      <a:pt x="4638" y="1293"/>
                    </a:lnTo>
                    <a:lnTo>
                      <a:pt x="4700" y="1384"/>
                    </a:lnTo>
                    <a:lnTo>
                      <a:pt x="4756" y="1479"/>
                    </a:lnTo>
                    <a:lnTo>
                      <a:pt x="4810" y="1575"/>
                    </a:lnTo>
                    <a:lnTo>
                      <a:pt x="4859" y="1675"/>
                    </a:lnTo>
                    <a:lnTo>
                      <a:pt x="4905" y="1777"/>
                    </a:lnTo>
                    <a:lnTo>
                      <a:pt x="4946" y="1880"/>
                    </a:lnTo>
                    <a:lnTo>
                      <a:pt x="4982" y="1985"/>
                    </a:lnTo>
                    <a:lnTo>
                      <a:pt x="5014" y="2093"/>
                    </a:lnTo>
                    <a:lnTo>
                      <a:pt x="5042" y="2204"/>
                    </a:lnTo>
                    <a:lnTo>
                      <a:pt x="5064" y="2315"/>
                    </a:lnTo>
                    <a:lnTo>
                      <a:pt x="5082" y="2428"/>
                    </a:lnTo>
                    <a:lnTo>
                      <a:pt x="5094" y="2543"/>
                    </a:lnTo>
                    <a:lnTo>
                      <a:pt x="5103" y="2660"/>
                    </a:lnTo>
                    <a:lnTo>
                      <a:pt x="5105" y="2777"/>
                    </a:lnTo>
                    <a:lnTo>
                      <a:pt x="5102" y="2910"/>
                    </a:lnTo>
                    <a:lnTo>
                      <a:pt x="5092" y="3042"/>
                    </a:lnTo>
                    <a:lnTo>
                      <a:pt x="5075" y="3172"/>
                    </a:lnTo>
                    <a:lnTo>
                      <a:pt x="5052" y="3299"/>
                    </a:lnTo>
                    <a:lnTo>
                      <a:pt x="5024" y="3424"/>
                    </a:lnTo>
                    <a:lnTo>
                      <a:pt x="4989" y="3547"/>
                    </a:lnTo>
                    <a:lnTo>
                      <a:pt x="4948" y="3667"/>
                    </a:lnTo>
                    <a:lnTo>
                      <a:pt x="4902" y="3785"/>
                    </a:lnTo>
                    <a:lnTo>
                      <a:pt x="4850" y="3900"/>
                    </a:lnTo>
                    <a:lnTo>
                      <a:pt x="4793" y="4012"/>
                    </a:lnTo>
                    <a:lnTo>
                      <a:pt x="4731" y="4120"/>
                    </a:lnTo>
                    <a:lnTo>
                      <a:pt x="4662" y="4225"/>
                    </a:lnTo>
                    <a:lnTo>
                      <a:pt x="4590" y="4326"/>
                    </a:lnTo>
                    <a:lnTo>
                      <a:pt x="4514" y="4424"/>
                    </a:lnTo>
                    <a:lnTo>
                      <a:pt x="4432" y="4518"/>
                    </a:lnTo>
                    <a:lnTo>
                      <a:pt x="4347" y="4608"/>
                    </a:lnTo>
                    <a:lnTo>
                      <a:pt x="4257" y="4694"/>
                    </a:lnTo>
                    <a:lnTo>
                      <a:pt x="4163" y="4775"/>
                    </a:lnTo>
                    <a:lnTo>
                      <a:pt x="4065" y="4851"/>
                    </a:lnTo>
                    <a:lnTo>
                      <a:pt x="3963" y="4925"/>
                    </a:lnTo>
                    <a:lnTo>
                      <a:pt x="3858" y="4992"/>
                    </a:lnTo>
                    <a:lnTo>
                      <a:pt x="3750" y="5054"/>
                    </a:lnTo>
                    <a:lnTo>
                      <a:pt x="3638" y="5111"/>
                    </a:lnTo>
                    <a:lnTo>
                      <a:pt x="3524" y="5163"/>
                    </a:lnTo>
                    <a:lnTo>
                      <a:pt x="3406" y="5209"/>
                    </a:lnTo>
                    <a:lnTo>
                      <a:pt x="3286" y="5250"/>
                    </a:lnTo>
                    <a:lnTo>
                      <a:pt x="3162" y="5285"/>
                    </a:lnTo>
                    <a:lnTo>
                      <a:pt x="3038" y="5313"/>
                    </a:lnTo>
                    <a:lnTo>
                      <a:pt x="2909" y="5336"/>
                    </a:lnTo>
                    <a:lnTo>
                      <a:pt x="2780" y="5353"/>
                    </a:lnTo>
                    <a:lnTo>
                      <a:pt x="2649" y="5363"/>
                    </a:lnTo>
                    <a:lnTo>
                      <a:pt x="2516" y="5366"/>
                    </a:lnTo>
                    <a:lnTo>
                      <a:pt x="2422" y="5365"/>
                    </a:lnTo>
                    <a:lnTo>
                      <a:pt x="2331" y="5360"/>
                    </a:lnTo>
                    <a:lnTo>
                      <a:pt x="2240" y="5352"/>
                    </a:lnTo>
                    <a:lnTo>
                      <a:pt x="2148" y="5341"/>
                    </a:lnTo>
                    <a:lnTo>
                      <a:pt x="2060" y="5327"/>
                    </a:lnTo>
                    <a:lnTo>
                      <a:pt x="1972" y="5310"/>
                    </a:lnTo>
                    <a:lnTo>
                      <a:pt x="1884" y="5289"/>
                    </a:lnTo>
                    <a:lnTo>
                      <a:pt x="1798" y="5265"/>
                    </a:lnTo>
                    <a:lnTo>
                      <a:pt x="1714" y="5240"/>
                    </a:lnTo>
                    <a:lnTo>
                      <a:pt x="1630" y="5211"/>
                    </a:lnTo>
                    <a:lnTo>
                      <a:pt x="1548" y="5180"/>
                    </a:lnTo>
                    <a:lnTo>
                      <a:pt x="1467" y="5145"/>
                    </a:lnTo>
                    <a:lnTo>
                      <a:pt x="1388" y="5108"/>
                    </a:lnTo>
                    <a:lnTo>
                      <a:pt x="1310" y="5070"/>
                    </a:lnTo>
                    <a:lnTo>
                      <a:pt x="1233" y="5028"/>
                    </a:lnTo>
                    <a:lnTo>
                      <a:pt x="1158" y="4983"/>
                    </a:lnTo>
                    <a:lnTo>
                      <a:pt x="1085" y="4937"/>
                    </a:lnTo>
                    <a:lnTo>
                      <a:pt x="1014" y="4887"/>
                    </a:lnTo>
                    <a:lnTo>
                      <a:pt x="944" y="4836"/>
                    </a:lnTo>
                    <a:lnTo>
                      <a:pt x="876" y="4782"/>
                    </a:lnTo>
                    <a:lnTo>
                      <a:pt x="810" y="4726"/>
                    </a:lnTo>
                    <a:lnTo>
                      <a:pt x="746" y="4668"/>
                    </a:lnTo>
                    <a:lnTo>
                      <a:pt x="684" y="4608"/>
                    </a:lnTo>
                    <a:lnTo>
                      <a:pt x="624" y="4546"/>
                    </a:lnTo>
                    <a:lnTo>
                      <a:pt x="566" y="4482"/>
                    </a:lnTo>
                    <a:lnTo>
                      <a:pt x="510" y="4416"/>
                    </a:lnTo>
                    <a:lnTo>
                      <a:pt x="456" y="4348"/>
                    </a:lnTo>
                    <a:lnTo>
                      <a:pt x="405" y="4278"/>
                    </a:lnTo>
                    <a:lnTo>
                      <a:pt x="356" y="4206"/>
                    </a:lnTo>
                    <a:lnTo>
                      <a:pt x="309" y="4133"/>
                    </a:lnTo>
                    <a:lnTo>
                      <a:pt x="264" y="4058"/>
                    </a:lnTo>
                    <a:lnTo>
                      <a:pt x="222" y="3982"/>
                    </a:lnTo>
                    <a:lnTo>
                      <a:pt x="196" y="3997"/>
                    </a:lnTo>
                    <a:lnTo>
                      <a:pt x="168" y="4012"/>
                    </a:lnTo>
                    <a:lnTo>
                      <a:pt x="141" y="4026"/>
                    </a:lnTo>
                    <a:lnTo>
                      <a:pt x="113" y="4039"/>
                    </a:lnTo>
                    <a:lnTo>
                      <a:pt x="84" y="4052"/>
                    </a:lnTo>
                    <a:lnTo>
                      <a:pt x="57" y="4066"/>
                    </a:lnTo>
                    <a:lnTo>
                      <a:pt x="28" y="4078"/>
                    </a:lnTo>
                    <a:lnTo>
                      <a:pt x="0" y="4090"/>
                    </a:lnTo>
                    <a:lnTo>
                      <a:pt x="46" y="4174"/>
                    </a:lnTo>
                    <a:lnTo>
                      <a:pt x="94" y="4255"/>
                    </a:lnTo>
                    <a:lnTo>
                      <a:pt x="146" y="4336"/>
                    </a:lnTo>
                    <a:lnTo>
                      <a:pt x="200" y="4415"/>
                    </a:lnTo>
                    <a:lnTo>
                      <a:pt x="256" y="4492"/>
                    </a:lnTo>
                    <a:lnTo>
                      <a:pt x="315" y="4566"/>
                    </a:lnTo>
                    <a:lnTo>
                      <a:pt x="376" y="4639"/>
                    </a:lnTo>
                    <a:lnTo>
                      <a:pt x="440" y="4710"/>
                    </a:lnTo>
                    <a:lnTo>
                      <a:pt x="506" y="4778"/>
                    </a:lnTo>
                    <a:lnTo>
                      <a:pt x="573" y="4844"/>
                    </a:lnTo>
                    <a:lnTo>
                      <a:pt x="644" y="4908"/>
                    </a:lnTo>
                    <a:lnTo>
                      <a:pt x="716" y="4969"/>
                    </a:lnTo>
                    <a:lnTo>
                      <a:pt x="790" y="5029"/>
                    </a:lnTo>
                    <a:lnTo>
                      <a:pt x="867" y="5085"/>
                    </a:lnTo>
                    <a:lnTo>
                      <a:pt x="945" y="5139"/>
                    </a:lnTo>
                    <a:lnTo>
                      <a:pt x="1025" y="5191"/>
                    </a:lnTo>
                    <a:lnTo>
                      <a:pt x="1108" y="5240"/>
                    </a:lnTo>
                    <a:lnTo>
                      <a:pt x="1192" y="5286"/>
                    </a:lnTo>
                    <a:lnTo>
                      <a:pt x="1277" y="5329"/>
                    </a:lnTo>
                    <a:lnTo>
                      <a:pt x="1364" y="5370"/>
                    </a:lnTo>
                    <a:lnTo>
                      <a:pt x="1452" y="5407"/>
                    </a:lnTo>
                    <a:lnTo>
                      <a:pt x="1544" y="5442"/>
                    </a:lnTo>
                    <a:lnTo>
                      <a:pt x="1635" y="5474"/>
                    </a:lnTo>
                    <a:lnTo>
                      <a:pt x="1728" y="5503"/>
                    </a:lnTo>
                    <a:lnTo>
                      <a:pt x="1822" y="5528"/>
                    </a:lnTo>
                    <a:lnTo>
                      <a:pt x="1918" y="5550"/>
                    </a:lnTo>
                    <a:lnTo>
                      <a:pt x="2015" y="5569"/>
                    </a:lnTo>
                    <a:lnTo>
                      <a:pt x="2112" y="5584"/>
                    </a:lnTo>
                    <a:lnTo>
                      <a:pt x="2212" y="5596"/>
                    </a:lnTo>
                    <a:lnTo>
                      <a:pt x="2312" y="5606"/>
                    </a:lnTo>
                    <a:lnTo>
                      <a:pt x="2414" y="5611"/>
                    </a:lnTo>
                    <a:lnTo>
                      <a:pt x="2516" y="5613"/>
                    </a:lnTo>
                    <a:lnTo>
                      <a:pt x="2661" y="5610"/>
                    </a:lnTo>
                    <a:lnTo>
                      <a:pt x="2805" y="5599"/>
                    </a:lnTo>
                    <a:lnTo>
                      <a:pt x="2948" y="5581"/>
                    </a:lnTo>
                    <a:lnTo>
                      <a:pt x="3087" y="5556"/>
                    </a:lnTo>
                    <a:lnTo>
                      <a:pt x="3225" y="5523"/>
                    </a:lnTo>
                    <a:lnTo>
                      <a:pt x="3359" y="5486"/>
                    </a:lnTo>
                    <a:lnTo>
                      <a:pt x="3491" y="5441"/>
                    </a:lnTo>
                    <a:lnTo>
                      <a:pt x="3620" y="5390"/>
                    </a:lnTo>
                    <a:lnTo>
                      <a:pt x="3746" y="5334"/>
                    </a:lnTo>
                    <a:lnTo>
                      <a:pt x="3868" y="5271"/>
                    </a:lnTo>
                    <a:lnTo>
                      <a:pt x="3987" y="5203"/>
                    </a:lnTo>
                    <a:lnTo>
                      <a:pt x="4101" y="5129"/>
                    </a:lnTo>
                    <a:lnTo>
                      <a:pt x="4212" y="5049"/>
                    </a:lnTo>
                    <a:lnTo>
                      <a:pt x="4319" y="4965"/>
                    </a:lnTo>
                    <a:lnTo>
                      <a:pt x="4422" y="4877"/>
                    </a:lnTo>
                    <a:lnTo>
                      <a:pt x="4521" y="4782"/>
                    </a:lnTo>
                    <a:lnTo>
                      <a:pt x="4616" y="4684"/>
                    </a:lnTo>
                    <a:lnTo>
                      <a:pt x="4704" y="4582"/>
                    </a:lnTo>
                    <a:lnTo>
                      <a:pt x="4788" y="4474"/>
                    </a:lnTo>
                    <a:lnTo>
                      <a:pt x="4868" y="4363"/>
                    </a:lnTo>
                    <a:lnTo>
                      <a:pt x="4941" y="4248"/>
                    </a:lnTo>
                    <a:lnTo>
                      <a:pt x="5009" y="4129"/>
                    </a:lnTo>
                    <a:lnTo>
                      <a:pt x="5073" y="4007"/>
                    </a:lnTo>
                    <a:lnTo>
                      <a:pt x="5129" y="3881"/>
                    </a:lnTo>
                    <a:lnTo>
                      <a:pt x="5180" y="3753"/>
                    </a:lnTo>
                    <a:lnTo>
                      <a:pt x="5224" y="3621"/>
                    </a:lnTo>
                    <a:lnTo>
                      <a:pt x="5262" y="3486"/>
                    </a:lnTo>
                    <a:lnTo>
                      <a:pt x="5295" y="3348"/>
                    </a:lnTo>
                    <a:lnTo>
                      <a:pt x="5319" y="3209"/>
                    </a:lnTo>
                    <a:lnTo>
                      <a:pt x="5337" y="3068"/>
                    </a:lnTo>
                    <a:lnTo>
                      <a:pt x="5349" y="2924"/>
                    </a:lnTo>
                    <a:lnTo>
                      <a:pt x="5352" y="2777"/>
                    </a:lnTo>
                    <a:close/>
                  </a:path>
                </a:pathLst>
              </a:custGeom>
              <a:solidFill>
                <a:srgbClr val="fbe4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951440" y="3468600"/>
                <a:ext cx="2030400" cy="2133720"/>
              </a:xfrm>
              <a:custGeom>
                <a:avLst/>
                <a:gdLst/>
                <a:ahLst/>
                <a:rect l="l" t="t" r="r" b="b"/>
                <a:pathLst>
                  <a:path w="5116" h="5374">
                    <a:moveTo>
                      <a:pt x="5116" y="2661"/>
                    </a:moveTo>
                    <a:lnTo>
                      <a:pt x="5113" y="2539"/>
                    </a:lnTo>
                    <a:lnTo>
                      <a:pt x="5105" y="2418"/>
                    </a:lnTo>
                    <a:lnTo>
                      <a:pt x="5092" y="2298"/>
                    </a:lnTo>
                    <a:lnTo>
                      <a:pt x="5073" y="2179"/>
                    </a:lnTo>
                    <a:lnTo>
                      <a:pt x="5050" y="2063"/>
                    </a:lnTo>
                    <a:lnTo>
                      <a:pt x="5021" y="1949"/>
                    </a:lnTo>
                    <a:lnTo>
                      <a:pt x="4987" y="1836"/>
                    </a:lnTo>
                    <a:lnTo>
                      <a:pt x="4950" y="1725"/>
                    </a:lnTo>
                    <a:lnTo>
                      <a:pt x="4907" y="1616"/>
                    </a:lnTo>
                    <a:lnTo>
                      <a:pt x="4860" y="1511"/>
                    </a:lnTo>
                    <a:lnTo>
                      <a:pt x="4809" y="1408"/>
                    </a:lnTo>
                    <a:lnTo>
                      <a:pt x="4753" y="1307"/>
                    </a:lnTo>
                    <a:lnTo>
                      <a:pt x="4693" y="1208"/>
                    </a:lnTo>
                    <a:lnTo>
                      <a:pt x="4630" y="1112"/>
                    </a:lnTo>
                    <a:lnTo>
                      <a:pt x="4563" y="1020"/>
                    </a:lnTo>
                    <a:lnTo>
                      <a:pt x="4492" y="930"/>
                    </a:lnTo>
                    <a:lnTo>
                      <a:pt x="4416" y="844"/>
                    </a:lnTo>
                    <a:lnTo>
                      <a:pt x="4338" y="761"/>
                    </a:lnTo>
                    <a:lnTo>
                      <a:pt x="4257" y="681"/>
                    </a:lnTo>
                    <a:lnTo>
                      <a:pt x="4171" y="604"/>
                    </a:lnTo>
                    <a:lnTo>
                      <a:pt x="4083" y="532"/>
                    </a:lnTo>
                    <a:lnTo>
                      <a:pt x="3991" y="462"/>
                    </a:lnTo>
                    <a:lnTo>
                      <a:pt x="3897" y="397"/>
                    </a:lnTo>
                    <a:lnTo>
                      <a:pt x="3799" y="336"/>
                    </a:lnTo>
                    <a:lnTo>
                      <a:pt x="3700" y="279"/>
                    </a:lnTo>
                    <a:lnTo>
                      <a:pt x="3598" y="226"/>
                    </a:lnTo>
                    <a:lnTo>
                      <a:pt x="3492" y="177"/>
                    </a:lnTo>
                    <a:lnTo>
                      <a:pt x="3385" y="132"/>
                    </a:lnTo>
                    <a:lnTo>
                      <a:pt x="3275" y="93"/>
                    </a:lnTo>
                    <a:lnTo>
                      <a:pt x="3163" y="57"/>
                    </a:lnTo>
                    <a:lnTo>
                      <a:pt x="3051" y="27"/>
                    </a:lnTo>
                    <a:lnTo>
                      <a:pt x="2934" y="0"/>
                    </a:lnTo>
                    <a:lnTo>
                      <a:pt x="2923" y="30"/>
                    </a:lnTo>
                    <a:lnTo>
                      <a:pt x="2914" y="59"/>
                    </a:lnTo>
                    <a:lnTo>
                      <a:pt x="2904" y="89"/>
                    </a:lnTo>
                    <a:lnTo>
                      <a:pt x="2895" y="119"/>
                    </a:lnTo>
                    <a:lnTo>
                      <a:pt x="2885" y="148"/>
                    </a:lnTo>
                    <a:lnTo>
                      <a:pt x="2877" y="178"/>
                    </a:lnTo>
                    <a:lnTo>
                      <a:pt x="2868" y="208"/>
                    </a:lnTo>
                    <a:lnTo>
                      <a:pt x="2860" y="238"/>
                    </a:lnTo>
                    <a:lnTo>
                      <a:pt x="2965" y="259"/>
                    </a:lnTo>
                    <a:lnTo>
                      <a:pt x="3071" y="287"/>
                    </a:lnTo>
                    <a:lnTo>
                      <a:pt x="3173" y="318"/>
                    </a:lnTo>
                    <a:lnTo>
                      <a:pt x="3274" y="354"/>
                    </a:lnTo>
                    <a:lnTo>
                      <a:pt x="3373" y="394"/>
                    </a:lnTo>
                    <a:lnTo>
                      <a:pt x="3469" y="437"/>
                    </a:lnTo>
                    <a:lnTo>
                      <a:pt x="3564" y="485"/>
                    </a:lnTo>
                    <a:lnTo>
                      <a:pt x="3655" y="537"/>
                    </a:lnTo>
                    <a:lnTo>
                      <a:pt x="3745" y="593"/>
                    </a:lnTo>
                    <a:lnTo>
                      <a:pt x="3832" y="652"/>
                    </a:lnTo>
                    <a:lnTo>
                      <a:pt x="3917" y="714"/>
                    </a:lnTo>
                    <a:lnTo>
                      <a:pt x="3997" y="780"/>
                    </a:lnTo>
                    <a:lnTo>
                      <a:pt x="4077" y="850"/>
                    </a:lnTo>
                    <a:lnTo>
                      <a:pt x="4152" y="923"/>
                    </a:lnTo>
                    <a:lnTo>
                      <a:pt x="4224" y="998"/>
                    </a:lnTo>
                    <a:lnTo>
                      <a:pt x="4293" y="1078"/>
                    </a:lnTo>
                    <a:lnTo>
                      <a:pt x="4359" y="1159"/>
                    </a:lnTo>
                    <a:lnTo>
                      <a:pt x="4421" y="1244"/>
                    </a:lnTo>
                    <a:lnTo>
                      <a:pt x="4480" y="1331"/>
                    </a:lnTo>
                    <a:lnTo>
                      <a:pt x="4535" y="1421"/>
                    </a:lnTo>
                    <a:lnTo>
                      <a:pt x="4585" y="1513"/>
                    </a:lnTo>
                    <a:lnTo>
                      <a:pt x="4633" y="1608"/>
                    </a:lnTo>
                    <a:lnTo>
                      <a:pt x="4677" y="1705"/>
                    </a:lnTo>
                    <a:lnTo>
                      <a:pt x="4716" y="1803"/>
                    </a:lnTo>
                    <a:lnTo>
                      <a:pt x="4751" y="1905"/>
                    </a:lnTo>
                    <a:lnTo>
                      <a:pt x="4781" y="2009"/>
                    </a:lnTo>
                    <a:lnTo>
                      <a:pt x="4807" y="2113"/>
                    </a:lnTo>
                    <a:lnTo>
                      <a:pt x="4829" y="2220"/>
                    </a:lnTo>
                    <a:lnTo>
                      <a:pt x="4847" y="2328"/>
                    </a:lnTo>
                    <a:lnTo>
                      <a:pt x="4859" y="2438"/>
                    </a:lnTo>
                    <a:lnTo>
                      <a:pt x="4866" y="2548"/>
                    </a:lnTo>
                    <a:lnTo>
                      <a:pt x="4869" y="2661"/>
                    </a:lnTo>
                    <a:lnTo>
                      <a:pt x="4866" y="2788"/>
                    </a:lnTo>
                    <a:lnTo>
                      <a:pt x="4857" y="2913"/>
                    </a:lnTo>
                    <a:lnTo>
                      <a:pt x="4841" y="3037"/>
                    </a:lnTo>
                    <a:lnTo>
                      <a:pt x="4819" y="3158"/>
                    </a:lnTo>
                    <a:lnTo>
                      <a:pt x="4792" y="3278"/>
                    </a:lnTo>
                    <a:lnTo>
                      <a:pt x="4758" y="3394"/>
                    </a:lnTo>
                    <a:lnTo>
                      <a:pt x="4720" y="3509"/>
                    </a:lnTo>
                    <a:lnTo>
                      <a:pt x="4675" y="3621"/>
                    </a:lnTo>
                    <a:lnTo>
                      <a:pt x="4626" y="3730"/>
                    </a:lnTo>
                    <a:lnTo>
                      <a:pt x="4571" y="3837"/>
                    </a:lnTo>
                    <a:lnTo>
                      <a:pt x="4512" y="3940"/>
                    </a:lnTo>
                    <a:lnTo>
                      <a:pt x="4447" y="4040"/>
                    </a:lnTo>
                    <a:lnTo>
                      <a:pt x="4379" y="4137"/>
                    </a:lnTo>
                    <a:lnTo>
                      <a:pt x="4306" y="4229"/>
                    </a:lnTo>
                    <a:lnTo>
                      <a:pt x="4228" y="4319"/>
                    </a:lnTo>
                    <a:lnTo>
                      <a:pt x="4146" y="4404"/>
                    </a:lnTo>
                    <a:lnTo>
                      <a:pt x="4061" y="4486"/>
                    </a:lnTo>
                    <a:lnTo>
                      <a:pt x="3971" y="4564"/>
                    </a:lnTo>
                    <a:lnTo>
                      <a:pt x="3879" y="4637"/>
                    </a:lnTo>
                    <a:lnTo>
                      <a:pt x="3781" y="4705"/>
                    </a:lnTo>
                    <a:lnTo>
                      <a:pt x="3682" y="4770"/>
                    </a:lnTo>
                    <a:lnTo>
                      <a:pt x="3579" y="4829"/>
                    </a:lnTo>
                    <a:lnTo>
                      <a:pt x="3472" y="4884"/>
                    </a:lnTo>
                    <a:lnTo>
                      <a:pt x="3363" y="4933"/>
                    </a:lnTo>
                    <a:lnTo>
                      <a:pt x="3251" y="4978"/>
                    </a:lnTo>
                    <a:lnTo>
                      <a:pt x="3136" y="5016"/>
                    </a:lnTo>
                    <a:lnTo>
                      <a:pt x="3018" y="5050"/>
                    </a:lnTo>
                    <a:lnTo>
                      <a:pt x="2899" y="5077"/>
                    </a:lnTo>
                    <a:lnTo>
                      <a:pt x="2778" y="5099"/>
                    </a:lnTo>
                    <a:lnTo>
                      <a:pt x="2655" y="5115"/>
                    </a:lnTo>
                    <a:lnTo>
                      <a:pt x="2530" y="5124"/>
                    </a:lnTo>
                    <a:lnTo>
                      <a:pt x="2403" y="5128"/>
                    </a:lnTo>
                    <a:lnTo>
                      <a:pt x="2314" y="5125"/>
                    </a:lnTo>
                    <a:lnTo>
                      <a:pt x="2226" y="5121"/>
                    </a:lnTo>
                    <a:lnTo>
                      <a:pt x="2139" y="5113"/>
                    </a:lnTo>
                    <a:lnTo>
                      <a:pt x="2052" y="5103"/>
                    </a:lnTo>
                    <a:lnTo>
                      <a:pt x="1967" y="5089"/>
                    </a:lnTo>
                    <a:lnTo>
                      <a:pt x="1883" y="5073"/>
                    </a:lnTo>
                    <a:lnTo>
                      <a:pt x="1800" y="5053"/>
                    </a:lnTo>
                    <a:lnTo>
                      <a:pt x="1717" y="5031"/>
                    </a:lnTo>
                    <a:lnTo>
                      <a:pt x="1637" y="5007"/>
                    </a:lnTo>
                    <a:lnTo>
                      <a:pt x="1557" y="4979"/>
                    </a:lnTo>
                    <a:lnTo>
                      <a:pt x="1479" y="4948"/>
                    </a:lnTo>
                    <a:lnTo>
                      <a:pt x="1402" y="4915"/>
                    </a:lnTo>
                    <a:lnTo>
                      <a:pt x="1325" y="4881"/>
                    </a:lnTo>
                    <a:lnTo>
                      <a:pt x="1251" y="4842"/>
                    </a:lnTo>
                    <a:lnTo>
                      <a:pt x="1179" y="4803"/>
                    </a:lnTo>
                    <a:lnTo>
                      <a:pt x="1107" y="4759"/>
                    </a:lnTo>
                    <a:lnTo>
                      <a:pt x="1037" y="4715"/>
                    </a:lnTo>
                    <a:lnTo>
                      <a:pt x="969" y="4668"/>
                    </a:lnTo>
                    <a:lnTo>
                      <a:pt x="903" y="4619"/>
                    </a:lnTo>
                    <a:lnTo>
                      <a:pt x="838" y="4568"/>
                    </a:lnTo>
                    <a:lnTo>
                      <a:pt x="774" y="4514"/>
                    </a:lnTo>
                    <a:lnTo>
                      <a:pt x="713" y="4458"/>
                    </a:lnTo>
                    <a:lnTo>
                      <a:pt x="654" y="4401"/>
                    </a:lnTo>
                    <a:lnTo>
                      <a:pt x="597" y="4341"/>
                    </a:lnTo>
                    <a:lnTo>
                      <a:pt x="541" y="4280"/>
                    </a:lnTo>
                    <a:lnTo>
                      <a:pt x="489" y="4217"/>
                    </a:lnTo>
                    <a:lnTo>
                      <a:pt x="437" y="4151"/>
                    </a:lnTo>
                    <a:lnTo>
                      <a:pt x="389" y="4085"/>
                    </a:lnTo>
                    <a:lnTo>
                      <a:pt x="342" y="4017"/>
                    </a:lnTo>
                    <a:lnTo>
                      <a:pt x="298" y="3947"/>
                    </a:lnTo>
                    <a:lnTo>
                      <a:pt x="255" y="3875"/>
                    </a:lnTo>
                    <a:lnTo>
                      <a:pt x="215" y="3802"/>
                    </a:lnTo>
                    <a:lnTo>
                      <a:pt x="190" y="3819"/>
                    </a:lnTo>
                    <a:lnTo>
                      <a:pt x="163" y="3835"/>
                    </a:lnTo>
                    <a:lnTo>
                      <a:pt x="137" y="3850"/>
                    </a:lnTo>
                    <a:lnTo>
                      <a:pt x="109" y="3866"/>
                    </a:lnTo>
                    <a:lnTo>
                      <a:pt x="83" y="3881"/>
                    </a:lnTo>
                    <a:lnTo>
                      <a:pt x="55" y="3896"/>
                    </a:lnTo>
                    <a:lnTo>
                      <a:pt x="28" y="3910"/>
                    </a:lnTo>
                    <a:lnTo>
                      <a:pt x="0" y="3923"/>
                    </a:lnTo>
                    <a:lnTo>
                      <a:pt x="45" y="4004"/>
                    </a:lnTo>
                    <a:lnTo>
                      <a:pt x="90" y="4082"/>
                    </a:lnTo>
                    <a:lnTo>
                      <a:pt x="139" y="4158"/>
                    </a:lnTo>
                    <a:lnTo>
                      <a:pt x="191" y="4233"/>
                    </a:lnTo>
                    <a:lnTo>
                      <a:pt x="245" y="4306"/>
                    </a:lnTo>
                    <a:lnTo>
                      <a:pt x="301" y="4377"/>
                    </a:lnTo>
                    <a:lnTo>
                      <a:pt x="360" y="4446"/>
                    </a:lnTo>
                    <a:lnTo>
                      <a:pt x="420" y="4514"/>
                    </a:lnTo>
                    <a:lnTo>
                      <a:pt x="484" y="4578"/>
                    </a:lnTo>
                    <a:lnTo>
                      <a:pt x="549" y="4642"/>
                    </a:lnTo>
                    <a:lnTo>
                      <a:pt x="616" y="4703"/>
                    </a:lnTo>
                    <a:lnTo>
                      <a:pt x="685" y="4761"/>
                    </a:lnTo>
                    <a:lnTo>
                      <a:pt x="756" y="4817"/>
                    </a:lnTo>
                    <a:lnTo>
                      <a:pt x="829" y="4871"/>
                    </a:lnTo>
                    <a:lnTo>
                      <a:pt x="904" y="4923"/>
                    </a:lnTo>
                    <a:lnTo>
                      <a:pt x="981" y="4972"/>
                    </a:lnTo>
                    <a:lnTo>
                      <a:pt x="1059" y="5019"/>
                    </a:lnTo>
                    <a:lnTo>
                      <a:pt x="1139" y="5062"/>
                    </a:lnTo>
                    <a:lnTo>
                      <a:pt x="1221" y="5104"/>
                    </a:lnTo>
                    <a:lnTo>
                      <a:pt x="1303" y="5142"/>
                    </a:lnTo>
                    <a:lnTo>
                      <a:pt x="1389" y="5178"/>
                    </a:lnTo>
                    <a:lnTo>
                      <a:pt x="1475" y="5211"/>
                    </a:lnTo>
                    <a:lnTo>
                      <a:pt x="1563" y="5242"/>
                    </a:lnTo>
                    <a:lnTo>
                      <a:pt x="1651" y="5268"/>
                    </a:lnTo>
                    <a:lnTo>
                      <a:pt x="1741" y="5292"/>
                    </a:lnTo>
                    <a:lnTo>
                      <a:pt x="1833" y="5314"/>
                    </a:lnTo>
                    <a:lnTo>
                      <a:pt x="1925" y="5332"/>
                    </a:lnTo>
                    <a:lnTo>
                      <a:pt x="2019" y="5347"/>
                    </a:lnTo>
                    <a:lnTo>
                      <a:pt x="2113" y="5358"/>
                    </a:lnTo>
                    <a:lnTo>
                      <a:pt x="2208" y="5367"/>
                    </a:lnTo>
                    <a:lnTo>
                      <a:pt x="2305" y="5373"/>
                    </a:lnTo>
                    <a:lnTo>
                      <a:pt x="2403" y="5374"/>
                    </a:lnTo>
                    <a:lnTo>
                      <a:pt x="2542" y="5370"/>
                    </a:lnTo>
                    <a:lnTo>
                      <a:pt x="2680" y="5359"/>
                    </a:lnTo>
                    <a:lnTo>
                      <a:pt x="2815" y="5343"/>
                    </a:lnTo>
                    <a:lnTo>
                      <a:pt x="2949" y="5319"/>
                    </a:lnTo>
                    <a:lnTo>
                      <a:pt x="3081" y="5289"/>
                    </a:lnTo>
                    <a:lnTo>
                      <a:pt x="3209" y="5251"/>
                    </a:lnTo>
                    <a:lnTo>
                      <a:pt x="3335" y="5209"/>
                    </a:lnTo>
                    <a:lnTo>
                      <a:pt x="3459" y="5160"/>
                    </a:lnTo>
                    <a:lnTo>
                      <a:pt x="3579" y="5106"/>
                    </a:lnTo>
                    <a:lnTo>
                      <a:pt x="3696" y="5046"/>
                    </a:lnTo>
                    <a:lnTo>
                      <a:pt x="3809" y="4981"/>
                    </a:lnTo>
                    <a:lnTo>
                      <a:pt x="3919" y="4911"/>
                    </a:lnTo>
                    <a:lnTo>
                      <a:pt x="4026" y="4835"/>
                    </a:lnTo>
                    <a:lnTo>
                      <a:pt x="4128" y="4755"/>
                    </a:lnTo>
                    <a:lnTo>
                      <a:pt x="4227" y="4669"/>
                    </a:lnTo>
                    <a:lnTo>
                      <a:pt x="4321" y="4580"/>
                    </a:lnTo>
                    <a:lnTo>
                      <a:pt x="4410" y="4485"/>
                    </a:lnTo>
                    <a:lnTo>
                      <a:pt x="4497" y="4386"/>
                    </a:lnTo>
                    <a:lnTo>
                      <a:pt x="4577" y="4284"/>
                    </a:lnTo>
                    <a:lnTo>
                      <a:pt x="4653" y="4178"/>
                    </a:lnTo>
                    <a:lnTo>
                      <a:pt x="4723" y="4067"/>
                    </a:lnTo>
                    <a:lnTo>
                      <a:pt x="4788" y="3954"/>
                    </a:lnTo>
                    <a:lnTo>
                      <a:pt x="4848" y="3837"/>
                    </a:lnTo>
                    <a:lnTo>
                      <a:pt x="4902" y="3717"/>
                    </a:lnTo>
                    <a:lnTo>
                      <a:pt x="4951" y="3593"/>
                    </a:lnTo>
                    <a:lnTo>
                      <a:pt x="4993" y="3467"/>
                    </a:lnTo>
                    <a:lnTo>
                      <a:pt x="5031" y="3339"/>
                    </a:lnTo>
                    <a:lnTo>
                      <a:pt x="5061" y="3208"/>
                    </a:lnTo>
                    <a:lnTo>
                      <a:pt x="5085" y="3074"/>
                    </a:lnTo>
                    <a:lnTo>
                      <a:pt x="5101" y="2938"/>
                    </a:lnTo>
                    <a:lnTo>
                      <a:pt x="5112" y="2800"/>
                    </a:lnTo>
                    <a:lnTo>
                      <a:pt x="5116" y="2661"/>
                    </a:lnTo>
                    <a:close/>
                  </a:path>
                </a:pathLst>
              </a:custGeom>
              <a:solidFill>
                <a:srgbClr val="fbe4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995720" y="3516480"/>
                <a:ext cx="1936800" cy="2036520"/>
              </a:xfrm>
              <a:custGeom>
                <a:avLst/>
                <a:gdLst/>
                <a:ahLst/>
                <a:rect l="l" t="t" r="r" b="b"/>
                <a:pathLst>
                  <a:path w="4883" h="5131">
                    <a:moveTo>
                      <a:pt x="4883" y="2542"/>
                    </a:moveTo>
                    <a:lnTo>
                      <a:pt x="4881" y="2425"/>
                    </a:lnTo>
                    <a:lnTo>
                      <a:pt x="4872" y="2308"/>
                    </a:lnTo>
                    <a:lnTo>
                      <a:pt x="4860" y="2193"/>
                    </a:lnTo>
                    <a:lnTo>
                      <a:pt x="4842" y="2080"/>
                    </a:lnTo>
                    <a:lnTo>
                      <a:pt x="4820" y="1969"/>
                    </a:lnTo>
                    <a:lnTo>
                      <a:pt x="4792" y="1858"/>
                    </a:lnTo>
                    <a:lnTo>
                      <a:pt x="4760" y="1750"/>
                    </a:lnTo>
                    <a:lnTo>
                      <a:pt x="4724" y="1645"/>
                    </a:lnTo>
                    <a:lnTo>
                      <a:pt x="4683" y="1542"/>
                    </a:lnTo>
                    <a:lnTo>
                      <a:pt x="4637" y="1440"/>
                    </a:lnTo>
                    <a:lnTo>
                      <a:pt x="4588" y="1340"/>
                    </a:lnTo>
                    <a:lnTo>
                      <a:pt x="4534" y="1244"/>
                    </a:lnTo>
                    <a:lnTo>
                      <a:pt x="4478" y="1149"/>
                    </a:lnTo>
                    <a:lnTo>
                      <a:pt x="4416" y="1058"/>
                    </a:lnTo>
                    <a:lnTo>
                      <a:pt x="4350" y="969"/>
                    </a:lnTo>
                    <a:lnTo>
                      <a:pt x="4282" y="884"/>
                    </a:lnTo>
                    <a:lnTo>
                      <a:pt x="4210" y="802"/>
                    </a:lnTo>
                    <a:lnTo>
                      <a:pt x="4134" y="721"/>
                    </a:lnTo>
                    <a:lnTo>
                      <a:pt x="4056" y="646"/>
                    </a:lnTo>
                    <a:lnTo>
                      <a:pt x="3975" y="572"/>
                    </a:lnTo>
                    <a:lnTo>
                      <a:pt x="3890" y="503"/>
                    </a:lnTo>
                    <a:lnTo>
                      <a:pt x="3801" y="437"/>
                    </a:lnTo>
                    <a:lnTo>
                      <a:pt x="3711" y="374"/>
                    </a:lnTo>
                    <a:lnTo>
                      <a:pt x="3617" y="317"/>
                    </a:lnTo>
                    <a:lnTo>
                      <a:pt x="3521" y="262"/>
                    </a:lnTo>
                    <a:lnTo>
                      <a:pt x="3423" y="211"/>
                    </a:lnTo>
                    <a:lnTo>
                      <a:pt x="3322" y="166"/>
                    </a:lnTo>
                    <a:lnTo>
                      <a:pt x="3219" y="122"/>
                    </a:lnTo>
                    <a:lnTo>
                      <a:pt x="3113" y="85"/>
                    </a:lnTo>
                    <a:lnTo>
                      <a:pt x="3005" y="52"/>
                    </a:lnTo>
                    <a:lnTo>
                      <a:pt x="2896" y="24"/>
                    </a:lnTo>
                    <a:lnTo>
                      <a:pt x="2786" y="0"/>
                    </a:lnTo>
                    <a:lnTo>
                      <a:pt x="2776" y="29"/>
                    </a:lnTo>
                    <a:lnTo>
                      <a:pt x="2768" y="59"/>
                    </a:lnTo>
                    <a:lnTo>
                      <a:pt x="2759" y="89"/>
                    </a:lnTo>
                    <a:lnTo>
                      <a:pt x="2751" y="119"/>
                    </a:lnTo>
                    <a:lnTo>
                      <a:pt x="2742" y="149"/>
                    </a:lnTo>
                    <a:lnTo>
                      <a:pt x="2734" y="178"/>
                    </a:lnTo>
                    <a:lnTo>
                      <a:pt x="2727" y="208"/>
                    </a:lnTo>
                    <a:lnTo>
                      <a:pt x="2718" y="238"/>
                    </a:lnTo>
                    <a:lnTo>
                      <a:pt x="2820" y="259"/>
                    </a:lnTo>
                    <a:lnTo>
                      <a:pt x="2920" y="284"/>
                    </a:lnTo>
                    <a:lnTo>
                      <a:pt x="3018" y="313"/>
                    </a:lnTo>
                    <a:lnTo>
                      <a:pt x="3114" y="347"/>
                    </a:lnTo>
                    <a:lnTo>
                      <a:pt x="3209" y="385"/>
                    </a:lnTo>
                    <a:lnTo>
                      <a:pt x="3300" y="426"/>
                    </a:lnTo>
                    <a:lnTo>
                      <a:pt x="3390" y="472"/>
                    </a:lnTo>
                    <a:lnTo>
                      <a:pt x="3479" y="521"/>
                    </a:lnTo>
                    <a:lnTo>
                      <a:pt x="3564" y="574"/>
                    </a:lnTo>
                    <a:lnTo>
                      <a:pt x="3647" y="630"/>
                    </a:lnTo>
                    <a:lnTo>
                      <a:pt x="3728" y="689"/>
                    </a:lnTo>
                    <a:lnTo>
                      <a:pt x="3806" y="752"/>
                    </a:lnTo>
                    <a:lnTo>
                      <a:pt x="3880" y="818"/>
                    </a:lnTo>
                    <a:lnTo>
                      <a:pt x="3952" y="888"/>
                    </a:lnTo>
                    <a:lnTo>
                      <a:pt x="4020" y="960"/>
                    </a:lnTo>
                    <a:lnTo>
                      <a:pt x="4086" y="1034"/>
                    </a:lnTo>
                    <a:lnTo>
                      <a:pt x="4150" y="1112"/>
                    </a:lnTo>
                    <a:lnTo>
                      <a:pt x="4209" y="1193"/>
                    </a:lnTo>
                    <a:lnTo>
                      <a:pt x="4265" y="1275"/>
                    </a:lnTo>
                    <a:lnTo>
                      <a:pt x="4318" y="1361"/>
                    </a:lnTo>
                    <a:lnTo>
                      <a:pt x="4366" y="1449"/>
                    </a:lnTo>
                    <a:lnTo>
                      <a:pt x="4412" y="1539"/>
                    </a:lnTo>
                    <a:lnTo>
                      <a:pt x="4452" y="1632"/>
                    </a:lnTo>
                    <a:lnTo>
                      <a:pt x="4491" y="1725"/>
                    </a:lnTo>
                    <a:lnTo>
                      <a:pt x="4524" y="1822"/>
                    </a:lnTo>
                    <a:lnTo>
                      <a:pt x="4553" y="1920"/>
                    </a:lnTo>
                    <a:lnTo>
                      <a:pt x="4578" y="2020"/>
                    </a:lnTo>
                    <a:lnTo>
                      <a:pt x="4599" y="2121"/>
                    </a:lnTo>
                    <a:lnTo>
                      <a:pt x="4616" y="2224"/>
                    </a:lnTo>
                    <a:lnTo>
                      <a:pt x="4628" y="2329"/>
                    </a:lnTo>
                    <a:lnTo>
                      <a:pt x="4635" y="2435"/>
                    </a:lnTo>
                    <a:lnTo>
                      <a:pt x="4637" y="2542"/>
                    </a:lnTo>
                    <a:lnTo>
                      <a:pt x="4634" y="2662"/>
                    </a:lnTo>
                    <a:lnTo>
                      <a:pt x="4624" y="2782"/>
                    </a:lnTo>
                    <a:lnTo>
                      <a:pt x="4610" y="2899"/>
                    </a:lnTo>
                    <a:lnTo>
                      <a:pt x="4589" y="3014"/>
                    </a:lnTo>
                    <a:lnTo>
                      <a:pt x="4563" y="3128"/>
                    </a:lnTo>
                    <a:lnTo>
                      <a:pt x="4532" y="3239"/>
                    </a:lnTo>
                    <a:lnTo>
                      <a:pt x="4494" y="3347"/>
                    </a:lnTo>
                    <a:lnTo>
                      <a:pt x="4452" y="3454"/>
                    </a:lnTo>
                    <a:lnTo>
                      <a:pt x="4406" y="3558"/>
                    </a:lnTo>
                    <a:lnTo>
                      <a:pt x="4354" y="3659"/>
                    </a:lnTo>
                    <a:lnTo>
                      <a:pt x="4298" y="3756"/>
                    </a:lnTo>
                    <a:lnTo>
                      <a:pt x="4236" y="3852"/>
                    </a:lnTo>
                    <a:lnTo>
                      <a:pt x="4172" y="3943"/>
                    </a:lnTo>
                    <a:lnTo>
                      <a:pt x="4102" y="4032"/>
                    </a:lnTo>
                    <a:lnTo>
                      <a:pt x="4028" y="4117"/>
                    </a:lnTo>
                    <a:lnTo>
                      <a:pt x="3951" y="4199"/>
                    </a:lnTo>
                    <a:lnTo>
                      <a:pt x="3869" y="4276"/>
                    </a:lnTo>
                    <a:lnTo>
                      <a:pt x="3784" y="4350"/>
                    </a:lnTo>
                    <a:lnTo>
                      <a:pt x="3695" y="4420"/>
                    </a:lnTo>
                    <a:lnTo>
                      <a:pt x="3604" y="4485"/>
                    </a:lnTo>
                    <a:lnTo>
                      <a:pt x="3508" y="4546"/>
                    </a:lnTo>
                    <a:lnTo>
                      <a:pt x="3411" y="4602"/>
                    </a:lnTo>
                    <a:lnTo>
                      <a:pt x="3309" y="4654"/>
                    </a:lnTo>
                    <a:lnTo>
                      <a:pt x="3206" y="4700"/>
                    </a:lnTo>
                    <a:lnTo>
                      <a:pt x="3099" y="4742"/>
                    </a:lnTo>
                    <a:lnTo>
                      <a:pt x="2990" y="4780"/>
                    </a:lnTo>
                    <a:lnTo>
                      <a:pt x="2879" y="4811"/>
                    </a:lnTo>
                    <a:lnTo>
                      <a:pt x="2765" y="4837"/>
                    </a:lnTo>
                    <a:lnTo>
                      <a:pt x="2650" y="4858"/>
                    </a:lnTo>
                    <a:lnTo>
                      <a:pt x="2532" y="4873"/>
                    </a:lnTo>
                    <a:lnTo>
                      <a:pt x="2414" y="4882"/>
                    </a:lnTo>
                    <a:lnTo>
                      <a:pt x="2294" y="4885"/>
                    </a:lnTo>
                    <a:lnTo>
                      <a:pt x="2208" y="4883"/>
                    </a:lnTo>
                    <a:lnTo>
                      <a:pt x="2124" y="4879"/>
                    </a:lnTo>
                    <a:lnTo>
                      <a:pt x="2042" y="4872"/>
                    </a:lnTo>
                    <a:lnTo>
                      <a:pt x="1959" y="4861"/>
                    </a:lnTo>
                    <a:lnTo>
                      <a:pt x="1877" y="4848"/>
                    </a:lnTo>
                    <a:lnTo>
                      <a:pt x="1797" y="4832"/>
                    </a:lnTo>
                    <a:lnTo>
                      <a:pt x="1718" y="4813"/>
                    </a:lnTo>
                    <a:lnTo>
                      <a:pt x="1638" y="4792"/>
                    </a:lnTo>
                    <a:lnTo>
                      <a:pt x="1562" y="4769"/>
                    </a:lnTo>
                    <a:lnTo>
                      <a:pt x="1485" y="4741"/>
                    </a:lnTo>
                    <a:lnTo>
                      <a:pt x="1410" y="4712"/>
                    </a:lnTo>
                    <a:lnTo>
                      <a:pt x="1337" y="4681"/>
                    </a:lnTo>
                    <a:lnTo>
                      <a:pt x="1264" y="4648"/>
                    </a:lnTo>
                    <a:lnTo>
                      <a:pt x="1193" y="4612"/>
                    </a:lnTo>
                    <a:lnTo>
                      <a:pt x="1124" y="4572"/>
                    </a:lnTo>
                    <a:lnTo>
                      <a:pt x="1055" y="4531"/>
                    </a:lnTo>
                    <a:lnTo>
                      <a:pt x="989" y="4488"/>
                    </a:lnTo>
                    <a:lnTo>
                      <a:pt x="924" y="4444"/>
                    </a:lnTo>
                    <a:lnTo>
                      <a:pt x="861" y="4396"/>
                    </a:lnTo>
                    <a:lnTo>
                      <a:pt x="798" y="4347"/>
                    </a:lnTo>
                    <a:lnTo>
                      <a:pt x="740" y="4295"/>
                    </a:lnTo>
                    <a:lnTo>
                      <a:pt x="681" y="4242"/>
                    </a:lnTo>
                    <a:lnTo>
                      <a:pt x="624" y="4187"/>
                    </a:lnTo>
                    <a:lnTo>
                      <a:pt x="570" y="4129"/>
                    </a:lnTo>
                    <a:lnTo>
                      <a:pt x="518" y="4071"/>
                    </a:lnTo>
                    <a:lnTo>
                      <a:pt x="467" y="4009"/>
                    </a:lnTo>
                    <a:lnTo>
                      <a:pt x="418" y="3947"/>
                    </a:lnTo>
                    <a:lnTo>
                      <a:pt x="372" y="3883"/>
                    </a:lnTo>
                    <a:lnTo>
                      <a:pt x="328" y="3817"/>
                    </a:lnTo>
                    <a:lnTo>
                      <a:pt x="286" y="3750"/>
                    </a:lnTo>
                    <a:lnTo>
                      <a:pt x="245" y="3682"/>
                    </a:lnTo>
                    <a:lnTo>
                      <a:pt x="208" y="3611"/>
                    </a:lnTo>
                    <a:lnTo>
                      <a:pt x="183" y="3630"/>
                    </a:lnTo>
                    <a:lnTo>
                      <a:pt x="159" y="3647"/>
                    </a:lnTo>
                    <a:lnTo>
                      <a:pt x="132" y="3665"/>
                    </a:lnTo>
                    <a:lnTo>
                      <a:pt x="107" y="3682"/>
                    </a:lnTo>
                    <a:lnTo>
                      <a:pt x="81" y="3699"/>
                    </a:lnTo>
                    <a:lnTo>
                      <a:pt x="54" y="3716"/>
                    </a:lnTo>
                    <a:lnTo>
                      <a:pt x="28" y="3731"/>
                    </a:lnTo>
                    <a:lnTo>
                      <a:pt x="0" y="3747"/>
                    </a:lnTo>
                    <a:lnTo>
                      <a:pt x="42" y="3823"/>
                    </a:lnTo>
                    <a:lnTo>
                      <a:pt x="87" y="3898"/>
                    </a:lnTo>
                    <a:lnTo>
                      <a:pt x="134" y="3971"/>
                    </a:lnTo>
                    <a:lnTo>
                      <a:pt x="183" y="4043"/>
                    </a:lnTo>
                    <a:lnTo>
                      <a:pt x="234" y="4113"/>
                    </a:lnTo>
                    <a:lnTo>
                      <a:pt x="288" y="4181"/>
                    </a:lnTo>
                    <a:lnTo>
                      <a:pt x="344" y="4247"/>
                    </a:lnTo>
                    <a:lnTo>
                      <a:pt x="402" y="4311"/>
                    </a:lnTo>
                    <a:lnTo>
                      <a:pt x="462" y="4373"/>
                    </a:lnTo>
                    <a:lnTo>
                      <a:pt x="524" y="4433"/>
                    </a:lnTo>
                    <a:lnTo>
                      <a:pt x="588" y="4491"/>
                    </a:lnTo>
                    <a:lnTo>
                      <a:pt x="654" y="4547"/>
                    </a:lnTo>
                    <a:lnTo>
                      <a:pt x="722" y="4601"/>
                    </a:lnTo>
                    <a:lnTo>
                      <a:pt x="792" y="4652"/>
                    </a:lnTo>
                    <a:lnTo>
                      <a:pt x="863" y="4702"/>
                    </a:lnTo>
                    <a:lnTo>
                      <a:pt x="936" y="4748"/>
                    </a:lnTo>
                    <a:lnTo>
                      <a:pt x="1011" y="4793"/>
                    </a:lnTo>
                    <a:lnTo>
                      <a:pt x="1088" y="4835"/>
                    </a:lnTo>
                    <a:lnTo>
                      <a:pt x="1166" y="4873"/>
                    </a:lnTo>
                    <a:lnTo>
                      <a:pt x="1245" y="4910"/>
                    </a:lnTo>
                    <a:lnTo>
                      <a:pt x="1326" y="4945"/>
                    </a:lnTo>
                    <a:lnTo>
                      <a:pt x="1408" y="4976"/>
                    </a:lnTo>
                    <a:lnTo>
                      <a:pt x="1492" y="5005"/>
                    </a:lnTo>
                    <a:lnTo>
                      <a:pt x="1576" y="5030"/>
                    </a:lnTo>
                    <a:lnTo>
                      <a:pt x="1662" y="5054"/>
                    </a:lnTo>
                    <a:lnTo>
                      <a:pt x="1750" y="5075"/>
                    </a:lnTo>
                    <a:lnTo>
                      <a:pt x="1838" y="5092"/>
                    </a:lnTo>
                    <a:lnTo>
                      <a:pt x="1926" y="5106"/>
                    </a:lnTo>
                    <a:lnTo>
                      <a:pt x="2018" y="5117"/>
                    </a:lnTo>
                    <a:lnTo>
                      <a:pt x="2109" y="5125"/>
                    </a:lnTo>
                    <a:lnTo>
                      <a:pt x="2200" y="5130"/>
                    </a:lnTo>
                    <a:lnTo>
                      <a:pt x="2294" y="5131"/>
                    </a:lnTo>
                    <a:lnTo>
                      <a:pt x="2427" y="5128"/>
                    </a:lnTo>
                    <a:lnTo>
                      <a:pt x="2558" y="5118"/>
                    </a:lnTo>
                    <a:lnTo>
                      <a:pt x="2687" y="5101"/>
                    </a:lnTo>
                    <a:lnTo>
                      <a:pt x="2816" y="5078"/>
                    </a:lnTo>
                    <a:lnTo>
                      <a:pt x="2940" y="5050"/>
                    </a:lnTo>
                    <a:lnTo>
                      <a:pt x="3064" y="5015"/>
                    </a:lnTo>
                    <a:lnTo>
                      <a:pt x="3184" y="4974"/>
                    </a:lnTo>
                    <a:lnTo>
                      <a:pt x="3302" y="4928"/>
                    </a:lnTo>
                    <a:lnTo>
                      <a:pt x="3416" y="4876"/>
                    </a:lnTo>
                    <a:lnTo>
                      <a:pt x="3528" y="4819"/>
                    </a:lnTo>
                    <a:lnTo>
                      <a:pt x="3636" y="4757"/>
                    </a:lnTo>
                    <a:lnTo>
                      <a:pt x="3742" y="4690"/>
                    </a:lnTo>
                    <a:lnTo>
                      <a:pt x="3843" y="4616"/>
                    </a:lnTo>
                    <a:lnTo>
                      <a:pt x="3941" y="4540"/>
                    </a:lnTo>
                    <a:lnTo>
                      <a:pt x="4035" y="4459"/>
                    </a:lnTo>
                    <a:lnTo>
                      <a:pt x="4125" y="4373"/>
                    </a:lnTo>
                    <a:lnTo>
                      <a:pt x="4210" y="4283"/>
                    </a:lnTo>
                    <a:lnTo>
                      <a:pt x="4292" y="4189"/>
                    </a:lnTo>
                    <a:lnTo>
                      <a:pt x="4368" y="4091"/>
                    </a:lnTo>
                    <a:lnTo>
                      <a:pt x="4440" y="3990"/>
                    </a:lnTo>
                    <a:lnTo>
                      <a:pt x="4509" y="3885"/>
                    </a:lnTo>
                    <a:lnTo>
                      <a:pt x="4571" y="3777"/>
                    </a:lnTo>
                    <a:lnTo>
                      <a:pt x="4628" y="3665"/>
                    </a:lnTo>
                    <a:lnTo>
                      <a:pt x="4680" y="3550"/>
                    </a:lnTo>
                    <a:lnTo>
                      <a:pt x="4726" y="3432"/>
                    </a:lnTo>
                    <a:lnTo>
                      <a:pt x="4767" y="3312"/>
                    </a:lnTo>
                    <a:lnTo>
                      <a:pt x="4802" y="3189"/>
                    </a:lnTo>
                    <a:lnTo>
                      <a:pt x="4830" y="3064"/>
                    </a:lnTo>
                    <a:lnTo>
                      <a:pt x="4853" y="2937"/>
                    </a:lnTo>
                    <a:lnTo>
                      <a:pt x="4870" y="2807"/>
                    </a:lnTo>
                    <a:lnTo>
                      <a:pt x="4880" y="2675"/>
                    </a:lnTo>
                    <a:lnTo>
                      <a:pt x="4883" y="2542"/>
                    </a:lnTo>
                    <a:close/>
                  </a:path>
                </a:pathLst>
              </a:custGeom>
              <a:solidFill>
                <a:srgbClr val="fbe4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037120" y="3564000"/>
                <a:ext cx="1846080" cy="1940040"/>
              </a:xfrm>
              <a:custGeom>
                <a:avLst/>
                <a:gdLst/>
                <a:ahLst/>
                <a:rect l="l" t="t" r="r" b="b"/>
                <a:pathLst>
                  <a:path w="4654" h="4889">
                    <a:moveTo>
                      <a:pt x="4654" y="2423"/>
                    </a:moveTo>
                    <a:lnTo>
                      <a:pt x="4651" y="2310"/>
                    </a:lnTo>
                    <a:lnTo>
                      <a:pt x="4644" y="2200"/>
                    </a:lnTo>
                    <a:lnTo>
                      <a:pt x="4632" y="2090"/>
                    </a:lnTo>
                    <a:lnTo>
                      <a:pt x="4614" y="1982"/>
                    </a:lnTo>
                    <a:lnTo>
                      <a:pt x="4592" y="1875"/>
                    </a:lnTo>
                    <a:lnTo>
                      <a:pt x="4566" y="1771"/>
                    </a:lnTo>
                    <a:lnTo>
                      <a:pt x="4536" y="1667"/>
                    </a:lnTo>
                    <a:lnTo>
                      <a:pt x="4501" y="1565"/>
                    </a:lnTo>
                    <a:lnTo>
                      <a:pt x="4462" y="1467"/>
                    </a:lnTo>
                    <a:lnTo>
                      <a:pt x="4418" y="1370"/>
                    </a:lnTo>
                    <a:lnTo>
                      <a:pt x="4370" y="1275"/>
                    </a:lnTo>
                    <a:lnTo>
                      <a:pt x="4320" y="1183"/>
                    </a:lnTo>
                    <a:lnTo>
                      <a:pt x="4265" y="1093"/>
                    </a:lnTo>
                    <a:lnTo>
                      <a:pt x="4206" y="1006"/>
                    </a:lnTo>
                    <a:lnTo>
                      <a:pt x="4144" y="921"/>
                    </a:lnTo>
                    <a:lnTo>
                      <a:pt x="4078" y="840"/>
                    </a:lnTo>
                    <a:lnTo>
                      <a:pt x="4009" y="760"/>
                    </a:lnTo>
                    <a:lnTo>
                      <a:pt x="3937" y="685"/>
                    </a:lnTo>
                    <a:lnTo>
                      <a:pt x="3862" y="612"/>
                    </a:lnTo>
                    <a:lnTo>
                      <a:pt x="3782" y="542"/>
                    </a:lnTo>
                    <a:lnTo>
                      <a:pt x="3702" y="476"/>
                    </a:lnTo>
                    <a:lnTo>
                      <a:pt x="3617" y="414"/>
                    </a:lnTo>
                    <a:lnTo>
                      <a:pt x="3530" y="355"/>
                    </a:lnTo>
                    <a:lnTo>
                      <a:pt x="3440" y="299"/>
                    </a:lnTo>
                    <a:lnTo>
                      <a:pt x="3349" y="247"/>
                    </a:lnTo>
                    <a:lnTo>
                      <a:pt x="3254" y="199"/>
                    </a:lnTo>
                    <a:lnTo>
                      <a:pt x="3158" y="156"/>
                    </a:lnTo>
                    <a:lnTo>
                      <a:pt x="3059" y="116"/>
                    </a:lnTo>
                    <a:lnTo>
                      <a:pt x="2958" y="80"/>
                    </a:lnTo>
                    <a:lnTo>
                      <a:pt x="2856" y="49"/>
                    </a:lnTo>
                    <a:lnTo>
                      <a:pt x="2750" y="21"/>
                    </a:lnTo>
                    <a:lnTo>
                      <a:pt x="2645" y="0"/>
                    </a:lnTo>
                    <a:lnTo>
                      <a:pt x="2636" y="30"/>
                    </a:lnTo>
                    <a:lnTo>
                      <a:pt x="2628" y="59"/>
                    </a:lnTo>
                    <a:lnTo>
                      <a:pt x="2621" y="89"/>
                    </a:lnTo>
                    <a:lnTo>
                      <a:pt x="2612" y="119"/>
                    </a:lnTo>
                    <a:lnTo>
                      <a:pt x="2605" y="149"/>
                    </a:lnTo>
                    <a:lnTo>
                      <a:pt x="2597" y="179"/>
                    </a:lnTo>
                    <a:lnTo>
                      <a:pt x="2590" y="209"/>
                    </a:lnTo>
                    <a:lnTo>
                      <a:pt x="2582" y="239"/>
                    </a:lnTo>
                    <a:lnTo>
                      <a:pt x="2678" y="258"/>
                    </a:lnTo>
                    <a:lnTo>
                      <a:pt x="2773" y="282"/>
                    </a:lnTo>
                    <a:lnTo>
                      <a:pt x="2867" y="309"/>
                    </a:lnTo>
                    <a:lnTo>
                      <a:pt x="2958" y="342"/>
                    </a:lnTo>
                    <a:lnTo>
                      <a:pt x="3048" y="377"/>
                    </a:lnTo>
                    <a:lnTo>
                      <a:pt x="3136" y="416"/>
                    </a:lnTo>
                    <a:lnTo>
                      <a:pt x="3222" y="459"/>
                    </a:lnTo>
                    <a:lnTo>
                      <a:pt x="3305" y="505"/>
                    </a:lnTo>
                    <a:lnTo>
                      <a:pt x="3386" y="555"/>
                    </a:lnTo>
                    <a:lnTo>
                      <a:pt x="3466" y="608"/>
                    </a:lnTo>
                    <a:lnTo>
                      <a:pt x="3541" y="665"/>
                    </a:lnTo>
                    <a:lnTo>
                      <a:pt x="3616" y="724"/>
                    </a:lnTo>
                    <a:lnTo>
                      <a:pt x="3686" y="787"/>
                    </a:lnTo>
                    <a:lnTo>
                      <a:pt x="3756" y="852"/>
                    </a:lnTo>
                    <a:lnTo>
                      <a:pt x="3821" y="920"/>
                    </a:lnTo>
                    <a:lnTo>
                      <a:pt x="3884" y="992"/>
                    </a:lnTo>
                    <a:lnTo>
                      <a:pt x="3943" y="1065"/>
                    </a:lnTo>
                    <a:lnTo>
                      <a:pt x="4000" y="1142"/>
                    </a:lnTo>
                    <a:lnTo>
                      <a:pt x="4054" y="1220"/>
                    </a:lnTo>
                    <a:lnTo>
                      <a:pt x="4104" y="1302"/>
                    </a:lnTo>
                    <a:lnTo>
                      <a:pt x="4150" y="1386"/>
                    </a:lnTo>
                    <a:lnTo>
                      <a:pt x="4193" y="1471"/>
                    </a:lnTo>
                    <a:lnTo>
                      <a:pt x="4232" y="1558"/>
                    </a:lnTo>
                    <a:lnTo>
                      <a:pt x="4268" y="1648"/>
                    </a:lnTo>
                    <a:lnTo>
                      <a:pt x="4300" y="1739"/>
                    </a:lnTo>
                    <a:lnTo>
                      <a:pt x="4328" y="1832"/>
                    </a:lnTo>
                    <a:lnTo>
                      <a:pt x="4351" y="1928"/>
                    </a:lnTo>
                    <a:lnTo>
                      <a:pt x="4372" y="2024"/>
                    </a:lnTo>
                    <a:lnTo>
                      <a:pt x="4387" y="2122"/>
                    </a:lnTo>
                    <a:lnTo>
                      <a:pt x="4398" y="2220"/>
                    </a:lnTo>
                    <a:lnTo>
                      <a:pt x="4405" y="2321"/>
                    </a:lnTo>
                    <a:lnTo>
                      <a:pt x="4408" y="2423"/>
                    </a:lnTo>
                    <a:lnTo>
                      <a:pt x="4404" y="2537"/>
                    </a:lnTo>
                    <a:lnTo>
                      <a:pt x="4396" y="2650"/>
                    </a:lnTo>
                    <a:lnTo>
                      <a:pt x="4381" y="2762"/>
                    </a:lnTo>
                    <a:lnTo>
                      <a:pt x="4362" y="2871"/>
                    </a:lnTo>
                    <a:lnTo>
                      <a:pt x="4338" y="2977"/>
                    </a:lnTo>
                    <a:lnTo>
                      <a:pt x="4308" y="3083"/>
                    </a:lnTo>
                    <a:lnTo>
                      <a:pt x="4273" y="3186"/>
                    </a:lnTo>
                    <a:lnTo>
                      <a:pt x="4232" y="3287"/>
                    </a:lnTo>
                    <a:lnTo>
                      <a:pt x="4188" y="3385"/>
                    </a:lnTo>
                    <a:lnTo>
                      <a:pt x="4139" y="3481"/>
                    </a:lnTo>
                    <a:lnTo>
                      <a:pt x="4086" y="3574"/>
                    </a:lnTo>
                    <a:lnTo>
                      <a:pt x="4028" y="3664"/>
                    </a:lnTo>
                    <a:lnTo>
                      <a:pt x="3966" y="3751"/>
                    </a:lnTo>
                    <a:lnTo>
                      <a:pt x="3900" y="3835"/>
                    </a:lnTo>
                    <a:lnTo>
                      <a:pt x="3830" y="3916"/>
                    </a:lnTo>
                    <a:lnTo>
                      <a:pt x="3757" y="3992"/>
                    </a:lnTo>
                    <a:lnTo>
                      <a:pt x="3680" y="4066"/>
                    </a:lnTo>
                    <a:lnTo>
                      <a:pt x="3600" y="4135"/>
                    </a:lnTo>
                    <a:lnTo>
                      <a:pt x="3516" y="4201"/>
                    </a:lnTo>
                    <a:lnTo>
                      <a:pt x="3428" y="4264"/>
                    </a:lnTo>
                    <a:lnTo>
                      <a:pt x="3338" y="4321"/>
                    </a:lnTo>
                    <a:lnTo>
                      <a:pt x="3246" y="4375"/>
                    </a:lnTo>
                    <a:lnTo>
                      <a:pt x="3150" y="4424"/>
                    </a:lnTo>
                    <a:lnTo>
                      <a:pt x="3052" y="4469"/>
                    </a:lnTo>
                    <a:lnTo>
                      <a:pt x="2951" y="4508"/>
                    </a:lnTo>
                    <a:lnTo>
                      <a:pt x="2848" y="4543"/>
                    </a:lnTo>
                    <a:lnTo>
                      <a:pt x="2742" y="4573"/>
                    </a:lnTo>
                    <a:lnTo>
                      <a:pt x="2635" y="4597"/>
                    </a:lnTo>
                    <a:lnTo>
                      <a:pt x="2526" y="4617"/>
                    </a:lnTo>
                    <a:lnTo>
                      <a:pt x="2414" y="4631"/>
                    </a:lnTo>
                    <a:lnTo>
                      <a:pt x="2302" y="4640"/>
                    </a:lnTo>
                    <a:lnTo>
                      <a:pt x="2188" y="4643"/>
                    </a:lnTo>
                    <a:lnTo>
                      <a:pt x="2106" y="4641"/>
                    </a:lnTo>
                    <a:lnTo>
                      <a:pt x="2026" y="4637"/>
                    </a:lnTo>
                    <a:lnTo>
                      <a:pt x="1946" y="4629"/>
                    </a:lnTo>
                    <a:lnTo>
                      <a:pt x="1867" y="4620"/>
                    </a:lnTo>
                    <a:lnTo>
                      <a:pt x="1789" y="4607"/>
                    </a:lnTo>
                    <a:lnTo>
                      <a:pt x="1712" y="4591"/>
                    </a:lnTo>
                    <a:lnTo>
                      <a:pt x="1636" y="4573"/>
                    </a:lnTo>
                    <a:lnTo>
                      <a:pt x="1561" y="4553"/>
                    </a:lnTo>
                    <a:lnTo>
                      <a:pt x="1487" y="4530"/>
                    </a:lnTo>
                    <a:lnTo>
                      <a:pt x="1414" y="4505"/>
                    </a:lnTo>
                    <a:lnTo>
                      <a:pt x="1343" y="4476"/>
                    </a:lnTo>
                    <a:lnTo>
                      <a:pt x="1272" y="4446"/>
                    </a:lnTo>
                    <a:lnTo>
                      <a:pt x="1202" y="4412"/>
                    </a:lnTo>
                    <a:lnTo>
                      <a:pt x="1135" y="4378"/>
                    </a:lnTo>
                    <a:lnTo>
                      <a:pt x="1069" y="4340"/>
                    </a:lnTo>
                    <a:lnTo>
                      <a:pt x="1003" y="4301"/>
                    </a:lnTo>
                    <a:lnTo>
                      <a:pt x="941" y="4260"/>
                    </a:lnTo>
                    <a:lnTo>
                      <a:pt x="878" y="4216"/>
                    </a:lnTo>
                    <a:lnTo>
                      <a:pt x="818" y="4170"/>
                    </a:lnTo>
                    <a:lnTo>
                      <a:pt x="760" y="4122"/>
                    </a:lnTo>
                    <a:lnTo>
                      <a:pt x="702" y="4073"/>
                    </a:lnTo>
                    <a:lnTo>
                      <a:pt x="647" y="4021"/>
                    </a:lnTo>
                    <a:lnTo>
                      <a:pt x="593" y="3967"/>
                    </a:lnTo>
                    <a:lnTo>
                      <a:pt x="541" y="3912"/>
                    </a:lnTo>
                    <a:lnTo>
                      <a:pt x="492" y="3856"/>
                    </a:lnTo>
                    <a:lnTo>
                      <a:pt x="444" y="3797"/>
                    </a:lnTo>
                    <a:lnTo>
                      <a:pt x="398" y="3737"/>
                    </a:lnTo>
                    <a:lnTo>
                      <a:pt x="354" y="3674"/>
                    </a:lnTo>
                    <a:lnTo>
                      <a:pt x="312" y="3611"/>
                    </a:lnTo>
                    <a:lnTo>
                      <a:pt x="272" y="3546"/>
                    </a:lnTo>
                    <a:lnTo>
                      <a:pt x="235" y="3480"/>
                    </a:lnTo>
                    <a:lnTo>
                      <a:pt x="200" y="3413"/>
                    </a:lnTo>
                    <a:lnTo>
                      <a:pt x="198" y="3414"/>
                    </a:lnTo>
                    <a:lnTo>
                      <a:pt x="196" y="3417"/>
                    </a:lnTo>
                    <a:lnTo>
                      <a:pt x="193" y="3418"/>
                    </a:lnTo>
                    <a:lnTo>
                      <a:pt x="191" y="3420"/>
                    </a:lnTo>
                    <a:lnTo>
                      <a:pt x="190" y="3421"/>
                    </a:lnTo>
                    <a:lnTo>
                      <a:pt x="187" y="3424"/>
                    </a:lnTo>
                    <a:lnTo>
                      <a:pt x="185" y="3425"/>
                    </a:lnTo>
                    <a:lnTo>
                      <a:pt x="184" y="3427"/>
                    </a:lnTo>
                    <a:lnTo>
                      <a:pt x="162" y="3445"/>
                    </a:lnTo>
                    <a:lnTo>
                      <a:pt x="140" y="3463"/>
                    </a:lnTo>
                    <a:lnTo>
                      <a:pt x="118" y="3480"/>
                    </a:lnTo>
                    <a:lnTo>
                      <a:pt x="95" y="3498"/>
                    </a:lnTo>
                    <a:lnTo>
                      <a:pt x="72" y="3515"/>
                    </a:lnTo>
                    <a:lnTo>
                      <a:pt x="48" y="3532"/>
                    </a:lnTo>
                    <a:lnTo>
                      <a:pt x="24" y="3549"/>
                    </a:lnTo>
                    <a:lnTo>
                      <a:pt x="0" y="3564"/>
                    </a:lnTo>
                    <a:lnTo>
                      <a:pt x="40" y="3637"/>
                    </a:lnTo>
                    <a:lnTo>
                      <a:pt x="83" y="3709"/>
                    </a:lnTo>
                    <a:lnTo>
                      <a:pt x="127" y="3779"/>
                    </a:lnTo>
                    <a:lnTo>
                      <a:pt x="174" y="3847"/>
                    </a:lnTo>
                    <a:lnTo>
                      <a:pt x="222" y="3913"/>
                    </a:lnTo>
                    <a:lnTo>
                      <a:pt x="274" y="3979"/>
                    </a:lnTo>
                    <a:lnTo>
                      <a:pt x="326" y="4042"/>
                    </a:lnTo>
                    <a:lnTo>
                      <a:pt x="382" y="4103"/>
                    </a:lnTo>
                    <a:lnTo>
                      <a:pt x="439" y="4163"/>
                    </a:lnTo>
                    <a:lnTo>
                      <a:pt x="498" y="4220"/>
                    </a:lnTo>
                    <a:lnTo>
                      <a:pt x="559" y="4276"/>
                    </a:lnTo>
                    <a:lnTo>
                      <a:pt x="623" y="4330"/>
                    </a:lnTo>
                    <a:lnTo>
                      <a:pt x="688" y="4381"/>
                    </a:lnTo>
                    <a:lnTo>
                      <a:pt x="754" y="4430"/>
                    </a:lnTo>
                    <a:lnTo>
                      <a:pt x="822" y="4477"/>
                    </a:lnTo>
                    <a:lnTo>
                      <a:pt x="892" y="4521"/>
                    </a:lnTo>
                    <a:lnTo>
                      <a:pt x="964" y="4565"/>
                    </a:lnTo>
                    <a:lnTo>
                      <a:pt x="1036" y="4604"/>
                    </a:lnTo>
                    <a:lnTo>
                      <a:pt x="1110" y="4643"/>
                    </a:lnTo>
                    <a:lnTo>
                      <a:pt x="1187" y="4677"/>
                    </a:lnTo>
                    <a:lnTo>
                      <a:pt x="1264" y="4710"/>
                    </a:lnTo>
                    <a:lnTo>
                      <a:pt x="1342" y="4741"/>
                    </a:lnTo>
                    <a:lnTo>
                      <a:pt x="1422" y="4767"/>
                    </a:lnTo>
                    <a:lnTo>
                      <a:pt x="1502" y="4793"/>
                    </a:lnTo>
                    <a:lnTo>
                      <a:pt x="1585" y="4815"/>
                    </a:lnTo>
                    <a:lnTo>
                      <a:pt x="1668" y="4835"/>
                    </a:lnTo>
                    <a:lnTo>
                      <a:pt x="1752" y="4851"/>
                    </a:lnTo>
                    <a:lnTo>
                      <a:pt x="1837" y="4865"/>
                    </a:lnTo>
                    <a:lnTo>
                      <a:pt x="1924" y="4875"/>
                    </a:lnTo>
                    <a:lnTo>
                      <a:pt x="2011" y="4883"/>
                    </a:lnTo>
                    <a:lnTo>
                      <a:pt x="2099" y="4887"/>
                    </a:lnTo>
                    <a:lnTo>
                      <a:pt x="2188" y="4889"/>
                    </a:lnTo>
                    <a:lnTo>
                      <a:pt x="2315" y="4886"/>
                    </a:lnTo>
                    <a:lnTo>
                      <a:pt x="2440" y="4877"/>
                    </a:lnTo>
                    <a:lnTo>
                      <a:pt x="2563" y="4861"/>
                    </a:lnTo>
                    <a:lnTo>
                      <a:pt x="2684" y="4839"/>
                    </a:lnTo>
                    <a:lnTo>
                      <a:pt x="2803" y="4812"/>
                    </a:lnTo>
                    <a:lnTo>
                      <a:pt x="2921" y="4778"/>
                    </a:lnTo>
                    <a:lnTo>
                      <a:pt x="3036" y="4740"/>
                    </a:lnTo>
                    <a:lnTo>
                      <a:pt x="3148" y="4695"/>
                    </a:lnTo>
                    <a:lnTo>
                      <a:pt x="3257" y="4646"/>
                    </a:lnTo>
                    <a:lnTo>
                      <a:pt x="3364" y="4591"/>
                    </a:lnTo>
                    <a:lnTo>
                      <a:pt x="3467" y="4532"/>
                    </a:lnTo>
                    <a:lnTo>
                      <a:pt x="3566" y="4467"/>
                    </a:lnTo>
                    <a:lnTo>
                      <a:pt x="3664" y="4399"/>
                    </a:lnTo>
                    <a:lnTo>
                      <a:pt x="3756" y="4326"/>
                    </a:lnTo>
                    <a:lnTo>
                      <a:pt x="3846" y="4248"/>
                    </a:lnTo>
                    <a:lnTo>
                      <a:pt x="3931" y="4166"/>
                    </a:lnTo>
                    <a:lnTo>
                      <a:pt x="4013" y="4081"/>
                    </a:lnTo>
                    <a:lnTo>
                      <a:pt x="4091" y="3991"/>
                    </a:lnTo>
                    <a:lnTo>
                      <a:pt x="4164" y="3899"/>
                    </a:lnTo>
                    <a:lnTo>
                      <a:pt x="4232" y="3802"/>
                    </a:lnTo>
                    <a:lnTo>
                      <a:pt x="4297" y="3702"/>
                    </a:lnTo>
                    <a:lnTo>
                      <a:pt x="4356" y="3599"/>
                    </a:lnTo>
                    <a:lnTo>
                      <a:pt x="4411" y="3492"/>
                    </a:lnTo>
                    <a:lnTo>
                      <a:pt x="4460" y="3383"/>
                    </a:lnTo>
                    <a:lnTo>
                      <a:pt x="4505" y="3271"/>
                    </a:lnTo>
                    <a:lnTo>
                      <a:pt x="4543" y="3156"/>
                    </a:lnTo>
                    <a:lnTo>
                      <a:pt x="4577" y="3040"/>
                    </a:lnTo>
                    <a:lnTo>
                      <a:pt x="4604" y="2920"/>
                    </a:lnTo>
                    <a:lnTo>
                      <a:pt x="4626" y="2799"/>
                    </a:lnTo>
                    <a:lnTo>
                      <a:pt x="4642" y="2675"/>
                    </a:lnTo>
                    <a:lnTo>
                      <a:pt x="4651" y="2550"/>
                    </a:lnTo>
                    <a:lnTo>
                      <a:pt x="4654" y="2423"/>
                    </a:lnTo>
                    <a:close/>
                  </a:path>
                </a:pathLst>
              </a:custGeom>
              <a:solidFill>
                <a:srgbClr val="fce7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78160" y="3610080"/>
                <a:ext cx="1757520" cy="1844640"/>
              </a:xfrm>
              <a:custGeom>
                <a:avLst/>
                <a:gdLst/>
                <a:ahLst/>
                <a:rect l="l" t="t" r="r" b="b"/>
                <a:pathLst>
                  <a:path w="4429" h="4647">
                    <a:moveTo>
                      <a:pt x="4429" y="2304"/>
                    </a:moveTo>
                    <a:lnTo>
                      <a:pt x="4427" y="2197"/>
                    </a:lnTo>
                    <a:lnTo>
                      <a:pt x="4420" y="2091"/>
                    </a:lnTo>
                    <a:lnTo>
                      <a:pt x="4408" y="1986"/>
                    </a:lnTo>
                    <a:lnTo>
                      <a:pt x="4391" y="1883"/>
                    </a:lnTo>
                    <a:lnTo>
                      <a:pt x="4370" y="1782"/>
                    </a:lnTo>
                    <a:lnTo>
                      <a:pt x="4345" y="1682"/>
                    </a:lnTo>
                    <a:lnTo>
                      <a:pt x="4316" y="1584"/>
                    </a:lnTo>
                    <a:lnTo>
                      <a:pt x="4283" y="1487"/>
                    </a:lnTo>
                    <a:lnTo>
                      <a:pt x="4244" y="1394"/>
                    </a:lnTo>
                    <a:lnTo>
                      <a:pt x="4204" y="1301"/>
                    </a:lnTo>
                    <a:lnTo>
                      <a:pt x="4158" y="1211"/>
                    </a:lnTo>
                    <a:lnTo>
                      <a:pt x="4110" y="1123"/>
                    </a:lnTo>
                    <a:lnTo>
                      <a:pt x="4057" y="1037"/>
                    </a:lnTo>
                    <a:lnTo>
                      <a:pt x="4001" y="955"/>
                    </a:lnTo>
                    <a:lnTo>
                      <a:pt x="3942" y="874"/>
                    </a:lnTo>
                    <a:lnTo>
                      <a:pt x="3878" y="796"/>
                    </a:lnTo>
                    <a:lnTo>
                      <a:pt x="3812" y="722"/>
                    </a:lnTo>
                    <a:lnTo>
                      <a:pt x="3744" y="650"/>
                    </a:lnTo>
                    <a:lnTo>
                      <a:pt x="3672" y="580"/>
                    </a:lnTo>
                    <a:lnTo>
                      <a:pt x="3598" y="514"/>
                    </a:lnTo>
                    <a:lnTo>
                      <a:pt x="3520" y="451"/>
                    </a:lnTo>
                    <a:lnTo>
                      <a:pt x="3439" y="392"/>
                    </a:lnTo>
                    <a:lnTo>
                      <a:pt x="3356" y="336"/>
                    </a:lnTo>
                    <a:lnTo>
                      <a:pt x="3271" y="283"/>
                    </a:lnTo>
                    <a:lnTo>
                      <a:pt x="3182" y="234"/>
                    </a:lnTo>
                    <a:lnTo>
                      <a:pt x="3092" y="188"/>
                    </a:lnTo>
                    <a:lnTo>
                      <a:pt x="3001" y="147"/>
                    </a:lnTo>
                    <a:lnTo>
                      <a:pt x="2906" y="109"/>
                    </a:lnTo>
                    <a:lnTo>
                      <a:pt x="2810" y="75"/>
                    </a:lnTo>
                    <a:lnTo>
                      <a:pt x="2712" y="46"/>
                    </a:lnTo>
                    <a:lnTo>
                      <a:pt x="2612" y="21"/>
                    </a:lnTo>
                    <a:lnTo>
                      <a:pt x="2510" y="0"/>
                    </a:lnTo>
                    <a:lnTo>
                      <a:pt x="2503" y="30"/>
                    </a:lnTo>
                    <a:lnTo>
                      <a:pt x="2495" y="60"/>
                    </a:lnTo>
                    <a:lnTo>
                      <a:pt x="2488" y="90"/>
                    </a:lnTo>
                    <a:lnTo>
                      <a:pt x="2480" y="120"/>
                    </a:lnTo>
                    <a:lnTo>
                      <a:pt x="2472" y="150"/>
                    </a:lnTo>
                    <a:lnTo>
                      <a:pt x="2465" y="180"/>
                    </a:lnTo>
                    <a:lnTo>
                      <a:pt x="2456" y="210"/>
                    </a:lnTo>
                    <a:lnTo>
                      <a:pt x="2448" y="240"/>
                    </a:lnTo>
                    <a:lnTo>
                      <a:pt x="2539" y="258"/>
                    </a:lnTo>
                    <a:lnTo>
                      <a:pt x="2630" y="279"/>
                    </a:lnTo>
                    <a:lnTo>
                      <a:pt x="2718" y="306"/>
                    </a:lnTo>
                    <a:lnTo>
                      <a:pt x="2806" y="336"/>
                    </a:lnTo>
                    <a:lnTo>
                      <a:pt x="2891" y="368"/>
                    </a:lnTo>
                    <a:lnTo>
                      <a:pt x="2974" y="405"/>
                    </a:lnTo>
                    <a:lnTo>
                      <a:pt x="3055" y="446"/>
                    </a:lnTo>
                    <a:lnTo>
                      <a:pt x="3134" y="489"/>
                    </a:lnTo>
                    <a:lnTo>
                      <a:pt x="3211" y="536"/>
                    </a:lnTo>
                    <a:lnTo>
                      <a:pt x="3287" y="586"/>
                    </a:lnTo>
                    <a:lnTo>
                      <a:pt x="3359" y="639"/>
                    </a:lnTo>
                    <a:lnTo>
                      <a:pt x="3430" y="695"/>
                    </a:lnTo>
                    <a:lnTo>
                      <a:pt x="3497" y="754"/>
                    </a:lnTo>
                    <a:lnTo>
                      <a:pt x="3563" y="817"/>
                    </a:lnTo>
                    <a:lnTo>
                      <a:pt x="3625" y="881"/>
                    </a:lnTo>
                    <a:lnTo>
                      <a:pt x="3684" y="949"/>
                    </a:lnTo>
                    <a:lnTo>
                      <a:pt x="3742" y="1018"/>
                    </a:lnTo>
                    <a:lnTo>
                      <a:pt x="3794" y="1090"/>
                    </a:lnTo>
                    <a:lnTo>
                      <a:pt x="3846" y="1165"/>
                    </a:lnTo>
                    <a:lnTo>
                      <a:pt x="3893" y="1241"/>
                    </a:lnTo>
                    <a:lnTo>
                      <a:pt x="3937" y="1321"/>
                    </a:lnTo>
                    <a:lnTo>
                      <a:pt x="3978" y="1402"/>
                    </a:lnTo>
                    <a:lnTo>
                      <a:pt x="4015" y="1485"/>
                    </a:lnTo>
                    <a:lnTo>
                      <a:pt x="4050" y="1570"/>
                    </a:lnTo>
                    <a:lnTo>
                      <a:pt x="4080" y="1656"/>
                    </a:lnTo>
                    <a:lnTo>
                      <a:pt x="4106" y="1744"/>
                    </a:lnTo>
                    <a:lnTo>
                      <a:pt x="4129" y="1834"/>
                    </a:lnTo>
                    <a:lnTo>
                      <a:pt x="4148" y="1925"/>
                    </a:lnTo>
                    <a:lnTo>
                      <a:pt x="4163" y="2019"/>
                    </a:lnTo>
                    <a:lnTo>
                      <a:pt x="4174" y="2112"/>
                    </a:lnTo>
                    <a:lnTo>
                      <a:pt x="4180" y="2208"/>
                    </a:lnTo>
                    <a:lnTo>
                      <a:pt x="4182" y="2304"/>
                    </a:lnTo>
                    <a:lnTo>
                      <a:pt x="4180" y="2412"/>
                    </a:lnTo>
                    <a:lnTo>
                      <a:pt x="4171" y="2519"/>
                    </a:lnTo>
                    <a:lnTo>
                      <a:pt x="4158" y="2623"/>
                    </a:lnTo>
                    <a:lnTo>
                      <a:pt x="4140" y="2727"/>
                    </a:lnTo>
                    <a:lnTo>
                      <a:pt x="4116" y="2828"/>
                    </a:lnTo>
                    <a:lnTo>
                      <a:pt x="4087" y="2927"/>
                    </a:lnTo>
                    <a:lnTo>
                      <a:pt x="4055" y="3025"/>
                    </a:lnTo>
                    <a:lnTo>
                      <a:pt x="4018" y="3120"/>
                    </a:lnTo>
                    <a:lnTo>
                      <a:pt x="3976" y="3212"/>
                    </a:lnTo>
                    <a:lnTo>
                      <a:pt x="3929" y="3304"/>
                    </a:lnTo>
                    <a:lnTo>
                      <a:pt x="3878" y="3391"/>
                    </a:lnTo>
                    <a:lnTo>
                      <a:pt x="3824" y="3476"/>
                    </a:lnTo>
                    <a:lnTo>
                      <a:pt x="3766" y="3558"/>
                    </a:lnTo>
                    <a:lnTo>
                      <a:pt x="3703" y="3637"/>
                    </a:lnTo>
                    <a:lnTo>
                      <a:pt x="3637" y="3714"/>
                    </a:lnTo>
                    <a:lnTo>
                      <a:pt x="3568" y="3786"/>
                    </a:lnTo>
                    <a:lnTo>
                      <a:pt x="3496" y="3855"/>
                    </a:lnTo>
                    <a:lnTo>
                      <a:pt x="3419" y="3921"/>
                    </a:lnTo>
                    <a:lnTo>
                      <a:pt x="3340" y="3984"/>
                    </a:lnTo>
                    <a:lnTo>
                      <a:pt x="3258" y="4043"/>
                    </a:lnTo>
                    <a:lnTo>
                      <a:pt x="3173" y="4097"/>
                    </a:lnTo>
                    <a:lnTo>
                      <a:pt x="3085" y="4147"/>
                    </a:lnTo>
                    <a:lnTo>
                      <a:pt x="2994" y="4194"/>
                    </a:lnTo>
                    <a:lnTo>
                      <a:pt x="2902" y="4236"/>
                    </a:lnTo>
                    <a:lnTo>
                      <a:pt x="2807" y="4273"/>
                    </a:lnTo>
                    <a:lnTo>
                      <a:pt x="2708" y="4306"/>
                    </a:lnTo>
                    <a:lnTo>
                      <a:pt x="2609" y="4334"/>
                    </a:lnTo>
                    <a:lnTo>
                      <a:pt x="2508" y="4358"/>
                    </a:lnTo>
                    <a:lnTo>
                      <a:pt x="2405" y="4376"/>
                    </a:lnTo>
                    <a:lnTo>
                      <a:pt x="2299" y="4389"/>
                    </a:lnTo>
                    <a:lnTo>
                      <a:pt x="2194" y="4398"/>
                    </a:lnTo>
                    <a:lnTo>
                      <a:pt x="2086" y="4400"/>
                    </a:lnTo>
                    <a:lnTo>
                      <a:pt x="2008" y="4399"/>
                    </a:lnTo>
                    <a:lnTo>
                      <a:pt x="1931" y="4394"/>
                    </a:lnTo>
                    <a:lnTo>
                      <a:pt x="1855" y="4388"/>
                    </a:lnTo>
                    <a:lnTo>
                      <a:pt x="1780" y="4378"/>
                    </a:lnTo>
                    <a:lnTo>
                      <a:pt x="1705" y="4365"/>
                    </a:lnTo>
                    <a:lnTo>
                      <a:pt x="1632" y="4351"/>
                    </a:lnTo>
                    <a:lnTo>
                      <a:pt x="1559" y="4334"/>
                    </a:lnTo>
                    <a:lnTo>
                      <a:pt x="1487" y="4314"/>
                    </a:lnTo>
                    <a:lnTo>
                      <a:pt x="1417" y="4291"/>
                    </a:lnTo>
                    <a:lnTo>
                      <a:pt x="1348" y="4267"/>
                    </a:lnTo>
                    <a:lnTo>
                      <a:pt x="1279" y="4239"/>
                    </a:lnTo>
                    <a:lnTo>
                      <a:pt x="1212" y="4211"/>
                    </a:lnTo>
                    <a:lnTo>
                      <a:pt x="1146" y="4178"/>
                    </a:lnTo>
                    <a:lnTo>
                      <a:pt x="1081" y="4145"/>
                    </a:lnTo>
                    <a:lnTo>
                      <a:pt x="1019" y="4109"/>
                    </a:lnTo>
                    <a:lnTo>
                      <a:pt x="956" y="4071"/>
                    </a:lnTo>
                    <a:lnTo>
                      <a:pt x="896" y="4031"/>
                    </a:lnTo>
                    <a:lnTo>
                      <a:pt x="838" y="3989"/>
                    </a:lnTo>
                    <a:lnTo>
                      <a:pt x="780" y="3944"/>
                    </a:lnTo>
                    <a:lnTo>
                      <a:pt x="725" y="3899"/>
                    </a:lnTo>
                    <a:lnTo>
                      <a:pt x="671" y="3851"/>
                    </a:lnTo>
                    <a:lnTo>
                      <a:pt x="618" y="3801"/>
                    </a:lnTo>
                    <a:lnTo>
                      <a:pt x="568" y="3750"/>
                    </a:lnTo>
                    <a:lnTo>
                      <a:pt x="518" y="3697"/>
                    </a:lnTo>
                    <a:lnTo>
                      <a:pt x="472" y="3642"/>
                    </a:lnTo>
                    <a:lnTo>
                      <a:pt x="426" y="3585"/>
                    </a:lnTo>
                    <a:lnTo>
                      <a:pt x="383" y="3528"/>
                    </a:lnTo>
                    <a:lnTo>
                      <a:pt x="341" y="3468"/>
                    </a:lnTo>
                    <a:lnTo>
                      <a:pt x="302" y="3407"/>
                    </a:lnTo>
                    <a:lnTo>
                      <a:pt x="265" y="3344"/>
                    </a:lnTo>
                    <a:lnTo>
                      <a:pt x="229" y="3281"/>
                    </a:lnTo>
                    <a:lnTo>
                      <a:pt x="197" y="3216"/>
                    </a:lnTo>
                    <a:lnTo>
                      <a:pt x="180" y="3228"/>
                    </a:lnTo>
                    <a:lnTo>
                      <a:pt x="164" y="3241"/>
                    </a:lnTo>
                    <a:lnTo>
                      <a:pt x="149" y="3253"/>
                    </a:lnTo>
                    <a:lnTo>
                      <a:pt x="133" y="3264"/>
                    </a:lnTo>
                    <a:lnTo>
                      <a:pt x="120" y="3276"/>
                    </a:lnTo>
                    <a:lnTo>
                      <a:pt x="106" y="3287"/>
                    </a:lnTo>
                    <a:lnTo>
                      <a:pt x="94" y="3298"/>
                    </a:lnTo>
                    <a:lnTo>
                      <a:pt x="82" y="3308"/>
                    </a:lnTo>
                    <a:lnTo>
                      <a:pt x="71" y="3317"/>
                    </a:lnTo>
                    <a:lnTo>
                      <a:pt x="61" y="3325"/>
                    </a:lnTo>
                    <a:lnTo>
                      <a:pt x="52" y="3334"/>
                    </a:lnTo>
                    <a:lnTo>
                      <a:pt x="41" y="3341"/>
                    </a:lnTo>
                    <a:lnTo>
                      <a:pt x="31" y="3349"/>
                    </a:lnTo>
                    <a:lnTo>
                      <a:pt x="20" y="3358"/>
                    </a:lnTo>
                    <a:lnTo>
                      <a:pt x="11" y="3366"/>
                    </a:lnTo>
                    <a:lnTo>
                      <a:pt x="0" y="3373"/>
                    </a:lnTo>
                    <a:lnTo>
                      <a:pt x="37" y="3444"/>
                    </a:lnTo>
                    <a:lnTo>
                      <a:pt x="78" y="3512"/>
                    </a:lnTo>
                    <a:lnTo>
                      <a:pt x="120" y="3579"/>
                    </a:lnTo>
                    <a:lnTo>
                      <a:pt x="164" y="3645"/>
                    </a:lnTo>
                    <a:lnTo>
                      <a:pt x="210" y="3709"/>
                    </a:lnTo>
                    <a:lnTo>
                      <a:pt x="259" y="3771"/>
                    </a:lnTo>
                    <a:lnTo>
                      <a:pt x="310" y="3833"/>
                    </a:lnTo>
                    <a:lnTo>
                      <a:pt x="362" y="3891"/>
                    </a:lnTo>
                    <a:lnTo>
                      <a:pt x="416" y="3949"/>
                    </a:lnTo>
                    <a:lnTo>
                      <a:pt x="473" y="4004"/>
                    </a:lnTo>
                    <a:lnTo>
                      <a:pt x="532" y="4057"/>
                    </a:lnTo>
                    <a:lnTo>
                      <a:pt x="590" y="4109"/>
                    </a:lnTo>
                    <a:lnTo>
                      <a:pt x="653" y="4158"/>
                    </a:lnTo>
                    <a:lnTo>
                      <a:pt x="716" y="4206"/>
                    </a:lnTo>
                    <a:lnTo>
                      <a:pt x="781" y="4250"/>
                    </a:lnTo>
                    <a:lnTo>
                      <a:pt x="847" y="4293"/>
                    </a:lnTo>
                    <a:lnTo>
                      <a:pt x="916" y="4334"/>
                    </a:lnTo>
                    <a:lnTo>
                      <a:pt x="985" y="4374"/>
                    </a:lnTo>
                    <a:lnTo>
                      <a:pt x="1056" y="4410"/>
                    </a:lnTo>
                    <a:lnTo>
                      <a:pt x="1129" y="4443"/>
                    </a:lnTo>
                    <a:lnTo>
                      <a:pt x="1202" y="4474"/>
                    </a:lnTo>
                    <a:lnTo>
                      <a:pt x="1277" y="4503"/>
                    </a:lnTo>
                    <a:lnTo>
                      <a:pt x="1354" y="4531"/>
                    </a:lnTo>
                    <a:lnTo>
                      <a:pt x="1430" y="4555"/>
                    </a:lnTo>
                    <a:lnTo>
                      <a:pt x="1510" y="4575"/>
                    </a:lnTo>
                    <a:lnTo>
                      <a:pt x="1589" y="4594"/>
                    </a:lnTo>
                    <a:lnTo>
                      <a:pt x="1669" y="4610"/>
                    </a:lnTo>
                    <a:lnTo>
                      <a:pt x="1751" y="4623"/>
                    </a:lnTo>
                    <a:lnTo>
                      <a:pt x="1834" y="4634"/>
                    </a:lnTo>
                    <a:lnTo>
                      <a:pt x="1916" y="4641"/>
                    </a:lnTo>
                    <a:lnTo>
                      <a:pt x="2000" y="4645"/>
                    </a:lnTo>
                    <a:lnTo>
                      <a:pt x="2086" y="4647"/>
                    </a:lnTo>
                    <a:lnTo>
                      <a:pt x="2206" y="4644"/>
                    </a:lnTo>
                    <a:lnTo>
                      <a:pt x="2324" y="4635"/>
                    </a:lnTo>
                    <a:lnTo>
                      <a:pt x="2442" y="4620"/>
                    </a:lnTo>
                    <a:lnTo>
                      <a:pt x="2557" y="4599"/>
                    </a:lnTo>
                    <a:lnTo>
                      <a:pt x="2671" y="4573"/>
                    </a:lnTo>
                    <a:lnTo>
                      <a:pt x="2782" y="4542"/>
                    </a:lnTo>
                    <a:lnTo>
                      <a:pt x="2891" y="4504"/>
                    </a:lnTo>
                    <a:lnTo>
                      <a:pt x="2998" y="4462"/>
                    </a:lnTo>
                    <a:lnTo>
                      <a:pt x="3101" y="4416"/>
                    </a:lnTo>
                    <a:lnTo>
                      <a:pt x="3203" y="4364"/>
                    </a:lnTo>
                    <a:lnTo>
                      <a:pt x="3300" y="4308"/>
                    </a:lnTo>
                    <a:lnTo>
                      <a:pt x="3396" y="4247"/>
                    </a:lnTo>
                    <a:lnTo>
                      <a:pt x="3487" y="4182"/>
                    </a:lnTo>
                    <a:lnTo>
                      <a:pt x="3576" y="4112"/>
                    </a:lnTo>
                    <a:lnTo>
                      <a:pt x="3661" y="4038"/>
                    </a:lnTo>
                    <a:lnTo>
                      <a:pt x="3743" y="3961"/>
                    </a:lnTo>
                    <a:lnTo>
                      <a:pt x="3820" y="3879"/>
                    </a:lnTo>
                    <a:lnTo>
                      <a:pt x="3894" y="3794"/>
                    </a:lnTo>
                    <a:lnTo>
                      <a:pt x="3964" y="3705"/>
                    </a:lnTo>
                    <a:lnTo>
                      <a:pt x="4028" y="3614"/>
                    </a:lnTo>
                    <a:lnTo>
                      <a:pt x="4090" y="3518"/>
                    </a:lnTo>
                    <a:lnTo>
                      <a:pt x="4146" y="3421"/>
                    </a:lnTo>
                    <a:lnTo>
                      <a:pt x="4198" y="3320"/>
                    </a:lnTo>
                    <a:lnTo>
                      <a:pt x="4244" y="3216"/>
                    </a:lnTo>
                    <a:lnTo>
                      <a:pt x="4286" y="3109"/>
                    </a:lnTo>
                    <a:lnTo>
                      <a:pt x="4324" y="3001"/>
                    </a:lnTo>
                    <a:lnTo>
                      <a:pt x="4355" y="2890"/>
                    </a:lnTo>
                    <a:lnTo>
                      <a:pt x="4381" y="2776"/>
                    </a:lnTo>
                    <a:lnTo>
                      <a:pt x="4402" y="2661"/>
                    </a:lnTo>
                    <a:lnTo>
                      <a:pt x="4417" y="2544"/>
                    </a:lnTo>
                    <a:lnTo>
                      <a:pt x="4426" y="2424"/>
                    </a:lnTo>
                    <a:lnTo>
                      <a:pt x="4429" y="2304"/>
                    </a:lnTo>
                    <a:close/>
                  </a:path>
                </a:pathLst>
              </a:custGeom>
              <a:solidFill>
                <a:srgbClr val="fce7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16320" y="3657600"/>
                <a:ext cx="1670040" cy="1747800"/>
              </a:xfrm>
              <a:custGeom>
                <a:avLst/>
                <a:gdLst/>
                <a:ahLst/>
                <a:rect l="l" t="t" r="r" b="b"/>
                <a:pathLst>
                  <a:path w="4208" h="4404">
                    <a:moveTo>
                      <a:pt x="4208" y="2184"/>
                    </a:moveTo>
                    <a:lnTo>
                      <a:pt x="4205" y="2082"/>
                    </a:lnTo>
                    <a:lnTo>
                      <a:pt x="4198" y="1981"/>
                    </a:lnTo>
                    <a:lnTo>
                      <a:pt x="4187" y="1883"/>
                    </a:lnTo>
                    <a:lnTo>
                      <a:pt x="4172" y="1785"/>
                    </a:lnTo>
                    <a:lnTo>
                      <a:pt x="4151" y="1689"/>
                    </a:lnTo>
                    <a:lnTo>
                      <a:pt x="4128" y="1593"/>
                    </a:lnTo>
                    <a:lnTo>
                      <a:pt x="4100" y="1500"/>
                    </a:lnTo>
                    <a:lnTo>
                      <a:pt x="4068" y="1409"/>
                    </a:lnTo>
                    <a:lnTo>
                      <a:pt x="4032" y="1319"/>
                    </a:lnTo>
                    <a:lnTo>
                      <a:pt x="3993" y="1232"/>
                    </a:lnTo>
                    <a:lnTo>
                      <a:pt x="3950" y="1147"/>
                    </a:lnTo>
                    <a:lnTo>
                      <a:pt x="3904" y="1063"/>
                    </a:lnTo>
                    <a:lnTo>
                      <a:pt x="3854" y="981"/>
                    </a:lnTo>
                    <a:lnTo>
                      <a:pt x="3800" y="903"/>
                    </a:lnTo>
                    <a:lnTo>
                      <a:pt x="3743" y="826"/>
                    </a:lnTo>
                    <a:lnTo>
                      <a:pt x="3684" y="753"/>
                    </a:lnTo>
                    <a:lnTo>
                      <a:pt x="3621" y="681"/>
                    </a:lnTo>
                    <a:lnTo>
                      <a:pt x="3556" y="613"/>
                    </a:lnTo>
                    <a:lnTo>
                      <a:pt x="3486" y="548"/>
                    </a:lnTo>
                    <a:lnTo>
                      <a:pt x="3416" y="485"/>
                    </a:lnTo>
                    <a:lnTo>
                      <a:pt x="3341" y="426"/>
                    </a:lnTo>
                    <a:lnTo>
                      <a:pt x="3266" y="369"/>
                    </a:lnTo>
                    <a:lnTo>
                      <a:pt x="3186" y="316"/>
                    </a:lnTo>
                    <a:lnTo>
                      <a:pt x="3105" y="266"/>
                    </a:lnTo>
                    <a:lnTo>
                      <a:pt x="3022" y="220"/>
                    </a:lnTo>
                    <a:lnTo>
                      <a:pt x="2936" y="177"/>
                    </a:lnTo>
                    <a:lnTo>
                      <a:pt x="2848" y="138"/>
                    </a:lnTo>
                    <a:lnTo>
                      <a:pt x="2758" y="103"/>
                    </a:lnTo>
                    <a:lnTo>
                      <a:pt x="2667" y="70"/>
                    </a:lnTo>
                    <a:lnTo>
                      <a:pt x="2573" y="43"/>
                    </a:lnTo>
                    <a:lnTo>
                      <a:pt x="2478" y="19"/>
                    </a:lnTo>
                    <a:lnTo>
                      <a:pt x="2382" y="0"/>
                    </a:lnTo>
                    <a:lnTo>
                      <a:pt x="2374" y="30"/>
                    </a:lnTo>
                    <a:lnTo>
                      <a:pt x="2367" y="60"/>
                    </a:lnTo>
                    <a:lnTo>
                      <a:pt x="2358" y="90"/>
                    </a:lnTo>
                    <a:lnTo>
                      <a:pt x="2350" y="120"/>
                    </a:lnTo>
                    <a:lnTo>
                      <a:pt x="2342" y="150"/>
                    </a:lnTo>
                    <a:lnTo>
                      <a:pt x="2333" y="180"/>
                    </a:lnTo>
                    <a:lnTo>
                      <a:pt x="2324" y="208"/>
                    </a:lnTo>
                    <a:lnTo>
                      <a:pt x="2314" y="238"/>
                    </a:lnTo>
                    <a:lnTo>
                      <a:pt x="2402" y="255"/>
                    </a:lnTo>
                    <a:lnTo>
                      <a:pt x="2487" y="276"/>
                    </a:lnTo>
                    <a:lnTo>
                      <a:pt x="2571" y="300"/>
                    </a:lnTo>
                    <a:lnTo>
                      <a:pt x="2654" y="327"/>
                    </a:lnTo>
                    <a:lnTo>
                      <a:pt x="2734" y="357"/>
                    </a:lnTo>
                    <a:lnTo>
                      <a:pt x="2813" y="392"/>
                    </a:lnTo>
                    <a:lnTo>
                      <a:pt x="2890" y="430"/>
                    </a:lnTo>
                    <a:lnTo>
                      <a:pt x="2966" y="471"/>
                    </a:lnTo>
                    <a:lnTo>
                      <a:pt x="3039" y="514"/>
                    </a:lnTo>
                    <a:lnTo>
                      <a:pt x="3111" y="562"/>
                    </a:lnTo>
                    <a:lnTo>
                      <a:pt x="3179" y="611"/>
                    </a:lnTo>
                    <a:lnTo>
                      <a:pt x="3246" y="664"/>
                    </a:lnTo>
                    <a:lnTo>
                      <a:pt x="3310" y="721"/>
                    </a:lnTo>
                    <a:lnTo>
                      <a:pt x="3372" y="778"/>
                    </a:lnTo>
                    <a:lnTo>
                      <a:pt x="3431" y="839"/>
                    </a:lnTo>
                    <a:lnTo>
                      <a:pt x="3488" y="903"/>
                    </a:lnTo>
                    <a:lnTo>
                      <a:pt x="3542" y="969"/>
                    </a:lnTo>
                    <a:lnTo>
                      <a:pt x="3593" y="1037"/>
                    </a:lnTo>
                    <a:lnTo>
                      <a:pt x="3641" y="1107"/>
                    </a:lnTo>
                    <a:lnTo>
                      <a:pt x="3686" y="1180"/>
                    </a:lnTo>
                    <a:lnTo>
                      <a:pt x="3728" y="1254"/>
                    </a:lnTo>
                    <a:lnTo>
                      <a:pt x="3767" y="1331"/>
                    </a:lnTo>
                    <a:lnTo>
                      <a:pt x="3803" y="1409"/>
                    </a:lnTo>
                    <a:lnTo>
                      <a:pt x="3834" y="1490"/>
                    </a:lnTo>
                    <a:lnTo>
                      <a:pt x="3863" y="1571"/>
                    </a:lnTo>
                    <a:lnTo>
                      <a:pt x="3888" y="1655"/>
                    </a:lnTo>
                    <a:lnTo>
                      <a:pt x="3910" y="1739"/>
                    </a:lnTo>
                    <a:lnTo>
                      <a:pt x="3928" y="1826"/>
                    </a:lnTo>
                    <a:lnTo>
                      <a:pt x="3942" y="1914"/>
                    </a:lnTo>
                    <a:lnTo>
                      <a:pt x="3952" y="2003"/>
                    </a:lnTo>
                    <a:lnTo>
                      <a:pt x="3959" y="2093"/>
                    </a:lnTo>
                    <a:lnTo>
                      <a:pt x="3960" y="2184"/>
                    </a:lnTo>
                    <a:lnTo>
                      <a:pt x="3958" y="2286"/>
                    </a:lnTo>
                    <a:lnTo>
                      <a:pt x="3951" y="2386"/>
                    </a:lnTo>
                    <a:lnTo>
                      <a:pt x="3938" y="2484"/>
                    </a:lnTo>
                    <a:lnTo>
                      <a:pt x="3921" y="2581"/>
                    </a:lnTo>
                    <a:lnTo>
                      <a:pt x="3898" y="2677"/>
                    </a:lnTo>
                    <a:lnTo>
                      <a:pt x="3872" y="2771"/>
                    </a:lnTo>
                    <a:lnTo>
                      <a:pt x="3840" y="2862"/>
                    </a:lnTo>
                    <a:lnTo>
                      <a:pt x="3806" y="2952"/>
                    </a:lnTo>
                    <a:lnTo>
                      <a:pt x="3766" y="3040"/>
                    </a:lnTo>
                    <a:lnTo>
                      <a:pt x="3723" y="3125"/>
                    </a:lnTo>
                    <a:lnTo>
                      <a:pt x="3675" y="3208"/>
                    </a:lnTo>
                    <a:lnTo>
                      <a:pt x="3623" y="3287"/>
                    </a:lnTo>
                    <a:lnTo>
                      <a:pt x="3569" y="3365"/>
                    </a:lnTo>
                    <a:lnTo>
                      <a:pt x="3510" y="3439"/>
                    </a:lnTo>
                    <a:lnTo>
                      <a:pt x="3448" y="3511"/>
                    </a:lnTo>
                    <a:lnTo>
                      <a:pt x="3383" y="3579"/>
                    </a:lnTo>
                    <a:lnTo>
                      <a:pt x="3314" y="3644"/>
                    </a:lnTo>
                    <a:lnTo>
                      <a:pt x="3243" y="3707"/>
                    </a:lnTo>
                    <a:lnTo>
                      <a:pt x="3168" y="3765"/>
                    </a:lnTo>
                    <a:lnTo>
                      <a:pt x="3090" y="3821"/>
                    </a:lnTo>
                    <a:lnTo>
                      <a:pt x="3010" y="3871"/>
                    </a:lnTo>
                    <a:lnTo>
                      <a:pt x="2928" y="3919"/>
                    </a:lnTo>
                    <a:lnTo>
                      <a:pt x="2843" y="3962"/>
                    </a:lnTo>
                    <a:lnTo>
                      <a:pt x="2756" y="4002"/>
                    </a:lnTo>
                    <a:lnTo>
                      <a:pt x="2666" y="4038"/>
                    </a:lnTo>
                    <a:lnTo>
                      <a:pt x="2574" y="4068"/>
                    </a:lnTo>
                    <a:lnTo>
                      <a:pt x="2481" y="4095"/>
                    </a:lnTo>
                    <a:lnTo>
                      <a:pt x="2385" y="4117"/>
                    </a:lnTo>
                    <a:lnTo>
                      <a:pt x="2288" y="4134"/>
                    </a:lnTo>
                    <a:lnTo>
                      <a:pt x="2189" y="4147"/>
                    </a:lnTo>
                    <a:lnTo>
                      <a:pt x="2088" y="4154"/>
                    </a:lnTo>
                    <a:lnTo>
                      <a:pt x="1988" y="4157"/>
                    </a:lnTo>
                    <a:lnTo>
                      <a:pt x="1913" y="4155"/>
                    </a:lnTo>
                    <a:lnTo>
                      <a:pt x="1840" y="4152"/>
                    </a:lnTo>
                    <a:lnTo>
                      <a:pt x="1768" y="4145"/>
                    </a:lnTo>
                    <a:lnTo>
                      <a:pt x="1696" y="4136"/>
                    </a:lnTo>
                    <a:lnTo>
                      <a:pt x="1625" y="4124"/>
                    </a:lnTo>
                    <a:lnTo>
                      <a:pt x="1556" y="4110"/>
                    </a:lnTo>
                    <a:lnTo>
                      <a:pt x="1487" y="4093"/>
                    </a:lnTo>
                    <a:lnTo>
                      <a:pt x="1419" y="4074"/>
                    </a:lnTo>
                    <a:lnTo>
                      <a:pt x="1352" y="4052"/>
                    </a:lnTo>
                    <a:lnTo>
                      <a:pt x="1286" y="4028"/>
                    </a:lnTo>
                    <a:lnTo>
                      <a:pt x="1221" y="4003"/>
                    </a:lnTo>
                    <a:lnTo>
                      <a:pt x="1157" y="3974"/>
                    </a:lnTo>
                    <a:lnTo>
                      <a:pt x="1095" y="3944"/>
                    </a:lnTo>
                    <a:lnTo>
                      <a:pt x="1034" y="3912"/>
                    </a:lnTo>
                    <a:lnTo>
                      <a:pt x="974" y="3877"/>
                    </a:lnTo>
                    <a:lnTo>
                      <a:pt x="915" y="3841"/>
                    </a:lnTo>
                    <a:lnTo>
                      <a:pt x="858" y="3801"/>
                    </a:lnTo>
                    <a:lnTo>
                      <a:pt x="802" y="3762"/>
                    </a:lnTo>
                    <a:lnTo>
                      <a:pt x="748" y="3720"/>
                    </a:lnTo>
                    <a:lnTo>
                      <a:pt x="695" y="3675"/>
                    </a:lnTo>
                    <a:lnTo>
                      <a:pt x="644" y="3629"/>
                    </a:lnTo>
                    <a:lnTo>
                      <a:pt x="594" y="3582"/>
                    </a:lnTo>
                    <a:lnTo>
                      <a:pt x="546" y="3533"/>
                    </a:lnTo>
                    <a:lnTo>
                      <a:pt x="501" y="3481"/>
                    </a:lnTo>
                    <a:lnTo>
                      <a:pt x="456" y="3428"/>
                    </a:lnTo>
                    <a:lnTo>
                      <a:pt x="414" y="3374"/>
                    </a:lnTo>
                    <a:lnTo>
                      <a:pt x="374" y="3319"/>
                    </a:lnTo>
                    <a:lnTo>
                      <a:pt x="335" y="3262"/>
                    </a:lnTo>
                    <a:lnTo>
                      <a:pt x="298" y="3204"/>
                    </a:lnTo>
                    <a:lnTo>
                      <a:pt x="263" y="3144"/>
                    </a:lnTo>
                    <a:lnTo>
                      <a:pt x="231" y="3083"/>
                    </a:lnTo>
                    <a:lnTo>
                      <a:pt x="200" y="3020"/>
                    </a:lnTo>
                    <a:lnTo>
                      <a:pt x="171" y="3042"/>
                    </a:lnTo>
                    <a:lnTo>
                      <a:pt x="143" y="3062"/>
                    </a:lnTo>
                    <a:lnTo>
                      <a:pt x="116" y="3083"/>
                    </a:lnTo>
                    <a:lnTo>
                      <a:pt x="90" y="3102"/>
                    </a:lnTo>
                    <a:lnTo>
                      <a:pt x="65" y="3121"/>
                    </a:lnTo>
                    <a:lnTo>
                      <a:pt x="42" y="3139"/>
                    </a:lnTo>
                    <a:lnTo>
                      <a:pt x="20" y="3157"/>
                    </a:lnTo>
                    <a:lnTo>
                      <a:pt x="0" y="3174"/>
                    </a:lnTo>
                    <a:lnTo>
                      <a:pt x="35" y="3241"/>
                    </a:lnTo>
                    <a:lnTo>
                      <a:pt x="72" y="3307"/>
                    </a:lnTo>
                    <a:lnTo>
                      <a:pt x="112" y="3372"/>
                    </a:lnTo>
                    <a:lnTo>
                      <a:pt x="154" y="3435"/>
                    </a:lnTo>
                    <a:lnTo>
                      <a:pt x="198" y="3498"/>
                    </a:lnTo>
                    <a:lnTo>
                      <a:pt x="244" y="3558"/>
                    </a:lnTo>
                    <a:lnTo>
                      <a:pt x="292" y="3617"/>
                    </a:lnTo>
                    <a:lnTo>
                      <a:pt x="341" y="3673"/>
                    </a:lnTo>
                    <a:lnTo>
                      <a:pt x="393" y="3728"/>
                    </a:lnTo>
                    <a:lnTo>
                      <a:pt x="447" y="3782"/>
                    </a:lnTo>
                    <a:lnTo>
                      <a:pt x="502" y="3834"/>
                    </a:lnTo>
                    <a:lnTo>
                      <a:pt x="560" y="3883"/>
                    </a:lnTo>
                    <a:lnTo>
                      <a:pt x="618" y="3931"/>
                    </a:lnTo>
                    <a:lnTo>
                      <a:pt x="678" y="3977"/>
                    </a:lnTo>
                    <a:lnTo>
                      <a:pt x="741" y="4021"/>
                    </a:lnTo>
                    <a:lnTo>
                      <a:pt x="803" y="4062"/>
                    </a:lnTo>
                    <a:lnTo>
                      <a:pt x="869" y="4101"/>
                    </a:lnTo>
                    <a:lnTo>
                      <a:pt x="935" y="4139"/>
                    </a:lnTo>
                    <a:lnTo>
                      <a:pt x="1002" y="4173"/>
                    </a:lnTo>
                    <a:lnTo>
                      <a:pt x="1072" y="4207"/>
                    </a:lnTo>
                    <a:lnTo>
                      <a:pt x="1143" y="4237"/>
                    </a:lnTo>
                    <a:lnTo>
                      <a:pt x="1214" y="4266"/>
                    </a:lnTo>
                    <a:lnTo>
                      <a:pt x="1287" y="4291"/>
                    </a:lnTo>
                    <a:lnTo>
                      <a:pt x="1361" y="4314"/>
                    </a:lnTo>
                    <a:lnTo>
                      <a:pt x="1436" y="4334"/>
                    </a:lnTo>
                    <a:lnTo>
                      <a:pt x="1512" y="4352"/>
                    </a:lnTo>
                    <a:lnTo>
                      <a:pt x="1589" y="4368"/>
                    </a:lnTo>
                    <a:lnTo>
                      <a:pt x="1667" y="4381"/>
                    </a:lnTo>
                    <a:lnTo>
                      <a:pt x="1746" y="4390"/>
                    </a:lnTo>
                    <a:lnTo>
                      <a:pt x="1826" y="4398"/>
                    </a:lnTo>
                    <a:lnTo>
                      <a:pt x="1906" y="4402"/>
                    </a:lnTo>
                    <a:lnTo>
                      <a:pt x="1988" y="4404"/>
                    </a:lnTo>
                    <a:lnTo>
                      <a:pt x="2102" y="4401"/>
                    </a:lnTo>
                    <a:lnTo>
                      <a:pt x="2214" y="4392"/>
                    </a:lnTo>
                    <a:lnTo>
                      <a:pt x="2326" y="4378"/>
                    </a:lnTo>
                    <a:lnTo>
                      <a:pt x="2435" y="4358"/>
                    </a:lnTo>
                    <a:lnTo>
                      <a:pt x="2542" y="4334"/>
                    </a:lnTo>
                    <a:lnTo>
                      <a:pt x="2648" y="4304"/>
                    </a:lnTo>
                    <a:lnTo>
                      <a:pt x="2751" y="4269"/>
                    </a:lnTo>
                    <a:lnTo>
                      <a:pt x="2852" y="4230"/>
                    </a:lnTo>
                    <a:lnTo>
                      <a:pt x="2950" y="4184"/>
                    </a:lnTo>
                    <a:lnTo>
                      <a:pt x="3046" y="4136"/>
                    </a:lnTo>
                    <a:lnTo>
                      <a:pt x="3138" y="4082"/>
                    </a:lnTo>
                    <a:lnTo>
                      <a:pt x="3228" y="4025"/>
                    </a:lnTo>
                    <a:lnTo>
                      <a:pt x="3316" y="3962"/>
                    </a:lnTo>
                    <a:lnTo>
                      <a:pt x="3400" y="3896"/>
                    </a:lnTo>
                    <a:lnTo>
                      <a:pt x="3480" y="3827"/>
                    </a:lnTo>
                    <a:lnTo>
                      <a:pt x="3557" y="3753"/>
                    </a:lnTo>
                    <a:lnTo>
                      <a:pt x="3630" y="3677"/>
                    </a:lnTo>
                    <a:lnTo>
                      <a:pt x="3700" y="3596"/>
                    </a:lnTo>
                    <a:lnTo>
                      <a:pt x="3766" y="3512"/>
                    </a:lnTo>
                    <a:lnTo>
                      <a:pt x="3828" y="3425"/>
                    </a:lnTo>
                    <a:lnTo>
                      <a:pt x="3886" y="3335"/>
                    </a:lnTo>
                    <a:lnTo>
                      <a:pt x="3939" y="3242"/>
                    </a:lnTo>
                    <a:lnTo>
                      <a:pt x="3988" y="3146"/>
                    </a:lnTo>
                    <a:lnTo>
                      <a:pt x="4032" y="3048"/>
                    </a:lnTo>
                    <a:lnTo>
                      <a:pt x="4073" y="2947"/>
                    </a:lnTo>
                    <a:lnTo>
                      <a:pt x="4108" y="2844"/>
                    </a:lnTo>
                    <a:lnTo>
                      <a:pt x="4138" y="2738"/>
                    </a:lnTo>
                    <a:lnTo>
                      <a:pt x="4162" y="2632"/>
                    </a:lnTo>
                    <a:lnTo>
                      <a:pt x="4181" y="2523"/>
                    </a:lnTo>
                    <a:lnTo>
                      <a:pt x="4196" y="2411"/>
                    </a:lnTo>
                    <a:lnTo>
                      <a:pt x="4204" y="2298"/>
                    </a:lnTo>
                    <a:lnTo>
                      <a:pt x="4208" y="2184"/>
                    </a:lnTo>
                    <a:close/>
                  </a:path>
                </a:pathLst>
              </a:custGeom>
              <a:solidFill>
                <a:srgbClr val="fc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156280" y="3705120"/>
                <a:ext cx="1581120" cy="1652760"/>
              </a:xfrm>
              <a:custGeom>
                <a:avLst/>
                <a:gdLst/>
                <a:ahLst/>
                <a:rect l="l" t="t" r="r" b="b"/>
                <a:pathLst>
                  <a:path w="3985" h="4160">
                    <a:moveTo>
                      <a:pt x="3985" y="2064"/>
                    </a:moveTo>
                    <a:lnTo>
                      <a:pt x="3983" y="1968"/>
                    </a:lnTo>
                    <a:lnTo>
                      <a:pt x="3977" y="1872"/>
                    </a:lnTo>
                    <a:lnTo>
                      <a:pt x="3966" y="1779"/>
                    </a:lnTo>
                    <a:lnTo>
                      <a:pt x="3951" y="1685"/>
                    </a:lnTo>
                    <a:lnTo>
                      <a:pt x="3932" y="1594"/>
                    </a:lnTo>
                    <a:lnTo>
                      <a:pt x="3909" y="1504"/>
                    </a:lnTo>
                    <a:lnTo>
                      <a:pt x="3883" y="1416"/>
                    </a:lnTo>
                    <a:lnTo>
                      <a:pt x="3853" y="1330"/>
                    </a:lnTo>
                    <a:lnTo>
                      <a:pt x="3818" y="1245"/>
                    </a:lnTo>
                    <a:lnTo>
                      <a:pt x="3781" y="1162"/>
                    </a:lnTo>
                    <a:lnTo>
                      <a:pt x="3740" y="1081"/>
                    </a:lnTo>
                    <a:lnTo>
                      <a:pt x="3696" y="1001"/>
                    </a:lnTo>
                    <a:lnTo>
                      <a:pt x="3649" y="925"/>
                    </a:lnTo>
                    <a:lnTo>
                      <a:pt x="3597" y="850"/>
                    </a:lnTo>
                    <a:lnTo>
                      <a:pt x="3545" y="778"/>
                    </a:lnTo>
                    <a:lnTo>
                      <a:pt x="3487" y="709"/>
                    </a:lnTo>
                    <a:lnTo>
                      <a:pt x="3428" y="641"/>
                    </a:lnTo>
                    <a:lnTo>
                      <a:pt x="3366" y="577"/>
                    </a:lnTo>
                    <a:lnTo>
                      <a:pt x="3300" y="514"/>
                    </a:lnTo>
                    <a:lnTo>
                      <a:pt x="3233" y="455"/>
                    </a:lnTo>
                    <a:lnTo>
                      <a:pt x="3162" y="399"/>
                    </a:lnTo>
                    <a:lnTo>
                      <a:pt x="3090" y="346"/>
                    </a:lnTo>
                    <a:lnTo>
                      <a:pt x="3014" y="296"/>
                    </a:lnTo>
                    <a:lnTo>
                      <a:pt x="2937" y="249"/>
                    </a:lnTo>
                    <a:lnTo>
                      <a:pt x="2858" y="206"/>
                    </a:lnTo>
                    <a:lnTo>
                      <a:pt x="2777" y="165"/>
                    </a:lnTo>
                    <a:lnTo>
                      <a:pt x="2694" y="128"/>
                    </a:lnTo>
                    <a:lnTo>
                      <a:pt x="2609" y="94"/>
                    </a:lnTo>
                    <a:lnTo>
                      <a:pt x="2521" y="66"/>
                    </a:lnTo>
                    <a:lnTo>
                      <a:pt x="2433" y="39"/>
                    </a:lnTo>
                    <a:lnTo>
                      <a:pt x="2342" y="18"/>
                    </a:lnTo>
                    <a:lnTo>
                      <a:pt x="2251" y="0"/>
                    </a:lnTo>
                    <a:lnTo>
                      <a:pt x="2243" y="30"/>
                    </a:lnTo>
                    <a:lnTo>
                      <a:pt x="2234" y="60"/>
                    </a:lnTo>
                    <a:lnTo>
                      <a:pt x="2225" y="90"/>
                    </a:lnTo>
                    <a:lnTo>
                      <a:pt x="2215" y="118"/>
                    </a:lnTo>
                    <a:lnTo>
                      <a:pt x="2205" y="148"/>
                    </a:lnTo>
                    <a:lnTo>
                      <a:pt x="2196" y="178"/>
                    </a:lnTo>
                    <a:lnTo>
                      <a:pt x="2185" y="207"/>
                    </a:lnTo>
                    <a:lnTo>
                      <a:pt x="2174" y="237"/>
                    </a:lnTo>
                    <a:lnTo>
                      <a:pt x="2257" y="252"/>
                    </a:lnTo>
                    <a:lnTo>
                      <a:pt x="2337" y="270"/>
                    </a:lnTo>
                    <a:lnTo>
                      <a:pt x="2418" y="291"/>
                    </a:lnTo>
                    <a:lnTo>
                      <a:pt x="2496" y="316"/>
                    </a:lnTo>
                    <a:lnTo>
                      <a:pt x="2573" y="345"/>
                    </a:lnTo>
                    <a:lnTo>
                      <a:pt x="2647" y="377"/>
                    </a:lnTo>
                    <a:lnTo>
                      <a:pt x="2721" y="412"/>
                    </a:lnTo>
                    <a:lnTo>
                      <a:pt x="2792" y="451"/>
                    </a:lnTo>
                    <a:lnTo>
                      <a:pt x="2862" y="491"/>
                    </a:lnTo>
                    <a:lnTo>
                      <a:pt x="2929" y="535"/>
                    </a:lnTo>
                    <a:lnTo>
                      <a:pt x="2995" y="581"/>
                    </a:lnTo>
                    <a:lnTo>
                      <a:pt x="3059" y="632"/>
                    </a:lnTo>
                    <a:lnTo>
                      <a:pt x="3120" y="683"/>
                    </a:lnTo>
                    <a:lnTo>
                      <a:pt x="3179" y="739"/>
                    </a:lnTo>
                    <a:lnTo>
                      <a:pt x="3235" y="796"/>
                    </a:lnTo>
                    <a:lnTo>
                      <a:pt x="3289" y="855"/>
                    </a:lnTo>
                    <a:lnTo>
                      <a:pt x="3339" y="917"/>
                    </a:lnTo>
                    <a:lnTo>
                      <a:pt x="3389" y="981"/>
                    </a:lnTo>
                    <a:lnTo>
                      <a:pt x="3434" y="1048"/>
                    </a:lnTo>
                    <a:lnTo>
                      <a:pt x="3477" y="1116"/>
                    </a:lnTo>
                    <a:lnTo>
                      <a:pt x="3517" y="1186"/>
                    </a:lnTo>
                    <a:lnTo>
                      <a:pt x="3554" y="1258"/>
                    </a:lnTo>
                    <a:lnTo>
                      <a:pt x="3588" y="1332"/>
                    </a:lnTo>
                    <a:lnTo>
                      <a:pt x="3619" y="1408"/>
                    </a:lnTo>
                    <a:lnTo>
                      <a:pt x="3645" y="1485"/>
                    </a:lnTo>
                    <a:lnTo>
                      <a:pt x="3669" y="1564"/>
                    </a:lnTo>
                    <a:lnTo>
                      <a:pt x="3691" y="1644"/>
                    </a:lnTo>
                    <a:lnTo>
                      <a:pt x="3708" y="1726"/>
                    </a:lnTo>
                    <a:lnTo>
                      <a:pt x="3721" y="1809"/>
                    </a:lnTo>
                    <a:lnTo>
                      <a:pt x="3731" y="1893"/>
                    </a:lnTo>
                    <a:lnTo>
                      <a:pt x="3737" y="1978"/>
                    </a:lnTo>
                    <a:lnTo>
                      <a:pt x="3738" y="2064"/>
                    </a:lnTo>
                    <a:lnTo>
                      <a:pt x="3735" y="2159"/>
                    </a:lnTo>
                    <a:lnTo>
                      <a:pt x="3729" y="2254"/>
                    </a:lnTo>
                    <a:lnTo>
                      <a:pt x="3717" y="2346"/>
                    </a:lnTo>
                    <a:lnTo>
                      <a:pt x="3701" y="2437"/>
                    </a:lnTo>
                    <a:lnTo>
                      <a:pt x="3680" y="2526"/>
                    </a:lnTo>
                    <a:lnTo>
                      <a:pt x="3655" y="2614"/>
                    </a:lnTo>
                    <a:lnTo>
                      <a:pt x="3626" y="2700"/>
                    </a:lnTo>
                    <a:lnTo>
                      <a:pt x="3593" y="2784"/>
                    </a:lnTo>
                    <a:lnTo>
                      <a:pt x="3555" y="2866"/>
                    </a:lnTo>
                    <a:lnTo>
                      <a:pt x="3515" y="2946"/>
                    </a:lnTo>
                    <a:lnTo>
                      <a:pt x="3470" y="3023"/>
                    </a:lnTo>
                    <a:lnTo>
                      <a:pt x="3422" y="3098"/>
                    </a:lnTo>
                    <a:lnTo>
                      <a:pt x="3371" y="3170"/>
                    </a:lnTo>
                    <a:lnTo>
                      <a:pt x="3315" y="3241"/>
                    </a:lnTo>
                    <a:lnTo>
                      <a:pt x="3258" y="3307"/>
                    </a:lnTo>
                    <a:lnTo>
                      <a:pt x="3197" y="3372"/>
                    </a:lnTo>
                    <a:lnTo>
                      <a:pt x="3132" y="3433"/>
                    </a:lnTo>
                    <a:lnTo>
                      <a:pt x="3065" y="3492"/>
                    </a:lnTo>
                    <a:lnTo>
                      <a:pt x="2995" y="3546"/>
                    </a:lnTo>
                    <a:lnTo>
                      <a:pt x="2923" y="3597"/>
                    </a:lnTo>
                    <a:lnTo>
                      <a:pt x="2847" y="3645"/>
                    </a:lnTo>
                    <a:lnTo>
                      <a:pt x="2771" y="3691"/>
                    </a:lnTo>
                    <a:lnTo>
                      <a:pt x="2690" y="3732"/>
                    </a:lnTo>
                    <a:lnTo>
                      <a:pt x="2609" y="3768"/>
                    </a:lnTo>
                    <a:lnTo>
                      <a:pt x="2525" y="3801"/>
                    </a:lnTo>
                    <a:lnTo>
                      <a:pt x="2438" y="3830"/>
                    </a:lnTo>
                    <a:lnTo>
                      <a:pt x="2351" y="3855"/>
                    </a:lnTo>
                    <a:lnTo>
                      <a:pt x="2261" y="3876"/>
                    </a:lnTo>
                    <a:lnTo>
                      <a:pt x="2171" y="3893"/>
                    </a:lnTo>
                    <a:lnTo>
                      <a:pt x="2077" y="3905"/>
                    </a:lnTo>
                    <a:lnTo>
                      <a:pt x="1983" y="3912"/>
                    </a:lnTo>
                    <a:lnTo>
                      <a:pt x="1889" y="3914"/>
                    </a:lnTo>
                    <a:lnTo>
                      <a:pt x="1818" y="3913"/>
                    </a:lnTo>
                    <a:lnTo>
                      <a:pt x="1749" y="3908"/>
                    </a:lnTo>
                    <a:lnTo>
                      <a:pt x="1681" y="3902"/>
                    </a:lnTo>
                    <a:lnTo>
                      <a:pt x="1613" y="3894"/>
                    </a:lnTo>
                    <a:lnTo>
                      <a:pt x="1545" y="3882"/>
                    </a:lnTo>
                    <a:lnTo>
                      <a:pt x="1479" y="3869"/>
                    </a:lnTo>
                    <a:lnTo>
                      <a:pt x="1413" y="3852"/>
                    </a:lnTo>
                    <a:lnTo>
                      <a:pt x="1350" y="3834"/>
                    </a:lnTo>
                    <a:lnTo>
                      <a:pt x="1286" y="3813"/>
                    </a:lnTo>
                    <a:lnTo>
                      <a:pt x="1224" y="3791"/>
                    </a:lnTo>
                    <a:lnTo>
                      <a:pt x="1163" y="3765"/>
                    </a:lnTo>
                    <a:lnTo>
                      <a:pt x="1101" y="3739"/>
                    </a:lnTo>
                    <a:lnTo>
                      <a:pt x="1043" y="3710"/>
                    </a:lnTo>
                    <a:lnTo>
                      <a:pt x="985" y="3679"/>
                    </a:lnTo>
                    <a:lnTo>
                      <a:pt x="929" y="3645"/>
                    </a:lnTo>
                    <a:lnTo>
                      <a:pt x="873" y="3611"/>
                    </a:lnTo>
                    <a:lnTo>
                      <a:pt x="819" y="3573"/>
                    </a:lnTo>
                    <a:lnTo>
                      <a:pt x="767" y="3535"/>
                    </a:lnTo>
                    <a:lnTo>
                      <a:pt x="715" y="3494"/>
                    </a:lnTo>
                    <a:lnTo>
                      <a:pt x="666" y="3452"/>
                    </a:lnTo>
                    <a:lnTo>
                      <a:pt x="618" y="3408"/>
                    </a:lnTo>
                    <a:lnTo>
                      <a:pt x="571" y="3362"/>
                    </a:lnTo>
                    <a:lnTo>
                      <a:pt x="527" y="3315"/>
                    </a:lnTo>
                    <a:lnTo>
                      <a:pt x="483" y="3266"/>
                    </a:lnTo>
                    <a:lnTo>
                      <a:pt x="441" y="3216"/>
                    </a:lnTo>
                    <a:lnTo>
                      <a:pt x="402" y="3164"/>
                    </a:lnTo>
                    <a:lnTo>
                      <a:pt x="363" y="3112"/>
                    </a:lnTo>
                    <a:lnTo>
                      <a:pt x="327" y="3058"/>
                    </a:lnTo>
                    <a:lnTo>
                      <a:pt x="293" y="3001"/>
                    </a:lnTo>
                    <a:lnTo>
                      <a:pt x="261" y="2944"/>
                    </a:lnTo>
                    <a:lnTo>
                      <a:pt x="230" y="2886"/>
                    </a:lnTo>
                    <a:lnTo>
                      <a:pt x="203" y="2826"/>
                    </a:lnTo>
                    <a:lnTo>
                      <a:pt x="175" y="2846"/>
                    </a:lnTo>
                    <a:lnTo>
                      <a:pt x="149" y="2866"/>
                    </a:lnTo>
                    <a:lnTo>
                      <a:pt x="122" y="2885"/>
                    </a:lnTo>
                    <a:lnTo>
                      <a:pt x="97" y="2904"/>
                    </a:lnTo>
                    <a:lnTo>
                      <a:pt x="72" y="2922"/>
                    </a:lnTo>
                    <a:lnTo>
                      <a:pt x="47" y="2940"/>
                    </a:lnTo>
                    <a:lnTo>
                      <a:pt x="23" y="2958"/>
                    </a:lnTo>
                    <a:lnTo>
                      <a:pt x="0" y="2976"/>
                    </a:lnTo>
                    <a:lnTo>
                      <a:pt x="32" y="3041"/>
                    </a:lnTo>
                    <a:lnTo>
                      <a:pt x="68" y="3104"/>
                    </a:lnTo>
                    <a:lnTo>
                      <a:pt x="105" y="3167"/>
                    </a:lnTo>
                    <a:lnTo>
                      <a:pt x="144" y="3228"/>
                    </a:lnTo>
                    <a:lnTo>
                      <a:pt x="186" y="3288"/>
                    </a:lnTo>
                    <a:lnTo>
                      <a:pt x="229" y="3345"/>
                    </a:lnTo>
                    <a:lnTo>
                      <a:pt x="275" y="3402"/>
                    </a:lnTo>
                    <a:lnTo>
                      <a:pt x="321" y="3457"/>
                    </a:lnTo>
                    <a:lnTo>
                      <a:pt x="371" y="3510"/>
                    </a:lnTo>
                    <a:lnTo>
                      <a:pt x="421" y="3561"/>
                    </a:lnTo>
                    <a:lnTo>
                      <a:pt x="474" y="3611"/>
                    </a:lnTo>
                    <a:lnTo>
                      <a:pt x="528" y="3659"/>
                    </a:lnTo>
                    <a:lnTo>
                      <a:pt x="583" y="3704"/>
                    </a:lnTo>
                    <a:lnTo>
                      <a:pt x="641" y="3749"/>
                    </a:lnTo>
                    <a:lnTo>
                      <a:pt x="699" y="3791"/>
                    </a:lnTo>
                    <a:lnTo>
                      <a:pt x="759" y="3831"/>
                    </a:lnTo>
                    <a:lnTo>
                      <a:pt x="822" y="3869"/>
                    </a:lnTo>
                    <a:lnTo>
                      <a:pt x="884" y="3905"/>
                    </a:lnTo>
                    <a:lnTo>
                      <a:pt x="949" y="3938"/>
                    </a:lnTo>
                    <a:lnTo>
                      <a:pt x="1015" y="3971"/>
                    </a:lnTo>
                    <a:lnTo>
                      <a:pt x="1082" y="3999"/>
                    </a:lnTo>
                    <a:lnTo>
                      <a:pt x="1151" y="4027"/>
                    </a:lnTo>
                    <a:lnTo>
                      <a:pt x="1220" y="4051"/>
                    </a:lnTo>
                    <a:lnTo>
                      <a:pt x="1290" y="4074"/>
                    </a:lnTo>
                    <a:lnTo>
                      <a:pt x="1362" y="4094"/>
                    </a:lnTo>
                    <a:lnTo>
                      <a:pt x="1435" y="4111"/>
                    </a:lnTo>
                    <a:lnTo>
                      <a:pt x="1508" y="4125"/>
                    </a:lnTo>
                    <a:lnTo>
                      <a:pt x="1583" y="4138"/>
                    </a:lnTo>
                    <a:lnTo>
                      <a:pt x="1658" y="4148"/>
                    </a:lnTo>
                    <a:lnTo>
                      <a:pt x="1734" y="4154"/>
                    </a:lnTo>
                    <a:lnTo>
                      <a:pt x="1811" y="4159"/>
                    </a:lnTo>
                    <a:lnTo>
                      <a:pt x="1889" y="4160"/>
                    </a:lnTo>
                    <a:lnTo>
                      <a:pt x="1997" y="4158"/>
                    </a:lnTo>
                    <a:lnTo>
                      <a:pt x="2102" y="4149"/>
                    </a:lnTo>
                    <a:lnTo>
                      <a:pt x="2208" y="4136"/>
                    </a:lnTo>
                    <a:lnTo>
                      <a:pt x="2311" y="4118"/>
                    </a:lnTo>
                    <a:lnTo>
                      <a:pt x="2412" y="4094"/>
                    </a:lnTo>
                    <a:lnTo>
                      <a:pt x="2511" y="4066"/>
                    </a:lnTo>
                    <a:lnTo>
                      <a:pt x="2610" y="4033"/>
                    </a:lnTo>
                    <a:lnTo>
                      <a:pt x="2705" y="3996"/>
                    </a:lnTo>
                    <a:lnTo>
                      <a:pt x="2797" y="3954"/>
                    </a:lnTo>
                    <a:lnTo>
                      <a:pt x="2888" y="3907"/>
                    </a:lnTo>
                    <a:lnTo>
                      <a:pt x="2976" y="3857"/>
                    </a:lnTo>
                    <a:lnTo>
                      <a:pt x="3061" y="3803"/>
                    </a:lnTo>
                    <a:lnTo>
                      <a:pt x="3143" y="3744"/>
                    </a:lnTo>
                    <a:lnTo>
                      <a:pt x="3222" y="3681"/>
                    </a:lnTo>
                    <a:lnTo>
                      <a:pt x="3299" y="3615"/>
                    </a:lnTo>
                    <a:lnTo>
                      <a:pt x="3371" y="3546"/>
                    </a:lnTo>
                    <a:lnTo>
                      <a:pt x="3440" y="3474"/>
                    </a:lnTo>
                    <a:lnTo>
                      <a:pt x="3506" y="3397"/>
                    </a:lnTo>
                    <a:lnTo>
                      <a:pt x="3569" y="3318"/>
                    </a:lnTo>
                    <a:lnTo>
                      <a:pt x="3627" y="3236"/>
                    </a:lnTo>
                    <a:lnTo>
                      <a:pt x="3681" y="3151"/>
                    </a:lnTo>
                    <a:lnTo>
                      <a:pt x="3732" y="3064"/>
                    </a:lnTo>
                    <a:lnTo>
                      <a:pt x="3779" y="2972"/>
                    </a:lnTo>
                    <a:lnTo>
                      <a:pt x="3821" y="2880"/>
                    </a:lnTo>
                    <a:lnTo>
                      <a:pt x="3858" y="2785"/>
                    </a:lnTo>
                    <a:lnTo>
                      <a:pt x="3890" y="2687"/>
                    </a:lnTo>
                    <a:lnTo>
                      <a:pt x="3919" y="2588"/>
                    </a:lnTo>
                    <a:lnTo>
                      <a:pt x="3943" y="2487"/>
                    </a:lnTo>
                    <a:lnTo>
                      <a:pt x="3961" y="2383"/>
                    </a:lnTo>
                    <a:lnTo>
                      <a:pt x="3974" y="2279"/>
                    </a:lnTo>
                    <a:lnTo>
                      <a:pt x="3983" y="2172"/>
                    </a:lnTo>
                    <a:lnTo>
                      <a:pt x="3985" y="2064"/>
                    </a:lnTo>
                    <a:close/>
                  </a:path>
                </a:pathLst>
              </a:custGeom>
              <a:solidFill>
                <a:srgbClr val="fc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195880" y="3753000"/>
                <a:ext cx="1492200" cy="1555560"/>
              </a:xfrm>
              <a:custGeom>
                <a:avLst/>
                <a:gdLst/>
                <a:ahLst/>
                <a:rect l="l" t="t" r="r" b="b"/>
                <a:pathLst>
                  <a:path w="3760" h="3919">
                    <a:moveTo>
                      <a:pt x="3760" y="1946"/>
                    </a:moveTo>
                    <a:lnTo>
                      <a:pt x="3759" y="1855"/>
                    </a:lnTo>
                    <a:lnTo>
                      <a:pt x="3752" y="1765"/>
                    </a:lnTo>
                    <a:lnTo>
                      <a:pt x="3742" y="1676"/>
                    </a:lnTo>
                    <a:lnTo>
                      <a:pt x="3728" y="1588"/>
                    </a:lnTo>
                    <a:lnTo>
                      <a:pt x="3710" y="1501"/>
                    </a:lnTo>
                    <a:lnTo>
                      <a:pt x="3688" y="1417"/>
                    </a:lnTo>
                    <a:lnTo>
                      <a:pt x="3663" y="1333"/>
                    </a:lnTo>
                    <a:lnTo>
                      <a:pt x="3634" y="1252"/>
                    </a:lnTo>
                    <a:lnTo>
                      <a:pt x="3603" y="1171"/>
                    </a:lnTo>
                    <a:lnTo>
                      <a:pt x="3567" y="1093"/>
                    </a:lnTo>
                    <a:lnTo>
                      <a:pt x="3528" y="1016"/>
                    </a:lnTo>
                    <a:lnTo>
                      <a:pt x="3486" y="942"/>
                    </a:lnTo>
                    <a:lnTo>
                      <a:pt x="3441" y="869"/>
                    </a:lnTo>
                    <a:lnTo>
                      <a:pt x="3393" y="799"/>
                    </a:lnTo>
                    <a:lnTo>
                      <a:pt x="3342" y="731"/>
                    </a:lnTo>
                    <a:lnTo>
                      <a:pt x="3288" y="665"/>
                    </a:lnTo>
                    <a:lnTo>
                      <a:pt x="3231" y="601"/>
                    </a:lnTo>
                    <a:lnTo>
                      <a:pt x="3172" y="540"/>
                    </a:lnTo>
                    <a:lnTo>
                      <a:pt x="3110" y="483"/>
                    </a:lnTo>
                    <a:lnTo>
                      <a:pt x="3046" y="426"/>
                    </a:lnTo>
                    <a:lnTo>
                      <a:pt x="2979" y="373"/>
                    </a:lnTo>
                    <a:lnTo>
                      <a:pt x="2911" y="324"/>
                    </a:lnTo>
                    <a:lnTo>
                      <a:pt x="2839" y="276"/>
                    </a:lnTo>
                    <a:lnTo>
                      <a:pt x="2766" y="233"/>
                    </a:lnTo>
                    <a:lnTo>
                      <a:pt x="2690" y="192"/>
                    </a:lnTo>
                    <a:lnTo>
                      <a:pt x="2613" y="154"/>
                    </a:lnTo>
                    <a:lnTo>
                      <a:pt x="2534" y="119"/>
                    </a:lnTo>
                    <a:lnTo>
                      <a:pt x="2454" y="89"/>
                    </a:lnTo>
                    <a:lnTo>
                      <a:pt x="2371" y="62"/>
                    </a:lnTo>
                    <a:lnTo>
                      <a:pt x="2287" y="38"/>
                    </a:lnTo>
                    <a:lnTo>
                      <a:pt x="2202" y="17"/>
                    </a:lnTo>
                    <a:lnTo>
                      <a:pt x="2114" y="0"/>
                    </a:lnTo>
                    <a:lnTo>
                      <a:pt x="2104" y="30"/>
                    </a:lnTo>
                    <a:lnTo>
                      <a:pt x="2095" y="60"/>
                    </a:lnTo>
                    <a:lnTo>
                      <a:pt x="2084" y="90"/>
                    </a:lnTo>
                    <a:lnTo>
                      <a:pt x="2073" y="119"/>
                    </a:lnTo>
                    <a:lnTo>
                      <a:pt x="2061" y="149"/>
                    </a:lnTo>
                    <a:lnTo>
                      <a:pt x="2049" y="178"/>
                    </a:lnTo>
                    <a:lnTo>
                      <a:pt x="2036" y="207"/>
                    </a:lnTo>
                    <a:lnTo>
                      <a:pt x="2023" y="235"/>
                    </a:lnTo>
                    <a:lnTo>
                      <a:pt x="2102" y="249"/>
                    </a:lnTo>
                    <a:lnTo>
                      <a:pt x="2179" y="264"/>
                    </a:lnTo>
                    <a:lnTo>
                      <a:pt x="2254" y="283"/>
                    </a:lnTo>
                    <a:lnTo>
                      <a:pt x="2329" y="306"/>
                    </a:lnTo>
                    <a:lnTo>
                      <a:pt x="2402" y="333"/>
                    </a:lnTo>
                    <a:lnTo>
                      <a:pt x="2473" y="361"/>
                    </a:lnTo>
                    <a:lnTo>
                      <a:pt x="2544" y="394"/>
                    </a:lnTo>
                    <a:lnTo>
                      <a:pt x="2611" y="429"/>
                    </a:lnTo>
                    <a:lnTo>
                      <a:pt x="2678" y="467"/>
                    </a:lnTo>
                    <a:lnTo>
                      <a:pt x="2742" y="508"/>
                    </a:lnTo>
                    <a:lnTo>
                      <a:pt x="2804" y="551"/>
                    </a:lnTo>
                    <a:lnTo>
                      <a:pt x="2865" y="598"/>
                    </a:lnTo>
                    <a:lnTo>
                      <a:pt x="2923" y="646"/>
                    </a:lnTo>
                    <a:lnTo>
                      <a:pt x="2979" y="697"/>
                    </a:lnTo>
                    <a:lnTo>
                      <a:pt x="3033" y="751"/>
                    </a:lnTo>
                    <a:lnTo>
                      <a:pt x="3085" y="807"/>
                    </a:lnTo>
                    <a:lnTo>
                      <a:pt x="3133" y="865"/>
                    </a:lnTo>
                    <a:lnTo>
                      <a:pt x="3180" y="925"/>
                    </a:lnTo>
                    <a:lnTo>
                      <a:pt x="3223" y="988"/>
                    </a:lnTo>
                    <a:lnTo>
                      <a:pt x="3265" y="1051"/>
                    </a:lnTo>
                    <a:lnTo>
                      <a:pt x="3302" y="1117"/>
                    </a:lnTo>
                    <a:lnTo>
                      <a:pt x="3338" y="1186"/>
                    </a:lnTo>
                    <a:lnTo>
                      <a:pt x="3370" y="1255"/>
                    </a:lnTo>
                    <a:lnTo>
                      <a:pt x="3399" y="1327"/>
                    </a:lnTo>
                    <a:lnTo>
                      <a:pt x="3426" y="1399"/>
                    </a:lnTo>
                    <a:lnTo>
                      <a:pt x="3448" y="1474"/>
                    </a:lnTo>
                    <a:lnTo>
                      <a:pt x="3469" y="1549"/>
                    </a:lnTo>
                    <a:lnTo>
                      <a:pt x="3484" y="1627"/>
                    </a:lnTo>
                    <a:lnTo>
                      <a:pt x="3498" y="1705"/>
                    </a:lnTo>
                    <a:lnTo>
                      <a:pt x="3506" y="1784"/>
                    </a:lnTo>
                    <a:lnTo>
                      <a:pt x="3512" y="1865"/>
                    </a:lnTo>
                    <a:lnTo>
                      <a:pt x="3514" y="1946"/>
                    </a:lnTo>
                    <a:lnTo>
                      <a:pt x="3512" y="2035"/>
                    </a:lnTo>
                    <a:lnTo>
                      <a:pt x="3505" y="2123"/>
                    </a:lnTo>
                    <a:lnTo>
                      <a:pt x="3494" y="2209"/>
                    </a:lnTo>
                    <a:lnTo>
                      <a:pt x="3478" y="2294"/>
                    </a:lnTo>
                    <a:lnTo>
                      <a:pt x="3459" y="2377"/>
                    </a:lnTo>
                    <a:lnTo>
                      <a:pt x="3436" y="2460"/>
                    </a:lnTo>
                    <a:lnTo>
                      <a:pt x="3409" y="2540"/>
                    </a:lnTo>
                    <a:lnTo>
                      <a:pt x="3379" y="2618"/>
                    </a:lnTo>
                    <a:lnTo>
                      <a:pt x="3344" y="2695"/>
                    </a:lnTo>
                    <a:lnTo>
                      <a:pt x="3306" y="2769"/>
                    </a:lnTo>
                    <a:lnTo>
                      <a:pt x="3264" y="2841"/>
                    </a:lnTo>
                    <a:lnTo>
                      <a:pt x="3219" y="2911"/>
                    </a:lnTo>
                    <a:lnTo>
                      <a:pt x="3171" y="2979"/>
                    </a:lnTo>
                    <a:lnTo>
                      <a:pt x="3120" y="3044"/>
                    </a:lnTo>
                    <a:lnTo>
                      <a:pt x="3066" y="3106"/>
                    </a:lnTo>
                    <a:lnTo>
                      <a:pt x="3008" y="3166"/>
                    </a:lnTo>
                    <a:lnTo>
                      <a:pt x="2948" y="3224"/>
                    </a:lnTo>
                    <a:lnTo>
                      <a:pt x="2886" y="3278"/>
                    </a:lnTo>
                    <a:lnTo>
                      <a:pt x="2821" y="3329"/>
                    </a:lnTo>
                    <a:lnTo>
                      <a:pt x="2752" y="3377"/>
                    </a:lnTo>
                    <a:lnTo>
                      <a:pt x="2683" y="3422"/>
                    </a:lnTo>
                    <a:lnTo>
                      <a:pt x="2611" y="3464"/>
                    </a:lnTo>
                    <a:lnTo>
                      <a:pt x="2536" y="3502"/>
                    </a:lnTo>
                    <a:lnTo>
                      <a:pt x="2460" y="3537"/>
                    </a:lnTo>
                    <a:lnTo>
                      <a:pt x="2382" y="3568"/>
                    </a:lnTo>
                    <a:lnTo>
                      <a:pt x="2301" y="3595"/>
                    </a:lnTo>
                    <a:lnTo>
                      <a:pt x="2218" y="3619"/>
                    </a:lnTo>
                    <a:lnTo>
                      <a:pt x="2136" y="3638"/>
                    </a:lnTo>
                    <a:lnTo>
                      <a:pt x="2050" y="3652"/>
                    </a:lnTo>
                    <a:lnTo>
                      <a:pt x="1964" y="3663"/>
                    </a:lnTo>
                    <a:lnTo>
                      <a:pt x="1876" y="3670"/>
                    </a:lnTo>
                    <a:lnTo>
                      <a:pt x="1788" y="3673"/>
                    </a:lnTo>
                    <a:lnTo>
                      <a:pt x="1722" y="3671"/>
                    </a:lnTo>
                    <a:lnTo>
                      <a:pt x="1656" y="3668"/>
                    </a:lnTo>
                    <a:lnTo>
                      <a:pt x="1591" y="3662"/>
                    </a:lnTo>
                    <a:lnTo>
                      <a:pt x="1526" y="3653"/>
                    </a:lnTo>
                    <a:lnTo>
                      <a:pt x="1464" y="3641"/>
                    </a:lnTo>
                    <a:lnTo>
                      <a:pt x="1400" y="3629"/>
                    </a:lnTo>
                    <a:lnTo>
                      <a:pt x="1339" y="3614"/>
                    </a:lnTo>
                    <a:lnTo>
                      <a:pt x="1278" y="3596"/>
                    </a:lnTo>
                    <a:lnTo>
                      <a:pt x="1218" y="3577"/>
                    </a:lnTo>
                    <a:lnTo>
                      <a:pt x="1159" y="3555"/>
                    </a:lnTo>
                    <a:lnTo>
                      <a:pt x="1101" y="3531"/>
                    </a:lnTo>
                    <a:lnTo>
                      <a:pt x="1045" y="3505"/>
                    </a:lnTo>
                    <a:lnTo>
                      <a:pt x="988" y="3477"/>
                    </a:lnTo>
                    <a:lnTo>
                      <a:pt x="934" y="3447"/>
                    </a:lnTo>
                    <a:lnTo>
                      <a:pt x="882" y="3416"/>
                    </a:lnTo>
                    <a:lnTo>
                      <a:pt x="829" y="3382"/>
                    </a:lnTo>
                    <a:lnTo>
                      <a:pt x="778" y="3347"/>
                    </a:lnTo>
                    <a:lnTo>
                      <a:pt x="729" y="3310"/>
                    </a:lnTo>
                    <a:lnTo>
                      <a:pt x="681" y="3271"/>
                    </a:lnTo>
                    <a:lnTo>
                      <a:pt x="634" y="3231"/>
                    </a:lnTo>
                    <a:lnTo>
                      <a:pt x="589" y="3189"/>
                    </a:lnTo>
                    <a:lnTo>
                      <a:pt x="546" y="3145"/>
                    </a:lnTo>
                    <a:lnTo>
                      <a:pt x="504" y="3100"/>
                    </a:lnTo>
                    <a:lnTo>
                      <a:pt x="463" y="3054"/>
                    </a:lnTo>
                    <a:lnTo>
                      <a:pt x="424" y="3006"/>
                    </a:lnTo>
                    <a:lnTo>
                      <a:pt x="387" y="2956"/>
                    </a:lnTo>
                    <a:lnTo>
                      <a:pt x="352" y="2906"/>
                    </a:lnTo>
                    <a:lnTo>
                      <a:pt x="319" y="2853"/>
                    </a:lnTo>
                    <a:lnTo>
                      <a:pt x="286" y="2800"/>
                    </a:lnTo>
                    <a:lnTo>
                      <a:pt x="256" y="2745"/>
                    </a:lnTo>
                    <a:lnTo>
                      <a:pt x="229" y="2690"/>
                    </a:lnTo>
                    <a:lnTo>
                      <a:pt x="204" y="2634"/>
                    </a:lnTo>
                    <a:lnTo>
                      <a:pt x="177" y="2653"/>
                    </a:lnTo>
                    <a:lnTo>
                      <a:pt x="152" y="2671"/>
                    </a:lnTo>
                    <a:lnTo>
                      <a:pt x="126" y="2690"/>
                    </a:lnTo>
                    <a:lnTo>
                      <a:pt x="100" y="2709"/>
                    </a:lnTo>
                    <a:lnTo>
                      <a:pt x="74" y="2727"/>
                    </a:lnTo>
                    <a:lnTo>
                      <a:pt x="49" y="2746"/>
                    </a:lnTo>
                    <a:lnTo>
                      <a:pt x="25" y="2764"/>
                    </a:lnTo>
                    <a:lnTo>
                      <a:pt x="0" y="2782"/>
                    </a:lnTo>
                    <a:lnTo>
                      <a:pt x="31" y="2845"/>
                    </a:lnTo>
                    <a:lnTo>
                      <a:pt x="63" y="2906"/>
                    </a:lnTo>
                    <a:lnTo>
                      <a:pt x="98" y="2966"/>
                    </a:lnTo>
                    <a:lnTo>
                      <a:pt x="135" y="3024"/>
                    </a:lnTo>
                    <a:lnTo>
                      <a:pt x="174" y="3081"/>
                    </a:lnTo>
                    <a:lnTo>
                      <a:pt x="214" y="3136"/>
                    </a:lnTo>
                    <a:lnTo>
                      <a:pt x="256" y="3190"/>
                    </a:lnTo>
                    <a:lnTo>
                      <a:pt x="301" y="3243"/>
                    </a:lnTo>
                    <a:lnTo>
                      <a:pt x="346" y="3295"/>
                    </a:lnTo>
                    <a:lnTo>
                      <a:pt x="394" y="3344"/>
                    </a:lnTo>
                    <a:lnTo>
                      <a:pt x="444" y="3391"/>
                    </a:lnTo>
                    <a:lnTo>
                      <a:pt x="495" y="3437"/>
                    </a:lnTo>
                    <a:lnTo>
                      <a:pt x="548" y="3482"/>
                    </a:lnTo>
                    <a:lnTo>
                      <a:pt x="602" y="3524"/>
                    </a:lnTo>
                    <a:lnTo>
                      <a:pt x="658" y="3563"/>
                    </a:lnTo>
                    <a:lnTo>
                      <a:pt x="715" y="3603"/>
                    </a:lnTo>
                    <a:lnTo>
                      <a:pt x="774" y="3639"/>
                    </a:lnTo>
                    <a:lnTo>
                      <a:pt x="834" y="3674"/>
                    </a:lnTo>
                    <a:lnTo>
                      <a:pt x="895" y="3706"/>
                    </a:lnTo>
                    <a:lnTo>
                      <a:pt x="957" y="3736"/>
                    </a:lnTo>
                    <a:lnTo>
                      <a:pt x="1021" y="3765"/>
                    </a:lnTo>
                    <a:lnTo>
                      <a:pt x="1086" y="3790"/>
                    </a:lnTo>
                    <a:lnTo>
                      <a:pt x="1152" y="3814"/>
                    </a:lnTo>
                    <a:lnTo>
                      <a:pt x="1219" y="3836"/>
                    </a:lnTo>
                    <a:lnTo>
                      <a:pt x="1287" y="3855"/>
                    </a:lnTo>
                    <a:lnTo>
                      <a:pt x="1356" y="3872"/>
                    </a:lnTo>
                    <a:lnTo>
                      <a:pt x="1425" y="3886"/>
                    </a:lnTo>
                    <a:lnTo>
                      <a:pt x="1496" y="3898"/>
                    </a:lnTo>
                    <a:lnTo>
                      <a:pt x="1568" y="3907"/>
                    </a:lnTo>
                    <a:lnTo>
                      <a:pt x="1640" y="3914"/>
                    </a:lnTo>
                    <a:lnTo>
                      <a:pt x="1713" y="3917"/>
                    </a:lnTo>
                    <a:lnTo>
                      <a:pt x="1788" y="3919"/>
                    </a:lnTo>
                    <a:lnTo>
                      <a:pt x="1888" y="3916"/>
                    </a:lnTo>
                    <a:lnTo>
                      <a:pt x="1989" y="3909"/>
                    </a:lnTo>
                    <a:lnTo>
                      <a:pt x="2088" y="3896"/>
                    </a:lnTo>
                    <a:lnTo>
                      <a:pt x="2185" y="3879"/>
                    </a:lnTo>
                    <a:lnTo>
                      <a:pt x="2281" y="3857"/>
                    </a:lnTo>
                    <a:lnTo>
                      <a:pt x="2374" y="3830"/>
                    </a:lnTo>
                    <a:lnTo>
                      <a:pt x="2466" y="3800"/>
                    </a:lnTo>
                    <a:lnTo>
                      <a:pt x="2556" y="3764"/>
                    </a:lnTo>
                    <a:lnTo>
                      <a:pt x="2643" y="3724"/>
                    </a:lnTo>
                    <a:lnTo>
                      <a:pt x="2728" y="3681"/>
                    </a:lnTo>
                    <a:lnTo>
                      <a:pt x="2810" y="3633"/>
                    </a:lnTo>
                    <a:lnTo>
                      <a:pt x="2890" y="3583"/>
                    </a:lnTo>
                    <a:lnTo>
                      <a:pt x="2968" y="3527"/>
                    </a:lnTo>
                    <a:lnTo>
                      <a:pt x="3043" y="3469"/>
                    </a:lnTo>
                    <a:lnTo>
                      <a:pt x="3114" y="3406"/>
                    </a:lnTo>
                    <a:lnTo>
                      <a:pt x="3183" y="3341"/>
                    </a:lnTo>
                    <a:lnTo>
                      <a:pt x="3248" y="3273"/>
                    </a:lnTo>
                    <a:lnTo>
                      <a:pt x="3310" y="3201"/>
                    </a:lnTo>
                    <a:lnTo>
                      <a:pt x="3369" y="3127"/>
                    </a:lnTo>
                    <a:lnTo>
                      <a:pt x="3423" y="3049"/>
                    </a:lnTo>
                    <a:lnTo>
                      <a:pt x="3475" y="2970"/>
                    </a:lnTo>
                    <a:lnTo>
                      <a:pt x="3523" y="2887"/>
                    </a:lnTo>
                    <a:lnTo>
                      <a:pt x="3566" y="2802"/>
                    </a:lnTo>
                    <a:lnTo>
                      <a:pt x="3606" y="2714"/>
                    </a:lnTo>
                    <a:lnTo>
                      <a:pt x="3640" y="2624"/>
                    </a:lnTo>
                    <a:lnTo>
                      <a:pt x="3672" y="2533"/>
                    </a:lnTo>
                    <a:lnTo>
                      <a:pt x="3698" y="2439"/>
                    </a:lnTo>
                    <a:lnTo>
                      <a:pt x="3721" y="2343"/>
                    </a:lnTo>
                    <a:lnTo>
                      <a:pt x="3738" y="2246"/>
                    </a:lnTo>
                    <a:lnTo>
                      <a:pt x="3751" y="2148"/>
                    </a:lnTo>
                    <a:lnTo>
                      <a:pt x="3758" y="2048"/>
                    </a:lnTo>
                    <a:lnTo>
                      <a:pt x="3760" y="1946"/>
                    </a:lnTo>
                    <a:close/>
                  </a:path>
                </a:pathLst>
              </a:custGeom>
              <a:solidFill>
                <a:srgbClr val="fc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35480" y="3800520"/>
                <a:ext cx="1403280" cy="1458720"/>
              </a:xfrm>
              <a:custGeom>
                <a:avLst/>
                <a:gdLst/>
                <a:ahLst/>
                <a:rect l="l" t="t" r="r" b="b"/>
                <a:pathLst>
                  <a:path w="3535" h="3677">
                    <a:moveTo>
                      <a:pt x="3535" y="1827"/>
                    </a:moveTo>
                    <a:lnTo>
                      <a:pt x="3534" y="1741"/>
                    </a:lnTo>
                    <a:lnTo>
                      <a:pt x="3528" y="1656"/>
                    </a:lnTo>
                    <a:lnTo>
                      <a:pt x="3518" y="1572"/>
                    </a:lnTo>
                    <a:lnTo>
                      <a:pt x="3505" y="1489"/>
                    </a:lnTo>
                    <a:lnTo>
                      <a:pt x="3488" y="1407"/>
                    </a:lnTo>
                    <a:lnTo>
                      <a:pt x="3466" y="1327"/>
                    </a:lnTo>
                    <a:lnTo>
                      <a:pt x="3442" y="1248"/>
                    </a:lnTo>
                    <a:lnTo>
                      <a:pt x="3416" y="1171"/>
                    </a:lnTo>
                    <a:lnTo>
                      <a:pt x="3385" y="1095"/>
                    </a:lnTo>
                    <a:lnTo>
                      <a:pt x="3351" y="1021"/>
                    </a:lnTo>
                    <a:lnTo>
                      <a:pt x="3314" y="949"/>
                    </a:lnTo>
                    <a:lnTo>
                      <a:pt x="3274" y="879"/>
                    </a:lnTo>
                    <a:lnTo>
                      <a:pt x="3231" y="811"/>
                    </a:lnTo>
                    <a:lnTo>
                      <a:pt x="3186" y="744"/>
                    </a:lnTo>
                    <a:lnTo>
                      <a:pt x="3136" y="680"/>
                    </a:lnTo>
                    <a:lnTo>
                      <a:pt x="3086" y="618"/>
                    </a:lnTo>
                    <a:lnTo>
                      <a:pt x="3032" y="559"/>
                    </a:lnTo>
                    <a:lnTo>
                      <a:pt x="2976" y="502"/>
                    </a:lnTo>
                    <a:lnTo>
                      <a:pt x="2917" y="446"/>
                    </a:lnTo>
                    <a:lnTo>
                      <a:pt x="2856" y="395"/>
                    </a:lnTo>
                    <a:lnTo>
                      <a:pt x="2792" y="344"/>
                    </a:lnTo>
                    <a:lnTo>
                      <a:pt x="2726" y="298"/>
                    </a:lnTo>
                    <a:lnTo>
                      <a:pt x="2659" y="254"/>
                    </a:lnTo>
                    <a:lnTo>
                      <a:pt x="2589" y="214"/>
                    </a:lnTo>
                    <a:lnTo>
                      <a:pt x="2518" y="175"/>
                    </a:lnTo>
                    <a:lnTo>
                      <a:pt x="2444" y="140"/>
                    </a:lnTo>
                    <a:lnTo>
                      <a:pt x="2370" y="108"/>
                    </a:lnTo>
                    <a:lnTo>
                      <a:pt x="2293" y="79"/>
                    </a:lnTo>
                    <a:lnTo>
                      <a:pt x="2215" y="54"/>
                    </a:lnTo>
                    <a:lnTo>
                      <a:pt x="2134" y="33"/>
                    </a:lnTo>
                    <a:lnTo>
                      <a:pt x="2054" y="15"/>
                    </a:lnTo>
                    <a:lnTo>
                      <a:pt x="1971" y="0"/>
                    </a:lnTo>
                    <a:lnTo>
                      <a:pt x="1962" y="24"/>
                    </a:lnTo>
                    <a:lnTo>
                      <a:pt x="1952" y="47"/>
                    </a:lnTo>
                    <a:lnTo>
                      <a:pt x="1942" y="71"/>
                    </a:lnTo>
                    <a:lnTo>
                      <a:pt x="1932" y="95"/>
                    </a:lnTo>
                    <a:lnTo>
                      <a:pt x="1921" y="119"/>
                    </a:lnTo>
                    <a:lnTo>
                      <a:pt x="1909" y="142"/>
                    </a:lnTo>
                    <a:lnTo>
                      <a:pt x="1897" y="166"/>
                    </a:lnTo>
                    <a:lnTo>
                      <a:pt x="1885" y="188"/>
                    </a:lnTo>
                    <a:lnTo>
                      <a:pt x="1881" y="194"/>
                    </a:lnTo>
                    <a:lnTo>
                      <a:pt x="1879" y="200"/>
                    </a:lnTo>
                    <a:lnTo>
                      <a:pt x="1875" y="205"/>
                    </a:lnTo>
                    <a:lnTo>
                      <a:pt x="1873" y="211"/>
                    </a:lnTo>
                    <a:lnTo>
                      <a:pt x="1869" y="217"/>
                    </a:lnTo>
                    <a:lnTo>
                      <a:pt x="1867" y="222"/>
                    </a:lnTo>
                    <a:lnTo>
                      <a:pt x="1864" y="228"/>
                    </a:lnTo>
                    <a:lnTo>
                      <a:pt x="1861" y="234"/>
                    </a:lnTo>
                    <a:lnTo>
                      <a:pt x="1935" y="244"/>
                    </a:lnTo>
                    <a:lnTo>
                      <a:pt x="2010" y="257"/>
                    </a:lnTo>
                    <a:lnTo>
                      <a:pt x="2082" y="274"/>
                    </a:lnTo>
                    <a:lnTo>
                      <a:pt x="2152" y="294"/>
                    </a:lnTo>
                    <a:lnTo>
                      <a:pt x="2222" y="317"/>
                    </a:lnTo>
                    <a:lnTo>
                      <a:pt x="2290" y="342"/>
                    </a:lnTo>
                    <a:lnTo>
                      <a:pt x="2358" y="372"/>
                    </a:lnTo>
                    <a:lnTo>
                      <a:pt x="2422" y="403"/>
                    </a:lnTo>
                    <a:lnTo>
                      <a:pt x="2486" y="438"/>
                    </a:lnTo>
                    <a:lnTo>
                      <a:pt x="2547" y="475"/>
                    </a:lnTo>
                    <a:lnTo>
                      <a:pt x="2607" y="516"/>
                    </a:lnTo>
                    <a:lnTo>
                      <a:pt x="2666" y="559"/>
                    </a:lnTo>
                    <a:lnTo>
                      <a:pt x="2721" y="604"/>
                    </a:lnTo>
                    <a:lnTo>
                      <a:pt x="2775" y="652"/>
                    </a:lnTo>
                    <a:lnTo>
                      <a:pt x="2827" y="702"/>
                    </a:lnTo>
                    <a:lnTo>
                      <a:pt x="2876" y="754"/>
                    </a:lnTo>
                    <a:lnTo>
                      <a:pt x="2923" y="808"/>
                    </a:lnTo>
                    <a:lnTo>
                      <a:pt x="2967" y="864"/>
                    </a:lnTo>
                    <a:lnTo>
                      <a:pt x="3009" y="923"/>
                    </a:lnTo>
                    <a:lnTo>
                      <a:pt x="3049" y="983"/>
                    </a:lnTo>
                    <a:lnTo>
                      <a:pt x="3085" y="1045"/>
                    </a:lnTo>
                    <a:lnTo>
                      <a:pt x="3120" y="1110"/>
                    </a:lnTo>
                    <a:lnTo>
                      <a:pt x="3151" y="1175"/>
                    </a:lnTo>
                    <a:lnTo>
                      <a:pt x="3178" y="1242"/>
                    </a:lnTo>
                    <a:lnTo>
                      <a:pt x="3204" y="1310"/>
                    </a:lnTo>
                    <a:lnTo>
                      <a:pt x="3225" y="1381"/>
                    </a:lnTo>
                    <a:lnTo>
                      <a:pt x="3244" y="1453"/>
                    </a:lnTo>
                    <a:lnTo>
                      <a:pt x="3260" y="1525"/>
                    </a:lnTo>
                    <a:lnTo>
                      <a:pt x="3272" y="1599"/>
                    </a:lnTo>
                    <a:lnTo>
                      <a:pt x="3282" y="1674"/>
                    </a:lnTo>
                    <a:lnTo>
                      <a:pt x="3286" y="1750"/>
                    </a:lnTo>
                    <a:lnTo>
                      <a:pt x="3289" y="1827"/>
                    </a:lnTo>
                    <a:lnTo>
                      <a:pt x="3286" y="1910"/>
                    </a:lnTo>
                    <a:lnTo>
                      <a:pt x="3280" y="1992"/>
                    </a:lnTo>
                    <a:lnTo>
                      <a:pt x="3271" y="2071"/>
                    </a:lnTo>
                    <a:lnTo>
                      <a:pt x="3256" y="2150"/>
                    </a:lnTo>
                    <a:lnTo>
                      <a:pt x="3238" y="2228"/>
                    </a:lnTo>
                    <a:lnTo>
                      <a:pt x="3217" y="2304"/>
                    </a:lnTo>
                    <a:lnTo>
                      <a:pt x="3192" y="2378"/>
                    </a:lnTo>
                    <a:lnTo>
                      <a:pt x="3163" y="2451"/>
                    </a:lnTo>
                    <a:lnTo>
                      <a:pt x="3130" y="2522"/>
                    </a:lnTo>
                    <a:lnTo>
                      <a:pt x="3096" y="2591"/>
                    </a:lnTo>
                    <a:lnTo>
                      <a:pt x="3056" y="2659"/>
                    </a:lnTo>
                    <a:lnTo>
                      <a:pt x="3015" y="2723"/>
                    </a:lnTo>
                    <a:lnTo>
                      <a:pt x="2970" y="2786"/>
                    </a:lnTo>
                    <a:lnTo>
                      <a:pt x="2923" y="2847"/>
                    </a:lnTo>
                    <a:lnTo>
                      <a:pt x="2872" y="2905"/>
                    </a:lnTo>
                    <a:lnTo>
                      <a:pt x="2820" y="2961"/>
                    </a:lnTo>
                    <a:lnTo>
                      <a:pt x="2763" y="3014"/>
                    </a:lnTo>
                    <a:lnTo>
                      <a:pt x="2706" y="3064"/>
                    </a:lnTo>
                    <a:lnTo>
                      <a:pt x="2644" y="3112"/>
                    </a:lnTo>
                    <a:lnTo>
                      <a:pt x="2582" y="3156"/>
                    </a:lnTo>
                    <a:lnTo>
                      <a:pt x="2517" y="3198"/>
                    </a:lnTo>
                    <a:lnTo>
                      <a:pt x="2450" y="3237"/>
                    </a:lnTo>
                    <a:lnTo>
                      <a:pt x="2380" y="3272"/>
                    </a:lnTo>
                    <a:lnTo>
                      <a:pt x="2310" y="3304"/>
                    </a:lnTo>
                    <a:lnTo>
                      <a:pt x="2236" y="3333"/>
                    </a:lnTo>
                    <a:lnTo>
                      <a:pt x="2162" y="3358"/>
                    </a:lnTo>
                    <a:lnTo>
                      <a:pt x="2086" y="3380"/>
                    </a:lnTo>
                    <a:lnTo>
                      <a:pt x="2008" y="3398"/>
                    </a:lnTo>
                    <a:lnTo>
                      <a:pt x="1929" y="3412"/>
                    </a:lnTo>
                    <a:lnTo>
                      <a:pt x="1849" y="3422"/>
                    </a:lnTo>
                    <a:lnTo>
                      <a:pt x="1768" y="3428"/>
                    </a:lnTo>
                    <a:lnTo>
                      <a:pt x="1686" y="3430"/>
                    </a:lnTo>
                    <a:lnTo>
                      <a:pt x="1623" y="3429"/>
                    </a:lnTo>
                    <a:lnTo>
                      <a:pt x="1561" y="3425"/>
                    </a:lnTo>
                    <a:lnTo>
                      <a:pt x="1500" y="3419"/>
                    </a:lnTo>
                    <a:lnTo>
                      <a:pt x="1440" y="3411"/>
                    </a:lnTo>
                    <a:lnTo>
                      <a:pt x="1380" y="3401"/>
                    </a:lnTo>
                    <a:lnTo>
                      <a:pt x="1321" y="3388"/>
                    </a:lnTo>
                    <a:lnTo>
                      <a:pt x="1262" y="3374"/>
                    </a:lnTo>
                    <a:lnTo>
                      <a:pt x="1206" y="3357"/>
                    </a:lnTo>
                    <a:lnTo>
                      <a:pt x="1149" y="3338"/>
                    </a:lnTo>
                    <a:lnTo>
                      <a:pt x="1094" y="3317"/>
                    </a:lnTo>
                    <a:lnTo>
                      <a:pt x="1039" y="3294"/>
                    </a:lnTo>
                    <a:lnTo>
                      <a:pt x="986" y="3269"/>
                    </a:lnTo>
                    <a:lnTo>
                      <a:pt x="933" y="3243"/>
                    </a:lnTo>
                    <a:lnTo>
                      <a:pt x="882" y="3214"/>
                    </a:lnTo>
                    <a:lnTo>
                      <a:pt x="832" y="3184"/>
                    </a:lnTo>
                    <a:lnTo>
                      <a:pt x="783" y="3153"/>
                    </a:lnTo>
                    <a:lnTo>
                      <a:pt x="735" y="3118"/>
                    </a:lnTo>
                    <a:lnTo>
                      <a:pt x="690" y="3083"/>
                    </a:lnTo>
                    <a:lnTo>
                      <a:pt x="644" y="3046"/>
                    </a:lnTo>
                    <a:lnTo>
                      <a:pt x="601" y="3008"/>
                    </a:lnTo>
                    <a:lnTo>
                      <a:pt x="559" y="2968"/>
                    </a:lnTo>
                    <a:lnTo>
                      <a:pt x="518" y="2926"/>
                    </a:lnTo>
                    <a:lnTo>
                      <a:pt x="480" y="2883"/>
                    </a:lnTo>
                    <a:lnTo>
                      <a:pt x="441" y="2839"/>
                    </a:lnTo>
                    <a:lnTo>
                      <a:pt x="405" y="2793"/>
                    </a:lnTo>
                    <a:lnTo>
                      <a:pt x="372" y="2746"/>
                    </a:lnTo>
                    <a:lnTo>
                      <a:pt x="339" y="2697"/>
                    </a:lnTo>
                    <a:lnTo>
                      <a:pt x="308" y="2648"/>
                    </a:lnTo>
                    <a:lnTo>
                      <a:pt x="279" y="2597"/>
                    </a:lnTo>
                    <a:lnTo>
                      <a:pt x="252" y="2545"/>
                    </a:lnTo>
                    <a:lnTo>
                      <a:pt x="226" y="2492"/>
                    </a:lnTo>
                    <a:lnTo>
                      <a:pt x="202" y="2438"/>
                    </a:lnTo>
                    <a:lnTo>
                      <a:pt x="178" y="2457"/>
                    </a:lnTo>
                    <a:lnTo>
                      <a:pt x="153" y="2476"/>
                    </a:lnTo>
                    <a:lnTo>
                      <a:pt x="128" y="2494"/>
                    </a:lnTo>
                    <a:lnTo>
                      <a:pt x="102" y="2513"/>
                    </a:lnTo>
                    <a:lnTo>
                      <a:pt x="76" y="2533"/>
                    </a:lnTo>
                    <a:lnTo>
                      <a:pt x="51" y="2552"/>
                    </a:lnTo>
                    <a:lnTo>
                      <a:pt x="25" y="2571"/>
                    </a:lnTo>
                    <a:lnTo>
                      <a:pt x="0" y="2589"/>
                    </a:lnTo>
                    <a:lnTo>
                      <a:pt x="27" y="2649"/>
                    </a:lnTo>
                    <a:lnTo>
                      <a:pt x="58" y="2707"/>
                    </a:lnTo>
                    <a:lnTo>
                      <a:pt x="90" y="2764"/>
                    </a:lnTo>
                    <a:lnTo>
                      <a:pt x="124" y="2821"/>
                    </a:lnTo>
                    <a:lnTo>
                      <a:pt x="160" y="2875"/>
                    </a:lnTo>
                    <a:lnTo>
                      <a:pt x="199" y="2927"/>
                    </a:lnTo>
                    <a:lnTo>
                      <a:pt x="238" y="2979"/>
                    </a:lnTo>
                    <a:lnTo>
                      <a:pt x="280" y="3029"/>
                    </a:lnTo>
                    <a:lnTo>
                      <a:pt x="324" y="3078"/>
                    </a:lnTo>
                    <a:lnTo>
                      <a:pt x="368" y="3125"/>
                    </a:lnTo>
                    <a:lnTo>
                      <a:pt x="415" y="3171"/>
                    </a:lnTo>
                    <a:lnTo>
                      <a:pt x="463" y="3215"/>
                    </a:lnTo>
                    <a:lnTo>
                      <a:pt x="512" y="3257"/>
                    </a:lnTo>
                    <a:lnTo>
                      <a:pt x="564" y="3298"/>
                    </a:lnTo>
                    <a:lnTo>
                      <a:pt x="616" y="3336"/>
                    </a:lnTo>
                    <a:lnTo>
                      <a:pt x="670" y="3374"/>
                    </a:lnTo>
                    <a:lnTo>
                      <a:pt x="726" y="3408"/>
                    </a:lnTo>
                    <a:lnTo>
                      <a:pt x="782" y="3442"/>
                    </a:lnTo>
                    <a:lnTo>
                      <a:pt x="840" y="3473"/>
                    </a:lnTo>
                    <a:lnTo>
                      <a:pt x="898" y="3502"/>
                    </a:lnTo>
                    <a:lnTo>
                      <a:pt x="960" y="3528"/>
                    </a:lnTo>
                    <a:lnTo>
                      <a:pt x="1021" y="3554"/>
                    </a:lnTo>
                    <a:lnTo>
                      <a:pt x="1083" y="3576"/>
                    </a:lnTo>
                    <a:lnTo>
                      <a:pt x="1147" y="3597"/>
                    </a:lnTo>
                    <a:lnTo>
                      <a:pt x="1210" y="3615"/>
                    </a:lnTo>
                    <a:lnTo>
                      <a:pt x="1276" y="3632"/>
                    </a:lnTo>
                    <a:lnTo>
                      <a:pt x="1342" y="3645"/>
                    </a:lnTo>
                    <a:lnTo>
                      <a:pt x="1410" y="3657"/>
                    </a:lnTo>
                    <a:lnTo>
                      <a:pt x="1478" y="3665"/>
                    </a:lnTo>
                    <a:lnTo>
                      <a:pt x="1546" y="3671"/>
                    </a:lnTo>
                    <a:lnTo>
                      <a:pt x="1615" y="3676"/>
                    </a:lnTo>
                    <a:lnTo>
                      <a:pt x="1686" y="3677"/>
                    </a:lnTo>
                    <a:lnTo>
                      <a:pt x="1780" y="3675"/>
                    </a:lnTo>
                    <a:lnTo>
                      <a:pt x="1874" y="3668"/>
                    </a:lnTo>
                    <a:lnTo>
                      <a:pt x="1968" y="3656"/>
                    </a:lnTo>
                    <a:lnTo>
                      <a:pt x="2058" y="3639"/>
                    </a:lnTo>
                    <a:lnTo>
                      <a:pt x="2148" y="3618"/>
                    </a:lnTo>
                    <a:lnTo>
                      <a:pt x="2235" y="3593"/>
                    </a:lnTo>
                    <a:lnTo>
                      <a:pt x="2322" y="3564"/>
                    </a:lnTo>
                    <a:lnTo>
                      <a:pt x="2406" y="3531"/>
                    </a:lnTo>
                    <a:lnTo>
                      <a:pt x="2487" y="3495"/>
                    </a:lnTo>
                    <a:lnTo>
                      <a:pt x="2568" y="3454"/>
                    </a:lnTo>
                    <a:lnTo>
                      <a:pt x="2644" y="3408"/>
                    </a:lnTo>
                    <a:lnTo>
                      <a:pt x="2720" y="3360"/>
                    </a:lnTo>
                    <a:lnTo>
                      <a:pt x="2792" y="3309"/>
                    </a:lnTo>
                    <a:lnTo>
                      <a:pt x="2862" y="3255"/>
                    </a:lnTo>
                    <a:lnTo>
                      <a:pt x="2929" y="3196"/>
                    </a:lnTo>
                    <a:lnTo>
                      <a:pt x="2994" y="3135"/>
                    </a:lnTo>
                    <a:lnTo>
                      <a:pt x="3055" y="3070"/>
                    </a:lnTo>
                    <a:lnTo>
                      <a:pt x="3112" y="3004"/>
                    </a:lnTo>
                    <a:lnTo>
                      <a:pt x="3168" y="2933"/>
                    </a:lnTo>
                    <a:lnTo>
                      <a:pt x="3219" y="2861"/>
                    </a:lnTo>
                    <a:lnTo>
                      <a:pt x="3267" y="2786"/>
                    </a:lnTo>
                    <a:lnTo>
                      <a:pt x="3312" y="2709"/>
                    </a:lnTo>
                    <a:lnTo>
                      <a:pt x="3352" y="2629"/>
                    </a:lnTo>
                    <a:lnTo>
                      <a:pt x="3390" y="2547"/>
                    </a:lnTo>
                    <a:lnTo>
                      <a:pt x="3423" y="2463"/>
                    </a:lnTo>
                    <a:lnTo>
                      <a:pt x="3452" y="2377"/>
                    </a:lnTo>
                    <a:lnTo>
                      <a:pt x="3477" y="2289"/>
                    </a:lnTo>
                    <a:lnTo>
                      <a:pt x="3498" y="2200"/>
                    </a:lnTo>
                    <a:lnTo>
                      <a:pt x="3514" y="2109"/>
                    </a:lnTo>
                    <a:lnTo>
                      <a:pt x="3526" y="2017"/>
                    </a:lnTo>
                    <a:lnTo>
                      <a:pt x="3532" y="1922"/>
                    </a:lnTo>
                    <a:lnTo>
                      <a:pt x="3535" y="1827"/>
                    </a:lnTo>
                    <a:close/>
                  </a:path>
                </a:pathLst>
              </a:custGeom>
              <a:solidFill>
                <a:srgbClr val="fded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76880" y="3846600"/>
                <a:ext cx="1314360" cy="1363680"/>
              </a:xfrm>
              <a:custGeom>
                <a:avLst/>
                <a:gdLst/>
                <a:ahLst/>
                <a:rect l="l" t="t" r="r" b="b"/>
                <a:pathLst>
                  <a:path w="3310" h="3438">
                    <a:moveTo>
                      <a:pt x="3310" y="1711"/>
                    </a:moveTo>
                    <a:lnTo>
                      <a:pt x="3308" y="1630"/>
                    </a:lnTo>
                    <a:lnTo>
                      <a:pt x="3302" y="1549"/>
                    </a:lnTo>
                    <a:lnTo>
                      <a:pt x="3294" y="1470"/>
                    </a:lnTo>
                    <a:lnTo>
                      <a:pt x="3280" y="1392"/>
                    </a:lnTo>
                    <a:lnTo>
                      <a:pt x="3265" y="1314"/>
                    </a:lnTo>
                    <a:lnTo>
                      <a:pt x="3244" y="1239"/>
                    </a:lnTo>
                    <a:lnTo>
                      <a:pt x="3222" y="1164"/>
                    </a:lnTo>
                    <a:lnTo>
                      <a:pt x="3195" y="1092"/>
                    </a:lnTo>
                    <a:lnTo>
                      <a:pt x="3166" y="1020"/>
                    </a:lnTo>
                    <a:lnTo>
                      <a:pt x="3134" y="951"/>
                    </a:lnTo>
                    <a:lnTo>
                      <a:pt x="3098" y="882"/>
                    </a:lnTo>
                    <a:lnTo>
                      <a:pt x="3061" y="816"/>
                    </a:lnTo>
                    <a:lnTo>
                      <a:pt x="3019" y="753"/>
                    </a:lnTo>
                    <a:lnTo>
                      <a:pt x="2976" y="690"/>
                    </a:lnTo>
                    <a:lnTo>
                      <a:pt x="2929" y="630"/>
                    </a:lnTo>
                    <a:lnTo>
                      <a:pt x="2881" y="572"/>
                    </a:lnTo>
                    <a:lnTo>
                      <a:pt x="2829" y="516"/>
                    </a:lnTo>
                    <a:lnTo>
                      <a:pt x="2775" y="462"/>
                    </a:lnTo>
                    <a:lnTo>
                      <a:pt x="2719" y="411"/>
                    </a:lnTo>
                    <a:lnTo>
                      <a:pt x="2661" y="363"/>
                    </a:lnTo>
                    <a:lnTo>
                      <a:pt x="2600" y="316"/>
                    </a:lnTo>
                    <a:lnTo>
                      <a:pt x="2538" y="273"/>
                    </a:lnTo>
                    <a:lnTo>
                      <a:pt x="2474" y="232"/>
                    </a:lnTo>
                    <a:lnTo>
                      <a:pt x="2407" y="194"/>
                    </a:lnTo>
                    <a:lnTo>
                      <a:pt x="2340" y="159"/>
                    </a:lnTo>
                    <a:lnTo>
                      <a:pt x="2269" y="126"/>
                    </a:lnTo>
                    <a:lnTo>
                      <a:pt x="2198" y="98"/>
                    </a:lnTo>
                    <a:lnTo>
                      <a:pt x="2125" y="71"/>
                    </a:lnTo>
                    <a:lnTo>
                      <a:pt x="2050" y="48"/>
                    </a:lnTo>
                    <a:lnTo>
                      <a:pt x="1975" y="29"/>
                    </a:lnTo>
                    <a:lnTo>
                      <a:pt x="1898" y="14"/>
                    </a:lnTo>
                    <a:lnTo>
                      <a:pt x="1819" y="0"/>
                    </a:lnTo>
                    <a:lnTo>
                      <a:pt x="1815" y="10"/>
                    </a:lnTo>
                    <a:lnTo>
                      <a:pt x="1810" y="18"/>
                    </a:lnTo>
                    <a:lnTo>
                      <a:pt x="1806" y="28"/>
                    </a:lnTo>
                    <a:lnTo>
                      <a:pt x="1802" y="36"/>
                    </a:lnTo>
                    <a:lnTo>
                      <a:pt x="1797" y="46"/>
                    </a:lnTo>
                    <a:lnTo>
                      <a:pt x="1792" y="54"/>
                    </a:lnTo>
                    <a:lnTo>
                      <a:pt x="1788" y="64"/>
                    </a:lnTo>
                    <a:lnTo>
                      <a:pt x="1783" y="72"/>
                    </a:lnTo>
                    <a:lnTo>
                      <a:pt x="1772" y="93"/>
                    </a:lnTo>
                    <a:lnTo>
                      <a:pt x="1761" y="113"/>
                    </a:lnTo>
                    <a:lnTo>
                      <a:pt x="1750" y="134"/>
                    </a:lnTo>
                    <a:lnTo>
                      <a:pt x="1740" y="154"/>
                    </a:lnTo>
                    <a:lnTo>
                      <a:pt x="1730" y="174"/>
                    </a:lnTo>
                    <a:lnTo>
                      <a:pt x="1720" y="195"/>
                    </a:lnTo>
                    <a:lnTo>
                      <a:pt x="1710" y="215"/>
                    </a:lnTo>
                    <a:lnTo>
                      <a:pt x="1700" y="236"/>
                    </a:lnTo>
                    <a:lnTo>
                      <a:pt x="1772" y="243"/>
                    </a:lnTo>
                    <a:lnTo>
                      <a:pt x="1842" y="254"/>
                    </a:lnTo>
                    <a:lnTo>
                      <a:pt x="1910" y="268"/>
                    </a:lnTo>
                    <a:lnTo>
                      <a:pt x="1978" y="285"/>
                    </a:lnTo>
                    <a:lnTo>
                      <a:pt x="2044" y="305"/>
                    </a:lnTo>
                    <a:lnTo>
                      <a:pt x="2109" y="328"/>
                    </a:lnTo>
                    <a:lnTo>
                      <a:pt x="2173" y="353"/>
                    </a:lnTo>
                    <a:lnTo>
                      <a:pt x="2235" y="382"/>
                    </a:lnTo>
                    <a:lnTo>
                      <a:pt x="2295" y="414"/>
                    </a:lnTo>
                    <a:lnTo>
                      <a:pt x="2354" y="448"/>
                    </a:lnTo>
                    <a:lnTo>
                      <a:pt x="2412" y="485"/>
                    </a:lnTo>
                    <a:lnTo>
                      <a:pt x="2467" y="524"/>
                    </a:lnTo>
                    <a:lnTo>
                      <a:pt x="2520" y="566"/>
                    </a:lnTo>
                    <a:lnTo>
                      <a:pt x="2571" y="610"/>
                    </a:lnTo>
                    <a:lnTo>
                      <a:pt x="2620" y="656"/>
                    </a:lnTo>
                    <a:lnTo>
                      <a:pt x="2668" y="705"/>
                    </a:lnTo>
                    <a:lnTo>
                      <a:pt x="2713" y="755"/>
                    </a:lnTo>
                    <a:lnTo>
                      <a:pt x="2755" y="808"/>
                    </a:lnTo>
                    <a:lnTo>
                      <a:pt x="2796" y="862"/>
                    </a:lnTo>
                    <a:lnTo>
                      <a:pt x="2833" y="918"/>
                    </a:lnTo>
                    <a:lnTo>
                      <a:pt x="2869" y="977"/>
                    </a:lnTo>
                    <a:lnTo>
                      <a:pt x="2901" y="1037"/>
                    </a:lnTo>
                    <a:lnTo>
                      <a:pt x="2931" y="1098"/>
                    </a:lnTo>
                    <a:lnTo>
                      <a:pt x="2958" y="1161"/>
                    </a:lnTo>
                    <a:lnTo>
                      <a:pt x="2982" y="1225"/>
                    </a:lnTo>
                    <a:lnTo>
                      <a:pt x="3003" y="1291"/>
                    </a:lnTo>
                    <a:lnTo>
                      <a:pt x="3021" y="1359"/>
                    </a:lnTo>
                    <a:lnTo>
                      <a:pt x="3036" y="1427"/>
                    </a:lnTo>
                    <a:lnTo>
                      <a:pt x="3048" y="1496"/>
                    </a:lnTo>
                    <a:lnTo>
                      <a:pt x="3056" y="1567"/>
                    </a:lnTo>
                    <a:lnTo>
                      <a:pt x="3062" y="1638"/>
                    </a:lnTo>
                    <a:lnTo>
                      <a:pt x="3063" y="1711"/>
                    </a:lnTo>
                    <a:lnTo>
                      <a:pt x="3062" y="1787"/>
                    </a:lnTo>
                    <a:lnTo>
                      <a:pt x="3056" y="1862"/>
                    </a:lnTo>
                    <a:lnTo>
                      <a:pt x="3046" y="1937"/>
                    </a:lnTo>
                    <a:lnTo>
                      <a:pt x="3033" y="2009"/>
                    </a:lnTo>
                    <a:lnTo>
                      <a:pt x="3016" y="2081"/>
                    </a:lnTo>
                    <a:lnTo>
                      <a:pt x="2997" y="2152"/>
                    </a:lnTo>
                    <a:lnTo>
                      <a:pt x="2973" y="2220"/>
                    </a:lnTo>
                    <a:lnTo>
                      <a:pt x="2947" y="2287"/>
                    </a:lnTo>
                    <a:lnTo>
                      <a:pt x="2917" y="2353"/>
                    </a:lnTo>
                    <a:lnTo>
                      <a:pt x="2884" y="2417"/>
                    </a:lnTo>
                    <a:lnTo>
                      <a:pt x="2850" y="2478"/>
                    </a:lnTo>
                    <a:lnTo>
                      <a:pt x="2810" y="2538"/>
                    </a:lnTo>
                    <a:lnTo>
                      <a:pt x="2769" y="2597"/>
                    </a:lnTo>
                    <a:lnTo>
                      <a:pt x="2725" y="2652"/>
                    </a:lnTo>
                    <a:lnTo>
                      <a:pt x="2679" y="2706"/>
                    </a:lnTo>
                    <a:lnTo>
                      <a:pt x="2630" y="2757"/>
                    </a:lnTo>
                    <a:lnTo>
                      <a:pt x="2578" y="2807"/>
                    </a:lnTo>
                    <a:lnTo>
                      <a:pt x="2524" y="2853"/>
                    </a:lnTo>
                    <a:lnTo>
                      <a:pt x="2469" y="2897"/>
                    </a:lnTo>
                    <a:lnTo>
                      <a:pt x="2410" y="2939"/>
                    </a:lnTo>
                    <a:lnTo>
                      <a:pt x="2350" y="2977"/>
                    </a:lnTo>
                    <a:lnTo>
                      <a:pt x="2289" y="3012"/>
                    </a:lnTo>
                    <a:lnTo>
                      <a:pt x="2224" y="3045"/>
                    </a:lnTo>
                    <a:lnTo>
                      <a:pt x="2160" y="3074"/>
                    </a:lnTo>
                    <a:lnTo>
                      <a:pt x="2092" y="3100"/>
                    </a:lnTo>
                    <a:lnTo>
                      <a:pt x="2024" y="3124"/>
                    </a:lnTo>
                    <a:lnTo>
                      <a:pt x="1953" y="3144"/>
                    </a:lnTo>
                    <a:lnTo>
                      <a:pt x="1881" y="3160"/>
                    </a:lnTo>
                    <a:lnTo>
                      <a:pt x="1809" y="3174"/>
                    </a:lnTo>
                    <a:lnTo>
                      <a:pt x="1735" y="3183"/>
                    </a:lnTo>
                    <a:lnTo>
                      <a:pt x="1659" y="3189"/>
                    </a:lnTo>
                    <a:lnTo>
                      <a:pt x="1584" y="3190"/>
                    </a:lnTo>
                    <a:lnTo>
                      <a:pt x="1525" y="3189"/>
                    </a:lnTo>
                    <a:lnTo>
                      <a:pt x="1466" y="3186"/>
                    </a:lnTo>
                    <a:lnTo>
                      <a:pt x="1408" y="3181"/>
                    </a:lnTo>
                    <a:lnTo>
                      <a:pt x="1352" y="3172"/>
                    </a:lnTo>
                    <a:lnTo>
                      <a:pt x="1296" y="3163"/>
                    </a:lnTo>
                    <a:lnTo>
                      <a:pt x="1240" y="3151"/>
                    </a:lnTo>
                    <a:lnTo>
                      <a:pt x="1185" y="3136"/>
                    </a:lnTo>
                    <a:lnTo>
                      <a:pt x="1132" y="3121"/>
                    </a:lnTo>
                    <a:lnTo>
                      <a:pt x="1078" y="3103"/>
                    </a:lnTo>
                    <a:lnTo>
                      <a:pt x="1027" y="3082"/>
                    </a:lnTo>
                    <a:lnTo>
                      <a:pt x="976" y="3061"/>
                    </a:lnTo>
                    <a:lnTo>
                      <a:pt x="926" y="3037"/>
                    </a:lnTo>
                    <a:lnTo>
                      <a:pt x="877" y="3012"/>
                    </a:lnTo>
                    <a:lnTo>
                      <a:pt x="829" y="2984"/>
                    </a:lnTo>
                    <a:lnTo>
                      <a:pt x="782" y="2955"/>
                    </a:lnTo>
                    <a:lnTo>
                      <a:pt x="736" y="2924"/>
                    </a:lnTo>
                    <a:lnTo>
                      <a:pt x="692" y="2893"/>
                    </a:lnTo>
                    <a:lnTo>
                      <a:pt x="649" y="2858"/>
                    </a:lnTo>
                    <a:lnTo>
                      <a:pt x="607" y="2823"/>
                    </a:lnTo>
                    <a:lnTo>
                      <a:pt x="567" y="2786"/>
                    </a:lnTo>
                    <a:lnTo>
                      <a:pt x="528" y="2748"/>
                    </a:lnTo>
                    <a:lnTo>
                      <a:pt x="490" y="2708"/>
                    </a:lnTo>
                    <a:lnTo>
                      <a:pt x="454" y="2667"/>
                    </a:lnTo>
                    <a:lnTo>
                      <a:pt x="420" y="2624"/>
                    </a:lnTo>
                    <a:lnTo>
                      <a:pt x="386" y="2581"/>
                    </a:lnTo>
                    <a:lnTo>
                      <a:pt x="355" y="2537"/>
                    </a:lnTo>
                    <a:lnTo>
                      <a:pt x="325" y="2490"/>
                    </a:lnTo>
                    <a:lnTo>
                      <a:pt x="297" y="2443"/>
                    </a:lnTo>
                    <a:lnTo>
                      <a:pt x="271" y="2394"/>
                    </a:lnTo>
                    <a:lnTo>
                      <a:pt x="246" y="2345"/>
                    </a:lnTo>
                    <a:lnTo>
                      <a:pt x="223" y="2294"/>
                    </a:lnTo>
                    <a:lnTo>
                      <a:pt x="202" y="2243"/>
                    </a:lnTo>
                    <a:lnTo>
                      <a:pt x="178" y="2262"/>
                    </a:lnTo>
                    <a:lnTo>
                      <a:pt x="154" y="2281"/>
                    </a:lnTo>
                    <a:lnTo>
                      <a:pt x="129" y="2300"/>
                    </a:lnTo>
                    <a:lnTo>
                      <a:pt x="104" y="2319"/>
                    </a:lnTo>
                    <a:lnTo>
                      <a:pt x="79" y="2339"/>
                    </a:lnTo>
                    <a:lnTo>
                      <a:pt x="52" y="2359"/>
                    </a:lnTo>
                    <a:lnTo>
                      <a:pt x="26" y="2378"/>
                    </a:lnTo>
                    <a:lnTo>
                      <a:pt x="0" y="2399"/>
                    </a:lnTo>
                    <a:lnTo>
                      <a:pt x="25" y="2455"/>
                    </a:lnTo>
                    <a:lnTo>
                      <a:pt x="52" y="2510"/>
                    </a:lnTo>
                    <a:lnTo>
                      <a:pt x="82" y="2565"/>
                    </a:lnTo>
                    <a:lnTo>
                      <a:pt x="115" y="2618"/>
                    </a:lnTo>
                    <a:lnTo>
                      <a:pt x="148" y="2671"/>
                    </a:lnTo>
                    <a:lnTo>
                      <a:pt x="183" y="2721"/>
                    </a:lnTo>
                    <a:lnTo>
                      <a:pt x="220" y="2771"/>
                    </a:lnTo>
                    <a:lnTo>
                      <a:pt x="259" y="2819"/>
                    </a:lnTo>
                    <a:lnTo>
                      <a:pt x="300" y="2865"/>
                    </a:lnTo>
                    <a:lnTo>
                      <a:pt x="342" y="2910"/>
                    </a:lnTo>
                    <a:lnTo>
                      <a:pt x="385" y="2954"/>
                    </a:lnTo>
                    <a:lnTo>
                      <a:pt x="430" y="2996"/>
                    </a:lnTo>
                    <a:lnTo>
                      <a:pt x="477" y="3036"/>
                    </a:lnTo>
                    <a:lnTo>
                      <a:pt x="525" y="3075"/>
                    </a:lnTo>
                    <a:lnTo>
                      <a:pt x="574" y="3112"/>
                    </a:lnTo>
                    <a:lnTo>
                      <a:pt x="625" y="3147"/>
                    </a:lnTo>
                    <a:lnTo>
                      <a:pt x="678" y="3181"/>
                    </a:lnTo>
                    <a:lnTo>
                      <a:pt x="730" y="3212"/>
                    </a:lnTo>
                    <a:lnTo>
                      <a:pt x="784" y="3242"/>
                    </a:lnTo>
                    <a:lnTo>
                      <a:pt x="841" y="3270"/>
                    </a:lnTo>
                    <a:lnTo>
                      <a:pt x="897" y="3296"/>
                    </a:lnTo>
                    <a:lnTo>
                      <a:pt x="955" y="3320"/>
                    </a:lnTo>
                    <a:lnTo>
                      <a:pt x="1014" y="3342"/>
                    </a:lnTo>
                    <a:lnTo>
                      <a:pt x="1074" y="3361"/>
                    </a:lnTo>
                    <a:lnTo>
                      <a:pt x="1135" y="3379"/>
                    </a:lnTo>
                    <a:lnTo>
                      <a:pt x="1196" y="3394"/>
                    </a:lnTo>
                    <a:lnTo>
                      <a:pt x="1260" y="3406"/>
                    </a:lnTo>
                    <a:lnTo>
                      <a:pt x="1322" y="3418"/>
                    </a:lnTo>
                    <a:lnTo>
                      <a:pt x="1387" y="3427"/>
                    </a:lnTo>
                    <a:lnTo>
                      <a:pt x="1452" y="3433"/>
                    </a:lnTo>
                    <a:lnTo>
                      <a:pt x="1518" y="3436"/>
                    </a:lnTo>
                    <a:lnTo>
                      <a:pt x="1584" y="3438"/>
                    </a:lnTo>
                    <a:lnTo>
                      <a:pt x="1672" y="3435"/>
                    </a:lnTo>
                    <a:lnTo>
                      <a:pt x="1760" y="3428"/>
                    </a:lnTo>
                    <a:lnTo>
                      <a:pt x="1846" y="3417"/>
                    </a:lnTo>
                    <a:lnTo>
                      <a:pt x="1932" y="3403"/>
                    </a:lnTo>
                    <a:lnTo>
                      <a:pt x="2014" y="3384"/>
                    </a:lnTo>
                    <a:lnTo>
                      <a:pt x="2097" y="3360"/>
                    </a:lnTo>
                    <a:lnTo>
                      <a:pt x="2178" y="3333"/>
                    </a:lnTo>
                    <a:lnTo>
                      <a:pt x="2256" y="3302"/>
                    </a:lnTo>
                    <a:lnTo>
                      <a:pt x="2332" y="3267"/>
                    </a:lnTo>
                    <a:lnTo>
                      <a:pt x="2407" y="3229"/>
                    </a:lnTo>
                    <a:lnTo>
                      <a:pt x="2479" y="3188"/>
                    </a:lnTo>
                    <a:lnTo>
                      <a:pt x="2548" y="3142"/>
                    </a:lnTo>
                    <a:lnTo>
                      <a:pt x="2617" y="3094"/>
                    </a:lnTo>
                    <a:lnTo>
                      <a:pt x="2682" y="3043"/>
                    </a:lnTo>
                    <a:lnTo>
                      <a:pt x="2744" y="2989"/>
                    </a:lnTo>
                    <a:lnTo>
                      <a:pt x="2804" y="2931"/>
                    </a:lnTo>
                    <a:lnTo>
                      <a:pt x="2862" y="2871"/>
                    </a:lnTo>
                    <a:lnTo>
                      <a:pt x="2916" y="2809"/>
                    </a:lnTo>
                    <a:lnTo>
                      <a:pt x="2967" y="2744"/>
                    </a:lnTo>
                    <a:lnTo>
                      <a:pt x="3015" y="2676"/>
                    </a:lnTo>
                    <a:lnTo>
                      <a:pt x="3060" y="2606"/>
                    </a:lnTo>
                    <a:lnTo>
                      <a:pt x="3102" y="2534"/>
                    </a:lnTo>
                    <a:lnTo>
                      <a:pt x="3140" y="2460"/>
                    </a:lnTo>
                    <a:lnTo>
                      <a:pt x="3175" y="2383"/>
                    </a:lnTo>
                    <a:lnTo>
                      <a:pt x="3205" y="2305"/>
                    </a:lnTo>
                    <a:lnTo>
                      <a:pt x="3232" y="2225"/>
                    </a:lnTo>
                    <a:lnTo>
                      <a:pt x="3255" y="2143"/>
                    </a:lnTo>
                    <a:lnTo>
                      <a:pt x="3274" y="2059"/>
                    </a:lnTo>
                    <a:lnTo>
                      <a:pt x="3290" y="1974"/>
                    </a:lnTo>
                    <a:lnTo>
                      <a:pt x="3301" y="1888"/>
                    </a:lnTo>
                    <a:lnTo>
                      <a:pt x="3308" y="1800"/>
                    </a:lnTo>
                    <a:lnTo>
                      <a:pt x="3310" y="1711"/>
                    </a:lnTo>
                    <a:close/>
                  </a:path>
                </a:pathLst>
              </a:custGeom>
              <a:solidFill>
                <a:srgbClr val="fded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16480" y="3892680"/>
                <a:ext cx="1225440" cy="1268280"/>
              </a:xfrm>
              <a:custGeom>
                <a:avLst/>
                <a:gdLst/>
                <a:ahLst/>
                <a:rect l="l" t="t" r="r" b="b"/>
                <a:pathLst>
                  <a:path w="3087" h="3196">
                    <a:moveTo>
                      <a:pt x="3087" y="1593"/>
                    </a:moveTo>
                    <a:lnTo>
                      <a:pt x="3084" y="1516"/>
                    </a:lnTo>
                    <a:lnTo>
                      <a:pt x="3080" y="1440"/>
                    </a:lnTo>
                    <a:lnTo>
                      <a:pt x="3070" y="1365"/>
                    </a:lnTo>
                    <a:lnTo>
                      <a:pt x="3058" y="1291"/>
                    </a:lnTo>
                    <a:lnTo>
                      <a:pt x="3042" y="1219"/>
                    </a:lnTo>
                    <a:lnTo>
                      <a:pt x="3023" y="1147"/>
                    </a:lnTo>
                    <a:lnTo>
                      <a:pt x="3002" y="1076"/>
                    </a:lnTo>
                    <a:lnTo>
                      <a:pt x="2976" y="1008"/>
                    </a:lnTo>
                    <a:lnTo>
                      <a:pt x="2949" y="941"/>
                    </a:lnTo>
                    <a:lnTo>
                      <a:pt x="2918" y="876"/>
                    </a:lnTo>
                    <a:lnTo>
                      <a:pt x="2883" y="811"/>
                    </a:lnTo>
                    <a:lnTo>
                      <a:pt x="2847" y="749"/>
                    </a:lnTo>
                    <a:lnTo>
                      <a:pt x="2807" y="689"/>
                    </a:lnTo>
                    <a:lnTo>
                      <a:pt x="2765" y="630"/>
                    </a:lnTo>
                    <a:lnTo>
                      <a:pt x="2721" y="574"/>
                    </a:lnTo>
                    <a:lnTo>
                      <a:pt x="2674" y="520"/>
                    </a:lnTo>
                    <a:lnTo>
                      <a:pt x="2625" y="468"/>
                    </a:lnTo>
                    <a:lnTo>
                      <a:pt x="2573" y="418"/>
                    </a:lnTo>
                    <a:lnTo>
                      <a:pt x="2519" y="370"/>
                    </a:lnTo>
                    <a:lnTo>
                      <a:pt x="2464" y="325"/>
                    </a:lnTo>
                    <a:lnTo>
                      <a:pt x="2405" y="282"/>
                    </a:lnTo>
                    <a:lnTo>
                      <a:pt x="2345" y="241"/>
                    </a:lnTo>
                    <a:lnTo>
                      <a:pt x="2284" y="204"/>
                    </a:lnTo>
                    <a:lnTo>
                      <a:pt x="2220" y="169"/>
                    </a:lnTo>
                    <a:lnTo>
                      <a:pt x="2156" y="138"/>
                    </a:lnTo>
                    <a:lnTo>
                      <a:pt x="2088" y="108"/>
                    </a:lnTo>
                    <a:lnTo>
                      <a:pt x="2020" y="83"/>
                    </a:lnTo>
                    <a:lnTo>
                      <a:pt x="1950" y="60"/>
                    </a:lnTo>
                    <a:lnTo>
                      <a:pt x="1880" y="40"/>
                    </a:lnTo>
                    <a:lnTo>
                      <a:pt x="1808" y="23"/>
                    </a:lnTo>
                    <a:lnTo>
                      <a:pt x="1733" y="10"/>
                    </a:lnTo>
                    <a:lnTo>
                      <a:pt x="1659" y="0"/>
                    </a:lnTo>
                    <a:lnTo>
                      <a:pt x="1643" y="30"/>
                    </a:lnTo>
                    <a:lnTo>
                      <a:pt x="1629" y="60"/>
                    </a:lnTo>
                    <a:lnTo>
                      <a:pt x="1614" y="89"/>
                    </a:lnTo>
                    <a:lnTo>
                      <a:pt x="1600" y="119"/>
                    </a:lnTo>
                    <a:lnTo>
                      <a:pt x="1586" y="149"/>
                    </a:lnTo>
                    <a:lnTo>
                      <a:pt x="1572" y="179"/>
                    </a:lnTo>
                    <a:lnTo>
                      <a:pt x="1559" y="209"/>
                    </a:lnTo>
                    <a:lnTo>
                      <a:pt x="1546" y="239"/>
                    </a:lnTo>
                    <a:lnTo>
                      <a:pt x="1613" y="242"/>
                    </a:lnTo>
                    <a:lnTo>
                      <a:pt x="1679" y="251"/>
                    </a:lnTo>
                    <a:lnTo>
                      <a:pt x="1744" y="262"/>
                    </a:lnTo>
                    <a:lnTo>
                      <a:pt x="1808" y="276"/>
                    </a:lnTo>
                    <a:lnTo>
                      <a:pt x="1871" y="293"/>
                    </a:lnTo>
                    <a:lnTo>
                      <a:pt x="1932" y="313"/>
                    </a:lnTo>
                    <a:lnTo>
                      <a:pt x="1992" y="336"/>
                    </a:lnTo>
                    <a:lnTo>
                      <a:pt x="2052" y="361"/>
                    </a:lnTo>
                    <a:lnTo>
                      <a:pt x="2109" y="390"/>
                    </a:lnTo>
                    <a:lnTo>
                      <a:pt x="2165" y="420"/>
                    </a:lnTo>
                    <a:lnTo>
                      <a:pt x="2219" y="454"/>
                    </a:lnTo>
                    <a:lnTo>
                      <a:pt x="2272" y="490"/>
                    </a:lnTo>
                    <a:lnTo>
                      <a:pt x="2322" y="528"/>
                    </a:lnTo>
                    <a:lnTo>
                      <a:pt x="2372" y="568"/>
                    </a:lnTo>
                    <a:lnTo>
                      <a:pt x="2418" y="611"/>
                    </a:lnTo>
                    <a:lnTo>
                      <a:pt x="2463" y="655"/>
                    </a:lnTo>
                    <a:lnTo>
                      <a:pt x="2506" y="702"/>
                    </a:lnTo>
                    <a:lnTo>
                      <a:pt x="2547" y="750"/>
                    </a:lnTo>
                    <a:lnTo>
                      <a:pt x="2584" y="800"/>
                    </a:lnTo>
                    <a:lnTo>
                      <a:pt x="2620" y="853"/>
                    </a:lnTo>
                    <a:lnTo>
                      <a:pt x="2654" y="907"/>
                    </a:lnTo>
                    <a:lnTo>
                      <a:pt x="2685" y="963"/>
                    </a:lnTo>
                    <a:lnTo>
                      <a:pt x="2714" y="1020"/>
                    </a:lnTo>
                    <a:lnTo>
                      <a:pt x="2739" y="1079"/>
                    </a:lnTo>
                    <a:lnTo>
                      <a:pt x="2762" y="1139"/>
                    </a:lnTo>
                    <a:lnTo>
                      <a:pt x="2782" y="1201"/>
                    </a:lnTo>
                    <a:lnTo>
                      <a:pt x="2800" y="1263"/>
                    </a:lnTo>
                    <a:lnTo>
                      <a:pt x="2814" y="1327"/>
                    </a:lnTo>
                    <a:lnTo>
                      <a:pt x="2825" y="1392"/>
                    </a:lnTo>
                    <a:lnTo>
                      <a:pt x="2834" y="1459"/>
                    </a:lnTo>
                    <a:lnTo>
                      <a:pt x="2838" y="1525"/>
                    </a:lnTo>
                    <a:lnTo>
                      <a:pt x="2840" y="1593"/>
                    </a:lnTo>
                    <a:lnTo>
                      <a:pt x="2838" y="1663"/>
                    </a:lnTo>
                    <a:lnTo>
                      <a:pt x="2834" y="1731"/>
                    </a:lnTo>
                    <a:lnTo>
                      <a:pt x="2824" y="1800"/>
                    </a:lnTo>
                    <a:lnTo>
                      <a:pt x="2812" y="1867"/>
                    </a:lnTo>
                    <a:lnTo>
                      <a:pt x="2798" y="1932"/>
                    </a:lnTo>
                    <a:lnTo>
                      <a:pt x="2780" y="1996"/>
                    </a:lnTo>
                    <a:lnTo>
                      <a:pt x="2758" y="2060"/>
                    </a:lnTo>
                    <a:lnTo>
                      <a:pt x="2734" y="2121"/>
                    </a:lnTo>
                    <a:lnTo>
                      <a:pt x="2706" y="2181"/>
                    </a:lnTo>
                    <a:lnTo>
                      <a:pt x="2676" y="2240"/>
                    </a:lnTo>
                    <a:lnTo>
                      <a:pt x="2644" y="2296"/>
                    </a:lnTo>
                    <a:lnTo>
                      <a:pt x="2608" y="2351"/>
                    </a:lnTo>
                    <a:lnTo>
                      <a:pt x="2571" y="2404"/>
                    </a:lnTo>
                    <a:lnTo>
                      <a:pt x="2530" y="2456"/>
                    </a:lnTo>
                    <a:lnTo>
                      <a:pt x="2488" y="2505"/>
                    </a:lnTo>
                    <a:lnTo>
                      <a:pt x="2442" y="2552"/>
                    </a:lnTo>
                    <a:lnTo>
                      <a:pt x="2396" y="2597"/>
                    </a:lnTo>
                    <a:lnTo>
                      <a:pt x="2346" y="2639"/>
                    </a:lnTo>
                    <a:lnTo>
                      <a:pt x="2295" y="2680"/>
                    </a:lnTo>
                    <a:lnTo>
                      <a:pt x="2242" y="2717"/>
                    </a:lnTo>
                    <a:lnTo>
                      <a:pt x="2187" y="2753"/>
                    </a:lnTo>
                    <a:lnTo>
                      <a:pt x="2130" y="2786"/>
                    </a:lnTo>
                    <a:lnTo>
                      <a:pt x="2072" y="2816"/>
                    </a:lnTo>
                    <a:lnTo>
                      <a:pt x="2012" y="2843"/>
                    </a:lnTo>
                    <a:lnTo>
                      <a:pt x="1950" y="2867"/>
                    </a:lnTo>
                    <a:lnTo>
                      <a:pt x="1887" y="2889"/>
                    </a:lnTo>
                    <a:lnTo>
                      <a:pt x="1822" y="2907"/>
                    </a:lnTo>
                    <a:lnTo>
                      <a:pt x="1757" y="2922"/>
                    </a:lnTo>
                    <a:lnTo>
                      <a:pt x="1690" y="2933"/>
                    </a:lnTo>
                    <a:lnTo>
                      <a:pt x="1622" y="2943"/>
                    </a:lnTo>
                    <a:lnTo>
                      <a:pt x="1553" y="2948"/>
                    </a:lnTo>
                    <a:lnTo>
                      <a:pt x="1484" y="2949"/>
                    </a:lnTo>
                    <a:lnTo>
                      <a:pt x="1428" y="2949"/>
                    </a:lnTo>
                    <a:lnTo>
                      <a:pt x="1373" y="2945"/>
                    </a:lnTo>
                    <a:lnTo>
                      <a:pt x="1319" y="2939"/>
                    </a:lnTo>
                    <a:lnTo>
                      <a:pt x="1265" y="2932"/>
                    </a:lnTo>
                    <a:lnTo>
                      <a:pt x="1212" y="2922"/>
                    </a:lnTo>
                    <a:lnTo>
                      <a:pt x="1161" y="2910"/>
                    </a:lnTo>
                    <a:lnTo>
                      <a:pt x="1109" y="2897"/>
                    </a:lnTo>
                    <a:lnTo>
                      <a:pt x="1059" y="2882"/>
                    </a:lnTo>
                    <a:lnTo>
                      <a:pt x="1010" y="2865"/>
                    </a:lnTo>
                    <a:lnTo>
                      <a:pt x="960" y="2844"/>
                    </a:lnTo>
                    <a:lnTo>
                      <a:pt x="912" y="2824"/>
                    </a:lnTo>
                    <a:lnTo>
                      <a:pt x="866" y="2801"/>
                    </a:lnTo>
                    <a:lnTo>
                      <a:pt x="820" y="2776"/>
                    </a:lnTo>
                    <a:lnTo>
                      <a:pt x="776" y="2750"/>
                    </a:lnTo>
                    <a:lnTo>
                      <a:pt x="731" y="2722"/>
                    </a:lnTo>
                    <a:lnTo>
                      <a:pt x="689" y="2693"/>
                    </a:lnTo>
                    <a:lnTo>
                      <a:pt x="648" y="2662"/>
                    </a:lnTo>
                    <a:lnTo>
                      <a:pt x="608" y="2630"/>
                    </a:lnTo>
                    <a:lnTo>
                      <a:pt x="569" y="2595"/>
                    </a:lnTo>
                    <a:lnTo>
                      <a:pt x="532" y="2560"/>
                    </a:lnTo>
                    <a:lnTo>
                      <a:pt x="496" y="2523"/>
                    </a:lnTo>
                    <a:lnTo>
                      <a:pt x="461" y="2485"/>
                    </a:lnTo>
                    <a:lnTo>
                      <a:pt x="428" y="2445"/>
                    </a:lnTo>
                    <a:lnTo>
                      <a:pt x="396" y="2404"/>
                    </a:lnTo>
                    <a:lnTo>
                      <a:pt x="366" y="2362"/>
                    </a:lnTo>
                    <a:lnTo>
                      <a:pt x="338" y="2320"/>
                    </a:lnTo>
                    <a:lnTo>
                      <a:pt x="311" y="2276"/>
                    </a:lnTo>
                    <a:lnTo>
                      <a:pt x="286" y="2230"/>
                    </a:lnTo>
                    <a:lnTo>
                      <a:pt x="262" y="2183"/>
                    </a:lnTo>
                    <a:lnTo>
                      <a:pt x="240" y="2137"/>
                    </a:lnTo>
                    <a:lnTo>
                      <a:pt x="220" y="2088"/>
                    </a:lnTo>
                    <a:lnTo>
                      <a:pt x="202" y="2038"/>
                    </a:lnTo>
                    <a:lnTo>
                      <a:pt x="180" y="2058"/>
                    </a:lnTo>
                    <a:lnTo>
                      <a:pt x="159" y="2078"/>
                    </a:lnTo>
                    <a:lnTo>
                      <a:pt x="135" y="2097"/>
                    </a:lnTo>
                    <a:lnTo>
                      <a:pt x="110" y="2119"/>
                    </a:lnTo>
                    <a:lnTo>
                      <a:pt x="84" y="2139"/>
                    </a:lnTo>
                    <a:lnTo>
                      <a:pt x="57" y="2161"/>
                    </a:lnTo>
                    <a:lnTo>
                      <a:pt x="29" y="2182"/>
                    </a:lnTo>
                    <a:lnTo>
                      <a:pt x="0" y="2204"/>
                    </a:lnTo>
                    <a:lnTo>
                      <a:pt x="24" y="2258"/>
                    </a:lnTo>
                    <a:lnTo>
                      <a:pt x="50" y="2311"/>
                    </a:lnTo>
                    <a:lnTo>
                      <a:pt x="77" y="2363"/>
                    </a:lnTo>
                    <a:lnTo>
                      <a:pt x="106" y="2414"/>
                    </a:lnTo>
                    <a:lnTo>
                      <a:pt x="137" y="2463"/>
                    </a:lnTo>
                    <a:lnTo>
                      <a:pt x="170" y="2512"/>
                    </a:lnTo>
                    <a:lnTo>
                      <a:pt x="203" y="2559"/>
                    </a:lnTo>
                    <a:lnTo>
                      <a:pt x="239" y="2605"/>
                    </a:lnTo>
                    <a:lnTo>
                      <a:pt x="278" y="2649"/>
                    </a:lnTo>
                    <a:lnTo>
                      <a:pt x="316" y="2692"/>
                    </a:lnTo>
                    <a:lnTo>
                      <a:pt x="357" y="2734"/>
                    </a:lnTo>
                    <a:lnTo>
                      <a:pt x="399" y="2774"/>
                    </a:lnTo>
                    <a:lnTo>
                      <a:pt x="442" y="2812"/>
                    </a:lnTo>
                    <a:lnTo>
                      <a:pt x="488" y="2849"/>
                    </a:lnTo>
                    <a:lnTo>
                      <a:pt x="533" y="2884"/>
                    </a:lnTo>
                    <a:lnTo>
                      <a:pt x="581" y="2919"/>
                    </a:lnTo>
                    <a:lnTo>
                      <a:pt x="630" y="2950"/>
                    </a:lnTo>
                    <a:lnTo>
                      <a:pt x="680" y="2980"/>
                    </a:lnTo>
                    <a:lnTo>
                      <a:pt x="731" y="3009"/>
                    </a:lnTo>
                    <a:lnTo>
                      <a:pt x="784" y="3035"/>
                    </a:lnTo>
                    <a:lnTo>
                      <a:pt x="837" y="3060"/>
                    </a:lnTo>
                    <a:lnTo>
                      <a:pt x="892" y="3083"/>
                    </a:lnTo>
                    <a:lnTo>
                      <a:pt x="947" y="3104"/>
                    </a:lnTo>
                    <a:lnTo>
                      <a:pt x="1004" y="3123"/>
                    </a:lnTo>
                    <a:lnTo>
                      <a:pt x="1060" y="3140"/>
                    </a:lnTo>
                    <a:lnTo>
                      <a:pt x="1119" y="3154"/>
                    </a:lnTo>
                    <a:lnTo>
                      <a:pt x="1178" y="3167"/>
                    </a:lnTo>
                    <a:lnTo>
                      <a:pt x="1238" y="3177"/>
                    </a:lnTo>
                    <a:lnTo>
                      <a:pt x="1298" y="3185"/>
                    </a:lnTo>
                    <a:lnTo>
                      <a:pt x="1359" y="3191"/>
                    </a:lnTo>
                    <a:lnTo>
                      <a:pt x="1421" y="3195"/>
                    </a:lnTo>
                    <a:lnTo>
                      <a:pt x="1484" y="3196"/>
                    </a:lnTo>
                    <a:lnTo>
                      <a:pt x="1566" y="3194"/>
                    </a:lnTo>
                    <a:lnTo>
                      <a:pt x="1647" y="3188"/>
                    </a:lnTo>
                    <a:lnTo>
                      <a:pt x="1727" y="3178"/>
                    </a:lnTo>
                    <a:lnTo>
                      <a:pt x="1806" y="3164"/>
                    </a:lnTo>
                    <a:lnTo>
                      <a:pt x="1884" y="3146"/>
                    </a:lnTo>
                    <a:lnTo>
                      <a:pt x="1960" y="3124"/>
                    </a:lnTo>
                    <a:lnTo>
                      <a:pt x="2034" y="3099"/>
                    </a:lnTo>
                    <a:lnTo>
                      <a:pt x="2108" y="3070"/>
                    </a:lnTo>
                    <a:lnTo>
                      <a:pt x="2178" y="3038"/>
                    </a:lnTo>
                    <a:lnTo>
                      <a:pt x="2248" y="3003"/>
                    </a:lnTo>
                    <a:lnTo>
                      <a:pt x="2315" y="2964"/>
                    </a:lnTo>
                    <a:lnTo>
                      <a:pt x="2380" y="2922"/>
                    </a:lnTo>
                    <a:lnTo>
                      <a:pt x="2442" y="2878"/>
                    </a:lnTo>
                    <a:lnTo>
                      <a:pt x="2504" y="2830"/>
                    </a:lnTo>
                    <a:lnTo>
                      <a:pt x="2561" y="2780"/>
                    </a:lnTo>
                    <a:lnTo>
                      <a:pt x="2618" y="2727"/>
                    </a:lnTo>
                    <a:lnTo>
                      <a:pt x="2670" y="2671"/>
                    </a:lnTo>
                    <a:lnTo>
                      <a:pt x="2721" y="2613"/>
                    </a:lnTo>
                    <a:lnTo>
                      <a:pt x="2768" y="2552"/>
                    </a:lnTo>
                    <a:lnTo>
                      <a:pt x="2813" y="2489"/>
                    </a:lnTo>
                    <a:lnTo>
                      <a:pt x="2854" y="2425"/>
                    </a:lnTo>
                    <a:lnTo>
                      <a:pt x="2894" y="2357"/>
                    </a:lnTo>
                    <a:lnTo>
                      <a:pt x="2928" y="2288"/>
                    </a:lnTo>
                    <a:lnTo>
                      <a:pt x="2961" y="2217"/>
                    </a:lnTo>
                    <a:lnTo>
                      <a:pt x="2990" y="2144"/>
                    </a:lnTo>
                    <a:lnTo>
                      <a:pt x="3015" y="2070"/>
                    </a:lnTo>
                    <a:lnTo>
                      <a:pt x="3036" y="1994"/>
                    </a:lnTo>
                    <a:lnTo>
                      <a:pt x="3054" y="1916"/>
                    </a:lnTo>
                    <a:lnTo>
                      <a:pt x="3069" y="1837"/>
                    </a:lnTo>
                    <a:lnTo>
                      <a:pt x="3078" y="1758"/>
                    </a:lnTo>
                    <a:lnTo>
                      <a:pt x="3084" y="1676"/>
                    </a:lnTo>
                    <a:lnTo>
                      <a:pt x="3087" y="1593"/>
                    </a:lnTo>
                    <a:close/>
                  </a:path>
                </a:pathLst>
              </a:custGeom>
              <a:solidFill>
                <a:srgbClr val="fde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357880" y="3940200"/>
                <a:ext cx="1135080" cy="1171440"/>
              </a:xfrm>
              <a:custGeom>
                <a:avLst/>
                <a:gdLst/>
                <a:ahLst/>
                <a:rect l="l" t="t" r="r" b="b"/>
                <a:pathLst>
                  <a:path w="2861" h="2954">
                    <a:moveTo>
                      <a:pt x="2861" y="1475"/>
                    </a:moveTo>
                    <a:lnTo>
                      <a:pt x="2860" y="1402"/>
                    </a:lnTo>
                    <a:lnTo>
                      <a:pt x="2854" y="1331"/>
                    </a:lnTo>
                    <a:lnTo>
                      <a:pt x="2846" y="1260"/>
                    </a:lnTo>
                    <a:lnTo>
                      <a:pt x="2834" y="1191"/>
                    </a:lnTo>
                    <a:lnTo>
                      <a:pt x="2819" y="1123"/>
                    </a:lnTo>
                    <a:lnTo>
                      <a:pt x="2801" y="1055"/>
                    </a:lnTo>
                    <a:lnTo>
                      <a:pt x="2780" y="989"/>
                    </a:lnTo>
                    <a:lnTo>
                      <a:pt x="2756" y="925"/>
                    </a:lnTo>
                    <a:lnTo>
                      <a:pt x="2729" y="862"/>
                    </a:lnTo>
                    <a:lnTo>
                      <a:pt x="2699" y="801"/>
                    </a:lnTo>
                    <a:lnTo>
                      <a:pt x="2667" y="741"/>
                    </a:lnTo>
                    <a:lnTo>
                      <a:pt x="2631" y="682"/>
                    </a:lnTo>
                    <a:lnTo>
                      <a:pt x="2594" y="626"/>
                    </a:lnTo>
                    <a:lnTo>
                      <a:pt x="2553" y="572"/>
                    </a:lnTo>
                    <a:lnTo>
                      <a:pt x="2511" y="519"/>
                    </a:lnTo>
                    <a:lnTo>
                      <a:pt x="2466" y="469"/>
                    </a:lnTo>
                    <a:lnTo>
                      <a:pt x="2418" y="420"/>
                    </a:lnTo>
                    <a:lnTo>
                      <a:pt x="2369" y="374"/>
                    </a:lnTo>
                    <a:lnTo>
                      <a:pt x="2318" y="330"/>
                    </a:lnTo>
                    <a:lnTo>
                      <a:pt x="2265" y="288"/>
                    </a:lnTo>
                    <a:lnTo>
                      <a:pt x="2210" y="249"/>
                    </a:lnTo>
                    <a:lnTo>
                      <a:pt x="2152" y="212"/>
                    </a:lnTo>
                    <a:lnTo>
                      <a:pt x="2093" y="178"/>
                    </a:lnTo>
                    <a:lnTo>
                      <a:pt x="2033" y="146"/>
                    </a:lnTo>
                    <a:lnTo>
                      <a:pt x="1971" y="117"/>
                    </a:lnTo>
                    <a:lnTo>
                      <a:pt x="1907" y="92"/>
                    </a:lnTo>
                    <a:lnTo>
                      <a:pt x="1842" y="69"/>
                    </a:lnTo>
                    <a:lnTo>
                      <a:pt x="1776" y="49"/>
                    </a:lnTo>
                    <a:lnTo>
                      <a:pt x="1708" y="32"/>
                    </a:lnTo>
                    <a:lnTo>
                      <a:pt x="1640" y="18"/>
                    </a:lnTo>
                    <a:lnTo>
                      <a:pt x="1570" y="7"/>
                    </a:lnTo>
                    <a:lnTo>
                      <a:pt x="1498" y="0"/>
                    </a:lnTo>
                    <a:lnTo>
                      <a:pt x="1485" y="31"/>
                    </a:lnTo>
                    <a:lnTo>
                      <a:pt x="1470" y="61"/>
                    </a:lnTo>
                    <a:lnTo>
                      <a:pt x="1457" y="91"/>
                    </a:lnTo>
                    <a:lnTo>
                      <a:pt x="1443" y="122"/>
                    </a:lnTo>
                    <a:lnTo>
                      <a:pt x="1430" y="152"/>
                    </a:lnTo>
                    <a:lnTo>
                      <a:pt x="1416" y="182"/>
                    </a:lnTo>
                    <a:lnTo>
                      <a:pt x="1403" y="212"/>
                    </a:lnTo>
                    <a:lnTo>
                      <a:pt x="1391" y="242"/>
                    </a:lnTo>
                    <a:lnTo>
                      <a:pt x="1454" y="244"/>
                    </a:lnTo>
                    <a:lnTo>
                      <a:pt x="1516" y="249"/>
                    </a:lnTo>
                    <a:lnTo>
                      <a:pt x="1577" y="258"/>
                    </a:lnTo>
                    <a:lnTo>
                      <a:pt x="1637" y="268"/>
                    </a:lnTo>
                    <a:lnTo>
                      <a:pt x="1697" y="283"/>
                    </a:lnTo>
                    <a:lnTo>
                      <a:pt x="1755" y="300"/>
                    </a:lnTo>
                    <a:lnTo>
                      <a:pt x="1812" y="320"/>
                    </a:lnTo>
                    <a:lnTo>
                      <a:pt x="1868" y="342"/>
                    </a:lnTo>
                    <a:lnTo>
                      <a:pt x="1922" y="367"/>
                    </a:lnTo>
                    <a:lnTo>
                      <a:pt x="1974" y="394"/>
                    </a:lnTo>
                    <a:lnTo>
                      <a:pt x="2026" y="423"/>
                    </a:lnTo>
                    <a:lnTo>
                      <a:pt x="2075" y="456"/>
                    </a:lnTo>
                    <a:lnTo>
                      <a:pt x="2123" y="490"/>
                    </a:lnTo>
                    <a:lnTo>
                      <a:pt x="2170" y="526"/>
                    </a:lnTo>
                    <a:lnTo>
                      <a:pt x="2214" y="566"/>
                    </a:lnTo>
                    <a:lnTo>
                      <a:pt x="2256" y="607"/>
                    </a:lnTo>
                    <a:lnTo>
                      <a:pt x="2297" y="649"/>
                    </a:lnTo>
                    <a:lnTo>
                      <a:pt x="2336" y="694"/>
                    </a:lnTo>
                    <a:lnTo>
                      <a:pt x="2372" y="740"/>
                    </a:lnTo>
                    <a:lnTo>
                      <a:pt x="2406" y="789"/>
                    </a:lnTo>
                    <a:lnTo>
                      <a:pt x="2438" y="838"/>
                    </a:lnTo>
                    <a:lnTo>
                      <a:pt x="2468" y="890"/>
                    </a:lnTo>
                    <a:lnTo>
                      <a:pt x="2494" y="943"/>
                    </a:lnTo>
                    <a:lnTo>
                      <a:pt x="2519" y="998"/>
                    </a:lnTo>
                    <a:lnTo>
                      <a:pt x="2541" y="1053"/>
                    </a:lnTo>
                    <a:lnTo>
                      <a:pt x="2560" y="1111"/>
                    </a:lnTo>
                    <a:lnTo>
                      <a:pt x="2577" y="1168"/>
                    </a:lnTo>
                    <a:lnTo>
                      <a:pt x="2590" y="1228"/>
                    </a:lnTo>
                    <a:lnTo>
                      <a:pt x="2601" y="1288"/>
                    </a:lnTo>
                    <a:lnTo>
                      <a:pt x="2608" y="1349"/>
                    </a:lnTo>
                    <a:lnTo>
                      <a:pt x="2613" y="1412"/>
                    </a:lnTo>
                    <a:lnTo>
                      <a:pt x="2615" y="1475"/>
                    </a:lnTo>
                    <a:lnTo>
                      <a:pt x="2613" y="1539"/>
                    </a:lnTo>
                    <a:lnTo>
                      <a:pt x="2608" y="1601"/>
                    </a:lnTo>
                    <a:lnTo>
                      <a:pt x="2601" y="1662"/>
                    </a:lnTo>
                    <a:lnTo>
                      <a:pt x="2590" y="1724"/>
                    </a:lnTo>
                    <a:lnTo>
                      <a:pt x="2576" y="1784"/>
                    </a:lnTo>
                    <a:lnTo>
                      <a:pt x="2559" y="1842"/>
                    </a:lnTo>
                    <a:lnTo>
                      <a:pt x="2540" y="1899"/>
                    </a:lnTo>
                    <a:lnTo>
                      <a:pt x="2518" y="1955"/>
                    </a:lnTo>
                    <a:lnTo>
                      <a:pt x="2493" y="2009"/>
                    </a:lnTo>
                    <a:lnTo>
                      <a:pt x="2466" y="2063"/>
                    </a:lnTo>
                    <a:lnTo>
                      <a:pt x="2436" y="2115"/>
                    </a:lnTo>
                    <a:lnTo>
                      <a:pt x="2404" y="2165"/>
                    </a:lnTo>
                    <a:lnTo>
                      <a:pt x="2369" y="2213"/>
                    </a:lnTo>
                    <a:lnTo>
                      <a:pt x="2333" y="2260"/>
                    </a:lnTo>
                    <a:lnTo>
                      <a:pt x="2295" y="2304"/>
                    </a:lnTo>
                    <a:lnTo>
                      <a:pt x="2254" y="2347"/>
                    </a:lnTo>
                    <a:lnTo>
                      <a:pt x="2211" y="2388"/>
                    </a:lnTo>
                    <a:lnTo>
                      <a:pt x="2166" y="2427"/>
                    </a:lnTo>
                    <a:lnTo>
                      <a:pt x="2120" y="2464"/>
                    </a:lnTo>
                    <a:lnTo>
                      <a:pt x="2070" y="2497"/>
                    </a:lnTo>
                    <a:lnTo>
                      <a:pt x="2021" y="2530"/>
                    </a:lnTo>
                    <a:lnTo>
                      <a:pt x="1970" y="2560"/>
                    </a:lnTo>
                    <a:lnTo>
                      <a:pt x="1916" y="2586"/>
                    </a:lnTo>
                    <a:lnTo>
                      <a:pt x="1862" y="2611"/>
                    </a:lnTo>
                    <a:lnTo>
                      <a:pt x="1805" y="2633"/>
                    </a:lnTo>
                    <a:lnTo>
                      <a:pt x="1748" y="2652"/>
                    </a:lnTo>
                    <a:lnTo>
                      <a:pt x="1690" y="2669"/>
                    </a:lnTo>
                    <a:lnTo>
                      <a:pt x="1630" y="2683"/>
                    </a:lnTo>
                    <a:lnTo>
                      <a:pt x="1569" y="2694"/>
                    </a:lnTo>
                    <a:lnTo>
                      <a:pt x="1508" y="2701"/>
                    </a:lnTo>
                    <a:lnTo>
                      <a:pt x="1445" y="2706"/>
                    </a:lnTo>
                    <a:lnTo>
                      <a:pt x="1382" y="2709"/>
                    </a:lnTo>
                    <a:lnTo>
                      <a:pt x="1329" y="2707"/>
                    </a:lnTo>
                    <a:lnTo>
                      <a:pt x="1277" y="2704"/>
                    </a:lnTo>
                    <a:lnTo>
                      <a:pt x="1226" y="2699"/>
                    </a:lnTo>
                    <a:lnTo>
                      <a:pt x="1175" y="2691"/>
                    </a:lnTo>
                    <a:lnTo>
                      <a:pt x="1126" y="2682"/>
                    </a:lnTo>
                    <a:lnTo>
                      <a:pt x="1077" y="2670"/>
                    </a:lnTo>
                    <a:lnTo>
                      <a:pt x="1028" y="2657"/>
                    </a:lnTo>
                    <a:lnTo>
                      <a:pt x="981" y="2641"/>
                    </a:lnTo>
                    <a:lnTo>
                      <a:pt x="934" y="2625"/>
                    </a:lnTo>
                    <a:lnTo>
                      <a:pt x="888" y="2605"/>
                    </a:lnTo>
                    <a:lnTo>
                      <a:pt x="843" y="2585"/>
                    </a:lnTo>
                    <a:lnTo>
                      <a:pt x="800" y="2562"/>
                    </a:lnTo>
                    <a:lnTo>
                      <a:pt x="756" y="2538"/>
                    </a:lnTo>
                    <a:lnTo>
                      <a:pt x="714" y="2513"/>
                    </a:lnTo>
                    <a:lnTo>
                      <a:pt x="674" y="2485"/>
                    </a:lnTo>
                    <a:lnTo>
                      <a:pt x="634" y="2457"/>
                    </a:lnTo>
                    <a:lnTo>
                      <a:pt x="597" y="2427"/>
                    </a:lnTo>
                    <a:lnTo>
                      <a:pt x="560" y="2394"/>
                    </a:lnTo>
                    <a:lnTo>
                      <a:pt x="524" y="2361"/>
                    </a:lnTo>
                    <a:lnTo>
                      <a:pt x="489" y="2326"/>
                    </a:lnTo>
                    <a:lnTo>
                      <a:pt x="456" y="2290"/>
                    </a:lnTo>
                    <a:lnTo>
                      <a:pt x="425" y="2253"/>
                    </a:lnTo>
                    <a:lnTo>
                      <a:pt x="394" y="2214"/>
                    </a:lnTo>
                    <a:lnTo>
                      <a:pt x="366" y="2175"/>
                    </a:lnTo>
                    <a:lnTo>
                      <a:pt x="339" y="2134"/>
                    </a:lnTo>
                    <a:lnTo>
                      <a:pt x="314" y="2092"/>
                    </a:lnTo>
                    <a:lnTo>
                      <a:pt x="290" y="2049"/>
                    </a:lnTo>
                    <a:lnTo>
                      <a:pt x="268" y="2005"/>
                    </a:lnTo>
                    <a:lnTo>
                      <a:pt x="248" y="1960"/>
                    </a:lnTo>
                    <a:lnTo>
                      <a:pt x="228" y="1914"/>
                    </a:lnTo>
                    <a:lnTo>
                      <a:pt x="212" y="1868"/>
                    </a:lnTo>
                    <a:lnTo>
                      <a:pt x="197" y="1820"/>
                    </a:lnTo>
                    <a:lnTo>
                      <a:pt x="191" y="1827"/>
                    </a:lnTo>
                    <a:lnTo>
                      <a:pt x="184" y="1833"/>
                    </a:lnTo>
                    <a:lnTo>
                      <a:pt x="178" y="1840"/>
                    </a:lnTo>
                    <a:lnTo>
                      <a:pt x="172" y="1847"/>
                    </a:lnTo>
                    <a:lnTo>
                      <a:pt x="166" y="1853"/>
                    </a:lnTo>
                    <a:lnTo>
                      <a:pt x="160" y="1860"/>
                    </a:lnTo>
                    <a:lnTo>
                      <a:pt x="153" y="1868"/>
                    </a:lnTo>
                    <a:lnTo>
                      <a:pt x="147" y="1874"/>
                    </a:lnTo>
                    <a:lnTo>
                      <a:pt x="132" y="1889"/>
                    </a:lnTo>
                    <a:lnTo>
                      <a:pt x="117" y="1905"/>
                    </a:lnTo>
                    <a:lnTo>
                      <a:pt x="100" y="1920"/>
                    </a:lnTo>
                    <a:lnTo>
                      <a:pt x="82" y="1937"/>
                    </a:lnTo>
                    <a:lnTo>
                      <a:pt x="63" y="1954"/>
                    </a:lnTo>
                    <a:lnTo>
                      <a:pt x="42" y="1971"/>
                    </a:lnTo>
                    <a:lnTo>
                      <a:pt x="22" y="1989"/>
                    </a:lnTo>
                    <a:lnTo>
                      <a:pt x="0" y="2007"/>
                    </a:lnTo>
                    <a:lnTo>
                      <a:pt x="21" y="2058"/>
                    </a:lnTo>
                    <a:lnTo>
                      <a:pt x="44" y="2109"/>
                    </a:lnTo>
                    <a:lnTo>
                      <a:pt x="69" y="2158"/>
                    </a:lnTo>
                    <a:lnTo>
                      <a:pt x="95" y="2207"/>
                    </a:lnTo>
                    <a:lnTo>
                      <a:pt x="123" y="2254"/>
                    </a:lnTo>
                    <a:lnTo>
                      <a:pt x="153" y="2301"/>
                    </a:lnTo>
                    <a:lnTo>
                      <a:pt x="184" y="2345"/>
                    </a:lnTo>
                    <a:lnTo>
                      <a:pt x="218" y="2388"/>
                    </a:lnTo>
                    <a:lnTo>
                      <a:pt x="252" y="2431"/>
                    </a:lnTo>
                    <a:lnTo>
                      <a:pt x="288" y="2472"/>
                    </a:lnTo>
                    <a:lnTo>
                      <a:pt x="326" y="2512"/>
                    </a:lnTo>
                    <a:lnTo>
                      <a:pt x="365" y="2550"/>
                    </a:lnTo>
                    <a:lnTo>
                      <a:pt x="405" y="2587"/>
                    </a:lnTo>
                    <a:lnTo>
                      <a:pt x="447" y="2622"/>
                    </a:lnTo>
                    <a:lnTo>
                      <a:pt x="490" y="2657"/>
                    </a:lnTo>
                    <a:lnTo>
                      <a:pt x="534" y="2688"/>
                    </a:lnTo>
                    <a:lnTo>
                      <a:pt x="580" y="2719"/>
                    </a:lnTo>
                    <a:lnTo>
                      <a:pt x="627" y="2748"/>
                    </a:lnTo>
                    <a:lnTo>
                      <a:pt x="675" y="2776"/>
                    </a:lnTo>
                    <a:lnTo>
                      <a:pt x="724" y="2801"/>
                    </a:lnTo>
                    <a:lnTo>
                      <a:pt x="774" y="2825"/>
                    </a:lnTo>
                    <a:lnTo>
                      <a:pt x="825" y="2846"/>
                    </a:lnTo>
                    <a:lnTo>
                      <a:pt x="876" y="2867"/>
                    </a:lnTo>
                    <a:lnTo>
                      <a:pt x="930" y="2885"/>
                    </a:lnTo>
                    <a:lnTo>
                      <a:pt x="983" y="2900"/>
                    </a:lnTo>
                    <a:lnTo>
                      <a:pt x="1038" y="2915"/>
                    </a:lnTo>
                    <a:lnTo>
                      <a:pt x="1094" y="2927"/>
                    </a:lnTo>
                    <a:lnTo>
                      <a:pt x="1150" y="2936"/>
                    </a:lnTo>
                    <a:lnTo>
                      <a:pt x="1206" y="2945"/>
                    </a:lnTo>
                    <a:lnTo>
                      <a:pt x="1264" y="2950"/>
                    </a:lnTo>
                    <a:lnTo>
                      <a:pt x="1323" y="2953"/>
                    </a:lnTo>
                    <a:lnTo>
                      <a:pt x="1382" y="2954"/>
                    </a:lnTo>
                    <a:lnTo>
                      <a:pt x="1457" y="2953"/>
                    </a:lnTo>
                    <a:lnTo>
                      <a:pt x="1533" y="2947"/>
                    </a:lnTo>
                    <a:lnTo>
                      <a:pt x="1607" y="2938"/>
                    </a:lnTo>
                    <a:lnTo>
                      <a:pt x="1679" y="2924"/>
                    </a:lnTo>
                    <a:lnTo>
                      <a:pt x="1751" y="2908"/>
                    </a:lnTo>
                    <a:lnTo>
                      <a:pt x="1822" y="2888"/>
                    </a:lnTo>
                    <a:lnTo>
                      <a:pt x="1890" y="2864"/>
                    </a:lnTo>
                    <a:lnTo>
                      <a:pt x="1958" y="2838"/>
                    </a:lnTo>
                    <a:lnTo>
                      <a:pt x="2022" y="2809"/>
                    </a:lnTo>
                    <a:lnTo>
                      <a:pt x="2087" y="2776"/>
                    </a:lnTo>
                    <a:lnTo>
                      <a:pt x="2148" y="2741"/>
                    </a:lnTo>
                    <a:lnTo>
                      <a:pt x="2208" y="2703"/>
                    </a:lnTo>
                    <a:lnTo>
                      <a:pt x="2267" y="2661"/>
                    </a:lnTo>
                    <a:lnTo>
                      <a:pt x="2322" y="2617"/>
                    </a:lnTo>
                    <a:lnTo>
                      <a:pt x="2376" y="2571"/>
                    </a:lnTo>
                    <a:lnTo>
                      <a:pt x="2428" y="2521"/>
                    </a:lnTo>
                    <a:lnTo>
                      <a:pt x="2477" y="2470"/>
                    </a:lnTo>
                    <a:lnTo>
                      <a:pt x="2523" y="2416"/>
                    </a:lnTo>
                    <a:lnTo>
                      <a:pt x="2567" y="2361"/>
                    </a:lnTo>
                    <a:lnTo>
                      <a:pt x="2608" y="2302"/>
                    </a:lnTo>
                    <a:lnTo>
                      <a:pt x="2648" y="2242"/>
                    </a:lnTo>
                    <a:lnTo>
                      <a:pt x="2682" y="2181"/>
                    </a:lnTo>
                    <a:lnTo>
                      <a:pt x="2716" y="2117"/>
                    </a:lnTo>
                    <a:lnTo>
                      <a:pt x="2745" y="2051"/>
                    </a:lnTo>
                    <a:lnTo>
                      <a:pt x="2771" y="1984"/>
                    </a:lnTo>
                    <a:lnTo>
                      <a:pt x="2795" y="1916"/>
                    </a:lnTo>
                    <a:lnTo>
                      <a:pt x="2814" y="1845"/>
                    </a:lnTo>
                    <a:lnTo>
                      <a:pt x="2831" y="1773"/>
                    </a:lnTo>
                    <a:lnTo>
                      <a:pt x="2844" y="1701"/>
                    </a:lnTo>
                    <a:lnTo>
                      <a:pt x="2854" y="1626"/>
                    </a:lnTo>
                    <a:lnTo>
                      <a:pt x="2860" y="1551"/>
                    </a:lnTo>
                    <a:lnTo>
                      <a:pt x="2861" y="1475"/>
                    </a:lnTo>
                    <a:close/>
                  </a:path>
                </a:pathLst>
              </a:custGeom>
              <a:solidFill>
                <a:srgbClr val="fde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97480" y="3987720"/>
                <a:ext cx="1046160" cy="1074960"/>
              </a:xfrm>
              <a:custGeom>
                <a:avLst/>
                <a:gdLst/>
                <a:ahLst/>
                <a:rect l="l" t="t" r="r" b="b"/>
                <a:pathLst>
                  <a:path w="2638" h="2710">
                    <a:moveTo>
                      <a:pt x="2638" y="1354"/>
                    </a:moveTo>
                    <a:lnTo>
                      <a:pt x="2636" y="1286"/>
                    </a:lnTo>
                    <a:lnTo>
                      <a:pt x="2632" y="1220"/>
                    </a:lnTo>
                    <a:lnTo>
                      <a:pt x="2623" y="1153"/>
                    </a:lnTo>
                    <a:lnTo>
                      <a:pt x="2612" y="1088"/>
                    </a:lnTo>
                    <a:lnTo>
                      <a:pt x="2598" y="1024"/>
                    </a:lnTo>
                    <a:lnTo>
                      <a:pt x="2580" y="962"/>
                    </a:lnTo>
                    <a:lnTo>
                      <a:pt x="2560" y="900"/>
                    </a:lnTo>
                    <a:lnTo>
                      <a:pt x="2537" y="840"/>
                    </a:lnTo>
                    <a:lnTo>
                      <a:pt x="2512" y="781"/>
                    </a:lnTo>
                    <a:lnTo>
                      <a:pt x="2483" y="724"/>
                    </a:lnTo>
                    <a:lnTo>
                      <a:pt x="2452" y="668"/>
                    </a:lnTo>
                    <a:lnTo>
                      <a:pt x="2418" y="614"/>
                    </a:lnTo>
                    <a:lnTo>
                      <a:pt x="2382" y="561"/>
                    </a:lnTo>
                    <a:lnTo>
                      <a:pt x="2345" y="511"/>
                    </a:lnTo>
                    <a:lnTo>
                      <a:pt x="2304" y="463"/>
                    </a:lnTo>
                    <a:lnTo>
                      <a:pt x="2261" y="416"/>
                    </a:lnTo>
                    <a:lnTo>
                      <a:pt x="2216" y="372"/>
                    </a:lnTo>
                    <a:lnTo>
                      <a:pt x="2170" y="329"/>
                    </a:lnTo>
                    <a:lnTo>
                      <a:pt x="2120" y="289"/>
                    </a:lnTo>
                    <a:lnTo>
                      <a:pt x="2070" y="251"/>
                    </a:lnTo>
                    <a:lnTo>
                      <a:pt x="2017" y="215"/>
                    </a:lnTo>
                    <a:lnTo>
                      <a:pt x="1963" y="181"/>
                    </a:lnTo>
                    <a:lnTo>
                      <a:pt x="1907" y="151"/>
                    </a:lnTo>
                    <a:lnTo>
                      <a:pt x="1850" y="122"/>
                    </a:lnTo>
                    <a:lnTo>
                      <a:pt x="1790" y="97"/>
                    </a:lnTo>
                    <a:lnTo>
                      <a:pt x="1730" y="74"/>
                    </a:lnTo>
                    <a:lnTo>
                      <a:pt x="1669" y="54"/>
                    </a:lnTo>
                    <a:lnTo>
                      <a:pt x="1606" y="37"/>
                    </a:lnTo>
                    <a:lnTo>
                      <a:pt x="1542" y="23"/>
                    </a:lnTo>
                    <a:lnTo>
                      <a:pt x="1477" y="12"/>
                    </a:lnTo>
                    <a:lnTo>
                      <a:pt x="1411" y="3"/>
                    </a:lnTo>
                    <a:lnTo>
                      <a:pt x="1344" y="0"/>
                    </a:lnTo>
                    <a:lnTo>
                      <a:pt x="1330" y="30"/>
                    </a:lnTo>
                    <a:lnTo>
                      <a:pt x="1316" y="61"/>
                    </a:lnTo>
                    <a:lnTo>
                      <a:pt x="1303" y="92"/>
                    </a:lnTo>
                    <a:lnTo>
                      <a:pt x="1290" y="122"/>
                    </a:lnTo>
                    <a:lnTo>
                      <a:pt x="1277" y="153"/>
                    </a:lnTo>
                    <a:lnTo>
                      <a:pt x="1264" y="185"/>
                    </a:lnTo>
                    <a:lnTo>
                      <a:pt x="1250" y="215"/>
                    </a:lnTo>
                    <a:lnTo>
                      <a:pt x="1237" y="246"/>
                    </a:lnTo>
                    <a:lnTo>
                      <a:pt x="1242" y="246"/>
                    </a:lnTo>
                    <a:lnTo>
                      <a:pt x="1248" y="245"/>
                    </a:lnTo>
                    <a:lnTo>
                      <a:pt x="1253" y="245"/>
                    </a:lnTo>
                    <a:lnTo>
                      <a:pt x="1259" y="245"/>
                    </a:lnTo>
                    <a:lnTo>
                      <a:pt x="1265" y="245"/>
                    </a:lnTo>
                    <a:lnTo>
                      <a:pt x="1270" y="245"/>
                    </a:lnTo>
                    <a:lnTo>
                      <a:pt x="1276" y="245"/>
                    </a:lnTo>
                    <a:lnTo>
                      <a:pt x="1282" y="245"/>
                    </a:lnTo>
                    <a:lnTo>
                      <a:pt x="1338" y="246"/>
                    </a:lnTo>
                    <a:lnTo>
                      <a:pt x="1394" y="251"/>
                    </a:lnTo>
                    <a:lnTo>
                      <a:pt x="1451" y="258"/>
                    </a:lnTo>
                    <a:lnTo>
                      <a:pt x="1505" y="267"/>
                    </a:lnTo>
                    <a:lnTo>
                      <a:pt x="1559" y="279"/>
                    </a:lnTo>
                    <a:lnTo>
                      <a:pt x="1612" y="294"/>
                    </a:lnTo>
                    <a:lnTo>
                      <a:pt x="1663" y="312"/>
                    </a:lnTo>
                    <a:lnTo>
                      <a:pt x="1714" y="332"/>
                    </a:lnTo>
                    <a:lnTo>
                      <a:pt x="1763" y="354"/>
                    </a:lnTo>
                    <a:lnTo>
                      <a:pt x="1811" y="379"/>
                    </a:lnTo>
                    <a:lnTo>
                      <a:pt x="1856" y="405"/>
                    </a:lnTo>
                    <a:lnTo>
                      <a:pt x="1902" y="434"/>
                    </a:lnTo>
                    <a:lnTo>
                      <a:pt x="1945" y="465"/>
                    </a:lnTo>
                    <a:lnTo>
                      <a:pt x="1987" y="498"/>
                    </a:lnTo>
                    <a:lnTo>
                      <a:pt x="2028" y="532"/>
                    </a:lnTo>
                    <a:lnTo>
                      <a:pt x="2066" y="570"/>
                    </a:lnTo>
                    <a:lnTo>
                      <a:pt x="2102" y="608"/>
                    </a:lnTo>
                    <a:lnTo>
                      <a:pt x="2138" y="649"/>
                    </a:lnTo>
                    <a:lnTo>
                      <a:pt x="2171" y="690"/>
                    </a:lnTo>
                    <a:lnTo>
                      <a:pt x="2202" y="734"/>
                    </a:lnTo>
                    <a:lnTo>
                      <a:pt x="2231" y="778"/>
                    </a:lnTo>
                    <a:lnTo>
                      <a:pt x="2257" y="825"/>
                    </a:lnTo>
                    <a:lnTo>
                      <a:pt x="2282" y="873"/>
                    </a:lnTo>
                    <a:lnTo>
                      <a:pt x="2304" y="922"/>
                    </a:lnTo>
                    <a:lnTo>
                      <a:pt x="2324" y="973"/>
                    </a:lnTo>
                    <a:lnTo>
                      <a:pt x="2341" y="1024"/>
                    </a:lnTo>
                    <a:lnTo>
                      <a:pt x="2357" y="1077"/>
                    </a:lnTo>
                    <a:lnTo>
                      <a:pt x="2369" y="1131"/>
                    </a:lnTo>
                    <a:lnTo>
                      <a:pt x="2378" y="1185"/>
                    </a:lnTo>
                    <a:lnTo>
                      <a:pt x="2386" y="1240"/>
                    </a:lnTo>
                    <a:lnTo>
                      <a:pt x="2390" y="1297"/>
                    </a:lnTo>
                    <a:lnTo>
                      <a:pt x="2392" y="1354"/>
                    </a:lnTo>
                    <a:lnTo>
                      <a:pt x="2390" y="1412"/>
                    </a:lnTo>
                    <a:lnTo>
                      <a:pt x="2386" y="1467"/>
                    </a:lnTo>
                    <a:lnTo>
                      <a:pt x="2378" y="1523"/>
                    </a:lnTo>
                    <a:lnTo>
                      <a:pt x="2369" y="1577"/>
                    </a:lnTo>
                    <a:lnTo>
                      <a:pt x="2357" y="1631"/>
                    </a:lnTo>
                    <a:lnTo>
                      <a:pt x="2341" y="1684"/>
                    </a:lnTo>
                    <a:lnTo>
                      <a:pt x="2324" y="1736"/>
                    </a:lnTo>
                    <a:lnTo>
                      <a:pt x="2304" y="1786"/>
                    </a:lnTo>
                    <a:lnTo>
                      <a:pt x="2282" y="1835"/>
                    </a:lnTo>
                    <a:lnTo>
                      <a:pt x="2257" y="1883"/>
                    </a:lnTo>
                    <a:lnTo>
                      <a:pt x="2231" y="1930"/>
                    </a:lnTo>
                    <a:lnTo>
                      <a:pt x="2202" y="1974"/>
                    </a:lnTo>
                    <a:lnTo>
                      <a:pt x="2171" y="2018"/>
                    </a:lnTo>
                    <a:lnTo>
                      <a:pt x="2138" y="2060"/>
                    </a:lnTo>
                    <a:lnTo>
                      <a:pt x="2102" y="2100"/>
                    </a:lnTo>
                    <a:lnTo>
                      <a:pt x="2066" y="2139"/>
                    </a:lnTo>
                    <a:lnTo>
                      <a:pt x="2028" y="2176"/>
                    </a:lnTo>
                    <a:lnTo>
                      <a:pt x="1987" y="2211"/>
                    </a:lnTo>
                    <a:lnTo>
                      <a:pt x="1945" y="2243"/>
                    </a:lnTo>
                    <a:lnTo>
                      <a:pt x="1902" y="2274"/>
                    </a:lnTo>
                    <a:lnTo>
                      <a:pt x="1856" y="2303"/>
                    </a:lnTo>
                    <a:lnTo>
                      <a:pt x="1811" y="2330"/>
                    </a:lnTo>
                    <a:lnTo>
                      <a:pt x="1763" y="2355"/>
                    </a:lnTo>
                    <a:lnTo>
                      <a:pt x="1714" y="2376"/>
                    </a:lnTo>
                    <a:lnTo>
                      <a:pt x="1663" y="2397"/>
                    </a:lnTo>
                    <a:lnTo>
                      <a:pt x="1612" y="2414"/>
                    </a:lnTo>
                    <a:lnTo>
                      <a:pt x="1559" y="2429"/>
                    </a:lnTo>
                    <a:lnTo>
                      <a:pt x="1505" y="2441"/>
                    </a:lnTo>
                    <a:lnTo>
                      <a:pt x="1451" y="2451"/>
                    </a:lnTo>
                    <a:lnTo>
                      <a:pt x="1394" y="2458"/>
                    </a:lnTo>
                    <a:lnTo>
                      <a:pt x="1338" y="2463"/>
                    </a:lnTo>
                    <a:lnTo>
                      <a:pt x="1282" y="2464"/>
                    </a:lnTo>
                    <a:lnTo>
                      <a:pt x="1231" y="2463"/>
                    </a:lnTo>
                    <a:lnTo>
                      <a:pt x="1183" y="2459"/>
                    </a:lnTo>
                    <a:lnTo>
                      <a:pt x="1134" y="2454"/>
                    </a:lnTo>
                    <a:lnTo>
                      <a:pt x="1086" y="2447"/>
                    </a:lnTo>
                    <a:lnTo>
                      <a:pt x="1039" y="2438"/>
                    </a:lnTo>
                    <a:lnTo>
                      <a:pt x="994" y="2426"/>
                    </a:lnTo>
                    <a:lnTo>
                      <a:pt x="948" y="2412"/>
                    </a:lnTo>
                    <a:lnTo>
                      <a:pt x="902" y="2398"/>
                    </a:lnTo>
                    <a:lnTo>
                      <a:pt x="859" y="2381"/>
                    </a:lnTo>
                    <a:lnTo>
                      <a:pt x="816" y="2362"/>
                    </a:lnTo>
                    <a:lnTo>
                      <a:pt x="774" y="2342"/>
                    </a:lnTo>
                    <a:lnTo>
                      <a:pt x="733" y="2319"/>
                    </a:lnTo>
                    <a:lnTo>
                      <a:pt x="694" y="2295"/>
                    </a:lnTo>
                    <a:lnTo>
                      <a:pt x="654" y="2270"/>
                    </a:lnTo>
                    <a:lnTo>
                      <a:pt x="617" y="2243"/>
                    </a:lnTo>
                    <a:lnTo>
                      <a:pt x="580" y="2214"/>
                    </a:lnTo>
                    <a:lnTo>
                      <a:pt x="545" y="2184"/>
                    </a:lnTo>
                    <a:lnTo>
                      <a:pt x="511" y="2153"/>
                    </a:lnTo>
                    <a:lnTo>
                      <a:pt x="479" y="2121"/>
                    </a:lnTo>
                    <a:lnTo>
                      <a:pt x="448" y="2086"/>
                    </a:lnTo>
                    <a:lnTo>
                      <a:pt x="418" y="2051"/>
                    </a:lnTo>
                    <a:lnTo>
                      <a:pt x="389" y="2014"/>
                    </a:lnTo>
                    <a:lnTo>
                      <a:pt x="362" y="1977"/>
                    </a:lnTo>
                    <a:lnTo>
                      <a:pt x="337" y="1937"/>
                    </a:lnTo>
                    <a:lnTo>
                      <a:pt x="313" y="1898"/>
                    </a:lnTo>
                    <a:lnTo>
                      <a:pt x="292" y="1857"/>
                    </a:lnTo>
                    <a:lnTo>
                      <a:pt x="271" y="1815"/>
                    </a:lnTo>
                    <a:lnTo>
                      <a:pt x="252" y="1772"/>
                    </a:lnTo>
                    <a:lnTo>
                      <a:pt x="235" y="1727"/>
                    </a:lnTo>
                    <a:lnTo>
                      <a:pt x="221" y="1683"/>
                    </a:lnTo>
                    <a:lnTo>
                      <a:pt x="208" y="1637"/>
                    </a:lnTo>
                    <a:lnTo>
                      <a:pt x="197" y="1591"/>
                    </a:lnTo>
                    <a:lnTo>
                      <a:pt x="179" y="1610"/>
                    </a:lnTo>
                    <a:lnTo>
                      <a:pt x="161" y="1630"/>
                    </a:lnTo>
                    <a:lnTo>
                      <a:pt x="142" y="1649"/>
                    </a:lnTo>
                    <a:lnTo>
                      <a:pt x="124" y="1670"/>
                    </a:lnTo>
                    <a:lnTo>
                      <a:pt x="104" y="1690"/>
                    </a:lnTo>
                    <a:lnTo>
                      <a:pt x="85" y="1711"/>
                    </a:lnTo>
                    <a:lnTo>
                      <a:pt x="66" y="1732"/>
                    </a:lnTo>
                    <a:lnTo>
                      <a:pt x="47" y="1753"/>
                    </a:lnTo>
                    <a:lnTo>
                      <a:pt x="42" y="1759"/>
                    </a:lnTo>
                    <a:lnTo>
                      <a:pt x="36" y="1765"/>
                    </a:lnTo>
                    <a:lnTo>
                      <a:pt x="30" y="1771"/>
                    </a:lnTo>
                    <a:lnTo>
                      <a:pt x="25" y="1775"/>
                    </a:lnTo>
                    <a:lnTo>
                      <a:pt x="19" y="1781"/>
                    </a:lnTo>
                    <a:lnTo>
                      <a:pt x="12" y="1787"/>
                    </a:lnTo>
                    <a:lnTo>
                      <a:pt x="6" y="1793"/>
                    </a:lnTo>
                    <a:lnTo>
                      <a:pt x="0" y="1799"/>
                    </a:lnTo>
                    <a:lnTo>
                      <a:pt x="18" y="1849"/>
                    </a:lnTo>
                    <a:lnTo>
                      <a:pt x="38" y="1898"/>
                    </a:lnTo>
                    <a:lnTo>
                      <a:pt x="60" y="1944"/>
                    </a:lnTo>
                    <a:lnTo>
                      <a:pt x="84" y="1991"/>
                    </a:lnTo>
                    <a:lnTo>
                      <a:pt x="109" y="2037"/>
                    </a:lnTo>
                    <a:lnTo>
                      <a:pt x="136" y="2081"/>
                    </a:lnTo>
                    <a:lnTo>
                      <a:pt x="164" y="2123"/>
                    </a:lnTo>
                    <a:lnTo>
                      <a:pt x="194" y="2165"/>
                    </a:lnTo>
                    <a:lnTo>
                      <a:pt x="226" y="2206"/>
                    </a:lnTo>
                    <a:lnTo>
                      <a:pt x="259" y="2246"/>
                    </a:lnTo>
                    <a:lnTo>
                      <a:pt x="294" y="2284"/>
                    </a:lnTo>
                    <a:lnTo>
                      <a:pt x="330" y="2321"/>
                    </a:lnTo>
                    <a:lnTo>
                      <a:pt x="367" y="2356"/>
                    </a:lnTo>
                    <a:lnTo>
                      <a:pt x="406" y="2391"/>
                    </a:lnTo>
                    <a:lnTo>
                      <a:pt x="446" y="2423"/>
                    </a:lnTo>
                    <a:lnTo>
                      <a:pt x="487" y="2454"/>
                    </a:lnTo>
                    <a:lnTo>
                      <a:pt x="529" y="2483"/>
                    </a:lnTo>
                    <a:lnTo>
                      <a:pt x="574" y="2511"/>
                    </a:lnTo>
                    <a:lnTo>
                      <a:pt x="618" y="2537"/>
                    </a:lnTo>
                    <a:lnTo>
                      <a:pt x="664" y="2562"/>
                    </a:lnTo>
                    <a:lnTo>
                      <a:pt x="710" y="2585"/>
                    </a:lnTo>
                    <a:lnTo>
                      <a:pt x="758" y="2605"/>
                    </a:lnTo>
                    <a:lnTo>
                      <a:pt x="808" y="2625"/>
                    </a:lnTo>
                    <a:lnTo>
                      <a:pt x="857" y="2643"/>
                    </a:lnTo>
                    <a:lnTo>
                      <a:pt x="907" y="2658"/>
                    </a:lnTo>
                    <a:lnTo>
                      <a:pt x="959" y="2671"/>
                    </a:lnTo>
                    <a:lnTo>
                      <a:pt x="1010" y="2683"/>
                    </a:lnTo>
                    <a:lnTo>
                      <a:pt x="1063" y="2693"/>
                    </a:lnTo>
                    <a:lnTo>
                      <a:pt x="1117" y="2700"/>
                    </a:lnTo>
                    <a:lnTo>
                      <a:pt x="1171" y="2706"/>
                    </a:lnTo>
                    <a:lnTo>
                      <a:pt x="1226" y="2710"/>
                    </a:lnTo>
                    <a:lnTo>
                      <a:pt x="1282" y="2710"/>
                    </a:lnTo>
                    <a:lnTo>
                      <a:pt x="1351" y="2709"/>
                    </a:lnTo>
                    <a:lnTo>
                      <a:pt x="1420" y="2704"/>
                    </a:lnTo>
                    <a:lnTo>
                      <a:pt x="1488" y="2694"/>
                    </a:lnTo>
                    <a:lnTo>
                      <a:pt x="1555" y="2683"/>
                    </a:lnTo>
                    <a:lnTo>
                      <a:pt x="1620" y="2668"/>
                    </a:lnTo>
                    <a:lnTo>
                      <a:pt x="1685" y="2650"/>
                    </a:lnTo>
                    <a:lnTo>
                      <a:pt x="1747" y="2628"/>
                    </a:lnTo>
                    <a:lnTo>
                      <a:pt x="1810" y="2604"/>
                    </a:lnTo>
                    <a:lnTo>
                      <a:pt x="1870" y="2577"/>
                    </a:lnTo>
                    <a:lnTo>
                      <a:pt x="1928" y="2547"/>
                    </a:lnTo>
                    <a:lnTo>
                      <a:pt x="1985" y="2514"/>
                    </a:lnTo>
                    <a:lnTo>
                      <a:pt x="2040" y="2478"/>
                    </a:lnTo>
                    <a:lnTo>
                      <a:pt x="2093" y="2441"/>
                    </a:lnTo>
                    <a:lnTo>
                      <a:pt x="2144" y="2400"/>
                    </a:lnTo>
                    <a:lnTo>
                      <a:pt x="2194" y="2358"/>
                    </a:lnTo>
                    <a:lnTo>
                      <a:pt x="2240" y="2313"/>
                    </a:lnTo>
                    <a:lnTo>
                      <a:pt x="2286" y="2266"/>
                    </a:lnTo>
                    <a:lnTo>
                      <a:pt x="2328" y="2217"/>
                    </a:lnTo>
                    <a:lnTo>
                      <a:pt x="2369" y="2165"/>
                    </a:lnTo>
                    <a:lnTo>
                      <a:pt x="2406" y="2112"/>
                    </a:lnTo>
                    <a:lnTo>
                      <a:pt x="2442" y="2057"/>
                    </a:lnTo>
                    <a:lnTo>
                      <a:pt x="2474" y="2001"/>
                    </a:lnTo>
                    <a:lnTo>
                      <a:pt x="2504" y="1942"/>
                    </a:lnTo>
                    <a:lnTo>
                      <a:pt x="2532" y="1882"/>
                    </a:lnTo>
                    <a:lnTo>
                      <a:pt x="2556" y="1821"/>
                    </a:lnTo>
                    <a:lnTo>
                      <a:pt x="2578" y="1757"/>
                    </a:lnTo>
                    <a:lnTo>
                      <a:pt x="2596" y="1693"/>
                    </a:lnTo>
                    <a:lnTo>
                      <a:pt x="2610" y="1628"/>
                    </a:lnTo>
                    <a:lnTo>
                      <a:pt x="2622" y="1561"/>
                    </a:lnTo>
                    <a:lnTo>
                      <a:pt x="2632" y="1492"/>
                    </a:lnTo>
                    <a:lnTo>
                      <a:pt x="2636" y="1424"/>
                    </a:lnTo>
                    <a:lnTo>
                      <a:pt x="2638" y="1354"/>
                    </a:lnTo>
                    <a:close/>
                  </a:path>
                </a:pathLst>
              </a:custGeom>
              <a:solidFill>
                <a:srgbClr val="fde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35640" y="4035600"/>
                <a:ext cx="958680" cy="979200"/>
              </a:xfrm>
              <a:custGeom>
                <a:avLst/>
                <a:gdLst/>
                <a:ahLst/>
                <a:rect l="l" t="t" r="r" b="b"/>
                <a:pathLst>
                  <a:path w="2418" h="2467">
                    <a:moveTo>
                      <a:pt x="2418" y="1233"/>
                    </a:moveTo>
                    <a:lnTo>
                      <a:pt x="2416" y="1170"/>
                    </a:lnTo>
                    <a:lnTo>
                      <a:pt x="2411" y="1107"/>
                    </a:lnTo>
                    <a:lnTo>
                      <a:pt x="2404" y="1046"/>
                    </a:lnTo>
                    <a:lnTo>
                      <a:pt x="2393" y="986"/>
                    </a:lnTo>
                    <a:lnTo>
                      <a:pt x="2380" y="926"/>
                    </a:lnTo>
                    <a:lnTo>
                      <a:pt x="2363" y="869"/>
                    </a:lnTo>
                    <a:lnTo>
                      <a:pt x="2344" y="811"/>
                    </a:lnTo>
                    <a:lnTo>
                      <a:pt x="2322" y="756"/>
                    </a:lnTo>
                    <a:lnTo>
                      <a:pt x="2297" y="701"/>
                    </a:lnTo>
                    <a:lnTo>
                      <a:pt x="2271" y="648"/>
                    </a:lnTo>
                    <a:lnTo>
                      <a:pt x="2241" y="596"/>
                    </a:lnTo>
                    <a:lnTo>
                      <a:pt x="2209" y="547"/>
                    </a:lnTo>
                    <a:lnTo>
                      <a:pt x="2175" y="498"/>
                    </a:lnTo>
                    <a:lnTo>
                      <a:pt x="2139" y="452"/>
                    </a:lnTo>
                    <a:lnTo>
                      <a:pt x="2100" y="407"/>
                    </a:lnTo>
                    <a:lnTo>
                      <a:pt x="2059" y="365"/>
                    </a:lnTo>
                    <a:lnTo>
                      <a:pt x="2017" y="324"/>
                    </a:lnTo>
                    <a:lnTo>
                      <a:pt x="1973" y="284"/>
                    </a:lnTo>
                    <a:lnTo>
                      <a:pt x="1926" y="248"/>
                    </a:lnTo>
                    <a:lnTo>
                      <a:pt x="1878" y="214"/>
                    </a:lnTo>
                    <a:lnTo>
                      <a:pt x="1829" y="181"/>
                    </a:lnTo>
                    <a:lnTo>
                      <a:pt x="1777" y="152"/>
                    </a:lnTo>
                    <a:lnTo>
                      <a:pt x="1725" y="125"/>
                    </a:lnTo>
                    <a:lnTo>
                      <a:pt x="1671" y="100"/>
                    </a:lnTo>
                    <a:lnTo>
                      <a:pt x="1615" y="78"/>
                    </a:lnTo>
                    <a:lnTo>
                      <a:pt x="1558" y="58"/>
                    </a:lnTo>
                    <a:lnTo>
                      <a:pt x="1500" y="41"/>
                    </a:lnTo>
                    <a:lnTo>
                      <a:pt x="1440" y="26"/>
                    </a:lnTo>
                    <a:lnTo>
                      <a:pt x="1380" y="16"/>
                    </a:lnTo>
                    <a:lnTo>
                      <a:pt x="1319" y="7"/>
                    </a:lnTo>
                    <a:lnTo>
                      <a:pt x="1257" y="2"/>
                    </a:lnTo>
                    <a:lnTo>
                      <a:pt x="1194" y="0"/>
                    </a:lnTo>
                    <a:lnTo>
                      <a:pt x="1180" y="32"/>
                    </a:lnTo>
                    <a:lnTo>
                      <a:pt x="1167" y="64"/>
                    </a:lnTo>
                    <a:lnTo>
                      <a:pt x="1152" y="95"/>
                    </a:lnTo>
                    <a:lnTo>
                      <a:pt x="1139" y="127"/>
                    </a:lnTo>
                    <a:lnTo>
                      <a:pt x="1125" y="158"/>
                    </a:lnTo>
                    <a:lnTo>
                      <a:pt x="1110" y="190"/>
                    </a:lnTo>
                    <a:lnTo>
                      <a:pt x="1096" y="221"/>
                    </a:lnTo>
                    <a:lnTo>
                      <a:pt x="1081" y="252"/>
                    </a:lnTo>
                    <a:lnTo>
                      <a:pt x="1093" y="251"/>
                    </a:lnTo>
                    <a:lnTo>
                      <a:pt x="1107" y="250"/>
                    </a:lnTo>
                    <a:lnTo>
                      <a:pt x="1120" y="248"/>
                    </a:lnTo>
                    <a:lnTo>
                      <a:pt x="1133" y="248"/>
                    </a:lnTo>
                    <a:lnTo>
                      <a:pt x="1145" y="247"/>
                    </a:lnTo>
                    <a:lnTo>
                      <a:pt x="1158" y="247"/>
                    </a:lnTo>
                    <a:lnTo>
                      <a:pt x="1171" y="247"/>
                    </a:lnTo>
                    <a:lnTo>
                      <a:pt x="1185" y="247"/>
                    </a:lnTo>
                    <a:lnTo>
                      <a:pt x="1235" y="248"/>
                    </a:lnTo>
                    <a:lnTo>
                      <a:pt x="1285" y="252"/>
                    </a:lnTo>
                    <a:lnTo>
                      <a:pt x="1335" y="258"/>
                    </a:lnTo>
                    <a:lnTo>
                      <a:pt x="1383" y="266"/>
                    </a:lnTo>
                    <a:lnTo>
                      <a:pt x="1431" y="278"/>
                    </a:lnTo>
                    <a:lnTo>
                      <a:pt x="1477" y="291"/>
                    </a:lnTo>
                    <a:lnTo>
                      <a:pt x="1523" y="307"/>
                    </a:lnTo>
                    <a:lnTo>
                      <a:pt x="1569" y="324"/>
                    </a:lnTo>
                    <a:lnTo>
                      <a:pt x="1612" y="344"/>
                    </a:lnTo>
                    <a:lnTo>
                      <a:pt x="1655" y="366"/>
                    </a:lnTo>
                    <a:lnTo>
                      <a:pt x="1696" y="390"/>
                    </a:lnTo>
                    <a:lnTo>
                      <a:pt x="1735" y="415"/>
                    </a:lnTo>
                    <a:lnTo>
                      <a:pt x="1775" y="443"/>
                    </a:lnTo>
                    <a:lnTo>
                      <a:pt x="1812" y="471"/>
                    </a:lnTo>
                    <a:lnTo>
                      <a:pt x="1848" y="503"/>
                    </a:lnTo>
                    <a:lnTo>
                      <a:pt x="1882" y="536"/>
                    </a:lnTo>
                    <a:lnTo>
                      <a:pt x="1914" y="570"/>
                    </a:lnTo>
                    <a:lnTo>
                      <a:pt x="1945" y="606"/>
                    </a:lnTo>
                    <a:lnTo>
                      <a:pt x="1975" y="643"/>
                    </a:lnTo>
                    <a:lnTo>
                      <a:pt x="2003" y="681"/>
                    </a:lnTo>
                    <a:lnTo>
                      <a:pt x="2028" y="722"/>
                    </a:lnTo>
                    <a:lnTo>
                      <a:pt x="2052" y="763"/>
                    </a:lnTo>
                    <a:lnTo>
                      <a:pt x="2074" y="805"/>
                    </a:lnTo>
                    <a:lnTo>
                      <a:pt x="2093" y="849"/>
                    </a:lnTo>
                    <a:lnTo>
                      <a:pt x="2111" y="894"/>
                    </a:lnTo>
                    <a:lnTo>
                      <a:pt x="2127" y="939"/>
                    </a:lnTo>
                    <a:lnTo>
                      <a:pt x="2140" y="986"/>
                    </a:lnTo>
                    <a:lnTo>
                      <a:pt x="2151" y="1034"/>
                    </a:lnTo>
                    <a:lnTo>
                      <a:pt x="2160" y="1083"/>
                    </a:lnTo>
                    <a:lnTo>
                      <a:pt x="2166" y="1132"/>
                    </a:lnTo>
                    <a:lnTo>
                      <a:pt x="2170" y="1183"/>
                    </a:lnTo>
                    <a:lnTo>
                      <a:pt x="2171" y="1233"/>
                    </a:lnTo>
                    <a:lnTo>
                      <a:pt x="2170" y="1284"/>
                    </a:lnTo>
                    <a:lnTo>
                      <a:pt x="2166" y="1334"/>
                    </a:lnTo>
                    <a:lnTo>
                      <a:pt x="2160" y="1383"/>
                    </a:lnTo>
                    <a:lnTo>
                      <a:pt x="2151" y="1432"/>
                    </a:lnTo>
                    <a:lnTo>
                      <a:pt x="2140" y="1479"/>
                    </a:lnTo>
                    <a:lnTo>
                      <a:pt x="2127" y="1526"/>
                    </a:lnTo>
                    <a:lnTo>
                      <a:pt x="2111" y="1573"/>
                    </a:lnTo>
                    <a:lnTo>
                      <a:pt x="2093" y="1617"/>
                    </a:lnTo>
                    <a:lnTo>
                      <a:pt x="2074" y="1660"/>
                    </a:lnTo>
                    <a:lnTo>
                      <a:pt x="2052" y="1704"/>
                    </a:lnTo>
                    <a:lnTo>
                      <a:pt x="2028" y="1744"/>
                    </a:lnTo>
                    <a:lnTo>
                      <a:pt x="2003" y="1785"/>
                    </a:lnTo>
                    <a:lnTo>
                      <a:pt x="1975" y="1823"/>
                    </a:lnTo>
                    <a:lnTo>
                      <a:pt x="1945" y="1861"/>
                    </a:lnTo>
                    <a:lnTo>
                      <a:pt x="1914" y="1897"/>
                    </a:lnTo>
                    <a:lnTo>
                      <a:pt x="1882" y="1930"/>
                    </a:lnTo>
                    <a:lnTo>
                      <a:pt x="1848" y="1964"/>
                    </a:lnTo>
                    <a:lnTo>
                      <a:pt x="1812" y="1994"/>
                    </a:lnTo>
                    <a:lnTo>
                      <a:pt x="1775" y="2024"/>
                    </a:lnTo>
                    <a:lnTo>
                      <a:pt x="1735" y="2051"/>
                    </a:lnTo>
                    <a:lnTo>
                      <a:pt x="1696" y="2077"/>
                    </a:lnTo>
                    <a:lnTo>
                      <a:pt x="1655" y="2101"/>
                    </a:lnTo>
                    <a:lnTo>
                      <a:pt x="1612" y="2122"/>
                    </a:lnTo>
                    <a:lnTo>
                      <a:pt x="1569" y="2143"/>
                    </a:lnTo>
                    <a:lnTo>
                      <a:pt x="1523" y="2159"/>
                    </a:lnTo>
                    <a:lnTo>
                      <a:pt x="1477" y="2175"/>
                    </a:lnTo>
                    <a:lnTo>
                      <a:pt x="1431" y="2188"/>
                    </a:lnTo>
                    <a:lnTo>
                      <a:pt x="1383" y="2199"/>
                    </a:lnTo>
                    <a:lnTo>
                      <a:pt x="1335" y="2209"/>
                    </a:lnTo>
                    <a:lnTo>
                      <a:pt x="1285" y="2215"/>
                    </a:lnTo>
                    <a:lnTo>
                      <a:pt x="1235" y="2218"/>
                    </a:lnTo>
                    <a:lnTo>
                      <a:pt x="1185" y="2219"/>
                    </a:lnTo>
                    <a:lnTo>
                      <a:pt x="1138" y="2218"/>
                    </a:lnTo>
                    <a:lnTo>
                      <a:pt x="1091" y="2216"/>
                    </a:lnTo>
                    <a:lnTo>
                      <a:pt x="1045" y="2210"/>
                    </a:lnTo>
                    <a:lnTo>
                      <a:pt x="1000" y="2203"/>
                    </a:lnTo>
                    <a:lnTo>
                      <a:pt x="955" y="2193"/>
                    </a:lnTo>
                    <a:lnTo>
                      <a:pt x="912" y="2181"/>
                    </a:lnTo>
                    <a:lnTo>
                      <a:pt x="869" y="2168"/>
                    </a:lnTo>
                    <a:lnTo>
                      <a:pt x="827" y="2153"/>
                    </a:lnTo>
                    <a:lnTo>
                      <a:pt x="786" y="2135"/>
                    </a:lnTo>
                    <a:lnTo>
                      <a:pt x="747" y="2117"/>
                    </a:lnTo>
                    <a:lnTo>
                      <a:pt x="707" y="2097"/>
                    </a:lnTo>
                    <a:lnTo>
                      <a:pt x="669" y="2074"/>
                    </a:lnTo>
                    <a:lnTo>
                      <a:pt x="631" y="2050"/>
                    </a:lnTo>
                    <a:lnTo>
                      <a:pt x="597" y="2025"/>
                    </a:lnTo>
                    <a:lnTo>
                      <a:pt x="562" y="1999"/>
                    </a:lnTo>
                    <a:lnTo>
                      <a:pt x="528" y="1970"/>
                    </a:lnTo>
                    <a:lnTo>
                      <a:pt x="496" y="1940"/>
                    </a:lnTo>
                    <a:lnTo>
                      <a:pt x="466" y="1909"/>
                    </a:lnTo>
                    <a:lnTo>
                      <a:pt x="436" y="1876"/>
                    </a:lnTo>
                    <a:lnTo>
                      <a:pt x="408" y="1843"/>
                    </a:lnTo>
                    <a:lnTo>
                      <a:pt x="382" y="1808"/>
                    </a:lnTo>
                    <a:lnTo>
                      <a:pt x="358" y="1771"/>
                    </a:lnTo>
                    <a:lnTo>
                      <a:pt x="334" y="1733"/>
                    </a:lnTo>
                    <a:lnTo>
                      <a:pt x="312" y="1695"/>
                    </a:lnTo>
                    <a:lnTo>
                      <a:pt x="293" y="1656"/>
                    </a:lnTo>
                    <a:lnTo>
                      <a:pt x="275" y="1615"/>
                    </a:lnTo>
                    <a:lnTo>
                      <a:pt x="258" y="1574"/>
                    </a:lnTo>
                    <a:lnTo>
                      <a:pt x="244" y="1532"/>
                    </a:lnTo>
                    <a:lnTo>
                      <a:pt x="231" y="1489"/>
                    </a:lnTo>
                    <a:lnTo>
                      <a:pt x="221" y="1444"/>
                    </a:lnTo>
                    <a:lnTo>
                      <a:pt x="211" y="1400"/>
                    </a:lnTo>
                    <a:lnTo>
                      <a:pt x="205" y="1354"/>
                    </a:lnTo>
                    <a:lnTo>
                      <a:pt x="181" y="1381"/>
                    </a:lnTo>
                    <a:lnTo>
                      <a:pt x="156" y="1407"/>
                    </a:lnTo>
                    <a:lnTo>
                      <a:pt x="131" y="1435"/>
                    </a:lnTo>
                    <a:lnTo>
                      <a:pt x="106" y="1462"/>
                    </a:lnTo>
                    <a:lnTo>
                      <a:pt x="81" y="1491"/>
                    </a:lnTo>
                    <a:lnTo>
                      <a:pt x="54" y="1519"/>
                    </a:lnTo>
                    <a:lnTo>
                      <a:pt x="27" y="1549"/>
                    </a:lnTo>
                    <a:lnTo>
                      <a:pt x="0" y="1578"/>
                    </a:lnTo>
                    <a:lnTo>
                      <a:pt x="15" y="1626"/>
                    </a:lnTo>
                    <a:lnTo>
                      <a:pt x="31" y="1672"/>
                    </a:lnTo>
                    <a:lnTo>
                      <a:pt x="51" y="1718"/>
                    </a:lnTo>
                    <a:lnTo>
                      <a:pt x="71" y="1763"/>
                    </a:lnTo>
                    <a:lnTo>
                      <a:pt x="93" y="1807"/>
                    </a:lnTo>
                    <a:lnTo>
                      <a:pt x="117" y="1850"/>
                    </a:lnTo>
                    <a:lnTo>
                      <a:pt x="142" y="1892"/>
                    </a:lnTo>
                    <a:lnTo>
                      <a:pt x="169" y="1933"/>
                    </a:lnTo>
                    <a:lnTo>
                      <a:pt x="197" y="1972"/>
                    </a:lnTo>
                    <a:lnTo>
                      <a:pt x="228" y="2011"/>
                    </a:lnTo>
                    <a:lnTo>
                      <a:pt x="259" y="2049"/>
                    </a:lnTo>
                    <a:lnTo>
                      <a:pt x="292" y="2084"/>
                    </a:lnTo>
                    <a:lnTo>
                      <a:pt x="327" y="2119"/>
                    </a:lnTo>
                    <a:lnTo>
                      <a:pt x="363" y="2152"/>
                    </a:lnTo>
                    <a:lnTo>
                      <a:pt x="400" y="2185"/>
                    </a:lnTo>
                    <a:lnTo>
                      <a:pt x="437" y="2215"/>
                    </a:lnTo>
                    <a:lnTo>
                      <a:pt x="477" y="2243"/>
                    </a:lnTo>
                    <a:lnTo>
                      <a:pt x="517" y="2271"/>
                    </a:lnTo>
                    <a:lnTo>
                      <a:pt x="559" y="2296"/>
                    </a:lnTo>
                    <a:lnTo>
                      <a:pt x="603" y="2320"/>
                    </a:lnTo>
                    <a:lnTo>
                      <a:pt x="646" y="2343"/>
                    </a:lnTo>
                    <a:lnTo>
                      <a:pt x="691" y="2363"/>
                    </a:lnTo>
                    <a:lnTo>
                      <a:pt x="737" y="2383"/>
                    </a:lnTo>
                    <a:lnTo>
                      <a:pt x="784" y="2399"/>
                    </a:lnTo>
                    <a:lnTo>
                      <a:pt x="831" y="2415"/>
                    </a:lnTo>
                    <a:lnTo>
                      <a:pt x="880" y="2428"/>
                    </a:lnTo>
                    <a:lnTo>
                      <a:pt x="929" y="2440"/>
                    </a:lnTo>
                    <a:lnTo>
                      <a:pt x="978" y="2449"/>
                    </a:lnTo>
                    <a:lnTo>
                      <a:pt x="1029" y="2457"/>
                    </a:lnTo>
                    <a:lnTo>
                      <a:pt x="1080" y="2462"/>
                    </a:lnTo>
                    <a:lnTo>
                      <a:pt x="1132" y="2465"/>
                    </a:lnTo>
                    <a:lnTo>
                      <a:pt x="1185" y="2467"/>
                    </a:lnTo>
                    <a:lnTo>
                      <a:pt x="1248" y="2464"/>
                    </a:lnTo>
                    <a:lnTo>
                      <a:pt x="1311" y="2459"/>
                    </a:lnTo>
                    <a:lnTo>
                      <a:pt x="1372" y="2452"/>
                    </a:lnTo>
                    <a:lnTo>
                      <a:pt x="1433" y="2441"/>
                    </a:lnTo>
                    <a:lnTo>
                      <a:pt x="1493" y="2427"/>
                    </a:lnTo>
                    <a:lnTo>
                      <a:pt x="1551" y="2410"/>
                    </a:lnTo>
                    <a:lnTo>
                      <a:pt x="1608" y="2391"/>
                    </a:lnTo>
                    <a:lnTo>
                      <a:pt x="1665" y="2369"/>
                    </a:lnTo>
                    <a:lnTo>
                      <a:pt x="1719" y="2344"/>
                    </a:lnTo>
                    <a:lnTo>
                      <a:pt x="1773" y="2318"/>
                    </a:lnTo>
                    <a:lnTo>
                      <a:pt x="1824" y="2288"/>
                    </a:lnTo>
                    <a:lnTo>
                      <a:pt x="1873" y="2255"/>
                    </a:lnTo>
                    <a:lnTo>
                      <a:pt x="1923" y="2222"/>
                    </a:lnTo>
                    <a:lnTo>
                      <a:pt x="1969" y="2185"/>
                    </a:lnTo>
                    <a:lnTo>
                      <a:pt x="2014" y="2146"/>
                    </a:lnTo>
                    <a:lnTo>
                      <a:pt x="2057" y="2105"/>
                    </a:lnTo>
                    <a:lnTo>
                      <a:pt x="2098" y="2062"/>
                    </a:lnTo>
                    <a:lnTo>
                      <a:pt x="2136" y="2018"/>
                    </a:lnTo>
                    <a:lnTo>
                      <a:pt x="2172" y="1971"/>
                    </a:lnTo>
                    <a:lnTo>
                      <a:pt x="2207" y="1923"/>
                    </a:lnTo>
                    <a:lnTo>
                      <a:pt x="2239" y="1873"/>
                    </a:lnTo>
                    <a:lnTo>
                      <a:pt x="2269" y="1821"/>
                    </a:lnTo>
                    <a:lnTo>
                      <a:pt x="2296" y="1767"/>
                    </a:lnTo>
                    <a:lnTo>
                      <a:pt x="2321" y="1713"/>
                    </a:lnTo>
                    <a:lnTo>
                      <a:pt x="2343" y="1657"/>
                    </a:lnTo>
                    <a:lnTo>
                      <a:pt x="2362" y="1600"/>
                    </a:lnTo>
                    <a:lnTo>
                      <a:pt x="2379" y="1542"/>
                    </a:lnTo>
                    <a:lnTo>
                      <a:pt x="2393" y="1482"/>
                    </a:lnTo>
                    <a:lnTo>
                      <a:pt x="2404" y="1420"/>
                    </a:lnTo>
                    <a:lnTo>
                      <a:pt x="2411" y="1359"/>
                    </a:lnTo>
                    <a:lnTo>
                      <a:pt x="2416" y="1297"/>
                    </a:lnTo>
                    <a:lnTo>
                      <a:pt x="2418" y="1233"/>
                    </a:lnTo>
                    <a:close/>
                  </a:path>
                </a:pathLst>
              </a:custGeom>
              <a:solidFill>
                <a:srgbClr val="fdf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75240" y="4084560"/>
                <a:ext cx="869760" cy="881280"/>
              </a:xfrm>
              <a:custGeom>
                <a:avLst/>
                <a:gdLst/>
                <a:ahLst/>
                <a:rect l="l" t="t" r="r" b="b"/>
                <a:pathLst>
                  <a:path w="2195" h="2219">
                    <a:moveTo>
                      <a:pt x="2195" y="1109"/>
                    </a:moveTo>
                    <a:lnTo>
                      <a:pt x="2193" y="1052"/>
                    </a:lnTo>
                    <a:lnTo>
                      <a:pt x="2189" y="995"/>
                    </a:lnTo>
                    <a:lnTo>
                      <a:pt x="2181" y="940"/>
                    </a:lnTo>
                    <a:lnTo>
                      <a:pt x="2172" y="886"/>
                    </a:lnTo>
                    <a:lnTo>
                      <a:pt x="2160" y="832"/>
                    </a:lnTo>
                    <a:lnTo>
                      <a:pt x="2144" y="779"/>
                    </a:lnTo>
                    <a:lnTo>
                      <a:pt x="2127" y="728"/>
                    </a:lnTo>
                    <a:lnTo>
                      <a:pt x="2107" y="677"/>
                    </a:lnTo>
                    <a:lnTo>
                      <a:pt x="2085" y="628"/>
                    </a:lnTo>
                    <a:lnTo>
                      <a:pt x="2060" y="580"/>
                    </a:lnTo>
                    <a:lnTo>
                      <a:pt x="2034" y="533"/>
                    </a:lnTo>
                    <a:lnTo>
                      <a:pt x="2005" y="489"/>
                    </a:lnTo>
                    <a:lnTo>
                      <a:pt x="1974" y="445"/>
                    </a:lnTo>
                    <a:lnTo>
                      <a:pt x="1941" y="404"/>
                    </a:lnTo>
                    <a:lnTo>
                      <a:pt x="1905" y="363"/>
                    </a:lnTo>
                    <a:lnTo>
                      <a:pt x="1869" y="325"/>
                    </a:lnTo>
                    <a:lnTo>
                      <a:pt x="1831" y="287"/>
                    </a:lnTo>
                    <a:lnTo>
                      <a:pt x="1790" y="253"/>
                    </a:lnTo>
                    <a:lnTo>
                      <a:pt x="1748" y="220"/>
                    </a:lnTo>
                    <a:lnTo>
                      <a:pt x="1705" y="189"/>
                    </a:lnTo>
                    <a:lnTo>
                      <a:pt x="1659" y="160"/>
                    </a:lnTo>
                    <a:lnTo>
                      <a:pt x="1614" y="134"/>
                    </a:lnTo>
                    <a:lnTo>
                      <a:pt x="1566" y="109"/>
                    </a:lnTo>
                    <a:lnTo>
                      <a:pt x="1517" y="87"/>
                    </a:lnTo>
                    <a:lnTo>
                      <a:pt x="1466" y="67"/>
                    </a:lnTo>
                    <a:lnTo>
                      <a:pt x="1415" y="49"/>
                    </a:lnTo>
                    <a:lnTo>
                      <a:pt x="1362" y="34"/>
                    </a:lnTo>
                    <a:lnTo>
                      <a:pt x="1308" y="22"/>
                    </a:lnTo>
                    <a:lnTo>
                      <a:pt x="1254" y="13"/>
                    </a:lnTo>
                    <a:lnTo>
                      <a:pt x="1197" y="6"/>
                    </a:lnTo>
                    <a:lnTo>
                      <a:pt x="1141" y="1"/>
                    </a:lnTo>
                    <a:lnTo>
                      <a:pt x="1085" y="0"/>
                    </a:lnTo>
                    <a:lnTo>
                      <a:pt x="1079" y="0"/>
                    </a:lnTo>
                    <a:lnTo>
                      <a:pt x="1073" y="0"/>
                    </a:lnTo>
                    <a:lnTo>
                      <a:pt x="1068" y="0"/>
                    </a:lnTo>
                    <a:lnTo>
                      <a:pt x="1062" y="0"/>
                    </a:lnTo>
                    <a:lnTo>
                      <a:pt x="1056" y="0"/>
                    </a:lnTo>
                    <a:lnTo>
                      <a:pt x="1051" y="0"/>
                    </a:lnTo>
                    <a:lnTo>
                      <a:pt x="1045" y="1"/>
                    </a:lnTo>
                    <a:lnTo>
                      <a:pt x="1040" y="1"/>
                    </a:lnTo>
                    <a:lnTo>
                      <a:pt x="1025" y="33"/>
                    </a:lnTo>
                    <a:lnTo>
                      <a:pt x="1010" y="67"/>
                    </a:lnTo>
                    <a:lnTo>
                      <a:pt x="995" y="99"/>
                    </a:lnTo>
                    <a:lnTo>
                      <a:pt x="979" y="133"/>
                    </a:lnTo>
                    <a:lnTo>
                      <a:pt x="963" y="165"/>
                    </a:lnTo>
                    <a:lnTo>
                      <a:pt x="947" y="197"/>
                    </a:lnTo>
                    <a:lnTo>
                      <a:pt x="930" y="231"/>
                    </a:lnTo>
                    <a:lnTo>
                      <a:pt x="913" y="263"/>
                    </a:lnTo>
                    <a:lnTo>
                      <a:pt x="933" y="259"/>
                    </a:lnTo>
                    <a:lnTo>
                      <a:pt x="955" y="256"/>
                    </a:lnTo>
                    <a:lnTo>
                      <a:pt x="975" y="253"/>
                    </a:lnTo>
                    <a:lnTo>
                      <a:pt x="997" y="250"/>
                    </a:lnTo>
                    <a:lnTo>
                      <a:pt x="1019" y="248"/>
                    </a:lnTo>
                    <a:lnTo>
                      <a:pt x="1040" y="247"/>
                    </a:lnTo>
                    <a:lnTo>
                      <a:pt x="1063" y="247"/>
                    </a:lnTo>
                    <a:lnTo>
                      <a:pt x="1085" y="245"/>
                    </a:lnTo>
                    <a:lnTo>
                      <a:pt x="1129" y="247"/>
                    </a:lnTo>
                    <a:lnTo>
                      <a:pt x="1172" y="250"/>
                    </a:lnTo>
                    <a:lnTo>
                      <a:pt x="1215" y="256"/>
                    </a:lnTo>
                    <a:lnTo>
                      <a:pt x="1259" y="263"/>
                    </a:lnTo>
                    <a:lnTo>
                      <a:pt x="1301" y="273"/>
                    </a:lnTo>
                    <a:lnTo>
                      <a:pt x="1341" y="285"/>
                    </a:lnTo>
                    <a:lnTo>
                      <a:pt x="1381" y="298"/>
                    </a:lnTo>
                    <a:lnTo>
                      <a:pt x="1421" y="314"/>
                    </a:lnTo>
                    <a:lnTo>
                      <a:pt x="1459" y="331"/>
                    </a:lnTo>
                    <a:lnTo>
                      <a:pt x="1496" y="350"/>
                    </a:lnTo>
                    <a:lnTo>
                      <a:pt x="1532" y="371"/>
                    </a:lnTo>
                    <a:lnTo>
                      <a:pt x="1567" y="393"/>
                    </a:lnTo>
                    <a:lnTo>
                      <a:pt x="1601" y="417"/>
                    </a:lnTo>
                    <a:lnTo>
                      <a:pt x="1633" y="443"/>
                    </a:lnTo>
                    <a:lnTo>
                      <a:pt x="1665" y="470"/>
                    </a:lnTo>
                    <a:lnTo>
                      <a:pt x="1695" y="499"/>
                    </a:lnTo>
                    <a:lnTo>
                      <a:pt x="1723" y="529"/>
                    </a:lnTo>
                    <a:lnTo>
                      <a:pt x="1751" y="560"/>
                    </a:lnTo>
                    <a:lnTo>
                      <a:pt x="1776" y="592"/>
                    </a:lnTo>
                    <a:lnTo>
                      <a:pt x="1800" y="627"/>
                    </a:lnTo>
                    <a:lnTo>
                      <a:pt x="1823" y="662"/>
                    </a:lnTo>
                    <a:lnTo>
                      <a:pt x="1843" y="698"/>
                    </a:lnTo>
                    <a:lnTo>
                      <a:pt x="1862" y="735"/>
                    </a:lnTo>
                    <a:lnTo>
                      <a:pt x="1880" y="773"/>
                    </a:lnTo>
                    <a:lnTo>
                      <a:pt x="1896" y="813"/>
                    </a:lnTo>
                    <a:lnTo>
                      <a:pt x="1909" y="853"/>
                    </a:lnTo>
                    <a:lnTo>
                      <a:pt x="1921" y="893"/>
                    </a:lnTo>
                    <a:lnTo>
                      <a:pt x="1931" y="935"/>
                    </a:lnTo>
                    <a:lnTo>
                      <a:pt x="1938" y="977"/>
                    </a:lnTo>
                    <a:lnTo>
                      <a:pt x="1944" y="1020"/>
                    </a:lnTo>
                    <a:lnTo>
                      <a:pt x="1946" y="1065"/>
                    </a:lnTo>
                    <a:lnTo>
                      <a:pt x="1947" y="1109"/>
                    </a:lnTo>
                    <a:lnTo>
                      <a:pt x="1946" y="1154"/>
                    </a:lnTo>
                    <a:lnTo>
                      <a:pt x="1944" y="1197"/>
                    </a:lnTo>
                    <a:lnTo>
                      <a:pt x="1938" y="1240"/>
                    </a:lnTo>
                    <a:lnTo>
                      <a:pt x="1931" y="1283"/>
                    </a:lnTo>
                    <a:lnTo>
                      <a:pt x="1921" y="1325"/>
                    </a:lnTo>
                    <a:lnTo>
                      <a:pt x="1909" y="1366"/>
                    </a:lnTo>
                    <a:lnTo>
                      <a:pt x="1896" y="1406"/>
                    </a:lnTo>
                    <a:lnTo>
                      <a:pt x="1880" y="1445"/>
                    </a:lnTo>
                    <a:lnTo>
                      <a:pt x="1862" y="1484"/>
                    </a:lnTo>
                    <a:lnTo>
                      <a:pt x="1843" y="1521"/>
                    </a:lnTo>
                    <a:lnTo>
                      <a:pt x="1823" y="1557"/>
                    </a:lnTo>
                    <a:lnTo>
                      <a:pt x="1800" y="1592"/>
                    </a:lnTo>
                    <a:lnTo>
                      <a:pt x="1776" y="1625"/>
                    </a:lnTo>
                    <a:lnTo>
                      <a:pt x="1751" y="1659"/>
                    </a:lnTo>
                    <a:lnTo>
                      <a:pt x="1723" y="1690"/>
                    </a:lnTo>
                    <a:lnTo>
                      <a:pt x="1695" y="1720"/>
                    </a:lnTo>
                    <a:lnTo>
                      <a:pt x="1665" y="1747"/>
                    </a:lnTo>
                    <a:lnTo>
                      <a:pt x="1633" y="1775"/>
                    </a:lnTo>
                    <a:lnTo>
                      <a:pt x="1601" y="1800"/>
                    </a:lnTo>
                    <a:lnTo>
                      <a:pt x="1567" y="1824"/>
                    </a:lnTo>
                    <a:lnTo>
                      <a:pt x="1532" y="1847"/>
                    </a:lnTo>
                    <a:lnTo>
                      <a:pt x="1496" y="1869"/>
                    </a:lnTo>
                    <a:lnTo>
                      <a:pt x="1459" y="1887"/>
                    </a:lnTo>
                    <a:lnTo>
                      <a:pt x="1421" y="1905"/>
                    </a:lnTo>
                    <a:lnTo>
                      <a:pt x="1381" y="1920"/>
                    </a:lnTo>
                    <a:lnTo>
                      <a:pt x="1341" y="1933"/>
                    </a:lnTo>
                    <a:lnTo>
                      <a:pt x="1301" y="1945"/>
                    </a:lnTo>
                    <a:lnTo>
                      <a:pt x="1259" y="1955"/>
                    </a:lnTo>
                    <a:lnTo>
                      <a:pt x="1215" y="1962"/>
                    </a:lnTo>
                    <a:lnTo>
                      <a:pt x="1172" y="1968"/>
                    </a:lnTo>
                    <a:lnTo>
                      <a:pt x="1129" y="1971"/>
                    </a:lnTo>
                    <a:lnTo>
                      <a:pt x="1085" y="1972"/>
                    </a:lnTo>
                    <a:lnTo>
                      <a:pt x="1040" y="1971"/>
                    </a:lnTo>
                    <a:lnTo>
                      <a:pt x="996" y="1968"/>
                    </a:lnTo>
                    <a:lnTo>
                      <a:pt x="953" y="1962"/>
                    </a:lnTo>
                    <a:lnTo>
                      <a:pt x="911" y="1955"/>
                    </a:lnTo>
                    <a:lnTo>
                      <a:pt x="869" y="1945"/>
                    </a:lnTo>
                    <a:lnTo>
                      <a:pt x="828" y="1933"/>
                    </a:lnTo>
                    <a:lnTo>
                      <a:pt x="787" y="1920"/>
                    </a:lnTo>
                    <a:lnTo>
                      <a:pt x="749" y="1905"/>
                    </a:lnTo>
                    <a:lnTo>
                      <a:pt x="710" y="1887"/>
                    </a:lnTo>
                    <a:lnTo>
                      <a:pt x="673" y="1869"/>
                    </a:lnTo>
                    <a:lnTo>
                      <a:pt x="637" y="1847"/>
                    </a:lnTo>
                    <a:lnTo>
                      <a:pt x="602" y="1824"/>
                    </a:lnTo>
                    <a:lnTo>
                      <a:pt x="567" y="1800"/>
                    </a:lnTo>
                    <a:lnTo>
                      <a:pt x="535" y="1775"/>
                    </a:lnTo>
                    <a:lnTo>
                      <a:pt x="504" y="1747"/>
                    </a:lnTo>
                    <a:lnTo>
                      <a:pt x="474" y="1720"/>
                    </a:lnTo>
                    <a:lnTo>
                      <a:pt x="445" y="1690"/>
                    </a:lnTo>
                    <a:lnTo>
                      <a:pt x="419" y="1659"/>
                    </a:lnTo>
                    <a:lnTo>
                      <a:pt x="392" y="1625"/>
                    </a:lnTo>
                    <a:lnTo>
                      <a:pt x="368" y="1592"/>
                    </a:lnTo>
                    <a:lnTo>
                      <a:pt x="347" y="1557"/>
                    </a:lnTo>
                    <a:lnTo>
                      <a:pt x="325" y="1521"/>
                    </a:lnTo>
                    <a:lnTo>
                      <a:pt x="306" y="1484"/>
                    </a:lnTo>
                    <a:lnTo>
                      <a:pt x="289" y="1445"/>
                    </a:lnTo>
                    <a:lnTo>
                      <a:pt x="273" y="1406"/>
                    </a:lnTo>
                    <a:lnTo>
                      <a:pt x="260" y="1366"/>
                    </a:lnTo>
                    <a:lnTo>
                      <a:pt x="248" y="1325"/>
                    </a:lnTo>
                    <a:lnTo>
                      <a:pt x="239" y="1283"/>
                    </a:lnTo>
                    <a:lnTo>
                      <a:pt x="231" y="1240"/>
                    </a:lnTo>
                    <a:lnTo>
                      <a:pt x="225" y="1197"/>
                    </a:lnTo>
                    <a:lnTo>
                      <a:pt x="222" y="1154"/>
                    </a:lnTo>
                    <a:lnTo>
                      <a:pt x="221" y="1109"/>
                    </a:lnTo>
                    <a:lnTo>
                      <a:pt x="221" y="1108"/>
                    </a:lnTo>
                    <a:lnTo>
                      <a:pt x="221" y="1108"/>
                    </a:lnTo>
                    <a:lnTo>
                      <a:pt x="221" y="1107"/>
                    </a:lnTo>
                    <a:lnTo>
                      <a:pt x="221" y="1106"/>
                    </a:lnTo>
                    <a:lnTo>
                      <a:pt x="221" y="1106"/>
                    </a:lnTo>
                    <a:lnTo>
                      <a:pt x="221" y="1104"/>
                    </a:lnTo>
                    <a:lnTo>
                      <a:pt x="221" y="1104"/>
                    </a:lnTo>
                    <a:lnTo>
                      <a:pt x="221" y="1103"/>
                    </a:lnTo>
                    <a:lnTo>
                      <a:pt x="195" y="1131"/>
                    </a:lnTo>
                    <a:lnTo>
                      <a:pt x="169" y="1160"/>
                    </a:lnTo>
                    <a:lnTo>
                      <a:pt x="143" y="1190"/>
                    </a:lnTo>
                    <a:lnTo>
                      <a:pt x="115" y="1220"/>
                    </a:lnTo>
                    <a:lnTo>
                      <a:pt x="87" y="1250"/>
                    </a:lnTo>
                    <a:lnTo>
                      <a:pt x="59" y="1281"/>
                    </a:lnTo>
                    <a:lnTo>
                      <a:pt x="30" y="1313"/>
                    </a:lnTo>
                    <a:lnTo>
                      <a:pt x="0" y="1346"/>
                    </a:lnTo>
                    <a:lnTo>
                      <a:pt x="11" y="1392"/>
                    </a:lnTo>
                    <a:lnTo>
                      <a:pt x="24" y="1438"/>
                    </a:lnTo>
                    <a:lnTo>
                      <a:pt x="38" y="1482"/>
                    </a:lnTo>
                    <a:lnTo>
                      <a:pt x="55" y="1527"/>
                    </a:lnTo>
                    <a:lnTo>
                      <a:pt x="74" y="1570"/>
                    </a:lnTo>
                    <a:lnTo>
                      <a:pt x="95" y="1612"/>
                    </a:lnTo>
                    <a:lnTo>
                      <a:pt x="116" y="1653"/>
                    </a:lnTo>
                    <a:lnTo>
                      <a:pt x="140" y="1692"/>
                    </a:lnTo>
                    <a:lnTo>
                      <a:pt x="165" y="1732"/>
                    </a:lnTo>
                    <a:lnTo>
                      <a:pt x="192" y="1769"/>
                    </a:lnTo>
                    <a:lnTo>
                      <a:pt x="221" y="1806"/>
                    </a:lnTo>
                    <a:lnTo>
                      <a:pt x="251" y="1841"/>
                    </a:lnTo>
                    <a:lnTo>
                      <a:pt x="282" y="1876"/>
                    </a:lnTo>
                    <a:lnTo>
                      <a:pt x="314" y="1908"/>
                    </a:lnTo>
                    <a:lnTo>
                      <a:pt x="348" y="1939"/>
                    </a:lnTo>
                    <a:lnTo>
                      <a:pt x="383" y="1969"/>
                    </a:lnTo>
                    <a:lnTo>
                      <a:pt x="420" y="1998"/>
                    </a:lnTo>
                    <a:lnTo>
                      <a:pt x="457" y="2025"/>
                    </a:lnTo>
                    <a:lnTo>
                      <a:pt x="497" y="2050"/>
                    </a:lnTo>
                    <a:lnTo>
                      <a:pt x="536" y="2074"/>
                    </a:lnTo>
                    <a:lnTo>
                      <a:pt x="577" y="2097"/>
                    </a:lnTo>
                    <a:lnTo>
                      <a:pt x="619" y="2117"/>
                    </a:lnTo>
                    <a:lnTo>
                      <a:pt x="662" y="2136"/>
                    </a:lnTo>
                    <a:lnTo>
                      <a:pt x="705" y="2153"/>
                    </a:lnTo>
                    <a:lnTo>
                      <a:pt x="751" y="2167"/>
                    </a:lnTo>
                    <a:lnTo>
                      <a:pt x="797" y="2181"/>
                    </a:lnTo>
                    <a:lnTo>
                      <a:pt x="842" y="2193"/>
                    </a:lnTo>
                    <a:lnTo>
                      <a:pt x="889" y="2202"/>
                    </a:lnTo>
                    <a:lnTo>
                      <a:pt x="937" y="2209"/>
                    </a:lnTo>
                    <a:lnTo>
                      <a:pt x="986" y="2214"/>
                    </a:lnTo>
                    <a:lnTo>
                      <a:pt x="1034" y="2218"/>
                    </a:lnTo>
                    <a:lnTo>
                      <a:pt x="1085" y="2219"/>
                    </a:lnTo>
                    <a:lnTo>
                      <a:pt x="1141" y="2218"/>
                    </a:lnTo>
                    <a:lnTo>
                      <a:pt x="1197" y="2213"/>
                    </a:lnTo>
                    <a:lnTo>
                      <a:pt x="1254" y="2206"/>
                    </a:lnTo>
                    <a:lnTo>
                      <a:pt x="1308" y="2196"/>
                    </a:lnTo>
                    <a:lnTo>
                      <a:pt x="1362" y="2184"/>
                    </a:lnTo>
                    <a:lnTo>
                      <a:pt x="1415" y="2169"/>
                    </a:lnTo>
                    <a:lnTo>
                      <a:pt x="1466" y="2152"/>
                    </a:lnTo>
                    <a:lnTo>
                      <a:pt x="1517" y="2131"/>
                    </a:lnTo>
                    <a:lnTo>
                      <a:pt x="1566" y="2110"/>
                    </a:lnTo>
                    <a:lnTo>
                      <a:pt x="1614" y="2085"/>
                    </a:lnTo>
                    <a:lnTo>
                      <a:pt x="1659" y="2058"/>
                    </a:lnTo>
                    <a:lnTo>
                      <a:pt x="1705" y="2029"/>
                    </a:lnTo>
                    <a:lnTo>
                      <a:pt x="1748" y="1998"/>
                    </a:lnTo>
                    <a:lnTo>
                      <a:pt x="1790" y="1966"/>
                    </a:lnTo>
                    <a:lnTo>
                      <a:pt x="1831" y="1931"/>
                    </a:lnTo>
                    <a:lnTo>
                      <a:pt x="1869" y="1894"/>
                    </a:lnTo>
                    <a:lnTo>
                      <a:pt x="1905" y="1855"/>
                    </a:lnTo>
                    <a:lnTo>
                      <a:pt x="1941" y="1815"/>
                    </a:lnTo>
                    <a:lnTo>
                      <a:pt x="1974" y="1773"/>
                    </a:lnTo>
                    <a:lnTo>
                      <a:pt x="2005" y="1729"/>
                    </a:lnTo>
                    <a:lnTo>
                      <a:pt x="2034" y="1685"/>
                    </a:lnTo>
                    <a:lnTo>
                      <a:pt x="2060" y="1638"/>
                    </a:lnTo>
                    <a:lnTo>
                      <a:pt x="2085" y="1590"/>
                    </a:lnTo>
                    <a:lnTo>
                      <a:pt x="2107" y="1541"/>
                    </a:lnTo>
                    <a:lnTo>
                      <a:pt x="2127" y="1491"/>
                    </a:lnTo>
                    <a:lnTo>
                      <a:pt x="2144" y="1439"/>
                    </a:lnTo>
                    <a:lnTo>
                      <a:pt x="2160" y="1386"/>
                    </a:lnTo>
                    <a:lnTo>
                      <a:pt x="2172" y="1332"/>
                    </a:lnTo>
                    <a:lnTo>
                      <a:pt x="2181" y="1278"/>
                    </a:lnTo>
                    <a:lnTo>
                      <a:pt x="2189" y="1222"/>
                    </a:lnTo>
                    <a:lnTo>
                      <a:pt x="2193" y="1167"/>
                    </a:lnTo>
                    <a:lnTo>
                      <a:pt x="2195" y="1109"/>
                    </a:lnTo>
                    <a:close/>
                  </a:path>
                </a:pathLst>
              </a:custGeom>
              <a:solidFill>
                <a:srgbClr val="fdf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16640" y="4133880"/>
                <a:ext cx="780840" cy="782640"/>
              </a:xfrm>
              <a:custGeom>
                <a:avLst/>
                <a:gdLst/>
                <a:ahLst/>
                <a:rect l="l" t="t" r="r" b="b"/>
                <a:pathLst>
                  <a:path w="1966" h="1972">
                    <a:moveTo>
                      <a:pt x="1966" y="986"/>
                    </a:moveTo>
                    <a:lnTo>
                      <a:pt x="1965" y="936"/>
                    </a:lnTo>
                    <a:lnTo>
                      <a:pt x="1961" y="885"/>
                    </a:lnTo>
                    <a:lnTo>
                      <a:pt x="1955" y="836"/>
                    </a:lnTo>
                    <a:lnTo>
                      <a:pt x="1946" y="787"/>
                    </a:lnTo>
                    <a:lnTo>
                      <a:pt x="1935" y="739"/>
                    </a:lnTo>
                    <a:lnTo>
                      <a:pt x="1922" y="692"/>
                    </a:lnTo>
                    <a:lnTo>
                      <a:pt x="1906" y="647"/>
                    </a:lnTo>
                    <a:lnTo>
                      <a:pt x="1888" y="602"/>
                    </a:lnTo>
                    <a:lnTo>
                      <a:pt x="1869" y="558"/>
                    </a:lnTo>
                    <a:lnTo>
                      <a:pt x="1847" y="516"/>
                    </a:lnTo>
                    <a:lnTo>
                      <a:pt x="1823" y="475"/>
                    </a:lnTo>
                    <a:lnTo>
                      <a:pt x="1798" y="434"/>
                    </a:lnTo>
                    <a:lnTo>
                      <a:pt x="1770" y="396"/>
                    </a:lnTo>
                    <a:lnTo>
                      <a:pt x="1740" y="359"/>
                    </a:lnTo>
                    <a:lnTo>
                      <a:pt x="1709" y="323"/>
                    </a:lnTo>
                    <a:lnTo>
                      <a:pt x="1677" y="289"/>
                    </a:lnTo>
                    <a:lnTo>
                      <a:pt x="1643" y="256"/>
                    </a:lnTo>
                    <a:lnTo>
                      <a:pt x="1607" y="224"/>
                    </a:lnTo>
                    <a:lnTo>
                      <a:pt x="1570" y="196"/>
                    </a:lnTo>
                    <a:lnTo>
                      <a:pt x="1530" y="168"/>
                    </a:lnTo>
                    <a:lnTo>
                      <a:pt x="1491" y="143"/>
                    </a:lnTo>
                    <a:lnTo>
                      <a:pt x="1450" y="119"/>
                    </a:lnTo>
                    <a:lnTo>
                      <a:pt x="1407" y="97"/>
                    </a:lnTo>
                    <a:lnTo>
                      <a:pt x="1364" y="77"/>
                    </a:lnTo>
                    <a:lnTo>
                      <a:pt x="1318" y="60"/>
                    </a:lnTo>
                    <a:lnTo>
                      <a:pt x="1272" y="44"/>
                    </a:lnTo>
                    <a:lnTo>
                      <a:pt x="1226" y="31"/>
                    </a:lnTo>
                    <a:lnTo>
                      <a:pt x="1178" y="19"/>
                    </a:lnTo>
                    <a:lnTo>
                      <a:pt x="1130" y="11"/>
                    </a:lnTo>
                    <a:lnTo>
                      <a:pt x="1080" y="5"/>
                    </a:lnTo>
                    <a:lnTo>
                      <a:pt x="1030" y="1"/>
                    </a:lnTo>
                    <a:lnTo>
                      <a:pt x="980" y="0"/>
                    </a:lnTo>
                    <a:lnTo>
                      <a:pt x="966" y="0"/>
                    </a:lnTo>
                    <a:lnTo>
                      <a:pt x="953" y="0"/>
                    </a:lnTo>
                    <a:lnTo>
                      <a:pt x="940" y="0"/>
                    </a:lnTo>
                    <a:lnTo>
                      <a:pt x="928" y="1"/>
                    </a:lnTo>
                    <a:lnTo>
                      <a:pt x="915" y="1"/>
                    </a:lnTo>
                    <a:lnTo>
                      <a:pt x="902" y="3"/>
                    </a:lnTo>
                    <a:lnTo>
                      <a:pt x="888" y="4"/>
                    </a:lnTo>
                    <a:lnTo>
                      <a:pt x="876" y="5"/>
                    </a:lnTo>
                    <a:lnTo>
                      <a:pt x="858" y="42"/>
                    </a:lnTo>
                    <a:lnTo>
                      <a:pt x="840" y="78"/>
                    </a:lnTo>
                    <a:lnTo>
                      <a:pt x="821" y="115"/>
                    </a:lnTo>
                    <a:lnTo>
                      <a:pt x="802" y="151"/>
                    </a:lnTo>
                    <a:lnTo>
                      <a:pt x="782" y="187"/>
                    </a:lnTo>
                    <a:lnTo>
                      <a:pt x="760" y="223"/>
                    </a:lnTo>
                    <a:lnTo>
                      <a:pt x="738" y="259"/>
                    </a:lnTo>
                    <a:lnTo>
                      <a:pt x="716" y="294"/>
                    </a:lnTo>
                    <a:lnTo>
                      <a:pt x="747" y="283"/>
                    </a:lnTo>
                    <a:lnTo>
                      <a:pt x="779" y="274"/>
                    </a:lnTo>
                    <a:lnTo>
                      <a:pt x="810" y="265"/>
                    </a:lnTo>
                    <a:lnTo>
                      <a:pt x="844" y="259"/>
                    </a:lnTo>
                    <a:lnTo>
                      <a:pt x="876" y="253"/>
                    </a:lnTo>
                    <a:lnTo>
                      <a:pt x="910" y="250"/>
                    </a:lnTo>
                    <a:lnTo>
                      <a:pt x="945" y="247"/>
                    </a:lnTo>
                    <a:lnTo>
                      <a:pt x="980" y="246"/>
                    </a:lnTo>
                    <a:lnTo>
                      <a:pt x="1018" y="247"/>
                    </a:lnTo>
                    <a:lnTo>
                      <a:pt x="1055" y="250"/>
                    </a:lnTo>
                    <a:lnTo>
                      <a:pt x="1092" y="254"/>
                    </a:lnTo>
                    <a:lnTo>
                      <a:pt x="1128" y="262"/>
                    </a:lnTo>
                    <a:lnTo>
                      <a:pt x="1164" y="270"/>
                    </a:lnTo>
                    <a:lnTo>
                      <a:pt x="1199" y="280"/>
                    </a:lnTo>
                    <a:lnTo>
                      <a:pt x="1234" y="292"/>
                    </a:lnTo>
                    <a:lnTo>
                      <a:pt x="1268" y="305"/>
                    </a:lnTo>
                    <a:lnTo>
                      <a:pt x="1300" y="319"/>
                    </a:lnTo>
                    <a:lnTo>
                      <a:pt x="1332" y="336"/>
                    </a:lnTo>
                    <a:lnTo>
                      <a:pt x="1364" y="354"/>
                    </a:lnTo>
                    <a:lnTo>
                      <a:pt x="1394" y="373"/>
                    </a:lnTo>
                    <a:lnTo>
                      <a:pt x="1422" y="394"/>
                    </a:lnTo>
                    <a:lnTo>
                      <a:pt x="1450" y="415"/>
                    </a:lnTo>
                    <a:lnTo>
                      <a:pt x="1476" y="438"/>
                    </a:lnTo>
                    <a:lnTo>
                      <a:pt x="1503" y="463"/>
                    </a:lnTo>
                    <a:lnTo>
                      <a:pt x="1527" y="488"/>
                    </a:lnTo>
                    <a:lnTo>
                      <a:pt x="1551" y="516"/>
                    </a:lnTo>
                    <a:lnTo>
                      <a:pt x="1572" y="544"/>
                    </a:lnTo>
                    <a:lnTo>
                      <a:pt x="1593" y="572"/>
                    </a:lnTo>
                    <a:lnTo>
                      <a:pt x="1612" y="602"/>
                    </a:lnTo>
                    <a:lnTo>
                      <a:pt x="1630" y="634"/>
                    </a:lnTo>
                    <a:lnTo>
                      <a:pt x="1647" y="666"/>
                    </a:lnTo>
                    <a:lnTo>
                      <a:pt x="1661" y="698"/>
                    </a:lnTo>
                    <a:lnTo>
                      <a:pt x="1674" y="732"/>
                    </a:lnTo>
                    <a:lnTo>
                      <a:pt x="1686" y="767"/>
                    </a:lnTo>
                    <a:lnTo>
                      <a:pt x="1696" y="801"/>
                    </a:lnTo>
                    <a:lnTo>
                      <a:pt x="1704" y="837"/>
                    </a:lnTo>
                    <a:lnTo>
                      <a:pt x="1710" y="873"/>
                    </a:lnTo>
                    <a:lnTo>
                      <a:pt x="1715" y="911"/>
                    </a:lnTo>
                    <a:lnTo>
                      <a:pt x="1719" y="948"/>
                    </a:lnTo>
                    <a:lnTo>
                      <a:pt x="1719" y="986"/>
                    </a:lnTo>
                    <a:lnTo>
                      <a:pt x="1719" y="1025"/>
                    </a:lnTo>
                    <a:lnTo>
                      <a:pt x="1715" y="1062"/>
                    </a:lnTo>
                    <a:lnTo>
                      <a:pt x="1710" y="1099"/>
                    </a:lnTo>
                    <a:lnTo>
                      <a:pt x="1704" y="1135"/>
                    </a:lnTo>
                    <a:lnTo>
                      <a:pt x="1696" y="1171"/>
                    </a:lnTo>
                    <a:lnTo>
                      <a:pt x="1686" y="1206"/>
                    </a:lnTo>
                    <a:lnTo>
                      <a:pt x="1674" y="1241"/>
                    </a:lnTo>
                    <a:lnTo>
                      <a:pt x="1661" y="1274"/>
                    </a:lnTo>
                    <a:lnTo>
                      <a:pt x="1647" y="1307"/>
                    </a:lnTo>
                    <a:lnTo>
                      <a:pt x="1630" y="1339"/>
                    </a:lnTo>
                    <a:lnTo>
                      <a:pt x="1612" y="1370"/>
                    </a:lnTo>
                    <a:lnTo>
                      <a:pt x="1593" y="1400"/>
                    </a:lnTo>
                    <a:lnTo>
                      <a:pt x="1572" y="1429"/>
                    </a:lnTo>
                    <a:lnTo>
                      <a:pt x="1551" y="1457"/>
                    </a:lnTo>
                    <a:lnTo>
                      <a:pt x="1527" y="1484"/>
                    </a:lnTo>
                    <a:lnTo>
                      <a:pt x="1503" y="1509"/>
                    </a:lnTo>
                    <a:lnTo>
                      <a:pt x="1476" y="1533"/>
                    </a:lnTo>
                    <a:lnTo>
                      <a:pt x="1450" y="1557"/>
                    </a:lnTo>
                    <a:lnTo>
                      <a:pt x="1422" y="1579"/>
                    </a:lnTo>
                    <a:lnTo>
                      <a:pt x="1394" y="1599"/>
                    </a:lnTo>
                    <a:lnTo>
                      <a:pt x="1364" y="1618"/>
                    </a:lnTo>
                    <a:lnTo>
                      <a:pt x="1332" y="1636"/>
                    </a:lnTo>
                    <a:lnTo>
                      <a:pt x="1300" y="1653"/>
                    </a:lnTo>
                    <a:lnTo>
                      <a:pt x="1268" y="1668"/>
                    </a:lnTo>
                    <a:lnTo>
                      <a:pt x="1234" y="1681"/>
                    </a:lnTo>
                    <a:lnTo>
                      <a:pt x="1199" y="1693"/>
                    </a:lnTo>
                    <a:lnTo>
                      <a:pt x="1164" y="1702"/>
                    </a:lnTo>
                    <a:lnTo>
                      <a:pt x="1128" y="1711"/>
                    </a:lnTo>
                    <a:lnTo>
                      <a:pt x="1092" y="1717"/>
                    </a:lnTo>
                    <a:lnTo>
                      <a:pt x="1055" y="1722"/>
                    </a:lnTo>
                    <a:lnTo>
                      <a:pt x="1018" y="1725"/>
                    </a:lnTo>
                    <a:lnTo>
                      <a:pt x="980" y="1726"/>
                    </a:lnTo>
                    <a:lnTo>
                      <a:pt x="941" y="1725"/>
                    </a:lnTo>
                    <a:lnTo>
                      <a:pt x="904" y="1722"/>
                    </a:lnTo>
                    <a:lnTo>
                      <a:pt x="867" y="1717"/>
                    </a:lnTo>
                    <a:lnTo>
                      <a:pt x="831" y="1711"/>
                    </a:lnTo>
                    <a:lnTo>
                      <a:pt x="795" y="1702"/>
                    </a:lnTo>
                    <a:lnTo>
                      <a:pt x="759" y="1693"/>
                    </a:lnTo>
                    <a:lnTo>
                      <a:pt x="725" y="1681"/>
                    </a:lnTo>
                    <a:lnTo>
                      <a:pt x="692" y="1668"/>
                    </a:lnTo>
                    <a:lnTo>
                      <a:pt x="658" y="1653"/>
                    </a:lnTo>
                    <a:lnTo>
                      <a:pt x="627" y="1636"/>
                    </a:lnTo>
                    <a:lnTo>
                      <a:pt x="596" y="1618"/>
                    </a:lnTo>
                    <a:lnTo>
                      <a:pt x="566" y="1599"/>
                    </a:lnTo>
                    <a:lnTo>
                      <a:pt x="537" y="1579"/>
                    </a:lnTo>
                    <a:lnTo>
                      <a:pt x="509" y="1557"/>
                    </a:lnTo>
                    <a:lnTo>
                      <a:pt x="482" y="1533"/>
                    </a:lnTo>
                    <a:lnTo>
                      <a:pt x="456" y="1509"/>
                    </a:lnTo>
                    <a:lnTo>
                      <a:pt x="431" y="1484"/>
                    </a:lnTo>
                    <a:lnTo>
                      <a:pt x="408" y="1457"/>
                    </a:lnTo>
                    <a:lnTo>
                      <a:pt x="387" y="1429"/>
                    </a:lnTo>
                    <a:lnTo>
                      <a:pt x="365" y="1400"/>
                    </a:lnTo>
                    <a:lnTo>
                      <a:pt x="346" y="1370"/>
                    </a:lnTo>
                    <a:lnTo>
                      <a:pt x="329" y="1339"/>
                    </a:lnTo>
                    <a:lnTo>
                      <a:pt x="312" y="1307"/>
                    </a:lnTo>
                    <a:lnTo>
                      <a:pt x="298" y="1274"/>
                    </a:lnTo>
                    <a:lnTo>
                      <a:pt x="285" y="1241"/>
                    </a:lnTo>
                    <a:lnTo>
                      <a:pt x="273" y="1206"/>
                    </a:lnTo>
                    <a:lnTo>
                      <a:pt x="263" y="1171"/>
                    </a:lnTo>
                    <a:lnTo>
                      <a:pt x="255" y="1135"/>
                    </a:lnTo>
                    <a:lnTo>
                      <a:pt x="248" y="1099"/>
                    </a:lnTo>
                    <a:lnTo>
                      <a:pt x="243" y="1062"/>
                    </a:lnTo>
                    <a:lnTo>
                      <a:pt x="240" y="1025"/>
                    </a:lnTo>
                    <a:lnTo>
                      <a:pt x="239" y="986"/>
                    </a:lnTo>
                    <a:lnTo>
                      <a:pt x="239" y="966"/>
                    </a:lnTo>
                    <a:lnTo>
                      <a:pt x="240" y="944"/>
                    </a:lnTo>
                    <a:lnTo>
                      <a:pt x="242" y="924"/>
                    </a:lnTo>
                    <a:lnTo>
                      <a:pt x="244" y="905"/>
                    </a:lnTo>
                    <a:lnTo>
                      <a:pt x="246" y="884"/>
                    </a:lnTo>
                    <a:lnTo>
                      <a:pt x="250" y="864"/>
                    </a:lnTo>
                    <a:lnTo>
                      <a:pt x="252" y="845"/>
                    </a:lnTo>
                    <a:lnTo>
                      <a:pt x="257" y="824"/>
                    </a:lnTo>
                    <a:lnTo>
                      <a:pt x="228" y="857"/>
                    </a:lnTo>
                    <a:lnTo>
                      <a:pt x="198" y="889"/>
                    </a:lnTo>
                    <a:lnTo>
                      <a:pt x="168" y="923"/>
                    </a:lnTo>
                    <a:lnTo>
                      <a:pt x="136" y="957"/>
                    </a:lnTo>
                    <a:lnTo>
                      <a:pt x="104" y="993"/>
                    </a:lnTo>
                    <a:lnTo>
                      <a:pt x="70" y="1031"/>
                    </a:lnTo>
                    <a:lnTo>
                      <a:pt x="35" y="1069"/>
                    </a:lnTo>
                    <a:lnTo>
                      <a:pt x="0" y="1107"/>
                    </a:lnTo>
                    <a:lnTo>
                      <a:pt x="6" y="1153"/>
                    </a:lnTo>
                    <a:lnTo>
                      <a:pt x="16" y="1197"/>
                    </a:lnTo>
                    <a:lnTo>
                      <a:pt x="26" y="1242"/>
                    </a:lnTo>
                    <a:lnTo>
                      <a:pt x="39" y="1285"/>
                    </a:lnTo>
                    <a:lnTo>
                      <a:pt x="53" y="1327"/>
                    </a:lnTo>
                    <a:lnTo>
                      <a:pt x="70" y="1368"/>
                    </a:lnTo>
                    <a:lnTo>
                      <a:pt x="88" y="1409"/>
                    </a:lnTo>
                    <a:lnTo>
                      <a:pt x="107" y="1448"/>
                    </a:lnTo>
                    <a:lnTo>
                      <a:pt x="129" y="1486"/>
                    </a:lnTo>
                    <a:lnTo>
                      <a:pt x="153" y="1524"/>
                    </a:lnTo>
                    <a:lnTo>
                      <a:pt x="177" y="1561"/>
                    </a:lnTo>
                    <a:lnTo>
                      <a:pt x="203" y="1596"/>
                    </a:lnTo>
                    <a:lnTo>
                      <a:pt x="231" y="1629"/>
                    </a:lnTo>
                    <a:lnTo>
                      <a:pt x="261" y="1662"/>
                    </a:lnTo>
                    <a:lnTo>
                      <a:pt x="291" y="1693"/>
                    </a:lnTo>
                    <a:lnTo>
                      <a:pt x="323" y="1723"/>
                    </a:lnTo>
                    <a:lnTo>
                      <a:pt x="357" y="1752"/>
                    </a:lnTo>
                    <a:lnTo>
                      <a:pt x="392" y="1778"/>
                    </a:lnTo>
                    <a:lnTo>
                      <a:pt x="426" y="1803"/>
                    </a:lnTo>
                    <a:lnTo>
                      <a:pt x="464" y="1827"/>
                    </a:lnTo>
                    <a:lnTo>
                      <a:pt x="502" y="1850"/>
                    </a:lnTo>
                    <a:lnTo>
                      <a:pt x="542" y="1870"/>
                    </a:lnTo>
                    <a:lnTo>
                      <a:pt x="581" y="1888"/>
                    </a:lnTo>
                    <a:lnTo>
                      <a:pt x="622" y="1906"/>
                    </a:lnTo>
                    <a:lnTo>
                      <a:pt x="664" y="1921"/>
                    </a:lnTo>
                    <a:lnTo>
                      <a:pt x="707" y="1934"/>
                    </a:lnTo>
                    <a:lnTo>
                      <a:pt x="750" y="1946"/>
                    </a:lnTo>
                    <a:lnTo>
                      <a:pt x="795" y="1956"/>
                    </a:lnTo>
                    <a:lnTo>
                      <a:pt x="840" y="1963"/>
                    </a:lnTo>
                    <a:lnTo>
                      <a:pt x="886" y="1969"/>
                    </a:lnTo>
                    <a:lnTo>
                      <a:pt x="933" y="1971"/>
                    </a:lnTo>
                    <a:lnTo>
                      <a:pt x="980" y="1972"/>
                    </a:lnTo>
                    <a:lnTo>
                      <a:pt x="1030" y="1971"/>
                    </a:lnTo>
                    <a:lnTo>
                      <a:pt x="1080" y="1968"/>
                    </a:lnTo>
                    <a:lnTo>
                      <a:pt x="1130" y="1962"/>
                    </a:lnTo>
                    <a:lnTo>
                      <a:pt x="1178" y="1952"/>
                    </a:lnTo>
                    <a:lnTo>
                      <a:pt x="1226" y="1941"/>
                    </a:lnTo>
                    <a:lnTo>
                      <a:pt x="1272" y="1928"/>
                    </a:lnTo>
                    <a:lnTo>
                      <a:pt x="1318" y="1912"/>
                    </a:lnTo>
                    <a:lnTo>
                      <a:pt x="1364" y="1896"/>
                    </a:lnTo>
                    <a:lnTo>
                      <a:pt x="1407" y="1875"/>
                    </a:lnTo>
                    <a:lnTo>
                      <a:pt x="1450" y="1854"/>
                    </a:lnTo>
                    <a:lnTo>
                      <a:pt x="1491" y="1830"/>
                    </a:lnTo>
                    <a:lnTo>
                      <a:pt x="1530" y="1804"/>
                    </a:lnTo>
                    <a:lnTo>
                      <a:pt x="1570" y="1777"/>
                    </a:lnTo>
                    <a:lnTo>
                      <a:pt x="1607" y="1747"/>
                    </a:lnTo>
                    <a:lnTo>
                      <a:pt x="1643" y="1717"/>
                    </a:lnTo>
                    <a:lnTo>
                      <a:pt x="1677" y="1683"/>
                    </a:lnTo>
                    <a:lnTo>
                      <a:pt x="1709" y="1650"/>
                    </a:lnTo>
                    <a:lnTo>
                      <a:pt x="1740" y="1614"/>
                    </a:lnTo>
                    <a:lnTo>
                      <a:pt x="1770" y="1576"/>
                    </a:lnTo>
                    <a:lnTo>
                      <a:pt x="1798" y="1538"/>
                    </a:lnTo>
                    <a:lnTo>
                      <a:pt x="1823" y="1497"/>
                    </a:lnTo>
                    <a:lnTo>
                      <a:pt x="1847" y="1457"/>
                    </a:lnTo>
                    <a:lnTo>
                      <a:pt x="1869" y="1413"/>
                    </a:lnTo>
                    <a:lnTo>
                      <a:pt x="1888" y="1370"/>
                    </a:lnTo>
                    <a:lnTo>
                      <a:pt x="1906" y="1326"/>
                    </a:lnTo>
                    <a:lnTo>
                      <a:pt x="1922" y="1279"/>
                    </a:lnTo>
                    <a:lnTo>
                      <a:pt x="1935" y="1232"/>
                    </a:lnTo>
                    <a:lnTo>
                      <a:pt x="1946" y="1185"/>
                    </a:lnTo>
                    <a:lnTo>
                      <a:pt x="1955" y="1136"/>
                    </a:lnTo>
                    <a:lnTo>
                      <a:pt x="1961" y="1087"/>
                    </a:lnTo>
                    <a:lnTo>
                      <a:pt x="1965" y="1037"/>
                    </a:lnTo>
                    <a:lnTo>
                      <a:pt x="1966" y="986"/>
                    </a:lnTo>
                    <a:close/>
                  </a:path>
                </a:pathLst>
              </a:custGeom>
              <a:solidFill>
                <a:srgbClr val="fef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360" y="4183200"/>
                <a:ext cx="685800" cy="684000"/>
              </a:xfrm>
              <a:custGeom>
                <a:avLst/>
                <a:gdLst/>
                <a:ahLst/>
                <a:rect l="l" t="t" r="r" b="b"/>
                <a:pathLst>
                  <a:path w="1726" h="1727">
                    <a:moveTo>
                      <a:pt x="1726" y="864"/>
                    </a:moveTo>
                    <a:lnTo>
                      <a:pt x="1725" y="820"/>
                    </a:lnTo>
                    <a:lnTo>
                      <a:pt x="1723" y="775"/>
                    </a:lnTo>
                    <a:lnTo>
                      <a:pt x="1717" y="732"/>
                    </a:lnTo>
                    <a:lnTo>
                      <a:pt x="1710" y="690"/>
                    </a:lnTo>
                    <a:lnTo>
                      <a:pt x="1700" y="648"/>
                    </a:lnTo>
                    <a:lnTo>
                      <a:pt x="1688" y="608"/>
                    </a:lnTo>
                    <a:lnTo>
                      <a:pt x="1675" y="568"/>
                    </a:lnTo>
                    <a:lnTo>
                      <a:pt x="1659" y="528"/>
                    </a:lnTo>
                    <a:lnTo>
                      <a:pt x="1641" y="490"/>
                    </a:lnTo>
                    <a:lnTo>
                      <a:pt x="1622" y="453"/>
                    </a:lnTo>
                    <a:lnTo>
                      <a:pt x="1602" y="417"/>
                    </a:lnTo>
                    <a:lnTo>
                      <a:pt x="1579" y="382"/>
                    </a:lnTo>
                    <a:lnTo>
                      <a:pt x="1555" y="347"/>
                    </a:lnTo>
                    <a:lnTo>
                      <a:pt x="1530" y="315"/>
                    </a:lnTo>
                    <a:lnTo>
                      <a:pt x="1502" y="284"/>
                    </a:lnTo>
                    <a:lnTo>
                      <a:pt x="1474" y="254"/>
                    </a:lnTo>
                    <a:lnTo>
                      <a:pt x="1444" y="225"/>
                    </a:lnTo>
                    <a:lnTo>
                      <a:pt x="1412" y="198"/>
                    </a:lnTo>
                    <a:lnTo>
                      <a:pt x="1380" y="172"/>
                    </a:lnTo>
                    <a:lnTo>
                      <a:pt x="1346" y="148"/>
                    </a:lnTo>
                    <a:lnTo>
                      <a:pt x="1311" y="126"/>
                    </a:lnTo>
                    <a:lnTo>
                      <a:pt x="1275" y="105"/>
                    </a:lnTo>
                    <a:lnTo>
                      <a:pt x="1238" y="86"/>
                    </a:lnTo>
                    <a:lnTo>
                      <a:pt x="1200" y="69"/>
                    </a:lnTo>
                    <a:lnTo>
                      <a:pt x="1160" y="53"/>
                    </a:lnTo>
                    <a:lnTo>
                      <a:pt x="1120" y="40"/>
                    </a:lnTo>
                    <a:lnTo>
                      <a:pt x="1080" y="28"/>
                    </a:lnTo>
                    <a:lnTo>
                      <a:pt x="1038" y="18"/>
                    </a:lnTo>
                    <a:lnTo>
                      <a:pt x="994" y="11"/>
                    </a:lnTo>
                    <a:lnTo>
                      <a:pt x="951" y="5"/>
                    </a:lnTo>
                    <a:lnTo>
                      <a:pt x="908" y="2"/>
                    </a:lnTo>
                    <a:lnTo>
                      <a:pt x="864" y="0"/>
                    </a:lnTo>
                    <a:lnTo>
                      <a:pt x="842" y="2"/>
                    </a:lnTo>
                    <a:lnTo>
                      <a:pt x="819" y="2"/>
                    </a:lnTo>
                    <a:lnTo>
                      <a:pt x="798" y="3"/>
                    </a:lnTo>
                    <a:lnTo>
                      <a:pt x="776" y="5"/>
                    </a:lnTo>
                    <a:lnTo>
                      <a:pt x="754" y="8"/>
                    </a:lnTo>
                    <a:lnTo>
                      <a:pt x="734" y="11"/>
                    </a:lnTo>
                    <a:lnTo>
                      <a:pt x="712" y="14"/>
                    </a:lnTo>
                    <a:lnTo>
                      <a:pt x="692" y="18"/>
                    </a:lnTo>
                    <a:lnTo>
                      <a:pt x="676" y="45"/>
                    </a:lnTo>
                    <a:lnTo>
                      <a:pt x="662" y="72"/>
                    </a:lnTo>
                    <a:lnTo>
                      <a:pt x="646" y="99"/>
                    </a:lnTo>
                    <a:lnTo>
                      <a:pt x="630" y="125"/>
                    </a:lnTo>
                    <a:lnTo>
                      <a:pt x="613" y="153"/>
                    </a:lnTo>
                    <a:lnTo>
                      <a:pt x="596" y="179"/>
                    </a:lnTo>
                    <a:lnTo>
                      <a:pt x="578" y="206"/>
                    </a:lnTo>
                    <a:lnTo>
                      <a:pt x="560" y="232"/>
                    </a:lnTo>
                    <a:lnTo>
                      <a:pt x="552" y="242"/>
                    </a:lnTo>
                    <a:lnTo>
                      <a:pt x="525" y="272"/>
                    </a:lnTo>
                    <a:lnTo>
                      <a:pt x="482" y="321"/>
                    </a:lnTo>
                    <a:lnTo>
                      <a:pt x="421" y="389"/>
                    </a:lnTo>
                    <a:lnTo>
                      <a:pt x="343" y="478"/>
                    </a:lnTo>
                    <a:lnTo>
                      <a:pt x="247" y="586"/>
                    </a:lnTo>
                    <a:lnTo>
                      <a:pt x="133" y="712"/>
                    </a:lnTo>
                    <a:lnTo>
                      <a:pt x="0" y="858"/>
                    </a:lnTo>
                    <a:lnTo>
                      <a:pt x="0" y="859"/>
                    </a:lnTo>
                    <a:lnTo>
                      <a:pt x="0" y="859"/>
                    </a:lnTo>
                    <a:lnTo>
                      <a:pt x="0" y="861"/>
                    </a:lnTo>
                    <a:lnTo>
                      <a:pt x="0" y="861"/>
                    </a:lnTo>
                    <a:lnTo>
                      <a:pt x="0" y="862"/>
                    </a:lnTo>
                    <a:lnTo>
                      <a:pt x="0" y="863"/>
                    </a:lnTo>
                    <a:lnTo>
                      <a:pt x="0" y="863"/>
                    </a:lnTo>
                    <a:lnTo>
                      <a:pt x="0" y="864"/>
                    </a:lnTo>
                    <a:lnTo>
                      <a:pt x="1" y="909"/>
                    </a:lnTo>
                    <a:lnTo>
                      <a:pt x="4" y="952"/>
                    </a:lnTo>
                    <a:lnTo>
                      <a:pt x="10" y="995"/>
                    </a:lnTo>
                    <a:lnTo>
                      <a:pt x="18" y="1038"/>
                    </a:lnTo>
                    <a:lnTo>
                      <a:pt x="27" y="1080"/>
                    </a:lnTo>
                    <a:lnTo>
                      <a:pt x="39" y="1121"/>
                    </a:lnTo>
                    <a:lnTo>
                      <a:pt x="52" y="1161"/>
                    </a:lnTo>
                    <a:lnTo>
                      <a:pt x="68" y="1200"/>
                    </a:lnTo>
                    <a:lnTo>
                      <a:pt x="85" y="1239"/>
                    </a:lnTo>
                    <a:lnTo>
                      <a:pt x="104" y="1276"/>
                    </a:lnTo>
                    <a:lnTo>
                      <a:pt x="126" y="1312"/>
                    </a:lnTo>
                    <a:lnTo>
                      <a:pt x="147" y="1347"/>
                    </a:lnTo>
                    <a:lnTo>
                      <a:pt x="171" y="1380"/>
                    </a:lnTo>
                    <a:lnTo>
                      <a:pt x="198" y="1414"/>
                    </a:lnTo>
                    <a:lnTo>
                      <a:pt x="224" y="1445"/>
                    </a:lnTo>
                    <a:lnTo>
                      <a:pt x="253" y="1475"/>
                    </a:lnTo>
                    <a:lnTo>
                      <a:pt x="283" y="1502"/>
                    </a:lnTo>
                    <a:lnTo>
                      <a:pt x="314" y="1530"/>
                    </a:lnTo>
                    <a:lnTo>
                      <a:pt x="346" y="1555"/>
                    </a:lnTo>
                    <a:lnTo>
                      <a:pt x="381" y="1579"/>
                    </a:lnTo>
                    <a:lnTo>
                      <a:pt x="416" y="1602"/>
                    </a:lnTo>
                    <a:lnTo>
                      <a:pt x="452" y="1624"/>
                    </a:lnTo>
                    <a:lnTo>
                      <a:pt x="489" y="1642"/>
                    </a:lnTo>
                    <a:lnTo>
                      <a:pt x="528" y="1660"/>
                    </a:lnTo>
                    <a:lnTo>
                      <a:pt x="566" y="1675"/>
                    </a:lnTo>
                    <a:lnTo>
                      <a:pt x="607" y="1688"/>
                    </a:lnTo>
                    <a:lnTo>
                      <a:pt x="648" y="1700"/>
                    </a:lnTo>
                    <a:lnTo>
                      <a:pt x="690" y="1710"/>
                    </a:lnTo>
                    <a:lnTo>
                      <a:pt x="732" y="1717"/>
                    </a:lnTo>
                    <a:lnTo>
                      <a:pt x="775" y="1723"/>
                    </a:lnTo>
                    <a:lnTo>
                      <a:pt x="819" y="1726"/>
                    </a:lnTo>
                    <a:lnTo>
                      <a:pt x="864" y="1727"/>
                    </a:lnTo>
                    <a:lnTo>
                      <a:pt x="908" y="1726"/>
                    </a:lnTo>
                    <a:lnTo>
                      <a:pt x="951" y="1723"/>
                    </a:lnTo>
                    <a:lnTo>
                      <a:pt x="994" y="1717"/>
                    </a:lnTo>
                    <a:lnTo>
                      <a:pt x="1038" y="1710"/>
                    </a:lnTo>
                    <a:lnTo>
                      <a:pt x="1080" y="1700"/>
                    </a:lnTo>
                    <a:lnTo>
                      <a:pt x="1120" y="1688"/>
                    </a:lnTo>
                    <a:lnTo>
                      <a:pt x="1160" y="1675"/>
                    </a:lnTo>
                    <a:lnTo>
                      <a:pt x="1200" y="1660"/>
                    </a:lnTo>
                    <a:lnTo>
                      <a:pt x="1238" y="1642"/>
                    </a:lnTo>
                    <a:lnTo>
                      <a:pt x="1275" y="1624"/>
                    </a:lnTo>
                    <a:lnTo>
                      <a:pt x="1311" y="1602"/>
                    </a:lnTo>
                    <a:lnTo>
                      <a:pt x="1346" y="1579"/>
                    </a:lnTo>
                    <a:lnTo>
                      <a:pt x="1380" y="1555"/>
                    </a:lnTo>
                    <a:lnTo>
                      <a:pt x="1412" y="1530"/>
                    </a:lnTo>
                    <a:lnTo>
                      <a:pt x="1444" y="1502"/>
                    </a:lnTo>
                    <a:lnTo>
                      <a:pt x="1474" y="1475"/>
                    </a:lnTo>
                    <a:lnTo>
                      <a:pt x="1502" y="1445"/>
                    </a:lnTo>
                    <a:lnTo>
                      <a:pt x="1530" y="1414"/>
                    </a:lnTo>
                    <a:lnTo>
                      <a:pt x="1555" y="1380"/>
                    </a:lnTo>
                    <a:lnTo>
                      <a:pt x="1579" y="1347"/>
                    </a:lnTo>
                    <a:lnTo>
                      <a:pt x="1602" y="1312"/>
                    </a:lnTo>
                    <a:lnTo>
                      <a:pt x="1622" y="1276"/>
                    </a:lnTo>
                    <a:lnTo>
                      <a:pt x="1641" y="1239"/>
                    </a:lnTo>
                    <a:lnTo>
                      <a:pt x="1659" y="1200"/>
                    </a:lnTo>
                    <a:lnTo>
                      <a:pt x="1675" y="1161"/>
                    </a:lnTo>
                    <a:lnTo>
                      <a:pt x="1688" y="1121"/>
                    </a:lnTo>
                    <a:lnTo>
                      <a:pt x="1700" y="1080"/>
                    </a:lnTo>
                    <a:lnTo>
                      <a:pt x="1710" y="1038"/>
                    </a:lnTo>
                    <a:lnTo>
                      <a:pt x="1717" y="995"/>
                    </a:lnTo>
                    <a:lnTo>
                      <a:pt x="1723" y="952"/>
                    </a:lnTo>
                    <a:lnTo>
                      <a:pt x="1725" y="909"/>
                    </a:lnTo>
                    <a:lnTo>
                      <a:pt x="1726" y="864"/>
                    </a:lnTo>
                    <a:close/>
                    <a:moveTo>
                      <a:pt x="1480" y="864"/>
                    </a:moveTo>
                    <a:lnTo>
                      <a:pt x="1479" y="895"/>
                    </a:lnTo>
                    <a:lnTo>
                      <a:pt x="1477" y="927"/>
                    </a:lnTo>
                    <a:lnTo>
                      <a:pt x="1473" y="958"/>
                    </a:lnTo>
                    <a:lnTo>
                      <a:pt x="1467" y="988"/>
                    </a:lnTo>
                    <a:lnTo>
                      <a:pt x="1461" y="1018"/>
                    </a:lnTo>
                    <a:lnTo>
                      <a:pt x="1453" y="1048"/>
                    </a:lnTo>
                    <a:lnTo>
                      <a:pt x="1442" y="1077"/>
                    </a:lnTo>
                    <a:lnTo>
                      <a:pt x="1431" y="1104"/>
                    </a:lnTo>
                    <a:lnTo>
                      <a:pt x="1419" y="1132"/>
                    </a:lnTo>
                    <a:lnTo>
                      <a:pt x="1406" y="1158"/>
                    </a:lnTo>
                    <a:lnTo>
                      <a:pt x="1390" y="1183"/>
                    </a:lnTo>
                    <a:lnTo>
                      <a:pt x="1375" y="1209"/>
                    </a:lnTo>
                    <a:lnTo>
                      <a:pt x="1358" y="1233"/>
                    </a:lnTo>
                    <a:lnTo>
                      <a:pt x="1339" y="1257"/>
                    </a:lnTo>
                    <a:lnTo>
                      <a:pt x="1320" y="1278"/>
                    </a:lnTo>
                    <a:lnTo>
                      <a:pt x="1299" y="1300"/>
                    </a:lnTo>
                    <a:lnTo>
                      <a:pt x="1278" y="1320"/>
                    </a:lnTo>
                    <a:lnTo>
                      <a:pt x="1256" y="1339"/>
                    </a:lnTo>
                    <a:lnTo>
                      <a:pt x="1232" y="1359"/>
                    </a:lnTo>
                    <a:lnTo>
                      <a:pt x="1208" y="1375"/>
                    </a:lnTo>
                    <a:lnTo>
                      <a:pt x="1183" y="1391"/>
                    </a:lnTo>
                    <a:lnTo>
                      <a:pt x="1158" y="1406"/>
                    </a:lnTo>
                    <a:lnTo>
                      <a:pt x="1131" y="1420"/>
                    </a:lnTo>
                    <a:lnTo>
                      <a:pt x="1104" y="1432"/>
                    </a:lnTo>
                    <a:lnTo>
                      <a:pt x="1075" y="1444"/>
                    </a:lnTo>
                    <a:lnTo>
                      <a:pt x="1047" y="1453"/>
                    </a:lnTo>
                    <a:lnTo>
                      <a:pt x="1017" y="1462"/>
                    </a:lnTo>
                    <a:lnTo>
                      <a:pt x="987" y="1468"/>
                    </a:lnTo>
                    <a:lnTo>
                      <a:pt x="957" y="1474"/>
                    </a:lnTo>
                    <a:lnTo>
                      <a:pt x="926" y="1477"/>
                    </a:lnTo>
                    <a:lnTo>
                      <a:pt x="895" y="1480"/>
                    </a:lnTo>
                    <a:lnTo>
                      <a:pt x="864" y="1481"/>
                    </a:lnTo>
                    <a:lnTo>
                      <a:pt x="831" y="1480"/>
                    </a:lnTo>
                    <a:lnTo>
                      <a:pt x="800" y="1477"/>
                    </a:lnTo>
                    <a:lnTo>
                      <a:pt x="770" y="1474"/>
                    </a:lnTo>
                    <a:lnTo>
                      <a:pt x="739" y="1468"/>
                    </a:lnTo>
                    <a:lnTo>
                      <a:pt x="709" y="1462"/>
                    </a:lnTo>
                    <a:lnTo>
                      <a:pt x="680" y="1453"/>
                    </a:lnTo>
                    <a:lnTo>
                      <a:pt x="651" y="1444"/>
                    </a:lnTo>
                    <a:lnTo>
                      <a:pt x="624" y="1432"/>
                    </a:lnTo>
                    <a:lnTo>
                      <a:pt x="596" y="1420"/>
                    </a:lnTo>
                    <a:lnTo>
                      <a:pt x="570" y="1406"/>
                    </a:lnTo>
                    <a:lnTo>
                      <a:pt x="543" y="1391"/>
                    </a:lnTo>
                    <a:lnTo>
                      <a:pt x="518" y="1375"/>
                    </a:lnTo>
                    <a:lnTo>
                      <a:pt x="494" y="1359"/>
                    </a:lnTo>
                    <a:lnTo>
                      <a:pt x="471" y="1339"/>
                    </a:lnTo>
                    <a:lnTo>
                      <a:pt x="448" y="1320"/>
                    </a:lnTo>
                    <a:lnTo>
                      <a:pt x="427" y="1300"/>
                    </a:lnTo>
                    <a:lnTo>
                      <a:pt x="406" y="1278"/>
                    </a:lnTo>
                    <a:lnTo>
                      <a:pt x="387" y="1257"/>
                    </a:lnTo>
                    <a:lnTo>
                      <a:pt x="369" y="1233"/>
                    </a:lnTo>
                    <a:lnTo>
                      <a:pt x="352" y="1209"/>
                    </a:lnTo>
                    <a:lnTo>
                      <a:pt x="336" y="1183"/>
                    </a:lnTo>
                    <a:lnTo>
                      <a:pt x="321" y="1158"/>
                    </a:lnTo>
                    <a:lnTo>
                      <a:pt x="308" y="1132"/>
                    </a:lnTo>
                    <a:lnTo>
                      <a:pt x="295" y="1104"/>
                    </a:lnTo>
                    <a:lnTo>
                      <a:pt x="284" y="1077"/>
                    </a:lnTo>
                    <a:lnTo>
                      <a:pt x="274" y="1048"/>
                    </a:lnTo>
                    <a:lnTo>
                      <a:pt x="266" y="1018"/>
                    </a:lnTo>
                    <a:lnTo>
                      <a:pt x="259" y="988"/>
                    </a:lnTo>
                    <a:lnTo>
                      <a:pt x="254" y="958"/>
                    </a:lnTo>
                    <a:lnTo>
                      <a:pt x="250" y="927"/>
                    </a:lnTo>
                    <a:lnTo>
                      <a:pt x="248" y="895"/>
                    </a:lnTo>
                    <a:lnTo>
                      <a:pt x="247" y="864"/>
                    </a:lnTo>
                    <a:lnTo>
                      <a:pt x="248" y="832"/>
                    </a:lnTo>
                    <a:lnTo>
                      <a:pt x="250" y="801"/>
                    </a:lnTo>
                    <a:lnTo>
                      <a:pt x="254" y="771"/>
                    </a:lnTo>
                    <a:lnTo>
                      <a:pt x="259" y="739"/>
                    </a:lnTo>
                    <a:lnTo>
                      <a:pt x="266" y="709"/>
                    </a:lnTo>
                    <a:lnTo>
                      <a:pt x="274" y="681"/>
                    </a:lnTo>
                    <a:lnTo>
                      <a:pt x="284" y="652"/>
                    </a:lnTo>
                    <a:lnTo>
                      <a:pt x="295" y="624"/>
                    </a:lnTo>
                    <a:lnTo>
                      <a:pt x="308" y="597"/>
                    </a:lnTo>
                    <a:lnTo>
                      <a:pt x="321" y="570"/>
                    </a:lnTo>
                    <a:lnTo>
                      <a:pt x="336" y="544"/>
                    </a:lnTo>
                    <a:lnTo>
                      <a:pt x="352" y="520"/>
                    </a:lnTo>
                    <a:lnTo>
                      <a:pt x="369" y="495"/>
                    </a:lnTo>
                    <a:lnTo>
                      <a:pt x="387" y="472"/>
                    </a:lnTo>
                    <a:lnTo>
                      <a:pt x="406" y="449"/>
                    </a:lnTo>
                    <a:lnTo>
                      <a:pt x="427" y="429"/>
                    </a:lnTo>
                    <a:lnTo>
                      <a:pt x="448" y="408"/>
                    </a:lnTo>
                    <a:lnTo>
                      <a:pt x="471" y="388"/>
                    </a:lnTo>
                    <a:lnTo>
                      <a:pt x="494" y="370"/>
                    </a:lnTo>
                    <a:lnTo>
                      <a:pt x="518" y="353"/>
                    </a:lnTo>
                    <a:lnTo>
                      <a:pt x="543" y="336"/>
                    </a:lnTo>
                    <a:lnTo>
                      <a:pt x="570" y="322"/>
                    </a:lnTo>
                    <a:lnTo>
                      <a:pt x="596" y="309"/>
                    </a:lnTo>
                    <a:lnTo>
                      <a:pt x="624" y="296"/>
                    </a:lnTo>
                    <a:lnTo>
                      <a:pt x="651" y="285"/>
                    </a:lnTo>
                    <a:lnTo>
                      <a:pt x="680" y="275"/>
                    </a:lnTo>
                    <a:lnTo>
                      <a:pt x="709" y="267"/>
                    </a:lnTo>
                    <a:lnTo>
                      <a:pt x="739" y="260"/>
                    </a:lnTo>
                    <a:lnTo>
                      <a:pt x="770" y="255"/>
                    </a:lnTo>
                    <a:lnTo>
                      <a:pt x="800" y="251"/>
                    </a:lnTo>
                    <a:lnTo>
                      <a:pt x="831" y="249"/>
                    </a:lnTo>
                    <a:lnTo>
                      <a:pt x="864" y="248"/>
                    </a:lnTo>
                    <a:lnTo>
                      <a:pt x="895" y="249"/>
                    </a:lnTo>
                    <a:lnTo>
                      <a:pt x="926" y="251"/>
                    </a:lnTo>
                    <a:lnTo>
                      <a:pt x="957" y="255"/>
                    </a:lnTo>
                    <a:lnTo>
                      <a:pt x="987" y="260"/>
                    </a:lnTo>
                    <a:lnTo>
                      <a:pt x="1017" y="267"/>
                    </a:lnTo>
                    <a:lnTo>
                      <a:pt x="1047" y="275"/>
                    </a:lnTo>
                    <a:lnTo>
                      <a:pt x="1075" y="285"/>
                    </a:lnTo>
                    <a:lnTo>
                      <a:pt x="1104" y="296"/>
                    </a:lnTo>
                    <a:lnTo>
                      <a:pt x="1131" y="309"/>
                    </a:lnTo>
                    <a:lnTo>
                      <a:pt x="1158" y="322"/>
                    </a:lnTo>
                    <a:lnTo>
                      <a:pt x="1183" y="336"/>
                    </a:lnTo>
                    <a:lnTo>
                      <a:pt x="1208" y="353"/>
                    </a:lnTo>
                    <a:lnTo>
                      <a:pt x="1232" y="370"/>
                    </a:lnTo>
                    <a:lnTo>
                      <a:pt x="1256" y="388"/>
                    </a:lnTo>
                    <a:lnTo>
                      <a:pt x="1278" y="408"/>
                    </a:lnTo>
                    <a:lnTo>
                      <a:pt x="1299" y="429"/>
                    </a:lnTo>
                    <a:lnTo>
                      <a:pt x="1320" y="449"/>
                    </a:lnTo>
                    <a:lnTo>
                      <a:pt x="1339" y="472"/>
                    </a:lnTo>
                    <a:lnTo>
                      <a:pt x="1358" y="495"/>
                    </a:lnTo>
                    <a:lnTo>
                      <a:pt x="1375" y="520"/>
                    </a:lnTo>
                    <a:lnTo>
                      <a:pt x="1390" y="544"/>
                    </a:lnTo>
                    <a:lnTo>
                      <a:pt x="1406" y="570"/>
                    </a:lnTo>
                    <a:lnTo>
                      <a:pt x="1419" y="597"/>
                    </a:lnTo>
                    <a:lnTo>
                      <a:pt x="1431" y="624"/>
                    </a:lnTo>
                    <a:lnTo>
                      <a:pt x="1442" y="652"/>
                    </a:lnTo>
                    <a:lnTo>
                      <a:pt x="1453" y="681"/>
                    </a:lnTo>
                    <a:lnTo>
                      <a:pt x="1461" y="709"/>
                    </a:lnTo>
                    <a:lnTo>
                      <a:pt x="1467" y="739"/>
                    </a:lnTo>
                    <a:lnTo>
                      <a:pt x="1473" y="771"/>
                    </a:lnTo>
                    <a:lnTo>
                      <a:pt x="1477" y="801"/>
                    </a:lnTo>
                    <a:lnTo>
                      <a:pt x="1479" y="832"/>
                    </a:lnTo>
                    <a:lnTo>
                      <a:pt x="1480" y="864"/>
                    </a:lnTo>
                    <a:close/>
                  </a:path>
                </a:pathLst>
              </a:custGeom>
              <a:solidFill>
                <a:srgbClr val="fef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11680" y="4232160"/>
                <a:ext cx="587520" cy="587520"/>
              </a:xfrm>
              <a:custGeom>
                <a:avLst/>
                <a:gdLst/>
                <a:ahLst/>
                <a:rect l="l" t="t" r="r" b="b"/>
                <a:pathLst>
                  <a:path w="1480" h="1480">
                    <a:moveTo>
                      <a:pt x="1480" y="740"/>
                    </a:moveTo>
                    <a:lnTo>
                      <a:pt x="1480" y="702"/>
                    </a:lnTo>
                    <a:lnTo>
                      <a:pt x="1476" y="665"/>
                    </a:lnTo>
                    <a:lnTo>
                      <a:pt x="1471" y="627"/>
                    </a:lnTo>
                    <a:lnTo>
                      <a:pt x="1465" y="591"/>
                    </a:lnTo>
                    <a:lnTo>
                      <a:pt x="1457" y="555"/>
                    </a:lnTo>
                    <a:lnTo>
                      <a:pt x="1447" y="521"/>
                    </a:lnTo>
                    <a:lnTo>
                      <a:pt x="1435" y="486"/>
                    </a:lnTo>
                    <a:lnTo>
                      <a:pt x="1422" y="452"/>
                    </a:lnTo>
                    <a:lnTo>
                      <a:pt x="1408" y="420"/>
                    </a:lnTo>
                    <a:lnTo>
                      <a:pt x="1391" y="388"/>
                    </a:lnTo>
                    <a:lnTo>
                      <a:pt x="1373" y="356"/>
                    </a:lnTo>
                    <a:lnTo>
                      <a:pt x="1354" y="326"/>
                    </a:lnTo>
                    <a:lnTo>
                      <a:pt x="1333" y="298"/>
                    </a:lnTo>
                    <a:lnTo>
                      <a:pt x="1312" y="270"/>
                    </a:lnTo>
                    <a:lnTo>
                      <a:pt x="1288" y="242"/>
                    </a:lnTo>
                    <a:lnTo>
                      <a:pt x="1264" y="217"/>
                    </a:lnTo>
                    <a:lnTo>
                      <a:pt x="1237" y="192"/>
                    </a:lnTo>
                    <a:lnTo>
                      <a:pt x="1211" y="169"/>
                    </a:lnTo>
                    <a:lnTo>
                      <a:pt x="1183" y="148"/>
                    </a:lnTo>
                    <a:lnTo>
                      <a:pt x="1155" y="127"/>
                    </a:lnTo>
                    <a:lnTo>
                      <a:pt x="1125" y="108"/>
                    </a:lnTo>
                    <a:lnTo>
                      <a:pt x="1093" y="90"/>
                    </a:lnTo>
                    <a:lnTo>
                      <a:pt x="1061" y="73"/>
                    </a:lnTo>
                    <a:lnTo>
                      <a:pt x="1029" y="59"/>
                    </a:lnTo>
                    <a:lnTo>
                      <a:pt x="995" y="46"/>
                    </a:lnTo>
                    <a:lnTo>
                      <a:pt x="960" y="34"/>
                    </a:lnTo>
                    <a:lnTo>
                      <a:pt x="925" y="24"/>
                    </a:lnTo>
                    <a:lnTo>
                      <a:pt x="889" y="16"/>
                    </a:lnTo>
                    <a:lnTo>
                      <a:pt x="853" y="8"/>
                    </a:lnTo>
                    <a:lnTo>
                      <a:pt x="816" y="4"/>
                    </a:lnTo>
                    <a:lnTo>
                      <a:pt x="779" y="1"/>
                    </a:lnTo>
                    <a:lnTo>
                      <a:pt x="741" y="0"/>
                    </a:lnTo>
                    <a:lnTo>
                      <a:pt x="706" y="1"/>
                    </a:lnTo>
                    <a:lnTo>
                      <a:pt x="671" y="4"/>
                    </a:lnTo>
                    <a:lnTo>
                      <a:pt x="637" y="7"/>
                    </a:lnTo>
                    <a:lnTo>
                      <a:pt x="605" y="13"/>
                    </a:lnTo>
                    <a:lnTo>
                      <a:pt x="571" y="19"/>
                    </a:lnTo>
                    <a:lnTo>
                      <a:pt x="540" y="28"/>
                    </a:lnTo>
                    <a:lnTo>
                      <a:pt x="508" y="37"/>
                    </a:lnTo>
                    <a:lnTo>
                      <a:pt x="477" y="48"/>
                    </a:lnTo>
                    <a:lnTo>
                      <a:pt x="472" y="56"/>
                    </a:lnTo>
                    <a:lnTo>
                      <a:pt x="467" y="64"/>
                    </a:lnTo>
                    <a:lnTo>
                      <a:pt x="462" y="71"/>
                    </a:lnTo>
                    <a:lnTo>
                      <a:pt x="457" y="78"/>
                    </a:lnTo>
                    <a:lnTo>
                      <a:pt x="453" y="85"/>
                    </a:lnTo>
                    <a:lnTo>
                      <a:pt x="447" y="94"/>
                    </a:lnTo>
                    <a:lnTo>
                      <a:pt x="442" y="101"/>
                    </a:lnTo>
                    <a:lnTo>
                      <a:pt x="437" y="108"/>
                    </a:lnTo>
                    <a:lnTo>
                      <a:pt x="430" y="115"/>
                    </a:lnTo>
                    <a:lnTo>
                      <a:pt x="411" y="138"/>
                    </a:lnTo>
                    <a:lnTo>
                      <a:pt x="378" y="175"/>
                    </a:lnTo>
                    <a:lnTo>
                      <a:pt x="333" y="227"/>
                    </a:lnTo>
                    <a:lnTo>
                      <a:pt x="274" y="293"/>
                    </a:lnTo>
                    <a:lnTo>
                      <a:pt x="202" y="373"/>
                    </a:lnTo>
                    <a:lnTo>
                      <a:pt x="117" y="469"/>
                    </a:lnTo>
                    <a:lnTo>
                      <a:pt x="18" y="578"/>
                    </a:lnTo>
                    <a:lnTo>
                      <a:pt x="13" y="599"/>
                    </a:lnTo>
                    <a:lnTo>
                      <a:pt x="11" y="618"/>
                    </a:lnTo>
                    <a:lnTo>
                      <a:pt x="7" y="638"/>
                    </a:lnTo>
                    <a:lnTo>
                      <a:pt x="5" y="659"/>
                    </a:lnTo>
                    <a:lnTo>
                      <a:pt x="3" y="678"/>
                    </a:lnTo>
                    <a:lnTo>
                      <a:pt x="1" y="698"/>
                    </a:lnTo>
                    <a:lnTo>
                      <a:pt x="0" y="720"/>
                    </a:lnTo>
                    <a:lnTo>
                      <a:pt x="0" y="740"/>
                    </a:lnTo>
                    <a:lnTo>
                      <a:pt x="1" y="779"/>
                    </a:lnTo>
                    <a:lnTo>
                      <a:pt x="4" y="816"/>
                    </a:lnTo>
                    <a:lnTo>
                      <a:pt x="9" y="853"/>
                    </a:lnTo>
                    <a:lnTo>
                      <a:pt x="16" y="889"/>
                    </a:lnTo>
                    <a:lnTo>
                      <a:pt x="24" y="925"/>
                    </a:lnTo>
                    <a:lnTo>
                      <a:pt x="34" y="960"/>
                    </a:lnTo>
                    <a:lnTo>
                      <a:pt x="46" y="995"/>
                    </a:lnTo>
                    <a:lnTo>
                      <a:pt x="59" y="1028"/>
                    </a:lnTo>
                    <a:lnTo>
                      <a:pt x="73" y="1061"/>
                    </a:lnTo>
                    <a:lnTo>
                      <a:pt x="90" y="1093"/>
                    </a:lnTo>
                    <a:lnTo>
                      <a:pt x="107" y="1124"/>
                    </a:lnTo>
                    <a:lnTo>
                      <a:pt x="126" y="1154"/>
                    </a:lnTo>
                    <a:lnTo>
                      <a:pt x="148" y="1183"/>
                    </a:lnTo>
                    <a:lnTo>
                      <a:pt x="169" y="1211"/>
                    </a:lnTo>
                    <a:lnTo>
                      <a:pt x="192" y="1238"/>
                    </a:lnTo>
                    <a:lnTo>
                      <a:pt x="217" y="1263"/>
                    </a:lnTo>
                    <a:lnTo>
                      <a:pt x="243" y="1287"/>
                    </a:lnTo>
                    <a:lnTo>
                      <a:pt x="270" y="1311"/>
                    </a:lnTo>
                    <a:lnTo>
                      <a:pt x="298" y="1333"/>
                    </a:lnTo>
                    <a:lnTo>
                      <a:pt x="327" y="1353"/>
                    </a:lnTo>
                    <a:lnTo>
                      <a:pt x="357" y="1372"/>
                    </a:lnTo>
                    <a:lnTo>
                      <a:pt x="388" y="1390"/>
                    </a:lnTo>
                    <a:lnTo>
                      <a:pt x="419" y="1407"/>
                    </a:lnTo>
                    <a:lnTo>
                      <a:pt x="453" y="1422"/>
                    </a:lnTo>
                    <a:lnTo>
                      <a:pt x="486" y="1435"/>
                    </a:lnTo>
                    <a:lnTo>
                      <a:pt x="520" y="1447"/>
                    </a:lnTo>
                    <a:lnTo>
                      <a:pt x="556" y="1456"/>
                    </a:lnTo>
                    <a:lnTo>
                      <a:pt x="592" y="1465"/>
                    </a:lnTo>
                    <a:lnTo>
                      <a:pt x="628" y="1471"/>
                    </a:lnTo>
                    <a:lnTo>
                      <a:pt x="665" y="1476"/>
                    </a:lnTo>
                    <a:lnTo>
                      <a:pt x="702" y="1479"/>
                    </a:lnTo>
                    <a:lnTo>
                      <a:pt x="741" y="1480"/>
                    </a:lnTo>
                    <a:lnTo>
                      <a:pt x="779" y="1479"/>
                    </a:lnTo>
                    <a:lnTo>
                      <a:pt x="816" y="1476"/>
                    </a:lnTo>
                    <a:lnTo>
                      <a:pt x="853" y="1471"/>
                    </a:lnTo>
                    <a:lnTo>
                      <a:pt x="889" y="1465"/>
                    </a:lnTo>
                    <a:lnTo>
                      <a:pt x="925" y="1456"/>
                    </a:lnTo>
                    <a:lnTo>
                      <a:pt x="960" y="1447"/>
                    </a:lnTo>
                    <a:lnTo>
                      <a:pt x="995" y="1435"/>
                    </a:lnTo>
                    <a:lnTo>
                      <a:pt x="1029" y="1422"/>
                    </a:lnTo>
                    <a:lnTo>
                      <a:pt x="1061" y="1407"/>
                    </a:lnTo>
                    <a:lnTo>
                      <a:pt x="1093" y="1390"/>
                    </a:lnTo>
                    <a:lnTo>
                      <a:pt x="1125" y="1372"/>
                    </a:lnTo>
                    <a:lnTo>
                      <a:pt x="1155" y="1353"/>
                    </a:lnTo>
                    <a:lnTo>
                      <a:pt x="1183" y="1333"/>
                    </a:lnTo>
                    <a:lnTo>
                      <a:pt x="1211" y="1311"/>
                    </a:lnTo>
                    <a:lnTo>
                      <a:pt x="1237" y="1287"/>
                    </a:lnTo>
                    <a:lnTo>
                      <a:pt x="1264" y="1263"/>
                    </a:lnTo>
                    <a:lnTo>
                      <a:pt x="1288" y="1238"/>
                    </a:lnTo>
                    <a:lnTo>
                      <a:pt x="1312" y="1211"/>
                    </a:lnTo>
                    <a:lnTo>
                      <a:pt x="1333" y="1183"/>
                    </a:lnTo>
                    <a:lnTo>
                      <a:pt x="1354" y="1154"/>
                    </a:lnTo>
                    <a:lnTo>
                      <a:pt x="1373" y="1124"/>
                    </a:lnTo>
                    <a:lnTo>
                      <a:pt x="1391" y="1093"/>
                    </a:lnTo>
                    <a:lnTo>
                      <a:pt x="1408" y="1061"/>
                    </a:lnTo>
                    <a:lnTo>
                      <a:pt x="1422" y="1028"/>
                    </a:lnTo>
                    <a:lnTo>
                      <a:pt x="1435" y="995"/>
                    </a:lnTo>
                    <a:lnTo>
                      <a:pt x="1447" y="960"/>
                    </a:lnTo>
                    <a:lnTo>
                      <a:pt x="1457" y="925"/>
                    </a:lnTo>
                    <a:lnTo>
                      <a:pt x="1465" y="889"/>
                    </a:lnTo>
                    <a:lnTo>
                      <a:pt x="1471" y="853"/>
                    </a:lnTo>
                    <a:lnTo>
                      <a:pt x="1476" y="816"/>
                    </a:lnTo>
                    <a:lnTo>
                      <a:pt x="1480" y="779"/>
                    </a:lnTo>
                    <a:lnTo>
                      <a:pt x="1480" y="740"/>
                    </a:lnTo>
                    <a:close/>
                    <a:moveTo>
                      <a:pt x="1234" y="740"/>
                    </a:moveTo>
                    <a:lnTo>
                      <a:pt x="1233" y="765"/>
                    </a:lnTo>
                    <a:lnTo>
                      <a:pt x="1231" y="791"/>
                    </a:lnTo>
                    <a:lnTo>
                      <a:pt x="1228" y="816"/>
                    </a:lnTo>
                    <a:lnTo>
                      <a:pt x="1224" y="840"/>
                    </a:lnTo>
                    <a:lnTo>
                      <a:pt x="1218" y="864"/>
                    </a:lnTo>
                    <a:lnTo>
                      <a:pt x="1211" y="887"/>
                    </a:lnTo>
                    <a:lnTo>
                      <a:pt x="1204" y="909"/>
                    </a:lnTo>
                    <a:lnTo>
                      <a:pt x="1195" y="932"/>
                    </a:lnTo>
                    <a:lnTo>
                      <a:pt x="1185" y="954"/>
                    </a:lnTo>
                    <a:lnTo>
                      <a:pt x="1174" y="975"/>
                    </a:lnTo>
                    <a:lnTo>
                      <a:pt x="1162" y="996"/>
                    </a:lnTo>
                    <a:lnTo>
                      <a:pt x="1150" y="1016"/>
                    </a:lnTo>
                    <a:lnTo>
                      <a:pt x="1135" y="1035"/>
                    </a:lnTo>
                    <a:lnTo>
                      <a:pt x="1121" y="1053"/>
                    </a:lnTo>
                    <a:lnTo>
                      <a:pt x="1105" y="1071"/>
                    </a:lnTo>
                    <a:lnTo>
                      <a:pt x="1089" y="1089"/>
                    </a:lnTo>
                    <a:lnTo>
                      <a:pt x="1072" y="1105"/>
                    </a:lnTo>
                    <a:lnTo>
                      <a:pt x="1054" y="1121"/>
                    </a:lnTo>
                    <a:lnTo>
                      <a:pt x="1036" y="1135"/>
                    </a:lnTo>
                    <a:lnTo>
                      <a:pt x="1017" y="1149"/>
                    </a:lnTo>
                    <a:lnTo>
                      <a:pt x="996" y="1163"/>
                    </a:lnTo>
                    <a:lnTo>
                      <a:pt x="976" y="1173"/>
                    </a:lnTo>
                    <a:lnTo>
                      <a:pt x="954" y="1184"/>
                    </a:lnTo>
                    <a:lnTo>
                      <a:pt x="933" y="1195"/>
                    </a:lnTo>
                    <a:lnTo>
                      <a:pt x="910" y="1203"/>
                    </a:lnTo>
                    <a:lnTo>
                      <a:pt x="887" y="1212"/>
                    </a:lnTo>
                    <a:lnTo>
                      <a:pt x="864" y="1218"/>
                    </a:lnTo>
                    <a:lnTo>
                      <a:pt x="840" y="1224"/>
                    </a:lnTo>
                    <a:lnTo>
                      <a:pt x="815" y="1227"/>
                    </a:lnTo>
                    <a:lnTo>
                      <a:pt x="791" y="1231"/>
                    </a:lnTo>
                    <a:lnTo>
                      <a:pt x="766" y="1232"/>
                    </a:lnTo>
                    <a:lnTo>
                      <a:pt x="741" y="1233"/>
                    </a:lnTo>
                    <a:lnTo>
                      <a:pt x="715" y="1232"/>
                    </a:lnTo>
                    <a:lnTo>
                      <a:pt x="690" y="1231"/>
                    </a:lnTo>
                    <a:lnTo>
                      <a:pt x="665" y="1227"/>
                    </a:lnTo>
                    <a:lnTo>
                      <a:pt x="641" y="1224"/>
                    </a:lnTo>
                    <a:lnTo>
                      <a:pt x="617" y="1218"/>
                    </a:lnTo>
                    <a:lnTo>
                      <a:pt x="594" y="1212"/>
                    </a:lnTo>
                    <a:lnTo>
                      <a:pt x="570" y="1203"/>
                    </a:lnTo>
                    <a:lnTo>
                      <a:pt x="549" y="1195"/>
                    </a:lnTo>
                    <a:lnTo>
                      <a:pt x="527" y="1184"/>
                    </a:lnTo>
                    <a:lnTo>
                      <a:pt x="505" y="1173"/>
                    </a:lnTo>
                    <a:lnTo>
                      <a:pt x="485" y="1163"/>
                    </a:lnTo>
                    <a:lnTo>
                      <a:pt x="465" y="1149"/>
                    </a:lnTo>
                    <a:lnTo>
                      <a:pt x="445" y="1135"/>
                    </a:lnTo>
                    <a:lnTo>
                      <a:pt x="426" y="1121"/>
                    </a:lnTo>
                    <a:lnTo>
                      <a:pt x="408" y="1105"/>
                    </a:lnTo>
                    <a:lnTo>
                      <a:pt x="391" y="1089"/>
                    </a:lnTo>
                    <a:lnTo>
                      <a:pt x="375" y="1071"/>
                    </a:lnTo>
                    <a:lnTo>
                      <a:pt x="360" y="1053"/>
                    </a:lnTo>
                    <a:lnTo>
                      <a:pt x="345" y="1035"/>
                    </a:lnTo>
                    <a:lnTo>
                      <a:pt x="331" y="1016"/>
                    </a:lnTo>
                    <a:lnTo>
                      <a:pt x="318" y="996"/>
                    </a:lnTo>
                    <a:lnTo>
                      <a:pt x="306" y="975"/>
                    </a:lnTo>
                    <a:lnTo>
                      <a:pt x="295" y="954"/>
                    </a:lnTo>
                    <a:lnTo>
                      <a:pt x="286" y="932"/>
                    </a:lnTo>
                    <a:lnTo>
                      <a:pt x="277" y="909"/>
                    </a:lnTo>
                    <a:lnTo>
                      <a:pt x="269" y="887"/>
                    </a:lnTo>
                    <a:lnTo>
                      <a:pt x="263" y="864"/>
                    </a:lnTo>
                    <a:lnTo>
                      <a:pt x="257" y="840"/>
                    </a:lnTo>
                    <a:lnTo>
                      <a:pt x="252" y="816"/>
                    </a:lnTo>
                    <a:lnTo>
                      <a:pt x="250" y="791"/>
                    </a:lnTo>
                    <a:lnTo>
                      <a:pt x="247" y="765"/>
                    </a:lnTo>
                    <a:lnTo>
                      <a:pt x="247" y="740"/>
                    </a:lnTo>
                    <a:lnTo>
                      <a:pt x="247" y="715"/>
                    </a:lnTo>
                    <a:lnTo>
                      <a:pt x="250" y="690"/>
                    </a:lnTo>
                    <a:lnTo>
                      <a:pt x="252" y="665"/>
                    </a:lnTo>
                    <a:lnTo>
                      <a:pt x="257" y="641"/>
                    </a:lnTo>
                    <a:lnTo>
                      <a:pt x="263" y="617"/>
                    </a:lnTo>
                    <a:lnTo>
                      <a:pt x="269" y="594"/>
                    </a:lnTo>
                    <a:lnTo>
                      <a:pt x="277" y="571"/>
                    </a:lnTo>
                    <a:lnTo>
                      <a:pt x="286" y="548"/>
                    </a:lnTo>
                    <a:lnTo>
                      <a:pt x="295" y="527"/>
                    </a:lnTo>
                    <a:lnTo>
                      <a:pt x="306" y="505"/>
                    </a:lnTo>
                    <a:lnTo>
                      <a:pt x="318" y="485"/>
                    </a:lnTo>
                    <a:lnTo>
                      <a:pt x="331" y="464"/>
                    </a:lnTo>
                    <a:lnTo>
                      <a:pt x="345" y="445"/>
                    </a:lnTo>
                    <a:lnTo>
                      <a:pt x="360" y="426"/>
                    </a:lnTo>
                    <a:lnTo>
                      <a:pt x="375" y="408"/>
                    </a:lnTo>
                    <a:lnTo>
                      <a:pt x="391" y="391"/>
                    </a:lnTo>
                    <a:lnTo>
                      <a:pt x="408" y="376"/>
                    </a:lnTo>
                    <a:lnTo>
                      <a:pt x="426" y="360"/>
                    </a:lnTo>
                    <a:lnTo>
                      <a:pt x="445" y="344"/>
                    </a:lnTo>
                    <a:lnTo>
                      <a:pt x="465" y="331"/>
                    </a:lnTo>
                    <a:lnTo>
                      <a:pt x="485" y="318"/>
                    </a:lnTo>
                    <a:lnTo>
                      <a:pt x="505" y="306"/>
                    </a:lnTo>
                    <a:lnTo>
                      <a:pt x="527" y="295"/>
                    </a:lnTo>
                    <a:lnTo>
                      <a:pt x="549" y="286"/>
                    </a:lnTo>
                    <a:lnTo>
                      <a:pt x="570" y="277"/>
                    </a:lnTo>
                    <a:lnTo>
                      <a:pt x="594" y="269"/>
                    </a:lnTo>
                    <a:lnTo>
                      <a:pt x="617" y="263"/>
                    </a:lnTo>
                    <a:lnTo>
                      <a:pt x="641" y="257"/>
                    </a:lnTo>
                    <a:lnTo>
                      <a:pt x="665" y="253"/>
                    </a:lnTo>
                    <a:lnTo>
                      <a:pt x="690" y="250"/>
                    </a:lnTo>
                    <a:lnTo>
                      <a:pt x="715" y="247"/>
                    </a:lnTo>
                    <a:lnTo>
                      <a:pt x="741" y="247"/>
                    </a:lnTo>
                    <a:lnTo>
                      <a:pt x="766" y="247"/>
                    </a:lnTo>
                    <a:lnTo>
                      <a:pt x="791" y="250"/>
                    </a:lnTo>
                    <a:lnTo>
                      <a:pt x="815" y="253"/>
                    </a:lnTo>
                    <a:lnTo>
                      <a:pt x="840" y="257"/>
                    </a:lnTo>
                    <a:lnTo>
                      <a:pt x="864" y="263"/>
                    </a:lnTo>
                    <a:lnTo>
                      <a:pt x="887" y="269"/>
                    </a:lnTo>
                    <a:lnTo>
                      <a:pt x="910" y="277"/>
                    </a:lnTo>
                    <a:lnTo>
                      <a:pt x="933" y="286"/>
                    </a:lnTo>
                    <a:lnTo>
                      <a:pt x="954" y="295"/>
                    </a:lnTo>
                    <a:lnTo>
                      <a:pt x="976" y="306"/>
                    </a:lnTo>
                    <a:lnTo>
                      <a:pt x="996" y="318"/>
                    </a:lnTo>
                    <a:lnTo>
                      <a:pt x="1017" y="331"/>
                    </a:lnTo>
                    <a:lnTo>
                      <a:pt x="1036" y="344"/>
                    </a:lnTo>
                    <a:lnTo>
                      <a:pt x="1054" y="360"/>
                    </a:lnTo>
                    <a:lnTo>
                      <a:pt x="1072" y="376"/>
                    </a:lnTo>
                    <a:lnTo>
                      <a:pt x="1089" y="391"/>
                    </a:lnTo>
                    <a:lnTo>
                      <a:pt x="1105" y="408"/>
                    </a:lnTo>
                    <a:lnTo>
                      <a:pt x="1121" y="426"/>
                    </a:lnTo>
                    <a:lnTo>
                      <a:pt x="1135" y="445"/>
                    </a:lnTo>
                    <a:lnTo>
                      <a:pt x="1150" y="464"/>
                    </a:lnTo>
                    <a:lnTo>
                      <a:pt x="1162" y="485"/>
                    </a:lnTo>
                    <a:lnTo>
                      <a:pt x="1174" y="505"/>
                    </a:lnTo>
                    <a:lnTo>
                      <a:pt x="1185" y="527"/>
                    </a:lnTo>
                    <a:lnTo>
                      <a:pt x="1195" y="548"/>
                    </a:lnTo>
                    <a:lnTo>
                      <a:pt x="1204" y="571"/>
                    </a:lnTo>
                    <a:lnTo>
                      <a:pt x="1211" y="594"/>
                    </a:lnTo>
                    <a:lnTo>
                      <a:pt x="1218" y="617"/>
                    </a:lnTo>
                    <a:lnTo>
                      <a:pt x="1224" y="641"/>
                    </a:lnTo>
                    <a:lnTo>
                      <a:pt x="1228" y="665"/>
                    </a:lnTo>
                    <a:lnTo>
                      <a:pt x="1231" y="690"/>
                    </a:lnTo>
                    <a:lnTo>
                      <a:pt x="1233" y="715"/>
                    </a:lnTo>
                    <a:lnTo>
                      <a:pt x="1234" y="740"/>
                    </a:lnTo>
                    <a:close/>
                  </a:path>
                </a:pathLst>
              </a:custGeom>
              <a:solidFill>
                <a:srgbClr val="fef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61000" y="4280040"/>
                <a:ext cx="488880" cy="490320"/>
              </a:xfrm>
              <a:custGeom>
                <a:avLst/>
                <a:gdLst/>
                <a:ahLst/>
                <a:rect l="l" t="t" r="r" b="b"/>
                <a:pathLst>
                  <a:path w="1233" h="1233">
                    <a:moveTo>
                      <a:pt x="1233" y="616"/>
                    </a:moveTo>
                    <a:lnTo>
                      <a:pt x="1232" y="584"/>
                    </a:lnTo>
                    <a:lnTo>
                      <a:pt x="1230" y="553"/>
                    </a:lnTo>
                    <a:lnTo>
                      <a:pt x="1226" y="523"/>
                    </a:lnTo>
                    <a:lnTo>
                      <a:pt x="1220" y="491"/>
                    </a:lnTo>
                    <a:lnTo>
                      <a:pt x="1214" y="461"/>
                    </a:lnTo>
                    <a:lnTo>
                      <a:pt x="1206" y="433"/>
                    </a:lnTo>
                    <a:lnTo>
                      <a:pt x="1196" y="404"/>
                    </a:lnTo>
                    <a:lnTo>
                      <a:pt x="1184" y="376"/>
                    </a:lnTo>
                    <a:lnTo>
                      <a:pt x="1172" y="349"/>
                    </a:lnTo>
                    <a:lnTo>
                      <a:pt x="1159" y="322"/>
                    </a:lnTo>
                    <a:lnTo>
                      <a:pt x="1143" y="296"/>
                    </a:lnTo>
                    <a:lnTo>
                      <a:pt x="1128" y="272"/>
                    </a:lnTo>
                    <a:lnTo>
                      <a:pt x="1111" y="247"/>
                    </a:lnTo>
                    <a:lnTo>
                      <a:pt x="1092" y="224"/>
                    </a:lnTo>
                    <a:lnTo>
                      <a:pt x="1073" y="201"/>
                    </a:lnTo>
                    <a:lnTo>
                      <a:pt x="1052" y="181"/>
                    </a:lnTo>
                    <a:lnTo>
                      <a:pt x="1031" y="160"/>
                    </a:lnTo>
                    <a:lnTo>
                      <a:pt x="1009" y="140"/>
                    </a:lnTo>
                    <a:lnTo>
                      <a:pt x="985" y="122"/>
                    </a:lnTo>
                    <a:lnTo>
                      <a:pt x="961" y="105"/>
                    </a:lnTo>
                    <a:lnTo>
                      <a:pt x="936" y="88"/>
                    </a:lnTo>
                    <a:lnTo>
                      <a:pt x="911" y="74"/>
                    </a:lnTo>
                    <a:lnTo>
                      <a:pt x="884" y="61"/>
                    </a:lnTo>
                    <a:lnTo>
                      <a:pt x="857" y="48"/>
                    </a:lnTo>
                    <a:lnTo>
                      <a:pt x="828" y="37"/>
                    </a:lnTo>
                    <a:lnTo>
                      <a:pt x="800" y="27"/>
                    </a:lnTo>
                    <a:lnTo>
                      <a:pt x="770" y="19"/>
                    </a:lnTo>
                    <a:lnTo>
                      <a:pt x="740" y="12"/>
                    </a:lnTo>
                    <a:lnTo>
                      <a:pt x="710" y="7"/>
                    </a:lnTo>
                    <a:lnTo>
                      <a:pt x="679" y="3"/>
                    </a:lnTo>
                    <a:lnTo>
                      <a:pt x="648" y="1"/>
                    </a:lnTo>
                    <a:lnTo>
                      <a:pt x="617" y="0"/>
                    </a:lnTo>
                    <a:lnTo>
                      <a:pt x="584" y="1"/>
                    </a:lnTo>
                    <a:lnTo>
                      <a:pt x="553" y="3"/>
                    </a:lnTo>
                    <a:lnTo>
                      <a:pt x="523" y="7"/>
                    </a:lnTo>
                    <a:lnTo>
                      <a:pt x="492" y="12"/>
                    </a:lnTo>
                    <a:lnTo>
                      <a:pt x="462" y="19"/>
                    </a:lnTo>
                    <a:lnTo>
                      <a:pt x="433" y="27"/>
                    </a:lnTo>
                    <a:lnTo>
                      <a:pt x="404" y="37"/>
                    </a:lnTo>
                    <a:lnTo>
                      <a:pt x="377" y="48"/>
                    </a:lnTo>
                    <a:lnTo>
                      <a:pt x="349" y="61"/>
                    </a:lnTo>
                    <a:lnTo>
                      <a:pt x="323" y="74"/>
                    </a:lnTo>
                    <a:lnTo>
                      <a:pt x="296" y="88"/>
                    </a:lnTo>
                    <a:lnTo>
                      <a:pt x="271" y="105"/>
                    </a:lnTo>
                    <a:lnTo>
                      <a:pt x="247" y="122"/>
                    </a:lnTo>
                    <a:lnTo>
                      <a:pt x="224" y="140"/>
                    </a:lnTo>
                    <a:lnTo>
                      <a:pt x="201" y="160"/>
                    </a:lnTo>
                    <a:lnTo>
                      <a:pt x="180" y="181"/>
                    </a:lnTo>
                    <a:lnTo>
                      <a:pt x="159" y="201"/>
                    </a:lnTo>
                    <a:lnTo>
                      <a:pt x="140" y="224"/>
                    </a:lnTo>
                    <a:lnTo>
                      <a:pt x="122" y="247"/>
                    </a:lnTo>
                    <a:lnTo>
                      <a:pt x="105" y="272"/>
                    </a:lnTo>
                    <a:lnTo>
                      <a:pt x="89" y="296"/>
                    </a:lnTo>
                    <a:lnTo>
                      <a:pt x="74" y="322"/>
                    </a:lnTo>
                    <a:lnTo>
                      <a:pt x="61" y="349"/>
                    </a:lnTo>
                    <a:lnTo>
                      <a:pt x="48" y="376"/>
                    </a:lnTo>
                    <a:lnTo>
                      <a:pt x="37" y="404"/>
                    </a:lnTo>
                    <a:lnTo>
                      <a:pt x="27" y="433"/>
                    </a:lnTo>
                    <a:lnTo>
                      <a:pt x="19" y="461"/>
                    </a:lnTo>
                    <a:lnTo>
                      <a:pt x="12" y="491"/>
                    </a:lnTo>
                    <a:lnTo>
                      <a:pt x="7" y="523"/>
                    </a:lnTo>
                    <a:lnTo>
                      <a:pt x="3" y="553"/>
                    </a:lnTo>
                    <a:lnTo>
                      <a:pt x="1" y="584"/>
                    </a:lnTo>
                    <a:lnTo>
                      <a:pt x="0" y="616"/>
                    </a:lnTo>
                    <a:lnTo>
                      <a:pt x="1" y="647"/>
                    </a:lnTo>
                    <a:lnTo>
                      <a:pt x="3" y="679"/>
                    </a:lnTo>
                    <a:lnTo>
                      <a:pt x="7" y="710"/>
                    </a:lnTo>
                    <a:lnTo>
                      <a:pt x="12" y="740"/>
                    </a:lnTo>
                    <a:lnTo>
                      <a:pt x="19" y="770"/>
                    </a:lnTo>
                    <a:lnTo>
                      <a:pt x="27" y="800"/>
                    </a:lnTo>
                    <a:lnTo>
                      <a:pt x="37" y="829"/>
                    </a:lnTo>
                    <a:lnTo>
                      <a:pt x="48" y="856"/>
                    </a:lnTo>
                    <a:lnTo>
                      <a:pt x="61" y="884"/>
                    </a:lnTo>
                    <a:lnTo>
                      <a:pt x="74" y="910"/>
                    </a:lnTo>
                    <a:lnTo>
                      <a:pt x="89" y="935"/>
                    </a:lnTo>
                    <a:lnTo>
                      <a:pt x="105" y="961"/>
                    </a:lnTo>
                    <a:lnTo>
                      <a:pt x="122" y="985"/>
                    </a:lnTo>
                    <a:lnTo>
                      <a:pt x="140" y="1009"/>
                    </a:lnTo>
                    <a:lnTo>
                      <a:pt x="159" y="1030"/>
                    </a:lnTo>
                    <a:lnTo>
                      <a:pt x="180" y="1052"/>
                    </a:lnTo>
                    <a:lnTo>
                      <a:pt x="201" y="1072"/>
                    </a:lnTo>
                    <a:lnTo>
                      <a:pt x="224" y="1091"/>
                    </a:lnTo>
                    <a:lnTo>
                      <a:pt x="247" y="1111"/>
                    </a:lnTo>
                    <a:lnTo>
                      <a:pt x="271" y="1127"/>
                    </a:lnTo>
                    <a:lnTo>
                      <a:pt x="296" y="1143"/>
                    </a:lnTo>
                    <a:lnTo>
                      <a:pt x="323" y="1158"/>
                    </a:lnTo>
                    <a:lnTo>
                      <a:pt x="349" y="1172"/>
                    </a:lnTo>
                    <a:lnTo>
                      <a:pt x="377" y="1184"/>
                    </a:lnTo>
                    <a:lnTo>
                      <a:pt x="404" y="1196"/>
                    </a:lnTo>
                    <a:lnTo>
                      <a:pt x="433" y="1205"/>
                    </a:lnTo>
                    <a:lnTo>
                      <a:pt x="462" y="1214"/>
                    </a:lnTo>
                    <a:lnTo>
                      <a:pt x="492" y="1220"/>
                    </a:lnTo>
                    <a:lnTo>
                      <a:pt x="523" y="1226"/>
                    </a:lnTo>
                    <a:lnTo>
                      <a:pt x="553" y="1229"/>
                    </a:lnTo>
                    <a:lnTo>
                      <a:pt x="584" y="1232"/>
                    </a:lnTo>
                    <a:lnTo>
                      <a:pt x="617" y="1233"/>
                    </a:lnTo>
                    <a:lnTo>
                      <a:pt x="648" y="1232"/>
                    </a:lnTo>
                    <a:lnTo>
                      <a:pt x="679" y="1229"/>
                    </a:lnTo>
                    <a:lnTo>
                      <a:pt x="710" y="1226"/>
                    </a:lnTo>
                    <a:lnTo>
                      <a:pt x="740" y="1220"/>
                    </a:lnTo>
                    <a:lnTo>
                      <a:pt x="770" y="1214"/>
                    </a:lnTo>
                    <a:lnTo>
                      <a:pt x="800" y="1205"/>
                    </a:lnTo>
                    <a:lnTo>
                      <a:pt x="828" y="1196"/>
                    </a:lnTo>
                    <a:lnTo>
                      <a:pt x="857" y="1184"/>
                    </a:lnTo>
                    <a:lnTo>
                      <a:pt x="884" y="1172"/>
                    </a:lnTo>
                    <a:lnTo>
                      <a:pt x="911" y="1158"/>
                    </a:lnTo>
                    <a:lnTo>
                      <a:pt x="936" y="1143"/>
                    </a:lnTo>
                    <a:lnTo>
                      <a:pt x="961" y="1127"/>
                    </a:lnTo>
                    <a:lnTo>
                      <a:pt x="985" y="1111"/>
                    </a:lnTo>
                    <a:lnTo>
                      <a:pt x="1009" y="1091"/>
                    </a:lnTo>
                    <a:lnTo>
                      <a:pt x="1031" y="1072"/>
                    </a:lnTo>
                    <a:lnTo>
                      <a:pt x="1052" y="1052"/>
                    </a:lnTo>
                    <a:lnTo>
                      <a:pt x="1073" y="1030"/>
                    </a:lnTo>
                    <a:lnTo>
                      <a:pt x="1092" y="1009"/>
                    </a:lnTo>
                    <a:lnTo>
                      <a:pt x="1111" y="985"/>
                    </a:lnTo>
                    <a:lnTo>
                      <a:pt x="1128" y="961"/>
                    </a:lnTo>
                    <a:lnTo>
                      <a:pt x="1143" y="935"/>
                    </a:lnTo>
                    <a:lnTo>
                      <a:pt x="1159" y="910"/>
                    </a:lnTo>
                    <a:lnTo>
                      <a:pt x="1172" y="884"/>
                    </a:lnTo>
                    <a:lnTo>
                      <a:pt x="1184" y="856"/>
                    </a:lnTo>
                    <a:lnTo>
                      <a:pt x="1196" y="829"/>
                    </a:lnTo>
                    <a:lnTo>
                      <a:pt x="1206" y="800"/>
                    </a:lnTo>
                    <a:lnTo>
                      <a:pt x="1214" y="770"/>
                    </a:lnTo>
                    <a:lnTo>
                      <a:pt x="1220" y="740"/>
                    </a:lnTo>
                    <a:lnTo>
                      <a:pt x="1226" y="710"/>
                    </a:lnTo>
                    <a:lnTo>
                      <a:pt x="1230" y="679"/>
                    </a:lnTo>
                    <a:lnTo>
                      <a:pt x="1232" y="647"/>
                    </a:lnTo>
                    <a:lnTo>
                      <a:pt x="1233" y="616"/>
                    </a:lnTo>
                    <a:close/>
                    <a:moveTo>
                      <a:pt x="986" y="616"/>
                    </a:moveTo>
                    <a:lnTo>
                      <a:pt x="986" y="635"/>
                    </a:lnTo>
                    <a:lnTo>
                      <a:pt x="985" y="653"/>
                    </a:lnTo>
                    <a:lnTo>
                      <a:pt x="983" y="673"/>
                    </a:lnTo>
                    <a:lnTo>
                      <a:pt x="979" y="691"/>
                    </a:lnTo>
                    <a:lnTo>
                      <a:pt x="974" y="709"/>
                    </a:lnTo>
                    <a:lnTo>
                      <a:pt x="969" y="727"/>
                    </a:lnTo>
                    <a:lnTo>
                      <a:pt x="963" y="743"/>
                    </a:lnTo>
                    <a:lnTo>
                      <a:pt x="957" y="760"/>
                    </a:lnTo>
                    <a:lnTo>
                      <a:pt x="950" y="777"/>
                    </a:lnTo>
                    <a:lnTo>
                      <a:pt x="942" y="793"/>
                    </a:lnTo>
                    <a:lnTo>
                      <a:pt x="932" y="808"/>
                    </a:lnTo>
                    <a:lnTo>
                      <a:pt x="923" y="823"/>
                    </a:lnTo>
                    <a:lnTo>
                      <a:pt x="913" y="837"/>
                    </a:lnTo>
                    <a:lnTo>
                      <a:pt x="902" y="851"/>
                    </a:lnTo>
                    <a:lnTo>
                      <a:pt x="890" y="865"/>
                    </a:lnTo>
                    <a:lnTo>
                      <a:pt x="878" y="878"/>
                    </a:lnTo>
                    <a:lnTo>
                      <a:pt x="865" y="890"/>
                    </a:lnTo>
                    <a:lnTo>
                      <a:pt x="852" y="902"/>
                    </a:lnTo>
                    <a:lnTo>
                      <a:pt x="837" y="913"/>
                    </a:lnTo>
                    <a:lnTo>
                      <a:pt x="823" y="923"/>
                    </a:lnTo>
                    <a:lnTo>
                      <a:pt x="809" y="933"/>
                    </a:lnTo>
                    <a:lnTo>
                      <a:pt x="793" y="941"/>
                    </a:lnTo>
                    <a:lnTo>
                      <a:pt x="776" y="950"/>
                    </a:lnTo>
                    <a:lnTo>
                      <a:pt x="761" y="957"/>
                    </a:lnTo>
                    <a:lnTo>
                      <a:pt x="744" y="964"/>
                    </a:lnTo>
                    <a:lnTo>
                      <a:pt x="726" y="969"/>
                    </a:lnTo>
                    <a:lnTo>
                      <a:pt x="709" y="975"/>
                    </a:lnTo>
                    <a:lnTo>
                      <a:pt x="691" y="979"/>
                    </a:lnTo>
                    <a:lnTo>
                      <a:pt x="673" y="982"/>
                    </a:lnTo>
                    <a:lnTo>
                      <a:pt x="654" y="985"/>
                    </a:lnTo>
                    <a:lnTo>
                      <a:pt x="636" y="986"/>
                    </a:lnTo>
                    <a:lnTo>
                      <a:pt x="617" y="986"/>
                    </a:lnTo>
                    <a:lnTo>
                      <a:pt x="597" y="986"/>
                    </a:lnTo>
                    <a:lnTo>
                      <a:pt x="578" y="985"/>
                    </a:lnTo>
                    <a:lnTo>
                      <a:pt x="560" y="982"/>
                    </a:lnTo>
                    <a:lnTo>
                      <a:pt x="542" y="979"/>
                    </a:lnTo>
                    <a:lnTo>
                      <a:pt x="524" y="975"/>
                    </a:lnTo>
                    <a:lnTo>
                      <a:pt x="506" y="969"/>
                    </a:lnTo>
                    <a:lnTo>
                      <a:pt x="489" y="964"/>
                    </a:lnTo>
                    <a:lnTo>
                      <a:pt x="473" y="957"/>
                    </a:lnTo>
                    <a:lnTo>
                      <a:pt x="456" y="950"/>
                    </a:lnTo>
                    <a:lnTo>
                      <a:pt x="440" y="941"/>
                    </a:lnTo>
                    <a:lnTo>
                      <a:pt x="425" y="933"/>
                    </a:lnTo>
                    <a:lnTo>
                      <a:pt x="409" y="923"/>
                    </a:lnTo>
                    <a:lnTo>
                      <a:pt x="395" y="913"/>
                    </a:lnTo>
                    <a:lnTo>
                      <a:pt x="381" y="902"/>
                    </a:lnTo>
                    <a:lnTo>
                      <a:pt x="367" y="890"/>
                    </a:lnTo>
                    <a:lnTo>
                      <a:pt x="355" y="878"/>
                    </a:lnTo>
                    <a:lnTo>
                      <a:pt x="343" y="865"/>
                    </a:lnTo>
                    <a:lnTo>
                      <a:pt x="331" y="851"/>
                    </a:lnTo>
                    <a:lnTo>
                      <a:pt x="320" y="837"/>
                    </a:lnTo>
                    <a:lnTo>
                      <a:pt x="309" y="823"/>
                    </a:lnTo>
                    <a:lnTo>
                      <a:pt x="300" y="808"/>
                    </a:lnTo>
                    <a:lnTo>
                      <a:pt x="291" y="793"/>
                    </a:lnTo>
                    <a:lnTo>
                      <a:pt x="283" y="777"/>
                    </a:lnTo>
                    <a:lnTo>
                      <a:pt x="276" y="760"/>
                    </a:lnTo>
                    <a:lnTo>
                      <a:pt x="269" y="743"/>
                    </a:lnTo>
                    <a:lnTo>
                      <a:pt x="263" y="727"/>
                    </a:lnTo>
                    <a:lnTo>
                      <a:pt x="258" y="709"/>
                    </a:lnTo>
                    <a:lnTo>
                      <a:pt x="254" y="691"/>
                    </a:lnTo>
                    <a:lnTo>
                      <a:pt x="251" y="673"/>
                    </a:lnTo>
                    <a:lnTo>
                      <a:pt x="248" y="653"/>
                    </a:lnTo>
                    <a:lnTo>
                      <a:pt x="247" y="635"/>
                    </a:lnTo>
                    <a:lnTo>
                      <a:pt x="246" y="616"/>
                    </a:lnTo>
                    <a:lnTo>
                      <a:pt x="247" y="597"/>
                    </a:lnTo>
                    <a:lnTo>
                      <a:pt x="248" y="578"/>
                    </a:lnTo>
                    <a:lnTo>
                      <a:pt x="251" y="560"/>
                    </a:lnTo>
                    <a:lnTo>
                      <a:pt x="254" y="542"/>
                    </a:lnTo>
                    <a:lnTo>
                      <a:pt x="258" y="524"/>
                    </a:lnTo>
                    <a:lnTo>
                      <a:pt x="263" y="506"/>
                    </a:lnTo>
                    <a:lnTo>
                      <a:pt x="269" y="489"/>
                    </a:lnTo>
                    <a:lnTo>
                      <a:pt x="276" y="472"/>
                    </a:lnTo>
                    <a:lnTo>
                      <a:pt x="283" y="455"/>
                    </a:lnTo>
                    <a:lnTo>
                      <a:pt x="291" y="440"/>
                    </a:lnTo>
                    <a:lnTo>
                      <a:pt x="300" y="424"/>
                    </a:lnTo>
                    <a:lnTo>
                      <a:pt x="309" y="410"/>
                    </a:lnTo>
                    <a:lnTo>
                      <a:pt x="320" y="394"/>
                    </a:lnTo>
                    <a:lnTo>
                      <a:pt x="331" y="381"/>
                    </a:lnTo>
                    <a:lnTo>
                      <a:pt x="343" y="368"/>
                    </a:lnTo>
                    <a:lnTo>
                      <a:pt x="355" y="355"/>
                    </a:lnTo>
                    <a:lnTo>
                      <a:pt x="367" y="343"/>
                    </a:lnTo>
                    <a:lnTo>
                      <a:pt x="381" y="331"/>
                    </a:lnTo>
                    <a:lnTo>
                      <a:pt x="395" y="320"/>
                    </a:lnTo>
                    <a:lnTo>
                      <a:pt x="409" y="309"/>
                    </a:lnTo>
                    <a:lnTo>
                      <a:pt x="425" y="300"/>
                    </a:lnTo>
                    <a:lnTo>
                      <a:pt x="440" y="291"/>
                    </a:lnTo>
                    <a:lnTo>
                      <a:pt x="456" y="283"/>
                    </a:lnTo>
                    <a:lnTo>
                      <a:pt x="473" y="276"/>
                    </a:lnTo>
                    <a:lnTo>
                      <a:pt x="489" y="268"/>
                    </a:lnTo>
                    <a:lnTo>
                      <a:pt x="506" y="262"/>
                    </a:lnTo>
                    <a:lnTo>
                      <a:pt x="524" y="258"/>
                    </a:lnTo>
                    <a:lnTo>
                      <a:pt x="542" y="254"/>
                    </a:lnTo>
                    <a:lnTo>
                      <a:pt x="560" y="250"/>
                    </a:lnTo>
                    <a:lnTo>
                      <a:pt x="578" y="248"/>
                    </a:lnTo>
                    <a:lnTo>
                      <a:pt x="597" y="247"/>
                    </a:lnTo>
                    <a:lnTo>
                      <a:pt x="617" y="247"/>
                    </a:lnTo>
                    <a:lnTo>
                      <a:pt x="636" y="247"/>
                    </a:lnTo>
                    <a:lnTo>
                      <a:pt x="654" y="248"/>
                    </a:lnTo>
                    <a:lnTo>
                      <a:pt x="673" y="250"/>
                    </a:lnTo>
                    <a:lnTo>
                      <a:pt x="691" y="254"/>
                    </a:lnTo>
                    <a:lnTo>
                      <a:pt x="709" y="258"/>
                    </a:lnTo>
                    <a:lnTo>
                      <a:pt x="726" y="262"/>
                    </a:lnTo>
                    <a:lnTo>
                      <a:pt x="744" y="268"/>
                    </a:lnTo>
                    <a:lnTo>
                      <a:pt x="761" y="276"/>
                    </a:lnTo>
                    <a:lnTo>
                      <a:pt x="776" y="283"/>
                    </a:lnTo>
                    <a:lnTo>
                      <a:pt x="793" y="291"/>
                    </a:lnTo>
                    <a:lnTo>
                      <a:pt x="809" y="300"/>
                    </a:lnTo>
                    <a:lnTo>
                      <a:pt x="823" y="309"/>
                    </a:lnTo>
                    <a:lnTo>
                      <a:pt x="837" y="320"/>
                    </a:lnTo>
                    <a:lnTo>
                      <a:pt x="852" y="331"/>
                    </a:lnTo>
                    <a:lnTo>
                      <a:pt x="865" y="343"/>
                    </a:lnTo>
                    <a:lnTo>
                      <a:pt x="878" y="355"/>
                    </a:lnTo>
                    <a:lnTo>
                      <a:pt x="890" y="368"/>
                    </a:lnTo>
                    <a:lnTo>
                      <a:pt x="902" y="381"/>
                    </a:lnTo>
                    <a:lnTo>
                      <a:pt x="913" y="394"/>
                    </a:lnTo>
                    <a:lnTo>
                      <a:pt x="923" y="410"/>
                    </a:lnTo>
                    <a:lnTo>
                      <a:pt x="932" y="424"/>
                    </a:lnTo>
                    <a:lnTo>
                      <a:pt x="942" y="440"/>
                    </a:lnTo>
                    <a:lnTo>
                      <a:pt x="950" y="455"/>
                    </a:lnTo>
                    <a:lnTo>
                      <a:pt x="957" y="472"/>
                    </a:lnTo>
                    <a:lnTo>
                      <a:pt x="963" y="489"/>
                    </a:lnTo>
                    <a:lnTo>
                      <a:pt x="969" y="506"/>
                    </a:lnTo>
                    <a:lnTo>
                      <a:pt x="974" y="524"/>
                    </a:lnTo>
                    <a:lnTo>
                      <a:pt x="979" y="542"/>
                    </a:lnTo>
                    <a:lnTo>
                      <a:pt x="983" y="560"/>
                    </a:lnTo>
                    <a:lnTo>
                      <a:pt x="985" y="578"/>
                    </a:lnTo>
                    <a:lnTo>
                      <a:pt x="986" y="597"/>
                    </a:lnTo>
                    <a:lnTo>
                      <a:pt x="986" y="616"/>
                    </a:lnTo>
                    <a:close/>
                  </a:path>
                </a:pathLst>
              </a:custGeom>
              <a:solidFill>
                <a:srgbClr val="fef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710320" y="4329000"/>
                <a:ext cx="390240" cy="392400"/>
              </a:xfrm>
              <a:custGeom>
                <a:avLst/>
                <a:gdLst/>
                <a:ahLst/>
                <a:rect l="l" t="t" r="r" b="b"/>
                <a:pathLst>
                  <a:path w="987" h="986">
                    <a:moveTo>
                      <a:pt x="987" y="493"/>
                    </a:moveTo>
                    <a:lnTo>
                      <a:pt x="986" y="468"/>
                    </a:lnTo>
                    <a:lnTo>
                      <a:pt x="984" y="443"/>
                    </a:lnTo>
                    <a:lnTo>
                      <a:pt x="981" y="418"/>
                    </a:lnTo>
                    <a:lnTo>
                      <a:pt x="977" y="394"/>
                    </a:lnTo>
                    <a:lnTo>
                      <a:pt x="971" y="370"/>
                    </a:lnTo>
                    <a:lnTo>
                      <a:pt x="964" y="347"/>
                    </a:lnTo>
                    <a:lnTo>
                      <a:pt x="957" y="324"/>
                    </a:lnTo>
                    <a:lnTo>
                      <a:pt x="948" y="301"/>
                    </a:lnTo>
                    <a:lnTo>
                      <a:pt x="938" y="280"/>
                    </a:lnTo>
                    <a:lnTo>
                      <a:pt x="927" y="258"/>
                    </a:lnTo>
                    <a:lnTo>
                      <a:pt x="915" y="238"/>
                    </a:lnTo>
                    <a:lnTo>
                      <a:pt x="903" y="217"/>
                    </a:lnTo>
                    <a:lnTo>
                      <a:pt x="888" y="198"/>
                    </a:lnTo>
                    <a:lnTo>
                      <a:pt x="874" y="179"/>
                    </a:lnTo>
                    <a:lnTo>
                      <a:pt x="858" y="161"/>
                    </a:lnTo>
                    <a:lnTo>
                      <a:pt x="842" y="144"/>
                    </a:lnTo>
                    <a:lnTo>
                      <a:pt x="825" y="129"/>
                    </a:lnTo>
                    <a:lnTo>
                      <a:pt x="807" y="113"/>
                    </a:lnTo>
                    <a:lnTo>
                      <a:pt x="789" y="97"/>
                    </a:lnTo>
                    <a:lnTo>
                      <a:pt x="770" y="84"/>
                    </a:lnTo>
                    <a:lnTo>
                      <a:pt x="749" y="71"/>
                    </a:lnTo>
                    <a:lnTo>
                      <a:pt x="729" y="59"/>
                    </a:lnTo>
                    <a:lnTo>
                      <a:pt x="707" y="48"/>
                    </a:lnTo>
                    <a:lnTo>
                      <a:pt x="686" y="39"/>
                    </a:lnTo>
                    <a:lnTo>
                      <a:pt x="663" y="30"/>
                    </a:lnTo>
                    <a:lnTo>
                      <a:pt x="640" y="22"/>
                    </a:lnTo>
                    <a:lnTo>
                      <a:pt x="617" y="16"/>
                    </a:lnTo>
                    <a:lnTo>
                      <a:pt x="593" y="10"/>
                    </a:lnTo>
                    <a:lnTo>
                      <a:pt x="568" y="6"/>
                    </a:lnTo>
                    <a:lnTo>
                      <a:pt x="544" y="3"/>
                    </a:lnTo>
                    <a:lnTo>
                      <a:pt x="519" y="0"/>
                    </a:lnTo>
                    <a:lnTo>
                      <a:pt x="494" y="0"/>
                    </a:lnTo>
                    <a:lnTo>
                      <a:pt x="468" y="0"/>
                    </a:lnTo>
                    <a:lnTo>
                      <a:pt x="443" y="3"/>
                    </a:lnTo>
                    <a:lnTo>
                      <a:pt x="418" y="6"/>
                    </a:lnTo>
                    <a:lnTo>
                      <a:pt x="394" y="10"/>
                    </a:lnTo>
                    <a:lnTo>
                      <a:pt x="370" y="16"/>
                    </a:lnTo>
                    <a:lnTo>
                      <a:pt x="347" y="22"/>
                    </a:lnTo>
                    <a:lnTo>
                      <a:pt x="323" y="30"/>
                    </a:lnTo>
                    <a:lnTo>
                      <a:pt x="302" y="39"/>
                    </a:lnTo>
                    <a:lnTo>
                      <a:pt x="280" y="48"/>
                    </a:lnTo>
                    <a:lnTo>
                      <a:pt x="258" y="59"/>
                    </a:lnTo>
                    <a:lnTo>
                      <a:pt x="238" y="71"/>
                    </a:lnTo>
                    <a:lnTo>
                      <a:pt x="218" y="84"/>
                    </a:lnTo>
                    <a:lnTo>
                      <a:pt x="198" y="97"/>
                    </a:lnTo>
                    <a:lnTo>
                      <a:pt x="179" y="113"/>
                    </a:lnTo>
                    <a:lnTo>
                      <a:pt x="161" y="129"/>
                    </a:lnTo>
                    <a:lnTo>
                      <a:pt x="144" y="144"/>
                    </a:lnTo>
                    <a:lnTo>
                      <a:pt x="129" y="161"/>
                    </a:lnTo>
                    <a:lnTo>
                      <a:pt x="113" y="179"/>
                    </a:lnTo>
                    <a:lnTo>
                      <a:pt x="98" y="198"/>
                    </a:lnTo>
                    <a:lnTo>
                      <a:pt x="84" y="217"/>
                    </a:lnTo>
                    <a:lnTo>
                      <a:pt x="71" y="238"/>
                    </a:lnTo>
                    <a:lnTo>
                      <a:pt x="59" y="258"/>
                    </a:lnTo>
                    <a:lnTo>
                      <a:pt x="48" y="280"/>
                    </a:lnTo>
                    <a:lnTo>
                      <a:pt x="39" y="301"/>
                    </a:lnTo>
                    <a:lnTo>
                      <a:pt x="30" y="324"/>
                    </a:lnTo>
                    <a:lnTo>
                      <a:pt x="22" y="347"/>
                    </a:lnTo>
                    <a:lnTo>
                      <a:pt x="16" y="370"/>
                    </a:lnTo>
                    <a:lnTo>
                      <a:pt x="10" y="394"/>
                    </a:lnTo>
                    <a:lnTo>
                      <a:pt x="5" y="418"/>
                    </a:lnTo>
                    <a:lnTo>
                      <a:pt x="3" y="443"/>
                    </a:lnTo>
                    <a:lnTo>
                      <a:pt x="0" y="468"/>
                    </a:lnTo>
                    <a:lnTo>
                      <a:pt x="0" y="493"/>
                    </a:lnTo>
                    <a:lnTo>
                      <a:pt x="0" y="518"/>
                    </a:lnTo>
                    <a:lnTo>
                      <a:pt x="3" y="544"/>
                    </a:lnTo>
                    <a:lnTo>
                      <a:pt x="5" y="569"/>
                    </a:lnTo>
                    <a:lnTo>
                      <a:pt x="10" y="593"/>
                    </a:lnTo>
                    <a:lnTo>
                      <a:pt x="16" y="617"/>
                    </a:lnTo>
                    <a:lnTo>
                      <a:pt x="22" y="640"/>
                    </a:lnTo>
                    <a:lnTo>
                      <a:pt x="30" y="662"/>
                    </a:lnTo>
                    <a:lnTo>
                      <a:pt x="39" y="685"/>
                    </a:lnTo>
                    <a:lnTo>
                      <a:pt x="48" y="707"/>
                    </a:lnTo>
                    <a:lnTo>
                      <a:pt x="59" y="728"/>
                    </a:lnTo>
                    <a:lnTo>
                      <a:pt x="71" y="749"/>
                    </a:lnTo>
                    <a:lnTo>
                      <a:pt x="84" y="769"/>
                    </a:lnTo>
                    <a:lnTo>
                      <a:pt x="98" y="788"/>
                    </a:lnTo>
                    <a:lnTo>
                      <a:pt x="113" y="806"/>
                    </a:lnTo>
                    <a:lnTo>
                      <a:pt x="129" y="824"/>
                    </a:lnTo>
                    <a:lnTo>
                      <a:pt x="144" y="842"/>
                    </a:lnTo>
                    <a:lnTo>
                      <a:pt x="161" y="858"/>
                    </a:lnTo>
                    <a:lnTo>
                      <a:pt x="179" y="874"/>
                    </a:lnTo>
                    <a:lnTo>
                      <a:pt x="198" y="888"/>
                    </a:lnTo>
                    <a:lnTo>
                      <a:pt x="218" y="902"/>
                    </a:lnTo>
                    <a:lnTo>
                      <a:pt x="238" y="916"/>
                    </a:lnTo>
                    <a:lnTo>
                      <a:pt x="258" y="926"/>
                    </a:lnTo>
                    <a:lnTo>
                      <a:pt x="280" y="937"/>
                    </a:lnTo>
                    <a:lnTo>
                      <a:pt x="302" y="948"/>
                    </a:lnTo>
                    <a:lnTo>
                      <a:pt x="323" y="956"/>
                    </a:lnTo>
                    <a:lnTo>
                      <a:pt x="347" y="965"/>
                    </a:lnTo>
                    <a:lnTo>
                      <a:pt x="370" y="971"/>
                    </a:lnTo>
                    <a:lnTo>
                      <a:pt x="394" y="977"/>
                    </a:lnTo>
                    <a:lnTo>
                      <a:pt x="418" y="980"/>
                    </a:lnTo>
                    <a:lnTo>
                      <a:pt x="443" y="984"/>
                    </a:lnTo>
                    <a:lnTo>
                      <a:pt x="468" y="985"/>
                    </a:lnTo>
                    <a:lnTo>
                      <a:pt x="494" y="986"/>
                    </a:lnTo>
                    <a:lnTo>
                      <a:pt x="519" y="985"/>
                    </a:lnTo>
                    <a:lnTo>
                      <a:pt x="544" y="984"/>
                    </a:lnTo>
                    <a:lnTo>
                      <a:pt x="568" y="980"/>
                    </a:lnTo>
                    <a:lnTo>
                      <a:pt x="593" y="977"/>
                    </a:lnTo>
                    <a:lnTo>
                      <a:pt x="617" y="971"/>
                    </a:lnTo>
                    <a:lnTo>
                      <a:pt x="640" y="965"/>
                    </a:lnTo>
                    <a:lnTo>
                      <a:pt x="663" y="956"/>
                    </a:lnTo>
                    <a:lnTo>
                      <a:pt x="686" y="948"/>
                    </a:lnTo>
                    <a:lnTo>
                      <a:pt x="707" y="937"/>
                    </a:lnTo>
                    <a:lnTo>
                      <a:pt x="729" y="926"/>
                    </a:lnTo>
                    <a:lnTo>
                      <a:pt x="749" y="916"/>
                    </a:lnTo>
                    <a:lnTo>
                      <a:pt x="770" y="902"/>
                    </a:lnTo>
                    <a:lnTo>
                      <a:pt x="789" y="888"/>
                    </a:lnTo>
                    <a:lnTo>
                      <a:pt x="807" y="874"/>
                    </a:lnTo>
                    <a:lnTo>
                      <a:pt x="825" y="858"/>
                    </a:lnTo>
                    <a:lnTo>
                      <a:pt x="842" y="842"/>
                    </a:lnTo>
                    <a:lnTo>
                      <a:pt x="858" y="824"/>
                    </a:lnTo>
                    <a:lnTo>
                      <a:pt x="874" y="806"/>
                    </a:lnTo>
                    <a:lnTo>
                      <a:pt x="888" y="788"/>
                    </a:lnTo>
                    <a:lnTo>
                      <a:pt x="903" y="769"/>
                    </a:lnTo>
                    <a:lnTo>
                      <a:pt x="915" y="749"/>
                    </a:lnTo>
                    <a:lnTo>
                      <a:pt x="927" y="728"/>
                    </a:lnTo>
                    <a:lnTo>
                      <a:pt x="938" y="707"/>
                    </a:lnTo>
                    <a:lnTo>
                      <a:pt x="948" y="685"/>
                    </a:lnTo>
                    <a:lnTo>
                      <a:pt x="957" y="662"/>
                    </a:lnTo>
                    <a:lnTo>
                      <a:pt x="964" y="640"/>
                    </a:lnTo>
                    <a:lnTo>
                      <a:pt x="971" y="617"/>
                    </a:lnTo>
                    <a:lnTo>
                      <a:pt x="977" y="593"/>
                    </a:lnTo>
                    <a:lnTo>
                      <a:pt x="981" y="569"/>
                    </a:lnTo>
                    <a:lnTo>
                      <a:pt x="984" y="544"/>
                    </a:lnTo>
                    <a:lnTo>
                      <a:pt x="986" y="518"/>
                    </a:lnTo>
                    <a:lnTo>
                      <a:pt x="987" y="493"/>
                    </a:lnTo>
                    <a:close/>
                    <a:moveTo>
                      <a:pt x="740" y="493"/>
                    </a:moveTo>
                    <a:lnTo>
                      <a:pt x="740" y="505"/>
                    </a:lnTo>
                    <a:lnTo>
                      <a:pt x="738" y="518"/>
                    </a:lnTo>
                    <a:lnTo>
                      <a:pt x="737" y="530"/>
                    </a:lnTo>
                    <a:lnTo>
                      <a:pt x="735" y="542"/>
                    </a:lnTo>
                    <a:lnTo>
                      <a:pt x="732" y="554"/>
                    </a:lnTo>
                    <a:lnTo>
                      <a:pt x="729" y="566"/>
                    </a:lnTo>
                    <a:lnTo>
                      <a:pt x="725" y="578"/>
                    </a:lnTo>
                    <a:lnTo>
                      <a:pt x="720" y="589"/>
                    </a:lnTo>
                    <a:lnTo>
                      <a:pt x="711" y="611"/>
                    </a:lnTo>
                    <a:lnTo>
                      <a:pt x="698" y="631"/>
                    </a:lnTo>
                    <a:lnTo>
                      <a:pt x="683" y="650"/>
                    </a:lnTo>
                    <a:lnTo>
                      <a:pt x="668" y="667"/>
                    </a:lnTo>
                    <a:lnTo>
                      <a:pt x="651" y="684"/>
                    </a:lnTo>
                    <a:lnTo>
                      <a:pt x="632" y="697"/>
                    </a:lnTo>
                    <a:lnTo>
                      <a:pt x="611" y="710"/>
                    </a:lnTo>
                    <a:lnTo>
                      <a:pt x="590" y="720"/>
                    </a:lnTo>
                    <a:lnTo>
                      <a:pt x="578" y="725"/>
                    </a:lnTo>
                    <a:lnTo>
                      <a:pt x="567" y="728"/>
                    </a:lnTo>
                    <a:lnTo>
                      <a:pt x="555" y="732"/>
                    </a:lnTo>
                    <a:lnTo>
                      <a:pt x="543" y="734"/>
                    </a:lnTo>
                    <a:lnTo>
                      <a:pt x="531" y="737"/>
                    </a:lnTo>
                    <a:lnTo>
                      <a:pt x="519" y="738"/>
                    </a:lnTo>
                    <a:lnTo>
                      <a:pt x="506" y="739"/>
                    </a:lnTo>
                    <a:lnTo>
                      <a:pt x="494" y="739"/>
                    </a:lnTo>
                    <a:lnTo>
                      <a:pt x="480" y="739"/>
                    </a:lnTo>
                    <a:lnTo>
                      <a:pt x="468" y="738"/>
                    </a:lnTo>
                    <a:lnTo>
                      <a:pt x="455" y="737"/>
                    </a:lnTo>
                    <a:lnTo>
                      <a:pt x="443" y="734"/>
                    </a:lnTo>
                    <a:lnTo>
                      <a:pt x="431" y="732"/>
                    </a:lnTo>
                    <a:lnTo>
                      <a:pt x="420" y="728"/>
                    </a:lnTo>
                    <a:lnTo>
                      <a:pt x="408" y="725"/>
                    </a:lnTo>
                    <a:lnTo>
                      <a:pt x="398" y="720"/>
                    </a:lnTo>
                    <a:lnTo>
                      <a:pt x="376" y="710"/>
                    </a:lnTo>
                    <a:lnTo>
                      <a:pt x="356" y="697"/>
                    </a:lnTo>
                    <a:lnTo>
                      <a:pt x="336" y="684"/>
                    </a:lnTo>
                    <a:lnTo>
                      <a:pt x="318" y="667"/>
                    </a:lnTo>
                    <a:lnTo>
                      <a:pt x="303" y="650"/>
                    </a:lnTo>
                    <a:lnTo>
                      <a:pt x="288" y="631"/>
                    </a:lnTo>
                    <a:lnTo>
                      <a:pt x="276" y="611"/>
                    </a:lnTo>
                    <a:lnTo>
                      <a:pt x="266" y="589"/>
                    </a:lnTo>
                    <a:lnTo>
                      <a:pt x="262" y="578"/>
                    </a:lnTo>
                    <a:lnTo>
                      <a:pt x="257" y="566"/>
                    </a:lnTo>
                    <a:lnTo>
                      <a:pt x="255" y="554"/>
                    </a:lnTo>
                    <a:lnTo>
                      <a:pt x="251" y="542"/>
                    </a:lnTo>
                    <a:lnTo>
                      <a:pt x="250" y="530"/>
                    </a:lnTo>
                    <a:lnTo>
                      <a:pt x="248" y="518"/>
                    </a:lnTo>
                    <a:lnTo>
                      <a:pt x="248" y="505"/>
                    </a:lnTo>
                    <a:lnTo>
                      <a:pt x="246" y="493"/>
                    </a:lnTo>
                    <a:lnTo>
                      <a:pt x="248" y="480"/>
                    </a:lnTo>
                    <a:lnTo>
                      <a:pt x="248" y="468"/>
                    </a:lnTo>
                    <a:lnTo>
                      <a:pt x="250" y="456"/>
                    </a:lnTo>
                    <a:lnTo>
                      <a:pt x="251" y="443"/>
                    </a:lnTo>
                    <a:lnTo>
                      <a:pt x="255" y="432"/>
                    </a:lnTo>
                    <a:lnTo>
                      <a:pt x="257" y="420"/>
                    </a:lnTo>
                    <a:lnTo>
                      <a:pt x="262" y="408"/>
                    </a:lnTo>
                    <a:lnTo>
                      <a:pt x="266" y="397"/>
                    </a:lnTo>
                    <a:lnTo>
                      <a:pt x="276" y="376"/>
                    </a:lnTo>
                    <a:lnTo>
                      <a:pt x="288" y="355"/>
                    </a:lnTo>
                    <a:lnTo>
                      <a:pt x="303" y="336"/>
                    </a:lnTo>
                    <a:lnTo>
                      <a:pt x="318" y="319"/>
                    </a:lnTo>
                    <a:lnTo>
                      <a:pt x="336" y="302"/>
                    </a:lnTo>
                    <a:lnTo>
                      <a:pt x="356" y="288"/>
                    </a:lnTo>
                    <a:lnTo>
                      <a:pt x="376" y="276"/>
                    </a:lnTo>
                    <a:lnTo>
                      <a:pt x="398" y="266"/>
                    </a:lnTo>
                    <a:lnTo>
                      <a:pt x="408" y="262"/>
                    </a:lnTo>
                    <a:lnTo>
                      <a:pt x="420" y="258"/>
                    </a:lnTo>
                    <a:lnTo>
                      <a:pt x="431" y="254"/>
                    </a:lnTo>
                    <a:lnTo>
                      <a:pt x="443" y="252"/>
                    </a:lnTo>
                    <a:lnTo>
                      <a:pt x="455" y="250"/>
                    </a:lnTo>
                    <a:lnTo>
                      <a:pt x="468" y="247"/>
                    </a:lnTo>
                    <a:lnTo>
                      <a:pt x="480" y="247"/>
                    </a:lnTo>
                    <a:lnTo>
                      <a:pt x="494" y="246"/>
                    </a:lnTo>
                    <a:lnTo>
                      <a:pt x="506" y="247"/>
                    </a:lnTo>
                    <a:lnTo>
                      <a:pt x="519" y="247"/>
                    </a:lnTo>
                    <a:lnTo>
                      <a:pt x="531" y="250"/>
                    </a:lnTo>
                    <a:lnTo>
                      <a:pt x="543" y="252"/>
                    </a:lnTo>
                    <a:lnTo>
                      <a:pt x="555" y="254"/>
                    </a:lnTo>
                    <a:lnTo>
                      <a:pt x="567" y="258"/>
                    </a:lnTo>
                    <a:lnTo>
                      <a:pt x="578" y="262"/>
                    </a:lnTo>
                    <a:lnTo>
                      <a:pt x="590" y="266"/>
                    </a:lnTo>
                    <a:lnTo>
                      <a:pt x="611" y="276"/>
                    </a:lnTo>
                    <a:lnTo>
                      <a:pt x="632" y="288"/>
                    </a:lnTo>
                    <a:lnTo>
                      <a:pt x="651" y="302"/>
                    </a:lnTo>
                    <a:lnTo>
                      <a:pt x="668" y="319"/>
                    </a:lnTo>
                    <a:lnTo>
                      <a:pt x="683" y="336"/>
                    </a:lnTo>
                    <a:lnTo>
                      <a:pt x="698" y="355"/>
                    </a:lnTo>
                    <a:lnTo>
                      <a:pt x="711" y="376"/>
                    </a:lnTo>
                    <a:lnTo>
                      <a:pt x="720" y="397"/>
                    </a:lnTo>
                    <a:lnTo>
                      <a:pt x="725" y="408"/>
                    </a:lnTo>
                    <a:lnTo>
                      <a:pt x="729" y="420"/>
                    </a:lnTo>
                    <a:lnTo>
                      <a:pt x="732" y="432"/>
                    </a:lnTo>
                    <a:lnTo>
                      <a:pt x="735" y="443"/>
                    </a:lnTo>
                    <a:lnTo>
                      <a:pt x="737" y="456"/>
                    </a:lnTo>
                    <a:lnTo>
                      <a:pt x="738" y="468"/>
                    </a:lnTo>
                    <a:lnTo>
                      <a:pt x="740" y="480"/>
                    </a:lnTo>
                    <a:lnTo>
                      <a:pt x="740" y="493"/>
                    </a:lnTo>
                    <a:close/>
                  </a:path>
                </a:pathLst>
              </a:custGeom>
              <a:solidFill>
                <a:srgbClr val="fef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57840" y="4378320"/>
                <a:ext cx="293760" cy="293760"/>
              </a:xfrm>
              <a:custGeom>
                <a:avLst/>
                <a:gdLst/>
                <a:ahLst/>
                <a:rect l="l" t="t" r="r" b="b"/>
                <a:pathLst>
                  <a:path w="740" h="739">
                    <a:moveTo>
                      <a:pt x="740" y="369"/>
                    </a:moveTo>
                    <a:lnTo>
                      <a:pt x="740" y="350"/>
                    </a:lnTo>
                    <a:lnTo>
                      <a:pt x="739" y="331"/>
                    </a:lnTo>
                    <a:lnTo>
                      <a:pt x="737" y="313"/>
                    </a:lnTo>
                    <a:lnTo>
                      <a:pt x="733" y="295"/>
                    </a:lnTo>
                    <a:lnTo>
                      <a:pt x="728" y="277"/>
                    </a:lnTo>
                    <a:lnTo>
                      <a:pt x="723" y="259"/>
                    </a:lnTo>
                    <a:lnTo>
                      <a:pt x="717" y="242"/>
                    </a:lnTo>
                    <a:lnTo>
                      <a:pt x="711" y="225"/>
                    </a:lnTo>
                    <a:lnTo>
                      <a:pt x="704" y="208"/>
                    </a:lnTo>
                    <a:lnTo>
                      <a:pt x="696" y="193"/>
                    </a:lnTo>
                    <a:lnTo>
                      <a:pt x="686" y="177"/>
                    </a:lnTo>
                    <a:lnTo>
                      <a:pt x="677" y="163"/>
                    </a:lnTo>
                    <a:lnTo>
                      <a:pt x="667" y="147"/>
                    </a:lnTo>
                    <a:lnTo>
                      <a:pt x="656" y="134"/>
                    </a:lnTo>
                    <a:lnTo>
                      <a:pt x="644" y="121"/>
                    </a:lnTo>
                    <a:lnTo>
                      <a:pt x="632" y="108"/>
                    </a:lnTo>
                    <a:lnTo>
                      <a:pt x="619" y="96"/>
                    </a:lnTo>
                    <a:lnTo>
                      <a:pt x="606" y="84"/>
                    </a:lnTo>
                    <a:lnTo>
                      <a:pt x="591" y="73"/>
                    </a:lnTo>
                    <a:lnTo>
                      <a:pt x="577" y="62"/>
                    </a:lnTo>
                    <a:lnTo>
                      <a:pt x="563" y="53"/>
                    </a:lnTo>
                    <a:lnTo>
                      <a:pt x="547" y="44"/>
                    </a:lnTo>
                    <a:lnTo>
                      <a:pt x="530" y="36"/>
                    </a:lnTo>
                    <a:lnTo>
                      <a:pt x="515" y="29"/>
                    </a:lnTo>
                    <a:lnTo>
                      <a:pt x="498" y="21"/>
                    </a:lnTo>
                    <a:lnTo>
                      <a:pt x="480" y="15"/>
                    </a:lnTo>
                    <a:lnTo>
                      <a:pt x="463" y="11"/>
                    </a:lnTo>
                    <a:lnTo>
                      <a:pt x="445" y="7"/>
                    </a:lnTo>
                    <a:lnTo>
                      <a:pt x="427" y="3"/>
                    </a:lnTo>
                    <a:lnTo>
                      <a:pt x="408" y="1"/>
                    </a:lnTo>
                    <a:lnTo>
                      <a:pt x="390" y="0"/>
                    </a:lnTo>
                    <a:lnTo>
                      <a:pt x="371" y="0"/>
                    </a:lnTo>
                    <a:lnTo>
                      <a:pt x="351" y="0"/>
                    </a:lnTo>
                    <a:lnTo>
                      <a:pt x="332" y="1"/>
                    </a:lnTo>
                    <a:lnTo>
                      <a:pt x="314" y="3"/>
                    </a:lnTo>
                    <a:lnTo>
                      <a:pt x="296" y="7"/>
                    </a:lnTo>
                    <a:lnTo>
                      <a:pt x="278" y="11"/>
                    </a:lnTo>
                    <a:lnTo>
                      <a:pt x="260" y="15"/>
                    </a:lnTo>
                    <a:lnTo>
                      <a:pt x="243" y="21"/>
                    </a:lnTo>
                    <a:lnTo>
                      <a:pt x="227" y="29"/>
                    </a:lnTo>
                    <a:lnTo>
                      <a:pt x="210" y="36"/>
                    </a:lnTo>
                    <a:lnTo>
                      <a:pt x="194" y="44"/>
                    </a:lnTo>
                    <a:lnTo>
                      <a:pt x="179" y="53"/>
                    </a:lnTo>
                    <a:lnTo>
                      <a:pt x="163" y="62"/>
                    </a:lnTo>
                    <a:lnTo>
                      <a:pt x="149" y="73"/>
                    </a:lnTo>
                    <a:lnTo>
                      <a:pt x="135" y="84"/>
                    </a:lnTo>
                    <a:lnTo>
                      <a:pt x="121" y="96"/>
                    </a:lnTo>
                    <a:lnTo>
                      <a:pt x="109" y="108"/>
                    </a:lnTo>
                    <a:lnTo>
                      <a:pt x="97" y="121"/>
                    </a:lnTo>
                    <a:lnTo>
                      <a:pt x="85" y="134"/>
                    </a:lnTo>
                    <a:lnTo>
                      <a:pt x="74" y="147"/>
                    </a:lnTo>
                    <a:lnTo>
                      <a:pt x="63" y="163"/>
                    </a:lnTo>
                    <a:lnTo>
                      <a:pt x="54" y="177"/>
                    </a:lnTo>
                    <a:lnTo>
                      <a:pt x="45" y="193"/>
                    </a:lnTo>
                    <a:lnTo>
                      <a:pt x="37" y="208"/>
                    </a:lnTo>
                    <a:lnTo>
                      <a:pt x="30" y="225"/>
                    </a:lnTo>
                    <a:lnTo>
                      <a:pt x="23" y="242"/>
                    </a:lnTo>
                    <a:lnTo>
                      <a:pt x="17" y="259"/>
                    </a:lnTo>
                    <a:lnTo>
                      <a:pt x="12" y="277"/>
                    </a:lnTo>
                    <a:lnTo>
                      <a:pt x="8" y="295"/>
                    </a:lnTo>
                    <a:lnTo>
                      <a:pt x="5" y="313"/>
                    </a:lnTo>
                    <a:lnTo>
                      <a:pt x="2" y="331"/>
                    </a:lnTo>
                    <a:lnTo>
                      <a:pt x="1" y="350"/>
                    </a:lnTo>
                    <a:lnTo>
                      <a:pt x="0" y="369"/>
                    </a:lnTo>
                    <a:lnTo>
                      <a:pt x="1" y="388"/>
                    </a:lnTo>
                    <a:lnTo>
                      <a:pt x="2" y="406"/>
                    </a:lnTo>
                    <a:lnTo>
                      <a:pt x="5" y="426"/>
                    </a:lnTo>
                    <a:lnTo>
                      <a:pt x="8" y="444"/>
                    </a:lnTo>
                    <a:lnTo>
                      <a:pt x="12" y="462"/>
                    </a:lnTo>
                    <a:lnTo>
                      <a:pt x="17" y="480"/>
                    </a:lnTo>
                    <a:lnTo>
                      <a:pt x="23" y="496"/>
                    </a:lnTo>
                    <a:lnTo>
                      <a:pt x="30" y="513"/>
                    </a:lnTo>
                    <a:lnTo>
                      <a:pt x="37" y="530"/>
                    </a:lnTo>
                    <a:lnTo>
                      <a:pt x="45" y="546"/>
                    </a:lnTo>
                    <a:lnTo>
                      <a:pt x="54" y="561"/>
                    </a:lnTo>
                    <a:lnTo>
                      <a:pt x="63" y="576"/>
                    </a:lnTo>
                    <a:lnTo>
                      <a:pt x="74" y="590"/>
                    </a:lnTo>
                    <a:lnTo>
                      <a:pt x="85" y="604"/>
                    </a:lnTo>
                    <a:lnTo>
                      <a:pt x="97" y="618"/>
                    </a:lnTo>
                    <a:lnTo>
                      <a:pt x="109" y="631"/>
                    </a:lnTo>
                    <a:lnTo>
                      <a:pt x="121" y="643"/>
                    </a:lnTo>
                    <a:lnTo>
                      <a:pt x="135" y="655"/>
                    </a:lnTo>
                    <a:lnTo>
                      <a:pt x="149" y="666"/>
                    </a:lnTo>
                    <a:lnTo>
                      <a:pt x="163" y="676"/>
                    </a:lnTo>
                    <a:lnTo>
                      <a:pt x="179" y="686"/>
                    </a:lnTo>
                    <a:lnTo>
                      <a:pt x="194" y="694"/>
                    </a:lnTo>
                    <a:lnTo>
                      <a:pt x="210" y="703"/>
                    </a:lnTo>
                    <a:lnTo>
                      <a:pt x="227" y="710"/>
                    </a:lnTo>
                    <a:lnTo>
                      <a:pt x="243" y="717"/>
                    </a:lnTo>
                    <a:lnTo>
                      <a:pt x="260" y="722"/>
                    </a:lnTo>
                    <a:lnTo>
                      <a:pt x="278" y="728"/>
                    </a:lnTo>
                    <a:lnTo>
                      <a:pt x="296" y="732"/>
                    </a:lnTo>
                    <a:lnTo>
                      <a:pt x="314" y="735"/>
                    </a:lnTo>
                    <a:lnTo>
                      <a:pt x="332" y="738"/>
                    </a:lnTo>
                    <a:lnTo>
                      <a:pt x="351" y="739"/>
                    </a:lnTo>
                    <a:lnTo>
                      <a:pt x="371" y="739"/>
                    </a:lnTo>
                    <a:lnTo>
                      <a:pt x="390" y="739"/>
                    </a:lnTo>
                    <a:lnTo>
                      <a:pt x="408" y="738"/>
                    </a:lnTo>
                    <a:lnTo>
                      <a:pt x="427" y="735"/>
                    </a:lnTo>
                    <a:lnTo>
                      <a:pt x="445" y="732"/>
                    </a:lnTo>
                    <a:lnTo>
                      <a:pt x="463" y="728"/>
                    </a:lnTo>
                    <a:lnTo>
                      <a:pt x="480" y="722"/>
                    </a:lnTo>
                    <a:lnTo>
                      <a:pt x="498" y="717"/>
                    </a:lnTo>
                    <a:lnTo>
                      <a:pt x="515" y="710"/>
                    </a:lnTo>
                    <a:lnTo>
                      <a:pt x="530" y="703"/>
                    </a:lnTo>
                    <a:lnTo>
                      <a:pt x="547" y="694"/>
                    </a:lnTo>
                    <a:lnTo>
                      <a:pt x="563" y="686"/>
                    </a:lnTo>
                    <a:lnTo>
                      <a:pt x="577" y="676"/>
                    </a:lnTo>
                    <a:lnTo>
                      <a:pt x="591" y="666"/>
                    </a:lnTo>
                    <a:lnTo>
                      <a:pt x="606" y="655"/>
                    </a:lnTo>
                    <a:lnTo>
                      <a:pt x="619" y="643"/>
                    </a:lnTo>
                    <a:lnTo>
                      <a:pt x="632" y="631"/>
                    </a:lnTo>
                    <a:lnTo>
                      <a:pt x="644" y="618"/>
                    </a:lnTo>
                    <a:lnTo>
                      <a:pt x="656" y="604"/>
                    </a:lnTo>
                    <a:lnTo>
                      <a:pt x="667" y="590"/>
                    </a:lnTo>
                    <a:lnTo>
                      <a:pt x="677" y="576"/>
                    </a:lnTo>
                    <a:lnTo>
                      <a:pt x="686" y="561"/>
                    </a:lnTo>
                    <a:lnTo>
                      <a:pt x="696" y="546"/>
                    </a:lnTo>
                    <a:lnTo>
                      <a:pt x="704" y="530"/>
                    </a:lnTo>
                    <a:lnTo>
                      <a:pt x="711" y="513"/>
                    </a:lnTo>
                    <a:lnTo>
                      <a:pt x="717" y="496"/>
                    </a:lnTo>
                    <a:lnTo>
                      <a:pt x="723" y="480"/>
                    </a:lnTo>
                    <a:lnTo>
                      <a:pt x="728" y="462"/>
                    </a:lnTo>
                    <a:lnTo>
                      <a:pt x="733" y="444"/>
                    </a:lnTo>
                    <a:lnTo>
                      <a:pt x="737" y="426"/>
                    </a:lnTo>
                    <a:lnTo>
                      <a:pt x="739" y="406"/>
                    </a:lnTo>
                    <a:lnTo>
                      <a:pt x="740" y="388"/>
                    </a:lnTo>
                    <a:lnTo>
                      <a:pt x="740" y="369"/>
                    </a:lnTo>
                    <a:close/>
                  </a:path>
                </a:pathLst>
              </a:custGeom>
              <a:solidFill>
                <a:srgbClr val="fffb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07160" y="4427640"/>
                <a:ext cx="195120" cy="195120"/>
              </a:xfrm>
              <a:custGeom>
                <a:avLst/>
                <a:gdLst/>
                <a:ahLst/>
                <a:rect l="l" t="t" r="r" b="b"/>
                <a:pathLst>
                  <a:path w="494" h="493">
                    <a:moveTo>
                      <a:pt x="494" y="247"/>
                    </a:moveTo>
                    <a:lnTo>
                      <a:pt x="494" y="234"/>
                    </a:lnTo>
                    <a:lnTo>
                      <a:pt x="492" y="222"/>
                    </a:lnTo>
                    <a:lnTo>
                      <a:pt x="491" y="210"/>
                    </a:lnTo>
                    <a:lnTo>
                      <a:pt x="489" y="197"/>
                    </a:lnTo>
                    <a:lnTo>
                      <a:pt x="486" y="186"/>
                    </a:lnTo>
                    <a:lnTo>
                      <a:pt x="483" y="174"/>
                    </a:lnTo>
                    <a:lnTo>
                      <a:pt x="479" y="162"/>
                    </a:lnTo>
                    <a:lnTo>
                      <a:pt x="474" y="151"/>
                    </a:lnTo>
                    <a:lnTo>
                      <a:pt x="465" y="130"/>
                    </a:lnTo>
                    <a:lnTo>
                      <a:pt x="452" y="109"/>
                    </a:lnTo>
                    <a:lnTo>
                      <a:pt x="437" y="90"/>
                    </a:lnTo>
                    <a:lnTo>
                      <a:pt x="422" y="73"/>
                    </a:lnTo>
                    <a:lnTo>
                      <a:pt x="405" y="56"/>
                    </a:lnTo>
                    <a:lnTo>
                      <a:pt x="386" y="42"/>
                    </a:lnTo>
                    <a:lnTo>
                      <a:pt x="365" y="30"/>
                    </a:lnTo>
                    <a:lnTo>
                      <a:pt x="344" y="20"/>
                    </a:lnTo>
                    <a:lnTo>
                      <a:pt x="332" y="16"/>
                    </a:lnTo>
                    <a:lnTo>
                      <a:pt x="321" y="12"/>
                    </a:lnTo>
                    <a:lnTo>
                      <a:pt x="309" y="8"/>
                    </a:lnTo>
                    <a:lnTo>
                      <a:pt x="297" y="6"/>
                    </a:lnTo>
                    <a:lnTo>
                      <a:pt x="285" y="4"/>
                    </a:lnTo>
                    <a:lnTo>
                      <a:pt x="273" y="1"/>
                    </a:lnTo>
                    <a:lnTo>
                      <a:pt x="260" y="1"/>
                    </a:lnTo>
                    <a:lnTo>
                      <a:pt x="248" y="0"/>
                    </a:lnTo>
                    <a:lnTo>
                      <a:pt x="234" y="1"/>
                    </a:lnTo>
                    <a:lnTo>
                      <a:pt x="222" y="1"/>
                    </a:lnTo>
                    <a:lnTo>
                      <a:pt x="209" y="4"/>
                    </a:lnTo>
                    <a:lnTo>
                      <a:pt x="197" y="6"/>
                    </a:lnTo>
                    <a:lnTo>
                      <a:pt x="185" y="8"/>
                    </a:lnTo>
                    <a:lnTo>
                      <a:pt x="174" y="12"/>
                    </a:lnTo>
                    <a:lnTo>
                      <a:pt x="162" y="16"/>
                    </a:lnTo>
                    <a:lnTo>
                      <a:pt x="152" y="20"/>
                    </a:lnTo>
                    <a:lnTo>
                      <a:pt x="130" y="30"/>
                    </a:lnTo>
                    <a:lnTo>
                      <a:pt x="110" y="42"/>
                    </a:lnTo>
                    <a:lnTo>
                      <a:pt x="90" y="56"/>
                    </a:lnTo>
                    <a:lnTo>
                      <a:pt x="72" y="73"/>
                    </a:lnTo>
                    <a:lnTo>
                      <a:pt x="57" y="90"/>
                    </a:lnTo>
                    <a:lnTo>
                      <a:pt x="42" y="109"/>
                    </a:lnTo>
                    <a:lnTo>
                      <a:pt x="30" y="130"/>
                    </a:lnTo>
                    <a:lnTo>
                      <a:pt x="20" y="151"/>
                    </a:lnTo>
                    <a:lnTo>
                      <a:pt x="16" y="162"/>
                    </a:lnTo>
                    <a:lnTo>
                      <a:pt x="11" y="174"/>
                    </a:lnTo>
                    <a:lnTo>
                      <a:pt x="9" y="186"/>
                    </a:lnTo>
                    <a:lnTo>
                      <a:pt x="5" y="197"/>
                    </a:lnTo>
                    <a:lnTo>
                      <a:pt x="4" y="210"/>
                    </a:lnTo>
                    <a:lnTo>
                      <a:pt x="2" y="222"/>
                    </a:lnTo>
                    <a:lnTo>
                      <a:pt x="2" y="234"/>
                    </a:lnTo>
                    <a:lnTo>
                      <a:pt x="0" y="247"/>
                    </a:lnTo>
                    <a:lnTo>
                      <a:pt x="2" y="259"/>
                    </a:lnTo>
                    <a:lnTo>
                      <a:pt x="2" y="272"/>
                    </a:lnTo>
                    <a:lnTo>
                      <a:pt x="4" y="284"/>
                    </a:lnTo>
                    <a:lnTo>
                      <a:pt x="5" y="296"/>
                    </a:lnTo>
                    <a:lnTo>
                      <a:pt x="9" y="308"/>
                    </a:lnTo>
                    <a:lnTo>
                      <a:pt x="11" y="320"/>
                    </a:lnTo>
                    <a:lnTo>
                      <a:pt x="16" y="332"/>
                    </a:lnTo>
                    <a:lnTo>
                      <a:pt x="20" y="343"/>
                    </a:lnTo>
                    <a:lnTo>
                      <a:pt x="30" y="365"/>
                    </a:lnTo>
                    <a:lnTo>
                      <a:pt x="42" y="385"/>
                    </a:lnTo>
                    <a:lnTo>
                      <a:pt x="57" y="404"/>
                    </a:lnTo>
                    <a:lnTo>
                      <a:pt x="72" y="421"/>
                    </a:lnTo>
                    <a:lnTo>
                      <a:pt x="90" y="438"/>
                    </a:lnTo>
                    <a:lnTo>
                      <a:pt x="110" y="451"/>
                    </a:lnTo>
                    <a:lnTo>
                      <a:pt x="130" y="464"/>
                    </a:lnTo>
                    <a:lnTo>
                      <a:pt x="152" y="474"/>
                    </a:lnTo>
                    <a:lnTo>
                      <a:pt x="162" y="479"/>
                    </a:lnTo>
                    <a:lnTo>
                      <a:pt x="174" y="482"/>
                    </a:lnTo>
                    <a:lnTo>
                      <a:pt x="185" y="486"/>
                    </a:lnTo>
                    <a:lnTo>
                      <a:pt x="197" y="488"/>
                    </a:lnTo>
                    <a:lnTo>
                      <a:pt x="209" y="491"/>
                    </a:lnTo>
                    <a:lnTo>
                      <a:pt x="222" y="492"/>
                    </a:lnTo>
                    <a:lnTo>
                      <a:pt x="234" y="493"/>
                    </a:lnTo>
                    <a:lnTo>
                      <a:pt x="248" y="493"/>
                    </a:lnTo>
                    <a:lnTo>
                      <a:pt x="260" y="493"/>
                    </a:lnTo>
                    <a:lnTo>
                      <a:pt x="273" y="492"/>
                    </a:lnTo>
                    <a:lnTo>
                      <a:pt x="285" y="491"/>
                    </a:lnTo>
                    <a:lnTo>
                      <a:pt x="297" y="488"/>
                    </a:lnTo>
                    <a:lnTo>
                      <a:pt x="309" y="486"/>
                    </a:lnTo>
                    <a:lnTo>
                      <a:pt x="321" y="482"/>
                    </a:lnTo>
                    <a:lnTo>
                      <a:pt x="332" y="479"/>
                    </a:lnTo>
                    <a:lnTo>
                      <a:pt x="344" y="474"/>
                    </a:lnTo>
                    <a:lnTo>
                      <a:pt x="365" y="464"/>
                    </a:lnTo>
                    <a:lnTo>
                      <a:pt x="386" y="451"/>
                    </a:lnTo>
                    <a:lnTo>
                      <a:pt x="405" y="438"/>
                    </a:lnTo>
                    <a:lnTo>
                      <a:pt x="422" y="421"/>
                    </a:lnTo>
                    <a:lnTo>
                      <a:pt x="437" y="404"/>
                    </a:lnTo>
                    <a:lnTo>
                      <a:pt x="452" y="385"/>
                    </a:lnTo>
                    <a:lnTo>
                      <a:pt x="465" y="365"/>
                    </a:lnTo>
                    <a:lnTo>
                      <a:pt x="474" y="343"/>
                    </a:lnTo>
                    <a:lnTo>
                      <a:pt x="479" y="332"/>
                    </a:lnTo>
                    <a:lnTo>
                      <a:pt x="483" y="320"/>
                    </a:lnTo>
                    <a:lnTo>
                      <a:pt x="486" y="308"/>
                    </a:lnTo>
                    <a:lnTo>
                      <a:pt x="489" y="296"/>
                    </a:lnTo>
                    <a:lnTo>
                      <a:pt x="491" y="284"/>
                    </a:lnTo>
                    <a:lnTo>
                      <a:pt x="492" y="272"/>
                    </a:lnTo>
                    <a:lnTo>
                      <a:pt x="494" y="259"/>
                    </a:lnTo>
                    <a:lnTo>
                      <a:pt x="494" y="247"/>
                    </a:lnTo>
                    <a:close/>
                  </a:path>
                </a:pathLst>
              </a:custGeom>
              <a:solidFill>
                <a:srgbClr val="fffb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56120" y="4476600"/>
                <a:ext cx="98640" cy="968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247" y="123"/>
                    </a:moveTo>
                    <a:lnTo>
                      <a:pt x="246" y="110"/>
                    </a:lnTo>
                    <a:lnTo>
                      <a:pt x="244" y="98"/>
                    </a:lnTo>
                    <a:lnTo>
                      <a:pt x="241" y="86"/>
                    </a:lnTo>
                    <a:lnTo>
                      <a:pt x="238" y="75"/>
                    </a:lnTo>
                    <a:lnTo>
                      <a:pt x="232" y="64"/>
                    </a:lnTo>
                    <a:lnTo>
                      <a:pt x="226" y="54"/>
                    </a:lnTo>
                    <a:lnTo>
                      <a:pt x="218" y="45"/>
                    </a:lnTo>
                    <a:lnTo>
                      <a:pt x="210" y="36"/>
                    </a:lnTo>
                    <a:lnTo>
                      <a:pt x="202" y="28"/>
                    </a:lnTo>
                    <a:lnTo>
                      <a:pt x="192" y="21"/>
                    </a:lnTo>
                    <a:lnTo>
                      <a:pt x="182" y="15"/>
                    </a:lnTo>
                    <a:lnTo>
                      <a:pt x="172" y="9"/>
                    </a:lnTo>
                    <a:lnTo>
                      <a:pt x="160" y="6"/>
                    </a:lnTo>
                    <a:lnTo>
                      <a:pt x="149" y="2"/>
                    </a:lnTo>
                    <a:lnTo>
                      <a:pt x="136" y="1"/>
                    </a:lnTo>
                    <a:lnTo>
                      <a:pt x="124" y="0"/>
                    </a:lnTo>
                    <a:lnTo>
                      <a:pt x="110" y="1"/>
                    </a:lnTo>
                    <a:lnTo>
                      <a:pt x="98" y="2"/>
                    </a:lnTo>
                    <a:lnTo>
                      <a:pt x="86" y="6"/>
                    </a:lnTo>
                    <a:lnTo>
                      <a:pt x="76" y="9"/>
                    </a:lnTo>
                    <a:lnTo>
                      <a:pt x="65" y="15"/>
                    </a:lnTo>
                    <a:lnTo>
                      <a:pt x="54" y="21"/>
                    </a:lnTo>
                    <a:lnTo>
                      <a:pt x="44" y="28"/>
                    </a:lnTo>
                    <a:lnTo>
                      <a:pt x="36" y="36"/>
                    </a:lnTo>
                    <a:lnTo>
                      <a:pt x="28" y="45"/>
                    </a:lnTo>
                    <a:lnTo>
                      <a:pt x="22" y="54"/>
                    </a:lnTo>
                    <a:lnTo>
                      <a:pt x="14" y="64"/>
                    </a:lnTo>
                    <a:lnTo>
                      <a:pt x="10" y="75"/>
                    </a:lnTo>
                    <a:lnTo>
                      <a:pt x="6" y="86"/>
                    </a:lnTo>
                    <a:lnTo>
                      <a:pt x="2" y="98"/>
                    </a:lnTo>
                    <a:lnTo>
                      <a:pt x="1" y="110"/>
                    </a:lnTo>
                    <a:lnTo>
                      <a:pt x="0" y="123"/>
                    </a:lnTo>
                    <a:lnTo>
                      <a:pt x="1" y="135"/>
                    </a:lnTo>
                    <a:lnTo>
                      <a:pt x="2" y="148"/>
                    </a:lnTo>
                    <a:lnTo>
                      <a:pt x="6" y="159"/>
                    </a:lnTo>
                    <a:lnTo>
                      <a:pt x="10" y="171"/>
                    </a:lnTo>
                    <a:lnTo>
                      <a:pt x="14" y="182"/>
                    </a:lnTo>
                    <a:lnTo>
                      <a:pt x="22" y="192"/>
                    </a:lnTo>
                    <a:lnTo>
                      <a:pt x="28" y="201"/>
                    </a:lnTo>
                    <a:lnTo>
                      <a:pt x="36" y="211"/>
                    </a:lnTo>
                    <a:lnTo>
                      <a:pt x="44" y="218"/>
                    </a:lnTo>
                    <a:lnTo>
                      <a:pt x="54" y="225"/>
                    </a:lnTo>
                    <a:lnTo>
                      <a:pt x="65" y="231"/>
                    </a:lnTo>
                    <a:lnTo>
                      <a:pt x="76" y="237"/>
                    </a:lnTo>
                    <a:lnTo>
                      <a:pt x="86" y="241"/>
                    </a:lnTo>
                    <a:lnTo>
                      <a:pt x="98" y="244"/>
                    </a:lnTo>
                    <a:lnTo>
                      <a:pt x="110" y="246"/>
                    </a:lnTo>
                    <a:lnTo>
                      <a:pt x="124" y="247"/>
                    </a:lnTo>
                    <a:lnTo>
                      <a:pt x="136" y="246"/>
                    </a:lnTo>
                    <a:lnTo>
                      <a:pt x="149" y="244"/>
                    </a:lnTo>
                    <a:lnTo>
                      <a:pt x="160" y="241"/>
                    </a:lnTo>
                    <a:lnTo>
                      <a:pt x="172" y="237"/>
                    </a:lnTo>
                    <a:lnTo>
                      <a:pt x="182" y="231"/>
                    </a:lnTo>
                    <a:lnTo>
                      <a:pt x="192" y="225"/>
                    </a:lnTo>
                    <a:lnTo>
                      <a:pt x="202" y="218"/>
                    </a:lnTo>
                    <a:lnTo>
                      <a:pt x="210" y="211"/>
                    </a:lnTo>
                    <a:lnTo>
                      <a:pt x="218" y="201"/>
                    </a:lnTo>
                    <a:lnTo>
                      <a:pt x="226" y="192"/>
                    </a:lnTo>
                    <a:lnTo>
                      <a:pt x="232" y="182"/>
                    </a:lnTo>
                    <a:lnTo>
                      <a:pt x="238" y="171"/>
                    </a:lnTo>
                    <a:lnTo>
                      <a:pt x="241" y="159"/>
                    </a:lnTo>
                    <a:lnTo>
                      <a:pt x="244" y="148"/>
                    </a:lnTo>
                    <a:lnTo>
                      <a:pt x="246" y="135"/>
                    </a:lnTo>
                    <a:lnTo>
                      <a:pt x="247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24160" y="1308240"/>
                <a:ext cx="843120" cy="725400"/>
              </a:xfrm>
              <a:custGeom>
                <a:avLst/>
                <a:gdLst/>
                <a:ahLst/>
                <a:rect l="l" t="t" r="r" b="b"/>
                <a:pathLst>
                  <a:path w="2127" h="1831">
                    <a:moveTo>
                      <a:pt x="728" y="651"/>
                    </a:moveTo>
                    <a:lnTo>
                      <a:pt x="734" y="644"/>
                    </a:lnTo>
                    <a:lnTo>
                      <a:pt x="740" y="637"/>
                    </a:lnTo>
                    <a:lnTo>
                      <a:pt x="743" y="627"/>
                    </a:lnTo>
                    <a:lnTo>
                      <a:pt x="747" y="618"/>
                    </a:lnTo>
                    <a:lnTo>
                      <a:pt x="749" y="608"/>
                    </a:lnTo>
                    <a:lnTo>
                      <a:pt x="750" y="598"/>
                    </a:lnTo>
                    <a:lnTo>
                      <a:pt x="752" y="588"/>
                    </a:lnTo>
                    <a:lnTo>
                      <a:pt x="752" y="578"/>
                    </a:lnTo>
                    <a:lnTo>
                      <a:pt x="752" y="566"/>
                    </a:lnTo>
                    <a:lnTo>
                      <a:pt x="750" y="555"/>
                    </a:lnTo>
                    <a:lnTo>
                      <a:pt x="749" y="543"/>
                    </a:lnTo>
                    <a:lnTo>
                      <a:pt x="747" y="531"/>
                    </a:lnTo>
                    <a:lnTo>
                      <a:pt x="743" y="520"/>
                    </a:lnTo>
                    <a:lnTo>
                      <a:pt x="740" y="510"/>
                    </a:lnTo>
                    <a:lnTo>
                      <a:pt x="734" y="500"/>
                    </a:lnTo>
                    <a:lnTo>
                      <a:pt x="728" y="490"/>
                    </a:lnTo>
                    <a:lnTo>
                      <a:pt x="720" y="482"/>
                    </a:lnTo>
                    <a:lnTo>
                      <a:pt x="712" y="476"/>
                    </a:lnTo>
                    <a:lnTo>
                      <a:pt x="704" y="471"/>
                    </a:lnTo>
                    <a:lnTo>
                      <a:pt x="694" y="467"/>
                    </a:lnTo>
                    <a:lnTo>
                      <a:pt x="683" y="463"/>
                    </a:lnTo>
                    <a:lnTo>
                      <a:pt x="674" y="459"/>
                    </a:lnTo>
                    <a:lnTo>
                      <a:pt x="664" y="455"/>
                    </a:lnTo>
                    <a:lnTo>
                      <a:pt x="654" y="451"/>
                    </a:lnTo>
                    <a:lnTo>
                      <a:pt x="642" y="445"/>
                    </a:lnTo>
                    <a:lnTo>
                      <a:pt x="630" y="440"/>
                    </a:lnTo>
                    <a:lnTo>
                      <a:pt x="620" y="435"/>
                    </a:lnTo>
                    <a:lnTo>
                      <a:pt x="608" y="429"/>
                    </a:lnTo>
                    <a:lnTo>
                      <a:pt x="597" y="425"/>
                    </a:lnTo>
                    <a:lnTo>
                      <a:pt x="585" y="420"/>
                    </a:lnTo>
                    <a:lnTo>
                      <a:pt x="573" y="416"/>
                    </a:lnTo>
                    <a:lnTo>
                      <a:pt x="561" y="411"/>
                    </a:lnTo>
                    <a:lnTo>
                      <a:pt x="548" y="408"/>
                    </a:lnTo>
                    <a:lnTo>
                      <a:pt x="534" y="405"/>
                    </a:lnTo>
                    <a:lnTo>
                      <a:pt x="520" y="403"/>
                    </a:lnTo>
                    <a:lnTo>
                      <a:pt x="507" y="401"/>
                    </a:lnTo>
                    <a:lnTo>
                      <a:pt x="492" y="398"/>
                    </a:lnTo>
                    <a:lnTo>
                      <a:pt x="479" y="396"/>
                    </a:lnTo>
                    <a:lnTo>
                      <a:pt x="466" y="392"/>
                    </a:lnTo>
                    <a:lnTo>
                      <a:pt x="453" y="387"/>
                    </a:lnTo>
                    <a:lnTo>
                      <a:pt x="442" y="383"/>
                    </a:lnTo>
                    <a:lnTo>
                      <a:pt x="432" y="378"/>
                    </a:lnTo>
                    <a:lnTo>
                      <a:pt x="422" y="372"/>
                    </a:lnTo>
                    <a:lnTo>
                      <a:pt x="412" y="366"/>
                    </a:lnTo>
                    <a:lnTo>
                      <a:pt x="402" y="359"/>
                    </a:lnTo>
                    <a:lnTo>
                      <a:pt x="393" y="353"/>
                    </a:lnTo>
                    <a:lnTo>
                      <a:pt x="383" y="345"/>
                    </a:lnTo>
                    <a:lnTo>
                      <a:pt x="375" y="338"/>
                    </a:lnTo>
                    <a:lnTo>
                      <a:pt x="358" y="325"/>
                    </a:lnTo>
                    <a:lnTo>
                      <a:pt x="344" y="312"/>
                    </a:lnTo>
                    <a:lnTo>
                      <a:pt x="328" y="299"/>
                    </a:lnTo>
                    <a:lnTo>
                      <a:pt x="312" y="284"/>
                    </a:lnTo>
                    <a:lnTo>
                      <a:pt x="298" y="271"/>
                    </a:lnTo>
                    <a:lnTo>
                      <a:pt x="282" y="257"/>
                    </a:lnTo>
                    <a:lnTo>
                      <a:pt x="268" y="243"/>
                    </a:lnTo>
                    <a:lnTo>
                      <a:pt x="251" y="230"/>
                    </a:lnTo>
                    <a:lnTo>
                      <a:pt x="238" y="219"/>
                    </a:lnTo>
                    <a:lnTo>
                      <a:pt x="224" y="209"/>
                    </a:lnTo>
                    <a:lnTo>
                      <a:pt x="209" y="198"/>
                    </a:lnTo>
                    <a:lnTo>
                      <a:pt x="195" y="187"/>
                    </a:lnTo>
                    <a:lnTo>
                      <a:pt x="179" y="176"/>
                    </a:lnTo>
                    <a:lnTo>
                      <a:pt x="165" y="167"/>
                    </a:lnTo>
                    <a:lnTo>
                      <a:pt x="149" y="157"/>
                    </a:lnTo>
                    <a:lnTo>
                      <a:pt x="134" y="147"/>
                    </a:lnTo>
                    <a:lnTo>
                      <a:pt x="124" y="141"/>
                    </a:lnTo>
                    <a:lnTo>
                      <a:pt x="113" y="137"/>
                    </a:lnTo>
                    <a:lnTo>
                      <a:pt x="102" y="132"/>
                    </a:lnTo>
                    <a:lnTo>
                      <a:pt x="92" y="128"/>
                    </a:lnTo>
                    <a:lnTo>
                      <a:pt x="82" y="123"/>
                    </a:lnTo>
                    <a:lnTo>
                      <a:pt x="71" y="119"/>
                    </a:lnTo>
                    <a:lnTo>
                      <a:pt x="60" y="114"/>
                    </a:lnTo>
                    <a:lnTo>
                      <a:pt x="51" y="108"/>
                    </a:lnTo>
                    <a:lnTo>
                      <a:pt x="44" y="103"/>
                    </a:lnTo>
                    <a:lnTo>
                      <a:pt x="36" y="98"/>
                    </a:lnTo>
                    <a:lnTo>
                      <a:pt x="29" y="92"/>
                    </a:lnTo>
                    <a:lnTo>
                      <a:pt x="22" y="87"/>
                    </a:lnTo>
                    <a:lnTo>
                      <a:pt x="15" y="80"/>
                    </a:lnTo>
                    <a:lnTo>
                      <a:pt x="10" y="74"/>
                    </a:lnTo>
                    <a:lnTo>
                      <a:pt x="5" y="67"/>
                    </a:lnTo>
                    <a:lnTo>
                      <a:pt x="2" y="59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2" y="41"/>
                    </a:lnTo>
                    <a:lnTo>
                      <a:pt x="4" y="33"/>
                    </a:lnTo>
                    <a:lnTo>
                      <a:pt x="8" y="29"/>
                    </a:lnTo>
                    <a:lnTo>
                      <a:pt x="11" y="23"/>
                    </a:lnTo>
                    <a:lnTo>
                      <a:pt x="16" y="18"/>
                    </a:lnTo>
                    <a:lnTo>
                      <a:pt x="21" y="15"/>
                    </a:lnTo>
                    <a:lnTo>
                      <a:pt x="30" y="11"/>
                    </a:lnTo>
                    <a:lnTo>
                      <a:pt x="41" y="7"/>
                    </a:lnTo>
                    <a:lnTo>
                      <a:pt x="51" y="6"/>
                    </a:lnTo>
                    <a:lnTo>
                      <a:pt x="62" y="5"/>
                    </a:lnTo>
                    <a:lnTo>
                      <a:pt x="72" y="3"/>
                    </a:lnTo>
                    <a:lnTo>
                      <a:pt x="83" y="3"/>
                    </a:lnTo>
                    <a:lnTo>
                      <a:pt x="94" y="5"/>
                    </a:lnTo>
                    <a:lnTo>
                      <a:pt x="105" y="5"/>
                    </a:lnTo>
                    <a:lnTo>
                      <a:pt x="114" y="6"/>
                    </a:lnTo>
                    <a:lnTo>
                      <a:pt x="124" y="8"/>
                    </a:lnTo>
                    <a:lnTo>
                      <a:pt x="134" y="11"/>
                    </a:lnTo>
                    <a:lnTo>
                      <a:pt x="143" y="13"/>
                    </a:lnTo>
                    <a:lnTo>
                      <a:pt x="153" y="17"/>
                    </a:lnTo>
                    <a:lnTo>
                      <a:pt x="161" y="20"/>
                    </a:lnTo>
                    <a:lnTo>
                      <a:pt x="170" y="25"/>
                    </a:lnTo>
                    <a:lnTo>
                      <a:pt x="178" y="30"/>
                    </a:lnTo>
                    <a:lnTo>
                      <a:pt x="190" y="38"/>
                    </a:lnTo>
                    <a:lnTo>
                      <a:pt x="201" y="47"/>
                    </a:lnTo>
                    <a:lnTo>
                      <a:pt x="212" y="57"/>
                    </a:lnTo>
                    <a:lnTo>
                      <a:pt x="221" y="67"/>
                    </a:lnTo>
                    <a:lnTo>
                      <a:pt x="231" y="78"/>
                    </a:lnTo>
                    <a:lnTo>
                      <a:pt x="240" y="89"/>
                    </a:lnTo>
                    <a:lnTo>
                      <a:pt x="251" y="98"/>
                    </a:lnTo>
                    <a:lnTo>
                      <a:pt x="262" y="108"/>
                    </a:lnTo>
                    <a:lnTo>
                      <a:pt x="276" y="121"/>
                    </a:lnTo>
                    <a:lnTo>
                      <a:pt x="292" y="134"/>
                    </a:lnTo>
                    <a:lnTo>
                      <a:pt x="306" y="147"/>
                    </a:lnTo>
                    <a:lnTo>
                      <a:pt x="322" y="161"/>
                    </a:lnTo>
                    <a:lnTo>
                      <a:pt x="338" y="173"/>
                    </a:lnTo>
                    <a:lnTo>
                      <a:pt x="353" y="186"/>
                    </a:lnTo>
                    <a:lnTo>
                      <a:pt x="369" y="198"/>
                    </a:lnTo>
                    <a:lnTo>
                      <a:pt x="384" y="211"/>
                    </a:lnTo>
                    <a:lnTo>
                      <a:pt x="395" y="219"/>
                    </a:lnTo>
                    <a:lnTo>
                      <a:pt x="407" y="229"/>
                    </a:lnTo>
                    <a:lnTo>
                      <a:pt x="418" y="239"/>
                    </a:lnTo>
                    <a:lnTo>
                      <a:pt x="430" y="247"/>
                    </a:lnTo>
                    <a:lnTo>
                      <a:pt x="441" y="255"/>
                    </a:lnTo>
                    <a:lnTo>
                      <a:pt x="453" y="264"/>
                    </a:lnTo>
                    <a:lnTo>
                      <a:pt x="465" y="272"/>
                    </a:lnTo>
                    <a:lnTo>
                      <a:pt x="477" y="279"/>
                    </a:lnTo>
                    <a:lnTo>
                      <a:pt x="484" y="283"/>
                    </a:lnTo>
                    <a:lnTo>
                      <a:pt x="490" y="285"/>
                    </a:lnTo>
                    <a:lnTo>
                      <a:pt x="497" y="288"/>
                    </a:lnTo>
                    <a:lnTo>
                      <a:pt x="503" y="290"/>
                    </a:lnTo>
                    <a:lnTo>
                      <a:pt x="510" y="291"/>
                    </a:lnTo>
                    <a:lnTo>
                      <a:pt x="518" y="293"/>
                    </a:lnTo>
                    <a:lnTo>
                      <a:pt x="525" y="294"/>
                    </a:lnTo>
                    <a:lnTo>
                      <a:pt x="531" y="294"/>
                    </a:lnTo>
                    <a:lnTo>
                      <a:pt x="538" y="295"/>
                    </a:lnTo>
                    <a:lnTo>
                      <a:pt x="544" y="295"/>
                    </a:lnTo>
                    <a:lnTo>
                      <a:pt x="551" y="295"/>
                    </a:lnTo>
                    <a:lnTo>
                      <a:pt x="557" y="294"/>
                    </a:lnTo>
                    <a:lnTo>
                      <a:pt x="564" y="293"/>
                    </a:lnTo>
                    <a:lnTo>
                      <a:pt x="570" y="291"/>
                    </a:lnTo>
                    <a:lnTo>
                      <a:pt x="575" y="288"/>
                    </a:lnTo>
                    <a:lnTo>
                      <a:pt x="580" y="284"/>
                    </a:lnTo>
                    <a:lnTo>
                      <a:pt x="585" y="278"/>
                    </a:lnTo>
                    <a:lnTo>
                      <a:pt x="590" y="272"/>
                    </a:lnTo>
                    <a:lnTo>
                      <a:pt x="592" y="265"/>
                    </a:lnTo>
                    <a:lnTo>
                      <a:pt x="594" y="258"/>
                    </a:lnTo>
                    <a:lnTo>
                      <a:pt x="597" y="249"/>
                    </a:lnTo>
                    <a:lnTo>
                      <a:pt x="598" y="241"/>
                    </a:lnTo>
                    <a:lnTo>
                      <a:pt x="599" y="234"/>
                    </a:lnTo>
                    <a:lnTo>
                      <a:pt x="600" y="225"/>
                    </a:lnTo>
                    <a:lnTo>
                      <a:pt x="600" y="213"/>
                    </a:lnTo>
                    <a:lnTo>
                      <a:pt x="600" y="203"/>
                    </a:lnTo>
                    <a:lnTo>
                      <a:pt x="599" y="191"/>
                    </a:lnTo>
                    <a:lnTo>
                      <a:pt x="599" y="179"/>
                    </a:lnTo>
                    <a:lnTo>
                      <a:pt x="597" y="168"/>
                    </a:lnTo>
                    <a:lnTo>
                      <a:pt x="597" y="156"/>
                    </a:lnTo>
                    <a:lnTo>
                      <a:pt x="596" y="144"/>
                    </a:lnTo>
                    <a:lnTo>
                      <a:pt x="596" y="133"/>
                    </a:lnTo>
                    <a:lnTo>
                      <a:pt x="596" y="126"/>
                    </a:lnTo>
                    <a:lnTo>
                      <a:pt x="596" y="120"/>
                    </a:lnTo>
                    <a:lnTo>
                      <a:pt x="597" y="114"/>
                    </a:lnTo>
                    <a:lnTo>
                      <a:pt x="597" y="108"/>
                    </a:lnTo>
                    <a:lnTo>
                      <a:pt x="598" y="102"/>
                    </a:lnTo>
                    <a:lnTo>
                      <a:pt x="599" y="96"/>
                    </a:lnTo>
                    <a:lnTo>
                      <a:pt x="599" y="90"/>
                    </a:lnTo>
                    <a:lnTo>
                      <a:pt x="600" y="84"/>
                    </a:lnTo>
                    <a:lnTo>
                      <a:pt x="600" y="77"/>
                    </a:lnTo>
                    <a:lnTo>
                      <a:pt x="599" y="69"/>
                    </a:lnTo>
                    <a:lnTo>
                      <a:pt x="599" y="63"/>
                    </a:lnTo>
                    <a:lnTo>
                      <a:pt x="599" y="56"/>
                    </a:lnTo>
                    <a:lnTo>
                      <a:pt x="598" y="50"/>
                    </a:lnTo>
                    <a:lnTo>
                      <a:pt x="598" y="43"/>
                    </a:lnTo>
                    <a:lnTo>
                      <a:pt x="599" y="36"/>
                    </a:lnTo>
                    <a:lnTo>
                      <a:pt x="600" y="30"/>
                    </a:lnTo>
                    <a:lnTo>
                      <a:pt x="602" y="25"/>
                    </a:lnTo>
                    <a:lnTo>
                      <a:pt x="603" y="20"/>
                    </a:lnTo>
                    <a:lnTo>
                      <a:pt x="604" y="15"/>
                    </a:lnTo>
                    <a:lnTo>
                      <a:pt x="606" y="11"/>
                    </a:lnTo>
                    <a:lnTo>
                      <a:pt x="609" y="6"/>
                    </a:lnTo>
                    <a:lnTo>
                      <a:pt x="612" y="3"/>
                    </a:lnTo>
                    <a:lnTo>
                      <a:pt x="616" y="1"/>
                    </a:lnTo>
                    <a:lnTo>
                      <a:pt x="620" y="0"/>
                    </a:lnTo>
                    <a:lnTo>
                      <a:pt x="628" y="1"/>
                    </a:lnTo>
                    <a:lnTo>
                      <a:pt x="636" y="3"/>
                    </a:lnTo>
                    <a:lnTo>
                      <a:pt x="645" y="7"/>
                    </a:lnTo>
                    <a:lnTo>
                      <a:pt x="652" y="12"/>
                    </a:lnTo>
                    <a:lnTo>
                      <a:pt x="659" y="17"/>
                    </a:lnTo>
                    <a:lnTo>
                      <a:pt x="666" y="23"/>
                    </a:lnTo>
                    <a:lnTo>
                      <a:pt x="672" y="29"/>
                    </a:lnTo>
                    <a:lnTo>
                      <a:pt x="678" y="35"/>
                    </a:lnTo>
                    <a:lnTo>
                      <a:pt x="684" y="43"/>
                    </a:lnTo>
                    <a:lnTo>
                      <a:pt x="689" y="51"/>
                    </a:lnTo>
                    <a:lnTo>
                      <a:pt x="694" y="60"/>
                    </a:lnTo>
                    <a:lnTo>
                      <a:pt x="698" y="69"/>
                    </a:lnTo>
                    <a:lnTo>
                      <a:pt x="702" y="79"/>
                    </a:lnTo>
                    <a:lnTo>
                      <a:pt x="705" y="89"/>
                    </a:lnTo>
                    <a:lnTo>
                      <a:pt x="708" y="98"/>
                    </a:lnTo>
                    <a:lnTo>
                      <a:pt x="713" y="108"/>
                    </a:lnTo>
                    <a:lnTo>
                      <a:pt x="718" y="121"/>
                    </a:lnTo>
                    <a:lnTo>
                      <a:pt x="724" y="135"/>
                    </a:lnTo>
                    <a:lnTo>
                      <a:pt x="730" y="149"/>
                    </a:lnTo>
                    <a:lnTo>
                      <a:pt x="735" y="162"/>
                    </a:lnTo>
                    <a:lnTo>
                      <a:pt x="741" y="175"/>
                    </a:lnTo>
                    <a:lnTo>
                      <a:pt x="746" y="189"/>
                    </a:lnTo>
                    <a:lnTo>
                      <a:pt x="752" y="203"/>
                    </a:lnTo>
                    <a:lnTo>
                      <a:pt x="756" y="216"/>
                    </a:lnTo>
                    <a:lnTo>
                      <a:pt x="760" y="224"/>
                    </a:lnTo>
                    <a:lnTo>
                      <a:pt x="764" y="233"/>
                    </a:lnTo>
                    <a:lnTo>
                      <a:pt x="767" y="240"/>
                    </a:lnTo>
                    <a:lnTo>
                      <a:pt x="770" y="248"/>
                    </a:lnTo>
                    <a:lnTo>
                      <a:pt x="773" y="257"/>
                    </a:lnTo>
                    <a:lnTo>
                      <a:pt x="778" y="264"/>
                    </a:lnTo>
                    <a:lnTo>
                      <a:pt x="782" y="272"/>
                    </a:lnTo>
                    <a:lnTo>
                      <a:pt x="786" y="279"/>
                    </a:lnTo>
                    <a:lnTo>
                      <a:pt x="792" y="288"/>
                    </a:lnTo>
                    <a:lnTo>
                      <a:pt x="798" y="295"/>
                    </a:lnTo>
                    <a:lnTo>
                      <a:pt x="804" y="303"/>
                    </a:lnTo>
                    <a:lnTo>
                      <a:pt x="812" y="311"/>
                    </a:lnTo>
                    <a:lnTo>
                      <a:pt x="819" y="318"/>
                    </a:lnTo>
                    <a:lnTo>
                      <a:pt x="826" y="325"/>
                    </a:lnTo>
                    <a:lnTo>
                      <a:pt x="833" y="331"/>
                    </a:lnTo>
                    <a:lnTo>
                      <a:pt x="840" y="338"/>
                    </a:lnTo>
                    <a:lnTo>
                      <a:pt x="850" y="347"/>
                    </a:lnTo>
                    <a:lnTo>
                      <a:pt x="858" y="356"/>
                    </a:lnTo>
                    <a:lnTo>
                      <a:pt x="868" y="365"/>
                    </a:lnTo>
                    <a:lnTo>
                      <a:pt x="878" y="373"/>
                    </a:lnTo>
                    <a:lnTo>
                      <a:pt x="887" y="381"/>
                    </a:lnTo>
                    <a:lnTo>
                      <a:pt x="897" y="389"/>
                    </a:lnTo>
                    <a:lnTo>
                      <a:pt x="908" y="396"/>
                    </a:lnTo>
                    <a:lnTo>
                      <a:pt x="918" y="402"/>
                    </a:lnTo>
                    <a:lnTo>
                      <a:pt x="928" y="405"/>
                    </a:lnTo>
                    <a:lnTo>
                      <a:pt x="938" y="409"/>
                    </a:lnTo>
                    <a:lnTo>
                      <a:pt x="947" y="411"/>
                    </a:lnTo>
                    <a:lnTo>
                      <a:pt x="957" y="414"/>
                    </a:lnTo>
                    <a:lnTo>
                      <a:pt x="966" y="415"/>
                    </a:lnTo>
                    <a:lnTo>
                      <a:pt x="977" y="415"/>
                    </a:lnTo>
                    <a:lnTo>
                      <a:pt x="987" y="416"/>
                    </a:lnTo>
                    <a:lnTo>
                      <a:pt x="998" y="416"/>
                    </a:lnTo>
                    <a:lnTo>
                      <a:pt x="1010" y="417"/>
                    </a:lnTo>
                    <a:lnTo>
                      <a:pt x="1022" y="417"/>
                    </a:lnTo>
                    <a:lnTo>
                      <a:pt x="1034" y="417"/>
                    </a:lnTo>
                    <a:lnTo>
                      <a:pt x="1047" y="417"/>
                    </a:lnTo>
                    <a:lnTo>
                      <a:pt x="1059" y="416"/>
                    </a:lnTo>
                    <a:lnTo>
                      <a:pt x="1071" y="415"/>
                    </a:lnTo>
                    <a:lnTo>
                      <a:pt x="1083" y="414"/>
                    </a:lnTo>
                    <a:lnTo>
                      <a:pt x="1095" y="411"/>
                    </a:lnTo>
                    <a:lnTo>
                      <a:pt x="1103" y="410"/>
                    </a:lnTo>
                    <a:lnTo>
                      <a:pt x="1112" y="408"/>
                    </a:lnTo>
                    <a:lnTo>
                      <a:pt x="1120" y="405"/>
                    </a:lnTo>
                    <a:lnTo>
                      <a:pt x="1128" y="403"/>
                    </a:lnTo>
                    <a:lnTo>
                      <a:pt x="1137" y="399"/>
                    </a:lnTo>
                    <a:lnTo>
                      <a:pt x="1144" y="396"/>
                    </a:lnTo>
                    <a:lnTo>
                      <a:pt x="1152" y="392"/>
                    </a:lnTo>
                    <a:lnTo>
                      <a:pt x="1158" y="387"/>
                    </a:lnTo>
                    <a:lnTo>
                      <a:pt x="1166" y="381"/>
                    </a:lnTo>
                    <a:lnTo>
                      <a:pt x="1173" y="377"/>
                    </a:lnTo>
                    <a:lnTo>
                      <a:pt x="1181" y="369"/>
                    </a:lnTo>
                    <a:lnTo>
                      <a:pt x="1187" y="363"/>
                    </a:lnTo>
                    <a:lnTo>
                      <a:pt x="1193" y="356"/>
                    </a:lnTo>
                    <a:lnTo>
                      <a:pt x="1197" y="349"/>
                    </a:lnTo>
                    <a:lnTo>
                      <a:pt x="1198" y="345"/>
                    </a:lnTo>
                    <a:lnTo>
                      <a:pt x="1199" y="342"/>
                    </a:lnTo>
                    <a:lnTo>
                      <a:pt x="1199" y="337"/>
                    </a:lnTo>
                    <a:lnTo>
                      <a:pt x="1198" y="333"/>
                    </a:lnTo>
                    <a:lnTo>
                      <a:pt x="1197" y="330"/>
                    </a:lnTo>
                    <a:lnTo>
                      <a:pt x="1194" y="326"/>
                    </a:lnTo>
                    <a:lnTo>
                      <a:pt x="1192" y="323"/>
                    </a:lnTo>
                    <a:lnTo>
                      <a:pt x="1188" y="319"/>
                    </a:lnTo>
                    <a:lnTo>
                      <a:pt x="1181" y="315"/>
                    </a:lnTo>
                    <a:lnTo>
                      <a:pt x="1173" y="311"/>
                    </a:lnTo>
                    <a:lnTo>
                      <a:pt x="1163" y="308"/>
                    </a:lnTo>
                    <a:lnTo>
                      <a:pt x="1152" y="306"/>
                    </a:lnTo>
                    <a:lnTo>
                      <a:pt x="1143" y="302"/>
                    </a:lnTo>
                    <a:lnTo>
                      <a:pt x="1134" y="299"/>
                    </a:lnTo>
                    <a:lnTo>
                      <a:pt x="1124" y="295"/>
                    </a:lnTo>
                    <a:lnTo>
                      <a:pt x="1114" y="291"/>
                    </a:lnTo>
                    <a:lnTo>
                      <a:pt x="1103" y="288"/>
                    </a:lnTo>
                    <a:lnTo>
                      <a:pt x="1092" y="285"/>
                    </a:lnTo>
                    <a:lnTo>
                      <a:pt x="1082" y="282"/>
                    </a:lnTo>
                    <a:lnTo>
                      <a:pt x="1071" y="278"/>
                    </a:lnTo>
                    <a:lnTo>
                      <a:pt x="1061" y="275"/>
                    </a:lnTo>
                    <a:lnTo>
                      <a:pt x="1052" y="270"/>
                    </a:lnTo>
                    <a:lnTo>
                      <a:pt x="1044" y="266"/>
                    </a:lnTo>
                    <a:lnTo>
                      <a:pt x="1038" y="261"/>
                    </a:lnTo>
                    <a:lnTo>
                      <a:pt x="1032" y="258"/>
                    </a:lnTo>
                    <a:lnTo>
                      <a:pt x="1026" y="253"/>
                    </a:lnTo>
                    <a:lnTo>
                      <a:pt x="1022" y="247"/>
                    </a:lnTo>
                    <a:lnTo>
                      <a:pt x="1017" y="242"/>
                    </a:lnTo>
                    <a:lnTo>
                      <a:pt x="1012" y="236"/>
                    </a:lnTo>
                    <a:lnTo>
                      <a:pt x="1007" y="230"/>
                    </a:lnTo>
                    <a:lnTo>
                      <a:pt x="1002" y="224"/>
                    </a:lnTo>
                    <a:lnTo>
                      <a:pt x="999" y="218"/>
                    </a:lnTo>
                    <a:lnTo>
                      <a:pt x="995" y="211"/>
                    </a:lnTo>
                    <a:lnTo>
                      <a:pt x="992" y="205"/>
                    </a:lnTo>
                    <a:lnTo>
                      <a:pt x="989" y="198"/>
                    </a:lnTo>
                    <a:lnTo>
                      <a:pt x="987" y="191"/>
                    </a:lnTo>
                    <a:lnTo>
                      <a:pt x="984" y="183"/>
                    </a:lnTo>
                    <a:lnTo>
                      <a:pt x="982" y="176"/>
                    </a:lnTo>
                    <a:lnTo>
                      <a:pt x="982" y="171"/>
                    </a:lnTo>
                    <a:lnTo>
                      <a:pt x="981" y="167"/>
                    </a:lnTo>
                    <a:lnTo>
                      <a:pt x="981" y="161"/>
                    </a:lnTo>
                    <a:lnTo>
                      <a:pt x="981" y="156"/>
                    </a:lnTo>
                    <a:lnTo>
                      <a:pt x="981" y="150"/>
                    </a:lnTo>
                    <a:lnTo>
                      <a:pt x="982" y="145"/>
                    </a:lnTo>
                    <a:lnTo>
                      <a:pt x="984" y="141"/>
                    </a:lnTo>
                    <a:lnTo>
                      <a:pt x="987" y="138"/>
                    </a:lnTo>
                    <a:lnTo>
                      <a:pt x="993" y="134"/>
                    </a:lnTo>
                    <a:lnTo>
                      <a:pt x="998" y="131"/>
                    </a:lnTo>
                    <a:lnTo>
                      <a:pt x="1004" y="129"/>
                    </a:lnTo>
                    <a:lnTo>
                      <a:pt x="1011" y="128"/>
                    </a:lnTo>
                    <a:lnTo>
                      <a:pt x="1017" y="127"/>
                    </a:lnTo>
                    <a:lnTo>
                      <a:pt x="1024" y="127"/>
                    </a:lnTo>
                    <a:lnTo>
                      <a:pt x="1030" y="127"/>
                    </a:lnTo>
                    <a:lnTo>
                      <a:pt x="1036" y="127"/>
                    </a:lnTo>
                    <a:lnTo>
                      <a:pt x="1044" y="128"/>
                    </a:lnTo>
                    <a:lnTo>
                      <a:pt x="1053" y="131"/>
                    </a:lnTo>
                    <a:lnTo>
                      <a:pt x="1060" y="133"/>
                    </a:lnTo>
                    <a:lnTo>
                      <a:pt x="1068" y="137"/>
                    </a:lnTo>
                    <a:lnTo>
                      <a:pt x="1077" y="139"/>
                    </a:lnTo>
                    <a:lnTo>
                      <a:pt x="1084" y="143"/>
                    </a:lnTo>
                    <a:lnTo>
                      <a:pt x="1092" y="145"/>
                    </a:lnTo>
                    <a:lnTo>
                      <a:pt x="1100" y="147"/>
                    </a:lnTo>
                    <a:lnTo>
                      <a:pt x="1110" y="149"/>
                    </a:lnTo>
                    <a:lnTo>
                      <a:pt x="1120" y="151"/>
                    </a:lnTo>
                    <a:lnTo>
                      <a:pt x="1130" y="152"/>
                    </a:lnTo>
                    <a:lnTo>
                      <a:pt x="1139" y="153"/>
                    </a:lnTo>
                    <a:lnTo>
                      <a:pt x="1149" y="155"/>
                    </a:lnTo>
                    <a:lnTo>
                      <a:pt x="1158" y="156"/>
                    </a:lnTo>
                    <a:lnTo>
                      <a:pt x="1169" y="156"/>
                    </a:lnTo>
                    <a:lnTo>
                      <a:pt x="1179" y="157"/>
                    </a:lnTo>
                    <a:lnTo>
                      <a:pt x="1190" y="157"/>
                    </a:lnTo>
                    <a:lnTo>
                      <a:pt x="1200" y="158"/>
                    </a:lnTo>
                    <a:lnTo>
                      <a:pt x="1211" y="158"/>
                    </a:lnTo>
                    <a:lnTo>
                      <a:pt x="1223" y="158"/>
                    </a:lnTo>
                    <a:lnTo>
                      <a:pt x="1234" y="158"/>
                    </a:lnTo>
                    <a:lnTo>
                      <a:pt x="1245" y="158"/>
                    </a:lnTo>
                    <a:lnTo>
                      <a:pt x="1256" y="157"/>
                    </a:lnTo>
                    <a:lnTo>
                      <a:pt x="1266" y="157"/>
                    </a:lnTo>
                    <a:lnTo>
                      <a:pt x="1275" y="157"/>
                    </a:lnTo>
                    <a:lnTo>
                      <a:pt x="1282" y="156"/>
                    </a:lnTo>
                    <a:lnTo>
                      <a:pt x="1289" y="155"/>
                    </a:lnTo>
                    <a:lnTo>
                      <a:pt x="1296" y="153"/>
                    </a:lnTo>
                    <a:lnTo>
                      <a:pt x="1304" y="152"/>
                    </a:lnTo>
                    <a:lnTo>
                      <a:pt x="1311" y="151"/>
                    </a:lnTo>
                    <a:lnTo>
                      <a:pt x="1318" y="151"/>
                    </a:lnTo>
                    <a:lnTo>
                      <a:pt x="1325" y="152"/>
                    </a:lnTo>
                    <a:lnTo>
                      <a:pt x="1332" y="153"/>
                    </a:lnTo>
                    <a:lnTo>
                      <a:pt x="1338" y="156"/>
                    </a:lnTo>
                    <a:lnTo>
                      <a:pt x="1344" y="158"/>
                    </a:lnTo>
                    <a:lnTo>
                      <a:pt x="1350" y="161"/>
                    </a:lnTo>
                    <a:lnTo>
                      <a:pt x="1355" y="164"/>
                    </a:lnTo>
                    <a:lnTo>
                      <a:pt x="1361" y="168"/>
                    </a:lnTo>
                    <a:lnTo>
                      <a:pt x="1366" y="171"/>
                    </a:lnTo>
                    <a:lnTo>
                      <a:pt x="1370" y="176"/>
                    </a:lnTo>
                    <a:lnTo>
                      <a:pt x="1373" y="182"/>
                    </a:lnTo>
                    <a:lnTo>
                      <a:pt x="1376" y="187"/>
                    </a:lnTo>
                    <a:lnTo>
                      <a:pt x="1378" y="193"/>
                    </a:lnTo>
                    <a:lnTo>
                      <a:pt x="1379" y="200"/>
                    </a:lnTo>
                    <a:lnTo>
                      <a:pt x="1380" y="206"/>
                    </a:lnTo>
                    <a:lnTo>
                      <a:pt x="1382" y="213"/>
                    </a:lnTo>
                    <a:lnTo>
                      <a:pt x="1383" y="219"/>
                    </a:lnTo>
                    <a:lnTo>
                      <a:pt x="1384" y="225"/>
                    </a:lnTo>
                    <a:lnTo>
                      <a:pt x="1389" y="242"/>
                    </a:lnTo>
                    <a:lnTo>
                      <a:pt x="1392" y="259"/>
                    </a:lnTo>
                    <a:lnTo>
                      <a:pt x="1397" y="275"/>
                    </a:lnTo>
                    <a:lnTo>
                      <a:pt x="1401" y="291"/>
                    </a:lnTo>
                    <a:lnTo>
                      <a:pt x="1404" y="308"/>
                    </a:lnTo>
                    <a:lnTo>
                      <a:pt x="1408" y="325"/>
                    </a:lnTo>
                    <a:lnTo>
                      <a:pt x="1412" y="341"/>
                    </a:lnTo>
                    <a:lnTo>
                      <a:pt x="1414" y="357"/>
                    </a:lnTo>
                    <a:lnTo>
                      <a:pt x="1416" y="373"/>
                    </a:lnTo>
                    <a:lnTo>
                      <a:pt x="1416" y="389"/>
                    </a:lnTo>
                    <a:lnTo>
                      <a:pt x="1418" y="404"/>
                    </a:lnTo>
                    <a:lnTo>
                      <a:pt x="1418" y="420"/>
                    </a:lnTo>
                    <a:lnTo>
                      <a:pt x="1419" y="434"/>
                    </a:lnTo>
                    <a:lnTo>
                      <a:pt x="1419" y="450"/>
                    </a:lnTo>
                    <a:lnTo>
                      <a:pt x="1421" y="465"/>
                    </a:lnTo>
                    <a:lnTo>
                      <a:pt x="1424" y="480"/>
                    </a:lnTo>
                    <a:lnTo>
                      <a:pt x="1426" y="490"/>
                    </a:lnTo>
                    <a:lnTo>
                      <a:pt x="1428" y="500"/>
                    </a:lnTo>
                    <a:lnTo>
                      <a:pt x="1432" y="510"/>
                    </a:lnTo>
                    <a:lnTo>
                      <a:pt x="1436" y="520"/>
                    </a:lnTo>
                    <a:lnTo>
                      <a:pt x="1440" y="529"/>
                    </a:lnTo>
                    <a:lnTo>
                      <a:pt x="1445" y="538"/>
                    </a:lnTo>
                    <a:lnTo>
                      <a:pt x="1451" y="547"/>
                    </a:lnTo>
                    <a:lnTo>
                      <a:pt x="1458" y="554"/>
                    </a:lnTo>
                    <a:lnTo>
                      <a:pt x="1463" y="558"/>
                    </a:lnTo>
                    <a:lnTo>
                      <a:pt x="1469" y="560"/>
                    </a:lnTo>
                    <a:lnTo>
                      <a:pt x="1475" y="562"/>
                    </a:lnTo>
                    <a:lnTo>
                      <a:pt x="1482" y="564"/>
                    </a:lnTo>
                    <a:lnTo>
                      <a:pt x="1488" y="564"/>
                    </a:lnTo>
                    <a:lnTo>
                      <a:pt x="1496" y="564"/>
                    </a:lnTo>
                    <a:lnTo>
                      <a:pt x="1502" y="561"/>
                    </a:lnTo>
                    <a:lnTo>
                      <a:pt x="1508" y="559"/>
                    </a:lnTo>
                    <a:lnTo>
                      <a:pt x="1518" y="550"/>
                    </a:lnTo>
                    <a:lnTo>
                      <a:pt x="1529" y="540"/>
                    </a:lnTo>
                    <a:lnTo>
                      <a:pt x="1539" y="529"/>
                    </a:lnTo>
                    <a:lnTo>
                      <a:pt x="1547" y="518"/>
                    </a:lnTo>
                    <a:lnTo>
                      <a:pt x="1556" y="506"/>
                    </a:lnTo>
                    <a:lnTo>
                      <a:pt x="1564" y="494"/>
                    </a:lnTo>
                    <a:lnTo>
                      <a:pt x="1572" y="482"/>
                    </a:lnTo>
                    <a:lnTo>
                      <a:pt x="1581" y="470"/>
                    </a:lnTo>
                    <a:lnTo>
                      <a:pt x="1592" y="456"/>
                    </a:lnTo>
                    <a:lnTo>
                      <a:pt x="1602" y="441"/>
                    </a:lnTo>
                    <a:lnTo>
                      <a:pt x="1612" y="427"/>
                    </a:lnTo>
                    <a:lnTo>
                      <a:pt x="1623" y="411"/>
                    </a:lnTo>
                    <a:lnTo>
                      <a:pt x="1632" y="397"/>
                    </a:lnTo>
                    <a:lnTo>
                      <a:pt x="1643" y="381"/>
                    </a:lnTo>
                    <a:lnTo>
                      <a:pt x="1653" y="367"/>
                    </a:lnTo>
                    <a:lnTo>
                      <a:pt x="1664" y="353"/>
                    </a:lnTo>
                    <a:lnTo>
                      <a:pt x="1672" y="343"/>
                    </a:lnTo>
                    <a:lnTo>
                      <a:pt x="1680" y="332"/>
                    </a:lnTo>
                    <a:lnTo>
                      <a:pt x="1689" y="323"/>
                    </a:lnTo>
                    <a:lnTo>
                      <a:pt x="1696" y="312"/>
                    </a:lnTo>
                    <a:lnTo>
                      <a:pt x="1706" y="302"/>
                    </a:lnTo>
                    <a:lnTo>
                      <a:pt x="1714" y="293"/>
                    </a:lnTo>
                    <a:lnTo>
                      <a:pt x="1724" y="283"/>
                    </a:lnTo>
                    <a:lnTo>
                      <a:pt x="1733" y="275"/>
                    </a:lnTo>
                    <a:lnTo>
                      <a:pt x="1738" y="270"/>
                    </a:lnTo>
                    <a:lnTo>
                      <a:pt x="1744" y="265"/>
                    </a:lnTo>
                    <a:lnTo>
                      <a:pt x="1751" y="260"/>
                    </a:lnTo>
                    <a:lnTo>
                      <a:pt x="1757" y="255"/>
                    </a:lnTo>
                    <a:lnTo>
                      <a:pt x="1764" y="252"/>
                    </a:lnTo>
                    <a:lnTo>
                      <a:pt x="1769" y="251"/>
                    </a:lnTo>
                    <a:lnTo>
                      <a:pt x="1772" y="251"/>
                    </a:lnTo>
                    <a:lnTo>
                      <a:pt x="1774" y="251"/>
                    </a:lnTo>
                    <a:lnTo>
                      <a:pt x="1775" y="253"/>
                    </a:lnTo>
                    <a:lnTo>
                      <a:pt x="1776" y="255"/>
                    </a:lnTo>
                    <a:lnTo>
                      <a:pt x="1781" y="272"/>
                    </a:lnTo>
                    <a:lnTo>
                      <a:pt x="1784" y="290"/>
                    </a:lnTo>
                    <a:lnTo>
                      <a:pt x="1785" y="308"/>
                    </a:lnTo>
                    <a:lnTo>
                      <a:pt x="1785" y="326"/>
                    </a:lnTo>
                    <a:lnTo>
                      <a:pt x="1782" y="344"/>
                    </a:lnTo>
                    <a:lnTo>
                      <a:pt x="1780" y="362"/>
                    </a:lnTo>
                    <a:lnTo>
                      <a:pt x="1776" y="380"/>
                    </a:lnTo>
                    <a:lnTo>
                      <a:pt x="1772" y="397"/>
                    </a:lnTo>
                    <a:lnTo>
                      <a:pt x="1763" y="427"/>
                    </a:lnTo>
                    <a:lnTo>
                      <a:pt x="1752" y="457"/>
                    </a:lnTo>
                    <a:lnTo>
                      <a:pt x="1740" y="487"/>
                    </a:lnTo>
                    <a:lnTo>
                      <a:pt x="1728" y="517"/>
                    </a:lnTo>
                    <a:lnTo>
                      <a:pt x="1715" y="546"/>
                    </a:lnTo>
                    <a:lnTo>
                      <a:pt x="1702" y="574"/>
                    </a:lnTo>
                    <a:lnTo>
                      <a:pt x="1688" y="603"/>
                    </a:lnTo>
                    <a:lnTo>
                      <a:pt x="1674" y="632"/>
                    </a:lnTo>
                    <a:lnTo>
                      <a:pt x="1666" y="648"/>
                    </a:lnTo>
                    <a:lnTo>
                      <a:pt x="1658" y="664"/>
                    </a:lnTo>
                    <a:lnTo>
                      <a:pt x="1649" y="680"/>
                    </a:lnTo>
                    <a:lnTo>
                      <a:pt x="1641" y="696"/>
                    </a:lnTo>
                    <a:lnTo>
                      <a:pt x="1631" y="711"/>
                    </a:lnTo>
                    <a:lnTo>
                      <a:pt x="1622" y="726"/>
                    </a:lnTo>
                    <a:lnTo>
                      <a:pt x="1611" y="740"/>
                    </a:lnTo>
                    <a:lnTo>
                      <a:pt x="1600" y="754"/>
                    </a:lnTo>
                    <a:lnTo>
                      <a:pt x="1593" y="763"/>
                    </a:lnTo>
                    <a:lnTo>
                      <a:pt x="1583" y="771"/>
                    </a:lnTo>
                    <a:lnTo>
                      <a:pt x="1575" y="778"/>
                    </a:lnTo>
                    <a:lnTo>
                      <a:pt x="1565" y="786"/>
                    </a:lnTo>
                    <a:lnTo>
                      <a:pt x="1556" y="792"/>
                    </a:lnTo>
                    <a:lnTo>
                      <a:pt x="1545" y="799"/>
                    </a:lnTo>
                    <a:lnTo>
                      <a:pt x="1535" y="806"/>
                    </a:lnTo>
                    <a:lnTo>
                      <a:pt x="1527" y="813"/>
                    </a:lnTo>
                    <a:lnTo>
                      <a:pt x="1522" y="817"/>
                    </a:lnTo>
                    <a:lnTo>
                      <a:pt x="1518" y="820"/>
                    </a:lnTo>
                    <a:lnTo>
                      <a:pt x="1514" y="825"/>
                    </a:lnTo>
                    <a:lnTo>
                      <a:pt x="1509" y="829"/>
                    </a:lnTo>
                    <a:lnTo>
                      <a:pt x="1505" y="832"/>
                    </a:lnTo>
                    <a:lnTo>
                      <a:pt x="1502" y="837"/>
                    </a:lnTo>
                    <a:lnTo>
                      <a:pt x="1499" y="842"/>
                    </a:lnTo>
                    <a:lnTo>
                      <a:pt x="1497" y="848"/>
                    </a:lnTo>
                    <a:lnTo>
                      <a:pt x="1496" y="854"/>
                    </a:lnTo>
                    <a:lnTo>
                      <a:pt x="1496" y="861"/>
                    </a:lnTo>
                    <a:lnTo>
                      <a:pt x="1496" y="868"/>
                    </a:lnTo>
                    <a:lnTo>
                      <a:pt x="1496" y="874"/>
                    </a:lnTo>
                    <a:lnTo>
                      <a:pt x="1497" y="882"/>
                    </a:lnTo>
                    <a:lnTo>
                      <a:pt x="1499" y="888"/>
                    </a:lnTo>
                    <a:lnTo>
                      <a:pt x="1503" y="892"/>
                    </a:lnTo>
                    <a:lnTo>
                      <a:pt x="1508" y="897"/>
                    </a:lnTo>
                    <a:lnTo>
                      <a:pt x="1517" y="902"/>
                    </a:lnTo>
                    <a:lnTo>
                      <a:pt x="1527" y="907"/>
                    </a:lnTo>
                    <a:lnTo>
                      <a:pt x="1539" y="909"/>
                    </a:lnTo>
                    <a:lnTo>
                      <a:pt x="1550" y="912"/>
                    </a:lnTo>
                    <a:lnTo>
                      <a:pt x="1562" y="913"/>
                    </a:lnTo>
                    <a:lnTo>
                      <a:pt x="1572" y="913"/>
                    </a:lnTo>
                    <a:lnTo>
                      <a:pt x="1584" y="913"/>
                    </a:lnTo>
                    <a:lnTo>
                      <a:pt x="1595" y="912"/>
                    </a:lnTo>
                    <a:lnTo>
                      <a:pt x="1607" y="909"/>
                    </a:lnTo>
                    <a:lnTo>
                      <a:pt x="1619" y="906"/>
                    </a:lnTo>
                    <a:lnTo>
                      <a:pt x="1631" y="901"/>
                    </a:lnTo>
                    <a:lnTo>
                      <a:pt x="1643" y="896"/>
                    </a:lnTo>
                    <a:lnTo>
                      <a:pt x="1654" y="890"/>
                    </a:lnTo>
                    <a:lnTo>
                      <a:pt x="1665" y="884"/>
                    </a:lnTo>
                    <a:lnTo>
                      <a:pt x="1674" y="876"/>
                    </a:lnTo>
                    <a:lnTo>
                      <a:pt x="1684" y="867"/>
                    </a:lnTo>
                    <a:lnTo>
                      <a:pt x="1698" y="849"/>
                    </a:lnTo>
                    <a:lnTo>
                      <a:pt x="1712" y="830"/>
                    </a:lnTo>
                    <a:lnTo>
                      <a:pt x="1724" y="811"/>
                    </a:lnTo>
                    <a:lnTo>
                      <a:pt x="1734" y="790"/>
                    </a:lnTo>
                    <a:lnTo>
                      <a:pt x="1745" y="770"/>
                    </a:lnTo>
                    <a:lnTo>
                      <a:pt x="1756" y="750"/>
                    </a:lnTo>
                    <a:lnTo>
                      <a:pt x="1768" y="729"/>
                    </a:lnTo>
                    <a:lnTo>
                      <a:pt x="1781" y="710"/>
                    </a:lnTo>
                    <a:lnTo>
                      <a:pt x="1792" y="698"/>
                    </a:lnTo>
                    <a:lnTo>
                      <a:pt x="1803" y="686"/>
                    </a:lnTo>
                    <a:lnTo>
                      <a:pt x="1814" y="674"/>
                    </a:lnTo>
                    <a:lnTo>
                      <a:pt x="1826" y="663"/>
                    </a:lnTo>
                    <a:lnTo>
                      <a:pt x="1838" y="652"/>
                    </a:lnTo>
                    <a:lnTo>
                      <a:pt x="1850" y="642"/>
                    </a:lnTo>
                    <a:lnTo>
                      <a:pt x="1862" y="632"/>
                    </a:lnTo>
                    <a:lnTo>
                      <a:pt x="1875" y="622"/>
                    </a:lnTo>
                    <a:lnTo>
                      <a:pt x="1883" y="616"/>
                    </a:lnTo>
                    <a:lnTo>
                      <a:pt x="1892" y="610"/>
                    </a:lnTo>
                    <a:lnTo>
                      <a:pt x="1901" y="606"/>
                    </a:lnTo>
                    <a:lnTo>
                      <a:pt x="1910" y="601"/>
                    </a:lnTo>
                    <a:lnTo>
                      <a:pt x="1919" y="597"/>
                    </a:lnTo>
                    <a:lnTo>
                      <a:pt x="1929" y="594"/>
                    </a:lnTo>
                    <a:lnTo>
                      <a:pt x="1938" y="592"/>
                    </a:lnTo>
                    <a:lnTo>
                      <a:pt x="1948" y="592"/>
                    </a:lnTo>
                    <a:lnTo>
                      <a:pt x="1958" y="595"/>
                    </a:lnTo>
                    <a:lnTo>
                      <a:pt x="1967" y="598"/>
                    </a:lnTo>
                    <a:lnTo>
                      <a:pt x="1976" y="603"/>
                    </a:lnTo>
                    <a:lnTo>
                      <a:pt x="1983" y="609"/>
                    </a:lnTo>
                    <a:lnTo>
                      <a:pt x="1991" y="615"/>
                    </a:lnTo>
                    <a:lnTo>
                      <a:pt x="1998" y="622"/>
                    </a:lnTo>
                    <a:lnTo>
                      <a:pt x="2006" y="630"/>
                    </a:lnTo>
                    <a:lnTo>
                      <a:pt x="2013" y="637"/>
                    </a:lnTo>
                    <a:lnTo>
                      <a:pt x="2019" y="644"/>
                    </a:lnTo>
                    <a:lnTo>
                      <a:pt x="2025" y="652"/>
                    </a:lnTo>
                    <a:lnTo>
                      <a:pt x="2031" y="661"/>
                    </a:lnTo>
                    <a:lnTo>
                      <a:pt x="2036" y="670"/>
                    </a:lnTo>
                    <a:lnTo>
                      <a:pt x="2042" y="679"/>
                    </a:lnTo>
                    <a:lnTo>
                      <a:pt x="2046" y="687"/>
                    </a:lnTo>
                    <a:lnTo>
                      <a:pt x="2051" y="697"/>
                    </a:lnTo>
                    <a:lnTo>
                      <a:pt x="2056" y="705"/>
                    </a:lnTo>
                    <a:lnTo>
                      <a:pt x="2064" y="718"/>
                    </a:lnTo>
                    <a:lnTo>
                      <a:pt x="2072" y="730"/>
                    </a:lnTo>
                    <a:lnTo>
                      <a:pt x="2080" y="744"/>
                    </a:lnTo>
                    <a:lnTo>
                      <a:pt x="2088" y="756"/>
                    </a:lnTo>
                    <a:lnTo>
                      <a:pt x="2096" y="769"/>
                    </a:lnTo>
                    <a:lnTo>
                      <a:pt x="2103" y="782"/>
                    </a:lnTo>
                    <a:lnTo>
                      <a:pt x="2109" y="795"/>
                    </a:lnTo>
                    <a:lnTo>
                      <a:pt x="2115" y="808"/>
                    </a:lnTo>
                    <a:lnTo>
                      <a:pt x="2118" y="817"/>
                    </a:lnTo>
                    <a:lnTo>
                      <a:pt x="2121" y="825"/>
                    </a:lnTo>
                    <a:lnTo>
                      <a:pt x="2123" y="834"/>
                    </a:lnTo>
                    <a:lnTo>
                      <a:pt x="2124" y="842"/>
                    </a:lnTo>
                    <a:lnTo>
                      <a:pt x="2126" y="850"/>
                    </a:lnTo>
                    <a:lnTo>
                      <a:pt x="2127" y="860"/>
                    </a:lnTo>
                    <a:lnTo>
                      <a:pt x="2126" y="868"/>
                    </a:lnTo>
                    <a:lnTo>
                      <a:pt x="2126" y="877"/>
                    </a:lnTo>
                    <a:lnTo>
                      <a:pt x="2123" y="883"/>
                    </a:lnTo>
                    <a:lnTo>
                      <a:pt x="2121" y="889"/>
                    </a:lnTo>
                    <a:lnTo>
                      <a:pt x="2118" y="894"/>
                    </a:lnTo>
                    <a:lnTo>
                      <a:pt x="2115" y="900"/>
                    </a:lnTo>
                    <a:lnTo>
                      <a:pt x="2111" y="904"/>
                    </a:lnTo>
                    <a:lnTo>
                      <a:pt x="2106" y="908"/>
                    </a:lnTo>
                    <a:lnTo>
                      <a:pt x="2102" y="910"/>
                    </a:lnTo>
                    <a:lnTo>
                      <a:pt x="2096" y="912"/>
                    </a:lnTo>
                    <a:lnTo>
                      <a:pt x="2087" y="912"/>
                    </a:lnTo>
                    <a:lnTo>
                      <a:pt x="2078" y="909"/>
                    </a:lnTo>
                    <a:lnTo>
                      <a:pt x="2069" y="907"/>
                    </a:lnTo>
                    <a:lnTo>
                      <a:pt x="2062" y="903"/>
                    </a:lnTo>
                    <a:lnTo>
                      <a:pt x="2054" y="898"/>
                    </a:lnTo>
                    <a:lnTo>
                      <a:pt x="2045" y="894"/>
                    </a:lnTo>
                    <a:lnTo>
                      <a:pt x="2038" y="888"/>
                    </a:lnTo>
                    <a:lnTo>
                      <a:pt x="2032" y="882"/>
                    </a:lnTo>
                    <a:lnTo>
                      <a:pt x="2022" y="873"/>
                    </a:lnTo>
                    <a:lnTo>
                      <a:pt x="2015" y="864"/>
                    </a:lnTo>
                    <a:lnTo>
                      <a:pt x="2008" y="853"/>
                    </a:lnTo>
                    <a:lnTo>
                      <a:pt x="2001" y="842"/>
                    </a:lnTo>
                    <a:lnTo>
                      <a:pt x="1994" y="831"/>
                    </a:lnTo>
                    <a:lnTo>
                      <a:pt x="1988" y="820"/>
                    </a:lnTo>
                    <a:lnTo>
                      <a:pt x="1980" y="810"/>
                    </a:lnTo>
                    <a:lnTo>
                      <a:pt x="1973" y="799"/>
                    </a:lnTo>
                    <a:lnTo>
                      <a:pt x="1968" y="793"/>
                    </a:lnTo>
                    <a:lnTo>
                      <a:pt x="1964" y="786"/>
                    </a:lnTo>
                    <a:lnTo>
                      <a:pt x="1960" y="780"/>
                    </a:lnTo>
                    <a:lnTo>
                      <a:pt x="1955" y="772"/>
                    </a:lnTo>
                    <a:lnTo>
                      <a:pt x="1950" y="766"/>
                    </a:lnTo>
                    <a:lnTo>
                      <a:pt x="1946" y="760"/>
                    </a:lnTo>
                    <a:lnTo>
                      <a:pt x="1940" y="754"/>
                    </a:lnTo>
                    <a:lnTo>
                      <a:pt x="1934" y="750"/>
                    </a:lnTo>
                    <a:lnTo>
                      <a:pt x="1931" y="748"/>
                    </a:lnTo>
                    <a:lnTo>
                      <a:pt x="1928" y="746"/>
                    </a:lnTo>
                    <a:lnTo>
                      <a:pt x="1924" y="746"/>
                    </a:lnTo>
                    <a:lnTo>
                      <a:pt x="1920" y="745"/>
                    </a:lnTo>
                    <a:lnTo>
                      <a:pt x="1918" y="746"/>
                    </a:lnTo>
                    <a:lnTo>
                      <a:pt x="1914" y="746"/>
                    </a:lnTo>
                    <a:lnTo>
                      <a:pt x="1912" y="747"/>
                    </a:lnTo>
                    <a:lnTo>
                      <a:pt x="1910" y="750"/>
                    </a:lnTo>
                    <a:lnTo>
                      <a:pt x="1900" y="763"/>
                    </a:lnTo>
                    <a:lnTo>
                      <a:pt x="1893" y="776"/>
                    </a:lnTo>
                    <a:lnTo>
                      <a:pt x="1886" y="790"/>
                    </a:lnTo>
                    <a:lnTo>
                      <a:pt x="1878" y="805"/>
                    </a:lnTo>
                    <a:lnTo>
                      <a:pt x="1872" y="819"/>
                    </a:lnTo>
                    <a:lnTo>
                      <a:pt x="1865" y="834"/>
                    </a:lnTo>
                    <a:lnTo>
                      <a:pt x="1858" y="848"/>
                    </a:lnTo>
                    <a:lnTo>
                      <a:pt x="1851" y="862"/>
                    </a:lnTo>
                    <a:lnTo>
                      <a:pt x="1842" y="877"/>
                    </a:lnTo>
                    <a:lnTo>
                      <a:pt x="1834" y="890"/>
                    </a:lnTo>
                    <a:lnTo>
                      <a:pt x="1824" y="904"/>
                    </a:lnTo>
                    <a:lnTo>
                      <a:pt x="1816" y="918"/>
                    </a:lnTo>
                    <a:lnTo>
                      <a:pt x="1806" y="931"/>
                    </a:lnTo>
                    <a:lnTo>
                      <a:pt x="1797" y="944"/>
                    </a:lnTo>
                    <a:lnTo>
                      <a:pt x="1787" y="957"/>
                    </a:lnTo>
                    <a:lnTo>
                      <a:pt x="1776" y="970"/>
                    </a:lnTo>
                    <a:lnTo>
                      <a:pt x="1767" y="981"/>
                    </a:lnTo>
                    <a:lnTo>
                      <a:pt x="1756" y="993"/>
                    </a:lnTo>
                    <a:lnTo>
                      <a:pt x="1745" y="1004"/>
                    </a:lnTo>
                    <a:lnTo>
                      <a:pt x="1734" y="1014"/>
                    </a:lnTo>
                    <a:lnTo>
                      <a:pt x="1724" y="1024"/>
                    </a:lnTo>
                    <a:lnTo>
                      <a:pt x="1712" y="1034"/>
                    </a:lnTo>
                    <a:lnTo>
                      <a:pt x="1701" y="1044"/>
                    </a:lnTo>
                    <a:lnTo>
                      <a:pt x="1689" y="1053"/>
                    </a:lnTo>
                    <a:lnTo>
                      <a:pt x="1680" y="1060"/>
                    </a:lnTo>
                    <a:lnTo>
                      <a:pt x="1671" y="1066"/>
                    </a:lnTo>
                    <a:lnTo>
                      <a:pt x="1662" y="1072"/>
                    </a:lnTo>
                    <a:lnTo>
                      <a:pt x="1653" y="1078"/>
                    </a:lnTo>
                    <a:lnTo>
                      <a:pt x="1644" y="1083"/>
                    </a:lnTo>
                    <a:lnTo>
                      <a:pt x="1635" y="1089"/>
                    </a:lnTo>
                    <a:lnTo>
                      <a:pt x="1625" y="1093"/>
                    </a:lnTo>
                    <a:lnTo>
                      <a:pt x="1616" y="1098"/>
                    </a:lnTo>
                    <a:lnTo>
                      <a:pt x="1606" y="1100"/>
                    </a:lnTo>
                    <a:lnTo>
                      <a:pt x="1598" y="1102"/>
                    </a:lnTo>
                    <a:lnTo>
                      <a:pt x="1588" y="1105"/>
                    </a:lnTo>
                    <a:lnTo>
                      <a:pt x="1578" y="1106"/>
                    </a:lnTo>
                    <a:lnTo>
                      <a:pt x="1569" y="1107"/>
                    </a:lnTo>
                    <a:lnTo>
                      <a:pt x="1560" y="1108"/>
                    </a:lnTo>
                    <a:lnTo>
                      <a:pt x="1551" y="1110"/>
                    </a:lnTo>
                    <a:lnTo>
                      <a:pt x="1541" y="1112"/>
                    </a:lnTo>
                    <a:lnTo>
                      <a:pt x="1535" y="1113"/>
                    </a:lnTo>
                    <a:lnTo>
                      <a:pt x="1529" y="1116"/>
                    </a:lnTo>
                    <a:lnTo>
                      <a:pt x="1523" y="1117"/>
                    </a:lnTo>
                    <a:lnTo>
                      <a:pt x="1516" y="1118"/>
                    </a:lnTo>
                    <a:lnTo>
                      <a:pt x="1511" y="1120"/>
                    </a:lnTo>
                    <a:lnTo>
                      <a:pt x="1505" y="1124"/>
                    </a:lnTo>
                    <a:lnTo>
                      <a:pt x="1500" y="1128"/>
                    </a:lnTo>
                    <a:lnTo>
                      <a:pt x="1497" y="1131"/>
                    </a:lnTo>
                    <a:lnTo>
                      <a:pt x="1496" y="1136"/>
                    </a:lnTo>
                    <a:lnTo>
                      <a:pt x="1496" y="1141"/>
                    </a:lnTo>
                    <a:lnTo>
                      <a:pt x="1497" y="1146"/>
                    </a:lnTo>
                    <a:lnTo>
                      <a:pt x="1499" y="1149"/>
                    </a:lnTo>
                    <a:lnTo>
                      <a:pt x="1502" y="1154"/>
                    </a:lnTo>
                    <a:lnTo>
                      <a:pt x="1505" y="1159"/>
                    </a:lnTo>
                    <a:lnTo>
                      <a:pt x="1509" y="1162"/>
                    </a:lnTo>
                    <a:lnTo>
                      <a:pt x="1512" y="1166"/>
                    </a:lnTo>
                    <a:lnTo>
                      <a:pt x="1520" y="1173"/>
                    </a:lnTo>
                    <a:lnTo>
                      <a:pt x="1529" y="1179"/>
                    </a:lnTo>
                    <a:lnTo>
                      <a:pt x="1538" y="1184"/>
                    </a:lnTo>
                    <a:lnTo>
                      <a:pt x="1547" y="1190"/>
                    </a:lnTo>
                    <a:lnTo>
                      <a:pt x="1557" y="1195"/>
                    </a:lnTo>
                    <a:lnTo>
                      <a:pt x="1565" y="1201"/>
                    </a:lnTo>
                    <a:lnTo>
                      <a:pt x="1574" y="1208"/>
                    </a:lnTo>
                    <a:lnTo>
                      <a:pt x="1581" y="1215"/>
                    </a:lnTo>
                    <a:lnTo>
                      <a:pt x="1588" y="1225"/>
                    </a:lnTo>
                    <a:lnTo>
                      <a:pt x="1594" y="1235"/>
                    </a:lnTo>
                    <a:lnTo>
                      <a:pt x="1600" y="1246"/>
                    </a:lnTo>
                    <a:lnTo>
                      <a:pt x="1605" y="1257"/>
                    </a:lnTo>
                    <a:lnTo>
                      <a:pt x="1610" y="1269"/>
                    </a:lnTo>
                    <a:lnTo>
                      <a:pt x="1614" y="1280"/>
                    </a:lnTo>
                    <a:lnTo>
                      <a:pt x="1619" y="1292"/>
                    </a:lnTo>
                    <a:lnTo>
                      <a:pt x="1625" y="1303"/>
                    </a:lnTo>
                    <a:lnTo>
                      <a:pt x="1631" y="1318"/>
                    </a:lnTo>
                    <a:lnTo>
                      <a:pt x="1638" y="1335"/>
                    </a:lnTo>
                    <a:lnTo>
                      <a:pt x="1644" y="1351"/>
                    </a:lnTo>
                    <a:lnTo>
                      <a:pt x="1650" y="1367"/>
                    </a:lnTo>
                    <a:lnTo>
                      <a:pt x="1656" y="1383"/>
                    </a:lnTo>
                    <a:lnTo>
                      <a:pt x="1664" y="1399"/>
                    </a:lnTo>
                    <a:lnTo>
                      <a:pt x="1673" y="1413"/>
                    </a:lnTo>
                    <a:lnTo>
                      <a:pt x="1684" y="1425"/>
                    </a:lnTo>
                    <a:lnTo>
                      <a:pt x="1697" y="1438"/>
                    </a:lnTo>
                    <a:lnTo>
                      <a:pt x="1712" y="1449"/>
                    </a:lnTo>
                    <a:lnTo>
                      <a:pt x="1727" y="1459"/>
                    </a:lnTo>
                    <a:lnTo>
                      <a:pt x="1744" y="1467"/>
                    </a:lnTo>
                    <a:lnTo>
                      <a:pt x="1761" y="1475"/>
                    </a:lnTo>
                    <a:lnTo>
                      <a:pt x="1778" y="1484"/>
                    </a:lnTo>
                    <a:lnTo>
                      <a:pt x="1794" y="1491"/>
                    </a:lnTo>
                    <a:lnTo>
                      <a:pt x="1811" y="1499"/>
                    </a:lnTo>
                    <a:lnTo>
                      <a:pt x="1823" y="1504"/>
                    </a:lnTo>
                    <a:lnTo>
                      <a:pt x="1835" y="1509"/>
                    </a:lnTo>
                    <a:lnTo>
                      <a:pt x="1848" y="1514"/>
                    </a:lnTo>
                    <a:lnTo>
                      <a:pt x="1860" y="1517"/>
                    </a:lnTo>
                    <a:lnTo>
                      <a:pt x="1874" y="1522"/>
                    </a:lnTo>
                    <a:lnTo>
                      <a:pt x="1886" y="1527"/>
                    </a:lnTo>
                    <a:lnTo>
                      <a:pt x="1898" y="1532"/>
                    </a:lnTo>
                    <a:lnTo>
                      <a:pt x="1910" y="1538"/>
                    </a:lnTo>
                    <a:lnTo>
                      <a:pt x="1914" y="1541"/>
                    </a:lnTo>
                    <a:lnTo>
                      <a:pt x="1920" y="1546"/>
                    </a:lnTo>
                    <a:lnTo>
                      <a:pt x="1925" y="1550"/>
                    </a:lnTo>
                    <a:lnTo>
                      <a:pt x="1930" y="1555"/>
                    </a:lnTo>
                    <a:lnTo>
                      <a:pt x="1935" y="1559"/>
                    </a:lnTo>
                    <a:lnTo>
                      <a:pt x="1938" y="1565"/>
                    </a:lnTo>
                    <a:lnTo>
                      <a:pt x="1942" y="1571"/>
                    </a:lnTo>
                    <a:lnTo>
                      <a:pt x="1943" y="1577"/>
                    </a:lnTo>
                    <a:lnTo>
                      <a:pt x="1946" y="1585"/>
                    </a:lnTo>
                    <a:lnTo>
                      <a:pt x="1947" y="1594"/>
                    </a:lnTo>
                    <a:lnTo>
                      <a:pt x="1948" y="1603"/>
                    </a:lnTo>
                    <a:lnTo>
                      <a:pt x="1948" y="1611"/>
                    </a:lnTo>
                    <a:lnTo>
                      <a:pt x="1947" y="1619"/>
                    </a:lnTo>
                    <a:lnTo>
                      <a:pt x="1943" y="1627"/>
                    </a:lnTo>
                    <a:lnTo>
                      <a:pt x="1942" y="1630"/>
                    </a:lnTo>
                    <a:lnTo>
                      <a:pt x="1940" y="1633"/>
                    </a:lnTo>
                    <a:lnTo>
                      <a:pt x="1937" y="1635"/>
                    </a:lnTo>
                    <a:lnTo>
                      <a:pt x="1934" y="1636"/>
                    </a:lnTo>
                    <a:lnTo>
                      <a:pt x="1928" y="1639"/>
                    </a:lnTo>
                    <a:lnTo>
                      <a:pt x="1922" y="1640"/>
                    </a:lnTo>
                    <a:lnTo>
                      <a:pt x="1916" y="1640"/>
                    </a:lnTo>
                    <a:lnTo>
                      <a:pt x="1908" y="1641"/>
                    </a:lnTo>
                    <a:lnTo>
                      <a:pt x="1895" y="1640"/>
                    </a:lnTo>
                    <a:lnTo>
                      <a:pt x="1883" y="1637"/>
                    </a:lnTo>
                    <a:lnTo>
                      <a:pt x="1870" y="1634"/>
                    </a:lnTo>
                    <a:lnTo>
                      <a:pt x="1857" y="1629"/>
                    </a:lnTo>
                    <a:lnTo>
                      <a:pt x="1844" y="1625"/>
                    </a:lnTo>
                    <a:lnTo>
                      <a:pt x="1830" y="1622"/>
                    </a:lnTo>
                    <a:lnTo>
                      <a:pt x="1817" y="1617"/>
                    </a:lnTo>
                    <a:lnTo>
                      <a:pt x="1803" y="1612"/>
                    </a:lnTo>
                    <a:lnTo>
                      <a:pt x="1790" y="1607"/>
                    </a:lnTo>
                    <a:lnTo>
                      <a:pt x="1776" y="1601"/>
                    </a:lnTo>
                    <a:lnTo>
                      <a:pt x="1763" y="1595"/>
                    </a:lnTo>
                    <a:lnTo>
                      <a:pt x="1750" y="1589"/>
                    </a:lnTo>
                    <a:lnTo>
                      <a:pt x="1737" y="1583"/>
                    </a:lnTo>
                    <a:lnTo>
                      <a:pt x="1722" y="1577"/>
                    </a:lnTo>
                    <a:lnTo>
                      <a:pt x="1707" y="1570"/>
                    </a:lnTo>
                    <a:lnTo>
                      <a:pt x="1690" y="1564"/>
                    </a:lnTo>
                    <a:lnTo>
                      <a:pt x="1673" y="1558"/>
                    </a:lnTo>
                    <a:lnTo>
                      <a:pt x="1658" y="1551"/>
                    </a:lnTo>
                    <a:lnTo>
                      <a:pt x="1641" y="1544"/>
                    </a:lnTo>
                    <a:lnTo>
                      <a:pt x="1625" y="1537"/>
                    </a:lnTo>
                    <a:lnTo>
                      <a:pt x="1610" y="1528"/>
                    </a:lnTo>
                    <a:lnTo>
                      <a:pt x="1595" y="1519"/>
                    </a:lnTo>
                    <a:lnTo>
                      <a:pt x="1584" y="1510"/>
                    </a:lnTo>
                    <a:lnTo>
                      <a:pt x="1575" y="1502"/>
                    </a:lnTo>
                    <a:lnTo>
                      <a:pt x="1565" y="1491"/>
                    </a:lnTo>
                    <a:lnTo>
                      <a:pt x="1556" y="1481"/>
                    </a:lnTo>
                    <a:lnTo>
                      <a:pt x="1548" y="1471"/>
                    </a:lnTo>
                    <a:lnTo>
                      <a:pt x="1540" y="1459"/>
                    </a:lnTo>
                    <a:lnTo>
                      <a:pt x="1533" y="1448"/>
                    </a:lnTo>
                    <a:lnTo>
                      <a:pt x="1527" y="1436"/>
                    </a:lnTo>
                    <a:lnTo>
                      <a:pt x="1523" y="1427"/>
                    </a:lnTo>
                    <a:lnTo>
                      <a:pt x="1522" y="1418"/>
                    </a:lnTo>
                    <a:lnTo>
                      <a:pt x="1521" y="1408"/>
                    </a:lnTo>
                    <a:lnTo>
                      <a:pt x="1521" y="1399"/>
                    </a:lnTo>
                    <a:lnTo>
                      <a:pt x="1521" y="1389"/>
                    </a:lnTo>
                    <a:lnTo>
                      <a:pt x="1521" y="1381"/>
                    </a:lnTo>
                    <a:lnTo>
                      <a:pt x="1520" y="1371"/>
                    </a:lnTo>
                    <a:lnTo>
                      <a:pt x="1517" y="1361"/>
                    </a:lnTo>
                    <a:lnTo>
                      <a:pt x="1514" y="1354"/>
                    </a:lnTo>
                    <a:lnTo>
                      <a:pt x="1511" y="1346"/>
                    </a:lnTo>
                    <a:lnTo>
                      <a:pt x="1508" y="1337"/>
                    </a:lnTo>
                    <a:lnTo>
                      <a:pt x="1504" y="1330"/>
                    </a:lnTo>
                    <a:lnTo>
                      <a:pt x="1499" y="1322"/>
                    </a:lnTo>
                    <a:lnTo>
                      <a:pt x="1494" y="1316"/>
                    </a:lnTo>
                    <a:lnTo>
                      <a:pt x="1488" y="1309"/>
                    </a:lnTo>
                    <a:lnTo>
                      <a:pt x="1482" y="1303"/>
                    </a:lnTo>
                    <a:lnTo>
                      <a:pt x="1479" y="1300"/>
                    </a:lnTo>
                    <a:lnTo>
                      <a:pt x="1474" y="1298"/>
                    </a:lnTo>
                    <a:lnTo>
                      <a:pt x="1468" y="1297"/>
                    </a:lnTo>
                    <a:lnTo>
                      <a:pt x="1463" y="1297"/>
                    </a:lnTo>
                    <a:lnTo>
                      <a:pt x="1457" y="1297"/>
                    </a:lnTo>
                    <a:lnTo>
                      <a:pt x="1452" y="1298"/>
                    </a:lnTo>
                    <a:lnTo>
                      <a:pt x="1448" y="1300"/>
                    </a:lnTo>
                    <a:lnTo>
                      <a:pt x="1443" y="1303"/>
                    </a:lnTo>
                    <a:lnTo>
                      <a:pt x="1438" y="1309"/>
                    </a:lnTo>
                    <a:lnTo>
                      <a:pt x="1434" y="1316"/>
                    </a:lnTo>
                    <a:lnTo>
                      <a:pt x="1431" y="1323"/>
                    </a:lnTo>
                    <a:lnTo>
                      <a:pt x="1428" y="1330"/>
                    </a:lnTo>
                    <a:lnTo>
                      <a:pt x="1427" y="1339"/>
                    </a:lnTo>
                    <a:lnTo>
                      <a:pt x="1426" y="1346"/>
                    </a:lnTo>
                    <a:lnTo>
                      <a:pt x="1425" y="1354"/>
                    </a:lnTo>
                    <a:lnTo>
                      <a:pt x="1424" y="1361"/>
                    </a:lnTo>
                    <a:lnTo>
                      <a:pt x="1422" y="1378"/>
                    </a:lnTo>
                    <a:lnTo>
                      <a:pt x="1421" y="1395"/>
                    </a:lnTo>
                    <a:lnTo>
                      <a:pt x="1421" y="1412"/>
                    </a:lnTo>
                    <a:lnTo>
                      <a:pt x="1421" y="1427"/>
                    </a:lnTo>
                    <a:lnTo>
                      <a:pt x="1422" y="1444"/>
                    </a:lnTo>
                    <a:lnTo>
                      <a:pt x="1422" y="1461"/>
                    </a:lnTo>
                    <a:lnTo>
                      <a:pt x="1424" y="1478"/>
                    </a:lnTo>
                    <a:lnTo>
                      <a:pt x="1424" y="1495"/>
                    </a:lnTo>
                    <a:lnTo>
                      <a:pt x="1425" y="1507"/>
                    </a:lnTo>
                    <a:lnTo>
                      <a:pt x="1426" y="1520"/>
                    </a:lnTo>
                    <a:lnTo>
                      <a:pt x="1427" y="1533"/>
                    </a:lnTo>
                    <a:lnTo>
                      <a:pt x="1428" y="1546"/>
                    </a:lnTo>
                    <a:lnTo>
                      <a:pt x="1430" y="1558"/>
                    </a:lnTo>
                    <a:lnTo>
                      <a:pt x="1430" y="1571"/>
                    </a:lnTo>
                    <a:lnTo>
                      <a:pt x="1430" y="1585"/>
                    </a:lnTo>
                    <a:lnTo>
                      <a:pt x="1428" y="1597"/>
                    </a:lnTo>
                    <a:lnTo>
                      <a:pt x="1427" y="1606"/>
                    </a:lnTo>
                    <a:lnTo>
                      <a:pt x="1424" y="1616"/>
                    </a:lnTo>
                    <a:lnTo>
                      <a:pt x="1420" y="1625"/>
                    </a:lnTo>
                    <a:lnTo>
                      <a:pt x="1416" y="1634"/>
                    </a:lnTo>
                    <a:lnTo>
                      <a:pt x="1412" y="1643"/>
                    </a:lnTo>
                    <a:lnTo>
                      <a:pt x="1408" y="1652"/>
                    </a:lnTo>
                    <a:lnTo>
                      <a:pt x="1403" y="1661"/>
                    </a:lnTo>
                    <a:lnTo>
                      <a:pt x="1400" y="1671"/>
                    </a:lnTo>
                    <a:lnTo>
                      <a:pt x="1395" y="1682"/>
                    </a:lnTo>
                    <a:lnTo>
                      <a:pt x="1391" y="1693"/>
                    </a:lnTo>
                    <a:lnTo>
                      <a:pt x="1388" y="1705"/>
                    </a:lnTo>
                    <a:lnTo>
                      <a:pt x="1384" y="1715"/>
                    </a:lnTo>
                    <a:lnTo>
                      <a:pt x="1380" y="1727"/>
                    </a:lnTo>
                    <a:lnTo>
                      <a:pt x="1377" y="1738"/>
                    </a:lnTo>
                    <a:lnTo>
                      <a:pt x="1371" y="1749"/>
                    </a:lnTo>
                    <a:lnTo>
                      <a:pt x="1365" y="1759"/>
                    </a:lnTo>
                    <a:lnTo>
                      <a:pt x="1359" y="1767"/>
                    </a:lnTo>
                    <a:lnTo>
                      <a:pt x="1352" y="1774"/>
                    </a:lnTo>
                    <a:lnTo>
                      <a:pt x="1344" y="1783"/>
                    </a:lnTo>
                    <a:lnTo>
                      <a:pt x="1336" y="1789"/>
                    </a:lnTo>
                    <a:lnTo>
                      <a:pt x="1328" y="1796"/>
                    </a:lnTo>
                    <a:lnTo>
                      <a:pt x="1319" y="1802"/>
                    </a:lnTo>
                    <a:lnTo>
                      <a:pt x="1310" y="1807"/>
                    </a:lnTo>
                    <a:lnTo>
                      <a:pt x="1301" y="1813"/>
                    </a:lnTo>
                    <a:lnTo>
                      <a:pt x="1295" y="1816"/>
                    </a:lnTo>
                    <a:lnTo>
                      <a:pt x="1289" y="1820"/>
                    </a:lnTo>
                    <a:lnTo>
                      <a:pt x="1283" y="1823"/>
                    </a:lnTo>
                    <a:lnTo>
                      <a:pt x="1276" y="1827"/>
                    </a:lnTo>
                    <a:lnTo>
                      <a:pt x="1270" y="1829"/>
                    </a:lnTo>
                    <a:lnTo>
                      <a:pt x="1264" y="1831"/>
                    </a:lnTo>
                    <a:lnTo>
                      <a:pt x="1258" y="1829"/>
                    </a:lnTo>
                    <a:lnTo>
                      <a:pt x="1252" y="1827"/>
                    </a:lnTo>
                    <a:lnTo>
                      <a:pt x="1246" y="1822"/>
                    </a:lnTo>
                    <a:lnTo>
                      <a:pt x="1240" y="1815"/>
                    </a:lnTo>
                    <a:lnTo>
                      <a:pt x="1236" y="1808"/>
                    </a:lnTo>
                    <a:lnTo>
                      <a:pt x="1233" y="1799"/>
                    </a:lnTo>
                    <a:lnTo>
                      <a:pt x="1230" y="1791"/>
                    </a:lnTo>
                    <a:lnTo>
                      <a:pt x="1229" y="1781"/>
                    </a:lnTo>
                    <a:lnTo>
                      <a:pt x="1228" y="1772"/>
                    </a:lnTo>
                    <a:lnTo>
                      <a:pt x="1228" y="1763"/>
                    </a:lnTo>
                    <a:lnTo>
                      <a:pt x="1228" y="1751"/>
                    </a:lnTo>
                    <a:lnTo>
                      <a:pt x="1230" y="1738"/>
                    </a:lnTo>
                    <a:lnTo>
                      <a:pt x="1233" y="1726"/>
                    </a:lnTo>
                    <a:lnTo>
                      <a:pt x="1235" y="1714"/>
                    </a:lnTo>
                    <a:lnTo>
                      <a:pt x="1239" y="1702"/>
                    </a:lnTo>
                    <a:lnTo>
                      <a:pt x="1244" y="1689"/>
                    </a:lnTo>
                    <a:lnTo>
                      <a:pt x="1248" y="1677"/>
                    </a:lnTo>
                    <a:lnTo>
                      <a:pt x="1252" y="1666"/>
                    </a:lnTo>
                    <a:lnTo>
                      <a:pt x="1257" y="1655"/>
                    </a:lnTo>
                    <a:lnTo>
                      <a:pt x="1262" y="1646"/>
                    </a:lnTo>
                    <a:lnTo>
                      <a:pt x="1268" y="1636"/>
                    </a:lnTo>
                    <a:lnTo>
                      <a:pt x="1272" y="1627"/>
                    </a:lnTo>
                    <a:lnTo>
                      <a:pt x="1278" y="1617"/>
                    </a:lnTo>
                    <a:lnTo>
                      <a:pt x="1283" y="1607"/>
                    </a:lnTo>
                    <a:lnTo>
                      <a:pt x="1288" y="1598"/>
                    </a:lnTo>
                    <a:lnTo>
                      <a:pt x="1292" y="1587"/>
                    </a:lnTo>
                    <a:lnTo>
                      <a:pt x="1295" y="1570"/>
                    </a:lnTo>
                    <a:lnTo>
                      <a:pt x="1299" y="1552"/>
                    </a:lnTo>
                    <a:lnTo>
                      <a:pt x="1301" y="1534"/>
                    </a:lnTo>
                    <a:lnTo>
                      <a:pt x="1304" y="1516"/>
                    </a:lnTo>
                    <a:lnTo>
                      <a:pt x="1305" y="1499"/>
                    </a:lnTo>
                    <a:lnTo>
                      <a:pt x="1306" y="1481"/>
                    </a:lnTo>
                    <a:lnTo>
                      <a:pt x="1306" y="1463"/>
                    </a:lnTo>
                    <a:lnTo>
                      <a:pt x="1306" y="1445"/>
                    </a:lnTo>
                    <a:lnTo>
                      <a:pt x="1305" y="1433"/>
                    </a:lnTo>
                    <a:lnTo>
                      <a:pt x="1304" y="1423"/>
                    </a:lnTo>
                    <a:lnTo>
                      <a:pt x="1301" y="1411"/>
                    </a:lnTo>
                    <a:lnTo>
                      <a:pt x="1299" y="1400"/>
                    </a:lnTo>
                    <a:lnTo>
                      <a:pt x="1295" y="1389"/>
                    </a:lnTo>
                    <a:lnTo>
                      <a:pt x="1292" y="1378"/>
                    </a:lnTo>
                    <a:lnTo>
                      <a:pt x="1287" y="1367"/>
                    </a:lnTo>
                    <a:lnTo>
                      <a:pt x="1282" y="1357"/>
                    </a:lnTo>
                    <a:lnTo>
                      <a:pt x="1278" y="1351"/>
                    </a:lnTo>
                    <a:lnTo>
                      <a:pt x="1274" y="1345"/>
                    </a:lnTo>
                    <a:lnTo>
                      <a:pt x="1269" y="1340"/>
                    </a:lnTo>
                    <a:lnTo>
                      <a:pt x="1263" y="1334"/>
                    </a:lnTo>
                    <a:lnTo>
                      <a:pt x="1257" y="1330"/>
                    </a:lnTo>
                    <a:lnTo>
                      <a:pt x="1251" y="1327"/>
                    </a:lnTo>
                    <a:lnTo>
                      <a:pt x="1245" y="1324"/>
                    </a:lnTo>
                    <a:lnTo>
                      <a:pt x="1238" y="1323"/>
                    </a:lnTo>
                    <a:lnTo>
                      <a:pt x="1229" y="1323"/>
                    </a:lnTo>
                    <a:lnTo>
                      <a:pt x="1221" y="1323"/>
                    </a:lnTo>
                    <a:lnTo>
                      <a:pt x="1214" y="1325"/>
                    </a:lnTo>
                    <a:lnTo>
                      <a:pt x="1205" y="1328"/>
                    </a:lnTo>
                    <a:lnTo>
                      <a:pt x="1198" y="1331"/>
                    </a:lnTo>
                    <a:lnTo>
                      <a:pt x="1191" y="1336"/>
                    </a:lnTo>
                    <a:lnTo>
                      <a:pt x="1185" y="1341"/>
                    </a:lnTo>
                    <a:lnTo>
                      <a:pt x="1179" y="1347"/>
                    </a:lnTo>
                    <a:lnTo>
                      <a:pt x="1170" y="1357"/>
                    </a:lnTo>
                    <a:lnTo>
                      <a:pt x="1164" y="1367"/>
                    </a:lnTo>
                    <a:lnTo>
                      <a:pt x="1158" y="1378"/>
                    </a:lnTo>
                    <a:lnTo>
                      <a:pt x="1154" y="1389"/>
                    </a:lnTo>
                    <a:lnTo>
                      <a:pt x="1149" y="1401"/>
                    </a:lnTo>
                    <a:lnTo>
                      <a:pt x="1144" y="1413"/>
                    </a:lnTo>
                    <a:lnTo>
                      <a:pt x="1139" y="1424"/>
                    </a:lnTo>
                    <a:lnTo>
                      <a:pt x="1134" y="1436"/>
                    </a:lnTo>
                    <a:lnTo>
                      <a:pt x="1126" y="1454"/>
                    </a:lnTo>
                    <a:lnTo>
                      <a:pt x="1116" y="1472"/>
                    </a:lnTo>
                    <a:lnTo>
                      <a:pt x="1108" y="1490"/>
                    </a:lnTo>
                    <a:lnTo>
                      <a:pt x="1100" y="1508"/>
                    </a:lnTo>
                    <a:lnTo>
                      <a:pt x="1090" y="1525"/>
                    </a:lnTo>
                    <a:lnTo>
                      <a:pt x="1080" y="1543"/>
                    </a:lnTo>
                    <a:lnTo>
                      <a:pt x="1071" y="1561"/>
                    </a:lnTo>
                    <a:lnTo>
                      <a:pt x="1061" y="1577"/>
                    </a:lnTo>
                    <a:lnTo>
                      <a:pt x="1052" y="1593"/>
                    </a:lnTo>
                    <a:lnTo>
                      <a:pt x="1041" y="1609"/>
                    </a:lnTo>
                    <a:lnTo>
                      <a:pt x="1031" y="1624"/>
                    </a:lnTo>
                    <a:lnTo>
                      <a:pt x="1020" y="1639"/>
                    </a:lnTo>
                    <a:lnTo>
                      <a:pt x="1010" y="1654"/>
                    </a:lnTo>
                    <a:lnTo>
                      <a:pt x="998" y="1669"/>
                    </a:lnTo>
                    <a:lnTo>
                      <a:pt x="986" y="1682"/>
                    </a:lnTo>
                    <a:lnTo>
                      <a:pt x="972" y="1695"/>
                    </a:lnTo>
                    <a:lnTo>
                      <a:pt x="959" y="1707"/>
                    </a:lnTo>
                    <a:lnTo>
                      <a:pt x="945" y="1719"/>
                    </a:lnTo>
                    <a:lnTo>
                      <a:pt x="930" y="1731"/>
                    </a:lnTo>
                    <a:lnTo>
                      <a:pt x="915" y="1742"/>
                    </a:lnTo>
                    <a:lnTo>
                      <a:pt x="899" y="1751"/>
                    </a:lnTo>
                    <a:lnTo>
                      <a:pt x="882" y="1761"/>
                    </a:lnTo>
                    <a:lnTo>
                      <a:pt x="867" y="1769"/>
                    </a:lnTo>
                    <a:lnTo>
                      <a:pt x="850" y="1778"/>
                    </a:lnTo>
                    <a:lnTo>
                      <a:pt x="837" y="1784"/>
                    </a:lnTo>
                    <a:lnTo>
                      <a:pt x="825" y="1789"/>
                    </a:lnTo>
                    <a:lnTo>
                      <a:pt x="810" y="1793"/>
                    </a:lnTo>
                    <a:lnTo>
                      <a:pt x="797" y="1797"/>
                    </a:lnTo>
                    <a:lnTo>
                      <a:pt x="784" y="1801"/>
                    </a:lnTo>
                    <a:lnTo>
                      <a:pt x="770" y="1803"/>
                    </a:lnTo>
                    <a:lnTo>
                      <a:pt x="756" y="1805"/>
                    </a:lnTo>
                    <a:lnTo>
                      <a:pt x="742" y="1808"/>
                    </a:lnTo>
                    <a:lnTo>
                      <a:pt x="737" y="1808"/>
                    </a:lnTo>
                    <a:lnTo>
                      <a:pt x="731" y="1809"/>
                    </a:lnTo>
                    <a:lnTo>
                      <a:pt x="726" y="1808"/>
                    </a:lnTo>
                    <a:lnTo>
                      <a:pt x="720" y="1808"/>
                    </a:lnTo>
                    <a:lnTo>
                      <a:pt x="716" y="1807"/>
                    </a:lnTo>
                    <a:lnTo>
                      <a:pt x="711" y="1804"/>
                    </a:lnTo>
                    <a:lnTo>
                      <a:pt x="706" y="1802"/>
                    </a:lnTo>
                    <a:lnTo>
                      <a:pt x="702" y="1798"/>
                    </a:lnTo>
                    <a:lnTo>
                      <a:pt x="701" y="1793"/>
                    </a:lnTo>
                    <a:lnTo>
                      <a:pt x="699" y="1789"/>
                    </a:lnTo>
                    <a:lnTo>
                      <a:pt x="699" y="1784"/>
                    </a:lnTo>
                    <a:lnTo>
                      <a:pt x="699" y="1778"/>
                    </a:lnTo>
                    <a:lnTo>
                      <a:pt x="700" y="1773"/>
                    </a:lnTo>
                    <a:lnTo>
                      <a:pt x="702" y="1767"/>
                    </a:lnTo>
                    <a:lnTo>
                      <a:pt x="705" y="1763"/>
                    </a:lnTo>
                    <a:lnTo>
                      <a:pt x="708" y="1759"/>
                    </a:lnTo>
                    <a:lnTo>
                      <a:pt x="718" y="1748"/>
                    </a:lnTo>
                    <a:lnTo>
                      <a:pt x="729" y="1737"/>
                    </a:lnTo>
                    <a:lnTo>
                      <a:pt x="741" y="1727"/>
                    </a:lnTo>
                    <a:lnTo>
                      <a:pt x="753" y="1718"/>
                    </a:lnTo>
                    <a:lnTo>
                      <a:pt x="765" y="1709"/>
                    </a:lnTo>
                    <a:lnTo>
                      <a:pt x="777" y="1700"/>
                    </a:lnTo>
                    <a:lnTo>
                      <a:pt x="789" y="1690"/>
                    </a:lnTo>
                    <a:lnTo>
                      <a:pt x="801" y="1681"/>
                    </a:lnTo>
                    <a:lnTo>
                      <a:pt x="814" y="1669"/>
                    </a:lnTo>
                    <a:lnTo>
                      <a:pt x="828" y="1657"/>
                    </a:lnTo>
                    <a:lnTo>
                      <a:pt x="842" y="1646"/>
                    </a:lnTo>
                    <a:lnTo>
                      <a:pt x="856" y="1634"/>
                    </a:lnTo>
                    <a:lnTo>
                      <a:pt x="869" y="1622"/>
                    </a:lnTo>
                    <a:lnTo>
                      <a:pt x="881" y="1610"/>
                    </a:lnTo>
                    <a:lnTo>
                      <a:pt x="893" y="1597"/>
                    </a:lnTo>
                    <a:lnTo>
                      <a:pt x="904" y="1582"/>
                    </a:lnTo>
                    <a:lnTo>
                      <a:pt x="914" y="1568"/>
                    </a:lnTo>
                    <a:lnTo>
                      <a:pt x="923" y="1552"/>
                    </a:lnTo>
                    <a:lnTo>
                      <a:pt x="933" y="1535"/>
                    </a:lnTo>
                    <a:lnTo>
                      <a:pt x="941" y="1519"/>
                    </a:lnTo>
                    <a:lnTo>
                      <a:pt x="947" y="1502"/>
                    </a:lnTo>
                    <a:lnTo>
                      <a:pt x="954" y="1485"/>
                    </a:lnTo>
                    <a:lnTo>
                      <a:pt x="959" y="1468"/>
                    </a:lnTo>
                    <a:lnTo>
                      <a:pt x="963" y="1450"/>
                    </a:lnTo>
                    <a:lnTo>
                      <a:pt x="964" y="1442"/>
                    </a:lnTo>
                    <a:lnTo>
                      <a:pt x="963" y="1433"/>
                    </a:lnTo>
                    <a:lnTo>
                      <a:pt x="962" y="1425"/>
                    </a:lnTo>
                    <a:lnTo>
                      <a:pt x="958" y="1418"/>
                    </a:lnTo>
                    <a:lnTo>
                      <a:pt x="954" y="1409"/>
                    </a:lnTo>
                    <a:lnTo>
                      <a:pt x="950" y="1402"/>
                    </a:lnTo>
                    <a:lnTo>
                      <a:pt x="945" y="1396"/>
                    </a:lnTo>
                    <a:lnTo>
                      <a:pt x="939" y="1391"/>
                    </a:lnTo>
                    <a:lnTo>
                      <a:pt x="933" y="1389"/>
                    </a:lnTo>
                    <a:lnTo>
                      <a:pt x="928" y="1388"/>
                    </a:lnTo>
                    <a:lnTo>
                      <a:pt x="922" y="1388"/>
                    </a:lnTo>
                    <a:lnTo>
                      <a:pt x="916" y="1389"/>
                    </a:lnTo>
                    <a:lnTo>
                      <a:pt x="910" y="1391"/>
                    </a:lnTo>
                    <a:lnTo>
                      <a:pt x="904" y="1395"/>
                    </a:lnTo>
                    <a:lnTo>
                      <a:pt x="899" y="1397"/>
                    </a:lnTo>
                    <a:lnTo>
                      <a:pt x="894" y="1401"/>
                    </a:lnTo>
                    <a:lnTo>
                      <a:pt x="890" y="1406"/>
                    </a:lnTo>
                    <a:lnTo>
                      <a:pt x="886" y="1411"/>
                    </a:lnTo>
                    <a:lnTo>
                      <a:pt x="882" y="1417"/>
                    </a:lnTo>
                    <a:lnTo>
                      <a:pt x="880" y="1424"/>
                    </a:lnTo>
                    <a:lnTo>
                      <a:pt x="876" y="1430"/>
                    </a:lnTo>
                    <a:lnTo>
                      <a:pt x="874" y="1436"/>
                    </a:lnTo>
                    <a:lnTo>
                      <a:pt x="869" y="1441"/>
                    </a:lnTo>
                    <a:lnTo>
                      <a:pt x="864" y="1445"/>
                    </a:lnTo>
                    <a:lnTo>
                      <a:pt x="855" y="1451"/>
                    </a:lnTo>
                    <a:lnTo>
                      <a:pt x="845" y="1457"/>
                    </a:lnTo>
                    <a:lnTo>
                      <a:pt x="836" y="1463"/>
                    </a:lnTo>
                    <a:lnTo>
                      <a:pt x="825" y="1468"/>
                    </a:lnTo>
                    <a:lnTo>
                      <a:pt x="814" y="1472"/>
                    </a:lnTo>
                    <a:lnTo>
                      <a:pt x="803" y="1475"/>
                    </a:lnTo>
                    <a:lnTo>
                      <a:pt x="792" y="1478"/>
                    </a:lnTo>
                    <a:lnTo>
                      <a:pt x="782" y="1479"/>
                    </a:lnTo>
                    <a:lnTo>
                      <a:pt x="773" y="1480"/>
                    </a:lnTo>
                    <a:lnTo>
                      <a:pt x="765" y="1479"/>
                    </a:lnTo>
                    <a:lnTo>
                      <a:pt x="755" y="1478"/>
                    </a:lnTo>
                    <a:lnTo>
                      <a:pt x="747" y="1475"/>
                    </a:lnTo>
                    <a:lnTo>
                      <a:pt x="738" y="1472"/>
                    </a:lnTo>
                    <a:lnTo>
                      <a:pt x="732" y="1467"/>
                    </a:lnTo>
                    <a:lnTo>
                      <a:pt x="726" y="1462"/>
                    </a:lnTo>
                    <a:lnTo>
                      <a:pt x="723" y="1455"/>
                    </a:lnTo>
                    <a:lnTo>
                      <a:pt x="720" y="1449"/>
                    </a:lnTo>
                    <a:lnTo>
                      <a:pt x="719" y="1443"/>
                    </a:lnTo>
                    <a:lnTo>
                      <a:pt x="718" y="1437"/>
                    </a:lnTo>
                    <a:lnTo>
                      <a:pt x="718" y="1430"/>
                    </a:lnTo>
                    <a:lnTo>
                      <a:pt x="719" y="1418"/>
                    </a:lnTo>
                    <a:lnTo>
                      <a:pt x="722" y="1405"/>
                    </a:lnTo>
                    <a:lnTo>
                      <a:pt x="725" y="1391"/>
                    </a:lnTo>
                    <a:lnTo>
                      <a:pt x="728" y="1378"/>
                    </a:lnTo>
                    <a:lnTo>
                      <a:pt x="731" y="1365"/>
                    </a:lnTo>
                    <a:lnTo>
                      <a:pt x="732" y="1352"/>
                    </a:lnTo>
                    <a:lnTo>
                      <a:pt x="734" y="1343"/>
                    </a:lnTo>
                    <a:lnTo>
                      <a:pt x="735" y="1334"/>
                    </a:lnTo>
                    <a:lnTo>
                      <a:pt x="737" y="1324"/>
                    </a:lnTo>
                    <a:lnTo>
                      <a:pt x="740" y="1315"/>
                    </a:lnTo>
                    <a:lnTo>
                      <a:pt x="741" y="1305"/>
                    </a:lnTo>
                    <a:lnTo>
                      <a:pt x="741" y="1297"/>
                    </a:lnTo>
                    <a:lnTo>
                      <a:pt x="740" y="1287"/>
                    </a:lnTo>
                    <a:lnTo>
                      <a:pt x="737" y="1279"/>
                    </a:lnTo>
                    <a:lnTo>
                      <a:pt x="734" y="1274"/>
                    </a:lnTo>
                    <a:lnTo>
                      <a:pt x="730" y="1270"/>
                    </a:lnTo>
                    <a:lnTo>
                      <a:pt x="725" y="1268"/>
                    </a:lnTo>
                    <a:lnTo>
                      <a:pt x="719" y="1265"/>
                    </a:lnTo>
                    <a:lnTo>
                      <a:pt x="712" y="1264"/>
                    </a:lnTo>
                    <a:lnTo>
                      <a:pt x="706" y="1264"/>
                    </a:lnTo>
                    <a:lnTo>
                      <a:pt x="699" y="1264"/>
                    </a:lnTo>
                    <a:lnTo>
                      <a:pt x="693" y="1264"/>
                    </a:lnTo>
                    <a:lnTo>
                      <a:pt x="680" y="1264"/>
                    </a:lnTo>
                    <a:lnTo>
                      <a:pt x="666" y="1267"/>
                    </a:lnTo>
                    <a:lnTo>
                      <a:pt x="652" y="1269"/>
                    </a:lnTo>
                    <a:lnTo>
                      <a:pt x="639" y="1273"/>
                    </a:lnTo>
                    <a:lnTo>
                      <a:pt x="626" y="1275"/>
                    </a:lnTo>
                    <a:lnTo>
                      <a:pt x="612" y="1277"/>
                    </a:lnTo>
                    <a:lnTo>
                      <a:pt x="599" y="1279"/>
                    </a:lnTo>
                    <a:lnTo>
                      <a:pt x="585" y="1279"/>
                    </a:lnTo>
                    <a:lnTo>
                      <a:pt x="574" y="1277"/>
                    </a:lnTo>
                    <a:lnTo>
                      <a:pt x="562" y="1275"/>
                    </a:lnTo>
                    <a:lnTo>
                      <a:pt x="550" y="1273"/>
                    </a:lnTo>
                    <a:lnTo>
                      <a:pt x="539" y="1269"/>
                    </a:lnTo>
                    <a:lnTo>
                      <a:pt x="528" y="1265"/>
                    </a:lnTo>
                    <a:lnTo>
                      <a:pt x="518" y="1261"/>
                    </a:lnTo>
                    <a:lnTo>
                      <a:pt x="507" y="1256"/>
                    </a:lnTo>
                    <a:lnTo>
                      <a:pt x="497" y="1249"/>
                    </a:lnTo>
                    <a:lnTo>
                      <a:pt x="490" y="1244"/>
                    </a:lnTo>
                    <a:lnTo>
                      <a:pt x="484" y="1237"/>
                    </a:lnTo>
                    <a:lnTo>
                      <a:pt x="479" y="1228"/>
                    </a:lnTo>
                    <a:lnTo>
                      <a:pt x="474" y="1221"/>
                    </a:lnTo>
                    <a:lnTo>
                      <a:pt x="470" y="1213"/>
                    </a:lnTo>
                    <a:lnTo>
                      <a:pt x="465" y="1204"/>
                    </a:lnTo>
                    <a:lnTo>
                      <a:pt x="459" y="1197"/>
                    </a:lnTo>
                    <a:lnTo>
                      <a:pt x="453" y="1190"/>
                    </a:lnTo>
                    <a:lnTo>
                      <a:pt x="448" y="1186"/>
                    </a:lnTo>
                    <a:lnTo>
                      <a:pt x="442" y="1183"/>
                    </a:lnTo>
                    <a:lnTo>
                      <a:pt x="436" y="1179"/>
                    </a:lnTo>
                    <a:lnTo>
                      <a:pt x="430" y="1177"/>
                    </a:lnTo>
                    <a:lnTo>
                      <a:pt x="424" y="1174"/>
                    </a:lnTo>
                    <a:lnTo>
                      <a:pt x="417" y="1173"/>
                    </a:lnTo>
                    <a:lnTo>
                      <a:pt x="411" y="1172"/>
                    </a:lnTo>
                    <a:lnTo>
                      <a:pt x="404" y="1171"/>
                    </a:lnTo>
                    <a:lnTo>
                      <a:pt x="388" y="1170"/>
                    </a:lnTo>
                    <a:lnTo>
                      <a:pt x="372" y="1170"/>
                    </a:lnTo>
                    <a:lnTo>
                      <a:pt x="356" y="1171"/>
                    </a:lnTo>
                    <a:lnTo>
                      <a:pt x="340" y="1172"/>
                    </a:lnTo>
                    <a:lnTo>
                      <a:pt x="324" y="1173"/>
                    </a:lnTo>
                    <a:lnTo>
                      <a:pt x="309" y="1174"/>
                    </a:lnTo>
                    <a:lnTo>
                      <a:pt x="292" y="1176"/>
                    </a:lnTo>
                    <a:lnTo>
                      <a:pt x="276" y="1176"/>
                    </a:lnTo>
                    <a:lnTo>
                      <a:pt x="258" y="1177"/>
                    </a:lnTo>
                    <a:lnTo>
                      <a:pt x="240" y="1178"/>
                    </a:lnTo>
                    <a:lnTo>
                      <a:pt x="222" y="1180"/>
                    </a:lnTo>
                    <a:lnTo>
                      <a:pt x="206" y="1182"/>
                    </a:lnTo>
                    <a:lnTo>
                      <a:pt x="188" y="1183"/>
                    </a:lnTo>
                    <a:lnTo>
                      <a:pt x="170" y="1183"/>
                    </a:lnTo>
                    <a:lnTo>
                      <a:pt x="152" y="1183"/>
                    </a:lnTo>
                    <a:lnTo>
                      <a:pt x="134" y="1180"/>
                    </a:lnTo>
                    <a:lnTo>
                      <a:pt x="125" y="1179"/>
                    </a:lnTo>
                    <a:lnTo>
                      <a:pt x="117" y="1176"/>
                    </a:lnTo>
                    <a:lnTo>
                      <a:pt x="108" y="1172"/>
                    </a:lnTo>
                    <a:lnTo>
                      <a:pt x="100" y="1167"/>
                    </a:lnTo>
                    <a:lnTo>
                      <a:pt x="93" y="1162"/>
                    </a:lnTo>
                    <a:lnTo>
                      <a:pt x="86" y="1158"/>
                    </a:lnTo>
                    <a:lnTo>
                      <a:pt x="77" y="1152"/>
                    </a:lnTo>
                    <a:lnTo>
                      <a:pt x="70" y="1147"/>
                    </a:lnTo>
                    <a:lnTo>
                      <a:pt x="63" y="1141"/>
                    </a:lnTo>
                    <a:lnTo>
                      <a:pt x="56" y="1136"/>
                    </a:lnTo>
                    <a:lnTo>
                      <a:pt x="50" y="1130"/>
                    </a:lnTo>
                    <a:lnTo>
                      <a:pt x="42" y="1125"/>
                    </a:lnTo>
                    <a:lnTo>
                      <a:pt x="36" y="1119"/>
                    </a:lnTo>
                    <a:lnTo>
                      <a:pt x="30" y="1112"/>
                    </a:lnTo>
                    <a:lnTo>
                      <a:pt x="26" y="1105"/>
                    </a:lnTo>
                    <a:lnTo>
                      <a:pt x="21" y="1098"/>
                    </a:lnTo>
                    <a:lnTo>
                      <a:pt x="20" y="1092"/>
                    </a:lnTo>
                    <a:lnTo>
                      <a:pt x="18" y="1086"/>
                    </a:lnTo>
                    <a:lnTo>
                      <a:pt x="18" y="1080"/>
                    </a:lnTo>
                    <a:lnTo>
                      <a:pt x="20" y="1072"/>
                    </a:lnTo>
                    <a:lnTo>
                      <a:pt x="21" y="1066"/>
                    </a:lnTo>
                    <a:lnTo>
                      <a:pt x="23" y="1062"/>
                    </a:lnTo>
                    <a:lnTo>
                      <a:pt x="27" y="1057"/>
                    </a:lnTo>
                    <a:lnTo>
                      <a:pt x="32" y="1053"/>
                    </a:lnTo>
                    <a:lnTo>
                      <a:pt x="42" y="1048"/>
                    </a:lnTo>
                    <a:lnTo>
                      <a:pt x="54" y="1045"/>
                    </a:lnTo>
                    <a:lnTo>
                      <a:pt x="66" y="1042"/>
                    </a:lnTo>
                    <a:lnTo>
                      <a:pt x="78" y="1040"/>
                    </a:lnTo>
                    <a:lnTo>
                      <a:pt x="92" y="1040"/>
                    </a:lnTo>
                    <a:lnTo>
                      <a:pt x="104" y="1039"/>
                    </a:lnTo>
                    <a:lnTo>
                      <a:pt x="117" y="1039"/>
                    </a:lnTo>
                    <a:lnTo>
                      <a:pt x="129" y="1039"/>
                    </a:lnTo>
                    <a:lnTo>
                      <a:pt x="150" y="1039"/>
                    </a:lnTo>
                    <a:lnTo>
                      <a:pt x="171" y="1039"/>
                    </a:lnTo>
                    <a:lnTo>
                      <a:pt x="191" y="1040"/>
                    </a:lnTo>
                    <a:lnTo>
                      <a:pt x="213" y="1042"/>
                    </a:lnTo>
                    <a:lnTo>
                      <a:pt x="233" y="1044"/>
                    </a:lnTo>
                    <a:lnTo>
                      <a:pt x="255" y="1045"/>
                    </a:lnTo>
                    <a:lnTo>
                      <a:pt x="275" y="1045"/>
                    </a:lnTo>
                    <a:lnTo>
                      <a:pt x="296" y="1044"/>
                    </a:lnTo>
                    <a:lnTo>
                      <a:pt x="309" y="1042"/>
                    </a:lnTo>
                    <a:lnTo>
                      <a:pt x="321" y="1040"/>
                    </a:lnTo>
                    <a:lnTo>
                      <a:pt x="333" y="1036"/>
                    </a:lnTo>
                    <a:lnTo>
                      <a:pt x="345" y="1033"/>
                    </a:lnTo>
                    <a:lnTo>
                      <a:pt x="358" y="1029"/>
                    </a:lnTo>
                    <a:lnTo>
                      <a:pt x="370" y="1026"/>
                    </a:lnTo>
                    <a:lnTo>
                      <a:pt x="382" y="1022"/>
                    </a:lnTo>
                    <a:lnTo>
                      <a:pt x="394" y="1020"/>
                    </a:lnTo>
                    <a:lnTo>
                      <a:pt x="402" y="1017"/>
                    </a:lnTo>
                    <a:lnTo>
                      <a:pt x="410" y="1014"/>
                    </a:lnTo>
                    <a:lnTo>
                      <a:pt x="418" y="1011"/>
                    </a:lnTo>
                    <a:lnTo>
                      <a:pt x="425" y="1009"/>
                    </a:lnTo>
                    <a:lnTo>
                      <a:pt x="434" y="1006"/>
                    </a:lnTo>
                    <a:lnTo>
                      <a:pt x="442" y="1004"/>
                    </a:lnTo>
                    <a:lnTo>
                      <a:pt x="449" y="1004"/>
                    </a:lnTo>
                    <a:lnTo>
                      <a:pt x="458" y="1004"/>
                    </a:lnTo>
                    <a:lnTo>
                      <a:pt x="473" y="1008"/>
                    </a:lnTo>
                    <a:lnTo>
                      <a:pt x="489" y="1012"/>
                    </a:lnTo>
                    <a:lnTo>
                      <a:pt x="503" y="1018"/>
                    </a:lnTo>
                    <a:lnTo>
                      <a:pt x="518" y="1024"/>
                    </a:lnTo>
                    <a:lnTo>
                      <a:pt x="532" y="1032"/>
                    </a:lnTo>
                    <a:lnTo>
                      <a:pt x="546" y="1039"/>
                    </a:lnTo>
                    <a:lnTo>
                      <a:pt x="561" y="1046"/>
                    </a:lnTo>
                    <a:lnTo>
                      <a:pt x="575" y="1053"/>
                    </a:lnTo>
                    <a:lnTo>
                      <a:pt x="587" y="1059"/>
                    </a:lnTo>
                    <a:lnTo>
                      <a:pt x="599" y="1066"/>
                    </a:lnTo>
                    <a:lnTo>
                      <a:pt x="610" y="1074"/>
                    </a:lnTo>
                    <a:lnTo>
                      <a:pt x="622" y="1082"/>
                    </a:lnTo>
                    <a:lnTo>
                      <a:pt x="633" y="1089"/>
                    </a:lnTo>
                    <a:lnTo>
                      <a:pt x="645" y="1096"/>
                    </a:lnTo>
                    <a:lnTo>
                      <a:pt x="657" y="1102"/>
                    </a:lnTo>
                    <a:lnTo>
                      <a:pt x="669" y="1107"/>
                    </a:lnTo>
                    <a:lnTo>
                      <a:pt x="678" y="1111"/>
                    </a:lnTo>
                    <a:lnTo>
                      <a:pt x="689" y="1114"/>
                    </a:lnTo>
                    <a:lnTo>
                      <a:pt x="700" y="1118"/>
                    </a:lnTo>
                    <a:lnTo>
                      <a:pt x="711" y="1120"/>
                    </a:lnTo>
                    <a:lnTo>
                      <a:pt x="722" y="1122"/>
                    </a:lnTo>
                    <a:lnTo>
                      <a:pt x="732" y="1122"/>
                    </a:lnTo>
                    <a:lnTo>
                      <a:pt x="742" y="1120"/>
                    </a:lnTo>
                    <a:lnTo>
                      <a:pt x="752" y="1117"/>
                    </a:lnTo>
                    <a:lnTo>
                      <a:pt x="759" y="1112"/>
                    </a:lnTo>
                    <a:lnTo>
                      <a:pt x="765" y="1106"/>
                    </a:lnTo>
                    <a:lnTo>
                      <a:pt x="768" y="1099"/>
                    </a:lnTo>
                    <a:lnTo>
                      <a:pt x="772" y="1090"/>
                    </a:lnTo>
                    <a:lnTo>
                      <a:pt x="774" y="1081"/>
                    </a:lnTo>
                    <a:lnTo>
                      <a:pt x="776" y="1071"/>
                    </a:lnTo>
                    <a:lnTo>
                      <a:pt x="777" y="1063"/>
                    </a:lnTo>
                    <a:lnTo>
                      <a:pt x="777" y="1053"/>
                    </a:lnTo>
                    <a:lnTo>
                      <a:pt x="776" y="1044"/>
                    </a:lnTo>
                    <a:lnTo>
                      <a:pt x="773" y="1035"/>
                    </a:lnTo>
                    <a:lnTo>
                      <a:pt x="771" y="1026"/>
                    </a:lnTo>
                    <a:lnTo>
                      <a:pt x="767" y="1017"/>
                    </a:lnTo>
                    <a:lnTo>
                      <a:pt x="762" y="1009"/>
                    </a:lnTo>
                    <a:lnTo>
                      <a:pt x="758" y="1000"/>
                    </a:lnTo>
                    <a:lnTo>
                      <a:pt x="753" y="993"/>
                    </a:lnTo>
                    <a:lnTo>
                      <a:pt x="747" y="985"/>
                    </a:lnTo>
                    <a:lnTo>
                      <a:pt x="737" y="970"/>
                    </a:lnTo>
                    <a:lnTo>
                      <a:pt x="728" y="957"/>
                    </a:lnTo>
                    <a:lnTo>
                      <a:pt x="717" y="944"/>
                    </a:lnTo>
                    <a:lnTo>
                      <a:pt x="706" y="931"/>
                    </a:lnTo>
                    <a:lnTo>
                      <a:pt x="695" y="918"/>
                    </a:lnTo>
                    <a:lnTo>
                      <a:pt x="683" y="906"/>
                    </a:lnTo>
                    <a:lnTo>
                      <a:pt x="671" y="894"/>
                    </a:lnTo>
                    <a:lnTo>
                      <a:pt x="659" y="882"/>
                    </a:lnTo>
                    <a:lnTo>
                      <a:pt x="644" y="870"/>
                    </a:lnTo>
                    <a:lnTo>
                      <a:pt x="628" y="856"/>
                    </a:lnTo>
                    <a:lnTo>
                      <a:pt x="611" y="846"/>
                    </a:lnTo>
                    <a:lnTo>
                      <a:pt x="596" y="834"/>
                    </a:lnTo>
                    <a:lnTo>
                      <a:pt x="579" y="823"/>
                    </a:lnTo>
                    <a:lnTo>
                      <a:pt x="561" y="813"/>
                    </a:lnTo>
                    <a:lnTo>
                      <a:pt x="544" y="804"/>
                    </a:lnTo>
                    <a:lnTo>
                      <a:pt x="526" y="794"/>
                    </a:lnTo>
                    <a:lnTo>
                      <a:pt x="514" y="788"/>
                    </a:lnTo>
                    <a:lnTo>
                      <a:pt x="501" y="782"/>
                    </a:lnTo>
                    <a:lnTo>
                      <a:pt x="488" y="777"/>
                    </a:lnTo>
                    <a:lnTo>
                      <a:pt x="473" y="774"/>
                    </a:lnTo>
                    <a:lnTo>
                      <a:pt x="460" y="770"/>
                    </a:lnTo>
                    <a:lnTo>
                      <a:pt x="446" y="766"/>
                    </a:lnTo>
                    <a:lnTo>
                      <a:pt x="432" y="763"/>
                    </a:lnTo>
                    <a:lnTo>
                      <a:pt x="418" y="759"/>
                    </a:lnTo>
                    <a:lnTo>
                      <a:pt x="406" y="757"/>
                    </a:lnTo>
                    <a:lnTo>
                      <a:pt x="394" y="754"/>
                    </a:lnTo>
                    <a:lnTo>
                      <a:pt x="382" y="752"/>
                    </a:lnTo>
                    <a:lnTo>
                      <a:pt x="370" y="750"/>
                    </a:lnTo>
                    <a:lnTo>
                      <a:pt x="358" y="747"/>
                    </a:lnTo>
                    <a:lnTo>
                      <a:pt x="345" y="746"/>
                    </a:lnTo>
                    <a:lnTo>
                      <a:pt x="333" y="745"/>
                    </a:lnTo>
                    <a:lnTo>
                      <a:pt x="321" y="745"/>
                    </a:lnTo>
                    <a:lnTo>
                      <a:pt x="312" y="745"/>
                    </a:lnTo>
                    <a:lnTo>
                      <a:pt x="304" y="746"/>
                    </a:lnTo>
                    <a:lnTo>
                      <a:pt x="296" y="747"/>
                    </a:lnTo>
                    <a:lnTo>
                      <a:pt x="287" y="748"/>
                    </a:lnTo>
                    <a:lnTo>
                      <a:pt x="280" y="751"/>
                    </a:lnTo>
                    <a:lnTo>
                      <a:pt x="272" y="753"/>
                    </a:lnTo>
                    <a:lnTo>
                      <a:pt x="264" y="756"/>
                    </a:lnTo>
                    <a:lnTo>
                      <a:pt x="257" y="759"/>
                    </a:lnTo>
                    <a:lnTo>
                      <a:pt x="249" y="764"/>
                    </a:lnTo>
                    <a:lnTo>
                      <a:pt x="243" y="769"/>
                    </a:lnTo>
                    <a:lnTo>
                      <a:pt x="236" y="775"/>
                    </a:lnTo>
                    <a:lnTo>
                      <a:pt x="230" y="781"/>
                    </a:lnTo>
                    <a:lnTo>
                      <a:pt x="224" y="787"/>
                    </a:lnTo>
                    <a:lnTo>
                      <a:pt x="216" y="793"/>
                    </a:lnTo>
                    <a:lnTo>
                      <a:pt x="210" y="799"/>
                    </a:lnTo>
                    <a:lnTo>
                      <a:pt x="203" y="804"/>
                    </a:lnTo>
                    <a:lnTo>
                      <a:pt x="191" y="810"/>
                    </a:lnTo>
                    <a:lnTo>
                      <a:pt x="179" y="816"/>
                    </a:lnTo>
                    <a:lnTo>
                      <a:pt x="167" y="822"/>
                    </a:lnTo>
                    <a:lnTo>
                      <a:pt x="155" y="826"/>
                    </a:lnTo>
                    <a:lnTo>
                      <a:pt x="143" y="831"/>
                    </a:lnTo>
                    <a:lnTo>
                      <a:pt x="130" y="836"/>
                    </a:lnTo>
                    <a:lnTo>
                      <a:pt x="118" y="840"/>
                    </a:lnTo>
                    <a:lnTo>
                      <a:pt x="105" y="843"/>
                    </a:lnTo>
                    <a:lnTo>
                      <a:pt x="100" y="843"/>
                    </a:lnTo>
                    <a:lnTo>
                      <a:pt x="95" y="843"/>
                    </a:lnTo>
                    <a:lnTo>
                      <a:pt x="90" y="843"/>
                    </a:lnTo>
                    <a:lnTo>
                      <a:pt x="86" y="843"/>
                    </a:lnTo>
                    <a:lnTo>
                      <a:pt x="81" y="841"/>
                    </a:lnTo>
                    <a:lnTo>
                      <a:pt x="76" y="840"/>
                    </a:lnTo>
                    <a:lnTo>
                      <a:pt x="72" y="836"/>
                    </a:lnTo>
                    <a:lnTo>
                      <a:pt x="70" y="832"/>
                    </a:lnTo>
                    <a:lnTo>
                      <a:pt x="68" y="826"/>
                    </a:lnTo>
                    <a:lnTo>
                      <a:pt x="65" y="820"/>
                    </a:lnTo>
                    <a:lnTo>
                      <a:pt x="64" y="813"/>
                    </a:lnTo>
                    <a:lnTo>
                      <a:pt x="64" y="806"/>
                    </a:lnTo>
                    <a:lnTo>
                      <a:pt x="64" y="799"/>
                    </a:lnTo>
                    <a:lnTo>
                      <a:pt x="65" y="792"/>
                    </a:lnTo>
                    <a:lnTo>
                      <a:pt x="68" y="784"/>
                    </a:lnTo>
                    <a:lnTo>
                      <a:pt x="70" y="780"/>
                    </a:lnTo>
                    <a:lnTo>
                      <a:pt x="81" y="765"/>
                    </a:lnTo>
                    <a:lnTo>
                      <a:pt x="92" y="752"/>
                    </a:lnTo>
                    <a:lnTo>
                      <a:pt x="102" y="740"/>
                    </a:lnTo>
                    <a:lnTo>
                      <a:pt x="114" y="728"/>
                    </a:lnTo>
                    <a:lnTo>
                      <a:pt x="128" y="717"/>
                    </a:lnTo>
                    <a:lnTo>
                      <a:pt x="141" y="706"/>
                    </a:lnTo>
                    <a:lnTo>
                      <a:pt x="155" y="696"/>
                    </a:lnTo>
                    <a:lnTo>
                      <a:pt x="168" y="686"/>
                    </a:lnTo>
                    <a:lnTo>
                      <a:pt x="178" y="680"/>
                    </a:lnTo>
                    <a:lnTo>
                      <a:pt x="188" y="674"/>
                    </a:lnTo>
                    <a:lnTo>
                      <a:pt x="198" y="669"/>
                    </a:lnTo>
                    <a:lnTo>
                      <a:pt x="208" y="664"/>
                    </a:lnTo>
                    <a:lnTo>
                      <a:pt x="219" y="661"/>
                    </a:lnTo>
                    <a:lnTo>
                      <a:pt x="230" y="657"/>
                    </a:lnTo>
                    <a:lnTo>
                      <a:pt x="240" y="654"/>
                    </a:lnTo>
                    <a:lnTo>
                      <a:pt x="251" y="651"/>
                    </a:lnTo>
                    <a:lnTo>
                      <a:pt x="267" y="649"/>
                    </a:lnTo>
                    <a:lnTo>
                      <a:pt x="281" y="648"/>
                    </a:lnTo>
                    <a:lnTo>
                      <a:pt x="296" y="646"/>
                    </a:lnTo>
                    <a:lnTo>
                      <a:pt x="310" y="646"/>
                    </a:lnTo>
                    <a:lnTo>
                      <a:pt x="326" y="646"/>
                    </a:lnTo>
                    <a:lnTo>
                      <a:pt x="340" y="646"/>
                    </a:lnTo>
                    <a:lnTo>
                      <a:pt x="354" y="646"/>
                    </a:lnTo>
                    <a:lnTo>
                      <a:pt x="370" y="646"/>
                    </a:lnTo>
                    <a:lnTo>
                      <a:pt x="390" y="646"/>
                    </a:lnTo>
                    <a:lnTo>
                      <a:pt x="411" y="648"/>
                    </a:lnTo>
                    <a:lnTo>
                      <a:pt x="432" y="648"/>
                    </a:lnTo>
                    <a:lnTo>
                      <a:pt x="453" y="648"/>
                    </a:lnTo>
                    <a:lnTo>
                      <a:pt x="473" y="649"/>
                    </a:lnTo>
                    <a:lnTo>
                      <a:pt x="495" y="650"/>
                    </a:lnTo>
                    <a:lnTo>
                      <a:pt x="515" y="651"/>
                    </a:lnTo>
                    <a:lnTo>
                      <a:pt x="537" y="651"/>
                    </a:lnTo>
                    <a:lnTo>
                      <a:pt x="551" y="652"/>
                    </a:lnTo>
                    <a:lnTo>
                      <a:pt x="567" y="654"/>
                    </a:lnTo>
                    <a:lnTo>
                      <a:pt x="582" y="656"/>
                    </a:lnTo>
                    <a:lnTo>
                      <a:pt x="598" y="657"/>
                    </a:lnTo>
                    <a:lnTo>
                      <a:pt x="612" y="658"/>
                    </a:lnTo>
                    <a:lnTo>
                      <a:pt x="628" y="660"/>
                    </a:lnTo>
                    <a:lnTo>
                      <a:pt x="644" y="661"/>
                    </a:lnTo>
                    <a:lnTo>
                      <a:pt x="659" y="662"/>
                    </a:lnTo>
                    <a:lnTo>
                      <a:pt x="668" y="662"/>
                    </a:lnTo>
                    <a:lnTo>
                      <a:pt x="677" y="662"/>
                    </a:lnTo>
                    <a:lnTo>
                      <a:pt x="686" y="662"/>
                    </a:lnTo>
                    <a:lnTo>
                      <a:pt x="695" y="662"/>
                    </a:lnTo>
                    <a:lnTo>
                      <a:pt x="705" y="662"/>
                    </a:lnTo>
                    <a:lnTo>
                      <a:pt x="713" y="660"/>
                    </a:lnTo>
                    <a:lnTo>
                      <a:pt x="720" y="656"/>
                    </a:lnTo>
                    <a:lnTo>
                      <a:pt x="728" y="651"/>
                    </a:lnTo>
                    <a:close/>
                  </a:path>
                </a:pathLst>
              </a:custGeom>
              <a:solidFill>
                <a:srgbClr val="be8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06760" y="15368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54" h="86">
                    <a:moveTo>
                      <a:pt x="19" y="0"/>
                    </a:moveTo>
                    <a:lnTo>
                      <a:pt x="19" y="0"/>
                    </a:lnTo>
                    <a:lnTo>
                      <a:pt x="19" y="10"/>
                    </a:lnTo>
                    <a:lnTo>
                      <a:pt x="18" y="18"/>
                    </a:lnTo>
                    <a:lnTo>
                      <a:pt x="16" y="26"/>
                    </a:lnTo>
                    <a:lnTo>
                      <a:pt x="14" y="35"/>
                    </a:lnTo>
                    <a:lnTo>
                      <a:pt x="12" y="43"/>
                    </a:lnTo>
                    <a:lnTo>
                      <a:pt x="8" y="50"/>
                    </a:lnTo>
                    <a:lnTo>
                      <a:pt x="4" y="56"/>
                    </a:lnTo>
                    <a:lnTo>
                      <a:pt x="0" y="61"/>
                    </a:lnTo>
                    <a:lnTo>
                      <a:pt x="24" y="86"/>
                    </a:lnTo>
                    <a:lnTo>
                      <a:pt x="32" y="77"/>
                    </a:lnTo>
                    <a:lnTo>
                      <a:pt x="38" y="67"/>
                    </a:lnTo>
                    <a:lnTo>
                      <a:pt x="44" y="56"/>
                    </a:lnTo>
                    <a:lnTo>
                      <a:pt x="48" y="44"/>
                    </a:lnTo>
                    <a:lnTo>
                      <a:pt x="50" y="34"/>
                    </a:lnTo>
                    <a:lnTo>
                      <a:pt x="52" y="22"/>
                    </a:lnTo>
                    <a:lnTo>
                      <a:pt x="54" y="1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06760" y="14986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0" y="20"/>
                    </a:moveTo>
                    <a:lnTo>
                      <a:pt x="0" y="20"/>
                    </a:lnTo>
                    <a:lnTo>
                      <a:pt x="6" y="28"/>
                    </a:lnTo>
                    <a:lnTo>
                      <a:pt x="10" y="37"/>
                    </a:lnTo>
                    <a:lnTo>
                      <a:pt x="13" y="46"/>
                    </a:lnTo>
                    <a:lnTo>
                      <a:pt x="17" y="56"/>
                    </a:lnTo>
                    <a:lnTo>
                      <a:pt x="19" y="66"/>
                    </a:lnTo>
                    <a:lnTo>
                      <a:pt x="21" y="76"/>
                    </a:lnTo>
                    <a:lnTo>
                      <a:pt x="22" y="87"/>
                    </a:lnTo>
                    <a:lnTo>
                      <a:pt x="22" y="98"/>
                    </a:lnTo>
                    <a:lnTo>
                      <a:pt x="57" y="98"/>
                    </a:lnTo>
                    <a:lnTo>
                      <a:pt x="57" y="86"/>
                    </a:lnTo>
                    <a:lnTo>
                      <a:pt x="55" y="73"/>
                    </a:lnTo>
                    <a:lnTo>
                      <a:pt x="53" y="61"/>
                    </a:lnTo>
                    <a:lnTo>
                      <a:pt x="51" y="48"/>
                    </a:lnTo>
                    <a:lnTo>
                      <a:pt x="47" y="34"/>
                    </a:lnTo>
                    <a:lnTo>
                      <a:pt x="42" y="22"/>
                    </a:lnTo>
                    <a:lnTo>
                      <a:pt x="36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379760" y="148104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95" h="65">
                    <a:moveTo>
                      <a:pt x="0" y="32"/>
                    </a:moveTo>
                    <a:lnTo>
                      <a:pt x="0" y="32"/>
                    </a:lnTo>
                    <a:lnTo>
                      <a:pt x="11" y="36"/>
                    </a:lnTo>
                    <a:lnTo>
                      <a:pt x="22" y="40"/>
                    </a:lnTo>
                    <a:lnTo>
                      <a:pt x="31" y="43"/>
                    </a:lnTo>
                    <a:lnTo>
                      <a:pt x="41" y="47"/>
                    </a:lnTo>
                    <a:lnTo>
                      <a:pt x="49" y="52"/>
                    </a:lnTo>
                    <a:lnTo>
                      <a:pt x="56" y="55"/>
                    </a:lnTo>
                    <a:lnTo>
                      <a:pt x="62" y="60"/>
                    </a:lnTo>
                    <a:lnTo>
                      <a:pt x="67" y="65"/>
                    </a:lnTo>
                    <a:lnTo>
                      <a:pt x="95" y="45"/>
                    </a:lnTo>
                    <a:lnTo>
                      <a:pt x="86" y="35"/>
                    </a:lnTo>
                    <a:lnTo>
                      <a:pt x="76" y="27"/>
                    </a:lnTo>
                    <a:lnTo>
                      <a:pt x="65" y="21"/>
                    </a:lnTo>
                    <a:lnTo>
                      <a:pt x="55" y="16"/>
                    </a:lnTo>
                    <a:lnTo>
                      <a:pt x="44" y="11"/>
                    </a:lnTo>
                    <a:lnTo>
                      <a:pt x="34" y="8"/>
                    </a:lnTo>
                    <a:lnTo>
                      <a:pt x="24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44840" y="146376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106" h="72">
                    <a:moveTo>
                      <a:pt x="0" y="33"/>
                    </a:moveTo>
                    <a:lnTo>
                      <a:pt x="0" y="33"/>
                    </a:lnTo>
                    <a:lnTo>
                      <a:pt x="11" y="37"/>
                    </a:lnTo>
                    <a:lnTo>
                      <a:pt x="23" y="42"/>
                    </a:lnTo>
                    <a:lnTo>
                      <a:pt x="34" y="46"/>
                    </a:lnTo>
                    <a:lnTo>
                      <a:pt x="44" y="51"/>
                    </a:lnTo>
                    <a:lnTo>
                      <a:pt x="56" y="56"/>
                    </a:lnTo>
                    <a:lnTo>
                      <a:pt x="67" y="61"/>
                    </a:lnTo>
                    <a:lnTo>
                      <a:pt x="79" y="67"/>
                    </a:lnTo>
                    <a:lnTo>
                      <a:pt x="90" y="72"/>
                    </a:lnTo>
                    <a:lnTo>
                      <a:pt x="106" y="40"/>
                    </a:lnTo>
                    <a:lnTo>
                      <a:pt x="94" y="34"/>
                    </a:lnTo>
                    <a:lnTo>
                      <a:pt x="83" y="30"/>
                    </a:lnTo>
                    <a:lnTo>
                      <a:pt x="71" y="24"/>
                    </a:lnTo>
                    <a:lnTo>
                      <a:pt x="59" y="19"/>
                    </a:lnTo>
                    <a:lnTo>
                      <a:pt x="47" y="14"/>
                    </a:lnTo>
                    <a:lnTo>
                      <a:pt x="35" y="9"/>
                    </a:lnTo>
                    <a:lnTo>
                      <a:pt x="23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00560" y="145404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119" h="57">
                    <a:moveTo>
                      <a:pt x="0" y="32"/>
                    </a:moveTo>
                    <a:lnTo>
                      <a:pt x="0" y="32"/>
                    </a:lnTo>
                    <a:lnTo>
                      <a:pt x="14" y="37"/>
                    </a:lnTo>
                    <a:lnTo>
                      <a:pt x="29" y="42"/>
                    </a:lnTo>
                    <a:lnTo>
                      <a:pt x="43" y="44"/>
                    </a:lnTo>
                    <a:lnTo>
                      <a:pt x="56" y="46"/>
                    </a:lnTo>
                    <a:lnTo>
                      <a:pt x="71" y="49"/>
                    </a:lnTo>
                    <a:lnTo>
                      <a:pt x="84" y="51"/>
                    </a:lnTo>
                    <a:lnTo>
                      <a:pt x="96" y="54"/>
                    </a:lnTo>
                    <a:lnTo>
                      <a:pt x="109" y="57"/>
                    </a:lnTo>
                    <a:lnTo>
                      <a:pt x="119" y="24"/>
                    </a:lnTo>
                    <a:lnTo>
                      <a:pt x="104" y="20"/>
                    </a:lnTo>
                    <a:lnTo>
                      <a:pt x="90" y="18"/>
                    </a:lnTo>
                    <a:lnTo>
                      <a:pt x="77" y="14"/>
                    </a:lnTo>
                    <a:lnTo>
                      <a:pt x="62" y="13"/>
                    </a:lnTo>
                    <a:lnTo>
                      <a:pt x="49" y="10"/>
                    </a:lnTo>
                    <a:lnTo>
                      <a:pt x="36" y="7"/>
                    </a:lnTo>
                    <a:lnTo>
                      <a:pt x="24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68520" y="143676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0" y="26"/>
                    </a:moveTo>
                    <a:lnTo>
                      <a:pt x="0" y="26"/>
                    </a:lnTo>
                    <a:lnTo>
                      <a:pt x="10" y="34"/>
                    </a:lnTo>
                    <a:lnTo>
                      <a:pt x="19" y="41"/>
                    </a:lnTo>
                    <a:lnTo>
                      <a:pt x="29" y="48"/>
                    </a:lnTo>
                    <a:lnTo>
                      <a:pt x="38" y="55"/>
                    </a:lnTo>
                    <a:lnTo>
                      <a:pt x="49" y="61"/>
                    </a:lnTo>
                    <a:lnTo>
                      <a:pt x="60" y="67"/>
                    </a:lnTo>
                    <a:lnTo>
                      <a:pt x="71" y="73"/>
                    </a:lnTo>
                    <a:lnTo>
                      <a:pt x="83" y="78"/>
                    </a:lnTo>
                    <a:lnTo>
                      <a:pt x="95" y="46"/>
                    </a:lnTo>
                    <a:lnTo>
                      <a:pt x="85" y="42"/>
                    </a:lnTo>
                    <a:lnTo>
                      <a:pt x="76" y="37"/>
                    </a:lnTo>
                    <a:lnTo>
                      <a:pt x="67" y="32"/>
                    </a:lnTo>
                    <a:lnTo>
                      <a:pt x="58" y="26"/>
                    </a:lnTo>
                    <a:lnTo>
                      <a:pt x="48" y="20"/>
                    </a:lnTo>
                    <a:lnTo>
                      <a:pt x="40" y="13"/>
                    </a:lnTo>
                    <a:lnTo>
                      <a:pt x="30" y="6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219560" y="139392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146" h="134">
                    <a:moveTo>
                      <a:pt x="0" y="28"/>
                    </a:moveTo>
                    <a:lnTo>
                      <a:pt x="0" y="28"/>
                    </a:lnTo>
                    <a:lnTo>
                      <a:pt x="16" y="40"/>
                    </a:lnTo>
                    <a:lnTo>
                      <a:pt x="32" y="53"/>
                    </a:lnTo>
                    <a:lnTo>
                      <a:pt x="46" y="66"/>
                    </a:lnTo>
                    <a:lnTo>
                      <a:pt x="62" y="80"/>
                    </a:lnTo>
                    <a:lnTo>
                      <a:pt x="76" y="94"/>
                    </a:lnTo>
                    <a:lnTo>
                      <a:pt x="92" y="108"/>
                    </a:lnTo>
                    <a:lnTo>
                      <a:pt x="107" y="121"/>
                    </a:lnTo>
                    <a:lnTo>
                      <a:pt x="124" y="134"/>
                    </a:lnTo>
                    <a:lnTo>
                      <a:pt x="146" y="108"/>
                    </a:lnTo>
                    <a:lnTo>
                      <a:pt x="130" y="95"/>
                    </a:lnTo>
                    <a:lnTo>
                      <a:pt x="114" y="82"/>
                    </a:lnTo>
                    <a:lnTo>
                      <a:pt x="100" y="68"/>
                    </a:lnTo>
                    <a:lnTo>
                      <a:pt x="84" y="55"/>
                    </a:lnTo>
                    <a:lnTo>
                      <a:pt x="70" y="41"/>
                    </a:lnTo>
                    <a:lnTo>
                      <a:pt x="54" y="26"/>
                    </a:lnTo>
                    <a:lnTo>
                      <a:pt x="39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173480" y="1360440"/>
                <a:ext cx="54000" cy="44640"/>
              </a:xfrm>
              <a:custGeom>
                <a:avLst/>
                <a:gdLst/>
                <a:ahLst/>
                <a:rect l="l" t="t" r="r" b="b"/>
                <a:pathLst>
                  <a:path w="138" h="113">
                    <a:moveTo>
                      <a:pt x="0" y="30"/>
                    </a:moveTo>
                    <a:lnTo>
                      <a:pt x="0" y="30"/>
                    </a:lnTo>
                    <a:lnTo>
                      <a:pt x="15" y="39"/>
                    </a:lnTo>
                    <a:lnTo>
                      <a:pt x="30" y="49"/>
                    </a:lnTo>
                    <a:lnTo>
                      <a:pt x="45" y="59"/>
                    </a:lnTo>
                    <a:lnTo>
                      <a:pt x="59" y="69"/>
                    </a:lnTo>
                    <a:lnTo>
                      <a:pt x="73" y="79"/>
                    </a:lnTo>
                    <a:lnTo>
                      <a:pt x="88" y="90"/>
                    </a:lnTo>
                    <a:lnTo>
                      <a:pt x="102" y="101"/>
                    </a:lnTo>
                    <a:lnTo>
                      <a:pt x="115" y="113"/>
                    </a:lnTo>
                    <a:lnTo>
                      <a:pt x="138" y="85"/>
                    </a:lnTo>
                    <a:lnTo>
                      <a:pt x="124" y="74"/>
                    </a:lnTo>
                    <a:lnTo>
                      <a:pt x="108" y="62"/>
                    </a:lnTo>
                    <a:lnTo>
                      <a:pt x="94" y="51"/>
                    </a:lnTo>
                    <a:lnTo>
                      <a:pt x="79" y="41"/>
                    </a:lnTo>
                    <a:lnTo>
                      <a:pt x="64" y="30"/>
                    </a:lnTo>
                    <a:lnTo>
                      <a:pt x="49" y="20"/>
                    </a:lnTo>
                    <a:lnTo>
                      <a:pt x="34" y="1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140000" y="134460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102" h="69">
                    <a:moveTo>
                      <a:pt x="0" y="29"/>
                    </a:moveTo>
                    <a:lnTo>
                      <a:pt x="0" y="29"/>
                    </a:lnTo>
                    <a:lnTo>
                      <a:pt x="11" y="36"/>
                    </a:lnTo>
                    <a:lnTo>
                      <a:pt x="23" y="41"/>
                    </a:lnTo>
                    <a:lnTo>
                      <a:pt x="34" y="47"/>
                    </a:lnTo>
                    <a:lnTo>
                      <a:pt x="45" y="51"/>
                    </a:lnTo>
                    <a:lnTo>
                      <a:pt x="55" y="56"/>
                    </a:lnTo>
                    <a:lnTo>
                      <a:pt x="66" y="59"/>
                    </a:lnTo>
                    <a:lnTo>
                      <a:pt x="75" y="64"/>
                    </a:lnTo>
                    <a:lnTo>
                      <a:pt x="84" y="69"/>
                    </a:lnTo>
                    <a:lnTo>
                      <a:pt x="102" y="39"/>
                    </a:lnTo>
                    <a:lnTo>
                      <a:pt x="91" y="33"/>
                    </a:lnTo>
                    <a:lnTo>
                      <a:pt x="79" y="28"/>
                    </a:lnTo>
                    <a:lnTo>
                      <a:pt x="69" y="23"/>
                    </a:lnTo>
                    <a:lnTo>
                      <a:pt x="58" y="18"/>
                    </a:lnTo>
                    <a:lnTo>
                      <a:pt x="47" y="15"/>
                    </a:lnTo>
                    <a:lnTo>
                      <a:pt x="37" y="10"/>
                    </a:lnTo>
                    <a:lnTo>
                      <a:pt x="28" y="5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118040" y="132876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0" y="11"/>
                    </a:moveTo>
                    <a:lnTo>
                      <a:pt x="0" y="11"/>
                    </a:lnTo>
                    <a:lnTo>
                      <a:pt x="5" y="21"/>
                    </a:lnTo>
                    <a:lnTo>
                      <a:pt x="11" y="30"/>
                    </a:lnTo>
                    <a:lnTo>
                      <a:pt x="18" y="38"/>
                    </a:lnTo>
                    <a:lnTo>
                      <a:pt x="25" y="45"/>
                    </a:lnTo>
                    <a:lnTo>
                      <a:pt x="33" y="53"/>
                    </a:lnTo>
                    <a:lnTo>
                      <a:pt x="41" y="59"/>
                    </a:lnTo>
                    <a:lnTo>
                      <a:pt x="49" y="63"/>
                    </a:lnTo>
                    <a:lnTo>
                      <a:pt x="56" y="68"/>
                    </a:lnTo>
                    <a:lnTo>
                      <a:pt x="75" y="39"/>
                    </a:lnTo>
                    <a:lnTo>
                      <a:pt x="68" y="35"/>
                    </a:lnTo>
                    <a:lnTo>
                      <a:pt x="61" y="30"/>
                    </a:lnTo>
                    <a:lnTo>
                      <a:pt x="54" y="25"/>
                    </a:lnTo>
                    <a:lnTo>
                      <a:pt x="48" y="20"/>
                    </a:lnTo>
                    <a:lnTo>
                      <a:pt x="43" y="15"/>
                    </a:lnTo>
                    <a:lnTo>
                      <a:pt x="38" y="9"/>
                    </a:lnTo>
                    <a:lnTo>
                      <a:pt x="36" y="5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116240" y="130824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45" h="65">
                    <a:moveTo>
                      <a:pt x="30" y="0"/>
                    </a:moveTo>
                    <a:lnTo>
                      <a:pt x="30" y="0"/>
                    </a:lnTo>
                    <a:lnTo>
                      <a:pt x="21" y="5"/>
                    </a:lnTo>
                    <a:lnTo>
                      <a:pt x="14" y="12"/>
                    </a:lnTo>
                    <a:lnTo>
                      <a:pt x="9" y="19"/>
                    </a:lnTo>
                    <a:lnTo>
                      <a:pt x="4" y="26"/>
                    </a:lnTo>
                    <a:lnTo>
                      <a:pt x="1" y="36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4" y="54"/>
                    </a:lnTo>
                    <a:lnTo>
                      <a:pt x="34" y="51"/>
                    </a:lnTo>
                    <a:lnTo>
                      <a:pt x="34" y="49"/>
                    </a:lnTo>
                    <a:lnTo>
                      <a:pt x="34" y="45"/>
                    </a:lnTo>
                    <a:lnTo>
                      <a:pt x="36" y="41"/>
                    </a:lnTo>
                    <a:lnTo>
                      <a:pt x="38" y="37"/>
                    </a:lnTo>
                    <a:lnTo>
                      <a:pt x="40" y="35"/>
                    </a:lnTo>
                    <a:lnTo>
                      <a:pt x="43" y="32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128840" y="130176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92" y="1"/>
                    </a:moveTo>
                    <a:lnTo>
                      <a:pt x="92" y="1"/>
                    </a:lnTo>
                    <a:lnTo>
                      <a:pt x="81" y="0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46" y="0"/>
                    </a:lnTo>
                    <a:lnTo>
                      <a:pt x="34" y="1"/>
                    </a:lnTo>
                    <a:lnTo>
                      <a:pt x="22" y="3"/>
                    </a:lnTo>
                    <a:lnTo>
                      <a:pt x="10" y="8"/>
                    </a:lnTo>
                    <a:lnTo>
                      <a:pt x="0" y="13"/>
                    </a:lnTo>
                    <a:lnTo>
                      <a:pt x="15" y="43"/>
                    </a:lnTo>
                    <a:lnTo>
                      <a:pt x="22" y="40"/>
                    </a:lnTo>
                    <a:lnTo>
                      <a:pt x="31" y="37"/>
                    </a:lnTo>
                    <a:lnTo>
                      <a:pt x="40" y="36"/>
                    </a:lnTo>
                    <a:lnTo>
                      <a:pt x="49" y="34"/>
                    </a:lnTo>
                    <a:lnTo>
                      <a:pt x="58" y="34"/>
                    </a:lnTo>
                    <a:lnTo>
                      <a:pt x="69" y="34"/>
                    </a:lnTo>
                    <a:lnTo>
                      <a:pt x="79" y="34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163760" y="130320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84" h="56">
                    <a:moveTo>
                      <a:pt x="84" y="27"/>
                    </a:moveTo>
                    <a:lnTo>
                      <a:pt x="84" y="27"/>
                    </a:lnTo>
                    <a:lnTo>
                      <a:pt x="74" y="21"/>
                    </a:lnTo>
                    <a:lnTo>
                      <a:pt x="64" y="17"/>
                    </a:lnTo>
                    <a:lnTo>
                      <a:pt x="55" y="12"/>
                    </a:lnTo>
                    <a:lnTo>
                      <a:pt x="44" y="8"/>
                    </a:lnTo>
                    <a:lnTo>
                      <a:pt x="34" y="6"/>
                    </a:lnTo>
                    <a:lnTo>
                      <a:pt x="24" y="3"/>
                    </a:lnTo>
                    <a:lnTo>
                      <a:pt x="13" y="1"/>
                    </a:lnTo>
                    <a:lnTo>
                      <a:pt x="2" y="0"/>
                    </a:lnTo>
                    <a:lnTo>
                      <a:pt x="0" y="35"/>
                    </a:lnTo>
                    <a:lnTo>
                      <a:pt x="8" y="36"/>
                    </a:lnTo>
                    <a:lnTo>
                      <a:pt x="16" y="37"/>
                    </a:lnTo>
                    <a:lnTo>
                      <a:pt x="25" y="39"/>
                    </a:lnTo>
                    <a:lnTo>
                      <a:pt x="33" y="42"/>
                    </a:lnTo>
                    <a:lnTo>
                      <a:pt x="42" y="44"/>
                    </a:lnTo>
                    <a:lnTo>
                      <a:pt x="50" y="48"/>
                    </a:lnTo>
                    <a:lnTo>
                      <a:pt x="57" y="51"/>
                    </a:lnTo>
                    <a:lnTo>
                      <a:pt x="64" y="56"/>
                    </a:lnTo>
                    <a:lnTo>
                      <a:pt x="64" y="56"/>
                    </a:lnTo>
                    <a:lnTo>
                      <a:pt x="84" y="2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90760" y="1314360"/>
                <a:ext cx="41400" cy="4140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105" y="80"/>
                    </a:moveTo>
                    <a:lnTo>
                      <a:pt x="105" y="80"/>
                    </a:lnTo>
                    <a:lnTo>
                      <a:pt x="95" y="71"/>
                    </a:lnTo>
                    <a:lnTo>
                      <a:pt x="86" y="60"/>
                    </a:lnTo>
                    <a:lnTo>
                      <a:pt x="76" y="51"/>
                    </a:lnTo>
                    <a:lnTo>
                      <a:pt x="65" y="40"/>
                    </a:lnTo>
                    <a:lnTo>
                      <a:pt x="56" y="29"/>
                    </a:lnTo>
                    <a:lnTo>
                      <a:pt x="45" y="20"/>
                    </a:lnTo>
                    <a:lnTo>
                      <a:pt x="33" y="9"/>
                    </a:lnTo>
                    <a:lnTo>
                      <a:pt x="20" y="0"/>
                    </a:lnTo>
                    <a:lnTo>
                      <a:pt x="0" y="29"/>
                    </a:lnTo>
                    <a:lnTo>
                      <a:pt x="11" y="36"/>
                    </a:lnTo>
                    <a:lnTo>
                      <a:pt x="21" y="45"/>
                    </a:lnTo>
                    <a:lnTo>
                      <a:pt x="30" y="54"/>
                    </a:lnTo>
                    <a:lnTo>
                      <a:pt x="41" y="64"/>
                    </a:lnTo>
                    <a:lnTo>
                      <a:pt x="51" y="75"/>
                    </a:lnTo>
                    <a:lnTo>
                      <a:pt x="60" y="86"/>
                    </a:lnTo>
                    <a:lnTo>
                      <a:pt x="71" y="95"/>
                    </a:lnTo>
                    <a:lnTo>
                      <a:pt x="82" y="106"/>
                    </a:lnTo>
                    <a:lnTo>
                      <a:pt x="82" y="106"/>
                    </a:lnTo>
                    <a:lnTo>
                      <a:pt x="105" y="8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22800" y="1344600"/>
                <a:ext cx="56880" cy="52560"/>
              </a:xfrm>
              <a:custGeom>
                <a:avLst/>
                <a:gdLst/>
                <a:ahLst/>
                <a:rect l="l" t="t" r="r" b="b"/>
                <a:pathLst>
                  <a:path w="145" h="129">
                    <a:moveTo>
                      <a:pt x="145" y="103"/>
                    </a:moveTo>
                    <a:lnTo>
                      <a:pt x="145" y="103"/>
                    </a:lnTo>
                    <a:lnTo>
                      <a:pt x="130" y="90"/>
                    </a:lnTo>
                    <a:lnTo>
                      <a:pt x="114" y="78"/>
                    </a:lnTo>
                    <a:lnTo>
                      <a:pt x="98" y="64"/>
                    </a:lnTo>
                    <a:lnTo>
                      <a:pt x="83" y="52"/>
                    </a:lnTo>
                    <a:lnTo>
                      <a:pt x="68" y="39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23" y="0"/>
                    </a:lnTo>
                    <a:lnTo>
                      <a:pt x="0" y="26"/>
                    </a:lnTo>
                    <a:lnTo>
                      <a:pt x="16" y="39"/>
                    </a:lnTo>
                    <a:lnTo>
                      <a:pt x="30" y="52"/>
                    </a:lnTo>
                    <a:lnTo>
                      <a:pt x="46" y="66"/>
                    </a:lnTo>
                    <a:lnTo>
                      <a:pt x="61" y="79"/>
                    </a:lnTo>
                    <a:lnTo>
                      <a:pt x="77" y="92"/>
                    </a:lnTo>
                    <a:lnTo>
                      <a:pt x="92" y="104"/>
                    </a:lnTo>
                    <a:lnTo>
                      <a:pt x="108" y="117"/>
                    </a:lnTo>
                    <a:lnTo>
                      <a:pt x="124" y="129"/>
                    </a:lnTo>
                    <a:lnTo>
                      <a:pt x="124" y="129"/>
                    </a:lnTo>
                    <a:lnTo>
                      <a:pt x="145" y="10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271760" y="1386000"/>
                <a:ext cx="44640" cy="38160"/>
              </a:xfrm>
              <a:custGeom>
                <a:avLst/>
                <a:gdLst/>
                <a:ahLst/>
                <a:rect l="l" t="t" r="r" b="b"/>
                <a:pathLst>
                  <a:path w="112" h="97">
                    <a:moveTo>
                      <a:pt x="112" y="66"/>
                    </a:moveTo>
                    <a:lnTo>
                      <a:pt x="112" y="66"/>
                    </a:lnTo>
                    <a:lnTo>
                      <a:pt x="100" y="60"/>
                    </a:lnTo>
                    <a:lnTo>
                      <a:pt x="88" y="51"/>
                    </a:lnTo>
                    <a:lnTo>
                      <a:pt x="78" y="44"/>
                    </a:lnTo>
                    <a:lnTo>
                      <a:pt x="66" y="36"/>
                    </a:lnTo>
                    <a:lnTo>
                      <a:pt x="55" y="26"/>
                    </a:lnTo>
                    <a:lnTo>
                      <a:pt x="44" y="18"/>
                    </a:lnTo>
                    <a:lnTo>
                      <a:pt x="32" y="8"/>
                    </a:lnTo>
                    <a:lnTo>
                      <a:pt x="21" y="0"/>
                    </a:lnTo>
                    <a:lnTo>
                      <a:pt x="0" y="26"/>
                    </a:lnTo>
                    <a:lnTo>
                      <a:pt x="10" y="36"/>
                    </a:lnTo>
                    <a:lnTo>
                      <a:pt x="22" y="44"/>
                    </a:lnTo>
                    <a:lnTo>
                      <a:pt x="33" y="54"/>
                    </a:lnTo>
                    <a:lnTo>
                      <a:pt x="45" y="63"/>
                    </a:lnTo>
                    <a:lnTo>
                      <a:pt x="57" y="72"/>
                    </a:lnTo>
                    <a:lnTo>
                      <a:pt x="69" y="80"/>
                    </a:lnTo>
                    <a:lnTo>
                      <a:pt x="81" y="89"/>
                    </a:lnTo>
                    <a:lnTo>
                      <a:pt x="94" y="97"/>
                    </a:lnTo>
                    <a:lnTo>
                      <a:pt x="94" y="97"/>
                    </a:lnTo>
                    <a:lnTo>
                      <a:pt x="112" y="6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09920" y="141300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4" y="13"/>
                    </a:moveTo>
                    <a:lnTo>
                      <a:pt x="64" y="13"/>
                    </a:lnTo>
                    <a:lnTo>
                      <a:pt x="58" y="13"/>
                    </a:lnTo>
                    <a:lnTo>
                      <a:pt x="52" y="12"/>
                    </a:lnTo>
                    <a:lnTo>
                      <a:pt x="46" y="11"/>
                    </a:lnTo>
                    <a:lnTo>
                      <a:pt x="40" y="9"/>
                    </a:lnTo>
                    <a:lnTo>
                      <a:pt x="34" y="7"/>
                    </a:lnTo>
                    <a:lnTo>
                      <a:pt x="28" y="6"/>
                    </a:lnTo>
                    <a:lnTo>
                      <a:pt x="23" y="3"/>
                    </a:lnTo>
                    <a:lnTo>
                      <a:pt x="18" y="0"/>
                    </a:lnTo>
                    <a:lnTo>
                      <a:pt x="0" y="31"/>
                    </a:lnTo>
                    <a:lnTo>
                      <a:pt x="8" y="35"/>
                    </a:lnTo>
                    <a:lnTo>
                      <a:pt x="16" y="38"/>
                    </a:lnTo>
                    <a:lnTo>
                      <a:pt x="23" y="41"/>
                    </a:lnTo>
                    <a:lnTo>
                      <a:pt x="32" y="43"/>
                    </a:lnTo>
                    <a:lnTo>
                      <a:pt x="39" y="44"/>
                    </a:lnTo>
                    <a:lnTo>
                      <a:pt x="47" y="45"/>
                    </a:lnTo>
                    <a:lnTo>
                      <a:pt x="54" y="47"/>
                    </a:lnTo>
                    <a:lnTo>
                      <a:pt x="63" y="48"/>
                    </a:lnTo>
                    <a:lnTo>
                      <a:pt x="63" y="48"/>
                    </a:lnTo>
                    <a:lnTo>
                      <a:pt x="64" y="1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33680" y="1415880"/>
                <a:ext cx="25560" cy="1620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37" y="0"/>
                    </a:moveTo>
                    <a:lnTo>
                      <a:pt x="37" y="0"/>
                    </a:lnTo>
                    <a:lnTo>
                      <a:pt x="35" y="1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5" y="5"/>
                    </a:lnTo>
                    <a:lnTo>
                      <a:pt x="19" y="5"/>
                    </a:lnTo>
                    <a:lnTo>
                      <a:pt x="13" y="5"/>
                    </a:lnTo>
                    <a:lnTo>
                      <a:pt x="7" y="5"/>
                    </a:lnTo>
                    <a:lnTo>
                      <a:pt x="1" y="5"/>
                    </a:lnTo>
                    <a:lnTo>
                      <a:pt x="0" y="40"/>
                    </a:lnTo>
                    <a:lnTo>
                      <a:pt x="6" y="40"/>
                    </a:lnTo>
                    <a:lnTo>
                      <a:pt x="13" y="40"/>
                    </a:lnTo>
                    <a:lnTo>
                      <a:pt x="21" y="40"/>
                    </a:lnTo>
                    <a:lnTo>
                      <a:pt x="29" y="39"/>
                    </a:lnTo>
                    <a:lnTo>
                      <a:pt x="37" y="37"/>
                    </a:lnTo>
                    <a:lnTo>
                      <a:pt x="45" y="35"/>
                    </a:lnTo>
                    <a:lnTo>
                      <a:pt x="54" y="31"/>
                    </a:lnTo>
                    <a:lnTo>
                      <a:pt x="61" y="24"/>
                    </a:lnTo>
                    <a:lnTo>
                      <a:pt x="61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349520" y="139716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49" h="72">
                    <a:moveTo>
                      <a:pt x="14" y="0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13" y="15"/>
                    </a:lnTo>
                    <a:lnTo>
                      <a:pt x="12" y="22"/>
                    </a:lnTo>
                    <a:lnTo>
                      <a:pt x="10" y="29"/>
                    </a:lnTo>
                    <a:lnTo>
                      <a:pt x="8" y="35"/>
                    </a:lnTo>
                    <a:lnTo>
                      <a:pt x="6" y="40"/>
                    </a:lnTo>
                    <a:lnTo>
                      <a:pt x="4" y="45"/>
                    </a:lnTo>
                    <a:lnTo>
                      <a:pt x="0" y="48"/>
                    </a:lnTo>
                    <a:lnTo>
                      <a:pt x="24" y="72"/>
                    </a:lnTo>
                    <a:lnTo>
                      <a:pt x="31" y="65"/>
                    </a:lnTo>
                    <a:lnTo>
                      <a:pt x="37" y="55"/>
                    </a:lnTo>
                    <a:lnTo>
                      <a:pt x="41" y="47"/>
                    </a:lnTo>
                    <a:lnTo>
                      <a:pt x="43" y="37"/>
                    </a:lnTo>
                    <a:lnTo>
                      <a:pt x="46" y="29"/>
                    </a:lnTo>
                    <a:lnTo>
                      <a:pt x="47" y="19"/>
                    </a:lnTo>
                    <a:lnTo>
                      <a:pt x="48" y="11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352760" y="1360440"/>
                <a:ext cx="15840" cy="36720"/>
              </a:xfrm>
              <a:custGeom>
                <a:avLst/>
                <a:gdLst/>
                <a:ahLst/>
                <a:rect l="l" t="t" r="r" b="b"/>
                <a:pathLst>
                  <a:path w="40" h="94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" y="24"/>
                    </a:lnTo>
                    <a:lnTo>
                      <a:pt x="2" y="36"/>
                    </a:lnTo>
                    <a:lnTo>
                      <a:pt x="3" y="48"/>
                    </a:lnTo>
                    <a:lnTo>
                      <a:pt x="4" y="59"/>
                    </a:lnTo>
                    <a:lnTo>
                      <a:pt x="6" y="70"/>
                    </a:lnTo>
                    <a:lnTo>
                      <a:pt x="6" y="80"/>
                    </a:lnTo>
                    <a:lnTo>
                      <a:pt x="4" y="91"/>
                    </a:lnTo>
                    <a:lnTo>
                      <a:pt x="39" y="94"/>
                    </a:lnTo>
                    <a:lnTo>
                      <a:pt x="40" y="82"/>
                    </a:lnTo>
                    <a:lnTo>
                      <a:pt x="39" y="68"/>
                    </a:lnTo>
                    <a:lnTo>
                      <a:pt x="39" y="56"/>
                    </a:lnTo>
                    <a:lnTo>
                      <a:pt x="38" y="44"/>
                    </a:lnTo>
                    <a:lnTo>
                      <a:pt x="37" y="32"/>
                    </a:lnTo>
                    <a:lnTo>
                      <a:pt x="36" y="22"/>
                    </a:lnTo>
                    <a:lnTo>
                      <a:pt x="34" y="1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52760" y="1339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4" y="0"/>
                    </a:moveTo>
                    <a:lnTo>
                      <a:pt x="4" y="0"/>
                    </a:lnTo>
                    <a:lnTo>
                      <a:pt x="4" y="6"/>
                    </a:lnTo>
                    <a:lnTo>
                      <a:pt x="3" y="10"/>
                    </a:lnTo>
                    <a:lnTo>
                      <a:pt x="3" y="16"/>
                    </a:lnTo>
                    <a:lnTo>
                      <a:pt x="2" y="22"/>
                    </a:lnTo>
                    <a:lnTo>
                      <a:pt x="1" y="28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34" y="50"/>
                    </a:lnTo>
                    <a:lnTo>
                      <a:pt x="34" y="44"/>
                    </a:lnTo>
                    <a:lnTo>
                      <a:pt x="34" y="39"/>
                    </a:lnTo>
                    <a:lnTo>
                      <a:pt x="36" y="33"/>
                    </a:lnTo>
                    <a:lnTo>
                      <a:pt x="37" y="27"/>
                    </a:lnTo>
                    <a:lnTo>
                      <a:pt x="37" y="21"/>
                    </a:lnTo>
                    <a:lnTo>
                      <a:pt x="38" y="15"/>
                    </a:lnTo>
                    <a:lnTo>
                      <a:pt x="39" y="8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54560" y="131760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36" h="58">
                    <a:moveTo>
                      <a:pt x="3" y="0"/>
                    </a:moveTo>
                    <a:lnTo>
                      <a:pt x="3" y="0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7"/>
                    </a:lnTo>
                    <a:lnTo>
                      <a:pt x="36" y="58"/>
                    </a:lnTo>
                    <a:lnTo>
                      <a:pt x="36" y="51"/>
                    </a:lnTo>
                    <a:lnTo>
                      <a:pt x="36" y="43"/>
                    </a:lnTo>
                    <a:lnTo>
                      <a:pt x="35" y="36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35" y="17"/>
                    </a:lnTo>
                    <a:lnTo>
                      <a:pt x="35" y="12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54560" y="13017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37" y="0"/>
                    </a:moveTo>
                    <a:lnTo>
                      <a:pt x="37" y="0"/>
                    </a:lnTo>
                    <a:lnTo>
                      <a:pt x="26" y="1"/>
                    </a:lnTo>
                    <a:lnTo>
                      <a:pt x="16" y="6"/>
                    </a:lnTo>
                    <a:lnTo>
                      <a:pt x="10" y="13"/>
                    </a:lnTo>
                    <a:lnTo>
                      <a:pt x="7" y="19"/>
                    </a:lnTo>
                    <a:lnTo>
                      <a:pt x="4" y="25"/>
                    </a:lnTo>
                    <a:lnTo>
                      <a:pt x="2" y="32"/>
                    </a:lnTo>
                    <a:lnTo>
                      <a:pt x="1" y="37"/>
                    </a:lnTo>
                    <a:lnTo>
                      <a:pt x="0" y="43"/>
                    </a:lnTo>
                    <a:lnTo>
                      <a:pt x="33" y="50"/>
                    </a:lnTo>
                    <a:lnTo>
                      <a:pt x="34" y="47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38" y="35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7" y="34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68600" y="130176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74" h="62">
                    <a:moveTo>
                      <a:pt x="74" y="40"/>
                    </a:moveTo>
                    <a:lnTo>
                      <a:pt x="74" y="40"/>
                    </a:lnTo>
                    <a:lnTo>
                      <a:pt x="66" y="32"/>
                    </a:lnTo>
                    <a:lnTo>
                      <a:pt x="59" y="26"/>
                    </a:lnTo>
                    <a:lnTo>
                      <a:pt x="52" y="19"/>
                    </a:lnTo>
                    <a:lnTo>
                      <a:pt x="44" y="13"/>
                    </a:lnTo>
                    <a:lnTo>
                      <a:pt x="34" y="8"/>
                    </a:lnTo>
                    <a:lnTo>
                      <a:pt x="24" y="5"/>
                    </a:lnTo>
                    <a:lnTo>
                      <a:pt x="14" y="1"/>
                    </a:lnTo>
                    <a:lnTo>
                      <a:pt x="3" y="0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12" y="37"/>
                    </a:lnTo>
                    <a:lnTo>
                      <a:pt x="18" y="40"/>
                    </a:lnTo>
                    <a:lnTo>
                      <a:pt x="24" y="43"/>
                    </a:lnTo>
                    <a:lnTo>
                      <a:pt x="30" y="47"/>
                    </a:lnTo>
                    <a:lnTo>
                      <a:pt x="36" y="52"/>
                    </a:lnTo>
                    <a:lnTo>
                      <a:pt x="42" y="58"/>
                    </a:lnTo>
                    <a:lnTo>
                      <a:pt x="47" y="62"/>
                    </a:lnTo>
                    <a:lnTo>
                      <a:pt x="47" y="62"/>
                    </a:lnTo>
                    <a:lnTo>
                      <a:pt x="74" y="4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87680" y="131616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64" h="92">
                    <a:moveTo>
                      <a:pt x="64" y="78"/>
                    </a:moveTo>
                    <a:lnTo>
                      <a:pt x="64" y="78"/>
                    </a:lnTo>
                    <a:lnTo>
                      <a:pt x="60" y="69"/>
                    </a:lnTo>
                    <a:lnTo>
                      <a:pt x="57" y="60"/>
                    </a:lnTo>
                    <a:lnTo>
                      <a:pt x="53" y="50"/>
                    </a:lnTo>
                    <a:lnTo>
                      <a:pt x="49" y="40"/>
                    </a:lnTo>
                    <a:lnTo>
                      <a:pt x="45" y="30"/>
                    </a:lnTo>
                    <a:lnTo>
                      <a:pt x="40" y="20"/>
                    </a:lnTo>
                    <a:lnTo>
                      <a:pt x="34" y="9"/>
                    </a:lnTo>
                    <a:lnTo>
                      <a:pt x="27" y="0"/>
                    </a:lnTo>
                    <a:lnTo>
                      <a:pt x="0" y="22"/>
                    </a:lnTo>
                    <a:lnTo>
                      <a:pt x="5" y="30"/>
                    </a:lnTo>
                    <a:lnTo>
                      <a:pt x="10" y="37"/>
                    </a:lnTo>
                    <a:lnTo>
                      <a:pt x="13" y="44"/>
                    </a:lnTo>
                    <a:lnTo>
                      <a:pt x="17" y="54"/>
                    </a:lnTo>
                    <a:lnTo>
                      <a:pt x="21" y="62"/>
                    </a:lnTo>
                    <a:lnTo>
                      <a:pt x="24" y="72"/>
                    </a:lnTo>
                    <a:lnTo>
                      <a:pt x="28" y="81"/>
                    </a:lnTo>
                    <a:lnTo>
                      <a:pt x="31" y="92"/>
                    </a:lnTo>
                    <a:lnTo>
                      <a:pt x="31" y="92"/>
                    </a:lnTo>
                    <a:lnTo>
                      <a:pt x="64" y="7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00280" y="1347840"/>
                <a:ext cx="30240" cy="47520"/>
              </a:xfrm>
              <a:custGeom>
                <a:avLst/>
                <a:gdLst/>
                <a:ahLst/>
                <a:rect l="l" t="t" r="r" b="b"/>
                <a:pathLst>
                  <a:path w="77" h="122">
                    <a:moveTo>
                      <a:pt x="77" y="108"/>
                    </a:moveTo>
                    <a:lnTo>
                      <a:pt x="77" y="108"/>
                    </a:lnTo>
                    <a:lnTo>
                      <a:pt x="71" y="94"/>
                    </a:lnTo>
                    <a:lnTo>
                      <a:pt x="65" y="81"/>
                    </a:lnTo>
                    <a:lnTo>
                      <a:pt x="60" y="68"/>
                    </a:lnTo>
                    <a:lnTo>
                      <a:pt x="54" y="55"/>
                    </a:lnTo>
                    <a:lnTo>
                      <a:pt x="50" y="40"/>
                    </a:lnTo>
                    <a:lnTo>
                      <a:pt x="44" y="27"/>
                    </a:lnTo>
                    <a:lnTo>
                      <a:pt x="39" y="14"/>
                    </a:lnTo>
                    <a:lnTo>
                      <a:pt x="33" y="0"/>
                    </a:lnTo>
                    <a:lnTo>
                      <a:pt x="0" y="14"/>
                    </a:lnTo>
                    <a:lnTo>
                      <a:pt x="6" y="27"/>
                    </a:lnTo>
                    <a:lnTo>
                      <a:pt x="12" y="40"/>
                    </a:lnTo>
                    <a:lnTo>
                      <a:pt x="17" y="54"/>
                    </a:lnTo>
                    <a:lnTo>
                      <a:pt x="23" y="67"/>
                    </a:lnTo>
                    <a:lnTo>
                      <a:pt x="28" y="81"/>
                    </a:lnTo>
                    <a:lnTo>
                      <a:pt x="34" y="94"/>
                    </a:lnTo>
                    <a:lnTo>
                      <a:pt x="39" y="108"/>
                    </a:lnTo>
                    <a:lnTo>
                      <a:pt x="45" y="122"/>
                    </a:lnTo>
                    <a:lnTo>
                      <a:pt x="45" y="122"/>
                    </a:lnTo>
                    <a:lnTo>
                      <a:pt x="77" y="10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17920" y="139068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60" y="61"/>
                    </a:moveTo>
                    <a:lnTo>
                      <a:pt x="60" y="61"/>
                    </a:lnTo>
                    <a:lnTo>
                      <a:pt x="55" y="55"/>
                    </a:lnTo>
                    <a:lnTo>
                      <a:pt x="51" y="48"/>
                    </a:lnTo>
                    <a:lnTo>
                      <a:pt x="48" y="40"/>
                    </a:lnTo>
                    <a:lnTo>
                      <a:pt x="45" y="33"/>
                    </a:lnTo>
                    <a:lnTo>
                      <a:pt x="42" y="25"/>
                    </a:lnTo>
                    <a:lnTo>
                      <a:pt x="38" y="16"/>
                    </a:lnTo>
                    <a:lnTo>
                      <a:pt x="36" y="8"/>
                    </a:lnTo>
                    <a:lnTo>
                      <a:pt x="32" y="0"/>
                    </a:lnTo>
                    <a:lnTo>
                      <a:pt x="0" y="14"/>
                    </a:lnTo>
                    <a:lnTo>
                      <a:pt x="3" y="21"/>
                    </a:lnTo>
                    <a:lnTo>
                      <a:pt x="7" y="30"/>
                    </a:lnTo>
                    <a:lnTo>
                      <a:pt x="9" y="38"/>
                    </a:lnTo>
                    <a:lnTo>
                      <a:pt x="13" y="46"/>
                    </a:lnTo>
                    <a:lnTo>
                      <a:pt x="17" y="55"/>
                    </a:lnTo>
                    <a:lnTo>
                      <a:pt x="21" y="63"/>
                    </a:lnTo>
                    <a:lnTo>
                      <a:pt x="26" y="72"/>
                    </a:lnTo>
                    <a:lnTo>
                      <a:pt x="31" y="80"/>
                    </a:lnTo>
                    <a:lnTo>
                      <a:pt x="31" y="80"/>
                    </a:lnTo>
                    <a:lnTo>
                      <a:pt x="60" y="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430520" y="141444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80" y="55"/>
                    </a:moveTo>
                    <a:lnTo>
                      <a:pt x="80" y="55"/>
                    </a:lnTo>
                    <a:lnTo>
                      <a:pt x="73" y="49"/>
                    </a:lnTo>
                    <a:lnTo>
                      <a:pt x="66" y="42"/>
                    </a:lnTo>
                    <a:lnTo>
                      <a:pt x="59" y="36"/>
                    </a:lnTo>
                    <a:lnTo>
                      <a:pt x="52" y="29"/>
                    </a:lnTo>
                    <a:lnTo>
                      <a:pt x="46" y="21"/>
                    </a:lnTo>
                    <a:lnTo>
                      <a:pt x="40" y="14"/>
                    </a:lnTo>
                    <a:lnTo>
                      <a:pt x="34" y="7"/>
                    </a:lnTo>
                    <a:lnTo>
                      <a:pt x="29" y="0"/>
                    </a:lnTo>
                    <a:lnTo>
                      <a:pt x="0" y="19"/>
                    </a:lnTo>
                    <a:lnTo>
                      <a:pt x="6" y="27"/>
                    </a:lnTo>
                    <a:lnTo>
                      <a:pt x="13" y="36"/>
                    </a:lnTo>
                    <a:lnTo>
                      <a:pt x="20" y="44"/>
                    </a:lnTo>
                    <a:lnTo>
                      <a:pt x="26" y="53"/>
                    </a:lnTo>
                    <a:lnTo>
                      <a:pt x="35" y="60"/>
                    </a:lnTo>
                    <a:lnTo>
                      <a:pt x="42" y="67"/>
                    </a:lnTo>
                    <a:lnTo>
                      <a:pt x="49" y="74"/>
                    </a:lnTo>
                    <a:lnTo>
                      <a:pt x="56" y="81"/>
                    </a:lnTo>
                    <a:lnTo>
                      <a:pt x="56" y="81"/>
                    </a:lnTo>
                    <a:lnTo>
                      <a:pt x="80" y="5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452840" y="1436760"/>
                <a:ext cx="38160" cy="36360"/>
              </a:xfrm>
              <a:custGeom>
                <a:avLst/>
                <a:gdLst/>
                <a:ahLst/>
                <a:rect l="l" t="t" r="r" b="b"/>
                <a:pathLst>
                  <a:path w="99" h="92">
                    <a:moveTo>
                      <a:pt x="99" y="61"/>
                    </a:moveTo>
                    <a:lnTo>
                      <a:pt x="99" y="61"/>
                    </a:lnTo>
                    <a:lnTo>
                      <a:pt x="89" y="56"/>
                    </a:lnTo>
                    <a:lnTo>
                      <a:pt x="80" y="49"/>
                    </a:lnTo>
                    <a:lnTo>
                      <a:pt x="70" y="43"/>
                    </a:lnTo>
                    <a:lnTo>
                      <a:pt x="60" y="35"/>
                    </a:lnTo>
                    <a:lnTo>
                      <a:pt x="52" y="26"/>
                    </a:lnTo>
                    <a:lnTo>
                      <a:pt x="42" y="18"/>
                    </a:lnTo>
                    <a:lnTo>
                      <a:pt x="34" y="10"/>
                    </a:lnTo>
                    <a:lnTo>
                      <a:pt x="24" y="0"/>
                    </a:lnTo>
                    <a:lnTo>
                      <a:pt x="0" y="26"/>
                    </a:lnTo>
                    <a:lnTo>
                      <a:pt x="10" y="35"/>
                    </a:lnTo>
                    <a:lnTo>
                      <a:pt x="18" y="43"/>
                    </a:lnTo>
                    <a:lnTo>
                      <a:pt x="28" y="53"/>
                    </a:lnTo>
                    <a:lnTo>
                      <a:pt x="38" y="61"/>
                    </a:lnTo>
                    <a:lnTo>
                      <a:pt x="48" y="70"/>
                    </a:lnTo>
                    <a:lnTo>
                      <a:pt x="59" y="78"/>
                    </a:lnTo>
                    <a:lnTo>
                      <a:pt x="71" y="85"/>
                    </a:lnTo>
                    <a:lnTo>
                      <a:pt x="83" y="92"/>
                    </a:lnTo>
                    <a:lnTo>
                      <a:pt x="83" y="92"/>
                    </a:lnTo>
                    <a:lnTo>
                      <a:pt x="99" y="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84520" y="146052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87" h="48">
                    <a:moveTo>
                      <a:pt x="87" y="13"/>
                    </a:moveTo>
                    <a:lnTo>
                      <a:pt x="87" y="13"/>
                    </a:lnTo>
                    <a:lnTo>
                      <a:pt x="77" y="12"/>
                    </a:lnTo>
                    <a:lnTo>
                      <a:pt x="67" y="12"/>
                    </a:lnTo>
                    <a:lnTo>
                      <a:pt x="58" y="11"/>
                    </a:lnTo>
                    <a:lnTo>
                      <a:pt x="48" y="10"/>
                    </a:lnTo>
                    <a:lnTo>
                      <a:pt x="40" y="9"/>
                    </a:lnTo>
                    <a:lnTo>
                      <a:pt x="31" y="6"/>
                    </a:lnTo>
                    <a:lnTo>
                      <a:pt x="23" y="4"/>
                    </a:lnTo>
                    <a:lnTo>
                      <a:pt x="16" y="0"/>
                    </a:lnTo>
                    <a:lnTo>
                      <a:pt x="0" y="31"/>
                    </a:lnTo>
                    <a:lnTo>
                      <a:pt x="11" y="36"/>
                    </a:lnTo>
                    <a:lnTo>
                      <a:pt x="22" y="40"/>
                    </a:lnTo>
                    <a:lnTo>
                      <a:pt x="33" y="42"/>
                    </a:lnTo>
                    <a:lnTo>
                      <a:pt x="43" y="45"/>
                    </a:lnTo>
                    <a:lnTo>
                      <a:pt x="54" y="46"/>
                    </a:lnTo>
                    <a:lnTo>
                      <a:pt x="65" y="47"/>
                    </a:lnTo>
                    <a:lnTo>
                      <a:pt x="75" y="47"/>
                    </a:lnTo>
                    <a:lnTo>
                      <a:pt x="85" y="48"/>
                    </a:lnTo>
                    <a:lnTo>
                      <a:pt x="85" y="48"/>
                    </a:lnTo>
                    <a:lnTo>
                      <a:pt x="87" y="1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19440" y="1463760"/>
                <a:ext cx="39600" cy="17280"/>
              </a:xfrm>
              <a:custGeom>
                <a:avLst/>
                <a:gdLst/>
                <a:ahLst/>
                <a:rect l="l" t="t" r="r" b="b"/>
                <a:pathLst>
                  <a:path w="102" h="40">
                    <a:moveTo>
                      <a:pt x="96" y="0"/>
                    </a:moveTo>
                    <a:lnTo>
                      <a:pt x="96" y="0"/>
                    </a:lnTo>
                    <a:lnTo>
                      <a:pt x="84" y="2"/>
                    </a:lnTo>
                    <a:lnTo>
                      <a:pt x="74" y="3"/>
                    </a:lnTo>
                    <a:lnTo>
                      <a:pt x="62" y="4"/>
                    </a:lnTo>
                    <a:lnTo>
                      <a:pt x="50" y="4"/>
                    </a:lnTo>
                    <a:lnTo>
                      <a:pt x="38" y="6"/>
                    </a:lnTo>
                    <a:lnTo>
                      <a:pt x="26" y="6"/>
                    </a:lnTo>
                    <a:lnTo>
                      <a:pt x="14" y="4"/>
                    </a:lnTo>
                    <a:lnTo>
                      <a:pt x="2" y="4"/>
                    </a:lnTo>
                    <a:lnTo>
                      <a:pt x="0" y="39"/>
                    </a:lnTo>
                    <a:lnTo>
                      <a:pt x="12" y="39"/>
                    </a:lnTo>
                    <a:lnTo>
                      <a:pt x="26" y="40"/>
                    </a:lnTo>
                    <a:lnTo>
                      <a:pt x="39" y="40"/>
                    </a:lnTo>
                    <a:lnTo>
                      <a:pt x="51" y="39"/>
                    </a:lnTo>
                    <a:lnTo>
                      <a:pt x="64" y="39"/>
                    </a:lnTo>
                    <a:lnTo>
                      <a:pt x="77" y="38"/>
                    </a:lnTo>
                    <a:lnTo>
                      <a:pt x="89" y="36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57600" y="145584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77" h="55">
                    <a:moveTo>
                      <a:pt x="57" y="0"/>
                    </a:moveTo>
                    <a:lnTo>
                      <a:pt x="57" y="0"/>
                    </a:lnTo>
                    <a:lnTo>
                      <a:pt x="51" y="5"/>
                    </a:lnTo>
                    <a:lnTo>
                      <a:pt x="45" y="8"/>
                    </a:lnTo>
                    <a:lnTo>
                      <a:pt x="38" y="11"/>
                    </a:lnTo>
                    <a:lnTo>
                      <a:pt x="30" y="13"/>
                    </a:lnTo>
                    <a:lnTo>
                      <a:pt x="23" y="17"/>
                    </a:lnTo>
                    <a:lnTo>
                      <a:pt x="16" y="18"/>
                    </a:lnTo>
                    <a:lnTo>
                      <a:pt x="8" y="20"/>
                    </a:lnTo>
                    <a:lnTo>
                      <a:pt x="0" y="22"/>
                    </a:lnTo>
                    <a:lnTo>
                      <a:pt x="6" y="55"/>
                    </a:lnTo>
                    <a:lnTo>
                      <a:pt x="15" y="54"/>
                    </a:lnTo>
                    <a:lnTo>
                      <a:pt x="24" y="52"/>
                    </a:lnTo>
                    <a:lnTo>
                      <a:pt x="34" y="49"/>
                    </a:lnTo>
                    <a:lnTo>
                      <a:pt x="42" y="47"/>
                    </a:lnTo>
                    <a:lnTo>
                      <a:pt x="52" y="43"/>
                    </a:lnTo>
                    <a:lnTo>
                      <a:pt x="60" y="38"/>
                    </a:lnTo>
                    <a:lnTo>
                      <a:pt x="69" y="34"/>
                    </a:lnTo>
                    <a:lnTo>
                      <a:pt x="77" y="28"/>
                    </a:lnTo>
                    <a:lnTo>
                      <a:pt x="77" y="2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79920" y="143820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67" h="72">
                    <a:moveTo>
                      <a:pt x="32" y="9"/>
                    </a:moveTo>
                    <a:lnTo>
                      <a:pt x="32" y="9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0" y="18"/>
                    </a:lnTo>
                    <a:lnTo>
                      <a:pt x="25" y="22"/>
                    </a:lnTo>
                    <a:lnTo>
                      <a:pt x="20" y="28"/>
                    </a:lnTo>
                    <a:lnTo>
                      <a:pt x="13" y="33"/>
                    </a:lnTo>
                    <a:lnTo>
                      <a:pt x="6" y="39"/>
                    </a:lnTo>
                    <a:lnTo>
                      <a:pt x="0" y="44"/>
                    </a:lnTo>
                    <a:lnTo>
                      <a:pt x="20" y="72"/>
                    </a:lnTo>
                    <a:lnTo>
                      <a:pt x="27" y="67"/>
                    </a:lnTo>
                    <a:lnTo>
                      <a:pt x="36" y="61"/>
                    </a:lnTo>
                    <a:lnTo>
                      <a:pt x="43" y="54"/>
                    </a:lnTo>
                    <a:lnTo>
                      <a:pt x="51" y="46"/>
                    </a:lnTo>
                    <a:lnTo>
                      <a:pt x="59" y="37"/>
                    </a:lnTo>
                    <a:lnTo>
                      <a:pt x="63" y="27"/>
                    </a:lnTo>
                    <a:lnTo>
                      <a:pt x="66" y="20"/>
                    </a:lnTo>
                    <a:lnTo>
                      <a:pt x="67" y="14"/>
                    </a:lnTo>
                    <a:lnTo>
                      <a:pt x="67" y="7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570200" y="14191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88" h="55">
                    <a:moveTo>
                      <a:pt x="0" y="32"/>
                    </a:moveTo>
                    <a:lnTo>
                      <a:pt x="0" y="32"/>
                    </a:lnTo>
                    <a:lnTo>
                      <a:pt x="11" y="36"/>
                    </a:lnTo>
                    <a:lnTo>
                      <a:pt x="21" y="38"/>
                    </a:lnTo>
                    <a:lnTo>
                      <a:pt x="30" y="42"/>
                    </a:lnTo>
                    <a:lnTo>
                      <a:pt x="39" y="44"/>
                    </a:lnTo>
                    <a:lnTo>
                      <a:pt x="46" y="47"/>
                    </a:lnTo>
                    <a:lnTo>
                      <a:pt x="52" y="50"/>
                    </a:lnTo>
                    <a:lnTo>
                      <a:pt x="52" y="52"/>
                    </a:lnTo>
                    <a:lnTo>
                      <a:pt x="53" y="53"/>
                    </a:lnTo>
                    <a:lnTo>
                      <a:pt x="54" y="54"/>
                    </a:lnTo>
                    <a:lnTo>
                      <a:pt x="54" y="55"/>
                    </a:lnTo>
                    <a:lnTo>
                      <a:pt x="88" y="46"/>
                    </a:lnTo>
                    <a:lnTo>
                      <a:pt x="85" y="38"/>
                    </a:lnTo>
                    <a:lnTo>
                      <a:pt x="82" y="32"/>
                    </a:lnTo>
                    <a:lnTo>
                      <a:pt x="77" y="28"/>
                    </a:lnTo>
                    <a:lnTo>
                      <a:pt x="72" y="23"/>
                    </a:lnTo>
                    <a:lnTo>
                      <a:pt x="61" y="17"/>
                    </a:lnTo>
                    <a:lnTo>
                      <a:pt x="52" y="12"/>
                    </a:lnTo>
                    <a:lnTo>
                      <a:pt x="41" y="8"/>
                    </a:lnTo>
                    <a:lnTo>
                      <a:pt x="30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37080" y="140796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0" y="31"/>
                    </a:moveTo>
                    <a:lnTo>
                      <a:pt x="0" y="31"/>
                    </a:lnTo>
                    <a:lnTo>
                      <a:pt x="11" y="36"/>
                    </a:lnTo>
                    <a:lnTo>
                      <a:pt x="22" y="41"/>
                    </a:lnTo>
                    <a:lnTo>
                      <a:pt x="34" y="45"/>
                    </a:lnTo>
                    <a:lnTo>
                      <a:pt x="45" y="48"/>
                    </a:lnTo>
                    <a:lnTo>
                      <a:pt x="55" y="51"/>
                    </a:lnTo>
                    <a:lnTo>
                      <a:pt x="65" y="54"/>
                    </a:lnTo>
                    <a:lnTo>
                      <a:pt x="76" y="58"/>
                    </a:lnTo>
                    <a:lnTo>
                      <a:pt x="84" y="61"/>
                    </a:lnTo>
                    <a:lnTo>
                      <a:pt x="99" y="29"/>
                    </a:lnTo>
                    <a:lnTo>
                      <a:pt x="87" y="24"/>
                    </a:lnTo>
                    <a:lnTo>
                      <a:pt x="76" y="21"/>
                    </a:lnTo>
                    <a:lnTo>
                      <a:pt x="65" y="18"/>
                    </a:lnTo>
                    <a:lnTo>
                      <a:pt x="54" y="15"/>
                    </a:lnTo>
                    <a:lnTo>
                      <a:pt x="43" y="11"/>
                    </a:lnTo>
                    <a:lnTo>
                      <a:pt x="34" y="9"/>
                    </a:lnTo>
                    <a:lnTo>
                      <a:pt x="25" y="5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18000" y="139536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0" y="20"/>
                    </a:moveTo>
                    <a:lnTo>
                      <a:pt x="0" y="20"/>
                    </a:lnTo>
                    <a:lnTo>
                      <a:pt x="5" y="26"/>
                    </a:lnTo>
                    <a:lnTo>
                      <a:pt x="11" y="32"/>
                    </a:lnTo>
                    <a:lnTo>
                      <a:pt x="17" y="39"/>
                    </a:lnTo>
                    <a:lnTo>
                      <a:pt x="23" y="44"/>
                    </a:lnTo>
                    <a:lnTo>
                      <a:pt x="29" y="50"/>
                    </a:lnTo>
                    <a:lnTo>
                      <a:pt x="36" y="55"/>
                    </a:lnTo>
                    <a:lnTo>
                      <a:pt x="43" y="60"/>
                    </a:lnTo>
                    <a:lnTo>
                      <a:pt x="50" y="64"/>
                    </a:lnTo>
                    <a:lnTo>
                      <a:pt x="66" y="33"/>
                    </a:lnTo>
                    <a:lnTo>
                      <a:pt x="61" y="31"/>
                    </a:lnTo>
                    <a:lnTo>
                      <a:pt x="55" y="27"/>
                    </a:lnTo>
                    <a:lnTo>
                      <a:pt x="50" y="22"/>
                    </a:lnTo>
                    <a:lnTo>
                      <a:pt x="45" y="19"/>
                    </a:lnTo>
                    <a:lnTo>
                      <a:pt x="41" y="14"/>
                    </a:lnTo>
                    <a:lnTo>
                      <a:pt x="36" y="9"/>
                    </a:lnTo>
                    <a:lnTo>
                      <a:pt x="32" y="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06840" y="13762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0" y="7"/>
                    </a:moveTo>
                    <a:lnTo>
                      <a:pt x="0" y="7"/>
                    </a:lnTo>
                    <a:lnTo>
                      <a:pt x="3" y="15"/>
                    </a:lnTo>
                    <a:lnTo>
                      <a:pt x="5" y="24"/>
                    </a:lnTo>
                    <a:lnTo>
                      <a:pt x="7" y="31"/>
                    </a:lnTo>
                    <a:lnTo>
                      <a:pt x="11" y="39"/>
                    </a:lnTo>
                    <a:lnTo>
                      <a:pt x="15" y="46"/>
                    </a:lnTo>
                    <a:lnTo>
                      <a:pt x="19" y="54"/>
                    </a:lnTo>
                    <a:lnTo>
                      <a:pt x="23" y="61"/>
                    </a:lnTo>
                    <a:lnTo>
                      <a:pt x="28" y="68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8" y="37"/>
                    </a:lnTo>
                    <a:lnTo>
                      <a:pt x="46" y="31"/>
                    </a:lnTo>
                    <a:lnTo>
                      <a:pt x="42" y="25"/>
                    </a:lnTo>
                    <a:lnTo>
                      <a:pt x="40" y="19"/>
                    </a:lnTo>
                    <a:lnTo>
                      <a:pt x="37" y="13"/>
                    </a:lnTo>
                    <a:lnTo>
                      <a:pt x="36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05400" y="13572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13" y="0"/>
                    </a:moveTo>
                    <a:lnTo>
                      <a:pt x="13" y="0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1" y="22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1" y="50"/>
                    </a:lnTo>
                    <a:lnTo>
                      <a:pt x="2" y="55"/>
                    </a:lnTo>
                    <a:lnTo>
                      <a:pt x="37" y="48"/>
                    </a:lnTo>
                    <a:lnTo>
                      <a:pt x="36" y="44"/>
                    </a:lnTo>
                    <a:lnTo>
                      <a:pt x="35" y="39"/>
                    </a:lnTo>
                    <a:lnTo>
                      <a:pt x="35" y="36"/>
                    </a:lnTo>
                    <a:lnTo>
                      <a:pt x="35" y="31"/>
                    </a:lnTo>
                    <a:lnTo>
                      <a:pt x="35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6" y="25"/>
                    </a:lnTo>
                    <a:lnTo>
                      <a:pt x="36" y="2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11520" y="135108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62" h="41">
                    <a:moveTo>
                      <a:pt x="62" y="1"/>
                    </a:moveTo>
                    <a:lnTo>
                      <a:pt x="62" y="1"/>
                    </a:lnTo>
                    <a:lnTo>
                      <a:pt x="55" y="1"/>
                    </a:lnTo>
                    <a:lnTo>
                      <a:pt x="48" y="0"/>
                    </a:lnTo>
                    <a:lnTo>
                      <a:pt x="40" y="1"/>
                    </a:lnTo>
                    <a:lnTo>
                      <a:pt x="31" y="1"/>
                    </a:lnTo>
                    <a:lnTo>
                      <a:pt x="24" y="4"/>
                    </a:lnTo>
                    <a:lnTo>
                      <a:pt x="16" y="6"/>
                    </a:lnTo>
                    <a:lnTo>
                      <a:pt x="7" y="10"/>
                    </a:lnTo>
                    <a:lnTo>
                      <a:pt x="0" y="16"/>
                    </a:lnTo>
                    <a:lnTo>
                      <a:pt x="23" y="41"/>
                    </a:lnTo>
                    <a:lnTo>
                      <a:pt x="25" y="40"/>
                    </a:lnTo>
                    <a:lnTo>
                      <a:pt x="29" y="38"/>
                    </a:lnTo>
                    <a:lnTo>
                      <a:pt x="32" y="37"/>
                    </a:lnTo>
                    <a:lnTo>
                      <a:pt x="37" y="36"/>
                    </a:lnTo>
                    <a:lnTo>
                      <a:pt x="42" y="36"/>
                    </a:lnTo>
                    <a:lnTo>
                      <a:pt x="48" y="35"/>
                    </a:lnTo>
                    <a:lnTo>
                      <a:pt x="53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33840" y="1351080"/>
                <a:ext cx="27000" cy="21960"/>
              </a:xfrm>
              <a:custGeom>
                <a:avLst/>
                <a:gdLst/>
                <a:ahLst/>
                <a:rect l="l" t="t" r="r" b="b"/>
                <a:pathLst>
                  <a:path w="68" h="54">
                    <a:moveTo>
                      <a:pt x="68" y="21"/>
                    </a:moveTo>
                    <a:lnTo>
                      <a:pt x="68" y="21"/>
                    </a:lnTo>
                    <a:lnTo>
                      <a:pt x="62" y="18"/>
                    </a:lnTo>
                    <a:lnTo>
                      <a:pt x="55" y="16"/>
                    </a:lnTo>
                    <a:lnTo>
                      <a:pt x="48" y="13"/>
                    </a:lnTo>
                    <a:lnTo>
                      <a:pt x="39" y="10"/>
                    </a:lnTo>
                    <a:lnTo>
                      <a:pt x="31" y="7"/>
                    </a:lnTo>
                    <a:lnTo>
                      <a:pt x="23" y="4"/>
                    </a:lnTo>
                    <a:lnTo>
                      <a:pt x="13" y="1"/>
                    </a:lnTo>
                    <a:lnTo>
                      <a:pt x="3" y="0"/>
                    </a:lnTo>
                    <a:lnTo>
                      <a:pt x="0" y="35"/>
                    </a:lnTo>
                    <a:lnTo>
                      <a:pt x="6" y="36"/>
                    </a:lnTo>
                    <a:lnTo>
                      <a:pt x="13" y="37"/>
                    </a:lnTo>
                    <a:lnTo>
                      <a:pt x="20" y="40"/>
                    </a:lnTo>
                    <a:lnTo>
                      <a:pt x="27" y="42"/>
                    </a:lnTo>
                    <a:lnTo>
                      <a:pt x="35" y="46"/>
                    </a:lnTo>
                    <a:lnTo>
                      <a:pt x="43" y="49"/>
                    </a:lnTo>
                    <a:lnTo>
                      <a:pt x="53" y="52"/>
                    </a:lnTo>
                    <a:lnTo>
                      <a:pt x="62" y="54"/>
                    </a:lnTo>
                    <a:lnTo>
                      <a:pt x="62" y="54"/>
                    </a:lnTo>
                    <a:lnTo>
                      <a:pt x="68" y="2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559040" y="1359000"/>
                <a:ext cx="33480" cy="1728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83" y="9"/>
                    </a:moveTo>
                    <a:lnTo>
                      <a:pt x="83" y="9"/>
                    </a:lnTo>
                    <a:lnTo>
                      <a:pt x="73" y="8"/>
                    </a:lnTo>
                    <a:lnTo>
                      <a:pt x="64" y="7"/>
                    </a:lnTo>
                    <a:lnTo>
                      <a:pt x="54" y="7"/>
                    </a:lnTo>
                    <a:lnTo>
                      <a:pt x="45" y="6"/>
                    </a:lnTo>
                    <a:lnTo>
                      <a:pt x="35" y="4"/>
                    </a:lnTo>
                    <a:lnTo>
                      <a:pt x="25" y="3"/>
                    </a:lnTo>
                    <a:lnTo>
                      <a:pt x="16" y="1"/>
                    </a:lnTo>
                    <a:lnTo>
                      <a:pt x="6" y="0"/>
                    </a:lnTo>
                    <a:lnTo>
                      <a:pt x="0" y="33"/>
                    </a:lnTo>
                    <a:lnTo>
                      <a:pt x="10" y="36"/>
                    </a:lnTo>
                    <a:lnTo>
                      <a:pt x="19" y="37"/>
                    </a:lnTo>
                    <a:lnTo>
                      <a:pt x="30" y="38"/>
                    </a:lnTo>
                    <a:lnTo>
                      <a:pt x="40" y="39"/>
                    </a:lnTo>
                    <a:lnTo>
                      <a:pt x="51" y="40"/>
                    </a:lnTo>
                    <a:lnTo>
                      <a:pt x="60" y="42"/>
                    </a:lnTo>
                    <a:lnTo>
                      <a:pt x="71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3" y="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91080" y="136368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90" h="35">
                    <a:moveTo>
                      <a:pt x="88" y="0"/>
                    </a:moveTo>
                    <a:lnTo>
                      <a:pt x="88" y="0"/>
                    </a:lnTo>
                    <a:lnTo>
                      <a:pt x="78" y="0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5" y="0"/>
                    </a:lnTo>
                    <a:lnTo>
                      <a:pt x="33" y="0"/>
                    </a:lnTo>
                    <a:lnTo>
                      <a:pt x="22" y="0"/>
                    </a:lnTo>
                    <a:lnTo>
                      <a:pt x="13" y="0"/>
                    </a:lnTo>
                    <a:lnTo>
                      <a:pt x="2" y="0"/>
                    </a:lnTo>
                    <a:lnTo>
                      <a:pt x="0" y="34"/>
                    </a:lnTo>
                    <a:lnTo>
                      <a:pt x="10" y="35"/>
                    </a:lnTo>
                    <a:lnTo>
                      <a:pt x="22" y="35"/>
                    </a:lnTo>
                    <a:lnTo>
                      <a:pt x="33" y="35"/>
                    </a:lnTo>
                    <a:lnTo>
                      <a:pt x="45" y="35"/>
                    </a:lnTo>
                    <a:lnTo>
                      <a:pt x="56" y="35"/>
                    </a:lnTo>
                    <a:lnTo>
                      <a:pt x="67" y="35"/>
                    </a:lnTo>
                    <a:lnTo>
                      <a:pt x="79" y="35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626000" y="13604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63" h="40">
                    <a:moveTo>
                      <a:pt x="63" y="1"/>
                    </a:moveTo>
                    <a:lnTo>
                      <a:pt x="63" y="1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5" y="0"/>
                    </a:lnTo>
                    <a:lnTo>
                      <a:pt x="28" y="1"/>
                    </a:lnTo>
                    <a:lnTo>
                      <a:pt x="20" y="3"/>
                    </a:lnTo>
                    <a:lnTo>
                      <a:pt x="14" y="4"/>
                    </a:lnTo>
                    <a:lnTo>
                      <a:pt x="6" y="5"/>
                    </a:lnTo>
                    <a:lnTo>
                      <a:pt x="0" y="6"/>
                    </a:lnTo>
                    <a:lnTo>
                      <a:pt x="2" y="40"/>
                    </a:lnTo>
                    <a:lnTo>
                      <a:pt x="10" y="40"/>
                    </a:lnTo>
                    <a:lnTo>
                      <a:pt x="18" y="39"/>
                    </a:lnTo>
                    <a:lnTo>
                      <a:pt x="26" y="37"/>
                    </a:lnTo>
                    <a:lnTo>
                      <a:pt x="33" y="36"/>
                    </a:lnTo>
                    <a:lnTo>
                      <a:pt x="40" y="35"/>
                    </a:lnTo>
                    <a:lnTo>
                      <a:pt x="46" y="35"/>
                    </a:lnTo>
                    <a:lnTo>
                      <a:pt x="52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47960" y="1362240"/>
                <a:ext cx="24120" cy="1872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60" y="30"/>
                    </a:moveTo>
                    <a:lnTo>
                      <a:pt x="60" y="30"/>
                    </a:lnTo>
                    <a:lnTo>
                      <a:pt x="55" y="24"/>
                    </a:lnTo>
                    <a:lnTo>
                      <a:pt x="49" y="20"/>
                    </a:lnTo>
                    <a:lnTo>
                      <a:pt x="42" y="15"/>
                    </a:lnTo>
                    <a:lnTo>
                      <a:pt x="35" y="10"/>
                    </a:lnTo>
                    <a:lnTo>
                      <a:pt x="29" y="6"/>
                    </a:lnTo>
                    <a:lnTo>
                      <a:pt x="20" y="4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0" y="34"/>
                    </a:lnTo>
                    <a:lnTo>
                      <a:pt x="5" y="35"/>
                    </a:lnTo>
                    <a:lnTo>
                      <a:pt x="9" y="36"/>
                    </a:lnTo>
                    <a:lnTo>
                      <a:pt x="14" y="39"/>
                    </a:lnTo>
                    <a:lnTo>
                      <a:pt x="19" y="41"/>
                    </a:lnTo>
                    <a:lnTo>
                      <a:pt x="23" y="44"/>
                    </a:lnTo>
                    <a:lnTo>
                      <a:pt x="27" y="46"/>
                    </a:lnTo>
                    <a:lnTo>
                      <a:pt x="30" y="50"/>
                    </a:lnTo>
                    <a:lnTo>
                      <a:pt x="33" y="52"/>
                    </a:lnTo>
                    <a:lnTo>
                      <a:pt x="33" y="52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662360" y="1373040"/>
                <a:ext cx="17640" cy="25560"/>
              </a:xfrm>
              <a:custGeom>
                <a:avLst/>
                <a:gdLst/>
                <a:ahLst/>
                <a:rect l="l" t="t" r="r" b="b"/>
                <a:pathLst>
                  <a:path w="46" h="65">
                    <a:moveTo>
                      <a:pt x="46" y="57"/>
                    </a:moveTo>
                    <a:lnTo>
                      <a:pt x="46" y="57"/>
                    </a:lnTo>
                    <a:lnTo>
                      <a:pt x="45" y="51"/>
                    </a:lnTo>
                    <a:lnTo>
                      <a:pt x="44" y="45"/>
                    </a:lnTo>
                    <a:lnTo>
                      <a:pt x="42" y="39"/>
                    </a:lnTo>
                    <a:lnTo>
                      <a:pt x="40" y="32"/>
                    </a:lnTo>
                    <a:lnTo>
                      <a:pt x="39" y="23"/>
                    </a:lnTo>
                    <a:lnTo>
                      <a:pt x="36" y="16"/>
                    </a:lnTo>
                    <a:lnTo>
                      <a:pt x="33" y="9"/>
                    </a:lnTo>
                    <a:lnTo>
                      <a:pt x="27" y="0"/>
                    </a:lnTo>
                    <a:lnTo>
                      <a:pt x="0" y="22"/>
                    </a:lnTo>
                    <a:lnTo>
                      <a:pt x="3" y="26"/>
                    </a:lnTo>
                    <a:lnTo>
                      <a:pt x="4" y="29"/>
                    </a:lnTo>
                    <a:lnTo>
                      <a:pt x="5" y="34"/>
                    </a:lnTo>
                    <a:lnTo>
                      <a:pt x="6" y="39"/>
                    </a:lnTo>
                    <a:lnTo>
                      <a:pt x="8" y="45"/>
                    </a:lnTo>
                    <a:lnTo>
                      <a:pt x="9" y="51"/>
                    </a:lnTo>
                    <a:lnTo>
                      <a:pt x="10" y="58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46" y="5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65600" y="1395360"/>
                <a:ext cx="25200" cy="55440"/>
              </a:xfrm>
              <a:custGeom>
                <a:avLst/>
                <a:gdLst/>
                <a:ahLst/>
                <a:rect l="l" t="t" r="r" b="b"/>
                <a:pathLst>
                  <a:path w="64" h="139">
                    <a:moveTo>
                      <a:pt x="64" y="133"/>
                    </a:moveTo>
                    <a:lnTo>
                      <a:pt x="64" y="133"/>
                    </a:lnTo>
                    <a:lnTo>
                      <a:pt x="61" y="116"/>
                    </a:lnTo>
                    <a:lnTo>
                      <a:pt x="58" y="99"/>
                    </a:lnTo>
                    <a:lnTo>
                      <a:pt x="54" y="83"/>
                    </a:lnTo>
                    <a:lnTo>
                      <a:pt x="51" y="66"/>
                    </a:lnTo>
                    <a:lnTo>
                      <a:pt x="47" y="49"/>
                    </a:lnTo>
                    <a:lnTo>
                      <a:pt x="42" y="32"/>
                    </a:lnTo>
                    <a:lnTo>
                      <a:pt x="39" y="15"/>
                    </a:lnTo>
                    <a:lnTo>
                      <a:pt x="35" y="0"/>
                    </a:lnTo>
                    <a:lnTo>
                      <a:pt x="0" y="8"/>
                    </a:lnTo>
                    <a:lnTo>
                      <a:pt x="5" y="24"/>
                    </a:lnTo>
                    <a:lnTo>
                      <a:pt x="9" y="41"/>
                    </a:lnTo>
                    <a:lnTo>
                      <a:pt x="13" y="57"/>
                    </a:lnTo>
                    <a:lnTo>
                      <a:pt x="17" y="73"/>
                    </a:lnTo>
                    <a:lnTo>
                      <a:pt x="21" y="90"/>
                    </a:lnTo>
                    <a:lnTo>
                      <a:pt x="24" y="105"/>
                    </a:lnTo>
                    <a:lnTo>
                      <a:pt x="27" y="122"/>
                    </a:lnTo>
                    <a:lnTo>
                      <a:pt x="30" y="139"/>
                    </a:lnTo>
                    <a:lnTo>
                      <a:pt x="30" y="139"/>
                    </a:lnTo>
                    <a:lnTo>
                      <a:pt x="64" y="13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678200" y="1447920"/>
                <a:ext cx="17640" cy="52200"/>
              </a:xfrm>
              <a:custGeom>
                <a:avLst/>
                <a:gdLst/>
                <a:ahLst/>
                <a:rect l="l" t="t" r="r" b="b"/>
                <a:pathLst>
                  <a:path w="43" h="129">
                    <a:moveTo>
                      <a:pt x="43" y="121"/>
                    </a:moveTo>
                    <a:lnTo>
                      <a:pt x="43" y="121"/>
                    </a:lnTo>
                    <a:lnTo>
                      <a:pt x="41" y="108"/>
                    </a:lnTo>
                    <a:lnTo>
                      <a:pt x="40" y="94"/>
                    </a:lnTo>
                    <a:lnTo>
                      <a:pt x="39" y="79"/>
                    </a:lnTo>
                    <a:lnTo>
                      <a:pt x="39" y="64"/>
                    </a:lnTo>
                    <a:lnTo>
                      <a:pt x="37" y="48"/>
                    </a:lnTo>
                    <a:lnTo>
                      <a:pt x="37" y="32"/>
                    </a:lnTo>
                    <a:lnTo>
                      <a:pt x="36" y="17"/>
                    </a:lnTo>
                    <a:lnTo>
                      <a:pt x="34" y="0"/>
                    </a:lnTo>
                    <a:lnTo>
                      <a:pt x="0" y="6"/>
                    </a:lnTo>
                    <a:lnTo>
                      <a:pt x="1" y="19"/>
                    </a:lnTo>
                    <a:lnTo>
                      <a:pt x="3" y="35"/>
                    </a:lnTo>
                    <a:lnTo>
                      <a:pt x="3" y="49"/>
                    </a:lnTo>
                    <a:lnTo>
                      <a:pt x="4" y="65"/>
                    </a:lnTo>
                    <a:lnTo>
                      <a:pt x="4" y="80"/>
                    </a:lnTo>
                    <a:lnTo>
                      <a:pt x="5" y="96"/>
                    </a:lnTo>
                    <a:lnTo>
                      <a:pt x="7" y="113"/>
                    </a:lnTo>
                    <a:lnTo>
                      <a:pt x="10" y="129"/>
                    </a:lnTo>
                    <a:lnTo>
                      <a:pt x="10" y="129"/>
                    </a:lnTo>
                    <a:lnTo>
                      <a:pt x="43" y="12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681440" y="14968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63" h="90">
                    <a:moveTo>
                      <a:pt x="63" y="65"/>
                    </a:moveTo>
                    <a:lnTo>
                      <a:pt x="63" y="65"/>
                    </a:lnTo>
                    <a:lnTo>
                      <a:pt x="57" y="59"/>
                    </a:lnTo>
                    <a:lnTo>
                      <a:pt x="53" y="53"/>
                    </a:lnTo>
                    <a:lnTo>
                      <a:pt x="49" y="46"/>
                    </a:lnTo>
                    <a:lnTo>
                      <a:pt x="44" y="37"/>
                    </a:lnTo>
                    <a:lnTo>
                      <a:pt x="42" y="29"/>
                    </a:lnTo>
                    <a:lnTo>
                      <a:pt x="38" y="19"/>
                    </a:lnTo>
                    <a:lnTo>
                      <a:pt x="36" y="10"/>
                    </a:lnTo>
                    <a:lnTo>
                      <a:pt x="33" y="0"/>
                    </a:lnTo>
                    <a:lnTo>
                      <a:pt x="0" y="8"/>
                    </a:lnTo>
                    <a:lnTo>
                      <a:pt x="2" y="18"/>
                    </a:lnTo>
                    <a:lnTo>
                      <a:pt x="6" y="29"/>
                    </a:lnTo>
                    <a:lnTo>
                      <a:pt x="8" y="40"/>
                    </a:lnTo>
                    <a:lnTo>
                      <a:pt x="13" y="50"/>
                    </a:lnTo>
                    <a:lnTo>
                      <a:pt x="18" y="61"/>
                    </a:lnTo>
                    <a:lnTo>
                      <a:pt x="24" y="72"/>
                    </a:lnTo>
                    <a:lnTo>
                      <a:pt x="31" y="82"/>
                    </a:lnTo>
                    <a:lnTo>
                      <a:pt x="39" y="90"/>
                    </a:lnTo>
                    <a:lnTo>
                      <a:pt x="39" y="90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697280" y="1522440"/>
                <a:ext cx="28440" cy="1584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52" y="3"/>
                    </a:moveTo>
                    <a:lnTo>
                      <a:pt x="52" y="3"/>
                    </a:lnTo>
                    <a:lnTo>
                      <a:pt x="50" y="5"/>
                    </a:lnTo>
                    <a:lnTo>
                      <a:pt x="46" y="6"/>
                    </a:lnTo>
                    <a:lnTo>
                      <a:pt x="42" y="6"/>
                    </a:lnTo>
                    <a:lnTo>
                      <a:pt x="38" y="6"/>
                    </a:lnTo>
                    <a:lnTo>
                      <a:pt x="34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0" y="25"/>
                    </a:lnTo>
                    <a:lnTo>
                      <a:pt x="8" y="31"/>
                    </a:lnTo>
                    <a:lnTo>
                      <a:pt x="16" y="36"/>
                    </a:lnTo>
                    <a:lnTo>
                      <a:pt x="26" y="38"/>
                    </a:lnTo>
                    <a:lnTo>
                      <a:pt x="34" y="41"/>
                    </a:lnTo>
                    <a:lnTo>
                      <a:pt x="44" y="41"/>
                    </a:lnTo>
                    <a:lnTo>
                      <a:pt x="53" y="39"/>
                    </a:lnTo>
                    <a:lnTo>
                      <a:pt x="62" y="37"/>
                    </a:lnTo>
                    <a:lnTo>
                      <a:pt x="71" y="32"/>
                    </a:lnTo>
                    <a:lnTo>
                      <a:pt x="71" y="32"/>
                    </a:lnTo>
                    <a:lnTo>
                      <a:pt x="52" y="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17800" y="1490760"/>
                <a:ext cx="38160" cy="44280"/>
              </a:xfrm>
              <a:custGeom>
                <a:avLst/>
                <a:gdLst/>
                <a:ahLst/>
                <a:rect l="l" t="t" r="r" b="b"/>
                <a:pathLst>
                  <a:path w="96" h="112">
                    <a:moveTo>
                      <a:pt x="68" y="0"/>
                    </a:moveTo>
                    <a:lnTo>
                      <a:pt x="68" y="0"/>
                    </a:lnTo>
                    <a:lnTo>
                      <a:pt x="60" y="12"/>
                    </a:lnTo>
                    <a:lnTo>
                      <a:pt x="52" y="23"/>
                    </a:lnTo>
                    <a:lnTo>
                      <a:pt x="43" y="35"/>
                    </a:lnTo>
                    <a:lnTo>
                      <a:pt x="35" y="46"/>
                    </a:lnTo>
                    <a:lnTo>
                      <a:pt x="26" y="57"/>
                    </a:lnTo>
                    <a:lnTo>
                      <a:pt x="18" y="67"/>
                    </a:lnTo>
                    <a:lnTo>
                      <a:pt x="10" y="76"/>
                    </a:lnTo>
                    <a:lnTo>
                      <a:pt x="0" y="83"/>
                    </a:lnTo>
                    <a:lnTo>
                      <a:pt x="19" y="112"/>
                    </a:lnTo>
                    <a:lnTo>
                      <a:pt x="31" y="103"/>
                    </a:lnTo>
                    <a:lnTo>
                      <a:pt x="43" y="91"/>
                    </a:lnTo>
                    <a:lnTo>
                      <a:pt x="54" y="80"/>
                    </a:lnTo>
                    <a:lnTo>
                      <a:pt x="64" y="67"/>
                    </a:lnTo>
                    <a:lnTo>
                      <a:pt x="72" y="55"/>
                    </a:lnTo>
                    <a:lnTo>
                      <a:pt x="80" y="43"/>
                    </a:lnTo>
                    <a:lnTo>
                      <a:pt x="89" y="31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44800" y="1442880"/>
                <a:ext cx="44640" cy="55800"/>
              </a:xfrm>
              <a:custGeom>
                <a:avLst/>
                <a:gdLst/>
                <a:ahLst/>
                <a:rect l="l" t="t" r="r" b="b"/>
                <a:pathLst>
                  <a:path w="112" h="139">
                    <a:moveTo>
                      <a:pt x="84" y="0"/>
                    </a:moveTo>
                    <a:lnTo>
                      <a:pt x="84" y="0"/>
                    </a:lnTo>
                    <a:lnTo>
                      <a:pt x="74" y="15"/>
                    </a:lnTo>
                    <a:lnTo>
                      <a:pt x="63" y="30"/>
                    </a:lnTo>
                    <a:lnTo>
                      <a:pt x="52" y="45"/>
                    </a:lnTo>
                    <a:lnTo>
                      <a:pt x="42" y="60"/>
                    </a:lnTo>
                    <a:lnTo>
                      <a:pt x="32" y="74"/>
                    </a:lnTo>
                    <a:lnTo>
                      <a:pt x="22" y="90"/>
                    </a:lnTo>
                    <a:lnTo>
                      <a:pt x="11" y="104"/>
                    </a:lnTo>
                    <a:lnTo>
                      <a:pt x="0" y="119"/>
                    </a:lnTo>
                    <a:lnTo>
                      <a:pt x="28" y="139"/>
                    </a:lnTo>
                    <a:lnTo>
                      <a:pt x="40" y="125"/>
                    </a:lnTo>
                    <a:lnTo>
                      <a:pt x="50" y="109"/>
                    </a:lnTo>
                    <a:lnTo>
                      <a:pt x="60" y="95"/>
                    </a:lnTo>
                    <a:lnTo>
                      <a:pt x="70" y="79"/>
                    </a:lnTo>
                    <a:lnTo>
                      <a:pt x="81" y="65"/>
                    </a:lnTo>
                    <a:lnTo>
                      <a:pt x="90" y="50"/>
                    </a:lnTo>
                    <a:lnTo>
                      <a:pt x="101" y="36"/>
                    </a:lnTo>
                    <a:lnTo>
                      <a:pt x="112" y="21"/>
                    </a:lnTo>
                    <a:lnTo>
                      <a:pt x="112" y="21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78280" y="14112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94" h="102">
                    <a:moveTo>
                      <a:pt x="71" y="0"/>
                    </a:moveTo>
                    <a:lnTo>
                      <a:pt x="71" y="0"/>
                    </a:lnTo>
                    <a:lnTo>
                      <a:pt x="62" y="10"/>
                    </a:lnTo>
                    <a:lnTo>
                      <a:pt x="52" y="20"/>
                    </a:lnTo>
                    <a:lnTo>
                      <a:pt x="42" y="29"/>
                    </a:lnTo>
                    <a:lnTo>
                      <a:pt x="33" y="40"/>
                    </a:lnTo>
                    <a:lnTo>
                      <a:pt x="24" y="50"/>
                    </a:lnTo>
                    <a:lnTo>
                      <a:pt x="16" y="60"/>
                    </a:lnTo>
                    <a:lnTo>
                      <a:pt x="9" y="71"/>
                    </a:lnTo>
                    <a:lnTo>
                      <a:pt x="0" y="81"/>
                    </a:lnTo>
                    <a:lnTo>
                      <a:pt x="28" y="102"/>
                    </a:lnTo>
                    <a:lnTo>
                      <a:pt x="35" y="93"/>
                    </a:lnTo>
                    <a:lnTo>
                      <a:pt x="44" y="82"/>
                    </a:lnTo>
                    <a:lnTo>
                      <a:pt x="52" y="72"/>
                    </a:lnTo>
                    <a:lnTo>
                      <a:pt x="59" y="63"/>
                    </a:lnTo>
                    <a:lnTo>
                      <a:pt x="68" y="53"/>
                    </a:lnTo>
                    <a:lnTo>
                      <a:pt x="76" y="44"/>
                    </a:lnTo>
                    <a:lnTo>
                      <a:pt x="86" y="35"/>
                    </a:lnTo>
                    <a:lnTo>
                      <a:pt x="94" y="27"/>
                    </a:lnTo>
                    <a:lnTo>
                      <a:pt x="94" y="2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06720" y="1400040"/>
                <a:ext cx="28800" cy="22320"/>
              </a:xfrm>
              <a:custGeom>
                <a:avLst/>
                <a:gdLst/>
                <a:ahLst/>
                <a:rect l="l" t="t" r="r" b="b"/>
                <a:pathLst>
                  <a:path w="72" h="55">
                    <a:moveTo>
                      <a:pt x="72" y="16"/>
                    </a:moveTo>
                    <a:lnTo>
                      <a:pt x="72" y="16"/>
                    </a:lnTo>
                    <a:lnTo>
                      <a:pt x="69" y="9"/>
                    </a:lnTo>
                    <a:lnTo>
                      <a:pt x="63" y="3"/>
                    </a:lnTo>
                    <a:lnTo>
                      <a:pt x="54" y="1"/>
                    </a:lnTo>
                    <a:lnTo>
                      <a:pt x="46" y="0"/>
                    </a:lnTo>
                    <a:lnTo>
                      <a:pt x="36" y="3"/>
                    </a:lnTo>
                    <a:lnTo>
                      <a:pt x="28" y="7"/>
                    </a:lnTo>
                    <a:lnTo>
                      <a:pt x="19" y="13"/>
                    </a:lnTo>
                    <a:lnTo>
                      <a:pt x="12" y="19"/>
                    </a:lnTo>
                    <a:lnTo>
                      <a:pt x="6" y="24"/>
                    </a:lnTo>
                    <a:lnTo>
                      <a:pt x="0" y="28"/>
                    </a:lnTo>
                    <a:lnTo>
                      <a:pt x="23" y="55"/>
                    </a:lnTo>
                    <a:lnTo>
                      <a:pt x="28" y="50"/>
                    </a:lnTo>
                    <a:lnTo>
                      <a:pt x="34" y="45"/>
                    </a:lnTo>
                    <a:lnTo>
                      <a:pt x="40" y="40"/>
                    </a:lnTo>
                    <a:lnTo>
                      <a:pt x="46" y="37"/>
                    </a:lnTo>
                    <a:lnTo>
                      <a:pt x="49" y="34"/>
                    </a:lnTo>
                    <a:lnTo>
                      <a:pt x="52" y="34"/>
                    </a:lnTo>
                    <a:lnTo>
                      <a:pt x="47" y="34"/>
                    </a:lnTo>
                    <a:lnTo>
                      <a:pt x="43" y="32"/>
                    </a:lnTo>
                    <a:lnTo>
                      <a:pt x="41" y="30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72" y="1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19680" y="1406520"/>
                <a:ext cx="19080" cy="60480"/>
              </a:xfrm>
              <a:custGeom>
                <a:avLst/>
                <a:gdLst/>
                <a:ahLst/>
                <a:rect l="l" t="t" r="r" b="b"/>
                <a:pathLst>
                  <a:path w="48" h="153">
                    <a:moveTo>
                      <a:pt x="33" y="153"/>
                    </a:moveTo>
                    <a:lnTo>
                      <a:pt x="33" y="153"/>
                    </a:lnTo>
                    <a:lnTo>
                      <a:pt x="38" y="135"/>
                    </a:lnTo>
                    <a:lnTo>
                      <a:pt x="42" y="116"/>
                    </a:lnTo>
                    <a:lnTo>
                      <a:pt x="45" y="98"/>
                    </a:lnTo>
                    <a:lnTo>
                      <a:pt x="47" y="78"/>
                    </a:lnTo>
                    <a:lnTo>
                      <a:pt x="48" y="58"/>
                    </a:lnTo>
                    <a:lnTo>
                      <a:pt x="47" y="39"/>
                    </a:lnTo>
                    <a:lnTo>
                      <a:pt x="43" y="20"/>
                    </a:lnTo>
                    <a:lnTo>
                      <a:pt x="38" y="0"/>
                    </a:lnTo>
                    <a:lnTo>
                      <a:pt x="6" y="11"/>
                    </a:lnTo>
                    <a:lnTo>
                      <a:pt x="9" y="27"/>
                    </a:lnTo>
                    <a:lnTo>
                      <a:pt x="12" y="42"/>
                    </a:lnTo>
                    <a:lnTo>
                      <a:pt x="13" y="59"/>
                    </a:lnTo>
                    <a:lnTo>
                      <a:pt x="12" y="76"/>
                    </a:lnTo>
                    <a:lnTo>
                      <a:pt x="11" y="93"/>
                    </a:lnTo>
                    <a:lnTo>
                      <a:pt x="8" y="110"/>
                    </a:lnTo>
                    <a:lnTo>
                      <a:pt x="5" y="126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33" y="15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81520" y="1463760"/>
                <a:ext cx="52200" cy="98280"/>
              </a:xfrm>
              <a:custGeom>
                <a:avLst/>
                <a:gdLst/>
                <a:ahLst/>
                <a:rect l="l" t="t" r="r" b="b"/>
                <a:pathLst>
                  <a:path w="129" h="247">
                    <a:moveTo>
                      <a:pt x="31" y="247"/>
                    </a:moveTo>
                    <a:lnTo>
                      <a:pt x="31" y="247"/>
                    </a:lnTo>
                    <a:lnTo>
                      <a:pt x="44" y="218"/>
                    </a:lnTo>
                    <a:lnTo>
                      <a:pt x="59" y="190"/>
                    </a:lnTo>
                    <a:lnTo>
                      <a:pt x="72" y="161"/>
                    </a:lnTo>
                    <a:lnTo>
                      <a:pt x="85" y="131"/>
                    </a:lnTo>
                    <a:lnTo>
                      <a:pt x="98" y="102"/>
                    </a:lnTo>
                    <a:lnTo>
                      <a:pt x="110" y="71"/>
                    </a:lnTo>
                    <a:lnTo>
                      <a:pt x="120" y="41"/>
                    </a:lnTo>
                    <a:lnTo>
                      <a:pt x="129" y="10"/>
                    </a:lnTo>
                    <a:lnTo>
                      <a:pt x="96" y="0"/>
                    </a:lnTo>
                    <a:lnTo>
                      <a:pt x="87" y="30"/>
                    </a:lnTo>
                    <a:lnTo>
                      <a:pt x="77" y="60"/>
                    </a:lnTo>
                    <a:lnTo>
                      <a:pt x="66" y="89"/>
                    </a:lnTo>
                    <a:lnTo>
                      <a:pt x="54" y="118"/>
                    </a:lnTo>
                    <a:lnTo>
                      <a:pt x="41" y="146"/>
                    </a:lnTo>
                    <a:lnTo>
                      <a:pt x="27" y="175"/>
                    </a:lnTo>
                    <a:lnTo>
                      <a:pt x="13" y="204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31" y="24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2720" y="155592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103" h="140">
                    <a:moveTo>
                      <a:pt x="26" y="140"/>
                    </a:moveTo>
                    <a:lnTo>
                      <a:pt x="26" y="140"/>
                    </a:lnTo>
                    <a:lnTo>
                      <a:pt x="38" y="126"/>
                    </a:lnTo>
                    <a:lnTo>
                      <a:pt x="49" y="110"/>
                    </a:lnTo>
                    <a:lnTo>
                      <a:pt x="59" y="95"/>
                    </a:lnTo>
                    <a:lnTo>
                      <a:pt x="68" y="79"/>
                    </a:lnTo>
                    <a:lnTo>
                      <a:pt x="78" y="63"/>
                    </a:lnTo>
                    <a:lnTo>
                      <a:pt x="86" y="47"/>
                    </a:lnTo>
                    <a:lnTo>
                      <a:pt x="95" y="31"/>
                    </a:lnTo>
                    <a:lnTo>
                      <a:pt x="103" y="14"/>
                    </a:lnTo>
                    <a:lnTo>
                      <a:pt x="72" y="0"/>
                    </a:lnTo>
                    <a:lnTo>
                      <a:pt x="63" y="15"/>
                    </a:lnTo>
                    <a:lnTo>
                      <a:pt x="55" y="31"/>
                    </a:lnTo>
                    <a:lnTo>
                      <a:pt x="48" y="47"/>
                    </a:lnTo>
                    <a:lnTo>
                      <a:pt x="38" y="62"/>
                    </a:lnTo>
                    <a:lnTo>
                      <a:pt x="30" y="77"/>
                    </a:lnTo>
                    <a:lnTo>
                      <a:pt x="20" y="91"/>
                    </a:lnTo>
                    <a:lnTo>
                      <a:pt x="11" y="105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26" y="14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24280" y="160344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24" y="82"/>
                    </a:moveTo>
                    <a:lnTo>
                      <a:pt x="24" y="82"/>
                    </a:lnTo>
                    <a:lnTo>
                      <a:pt x="31" y="75"/>
                    </a:lnTo>
                    <a:lnTo>
                      <a:pt x="41" y="69"/>
                    </a:lnTo>
                    <a:lnTo>
                      <a:pt x="50" y="62"/>
                    </a:lnTo>
                    <a:lnTo>
                      <a:pt x="60" y="55"/>
                    </a:lnTo>
                    <a:lnTo>
                      <a:pt x="69" y="49"/>
                    </a:lnTo>
                    <a:lnTo>
                      <a:pt x="80" y="40"/>
                    </a:lnTo>
                    <a:lnTo>
                      <a:pt x="90" y="32"/>
                    </a:lnTo>
                    <a:lnTo>
                      <a:pt x="98" y="21"/>
                    </a:lnTo>
                    <a:lnTo>
                      <a:pt x="72" y="0"/>
                    </a:lnTo>
                    <a:lnTo>
                      <a:pt x="66" y="7"/>
                    </a:lnTo>
                    <a:lnTo>
                      <a:pt x="57" y="14"/>
                    </a:lnTo>
                    <a:lnTo>
                      <a:pt x="49" y="20"/>
                    </a:lnTo>
                    <a:lnTo>
                      <a:pt x="39" y="27"/>
                    </a:lnTo>
                    <a:lnTo>
                      <a:pt x="30" y="33"/>
                    </a:lnTo>
                    <a:lnTo>
                      <a:pt x="20" y="40"/>
                    </a:lnTo>
                    <a:lnTo>
                      <a:pt x="11" y="48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24" y="8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11680" y="16257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35" y="52"/>
                    </a:moveTo>
                    <a:lnTo>
                      <a:pt x="35" y="52"/>
                    </a:lnTo>
                    <a:lnTo>
                      <a:pt x="35" y="49"/>
                    </a:lnTo>
                    <a:lnTo>
                      <a:pt x="36" y="47"/>
                    </a:lnTo>
                    <a:lnTo>
                      <a:pt x="38" y="44"/>
                    </a:lnTo>
                    <a:lnTo>
                      <a:pt x="42" y="41"/>
                    </a:lnTo>
                    <a:lnTo>
                      <a:pt x="46" y="37"/>
                    </a:lnTo>
                    <a:lnTo>
                      <a:pt x="49" y="34"/>
                    </a:lnTo>
                    <a:lnTo>
                      <a:pt x="54" y="30"/>
                    </a:lnTo>
                    <a:lnTo>
                      <a:pt x="59" y="26"/>
                    </a:lnTo>
                    <a:lnTo>
                      <a:pt x="35" y="0"/>
                    </a:lnTo>
                    <a:lnTo>
                      <a:pt x="31" y="4"/>
                    </a:lnTo>
                    <a:lnTo>
                      <a:pt x="26" y="7"/>
                    </a:lnTo>
                    <a:lnTo>
                      <a:pt x="22" y="12"/>
                    </a:lnTo>
                    <a:lnTo>
                      <a:pt x="17" y="17"/>
                    </a:lnTo>
                    <a:lnTo>
                      <a:pt x="12" y="22"/>
                    </a:lnTo>
                    <a:lnTo>
                      <a:pt x="7" y="28"/>
                    </a:lnTo>
                    <a:lnTo>
                      <a:pt x="4" y="35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35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09880" y="164304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38" y="39"/>
                    </a:moveTo>
                    <a:lnTo>
                      <a:pt x="38" y="39"/>
                    </a:lnTo>
                    <a:lnTo>
                      <a:pt x="38" y="39"/>
                    </a:lnTo>
                    <a:lnTo>
                      <a:pt x="37" y="36"/>
                    </a:lnTo>
                    <a:lnTo>
                      <a:pt x="36" y="34"/>
                    </a:lnTo>
                    <a:lnTo>
                      <a:pt x="34" y="29"/>
                    </a:lnTo>
                    <a:lnTo>
                      <a:pt x="34" y="24"/>
                    </a:lnTo>
                    <a:lnTo>
                      <a:pt x="34" y="19"/>
                    </a:lnTo>
                    <a:lnTo>
                      <a:pt x="36" y="13"/>
                    </a:lnTo>
                    <a:lnTo>
                      <a:pt x="37" y="9"/>
                    </a:lnTo>
                    <a:lnTo>
                      <a:pt x="2" y="0"/>
                    </a:lnTo>
                    <a:lnTo>
                      <a:pt x="1" y="9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1" y="34"/>
                    </a:lnTo>
                    <a:lnTo>
                      <a:pt x="2" y="43"/>
                    </a:lnTo>
                    <a:lnTo>
                      <a:pt x="6" y="52"/>
                    </a:lnTo>
                    <a:lnTo>
                      <a:pt x="12" y="61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17800" y="165744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101" h="49">
                    <a:moveTo>
                      <a:pt x="95" y="12"/>
                    </a:moveTo>
                    <a:lnTo>
                      <a:pt x="95" y="12"/>
                    </a:lnTo>
                    <a:lnTo>
                      <a:pt x="85" y="14"/>
                    </a:lnTo>
                    <a:lnTo>
                      <a:pt x="74" y="14"/>
                    </a:lnTo>
                    <a:lnTo>
                      <a:pt x="65" y="14"/>
                    </a:lnTo>
                    <a:lnTo>
                      <a:pt x="54" y="13"/>
                    </a:lnTo>
                    <a:lnTo>
                      <a:pt x="44" y="10"/>
                    </a:lnTo>
                    <a:lnTo>
                      <a:pt x="35" y="8"/>
                    </a:lnTo>
                    <a:lnTo>
                      <a:pt x="26" y="4"/>
                    </a:lnTo>
                    <a:lnTo>
                      <a:pt x="18" y="0"/>
                    </a:lnTo>
                    <a:lnTo>
                      <a:pt x="0" y="30"/>
                    </a:lnTo>
                    <a:lnTo>
                      <a:pt x="11" y="36"/>
                    </a:lnTo>
                    <a:lnTo>
                      <a:pt x="24" y="40"/>
                    </a:lnTo>
                    <a:lnTo>
                      <a:pt x="36" y="44"/>
                    </a:lnTo>
                    <a:lnTo>
                      <a:pt x="49" y="48"/>
                    </a:lnTo>
                    <a:lnTo>
                      <a:pt x="62" y="49"/>
                    </a:lnTo>
                    <a:lnTo>
                      <a:pt x="74" y="49"/>
                    </a:lnTo>
                    <a:lnTo>
                      <a:pt x="88" y="48"/>
                    </a:lnTo>
                    <a:lnTo>
                      <a:pt x="101" y="46"/>
                    </a:lnTo>
                    <a:lnTo>
                      <a:pt x="101" y="46"/>
                    </a:lnTo>
                    <a:lnTo>
                      <a:pt x="95" y="1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5960" y="1647720"/>
                <a:ext cx="41400" cy="28800"/>
              </a:xfrm>
              <a:custGeom>
                <a:avLst/>
                <a:gdLst/>
                <a:ahLst/>
                <a:rect l="l" t="t" r="r" b="b"/>
                <a:pathLst>
                  <a:path w="103" h="73">
                    <a:moveTo>
                      <a:pt x="78" y="0"/>
                    </a:moveTo>
                    <a:lnTo>
                      <a:pt x="78" y="0"/>
                    </a:lnTo>
                    <a:lnTo>
                      <a:pt x="71" y="7"/>
                    </a:lnTo>
                    <a:lnTo>
                      <a:pt x="62" y="15"/>
                    </a:lnTo>
                    <a:lnTo>
                      <a:pt x="53" y="21"/>
                    </a:lnTo>
                    <a:lnTo>
                      <a:pt x="43" y="25"/>
                    </a:lnTo>
                    <a:lnTo>
                      <a:pt x="32" y="30"/>
                    </a:lnTo>
                    <a:lnTo>
                      <a:pt x="21" y="34"/>
                    </a:lnTo>
                    <a:lnTo>
                      <a:pt x="11" y="37"/>
                    </a:lnTo>
                    <a:lnTo>
                      <a:pt x="0" y="39"/>
                    </a:lnTo>
                    <a:lnTo>
                      <a:pt x="6" y="73"/>
                    </a:lnTo>
                    <a:lnTo>
                      <a:pt x="19" y="71"/>
                    </a:lnTo>
                    <a:lnTo>
                      <a:pt x="32" y="67"/>
                    </a:lnTo>
                    <a:lnTo>
                      <a:pt x="45" y="63"/>
                    </a:lnTo>
                    <a:lnTo>
                      <a:pt x="57" y="57"/>
                    </a:lnTo>
                    <a:lnTo>
                      <a:pt x="71" y="51"/>
                    </a:lnTo>
                    <a:lnTo>
                      <a:pt x="83" y="42"/>
                    </a:lnTo>
                    <a:lnTo>
                      <a:pt x="93" y="34"/>
                    </a:lnTo>
                    <a:lnTo>
                      <a:pt x="103" y="24"/>
                    </a:lnTo>
                    <a:lnTo>
                      <a:pt x="103" y="24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86200" y="1585800"/>
                <a:ext cx="49320" cy="71640"/>
              </a:xfrm>
              <a:custGeom>
                <a:avLst/>
                <a:gdLst/>
                <a:ahLst/>
                <a:rect l="l" t="t" r="r" b="b"/>
                <a:pathLst>
                  <a:path w="125" h="180">
                    <a:moveTo>
                      <a:pt x="97" y="0"/>
                    </a:moveTo>
                    <a:lnTo>
                      <a:pt x="97" y="0"/>
                    </a:lnTo>
                    <a:lnTo>
                      <a:pt x="83" y="21"/>
                    </a:lnTo>
                    <a:lnTo>
                      <a:pt x="71" y="41"/>
                    </a:lnTo>
                    <a:lnTo>
                      <a:pt x="59" y="63"/>
                    </a:lnTo>
                    <a:lnTo>
                      <a:pt x="48" y="83"/>
                    </a:lnTo>
                    <a:lnTo>
                      <a:pt x="37" y="103"/>
                    </a:lnTo>
                    <a:lnTo>
                      <a:pt x="26" y="123"/>
                    </a:lnTo>
                    <a:lnTo>
                      <a:pt x="13" y="141"/>
                    </a:lnTo>
                    <a:lnTo>
                      <a:pt x="0" y="156"/>
                    </a:lnTo>
                    <a:lnTo>
                      <a:pt x="25" y="180"/>
                    </a:lnTo>
                    <a:lnTo>
                      <a:pt x="42" y="161"/>
                    </a:lnTo>
                    <a:lnTo>
                      <a:pt x="55" y="141"/>
                    </a:lnTo>
                    <a:lnTo>
                      <a:pt x="67" y="120"/>
                    </a:lnTo>
                    <a:lnTo>
                      <a:pt x="79" y="100"/>
                    </a:lnTo>
                    <a:lnTo>
                      <a:pt x="90" y="78"/>
                    </a:lnTo>
                    <a:lnTo>
                      <a:pt x="101" y="59"/>
                    </a:lnTo>
                    <a:lnTo>
                      <a:pt x="111" y="40"/>
                    </a:lnTo>
                    <a:lnTo>
                      <a:pt x="125" y="22"/>
                    </a:lnTo>
                    <a:lnTo>
                      <a:pt x="125" y="2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1549440"/>
                <a:ext cx="46080" cy="44280"/>
              </a:xfrm>
              <a:custGeom>
                <a:avLst/>
                <a:gdLst/>
                <a:ahLst/>
                <a:rect l="l" t="t" r="r" b="b"/>
                <a:pathLst>
                  <a:path w="116" h="113">
                    <a:moveTo>
                      <a:pt x="97" y="0"/>
                    </a:moveTo>
                    <a:lnTo>
                      <a:pt x="97" y="0"/>
                    </a:lnTo>
                    <a:lnTo>
                      <a:pt x="84" y="10"/>
                    </a:lnTo>
                    <a:lnTo>
                      <a:pt x="71" y="20"/>
                    </a:lnTo>
                    <a:lnTo>
                      <a:pt x="58" y="31"/>
                    </a:lnTo>
                    <a:lnTo>
                      <a:pt x="46" y="42"/>
                    </a:lnTo>
                    <a:lnTo>
                      <a:pt x="34" y="54"/>
                    </a:lnTo>
                    <a:lnTo>
                      <a:pt x="22" y="66"/>
                    </a:lnTo>
                    <a:lnTo>
                      <a:pt x="11" y="79"/>
                    </a:lnTo>
                    <a:lnTo>
                      <a:pt x="0" y="91"/>
                    </a:lnTo>
                    <a:lnTo>
                      <a:pt x="28" y="113"/>
                    </a:lnTo>
                    <a:lnTo>
                      <a:pt x="37" y="101"/>
                    </a:lnTo>
                    <a:lnTo>
                      <a:pt x="47" y="90"/>
                    </a:lnTo>
                    <a:lnTo>
                      <a:pt x="58" y="78"/>
                    </a:lnTo>
                    <a:lnTo>
                      <a:pt x="68" y="67"/>
                    </a:lnTo>
                    <a:lnTo>
                      <a:pt x="80" y="58"/>
                    </a:lnTo>
                    <a:lnTo>
                      <a:pt x="92" y="47"/>
                    </a:lnTo>
                    <a:lnTo>
                      <a:pt x="104" y="37"/>
                    </a:lnTo>
                    <a:lnTo>
                      <a:pt x="116" y="29"/>
                    </a:lnTo>
                    <a:lnTo>
                      <a:pt x="116" y="29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63960" y="153684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85" h="61">
                    <a:moveTo>
                      <a:pt x="85" y="0"/>
                    </a:moveTo>
                    <a:lnTo>
                      <a:pt x="85" y="0"/>
                    </a:lnTo>
                    <a:lnTo>
                      <a:pt x="72" y="0"/>
                    </a:lnTo>
                    <a:lnTo>
                      <a:pt x="60" y="1"/>
                    </a:lnTo>
                    <a:lnTo>
                      <a:pt x="48" y="4"/>
                    </a:lnTo>
                    <a:lnTo>
                      <a:pt x="37" y="9"/>
                    </a:lnTo>
                    <a:lnTo>
                      <a:pt x="28" y="14"/>
                    </a:lnTo>
                    <a:lnTo>
                      <a:pt x="18" y="20"/>
                    </a:lnTo>
                    <a:lnTo>
                      <a:pt x="9" y="26"/>
                    </a:lnTo>
                    <a:lnTo>
                      <a:pt x="0" y="32"/>
                    </a:lnTo>
                    <a:lnTo>
                      <a:pt x="19" y="61"/>
                    </a:lnTo>
                    <a:lnTo>
                      <a:pt x="28" y="55"/>
                    </a:lnTo>
                    <a:lnTo>
                      <a:pt x="36" y="50"/>
                    </a:lnTo>
                    <a:lnTo>
                      <a:pt x="45" y="45"/>
                    </a:lnTo>
                    <a:lnTo>
                      <a:pt x="52" y="40"/>
                    </a:lnTo>
                    <a:lnTo>
                      <a:pt x="60" y="37"/>
                    </a:lnTo>
                    <a:lnTo>
                      <a:pt x="67" y="36"/>
                    </a:lnTo>
                    <a:lnTo>
                      <a:pt x="75" y="34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95640" y="153684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78" h="73">
                    <a:moveTo>
                      <a:pt x="78" y="49"/>
                    </a:moveTo>
                    <a:lnTo>
                      <a:pt x="78" y="49"/>
                    </a:lnTo>
                    <a:lnTo>
                      <a:pt x="71" y="42"/>
                    </a:lnTo>
                    <a:lnTo>
                      <a:pt x="63" y="34"/>
                    </a:lnTo>
                    <a:lnTo>
                      <a:pt x="55" y="27"/>
                    </a:lnTo>
                    <a:lnTo>
                      <a:pt x="47" y="19"/>
                    </a:lnTo>
                    <a:lnTo>
                      <a:pt x="37" y="13"/>
                    </a:lnTo>
                    <a:lnTo>
                      <a:pt x="27" y="7"/>
                    </a:lnTo>
                    <a:lnTo>
                      <a:pt x="15" y="2"/>
                    </a:lnTo>
                    <a:lnTo>
                      <a:pt x="3" y="0"/>
                    </a:lnTo>
                    <a:lnTo>
                      <a:pt x="0" y="34"/>
                    </a:lnTo>
                    <a:lnTo>
                      <a:pt x="6" y="36"/>
                    </a:lnTo>
                    <a:lnTo>
                      <a:pt x="12" y="38"/>
                    </a:lnTo>
                    <a:lnTo>
                      <a:pt x="19" y="42"/>
                    </a:lnTo>
                    <a:lnTo>
                      <a:pt x="25" y="46"/>
                    </a:lnTo>
                    <a:lnTo>
                      <a:pt x="32" y="52"/>
                    </a:lnTo>
                    <a:lnTo>
                      <a:pt x="39" y="58"/>
                    </a:lnTo>
                    <a:lnTo>
                      <a:pt x="45" y="66"/>
                    </a:lnTo>
                    <a:lnTo>
                      <a:pt x="53" y="73"/>
                    </a:lnTo>
                    <a:lnTo>
                      <a:pt x="53" y="73"/>
                    </a:lnTo>
                    <a:lnTo>
                      <a:pt x="78" y="4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916520" y="1555920"/>
                <a:ext cx="28440" cy="34920"/>
              </a:xfrm>
              <a:custGeom>
                <a:avLst/>
                <a:gdLst/>
                <a:ahLst/>
                <a:rect l="l" t="t" r="r" b="b"/>
                <a:pathLst>
                  <a:path w="72" h="90">
                    <a:moveTo>
                      <a:pt x="72" y="72"/>
                    </a:moveTo>
                    <a:lnTo>
                      <a:pt x="72" y="72"/>
                    </a:lnTo>
                    <a:lnTo>
                      <a:pt x="67" y="63"/>
                    </a:lnTo>
                    <a:lnTo>
                      <a:pt x="61" y="54"/>
                    </a:lnTo>
                    <a:lnTo>
                      <a:pt x="56" y="45"/>
                    </a:lnTo>
                    <a:lnTo>
                      <a:pt x="51" y="36"/>
                    </a:lnTo>
                    <a:lnTo>
                      <a:pt x="45" y="26"/>
                    </a:lnTo>
                    <a:lnTo>
                      <a:pt x="39" y="18"/>
                    </a:lnTo>
                    <a:lnTo>
                      <a:pt x="32" y="8"/>
                    </a:lnTo>
                    <a:lnTo>
                      <a:pt x="25" y="0"/>
                    </a:lnTo>
                    <a:lnTo>
                      <a:pt x="0" y="24"/>
                    </a:lnTo>
                    <a:lnTo>
                      <a:pt x="6" y="31"/>
                    </a:lnTo>
                    <a:lnTo>
                      <a:pt x="10" y="38"/>
                    </a:lnTo>
                    <a:lnTo>
                      <a:pt x="16" y="45"/>
                    </a:lnTo>
                    <a:lnTo>
                      <a:pt x="21" y="54"/>
                    </a:lnTo>
                    <a:lnTo>
                      <a:pt x="26" y="62"/>
                    </a:lnTo>
                    <a:lnTo>
                      <a:pt x="31" y="71"/>
                    </a:lnTo>
                    <a:lnTo>
                      <a:pt x="36" y="80"/>
                    </a:lnTo>
                    <a:lnTo>
                      <a:pt x="42" y="90"/>
                    </a:lnTo>
                    <a:lnTo>
                      <a:pt x="42" y="9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933800" y="1584360"/>
                <a:ext cx="34920" cy="46080"/>
              </a:xfrm>
              <a:custGeom>
                <a:avLst/>
                <a:gdLst/>
                <a:ahLst/>
                <a:rect l="l" t="t" r="r" b="b"/>
                <a:pathLst>
                  <a:path w="90" h="117">
                    <a:moveTo>
                      <a:pt x="90" y="105"/>
                    </a:moveTo>
                    <a:lnTo>
                      <a:pt x="90" y="105"/>
                    </a:lnTo>
                    <a:lnTo>
                      <a:pt x="82" y="91"/>
                    </a:lnTo>
                    <a:lnTo>
                      <a:pt x="76" y="77"/>
                    </a:lnTo>
                    <a:lnTo>
                      <a:pt x="68" y="63"/>
                    </a:lnTo>
                    <a:lnTo>
                      <a:pt x="61" y="50"/>
                    </a:lnTo>
                    <a:lnTo>
                      <a:pt x="52" y="37"/>
                    </a:lnTo>
                    <a:lnTo>
                      <a:pt x="45" y="25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0" y="18"/>
                    </a:lnTo>
                    <a:lnTo>
                      <a:pt x="7" y="30"/>
                    </a:lnTo>
                    <a:lnTo>
                      <a:pt x="15" y="43"/>
                    </a:lnTo>
                    <a:lnTo>
                      <a:pt x="24" y="55"/>
                    </a:lnTo>
                    <a:lnTo>
                      <a:pt x="31" y="68"/>
                    </a:lnTo>
                    <a:lnTo>
                      <a:pt x="38" y="80"/>
                    </a:lnTo>
                    <a:lnTo>
                      <a:pt x="45" y="92"/>
                    </a:lnTo>
                    <a:lnTo>
                      <a:pt x="51" y="105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90" y="10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956120" y="1625760"/>
                <a:ext cx="17280" cy="31680"/>
              </a:xfrm>
              <a:custGeom>
                <a:avLst/>
                <a:gdLst/>
                <a:ahLst/>
                <a:rect l="l" t="t" r="r" b="b"/>
                <a:pathLst>
                  <a:path w="45" h="78">
                    <a:moveTo>
                      <a:pt x="43" y="78"/>
                    </a:moveTo>
                    <a:lnTo>
                      <a:pt x="43" y="78"/>
                    </a:lnTo>
                    <a:lnTo>
                      <a:pt x="45" y="68"/>
                    </a:lnTo>
                    <a:lnTo>
                      <a:pt x="45" y="58"/>
                    </a:lnTo>
                    <a:lnTo>
                      <a:pt x="45" y="47"/>
                    </a:lnTo>
                    <a:lnTo>
                      <a:pt x="43" y="38"/>
                    </a:lnTo>
                    <a:lnTo>
                      <a:pt x="41" y="28"/>
                    </a:lnTo>
                    <a:lnTo>
                      <a:pt x="39" y="18"/>
                    </a:lnTo>
                    <a:lnTo>
                      <a:pt x="36" y="9"/>
                    </a:lnTo>
                    <a:lnTo>
                      <a:pt x="33" y="0"/>
                    </a:lnTo>
                    <a:lnTo>
                      <a:pt x="0" y="12"/>
                    </a:lnTo>
                    <a:lnTo>
                      <a:pt x="3" y="21"/>
                    </a:lnTo>
                    <a:lnTo>
                      <a:pt x="5" y="28"/>
                    </a:lnTo>
                    <a:lnTo>
                      <a:pt x="7" y="35"/>
                    </a:lnTo>
                    <a:lnTo>
                      <a:pt x="9" y="44"/>
                    </a:lnTo>
                    <a:lnTo>
                      <a:pt x="10" y="51"/>
                    </a:lnTo>
                    <a:lnTo>
                      <a:pt x="10" y="58"/>
                    </a:lnTo>
                    <a:lnTo>
                      <a:pt x="10" y="65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43" y="7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954320" y="165420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3" y="54"/>
                    </a:moveTo>
                    <a:lnTo>
                      <a:pt x="3" y="54"/>
                    </a:lnTo>
                    <a:lnTo>
                      <a:pt x="12" y="53"/>
                    </a:lnTo>
                    <a:lnTo>
                      <a:pt x="22" y="48"/>
                    </a:lnTo>
                    <a:lnTo>
                      <a:pt x="29" y="42"/>
                    </a:lnTo>
                    <a:lnTo>
                      <a:pt x="35" y="36"/>
                    </a:lnTo>
                    <a:lnTo>
                      <a:pt x="39" y="29"/>
                    </a:lnTo>
                    <a:lnTo>
                      <a:pt x="44" y="22"/>
                    </a:lnTo>
                    <a:lnTo>
                      <a:pt x="46" y="14"/>
                    </a:lnTo>
                    <a:lnTo>
                      <a:pt x="48" y="6"/>
                    </a:lnTo>
                    <a:lnTo>
                      <a:pt x="14" y="0"/>
                    </a:lnTo>
                    <a:lnTo>
                      <a:pt x="14" y="3"/>
                    </a:lnTo>
                    <a:lnTo>
                      <a:pt x="11" y="8"/>
                    </a:lnTo>
                    <a:lnTo>
                      <a:pt x="10" y="11"/>
                    </a:lnTo>
                    <a:lnTo>
                      <a:pt x="8" y="15"/>
                    </a:lnTo>
                    <a:lnTo>
                      <a:pt x="5" y="17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3" y="5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925880" y="16527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77" h="58">
                    <a:moveTo>
                      <a:pt x="0" y="25"/>
                    </a:moveTo>
                    <a:lnTo>
                      <a:pt x="0" y="25"/>
                    </a:lnTo>
                    <a:lnTo>
                      <a:pt x="7" y="31"/>
                    </a:lnTo>
                    <a:lnTo>
                      <a:pt x="16" y="38"/>
                    </a:lnTo>
                    <a:lnTo>
                      <a:pt x="24" y="43"/>
                    </a:lnTo>
                    <a:lnTo>
                      <a:pt x="34" y="49"/>
                    </a:lnTo>
                    <a:lnTo>
                      <a:pt x="43" y="52"/>
                    </a:lnTo>
                    <a:lnTo>
                      <a:pt x="54" y="56"/>
                    </a:lnTo>
                    <a:lnTo>
                      <a:pt x="65" y="58"/>
                    </a:lnTo>
                    <a:lnTo>
                      <a:pt x="77" y="58"/>
                    </a:lnTo>
                    <a:lnTo>
                      <a:pt x="74" y="24"/>
                    </a:lnTo>
                    <a:lnTo>
                      <a:pt x="68" y="24"/>
                    </a:lnTo>
                    <a:lnTo>
                      <a:pt x="62" y="22"/>
                    </a:lnTo>
                    <a:lnTo>
                      <a:pt x="56" y="20"/>
                    </a:lnTo>
                    <a:lnTo>
                      <a:pt x="49" y="18"/>
                    </a:lnTo>
                    <a:lnTo>
                      <a:pt x="42" y="14"/>
                    </a:lnTo>
                    <a:lnTo>
                      <a:pt x="36" y="9"/>
                    </a:lnTo>
                    <a:lnTo>
                      <a:pt x="30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900680" y="1620720"/>
                <a:ext cx="34920" cy="41400"/>
              </a:xfrm>
              <a:custGeom>
                <a:avLst/>
                <a:gdLst/>
                <a:ahLst/>
                <a:rect l="l" t="t" r="r" b="b"/>
                <a:pathLst>
                  <a:path w="85" h="107">
                    <a:moveTo>
                      <a:pt x="0" y="20"/>
                    </a:moveTo>
                    <a:lnTo>
                      <a:pt x="0" y="20"/>
                    </a:lnTo>
                    <a:lnTo>
                      <a:pt x="7" y="31"/>
                    </a:lnTo>
                    <a:lnTo>
                      <a:pt x="13" y="41"/>
                    </a:lnTo>
                    <a:lnTo>
                      <a:pt x="20" y="52"/>
                    </a:lnTo>
                    <a:lnTo>
                      <a:pt x="27" y="64"/>
                    </a:lnTo>
                    <a:lnTo>
                      <a:pt x="35" y="74"/>
                    </a:lnTo>
                    <a:lnTo>
                      <a:pt x="42" y="85"/>
                    </a:lnTo>
                    <a:lnTo>
                      <a:pt x="51" y="96"/>
                    </a:lnTo>
                    <a:lnTo>
                      <a:pt x="61" y="107"/>
                    </a:lnTo>
                    <a:lnTo>
                      <a:pt x="85" y="82"/>
                    </a:lnTo>
                    <a:lnTo>
                      <a:pt x="77" y="73"/>
                    </a:lnTo>
                    <a:lnTo>
                      <a:pt x="69" y="65"/>
                    </a:lnTo>
                    <a:lnTo>
                      <a:pt x="63" y="55"/>
                    </a:lnTo>
                    <a:lnTo>
                      <a:pt x="56" y="44"/>
                    </a:lnTo>
                    <a:lnTo>
                      <a:pt x="50" y="34"/>
                    </a:lnTo>
                    <a:lnTo>
                      <a:pt x="43" y="23"/>
                    </a:lnTo>
                    <a:lnTo>
                      <a:pt x="36" y="12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86280" y="16002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0" y="27"/>
                    </a:moveTo>
                    <a:lnTo>
                      <a:pt x="0" y="28"/>
                    </a:lnTo>
                    <a:lnTo>
                      <a:pt x="5" y="32"/>
                    </a:lnTo>
                    <a:lnTo>
                      <a:pt x="9" y="36"/>
                    </a:lnTo>
                    <a:lnTo>
                      <a:pt x="13" y="41"/>
                    </a:lnTo>
                    <a:lnTo>
                      <a:pt x="18" y="47"/>
                    </a:lnTo>
                    <a:lnTo>
                      <a:pt x="23" y="53"/>
                    </a:lnTo>
                    <a:lnTo>
                      <a:pt x="26" y="59"/>
                    </a:lnTo>
                    <a:lnTo>
                      <a:pt x="31" y="66"/>
                    </a:lnTo>
                    <a:lnTo>
                      <a:pt x="36" y="72"/>
                    </a:lnTo>
                    <a:lnTo>
                      <a:pt x="63" y="52"/>
                    </a:lnTo>
                    <a:lnTo>
                      <a:pt x="60" y="46"/>
                    </a:lnTo>
                    <a:lnTo>
                      <a:pt x="55" y="40"/>
                    </a:lnTo>
                    <a:lnTo>
                      <a:pt x="50" y="33"/>
                    </a:lnTo>
                    <a:lnTo>
                      <a:pt x="45" y="27"/>
                    </a:lnTo>
                    <a:lnTo>
                      <a:pt x="41" y="20"/>
                    </a:lnTo>
                    <a:lnTo>
                      <a:pt x="35" y="12"/>
                    </a:lnTo>
                    <a:lnTo>
                      <a:pt x="29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75120" y="15969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8" y="32"/>
                    </a:moveTo>
                    <a:lnTo>
                      <a:pt x="28" y="32"/>
                    </a:lnTo>
                    <a:lnTo>
                      <a:pt x="27" y="34"/>
                    </a:lnTo>
                    <a:lnTo>
                      <a:pt x="25" y="35"/>
                    </a:lnTo>
                    <a:lnTo>
                      <a:pt x="24" y="35"/>
                    </a:lnTo>
                    <a:lnTo>
                      <a:pt x="25" y="35"/>
                    </a:lnTo>
                    <a:lnTo>
                      <a:pt x="27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49" y="8"/>
                    </a:lnTo>
                    <a:lnTo>
                      <a:pt x="43" y="5"/>
                    </a:lnTo>
                    <a:lnTo>
                      <a:pt x="39" y="2"/>
                    </a:lnTo>
                    <a:lnTo>
                      <a:pt x="33" y="1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3" y="1"/>
                    </a:lnTo>
                    <a:lnTo>
                      <a:pt x="6" y="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8" y="3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51360" y="1600200"/>
                <a:ext cx="34920" cy="52560"/>
              </a:xfrm>
              <a:custGeom>
                <a:avLst/>
                <a:gdLst/>
                <a:ahLst/>
                <a:rect l="l" t="t" r="r" b="b"/>
                <a:pathLst>
                  <a:path w="88" h="132">
                    <a:moveTo>
                      <a:pt x="30" y="132"/>
                    </a:moveTo>
                    <a:lnTo>
                      <a:pt x="30" y="132"/>
                    </a:lnTo>
                    <a:lnTo>
                      <a:pt x="39" y="117"/>
                    </a:lnTo>
                    <a:lnTo>
                      <a:pt x="46" y="103"/>
                    </a:lnTo>
                    <a:lnTo>
                      <a:pt x="53" y="87"/>
                    </a:lnTo>
                    <a:lnTo>
                      <a:pt x="59" y="73"/>
                    </a:lnTo>
                    <a:lnTo>
                      <a:pt x="66" y="60"/>
                    </a:lnTo>
                    <a:lnTo>
                      <a:pt x="72" y="45"/>
                    </a:lnTo>
                    <a:lnTo>
                      <a:pt x="81" y="33"/>
                    </a:lnTo>
                    <a:lnTo>
                      <a:pt x="88" y="21"/>
                    </a:lnTo>
                    <a:lnTo>
                      <a:pt x="60" y="0"/>
                    </a:lnTo>
                    <a:lnTo>
                      <a:pt x="51" y="14"/>
                    </a:lnTo>
                    <a:lnTo>
                      <a:pt x="42" y="30"/>
                    </a:lnTo>
                    <a:lnTo>
                      <a:pt x="35" y="44"/>
                    </a:lnTo>
                    <a:lnTo>
                      <a:pt x="28" y="59"/>
                    </a:lnTo>
                    <a:lnTo>
                      <a:pt x="21" y="73"/>
                    </a:lnTo>
                    <a:lnTo>
                      <a:pt x="15" y="87"/>
                    </a:lnTo>
                    <a:lnTo>
                      <a:pt x="7" y="102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30" y="13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822560" y="164628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102" h="128">
                    <a:moveTo>
                      <a:pt x="27" y="128"/>
                    </a:moveTo>
                    <a:lnTo>
                      <a:pt x="27" y="128"/>
                    </a:lnTo>
                    <a:lnTo>
                      <a:pt x="37" y="115"/>
                    </a:lnTo>
                    <a:lnTo>
                      <a:pt x="48" y="102"/>
                    </a:lnTo>
                    <a:lnTo>
                      <a:pt x="58" y="89"/>
                    </a:lnTo>
                    <a:lnTo>
                      <a:pt x="67" y="74"/>
                    </a:lnTo>
                    <a:lnTo>
                      <a:pt x="76" y="61"/>
                    </a:lnTo>
                    <a:lnTo>
                      <a:pt x="85" y="47"/>
                    </a:lnTo>
                    <a:lnTo>
                      <a:pt x="94" y="32"/>
                    </a:lnTo>
                    <a:lnTo>
                      <a:pt x="102" y="18"/>
                    </a:lnTo>
                    <a:lnTo>
                      <a:pt x="72" y="0"/>
                    </a:lnTo>
                    <a:lnTo>
                      <a:pt x="64" y="14"/>
                    </a:lnTo>
                    <a:lnTo>
                      <a:pt x="55" y="29"/>
                    </a:lnTo>
                    <a:lnTo>
                      <a:pt x="47" y="42"/>
                    </a:lnTo>
                    <a:lnTo>
                      <a:pt x="39" y="55"/>
                    </a:lnTo>
                    <a:lnTo>
                      <a:pt x="29" y="68"/>
                    </a:lnTo>
                    <a:lnTo>
                      <a:pt x="21" y="81"/>
                    </a:lnTo>
                    <a:lnTo>
                      <a:pt x="11" y="93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27" y="1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89440" y="168768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112" h="110">
                    <a:moveTo>
                      <a:pt x="22" y="110"/>
                    </a:moveTo>
                    <a:lnTo>
                      <a:pt x="22" y="110"/>
                    </a:lnTo>
                    <a:lnTo>
                      <a:pt x="34" y="99"/>
                    </a:lnTo>
                    <a:lnTo>
                      <a:pt x="46" y="89"/>
                    </a:lnTo>
                    <a:lnTo>
                      <a:pt x="58" y="80"/>
                    </a:lnTo>
                    <a:lnTo>
                      <a:pt x="68" y="69"/>
                    </a:lnTo>
                    <a:lnTo>
                      <a:pt x="80" y="58"/>
                    </a:lnTo>
                    <a:lnTo>
                      <a:pt x="91" y="47"/>
                    </a:lnTo>
                    <a:lnTo>
                      <a:pt x="102" y="35"/>
                    </a:lnTo>
                    <a:lnTo>
                      <a:pt x="112" y="23"/>
                    </a:lnTo>
                    <a:lnTo>
                      <a:pt x="85" y="0"/>
                    </a:lnTo>
                    <a:lnTo>
                      <a:pt x="76" y="12"/>
                    </a:lnTo>
                    <a:lnTo>
                      <a:pt x="66" y="22"/>
                    </a:lnTo>
                    <a:lnTo>
                      <a:pt x="55" y="33"/>
                    </a:lnTo>
                    <a:lnTo>
                      <a:pt x="46" y="44"/>
                    </a:lnTo>
                    <a:lnTo>
                      <a:pt x="34" y="53"/>
                    </a:lnTo>
                    <a:lnTo>
                      <a:pt x="23" y="63"/>
                    </a:lnTo>
                    <a:lnTo>
                      <a:pt x="12" y="7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22" y="11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62440" y="172080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92" h="73">
                    <a:moveTo>
                      <a:pt x="14" y="73"/>
                    </a:moveTo>
                    <a:lnTo>
                      <a:pt x="14" y="73"/>
                    </a:lnTo>
                    <a:lnTo>
                      <a:pt x="24" y="70"/>
                    </a:lnTo>
                    <a:lnTo>
                      <a:pt x="34" y="64"/>
                    </a:lnTo>
                    <a:lnTo>
                      <a:pt x="45" y="59"/>
                    </a:lnTo>
                    <a:lnTo>
                      <a:pt x="54" y="53"/>
                    </a:lnTo>
                    <a:lnTo>
                      <a:pt x="64" y="47"/>
                    </a:lnTo>
                    <a:lnTo>
                      <a:pt x="74" y="41"/>
                    </a:lnTo>
                    <a:lnTo>
                      <a:pt x="82" y="34"/>
                    </a:lnTo>
                    <a:lnTo>
                      <a:pt x="92" y="28"/>
                    </a:lnTo>
                    <a:lnTo>
                      <a:pt x="70" y="0"/>
                    </a:lnTo>
                    <a:lnTo>
                      <a:pt x="62" y="6"/>
                    </a:lnTo>
                    <a:lnTo>
                      <a:pt x="53" y="12"/>
                    </a:lnTo>
                    <a:lnTo>
                      <a:pt x="45" y="18"/>
                    </a:lnTo>
                    <a:lnTo>
                      <a:pt x="36" y="23"/>
                    </a:lnTo>
                    <a:lnTo>
                      <a:pt x="28" y="29"/>
                    </a:lnTo>
                    <a:lnTo>
                      <a:pt x="18" y="34"/>
                    </a:lnTo>
                    <a:lnTo>
                      <a:pt x="1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4" y="7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34000" y="17366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86" h="48">
                    <a:moveTo>
                      <a:pt x="10" y="48"/>
                    </a:moveTo>
                    <a:lnTo>
                      <a:pt x="10" y="48"/>
                    </a:lnTo>
                    <a:lnTo>
                      <a:pt x="18" y="45"/>
                    </a:lnTo>
                    <a:lnTo>
                      <a:pt x="27" y="44"/>
                    </a:lnTo>
                    <a:lnTo>
                      <a:pt x="35" y="43"/>
                    </a:lnTo>
                    <a:lnTo>
                      <a:pt x="45" y="42"/>
                    </a:lnTo>
                    <a:lnTo>
                      <a:pt x="54" y="41"/>
                    </a:lnTo>
                    <a:lnTo>
                      <a:pt x="65" y="38"/>
                    </a:lnTo>
                    <a:lnTo>
                      <a:pt x="75" y="36"/>
                    </a:lnTo>
                    <a:lnTo>
                      <a:pt x="86" y="32"/>
                    </a:lnTo>
                    <a:lnTo>
                      <a:pt x="72" y="0"/>
                    </a:lnTo>
                    <a:lnTo>
                      <a:pt x="65" y="3"/>
                    </a:lnTo>
                    <a:lnTo>
                      <a:pt x="58" y="5"/>
                    </a:lnTo>
                    <a:lnTo>
                      <a:pt x="50" y="6"/>
                    </a:lnTo>
                    <a:lnTo>
                      <a:pt x="40" y="7"/>
                    </a:lnTo>
                    <a:lnTo>
                      <a:pt x="30" y="8"/>
                    </a:lnTo>
                    <a:lnTo>
                      <a:pt x="21" y="11"/>
                    </a:lnTo>
                    <a:lnTo>
                      <a:pt x="11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4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11680" y="174312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64" h="45">
                    <a:moveTo>
                      <a:pt x="30" y="45"/>
                    </a:moveTo>
                    <a:lnTo>
                      <a:pt x="30" y="45"/>
                    </a:lnTo>
                    <a:lnTo>
                      <a:pt x="32" y="45"/>
                    </a:lnTo>
                    <a:lnTo>
                      <a:pt x="33" y="43"/>
                    </a:lnTo>
                    <a:lnTo>
                      <a:pt x="35" y="41"/>
                    </a:lnTo>
                    <a:lnTo>
                      <a:pt x="40" y="40"/>
                    </a:lnTo>
                    <a:lnTo>
                      <a:pt x="45" y="39"/>
                    </a:lnTo>
                    <a:lnTo>
                      <a:pt x="51" y="37"/>
                    </a:lnTo>
                    <a:lnTo>
                      <a:pt x="58" y="35"/>
                    </a:lnTo>
                    <a:lnTo>
                      <a:pt x="64" y="34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4" y="4"/>
                    </a:lnTo>
                    <a:lnTo>
                      <a:pt x="36" y="5"/>
                    </a:lnTo>
                    <a:lnTo>
                      <a:pt x="29" y="7"/>
                    </a:lnTo>
                    <a:lnTo>
                      <a:pt x="22" y="10"/>
                    </a:lnTo>
                    <a:lnTo>
                      <a:pt x="14" y="13"/>
                    </a:lnTo>
                    <a:lnTo>
                      <a:pt x="6" y="2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0" y="4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09880" y="17542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30"/>
                    </a:moveTo>
                    <a:lnTo>
                      <a:pt x="45" y="30"/>
                    </a:lnTo>
                    <a:lnTo>
                      <a:pt x="43" y="26"/>
                    </a:lnTo>
                    <a:lnTo>
                      <a:pt x="39" y="24"/>
                    </a:lnTo>
                    <a:lnTo>
                      <a:pt x="37" y="20"/>
                    </a:lnTo>
                    <a:lnTo>
                      <a:pt x="36" y="18"/>
                    </a:lnTo>
                    <a:lnTo>
                      <a:pt x="35" y="16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3" y="16"/>
                    </a:lnTo>
                    <a:lnTo>
                      <a:pt x="3" y="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2" y="26"/>
                    </a:lnTo>
                    <a:lnTo>
                      <a:pt x="5" y="34"/>
                    </a:lnTo>
                    <a:lnTo>
                      <a:pt x="8" y="40"/>
                    </a:lnTo>
                    <a:lnTo>
                      <a:pt x="13" y="46"/>
                    </a:lnTo>
                    <a:lnTo>
                      <a:pt x="17" y="50"/>
                    </a:lnTo>
                    <a:lnTo>
                      <a:pt x="20" y="54"/>
                    </a:lnTo>
                    <a:lnTo>
                      <a:pt x="21" y="54"/>
                    </a:lnTo>
                    <a:lnTo>
                      <a:pt x="45" y="3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19600" y="176544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94" h="72">
                    <a:moveTo>
                      <a:pt x="94" y="50"/>
                    </a:moveTo>
                    <a:lnTo>
                      <a:pt x="94" y="50"/>
                    </a:lnTo>
                    <a:lnTo>
                      <a:pt x="86" y="41"/>
                    </a:lnTo>
                    <a:lnTo>
                      <a:pt x="75" y="32"/>
                    </a:lnTo>
                    <a:lnTo>
                      <a:pt x="65" y="26"/>
                    </a:lnTo>
                    <a:lnTo>
                      <a:pt x="56" y="20"/>
                    </a:lnTo>
                    <a:lnTo>
                      <a:pt x="46" y="16"/>
                    </a:lnTo>
                    <a:lnTo>
                      <a:pt x="38" y="11"/>
                    </a:lnTo>
                    <a:lnTo>
                      <a:pt x="30" y="5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32"/>
                    </a:lnTo>
                    <a:lnTo>
                      <a:pt x="20" y="40"/>
                    </a:lnTo>
                    <a:lnTo>
                      <a:pt x="29" y="46"/>
                    </a:lnTo>
                    <a:lnTo>
                      <a:pt x="39" y="50"/>
                    </a:lnTo>
                    <a:lnTo>
                      <a:pt x="47" y="56"/>
                    </a:lnTo>
                    <a:lnTo>
                      <a:pt x="56" y="61"/>
                    </a:lnTo>
                    <a:lnTo>
                      <a:pt x="62" y="66"/>
                    </a:lnTo>
                    <a:lnTo>
                      <a:pt x="68" y="72"/>
                    </a:lnTo>
                    <a:lnTo>
                      <a:pt x="68" y="72"/>
                    </a:lnTo>
                    <a:lnTo>
                      <a:pt x="94" y="5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44800" y="178596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73" h="107">
                    <a:moveTo>
                      <a:pt x="73" y="91"/>
                    </a:moveTo>
                    <a:lnTo>
                      <a:pt x="73" y="91"/>
                    </a:lnTo>
                    <a:lnTo>
                      <a:pt x="68" y="81"/>
                    </a:lnTo>
                    <a:lnTo>
                      <a:pt x="63" y="70"/>
                    </a:lnTo>
                    <a:lnTo>
                      <a:pt x="58" y="58"/>
                    </a:lnTo>
                    <a:lnTo>
                      <a:pt x="54" y="47"/>
                    </a:lnTo>
                    <a:lnTo>
                      <a:pt x="48" y="35"/>
                    </a:lnTo>
                    <a:lnTo>
                      <a:pt x="42" y="23"/>
                    </a:lnTo>
                    <a:lnTo>
                      <a:pt x="34" y="11"/>
                    </a:lnTo>
                    <a:lnTo>
                      <a:pt x="26" y="0"/>
                    </a:lnTo>
                    <a:lnTo>
                      <a:pt x="0" y="22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6" y="49"/>
                    </a:lnTo>
                    <a:lnTo>
                      <a:pt x="21" y="60"/>
                    </a:lnTo>
                    <a:lnTo>
                      <a:pt x="26" y="71"/>
                    </a:lnTo>
                    <a:lnTo>
                      <a:pt x="31" y="83"/>
                    </a:lnTo>
                    <a:lnTo>
                      <a:pt x="36" y="95"/>
                    </a:lnTo>
                    <a:lnTo>
                      <a:pt x="42" y="107"/>
                    </a:lnTo>
                    <a:lnTo>
                      <a:pt x="42" y="107"/>
                    </a:lnTo>
                    <a:lnTo>
                      <a:pt x="73" y="9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62440" y="182232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86" h="142">
                    <a:moveTo>
                      <a:pt x="86" y="118"/>
                    </a:moveTo>
                    <a:lnTo>
                      <a:pt x="86" y="118"/>
                    </a:lnTo>
                    <a:lnTo>
                      <a:pt x="78" y="107"/>
                    </a:lnTo>
                    <a:lnTo>
                      <a:pt x="69" y="95"/>
                    </a:lnTo>
                    <a:lnTo>
                      <a:pt x="62" y="81"/>
                    </a:lnTo>
                    <a:lnTo>
                      <a:pt x="56" y="66"/>
                    </a:lnTo>
                    <a:lnTo>
                      <a:pt x="50" y="50"/>
                    </a:lnTo>
                    <a:lnTo>
                      <a:pt x="44" y="34"/>
                    </a:lnTo>
                    <a:lnTo>
                      <a:pt x="38" y="17"/>
                    </a:lnTo>
                    <a:lnTo>
                      <a:pt x="31" y="0"/>
                    </a:lnTo>
                    <a:lnTo>
                      <a:pt x="0" y="16"/>
                    </a:lnTo>
                    <a:lnTo>
                      <a:pt x="6" y="30"/>
                    </a:lnTo>
                    <a:lnTo>
                      <a:pt x="12" y="46"/>
                    </a:lnTo>
                    <a:lnTo>
                      <a:pt x="18" y="62"/>
                    </a:lnTo>
                    <a:lnTo>
                      <a:pt x="24" y="78"/>
                    </a:lnTo>
                    <a:lnTo>
                      <a:pt x="31" y="95"/>
                    </a:lnTo>
                    <a:lnTo>
                      <a:pt x="39" y="112"/>
                    </a:lnTo>
                    <a:lnTo>
                      <a:pt x="49" y="128"/>
                    </a:lnTo>
                    <a:lnTo>
                      <a:pt x="61" y="142"/>
                    </a:lnTo>
                    <a:lnTo>
                      <a:pt x="61" y="142"/>
                    </a:lnTo>
                    <a:lnTo>
                      <a:pt x="86" y="11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86200" y="1868400"/>
                <a:ext cx="58680" cy="41400"/>
              </a:xfrm>
              <a:custGeom>
                <a:avLst/>
                <a:gdLst/>
                <a:ahLst/>
                <a:rect l="l" t="t" r="r" b="b"/>
                <a:pathLst>
                  <a:path w="147" h="102">
                    <a:moveTo>
                      <a:pt x="147" y="71"/>
                    </a:moveTo>
                    <a:lnTo>
                      <a:pt x="147" y="71"/>
                    </a:lnTo>
                    <a:lnTo>
                      <a:pt x="131" y="62"/>
                    </a:lnTo>
                    <a:lnTo>
                      <a:pt x="114" y="54"/>
                    </a:lnTo>
                    <a:lnTo>
                      <a:pt x="97" y="47"/>
                    </a:lnTo>
                    <a:lnTo>
                      <a:pt x="80" y="38"/>
                    </a:lnTo>
                    <a:lnTo>
                      <a:pt x="65" y="31"/>
                    </a:lnTo>
                    <a:lnTo>
                      <a:pt x="50" y="22"/>
                    </a:lnTo>
                    <a:lnTo>
                      <a:pt x="37" y="12"/>
                    </a:lnTo>
                    <a:lnTo>
                      <a:pt x="25" y="0"/>
                    </a:lnTo>
                    <a:lnTo>
                      <a:pt x="0" y="24"/>
                    </a:lnTo>
                    <a:lnTo>
                      <a:pt x="15" y="38"/>
                    </a:lnTo>
                    <a:lnTo>
                      <a:pt x="31" y="50"/>
                    </a:lnTo>
                    <a:lnTo>
                      <a:pt x="48" y="61"/>
                    </a:lnTo>
                    <a:lnTo>
                      <a:pt x="65" y="70"/>
                    </a:lnTo>
                    <a:lnTo>
                      <a:pt x="83" y="78"/>
                    </a:lnTo>
                    <a:lnTo>
                      <a:pt x="99" y="86"/>
                    </a:lnTo>
                    <a:lnTo>
                      <a:pt x="116" y="94"/>
                    </a:lnTo>
                    <a:lnTo>
                      <a:pt x="133" y="102"/>
                    </a:lnTo>
                    <a:lnTo>
                      <a:pt x="133" y="102"/>
                    </a:lnTo>
                    <a:lnTo>
                      <a:pt x="147" y="7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840200" y="189720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114" h="69">
                    <a:moveTo>
                      <a:pt x="114" y="39"/>
                    </a:moveTo>
                    <a:lnTo>
                      <a:pt x="114" y="39"/>
                    </a:lnTo>
                    <a:lnTo>
                      <a:pt x="101" y="32"/>
                    </a:lnTo>
                    <a:lnTo>
                      <a:pt x="88" y="26"/>
                    </a:lnTo>
                    <a:lnTo>
                      <a:pt x="76" y="21"/>
                    </a:lnTo>
                    <a:lnTo>
                      <a:pt x="62" y="18"/>
                    </a:lnTo>
                    <a:lnTo>
                      <a:pt x="49" y="13"/>
                    </a:lnTo>
                    <a:lnTo>
                      <a:pt x="37" y="9"/>
                    </a:lnTo>
                    <a:lnTo>
                      <a:pt x="26" y="5"/>
                    </a:lnTo>
                    <a:lnTo>
                      <a:pt x="14" y="0"/>
                    </a:lnTo>
                    <a:lnTo>
                      <a:pt x="0" y="31"/>
                    </a:lnTo>
                    <a:lnTo>
                      <a:pt x="12" y="37"/>
                    </a:lnTo>
                    <a:lnTo>
                      <a:pt x="25" y="42"/>
                    </a:lnTo>
                    <a:lnTo>
                      <a:pt x="38" y="47"/>
                    </a:lnTo>
                    <a:lnTo>
                      <a:pt x="52" y="50"/>
                    </a:lnTo>
                    <a:lnTo>
                      <a:pt x="64" y="55"/>
                    </a:lnTo>
                    <a:lnTo>
                      <a:pt x="76" y="59"/>
                    </a:lnTo>
                    <a:lnTo>
                      <a:pt x="86" y="63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114" y="3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78360" y="19130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60" y="51"/>
                    </a:moveTo>
                    <a:lnTo>
                      <a:pt x="60" y="51"/>
                    </a:lnTo>
                    <a:lnTo>
                      <a:pt x="58" y="41"/>
                    </a:lnTo>
                    <a:lnTo>
                      <a:pt x="54" y="34"/>
                    </a:lnTo>
                    <a:lnTo>
                      <a:pt x="48" y="27"/>
                    </a:lnTo>
                    <a:lnTo>
                      <a:pt x="43" y="20"/>
                    </a:lnTo>
                    <a:lnTo>
                      <a:pt x="37" y="14"/>
                    </a:lnTo>
                    <a:lnTo>
                      <a:pt x="31" y="9"/>
                    </a:lnTo>
                    <a:lnTo>
                      <a:pt x="24" y="4"/>
                    </a:lnTo>
                    <a:lnTo>
                      <a:pt x="18" y="0"/>
                    </a:lnTo>
                    <a:lnTo>
                      <a:pt x="0" y="30"/>
                    </a:lnTo>
                    <a:lnTo>
                      <a:pt x="5" y="33"/>
                    </a:lnTo>
                    <a:lnTo>
                      <a:pt x="10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2" y="47"/>
                    </a:lnTo>
                    <a:lnTo>
                      <a:pt x="24" y="51"/>
                    </a:lnTo>
                    <a:lnTo>
                      <a:pt x="25" y="56"/>
                    </a:lnTo>
                    <a:lnTo>
                      <a:pt x="26" y="59"/>
                    </a:lnTo>
                    <a:lnTo>
                      <a:pt x="26" y="59"/>
                    </a:lnTo>
                    <a:lnTo>
                      <a:pt x="6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87720" y="193212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39" h="78">
                    <a:moveTo>
                      <a:pt x="14" y="78"/>
                    </a:moveTo>
                    <a:lnTo>
                      <a:pt x="14" y="78"/>
                    </a:lnTo>
                    <a:lnTo>
                      <a:pt x="21" y="75"/>
                    </a:lnTo>
                    <a:lnTo>
                      <a:pt x="26" y="71"/>
                    </a:lnTo>
                    <a:lnTo>
                      <a:pt x="30" y="66"/>
                    </a:lnTo>
                    <a:lnTo>
                      <a:pt x="34" y="60"/>
                    </a:lnTo>
                    <a:lnTo>
                      <a:pt x="38" y="49"/>
                    </a:lnTo>
                    <a:lnTo>
                      <a:pt x="39" y="38"/>
                    </a:lnTo>
                    <a:lnTo>
                      <a:pt x="39" y="27"/>
                    </a:lnTo>
                    <a:lnTo>
                      <a:pt x="38" y="18"/>
                    </a:lnTo>
                    <a:lnTo>
                      <a:pt x="36" y="8"/>
                    </a:lnTo>
                    <a:lnTo>
                      <a:pt x="34" y="0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4" y="21"/>
                    </a:lnTo>
                    <a:lnTo>
                      <a:pt x="4" y="30"/>
                    </a:lnTo>
                    <a:lnTo>
                      <a:pt x="4" y="36"/>
                    </a:lnTo>
                    <a:lnTo>
                      <a:pt x="3" y="42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14" y="7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848120" y="1944720"/>
                <a:ext cx="44640" cy="20520"/>
              </a:xfrm>
              <a:custGeom>
                <a:avLst/>
                <a:gdLst/>
                <a:ahLst/>
                <a:rect l="l" t="t" r="r" b="b"/>
                <a:pathLst>
                  <a:path w="114" h="53">
                    <a:moveTo>
                      <a:pt x="0" y="34"/>
                    </a:moveTo>
                    <a:lnTo>
                      <a:pt x="0" y="34"/>
                    </a:lnTo>
                    <a:lnTo>
                      <a:pt x="13" y="37"/>
                    </a:lnTo>
                    <a:lnTo>
                      <a:pt x="25" y="41"/>
                    </a:lnTo>
                    <a:lnTo>
                      <a:pt x="39" y="46"/>
                    </a:lnTo>
                    <a:lnTo>
                      <a:pt x="52" y="49"/>
                    </a:lnTo>
                    <a:lnTo>
                      <a:pt x="68" y="52"/>
                    </a:lnTo>
                    <a:lnTo>
                      <a:pt x="82" y="53"/>
                    </a:lnTo>
                    <a:lnTo>
                      <a:pt x="91" y="53"/>
                    </a:lnTo>
                    <a:lnTo>
                      <a:pt x="98" y="52"/>
                    </a:lnTo>
                    <a:lnTo>
                      <a:pt x="106" y="50"/>
                    </a:lnTo>
                    <a:lnTo>
                      <a:pt x="114" y="47"/>
                    </a:lnTo>
                    <a:lnTo>
                      <a:pt x="102" y="16"/>
                    </a:lnTo>
                    <a:lnTo>
                      <a:pt x="97" y="17"/>
                    </a:lnTo>
                    <a:lnTo>
                      <a:pt x="92" y="18"/>
                    </a:lnTo>
                    <a:lnTo>
                      <a:pt x="88" y="18"/>
                    </a:lnTo>
                    <a:lnTo>
                      <a:pt x="84" y="18"/>
                    </a:lnTo>
                    <a:lnTo>
                      <a:pt x="72" y="18"/>
                    </a:lnTo>
                    <a:lnTo>
                      <a:pt x="61" y="16"/>
                    </a:lnTo>
                    <a:lnTo>
                      <a:pt x="49" y="12"/>
                    </a:lnTo>
                    <a:lnTo>
                      <a:pt x="36" y="8"/>
                    </a:lnTo>
                    <a:lnTo>
                      <a:pt x="22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805280" y="1927080"/>
                <a:ext cx="46080" cy="30240"/>
              </a:xfrm>
              <a:custGeom>
                <a:avLst/>
                <a:gdLst/>
                <a:ahLst/>
                <a:rect l="l" t="t" r="r" b="b"/>
                <a:pathLst>
                  <a:path w="119" h="77">
                    <a:moveTo>
                      <a:pt x="0" y="31"/>
                    </a:moveTo>
                    <a:lnTo>
                      <a:pt x="0" y="31"/>
                    </a:lnTo>
                    <a:lnTo>
                      <a:pt x="14" y="37"/>
                    </a:lnTo>
                    <a:lnTo>
                      <a:pt x="27" y="43"/>
                    </a:lnTo>
                    <a:lnTo>
                      <a:pt x="40" y="49"/>
                    </a:lnTo>
                    <a:lnTo>
                      <a:pt x="53" y="55"/>
                    </a:lnTo>
                    <a:lnTo>
                      <a:pt x="68" y="61"/>
                    </a:lnTo>
                    <a:lnTo>
                      <a:pt x="81" y="67"/>
                    </a:lnTo>
                    <a:lnTo>
                      <a:pt x="95" y="72"/>
                    </a:lnTo>
                    <a:lnTo>
                      <a:pt x="110" y="77"/>
                    </a:lnTo>
                    <a:lnTo>
                      <a:pt x="119" y="43"/>
                    </a:lnTo>
                    <a:lnTo>
                      <a:pt x="106" y="38"/>
                    </a:lnTo>
                    <a:lnTo>
                      <a:pt x="93" y="35"/>
                    </a:lnTo>
                    <a:lnTo>
                      <a:pt x="80" y="29"/>
                    </a:lnTo>
                    <a:lnTo>
                      <a:pt x="68" y="24"/>
                    </a:lnTo>
                    <a:lnTo>
                      <a:pt x="54" y="18"/>
                    </a:lnTo>
                    <a:lnTo>
                      <a:pt x="41" y="12"/>
                    </a:lnTo>
                    <a:lnTo>
                      <a:pt x="2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2720" y="1905120"/>
                <a:ext cx="57240" cy="34920"/>
              </a:xfrm>
              <a:custGeom>
                <a:avLst/>
                <a:gdLst/>
                <a:ahLst/>
                <a:rect l="l" t="t" r="r" b="b"/>
                <a:pathLst>
                  <a:path w="144" h="89">
                    <a:moveTo>
                      <a:pt x="0" y="29"/>
                    </a:moveTo>
                    <a:lnTo>
                      <a:pt x="0" y="29"/>
                    </a:lnTo>
                    <a:lnTo>
                      <a:pt x="15" y="39"/>
                    </a:lnTo>
                    <a:lnTo>
                      <a:pt x="31" y="48"/>
                    </a:lnTo>
                    <a:lnTo>
                      <a:pt x="48" y="57"/>
                    </a:lnTo>
                    <a:lnTo>
                      <a:pt x="64" y="64"/>
                    </a:lnTo>
                    <a:lnTo>
                      <a:pt x="81" y="70"/>
                    </a:lnTo>
                    <a:lnTo>
                      <a:pt x="98" y="76"/>
                    </a:lnTo>
                    <a:lnTo>
                      <a:pt x="115" y="83"/>
                    </a:lnTo>
                    <a:lnTo>
                      <a:pt x="130" y="89"/>
                    </a:lnTo>
                    <a:lnTo>
                      <a:pt x="144" y="58"/>
                    </a:lnTo>
                    <a:lnTo>
                      <a:pt x="127" y="51"/>
                    </a:lnTo>
                    <a:lnTo>
                      <a:pt x="110" y="45"/>
                    </a:lnTo>
                    <a:lnTo>
                      <a:pt x="94" y="37"/>
                    </a:lnTo>
                    <a:lnTo>
                      <a:pt x="78" y="31"/>
                    </a:lnTo>
                    <a:lnTo>
                      <a:pt x="62" y="24"/>
                    </a:lnTo>
                    <a:lnTo>
                      <a:pt x="48" y="17"/>
                    </a:lnTo>
                    <a:lnTo>
                      <a:pt x="33" y="1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22840" y="187488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95" h="106">
                    <a:moveTo>
                      <a:pt x="0" y="16"/>
                    </a:moveTo>
                    <a:lnTo>
                      <a:pt x="0" y="16"/>
                    </a:lnTo>
                    <a:lnTo>
                      <a:pt x="7" y="29"/>
                    </a:lnTo>
                    <a:lnTo>
                      <a:pt x="15" y="41"/>
                    </a:lnTo>
                    <a:lnTo>
                      <a:pt x="23" y="53"/>
                    </a:lnTo>
                    <a:lnTo>
                      <a:pt x="31" y="65"/>
                    </a:lnTo>
                    <a:lnTo>
                      <a:pt x="41" y="76"/>
                    </a:lnTo>
                    <a:lnTo>
                      <a:pt x="52" y="87"/>
                    </a:lnTo>
                    <a:lnTo>
                      <a:pt x="63" y="96"/>
                    </a:lnTo>
                    <a:lnTo>
                      <a:pt x="75" y="106"/>
                    </a:lnTo>
                    <a:lnTo>
                      <a:pt x="95" y="77"/>
                    </a:lnTo>
                    <a:lnTo>
                      <a:pt x="85" y="70"/>
                    </a:lnTo>
                    <a:lnTo>
                      <a:pt x="76" y="62"/>
                    </a:lnTo>
                    <a:lnTo>
                      <a:pt x="67" y="53"/>
                    </a:lnTo>
                    <a:lnTo>
                      <a:pt x="59" y="44"/>
                    </a:lnTo>
                    <a:lnTo>
                      <a:pt x="51" y="33"/>
                    </a:lnTo>
                    <a:lnTo>
                      <a:pt x="43" y="22"/>
                    </a:lnTo>
                    <a:lnTo>
                      <a:pt x="37" y="11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19600" y="1846440"/>
                <a:ext cx="15840" cy="34920"/>
              </a:xfrm>
              <a:custGeom>
                <a:avLst/>
                <a:gdLst/>
                <a:ahLst/>
                <a:rect l="l" t="t" r="r" b="b"/>
                <a:pathLst>
                  <a:path w="42" h="86">
                    <a:moveTo>
                      <a:pt x="0" y="10"/>
                    </a:moveTo>
                    <a:lnTo>
                      <a:pt x="0" y="10"/>
                    </a:lnTo>
                    <a:lnTo>
                      <a:pt x="2" y="16"/>
                    </a:lnTo>
                    <a:lnTo>
                      <a:pt x="3" y="25"/>
                    </a:lnTo>
                    <a:lnTo>
                      <a:pt x="3" y="33"/>
                    </a:lnTo>
                    <a:lnTo>
                      <a:pt x="3" y="43"/>
                    </a:lnTo>
                    <a:lnTo>
                      <a:pt x="4" y="52"/>
                    </a:lnTo>
                    <a:lnTo>
                      <a:pt x="4" y="63"/>
                    </a:lnTo>
                    <a:lnTo>
                      <a:pt x="6" y="75"/>
                    </a:lnTo>
                    <a:lnTo>
                      <a:pt x="11" y="86"/>
                    </a:lnTo>
                    <a:lnTo>
                      <a:pt x="42" y="70"/>
                    </a:lnTo>
                    <a:lnTo>
                      <a:pt x="40" y="64"/>
                    </a:lnTo>
                    <a:lnTo>
                      <a:pt x="39" y="58"/>
                    </a:lnTo>
                    <a:lnTo>
                      <a:pt x="38" y="51"/>
                    </a:lnTo>
                    <a:lnTo>
                      <a:pt x="38" y="42"/>
                    </a:lnTo>
                    <a:lnTo>
                      <a:pt x="38" y="32"/>
                    </a:lnTo>
                    <a:lnTo>
                      <a:pt x="38" y="22"/>
                    </a:lnTo>
                    <a:lnTo>
                      <a:pt x="36" y="1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07000" y="1819440"/>
                <a:ext cx="25200" cy="31680"/>
              </a:xfrm>
              <a:custGeom>
                <a:avLst/>
                <a:gdLst/>
                <a:ahLst/>
                <a:rect l="l" t="t" r="r" b="b"/>
                <a:pathLst>
                  <a:path w="61" h="78">
                    <a:moveTo>
                      <a:pt x="0" y="28"/>
                    </a:moveTo>
                    <a:lnTo>
                      <a:pt x="0" y="28"/>
                    </a:lnTo>
                    <a:lnTo>
                      <a:pt x="4" y="32"/>
                    </a:lnTo>
                    <a:lnTo>
                      <a:pt x="9" y="36"/>
                    </a:lnTo>
                    <a:lnTo>
                      <a:pt x="13" y="42"/>
                    </a:lnTo>
                    <a:lnTo>
                      <a:pt x="16" y="48"/>
                    </a:lnTo>
                    <a:lnTo>
                      <a:pt x="20" y="56"/>
                    </a:lnTo>
                    <a:lnTo>
                      <a:pt x="22" y="63"/>
                    </a:lnTo>
                    <a:lnTo>
                      <a:pt x="26" y="71"/>
                    </a:lnTo>
                    <a:lnTo>
                      <a:pt x="28" y="78"/>
                    </a:lnTo>
                    <a:lnTo>
                      <a:pt x="61" y="68"/>
                    </a:lnTo>
                    <a:lnTo>
                      <a:pt x="58" y="59"/>
                    </a:lnTo>
                    <a:lnTo>
                      <a:pt x="55" y="50"/>
                    </a:lnTo>
                    <a:lnTo>
                      <a:pt x="51" y="41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6" y="16"/>
                    </a:lnTo>
                    <a:lnTo>
                      <a:pt x="30" y="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690800" y="181440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25" y="37"/>
                    </a:moveTo>
                    <a:lnTo>
                      <a:pt x="25" y="37"/>
                    </a:lnTo>
                    <a:lnTo>
                      <a:pt x="25" y="36"/>
                    </a:lnTo>
                    <a:lnTo>
                      <a:pt x="26" y="36"/>
                    </a:lnTo>
                    <a:lnTo>
                      <a:pt x="29" y="36"/>
                    </a:lnTo>
                    <a:lnTo>
                      <a:pt x="31" y="34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1" y="38"/>
                    </a:lnTo>
                    <a:lnTo>
                      <a:pt x="62" y="10"/>
                    </a:lnTo>
                    <a:lnTo>
                      <a:pt x="55" y="6"/>
                    </a:lnTo>
                    <a:lnTo>
                      <a:pt x="48" y="3"/>
                    </a:lnTo>
                    <a:lnTo>
                      <a:pt x="39" y="1"/>
                    </a:lnTo>
                    <a:lnTo>
                      <a:pt x="32" y="0"/>
                    </a:lnTo>
                    <a:lnTo>
                      <a:pt x="24" y="1"/>
                    </a:lnTo>
                    <a:lnTo>
                      <a:pt x="15" y="2"/>
                    </a:lnTo>
                    <a:lnTo>
                      <a:pt x="7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81440" y="1819440"/>
                <a:ext cx="20520" cy="2988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35" y="73"/>
                    </a:moveTo>
                    <a:lnTo>
                      <a:pt x="35" y="73"/>
                    </a:lnTo>
                    <a:lnTo>
                      <a:pt x="35" y="66"/>
                    </a:lnTo>
                    <a:lnTo>
                      <a:pt x="36" y="57"/>
                    </a:lnTo>
                    <a:lnTo>
                      <a:pt x="37" y="50"/>
                    </a:lnTo>
                    <a:lnTo>
                      <a:pt x="38" y="44"/>
                    </a:lnTo>
                    <a:lnTo>
                      <a:pt x="41" y="38"/>
                    </a:lnTo>
                    <a:lnTo>
                      <a:pt x="43" y="32"/>
                    </a:lnTo>
                    <a:lnTo>
                      <a:pt x="45" y="28"/>
                    </a:lnTo>
                    <a:lnTo>
                      <a:pt x="49" y="25"/>
                    </a:lnTo>
                    <a:lnTo>
                      <a:pt x="24" y="0"/>
                    </a:lnTo>
                    <a:lnTo>
                      <a:pt x="18" y="8"/>
                    </a:lnTo>
                    <a:lnTo>
                      <a:pt x="12" y="16"/>
                    </a:lnTo>
                    <a:lnTo>
                      <a:pt x="8" y="26"/>
                    </a:lnTo>
                    <a:lnTo>
                      <a:pt x="5" y="34"/>
                    </a:lnTo>
                    <a:lnTo>
                      <a:pt x="3" y="44"/>
                    </a:lnTo>
                    <a:lnTo>
                      <a:pt x="1" y="52"/>
                    </a:lnTo>
                    <a:lnTo>
                      <a:pt x="0" y="61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35" y="7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681440" y="1847880"/>
                <a:ext cx="14400" cy="52200"/>
              </a:xfrm>
              <a:custGeom>
                <a:avLst/>
                <a:gdLst/>
                <a:ahLst/>
                <a:rect l="l" t="t" r="r" b="b"/>
                <a:pathLst>
                  <a:path w="38" h="135">
                    <a:moveTo>
                      <a:pt x="38" y="133"/>
                    </a:moveTo>
                    <a:lnTo>
                      <a:pt x="38" y="133"/>
                    </a:lnTo>
                    <a:lnTo>
                      <a:pt x="36" y="117"/>
                    </a:lnTo>
                    <a:lnTo>
                      <a:pt x="36" y="101"/>
                    </a:lnTo>
                    <a:lnTo>
                      <a:pt x="35" y="84"/>
                    </a:lnTo>
                    <a:lnTo>
                      <a:pt x="35" y="67"/>
                    </a:lnTo>
                    <a:lnTo>
                      <a:pt x="35" y="52"/>
                    </a:lnTo>
                    <a:lnTo>
                      <a:pt x="35" y="35"/>
                    </a:lnTo>
                    <a:lnTo>
                      <a:pt x="35" y="19"/>
                    </a:lnTo>
                    <a:lnTo>
                      <a:pt x="38" y="4"/>
                    </a:lnTo>
                    <a:lnTo>
                      <a:pt x="3" y="0"/>
                    </a:lnTo>
                    <a:lnTo>
                      <a:pt x="2" y="17"/>
                    </a:lnTo>
                    <a:lnTo>
                      <a:pt x="0" y="35"/>
                    </a:lnTo>
                    <a:lnTo>
                      <a:pt x="0" y="52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2" y="101"/>
                    </a:lnTo>
                    <a:lnTo>
                      <a:pt x="2" y="118"/>
                    </a:lnTo>
                    <a:lnTo>
                      <a:pt x="3" y="135"/>
                    </a:lnTo>
                    <a:lnTo>
                      <a:pt x="3" y="135"/>
                    </a:lnTo>
                    <a:lnTo>
                      <a:pt x="38" y="13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81440" y="1900080"/>
                <a:ext cx="15840" cy="41400"/>
              </a:xfrm>
              <a:custGeom>
                <a:avLst/>
                <a:gdLst/>
                <a:ahLst/>
                <a:rect l="l" t="t" r="r" b="b"/>
                <a:pathLst>
                  <a:path w="41" h="106">
                    <a:moveTo>
                      <a:pt x="39" y="106"/>
                    </a:moveTo>
                    <a:lnTo>
                      <a:pt x="39" y="106"/>
                    </a:lnTo>
                    <a:lnTo>
                      <a:pt x="41" y="92"/>
                    </a:lnTo>
                    <a:lnTo>
                      <a:pt x="41" y="78"/>
                    </a:lnTo>
                    <a:lnTo>
                      <a:pt x="39" y="64"/>
                    </a:lnTo>
                    <a:lnTo>
                      <a:pt x="38" y="51"/>
                    </a:lnTo>
                    <a:lnTo>
                      <a:pt x="37" y="38"/>
                    </a:lnTo>
                    <a:lnTo>
                      <a:pt x="36" y="26"/>
                    </a:lnTo>
                    <a:lnTo>
                      <a:pt x="35" y="12"/>
                    </a:lnTo>
                    <a:lnTo>
                      <a:pt x="35" y="0"/>
                    </a:lnTo>
                    <a:lnTo>
                      <a:pt x="0" y="2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2" y="41"/>
                    </a:lnTo>
                    <a:lnTo>
                      <a:pt x="5" y="54"/>
                    </a:lnTo>
                    <a:lnTo>
                      <a:pt x="5" y="66"/>
                    </a:lnTo>
                    <a:lnTo>
                      <a:pt x="6" y="78"/>
                    </a:lnTo>
                    <a:lnTo>
                      <a:pt x="6" y="90"/>
                    </a:lnTo>
                    <a:lnTo>
                      <a:pt x="5" y="101"/>
                    </a:lnTo>
                    <a:lnTo>
                      <a:pt x="5" y="101"/>
                    </a:lnTo>
                    <a:lnTo>
                      <a:pt x="39" y="10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72080" y="194004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63" h="83">
                    <a:moveTo>
                      <a:pt x="32" y="83"/>
                    </a:moveTo>
                    <a:lnTo>
                      <a:pt x="32" y="83"/>
                    </a:lnTo>
                    <a:lnTo>
                      <a:pt x="36" y="75"/>
                    </a:lnTo>
                    <a:lnTo>
                      <a:pt x="41" y="66"/>
                    </a:lnTo>
                    <a:lnTo>
                      <a:pt x="44" y="57"/>
                    </a:lnTo>
                    <a:lnTo>
                      <a:pt x="49" y="48"/>
                    </a:lnTo>
                    <a:lnTo>
                      <a:pt x="54" y="39"/>
                    </a:lnTo>
                    <a:lnTo>
                      <a:pt x="57" y="28"/>
                    </a:lnTo>
                    <a:lnTo>
                      <a:pt x="61" y="17"/>
                    </a:lnTo>
                    <a:lnTo>
                      <a:pt x="63" y="5"/>
                    </a:lnTo>
                    <a:lnTo>
                      <a:pt x="29" y="0"/>
                    </a:lnTo>
                    <a:lnTo>
                      <a:pt x="27" y="9"/>
                    </a:lnTo>
                    <a:lnTo>
                      <a:pt x="25" y="17"/>
                    </a:lnTo>
                    <a:lnTo>
                      <a:pt x="21" y="24"/>
                    </a:lnTo>
                    <a:lnTo>
                      <a:pt x="18" y="33"/>
                    </a:lnTo>
                    <a:lnTo>
                      <a:pt x="13" y="42"/>
                    </a:lnTo>
                    <a:lnTo>
                      <a:pt x="9" y="51"/>
                    </a:lnTo>
                    <a:lnTo>
                      <a:pt x="5" y="6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32" y="8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59120" y="1968480"/>
                <a:ext cx="25560" cy="41400"/>
              </a:xfrm>
              <a:custGeom>
                <a:avLst/>
                <a:gdLst/>
                <a:ahLst/>
                <a:rect l="l" t="t" r="r" b="b"/>
                <a:pathLst>
                  <a:path w="65" h="104">
                    <a:moveTo>
                      <a:pt x="29" y="104"/>
                    </a:moveTo>
                    <a:lnTo>
                      <a:pt x="29" y="104"/>
                    </a:lnTo>
                    <a:lnTo>
                      <a:pt x="36" y="93"/>
                    </a:lnTo>
                    <a:lnTo>
                      <a:pt x="42" y="81"/>
                    </a:lnTo>
                    <a:lnTo>
                      <a:pt x="47" y="69"/>
                    </a:lnTo>
                    <a:lnTo>
                      <a:pt x="51" y="57"/>
                    </a:lnTo>
                    <a:lnTo>
                      <a:pt x="54" y="45"/>
                    </a:lnTo>
                    <a:lnTo>
                      <a:pt x="58" y="35"/>
                    </a:lnTo>
                    <a:lnTo>
                      <a:pt x="62" y="24"/>
                    </a:lnTo>
                    <a:lnTo>
                      <a:pt x="65" y="13"/>
                    </a:lnTo>
                    <a:lnTo>
                      <a:pt x="33" y="0"/>
                    </a:lnTo>
                    <a:lnTo>
                      <a:pt x="29" y="12"/>
                    </a:lnTo>
                    <a:lnTo>
                      <a:pt x="24" y="24"/>
                    </a:lnTo>
                    <a:lnTo>
                      <a:pt x="22" y="36"/>
                    </a:lnTo>
                    <a:lnTo>
                      <a:pt x="18" y="47"/>
                    </a:lnTo>
                    <a:lnTo>
                      <a:pt x="15" y="57"/>
                    </a:lnTo>
                    <a:lnTo>
                      <a:pt x="10" y="67"/>
                    </a:lnTo>
                    <a:lnTo>
                      <a:pt x="6" y="77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29" y="10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35360" y="200196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87" h="78">
                    <a:moveTo>
                      <a:pt x="19" y="78"/>
                    </a:moveTo>
                    <a:lnTo>
                      <a:pt x="19" y="78"/>
                    </a:lnTo>
                    <a:lnTo>
                      <a:pt x="27" y="73"/>
                    </a:lnTo>
                    <a:lnTo>
                      <a:pt x="37" y="67"/>
                    </a:lnTo>
                    <a:lnTo>
                      <a:pt x="46" y="60"/>
                    </a:lnTo>
                    <a:lnTo>
                      <a:pt x="55" y="53"/>
                    </a:lnTo>
                    <a:lnTo>
                      <a:pt x="63" y="46"/>
                    </a:lnTo>
                    <a:lnTo>
                      <a:pt x="72" y="38"/>
                    </a:lnTo>
                    <a:lnTo>
                      <a:pt x="80" y="29"/>
                    </a:lnTo>
                    <a:lnTo>
                      <a:pt x="87" y="19"/>
                    </a:lnTo>
                    <a:lnTo>
                      <a:pt x="58" y="0"/>
                    </a:lnTo>
                    <a:lnTo>
                      <a:pt x="54" y="7"/>
                    </a:lnTo>
                    <a:lnTo>
                      <a:pt x="48" y="13"/>
                    </a:lnTo>
                    <a:lnTo>
                      <a:pt x="40" y="20"/>
                    </a:lnTo>
                    <a:lnTo>
                      <a:pt x="33" y="26"/>
                    </a:lnTo>
                    <a:lnTo>
                      <a:pt x="25" y="32"/>
                    </a:lnTo>
                    <a:lnTo>
                      <a:pt x="18" y="38"/>
                    </a:lnTo>
                    <a:lnTo>
                      <a:pt x="9" y="43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9" y="7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16280" y="202104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69" h="49">
                    <a:moveTo>
                      <a:pt x="0" y="43"/>
                    </a:moveTo>
                    <a:lnTo>
                      <a:pt x="0" y="43"/>
                    </a:lnTo>
                    <a:lnTo>
                      <a:pt x="11" y="48"/>
                    </a:lnTo>
                    <a:lnTo>
                      <a:pt x="22" y="49"/>
                    </a:lnTo>
                    <a:lnTo>
                      <a:pt x="33" y="48"/>
                    </a:lnTo>
                    <a:lnTo>
                      <a:pt x="41" y="45"/>
                    </a:lnTo>
                    <a:lnTo>
                      <a:pt x="50" y="41"/>
                    </a:lnTo>
                    <a:lnTo>
                      <a:pt x="57" y="37"/>
                    </a:lnTo>
                    <a:lnTo>
                      <a:pt x="63" y="33"/>
                    </a:lnTo>
                    <a:lnTo>
                      <a:pt x="69" y="29"/>
                    </a:lnTo>
                    <a:lnTo>
                      <a:pt x="50" y="0"/>
                    </a:lnTo>
                    <a:lnTo>
                      <a:pt x="45" y="4"/>
                    </a:lnTo>
                    <a:lnTo>
                      <a:pt x="39" y="7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603680" y="200808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52" h="78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" y="21"/>
                    </a:lnTo>
                    <a:lnTo>
                      <a:pt x="4" y="32"/>
                    </a:lnTo>
                    <a:lnTo>
                      <a:pt x="6" y="41"/>
                    </a:lnTo>
                    <a:lnTo>
                      <a:pt x="11" y="52"/>
                    </a:lnTo>
                    <a:lnTo>
                      <a:pt x="16" y="62"/>
                    </a:lnTo>
                    <a:lnTo>
                      <a:pt x="23" y="71"/>
                    </a:lnTo>
                    <a:lnTo>
                      <a:pt x="32" y="78"/>
                    </a:lnTo>
                    <a:lnTo>
                      <a:pt x="52" y="50"/>
                    </a:lnTo>
                    <a:lnTo>
                      <a:pt x="48" y="47"/>
                    </a:lnTo>
                    <a:lnTo>
                      <a:pt x="44" y="42"/>
                    </a:lnTo>
                    <a:lnTo>
                      <a:pt x="42" y="38"/>
                    </a:lnTo>
                    <a:lnTo>
                      <a:pt x="40" y="30"/>
                    </a:lnTo>
                    <a:lnTo>
                      <a:pt x="37" y="23"/>
                    </a:lnTo>
                    <a:lnTo>
                      <a:pt x="36" y="16"/>
                    </a:lnTo>
                    <a:lnTo>
                      <a:pt x="35" y="9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603680" y="1967040"/>
                <a:ext cx="23760" cy="41040"/>
              </a:xfrm>
              <a:custGeom>
                <a:avLst/>
                <a:gdLst/>
                <a:ahLst/>
                <a:rect l="l" t="t" r="r" b="b"/>
                <a:pathLst>
                  <a:path w="59" h="103">
                    <a:moveTo>
                      <a:pt x="26" y="0"/>
                    </a:moveTo>
                    <a:lnTo>
                      <a:pt x="26" y="0"/>
                    </a:lnTo>
                    <a:lnTo>
                      <a:pt x="22" y="12"/>
                    </a:lnTo>
                    <a:lnTo>
                      <a:pt x="17" y="24"/>
                    </a:lnTo>
                    <a:lnTo>
                      <a:pt x="13" y="36"/>
                    </a:lnTo>
                    <a:lnTo>
                      <a:pt x="8" y="49"/>
                    </a:lnTo>
                    <a:lnTo>
                      <a:pt x="6" y="63"/>
                    </a:lnTo>
                    <a:lnTo>
                      <a:pt x="2" y="76"/>
                    </a:lnTo>
                    <a:lnTo>
                      <a:pt x="1" y="89"/>
                    </a:lnTo>
                    <a:lnTo>
                      <a:pt x="0" y="103"/>
                    </a:lnTo>
                    <a:lnTo>
                      <a:pt x="35" y="103"/>
                    </a:lnTo>
                    <a:lnTo>
                      <a:pt x="36" y="93"/>
                    </a:lnTo>
                    <a:lnTo>
                      <a:pt x="37" y="82"/>
                    </a:lnTo>
                    <a:lnTo>
                      <a:pt x="40" y="70"/>
                    </a:lnTo>
                    <a:lnTo>
                      <a:pt x="42" y="59"/>
                    </a:lnTo>
                    <a:lnTo>
                      <a:pt x="46" y="47"/>
                    </a:lnTo>
                    <a:lnTo>
                      <a:pt x="50" y="35"/>
                    </a:lnTo>
                    <a:lnTo>
                      <a:pt x="54" y="23"/>
                    </a:lnTo>
                    <a:lnTo>
                      <a:pt x="59" y="11"/>
                    </a:lnTo>
                    <a:lnTo>
                      <a:pt x="59" y="1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14840" y="19368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72" h="88">
                    <a:moveTo>
                      <a:pt x="39" y="0"/>
                    </a:moveTo>
                    <a:lnTo>
                      <a:pt x="39" y="0"/>
                    </a:lnTo>
                    <a:lnTo>
                      <a:pt x="36" y="9"/>
                    </a:lnTo>
                    <a:lnTo>
                      <a:pt x="32" y="17"/>
                    </a:lnTo>
                    <a:lnTo>
                      <a:pt x="28" y="26"/>
                    </a:lnTo>
                    <a:lnTo>
                      <a:pt x="22" y="35"/>
                    </a:lnTo>
                    <a:lnTo>
                      <a:pt x="16" y="45"/>
                    </a:lnTo>
                    <a:lnTo>
                      <a:pt x="10" y="54"/>
                    </a:lnTo>
                    <a:lnTo>
                      <a:pt x="5" y="65"/>
                    </a:lnTo>
                    <a:lnTo>
                      <a:pt x="0" y="77"/>
                    </a:lnTo>
                    <a:lnTo>
                      <a:pt x="33" y="88"/>
                    </a:lnTo>
                    <a:lnTo>
                      <a:pt x="36" y="80"/>
                    </a:lnTo>
                    <a:lnTo>
                      <a:pt x="41" y="71"/>
                    </a:lnTo>
                    <a:lnTo>
                      <a:pt x="46" y="62"/>
                    </a:lnTo>
                    <a:lnTo>
                      <a:pt x="52" y="53"/>
                    </a:lnTo>
                    <a:lnTo>
                      <a:pt x="58" y="42"/>
                    </a:lnTo>
                    <a:lnTo>
                      <a:pt x="63" y="32"/>
                    </a:lnTo>
                    <a:lnTo>
                      <a:pt x="69" y="21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28880" y="1881360"/>
                <a:ext cx="20880" cy="58680"/>
              </a:xfrm>
              <a:custGeom>
                <a:avLst/>
                <a:gdLst/>
                <a:ahLst/>
                <a:rect l="l" t="t" r="r" b="b"/>
                <a:pathLst>
                  <a:path w="49" h="148">
                    <a:moveTo>
                      <a:pt x="14" y="1"/>
                    </a:moveTo>
                    <a:lnTo>
                      <a:pt x="14" y="1"/>
                    </a:lnTo>
                    <a:lnTo>
                      <a:pt x="14" y="19"/>
                    </a:lnTo>
                    <a:lnTo>
                      <a:pt x="14" y="36"/>
                    </a:lnTo>
                    <a:lnTo>
                      <a:pt x="13" y="54"/>
                    </a:lnTo>
                    <a:lnTo>
                      <a:pt x="12" y="71"/>
                    </a:lnTo>
                    <a:lnTo>
                      <a:pt x="9" y="88"/>
                    </a:lnTo>
                    <a:lnTo>
                      <a:pt x="7" y="106"/>
                    </a:lnTo>
                    <a:lnTo>
                      <a:pt x="3" y="123"/>
                    </a:lnTo>
                    <a:lnTo>
                      <a:pt x="0" y="139"/>
                    </a:lnTo>
                    <a:lnTo>
                      <a:pt x="33" y="148"/>
                    </a:lnTo>
                    <a:lnTo>
                      <a:pt x="37" y="130"/>
                    </a:lnTo>
                    <a:lnTo>
                      <a:pt x="41" y="112"/>
                    </a:lnTo>
                    <a:lnTo>
                      <a:pt x="44" y="93"/>
                    </a:lnTo>
                    <a:lnTo>
                      <a:pt x="45" y="75"/>
                    </a:lnTo>
                    <a:lnTo>
                      <a:pt x="48" y="55"/>
                    </a:lnTo>
                    <a:lnTo>
                      <a:pt x="49" y="37"/>
                    </a:lnTo>
                    <a:lnTo>
                      <a:pt x="49" y="19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26000" y="18432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58" h="97">
                    <a:moveTo>
                      <a:pt x="0" y="17"/>
                    </a:moveTo>
                    <a:lnTo>
                      <a:pt x="0" y="17"/>
                    </a:lnTo>
                    <a:lnTo>
                      <a:pt x="5" y="27"/>
                    </a:lnTo>
                    <a:lnTo>
                      <a:pt x="10" y="36"/>
                    </a:lnTo>
                    <a:lnTo>
                      <a:pt x="14" y="46"/>
                    </a:lnTo>
                    <a:lnTo>
                      <a:pt x="16" y="57"/>
                    </a:lnTo>
                    <a:lnTo>
                      <a:pt x="18" y="66"/>
                    </a:lnTo>
                    <a:lnTo>
                      <a:pt x="21" y="77"/>
                    </a:lnTo>
                    <a:lnTo>
                      <a:pt x="22" y="88"/>
                    </a:lnTo>
                    <a:lnTo>
                      <a:pt x="23" y="97"/>
                    </a:lnTo>
                    <a:lnTo>
                      <a:pt x="58" y="96"/>
                    </a:lnTo>
                    <a:lnTo>
                      <a:pt x="57" y="84"/>
                    </a:lnTo>
                    <a:lnTo>
                      <a:pt x="54" y="72"/>
                    </a:lnTo>
                    <a:lnTo>
                      <a:pt x="53" y="59"/>
                    </a:lnTo>
                    <a:lnTo>
                      <a:pt x="50" y="47"/>
                    </a:lnTo>
                    <a:lnTo>
                      <a:pt x="46" y="35"/>
                    </a:lnTo>
                    <a:lnTo>
                      <a:pt x="41" y="23"/>
                    </a:lnTo>
                    <a:lnTo>
                      <a:pt x="36" y="1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614840" y="182556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35"/>
                    </a:moveTo>
                    <a:lnTo>
                      <a:pt x="0" y="35"/>
                    </a:lnTo>
                    <a:lnTo>
                      <a:pt x="4" y="36"/>
                    </a:lnTo>
                    <a:lnTo>
                      <a:pt x="8" y="37"/>
                    </a:lnTo>
                    <a:lnTo>
                      <a:pt x="11" y="40"/>
                    </a:lnTo>
                    <a:lnTo>
                      <a:pt x="16" y="43"/>
                    </a:lnTo>
                    <a:lnTo>
                      <a:pt x="20" y="47"/>
                    </a:lnTo>
                    <a:lnTo>
                      <a:pt x="24" y="50"/>
                    </a:lnTo>
                    <a:lnTo>
                      <a:pt x="28" y="55"/>
                    </a:lnTo>
                    <a:lnTo>
                      <a:pt x="30" y="60"/>
                    </a:lnTo>
                    <a:lnTo>
                      <a:pt x="60" y="43"/>
                    </a:lnTo>
                    <a:lnTo>
                      <a:pt x="56" y="36"/>
                    </a:lnTo>
                    <a:lnTo>
                      <a:pt x="51" y="29"/>
                    </a:lnTo>
                    <a:lnTo>
                      <a:pt x="45" y="23"/>
                    </a:lnTo>
                    <a:lnTo>
                      <a:pt x="38" y="16"/>
                    </a:lnTo>
                    <a:lnTo>
                      <a:pt x="30" y="11"/>
                    </a:lnTo>
                    <a:lnTo>
                      <a:pt x="22" y="6"/>
                    </a:lnTo>
                    <a:lnTo>
                      <a:pt x="14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86040" y="1825560"/>
                <a:ext cx="28800" cy="22320"/>
              </a:xfrm>
              <a:custGeom>
                <a:avLst/>
                <a:gdLst/>
                <a:ahLst/>
                <a:rect l="l" t="t" r="r" b="b"/>
                <a:pathLst>
                  <a:path w="73" h="54">
                    <a:moveTo>
                      <a:pt x="26" y="54"/>
                    </a:moveTo>
                    <a:lnTo>
                      <a:pt x="25" y="54"/>
                    </a:lnTo>
                    <a:lnTo>
                      <a:pt x="30" y="49"/>
                    </a:lnTo>
                    <a:lnTo>
                      <a:pt x="34" y="46"/>
                    </a:lnTo>
                    <a:lnTo>
                      <a:pt x="40" y="42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8" y="36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2" y="1"/>
                    </a:lnTo>
                    <a:lnTo>
                      <a:pt x="43" y="4"/>
                    </a:lnTo>
                    <a:lnTo>
                      <a:pt x="33" y="7"/>
                    </a:lnTo>
                    <a:lnTo>
                      <a:pt x="24" y="12"/>
                    </a:lnTo>
                    <a:lnTo>
                      <a:pt x="15" y="17"/>
                    </a:lnTo>
                    <a:lnTo>
                      <a:pt x="7" y="2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67320" y="1838160"/>
                <a:ext cx="29880" cy="43200"/>
              </a:xfrm>
              <a:custGeom>
                <a:avLst/>
                <a:gdLst/>
                <a:ahLst/>
                <a:rect l="l" t="t" r="r" b="b"/>
                <a:pathLst>
                  <a:path w="73" h="108">
                    <a:moveTo>
                      <a:pt x="31" y="108"/>
                    </a:moveTo>
                    <a:lnTo>
                      <a:pt x="31" y="108"/>
                    </a:lnTo>
                    <a:lnTo>
                      <a:pt x="37" y="96"/>
                    </a:lnTo>
                    <a:lnTo>
                      <a:pt x="42" y="84"/>
                    </a:lnTo>
                    <a:lnTo>
                      <a:pt x="47" y="72"/>
                    </a:lnTo>
                    <a:lnTo>
                      <a:pt x="50" y="61"/>
                    </a:lnTo>
                    <a:lnTo>
                      <a:pt x="55" y="50"/>
                    </a:lnTo>
                    <a:lnTo>
                      <a:pt x="61" y="41"/>
                    </a:lnTo>
                    <a:lnTo>
                      <a:pt x="66" y="31"/>
                    </a:lnTo>
                    <a:lnTo>
                      <a:pt x="73" y="24"/>
                    </a:lnTo>
                    <a:lnTo>
                      <a:pt x="47" y="0"/>
                    </a:lnTo>
                    <a:lnTo>
                      <a:pt x="38" y="12"/>
                    </a:lnTo>
                    <a:lnTo>
                      <a:pt x="30" y="24"/>
                    </a:lnTo>
                    <a:lnTo>
                      <a:pt x="24" y="36"/>
                    </a:lnTo>
                    <a:lnTo>
                      <a:pt x="19" y="48"/>
                    </a:lnTo>
                    <a:lnTo>
                      <a:pt x="14" y="60"/>
                    </a:lnTo>
                    <a:lnTo>
                      <a:pt x="9" y="71"/>
                    </a:lnTo>
                    <a:lnTo>
                      <a:pt x="5" y="82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31" y="10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38520" y="1874880"/>
                <a:ext cx="41400" cy="61920"/>
              </a:xfrm>
              <a:custGeom>
                <a:avLst/>
                <a:gdLst/>
                <a:ahLst/>
                <a:rect l="l" t="t" r="r" b="b"/>
                <a:pathLst>
                  <a:path w="104" h="160">
                    <a:moveTo>
                      <a:pt x="30" y="160"/>
                    </a:moveTo>
                    <a:lnTo>
                      <a:pt x="30" y="160"/>
                    </a:lnTo>
                    <a:lnTo>
                      <a:pt x="40" y="142"/>
                    </a:lnTo>
                    <a:lnTo>
                      <a:pt x="50" y="124"/>
                    </a:lnTo>
                    <a:lnTo>
                      <a:pt x="60" y="106"/>
                    </a:lnTo>
                    <a:lnTo>
                      <a:pt x="69" y="88"/>
                    </a:lnTo>
                    <a:lnTo>
                      <a:pt x="78" y="70"/>
                    </a:lnTo>
                    <a:lnTo>
                      <a:pt x="86" y="52"/>
                    </a:lnTo>
                    <a:lnTo>
                      <a:pt x="96" y="34"/>
                    </a:lnTo>
                    <a:lnTo>
                      <a:pt x="104" y="16"/>
                    </a:lnTo>
                    <a:lnTo>
                      <a:pt x="73" y="0"/>
                    </a:lnTo>
                    <a:lnTo>
                      <a:pt x="64" y="18"/>
                    </a:lnTo>
                    <a:lnTo>
                      <a:pt x="55" y="36"/>
                    </a:lnTo>
                    <a:lnTo>
                      <a:pt x="46" y="54"/>
                    </a:lnTo>
                    <a:lnTo>
                      <a:pt x="38" y="72"/>
                    </a:lnTo>
                    <a:lnTo>
                      <a:pt x="28" y="90"/>
                    </a:lnTo>
                    <a:lnTo>
                      <a:pt x="20" y="107"/>
                    </a:lnTo>
                    <a:lnTo>
                      <a:pt x="10" y="125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30" y="16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05400" y="1930320"/>
                <a:ext cx="44280" cy="54000"/>
              </a:xfrm>
              <a:custGeom>
                <a:avLst/>
                <a:gdLst/>
                <a:ahLst/>
                <a:rect l="l" t="t" r="r" b="b"/>
                <a:pathLst>
                  <a:path w="116" h="139">
                    <a:moveTo>
                      <a:pt x="24" y="139"/>
                    </a:moveTo>
                    <a:lnTo>
                      <a:pt x="24" y="139"/>
                    </a:lnTo>
                    <a:lnTo>
                      <a:pt x="38" y="126"/>
                    </a:lnTo>
                    <a:lnTo>
                      <a:pt x="51" y="111"/>
                    </a:lnTo>
                    <a:lnTo>
                      <a:pt x="63" y="97"/>
                    </a:lnTo>
                    <a:lnTo>
                      <a:pt x="75" y="81"/>
                    </a:lnTo>
                    <a:lnTo>
                      <a:pt x="86" y="66"/>
                    </a:lnTo>
                    <a:lnTo>
                      <a:pt x="95" y="50"/>
                    </a:lnTo>
                    <a:lnTo>
                      <a:pt x="106" y="35"/>
                    </a:lnTo>
                    <a:lnTo>
                      <a:pt x="116" y="19"/>
                    </a:lnTo>
                    <a:lnTo>
                      <a:pt x="86" y="0"/>
                    </a:lnTo>
                    <a:lnTo>
                      <a:pt x="76" y="15"/>
                    </a:lnTo>
                    <a:lnTo>
                      <a:pt x="66" y="31"/>
                    </a:lnTo>
                    <a:lnTo>
                      <a:pt x="57" y="47"/>
                    </a:lnTo>
                    <a:lnTo>
                      <a:pt x="46" y="61"/>
                    </a:lnTo>
                    <a:lnTo>
                      <a:pt x="35" y="75"/>
                    </a:lnTo>
                    <a:lnTo>
                      <a:pt x="24" y="89"/>
                    </a:lnTo>
                    <a:lnTo>
                      <a:pt x="12" y="102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24" y="13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457520" y="1974960"/>
                <a:ext cx="57240" cy="44280"/>
              </a:xfrm>
              <a:custGeom>
                <a:avLst/>
                <a:gdLst/>
                <a:ahLst/>
                <a:rect l="l" t="t" r="r" b="b"/>
                <a:pathLst>
                  <a:path w="141" h="110">
                    <a:moveTo>
                      <a:pt x="14" y="110"/>
                    </a:moveTo>
                    <a:lnTo>
                      <a:pt x="14" y="110"/>
                    </a:lnTo>
                    <a:lnTo>
                      <a:pt x="32" y="102"/>
                    </a:lnTo>
                    <a:lnTo>
                      <a:pt x="49" y="94"/>
                    </a:lnTo>
                    <a:lnTo>
                      <a:pt x="65" y="83"/>
                    </a:lnTo>
                    <a:lnTo>
                      <a:pt x="81" y="73"/>
                    </a:lnTo>
                    <a:lnTo>
                      <a:pt x="97" y="61"/>
                    </a:lnTo>
                    <a:lnTo>
                      <a:pt x="113" y="50"/>
                    </a:lnTo>
                    <a:lnTo>
                      <a:pt x="127" y="37"/>
                    </a:lnTo>
                    <a:lnTo>
                      <a:pt x="141" y="24"/>
                    </a:lnTo>
                    <a:lnTo>
                      <a:pt x="117" y="0"/>
                    </a:lnTo>
                    <a:lnTo>
                      <a:pt x="104" y="11"/>
                    </a:lnTo>
                    <a:lnTo>
                      <a:pt x="91" y="23"/>
                    </a:lnTo>
                    <a:lnTo>
                      <a:pt x="77" y="34"/>
                    </a:lnTo>
                    <a:lnTo>
                      <a:pt x="62" y="44"/>
                    </a:lnTo>
                    <a:lnTo>
                      <a:pt x="47" y="54"/>
                    </a:lnTo>
                    <a:lnTo>
                      <a:pt x="31" y="62"/>
                    </a:lnTo>
                    <a:lnTo>
                      <a:pt x="15" y="72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416480" y="200664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117" h="63">
                    <a:moveTo>
                      <a:pt x="4" y="63"/>
                    </a:moveTo>
                    <a:lnTo>
                      <a:pt x="4" y="63"/>
                    </a:lnTo>
                    <a:lnTo>
                      <a:pt x="19" y="61"/>
                    </a:lnTo>
                    <a:lnTo>
                      <a:pt x="33" y="58"/>
                    </a:lnTo>
                    <a:lnTo>
                      <a:pt x="48" y="55"/>
                    </a:lnTo>
                    <a:lnTo>
                      <a:pt x="62" y="52"/>
                    </a:lnTo>
                    <a:lnTo>
                      <a:pt x="76" y="48"/>
                    </a:lnTo>
                    <a:lnTo>
                      <a:pt x="90" y="43"/>
                    </a:lnTo>
                    <a:lnTo>
                      <a:pt x="104" y="39"/>
                    </a:lnTo>
                    <a:lnTo>
                      <a:pt x="117" y="31"/>
                    </a:lnTo>
                    <a:lnTo>
                      <a:pt x="103" y="0"/>
                    </a:lnTo>
                    <a:lnTo>
                      <a:pt x="91" y="6"/>
                    </a:lnTo>
                    <a:lnTo>
                      <a:pt x="79" y="11"/>
                    </a:lnTo>
                    <a:lnTo>
                      <a:pt x="66" y="15"/>
                    </a:lnTo>
                    <a:lnTo>
                      <a:pt x="54" y="18"/>
                    </a:lnTo>
                    <a:lnTo>
                      <a:pt x="40" y="22"/>
                    </a:lnTo>
                    <a:lnTo>
                      <a:pt x="27" y="24"/>
                    </a:lnTo>
                    <a:lnTo>
                      <a:pt x="13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4" y="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97400" y="2017800"/>
                <a:ext cx="21960" cy="14040"/>
              </a:xfrm>
              <a:custGeom>
                <a:avLst/>
                <a:gdLst/>
                <a:ahLst/>
                <a:rect l="l" t="t" r="r" b="b"/>
                <a:pathLst>
                  <a:path w="55" h="39">
                    <a:moveTo>
                      <a:pt x="0" y="21"/>
                    </a:moveTo>
                    <a:lnTo>
                      <a:pt x="0" y="21"/>
                    </a:lnTo>
                    <a:lnTo>
                      <a:pt x="6" y="28"/>
                    </a:lnTo>
                    <a:lnTo>
                      <a:pt x="13" y="33"/>
                    </a:lnTo>
                    <a:lnTo>
                      <a:pt x="21" y="36"/>
                    </a:lnTo>
                    <a:lnTo>
                      <a:pt x="28" y="38"/>
                    </a:lnTo>
                    <a:lnTo>
                      <a:pt x="36" y="39"/>
                    </a:lnTo>
                    <a:lnTo>
                      <a:pt x="42" y="39"/>
                    </a:lnTo>
                    <a:lnTo>
                      <a:pt x="49" y="39"/>
                    </a:lnTo>
                    <a:lnTo>
                      <a:pt x="55" y="38"/>
                    </a:lnTo>
                    <a:lnTo>
                      <a:pt x="51" y="4"/>
                    </a:lnTo>
                    <a:lnTo>
                      <a:pt x="47" y="4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5" y="4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94160" y="20019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40" h="60">
                    <a:moveTo>
                      <a:pt x="12" y="0"/>
                    </a:moveTo>
                    <a:lnTo>
                      <a:pt x="12" y="0"/>
                    </a:lnTo>
                    <a:lnTo>
                      <a:pt x="8" y="6"/>
                    </a:lnTo>
                    <a:lnTo>
                      <a:pt x="5" y="13"/>
                    </a:lnTo>
                    <a:lnTo>
                      <a:pt x="2" y="20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2" y="51"/>
                    </a:lnTo>
                    <a:lnTo>
                      <a:pt x="7" y="60"/>
                    </a:lnTo>
                    <a:lnTo>
                      <a:pt x="35" y="39"/>
                    </a:lnTo>
                    <a:lnTo>
                      <a:pt x="35" y="39"/>
                    </a:lnTo>
                    <a:lnTo>
                      <a:pt x="35" y="38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30"/>
                    </a:lnTo>
                    <a:lnTo>
                      <a:pt x="36" y="26"/>
                    </a:lnTo>
                    <a:lnTo>
                      <a:pt x="37" y="24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398840" y="1969920"/>
                <a:ext cx="47520" cy="39960"/>
              </a:xfrm>
              <a:custGeom>
                <a:avLst/>
                <a:gdLst/>
                <a:ahLst/>
                <a:rect l="l" t="t" r="r" b="b"/>
                <a:pathLst>
                  <a:path w="119" h="102">
                    <a:moveTo>
                      <a:pt x="95" y="0"/>
                    </a:moveTo>
                    <a:lnTo>
                      <a:pt x="95" y="0"/>
                    </a:lnTo>
                    <a:lnTo>
                      <a:pt x="84" y="10"/>
                    </a:lnTo>
                    <a:lnTo>
                      <a:pt x="73" y="18"/>
                    </a:lnTo>
                    <a:lnTo>
                      <a:pt x="61" y="28"/>
                    </a:lnTo>
                    <a:lnTo>
                      <a:pt x="48" y="38"/>
                    </a:lnTo>
                    <a:lnTo>
                      <a:pt x="36" y="47"/>
                    </a:lnTo>
                    <a:lnTo>
                      <a:pt x="24" y="57"/>
                    </a:lnTo>
                    <a:lnTo>
                      <a:pt x="12" y="69"/>
                    </a:lnTo>
                    <a:lnTo>
                      <a:pt x="0" y="81"/>
                    </a:lnTo>
                    <a:lnTo>
                      <a:pt x="28" y="102"/>
                    </a:lnTo>
                    <a:lnTo>
                      <a:pt x="36" y="93"/>
                    </a:lnTo>
                    <a:lnTo>
                      <a:pt x="47" y="83"/>
                    </a:lnTo>
                    <a:lnTo>
                      <a:pt x="58" y="74"/>
                    </a:lnTo>
                    <a:lnTo>
                      <a:pt x="70" y="65"/>
                    </a:lnTo>
                    <a:lnTo>
                      <a:pt x="82" y="56"/>
                    </a:lnTo>
                    <a:lnTo>
                      <a:pt x="94" y="46"/>
                    </a:lnTo>
                    <a:lnTo>
                      <a:pt x="107" y="36"/>
                    </a:lnTo>
                    <a:lnTo>
                      <a:pt x="119" y="27"/>
                    </a:lnTo>
                    <a:lnTo>
                      <a:pt x="119" y="27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437000" y="1932120"/>
                <a:ext cx="50760" cy="47520"/>
              </a:xfrm>
              <a:custGeom>
                <a:avLst/>
                <a:gdLst/>
                <a:ahLst/>
                <a:rect l="l" t="t" r="r" b="b"/>
                <a:pathLst>
                  <a:path w="129" h="121">
                    <a:moveTo>
                      <a:pt x="101" y="0"/>
                    </a:moveTo>
                    <a:lnTo>
                      <a:pt x="101" y="0"/>
                    </a:lnTo>
                    <a:lnTo>
                      <a:pt x="91" y="13"/>
                    </a:lnTo>
                    <a:lnTo>
                      <a:pt x="80" y="25"/>
                    </a:lnTo>
                    <a:lnTo>
                      <a:pt x="68" y="37"/>
                    </a:lnTo>
                    <a:lnTo>
                      <a:pt x="55" y="48"/>
                    </a:lnTo>
                    <a:lnTo>
                      <a:pt x="42" y="60"/>
                    </a:lnTo>
                    <a:lnTo>
                      <a:pt x="27" y="70"/>
                    </a:lnTo>
                    <a:lnTo>
                      <a:pt x="14" y="82"/>
                    </a:lnTo>
                    <a:lnTo>
                      <a:pt x="0" y="94"/>
                    </a:lnTo>
                    <a:lnTo>
                      <a:pt x="24" y="121"/>
                    </a:lnTo>
                    <a:lnTo>
                      <a:pt x="37" y="109"/>
                    </a:lnTo>
                    <a:lnTo>
                      <a:pt x="50" y="98"/>
                    </a:lnTo>
                    <a:lnTo>
                      <a:pt x="65" y="86"/>
                    </a:lnTo>
                    <a:lnTo>
                      <a:pt x="78" y="74"/>
                    </a:lnTo>
                    <a:lnTo>
                      <a:pt x="91" y="62"/>
                    </a:lnTo>
                    <a:lnTo>
                      <a:pt x="105" y="49"/>
                    </a:lnTo>
                    <a:lnTo>
                      <a:pt x="117" y="34"/>
                    </a:lnTo>
                    <a:lnTo>
                      <a:pt x="129" y="19"/>
                    </a:lnTo>
                    <a:lnTo>
                      <a:pt x="129" y="19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476600" y="188136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90" h="145">
                    <a:moveTo>
                      <a:pt x="56" y="0"/>
                    </a:moveTo>
                    <a:lnTo>
                      <a:pt x="56" y="0"/>
                    </a:lnTo>
                    <a:lnTo>
                      <a:pt x="52" y="16"/>
                    </a:lnTo>
                    <a:lnTo>
                      <a:pt x="48" y="33"/>
                    </a:lnTo>
                    <a:lnTo>
                      <a:pt x="42" y="49"/>
                    </a:lnTo>
                    <a:lnTo>
                      <a:pt x="34" y="64"/>
                    </a:lnTo>
                    <a:lnTo>
                      <a:pt x="27" y="81"/>
                    </a:lnTo>
                    <a:lnTo>
                      <a:pt x="19" y="96"/>
                    </a:lnTo>
                    <a:lnTo>
                      <a:pt x="9" y="111"/>
                    </a:lnTo>
                    <a:lnTo>
                      <a:pt x="0" y="126"/>
                    </a:lnTo>
                    <a:lnTo>
                      <a:pt x="28" y="145"/>
                    </a:lnTo>
                    <a:lnTo>
                      <a:pt x="39" y="129"/>
                    </a:lnTo>
                    <a:lnTo>
                      <a:pt x="49" y="114"/>
                    </a:lnTo>
                    <a:lnTo>
                      <a:pt x="58" y="97"/>
                    </a:lnTo>
                    <a:lnTo>
                      <a:pt x="67" y="79"/>
                    </a:lnTo>
                    <a:lnTo>
                      <a:pt x="74" y="62"/>
                    </a:lnTo>
                    <a:lnTo>
                      <a:pt x="80" y="44"/>
                    </a:lnTo>
                    <a:lnTo>
                      <a:pt x="86" y="25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492440" y="1854360"/>
                <a:ext cx="20880" cy="29880"/>
              </a:xfrm>
              <a:custGeom>
                <a:avLst/>
                <a:gdLst/>
                <a:ahLst/>
                <a:rect l="l" t="t" r="r" b="b"/>
                <a:pathLst>
                  <a:path w="53" h="76">
                    <a:moveTo>
                      <a:pt x="0" y="29"/>
                    </a:moveTo>
                    <a:lnTo>
                      <a:pt x="0" y="29"/>
                    </a:lnTo>
                    <a:lnTo>
                      <a:pt x="5" y="32"/>
                    </a:lnTo>
                    <a:lnTo>
                      <a:pt x="8" y="36"/>
                    </a:lnTo>
                    <a:lnTo>
                      <a:pt x="12" y="41"/>
                    </a:lnTo>
                    <a:lnTo>
                      <a:pt x="14" y="47"/>
                    </a:lnTo>
                    <a:lnTo>
                      <a:pt x="17" y="53"/>
                    </a:lnTo>
                    <a:lnTo>
                      <a:pt x="18" y="59"/>
                    </a:lnTo>
                    <a:lnTo>
                      <a:pt x="18" y="65"/>
                    </a:lnTo>
                    <a:lnTo>
                      <a:pt x="18" y="70"/>
                    </a:lnTo>
                    <a:lnTo>
                      <a:pt x="52" y="76"/>
                    </a:lnTo>
                    <a:lnTo>
                      <a:pt x="53" y="65"/>
                    </a:lnTo>
                    <a:lnTo>
                      <a:pt x="52" y="54"/>
                    </a:lnTo>
                    <a:lnTo>
                      <a:pt x="50" y="44"/>
                    </a:lnTo>
                    <a:lnTo>
                      <a:pt x="47" y="34"/>
                    </a:lnTo>
                    <a:lnTo>
                      <a:pt x="42" y="24"/>
                    </a:lnTo>
                    <a:lnTo>
                      <a:pt x="36" y="16"/>
                    </a:lnTo>
                    <a:lnTo>
                      <a:pt x="29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73360" y="185256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64" h="44">
                    <a:moveTo>
                      <a:pt x="20" y="44"/>
                    </a:moveTo>
                    <a:lnTo>
                      <a:pt x="20" y="44"/>
                    </a:lnTo>
                    <a:lnTo>
                      <a:pt x="25" y="41"/>
                    </a:lnTo>
                    <a:lnTo>
                      <a:pt x="28" y="38"/>
                    </a:lnTo>
                    <a:lnTo>
                      <a:pt x="33" y="37"/>
                    </a:lnTo>
                    <a:lnTo>
                      <a:pt x="37" y="35"/>
                    </a:lnTo>
                    <a:lnTo>
                      <a:pt x="40" y="35"/>
                    </a:lnTo>
                    <a:lnTo>
                      <a:pt x="43" y="34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64" y="6"/>
                    </a:lnTo>
                    <a:lnTo>
                      <a:pt x="55" y="1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2"/>
                    </a:lnTo>
                    <a:lnTo>
                      <a:pt x="20" y="5"/>
                    </a:lnTo>
                    <a:lnTo>
                      <a:pt x="13" y="8"/>
                    </a:lnTo>
                    <a:lnTo>
                      <a:pt x="6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0" y="4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62200" y="1857240"/>
                <a:ext cx="20880" cy="302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20" y="73"/>
                    </a:moveTo>
                    <a:lnTo>
                      <a:pt x="20" y="73"/>
                    </a:lnTo>
                    <a:lnTo>
                      <a:pt x="27" y="66"/>
                    </a:lnTo>
                    <a:lnTo>
                      <a:pt x="33" y="57"/>
                    </a:lnTo>
                    <a:lnTo>
                      <a:pt x="37" y="50"/>
                    </a:lnTo>
                    <a:lnTo>
                      <a:pt x="41" y="44"/>
                    </a:lnTo>
                    <a:lnTo>
                      <a:pt x="43" y="38"/>
                    </a:lnTo>
                    <a:lnTo>
                      <a:pt x="45" y="33"/>
                    </a:lnTo>
                    <a:lnTo>
                      <a:pt x="48" y="30"/>
                    </a:lnTo>
                    <a:lnTo>
                      <a:pt x="49" y="28"/>
                    </a:lnTo>
                    <a:lnTo>
                      <a:pt x="29" y="0"/>
                    </a:lnTo>
                    <a:lnTo>
                      <a:pt x="21" y="7"/>
                    </a:lnTo>
                    <a:lnTo>
                      <a:pt x="15" y="15"/>
                    </a:lnTo>
                    <a:lnTo>
                      <a:pt x="12" y="22"/>
                    </a:lnTo>
                    <a:lnTo>
                      <a:pt x="9" y="30"/>
                    </a:lnTo>
                    <a:lnTo>
                      <a:pt x="6" y="34"/>
                    </a:lnTo>
                    <a:lnTo>
                      <a:pt x="3" y="39"/>
                    </a:lnTo>
                    <a:lnTo>
                      <a:pt x="2" y="4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433760" y="1876320"/>
                <a:ext cx="36720" cy="25560"/>
              </a:xfrm>
              <a:custGeom>
                <a:avLst/>
                <a:gdLst/>
                <a:ahLst/>
                <a:rect l="l" t="t" r="r" b="b"/>
                <a:pathLst>
                  <a:path w="95" h="66">
                    <a:moveTo>
                      <a:pt x="3" y="66"/>
                    </a:moveTo>
                    <a:lnTo>
                      <a:pt x="3" y="66"/>
                    </a:lnTo>
                    <a:lnTo>
                      <a:pt x="16" y="65"/>
                    </a:lnTo>
                    <a:lnTo>
                      <a:pt x="28" y="61"/>
                    </a:lnTo>
                    <a:lnTo>
                      <a:pt x="40" y="58"/>
                    </a:lnTo>
                    <a:lnTo>
                      <a:pt x="52" y="53"/>
                    </a:lnTo>
                    <a:lnTo>
                      <a:pt x="63" y="48"/>
                    </a:lnTo>
                    <a:lnTo>
                      <a:pt x="75" y="42"/>
                    </a:lnTo>
                    <a:lnTo>
                      <a:pt x="84" y="35"/>
                    </a:lnTo>
                    <a:lnTo>
                      <a:pt x="95" y="29"/>
                    </a:lnTo>
                    <a:lnTo>
                      <a:pt x="75" y="0"/>
                    </a:lnTo>
                    <a:lnTo>
                      <a:pt x="66" y="6"/>
                    </a:lnTo>
                    <a:lnTo>
                      <a:pt x="57" y="12"/>
                    </a:lnTo>
                    <a:lnTo>
                      <a:pt x="47" y="17"/>
                    </a:lnTo>
                    <a:lnTo>
                      <a:pt x="38" y="22"/>
                    </a:lnTo>
                    <a:lnTo>
                      <a:pt x="28" y="25"/>
                    </a:lnTo>
                    <a:lnTo>
                      <a:pt x="20" y="28"/>
                    </a:lnTo>
                    <a:lnTo>
                      <a:pt x="1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" y="6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403520" y="188280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77" h="48">
                    <a:moveTo>
                      <a:pt x="0" y="12"/>
                    </a:moveTo>
                    <a:lnTo>
                      <a:pt x="0" y="12"/>
                    </a:lnTo>
                    <a:lnTo>
                      <a:pt x="7" y="23"/>
                    </a:lnTo>
                    <a:lnTo>
                      <a:pt x="16" y="32"/>
                    </a:lnTo>
                    <a:lnTo>
                      <a:pt x="25" y="38"/>
                    </a:lnTo>
                    <a:lnTo>
                      <a:pt x="35" y="42"/>
                    </a:lnTo>
                    <a:lnTo>
                      <a:pt x="46" y="46"/>
                    </a:lnTo>
                    <a:lnTo>
                      <a:pt x="56" y="47"/>
                    </a:lnTo>
                    <a:lnTo>
                      <a:pt x="67" y="48"/>
                    </a:lnTo>
                    <a:lnTo>
                      <a:pt x="77" y="48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3" y="12"/>
                    </a:lnTo>
                    <a:lnTo>
                      <a:pt x="47" y="10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402080" y="184320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48" h="110">
                    <a:moveTo>
                      <a:pt x="15" y="0"/>
                    </a:moveTo>
                    <a:lnTo>
                      <a:pt x="15" y="0"/>
                    </a:lnTo>
                    <a:lnTo>
                      <a:pt x="12" y="12"/>
                    </a:lnTo>
                    <a:lnTo>
                      <a:pt x="10" y="24"/>
                    </a:lnTo>
                    <a:lnTo>
                      <a:pt x="7" y="37"/>
                    </a:lnTo>
                    <a:lnTo>
                      <a:pt x="4" y="50"/>
                    </a:lnTo>
                    <a:lnTo>
                      <a:pt x="1" y="64"/>
                    </a:lnTo>
                    <a:lnTo>
                      <a:pt x="0" y="79"/>
                    </a:lnTo>
                    <a:lnTo>
                      <a:pt x="0" y="86"/>
                    </a:lnTo>
                    <a:lnTo>
                      <a:pt x="1" y="94"/>
                    </a:lnTo>
                    <a:lnTo>
                      <a:pt x="3" y="103"/>
                    </a:lnTo>
                    <a:lnTo>
                      <a:pt x="5" y="110"/>
                    </a:lnTo>
                    <a:lnTo>
                      <a:pt x="37" y="98"/>
                    </a:lnTo>
                    <a:lnTo>
                      <a:pt x="36" y="93"/>
                    </a:lnTo>
                    <a:lnTo>
                      <a:pt x="35" y="88"/>
                    </a:lnTo>
                    <a:lnTo>
                      <a:pt x="35" y="85"/>
                    </a:lnTo>
                    <a:lnTo>
                      <a:pt x="35" y="80"/>
                    </a:lnTo>
                    <a:lnTo>
                      <a:pt x="36" y="68"/>
                    </a:lnTo>
                    <a:lnTo>
                      <a:pt x="37" y="57"/>
                    </a:lnTo>
                    <a:lnTo>
                      <a:pt x="41" y="44"/>
                    </a:lnTo>
                    <a:lnTo>
                      <a:pt x="43" y="31"/>
                    </a:lnTo>
                    <a:lnTo>
                      <a:pt x="47" y="16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06760" y="1812960"/>
                <a:ext cx="17640" cy="31680"/>
              </a:xfrm>
              <a:custGeom>
                <a:avLst/>
                <a:gdLst/>
                <a:ahLst/>
                <a:rect l="l" t="t" r="r" b="b"/>
                <a:pathLst>
                  <a:path w="43" h="82">
                    <a:moveTo>
                      <a:pt x="6" y="15"/>
                    </a:moveTo>
                    <a:lnTo>
                      <a:pt x="6" y="15"/>
                    </a:lnTo>
                    <a:lnTo>
                      <a:pt x="7" y="20"/>
                    </a:lnTo>
                    <a:lnTo>
                      <a:pt x="8" y="26"/>
                    </a:lnTo>
                    <a:lnTo>
                      <a:pt x="7" y="33"/>
                    </a:lnTo>
                    <a:lnTo>
                      <a:pt x="7" y="41"/>
                    </a:lnTo>
                    <a:lnTo>
                      <a:pt x="4" y="50"/>
                    </a:lnTo>
                    <a:lnTo>
                      <a:pt x="2" y="59"/>
                    </a:lnTo>
                    <a:lnTo>
                      <a:pt x="1" y="69"/>
                    </a:lnTo>
                    <a:lnTo>
                      <a:pt x="0" y="80"/>
                    </a:lnTo>
                    <a:lnTo>
                      <a:pt x="33" y="82"/>
                    </a:lnTo>
                    <a:lnTo>
                      <a:pt x="34" y="75"/>
                    </a:lnTo>
                    <a:lnTo>
                      <a:pt x="37" y="66"/>
                    </a:lnTo>
                    <a:lnTo>
                      <a:pt x="38" y="57"/>
                    </a:lnTo>
                    <a:lnTo>
                      <a:pt x="40" y="46"/>
                    </a:lnTo>
                    <a:lnTo>
                      <a:pt x="42" y="35"/>
                    </a:lnTo>
                    <a:lnTo>
                      <a:pt x="43" y="24"/>
                    </a:lnTo>
                    <a:lnTo>
                      <a:pt x="40" y="12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98840" y="18018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0" y="35"/>
                    </a:moveTo>
                    <a:lnTo>
                      <a:pt x="0" y="35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7" y="36"/>
                    </a:lnTo>
                    <a:lnTo>
                      <a:pt x="21" y="37"/>
                    </a:lnTo>
                    <a:lnTo>
                      <a:pt x="25" y="37"/>
                    </a:lnTo>
                    <a:lnTo>
                      <a:pt x="27" y="39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60" y="25"/>
                    </a:lnTo>
                    <a:lnTo>
                      <a:pt x="54" y="16"/>
                    </a:lnTo>
                    <a:lnTo>
                      <a:pt x="47" y="10"/>
                    </a:lnTo>
                    <a:lnTo>
                      <a:pt x="38" y="5"/>
                    </a:lnTo>
                    <a:lnTo>
                      <a:pt x="30" y="3"/>
                    </a:lnTo>
                    <a:lnTo>
                      <a:pt x="21" y="1"/>
                    </a:lnTo>
                    <a:lnTo>
                      <a:pt x="14" y="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354560" y="180180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49"/>
                    </a:moveTo>
                    <a:lnTo>
                      <a:pt x="0" y="49"/>
                    </a:lnTo>
                    <a:lnTo>
                      <a:pt x="15" y="51"/>
                    </a:lnTo>
                    <a:lnTo>
                      <a:pt x="31" y="48"/>
                    </a:lnTo>
                    <a:lnTo>
                      <a:pt x="45" y="46"/>
                    </a:lnTo>
                    <a:lnTo>
                      <a:pt x="58" y="43"/>
                    </a:lnTo>
                    <a:lnTo>
                      <a:pt x="72" y="40"/>
                    </a:lnTo>
                    <a:lnTo>
                      <a:pt x="85" y="37"/>
                    </a:lnTo>
                    <a:lnTo>
                      <a:pt x="97" y="36"/>
                    </a:lnTo>
                    <a:lnTo>
                      <a:pt x="109" y="35"/>
                    </a:lnTo>
                    <a:lnTo>
                      <a:pt x="109" y="0"/>
                    </a:lnTo>
                    <a:lnTo>
                      <a:pt x="94" y="1"/>
                    </a:lnTo>
                    <a:lnTo>
                      <a:pt x="79" y="4"/>
                    </a:lnTo>
                    <a:lnTo>
                      <a:pt x="66" y="6"/>
                    </a:lnTo>
                    <a:lnTo>
                      <a:pt x="51" y="10"/>
                    </a:lnTo>
                    <a:lnTo>
                      <a:pt x="38" y="12"/>
                    </a:lnTo>
                    <a:lnTo>
                      <a:pt x="26" y="15"/>
                    </a:lnTo>
                    <a:lnTo>
                      <a:pt x="14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316400" y="1797120"/>
                <a:ext cx="39600" cy="25200"/>
              </a:xfrm>
              <a:custGeom>
                <a:avLst/>
                <a:gdLst/>
                <a:ahLst/>
                <a:rect l="l" t="t" r="r" b="b"/>
                <a:pathLst>
                  <a:path w="98" h="61">
                    <a:moveTo>
                      <a:pt x="0" y="30"/>
                    </a:moveTo>
                    <a:lnTo>
                      <a:pt x="0" y="30"/>
                    </a:lnTo>
                    <a:lnTo>
                      <a:pt x="10" y="36"/>
                    </a:lnTo>
                    <a:lnTo>
                      <a:pt x="22" y="42"/>
                    </a:lnTo>
                    <a:lnTo>
                      <a:pt x="33" y="47"/>
                    </a:lnTo>
                    <a:lnTo>
                      <a:pt x="46" y="52"/>
                    </a:lnTo>
                    <a:lnTo>
                      <a:pt x="58" y="55"/>
                    </a:lnTo>
                    <a:lnTo>
                      <a:pt x="70" y="59"/>
                    </a:lnTo>
                    <a:lnTo>
                      <a:pt x="84" y="60"/>
                    </a:lnTo>
                    <a:lnTo>
                      <a:pt x="96" y="61"/>
                    </a:lnTo>
                    <a:lnTo>
                      <a:pt x="98" y="28"/>
                    </a:lnTo>
                    <a:lnTo>
                      <a:pt x="88" y="27"/>
                    </a:lnTo>
                    <a:lnTo>
                      <a:pt x="78" y="24"/>
                    </a:lnTo>
                    <a:lnTo>
                      <a:pt x="67" y="22"/>
                    </a:lnTo>
                    <a:lnTo>
                      <a:pt x="56" y="19"/>
                    </a:lnTo>
                    <a:lnTo>
                      <a:pt x="46" y="16"/>
                    </a:lnTo>
                    <a:lnTo>
                      <a:pt x="37" y="11"/>
                    </a:lnTo>
                    <a:lnTo>
                      <a:pt x="27" y="6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298760" y="17748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27"/>
                    </a:moveTo>
                    <a:lnTo>
                      <a:pt x="0" y="27"/>
                    </a:lnTo>
                    <a:lnTo>
                      <a:pt x="4" y="31"/>
                    </a:lnTo>
                    <a:lnTo>
                      <a:pt x="8" y="37"/>
                    </a:lnTo>
                    <a:lnTo>
                      <a:pt x="13" y="44"/>
                    </a:lnTo>
                    <a:lnTo>
                      <a:pt x="17" y="52"/>
                    </a:lnTo>
                    <a:lnTo>
                      <a:pt x="23" y="61"/>
                    </a:lnTo>
                    <a:lnTo>
                      <a:pt x="29" y="70"/>
                    </a:lnTo>
                    <a:lnTo>
                      <a:pt x="36" y="79"/>
                    </a:lnTo>
                    <a:lnTo>
                      <a:pt x="46" y="87"/>
                    </a:lnTo>
                    <a:lnTo>
                      <a:pt x="65" y="57"/>
                    </a:lnTo>
                    <a:lnTo>
                      <a:pt x="60" y="54"/>
                    </a:lnTo>
                    <a:lnTo>
                      <a:pt x="56" y="49"/>
                    </a:lnTo>
                    <a:lnTo>
                      <a:pt x="52" y="43"/>
                    </a:lnTo>
                    <a:lnTo>
                      <a:pt x="47" y="36"/>
                    </a:lnTo>
                    <a:lnTo>
                      <a:pt x="43" y="26"/>
                    </a:lnTo>
                    <a:lnTo>
                      <a:pt x="37" y="18"/>
                    </a:lnTo>
                    <a:lnTo>
                      <a:pt x="30" y="9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282920" y="176544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62" h="50">
                    <a:moveTo>
                      <a:pt x="0" y="35"/>
                    </a:moveTo>
                    <a:lnTo>
                      <a:pt x="0" y="35"/>
                    </a:lnTo>
                    <a:lnTo>
                      <a:pt x="5" y="35"/>
                    </a:lnTo>
                    <a:lnTo>
                      <a:pt x="11" y="36"/>
                    </a:lnTo>
                    <a:lnTo>
                      <a:pt x="16" y="37"/>
                    </a:lnTo>
                    <a:lnTo>
                      <a:pt x="22" y="40"/>
                    </a:lnTo>
                    <a:lnTo>
                      <a:pt x="27" y="42"/>
                    </a:lnTo>
                    <a:lnTo>
                      <a:pt x="32" y="44"/>
                    </a:lnTo>
                    <a:lnTo>
                      <a:pt x="35" y="47"/>
                    </a:lnTo>
                    <a:lnTo>
                      <a:pt x="40" y="50"/>
                    </a:lnTo>
                    <a:lnTo>
                      <a:pt x="62" y="23"/>
                    </a:lnTo>
                    <a:lnTo>
                      <a:pt x="56" y="18"/>
                    </a:lnTo>
                    <a:lnTo>
                      <a:pt x="48" y="14"/>
                    </a:lnTo>
                    <a:lnTo>
                      <a:pt x="41" y="10"/>
                    </a:lnTo>
                    <a:lnTo>
                      <a:pt x="34" y="7"/>
                    </a:lnTo>
                    <a:lnTo>
                      <a:pt x="27" y="5"/>
                    </a:lnTo>
                    <a:lnTo>
                      <a:pt x="18" y="2"/>
                    </a:lnTo>
                    <a:lnTo>
                      <a:pt x="11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232160" y="1765440"/>
                <a:ext cx="52560" cy="15840"/>
              </a:xfrm>
              <a:custGeom>
                <a:avLst/>
                <a:gdLst/>
                <a:ahLst/>
                <a:rect l="l" t="t" r="r" b="b"/>
                <a:pathLst>
                  <a:path w="130" h="41">
                    <a:moveTo>
                      <a:pt x="1" y="41"/>
                    </a:moveTo>
                    <a:lnTo>
                      <a:pt x="1" y="41"/>
                    </a:lnTo>
                    <a:lnTo>
                      <a:pt x="18" y="39"/>
                    </a:lnTo>
                    <a:lnTo>
                      <a:pt x="35" y="38"/>
                    </a:lnTo>
                    <a:lnTo>
                      <a:pt x="51" y="37"/>
                    </a:lnTo>
                    <a:lnTo>
                      <a:pt x="66" y="36"/>
                    </a:lnTo>
                    <a:lnTo>
                      <a:pt x="82" y="35"/>
                    </a:lnTo>
                    <a:lnTo>
                      <a:pt x="97" y="35"/>
                    </a:lnTo>
                    <a:lnTo>
                      <a:pt x="113" y="35"/>
                    </a:lnTo>
                    <a:lnTo>
                      <a:pt x="127" y="36"/>
                    </a:lnTo>
                    <a:lnTo>
                      <a:pt x="130" y="1"/>
                    </a:lnTo>
                    <a:lnTo>
                      <a:pt x="113" y="0"/>
                    </a:lnTo>
                    <a:lnTo>
                      <a:pt x="96" y="0"/>
                    </a:lnTo>
                    <a:lnTo>
                      <a:pt x="81" y="0"/>
                    </a:lnTo>
                    <a:lnTo>
                      <a:pt x="64" y="1"/>
                    </a:lnTo>
                    <a:lnTo>
                      <a:pt x="48" y="2"/>
                    </a:lnTo>
                    <a:lnTo>
                      <a:pt x="31" y="3"/>
                    </a:lnTo>
                    <a:lnTo>
                      <a:pt x="16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4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4920" y="1766880"/>
                <a:ext cx="58680" cy="1764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39"/>
                    </a:moveTo>
                    <a:lnTo>
                      <a:pt x="0" y="39"/>
                    </a:lnTo>
                    <a:lnTo>
                      <a:pt x="19" y="41"/>
                    </a:lnTo>
                    <a:lnTo>
                      <a:pt x="39" y="42"/>
                    </a:lnTo>
                    <a:lnTo>
                      <a:pt x="57" y="41"/>
                    </a:lnTo>
                    <a:lnTo>
                      <a:pt x="76" y="39"/>
                    </a:lnTo>
                    <a:lnTo>
                      <a:pt x="94" y="38"/>
                    </a:lnTo>
                    <a:lnTo>
                      <a:pt x="111" y="37"/>
                    </a:lnTo>
                    <a:lnTo>
                      <a:pt x="129" y="35"/>
                    </a:lnTo>
                    <a:lnTo>
                      <a:pt x="145" y="35"/>
                    </a:lnTo>
                    <a:lnTo>
                      <a:pt x="144" y="0"/>
                    </a:lnTo>
                    <a:lnTo>
                      <a:pt x="126" y="1"/>
                    </a:lnTo>
                    <a:lnTo>
                      <a:pt x="108" y="2"/>
                    </a:lnTo>
                    <a:lnTo>
                      <a:pt x="90" y="3"/>
                    </a:lnTo>
                    <a:lnTo>
                      <a:pt x="72" y="5"/>
                    </a:lnTo>
                    <a:lnTo>
                      <a:pt x="55" y="6"/>
                    </a:lnTo>
                    <a:lnTo>
                      <a:pt x="39" y="7"/>
                    </a:lnTo>
                    <a:lnTo>
                      <a:pt x="22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147920" y="175752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76" h="66">
                    <a:moveTo>
                      <a:pt x="0" y="28"/>
                    </a:moveTo>
                    <a:lnTo>
                      <a:pt x="0" y="28"/>
                    </a:lnTo>
                    <a:lnTo>
                      <a:pt x="8" y="34"/>
                    </a:lnTo>
                    <a:lnTo>
                      <a:pt x="15" y="40"/>
                    </a:lnTo>
                    <a:lnTo>
                      <a:pt x="23" y="45"/>
                    </a:lnTo>
                    <a:lnTo>
                      <a:pt x="32" y="51"/>
                    </a:lnTo>
                    <a:lnTo>
                      <a:pt x="41" y="56"/>
                    </a:lnTo>
                    <a:lnTo>
                      <a:pt x="51" y="60"/>
                    </a:lnTo>
                    <a:lnTo>
                      <a:pt x="60" y="64"/>
                    </a:lnTo>
                    <a:lnTo>
                      <a:pt x="71" y="66"/>
                    </a:lnTo>
                    <a:lnTo>
                      <a:pt x="76" y="32"/>
                    </a:lnTo>
                    <a:lnTo>
                      <a:pt x="70" y="30"/>
                    </a:lnTo>
                    <a:lnTo>
                      <a:pt x="63" y="28"/>
                    </a:lnTo>
                    <a:lnTo>
                      <a:pt x="57" y="24"/>
                    </a:lnTo>
                    <a:lnTo>
                      <a:pt x="50" y="21"/>
                    </a:lnTo>
                    <a:lnTo>
                      <a:pt x="42" y="16"/>
                    </a:lnTo>
                    <a:lnTo>
                      <a:pt x="35" y="11"/>
                    </a:lnTo>
                    <a:lnTo>
                      <a:pt x="28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125960" y="17398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0" y="14"/>
                    </a:moveTo>
                    <a:lnTo>
                      <a:pt x="0" y="14"/>
                    </a:lnTo>
                    <a:lnTo>
                      <a:pt x="5" y="24"/>
                    </a:lnTo>
                    <a:lnTo>
                      <a:pt x="11" y="33"/>
                    </a:lnTo>
                    <a:lnTo>
                      <a:pt x="18" y="41"/>
                    </a:lnTo>
                    <a:lnTo>
                      <a:pt x="25" y="47"/>
                    </a:lnTo>
                    <a:lnTo>
                      <a:pt x="33" y="54"/>
                    </a:lnTo>
                    <a:lnTo>
                      <a:pt x="41" y="60"/>
                    </a:lnTo>
                    <a:lnTo>
                      <a:pt x="48" y="65"/>
                    </a:lnTo>
                    <a:lnTo>
                      <a:pt x="55" y="70"/>
                    </a:lnTo>
                    <a:lnTo>
                      <a:pt x="76" y="42"/>
                    </a:lnTo>
                    <a:lnTo>
                      <a:pt x="69" y="38"/>
                    </a:lnTo>
                    <a:lnTo>
                      <a:pt x="61" y="32"/>
                    </a:lnTo>
                    <a:lnTo>
                      <a:pt x="55" y="27"/>
                    </a:lnTo>
                    <a:lnTo>
                      <a:pt x="49" y="22"/>
                    </a:lnTo>
                    <a:lnTo>
                      <a:pt x="43" y="17"/>
                    </a:lnTo>
                    <a:lnTo>
                      <a:pt x="39" y="11"/>
                    </a:lnTo>
                    <a:lnTo>
                      <a:pt x="35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124160" y="171936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21" y="0"/>
                    </a:moveTo>
                    <a:lnTo>
                      <a:pt x="21" y="0"/>
                    </a:lnTo>
                    <a:lnTo>
                      <a:pt x="13" y="7"/>
                    </a:lnTo>
                    <a:lnTo>
                      <a:pt x="7" y="14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1" y="58"/>
                    </a:lnTo>
                    <a:lnTo>
                      <a:pt x="3" y="66"/>
                    </a:lnTo>
                    <a:lnTo>
                      <a:pt x="36" y="52"/>
                    </a:lnTo>
                    <a:lnTo>
                      <a:pt x="34" y="50"/>
                    </a:lnTo>
                    <a:lnTo>
                      <a:pt x="34" y="46"/>
                    </a:lnTo>
                    <a:lnTo>
                      <a:pt x="33" y="42"/>
                    </a:lnTo>
                    <a:lnTo>
                      <a:pt x="34" y="38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7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32080" y="1712880"/>
                <a:ext cx="42840" cy="19080"/>
              </a:xfrm>
              <a:custGeom>
                <a:avLst/>
                <a:gdLst/>
                <a:ahLst/>
                <a:rect l="l" t="t" r="r" b="b"/>
                <a:pathLst>
                  <a:path w="107" h="48">
                    <a:moveTo>
                      <a:pt x="106" y="0"/>
                    </a:moveTo>
                    <a:lnTo>
                      <a:pt x="106" y="0"/>
                    </a:lnTo>
                    <a:lnTo>
                      <a:pt x="94" y="1"/>
                    </a:lnTo>
                    <a:lnTo>
                      <a:pt x="81" y="1"/>
                    </a:lnTo>
                    <a:lnTo>
                      <a:pt x="67" y="1"/>
                    </a:lnTo>
                    <a:lnTo>
                      <a:pt x="54" y="2"/>
                    </a:lnTo>
                    <a:lnTo>
                      <a:pt x="41" y="3"/>
                    </a:lnTo>
                    <a:lnTo>
                      <a:pt x="27" y="7"/>
                    </a:lnTo>
                    <a:lnTo>
                      <a:pt x="13" y="11"/>
                    </a:lnTo>
                    <a:lnTo>
                      <a:pt x="0" y="17"/>
                    </a:lnTo>
                    <a:lnTo>
                      <a:pt x="17" y="48"/>
                    </a:lnTo>
                    <a:lnTo>
                      <a:pt x="25" y="43"/>
                    </a:lnTo>
                    <a:lnTo>
                      <a:pt x="35" y="41"/>
                    </a:lnTo>
                    <a:lnTo>
                      <a:pt x="46" y="38"/>
                    </a:lnTo>
                    <a:lnTo>
                      <a:pt x="58" y="37"/>
                    </a:lnTo>
                    <a:lnTo>
                      <a:pt x="69" y="36"/>
                    </a:lnTo>
                    <a:lnTo>
                      <a:pt x="82" y="36"/>
                    </a:lnTo>
                    <a:lnTo>
                      <a:pt x="94" y="36"/>
                    </a:lnTo>
                    <a:lnTo>
                      <a:pt x="107" y="35"/>
                    </a:lnTo>
                    <a:lnTo>
                      <a:pt x="107" y="35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174920" y="1712880"/>
                <a:ext cx="66960" cy="15840"/>
              </a:xfrm>
              <a:custGeom>
                <a:avLst/>
                <a:gdLst/>
                <a:ahLst/>
                <a:rect l="l" t="t" r="r" b="b"/>
                <a:pathLst>
                  <a:path w="168" h="41">
                    <a:moveTo>
                      <a:pt x="165" y="6"/>
                    </a:moveTo>
                    <a:lnTo>
                      <a:pt x="165" y="6"/>
                    </a:lnTo>
                    <a:lnTo>
                      <a:pt x="146" y="6"/>
                    </a:lnTo>
                    <a:lnTo>
                      <a:pt x="126" y="6"/>
                    </a:lnTo>
                    <a:lnTo>
                      <a:pt x="105" y="5"/>
                    </a:lnTo>
                    <a:lnTo>
                      <a:pt x="85" y="3"/>
                    </a:lnTo>
                    <a:lnTo>
                      <a:pt x="63" y="2"/>
                    </a:lnTo>
                    <a:lnTo>
                      <a:pt x="43" y="1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1" y="35"/>
                    </a:lnTo>
                    <a:lnTo>
                      <a:pt x="21" y="35"/>
                    </a:lnTo>
                    <a:lnTo>
                      <a:pt x="41" y="36"/>
                    </a:lnTo>
                    <a:lnTo>
                      <a:pt x="62" y="37"/>
                    </a:lnTo>
                    <a:lnTo>
                      <a:pt x="83" y="38"/>
                    </a:lnTo>
                    <a:lnTo>
                      <a:pt x="103" y="39"/>
                    </a:lnTo>
                    <a:lnTo>
                      <a:pt x="125" y="41"/>
                    </a:lnTo>
                    <a:lnTo>
                      <a:pt x="146" y="41"/>
                    </a:lnTo>
                    <a:lnTo>
                      <a:pt x="168" y="39"/>
                    </a:lnTo>
                    <a:lnTo>
                      <a:pt x="168" y="39"/>
                    </a:lnTo>
                    <a:lnTo>
                      <a:pt x="165" y="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240080" y="1704960"/>
                <a:ext cx="41400" cy="23760"/>
              </a:xfrm>
              <a:custGeom>
                <a:avLst/>
                <a:gdLst/>
                <a:ahLst/>
                <a:rect l="l" t="t" r="r" b="b"/>
                <a:pathLst>
                  <a:path w="104" h="57">
                    <a:moveTo>
                      <a:pt x="96" y="0"/>
                    </a:moveTo>
                    <a:lnTo>
                      <a:pt x="96" y="0"/>
                    </a:lnTo>
                    <a:lnTo>
                      <a:pt x="83" y="2"/>
                    </a:lnTo>
                    <a:lnTo>
                      <a:pt x="70" y="6"/>
                    </a:lnTo>
                    <a:lnTo>
                      <a:pt x="58" y="11"/>
                    </a:lnTo>
                    <a:lnTo>
                      <a:pt x="46" y="14"/>
                    </a:lnTo>
                    <a:lnTo>
                      <a:pt x="35" y="17"/>
                    </a:lnTo>
                    <a:lnTo>
                      <a:pt x="23" y="20"/>
                    </a:lnTo>
                    <a:lnTo>
                      <a:pt x="12" y="21"/>
                    </a:lnTo>
                    <a:lnTo>
                      <a:pt x="0" y="24"/>
                    </a:lnTo>
                    <a:lnTo>
                      <a:pt x="3" y="57"/>
                    </a:lnTo>
                    <a:lnTo>
                      <a:pt x="17" y="56"/>
                    </a:lnTo>
                    <a:lnTo>
                      <a:pt x="30" y="54"/>
                    </a:lnTo>
                    <a:lnTo>
                      <a:pt x="44" y="50"/>
                    </a:lnTo>
                    <a:lnTo>
                      <a:pt x="56" y="47"/>
                    </a:lnTo>
                    <a:lnTo>
                      <a:pt x="69" y="43"/>
                    </a:lnTo>
                    <a:lnTo>
                      <a:pt x="81" y="39"/>
                    </a:lnTo>
                    <a:lnTo>
                      <a:pt x="93" y="36"/>
                    </a:lnTo>
                    <a:lnTo>
                      <a:pt x="104" y="33"/>
                    </a:lnTo>
                    <a:lnTo>
                      <a:pt x="104" y="33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78240" y="169848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71" h="50">
                    <a:moveTo>
                      <a:pt x="71" y="1"/>
                    </a:moveTo>
                    <a:lnTo>
                      <a:pt x="71" y="1"/>
                    </a:lnTo>
                    <a:lnTo>
                      <a:pt x="59" y="0"/>
                    </a:lnTo>
                    <a:lnTo>
                      <a:pt x="50" y="1"/>
                    </a:lnTo>
                    <a:lnTo>
                      <a:pt x="40" y="4"/>
                    </a:lnTo>
                    <a:lnTo>
                      <a:pt x="30" y="6"/>
                    </a:lnTo>
                    <a:lnTo>
                      <a:pt x="22" y="8"/>
                    </a:lnTo>
                    <a:lnTo>
                      <a:pt x="14" y="12"/>
                    </a:lnTo>
                    <a:lnTo>
                      <a:pt x="6" y="14"/>
                    </a:lnTo>
                    <a:lnTo>
                      <a:pt x="0" y="17"/>
                    </a:lnTo>
                    <a:lnTo>
                      <a:pt x="8" y="50"/>
                    </a:lnTo>
                    <a:lnTo>
                      <a:pt x="17" y="47"/>
                    </a:lnTo>
                    <a:lnTo>
                      <a:pt x="26" y="44"/>
                    </a:lnTo>
                    <a:lnTo>
                      <a:pt x="34" y="42"/>
                    </a:lnTo>
                    <a:lnTo>
                      <a:pt x="41" y="38"/>
                    </a:lnTo>
                    <a:lnTo>
                      <a:pt x="48" y="37"/>
                    </a:lnTo>
                    <a:lnTo>
                      <a:pt x="54" y="36"/>
                    </a:lnTo>
                    <a:lnTo>
                      <a:pt x="59" y="35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71" y="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303800" y="170028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30" h="82">
                    <a:moveTo>
                      <a:pt x="130" y="51"/>
                    </a:moveTo>
                    <a:lnTo>
                      <a:pt x="130" y="51"/>
                    </a:lnTo>
                    <a:lnTo>
                      <a:pt x="115" y="43"/>
                    </a:lnTo>
                    <a:lnTo>
                      <a:pt x="101" y="36"/>
                    </a:lnTo>
                    <a:lnTo>
                      <a:pt x="86" y="29"/>
                    </a:lnTo>
                    <a:lnTo>
                      <a:pt x="71" y="22"/>
                    </a:lnTo>
                    <a:lnTo>
                      <a:pt x="55" y="16"/>
                    </a:lnTo>
                    <a:lnTo>
                      <a:pt x="40" y="10"/>
                    </a:lnTo>
                    <a:lnTo>
                      <a:pt x="24" y="4"/>
                    </a:lnTo>
                    <a:lnTo>
                      <a:pt x="7" y="0"/>
                    </a:lnTo>
                    <a:lnTo>
                      <a:pt x="0" y="35"/>
                    </a:lnTo>
                    <a:lnTo>
                      <a:pt x="14" y="37"/>
                    </a:lnTo>
                    <a:lnTo>
                      <a:pt x="29" y="42"/>
                    </a:lnTo>
                    <a:lnTo>
                      <a:pt x="43" y="47"/>
                    </a:lnTo>
                    <a:lnTo>
                      <a:pt x="56" y="54"/>
                    </a:lnTo>
                    <a:lnTo>
                      <a:pt x="71" y="60"/>
                    </a:lnTo>
                    <a:lnTo>
                      <a:pt x="85" y="67"/>
                    </a:lnTo>
                    <a:lnTo>
                      <a:pt x="100" y="75"/>
                    </a:lnTo>
                    <a:lnTo>
                      <a:pt x="114" y="82"/>
                    </a:lnTo>
                    <a:lnTo>
                      <a:pt x="114" y="82"/>
                    </a:lnTo>
                    <a:lnTo>
                      <a:pt x="13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49520" y="1719360"/>
                <a:ext cx="41400" cy="34920"/>
              </a:xfrm>
              <a:custGeom>
                <a:avLst/>
                <a:gdLst/>
                <a:ahLst/>
                <a:rect l="l" t="t" r="r" b="b"/>
                <a:pathLst>
                  <a:path w="107" h="86">
                    <a:moveTo>
                      <a:pt x="107" y="52"/>
                    </a:moveTo>
                    <a:lnTo>
                      <a:pt x="107" y="52"/>
                    </a:lnTo>
                    <a:lnTo>
                      <a:pt x="96" y="49"/>
                    </a:lnTo>
                    <a:lnTo>
                      <a:pt x="85" y="43"/>
                    </a:lnTo>
                    <a:lnTo>
                      <a:pt x="74" y="37"/>
                    </a:lnTo>
                    <a:lnTo>
                      <a:pt x="62" y="30"/>
                    </a:lnTo>
                    <a:lnTo>
                      <a:pt x="52" y="21"/>
                    </a:lnTo>
                    <a:lnTo>
                      <a:pt x="40" y="14"/>
                    </a:lnTo>
                    <a:lnTo>
                      <a:pt x="28" y="7"/>
                    </a:lnTo>
                    <a:lnTo>
                      <a:pt x="16" y="0"/>
                    </a:lnTo>
                    <a:lnTo>
                      <a:pt x="0" y="31"/>
                    </a:lnTo>
                    <a:lnTo>
                      <a:pt x="11" y="37"/>
                    </a:lnTo>
                    <a:lnTo>
                      <a:pt x="22" y="44"/>
                    </a:lnTo>
                    <a:lnTo>
                      <a:pt x="32" y="51"/>
                    </a:lnTo>
                    <a:lnTo>
                      <a:pt x="44" y="58"/>
                    </a:lnTo>
                    <a:lnTo>
                      <a:pt x="55" y="66"/>
                    </a:lnTo>
                    <a:lnTo>
                      <a:pt x="68" y="73"/>
                    </a:lnTo>
                    <a:lnTo>
                      <a:pt x="80" y="80"/>
                    </a:lnTo>
                    <a:lnTo>
                      <a:pt x="95" y="86"/>
                    </a:lnTo>
                    <a:lnTo>
                      <a:pt x="95" y="86"/>
                    </a:lnTo>
                    <a:lnTo>
                      <a:pt x="107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86240" y="173988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97" h="50">
                    <a:moveTo>
                      <a:pt x="81" y="11"/>
                    </a:moveTo>
                    <a:lnTo>
                      <a:pt x="81" y="11"/>
                    </a:lnTo>
                    <a:lnTo>
                      <a:pt x="75" y="14"/>
                    </a:lnTo>
                    <a:lnTo>
                      <a:pt x="68" y="15"/>
                    </a:lnTo>
                    <a:lnTo>
                      <a:pt x="60" y="15"/>
                    </a:lnTo>
                    <a:lnTo>
                      <a:pt x="51" y="14"/>
                    </a:lnTo>
                    <a:lnTo>
                      <a:pt x="42" y="11"/>
                    </a:lnTo>
                    <a:lnTo>
                      <a:pt x="31" y="8"/>
                    </a:lnTo>
                    <a:lnTo>
                      <a:pt x="21" y="4"/>
                    </a:lnTo>
                    <a:lnTo>
                      <a:pt x="12" y="0"/>
                    </a:lnTo>
                    <a:lnTo>
                      <a:pt x="0" y="34"/>
                    </a:lnTo>
                    <a:lnTo>
                      <a:pt x="9" y="38"/>
                    </a:lnTo>
                    <a:lnTo>
                      <a:pt x="21" y="41"/>
                    </a:lnTo>
                    <a:lnTo>
                      <a:pt x="32" y="45"/>
                    </a:lnTo>
                    <a:lnTo>
                      <a:pt x="44" y="47"/>
                    </a:lnTo>
                    <a:lnTo>
                      <a:pt x="57" y="50"/>
                    </a:lnTo>
                    <a:lnTo>
                      <a:pt x="71" y="50"/>
                    </a:lnTo>
                    <a:lnTo>
                      <a:pt x="84" y="47"/>
                    </a:lnTo>
                    <a:lnTo>
                      <a:pt x="97" y="42"/>
                    </a:lnTo>
                    <a:lnTo>
                      <a:pt x="97" y="42"/>
                    </a:lnTo>
                    <a:lnTo>
                      <a:pt x="81" y="1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419360" y="1725480"/>
                <a:ext cx="19080" cy="32040"/>
              </a:xfrm>
              <a:custGeom>
                <a:avLst/>
                <a:gdLst/>
                <a:ahLst/>
                <a:rect l="l" t="t" r="r" b="b"/>
                <a:pathLst>
                  <a:path w="50" h="79">
                    <a:moveTo>
                      <a:pt x="15" y="1"/>
                    </a:moveTo>
                    <a:lnTo>
                      <a:pt x="15" y="1"/>
                    </a:lnTo>
                    <a:lnTo>
                      <a:pt x="15" y="9"/>
                    </a:lnTo>
                    <a:lnTo>
                      <a:pt x="15" y="17"/>
                    </a:lnTo>
                    <a:lnTo>
                      <a:pt x="14" y="24"/>
                    </a:lnTo>
                    <a:lnTo>
                      <a:pt x="11" y="31"/>
                    </a:lnTo>
                    <a:lnTo>
                      <a:pt x="9" y="37"/>
                    </a:lnTo>
                    <a:lnTo>
                      <a:pt x="6" y="43"/>
                    </a:lnTo>
                    <a:lnTo>
                      <a:pt x="4" y="46"/>
                    </a:lnTo>
                    <a:lnTo>
                      <a:pt x="0" y="48"/>
                    </a:lnTo>
                    <a:lnTo>
                      <a:pt x="16" y="79"/>
                    </a:lnTo>
                    <a:lnTo>
                      <a:pt x="27" y="72"/>
                    </a:lnTo>
                    <a:lnTo>
                      <a:pt x="34" y="63"/>
                    </a:lnTo>
                    <a:lnTo>
                      <a:pt x="40" y="53"/>
                    </a:lnTo>
                    <a:lnTo>
                      <a:pt x="45" y="42"/>
                    </a:lnTo>
                    <a:lnTo>
                      <a:pt x="47" y="31"/>
                    </a:lnTo>
                    <a:lnTo>
                      <a:pt x="50" y="21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14680" y="169560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62" h="79">
                    <a:moveTo>
                      <a:pt x="0" y="19"/>
                    </a:moveTo>
                    <a:lnTo>
                      <a:pt x="0" y="19"/>
                    </a:lnTo>
                    <a:lnTo>
                      <a:pt x="5" y="27"/>
                    </a:lnTo>
                    <a:lnTo>
                      <a:pt x="11" y="35"/>
                    </a:lnTo>
                    <a:lnTo>
                      <a:pt x="15" y="42"/>
                    </a:lnTo>
                    <a:lnTo>
                      <a:pt x="20" y="49"/>
                    </a:lnTo>
                    <a:lnTo>
                      <a:pt x="22" y="58"/>
                    </a:lnTo>
                    <a:lnTo>
                      <a:pt x="24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62" y="78"/>
                    </a:lnTo>
                    <a:lnTo>
                      <a:pt x="60" y="66"/>
                    </a:lnTo>
                    <a:lnTo>
                      <a:pt x="58" y="55"/>
                    </a:lnTo>
                    <a:lnTo>
                      <a:pt x="54" y="45"/>
                    </a:lnTo>
                    <a:lnTo>
                      <a:pt x="51" y="35"/>
                    </a:lnTo>
                    <a:lnTo>
                      <a:pt x="46" y="25"/>
                    </a:lnTo>
                    <a:lnTo>
                      <a:pt x="40" y="17"/>
                    </a:lnTo>
                    <a:lnTo>
                      <a:pt x="35" y="9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379760" y="1652760"/>
                <a:ext cx="46080" cy="48960"/>
              </a:xfrm>
              <a:custGeom>
                <a:avLst/>
                <a:gdLst/>
                <a:ahLst/>
                <a:rect l="l" t="t" r="r" b="b"/>
                <a:pathLst>
                  <a:path w="114" h="126">
                    <a:moveTo>
                      <a:pt x="0" y="27"/>
                    </a:moveTo>
                    <a:lnTo>
                      <a:pt x="0" y="27"/>
                    </a:lnTo>
                    <a:lnTo>
                      <a:pt x="12" y="38"/>
                    </a:lnTo>
                    <a:lnTo>
                      <a:pt x="24" y="50"/>
                    </a:lnTo>
                    <a:lnTo>
                      <a:pt x="35" y="62"/>
                    </a:lnTo>
                    <a:lnTo>
                      <a:pt x="46" y="74"/>
                    </a:lnTo>
                    <a:lnTo>
                      <a:pt x="57" y="87"/>
                    </a:lnTo>
                    <a:lnTo>
                      <a:pt x="66" y="100"/>
                    </a:lnTo>
                    <a:lnTo>
                      <a:pt x="76" y="113"/>
                    </a:lnTo>
                    <a:lnTo>
                      <a:pt x="85" y="126"/>
                    </a:lnTo>
                    <a:lnTo>
                      <a:pt x="114" y="107"/>
                    </a:lnTo>
                    <a:lnTo>
                      <a:pt x="105" y="93"/>
                    </a:lnTo>
                    <a:lnTo>
                      <a:pt x="94" y="78"/>
                    </a:lnTo>
                    <a:lnTo>
                      <a:pt x="83" y="65"/>
                    </a:lnTo>
                    <a:lnTo>
                      <a:pt x="72" y="51"/>
                    </a:lnTo>
                    <a:lnTo>
                      <a:pt x="61" y="38"/>
                    </a:lnTo>
                    <a:lnTo>
                      <a:pt x="49" y="26"/>
                    </a:lnTo>
                    <a:lnTo>
                      <a:pt x="36" y="12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329000" y="161604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151" h="117">
                    <a:moveTo>
                      <a:pt x="0" y="32"/>
                    </a:moveTo>
                    <a:lnTo>
                      <a:pt x="0" y="32"/>
                    </a:lnTo>
                    <a:lnTo>
                      <a:pt x="17" y="40"/>
                    </a:lnTo>
                    <a:lnTo>
                      <a:pt x="33" y="50"/>
                    </a:lnTo>
                    <a:lnTo>
                      <a:pt x="50" y="60"/>
                    </a:lnTo>
                    <a:lnTo>
                      <a:pt x="67" y="70"/>
                    </a:lnTo>
                    <a:lnTo>
                      <a:pt x="83" y="81"/>
                    </a:lnTo>
                    <a:lnTo>
                      <a:pt x="98" y="93"/>
                    </a:lnTo>
                    <a:lnTo>
                      <a:pt x="114" y="105"/>
                    </a:lnTo>
                    <a:lnTo>
                      <a:pt x="128" y="117"/>
                    </a:lnTo>
                    <a:lnTo>
                      <a:pt x="151" y="90"/>
                    </a:lnTo>
                    <a:lnTo>
                      <a:pt x="135" y="77"/>
                    </a:lnTo>
                    <a:lnTo>
                      <a:pt x="120" y="65"/>
                    </a:lnTo>
                    <a:lnTo>
                      <a:pt x="103" y="53"/>
                    </a:lnTo>
                    <a:lnTo>
                      <a:pt x="86" y="41"/>
                    </a:lnTo>
                    <a:lnTo>
                      <a:pt x="68" y="30"/>
                    </a:lnTo>
                    <a:lnTo>
                      <a:pt x="51" y="20"/>
                    </a:lnTo>
                    <a:lnTo>
                      <a:pt x="33" y="1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287600" y="1601640"/>
                <a:ext cx="47880" cy="27000"/>
              </a:xfrm>
              <a:custGeom>
                <a:avLst/>
                <a:gdLst/>
                <a:ahLst/>
                <a:rect l="l" t="t" r="r" b="b"/>
                <a:pathLst>
                  <a:path w="120" h="68">
                    <a:moveTo>
                      <a:pt x="0" y="34"/>
                    </a:moveTo>
                    <a:lnTo>
                      <a:pt x="0" y="34"/>
                    </a:lnTo>
                    <a:lnTo>
                      <a:pt x="15" y="38"/>
                    </a:lnTo>
                    <a:lnTo>
                      <a:pt x="28" y="41"/>
                    </a:lnTo>
                    <a:lnTo>
                      <a:pt x="41" y="45"/>
                    </a:lnTo>
                    <a:lnTo>
                      <a:pt x="54" y="48"/>
                    </a:lnTo>
                    <a:lnTo>
                      <a:pt x="68" y="52"/>
                    </a:lnTo>
                    <a:lnTo>
                      <a:pt x="81" y="57"/>
                    </a:lnTo>
                    <a:lnTo>
                      <a:pt x="93" y="62"/>
                    </a:lnTo>
                    <a:lnTo>
                      <a:pt x="105" y="68"/>
                    </a:lnTo>
                    <a:lnTo>
                      <a:pt x="120" y="36"/>
                    </a:lnTo>
                    <a:lnTo>
                      <a:pt x="106" y="29"/>
                    </a:lnTo>
                    <a:lnTo>
                      <a:pt x="93" y="24"/>
                    </a:lnTo>
                    <a:lnTo>
                      <a:pt x="78" y="20"/>
                    </a:lnTo>
                    <a:lnTo>
                      <a:pt x="64" y="15"/>
                    </a:lnTo>
                    <a:lnTo>
                      <a:pt x="51" y="11"/>
                    </a:lnTo>
                    <a:lnTo>
                      <a:pt x="36" y="8"/>
                    </a:lnTo>
                    <a:lnTo>
                      <a:pt x="22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251240" y="15955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102" h="49">
                    <a:moveTo>
                      <a:pt x="0" y="35"/>
                    </a:moveTo>
                    <a:lnTo>
                      <a:pt x="0" y="35"/>
                    </a:lnTo>
                    <a:lnTo>
                      <a:pt x="11" y="36"/>
                    </a:lnTo>
                    <a:lnTo>
                      <a:pt x="23" y="36"/>
                    </a:lnTo>
                    <a:lnTo>
                      <a:pt x="35" y="37"/>
                    </a:lnTo>
                    <a:lnTo>
                      <a:pt x="47" y="39"/>
                    </a:lnTo>
                    <a:lnTo>
                      <a:pt x="57" y="42"/>
                    </a:lnTo>
                    <a:lnTo>
                      <a:pt x="69" y="44"/>
                    </a:lnTo>
                    <a:lnTo>
                      <a:pt x="81" y="47"/>
                    </a:lnTo>
                    <a:lnTo>
                      <a:pt x="93" y="49"/>
                    </a:lnTo>
                    <a:lnTo>
                      <a:pt x="102" y="15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5" y="7"/>
                    </a:lnTo>
                    <a:lnTo>
                      <a:pt x="51" y="5"/>
                    </a:lnTo>
                    <a:lnTo>
                      <a:pt x="38" y="3"/>
                    </a:lnTo>
                    <a:lnTo>
                      <a:pt x="26" y="2"/>
                    </a:lnTo>
                    <a:lnTo>
                      <a:pt x="13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22800" y="159552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15" y="48"/>
                    </a:moveTo>
                    <a:lnTo>
                      <a:pt x="15" y="48"/>
                    </a:lnTo>
                    <a:lnTo>
                      <a:pt x="21" y="45"/>
                    </a:lnTo>
                    <a:lnTo>
                      <a:pt x="29" y="42"/>
                    </a:lnTo>
                    <a:lnTo>
                      <a:pt x="36" y="41"/>
                    </a:lnTo>
                    <a:lnTo>
                      <a:pt x="43" y="38"/>
                    </a:lnTo>
                    <a:lnTo>
                      <a:pt x="50" y="37"/>
                    </a:lnTo>
                    <a:lnTo>
                      <a:pt x="57" y="36"/>
                    </a:lnTo>
                    <a:lnTo>
                      <a:pt x="65" y="36"/>
                    </a:lnTo>
                    <a:lnTo>
                      <a:pt x="72" y="35"/>
                    </a:lnTo>
                    <a:lnTo>
                      <a:pt x="72" y="0"/>
                    </a:lnTo>
                    <a:lnTo>
                      <a:pt x="62" y="1"/>
                    </a:lnTo>
                    <a:lnTo>
                      <a:pt x="53" y="1"/>
                    </a:lnTo>
                    <a:lnTo>
                      <a:pt x="44" y="2"/>
                    </a:lnTo>
                    <a:lnTo>
                      <a:pt x="35" y="5"/>
                    </a:lnTo>
                    <a:lnTo>
                      <a:pt x="26" y="7"/>
                    </a:lnTo>
                    <a:lnTo>
                      <a:pt x="17" y="9"/>
                    </a:lnTo>
                    <a:lnTo>
                      <a:pt x="8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5" y="4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200480" y="16034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17" y="75"/>
                    </a:moveTo>
                    <a:lnTo>
                      <a:pt x="17" y="75"/>
                    </a:lnTo>
                    <a:lnTo>
                      <a:pt x="25" y="69"/>
                    </a:lnTo>
                    <a:lnTo>
                      <a:pt x="33" y="62"/>
                    </a:lnTo>
                    <a:lnTo>
                      <a:pt x="41" y="56"/>
                    </a:lnTo>
                    <a:lnTo>
                      <a:pt x="47" y="50"/>
                    </a:lnTo>
                    <a:lnTo>
                      <a:pt x="53" y="44"/>
                    </a:lnTo>
                    <a:lnTo>
                      <a:pt x="59" y="38"/>
                    </a:lnTo>
                    <a:lnTo>
                      <a:pt x="63" y="34"/>
                    </a:lnTo>
                    <a:lnTo>
                      <a:pt x="69" y="31"/>
                    </a:lnTo>
                    <a:lnTo>
                      <a:pt x="54" y="0"/>
                    </a:lnTo>
                    <a:lnTo>
                      <a:pt x="44" y="6"/>
                    </a:lnTo>
                    <a:lnTo>
                      <a:pt x="36" y="12"/>
                    </a:lnTo>
                    <a:lnTo>
                      <a:pt x="29" y="19"/>
                    </a:lnTo>
                    <a:lnTo>
                      <a:pt x="23" y="25"/>
                    </a:lnTo>
                    <a:lnTo>
                      <a:pt x="17" y="31"/>
                    </a:lnTo>
                    <a:lnTo>
                      <a:pt x="11" y="37"/>
                    </a:lnTo>
                    <a:lnTo>
                      <a:pt x="5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7" y="7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163760" y="1620720"/>
                <a:ext cx="43200" cy="28800"/>
              </a:xfrm>
              <a:custGeom>
                <a:avLst/>
                <a:gdLst/>
                <a:ahLst/>
                <a:rect l="l" t="t" r="r" b="b"/>
                <a:pathLst>
                  <a:path w="111" h="72">
                    <a:moveTo>
                      <a:pt x="7" y="72"/>
                    </a:moveTo>
                    <a:lnTo>
                      <a:pt x="7" y="72"/>
                    </a:lnTo>
                    <a:lnTo>
                      <a:pt x="21" y="68"/>
                    </a:lnTo>
                    <a:lnTo>
                      <a:pt x="35" y="65"/>
                    </a:lnTo>
                    <a:lnTo>
                      <a:pt x="48" y="60"/>
                    </a:lnTo>
                    <a:lnTo>
                      <a:pt x="60" y="55"/>
                    </a:lnTo>
                    <a:lnTo>
                      <a:pt x="73" y="49"/>
                    </a:lnTo>
                    <a:lnTo>
                      <a:pt x="85" y="43"/>
                    </a:lnTo>
                    <a:lnTo>
                      <a:pt x="99" y="37"/>
                    </a:lnTo>
                    <a:lnTo>
                      <a:pt x="111" y="31"/>
                    </a:lnTo>
                    <a:lnTo>
                      <a:pt x="94" y="0"/>
                    </a:lnTo>
                    <a:lnTo>
                      <a:pt x="82" y="6"/>
                    </a:lnTo>
                    <a:lnTo>
                      <a:pt x="71" y="12"/>
                    </a:lnTo>
                    <a:lnTo>
                      <a:pt x="59" y="18"/>
                    </a:lnTo>
                    <a:lnTo>
                      <a:pt x="47" y="23"/>
                    </a:lnTo>
                    <a:lnTo>
                      <a:pt x="36" y="28"/>
                    </a:lnTo>
                    <a:lnTo>
                      <a:pt x="24" y="31"/>
                    </a:lnTo>
                    <a:lnTo>
                      <a:pt x="12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7" y="7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145040" y="163512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52" h="37">
                    <a:moveTo>
                      <a:pt x="0" y="17"/>
                    </a:moveTo>
                    <a:lnTo>
                      <a:pt x="0" y="17"/>
                    </a:lnTo>
                    <a:lnTo>
                      <a:pt x="4" y="24"/>
                    </a:lnTo>
                    <a:lnTo>
                      <a:pt x="12" y="30"/>
                    </a:lnTo>
                    <a:lnTo>
                      <a:pt x="19" y="34"/>
                    </a:lnTo>
                    <a:lnTo>
                      <a:pt x="25" y="36"/>
                    </a:lnTo>
                    <a:lnTo>
                      <a:pt x="32" y="37"/>
                    </a:lnTo>
                    <a:lnTo>
                      <a:pt x="39" y="37"/>
                    </a:lnTo>
                    <a:lnTo>
                      <a:pt x="46" y="37"/>
                    </a:lnTo>
                    <a:lnTo>
                      <a:pt x="52" y="36"/>
                    </a:lnTo>
                    <a:lnTo>
                      <a:pt x="45" y="1"/>
                    </a:lnTo>
                    <a:lnTo>
                      <a:pt x="43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141800" y="1612800"/>
                <a:ext cx="15840" cy="28800"/>
              </a:xfrm>
              <a:custGeom>
                <a:avLst/>
                <a:gdLst/>
                <a:ahLst/>
                <a:rect l="l" t="t" r="r" b="b"/>
                <a:pathLst>
                  <a:path w="40" h="72">
                    <a:moveTo>
                      <a:pt x="10" y="0"/>
                    </a:moveTo>
                    <a:lnTo>
                      <a:pt x="10" y="0"/>
                    </a:lnTo>
                    <a:lnTo>
                      <a:pt x="5" y="9"/>
                    </a:lnTo>
                    <a:lnTo>
                      <a:pt x="2" y="18"/>
                    </a:lnTo>
                    <a:lnTo>
                      <a:pt x="0" y="27"/>
                    </a:lnTo>
                    <a:lnTo>
                      <a:pt x="0" y="37"/>
                    </a:lnTo>
                    <a:lnTo>
                      <a:pt x="1" y="47"/>
                    </a:lnTo>
                    <a:lnTo>
                      <a:pt x="2" y="55"/>
                    </a:lnTo>
                    <a:lnTo>
                      <a:pt x="5" y="63"/>
                    </a:lnTo>
                    <a:lnTo>
                      <a:pt x="10" y="72"/>
                    </a:lnTo>
                    <a:lnTo>
                      <a:pt x="40" y="56"/>
                    </a:lnTo>
                    <a:lnTo>
                      <a:pt x="37" y="51"/>
                    </a:lnTo>
                    <a:lnTo>
                      <a:pt x="36" y="47"/>
                    </a:lnTo>
                    <a:lnTo>
                      <a:pt x="35" y="42"/>
                    </a:lnTo>
                    <a:lnTo>
                      <a:pt x="35" y="36"/>
                    </a:lnTo>
                    <a:lnTo>
                      <a:pt x="35" y="31"/>
                    </a:lnTo>
                    <a:lnTo>
                      <a:pt x="36" y="26"/>
                    </a:lnTo>
                    <a:lnTo>
                      <a:pt x="37" y="23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145040" y="1574640"/>
                <a:ext cx="48960" cy="46080"/>
              </a:xfrm>
              <a:custGeom>
                <a:avLst/>
                <a:gdLst/>
                <a:ahLst/>
                <a:rect l="l" t="t" r="r" b="b"/>
                <a:pathLst>
                  <a:path w="122" h="117">
                    <a:moveTo>
                      <a:pt x="103" y="0"/>
                    </a:moveTo>
                    <a:lnTo>
                      <a:pt x="103" y="0"/>
                    </a:lnTo>
                    <a:lnTo>
                      <a:pt x="88" y="10"/>
                    </a:lnTo>
                    <a:lnTo>
                      <a:pt x="74" y="20"/>
                    </a:lnTo>
                    <a:lnTo>
                      <a:pt x="61" y="32"/>
                    </a:lnTo>
                    <a:lnTo>
                      <a:pt x="48" y="43"/>
                    </a:lnTo>
                    <a:lnTo>
                      <a:pt x="34" y="56"/>
                    </a:lnTo>
                    <a:lnTo>
                      <a:pt x="22" y="69"/>
                    </a:lnTo>
                    <a:lnTo>
                      <a:pt x="10" y="82"/>
                    </a:lnTo>
                    <a:lnTo>
                      <a:pt x="0" y="97"/>
                    </a:lnTo>
                    <a:lnTo>
                      <a:pt x="28" y="117"/>
                    </a:lnTo>
                    <a:lnTo>
                      <a:pt x="38" y="104"/>
                    </a:lnTo>
                    <a:lnTo>
                      <a:pt x="48" y="92"/>
                    </a:lnTo>
                    <a:lnTo>
                      <a:pt x="60" y="80"/>
                    </a:lnTo>
                    <a:lnTo>
                      <a:pt x="70" y="69"/>
                    </a:lnTo>
                    <a:lnTo>
                      <a:pt x="82" y="58"/>
                    </a:lnTo>
                    <a:lnTo>
                      <a:pt x="96" y="48"/>
                    </a:lnTo>
                    <a:lnTo>
                      <a:pt x="109" y="38"/>
                    </a:lnTo>
                    <a:lnTo>
                      <a:pt x="122" y="28"/>
                    </a:lnTo>
                    <a:lnTo>
                      <a:pt x="122" y="28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186080" y="155880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96" h="66">
                    <a:moveTo>
                      <a:pt x="90" y="0"/>
                    </a:moveTo>
                    <a:lnTo>
                      <a:pt x="90" y="0"/>
                    </a:lnTo>
                    <a:lnTo>
                      <a:pt x="78" y="3"/>
                    </a:lnTo>
                    <a:lnTo>
                      <a:pt x="66" y="6"/>
                    </a:lnTo>
                    <a:lnTo>
                      <a:pt x="54" y="10"/>
                    </a:lnTo>
                    <a:lnTo>
                      <a:pt x="43" y="15"/>
                    </a:lnTo>
                    <a:lnTo>
                      <a:pt x="31" y="20"/>
                    </a:lnTo>
                    <a:lnTo>
                      <a:pt x="20" y="24"/>
                    </a:lnTo>
                    <a:lnTo>
                      <a:pt x="9" y="30"/>
                    </a:lnTo>
                    <a:lnTo>
                      <a:pt x="0" y="38"/>
                    </a:lnTo>
                    <a:lnTo>
                      <a:pt x="19" y="66"/>
                    </a:lnTo>
                    <a:lnTo>
                      <a:pt x="27" y="60"/>
                    </a:lnTo>
                    <a:lnTo>
                      <a:pt x="37" y="56"/>
                    </a:lnTo>
                    <a:lnTo>
                      <a:pt x="47" y="51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5" y="40"/>
                    </a:lnTo>
                    <a:lnTo>
                      <a:pt x="86" y="36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222800" y="1557360"/>
                <a:ext cx="47520" cy="15840"/>
              </a:xfrm>
              <a:custGeom>
                <a:avLst/>
                <a:gdLst/>
                <a:ahLst/>
                <a:rect l="l" t="t" r="r" b="b"/>
                <a:pathLst>
                  <a:path w="121" h="41">
                    <a:moveTo>
                      <a:pt x="121" y="2"/>
                    </a:moveTo>
                    <a:lnTo>
                      <a:pt x="121" y="2"/>
                    </a:lnTo>
                    <a:lnTo>
                      <a:pt x="105" y="2"/>
                    </a:lnTo>
                    <a:lnTo>
                      <a:pt x="91" y="2"/>
                    </a:lnTo>
                    <a:lnTo>
                      <a:pt x="77" y="0"/>
                    </a:lnTo>
                    <a:lnTo>
                      <a:pt x="61" y="0"/>
                    </a:lnTo>
                    <a:lnTo>
                      <a:pt x="45" y="2"/>
                    </a:lnTo>
                    <a:lnTo>
                      <a:pt x="31" y="3"/>
                    </a:lnTo>
                    <a:lnTo>
                      <a:pt x="15" y="4"/>
                    </a:lnTo>
                    <a:lnTo>
                      <a:pt x="0" y="6"/>
                    </a:lnTo>
                    <a:lnTo>
                      <a:pt x="6" y="41"/>
                    </a:lnTo>
                    <a:lnTo>
                      <a:pt x="20" y="39"/>
                    </a:lnTo>
                    <a:lnTo>
                      <a:pt x="33" y="38"/>
                    </a:lnTo>
                    <a:lnTo>
                      <a:pt x="48" y="36"/>
                    </a:lnTo>
                    <a:lnTo>
                      <a:pt x="62" y="35"/>
                    </a:lnTo>
                    <a:lnTo>
                      <a:pt x="77" y="35"/>
                    </a:lnTo>
                    <a:lnTo>
                      <a:pt x="91" y="36"/>
                    </a:lnTo>
                    <a:lnTo>
                      <a:pt x="105" y="36"/>
                    </a:lnTo>
                    <a:lnTo>
                      <a:pt x="121" y="36"/>
                    </a:lnTo>
                    <a:lnTo>
                      <a:pt x="121" y="36"/>
                    </a:lnTo>
                    <a:lnTo>
                      <a:pt x="121" y="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70320" y="1557360"/>
                <a:ext cx="66600" cy="15840"/>
              </a:xfrm>
              <a:custGeom>
                <a:avLst/>
                <a:gdLst/>
                <a:ahLst/>
                <a:rect l="l" t="t" r="r" b="b"/>
                <a:pathLst>
                  <a:path w="167" h="39">
                    <a:moveTo>
                      <a:pt x="167" y="4"/>
                    </a:moveTo>
                    <a:lnTo>
                      <a:pt x="167" y="4"/>
                    </a:lnTo>
                    <a:lnTo>
                      <a:pt x="146" y="3"/>
                    </a:lnTo>
                    <a:lnTo>
                      <a:pt x="125" y="2"/>
                    </a:lnTo>
                    <a:lnTo>
                      <a:pt x="104" y="2"/>
                    </a:lnTo>
                    <a:lnTo>
                      <a:pt x="84" y="1"/>
                    </a:lnTo>
                    <a:lnTo>
                      <a:pt x="62" y="1"/>
                    </a:lnTo>
                    <a:lnTo>
                      <a:pt x="42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20" y="34"/>
                    </a:lnTo>
                    <a:lnTo>
                      <a:pt x="41" y="34"/>
                    </a:lnTo>
                    <a:lnTo>
                      <a:pt x="61" y="34"/>
                    </a:lnTo>
                    <a:lnTo>
                      <a:pt x="83" y="36"/>
                    </a:lnTo>
                    <a:lnTo>
                      <a:pt x="103" y="36"/>
                    </a:lnTo>
                    <a:lnTo>
                      <a:pt x="124" y="37"/>
                    </a:lnTo>
                    <a:lnTo>
                      <a:pt x="145" y="38"/>
                    </a:lnTo>
                    <a:lnTo>
                      <a:pt x="166" y="39"/>
                    </a:lnTo>
                    <a:lnTo>
                      <a:pt x="166" y="39"/>
                    </a:lnTo>
                    <a:lnTo>
                      <a:pt x="167" y="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35480" y="1558800"/>
                <a:ext cx="48960" cy="17640"/>
              </a:xfrm>
              <a:custGeom>
                <a:avLst/>
                <a:gdLst/>
                <a:ahLst/>
                <a:rect l="l" t="t" r="r" b="b"/>
                <a:pathLst>
                  <a:path w="123" h="45">
                    <a:moveTo>
                      <a:pt x="123" y="10"/>
                    </a:moveTo>
                    <a:lnTo>
                      <a:pt x="123" y="10"/>
                    </a:lnTo>
                    <a:lnTo>
                      <a:pt x="108" y="10"/>
                    </a:lnTo>
                    <a:lnTo>
                      <a:pt x="93" y="9"/>
                    </a:lnTo>
                    <a:lnTo>
                      <a:pt x="79" y="8"/>
                    </a:lnTo>
                    <a:lnTo>
                      <a:pt x="63" y="6"/>
                    </a:lnTo>
                    <a:lnTo>
                      <a:pt x="48" y="4"/>
                    </a:lnTo>
                    <a:lnTo>
                      <a:pt x="32" y="3"/>
                    </a:lnTo>
                    <a:lnTo>
                      <a:pt x="16" y="2"/>
                    </a:lnTo>
                    <a:lnTo>
                      <a:pt x="1" y="0"/>
                    </a:lnTo>
                    <a:lnTo>
                      <a:pt x="0" y="35"/>
                    </a:lnTo>
                    <a:lnTo>
                      <a:pt x="14" y="36"/>
                    </a:lnTo>
                    <a:lnTo>
                      <a:pt x="30" y="38"/>
                    </a:lnTo>
                    <a:lnTo>
                      <a:pt x="44" y="39"/>
                    </a:lnTo>
                    <a:lnTo>
                      <a:pt x="60" y="40"/>
                    </a:lnTo>
                    <a:lnTo>
                      <a:pt x="75" y="42"/>
                    </a:lnTo>
                    <a:lnTo>
                      <a:pt x="91" y="44"/>
                    </a:lnTo>
                    <a:lnTo>
                      <a:pt x="106" y="45"/>
                    </a:lnTo>
                    <a:lnTo>
                      <a:pt x="123" y="45"/>
                    </a:lnTo>
                    <a:lnTo>
                      <a:pt x="123" y="45"/>
                    </a:lnTo>
                    <a:lnTo>
                      <a:pt x="123" y="1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384440" y="156204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81" h="41">
                    <a:moveTo>
                      <a:pt x="57" y="0"/>
                    </a:moveTo>
                    <a:lnTo>
                      <a:pt x="57" y="0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2" y="5"/>
                    </a:lnTo>
                    <a:lnTo>
                      <a:pt x="35" y="6"/>
                    </a:lnTo>
                    <a:lnTo>
                      <a:pt x="28" y="6"/>
                    </a:lnTo>
                    <a:lnTo>
                      <a:pt x="18" y="6"/>
                    </a:lnTo>
                    <a:lnTo>
                      <a:pt x="10" y="5"/>
                    </a:lnTo>
                    <a:lnTo>
                      <a:pt x="0" y="5"/>
                    </a:lnTo>
                    <a:lnTo>
                      <a:pt x="0" y="40"/>
                    </a:lnTo>
                    <a:lnTo>
                      <a:pt x="9" y="40"/>
                    </a:lnTo>
                    <a:lnTo>
                      <a:pt x="17" y="40"/>
                    </a:lnTo>
                    <a:lnTo>
                      <a:pt x="27" y="41"/>
                    </a:lnTo>
                    <a:lnTo>
                      <a:pt x="37" y="41"/>
                    </a:lnTo>
                    <a:lnTo>
                      <a:pt x="48" y="40"/>
                    </a:lnTo>
                    <a:lnTo>
                      <a:pt x="59" y="37"/>
                    </a:lnTo>
                    <a:lnTo>
                      <a:pt x="70" y="33"/>
                    </a:lnTo>
                    <a:lnTo>
                      <a:pt x="81" y="25"/>
                    </a:lnTo>
                    <a:lnTo>
                      <a:pt x="81" y="2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127400" y="1311120"/>
                <a:ext cx="836640" cy="720720"/>
              </a:xfrm>
              <a:custGeom>
                <a:avLst/>
                <a:gdLst/>
                <a:ahLst/>
                <a:rect l="l" t="t" r="r" b="b"/>
                <a:pathLst>
                  <a:path w="2109" h="1816">
                    <a:moveTo>
                      <a:pt x="721" y="647"/>
                    </a:moveTo>
                    <a:lnTo>
                      <a:pt x="727" y="639"/>
                    </a:lnTo>
                    <a:lnTo>
                      <a:pt x="733" y="631"/>
                    </a:lnTo>
                    <a:lnTo>
                      <a:pt x="737" y="623"/>
                    </a:lnTo>
                    <a:lnTo>
                      <a:pt x="740" y="613"/>
                    </a:lnTo>
                    <a:lnTo>
                      <a:pt x="743" y="603"/>
                    </a:lnTo>
                    <a:lnTo>
                      <a:pt x="744" y="594"/>
                    </a:lnTo>
                    <a:lnTo>
                      <a:pt x="745" y="583"/>
                    </a:lnTo>
                    <a:lnTo>
                      <a:pt x="745" y="573"/>
                    </a:lnTo>
                    <a:lnTo>
                      <a:pt x="745" y="563"/>
                    </a:lnTo>
                    <a:lnTo>
                      <a:pt x="744" y="551"/>
                    </a:lnTo>
                    <a:lnTo>
                      <a:pt x="743" y="539"/>
                    </a:lnTo>
                    <a:lnTo>
                      <a:pt x="740" y="528"/>
                    </a:lnTo>
                    <a:lnTo>
                      <a:pt x="737" y="516"/>
                    </a:lnTo>
                    <a:lnTo>
                      <a:pt x="733" y="506"/>
                    </a:lnTo>
                    <a:lnTo>
                      <a:pt x="727" y="495"/>
                    </a:lnTo>
                    <a:lnTo>
                      <a:pt x="721" y="486"/>
                    </a:lnTo>
                    <a:lnTo>
                      <a:pt x="714" y="479"/>
                    </a:lnTo>
                    <a:lnTo>
                      <a:pt x="705" y="473"/>
                    </a:lnTo>
                    <a:lnTo>
                      <a:pt x="697" y="468"/>
                    </a:lnTo>
                    <a:lnTo>
                      <a:pt x="687" y="463"/>
                    </a:lnTo>
                    <a:lnTo>
                      <a:pt x="678" y="460"/>
                    </a:lnTo>
                    <a:lnTo>
                      <a:pt x="667" y="455"/>
                    </a:lnTo>
                    <a:lnTo>
                      <a:pt x="657" y="451"/>
                    </a:lnTo>
                    <a:lnTo>
                      <a:pt x="648" y="448"/>
                    </a:lnTo>
                    <a:lnTo>
                      <a:pt x="637" y="442"/>
                    </a:lnTo>
                    <a:lnTo>
                      <a:pt x="625" y="437"/>
                    </a:lnTo>
                    <a:lnTo>
                      <a:pt x="614" y="432"/>
                    </a:lnTo>
                    <a:lnTo>
                      <a:pt x="602" y="426"/>
                    </a:lnTo>
                    <a:lnTo>
                      <a:pt x="590" y="421"/>
                    </a:lnTo>
                    <a:lnTo>
                      <a:pt x="579" y="416"/>
                    </a:lnTo>
                    <a:lnTo>
                      <a:pt x="567" y="413"/>
                    </a:lnTo>
                    <a:lnTo>
                      <a:pt x="555" y="408"/>
                    </a:lnTo>
                    <a:lnTo>
                      <a:pt x="542" y="404"/>
                    </a:lnTo>
                    <a:lnTo>
                      <a:pt x="529" y="402"/>
                    </a:lnTo>
                    <a:lnTo>
                      <a:pt x="515" y="400"/>
                    </a:lnTo>
                    <a:lnTo>
                      <a:pt x="501" y="397"/>
                    </a:lnTo>
                    <a:lnTo>
                      <a:pt x="488" y="395"/>
                    </a:lnTo>
                    <a:lnTo>
                      <a:pt x="475" y="392"/>
                    </a:lnTo>
                    <a:lnTo>
                      <a:pt x="462" y="389"/>
                    </a:lnTo>
                    <a:lnTo>
                      <a:pt x="449" y="384"/>
                    </a:lnTo>
                    <a:lnTo>
                      <a:pt x="438" y="379"/>
                    </a:lnTo>
                    <a:lnTo>
                      <a:pt x="427" y="374"/>
                    </a:lnTo>
                    <a:lnTo>
                      <a:pt x="417" y="368"/>
                    </a:lnTo>
                    <a:lnTo>
                      <a:pt x="408" y="362"/>
                    </a:lnTo>
                    <a:lnTo>
                      <a:pt x="398" y="356"/>
                    </a:lnTo>
                    <a:lnTo>
                      <a:pt x="389" y="349"/>
                    </a:lnTo>
                    <a:lnTo>
                      <a:pt x="379" y="342"/>
                    </a:lnTo>
                    <a:lnTo>
                      <a:pt x="371" y="336"/>
                    </a:lnTo>
                    <a:lnTo>
                      <a:pt x="355" y="323"/>
                    </a:lnTo>
                    <a:lnTo>
                      <a:pt x="339" y="310"/>
                    </a:lnTo>
                    <a:lnTo>
                      <a:pt x="325" y="296"/>
                    </a:lnTo>
                    <a:lnTo>
                      <a:pt x="309" y="282"/>
                    </a:lnTo>
                    <a:lnTo>
                      <a:pt x="295" y="269"/>
                    </a:lnTo>
                    <a:lnTo>
                      <a:pt x="279" y="254"/>
                    </a:lnTo>
                    <a:lnTo>
                      <a:pt x="265" y="241"/>
                    </a:lnTo>
                    <a:lnTo>
                      <a:pt x="248" y="228"/>
                    </a:lnTo>
                    <a:lnTo>
                      <a:pt x="235" y="217"/>
                    </a:lnTo>
                    <a:lnTo>
                      <a:pt x="221" y="206"/>
                    </a:lnTo>
                    <a:lnTo>
                      <a:pt x="206" y="196"/>
                    </a:lnTo>
                    <a:lnTo>
                      <a:pt x="192" y="185"/>
                    </a:lnTo>
                    <a:lnTo>
                      <a:pt x="177" y="175"/>
                    </a:lnTo>
                    <a:lnTo>
                      <a:pt x="162" y="166"/>
                    </a:lnTo>
                    <a:lnTo>
                      <a:pt x="147" y="155"/>
                    </a:lnTo>
                    <a:lnTo>
                      <a:pt x="132" y="146"/>
                    </a:lnTo>
                    <a:lnTo>
                      <a:pt x="122" y="140"/>
                    </a:lnTo>
                    <a:lnTo>
                      <a:pt x="111" y="136"/>
                    </a:lnTo>
                    <a:lnTo>
                      <a:pt x="101" y="131"/>
                    </a:lnTo>
                    <a:lnTo>
                      <a:pt x="90" y="127"/>
                    </a:lnTo>
                    <a:lnTo>
                      <a:pt x="80" y="122"/>
                    </a:lnTo>
                    <a:lnTo>
                      <a:pt x="69" y="118"/>
                    </a:lnTo>
                    <a:lnTo>
                      <a:pt x="59" y="113"/>
                    </a:lnTo>
                    <a:lnTo>
                      <a:pt x="49" y="107"/>
                    </a:lnTo>
                    <a:lnTo>
                      <a:pt x="42" y="102"/>
                    </a:lnTo>
                    <a:lnTo>
                      <a:pt x="35" y="97"/>
                    </a:lnTo>
                    <a:lnTo>
                      <a:pt x="27" y="91"/>
                    </a:lnTo>
                    <a:lnTo>
                      <a:pt x="20" y="86"/>
                    </a:lnTo>
                    <a:lnTo>
                      <a:pt x="14" y="80"/>
                    </a:lnTo>
                    <a:lnTo>
                      <a:pt x="8" y="73"/>
                    </a:lnTo>
                    <a:lnTo>
                      <a:pt x="3" y="66"/>
                    </a:lnTo>
                    <a:lnTo>
                      <a:pt x="1" y="59"/>
                    </a:lnTo>
                    <a:lnTo>
                      <a:pt x="0" y="53"/>
                    </a:lnTo>
                    <a:lnTo>
                      <a:pt x="0" y="46"/>
                    </a:lnTo>
                    <a:lnTo>
                      <a:pt x="1" y="40"/>
                    </a:lnTo>
                    <a:lnTo>
                      <a:pt x="3" y="34"/>
                    </a:lnTo>
                    <a:lnTo>
                      <a:pt x="6" y="28"/>
                    </a:lnTo>
                    <a:lnTo>
                      <a:pt x="11" y="23"/>
                    </a:lnTo>
                    <a:lnTo>
                      <a:pt x="15" y="18"/>
                    </a:lnTo>
                    <a:lnTo>
                      <a:pt x="20" y="14"/>
                    </a:lnTo>
                    <a:lnTo>
                      <a:pt x="30" y="11"/>
                    </a:lnTo>
                    <a:lnTo>
                      <a:pt x="39" y="7"/>
                    </a:lnTo>
                    <a:lnTo>
                      <a:pt x="50" y="5"/>
                    </a:lnTo>
                    <a:lnTo>
                      <a:pt x="60" y="4"/>
                    </a:lnTo>
                    <a:lnTo>
                      <a:pt x="71" y="4"/>
                    </a:lnTo>
                    <a:lnTo>
                      <a:pt x="81" y="4"/>
                    </a:lnTo>
                    <a:lnTo>
                      <a:pt x="92" y="4"/>
                    </a:lnTo>
                    <a:lnTo>
                      <a:pt x="103" y="5"/>
                    </a:lnTo>
                    <a:lnTo>
                      <a:pt x="113" y="6"/>
                    </a:lnTo>
                    <a:lnTo>
                      <a:pt x="122" y="7"/>
                    </a:lnTo>
                    <a:lnTo>
                      <a:pt x="132" y="10"/>
                    </a:lnTo>
                    <a:lnTo>
                      <a:pt x="141" y="13"/>
                    </a:lnTo>
                    <a:lnTo>
                      <a:pt x="150" y="16"/>
                    </a:lnTo>
                    <a:lnTo>
                      <a:pt x="159" y="19"/>
                    </a:lnTo>
                    <a:lnTo>
                      <a:pt x="168" y="24"/>
                    </a:lnTo>
                    <a:lnTo>
                      <a:pt x="176" y="29"/>
                    </a:lnTo>
                    <a:lnTo>
                      <a:pt x="187" y="37"/>
                    </a:lnTo>
                    <a:lnTo>
                      <a:pt x="198" y="47"/>
                    </a:lnTo>
                    <a:lnTo>
                      <a:pt x="209" y="56"/>
                    </a:lnTo>
                    <a:lnTo>
                      <a:pt x="218" y="66"/>
                    </a:lnTo>
                    <a:lnTo>
                      <a:pt x="228" y="77"/>
                    </a:lnTo>
                    <a:lnTo>
                      <a:pt x="239" y="88"/>
                    </a:lnTo>
                    <a:lnTo>
                      <a:pt x="248" y="97"/>
                    </a:lnTo>
                    <a:lnTo>
                      <a:pt x="259" y="107"/>
                    </a:lnTo>
                    <a:lnTo>
                      <a:pt x="273" y="120"/>
                    </a:lnTo>
                    <a:lnTo>
                      <a:pt x="289" y="133"/>
                    </a:lnTo>
                    <a:lnTo>
                      <a:pt x="303" y="146"/>
                    </a:lnTo>
                    <a:lnTo>
                      <a:pt x="319" y="158"/>
                    </a:lnTo>
                    <a:lnTo>
                      <a:pt x="333" y="172"/>
                    </a:lnTo>
                    <a:lnTo>
                      <a:pt x="349" y="184"/>
                    </a:lnTo>
                    <a:lnTo>
                      <a:pt x="365" y="197"/>
                    </a:lnTo>
                    <a:lnTo>
                      <a:pt x="380" y="209"/>
                    </a:lnTo>
                    <a:lnTo>
                      <a:pt x="391" y="218"/>
                    </a:lnTo>
                    <a:lnTo>
                      <a:pt x="403" y="227"/>
                    </a:lnTo>
                    <a:lnTo>
                      <a:pt x="414" y="236"/>
                    </a:lnTo>
                    <a:lnTo>
                      <a:pt x="426" y="245"/>
                    </a:lnTo>
                    <a:lnTo>
                      <a:pt x="437" y="253"/>
                    </a:lnTo>
                    <a:lnTo>
                      <a:pt x="449" y="262"/>
                    </a:lnTo>
                    <a:lnTo>
                      <a:pt x="461" y="270"/>
                    </a:lnTo>
                    <a:lnTo>
                      <a:pt x="473" y="277"/>
                    </a:lnTo>
                    <a:lnTo>
                      <a:pt x="479" y="281"/>
                    </a:lnTo>
                    <a:lnTo>
                      <a:pt x="486" y="283"/>
                    </a:lnTo>
                    <a:lnTo>
                      <a:pt x="492" y="286"/>
                    </a:lnTo>
                    <a:lnTo>
                      <a:pt x="499" y="288"/>
                    </a:lnTo>
                    <a:lnTo>
                      <a:pt x="505" y="289"/>
                    </a:lnTo>
                    <a:lnTo>
                      <a:pt x="512" y="290"/>
                    </a:lnTo>
                    <a:lnTo>
                      <a:pt x="519" y="292"/>
                    </a:lnTo>
                    <a:lnTo>
                      <a:pt x="527" y="292"/>
                    </a:lnTo>
                    <a:lnTo>
                      <a:pt x="533" y="292"/>
                    </a:lnTo>
                    <a:lnTo>
                      <a:pt x="539" y="293"/>
                    </a:lnTo>
                    <a:lnTo>
                      <a:pt x="546" y="292"/>
                    </a:lnTo>
                    <a:lnTo>
                      <a:pt x="552" y="292"/>
                    </a:lnTo>
                    <a:lnTo>
                      <a:pt x="559" y="290"/>
                    </a:lnTo>
                    <a:lnTo>
                      <a:pt x="565" y="288"/>
                    </a:lnTo>
                    <a:lnTo>
                      <a:pt x="570" y="286"/>
                    </a:lnTo>
                    <a:lnTo>
                      <a:pt x="575" y="282"/>
                    </a:lnTo>
                    <a:lnTo>
                      <a:pt x="579" y="276"/>
                    </a:lnTo>
                    <a:lnTo>
                      <a:pt x="584" y="270"/>
                    </a:lnTo>
                    <a:lnTo>
                      <a:pt x="587" y="263"/>
                    </a:lnTo>
                    <a:lnTo>
                      <a:pt x="589" y="256"/>
                    </a:lnTo>
                    <a:lnTo>
                      <a:pt x="591" y="247"/>
                    </a:lnTo>
                    <a:lnTo>
                      <a:pt x="593" y="239"/>
                    </a:lnTo>
                    <a:lnTo>
                      <a:pt x="594" y="232"/>
                    </a:lnTo>
                    <a:lnTo>
                      <a:pt x="594" y="223"/>
                    </a:lnTo>
                    <a:lnTo>
                      <a:pt x="595" y="212"/>
                    </a:lnTo>
                    <a:lnTo>
                      <a:pt x="595" y="200"/>
                    </a:lnTo>
                    <a:lnTo>
                      <a:pt x="594" y="190"/>
                    </a:lnTo>
                    <a:lnTo>
                      <a:pt x="593" y="178"/>
                    </a:lnTo>
                    <a:lnTo>
                      <a:pt x="591" y="166"/>
                    </a:lnTo>
                    <a:lnTo>
                      <a:pt x="590" y="155"/>
                    </a:lnTo>
                    <a:lnTo>
                      <a:pt x="590" y="143"/>
                    </a:lnTo>
                    <a:lnTo>
                      <a:pt x="589" y="131"/>
                    </a:lnTo>
                    <a:lnTo>
                      <a:pt x="590" y="125"/>
                    </a:lnTo>
                    <a:lnTo>
                      <a:pt x="590" y="119"/>
                    </a:lnTo>
                    <a:lnTo>
                      <a:pt x="591" y="113"/>
                    </a:lnTo>
                    <a:lnTo>
                      <a:pt x="591" y="107"/>
                    </a:lnTo>
                    <a:lnTo>
                      <a:pt x="593" y="101"/>
                    </a:lnTo>
                    <a:lnTo>
                      <a:pt x="594" y="95"/>
                    </a:lnTo>
                    <a:lnTo>
                      <a:pt x="594" y="89"/>
                    </a:lnTo>
                    <a:lnTo>
                      <a:pt x="594" y="83"/>
                    </a:lnTo>
                    <a:lnTo>
                      <a:pt x="595" y="76"/>
                    </a:lnTo>
                    <a:lnTo>
                      <a:pt x="594" y="70"/>
                    </a:lnTo>
                    <a:lnTo>
                      <a:pt x="594" y="62"/>
                    </a:lnTo>
                    <a:lnTo>
                      <a:pt x="593" y="55"/>
                    </a:lnTo>
                    <a:lnTo>
                      <a:pt x="593" y="49"/>
                    </a:lnTo>
                    <a:lnTo>
                      <a:pt x="593" y="42"/>
                    </a:lnTo>
                    <a:lnTo>
                      <a:pt x="594" y="36"/>
                    </a:lnTo>
                    <a:lnTo>
                      <a:pt x="594" y="29"/>
                    </a:lnTo>
                    <a:lnTo>
                      <a:pt x="595" y="24"/>
                    </a:lnTo>
                    <a:lnTo>
                      <a:pt x="597" y="19"/>
                    </a:lnTo>
                    <a:lnTo>
                      <a:pt x="599" y="14"/>
                    </a:lnTo>
                    <a:lnTo>
                      <a:pt x="601" y="10"/>
                    </a:lnTo>
                    <a:lnTo>
                      <a:pt x="603" y="6"/>
                    </a:lnTo>
                    <a:lnTo>
                      <a:pt x="606" y="2"/>
                    </a:lnTo>
                    <a:lnTo>
                      <a:pt x="609" y="0"/>
                    </a:lnTo>
                    <a:lnTo>
                      <a:pt x="614" y="0"/>
                    </a:lnTo>
                    <a:lnTo>
                      <a:pt x="623" y="1"/>
                    </a:lnTo>
                    <a:lnTo>
                      <a:pt x="630" y="4"/>
                    </a:lnTo>
                    <a:lnTo>
                      <a:pt x="638" y="7"/>
                    </a:lnTo>
                    <a:lnTo>
                      <a:pt x="645" y="11"/>
                    </a:lnTo>
                    <a:lnTo>
                      <a:pt x="654" y="16"/>
                    </a:lnTo>
                    <a:lnTo>
                      <a:pt x="660" y="22"/>
                    </a:lnTo>
                    <a:lnTo>
                      <a:pt x="667" y="28"/>
                    </a:lnTo>
                    <a:lnTo>
                      <a:pt x="672" y="34"/>
                    </a:lnTo>
                    <a:lnTo>
                      <a:pt x="678" y="42"/>
                    </a:lnTo>
                    <a:lnTo>
                      <a:pt x="684" y="50"/>
                    </a:lnTo>
                    <a:lnTo>
                      <a:pt x="687" y="60"/>
                    </a:lnTo>
                    <a:lnTo>
                      <a:pt x="692" y="68"/>
                    </a:lnTo>
                    <a:lnTo>
                      <a:pt x="696" y="78"/>
                    </a:lnTo>
                    <a:lnTo>
                      <a:pt x="699" y="88"/>
                    </a:lnTo>
                    <a:lnTo>
                      <a:pt x="703" y="97"/>
                    </a:lnTo>
                    <a:lnTo>
                      <a:pt x="707" y="107"/>
                    </a:lnTo>
                    <a:lnTo>
                      <a:pt x="711" y="120"/>
                    </a:lnTo>
                    <a:lnTo>
                      <a:pt x="717" y="133"/>
                    </a:lnTo>
                    <a:lnTo>
                      <a:pt x="723" y="148"/>
                    </a:lnTo>
                    <a:lnTo>
                      <a:pt x="728" y="161"/>
                    </a:lnTo>
                    <a:lnTo>
                      <a:pt x="734" y="174"/>
                    </a:lnTo>
                    <a:lnTo>
                      <a:pt x="739" y="187"/>
                    </a:lnTo>
                    <a:lnTo>
                      <a:pt x="745" y="200"/>
                    </a:lnTo>
                    <a:lnTo>
                      <a:pt x="750" y="214"/>
                    </a:lnTo>
                    <a:lnTo>
                      <a:pt x="753" y="222"/>
                    </a:lnTo>
                    <a:lnTo>
                      <a:pt x="757" y="230"/>
                    </a:lnTo>
                    <a:lnTo>
                      <a:pt x="759" y="239"/>
                    </a:lnTo>
                    <a:lnTo>
                      <a:pt x="763" y="246"/>
                    </a:lnTo>
                    <a:lnTo>
                      <a:pt x="767" y="254"/>
                    </a:lnTo>
                    <a:lnTo>
                      <a:pt x="770" y="262"/>
                    </a:lnTo>
                    <a:lnTo>
                      <a:pt x="775" y="270"/>
                    </a:lnTo>
                    <a:lnTo>
                      <a:pt x="780" y="277"/>
                    </a:lnTo>
                    <a:lnTo>
                      <a:pt x="785" y="286"/>
                    </a:lnTo>
                    <a:lnTo>
                      <a:pt x="792" y="293"/>
                    </a:lnTo>
                    <a:lnTo>
                      <a:pt x="798" y="300"/>
                    </a:lnTo>
                    <a:lnTo>
                      <a:pt x="805" y="308"/>
                    </a:lnTo>
                    <a:lnTo>
                      <a:pt x="811" y="314"/>
                    </a:lnTo>
                    <a:lnTo>
                      <a:pt x="818" y="322"/>
                    </a:lnTo>
                    <a:lnTo>
                      <a:pt x="825" y="329"/>
                    </a:lnTo>
                    <a:lnTo>
                      <a:pt x="833" y="336"/>
                    </a:lnTo>
                    <a:lnTo>
                      <a:pt x="842" y="344"/>
                    </a:lnTo>
                    <a:lnTo>
                      <a:pt x="851" y="353"/>
                    </a:lnTo>
                    <a:lnTo>
                      <a:pt x="860" y="361"/>
                    </a:lnTo>
                    <a:lnTo>
                      <a:pt x="870" y="370"/>
                    </a:lnTo>
                    <a:lnTo>
                      <a:pt x="879" y="378"/>
                    </a:lnTo>
                    <a:lnTo>
                      <a:pt x="889" y="385"/>
                    </a:lnTo>
                    <a:lnTo>
                      <a:pt x="900" y="392"/>
                    </a:lnTo>
                    <a:lnTo>
                      <a:pt x="911" y="398"/>
                    </a:lnTo>
                    <a:lnTo>
                      <a:pt x="920" y="403"/>
                    </a:lnTo>
                    <a:lnTo>
                      <a:pt x="929" y="406"/>
                    </a:lnTo>
                    <a:lnTo>
                      <a:pt x="939" y="408"/>
                    </a:lnTo>
                    <a:lnTo>
                      <a:pt x="949" y="410"/>
                    </a:lnTo>
                    <a:lnTo>
                      <a:pt x="959" y="412"/>
                    </a:lnTo>
                    <a:lnTo>
                      <a:pt x="968" y="412"/>
                    </a:lnTo>
                    <a:lnTo>
                      <a:pt x="979" y="413"/>
                    </a:lnTo>
                    <a:lnTo>
                      <a:pt x="989" y="413"/>
                    </a:lnTo>
                    <a:lnTo>
                      <a:pt x="1001" y="414"/>
                    </a:lnTo>
                    <a:lnTo>
                      <a:pt x="1013" y="414"/>
                    </a:lnTo>
                    <a:lnTo>
                      <a:pt x="1026" y="414"/>
                    </a:lnTo>
                    <a:lnTo>
                      <a:pt x="1038" y="414"/>
                    </a:lnTo>
                    <a:lnTo>
                      <a:pt x="1050" y="413"/>
                    </a:lnTo>
                    <a:lnTo>
                      <a:pt x="1062" y="412"/>
                    </a:lnTo>
                    <a:lnTo>
                      <a:pt x="1074" y="410"/>
                    </a:lnTo>
                    <a:lnTo>
                      <a:pt x="1086" y="408"/>
                    </a:lnTo>
                    <a:lnTo>
                      <a:pt x="1094" y="407"/>
                    </a:lnTo>
                    <a:lnTo>
                      <a:pt x="1103" y="404"/>
                    </a:lnTo>
                    <a:lnTo>
                      <a:pt x="1111" y="403"/>
                    </a:lnTo>
                    <a:lnTo>
                      <a:pt x="1119" y="400"/>
                    </a:lnTo>
                    <a:lnTo>
                      <a:pt x="1128" y="397"/>
                    </a:lnTo>
                    <a:lnTo>
                      <a:pt x="1135" y="394"/>
                    </a:lnTo>
                    <a:lnTo>
                      <a:pt x="1142" y="389"/>
                    </a:lnTo>
                    <a:lnTo>
                      <a:pt x="1149" y="384"/>
                    </a:lnTo>
                    <a:lnTo>
                      <a:pt x="1157" y="379"/>
                    </a:lnTo>
                    <a:lnTo>
                      <a:pt x="1164" y="373"/>
                    </a:lnTo>
                    <a:lnTo>
                      <a:pt x="1171" y="367"/>
                    </a:lnTo>
                    <a:lnTo>
                      <a:pt x="1177" y="360"/>
                    </a:lnTo>
                    <a:lnTo>
                      <a:pt x="1183" y="354"/>
                    </a:lnTo>
                    <a:lnTo>
                      <a:pt x="1187" y="346"/>
                    </a:lnTo>
                    <a:lnTo>
                      <a:pt x="1188" y="342"/>
                    </a:lnTo>
                    <a:lnTo>
                      <a:pt x="1189" y="338"/>
                    </a:lnTo>
                    <a:lnTo>
                      <a:pt x="1189" y="335"/>
                    </a:lnTo>
                    <a:lnTo>
                      <a:pt x="1188" y="331"/>
                    </a:lnTo>
                    <a:lnTo>
                      <a:pt x="1187" y="326"/>
                    </a:lnTo>
                    <a:lnTo>
                      <a:pt x="1184" y="323"/>
                    </a:lnTo>
                    <a:lnTo>
                      <a:pt x="1182" y="319"/>
                    </a:lnTo>
                    <a:lnTo>
                      <a:pt x="1178" y="317"/>
                    </a:lnTo>
                    <a:lnTo>
                      <a:pt x="1171" y="312"/>
                    </a:lnTo>
                    <a:lnTo>
                      <a:pt x="1163" y="308"/>
                    </a:lnTo>
                    <a:lnTo>
                      <a:pt x="1153" y="306"/>
                    </a:lnTo>
                    <a:lnTo>
                      <a:pt x="1143" y="302"/>
                    </a:lnTo>
                    <a:lnTo>
                      <a:pt x="1134" y="300"/>
                    </a:lnTo>
                    <a:lnTo>
                      <a:pt x="1125" y="296"/>
                    </a:lnTo>
                    <a:lnTo>
                      <a:pt x="1115" y="293"/>
                    </a:lnTo>
                    <a:lnTo>
                      <a:pt x="1104" y="289"/>
                    </a:lnTo>
                    <a:lnTo>
                      <a:pt x="1094" y="286"/>
                    </a:lnTo>
                    <a:lnTo>
                      <a:pt x="1083" y="283"/>
                    </a:lnTo>
                    <a:lnTo>
                      <a:pt x="1073" y="280"/>
                    </a:lnTo>
                    <a:lnTo>
                      <a:pt x="1062" y="276"/>
                    </a:lnTo>
                    <a:lnTo>
                      <a:pt x="1052" y="272"/>
                    </a:lnTo>
                    <a:lnTo>
                      <a:pt x="1043" y="268"/>
                    </a:lnTo>
                    <a:lnTo>
                      <a:pt x="1035" y="264"/>
                    </a:lnTo>
                    <a:lnTo>
                      <a:pt x="1029" y="259"/>
                    </a:lnTo>
                    <a:lnTo>
                      <a:pt x="1023" y="256"/>
                    </a:lnTo>
                    <a:lnTo>
                      <a:pt x="1019" y="251"/>
                    </a:lnTo>
                    <a:lnTo>
                      <a:pt x="1013" y="245"/>
                    </a:lnTo>
                    <a:lnTo>
                      <a:pt x="1008" y="240"/>
                    </a:lnTo>
                    <a:lnTo>
                      <a:pt x="1003" y="234"/>
                    </a:lnTo>
                    <a:lnTo>
                      <a:pt x="998" y="228"/>
                    </a:lnTo>
                    <a:lnTo>
                      <a:pt x="995" y="222"/>
                    </a:lnTo>
                    <a:lnTo>
                      <a:pt x="990" y="216"/>
                    </a:lnTo>
                    <a:lnTo>
                      <a:pt x="986" y="210"/>
                    </a:lnTo>
                    <a:lnTo>
                      <a:pt x="984" y="203"/>
                    </a:lnTo>
                    <a:lnTo>
                      <a:pt x="980" y="197"/>
                    </a:lnTo>
                    <a:lnTo>
                      <a:pt x="978" y="190"/>
                    </a:lnTo>
                    <a:lnTo>
                      <a:pt x="975" y="182"/>
                    </a:lnTo>
                    <a:lnTo>
                      <a:pt x="974" y="175"/>
                    </a:lnTo>
                    <a:lnTo>
                      <a:pt x="973" y="170"/>
                    </a:lnTo>
                    <a:lnTo>
                      <a:pt x="972" y="164"/>
                    </a:lnTo>
                    <a:lnTo>
                      <a:pt x="972" y="160"/>
                    </a:lnTo>
                    <a:lnTo>
                      <a:pt x="972" y="154"/>
                    </a:lnTo>
                    <a:lnTo>
                      <a:pt x="973" y="149"/>
                    </a:lnTo>
                    <a:lnTo>
                      <a:pt x="974" y="144"/>
                    </a:lnTo>
                    <a:lnTo>
                      <a:pt x="975" y="140"/>
                    </a:lnTo>
                    <a:lnTo>
                      <a:pt x="979" y="136"/>
                    </a:lnTo>
                    <a:lnTo>
                      <a:pt x="984" y="132"/>
                    </a:lnTo>
                    <a:lnTo>
                      <a:pt x="990" y="130"/>
                    </a:lnTo>
                    <a:lnTo>
                      <a:pt x="996" y="127"/>
                    </a:lnTo>
                    <a:lnTo>
                      <a:pt x="1002" y="126"/>
                    </a:lnTo>
                    <a:lnTo>
                      <a:pt x="1008" y="126"/>
                    </a:lnTo>
                    <a:lnTo>
                      <a:pt x="1015" y="126"/>
                    </a:lnTo>
                    <a:lnTo>
                      <a:pt x="1021" y="126"/>
                    </a:lnTo>
                    <a:lnTo>
                      <a:pt x="1027" y="126"/>
                    </a:lnTo>
                    <a:lnTo>
                      <a:pt x="1035" y="127"/>
                    </a:lnTo>
                    <a:lnTo>
                      <a:pt x="1044" y="130"/>
                    </a:lnTo>
                    <a:lnTo>
                      <a:pt x="1051" y="132"/>
                    </a:lnTo>
                    <a:lnTo>
                      <a:pt x="1059" y="136"/>
                    </a:lnTo>
                    <a:lnTo>
                      <a:pt x="1067" y="138"/>
                    </a:lnTo>
                    <a:lnTo>
                      <a:pt x="1075" y="142"/>
                    </a:lnTo>
                    <a:lnTo>
                      <a:pt x="1083" y="144"/>
                    </a:lnTo>
                    <a:lnTo>
                      <a:pt x="1091" y="146"/>
                    </a:lnTo>
                    <a:lnTo>
                      <a:pt x="1100" y="148"/>
                    </a:lnTo>
                    <a:lnTo>
                      <a:pt x="1110" y="149"/>
                    </a:lnTo>
                    <a:lnTo>
                      <a:pt x="1119" y="151"/>
                    </a:lnTo>
                    <a:lnTo>
                      <a:pt x="1130" y="152"/>
                    </a:lnTo>
                    <a:lnTo>
                      <a:pt x="1140" y="154"/>
                    </a:lnTo>
                    <a:lnTo>
                      <a:pt x="1149" y="154"/>
                    </a:lnTo>
                    <a:lnTo>
                      <a:pt x="1159" y="155"/>
                    </a:lnTo>
                    <a:lnTo>
                      <a:pt x="1169" y="156"/>
                    </a:lnTo>
                    <a:lnTo>
                      <a:pt x="1179" y="156"/>
                    </a:lnTo>
                    <a:lnTo>
                      <a:pt x="1190" y="156"/>
                    </a:lnTo>
                    <a:lnTo>
                      <a:pt x="1201" y="156"/>
                    </a:lnTo>
                    <a:lnTo>
                      <a:pt x="1213" y="156"/>
                    </a:lnTo>
                    <a:lnTo>
                      <a:pt x="1224" y="156"/>
                    </a:lnTo>
                    <a:lnTo>
                      <a:pt x="1235" y="156"/>
                    </a:lnTo>
                    <a:lnTo>
                      <a:pt x="1245" y="156"/>
                    </a:lnTo>
                    <a:lnTo>
                      <a:pt x="1256" y="156"/>
                    </a:lnTo>
                    <a:lnTo>
                      <a:pt x="1263" y="155"/>
                    </a:lnTo>
                    <a:lnTo>
                      <a:pt x="1271" y="154"/>
                    </a:lnTo>
                    <a:lnTo>
                      <a:pt x="1278" y="152"/>
                    </a:lnTo>
                    <a:lnTo>
                      <a:pt x="1286" y="151"/>
                    </a:lnTo>
                    <a:lnTo>
                      <a:pt x="1293" y="150"/>
                    </a:lnTo>
                    <a:lnTo>
                      <a:pt x="1301" y="150"/>
                    </a:lnTo>
                    <a:lnTo>
                      <a:pt x="1308" y="150"/>
                    </a:lnTo>
                    <a:lnTo>
                      <a:pt x="1315" y="151"/>
                    </a:lnTo>
                    <a:lnTo>
                      <a:pt x="1321" y="152"/>
                    </a:lnTo>
                    <a:lnTo>
                      <a:pt x="1327" y="154"/>
                    </a:lnTo>
                    <a:lnTo>
                      <a:pt x="1333" y="156"/>
                    </a:lnTo>
                    <a:lnTo>
                      <a:pt x="1339" y="160"/>
                    </a:lnTo>
                    <a:lnTo>
                      <a:pt x="1345" y="162"/>
                    </a:lnTo>
                    <a:lnTo>
                      <a:pt x="1350" y="166"/>
                    </a:lnTo>
                    <a:lnTo>
                      <a:pt x="1355" y="170"/>
                    </a:lnTo>
                    <a:lnTo>
                      <a:pt x="1358" y="175"/>
                    </a:lnTo>
                    <a:lnTo>
                      <a:pt x="1362" y="180"/>
                    </a:lnTo>
                    <a:lnTo>
                      <a:pt x="1364" y="186"/>
                    </a:lnTo>
                    <a:lnTo>
                      <a:pt x="1367" y="192"/>
                    </a:lnTo>
                    <a:lnTo>
                      <a:pt x="1368" y="198"/>
                    </a:lnTo>
                    <a:lnTo>
                      <a:pt x="1369" y="204"/>
                    </a:lnTo>
                    <a:lnTo>
                      <a:pt x="1370" y="211"/>
                    </a:lnTo>
                    <a:lnTo>
                      <a:pt x="1371" y="217"/>
                    </a:lnTo>
                    <a:lnTo>
                      <a:pt x="1373" y="223"/>
                    </a:lnTo>
                    <a:lnTo>
                      <a:pt x="1377" y="240"/>
                    </a:lnTo>
                    <a:lnTo>
                      <a:pt x="1381" y="257"/>
                    </a:lnTo>
                    <a:lnTo>
                      <a:pt x="1386" y="272"/>
                    </a:lnTo>
                    <a:lnTo>
                      <a:pt x="1389" y="289"/>
                    </a:lnTo>
                    <a:lnTo>
                      <a:pt x="1393" y="306"/>
                    </a:lnTo>
                    <a:lnTo>
                      <a:pt x="1397" y="322"/>
                    </a:lnTo>
                    <a:lnTo>
                      <a:pt x="1399" y="338"/>
                    </a:lnTo>
                    <a:lnTo>
                      <a:pt x="1403" y="355"/>
                    </a:lnTo>
                    <a:lnTo>
                      <a:pt x="1404" y="370"/>
                    </a:lnTo>
                    <a:lnTo>
                      <a:pt x="1405" y="385"/>
                    </a:lnTo>
                    <a:lnTo>
                      <a:pt x="1406" y="401"/>
                    </a:lnTo>
                    <a:lnTo>
                      <a:pt x="1406" y="416"/>
                    </a:lnTo>
                    <a:lnTo>
                      <a:pt x="1406" y="431"/>
                    </a:lnTo>
                    <a:lnTo>
                      <a:pt x="1407" y="446"/>
                    </a:lnTo>
                    <a:lnTo>
                      <a:pt x="1410" y="462"/>
                    </a:lnTo>
                    <a:lnTo>
                      <a:pt x="1412" y="476"/>
                    </a:lnTo>
                    <a:lnTo>
                      <a:pt x="1415" y="486"/>
                    </a:lnTo>
                    <a:lnTo>
                      <a:pt x="1417" y="497"/>
                    </a:lnTo>
                    <a:lnTo>
                      <a:pt x="1421" y="506"/>
                    </a:lnTo>
                    <a:lnTo>
                      <a:pt x="1424" y="516"/>
                    </a:lnTo>
                    <a:lnTo>
                      <a:pt x="1428" y="525"/>
                    </a:lnTo>
                    <a:lnTo>
                      <a:pt x="1434" y="534"/>
                    </a:lnTo>
                    <a:lnTo>
                      <a:pt x="1440" y="542"/>
                    </a:lnTo>
                    <a:lnTo>
                      <a:pt x="1446" y="549"/>
                    </a:lnTo>
                    <a:lnTo>
                      <a:pt x="1451" y="553"/>
                    </a:lnTo>
                    <a:lnTo>
                      <a:pt x="1457" y="557"/>
                    </a:lnTo>
                    <a:lnTo>
                      <a:pt x="1464" y="558"/>
                    </a:lnTo>
                    <a:lnTo>
                      <a:pt x="1470" y="559"/>
                    </a:lnTo>
                    <a:lnTo>
                      <a:pt x="1477" y="560"/>
                    </a:lnTo>
                    <a:lnTo>
                      <a:pt x="1483" y="559"/>
                    </a:lnTo>
                    <a:lnTo>
                      <a:pt x="1489" y="557"/>
                    </a:lnTo>
                    <a:lnTo>
                      <a:pt x="1495" y="554"/>
                    </a:lnTo>
                    <a:lnTo>
                      <a:pt x="1506" y="546"/>
                    </a:lnTo>
                    <a:lnTo>
                      <a:pt x="1517" y="536"/>
                    </a:lnTo>
                    <a:lnTo>
                      <a:pt x="1526" y="525"/>
                    </a:lnTo>
                    <a:lnTo>
                      <a:pt x="1535" y="513"/>
                    </a:lnTo>
                    <a:lnTo>
                      <a:pt x="1543" y="501"/>
                    </a:lnTo>
                    <a:lnTo>
                      <a:pt x="1551" y="491"/>
                    </a:lnTo>
                    <a:lnTo>
                      <a:pt x="1560" y="479"/>
                    </a:lnTo>
                    <a:lnTo>
                      <a:pt x="1568" y="467"/>
                    </a:lnTo>
                    <a:lnTo>
                      <a:pt x="1579" y="452"/>
                    </a:lnTo>
                    <a:lnTo>
                      <a:pt x="1589" y="438"/>
                    </a:lnTo>
                    <a:lnTo>
                      <a:pt x="1599" y="424"/>
                    </a:lnTo>
                    <a:lnTo>
                      <a:pt x="1609" y="408"/>
                    </a:lnTo>
                    <a:lnTo>
                      <a:pt x="1620" y="394"/>
                    </a:lnTo>
                    <a:lnTo>
                      <a:pt x="1629" y="379"/>
                    </a:lnTo>
                    <a:lnTo>
                      <a:pt x="1640" y="365"/>
                    </a:lnTo>
                    <a:lnTo>
                      <a:pt x="1651" y="350"/>
                    </a:lnTo>
                    <a:lnTo>
                      <a:pt x="1658" y="340"/>
                    </a:lnTo>
                    <a:lnTo>
                      <a:pt x="1667" y="330"/>
                    </a:lnTo>
                    <a:lnTo>
                      <a:pt x="1675" y="319"/>
                    </a:lnTo>
                    <a:lnTo>
                      <a:pt x="1683" y="310"/>
                    </a:lnTo>
                    <a:lnTo>
                      <a:pt x="1692" y="300"/>
                    </a:lnTo>
                    <a:lnTo>
                      <a:pt x="1700" y="290"/>
                    </a:lnTo>
                    <a:lnTo>
                      <a:pt x="1710" y="281"/>
                    </a:lnTo>
                    <a:lnTo>
                      <a:pt x="1718" y="272"/>
                    </a:lnTo>
                    <a:lnTo>
                      <a:pt x="1724" y="268"/>
                    </a:lnTo>
                    <a:lnTo>
                      <a:pt x="1730" y="263"/>
                    </a:lnTo>
                    <a:lnTo>
                      <a:pt x="1736" y="258"/>
                    </a:lnTo>
                    <a:lnTo>
                      <a:pt x="1743" y="253"/>
                    </a:lnTo>
                    <a:lnTo>
                      <a:pt x="1749" y="250"/>
                    </a:lnTo>
                    <a:lnTo>
                      <a:pt x="1755" y="248"/>
                    </a:lnTo>
                    <a:lnTo>
                      <a:pt x="1758" y="248"/>
                    </a:lnTo>
                    <a:lnTo>
                      <a:pt x="1760" y="248"/>
                    </a:lnTo>
                    <a:lnTo>
                      <a:pt x="1761" y="251"/>
                    </a:lnTo>
                    <a:lnTo>
                      <a:pt x="1763" y="253"/>
                    </a:lnTo>
                    <a:lnTo>
                      <a:pt x="1767" y="270"/>
                    </a:lnTo>
                    <a:lnTo>
                      <a:pt x="1770" y="288"/>
                    </a:lnTo>
                    <a:lnTo>
                      <a:pt x="1771" y="305"/>
                    </a:lnTo>
                    <a:lnTo>
                      <a:pt x="1770" y="323"/>
                    </a:lnTo>
                    <a:lnTo>
                      <a:pt x="1769" y="341"/>
                    </a:lnTo>
                    <a:lnTo>
                      <a:pt x="1766" y="359"/>
                    </a:lnTo>
                    <a:lnTo>
                      <a:pt x="1763" y="377"/>
                    </a:lnTo>
                    <a:lnTo>
                      <a:pt x="1758" y="394"/>
                    </a:lnTo>
                    <a:lnTo>
                      <a:pt x="1748" y="424"/>
                    </a:lnTo>
                    <a:lnTo>
                      <a:pt x="1739" y="454"/>
                    </a:lnTo>
                    <a:lnTo>
                      <a:pt x="1727" y="483"/>
                    </a:lnTo>
                    <a:lnTo>
                      <a:pt x="1715" y="512"/>
                    </a:lnTo>
                    <a:lnTo>
                      <a:pt x="1701" y="541"/>
                    </a:lnTo>
                    <a:lnTo>
                      <a:pt x="1688" y="570"/>
                    </a:lnTo>
                    <a:lnTo>
                      <a:pt x="1674" y="599"/>
                    </a:lnTo>
                    <a:lnTo>
                      <a:pt x="1661" y="627"/>
                    </a:lnTo>
                    <a:lnTo>
                      <a:pt x="1652" y="643"/>
                    </a:lnTo>
                    <a:lnTo>
                      <a:pt x="1645" y="659"/>
                    </a:lnTo>
                    <a:lnTo>
                      <a:pt x="1637" y="674"/>
                    </a:lnTo>
                    <a:lnTo>
                      <a:pt x="1627" y="690"/>
                    </a:lnTo>
                    <a:lnTo>
                      <a:pt x="1619" y="705"/>
                    </a:lnTo>
                    <a:lnTo>
                      <a:pt x="1609" y="720"/>
                    </a:lnTo>
                    <a:lnTo>
                      <a:pt x="1598" y="734"/>
                    </a:lnTo>
                    <a:lnTo>
                      <a:pt x="1587" y="749"/>
                    </a:lnTo>
                    <a:lnTo>
                      <a:pt x="1579" y="757"/>
                    </a:lnTo>
                    <a:lnTo>
                      <a:pt x="1571" y="765"/>
                    </a:lnTo>
                    <a:lnTo>
                      <a:pt x="1562" y="773"/>
                    </a:lnTo>
                    <a:lnTo>
                      <a:pt x="1553" y="779"/>
                    </a:lnTo>
                    <a:lnTo>
                      <a:pt x="1543" y="786"/>
                    </a:lnTo>
                    <a:lnTo>
                      <a:pt x="1532" y="793"/>
                    </a:lnTo>
                    <a:lnTo>
                      <a:pt x="1524" y="799"/>
                    </a:lnTo>
                    <a:lnTo>
                      <a:pt x="1514" y="807"/>
                    </a:lnTo>
                    <a:lnTo>
                      <a:pt x="1511" y="811"/>
                    </a:lnTo>
                    <a:lnTo>
                      <a:pt x="1506" y="815"/>
                    </a:lnTo>
                    <a:lnTo>
                      <a:pt x="1501" y="818"/>
                    </a:lnTo>
                    <a:lnTo>
                      <a:pt x="1497" y="822"/>
                    </a:lnTo>
                    <a:lnTo>
                      <a:pt x="1493" y="827"/>
                    </a:lnTo>
                    <a:lnTo>
                      <a:pt x="1489" y="831"/>
                    </a:lnTo>
                    <a:lnTo>
                      <a:pt x="1487" y="836"/>
                    </a:lnTo>
                    <a:lnTo>
                      <a:pt x="1485" y="841"/>
                    </a:lnTo>
                    <a:lnTo>
                      <a:pt x="1484" y="847"/>
                    </a:lnTo>
                    <a:lnTo>
                      <a:pt x="1483" y="854"/>
                    </a:lnTo>
                    <a:lnTo>
                      <a:pt x="1483" y="861"/>
                    </a:lnTo>
                    <a:lnTo>
                      <a:pt x="1483" y="869"/>
                    </a:lnTo>
                    <a:lnTo>
                      <a:pt x="1484" y="875"/>
                    </a:lnTo>
                    <a:lnTo>
                      <a:pt x="1487" y="881"/>
                    </a:lnTo>
                    <a:lnTo>
                      <a:pt x="1490" y="885"/>
                    </a:lnTo>
                    <a:lnTo>
                      <a:pt x="1495" y="890"/>
                    </a:lnTo>
                    <a:lnTo>
                      <a:pt x="1505" y="895"/>
                    </a:lnTo>
                    <a:lnTo>
                      <a:pt x="1515" y="900"/>
                    </a:lnTo>
                    <a:lnTo>
                      <a:pt x="1526" y="902"/>
                    </a:lnTo>
                    <a:lnTo>
                      <a:pt x="1537" y="905"/>
                    </a:lnTo>
                    <a:lnTo>
                      <a:pt x="1549" y="906"/>
                    </a:lnTo>
                    <a:lnTo>
                      <a:pt x="1560" y="906"/>
                    </a:lnTo>
                    <a:lnTo>
                      <a:pt x="1572" y="906"/>
                    </a:lnTo>
                    <a:lnTo>
                      <a:pt x="1583" y="905"/>
                    </a:lnTo>
                    <a:lnTo>
                      <a:pt x="1595" y="902"/>
                    </a:lnTo>
                    <a:lnTo>
                      <a:pt x="1607" y="899"/>
                    </a:lnTo>
                    <a:lnTo>
                      <a:pt x="1619" y="895"/>
                    </a:lnTo>
                    <a:lnTo>
                      <a:pt x="1631" y="889"/>
                    </a:lnTo>
                    <a:lnTo>
                      <a:pt x="1641" y="883"/>
                    </a:lnTo>
                    <a:lnTo>
                      <a:pt x="1651" y="877"/>
                    </a:lnTo>
                    <a:lnTo>
                      <a:pt x="1662" y="869"/>
                    </a:lnTo>
                    <a:lnTo>
                      <a:pt x="1670" y="860"/>
                    </a:lnTo>
                    <a:lnTo>
                      <a:pt x="1685" y="843"/>
                    </a:lnTo>
                    <a:lnTo>
                      <a:pt x="1698" y="824"/>
                    </a:lnTo>
                    <a:lnTo>
                      <a:pt x="1710" y="804"/>
                    </a:lnTo>
                    <a:lnTo>
                      <a:pt x="1721" y="785"/>
                    </a:lnTo>
                    <a:lnTo>
                      <a:pt x="1731" y="763"/>
                    </a:lnTo>
                    <a:lnTo>
                      <a:pt x="1742" y="744"/>
                    </a:lnTo>
                    <a:lnTo>
                      <a:pt x="1754" y="723"/>
                    </a:lnTo>
                    <a:lnTo>
                      <a:pt x="1767" y="705"/>
                    </a:lnTo>
                    <a:lnTo>
                      <a:pt x="1777" y="692"/>
                    </a:lnTo>
                    <a:lnTo>
                      <a:pt x="1788" y="680"/>
                    </a:lnTo>
                    <a:lnTo>
                      <a:pt x="1799" y="669"/>
                    </a:lnTo>
                    <a:lnTo>
                      <a:pt x="1811" y="657"/>
                    </a:lnTo>
                    <a:lnTo>
                      <a:pt x="1823" y="647"/>
                    </a:lnTo>
                    <a:lnTo>
                      <a:pt x="1835" y="637"/>
                    </a:lnTo>
                    <a:lnTo>
                      <a:pt x="1847" y="627"/>
                    </a:lnTo>
                    <a:lnTo>
                      <a:pt x="1860" y="618"/>
                    </a:lnTo>
                    <a:lnTo>
                      <a:pt x="1868" y="612"/>
                    </a:lnTo>
                    <a:lnTo>
                      <a:pt x="1877" y="606"/>
                    </a:lnTo>
                    <a:lnTo>
                      <a:pt x="1885" y="601"/>
                    </a:lnTo>
                    <a:lnTo>
                      <a:pt x="1895" y="596"/>
                    </a:lnTo>
                    <a:lnTo>
                      <a:pt x="1904" y="593"/>
                    </a:lnTo>
                    <a:lnTo>
                      <a:pt x="1914" y="589"/>
                    </a:lnTo>
                    <a:lnTo>
                      <a:pt x="1923" y="588"/>
                    </a:lnTo>
                    <a:lnTo>
                      <a:pt x="1933" y="588"/>
                    </a:lnTo>
                    <a:lnTo>
                      <a:pt x="1943" y="590"/>
                    </a:lnTo>
                    <a:lnTo>
                      <a:pt x="1951" y="594"/>
                    </a:lnTo>
                    <a:lnTo>
                      <a:pt x="1959" y="599"/>
                    </a:lnTo>
                    <a:lnTo>
                      <a:pt x="1968" y="605"/>
                    </a:lnTo>
                    <a:lnTo>
                      <a:pt x="1975" y="611"/>
                    </a:lnTo>
                    <a:lnTo>
                      <a:pt x="1982" y="618"/>
                    </a:lnTo>
                    <a:lnTo>
                      <a:pt x="1989" y="625"/>
                    </a:lnTo>
                    <a:lnTo>
                      <a:pt x="1997" y="632"/>
                    </a:lnTo>
                    <a:lnTo>
                      <a:pt x="2003" y="639"/>
                    </a:lnTo>
                    <a:lnTo>
                      <a:pt x="2009" y="648"/>
                    </a:lnTo>
                    <a:lnTo>
                      <a:pt x="2015" y="656"/>
                    </a:lnTo>
                    <a:lnTo>
                      <a:pt x="2019" y="665"/>
                    </a:lnTo>
                    <a:lnTo>
                      <a:pt x="2025" y="673"/>
                    </a:lnTo>
                    <a:lnTo>
                      <a:pt x="2030" y="683"/>
                    </a:lnTo>
                    <a:lnTo>
                      <a:pt x="2035" y="691"/>
                    </a:lnTo>
                    <a:lnTo>
                      <a:pt x="2040" y="701"/>
                    </a:lnTo>
                    <a:lnTo>
                      <a:pt x="2048" y="713"/>
                    </a:lnTo>
                    <a:lnTo>
                      <a:pt x="2055" y="725"/>
                    </a:lnTo>
                    <a:lnTo>
                      <a:pt x="2064" y="738"/>
                    </a:lnTo>
                    <a:lnTo>
                      <a:pt x="2071" y="750"/>
                    </a:lnTo>
                    <a:lnTo>
                      <a:pt x="2079" y="763"/>
                    </a:lnTo>
                    <a:lnTo>
                      <a:pt x="2085" y="776"/>
                    </a:lnTo>
                    <a:lnTo>
                      <a:pt x="2093" y="788"/>
                    </a:lnTo>
                    <a:lnTo>
                      <a:pt x="2099" y="803"/>
                    </a:lnTo>
                    <a:lnTo>
                      <a:pt x="2101" y="810"/>
                    </a:lnTo>
                    <a:lnTo>
                      <a:pt x="2105" y="818"/>
                    </a:lnTo>
                    <a:lnTo>
                      <a:pt x="2106" y="827"/>
                    </a:lnTo>
                    <a:lnTo>
                      <a:pt x="2108" y="836"/>
                    </a:lnTo>
                    <a:lnTo>
                      <a:pt x="2109" y="845"/>
                    </a:lnTo>
                    <a:lnTo>
                      <a:pt x="2109" y="853"/>
                    </a:lnTo>
                    <a:lnTo>
                      <a:pt x="2109" y="861"/>
                    </a:lnTo>
                    <a:lnTo>
                      <a:pt x="2108" y="870"/>
                    </a:lnTo>
                    <a:lnTo>
                      <a:pt x="2107" y="876"/>
                    </a:lnTo>
                    <a:lnTo>
                      <a:pt x="2105" y="882"/>
                    </a:lnTo>
                    <a:lnTo>
                      <a:pt x="2102" y="888"/>
                    </a:lnTo>
                    <a:lnTo>
                      <a:pt x="2099" y="893"/>
                    </a:lnTo>
                    <a:lnTo>
                      <a:pt x="2094" y="897"/>
                    </a:lnTo>
                    <a:lnTo>
                      <a:pt x="2089" y="901"/>
                    </a:lnTo>
                    <a:lnTo>
                      <a:pt x="2084" y="903"/>
                    </a:lnTo>
                    <a:lnTo>
                      <a:pt x="2079" y="905"/>
                    </a:lnTo>
                    <a:lnTo>
                      <a:pt x="2070" y="905"/>
                    </a:lnTo>
                    <a:lnTo>
                      <a:pt x="2061" y="902"/>
                    </a:lnTo>
                    <a:lnTo>
                      <a:pt x="2053" y="900"/>
                    </a:lnTo>
                    <a:lnTo>
                      <a:pt x="2045" y="896"/>
                    </a:lnTo>
                    <a:lnTo>
                      <a:pt x="2037" y="891"/>
                    </a:lnTo>
                    <a:lnTo>
                      <a:pt x="2029" y="887"/>
                    </a:lnTo>
                    <a:lnTo>
                      <a:pt x="2022" y="881"/>
                    </a:lnTo>
                    <a:lnTo>
                      <a:pt x="2016" y="875"/>
                    </a:lnTo>
                    <a:lnTo>
                      <a:pt x="2007" y="866"/>
                    </a:lnTo>
                    <a:lnTo>
                      <a:pt x="1999" y="857"/>
                    </a:lnTo>
                    <a:lnTo>
                      <a:pt x="1992" y="846"/>
                    </a:lnTo>
                    <a:lnTo>
                      <a:pt x="1985" y="835"/>
                    </a:lnTo>
                    <a:lnTo>
                      <a:pt x="1979" y="824"/>
                    </a:lnTo>
                    <a:lnTo>
                      <a:pt x="1971" y="813"/>
                    </a:lnTo>
                    <a:lnTo>
                      <a:pt x="1964" y="803"/>
                    </a:lnTo>
                    <a:lnTo>
                      <a:pt x="1957" y="793"/>
                    </a:lnTo>
                    <a:lnTo>
                      <a:pt x="1952" y="786"/>
                    </a:lnTo>
                    <a:lnTo>
                      <a:pt x="1949" y="780"/>
                    </a:lnTo>
                    <a:lnTo>
                      <a:pt x="1944" y="773"/>
                    </a:lnTo>
                    <a:lnTo>
                      <a:pt x="1939" y="767"/>
                    </a:lnTo>
                    <a:lnTo>
                      <a:pt x="1934" y="761"/>
                    </a:lnTo>
                    <a:lnTo>
                      <a:pt x="1929" y="755"/>
                    </a:lnTo>
                    <a:lnTo>
                      <a:pt x="1925" y="749"/>
                    </a:lnTo>
                    <a:lnTo>
                      <a:pt x="1919" y="744"/>
                    </a:lnTo>
                    <a:lnTo>
                      <a:pt x="1916" y="743"/>
                    </a:lnTo>
                    <a:lnTo>
                      <a:pt x="1913" y="741"/>
                    </a:lnTo>
                    <a:lnTo>
                      <a:pt x="1909" y="740"/>
                    </a:lnTo>
                    <a:lnTo>
                      <a:pt x="1905" y="739"/>
                    </a:lnTo>
                    <a:lnTo>
                      <a:pt x="1902" y="740"/>
                    </a:lnTo>
                    <a:lnTo>
                      <a:pt x="1899" y="740"/>
                    </a:lnTo>
                    <a:lnTo>
                      <a:pt x="1896" y="741"/>
                    </a:lnTo>
                    <a:lnTo>
                      <a:pt x="1895" y="744"/>
                    </a:lnTo>
                    <a:lnTo>
                      <a:pt x="1885" y="757"/>
                    </a:lnTo>
                    <a:lnTo>
                      <a:pt x="1878" y="770"/>
                    </a:lnTo>
                    <a:lnTo>
                      <a:pt x="1871" y="785"/>
                    </a:lnTo>
                    <a:lnTo>
                      <a:pt x="1863" y="799"/>
                    </a:lnTo>
                    <a:lnTo>
                      <a:pt x="1857" y="813"/>
                    </a:lnTo>
                    <a:lnTo>
                      <a:pt x="1850" y="828"/>
                    </a:lnTo>
                    <a:lnTo>
                      <a:pt x="1843" y="842"/>
                    </a:lnTo>
                    <a:lnTo>
                      <a:pt x="1836" y="855"/>
                    </a:lnTo>
                    <a:lnTo>
                      <a:pt x="1827" y="870"/>
                    </a:lnTo>
                    <a:lnTo>
                      <a:pt x="1819" y="883"/>
                    </a:lnTo>
                    <a:lnTo>
                      <a:pt x="1811" y="897"/>
                    </a:lnTo>
                    <a:lnTo>
                      <a:pt x="1801" y="911"/>
                    </a:lnTo>
                    <a:lnTo>
                      <a:pt x="1793" y="924"/>
                    </a:lnTo>
                    <a:lnTo>
                      <a:pt x="1783" y="937"/>
                    </a:lnTo>
                    <a:lnTo>
                      <a:pt x="1773" y="950"/>
                    </a:lnTo>
                    <a:lnTo>
                      <a:pt x="1763" y="962"/>
                    </a:lnTo>
                    <a:lnTo>
                      <a:pt x="1753" y="974"/>
                    </a:lnTo>
                    <a:lnTo>
                      <a:pt x="1742" y="985"/>
                    </a:lnTo>
                    <a:lnTo>
                      <a:pt x="1731" y="996"/>
                    </a:lnTo>
                    <a:lnTo>
                      <a:pt x="1721" y="1007"/>
                    </a:lnTo>
                    <a:lnTo>
                      <a:pt x="1710" y="1016"/>
                    </a:lnTo>
                    <a:lnTo>
                      <a:pt x="1698" y="1026"/>
                    </a:lnTo>
                    <a:lnTo>
                      <a:pt x="1687" y="1035"/>
                    </a:lnTo>
                    <a:lnTo>
                      <a:pt x="1675" y="1045"/>
                    </a:lnTo>
                    <a:lnTo>
                      <a:pt x="1667" y="1052"/>
                    </a:lnTo>
                    <a:lnTo>
                      <a:pt x="1658" y="1058"/>
                    </a:lnTo>
                    <a:lnTo>
                      <a:pt x="1649" y="1064"/>
                    </a:lnTo>
                    <a:lnTo>
                      <a:pt x="1640" y="1070"/>
                    </a:lnTo>
                    <a:lnTo>
                      <a:pt x="1631" y="1075"/>
                    </a:lnTo>
                    <a:lnTo>
                      <a:pt x="1621" y="1080"/>
                    </a:lnTo>
                    <a:lnTo>
                      <a:pt x="1611" y="1085"/>
                    </a:lnTo>
                    <a:lnTo>
                      <a:pt x="1602" y="1089"/>
                    </a:lnTo>
                    <a:lnTo>
                      <a:pt x="1593" y="1092"/>
                    </a:lnTo>
                    <a:lnTo>
                      <a:pt x="1584" y="1094"/>
                    </a:lnTo>
                    <a:lnTo>
                      <a:pt x="1575" y="1095"/>
                    </a:lnTo>
                    <a:lnTo>
                      <a:pt x="1566" y="1098"/>
                    </a:lnTo>
                    <a:lnTo>
                      <a:pt x="1556" y="1099"/>
                    </a:lnTo>
                    <a:lnTo>
                      <a:pt x="1547" y="1100"/>
                    </a:lnTo>
                    <a:lnTo>
                      <a:pt x="1538" y="1101"/>
                    </a:lnTo>
                    <a:lnTo>
                      <a:pt x="1529" y="1104"/>
                    </a:lnTo>
                    <a:lnTo>
                      <a:pt x="1523" y="1105"/>
                    </a:lnTo>
                    <a:lnTo>
                      <a:pt x="1517" y="1106"/>
                    </a:lnTo>
                    <a:lnTo>
                      <a:pt x="1511" y="1109"/>
                    </a:lnTo>
                    <a:lnTo>
                      <a:pt x="1505" y="1110"/>
                    </a:lnTo>
                    <a:lnTo>
                      <a:pt x="1499" y="1112"/>
                    </a:lnTo>
                    <a:lnTo>
                      <a:pt x="1493" y="1115"/>
                    </a:lnTo>
                    <a:lnTo>
                      <a:pt x="1489" y="1118"/>
                    </a:lnTo>
                    <a:lnTo>
                      <a:pt x="1485" y="1123"/>
                    </a:lnTo>
                    <a:lnTo>
                      <a:pt x="1484" y="1128"/>
                    </a:lnTo>
                    <a:lnTo>
                      <a:pt x="1484" y="1131"/>
                    </a:lnTo>
                    <a:lnTo>
                      <a:pt x="1485" y="1136"/>
                    </a:lnTo>
                    <a:lnTo>
                      <a:pt x="1487" y="1141"/>
                    </a:lnTo>
                    <a:lnTo>
                      <a:pt x="1490" y="1146"/>
                    </a:lnTo>
                    <a:lnTo>
                      <a:pt x="1493" y="1149"/>
                    </a:lnTo>
                    <a:lnTo>
                      <a:pt x="1496" y="1154"/>
                    </a:lnTo>
                    <a:lnTo>
                      <a:pt x="1500" y="1158"/>
                    </a:lnTo>
                    <a:lnTo>
                      <a:pt x="1507" y="1164"/>
                    </a:lnTo>
                    <a:lnTo>
                      <a:pt x="1517" y="1170"/>
                    </a:lnTo>
                    <a:lnTo>
                      <a:pt x="1525" y="1176"/>
                    </a:lnTo>
                    <a:lnTo>
                      <a:pt x="1535" y="1181"/>
                    </a:lnTo>
                    <a:lnTo>
                      <a:pt x="1544" y="1187"/>
                    </a:lnTo>
                    <a:lnTo>
                      <a:pt x="1553" y="1191"/>
                    </a:lnTo>
                    <a:lnTo>
                      <a:pt x="1561" y="1199"/>
                    </a:lnTo>
                    <a:lnTo>
                      <a:pt x="1568" y="1206"/>
                    </a:lnTo>
                    <a:lnTo>
                      <a:pt x="1575" y="1215"/>
                    </a:lnTo>
                    <a:lnTo>
                      <a:pt x="1581" y="1226"/>
                    </a:lnTo>
                    <a:lnTo>
                      <a:pt x="1587" y="1237"/>
                    </a:lnTo>
                    <a:lnTo>
                      <a:pt x="1592" y="1248"/>
                    </a:lnTo>
                    <a:lnTo>
                      <a:pt x="1597" y="1260"/>
                    </a:lnTo>
                    <a:lnTo>
                      <a:pt x="1602" y="1270"/>
                    </a:lnTo>
                    <a:lnTo>
                      <a:pt x="1607" y="1282"/>
                    </a:lnTo>
                    <a:lnTo>
                      <a:pt x="1611" y="1293"/>
                    </a:lnTo>
                    <a:lnTo>
                      <a:pt x="1619" y="1309"/>
                    </a:lnTo>
                    <a:lnTo>
                      <a:pt x="1625" y="1324"/>
                    </a:lnTo>
                    <a:lnTo>
                      <a:pt x="1631" y="1341"/>
                    </a:lnTo>
                    <a:lnTo>
                      <a:pt x="1637" y="1357"/>
                    </a:lnTo>
                    <a:lnTo>
                      <a:pt x="1643" y="1372"/>
                    </a:lnTo>
                    <a:lnTo>
                      <a:pt x="1651" y="1388"/>
                    </a:lnTo>
                    <a:lnTo>
                      <a:pt x="1659" y="1402"/>
                    </a:lnTo>
                    <a:lnTo>
                      <a:pt x="1670" y="1414"/>
                    </a:lnTo>
                    <a:lnTo>
                      <a:pt x="1683" y="1428"/>
                    </a:lnTo>
                    <a:lnTo>
                      <a:pt x="1698" y="1438"/>
                    </a:lnTo>
                    <a:lnTo>
                      <a:pt x="1713" y="1448"/>
                    </a:lnTo>
                    <a:lnTo>
                      <a:pt x="1730" y="1456"/>
                    </a:lnTo>
                    <a:lnTo>
                      <a:pt x="1746" y="1465"/>
                    </a:lnTo>
                    <a:lnTo>
                      <a:pt x="1764" y="1472"/>
                    </a:lnTo>
                    <a:lnTo>
                      <a:pt x="1781" y="1480"/>
                    </a:lnTo>
                    <a:lnTo>
                      <a:pt x="1796" y="1488"/>
                    </a:lnTo>
                    <a:lnTo>
                      <a:pt x="1808" y="1494"/>
                    </a:lnTo>
                    <a:lnTo>
                      <a:pt x="1821" y="1498"/>
                    </a:lnTo>
                    <a:lnTo>
                      <a:pt x="1833" y="1502"/>
                    </a:lnTo>
                    <a:lnTo>
                      <a:pt x="1845" y="1507"/>
                    </a:lnTo>
                    <a:lnTo>
                      <a:pt x="1859" y="1510"/>
                    </a:lnTo>
                    <a:lnTo>
                      <a:pt x="1871" y="1515"/>
                    </a:lnTo>
                    <a:lnTo>
                      <a:pt x="1883" y="1520"/>
                    </a:lnTo>
                    <a:lnTo>
                      <a:pt x="1895" y="1527"/>
                    </a:lnTo>
                    <a:lnTo>
                      <a:pt x="1899" y="1530"/>
                    </a:lnTo>
                    <a:lnTo>
                      <a:pt x="1905" y="1534"/>
                    </a:lnTo>
                    <a:lnTo>
                      <a:pt x="1910" y="1538"/>
                    </a:lnTo>
                    <a:lnTo>
                      <a:pt x="1915" y="1543"/>
                    </a:lnTo>
                    <a:lnTo>
                      <a:pt x="1920" y="1549"/>
                    </a:lnTo>
                    <a:lnTo>
                      <a:pt x="1923" y="1554"/>
                    </a:lnTo>
                    <a:lnTo>
                      <a:pt x="1926" y="1560"/>
                    </a:lnTo>
                    <a:lnTo>
                      <a:pt x="1928" y="1566"/>
                    </a:lnTo>
                    <a:lnTo>
                      <a:pt x="1929" y="1573"/>
                    </a:lnTo>
                    <a:lnTo>
                      <a:pt x="1931" y="1581"/>
                    </a:lnTo>
                    <a:lnTo>
                      <a:pt x="1932" y="1591"/>
                    </a:lnTo>
                    <a:lnTo>
                      <a:pt x="1932" y="1599"/>
                    </a:lnTo>
                    <a:lnTo>
                      <a:pt x="1931" y="1608"/>
                    </a:lnTo>
                    <a:lnTo>
                      <a:pt x="1928" y="1615"/>
                    </a:lnTo>
                    <a:lnTo>
                      <a:pt x="1927" y="1617"/>
                    </a:lnTo>
                    <a:lnTo>
                      <a:pt x="1925" y="1620"/>
                    </a:lnTo>
                    <a:lnTo>
                      <a:pt x="1921" y="1622"/>
                    </a:lnTo>
                    <a:lnTo>
                      <a:pt x="1919" y="1624"/>
                    </a:lnTo>
                    <a:lnTo>
                      <a:pt x="1913" y="1626"/>
                    </a:lnTo>
                    <a:lnTo>
                      <a:pt x="1907" y="1627"/>
                    </a:lnTo>
                    <a:lnTo>
                      <a:pt x="1899" y="1628"/>
                    </a:lnTo>
                    <a:lnTo>
                      <a:pt x="1893" y="1628"/>
                    </a:lnTo>
                    <a:lnTo>
                      <a:pt x="1880" y="1627"/>
                    </a:lnTo>
                    <a:lnTo>
                      <a:pt x="1868" y="1624"/>
                    </a:lnTo>
                    <a:lnTo>
                      <a:pt x="1855" y="1621"/>
                    </a:lnTo>
                    <a:lnTo>
                      <a:pt x="1842" y="1617"/>
                    </a:lnTo>
                    <a:lnTo>
                      <a:pt x="1829" y="1614"/>
                    </a:lnTo>
                    <a:lnTo>
                      <a:pt x="1817" y="1609"/>
                    </a:lnTo>
                    <a:lnTo>
                      <a:pt x="1802" y="1605"/>
                    </a:lnTo>
                    <a:lnTo>
                      <a:pt x="1789" y="1600"/>
                    </a:lnTo>
                    <a:lnTo>
                      <a:pt x="1776" y="1594"/>
                    </a:lnTo>
                    <a:lnTo>
                      <a:pt x="1761" y="1590"/>
                    </a:lnTo>
                    <a:lnTo>
                      <a:pt x="1748" y="1584"/>
                    </a:lnTo>
                    <a:lnTo>
                      <a:pt x="1735" y="1578"/>
                    </a:lnTo>
                    <a:lnTo>
                      <a:pt x="1722" y="1572"/>
                    </a:lnTo>
                    <a:lnTo>
                      <a:pt x="1709" y="1566"/>
                    </a:lnTo>
                    <a:lnTo>
                      <a:pt x="1693" y="1558"/>
                    </a:lnTo>
                    <a:lnTo>
                      <a:pt x="1676" y="1552"/>
                    </a:lnTo>
                    <a:lnTo>
                      <a:pt x="1661" y="1546"/>
                    </a:lnTo>
                    <a:lnTo>
                      <a:pt x="1644" y="1539"/>
                    </a:lnTo>
                    <a:lnTo>
                      <a:pt x="1628" y="1533"/>
                    </a:lnTo>
                    <a:lnTo>
                      <a:pt x="1613" y="1525"/>
                    </a:lnTo>
                    <a:lnTo>
                      <a:pt x="1597" y="1516"/>
                    </a:lnTo>
                    <a:lnTo>
                      <a:pt x="1583" y="1507"/>
                    </a:lnTo>
                    <a:lnTo>
                      <a:pt x="1572" y="1498"/>
                    </a:lnTo>
                    <a:lnTo>
                      <a:pt x="1562" y="1490"/>
                    </a:lnTo>
                    <a:lnTo>
                      <a:pt x="1553" y="1480"/>
                    </a:lnTo>
                    <a:lnTo>
                      <a:pt x="1543" y="1470"/>
                    </a:lnTo>
                    <a:lnTo>
                      <a:pt x="1536" y="1459"/>
                    </a:lnTo>
                    <a:lnTo>
                      <a:pt x="1527" y="1448"/>
                    </a:lnTo>
                    <a:lnTo>
                      <a:pt x="1520" y="1436"/>
                    </a:lnTo>
                    <a:lnTo>
                      <a:pt x="1514" y="1424"/>
                    </a:lnTo>
                    <a:lnTo>
                      <a:pt x="1511" y="1416"/>
                    </a:lnTo>
                    <a:lnTo>
                      <a:pt x="1509" y="1407"/>
                    </a:lnTo>
                    <a:lnTo>
                      <a:pt x="1508" y="1398"/>
                    </a:lnTo>
                    <a:lnTo>
                      <a:pt x="1508" y="1388"/>
                    </a:lnTo>
                    <a:lnTo>
                      <a:pt x="1508" y="1380"/>
                    </a:lnTo>
                    <a:lnTo>
                      <a:pt x="1508" y="1370"/>
                    </a:lnTo>
                    <a:lnTo>
                      <a:pt x="1507" y="1360"/>
                    </a:lnTo>
                    <a:lnTo>
                      <a:pt x="1505" y="1352"/>
                    </a:lnTo>
                    <a:lnTo>
                      <a:pt x="1502" y="1344"/>
                    </a:lnTo>
                    <a:lnTo>
                      <a:pt x="1499" y="1335"/>
                    </a:lnTo>
                    <a:lnTo>
                      <a:pt x="1495" y="1328"/>
                    </a:lnTo>
                    <a:lnTo>
                      <a:pt x="1491" y="1320"/>
                    </a:lnTo>
                    <a:lnTo>
                      <a:pt x="1487" y="1312"/>
                    </a:lnTo>
                    <a:lnTo>
                      <a:pt x="1482" y="1305"/>
                    </a:lnTo>
                    <a:lnTo>
                      <a:pt x="1477" y="1299"/>
                    </a:lnTo>
                    <a:lnTo>
                      <a:pt x="1471" y="1293"/>
                    </a:lnTo>
                    <a:lnTo>
                      <a:pt x="1466" y="1291"/>
                    </a:lnTo>
                    <a:lnTo>
                      <a:pt x="1461" y="1288"/>
                    </a:lnTo>
                    <a:lnTo>
                      <a:pt x="1457" y="1287"/>
                    </a:lnTo>
                    <a:lnTo>
                      <a:pt x="1451" y="1287"/>
                    </a:lnTo>
                    <a:lnTo>
                      <a:pt x="1446" y="1287"/>
                    </a:lnTo>
                    <a:lnTo>
                      <a:pt x="1440" y="1288"/>
                    </a:lnTo>
                    <a:lnTo>
                      <a:pt x="1435" y="1291"/>
                    </a:lnTo>
                    <a:lnTo>
                      <a:pt x="1431" y="1293"/>
                    </a:lnTo>
                    <a:lnTo>
                      <a:pt x="1427" y="1299"/>
                    </a:lnTo>
                    <a:lnTo>
                      <a:pt x="1423" y="1305"/>
                    </a:lnTo>
                    <a:lnTo>
                      <a:pt x="1419" y="1312"/>
                    </a:lnTo>
                    <a:lnTo>
                      <a:pt x="1417" y="1320"/>
                    </a:lnTo>
                    <a:lnTo>
                      <a:pt x="1416" y="1328"/>
                    </a:lnTo>
                    <a:lnTo>
                      <a:pt x="1413" y="1336"/>
                    </a:lnTo>
                    <a:lnTo>
                      <a:pt x="1413" y="1344"/>
                    </a:lnTo>
                    <a:lnTo>
                      <a:pt x="1412" y="1352"/>
                    </a:lnTo>
                    <a:lnTo>
                      <a:pt x="1411" y="1368"/>
                    </a:lnTo>
                    <a:lnTo>
                      <a:pt x="1410" y="1384"/>
                    </a:lnTo>
                    <a:lnTo>
                      <a:pt x="1410" y="1401"/>
                    </a:lnTo>
                    <a:lnTo>
                      <a:pt x="1410" y="1417"/>
                    </a:lnTo>
                    <a:lnTo>
                      <a:pt x="1411" y="1434"/>
                    </a:lnTo>
                    <a:lnTo>
                      <a:pt x="1411" y="1450"/>
                    </a:lnTo>
                    <a:lnTo>
                      <a:pt x="1412" y="1466"/>
                    </a:lnTo>
                    <a:lnTo>
                      <a:pt x="1412" y="1483"/>
                    </a:lnTo>
                    <a:lnTo>
                      <a:pt x="1412" y="1496"/>
                    </a:lnTo>
                    <a:lnTo>
                      <a:pt x="1413" y="1508"/>
                    </a:lnTo>
                    <a:lnTo>
                      <a:pt x="1416" y="1521"/>
                    </a:lnTo>
                    <a:lnTo>
                      <a:pt x="1417" y="1534"/>
                    </a:lnTo>
                    <a:lnTo>
                      <a:pt x="1418" y="1546"/>
                    </a:lnTo>
                    <a:lnTo>
                      <a:pt x="1418" y="1560"/>
                    </a:lnTo>
                    <a:lnTo>
                      <a:pt x="1418" y="1573"/>
                    </a:lnTo>
                    <a:lnTo>
                      <a:pt x="1417" y="1585"/>
                    </a:lnTo>
                    <a:lnTo>
                      <a:pt x="1415" y="1594"/>
                    </a:lnTo>
                    <a:lnTo>
                      <a:pt x="1412" y="1604"/>
                    </a:lnTo>
                    <a:lnTo>
                      <a:pt x="1409" y="1614"/>
                    </a:lnTo>
                    <a:lnTo>
                      <a:pt x="1405" y="1622"/>
                    </a:lnTo>
                    <a:lnTo>
                      <a:pt x="1400" y="1632"/>
                    </a:lnTo>
                    <a:lnTo>
                      <a:pt x="1395" y="1640"/>
                    </a:lnTo>
                    <a:lnTo>
                      <a:pt x="1392" y="1648"/>
                    </a:lnTo>
                    <a:lnTo>
                      <a:pt x="1388" y="1658"/>
                    </a:lnTo>
                    <a:lnTo>
                      <a:pt x="1383" y="1669"/>
                    </a:lnTo>
                    <a:lnTo>
                      <a:pt x="1380" y="1681"/>
                    </a:lnTo>
                    <a:lnTo>
                      <a:pt x="1376" y="1692"/>
                    </a:lnTo>
                    <a:lnTo>
                      <a:pt x="1373" y="1702"/>
                    </a:lnTo>
                    <a:lnTo>
                      <a:pt x="1369" y="1714"/>
                    </a:lnTo>
                    <a:lnTo>
                      <a:pt x="1365" y="1725"/>
                    </a:lnTo>
                    <a:lnTo>
                      <a:pt x="1359" y="1736"/>
                    </a:lnTo>
                    <a:lnTo>
                      <a:pt x="1353" y="1746"/>
                    </a:lnTo>
                    <a:lnTo>
                      <a:pt x="1347" y="1754"/>
                    </a:lnTo>
                    <a:lnTo>
                      <a:pt x="1340" y="1761"/>
                    </a:lnTo>
                    <a:lnTo>
                      <a:pt x="1333" y="1768"/>
                    </a:lnTo>
                    <a:lnTo>
                      <a:pt x="1325" y="1776"/>
                    </a:lnTo>
                    <a:lnTo>
                      <a:pt x="1316" y="1782"/>
                    </a:lnTo>
                    <a:lnTo>
                      <a:pt x="1308" y="1788"/>
                    </a:lnTo>
                    <a:lnTo>
                      <a:pt x="1299" y="1794"/>
                    </a:lnTo>
                    <a:lnTo>
                      <a:pt x="1291" y="1798"/>
                    </a:lnTo>
                    <a:lnTo>
                      <a:pt x="1285" y="1802"/>
                    </a:lnTo>
                    <a:lnTo>
                      <a:pt x="1279" y="1807"/>
                    </a:lnTo>
                    <a:lnTo>
                      <a:pt x="1272" y="1810"/>
                    </a:lnTo>
                    <a:lnTo>
                      <a:pt x="1266" y="1813"/>
                    </a:lnTo>
                    <a:lnTo>
                      <a:pt x="1260" y="1815"/>
                    </a:lnTo>
                    <a:lnTo>
                      <a:pt x="1254" y="1816"/>
                    </a:lnTo>
                    <a:lnTo>
                      <a:pt x="1248" y="1816"/>
                    </a:lnTo>
                    <a:lnTo>
                      <a:pt x="1242" y="1814"/>
                    </a:lnTo>
                    <a:lnTo>
                      <a:pt x="1236" y="1808"/>
                    </a:lnTo>
                    <a:lnTo>
                      <a:pt x="1230" y="1802"/>
                    </a:lnTo>
                    <a:lnTo>
                      <a:pt x="1226" y="1794"/>
                    </a:lnTo>
                    <a:lnTo>
                      <a:pt x="1223" y="1785"/>
                    </a:lnTo>
                    <a:lnTo>
                      <a:pt x="1220" y="1777"/>
                    </a:lnTo>
                    <a:lnTo>
                      <a:pt x="1219" y="1768"/>
                    </a:lnTo>
                    <a:lnTo>
                      <a:pt x="1218" y="1759"/>
                    </a:lnTo>
                    <a:lnTo>
                      <a:pt x="1218" y="1750"/>
                    </a:lnTo>
                    <a:lnTo>
                      <a:pt x="1218" y="1738"/>
                    </a:lnTo>
                    <a:lnTo>
                      <a:pt x="1220" y="1725"/>
                    </a:lnTo>
                    <a:lnTo>
                      <a:pt x="1223" y="1713"/>
                    </a:lnTo>
                    <a:lnTo>
                      <a:pt x="1225" y="1701"/>
                    </a:lnTo>
                    <a:lnTo>
                      <a:pt x="1229" y="1689"/>
                    </a:lnTo>
                    <a:lnTo>
                      <a:pt x="1233" y="1677"/>
                    </a:lnTo>
                    <a:lnTo>
                      <a:pt x="1237" y="1665"/>
                    </a:lnTo>
                    <a:lnTo>
                      <a:pt x="1242" y="1653"/>
                    </a:lnTo>
                    <a:lnTo>
                      <a:pt x="1245" y="1644"/>
                    </a:lnTo>
                    <a:lnTo>
                      <a:pt x="1251" y="1633"/>
                    </a:lnTo>
                    <a:lnTo>
                      <a:pt x="1256" y="1624"/>
                    </a:lnTo>
                    <a:lnTo>
                      <a:pt x="1262" y="1615"/>
                    </a:lnTo>
                    <a:lnTo>
                      <a:pt x="1268" y="1605"/>
                    </a:lnTo>
                    <a:lnTo>
                      <a:pt x="1273" y="1596"/>
                    </a:lnTo>
                    <a:lnTo>
                      <a:pt x="1278" y="1586"/>
                    </a:lnTo>
                    <a:lnTo>
                      <a:pt x="1280" y="1575"/>
                    </a:lnTo>
                    <a:lnTo>
                      <a:pt x="1285" y="1558"/>
                    </a:lnTo>
                    <a:lnTo>
                      <a:pt x="1287" y="1540"/>
                    </a:lnTo>
                    <a:lnTo>
                      <a:pt x="1291" y="1522"/>
                    </a:lnTo>
                    <a:lnTo>
                      <a:pt x="1293" y="1506"/>
                    </a:lnTo>
                    <a:lnTo>
                      <a:pt x="1295" y="1488"/>
                    </a:lnTo>
                    <a:lnTo>
                      <a:pt x="1296" y="1470"/>
                    </a:lnTo>
                    <a:lnTo>
                      <a:pt x="1296" y="1452"/>
                    </a:lnTo>
                    <a:lnTo>
                      <a:pt x="1296" y="1435"/>
                    </a:lnTo>
                    <a:lnTo>
                      <a:pt x="1295" y="1423"/>
                    </a:lnTo>
                    <a:lnTo>
                      <a:pt x="1293" y="1412"/>
                    </a:lnTo>
                    <a:lnTo>
                      <a:pt x="1291" y="1400"/>
                    </a:lnTo>
                    <a:lnTo>
                      <a:pt x="1289" y="1389"/>
                    </a:lnTo>
                    <a:lnTo>
                      <a:pt x="1285" y="1378"/>
                    </a:lnTo>
                    <a:lnTo>
                      <a:pt x="1281" y="1368"/>
                    </a:lnTo>
                    <a:lnTo>
                      <a:pt x="1277" y="1357"/>
                    </a:lnTo>
                    <a:lnTo>
                      <a:pt x="1271" y="1347"/>
                    </a:lnTo>
                    <a:lnTo>
                      <a:pt x="1267" y="1341"/>
                    </a:lnTo>
                    <a:lnTo>
                      <a:pt x="1263" y="1335"/>
                    </a:lnTo>
                    <a:lnTo>
                      <a:pt x="1257" y="1329"/>
                    </a:lnTo>
                    <a:lnTo>
                      <a:pt x="1253" y="1324"/>
                    </a:lnTo>
                    <a:lnTo>
                      <a:pt x="1247" y="1320"/>
                    </a:lnTo>
                    <a:lnTo>
                      <a:pt x="1241" y="1316"/>
                    </a:lnTo>
                    <a:lnTo>
                      <a:pt x="1233" y="1314"/>
                    </a:lnTo>
                    <a:lnTo>
                      <a:pt x="1227" y="1312"/>
                    </a:lnTo>
                    <a:lnTo>
                      <a:pt x="1219" y="1312"/>
                    </a:lnTo>
                    <a:lnTo>
                      <a:pt x="1211" y="1314"/>
                    </a:lnTo>
                    <a:lnTo>
                      <a:pt x="1203" y="1315"/>
                    </a:lnTo>
                    <a:lnTo>
                      <a:pt x="1195" y="1318"/>
                    </a:lnTo>
                    <a:lnTo>
                      <a:pt x="1188" y="1322"/>
                    </a:lnTo>
                    <a:lnTo>
                      <a:pt x="1181" y="1327"/>
                    </a:lnTo>
                    <a:lnTo>
                      <a:pt x="1175" y="1332"/>
                    </a:lnTo>
                    <a:lnTo>
                      <a:pt x="1169" y="1336"/>
                    </a:lnTo>
                    <a:lnTo>
                      <a:pt x="1161" y="1346"/>
                    </a:lnTo>
                    <a:lnTo>
                      <a:pt x="1154" y="1357"/>
                    </a:lnTo>
                    <a:lnTo>
                      <a:pt x="1149" y="1368"/>
                    </a:lnTo>
                    <a:lnTo>
                      <a:pt x="1145" y="1378"/>
                    </a:lnTo>
                    <a:lnTo>
                      <a:pt x="1140" y="1390"/>
                    </a:lnTo>
                    <a:lnTo>
                      <a:pt x="1135" y="1402"/>
                    </a:lnTo>
                    <a:lnTo>
                      <a:pt x="1130" y="1413"/>
                    </a:lnTo>
                    <a:lnTo>
                      <a:pt x="1125" y="1424"/>
                    </a:lnTo>
                    <a:lnTo>
                      <a:pt x="1116" y="1442"/>
                    </a:lnTo>
                    <a:lnTo>
                      <a:pt x="1107" y="1460"/>
                    </a:lnTo>
                    <a:lnTo>
                      <a:pt x="1099" y="1478"/>
                    </a:lnTo>
                    <a:lnTo>
                      <a:pt x="1089" y="1496"/>
                    </a:lnTo>
                    <a:lnTo>
                      <a:pt x="1081" y="1514"/>
                    </a:lnTo>
                    <a:lnTo>
                      <a:pt x="1071" y="1531"/>
                    </a:lnTo>
                    <a:lnTo>
                      <a:pt x="1062" y="1549"/>
                    </a:lnTo>
                    <a:lnTo>
                      <a:pt x="1052" y="1566"/>
                    </a:lnTo>
                    <a:lnTo>
                      <a:pt x="1043" y="1581"/>
                    </a:lnTo>
                    <a:lnTo>
                      <a:pt x="1032" y="1597"/>
                    </a:lnTo>
                    <a:lnTo>
                      <a:pt x="1022" y="1611"/>
                    </a:lnTo>
                    <a:lnTo>
                      <a:pt x="1011" y="1627"/>
                    </a:lnTo>
                    <a:lnTo>
                      <a:pt x="1001" y="1641"/>
                    </a:lnTo>
                    <a:lnTo>
                      <a:pt x="990" y="1656"/>
                    </a:lnTo>
                    <a:lnTo>
                      <a:pt x="977" y="1669"/>
                    </a:lnTo>
                    <a:lnTo>
                      <a:pt x="965" y="1682"/>
                    </a:lnTo>
                    <a:lnTo>
                      <a:pt x="950" y="1695"/>
                    </a:lnTo>
                    <a:lnTo>
                      <a:pt x="937" y="1706"/>
                    </a:lnTo>
                    <a:lnTo>
                      <a:pt x="921" y="1718"/>
                    </a:lnTo>
                    <a:lnTo>
                      <a:pt x="907" y="1728"/>
                    </a:lnTo>
                    <a:lnTo>
                      <a:pt x="891" y="1738"/>
                    </a:lnTo>
                    <a:lnTo>
                      <a:pt x="876" y="1748"/>
                    </a:lnTo>
                    <a:lnTo>
                      <a:pt x="859" y="1756"/>
                    </a:lnTo>
                    <a:lnTo>
                      <a:pt x="842" y="1765"/>
                    </a:lnTo>
                    <a:lnTo>
                      <a:pt x="830" y="1771"/>
                    </a:lnTo>
                    <a:lnTo>
                      <a:pt x="817" y="1776"/>
                    </a:lnTo>
                    <a:lnTo>
                      <a:pt x="804" y="1780"/>
                    </a:lnTo>
                    <a:lnTo>
                      <a:pt x="791" y="1784"/>
                    </a:lnTo>
                    <a:lnTo>
                      <a:pt x="776" y="1788"/>
                    </a:lnTo>
                    <a:lnTo>
                      <a:pt x="763" y="1790"/>
                    </a:lnTo>
                    <a:lnTo>
                      <a:pt x="750" y="1792"/>
                    </a:lnTo>
                    <a:lnTo>
                      <a:pt x="735" y="1794"/>
                    </a:lnTo>
                    <a:lnTo>
                      <a:pt x="731" y="1795"/>
                    </a:lnTo>
                    <a:lnTo>
                      <a:pt x="725" y="1795"/>
                    </a:lnTo>
                    <a:lnTo>
                      <a:pt x="720" y="1795"/>
                    </a:lnTo>
                    <a:lnTo>
                      <a:pt x="714" y="1794"/>
                    </a:lnTo>
                    <a:lnTo>
                      <a:pt x="709" y="1792"/>
                    </a:lnTo>
                    <a:lnTo>
                      <a:pt x="704" y="1791"/>
                    </a:lnTo>
                    <a:lnTo>
                      <a:pt x="699" y="1788"/>
                    </a:lnTo>
                    <a:lnTo>
                      <a:pt x="697" y="1784"/>
                    </a:lnTo>
                    <a:lnTo>
                      <a:pt x="695" y="1780"/>
                    </a:lnTo>
                    <a:lnTo>
                      <a:pt x="693" y="1776"/>
                    </a:lnTo>
                    <a:lnTo>
                      <a:pt x="692" y="1770"/>
                    </a:lnTo>
                    <a:lnTo>
                      <a:pt x="693" y="1765"/>
                    </a:lnTo>
                    <a:lnTo>
                      <a:pt x="695" y="1759"/>
                    </a:lnTo>
                    <a:lnTo>
                      <a:pt x="696" y="1754"/>
                    </a:lnTo>
                    <a:lnTo>
                      <a:pt x="698" y="1749"/>
                    </a:lnTo>
                    <a:lnTo>
                      <a:pt x="702" y="1746"/>
                    </a:lnTo>
                    <a:lnTo>
                      <a:pt x="711" y="1735"/>
                    </a:lnTo>
                    <a:lnTo>
                      <a:pt x="722" y="1724"/>
                    </a:lnTo>
                    <a:lnTo>
                      <a:pt x="734" y="1714"/>
                    </a:lnTo>
                    <a:lnTo>
                      <a:pt x="746" y="1705"/>
                    </a:lnTo>
                    <a:lnTo>
                      <a:pt x="758" y="1696"/>
                    </a:lnTo>
                    <a:lnTo>
                      <a:pt x="770" y="1687"/>
                    </a:lnTo>
                    <a:lnTo>
                      <a:pt x="782" y="1677"/>
                    </a:lnTo>
                    <a:lnTo>
                      <a:pt x="794" y="1668"/>
                    </a:lnTo>
                    <a:lnTo>
                      <a:pt x="807" y="1656"/>
                    </a:lnTo>
                    <a:lnTo>
                      <a:pt x="821" y="1645"/>
                    </a:lnTo>
                    <a:lnTo>
                      <a:pt x="835" y="1633"/>
                    </a:lnTo>
                    <a:lnTo>
                      <a:pt x="848" y="1622"/>
                    </a:lnTo>
                    <a:lnTo>
                      <a:pt x="861" y="1610"/>
                    </a:lnTo>
                    <a:lnTo>
                      <a:pt x="873" y="1598"/>
                    </a:lnTo>
                    <a:lnTo>
                      <a:pt x="885" y="1585"/>
                    </a:lnTo>
                    <a:lnTo>
                      <a:pt x="896" y="1570"/>
                    </a:lnTo>
                    <a:lnTo>
                      <a:pt x="906" y="1556"/>
                    </a:lnTo>
                    <a:lnTo>
                      <a:pt x="915" y="1540"/>
                    </a:lnTo>
                    <a:lnTo>
                      <a:pt x="925" y="1524"/>
                    </a:lnTo>
                    <a:lnTo>
                      <a:pt x="932" y="1508"/>
                    </a:lnTo>
                    <a:lnTo>
                      <a:pt x="939" y="1491"/>
                    </a:lnTo>
                    <a:lnTo>
                      <a:pt x="945" y="1474"/>
                    </a:lnTo>
                    <a:lnTo>
                      <a:pt x="950" y="1456"/>
                    </a:lnTo>
                    <a:lnTo>
                      <a:pt x="955" y="1440"/>
                    </a:lnTo>
                    <a:lnTo>
                      <a:pt x="955" y="1431"/>
                    </a:lnTo>
                    <a:lnTo>
                      <a:pt x="955" y="1423"/>
                    </a:lnTo>
                    <a:lnTo>
                      <a:pt x="953" y="1414"/>
                    </a:lnTo>
                    <a:lnTo>
                      <a:pt x="950" y="1407"/>
                    </a:lnTo>
                    <a:lnTo>
                      <a:pt x="947" y="1399"/>
                    </a:lnTo>
                    <a:lnTo>
                      <a:pt x="942" y="1392"/>
                    </a:lnTo>
                    <a:lnTo>
                      <a:pt x="936" y="1386"/>
                    </a:lnTo>
                    <a:lnTo>
                      <a:pt x="930" y="1381"/>
                    </a:lnTo>
                    <a:lnTo>
                      <a:pt x="925" y="1378"/>
                    </a:lnTo>
                    <a:lnTo>
                      <a:pt x="920" y="1377"/>
                    </a:lnTo>
                    <a:lnTo>
                      <a:pt x="914" y="1377"/>
                    </a:lnTo>
                    <a:lnTo>
                      <a:pt x="908" y="1380"/>
                    </a:lnTo>
                    <a:lnTo>
                      <a:pt x="902" y="1381"/>
                    </a:lnTo>
                    <a:lnTo>
                      <a:pt x="896" y="1384"/>
                    </a:lnTo>
                    <a:lnTo>
                      <a:pt x="891" y="1387"/>
                    </a:lnTo>
                    <a:lnTo>
                      <a:pt x="887" y="1390"/>
                    </a:lnTo>
                    <a:lnTo>
                      <a:pt x="882" y="1395"/>
                    </a:lnTo>
                    <a:lnTo>
                      <a:pt x="878" y="1400"/>
                    </a:lnTo>
                    <a:lnTo>
                      <a:pt x="875" y="1406"/>
                    </a:lnTo>
                    <a:lnTo>
                      <a:pt x="872" y="1412"/>
                    </a:lnTo>
                    <a:lnTo>
                      <a:pt x="869" y="1419"/>
                    </a:lnTo>
                    <a:lnTo>
                      <a:pt x="866" y="1425"/>
                    </a:lnTo>
                    <a:lnTo>
                      <a:pt x="863" y="1430"/>
                    </a:lnTo>
                    <a:lnTo>
                      <a:pt x="858" y="1435"/>
                    </a:lnTo>
                    <a:lnTo>
                      <a:pt x="848" y="1441"/>
                    </a:lnTo>
                    <a:lnTo>
                      <a:pt x="839" y="1447"/>
                    </a:lnTo>
                    <a:lnTo>
                      <a:pt x="828" y="1452"/>
                    </a:lnTo>
                    <a:lnTo>
                      <a:pt x="818" y="1456"/>
                    </a:lnTo>
                    <a:lnTo>
                      <a:pt x="807" y="1461"/>
                    </a:lnTo>
                    <a:lnTo>
                      <a:pt x="797" y="1465"/>
                    </a:lnTo>
                    <a:lnTo>
                      <a:pt x="786" y="1467"/>
                    </a:lnTo>
                    <a:lnTo>
                      <a:pt x="775" y="1468"/>
                    </a:lnTo>
                    <a:lnTo>
                      <a:pt x="767" y="1468"/>
                    </a:lnTo>
                    <a:lnTo>
                      <a:pt x="757" y="1468"/>
                    </a:lnTo>
                    <a:lnTo>
                      <a:pt x="749" y="1466"/>
                    </a:lnTo>
                    <a:lnTo>
                      <a:pt x="740" y="1464"/>
                    </a:lnTo>
                    <a:lnTo>
                      <a:pt x="732" y="1461"/>
                    </a:lnTo>
                    <a:lnTo>
                      <a:pt x="726" y="1456"/>
                    </a:lnTo>
                    <a:lnTo>
                      <a:pt x="720" y="1450"/>
                    </a:lnTo>
                    <a:lnTo>
                      <a:pt x="716" y="1444"/>
                    </a:lnTo>
                    <a:lnTo>
                      <a:pt x="714" y="1438"/>
                    </a:lnTo>
                    <a:lnTo>
                      <a:pt x="713" y="1432"/>
                    </a:lnTo>
                    <a:lnTo>
                      <a:pt x="713" y="1425"/>
                    </a:lnTo>
                    <a:lnTo>
                      <a:pt x="713" y="1419"/>
                    </a:lnTo>
                    <a:lnTo>
                      <a:pt x="713" y="1407"/>
                    </a:lnTo>
                    <a:lnTo>
                      <a:pt x="715" y="1394"/>
                    </a:lnTo>
                    <a:lnTo>
                      <a:pt x="719" y="1381"/>
                    </a:lnTo>
                    <a:lnTo>
                      <a:pt x="721" y="1368"/>
                    </a:lnTo>
                    <a:lnTo>
                      <a:pt x="725" y="1354"/>
                    </a:lnTo>
                    <a:lnTo>
                      <a:pt x="726" y="1342"/>
                    </a:lnTo>
                    <a:lnTo>
                      <a:pt x="727" y="1333"/>
                    </a:lnTo>
                    <a:lnTo>
                      <a:pt x="729" y="1323"/>
                    </a:lnTo>
                    <a:lnTo>
                      <a:pt x="731" y="1314"/>
                    </a:lnTo>
                    <a:lnTo>
                      <a:pt x="733" y="1304"/>
                    </a:lnTo>
                    <a:lnTo>
                      <a:pt x="734" y="1296"/>
                    </a:lnTo>
                    <a:lnTo>
                      <a:pt x="734" y="1286"/>
                    </a:lnTo>
                    <a:lnTo>
                      <a:pt x="733" y="1278"/>
                    </a:lnTo>
                    <a:lnTo>
                      <a:pt x="731" y="1269"/>
                    </a:lnTo>
                    <a:lnTo>
                      <a:pt x="728" y="1264"/>
                    </a:lnTo>
                    <a:lnTo>
                      <a:pt x="723" y="1261"/>
                    </a:lnTo>
                    <a:lnTo>
                      <a:pt x="719" y="1258"/>
                    </a:lnTo>
                    <a:lnTo>
                      <a:pt x="713" y="1256"/>
                    </a:lnTo>
                    <a:lnTo>
                      <a:pt x="705" y="1255"/>
                    </a:lnTo>
                    <a:lnTo>
                      <a:pt x="699" y="1255"/>
                    </a:lnTo>
                    <a:lnTo>
                      <a:pt x="693" y="1255"/>
                    </a:lnTo>
                    <a:lnTo>
                      <a:pt x="687" y="1255"/>
                    </a:lnTo>
                    <a:lnTo>
                      <a:pt x="673" y="1255"/>
                    </a:lnTo>
                    <a:lnTo>
                      <a:pt x="660" y="1257"/>
                    </a:lnTo>
                    <a:lnTo>
                      <a:pt x="647" y="1260"/>
                    </a:lnTo>
                    <a:lnTo>
                      <a:pt x="633" y="1262"/>
                    </a:lnTo>
                    <a:lnTo>
                      <a:pt x="620" y="1266"/>
                    </a:lnTo>
                    <a:lnTo>
                      <a:pt x="607" y="1268"/>
                    </a:lnTo>
                    <a:lnTo>
                      <a:pt x="594" y="1269"/>
                    </a:lnTo>
                    <a:lnTo>
                      <a:pt x="579" y="1269"/>
                    </a:lnTo>
                    <a:lnTo>
                      <a:pt x="569" y="1268"/>
                    </a:lnTo>
                    <a:lnTo>
                      <a:pt x="557" y="1266"/>
                    </a:lnTo>
                    <a:lnTo>
                      <a:pt x="546" y="1263"/>
                    </a:lnTo>
                    <a:lnTo>
                      <a:pt x="534" y="1260"/>
                    </a:lnTo>
                    <a:lnTo>
                      <a:pt x="523" y="1256"/>
                    </a:lnTo>
                    <a:lnTo>
                      <a:pt x="512" y="1251"/>
                    </a:lnTo>
                    <a:lnTo>
                      <a:pt x="503" y="1245"/>
                    </a:lnTo>
                    <a:lnTo>
                      <a:pt x="492" y="1239"/>
                    </a:lnTo>
                    <a:lnTo>
                      <a:pt x="486" y="1234"/>
                    </a:lnTo>
                    <a:lnTo>
                      <a:pt x="480" y="1227"/>
                    </a:lnTo>
                    <a:lnTo>
                      <a:pt x="474" y="1220"/>
                    </a:lnTo>
                    <a:lnTo>
                      <a:pt x="470" y="1212"/>
                    </a:lnTo>
                    <a:lnTo>
                      <a:pt x="465" y="1203"/>
                    </a:lnTo>
                    <a:lnTo>
                      <a:pt x="461" y="1195"/>
                    </a:lnTo>
                    <a:lnTo>
                      <a:pt x="455" y="1188"/>
                    </a:lnTo>
                    <a:lnTo>
                      <a:pt x="449" y="1182"/>
                    </a:lnTo>
                    <a:lnTo>
                      <a:pt x="443" y="1177"/>
                    </a:lnTo>
                    <a:lnTo>
                      <a:pt x="438" y="1173"/>
                    </a:lnTo>
                    <a:lnTo>
                      <a:pt x="432" y="1171"/>
                    </a:lnTo>
                    <a:lnTo>
                      <a:pt x="426" y="1169"/>
                    </a:lnTo>
                    <a:lnTo>
                      <a:pt x="420" y="1166"/>
                    </a:lnTo>
                    <a:lnTo>
                      <a:pt x="413" y="1164"/>
                    </a:lnTo>
                    <a:lnTo>
                      <a:pt x="407" y="1163"/>
                    </a:lnTo>
                    <a:lnTo>
                      <a:pt x="399" y="1163"/>
                    </a:lnTo>
                    <a:lnTo>
                      <a:pt x="384" y="1161"/>
                    </a:lnTo>
                    <a:lnTo>
                      <a:pt x="368" y="1161"/>
                    </a:lnTo>
                    <a:lnTo>
                      <a:pt x="353" y="1161"/>
                    </a:lnTo>
                    <a:lnTo>
                      <a:pt x="337" y="1163"/>
                    </a:lnTo>
                    <a:lnTo>
                      <a:pt x="320" y="1164"/>
                    </a:lnTo>
                    <a:lnTo>
                      <a:pt x="305" y="1165"/>
                    </a:lnTo>
                    <a:lnTo>
                      <a:pt x="289" y="1166"/>
                    </a:lnTo>
                    <a:lnTo>
                      <a:pt x="273" y="1167"/>
                    </a:lnTo>
                    <a:lnTo>
                      <a:pt x="255" y="1167"/>
                    </a:lnTo>
                    <a:lnTo>
                      <a:pt x="237" y="1170"/>
                    </a:lnTo>
                    <a:lnTo>
                      <a:pt x="221" y="1171"/>
                    </a:lnTo>
                    <a:lnTo>
                      <a:pt x="203" y="1172"/>
                    </a:lnTo>
                    <a:lnTo>
                      <a:pt x="185" y="1173"/>
                    </a:lnTo>
                    <a:lnTo>
                      <a:pt x="167" y="1175"/>
                    </a:lnTo>
                    <a:lnTo>
                      <a:pt x="150" y="1173"/>
                    </a:lnTo>
                    <a:lnTo>
                      <a:pt x="132" y="1172"/>
                    </a:lnTo>
                    <a:lnTo>
                      <a:pt x="123" y="1170"/>
                    </a:lnTo>
                    <a:lnTo>
                      <a:pt x="115" y="1167"/>
                    </a:lnTo>
                    <a:lnTo>
                      <a:pt x="107" y="1164"/>
                    </a:lnTo>
                    <a:lnTo>
                      <a:pt x="98" y="1159"/>
                    </a:lnTo>
                    <a:lnTo>
                      <a:pt x="91" y="1154"/>
                    </a:lnTo>
                    <a:lnTo>
                      <a:pt x="84" y="1148"/>
                    </a:lnTo>
                    <a:lnTo>
                      <a:pt x="75" y="1143"/>
                    </a:lnTo>
                    <a:lnTo>
                      <a:pt x="68" y="1137"/>
                    </a:lnTo>
                    <a:lnTo>
                      <a:pt x="62" y="1133"/>
                    </a:lnTo>
                    <a:lnTo>
                      <a:pt x="55" y="1128"/>
                    </a:lnTo>
                    <a:lnTo>
                      <a:pt x="48" y="1122"/>
                    </a:lnTo>
                    <a:lnTo>
                      <a:pt x="41" y="1116"/>
                    </a:lnTo>
                    <a:lnTo>
                      <a:pt x="35" y="1110"/>
                    </a:lnTo>
                    <a:lnTo>
                      <a:pt x="29" y="1104"/>
                    </a:lnTo>
                    <a:lnTo>
                      <a:pt x="24" y="1097"/>
                    </a:lnTo>
                    <a:lnTo>
                      <a:pt x="20" y="1089"/>
                    </a:lnTo>
                    <a:lnTo>
                      <a:pt x="18" y="1083"/>
                    </a:lnTo>
                    <a:lnTo>
                      <a:pt x="18" y="1077"/>
                    </a:lnTo>
                    <a:lnTo>
                      <a:pt x="17" y="1071"/>
                    </a:lnTo>
                    <a:lnTo>
                      <a:pt x="18" y="1064"/>
                    </a:lnTo>
                    <a:lnTo>
                      <a:pt x="19" y="1058"/>
                    </a:lnTo>
                    <a:lnTo>
                      <a:pt x="21" y="1053"/>
                    </a:lnTo>
                    <a:lnTo>
                      <a:pt x="25" y="1049"/>
                    </a:lnTo>
                    <a:lnTo>
                      <a:pt x="30" y="1045"/>
                    </a:lnTo>
                    <a:lnTo>
                      <a:pt x="41" y="1040"/>
                    </a:lnTo>
                    <a:lnTo>
                      <a:pt x="53" y="1037"/>
                    </a:lnTo>
                    <a:lnTo>
                      <a:pt x="65" y="1034"/>
                    </a:lnTo>
                    <a:lnTo>
                      <a:pt x="77" y="1033"/>
                    </a:lnTo>
                    <a:lnTo>
                      <a:pt x="90" y="1032"/>
                    </a:lnTo>
                    <a:lnTo>
                      <a:pt x="102" y="1032"/>
                    </a:lnTo>
                    <a:lnTo>
                      <a:pt x="115" y="1031"/>
                    </a:lnTo>
                    <a:lnTo>
                      <a:pt x="127" y="1031"/>
                    </a:lnTo>
                    <a:lnTo>
                      <a:pt x="147" y="1031"/>
                    </a:lnTo>
                    <a:lnTo>
                      <a:pt x="169" y="1032"/>
                    </a:lnTo>
                    <a:lnTo>
                      <a:pt x="189" y="1033"/>
                    </a:lnTo>
                    <a:lnTo>
                      <a:pt x="210" y="1034"/>
                    </a:lnTo>
                    <a:lnTo>
                      <a:pt x="230" y="1035"/>
                    </a:lnTo>
                    <a:lnTo>
                      <a:pt x="252" y="1037"/>
                    </a:lnTo>
                    <a:lnTo>
                      <a:pt x="272" y="1037"/>
                    </a:lnTo>
                    <a:lnTo>
                      <a:pt x="293" y="1035"/>
                    </a:lnTo>
                    <a:lnTo>
                      <a:pt x="305" y="1034"/>
                    </a:lnTo>
                    <a:lnTo>
                      <a:pt x="318" y="1032"/>
                    </a:lnTo>
                    <a:lnTo>
                      <a:pt x="330" y="1029"/>
                    </a:lnTo>
                    <a:lnTo>
                      <a:pt x="342" y="1026"/>
                    </a:lnTo>
                    <a:lnTo>
                      <a:pt x="354" y="1022"/>
                    </a:lnTo>
                    <a:lnTo>
                      <a:pt x="366" y="1019"/>
                    </a:lnTo>
                    <a:lnTo>
                      <a:pt x="378" y="1015"/>
                    </a:lnTo>
                    <a:lnTo>
                      <a:pt x="390" y="1011"/>
                    </a:lnTo>
                    <a:lnTo>
                      <a:pt x="398" y="1009"/>
                    </a:lnTo>
                    <a:lnTo>
                      <a:pt x="405" y="1007"/>
                    </a:lnTo>
                    <a:lnTo>
                      <a:pt x="414" y="1003"/>
                    </a:lnTo>
                    <a:lnTo>
                      <a:pt x="421" y="1001"/>
                    </a:lnTo>
                    <a:lnTo>
                      <a:pt x="429" y="998"/>
                    </a:lnTo>
                    <a:lnTo>
                      <a:pt x="438" y="997"/>
                    </a:lnTo>
                    <a:lnTo>
                      <a:pt x="445" y="996"/>
                    </a:lnTo>
                    <a:lnTo>
                      <a:pt x="453" y="997"/>
                    </a:lnTo>
                    <a:lnTo>
                      <a:pt x="469" y="1001"/>
                    </a:lnTo>
                    <a:lnTo>
                      <a:pt x="483" y="1005"/>
                    </a:lnTo>
                    <a:lnTo>
                      <a:pt x="498" y="1010"/>
                    </a:lnTo>
                    <a:lnTo>
                      <a:pt x="513" y="1017"/>
                    </a:lnTo>
                    <a:lnTo>
                      <a:pt x="528" y="1023"/>
                    </a:lnTo>
                    <a:lnTo>
                      <a:pt x="542" y="1031"/>
                    </a:lnTo>
                    <a:lnTo>
                      <a:pt x="555" y="1038"/>
                    </a:lnTo>
                    <a:lnTo>
                      <a:pt x="570" y="1045"/>
                    </a:lnTo>
                    <a:lnTo>
                      <a:pt x="582" y="1052"/>
                    </a:lnTo>
                    <a:lnTo>
                      <a:pt x="594" y="1058"/>
                    </a:lnTo>
                    <a:lnTo>
                      <a:pt x="605" y="1065"/>
                    </a:lnTo>
                    <a:lnTo>
                      <a:pt x="615" y="1074"/>
                    </a:lnTo>
                    <a:lnTo>
                      <a:pt x="627" y="1081"/>
                    </a:lnTo>
                    <a:lnTo>
                      <a:pt x="638" y="1088"/>
                    </a:lnTo>
                    <a:lnTo>
                      <a:pt x="650" y="1094"/>
                    </a:lnTo>
                    <a:lnTo>
                      <a:pt x="662" y="1099"/>
                    </a:lnTo>
                    <a:lnTo>
                      <a:pt x="673" y="1103"/>
                    </a:lnTo>
                    <a:lnTo>
                      <a:pt x="683" y="1106"/>
                    </a:lnTo>
                    <a:lnTo>
                      <a:pt x="693" y="1110"/>
                    </a:lnTo>
                    <a:lnTo>
                      <a:pt x="704" y="1112"/>
                    </a:lnTo>
                    <a:lnTo>
                      <a:pt x="715" y="1113"/>
                    </a:lnTo>
                    <a:lnTo>
                      <a:pt x="726" y="1113"/>
                    </a:lnTo>
                    <a:lnTo>
                      <a:pt x="735" y="1112"/>
                    </a:lnTo>
                    <a:lnTo>
                      <a:pt x="745" y="1109"/>
                    </a:lnTo>
                    <a:lnTo>
                      <a:pt x="752" y="1104"/>
                    </a:lnTo>
                    <a:lnTo>
                      <a:pt x="758" y="1098"/>
                    </a:lnTo>
                    <a:lnTo>
                      <a:pt x="762" y="1091"/>
                    </a:lnTo>
                    <a:lnTo>
                      <a:pt x="765" y="1082"/>
                    </a:lnTo>
                    <a:lnTo>
                      <a:pt x="768" y="1073"/>
                    </a:lnTo>
                    <a:lnTo>
                      <a:pt x="769" y="1063"/>
                    </a:lnTo>
                    <a:lnTo>
                      <a:pt x="770" y="1055"/>
                    </a:lnTo>
                    <a:lnTo>
                      <a:pt x="770" y="1045"/>
                    </a:lnTo>
                    <a:lnTo>
                      <a:pt x="769" y="1037"/>
                    </a:lnTo>
                    <a:lnTo>
                      <a:pt x="767" y="1027"/>
                    </a:lnTo>
                    <a:lnTo>
                      <a:pt x="764" y="1019"/>
                    </a:lnTo>
                    <a:lnTo>
                      <a:pt x="759" y="1010"/>
                    </a:lnTo>
                    <a:lnTo>
                      <a:pt x="756" y="1002"/>
                    </a:lnTo>
                    <a:lnTo>
                      <a:pt x="751" y="993"/>
                    </a:lnTo>
                    <a:lnTo>
                      <a:pt x="746" y="985"/>
                    </a:lnTo>
                    <a:lnTo>
                      <a:pt x="740" y="978"/>
                    </a:lnTo>
                    <a:lnTo>
                      <a:pt x="731" y="963"/>
                    </a:lnTo>
                    <a:lnTo>
                      <a:pt x="721" y="950"/>
                    </a:lnTo>
                    <a:lnTo>
                      <a:pt x="710" y="937"/>
                    </a:lnTo>
                    <a:lnTo>
                      <a:pt x="699" y="924"/>
                    </a:lnTo>
                    <a:lnTo>
                      <a:pt x="689" y="911"/>
                    </a:lnTo>
                    <a:lnTo>
                      <a:pt x="678" y="899"/>
                    </a:lnTo>
                    <a:lnTo>
                      <a:pt x="666" y="887"/>
                    </a:lnTo>
                    <a:lnTo>
                      <a:pt x="653" y="875"/>
                    </a:lnTo>
                    <a:lnTo>
                      <a:pt x="638" y="863"/>
                    </a:lnTo>
                    <a:lnTo>
                      <a:pt x="623" y="851"/>
                    </a:lnTo>
                    <a:lnTo>
                      <a:pt x="606" y="839"/>
                    </a:lnTo>
                    <a:lnTo>
                      <a:pt x="590" y="828"/>
                    </a:lnTo>
                    <a:lnTo>
                      <a:pt x="573" y="817"/>
                    </a:lnTo>
                    <a:lnTo>
                      <a:pt x="557" y="806"/>
                    </a:lnTo>
                    <a:lnTo>
                      <a:pt x="539" y="797"/>
                    </a:lnTo>
                    <a:lnTo>
                      <a:pt x="522" y="788"/>
                    </a:lnTo>
                    <a:lnTo>
                      <a:pt x="509" y="782"/>
                    </a:lnTo>
                    <a:lnTo>
                      <a:pt x="495" y="776"/>
                    </a:lnTo>
                    <a:lnTo>
                      <a:pt x="482" y="771"/>
                    </a:lnTo>
                    <a:lnTo>
                      <a:pt x="469" y="768"/>
                    </a:lnTo>
                    <a:lnTo>
                      <a:pt x="456" y="764"/>
                    </a:lnTo>
                    <a:lnTo>
                      <a:pt x="441" y="761"/>
                    </a:lnTo>
                    <a:lnTo>
                      <a:pt x="428" y="757"/>
                    </a:lnTo>
                    <a:lnTo>
                      <a:pt x="414" y="753"/>
                    </a:lnTo>
                    <a:lnTo>
                      <a:pt x="402" y="751"/>
                    </a:lnTo>
                    <a:lnTo>
                      <a:pt x="390" y="749"/>
                    </a:lnTo>
                    <a:lnTo>
                      <a:pt x="378" y="746"/>
                    </a:lnTo>
                    <a:lnTo>
                      <a:pt x="366" y="744"/>
                    </a:lnTo>
                    <a:lnTo>
                      <a:pt x="354" y="741"/>
                    </a:lnTo>
                    <a:lnTo>
                      <a:pt x="342" y="740"/>
                    </a:lnTo>
                    <a:lnTo>
                      <a:pt x="330" y="739"/>
                    </a:lnTo>
                    <a:lnTo>
                      <a:pt x="317" y="739"/>
                    </a:lnTo>
                    <a:lnTo>
                      <a:pt x="308" y="739"/>
                    </a:lnTo>
                    <a:lnTo>
                      <a:pt x="301" y="740"/>
                    </a:lnTo>
                    <a:lnTo>
                      <a:pt x="293" y="741"/>
                    </a:lnTo>
                    <a:lnTo>
                      <a:pt x="284" y="743"/>
                    </a:lnTo>
                    <a:lnTo>
                      <a:pt x="277" y="745"/>
                    </a:lnTo>
                    <a:lnTo>
                      <a:pt x="269" y="747"/>
                    </a:lnTo>
                    <a:lnTo>
                      <a:pt x="261" y="750"/>
                    </a:lnTo>
                    <a:lnTo>
                      <a:pt x="254" y="753"/>
                    </a:lnTo>
                    <a:lnTo>
                      <a:pt x="246" y="758"/>
                    </a:lnTo>
                    <a:lnTo>
                      <a:pt x="240" y="763"/>
                    </a:lnTo>
                    <a:lnTo>
                      <a:pt x="233" y="769"/>
                    </a:lnTo>
                    <a:lnTo>
                      <a:pt x="227" y="775"/>
                    </a:lnTo>
                    <a:lnTo>
                      <a:pt x="221" y="781"/>
                    </a:lnTo>
                    <a:lnTo>
                      <a:pt x="215" y="787"/>
                    </a:lnTo>
                    <a:lnTo>
                      <a:pt x="207" y="793"/>
                    </a:lnTo>
                    <a:lnTo>
                      <a:pt x="200" y="798"/>
                    </a:lnTo>
                    <a:lnTo>
                      <a:pt x="188" y="804"/>
                    </a:lnTo>
                    <a:lnTo>
                      <a:pt x="176" y="810"/>
                    </a:lnTo>
                    <a:lnTo>
                      <a:pt x="165" y="815"/>
                    </a:lnTo>
                    <a:lnTo>
                      <a:pt x="152" y="821"/>
                    </a:lnTo>
                    <a:lnTo>
                      <a:pt x="140" y="825"/>
                    </a:lnTo>
                    <a:lnTo>
                      <a:pt x="128" y="829"/>
                    </a:lnTo>
                    <a:lnTo>
                      <a:pt x="115" y="833"/>
                    </a:lnTo>
                    <a:lnTo>
                      <a:pt x="103" y="836"/>
                    </a:lnTo>
                    <a:lnTo>
                      <a:pt x="98" y="837"/>
                    </a:lnTo>
                    <a:lnTo>
                      <a:pt x="93" y="837"/>
                    </a:lnTo>
                    <a:lnTo>
                      <a:pt x="89" y="837"/>
                    </a:lnTo>
                    <a:lnTo>
                      <a:pt x="84" y="836"/>
                    </a:lnTo>
                    <a:lnTo>
                      <a:pt x="79" y="835"/>
                    </a:lnTo>
                    <a:lnTo>
                      <a:pt x="74" y="833"/>
                    </a:lnTo>
                    <a:lnTo>
                      <a:pt x="72" y="830"/>
                    </a:lnTo>
                    <a:lnTo>
                      <a:pt x="68" y="827"/>
                    </a:lnTo>
                    <a:lnTo>
                      <a:pt x="66" y="821"/>
                    </a:lnTo>
                    <a:lnTo>
                      <a:pt x="63" y="813"/>
                    </a:lnTo>
                    <a:lnTo>
                      <a:pt x="62" y="806"/>
                    </a:lnTo>
                    <a:lnTo>
                      <a:pt x="62" y="799"/>
                    </a:lnTo>
                    <a:lnTo>
                      <a:pt x="62" y="792"/>
                    </a:lnTo>
                    <a:lnTo>
                      <a:pt x="63" y="786"/>
                    </a:lnTo>
                    <a:lnTo>
                      <a:pt x="66" y="779"/>
                    </a:lnTo>
                    <a:lnTo>
                      <a:pt x="68" y="773"/>
                    </a:lnTo>
                    <a:lnTo>
                      <a:pt x="79" y="759"/>
                    </a:lnTo>
                    <a:lnTo>
                      <a:pt x="90" y="746"/>
                    </a:lnTo>
                    <a:lnTo>
                      <a:pt x="101" y="734"/>
                    </a:lnTo>
                    <a:lnTo>
                      <a:pt x="113" y="722"/>
                    </a:lnTo>
                    <a:lnTo>
                      <a:pt x="126" y="711"/>
                    </a:lnTo>
                    <a:lnTo>
                      <a:pt x="139" y="701"/>
                    </a:lnTo>
                    <a:lnTo>
                      <a:pt x="152" y="691"/>
                    </a:lnTo>
                    <a:lnTo>
                      <a:pt x="167" y="680"/>
                    </a:lnTo>
                    <a:lnTo>
                      <a:pt x="175" y="674"/>
                    </a:lnTo>
                    <a:lnTo>
                      <a:pt x="185" y="669"/>
                    </a:lnTo>
                    <a:lnTo>
                      <a:pt x="195" y="663"/>
                    </a:lnTo>
                    <a:lnTo>
                      <a:pt x="205" y="660"/>
                    </a:lnTo>
                    <a:lnTo>
                      <a:pt x="216" y="655"/>
                    </a:lnTo>
                    <a:lnTo>
                      <a:pt x="227" y="651"/>
                    </a:lnTo>
                    <a:lnTo>
                      <a:pt x="237" y="649"/>
                    </a:lnTo>
                    <a:lnTo>
                      <a:pt x="248" y="647"/>
                    </a:lnTo>
                    <a:lnTo>
                      <a:pt x="263" y="644"/>
                    </a:lnTo>
                    <a:lnTo>
                      <a:pt x="278" y="643"/>
                    </a:lnTo>
                    <a:lnTo>
                      <a:pt x="293" y="642"/>
                    </a:lnTo>
                    <a:lnTo>
                      <a:pt x="307" y="642"/>
                    </a:lnTo>
                    <a:lnTo>
                      <a:pt x="321" y="642"/>
                    </a:lnTo>
                    <a:lnTo>
                      <a:pt x="336" y="642"/>
                    </a:lnTo>
                    <a:lnTo>
                      <a:pt x="351" y="642"/>
                    </a:lnTo>
                    <a:lnTo>
                      <a:pt x="366" y="642"/>
                    </a:lnTo>
                    <a:lnTo>
                      <a:pt x="386" y="642"/>
                    </a:lnTo>
                    <a:lnTo>
                      <a:pt x="407" y="642"/>
                    </a:lnTo>
                    <a:lnTo>
                      <a:pt x="428" y="643"/>
                    </a:lnTo>
                    <a:lnTo>
                      <a:pt x="449" y="643"/>
                    </a:lnTo>
                    <a:lnTo>
                      <a:pt x="469" y="644"/>
                    </a:lnTo>
                    <a:lnTo>
                      <a:pt x="489" y="644"/>
                    </a:lnTo>
                    <a:lnTo>
                      <a:pt x="511" y="645"/>
                    </a:lnTo>
                    <a:lnTo>
                      <a:pt x="531" y="647"/>
                    </a:lnTo>
                    <a:lnTo>
                      <a:pt x="546" y="648"/>
                    </a:lnTo>
                    <a:lnTo>
                      <a:pt x="561" y="649"/>
                    </a:lnTo>
                    <a:lnTo>
                      <a:pt x="577" y="650"/>
                    </a:lnTo>
                    <a:lnTo>
                      <a:pt x="591" y="653"/>
                    </a:lnTo>
                    <a:lnTo>
                      <a:pt x="607" y="654"/>
                    </a:lnTo>
                    <a:lnTo>
                      <a:pt x="623" y="655"/>
                    </a:lnTo>
                    <a:lnTo>
                      <a:pt x="637" y="656"/>
                    </a:lnTo>
                    <a:lnTo>
                      <a:pt x="653" y="656"/>
                    </a:lnTo>
                    <a:lnTo>
                      <a:pt x="662" y="656"/>
                    </a:lnTo>
                    <a:lnTo>
                      <a:pt x="671" y="657"/>
                    </a:lnTo>
                    <a:lnTo>
                      <a:pt x="680" y="657"/>
                    </a:lnTo>
                    <a:lnTo>
                      <a:pt x="689" y="657"/>
                    </a:lnTo>
                    <a:lnTo>
                      <a:pt x="698" y="656"/>
                    </a:lnTo>
                    <a:lnTo>
                      <a:pt x="707" y="655"/>
                    </a:lnTo>
                    <a:lnTo>
                      <a:pt x="714" y="651"/>
                    </a:lnTo>
                    <a:lnTo>
                      <a:pt x="721" y="647"/>
                    </a:lnTo>
                    <a:close/>
                  </a:path>
                </a:pathLst>
              </a:custGeom>
              <a:solidFill>
                <a:srgbClr val="c38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30640" y="1312920"/>
                <a:ext cx="830160" cy="716040"/>
              </a:xfrm>
              <a:custGeom>
                <a:avLst/>
                <a:gdLst/>
                <a:ahLst/>
                <a:rect l="l" t="t" r="r" b="b"/>
                <a:pathLst>
                  <a:path w="2095" h="1802">
                    <a:moveTo>
                      <a:pt x="716" y="642"/>
                    </a:moveTo>
                    <a:lnTo>
                      <a:pt x="722" y="635"/>
                    </a:lnTo>
                    <a:lnTo>
                      <a:pt x="728" y="626"/>
                    </a:lnTo>
                    <a:lnTo>
                      <a:pt x="732" y="618"/>
                    </a:lnTo>
                    <a:lnTo>
                      <a:pt x="736" y="608"/>
                    </a:lnTo>
                    <a:lnTo>
                      <a:pt x="738" y="599"/>
                    </a:lnTo>
                    <a:lnTo>
                      <a:pt x="739" y="589"/>
                    </a:lnTo>
                    <a:lnTo>
                      <a:pt x="740" y="578"/>
                    </a:lnTo>
                    <a:lnTo>
                      <a:pt x="740" y="569"/>
                    </a:lnTo>
                    <a:lnTo>
                      <a:pt x="740" y="558"/>
                    </a:lnTo>
                    <a:lnTo>
                      <a:pt x="739" y="546"/>
                    </a:lnTo>
                    <a:lnTo>
                      <a:pt x="738" y="535"/>
                    </a:lnTo>
                    <a:lnTo>
                      <a:pt x="736" y="523"/>
                    </a:lnTo>
                    <a:lnTo>
                      <a:pt x="732" y="512"/>
                    </a:lnTo>
                    <a:lnTo>
                      <a:pt x="728" y="502"/>
                    </a:lnTo>
                    <a:lnTo>
                      <a:pt x="722" y="492"/>
                    </a:lnTo>
                    <a:lnTo>
                      <a:pt x="716" y="482"/>
                    </a:lnTo>
                    <a:lnTo>
                      <a:pt x="709" y="475"/>
                    </a:lnTo>
                    <a:lnTo>
                      <a:pt x="702" y="469"/>
                    </a:lnTo>
                    <a:lnTo>
                      <a:pt x="692" y="463"/>
                    </a:lnTo>
                    <a:lnTo>
                      <a:pt x="683" y="460"/>
                    </a:lnTo>
                    <a:lnTo>
                      <a:pt x="673" y="455"/>
                    </a:lnTo>
                    <a:lnTo>
                      <a:pt x="664" y="451"/>
                    </a:lnTo>
                    <a:lnTo>
                      <a:pt x="654" y="448"/>
                    </a:lnTo>
                    <a:lnTo>
                      <a:pt x="644" y="444"/>
                    </a:lnTo>
                    <a:lnTo>
                      <a:pt x="632" y="438"/>
                    </a:lnTo>
                    <a:lnTo>
                      <a:pt x="622" y="433"/>
                    </a:lnTo>
                    <a:lnTo>
                      <a:pt x="610" y="429"/>
                    </a:lnTo>
                    <a:lnTo>
                      <a:pt x="599" y="423"/>
                    </a:lnTo>
                    <a:lnTo>
                      <a:pt x="587" y="418"/>
                    </a:lnTo>
                    <a:lnTo>
                      <a:pt x="576" y="413"/>
                    </a:lnTo>
                    <a:lnTo>
                      <a:pt x="564" y="409"/>
                    </a:lnTo>
                    <a:lnTo>
                      <a:pt x="552" y="405"/>
                    </a:lnTo>
                    <a:lnTo>
                      <a:pt x="539" y="401"/>
                    </a:lnTo>
                    <a:lnTo>
                      <a:pt x="526" y="399"/>
                    </a:lnTo>
                    <a:lnTo>
                      <a:pt x="512" y="396"/>
                    </a:lnTo>
                    <a:lnTo>
                      <a:pt x="499" y="394"/>
                    </a:lnTo>
                    <a:lnTo>
                      <a:pt x="485" y="391"/>
                    </a:lnTo>
                    <a:lnTo>
                      <a:pt x="472" y="389"/>
                    </a:lnTo>
                    <a:lnTo>
                      <a:pt x="458" y="385"/>
                    </a:lnTo>
                    <a:lnTo>
                      <a:pt x="446" y="381"/>
                    </a:lnTo>
                    <a:lnTo>
                      <a:pt x="436" y="377"/>
                    </a:lnTo>
                    <a:lnTo>
                      <a:pt x="425" y="371"/>
                    </a:lnTo>
                    <a:lnTo>
                      <a:pt x="415" y="366"/>
                    </a:lnTo>
                    <a:lnTo>
                      <a:pt x="406" y="360"/>
                    </a:lnTo>
                    <a:lnTo>
                      <a:pt x="396" y="353"/>
                    </a:lnTo>
                    <a:lnTo>
                      <a:pt x="386" y="347"/>
                    </a:lnTo>
                    <a:lnTo>
                      <a:pt x="378" y="340"/>
                    </a:lnTo>
                    <a:lnTo>
                      <a:pt x="368" y="333"/>
                    </a:lnTo>
                    <a:lnTo>
                      <a:pt x="353" y="321"/>
                    </a:lnTo>
                    <a:lnTo>
                      <a:pt x="337" y="307"/>
                    </a:lnTo>
                    <a:lnTo>
                      <a:pt x="323" y="293"/>
                    </a:lnTo>
                    <a:lnTo>
                      <a:pt x="308" y="280"/>
                    </a:lnTo>
                    <a:lnTo>
                      <a:pt x="293" y="267"/>
                    </a:lnTo>
                    <a:lnTo>
                      <a:pt x="278" y="252"/>
                    </a:lnTo>
                    <a:lnTo>
                      <a:pt x="263" y="239"/>
                    </a:lnTo>
                    <a:lnTo>
                      <a:pt x="247" y="227"/>
                    </a:lnTo>
                    <a:lnTo>
                      <a:pt x="234" y="216"/>
                    </a:lnTo>
                    <a:lnTo>
                      <a:pt x="220" y="204"/>
                    </a:lnTo>
                    <a:lnTo>
                      <a:pt x="205" y="195"/>
                    </a:lnTo>
                    <a:lnTo>
                      <a:pt x="191" y="184"/>
                    </a:lnTo>
                    <a:lnTo>
                      <a:pt x="176" y="173"/>
                    </a:lnTo>
                    <a:lnTo>
                      <a:pt x="162" y="163"/>
                    </a:lnTo>
                    <a:lnTo>
                      <a:pt x="146" y="154"/>
                    </a:lnTo>
                    <a:lnTo>
                      <a:pt x="132" y="144"/>
                    </a:lnTo>
                    <a:lnTo>
                      <a:pt x="122" y="139"/>
                    </a:lnTo>
                    <a:lnTo>
                      <a:pt x="112" y="135"/>
                    </a:lnTo>
                    <a:lnTo>
                      <a:pt x="101" y="130"/>
                    </a:lnTo>
                    <a:lnTo>
                      <a:pt x="90" y="126"/>
                    </a:lnTo>
                    <a:lnTo>
                      <a:pt x="80" y="121"/>
                    </a:lnTo>
                    <a:lnTo>
                      <a:pt x="70" y="117"/>
                    </a:lnTo>
                    <a:lnTo>
                      <a:pt x="60" y="112"/>
                    </a:lnTo>
                    <a:lnTo>
                      <a:pt x="49" y="106"/>
                    </a:lnTo>
                    <a:lnTo>
                      <a:pt x="42" y="101"/>
                    </a:lnTo>
                    <a:lnTo>
                      <a:pt x="35" y="96"/>
                    </a:lnTo>
                    <a:lnTo>
                      <a:pt x="28" y="91"/>
                    </a:lnTo>
                    <a:lnTo>
                      <a:pt x="22" y="85"/>
                    </a:lnTo>
                    <a:lnTo>
                      <a:pt x="14" y="79"/>
                    </a:lnTo>
                    <a:lnTo>
                      <a:pt x="10" y="72"/>
                    </a:lnTo>
                    <a:lnTo>
                      <a:pt x="5" y="65"/>
                    </a:lnTo>
                    <a:lnTo>
                      <a:pt x="1" y="58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4" y="33"/>
                    </a:lnTo>
                    <a:lnTo>
                      <a:pt x="7" y="27"/>
                    </a:lnTo>
                    <a:lnTo>
                      <a:pt x="11" y="22"/>
                    </a:lnTo>
                    <a:lnTo>
                      <a:pt x="16" y="17"/>
                    </a:lnTo>
                    <a:lnTo>
                      <a:pt x="20" y="15"/>
                    </a:lnTo>
                    <a:lnTo>
                      <a:pt x="30" y="10"/>
                    </a:lnTo>
                    <a:lnTo>
                      <a:pt x="40" y="7"/>
                    </a:lnTo>
                    <a:lnTo>
                      <a:pt x="50" y="5"/>
                    </a:lnTo>
                    <a:lnTo>
                      <a:pt x="61" y="4"/>
                    </a:lnTo>
                    <a:lnTo>
                      <a:pt x="71" y="3"/>
                    </a:lnTo>
                    <a:lnTo>
                      <a:pt x="82" y="3"/>
                    </a:lnTo>
                    <a:lnTo>
                      <a:pt x="92" y="4"/>
                    </a:lnTo>
                    <a:lnTo>
                      <a:pt x="103" y="5"/>
                    </a:lnTo>
                    <a:lnTo>
                      <a:pt x="113" y="6"/>
                    </a:lnTo>
                    <a:lnTo>
                      <a:pt x="122" y="7"/>
                    </a:lnTo>
                    <a:lnTo>
                      <a:pt x="131" y="10"/>
                    </a:lnTo>
                    <a:lnTo>
                      <a:pt x="140" y="12"/>
                    </a:lnTo>
                    <a:lnTo>
                      <a:pt x="150" y="16"/>
                    </a:lnTo>
                    <a:lnTo>
                      <a:pt x="158" y="19"/>
                    </a:lnTo>
                    <a:lnTo>
                      <a:pt x="167" y="24"/>
                    </a:lnTo>
                    <a:lnTo>
                      <a:pt x="175" y="29"/>
                    </a:lnTo>
                    <a:lnTo>
                      <a:pt x="187" y="37"/>
                    </a:lnTo>
                    <a:lnTo>
                      <a:pt x="198" y="46"/>
                    </a:lnTo>
                    <a:lnTo>
                      <a:pt x="208" y="55"/>
                    </a:lnTo>
                    <a:lnTo>
                      <a:pt x="217" y="66"/>
                    </a:lnTo>
                    <a:lnTo>
                      <a:pt x="227" y="76"/>
                    </a:lnTo>
                    <a:lnTo>
                      <a:pt x="238" y="87"/>
                    </a:lnTo>
                    <a:lnTo>
                      <a:pt x="247" y="96"/>
                    </a:lnTo>
                    <a:lnTo>
                      <a:pt x="258" y="106"/>
                    </a:lnTo>
                    <a:lnTo>
                      <a:pt x="272" y="119"/>
                    </a:lnTo>
                    <a:lnTo>
                      <a:pt x="287" y="132"/>
                    </a:lnTo>
                    <a:lnTo>
                      <a:pt x="302" y="144"/>
                    </a:lnTo>
                    <a:lnTo>
                      <a:pt x="317" y="157"/>
                    </a:lnTo>
                    <a:lnTo>
                      <a:pt x="332" y="169"/>
                    </a:lnTo>
                    <a:lnTo>
                      <a:pt x="348" y="183"/>
                    </a:lnTo>
                    <a:lnTo>
                      <a:pt x="362" y="195"/>
                    </a:lnTo>
                    <a:lnTo>
                      <a:pt x="378" y="208"/>
                    </a:lnTo>
                    <a:lnTo>
                      <a:pt x="389" y="216"/>
                    </a:lnTo>
                    <a:lnTo>
                      <a:pt x="401" y="225"/>
                    </a:lnTo>
                    <a:lnTo>
                      <a:pt x="412" y="234"/>
                    </a:lnTo>
                    <a:lnTo>
                      <a:pt x="422" y="243"/>
                    </a:lnTo>
                    <a:lnTo>
                      <a:pt x="434" y="251"/>
                    </a:lnTo>
                    <a:lnTo>
                      <a:pt x="446" y="259"/>
                    </a:lnTo>
                    <a:lnTo>
                      <a:pt x="458" y="268"/>
                    </a:lnTo>
                    <a:lnTo>
                      <a:pt x="470" y="275"/>
                    </a:lnTo>
                    <a:lnTo>
                      <a:pt x="476" y="279"/>
                    </a:lnTo>
                    <a:lnTo>
                      <a:pt x="482" y="281"/>
                    </a:lnTo>
                    <a:lnTo>
                      <a:pt x="490" y="283"/>
                    </a:lnTo>
                    <a:lnTo>
                      <a:pt x="496" y="285"/>
                    </a:lnTo>
                    <a:lnTo>
                      <a:pt x="503" y="287"/>
                    </a:lnTo>
                    <a:lnTo>
                      <a:pt x="509" y="288"/>
                    </a:lnTo>
                    <a:lnTo>
                      <a:pt x="516" y="289"/>
                    </a:lnTo>
                    <a:lnTo>
                      <a:pt x="523" y="289"/>
                    </a:lnTo>
                    <a:lnTo>
                      <a:pt x="529" y="289"/>
                    </a:lnTo>
                    <a:lnTo>
                      <a:pt x="536" y="289"/>
                    </a:lnTo>
                    <a:lnTo>
                      <a:pt x="542" y="289"/>
                    </a:lnTo>
                    <a:lnTo>
                      <a:pt x="550" y="289"/>
                    </a:lnTo>
                    <a:lnTo>
                      <a:pt x="556" y="288"/>
                    </a:lnTo>
                    <a:lnTo>
                      <a:pt x="562" y="286"/>
                    </a:lnTo>
                    <a:lnTo>
                      <a:pt x="566" y="283"/>
                    </a:lnTo>
                    <a:lnTo>
                      <a:pt x="571" y="280"/>
                    </a:lnTo>
                    <a:lnTo>
                      <a:pt x="576" y="274"/>
                    </a:lnTo>
                    <a:lnTo>
                      <a:pt x="581" y="268"/>
                    </a:lnTo>
                    <a:lnTo>
                      <a:pt x="583" y="261"/>
                    </a:lnTo>
                    <a:lnTo>
                      <a:pt x="586" y="253"/>
                    </a:lnTo>
                    <a:lnTo>
                      <a:pt x="588" y="245"/>
                    </a:lnTo>
                    <a:lnTo>
                      <a:pt x="589" y="238"/>
                    </a:lnTo>
                    <a:lnTo>
                      <a:pt x="590" y="229"/>
                    </a:lnTo>
                    <a:lnTo>
                      <a:pt x="590" y="222"/>
                    </a:lnTo>
                    <a:lnTo>
                      <a:pt x="592" y="210"/>
                    </a:lnTo>
                    <a:lnTo>
                      <a:pt x="592" y="199"/>
                    </a:lnTo>
                    <a:lnTo>
                      <a:pt x="590" y="187"/>
                    </a:lnTo>
                    <a:lnTo>
                      <a:pt x="589" y="175"/>
                    </a:lnTo>
                    <a:lnTo>
                      <a:pt x="588" y="165"/>
                    </a:lnTo>
                    <a:lnTo>
                      <a:pt x="587" y="153"/>
                    </a:lnTo>
                    <a:lnTo>
                      <a:pt x="587" y="142"/>
                    </a:lnTo>
                    <a:lnTo>
                      <a:pt x="586" y="130"/>
                    </a:lnTo>
                    <a:lnTo>
                      <a:pt x="586" y="124"/>
                    </a:lnTo>
                    <a:lnTo>
                      <a:pt x="587" y="118"/>
                    </a:lnTo>
                    <a:lnTo>
                      <a:pt x="587" y="112"/>
                    </a:lnTo>
                    <a:lnTo>
                      <a:pt x="588" y="106"/>
                    </a:lnTo>
                    <a:lnTo>
                      <a:pt x="589" y="100"/>
                    </a:lnTo>
                    <a:lnTo>
                      <a:pt x="589" y="94"/>
                    </a:lnTo>
                    <a:lnTo>
                      <a:pt x="590" y="88"/>
                    </a:lnTo>
                    <a:lnTo>
                      <a:pt x="590" y="82"/>
                    </a:lnTo>
                    <a:lnTo>
                      <a:pt x="590" y="75"/>
                    </a:lnTo>
                    <a:lnTo>
                      <a:pt x="590" y="69"/>
                    </a:lnTo>
                    <a:lnTo>
                      <a:pt x="590" y="61"/>
                    </a:lnTo>
                    <a:lnTo>
                      <a:pt x="589" y="55"/>
                    </a:lnTo>
                    <a:lnTo>
                      <a:pt x="589" y="48"/>
                    </a:lnTo>
                    <a:lnTo>
                      <a:pt x="589" y="42"/>
                    </a:lnTo>
                    <a:lnTo>
                      <a:pt x="589" y="35"/>
                    </a:lnTo>
                    <a:lnTo>
                      <a:pt x="590" y="29"/>
                    </a:lnTo>
                    <a:lnTo>
                      <a:pt x="592" y="24"/>
                    </a:lnTo>
                    <a:lnTo>
                      <a:pt x="593" y="19"/>
                    </a:lnTo>
                    <a:lnTo>
                      <a:pt x="595" y="15"/>
                    </a:lnTo>
                    <a:lnTo>
                      <a:pt x="598" y="10"/>
                    </a:lnTo>
                    <a:lnTo>
                      <a:pt x="600" y="5"/>
                    </a:lnTo>
                    <a:lnTo>
                      <a:pt x="602" y="3"/>
                    </a:lnTo>
                    <a:lnTo>
                      <a:pt x="606" y="0"/>
                    </a:lnTo>
                    <a:lnTo>
                      <a:pt x="610" y="0"/>
                    </a:lnTo>
                    <a:lnTo>
                      <a:pt x="618" y="1"/>
                    </a:lnTo>
                    <a:lnTo>
                      <a:pt x="626" y="4"/>
                    </a:lnTo>
                    <a:lnTo>
                      <a:pt x="635" y="6"/>
                    </a:lnTo>
                    <a:lnTo>
                      <a:pt x="642" y="11"/>
                    </a:lnTo>
                    <a:lnTo>
                      <a:pt x="649" y="16"/>
                    </a:lnTo>
                    <a:lnTo>
                      <a:pt x="656" y="22"/>
                    </a:lnTo>
                    <a:lnTo>
                      <a:pt x="662" y="28"/>
                    </a:lnTo>
                    <a:lnTo>
                      <a:pt x="668" y="34"/>
                    </a:lnTo>
                    <a:lnTo>
                      <a:pt x="674" y="41"/>
                    </a:lnTo>
                    <a:lnTo>
                      <a:pt x="679" y="49"/>
                    </a:lnTo>
                    <a:lnTo>
                      <a:pt x="684" y="59"/>
                    </a:lnTo>
                    <a:lnTo>
                      <a:pt x="688" y="69"/>
                    </a:lnTo>
                    <a:lnTo>
                      <a:pt x="691" y="77"/>
                    </a:lnTo>
                    <a:lnTo>
                      <a:pt x="695" y="87"/>
                    </a:lnTo>
                    <a:lnTo>
                      <a:pt x="698" y="96"/>
                    </a:lnTo>
                    <a:lnTo>
                      <a:pt x="702" y="106"/>
                    </a:lnTo>
                    <a:lnTo>
                      <a:pt x="708" y="119"/>
                    </a:lnTo>
                    <a:lnTo>
                      <a:pt x="713" y="132"/>
                    </a:lnTo>
                    <a:lnTo>
                      <a:pt x="719" y="145"/>
                    </a:lnTo>
                    <a:lnTo>
                      <a:pt x="724" y="159"/>
                    </a:lnTo>
                    <a:lnTo>
                      <a:pt x="730" y="172"/>
                    </a:lnTo>
                    <a:lnTo>
                      <a:pt x="734" y="186"/>
                    </a:lnTo>
                    <a:lnTo>
                      <a:pt x="740" y="199"/>
                    </a:lnTo>
                    <a:lnTo>
                      <a:pt x="745" y="213"/>
                    </a:lnTo>
                    <a:lnTo>
                      <a:pt x="749" y="220"/>
                    </a:lnTo>
                    <a:lnTo>
                      <a:pt x="752" y="228"/>
                    </a:lnTo>
                    <a:lnTo>
                      <a:pt x="755" y="237"/>
                    </a:lnTo>
                    <a:lnTo>
                      <a:pt x="758" y="244"/>
                    </a:lnTo>
                    <a:lnTo>
                      <a:pt x="762" y="252"/>
                    </a:lnTo>
                    <a:lnTo>
                      <a:pt x="766" y="259"/>
                    </a:lnTo>
                    <a:lnTo>
                      <a:pt x="769" y="268"/>
                    </a:lnTo>
                    <a:lnTo>
                      <a:pt x="774" y="275"/>
                    </a:lnTo>
                    <a:lnTo>
                      <a:pt x="780" y="283"/>
                    </a:lnTo>
                    <a:lnTo>
                      <a:pt x="786" y="291"/>
                    </a:lnTo>
                    <a:lnTo>
                      <a:pt x="793" y="298"/>
                    </a:lnTo>
                    <a:lnTo>
                      <a:pt x="799" y="305"/>
                    </a:lnTo>
                    <a:lnTo>
                      <a:pt x="806" y="312"/>
                    </a:lnTo>
                    <a:lnTo>
                      <a:pt x="814" y="319"/>
                    </a:lnTo>
                    <a:lnTo>
                      <a:pt x="821" y="327"/>
                    </a:lnTo>
                    <a:lnTo>
                      <a:pt x="828" y="333"/>
                    </a:lnTo>
                    <a:lnTo>
                      <a:pt x="836" y="341"/>
                    </a:lnTo>
                    <a:lnTo>
                      <a:pt x="846" y="351"/>
                    </a:lnTo>
                    <a:lnTo>
                      <a:pt x="854" y="359"/>
                    </a:lnTo>
                    <a:lnTo>
                      <a:pt x="864" y="367"/>
                    </a:lnTo>
                    <a:lnTo>
                      <a:pt x="874" y="375"/>
                    </a:lnTo>
                    <a:lnTo>
                      <a:pt x="883" y="383"/>
                    </a:lnTo>
                    <a:lnTo>
                      <a:pt x="894" y="389"/>
                    </a:lnTo>
                    <a:lnTo>
                      <a:pt x="905" y="395"/>
                    </a:lnTo>
                    <a:lnTo>
                      <a:pt x="914" y="400"/>
                    </a:lnTo>
                    <a:lnTo>
                      <a:pt x="923" y="402"/>
                    </a:lnTo>
                    <a:lnTo>
                      <a:pt x="932" y="405"/>
                    </a:lnTo>
                    <a:lnTo>
                      <a:pt x="942" y="407"/>
                    </a:lnTo>
                    <a:lnTo>
                      <a:pt x="953" y="408"/>
                    </a:lnTo>
                    <a:lnTo>
                      <a:pt x="962" y="408"/>
                    </a:lnTo>
                    <a:lnTo>
                      <a:pt x="972" y="409"/>
                    </a:lnTo>
                    <a:lnTo>
                      <a:pt x="982" y="411"/>
                    </a:lnTo>
                    <a:lnTo>
                      <a:pt x="995" y="411"/>
                    </a:lnTo>
                    <a:lnTo>
                      <a:pt x="1007" y="411"/>
                    </a:lnTo>
                    <a:lnTo>
                      <a:pt x="1019" y="411"/>
                    </a:lnTo>
                    <a:lnTo>
                      <a:pt x="1031" y="411"/>
                    </a:lnTo>
                    <a:lnTo>
                      <a:pt x="1043" y="409"/>
                    </a:lnTo>
                    <a:lnTo>
                      <a:pt x="1055" y="408"/>
                    </a:lnTo>
                    <a:lnTo>
                      <a:pt x="1067" y="407"/>
                    </a:lnTo>
                    <a:lnTo>
                      <a:pt x="1079" y="405"/>
                    </a:lnTo>
                    <a:lnTo>
                      <a:pt x="1087" y="403"/>
                    </a:lnTo>
                    <a:lnTo>
                      <a:pt x="1096" y="402"/>
                    </a:lnTo>
                    <a:lnTo>
                      <a:pt x="1104" y="400"/>
                    </a:lnTo>
                    <a:lnTo>
                      <a:pt x="1111" y="396"/>
                    </a:lnTo>
                    <a:lnTo>
                      <a:pt x="1120" y="394"/>
                    </a:lnTo>
                    <a:lnTo>
                      <a:pt x="1127" y="390"/>
                    </a:lnTo>
                    <a:lnTo>
                      <a:pt x="1135" y="385"/>
                    </a:lnTo>
                    <a:lnTo>
                      <a:pt x="1141" y="381"/>
                    </a:lnTo>
                    <a:lnTo>
                      <a:pt x="1148" y="376"/>
                    </a:lnTo>
                    <a:lnTo>
                      <a:pt x="1156" y="370"/>
                    </a:lnTo>
                    <a:lnTo>
                      <a:pt x="1163" y="364"/>
                    </a:lnTo>
                    <a:lnTo>
                      <a:pt x="1170" y="358"/>
                    </a:lnTo>
                    <a:lnTo>
                      <a:pt x="1175" y="351"/>
                    </a:lnTo>
                    <a:lnTo>
                      <a:pt x="1180" y="343"/>
                    </a:lnTo>
                    <a:lnTo>
                      <a:pt x="1181" y="340"/>
                    </a:lnTo>
                    <a:lnTo>
                      <a:pt x="1181" y="336"/>
                    </a:lnTo>
                    <a:lnTo>
                      <a:pt x="1181" y="331"/>
                    </a:lnTo>
                    <a:lnTo>
                      <a:pt x="1181" y="328"/>
                    </a:lnTo>
                    <a:lnTo>
                      <a:pt x="1178" y="324"/>
                    </a:lnTo>
                    <a:lnTo>
                      <a:pt x="1176" y="321"/>
                    </a:lnTo>
                    <a:lnTo>
                      <a:pt x="1174" y="317"/>
                    </a:lnTo>
                    <a:lnTo>
                      <a:pt x="1171" y="315"/>
                    </a:lnTo>
                    <a:lnTo>
                      <a:pt x="1163" y="310"/>
                    </a:lnTo>
                    <a:lnTo>
                      <a:pt x="1154" y="306"/>
                    </a:lnTo>
                    <a:lnTo>
                      <a:pt x="1145" y="303"/>
                    </a:lnTo>
                    <a:lnTo>
                      <a:pt x="1135" y="300"/>
                    </a:lnTo>
                    <a:lnTo>
                      <a:pt x="1126" y="298"/>
                    </a:lnTo>
                    <a:lnTo>
                      <a:pt x="1117" y="294"/>
                    </a:lnTo>
                    <a:lnTo>
                      <a:pt x="1108" y="291"/>
                    </a:lnTo>
                    <a:lnTo>
                      <a:pt x="1097" y="287"/>
                    </a:lnTo>
                    <a:lnTo>
                      <a:pt x="1086" y="283"/>
                    </a:lnTo>
                    <a:lnTo>
                      <a:pt x="1076" y="281"/>
                    </a:lnTo>
                    <a:lnTo>
                      <a:pt x="1066" y="277"/>
                    </a:lnTo>
                    <a:lnTo>
                      <a:pt x="1055" y="274"/>
                    </a:lnTo>
                    <a:lnTo>
                      <a:pt x="1045" y="270"/>
                    </a:lnTo>
                    <a:lnTo>
                      <a:pt x="1036" y="265"/>
                    </a:lnTo>
                    <a:lnTo>
                      <a:pt x="1028" y="262"/>
                    </a:lnTo>
                    <a:lnTo>
                      <a:pt x="1022" y="257"/>
                    </a:lnTo>
                    <a:lnTo>
                      <a:pt x="1018" y="253"/>
                    </a:lnTo>
                    <a:lnTo>
                      <a:pt x="1012" y="249"/>
                    </a:lnTo>
                    <a:lnTo>
                      <a:pt x="1006" y="244"/>
                    </a:lnTo>
                    <a:lnTo>
                      <a:pt x="1001" y="238"/>
                    </a:lnTo>
                    <a:lnTo>
                      <a:pt x="996" y="232"/>
                    </a:lnTo>
                    <a:lnTo>
                      <a:pt x="992" y="227"/>
                    </a:lnTo>
                    <a:lnTo>
                      <a:pt x="988" y="221"/>
                    </a:lnTo>
                    <a:lnTo>
                      <a:pt x="984" y="214"/>
                    </a:lnTo>
                    <a:lnTo>
                      <a:pt x="980" y="208"/>
                    </a:lnTo>
                    <a:lnTo>
                      <a:pt x="977" y="202"/>
                    </a:lnTo>
                    <a:lnTo>
                      <a:pt x="974" y="195"/>
                    </a:lnTo>
                    <a:lnTo>
                      <a:pt x="972" y="187"/>
                    </a:lnTo>
                    <a:lnTo>
                      <a:pt x="970" y="180"/>
                    </a:lnTo>
                    <a:lnTo>
                      <a:pt x="967" y="173"/>
                    </a:lnTo>
                    <a:lnTo>
                      <a:pt x="967" y="168"/>
                    </a:lnTo>
                    <a:lnTo>
                      <a:pt x="966" y="163"/>
                    </a:lnTo>
                    <a:lnTo>
                      <a:pt x="966" y="159"/>
                    </a:lnTo>
                    <a:lnTo>
                      <a:pt x="966" y="153"/>
                    </a:lnTo>
                    <a:lnTo>
                      <a:pt x="966" y="148"/>
                    </a:lnTo>
                    <a:lnTo>
                      <a:pt x="967" y="143"/>
                    </a:lnTo>
                    <a:lnTo>
                      <a:pt x="970" y="138"/>
                    </a:lnTo>
                    <a:lnTo>
                      <a:pt x="972" y="135"/>
                    </a:lnTo>
                    <a:lnTo>
                      <a:pt x="977" y="131"/>
                    </a:lnTo>
                    <a:lnTo>
                      <a:pt x="983" y="129"/>
                    </a:lnTo>
                    <a:lnTo>
                      <a:pt x="989" y="126"/>
                    </a:lnTo>
                    <a:lnTo>
                      <a:pt x="995" y="125"/>
                    </a:lnTo>
                    <a:lnTo>
                      <a:pt x="1002" y="125"/>
                    </a:lnTo>
                    <a:lnTo>
                      <a:pt x="1008" y="125"/>
                    </a:lnTo>
                    <a:lnTo>
                      <a:pt x="1014" y="125"/>
                    </a:lnTo>
                    <a:lnTo>
                      <a:pt x="1021" y="125"/>
                    </a:lnTo>
                    <a:lnTo>
                      <a:pt x="1028" y="126"/>
                    </a:lnTo>
                    <a:lnTo>
                      <a:pt x="1037" y="129"/>
                    </a:lnTo>
                    <a:lnTo>
                      <a:pt x="1044" y="131"/>
                    </a:lnTo>
                    <a:lnTo>
                      <a:pt x="1052" y="133"/>
                    </a:lnTo>
                    <a:lnTo>
                      <a:pt x="1060" y="137"/>
                    </a:lnTo>
                    <a:lnTo>
                      <a:pt x="1068" y="139"/>
                    </a:lnTo>
                    <a:lnTo>
                      <a:pt x="1075" y="143"/>
                    </a:lnTo>
                    <a:lnTo>
                      <a:pt x="1084" y="144"/>
                    </a:lnTo>
                    <a:lnTo>
                      <a:pt x="1093" y="147"/>
                    </a:lnTo>
                    <a:lnTo>
                      <a:pt x="1103" y="148"/>
                    </a:lnTo>
                    <a:lnTo>
                      <a:pt x="1112" y="149"/>
                    </a:lnTo>
                    <a:lnTo>
                      <a:pt x="1122" y="150"/>
                    </a:lnTo>
                    <a:lnTo>
                      <a:pt x="1132" y="151"/>
                    </a:lnTo>
                    <a:lnTo>
                      <a:pt x="1141" y="153"/>
                    </a:lnTo>
                    <a:lnTo>
                      <a:pt x="1151" y="154"/>
                    </a:lnTo>
                    <a:lnTo>
                      <a:pt x="1160" y="154"/>
                    </a:lnTo>
                    <a:lnTo>
                      <a:pt x="1171" y="155"/>
                    </a:lnTo>
                    <a:lnTo>
                      <a:pt x="1183" y="155"/>
                    </a:lnTo>
                    <a:lnTo>
                      <a:pt x="1194" y="155"/>
                    </a:lnTo>
                    <a:lnTo>
                      <a:pt x="1205" y="155"/>
                    </a:lnTo>
                    <a:lnTo>
                      <a:pt x="1216" y="155"/>
                    </a:lnTo>
                    <a:lnTo>
                      <a:pt x="1226" y="155"/>
                    </a:lnTo>
                    <a:lnTo>
                      <a:pt x="1237" y="155"/>
                    </a:lnTo>
                    <a:lnTo>
                      <a:pt x="1248" y="154"/>
                    </a:lnTo>
                    <a:lnTo>
                      <a:pt x="1255" y="154"/>
                    </a:lnTo>
                    <a:lnTo>
                      <a:pt x="1262" y="153"/>
                    </a:lnTo>
                    <a:lnTo>
                      <a:pt x="1270" y="151"/>
                    </a:lnTo>
                    <a:lnTo>
                      <a:pt x="1277" y="150"/>
                    </a:lnTo>
                    <a:lnTo>
                      <a:pt x="1284" y="149"/>
                    </a:lnTo>
                    <a:lnTo>
                      <a:pt x="1291" y="149"/>
                    </a:lnTo>
                    <a:lnTo>
                      <a:pt x="1298" y="149"/>
                    </a:lnTo>
                    <a:lnTo>
                      <a:pt x="1306" y="149"/>
                    </a:lnTo>
                    <a:lnTo>
                      <a:pt x="1312" y="150"/>
                    </a:lnTo>
                    <a:lnTo>
                      <a:pt x="1318" y="153"/>
                    </a:lnTo>
                    <a:lnTo>
                      <a:pt x="1324" y="155"/>
                    </a:lnTo>
                    <a:lnTo>
                      <a:pt x="1330" y="157"/>
                    </a:lnTo>
                    <a:lnTo>
                      <a:pt x="1336" y="161"/>
                    </a:lnTo>
                    <a:lnTo>
                      <a:pt x="1340" y="165"/>
                    </a:lnTo>
                    <a:lnTo>
                      <a:pt x="1345" y="169"/>
                    </a:lnTo>
                    <a:lnTo>
                      <a:pt x="1349" y="173"/>
                    </a:lnTo>
                    <a:lnTo>
                      <a:pt x="1352" y="179"/>
                    </a:lnTo>
                    <a:lnTo>
                      <a:pt x="1356" y="184"/>
                    </a:lnTo>
                    <a:lnTo>
                      <a:pt x="1357" y="190"/>
                    </a:lnTo>
                    <a:lnTo>
                      <a:pt x="1360" y="197"/>
                    </a:lnTo>
                    <a:lnTo>
                      <a:pt x="1361" y="203"/>
                    </a:lnTo>
                    <a:lnTo>
                      <a:pt x="1361" y="209"/>
                    </a:lnTo>
                    <a:lnTo>
                      <a:pt x="1362" y="215"/>
                    </a:lnTo>
                    <a:lnTo>
                      <a:pt x="1364" y="222"/>
                    </a:lnTo>
                    <a:lnTo>
                      <a:pt x="1368" y="238"/>
                    </a:lnTo>
                    <a:lnTo>
                      <a:pt x="1372" y="255"/>
                    </a:lnTo>
                    <a:lnTo>
                      <a:pt x="1376" y="270"/>
                    </a:lnTo>
                    <a:lnTo>
                      <a:pt x="1380" y="287"/>
                    </a:lnTo>
                    <a:lnTo>
                      <a:pt x="1384" y="303"/>
                    </a:lnTo>
                    <a:lnTo>
                      <a:pt x="1387" y="319"/>
                    </a:lnTo>
                    <a:lnTo>
                      <a:pt x="1390" y="336"/>
                    </a:lnTo>
                    <a:lnTo>
                      <a:pt x="1393" y="352"/>
                    </a:lnTo>
                    <a:lnTo>
                      <a:pt x="1394" y="367"/>
                    </a:lnTo>
                    <a:lnTo>
                      <a:pt x="1396" y="382"/>
                    </a:lnTo>
                    <a:lnTo>
                      <a:pt x="1397" y="397"/>
                    </a:lnTo>
                    <a:lnTo>
                      <a:pt x="1397" y="413"/>
                    </a:lnTo>
                    <a:lnTo>
                      <a:pt x="1397" y="427"/>
                    </a:lnTo>
                    <a:lnTo>
                      <a:pt x="1398" y="443"/>
                    </a:lnTo>
                    <a:lnTo>
                      <a:pt x="1399" y="457"/>
                    </a:lnTo>
                    <a:lnTo>
                      <a:pt x="1403" y="473"/>
                    </a:lnTo>
                    <a:lnTo>
                      <a:pt x="1405" y="482"/>
                    </a:lnTo>
                    <a:lnTo>
                      <a:pt x="1408" y="492"/>
                    </a:lnTo>
                    <a:lnTo>
                      <a:pt x="1411" y="502"/>
                    </a:lnTo>
                    <a:lnTo>
                      <a:pt x="1415" y="511"/>
                    </a:lnTo>
                    <a:lnTo>
                      <a:pt x="1418" y="521"/>
                    </a:lnTo>
                    <a:lnTo>
                      <a:pt x="1423" y="529"/>
                    </a:lnTo>
                    <a:lnTo>
                      <a:pt x="1429" y="538"/>
                    </a:lnTo>
                    <a:lnTo>
                      <a:pt x="1436" y="545"/>
                    </a:lnTo>
                    <a:lnTo>
                      <a:pt x="1441" y="548"/>
                    </a:lnTo>
                    <a:lnTo>
                      <a:pt x="1447" y="552"/>
                    </a:lnTo>
                    <a:lnTo>
                      <a:pt x="1453" y="553"/>
                    </a:lnTo>
                    <a:lnTo>
                      <a:pt x="1460" y="554"/>
                    </a:lnTo>
                    <a:lnTo>
                      <a:pt x="1466" y="556"/>
                    </a:lnTo>
                    <a:lnTo>
                      <a:pt x="1474" y="554"/>
                    </a:lnTo>
                    <a:lnTo>
                      <a:pt x="1480" y="553"/>
                    </a:lnTo>
                    <a:lnTo>
                      <a:pt x="1484" y="550"/>
                    </a:lnTo>
                    <a:lnTo>
                      <a:pt x="1495" y="541"/>
                    </a:lnTo>
                    <a:lnTo>
                      <a:pt x="1506" y="532"/>
                    </a:lnTo>
                    <a:lnTo>
                      <a:pt x="1516" y="521"/>
                    </a:lnTo>
                    <a:lnTo>
                      <a:pt x="1524" y="510"/>
                    </a:lnTo>
                    <a:lnTo>
                      <a:pt x="1532" y="498"/>
                    </a:lnTo>
                    <a:lnTo>
                      <a:pt x="1541" y="486"/>
                    </a:lnTo>
                    <a:lnTo>
                      <a:pt x="1549" y="474"/>
                    </a:lnTo>
                    <a:lnTo>
                      <a:pt x="1558" y="463"/>
                    </a:lnTo>
                    <a:lnTo>
                      <a:pt x="1567" y="449"/>
                    </a:lnTo>
                    <a:lnTo>
                      <a:pt x="1578" y="435"/>
                    </a:lnTo>
                    <a:lnTo>
                      <a:pt x="1588" y="420"/>
                    </a:lnTo>
                    <a:lnTo>
                      <a:pt x="1598" y="405"/>
                    </a:lnTo>
                    <a:lnTo>
                      <a:pt x="1608" y="390"/>
                    </a:lnTo>
                    <a:lnTo>
                      <a:pt x="1618" y="376"/>
                    </a:lnTo>
                    <a:lnTo>
                      <a:pt x="1628" y="361"/>
                    </a:lnTo>
                    <a:lnTo>
                      <a:pt x="1639" y="347"/>
                    </a:lnTo>
                    <a:lnTo>
                      <a:pt x="1648" y="337"/>
                    </a:lnTo>
                    <a:lnTo>
                      <a:pt x="1655" y="327"/>
                    </a:lnTo>
                    <a:lnTo>
                      <a:pt x="1663" y="317"/>
                    </a:lnTo>
                    <a:lnTo>
                      <a:pt x="1672" y="307"/>
                    </a:lnTo>
                    <a:lnTo>
                      <a:pt x="1680" y="298"/>
                    </a:lnTo>
                    <a:lnTo>
                      <a:pt x="1688" y="288"/>
                    </a:lnTo>
                    <a:lnTo>
                      <a:pt x="1697" y="279"/>
                    </a:lnTo>
                    <a:lnTo>
                      <a:pt x="1706" y="270"/>
                    </a:lnTo>
                    <a:lnTo>
                      <a:pt x="1712" y="265"/>
                    </a:lnTo>
                    <a:lnTo>
                      <a:pt x="1718" y="261"/>
                    </a:lnTo>
                    <a:lnTo>
                      <a:pt x="1724" y="256"/>
                    </a:lnTo>
                    <a:lnTo>
                      <a:pt x="1732" y="251"/>
                    </a:lnTo>
                    <a:lnTo>
                      <a:pt x="1738" y="247"/>
                    </a:lnTo>
                    <a:lnTo>
                      <a:pt x="1744" y="246"/>
                    </a:lnTo>
                    <a:lnTo>
                      <a:pt x="1746" y="246"/>
                    </a:lnTo>
                    <a:lnTo>
                      <a:pt x="1747" y="246"/>
                    </a:lnTo>
                    <a:lnTo>
                      <a:pt x="1750" y="249"/>
                    </a:lnTo>
                    <a:lnTo>
                      <a:pt x="1751" y="251"/>
                    </a:lnTo>
                    <a:lnTo>
                      <a:pt x="1754" y="268"/>
                    </a:lnTo>
                    <a:lnTo>
                      <a:pt x="1757" y="285"/>
                    </a:lnTo>
                    <a:lnTo>
                      <a:pt x="1758" y="303"/>
                    </a:lnTo>
                    <a:lnTo>
                      <a:pt x="1758" y="321"/>
                    </a:lnTo>
                    <a:lnTo>
                      <a:pt x="1756" y="339"/>
                    </a:lnTo>
                    <a:lnTo>
                      <a:pt x="1753" y="357"/>
                    </a:lnTo>
                    <a:lnTo>
                      <a:pt x="1750" y="373"/>
                    </a:lnTo>
                    <a:lnTo>
                      <a:pt x="1746" y="390"/>
                    </a:lnTo>
                    <a:lnTo>
                      <a:pt x="1736" y="420"/>
                    </a:lnTo>
                    <a:lnTo>
                      <a:pt x="1726" y="450"/>
                    </a:lnTo>
                    <a:lnTo>
                      <a:pt x="1715" y="480"/>
                    </a:lnTo>
                    <a:lnTo>
                      <a:pt x="1703" y="509"/>
                    </a:lnTo>
                    <a:lnTo>
                      <a:pt x="1690" y="538"/>
                    </a:lnTo>
                    <a:lnTo>
                      <a:pt x="1676" y="565"/>
                    </a:lnTo>
                    <a:lnTo>
                      <a:pt x="1662" y="594"/>
                    </a:lnTo>
                    <a:lnTo>
                      <a:pt x="1649" y="623"/>
                    </a:lnTo>
                    <a:lnTo>
                      <a:pt x="1642" y="638"/>
                    </a:lnTo>
                    <a:lnTo>
                      <a:pt x="1633" y="654"/>
                    </a:lnTo>
                    <a:lnTo>
                      <a:pt x="1625" y="670"/>
                    </a:lnTo>
                    <a:lnTo>
                      <a:pt x="1616" y="685"/>
                    </a:lnTo>
                    <a:lnTo>
                      <a:pt x="1607" y="700"/>
                    </a:lnTo>
                    <a:lnTo>
                      <a:pt x="1597" y="715"/>
                    </a:lnTo>
                    <a:lnTo>
                      <a:pt x="1588" y="728"/>
                    </a:lnTo>
                    <a:lnTo>
                      <a:pt x="1577" y="743"/>
                    </a:lnTo>
                    <a:lnTo>
                      <a:pt x="1568" y="751"/>
                    </a:lnTo>
                    <a:lnTo>
                      <a:pt x="1560" y="760"/>
                    </a:lnTo>
                    <a:lnTo>
                      <a:pt x="1550" y="767"/>
                    </a:lnTo>
                    <a:lnTo>
                      <a:pt x="1542" y="773"/>
                    </a:lnTo>
                    <a:lnTo>
                      <a:pt x="1531" y="780"/>
                    </a:lnTo>
                    <a:lnTo>
                      <a:pt x="1522" y="786"/>
                    </a:lnTo>
                    <a:lnTo>
                      <a:pt x="1513" y="793"/>
                    </a:lnTo>
                    <a:lnTo>
                      <a:pt x="1504" y="800"/>
                    </a:lnTo>
                    <a:lnTo>
                      <a:pt x="1500" y="804"/>
                    </a:lnTo>
                    <a:lnTo>
                      <a:pt x="1495" y="809"/>
                    </a:lnTo>
                    <a:lnTo>
                      <a:pt x="1490" y="812"/>
                    </a:lnTo>
                    <a:lnTo>
                      <a:pt x="1487" y="816"/>
                    </a:lnTo>
                    <a:lnTo>
                      <a:pt x="1483" y="821"/>
                    </a:lnTo>
                    <a:lnTo>
                      <a:pt x="1480" y="824"/>
                    </a:lnTo>
                    <a:lnTo>
                      <a:pt x="1477" y="829"/>
                    </a:lnTo>
                    <a:lnTo>
                      <a:pt x="1475" y="834"/>
                    </a:lnTo>
                    <a:lnTo>
                      <a:pt x="1474" y="841"/>
                    </a:lnTo>
                    <a:lnTo>
                      <a:pt x="1472" y="847"/>
                    </a:lnTo>
                    <a:lnTo>
                      <a:pt x="1472" y="854"/>
                    </a:lnTo>
                    <a:lnTo>
                      <a:pt x="1474" y="862"/>
                    </a:lnTo>
                    <a:lnTo>
                      <a:pt x="1475" y="868"/>
                    </a:lnTo>
                    <a:lnTo>
                      <a:pt x="1477" y="874"/>
                    </a:lnTo>
                    <a:lnTo>
                      <a:pt x="1480" y="878"/>
                    </a:lnTo>
                    <a:lnTo>
                      <a:pt x="1484" y="883"/>
                    </a:lnTo>
                    <a:lnTo>
                      <a:pt x="1494" y="888"/>
                    </a:lnTo>
                    <a:lnTo>
                      <a:pt x="1505" y="893"/>
                    </a:lnTo>
                    <a:lnTo>
                      <a:pt x="1516" y="895"/>
                    </a:lnTo>
                    <a:lnTo>
                      <a:pt x="1526" y="898"/>
                    </a:lnTo>
                    <a:lnTo>
                      <a:pt x="1537" y="899"/>
                    </a:lnTo>
                    <a:lnTo>
                      <a:pt x="1549" y="899"/>
                    </a:lnTo>
                    <a:lnTo>
                      <a:pt x="1560" y="899"/>
                    </a:lnTo>
                    <a:lnTo>
                      <a:pt x="1572" y="898"/>
                    </a:lnTo>
                    <a:lnTo>
                      <a:pt x="1584" y="895"/>
                    </a:lnTo>
                    <a:lnTo>
                      <a:pt x="1596" y="892"/>
                    </a:lnTo>
                    <a:lnTo>
                      <a:pt x="1607" y="888"/>
                    </a:lnTo>
                    <a:lnTo>
                      <a:pt x="1619" y="882"/>
                    </a:lnTo>
                    <a:lnTo>
                      <a:pt x="1630" y="877"/>
                    </a:lnTo>
                    <a:lnTo>
                      <a:pt x="1640" y="870"/>
                    </a:lnTo>
                    <a:lnTo>
                      <a:pt x="1650" y="863"/>
                    </a:lnTo>
                    <a:lnTo>
                      <a:pt x="1658" y="854"/>
                    </a:lnTo>
                    <a:lnTo>
                      <a:pt x="1673" y="836"/>
                    </a:lnTo>
                    <a:lnTo>
                      <a:pt x="1686" y="817"/>
                    </a:lnTo>
                    <a:lnTo>
                      <a:pt x="1697" y="798"/>
                    </a:lnTo>
                    <a:lnTo>
                      <a:pt x="1709" y="778"/>
                    </a:lnTo>
                    <a:lnTo>
                      <a:pt x="1720" y="757"/>
                    </a:lnTo>
                    <a:lnTo>
                      <a:pt x="1730" y="738"/>
                    </a:lnTo>
                    <a:lnTo>
                      <a:pt x="1742" y="718"/>
                    </a:lnTo>
                    <a:lnTo>
                      <a:pt x="1756" y="700"/>
                    </a:lnTo>
                    <a:lnTo>
                      <a:pt x="1765" y="688"/>
                    </a:lnTo>
                    <a:lnTo>
                      <a:pt x="1776" y="676"/>
                    </a:lnTo>
                    <a:lnTo>
                      <a:pt x="1787" y="664"/>
                    </a:lnTo>
                    <a:lnTo>
                      <a:pt x="1798" y="653"/>
                    </a:lnTo>
                    <a:lnTo>
                      <a:pt x="1810" y="642"/>
                    </a:lnTo>
                    <a:lnTo>
                      <a:pt x="1822" y="631"/>
                    </a:lnTo>
                    <a:lnTo>
                      <a:pt x="1834" y="622"/>
                    </a:lnTo>
                    <a:lnTo>
                      <a:pt x="1847" y="612"/>
                    </a:lnTo>
                    <a:lnTo>
                      <a:pt x="1855" y="607"/>
                    </a:lnTo>
                    <a:lnTo>
                      <a:pt x="1864" y="601"/>
                    </a:lnTo>
                    <a:lnTo>
                      <a:pt x="1872" y="596"/>
                    </a:lnTo>
                    <a:lnTo>
                      <a:pt x="1882" y="592"/>
                    </a:lnTo>
                    <a:lnTo>
                      <a:pt x="1891" y="588"/>
                    </a:lnTo>
                    <a:lnTo>
                      <a:pt x="1900" y="584"/>
                    </a:lnTo>
                    <a:lnTo>
                      <a:pt x="1909" y="583"/>
                    </a:lnTo>
                    <a:lnTo>
                      <a:pt x="1920" y="583"/>
                    </a:lnTo>
                    <a:lnTo>
                      <a:pt x="1928" y="586"/>
                    </a:lnTo>
                    <a:lnTo>
                      <a:pt x="1938" y="589"/>
                    </a:lnTo>
                    <a:lnTo>
                      <a:pt x="1945" y="594"/>
                    </a:lnTo>
                    <a:lnTo>
                      <a:pt x="1954" y="600"/>
                    </a:lnTo>
                    <a:lnTo>
                      <a:pt x="1961" y="606"/>
                    </a:lnTo>
                    <a:lnTo>
                      <a:pt x="1968" y="613"/>
                    </a:lnTo>
                    <a:lnTo>
                      <a:pt x="1975" y="620"/>
                    </a:lnTo>
                    <a:lnTo>
                      <a:pt x="1982" y="628"/>
                    </a:lnTo>
                    <a:lnTo>
                      <a:pt x="1988" y="635"/>
                    </a:lnTo>
                    <a:lnTo>
                      <a:pt x="1994" y="642"/>
                    </a:lnTo>
                    <a:lnTo>
                      <a:pt x="2000" y="650"/>
                    </a:lnTo>
                    <a:lnTo>
                      <a:pt x="2005" y="660"/>
                    </a:lnTo>
                    <a:lnTo>
                      <a:pt x="2011" y="668"/>
                    </a:lnTo>
                    <a:lnTo>
                      <a:pt x="2016" y="677"/>
                    </a:lnTo>
                    <a:lnTo>
                      <a:pt x="2021" y="686"/>
                    </a:lnTo>
                    <a:lnTo>
                      <a:pt x="2026" y="695"/>
                    </a:lnTo>
                    <a:lnTo>
                      <a:pt x="2033" y="707"/>
                    </a:lnTo>
                    <a:lnTo>
                      <a:pt x="2041" y="720"/>
                    </a:lnTo>
                    <a:lnTo>
                      <a:pt x="2050" y="732"/>
                    </a:lnTo>
                    <a:lnTo>
                      <a:pt x="2057" y="744"/>
                    </a:lnTo>
                    <a:lnTo>
                      <a:pt x="2064" y="757"/>
                    </a:lnTo>
                    <a:lnTo>
                      <a:pt x="2071" y="769"/>
                    </a:lnTo>
                    <a:lnTo>
                      <a:pt x="2078" y="782"/>
                    </a:lnTo>
                    <a:lnTo>
                      <a:pt x="2083" y="796"/>
                    </a:lnTo>
                    <a:lnTo>
                      <a:pt x="2087" y="804"/>
                    </a:lnTo>
                    <a:lnTo>
                      <a:pt x="2089" y="812"/>
                    </a:lnTo>
                    <a:lnTo>
                      <a:pt x="2092" y="821"/>
                    </a:lnTo>
                    <a:lnTo>
                      <a:pt x="2093" y="829"/>
                    </a:lnTo>
                    <a:lnTo>
                      <a:pt x="2094" y="838"/>
                    </a:lnTo>
                    <a:lnTo>
                      <a:pt x="2095" y="846"/>
                    </a:lnTo>
                    <a:lnTo>
                      <a:pt x="2094" y="856"/>
                    </a:lnTo>
                    <a:lnTo>
                      <a:pt x="2093" y="864"/>
                    </a:lnTo>
                    <a:lnTo>
                      <a:pt x="2092" y="869"/>
                    </a:lnTo>
                    <a:lnTo>
                      <a:pt x="2089" y="875"/>
                    </a:lnTo>
                    <a:lnTo>
                      <a:pt x="2087" y="881"/>
                    </a:lnTo>
                    <a:lnTo>
                      <a:pt x="2083" y="886"/>
                    </a:lnTo>
                    <a:lnTo>
                      <a:pt x="2080" y="890"/>
                    </a:lnTo>
                    <a:lnTo>
                      <a:pt x="2075" y="894"/>
                    </a:lnTo>
                    <a:lnTo>
                      <a:pt x="2070" y="896"/>
                    </a:lnTo>
                    <a:lnTo>
                      <a:pt x="2064" y="898"/>
                    </a:lnTo>
                    <a:lnTo>
                      <a:pt x="2056" y="898"/>
                    </a:lnTo>
                    <a:lnTo>
                      <a:pt x="2047" y="895"/>
                    </a:lnTo>
                    <a:lnTo>
                      <a:pt x="2039" y="893"/>
                    </a:lnTo>
                    <a:lnTo>
                      <a:pt x="2030" y="889"/>
                    </a:lnTo>
                    <a:lnTo>
                      <a:pt x="2023" y="884"/>
                    </a:lnTo>
                    <a:lnTo>
                      <a:pt x="2015" y="880"/>
                    </a:lnTo>
                    <a:lnTo>
                      <a:pt x="2008" y="874"/>
                    </a:lnTo>
                    <a:lnTo>
                      <a:pt x="2002" y="869"/>
                    </a:lnTo>
                    <a:lnTo>
                      <a:pt x="1993" y="859"/>
                    </a:lnTo>
                    <a:lnTo>
                      <a:pt x="1985" y="850"/>
                    </a:lnTo>
                    <a:lnTo>
                      <a:pt x="1978" y="840"/>
                    </a:lnTo>
                    <a:lnTo>
                      <a:pt x="1970" y="829"/>
                    </a:lnTo>
                    <a:lnTo>
                      <a:pt x="1964" y="818"/>
                    </a:lnTo>
                    <a:lnTo>
                      <a:pt x="1957" y="808"/>
                    </a:lnTo>
                    <a:lnTo>
                      <a:pt x="1951" y="797"/>
                    </a:lnTo>
                    <a:lnTo>
                      <a:pt x="1944" y="786"/>
                    </a:lnTo>
                    <a:lnTo>
                      <a:pt x="1939" y="780"/>
                    </a:lnTo>
                    <a:lnTo>
                      <a:pt x="1934" y="774"/>
                    </a:lnTo>
                    <a:lnTo>
                      <a:pt x="1931" y="767"/>
                    </a:lnTo>
                    <a:lnTo>
                      <a:pt x="1926" y="761"/>
                    </a:lnTo>
                    <a:lnTo>
                      <a:pt x="1921" y="755"/>
                    </a:lnTo>
                    <a:lnTo>
                      <a:pt x="1916" y="749"/>
                    </a:lnTo>
                    <a:lnTo>
                      <a:pt x="1910" y="743"/>
                    </a:lnTo>
                    <a:lnTo>
                      <a:pt x="1904" y="738"/>
                    </a:lnTo>
                    <a:lnTo>
                      <a:pt x="1902" y="737"/>
                    </a:lnTo>
                    <a:lnTo>
                      <a:pt x="1900" y="736"/>
                    </a:lnTo>
                    <a:lnTo>
                      <a:pt x="1896" y="734"/>
                    </a:lnTo>
                    <a:lnTo>
                      <a:pt x="1892" y="733"/>
                    </a:lnTo>
                    <a:lnTo>
                      <a:pt x="1889" y="734"/>
                    </a:lnTo>
                    <a:lnTo>
                      <a:pt x="1885" y="734"/>
                    </a:lnTo>
                    <a:lnTo>
                      <a:pt x="1883" y="736"/>
                    </a:lnTo>
                    <a:lnTo>
                      <a:pt x="1880" y="738"/>
                    </a:lnTo>
                    <a:lnTo>
                      <a:pt x="1872" y="751"/>
                    </a:lnTo>
                    <a:lnTo>
                      <a:pt x="1865" y="764"/>
                    </a:lnTo>
                    <a:lnTo>
                      <a:pt x="1858" y="779"/>
                    </a:lnTo>
                    <a:lnTo>
                      <a:pt x="1850" y="793"/>
                    </a:lnTo>
                    <a:lnTo>
                      <a:pt x="1844" y="808"/>
                    </a:lnTo>
                    <a:lnTo>
                      <a:pt x="1837" y="821"/>
                    </a:lnTo>
                    <a:lnTo>
                      <a:pt x="1830" y="835"/>
                    </a:lnTo>
                    <a:lnTo>
                      <a:pt x="1823" y="850"/>
                    </a:lnTo>
                    <a:lnTo>
                      <a:pt x="1814" y="863"/>
                    </a:lnTo>
                    <a:lnTo>
                      <a:pt x="1806" y="876"/>
                    </a:lnTo>
                    <a:lnTo>
                      <a:pt x="1798" y="890"/>
                    </a:lnTo>
                    <a:lnTo>
                      <a:pt x="1789" y="904"/>
                    </a:lnTo>
                    <a:lnTo>
                      <a:pt x="1780" y="917"/>
                    </a:lnTo>
                    <a:lnTo>
                      <a:pt x="1770" y="930"/>
                    </a:lnTo>
                    <a:lnTo>
                      <a:pt x="1760" y="943"/>
                    </a:lnTo>
                    <a:lnTo>
                      <a:pt x="1751" y="955"/>
                    </a:lnTo>
                    <a:lnTo>
                      <a:pt x="1740" y="966"/>
                    </a:lnTo>
                    <a:lnTo>
                      <a:pt x="1730" y="978"/>
                    </a:lnTo>
                    <a:lnTo>
                      <a:pt x="1720" y="988"/>
                    </a:lnTo>
                    <a:lnTo>
                      <a:pt x="1709" y="998"/>
                    </a:lnTo>
                    <a:lnTo>
                      <a:pt x="1698" y="1008"/>
                    </a:lnTo>
                    <a:lnTo>
                      <a:pt x="1686" y="1019"/>
                    </a:lnTo>
                    <a:lnTo>
                      <a:pt x="1675" y="1028"/>
                    </a:lnTo>
                    <a:lnTo>
                      <a:pt x="1663" y="1037"/>
                    </a:lnTo>
                    <a:lnTo>
                      <a:pt x="1655" y="1044"/>
                    </a:lnTo>
                    <a:lnTo>
                      <a:pt x="1646" y="1050"/>
                    </a:lnTo>
                    <a:lnTo>
                      <a:pt x="1638" y="1056"/>
                    </a:lnTo>
                    <a:lnTo>
                      <a:pt x="1628" y="1062"/>
                    </a:lnTo>
                    <a:lnTo>
                      <a:pt x="1620" y="1067"/>
                    </a:lnTo>
                    <a:lnTo>
                      <a:pt x="1610" y="1072"/>
                    </a:lnTo>
                    <a:lnTo>
                      <a:pt x="1601" y="1076"/>
                    </a:lnTo>
                    <a:lnTo>
                      <a:pt x="1591" y="1081"/>
                    </a:lnTo>
                    <a:lnTo>
                      <a:pt x="1582" y="1084"/>
                    </a:lnTo>
                    <a:lnTo>
                      <a:pt x="1573" y="1086"/>
                    </a:lnTo>
                    <a:lnTo>
                      <a:pt x="1564" y="1087"/>
                    </a:lnTo>
                    <a:lnTo>
                      <a:pt x="1555" y="1088"/>
                    </a:lnTo>
                    <a:lnTo>
                      <a:pt x="1546" y="1090"/>
                    </a:lnTo>
                    <a:lnTo>
                      <a:pt x="1536" y="1091"/>
                    </a:lnTo>
                    <a:lnTo>
                      <a:pt x="1528" y="1093"/>
                    </a:lnTo>
                    <a:lnTo>
                      <a:pt x="1518" y="1096"/>
                    </a:lnTo>
                    <a:lnTo>
                      <a:pt x="1512" y="1097"/>
                    </a:lnTo>
                    <a:lnTo>
                      <a:pt x="1506" y="1098"/>
                    </a:lnTo>
                    <a:lnTo>
                      <a:pt x="1500" y="1099"/>
                    </a:lnTo>
                    <a:lnTo>
                      <a:pt x="1494" y="1102"/>
                    </a:lnTo>
                    <a:lnTo>
                      <a:pt x="1488" y="1104"/>
                    </a:lnTo>
                    <a:lnTo>
                      <a:pt x="1483" y="1106"/>
                    </a:lnTo>
                    <a:lnTo>
                      <a:pt x="1478" y="1110"/>
                    </a:lnTo>
                    <a:lnTo>
                      <a:pt x="1475" y="1115"/>
                    </a:lnTo>
                    <a:lnTo>
                      <a:pt x="1474" y="1118"/>
                    </a:lnTo>
                    <a:lnTo>
                      <a:pt x="1474" y="1123"/>
                    </a:lnTo>
                    <a:lnTo>
                      <a:pt x="1475" y="1128"/>
                    </a:lnTo>
                    <a:lnTo>
                      <a:pt x="1477" y="1133"/>
                    </a:lnTo>
                    <a:lnTo>
                      <a:pt x="1480" y="1136"/>
                    </a:lnTo>
                    <a:lnTo>
                      <a:pt x="1483" y="1141"/>
                    </a:lnTo>
                    <a:lnTo>
                      <a:pt x="1486" y="1145"/>
                    </a:lnTo>
                    <a:lnTo>
                      <a:pt x="1489" y="1148"/>
                    </a:lnTo>
                    <a:lnTo>
                      <a:pt x="1498" y="1156"/>
                    </a:lnTo>
                    <a:lnTo>
                      <a:pt x="1506" y="1162"/>
                    </a:lnTo>
                    <a:lnTo>
                      <a:pt x="1514" y="1166"/>
                    </a:lnTo>
                    <a:lnTo>
                      <a:pt x="1524" y="1172"/>
                    </a:lnTo>
                    <a:lnTo>
                      <a:pt x="1534" y="1177"/>
                    </a:lnTo>
                    <a:lnTo>
                      <a:pt x="1542" y="1183"/>
                    </a:lnTo>
                    <a:lnTo>
                      <a:pt x="1550" y="1189"/>
                    </a:lnTo>
                    <a:lnTo>
                      <a:pt x="1558" y="1196"/>
                    </a:lnTo>
                    <a:lnTo>
                      <a:pt x="1565" y="1206"/>
                    </a:lnTo>
                    <a:lnTo>
                      <a:pt x="1571" y="1217"/>
                    </a:lnTo>
                    <a:lnTo>
                      <a:pt x="1576" y="1227"/>
                    </a:lnTo>
                    <a:lnTo>
                      <a:pt x="1582" y="1238"/>
                    </a:lnTo>
                    <a:lnTo>
                      <a:pt x="1586" y="1250"/>
                    </a:lnTo>
                    <a:lnTo>
                      <a:pt x="1591" y="1261"/>
                    </a:lnTo>
                    <a:lnTo>
                      <a:pt x="1596" y="1272"/>
                    </a:lnTo>
                    <a:lnTo>
                      <a:pt x="1601" y="1284"/>
                    </a:lnTo>
                    <a:lnTo>
                      <a:pt x="1607" y="1298"/>
                    </a:lnTo>
                    <a:lnTo>
                      <a:pt x="1614" y="1315"/>
                    </a:lnTo>
                    <a:lnTo>
                      <a:pt x="1619" y="1331"/>
                    </a:lnTo>
                    <a:lnTo>
                      <a:pt x="1625" y="1346"/>
                    </a:lnTo>
                    <a:lnTo>
                      <a:pt x="1632" y="1362"/>
                    </a:lnTo>
                    <a:lnTo>
                      <a:pt x="1639" y="1377"/>
                    </a:lnTo>
                    <a:lnTo>
                      <a:pt x="1648" y="1391"/>
                    </a:lnTo>
                    <a:lnTo>
                      <a:pt x="1658" y="1404"/>
                    </a:lnTo>
                    <a:lnTo>
                      <a:pt x="1672" y="1416"/>
                    </a:lnTo>
                    <a:lnTo>
                      <a:pt x="1686" y="1427"/>
                    </a:lnTo>
                    <a:lnTo>
                      <a:pt x="1702" y="1436"/>
                    </a:lnTo>
                    <a:lnTo>
                      <a:pt x="1717" y="1446"/>
                    </a:lnTo>
                    <a:lnTo>
                      <a:pt x="1734" y="1453"/>
                    </a:lnTo>
                    <a:lnTo>
                      <a:pt x="1751" y="1461"/>
                    </a:lnTo>
                    <a:lnTo>
                      <a:pt x="1768" y="1469"/>
                    </a:lnTo>
                    <a:lnTo>
                      <a:pt x="1784" y="1477"/>
                    </a:lnTo>
                    <a:lnTo>
                      <a:pt x="1796" y="1482"/>
                    </a:lnTo>
                    <a:lnTo>
                      <a:pt x="1808" y="1487"/>
                    </a:lnTo>
                    <a:lnTo>
                      <a:pt x="1820" y="1490"/>
                    </a:lnTo>
                    <a:lnTo>
                      <a:pt x="1832" y="1495"/>
                    </a:lnTo>
                    <a:lnTo>
                      <a:pt x="1846" y="1499"/>
                    </a:lnTo>
                    <a:lnTo>
                      <a:pt x="1858" y="1503"/>
                    </a:lnTo>
                    <a:lnTo>
                      <a:pt x="1870" y="1509"/>
                    </a:lnTo>
                    <a:lnTo>
                      <a:pt x="1880" y="1515"/>
                    </a:lnTo>
                    <a:lnTo>
                      <a:pt x="1886" y="1519"/>
                    </a:lnTo>
                    <a:lnTo>
                      <a:pt x="1891" y="1523"/>
                    </a:lnTo>
                    <a:lnTo>
                      <a:pt x="1897" y="1526"/>
                    </a:lnTo>
                    <a:lnTo>
                      <a:pt x="1902" y="1531"/>
                    </a:lnTo>
                    <a:lnTo>
                      <a:pt x="1906" y="1537"/>
                    </a:lnTo>
                    <a:lnTo>
                      <a:pt x="1909" y="1542"/>
                    </a:lnTo>
                    <a:lnTo>
                      <a:pt x="1913" y="1548"/>
                    </a:lnTo>
                    <a:lnTo>
                      <a:pt x="1914" y="1554"/>
                    </a:lnTo>
                    <a:lnTo>
                      <a:pt x="1916" y="1561"/>
                    </a:lnTo>
                    <a:lnTo>
                      <a:pt x="1918" y="1569"/>
                    </a:lnTo>
                    <a:lnTo>
                      <a:pt x="1919" y="1579"/>
                    </a:lnTo>
                    <a:lnTo>
                      <a:pt x="1919" y="1587"/>
                    </a:lnTo>
                    <a:lnTo>
                      <a:pt x="1918" y="1595"/>
                    </a:lnTo>
                    <a:lnTo>
                      <a:pt x="1915" y="1602"/>
                    </a:lnTo>
                    <a:lnTo>
                      <a:pt x="1913" y="1605"/>
                    </a:lnTo>
                    <a:lnTo>
                      <a:pt x="1910" y="1608"/>
                    </a:lnTo>
                    <a:lnTo>
                      <a:pt x="1908" y="1610"/>
                    </a:lnTo>
                    <a:lnTo>
                      <a:pt x="1904" y="1611"/>
                    </a:lnTo>
                    <a:lnTo>
                      <a:pt x="1898" y="1614"/>
                    </a:lnTo>
                    <a:lnTo>
                      <a:pt x="1892" y="1615"/>
                    </a:lnTo>
                    <a:lnTo>
                      <a:pt x="1886" y="1616"/>
                    </a:lnTo>
                    <a:lnTo>
                      <a:pt x="1880" y="1616"/>
                    </a:lnTo>
                    <a:lnTo>
                      <a:pt x="1867" y="1615"/>
                    </a:lnTo>
                    <a:lnTo>
                      <a:pt x="1854" y="1613"/>
                    </a:lnTo>
                    <a:lnTo>
                      <a:pt x="1842" y="1609"/>
                    </a:lnTo>
                    <a:lnTo>
                      <a:pt x="1829" y="1605"/>
                    </a:lnTo>
                    <a:lnTo>
                      <a:pt x="1816" y="1601"/>
                    </a:lnTo>
                    <a:lnTo>
                      <a:pt x="1804" y="1597"/>
                    </a:lnTo>
                    <a:lnTo>
                      <a:pt x="1789" y="1593"/>
                    </a:lnTo>
                    <a:lnTo>
                      <a:pt x="1776" y="1589"/>
                    </a:lnTo>
                    <a:lnTo>
                      <a:pt x="1763" y="1583"/>
                    </a:lnTo>
                    <a:lnTo>
                      <a:pt x="1750" y="1578"/>
                    </a:lnTo>
                    <a:lnTo>
                      <a:pt x="1736" y="1572"/>
                    </a:lnTo>
                    <a:lnTo>
                      <a:pt x="1723" y="1566"/>
                    </a:lnTo>
                    <a:lnTo>
                      <a:pt x="1710" y="1560"/>
                    </a:lnTo>
                    <a:lnTo>
                      <a:pt x="1697" y="1554"/>
                    </a:lnTo>
                    <a:lnTo>
                      <a:pt x="1681" y="1547"/>
                    </a:lnTo>
                    <a:lnTo>
                      <a:pt x="1664" y="1541"/>
                    </a:lnTo>
                    <a:lnTo>
                      <a:pt x="1649" y="1535"/>
                    </a:lnTo>
                    <a:lnTo>
                      <a:pt x="1632" y="1527"/>
                    </a:lnTo>
                    <a:lnTo>
                      <a:pt x="1616" y="1521"/>
                    </a:lnTo>
                    <a:lnTo>
                      <a:pt x="1601" y="1513"/>
                    </a:lnTo>
                    <a:lnTo>
                      <a:pt x="1586" y="1506"/>
                    </a:lnTo>
                    <a:lnTo>
                      <a:pt x="1572" y="1496"/>
                    </a:lnTo>
                    <a:lnTo>
                      <a:pt x="1561" y="1488"/>
                    </a:lnTo>
                    <a:lnTo>
                      <a:pt x="1552" y="1478"/>
                    </a:lnTo>
                    <a:lnTo>
                      <a:pt x="1542" y="1469"/>
                    </a:lnTo>
                    <a:lnTo>
                      <a:pt x="1532" y="1459"/>
                    </a:lnTo>
                    <a:lnTo>
                      <a:pt x="1525" y="1448"/>
                    </a:lnTo>
                    <a:lnTo>
                      <a:pt x="1517" y="1437"/>
                    </a:lnTo>
                    <a:lnTo>
                      <a:pt x="1510" y="1425"/>
                    </a:lnTo>
                    <a:lnTo>
                      <a:pt x="1504" y="1413"/>
                    </a:lnTo>
                    <a:lnTo>
                      <a:pt x="1501" y="1405"/>
                    </a:lnTo>
                    <a:lnTo>
                      <a:pt x="1499" y="1397"/>
                    </a:lnTo>
                    <a:lnTo>
                      <a:pt x="1498" y="1387"/>
                    </a:lnTo>
                    <a:lnTo>
                      <a:pt x="1498" y="1377"/>
                    </a:lnTo>
                    <a:lnTo>
                      <a:pt x="1498" y="1369"/>
                    </a:lnTo>
                    <a:lnTo>
                      <a:pt x="1498" y="1359"/>
                    </a:lnTo>
                    <a:lnTo>
                      <a:pt x="1496" y="1350"/>
                    </a:lnTo>
                    <a:lnTo>
                      <a:pt x="1494" y="1341"/>
                    </a:lnTo>
                    <a:lnTo>
                      <a:pt x="1492" y="1333"/>
                    </a:lnTo>
                    <a:lnTo>
                      <a:pt x="1488" y="1326"/>
                    </a:lnTo>
                    <a:lnTo>
                      <a:pt x="1486" y="1317"/>
                    </a:lnTo>
                    <a:lnTo>
                      <a:pt x="1481" y="1309"/>
                    </a:lnTo>
                    <a:lnTo>
                      <a:pt x="1477" y="1302"/>
                    </a:lnTo>
                    <a:lnTo>
                      <a:pt x="1472" y="1296"/>
                    </a:lnTo>
                    <a:lnTo>
                      <a:pt x="1466" y="1289"/>
                    </a:lnTo>
                    <a:lnTo>
                      <a:pt x="1460" y="1284"/>
                    </a:lnTo>
                    <a:lnTo>
                      <a:pt x="1457" y="1280"/>
                    </a:lnTo>
                    <a:lnTo>
                      <a:pt x="1452" y="1279"/>
                    </a:lnTo>
                    <a:lnTo>
                      <a:pt x="1446" y="1278"/>
                    </a:lnTo>
                    <a:lnTo>
                      <a:pt x="1441" y="1277"/>
                    </a:lnTo>
                    <a:lnTo>
                      <a:pt x="1435" y="1278"/>
                    </a:lnTo>
                    <a:lnTo>
                      <a:pt x="1430" y="1278"/>
                    </a:lnTo>
                    <a:lnTo>
                      <a:pt x="1426" y="1280"/>
                    </a:lnTo>
                    <a:lnTo>
                      <a:pt x="1422" y="1284"/>
                    </a:lnTo>
                    <a:lnTo>
                      <a:pt x="1417" y="1289"/>
                    </a:lnTo>
                    <a:lnTo>
                      <a:pt x="1412" y="1296"/>
                    </a:lnTo>
                    <a:lnTo>
                      <a:pt x="1410" y="1303"/>
                    </a:lnTo>
                    <a:lnTo>
                      <a:pt x="1408" y="1310"/>
                    </a:lnTo>
                    <a:lnTo>
                      <a:pt x="1405" y="1317"/>
                    </a:lnTo>
                    <a:lnTo>
                      <a:pt x="1404" y="1326"/>
                    </a:lnTo>
                    <a:lnTo>
                      <a:pt x="1403" y="1333"/>
                    </a:lnTo>
                    <a:lnTo>
                      <a:pt x="1403" y="1341"/>
                    </a:lnTo>
                    <a:lnTo>
                      <a:pt x="1402" y="1357"/>
                    </a:lnTo>
                    <a:lnTo>
                      <a:pt x="1400" y="1374"/>
                    </a:lnTo>
                    <a:lnTo>
                      <a:pt x="1400" y="1391"/>
                    </a:lnTo>
                    <a:lnTo>
                      <a:pt x="1400" y="1406"/>
                    </a:lnTo>
                    <a:lnTo>
                      <a:pt x="1400" y="1423"/>
                    </a:lnTo>
                    <a:lnTo>
                      <a:pt x="1402" y="1439"/>
                    </a:lnTo>
                    <a:lnTo>
                      <a:pt x="1402" y="1455"/>
                    </a:lnTo>
                    <a:lnTo>
                      <a:pt x="1403" y="1471"/>
                    </a:lnTo>
                    <a:lnTo>
                      <a:pt x="1403" y="1484"/>
                    </a:lnTo>
                    <a:lnTo>
                      <a:pt x="1404" y="1497"/>
                    </a:lnTo>
                    <a:lnTo>
                      <a:pt x="1405" y="1509"/>
                    </a:lnTo>
                    <a:lnTo>
                      <a:pt x="1406" y="1523"/>
                    </a:lnTo>
                    <a:lnTo>
                      <a:pt x="1408" y="1535"/>
                    </a:lnTo>
                    <a:lnTo>
                      <a:pt x="1409" y="1548"/>
                    </a:lnTo>
                    <a:lnTo>
                      <a:pt x="1409" y="1560"/>
                    </a:lnTo>
                    <a:lnTo>
                      <a:pt x="1408" y="1573"/>
                    </a:lnTo>
                    <a:lnTo>
                      <a:pt x="1405" y="1583"/>
                    </a:lnTo>
                    <a:lnTo>
                      <a:pt x="1403" y="1592"/>
                    </a:lnTo>
                    <a:lnTo>
                      <a:pt x="1399" y="1601"/>
                    </a:lnTo>
                    <a:lnTo>
                      <a:pt x="1396" y="1610"/>
                    </a:lnTo>
                    <a:lnTo>
                      <a:pt x="1391" y="1619"/>
                    </a:lnTo>
                    <a:lnTo>
                      <a:pt x="1386" y="1627"/>
                    </a:lnTo>
                    <a:lnTo>
                      <a:pt x="1382" y="1637"/>
                    </a:lnTo>
                    <a:lnTo>
                      <a:pt x="1379" y="1645"/>
                    </a:lnTo>
                    <a:lnTo>
                      <a:pt x="1374" y="1656"/>
                    </a:lnTo>
                    <a:lnTo>
                      <a:pt x="1370" y="1668"/>
                    </a:lnTo>
                    <a:lnTo>
                      <a:pt x="1367" y="1679"/>
                    </a:lnTo>
                    <a:lnTo>
                      <a:pt x="1363" y="1691"/>
                    </a:lnTo>
                    <a:lnTo>
                      <a:pt x="1360" y="1701"/>
                    </a:lnTo>
                    <a:lnTo>
                      <a:pt x="1356" y="1712"/>
                    </a:lnTo>
                    <a:lnTo>
                      <a:pt x="1350" y="1722"/>
                    </a:lnTo>
                    <a:lnTo>
                      <a:pt x="1344" y="1733"/>
                    </a:lnTo>
                    <a:lnTo>
                      <a:pt x="1338" y="1741"/>
                    </a:lnTo>
                    <a:lnTo>
                      <a:pt x="1331" y="1748"/>
                    </a:lnTo>
                    <a:lnTo>
                      <a:pt x="1324" y="1755"/>
                    </a:lnTo>
                    <a:lnTo>
                      <a:pt x="1316" y="1761"/>
                    </a:lnTo>
                    <a:lnTo>
                      <a:pt x="1308" y="1769"/>
                    </a:lnTo>
                    <a:lnTo>
                      <a:pt x="1300" y="1775"/>
                    </a:lnTo>
                    <a:lnTo>
                      <a:pt x="1290" y="1779"/>
                    </a:lnTo>
                    <a:lnTo>
                      <a:pt x="1282" y="1785"/>
                    </a:lnTo>
                    <a:lnTo>
                      <a:pt x="1276" y="1789"/>
                    </a:lnTo>
                    <a:lnTo>
                      <a:pt x="1270" y="1793"/>
                    </a:lnTo>
                    <a:lnTo>
                      <a:pt x="1264" y="1796"/>
                    </a:lnTo>
                    <a:lnTo>
                      <a:pt x="1258" y="1800"/>
                    </a:lnTo>
                    <a:lnTo>
                      <a:pt x="1252" y="1802"/>
                    </a:lnTo>
                    <a:lnTo>
                      <a:pt x="1244" y="1802"/>
                    </a:lnTo>
                    <a:lnTo>
                      <a:pt x="1238" y="1802"/>
                    </a:lnTo>
                    <a:lnTo>
                      <a:pt x="1234" y="1800"/>
                    </a:lnTo>
                    <a:lnTo>
                      <a:pt x="1226" y="1795"/>
                    </a:lnTo>
                    <a:lnTo>
                      <a:pt x="1222" y="1788"/>
                    </a:lnTo>
                    <a:lnTo>
                      <a:pt x="1218" y="1781"/>
                    </a:lnTo>
                    <a:lnTo>
                      <a:pt x="1214" y="1772"/>
                    </a:lnTo>
                    <a:lnTo>
                      <a:pt x="1212" y="1764"/>
                    </a:lnTo>
                    <a:lnTo>
                      <a:pt x="1211" y="1754"/>
                    </a:lnTo>
                    <a:lnTo>
                      <a:pt x="1210" y="1746"/>
                    </a:lnTo>
                    <a:lnTo>
                      <a:pt x="1210" y="1737"/>
                    </a:lnTo>
                    <a:lnTo>
                      <a:pt x="1210" y="1724"/>
                    </a:lnTo>
                    <a:lnTo>
                      <a:pt x="1211" y="1712"/>
                    </a:lnTo>
                    <a:lnTo>
                      <a:pt x="1214" y="1700"/>
                    </a:lnTo>
                    <a:lnTo>
                      <a:pt x="1217" y="1688"/>
                    </a:lnTo>
                    <a:lnTo>
                      <a:pt x="1220" y="1676"/>
                    </a:lnTo>
                    <a:lnTo>
                      <a:pt x="1225" y="1664"/>
                    </a:lnTo>
                    <a:lnTo>
                      <a:pt x="1229" y="1652"/>
                    </a:lnTo>
                    <a:lnTo>
                      <a:pt x="1234" y="1640"/>
                    </a:lnTo>
                    <a:lnTo>
                      <a:pt x="1237" y="1631"/>
                    </a:lnTo>
                    <a:lnTo>
                      <a:pt x="1242" y="1621"/>
                    </a:lnTo>
                    <a:lnTo>
                      <a:pt x="1248" y="1611"/>
                    </a:lnTo>
                    <a:lnTo>
                      <a:pt x="1254" y="1602"/>
                    </a:lnTo>
                    <a:lnTo>
                      <a:pt x="1259" y="1593"/>
                    </a:lnTo>
                    <a:lnTo>
                      <a:pt x="1265" y="1584"/>
                    </a:lnTo>
                    <a:lnTo>
                      <a:pt x="1268" y="1573"/>
                    </a:lnTo>
                    <a:lnTo>
                      <a:pt x="1272" y="1563"/>
                    </a:lnTo>
                    <a:lnTo>
                      <a:pt x="1276" y="1547"/>
                    </a:lnTo>
                    <a:lnTo>
                      <a:pt x="1279" y="1529"/>
                    </a:lnTo>
                    <a:lnTo>
                      <a:pt x="1282" y="1512"/>
                    </a:lnTo>
                    <a:lnTo>
                      <a:pt x="1284" y="1494"/>
                    </a:lnTo>
                    <a:lnTo>
                      <a:pt x="1285" y="1476"/>
                    </a:lnTo>
                    <a:lnTo>
                      <a:pt x="1286" y="1459"/>
                    </a:lnTo>
                    <a:lnTo>
                      <a:pt x="1286" y="1441"/>
                    </a:lnTo>
                    <a:lnTo>
                      <a:pt x="1286" y="1423"/>
                    </a:lnTo>
                    <a:lnTo>
                      <a:pt x="1285" y="1412"/>
                    </a:lnTo>
                    <a:lnTo>
                      <a:pt x="1284" y="1400"/>
                    </a:lnTo>
                    <a:lnTo>
                      <a:pt x="1282" y="1389"/>
                    </a:lnTo>
                    <a:lnTo>
                      <a:pt x="1279" y="1379"/>
                    </a:lnTo>
                    <a:lnTo>
                      <a:pt x="1276" y="1368"/>
                    </a:lnTo>
                    <a:lnTo>
                      <a:pt x="1272" y="1357"/>
                    </a:lnTo>
                    <a:lnTo>
                      <a:pt x="1267" y="1346"/>
                    </a:lnTo>
                    <a:lnTo>
                      <a:pt x="1262" y="1337"/>
                    </a:lnTo>
                    <a:lnTo>
                      <a:pt x="1259" y="1331"/>
                    </a:lnTo>
                    <a:lnTo>
                      <a:pt x="1254" y="1325"/>
                    </a:lnTo>
                    <a:lnTo>
                      <a:pt x="1249" y="1319"/>
                    </a:lnTo>
                    <a:lnTo>
                      <a:pt x="1244" y="1314"/>
                    </a:lnTo>
                    <a:lnTo>
                      <a:pt x="1238" y="1310"/>
                    </a:lnTo>
                    <a:lnTo>
                      <a:pt x="1232" y="1307"/>
                    </a:lnTo>
                    <a:lnTo>
                      <a:pt x="1225" y="1304"/>
                    </a:lnTo>
                    <a:lnTo>
                      <a:pt x="1219" y="1303"/>
                    </a:lnTo>
                    <a:lnTo>
                      <a:pt x="1211" y="1303"/>
                    </a:lnTo>
                    <a:lnTo>
                      <a:pt x="1204" y="1303"/>
                    </a:lnTo>
                    <a:lnTo>
                      <a:pt x="1195" y="1305"/>
                    </a:lnTo>
                    <a:lnTo>
                      <a:pt x="1187" y="1308"/>
                    </a:lnTo>
                    <a:lnTo>
                      <a:pt x="1180" y="1311"/>
                    </a:lnTo>
                    <a:lnTo>
                      <a:pt x="1172" y="1316"/>
                    </a:lnTo>
                    <a:lnTo>
                      <a:pt x="1166" y="1321"/>
                    </a:lnTo>
                    <a:lnTo>
                      <a:pt x="1160" y="1327"/>
                    </a:lnTo>
                    <a:lnTo>
                      <a:pt x="1153" y="1337"/>
                    </a:lnTo>
                    <a:lnTo>
                      <a:pt x="1147" y="1346"/>
                    </a:lnTo>
                    <a:lnTo>
                      <a:pt x="1141" y="1357"/>
                    </a:lnTo>
                    <a:lnTo>
                      <a:pt x="1136" y="1368"/>
                    </a:lnTo>
                    <a:lnTo>
                      <a:pt x="1132" y="1380"/>
                    </a:lnTo>
                    <a:lnTo>
                      <a:pt x="1127" y="1392"/>
                    </a:lnTo>
                    <a:lnTo>
                      <a:pt x="1123" y="1403"/>
                    </a:lnTo>
                    <a:lnTo>
                      <a:pt x="1117" y="1413"/>
                    </a:lnTo>
                    <a:lnTo>
                      <a:pt x="1109" y="1431"/>
                    </a:lnTo>
                    <a:lnTo>
                      <a:pt x="1100" y="1449"/>
                    </a:lnTo>
                    <a:lnTo>
                      <a:pt x="1091" y="1466"/>
                    </a:lnTo>
                    <a:lnTo>
                      <a:pt x="1082" y="1484"/>
                    </a:lnTo>
                    <a:lnTo>
                      <a:pt x="1074" y="1502"/>
                    </a:lnTo>
                    <a:lnTo>
                      <a:pt x="1064" y="1519"/>
                    </a:lnTo>
                    <a:lnTo>
                      <a:pt x="1055" y="1537"/>
                    </a:lnTo>
                    <a:lnTo>
                      <a:pt x="1045" y="1554"/>
                    </a:lnTo>
                    <a:lnTo>
                      <a:pt x="1036" y="1569"/>
                    </a:lnTo>
                    <a:lnTo>
                      <a:pt x="1026" y="1584"/>
                    </a:lnTo>
                    <a:lnTo>
                      <a:pt x="1015" y="1599"/>
                    </a:lnTo>
                    <a:lnTo>
                      <a:pt x="1006" y="1615"/>
                    </a:lnTo>
                    <a:lnTo>
                      <a:pt x="994" y="1629"/>
                    </a:lnTo>
                    <a:lnTo>
                      <a:pt x="983" y="1643"/>
                    </a:lnTo>
                    <a:lnTo>
                      <a:pt x="971" y="1657"/>
                    </a:lnTo>
                    <a:lnTo>
                      <a:pt x="958" y="1669"/>
                    </a:lnTo>
                    <a:lnTo>
                      <a:pt x="944" y="1682"/>
                    </a:lnTo>
                    <a:lnTo>
                      <a:pt x="930" y="1693"/>
                    </a:lnTo>
                    <a:lnTo>
                      <a:pt x="916" y="1705"/>
                    </a:lnTo>
                    <a:lnTo>
                      <a:pt x="901" y="1715"/>
                    </a:lnTo>
                    <a:lnTo>
                      <a:pt x="886" y="1725"/>
                    </a:lnTo>
                    <a:lnTo>
                      <a:pt x="870" y="1735"/>
                    </a:lnTo>
                    <a:lnTo>
                      <a:pt x="853" y="1743"/>
                    </a:lnTo>
                    <a:lnTo>
                      <a:pt x="838" y="1752"/>
                    </a:lnTo>
                    <a:lnTo>
                      <a:pt x="824" y="1758"/>
                    </a:lnTo>
                    <a:lnTo>
                      <a:pt x="811" y="1763"/>
                    </a:lnTo>
                    <a:lnTo>
                      <a:pt x="799" y="1766"/>
                    </a:lnTo>
                    <a:lnTo>
                      <a:pt x="785" y="1770"/>
                    </a:lnTo>
                    <a:lnTo>
                      <a:pt x="772" y="1773"/>
                    </a:lnTo>
                    <a:lnTo>
                      <a:pt x="758" y="1776"/>
                    </a:lnTo>
                    <a:lnTo>
                      <a:pt x="744" y="1778"/>
                    </a:lnTo>
                    <a:lnTo>
                      <a:pt x="731" y="1781"/>
                    </a:lnTo>
                    <a:lnTo>
                      <a:pt x="726" y="1781"/>
                    </a:lnTo>
                    <a:lnTo>
                      <a:pt x="720" y="1782"/>
                    </a:lnTo>
                    <a:lnTo>
                      <a:pt x="715" y="1781"/>
                    </a:lnTo>
                    <a:lnTo>
                      <a:pt x="709" y="1781"/>
                    </a:lnTo>
                    <a:lnTo>
                      <a:pt x="704" y="1779"/>
                    </a:lnTo>
                    <a:lnTo>
                      <a:pt x="700" y="1777"/>
                    </a:lnTo>
                    <a:lnTo>
                      <a:pt x="696" y="1775"/>
                    </a:lnTo>
                    <a:lnTo>
                      <a:pt x="692" y="1771"/>
                    </a:lnTo>
                    <a:lnTo>
                      <a:pt x="690" y="1766"/>
                    </a:lnTo>
                    <a:lnTo>
                      <a:pt x="689" y="1761"/>
                    </a:lnTo>
                    <a:lnTo>
                      <a:pt x="689" y="1757"/>
                    </a:lnTo>
                    <a:lnTo>
                      <a:pt x="689" y="1752"/>
                    </a:lnTo>
                    <a:lnTo>
                      <a:pt x="690" y="1746"/>
                    </a:lnTo>
                    <a:lnTo>
                      <a:pt x="691" y="1741"/>
                    </a:lnTo>
                    <a:lnTo>
                      <a:pt x="694" y="1736"/>
                    </a:lnTo>
                    <a:lnTo>
                      <a:pt x="697" y="1733"/>
                    </a:lnTo>
                    <a:lnTo>
                      <a:pt x="707" y="1722"/>
                    </a:lnTo>
                    <a:lnTo>
                      <a:pt x="718" y="1711"/>
                    </a:lnTo>
                    <a:lnTo>
                      <a:pt x="730" y="1701"/>
                    </a:lnTo>
                    <a:lnTo>
                      <a:pt x="742" y="1692"/>
                    </a:lnTo>
                    <a:lnTo>
                      <a:pt x="754" y="1683"/>
                    </a:lnTo>
                    <a:lnTo>
                      <a:pt x="766" y="1674"/>
                    </a:lnTo>
                    <a:lnTo>
                      <a:pt x="778" y="1664"/>
                    </a:lnTo>
                    <a:lnTo>
                      <a:pt x="788" y="1655"/>
                    </a:lnTo>
                    <a:lnTo>
                      <a:pt x="802" y="1644"/>
                    </a:lnTo>
                    <a:lnTo>
                      <a:pt x="816" y="1632"/>
                    </a:lnTo>
                    <a:lnTo>
                      <a:pt x="829" y="1621"/>
                    </a:lnTo>
                    <a:lnTo>
                      <a:pt x="842" y="1609"/>
                    </a:lnTo>
                    <a:lnTo>
                      <a:pt x="856" y="1597"/>
                    </a:lnTo>
                    <a:lnTo>
                      <a:pt x="868" y="1585"/>
                    </a:lnTo>
                    <a:lnTo>
                      <a:pt x="880" y="1572"/>
                    </a:lnTo>
                    <a:lnTo>
                      <a:pt x="890" y="1559"/>
                    </a:lnTo>
                    <a:lnTo>
                      <a:pt x="900" y="1544"/>
                    </a:lnTo>
                    <a:lnTo>
                      <a:pt x="910" y="1529"/>
                    </a:lnTo>
                    <a:lnTo>
                      <a:pt x="918" y="1513"/>
                    </a:lnTo>
                    <a:lnTo>
                      <a:pt x="926" y="1496"/>
                    </a:lnTo>
                    <a:lnTo>
                      <a:pt x="934" y="1479"/>
                    </a:lnTo>
                    <a:lnTo>
                      <a:pt x="940" y="1463"/>
                    </a:lnTo>
                    <a:lnTo>
                      <a:pt x="944" y="1446"/>
                    </a:lnTo>
                    <a:lnTo>
                      <a:pt x="948" y="1428"/>
                    </a:lnTo>
                    <a:lnTo>
                      <a:pt x="949" y="1421"/>
                    </a:lnTo>
                    <a:lnTo>
                      <a:pt x="948" y="1412"/>
                    </a:lnTo>
                    <a:lnTo>
                      <a:pt x="947" y="1404"/>
                    </a:lnTo>
                    <a:lnTo>
                      <a:pt x="944" y="1397"/>
                    </a:lnTo>
                    <a:lnTo>
                      <a:pt x="941" y="1388"/>
                    </a:lnTo>
                    <a:lnTo>
                      <a:pt x="936" y="1381"/>
                    </a:lnTo>
                    <a:lnTo>
                      <a:pt x="930" y="1375"/>
                    </a:lnTo>
                    <a:lnTo>
                      <a:pt x="924" y="1370"/>
                    </a:lnTo>
                    <a:lnTo>
                      <a:pt x="919" y="1368"/>
                    </a:lnTo>
                    <a:lnTo>
                      <a:pt x="914" y="1367"/>
                    </a:lnTo>
                    <a:lnTo>
                      <a:pt x="908" y="1367"/>
                    </a:lnTo>
                    <a:lnTo>
                      <a:pt x="902" y="1369"/>
                    </a:lnTo>
                    <a:lnTo>
                      <a:pt x="896" y="1370"/>
                    </a:lnTo>
                    <a:lnTo>
                      <a:pt x="890" y="1374"/>
                    </a:lnTo>
                    <a:lnTo>
                      <a:pt x="886" y="1376"/>
                    </a:lnTo>
                    <a:lnTo>
                      <a:pt x="881" y="1380"/>
                    </a:lnTo>
                    <a:lnTo>
                      <a:pt x="876" y="1385"/>
                    </a:lnTo>
                    <a:lnTo>
                      <a:pt x="872" y="1389"/>
                    </a:lnTo>
                    <a:lnTo>
                      <a:pt x="869" y="1395"/>
                    </a:lnTo>
                    <a:lnTo>
                      <a:pt x="866" y="1401"/>
                    </a:lnTo>
                    <a:lnTo>
                      <a:pt x="864" y="1407"/>
                    </a:lnTo>
                    <a:lnTo>
                      <a:pt x="860" y="1413"/>
                    </a:lnTo>
                    <a:lnTo>
                      <a:pt x="857" y="1419"/>
                    </a:lnTo>
                    <a:lnTo>
                      <a:pt x="852" y="1423"/>
                    </a:lnTo>
                    <a:lnTo>
                      <a:pt x="842" y="1429"/>
                    </a:lnTo>
                    <a:lnTo>
                      <a:pt x="833" y="1435"/>
                    </a:lnTo>
                    <a:lnTo>
                      <a:pt x="823" y="1441"/>
                    </a:lnTo>
                    <a:lnTo>
                      <a:pt x="812" y="1446"/>
                    </a:lnTo>
                    <a:lnTo>
                      <a:pt x="802" y="1449"/>
                    </a:lnTo>
                    <a:lnTo>
                      <a:pt x="792" y="1453"/>
                    </a:lnTo>
                    <a:lnTo>
                      <a:pt x="780" y="1455"/>
                    </a:lnTo>
                    <a:lnTo>
                      <a:pt x="769" y="1457"/>
                    </a:lnTo>
                    <a:lnTo>
                      <a:pt x="761" y="1458"/>
                    </a:lnTo>
                    <a:lnTo>
                      <a:pt x="752" y="1457"/>
                    </a:lnTo>
                    <a:lnTo>
                      <a:pt x="744" y="1455"/>
                    </a:lnTo>
                    <a:lnTo>
                      <a:pt x="736" y="1453"/>
                    </a:lnTo>
                    <a:lnTo>
                      <a:pt x="727" y="1449"/>
                    </a:lnTo>
                    <a:lnTo>
                      <a:pt x="721" y="1445"/>
                    </a:lnTo>
                    <a:lnTo>
                      <a:pt x="715" y="1440"/>
                    </a:lnTo>
                    <a:lnTo>
                      <a:pt x="712" y="1433"/>
                    </a:lnTo>
                    <a:lnTo>
                      <a:pt x="709" y="1427"/>
                    </a:lnTo>
                    <a:lnTo>
                      <a:pt x="708" y="1421"/>
                    </a:lnTo>
                    <a:lnTo>
                      <a:pt x="708" y="1415"/>
                    </a:lnTo>
                    <a:lnTo>
                      <a:pt x="708" y="1409"/>
                    </a:lnTo>
                    <a:lnTo>
                      <a:pt x="708" y="1395"/>
                    </a:lnTo>
                    <a:lnTo>
                      <a:pt x="710" y="1383"/>
                    </a:lnTo>
                    <a:lnTo>
                      <a:pt x="714" y="1370"/>
                    </a:lnTo>
                    <a:lnTo>
                      <a:pt x="716" y="1357"/>
                    </a:lnTo>
                    <a:lnTo>
                      <a:pt x="720" y="1344"/>
                    </a:lnTo>
                    <a:lnTo>
                      <a:pt x="721" y="1332"/>
                    </a:lnTo>
                    <a:lnTo>
                      <a:pt x="722" y="1322"/>
                    </a:lnTo>
                    <a:lnTo>
                      <a:pt x="725" y="1314"/>
                    </a:lnTo>
                    <a:lnTo>
                      <a:pt x="726" y="1304"/>
                    </a:lnTo>
                    <a:lnTo>
                      <a:pt x="728" y="1295"/>
                    </a:lnTo>
                    <a:lnTo>
                      <a:pt x="730" y="1285"/>
                    </a:lnTo>
                    <a:lnTo>
                      <a:pt x="730" y="1277"/>
                    </a:lnTo>
                    <a:lnTo>
                      <a:pt x="728" y="1268"/>
                    </a:lnTo>
                    <a:lnTo>
                      <a:pt x="726" y="1259"/>
                    </a:lnTo>
                    <a:lnTo>
                      <a:pt x="724" y="1255"/>
                    </a:lnTo>
                    <a:lnTo>
                      <a:pt x="719" y="1251"/>
                    </a:lnTo>
                    <a:lnTo>
                      <a:pt x="714" y="1249"/>
                    </a:lnTo>
                    <a:lnTo>
                      <a:pt x="708" y="1247"/>
                    </a:lnTo>
                    <a:lnTo>
                      <a:pt x="702" y="1245"/>
                    </a:lnTo>
                    <a:lnTo>
                      <a:pt x="695" y="1245"/>
                    </a:lnTo>
                    <a:lnTo>
                      <a:pt x="689" y="1244"/>
                    </a:lnTo>
                    <a:lnTo>
                      <a:pt x="683" y="1244"/>
                    </a:lnTo>
                    <a:lnTo>
                      <a:pt x="670" y="1245"/>
                    </a:lnTo>
                    <a:lnTo>
                      <a:pt x="656" y="1248"/>
                    </a:lnTo>
                    <a:lnTo>
                      <a:pt x="643" y="1250"/>
                    </a:lnTo>
                    <a:lnTo>
                      <a:pt x="630" y="1253"/>
                    </a:lnTo>
                    <a:lnTo>
                      <a:pt x="616" y="1256"/>
                    </a:lnTo>
                    <a:lnTo>
                      <a:pt x="602" y="1259"/>
                    </a:lnTo>
                    <a:lnTo>
                      <a:pt x="589" y="1260"/>
                    </a:lnTo>
                    <a:lnTo>
                      <a:pt x="576" y="1259"/>
                    </a:lnTo>
                    <a:lnTo>
                      <a:pt x="565" y="1257"/>
                    </a:lnTo>
                    <a:lnTo>
                      <a:pt x="553" y="1256"/>
                    </a:lnTo>
                    <a:lnTo>
                      <a:pt x="542" y="1254"/>
                    </a:lnTo>
                    <a:lnTo>
                      <a:pt x="530" y="1250"/>
                    </a:lnTo>
                    <a:lnTo>
                      <a:pt x="520" y="1247"/>
                    </a:lnTo>
                    <a:lnTo>
                      <a:pt x="509" y="1242"/>
                    </a:lnTo>
                    <a:lnTo>
                      <a:pt x="499" y="1236"/>
                    </a:lnTo>
                    <a:lnTo>
                      <a:pt x="490" y="1230"/>
                    </a:lnTo>
                    <a:lnTo>
                      <a:pt x="482" y="1225"/>
                    </a:lnTo>
                    <a:lnTo>
                      <a:pt x="476" y="1218"/>
                    </a:lnTo>
                    <a:lnTo>
                      <a:pt x="472" y="1211"/>
                    </a:lnTo>
                    <a:lnTo>
                      <a:pt x="467" y="1202"/>
                    </a:lnTo>
                    <a:lnTo>
                      <a:pt x="462" y="1194"/>
                    </a:lnTo>
                    <a:lnTo>
                      <a:pt x="457" y="1187"/>
                    </a:lnTo>
                    <a:lnTo>
                      <a:pt x="452" y="1178"/>
                    </a:lnTo>
                    <a:lnTo>
                      <a:pt x="446" y="1172"/>
                    </a:lnTo>
                    <a:lnTo>
                      <a:pt x="440" y="1169"/>
                    </a:lnTo>
                    <a:lnTo>
                      <a:pt x="436" y="1165"/>
                    </a:lnTo>
                    <a:lnTo>
                      <a:pt x="430" y="1162"/>
                    </a:lnTo>
                    <a:lnTo>
                      <a:pt x="424" y="1159"/>
                    </a:lnTo>
                    <a:lnTo>
                      <a:pt x="416" y="1157"/>
                    </a:lnTo>
                    <a:lnTo>
                      <a:pt x="410" y="1156"/>
                    </a:lnTo>
                    <a:lnTo>
                      <a:pt x="404" y="1154"/>
                    </a:lnTo>
                    <a:lnTo>
                      <a:pt x="397" y="1153"/>
                    </a:lnTo>
                    <a:lnTo>
                      <a:pt x="382" y="1152"/>
                    </a:lnTo>
                    <a:lnTo>
                      <a:pt x="366" y="1152"/>
                    </a:lnTo>
                    <a:lnTo>
                      <a:pt x="350" y="1153"/>
                    </a:lnTo>
                    <a:lnTo>
                      <a:pt x="335" y="1153"/>
                    </a:lnTo>
                    <a:lnTo>
                      <a:pt x="319" y="1154"/>
                    </a:lnTo>
                    <a:lnTo>
                      <a:pt x="304" y="1156"/>
                    </a:lnTo>
                    <a:lnTo>
                      <a:pt x="288" y="1157"/>
                    </a:lnTo>
                    <a:lnTo>
                      <a:pt x="272" y="1158"/>
                    </a:lnTo>
                    <a:lnTo>
                      <a:pt x="254" y="1159"/>
                    </a:lnTo>
                    <a:lnTo>
                      <a:pt x="236" y="1160"/>
                    </a:lnTo>
                    <a:lnTo>
                      <a:pt x="220" y="1162"/>
                    </a:lnTo>
                    <a:lnTo>
                      <a:pt x="202" y="1164"/>
                    </a:lnTo>
                    <a:lnTo>
                      <a:pt x="184" y="1165"/>
                    </a:lnTo>
                    <a:lnTo>
                      <a:pt x="167" y="1165"/>
                    </a:lnTo>
                    <a:lnTo>
                      <a:pt x="149" y="1165"/>
                    </a:lnTo>
                    <a:lnTo>
                      <a:pt x="132" y="1163"/>
                    </a:lnTo>
                    <a:lnTo>
                      <a:pt x="124" y="1162"/>
                    </a:lnTo>
                    <a:lnTo>
                      <a:pt x="115" y="1158"/>
                    </a:lnTo>
                    <a:lnTo>
                      <a:pt x="107" y="1154"/>
                    </a:lnTo>
                    <a:lnTo>
                      <a:pt x="98" y="1150"/>
                    </a:lnTo>
                    <a:lnTo>
                      <a:pt x="91" y="1145"/>
                    </a:lnTo>
                    <a:lnTo>
                      <a:pt x="84" y="1140"/>
                    </a:lnTo>
                    <a:lnTo>
                      <a:pt x="77" y="1134"/>
                    </a:lnTo>
                    <a:lnTo>
                      <a:pt x="70" y="1129"/>
                    </a:lnTo>
                    <a:lnTo>
                      <a:pt x="62" y="1124"/>
                    </a:lnTo>
                    <a:lnTo>
                      <a:pt x="55" y="1118"/>
                    </a:lnTo>
                    <a:lnTo>
                      <a:pt x="48" y="1114"/>
                    </a:lnTo>
                    <a:lnTo>
                      <a:pt x="41" y="1108"/>
                    </a:lnTo>
                    <a:lnTo>
                      <a:pt x="35" y="1102"/>
                    </a:lnTo>
                    <a:lnTo>
                      <a:pt x="30" y="1096"/>
                    </a:lnTo>
                    <a:lnTo>
                      <a:pt x="24" y="1088"/>
                    </a:lnTo>
                    <a:lnTo>
                      <a:pt x="20" y="1081"/>
                    </a:lnTo>
                    <a:lnTo>
                      <a:pt x="19" y="1075"/>
                    </a:lnTo>
                    <a:lnTo>
                      <a:pt x="18" y="1069"/>
                    </a:lnTo>
                    <a:lnTo>
                      <a:pt x="18" y="1063"/>
                    </a:lnTo>
                    <a:lnTo>
                      <a:pt x="18" y="1057"/>
                    </a:lnTo>
                    <a:lnTo>
                      <a:pt x="20" y="1051"/>
                    </a:lnTo>
                    <a:lnTo>
                      <a:pt x="23" y="1045"/>
                    </a:lnTo>
                    <a:lnTo>
                      <a:pt x="26" y="1040"/>
                    </a:lnTo>
                    <a:lnTo>
                      <a:pt x="30" y="1037"/>
                    </a:lnTo>
                    <a:lnTo>
                      <a:pt x="42" y="1032"/>
                    </a:lnTo>
                    <a:lnTo>
                      <a:pt x="53" y="1028"/>
                    </a:lnTo>
                    <a:lnTo>
                      <a:pt x="65" y="1026"/>
                    </a:lnTo>
                    <a:lnTo>
                      <a:pt x="77" y="1025"/>
                    </a:lnTo>
                    <a:lnTo>
                      <a:pt x="90" y="1024"/>
                    </a:lnTo>
                    <a:lnTo>
                      <a:pt x="102" y="1024"/>
                    </a:lnTo>
                    <a:lnTo>
                      <a:pt x="115" y="1024"/>
                    </a:lnTo>
                    <a:lnTo>
                      <a:pt x="127" y="1022"/>
                    </a:lnTo>
                    <a:lnTo>
                      <a:pt x="148" y="1022"/>
                    </a:lnTo>
                    <a:lnTo>
                      <a:pt x="168" y="1024"/>
                    </a:lnTo>
                    <a:lnTo>
                      <a:pt x="188" y="1025"/>
                    </a:lnTo>
                    <a:lnTo>
                      <a:pt x="209" y="1026"/>
                    </a:lnTo>
                    <a:lnTo>
                      <a:pt x="229" y="1027"/>
                    </a:lnTo>
                    <a:lnTo>
                      <a:pt x="251" y="1028"/>
                    </a:lnTo>
                    <a:lnTo>
                      <a:pt x="271" y="1028"/>
                    </a:lnTo>
                    <a:lnTo>
                      <a:pt x="292" y="1027"/>
                    </a:lnTo>
                    <a:lnTo>
                      <a:pt x="304" y="1026"/>
                    </a:lnTo>
                    <a:lnTo>
                      <a:pt x="316" y="1024"/>
                    </a:lnTo>
                    <a:lnTo>
                      <a:pt x="328" y="1021"/>
                    </a:lnTo>
                    <a:lnTo>
                      <a:pt x="340" y="1018"/>
                    </a:lnTo>
                    <a:lnTo>
                      <a:pt x="352" y="1014"/>
                    </a:lnTo>
                    <a:lnTo>
                      <a:pt x="364" y="1010"/>
                    </a:lnTo>
                    <a:lnTo>
                      <a:pt x="376" y="1007"/>
                    </a:lnTo>
                    <a:lnTo>
                      <a:pt x="388" y="1003"/>
                    </a:lnTo>
                    <a:lnTo>
                      <a:pt x="396" y="1001"/>
                    </a:lnTo>
                    <a:lnTo>
                      <a:pt x="403" y="998"/>
                    </a:lnTo>
                    <a:lnTo>
                      <a:pt x="412" y="996"/>
                    </a:lnTo>
                    <a:lnTo>
                      <a:pt x="419" y="992"/>
                    </a:lnTo>
                    <a:lnTo>
                      <a:pt x="427" y="990"/>
                    </a:lnTo>
                    <a:lnTo>
                      <a:pt x="434" y="989"/>
                    </a:lnTo>
                    <a:lnTo>
                      <a:pt x="443" y="989"/>
                    </a:lnTo>
                    <a:lnTo>
                      <a:pt x="451" y="989"/>
                    </a:lnTo>
                    <a:lnTo>
                      <a:pt x="466" y="992"/>
                    </a:lnTo>
                    <a:lnTo>
                      <a:pt x="481" y="997"/>
                    </a:lnTo>
                    <a:lnTo>
                      <a:pt x="496" y="1003"/>
                    </a:lnTo>
                    <a:lnTo>
                      <a:pt x="510" y="1009"/>
                    </a:lnTo>
                    <a:lnTo>
                      <a:pt x="524" y="1016"/>
                    </a:lnTo>
                    <a:lnTo>
                      <a:pt x="539" y="1024"/>
                    </a:lnTo>
                    <a:lnTo>
                      <a:pt x="552" y="1031"/>
                    </a:lnTo>
                    <a:lnTo>
                      <a:pt x="566" y="1037"/>
                    </a:lnTo>
                    <a:lnTo>
                      <a:pt x="578" y="1044"/>
                    </a:lnTo>
                    <a:lnTo>
                      <a:pt x="589" y="1050"/>
                    </a:lnTo>
                    <a:lnTo>
                      <a:pt x="601" y="1058"/>
                    </a:lnTo>
                    <a:lnTo>
                      <a:pt x="612" y="1066"/>
                    </a:lnTo>
                    <a:lnTo>
                      <a:pt x="623" y="1073"/>
                    </a:lnTo>
                    <a:lnTo>
                      <a:pt x="635" y="1079"/>
                    </a:lnTo>
                    <a:lnTo>
                      <a:pt x="647" y="1085"/>
                    </a:lnTo>
                    <a:lnTo>
                      <a:pt x="659" y="1091"/>
                    </a:lnTo>
                    <a:lnTo>
                      <a:pt x="668" y="1094"/>
                    </a:lnTo>
                    <a:lnTo>
                      <a:pt x="679" y="1098"/>
                    </a:lnTo>
                    <a:lnTo>
                      <a:pt x="689" y="1100"/>
                    </a:lnTo>
                    <a:lnTo>
                      <a:pt x="700" y="1103"/>
                    </a:lnTo>
                    <a:lnTo>
                      <a:pt x="710" y="1105"/>
                    </a:lnTo>
                    <a:lnTo>
                      <a:pt x="721" y="1105"/>
                    </a:lnTo>
                    <a:lnTo>
                      <a:pt x="731" y="1104"/>
                    </a:lnTo>
                    <a:lnTo>
                      <a:pt x="740" y="1100"/>
                    </a:lnTo>
                    <a:lnTo>
                      <a:pt x="748" y="1096"/>
                    </a:lnTo>
                    <a:lnTo>
                      <a:pt x="752" y="1090"/>
                    </a:lnTo>
                    <a:lnTo>
                      <a:pt x="757" y="1081"/>
                    </a:lnTo>
                    <a:lnTo>
                      <a:pt x="761" y="1073"/>
                    </a:lnTo>
                    <a:lnTo>
                      <a:pt x="763" y="1064"/>
                    </a:lnTo>
                    <a:lnTo>
                      <a:pt x="764" y="1055"/>
                    </a:lnTo>
                    <a:lnTo>
                      <a:pt x="764" y="1046"/>
                    </a:lnTo>
                    <a:lnTo>
                      <a:pt x="764" y="1037"/>
                    </a:lnTo>
                    <a:lnTo>
                      <a:pt x="763" y="1028"/>
                    </a:lnTo>
                    <a:lnTo>
                      <a:pt x="762" y="1019"/>
                    </a:lnTo>
                    <a:lnTo>
                      <a:pt x="758" y="1010"/>
                    </a:lnTo>
                    <a:lnTo>
                      <a:pt x="755" y="1002"/>
                    </a:lnTo>
                    <a:lnTo>
                      <a:pt x="751" y="994"/>
                    </a:lnTo>
                    <a:lnTo>
                      <a:pt x="746" y="985"/>
                    </a:lnTo>
                    <a:lnTo>
                      <a:pt x="740" y="978"/>
                    </a:lnTo>
                    <a:lnTo>
                      <a:pt x="736" y="970"/>
                    </a:lnTo>
                    <a:lnTo>
                      <a:pt x="726" y="956"/>
                    </a:lnTo>
                    <a:lnTo>
                      <a:pt x="716" y="942"/>
                    </a:lnTo>
                    <a:lnTo>
                      <a:pt x="706" y="929"/>
                    </a:lnTo>
                    <a:lnTo>
                      <a:pt x="696" y="917"/>
                    </a:lnTo>
                    <a:lnTo>
                      <a:pt x="684" y="904"/>
                    </a:lnTo>
                    <a:lnTo>
                      <a:pt x="673" y="892"/>
                    </a:lnTo>
                    <a:lnTo>
                      <a:pt x="661" y="880"/>
                    </a:lnTo>
                    <a:lnTo>
                      <a:pt x="649" y="869"/>
                    </a:lnTo>
                    <a:lnTo>
                      <a:pt x="634" y="856"/>
                    </a:lnTo>
                    <a:lnTo>
                      <a:pt x="618" y="844"/>
                    </a:lnTo>
                    <a:lnTo>
                      <a:pt x="602" y="832"/>
                    </a:lnTo>
                    <a:lnTo>
                      <a:pt x="587" y="821"/>
                    </a:lnTo>
                    <a:lnTo>
                      <a:pt x="570" y="810"/>
                    </a:lnTo>
                    <a:lnTo>
                      <a:pt x="553" y="800"/>
                    </a:lnTo>
                    <a:lnTo>
                      <a:pt x="535" y="791"/>
                    </a:lnTo>
                    <a:lnTo>
                      <a:pt x="518" y="781"/>
                    </a:lnTo>
                    <a:lnTo>
                      <a:pt x="505" y="775"/>
                    </a:lnTo>
                    <a:lnTo>
                      <a:pt x="493" y="770"/>
                    </a:lnTo>
                    <a:lnTo>
                      <a:pt x="480" y="766"/>
                    </a:lnTo>
                    <a:lnTo>
                      <a:pt x="467" y="762"/>
                    </a:lnTo>
                    <a:lnTo>
                      <a:pt x="452" y="757"/>
                    </a:lnTo>
                    <a:lnTo>
                      <a:pt x="439" y="755"/>
                    </a:lnTo>
                    <a:lnTo>
                      <a:pt x="426" y="751"/>
                    </a:lnTo>
                    <a:lnTo>
                      <a:pt x="412" y="748"/>
                    </a:lnTo>
                    <a:lnTo>
                      <a:pt x="400" y="745"/>
                    </a:lnTo>
                    <a:lnTo>
                      <a:pt x="388" y="743"/>
                    </a:lnTo>
                    <a:lnTo>
                      <a:pt x="376" y="740"/>
                    </a:lnTo>
                    <a:lnTo>
                      <a:pt x="364" y="738"/>
                    </a:lnTo>
                    <a:lnTo>
                      <a:pt x="352" y="736"/>
                    </a:lnTo>
                    <a:lnTo>
                      <a:pt x="340" y="734"/>
                    </a:lnTo>
                    <a:lnTo>
                      <a:pt x="328" y="733"/>
                    </a:lnTo>
                    <a:lnTo>
                      <a:pt x="316" y="733"/>
                    </a:lnTo>
                    <a:lnTo>
                      <a:pt x="307" y="733"/>
                    </a:lnTo>
                    <a:lnTo>
                      <a:pt x="299" y="734"/>
                    </a:lnTo>
                    <a:lnTo>
                      <a:pt x="292" y="736"/>
                    </a:lnTo>
                    <a:lnTo>
                      <a:pt x="283" y="737"/>
                    </a:lnTo>
                    <a:lnTo>
                      <a:pt x="275" y="739"/>
                    </a:lnTo>
                    <a:lnTo>
                      <a:pt x="268" y="742"/>
                    </a:lnTo>
                    <a:lnTo>
                      <a:pt x="260" y="744"/>
                    </a:lnTo>
                    <a:lnTo>
                      <a:pt x="253" y="748"/>
                    </a:lnTo>
                    <a:lnTo>
                      <a:pt x="245" y="752"/>
                    </a:lnTo>
                    <a:lnTo>
                      <a:pt x="239" y="757"/>
                    </a:lnTo>
                    <a:lnTo>
                      <a:pt x="232" y="763"/>
                    </a:lnTo>
                    <a:lnTo>
                      <a:pt x="226" y="769"/>
                    </a:lnTo>
                    <a:lnTo>
                      <a:pt x="220" y="775"/>
                    </a:lnTo>
                    <a:lnTo>
                      <a:pt x="214" y="781"/>
                    </a:lnTo>
                    <a:lnTo>
                      <a:pt x="206" y="786"/>
                    </a:lnTo>
                    <a:lnTo>
                      <a:pt x="199" y="791"/>
                    </a:lnTo>
                    <a:lnTo>
                      <a:pt x="188" y="797"/>
                    </a:lnTo>
                    <a:lnTo>
                      <a:pt x="176" y="803"/>
                    </a:lnTo>
                    <a:lnTo>
                      <a:pt x="164" y="809"/>
                    </a:lnTo>
                    <a:lnTo>
                      <a:pt x="152" y="814"/>
                    </a:lnTo>
                    <a:lnTo>
                      <a:pt x="140" y="818"/>
                    </a:lnTo>
                    <a:lnTo>
                      <a:pt x="128" y="823"/>
                    </a:lnTo>
                    <a:lnTo>
                      <a:pt x="115" y="827"/>
                    </a:lnTo>
                    <a:lnTo>
                      <a:pt x="103" y="829"/>
                    </a:lnTo>
                    <a:lnTo>
                      <a:pt x="98" y="830"/>
                    </a:lnTo>
                    <a:lnTo>
                      <a:pt x="94" y="830"/>
                    </a:lnTo>
                    <a:lnTo>
                      <a:pt x="89" y="830"/>
                    </a:lnTo>
                    <a:lnTo>
                      <a:pt x="84" y="829"/>
                    </a:lnTo>
                    <a:lnTo>
                      <a:pt x="79" y="828"/>
                    </a:lnTo>
                    <a:lnTo>
                      <a:pt x="76" y="827"/>
                    </a:lnTo>
                    <a:lnTo>
                      <a:pt x="72" y="823"/>
                    </a:lnTo>
                    <a:lnTo>
                      <a:pt x="70" y="820"/>
                    </a:lnTo>
                    <a:lnTo>
                      <a:pt x="66" y="814"/>
                    </a:lnTo>
                    <a:lnTo>
                      <a:pt x="64" y="808"/>
                    </a:lnTo>
                    <a:lnTo>
                      <a:pt x="62" y="800"/>
                    </a:lnTo>
                    <a:lnTo>
                      <a:pt x="62" y="793"/>
                    </a:lnTo>
                    <a:lnTo>
                      <a:pt x="62" y="786"/>
                    </a:lnTo>
                    <a:lnTo>
                      <a:pt x="64" y="779"/>
                    </a:lnTo>
                    <a:lnTo>
                      <a:pt x="66" y="773"/>
                    </a:lnTo>
                    <a:lnTo>
                      <a:pt x="70" y="767"/>
                    </a:lnTo>
                    <a:lnTo>
                      <a:pt x="79" y="754"/>
                    </a:lnTo>
                    <a:lnTo>
                      <a:pt x="90" y="740"/>
                    </a:lnTo>
                    <a:lnTo>
                      <a:pt x="101" y="728"/>
                    </a:lnTo>
                    <a:lnTo>
                      <a:pt x="113" y="716"/>
                    </a:lnTo>
                    <a:lnTo>
                      <a:pt x="126" y="706"/>
                    </a:lnTo>
                    <a:lnTo>
                      <a:pt x="139" y="695"/>
                    </a:lnTo>
                    <a:lnTo>
                      <a:pt x="152" y="685"/>
                    </a:lnTo>
                    <a:lnTo>
                      <a:pt x="166" y="676"/>
                    </a:lnTo>
                    <a:lnTo>
                      <a:pt x="175" y="670"/>
                    </a:lnTo>
                    <a:lnTo>
                      <a:pt x="185" y="664"/>
                    </a:lnTo>
                    <a:lnTo>
                      <a:pt x="194" y="659"/>
                    </a:lnTo>
                    <a:lnTo>
                      <a:pt x="205" y="654"/>
                    </a:lnTo>
                    <a:lnTo>
                      <a:pt x="216" y="650"/>
                    </a:lnTo>
                    <a:lnTo>
                      <a:pt x="226" y="647"/>
                    </a:lnTo>
                    <a:lnTo>
                      <a:pt x="236" y="644"/>
                    </a:lnTo>
                    <a:lnTo>
                      <a:pt x="247" y="642"/>
                    </a:lnTo>
                    <a:lnTo>
                      <a:pt x="262" y="640"/>
                    </a:lnTo>
                    <a:lnTo>
                      <a:pt x="276" y="637"/>
                    </a:lnTo>
                    <a:lnTo>
                      <a:pt x="290" y="637"/>
                    </a:lnTo>
                    <a:lnTo>
                      <a:pt x="306" y="636"/>
                    </a:lnTo>
                    <a:lnTo>
                      <a:pt x="320" y="636"/>
                    </a:lnTo>
                    <a:lnTo>
                      <a:pt x="335" y="636"/>
                    </a:lnTo>
                    <a:lnTo>
                      <a:pt x="349" y="636"/>
                    </a:lnTo>
                    <a:lnTo>
                      <a:pt x="364" y="637"/>
                    </a:lnTo>
                    <a:lnTo>
                      <a:pt x="384" y="637"/>
                    </a:lnTo>
                    <a:lnTo>
                      <a:pt x="404" y="637"/>
                    </a:lnTo>
                    <a:lnTo>
                      <a:pt x="425" y="637"/>
                    </a:lnTo>
                    <a:lnTo>
                      <a:pt x="446" y="638"/>
                    </a:lnTo>
                    <a:lnTo>
                      <a:pt x="467" y="638"/>
                    </a:lnTo>
                    <a:lnTo>
                      <a:pt x="487" y="640"/>
                    </a:lnTo>
                    <a:lnTo>
                      <a:pt x="508" y="641"/>
                    </a:lnTo>
                    <a:lnTo>
                      <a:pt x="528" y="642"/>
                    </a:lnTo>
                    <a:lnTo>
                      <a:pt x="544" y="642"/>
                    </a:lnTo>
                    <a:lnTo>
                      <a:pt x="558" y="644"/>
                    </a:lnTo>
                    <a:lnTo>
                      <a:pt x="574" y="646"/>
                    </a:lnTo>
                    <a:lnTo>
                      <a:pt x="588" y="647"/>
                    </a:lnTo>
                    <a:lnTo>
                      <a:pt x="604" y="649"/>
                    </a:lnTo>
                    <a:lnTo>
                      <a:pt x="618" y="650"/>
                    </a:lnTo>
                    <a:lnTo>
                      <a:pt x="634" y="650"/>
                    </a:lnTo>
                    <a:lnTo>
                      <a:pt x="649" y="652"/>
                    </a:lnTo>
                    <a:lnTo>
                      <a:pt x="658" y="652"/>
                    </a:lnTo>
                    <a:lnTo>
                      <a:pt x="666" y="652"/>
                    </a:lnTo>
                    <a:lnTo>
                      <a:pt x="676" y="652"/>
                    </a:lnTo>
                    <a:lnTo>
                      <a:pt x="685" y="652"/>
                    </a:lnTo>
                    <a:lnTo>
                      <a:pt x="694" y="652"/>
                    </a:lnTo>
                    <a:lnTo>
                      <a:pt x="702" y="649"/>
                    </a:lnTo>
                    <a:lnTo>
                      <a:pt x="709" y="647"/>
                    </a:lnTo>
                    <a:lnTo>
                      <a:pt x="716" y="642"/>
                    </a:lnTo>
                    <a:close/>
                  </a:path>
                </a:pathLst>
              </a:custGeom>
              <a:solidFill>
                <a:srgbClr val="c78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33880" y="1316160"/>
                <a:ext cx="823680" cy="709560"/>
              </a:xfrm>
              <a:custGeom>
                <a:avLst/>
                <a:gdLst/>
                <a:ahLst/>
                <a:rect l="l" t="t" r="r" b="b"/>
                <a:pathLst>
                  <a:path w="2079" h="1790">
                    <a:moveTo>
                      <a:pt x="711" y="637"/>
                    </a:moveTo>
                    <a:lnTo>
                      <a:pt x="717" y="630"/>
                    </a:lnTo>
                    <a:lnTo>
                      <a:pt x="723" y="623"/>
                    </a:lnTo>
                    <a:lnTo>
                      <a:pt x="726" y="614"/>
                    </a:lnTo>
                    <a:lnTo>
                      <a:pt x="730" y="605"/>
                    </a:lnTo>
                    <a:lnTo>
                      <a:pt x="732" y="595"/>
                    </a:lnTo>
                    <a:lnTo>
                      <a:pt x="734" y="586"/>
                    </a:lnTo>
                    <a:lnTo>
                      <a:pt x="735" y="575"/>
                    </a:lnTo>
                    <a:lnTo>
                      <a:pt x="735" y="565"/>
                    </a:lnTo>
                    <a:lnTo>
                      <a:pt x="735" y="554"/>
                    </a:lnTo>
                    <a:lnTo>
                      <a:pt x="734" y="542"/>
                    </a:lnTo>
                    <a:lnTo>
                      <a:pt x="732" y="532"/>
                    </a:lnTo>
                    <a:lnTo>
                      <a:pt x="730" y="520"/>
                    </a:lnTo>
                    <a:lnTo>
                      <a:pt x="726" y="509"/>
                    </a:lnTo>
                    <a:lnTo>
                      <a:pt x="723" y="499"/>
                    </a:lnTo>
                    <a:lnTo>
                      <a:pt x="717" y="488"/>
                    </a:lnTo>
                    <a:lnTo>
                      <a:pt x="711" y="479"/>
                    </a:lnTo>
                    <a:lnTo>
                      <a:pt x="704" y="472"/>
                    </a:lnTo>
                    <a:lnTo>
                      <a:pt x="696" y="466"/>
                    </a:lnTo>
                    <a:lnTo>
                      <a:pt x="687" y="461"/>
                    </a:lnTo>
                    <a:lnTo>
                      <a:pt x="678" y="456"/>
                    </a:lnTo>
                    <a:lnTo>
                      <a:pt x="668" y="453"/>
                    </a:lnTo>
                    <a:lnTo>
                      <a:pt x="658" y="449"/>
                    </a:lnTo>
                    <a:lnTo>
                      <a:pt x="648" y="445"/>
                    </a:lnTo>
                    <a:lnTo>
                      <a:pt x="639" y="442"/>
                    </a:lnTo>
                    <a:lnTo>
                      <a:pt x="628" y="436"/>
                    </a:lnTo>
                    <a:lnTo>
                      <a:pt x="616" y="431"/>
                    </a:lnTo>
                    <a:lnTo>
                      <a:pt x="605" y="425"/>
                    </a:lnTo>
                    <a:lnTo>
                      <a:pt x="594" y="420"/>
                    </a:lnTo>
                    <a:lnTo>
                      <a:pt x="582" y="415"/>
                    </a:lnTo>
                    <a:lnTo>
                      <a:pt x="572" y="411"/>
                    </a:lnTo>
                    <a:lnTo>
                      <a:pt x="560" y="407"/>
                    </a:lnTo>
                    <a:lnTo>
                      <a:pt x="548" y="403"/>
                    </a:lnTo>
                    <a:lnTo>
                      <a:pt x="534" y="400"/>
                    </a:lnTo>
                    <a:lnTo>
                      <a:pt x="521" y="396"/>
                    </a:lnTo>
                    <a:lnTo>
                      <a:pt x="508" y="394"/>
                    </a:lnTo>
                    <a:lnTo>
                      <a:pt x="495" y="391"/>
                    </a:lnTo>
                    <a:lnTo>
                      <a:pt x="482" y="389"/>
                    </a:lnTo>
                    <a:lnTo>
                      <a:pt x="468" y="387"/>
                    </a:lnTo>
                    <a:lnTo>
                      <a:pt x="455" y="383"/>
                    </a:lnTo>
                    <a:lnTo>
                      <a:pt x="442" y="379"/>
                    </a:lnTo>
                    <a:lnTo>
                      <a:pt x="432" y="375"/>
                    </a:lnTo>
                    <a:lnTo>
                      <a:pt x="422" y="370"/>
                    </a:lnTo>
                    <a:lnTo>
                      <a:pt x="412" y="364"/>
                    </a:lnTo>
                    <a:lnTo>
                      <a:pt x="402" y="358"/>
                    </a:lnTo>
                    <a:lnTo>
                      <a:pt x="393" y="352"/>
                    </a:lnTo>
                    <a:lnTo>
                      <a:pt x="383" y="345"/>
                    </a:lnTo>
                    <a:lnTo>
                      <a:pt x="375" y="337"/>
                    </a:lnTo>
                    <a:lnTo>
                      <a:pt x="365" y="331"/>
                    </a:lnTo>
                    <a:lnTo>
                      <a:pt x="350" y="318"/>
                    </a:lnTo>
                    <a:lnTo>
                      <a:pt x="335" y="305"/>
                    </a:lnTo>
                    <a:lnTo>
                      <a:pt x="321" y="292"/>
                    </a:lnTo>
                    <a:lnTo>
                      <a:pt x="305" y="279"/>
                    </a:lnTo>
                    <a:lnTo>
                      <a:pt x="291" y="265"/>
                    </a:lnTo>
                    <a:lnTo>
                      <a:pt x="276" y="251"/>
                    </a:lnTo>
                    <a:lnTo>
                      <a:pt x="261" y="238"/>
                    </a:lnTo>
                    <a:lnTo>
                      <a:pt x="245" y="226"/>
                    </a:lnTo>
                    <a:lnTo>
                      <a:pt x="232" y="215"/>
                    </a:lnTo>
                    <a:lnTo>
                      <a:pt x="218" y="204"/>
                    </a:lnTo>
                    <a:lnTo>
                      <a:pt x="203" y="193"/>
                    </a:lnTo>
                    <a:lnTo>
                      <a:pt x="190" y="183"/>
                    </a:lnTo>
                    <a:lnTo>
                      <a:pt x="176" y="173"/>
                    </a:lnTo>
                    <a:lnTo>
                      <a:pt x="160" y="163"/>
                    </a:lnTo>
                    <a:lnTo>
                      <a:pt x="146" y="154"/>
                    </a:lnTo>
                    <a:lnTo>
                      <a:pt x="131" y="144"/>
                    </a:lnTo>
                    <a:lnTo>
                      <a:pt x="120" y="138"/>
                    </a:lnTo>
                    <a:lnTo>
                      <a:pt x="111" y="133"/>
                    </a:lnTo>
                    <a:lnTo>
                      <a:pt x="100" y="130"/>
                    </a:lnTo>
                    <a:lnTo>
                      <a:pt x="89" y="125"/>
                    </a:lnTo>
                    <a:lnTo>
                      <a:pt x="80" y="121"/>
                    </a:lnTo>
                    <a:lnTo>
                      <a:pt x="69" y="117"/>
                    </a:lnTo>
                    <a:lnTo>
                      <a:pt x="59" y="112"/>
                    </a:lnTo>
                    <a:lnTo>
                      <a:pt x="50" y="106"/>
                    </a:lnTo>
                    <a:lnTo>
                      <a:pt x="42" y="101"/>
                    </a:lnTo>
                    <a:lnTo>
                      <a:pt x="35" y="96"/>
                    </a:lnTo>
                    <a:lnTo>
                      <a:pt x="28" y="91"/>
                    </a:lnTo>
                    <a:lnTo>
                      <a:pt x="21" y="85"/>
                    </a:lnTo>
                    <a:lnTo>
                      <a:pt x="15" y="79"/>
                    </a:lnTo>
                    <a:lnTo>
                      <a:pt x="9" y="72"/>
                    </a:lnTo>
                    <a:lnTo>
                      <a:pt x="4" y="66"/>
                    </a:lnTo>
                    <a:lnTo>
                      <a:pt x="2" y="58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2" y="40"/>
                    </a:lnTo>
                    <a:lnTo>
                      <a:pt x="4" y="34"/>
                    </a:lnTo>
                    <a:lnTo>
                      <a:pt x="6" y="28"/>
                    </a:lnTo>
                    <a:lnTo>
                      <a:pt x="11" y="23"/>
                    </a:lnTo>
                    <a:lnTo>
                      <a:pt x="15" y="18"/>
                    </a:lnTo>
                    <a:lnTo>
                      <a:pt x="21" y="15"/>
                    </a:lnTo>
                    <a:lnTo>
                      <a:pt x="29" y="11"/>
                    </a:lnTo>
                    <a:lnTo>
                      <a:pt x="40" y="7"/>
                    </a:lnTo>
                    <a:lnTo>
                      <a:pt x="50" y="5"/>
                    </a:lnTo>
                    <a:lnTo>
                      <a:pt x="60" y="4"/>
                    </a:lnTo>
                    <a:lnTo>
                      <a:pt x="70" y="4"/>
                    </a:lnTo>
                    <a:lnTo>
                      <a:pt x="81" y="4"/>
                    </a:lnTo>
                    <a:lnTo>
                      <a:pt x="92" y="5"/>
                    </a:lnTo>
                    <a:lnTo>
                      <a:pt x="102" y="5"/>
                    </a:lnTo>
                    <a:lnTo>
                      <a:pt x="111" y="6"/>
                    </a:lnTo>
                    <a:lnTo>
                      <a:pt x="120" y="9"/>
                    </a:lnTo>
                    <a:lnTo>
                      <a:pt x="130" y="10"/>
                    </a:lnTo>
                    <a:lnTo>
                      <a:pt x="140" y="13"/>
                    </a:lnTo>
                    <a:lnTo>
                      <a:pt x="148" y="16"/>
                    </a:lnTo>
                    <a:lnTo>
                      <a:pt x="158" y="19"/>
                    </a:lnTo>
                    <a:lnTo>
                      <a:pt x="166" y="24"/>
                    </a:lnTo>
                    <a:lnTo>
                      <a:pt x="174" y="29"/>
                    </a:lnTo>
                    <a:lnTo>
                      <a:pt x="185" y="37"/>
                    </a:lnTo>
                    <a:lnTo>
                      <a:pt x="196" y="46"/>
                    </a:lnTo>
                    <a:lnTo>
                      <a:pt x="206" y="55"/>
                    </a:lnTo>
                    <a:lnTo>
                      <a:pt x="216" y="66"/>
                    </a:lnTo>
                    <a:lnTo>
                      <a:pt x="226" y="76"/>
                    </a:lnTo>
                    <a:lnTo>
                      <a:pt x="236" y="87"/>
                    </a:lnTo>
                    <a:lnTo>
                      <a:pt x="245" y="96"/>
                    </a:lnTo>
                    <a:lnTo>
                      <a:pt x="255" y="106"/>
                    </a:lnTo>
                    <a:lnTo>
                      <a:pt x="270" y="119"/>
                    </a:lnTo>
                    <a:lnTo>
                      <a:pt x="285" y="131"/>
                    </a:lnTo>
                    <a:lnTo>
                      <a:pt x="299" y="144"/>
                    </a:lnTo>
                    <a:lnTo>
                      <a:pt x="315" y="157"/>
                    </a:lnTo>
                    <a:lnTo>
                      <a:pt x="329" y="169"/>
                    </a:lnTo>
                    <a:lnTo>
                      <a:pt x="345" y="181"/>
                    </a:lnTo>
                    <a:lnTo>
                      <a:pt x="360" y="195"/>
                    </a:lnTo>
                    <a:lnTo>
                      <a:pt x="375" y="207"/>
                    </a:lnTo>
                    <a:lnTo>
                      <a:pt x="387" y="215"/>
                    </a:lnTo>
                    <a:lnTo>
                      <a:pt x="398" y="225"/>
                    </a:lnTo>
                    <a:lnTo>
                      <a:pt x="408" y="233"/>
                    </a:lnTo>
                    <a:lnTo>
                      <a:pt x="419" y="241"/>
                    </a:lnTo>
                    <a:lnTo>
                      <a:pt x="431" y="250"/>
                    </a:lnTo>
                    <a:lnTo>
                      <a:pt x="442" y="258"/>
                    </a:lnTo>
                    <a:lnTo>
                      <a:pt x="454" y="267"/>
                    </a:lnTo>
                    <a:lnTo>
                      <a:pt x="466" y="274"/>
                    </a:lnTo>
                    <a:lnTo>
                      <a:pt x="472" y="276"/>
                    </a:lnTo>
                    <a:lnTo>
                      <a:pt x="479" y="280"/>
                    </a:lnTo>
                    <a:lnTo>
                      <a:pt x="485" y="282"/>
                    </a:lnTo>
                    <a:lnTo>
                      <a:pt x="492" y="283"/>
                    </a:lnTo>
                    <a:lnTo>
                      <a:pt x="498" y="286"/>
                    </a:lnTo>
                    <a:lnTo>
                      <a:pt x="506" y="287"/>
                    </a:lnTo>
                    <a:lnTo>
                      <a:pt x="513" y="287"/>
                    </a:lnTo>
                    <a:lnTo>
                      <a:pt x="519" y="288"/>
                    </a:lnTo>
                    <a:lnTo>
                      <a:pt x="525" y="288"/>
                    </a:lnTo>
                    <a:lnTo>
                      <a:pt x="532" y="288"/>
                    </a:lnTo>
                    <a:lnTo>
                      <a:pt x="538" y="288"/>
                    </a:lnTo>
                    <a:lnTo>
                      <a:pt x="545" y="288"/>
                    </a:lnTo>
                    <a:lnTo>
                      <a:pt x="551" y="287"/>
                    </a:lnTo>
                    <a:lnTo>
                      <a:pt x="557" y="285"/>
                    </a:lnTo>
                    <a:lnTo>
                      <a:pt x="562" y="282"/>
                    </a:lnTo>
                    <a:lnTo>
                      <a:pt x="567" y="279"/>
                    </a:lnTo>
                    <a:lnTo>
                      <a:pt x="572" y="273"/>
                    </a:lnTo>
                    <a:lnTo>
                      <a:pt x="576" y="267"/>
                    </a:lnTo>
                    <a:lnTo>
                      <a:pt x="579" y="259"/>
                    </a:lnTo>
                    <a:lnTo>
                      <a:pt x="581" y="252"/>
                    </a:lnTo>
                    <a:lnTo>
                      <a:pt x="584" y="244"/>
                    </a:lnTo>
                    <a:lnTo>
                      <a:pt x="585" y="237"/>
                    </a:lnTo>
                    <a:lnTo>
                      <a:pt x="586" y="228"/>
                    </a:lnTo>
                    <a:lnTo>
                      <a:pt x="586" y="221"/>
                    </a:lnTo>
                    <a:lnTo>
                      <a:pt x="587" y="209"/>
                    </a:lnTo>
                    <a:lnTo>
                      <a:pt x="587" y="198"/>
                    </a:lnTo>
                    <a:lnTo>
                      <a:pt x="586" y="186"/>
                    </a:lnTo>
                    <a:lnTo>
                      <a:pt x="585" y="175"/>
                    </a:lnTo>
                    <a:lnTo>
                      <a:pt x="584" y="165"/>
                    </a:lnTo>
                    <a:lnTo>
                      <a:pt x="582" y="153"/>
                    </a:lnTo>
                    <a:lnTo>
                      <a:pt x="581" y="142"/>
                    </a:lnTo>
                    <a:lnTo>
                      <a:pt x="581" y="130"/>
                    </a:lnTo>
                    <a:lnTo>
                      <a:pt x="581" y="124"/>
                    </a:lnTo>
                    <a:lnTo>
                      <a:pt x="582" y="118"/>
                    </a:lnTo>
                    <a:lnTo>
                      <a:pt x="582" y="112"/>
                    </a:lnTo>
                    <a:lnTo>
                      <a:pt x="584" y="106"/>
                    </a:lnTo>
                    <a:lnTo>
                      <a:pt x="585" y="100"/>
                    </a:lnTo>
                    <a:lnTo>
                      <a:pt x="585" y="94"/>
                    </a:lnTo>
                    <a:lnTo>
                      <a:pt x="586" y="88"/>
                    </a:lnTo>
                    <a:lnTo>
                      <a:pt x="586" y="82"/>
                    </a:lnTo>
                    <a:lnTo>
                      <a:pt x="586" y="76"/>
                    </a:lnTo>
                    <a:lnTo>
                      <a:pt x="586" y="69"/>
                    </a:lnTo>
                    <a:lnTo>
                      <a:pt x="586" y="63"/>
                    </a:lnTo>
                    <a:lnTo>
                      <a:pt x="585" y="55"/>
                    </a:lnTo>
                    <a:lnTo>
                      <a:pt x="585" y="48"/>
                    </a:lnTo>
                    <a:lnTo>
                      <a:pt x="585" y="42"/>
                    </a:lnTo>
                    <a:lnTo>
                      <a:pt x="585" y="36"/>
                    </a:lnTo>
                    <a:lnTo>
                      <a:pt x="586" y="29"/>
                    </a:lnTo>
                    <a:lnTo>
                      <a:pt x="587" y="24"/>
                    </a:lnTo>
                    <a:lnTo>
                      <a:pt x="588" y="19"/>
                    </a:lnTo>
                    <a:lnTo>
                      <a:pt x="591" y="15"/>
                    </a:lnTo>
                    <a:lnTo>
                      <a:pt x="592" y="10"/>
                    </a:lnTo>
                    <a:lnTo>
                      <a:pt x="594" y="6"/>
                    </a:lnTo>
                    <a:lnTo>
                      <a:pt x="598" y="3"/>
                    </a:lnTo>
                    <a:lnTo>
                      <a:pt x="602" y="1"/>
                    </a:lnTo>
                    <a:lnTo>
                      <a:pt x="605" y="0"/>
                    </a:lnTo>
                    <a:lnTo>
                      <a:pt x="614" y="1"/>
                    </a:lnTo>
                    <a:lnTo>
                      <a:pt x="622" y="4"/>
                    </a:lnTo>
                    <a:lnTo>
                      <a:pt x="629" y="7"/>
                    </a:lnTo>
                    <a:lnTo>
                      <a:pt x="638" y="11"/>
                    </a:lnTo>
                    <a:lnTo>
                      <a:pt x="645" y="16"/>
                    </a:lnTo>
                    <a:lnTo>
                      <a:pt x="651" y="22"/>
                    </a:lnTo>
                    <a:lnTo>
                      <a:pt x="657" y="28"/>
                    </a:lnTo>
                    <a:lnTo>
                      <a:pt x="663" y="34"/>
                    </a:lnTo>
                    <a:lnTo>
                      <a:pt x="669" y="42"/>
                    </a:lnTo>
                    <a:lnTo>
                      <a:pt x="674" y="51"/>
                    </a:lnTo>
                    <a:lnTo>
                      <a:pt x="678" y="59"/>
                    </a:lnTo>
                    <a:lnTo>
                      <a:pt x="682" y="69"/>
                    </a:lnTo>
                    <a:lnTo>
                      <a:pt x="686" y="78"/>
                    </a:lnTo>
                    <a:lnTo>
                      <a:pt x="689" y="88"/>
                    </a:lnTo>
                    <a:lnTo>
                      <a:pt x="693" y="96"/>
                    </a:lnTo>
                    <a:lnTo>
                      <a:pt x="696" y="106"/>
                    </a:lnTo>
                    <a:lnTo>
                      <a:pt x="702" y="119"/>
                    </a:lnTo>
                    <a:lnTo>
                      <a:pt x="707" y="132"/>
                    </a:lnTo>
                    <a:lnTo>
                      <a:pt x="713" y="145"/>
                    </a:lnTo>
                    <a:lnTo>
                      <a:pt x="718" y="159"/>
                    </a:lnTo>
                    <a:lnTo>
                      <a:pt x="724" y="172"/>
                    </a:lnTo>
                    <a:lnTo>
                      <a:pt x="729" y="185"/>
                    </a:lnTo>
                    <a:lnTo>
                      <a:pt x="734" y="198"/>
                    </a:lnTo>
                    <a:lnTo>
                      <a:pt x="740" y="211"/>
                    </a:lnTo>
                    <a:lnTo>
                      <a:pt x="743" y="220"/>
                    </a:lnTo>
                    <a:lnTo>
                      <a:pt x="746" y="227"/>
                    </a:lnTo>
                    <a:lnTo>
                      <a:pt x="749" y="235"/>
                    </a:lnTo>
                    <a:lnTo>
                      <a:pt x="753" y="244"/>
                    </a:lnTo>
                    <a:lnTo>
                      <a:pt x="756" y="251"/>
                    </a:lnTo>
                    <a:lnTo>
                      <a:pt x="760" y="259"/>
                    </a:lnTo>
                    <a:lnTo>
                      <a:pt x="764" y="267"/>
                    </a:lnTo>
                    <a:lnTo>
                      <a:pt x="768" y="274"/>
                    </a:lnTo>
                    <a:lnTo>
                      <a:pt x="774" y="281"/>
                    </a:lnTo>
                    <a:lnTo>
                      <a:pt x="780" y="289"/>
                    </a:lnTo>
                    <a:lnTo>
                      <a:pt x="786" y="297"/>
                    </a:lnTo>
                    <a:lnTo>
                      <a:pt x="794" y="304"/>
                    </a:lnTo>
                    <a:lnTo>
                      <a:pt x="800" y="311"/>
                    </a:lnTo>
                    <a:lnTo>
                      <a:pt x="807" y="318"/>
                    </a:lnTo>
                    <a:lnTo>
                      <a:pt x="814" y="324"/>
                    </a:lnTo>
                    <a:lnTo>
                      <a:pt x="821" y="331"/>
                    </a:lnTo>
                    <a:lnTo>
                      <a:pt x="831" y="340"/>
                    </a:lnTo>
                    <a:lnTo>
                      <a:pt x="839" y="348"/>
                    </a:lnTo>
                    <a:lnTo>
                      <a:pt x="849" y="357"/>
                    </a:lnTo>
                    <a:lnTo>
                      <a:pt x="857" y="365"/>
                    </a:lnTo>
                    <a:lnTo>
                      <a:pt x="867" y="373"/>
                    </a:lnTo>
                    <a:lnTo>
                      <a:pt x="876" y="381"/>
                    </a:lnTo>
                    <a:lnTo>
                      <a:pt x="887" y="388"/>
                    </a:lnTo>
                    <a:lnTo>
                      <a:pt x="898" y="394"/>
                    </a:lnTo>
                    <a:lnTo>
                      <a:pt x="906" y="397"/>
                    </a:lnTo>
                    <a:lnTo>
                      <a:pt x="916" y="400"/>
                    </a:lnTo>
                    <a:lnTo>
                      <a:pt x="926" y="402"/>
                    </a:lnTo>
                    <a:lnTo>
                      <a:pt x="935" y="405"/>
                    </a:lnTo>
                    <a:lnTo>
                      <a:pt x="945" y="406"/>
                    </a:lnTo>
                    <a:lnTo>
                      <a:pt x="954" y="407"/>
                    </a:lnTo>
                    <a:lnTo>
                      <a:pt x="965" y="407"/>
                    </a:lnTo>
                    <a:lnTo>
                      <a:pt x="975" y="408"/>
                    </a:lnTo>
                    <a:lnTo>
                      <a:pt x="987" y="408"/>
                    </a:lnTo>
                    <a:lnTo>
                      <a:pt x="999" y="408"/>
                    </a:lnTo>
                    <a:lnTo>
                      <a:pt x="1011" y="408"/>
                    </a:lnTo>
                    <a:lnTo>
                      <a:pt x="1023" y="408"/>
                    </a:lnTo>
                    <a:lnTo>
                      <a:pt x="1035" y="407"/>
                    </a:lnTo>
                    <a:lnTo>
                      <a:pt x="1047" y="406"/>
                    </a:lnTo>
                    <a:lnTo>
                      <a:pt x="1059" y="405"/>
                    </a:lnTo>
                    <a:lnTo>
                      <a:pt x="1071" y="403"/>
                    </a:lnTo>
                    <a:lnTo>
                      <a:pt x="1079" y="401"/>
                    </a:lnTo>
                    <a:lnTo>
                      <a:pt x="1088" y="400"/>
                    </a:lnTo>
                    <a:lnTo>
                      <a:pt x="1095" y="397"/>
                    </a:lnTo>
                    <a:lnTo>
                      <a:pt x="1103" y="395"/>
                    </a:lnTo>
                    <a:lnTo>
                      <a:pt x="1112" y="391"/>
                    </a:lnTo>
                    <a:lnTo>
                      <a:pt x="1119" y="388"/>
                    </a:lnTo>
                    <a:lnTo>
                      <a:pt x="1126" y="384"/>
                    </a:lnTo>
                    <a:lnTo>
                      <a:pt x="1133" y="379"/>
                    </a:lnTo>
                    <a:lnTo>
                      <a:pt x="1139" y="373"/>
                    </a:lnTo>
                    <a:lnTo>
                      <a:pt x="1146" y="369"/>
                    </a:lnTo>
                    <a:lnTo>
                      <a:pt x="1154" y="363"/>
                    </a:lnTo>
                    <a:lnTo>
                      <a:pt x="1161" y="355"/>
                    </a:lnTo>
                    <a:lnTo>
                      <a:pt x="1166" y="348"/>
                    </a:lnTo>
                    <a:lnTo>
                      <a:pt x="1170" y="341"/>
                    </a:lnTo>
                    <a:lnTo>
                      <a:pt x="1172" y="337"/>
                    </a:lnTo>
                    <a:lnTo>
                      <a:pt x="1172" y="334"/>
                    </a:lnTo>
                    <a:lnTo>
                      <a:pt x="1172" y="330"/>
                    </a:lnTo>
                    <a:lnTo>
                      <a:pt x="1172" y="327"/>
                    </a:lnTo>
                    <a:lnTo>
                      <a:pt x="1169" y="322"/>
                    </a:lnTo>
                    <a:lnTo>
                      <a:pt x="1168" y="318"/>
                    </a:lnTo>
                    <a:lnTo>
                      <a:pt x="1164" y="316"/>
                    </a:lnTo>
                    <a:lnTo>
                      <a:pt x="1162" y="312"/>
                    </a:lnTo>
                    <a:lnTo>
                      <a:pt x="1155" y="309"/>
                    </a:lnTo>
                    <a:lnTo>
                      <a:pt x="1146" y="305"/>
                    </a:lnTo>
                    <a:lnTo>
                      <a:pt x="1137" y="301"/>
                    </a:lnTo>
                    <a:lnTo>
                      <a:pt x="1127" y="299"/>
                    </a:lnTo>
                    <a:lnTo>
                      <a:pt x="1118" y="295"/>
                    </a:lnTo>
                    <a:lnTo>
                      <a:pt x="1109" y="293"/>
                    </a:lnTo>
                    <a:lnTo>
                      <a:pt x="1098" y="288"/>
                    </a:lnTo>
                    <a:lnTo>
                      <a:pt x="1089" y="286"/>
                    </a:lnTo>
                    <a:lnTo>
                      <a:pt x="1078" y="282"/>
                    </a:lnTo>
                    <a:lnTo>
                      <a:pt x="1067" y="279"/>
                    </a:lnTo>
                    <a:lnTo>
                      <a:pt x="1058" y="276"/>
                    </a:lnTo>
                    <a:lnTo>
                      <a:pt x="1047" y="273"/>
                    </a:lnTo>
                    <a:lnTo>
                      <a:pt x="1037" y="269"/>
                    </a:lnTo>
                    <a:lnTo>
                      <a:pt x="1028" y="264"/>
                    </a:lnTo>
                    <a:lnTo>
                      <a:pt x="1022" y="261"/>
                    </a:lnTo>
                    <a:lnTo>
                      <a:pt x="1016" y="256"/>
                    </a:lnTo>
                    <a:lnTo>
                      <a:pt x="1010" y="252"/>
                    </a:lnTo>
                    <a:lnTo>
                      <a:pt x="1004" y="247"/>
                    </a:lnTo>
                    <a:lnTo>
                      <a:pt x="999" y="243"/>
                    </a:lnTo>
                    <a:lnTo>
                      <a:pt x="993" y="237"/>
                    </a:lnTo>
                    <a:lnTo>
                      <a:pt x="989" y="232"/>
                    </a:lnTo>
                    <a:lnTo>
                      <a:pt x="984" y="226"/>
                    </a:lnTo>
                    <a:lnTo>
                      <a:pt x="980" y="220"/>
                    </a:lnTo>
                    <a:lnTo>
                      <a:pt x="976" y="214"/>
                    </a:lnTo>
                    <a:lnTo>
                      <a:pt x="972" y="207"/>
                    </a:lnTo>
                    <a:lnTo>
                      <a:pt x="970" y="201"/>
                    </a:lnTo>
                    <a:lnTo>
                      <a:pt x="966" y="193"/>
                    </a:lnTo>
                    <a:lnTo>
                      <a:pt x="964" y="187"/>
                    </a:lnTo>
                    <a:lnTo>
                      <a:pt x="962" y="180"/>
                    </a:lnTo>
                    <a:lnTo>
                      <a:pt x="960" y="173"/>
                    </a:lnTo>
                    <a:lnTo>
                      <a:pt x="959" y="168"/>
                    </a:lnTo>
                    <a:lnTo>
                      <a:pt x="958" y="163"/>
                    </a:lnTo>
                    <a:lnTo>
                      <a:pt x="958" y="157"/>
                    </a:lnTo>
                    <a:lnTo>
                      <a:pt x="958" y="153"/>
                    </a:lnTo>
                    <a:lnTo>
                      <a:pt x="959" y="148"/>
                    </a:lnTo>
                    <a:lnTo>
                      <a:pt x="960" y="143"/>
                    </a:lnTo>
                    <a:lnTo>
                      <a:pt x="962" y="138"/>
                    </a:lnTo>
                    <a:lnTo>
                      <a:pt x="965" y="135"/>
                    </a:lnTo>
                    <a:lnTo>
                      <a:pt x="970" y="131"/>
                    </a:lnTo>
                    <a:lnTo>
                      <a:pt x="975" y="129"/>
                    </a:lnTo>
                    <a:lnTo>
                      <a:pt x="981" y="126"/>
                    </a:lnTo>
                    <a:lnTo>
                      <a:pt x="988" y="125"/>
                    </a:lnTo>
                    <a:lnTo>
                      <a:pt x="994" y="125"/>
                    </a:lnTo>
                    <a:lnTo>
                      <a:pt x="1000" y="125"/>
                    </a:lnTo>
                    <a:lnTo>
                      <a:pt x="1007" y="125"/>
                    </a:lnTo>
                    <a:lnTo>
                      <a:pt x="1013" y="125"/>
                    </a:lnTo>
                    <a:lnTo>
                      <a:pt x="1022" y="126"/>
                    </a:lnTo>
                    <a:lnTo>
                      <a:pt x="1029" y="129"/>
                    </a:lnTo>
                    <a:lnTo>
                      <a:pt x="1037" y="131"/>
                    </a:lnTo>
                    <a:lnTo>
                      <a:pt x="1044" y="133"/>
                    </a:lnTo>
                    <a:lnTo>
                      <a:pt x="1052" y="137"/>
                    </a:lnTo>
                    <a:lnTo>
                      <a:pt x="1060" y="139"/>
                    </a:lnTo>
                    <a:lnTo>
                      <a:pt x="1067" y="142"/>
                    </a:lnTo>
                    <a:lnTo>
                      <a:pt x="1076" y="144"/>
                    </a:lnTo>
                    <a:lnTo>
                      <a:pt x="1085" y="147"/>
                    </a:lnTo>
                    <a:lnTo>
                      <a:pt x="1095" y="148"/>
                    </a:lnTo>
                    <a:lnTo>
                      <a:pt x="1104" y="149"/>
                    </a:lnTo>
                    <a:lnTo>
                      <a:pt x="1114" y="150"/>
                    </a:lnTo>
                    <a:lnTo>
                      <a:pt x="1124" y="151"/>
                    </a:lnTo>
                    <a:lnTo>
                      <a:pt x="1133" y="153"/>
                    </a:lnTo>
                    <a:lnTo>
                      <a:pt x="1143" y="153"/>
                    </a:lnTo>
                    <a:lnTo>
                      <a:pt x="1152" y="154"/>
                    </a:lnTo>
                    <a:lnTo>
                      <a:pt x="1163" y="154"/>
                    </a:lnTo>
                    <a:lnTo>
                      <a:pt x="1174" y="155"/>
                    </a:lnTo>
                    <a:lnTo>
                      <a:pt x="1185" y="155"/>
                    </a:lnTo>
                    <a:lnTo>
                      <a:pt x="1196" y="155"/>
                    </a:lnTo>
                    <a:lnTo>
                      <a:pt x="1206" y="155"/>
                    </a:lnTo>
                    <a:lnTo>
                      <a:pt x="1217" y="155"/>
                    </a:lnTo>
                    <a:lnTo>
                      <a:pt x="1228" y="154"/>
                    </a:lnTo>
                    <a:lnTo>
                      <a:pt x="1239" y="154"/>
                    </a:lnTo>
                    <a:lnTo>
                      <a:pt x="1246" y="154"/>
                    </a:lnTo>
                    <a:lnTo>
                      <a:pt x="1253" y="153"/>
                    </a:lnTo>
                    <a:lnTo>
                      <a:pt x="1260" y="151"/>
                    </a:lnTo>
                    <a:lnTo>
                      <a:pt x="1268" y="150"/>
                    </a:lnTo>
                    <a:lnTo>
                      <a:pt x="1275" y="149"/>
                    </a:lnTo>
                    <a:lnTo>
                      <a:pt x="1282" y="148"/>
                    </a:lnTo>
                    <a:lnTo>
                      <a:pt x="1289" y="148"/>
                    </a:lnTo>
                    <a:lnTo>
                      <a:pt x="1296" y="149"/>
                    </a:lnTo>
                    <a:lnTo>
                      <a:pt x="1302" y="150"/>
                    </a:lnTo>
                    <a:lnTo>
                      <a:pt x="1308" y="153"/>
                    </a:lnTo>
                    <a:lnTo>
                      <a:pt x="1314" y="155"/>
                    </a:lnTo>
                    <a:lnTo>
                      <a:pt x="1319" y="157"/>
                    </a:lnTo>
                    <a:lnTo>
                      <a:pt x="1325" y="161"/>
                    </a:lnTo>
                    <a:lnTo>
                      <a:pt x="1330" y="165"/>
                    </a:lnTo>
                    <a:lnTo>
                      <a:pt x="1335" y="168"/>
                    </a:lnTo>
                    <a:lnTo>
                      <a:pt x="1340" y="173"/>
                    </a:lnTo>
                    <a:lnTo>
                      <a:pt x="1342" y="178"/>
                    </a:lnTo>
                    <a:lnTo>
                      <a:pt x="1346" y="184"/>
                    </a:lnTo>
                    <a:lnTo>
                      <a:pt x="1347" y="190"/>
                    </a:lnTo>
                    <a:lnTo>
                      <a:pt x="1349" y="196"/>
                    </a:lnTo>
                    <a:lnTo>
                      <a:pt x="1350" y="202"/>
                    </a:lnTo>
                    <a:lnTo>
                      <a:pt x="1350" y="208"/>
                    </a:lnTo>
                    <a:lnTo>
                      <a:pt x="1352" y="215"/>
                    </a:lnTo>
                    <a:lnTo>
                      <a:pt x="1354" y="221"/>
                    </a:lnTo>
                    <a:lnTo>
                      <a:pt x="1358" y="237"/>
                    </a:lnTo>
                    <a:lnTo>
                      <a:pt x="1361" y="253"/>
                    </a:lnTo>
                    <a:lnTo>
                      <a:pt x="1365" y="269"/>
                    </a:lnTo>
                    <a:lnTo>
                      <a:pt x="1370" y="286"/>
                    </a:lnTo>
                    <a:lnTo>
                      <a:pt x="1373" y="301"/>
                    </a:lnTo>
                    <a:lnTo>
                      <a:pt x="1377" y="318"/>
                    </a:lnTo>
                    <a:lnTo>
                      <a:pt x="1379" y="334"/>
                    </a:lnTo>
                    <a:lnTo>
                      <a:pt x="1383" y="351"/>
                    </a:lnTo>
                    <a:lnTo>
                      <a:pt x="1384" y="365"/>
                    </a:lnTo>
                    <a:lnTo>
                      <a:pt x="1385" y="381"/>
                    </a:lnTo>
                    <a:lnTo>
                      <a:pt x="1385" y="395"/>
                    </a:lnTo>
                    <a:lnTo>
                      <a:pt x="1386" y="411"/>
                    </a:lnTo>
                    <a:lnTo>
                      <a:pt x="1386" y="425"/>
                    </a:lnTo>
                    <a:lnTo>
                      <a:pt x="1388" y="441"/>
                    </a:lnTo>
                    <a:lnTo>
                      <a:pt x="1389" y="455"/>
                    </a:lnTo>
                    <a:lnTo>
                      <a:pt x="1392" y="469"/>
                    </a:lnTo>
                    <a:lnTo>
                      <a:pt x="1394" y="480"/>
                    </a:lnTo>
                    <a:lnTo>
                      <a:pt x="1397" y="490"/>
                    </a:lnTo>
                    <a:lnTo>
                      <a:pt x="1400" y="499"/>
                    </a:lnTo>
                    <a:lnTo>
                      <a:pt x="1403" y="509"/>
                    </a:lnTo>
                    <a:lnTo>
                      <a:pt x="1408" y="517"/>
                    </a:lnTo>
                    <a:lnTo>
                      <a:pt x="1413" y="527"/>
                    </a:lnTo>
                    <a:lnTo>
                      <a:pt x="1419" y="534"/>
                    </a:lnTo>
                    <a:lnTo>
                      <a:pt x="1425" y="541"/>
                    </a:lnTo>
                    <a:lnTo>
                      <a:pt x="1431" y="545"/>
                    </a:lnTo>
                    <a:lnTo>
                      <a:pt x="1436" y="548"/>
                    </a:lnTo>
                    <a:lnTo>
                      <a:pt x="1442" y="551"/>
                    </a:lnTo>
                    <a:lnTo>
                      <a:pt x="1449" y="552"/>
                    </a:lnTo>
                    <a:lnTo>
                      <a:pt x="1455" y="552"/>
                    </a:lnTo>
                    <a:lnTo>
                      <a:pt x="1462" y="551"/>
                    </a:lnTo>
                    <a:lnTo>
                      <a:pt x="1468" y="550"/>
                    </a:lnTo>
                    <a:lnTo>
                      <a:pt x="1473" y="546"/>
                    </a:lnTo>
                    <a:lnTo>
                      <a:pt x="1485" y="538"/>
                    </a:lnTo>
                    <a:lnTo>
                      <a:pt x="1494" y="528"/>
                    </a:lnTo>
                    <a:lnTo>
                      <a:pt x="1504" y="517"/>
                    </a:lnTo>
                    <a:lnTo>
                      <a:pt x="1512" y="506"/>
                    </a:lnTo>
                    <a:lnTo>
                      <a:pt x="1521" y="496"/>
                    </a:lnTo>
                    <a:lnTo>
                      <a:pt x="1529" y="484"/>
                    </a:lnTo>
                    <a:lnTo>
                      <a:pt x="1536" y="472"/>
                    </a:lnTo>
                    <a:lnTo>
                      <a:pt x="1545" y="461"/>
                    </a:lnTo>
                    <a:lnTo>
                      <a:pt x="1556" y="447"/>
                    </a:lnTo>
                    <a:lnTo>
                      <a:pt x="1566" y="432"/>
                    </a:lnTo>
                    <a:lnTo>
                      <a:pt x="1576" y="418"/>
                    </a:lnTo>
                    <a:lnTo>
                      <a:pt x="1586" y="403"/>
                    </a:lnTo>
                    <a:lnTo>
                      <a:pt x="1596" y="388"/>
                    </a:lnTo>
                    <a:lnTo>
                      <a:pt x="1606" y="373"/>
                    </a:lnTo>
                    <a:lnTo>
                      <a:pt x="1616" y="359"/>
                    </a:lnTo>
                    <a:lnTo>
                      <a:pt x="1626" y="346"/>
                    </a:lnTo>
                    <a:lnTo>
                      <a:pt x="1635" y="335"/>
                    </a:lnTo>
                    <a:lnTo>
                      <a:pt x="1642" y="325"/>
                    </a:lnTo>
                    <a:lnTo>
                      <a:pt x="1650" y="316"/>
                    </a:lnTo>
                    <a:lnTo>
                      <a:pt x="1659" y="305"/>
                    </a:lnTo>
                    <a:lnTo>
                      <a:pt x="1667" y="295"/>
                    </a:lnTo>
                    <a:lnTo>
                      <a:pt x="1676" y="286"/>
                    </a:lnTo>
                    <a:lnTo>
                      <a:pt x="1684" y="277"/>
                    </a:lnTo>
                    <a:lnTo>
                      <a:pt x="1694" y="269"/>
                    </a:lnTo>
                    <a:lnTo>
                      <a:pt x="1698" y="264"/>
                    </a:lnTo>
                    <a:lnTo>
                      <a:pt x="1704" y="259"/>
                    </a:lnTo>
                    <a:lnTo>
                      <a:pt x="1712" y="255"/>
                    </a:lnTo>
                    <a:lnTo>
                      <a:pt x="1718" y="250"/>
                    </a:lnTo>
                    <a:lnTo>
                      <a:pt x="1725" y="246"/>
                    </a:lnTo>
                    <a:lnTo>
                      <a:pt x="1730" y="245"/>
                    </a:lnTo>
                    <a:lnTo>
                      <a:pt x="1732" y="245"/>
                    </a:lnTo>
                    <a:lnTo>
                      <a:pt x="1734" y="246"/>
                    </a:lnTo>
                    <a:lnTo>
                      <a:pt x="1736" y="247"/>
                    </a:lnTo>
                    <a:lnTo>
                      <a:pt x="1737" y="250"/>
                    </a:lnTo>
                    <a:lnTo>
                      <a:pt x="1742" y="267"/>
                    </a:lnTo>
                    <a:lnTo>
                      <a:pt x="1744" y="283"/>
                    </a:lnTo>
                    <a:lnTo>
                      <a:pt x="1745" y="301"/>
                    </a:lnTo>
                    <a:lnTo>
                      <a:pt x="1744" y="319"/>
                    </a:lnTo>
                    <a:lnTo>
                      <a:pt x="1743" y="336"/>
                    </a:lnTo>
                    <a:lnTo>
                      <a:pt x="1740" y="354"/>
                    </a:lnTo>
                    <a:lnTo>
                      <a:pt x="1737" y="371"/>
                    </a:lnTo>
                    <a:lnTo>
                      <a:pt x="1732" y="389"/>
                    </a:lnTo>
                    <a:lnTo>
                      <a:pt x="1724" y="418"/>
                    </a:lnTo>
                    <a:lnTo>
                      <a:pt x="1713" y="448"/>
                    </a:lnTo>
                    <a:lnTo>
                      <a:pt x="1702" y="476"/>
                    </a:lnTo>
                    <a:lnTo>
                      <a:pt x="1690" y="505"/>
                    </a:lnTo>
                    <a:lnTo>
                      <a:pt x="1677" y="534"/>
                    </a:lnTo>
                    <a:lnTo>
                      <a:pt x="1664" y="562"/>
                    </a:lnTo>
                    <a:lnTo>
                      <a:pt x="1650" y="590"/>
                    </a:lnTo>
                    <a:lnTo>
                      <a:pt x="1636" y="618"/>
                    </a:lnTo>
                    <a:lnTo>
                      <a:pt x="1629" y="634"/>
                    </a:lnTo>
                    <a:lnTo>
                      <a:pt x="1620" y="649"/>
                    </a:lnTo>
                    <a:lnTo>
                      <a:pt x="1612" y="665"/>
                    </a:lnTo>
                    <a:lnTo>
                      <a:pt x="1604" y="680"/>
                    </a:lnTo>
                    <a:lnTo>
                      <a:pt x="1595" y="695"/>
                    </a:lnTo>
                    <a:lnTo>
                      <a:pt x="1586" y="710"/>
                    </a:lnTo>
                    <a:lnTo>
                      <a:pt x="1575" y="725"/>
                    </a:lnTo>
                    <a:lnTo>
                      <a:pt x="1564" y="738"/>
                    </a:lnTo>
                    <a:lnTo>
                      <a:pt x="1557" y="746"/>
                    </a:lnTo>
                    <a:lnTo>
                      <a:pt x="1548" y="755"/>
                    </a:lnTo>
                    <a:lnTo>
                      <a:pt x="1539" y="761"/>
                    </a:lnTo>
                    <a:lnTo>
                      <a:pt x="1529" y="768"/>
                    </a:lnTo>
                    <a:lnTo>
                      <a:pt x="1520" y="775"/>
                    </a:lnTo>
                    <a:lnTo>
                      <a:pt x="1511" y="781"/>
                    </a:lnTo>
                    <a:lnTo>
                      <a:pt x="1502" y="788"/>
                    </a:lnTo>
                    <a:lnTo>
                      <a:pt x="1492" y="796"/>
                    </a:lnTo>
                    <a:lnTo>
                      <a:pt x="1488" y="799"/>
                    </a:lnTo>
                    <a:lnTo>
                      <a:pt x="1484" y="803"/>
                    </a:lnTo>
                    <a:lnTo>
                      <a:pt x="1480" y="806"/>
                    </a:lnTo>
                    <a:lnTo>
                      <a:pt x="1475" y="811"/>
                    </a:lnTo>
                    <a:lnTo>
                      <a:pt x="1472" y="815"/>
                    </a:lnTo>
                    <a:lnTo>
                      <a:pt x="1468" y="820"/>
                    </a:lnTo>
                    <a:lnTo>
                      <a:pt x="1466" y="824"/>
                    </a:lnTo>
                    <a:lnTo>
                      <a:pt x="1463" y="829"/>
                    </a:lnTo>
                    <a:lnTo>
                      <a:pt x="1462" y="835"/>
                    </a:lnTo>
                    <a:lnTo>
                      <a:pt x="1462" y="842"/>
                    </a:lnTo>
                    <a:lnTo>
                      <a:pt x="1462" y="848"/>
                    </a:lnTo>
                    <a:lnTo>
                      <a:pt x="1462" y="856"/>
                    </a:lnTo>
                    <a:lnTo>
                      <a:pt x="1463" y="862"/>
                    </a:lnTo>
                    <a:lnTo>
                      <a:pt x="1466" y="868"/>
                    </a:lnTo>
                    <a:lnTo>
                      <a:pt x="1469" y="874"/>
                    </a:lnTo>
                    <a:lnTo>
                      <a:pt x="1473" y="877"/>
                    </a:lnTo>
                    <a:lnTo>
                      <a:pt x="1482" y="882"/>
                    </a:lnTo>
                    <a:lnTo>
                      <a:pt x="1493" y="887"/>
                    </a:lnTo>
                    <a:lnTo>
                      <a:pt x="1504" y="890"/>
                    </a:lnTo>
                    <a:lnTo>
                      <a:pt x="1515" y="892"/>
                    </a:lnTo>
                    <a:lnTo>
                      <a:pt x="1526" y="893"/>
                    </a:lnTo>
                    <a:lnTo>
                      <a:pt x="1538" y="894"/>
                    </a:lnTo>
                    <a:lnTo>
                      <a:pt x="1548" y="893"/>
                    </a:lnTo>
                    <a:lnTo>
                      <a:pt x="1559" y="892"/>
                    </a:lnTo>
                    <a:lnTo>
                      <a:pt x="1571" y="889"/>
                    </a:lnTo>
                    <a:lnTo>
                      <a:pt x="1583" y="886"/>
                    </a:lnTo>
                    <a:lnTo>
                      <a:pt x="1595" y="882"/>
                    </a:lnTo>
                    <a:lnTo>
                      <a:pt x="1606" y="877"/>
                    </a:lnTo>
                    <a:lnTo>
                      <a:pt x="1617" y="871"/>
                    </a:lnTo>
                    <a:lnTo>
                      <a:pt x="1628" y="864"/>
                    </a:lnTo>
                    <a:lnTo>
                      <a:pt x="1637" y="857"/>
                    </a:lnTo>
                    <a:lnTo>
                      <a:pt x="1646" y="848"/>
                    </a:lnTo>
                    <a:lnTo>
                      <a:pt x="1660" y="830"/>
                    </a:lnTo>
                    <a:lnTo>
                      <a:pt x="1673" y="812"/>
                    </a:lnTo>
                    <a:lnTo>
                      <a:pt x="1684" y="793"/>
                    </a:lnTo>
                    <a:lnTo>
                      <a:pt x="1695" y="773"/>
                    </a:lnTo>
                    <a:lnTo>
                      <a:pt x="1706" y="752"/>
                    </a:lnTo>
                    <a:lnTo>
                      <a:pt x="1716" y="733"/>
                    </a:lnTo>
                    <a:lnTo>
                      <a:pt x="1728" y="713"/>
                    </a:lnTo>
                    <a:lnTo>
                      <a:pt x="1742" y="695"/>
                    </a:lnTo>
                    <a:lnTo>
                      <a:pt x="1751" y="683"/>
                    </a:lnTo>
                    <a:lnTo>
                      <a:pt x="1762" y="671"/>
                    </a:lnTo>
                    <a:lnTo>
                      <a:pt x="1773" y="660"/>
                    </a:lnTo>
                    <a:lnTo>
                      <a:pt x="1785" y="648"/>
                    </a:lnTo>
                    <a:lnTo>
                      <a:pt x="1796" y="638"/>
                    </a:lnTo>
                    <a:lnTo>
                      <a:pt x="1808" y="628"/>
                    </a:lnTo>
                    <a:lnTo>
                      <a:pt x="1821" y="618"/>
                    </a:lnTo>
                    <a:lnTo>
                      <a:pt x="1833" y="608"/>
                    </a:lnTo>
                    <a:lnTo>
                      <a:pt x="1841" y="604"/>
                    </a:lnTo>
                    <a:lnTo>
                      <a:pt x="1850" y="598"/>
                    </a:lnTo>
                    <a:lnTo>
                      <a:pt x="1858" y="593"/>
                    </a:lnTo>
                    <a:lnTo>
                      <a:pt x="1868" y="588"/>
                    </a:lnTo>
                    <a:lnTo>
                      <a:pt x="1876" y="584"/>
                    </a:lnTo>
                    <a:lnTo>
                      <a:pt x="1886" y="581"/>
                    </a:lnTo>
                    <a:lnTo>
                      <a:pt x="1895" y="580"/>
                    </a:lnTo>
                    <a:lnTo>
                      <a:pt x="1905" y="580"/>
                    </a:lnTo>
                    <a:lnTo>
                      <a:pt x="1914" y="582"/>
                    </a:lnTo>
                    <a:lnTo>
                      <a:pt x="1923" y="586"/>
                    </a:lnTo>
                    <a:lnTo>
                      <a:pt x="1931" y="590"/>
                    </a:lnTo>
                    <a:lnTo>
                      <a:pt x="1938" y="595"/>
                    </a:lnTo>
                    <a:lnTo>
                      <a:pt x="1947" y="602"/>
                    </a:lnTo>
                    <a:lnTo>
                      <a:pt x="1954" y="610"/>
                    </a:lnTo>
                    <a:lnTo>
                      <a:pt x="1960" y="616"/>
                    </a:lnTo>
                    <a:lnTo>
                      <a:pt x="1967" y="623"/>
                    </a:lnTo>
                    <a:lnTo>
                      <a:pt x="1973" y="630"/>
                    </a:lnTo>
                    <a:lnTo>
                      <a:pt x="1979" y="638"/>
                    </a:lnTo>
                    <a:lnTo>
                      <a:pt x="1985" y="647"/>
                    </a:lnTo>
                    <a:lnTo>
                      <a:pt x="1990" y="655"/>
                    </a:lnTo>
                    <a:lnTo>
                      <a:pt x="1996" y="664"/>
                    </a:lnTo>
                    <a:lnTo>
                      <a:pt x="2001" y="673"/>
                    </a:lnTo>
                    <a:lnTo>
                      <a:pt x="2006" y="682"/>
                    </a:lnTo>
                    <a:lnTo>
                      <a:pt x="2010" y="690"/>
                    </a:lnTo>
                    <a:lnTo>
                      <a:pt x="2018" y="702"/>
                    </a:lnTo>
                    <a:lnTo>
                      <a:pt x="2026" y="715"/>
                    </a:lnTo>
                    <a:lnTo>
                      <a:pt x="2033" y="727"/>
                    </a:lnTo>
                    <a:lnTo>
                      <a:pt x="2042" y="739"/>
                    </a:lnTo>
                    <a:lnTo>
                      <a:pt x="2049" y="752"/>
                    </a:lnTo>
                    <a:lnTo>
                      <a:pt x="2056" y="764"/>
                    </a:lnTo>
                    <a:lnTo>
                      <a:pt x="2062" y="778"/>
                    </a:lnTo>
                    <a:lnTo>
                      <a:pt x="2068" y="791"/>
                    </a:lnTo>
                    <a:lnTo>
                      <a:pt x="2070" y="799"/>
                    </a:lnTo>
                    <a:lnTo>
                      <a:pt x="2074" y="806"/>
                    </a:lnTo>
                    <a:lnTo>
                      <a:pt x="2075" y="815"/>
                    </a:lnTo>
                    <a:lnTo>
                      <a:pt x="2078" y="824"/>
                    </a:lnTo>
                    <a:lnTo>
                      <a:pt x="2079" y="833"/>
                    </a:lnTo>
                    <a:lnTo>
                      <a:pt x="2079" y="841"/>
                    </a:lnTo>
                    <a:lnTo>
                      <a:pt x="2079" y="850"/>
                    </a:lnTo>
                    <a:lnTo>
                      <a:pt x="2078" y="858"/>
                    </a:lnTo>
                    <a:lnTo>
                      <a:pt x="2076" y="864"/>
                    </a:lnTo>
                    <a:lnTo>
                      <a:pt x="2074" y="869"/>
                    </a:lnTo>
                    <a:lnTo>
                      <a:pt x="2072" y="875"/>
                    </a:lnTo>
                    <a:lnTo>
                      <a:pt x="2068" y="880"/>
                    </a:lnTo>
                    <a:lnTo>
                      <a:pt x="2063" y="884"/>
                    </a:lnTo>
                    <a:lnTo>
                      <a:pt x="2060" y="888"/>
                    </a:lnTo>
                    <a:lnTo>
                      <a:pt x="2054" y="890"/>
                    </a:lnTo>
                    <a:lnTo>
                      <a:pt x="2049" y="892"/>
                    </a:lnTo>
                    <a:lnTo>
                      <a:pt x="2040" y="892"/>
                    </a:lnTo>
                    <a:lnTo>
                      <a:pt x="2032" y="889"/>
                    </a:lnTo>
                    <a:lnTo>
                      <a:pt x="2024" y="887"/>
                    </a:lnTo>
                    <a:lnTo>
                      <a:pt x="2015" y="883"/>
                    </a:lnTo>
                    <a:lnTo>
                      <a:pt x="2008" y="878"/>
                    </a:lnTo>
                    <a:lnTo>
                      <a:pt x="2000" y="874"/>
                    </a:lnTo>
                    <a:lnTo>
                      <a:pt x="1992" y="869"/>
                    </a:lnTo>
                    <a:lnTo>
                      <a:pt x="1986" y="863"/>
                    </a:lnTo>
                    <a:lnTo>
                      <a:pt x="1978" y="853"/>
                    </a:lnTo>
                    <a:lnTo>
                      <a:pt x="1970" y="844"/>
                    </a:lnTo>
                    <a:lnTo>
                      <a:pt x="1962" y="834"/>
                    </a:lnTo>
                    <a:lnTo>
                      <a:pt x="1956" y="823"/>
                    </a:lnTo>
                    <a:lnTo>
                      <a:pt x="1949" y="812"/>
                    </a:lnTo>
                    <a:lnTo>
                      <a:pt x="1943" y="802"/>
                    </a:lnTo>
                    <a:lnTo>
                      <a:pt x="1936" y="792"/>
                    </a:lnTo>
                    <a:lnTo>
                      <a:pt x="1929" y="781"/>
                    </a:lnTo>
                    <a:lnTo>
                      <a:pt x="1924" y="775"/>
                    </a:lnTo>
                    <a:lnTo>
                      <a:pt x="1920" y="768"/>
                    </a:lnTo>
                    <a:lnTo>
                      <a:pt x="1916" y="762"/>
                    </a:lnTo>
                    <a:lnTo>
                      <a:pt x="1911" y="756"/>
                    </a:lnTo>
                    <a:lnTo>
                      <a:pt x="1906" y="750"/>
                    </a:lnTo>
                    <a:lnTo>
                      <a:pt x="1901" y="744"/>
                    </a:lnTo>
                    <a:lnTo>
                      <a:pt x="1896" y="738"/>
                    </a:lnTo>
                    <a:lnTo>
                      <a:pt x="1890" y="733"/>
                    </a:lnTo>
                    <a:lnTo>
                      <a:pt x="1888" y="732"/>
                    </a:lnTo>
                    <a:lnTo>
                      <a:pt x="1884" y="731"/>
                    </a:lnTo>
                    <a:lnTo>
                      <a:pt x="1881" y="730"/>
                    </a:lnTo>
                    <a:lnTo>
                      <a:pt x="1878" y="730"/>
                    </a:lnTo>
                    <a:lnTo>
                      <a:pt x="1875" y="730"/>
                    </a:lnTo>
                    <a:lnTo>
                      <a:pt x="1871" y="730"/>
                    </a:lnTo>
                    <a:lnTo>
                      <a:pt x="1869" y="731"/>
                    </a:lnTo>
                    <a:lnTo>
                      <a:pt x="1866" y="733"/>
                    </a:lnTo>
                    <a:lnTo>
                      <a:pt x="1858" y="746"/>
                    </a:lnTo>
                    <a:lnTo>
                      <a:pt x="1850" y="760"/>
                    </a:lnTo>
                    <a:lnTo>
                      <a:pt x="1844" y="774"/>
                    </a:lnTo>
                    <a:lnTo>
                      <a:pt x="1836" y="787"/>
                    </a:lnTo>
                    <a:lnTo>
                      <a:pt x="1830" y="802"/>
                    </a:lnTo>
                    <a:lnTo>
                      <a:pt x="1823" y="816"/>
                    </a:lnTo>
                    <a:lnTo>
                      <a:pt x="1816" y="830"/>
                    </a:lnTo>
                    <a:lnTo>
                      <a:pt x="1809" y="844"/>
                    </a:lnTo>
                    <a:lnTo>
                      <a:pt x="1800" y="857"/>
                    </a:lnTo>
                    <a:lnTo>
                      <a:pt x="1792" y="871"/>
                    </a:lnTo>
                    <a:lnTo>
                      <a:pt x="1784" y="884"/>
                    </a:lnTo>
                    <a:lnTo>
                      <a:pt x="1775" y="898"/>
                    </a:lnTo>
                    <a:lnTo>
                      <a:pt x="1766" y="911"/>
                    </a:lnTo>
                    <a:lnTo>
                      <a:pt x="1757" y="924"/>
                    </a:lnTo>
                    <a:lnTo>
                      <a:pt x="1748" y="936"/>
                    </a:lnTo>
                    <a:lnTo>
                      <a:pt x="1737" y="949"/>
                    </a:lnTo>
                    <a:lnTo>
                      <a:pt x="1727" y="960"/>
                    </a:lnTo>
                    <a:lnTo>
                      <a:pt x="1718" y="971"/>
                    </a:lnTo>
                    <a:lnTo>
                      <a:pt x="1707" y="982"/>
                    </a:lnTo>
                    <a:lnTo>
                      <a:pt x="1696" y="991"/>
                    </a:lnTo>
                    <a:lnTo>
                      <a:pt x="1685" y="1002"/>
                    </a:lnTo>
                    <a:lnTo>
                      <a:pt x="1673" y="1012"/>
                    </a:lnTo>
                    <a:lnTo>
                      <a:pt x="1662" y="1021"/>
                    </a:lnTo>
                    <a:lnTo>
                      <a:pt x="1650" y="1031"/>
                    </a:lnTo>
                    <a:lnTo>
                      <a:pt x="1642" y="1037"/>
                    </a:lnTo>
                    <a:lnTo>
                      <a:pt x="1634" y="1043"/>
                    </a:lnTo>
                    <a:lnTo>
                      <a:pt x="1625" y="1049"/>
                    </a:lnTo>
                    <a:lnTo>
                      <a:pt x="1617" y="1055"/>
                    </a:lnTo>
                    <a:lnTo>
                      <a:pt x="1607" y="1060"/>
                    </a:lnTo>
                    <a:lnTo>
                      <a:pt x="1598" y="1064"/>
                    </a:lnTo>
                    <a:lnTo>
                      <a:pt x="1588" y="1069"/>
                    </a:lnTo>
                    <a:lnTo>
                      <a:pt x="1578" y="1074"/>
                    </a:lnTo>
                    <a:lnTo>
                      <a:pt x="1570" y="1076"/>
                    </a:lnTo>
                    <a:lnTo>
                      <a:pt x="1562" y="1079"/>
                    </a:lnTo>
                    <a:lnTo>
                      <a:pt x="1552" y="1080"/>
                    </a:lnTo>
                    <a:lnTo>
                      <a:pt x="1544" y="1081"/>
                    </a:lnTo>
                    <a:lnTo>
                      <a:pt x="1534" y="1082"/>
                    </a:lnTo>
                    <a:lnTo>
                      <a:pt x="1524" y="1084"/>
                    </a:lnTo>
                    <a:lnTo>
                      <a:pt x="1516" y="1086"/>
                    </a:lnTo>
                    <a:lnTo>
                      <a:pt x="1506" y="1088"/>
                    </a:lnTo>
                    <a:lnTo>
                      <a:pt x="1500" y="1090"/>
                    </a:lnTo>
                    <a:lnTo>
                      <a:pt x="1494" y="1091"/>
                    </a:lnTo>
                    <a:lnTo>
                      <a:pt x="1488" y="1092"/>
                    </a:lnTo>
                    <a:lnTo>
                      <a:pt x="1482" y="1094"/>
                    </a:lnTo>
                    <a:lnTo>
                      <a:pt x="1476" y="1096"/>
                    </a:lnTo>
                    <a:lnTo>
                      <a:pt x="1472" y="1099"/>
                    </a:lnTo>
                    <a:lnTo>
                      <a:pt x="1467" y="1103"/>
                    </a:lnTo>
                    <a:lnTo>
                      <a:pt x="1463" y="1106"/>
                    </a:lnTo>
                    <a:lnTo>
                      <a:pt x="1462" y="1111"/>
                    </a:lnTo>
                    <a:lnTo>
                      <a:pt x="1462" y="1116"/>
                    </a:lnTo>
                    <a:lnTo>
                      <a:pt x="1463" y="1120"/>
                    </a:lnTo>
                    <a:lnTo>
                      <a:pt x="1466" y="1124"/>
                    </a:lnTo>
                    <a:lnTo>
                      <a:pt x="1468" y="1129"/>
                    </a:lnTo>
                    <a:lnTo>
                      <a:pt x="1472" y="1133"/>
                    </a:lnTo>
                    <a:lnTo>
                      <a:pt x="1475" y="1138"/>
                    </a:lnTo>
                    <a:lnTo>
                      <a:pt x="1478" y="1140"/>
                    </a:lnTo>
                    <a:lnTo>
                      <a:pt x="1486" y="1147"/>
                    </a:lnTo>
                    <a:lnTo>
                      <a:pt x="1494" y="1153"/>
                    </a:lnTo>
                    <a:lnTo>
                      <a:pt x="1503" y="1159"/>
                    </a:lnTo>
                    <a:lnTo>
                      <a:pt x="1512" y="1164"/>
                    </a:lnTo>
                    <a:lnTo>
                      <a:pt x="1522" y="1169"/>
                    </a:lnTo>
                    <a:lnTo>
                      <a:pt x="1530" y="1175"/>
                    </a:lnTo>
                    <a:lnTo>
                      <a:pt x="1538" y="1181"/>
                    </a:lnTo>
                    <a:lnTo>
                      <a:pt x="1545" y="1188"/>
                    </a:lnTo>
                    <a:lnTo>
                      <a:pt x="1552" y="1197"/>
                    </a:lnTo>
                    <a:lnTo>
                      <a:pt x="1558" y="1208"/>
                    </a:lnTo>
                    <a:lnTo>
                      <a:pt x="1564" y="1219"/>
                    </a:lnTo>
                    <a:lnTo>
                      <a:pt x="1569" y="1230"/>
                    </a:lnTo>
                    <a:lnTo>
                      <a:pt x="1574" y="1241"/>
                    </a:lnTo>
                    <a:lnTo>
                      <a:pt x="1578" y="1253"/>
                    </a:lnTo>
                    <a:lnTo>
                      <a:pt x="1583" y="1263"/>
                    </a:lnTo>
                    <a:lnTo>
                      <a:pt x="1588" y="1274"/>
                    </a:lnTo>
                    <a:lnTo>
                      <a:pt x="1595" y="1290"/>
                    </a:lnTo>
                    <a:lnTo>
                      <a:pt x="1601" y="1305"/>
                    </a:lnTo>
                    <a:lnTo>
                      <a:pt x="1607" y="1321"/>
                    </a:lnTo>
                    <a:lnTo>
                      <a:pt x="1613" y="1338"/>
                    </a:lnTo>
                    <a:lnTo>
                      <a:pt x="1619" y="1352"/>
                    </a:lnTo>
                    <a:lnTo>
                      <a:pt x="1626" y="1368"/>
                    </a:lnTo>
                    <a:lnTo>
                      <a:pt x="1636" y="1381"/>
                    </a:lnTo>
                    <a:lnTo>
                      <a:pt x="1646" y="1394"/>
                    </a:lnTo>
                    <a:lnTo>
                      <a:pt x="1659" y="1406"/>
                    </a:lnTo>
                    <a:lnTo>
                      <a:pt x="1673" y="1417"/>
                    </a:lnTo>
                    <a:lnTo>
                      <a:pt x="1689" y="1427"/>
                    </a:lnTo>
                    <a:lnTo>
                      <a:pt x="1704" y="1435"/>
                    </a:lnTo>
                    <a:lnTo>
                      <a:pt x="1721" y="1443"/>
                    </a:lnTo>
                    <a:lnTo>
                      <a:pt x="1738" y="1451"/>
                    </a:lnTo>
                    <a:lnTo>
                      <a:pt x="1755" y="1458"/>
                    </a:lnTo>
                    <a:lnTo>
                      <a:pt x="1770" y="1466"/>
                    </a:lnTo>
                    <a:lnTo>
                      <a:pt x="1782" y="1471"/>
                    </a:lnTo>
                    <a:lnTo>
                      <a:pt x="1794" y="1476"/>
                    </a:lnTo>
                    <a:lnTo>
                      <a:pt x="1806" y="1481"/>
                    </a:lnTo>
                    <a:lnTo>
                      <a:pt x="1818" y="1484"/>
                    </a:lnTo>
                    <a:lnTo>
                      <a:pt x="1832" y="1489"/>
                    </a:lnTo>
                    <a:lnTo>
                      <a:pt x="1844" y="1494"/>
                    </a:lnTo>
                    <a:lnTo>
                      <a:pt x="1856" y="1499"/>
                    </a:lnTo>
                    <a:lnTo>
                      <a:pt x="1866" y="1505"/>
                    </a:lnTo>
                    <a:lnTo>
                      <a:pt x="1872" y="1508"/>
                    </a:lnTo>
                    <a:lnTo>
                      <a:pt x="1877" y="1512"/>
                    </a:lnTo>
                    <a:lnTo>
                      <a:pt x="1882" y="1517"/>
                    </a:lnTo>
                    <a:lnTo>
                      <a:pt x="1887" y="1520"/>
                    </a:lnTo>
                    <a:lnTo>
                      <a:pt x="1892" y="1526"/>
                    </a:lnTo>
                    <a:lnTo>
                      <a:pt x="1895" y="1531"/>
                    </a:lnTo>
                    <a:lnTo>
                      <a:pt x="1898" y="1537"/>
                    </a:lnTo>
                    <a:lnTo>
                      <a:pt x="1900" y="1543"/>
                    </a:lnTo>
                    <a:lnTo>
                      <a:pt x="1901" y="1550"/>
                    </a:lnTo>
                    <a:lnTo>
                      <a:pt x="1904" y="1559"/>
                    </a:lnTo>
                    <a:lnTo>
                      <a:pt x="1904" y="1567"/>
                    </a:lnTo>
                    <a:lnTo>
                      <a:pt x="1904" y="1575"/>
                    </a:lnTo>
                    <a:lnTo>
                      <a:pt x="1902" y="1584"/>
                    </a:lnTo>
                    <a:lnTo>
                      <a:pt x="1900" y="1591"/>
                    </a:lnTo>
                    <a:lnTo>
                      <a:pt x="1899" y="1593"/>
                    </a:lnTo>
                    <a:lnTo>
                      <a:pt x="1896" y="1597"/>
                    </a:lnTo>
                    <a:lnTo>
                      <a:pt x="1894" y="1598"/>
                    </a:lnTo>
                    <a:lnTo>
                      <a:pt x="1890" y="1601"/>
                    </a:lnTo>
                    <a:lnTo>
                      <a:pt x="1878" y="1603"/>
                    </a:lnTo>
                    <a:lnTo>
                      <a:pt x="1866" y="1604"/>
                    </a:lnTo>
                    <a:lnTo>
                      <a:pt x="1853" y="1603"/>
                    </a:lnTo>
                    <a:lnTo>
                      <a:pt x="1840" y="1601"/>
                    </a:lnTo>
                    <a:lnTo>
                      <a:pt x="1828" y="1598"/>
                    </a:lnTo>
                    <a:lnTo>
                      <a:pt x="1815" y="1593"/>
                    </a:lnTo>
                    <a:lnTo>
                      <a:pt x="1802" y="1590"/>
                    </a:lnTo>
                    <a:lnTo>
                      <a:pt x="1790" y="1586"/>
                    </a:lnTo>
                    <a:lnTo>
                      <a:pt x="1776" y="1581"/>
                    </a:lnTo>
                    <a:lnTo>
                      <a:pt x="1763" y="1577"/>
                    </a:lnTo>
                    <a:lnTo>
                      <a:pt x="1750" y="1572"/>
                    </a:lnTo>
                    <a:lnTo>
                      <a:pt x="1737" y="1566"/>
                    </a:lnTo>
                    <a:lnTo>
                      <a:pt x="1724" y="1561"/>
                    </a:lnTo>
                    <a:lnTo>
                      <a:pt x="1710" y="1555"/>
                    </a:lnTo>
                    <a:lnTo>
                      <a:pt x="1697" y="1549"/>
                    </a:lnTo>
                    <a:lnTo>
                      <a:pt x="1684" y="1543"/>
                    </a:lnTo>
                    <a:lnTo>
                      <a:pt x="1668" y="1536"/>
                    </a:lnTo>
                    <a:lnTo>
                      <a:pt x="1653" y="1530"/>
                    </a:lnTo>
                    <a:lnTo>
                      <a:pt x="1636" y="1524"/>
                    </a:lnTo>
                    <a:lnTo>
                      <a:pt x="1620" y="1518"/>
                    </a:lnTo>
                    <a:lnTo>
                      <a:pt x="1605" y="1511"/>
                    </a:lnTo>
                    <a:lnTo>
                      <a:pt x="1589" y="1503"/>
                    </a:lnTo>
                    <a:lnTo>
                      <a:pt x="1574" y="1495"/>
                    </a:lnTo>
                    <a:lnTo>
                      <a:pt x="1559" y="1485"/>
                    </a:lnTo>
                    <a:lnTo>
                      <a:pt x="1550" y="1477"/>
                    </a:lnTo>
                    <a:lnTo>
                      <a:pt x="1539" y="1469"/>
                    </a:lnTo>
                    <a:lnTo>
                      <a:pt x="1530" y="1459"/>
                    </a:lnTo>
                    <a:lnTo>
                      <a:pt x="1521" y="1448"/>
                    </a:lnTo>
                    <a:lnTo>
                      <a:pt x="1514" y="1437"/>
                    </a:lnTo>
                    <a:lnTo>
                      <a:pt x="1505" y="1427"/>
                    </a:lnTo>
                    <a:lnTo>
                      <a:pt x="1499" y="1416"/>
                    </a:lnTo>
                    <a:lnTo>
                      <a:pt x="1492" y="1404"/>
                    </a:lnTo>
                    <a:lnTo>
                      <a:pt x="1490" y="1395"/>
                    </a:lnTo>
                    <a:lnTo>
                      <a:pt x="1487" y="1387"/>
                    </a:lnTo>
                    <a:lnTo>
                      <a:pt x="1487" y="1377"/>
                    </a:lnTo>
                    <a:lnTo>
                      <a:pt x="1486" y="1368"/>
                    </a:lnTo>
                    <a:lnTo>
                      <a:pt x="1486" y="1359"/>
                    </a:lnTo>
                    <a:lnTo>
                      <a:pt x="1486" y="1350"/>
                    </a:lnTo>
                    <a:lnTo>
                      <a:pt x="1485" y="1340"/>
                    </a:lnTo>
                    <a:lnTo>
                      <a:pt x="1482" y="1332"/>
                    </a:lnTo>
                    <a:lnTo>
                      <a:pt x="1480" y="1325"/>
                    </a:lnTo>
                    <a:lnTo>
                      <a:pt x="1478" y="1316"/>
                    </a:lnTo>
                    <a:lnTo>
                      <a:pt x="1474" y="1308"/>
                    </a:lnTo>
                    <a:lnTo>
                      <a:pt x="1470" y="1301"/>
                    </a:lnTo>
                    <a:lnTo>
                      <a:pt x="1466" y="1293"/>
                    </a:lnTo>
                    <a:lnTo>
                      <a:pt x="1461" y="1286"/>
                    </a:lnTo>
                    <a:lnTo>
                      <a:pt x="1456" y="1280"/>
                    </a:lnTo>
                    <a:lnTo>
                      <a:pt x="1449" y="1274"/>
                    </a:lnTo>
                    <a:lnTo>
                      <a:pt x="1445" y="1272"/>
                    </a:lnTo>
                    <a:lnTo>
                      <a:pt x="1440" y="1269"/>
                    </a:lnTo>
                    <a:lnTo>
                      <a:pt x="1436" y="1268"/>
                    </a:lnTo>
                    <a:lnTo>
                      <a:pt x="1430" y="1268"/>
                    </a:lnTo>
                    <a:lnTo>
                      <a:pt x="1425" y="1268"/>
                    </a:lnTo>
                    <a:lnTo>
                      <a:pt x="1419" y="1269"/>
                    </a:lnTo>
                    <a:lnTo>
                      <a:pt x="1415" y="1272"/>
                    </a:lnTo>
                    <a:lnTo>
                      <a:pt x="1410" y="1274"/>
                    </a:lnTo>
                    <a:lnTo>
                      <a:pt x="1406" y="1280"/>
                    </a:lnTo>
                    <a:lnTo>
                      <a:pt x="1402" y="1286"/>
                    </a:lnTo>
                    <a:lnTo>
                      <a:pt x="1400" y="1293"/>
                    </a:lnTo>
                    <a:lnTo>
                      <a:pt x="1397" y="1301"/>
                    </a:lnTo>
                    <a:lnTo>
                      <a:pt x="1395" y="1309"/>
                    </a:lnTo>
                    <a:lnTo>
                      <a:pt x="1394" y="1316"/>
                    </a:lnTo>
                    <a:lnTo>
                      <a:pt x="1392" y="1325"/>
                    </a:lnTo>
                    <a:lnTo>
                      <a:pt x="1392" y="1332"/>
                    </a:lnTo>
                    <a:lnTo>
                      <a:pt x="1390" y="1349"/>
                    </a:lnTo>
                    <a:lnTo>
                      <a:pt x="1390" y="1364"/>
                    </a:lnTo>
                    <a:lnTo>
                      <a:pt x="1390" y="1380"/>
                    </a:lnTo>
                    <a:lnTo>
                      <a:pt x="1390" y="1397"/>
                    </a:lnTo>
                    <a:lnTo>
                      <a:pt x="1390" y="1412"/>
                    </a:lnTo>
                    <a:lnTo>
                      <a:pt x="1391" y="1429"/>
                    </a:lnTo>
                    <a:lnTo>
                      <a:pt x="1391" y="1445"/>
                    </a:lnTo>
                    <a:lnTo>
                      <a:pt x="1392" y="1461"/>
                    </a:lnTo>
                    <a:lnTo>
                      <a:pt x="1392" y="1473"/>
                    </a:lnTo>
                    <a:lnTo>
                      <a:pt x="1394" y="1487"/>
                    </a:lnTo>
                    <a:lnTo>
                      <a:pt x="1395" y="1499"/>
                    </a:lnTo>
                    <a:lnTo>
                      <a:pt x="1396" y="1512"/>
                    </a:lnTo>
                    <a:lnTo>
                      <a:pt x="1397" y="1524"/>
                    </a:lnTo>
                    <a:lnTo>
                      <a:pt x="1398" y="1537"/>
                    </a:lnTo>
                    <a:lnTo>
                      <a:pt x="1397" y="1549"/>
                    </a:lnTo>
                    <a:lnTo>
                      <a:pt x="1396" y="1562"/>
                    </a:lnTo>
                    <a:lnTo>
                      <a:pt x="1395" y="1572"/>
                    </a:lnTo>
                    <a:lnTo>
                      <a:pt x="1392" y="1580"/>
                    </a:lnTo>
                    <a:lnTo>
                      <a:pt x="1389" y="1590"/>
                    </a:lnTo>
                    <a:lnTo>
                      <a:pt x="1384" y="1598"/>
                    </a:lnTo>
                    <a:lnTo>
                      <a:pt x="1380" y="1608"/>
                    </a:lnTo>
                    <a:lnTo>
                      <a:pt x="1376" y="1616"/>
                    </a:lnTo>
                    <a:lnTo>
                      <a:pt x="1372" y="1625"/>
                    </a:lnTo>
                    <a:lnTo>
                      <a:pt x="1368" y="1634"/>
                    </a:lnTo>
                    <a:lnTo>
                      <a:pt x="1364" y="1645"/>
                    </a:lnTo>
                    <a:lnTo>
                      <a:pt x="1360" y="1656"/>
                    </a:lnTo>
                    <a:lnTo>
                      <a:pt x="1356" y="1667"/>
                    </a:lnTo>
                    <a:lnTo>
                      <a:pt x="1353" y="1679"/>
                    </a:lnTo>
                    <a:lnTo>
                      <a:pt x="1349" y="1689"/>
                    </a:lnTo>
                    <a:lnTo>
                      <a:pt x="1346" y="1700"/>
                    </a:lnTo>
                    <a:lnTo>
                      <a:pt x="1341" y="1710"/>
                    </a:lnTo>
                    <a:lnTo>
                      <a:pt x="1335" y="1721"/>
                    </a:lnTo>
                    <a:lnTo>
                      <a:pt x="1328" y="1728"/>
                    </a:lnTo>
                    <a:lnTo>
                      <a:pt x="1322" y="1736"/>
                    </a:lnTo>
                    <a:lnTo>
                      <a:pt x="1314" y="1743"/>
                    </a:lnTo>
                    <a:lnTo>
                      <a:pt x="1306" y="1749"/>
                    </a:lnTo>
                    <a:lnTo>
                      <a:pt x="1298" y="1755"/>
                    </a:lnTo>
                    <a:lnTo>
                      <a:pt x="1289" y="1761"/>
                    </a:lnTo>
                    <a:lnTo>
                      <a:pt x="1281" y="1767"/>
                    </a:lnTo>
                    <a:lnTo>
                      <a:pt x="1272" y="1772"/>
                    </a:lnTo>
                    <a:lnTo>
                      <a:pt x="1266" y="1776"/>
                    </a:lnTo>
                    <a:lnTo>
                      <a:pt x="1260" y="1779"/>
                    </a:lnTo>
                    <a:lnTo>
                      <a:pt x="1254" y="1783"/>
                    </a:lnTo>
                    <a:lnTo>
                      <a:pt x="1248" y="1787"/>
                    </a:lnTo>
                    <a:lnTo>
                      <a:pt x="1241" y="1789"/>
                    </a:lnTo>
                    <a:lnTo>
                      <a:pt x="1235" y="1790"/>
                    </a:lnTo>
                    <a:lnTo>
                      <a:pt x="1229" y="1789"/>
                    </a:lnTo>
                    <a:lnTo>
                      <a:pt x="1224" y="1787"/>
                    </a:lnTo>
                    <a:lnTo>
                      <a:pt x="1217" y="1782"/>
                    </a:lnTo>
                    <a:lnTo>
                      <a:pt x="1212" y="1776"/>
                    </a:lnTo>
                    <a:lnTo>
                      <a:pt x="1209" y="1767"/>
                    </a:lnTo>
                    <a:lnTo>
                      <a:pt x="1205" y="1760"/>
                    </a:lnTo>
                    <a:lnTo>
                      <a:pt x="1203" y="1751"/>
                    </a:lnTo>
                    <a:lnTo>
                      <a:pt x="1202" y="1742"/>
                    </a:lnTo>
                    <a:lnTo>
                      <a:pt x="1200" y="1734"/>
                    </a:lnTo>
                    <a:lnTo>
                      <a:pt x="1200" y="1725"/>
                    </a:lnTo>
                    <a:lnTo>
                      <a:pt x="1200" y="1712"/>
                    </a:lnTo>
                    <a:lnTo>
                      <a:pt x="1202" y="1700"/>
                    </a:lnTo>
                    <a:lnTo>
                      <a:pt x="1205" y="1688"/>
                    </a:lnTo>
                    <a:lnTo>
                      <a:pt x="1208" y="1676"/>
                    </a:lnTo>
                    <a:lnTo>
                      <a:pt x="1211" y="1664"/>
                    </a:lnTo>
                    <a:lnTo>
                      <a:pt x="1216" y="1652"/>
                    </a:lnTo>
                    <a:lnTo>
                      <a:pt x="1220" y="1640"/>
                    </a:lnTo>
                    <a:lnTo>
                      <a:pt x="1224" y="1629"/>
                    </a:lnTo>
                    <a:lnTo>
                      <a:pt x="1228" y="1619"/>
                    </a:lnTo>
                    <a:lnTo>
                      <a:pt x="1233" y="1609"/>
                    </a:lnTo>
                    <a:lnTo>
                      <a:pt x="1239" y="1601"/>
                    </a:lnTo>
                    <a:lnTo>
                      <a:pt x="1245" y="1591"/>
                    </a:lnTo>
                    <a:lnTo>
                      <a:pt x="1250" y="1581"/>
                    </a:lnTo>
                    <a:lnTo>
                      <a:pt x="1254" y="1572"/>
                    </a:lnTo>
                    <a:lnTo>
                      <a:pt x="1259" y="1562"/>
                    </a:lnTo>
                    <a:lnTo>
                      <a:pt x="1263" y="1553"/>
                    </a:lnTo>
                    <a:lnTo>
                      <a:pt x="1266" y="1536"/>
                    </a:lnTo>
                    <a:lnTo>
                      <a:pt x="1270" y="1518"/>
                    </a:lnTo>
                    <a:lnTo>
                      <a:pt x="1272" y="1501"/>
                    </a:lnTo>
                    <a:lnTo>
                      <a:pt x="1275" y="1483"/>
                    </a:lnTo>
                    <a:lnTo>
                      <a:pt x="1276" y="1466"/>
                    </a:lnTo>
                    <a:lnTo>
                      <a:pt x="1277" y="1448"/>
                    </a:lnTo>
                    <a:lnTo>
                      <a:pt x="1277" y="1431"/>
                    </a:lnTo>
                    <a:lnTo>
                      <a:pt x="1277" y="1413"/>
                    </a:lnTo>
                    <a:lnTo>
                      <a:pt x="1276" y="1403"/>
                    </a:lnTo>
                    <a:lnTo>
                      <a:pt x="1275" y="1391"/>
                    </a:lnTo>
                    <a:lnTo>
                      <a:pt x="1272" y="1380"/>
                    </a:lnTo>
                    <a:lnTo>
                      <a:pt x="1270" y="1369"/>
                    </a:lnTo>
                    <a:lnTo>
                      <a:pt x="1266" y="1358"/>
                    </a:lnTo>
                    <a:lnTo>
                      <a:pt x="1263" y="1347"/>
                    </a:lnTo>
                    <a:lnTo>
                      <a:pt x="1258" y="1337"/>
                    </a:lnTo>
                    <a:lnTo>
                      <a:pt x="1253" y="1327"/>
                    </a:lnTo>
                    <a:lnTo>
                      <a:pt x="1250" y="1321"/>
                    </a:lnTo>
                    <a:lnTo>
                      <a:pt x="1245" y="1315"/>
                    </a:lnTo>
                    <a:lnTo>
                      <a:pt x="1240" y="1310"/>
                    </a:lnTo>
                    <a:lnTo>
                      <a:pt x="1235" y="1305"/>
                    </a:lnTo>
                    <a:lnTo>
                      <a:pt x="1229" y="1301"/>
                    </a:lnTo>
                    <a:lnTo>
                      <a:pt x="1223" y="1297"/>
                    </a:lnTo>
                    <a:lnTo>
                      <a:pt x="1216" y="1295"/>
                    </a:lnTo>
                    <a:lnTo>
                      <a:pt x="1210" y="1293"/>
                    </a:lnTo>
                    <a:lnTo>
                      <a:pt x="1202" y="1293"/>
                    </a:lnTo>
                    <a:lnTo>
                      <a:pt x="1194" y="1295"/>
                    </a:lnTo>
                    <a:lnTo>
                      <a:pt x="1186" y="1296"/>
                    </a:lnTo>
                    <a:lnTo>
                      <a:pt x="1179" y="1299"/>
                    </a:lnTo>
                    <a:lnTo>
                      <a:pt x="1170" y="1303"/>
                    </a:lnTo>
                    <a:lnTo>
                      <a:pt x="1164" y="1307"/>
                    </a:lnTo>
                    <a:lnTo>
                      <a:pt x="1157" y="1313"/>
                    </a:lnTo>
                    <a:lnTo>
                      <a:pt x="1152" y="1317"/>
                    </a:lnTo>
                    <a:lnTo>
                      <a:pt x="1144" y="1327"/>
                    </a:lnTo>
                    <a:lnTo>
                      <a:pt x="1138" y="1337"/>
                    </a:lnTo>
                    <a:lnTo>
                      <a:pt x="1133" y="1347"/>
                    </a:lnTo>
                    <a:lnTo>
                      <a:pt x="1128" y="1359"/>
                    </a:lnTo>
                    <a:lnTo>
                      <a:pt x="1124" y="1370"/>
                    </a:lnTo>
                    <a:lnTo>
                      <a:pt x="1119" y="1382"/>
                    </a:lnTo>
                    <a:lnTo>
                      <a:pt x="1114" y="1393"/>
                    </a:lnTo>
                    <a:lnTo>
                      <a:pt x="1109" y="1404"/>
                    </a:lnTo>
                    <a:lnTo>
                      <a:pt x="1100" y="1422"/>
                    </a:lnTo>
                    <a:lnTo>
                      <a:pt x="1091" y="1439"/>
                    </a:lnTo>
                    <a:lnTo>
                      <a:pt x="1083" y="1457"/>
                    </a:lnTo>
                    <a:lnTo>
                      <a:pt x="1074" y="1475"/>
                    </a:lnTo>
                    <a:lnTo>
                      <a:pt x="1066" y="1491"/>
                    </a:lnTo>
                    <a:lnTo>
                      <a:pt x="1056" y="1509"/>
                    </a:lnTo>
                    <a:lnTo>
                      <a:pt x="1047" y="1526"/>
                    </a:lnTo>
                    <a:lnTo>
                      <a:pt x="1037" y="1543"/>
                    </a:lnTo>
                    <a:lnTo>
                      <a:pt x="1028" y="1559"/>
                    </a:lnTo>
                    <a:lnTo>
                      <a:pt x="1018" y="1573"/>
                    </a:lnTo>
                    <a:lnTo>
                      <a:pt x="1007" y="1589"/>
                    </a:lnTo>
                    <a:lnTo>
                      <a:pt x="998" y="1603"/>
                    </a:lnTo>
                    <a:lnTo>
                      <a:pt x="987" y="1617"/>
                    </a:lnTo>
                    <a:lnTo>
                      <a:pt x="975" y="1632"/>
                    </a:lnTo>
                    <a:lnTo>
                      <a:pt x="963" y="1645"/>
                    </a:lnTo>
                    <a:lnTo>
                      <a:pt x="951" y="1658"/>
                    </a:lnTo>
                    <a:lnTo>
                      <a:pt x="938" y="1670"/>
                    </a:lnTo>
                    <a:lnTo>
                      <a:pt x="923" y="1681"/>
                    </a:lnTo>
                    <a:lnTo>
                      <a:pt x="909" y="1693"/>
                    </a:lnTo>
                    <a:lnTo>
                      <a:pt x="894" y="1703"/>
                    </a:lnTo>
                    <a:lnTo>
                      <a:pt x="879" y="1713"/>
                    </a:lnTo>
                    <a:lnTo>
                      <a:pt x="863" y="1722"/>
                    </a:lnTo>
                    <a:lnTo>
                      <a:pt x="846" y="1731"/>
                    </a:lnTo>
                    <a:lnTo>
                      <a:pt x="831" y="1739"/>
                    </a:lnTo>
                    <a:lnTo>
                      <a:pt x="819" y="1745"/>
                    </a:lnTo>
                    <a:lnTo>
                      <a:pt x="806" y="1749"/>
                    </a:lnTo>
                    <a:lnTo>
                      <a:pt x="792" y="1754"/>
                    </a:lnTo>
                    <a:lnTo>
                      <a:pt x="779" y="1758"/>
                    </a:lnTo>
                    <a:lnTo>
                      <a:pt x="766" y="1761"/>
                    </a:lnTo>
                    <a:lnTo>
                      <a:pt x="753" y="1764"/>
                    </a:lnTo>
                    <a:lnTo>
                      <a:pt x="738" y="1766"/>
                    </a:lnTo>
                    <a:lnTo>
                      <a:pt x="725" y="1767"/>
                    </a:lnTo>
                    <a:lnTo>
                      <a:pt x="720" y="1769"/>
                    </a:lnTo>
                    <a:lnTo>
                      <a:pt x="714" y="1769"/>
                    </a:lnTo>
                    <a:lnTo>
                      <a:pt x="710" y="1769"/>
                    </a:lnTo>
                    <a:lnTo>
                      <a:pt x="704" y="1767"/>
                    </a:lnTo>
                    <a:lnTo>
                      <a:pt x="699" y="1766"/>
                    </a:lnTo>
                    <a:lnTo>
                      <a:pt x="694" y="1765"/>
                    </a:lnTo>
                    <a:lnTo>
                      <a:pt x="690" y="1761"/>
                    </a:lnTo>
                    <a:lnTo>
                      <a:pt x="687" y="1758"/>
                    </a:lnTo>
                    <a:lnTo>
                      <a:pt x="684" y="1754"/>
                    </a:lnTo>
                    <a:lnTo>
                      <a:pt x="683" y="1749"/>
                    </a:lnTo>
                    <a:lnTo>
                      <a:pt x="683" y="1745"/>
                    </a:lnTo>
                    <a:lnTo>
                      <a:pt x="683" y="1739"/>
                    </a:lnTo>
                    <a:lnTo>
                      <a:pt x="684" y="1734"/>
                    </a:lnTo>
                    <a:lnTo>
                      <a:pt x="687" y="1729"/>
                    </a:lnTo>
                    <a:lnTo>
                      <a:pt x="689" y="1724"/>
                    </a:lnTo>
                    <a:lnTo>
                      <a:pt x="692" y="1721"/>
                    </a:lnTo>
                    <a:lnTo>
                      <a:pt x="701" y="1709"/>
                    </a:lnTo>
                    <a:lnTo>
                      <a:pt x="712" y="1699"/>
                    </a:lnTo>
                    <a:lnTo>
                      <a:pt x="724" y="1689"/>
                    </a:lnTo>
                    <a:lnTo>
                      <a:pt x="736" y="1680"/>
                    </a:lnTo>
                    <a:lnTo>
                      <a:pt x="748" y="1671"/>
                    </a:lnTo>
                    <a:lnTo>
                      <a:pt x="760" y="1662"/>
                    </a:lnTo>
                    <a:lnTo>
                      <a:pt x="772" y="1653"/>
                    </a:lnTo>
                    <a:lnTo>
                      <a:pt x="783" y="1644"/>
                    </a:lnTo>
                    <a:lnTo>
                      <a:pt x="796" y="1632"/>
                    </a:lnTo>
                    <a:lnTo>
                      <a:pt x="809" y="1621"/>
                    </a:lnTo>
                    <a:lnTo>
                      <a:pt x="822" y="1609"/>
                    </a:lnTo>
                    <a:lnTo>
                      <a:pt x="836" y="1598"/>
                    </a:lnTo>
                    <a:lnTo>
                      <a:pt x="849" y="1586"/>
                    </a:lnTo>
                    <a:lnTo>
                      <a:pt x="861" y="1574"/>
                    </a:lnTo>
                    <a:lnTo>
                      <a:pt x="873" y="1561"/>
                    </a:lnTo>
                    <a:lnTo>
                      <a:pt x="884" y="1548"/>
                    </a:lnTo>
                    <a:lnTo>
                      <a:pt x="893" y="1533"/>
                    </a:lnTo>
                    <a:lnTo>
                      <a:pt x="903" y="1518"/>
                    </a:lnTo>
                    <a:lnTo>
                      <a:pt x="911" y="1502"/>
                    </a:lnTo>
                    <a:lnTo>
                      <a:pt x="920" y="1485"/>
                    </a:lnTo>
                    <a:lnTo>
                      <a:pt x="927" y="1470"/>
                    </a:lnTo>
                    <a:lnTo>
                      <a:pt x="933" y="1453"/>
                    </a:lnTo>
                    <a:lnTo>
                      <a:pt x="938" y="1435"/>
                    </a:lnTo>
                    <a:lnTo>
                      <a:pt x="941" y="1418"/>
                    </a:lnTo>
                    <a:lnTo>
                      <a:pt x="941" y="1410"/>
                    </a:lnTo>
                    <a:lnTo>
                      <a:pt x="941" y="1403"/>
                    </a:lnTo>
                    <a:lnTo>
                      <a:pt x="940" y="1394"/>
                    </a:lnTo>
                    <a:lnTo>
                      <a:pt x="936" y="1386"/>
                    </a:lnTo>
                    <a:lnTo>
                      <a:pt x="933" y="1379"/>
                    </a:lnTo>
                    <a:lnTo>
                      <a:pt x="928" y="1371"/>
                    </a:lnTo>
                    <a:lnTo>
                      <a:pt x="923" y="1365"/>
                    </a:lnTo>
                    <a:lnTo>
                      <a:pt x="917" y="1361"/>
                    </a:lnTo>
                    <a:lnTo>
                      <a:pt x="912" y="1358"/>
                    </a:lnTo>
                    <a:lnTo>
                      <a:pt x="906" y="1357"/>
                    </a:lnTo>
                    <a:lnTo>
                      <a:pt x="902" y="1358"/>
                    </a:lnTo>
                    <a:lnTo>
                      <a:pt x="896" y="1359"/>
                    </a:lnTo>
                    <a:lnTo>
                      <a:pt x="890" y="1361"/>
                    </a:lnTo>
                    <a:lnTo>
                      <a:pt x="884" y="1364"/>
                    </a:lnTo>
                    <a:lnTo>
                      <a:pt x="879" y="1367"/>
                    </a:lnTo>
                    <a:lnTo>
                      <a:pt x="874" y="1370"/>
                    </a:lnTo>
                    <a:lnTo>
                      <a:pt x="869" y="1375"/>
                    </a:lnTo>
                    <a:lnTo>
                      <a:pt x="866" y="1380"/>
                    </a:lnTo>
                    <a:lnTo>
                      <a:pt x="862" y="1386"/>
                    </a:lnTo>
                    <a:lnTo>
                      <a:pt x="860" y="1392"/>
                    </a:lnTo>
                    <a:lnTo>
                      <a:pt x="857" y="1398"/>
                    </a:lnTo>
                    <a:lnTo>
                      <a:pt x="854" y="1404"/>
                    </a:lnTo>
                    <a:lnTo>
                      <a:pt x="850" y="1409"/>
                    </a:lnTo>
                    <a:lnTo>
                      <a:pt x="845" y="1413"/>
                    </a:lnTo>
                    <a:lnTo>
                      <a:pt x="836" y="1419"/>
                    </a:lnTo>
                    <a:lnTo>
                      <a:pt x="826" y="1425"/>
                    </a:lnTo>
                    <a:lnTo>
                      <a:pt x="816" y="1431"/>
                    </a:lnTo>
                    <a:lnTo>
                      <a:pt x="807" y="1436"/>
                    </a:lnTo>
                    <a:lnTo>
                      <a:pt x="796" y="1440"/>
                    </a:lnTo>
                    <a:lnTo>
                      <a:pt x="785" y="1443"/>
                    </a:lnTo>
                    <a:lnTo>
                      <a:pt x="774" y="1446"/>
                    </a:lnTo>
                    <a:lnTo>
                      <a:pt x="764" y="1447"/>
                    </a:lnTo>
                    <a:lnTo>
                      <a:pt x="755" y="1447"/>
                    </a:lnTo>
                    <a:lnTo>
                      <a:pt x="747" y="1447"/>
                    </a:lnTo>
                    <a:lnTo>
                      <a:pt x="738" y="1445"/>
                    </a:lnTo>
                    <a:lnTo>
                      <a:pt x="730" y="1442"/>
                    </a:lnTo>
                    <a:lnTo>
                      <a:pt x="722" y="1440"/>
                    </a:lnTo>
                    <a:lnTo>
                      <a:pt x="716" y="1435"/>
                    </a:lnTo>
                    <a:lnTo>
                      <a:pt x="710" y="1430"/>
                    </a:lnTo>
                    <a:lnTo>
                      <a:pt x="706" y="1423"/>
                    </a:lnTo>
                    <a:lnTo>
                      <a:pt x="702" y="1411"/>
                    </a:lnTo>
                    <a:lnTo>
                      <a:pt x="702" y="1399"/>
                    </a:lnTo>
                    <a:lnTo>
                      <a:pt x="704" y="1386"/>
                    </a:lnTo>
                    <a:lnTo>
                      <a:pt x="705" y="1374"/>
                    </a:lnTo>
                    <a:lnTo>
                      <a:pt x="708" y="1361"/>
                    </a:lnTo>
                    <a:lnTo>
                      <a:pt x="711" y="1347"/>
                    </a:lnTo>
                    <a:lnTo>
                      <a:pt x="714" y="1335"/>
                    </a:lnTo>
                    <a:lnTo>
                      <a:pt x="716" y="1322"/>
                    </a:lnTo>
                    <a:lnTo>
                      <a:pt x="717" y="1314"/>
                    </a:lnTo>
                    <a:lnTo>
                      <a:pt x="719" y="1304"/>
                    </a:lnTo>
                    <a:lnTo>
                      <a:pt x="720" y="1295"/>
                    </a:lnTo>
                    <a:lnTo>
                      <a:pt x="723" y="1286"/>
                    </a:lnTo>
                    <a:lnTo>
                      <a:pt x="724" y="1277"/>
                    </a:lnTo>
                    <a:lnTo>
                      <a:pt x="724" y="1268"/>
                    </a:lnTo>
                    <a:lnTo>
                      <a:pt x="723" y="1259"/>
                    </a:lnTo>
                    <a:lnTo>
                      <a:pt x="720" y="1250"/>
                    </a:lnTo>
                    <a:lnTo>
                      <a:pt x="718" y="1245"/>
                    </a:lnTo>
                    <a:lnTo>
                      <a:pt x="713" y="1243"/>
                    </a:lnTo>
                    <a:lnTo>
                      <a:pt x="708" y="1239"/>
                    </a:lnTo>
                    <a:lnTo>
                      <a:pt x="702" y="1238"/>
                    </a:lnTo>
                    <a:lnTo>
                      <a:pt x="696" y="1237"/>
                    </a:lnTo>
                    <a:lnTo>
                      <a:pt x="689" y="1237"/>
                    </a:lnTo>
                    <a:lnTo>
                      <a:pt x="683" y="1236"/>
                    </a:lnTo>
                    <a:lnTo>
                      <a:pt x="677" y="1236"/>
                    </a:lnTo>
                    <a:lnTo>
                      <a:pt x="664" y="1237"/>
                    </a:lnTo>
                    <a:lnTo>
                      <a:pt x="651" y="1238"/>
                    </a:lnTo>
                    <a:lnTo>
                      <a:pt x="638" y="1242"/>
                    </a:lnTo>
                    <a:lnTo>
                      <a:pt x="624" y="1244"/>
                    </a:lnTo>
                    <a:lnTo>
                      <a:pt x="611" y="1247"/>
                    </a:lnTo>
                    <a:lnTo>
                      <a:pt x="598" y="1249"/>
                    </a:lnTo>
                    <a:lnTo>
                      <a:pt x="585" y="1250"/>
                    </a:lnTo>
                    <a:lnTo>
                      <a:pt x="572" y="1250"/>
                    </a:lnTo>
                    <a:lnTo>
                      <a:pt x="561" y="1249"/>
                    </a:lnTo>
                    <a:lnTo>
                      <a:pt x="549" y="1248"/>
                    </a:lnTo>
                    <a:lnTo>
                      <a:pt x="538" y="1245"/>
                    </a:lnTo>
                    <a:lnTo>
                      <a:pt x="527" y="1242"/>
                    </a:lnTo>
                    <a:lnTo>
                      <a:pt x="516" y="1238"/>
                    </a:lnTo>
                    <a:lnTo>
                      <a:pt x="506" y="1233"/>
                    </a:lnTo>
                    <a:lnTo>
                      <a:pt x="495" y="1227"/>
                    </a:lnTo>
                    <a:lnTo>
                      <a:pt x="485" y="1221"/>
                    </a:lnTo>
                    <a:lnTo>
                      <a:pt x="479" y="1217"/>
                    </a:lnTo>
                    <a:lnTo>
                      <a:pt x="473" y="1209"/>
                    </a:lnTo>
                    <a:lnTo>
                      <a:pt x="468" y="1202"/>
                    </a:lnTo>
                    <a:lnTo>
                      <a:pt x="464" y="1194"/>
                    </a:lnTo>
                    <a:lnTo>
                      <a:pt x="459" y="1186"/>
                    </a:lnTo>
                    <a:lnTo>
                      <a:pt x="454" y="1178"/>
                    </a:lnTo>
                    <a:lnTo>
                      <a:pt x="449" y="1171"/>
                    </a:lnTo>
                    <a:lnTo>
                      <a:pt x="442" y="1164"/>
                    </a:lnTo>
                    <a:lnTo>
                      <a:pt x="437" y="1160"/>
                    </a:lnTo>
                    <a:lnTo>
                      <a:pt x="431" y="1157"/>
                    </a:lnTo>
                    <a:lnTo>
                      <a:pt x="426" y="1154"/>
                    </a:lnTo>
                    <a:lnTo>
                      <a:pt x="420" y="1151"/>
                    </a:lnTo>
                    <a:lnTo>
                      <a:pt x="413" y="1150"/>
                    </a:lnTo>
                    <a:lnTo>
                      <a:pt x="407" y="1147"/>
                    </a:lnTo>
                    <a:lnTo>
                      <a:pt x="401" y="1146"/>
                    </a:lnTo>
                    <a:lnTo>
                      <a:pt x="394" y="1145"/>
                    </a:lnTo>
                    <a:lnTo>
                      <a:pt x="378" y="1145"/>
                    </a:lnTo>
                    <a:lnTo>
                      <a:pt x="363" y="1145"/>
                    </a:lnTo>
                    <a:lnTo>
                      <a:pt x="347" y="1145"/>
                    </a:lnTo>
                    <a:lnTo>
                      <a:pt x="332" y="1146"/>
                    </a:lnTo>
                    <a:lnTo>
                      <a:pt x="316" y="1147"/>
                    </a:lnTo>
                    <a:lnTo>
                      <a:pt x="300" y="1148"/>
                    </a:lnTo>
                    <a:lnTo>
                      <a:pt x="285" y="1150"/>
                    </a:lnTo>
                    <a:lnTo>
                      <a:pt x="269" y="1150"/>
                    </a:lnTo>
                    <a:lnTo>
                      <a:pt x="252" y="1151"/>
                    </a:lnTo>
                    <a:lnTo>
                      <a:pt x="234" y="1152"/>
                    </a:lnTo>
                    <a:lnTo>
                      <a:pt x="218" y="1154"/>
                    </a:lnTo>
                    <a:lnTo>
                      <a:pt x="200" y="1156"/>
                    </a:lnTo>
                    <a:lnTo>
                      <a:pt x="183" y="1157"/>
                    </a:lnTo>
                    <a:lnTo>
                      <a:pt x="165" y="1157"/>
                    </a:lnTo>
                    <a:lnTo>
                      <a:pt x="148" y="1157"/>
                    </a:lnTo>
                    <a:lnTo>
                      <a:pt x="131" y="1154"/>
                    </a:lnTo>
                    <a:lnTo>
                      <a:pt x="122" y="1153"/>
                    </a:lnTo>
                    <a:lnTo>
                      <a:pt x="113" y="1151"/>
                    </a:lnTo>
                    <a:lnTo>
                      <a:pt x="106" y="1146"/>
                    </a:lnTo>
                    <a:lnTo>
                      <a:pt x="98" y="1142"/>
                    </a:lnTo>
                    <a:lnTo>
                      <a:pt x="90" y="1138"/>
                    </a:lnTo>
                    <a:lnTo>
                      <a:pt x="83" y="1132"/>
                    </a:lnTo>
                    <a:lnTo>
                      <a:pt x="76" y="1127"/>
                    </a:lnTo>
                    <a:lnTo>
                      <a:pt x="69" y="1121"/>
                    </a:lnTo>
                    <a:lnTo>
                      <a:pt x="62" y="1116"/>
                    </a:lnTo>
                    <a:lnTo>
                      <a:pt x="54" y="1111"/>
                    </a:lnTo>
                    <a:lnTo>
                      <a:pt x="47" y="1106"/>
                    </a:lnTo>
                    <a:lnTo>
                      <a:pt x="41" y="1100"/>
                    </a:lnTo>
                    <a:lnTo>
                      <a:pt x="35" y="1094"/>
                    </a:lnTo>
                    <a:lnTo>
                      <a:pt x="29" y="1088"/>
                    </a:lnTo>
                    <a:lnTo>
                      <a:pt x="24" y="1081"/>
                    </a:lnTo>
                    <a:lnTo>
                      <a:pt x="21" y="1074"/>
                    </a:lnTo>
                    <a:lnTo>
                      <a:pt x="18" y="1068"/>
                    </a:lnTo>
                    <a:lnTo>
                      <a:pt x="17" y="1062"/>
                    </a:lnTo>
                    <a:lnTo>
                      <a:pt x="17" y="1056"/>
                    </a:lnTo>
                    <a:lnTo>
                      <a:pt x="18" y="1050"/>
                    </a:lnTo>
                    <a:lnTo>
                      <a:pt x="20" y="1044"/>
                    </a:lnTo>
                    <a:lnTo>
                      <a:pt x="22" y="1038"/>
                    </a:lnTo>
                    <a:lnTo>
                      <a:pt x="26" y="1033"/>
                    </a:lnTo>
                    <a:lnTo>
                      <a:pt x="30" y="1031"/>
                    </a:lnTo>
                    <a:lnTo>
                      <a:pt x="41" y="1025"/>
                    </a:lnTo>
                    <a:lnTo>
                      <a:pt x="52" y="1021"/>
                    </a:lnTo>
                    <a:lnTo>
                      <a:pt x="64" y="1019"/>
                    </a:lnTo>
                    <a:lnTo>
                      <a:pt x="76" y="1018"/>
                    </a:lnTo>
                    <a:lnTo>
                      <a:pt x="89" y="1016"/>
                    </a:lnTo>
                    <a:lnTo>
                      <a:pt x="101" y="1016"/>
                    </a:lnTo>
                    <a:lnTo>
                      <a:pt x="113" y="1016"/>
                    </a:lnTo>
                    <a:lnTo>
                      <a:pt x="126" y="1016"/>
                    </a:lnTo>
                    <a:lnTo>
                      <a:pt x="147" y="1015"/>
                    </a:lnTo>
                    <a:lnTo>
                      <a:pt x="167" y="1016"/>
                    </a:lnTo>
                    <a:lnTo>
                      <a:pt x="188" y="1018"/>
                    </a:lnTo>
                    <a:lnTo>
                      <a:pt x="208" y="1019"/>
                    </a:lnTo>
                    <a:lnTo>
                      <a:pt x="228" y="1020"/>
                    </a:lnTo>
                    <a:lnTo>
                      <a:pt x="249" y="1021"/>
                    </a:lnTo>
                    <a:lnTo>
                      <a:pt x="268" y="1021"/>
                    </a:lnTo>
                    <a:lnTo>
                      <a:pt x="288" y="1021"/>
                    </a:lnTo>
                    <a:lnTo>
                      <a:pt x="302" y="1019"/>
                    </a:lnTo>
                    <a:lnTo>
                      <a:pt x="314" y="1018"/>
                    </a:lnTo>
                    <a:lnTo>
                      <a:pt x="326" y="1014"/>
                    </a:lnTo>
                    <a:lnTo>
                      <a:pt x="338" y="1010"/>
                    </a:lnTo>
                    <a:lnTo>
                      <a:pt x="350" y="1007"/>
                    </a:lnTo>
                    <a:lnTo>
                      <a:pt x="360" y="1003"/>
                    </a:lnTo>
                    <a:lnTo>
                      <a:pt x="372" y="1000"/>
                    </a:lnTo>
                    <a:lnTo>
                      <a:pt x="384" y="997"/>
                    </a:lnTo>
                    <a:lnTo>
                      <a:pt x="393" y="995"/>
                    </a:lnTo>
                    <a:lnTo>
                      <a:pt x="400" y="992"/>
                    </a:lnTo>
                    <a:lnTo>
                      <a:pt x="408" y="989"/>
                    </a:lnTo>
                    <a:lnTo>
                      <a:pt x="416" y="986"/>
                    </a:lnTo>
                    <a:lnTo>
                      <a:pt x="424" y="984"/>
                    </a:lnTo>
                    <a:lnTo>
                      <a:pt x="431" y="983"/>
                    </a:lnTo>
                    <a:lnTo>
                      <a:pt x="440" y="982"/>
                    </a:lnTo>
                    <a:lnTo>
                      <a:pt x="447" y="983"/>
                    </a:lnTo>
                    <a:lnTo>
                      <a:pt x="462" y="986"/>
                    </a:lnTo>
                    <a:lnTo>
                      <a:pt x="477" y="990"/>
                    </a:lnTo>
                    <a:lnTo>
                      <a:pt x="491" y="996"/>
                    </a:lnTo>
                    <a:lnTo>
                      <a:pt x="506" y="1002"/>
                    </a:lnTo>
                    <a:lnTo>
                      <a:pt x="520" y="1009"/>
                    </a:lnTo>
                    <a:lnTo>
                      <a:pt x="534" y="1016"/>
                    </a:lnTo>
                    <a:lnTo>
                      <a:pt x="549" y="1024"/>
                    </a:lnTo>
                    <a:lnTo>
                      <a:pt x="562" y="1031"/>
                    </a:lnTo>
                    <a:lnTo>
                      <a:pt x="574" y="1037"/>
                    </a:lnTo>
                    <a:lnTo>
                      <a:pt x="585" y="1043"/>
                    </a:lnTo>
                    <a:lnTo>
                      <a:pt x="597" y="1051"/>
                    </a:lnTo>
                    <a:lnTo>
                      <a:pt x="608" y="1058"/>
                    </a:lnTo>
                    <a:lnTo>
                      <a:pt x="618" y="1066"/>
                    </a:lnTo>
                    <a:lnTo>
                      <a:pt x="629" y="1072"/>
                    </a:lnTo>
                    <a:lnTo>
                      <a:pt x="641" y="1078"/>
                    </a:lnTo>
                    <a:lnTo>
                      <a:pt x="653" y="1084"/>
                    </a:lnTo>
                    <a:lnTo>
                      <a:pt x="663" y="1087"/>
                    </a:lnTo>
                    <a:lnTo>
                      <a:pt x="674" y="1090"/>
                    </a:lnTo>
                    <a:lnTo>
                      <a:pt x="684" y="1093"/>
                    </a:lnTo>
                    <a:lnTo>
                      <a:pt x="694" y="1096"/>
                    </a:lnTo>
                    <a:lnTo>
                      <a:pt x="705" y="1098"/>
                    </a:lnTo>
                    <a:lnTo>
                      <a:pt x="716" y="1098"/>
                    </a:lnTo>
                    <a:lnTo>
                      <a:pt x="725" y="1096"/>
                    </a:lnTo>
                    <a:lnTo>
                      <a:pt x="735" y="1093"/>
                    </a:lnTo>
                    <a:lnTo>
                      <a:pt x="742" y="1088"/>
                    </a:lnTo>
                    <a:lnTo>
                      <a:pt x="747" y="1082"/>
                    </a:lnTo>
                    <a:lnTo>
                      <a:pt x="752" y="1074"/>
                    </a:lnTo>
                    <a:lnTo>
                      <a:pt x="755" y="1066"/>
                    </a:lnTo>
                    <a:lnTo>
                      <a:pt x="756" y="1057"/>
                    </a:lnTo>
                    <a:lnTo>
                      <a:pt x="759" y="1048"/>
                    </a:lnTo>
                    <a:lnTo>
                      <a:pt x="759" y="1039"/>
                    </a:lnTo>
                    <a:lnTo>
                      <a:pt x="759" y="1031"/>
                    </a:lnTo>
                    <a:lnTo>
                      <a:pt x="758" y="1021"/>
                    </a:lnTo>
                    <a:lnTo>
                      <a:pt x="756" y="1013"/>
                    </a:lnTo>
                    <a:lnTo>
                      <a:pt x="753" y="1003"/>
                    </a:lnTo>
                    <a:lnTo>
                      <a:pt x="749" y="995"/>
                    </a:lnTo>
                    <a:lnTo>
                      <a:pt x="744" y="986"/>
                    </a:lnTo>
                    <a:lnTo>
                      <a:pt x="741" y="979"/>
                    </a:lnTo>
                    <a:lnTo>
                      <a:pt x="735" y="971"/>
                    </a:lnTo>
                    <a:lnTo>
                      <a:pt x="730" y="964"/>
                    </a:lnTo>
                    <a:lnTo>
                      <a:pt x="720" y="949"/>
                    </a:lnTo>
                    <a:lnTo>
                      <a:pt x="711" y="936"/>
                    </a:lnTo>
                    <a:lnTo>
                      <a:pt x="700" y="923"/>
                    </a:lnTo>
                    <a:lnTo>
                      <a:pt x="690" y="910"/>
                    </a:lnTo>
                    <a:lnTo>
                      <a:pt x="680" y="898"/>
                    </a:lnTo>
                    <a:lnTo>
                      <a:pt x="668" y="886"/>
                    </a:lnTo>
                    <a:lnTo>
                      <a:pt x="656" y="874"/>
                    </a:lnTo>
                    <a:lnTo>
                      <a:pt x="644" y="863"/>
                    </a:lnTo>
                    <a:lnTo>
                      <a:pt x="629" y="850"/>
                    </a:lnTo>
                    <a:lnTo>
                      <a:pt x="614" y="838"/>
                    </a:lnTo>
                    <a:lnTo>
                      <a:pt x="598" y="827"/>
                    </a:lnTo>
                    <a:lnTo>
                      <a:pt x="581" y="816"/>
                    </a:lnTo>
                    <a:lnTo>
                      <a:pt x="566" y="805"/>
                    </a:lnTo>
                    <a:lnTo>
                      <a:pt x="549" y="796"/>
                    </a:lnTo>
                    <a:lnTo>
                      <a:pt x="532" y="786"/>
                    </a:lnTo>
                    <a:lnTo>
                      <a:pt x="514" y="776"/>
                    </a:lnTo>
                    <a:lnTo>
                      <a:pt x="502" y="770"/>
                    </a:lnTo>
                    <a:lnTo>
                      <a:pt x="489" y="766"/>
                    </a:lnTo>
                    <a:lnTo>
                      <a:pt x="476" y="761"/>
                    </a:lnTo>
                    <a:lnTo>
                      <a:pt x="462" y="756"/>
                    </a:lnTo>
                    <a:lnTo>
                      <a:pt x="449" y="752"/>
                    </a:lnTo>
                    <a:lnTo>
                      <a:pt x="436" y="749"/>
                    </a:lnTo>
                    <a:lnTo>
                      <a:pt x="423" y="746"/>
                    </a:lnTo>
                    <a:lnTo>
                      <a:pt x="408" y="743"/>
                    </a:lnTo>
                    <a:lnTo>
                      <a:pt x="396" y="740"/>
                    </a:lnTo>
                    <a:lnTo>
                      <a:pt x="386" y="738"/>
                    </a:lnTo>
                    <a:lnTo>
                      <a:pt x="374" y="736"/>
                    </a:lnTo>
                    <a:lnTo>
                      <a:pt x="362" y="733"/>
                    </a:lnTo>
                    <a:lnTo>
                      <a:pt x="350" y="731"/>
                    </a:lnTo>
                    <a:lnTo>
                      <a:pt x="338" y="730"/>
                    </a:lnTo>
                    <a:lnTo>
                      <a:pt x="326" y="728"/>
                    </a:lnTo>
                    <a:lnTo>
                      <a:pt x="312" y="728"/>
                    </a:lnTo>
                    <a:lnTo>
                      <a:pt x="305" y="728"/>
                    </a:lnTo>
                    <a:lnTo>
                      <a:pt x="297" y="730"/>
                    </a:lnTo>
                    <a:lnTo>
                      <a:pt x="288" y="731"/>
                    </a:lnTo>
                    <a:lnTo>
                      <a:pt x="281" y="732"/>
                    </a:lnTo>
                    <a:lnTo>
                      <a:pt x="273" y="734"/>
                    </a:lnTo>
                    <a:lnTo>
                      <a:pt x="266" y="737"/>
                    </a:lnTo>
                    <a:lnTo>
                      <a:pt x="258" y="739"/>
                    </a:lnTo>
                    <a:lnTo>
                      <a:pt x="250" y="743"/>
                    </a:lnTo>
                    <a:lnTo>
                      <a:pt x="243" y="748"/>
                    </a:lnTo>
                    <a:lnTo>
                      <a:pt x="237" y="752"/>
                    </a:lnTo>
                    <a:lnTo>
                      <a:pt x="231" y="758"/>
                    </a:lnTo>
                    <a:lnTo>
                      <a:pt x="224" y="764"/>
                    </a:lnTo>
                    <a:lnTo>
                      <a:pt x="218" y="770"/>
                    </a:lnTo>
                    <a:lnTo>
                      <a:pt x="212" y="776"/>
                    </a:lnTo>
                    <a:lnTo>
                      <a:pt x="204" y="781"/>
                    </a:lnTo>
                    <a:lnTo>
                      <a:pt x="198" y="786"/>
                    </a:lnTo>
                    <a:lnTo>
                      <a:pt x="186" y="792"/>
                    </a:lnTo>
                    <a:lnTo>
                      <a:pt x="174" y="798"/>
                    </a:lnTo>
                    <a:lnTo>
                      <a:pt x="164" y="804"/>
                    </a:lnTo>
                    <a:lnTo>
                      <a:pt x="152" y="809"/>
                    </a:lnTo>
                    <a:lnTo>
                      <a:pt x="140" y="814"/>
                    </a:lnTo>
                    <a:lnTo>
                      <a:pt x="126" y="817"/>
                    </a:lnTo>
                    <a:lnTo>
                      <a:pt x="114" y="821"/>
                    </a:lnTo>
                    <a:lnTo>
                      <a:pt x="102" y="824"/>
                    </a:lnTo>
                    <a:lnTo>
                      <a:pt x="98" y="826"/>
                    </a:lnTo>
                    <a:lnTo>
                      <a:pt x="93" y="826"/>
                    </a:lnTo>
                    <a:lnTo>
                      <a:pt x="88" y="826"/>
                    </a:lnTo>
                    <a:lnTo>
                      <a:pt x="83" y="824"/>
                    </a:lnTo>
                    <a:lnTo>
                      <a:pt x="78" y="823"/>
                    </a:lnTo>
                    <a:lnTo>
                      <a:pt x="75" y="821"/>
                    </a:lnTo>
                    <a:lnTo>
                      <a:pt x="71" y="818"/>
                    </a:lnTo>
                    <a:lnTo>
                      <a:pt x="69" y="815"/>
                    </a:lnTo>
                    <a:lnTo>
                      <a:pt x="65" y="809"/>
                    </a:lnTo>
                    <a:lnTo>
                      <a:pt x="64" y="802"/>
                    </a:lnTo>
                    <a:lnTo>
                      <a:pt x="62" y="796"/>
                    </a:lnTo>
                    <a:lnTo>
                      <a:pt x="62" y="788"/>
                    </a:lnTo>
                    <a:lnTo>
                      <a:pt x="62" y="781"/>
                    </a:lnTo>
                    <a:lnTo>
                      <a:pt x="63" y="774"/>
                    </a:lnTo>
                    <a:lnTo>
                      <a:pt x="65" y="768"/>
                    </a:lnTo>
                    <a:lnTo>
                      <a:pt x="69" y="762"/>
                    </a:lnTo>
                    <a:lnTo>
                      <a:pt x="78" y="749"/>
                    </a:lnTo>
                    <a:lnTo>
                      <a:pt x="88" y="736"/>
                    </a:lnTo>
                    <a:lnTo>
                      <a:pt x="100" y="724"/>
                    </a:lnTo>
                    <a:lnTo>
                      <a:pt x="112" y="713"/>
                    </a:lnTo>
                    <a:lnTo>
                      <a:pt x="124" y="701"/>
                    </a:lnTo>
                    <a:lnTo>
                      <a:pt x="137" y="691"/>
                    </a:lnTo>
                    <a:lnTo>
                      <a:pt x="150" y="680"/>
                    </a:lnTo>
                    <a:lnTo>
                      <a:pt x="165" y="671"/>
                    </a:lnTo>
                    <a:lnTo>
                      <a:pt x="173" y="665"/>
                    </a:lnTo>
                    <a:lnTo>
                      <a:pt x="183" y="660"/>
                    </a:lnTo>
                    <a:lnTo>
                      <a:pt x="194" y="654"/>
                    </a:lnTo>
                    <a:lnTo>
                      <a:pt x="203" y="650"/>
                    </a:lnTo>
                    <a:lnTo>
                      <a:pt x="214" y="646"/>
                    </a:lnTo>
                    <a:lnTo>
                      <a:pt x="225" y="643"/>
                    </a:lnTo>
                    <a:lnTo>
                      <a:pt x="234" y="640"/>
                    </a:lnTo>
                    <a:lnTo>
                      <a:pt x="245" y="637"/>
                    </a:lnTo>
                    <a:lnTo>
                      <a:pt x="260" y="635"/>
                    </a:lnTo>
                    <a:lnTo>
                      <a:pt x="274" y="634"/>
                    </a:lnTo>
                    <a:lnTo>
                      <a:pt x="288" y="632"/>
                    </a:lnTo>
                    <a:lnTo>
                      <a:pt x="303" y="632"/>
                    </a:lnTo>
                    <a:lnTo>
                      <a:pt x="317" y="632"/>
                    </a:lnTo>
                    <a:lnTo>
                      <a:pt x="332" y="632"/>
                    </a:lnTo>
                    <a:lnTo>
                      <a:pt x="346" y="632"/>
                    </a:lnTo>
                    <a:lnTo>
                      <a:pt x="360" y="632"/>
                    </a:lnTo>
                    <a:lnTo>
                      <a:pt x="381" y="632"/>
                    </a:lnTo>
                    <a:lnTo>
                      <a:pt x="401" y="634"/>
                    </a:lnTo>
                    <a:lnTo>
                      <a:pt x="422" y="634"/>
                    </a:lnTo>
                    <a:lnTo>
                      <a:pt x="442" y="634"/>
                    </a:lnTo>
                    <a:lnTo>
                      <a:pt x="462" y="635"/>
                    </a:lnTo>
                    <a:lnTo>
                      <a:pt x="483" y="636"/>
                    </a:lnTo>
                    <a:lnTo>
                      <a:pt x="503" y="636"/>
                    </a:lnTo>
                    <a:lnTo>
                      <a:pt x="524" y="637"/>
                    </a:lnTo>
                    <a:lnTo>
                      <a:pt x="539" y="638"/>
                    </a:lnTo>
                    <a:lnTo>
                      <a:pt x="554" y="640"/>
                    </a:lnTo>
                    <a:lnTo>
                      <a:pt x="569" y="642"/>
                    </a:lnTo>
                    <a:lnTo>
                      <a:pt x="584" y="643"/>
                    </a:lnTo>
                    <a:lnTo>
                      <a:pt x="599" y="644"/>
                    </a:lnTo>
                    <a:lnTo>
                      <a:pt x="614" y="646"/>
                    </a:lnTo>
                    <a:lnTo>
                      <a:pt x="629" y="647"/>
                    </a:lnTo>
                    <a:lnTo>
                      <a:pt x="644" y="647"/>
                    </a:lnTo>
                    <a:lnTo>
                      <a:pt x="652" y="647"/>
                    </a:lnTo>
                    <a:lnTo>
                      <a:pt x="662" y="648"/>
                    </a:lnTo>
                    <a:lnTo>
                      <a:pt x="670" y="648"/>
                    </a:lnTo>
                    <a:lnTo>
                      <a:pt x="680" y="648"/>
                    </a:lnTo>
                    <a:lnTo>
                      <a:pt x="688" y="647"/>
                    </a:lnTo>
                    <a:lnTo>
                      <a:pt x="696" y="646"/>
                    </a:lnTo>
                    <a:lnTo>
                      <a:pt x="704" y="642"/>
                    </a:lnTo>
                    <a:lnTo>
                      <a:pt x="711" y="637"/>
                    </a:lnTo>
                    <a:close/>
                  </a:path>
                </a:pathLst>
              </a:custGeom>
              <a:solidFill>
                <a:srgbClr val="d1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135320" y="1319040"/>
                <a:ext cx="819000" cy="703440"/>
              </a:xfrm>
              <a:custGeom>
                <a:avLst/>
                <a:gdLst/>
                <a:ahLst/>
                <a:rect l="l" t="t" r="r" b="b"/>
                <a:pathLst>
                  <a:path w="2064" h="1776">
                    <a:moveTo>
                      <a:pt x="705" y="633"/>
                    </a:moveTo>
                    <a:lnTo>
                      <a:pt x="711" y="625"/>
                    </a:lnTo>
                    <a:lnTo>
                      <a:pt x="717" y="618"/>
                    </a:lnTo>
                    <a:lnTo>
                      <a:pt x="721" y="609"/>
                    </a:lnTo>
                    <a:lnTo>
                      <a:pt x="724" y="600"/>
                    </a:lnTo>
                    <a:lnTo>
                      <a:pt x="727" y="591"/>
                    </a:lnTo>
                    <a:lnTo>
                      <a:pt x="728" y="581"/>
                    </a:lnTo>
                    <a:lnTo>
                      <a:pt x="729" y="570"/>
                    </a:lnTo>
                    <a:lnTo>
                      <a:pt x="729" y="561"/>
                    </a:lnTo>
                    <a:lnTo>
                      <a:pt x="729" y="550"/>
                    </a:lnTo>
                    <a:lnTo>
                      <a:pt x="728" y="539"/>
                    </a:lnTo>
                    <a:lnTo>
                      <a:pt x="727" y="527"/>
                    </a:lnTo>
                    <a:lnTo>
                      <a:pt x="724" y="516"/>
                    </a:lnTo>
                    <a:lnTo>
                      <a:pt x="721" y="505"/>
                    </a:lnTo>
                    <a:lnTo>
                      <a:pt x="717" y="495"/>
                    </a:lnTo>
                    <a:lnTo>
                      <a:pt x="711" y="485"/>
                    </a:lnTo>
                    <a:lnTo>
                      <a:pt x="705" y="475"/>
                    </a:lnTo>
                    <a:lnTo>
                      <a:pt x="698" y="468"/>
                    </a:lnTo>
                    <a:lnTo>
                      <a:pt x="691" y="462"/>
                    </a:lnTo>
                    <a:lnTo>
                      <a:pt x="682" y="457"/>
                    </a:lnTo>
                    <a:lnTo>
                      <a:pt x="673" y="453"/>
                    </a:lnTo>
                    <a:lnTo>
                      <a:pt x="663" y="449"/>
                    </a:lnTo>
                    <a:lnTo>
                      <a:pt x="654" y="446"/>
                    </a:lnTo>
                    <a:lnTo>
                      <a:pt x="643" y="442"/>
                    </a:lnTo>
                    <a:lnTo>
                      <a:pt x="634" y="437"/>
                    </a:lnTo>
                    <a:lnTo>
                      <a:pt x="622" y="432"/>
                    </a:lnTo>
                    <a:lnTo>
                      <a:pt x="612" y="428"/>
                    </a:lnTo>
                    <a:lnTo>
                      <a:pt x="601" y="422"/>
                    </a:lnTo>
                    <a:lnTo>
                      <a:pt x="589" y="417"/>
                    </a:lnTo>
                    <a:lnTo>
                      <a:pt x="578" y="412"/>
                    </a:lnTo>
                    <a:lnTo>
                      <a:pt x="567" y="407"/>
                    </a:lnTo>
                    <a:lnTo>
                      <a:pt x="555" y="404"/>
                    </a:lnTo>
                    <a:lnTo>
                      <a:pt x="543" y="400"/>
                    </a:lnTo>
                    <a:lnTo>
                      <a:pt x="531" y="396"/>
                    </a:lnTo>
                    <a:lnTo>
                      <a:pt x="518" y="393"/>
                    </a:lnTo>
                    <a:lnTo>
                      <a:pt x="505" y="390"/>
                    </a:lnTo>
                    <a:lnTo>
                      <a:pt x="490" y="389"/>
                    </a:lnTo>
                    <a:lnTo>
                      <a:pt x="477" y="387"/>
                    </a:lnTo>
                    <a:lnTo>
                      <a:pt x="464" y="383"/>
                    </a:lnTo>
                    <a:lnTo>
                      <a:pt x="452" y="381"/>
                    </a:lnTo>
                    <a:lnTo>
                      <a:pt x="439" y="376"/>
                    </a:lnTo>
                    <a:lnTo>
                      <a:pt x="428" y="371"/>
                    </a:lnTo>
                    <a:lnTo>
                      <a:pt x="418" y="366"/>
                    </a:lnTo>
                    <a:lnTo>
                      <a:pt x="409" y="360"/>
                    </a:lnTo>
                    <a:lnTo>
                      <a:pt x="399" y="354"/>
                    </a:lnTo>
                    <a:lnTo>
                      <a:pt x="390" y="348"/>
                    </a:lnTo>
                    <a:lnTo>
                      <a:pt x="381" y="342"/>
                    </a:lnTo>
                    <a:lnTo>
                      <a:pt x="372" y="335"/>
                    </a:lnTo>
                    <a:lnTo>
                      <a:pt x="363" y="328"/>
                    </a:lnTo>
                    <a:lnTo>
                      <a:pt x="348" y="316"/>
                    </a:lnTo>
                    <a:lnTo>
                      <a:pt x="332" y="303"/>
                    </a:lnTo>
                    <a:lnTo>
                      <a:pt x="318" y="290"/>
                    </a:lnTo>
                    <a:lnTo>
                      <a:pt x="303" y="276"/>
                    </a:lnTo>
                    <a:lnTo>
                      <a:pt x="289" y="263"/>
                    </a:lnTo>
                    <a:lnTo>
                      <a:pt x="274" y="249"/>
                    </a:lnTo>
                    <a:lnTo>
                      <a:pt x="259" y="237"/>
                    </a:lnTo>
                    <a:lnTo>
                      <a:pt x="243" y="224"/>
                    </a:lnTo>
                    <a:lnTo>
                      <a:pt x="230" y="213"/>
                    </a:lnTo>
                    <a:lnTo>
                      <a:pt x="216" y="202"/>
                    </a:lnTo>
                    <a:lnTo>
                      <a:pt x="202" y="191"/>
                    </a:lnTo>
                    <a:lnTo>
                      <a:pt x="188" y="182"/>
                    </a:lnTo>
                    <a:lnTo>
                      <a:pt x="174" y="172"/>
                    </a:lnTo>
                    <a:lnTo>
                      <a:pt x="159" y="161"/>
                    </a:lnTo>
                    <a:lnTo>
                      <a:pt x="145" y="152"/>
                    </a:lnTo>
                    <a:lnTo>
                      <a:pt x="129" y="143"/>
                    </a:lnTo>
                    <a:lnTo>
                      <a:pt x="120" y="137"/>
                    </a:lnTo>
                    <a:lnTo>
                      <a:pt x="110" y="132"/>
                    </a:lnTo>
                    <a:lnTo>
                      <a:pt x="99" y="129"/>
                    </a:lnTo>
                    <a:lnTo>
                      <a:pt x="88" y="124"/>
                    </a:lnTo>
                    <a:lnTo>
                      <a:pt x="79" y="120"/>
                    </a:lnTo>
                    <a:lnTo>
                      <a:pt x="68" y="116"/>
                    </a:lnTo>
                    <a:lnTo>
                      <a:pt x="58" y="111"/>
                    </a:lnTo>
                    <a:lnTo>
                      <a:pt x="49" y="105"/>
                    </a:lnTo>
                    <a:lnTo>
                      <a:pt x="42" y="100"/>
                    </a:lnTo>
                    <a:lnTo>
                      <a:pt x="34" y="95"/>
                    </a:lnTo>
                    <a:lnTo>
                      <a:pt x="27" y="90"/>
                    </a:lnTo>
                    <a:lnTo>
                      <a:pt x="20" y="84"/>
                    </a:lnTo>
                    <a:lnTo>
                      <a:pt x="14" y="78"/>
                    </a:lnTo>
                    <a:lnTo>
                      <a:pt x="9" y="72"/>
                    </a:lnTo>
                    <a:lnTo>
                      <a:pt x="4" y="65"/>
                    </a:lnTo>
                    <a:lnTo>
                      <a:pt x="1" y="57"/>
                    </a:lnTo>
                    <a:lnTo>
                      <a:pt x="0" y="52"/>
                    </a:lnTo>
                    <a:lnTo>
                      <a:pt x="0" y="45"/>
                    </a:lnTo>
                    <a:lnTo>
                      <a:pt x="1" y="39"/>
                    </a:lnTo>
                    <a:lnTo>
                      <a:pt x="3" y="33"/>
                    </a:lnTo>
                    <a:lnTo>
                      <a:pt x="7" y="27"/>
                    </a:lnTo>
                    <a:lnTo>
                      <a:pt x="10" y="22"/>
                    </a:lnTo>
                    <a:lnTo>
                      <a:pt x="15" y="18"/>
                    </a:lnTo>
                    <a:lnTo>
                      <a:pt x="20" y="15"/>
                    </a:lnTo>
                    <a:lnTo>
                      <a:pt x="30" y="10"/>
                    </a:lnTo>
                    <a:lnTo>
                      <a:pt x="39" y="8"/>
                    </a:lnTo>
                    <a:lnTo>
                      <a:pt x="49" y="5"/>
                    </a:lnTo>
                    <a:lnTo>
                      <a:pt x="60" y="4"/>
                    </a:lnTo>
                    <a:lnTo>
                      <a:pt x="70" y="4"/>
                    </a:lnTo>
                    <a:lnTo>
                      <a:pt x="80" y="4"/>
                    </a:lnTo>
                    <a:lnTo>
                      <a:pt x="91" y="4"/>
                    </a:lnTo>
                    <a:lnTo>
                      <a:pt x="102" y="5"/>
                    </a:lnTo>
                    <a:lnTo>
                      <a:pt x="110" y="6"/>
                    </a:lnTo>
                    <a:lnTo>
                      <a:pt x="120" y="8"/>
                    </a:lnTo>
                    <a:lnTo>
                      <a:pt x="129" y="10"/>
                    </a:lnTo>
                    <a:lnTo>
                      <a:pt x="139" y="12"/>
                    </a:lnTo>
                    <a:lnTo>
                      <a:pt x="147" y="16"/>
                    </a:lnTo>
                    <a:lnTo>
                      <a:pt x="156" y="20"/>
                    </a:lnTo>
                    <a:lnTo>
                      <a:pt x="164" y="24"/>
                    </a:lnTo>
                    <a:lnTo>
                      <a:pt x="172" y="29"/>
                    </a:lnTo>
                    <a:lnTo>
                      <a:pt x="183" y="36"/>
                    </a:lnTo>
                    <a:lnTo>
                      <a:pt x="194" y="46"/>
                    </a:lnTo>
                    <a:lnTo>
                      <a:pt x="205" y="56"/>
                    </a:lnTo>
                    <a:lnTo>
                      <a:pt x="214" y="65"/>
                    </a:lnTo>
                    <a:lnTo>
                      <a:pt x="224" y="75"/>
                    </a:lnTo>
                    <a:lnTo>
                      <a:pt x="234" y="86"/>
                    </a:lnTo>
                    <a:lnTo>
                      <a:pt x="243" y="95"/>
                    </a:lnTo>
                    <a:lnTo>
                      <a:pt x="253" y="105"/>
                    </a:lnTo>
                    <a:lnTo>
                      <a:pt x="268" y="118"/>
                    </a:lnTo>
                    <a:lnTo>
                      <a:pt x="283" y="130"/>
                    </a:lnTo>
                    <a:lnTo>
                      <a:pt x="297" y="143"/>
                    </a:lnTo>
                    <a:lnTo>
                      <a:pt x="312" y="155"/>
                    </a:lnTo>
                    <a:lnTo>
                      <a:pt x="327" y="168"/>
                    </a:lnTo>
                    <a:lnTo>
                      <a:pt x="342" y="180"/>
                    </a:lnTo>
                    <a:lnTo>
                      <a:pt x="357" y="192"/>
                    </a:lnTo>
                    <a:lnTo>
                      <a:pt x="373" y="204"/>
                    </a:lnTo>
                    <a:lnTo>
                      <a:pt x="384" y="214"/>
                    </a:lnTo>
                    <a:lnTo>
                      <a:pt x="394" y="222"/>
                    </a:lnTo>
                    <a:lnTo>
                      <a:pt x="405" y="231"/>
                    </a:lnTo>
                    <a:lnTo>
                      <a:pt x="416" y="239"/>
                    </a:lnTo>
                    <a:lnTo>
                      <a:pt x="428" y="249"/>
                    </a:lnTo>
                    <a:lnTo>
                      <a:pt x="439" y="256"/>
                    </a:lnTo>
                    <a:lnTo>
                      <a:pt x="451" y="264"/>
                    </a:lnTo>
                    <a:lnTo>
                      <a:pt x="463" y="272"/>
                    </a:lnTo>
                    <a:lnTo>
                      <a:pt x="469" y="274"/>
                    </a:lnTo>
                    <a:lnTo>
                      <a:pt x="475" y="278"/>
                    </a:lnTo>
                    <a:lnTo>
                      <a:pt x="481" y="280"/>
                    </a:lnTo>
                    <a:lnTo>
                      <a:pt x="488" y="281"/>
                    </a:lnTo>
                    <a:lnTo>
                      <a:pt x="495" y="282"/>
                    </a:lnTo>
                    <a:lnTo>
                      <a:pt x="501" y="284"/>
                    </a:lnTo>
                    <a:lnTo>
                      <a:pt x="508" y="285"/>
                    </a:lnTo>
                    <a:lnTo>
                      <a:pt x="516" y="286"/>
                    </a:lnTo>
                    <a:lnTo>
                      <a:pt x="522" y="286"/>
                    </a:lnTo>
                    <a:lnTo>
                      <a:pt x="528" y="286"/>
                    </a:lnTo>
                    <a:lnTo>
                      <a:pt x="534" y="286"/>
                    </a:lnTo>
                    <a:lnTo>
                      <a:pt x="541" y="285"/>
                    </a:lnTo>
                    <a:lnTo>
                      <a:pt x="547" y="285"/>
                    </a:lnTo>
                    <a:lnTo>
                      <a:pt x="553" y="282"/>
                    </a:lnTo>
                    <a:lnTo>
                      <a:pt x="558" y="280"/>
                    </a:lnTo>
                    <a:lnTo>
                      <a:pt x="562" y="276"/>
                    </a:lnTo>
                    <a:lnTo>
                      <a:pt x="567" y="270"/>
                    </a:lnTo>
                    <a:lnTo>
                      <a:pt x="571" y="264"/>
                    </a:lnTo>
                    <a:lnTo>
                      <a:pt x="574" y="257"/>
                    </a:lnTo>
                    <a:lnTo>
                      <a:pt x="577" y="250"/>
                    </a:lnTo>
                    <a:lnTo>
                      <a:pt x="578" y="242"/>
                    </a:lnTo>
                    <a:lnTo>
                      <a:pt x="580" y="234"/>
                    </a:lnTo>
                    <a:lnTo>
                      <a:pt x="580" y="226"/>
                    </a:lnTo>
                    <a:lnTo>
                      <a:pt x="582" y="219"/>
                    </a:lnTo>
                    <a:lnTo>
                      <a:pt x="583" y="208"/>
                    </a:lnTo>
                    <a:lnTo>
                      <a:pt x="582" y="196"/>
                    </a:lnTo>
                    <a:lnTo>
                      <a:pt x="582" y="185"/>
                    </a:lnTo>
                    <a:lnTo>
                      <a:pt x="580" y="174"/>
                    </a:lnTo>
                    <a:lnTo>
                      <a:pt x="579" y="162"/>
                    </a:lnTo>
                    <a:lnTo>
                      <a:pt x="578" y="152"/>
                    </a:lnTo>
                    <a:lnTo>
                      <a:pt x="577" y="140"/>
                    </a:lnTo>
                    <a:lnTo>
                      <a:pt x="577" y="129"/>
                    </a:lnTo>
                    <a:lnTo>
                      <a:pt x="577" y="123"/>
                    </a:lnTo>
                    <a:lnTo>
                      <a:pt x="578" y="117"/>
                    </a:lnTo>
                    <a:lnTo>
                      <a:pt x="578" y="111"/>
                    </a:lnTo>
                    <a:lnTo>
                      <a:pt x="579" y="105"/>
                    </a:lnTo>
                    <a:lnTo>
                      <a:pt x="580" y="99"/>
                    </a:lnTo>
                    <a:lnTo>
                      <a:pt x="580" y="93"/>
                    </a:lnTo>
                    <a:lnTo>
                      <a:pt x="582" y="87"/>
                    </a:lnTo>
                    <a:lnTo>
                      <a:pt x="582" y="81"/>
                    </a:lnTo>
                    <a:lnTo>
                      <a:pt x="582" y="75"/>
                    </a:lnTo>
                    <a:lnTo>
                      <a:pt x="582" y="68"/>
                    </a:lnTo>
                    <a:lnTo>
                      <a:pt x="580" y="62"/>
                    </a:lnTo>
                    <a:lnTo>
                      <a:pt x="580" y="54"/>
                    </a:lnTo>
                    <a:lnTo>
                      <a:pt x="580" y="48"/>
                    </a:lnTo>
                    <a:lnTo>
                      <a:pt x="580" y="41"/>
                    </a:lnTo>
                    <a:lnTo>
                      <a:pt x="580" y="35"/>
                    </a:lnTo>
                    <a:lnTo>
                      <a:pt x="582" y="29"/>
                    </a:lnTo>
                    <a:lnTo>
                      <a:pt x="583" y="24"/>
                    </a:lnTo>
                    <a:lnTo>
                      <a:pt x="584" y="20"/>
                    </a:lnTo>
                    <a:lnTo>
                      <a:pt x="586" y="15"/>
                    </a:lnTo>
                    <a:lnTo>
                      <a:pt x="588" y="10"/>
                    </a:lnTo>
                    <a:lnTo>
                      <a:pt x="590" y="6"/>
                    </a:lnTo>
                    <a:lnTo>
                      <a:pt x="594" y="3"/>
                    </a:lnTo>
                    <a:lnTo>
                      <a:pt x="597" y="0"/>
                    </a:lnTo>
                    <a:lnTo>
                      <a:pt x="601" y="0"/>
                    </a:lnTo>
                    <a:lnTo>
                      <a:pt x="609" y="2"/>
                    </a:lnTo>
                    <a:lnTo>
                      <a:pt x="616" y="4"/>
                    </a:lnTo>
                    <a:lnTo>
                      <a:pt x="625" y="6"/>
                    </a:lnTo>
                    <a:lnTo>
                      <a:pt x="632" y="11"/>
                    </a:lnTo>
                    <a:lnTo>
                      <a:pt x="639" y="16"/>
                    </a:lnTo>
                    <a:lnTo>
                      <a:pt x="646" y="22"/>
                    </a:lnTo>
                    <a:lnTo>
                      <a:pt x="652" y="27"/>
                    </a:lnTo>
                    <a:lnTo>
                      <a:pt x="658" y="34"/>
                    </a:lnTo>
                    <a:lnTo>
                      <a:pt x="663" y="41"/>
                    </a:lnTo>
                    <a:lnTo>
                      <a:pt x="669" y="50"/>
                    </a:lnTo>
                    <a:lnTo>
                      <a:pt x="673" y="58"/>
                    </a:lnTo>
                    <a:lnTo>
                      <a:pt x="676" y="68"/>
                    </a:lnTo>
                    <a:lnTo>
                      <a:pt x="680" y="77"/>
                    </a:lnTo>
                    <a:lnTo>
                      <a:pt x="684" y="87"/>
                    </a:lnTo>
                    <a:lnTo>
                      <a:pt x="687" y="95"/>
                    </a:lnTo>
                    <a:lnTo>
                      <a:pt x="691" y="105"/>
                    </a:lnTo>
                    <a:lnTo>
                      <a:pt x="697" y="118"/>
                    </a:lnTo>
                    <a:lnTo>
                      <a:pt x="702" y="131"/>
                    </a:lnTo>
                    <a:lnTo>
                      <a:pt x="708" y="144"/>
                    </a:lnTo>
                    <a:lnTo>
                      <a:pt x="712" y="158"/>
                    </a:lnTo>
                    <a:lnTo>
                      <a:pt x="717" y="171"/>
                    </a:lnTo>
                    <a:lnTo>
                      <a:pt x="723" y="183"/>
                    </a:lnTo>
                    <a:lnTo>
                      <a:pt x="728" y="196"/>
                    </a:lnTo>
                    <a:lnTo>
                      <a:pt x="734" y="209"/>
                    </a:lnTo>
                    <a:lnTo>
                      <a:pt x="738" y="218"/>
                    </a:lnTo>
                    <a:lnTo>
                      <a:pt x="740" y="225"/>
                    </a:lnTo>
                    <a:lnTo>
                      <a:pt x="744" y="233"/>
                    </a:lnTo>
                    <a:lnTo>
                      <a:pt x="747" y="242"/>
                    </a:lnTo>
                    <a:lnTo>
                      <a:pt x="750" y="249"/>
                    </a:lnTo>
                    <a:lnTo>
                      <a:pt x="754" y="257"/>
                    </a:lnTo>
                    <a:lnTo>
                      <a:pt x="758" y="264"/>
                    </a:lnTo>
                    <a:lnTo>
                      <a:pt x="763" y="272"/>
                    </a:lnTo>
                    <a:lnTo>
                      <a:pt x="768" y="279"/>
                    </a:lnTo>
                    <a:lnTo>
                      <a:pt x="774" y="287"/>
                    </a:lnTo>
                    <a:lnTo>
                      <a:pt x="781" y="294"/>
                    </a:lnTo>
                    <a:lnTo>
                      <a:pt x="787" y="302"/>
                    </a:lnTo>
                    <a:lnTo>
                      <a:pt x="794" y="308"/>
                    </a:lnTo>
                    <a:lnTo>
                      <a:pt x="801" y="315"/>
                    </a:lnTo>
                    <a:lnTo>
                      <a:pt x="807" y="322"/>
                    </a:lnTo>
                    <a:lnTo>
                      <a:pt x="814" y="328"/>
                    </a:lnTo>
                    <a:lnTo>
                      <a:pt x="824" y="336"/>
                    </a:lnTo>
                    <a:lnTo>
                      <a:pt x="832" y="345"/>
                    </a:lnTo>
                    <a:lnTo>
                      <a:pt x="842" y="353"/>
                    </a:lnTo>
                    <a:lnTo>
                      <a:pt x="850" y="362"/>
                    </a:lnTo>
                    <a:lnTo>
                      <a:pt x="860" y="370"/>
                    </a:lnTo>
                    <a:lnTo>
                      <a:pt x="870" y="377"/>
                    </a:lnTo>
                    <a:lnTo>
                      <a:pt x="880" y="384"/>
                    </a:lnTo>
                    <a:lnTo>
                      <a:pt x="891" y="390"/>
                    </a:lnTo>
                    <a:lnTo>
                      <a:pt x="900" y="394"/>
                    </a:lnTo>
                    <a:lnTo>
                      <a:pt x="909" y="398"/>
                    </a:lnTo>
                    <a:lnTo>
                      <a:pt x="919" y="399"/>
                    </a:lnTo>
                    <a:lnTo>
                      <a:pt x="928" y="401"/>
                    </a:lnTo>
                    <a:lnTo>
                      <a:pt x="938" y="402"/>
                    </a:lnTo>
                    <a:lnTo>
                      <a:pt x="948" y="404"/>
                    </a:lnTo>
                    <a:lnTo>
                      <a:pt x="957" y="404"/>
                    </a:lnTo>
                    <a:lnTo>
                      <a:pt x="967" y="405"/>
                    </a:lnTo>
                    <a:lnTo>
                      <a:pt x="979" y="405"/>
                    </a:lnTo>
                    <a:lnTo>
                      <a:pt x="991" y="405"/>
                    </a:lnTo>
                    <a:lnTo>
                      <a:pt x="1003" y="405"/>
                    </a:lnTo>
                    <a:lnTo>
                      <a:pt x="1015" y="405"/>
                    </a:lnTo>
                    <a:lnTo>
                      <a:pt x="1027" y="404"/>
                    </a:lnTo>
                    <a:lnTo>
                      <a:pt x="1039" y="404"/>
                    </a:lnTo>
                    <a:lnTo>
                      <a:pt x="1051" y="401"/>
                    </a:lnTo>
                    <a:lnTo>
                      <a:pt x="1063" y="400"/>
                    </a:lnTo>
                    <a:lnTo>
                      <a:pt x="1070" y="398"/>
                    </a:lnTo>
                    <a:lnTo>
                      <a:pt x="1078" y="396"/>
                    </a:lnTo>
                    <a:lnTo>
                      <a:pt x="1087" y="394"/>
                    </a:lnTo>
                    <a:lnTo>
                      <a:pt x="1095" y="392"/>
                    </a:lnTo>
                    <a:lnTo>
                      <a:pt x="1102" y="388"/>
                    </a:lnTo>
                    <a:lnTo>
                      <a:pt x="1110" y="384"/>
                    </a:lnTo>
                    <a:lnTo>
                      <a:pt x="1117" y="381"/>
                    </a:lnTo>
                    <a:lnTo>
                      <a:pt x="1124" y="376"/>
                    </a:lnTo>
                    <a:lnTo>
                      <a:pt x="1131" y="371"/>
                    </a:lnTo>
                    <a:lnTo>
                      <a:pt x="1138" y="365"/>
                    </a:lnTo>
                    <a:lnTo>
                      <a:pt x="1146" y="359"/>
                    </a:lnTo>
                    <a:lnTo>
                      <a:pt x="1152" y="353"/>
                    </a:lnTo>
                    <a:lnTo>
                      <a:pt x="1158" y="346"/>
                    </a:lnTo>
                    <a:lnTo>
                      <a:pt x="1161" y="339"/>
                    </a:lnTo>
                    <a:lnTo>
                      <a:pt x="1162" y="335"/>
                    </a:lnTo>
                    <a:lnTo>
                      <a:pt x="1162" y="332"/>
                    </a:lnTo>
                    <a:lnTo>
                      <a:pt x="1162" y="328"/>
                    </a:lnTo>
                    <a:lnTo>
                      <a:pt x="1162" y="323"/>
                    </a:lnTo>
                    <a:lnTo>
                      <a:pt x="1161" y="320"/>
                    </a:lnTo>
                    <a:lnTo>
                      <a:pt x="1159" y="316"/>
                    </a:lnTo>
                    <a:lnTo>
                      <a:pt x="1156" y="312"/>
                    </a:lnTo>
                    <a:lnTo>
                      <a:pt x="1153" y="310"/>
                    </a:lnTo>
                    <a:lnTo>
                      <a:pt x="1146" y="305"/>
                    </a:lnTo>
                    <a:lnTo>
                      <a:pt x="1137" y="302"/>
                    </a:lnTo>
                    <a:lnTo>
                      <a:pt x="1128" y="299"/>
                    </a:lnTo>
                    <a:lnTo>
                      <a:pt x="1118" y="297"/>
                    </a:lnTo>
                    <a:lnTo>
                      <a:pt x="1108" y="293"/>
                    </a:lnTo>
                    <a:lnTo>
                      <a:pt x="1100" y="291"/>
                    </a:lnTo>
                    <a:lnTo>
                      <a:pt x="1090" y="286"/>
                    </a:lnTo>
                    <a:lnTo>
                      <a:pt x="1080" y="282"/>
                    </a:lnTo>
                    <a:lnTo>
                      <a:pt x="1070" y="280"/>
                    </a:lnTo>
                    <a:lnTo>
                      <a:pt x="1059" y="276"/>
                    </a:lnTo>
                    <a:lnTo>
                      <a:pt x="1050" y="274"/>
                    </a:lnTo>
                    <a:lnTo>
                      <a:pt x="1039" y="270"/>
                    </a:lnTo>
                    <a:lnTo>
                      <a:pt x="1029" y="267"/>
                    </a:lnTo>
                    <a:lnTo>
                      <a:pt x="1020" y="262"/>
                    </a:lnTo>
                    <a:lnTo>
                      <a:pt x="1014" y="258"/>
                    </a:lnTo>
                    <a:lnTo>
                      <a:pt x="1008" y="254"/>
                    </a:lnTo>
                    <a:lnTo>
                      <a:pt x="1002" y="250"/>
                    </a:lnTo>
                    <a:lnTo>
                      <a:pt x="996" y="245"/>
                    </a:lnTo>
                    <a:lnTo>
                      <a:pt x="991" y="240"/>
                    </a:lnTo>
                    <a:lnTo>
                      <a:pt x="986" y="234"/>
                    </a:lnTo>
                    <a:lnTo>
                      <a:pt x="981" y="230"/>
                    </a:lnTo>
                    <a:lnTo>
                      <a:pt x="976" y="224"/>
                    </a:lnTo>
                    <a:lnTo>
                      <a:pt x="973" y="218"/>
                    </a:lnTo>
                    <a:lnTo>
                      <a:pt x="969" y="212"/>
                    </a:lnTo>
                    <a:lnTo>
                      <a:pt x="966" y="206"/>
                    </a:lnTo>
                    <a:lnTo>
                      <a:pt x="962" y="198"/>
                    </a:lnTo>
                    <a:lnTo>
                      <a:pt x="960" y="192"/>
                    </a:lnTo>
                    <a:lnTo>
                      <a:pt x="957" y="185"/>
                    </a:lnTo>
                    <a:lnTo>
                      <a:pt x="955" y="178"/>
                    </a:lnTo>
                    <a:lnTo>
                      <a:pt x="952" y="172"/>
                    </a:lnTo>
                    <a:lnTo>
                      <a:pt x="952" y="166"/>
                    </a:lnTo>
                    <a:lnTo>
                      <a:pt x="951" y="161"/>
                    </a:lnTo>
                    <a:lnTo>
                      <a:pt x="951" y="156"/>
                    </a:lnTo>
                    <a:lnTo>
                      <a:pt x="951" y="150"/>
                    </a:lnTo>
                    <a:lnTo>
                      <a:pt x="951" y="146"/>
                    </a:lnTo>
                    <a:lnTo>
                      <a:pt x="952" y="141"/>
                    </a:lnTo>
                    <a:lnTo>
                      <a:pt x="955" y="137"/>
                    </a:lnTo>
                    <a:lnTo>
                      <a:pt x="957" y="134"/>
                    </a:lnTo>
                    <a:lnTo>
                      <a:pt x="962" y="130"/>
                    </a:lnTo>
                    <a:lnTo>
                      <a:pt x="968" y="128"/>
                    </a:lnTo>
                    <a:lnTo>
                      <a:pt x="974" y="125"/>
                    </a:lnTo>
                    <a:lnTo>
                      <a:pt x="980" y="124"/>
                    </a:lnTo>
                    <a:lnTo>
                      <a:pt x="986" y="123"/>
                    </a:lnTo>
                    <a:lnTo>
                      <a:pt x="993" y="123"/>
                    </a:lnTo>
                    <a:lnTo>
                      <a:pt x="999" y="124"/>
                    </a:lnTo>
                    <a:lnTo>
                      <a:pt x="1005" y="124"/>
                    </a:lnTo>
                    <a:lnTo>
                      <a:pt x="1014" y="125"/>
                    </a:lnTo>
                    <a:lnTo>
                      <a:pt x="1021" y="128"/>
                    </a:lnTo>
                    <a:lnTo>
                      <a:pt x="1029" y="130"/>
                    </a:lnTo>
                    <a:lnTo>
                      <a:pt x="1036" y="132"/>
                    </a:lnTo>
                    <a:lnTo>
                      <a:pt x="1044" y="136"/>
                    </a:lnTo>
                    <a:lnTo>
                      <a:pt x="1052" y="138"/>
                    </a:lnTo>
                    <a:lnTo>
                      <a:pt x="1059" y="141"/>
                    </a:lnTo>
                    <a:lnTo>
                      <a:pt x="1068" y="143"/>
                    </a:lnTo>
                    <a:lnTo>
                      <a:pt x="1076" y="144"/>
                    </a:lnTo>
                    <a:lnTo>
                      <a:pt x="1086" y="147"/>
                    </a:lnTo>
                    <a:lnTo>
                      <a:pt x="1095" y="148"/>
                    </a:lnTo>
                    <a:lnTo>
                      <a:pt x="1105" y="149"/>
                    </a:lnTo>
                    <a:lnTo>
                      <a:pt x="1114" y="150"/>
                    </a:lnTo>
                    <a:lnTo>
                      <a:pt x="1124" y="152"/>
                    </a:lnTo>
                    <a:lnTo>
                      <a:pt x="1134" y="152"/>
                    </a:lnTo>
                    <a:lnTo>
                      <a:pt x="1143" y="153"/>
                    </a:lnTo>
                    <a:lnTo>
                      <a:pt x="1154" y="153"/>
                    </a:lnTo>
                    <a:lnTo>
                      <a:pt x="1165" y="153"/>
                    </a:lnTo>
                    <a:lnTo>
                      <a:pt x="1176" y="153"/>
                    </a:lnTo>
                    <a:lnTo>
                      <a:pt x="1186" y="153"/>
                    </a:lnTo>
                    <a:lnTo>
                      <a:pt x="1197" y="153"/>
                    </a:lnTo>
                    <a:lnTo>
                      <a:pt x="1208" y="153"/>
                    </a:lnTo>
                    <a:lnTo>
                      <a:pt x="1218" y="153"/>
                    </a:lnTo>
                    <a:lnTo>
                      <a:pt x="1228" y="153"/>
                    </a:lnTo>
                    <a:lnTo>
                      <a:pt x="1236" y="152"/>
                    </a:lnTo>
                    <a:lnTo>
                      <a:pt x="1243" y="150"/>
                    </a:lnTo>
                    <a:lnTo>
                      <a:pt x="1250" y="149"/>
                    </a:lnTo>
                    <a:lnTo>
                      <a:pt x="1257" y="148"/>
                    </a:lnTo>
                    <a:lnTo>
                      <a:pt x="1264" y="148"/>
                    </a:lnTo>
                    <a:lnTo>
                      <a:pt x="1272" y="147"/>
                    </a:lnTo>
                    <a:lnTo>
                      <a:pt x="1279" y="147"/>
                    </a:lnTo>
                    <a:lnTo>
                      <a:pt x="1286" y="148"/>
                    </a:lnTo>
                    <a:lnTo>
                      <a:pt x="1292" y="149"/>
                    </a:lnTo>
                    <a:lnTo>
                      <a:pt x="1298" y="150"/>
                    </a:lnTo>
                    <a:lnTo>
                      <a:pt x="1304" y="153"/>
                    </a:lnTo>
                    <a:lnTo>
                      <a:pt x="1310" y="156"/>
                    </a:lnTo>
                    <a:lnTo>
                      <a:pt x="1315" y="159"/>
                    </a:lnTo>
                    <a:lnTo>
                      <a:pt x="1320" y="162"/>
                    </a:lnTo>
                    <a:lnTo>
                      <a:pt x="1324" y="167"/>
                    </a:lnTo>
                    <a:lnTo>
                      <a:pt x="1329" y="172"/>
                    </a:lnTo>
                    <a:lnTo>
                      <a:pt x="1332" y="177"/>
                    </a:lnTo>
                    <a:lnTo>
                      <a:pt x="1335" y="182"/>
                    </a:lnTo>
                    <a:lnTo>
                      <a:pt x="1336" y="188"/>
                    </a:lnTo>
                    <a:lnTo>
                      <a:pt x="1339" y="194"/>
                    </a:lnTo>
                    <a:lnTo>
                      <a:pt x="1340" y="201"/>
                    </a:lnTo>
                    <a:lnTo>
                      <a:pt x="1341" y="207"/>
                    </a:lnTo>
                    <a:lnTo>
                      <a:pt x="1341" y="213"/>
                    </a:lnTo>
                    <a:lnTo>
                      <a:pt x="1344" y="219"/>
                    </a:lnTo>
                    <a:lnTo>
                      <a:pt x="1347" y="234"/>
                    </a:lnTo>
                    <a:lnTo>
                      <a:pt x="1351" y="251"/>
                    </a:lnTo>
                    <a:lnTo>
                      <a:pt x="1354" y="267"/>
                    </a:lnTo>
                    <a:lnTo>
                      <a:pt x="1359" y="282"/>
                    </a:lnTo>
                    <a:lnTo>
                      <a:pt x="1363" y="299"/>
                    </a:lnTo>
                    <a:lnTo>
                      <a:pt x="1366" y="315"/>
                    </a:lnTo>
                    <a:lnTo>
                      <a:pt x="1369" y="332"/>
                    </a:lnTo>
                    <a:lnTo>
                      <a:pt x="1371" y="347"/>
                    </a:lnTo>
                    <a:lnTo>
                      <a:pt x="1374" y="362"/>
                    </a:lnTo>
                    <a:lnTo>
                      <a:pt x="1375" y="377"/>
                    </a:lnTo>
                    <a:lnTo>
                      <a:pt x="1375" y="392"/>
                    </a:lnTo>
                    <a:lnTo>
                      <a:pt x="1375" y="407"/>
                    </a:lnTo>
                    <a:lnTo>
                      <a:pt x="1376" y="422"/>
                    </a:lnTo>
                    <a:lnTo>
                      <a:pt x="1377" y="437"/>
                    </a:lnTo>
                    <a:lnTo>
                      <a:pt x="1378" y="451"/>
                    </a:lnTo>
                    <a:lnTo>
                      <a:pt x="1381" y="466"/>
                    </a:lnTo>
                    <a:lnTo>
                      <a:pt x="1383" y="475"/>
                    </a:lnTo>
                    <a:lnTo>
                      <a:pt x="1386" y="485"/>
                    </a:lnTo>
                    <a:lnTo>
                      <a:pt x="1389" y="495"/>
                    </a:lnTo>
                    <a:lnTo>
                      <a:pt x="1393" y="504"/>
                    </a:lnTo>
                    <a:lnTo>
                      <a:pt x="1398" y="514"/>
                    </a:lnTo>
                    <a:lnTo>
                      <a:pt x="1402" y="522"/>
                    </a:lnTo>
                    <a:lnTo>
                      <a:pt x="1407" y="531"/>
                    </a:lnTo>
                    <a:lnTo>
                      <a:pt x="1414" y="538"/>
                    </a:lnTo>
                    <a:lnTo>
                      <a:pt x="1419" y="541"/>
                    </a:lnTo>
                    <a:lnTo>
                      <a:pt x="1425" y="544"/>
                    </a:lnTo>
                    <a:lnTo>
                      <a:pt x="1431" y="546"/>
                    </a:lnTo>
                    <a:lnTo>
                      <a:pt x="1437" y="547"/>
                    </a:lnTo>
                    <a:lnTo>
                      <a:pt x="1444" y="547"/>
                    </a:lnTo>
                    <a:lnTo>
                      <a:pt x="1450" y="546"/>
                    </a:lnTo>
                    <a:lnTo>
                      <a:pt x="1456" y="545"/>
                    </a:lnTo>
                    <a:lnTo>
                      <a:pt x="1462" y="543"/>
                    </a:lnTo>
                    <a:lnTo>
                      <a:pt x="1473" y="534"/>
                    </a:lnTo>
                    <a:lnTo>
                      <a:pt x="1483" y="525"/>
                    </a:lnTo>
                    <a:lnTo>
                      <a:pt x="1492" y="514"/>
                    </a:lnTo>
                    <a:lnTo>
                      <a:pt x="1501" y="503"/>
                    </a:lnTo>
                    <a:lnTo>
                      <a:pt x="1509" y="491"/>
                    </a:lnTo>
                    <a:lnTo>
                      <a:pt x="1518" y="479"/>
                    </a:lnTo>
                    <a:lnTo>
                      <a:pt x="1525" y="468"/>
                    </a:lnTo>
                    <a:lnTo>
                      <a:pt x="1533" y="456"/>
                    </a:lnTo>
                    <a:lnTo>
                      <a:pt x="1544" y="443"/>
                    </a:lnTo>
                    <a:lnTo>
                      <a:pt x="1554" y="429"/>
                    </a:lnTo>
                    <a:lnTo>
                      <a:pt x="1564" y="414"/>
                    </a:lnTo>
                    <a:lnTo>
                      <a:pt x="1574" y="400"/>
                    </a:lnTo>
                    <a:lnTo>
                      <a:pt x="1584" y="386"/>
                    </a:lnTo>
                    <a:lnTo>
                      <a:pt x="1593" y="371"/>
                    </a:lnTo>
                    <a:lnTo>
                      <a:pt x="1604" y="357"/>
                    </a:lnTo>
                    <a:lnTo>
                      <a:pt x="1615" y="342"/>
                    </a:lnTo>
                    <a:lnTo>
                      <a:pt x="1622" y="333"/>
                    </a:lnTo>
                    <a:lnTo>
                      <a:pt x="1630" y="322"/>
                    </a:lnTo>
                    <a:lnTo>
                      <a:pt x="1638" y="312"/>
                    </a:lnTo>
                    <a:lnTo>
                      <a:pt x="1646" y="303"/>
                    </a:lnTo>
                    <a:lnTo>
                      <a:pt x="1654" y="293"/>
                    </a:lnTo>
                    <a:lnTo>
                      <a:pt x="1663" y="284"/>
                    </a:lnTo>
                    <a:lnTo>
                      <a:pt x="1671" y="275"/>
                    </a:lnTo>
                    <a:lnTo>
                      <a:pt x="1681" y="267"/>
                    </a:lnTo>
                    <a:lnTo>
                      <a:pt x="1686" y="262"/>
                    </a:lnTo>
                    <a:lnTo>
                      <a:pt x="1692" y="257"/>
                    </a:lnTo>
                    <a:lnTo>
                      <a:pt x="1699" y="252"/>
                    </a:lnTo>
                    <a:lnTo>
                      <a:pt x="1705" y="248"/>
                    </a:lnTo>
                    <a:lnTo>
                      <a:pt x="1711" y="244"/>
                    </a:lnTo>
                    <a:lnTo>
                      <a:pt x="1717" y="243"/>
                    </a:lnTo>
                    <a:lnTo>
                      <a:pt x="1719" y="243"/>
                    </a:lnTo>
                    <a:lnTo>
                      <a:pt x="1722" y="244"/>
                    </a:lnTo>
                    <a:lnTo>
                      <a:pt x="1723" y="245"/>
                    </a:lnTo>
                    <a:lnTo>
                      <a:pt x="1724" y="248"/>
                    </a:lnTo>
                    <a:lnTo>
                      <a:pt x="1728" y="264"/>
                    </a:lnTo>
                    <a:lnTo>
                      <a:pt x="1731" y="281"/>
                    </a:lnTo>
                    <a:lnTo>
                      <a:pt x="1731" y="299"/>
                    </a:lnTo>
                    <a:lnTo>
                      <a:pt x="1731" y="316"/>
                    </a:lnTo>
                    <a:lnTo>
                      <a:pt x="1730" y="334"/>
                    </a:lnTo>
                    <a:lnTo>
                      <a:pt x="1726" y="351"/>
                    </a:lnTo>
                    <a:lnTo>
                      <a:pt x="1723" y="369"/>
                    </a:lnTo>
                    <a:lnTo>
                      <a:pt x="1719" y="386"/>
                    </a:lnTo>
                    <a:lnTo>
                      <a:pt x="1710" y="414"/>
                    </a:lnTo>
                    <a:lnTo>
                      <a:pt x="1700" y="444"/>
                    </a:lnTo>
                    <a:lnTo>
                      <a:pt x="1689" y="473"/>
                    </a:lnTo>
                    <a:lnTo>
                      <a:pt x="1677" y="502"/>
                    </a:lnTo>
                    <a:lnTo>
                      <a:pt x="1664" y="529"/>
                    </a:lnTo>
                    <a:lnTo>
                      <a:pt x="1651" y="557"/>
                    </a:lnTo>
                    <a:lnTo>
                      <a:pt x="1638" y="586"/>
                    </a:lnTo>
                    <a:lnTo>
                      <a:pt x="1624" y="613"/>
                    </a:lnTo>
                    <a:lnTo>
                      <a:pt x="1616" y="629"/>
                    </a:lnTo>
                    <a:lnTo>
                      <a:pt x="1609" y="645"/>
                    </a:lnTo>
                    <a:lnTo>
                      <a:pt x="1600" y="660"/>
                    </a:lnTo>
                    <a:lnTo>
                      <a:pt x="1592" y="675"/>
                    </a:lnTo>
                    <a:lnTo>
                      <a:pt x="1582" y="690"/>
                    </a:lnTo>
                    <a:lnTo>
                      <a:pt x="1573" y="705"/>
                    </a:lnTo>
                    <a:lnTo>
                      <a:pt x="1563" y="719"/>
                    </a:lnTo>
                    <a:lnTo>
                      <a:pt x="1552" y="732"/>
                    </a:lnTo>
                    <a:lnTo>
                      <a:pt x="1545" y="741"/>
                    </a:lnTo>
                    <a:lnTo>
                      <a:pt x="1537" y="748"/>
                    </a:lnTo>
                    <a:lnTo>
                      <a:pt x="1527" y="755"/>
                    </a:lnTo>
                    <a:lnTo>
                      <a:pt x="1518" y="762"/>
                    </a:lnTo>
                    <a:lnTo>
                      <a:pt x="1508" y="768"/>
                    </a:lnTo>
                    <a:lnTo>
                      <a:pt x="1500" y="775"/>
                    </a:lnTo>
                    <a:lnTo>
                      <a:pt x="1490" y="781"/>
                    </a:lnTo>
                    <a:lnTo>
                      <a:pt x="1482" y="790"/>
                    </a:lnTo>
                    <a:lnTo>
                      <a:pt x="1477" y="793"/>
                    </a:lnTo>
                    <a:lnTo>
                      <a:pt x="1472" y="797"/>
                    </a:lnTo>
                    <a:lnTo>
                      <a:pt x="1468" y="801"/>
                    </a:lnTo>
                    <a:lnTo>
                      <a:pt x="1464" y="804"/>
                    </a:lnTo>
                    <a:lnTo>
                      <a:pt x="1460" y="809"/>
                    </a:lnTo>
                    <a:lnTo>
                      <a:pt x="1456" y="813"/>
                    </a:lnTo>
                    <a:lnTo>
                      <a:pt x="1454" y="817"/>
                    </a:lnTo>
                    <a:lnTo>
                      <a:pt x="1453" y="822"/>
                    </a:lnTo>
                    <a:lnTo>
                      <a:pt x="1452" y="829"/>
                    </a:lnTo>
                    <a:lnTo>
                      <a:pt x="1450" y="835"/>
                    </a:lnTo>
                    <a:lnTo>
                      <a:pt x="1450" y="843"/>
                    </a:lnTo>
                    <a:lnTo>
                      <a:pt x="1450" y="849"/>
                    </a:lnTo>
                    <a:lnTo>
                      <a:pt x="1452" y="856"/>
                    </a:lnTo>
                    <a:lnTo>
                      <a:pt x="1454" y="862"/>
                    </a:lnTo>
                    <a:lnTo>
                      <a:pt x="1458" y="867"/>
                    </a:lnTo>
                    <a:lnTo>
                      <a:pt x="1462" y="870"/>
                    </a:lnTo>
                    <a:lnTo>
                      <a:pt x="1472" y="875"/>
                    </a:lnTo>
                    <a:lnTo>
                      <a:pt x="1482" y="880"/>
                    </a:lnTo>
                    <a:lnTo>
                      <a:pt x="1492" y="883"/>
                    </a:lnTo>
                    <a:lnTo>
                      <a:pt x="1503" y="885"/>
                    </a:lnTo>
                    <a:lnTo>
                      <a:pt x="1514" y="886"/>
                    </a:lnTo>
                    <a:lnTo>
                      <a:pt x="1526" y="887"/>
                    </a:lnTo>
                    <a:lnTo>
                      <a:pt x="1537" y="886"/>
                    </a:lnTo>
                    <a:lnTo>
                      <a:pt x="1548" y="885"/>
                    </a:lnTo>
                    <a:lnTo>
                      <a:pt x="1560" y="882"/>
                    </a:lnTo>
                    <a:lnTo>
                      <a:pt x="1572" y="879"/>
                    </a:lnTo>
                    <a:lnTo>
                      <a:pt x="1582" y="875"/>
                    </a:lnTo>
                    <a:lnTo>
                      <a:pt x="1594" y="870"/>
                    </a:lnTo>
                    <a:lnTo>
                      <a:pt x="1605" y="864"/>
                    </a:lnTo>
                    <a:lnTo>
                      <a:pt x="1615" y="857"/>
                    </a:lnTo>
                    <a:lnTo>
                      <a:pt x="1624" y="850"/>
                    </a:lnTo>
                    <a:lnTo>
                      <a:pt x="1633" y="841"/>
                    </a:lnTo>
                    <a:lnTo>
                      <a:pt x="1647" y="825"/>
                    </a:lnTo>
                    <a:lnTo>
                      <a:pt x="1660" y="805"/>
                    </a:lnTo>
                    <a:lnTo>
                      <a:pt x="1671" y="786"/>
                    </a:lnTo>
                    <a:lnTo>
                      <a:pt x="1682" y="767"/>
                    </a:lnTo>
                    <a:lnTo>
                      <a:pt x="1693" y="747"/>
                    </a:lnTo>
                    <a:lnTo>
                      <a:pt x="1704" y="727"/>
                    </a:lnTo>
                    <a:lnTo>
                      <a:pt x="1716" y="708"/>
                    </a:lnTo>
                    <a:lnTo>
                      <a:pt x="1729" y="689"/>
                    </a:lnTo>
                    <a:lnTo>
                      <a:pt x="1738" y="677"/>
                    </a:lnTo>
                    <a:lnTo>
                      <a:pt x="1749" y="666"/>
                    </a:lnTo>
                    <a:lnTo>
                      <a:pt x="1760" y="654"/>
                    </a:lnTo>
                    <a:lnTo>
                      <a:pt x="1771" y="643"/>
                    </a:lnTo>
                    <a:lnTo>
                      <a:pt x="1782" y="633"/>
                    </a:lnTo>
                    <a:lnTo>
                      <a:pt x="1794" y="623"/>
                    </a:lnTo>
                    <a:lnTo>
                      <a:pt x="1807" y="613"/>
                    </a:lnTo>
                    <a:lnTo>
                      <a:pt x="1819" y="604"/>
                    </a:lnTo>
                    <a:lnTo>
                      <a:pt x="1827" y="598"/>
                    </a:lnTo>
                    <a:lnTo>
                      <a:pt x="1836" y="593"/>
                    </a:lnTo>
                    <a:lnTo>
                      <a:pt x="1844" y="588"/>
                    </a:lnTo>
                    <a:lnTo>
                      <a:pt x="1852" y="583"/>
                    </a:lnTo>
                    <a:lnTo>
                      <a:pt x="1862" y="580"/>
                    </a:lnTo>
                    <a:lnTo>
                      <a:pt x="1872" y="576"/>
                    </a:lnTo>
                    <a:lnTo>
                      <a:pt x="1881" y="575"/>
                    </a:lnTo>
                    <a:lnTo>
                      <a:pt x="1891" y="575"/>
                    </a:lnTo>
                    <a:lnTo>
                      <a:pt x="1899" y="577"/>
                    </a:lnTo>
                    <a:lnTo>
                      <a:pt x="1908" y="581"/>
                    </a:lnTo>
                    <a:lnTo>
                      <a:pt x="1916" y="586"/>
                    </a:lnTo>
                    <a:lnTo>
                      <a:pt x="1924" y="591"/>
                    </a:lnTo>
                    <a:lnTo>
                      <a:pt x="1932" y="598"/>
                    </a:lnTo>
                    <a:lnTo>
                      <a:pt x="1939" y="604"/>
                    </a:lnTo>
                    <a:lnTo>
                      <a:pt x="1946" y="611"/>
                    </a:lnTo>
                    <a:lnTo>
                      <a:pt x="1952" y="618"/>
                    </a:lnTo>
                    <a:lnTo>
                      <a:pt x="1959" y="625"/>
                    </a:lnTo>
                    <a:lnTo>
                      <a:pt x="1965" y="634"/>
                    </a:lnTo>
                    <a:lnTo>
                      <a:pt x="1970" y="642"/>
                    </a:lnTo>
                    <a:lnTo>
                      <a:pt x="1975" y="651"/>
                    </a:lnTo>
                    <a:lnTo>
                      <a:pt x="1981" y="659"/>
                    </a:lnTo>
                    <a:lnTo>
                      <a:pt x="1986" y="667"/>
                    </a:lnTo>
                    <a:lnTo>
                      <a:pt x="1990" y="676"/>
                    </a:lnTo>
                    <a:lnTo>
                      <a:pt x="1995" y="684"/>
                    </a:lnTo>
                    <a:lnTo>
                      <a:pt x="2002" y="697"/>
                    </a:lnTo>
                    <a:lnTo>
                      <a:pt x="2011" y="709"/>
                    </a:lnTo>
                    <a:lnTo>
                      <a:pt x="2018" y="721"/>
                    </a:lnTo>
                    <a:lnTo>
                      <a:pt x="2025" y="733"/>
                    </a:lnTo>
                    <a:lnTo>
                      <a:pt x="2032" y="747"/>
                    </a:lnTo>
                    <a:lnTo>
                      <a:pt x="2040" y="759"/>
                    </a:lnTo>
                    <a:lnTo>
                      <a:pt x="2047" y="772"/>
                    </a:lnTo>
                    <a:lnTo>
                      <a:pt x="2052" y="785"/>
                    </a:lnTo>
                    <a:lnTo>
                      <a:pt x="2055" y="792"/>
                    </a:lnTo>
                    <a:lnTo>
                      <a:pt x="2058" y="801"/>
                    </a:lnTo>
                    <a:lnTo>
                      <a:pt x="2060" y="809"/>
                    </a:lnTo>
                    <a:lnTo>
                      <a:pt x="2061" y="817"/>
                    </a:lnTo>
                    <a:lnTo>
                      <a:pt x="2062" y="826"/>
                    </a:lnTo>
                    <a:lnTo>
                      <a:pt x="2064" y="834"/>
                    </a:lnTo>
                    <a:lnTo>
                      <a:pt x="2062" y="843"/>
                    </a:lnTo>
                    <a:lnTo>
                      <a:pt x="2061" y="851"/>
                    </a:lnTo>
                    <a:lnTo>
                      <a:pt x="2060" y="857"/>
                    </a:lnTo>
                    <a:lnTo>
                      <a:pt x="2058" y="862"/>
                    </a:lnTo>
                    <a:lnTo>
                      <a:pt x="2055" y="868"/>
                    </a:lnTo>
                    <a:lnTo>
                      <a:pt x="2052" y="873"/>
                    </a:lnTo>
                    <a:lnTo>
                      <a:pt x="2048" y="877"/>
                    </a:lnTo>
                    <a:lnTo>
                      <a:pt x="2043" y="881"/>
                    </a:lnTo>
                    <a:lnTo>
                      <a:pt x="2038" y="883"/>
                    </a:lnTo>
                    <a:lnTo>
                      <a:pt x="2034" y="885"/>
                    </a:lnTo>
                    <a:lnTo>
                      <a:pt x="2024" y="885"/>
                    </a:lnTo>
                    <a:lnTo>
                      <a:pt x="2016" y="882"/>
                    </a:lnTo>
                    <a:lnTo>
                      <a:pt x="2008" y="880"/>
                    </a:lnTo>
                    <a:lnTo>
                      <a:pt x="2000" y="876"/>
                    </a:lnTo>
                    <a:lnTo>
                      <a:pt x="1992" y="871"/>
                    </a:lnTo>
                    <a:lnTo>
                      <a:pt x="1984" y="867"/>
                    </a:lnTo>
                    <a:lnTo>
                      <a:pt x="1977" y="862"/>
                    </a:lnTo>
                    <a:lnTo>
                      <a:pt x="1971" y="856"/>
                    </a:lnTo>
                    <a:lnTo>
                      <a:pt x="1963" y="847"/>
                    </a:lnTo>
                    <a:lnTo>
                      <a:pt x="1954" y="838"/>
                    </a:lnTo>
                    <a:lnTo>
                      <a:pt x="1947" y="827"/>
                    </a:lnTo>
                    <a:lnTo>
                      <a:pt x="1941" y="817"/>
                    </a:lnTo>
                    <a:lnTo>
                      <a:pt x="1934" y="807"/>
                    </a:lnTo>
                    <a:lnTo>
                      <a:pt x="1928" y="796"/>
                    </a:lnTo>
                    <a:lnTo>
                      <a:pt x="1921" y="785"/>
                    </a:lnTo>
                    <a:lnTo>
                      <a:pt x="1914" y="775"/>
                    </a:lnTo>
                    <a:lnTo>
                      <a:pt x="1910" y="769"/>
                    </a:lnTo>
                    <a:lnTo>
                      <a:pt x="1905" y="762"/>
                    </a:lnTo>
                    <a:lnTo>
                      <a:pt x="1900" y="756"/>
                    </a:lnTo>
                    <a:lnTo>
                      <a:pt x="1897" y="750"/>
                    </a:lnTo>
                    <a:lnTo>
                      <a:pt x="1892" y="744"/>
                    </a:lnTo>
                    <a:lnTo>
                      <a:pt x="1887" y="738"/>
                    </a:lnTo>
                    <a:lnTo>
                      <a:pt x="1882" y="732"/>
                    </a:lnTo>
                    <a:lnTo>
                      <a:pt x="1876" y="727"/>
                    </a:lnTo>
                    <a:lnTo>
                      <a:pt x="1874" y="726"/>
                    </a:lnTo>
                    <a:lnTo>
                      <a:pt x="1870" y="725"/>
                    </a:lnTo>
                    <a:lnTo>
                      <a:pt x="1867" y="724"/>
                    </a:lnTo>
                    <a:lnTo>
                      <a:pt x="1863" y="724"/>
                    </a:lnTo>
                    <a:lnTo>
                      <a:pt x="1860" y="724"/>
                    </a:lnTo>
                    <a:lnTo>
                      <a:pt x="1857" y="724"/>
                    </a:lnTo>
                    <a:lnTo>
                      <a:pt x="1855" y="725"/>
                    </a:lnTo>
                    <a:lnTo>
                      <a:pt x="1852" y="727"/>
                    </a:lnTo>
                    <a:lnTo>
                      <a:pt x="1844" y="741"/>
                    </a:lnTo>
                    <a:lnTo>
                      <a:pt x="1836" y="754"/>
                    </a:lnTo>
                    <a:lnTo>
                      <a:pt x="1830" y="767"/>
                    </a:lnTo>
                    <a:lnTo>
                      <a:pt x="1822" y="781"/>
                    </a:lnTo>
                    <a:lnTo>
                      <a:pt x="1816" y="796"/>
                    </a:lnTo>
                    <a:lnTo>
                      <a:pt x="1809" y="809"/>
                    </a:lnTo>
                    <a:lnTo>
                      <a:pt x="1803" y="823"/>
                    </a:lnTo>
                    <a:lnTo>
                      <a:pt x="1795" y="837"/>
                    </a:lnTo>
                    <a:lnTo>
                      <a:pt x="1786" y="851"/>
                    </a:lnTo>
                    <a:lnTo>
                      <a:pt x="1779" y="864"/>
                    </a:lnTo>
                    <a:lnTo>
                      <a:pt x="1770" y="877"/>
                    </a:lnTo>
                    <a:lnTo>
                      <a:pt x="1761" y="891"/>
                    </a:lnTo>
                    <a:lnTo>
                      <a:pt x="1753" y="904"/>
                    </a:lnTo>
                    <a:lnTo>
                      <a:pt x="1743" y="917"/>
                    </a:lnTo>
                    <a:lnTo>
                      <a:pt x="1734" y="929"/>
                    </a:lnTo>
                    <a:lnTo>
                      <a:pt x="1724" y="941"/>
                    </a:lnTo>
                    <a:lnTo>
                      <a:pt x="1714" y="953"/>
                    </a:lnTo>
                    <a:lnTo>
                      <a:pt x="1704" y="964"/>
                    </a:lnTo>
                    <a:lnTo>
                      <a:pt x="1694" y="973"/>
                    </a:lnTo>
                    <a:lnTo>
                      <a:pt x="1683" y="984"/>
                    </a:lnTo>
                    <a:lnTo>
                      <a:pt x="1672" y="994"/>
                    </a:lnTo>
                    <a:lnTo>
                      <a:pt x="1660" y="1003"/>
                    </a:lnTo>
                    <a:lnTo>
                      <a:pt x="1650" y="1013"/>
                    </a:lnTo>
                    <a:lnTo>
                      <a:pt x="1638" y="1023"/>
                    </a:lnTo>
                    <a:lnTo>
                      <a:pt x="1630" y="1029"/>
                    </a:lnTo>
                    <a:lnTo>
                      <a:pt x="1621" y="1035"/>
                    </a:lnTo>
                    <a:lnTo>
                      <a:pt x="1612" y="1041"/>
                    </a:lnTo>
                    <a:lnTo>
                      <a:pt x="1604" y="1047"/>
                    </a:lnTo>
                    <a:lnTo>
                      <a:pt x="1594" y="1051"/>
                    </a:lnTo>
                    <a:lnTo>
                      <a:pt x="1586" y="1056"/>
                    </a:lnTo>
                    <a:lnTo>
                      <a:pt x="1576" y="1061"/>
                    </a:lnTo>
                    <a:lnTo>
                      <a:pt x="1567" y="1065"/>
                    </a:lnTo>
                    <a:lnTo>
                      <a:pt x="1558" y="1068"/>
                    </a:lnTo>
                    <a:lnTo>
                      <a:pt x="1549" y="1071"/>
                    </a:lnTo>
                    <a:lnTo>
                      <a:pt x="1540" y="1072"/>
                    </a:lnTo>
                    <a:lnTo>
                      <a:pt x="1531" y="1073"/>
                    </a:lnTo>
                    <a:lnTo>
                      <a:pt x="1522" y="1074"/>
                    </a:lnTo>
                    <a:lnTo>
                      <a:pt x="1513" y="1075"/>
                    </a:lnTo>
                    <a:lnTo>
                      <a:pt x="1504" y="1077"/>
                    </a:lnTo>
                    <a:lnTo>
                      <a:pt x="1495" y="1079"/>
                    </a:lnTo>
                    <a:lnTo>
                      <a:pt x="1490" y="1081"/>
                    </a:lnTo>
                    <a:lnTo>
                      <a:pt x="1483" y="1083"/>
                    </a:lnTo>
                    <a:lnTo>
                      <a:pt x="1477" y="1084"/>
                    </a:lnTo>
                    <a:lnTo>
                      <a:pt x="1471" y="1085"/>
                    </a:lnTo>
                    <a:lnTo>
                      <a:pt x="1465" y="1087"/>
                    </a:lnTo>
                    <a:lnTo>
                      <a:pt x="1460" y="1090"/>
                    </a:lnTo>
                    <a:lnTo>
                      <a:pt x="1456" y="1093"/>
                    </a:lnTo>
                    <a:lnTo>
                      <a:pt x="1453" y="1098"/>
                    </a:lnTo>
                    <a:lnTo>
                      <a:pt x="1452" y="1103"/>
                    </a:lnTo>
                    <a:lnTo>
                      <a:pt x="1452" y="1107"/>
                    </a:lnTo>
                    <a:lnTo>
                      <a:pt x="1453" y="1111"/>
                    </a:lnTo>
                    <a:lnTo>
                      <a:pt x="1454" y="1116"/>
                    </a:lnTo>
                    <a:lnTo>
                      <a:pt x="1456" y="1120"/>
                    </a:lnTo>
                    <a:lnTo>
                      <a:pt x="1460" y="1125"/>
                    </a:lnTo>
                    <a:lnTo>
                      <a:pt x="1464" y="1128"/>
                    </a:lnTo>
                    <a:lnTo>
                      <a:pt x="1467" y="1132"/>
                    </a:lnTo>
                    <a:lnTo>
                      <a:pt x="1474" y="1138"/>
                    </a:lnTo>
                    <a:lnTo>
                      <a:pt x="1483" y="1144"/>
                    </a:lnTo>
                    <a:lnTo>
                      <a:pt x="1491" y="1150"/>
                    </a:lnTo>
                    <a:lnTo>
                      <a:pt x="1501" y="1155"/>
                    </a:lnTo>
                    <a:lnTo>
                      <a:pt x="1510" y="1159"/>
                    </a:lnTo>
                    <a:lnTo>
                      <a:pt x="1519" y="1165"/>
                    </a:lnTo>
                    <a:lnTo>
                      <a:pt x="1526" y="1171"/>
                    </a:lnTo>
                    <a:lnTo>
                      <a:pt x="1533" y="1180"/>
                    </a:lnTo>
                    <a:lnTo>
                      <a:pt x="1540" y="1188"/>
                    </a:lnTo>
                    <a:lnTo>
                      <a:pt x="1546" y="1199"/>
                    </a:lnTo>
                    <a:lnTo>
                      <a:pt x="1552" y="1210"/>
                    </a:lnTo>
                    <a:lnTo>
                      <a:pt x="1557" y="1220"/>
                    </a:lnTo>
                    <a:lnTo>
                      <a:pt x="1562" y="1231"/>
                    </a:lnTo>
                    <a:lnTo>
                      <a:pt x="1567" y="1243"/>
                    </a:lnTo>
                    <a:lnTo>
                      <a:pt x="1572" y="1254"/>
                    </a:lnTo>
                    <a:lnTo>
                      <a:pt x="1576" y="1265"/>
                    </a:lnTo>
                    <a:lnTo>
                      <a:pt x="1582" y="1279"/>
                    </a:lnTo>
                    <a:lnTo>
                      <a:pt x="1590" y="1295"/>
                    </a:lnTo>
                    <a:lnTo>
                      <a:pt x="1594" y="1312"/>
                    </a:lnTo>
                    <a:lnTo>
                      <a:pt x="1600" y="1327"/>
                    </a:lnTo>
                    <a:lnTo>
                      <a:pt x="1608" y="1343"/>
                    </a:lnTo>
                    <a:lnTo>
                      <a:pt x="1615" y="1357"/>
                    </a:lnTo>
                    <a:lnTo>
                      <a:pt x="1623" y="1370"/>
                    </a:lnTo>
                    <a:lnTo>
                      <a:pt x="1633" y="1384"/>
                    </a:lnTo>
                    <a:lnTo>
                      <a:pt x="1646" y="1396"/>
                    </a:lnTo>
                    <a:lnTo>
                      <a:pt x="1660" y="1406"/>
                    </a:lnTo>
                    <a:lnTo>
                      <a:pt x="1676" y="1416"/>
                    </a:lnTo>
                    <a:lnTo>
                      <a:pt x="1692" y="1424"/>
                    </a:lnTo>
                    <a:lnTo>
                      <a:pt x="1708" y="1432"/>
                    </a:lnTo>
                    <a:lnTo>
                      <a:pt x="1724" y="1440"/>
                    </a:lnTo>
                    <a:lnTo>
                      <a:pt x="1741" y="1447"/>
                    </a:lnTo>
                    <a:lnTo>
                      <a:pt x="1758" y="1454"/>
                    </a:lnTo>
                    <a:lnTo>
                      <a:pt x="1768" y="1460"/>
                    </a:lnTo>
                    <a:lnTo>
                      <a:pt x="1780" y="1465"/>
                    </a:lnTo>
                    <a:lnTo>
                      <a:pt x="1792" y="1469"/>
                    </a:lnTo>
                    <a:lnTo>
                      <a:pt x="1806" y="1474"/>
                    </a:lnTo>
                    <a:lnTo>
                      <a:pt x="1818" y="1477"/>
                    </a:lnTo>
                    <a:lnTo>
                      <a:pt x="1830" y="1482"/>
                    </a:lnTo>
                    <a:lnTo>
                      <a:pt x="1840" y="1487"/>
                    </a:lnTo>
                    <a:lnTo>
                      <a:pt x="1852" y="1493"/>
                    </a:lnTo>
                    <a:lnTo>
                      <a:pt x="1857" y="1496"/>
                    </a:lnTo>
                    <a:lnTo>
                      <a:pt x="1863" y="1500"/>
                    </a:lnTo>
                    <a:lnTo>
                      <a:pt x="1868" y="1505"/>
                    </a:lnTo>
                    <a:lnTo>
                      <a:pt x="1873" y="1508"/>
                    </a:lnTo>
                    <a:lnTo>
                      <a:pt x="1878" y="1514"/>
                    </a:lnTo>
                    <a:lnTo>
                      <a:pt x="1881" y="1519"/>
                    </a:lnTo>
                    <a:lnTo>
                      <a:pt x="1884" y="1525"/>
                    </a:lnTo>
                    <a:lnTo>
                      <a:pt x="1886" y="1531"/>
                    </a:lnTo>
                    <a:lnTo>
                      <a:pt x="1887" y="1538"/>
                    </a:lnTo>
                    <a:lnTo>
                      <a:pt x="1888" y="1547"/>
                    </a:lnTo>
                    <a:lnTo>
                      <a:pt x="1890" y="1555"/>
                    </a:lnTo>
                    <a:lnTo>
                      <a:pt x="1890" y="1564"/>
                    </a:lnTo>
                    <a:lnTo>
                      <a:pt x="1888" y="1572"/>
                    </a:lnTo>
                    <a:lnTo>
                      <a:pt x="1886" y="1579"/>
                    </a:lnTo>
                    <a:lnTo>
                      <a:pt x="1884" y="1582"/>
                    </a:lnTo>
                    <a:lnTo>
                      <a:pt x="1882" y="1584"/>
                    </a:lnTo>
                    <a:lnTo>
                      <a:pt x="1879" y="1586"/>
                    </a:lnTo>
                    <a:lnTo>
                      <a:pt x="1876" y="1588"/>
                    </a:lnTo>
                    <a:lnTo>
                      <a:pt x="1864" y="1591"/>
                    </a:lnTo>
                    <a:lnTo>
                      <a:pt x="1851" y="1592"/>
                    </a:lnTo>
                    <a:lnTo>
                      <a:pt x="1839" y="1591"/>
                    </a:lnTo>
                    <a:lnTo>
                      <a:pt x="1826" y="1589"/>
                    </a:lnTo>
                    <a:lnTo>
                      <a:pt x="1814" y="1585"/>
                    </a:lnTo>
                    <a:lnTo>
                      <a:pt x="1801" y="1582"/>
                    </a:lnTo>
                    <a:lnTo>
                      <a:pt x="1789" y="1577"/>
                    </a:lnTo>
                    <a:lnTo>
                      <a:pt x="1776" y="1573"/>
                    </a:lnTo>
                    <a:lnTo>
                      <a:pt x="1762" y="1570"/>
                    </a:lnTo>
                    <a:lnTo>
                      <a:pt x="1749" y="1565"/>
                    </a:lnTo>
                    <a:lnTo>
                      <a:pt x="1736" y="1560"/>
                    </a:lnTo>
                    <a:lnTo>
                      <a:pt x="1723" y="1554"/>
                    </a:lnTo>
                    <a:lnTo>
                      <a:pt x="1710" y="1548"/>
                    </a:lnTo>
                    <a:lnTo>
                      <a:pt x="1698" y="1542"/>
                    </a:lnTo>
                    <a:lnTo>
                      <a:pt x="1684" y="1537"/>
                    </a:lnTo>
                    <a:lnTo>
                      <a:pt x="1671" y="1531"/>
                    </a:lnTo>
                    <a:lnTo>
                      <a:pt x="1656" y="1524"/>
                    </a:lnTo>
                    <a:lnTo>
                      <a:pt x="1640" y="1518"/>
                    </a:lnTo>
                    <a:lnTo>
                      <a:pt x="1623" y="1512"/>
                    </a:lnTo>
                    <a:lnTo>
                      <a:pt x="1608" y="1506"/>
                    </a:lnTo>
                    <a:lnTo>
                      <a:pt x="1592" y="1499"/>
                    </a:lnTo>
                    <a:lnTo>
                      <a:pt x="1576" y="1492"/>
                    </a:lnTo>
                    <a:lnTo>
                      <a:pt x="1562" y="1483"/>
                    </a:lnTo>
                    <a:lnTo>
                      <a:pt x="1548" y="1474"/>
                    </a:lnTo>
                    <a:lnTo>
                      <a:pt x="1537" y="1465"/>
                    </a:lnTo>
                    <a:lnTo>
                      <a:pt x="1527" y="1457"/>
                    </a:lnTo>
                    <a:lnTo>
                      <a:pt x="1519" y="1447"/>
                    </a:lnTo>
                    <a:lnTo>
                      <a:pt x="1509" y="1438"/>
                    </a:lnTo>
                    <a:lnTo>
                      <a:pt x="1502" y="1427"/>
                    </a:lnTo>
                    <a:lnTo>
                      <a:pt x="1494" y="1416"/>
                    </a:lnTo>
                    <a:lnTo>
                      <a:pt x="1488" y="1404"/>
                    </a:lnTo>
                    <a:lnTo>
                      <a:pt x="1482" y="1393"/>
                    </a:lnTo>
                    <a:lnTo>
                      <a:pt x="1478" y="1385"/>
                    </a:lnTo>
                    <a:lnTo>
                      <a:pt x="1476" y="1376"/>
                    </a:lnTo>
                    <a:lnTo>
                      <a:pt x="1476" y="1367"/>
                    </a:lnTo>
                    <a:lnTo>
                      <a:pt x="1476" y="1358"/>
                    </a:lnTo>
                    <a:lnTo>
                      <a:pt x="1476" y="1349"/>
                    </a:lnTo>
                    <a:lnTo>
                      <a:pt x="1474" y="1339"/>
                    </a:lnTo>
                    <a:lnTo>
                      <a:pt x="1473" y="1331"/>
                    </a:lnTo>
                    <a:lnTo>
                      <a:pt x="1472" y="1321"/>
                    </a:lnTo>
                    <a:lnTo>
                      <a:pt x="1468" y="1314"/>
                    </a:lnTo>
                    <a:lnTo>
                      <a:pt x="1466" y="1306"/>
                    </a:lnTo>
                    <a:lnTo>
                      <a:pt x="1462" y="1298"/>
                    </a:lnTo>
                    <a:lnTo>
                      <a:pt x="1459" y="1290"/>
                    </a:lnTo>
                    <a:lnTo>
                      <a:pt x="1454" y="1283"/>
                    </a:lnTo>
                    <a:lnTo>
                      <a:pt x="1449" y="1277"/>
                    </a:lnTo>
                    <a:lnTo>
                      <a:pt x="1444" y="1270"/>
                    </a:lnTo>
                    <a:lnTo>
                      <a:pt x="1438" y="1265"/>
                    </a:lnTo>
                    <a:lnTo>
                      <a:pt x="1434" y="1262"/>
                    </a:lnTo>
                    <a:lnTo>
                      <a:pt x="1429" y="1260"/>
                    </a:lnTo>
                    <a:lnTo>
                      <a:pt x="1424" y="1259"/>
                    </a:lnTo>
                    <a:lnTo>
                      <a:pt x="1419" y="1259"/>
                    </a:lnTo>
                    <a:lnTo>
                      <a:pt x="1413" y="1259"/>
                    </a:lnTo>
                    <a:lnTo>
                      <a:pt x="1408" y="1260"/>
                    </a:lnTo>
                    <a:lnTo>
                      <a:pt x="1404" y="1261"/>
                    </a:lnTo>
                    <a:lnTo>
                      <a:pt x="1400" y="1265"/>
                    </a:lnTo>
                    <a:lnTo>
                      <a:pt x="1395" y="1271"/>
                    </a:lnTo>
                    <a:lnTo>
                      <a:pt x="1392" y="1277"/>
                    </a:lnTo>
                    <a:lnTo>
                      <a:pt x="1388" y="1284"/>
                    </a:lnTo>
                    <a:lnTo>
                      <a:pt x="1386" y="1291"/>
                    </a:lnTo>
                    <a:lnTo>
                      <a:pt x="1384" y="1298"/>
                    </a:lnTo>
                    <a:lnTo>
                      <a:pt x="1383" y="1307"/>
                    </a:lnTo>
                    <a:lnTo>
                      <a:pt x="1382" y="1314"/>
                    </a:lnTo>
                    <a:lnTo>
                      <a:pt x="1381" y="1321"/>
                    </a:lnTo>
                    <a:lnTo>
                      <a:pt x="1380" y="1338"/>
                    </a:lnTo>
                    <a:lnTo>
                      <a:pt x="1380" y="1354"/>
                    </a:lnTo>
                    <a:lnTo>
                      <a:pt x="1378" y="1369"/>
                    </a:lnTo>
                    <a:lnTo>
                      <a:pt x="1380" y="1386"/>
                    </a:lnTo>
                    <a:lnTo>
                      <a:pt x="1380" y="1402"/>
                    </a:lnTo>
                    <a:lnTo>
                      <a:pt x="1380" y="1418"/>
                    </a:lnTo>
                    <a:lnTo>
                      <a:pt x="1381" y="1434"/>
                    </a:lnTo>
                    <a:lnTo>
                      <a:pt x="1381" y="1450"/>
                    </a:lnTo>
                    <a:lnTo>
                      <a:pt x="1382" y="1463"/>
                    </a:lnTo>
                    <a:lnTo>
                      <a:pt x="1383" y="1475"/>
                    </a:lnTo>
                    <a:lnTo>
                      <a:pt x="1384" y="1488"/>
                    </a:lnTo>
                    <a:lnTo>
                      <a:pt x="1386" y="1500"/>
                    </a:lnTo>
                    <a:lnTo>
                      <a:pt x="1387" y="1512"/>
                    </a:lnTo>
                    <a:lnTo>
                      <a:pt x="1387" y="1525"/>
                    </a:lnTo>
                    <a:lnTo>
                      <a:pt x="1387" y="1537"/>
                    </a:lnTo>
                    <a:lnTo>
                      <a:pt x="1386" y="1550"/>
                    </a:lnTo>
                    <a:lnTo>
                      <a:pt x="1384" y="1559"/>
                    </a:lnTo>
                    <a:lnTo>
                      <a:pt x="1381" y="1568"/>
                    </a:lnTo>
                    <a:lnTo>
                      <a:pt x="1377" y="1577"/>
                    </a:lnTo>
                    <a:lnTo>
                      <a:pt x="1374" y="1586"/>
                    </a:lnTo>
                    <a:lnTo>
                      <a:pt x="1370" y="1595"/>
                    </a:lnTo>
                    <a:lnTo>
                      <a:pt x="1365" y="1603"/>
                    </a:lnTo>
                    <a:lnTo>
                      <a:pt x="1362" y="1613"/>
                    </a:lnTo>
                    <a:lnTo>
                      <a:pt x="1357" y="1621"/>
                    </a:lnTo>
                    <a:lnTo>
                      <a:pt x="1353" y="1632"/>
                    </a:lnTo>
                    <a:lnTo>
                      <a:pt x="1350" y="1643"/>
                    </a:lnTo>
                    <a:lnTo>
                      <a:pt x="1346" y="1654"/>
                    </a:lnTo>
                    <a:lnTo>
                      <a:pt x="1342" y="1666"/>
                    </a:lnTo>
                    <a:lnTo>
                      <a:pt x="1339" y="1676"/>
                    </a:lnTo>
                    <a:lnTo>
                      <a:pt x="1335" y="1687"/>
                    </a:lnTo>
                    <a:lnTo>
                      <a:pt x="1330" y="1697"/>
                    </a:lnTo>
                    <a:lnTo>
                      <a:pt x="1324" y="1706"/>
                    </a:lnTo>
                    <a:lnTo>
                      <a:pt x="1318" y="1715"/>
                    </a:lnTo>
                    <a:lnTo>
                      <a:pt x="1311" y="1722"/>
                    </a:lnTo>
                    <a:lnTo>
                      <a:pt x="1304" y="1729"/>
                    </a:lnTo>
                    <a:lnTo>
                      <a:pt x="1296" y="1736"/>
                    </a:lnTo>
                    <a:lnTo>
                      <a:pt x="1288" y="1742"/>
                    </a:lnTo>
                    <a:lnTo>
                      <a:pt x="1280" y="1748"/>
                    </a:lnTo>
                    <a:lnTo>
                      <a:pt x="1270" y="1753"/>
                    </a:lnTo>
                    <a:lnTo>
                      <a:pt x="1262" y="1759"/>
                    </a:lnTo>
                    <a:lnTo>
                      <a:pt x="1257" y="1763"/>
                    </a:lnTo>
                    <a:lnTo>
                      <a:pt x="1251" y="1766"/>
                    </a:lnTo>
                    <a:lnTo>
                      <a:pt x="1244" y="1770"/>
                    </a:lnTo>
                    <a:lnTo>
                      <a:pt x="1238" y="1772"/>
                    </a:lnTo>
                    <a:lnTo>
                      <a:pt x="1232" y="1775"/>
                    </a:lnTo>
                    <a:lnTo>
                      <a:pt x="1226" y="1776"/>
                    </a:lnTo>
                    <a:lnTo>
                      <a:pt x="1220" y="1776"/>
                    </a:lnTo>
                    <a:lnTo>
                      <a:pt x="1214" y="1774"/>
                    </a:lnTo>
                    <a:lnTo>
                      <a:pt x="1208" y="1768"/>
                    </a:lnTo>
                    <a:lnTo>
                      <a:pt x="1203" y="1762"/>
                    </a:lnTo>
                    <a:lnTo>
                      <a:pt x="1198" y="1754"/>
                    </a:lnTo>
                    <a:lnTo>
                      <a:pt x="1196" y="1746"/>
                    </a:lnTo>
                    <a:lnTo>
                      <a:pt x="1194" y="1738"/>
                    </a:lnTo>
                    <a:lnTo>
                      <a:pt x="1192" y="1729"/>
                    </a:lnTo>
                    <a:lnTo>
                      <a:pt x="1191" y="1720"/>
                    </a:lnTo>
                    <a:lnTo>
                      <a:pt x="1191" y="1711"/>
                    </a:lnTo>
                    <a:lnTo>
                      <a:pt x="1191" y="1699"/>
                    </a:lnTo>
                    <a:lnTo>
                      <a:pt x="1192" y="1687"/>
                    </a:lnTo>
                    <a:lnTo>
                      <a:pt x="1195" y="1675"/>
                    </a:lnTo>
                    <a:lnTo>
                      <a:pt x="1198" y="1663"/>
                    </a:lnTo>
                    <a:lnTo>
                      <a:pt x="1202" y="1651"/>
                    </a:lnTo>
                    <a:lnTo>
                      <a:pt x="1206" y="1639"/>
                    </a:lnTo>
                    <a:lnTo>
                      <a:pt x="1210" y="1628"/>
                    </a:lnTo>
                    <a:lnTo>
                      <a:pt x="1214" y="1616"/>
                    </a:lnTo>
                    <a:lnTo>
                      <a:pt x="1219" y="1607"/>
                    </a:lnTo>
                    <a:lnTo>
                      <a:pt x="1224" y="1597"/>
                    </a:lnTo>
                    <a:lnTo>
                      <a:pt x="1230" y="1588"/>
                    </a:lnTo>
                    <a:lnTo>
                      <a:pt x="1234" y="1579"/>
                    </a:lnTo>
                    <a:lnTo>
                      <a:pt x="1240" y="1570"/>
                    </a:lnTo>
                    <a:lnTo>
                      <a:pt x="1245" y="1560"/>
                    </a:lnTo>
                    <a:lnTo>
                      <a:pt x="1250" y="1550"/>
                    </a:lnTo>
                    <a:lnTo>
                      <a:pt x="1252" y="1541"/>
                    </a:lnTo>
                    <a:lnTo>
                      <a:pt x="1256" y="1524"/>
                    </a:lnTo>
                    <a:lnTo>
                      <a:pt x="1260" y="1506"/>
                    </a:lnTo>
                    <a:lnTo>
                      <a:pt x="1262" y="1489"/>
                    </a:lnTo>
                    <a:lnTo>
                      <a:pt x="1264" y="1472"/>
                    </a:lnTo>
                    <a:lnTo>
                      <a:pt x="1266" y="1454"/>
                    </a:lnTo>
                    <a:lnTo>
                      <a:pt x="1267" y="1438"/>
                    </a:lnTo>
                    <a:lnTo>
                      <a:pt x="1267" y="1420"/>
                    </a:lnTo>
                    <a:lnTo>
                      <a:pt x="1267" y="1403"/>
                    </a:lnTo>
                    <a:lnTo>
                      <a:pt x="1266" y="1391"/>
                    </a:lnTo>
                    <a:lnTo>
                      <a:pt x="1264" y="1380"/>
                    </a:lnTo>
                    <a:lnTo>
                      <a:pt x="1263" y="1369"/>
                    </a:lnTo>
                    <a:lnTo>
                      <a:pt x="1260" y="1358"/>
                    </a:lnTo>
                    <a:lnTo>
                      <a:pt x="1257" y="1348"/>
                    </a:lnTo>
                    <a:lnTo>
                      <a:pt x="1252" y="1337"/>
                    </a:lnTo>
                    <a:lnTo>
                      <a:pt x="1249" y="1327"/>
                    </a:lnTo>
                    <a:lnTo>
                      <a:pt x="1243" y="1316"/>
                    </a:lnTo>
                    <a:lnTo>
                      <a:pt x="1239" y="1312"/>
                    </a:lnTo>
                    <a:lnTo>
                      <a:pt x="1236" y="1306"/>
                    </a:lnTo>
                    <a:lnTo>
                      <a:pt x="1231" y="1300"/>
                    </a:lnTo>
                    <a:lnTo>
                      <a:pt x="1225" y="1295"/>
                    </a:lnTo>
                    <a:lnTo>
                      <a:pt x="1220" y="1291"/>
                    </a:lnTo>
                    <a:lnTo>
                      <a:pt x="1213" y="1288"/>
                    </a:lnTo>
                    <a:lnTo>
                      <a:pt x="1207" y="1285"/>
                    </a:lnTo>
                    <a:lnTo>
                      <a:pt x="1201" y="1284"/>
                    </a:lnTo>
                    <a:lnTo>
                      <a:pt x="1192" y="1284"/>
                    </a:lnTo>
                    <a:lnTo>
                      <a:pt x="1185" y="1284"/>
                    </a:lnTo>
                    <a:lnTo>
                      <a:pt x="1177" y="1286"/>
                    </a:lnTo>
                    <a:lnTo>
                      <a:pt x="1170" y="1289"/>
                    </a:lnTo>
                    <a:lnTo>
                      <a:pt x="1162" y="1292"/>
                    </a:lnTo>
                    <a:lnTo>
                      <a:pt x="1155" y="1297"/>
                    </a:lnTo>
                    <a:lnTo>
                      <a:pt x="1149" y="1302"/>
                    </a:lnTo>
                    <a:lnTo>
                      <a:pt x="1143" y="1307"/>
                    </a:lnTo>
                    <a:lnTo>
                      <a:pt x="1136" y="1316"/>
                    </a:lnTo>
                    <a:lnTo>
                      <a:pt x="1130" y="1327"/>
                    </a:lnTo>
                    <a:lnTo>
                      <a:pt x="1124" y="1337"/>
                    </a:lnTo>
                    <a:lnTo>
                      <a:pt x="1119" y="1349"/>
                    </a:lnTo>
                    <a:lnTo>
                      <a:pt x="1114" y="1360"/>
                    </a:lnTo>
                    <a:lnTo>
                      <a:pt x="1110" y="1370"/>
                    </a:lnTo>
                    <a:lnTo>
                      <a:pt x="1106" y="1382"/>
                    </a:lnTo>
                    <a:lnTo>
                      <a:pt x="1100" y="1393"/>
                    </a:lnTo>
                    <a:lnTo>
                      <a:pt x="1092" y="1410"/>
                    </a:lnTo>
                    <a:lnTo>
                      <a:pt x="1083" y="1428"/>
                    </a:lnTo>
                    <a:lnTo>
                      <a:pt x="1075" y="1445"/>
                    </a:lnTo>
                    <a:lnTo>
                      <a:pt x="1066" y="1463"/>
                    </a:lnTo>
                    <a:lnTo>
                      <a:pt x="1057" y="1480"/>
                    </a:lnTo>
                    <a:lnTo>
                      <a:pt x="1048" y="1498"/>
                    </a:lnTo>
                    <a:lnTo>
                      <a:pt x="1039" y="1514"/>
                    </a:lnTo>
                    <a:lnTo>
                      <a:pt x="1029" y="1531"/>
                    </a:lnTo>
                    <a:lnTo>
                      <a:pt x="1020" y="1546"/>
                    </a:lnTo>
                    <a:lnTo>
                      <a:pt x="1010" y="1561"/>
                    </a:lnTo>
                    <a:lnTo>
                      <a:pt x="1000" y="1576"/>
                    </a:lnTo>
                    <a:lnTo>
                      <a:pt x="990" y="1591"/>
                    </a:lnTo>
                    <a:lnTo>
                      <a:pt x="979" y="1606"/>
                    </a:lnTo>
                    <a:lnTo>
                      <a:pt x="968" y="1619"/>
                    </a:lnTo>
                    <a:lnTo>
                      <a:pt x="956" y="1632"/>
                    </a:lnTo>
                    <a:lnTo>
                      <a:pt x="943" y="1645"/>
                    </a:lnTo>
                    <a:lnTo>
                      <a:pt x="930" y="1657"/>
                    </a:lnTo>
                    <a:lnTo>
                      <a:pt x="916" y="1668"/>
                    </a:lnTo>
                    <a:lnTo>
                      <a:pt x="902" y="1680"/>
                    </a:lnTo>
                    <a:lnTo>
                      <a:pt x="886" y="1690"/>
                    </a:lnTo>
                    <a:lnTo>
                      <a:pt x="872" y="1699"/>
                    </a:lnTo>
                    <a:lnTo>
                      <a:pt x="856" y="1709"/>
                    </a:lnTo>
                    <a:lnTo>
                      <a:pt x="841" y="1717"/>
                    </a:lnTo>
                    <a:lnTo>
                      <a:pt x="824" y="1726"/>
                    </a:lnTo>
                    <a:lnTo>
                      <a:pt x="812" y="1732"/>
                    </a:lnTo>
                    <a:lnTo>
                      <a:pt x="799" y="1736"/>
                    </a:lnTo>
                    <a:lnTo>
                      <a:pt x="787" y="1740"/>
                    </a:lnTo>
                    <a:lnTo>
                      <a:pt x="774" y="1745"/>
                    </a:lnTo>
                    <a:lnTo>
                      <a:pt x="760" y="1747"/>
                    </a:lnTo>
                    <a:lnTo>
                      <a:pt x="746" y="1750"/>
                    </a:lnTo>
                    <a:lnTo>
                      <a:pt x="733" y="1752"/>
                    </a:lnTo>
                    <a:lnTo>
                      <a:pt x="720" y="1754"/>
                    </a:lnTo>
                    <a:lnTo>
                      <a:pt x="715" y="1754"/>
                    </a:lnTo>
                    <a:lnTo>
                      <a:pt x="709" y="1756"/>
                    </a:lnTo>
                    <a:lnTo>
                      <a:pt x="704" y="1754"/>
                    </a:lnTo>
                    <a:lnTo>
                      <a:pt x="698" y="1754"/>
                    </a:lnTo>
                    <a:lnTo>
                      <a:pt x="693" y="1753"/>
                    </a:lnTo>
                    <a:lnTo>
                      <a:pt x="688" y="1751"/>
                    </a:lnTo>
                    <a:lnTo>
                      <a:pt x="685" y="1748"/>
                    </a:lnTo>
                    <a:lnTo>
                      <a:pt x="681" y="1745"/>
                    </a:lnTo>
                    <a:lnTo>
                      <a:pt x="679" y="1740"/>
                    </a:lnTo>
                    <a:lnTo>
                      <a:pt x="678" y="1736"/>
                    </a:lnTo>
                    <a:lnTo>
                      <a:pt x="678" y="1730"/>
                    </a:lnTo>
                    <a:lnTo>
                      <a:pt x="678" y="1726"/>
                    </a:lnTo>
                    <a:lnTo>
                      <a:pt x="679" y="1721"/>
                    </a:lnTo>
                    <a:lnTo>
                      <a:pt x="681" y="1716"/>
                    </a:lnTo>
                    <a:lnTo>
                      <a:pt x="684" y="1711"/>
                    </a:lnTo>
                    <a:lnTo>
                      <a:pt x="686" y="1706"/>
                    </a:lnTo>
                    <a:lnTo>
                      <a:pt x="697" y="1696"/>
                    </a:lnTo>
                    <a:lnTo>
                      <a:pt x="706" y="1686"/>
                    </a:lnTo>
                    <a:lnTo>
                      <a:pt x="718" y="1676"/>
                    </a:lnTo>
                    <a:lnTo>
                      <a:pt x="730" y="1667"/>
                    </a:lnTo>
                    <a:lnTo>
                      <a:pt x="742" y="1658"/>
                    </a:lnTo>
                    <a:lnTo>
                      <a:pt x="754" y="1650"/>
                    </a:lnTo>
                    <a:lnTo>
                      <a:pt x="765" y="1640"/>
                    </a:lnTo>
                    <a:lnTo>
                      <a:pt x="777" y="1631"/>
                    </a:lnTo>
                    <a:lnTo>
                      <a:pt x="789" y="1619"/>
                    </a:lnTo>
                    <a:lnTo>
                      <a:pt x="804" y="1608"/>
                    </a:lnTo>
                    <a:lnTo>
                      <a:pt x="817" y="1597"/>
                    </a:lnTo>
                    <a:lnTo>
                      <a:pt x="830" y="1585"/>
                    </a:lnTo>
                    <a:lnTo>
                      <a:pt x="842" y="1574"/>
                    </a:lnTo>
                    <a:lnTo>
                      <a:pt x="855" y="1562"/>
                    </a:lnTo>
                    <a:lnTo>
                      <a:pt x="866" y="1549"/>
                    </a:lnTo>
                    <a:lnTo>
                      <a:pt x="877" y="1536"/>
                    </a:lnTo>
                    <a:lnTo>
                      <a:pt x="886" y="1520"/>
                    </a:lnTo>
                    <a:lnTo>
                      <a:pt x="896" y="1506"/>
                    </a:lnTo>
                    <a:lnTo>
                      <a:pt x="904" y="1490"/>
                    </a:lnTo>
                    <a:lnTo>
                      <a:pt x="913" y="1475"/>
                    </a:lnTo>
                    <a:lnTo>
                      <a:pt x="919" y="1458"/>
                    </a:lnTo>
                    <a:lnTo>
                      <a:pt x="925" y="1441"/>
                    </a:lnTo>
                    <a:lnTo>
                      <a:pt x="930" y="1424"/>
                    </a:lnTo>
                    <a:lnTo>
                      <a:pt x="934" y="1408"/>
                    </a:lnTo>
                    <a:lnTo>
                      <a:pt x="934" y="1399"/>
                    </a:lnTo>
                    <a:lnTo>
                      <a:pt x="934" y="1392"/>
                    </a:lnTo>
                    <a:lnTo>
                      <a:pt x="932" y="1384"/>
                    </a:lnTo>
                    <a:lnTo>
                      <a:pt x="930" y="1375"/>
                    </a:lnTo>
                    <a:lnTo>
                      <a:pt x="926" y="1368"/>
                    </a:lnTo>
                    <a:lnTo>
                      <a:pt x="921" y="1361"/>
                    </a:lnTo>
                    <a:lnTo>
                      <a:pt x="916" y="1355"/>
                    </a:lnTo>
                    <a:lnTo>
                      <a:pt x="910" y="1350"/>
                    </a:lnTo>
                    <a:lnTo>
                      <a:pt x="906" y="1348"/>
                    </a:lnTo>
                    <a:lnTo>
                      <a:pt x="900" y="1346"/>
                    </a:lnTo>
                    <a:lnTo>
                      <a:pt x="895" y="1348"/>
                    </a:lnTo>
                    <a:lnTo>
                      <a:pt x="889" y="1349"/>
                    </a:lnTo>
                    <a:lnTo>
                      <a:pt x="883" y="1351"/>
                    </a:lnTo>
                    <a:lnTo>
                      <a:pt x="877" y="1354"/>
                    </a:lnTo>
                    <a:lnTo>
                      <a:pt x="872" y="1356"/>
                    </a:lnTo>
                    <a:lnTo>
                      <a:pt x="867" y="1360"/>
                    </a:lnTo>
                    <a:lnTo>
                      <a:pt x="862" y="1364"/>
                    </a:lnTo>
                    <a:lnTo>
                      <a:pt x="859" y="1369"/>
                    </a:lnTo>
                    <a:lnTo>
                      <a:pt x="855" y="1375"/>
                    </a:lnTo>
                    <a:lnTo>
                      <a:pt x="853" y="1381"/>
                    </a:lnTo>
                    <a:lnTo>
                      <a:pt x="850" y="1387"/>
                    </a:lnTo>
                    <a:lnTo>
                      <a:pt x="847" y="1393"/>
                    </a:lnTo>
                    <a:lnTo>
                      <a:pt x="843" y="1398"/>
                    </a:lnTo>
                    <a:lnTo>
                      <a:pt x="838" y="1403"/>
                    </a:lnTo>
                    <a:lnTo>
                      <a:pt x="830" y="1409"/>
                    </a:lnTo>
                    <a:lnTo>
                      <a:pt x="820" y="1415"/>
                    </a:lnTo>
                    <a:lnTo>
                      <a:pt x="810" y="1420"/>
                    </a:lnTo>
                    <a:lnTo>
                      <a:pt x="800" y="1424"/>
                    </a:lnTo>
                    <a:lnTo>
                      <a:pt x="789" y="1429"/>
                    </a:lnTo>
                    <a:lnTo>
                      <a:pt x="780" y="1432"/>
                    </a:lnTo>
                    <a:lnTo>
                      <a:pt x="769" y="1434"/>
                    </a:lnTo>
                    <a:lnTo>
                      <a:pt x="758" y="1435"/>
                    </a:lnTo>
                    <a:lnTo>
                      <a:pt x="750" y="1436"/>
                    </a:lnTo>
                    <a:lnTo>
                      <a:pt x="741" y="1435"/>
                    </a:lnTo>
                    <a:lnTo>
                      <a:pt x="733" y="1434"/>
                    </a:lnTo>
                    <a:lnTo>
                      <a:pt x="724" y="1432"/>
                    </a:lnTo>
                    <a:lnTo>
                      <a:pt x="716" y="1428"/>
                    </a:lnTo>
                    <a:lnTo>
                      <a:pt x="710" y="1424"/>
                    </a:lnTo>
                    <a:lnTo>
                      <a:pt x="704" y="1418"/>
                    </a:lnTo>
                    <a:lnTo>
                      <a:pt x="700" y="1412"/>
                    </a:lnTo>
                    <a:lnTo>
                      <a:pt x="698" y="1400"/>
                    </a:lnTo>
                    <a:lnTo>
                      <a:pt x="697" y="1388"/>
                    </a:lnTo>
                    <a:lnTo>
                      <a:pt x="698" y="1375"/>
                    </a:lnTo>
                    <a:lnTo>
                      <a:pt x="700" y="1363"/>
                    </a:lnTo>
                    <a:lnTo>
                      <a:pt x="703" y="1350"/>
                    </a:lnTo>
                    <a:lnTo>
                      <a:pt x="705" y="1338"/>
                    </a:lnTo>
                    <a:lnTo>
                      <a:pt x="709" y="1325"/>
                    </a:lnTo>
                    <a:lnTo>
                      <a:pt x="710" y="1312"/>
                    </a:lnTo>
                    <a:lnTo>
                      <a:pt x="711" y="1303"/>
                    </a:lnTo>
                    <a:lnTo>
                      <a:pt x="714" y="1294"/>
                    </a:lnTo>
                    <a:lnTo>
                      <a:pt x="715" y="1285"/>
                    </a:lnTo>
                    <a:lnTo>
                      <a:pt x="717" y="1276"/>
                    </a:lnTo>
                    <a:lnTo>
                      <a:pt x="718" y="1267"/>
                    </a:lnTo>
                    <a:lnTo>
                      <a:pt x="718" y="1258"/>
                    </a:lnTo>
                    <a:lnTo>
                      <a:pt x="717" y="1249"/>
                    </a:lnTo>
                    <a:lnTo>
                      <a:pt x="715" y="1241"/>
                    </a:lnTo>
                    <a:lnTo>
                      <a:pt x="712" y="1236"/>
                    </a:lnTo>
                    <a:lnTo>
                      <a:pt x="708" y="1232"/>
                    </a:lnTo>
                    <a:lnTo>
                      <a:pt x="703" y="1230"/>
                    </a:lnTo>
                    <a:lnTo>
                      <a:pt x="697" y="1229"/>
                    </a:lnTo>
                    <a:lnTo>
                      <a:pt x="691" y="1228"/>
                    </a:lnTo>
                    <a:lnTo>
                      <a:pt x="685" y="1226"/>
                    </a:lnTo>
                    <a:lnTo>
                      <a:pt x="678" y="1226"/>
                    </a:lnTo>
                    <a:lnTo>
                      <a:pt x="672" y="1226"/>
                    </a:lnTo>
                    <a:lnTo>
                      <a:pt x="658" y="1228"/>
                    </a:lnTo>
                    <a:lnTo>
                      <a:pt x="645" y="1229"/>
                    </a:lnTo>
                    <a:lnTo>
                      <a:pt x="633" y="1231"/>
                    </a:lnTo>
                    <a:lnTo>
                      <a:pt x="620" y="1235"/>
                    </a:lnTo>
                    <a:lnTo>
                      <a:pt x="607" y="1237"/>
                    </a:lnTo>
                    <a:lnTo>
                      <a:pt x="594" y="1240"/>
                    </a:lnTo>
                    <a:lnTo>
                      <a:pt x="580" y="1241"/>
                    </a:lnTo>
                    <a:lnTo>
                      <a:pt x="567" y="1241"/>
                    </a:lnTo>
                    <a:lnTo>
                      <a:pt x="556" y="1240"/>
                    </a:lnTo>
                    <a:lnTo>
                      <a:pt x="544" y="1237"/>
                    </a:lnTo>
                    <a:lnTo>
                      <a:pt x="534" y="1235"/>
                    </a:lnTo>
                    <a:lnTo>
                      <a:pt x="523" y="1232"/>
                    </a:lnTo>
                    <a:lnTo>
                      <a:pt x="512" y="1228"/>
                    </a:lnTo>
                    <a:lnTo>
                      <a:pt x="501" y="1224"/>
                    </a:lnTo>
                    <a:lnTo>
                      <a:pt x="492" y="1218"/>
                    </a:lnTo>
                    <a:lnTo>
                      <a:pt x="482" y="1212"/>
                    </a:lnTo>
                    <a:lnTo>
                      <a:pt x="475" y="1207"/>
                    </a:lnTo>
                    <a:lnTo>
                      <a:pt x="469" y="1200"/>
                    </a:lnTo>
                    <a:lnTo>
                      <a:pt x="464" y="1193"/>
                    </a:lnTo>
                    <a:lnTo>
                      <a:pt x="459" y="1185"/>
                    </a:lnTo>
                    <a:lnTo>
                      <a:pt x="456" y="1176"/>
                    </a:lnTo>
                    <a:lnTo>
                      <a:pt x="451" y="1169"/>
                    </a:lnTo>
                    <a:lnTo>
                      <a:pt x="445" y="1162"/>
                    </a:lnTo>
                    <a:lnTo>
                      <a:pt x="439" y="1156"/>
                    </a:lnTo>
                    <a:lnTo>
                      <a:pt x="434" y="1151"/>
                    </a:lnTo>
                    <a:lnTo>
                      <a:pt x="428" y="1149"/>
                    </a:lnTo>
                    <a:lnTo>
                      <a:pt x="422" y="1145"/>
                    </a:lnTo>
                    <a:lnTo>
                      <a:pt x="416" y="1143"/>
                    </a:lnTo>
                    <a:lnTo>
                      <a:pt x="410" y="1140"/>
                    </a:lnTo>
                    <a:lnTo>
                      <a:pt x="404" y="1139"/>
                    </a:lnTo>
                    <a:lnTo>
                      <a:pt x="398" y="1137"/>
                    </a:lnTo>
                    <a:lnTo>
                      <a:pt x="391" y="1137"/>
                    </a:lnTo>
                    <a:lnTo>
                      <a:pt x="376" y="1135"/>
                    </a:lnTo>
                    <a:lnTo>
                      <a:pt x="361" y="1135"/>
                    </a:lnTo>
                    <a:lnTo>
                      <a:pt x="345" y="1137"/>
                    </a:lnTo>
                    <a:lnTo>
                      <a:pt x="330" y="1137"/>
                    </a:lnTo>
                    <a:lnTo>
                      <a:pt x="314" y="1138"/>
                    </a:lnTo>
                    <a:lnTo>
                      <a:pt x="298" y="1139"/>
                    </a:lnTo>
                    <a:lnTo>
                      <a:pt x="283" y="1140"/>
                    </a:lnTo>
                    <a:lnTo>
                      <a:pt x="267" y="1141"/>
                    </a:lnTo>
                    <a:lnTo>
                      <a:pt x="250" y="1143"/>
                    </a:lnTo>
                    <a:lnTo>
                      <a:pt x="234" y="1144"/>
                    </a:lnTo>
                    <a:lnTo>
                      <a:pt x="216" y="1145"/>
                    </a:lnTo>
                    <a:lnTo>
                      <a:pt x="199" y="1146"/>
                    </a:lnTo>
                    <a:lnTo>
                      <a:pt x="181" y="1147"/>
                    </a:lnTo>
                    <a:lnTo>
                      <a:pt x="164" y="1149"/>
                    </a:lnTo>
                    <a:lnTo>
                      <a:pt x="147" y="1147"/>
                    </a:lnTo>
                    <a:lnTo>
                      <a:pt x="129" y="1146"/>
                    </a:lnTo>
                    <a:lnTo>
                      <a:pt x="121" y="1144"/>
                    </a:lnTo>
                    <a:lnTo>
                      <a:pt x="112" y="1141"/>
                    </a:lnTo>
                    <a:lnTo>
                      <a:pt x="105" y="1138"/>
                    </a:lnTo>
                    <a:lnTo>
                      <a:pt x="97" y="1133"/>
                    </a:lnTo>
                    <a:lnTo>
                      <a:pt x="90" y="1128"/>
                    </a:lnTo>
                    <a:lnTo>
                      <a:pt x="82" y="1123"/>
                    </a:lnTo>
                    <a:lnTo>
                      <a:pt x="75" y="1117"/>
                    </a:lnTo>
                    <a:lnTo>
                      <a:pt x="68" y="1113"/>
                    </a:lnTo>
                    <a:lnTo>
                      <a:pt x="61" y="1108"/>
                    </a:lnTo>
                    <a:lnTo>
                      <a:pt x="54" y="1103"/>
                    </a:lnTo>
                    <a:lnTo>
                      <a:pt x="48" y="1097"/>
                    </a:lnTo>
                    <a:lnTo>
                      <a:pt x="40" y="1092"/>
                    </a:lnTo>
                    <a:lnTo>
                      <a:pt x="34" y="1086"/>
                    </a:lnTo>
                    <a:lnTo>
                      <a:pt x="28" y="1079"/>
                    </a:lnTo>
                    <a:lnTo>
                      <a:pt x="24" y="1073"/>
                    </a:lnTo>
                    <a:lnTo>
                      <a:pt x="20" y="1065"/>
                    </a:lnTo>
                    <a:lnTo>
                      <a:pt x="19" y="1060"/>
                    </a:lnTo>
                    <a:lnTo>
                      <a:pt x="18" y="1054"/>
                    </a:lnTo>
                    <a:lnTo>
                      <a:pt x="18" y="1048"/>
                    </a:lnTo>
                    <a:lnTo>
                      <a:pt x="18" y="1042"/>
                    </a:lnTo>
                    <a:lnTo>
                      <a:pt x="20" y="1036"/>
                    </a:lnTo>
                    <a:lnTo>
                      <a:pt x="22" y="1030"/>
                    </a:lnTo>
                    <a:lnTo>
                      <a:pt x="25" y="1025"/>
                    </a:lnTo>
                    <a:lnTo>
                      <a:pt x="30" y="1023"/>
                    </a:lnTo>
                    <a:lnTo>
                      <a:pt x="40" y="1018"/>
                    </a:lnTo>
                    <a:lnTo>
                      <a:pt x="52" y="1014"/>
                    </a:lnTo>
                    <a:lnTo>
                      <a:pt x="63" y="1012"/>
                    </a:lnTo>
                    <a:lnTo>
                      <a:pt x="75" y="1009"/>
                    </a:lnTo>
                    <a:lnTo>
                      <a:pt x="88" y="1009"/>
                    </a:lnTo>
                    <a:lnTo>
                      <a:pt x="100" y="1008"/>
                    </a:lnTo>
                    <a:lnTo>
                      <a:pt x="112" y="1008"/>
                    </a:lnTo>
                    <a:lnTo>
                      <a:pt x="124" y="1008"/>
                    </a:lnTo>
                    <a:lnTo>
                      <a:pt x="145" y="1008"/>
                    </a:lnTo>
                    <a:lnTo>
                      <a:pt x="165" y="1008"/>
                    </a:lnTo>
                    <a:lnTo>
                      <a:pt x="186" y="1009"/>
                    </a:lnTo>
                    <a:lnTo>
                      <a:pt x="206" y="1011"/>
                    </a:lnTo>
                    <a:lnTo>
                      <a:pt x="226" y="1013"/>
                    </a:lnTo>
                    <a:lnTo>
                      <a:pt x="247" y="1013"/>
                    </a:lnTo>
                    <a:lnTo>
                      <a:pt x="266" y="1014"/>
                    </a:lnTo>
                    <a:lnTo>
                      <a:pt x="286" y="1013"/>
                    </a:lnTo>
                    <a:lnTo>
                      <a:pt x="298" y="1012"/>
                    </a:lnTo>
                    <a:lnTo>
                      <a:pt x="310" y="1009"/>
                    </a:lnTo>
                    <a:lnTo>
                      <a:pt x="322" y="1006"/>
                    </a:lnTo>
                    <a:lnTo>
                      <a:pt x="334" y="1003"/>
                    </a:lnTo>
                    <a:lnTo>
                      <a:pt x="346" y="1000"/>
                    </a:lnTo>
                    <a:lnTo>
                      <a:pt x="358" y="996"/>
                    </a:lnTo>
                    <a:lnTo>
                      <a:pt x="370" y="993"/>
                    </a:lnTo>
                    <a:lnTo>
                      <a:pt x="381" y="989"/>
                    </a:lnTo>
                    <a:lnTo>
                      <a:pt x="390" y="987"/>
                    </a:lnTo>
                    <a:lnTo>
                      <a:pt x="397" y="984"/>
                    </a:lnTo>
                    <a:lnTo>
                      <a:pt x="405" y="982"/>
                    </a:lnTo>
                    <a:lnTo>
                      <a:pt x="412" y="978"/>
                    </a:lnTo>
                    <a:lnTo>
                      <a:pt x="421" y="976"/>
                    </a:lnTo>
                    <a:lnTo>
                      <a:pt x="428" y="975"/>
                    </a:lnTo>
                    <a:lnTo>
                      <a:pt x="436" y="975"/>
                    </a:lnTo>
                    <a:lnTo>
                      <a:pt x="444" y="975"/>
                    </a:lnTo>
                    <a:lnTo>
                      <a:pt x="459" y="978"/>
                    </a:lnTo>
                    <a:lnTo>
                      <a:pt x="474" y="983"/>
                    </a:lnTo>
                    <a:lnTo>
                      <a:pt x="488" y="989"/>
                    </a:lnTo>
                    <a:lnTo>
                      <a:pt x="502" y="995"/>
                    </a:lnTo>
                    <a:lnTo>
                      <a:pt x="516" y="1001"/>
                    </a:lnTo>
                    <a:lnTo>
                      <a:pt x="530" y="1008"/>
                    </a:lnTo>
                    <a:lnTo>
                      <a:pt x="544" y="1015"/>
                    </a:lnTo>
                    <a:lnTo>
                      <a:pt x="558" y="1023"/>
                    </a:lnTo>
                    <a:lnTo>
                      <a:pt x="570" y="1029"/>
                    </a:lnTo>
                    <a:lnTo>
                      <a:pt x="580" y="1036"/>
                    </a:lnTo>
                    <a:lnTo>
                      <a:pt x="591" y="1043"/>
                    </a:lnTo>
                    <a:lnTo>
                      <a:pt x="602" y="1050"/>
                    </a:lnTo>
                    <a:lnTo>
                      <a:pt x="614" y="1057"/>
                    </a:lnTo>
                    <a:lnTo>
                      <a:pt x="625" y="1063"/>
                    </a:lnTo>
                    <a:lnTo>
                      <a:pt x="637" y="1069"/>
                    </a:lnTo>
                    <a:lnTo>
                      <a:pt x="649" y="1074"/>
                    </a:lnTo>
                    <a:lnTo>
                      <a:pt x="658" y="1078"/>
                    </a:lnTo>
                    <a:lnTo>
                      <a:pt x="668" y="1081"/>
                    </a:lnTo>
                    <a:lnTo>
                      <a:pt x="679" y="1085"/>
                    </a:lnTo>
                    <a:lnTo>
                      <a:pt x="690" y="1087"/>
                    </a:lnTo>
                    <a:lnTo>
                      <a:pt x="699" y="1089"/>
                    </a:lnTo>
                    <a:lnTo>
                      <a:pt x="710" y="1089"/>
                    </a:lnTo>
                    <a:lnTo>
                      <a:pt x="720" y="1087"/>
                    </a:lnTo>
                    <a:lnTo>
                      <a:pt x="729" y="1084"/>
                    </a:lnTo>
                    <a:lnTo>
                      <a:pt x="736" y="1079"/>
                    </a:lnTo>
                    <a:lnTo>
                      <a:pt x="741" y="1073"/>
                    </a:lnTo>
                    <a:lnTo>
                      <a:pt x="746" y="1066"/>
                    </a:lnTo>
                    <a:lnTo>
                      <a:pt x="748" y="1057"/>
                    </a:lnTo>
                    <a:lnTo>
                      <a:pt x="751" y="1049"/>
                    </a:lnTo>
                    <a:lnTo>
                      <a:pt x="752" y="1039"/>
                    </a:lnTo>
                    <a:lnTo>
                      <a:pt x="753" y="1031"/>
                    </a:lnTo>
                    <a:lnTo>
                      <a:pt x="753" y="1023"/>
                    </a:lnTo>
                    <a:lnTo>
                      <a:pt x="752" y="1013"/>
                    </a:lnTo>
                    <a:lnTo>
                      <a:pt x="750" y="1005"/>
                    </a:lnTo>
                    <a:lnTo>
                      <a:pt x="747" y="996"/>
                    </a:lnTo>
                    <a:lnTo>
                      <a:pt x="744" y="988"/>
                    </a:lnTo>
                    <a:lnTo>
                      <a:pt x="739" y="979"/>
                    </a:lnTo>
                    <a:lnTo>
                      <a:pt x="734" y="971"/>
                    </a:lnTo>
                    <a:lnTo>
                      <a:pt x="729" y="964"/>
                    </a:lnTo>
                    <a:lnTo>
                      <a:pt x="724" y="955"/>
                    </a:lnTo>
                    <a:lnTo>
                      <a:pt x="715" y="942"/>
                    </a:lnTo>
                    <a:lnTo>
                      <a:pt x="705" y="929"/>
                    </a:lnTo>
                    <a:lnTo>
                      <a:pt x="696" y="916"/>
                    </a:lnTo>
                    <a:lnTo>
                      <a:pt x="685" y="903"/>
                    </a:lnTo>
                    <a:lnTo>
                      <a:pt x="674" y="891"/>
                    </a:lnTo>
                    <a:lnTo>
                      <a:pt x="663" y="879"/>
                    </a:lnTo>
                    <a:lnTo>
                      <a:pt x="651" y="867"/>
                    </a:lnTo>
                    <a:lnTo>
                      <a:pt x="639" y="856"/>
                    </a:lnTo>
                    <a:lnTo>
                      <a:pt x="624" y="844"/>
                    </a:lnTo>
                    <a:lnTo>
                      <a:pt x="609" y="832"/>
                    </a:lnTo>
                    <a:lnTo>
                      <a:pt x="594" y="820"/>
                    </a:lnTo>
                    <a:lnTo>
                      <a:pt x="577" y="809"/>
                    </a:lnTo>
                    <a:lnTo>
                      <a:pt x="561" y="798"/>
                    </a:lnTo>
                    <a:lnTo>
                      <a:pt x="544" y="789"/>
                    </a:lnTo>
                    <a:lnTo>
                      <a:pt x="528" y="779"/>
                    </a:lnTo>
                    <a:lnTo>
                      <a:pt x="511" y="771"/>
                    </a:lnTo>
                    <a:lnTo>
                      <a:pt x="498" y="765"/>
                    </a:lnTo>
                    <a:lnTo>
                      <a:pt x="486" y="760"/>
                    </a:lnTo>
                    <a:lnTo>
                      <a:pt x="472" y="755"/>
                    </a:lnTo>
                    <a:lnTo>
                      <a:pt x="459" y="750"/>
                    </a:lnTo>
                    <a:lnTo>
                      <a:pt x="446" y="747"/>
                    </a:lnTo>
                    <a:lnTo>
                      <a:pt x="433" y="743"/>
                    </a:lnTo>
                    <a:lnTo>
                      <a:pt x="418" y="741"/>
                    </a:lnTo>
                    <a:lnTo>
                      <a:pt x="405" y="737"/>
                    </a:lnTo>
                    <a:lnTo>
                      <a:pt x="394" y="735"/>
                    </a:lnTo>
                    <a:lnTo>
                      <a:pt x="382" y="732"/>
                    </a:lnTo>
                    <a:lnTo>
                      <a:pt x="370" y="730"/>
                    </a:lnTo>
                    <a:lnTo>
                      <a:pt x="358" y="727"/>
                    </a:lnTo>
                    <a:lnTo>
                      <a:pt x="346" y="725"/>
                    </a:lnTo>
                    <a:lnTo>
                      <a:pt x="334" y="724"/>
                    </a:lnTo>
                    <a:lnTo>
                      <a:pt x="322" y="723"/>
                    </a:lnTo>
                    <a:lnTo>
                      <a:pt x="310" y="723"/>
                    </a:lnTo>
                    <a:lnTo>
                      <a:pt x="302" y="723"/>
                    </a:lnTo>
                    <a:lnTo>
                      <a:pt x="295" y="724"/>
                    </a:lnTo>
                    <a:lnTo>
                      <a:pt x="286" y="725"/>
                    </a:lnTo>
                    <a:lnTo>
                      <a:pt x="279" y="726"/>
                    </a:lnTo>
                    <a:lnTo>
                      <a:pt x="271" y="729"/>
                    </a:lnTo>
                    <a:lnTo>
                      <a:pt x="264" y="731"/>
                    </a:lnTo>
                    <a:lnTo>
                      <a:pt x="255" y="733"/>
                    </a:lnTo>
                    <a:lnTo>
                      <a:pt x="248" y="737"/>
                    </a:lnTo>
                    <a:lnTo>
                      <a:pt x="241" y="742"/>
                    </a:lnTo>
                    <a:lnTo>
                      <a:pt x="235" y="747"/>
                    </a:lnTo>
                    <a:lnTo>
                      <a:pt x="229" y="753"/>
                    </a:lnTo>
                    <a:lnTo>
                      <a:pt x="223" y="759"/>
                    </a:lnTo>
                    <a:lnTo>
                      <a:pt x="216" y="765"/>
                    </a:lnTo>
                    <a:lnTo>
                      <a:pt x="210" y="769"/>
                    </a:lnTo>
                    <a:lnTo>
                      <a:pt x="204" y="775"/>
                    </a:lnTo>
                    <a:lnTo>
                      <a:pt x="196" y="780"/>
                    </a:lnTo>
                    <a:lnTo>
                      <a:pt x="184" y="786"/>
                    </a:lnTo>
                    <a:lnTo>
                      <a:pt x="174" y="792"/>
                    </a:lnTo>
                    <a:lnTo>
                      <a:pt x="162" y="797"/>
                    </a:lnTo>
                    <a:lnTo>
                      <a:pt x="150" y="802"/>
                    </a:lnTo>
                    <a:lnTo>
                      <a:pt x="138" y="807"/>
                    </a:lnTo>
                    <a:lnTo>
                      <a:pt x="126" y="811"/>
                    </a:lnTo>
                    <a:lnTo>
                      <a:pt x="114" y="815"/>
                    </a:lnTo>
                    <a:lnTo>
                      <a:pt x="102" y="817"/>
                    </a:lnTo>
                    <a:lnTo>
                      <a:pt x="97" y="819"/>
                    </a:lnTo>
                    <a:lnTo>
                      <a:pt x="92" y="819"/>
                    </a:lnTo>
                    <a:lnTo>
                      <a:pt x="87" y="819"/>
                    </a:lnTo>
                    <a:lnTo>
                      <a:pt x="82" y="817"/>
                    </a:lnTo>
                    <a:lnTo>
                      <a:pt x="78" y="816"/>
                    </a:lnTo>
                    <a:lnTo>
                      <a:pt x="74" y="815"/>
                    </a:lnTo>
                    <a:lnTo>
                      <a:pt x="70" y="811"/>
                    </a:lnTo>
                    <a:lnTo>
                      <a:pt x="68" y="808"/>
                    </a:lnTo>
                    <a:lnTo>
                      <a:pt x="64" y="802"/>
                    </a:lnTo>
                    <a:lnTo>
                      <a:pt x="63" y="796"/>
                    </a:lnTo>
                    <a:lnTo>
                      <a:pt x="62" y="789"/>
                    </a:lnTo>
                    <a:lnTo>
                      <a:pt x="61" y="781"/>
                    </a:lnTo>
                    <a:lnTo>
                      <a:pt x="61" y="775"/>
                    </a:lnTo>
                    <a:lnTo>
                      <a:pt x="62" y="768"/>
                    </a:lnTo>
                    <a:lnTo>
                      <a:pt x="64" y="762"/>
                    </a:lnTo>
                    <a:lnTo>
                      <a:pt x="68" y="756"/>
                    </a:lnTo>
                    <a:lnTo>
                      <a:pt x="78" y="743"/>
                    </a:lnTo>
                    <a:lnTo>
                      <a:pt x="87" y="730"/>
                    </a:lnTo>
                    <a:lnTo>
                      <a:pt x="99" y="718"/>
                    </a:lnTo>
                    <a:lnTo>
                      <a:pt x="111" y="707"/>
                    </a:lnTo>
                    <a:lnTo>
                      <a:pt x="123" y="696"/>
                    </a:lnTo>
                    <a:lnTo>
                      <a:pt x="136" y="685"/>
                    </a:lnTo>
                    <a:lnTo>
                      <a:pt x="150" y="676"/>
                    </a:lnTo>
                    <a:lnTo>
                      <a:pt x="163" y="666"/>
                    </a:lnTo>
                    <a:lnTo>
                      <a:pt x="172" y="660"/>
                    </a:lnTo>
                    <a:lnTo>
                      <a:pt x="182" y="654"/>
                    </a:lnTo>
                    <a:lnTo>
                      <a:pt x="192" y="649"/>
                    </a:lnTo>
                    <a:lnTo>
                      <a:pt x="201" y="645"/>
                    </a:lnTo>
                    <a:lnTo>
                      <a:pt x="212" y="641"/>
                    </a:lnTo>
                    <a:lnTo>
                      <a:pt x="223" y="637"/>
                    </a:lnTo>
                    <a:lnTo>
                      <a:pt x="234" y="635"/>
                    </a:lnTo>
                    <a:lnTo>
                      <a:pt x="243" y="633"/>
                    </a:lnTo>
                    <a:lnTo>
                      <a:pt x="258" y="630"/>
                    </a:lnTo>
                    <a:lnTo>
                      <a:pt x="272" y="629"/>
                    </a:lnTo>
                    <a:lnTo>
                      <a:pt x="286" y="628"/>
                    </a:lnTo>
                    <a:lnTo>
                      <a:pt x="301" y="628"/>
                    </a:lnTo>
                    <a:lnTo>
                      <a:pt x="315" y="628"/>
                    </a:lnTo>
                    <a:lnTo>
                      <a:pt x="330" y="628"/>
                    </a:lnTo>
                    <a:lnTo>
                      <a:pt x="344" y="628"/>
                    </a:lnTo>
                    <a:lnTo>
                      <a:pt x="358" y="628"/>
                    </a:lnTo>
                    <a:lnTo>
                      <a:pt x="379" y="628"/>
                    </a:lnTo>
                    <a:lnTo>
                      <a:pt x="398" y="628"/>
                    </a:lnTo>
                    <a:lnTo>
                      <a:pt x="418" y="629"/>
                    </a:lnTo>
                    <a:lnTo>
                      <a:pt x="439" y="629"/>
                    </a:lnTo>
                    <a:lnTo>
                      <a:pt x="459" y="630"/>
                    </a:lnTo>
                    <a:lnTo>
                      <a:pt x="480" y="630"/>
                    </a:lnTo>
                    <a:lnTo>
                      <a:pt x="500" y="631"/>
                    </a:lnTo>
                    <a:lnTo>
                      <a:pt x="519" y="633"/>
                    </a:lnTo>
                    <a:lnTo>
                      <a:pt x="535" y="634"/>
                    </a:lnTo>
                    <a:lnTo>
                      <a:pt x="549" y="635"/>
                    </a:lnTo>
                    <a:lnTo>
                      <a:pt x="565" y="636"/>
                    </a:lnTo>
                    <a:lnTo>
                      <a:pt x="579" y="637"/>
                    </a:lnTo>
                    <a:lnTo>
                      <a:pt x="594" y="640"/>
                    </a:lnTo>
                    <a:lnTo>
                      <a:pt x="609" y="641"/>
                    </a:lnTo>
                    <a:lnTo>
                      <a:pt x="624" y="641"/>
                    </a:lnTo>
                    <a:lnTo>
                      <a:pt x="639" y="642"/>
                    </a:lnTo>
                    <a:lnTo>
                      <a:pt x="648" y="642"/>
                    </a:lnTo>
                    <a:lnTo>
                      <a:pt x="656" y="642"/>
                    </a:lnTo>
                    <a:lnTo>
                      <a:pt x="666" y="643"/>
                    </a:lnTo>
                    <a:lnTo>
                      <a:pt x="674" y="642"/>
                    </a:lnTo>
                    <a:lnTo>
                      <a:pt x="682" y="642"/>
                    </a:lnTo>
                    <a:lnTo>
                      <a:pt x="691" y="640"/>
                    </a:lnTo>
                    <a:lnTo>
                      <a:pt x="699" y="637"/>
                    </a:lnTo>
                    <a:lnTo>
                      <a:pt x="705" y="633"/>
                    </a:lnTo>
                    <a:close/>
                  </a:path>
                </a:pathLst>
              </a:custGeom>
              <a:solidFill>
                <a:srgbClr val="d68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140000" y="1320840"/>
                <a:ext cx="811440" cy="700200"/>
              </a:xfrm>
              <a:custGeom>
                <a:avLst/>
                <a:gdLst/>
                <a:ahLst/>
                <a:rect l="l" t="t" r="r" b="b"/>
                <a:pathLst>
                  <a:path w="2047" h="1764">
                    <a:moveTo>
                      <a:pt x="700" y="628"/>
                    </a:moveTo>
                    <a:lnTo>
                      <a:pt x="707" y="622"/>
                    </a:lnTo>
                    <a:lnTo>
                      <a:pt x="712" y="613"/>
                    </a:lnTo>
                    <a:lnTo>
                      <a:pt x="715" y="605"/>
                    </a:lnTo>
                    <a:lnTo>
                      <a:pt x="719" y="597"/>
                    </a:lnTo>
                    <a:lnTo>
                      <a:pt x="721" y="587"/>
                    </a:lnTo>
                    <a:lnTo>
                      <a:pt x="722" y="577"/>
                    </a:lnTo>
                    <a:lnTo>
                      <a:pt x="724" y="567"/>
                    </a:lnTo>
                    <a:lnTo>
                      <a:pt x="724" y="557"/>
                    </a:lnTo>
                    <a:lnTo>
                      <a:pt x="724" y="546"/>
                    </a:lnTo>
                    <a:lnTo>
                      <a:pt x="722" y="535"/>
                    </a:lnTo>
                    <a:lnTo>
                      <a:pt x="721" y="523"/>
                    </a:lnTo>
                    <a:lnTo>
                      <a:pt x="719" y="513"/>
                    </a:lnTo>
                    <a:lnTo>
                      <a:pt x="715" y="502"/>
                    </a:lnTo>
                    <a:lnTo>
                      <a:pt x="712" y="492"/>
                    </a:lnTo>
                    <a:lnTo>
                      <a:pt x="706" y="481"/>
                    </a:lnTo>
                    <a:lnTo>
                      <a:pt x="700" y="473"/>
                    </a:lnTo>
                    <a:lnTo>
                      <a:pt x="694" y="466"/>
                    </a:lnTo>
                    <a:lnTo>
                      <a:pt x="685" y="460"/>
                    </a:lnTo>
                    <a:lnTo>
                      <a:pt x="677" y="455"/>
                    </a:lnTo>
                    <a:lnTo>
                      <a:pt x="667" y="450"/>
                    </a:lnTo>
                    <a:lnTo>
                      <a:pt x="658" y="447"/>
                    </a:lnTo>
                    <a:lnTo>
                      <a:pt x="648" y="443"/>
                    </a:lnTo>
                    <a:lnTo>
                      <a:pt x="638" y="440"/>
                    </a:lnTo>
                    <a:lnTo>
                      <a:pt x="629" y="435"/>
                    </a:lnTo>
                    <a:lnTo>
                      <a:pt x="618" y="430"/>
                    </a:lnTo>
                    <a:lnTo>
                      <a:pt x="607" y="425"/>
                    </a:lnTo>
                    <a:lnTo>
                      <a:pt x="596" y="419"/>
                    </a:lnTo>
                    <a:lnTo>
                      <a:pt x="584" y="414"/>
                    </a:lnTo>
                    <a:lnTo>
                      <a:pt x="574" y="410"/>
                    </a:lnTo>
                    <a:lnTo>
                      <a:pt x="563" y="406"/>
                    </a:lnTo>
                    <a:lnTo>
                      <a:pt x="551" y="401"/>
                    </a:lnTo>
                    <a:lnTo>
                      <a:pt x="539" y="398"/>
                    </a:lnTo>
                    <a:lnTo>
                      <a:pt x="527" y="394"/>
                    </a:lnTo>
                    <a:lnTo>
                      <a:pt x="514" y="390"/>
                    </a:lnTo>
                    <a:lnTo>
                      <a:pt x="500" y="389"/>
                    </a:lnTo>
                    <a:lnTo>
                      <a:pt x="487" y="387"/>
                    </a:lnTo>
                    <a:lnTo>
                      <a:pt x="474" y="384"/>
                    </a:lnTo>
                    <a:lnTo>
                      <a:pt x="461" y="382"/>
                    </a:lnTo>
                    <a:lnTo>
                      <a:pt x="448" y="378"/>
                    </a:lnTo>
                    <a:lnTo>
                      <a:pt x="436" y="374"/>
                    </a:lnTo>
                    <a:lnTo>
                      <a:pt x="425" y="369"/>
                    </a:lnTo>
                    <a:lnTo>
                      <a:pt x="415" y="364"/>
                    </a:lnTo>
                    <a:lnTo>
                      <a:pt x="406" y="359"/>
                    </a:lnTo>
                    <a:lnTo>
                      <a:pt x="396" y="353"/>
                    </a:lnTo>
                    <a:lnTo>
                      <a:pt x="386" y="347"/>
                    </a:lnTo>
                    <a:lnTo>
                      <a:pt x="378" y="340"/>
                    </a:lnTo>
                    <a:lnTo>
                      <a:pt x="368" y="334"/>
                    </a:lnTo>
                    <a:lnTo>
                      <a:pt x="360" y="327"/>
                    </a:lnTo>
                    <a:lnTo>
                      <a:pt x="344" y="315"/>
                    </a:lnTo>
                    <a:lnTo>
                      <a:pt x="330" y="302"/>
                    </a:lnTo>
                    <a:lnTo>
                      <a:pt x="316" y="288"/>
                    </a:lnTo>
                    <a:lnTo>
                      <a:pt x="301" y="275"/>
                    </a:lnTo>
                    <a:lnTo>
                      <a:pt x="287" y="262"/>
                    </a:lnTo>
                    <a:lnTo>
                      <a:pt x="271" y="249"/>
                    </a:lnTo>
                    <a:lnTo>
                      <a:pt x="257" y="236"/>
                    </a:lnTo>
                    <a:lnTo>
                      <a:pt x="241" y="222"/>
                    </a:lnTo>
                    <a:lnTo>
                      <a:pt x="228" y="212"/>
                    </a:lnTo>
                    <a:lnTo>
                      <a:pt x="215" y="202"/>
                    </a:lnTo>
                    <a:lnTo>
                      <a:pt x="200" y="191"/>
                    </a:lnTo>
                    <a:lnTo>
                      <a:pt x="186" y="180"/>
                    </a:lnTo>
                    <a:lnTo>
                      <a:pt x="172" y="171"/>
                    </a:lnTo>
                    <a:lnTo>
                      <a:pt x="157" y="161"/>
                    </a:lnTo>
                    <a:lnTo>
                      <a:pt x="143" y="152"/>
                    </a:lnTo>
                    <a:lnTo>
                      <a:pt x="128" y="142"/>
                    </a:lnTo>
                    <a:lnTo>
                      <a:pt x="119" y="137"/>
                    </a:lnTo>
                    <a:lnTo>
                      <a:pt x="109" y="132"/>
                    </a:lnTo>
                    <a:lnTo>
                      <a:pt x="98" y="128"/>
                    </a:lnTo>
                    <a:lnTo>
                      <a:pt x="88" y="124"/>
                    </a:lnTo>
                    <a:lnTo>
                      <a:pt x="78" y="120"/>
                    </a:lnTo>
                    <a:lnTo>
                      <a:pt x="67" y="116"/>
                    </a:lnTo>
                    <a:lnTo>
                      <a:pt x="58" y="111"/>
                    </a:lnTo>
                    <a:lnTo>
                      <a:pt x="48" y="105"/>
                    </a:lnTo>
                    <a:lnTo>
                      <a:pt x="41" y="100"/>
                    </a:lnTo>
                    <a:lnTo>
                      <a:pt x="34" y="95"/>
                    </a:lnTo>
                    <a:lnTo>
                      <a:pt x="26" y="90"/>
                    </a:lnTo>
                    <a:lnTo>
                      <a:pt x="20" y="84"/>
                    </a:lnTo>
                    <a:lnTo>
                      <a:pt x="14" y="78"/>
                    </a:lnTo>
                    <a:lnTo>
                      <a:pt x="8" y="72"/>
                    </a:lnTo>
                    <a:lnTo>
                      <a:pt x="4" y="65"/>
                    </a:lnTo>
                    <a:lnTo>
                      <a:pt x="1" y="58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1" y="40"/>
                    </a:lnTo>
                    <a:lnTo>
                      <a:pt x="4" y="34"/>
                    </a:lnTo>
                    <a:lnTo>
                      <a:pt x="6" y="28"/>
                    </a:lnTo>
                    <a:lnTo>
                      <a:pt x="11" y="23"/>
                    </a:lnTo>
                    <a:lnTo>
                      <a:pt x="14" y="18"/>
                    </a:lnTo>
                    <a:lnTo>
                      <a:pt x="20" y="15"/>
                    </a:lnTo>
                    <a:lnTo>
                      <a:pt x="29" y="11"/>
                    </a:lnTo>
                    <a:lnTo>
                      <a:pt x="38" y="8"/>
                    </a:lnTo>
                    <a:lnTo>
                      <a:pt x="49" y="6"/>
                    </a:lnTo>
                    <a:lnTo>
                      <a:pt x="59" y="5"/>
                    </a:lnTo>
                    <a:lnTo>
                      <a:pt x="70" y="4"/>
                    </a:lnTo>
                    <a:lnTo>
                      <a:pt x="79" y="4"/>
                    </a:lnTo>
                    <a:lnTo>
                      <a:pt x="90" y="5"/>
                    </a:lnTo>
                    <a:lnTo>
                      <a:pt x="100" y="5"/>
                    </a:lnTo>
                    <a:lnTo>
                      <a:pt x="109" y="6"/>
                    </a:lnTo>
                    <a:lnTo>
                      <a:pt x="119" y="9"/>
                    </a:lnTo>
                    <a:lnTo>
                      <a:pt x="128" y="11"/>
                    </a:lnTo>
                    <a:lnTo>
                      <a:pt x="137" y="14"/>
                    </a:lnTo>
                    <a:lnTo>
                      <a:pt x="146" y="16"/>
                    </a:lnTo>
                    <a:lnTo>
                      <a:pt x="155" y="20"/>
                    </a:lnTo>
                    <a:lnTo>
                      <a:pt x="163" y="24"/>
                    </a:lnTo>
                    <a:lnTo>
                      <a:pt x="170" y="29"/>
                    </a:lnTo>
                    <a:lnTo>
                      <a:pt x="182" y="38"/>
                    </a:lnTo>
                    <a:lnTo>
                      <a:pt x="192" y="46"/>
                    </a:lnTo>
                    <a:lnTo>
                      <a:pt x="203" y="56"/>
                    </a:lnTo>
                    <a:lnTo>
                      <a:pt x="212" y="65"/>
                    </a:lnTo>
                    <a:lnTo>
                      <a:pt x="222" y="76"/>
                    </a:lnTo>
                    <a:lnTo>
                      <a:pt x="232" y="86"/>
                    </a:lnTo>
                    <a:lnTo>
                      <a:pt x="241" y="95"/>
                    </a:lnTo>
                    <a:lnTo>
                      <a:pt x="251" y="105"/>
                    </a:lnTo>
                    <a:lnTo>
                      <a:pt x="265" y="118"/>
                    </a:lnTo>
                    <a:lnTo>
                      <a:pt x="281" y="130"/>
                    </a:lnTo>
                    <a:lnTo>
                      <a:pt x="295" y="143"/>
                    </a:lnTo>
                    <a:lnTo>
                      <a:pt x="310" y="155"/>
                    </a:lnTo>
                    <a:lnTo>
                      <a:pt x="324" y="167"/>
                    </a:lnTo>
                    <a:lnTo>
                      <a:pt x="340" y="179"/>
                    </a:lnTo>
                    <a:lnTo>
                      <a:pt x="354" y="192"/>
                    </a:lnTo>
                    <a:lnTo>
                      <a:pt x="370" y="204"/>
                    </a:lnTo>
                    <a:lnTo>
                      <a:pt x="380" y="213"/>
                    </a:lnTo>
                    <a:lnTo>
                      <a:pt x="391" y="221"/>
                    </a:lnTo>
                    <a:lnTo>
                      <a:pt x="402" y="230"/>
                    </a:lnTo>
                    <a:lnTo>
                      <a:pt x="413" y="239"/>
                    </a:lnTo>
                    <a:lnTo>
                      <a:pt x="424" y="248"/>
                    </a:lnTo>
                    <a:lnTo>
                      <a:pt x="436" y="255"/>
                    </a:lnTo>
                    <a:lnTo>
                      <a:pt x="448" y="263"/>
                    </a:lnTo>
                    <a:lnTo>
                      <a:pt x="460" y="270"/>
                    </a:lnTo>
                    <a:lnTo>
                      <a:pt x="464" y="273"/>
                    </a:lnTo>
                    <a:lnTo>
                      <a:pt x="472" y="275"/>
                    </a:lnTo>
                    <a:lnTo>
                      <a:pt x="478" y="278"/>
                    </a:lnTo>
                    <a:lnTo>
                      <a:pt x="484" y="280"/>
                    </a:lnTo>
                    <a:lnTo>
                      <a:pt x="491" y="281"/>
                    </a:lnTo>
                    <a:lnTo>
                      <a:pt x="498" y="282"/>
                    </a:lnTo>
                    <a:lnTo>
                      <a:pt x="504" y="284"/>
                    </a:lnTo>
                    <a:lnTo>
                      <a:pt x="511" y="284"/>
                    </a:lnTo>
                    <a:lnTo>
                      <a:pt x="517" y="285"/>
                    </a:lnTo>
                    <a:lnTo>
                      <a:pt x="523" y="285"/>
                    </a:lnTo>
                    <a:lnTo>
                      <a:pt x="530" y="285"/>
                    </a:lnTo>
                    <a:lnTo>
                      <a:pt x="536" y="284"/>
                    </a:lnTo>
                    <a:lnTo>
                      <a:pt x="542" y="282"/>
                    </a:lnTo>
                    <a:lnTo>
                      <a:pt x="548" y="281"/>
                    </a:lnTo>
                    <a:lnTo>
                      <a:pt x="553" y="279"/>
                    </a:lnTo>
                    <a:lnTo>
                      <a:pt x="558" y="275"/>
                    </a:lnTo>
                    <a:lnTo>
                      <a:pt x="563" y="269"/>
                    </a:lnTo>
                    <a:lnTo>
                      <a:pt x="566" y="263"/>
                    </a:lnTo>
                    <a:lnTo>
                      <a:pt x="570" y="256"/>
                    </a:lnTo>
                    <a:lnTo>
                      <a:pt x="572" y="249"/>
                    </a:lnTo>
                    <a:lnTo>
                      <a:pt x="574" y="240"/>
                    </a:lnTo>
                    <a:lnTo>
                      <a:pt x="575" y="233"/>
                    </a:lnTo>
                    <a:lnTo>
                      <a:pt x="576" y="226"/>
                    </a:lnTo>
                    <a:lnTo>
                      <a:pt x="577" y="218"/>
                    </a:lnTo>
                    <a:lnTo>
                      <a:pt x="577" y="207"/>
                    </a:lnTo>
                    <a:lnTo>
                      <a:pt x="577" y="196"/>
                    </a:lnTo>
                    <a:lnTo>
                      <a:pt x="577" y="184"/>
                    </a:lnTo>
                    <a:lnTo>
                      <a:pt x="576" y="173"/>
                    </a:lnTo>
                    <a:lnTo>
                      <a:pt x="575" y="162"/>
                    </a:lnTo>
                    <a:lnTo>
                      <a:pt x="574" y="150"/>
                    </a:lnTo>
                    <a:lnTo>
                      <a:pt x="572" y="140"/>
                    </a:lnTo>
                    <a:lnTo>
                      <a:pt x="572" y="129"/>
                    </a:lnTo>
                    <a:lnTo>
                      <a:pt x="572" y="123"/>
                    </a:lnTo>
                    <a:lnTo>
                      <a:pt x="572" y="117"/>
                    </a:lnTo>
                    <a:lnTo>
                      <a:pt x="574" y="111"/>
                    </a:lnTo>
                    <a:lnTo>
                      <a:pt x="575" y="105"/>
                    </a:lnTo>
                    <a:lnTo>
                      <a:pt x="575" y="99"/>
                    </a:lnTo>
                    <a:lnTo>
                      <a:pt x="576" y="93"/>
                    </a:lnTo>
                    <a:lnTo>
                      <a:pt x="577" y="87"/>
                    </a:lnTo>
                    <a:lnTo>
                      <a:pt x="577" y="81"/>
                    </a:lnTo>
                    <a:lnTo>
                      <a:pt x="577" y="75"/>
                    </a:lnTo>
                    <a:lnTo>
                      <a:pt x="577" y="68"/>
                    </a:lnTo>
                    <a:lnTo>
                      <a:pt x="576" y="62"/>
                    </a:lnTo>
                    <a:lnTo>
                      <a:pt x="576" y="56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35"/>
                    </a:lnTo>
                    <a:lnTo>
                      <a:pt x="577" y="29"/>
                    </a:lnTo>
                    <a:lnTo>
                      <a:pt x="578" y="24"/>
                    </a:lnTo>
                    <a:lnTo>
                      <a:pt x="580" y="20"/>
                    </a:lnTo>
                    <a:lnTo>
                      <a:pt x="581" y="15"/>
                    </a:lnTo>
                    <a:lnTo>
                      <a:pt x="583" y="11"/>
                    </a:lnTo>
                    <a:lnTo>
                      <a:pt x="586" y="6"/>
                    </a:lnTo>
                    <a:lnTo>
                      <a:pt x="589" y="4"/>
                    </a:lnTo>
                    <a:lnTo>
                      <a:pt x="592" y="2"/>
                    </a:lnTo>
                    <a:lnTo>
                      <a:pt x="596" y="0"/>
                    </a:lnTo>
                    <a:lnTo>
                      <a:pt x="604" y="2"/>
                    </a:lnTo>
                    <a:lnTo>
                      <a:pt x="612" y="4"/>
                    </a:lnTo>
                    <a:lnTo>
                      <a:pt x="619" y="8"/>
                    </a:lnTo>
                    <a:lnTo>
                      <a:pt x="628" y="12"/>
                    </a:lnTo>
                    <a:lnTo>
                      <a:pt x="634" y="17"/>
                    </a:lnTo>
                    <a:lnTo>
                      <a:pt x="641" y="22"/>
                    </a:lnTo>
                    <a:lnTo>
                      <a:pt x="647" y="28"/>
                    </a:lnTo>
                    <a:lnTo>
                      <a:pt x="653" y="34"/>
                    </a:lnTo>
                    <a:lnTo>
                      <a:pt x="659" y="41"/>
                    </a:lnTo>
                    <a:lnTo>
                      <a:pt x="664" y="50"/>
                    </a:lnTo>
                    <a:lnTo>
                      <a:pt x="668" y="59"/>
                    </a:lnTo>
                    <a:lnTo>
                      <a:pt x="672" y="68"/>
                    </a:lnTo>
                    <a:lnTo>
                      <a:pt x="676" y="77"/>
                    </a:lnTo>
                    <a:lnTo>
                      <a:pt x="678" y="87"/>
                    </a:lnTo>
                    <a:lnTo>
                      <a:pt x="682" y="95"/>
                    </a:lnTo>
                    <a:lnTo>
                      <a:pt x="685" y="105"/>
                    </a:lnTo>
                    <a:lnTo>
                      <a:pt x="691" y="118"/>
                    </a:lnTo>
                    <a:lnTo>
                      <a:pt x="696" y="131"/>
                    </a:lnTo>
                    <a:lnTo>
                      <a:pt x="702" y="143"/>
                    </a:lnTo>
                    <a:lnTo>
                      <a:pt x="707" y="156"/>
                    </a:lnTo>
                    <a:lnTo>
                      <a:pt x="712" y="170"/>
                    </a:lnTo>
                    <a:lnTo>
                      <a:pt x="718" y="183"/>
                    </a:lnTo>
                    <a:lnTo>
                      <a:pt x="722" y="196"/>
                    </a:lnTo>
                    <a:lnTo>
                      <a:pt x="728" y="209"/>
                    </a:lnTo>
                    <a:lnTo>
                      <a:pt x="732" y="216"/>
                    </a:lnTo>
                    <a:lnTo>
                      <a:pt x="734" y="225"/>
                    </a:lnTo>
                    <a:lnTo>
                      <a:pt x="738" y="232"/>
                    </a:lnTo>
                    <a:lnTo>
                      <a:pt x="740" y="240"/>
                    </a:lnTo>
                    <a:lnTo>
                      <a:pt x="744" y="248"/>
                    </a:lnTo>
                    <a:lnTo>
                      <a:pt x="748" y="256"/>
                    </a:lnTo>
                    <a:lnTo>
                      <a:pt x="752" y="263"/>
                    </a:lnTo>
                    <a:lnTo>
                      <a:pt x="756" y="270"/>
                    </a:lnTo>
                    <a:lnTo>
                      <a:pt x="762" y="278"/>
                    </a:lnTo>
                    <a:lnTo>
                      <a:pt x="768" y="285"/>
                    </a:lnTo>
                    <a:lnTo>
                      <a:pt x="774" y="292"/>
                    </a:lnTo>
                    <a:lnTo>
                      <a:pt x="781" y="299"/>
                    </a:lnTo>
                    <a:lnTo>
                      <a:pt x="787" y="306"/>
                    </a:lnTo>
                    <a:lnTo>
                      <a:pt x="794" y="314"/>
                    </a:lnTo>
                    <a:lnTo>
                      <a:pt x="802" y="320"/>
                    </a:lnTo>
                    <a:lnTo>
                      <a:pt x="809" y="327"/>
                    </a:lnTo>
                    <a:lnTo>
                      <a:pt x="817" y="335"/>
                    </a:lnTo>
                    <a:lnTo>
                      <a:pt x="827" y="344"/>
                    </a:lnTo>
                    <a:lnTo>
                      <a:pt x="835" y="352"/>
                    </a:lnTo>
                    <a:lnTo>
                      <a:pt x="845" y="360"/>
                    </a:lnTo>
                    <a:lnTo>
                      <a:pt x="853" y="368"/>
                    </a:lnTo>
                    <a:lnTo>
                      <a:pt x="863" y="375"/>
                    </a:lnTo>
                    <a:lnTo>
                      <a:pt x="874" y="382"/>
                    </a:lnTo>
                    <a:lnTo>
                      <a:pt x="884" y="388"/>
                    </a:lnTo>
                    <a:lnTo>
                      <a:pt x="893" y="392"/>
                    </a:lnTo>
                    <a:lnTo>
                      <a:pt x="902" y="395"/>
                    </a:lnTo>
                    <a:lnTo>
                      <a:pt x="911" y="398"/>
                    </a:lnTo>
                    <a:lnTo>
                      <a:pt x="920" y="399"/>
                    </a:lnTo>
                    <a:lnTo>
                      <a:pt x="930" y="400"/>
                    </a:lnTo>
                    <a:lnTo>
                      <a:pt x="941" y="401"/>
                    </a:lnTo>
                    <a:lnTo>
                      <a:pt x="950" y="401"/>
                    </a:lnTo>
                    <a:lnTo>
                      <a:pt x="960" y="402"/>
                    </a:lnTo>
                    <a:lnTo>
                      <a:pt x="972" y="402"/>
                    </a:lnTo>
                    <a:lnTo>
                      <a:pt x="983" y="402"/>
                    </a:lnTo>
                    <a:lnTo>
                      <a:pt x="995" y="402"/>
                    </a:lnTo>
                    <a:lnTo>
                      <a:pt x="1007" y="402"/>
                    </a:lnTo>
                    <a:lnTo>
                      <a:pt x="1019" y="401"/>
                    </a:lnTo>
                    <a:lnTo>
                      <a:pt x="1031" y="401"/>
                    </a:lnTo>
                    <a:lnTo>
                      <a:pt x="1043" y="399"/>
                    </a:lnTo>
                    <a:lnTo>
                      <a:pt x="1054" y="398"/>
                    </a:lnTo>
                    <a:lnTo>
                      <a:pt x="1062" y="395"/>
                    </a:lnTo>
                    <a:lnTo>
                      <a:pt x="1070" y="394"/>
                    </a:lnTo>
                    <a:lnTo>
                      <a:pt x="1079" y="392"/>
                    </a:lnTo>
                    <a:lnTo>
                      <a:pt x="1086" y="389"/>
                    </a:lnTo>
                    <a:lnTo>
                      <a:pt x="1094" y="386"/>
                    </a:lnTo>
                    <a:lnTo>
                      <a:pt x="1102" y="382"/>
                    </a:lnTo>
                    <a:lnTo>
                      <a:pt x="1109" y="378"/>
                    </a:lnTo>
                    <a:lnTo>
                      <a:pt x="1116" y="374"/>
                    </a:lnTo>
                    <a:lnTo>
                      <a:pt x="1122" y="369"/>
                    </a:lnTo>
                    <a:lnTo>
                      <a:pt x="1129" y="363"/>
                    </a:lnTo>
                    <a:lnTo>
                      <a:pt x="1136" y="357"/>
                    </a:lnTo>
                    <a:lnTo>
                      <a:pt x="1142" y="351"/>
                    </a:lnTo>
                    <a:lnTo>
                      <a:pt x="1148" y="344"/>
                    </a:lnTo>
                    <a:lnTo>
                      <a:pt x="1152" y="336"/>
                    </a:lnTo>
                    <a:lnTo>
                      <a:pt x="1153" y="333"/>
                    </a:lnTo>
                    <a:lnTo>
                      <a:pt x="1154" y="329"/>
                    </a:lnTo>
                    <a:lnTo>
                      <a:pt x="1154" y="326"/>
                    </a:lnTo>
                    <a:lnTo>
                      <a:pt x="1153" y="322"/>
                    </a:lnTo>
                    <a:lnTo>
                      <a:pt x="1152" y="318"/>
                    </a:lnTo>
                    <a:lnTo>
                      <a:pt x="1150" y="315"/>
                    </a:lnTo>
                    <a:lnTo>
                      <a:pt x="1147" y="311"/>
                    </a:lnTo>
                    <a:lnTo>
                      <a:pt x="1144" y="309"/>
                    </a:lnTo>
                    <a:lnTo>
                      <a:pt x="1136" y="304"/>
                    </a:lnTo>
                    <a:lnTo>
                      <a:pt x="1128" y="300"/>
                    </a:lnTo>
                    <a:lnTo>
                      <a:pt x="1118" y="298"/>
                    </a:lnTo>
                    <a:lnTo>
                      <a:pt x="1110" y="294"/>
                    </a:lnTo>
                    <a:lnTo>
                      <a:pt x="1100" y="292"/>
                    </a:lnTo>
                    <a:lnTo>
                      <a:pt x="1092" y="288"/>
                    </a:lnTo>
                    <a:lnTo>
                      <a:pt x="1082" y="285"/>
                    </a:lnTo>
                    <a:lnTo>
                      <a:pt x="1072" y="281"/>
                    </a:lnTo>
                    <a:lnTo>
                      <a:pt x="1062" y="279"/>
                    </a:lnTo>
                    <a:lnTo>
                      <a:pt x="1051" y="275"/>
                    </a:lnTo>
                    <a:lnTo>
                      <a:pt x="1042" y="273"/>
                    </a:lnTo>
                    <a:lnTo>
                      <a:pt x="1031" y="269"/>
                    </a:lnTo>
                    <a:lnTo>
                      <a:pt x="1021" y="266"/>
                    </a:lnTo>
                    <a:lnTo>
                      <a:pt x="1012" y="261"/>
                    </a:lnTo>
                    <a:lnTo>
                      <a:pt x="1006" y="257"/>
                    </a:lnTo>
                    <a:lnTo>
                      <a:pt x="1000" y="252"/>
                    </a:lnTo>
                    <a:lnTo>
                      <a:pt x="994" y="249"/>
                    </a:lnTo>
                    <a:lnTo>
                      <a:pt x="989" y="244"/>
                    </a:lnTo>
                    <a:lnTo>
                      <a:pt x="983" y="239"/>
                    </a:lnTo>
                    <a:lnTo>
                      <a:pt x="978" y="234"/>
                    </a:lnTo>
                    <a:lnTo>
                      <a:pt x="973" y="228"/>
                    </a:lnTo>
                    <a:lnTo>
                      <a:pt x="970" y="222"/>
                    </a:lnTo>
                    <a:lnTo>
                      <a:pt x="965" y="216"/>
                    </a:lnTo>
                    <a:lnTo>
                      <a:pt x="961" y="210"/>
                    </a:lnTo>
                    <a:lnTo>
                      <a:pt x="958" y="204"/>
                    </a:lnTo>
                    <a:lnTo>
                      <a:pt x="954" y="198"/>
                    </a:lnTo>
                    <a:lnTo>
                      <a:pt x="952" y="191"/>
                    </a:lnTo>
                    <a:lnTo>
                      <a:pt x="949" y="185"/>
                    </a:lnTo>
                    <a:lnTo>
                      <a:pt x="947" y="178"/>
                    </a:lnTo>
                    <a:lnTo>
                      <a:pt x="946" y="171"/>
                    </a:lnTo>
                    <a:lnTo>
                      <a:pt x="944" y="166"/>
                    </a:lnTo>
                    <a:lnTo>
                      <a:pt x="943" y="161"/>
                    </a:lnTo>
                    <a:lnTo>
                      <a:pt x="943" y="155"/>
                    </a:lnTo>
                    <a:lnTo>
                      <a:pt x="943" y="150"/>
                    </a:lnTo>
                    <a:lnTo>
                      <a:pt x="944" y="146"/>
                    </a:lnTo>
                    <a:lnTo>
                      <a:pt x="946" y="141"/>
                    </a:lnTo>
                    <a:lnTo>
                      <a:pt x="947" y="137"/>
                    </a:lnTo>
                    <a:lnTo>
                      <a:pt x="950" y="134"/>
                    </a:lnTo>
                    <a:lnTo>
                      <a:pt x="955" y="130"/>
                    </a:lnTo>
                    <a:lnTo>
                      <a:pt x="960" y="126"/>
                    </a:lnTo>
                    <a:lnTo>
                      <a:pt x="966" y="125"/>
                    </a:lnTo>
                    <a:lnTo>
                      <a:pt x="972" y="124"/>
                    </a:lnTo>
                    <a:lnTo>
                      <a:pt x="978" y="123"/>
                    </a:lnTo>
                    <a:lnTo>
                      <a:pt x="985" y="123"/>
                    </a:lnTo>
                    <a:lnTo>
                      <a:pt x="991" y="123"/>
                    </a:lnTo>
                    <a:lnTo>
                      <a:pt x="997" y="124"/>
                    </a:lnTo>
                    <a:lnTo>
                      <a:pt x="1006" y="125"/>
                    </a:lnTo>
                    <a:lnTo>
                      <a:pt x="1013" y="126"/>
                    </a:lnTo>
                    <a:lnTo>
                      <a:pt x="1021" y="129"/>
                    </a:lnTo>
                    <a:lnTo>
                      <a:pt x="1028" y="132"/>
                    </a:lnTo>
                    <a:lnTo>
                      <a:pt x="1036" y="135"/>
                    </a:lnTo>
                    <a:lnTo>
                      <a:pt x="1043" y="138"/>
                    </a:lnTo>
                    <a:lnTo>
                      <a:pt x="1051" y="141"/>
                    </a:lnTo>
                    <a:lnTo>
                      <a:pt x="1058" y="142"/>
                    </a:lnTo>
                    <a:lnTo>
                      <a:pt x="1068" y="144"/>
                    </a:lnTo>
                    <a:lnTo>
                      <a:pt x="1078" y="146"/>
                    </a:lnTo>
                    <a:lnTo>
                      <a:pt x="1087" y="148"/>
                    </a:lnTo>
                    <a:lnTo>
                      <a:pt x="1097" y="149"/>
                    </a:lnTo>
                    <a:lnTo>
                      <a:pt x="1106" y="149"/>
                    </a:lnTo>
                    <a:lnTo>
                      <a:pt x="1115" y="150"/>
                    </a:lnTo>
                    <a:lnTo>
                      <a:pt x="1124" y="152"/>
                    </a:lnTo>
                    <a:lnTo>
                      <a:pt x="1134" y="152"/>
                    </a:lnTo>
                    <a:lnTo>
                      <a:pt x="1145" y="153"/>
                    </a:lnTo>
                    <a:lnTo>
                      <a:pt x="1156" y="153"/>
                    </a:lnTo>
                    <a:lnTo>
                      <a:pt x="1166" y="153"/>
                    </a:lnTo>
                    <a:lnTo>
                      <a:pt x="1177" y="153"/>
                    </a:lnTo>
                    <a:lnTo>
                      <a:pt x="1188" y="153"/>
                    </a:lnTo>
                    <a:lnTo>
                      <a:pt x="1198" y="153"/>
                    </a:lnTo>
                    <a:lnTo>
                      <a:pt x="1208" y="153"/>
                    </a:lnTo>
                    <a:lnTo>
                      <a:pt x="1219" y="152"/>
                    </a:lnTo>
                    <a:lnTo>
                      <a:pt x="1226" y="152"/>
                    </a:lnTo>
                    <a:lnTo>
                      <a:pt x="1234" y="150"/>
                    </a:lnTo>
                    <a:lnTo>
                      <a:pt x="1241" y="149"/>
                    </a:lnTo>
                    <a:lnTo>
                      <a:pt x="1248" y="148"/>
                    </a:lnTo>
                    <a:lnTo>
                      <a:pt x="1255" y="147"/>
                    </a:lnTo>
                    <a:lnTo>
                      <a:pt x="1262" y="147"/>
                    </a:lnTo>
                    <a:lnTo>
                      <a:pt x="1270" y="147"/>
                    </a:lnTo>
                    <a:lnTo>
                      <a:pt x="1276" y="147"/>
                    </a:lnTo>
                    <a:lnTo>
                      <a:pt x="1282" y="149"/>
                    </a:lnTo>
                    <a:lnTo>
                      <a:pt x="1288" y="150"/>
                    </a:lnTo>
                    <a:lnTo>
                      <a:pt x="1294" y="153"/>
                    </a:lnTo>
                    <a:lnTo>
                      <a:pt x="1300" y="155"/>
                    </a:lnTo>
                    <a:lnTo>
                      <a:pt x="1304" y="159"/>
                    </a:lnTo>
                    <a:lnTo>
                      <a:pt x="1310" y="162"/>
                    </a:lnTo>
                    <a:lnTo>
                      <a:pt x="1314" y="166"/>
                    </a:lnTo>
                    <a:lnTo>
                      <a:pt x="1319" y="171"/>
                    </a:lnTo>
                    <a:lnTo>
                      <a:pt x="1322" y="176"/>
                    </a:lnTo>
                    <a:lnTo>
                      <a:pt x="1325" y="182"/>
                    </a:lnTo>
                    <a:lnTo>
                      <a:pt x="1326" y="188"/>
                    </a:lnTo>
                    <a:lnTo>
                      <a:pt x="1328" y="194"/>
                    </a:lnTo>
                    <a:lnTo>
                      <a:pt x="1330" y="200"/>
                    </a:lnTo>
                    <a:lnTo>
                      <a:pt x="1331" y="206"/>
                    </a:lnTo>
                    <a:lnTo>
                      <a:pt x="1331" y="212"/>
                    </a:lnTo>
                    <a:lnTo>
                      <a:pt x="1333" y="218"/>
                    </a:lnTo>
                    <a:lnTo>
                      <a:pt x="1337" y="234"/>
                    </a:lnTo>
                    <a:lnTo>
                      <a:pt x="1340" y="250"/>
                    </a:lnTo>
                    <a:lnTo>
                      <a:pt x="1344" y="266"/>
                    </a:lnTo>
                    <a:lnTo>
                      <a:pt x="1349" y="281"/>
                    </a:lnTo>
                    <a:lnTo>
                      <a:pt x="1352" y="297"/>
                    </a:lnTo>
                    <a:lnTo>
                      <a:pt x="1355" y="314"/>
                    </a:lnTo>
                    <a:lnTo>
                      <a:pt x="1358" y="329"/>
                    </a:lnTo>
                    <a:lnTo>
                      <a:pt x="1361" y="346"/>
                    </a:lnTo>
                    <a:lnTo>
                      <a:pt x="1363" y="360"/>
                    </a:lnTo>
                    <a:lnTo>
                      <a:pt x="1364" y="375"/>
                    </a:lnTo>
                    <a:lnTo>
                      <a:pt x="1364" y="389"/>
                    </a:lnTo>
                    <a:lnTo>
                      <a:pt x="1364" y="405"/>
                    </a:lnTo>
                    <a:lnTo>
                      <a:pt x="1366" y="419"/>
                    </a:lnTo>
                    <a:lnTo>
                      <a:pt x="1366" y="435"/>
                    </a:lnTo>
                    <a:lnTo>
                      <a:pt x="1368" y="449"/>
                    </a:lnTo>
                    <a:lnTo>
                      <a:pt x="1370" y="463"/>
                    </a:lnTo>
                    <a:lnTo>
                      <a:pt x="1373" y="473"/>
                    </a:lnTo>
                    <a:lnTo>
                      <a:pt x="1375" y="483"/>
                    </a:lnTo>
                    <a:lnTo>
                      <a:pt x="1379" y="492"/>
                    </a:lnTo>
                    <a:lnTo>
                      <a:pt x="1382" y="502"/>
                    </a:lnTo>
                    <a:lnTo>
                      <a:pt x="1386" y="510"/>
                    </a:lnTo>
                    <a:lnTo>
                      <a:pt x="1391" y="519"/>
                    </a:lnTo>
                    <a:lnTo>
                      <a:pt x="1397" y="527"/>
                    </a:lnTo>
                    <a:lnTo>
                      <a:pt x="1404" y="534"/>
                    </a:lnTo>
                    <a:lnTo>
                      <a:pt x="1409" y="538"/>
                    </a:lnTo>
                    <a:lnTo>
                      <a:pt x="1414" y="540"/>
                    </a:lnTo>
                    <a:lnTo>
                      <a:pt x="1420" y="543"/>
                    </a:lnTo>
                    <a:lnTo>
                      <a:pt x="1427" y="544"/>
                    </a:lnTo>
                    <a:lnTo>
                      <a:pt x="1433" y="544"/>
                    </a:lnTo>
                    <a:lnTo>
                      <a:pt x="1440" y="544"/>
                    </a:lnTo>
                    <a:lnTo>
                      <a:pt x="1446" y="541"/>
                    </a:lnTo>
                    <a:lnTo>
                      <a:pt x="1451" y="539"/>
                    </a:lnTo>
                    <a:lnTo>
                      <a:pt x="1462" y="531"/>
                    </a:lnTo>
                    <a:lnTo>
                      <a:pt x="1471" y="521"/>
                    </a:lnTo>
                    <a:lnTo>
                      <a:pt x="1481" y="510"/>
                    </a:lnTo>
                    <a:lnTo>
                      <a:pt x="1489" y="499"/>
                    </a:lnTo>
                    <a:lnTo>
                      <a:pt x="1498" y="489"/>
                    </a:lnTo>
                    <a:lnTo>
                      <a:pt x="1505" y="477"/>
                    </a:lnTo>
                    <a:lnTo>
                      <a:pt x="1513" y="465"/>
                    </a:lnTo>
                    <a:lnTo>
                      <a:pt x="1522" y="454"/>
                    </a:lnTo>
                    <a:lnTo>
                      <a:pt x="1532" y="440"/>
                    </a:lnTo>
                    <a:lnTo>
                      <a:pt x="1542" y="426"/>
                    </a:lnTo>
                    <a:lnTo>
                      <a:pt x="1552" y="412"/>
                    </a:lnTo>
                    <a:lnTo>
                      <a:pt x="1561" y="398"/>
                    </a:lnTo>
                    <a:lnTo>
                      <a:pt x="1572" y="383"/>
                    </a:lnTo>
                    <a:lnTo>
                      <a:pt x="1582" y="369"/>
                    </a:lnTo>
                    <a:lnTo>
                      <a:pt x="1591" y="354"/>
                    </a:lnTo>
                    <a:lnTo>
                      <a:pt x="1602" y="341"/>
                    </a:lnTo>
                    <a:lnTo>
                      <a:pt x="1609" y="330"/>
                    </a:lnTo>
                    <a:lnTo>
                      <a:pt x="1618" y="321"/>
                    </a:lnTo>
                    <a:lnTo>
                      <a:pt x="1625" y="311"/>
                    </a:lnTo>
                    <a:lnTo>
                      <a:pt x="1633" y="302"/>
                    </a:lnTo>
                    <a:lnTo>
                      <a:pt x="1642" y="292"/>
                    </a:lnTo>
                    <a:lnTo>
                      <a:pt x="1650" y="282"/>
                    </a:lnTo>
                    <a:lnTo>
                      <a:pt x="1658" y="274"/>
                    </a:lnTo>
                    <a:lnTo>
                      <a:pt x="1668" y="266"/>
                    </a:lnTo>
                    <a:lnTo>
                      <a:pt x="1673" y="261"/>
                    </a:lnTo>
                    <a:lnTo>
                      <a:pt x="1679" y="256"/>
                    </a:lnTo>
                    <a:lnTo>
                      <a:pt x="1685" y="251"/>
                    </a:lnTo>
                    <a:lnTo>
                      <a:pt x="1692" y="246"/>
                    </a:lnTo>
                    <a:lnTo>
                      <a:pt x="1698" y="243"/>
                    </a:lnTo>
                    <a:lnTo>
                      <a:pt x="1704" y="242"/>
                    </a:lnTo>
                    <a:lnTo>
                      <a:pt x="1706" y="242"/>
                    </a:lnTo>
                    <a:lnTo>
                      <a:pt x="1708" y="243"/>
                    </a:lnTo>
                    <a:lnTo>
                      <a:pt x="1709" y="244"/>
                    </a:lnTo>
                    <a:lnTo>
                      <a:pt x="1710" y="246"/>
                    </a:lnTo>
                    <a:lnTo>
                      <a:pt x="1715" y="263"/>
                    </a:lnTo>
                    <a:lnTo>
                      <a:pt x="1717" y="280"/>
                    </a:lnTo>
                    <a:lnTo>
                      <a:pt x="1718" y="297"/>
                    </a:lnTo>
                    <a:lnTo>
                      <a:pt x="1718" y="315"/>
                    </a:lnTo>
                    <a:lnTo>
                      <a:pt x="1716" y="332"/>
                    </a:lnTo>
                    <a:lnTo>
                      <a:pt x="1714" y="350"/>
                    </a:lnTo>
                    <a:lnTo>
                      <a:pt x="1710" y="366"/>
                    </a:lnTo>
                    <a:lnTo>
                      <a:pt x="1705" y="383"/>
                    </a:lnTo>
                    <a:lnTo>
                      <a:pt x="1697" y="412"/>
                    </a:lnTo>
                    <a:lnTo>
                      <a:pt x="1687" y="442"/>
                    </a:lnTo>
                    <a:lnTo>
                      <a:pt x="1675" y="469"/>
                    </a:lnTo>
                    <a:lnTo>
                      <a:pt x="1663" y="498"/>
                    </a:lnTo>
                    <a:lnTo>
                      <a:pt x="1651" y="526"/>
                    </a:lnTo>
                    <a:lnTo>
                      <a:pt x="1638" y="555"/>
                    </a:lnTo>
                    <a:lnTo>
                      <a:pt x="1625" y="582"/>
                    </a:lnTo>
                    <a:lnTo>
                      <a:pt x="1612" y="610"/>
                    </a:lnTo>
                    <a:lnTo>
                      <a:pt x="1603" y="625"/>
                    </a:lnTo>
                    <a:lnTo>
                      <a:pt x="1596" y="640"/>
                    </a:lnTo>
                    <a:lnTo>
                      <a:pt x="1588" y="655"/>
                    </a:lnTo>
                    <a:lnTo>
                      <a:pt x="1579" y="671"/>
                    </a:lnTo>
                    <a:lnTo>
                      <a:pt x="1571" y="685"/>
                    </a:lnTo>
                    <a:lnTo>
                      <a:pt x="1561" y="700"/>
                    </a:lnTo>
                    <a:lnTo>
                      <a:pt x="1552" y="714"/>
                    </a:lnTo>
                    <a:lnTo>
                      <a:pt x="1541" y="727"/>
                    </a:lnTo>
                    <a:lnTo>
                      <a:pt x="1532" y="736"/>
                    </a:lnTo>
                    <a:lnTo>
                      <a:pt x="1524" y="743"/>
                    </a:lnTo>
                    <a:lnTo>
                      <a:pt x="1516" y="750"/>
                    </a:lnTo>
                    <a:lnTo>
                      <a:pt x="1506" y="757"/>
                    </a:lnTo>
                    <a:lnTo>
                      <a:pt x="1496" y="763"/>
                    </a:lnTo>
                    <a:lnTo>
                      <a:pt x="1488" y="769"/>
                    </a:lnTo>
                    <a:lnTo>
                      <a:pt x="1478" y="777"/>
                    </a:lnTo>
                    <a:lnTo>
                      <a:pt x="1470" y="784"/>
                    </a:lnTo>
                    <a:lnTo>
                      <a:pt x="1465" y="787"/>
                    </a:lnTo>
                    <a:lnTo>
                      <a:pt x="1462" y="791"/>
                    </a:lnTo>
                    <a:lnTo>
                      <a:pt x="1457" y="795"/>
                    </a:lnTo>
                    <a:lnTo>
                      <a:pt x="1453" y="799"/>
                    </a:lnTo>
                    <a:lnTo>
                      <a:pt x="1448" y="803"/>
                    </a:lnTo>
                    <a:lnTo>
                      <a:pt x="1446" y="808"/>
                    </a:lnTo>
                    <a:lnTo>
                      <a:pt x="1444" y="813"/>
                    </a:lnTo>
                    <a:lnTo>
                      <a:pt x="1441" y="817"/>
                    </a:lnTo>
                    <a:lnTo>
                      <a:pt x="1440" y="823"/>
                    </a:lnTo>
                    <a:lnTo>
                      <a:pt x="1439" y="829"/>
                    </a:lnTo>
                    <a:lnTo>
                      <a:pt x="1439" y="837"/>
                    </a:lnTo>
                    <a:lnTo>
                      <a:pt x="1440" y="844"/>
                    </a:lnTo>
                    <a:lnTo>
                      <a:pt x="1441" y="850"/>
                    </a:lnTo>
                    <a:lnTo>
                      <a:pt x="1444" y="856"/>
                    </a:lnTo>
                    <a:lnTo>
                      <a:pt x="1446" y="861"/>
                    </a:lnTo>
                    <a:lnTo>
                      <a:pt x="1451" y="864"/>
                    </a:lnTo>
                    <a:lnTo>
                      <a:pt x="1460" y="869"/>
                    </a:lnTo>
                    <a:lnTo>
                      <a:pt x="1470" y="874"/>
                    </a:lnTo>
                    <a:lnTo>
                      <a:pt x="1481" y="877"/>
                    </a:lnTo>
                    <a:lnTo>
                      <a:pt x="1492" y="879"/>
                    </a:lnTo>
                    <a:lnTo>
                      <a:pt x="1502" y="880"/>
                    </a:lnTo>
                    <a:lnTo>
                      <a:pt x="1514" y="881"/>
                    </a:lnTo>
                    <a:lnTo>
                      <a:pt x="1525" y="880"/>
                    </a:lnTo>
                    <a:lnTo>
                      <a:pt x="1536" y="879"/>
                    </a:lnTo>
                    <a:lnTo>
                      <a:pt x="1548" y="876"/>
                    </a:lnTo>
                    <a:lnTo>
                      <a:pt x="1559" y="873"/>
                    </a:lnTo>
                    <a:lnTo>
                      <a:pt x="1571" y="869"/>
                    </a:lnTo>
                    <a:lnTo>
                      <a:pt x="1582" y="864"/>
                    </a:lnTo>
                    <a:lnTo>
                      <a:pt x="1592" y="858"/>
                    </a:lnTo>
                    <a:lnTo>
                      <a:pt x="1603" y="852"/>
                    </a:lnTo>
                    <a:lnTo>
                      <a:pt x="1613" y="844"/>
                    </a:lnTo>
                    <a:lnTo>
                      <a:pt x="1621" y="835"/>
                    </a:lnTo>
                    <a:lnTo>
                      <a:pt x="1634" y="819"/>
                    </a:lnTo>
                    <a:lnTo>
                      <a:pt x="1648" y="801"/>
                    </a:lnTo>
                    <a:lnTo>
                      <a:pt x="1658" y="781"/>
                    </a:lnTo>
                    <a:lnTo>
                      <a:pt x="1669" y="762"/>
                    </a:lnTo>
                    <a:lnTo>
                      <a:pt x="1680" y="742"/>
                    </a:lnTo>
                    <a:lnTo>
                      <a:pt x="1691" y="723"/>
                    </a:lnTo>
                    <a:lnTo>
                      <a:pt x="1703" y="703"/>
                    </a:lnTo>
                    <a:lnTo>
                      <a:pt x="1715" y="685"/>
                    </a:lnTo>
                    <a:lnTo>
                      <a:pt x="1724" y="673"/>
                    </a:lnTo>
                    <a:lnTo>
                      <a:pt x="1735" y="661"/>
                    </a:lnTo>
                    <a:lnTo>
                      <a:pt x="1746" y="651"/>
                    </a:lnTo>
                    <a:lnTo>
                      <a:pt x="1757" y="640"/>
                    </a:lnTo>
                    <a:lnTo>
                      <a:pt x="1769" y="629"/>
                    </a:lnTo>
                    <a:lnTo>
                      <a:pt x="1781" y="618"/>
                    </a:lnTo>
                    <a:lnTo>
                      <a:pt x="1793" y="609"/>
                    </a:lnTo>
                    <a:lnTo>
                      <a:pt x="1805" y="600"/>
                    </a:lnTo>
                    <a:lnTo>
                      <a:pt x="1813" y="594"/>
                    </a:lnTo>
                    <a:lnTo>
                      <a:pt x="1822" y="589"/>
                    </a:lnTo>
                    <a:lnTo>
                      <a:pt x="1830" y="583"/>
                    </a:lnTo>
                    <a:lnTo>
                      <a:pt x="1838" y="580"/>
                    </a:lnTo>
                    <a:lnTo>
                      <a:pt x="1848" y="576"/>
                    </a:lnTo>
                    <a:lnTo>
                      <a:pt x="1856" y="573"/>
                    </a:lnTo>
                    <a:lnTo>
                      <a:pt x="1866" y="571"/>
                    </a:lnTo>
                    <a:lnTo>
                      <a:pt x="1876" y="571"/>
                    </a:lnTo>
                    <a:lnTo>
                      <a:pt x="1885" y="574"/>
                    </a:lnTo>
                    <a:lnTo>
                      <a:pt x="1894" y="577"/>
                    </a:lnTo>
                    <a:lnTo>
                      <a:pt x="1902" y="582"/>
                    </a:lnTo>
                    <a:lnTo>
                      <a:pt x="1909" y="587"/>
                    </a:lnTo>
                    <a:lnTo>
                      <a:pt x="1916" y="593"/>
                    </a:lnTo>
                    <a:lnTo>
                      <a:pt x="1924" y="600"/>
                    </a:lnTo>
                    <a:lnTo>
                      <a:pt x="1931" y="607"/>
                    </a:lnTo>
                    <a:lnTo>
                      <a:pt x="1937" y="615"/>
                    </a:lnTo>
                    <a:lnTo>
                      <a:pt x="1944" y="622"/>
                    </a:lnTo>
                    <a:lnTo>
                      <a:pt x="1950" y="629"/>
                    </a:lnTo>
                    <a:lnTo>
                      <a:pt x="1955" y="637"/>
                    </a:lnTo>
                    <a:lnTo>
                      <a:pt x="1960" y="646"/>
                    </a:lnTo>
                    <a:lnTo>
                      <a:pt x="1966" y="654"/>
                    </a:lnTo>
                    <a:lnTo>
                      <a:pt x="1970" y="663"/>
                    </a:lnTo>
                    <a:lnTo>
                      <a:pt x="1975" y="672"/>
                    </a:lnTo>
                    <a:lnTo>
                      <a:pt x="1980" y="681"/>
                    </a:lnTo>
                    <a:lnTo>
                      <a:pt x="1987" y="693"/>
                    </a:lnTo>
                    <a:lnTo>
                      <a:pt x="1994" y="705"/>
                    </a:lnTo>
                    <a:lnTo>
                      <a:pt x="2003" y="717"/>
                    </a:lnTo>
                    <a:lnTo>
                      <a:pt x="2010" y="729"/>
                    </a:lnTo>
                    <a:lnTo>
                      <a:pt x="2017" y="741"/>
                    </a:lnTo>
                    <a:lnTo>
                      <a:pt x="2024" y="754"/>
                    </a:lnTo>
                    <a:lnTo>
                      <a:pt x="2030" y="766"/>
                    </a:lnTo>
                    <a:lnTo>
                      <a:pt x="2036" y="779"/>
                    </a:lnTo>
                    <a:lnTo>
                      <a:pt x="2039" y="787"/>
                    </a:lnTo>
                    <a:lnTo>
                      <a:pt x="2042" y="796"/>
                    </a:lnTo>
                    <a:lnTo>
                      <a:pt x="2044" y="803"/>
                    </a:lnTo>
                    <a:lnTo>
                      <a:pt x="2046" y="811"/>
                    </a:lnTo>
                    <a:lnTo>
                      <a:pt x="2047" y="820"/>
                    </a:lnTo>
                    <a:lnTo>
                      <a:pt x="2047" y="828"/>
                    </a:lnTo>
                    <a:lnTo>
                      <a:pt x="2047" y="837"/>
                    </a:lnTo>
                    <a:lnTo>
                      <a:pt x="2046" y="845"/>
                    </a:lnTo>
                    <a:lnTo>
                      <a:pt x="2045" y="851"/>
                    </a:lnTo>
                    <a:lnTo>
                      <a:pt x="2042" y="857"/>
                    </a:lnTo>
                    <a:lnTo>
                      <a:pt x="2040" y="862"/>
                    </a:lnTo>
                    <a:lnTo>
                      <a:pt x="2036" y="867"/>
                    </a:lnTo>
                    <a:lnTo>
                      <a:pt x="2032" y="871"/>
                    </a:lnTo>
                    <a:lnTo>
                      <a:pt x="2028" y="875"/>
                    </a:lnTo>
                    <a:lnTo>
                      <a:pt x="2023" y="877"/>
                    </a:lnTo>
                    <a:lnTo>
                      <a:pt x="2017" y="879"/>
                    </a:lnTo>
                    <a:lnTo>
                      <a:pt x="2009" y="879"/>
                    </a:lnTo>
                    <a:lnTo>
                      <a:pt x="2000" y="876"/>
                    </a:lnTo>
                    <a:lnTo>
                      <a:pt x="1992" y="874"/>
                    </a:lnTo>
                    <a:lnTo>
                      <a:pt x="1985" y="870"/>
                    </a:lnTo>
                    <a:lnTo>
                      <a:pt x="1976" y="867"/>
                    </a:lnTo>
                    <a:lnTo>
                      <a:pt x="1969" y="861"/>
                    </a:lnTo>
                    <a:lnTo>
                      <a:pt x="1962" y="856"/>
                    </a:lnTo>
                    <a:lnTo>
                      <a:pt x="1956" y="850"/>
                    </a:lnTo>
                    <a:lnTo>
                      <a:pt x="1948" y="841"/>
                    </a:lnTo>
                    <a:lnTo>
                      <a:pt x="1939" y="832"/>
                    </a:lnTo>
                    <a:lnTo>
                      <a:pt x="1933" y="822"/>
                    </a:lnTo>
                    <a:lnTo>
                      <a:pt x="1926" y="811"/>
                    </a:lnTo>
                    <a:lnTo>
                      <a:pt x="1920" y="801"/>
                    </a:lnTo>
                    <a:lnTo>
                      <a:pt x="1913" y="791"/>
                    </a:lnTo>
                    <a:lnTo>
                      <a:pt x="1907" y="780"/>
                    </a:lnTo>
                    <a:lnTo>
                      <a:pt x="1900" y="769"/>
                    </a:lnTo>
                    <a:lnTo>
                      <a:pt x="1895" y="763"/>
                    </a:lnTo>
                    <a:lnTo>
                      <a:pt x="1891" y="757"/>
                    </a:lnTo>
                    <a:lnTo>
                      <a:pt x="1886" y="751"/>
                    </a:lnTo>
                    <a:lnTo>
                      <a:pt x="1882" y="745"/>
                    </a:lnTo>
                    <a:lnTo>
                      <a:pt x="1878" y="738"/>
                    </a:lnTo>
                    <a:lnTo>
                      <a:pt x="1872" y="733"/>
                    </a:lnTo>
                    <a:lnTo>
                      <a:pt x="1867" y="727"/>
                    </a:lnTo>
                    <a:lnTo>
                      <a:pt x="1861" y="723"/>
                    </a:lnTo>
                    <a:lnTo>
                      <a:pt x="1859" y="721"/>
                    </a:lnTo>
                    <a:lnTo>
                      <a:pt x="1856" y="720"/>
                    </a:lnTo>
                    <a:lnTo>
                      <a:pt x="1853" y="719"/>
                    </a:lnTo>
                    <a:lnTo>
                      <a:pt x="1849" y="719"/>
                    </a:lnTo>
                    <a:lnTo>
                      <a:pt x="1846" y="719"/>
                    </a:lnTo>
                    <a:lnTo>
                      <a:pt x="1843" y="719"/>
                    </a:lnTo>
                    <a:lnTo>
                      <a:pt x="1840" y="720"/>
                    </a:lnTo>
                    <a:lnTo>
                      <a:pt x="1838" y="723"/>
                    </a:lnTo>
                    <a:lnTo>
                      <a:pt x="1830" y="736"/>
                    </a:lnTo>
                    <a:lnTo>
                      <a:pt x="1822" y="749"/>
                    </a:lnTo>
                    <a:lnTo>
                      <a:pt x="1814" y="762"/>
                    </a:lnTo>
                    <a:lnTo>
                      <a:pt x="1808" y="777"/>
                    </a:lnTo>
                    <a:lnTo>
                      <a:pt x="1802" y="790"/>
                    </a:lnTo>
                    <a:lnTo>
                      <a:pt x="1795" y="804"/>
                    </a:lnTo>
                    <a:lnTo>
                      <a:pt x="1789" y="817"/>
                    </a:lnTo>
                    <a:lnTo>
                      <a:pt x="1781" y="832"/>
                    </a:lnTo>
                    <a:lnTo>
                      <a:pt x="1774" y="845"/>
                    </a:lnTo>
                    <a:lnTo>
                      <a:pt x="1765" y="858"/>
                    </a:lnTo>
                    <a:lnTo>
                      <a:pt x="1757" y="871"/>
                    </a:lnTo>
                    <a:lnTo>
                      <a:pt x="1748" y="885"/>
                    </a:lnTo>
                    <a:lnTo>
                      <a:pt x="1739" y="898"/>
                    </a:lnTo>
                    <a:lnTo>
                      <a:pt x="1730" y="911"/>
                    </a:lnTo>
                    <a:lnTo>
                      <a:pt x="1721" y="923"/>
                    </a:lnTo>
                    <a:lnTo>
                      <a:pt x="1710" y="935"/>
                    </a:lnTo>
                    <a:lnTo>
                      <a:pt x="1700" y="946"/>
                    </a:lnTo>
                    <a:lnTo>
                      <a:pt x="1691" y="957"/>
                    </a:lnTo>
                    <a:lnTo>
                      <a:pt x="1681" y="967"/>
                    </a:lnTo>
                    <a:lnTo>
                      <a:pt x="1670" y="977"/>
                    </a:lnTo>
                    <a:lnTo>
                      <a:pt x="1660" y="987"/>
                    </a:lnTo>
                    <a:lnTo>
                      <a:pt x="1648" y="996"/>
                    </a:lnTo>
                    <a:lnTo>
                      <a:pt x="1637" y="1006"/>
                    </a:lnTo>
                    <a:lnTo>
                      <a:pt x="1626" y="1015"/>
                    </a:lnTo>
                    <a:lnTo>
                      <a:pt x="1618" y="1021"/>
                    </a:lnTo>
                    <a:lnTo>
                      <a:pt x="1609" y="1027"/>
                    </a:lnTo>
                    <a:lnTo>
                      <a:pt x="1601" y="1033"/>
                    </a:lnTo>
                    <a:lnTo>
                      <a:pt x="1591" y="1039"/>
                    </a:lnTo>
                    <a:lnTo>
                      <a:pt x="1583" y="1044"/>
                    </a:lnTo>
                    <a:lnTo>
                      <a:pt x="1573" y="1049"/>
                    </a:lnTo>
                    <a:lnTo>
                      <a:pt x="1564" y="1054"/>
                    </a:lnTo>
                    <a:lnTo>
                      <a:pt x="1555" y="1057"/>
                    </a:lnTo>
                    <a:lnTo>
                      <a:pt x="1546" y="1061"/>
                    </a:lnTo>
                    <a:lnTo>
                      <a:pt x="1537" y="1062"/>
                    </a:lnTo>
                    <a:lnTo>
                      <a:pt x="1529" y="1065"/>
                    </a:lnTo>
                    <a:lnTo>
                      <a:pt x="1519" y="1066"/>
                    </a:lnTo>
                    <a:lnTo>
                      <a:pt x="1511" y="1067"/>
                    </a:lnTo>
                    <a:lnTo>
                      <a:pt x="1501" y="1068"/>
                    </a:lnTo>
                    <a:lnTo>
                      <a:pt x="1493" y="1069"/>
                    </a:lnTo>
                    <a:lnTo>
                      <a:pt x="1484" y="1072"/>
                    </a:lnTo>
                    <a:lnTo>
                      <a:pt x="1478" y="1073"/>
                    </a:lnTo>
                    <a:lnTo>
                      <a:pt x="1472" y="1074"/>
                    </a:lnTo>
                    <a:lnTo>
                      <a:pt x="1465" y="1077"/>
                    </a:lnTo>
                    <a:lnTo>
                      <a:pt x="1459" y="1078"/>
                    </a:lnTo>
                    <a:lnTo>
                      <a:pt x="1454" y="1080"/>
                    </a:lnTo>
                    <a:lnTo>
                      <a:pt x="1448" y="1083"/>
                    </a:lnTo>
                    <a:lnTo>
                      <a:pt x="1445" y="1086"/>
                    </a:lnTo>
                    <a:lnTo>
                      <a:pt x="1441" y="1091"/>
                    </a:lnTo>
                    <a:lnTo>
                      <a:pt x="1440" y="1095"/>
                    </a:lnTo>
                    <a:lnTo>
                      <a:pt x="1440" y="1099"/>
                    </a:lnTo>
                    <a:lnTo>
                      <a:pt x="1441" y="1104"/>
                    </a:lnTo>
                    <a:lnTo>
                      <a:pt x="1444" y="1108"/>
                    </a:lnTo>
                    <a:lnTo>
                      <a:pt x="1446" y="1113"/>
                    </a:lnTo>
                    <a:lnTo>
                      <a:pt x="1448" y="1116"/>
                    </a:lnTo>
                    <a:lnTo>
                      <a:pt x="1452" y="1120"/>
                    </a:lnTo>
                    <a:lnTo>
                      <a:pt x="1456" y="1123"/>
                    </a:lnTo>
                    <a:lnTo>
                      <a:pt x="1463" y="1131"/>
                    </a:lnTo>
                    <a:lnTo>
                      <a:pt x="1471" y="1137"/>
                    </a:lnTo>
                    <a:lnTo>
                      <a:pt x="1481" y="1141"/>
                    </a:lnTo>
                    <a:lnTo>
                      <a:pt x="1489" y="1146"/>
                    </a:lnTo>
                    <a:lnTo>
                      <a:pt x="1498" y="1152"/>
                    </a:lnTo>
                    <a:lnTo>
                      <a:pt x="1507" y="1157"/>
                    </a:lnTo>
                    <a:lnTo>
                      <a:pt x="1514" y="1164"/>
                    </a:lnTo>
                    <a:lnTo>
                      <a:pt x="1522" y="1171"/>
                    </a:lnTo>
                    <a:lnTo>
                      <a:pt x="1529" y="1181"/>
                    </a:lnTo>
                    <a:lnTo>
                      <a:pt x="1535" y="1190"/>
                    </a:lnTo>
                    <a:lnTo>
                      <a:pt x="1541" y="1201"/>
                    </a:lnTo>
                    <a:lnTo>
                      <a:pt x="1546" y="1212"/>
                    </a:lnTo>
                    <a:lnTo>
                      <a:pt x="1550" y="1223"/>
                    </a:lnTo>
                    <a:lnTo>
                      <a:pt x="1554" y="1234"/>
                    </a:lnTo>
                    <a:lnTo>
                      <a:pt x="1559" y="1244"/>
                    </a:lnTo>
                    <a:lnTo>
                      <a:pt x="1564" y="1255"/>
                    </a:lnTo>
                    <a:lnTo>
                      <a:pt x="1571" y="1271"/>
                    </a:lnTo>
                    <a:lnTo>
                      <a:pt x="1577" y="1286"/>
                    </a:lnTo>
                    <a:lnTo>
                      <a:pt x="1583" y="1302"/>
                    </a:lnTo>
                    <a:lnTo>
                      <a:pt x="1589" y="1318"/>
                    </a:lnTo>
                    <a:lnTo>
                      <a:pt x="1595" y="1333"/>
                    </a:lnTo>
                    <a:lnTo>
                      <a:pt x="1602" y="1348"/>
                    </a:lnTo>
                    <a:lnTo>
                      <a:pt x="1610" y="1361"/>
                    </a:lnTo>
                    <a:lnTo>
                      <a:pt x="1621" y="1374"/>
                    </a:lnTo>
                    <a:lnTo>
                      <a:pt x="1633" y="1386"/>
                    </a:lnTo>
                    <a:lnTo>
                      <a:pt x="1648" y="1397"/>
                    </a:lnTo>
                    <a:lnTo>
                      <a:pt x="1663" y="1405"/>
                    </a:lnTo>
                    <a:lnTo>
                      <a:pt x="1679" y="1414"/>
                    </a:lnTo>
                    <a:lnTo>
                      <a:pt x="1694" y="1422"/>
                    </a:lnTo>
                    <a:lnTo>
                      <a:pt x="1711" y="1429"/>
                    </a:lnTo>
                    <a:lnTo>
                      <a:pt x="1728" y="1436"/>
                    </a:lnTo>
                    <a:lnTo>
                      <a:pt x="1744" y="1445"/>
                    </a:lnTo>
                    <a:lnTo>
                      <a:pt x="1756" y="1450"/>
                    </a:lnTo>
                    <a:lnTo>
                      <a:pt x="1766" y="1454"/>
                    </a:lnTo>
                    <a:lnTo>
                      <a:pt x="1780" y="1458"/>
                    </a:lnTo>
                    <a:lnTo>
                      <a:pt x="1792" y="1463"/>
                    </a:lnTo>
                    <a:lnTo>
                      <a:pt x="1804" y="1466"/>
                    </a:lnTo>
                    <a:lnTo>
                      <a:pt x="1816" y="1471"/>
                    </a:lnTo>
                    <a:lnTo>
                      <a:pt x="1826" y="1476"/>
                    </a:lnTo>
                    <a:lnTo>
                      <a:pt x="1838" y="1482"/>
                    </a:lnTo>
                    <a:lnTo>
                      <a:pt x="1843" y="1486"/>
                    </a:lnTo>
                    <a:lnTo>
                      <a:pt x="1849" y="1489"/>
                    </a:lnTo>
                    <a:lnTo>
                      <a:pt x="1854" y="1494"/>
                    </a:lnTo>
                    <a:lnTo>
                      <a:pt x="1859" y="1498"/>
                    </a:lnTo>
                    <a:lnTo>
                      <a:pt x="1862" y="1504"/>
                    </a:lnTo>
                    <a:lnTo>
                      <a:pt x="1866" y="1508"/>
                    </a:lnTo>
                    <a:lnTo>
                      <a:pt x="1870" y="1514"/>
                    </a:lnTo>
                    <a:lnTo>
                      <a:pt x="1871" y="1520"/>
                    </a:lnTo>
                    <a:lnTo>
                      <a:pt x="1873" y="1528"/>
                    </a:lnTo>
                    <a:lnTo>
                      <a:pt x="1874" y="1536"/>
                    </a:lnTo>
                    <a:lnTo>
                      <a:pt x="1874" y="1544"/>
                    </a:lnTo>
                    <a:lnTo>
                      <a:pt x="1874" y="1553"/>
                    </a:lnTo>
                    <a:lnTo>
                      <a:pt x="1873" y="1560"/>
                    </a:lnTo>
                    <a:lnTo>
                      <a:pt x="1871" y="1567"/>
                    </a:lnTo>
                    <a:lnTo>
                      <a:pt x="1870" y="1571"/>
                    </a:lnTo>
                    <a:lnTo>
                      <a:pt x="1867" y="1573"/>
                    </a:lnTo>
                    <a:lnTo>
                      <a:pt x="1865" y="1576"/>
                    </a:lnTo>
                    <a:lnTo>
                      <a:pt x="1861" y="1577"/>
                    </a:lnTo>
                    <a:lnTo>
                      <a:pt x="1849" y="1580"/>
                    </a:lnTo>
                    <a:lnTo>
                      <a:pt x="1837" y="1580"/>
                    </a:lnTo>
                    <a:lnTo>
                      <a:pt x="1825" y="1580"/>
                    </a:lnTo>
                    <a:lnTo>
                      <a:pt x="1812" y="1578"/>
                    </a:lnTo>
                    <a:lnTo>
                      <a:pt x="1800" y="1574"/>
                    </a:lnTo>
                    <a:lnTo>
                      <a:pt x="1787" y="1570"/>
                    </a:lnTo>
                    <a:lnTo>
                      <a:pt x="1775" y="1566"/>
                    </a:lnTo>
                    <a:lnTo>
                      <a:pt x="1763" y="1562"/>
                    </a:lnTo>
                    <a:lnTo>
                      <a:pt x="1750" y="1559"/>
                    </a:lnTo>
                    <a:lnTo>
                      <a:pt x="1736" y="1554"/>
                    </a:lnTo>
                    <a:lnTo>
                      <a:pt x="1723" y="1548"/>
                    </a:lnTo>
                    <a:lnTo>
                      <a:pt x="1710" y="1543"/>
                    </a:lnTo>
                    <a:lnTo>
                      <a:pt x="1697" y="1537"/>
                    </a:lnTo>
                    <a:lnTo>
                      <a:pt x="1684" y="1531"/>
                    </a:lnTo>
                    <a:lnTo>
                      <a:pt x="1672" y="1525"/>
                    </a:lnTo>
                    <a:lnTo>
                      <a:pt x="1658" y="1520"/>
                    </a:lnTo>
                    <a:lnTo>
                      <a:pt x="1643" y="1513"/>
                    </a:lnTo>
                    <a:lnTo>
                      <a:pt x="1627" y="1507"/>
                    </a:lnTo>
                    <a:lnTo>
                      <a:pt x="1612" y="1501"/>
                    </a:lnTo>
                    <a:lnTo>
                      <a:pt x="1595" y="1495"/>
                    </a:lnTo>
                    <a:lnTo>
                      <a:pt x="1579" y="1488"/>
                    </a:lnTo>
                    <a:lnTo>
                      <a:pt x="1565" y="1481"/>
                    </a:lnTo>
                    <a:lnTo>
                      <a:pt x="1550" y="1472"/>
                    </a:lnTo>
                    <a:lnTo>
                      <a:pt x="1536" y="1463"/>
                    </a:lnTo>
                    <a:lnTo>
                      <a:pt x="1525" y="1456"/>
                    </a:lnTo>
                    <a:lnTo>
                      <a:pt x="1516" y="1446"/>
                    </a:lnTo>
                    <a:lnTo>
                      <a:pt x="1506" y="1438"/>
                    </a:lnTo>
                    <a:lnTo>
                      <a:pt x="1498" y="1427"/>
                    </a:lnTo>
                    <a:lnTo>
                      <a:pt x="1490" y="1417"/>
                    </a:lnTo>
                    <a:lnTo>
                      <a:pt x="1482" y="1406"/>
                    </a:lnTo>
                    <a:lnTo>
                      <a:pt x="1476" y="1394"/>
                    </a:lnTo>
                    <a:lnTo>
                      <a:pt x="1470" y="1384"/>
                    </a:lnTo>
                    <a:lnTo>
                      <a:pt x="1466" y="1375"/>
                    </a:lnTo>
                    <a:lnTo>
                      <a:pt x="1465" y="1367"/>
                    </a:lnTo>
                    <a:lnTo>
                      <a:pt x="1464" y="1357"/>
                    </a:lnTo>
                    <a:lnTo>
                      <a:pt x="1464" y="1349"/>
                    </a:lnTo>
                    <a:lnTo>
                      <a:pt x="1464" y="1339"/>
                    </a:lnTo>
                    <a:lnTo>
                      <a:pt x="1463" y="1330"/>
                    </a:lnTo>
                    <a:lnTo>
                      <a:pt x="1463" y="1321"/>
                    </a:lnTo>
                    <a:lnTo>
                      <a:pt x="1460" y="1313"/>
                    </a:lnTo>
                    <a:lnTo>
                      <a:pt x="1458" y="1304"/>
                    </a:lnTo>
                    <a:lnTo>
                      <a:pt x="1454" y="1297"/>
                    </a:lnTo>
                    <a:lnTo>
                      <a:pt x="1451" y="1289"/>
                    </a:lnTo>
                    <a:lnTo>
                      <a:pt x="1447" y="1282"/>
                    </a:lnTo>
                    <a:lnTo>
                      <a:pt x="1444" y="1274"/>
                    </a:lnTo>
                    <a:lnTo>
                      <a:pt x="1439" y="1267"/>
                    </a:lnTo>
                    <a:lnTo>
                      <a:pt x="1433" y="1261"/>
                    </a:lnTo>
                    <a:lnTo>
                      <a:pt x="1427" y="1255"/>
                    </a:lnTo>
                    <a:lnTo>
                      <a:pt x="1423" y="1253"/>
                    </a:lnTo>
                    <a:lnTo>
                      <a:pt x="1418" y="1252"/>
                    </a:lnTo>
                    <a:lnTo>
                      <a:pt x="1414" y="1250"/>
                    </a:lnTo>
                    <a:lnTo>
                      <a:pt x="1408" y="1249"/>
                    </a:lnTo>
                    <a:lnTo>
                      <a:pt x="1403" y="1249"/>
                    </a:lnTo>
                    <a:lnTo>
                      <a:pt x="1398" y="1250"/>
                    </a:lnTo>
                    <a:lnTo>
                      <a:pt x="1393" y="1253"/>
                    </a:lnTo>
                    <a:lnTo>
                      <a:pt x="1390" y="1255"/>
                    </a:lnTo>
                    <a:lnTo>
                      <a:pt x="1385" y="1261"/>
                    </a:lnTo>
                    <a:lnTo>
                      <a:pt x="1381" y="1267"/>
                    </a:lnTo>
                    <a:lnTo>
                      <a:pt x="1378" y="1274"/>
                    </a:lnTo>
                    <a:lnTo>
                      <a:pt x="1375" y="1282"/>
                    </a:lnTo>
                    <a:lnTo>
                      <a:pt x="1374" y="1290"/>
                    </a:lnTo>
                    <a:lnTo>
                      <a:pt x="1373" y="1297"/>
                    </a:lnTo>
                    <a:lnTo>
                      <a:pt x="1372" y="1304"/>
                    </a:lnTo>
                    <a:lnTo>
                      <a:pt x="1370" y="1313"/>
                    </a:lnTo>
                    <a:lnTo>
                      <a:pt x="1369" y="1328"/>
                    </a:lnTo>
                    <a:lnTo>
                      <a:pt x="1368" y="1344"/>
                    </a:lnTo>
                    <a:lnTo>
                      <a:pt x="1368" y="1360"/>
                    </a:lnTo>
                    <a:lnTo>
                      <a:pt x="1368" y="1376"/>
                    </a:lnTo>
                    <a:lnTo>
                      <a:pt x="1369" y="1392"/>
                    </a:lnTo>
                    <a:lnTo>
                      <a:pt x="1369" y="1408"/>
                    </a:lnTo>
                    <a:lnTo>
                      <a:pt x="1370" y="1424"/>
                    </a:lnTo>
                    <a:lnTo>
                      <a:pt x="1370" y="1440"/>
                    </a:lnTo>
                    <a:lnTo>
                      <a:pt x="1372" y="1452"/>
                    </a:lnTo>
                    <a:lnTo>
                      <a:pt x="1372" y="1464"/>
                    </a:lnTo>
                    <a:lnTo>
                      <a:pt x="1374" y="1477"/>
                    </a:lnTo>
                    <a:lnTo>
                      <a:pt x="1375" y="1489"/>
                    </a:lnTo>
                    <a:lnTo>
                      <a:pt x="1376" y="1502"/>
                    </a:lnTo>
                    <a:lnTo>
                      <a:pt x="1376" y="1514"/>
                    </a:lnTo>
                    <a:lnTo>
                      <a:pt x="1376" y="1526"/>
                    </a:lnTo>
                    <a:lnTo>
                      <a:pt x="1375" y="1538"/>
                    </a:lnTo>
                    <a:lnTo>
                      <a:pt x="1373" y="1548"/>
                    </a:lnTo>
                    <a:lnTo>
                      <a:pt x="1370" y="1558"/>
                    </a:lnTo>
                    <a:lnTo>
                      <a:pt x="1367" y="1566"/>
                    </a:lnTo>
                    <a:lnTo>
                      <a:pt x="1363" y="1574"/>
                    </a:lnTo>
                    <a:lnTo>
                      <a:pt x="1358" y="1584"/>
                    </a:lnTo>
                    <a:lnTo>
                      <a:pt x="1355" y="1592"/>
                    </a:lnTo>
                    <a:lnTo>
                      <a:pt x="1351" y="1601"/>
                    </a:lnTo>
                    <a:lnTo>
                      <a:pt x="1346" y="1609"/>
                    </a:lnTo>
                    <a:lnTo>
                      <a:pt x="1343" y="1620"/>
                    </a:lnTo>
                    <a:lnTo>
                      <a:pt x="1339" y="1631"/>
                    </a:lnTo>
                    <a:lnTo>
                      <a:pt x="1336" y="1643"/>
                    </a:lnTo>
                    <a:lnTo>
                      <a:pt x="1333" y="1654"/>
                    </a:lnTo>
                    <a:lnTo>
                      <a:pt x="1328" y="1664"/>
                    </a:lnTo>
                    <a:lnTo>
                      <a:pt x="1325" y="1675"/>
                    </a:lnTo>
                    <a:lnTo>
                      <a:pt x="1320" y="1685"/>
                    </a:lnTo>
                    <a:lnTo>
                      <a:pt x="1314" y="1694"/>
                    </a:lnTo>
                    <a:lnTo>
                      <a:pt x="1308" y="1703"/>
                    </a:lnTo>
                    <a:lnTo>
                      <a:pt x="1301" y="1710"/>
                    </a:lnTo>
                    <a:lnTo>
                      <a:pt x="1294" y="1717"/>
                    </a:lnTo>
                    <a:lnTo>
                      <a:pt x="1286" y="1723"/>
                    </a:lnTo>
                    <a:lnTo>
                      <a:pt x="1278" y="1729"/>
                    </a:lnTo>
                    <a:lnTo>
                      <a:pt x="1270" y="1735"/>
                    </a:lnTo>
                    <a:lnTo>
                      <a:pt x="1261" y="1741"/>
                    </a:lnTo>
                    <a:lnTo>
                      <a:pt x="1253" y="1746"/>
                    </a:lnTo>
                    <a:lnTo>
                      <a:pt x="1247" y="1750"/>
                    </a:lnTo>
                    <a:lnTo>
                      <a:pt x="1241" y="1753"/>
                    </a:lnTo>
                    <a:lnTo>
                      <a:pt x="1235" y="1757"/>
                    </a:lnTo>
                    <a:lnTo>
                      <a:pt x="1229" y="1760"/>
                    </a:lnTo>
                    <a:lnTo>
                      <a:pt x="1223" y="1763"/>
                    </a:lnTo>
                    <a:lnTo>
                      <a:pt x="1217" y="1764"/>
                    </a:lnTo>
                    <a:lnTo>
                      <a:pt x="1211" y="1763"/>
                    </a:lnTo>
                    <a:lnTo>
                      <a:pt x="1205" y="1760"/>
                    </a:lnTo>
                    <a:lnTo>
                      <a:pt x="1199" y="1756"/>
                    </a:lnTo>
                    <a:lnTo>
                      <a:pt x="1194" y="1748"/>
                    </a:lnTo>
                    <a:lnTo>
                      <a:pt x="1189" y="1741"/>
                    </a:lnTo>
                    <a:lnTo>
                      <a:pt x="1187" y="1734"/>
                    </a:lnTo>
                    <a:lnTo>
                      <a:pt x="1184" y="1726"/>
                    </a:lnTo>
                    <a:lnTo>
                      <a:pt x="1183" y="1716"/>
                    </a:lnTo>
                    <a:lnTo>
                      <a:pt x="1182" y="1708"/>
                    </a:lnTo>
                    <a:lnTo>
                      <a:pt x="1182" y="1699"/>
                    </a:lnTo>
                    <a:lnTo>
                      <a:pt x="1182" y="1687"/>
                    </a:lnTo>
                    <a:lnTo>
                      <a:pt x="1183" y="1675"/>
                    </a:lnTo>
                    <a:lnTo>
                      <a:pt x="1186" y="1663"/>
                    </a:lnTo>
                    <a:lnTo>
                      <a:pt x="1189" y="1651"/>
                    </a:lnTo>
                    <a:lnTo>
                      <a:pt x="1193" y="1639"/>
                    </a:lnTo>
                    <a:lnTo>
                      <a:pt x="1196" y="1628"/>
                    </a:lnTo>
                    <a:lnTo>
                      <a:pt x="1201" y="1616"/>
                    </a:lnTo>
                    <a:lnTo>
                      <a:pt x="1205" y="1604"/>
                    </a:lnTo>
                    <a:lnTo>
                      <a:pt x="1210" y="1595"/>
                    </a:lnTo>
                    <a:lnTo>
                      <a:pt x="1214" y="1585"/>
                    </a:lnTo>
                    <a:lnTo>
                      <a:pt x="1219" y="1577"/>
                    </a:lnTo>
                    <a:lnTo>
                      <a:pt x="1225" y="1567"/>
                    </a:lnTo>
                    <a:lnTo>
                      <a:pt x="1230" y="1559"/>
                    </a:lnTo>
                    <a:lnTo>
                      <a:pt x="1236" y="1549"/>
                    </a:lnTo>
                    <a:lnTo>
                      <a:pt x="1240" y="1540"/>
                    </a:lnTo>
                    <a:lnTo>
                      <a:pt x="1243" y="1529"/>
                    </a:lnTo>
                    <a:lnTo>
                      <a:pt x="1247" y="1513"/>
                    </a:lnTo>
                    <a:lnTo>
                      <a:pt x="1250" y="1495"/>
                    </a:lnTo>
                    <a:lnTo>
                      <a:pt x="1253" y="1478"/>
                    </a:lnTo>
                    <a:lnTo>
                      <a:pt x="1255" y="1462"/>
                    </a:lnTo>
                    <a:lnTo>
                      <a:pt x="1256" y="1445"/>
                    </a:lnTo>
                    <a:lnTo>
                      <a:pt x="1258" y="1427"/>
                    </a:lnTo>
                    <a:lnTo>
                      <a:pt x="1258" y="1410"/>
                    </a:lnTo>
                    <a:lnTo>
                      <a:pt x="1258" y="1392"/>
                    </a:lnTo>
                    <a:lnTo>
                      <a:pt x="1256" y="1381"/>
                    </a:lnTo>
                    <a:lnTo>
                      <a:pt x="1255" y="1370"/>
                    </a:lnTo>
                    <a:lnTo>
                      <a:pt x="1253" y="1360"/>
                    </a:lnTo>
                    <a:lnTo>
                      <a:pt x="1250" y="1349"/>
                    </a:lnTo>
                    <a:lnTo>
                      <a:pt x="1247" y="1338"/>
                    </a:lnTo>
                    <a:lnTo>
                      <a:pt x="1243" y="1327"/>
                    </a:lnTo>
                    <a:lnTo>
                      <a:pt x="1238" y="1318"/>
                    </a:lnTo>
                    <a:lnTo>
                      <a:pt x="1234" y="1308"/>
                    </a:lnTo>
                    <a:lnTo>
                      <a:pt x="1230" y="1302"/>
                    </a:lnTo>
                    <a:lnTo>
                      <a:pt x="1225" y="1296"/>
                    </a:lnTo>
                    <a:lnTo>
                      <a:pt x="1220" y="1291"/>
                    </a:lnTo>
                    <a:lnTo>
                      <a:pt x="1216" y="1286"/>
                    </a:lnTo>
                    <a:lnTo>
                      <a:pt x="1210" y="1282"/>
                    </a:lnTo>
                    <a:lnTo>
                      <a:pt x="1204" y="1278"/>
                    </a:lnTo>
                    <a:lnTo>
                      <a:pt x="1198" y="1276"/>
                    </a:lnTo>
                    <a:lnTo>
                      <a:pt x="1192" y="1274"/>
                    </a:lnTo>
                    <a:lnTo>
                      <a:pt x="1183" y="1274"/>
                    </a:lnTo>
                    <a:lnTo>
                      <a:pt x="1176" y="1276"/>
                    </a:lnTo>
                    <a:lnTo>
                      <a:pt x="1168" y="1277"/>
                    </a:lnTo>
                    <a:lnTo>
                      <a:pt x="1160" y="1280"/>
                    </a:lnTo>
                    <a:lnTo>
                      <a:pt x="1153" y="1284"/>
                    </a:lnTo>
                    <a:lnTo>
                      <a:pt x="1146" y="1288"/>
                    </a:lnTo>
                    <a:lnTo>
                      <a:pt x="1140" y="1292"/>
                    </a:lnTo>
                    <a:lnTo>
                      <a:pt x="1134" y="1298"/>
                    </a:lnTo>
                    <a:lnTo>
                      <a:pt x="1127" y="1308"/>
                    </a:lnTo>
                    <a:lnTo>
                      <a:pt x="1121" y="1318"/>
                    </a:lnTo>
                    <a:lnTo>
                      <a:pt x="1115" y="1328"/>
                    </a:lnTo>
                    <a:lnTo>
                      <a:pt x="1110" y="1339"/>
                    </a:lnTo>
                    <a:lnTo>
                      <a:pt x="1106" y="1350"/>
                    </a:lnTo>
                    <a:lnTo>
                      <a:pt x="1102" y="1361"/>
                    </a:lnTo>
                    <a:lnTo>
                      <a:pt x="1097" y="1373"/>
                    </a:lnTo>
                    <a:lnTo>
                      <a:pt x="1092" y="1384"/>
                    </a:lnTo>
                    <a:lnTo>
                      <a:pt x="1084" y="1400"/>
                    </a:lnTo>
                    <a:lnTo>
                      <a:pt x="1075" y="1417"/>
                    </a:lnTo>
                    <a:lnTo>
                      <a:pt x="1067" y="1435"/>
                    </a:lnTo>
                    <a:lnTo>
                      <a:pt x="1058" y="1452"/>
                    </a:lnTo>
                    <a:lnTo>
                      <a:pt x="1049" y="1470"/>
                    </a:lnTo>
                    <a:lnTo>
                      <a:pt x="1040" y="1487"/>
                    </a:lnTo>
                    <a:lnTo>
                      <a:pt x="1031" y="1504"/>
                    </a:lnTo>
                    <a:lnTo>
                      <a:pt x="1021" y="1520"/>
                    </a:lnTo>
                    <a:lnTo>
                      <a:pt x="1012" y="1535"/>
                    </a:lnTo>
                    <a:lnTo>
                      <a:pt x="1002" y="1550"/>
                    </a:lnTo>
                    <a:lnTo>
                      <a:pt x="992" y="1565"/>
                    </a:lnTo>
                    <a:lnTo>
                      <a:pt x="982" y="1579"/>
                    </a:lnTo>
                    <a:lnTo>
                      <a:pt x="971" y="1594"/>
                    </a:lnTo>
                    <a:lnTo>
                      <a:pt x="960" y="1608"/>
                    </a:lnTo>
                    <a:lnTo>
                      <a:pt x="948" y="1621"/>
                    </a:lnTo>
                    <a:lnTo>
                      <a:pt x="936" y="1633"/>
                    </a:lnTo>
                    <a:lnTo>
                      <a:pt x="923" y="1645"/>
                    </a:lnTo>
                    <a:lnTo>
                      <a:pt x="910" y="1657"/>
                    </a:lnTo>
                    <a:lnTo>
                      <a:pt x="895" y="1668"/>
                    </a:lnTo>
                    <a:lnTo>
                      <a:pt x="880" y="1678"/>
                    </a:lnTo>
                    <a:lnTo>
                      <a:pt x="865" y="1687"/>
                    </a:lnTo>
                    <a:lnTo>
                      <a:pt x="850" y="1697"/>
                    </a:lnTo>
                    <a:lnTo>
                      <a:pt x="834" y="1705"/>
                    </a:lnTo>
                    <a:lnTo>
                      <a:pt x="818" y="1714"/>
                    </a:lnTo>
                    <a:lnTo>
                      <a:pt x="805" y="1718"/>
                    </a:lnTo>
                    <a:lnTo>
                      <a:pt x="793" y="1724"/>
                    </a:lnTo>
                    <a:lnTo>
                      <a:pt x="780" y="1728"/>
                    </a:lnTo>
                    <a:lnTo>
                      <a:pt x="767" y="1732"/>
                    </a:lnTo>
                    <a:lnTo>
                      <a:pt x="754" y="1735"/>
                    </a:lnTo>
                    <a:lnTo>
                      <a:pt x="740" y="1738"/>
                    </a:lnTo>
                    <a:lnTo>
                      <a:pt x="727" y="1740"/>
                    </a:lnTo>
                    <a:lnTo>
                      <a:pt x="714" y="1741"/>
                    </a:lnTo>
                    <a:lnTo>
                      <a:pt x="709" y="1742"/>
                    </a:lnTo>
                    <a:lnTo>
                      <a:pt x="703" y="1742"/>
                    </a:lnTo>
                    <a:lnTo>
                      <a:pt x="698" y="1742"/>
                    </a:lnTo>
                    <a:lnTo>
                      <a:pt x="694" y="1741"/>
                    </a:lnTo>
                    <a:lnTo>
                      <a:pt x="688" y="1740"/>
                    </a:lnTo>
                    <a:lnTo>
                      <a:pt x="684" y="1739"/>
                    </a:lnTo>
                    <a:lnTo>
                      <a:pt x="679" y="1736"/>
                    </a:lnTo>
                    <a:lnTo>
                      <a:pt x="677" y="1733"/>
                    </a:lnTo>
                    <a:lnTo>
                      <a:pt x="674" y="1728"/>
                    </a:lnTo>
                    <a:lnTo>
                      <a:pt x="673" y="1723"/>
                    </a:lnTo>
                    <a:lnTo>
                      <a:pt x="672" y="1718"/>
                    </a:lnTo>
                    <a:lnTo>
                      <a:pt x="673" y="1714"/>
                    </a:lnTo>
                    <a:lnTo>
                      <a:pt x="674" y="1708"/>
                    </a:lnTo>
                    <a:lnTo>
                      <a:pt x="676" y="1703"/>
                    </a:lnTo>
                    <a:lnTo>
                      <a:pt x="678" y="1698"/>
                    </a:lnTo>
                    <a:lnTo>
                      <a:pt x="680" y="1694"/>
                    </a:lnTo>
                    <a:lnTo>
                      <a:pt x="691" y="1684"/>
                    </a:lnTo>
                    <a:lnTo>
                      <a:pt x="702" y="1674"/>
                    </a:lnTo>
                    <a:lnTo>
                      <a:pt x="713" y="1664"/>
                    </a:lnTo>
                    <a:lnTo>
                      <a:pt x="725" y="1655"/>
                    </a:lnTo>
                    <a:lnTo>
                      <a:pt x="736" y="1646"/>
                    </a:lnTo>
                    <a:lnTo>
                      <a:pt x="748" y="1638"/>
                    </a:lnTo>
                    <a:lnTo>
                      <a:pt x="760" y="1628"/>
                    </a:lnTo>
                    <a:lnTo>
                      <a:pt x="770" y="1619"/>
                    </a:lnTo>
                    <a:lnTo>
                      <a:pt x="784" y="1608"/>
                    </a:lnTo>
                    <a:lnTo>
                      <a:pt x="797" y="1597"/>
                    </a:lnTo>
                    <a:lnTo>
                      <a:pt x="810" y="1585"/>
                    </a:lnTo>
                    <a:lnTo>
                      <a:pt x="823" y="1574"/>
                    </a:lnTo>
                    <a:lnTo>
                      <a:pt x="836" y="1562"/>
                    </a:lnTo>
                    <a:lnTo>
                      <a:pt x="848" y="1550"/>
                    </a:lnTo>
                    <a:lnTo>
                      <a:pt x="859" y="1538"/>
                    </a:lnTo>
                    <a:lnTo>
                      <a:pt x="870" y="1525"/>
                    </a:lnTo>
                    <a:lnTo>
                      <a:pt x="880" y="1510"/>
                    </a:lnTo>
                    <a:lnTo>
                      <a:pt x="889" y="1495"/>
                    </a:lnTo>
                    <a:lnTo>
                      <a:pt x="898" y="1480"/>
                    </a:lnTo>
                    <a:lnTo>
                      <a:pt x="905" y="1464"/>
                    </a:lnTo>
                    <a:lnTo>
                      <a:pt x="912" y="1447"/>
                    </a:lnTo>
                    <a:lnTo>
                      <a:pt x="918" y="1432"/>
                    </a:lnTo>
                    <a:lnTo>
                      <a:pt x="923" y="1415"/>
                    </a:lnTo>
                    <a:lnTo>
                      <a:pt x="926" y="1397"/>
                    </a:lnTo>
                    <a:lnTo>
                      <a:pt x="928" y="1390"/>
                    </a:lnTo>
                    <a:lnTo>
                      <a:pt x="926" y="1381"/>
                    </a:lnTo>
                    <a:lnTo>
                      <a:pt x="925" y="1374"/>
                    </a:lnTo>
                    <a:lnTo>
                      <a:pt x="923" y="1366"/>
                    </a:lnTo>
                    <a:lnTo>
                      <a:pt x="919" y="1358"/>
                    </a:lnTo>
                    <a:lnTo>
                      <a:pt x="914" y="1351"/>
                    </a:lnTo>
                    <a:lnTo>
                      <a:pt x="908" y="1345"/>
                    </a:lnTo>
                    <a:lnTo>
                      <a:pt x="902" y="1340"/>
                    </a:lnTo>
                    <a:lnTo>
                      <a:pt x="898" y="1338"/>
                    </a:lnTo>
                    <a:lnTo>
                      <a:pt x="893" y="1337"/>
                    </a:lnTo>
                    <a:lnTo>
                      <a:pt x="887" y="1338"/>
                    </a:lnTo>
                    <a:lnTo>
                      <a:pt x="882" y="1339"/>
                    </a:lnTo>
                    <a:lnTo>
                      <a:pt x="876" y="1342"/>
                    </a:lnTo>
                    <a:lnTo>
                      <a:pt x="870" y="1344"/>
                    </a:lnTo>
                    <a:lnTo>
                      <a:pt x="865" y="1346"/>
                    </a:lnTo>
                    <a:lnTo>
                      <a:pt x="860" y="1350"/>
                    </a:lnTo>
                    <a:lnTo>
                      <a:pt x="856" y="1355"/>
                    </a:lnTo>
                    <a:lnTo>
                      <a:pt x="852" y="1360"/>
                    </a:lnTo>
                    <a:lnTo>
                      <a:pt x="850" y="1366"/>
                    </a:lnTo>
                    <a:lnTo>
                      <a:pt x="846" y="1372"/>
                    </a:lnTo>
                    <a:lnTo>
                      <a:pt x="844" y="1378"/>
                    </a:lnTo>
                    <a:lnTo>
                      <a:pt x="840" y="1384"/>
                    </a:lnTo>
                    <a:lnTo>
                      <a:pt x="836" y="1388"/>
                    </a:lnTo>
                    <a:lnTo>
                      <a:pt x="832" y="1392"/>
                    </a:lnTo>
                    <a:lnTo>
                      <a:pt x="823" y="1399"/>
                    </a:lnTo>
                    <a:lnTo>
                      <a:pt x="814" y="1404"/>
                    </a:lnTo>
                    <a:lnTo>
                      <a:pt x="804" y="1410"/>
                    </a:lnTo>
                    <a:lnTo>
                      <a:pt x="794" y="1415"/>
                    </a:lnTo>
                    <a:lnTo>
                      <a:pt x="784" y="1418"/>
                    </a:lnTo>
                    <a:lnTo>
                      <a:pt x="773" y="1422"/>
                    </a:lnTo>
                    <a:lnTo>
                      <a:pt x="762" y="1424"/>
                    </a:lnTo>
                    <a:lnTo>
                      <a:pt x="752" y="1426"/>
                    </a:lnTo>
                    <a:lnTo>
                      <a:pt x="744" y="1426"/>
                    </a:lnTo>
                    <a:lnTo>
                      <a:pt x="736" y="1426"/>
                    </a:lnTo>
                    <a:lnTo>
                      <a:pt x="727" y="1423"/>
                    </a:lnTo>
                    <a:lnTo>
                      <a:pt x="719" y="1422"/>
                    </a:lnTo>
                    <a:lnTo>
                      <a:pt x="710" y="1418"/>
                    </a:lnTo>
                    <a:lnTo>
                      <a:pt x="704" y="1414"/>
                    </a:lnTo>
                    <a:lnTo>
                      <a:pt x="698" y="1409"/>
                    </a:lnTo>
                    <a:lnTo>
                      <a:pt x="695" y="1402"/>
                    </a:lnTo>
                    <a:lnTo>
                      <a:pt x="692" y="1391"/>
                    </a:lnTo>
                    <a:lnTo>
                      <a:pt x="691" y="1378"/>
                    </a:lnTo>
                    <a:lnTo>
                      <a:pt x="692" y="1366"/>
                    </a:lnTo>
                    <a:lnTo>
                      <a:pt x="695" y="1354"/>
                    </a:lnTo>
                    <a:lnTo>
                      <a:pt x="697" y="1340"/>
                    </a:lnTo>
                    <a:lnTo>
                      <a:pt x="701" y="1328"/>
                    </a:lnTo>
                    <a:lnTo>
                      <a:pt x="703" y="1315"/>
                    </a:lnTo>
                    <a:lnTo>
                      <a:pt x="704" y="1303"/>
                    </a:lnTo>
                    <a:lnTo>
                      <a:pt x="706" y="1294"/>
                    </a:lnTo>
                    <a:lnTo>
                      <a:pt x="708" y="1285"/>
                    </a:lnTo>
                    <a:lnTo>
                      <a:pt x="709" y="1276"/>
                    </a:lnTo>
                    <a:lnTo>
                      <a:pt x="712" y="1267"/>
                    </a:lnTo>
                    <a:lnTo>
                      <a:pt x="713" y="1258"/>
                    </a:lnTo>
                    <a:lnTo>
                      <a:pt x="713" y="1249"/>
                    </a:lnTo>
                    <a:lnTo>
                      <a:pt x="712" y="1241"/>
                    </a:lnTo>
                    <a:lnTo>
                      <a:pt x="709" y="1232"/>
                    </a:lnTo>
                    <a:lnTo>
                      <a:pt x="707" y="1228"/>
                    </a:lnTo>
                    <a:lnTo>
                      <a:pt x="702" y="1224"/>
                    </a:lnTo>
                    <a:lnTo>
                      <a:pt x="697" y="1222"/>
                    </a:lnTo>
                    <a:lnTo>
                      <a:pt x="691" y="1220"/>
                    </a:lnTo>
                    <a:lnTo>
                      <a:pt x="685" y="1219"/>
                    </a:lnTo>
                    <a:lnTo>
                      <a:pt x="679" y="1218"/>
                    </a:lnTo>
                    <a:lnTo>
                      <a:pt x="673" y="1218"/>
                    </a:lnTo>
                    <a:lnTo>
                      <a:pt x="667" y="1218"/>
                    </a:lnTo>
                    <a:lnTo>
                      <a:pt x="654" y="1219"/>
                    </a:lnTo>
                    <a:lnTo>
                      <a:pt x="641" y="1220"/>
                    </a:lnTo>
                    <a:lnTo>
                      <a:pt x="628" y="1223"/>
                    </a:lnTo>
                    <a:lnTo>
                      <a:pt x="614" y="1226"/>
                    </a:lnTo>
                    <a:lnTo>
                      <a:pt x="602" y="1229"/>
                    </a:lnTo>
                    <a:lnTo>
                      <a:pt x="589" y="1231"/>
                    </a:lnTo>
                    <a:lnTo>
                      <a:pt x="576" y="1232"/>
                    </a:lnTo>
                    <a:lnTo>
                      <a:pt x="563" y="1232"/>
                    </a:lnTo>
                    <a:lnTo>
                      <a:pt x="552" y="1231"/>
                    </a:lnTo>
                    <a:lnTo>
                      <a:pt x="540" y="1229"/>
                    </a:lnTo>
                    <a:lnTo>
                      <a:pt x="529" y="1226"/>
                    </a:lnTo>
                    <a:lnTo>
                      <a:pt x="518" y="1223"/>
                    </a:lnTo>
                    <a:lnTo>
                      <a:pt x="508" y="1219"/>
                    </a:lnTo>
                    <a:lnTo>
                      <a:pt x="498" y="1214"/>
                    </a:lnTo>
                    <a:lnTo>
                      <a:pt x="487" y="1210"/>
                    </a:lnTo>
                    <a:lnTo>
                      <a:pt x="478" y="1204"/>
                    </a:lnTo>
                    <a:lnTo>
                      <a:pt x="472" y="1199"/>
                    </a:lnTo>
                    <a:lnTo>
                      <a:pt x="466" y="1192"/>
                    </a:lnTo>
                    <a:lnTo>
                      <a:pt x="461" y="1184"/>
                    </a:lnTo>
                    <a:lnTo>
                      <a:pt x="456" y="1176"/>
                    </a:lnTo>
                    <a:lnTo>
                      <a:pt x="451" y="1169"/>
                    </a:lnTo>
                    <a:lnTo>
                      <a:pt x="446" y="1161"/>
                    </a:lnTo>
                    <a:lnTo>
                      <a:pt x="442" y="1153"/>
                    </a:lnTo>
                    <a:lnTo>
                      <a:pt x="436" y="1147"/>
                    </a:lnTo>
                    <a:lnTo>
                      <a:pt x="431" y="1144"/>
                    </a:lnTo>
                    <a:lnTo>
                      <a:pt x="425" y="1140"/>
                    </a:lnTo>
                    <a:lnTo>
                      <a:pt x="419" y="1137"/>
                    </a:lnTo>
                    <a:lnTo>
                      <a:pt x="413" y="1134"/>
                    </a:lnTo>
                    <a:lnTo>
                      <a:pt x="407" y="1132"/>
                    </a:lnTo>
                    <a:lnTo>
                      <a:pt x="401" y="1131"/>
                    </a:lnTo>
                    <a:lnTo>
                      <a:pt x="395" y="1129"/>
                    </a:lnTo>
                    <a:lnTo>
                      <a:pt x="388" y="1128"/>
                    </a:lnTo>
                    <a:lnTo>
                      <a:pt x="373" y="1128"/>
                    </a:lnTo>
                    <a:lnTo>
                      <a:pt x="358" y="1128"/>
                    </a:lnTo>
                    <a:lnTo>
                      <a:pt x="342" y="1128"/>
                    </a:lnTo>
                    <a:lnTo>
                      <a:pt x="326" y="1129"/>
                    </a:lnTo>
                    <a:lnTo>
                      <a:pt x="312" y="1131"/>
                    </a:lnTo>
                    <a:lnTo>
                      <a:pt x="296" y="1132"/>
                    </a:lnTo>
                    <a:lnTo>
                      <a:pt x="281" y="1133"/>
                    </a:lnTo>
                    <a:lnTo>
                      <a:pt x="265" y="1133"/>
                    </a:lnTo>
                    <a:lnTo>
                      <a:pt x="248" y="1134"/>
                    </a:lnTo>
                    <a:lnTo>
                      <a:pt x="232" y="1135"/>
                    </a:lnTo>
                    <a:lnTo>
                      <a:pt x="214" y="1137"/>
                    </a:lnTo>
                    <a:lnTo>
                      <a:pt x="197" y="1139"/>
                    </a:lnTo>
                    <a:lnTo>
                      <a:pt x="180" y="1140"/>
                    </a:lnTo>
                    <a:lnTo>
                      <a:pt x="162" y="1140"/>
                    </a:lnTo>
                    <a:lnTo>
                      <a:pt x="145" y="1140"/>
                    </a:lnTo>
                    <a:lnTo>
                      <a:pt x="128" y="1138"/>
                    </a:lnTo>
                    <a:lnTo>
                      <a:pt x="120" y="1137"/>
                    </a:lnTo>
                    <a:lnTo>
                      <a:pt x="112" y="1133"/>
                    </a:lnTo>
                    <a:lnTo>
                      <a:pt x="104" y="1129"/>
                    </a:lnTo>
                    <a:lnTo>
                      <a:pt x="96" y="1126"/>
                    </a:lnTo>
                    <a:lnTo>
                      <a:pt x="89" y="1121"/>
                    </a:lnTo>
                    <a:lnTo>
                      <a:pt x="82" y="1115"/>
                    </a:lnTo>
                    <a:lnTo>
                      <a:pt x="74" y="1110"/>
                    </a:lnTo>
                    <a:lnTo>
                      <a:pt x="67" y="1105"/>
                    </a:lnTo>
                    <a:lnTo>
                      <a:pt x="60" y="1099"/>
                    </a:lnTo>
                    <a:lnTo>
                      <a:pt x="53" y="1095"/>
                    </a:lnTo>
                    <a:lnTo>
                      <a:pt x="47" y="1090"/>
                    </a:lnTo>
                    <a:lnTo>
                      <a:pt x="40" y="1084"/>
                    </a:lnTo>
                    <a:lnTo>
                      <a:pt x="34" y="1078"/>
                    </a:lnTo>
                    <a:lnTo>
                      <a:pt x="29" y="1072"/>
                    </a:lnTo>
                    <a:lnTo>
                      <a:pt x="24" y="1065"/>
                    </a:lnTo>
                    <a:lnTo>
                      <a:pt x="20" y="1057"/>
                    </a:lnTo>
                    <a:lnTo>
                      <a:pt x="18" y="1053"/>
                    </a:lnTo>
                    <a:lnTo>
                      <a:pt x="17" y="1047"/>
                    </a:lnTo>
                    <a:lnTo>
                      <a:pt x="17" y="1041"/>
                    </a:lnTo>
                    <a:lnTo>
                      <a:pt x="18" y="1035"/>
                    </a:lnTo>
                    <a:lnTo>
                      <a:pt x="19" y="1029"/>
                    </a:lnTo>
                    <a:lnTo>
                      <a:pt x="22" y="1023"/>
                    </a:lnTo>
                    <a:lnTo>
                      <a:pt x="25" y="1019"/>
                    </a:lnTo>
                    <a:lnTo>
                      <a:pt x="29" y="1015"/>
                    </a:lnTo>
                    <a:lnTo>
                      <a:pt x="40" y="1011"/>
                    </a:lnTo>
                    <a:lnTo>
                      <a:pt x="52" y="1007"/>
                    </a:lnTo>
                    <a:lnTo>
                      <a:pt x="64" y="1005"/>
                    </a:lnTo>
                    <a:lnTo>
                      <a:pt x="76" y="1003"/>
                    </a:lnTo>
                    <a:lnTo>
                      <a:pt x="88" y="1002"/>
                    </a:lnTo>
                    <a:lnTo>
                      <a:pt x="100" y="1002"/>
                    </a:lnTo>
                    <a:lnTo>
                      <a:pt x="112" y="1001"/>
                    </a:lnTo>
                    <a:lnTo>
                      <a:pt x="124" y="1001"/>
                    </a:lnTo>
                    <a:lnTo>
                      <a:pt x="144" y="1001"/>
                    </a:lnTo>
                    <a:lnTo>
                      <a:pt x="164" y="1001"/>
                    </a:lnTo>
                    <a:lnTo>
                      <a:pt x="184" y="1003"/>
                    </a:lnTo>
                    <a:lnTo>
                      <a:pt x="204" y="1005"/>
                    </a:lnTo>
                    <a:lnTo>
                      <a:pt x="224" y="1006"/>
                    </a:lnTo>
                    <a:lnTo>
                      <a:pt x="244" y="1007"/>
                    </a:lnTo>
                    <a:lnTo>
                      <a:pt x="264" y="1007"/>
                    </a:lnTo>
                    <a:lnTo>
                      <a:pt x="284" y="1006"/>
                    </a:lnTo>
                    <a:lnTo>
                      <a:pt x="296" y="1005"/>
                    </a:lnTo>
                    <a:lnTo>
                      <a:pt x="308" y="1002"/>
                    </a:lnTo>
                    <a:lnTo>
                      <a:pt x="320" y="1000"/>
                    </a:lnTo>
                    <a:lnTo>
                      <a:pt x="332" y="996"/>
                    </a:lnTo>
                    <a:lnTo>
                      <a:pt x="343" y="993"/>
                    </a:lnTo>
                    <a:lnTo>
                      <a:pt x="355" y="989"/>
                    </a:lnTo>
                    <a:lnTo>
                      <a:pt x="367" y="985"/>
                    </a:lnTo>
                    <a:lnTo>
                      <a:pt x="379" y="982"/>
                    </a:lnTo>
                    <a:lnTo>
                      <a:pt x="386" y="981"/>
                    </a:lnTo>
                    <a:lnTo>
                      <a:pt x="394" y="977"/>
                    </a:lnTo>
                    <a:lnTo>
                      <a:pt x="402" y="975"/>
                    </a:lnTo>
                    <a:lnTo>
                      <a:pt x="409" y="972"/>
                    </a:lnTo>
                    <a:lnTo>
                      <a:pt x="418" y="970"/>
                    </a:lnTo>
                    <a:lnTo>
                      <a:pt x="425" y="967"/>
                    </a:lnTo>
                    <a:lnTo>
                      <a:pt x="432" y="967"/>
                    </a:lnTo>
                    <a:lnTo>
                      <a:pt x="440" y="969"/>
                    </a:lnTo>
                    <a:lnTo>
                      <a:pt x="455" y="971"/>
                    </a:lnTo>
                    <a:lnTo>
                      <a:pt x="469" y="976"/>
                    </a:lnTo>
                    <a:lnTo>
                      <a:pt x="484" y="982"/>
                    </a:lnTo>
                    <a:lnTo>
                      <a:pt x="498" y="988"/>
                    </a:lnTo>
                    <a:lnTo>
                      <a:pt x="512" y="995"/>
                    </a:lnTo>
                    <a:lnTo>
                      <a:pt x="526" y="1001"/>
                    </a:lnTo>
                    <a:lnTo>
                      <a:pt x="540" y="1008"/>
                    </a:lnTo>
                    <a:lnTo>
                      <a:pt x="553" y="1015"/>
                    </a:lnTo>
                    <a:lnTo>
                      <a:pt x="565" y="1021"/>
                    </a:lnTo>
                    <a:lnTo>
                      <a:pt x="576" y="1029"/>
                    </a:lnTo>
                    <a:lnTo>
                      <a:pt x="587" y="1036"/>
                    </a:lnTo>
                    <a:lnTo>
                      <a:pt x="598" y="1043"/>
                    </a:lnTo>
                    <a:lnTo>
                      <a:pt x="608" y="1050"/>
                    </a:lnTo>
                    <a:lnTo>
                      <a:pt x="620" y="1056"/>
                    </a:lnTo>
                    <a:lnTo>
                      <a:pt x="631" y="1062"/>
                    </a:lnTo>
                    <a:lnTo>
                      <a:pt x="643" y="1067"/>
                    </a:lnTo>
                    <a:lnTo>
                      <a:pt x="653" y="1071"/>
                    </a:lnTo>
                    <a:lnTo>
                      <a:pt x="664" y="1074"/>
                    </a:lnTo>
                    <a:lnTo>
                      <a:pt x="673" y="1078"/>
                    </a:lnTo>
                    <a:lnTo>
                      <a:pt x="684" y="1080"/>
                    </a:lnTo>
                    <a:lnTo>
                      <a:pt x="694" y="1081"/>
                    </a:lnTo>
                    <a:lnTo>
                      <a:pt x="704" y="1081"/>
                    </a:lnTo>
                    <a:lnTo>
                      <a:pt x="714" y="1080"/>
                    </a:lnTo>
                    <a:lnTo>
                      <a:pt x="724" y="1077"/>
                    </a:lnTo>
                    <a:lnTo>
                      <a:pt x="730" y="1072"/>
                    </a:lnTo>
                    <a:lnTo>
                      <a:pt x="736" y="1066"/>
                    </a:lnTo>
                    <a:lnTo>
                      <a:pt x="739" y="1059"/>
                    </a:lnTo>
                    <a:lnTo>
                      <a:pt x="743" y="1050"/>
                    </a:lnTo>
                    <a:lnTo>
                      <a:pt x="745" y="1042"/>
                    </a:lnTo>
                    <a:lnTo>
                      <a:pt x="746" y="1032"/>
                    </a:lnTo>
                    <a:lnTo>
                      <a:pt x="748" y="1024"/>
                    </a:lnTo>
                    <a:lnTo>
                      <a:pt x="748" y="1015"/>
                    </a:lnTo>
                    <a:lnTo>
                      <a:pt x="746" y="1006"/>
                    </a:lnTo>
                    <a:lnTo>
                      <a:pt x="744" y="997"/>
                    </a:lnTo>
                    <a:lnTo>
                      <a:pt x="742" y="989"/>
                    </a:lnTo>
                    <a:lnTo>
                      <a:pt x="738" y="981"/>
                    </a:lnTo>
                    <a:lnTo>
                      <a:pt x="733" y="972"/>
                    </a:lnTo>
                    <a:lnTo>
                      <a:pt x="728" y="965"/>
                    </a:lnTo>
                    <a:lnTo>
                      <a:pt x="724" y="957"/>
                    </a:lnTo>
                    <a:lnTo>
                      <a:pt x="719" y="949"/>
                    </a:lnTo>
                    <a:lnTo>
                      <a:pt x="709" y="936"/>
                    </a:lnTo>
                    <a:lnTo>
                      <a:pt x="700" y="923"/>
                    </a:lnTo>
                    <a:lnTo>
                      <a:pt x="690" y="910"/>
                    </a:lnTo>
                    <a:lnTo>
                      <a:pt x="679" y="897"/>
                    </a:lnTo>
                    <a:lnTo>
                      <a:pt x="668" y="885"/>
                    </a:lnTo>
                    <a:lnTo>
                      <a:pt x="658" y="873"/>
                    </a:lnTo>
                    <a:lnTo>
                      <a:pt x="646" y="861"/>
                    </a:lnTo>
                    <a:lnTo>
                      <a:pt x="634" y="850"/>
                    </a:lnTo>
                    <a:lnTo>
                      <a:pt x="619" y="838"/>
                    </a:lnTo>
                    <a:lnTo>
                      <a:pt x="604" y="826"/>
                    </a:lnTo>
                    <a:lnTo>
                      <a:pt x="588" y="815"/>
                    </a:lnTo>
                    <a:lnTo>
                      <a:pt x="572" y="804"/>
                    </a:lnTo>
                    <a:lnTo>
                      <a:pt x="557" y="793"/>
                    </a:lnTo>
                    <a:lnTo>
                      <a:pt x="540" y="784"/>
                    </a:lnTo>
                    <a:lnTo>
                      <a:pt x="523" y="774"/>
                    </a:lnTo>
                    <a:lnTo>
                      <a:pt x="506" y="765"/>
                    </a:lnTo>
                    <a:lnTo>
                      <a:pt x="494" y="760"/>
                    </a:lnTo>
                    <a:lnTo>
                      <a:pt x="481" y="754"/>
                    </a:lnTo>
                    <a:lnTo>
                      <a:pt x="468" y="750"/>
                    </a:lnTo>
                    <a:lnTo>
                      <a:pt x="456" y="745"/>
                    </a:lnTo>
                    <a:lnTo>
                      <a:pt x="443" y="742"/>
                    </a:lnTo>
                    <a:lnTo>
                      <a:pt x="428" y="738"/>
                    </a:lnTo>
                    <a:lnTo>
                      <a:pt x="415" y="736"/>
                    </a:lnTo>
                    <a:lnTo>
                      <a:pt x="402" y="732"/>
                    </a:lnTo>
                    <a:lnTo>
                      <a:pt x="391" y="730"/>
                    </a:lnTo>
                    <a:lnTo>
                      <a:pt x="379" y="727"/>
                    </a:lnTo>
                    <a:lnTo>
                      <a:pt x="367" y="725"/>
                    </a:lnTo>
                    <a:lnTo>
                      <a:pt x="355" y="723"/>
                    </a:lnTo>
                    <a:lnTo>
                      <a:pt x="343" y="720"/>
                    </a:lnTo>
                    <a:lnTo>
                      <a:pt x="331" y="719"/>
                    </a:lnTo>
                    <a:lnTo>
                      <a:pt x="320" y="718"/>
                    </a:lnTo>
                    <a:lnTo>
                      <a:pt x="308" y="718"/>
                    </a:lnTo>
                    <a:lnTo>
                      <a:pt x="300" y="718"/>
                    </a:lnTo>
                    <a:lnTo>
                      <a:pt x="292" y="719"/>
                    </a:lnTo>
                    <a:lnTo>
                      <a:pt x="284" y="720"/>
                    </a:lnTo>
                    <a:lnTo>
                      <a:pt x="276" y="721"/>
                    </a:lnTo>
                    <a:lnTo>
                      <a:pt x="269" y="724"/>
                    </a:lnTo>
                    <a:lnTo>
                      <a:pt x="262" y="726"/>
                    </a:lnTo>
                    <a:lnTo>
                      <a:pt x="253" y="729"/>
                    </a:lnTo>
                    <a:lnTo>
                      <a:pt x="246" y="732"/>
                    </a:lnTo>
                    <a:lnTo>
                      <a:pt x="239" y="737"/>
                    </a:lnTo>
                    <a:lnTo>
                      <a:pt x="233" y="742"/>
                    </a:lnTo>
                    <a:lnTo>
                      <a:pt x="227" y="747"/>
                    </a:lnTo>
                    <a:lnTo>
                      <a:pt x="221" y="753"/>
                    </a:lnTo>
                    <a:lnTo>
                      <a:pt x="215" y="759"/>
                    </a:lnTo>
                    <a:lnTo>
                      <a:pt x="208" y="765"/>
                    </a:lnTo>
                    <a:lnTo>
                      <a:pt x="202" y="771"/>
                    </a:lnTo>
                    <a:lnTo>
                      <a:pt x="194" y="774"/>
                    </a:lnTo>
                    <a:lnTo>
                      <a:pt x="184" y="780"/>
                    </a:lnTo>
                    <a:lnTo>
                      <a:pt x="172" y="786"/>
                    </a:lnTo>
                    <a:lnTo>
                      <a:pt x="161" y="792"/>
                    </a:lnTo>
                    <a:lnTo>
                      <a:pt x="149" y="797"/>
                    </a:lnTo>
                    <a:lnTo>
                      <a:pt x="137" y="802"/>
                    </a:lnTo>
                    <a:lnTo>
                      <a:pt x="125" y="805"/>
                    </a:lnTo>
                    <a:lnTo>
                      <a:pt x="113" y="809"/>
                    </a:lnTo>
                    <a:lnTo>
                      <a:pt x="100" y="813"/>
                    </a:lnTo>
                    <a:lnTo>
                      <a:pt x="96" y="813"/>
                    </a:lnTo>
                    <a:lnTo>
                      <a:pt x="91" y="814"/>
                    </a:lnTo>
                    <a:lnTo>
                      <a:pt x="86" y="813"/>
                    </a:lnTo>
                    <a:lnTo>
                      <a:pt x="82" y="813"/>
                    </a:lnTo>
                    <a:lnTo>
                      <a:pt x="77" y="811"/>
                    </a:lnTo>
                    <a:lnTo>
                      <a:pt x="73" y="809"/>
                    </a:lnTo>
                    <a:lnTo>
                      <a:pt x="70" y="807"/>
                    </a:lnTo>
                    <a:lnTo>
                      <a:pt x="67" y="803"/>
                    </a:lnTo>
                    <a:lnTo>
                      <a:pt x="65" y="797"/>
                    </a:lnTo>
                    <a:lnTo>
                      <a:pt x="62" y="791"/>
                    </a:lnTo>
                    <a:lnTo>
                      <a:pt x="61" y="784"/>
                    </a:lnTo>
                    <a:lnTo>
                      <a:pt x="60" y="777"/>
                    </a:lnTo>
                    <a:lnTo>
                      <a:pt x="61" y="769"/>
                    </a:lnTo>
                    <a:lnTo>
                      <a:pt x="62" y="763"/>
                    </a:lnTo>
                    <a:lnTo>
                      <a:pt x="64" y="756"/>
                    </a:lnTo>
                    <a:lnTo>
                      <a:pt x="67" y="751"/>
                    </a:lnTo>
                    <a:lnTo>
                      <a:pt x="77" y="738"/>
                    </a:lnTo>
                    <a:lnTo>
                      <a:pt x="86" y="725"/>
                    </a:lnTo>
                    <a:lnTo>
                      <a:pt x="98" y="713"/>
                    </a:lnTo>
                    <a:lnTo>
                      <a:pt x="110" y="702"/>
                    </a:lnTo>
                    <a:lnTo>
                      <a:pt x="122" y="691"/>
                    </a:lnTo>
                    <a:lnTo>
                      <a:pt x="136" y="681"/>
                    </a:lnTo>
                    <a:lnTo>
                      <a:pt x="149" y="671"/>
                    </a:lnTo>
                    <a:lnTo>
                      <a:pt x="162" y="661"/>
                    </a:lnTo>
                    <a:lnTo>
                      <a:pt x="170" y="655"/>
                    </a:lnTo>
                    <a:lnTo>
                      <a:pt x="180" y="649"/>
                    </a:lnTo>
                    <a:lnTo>
                      <a:pt x="190" y="645"/>
                    </a:lnTo>
                    <a:lnTo>
                      <a:pt x="200" y="641"/>
                    </a:lnTo>
                    <a:lnTo>
                      <a:pt x="210" y="637"/>
                    </a:lnTo>
                    <a:lnTo>
                      <a:pt x="221" y="634"/>
                    </a:lnTo>
                    <a:lnTo>
                      <a:pt x="232" y="630"/>
                    </a:lnTo>
                    <a:lnTo>
                      <a:pt x="241" y="628"/>
                    </a:lnTo>
                    <a:lnTo>
                      <a:pt x="256" y="627"/>
                    </a:lnTo>
                    <a:lnTo>
                      <a:pt x="270" y="624"/>
                    </a:lnTo>
                    <a:lnTo>
                      <a:pt x="284" y="624"/>
                    </a:lnTo>
                    <a:lnTo>
                      <a:pt x="298" y="623"/>
                    </a:lnTo>
                    <a:lnTo>
                      <a:pt x="312" y="623"/>
                    </a:lnTo>
                    <a:lnTo>
                      <a:pt x="326" y="623"/>
                    </a:lnTo>
                    <a:lnTo>
                      <a:pt x="341" y="623"/>
                    </a:lnTo>
                    <a:lnTo>
                      <a:pt x="355" y="624"/>
                    </a:lnTo>
                    <a:lnTo>
                      <a:pt x="376" y="624"/>
                    </a:lnTo>
                    <a:lnTo>
                      <a:pt x="395" y="624"/>
                    </a:lnTo>
                    <a:lnTo>
                      <a:pt x="415" y="624"/>
                    </a:lnTo>
                    <a:lnTo>
                      <a:pt x="436" y="625"/>
                    </a:lnTo>
                    <a:lnTo>
                      <a:pt x="456" y="625"/>
                    </a:lnTo>
                    <a:lnTo>
                      <a:pt x="475" y="627"/>
                    </a:lnTo>
                    <a:lnTo>
                      <a:pt x="496" y="628"/>
                    </a:lnTo>
                    <a:lnTo>
                      <a:pt x="516" y="628"/>
                    </a:lnTo>
                    <a:lnTo>
                      <a:pt x="530" y="629"/>
                    </a:lnTo>
                    <a:lnTo>
                      <a:pt x="545" y="630"/>
                    </a:lnTo>
                    <a:lnTo>
                      <a:pt x="560" y="633"/>
                    </a:lnTo>
                    <a:lnTo>
                      <a:pt x="575" y="634"/>
                    </a:lnTo>
                    <a:lnTo>
                      <a:pt x="589" y="635"/>
                    </a:lnTo>
                    <a:lnTo>
                      <a:pt x="604" y="636"/>
                    </a:lnTo>
                    <a:lnTo>
                      <a:pt x="619" y="637"/>
                    </a:lnTo>
                    <a:lnTo>
                      <a:pt x="634" y="637"/>
                    </a:lnTo>
                    <a:lnTo>
                      <a:pt x="642" y="639"/>
                    </a:lnTo>
                    <a:lnTo>
                      <a:pt x="652" y="639"/>
                    </a:lnTo>
                    <a:lnTo>
                      <a:pt x="660" y="639"/>
                    </a:lnTo>
                    <a:lnTo>
                      <a:pt x="668" y="639"/>
                    </a:lnTo>
                    <a:lnTo>
                      <a:pt x="678" y="637"/>
                    </a:lnTo>
                    <a:lnTo>
                      <a:pt x="685" y="636"/>
                    </a:lnTo>
                    <a:lnTo>
                      <a:pt x="694" y="633"/>
                    </a:lnTo>
                    <a:lnTo>
                      <a:pt x="700" y="628"/>
                    </a:lnTo>
                    <a:close/>
                  </a:path>
                </a:pathLst>
              </a:custGeom>
              <a:solidFill>
                <a:srgbClr val="df9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41800" y="1324080"/>
                <a:ext cx="806400" cy="693720"/>
              </a:xfrm>
              <a:custGeom>
                <a:avLst/>
                <a:gdLst/>
                <a:ahLst/>
                <a:rect l="l" t="t" r="r" b="b"/>
                <a:pathLst>
                  <a:path w="2032" h="1749">
                    <a:moveTo>
                      <a:pt x="695" y="622"/>
                    </a:moveTo>
                    <a:lnTo>
                      <a:pt x="702" y="615"/>
                    </a:lnTo>
                    <a:lnTo>
                      <a:pt x="707" y="608"/>
                    </a:lnTo>
                    <a:lnTo>
                      <a:pt x="711" y="599"/>
                    </a:lnTo>
                    <a:lnTo>
                      <a:pt x="714" y="590"/>
                    </a:lnTo>
                    <a:lnTo>
                      <a:pt x="717" y="581"/>
                    </a:lnTo>
                    <a:lnTo>
                      <a:pt x="718" y="571"/>
                    </a:lnTo>
                    <a:lnTo>
                      <a:pt x="719" y="561"/>
                    </a:lnTo>
                    <a:lnTo>
                      <a:pt x="719" y="553"/>
                    </a:lnTo>
                    <a:lnTo>
                      <a:pt x="719" y="541"/>
                    </a:lnTo>
                    <a:lnTo>
                      <a:pt x="718" y="530"/>
                    </a:lnTo>
                    <a:lnTo>
                      <a:pt x="717" y="519"/>
                    </a:lnTo>
                    <a:lnTo>
                      <a:pt x="714" y="508"/>
                    </a:lnTo>
                    <a:lnTo>
                      <a:pt x="711" y="497"/>
                    </a:lnTo>
                    <a:lnTo>
                      <a:pt x="707" y="487"/>
                    </a:lnTo>
                    <a:lnTo>
                      <a:pt x="701" y="477"/>
                    </a:lnTo>
                    <a:lnTo>
                      <a:pt x="695" y="467"/>
                    </a:lnTo>
                    <a:lnTo>
                      <a:pt x="689" y="460"/>
                    </a:lnTo>
                    <a:lnTo>
                      <a:pt x="681" y="454"/>
                    </a:lnTo>
                    <a:lnTo>
                      <a:pt x="672" y="449"/>
                    </a:lnTo>
                    <a:lnTo>
                      <a:pt x="663" y="446"/>
                    </a:lnTo>
                    <a:lnTo>
                      <a:pt x="653" y="442"/>
                    </a:lnTo>
                    <a:lnTo>
                      <a:pt x="643" y="437"/>
                    </a:lnTo>
                    <a:lnTo>
                      <a:pt x="634" y="434"/>
                    </a:lnTo>
                    <a:lnTo>
                      <a:pt x="625" y="430"/>
                    </a:lnTo>
                    <a:lnTo>
                      <a:pt x="615" y="426"/>
                    </a:lnTo>
                    <a:lnTo>
                      <a:pt x="603" y="421"/>
                    </a:lnTo>
                    <a:lnTo>
                      <a:pt x="592" y="415"/>
                    </a:lnTo>
                    <a:lnTo>
                      <a:pt x="581" y="410"/>
                    </a:lnTo>
                    <a:lnTo>
                      <a:pt x="570" y="405"/>
                    </a:lnTo>
                    <a:lnTo>
                      <a:pt x="558" y="402"/>
                    </a:lnTo>
                    <a:lnTo>
                      <a:pt x="547" y="397"/>
                    </a:lnTo>
                    <a:lnTo>
                      <a:pt x="537" y="393"/>
                    </a:lnTo>
                    <a:lnTo>
                      <a:pt x="523" y="390"/>
                    </a:lnTo>
                    <a:lnTo>
                      <a:pt x="510" y="387"/>
                    </a:lnTo>
                    <a:lnTo>
                      <a:pt x="497" y="385"/>
                    </a:lnTo>
                    <a:lnTo>
                      <a:pt x="484" y="382"/>
                    </a:lnTo>
                    <a:lnTo>
                      <a:pt x="471" y="380"/>
                    </a:lnTo>
                    <a:lnTo>
                      <a:pt x="459" y="378"/>
                    </a:lnTo>
                    <a:lnTo>
                      <a:pt x="445" y="374"/>
                    </a:lnTo>
                    <a:lnTo>
                      <a:pt x="433" y="369"/>
                    </a:lnTo>
                    <a:lnTo>
                      <a:pt x="423" y="366"/>
                    </a:lnTo>
                    <a:lnTo>
                      <a:pt x="413" y="361"/>
                    </a:lnTo>
                    <a:lnTo>
                      <a:pt x="403" y="355"/>
                    </a:lnTo>
                    <a:lnTo>
                      <a:pt x="394" y="349"/>
                    </a:lnTo>
                    <a:lnTo>
                      <a:pt x="384" y="343"/>
                    </a:lnTo>
                    <a:lnTo>
                      <a:pt x="376" y="337"/>
                    </a:lnTo>
                    <a:lnTo>
                      <a:pt x="366" y="330"/>
                    </a:lnTo>
                    <a:lnTo>
                      <a:pt x="358" y="322"/>
                    </a:lnTo>
                    <a:lnTo>
                      <a:pt x="342" y="310"/>
                    </a:lnTo>
                    <a:lnTo>
                      <a:pt x="328" y="298"/>
                    </a:lnTo>
                    <a:lnTo>
                      <a:pt x="313" y="285"/>
                    </a:lnTo>
                    <a:lnTo>
                      <a:pt x="299" y="272"/>
                    </a:lnTo>
                    <a:lnTo>
                      <a:pt x="285" y="259"/>
                    </a:lnTo>
                    <a:lnTo>
                      <a:pt x="270" y="246"/>
                    </a:lnTo>
                    <a:lnTo>
                      <a:pt x="256" y="232"/>
                    </a:lnTo>
                    <a:lnTo>
                      <a:pt x="240" y="220"/>
                    </a:lnTo>
                    <a:lnTo>
                      <a:pt x="227" y="210"/>
                    </a:lnTo>
                    <a:lnTo>
                      <a:pt x="214" y="199"/>
                    </a:lnTo>
                    <a:lnTo>
                      <a:pt x="199" y="188"/>
                    </a:lnTo>
                    <a:lnTo>
                      <a:pt x="186" y="178"/>
                    </a:lnTo>
                    <a:lnTo>
                      <a:pt x="172" y="169"/>
                    </a:lnTo>
                    <a:lnTo>
                      <a:pt x="157" y="159"/>
                    </a:lnTo>
                    <a:lnTo>
                      <a:pt x="143" y="150"/>
                    </a:lnTo>
                    <a:lnTo>
                      <a:pt x="129" y="140"/>
                    </a:lnTo>
                    <a:lnTo>
                      <a:pt x="119" y="135"/>
                    </a:lnTo>
                    <a:lnTo>
                      <a:pt x="108" y="130"/>
                    </a:lnTo>
                    <a:lnTo>
                      <a:pt x="99" y="126"/>
                    </a:lnTo>
                    <a:lnTo>
                      <a:pt x="88" y="122"/>
                    </a:lnTo>
                    <a:lnTo>
                      <a:pt x="78" y="117"/>
                    </a:lnTo>
                    <a:lnTo>
                      <a:pt x="67" y="114"/>
                    </a:lnTo>
                    <a:lnTo>
                      <a:pt x="58" y="109"/>
                    </a:lnTo>
                    <a:lnTo>
                      <a:pt x="48" y="103"/>
                    </a:lnTo>
                    <a:lnTo>
                      <a:pt x="42" y="98"/>
                    </a:lnTo>
                    <a:lnTo>
                      <a:pt x="35" y="93"/>
                    </a:lnTo>
                    <a:lnTo>
                      <a:pt x="28" y="88"/>
                    </a:lnTo>
                    <a:lnTo>
                      <a:pt x="21" y="82"/>
                    </a:lnTo>
                    <a:lnTo>
                      <a:pt x="15" y="76"/>
                    </a:lnTo>
                    <a:lnTo>
                      <a:pt x="10" y="70"/>
                    </a:lnTo>
                    <a:lnTo>
                      <a:pt x="5" y="63"/>
                    </a:lnTo>
                    <a:lnTo>
                      <a:pt x="1" y="56"/>
                    </a:lnTo>
                    <a:lnTo>
                      <a:pt x="0" y="50"/>
                    </a:lnTo>
                    <a:lnTo>
                      <a:pt x="1" y="44"/>
                    </a:lnTo>
                    <a:lnTo>
                      <a:pt x="3" y="38"/>
                    </a:lnTo>
                    <a:lnTo>
                      <a:pt x="4" y="32"/>
                    </a:lnTo>
                    <a:lnTo>
                      <a:pt x="7" y="26"/>
                    </a:lnTo>
                    <a:lnTo>
                      <a:pt x="11" y="21"/>
                    </a:lnTo>
                    <a:lnTo>
                      <a:pt x="16" y="18"/>
                    </a:lnTo>
                    <a:lnTo>
                      <a:pt x="21" y="14"/>
                    </a:lnTo>
                    <a:lnTo>
                      <a:pt x="30" y="9"/>
                    </a:lnTo>
                    <a:lnTo>
                      <a:pt x="40" y="7"/>
                    </a:lnTo>
                    <a:lnTo>
                      <a:pt x="49" y="4"/>
                    </a:lnTo>
                    <a:lnTo>
                      <a:pt x="59" y="3"/>
                    </a:lnTo>
                    <a:lnTo>
                      <a:pt x="70" y="3"/>
                    </a:lnTo>
                    <a:lnTo>
                      <a:pt x="79" y="3"/>
                    </a:lnTo>
                    <a:lnTo>
                      <a:pt x="90" y="3"/>
                    </a:lnTo>
                    <a:lnTo>
                      <a:pt x="100" y="4"/>
                    </a:lnTo>
                    <a:lnTo>
                      <a:pt x="109" y="6"/>
                    </a:lnTo>
                    <a:lnTo>
                      <a:pt x="119" y="7"/>
                    </a:lnTo>
                    <a:lnTo>
                      <a:pt x="127" y="9"/>
                    </a:lnTo>
                    <a:lnTo>
                      <a:pt x="137" y="12"/>
                    </a:lnTo>
                    <a:lnTo>
                      <a:pt x="145" y="15"/>
                    </a:lnTo>
                    <a:lnTo>
                      <a:pt x="154" y="19"/>
                    </a:lnTo>
                    <a:lnTo>
                      <a:pt x="162" y="24"/>
                    </a:lnTo>
                    <a:lnTo>
                      <a:pt x="171" y="28"/>
                    </a:lnTo>
                    <a:lnTo>
                      <a:pt x="181" y="36"/>
                    </a:lnTo>
                    <a:lnTo>
                      <a:pt x="192" y="45"/>
                    </a:lnTo>
                    <a:lnTo>
                      <a:pt x="202" y="54"/>
                    </a:lnTo>
                    <a:lnTo>
                      <a:pt x="211" y="63"/>
                    </a:lnTo>
                    <a:lnTo>
                      <a:pt x="221" y="74"/>
                    </a:lnTo>
                    <a:lnTo>
                      <a:pt x="231" y="84"/>
                    </a:lnTo>
                    <a:lnTo>
                      <a:pt x="240" y="93"/>
                    </a:lnTo>
                    <a:lnTo>
                      <a:pt x="250" y="103"/>
                    </a:lnTo>
                    <a:lnTo>
                      <a:pt x="264" y="115"/>
                    </a:lnTo>
                    <a:lnTo>
                      <a:pt x="279" y="128"/>
                    </a:lnTo>
                    <a:lnTo>
                      <a:pt x="293" y="140"/>
                    </a:lnTo>
                    <a:lnTo>
                      <a:pt x="309" y="153"/>
                    </a:lnTo>
                    <a:lnTo>
                      <a:pt x="323" y="165"/>
                    </a:lnTo>
                    <a:lnTo>
                      <a:pt x="337" y="177"/>
                    </a:lnTo>
                    <a:lnTo>
                      <a:pt x="352" y="189"/>
                    </a:lnTo>
                    <a:lnTo>
                      <a:pt x="367" y="201"/>
                    </a:lnTo>
                    <a:lnTo>
                      <a:pt x="378" y="210"/>
                    </a:lnTo>
                    <a:lnTo>
                      <a:pt x="389" y="218"/>
                    </a:lnTo>
                    <a:lnTo>
                      <a:pt x="400" y="228"/>
                    </a:lnTo>
                    <a:lnTo>
                      <a:pt x="411" y="236"/>
                    </a:lnTo>
                    <a:lnTo>
                      <a:pt x="421" y="244"/>
                    </a:lnTo>
                    <a:lnTo>
                      <a:pt x="433" y="252"/>
                    </a:lnTo>
                    <a:lnTo>
                      <a:pt x="444" y="260"/>
                    </a:lnTo>
                    <a:lnTo>
                      <a:pt x="456" y="267"/>
                    </a:lnTo>
                    <a:lnTo>
                      <a:pt x="462" y="270"/>
                    </a:lnTo>
                    <a:lnTo>
                      <a:pt x="468" y="272"/>
                    </a:lnTo>
                    <a:lnTo>
                      <a:pt x="474" y="274"/>
                    </a:lnTo>
                    <a:lnTo>
                      <a:pt x="481" y="277"/>
                    </a:lnTo>
                    <a:lnTo>
                      <a:pt x="487" y="278"/>
                    </a:lnTo>
                    <a:lnTo>
                      <a:pt x="495" y="279"/>
                    </a:lnTo>
                    <a:lnTo>
                      <a:pt x="502" y="280"/>
                    </a:lnTo>
                    <a:lnTo>
                      <a:pt x="508" y="280"/>
                    </a:lnTo>
                    <a:lnTo>
                      <a:pt x="514" y="280"/>
                    </a:lnTo>
                    <a:lnTo>
                      <a:pt x="520" y="282"/>
                    </a:lnTo>
                    <a:lnTo>
                      <a:pt x="527" y="282"/>
                    </a:lnTo>
                    <a:lnTo>
                      <a:pt x="533" y="280"/>
                    </a:lnTo>
                    <a:lnTo>
                      <a:pt x="539" y="279"/>
                    </a:lnTo>
                    <a:lnTo>
                      <a:pt x="545" y="278"/>
                    </a:lnTo>
                    <a:lnTo>
                      <a:pt x="550" y="274"/>
                    </a:lnTo>
                    <a:lnTo>
                      <a:pt x="555" y="271"/>
                    </a:lnTo>
                    <a:lnTo>
                      <a:pt x="559" y="266"/>
                    </a:lnTo>
                    <a:lnTo>
                      <a:pt x="563" y="260"/>
                    </a:lnTo>
                    <a:lnTo>
                      <a:pt x="567" y="253"/>
                    </a:lnTo>
                    <a:lnTo>
                      <a:pt x="569" y="246"/>
                    </a:lnTo>
                    <a:lnTo>
                      <a:pt x="570" y="238"/>
                    </a:lnTo>
                    <a:lnTo>
                      <a:pt x="571" y="230"/>
                    </a:lnTo>
                    <a:lnTo>
                      <a:pt x="573" y="223"/>
                    </a:lnTo>
                    <a:lnTo>
                      <a:pt x="574" y="216"/>
                    </a:lnTo>
                    <a:lnTo>
                      <a:pt x="574" y="204"/>
                    </a:lnTo>
                    <a:lnTo>
                      <a:pt x="574" y="193"/>
                    </a:lnTo>
                    <a:lnTo>
                      <a:pt x="574" y="182"/>
                    </a:lnTo>
                    <a:lnTo>
                      <a:pt x="573" y="171"/>
                    </a:lnTo>
                    <a:lnTo>
                      <a:pt x="571" y="159"/>
                    </a:lnTo>
                    <a:lnTo>
                      <a:pt x="570" y="148"/>
                    </a:lnTo>
                    <a:lnTo>
                      <a:pt x="569" y="138"/>
                    </a:lnTo>
                    <a:lnTo>
                      <a:pt x="569" y="126"/>
                    </a:lnTo>
                    <a:lnTo>
                      <a:pt x="569" y="121"/>
                    </a:lnTo>
                    <a:lnTo>
                      <a:pt x="569" y="115"/>
                    </a:lnTo>
                    <a:lnTo>
                      <a:pt x="570" y="109"/>
                    </a:lnTo>
                    <a:lnTo>
                      <a:pt x="571" y="103"/>
                    </a:lnTo>
                    <a:lnTo>
                      <a:pt x="571" y="97"/>
                    </a:lnTo>
                    <a:lnTo>
                      <a:pt x="573" y="91"/>
                    </a:lnTo>
                    <a:lnTo>
                      <a:pt x="573" y="85"/>
                    </a:lnTo>
                    <a:lnTo>
                      <a:pt x="574" y="79"/>
                    </a:lnTo>
                    <a:lnTo>
                      <a:pt x="574" y="73"/>
                    </a:lnTo>
                    <a:lnTo>
                      <a:pt x="574" y="67"/>
                    </a:lnTo>
                    <a:lnTo>
                      <a:pt x="573" y="60"/>
                    </a:lnTo>
                    <a:lnTo>
                      <a:pt x="573" y="54"/>
                    </a:lnTo>
                    <a:lnTo>
                      <a:pt x="571" y="46"/>
                    </a:lnTo>
                    <a:lnTo>
                      <a:pt x="571" y="40"/>
                    </a:lnTo>
                    <a:lnTo>
                      <a:pt x="573" y="34"/>
                    </a:lnTo>
                    <a:lnTo>
                      <a:pt x="574" y="28"/>
                    </a:lnTo>
                    <a:lnTo>
                      <a:pt x="575" y="24"/>
                    </a:lnTo>
                    <a:lnTo>
                      <a:pt x="576" y="19"/>
                    </a:lnTo>
                    <a:lnTo>
                      <a:pt x="577" y="14"/>
                    </a:lnTo>
                    <a:lnTo>
                      <a:pt x="580" y="9"/>
                    </a:lnTo>
                    <a:lnTo>
                      <a:pt x="582" y="6"/>
                    </a:lnTo>
                    <a:lnTo>
                      <a:pt x="585" y="2"/>
                    </a:lnTo>
                    <a:lnTo>
                      <a:pt x="588" y="1"/>
                    </a:lnTo>
                    <a:lnTo>
                      <a:pt x="592" y="0"/>
                    </a:lnTo>
                    <a:lnTo>
                      <a:pt x="600" y="1"/>
                    </a:lnTo>
                    <a:lnTo>
                      <a:pt x="609" y="3"/>
                    </a:lnTo>
                    <a:lnTo>
                      <a:pt x="616" y="7"/>
                    </a:lnTo>
                    <a:lnTo>
                      <a:pt x="623" y="10"/>
                    </a:lnTo>
                    <a:lnTo>
                      <a:pt x="630" y="15"/>
                    </a:lnTo>
                    <a:lnTo>
                      <a:pt x="636" y="21"/>
                    </a:lnTo>
                    <a:lnTo>
                      <a:pt x="643" y="26"/>
                    </a:lnTo>
                    <a:lnTo>
                      <a:pt x="648" y="32"/>
                    </a:lnTo>
                    <a:lnTo>
                      <a:pt x="654" y="40"/>
                    </a:lnTo>
                    <a:lnTo>
                      <a:pt x="659" y="49"/>
                    </a:lnTo>
                    <a:lnTo>
                      <a:pt x="664" y="57"/>
                    </a:lnTo>
                    <a:lnTo>
                      <a:pt x="667" y="66"/>
                    </a:lnTo>
                    <a:lnTo>
                      <a:pt x="671" y="75"/>
                    </a:lnTo>
                    <a:lnTo>
                      <a:pt x="675" y="85"/>
                    </a:lnTo>
                    <a:lnTo>
                      <a:pt x="678" y="93"/>
                    </a:lnTo>
                    <a:lnTo>
                      <a:pt x="682" y="103"/>
                    </a:lnTo>
                    <a:lnTo>
                      <a:pt x="687" y="116"/>
                    </a:lnTo>
                    <a:lnTo>
                      <a:pt x="693" y="128"/>
                    </a:lnTo>
                    <a:lnTo>
                      <a:pt x="697" y="141"/>
                    </a:lnTo>
                    <a:lnTo>
                      <a:pt x="702" y="154"/>
                    </a:lnTo>
                    <a:lnTo>
                      <a:pt x="707" y="168"/>
                    </a:lnTo>
                    <a:lnTo>
                      <a:pt x="713" y="180"/>
                    </a:lnTo>
                    <a:lnTo>
                      <a:pt x="718" y="193"/>
                    </a:lnTo>
                    <a:lnTo>
                      <a:pt x="724" y="206"/>
                    </a:lnTo>
                    <a:lnTo>
                      <a:pt x="726" y="213"/>
                    </a:lnTo>
                    <a:lnTo>
                      <a:pt x="730" y="222"/>
                    </a:lnTo>
                    <a:lnTo>
                      <a:pt x="733" y="229"/>
                    </a:lnTo>
                    <a:lnTo>
                      <a:pt x="736" y="237"/>
                    </a:lnTo>
                    <a:lnTo>
                      <a:pt x="739" y="244"/>
                    </a:lnTo>
                    <a:lnTo>
                      <a:pt x="743" y="253"/>
                    </a:lnTo>
                    <a:lnTo>
                      <a:pt x="747" y="260"/>
                    </a:lnTo>
                    <a:lnTo>
                      <a:pt x="751" y="267"/>
                    </a:lnTo>
                    <a:lnTo>
                      <a:pt x="757" y="274"/>
                    </a:lnTo>
                    <a:lnTo>
                      <a:pt x="763" y="282"/>
                    </a:lnTo>
                    <a:lnTo>
                      <a:pt x="769" y="289"/>
                    </a:lnTo>
                    <a:lnTo>
                      <a:pt x="775" y="296"/>
                    </a:lnTo>
                    <a:lnTo>
                      <a:pt x="783" y="303"/>
                    </a:lnTo>
                    <a:lnTo>
                      <a:pt x="790" y="309"/>
                    </a:lnTo>
                    <a:lnTo>
                      <a:pt x="796" y="316"/>
                    </a:lnTo>
                    <a:lnTo>
                      <a:pt x="803" y="322"/>
                    </a:lnTo>
                    <a:lnTo>
                      <a:pt x="811" y="331"/>
                    </a:lnTo>
                    <a:lnTo>
                      <a:pt x="821" y="339"/>
                    </a:lnTo>
                    <a:lnTo>
                      <a:pt x="829" y="348"/>
                    </a:lnTo>
                    <a:lnTo>
                      <a:pt x="839" y="356"/>
                    </a:lnTo>
                    <a:lnTo>
                      <a:pt x="847" y="364"/>
                    </a:lnTo>
                    <a:lnTo>
                      <a:pt x="857" y="372"/>
                    </a:lnTo>
                    <a:lnTo>
                      <a:pt x="868" y="378"/>
                    </a:lnTo>
                    <a:lnTo>
                      <a:pt x="879" y="384"/>
                    </a:lnTo>
                    <a:lnTo>
                      <a:pt x="887" y="387"/>
                    </a:lnTo>
                    <a:lnTo>
                      <a:pt x="895" y="391"/>
                    </a:lnTo>
                    <a:lnTo>
                      <a:pt x="905" y="393"/>
                    </a:lnTo>
                    <a:lnTo>
                      <a:pt x="915" y="394"/>
                    </a:lnTo>
                    <a:lnTo>
                      <a:pt x="924" y="396"/>
                    </a:lnTo>
                    <a:lnTo>
                      <a:pt x="934" y="397"/>
                    </a:lnTo>
                    <a:lnTo>
                      <a:pt x="943" y="397"/>
                    </a:lnTo>
                    <a:lnTo>
                      <a:pt x="953" y="398"/>
                    </a:lnTo>
                    <a:lnTo>
                      <a:pt x="965" y="398"/>
                    </a:lnTo>
                    <a:lnTo>
                      <a:pt x="977" y="398"/>
                    </a:lnTo>
                    <a:lnTo>
                      <a:pt x="988" y="398"/>
                    </a:lnTo>
                    <a:lnTo>
                      <a:pt x="1000" y="398"/>
                    </a:lnTo>
                    <a:lnTo>
                      <a:pt x="1012" y="398"/>
                    </a:lnTo>
                    <a:lnTo>
                      <a:pt x="1024" y="397"/>
                    </a:lnTo>
                    <a:lnTo>
                      <a:pt x="1036" y="394"/>
                    </a:lnTo>
                    <a:lnTo>
                      <a:pt x="1047" y="393"/>
                    </a:lnTo>
                    <a:lnTo>
                      <a:pt x="1055" y="392"/>
                    </a:lnTo>
                    <a:lnTo>
                      <a:pt x="1063" y="390"/>
                    </a:lnTo>
                    <a:lnTo>
                      <a:pt x="1071" y="387"/>
                    </a:lnTo>
                    <a:lnTo>
                      <a:pt x="1079" y="385"/>
                    </a:lnTo>
                    <a:lnTo>
                      <a:pt x="1086" y="382"/>
                    </a:lnTo>
                    <a:lnTo>
                      <a:pt x="1093" y="379"/>
                    </a:lnTo>
                    <a:lnTo>
                      <a:pt x="1101" y="374"/>
                    </a:lnTo>
                    <a:lnTo>
                      <a:pt x="1108" y="369"/>
                    </a:lnTo>
                    <a:lnTo>
                      <a:pt x="1115" y="364"/>
                    </a:lnTo>
                    <a:lnTo>
                      <a:pt x="1121" y="360"/>
                    </a:lnTo>
                    <a:lnTo>
                      <a:pt x="1128" y="354"/>
                    </a:lnTo>
                    <a:lnTo>
                      <a:pt x="1135" y="346"/>
                    </a:lnTo>
                    <a:lnTo>
                      <a:pt x="1140" y="340"/>
                    </a:lnTo>
                    <a:lnTo>
                      <a:pt x="1144" y="333"/>
                    </a:lnTo>
                    <a:lnTo>
                      <a:pt x="1145" y="330"/>
                    </a:lnTo>
                    <a:lnTo>
                      <a:pt x="1146" y="326"/>
                    </a:lnTo>
                    <a:lnTo>
                      <a:pt x="1146" y="322"/>
                    </a:lnTo>
                    <a:lnTo>
                      <a:pt x="1145" y="318"/>
                    </a:lnTo>
                    <a:lnTo>
                      <a:pt x="1144" y="314"/>
                    </a:lnTo>
                    <a:lnTo>
                      <a:pt x="1141" y="310"/>
                    </a:lnTo>
                    <a:lnTo>
                      <a:pt x="1139" y="308"/>
                    </a:lnTo>
                    <a:lnTo>
                      <a:pt x="1137" y="304"/>
                    </a:lnTo>
                    <a:lnTo>
                      <a:pt x="1129" y="301"/>
                    </a:lnTo>
                    <a:lnTo>
                      <a:pt x="1121" y="297"/>
                    </a:lnTo>
                    <a:lnTo>
                      <a:pt x="1111" y="294"/>
                    </a:lnTo>
                    <a:lnTo>
                      <a:pt x="1102" y="291"/>
                    </a:lnTo>
                    <a:lnTo>
                      <a:pt x="1092" y="289"/>
                    </a:lnTo>
                    <a:lnTo>
                      <a:pt x="1084" y="285"/>
                    </a:lnTo>
                    <a:lnTo>
                      <a:pt x="1074" y="282"/>
                    </a:lnTo>
                    <a:lnTo>
                      <a:pt x="1065" y="278"/>
                    </a:lnTo>
                    <a:lnTo>
                      <a:pt x="1054" y="276"/>
                    </a:lnTo>
                    <a:lnTo>
                      <a:pt x="1044" y="272"/>
                    </a:lnTo>
                    <a:lnTo>
                      <a:pt x="1033" y="270"/>
                    </a:lnTo>
                    <a:lnTo>
                      <a:pt x="1024" y="266"/>
                    </a:lnTo>
                    <a:lnTo>
                      <a:pt x="1014" y="262"/>
                    </a:lnTo>
                    <a:lnTo>
                      <a:pt x="1005" y="258"/>
                    </a:lnTo>
                    <a:lnTo>
                      <a:pt x="999" y="254"/>
                    </a:lnTo>
                    <a:lnTo>
                      <a:pt x="993" y="250"/>
                    </a:lnTo>
                    <a:lnTo>
                      <a:pt x="987" y="246"/>
                    </a:lnTo>
                    <a:lnTo>
                      <a:pt x="982" y="241"/>
                    </a:lnTo>
                    <a:lnTo>
                      <a:pt x="976" y="236"/>
                    </a:lnTo>
                    <a:lnTo>
                      <a:pt x="971" y="231"/>
                    </a:lnTo>
                    <a:lnTo>
                      <a:pt x="967" y="225"/>
                    </a:lnTo>
                    <a:lnTo>
                      <a:pt x="963" y="220"/>
                    </a:lnTo>
                    <a:lnTo>
                      <a:pt x="959" y="214"/>
                    </a:lnTo>
                    <a:lnTo>
                      <a:pt x="954" y="208"/>
                    </a:lnTo>
                    <a:lnTo>
                      <a:pt x="951" y="201"/>
                    </a:lnTo>
                    <a:lnTo>
                      <a:pt x="948" y="195"/>
                    </a:lnTo>
                    <a:lnTo>
                      <a:pt x="946" y="189"/>
                    </a:lnTo>
                    <a:lnTo>
                      <a:pt x="942" y="182"/>
                    </a:lnTo>
                    <a:lnTo>
                      <a:pt x="941" y="175"/>
                    </a:lnTo>
                    <a:lnTo>
                      <a:pt x="939" y="169"/>
                    </a:lnTo>
                    <a:lnTo>
                      <a:pt x="939" y="164"/>
                    </a:lnTo>
                    <a:lnTo>
                      <a:pt x="937" y="158"/>
                    </a:lnTo>
                    <a:lnTo>
                      <a:pt x="937" y="153"/>
                    </a:lnTo>
                    <a:lnTo>
                      <a:pt x="937" y="148"/>
                    </a:lnTo>
                    <a:lnTo>
                      <a:pt x="937" y="144"/>
                    </a:lnTo>
                    <a:lnTo>
                      <a:pt x="939" y="139"/>
                    </a:lnTo>
                    <a:lnTo>
                      <a:pt x="941" y="134"/>
                    </a:lnTo>
                    <a:lnTo>
                      <a:pt x="943" y="130"/>
                    </a:lnTo>
                    <a:lnTo>
                      <a:pt x="948" y="127"/>
                    </a:lnTo>
                    <a:lnTo>
                      <a:pt x="954" y="124"/>
                    </a:lnTo>
                    <a:lnTo>
                      <a:pt x="959" y="123"/>
                    </a:lnTo>
                    <a:lnTo>
                      <a:pt x="966" y="122"/>
                    </a:lnTo>
                    <a:lnTo>
                      <a:pt x="972" y="121"/>
                    </a:lnTo>
                    <a:lnTo>
                      <a:pt x="978" y="121"/>
                    </a:lnTo>
                    <a:lnTo>
                      <a:pt x="984" y="121"/>
                    </a:lnTo>
                    <a:lnTo>
                      <a:pt x="990" y="122"/>
                    </a:lnTo>
                    <a:lnTo>
                      <a:pt x="999" y="123"/>
                    </a:lnTo>
                    <a:lnTo>
                      <a:pt x="1006" y="124"/>
                    </a:lnTo>
                    <a:lnTo>
                      <a:pt x="1014" y="127"/>
                    </a:lnTo>
                    <a:lnTo>
                      <a:pt x="1021" y="130"/>
                    </a:lnTo>
                    <a:lnTo>
                      <a:pt x="1029" y="133"/>
                    </a:lnTo>
                    <a:lnTo>
                      <a:pt x="1036" y="135"/>
                    </a:lnTo>
                    <a:lnTo>
                      <a:pt x="1044" y="139"/>
                    </a:lnTo>
                    <a:lnTo>
                      <a:pt x="1051" y="140"/>
                    </a:lnTo>
                    <a:lnTo>
                      <a:pt x="1061" y="142"/>
                    </a:lnTo>
                    <a:lnTo>
                      <a:pt x="1071" y="144"/>
                    </a:lnTo>
                    <a:lnTo>
                      <a:pt x="1079" y="145"/>
                    </a:lnTo>
                    <a:lnTo>
                      <a:pt x="1089" y="146"/>
                    </a:lnTo>
                    <a:lnTo>
                      <a:pt x="1098" y="147"/>
                    </a:lnTo>
                    <a:lnTo>
                      <a:pt x="1108" y="148"/>
                    </a:lnTo>
                    <a:lnTo>
                      <a:pt x="1117" y="148"/>
                    </a:lnTo>
                    <a:lnTo>
                      <a:pt x="1127" y="150"/>
                    </a:lnTo>
                    <a:lnTo>
                      <a:pt x="1137" y="150"/>
                    </a:lnTo>
                    <a:lnTo>
                      <a:pt x="1147" y="151"/>
                    </a:lnTo>
                    <a:lnTo>
                      <a:pt x="1158" y="151"/>
                    </a:lnTo>
                    <a:lnTo>
                      <a:pt x="1169" y="151"/>
                    </a:lnTo>
                    <a:lnTo>
                      <a:pt x="1179" y="151"/>
                    </a:lnTo>
                    <a:lnTo>
                      <a:pt x="1189" y="151"/>
                    </a:lnTo>
                    <a:lnTo>
                      <a:pt x="1200" y="150"/>
                    </a:lnTo>
                    <a:lnTo>
                      <a:pt x="1211" y="150"/>
                    </a:lnTo>
                    <a:lnTo>
                      <a:pt x="1218" y="150"/>
                    </a:lnTo>
                    <a:lnTo>
                      <a:pt x="1225" y="148"/>
                    </a:lnTo>
                    <a:lnTo>
                      <a:pt x="1233" y="147"/>
                    </a:lnTo>
                    <a:lnTo>
                      <a:pt x="1239" y="146"/>
                    </a:lnTo>
                    <a:lnTo>
                      <a:pt x="1246" y="145"/>
                    </a:lnTo>
                    <a:lnTo>
                      <a:pt x="1253" y="144"/>
                    </a:lnTo>
                    <a:lnTo>
                      <a:pt x="1260" y="144"/>
                    </a:lnTo>
                    <a:lnTo>
                      <a:pt x="1267" y="145"/>
                    </a:lnTo>
                    <a:lnTo>
                      <a:pt x="1273" y="146"/>
                    </a:lnTo>
                    <a:lnTo>
                      <a:pt x="1279" y="148"/>
                    </a:lnTo>
                    <a:lnTo>
                      <a:pt x="1284" y="151"/>
                    </a:lnTo>
                    <a:lnTo>
                      <a:pt x="1290" y="153"/>
                    </a:lnTo>
                    <a:lnTo>
                      <a:pt x="1296" y="156"/>
                    </a:lnTo>
                    <a:lnTo>
                      <a:pt x="1301" y="159"/>
                    </a:lnTo>
                    <a:lnTo>
                      <a:pt x="1306" y="164"/>
                    </a:lnTo>
                    <a:lnTo>
                      <a:pt x="1309" y="169"/>
                    </a:lnTo>
                    <a:lnTo>
                      <a:pt x="1313" y="174"/>
                    </a:lnTo>
                    <a:lnTo>
                      <a:pt x="1315" y="178"/>
                    </a:lnTo>
                    <a:lnTo>
                      <a:pt x="1317" y="184"/>
                    </a:lnTo>
                    <a:lnTo>
                      <a:pt x="1319" y="190"/>
                    </a:lnTo>
                    <a:lnTo>
                      <a:pt x="1320" y="196"/>
                    </a:lnTo>
                    <a:lnTo>
                      <a:pt x="1321" y="202"/>
                    </a:lnTo>
                    <a:lnTo>
                      <a:pt x="1323" y="210"/>
                    </a:lnTo>
                    <a:lnTo>
                      <a:pt x="1324" y="216"/>
                    </a:lnTo>
                    <a:lnTo>
                      <a:pt x="1327" y="231"/>
                    </a:lnTo>
                    <a:lnTo>
                      <a:pt x="1331" y="247"/>
                    </a:lnTo>
                    <a:lnTo>
                      <a:pt x="1335" y="262"/>
                    </a:lnTo>
                    <a:lnTo>
                      <a:pt x="1338" y="278"/>
                    </a:lnTo>
                    <a:lnTo>
                      <a:pt x="1342" y="294"/>
                    </a:lnTo>
                    <a:lnTo>
                      <a:pt x="1345" y="309"/>
                    </a:lnTo>
                    <a:lnTo>
                      <a:pt x="1349" y="326"/>
                    </a:lnTo>
                    <a:lnTo>
                      <a:pt x="1351" y="342"/>
                    </a:lnTo>
                    <a:lnTo>
                      <a:pt x="1353" y="356"/>
                    </a:lnTo>
                    <a:lnTo>
                      <a:pt x="1354" y="370"/>
                    </a:lnTo>
                    <a:lnTo>
                      <a:pt x="1355" y="386"/>
                    </a:lnTo>
                    <a:lnTo>
                      <a:pt x="1355" y="400"/>
                    </a:lnTo>
                    <a:lnTo>
                      <a:pt x="1356" y="415"/>
                    </a:lnTo>
                    <a:lnTo>
                      <a:pt x="1356" y="429"/>
                    </a:lnTo>
                    <a:lnTo>
                      <a:pt x="1359" y="445"/>
                    </a:lnTo>
                    <a:lnTo>
                      <a:pt x="1361" y="459"/>
                    </a:lnTo>
                    <a:lnTo>
                      <a:pt x="1363" y="467"/>
                    </a:lnTo>
                    <a:lnTo>
                      <a:pt x="1366" y="477"/>
                    </a:lnTo>
                    <a:lnTo>
                      <a:pt x="1368" y="487"/>
                    </a:lnTo>
                    <a:lnTo>
                      <a:pt x="1372" y="496"/>
                    </a:lnTo>
                    <a:lnTo>
                      <a:pt x="1377" y="506"/>
                    </a:lnTo>
                    <a:lnTo>
                      <a:pt x="1381" y="514"/>
                    </a:lnTo>
                    <a:lnTo>
                      <a:pt x="1387" y="521"/>
                    </a:lnTo>
                    <a:lnTo>
                      <a:pt x="1393" y="529"/>
                    </a:lnTo>
                    <a:lnTo>
                      <a:pt x="1398" y="532"/>
                    </a:lnTo>
                    <a:lnTo>
                      <a:pt x="1404" y="535"/>
                    </a:lnTo>
                    <a:lnTo>
                      <a:pt x="1410" y="537"/>
                    </a:lnTo>
                    <a:lnTo>
                      <a:pt x="1416" y="538"/>
                    </a:lnTo>
                    <a:lnTo>
                      <a:pt x="1423" y="538"/>
                    </a:lnTo>
                    <a:lnTo>
                      <a:pt x="1429" y="538"/>
                    </a:lnTo>
                    <a:lnTo>
                      <a:pt x="1435" y="536"/>
                    </a:lnTo>
                    <a:lnTo>
                      <a:pt x="1440" y="533"/>
                    </a:lnTo>
                    <a:lnTo>
                      <a:pt x="1451" y="525"/>
                    </a:lnTo>
                    <a:lnTo>
                      <a:pt x="1461" y="515"/>
                    </a:lnTo>
                    <a:lnTo>
                      <a:pt x="1470" y="506"/>
                    </a:lnTo>
                    <a:lnTo>
                      <a:pt x="1479" y="494"/>
                    </a:lnTo>
                    <a:lnTo>
                      <a:pt x="1487" y="483"/>
                    </a:lnTo>
                    <a:lnTo>
                      <a:pt x="1494" y="472"/>
                    </a:lnTo>
                    <a:lnTo>
                      <a:pt x="1503" y="460"/>
                    </a:lnTo>
                    <a:lnTo>
                      <a:pt x="1511" y="449"/>
                    </a:lnTo>
                    <a:lnTo>
                      <a:pt x="1521" y="435"/>
                    </a:lnTo>
                    <a:lnTo>
                      <a:pt x="1531" y="422"/>
                    </a:lnTo>
                    <a:lnTo>
                      <a:pt x="1541" y="408"/>
                    </a:lnTo>
                    <a:lnTo>
                      <a:pt x="1551" y="393"/>
                    </a:lnTo>
                    <a:lnTo>
                      <a:pt x="1560" y="379"/>
                    </a:lnTo>
                    <a:lnTo>
                      <a:pt x="1570" y="364"/>
                    </a:lnTo>
                    <a:lnTo>
                      <a:pt x="1581" y="351"/>
                    </a:lnTo>
                    <a:lnTo>
                      <a:pt x="1590" y="337"/>
                    </a:lnTo>
                    <a:lnTo>
                      <a:pt x="1599" y="327"/>
                    </a:lnTo>
                    <a:lnTo>
                      <a:pt x="1606" y="318"/>
                    </a:lnTo>
                    <a:lnTo>
                      <a:pt x="1613" y="308"/>
                    </a:lnTo>
                    <a:lnTo>
                      <a:pt x="1621" y="297"/>
                    </a:lnTo>
                    <a:lnTo>
                      <a:pt x="1630" y="289"/>
                    </a:lnTo>
                    <a:lnTo>
                      <a:pt x="1638" y="279"/>
                    </a:lnTo>
                    <a:lnTo>
                      <a:pt x="1647" y="271"/>
                    </a:lnTo>
                    <a:lnTo>
                      <a:pt x="1656" y="262"/>
                    </a:lnTo>
                    <a:lnTo>
                      <a:pt x="1661" y="258"/>
                    </a:lnTo>
                    <a:lnTo>
                      <a:pt x="1667" y="253"/>
                    </a:lnTo>
                    <a:lnTo>
                      <a:pt x="1673" y="248"/>
                    </a:lnTo>
                    <a:lnTo>
                      <a:pt x="1680" y="243"/>
                    </a:lnTo>
                    <a:lnTo>
                      <a:pt x="1686" y="240"/>
                    </a:lnTo>
                    <a:lnTo>
                      <a:pt x="1691" y="238"/>
                    </a:lnTo>
                    <a:lnTo>
                      <a:pt x="1693" y="238"/>
                    </a:lnTo>
                    <a:lnTo>
                      <a:pt x="1696" y="240"/>
                    </a:lnTo>
                    <a:lnTo>
                      <a:pt x="1697" y="241"/>
                    </a:lnTo>
                    <a:lnTo>
                      <a:pt x="1698" y="243"/>
                    </a:lnTo>
                    <a:lnTo>
                      <a:pt x="1703" y="260"/>
                    </a:lnTo>
                    <a:lnTo>
                      <a:pt x="1705" y="277"/>
                    </a:lnTo>
                    <a:lnTo>
                      <a:pt x="1705" y="294"/>
                    </a:lnTo>
                    <a:lnTo>
                      <a:pt x="1705" y="310"/>
                    </a:lnTo>
                    <a:lnTo>
                      <a:pt x="1704" y="328"/>
                    </a:lnTo>
                    <a:lnTo>
                      <a:pt x="1702" y="345"/>
                    </a:lnTo>
                    <a:lnTo>
                      <a:pt x="1698" y="362"/>
                    </a:lnTo>
                    <a:lnTo>
                      <a:pt x="1693" y="379"/>
                    </a:lnTo>
                    <a:lnTo>
                      <a:pt x="1685" y="408"/>
                    </a:lnTo>
                    <a:lnTo>
                      <a:pt x="1675" y="436"/>
                    </a:lnTo>
                    <a:lnTo>
                      <a:pt x="1663" y="465"/>
                    </a:lnTo>
                    <a:lnTo>
                      <a:pt x="1651" y="493"/>
                    </a:lnTo>
                    <a:lnTo>
                      <a:pt x="1639" y="521"/>
                    </a:lnTo>
                    <a:lnTo>
                      <a:pt x="1626" y="549"/>
                    </a:lnTo>
                    <a:lnTo>
                      <a:pt x="1613" y="577"/>
                    </a:lnTo>
                    <a:lnTo>
                      <a:pt x="1600" y="603"/>
                    </a:lnTo>
                    <a:lnTo>
                      <a:pt x="1593" y="619"/>
                    </a:lnTo>
                    <a:lnTo>
                      <a:pt x="1584" y="634"/>
                    </a:lnTo>
                    <a:lnTo>
                      <a:pt x="1577" y="650"/>
                    </a:lnTo>
                    <a:lnTo>
                      <a:pt x="1569" y="664"/>
                    </a:lnTo>
                    <a:lnTo>
                      <a:pt x="1559" y="679"/>
                    </a:lnTo>
                    <a:lnTo>
                      <a:pt x="1549" y="693"/>
                    </a:lnTo>
                    <a:lnTo>
                      <a:pt x="1540" y="707"/>
                    </a:lnTo>
                    <a:lnTo>
                      <a:pt x="1529" y="721"/>
                    </a:lnTo>
                    <a:lnTo>
                      <a:pt x="1522" y="729"/>
                    </a:lnTo>
                    <a:lnTo>
                      <a:pt x="1513" y="736"/>
                    </a:lnTo>
                    <a:lnTo>
                      <a:pt x="1505" y="743"/>
                    </a:lnTo>
                    <a:lnTo>
                      <a:pt x="1495" y="749"/>
                    </a:lnTo>
                    <a:lnTo>
                      <a:pt x="1486" y="757"/>
                    </a:lnTo>
                    <a:lnTo>
                      <a:pt x="1477" y="763"/>
                    </a:lnTo>
                    <a:lnTo>
                      <a:pt x="1468" y="770"/>
                    </a:lnTo>
                    <a:lnTo>
                      <a:pt x="1459" y="777"/>
                    </a:lnTo>
                    <a:lnTo>
                      <a:pt x="1455" y="781"/>
                    </a:lnTo>
                    <a:lnTo>
                      <a:pt x="1451" y="784"/>
                    </a:lnTo>
                    <a:lnTo>
                      <a:pt x="1446" y="788"/>
                    </a:lnTo>
                    <a:lnTo>
                      <a:pt x="1443" y="791"/>
                    </a:lnTo>
                    <a:lnTo>
                      <a:pt x="1439" y="796"/>
                    </a:lnTo>
                    <a:lnTo>
                      <a:pt x="1435" y="800"/>
                    </a:lnTo>
                    <a:lnTo>
                      <a:pt x="1433" y="805"/>
                    </a:lnTo>
                    <a:lnTo>
                      <a:pt x="1431" y="809"/>
                    </a:lnTo>
                    <a:lnTo>
                      <a:pt x="1429" y="815"/>
                    </a:lnTo>
                    <a:lnTo>
                      <a:pt x="1429" y="823"/>
                    </a:lnTo>
                    <a:lnTo>
                      <a:pt x="1429" y="829"/>
                    </a:lnTo>
                    <a:lnTo>
                      <a:pt x="1429" y="836"/>
                    </a:lnTo>
                    <a:lnTo>
                      <a:pt x="1431" y="842"/>
                    </a:lnTo>
                    <a:lnTo>
                      <a:pt x="1433" y="848"/>
                    </a:lnTo>
                    <a:lnTo>
                      <a:pt x="1437" y="853"/>
                    </a:lnTo>
                    <a:lnTo>
                      <a:pt x="1440" y="856"/>
                    </a:lnTo>
                    <a:lnTo>
                      <a:pt x="1450" y="862"/>
                    </a:lnTo>
                    <a:lnTo>
                      <a:pt x="1459" y="866"/>
                    </a:lnTo>
                    <a:lnTo>
                      <a:pt x="1470" y="869"/>
                    </a:lnTo>
                    <a:lnTo>
                      <a:pt x="1481" y="871"/>
                    </a:lnTo>
                    <a:lnTo>
                      <a:pt x="1492" y="872"/>
                    </a:lnTo>
                    <a:lnTo>
                      <a:pt x="1503" y="873"/>
                    </a:lnTo>
                    <a:lnTo>
                      <a:pt x="1515" y="872"/>
                    </a:lnTo>
                    <a:lnTo>
                      <a:pt x="1525" y="871"/>
                    </a:lnTo>
                    <a:lnTo>
                      <a:pt x="1536" y="868"/>
                    </a:lnTo>
                    <a:lnTo>
                      <a:pt x="1548" y="865"/>
                    </a:lnTo>
                    <a:lnTo>
                      <a:pt x="1559" y="861"/>
                    </a:lnTo>
                    <a:lnTo>
                      <a:pt x="1571" y="856"/>
                    </a:lnTo>
                    <a:lnTo>
                      <a:pt x="1582" y="850"/>
                    </a:lnTo>
                    <a:lnTo>
                      <a:pt x="1591" y="844"/>
                    </a:lnTo>
                    <a:lnTo>
                      <a:pt x="1601" y="837"/>
                    </a:lnTo>
                    <a:lnTo>
                      <a:pt x="1609" y="829"/>
                    </a:lnTo>
                    <a:lnTo>
                      <a:pt x="1624" y="812"/>
                    </a:lnTo>
                    <a:lnTo>
                      <a:pt x="1636" y="794"/>
                    </a:lnTo>
                    <a:lnTo>
                      <a:pt x="1647" y="775"/>
                    </a:lnTo>
                    <a:lnTo>
                      <a:pt x="1657" y="754"/>
                    </a:lnTo>
                    <a:lnTo>
                      <a:pt x="1668" y="735"/>
                    </a:lnTo>
                    <a:lnTo>
                      <a:pt x="1679" y="716"/>
                    </a:lnTo>
                    <a:lnTo>
                      <a:pt x="1690" y="697"/>
                    </a:lnTo>
                    <a:lnTo>
                      <a:pt x="1703" y="679"/>
                    </a:lnTo>
                    <a:lnTo>
                      <a:pt x="1713" y="667"/>
                    </a:lnTo>
                    <a:lnTo>
                      <a:pt x="1722" y="655"/>
                    </a:lnTo>
                    <a:lnTo>
                      <a:pt x="1733" y="644"/>
                    </a:lnTo>
                    <a:lnTo>
                      <a:pt x="1744" y="633"/>
                    </a:lnTo>
                    <a:lnTo>
                      <a:pt x="1756" y="622"/>
                    </a:lnTo>
                    <a:lnTo>
                      <a:pt x="1768" y="613"/>
                    </a:lnTo>
                    <a:lnTo>
                      <a:pt x="1780" y="603"/>
                    </a:lnTo>
                    <a:lnTo>
                      <a:pt x="1792" y="595"/>
                    </a:lnTo>
                    <a:lnTo>
                      <a:pt x="1800" y="589"/>
                    </a:lnTo>
                    <a:lnTo>
                      <a:pt x="1809" y="584"/>
                    </a:lnTo>
                    <a:lnTo>
                      <a:pt x="1817" y="578"/>
                    </a:lnTo>
                    <a:lnTo>
                      <a:pt x="1825" y="574"/>
                    </a:lnTo>
                    <a:lnTo>
                      <a:pt x="1835" y="569"/>
                    </a:lnTo>
                    <a:lnTo>
                      <a:pt x="1843" y="567"/>
                    </a:lnTo>
                    <a:lnTo>
                      <a:pt x="1853" y="566"/>
                    </a:lnTo>
                    <a:lnTo>
                      <a:pt x="1863" y="566"/>
                    </a:lnTo>
                    <a:lnTo>
                      <a:pt x="1871" y="568"/>
                    </a:lnTo>
                    <a:lnTo>
                      <a:pt x="1879" y="572"/>
                    </a:lnTo>
                    <a:lnTo>
                      <a:pt x="1888" y="575"/>
                    </a:lnTo>
                    <a:lnTo>
                      <a:pt x="1895" y="581"/>
                    </a:lnTo>
                    <a:lnTo>
                      <a:pt x="1903" y="587"/>
                    </a:lnTo>
                    <a:lnTo>
                      <a:pt x="1909" y="595"/>
                    </a:lnTo>
                    <a:lnTo>
                      <a:pt x="1917" y="602"/>
                    </a:lnTo>
                    <a:lnTo>
                      <a:pt x="1923" y="608"/>
                    </a:lnTo>
                    <a:lnTo>
                      <a:pt x="1930" y="615"/>
                    </a:lnTo>
                    <a:lnTo>
                      <a:pt x="1936" y="623"/>
                    </a:lnTo>
                    <a:lnTo>
                      <a:pt x="1941" y="632"/>
                    </a:lnTo>
                    <a:lnTo>
                      <a:pt x="1945" y="640"/>
                    </a:lnTo>
                    <a:lnTo>
                      <a:pt x="1951" y="649"/>
                    </a:lnTo>
                    <a:lnTo>
                      <a:pt x="1956" y="657"/>
                    </a:lnTo>
                    <a:lnTo>
                      <a:pt x="1961" y="665"/>
                    </a:lnTo>
                    <a:lnTo>
                      <a:pt x="1966" y="674"/>
                    </a:lnTo>
                    <a:lnTo>
                      <a:pt x="1973" y="686"/>
                    </a:lnTo>
                    <a:lnTo>
                      <a:pt x="1980" y="698"/>
                    </a:lnTo>
                    <a:lnTo>
                      <a:pt x="1987" y="710"/>
                    </a:lnTo>
                    <a:lnTo>
                      <a:pt x="1996" y="722"/>
                    </a:lnTo>
                    <a:lnTo>
                      <a:pt x="2003" y="734"/>
                    </a:lnTo>
                    <a:lnTo>
                      <a:pt x="2010" y="747"/>
                    </a:lnTo>
                    <a:lnTo>
                      <a:pt x="2016" y="759"/>
                    </a:lnTo>
                    <a:lnTo>
                      <a:pt x="2021" y="772"/>
                    </a:lnTo>
                    <a:lnTo>
                      <a:pt x="2025" y="779"/>
                    </a:lnTo>
                    <a:lnTo>
                      <a:pt x="2027" y="788"/>
                    </a:lnTo>
                    <a:lnTo>
                      <a:pt x="2029" y="796"/>
                    </a:lnTo>
                    <a:lnTo>
                      <a:pt x="2031" y="805"/>
                    </a:lnTo>
                    <a:lnTo>
                      <a:pt x="2032" y="813"/>
                    </a:lnTo>
                    <a:lnTo>
                      <a:pt x="2032" y="821"/>
                    </a:lnTo>
                    <a:lnTo>
                      <a:pt x="2032" y="830"/>
                    </a:lnTo>
                    <a:lnTo>
                      <a:pt x="2031" y="838"/>
                    </a:lnTo>
                    <a:lnTo>
                      <a:pt x="2029" y="843"/>
                    </a:lnTo>
                    <a:lnTo>
                      <a:pt x="2027" y="849"/>
                    </a:lnTo>
                    <a:lnTo>
                      <a:pt x="2025" y="854"/>
                    </a:lnTo>
                    <a:lnTo>
                      <a:pt x="2021" y="859"/>
                    </a:lnTo>
                    <a:lnTo>
                      <a:pt x="2017" y="863"/>
                    </a:lnTo>
                    <a:lnTo>
                      <a:pt x="2013" y="867"/>
                    </a:lnTo>
                    <a:lnTo>
                      <a:pt x="2008" y="869"/>
                    </a:lnTo>
                    <a:lnTo>
                      <a:pt x="2003" y="871"/>
                    </a:lnTo>
                    <a:lnTo>
                      <a:pt x="1995" y="871"/>
                    </a:lnTo>
                    <a:lnTo>
                      <a:pt x="1986" y="868"/>
                    </a:lnTo>
                    <a:lnTo>
                      <a:pt x="1978" y="866"/>
                    </a:lnTo>
                    <a:lnTo>
                      <a:pt x="1971" y="862"/>
                    </a:lnTo>
                    <a:lnTo>
                      <a:pt x="1962" y="859"/>
                    </a:lnTo>
                    <a:lnTo>
                      <a:pt x="1955" y="854"/>
                    </a:lnTo>
                    <a:lnTo>
                      <a:pt x="1948" y="848"/>
                    </a:lnTo>
                    <a:lnTo>
                      <a:pt x="1942" y="842"/>
                    </a:lnTo>
                    <a:lnTo>
                      <a:pt x="1933" y="833"/>
                    </a:lnTo>
                    <a:lnTo>
                      <a:pt x="1926" y="824"/>
                    </a:lnTo>
                    <a:lnTo>
                      <a:pt x="1919" y="814"/>
                    </a:lnTo>
                    <a:lnTo>
                      <a:pt x="1912" y="805"/>
                    </a:lnTo>
                    <a:lnTo>
                      <a:pt x="1906" y="794"/>
                    </a:lnTo>
                    <a:lnTo>
                      <a:pt x="1900" y="783"/>
                    </a:lnTo>
                    <a:lnTo>
                      <a:pt x="1893" y="772"/>
                    </a:lnTo>
                    <a:lnTo>
                      <a:pt x="1885" y="763"/>
                    </a:lnTo>
                    <a:lnTo>
                      <a:pt x="1882" y="757"/>
                    </a:lnTo>
                    <a:lnTo>
                      <a:pt x="1877" y="751"/>
                    </a:lnTo>
                    <a:lnTo>
                      <a:pt x="1872" y="745"/>
                    </a:lnTo>
                    <a:lnTo>
                      <a:pt x="1869" y="737"/>
                    </a:lnTo>
                    <a:lnTo>
                      <a:pt x="1864" y="731"/>
                    </a:lnTo>
                    <a:lnTo>
                      <a:pt x="1859" y="727"/>
                    </a:lnTo>
                    <a:lnTo>
                      <a:pt x="1854" y="721"/>
                    </a:lnTo>
                    <a:lnTo>
                      <a:pt x="1848" y="716"/>
                    </a:lnTo>
                    <a:lnTo>
                      <a:pt x="1846" y="715"/>
                    </a:lnTo>
                    <a:lnTo>
                      <a:pt x="1842" y="713"/>
                    </a:lnTo>
                    <a:lnTo>
                      <a:pt x="1840" y="712"/>
                    </a:lnTo>
                    <a:lnTo>
                      <a:pt x="1836" y="712"/>
                    </a:lnTo>
                    <a:lnTo>
                      <a:pt x="1833" y="712"/>
                    </a:lnTo>
                    <a:lnTo>
                      <a:pt x="1829" y="712"/>
                    </a:lnTo>
                    <a:lnTo>
                      <a:pt x="1827" y="713"/>
                    </a:lnTo>
                    <a:lnTo>
                      <a:pt x="1824" y="716"/>
                    </a:lnTo>
                    <a:lnTo>
                      <a:pt x="1816" y="729"/>
                    </a:lnTo>
                    <a:lnTo>
                      <a:pt x="1809" y="742"/>
                    </a:lnTo>
                    <a:lnTo>
                      <a:pt x="1801" y="755"/>
                    </a:lnTo>
                    <a:lnTo>
                      <a:pt x="1795" y="769"/>
                    </a:lnTo>
                    <a:lnTo>
                      <a:pt x="1789" y="783"/>
                    </a:lnTo>
                    <a:lnTo>
                      <a:pt x="1782" y="796"/>
                    </a:lnTo>
                    <a:lnTo>
                      <a:pt x="1776" y="811"/>
                    </a:lnTo>
                    <a:lnTo>
                      <a:pt x="1769" y="824"/>
                    </a:lnTo>
                    <a:lnTo>
                      <a:pt x="1761" y="837"/>
                    </a:lnTo>
                    <a:lnTo>
                      <a:pt x="1752" y="850"/>
                    </a:lnTo>
                    <a:lnTo>
                      <a:pt x="1744" y="863"/>
                    </a:lnTo>
                    <a:lnTo>
                      <a:pt x="1735" y="877"/>
                    </a:lnTo>
                    <a:lnTo>
                      <a:pt x="1727" y="890"/>
                    </a:lnTo>
                    <a:lnTo>
                      <a:pt x="1717" y="902"/>
                    </a:lnTo>
                    <a:lnTo>
                      <a:pt x="1708" y="915"/>
                    </a:lnTo>
                    <a:lnTo>
                      <a:pt x="1698" y="927"/>
                    </a:lnTo>
                    <a:lnTo>
                      <a:pt x="1689" y="938"/>
                    </a:lnTo>
                    <a:lnTo>
                      <a:pt x="1679" y="949"/>
                    </a:lnTo>
                    <a:lnTo>
                      <a:pt x="1668" y="958"/>
                    </a:lnTo>
                    <a:lnTo>
                      <a:pt x="1659" y="969"/>
                    </a:lnTo>
                    <a:lnTo>
                      <a:pt x="1648" y="979"/>
                    </a:lnTo>
                    <a:lnTo>
                      <a:pt x="1636" y="988"/>
                    </a:lnTo>
                    <a:lnTo>
                      <a:pt x="1625" y="997"/>
                    </a:lnTo>
                    <a:lnTo>
                      <a:pt x="1614" y="1006"/>
                    </a:lnTo>
                    <a:lnTo>
                      <a:pt x="1606" y="1012"/>
                    </a:lnTo>
                    <a:lnTo>
                      <a:pt x="1597" y="1018"/>
                    </a:lnTo>
                    <a:lnTo>
                      <a:pt x="1589" y="1024"/>
                    </a:lnTo>
                    <a:lnTo>
                      <a:pt x="1581" y="1030"/>
                    </a:lnTo>
                    <a:lnTo>
                      <a:pt x="1571" y="1035"/>
                    </a:lnTo>
                    <a:lnTo>
                      <a:pt x="1563" y="1040"/>
                    </a:lnTo>
                    <a:lnTo>
                      <a:pt x="1553" y="1045"/>
                    </a:lnTo>
                    <a:lnTo>
                      <a:pt x="1543" y="1048"/>
                    </a:lnTo>
                    <a:lnTo>
                      <a:pt x="1535" y="1052"/>
                    </a:lnTo>
                    <a:lnTo>
                      <a:pt x="1527" y="1053"/>
                    </a:lnTo>
                    <a:lnTo>
                      <a:pt x="1518" y="1055"/>
                    </a:lnTo>
                    <a:lnTo>
                      <a:pt x="1509" y="1057"/>
                    </a:lnTo>
                    <a:lnTo>
                      <a:pt x="1500" y="1058"/>
                    </a:lnTo>
                    <a:lnTo>
                      <a:pt x="1491" y="1059"/>
                    </a:lnTo>
                    <a:lnTo>
                      <a:pt x="1482" y="1060"/>
                    </a:lnTo>
                    <a:lnTo>
                      <a:pt x="1474" y="1063"/>
                    </a:lnTo>
                    <a:lnTo>
                      <a:pt x="1468" y="1064"/>
                    </a:lnTo>
                    <a:lnTo>
                      <a:pt x="1462" y="1065"/>
                    </a:lnTo>
                    <a:lnTo>
                      <a:pt x="1456" y="1066"/>
                    </a:lnTo>
                    <a:lnTo>
                      <a:pt x="1450" y="1069"/>
                    </a:lnTo>
                    <a:lnTo>
                      <a:pt x="1444" y="1071"/>
                    </a:lnTo>
                    <a:lnTo>
                      <a:pt x="1439" y="1073"/>
                    </a:lnTo>
                    <a:lnTo>
                      <a:pt x="1434" y="1077"/>
                    </a:lnTo>
                    <a:lnTo>
                      <a:pt x="1431" y="1081"/>
                    </a:lnTo>
                    <a:lnTo>
                      <a:pt x="1429" y="1085"/>
                    </a:lnTo>
                    <a:lnTo>
                      <a:pt x="1429" y="1089"/>
                    </a:lnTo>
                    <a:lnTo>
                      <a:pt x="1431" y="1094"/>
                    </a:lnTo>
                    <a:lnTo>
                      <a:pt x="1433" y="1099"/>
                    </a:lnTo>
                    <a:lnTo>
                      <a:pt x="1435" y="1102"/>
                    </a:lnTo>
                    <a:lnTo>
                      <a:pt x="1439" y="1107"/>
                    </a:lnTo>
                    <a:lnTo>
                      <a:pt x="1441" y="1111"/>
                    </a:lnTo>
                    <a:lnTo>
                      <a:pt x="1445" y="1114"/>
                    </a:lnTo>
                    <a:lnTo>
                      <a:pt x="1452" y="1120"/>
                    </a:lnTo>
                    <a:lnTo>
                      <a:pt x="1461" y="1126"/>
                    </a:lnTo>
                    <a:lnTo>
                      <a:pt x="1470" y="1132"/>
                    </a:lnTo>
                    <a:lnTo>
                      <a:pt x="1479" y="1137"/>
                    </a:lnTo>
                    <a:lnTo>
                      <a:pt x="1487" y="1142"/>
                    </a:lnTo>
                    <a:lnTo>
                      <a:pt x="1495" y="1148"/>
                    </a:lnTo>
                    <a:lnTo>
                      <a:pt x="1504" y="1154"/>
                    </a:lnTo>
                    <a:lnTo>
                      <a:pt x="1511" y="1161"/>
                    </a:lnTo>
                    <a:lnTo>
                      <a:pt x="1518" y="1171"/>
                    </a:lnTo>
                    <a:lnTo>
                      <a:pt x="1524" y="1180"/>
                    </a:lnTo>
                    <a:lnTo>
                      <a:pt x="1529" y="1191"/>
                    </a:lnTo>
                    <a:lnTo>
                      <a:pt x="1534" y="1202"/>
                    </a:lnTo>
                    <a:lnTo>
                      <a:pt x="1539" y="1212"/>
                    </a:lnTo>
                    <a:lnTo>
                      <a:pt x="1543" y="1223"/>
                    </a:lnTo>
                    <a:lnTo>
                      <a:pt x="1548" y="1234"/>
                    </a:lnTo>
                    <a:lnTo>
                      <a:pt x="1553" y="1245"/>
                    </a:lnTo>
                    <a:lnTo>
                      <a:pt x="1559" y="1259"/>
                    </a:lnTo>
                    <a:lnTo>
                      <a:pt x="1565" y="1275"/>
                    </a:lnTo>
                    <a:lnTo>
                      <a:pt x="1571" y="1290"/>
                    </a:lnTo>
                    <a:lnTo>
                      <a:pt x="1577" y="1306"/>
                    </a:lnTo>
                    <a:lnTo>
                      <a:pt x="1583" y="1322"/>
                    </a:lnTo>
                    <a:lnTo>
                      <a:pt x="1590" y="1336"/>
                    </a:lnTo>
                    <a:lnTo>
                      <a:pt x="1599" y="1349"/>
                    </a:lnTo>
                    <a:lnTo>
                      <a:pt x="1609" y="1362"/>
                    </a:lnTo>
                    <a:lnTo>
                      <a:pt x="1621" y="1374"/>
                    </a:lnTo>
                    <a:lnTo>
                      <a:pt x="1636" y="1384"/>
                    </a:lnTo>
                    <a:lnTo>
                      <a:pt x="1651" y="1394"/>
                    </a:lnTo>
                    <a:lnTo>
                      <a:pt x="1667" y="1402"/>
                    </a:lnTo>
                    <a:lnTo>
                      <a:pt x="1683" y="1409"/>
                    </a:lnTo>
                    <a:lnTo>
                      <a:pt x="1699" y="1418"/>
                    </a:lnTo>
                    <a:lnTo>
                      <a:pt x="1715" y="1425"/>
                    </a:lnTo>
                    <a:lnTo>
                      <a:pt x="1731" y="1432"/>
                    </a:lnTo>
                    <a:lnTo>
                      <a:pt x="1743" y="1437"/>
                    </a:lnTo>
                    <a:lnTo>
                      <a:pt x="1755" y="1442"/>
                    </a:lnTo>
                    <a:lnTo>
                      <a:pt x="1767" y="1446"/>
                    </a:lnTo>
                    <a:lnTo>
                      <a:pt x="1779" y="1450"/>
                    </a:lnTo>
                    <a:lnTo>
                      <a:pt x="1791" y="1454"/>
                    </a:lnTo>
                    <a:lnTo>
                      <a:pt x="1803" y="1458"/>
                    </a:lnTo>
                    <a:lnTo>
                      <a:pt x="1813" y="1463"/>
                    </a:lnTo>
                    <a:lnTo>
                      <a:pt x="1824" y="1469"/>
                    </a:lnTo>
                    <a:lnTo>
                      <a:pt x="1830" y="1473"/>
                    </a:lnTo>
                    <a:lnTo>
                      <a:pt x="1835" y="1476"/>
                    </a:lnTo>
                    <a:lnTo>
                      <a:pt x="1840" y="1481"/>
                    </a:lnTo>
                    <a:lnTo>
                      <a:pt x="1845" y="1486"/>
                    </a:lnTo>
                    <a:lnTo>
                      <a:pt x="1849" y="1491"/>
                    </a:lnTo>
                    <a:lnTo>
                      <a:pt x="1853" y="1496"/>
                    </a:lnTo>
                    <a:lnTo>
                      <a:pt x="1855" y="1502"/>
                    </a:lnTo>
                    <a:lnTo>
                      <a:pt x="1858" y="1508"/>
                    </a:lnTo>
                    <a:lnTo>
                      <a:pt x="1859" y="1515"/>
                    </a:lnTo>
                    <a:lnTo>
                      <a:pt x="1860" y="1523"/>
                    </a:lnTo>
                    <a:lnTo>
                      <a:pt x="1861" y="1532"/>
                    </a:lnTo>
                    <a:lnTo>
                      <a:pt x="1861" y="1540"/>
                    </a:lnTo>
                    <a:lnTo>
                      <a:pt x="1860" y="1547"/>
                    </a:lnTo>
                    <a:lnTo>
                      <a:pt x="1858" y="1554"/>
                    </a:lnTo>
                    <a:lnTo>
                      <a:pt x="1857" y="1557"/>
                    </a:lnTo>
                    <a:lnTo>
                      <a:pt x="1854" y="1559"/>
                    </a:lnTo>
                    <a:lnTo>
                      <a:pt x="1852" y="1562"/>
                    </a:lnTo>
                    <a:lnTo>
                      <a:pt x="1848" y="1563"/>
                    </a:lnTo>
                    <a:lnTo>
                      <a:pt x="1836" y="1566"/>
                    </a:lnTo>
                    <a:lnTo>
                      <a:pt x="1824" y="1568"/>
                    </a:lnTo>
                    <a:lnTo>
                      <a:pt x="1812" y="1566"/>
                    </a:lnTo>
                    <a:lnTo>
                      <a:pt x="1799" y="1564"/>
                    </a:lnTo>
                    <a:lnTo>
                      <a:pt x="1787" y="1560"/>
                    </a:lnTo>
                    <a:lnTo>
                      <a:pt x="1774" y="1557"/>
                    </a:lnTo>
                    <a:lnTo>
                      <a:pt x="1762" y="1553"/>
                    </a:lnTo>
                    <a:lnTo>
                      <a:pt x="1750" y="1550"/>
                    </a:lnTo>
                    <a:lnTo>
                      <a:pt x="1737" y="1545"/>
                    </a:lnTo>
                    <a:lnTo>
                      <a:pt x="1723" y="1540"/>
                    </a:lnTo>
                    <a:lnTo>
                      <a:pt x="1710" y="1535"/>
                    </a:lnTo>
                    <a:lnTo>
                      <a:pt x="1697" y="1530"/>
                    </a:lnTo>
                    <a:lnTo>
                      <a:pt x="1685" y="1524"/>
                    </a:lnTo>
                    <a:lnTo>
                      <a:pt x="1672" y="1518"/>
                    </a:lnTo>
                    <a:lnTo>
                      <a:pt x="1660" y="1512"/>
                    </a:lnTo>
                    <a:lnTo>
                      <a:pt x="1647" y="1508"/>
                    </a:lnTo>
                    <a:lnTo>
                      <a:pt x="1631" y="1500"/>
                    </a:lnTo>
                    <a:lnTo>
                      <a:pt x="1615" y="1494"/>
                    </a:lnTo>
                    <a:lnTo>
                      <a:pt x="1600" y="1488"/>
                    </a:lnTo>
                    <a:lnTo>
                      <a:pt x="1584" y="1482"/>
                    </a:lnTo>
                    <a:lnTo>
                      <a:pt x="1569" y="1475"/>
                    </a:lnTo>
                    <a:lnTo>
                      <a:pt x="1553" y="1468"/>
                    </a:lnTo>
                    <a:lnTo>
                      <a:pt x="1539" y="1460"/>
                    </a:lnTo>
                    <a:lnTo>
                      <a:pt x="1525" y="1451"/>
                    </a:lnTo>
                    <a:lnTo>
                      <a:pt x="1515" y="1443"/>
                    </a:lnTo>
                    <a:lnTo>
                      <a:pt x="1505" y="1434"/>
                    </a:lnTo>
                    <a:lnTo>
                      <a:pt x="1495" y="1425"/>
                    </a:lnTo>
                    <a:lnTo>
                      <a:pt x="1487" y="1415"/>
                    </a:lnTo>
                    <a:lnTo>
                      <a:pt x="1480" y="1404"/>
                    </a:lnTo>
                    <a:lnTo>
                      <a:pt x="1473" y="1394"/>
                    </a:lnTo>
                    <a:lnTo>
                      <a:pt x="1465" y="1383"/>
                    </a:lnTo>
                    <a:lnTo>
                      <a:pt x="1459" y="1371"/>
                    </a:lnTo>
                    <a:lnTo>
                      <a:pt x="1456" y="1364"/>
                    </a:lnTo>
                    <a:lnTo>
                      <a:pt x="1455" y="1354"/>
                    </a:lnTo>
                    <a:lnTo>
                      <a:pt x="1453" y="1346"/>
                    </a:lnTo>
                    <a:lnTo>
                      <a:pt x="1453" y="1337"/>
                    </a:lnTo>
                    <a:lnTo>
                      <a:pt x="1453" y="1328"/>
                    </a:lnTo>
                    <a:lnTo>
                      <a:pt x="1453" y="1318"/>
                    </a:lnTo>
                    <a:lnTo>
                      <a:pt x="1452" y="1310"/>
                    </a:lnTo>
                    <a:lnTo>
                      <a:pt x="1450" y="1301"/>
                    </a:lnTo>
                    <a:lnTo>
                      <a:pt x="1447" y="1293"/>
                    </a:lnTo>
                    <a:lnTo>
                      <a:pt x="1444" y="1286"/>
                    </a:lnTo>
                    <a:lnTo>
                      <a:pt x="1441" y="1278"/>
                    </a:lnTo>
                    <a:lnTo>
                      <a:pt x="1438" y="1270"/>
                    </a:lnTo>
                    <a:lnTo>
                      <a:pt x="1433" y="1263"/>
                    </a:lnTo>
                    <a:lnTo>
                      <a:pt x="1428" y="1257"/>
                    </a:lnTo>
                    <a:lnTo>
                      <a:pt x="1423" y="1251"/>
                    </a:lnTo>
                    <a:lnTo>
                      <a:pt x="1417" y="1245"/>
                    </a:lnTo>
                    <a:lnTo>
                      <a:pt x="1413" y="1242"/>
                    </a:lnTo>
                    <a:lnTo>
                      <a:pt x="1408" y="1240"/>
                    </a:lnTo>
                    <a:lnTo>
                      <a:pt x="1403" y="1239"/>
                    </a:lnTo>
                    <a:lnTo>
                      <a:pt x="1398" y="1239"/>
                    </a:lnTo>
                    <a:lnTo>
                      <a:pt x="1392" y="1239"/>
                    </a:lnTo>
                    <a:lnTo>
                      <a:pt x="1387" y="1240"/>
                    </a:lnTo>
                    <a:lnTo>
                      <a:pt x="1384" y="1242"/>
                    </a:lnTo>
                    <a:lnTo>
                      <a:pt x="1379" y="1245"/>
                    </a:lnTo>
                    <a:lnTo>
                      <a:pt x="1375" y="1251"/>
                    </a:lnTo>
                    <a:lnTo>
                      <a:pt x="1371" y="1257"/>
                    </a:lnTo>
                    <a:lnTo>
                      <a:pt x="1368" y="1264"/>
                    </a:lnTo>
                    <a:lnTo>
                      <a:pt x="1366" y="1271"/>
                    </a:lnTo>
                    <a:lnTo>
                      <a:pt x="1363" y="1278"/>
                    </a:lnTo>
                    <a:lnTo>
                      <a:pt x="1362" y="1286"/>
                    </a:lnTo>
                    <a:lnTo>
                      <a:pt x="1362" y="1294"/>
                    </a:lnTo>
                    <a:lnTo>
                      <a:pt x="1361" y="1301"/>
                    </a:lnTo>
                    <a:lnTo>
                      <a:pt x="1360" y="1317"/>
                    </a:lnTo>
                    <a:lnTo>
                      <a:pt x="1359" y="1332"/>
                    </a:lnTo>
                    <a:lnTo>
                      <a:pt x="1359" y="1348"/>
                    </a:lnTo>
                    <a:lnTo>
                      <a:pt x="1359" y="1364"/>
                    </a:lnTo>
                    <a:lnTo>
                      <a:pt x="1360" y="1380"/>
                    </a:lnTo>
                    <a:lnTo>
                      <a:pt x="1360" y="1396"/>
                    </a:lnTo>
                    <a:lnTo>
                      <a:pt x="1360" y="1412"/>
                    </a:lnTo>
                    <a:lnTo>
                      <a:pt x="1361" y="1427"/>
                    </a:lnTo>
                    <a:lnTo>
                      <a:pt x="1361" y="1439"/>
                    </a:lnTo>
                    <a:lnTo>
                      <a:pt x="1362" y="1452"/>
                    </a:lnTo>
                    <a:lnTo>
                      <a:pt x="1363" y="1464"/>
                    </a:lnTo>
                    <a:lnTo>
                      <a:pt x="1365" y="1476"/>
                    </a:lnTo>
                    <a:lnTo>
                      <a:pt x="1366" y="1490"/>
                    </a:lnTo>
                    <a:lnTo>
                      <a:pt x="1367" y="1502"/>
                    </a:lnTo>
                    <a:lnTo>
                      <a:pt x="1367" y="1514"/>
                    </a:lnTo>
                    <a:lnTo>
                      <a:pt x="1366" y="1526"/>
                    </a:lnTo>
                    <a:lnTo>
                      <a:pt x="1363" y="1535"/>
                    </a:lnTo>
                    <a:lnTo>
                      <a:pt x="1361" y="1544"/>
                    </a:lnTo>
                    <a:lnTo>
                      <a:pt x="1357" y="1553"/>
                    </a:lnTo>
                    <a:lnTo>
                      <a:pt x="1354" y="1562"/>
                    </a:lnTo>
                    <a:lnTo>
                      <a:pt x="1349" y="1570"/>
                    </a:lnTo>
                    <a:lnTo>
                      <a:pt x="1345" y="1578"/>
                    </a:lnTo>
                    <a:lnTo>
                      <a:pt x="1341" y="1587"/>
                    </a:lnTo>
                    <a:lnTo>
                      <a:pt x="1337" y="1596"/>
                    </a:lnTo>
                    <a:lnTo>
                      <a:pt x="1333" y="1607"/>
                    </a:lnTo>
                    <a:lnTo>
                      <a:pt x="1330" y="1618"/>
                    </a:lnTo>
                    <a:lnTo>
                      <a:pt x="1326" y="1629"/>
                    </a:lnTo>
                    <a:lnTo>
                      <a:pt x="1324" y="1640"/>
                    </a:lnTo>
                    <a:lnTo>
                      <a:pt x="1319" y="1650"/>
                    </a:lnTo>
                    <a:lnTo>
                      <a:pt x="1315" y="1661"/>
                    </a:lnTo>
                    <a:lnTo>
                      <a:pt x="1311" y="1671"/>
                    </a:lnTo>
                    <a:lnTo>
                      <a:pt x="1305" y="1680"/>
                    </a:lnTo>
                    <a:lnTo>
                      <a:pt x="1299" y="1689"/>
                    </a:lnTo>
                    <a:lnTo>
                      <a:pt x="1291" y="1696"/>
                    </a:lnTo>
                    <a:lnTo>
                      <a:pt x="1284" y="1702"/>
                    </a:lnTo>
                    <a:lnTo>
                      <a:pt x="1277" y="1709"/>
                    </a:lnTo>
                    <a:lnTo>
                      <a:pt x="1269" y="1715"/>
                    </a:lnTo>
                    <a:lnTo>
                      <a:pt x="1260" y="1721"/>
                    </a:lnTo>
                    <a:lnTo>
                      <a:pt x="1252" y="1726"/>
                    </a:lnTo>
                    <a:lnTo>
                      <a:pt x="1243" y="1732"/>
                    </a:lnTo>
                    <a:lnTo>
                      <a:pt x="1239" y="1736"/>
                    </a:lnTo>
                    <a:lnTo>
                      <a:pt x="1233" y="1739"/>
                    </a:lnTo>
                    <a:lnTo>
                      <a:pt x="1227" y="1743"/>
                    </a:lnTo>
                    <a:lnTo>
                      <a:pt x="1221" y="1745"/>
                    </a:lnTo>
                    <a:lnTo>
                      <a:pt x="1213" y="1748"/>
                    </a:lnTo>
                    <a:lnTo>
                      <a:pt x="1207" y="1749"/>
                    </a:lnTo>
                    <a:lnTo>
                      <a:pt x="1203" y="1749"/>
                    </a:lnTo>
                    <a:lnTo>
                      <a:pt x="1197" y="1746"/>
                    </a:lnTo>
                    <a:lnTo>
                      <a:pt x="1191" y="1740"/>
                    </a:lnTo>
                    <a:lnTo>
                      <a:pt x="1186" y="1734"/>
                    </a:lnTo>
                    <a:lnTo>
                      <a:pt x="1181" y="1727"/>
                    </a:lnTo>
                    <a:lnTo>
                      <a:pt x="1179" y="1719"/>
                    </a:lnTo>
                    <a:lnTo>
                      <a:pt x="1176" y="1710"/>
                    </a:lnTo>
                    <a:lnTo>
                      <a:pt x="1175" y="1702"/>
                    </a:lnTo>
                    <a:lnTo>
                      <a:pt x="1174" y="1694"/>
                    </a:lnTo>
                    <a:lnTo>
                      <a:pt x="1174" y="1685"/>
                    </a:lnTo>
                    <a:lnTo>
                      <a:pt x="1174" y="1673"/>
                    </a:lnTo>
                    <a:lnTo>
                      <a:pt x="1175" y="1661"/>
                    </a:lnTo>
                    <a:lnTo>
                      <a:pt x="1177" y="1649"/>
                    </a:lnTo>
                    <a:lnTo>
                      <a:pt x="1181" y="1637"/>
                    </a:lnTo>
                    <a:lnTo>
                      <a:pt x="1185" y="1626"/>
                    </a:lnTo>
                    <a:lnTo>
                      <a:pt x="1188" y="1614"/>
                    </a:lnTo>
                    <a:lnTo>
                      <a:pt x="1193" y="1602"/>
                    </a:lnTo>
                    <a:lnTo>
                      <a:pt x="1197" y="1592"/>
                    </a:lnTo>
                    <a:lnTo>
                      <a:pt x="1201" y="1582"/>
                    </a:lnTo>
                    <a:lnTo>
                      <a:pt x="1206" y="1572"/>
                    </a:lnTo>
                    <a:lnTo>
                      <a:pt x="1211" y="1563"/>
                    </a:lnTo>
                    <a:lnTo>
                      <a:pt x="1217" y="1554"/>
                    </a:lnTo>
                    <a:lnTo>
                      <a:pt x="1222" y="1545"/>
                    </a:lnTo>
                    <a:lnTo>
                      <a:pt x="1227" y="1536"/>
                    </a:lnTo>
                    <a:lnTo>
                      <a:pt x="1231" y="1527"/>
                    </a:lnTo>
                    <a:lnTo>
                      <a:pt x="1234" y="1516"/>
                    </a:lnTo>
                    <a:lnTo>
                      <a:pt x="1239" y="1499"/>
                    </a:lnTo>
                    <a:lnTo>
                      <a:pt x="1241" y="1482"/>
                    </a:lnTo>
                    <a:lnTo>
                      <a:pt x="1243" y="1466"/>
                    </a:lnTo>
                    <a:lnTo>
                      <a:pt x="1246" y="1449"/>
                    </a:lnTo>
                    <a:lnTo>
                      <a:pt x="1247" y="1432"/>
                    </a:lnTo>
                    <a:lnTo>
                      <a:pt x="1248" y="1415"/>
                    </a:lnTo>
                    <a:lnTo>
                      <a:pt x="1248" y="1397"/>
                    </a:lnTo>
                    <a:lnTo>
                      <a:pt x="1248" y="1380"/>
                    </a:lnTo>
                    <a:lnTo>
                      <a:pt x="1247" y="1370"/>
                    </a:lnTo>
                    <a:lnTo>
                      <a:pt x="1246" y="1359"/>
                    </a:lnTo>
                    <a:lnTo>
                      <a:pt x="1245" y="1348"/>
                    </a:lnTo>
                    <a:lnTo>
                      <a:pt x="1241" y="1337"/>
                    </a:lnTo>
                    <a:lnTo>
                      <a:pt x="1239" y="1326"/>
                    </a:lnTo>
                    <a:lnTo>
                      <a:pt x="1235" y="1316"/>
                    </a:lnTo>
                    <a:lnTo>
                      <a:pt x="1230" y="1306"/>
                    </a:lnTo>
                    <a:lnTo>
                      <a:pt x="1225" y="1296"/>
                    </a:lnTo>
                    <a:lnTo>
                      <a:pt x="1222" y="1290"/>
                    </a:lnTo>
                    <a:lnTo>
                      <a:pt x="1217" y="1284"/>
                    </a:lnTo>
                    <a:lnTo>
                      <a:pt x="1212" y="1280"/>
                    </a:lnTo>
                    <a:lnTo>
                      <a:pt x="1207" y="1275"/>
                    </a:lnTo>
                    <a:lnTo>
                      <a:pt x="1201" y="1271"/>
                    </a:lnTo>
                    <a:lnTo>
                      <a:pt x="1195" y="1268"/>
                    </a:lnTo>
                    <a:lnTo>
                      <a:pt x="1189" y="1265"/>
                    </a:lnTo>
                    <a:lnTo>
                      <a:pt x="1182" y="1264"/>
                    </a:lnTo>
                    <a:lnTo>
                      <a:pt x="1175" y="1264"/>
                    </a:lnTo>
                    <a:lnTo>
                      <a:pt x="1168" y="1264"/>
                    </a:lnTo>
                    <a:lnTo>
                      <a:pt x="1159" y="1266"/>
                    </a:lnTo>
                    <a:lnTo>
                      <a:pt x="1152" y="1269"/>
                    </a:lnTo>
                    <a:lnTo>
                      <a:pt x="1145" y="1272"/>
                    </a:lnTo>
                    <a:lnTo>
                      <a:pt x="1138" y="1277"/>
                    </a:lnTo>
                    <a:lnTo>
                      <a:pt x="1132" y="1282"/>
                    </a:lnTo>
                    <a:lnTo>
                      <a:pt x="1127" y="1287"/>
                    </a:lnTo>
                    <a:lnTo>
                      <a:pt x="1119" y="1296"/>
                    </a:lnTo>
                    <a:lnTo>
                      <a:pt x="1113" y="1306"/>
                    </a:lnTo>
                    <a:lnTo>
                      <a:pt x="1108" y="1317"/>
                    </a:lnTo>
                    <a:lnTo>
                      <a:pt x="1103" y="1328"/>
                    </a:lnTo>
                    <a:lnTo>
                      <a:pt x="1098" y="1338"/>
                    </a:lnTo>
                    <a:lnTo>
                      <a:pt x="1093" y="1349"/>
                    </a:lnTo>
                    <a:lnTo>
                      <a:pt x="1090" y="1360"/>
                    </a:lnTo>
                    <a:lnTo>
                      <a:pt x="1084" y="1371"/>
                    </a:lnTo>
                    <a:lnTo>
                      <a:pt x="1075" y="1389"/>
                    </a:lnTo>
                    <a:lnTo>
                      <a:pt x="1067" y="1406"/>
                    </a:lnTo>
                    <a:lnTo>
                      <a:pt x="1059" y="1422"/>
                    </a:lnTo>
                    <a:lnTo>
                      <a:pt x="1050" y="1440"/>
                    </a:lnTo>
                    <a:lnTo>
                      <a:pt x="1042" y="1457"/>
                    </a:lnTo>
                    <a:lnTo>
                      <a:pt x="1033" y="1474"/>
                    </a:lnTo>
                    <a:lnTo>
                      <a:pt x="1024" y="1491"/>
                    </a:lnTo>
                    <a:lnTo>
                      <a:pt x="1014" y="1508"/>
                    </a:lnTo>
                    <a:lnTo>
                      <a:pt x="1005" y="1522"/>
                    </a:lnTo>
                    <a:lnTo>
                      <a:pt x="995" y="1536"/>
                    </a:lnTo>
                    <a:lnTo>
                      <a:pt x="985" y="1552"/>
                    </a:lnTo>
                    <a:lnTo>
                      <a:pt x="976" y="1566"/>
                    </a:lnTo>
                    <a:lnTo>
                      <a:pt x="965" y="1580"/>
                    </a:lnTo>
                    <a:lnTo>
                      <a:pt x="954" y="1594"/>
                    </a:lnTo>
                    <a:lnTo>
                      <a:pt x="942" y="1607"/>
                    </a:lnTo>
                    <a:lnTo>
                      <a:pt x="930" y="1619"/>
                    </a:lnTo>
                    <a:lnTo>
                      <a:pt x="917" y="1631"/>
                    </a:lnTo>
                    <a:lnTo>
                      <a:pt x="903" y="1643"/>
                    </a:lnTo>
                    <a:lnTo>
                      <a:pt x="888" y="1654"/>
                    </a:lnTo>
                    <a:lnTo>
                      <a:pt x="874" y="1664"/>
                    </a:lnTo>
                    <a:lnTo>
                      <a:pt x="859" y="1673"/>
                    </a:lnTo>
                    <a:lnTo>
                      <a:pt x="844" y="1683"/>
                    </a:lnTo>
                    <a:lnTo>
                      <a:pt x="828" y="1691"/>
                    </a:lnTo>
                    <a:lnTo>
                      <a:pt x="813" y="1700"/>
                    </a:lnTo>
                    <a:lnTo>
                      <a:pt x="801" y="1704"/>
                    </a:lnTo>
                    <a:lnTo>
                      <a:pt x="787" y="1709"/>
                    </a:lnTo>
                    <a:lnTo>
                      <a:pt x="775" y="1714"/>
                    </a:lnTo>
                    <a:lnTo>
                      <a:pt x="762" y="1718"/>
                    </a:lnTo>
                    <a:lnTo>
                      <a:pt x="749" y="1720"/>
                    </a:lnTo>
                    <a:lnTo>
                      <a:pt x="736" y="1722"/>
                    </a:lnTo>
                    <a:lnTo>
                      <a:pt x="723" y="1725"/>
                    </a:lnTo>
                    <a:lnTo>
                      <a:pt x="709" y="1727"/>
                    </a:lnTo>
                    <a:lnTo>
                      <a:pt x="705" y="1727"/>
                    </a:lnTo>
                    <a:lnTo>
                      <a:pt x="700" y="1728"/>
                    </a:lnTo>
                    <a:lnTo>
                      <a:pt x="694" y="1727"/>
                    </a:lnTo>
                    <a:lnTo>
                      <a:pt x="689" y="1727"/>
                    </a:lnTo>
                    <a:lnTo>
                      <a:pt x="684" y="1726"/>
                    </a:lnTo>
                    <a:lnTo>
                      <a:pt x="679" y="1724"/>
                    </a:lnTo>
                    <a:lnTo>
                      <a:pt x="675" y="1721"/>
                    </a:lnTo>
                    <a:lnTo>
                      <a:pt x="672" y="1718"/>
                    </a:lnTo>
                    <a:lnTo>
                      <a:pt x="670" y="1714"/>
                    </a:lnTo>
                    <a:lnTo>
                      <a:pt x="669" y="1709"/>
                    </a:lnTo>
                    <a:lnTo>
                      <a:pt x="669" y="1704"/>
                    </a:lnTo>
                    <a:lnTo>
                      <a:pt x="669" y="1698"/>
                    </a:lnTo>
                    <a:lnTo>
                      <a:pt x="670" y="1694"/>
                    </a:lnTo>
                    <a:lnTo>
                      <a:pt x="671" y="1689"/>
                    </a:lnTo>
                    <a:lnTo>
                      <a:pt x="673" y="1684"/>
                    </a:lnTo>
                    <a:lnTo>
                      <a:pt x="677" y="1680"/>
                    </a:lnTo>
                    <a:lnTo>
                      <a:pt x="687" y="1670"/>
                    </a:lnTo>
                    <a:lnTo>
                      <a:pt x="697" y="1660"/>
                    </a:lnTo>
                    <a:lnTo>
                      <a:pt x="708" y="1650"/>
                    </a:lnTo>
                    <a:lnTo>
                      <a:pt x="720" y="1642"/>
                    </a:lnTo>
                    <a:lnTo>
                      <a:pt x="731" y="1632"/>
                    </a:lnTo>
                    <a:lnTo>
                      <a:pt x="743" y="1624"/>
                    </a:lnTo>
                    <a:lnTo>
                      <a:pt x="755" y="1614"/>
                    </a:lnTo>
                    <a:lnTo>
                      <a:pt x="766" y="1605"/>
                    </a:lnTo>
                    <a:lnTo>
                      <a:pt x="779" y="1594"/>
                    </a:lnTo>
                    <a:lnTo>
                      <a:pt x="791" y="1583"/>
                    </a:lnTo>
                    <a:lnTo>
                      <a:pt x="804" y="1572"/>
                    </a:lnTo>
                    <a:lnTo>
                      <a:pt x="817" y="1562"/>
                    </a:lnTo>
                    <a:lnTo>
                      <a:pt x="831" y="1550"/>
                    </a:lnTo>
                    <a:lnTo>
                      <a:pt x="843" y="1538"/>
                    </a:lnTo>
                    <a:lnTo>
                      <a:pt x="853" y="1526"/>
                    </a:lnTo>
                    <a:lnTo>
                      <a:pt x="864" y="1511"/>
                    </a:lnTo>
                    <a:lnTo>
                      <a:pt x="874" y="1497"/>
                    </a:lnTo>
                    <a:lnTo>
                      <a:pt x="883" y="1482"/>
                    </a:lnTo>
                    <a:lnTo>
                      <a:pt x="892" y="1467"/>
                    </a:lnTo>
                    <a:lnTo>
                      <a:pt x="899" y="1451"/>
                    </a:lnTo>
                    <a:lnTo>
                      <a:pt x="906" y="1436"/>
                    </a:lnTo>
                    <a:lnTo>
                      <a:pt x="912" y="1419"/>
                    </a:lnTo>
                    <a:lnTo>
                      <a:pt x="917" y="1402"/>
                    </a:lnTo>
                    <a:lnTo>
                      <a:pt x="921" y="1385"/>
                    </a:lnTo>
                    <a:lnTo>
                      <a:pt x="921" y="1378"/>
                    </a:lnTo>
                    <a:lnTo>
                      <a:pt x="921" y="1370"/>
                    </a:lnTo>
                    <a:lnTo>
                      <a:pt x="919" y="1362"/>
                    </a:lnTo>
                    <a:lnTo>
                      <a:pt x="916" y="1354"/>
                    </a:lnTo>
                    <a:lnTo>
                      <a:pt x="912" y="1347"/>
                    </a:lnTo>
                    <a:lnTo>
                      <a:pt x="907" y="1340"/>
                    </a:lnTo>
                    <a:lnTo>
                      <a:pt x="903" y="1334"/>
                    </a:lnTo>
                    <a:lnTo>
                      <a:pt x="897" y="1329"/>
                    </a:lnTo>
                    <a:lnTo>
                      <a:pt x="892" y="1326"/>
                    </a:lnTo>
                    <a:lnTo>
                      <a:pt x="887" y="1326"/>
                    </a:lnTo>
                    <a:lnTo>
                      <a:pt x="881" y="1326"/>
                    </a:lnTo>
                    <a:lnTo>
                      <a:pt x="876" y="1328"/>
                    </a:lnTo>
                    <a:lnTo>
                      <a:pt x="870" y="1330"/>
                    </a:lnTo>
                    <a:lnTo>
                      <a:pt x="864" y="1332"/>
                    </a:lnTo>
                    <a:lnTo>
                      <a:pt x="859" y="1335"/>
                    </a:lnTo>
                    <a:lnTo>
                      <a:pt x="855" y="1338"/>
                    </a:lnTo>
                    <a:lnTo>
                      <a:pt x="850" y="1343"/>
                    </a:lnTo>
                    <a:lnTo>
                      <a:pt x="846" y="1348"/>
                    </a:lnTo>
                    <a:lnTo>
                      <a:pt x="844" y="1354"/>
                    </a:lnTo>
                    <a:lnTo>
                      <a:pt x="840" y="1360"/>
                    </a:lnTo>
                    <a:lnTo>
                      <a:pt x="838" y="1366"/>
                    </a:lnTo>
                    <a:lnTo>
                      <a:pt x="835" y="1371"/>
                    </a:lnTo>
                    <a:lnTo>
                      <a:pt x="831" y="1377"/>
                    </a:lnTo>
                    <a:lnTo>
                      <a:pt x="827" y="1380"/>
                    </a:lnTo>
                    <a:lnTo>
                      <a:pt x="817" y="1386"/>
                    </a:lnTo>
                    <a:lnTo>
                      <a:pt x="808" y="1392"/>
                    </a:lnTo>
                    <a:lnTo>
                      <a:pt x="798" y="1397"/>
                    </a:lnTo>
                    <a:lnTo>
                      <a:pt x="789" y="1402"/>
                    </a:lnTo>
                    <a:lnTo>
                      <a:pt x="779" y="1407"/>
                    </a:lnTo>
                    <a:lnTo>
                      <a:pt x="768" y="1409"/>
                    </a:lnTo>
                    <a:lnTo>
                      <a:pt x="757" y="1412"/>
                    </a:lnTo>
                    <a:lnTo>
                      <a:pt x="747" y="1414"/>
                    </a:lnTo>
                    <a:lnTo>
                      <a:pt x="739" y="1414"/>
                    </a:lnTo>
                    <a:lnTo>
                      <a:pt x="731" y="1413"/>
                    </a:lnTo>
                    <a:lnTo>
                      <a:pt x="723" y="1412"/>
                    </a:lnTo>
                    <a:lnTo>
                      <a:pt x="714" y="1409"/>
                    </a:lnTo>
                    <a:lnTo>
                      <a:pt x="706" y="1406"/>
                    </a:lnTo>
                    <a:lnTo>
                      <a:pt x="700" y="1402"/>
                    </a:lnTo>
                    <a:lnTo>
                      <a:pt x="694" y="1396"/>
                    </a:lnTo>
                    <a:lnTo>
                      <a:pt x="690" y="1390"/>
                    </a:lnTo>
                    <a:lnTo>
                      <a:pt x="688" y="1378"/>
                    </a:lnTo>
                    <a:lnTo>
                      <a:pt x="687" y="1366"/>
                    </a:lnTo>
                    <a:lnTo>
                      <a:pt x="688" y="1354"/>
                    </a:lnTo>
                    <a:lnTo>
                      <a:pt x="690" y="1342"/>
                    </a:lnTo>
                    <a:lnTo>
                      <a:pt x="693" y="1329"/>
                    </a:lnTo>
                    <a:lnTo>
                      <a:pt x="696" y="1317"/>
                    </a:lnTo>
                    <a:lnTo>
                      <a:pt x="699" y="1304"/>
                    </a:lnTo>
                    <a:lnTo>
                      <a:pt x="700" y="1292"/>
                    </a:lnTo>
                    <a:lnTo>
                      <a:pt x="701" y="1283"/>
                    </a:lnTo>
                    <a:lnTo>
                      <a:pt x="703" y="1274"/>
                    </a:lnTo>
                    <a:lnTo>
                      <a:pt x="705" y="1265"/>
                    </a:lnTo>
                    <a:lnTo>
                      <a:pt x="707" y="1256"/>
                    </a:lnTo>
                    <a:lnTo>
                      <a:pt x="708" y="1247"/>
                    </a:lnTo>
                    <a:lnTo>
                      <a:pt x="708" y="1238"/>
                    </a:lnTo>
                    <a:lnTo>
                      <a:pt x="707" y="1229"/>
                    </a:lnTo>
                    <a:lnTo>
                      <a:pt x="705" y="1222"/>
                    </a:lnTo>
                    <a:lnTo>
                      <a:pt x="702" y="1217"/>
                    </a:lnTo>
                    <a:lnTo>
                      <a:pt x="697" y="1214"/>
                    </a:lnTo>
                    <a:lnTo>
                      <a:pt x="693" y="1211"/>
                    </a:lnTo>
                    <a:lnTo>
                      <a:pt x="687" y="1209"/>
                    </a:lnTo>
                    <a:lnTo>
                      <a:pt x="681" y="1209"/>
                    </a:lnTo>
                    <a:lnTo>
                      <a:pt x="675" y="1208"/>
                    </a:lnTo>
                    <a:lnTo>
                      <a:pt x="669" y="1208"/>
                    </a:lnTo>
                    <a:lnTo>
                      <a:pt x="663" y="1208"/>
                    </a:lnTo>
                    <a:lnTo>
                      <a:pt x="649" y="1208"/>
                    </a:lnTo>
                    <a:lnTo>
                      <a:pt x="636" y="1210"/>
                    </a:lnTo>
                    <a:lnTo>
                      <a:pt x="624" y="1212"/>
                    </a:lnTo>
                    <a:lnTo>
                      <a:pt x="611" y="1215"/>
                    </a:lnTo>
                    <a:lnTo>
                      <a:pt x="598" y="1218"/>
                    </a:lnTo>
                    <a:lnTo>
                      <a:pt x="586" y="1221"/>
                    </a:lnTo>
                    <a:lnTo>
                      <a:pt x="573" y="1222"/>
                    </a:lnTo>
                    <a:lnTo>
                      <a:pt x="559" y="1222"/>
                    </a:lnTo>
                    <a:lnTo>
                      <a:pt x="549" y="1221"/>
                    </a:lnTo>
                    <a:lnTo>
                      <a:pt x="538" y="1218"/>
                    </a:lnTo>
                    <a:lnTo>
                      <a:pt x="526" y="1216"/>
                    </a:lnTo>
                    <a:lnTo>
                      <a:pt x="515" y="1212"/>
                    </a:lnTo>
                    <a:lnTo>
                      <a:pt x="505" y="1209"/>
                    </a:lnTo>
                    <a:lnTo>
                      <a:pt x="495" y="1204"/>
                    </a:lnTo>
                    <a:lnTo>
                      <a:pt x="485" y="1199"/>
                    </a:lnTo>
                    <a:lnTo>
                      <a:pt x="475" y="1193"/>
                    </a:lnTo>
                    <a:lnTo>
                      <a:pt x="468" y="1188"/>
                    </a:lnTo>
                    <a:lnTo>
                      <a:pt x="462" y="1181"/>
                    </a:lnTo>
                    <a:lnTo>
                      <a:pt x="457" y="1174"/>
                    </a:lnTo>
                    <a:lnTo>
                      <a:pt x="454" y="1166"/>
                    </a:lnTo>
                    <a:lnTo>
                      <a:pt x="449" y="1159"/>
                    </a:lnTo>
                    <a:lnTo>
                      <a:pt x="444" y="1150"/>
                    </a:lnTo>
                    <a:lnTo>
                      <a:pt x="439" y="1143"/>
                    </a:lnTo>
                    <a:lnTo>
                      <a:pt x="433" y="1137"/>
                    </a:lnTo>
                    <a:lnTo>
                      <a:pt x="427" y="1133"/>
                    </a:lnTo>
                    <a:lnTo>
                      <a:pt x="423" y="1130"/>
                    </a:lnTo>
                    <a:lnTo>
                      <a:pt x="417" y="1127"/>
                    </a:lnTo>
                    <a:lnTo>
                      <a:pt x="411" y="1125"/>
                    </a:lnTo>
                    <a:lnTo>
                      <a:pt x="405" y="1123"/>
                    </a:lnTo>
                    <a:lnTo>
                      <a:pt x="399" y="1120"/>
                    </a:lnTo>
                    <a:lnTo>
                      <a:pt x="393" y="1119"/>
                    </a:lnTo>
                    <a:lnTo>
                      <a:pt x="387" y="1119"/>
                    </a:lnTo>
                    <a:lnTo>
                      <a:pt x="371" y="1118"/>
                    </a:lnTo>
                    <a:lnTo>
                      <a:pt x="355" y="1118"/>
                    </a:lnTo>
                    <a:lnTo>
                      <a:pt x="341" y="1118"/>
                    </a:lnTo>
                    <a:lnTo>
                      <a:pt x="325" y="1119"/>
                    </a:lnTo>
                    <a:lnTo>
                      <a:pt x="310" y="1120"/>
                    </a:lnTo>
                    <a:lnTo>
                      <a:pt x="294" y="1121"/>
                    </a:lnTo>
                    <a:lnTo>
                      <a:pt x="280" y="1123"/>
                    </a:lnTo>
                    <a:lnTo>
                      <a:pt x="264" y="1124"/>
                    </a:lnTo>
                    <a:lnTo>
                      <a:pt x="247" y="1124"/>
                    </a:lnTo>
                    <a:lnTo>
                      <a:pt x="231" y="1126"/>
                    </a:lnTo>
                    <a:lnTo>
                      <a:pt x="213" y="1127"/>
                    </a:lnTo>
                    <a:lnTo>
                      <a:pt x="196" y="1129"/>
                    </a:lnTo>
                    <a:lnTo>
                      <a:pt x="179" y="1130"/>
                    </a:lnTo>
                    <a:lnTo>
                      <a:pt x="162" y="1130"/>
                    </a:lnTo>
                    <a:lnTo>
                      <a:pt x="145" y="1130"/>
                    </a:lnTo>
                    <a:lnTo>
                      <a:pt x="129" y="1127"/>
                    </a:lnTo>
                    <a:lnTo>
                      <a:pt x="120" y="1126"/>
                    </a:lnTo>
                    <a:lnTo>
                      <a:pt x="112" y="1124"/>
                    </a:lnTo>
                    <a:lnTo>
                      <a:pt x="103" y="1120"/>
                    </a:lnTo>
                    <a:lnTo>
                      <a:pt x="96" y="1115"/>
                    </a:lnTo>
                    <a:lnTo>
                      <a:pt x="89" y="1111"/>
                    </a:lnTo>
                    <a:lnTo>
                      <a:pt x="82" y="1106"/>
                    </a:lnTo>
                    <a:lnTo>
                      <a:pt x="75" y="1101"/>
                    </a:lnTo>
                    <a:lnTo>
                      <a:pt x="67" y="1095"/>
                    </a:lnTo>
                    <a:lnTo>
                      <a:pt x="60" y="1090"/>
                    </a:lnTo>
                    <a:lnTo>
                      <a:pt x="54" y="1085"/>
                    </a:lnTo>
                    <a:lnTo>
                      <a:pt x="47" y="1081"/>
                    </a:lnTo>
                    <a:lnTo>
                      <a:pt x="41" y="1075"/>
                    </a:lnTo>
                    <a:lnTo>
                      <a:pt x="35" y="1069"/>
                    </a:lnTo>
                    <a:lnTo>
                      <a:pt x="29" y="1063"/>
                    </a:lnTo>
                    <a:lnTo>
                      <a:pt x="24" y="1055"/>
                    </a:lnTo>
                    <a:lnTo>
                      <a:pt x="21" y="1048"/>
                    </a:lnTo>
                    <a:lnTo>
                      <a:pt x="18" y="1043"/>
                    </a:lnTo>
                    <a:lnTo>
                      <a:pt x="18" y="1037"/>
                    </a:lnTo>
                    <a:lnTo>
                      <a:pt x="18" y="1031"/>
                    </a:lnTo>
                    <a:lnTo>
                      <a:pt x="18" y="1025"/>
                    </a:lnTo>
                    <a:lnTo>
                      <a:pt x="19" y="1019"/>
                    </a:lnTo>
                    <a:lnTo>
                      <a:pt x="22" y="1013"/>
                    </a:lnTo>
                    <a:lnTo>
                      <a:pt x="25" y="1010"/>
                    </a:lnTo>
                    <a:lnTo>
                      <a:pt x="30" y="1006"/>
                    </a:lnTo>
                    <a:lnTo>
                      <a:pt x="41" y="1001"/>
                    </a:lnTo>
                    <a:lnTo>
                      <a:pt x="52" y="998"/>
                    </a:lnTo>
                    <a:lnTo>
                      <a:pt x="64" y="995"/>
                    </a:lnTo>
                    <a:lnTo>
                      <a:pt x="76" y="994"/>
                    </a:lnTo>
                    <a:lnTo>
                      <a:pt x="88" y="993"/>
                    </a:lnTo>
                    <a:lnTo>
                      <a:pt x="100" y="993"/>
                    </a:lnTo>
                    <a:lnTo>
                      <a:pt x="112" y="993"/>
                    </a:lnTo>
                    <a:lnTo>
                      <a:pt x="124" y="992"/>
                    </a:lnTo>
                    <a:lnTo>
                      <a:pt x="143" y="992"/>
                    </a:lnTo>
                    <a:lnTo>
                      <a:pt x="163" y="993"/>
                    </a:lnTo>
                    <a:lnTo>
                      <a:pt x="184" y="994"/>
                    </a:lnTo>
                    <a:lnTo>
                      <a:pt x="203" y="995"/>
                    </a:lnTo>
                    <a:lnTo>
                      <a:pt x="223" y="997"/>
                    </a:lnTo>
                    <a:lnTo>
                      <a:pt x="243" y="998"/>
                    </a:lnTo>
                    <a:lnTo>
                      <a:pt x="263" y="998"/>
                    </a:lnTo>
                    <a:lnTo>
                      <a:pt x="283" y="997"/>
                    </a:lnTo>
                    <a:lnTo>
                      <a:pt x="295" y="995"/>
                    </a:lnTo>
                    <a:lnTo>
                      <a:pt x="306" y="993"/>
                    </a:lnTo>
                    <a:lnTo>
                      <a:pt x="318" y="991"/>
                    </a:lnTo>
                    <a:lnTo>
                      <a:pt x="330" y="987"/>
                    </a:lnTo>
                    <a:lnTo>
                      <a:pt x="342" y="983"/>
                    </a:lnTo>
                    <a:lnTo>
                      <a:pt x="353" y="980"/>
                    </a:lnTo>
                    <a:lnTo>
                      <a:pt x="365" y="976"/>
                    </a:lnTo>
                    <a:lnTo>
                      <a:pt x="377" y="974"/>
                    </a:lnTo>
                    <a:lnTo>
                      <a:pt x="384" y="971"/>
                    </a:lnTo>
                    <a:lnTo>
                      <a:pt x="391" y="969"/>
                    </a:lnTo>
                    <a:lnTo>
                      <a:pt x="400" y="965"/>
                    </a:lnTo>
                    <a:lnTo>
                      <a:pt x="407" y="963"/>
                    </a:lnTo>
                    <a:lnTo>
                      <a:pt x="414" y="961"/>
                    </a:lnTo>
                    <a:lnTo>
                      <a:pt x="423" y="959"/>
                    </a:lnTo>
                    <a:lnTo>
                      <a:pt x="430" y="958"/>
                    </a:lnTo>
                    <a:lnTo>
                      <a:pt x="438" y="959"/>
                    </a:lnTo>
                    <a:lnTo>
                      <a:pt x="453" y="963"/>
                    </a:lnTo>
                    <a:lnTo>
                      <a:pt x="467" y="968"/>
                    </a:lnTo>
                    <a:lnTo>
                      <a:pt x="481" y="973"/>
                    </a:lnTo>
                    <a:lnTo>
                      <a:pt x="495" y="979"/>
                    </a:lnTo>
                    <a:lnTo>
                      <a:pt x="509" y="986"/>
                    </a:lnTo>
                    <a:lnTo>
                      <a:pt x="522" y="993"/>
                    </a:lnTo>
                    <a:lnTo>
                      <a:pt x="537" y="999"/>
                    </a:lnTo>
                    <a:lnTo>
                      <a:pt x="550" y="1006"/>
                    </a:lnTo>
                    <a:lnTo>
                      <a:pt x="562" y="1012"/>
                    </a:lnTo>
                    <a:lnTo>
                      <a:pt x="573" y="1019"/>
                    </a:lnTo>
                    <a:lnTo>
                      <a:pt x="583" y="1027"/>
                    </a:lnTo>
                    <a:lnTo>
                      <a:pt x="594" y="1034"/>
                    </a:lnTo>
                    <a:lnTo>
                      <a:pt x="605" y="1040"/>
                    </a:lnTo>
                    <a:lnTo>
                      <a:pt x="616" y="1047"/>
                    </a:lnTo>
                    <a:lnTo>
                      <a:pt x="628" y="1053"/>
                    </a:lnTo>
                    <a:lnTo>
                      <a:pt x="639" y="1058"/>
                    </a:lnTo>
                    <a:lnTo>
                      <a:pt x="648" y="1061"/>
                    </a:lnTo>
                    <a:lnTo>
                      <a:pt x="659" y="1065"/>
                    </a:lnTo>
                    <a:lnTo>
                      <a:pt x="669" y="1067"/>
                    </a:lnTo>
                    <a:lnTo>
                      <a:pt x="679" y="1070"/>
                    </a:lnTo>
                    <a:lnTo>
                      <a:pt x="690" y="1072"/>
                    </a:lnTo>
                    <a:lnTo>
                      <a:pt x="700" y="1072"/>
                    </a:lnTo>
                    <a:lnTo>
                      <a:pt x="709" y="1071"/>
                    </a:lnTo>
                    <a:lnTo>
                      <a:pt x="719" y="1067"/>
                    </a:lnTo>
                    <a:lnTo>
                      <a:pt x="725" y="1063"/>
                    </a:lnTo>
                    <a:lnTo>
                      <a:pt x="731" y="1057"/>
                    </a:lnTo>
                    <a:lnTo>
                      <a:pt x="735" y="1049"/>
                    </a:lnTo>
                    <a:lnTo>
                      <a:pt x="738" y="1041"/>
                    </a:lnTo>
                    <a:lnTo>
                      <a:pt x="741" y="1033"/>
                    </a:lnTo>
                    <a:lnTo>
                      <a:pt x="742" y="1023"/>
                    </a:lnTo>
                    <a:lnTo>
                      <a:pt x="742" y="1015"/>
                    </a:lnTo>
                    <a:lnTo>
                      <a:pt x="742" y="1006"/>
                    </a:lnTo>
                    <a:lnTo>
                      <a:pt x="742" y="998"/>
                    </a:lnTo>
                    <a:lnTo>
                      <a:pt x="739" y="988"/>
                    </a:lnTo>
                    <a:lnTo>
                      <a:pt x="737" y="980"/>
                    </a:lnTo>
                    <a:lnTo>
                      <a:pt x="733" y="971"/>
                    </a:lnTo>
                    <a:lnTo>
                      <a:pt x="729" y="964"/>
                    </a:lnTo>
                    <a:lnTo>
                      <a:pt x="724" y="956"/>
                    </a:lnTo>
                    <a:lnTo>
                      <a:pt x="719" y="949"/>
                    </a:lnTo>
                    <a:lnTo>
                      <a:pt x="714" y="940"/>
                    </a:lnTo>
                    <a:lnTo>
                      <a:pt x="705" y="927"/>
                    </a:lnTo>
                    <a:lnTo>
                      <a:pt x="695" y="914"/>
                    </a:lnTo>
                    <a:lnTo>
                      <a:pt x="685" y="902"/>
                    </a:lnTo>
                    <a:lnTo>
                      <a:pt x="675" y="889"/>
                    </a:lnTo>
                    <a:lnTo>
                      <a:pt x="664" y="877"/>
                    </a:lnTo>
                    <a:lnTo>
                      <a:pt x="653" y="865"/>
                    </a:lnTo>
                    <a:lnTo>
                      <a:pt x="642" y="854"/>
                    </a:lnTo>
                    <a:lnTo>
                      <a:pt x="630" y="842"/>
                    </a:lnTo>
                    <a:lnTo>
                      <a:pt x="615" y="830"/>
                    </a:lnTo>
                    <a:lnTo>
                      <a:pt x="600" y="819"/>
                    </a:lnTo>
                    <a:lnTo>
                      <a:pt x="585" y="807"/>
                    </a:lnTo>
                    <a:lnTo>
                      <a:pt x="569" y="796"/>
                    </a:lnTo>
                    <a:lnTo>
                      <a:pt x="553" y="787"/>
                    </a:lnTo>
                    <a:lnTo>
                      <a:pt x="537" y="776"/>
                    </a:lnTo>
                    <a:lnTo>
                      <a:pt x="520" y="767"/>
                    </a:lnTo>
                    <a:lnTo>
                      <a:pt x="503" y="758"/>
                    </a:lnTo>
                    <a:lnTo>
                      <a:pt x="491" y="752"/>
                    </a:lnTo>
                    <a:lnTo>
                      <a:pt x="479" y="747"/>
                    </a:lnTo>
                    <a:lnTo>
                      <a:pt x="466" y="742"/>
                    </a:lnTo>
                    <a:lnTo>
                      <a:pt x="453" y="739"/>
                    </a:lnTo>
                    <a:lnTo>
                      <a:pt x="439" y="735"/>
                    </a:lnTo>
                    <a:lnTo>
                      <a:pt x="426" y="731"/>
                    </a:lnTo>
                    <a:lnTo>
                      <a:pt x="413" y="729"/>
                    </a:lnTo>
                    <a:lnTo>
                      <a:pt x="400" y="725"/>
                    </a:lnTo>
                    <a:lnTo>
                      <a:pt x="389" y="723"/>
                    </a:lnTo>
                    <a:lnTo>
                      <a:pt x="377" y="721"/>
                    </a:lnTo>
                    <a:lnTo>
                      <a:pt x="365" y="718"/>
                    </a:lnTo>
                    <a:lnTo>
                      <a:pt x="353" y="716"/>
                    </a:lnTo>
                    <a:lnTo>
                      <a:pt x="342" y="713"/>
                    </a:lnTo>
                    <a:lnTo>
                      <a:pt x="330" y="712"/>
                    </a:lnTo>
                    <a:lnTo>
                      <a:pt x="318" y="711"/>
                    </a:lnTo>
                    <a:lnTo>
                      <a:pt x="306" y="711"/>
                    </a:lnTo>
                    <a:lnTo>
                      <a:pt x="299" y="711"/>
                    </a:lnTo>
                    <a:lnTo>
                      <a:pt x="291" y="712"/>
                    </a:lnTo>
                    <a:lnTo>
                      <a:pt x="283" y="713"/>
                    </a:lnTo>
                    <a:lnTo>
                      <a:pt x="275" y="715"/>
                    </a:lnTo>
                    <a:lnTo>
                      <a:pt x="268" y="717"/>
                    </a:lnTo>
                    <a:lnTo>
                      <a:pt x="259" y="719"/>
                    </a:lnTo>
                    <a:lnTo>
                      <a:pt x="252" y="722"/>
                    </a:lnTo>
                    <a:lnTo>
                      <a:pt x="245" y="725"/>
                    </a:lnTo>
                    <a:lnTo>
                      <a:pt x="238" y="729"/>
                    </a:lnTo>
                    <a:lnTo>
                      <a:pt x="232" y="735"/>
                    </a:lnTo>
                    <a:lnTo>
                      <a:pt x="226" y="740"/>
                    </a:lnTo>
                    <a:lnTo>
                      <a:pt x="220" y="746"/>
                    </a:lnTo>
                    <a:lnTo>
                      <a:pt x="214" y="752"/>
                    </a:lnTo>
                    <a:lnTo>
                      <a:pt x="208" y="758"/>
                    </a:lnTo>
                    <a:lnTo>
                      <a:pt x="201" y="763"/>
                    </a:lnTo>
                    <a:lnTo>
                      <a:pt x="193" y="767"/>
                    </a:lnTo>
                    <a:lnTo>
                      <a:pt x="183" y="773"/>
                    </a:lnTo>
                    <a:lnTo>
                      <a:pt x="172" y="779"/>
                    </a:lnTo>
                    <a:lnTo>
                      <a:pt x="160" y="784"/>
                    </a:lnTo>
                    <a:lnTo>
                      <a:pt x="148" y="789"/>
                    </a:lnTo>
                    <a:lnTo>
                      <a:pt x="137" y="794"/>
                    </a:lnTo>
                    <a:lnTo>
                      <a:pt x="125" y="799"/>
                    </a:lnTo>
                    <a:lnTo>
                      <a:pt x="113" y="802"/>
                    </a:lnTo>
                    <a:lnTo>
                      <a:pt x="100" y="805"/>
                    </a:lnTo>
                    <a:lnTo>
                      <a:pt x="96" y="806"/>
                    </a:lnTo>
                    <a:lnTo>
                      <a:pt x="91" y="806"/>
                    </a:lnTo>
                    <a:lnTo>
                      <a:pt x="87" y="806"/>
                    </a:lnTo>
                    <a:lnTo>
                      <a:pt x="82" y="805"/>
                    </a:lnTo>
                    <a:lnTo>
                      <a:pt x="77" y="803"/>
                    </a:lnTo>
                    <a:lnTo>
                      <a:pt x="73" y="801"/>
                    </a:lnTo>
                    <a:lnTo>
                      <a:pt x="70" y="799"/>
                    </a:lnTo>
                    <a:lnTo>
                      <a:pt x="67" y="795"/>
                    </a:lnTo>
                    <a:lnTo>
                      <a:pt x="65" y="789"/>
                    </a:lnTo>
                    <a:lnTo>
                      <a:pt x="63" y="783"/>
                    </a:lnTo>
                    <a:lnTo>
                      <a:pt x="61" y="776"/>
                    </a:lnTo>
                    <a:lnTo>
                      <a:pt x="60" y="770"/>
                    </a:lnTo>
                    <a:lnTo>
                      <a:pt x="61" y="763"/>
                    </a:lnTo>
                    <a:lnTo>
                      <a:pt x="63" y="755"/>
                    </a:lnTo>
                    <a:lnTo>
                      <a:pt x="64" y="749"/>
                    </a:lnTo>
                    <a:lnTo>
                      <a:pt x="67" y="745"/>
                    </a:lnTo>
                    <a:lnTo>
                      <a:pt x="77" y="731"/>
                    </a:lnTo>
                    <a:lnTo>
                      <a:pt x="87" y="718"/>
                    </a:lnTo>
                    <a:lnTo>
                      <a:pt x="99" y="706"/>
                    </a:lnTo>
                    <a:lnTo>
                      <a:pt x="109" y="695"/>
                    </a:lnTo>
                    <a:lnTo>
                      <a:pt x="123" y="685"/>
                    </a:lnTo>
                    <a:lnTo>
                      <a:pt x="135" y="674"/>
                    </a:lnTo>
                    <a:lnTo>
                      <a:pt x="148" y="664"/>
                    </a:lnTo>
                    <a:lnTo>
                      <a:pt x="161" y="655"/>
                    </a:lnTo>
                    <a:lnTo>
                      <a:pt x="171" y="649"/>
                    </a:lnTo>
                    <a:lnTo>
                      <a:pt x="179" y="644"/>
                    </a:lnTo>
                    <a:lnTo>
                      <a:pt x="189" y="639"/>
                    </a:lnTo>
                    <a:lnTo>
                      <a:pt x="199" y="634"/>
                    </a:lnTo>
                    <a:lnTo>
                      <a:pt x="209" y="631"/>
                    </a:lnTo>
                    <a:lnTo>
                      <a:pt x="220" y="627"/>
                    </a:lnTo>
                    <a:lnTo>
                      <a:pt x="231" y="625"/>
                    </a:lnTo>
                    <a:lnTo>
                      <a:pt x="240" y="622"/>
                    </a:lnTo>
                    <a:lnTo>
                      <a:pt x="255" y="620"/>
                    </a:lnTo>
                    <a:lnTo>
                      <a:pt x="269" y="619"/>
                    </a:lnTo>
                    <a:lnTo>
                      <a:pt x="282" y="617"/>
                    </a:lnTo>
                    <a:lnTo>
                      <a:pt x="297" y="617"/>
                    </a:lnTo>
                    <a:lnTo>
                      <a:pt x="311" y="617"/>
                    </a:lnTo>
                    <a:lnTo>
                      <a:pt x="325" y="617"/>
                    </a:lnTo>
                    <a:lnTo>
                      <a:pt x="339" y="617"/>
                    </a:lnTo>
                    <a:lnTo>
                      <a:pt x="353" y="617"/>
                    </a:lnTo>
                    <a:lnTo>
                      <a:pt x="373" y="617"/>
                    </a:lnTo>
                    <a:lnTo>
                      <a:pt x="393" y="617"/>
                    </a:lnTo>
                    <a:lnTo>
                      <a:pt x="413" y="619"/>
                    </a:lnTo>
                    <a:lnTo>
                      <a:pt x="433" y="619"/>
                    </a:lnTo>
                    <a:lnTo>
                      <a:pt x="453" y="620"/>
                    </a:lnTo>
                    <a:lnTo>
                      <a:pt x="473" y="621"/>
                    </a:lnTo>
                    <a:lnTo>
                      <a:pt x="492" y="621"/>
                    </a:lnTo>
                    <a:lnTo>
                      <a:pt x="513" y="622"/>
                    </a:lnTo>
                    <a:lnTo>
                      <a:pt x="527" y="623"/>
                    </a:lnTo>
                    <a:lnTo>
                      <a:pt x="541" y="625"/>
                    </a:lnTo>
                    <a:lnTo>
                      <a:pt x="557" y="626"/>
                    </a:lnTo>
                    <a:lnTo>
                      <a:pt x="571" y="628"/>
                    </a:lnTo>
                    <a:lnTo>
                      <a:pt x="586" y="629"/>
                    </a:lnTo>
                    <a:lnTo>
                      <a:pt x="600" y="631"/>
                    </a:lnTo>
                    <a:lnTo>
                      <a:pt x="615" y="632"/>
                    </a:lnTo>
                    <a:lnTo>
                      <a:pt x="630" y="632"/>
                    </a:lnTo>
                    <a:lnTo>
                      <a:pt x="639" y="632"/>
                    </a:lnTo>
                    <a:lnTo>
                      <a:pt x="647" y="632"/>
                    </a:lnTo>
                    <a:lnTo>
                      <a:pt x="655" y="633"/>
                    </a:lnTo>
                    <a:lnTo>
                      <a:pt x="665" y="633"/>
                    </a:lnTo>
                    <a:lnTo>
                      <a:pt x="673" y="632"/>
                    </a:lnTo>
                    <a:lnTo>
                      <a:pt x="682" y="629"/>
                    </a:lnTo>
                    <a:lnTo>
                      <a:pt x="689" y="627"/>
                    </a:lnTo>
                    <a:lnTo>
                      <a:pt x="695" y="622"/>
                    </a:lnTo>
                    <a:close/>
                  </a:path>
                </a:pathLst>
              </a:custGeom>
              <a:solidFill>
                <a:srgbClr val="e39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145040" y="1327320"/>
                <a:ext cx="799920" cy="687240"/>
              </a:xfrm>
              <a:custGeom>
                <a:avLst/>
                <a:gdLst/>
                <a:ahLst/>
                <a:rect l="l" t="t" r="r" b="b"/>
                <a:pathLst>
                  <a:path w="2016" h="1735">
                    <a:moveTo>
                      <a:pt x="688" y="618"/>
                    </a:moveTo>
                    <a:lnTo>
                      <a:pt x="696" y="610"/>
                    </a:lnTo>
                    <a:lnTo>
                      <a:pt x="700" y="603"/>
                    </a:lnTo>
                    <a:lnTo>
                      <a:pt x="704" y="595"/>
                    </a:lnTo>
                    <a:lnTo>
                      <a:pt x="708" y="585"/>
                    </a:lnTo>
                    <a:lnTo>
                      <a:pt x="710" y="576"/>
                    </a:lnTo>
                    <a:lnTo>
                      <a:pt x="711" y="566"/>
                    </a:lnTo>
                    <a:lnTo>
                      <a:pt x="712" y="556"/>
                    </a:lnTo>
                    <a:lnTo>
                      <a:pt x="712" y="548"/>
                    </a:lnTo>
                    <a:lnTo>
                      <a:pt x="712" y="537"/>
                    </a:lnTo>
                    <a:lnTo>
                      <a:pt x="711" y="525"/>
                    </a:lnTo>
                    <a:lnTo>
                      <a:pt x="709" y="514"/>
                    </a:lnTo>
                    <a:lnTo>
                      <a:pt x="708" y="504"/>
                    </a:lnTo>
                    <a:lnTo>
                      <a:pt x="704" y="493"/>
                    </a:lnTo>
                    <a:lnTo>
                      <a:pt x="700" y="483"/>
                    </a:lnTo>
                    <a:lnTo>
                      <a:pt x="694" y="472"/>
                    </a:lnTo>
                    <a:lnTo>
                      <a:pt x="688" y="464"/>
                    </a:lnTo>
                    <a:lnTo>
                      <a:pt x="682" y="457"/>
                    </a:lnTo>
                    <a:lnTo>
                      <a:pt x="674" y="451"/>
                    </a:lnTo>
                    <a:lnTo>
                      <a:pt x="666" y="446"/>
                    </a:lnTo>
                    <a:lnTo>
                      <a:pt x="657" y="441"/>
                    </a:lnTo>
                    <a:lnTo>
                      <a:pt x="648" y="438"/>
                    </a:lnTo>
                    <a:lnTo>
                      <a:pt x="638" y="434"/>
                    </a:lnTo>
                    <a:lnTo>
                      <a:pt x="628" y="430"/>
                    </a:lnTo>
                    <a:lnTo>
                      <a:pt x="619" y="427"/>
                    </a:lnTo>
                    <a:lnTo>
                      <a:pt x="608" y="422"/>
                    </a:lnTo>
                    <a:lnTo>
                      <a:pt x="597" y="416"/>
                    </a:lnTo>
                    <a:lnTo>
                      <a:pt x="586" y="411"/>
                    </a:lnTo>
                    <a:lnTo>
                      <a:pt x="576" y="407"/>
                    </a:lnTo>
                    <a:lnTo>
                      <a:pt x="565" y="402"/>
                    </a:lnTo>
                    <a:lnTo>
                      <a:pt x="553" y="398"/>
                    </a:lnTo>
                    <a:lnTo>
                      <a:pt x="542" y="393"/>
                    </a:lnTo>
                    <a:lnTo>
                      <a:pt x="531" y="390"/>
                    </a:lnTo>
                    <a:lnTo>
                      <a:pt x="518" y="386"/>
                    </a:lnTo>
                    <a:lnTo>
                      <a:pt x="505" y="384"/>
                    </a:lnTo>
                    <a:lnTo>
                      <a:pt x="493" y="381"/>
                    </a:lnTo>
                    <a:lnTo>
                      <a:pt x="480" y="379"/>
                    </a:lnTo>
                    <a:lnTo>
                      <a:pt x="466" y="377"/>
                    </a:lnTo>
                    <a:lnTo>
                      <a:pt x="453" y="374"/>
                    </a:lnTo>
                    <a:lnTo>
                      <a:pt x="441" y="371"/>
                    </a:lnTo>
                    <a:lnTo>
                      <a:pt x="428" y="367"/>
                    </a:lnTo>
                    <a:lnTo>
                      <a:pt x="418" y="362"/>
                    </a:lnTo>
                    <a:lnTo>
                      <a:pt x="409" y="357"/>
                    </a:lnTo>
                    <a:lnTo>
                      <a:pt x="399" y="351"/>
                    </a:lnTo>
                    <a:lnTo>
                      <a:pt x="390" y="347"/>
                    </a:lnTo>
                    <a:lnTo>
                      <a:pt x="380" y="339"/>
                    </a:lnTo>
                    <a:lnTo>
                      <a:pt x="372" y="333"/>
                    </a:lnTo>
                    <a:lnTo>
                      <a:pt x="363" y="327"/>
                    </a:lnTo>
                    <a:lnTo>
                      <a:pt x="354" y="320"/>
                    </a:lnTo>
                    <a:lnTo>
                      <a:pt x="339" y="308"/>
                    </a:lnTo>
                    <a:lnTo>
                      <a:pt x="325" y="295"/>
                    </a:lnTo>
                    <a:lnTo>
                      <a:pt x="310" y="282"/>
                    </a:lnTo>
                    <a:lnTo>
                      <a:pt x="296" y="269"/>
                    </a:lnTo>
                    <a:lnTo>
                      <a:pt x="282" y="255"/>
                    </a:lnTo>
                    <a:lnTo>
                      <a:pt x="267" y="243"/>
                    </a:lnTo>
                    <a:lnTo>
                      <a:pt x="253" y="230"/>
                    </a:lnTo>
                    <a:lnTo>
                      <a:pt x="237" y="218"/>
                    </a:lnTo>
                    <a:lnTo>
                      <a:pt x="224" y="207"/>
                    </a:lnTo>
                    <a:lnTo>
                      <a:pt x="211" y="197"/>
                    </a:lnTo>
                    <a:lnTo>
                      <a:pt x="198" y="187"/>
                    </a:lnTo>
                    <a:lnTo>
                      <a:pt x="183" y="176"/>
                    </a:lnTo>
                    <a:lnTo>
                      <a:pt x="169" y="167"/>
                    </a:lnTo>
                    <a:lnTo>
                      <a:pt x="156" y="157"/>
                    </a:lnTo>
                    <a:lnTo>
                      <a:pt x="141" y="147"/>
                    </a:lnTo>
                    <a:lnTo>
                      <a:pt x="126" y="139"/>
                    </a:lnTo>
                    <a:lnTo>
                      <a:pt x="117" y="134"/>
                    </a:lnTo>
                    <a:lnTo>
                      <a:pt x="106" y="129"/>
                    </a:lnTo>
                    <a:lnTo>
                      <a:pt x="97" y="125"/>
                    </a:lnTo>
                    <a:lnTo>
                      <a:pt x="86" y="121"/>
                    </a:lnTo>
                    <a:lnTo>
                      <a:pt x="76" y="116"/>
                    </a:lnTo>
                    <a:lnTo>
                      <a:pt x="66" y="113"/>
                    </a:lnTo>
                    <a:lnTo>
                      <a:pt x="56" y="108"/>
                    </a:lnTo>
                    <a:lnTo>
                      <a:pt x="48" y="102"/>
                    </a:lnTo>
                    <a:lnTo>
                      <a:pt x="40" y="97"/>
                    </a:lnTo>
                    <a:lnTo>
                      <a:pt x="33" y="92"/>
                    </a:lnTo>
                    <a:lnTo>
                      <a:pt x="26" y="87"/>
                    </a:lnTo>
                    <a:lnTo>
                      <a:pt x="20" y="81"/>
                    </a:lnTo>
                    <a:lnTo>
                      <a:pt x="14" y="75"/>
                    </a:lnTo>
                    <a:lnTo>
                      <a:pt x="8" y="69"/>
                    </a:lnTo>
                    <a:lnTo>
                      <a:pt x="3" y="62"/>
                    </a:lnTo>
                    <a:lnTo>
                      <a:pt x="1" y="55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3" y="31"/>
                    </a:lnTo>
                    <a:lnTo>
                      <a:pt x="6" y="26"/>
                    </a:lnTo>
                    <a:lnTo>
                      <a:pt x="10" y="21"/>
                    </a:lnTo>
                    <a:lnTo>
                      <a:pt x="14" y="17"/>
                    </a:lnTo>
                    <a:lnTo>
                      <a:pt x="19" y="13"/>
                    </a:lnTo>
                    <a:lnTo>
                      <a:pt x="28" y="9"/>
                    </a:lnTo>
                    <a:lnTo>
                      <a:pt x="38" y="7"/>
                    </a:lnTo>
                    <a:lnTo>
                      <a:pt x="48" y="5"/>
                    </a:lnTo>
                    <a:lnTo>
                      <a:pt x="57" y="3"/>
                    </a:lnTo>
                    <a:lnTo>
                      <a:pt x="68" y="2"/>
                    </a:lnTo>
                    <a:lnTo>
                      <a:pt x="78" y="3"/>
                    </a:lnTo>
                    <a:lnTo>
                      <a:pt x="88" y="3"/>
                    </a:lnTo>
                    <a:lnTo>
                      <a:pt x="98" y="5"/>
                    </a:lnTo>
                    <a:lnTo>
                      <a:pt x="108" y="6"/>
                    </a:lnTo>
                    <a:lnTo>
                      <a:pt x="116" y="7"/>
                    </a:lnTo>
                    <a:lnTo>
                      <a:pt x="126" y="9"/>
                    </a:lnTo>
                    <a:lnTo>
                      <a:pt x="135" y="12"/>
                    </a:lnTo>
                    <a:lnTo>
                      <a:pt x="144" y="14"/>
                    </a:lnTo>
                    <a:lnTo>
                      <a:pt x="152" y="19"/>
                    </a:lnTo>
                    <a:lnTo>
                      <a:pt x="160" y="23"/>
                    </a:lnTo>
                    <a:lnTo>
                      <a:pt x="168" y="27"/>
                    </a:lnTo>
                    <a:lnTo>
                      <a:pt x="178" y="36"/>
                    </a:lnTo>
                    <a:lnTo>
                      <a:pt x="189" y="44"/>
                    </a:lnTo>
                    <a:lnTo>
                      <a:pt x="199" y="54"/>
                    </a:lnTo>
                    <a:lnTo>
                      <a:pt x="208" y="63"/>
                    </a:lnTo>
                    <a:lnTo>
                      <a:pt x="218" y="73"/>
                    </a:lnTo>
                    <a:lnTo>
                      <a:pt x="228" y="83"/>
                    </a:lnTo>
                    <a:lnTo>
                      <a:pt x="237" y="92"/>
                    </a:lnTo>
                    <a:lnTo>
                      <a:pt x="247" y="102"/>
                    </a:lnTo>
                    <a:lnTo>
                      <a:pt x="261" y="114"/>
                    </a:lnTo>
                    <a:lnTo>
                      <a:pt x="276" y="127"/>
                    </a:lnTo>
                    <a:lnTo>
                      <a:pt x="290" y="139"/>
                    </a:lnTo>
                    <a:lnTo>
                      <a:pt x="304" y="151"/>
                    </a:lnTo>
                    <a:lnTo>
                      <a:pt x="319" y="163"/>
                    </a:lnTo>
                    <a:lnTo>
                      <a:pt x="333" y="175"/>
                    </a:lnTo>
                    <a:lnTo>
                      <a:pt x="349" y="187"/>
                    </a:lnTo>
                    <a:lnTo>
                      <a:pt x="363" y="199"/>
                    </a:lnTo>
                    <a:lnTo>
                      <a:pt x="374" y="207"/>
                    </a:lnTo>
                    <a:lnTo>
                      <a:pt x="385" y="217"/>
                    </a:lnTo>
                    <a:lnTo>
                      <a:pt x="396" y="225"/>
                    </a:lnTo>
                    <a:lnTo>
                      <a:pt x="406" y="234"/>
                    </a:lnTo>
                    <a:lnTo>
                      <a:pt x="417" y="242"/>
                    </a:lnTo>
                    <a:lnTo>
                      <a:pt x="428" y="249"/>
                    </a:lnTo>
                    <a:lnTo>
                      <a:pt x="440" y="258"/>
                    </a:lnTo>
                    <a:lnTo>
                      <a:pt x="452" y="264"/>
                    </a:lnTo>
                    <a:lnTo>
                      <a:pt x="458" y="267"/>
                    </a:lnTo>
                    <a:lnTo>
                      <a:pt x="464" y="270"/>
                    </a:lnTo>
                    <a:lnTo>
                      <a:pt x="470" y="272"/>
                    </a:lnTo>
                    <a:lnTo>
                      <a:pt x="476" y="275"/>
                    </a:lnTo>
                    <a:lnTo>
                      <a:pt x="483" y="276"/>
                    </a:lnTo>
                    <a:lnTo>
                      <a:pt x="489" y="277"/>
                    </a:lnTo>
                    <a:lnTo>
                      <a:pt x="496" y="278"/>
                    </a:lnTo>
                    <a:lnTo>
                      <a:pt x="502" y="278"/>
                    </a:lnTo>
                    <a:lnTo>
                      <a:pt x="508" y="278"/>
                    </a:lnTo>
                    <a:lnTo>
                      <a:pt x="516" y="278"/>
                    </a:lnTo>
                    <a:lnTo>
                      <a:pt x="522" y="278"/>
                    </a:lnTo>
                    <a:lnTo>
                      <a:pt x="528" y="278"/>
                    </a:lnTo>
                    <a:lnTo>
                      <a:pt x="534" y="277"/>
                    </a:lnTo>
                    <a:lnTo>
                      <a:pt x="540" y="276"/>
                    </a:lnTo>
                    <a:lnTo>
                      <a:pt x="544" y="272"/>
                    </a:lnTo>
                    <a:lnTo>
                      <a:pt x="549" y="269"/>
                    </a:lnTo>
                    <a:lnTo>
                      <a:pt x="554" y="264"/>
                    </a:lnTo>
                    <a:lnTo>
                      <a:pt x="558" y="257"/>
                    </a:lnTo>
                    <a:lnTo>
                      <a:pt x="561" y="251"/>
                    </a:lnTo>
                    <a:lnTo>
                      <a:pt x="564" y="243"/>
                    </a:lnTo>
                    <a:lnTo>
                      <a:pt x="565" y="236"/>
                    </a:lnTo>
                    <a:lnTo>
                      <a:pt x="566" y="228"/>
                    </a:lnTo>
                    <a:lnTo>
                      <a:pt x="567" y="221"/>
                    </a:lnTo>
                    <a:lnTo>
                      <a:pt x="568" y="213"/>
                    </a:lnTo>
                    <a:lnTo>
                      <a:pt x="568" y="203"/>
                    </a:lnTo>
                    <a:lnTo>
                      <a:pt x="568" y="192"/>
                    </a:lnTo>
                    <a:lnTo>
                      <a:pt x="567" y="180"/>
                    </a:lnTo>
                    <a:lnTo>
                      <a:pt x="567" y="169"/>
                    </a:lnTo>
                    <a:lnTo>
                      <a:pt x="566" y="158"/>
                    </a:lnTo>
                    <a:lnTo>
                      <a:pt x="565" y="147"/>
                    </a:lnTo>
                    <a:lnTo>
                      <a:pt x="564" y="137"/>
                    </a:lnTo>
                    <a:lnTo>
                      <a:pt x="564" y="125"/>
                    </a:lnTo>
                    <a:lnTo>
                      <a:pt x="564" y="119"/>
                    </a:lnTo>
                    <a:lnTo>
                      <a:pt x="564" y="114"/>
                    </a:lnTo>
                    <a:lnTo>
                      <a:pt x="565" y="108"/>
                    </a:lnTo>
                    <a:lnTo>
                      <a:pt x="565" y="102"/>
                    </a:lnTo>
                    <a:lnTo>
                      <a:pt x="566" y="96"/>
                    </a:lnTo>
                    <a:lnTo>
                      <a:pt x="567" y="90"/>
                    </a:lnTo>
                    <a:lnTo>
                      <a:pt x="567" y="84"/>
                    </a:lnTo>
                    <a:lnTo>
                      <a:pt x="568" y="79"/>
                    </a:lnTo>
                    <a:lnTo>
                      <a:pt x="568" y="72"/>
                    </a:lnTo>
                    <a:lnTo>
                      <a:pt x="567" y="66"/>
                    </a:lnTo>
                    <a:lnTo>
                      <a:pt x="567" y="60"/>
                    </a:lnTo>
                    <a:lnTo>
                      <a:pt x="567" y="53"/>
                    </a:lnTo>
                    <a:lnTo>
                      <a:pt x="566" y="47"/>
                    </a:lnTo>
                    <a:lnTo>
                      <a:pt x="566" y="39"/>
                    </a:lnTo>
                    <a:lnTo>
                      <a:pt x="567" y="33"/>
                    </a:lnTo>
                    <a:lnTo>
                      <a:pt x="568" y="27"/>
                    </a:lnTo>
                    <a:lnTo>
                      <a:pt x="570" y="23"/>
                    </a:lnTo>
                    <a:lnTo>
                      <a:pt x="571" y="18"/>
                    </a:lnTo>
                    <a:lnTo>
                      <a:pt x="572" y="14"/>
                    </a:lnTo>
                    <a:lnTo>
                      <a:pt x="574" y="9"/>
                    </a:lnTo>
                    <a:lnTo>
                      <a:pt x="577" y="5"/>
                    </a:lnTo>
                    <a:lnTo>
                      <a:pt x="579" y="2"/>
                    </a:lnTo>
                    <a:lnTo>
                      <a:pt x="583" y="0"/>
                    </a:lnTo>
                    <a:lnTo>
                      <a:pt x="586" y="0"/>
                    </a:lnTo>
                    <a:lnTo>
                      <a:pt x="595" y="1"/>
                    </a:lnTo>
                    <a:lnTo>
                      <a:pt x="602" y="3"/>
                    </a:lnTo>
                    <a:lnTo>
                      <a:pt x="610" y="6"/>
                    </a:lnTo>
                    <a:lnTo>
                      <a:pt x="618" y="11"/>
                    </a:lnTo>
                    <a:lnTo>
                      <a:pt x="624" y="15"/>
                    </a:lnTo>
                    <a:lnTo>
                      <a:pt x="631" y="20"/>
                    </a:lnTo>
                    <a:lnTo>
                      <a:pt x="637" y="26"/>
                    </a:lnTo>
                    <a:lnTo>
                      <a:pt x="643" y="32"/>
                    </a:lnTo>
                    <a:lnTo>
                      <a:pt x="648" y="39"/>
                    </a:lnTo>
                    <a:lnTo>
                      <a:pt x="654" y="48"/>
                    </a:lnTo>
                    <a:lnTo>
                      <a:pt x="657" y="56"/>
                    </a:lnTo>
                    <a:lnTo>
                      <a:pt x="661" y="66"/>
                    </a:lnTo>
                    <a:lnTo>
                      <a:pt x="664" y="74"/>
                    </a:lnTo>
                    <a:lnTo>
                      <a:pt x="668" y="84"/>
                    </a:lnTo>
                    <a:lnTo>
                      <a:pt x="672" y="92"/>
                    </a:lnTo>
                    <a:lnTo>
                      <a:pt x="675" y="102"/>
                    </a:lnTo>
                    <a:lnTo>
                      <a:pt x="680" y="115"/>
                    </a:lnTo>
                    <a:lnTo>
                      <a:pt x="686" y="127"/>
                    </a:lnTo>
                    <a:lnTo>
                      <a:pt x="691" y="140"/>
                    </a:lnTo>
                    <a:lnTo>
                      <a:pt x="696" y="153"/>
                    </a:lnTo>
                    <a:lnTo>
                      <a:pt x="700" y="165"/>
                    </a:lnTo>
                    <a:lnTo>
                      <a:pt x="706" y="179"/>
                    </a:lnTo>
                    <a:lnTo>
                      <a:pt x="711" y="192"/>
                    </a:lnTo>
                    <a:lnTo>
                      <a:pt x="717" y="204"/>
                    </a:lnTo>
                    <a:lnTo>
                      <a:pt x="720" y="212"/>
                    </a:lnTo>
                    <a:lnTo>
                      <a:pt x="723" y="219"/>
                    </a:lnTo>
                    <a:lnTo>
                      <a:pt x="726" y="227"/>
                    </a:lnTo>
                    <a:lnTo>
                      <a:pt x="729" y="235"/>
                    </a:lnTo>
                    <a:lnTo>
                      <a:pt x="733" y="242"/>
                    </a:lnTo>
                    <a:lnTo>
                      <a:pt x="736" y="251"/>
                    </a:lnTo>
                    <a:lnTo>
                      <a:pt x="740" y="258"/>
                    </a:lnTo>
                    <a:lnTo>
                      <a:pt x="745" y="264"/>
                    </a:lnTo>
                    <a:lnTo>
                      <a:pt x="750" y="272"/>
                    </a:lnTo>
                    <a:lnTo>
                      <a:pt x="756" y="279"/>
                    </a:lnTo>
                    <a:lnTo>
                      <a:pt x="762" y="287"/>
                    </a:lnTo>
                    <a:lnTo>
                      <a:pt x="769" y="294"/>
                    </a:lnTo>
                    <a:lnTo>
                      <a:pt x="775" y="301"/>
                    </a:lnTo>
                    <a:lnTo>
                      <a:pt x="782" y="307"/>
                    </a:lnTo>
                    <a:lnTo>
                      <a:pt x="789" y="314"/>
                    </a:lnTo>
                    <a:lnTo>
                      <a:pt x="795" y="320"/>
                    </a:lnTo>
                    <a:lnTo>
                      <a:pt x="805" y="329"/>
                    </a:lnTo>
                    <a:lnTo>
                      <a:pt x="813" y="337"/>
                    </a:lnTo>
                    <a:lnTo>
                      <a:pt x="822" y="345"/>
                    </a:lnTo>
                    <a:lnTo>
                      <a:pt x="831" y="353"/>
                    </a:lnTo>
                    <a:lnTo>
                      <a:pt x="841" y="361"/>
                    </a:lnTo>
                    <a:lnTo>
                      <a:pt x="849" y="368"/>
                    </a:lnTo>
                    <a:lnTo>
                      <a:pt x="860" y="374"/>
                    </a:lnTo>
                    <a:lnTo>
                      <a:pt x="870" y="380"/>
                    </a:lnTo>
                    <a:lnTo>
                      <a:pt x="879" y="384"/>
                    </a:lnTo>
                    <a:lnTo>
                      <a:pt x="888" y="387"/>
                    </a:lnTo>
                    <a:lnTo>
                      <a:pt x="897" y="390"/>
                    </a:lnTo>
                    <a:lnTo>
                      <a:pt x="907" y="391"/>
                    </a:lnTo>
                    <a:lnTo>
                      <a:pt x="916" y="392"/>
                    </a:lnTo>
                    <a:lnTo>
                      <a:pt x="926" y="393"/>
                    </a:lnTo>
                    <a:lnTo>
                      <a:pt x="936" y="393"/>
                    </a:lnTo>
                    <a:lnTo>
                      <a:pt x="944" y="395"/>
                    </a:lnTo>
                    <a:lnTo>
                      <a:pt x="956" y="395"/>
                    </a:lnTo>
                    <a:lnTo>
                      <a:pt x="968" y="396"/>
                    </a:lnTo>
                    <a:lnTo>
                      <a:pt x="980" y="395"/>
                    </a:lnTo>
                    <a:lnTo>
                      <a:pt x="991" y="395"/>
                    </a:lnTo>
                    <a:lnTo>
                      <a:pt x="1003" y="395"/>
                    </a:lnTo>
                    <a:lnTo>
                      <a:pt x="1015" y="393"/>
                    </a:lnTo>
                    <a:lnTo>
                      <a:pt x="1026" y="392"/>
                    </a:lnTo>
                    <a:lnTo>
                      <a:pt x="1038" y="390"/>
                    </a:lnTo>
                    <a:lnTo>
                      <a:pt x="1046" y="389"/>
                    </a:lnTo>
                    <a:lnTo>
                      <a:pt x="1053" y="386"/>
                    </a:lnTo>
                    <a:lnTo>
                      <a:pt x="1062" y="384"/>
                    </a:lnTo>
                    <a:lnTo>
                      <a:pt x="1069" y="381"/>
                    </a:lnTo>
                    <a:lnTo>
                      <a:pt x="1077" y="379"/>
                    </a:lnTo>
                    <a:lnTo>
                      <a:pt x="1084" y="375"/>
                    </a:lnTo>
                    <a:lnTo>
                      <a:pt x="1092" y="371"/>
                    </a:lnTo>
                    <a:lnTo>
                      <a:pt x="1098" y="367"/>
                    </a:lnTo>
                    <a:lnTo>
                      <a:pt x="1105" y="361"/>
                    </a:lnTo>
                    <a:lnTo>
                      <a:pt x="1112" y="356"/>
                    </a:lnTo>
                    <a:lnTo>
                      <a:pt x="1119" y="350"/>
                    </a:lnTo>
                    <a:lnTo>
                      <a:pt x="1125" y="344"/>
                    </a:lnTo>
                    <a:lnTo>
                      <a:pt x="1130" y="337"/>
                    </a:lnTo>
                    <a:lnTo>
                      <a:pt x="1134" y="330"/>
                    </a:lnTo>
                    <a:lnTo>
                      <a:pt x="1135" y="326"/>
                    </a:lnTo>
                    <a:lnTo>
                      <a:pt x="1136" y="323"/>
                    </a:lnTo>
                    <a:lnTo>
                      <a:pt x="1136" y="319"/>
                    </a:lnTo>
                    <a:lnTo>
                      <a:pt x="1135" y="315"/>
                    </a:lnTo>
                    <a:lnTo>
                      <a:pt x="1134" y="312"/>
                    </a:lnTo>
                    <a:lnTo>
                      <a:pt x="1131" y="308"/>
                    </a:lnTo>
                    <a:lnTo>
                      <a:pt x="1129" y="305"/>
                    </a:lnTo>
                    <a:lnTo>
                      <a:pt x="1126" y="302"/>
                    </a:lnTo>
                    <a:lnTo>
                      <a:pt x="1119" y="297"/>
                    </a:lnTo>
                    <a:lnTo>
                      <a:pt x="1111" y="294"/>
                    </a:lnTo>
                    <a:lnTo>
                      <a:pt x="1101" y="291"/>
                    </a:lnTo>
                    <a:lnTo>
                      <a:pt x="1093" y="289"/>
                    </a:lnTo>
                    <a:lnTo>
                      <a:pt x="1083" y="287"/>
                    </a:lnTo>
                    <a:lnTo>
                      <a:pt x="1075" y="283"/>
                    </a:lnTo>
                    <a:lnTo>
                      <a:pt x="1065" y="279"/>
                    </a:lnTo>
                    <a:lnTo>
                      <a:pt x="1056" y="276"/>
                    </a:lnTo>
                    <a:lnTo>
                      <a:pt x="1045" y="272"/>
                    </a:lnTo>
                    <a:lnTo>
                      <a:pt x="1035" y="270"/>
                    </a:lnTo>
                    <a:lnTo>
                      <a:pt x="1024" y="266"/>
                    </a:lnTo>
                    <a:lnTo>
                      <a:pt x="1015" y="264"/>
                    </a:lnTo>
                    <a:lnTo>
                      <a:pt x="1005" y="260"/>
                    </a:lnTo>
                    <a:lnTo>
                      <a:pt x="996" y="255"/>
                    </a:lnTo>
                    <a:lnTo>
                      <a:pt x="990" y="252"/>
                    </a:lnTo>
                    <a:lnTo>
                      <a:pt x="984" y="248"/>
                    </a:lnTo>
                    <a:lnTo>
                      <a:pt x="978" y="243"/>
                    </a:lnTo>
                    <a:lnTo>
                      <a:pt x="973" y="239"/>
                    </a:lnTo>
                    <a:lnTo>
                      <a:pt x="968" y="234"/>
                    </a:lnTo>
                    <a:lnTo>
                      <a:pt x="963" y="229"/>
                    </a:lnTo>
                    <a:lnTo>
                      <a:pt x="958" y="223"/>
                    </a:lnTo>
                    <a:lnTo>
                      <a:pt x="954" y="218"/>
                    </a:lnTo>
                    <a:lnTo>
                      <a:pt x="950" y="212"/>
                    </a:lnTo>
                    <a:lnTo>
                      <a:pt x="946" y="206"/>
                    </a:lnTo>
                    <a:lnTo>
                      <a:pt x="943" y="200"/>
                    </a:lnTo>
                    <a:lnTo>
                      <a:pt x="939" y="193"/>
                    </a:lnTo>
                    <a:lnTo>
                      <a:pt x="937" y="187"/>
                    </a:lnTo>
                    <a:lnTo>
                      <a:pt x="934" y="180"/>
                    </a:lnTo>
                    <a:lnTo>
                      <a:pt x="932" y="174"/>
                    </a:lnTo>
                    <a:lnTo>
                      <a:pt x="931" y="167"/>
                    </a:lnTo>
                    <a:lnTo>
                      <a:pt x="930" y="162"/>
                    </a:lnTo>
                    <a:lnTo>
                      <a:pt x="928" y="157"/>
                    </a:lnTo>
                    <a:lnTo>
                      <a:pt x="928" y="152"/>
                    </a:lnTo>
                    <a:lnTo>
                      <a:pt x="928" y="146"/>
                    </a:lnTo>
                    <a:lnTo>
                      <a:pt x="930" y="141"/>
                    </a:lnTo>
                    <a:lnTo>
                      <a:pt x="931" y="138"/>
                    </a:lnTo>
                    <a:lnTo>
                      <a:pt x="932" y="133"/>
                    </a:lnTo>
                    <a:lnTo>
                      <a:pt x="936" y="129"/>
                    </a:lnTo>
                    <a:lnTo>
                      <a:pt x="940" y="126"/>
                    </a:lnTo>
                    <a:lnTo>
                      <a:pt x="945" y="123"/>
                    </a:lnTo>
                    <a:lnTo>
                      <a:pt x="951" y="122"/>
                    </a:lnTo>
                    <a:lnTo>
                      <a:pt x="957" y="121"/>
                    </a:lnTo>
                    <a:lnTo>
                      <a:pt x="963" y="120"/>
                    </a:lnTo>
                    <a:lnTo>
                      <a:pt x="969" y="120"/>
                    </a:lnTo>
                    <a:lnTo>
                      <a:pt x="975" y="120"/>
                    </a:lnTo>
                    <a:lnTo>
                      <a:pt x="981" y="120"/>
                    </a:lnTo>
                    <a:lnTo>
                      <a:pt x="990" y="121"/>
                    </a:lnTo>
                    <a:lnTo>
                      <a:pt x="997" y="123"/>
                    </a:lnTo>
                    <a:lnTo>
                      <a:pt x="1005" y="126"/>
                    </a:lnTo>
                    <a:lnTo>
                      <a:pt x="1012" y="128"/>
                    </a:lnTo>
                    <a:lnTo>
                      <a:pt x="1020" y="132"/>
                    </a:lnTo>
                    <a:lnTo>
                      <a:pt x="1027" y="134"/>
                    </a:lnTo>
                    <a:lnTo>
                      <a:pt x="1034" y="137"/>
                    </a:lnTo>
                    <a:lnTo>
                      <a:pt x="1042" y="139"/>
                    </a:lnTo>
                    <a:lnTo>
                      <a:pt x="1052" y="140"/>
                    </a:lnTo>
                    <a:lnTo>
                      <a:pt x="1060" y="143"/>
                    </a:lnTo>
                    <a:lnTo>
                      <a:pt x="1070" y="144"/>
                    </a:lnTo>
                    <a:lnTo>
                      <a:pt x="1080" y="145"/>
                    </a:lnTo>
                    <a:lnTo>
                      <a:pt x="1088" y="146"/>
                    </a:lnTo>
                    <a:lnTo>
                      <a:pt x="1098" y="147"/>
                    </a:lnTo>
                    <a:lnTo>
                      <a:pt x="1107" y="147"/>
                    </a:lnTo>
                    <a:lnTo>
                      <a:pt x="1117" y="149"/>
                    </a:lnTo>
                    <a:lnTo>
                      <a:pt x="1128" y="149"/>
                    </a:lnTo>
                    <a:lnTo>
                      <a:pt x="1137" y="149"/>
                    </a:lnTo>
                    <a:lnTo>
                      <a:pt x="1148" y="149"/>
                    </a:lnTo>
                    <a:lnTo>
                      <a:pt x="1159" y="149"/>
                    </a:lnTo>
                    <a:lnTo>
                      <a:pt x="1168" y="149"/>
                    </a:lnTo>
                    <a:lnTo>
                      <a:pt x="1179" y="149"/>
                    </a:lnTo>
                    <a:lnTo>
                      <a:pt x="1190" y="149"/>
                    </a:lnTo>
                    <a:lnTo>
                      <a:pt x="1201" y="149"/>
                    </a:lnTo>
                    <a:lnTo>
                      <a:pt x="1207" y="147"/>
                    </a:lnTo>
                    <a:lnTo>
                      <a:pt x="1214" y="146"/>
                    </a:lnTo>
                    <a:lnTo>
                      <a:pt x="1221" y="145"/>
                    </a:lnTo>
                    <a:lnTo>
                      <a:pt x="1228" y="144"/>
                    </a:lnTo>
                    <a:lnTo>
                      <a:pt x="1236" y="144"/>
                    </a:lnTo>
                    <a:lnTo>
                      <a:pt x="1243" y="143"/>
                    </a:lnTo>
                    <a:lnTo>
                      <a:pt x="1249" y="143"/>
                    </a:lnTo>
                    <a:lnTo>
                      <a:pt x="1256" y="144"/>
                    </a:lnTo>
                    <a:lnTo>
                      <a:pt x="1262" y="145"/>
                    </a:lnTo>
                    <a:lnTo>
                      <a:pt x="1268" y="146"/>
                    </a:lnTo>
                    <a:lnTo>
                      <a:pt x="1274" y="149"/>
                    </a:lnTo>
                    <a:lnTo>
                      <a:pt x="1279" y="152"/>
                    </a:lnTo>
                    <a:lnTo>
                      <a:pt x="1285" y="155"/>
                    </a:lnTo>
                    <a:lnTo>
                      <a:pt x="1290" y="158"/>
                    </a:lnTo>
                    <a:lnTo>
                      <a:pt x="1294" y="162"/>
                    </a:lnTo>
                    <a:lnTo>
                      <a:pt x="1298" y="167"/>
                    </a:lnTo>
                    <a:lnTo>
                      <a:pt x="1302" y="171"/>
                    </a:lnTo>
                    <a:lnTo>
                      <a:pt x="1304" y="177"/>
                    </a:lnTo>
                    <a:lnTo>
                      <a:pt x="1306" y="183"/>
                    </a:lnTo>
                    <a:lnTo>
                      <a:pt x="1308" y="189"/>
                    </a:lnTo>
                    <a:lnTo>
                      <a:pt x="1309" y="195"/>
                    </a:lnTo>
                    <a:lnTo>
                      <a:pt x="1310" y="201"/>
                    </a:lnTo>
                    <a:lnTo>
                      <a:pt x="1311" y="207"/>
                    </a:lnTo>
                    <a:lnTo>
                      <a:pt x="1312" y="213"/>
                    </a:lnTo>
                    <a:lnTo>
                      <a:pt x="1316" y="229"/>
                    </a:lnTo>
                    <a:lnTo>
                      <a:pt x="1320" y="245"/>
                    </a:lnTo>
                    <a:lnTo>
                      <a:pt x="1323" y="260"/>
                    </a:lnTo>
                    <a:lnTo>
                      <a:pt x="1327" y="276"/>
                    </a:lnTo>
                    <a:lnTo>
                      <a:pt x="1330" y="291"/>
                    </a:lnTo>
                    <a:lnTo>
                      <a:pt x="1334" y="307"/>
                    </a:lnTo>
                    <a:lnTo>
                      <a:pt x="1338" y="323"/>
                    </a:lnTo>
                    <a:lnTo>
                      <a:pt x="1340" y="338"/>
                    </a:lnTo>
                    <a:lnTo>
                      <a:pt x="1341" y="353"/>
                    </a:lnTo>
                    <a:lnTo>
                      <a:pt x="1342" y="368"/>
                    </a:lnTo>
                    <a:lnTo>
                      <a:pt x="1344" y="383"/>
                    </a:lnTo>
                    <a:lnTo>
                      <a:pt x="1344" y="397"/>
                    </a:lnTo>
                    <a:lnTo>
                      <a:pt x="1344" y="411"/>
                    </a:lnTo>
                    <a:lnTo>
                      <a:pt x="1345" y="426"/>
                    </a:lnTo>
                    <a:lnTo>
                      <a:pt x="1346" y="440"/>
                    </a:lnTo>
                    <a:lnTo>
                      <a:pt x="1350" y="454"/>
                    </a:lnTo>
                    <a:lnTo>
                      <a:pt x="1351" y="464"/>
                    </a:lnTo>
                    <a:lnTo>
                      <a:pt x="1354" y="474"/>
                    </a:lnTo>
                    <a:lnTo>
                      <a:pt x="1357" y="483"/>
                    </a:lnTo>
                    <a:lnTo>
                      <a:pt x="1360" y="493"/>
                    </a:lnTo>
                    <a:lnTo>
                      <a:pt x="1365" y="501"/>
                    </a:lnTo>
                    <a:lnTo>
                      <a:pt x="1370" y="510"/>
                    </a:lnTo>
                    <a:lnTo>
                      <a:pt x="1375" y="517"/>
                    </a:lnTo>
                    <a:lnTo>
                      <a:pt x="1382" y="524"/>
                    </a:lnTo>
                    <a:lnTo>
                      <a:pt x="1387" y="528"/>
                    </a:lnTo>
                    <a:lnTo>
                      <a:pt x="1392" y="531"/>
                    </a:lnTo>
                    <a:lnTo>
                      <a:pt x="1398" y="532"/>
                    </a:lnTo>
                    <a:lnTo>
                      <a:pt x="1405" y="534"/>
                    </a:lnTo>
                    <a:lnTo>
                      <a:pt x="1411" y="534"/>
                    </a:lnTo>
                    <a:lnTo>
                      <a:pt x="1417" y="534"/>
                    </a:lnTo>
                    <a:lnTo>
                      <a:pt x="1423" y="531"/>
                    </a:lnTo>
                    <a:lnTo>
                      <a:pt x="1429" y="529"/>
                    </a:lnTo>
                    <a:lnTo>
                      <a:pt x="1438" y="520"/>
                    </a:lnTo>
                    <a:lnTo>
                      <a:pt x="1449" y="511"/>
                    </a:lnTo>
                    <a:lnTo>
                      <a:pt x="1458" y="501"/>
                    </a:lnTo>
                    <a:lnTo>
                      <a:pt x="1466" y="490"/>
                    </a:lnTo>
                    <a:lnTo>
                      <a:pt x="1474" y="480"/>
                    </a:lnTo>
                    <a:lnTo>
                      <a:pt x="1482" y="468"/>
                    </a:lnTo>
                    <a:lnTo>
                      <a:pt x="1490" y="457"/>
                    </a:lnTo>
                    <a:lnTo>
                      <a:pt x="1498" y="445"/>
                    </a:lnTo>
                    <a:lnTo>
                      <a:pt x="1508" y="432"/>
                    </a:lnTo>
                    <a:lnTo>
                      <a:pt x="1518" y="417"/>
                    </a:lnTo>
                    <a:lnTo>
                      <a:pt x="1527" y="404"/>
                    </a:lnTo>
                    <a:lnTo>
                      <a:pt x="1537" y="390"/>
                    </a:lnTo>
                    <a:lnTo>
                      <a:pt x="1546" y="375"/>
                    </a:lnTo>
                    <a:lnTo>
                      <a:pt x="1557" y="361"/>
                    </a:lnTo>
                    <a:lnTo>
                      <a:pt x="1567" y="348"/>
                    </a:lnTo>
                    <a:lnTo>
                      <a:pt x="1578" y="335"/>
                    </a:lnTo>
                    <a:lnTo>
                      <a:pt x="1585" y="324"/>
                    </a:lnTo>
                    <a:lnTo>
                      <a:pt x="1592" y="314"/>
                    </a:lnTo>
                    <a:lnTo>
                      <a:pt x="1600" y="305"/>
                    </a:lnTo>
                    <a:lnTo>
                      <a:pt x="1608" y="295"/>
                    </a:lnTo>
                    <a:lnTo>
                      <a:pt x="1616" y="285"/>
                    </a:lnTo>
                    <a:lnTo>
                      <a:pt x="1624" y="277"/>
                    </a:lnTo>
                    <a:lnTo>
                      <a:pt x="1633" y="269"/>
                    </a:lnTo>
                    <a:lnTo>
                      <a:pt x="1642" y="260"/>
                    </a:lnTo>
                    <a:lnTo>
                      <a:pt x="1647" y="255"/>
                    </a:lnTo>
                    <a:lnTo>
                      <a:pt x="1653" y="251"/>
                    </a:lnTo>
                    <a:lnTo>
                      <a:pt x="1659" y="246"/>
                    </a:lnTo>
                    <a:lnTo>
                      <a:pt x="1665" y="241"/>
                    </a:lnTo>
                    <a:lnTo>
                      <a:pt x="1671" y="237"/>
                    </a:lnTo>
                    <a:lnTo>
                      <a:pt x="1677" y="236"/>
                    </a:lnTo>
                    <a:lnTo>
                      <a:pt x="1680" y="236"/>
                    </a:lnTo>
                    <a:lnTo>
                      <a:pt x="1681" y="237"/>
                    </a:lnTo>
                    <a:lnTo>
                      <a:pt x="1683" y="239"/>
                    </a:lnTo>
                    <a:lnTo>
                      <a:pt x="1684" y="241"/>
                    </a:lnTo>
                    <a:lnTo>
                      <a:pt x="1688" y="258"/>
                    </a:lnTo>
                    <a:lnTo>
                      <a:pt x="1690" y="275"/>
                    </a:lnTo>
                    <a:lnTo>
                      <a:pt x="1692" y="291"/>
                    </a:lnTo>
                    <a:lnTo>
                      <a:pt x="1692" y="308"/>
                    </a:lnTo>
                    <a:lnTo>
                      <a:pt x="1689" y="325"/>
                    </a:lnTo>
                    <a:lnTo>
                      <a:pt x="1687" y="343"/>
                    </a:lnTo>
                    <a:lnTo>
                      <a:pt x="1683" y="360"/>
                    </a:lnTo>
                    <a:lnTo>
                      <a:pt x="1680" y="375"/>
                    </a:lnTo>
                    <a:lnTo>
                      <a:pt x="1671" y="404"/>
                    </a:lnTo>
                    <a:lnTo>
                      <a:pt x="1660" y="433"/>
                    </a:lnTo>
                    <a:lnTo>
                      <a:pt x="1650" y="462"/>
                    </a:lnTo>
                    <a:lnTo>
                      <a:pt x="1638" y="489"/>
                    </a:lnTo>
                    <a:lnTo>
                      <a:pt x="1626" y="517"/>
                    </a:lnTo>
                    <a:lnTo>
                      <a:pt x="1612" y="544"/>
                    </a:lnTo>
                    <a:lnTo>
                      <a:pt x="1599" y="572"/>
                    </a:lnTo>
                    <a:lnTo>
                      <a:pt x="1586" y="598"/>
                    </a:lnTo>
                    <a:lnTo>
                      <a:pt x="1579" y="614"/>
                    </a:lnTo>
                    <a:lnTo>
                      <a:pt x="1572" y="630"/>
                    </a:lnTo>
                    <a:lnTo>
                      <a:pt x="1563" y="644"/>
                    </a:lnTo>
                    <a:lnTo>
                      <a:pt x="1555" y="658"/>
                    </a:lnTo>
                    <a:lnTo>
                      <a:pt x="1546" y="674"/>
                    </a:lnTo>
                    <a:lnTo>
                      <a:pt x="1537" y="687"/>
                    </a:lnTo>
                    <a:lnTo>
                      <a:pt x="1527" y="702"/>
                    </a:lnTo>
                    <a:lnTo>
                      <a:pt x="1516" y="715"/>
                    </a:lnTo>
                    <a:lnTo>
                      <a:pt x="1509" y="723"/>
                    </a:lnTo>
                    <a:lnTo>
                      <a:pt x="1501" y="730"/>
                    </a:lnTo>
                    <a:lnTo>
                      <a:pt x="1492" y="738"/>
                    </a:lnTo>
                    <a:lnTo>
                      <a:pt x="1483" y="744"/>
                    </a:lnTo>
                    <a:lnTo>
                      <a:pt x="1473" y="751"/>
                    </a:lnTo>
                    <a:lnTo>
                      <a:pt x="1465" y="757"/>
                    </a:lnTo>
                    <a:lnTo>
                      <a:pt x="1455" y="764"/>
                    </a:lnTo>
                    <a:lnTo>
                      <a:pt x="1447" y="770"/>
                    </a:lnTo>
                    <a:lnTo>
                      <a:pt x="1443" y="774"/>
                    </a:lnTo>
                    <a:lnTo>
                      <a:pt x="1438" y="777"/>
                    </a:lnTo>
                    <a:lnTo>
                      <a:pt x="1434" y="782"/>
                    </a:lnTo>
                    <a:lnTo>
                      <a:pt x="1430" y="786"/>
                    </a:lnTo>
                    <a:lnTo>
                      <a:pt x="1426" y="789"/>
                    </a:lnTo>
                    <a:lnTo>
                      <a:pt x="1423" y="794"/>
                    </a:lnTo>
                    <a:lnTo>
                      <a:pt x="1420" y="798"/>
                    </a:lnTo>
                    <a:lnTo>
                      <a:pt x="1419" y="804"/>
                    </a:lnTo>
                    <a:lnTo>
                      <a:pt x="1418" y="810"/>
                    </a:lnTo>
                    <a:lnTo>
                      <a:pt x="1417" y="816"/>
                    </a:lnTo>
                    <a:lnTo>
                      <a:pt x="1417" y="823"/>
                    </a:lnTo>
                    <a:lnTo>
                      <a:pt x="1417" y="829"/>
                    </a:lnTo>
                    <a:lnTo>
                      <a:pt x="1418" y="835"/>
                    </a:lnTo>
                    <a:lnTo>
                      <a:pt x="1420" y="841"/>
                    </a:lnTo>
                    <a:lnTo>
                      <a:pt x="1424" y="846"/>
                    </a:lnTo>
                    <a:lnTo>
                      <a:pt x="1429" y="849"/>
                    </a:lnTo>
                    <a:lnTo>
                      <a:pt x="1437" y="855"/>
                    </a:lnTo>
                    <a:lnTo>
                      <a:pt x="1447" y="859"/>
                    </a:lnTo>
                    <a:lnTo>
                      <a:pt x="1458" y="862"/>
                    </a:lnTo>
                    <a:lnTo>
                      <a:pt x="1468" y="864"/>
                    </a:lnTo>
                    <a:lnTo>
                      <a:pt x="1479" y="865"/>
                    </a:lnTo>
                    <a:lnTo>
                      <a:pt x="1490" y="866"/>
                    </a:lnTo>
                    <a:lnTo>
                      <a:pt x="1501" y="865"/>
                    </a:lnTo>
                    <a:lnTo>
                      <a:pt x="1512" y="864"/>
                    </a:lnTo>
                    <a:lnTo>
                      <a:pt x="1524" y="861"/>
                    </a:lnTo>
                    <a:lnTo>
                      <a:pt x="1534" y="858"/>
                    </a:lnTo>
                    <a:lnTo>
                      <a:pt x="1546" y="854"/>
                    </a:lnTo>
                    <a:lnTo>
                      <a:pt x="1557" y="849"/>
                    </a:lnTo>
                    <a:lnTo>
                      <a:pt x="1568" y="843"/>
                    </a:lnTo>
                    <a:lnTo>
                      <a:pt x="1578" y="837"/>
                    </a:lnTo>
                    <a:lnTo>
                      <a:pt x="1587" y="830"/>
                    </a:lnTo>
                    <a:lnTo>
                      <a:pt x="1596" y="822"/>
                    </a:lnTo>
                    <a:lnTo>
                      <a:pt x="1610" y="805"/>
                    </a:lnTo>
                    <a:lnTo>
                      <a:pt x="1622" y="787"/>
                    </a:lnTo>
                    <a:lnTo>
                      <a:pt x="1633" y="768"/>
                    </a:lnTo>
                    <a:lnTo>
                      <a:pt x="1644" y="748"/>
                    </a:lnTo>
                    <a:lnTo>
                      <a:pt x="1654" y="729"/>
                    </a:lnTo>
                    <a:lnTo>
                      <a:pt x="1664" y="710"/>
                    </a:lnTo>
                    <a:lnTo>
                      <a:pt x="1676" y="691"/>
                    </a:lnTo>
                    <a:lnTo>
                      <a:pt x="1689" y="673"/>
                    </a:lnTo>
                    <a:lnTo>
                      <a:pt x="1699" y="661"/>
                    </a:lnTo>
                    <a:lnTo>
                      <a:pt x="1708" y="650"/>
                    </a:lnTo>
                    <a:lnTo>
                      <a:pt x="1719" y="639"/>
                    </a:lnTo>
                    <a:lnTo>
                      <a:pt x="1730" y="628"/>
                    </a:lnTo>
                    <a:lnTo>
                      <a:pt x="1741" y="618"/>
                    </a:lnTo>
                    <a:lnTo>
                      <a:pt x="1753" y="608"/>
                    </a:lnTo>
                    <a:lnTo>
                      <a:pt x="1765" y="598"/>
                    </a:lnTo>
                    <a:lnTo>
                      <a:pt x="1777" y="589"/>
                    </a:lnTo>
                    <a:lnTo>
                      <a:pt x="1785" y="584"/>
                    </a:lnTo>
                    <a:lnTo>
                      <a:pt x="1792" y="578"/>
                    </a:lnTo>
                    <a:lnTo>
                      <a:pt x="1802" y="573"/>
                    </a:lnTo>
                    <a:lnTo>
                      <a:pt x="1810" y="570"/>
                    </a:lnTo>
                    <a:lnTo>
                      <a:pt x="1819" y="565"/>
                    </a:lnTo>
                    <a:lnTo>
                      <a:pt x="1828" y="562"/>
                    </a:lnTo>
                    <a:lnTo>
                      <a:pt x="1837" y="561"/>
                    </a:lnTo>
                    <a:lnTo>
                      <a:pt x="1846" y="561"/>
                    </a:lnTo>
                    <a:lnTo>
                      <a:pt x="1856" y="564"/>
                    </a:lnTo>
                    <a:lnTo>
                      <a:pt x="1864" y="567"/>
                    </a:lnTo>
                    <a:lnTo>
                      <a:pt x="1872" y="571"/>
                    </a:lnTo>
                    <a:lnTo>
                      <a:pt x="1880" y="577"/>
                    </a:lnTo>
                    <a:lnTo>
                      <a:pt x="1887" y="583"/>
                    </a:lnTo>
                    <a:lnTo>
                      <a:pt x="1894" y="590"/>
                    </a:lnTo>
                    <a:lnTo>
                      <a:pt x="1900" y="596"/>
                    </a:lnTo>
                    <a:lnTo>
                      <a:pt x="1908" y="603"/>
                    </a:lnTo>
                    <a:lnTo>
                      <a:pt x="1914" y="610"/>
                    </a:lnTo>
                    <a:lnTo>
                      <a:pt x="1920" y="619"/>
                    </a:lnTo>
                    <a:lnTo>
                      <a:pt x="1924" y="626"/>
                    </a:lnTo>
                    <a:lnTo>
                      <a:pt x="1929" y="634"/>
                    </a:lnTo>
                    <a:lnTo>
                      <a:pt x="1935" y="643"/>
                    </a:lnTo>
                    <a:lnTo>
                      <a:pt x="1939" y="651"/>
                    </a:lnTo>
                    <a:lnTo>
                      <a:pt x="1944" y="660"/>
                    </a:lnTo>
                    <a:lnTo>
                      <a:pt x="1950" y="668"/>
                    </a:lnTo>
                    <a:lnTo>
                      <a:pt x="1957" y="680"/>
                    </a:lnTo>
                    <a:lnTo>
                      <a:pt x="1964" y="692"/>
                    </a:lnTo>
                    <a:lnTo>
                      <a:pt x="1971" y="704"/>
                    </a:lnTo>
                    <a:lnTo>
                      <a:pt x="1978" y="716"/>
                    </a:lnTo>
                    <a:lnTo>
                      <a:pt x="1986" y="728"/>
                    </a:lnTo>
                    <a:lnTo>
                      <a:pt x="1993" y="740"/>
                    </a:lnTo>
                    <a:lnTo>
                      <a:pt x="1999" y="753"/>
                    </a:lnTo>
                    <a:lnTo>
                      <a:pt x="2005" y="766"/>
                    </a:lnTo>
                    <a:lnTo>
                      <a:pt x="2007" y="774"/>
                    </a:lnTo>
                    <a:lnTo>
                      <a:pt x="2011" y="782"/>
                    </a:lnTo>
                    <a:lnTo>
                      <a:pt x="2012" y="789"/>
                    </a:lnTo>
                    <a:lnTo>
                      <a:pt x="2014" y="798"/>
                    </a:lnTo>
                    <a:lnTo>
                      <a:pt x="2016" y="806"/>
                    </a:lnTo>
                    <a:lnTo>
                      <a:pt x="2016" y="814"/>
                    </a:lnTo>
                    <a:lnTo>
                      <a:pt x="2016" y="823"/>
                    </a:lnTo>
                    <a:lnTo>
                      <a:pt x="2014" y="831"/>
                    </a:lnTo>
                    <a:lnTo>
                      <a:pt x="2013" y="836"/>
                    </a:lnTo>
                    <a:lnTo>
                      <a:pt x="2011" y="842"/>
                    </a:lnTo>
                    <a:lnTo>
                      <a:pt x="2008" y="847"/>
                    </a:lnTo>
                    <a:lnTo>
                      <a:pt x="2005" y="853"/>
                    </a:lnTo>
                    <a:lnTo>
                      <a:pt x="2000" y="856"/>
                    </a:lnTo>
                    <a:lnTo>
                      <a:pt x="1996" y="860"/>
                    </a:lnTo>
                    <a:lnTo>
                      <a:pt x="1992" y="862"/>
                    </a:lnTo>
                    <a:lnTo>
                      <a:pt x="1987" y="864"/>
                    </a:lnTo>
                    <a:lnTo>
                      <a:pt x="1978" y="864"/>
                    </a:lnTo>
                    <a:lnTo>
                      <a:pt x="1970" y="861"/>
                    </a:lnTo>
                    <a:lnTo>
                      <a:pt x="1962" y="859"/>
                    </a:lnTo>
                    <a:lnTo>
                      <a:pt x="1953" y="855"/>
                    </a:lnTo>
                    <a:lnTo>
                      <a:pt x="1946" y="852"/>
                    </a:lnTo>
                    <a:lnTo>
                      <a:pt x="1939" y="847"/>
                    </a:lnTo>
                    <a:lnTo>
                      <a:pt x="1932" y="841"/>
                    </a:lnTo>
                    <a:lnTo>
                      <a:pt x="1926" y="836"/>
                    </a:lnTo>
                    <a:lnTo>
                      <a:pt x="1917" y="828"/>
                    </a:lnTo>
                    <a:lnTo>
                      <a:pt x="1910" y="818"/>
                    </a:lnTo>
                    <a:lnTo>
                      <a:pt x="1903" y="808"/>
                    </a:lnTo>
                    <a:lnTo>
                      <a:pt x="1896" y="798"/>
                    </a:lnTo>
                    <a:lnTo>
                      <a:pt x="1890" y="787"/>
                    </a:lnTo>
                    <a:lnTo>
                      <a:pt x="1884" y="777"/>
                    </a:lnTo>
                    <a:lnTo>
                      <a:pt x="1876" y="766"/>
                    </a:lnTo>
                    <a:lnTo>
                      <a:pt x="1870" y="757"/>
                    </a:lnTo>
                    <a:lnTo>
                      <a:pt x="1866" y="751"/>
                    </a:lnTo>
                    <a:lnTo>
                      <a:pt x="1861" y="745"/>
                    </a:lnTo>
                    <a:lnTo>
                      <a:pt x="1857" y="738"/>
                    </a:lnTo>
                    <a:lnTo>
                      <a:pt x="1852" y="732"/>
                    </a:lnTo>
                    <a:lnTo>
                      <a:pt x="1849" y="726"/>
                    </a:lnTo>
                    <a:lnTo>
                      <a:pt x="1844" y="721"/>
                    </a:lnTo>
                    <a:lnTo>
                      <a:pt x="1838" y="715"/>
                    </a:lnTo>
                    <a:lnTo>
                      <a:pt x="1833" y="710"/>
                    </a:lnTo>
                    <a:lnTo>
                      <a:pt x="1830" y="709"/>
                    </a:lnTo>
                    <a:lnTo>
                      <a:pt x="1827" y="708"/>
                    </a:lnTo>
                    <a:lnTo>
                      <a:pt x="1824" y="706"/>
                    </a:lnTo>
                    <a:lnTo>
                      <a:pt x="1820" y="706"/>
                    </a:lnTo>
                    <a:lnTo>
                      <a:pt x="1818" y="706"/>
                    </a:lnTo>
                    <a:lnTo>
                      <a:pt x="1814" y="706"/>
                    </a:lnTo>
                    <a:lnTo>
                      <a:pt x="1812" y="709"/>
                    </a:lnTo>
                    <a:lnTo>
                      <a:pt x="1809" y="710"/>
                    </a:lnTo>
                    <a:lnTo>
                      <a:pt x="1801" y="723"/>
                    </a:lnTo>
                    <a:lnTo>
                      <a:pt x="1794" y="735"/>
                    </a:lnTo>
                    <a:lnTo>
                      <a:pt x="1786" y="750"/>
                    </a:lnTo>
                    <a:lnTo>
                      <a:pt x="1780" y="763"/>
                    </a:lnTo>
                    <a:lnTo>
                      <a:pt x="1774" y="777"/>
                    </a:lnTo>
                    <a:lnTo>
                      <a:pt x="1767" y="790"/>
                    </a:lnTo>
                    <a:lnTo>
                      <a:pt x="1761" y="804"/>
                    </a:lnTo>
                    <a:lnTo>
                      <a:pt x="1754" y="817"/>
                    </a:lnTo>
                    <a:lnTo>
                      <a:pt x="1746" y="830"/>
                    </a:lnTo>
                    <a:lnTo>
                      <a:pt x="1737" y="843"/>
                    </a:lnTo>
                    <a:lnTo>
                      <a:pt x="1729" y="856"/>
                    </a:lnTo>
                    <a:lnTo>
                      <a:pt x="1720" y="870"/>
                    </a:lnTo>
                    <a:lnTo>
                      <a:pt x="1712" y="883"/>
                    </a:lnTo>
                    <a:lnTo>
                      <a:pt x="1704" y="895"/>
                    </a:lnTo>
                    <a:lnTo>
                      <a:pt x="1694" y="907"/>
                    </a:lnTo>
                    <a:lnTo>
                      <a:pt x="1684" y="919"/>
                    </a:lnTo>
                    <a:lnTo>
                      <a:pt x="1675" y="930"/>
                    </a:lnTo>
                    <a:lnTo>
                      <a:pt x="1665" y="940"/>
                    </a:lnTo>
                    <a:lnTo>
                      <a:pt x="1654" y="951"/>
                    </a:lnTo>
                    <a:lnTo>
                      <a:pt x="1644" y="961"/>
                    </a:lnTo>
                    <a:lnTo>
                      <a:pt x="1634" y="970"/>
                    </a:lnTo>
                    <a:lnTo>
                      <a:pt x="1622" y="980"/>
                    </a:lnTo>
                    <a:lnTo>
                      <a:pt x="1611" y="990"/>
                    </a:lnTo>
                    <a:lnTo>
                      <a:pt x="1600" y="998"/>
                    </a:lnTo>
                    <a:lnTo>
                      <a:pt x="1592" y="1004"/>
                    </a:lnTo>
                    <a:lnTo>
                      <a:pt x="1584" y="1010"/>
                    </a:lnTo>
                    <a:lnTo>
                      <a:pt x="1575" y="1016"/>
                    </a:lnTo>
                    <a:lnTo>
                      <a:pt x="1567" y="1022"/>
                    </a:lnTo>
                    <a:lnTo>
                      <a:pt x="1558" y="1027"/>
                    </a:lnTo>
                    <a:lnTo>
                      <a:pt x="1549" y="1032"/>
                    </a:lnTo>
                    <a:lnTo>
                      <a:pt x="1540" y="1036"/>
                    </a:lnTo>
                    <a:lnTo>
                      <a:pt x="1531" y="1040"/>
                    </a:lnTo>
                    <a:lnTo>
                      <a:pt x="1522" y="1042"/>
                    </a:lnTo>
                    <a:lnTo>
                      <a:pt x="1514" y="1045"/>
                    </a:lnTo>
                    <a:lnTo>
                      <a:pt x="1504" y="1047"/>
                    </a:lnTo>
                    <a:lnTo>
                      <a:pt x="1496" y="1048"/>
                    </a:lnTo>
                    <a:lnTo>
                      <a:pt x="1488" y="1048"/>
                    </a:lnTo>
                    <a:lnTo>
                      <a:pt x="1478" y="1051"/>
                    </a:lnTo>
                    <a:lnTo>
                      <a:pt x="1470" y="1052"/>
                    </a:lnTo>
                    <a:lnTo>
                      <a:pt x="1461" y="1054"/>
                    </a:lnTo>
                    <a:lnTo>
                      <a:pt x="1455" y="1056"/>
                    </a:lnTo>
                    <a:lnTo>
                      <a:pt x="1449" y="1057"/>
                    </a:lnTo>
                    <a:lnTo>
                      <a:pt x="1443" y="1058"/>
                    </a:lnTo>
                    <a:lnTo>
                      <a:pt x="1437" y="1060"/>
                    </a:lnTo>
                    <a:lnTo>
                      <a:pt x="1431" y="1062"/>
                    </a:lnTo>
                    <a:lnTo>
                      <a:pt x="1426" y="1065"/>
                    </a:lnTo>
                    <a:lnTo>
                      <a:pt x="1422" y="1068"/>
                    </a:lnTo>
                    <a:lnTo>
                      <a:pt x="1419" y="1072"/>
                    </a:lnTo>
                    <a:lnTo>
                      <a:pt x="1418" y="1077"/>
                    </a:lnTo>
                    <a:lnTo>
                      <a:pt x="1418" y="1081"/>
                    </a:lnTo>
                    <a:lnTo>
                      <a:pt x="1419" y="1086"/>
                    </a:lnTo>
                    <a:lnTo>
                      <a:pt x="1420" y="1089"/>
                    </a:lnTo>
                    <a:lnTo>
                      <a:pt x="1423" y="1094"/>
                    </a:lnTo>
                    <a:lnTo>
                      <a:pt x="1426" y="1098"/>
                    </a:lnTo>
                    <a:lnTo>
                      <a:pt x="1430" y="1101"/>
                    </a:lnTo>
                    <a:lnTo>
                      <a:pt x="1432" y="1105"/>
                    </a:lnTo>
                    <a:lnTo>
                      <a:pt x="1441" y="1112"/>
                    </a:lnTo>
                    <a:lnTo>
                      <a:pt x="1448" y="1118"/>
                    </a:lnTo>
                    <a:lnTo>
                      <a:pt x="1458" y="1123"/>
                    </a:lnTo>
                    <a:lnTo>
                      <a:pt x="1466" y="1128"/>
                    </a:lnTo>
                    <a:lnTo>
                      <a:pt x="1474" y="1132"/>
                    </a:lnTo>
                    <a:lnTo>
                      <a:pt x="1483" y="1138"/>
                    </a:lnTo>
                    <a:lnTo>
                      <a:pt x="1491" y="1144"/>
                    </a:lnTo>
                    <a:lnTo>
                      <a:pt x="1498" y="1152"/>
                    </a:lnTo>
                    <a:lnTo>
                      <a:pt x="1504" y="1161"/>
                    </a:lnTo>
                    <a:lnTo>
                      <a:pt x="1510" y="1171"/>
                    </a:lnTo>
                    <a:lnTo>
                      <a:pt x="1516" y="1181"/>
                    </a:lnTo>
                    <a:lnTo>
                      <a:pt x="1521" y="1192"/>
                    </a:lnTo>
                    <a:lnTo>
                      <a:pt x="1526" y="1203"/>
                    </a:lnTo>
                    <a:lnTo>
                      <a:pt x="1531" y="1214"/>
                    </a:lnTo>
                    <a:lnTo>
                      <a:pt x="1534" y="1225"/>
                    </a:lnTo>
                    <a:lnTo>
                      <a:pt x="1540" y="1235"/>
                    </a:lnTo>
                    <a:lnTo>
                      <a:pt x="1546" y="1250"/>
                    </a:lnTo>
                    <a:lnTo>
                      <a:pt x="1552" y="1265"/>
                    </a:lnTo>
                    <a:lnTo>
                      <a:pt x="1558" y="1281"/>
                    </a:lnTo>
                    <a:lnTo>
                      <a:pt x="1563" y="1295"/>
                    </a:lnTo>
                    <a:lnTo>
                      <a:pt x="1570" y="1311"/>
                    </a:lnTo>
                    <a:lnTo>
                      <a:pt x="1578" y="1325"/>
                    </a:lnTo>
                    <a:lnTo>
                      <a:pt x="1586" y="1339"/>
                    </a:lnTo>
                    <a:lnTo>
                      <a:pt x="1596" y="1351"/>
                    </a:lnTo>
                    <a:lnTo>
                      <a:pt x="1609" y="1363"/>
                    </a:lnTo>
                    <a:lnTo>
                      <a:pt x="1622" y="1373"/>
                    </a:lnTo>
                    <a:lnTo>
                      <a:pt x="1636" y="1383"/>
                    </a:lnTo>
                    <a:lnTo>
                      <a:pt x="1652" y="1391"/>
                    </a:lnTo>
                    <a:lnTo>
                      <a:pt x="1669" y="1399"/>
                    </a:lnTo>
                    <a:lnTo>
                      <a:pt x="1684" y="1406"/>
                    </a:lnTo>
                    <a:lnTo>
                      <a:pt x="1701" y="1413"/>
                    </a:lnTo>
                    <a:lnTo>
                      <a:pt x="1717" y="1421"/>
                    </a:lnTo>
                    <a:lnTo>
                      <a:pt x="1728" y="1426"/>
                    </a:lnTo>
                    <a:lnTo>
                      <a:pt x="1740" y="1431"/>
                    </a:lnTo>
                    <a:lnTo>
                      <a:pt x="1752" y="1435"/>
                    </a:lnTo>
                    <a:lnTo>
                      <a:pt x="1764" y="1438"/>
                    </a:lnTo>
                    <a:lnTo>
                      <a:pt x="1776" y="1443"/>
                    </a:lnTo>
                    <a:lnTo>
                      <a:pt x="1788" y="1447"/>
                    </a:lnTo>
                    <a:lnTo>
                      <a:pt x="1798" y="1453"/>
                    </a:lnTo>
                    <a:lnTo>
                      <a:pt x="1809" y="1459"/>
                    </a:lnTo>
                    <a:lnTo>
                      <a:pt x="1815" y="1461"/>
                    </a:lnTo>
                    <a:lnTo>
                      <a:pt x="1820" y="1465"/>
                    </a:lnTo>
                    <a:lnTo>
                      <a:pt x="1825" y="1469"/>
                    </a:lnTo>
                    <a:lnTo>
                      <a:pt x="1830" y="1474"/>
                    </a:lnTo>
                    <a:lnTo>
                      <a:pt x="1833" y="1479"/>
                    </a:lnTo>
                    <a:lnTo>
                      <a:pt x="1837" y="1484"/>
                    </a:lnTo>
                    <a:lnTo>
                      <a:pt x="1840" y="1490"/>
                    </a:lnTo>
                    <a:lnTo>
                      <a:pt x="1842" y="1495"/>
                    </a:lnTo>
                    <a:lnTo>
                      <a:pt x="1844" y="1503"/>
                    </a:lnTo>
                    <a:lnTo>
                      <a:pt x="1845" y="1510"/>
                    </a:lnTo>
                    <a:lnTo>
                      <a:pt x="1845" y="1519"/>
                    </a:lnTo>
                    <a:lnTo>
                      <a:pt x="1845" y="1527"/>
                    </a:lnTo>
                    <a:lnTo>
                      <a:pt x="1845" y="1535"/>
                    </a:lnTo>
                    <a:lnTo>
                      <a:pt x="1843" y="1541"/>
                    </a:lnTo>
                    <a:lnTo>
                      <a:pt x="1840" y="1545"/>
                    </a:lnTo>
                    <a:lnTo>
                      <a:pt x="1838" y="1547"/>
                    </a:lnTo>
                    <a:lnTo>
                      <a:pt x="1836" y="1550"/>
                    </a:lnTo>
                    <a:lnTo>
                      <a:pt x="1833" y="1551"/>
                    </a:lnTo>
                    <a:lnTo>
                      <a:pt x="1821" y="1555"/>
                    </a:lnTo>
                    <a:lnTo>
                      <a:pt x="1809" y="1555"/>
                    </a:lnTo>
                    <a:lnTo>
                      <a:pt x="1797" y="1555"/>
                    </a:lnTo>
                    <a:lnTo>
                      <a:pt x="1784" y="1552"/>
                    </a:lnTo>
                    <a:lnTo>
                      <a:pt x="1772" y="1549"/>
                    </a:lnTo>
                    <a:lnTo>
                      <a:pt x="1760" y="1545"/>
                    </a:lnTo>
                    <a:lnTo>
                      <a:pt x="1747" y="1540"/>
                    </a:lnTo>
                    <a:lnTo>
                      <a:pt x="1735" y="1537"/>
                    </a:lnTo>
                    <a:lnTo>
                      <a:pt x="1722" y="1533"/>
                    </a:lnTo>
                    <a:lnTo>
                      <a:pt x="1708" y="1528"/>
                    </a:lnTo>
                    <a:lnTo>
                      <a:pt x="1696" y="1523"/>
                    </a:lnTo>
                    <a:lnTo>
                      <a:pt x="1683" y="1517"/>
                    </a:lnTo>
                    <a:lnTo>
                      <a:pt x="1671" y="1513"/>
                    </a:lnTo>
                    <a:lnTo>
                      <a:pt x="1658" y="1507"/>
                    </a:lnTo>
                    <a:lnTo>
                      <a:pt x="1646" y="1501"/>
                    </a:lnTo>
                    <a:lnTo>
                      <a:pt x="1633" y="1495"/>
                    </a:lnTo>
                    <a:lnTo>
                      <a:pt x="1617" y="1489"/>
                    </a:lnTo>
                    <a:lnTo>
                      <a:pt x="1602" y="1483"/>
                    </a:lnTo>
                    <a:lnTo>
                      <a:pt x="1586" y="1477"/>
                    </a:lnTo>
                    <a:lnTo>
                      <a:pt x="1570" y="1471"/>
                    </a:lnTo>
                    <a:lnTo>
                      <a:pt x="1555" y="1463"/>
                    </a:lnTo>
                    <a:lnTo>
                      <a:pt x="1540" y="1456"/>
                    </a:lnTo>
                    <a:lnTo>
                      <a:pt x="1526" y="1449"/>
                    </a:lnTo>
                    <a:lnTo>
                      <a:pt x="1512" y="1439"/>
                    </a:lnTo>
                    <a:lnTo>
                      <a:pt x="1502" y="1431"/>
                    </a:lnTo>
                    <a:lnTo>
                      <a:pt x="1492" y="1423"/>
                    </a:lnTo>
                    <a:lnTo>
                      <a:pt x="1483" y="1414"/>
                    </a:lnTo>
                    <a:lnTo>
                      <a:pt x="1474" y="1403"/>
                    </a:lnTo>
                    <a:lnTo>
                      <a:pt x="1467" y="1394"/>
                    </a:lnTo>
                    <a:lnTo>
                      <a:pt x="1460" y="1383"/>
                    </a:lnTo>
                    <a:lnTo>
                      <a:pt x="1453" y="1372"/>
                    </a:lnTo>
                    <a:lnTo>
                      <a:pt x="1447" y="1360"/>
                    </a:lnTo>
                    <a:lnTo>
                      <a:pt x="1443" y="1352"/>
                    </a:lnTo>
                    <a:lnTo>
                      <a:pt x="1442" y="1343"/>
                    </a:lnTo>
                    <a:lnTo>
                      <a:pt x="1441" y="1335"/>
                    </a:lnTo>
                    <a:lnTo>
                      <a:pt x="1441" y="1327"/>
                    </a:lnTo>
                    <a:lnTo>
                      <a:pt x="1441" y="1317"/>
                    </a:lnTo>
                    <a:lnTo>
                      <a:pt x="1441" y="1309"/>
                    </a:lnTo>
                    <a:lnTo>
                      <a:pt x="1440" y="1299"/>
                    </a:lnTo>
                    <a:lnTo>
                      <a:pt x="1437" y="1291"/>
                    </a:lnTo>
                    <a:lnTo>
                      <a:pt x="1435" y="1283"/>
                    </a:lnTo>
                    <a:lnTo>
                      <a:pt x="1432" y="1275"/>
                    </a:lnTo>
                    <a:lnTo>
                      <a:pt x="1429" y="1268"/>
                    </a:lnTo>
                    <a:lnTo>
                      <a:pt x="1425" y="1261"/>
                    </a:lnTo>
                    <a:lnTo>
                      <a:pt x="1420" y="1253"/>
                    </a:lnTo>
                    <a:lnTo>
                      <a:pt x="1416" y="1246"/>
                    </a:lnTo>
                    <a:lnTo>
                      <a:pt x="1411" y="1240"/>
                    </a:lnTo>
                    <a:lnTo>
                      <a:pt x="1405" y="1235"/>
                    </a:lnTo>
                    <a:lnTo>
                      <a:pt x="1401" y="1233"/>
                    </a:lnTo>
                    <a:lnTo>
                      <a:pt x="1396" y="1231"/>
                    </a:lnTo>
                    <a:lnTo>
                      <a:pt x="1392" y="1229"/>
                    </a:lnTo>
                    <a:lnTo>
                      <a:pt x="1386" y="1229"/>
                    </a:lnTo>
                    <a:lnTo>
                      <a:pt x="1381" y="1229"/>
                    </a:lnTo>
                    <a:lnTo>
                      <a:pt x="1376" y="1231"/>
                    </a:lnTo>
                    <a:lnTo>
                      <a:pt x="1371" y="1232"/>
                    </a:lnTo>
                    <a:lnTo>
                      <a:pt x="1368" y="1235"/>
                    </a:lnTo>
                    <a:lnTo>
                      <a:pt x="1363" y="1240"/>
                    </a:lnTo>
                    <a:lnTo>
                      <a:pt x="1359" y="1247"/>
                    </a:lnTo>
                    <a:lnTo>
                      <a:pt x="1357" y="1253"/>
                    </a:lnTo>
                    <a:lnTo>
                      <a:pt x="1354" y="1261"/>
                    </a:lnTo>
                    <a:lnTo>
                      <a:pt x="1352" y="1268"/>
                    </a:lnTo>
                    <a:lnTo>
                      <a:pt x="1351" y="1276"/>
                    </a:lnTo>
                    <a:lnTo>
                      <a:pt x="1350" y="1283"/>
                    </a:lnTo>
                    <a:lnTo>
                      <a:pt x="1350" y="1291"/>
                    </a:lnTo>
                    <a:lnTo>
                      <a:pt x="1348" y="1306"/>
                    </a:lnTo>
                    <a:lnTo>
                      <a:pt x="1347" y="1322"/>
                    </a:lnTo>
                    <a:lnTo>
                      <a:pt x="1347" y="1337"/>
                    </a:lnTo>
                    <a:lnTo>
                      <a:pt x="1347" y="1353"/>
                    </a:lnTo>
                    <a:lnTo>
                      <a:pt x="1347" y="1369"/>
                    </a:lnTo>
                    <a:lnTo>
                      <a:pt x="1348" y="1385"/>
                    </a:lnTo>
                    <a:lnTo>
                      <a:pt x="1348" y="1401"/>
                    </a:lnTo>
                    <a:lnTo>
                      <a:pt x="1350" y="1417"/>
                    </a:lnTo>
                    <a:lnTo>
                      <a:pt x="1350" y="1429"/>
                    </a:lnTo>
                    <a:lnTo>
                      <a:pt x="1351" y="1441"/>
                    </a:lnTo>
                    <a:lnTo>
                      <a:pt x="1352" y="1453"/>
                    </a:lnTo>
                    <a:lnTo>
                      <a:pt x="1353" y="1465"/>
                    </a:lnTo>
                    <a:lnTo>
                      <a:pt x="1354" y="1478"/>
                    </a:lnTo>
                    <a:lnTo>
                      <a:pt x="1356" y="1490"/>
                    </a:lnTo>
                    <a:lnTo>
                      <a:pt x="1354" y="1502"/>
                    </a:lnTo>
                    <a:lnTo>
                      <a:pt x="1354" y="1514"/>
                    </a:lnTo>
                    <a:lnTo>
                      <a:pt x="1352" y="1523"/>
                    </a:lnTo>
                    <a:lnTo>
                      <a:pt x="1350" y="1532"/>
                    </a:lnTo>
                    <a:lnTo>
                      <a:pt x="1346" y="1540"/>
                    </a:lnTo>
                    <a:lnTo>
                      <a:pt x="1342" y="1549"/>
                    </a:lnTo>
                    <a:lnTo>
                      <a:pt x="1338" y="1558"/>
                    </a:lnTo>
                    <a:lnTo>
                      <a:pt x="1334" y="1567"/>
                    </a:lnTo>
                    <a:lnTo>
                      <a:pt x="1329" y="1575"/>
                    </a:lnTo>
                    <a:lnTo>
                      <a:pt x="1326" y="1583"/>
                    </a:lnTo>
                    <a:lnTo>
                      <a:pt x="1322" y="1594"/>
                    </a:lnTo>
                    <a:lnTo>
                      <a:pt x="1318" y="1605"/>
                    </a:lnTo>
                    <a:lnTo>
                      <a:pt x="1315" y="1616"/>
                    </a:lnTo>
                    <a:lnTo>
                      <a:pt x="1312" y="1627"/>
                    </a:lnTo>
                    <a:lnTo>
                      <a:pt x="1309" y="1637"/>
                    </a:lnTo>
                    <a:lnTo>
                      <a:pt x="1304" y="1647"/>
                    </a:lnTo>
                    <a:lnTo>
                      <a:pt x="1299" y="1658"/>
                    </a:lnTo>
                    <a:lnTo>
                      <a:pt x="1293" y="1667"/>
                    </a:lnTo>
                    <a:lnTo>
                      <a:pt x="1287" y="1675"/>
                    </a:lnTo>
                    <a:lnTo>
                      <a:pt x="1281" y="1682"/>
                    </a:lnTo>
                    <a:lnTo>
                      <a:pt x="1274" y="1689"/>
                    </a:lnTo>
                    <a:lnTo>
                      <a:pt x="1266" y="1696"/>
                    </a:lnTo>
                    <a:lnTo>
                      <a:pt x="1258" y="1702"/>
                    </a:lnTo>
                    <a:lnTo>
                      <a:pt x="1250" y="1707"/>
                    </a:lnTo>
                    <a:lnTo>
                      <a:pt x="1242" y="1713"/>
                    </a:lnTo>
                    <a:lnTo>
                      <a:pt x="1233" y="1718"/>
                    </a:lnTo>
                    <a:lnTo>
                      <a:pt x="1227" y="1721"/>
                    </a:lnTo>
                    <a:lnTo>
                      <a:pt x="1221" y="1725"/>
                    </a:lnTo>
                    <a:lnTo>
                      <a:pt x="1215" y="1729"/>
                    </a:lnTo>
                    <a:lnTo>
                      <a:pt x="1209" y="1732"/>
                    </a:lnTo>
                    <a:lnTo>
                      <a:pt x="1203" y="1733"/>
                    </a:lnTo>
                    <a:lnTo>
                      <a:pt x="1197" y="1735"/>
                    </a:lnTo>
                    <a:lnTo>
                      <a:pt x="1191" y="1735"/>
                    </a:lnTo>
                    <a:lnTo>
                      <a:pt x="1186" y="1732"/>
                    </a:lnTo>
                    <a:lnTo>
                      <a:pt x="1180" y="1727"/>
                    </a:lnTo>
                    <a:lnTo>
                      <a:pt x="1176" y="1720"/>
                    </a:lnTo>
                    <a:lnTo>
                      <a:pt x="1171" y="1713"/>
                    </a:lnTo>
                    <a:lnTo>
                      <a:pt x="1168" y="1706"/>
                    </a:lnTo>
                    <a:lnTo>
                      <a:pt x="1166" y="1697"/>
                    </a:lnTo>
                    <a:lnTo>
                      <a:pt x="1165" y="1689"/>
                    </a:lnTo>
                    <a:lnTo>
                      <a:pt x="1164" y="1681"/>
                    </a:lnTo>
                    <a:lnTo>
                      <a:pt x="1164" y="1672"/>
                    </a:lnTo>
                    <a:lnTo>
                      <a:pt x="1164" y="1660"/>
                    </a:lnTo>
                    <a:lnTo>
                      <a:pt x="1165" y="1648"/>
                    </a:lnTo>
                    <a:lnTo>
                      <a:pt x="1167" y="1636"/>
                    </a:lnTo>
                    <a:lnTo>
                      <a:pt x="1171" y="1624"/>
                    </a:lnTo>
                    <a:lnTo>
                      <a:pt x="1174" y="1613"/>
                    </a:lnTo>
                    <a:lnTo>
                      <a:pt x="1178" y="1601"/>
                    </a:lnTo>
                    <a:lnTo>
                      <a:pt x="1183" y="1591"/>
                    </a:lnTo>
                    <a:lnTo>
                      <a:pt x="1186" y="1579"/>
                    </a:lnTo>
                    <a:lnTo>
                      <a:pt x="1190" y="1569"/>
                    </a:lnTo>
                    <a:lnTo>
                      <a:pt x="1195" y="1559"/>
                    </a:lnTo>
                    <a:lnTo>
                      <a:pt x="1201" y="1551"/>
                    </a:lnTo>
                    <a:lnTo>
                      <a:pt x="1206" y="1541"/>
                    </a:lnTo>
                    <a:lnTo>
                      <a:pt x="1212" y="1533"/>
                    </a:lnTo>
                    <a:lnTo>
                      <a:pt x="1216" y="1523"/>
                    </a:lnTo>
                    <a:lnTo>
                      <a:pt x="1220" y="1514"/>
                    </a:lnTo>
                    <a:lnTo>
                      <a:pt x="1224" y="1504"/>
                    </a:lnTo>
                    <a:lnTo>
                      <a:pt x="1227" y="1487"/>
                    </a:lnTo>
                    <a:lnTo>
                      <a:pt x="1231" y="1472"/>
                    </a:lnTo>
                    <a:lnTo>
                      <a:pt x="1233" y="1455"/>
                    </a:lnTo>
                    <a:lnTo>
                      <a:pt x="1236" y="1437"/>
                    </a:lnTo>
                    <a:lnTo>
                      <a:pt x="1237" y="1420"/>
                    </a:lnTo>
                    <a:lnTo>
                      <a:pt x="1238" y="1403"/>
                    </a:lnTo>
                    <a:lnTo>
                      <a:pt x="1238" y="1387"/>
                    </a:lnTo>
                    <a:lnTo>
                      <a:pt x="1238" y="1370"/>
                    </a:lnTo>
                    <a:lnTo>
                      <a:pt x="1237" y="1359"/>
                    </a:lnTo>
                    <a:lnTo>
                      <a:pt x="1236" y="1348"/>
                    </a:lnTo>
                    <a:lnTo>
                      <a:pt x="1233" y="1337"/>
                    </a:lnTo>
                    <a:lnTo>
                      <a:pt x="1231" y="1327"/>
                    </a:lnTo>
                    <a:lnTo>
                      <a:pt x="1227" y="1316"/>
                    </a:lnTo>
                    <a:lnTo>
                      <a:pt x="1224" y="1306"/>
                    </a:lnTo>
                    <a:lnTo>
                      <a:pt x="1219" y="1295"/>
                    </a:lnTo>
                    <a:lnTo>
                      <a:pt x="1214" y="1286"/>
                    </a:lnTo>
                    <a:lnTo>
                      <a:pt x="1210" y="1280"/>
                    </a:lnTo>
                    <a:lnTo>
                      <a:pt x="1207" y="1275"/>
                    </a:lnTo>
                    <a:lnTo>
                      <a:pt x="1202" y="1269"/>
                    </a:lnTo>
                    <a:lnTo>
                      <a:pt x="1197" y="1264"/>
                    </a:lnTo>
                    <a:lnTo>
                      <a:pt x="1191" y="1261"/>
                    </a:lnTo>
                    <a:lnTo>
                      <a:pt x="1185" y="1257"/>
                    </a:lnTo>
                    <a:lnTo>
                      <a:pt x="1179" y="1255"/>
                    </a:lnTo>
                    <a:lnTo>
                      <a:pt x="1172" y="1253"/>
                    </a:lnTo>
                    <a:lnTo>
                      <a:pt x="1165" y="1253"/>
                    </a:lnTo>
                    <a:lnTo>
                      <a:pt x="1158" y="1255"/>
                    </a:lnTo>
                    <a:lnTo>
                      <a:pt x="1149" y="1256"/>
                    </a:lnTo>
                    <a:lnTo>
                      <a:pt x="1142" y="1259"/>
                    </a:lnTo>
                    <a:lnTo>
                      <a:pt x="1135" y="1263"/>
                    </a:lnTo>
                    <a:lnTo>
                      <a:pt x="1129" y="1267"/>
                    </a:lnTo>
                    <a:lnTo>
                      <a:pt x="1122" y="1271"/>
                    </a:lnTo>
                    <a:lnTo>
                      <a:pt x="1117" y="1277"/>
                    </a:lnTo>
                    <a:lnTo>
                      <a:pt x="1110" y="1286"/>
                    </a:lnTo>
                    <a:lnTo>
                      <a:pt x="1104" y="1295"/>
                    </a:lnTo>
                    <a:lnTo>
                      <a:pt x="1098" y="1306"/>
                    </a:lnTo>
                    <a:lnTo>
                      <a:pt x="1093" y="1317"/>
                    </a:lnTo>
                    <a:lnTo>
                      <a:pt x="1089" y="1328"/>
                    </a:lnTo>
                    <a:lnTo>
                      <a:pt x="1084" y="1339"/>
                    </a:lnTo>
                    <a:lnTo>
                      <a:pt x="1080" y="1349"/>
                    </a:lnTo>
                    <a:lnTo>
                      <a:pt x="1075" y="1360"/>
                    </a:lnTo>
                    <a:lnTo>
                      <a:pt x="1066" y="1377"/>
                    </a:lnTo>
                    <a:lnTo>
                      <a:pt x="1058" y="1395"/>
                    </a:lnTo>
                    <a:lnTo>
                      <a:pt x="1050" y="1412"/>
                    </a:lnTo>
                    <a:lnTo>
                      <a:pt x="1041" y="1429"/>
                    </a:lnTo>
                    <a:lnTo>
                      <a:pt x="1033" y="1445"/>
                    </a:lnTo>
                    <a:lnTo>
                      <a:pt x="1024" y="1462"/>
                    </a:lnTo>
                    <a:lnTo>
                      <a:pt x="1015" y="1479"/>
                    </a:lnTo>
                    <a:lnTo>
                      <a:pt x="1005" y="1495"/>
                    </a:lnTo>
                    <a:lnTo>
                      <a:pt x="996" y="1510"/>
                    </a:lnTo>
                    <a:lnTo>
                      <a:pt x="986" y="1525"/>
                    </a:lnTo>
                    <a:lnTo>
                      <a:pt x="976" y="1539"/>
                    </a:lnTo>
                    <a:lnTo>
                      <a:pt x="967" y="1553"/>
                    </a:lnTo>
                    <a:lnTo>
                      <a:pt x="956" y="1568"/>
                    </a:lnTo>
                    <a:lnTo>
                      <a:pt x="945" y="1581"/>
                    </a:lnTo>
                    <a:lnTo>
                      <a:pt x="933" y="1594"/>
                    </a:lnTo>
                    <a:lnTo>
                      <a:pt x="921" y="1606"/>
                    </a:lnTo>
                    <a:lnTo>
                      <a:pt x="908" y="1618"/>
                    </a:lnTo>
                    <a:lnTo>
                      <a:pt x="895" y="1630"/>
                    </a:lnTo>
                    <a:lnTo>
                      <a:pt x="880" y="1641"/>
                    </a:lnTo>
                    <a:lnTo>
                      <a:pt x="866" y="1651"/>
                    </a:lnTo>
                    <a:lnTo>
                      <a:pt x="852" y="1660"/>
                    </a:lnTo>
                    <a:lnTo>
                      <a:pt x="836" y="1669"/>
                    </a:lnTo>
                    <a:lnTo>
                      <a:pt x="820" y="1678"/>
                    </a:lnTo>
                    <a:lnTo>
                      <a:pt x="805" y="1685"/>
                    </a:lnTo>
                    <a:lnTo>
                      <a:pt x="793" y="1691"/>
                    </a:lnTo>
                    <a:lnTo>
                      <a:pt x="781" y="1696"/>
                    </a:lnTo>
                    <a:lnTo>
                      <a:pt x="768" y="1700"/>
                    </a:lnTo>
                    <a:lnTo>
                      <a:pt x="756" y="1703"/>
                    </a:lnTo>
                    <a:lnTo>
                      <a:pt x="742" y="1707"/>
                    </a:lnTo>
                    <a:lnTo>
                      <a:pt x="729" y="1709"/>
                    </a:lnTo>
                    <a:lnTo>
                      <a:pt x="716" y="1712"/>
                    </a:lnTo>
                    <a:lnTo>
                      <a:pt x="703" y="1713"/>
                    </a:lnTo>
                    <a:lnTo>
                      <a:pt x="698" y="1714"/>
                    </a:lnTo>
                    <a:lnTo>
                      <a:pt x="693" y="1714"/>
                    </a:lnTo>
                    <a:lnTo>
                      <a:pt x="687" y="1714"/>
                    </a:lnTo>
                    <a:lnTo>
                      <a:pt x="682" y="1713"/>
                    </a:lnTo>
                    <a:lnTo>
                      <a:pt x="678" y="1712"/>
                    </a:lnTo>
                    <a:lnTo>
                      <a:pt x="673" y="1711"/>
                    </a:lnTo>
                    <a:lnTo>
                      <a:pt x="669" y="1708"/>
                    </a:lnTo>
                    <a:lnTo>
                      <a:pt x="666" y="1705"/>
                    </a:lnTo>
                    <a:lnTo>
                      <a:pt x="663" y="1700"/>
                    </a:lnTo>
                    <a:lnTo>
                      <a:pt x="662" y="1695"/>
                    </a:lnTo>
                    <a:lnTo>
                      <a:pt x="662" y="1690"/>
                    </a:lnTo>
                    <a:lnTo>
                      <a:pt x="662" y="1685"/>
                    </a:lnTo>
                    <a:lnTo>
                      <a:pt x="663" y="1681"/>
                    </a:lnTo>
                    <a:lnTo>
                      <a:pt x="666" y="1676"/>
                    </a:lnTo>
                    <a:lnTo>
                      <a:pt x="668" y="1671"/>
                    </a:lnTo>
                    <a:lnTo>
                      <a:pt x="670" y="1667"/>
                    </a:lnTo>
                    <a:lnTo>
                      <a:pt x="680" y="1657"/>
                    </a:lnTo>
                    <a:lnTo>
                      <a:pt x="691" y="1647"/>
                    </a:lnTo>
                    <a:lnTo>
                      <a:pt x="702" y="1637"/>
                    </a:lnTo>
                    <a:lnTo>
                      <a:pt x="712" y="1629"/>
                    </a:lnTo>
                    <a:lnTo>
                      <a:pt x="724" y="1619"/>
                    </a:lnTo>
                    <a:lnTo>
                      <a:pt x="736" y="1611"/>
                    </a:lnTo>
                    <a:lnTo>
                      <a:pt x="747" y="1603"/>
                    </a:lnTo>
                    <a:lnTo>
                      <a:pt x="758" y="1593"/>
                    </a:lnTo>
                    <a:lnTo>
                      <a:pt x="771" y="1582"/>
                    </a:lnTo>
                    <a:lnTo>
                      <a:pt x="784" y="1570"/>
                    </a:lnTo>
                    <a:lnTo>
                      <a:pt x="798" y="1559"/>
                    </a:lnTo>
                    <a:lnTo>
                      <a:pt x="811" y="1549"/>
                    </a:lnTo>
                    <a:lnTo>
                      <a:pt x="823" y="1538"/>
                    </a:lnTo>
                    <a:lnTo>
                      <a:pt x="835" y="1526"/>
                    </a:lnTo>
                    <a:lnTo>
                      <a:pt x="846" y="1513"/>
                    </a:lnTo>
                    <a:lnTo>
                      <a:pt x="856" y="1499"/>
                    </a:lnTo>
                    <a:lnTo>
                      <a:pt x="866" y="1485"/>
                    </a:lnTo>
                    <a:lnTo>
                      <a:pt x="874" y="1471"/>
                    </a:lnTo>
                    <a:lnTo>
                      <a:pt x="883" y="1455"/>
                    </a:lnTo>
                    <a:lnTo>
                      <a:pt x="891" y="1439"/>
                    </a:lnTo>
                    <a:lnTo>
                      <a:pt x="897" y="1424"/>
                    </a:lnTo>
                    <a:lnTo>
                      <a:pt x="903" y="1408"/>
                    </a:lnTo>
                    <a:lnTo>
                      <a:pt x="908" y="1391"/>
                    </a:lnTo>
                    <a:lnTo>
                      <a:pt x="912" y="1375"/>
                    </a:lnTo>
                    <a:lnTo>
                      <a:pt x="913" y="1366"/>
                    </a:lnTo>
                    <a:lnTo>
                      <a:pt x="913" y="1359"/>
                    </a:lnTo>
                    <a:lnTo>
                      <a:pt x="910" y="1351"/>
                    </a:lnTo>
                    <a:lnTo>
                      <a:pt x="908" y="1343"/>
                    </a:lnTo>
                    <a:lnTo>
                      <a:pt x="904" y="1336"/>
                    </a:lnTo>
                    <a:lnTo>
                      <a:pt x="900" y="1329"/>
                    </a:lnTo>
                    <a:lnTo>
                      <a:pt x="895" y="1323"/>
                    </a:lnTo>
                    <a:lnTo>
                      <a:pt x="889" y="1318"/>
                    </a:lnTo>
                    <a:lnTo>
                      <a:pt x="884" y="1316"/>
                    </a:lnTo>
                    <a:lnTo>
                      <a:pt x="879" y="1316"/>
                    </a:lnTo>
                    <a:lnTo>
                      <a:pt x="873" y="1316"/>
                    </a:lnTo>
                    <a:lnTo>
                      <a:pt x="868" y="1317"/>
                    </a:lnTo>
                    <a:lnTo>
                      <a:pt x="862" y="1319"/>
                    </a:lnTo>
                    <a:lnTo>
                      <a:pt x="856" y="1322"/>
                    </a:lnTo>
                    <a:lnTo>
                      <a:pt x="852" y="1324"/>
                    </a:lnTo>
                    <a:lnTo>
                      <a:pt x="847" y="1328"/>
                    </a:lnTo>
                    <a:lnTo>
                      <a:pt x="842" y="1333"/>
                    </a:lnTo>
                    <a:lnTo>
                      <a:pt x="838" y="1337"/>
                    </a:lnTo>
                    <a:lnTo>
                      <a:pt x="836" y="1343"/>
                    </a:lnTo>
                    <a:lnTo>
                      <a:pt x="834" y="1349"/>
                    </a:lnTo>
                    <a:lnTo>
                      <a:pt x="830" y="1355"/>
                    </a:lnTo>
                    <a:lnTo>
                      <a:pt x="828" y="1360"/>
                    </a:lnTo>
                    <a:lnTo>
                      <a:pt x="824" y="1366"/>
                    </a:lnTo>
                    <a:lnTo>
                      <a:pt x="819" y="1370"/>
                    </a:lnTo>
                    <a:lnTo>
                      <a:pt x="810" y="1376"/>
                    </a:lnTo>
                    <a:lnTo>
                      <a:pt x="801" y="1382"/>
                    </a:lnTo>
                    <a:lnTo>
                      <a:pt x="792" y="1387"/>
                    </a:lnTo>
                    <a:lnTo>
                      <a:pt x="781" y="1391"/>
                    </a:lnTo>
                    <a:lnTo>
                      <a:pt x="771" y="1395"/>
                    </a:lnTo>
                    <a:lnTo>
                      <a:pt x="762" y="1399"/>
                    </a:lnTo>
                    <a:lnTo>
                      <a:pt x="751" y="1401"/>
                    </a:lnTo>
                    <a:lnTo>
                      <a:pt x="740" y="1402"/>
                    </a:lnTo>
                    <a:lnTo>
                      <a:pt x="732" y="1402"/>
                    </a:lnTo>
                    <a:lnTo>
                      <a:pt x="723" y="1402"/>
                    </a:lnTo>
                    <a:lnTo>
                      <a:pt x="715" y="1401"/>
                    </a:lnTo>
                    <a:lnTo>
                      <a:pt x="708" y="1399"/>
                    </a:lnTo>
                    <a:lnTo>
                      <a:pt x="699" y="1395"/>
                    </a:lnTo>
                    <a:lnTo>
                      <a:pt x="693" y="1390"/>
                    </a:lnTo>
                    <a:lnTo>
                      <a:pt x="688" y="1385"/>
                    </a:lnTo>
                    <a:lnTo>
                      <a:pt x="684" y="1379"/>
                    </a:lnTo>
                    <a:lnTo>
                      <a:pt x="681" y="1367"/>
                    </a:lnTo>
                    <a:lnTo>
                      <a:pt x="680" y="1355"/>
                    </a:lnTo>
                    <a:lnTo>
                      <a:pt x="681" y="1343"/>
                    </a:lnTo>
                    <a:lnTo>
                      <a:pt x="684" y="1331"/>
                    </a:lnTo>
                    <a:lnTo>
                      <a:pt x="686" y="1318"/>
                    </a:lnTo>
                    <a:lnTo>
                      <a:pt x="690" y="1306"/>
                    </a:lnTo>
                    <a:lnTo>
                      <a:pt x="692" y="1294"/>
                    </a:lnTo>
                    <a:lnTo>
                      <a:pt x="693" y="1281"/>
                    </a:lnTo>
                    <a:lnTo>
                      <a:pt x="694" y="1273"/>
                    </a:lnTo>
                    <a:lnTo>
                      <a:pt x="697" y="1264"/>
                    </a:lnTo>
                    <a:lnTo>
                      <a:pt x="698" y="1255"/>
                    </a:lnTo>
                    <a:lnTo>
                      <a:pt x="700" y="1246"/>
                    </a:lnTo>
                    <a:lnTo>
                      <a:pt x="702" y="1237"/>
                    </a:lnTo>
                    <a:lnTo>
                      <a:pt x="702" y="1228"/>
                    </a:lnTo>
                    <a:lnTo>
                      <a:pt x="700" y="1220"/>
                    </a:lnTo>
                    <a:lnTo>
                      <a:pt x="698" y="1211"/>
                    </a:lnTo>
                    <a:lnTo>
                      <a:pt x="696" y="1208"/>
                    </a:lnTo>
                    <a:lnTo>
                      <a:pt x="691" y="1204"/>
                    </a:lnTo>
                    <a:lnTo>
                      <a:pt x="686" y="1202"/>
                    </a:lnTo>
                    <a:lnTo>
                      <a:pt x="680" y="1199"/>
                    </a:lnTo>
                    <a:lnTo>
                      <a:pt x="674" y="1198"/>
                    </a:lnTo>
                    <a:lnTo>
                      <a:pt x="668" y="1198"/>
                    </a:lnTo>
                    <a:lnTo>
                      <a:pt x="662" y="1198"/>
                    </a:lnTo>
                    <a:lnTo>
                      <a:pt x="656" y="1198"/>
                    </a:lnTo>
                    <a:lnTo>
                      <a:pt x="644" y="1198"/>
                    </a:lnTo>
                    <a:lnTo>
                      <a:pt x="631" y="1201"/>
                    </a:lnTo>
                    <a:lnTo>
                      <a:pt x="618" y="1203"/>
                    </a:lnTo>
                    <a:lnTo>
                      <a:pt x="606" y="1205"/>
                    </a:lnTo>
                    <a:lnTo>
                      <a:pt x="592" y="1209"/>
                    </a:lnTo>
                    <a:lnTo>
                      <a:pt x="579" y="1210"/>
                    </a:lnTo>
                    <a:lnTo>
                      <a:pt x="567" y="1211"/>
                    </a:lnTo>
                    <a:lnTo>
                      <a:pt x="554" y="1211"/>
                    </a:lnTo>
                    <a:lnTo>
                      <a:pt x="543" y="1210"/>
                    </a:lnTo>
                    <a:lnTo>
                      <a:pt x="532" y="1209"/>
                    </a:lnTo>
                    <a:lnTo>
                      <a:pt x="522" y="1207"/>
                    </a:lnTo>
                    <a:lnTo>
                      <a:pt x="511" y="1203"/>
                    </a:lnTo>
                    <a:lnTo>
                      <a:pt x="500" y="1199"/>
                    </a:lnTo>
                    <a:lnTo>
                      <a:pt x="489" y="1195"/>
                    </a:lnTo>
                    <a:lnTo>
                      <a:pt x="480" y="1190"/>
                    </a:lnTo>
                    <a:lnTo>
                      <a:pt x="470" y="1184"/>
                    </a:lnTo>
                    <a:lnTo>
                      <a:pt x="464" y="1179"/>
                    </a:lnTo>
                    <a:lnTo>
                      <a:pt x="458" y="1172"/>
                    </a:lnTo>
                    <a:lnTo>
                      <a:pt x="453" y="1165"/>
                    </a:lnTo>
                    <a:lnTo>
                      <a:pt x="448" y="1156"/>
                    </a:lnTo>
                    <a:lnTo>
                      <a:pt x="445" y="1149"/>
                    </a:lnTo>
                    <a:lnTo>
                      <a:pt x="440" y="1142"/>
                    </a:lnTo>
                    <a:lnTo>
                      <a:pt x="434" y="1135"/>
                    </a:lnTo>
                    <a:lnTo>
                      <a:pt x="428" y="1129"/>
                    </a:lnTo>
                    <a:lnTo>
                      <a:pt x="423" y="1124"/>
                    </a:lnTo>
                    <a:lnTo>
                      <a:pt x="418" y="1122"/>
                    </a:lnTo>
                    <a:lnTo>
                      <a:pt x="412" y="1118"/>
                    </a:lnTo>
                    <a:lnTo>
                      <a:pt x="406" y="1116"/>
                    </a:lnTo>
                    <a:lnTo>
                      <a:pt x="400" y="1113"/>
                    </a:lnTo>
                    <a:lnTo>
                      <a:pt x="394" y="1112"/>
                    </a:lnTo>
                    <a:lnTo>
                      <a:pt x="388" y="1111"/>
                    </a:lnTo>
                    <a:lnTo>
                      <a:pt x="382" y="1110"/>
                    </a:lnTo>
                    <a:lnTo>
                      <a:pt x="367" y="1108"/>
                    </a:lnTo>
                    <a:lnTo>
                      <a:pt x="351" y="1108"/>
                    </a:lnTo>
                    <a:lnTo>
                      <a:pt x="337" y="1110"/>
                    </a:lnTo>
                    <a:lnTo>
                      <a:pt x="321" y="1111"/>
                    </a:lnTo>
                    <a:lnTo>
                      <a:pt x="307" y="1112"/>
                    </a:lnTo>
                    <a:lnTo>
                      <a:pt x="291" y="1112"/>
                    </a:lnTo>
                    <a:lnTo>
                      <a:pt x="276" y="1113"/>
                    </a:lnTo>
                    <a:lnTo>
                      <a:pt x="261" y="1114"/>
                    </a:lnTo>
                    <a:lnTo>
                      <a:pt x="244" y="1116"/>
                    </a:lnTo>
                    <a:lnTo>
                      <a:pt x="228" y="1117"/>
                    </a:lnTo>
                    <a:lnTo>
                      <a:pt x="211" y="1118"/>
                    </a:lnTo>
                    <a:lnTo>
                      <a:pt x="194" y="1119"/>
                    </a:lnTo>
                    <a:lnTo>
                      <a:pt x="176" y="1120"/>
                    </a:lnTo>
                    <a:lnTo>
                      <a:pt x="159" y="1122"/>
                    </a:lnTo>
                    <a:lnTo>
                      <a:pt x="142" y="1120"/>
                    </a:lnTo>
                    <a:lnTo>
                      <a:pt x="126" y="1119"/>
                    </a:lnTo>
                    <a:lnTo>
                      <a:pt x="118" y="1117"/>
                    </a:lnTo>
                    <a:lnTo>
                      <a:pt x="110" y="1114"/>
                    </a:lnTo>
                    <a:lnTo>
                      <a:pt x="102" y="1111"/>
                    </a:lnTo>
                    <a:lnTo>
                      <a:pt x="94" y="1107"/>
                    </a:lnTo>
                    <a:lnTo>
                      <a:pt x="87" y="1102"/>
                    </a:lnTo>
                    <a:lnTo>
                      <a:pt x="80" y="1096"/>
                    </a:lnTo>
                    <a:lnTo>
                      <a:pt x="73" y="1092"/>
                    </a:lnTo>
                    <a:lnTo>
                      <a:pt x="66" y="1087"/>
                    </a:lnTo>
                    <a:lnTo>
                      <a:pt x="60" y="1082"/>
                    </a:lnTo>
                    <a:lnTo>
                      <a:pt x="52" y="1077"/>
                    </a:lnTo>
                    <a:lnTo>
                      <a:pt x="45" y="1071"/>
                    </a:lnTo>
                    <a:lnTo>
                      <a:pt x="39" y="1066"/>
                    </a:lnTo>
                    <a:lnTo>
                      <a:pt x="33" y="1060"/>
                    </a:lnTo>
                    <a:lnTo>
                      <a:pt x="27" y="1054"/>
                    </a:lnTo>
                    <a:lnTo>
                      <a:pt x="22" y="1047"/>
                    </a:lnTo>
                    <a:lnTo>
                      <a:pt x="19" y="1040"/>
                    </a:lnTo>
                    <a:lnTo>
                      <a:pt x="18" y="1035"/>
                    </a:lnTo>
                    <a:lnTo>
                      <a:pt x="16" y="1029"/>
                    </a:lnTo>
                    <a:lnTo>
                      <a:pt x="16" y="1023"/>
                    </a:lnTo>
                    <a:lnTo>
                      <a:pt x="18" y="1017"/>
                    </a:lnTo>
                    <a:lnTo>
                      <a:pt x="19" y="1011"/>
                    </a:lnTo>
                    <a:lnTo>
                      <a:pt x="21" y="1006"/>
                    </a:lnTo>
                    <a:lnTo>
                      <a:pt x="25" y="1002"/>
                    </a:lnTo>
                    <a:lnTo>
                      <a:pt x="28" y="998"/>
                    </a:lnTo>
                    <a:lnTo>
                      <a:pt x="39" y="993"/>
                    </a:lnTo>
                    <a:lnTo>
                      <a:pt x="50" y="990"/>
                    </a:lnTo>
                    <a:lnTo>
                      <a:pt x="62" y="987"/>
                    </a:lnTo>
                    <a:lnTo>
                      <a:pt x="74" y="986"/>
                    </a:lnTo>
                    <a:lnTo>
                      <a:pt x="86" y="985"/>
                    </a:lnTo>
                    <a:lnTo>
                      <a:pt x="98" y="985"/>
                    </a:lnTo>
                    <a:lnTo>
                      <a:pt x="110" y="985"/>
                    </a:lnTo>
                    <a:lnTo>
                      <a:pt x="122" y="985"/>
                    </a:lnTo>
                    <a:lnTo>
                      <a:pt x="141" y="984"/>
                    </a:lnTo>
                    <a:lnTo>
                      <a:pt x="162" y="985"/>
                    </a:lnTo>
                    <a:lnTo>
                      <a:pt x="181" y="986"/>
                    </a:lnTo>
                    <a:lnTo>
                      <a:pt x="201" y="987"/>
                    </a:lnTo>
                    <a:lnTo>
                      <a:pt x="220" y="988"/>
                    </a:lnTo>
                    <a:lnTo>
                      <a:pt x="240" y="990"/>
                    </a:lnTo>
                    <a:lnTo>
                      <a:pt x="260" y="990"/>
                    </a:lnTo>
                    <a:lnTo>
                      <a:pt x="279" y="988"/>
                    </a:lnTo>
                    <a:lnTo>
                      <a:pt x="291" y="987"/>
                    </a:lnTo>
                    <a:lnTo>
                      <a:pt x="303" y="985"/>
                    </a:lnTo>
                    <a:lnTo>
                      <a:pt x="315" y="982"/>
                    </a:lnTo>
                    <a:lnTo>
                      <a:pt x="326" y="979"/>
                    </a:lnTo>
                    <a:lnTo>
                      <a:pt x="338" y="975"/>
                    </a:lnTo>
                    <a:lnTo>
                      <a:pt x="350" y="972"/>
                    </a:lnTo>
                    <a:lnTo>
                      <a:pt x="361" y="969"/>
                    </a:lnTo>
                    <a:lnTo>
                      <a:pt x="373" y="966"/>
                    </a:lnTo>
                    <a:lnTo>
                      <a:pt x="380" y="963"/>
                    </a:lnTo>
                    <a:lnTo>
                      <a:pt x="387" y="961"/>
                    </a:lnTo>
                    <a:lnTo>
                      <a:pt x="396" y="958"/>
                    </a:lnTo>
                    <a:lnTo>
                      <a:pt x="403" y="956"/>
                    </a:lnTo>
                    <a:lnTo>
                      <a:pt x="410" y="954"/>
                    </a:lnTo>
                    <a:lnTo>
                      <a:pt x="418" y="951"/>
                    </a:lnTo>
                    <a:lnTo>
                      <a:pt x="426" y="951"/>
                    </a:lnTo>
                    <a:lnTo>
                      <a:pt x="433" y="951"/>
                    </a:lnTo>
                    <a:lnTo>
                      <a:pt x="447" y="955"/>
                    </a:lnTo>
                    <a:lnTo>
                      <a:pt x="462" y="960"/>
                    </a:lnTo>
                    <a:lnTo>
                      <a:pt x="476" y="966"/>
                    </a:lnTo>
                    <a:lnTo>
                      <a:pt x="490" y="972"/>
                    </a:lnTo>
                    <a:lnTo>
                      <a:pt x="504" y="978"/>
                    </a:lnTo>
                    <a:lnTo>
                      <a:pt x="518" y="985"/>
                    </a:lnTo>
                    <a:lnTo>
                      <a:pt x="531" y="992"/>
                    </a:lnTo>
                    <a:lnTo>
                      <a:pt x="544" y="998"/>
                    </a:lnTo>
                    <a:lnTo>
                      <a:pt x="556" y="1004"/>
                    </a:lnTo>
                    <a:lnTo>
                      <a:pt x="567" y="1011"/>
                    </a:lnTo>
                    <a:lnTo>
                      <a:pt x="578" y="1018"/>
                    </a:lnTo>
                    <a:lnTo>
                      <a:pt x="589" y="1026"/>
                    </a:lnTo>
                    <a:lnTo>
                      <a:pt x="600" y="1032"/>
                    </a:lnTo>
                    <a:lnTo>
                      <a:pt x="610" y="1039"/>
                    </a:lnTo>
                    <a:lnTo>
                      <a:pt x="621" y="1045"/>
                    </a:lnTo>
                    <a:lnTo>
                      <a:pt x="633" y="1050"/>
                    </a:lnTo>
                    <a:lnTo>
                      <a:pt x="643" y="1053"/>
                    </a:lnTo>
                    <a:lnTo>
                      <a:pt x="652" y="1057"/>
                    </a:lnTo>
                    <a:lnTo>
                      <a:pt x="663" y="1059"/>
                    </a:lnTo>
                    <a:lnTo>
                      <a:pt x="673" y="1062"/>
                    </a:lnTo>
                    <a:lnTo>
                      <a:pt x="684" y="1063"/>
                    </a:lnTo>
                    <a:lnTo>
                      <a:pt x="693" y="1064"/>
                    </a:lnTo>
                    <a:lnTo>
                      <a:pt x="703" y="1062"/>
                    </a:lnTo>
                    <a:lnTo>
                      <a:pt x="712" y="1059"/>
                    </a:lnTo>
                    <a:lnTo>
                      <a:pt x="718" y="1054"/>
                    </a:lnTo>
                    <a:lnTo>
                      <a:pt x="724" y="1048"/>
                    </a:lnTo>
                    <a:lnTo>
                      <a:pt x="728" y="1041"/>
                    </a:lnTo>
                    <a:lnTo>
                      <a:pt x="732" y="1033"/>
                    </a:lnTo>
                    <a:lnTo>
                      <a:pt x="734" y="1024"/>
                    </a:lnTo>
                    <a:lnTo>
                      <a:pt x="735" y="1016"/>
                    </a:lnTo>
                    <a:lnTo>
                      <a:pt x="735" y="1006"/>
                    </a:lnTo>
                    <a:lnTo>
                      <a:pt x="735" y="998"/>
                    </a:lnTo>
                    <a:lnTo>
                      <a:pt x="734" y="990"/>
                    </a:lnTo>
                    <a:lnTo>
                      <a:pt x="733" y="981"/>
                    </a:lnTo>
                    <a:lnTo>
                      <a:pt x="729" y="973"/>
                    </a:lnTo>
                    <a:lnTo>
                      <a:pt x="726" y="964"/>
                    </a:lnTo>
                    <a:lnTo>
                      <a:pt x="722" y="956"/>
                    </a:lnTo>
                    <a:lnTo>
                      <a:pt x="717" y="949"/>
                    </a:lnTo>
                    <a:lnTo>
                      <a:pt x="712" y="940"/>
                    </a:lnTo>
                    <a:lnTo>
                      <a:pt x="708" y="933"/>
                    </a:lnTo>
                    <a:lnTo>
                      <a:pt x="698" y="920"/>
                    </a:lnTo>
                    <a:lnTo>
                      <a:pt x="688" y="907"/>
                    </a:lnTo>
                    <a:lnTo>
                      <a:pt x="679" y="895"/>
                    </a:lnTo>
                    <a:lnTo>
                      <a:pt x="669" y="882"/>
                    </a:lnTo>
                    <a:lnTo>
                      <a:pt x="658" y="870"/>
                    </a:lnTo>
                    <a:lnTo>
                      <a:pt x="648" y="858"/>
                    </a:lnTo>
                    <a:lnTo>
                      <a:pt x="636" y="847"/>
                    </a:lnTo>
                    <a:lnTo>
                      <a:pt x="624" y="836"/>
                    </a:lnTo>
                    <a:lnTo>
                      <a:pt x="609" y="824"/>
                    </a:lnTo>
                    <a:lnTo>
                      <a:pt x="595" y="812"/>
                    </a:lnTo>
                    <a:lnTo>
                      <a:pt x="579" y="801"/>
                    </a:lnTo>
                    <a:lnTo>
                      <a:pt x="564" y="790"/>
                    </a:lnTo>
                    <a:lnTo>
                      <a:pt x="548" y="780"/>
                    </a:lnTo>
                    <a:lnTo>
                      <a:pt x="531" y="770"/>
                    </a:lnTo>
                    <a:lnTo>
                      <a:pt x="514" y="760"/>
                    </a:lnTo>
                    <a:lnTo>
                      <a:pt x="498" y="752"/>
                    </a:lnTo>
                    <a:lnTo>
                      <a:pt x="486" y="746"/>
                    </a:lnTo>
                    <a:lnTo>
                      <a:pt x="474" y="741"/>
                    </a:lnTo>
                    <a:lnTo>
                      <a:pt x="460" y="736"/>
                    </a:lnTo>
                    <a:lnTo>
                      <a:pt x="448" y="733"/>
                    </a:lnTo>
                    <a:lnTo>
                      <a:pt x="435" y="729"/>
                    </a:lnTo>
                    <a:lnTo>
                      <a:pt x="422" y="726"/>
                    </a:lnTo>
                    <a:lnTo>
                      <a:pt x="409" y="722"/>
                    </a:lnTo>
                    <a:lnTo>
                      <a:pt x="396" y="720"/>
                    </a:lnTo>
                    <a:lnTo>
                      <a:pt x="385" y="717"/>
                    </a:lnTo>
                    <a:lnTo>
                      <a:pt x="373" y="715"/>
                    </a:lnTo>
                    <a:lnTo>
                      <a:pt x="361" y="712"/>
                    </a:lnTo>
                    <a:lnTo>
                      <a:pt x="350" y="710"/>
                    </a:lnTo>
                    <a:lnTo>
                      <a:pt x="338" y="708"/>
                    </a:lnTo>
                    <a:lnTo>
                      <a:pt x="326" y="706"/>
                    </a:lnTo>
                    <a:lnTo>
                      <a:pt x="315" y="706"/>
                    </a:lnTo>
                    <a:lnTo>
                      <a:pt x="303" y="705"/>
                    </a:lnTo>
                    <a:lnTo>
                      <a:pt x="295" y="705"/>
                    </a:lnTo>
                    <a:lnTo>
                      <a:pt x="288" y="706"/>
                    </a:lnTo>
                    <a:lnTo>
                      <a:pt x="279" y="708"/>
                    </a:lnTo>
                    <a:lnTo>
                      <a:pt x="272" y="709"/>
                    </a:lnTo>
                    <a:lnTo>
                      <a:pt x="265" y="711"/>
                    </a:lnTo>
                    <a:lnTo>
                      <a:pt x="256" y="714"/>
                    </a:lnTo>
                    <a:lnTo>
                      <a:pt x="249" y="716"/>
                    </a:lnTo>
                    <a:lnTo>
                      <a:pt x="242" y="720"/>
                    </a:lnTo>
                    <a:lnTo>
                      <a:pt x="235" y="723"/>
                    </a:lnTo>
                    <a:lnTo>
                      <a:pt x="229" y="729"/>
                    </a:lnTo>
                    <a:lnTo>
                      <a:pt x="223" y="734"/>
                    </a:lnTo>
                    <a:lnTo>
                      <a:pt x="217" y="740"/>
                    </a:lnTo>
                    <a:lnTo>
                      <a:pt x="211" y="746"/>
                    </a:lnTo>
                    <a:lnTo>
                      <a:pt x="205" y="752"/>
                    </a:lnTo>
                    <a:lnTo>
                      <a:pt x="198" y="757"/>
                    </a:lnTo>
                    <a:lnTo>
                      <a:pt x="192" y="762"/>
                    </a:lnTo>
                    <a:lnTo>
                      <a:pt x="181" y="768"/>
                    </a:lnTo>
                    <a:lnTo>
                      <a:pt x="169" y="772"/>
                    </a:lnTo>
                    <a:lnTo>
                      <a:pt x="158" y="778"/>
                    </a:lnTo>
                    <a:lnTo>
                      <a:pt x="146" y="783"/>
                    </a:lnTo>
                    <a:lnTo>
                      <a:pt x="134" y="788"/>
                    </a:lnTo>
                    <a:lnTo>
                      <a:pt x="122" y="792"/>
                    </a:lnTo>
                    <a:lnTo>
                      <a:pt x="110" y="795"/>
                    </a:lnTo>
                    <a:lnTo>
                      <a:pt x="98" y="799"/>
                    </a:lnTo>
                    <a:lnTo>
                      <a:pt x="94" y="799"/>
                    </a:lnTo>
                    <a:lnTo>
                      <a:pt x="90" y="800"/>
                    </a:lnTo>
                    <a:lnTo>
                      <a:pt x="85" y="799"/>
                    </a:lnTo>
                    <a:lnTo>
                      <a:pt x="80" y="799"/>
                    </a:lnTo>
                    <a:lnTo>
                      <a:pt x="75" y="798"/>
                    </a:lnTo>
                    <a:lnTo>
                      <a:pt x="72" y="795"/>
                    </a:lnTo>
                    <a:lnTo>
                      <a:pt x="68" y="793"/>
                    </a:lnTo>
                    <a:lnTo>
                      <a:pt x="66" y="789"/>
                    </a:lnTo>
                    <a:lnTo>
                      <a:pt x="63" y="783"/>
                    </a:lnTo>
                    <a:lnTo>
                      <a:pt x="61" y="777"/>
                    </a:lnTo>
                    <a:lnTo>
                      <a:pt x="60" y="770"/>
                    </a:lnTo>
                    <a:lnTo>
                      <a:pt x="60" y="763"/>
                    </a:lnTo>
                    <a:lnTo>
                      <a:pt x="60" y="757"/>
                    </a:lnTo>
                    <a:lnTo>
                      <a:pt x="61" y="750"/>
                    </a:lnTo>
                    <a:lnTo>
                      <a:pt x="63" y="744"/>
                    </a:lnTo>
                    <a:lnTo>
                      <a:pt x="66" y="738"/>
                    </a:lnTo>
                    <a:lnTo>
                      <a:pt x="75" y="726"/>
                    </a:lnTo>
                    <a:lnTo>
                      <a:pt x="85" y="712"/>
                    </a:lnTo>
                    <a:lnTo>
                      <a:pt x="97" y="700"/>
                    </a:lnTo>
                    <a:lnTo>
                      <a:pt x="108" y="690"/>
                    </a:lnTo>
                    <a:lnTo>
                      <a:pt x="120" y="679"/>
                    </a:lnTo>
                    <a:lnTo>
                      <a:pt x="133" y="669"/>
                    </a:lnTo>
                    <a:lnTo>
                      <a:pt x="146" y="660"/>
                    </a:lnTo>
                    <a:lnTo>
                      <a:pt x="159" y="650"/>
                    </a:lnTo>
                    <a:lnTo>
                      <a:pt x="168" y="644"/>
                    </a:lnTo>
                    <a:lnTo>
                      <a:pt x="177" y="638"/>
                    </a:lnTo>
                    <a:lnTo>
                      <a:pt x="187" y="633"/>
                    </a:lnTo>
                    <a:lnTo>
                      <a:pt x="196" y="630"/>
                    </a:lnTo>
                    <a:lnTo>
                      <a:pt x="207" y="626"/>
                    </a:lnTo>
                    <a:lnTo>
                      <a:pt x="217" y="622"/>
                    </a:lnTo>
                    <a:lnTo>
                      <a:pt x="228" y="620"/>
                    </a:lnTo>
                    <a:lnTo>
                      <a:pt x="237" y="618"/>
                    </a:lnTo>
                    <a:lnTo>
                      <a:pt x="252" y="615"/>
                    </a:lnTo>
                    <a:lnTo>
                      <a:pt x="265" y="614"/>
                    </a:lnTo>
                    <a:lnTo>
                      <a:pt x="279" y="613"/>
                    </a:lnTo>
                    <a:lnTo>
                      <a:pt x="294" y="613"/>
                    </a:lnTo>
                    <a:lnTo>
                      <a:pt x="307" y="613"/>
                    </a:lnTo>
                    <a:lnTo>
                      <a:pt x="321" y="613"/>
                    </a:lnTo>
                    <a:lnTo>
                      <a:pt x="336" y="613"/>
                    </a:lnTo>
                    <a:lnTo>
                      <a:pt x="349" y="613"/>
                    </a:lnTo>
                    <a:lnTo>
                      <a:pt x="369" y="613"/>
                    </a:lnTo>
                    <a:lnTo>
                      <a:pt x="388" y="613"/>
                    </a:lnTo>
                    <a:lnTo>
                      <a:pt x="409" y="613"/>
                    </a:lnTo>
                    <a:lnTo>
                      <a:pt x="428" y="614"/>
                    </a:lnTo>
                    <a:lnTo>
                      <a:pt x="448" y="615"/>
                    </a:lnTo>
                    <a:lnTo>
                      <a:pt x="468" y="615"/>
                    </a:lnTo>
                    <a:lnTo>
                      <a:pt x="488" y="616"/>
                    </a:lnTo>
                    <a:lnTo>
                      <a:pt x="507" y="618"/>
                    </a:lnTo>
                    <a:lnTo>
                      <a:pt x="522" y="619"/>
                    </a:lnTo>
                    <a:lnTo>
                      <a:pt x="536" y="620"/>
                    </a:lnTo>
                    <a:lnTo>
                      <a:pt x="552" y="621"/>
                    </a:lnTo>
                    <a:lnTo>
                      <a:pt x="566" y="622"/>
                    </a:lnTo>
                    <a:lnTo>
                      <a:pt x="580" y="624"/>
                    </a:lnTo>
                    <a:lnTo>
                      <a:pt x="595" y="625"/>
                    </a:lnTo>
                    <a:lnTo>
                      <a:pt x="609" y="626"/>
                    </a:lnTo>
                    <a:lnTo>
                      <a:pt x="624" y="626"/>
                    </a:lnTo>
                    <a:lnTo>
                      <a:pt x="632" y="627"/>
                    </a:lnTo>
                    <a:lnTo>
                      <a:pt x="640" y="627"/>
                    </a:lnTo>
                    <a:lnTo>
                      <a:pt x="650" y="627"/>
                    </a:lnTo>
                    <a:lnTo>
                      <a:pt x="658" y="627"/>
                    </a:lnTo>
                    <a:lnTo>
                      <a:pt x="667" y="627"/>
                    </a:lnTo>
                    <a:lnTo>
                      <a:pt x="675" y="625"/>
                    </a:lnTo>
                    <a:lnTo>
                      <a:pt x="682" y="622"/>
                    </a:lnTo>
                    <a:lnTo>
                      <a:pt x="688" y="618"/>
                    </a:lnTo>
                    <a:close/>
                  </a:path>
                </a:pathLst>
              </a:custGeom>
              <a:solidFill>
                <a:srgbClr val="e99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147920" y="1328760"/>
                <a:ext cx="793800" cy="684360"/>
              </a:xfrm>
              <a:custGeom>
                <a:avLst/>
                <a:gdLst/>
                <a:ahLst/>
                <a:rect l="l" t="t" r="r" b="b"/>
                <a:pathLst>
                  <a:path w="2000" h="1723">
                    <a:moveTo>
                      <a:pt x="684" y="613"/>
                    </a:moveTo>
                    <a:lnTo>
                      <a:pt x="691" y="607"/>
                    </a:lnTo>
                    <a:lnTo>
                      <a:pt x="696" y="598"/>
                    </a:lnTo>
                    <a:lnTo>
                      <a:pt x="699" y="591"/>
                    </a:lnTo>
                    <a:lnTo>
                      <a:pt x="703" y="582"/>
                    </a:lnTo>
                    <a:lnTo>
                      <a:pt x="705" y="572"/>
                    </a:lnTo>
                    <a:lnTo>
                      <a:pt x="707" y="562"/>
                    </a:lnTo>
                    <a:lnTo>
                      <a:pt x="707" y="553"/>
                    </a:lnTo>
                    <a:lnTo>
                      <a:pt x="708" y="544"/>
                    </a:lnTo>
                    <a:lnTo>
                      <a:pt x="707" y="534"/>
                    </a:lnTo>
                    <a:lnTo>
                      <a:pt x="707" y="522"/>
                    </a:lnTo>
                    <a:lnTo>
                      <a:pt x="704" y="511"/>
                    </a:lnTo>
                    <a:lnTo>
                      <a:pt x="703" y="500"/>
                    </a:lnTo>
                    <a:lnTo>
                      <a:pt x="699" y="489"/>
                    </a:lnTo>
                    <a:lnTo>
                      <a:pt x="696" y="480"/>
                    </a:lnTo>
                    <a:lnTo>
                      <a:pt x="690" y="470"/>
                    </a:lnTo>
                    <a:lnTo>
                      <a:pt x="684" y="462"/>
                    </a:lnTo>
                    <a:lnTo>
                      <a:pt x="678" y="454"/>
                    </a:lnTo>
                    <a:lnTo>
                      <a:pt x="671" y="448"/>
                    </a:lnTo>
                    <a:lnTo>
                      <a:pt x="662" y="444"/>
                    </a:lnTo>
                    <a:lnTo>
                      <a:pt x="653" y="439"/>
                    </a:lnTo>
                    <a:lnTo>
                      <a:pt x="643" y="435"/>
                    </a:lnTo>
                    <a:lnTo>
                      <a:pt x="633" y="432"/>
                    </a:lnTo>
                    <a:lnTo>
                      <a:pt x="624" y="428"/>
                    </a:lnTo>
                    <a:lnTo>
                      <a:pt x="615" y="424"/>
                    </a:lnTo>
                    <a:lnTo>
                      <a:pt x="605" y="420"/>
                    </a:lnTo>
                    <a:lnTo>
                      <a:pt x="594" y="414"/>
                    </a:lnTo>
                    <a:lnTo>
                      <a:pt x="583" y="409"/>
                    </a:lnTo>
                    <a:lnTo>
                      <a:pt x="572" y="404"/>
                    </a:lnTo>
                    <a:lnTo>
                      <a:pt x="561" y="399"/>
                    </a:lnTo>
                    <a:lnTo>
                      <a:pt x="549" y="396"/>
                    </a:lnTo>
                    <a:lnTo>
                      <a:pt x="539" y="391"/>
                    </a:lnTo>
                    <a:lnTo>
                      <a:pt x="528" y="387"/>
                    </a:lnTo>
                    <a:lnTo>
                      <a:pt x="515" y="384"/>
                    </a:lnTo>
                    <a:lnTo>
                      <a:pt x="503" y="381"/>
                    </a:lnTo>
                    <a:lnTo>
                      <a:pt x="489" y="379"/>
                    </a:lnTo>
                    <a:lnTo>
                      <a:pt x="476" y="377"/>
                    </a:lnTo>
                    <a:lnTo>
                      <a:pt x="463" y="374"/>
                    </a:lnTo>
                    <a:lnTo>
                      <a:pt x="451" y="372"/>
                    </a:lnTo>
                    <a:lnTo>
                      <a:pt x="438" y="368"/>
                    </a:lnTo>
                    <a:lnTo>
                      <a:pt x="426" y="365"/>
                    </a:lnTo>
                    <a:lnTo>
                      <a:pt x="416" y="360"/>
                    </a:lnTo>
                    <a:lnTo>
                      <a:pt x="407" y="355"/>
                    </a:lnTo>
                    <a:lnTo>
                      <a:pt x="397" y="350"/>
                    </a:lnTo>
                    <a:lnTo>
                      <a:pt x="387" y="344"/>
                    </a:lnTo>
                    <a:lnTo>
                      <a:pt x="378" y="338"/>
                    </a:lnTo>
                    <a:lnTo>
                      <a:pt x="369" y="332"/>
                    </a:lnTo>
                    <a:lnTo>
                      <a:pt x="361" y="325"/>
                    </a:lnTo>
                    <a:lnTo>
                      <a:pt x="353" y="318"/>
                    </a:lnTo>
                    <a:lnTo>
                      <a:pt x="337" y="306"/>
                    </a:lnTo>
                    <a:lnTo>
                      <a:pt x="323" y="294"/>
                    </a:lnTo>
                    <a:lnTo>
                      <a:pt x="308" y="281"/>
                    </a:lnTo>
                    <a:lnTo>
                      <a:pt x="294" y="267"/>
                    </a:lnTo>
                    <a:lnTo>
                      <a:pt x="281" y="254"/>
                    </a:lnTo>
                    <a:lnTo>
                      <a:pt x="266" y="242"/>
                    </a:lnTo>
                    <a:lnTo>
                      <a:pt x="252" y="229"/>
                    </a:lnTo>
                    <a:lnTo>
                      <a:pt x="236" y="217"/>
                    </a:lnTo>
                    <a:lnTo>
                      <a:pt x="223" y="206"/>
                    </a:lnTo>
                    <a:lnTo>
                      <a:pt x="210" y="197"/>
                    </a:lnTo>
                    <a:lnTo>
                      <a:pt x="197" y="186"/>
                    </a:lnTo>
                    <a:lnTo>
                      <a:pt x="182" y="176"/>
                    </a:lnTo>
                    <a:lnTo>
                      <a:pt x="169" y="167"/>
                    </a:lnTo>
                    <a:lnTo>
                      <a:pt x="155" y="157"/>
                    </a:lnTo>
                    <a:lnTo>
                      <a:pt x="140" y="147"/>
                    </a:lnTo>
                    <a:lnTo>
                      <a:pt x="126" y="139"/>
                    </a:lnTo>
                    <a:lnTo>
                      <a:pt x="116" y="133"/>
                    </a:lnTo>
                    <a:lnTo>
                      <a:pt x="107" y="128"/>
                    </a:lnTo>
                    <a:lnTo>
                      <a:pt x="97" y="125"/>
                    </a:lnTo>
                    <a:lnTo>
                      <a:pt x="86" y="121"/>
                    </a:lnTo>
                    <a:lnTo>
                      <a:pt x="77" y="116"/>
                    </a:lnTo>
                    <a:lnTo>
                      <a:pt x="67" y="113"/>
                    </a:lnTo>
                    <a:lnTo>
                      <a:pt x="57" y="108"/>
                    </a:lnTo>
                    <a:lnTo>
                      <a:pt x="48" y="102"/>
                    </a:lnTo>
                    <a:lnTo>
                      <a:pt x="41" y="97"/>
                    </a:lnTo>
                    <a:lnTo>
                      <a:pt x="33" y="92"/>
                    </a:lnTo>
                    <a:lnTo>
                      <a:pt x="26" y="87"/>
                    </a:lnTo>
                    <a:lnTo>
                      <a:pt x="20" y="81"/>
                    </a:lnTo>
                    <a:lnTo>
                      <a:pt x="14" y="77"/>
                    </a:lnTo>
                    <a:lnTo>
                      <a:pt x="9" y="69"/>
                    </a:lnTo>
                    <a:lnTo>
                      <a:pt x="5" y="63"/>
                    </a:lnTo>
                    <a:lnTo>
                      <a:pt x="1" y="55"/>
                    </a:lnTo>
                    <a:lnTo>
                      <a:pt x="0" y="50"/>
                    </a:lnTo>
                    <a:lnTo>
                      <a:pt x="1" y="44"/>
                    </a:lnTo>
                    <a:lnTo>
                      <a:pt x="2" y="38"/>
                    </a:lnTo>
                    <a:lnTo>
                      <a:pt x="3" y="32"/>
                    </a:lnTo>
                    <a:lnTo>
                      <a:pt x="7" y="26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20" y="14"/>
                    </a:lnTo>
                    <a:lnTo>
                      <a:pt x="29" y="11"/>
                    </a:lnTo>
                    <a:lnTo>
                      <a:pt x="38" y="7"/>
                    </a:lnTo>
                    <a:lnTo>
                      <a:pt x="48" y="5"/>
                    </a:lnTo>
                    <a:lnTo>
                      <a:pt x="59" y="5"/>
                    </a:lnTo>
                    <a:lnTo>
                      <a:pt x="68" y="3"/>
                    </a:lnTo>
                    <a:lnTo>
                      <a:pt x="78" y="3"/>
                    </a:lnTo>
                    <a:lnTo>
                      <a:pt x="89" y="5"/>
                    </a:lnTo>
                    <a:lnTo>
                      <a:pt x="98" y="5"/>
                    </a:lnTo>
                    <a:lnTo>
                      <a:pt x="108" y="6"/>
                    </a:lnTo>
                    <a:lnTo>
                      <a:pt x="116" y="7"/>
                    </a:lnTo>
                    <a:lnTo>
                      <a:pt x="126" y="9"/>
                    </a:lnTo>
                    <a:lnTo>
                      <a:pt x="134" y="12"/>
                    </a:lnTo>
                    <a:lnTo>
                      <a:pt x="143" y="15"/>
                    </a:lnTo>
                    <a:lnTo>
                      <a:pt x="151" y="19"/>
                    </a:lnTo>
                    <a:lnTo>
                      <a:pt x="159" y="24"/>
                    </a:lnTo>
                    <a:lnTo>
                      <a:pt x="168" y="27"/>
                    </a:lnTo>
                    <a:lnTo>
                      <a:pt x="179" y="36"/>
                    </a:lnTo>
                    <a:lnTo>
                      <a:pt x="188" y="44"/>
                    </a:lnTo>
                    <a:lnTo>
                      <a:pt x="199" y="54"/>
                    </a:lnTo>
                    <a:lnTo>
                      <a:pt x="207" y="63"/>
                    </a:lnTo>
                    <a:lnTo>
                      <a:pt x="217" y="73"/>
                    </a:lnTo>
                    <a:lnTo>
                      <a:pt x="227" y="83"/>
                    </a:lnTo>
                    <a:lnTo>
                      <a:pt x="236" y="92"/>
                    </a:lnTo>
                    <a:lnTo>
                      <a:pt x="246" y="102"/>
                    </a:lnTo>
                    <a:lnTo>
                      <a:pt x="260" y="114"/>
                    </a:lnTo>
                    <a:lnTo>
                      <a:pt x="275" y="127"/>
                    </a:lnTo>
                    <a:lnTo>
                      <a:pt x="289" y="139"/>
                    </a:lnTo>
                    <a:lnTo>
                      <a:pt x="303" y="151"/>
                    </a:lnTo>
                    <a:lnTo>
                      <a:pt x="318" y="163"/>
                    </a:lnTo>
                    <a:lnTo>
                      <a:pt x="332" y="175"/>
                    </a:lnTo>
                    <a:lnTo>
                      <a:pt x="347" y="187"/>
                    </a:lnTo>
                    <a:lnTo>
                      <a:pt x="361" y="199"/>
                    </a:lnTo>
                    <a:lnTo>
                      <a:pt x="372" y="207"/>
                    </a:lnTo>
                    <a:lnTo>
                      <a:pt x="383" y="216"/>
                    </a:lnTo>
                    <a:lnTo>
                      <a:pt x="393" y="224"/>
                    </a:lnTo>
                    <a:lnTo>
                      <a:pt x="404" y="233"/>
                    </a:lnTo>
                    <a:lnTo>
                      <a:pt x="415" y="241"/>
                    </a:lnTo>
                    <a:lnTo>
                      <a:pt x="426" y="248"/>
                    </a:lnTo>
                    <a:lnTo>
                      <a:pt x="438" y="257"/>
                    </a:lnTo>
                    <a:lnTo>
                      <a:pt x="449" y="263"/>
                    </a:lnTo>
                    <a:lnTo>
                      <a:pt x="455" y="266"/>
                    </a:lnTo>
                    <a:lnTo>
                      <a:pt x="461" y="269"/>
                    </a:lnTo>
                    <a:lnTo>
                      <a:pt x="467" y="271"/>
                    </a:lnTo>
                    <a:lnTo>
                      <a:pt x="474" y="273"/>
                    </a:lnTo>
                    <a:lnTo>
                      <a:pt x="480" y="275"/>
                    </a:lnTo>
                    <a:lnTo>
                      <a:pt x="487" y="276"/>
                    </a:lnTo>
                    <a:lnTo>
                      <a:pt x="493" y="277"/>
                    </a:lnTo>
                    <a:lnTo>
                      <a:pt x="500" y="277"/>
                    </a:lnTo>
                    <a:lnTo>
                      <a:pt x="506" y="277"/>
                    </a:lnTo>
                    <a:lnTo>
                      <a:pt x="512" y="277"/>
                    </a:lnTo>
                    <a:lnTo>
                      <a:pt x="518" y="277"/>
                    </a:lnTo>
                    <a:lnTo>
                      <a:pt x="524" y="277"/>
                    </a:lnTo>
                    <a:lnTo>
                      <a:pt x="530" y="276"/>
                    </a:lnTo>
                    <a:lnTo>
                      <a:pt x="536" y="273"/>
                    </a:lnTo>
                    <a:lnTo>
                      <a:pt x="541" y="271"/>
                    </a:lnTo>
                    <a:lnTo>
                      <a:pt x="546" y="267"/>
                    </a:lnTo>
                    <a:lnTo>
                      <a:pt x="551" y="263"/>
                    </a:lnTo>
                    <a:lnTo>
                      <a:pt x="554" y="255"/>
                    </a:lnTo>
                    <a:lnTo>
                      <a:pt x="558" y="249"/>
                    </a:lnTo>
                    <a:lnTo>
                      <a:pt x="559" y="242"/>
                    </a:lnTo>
                    <a:lnTo>
                      <a:pt x="561" y="235"/>
                    </a:lnTo>
                    <a:lnTo>
                      <a:pt x="563" y="228"/>
                    </a:lnTo>
                    <a:lnTo>
                      <a:pt x="564" y="219"/>
                    </a:lnTo>
                    <a:lnTo>
                      <a:pt x="564" y="212"/>
                    </a:lnTo>
                    <a:lnTo>
                      <a:pt x="565" y="201"/>
                    </a:lnTo>
                    <a:lnTo>
                      <a:pt x="565" y="191"/>
                    </a:lnTo>
                    <a:lnTo>
                      <a:pt x="564" y="180"/>
                    </a:lnTo>
                    <a:lnTo>
                      <a:pt x="563" y="169"/>
                    </a:lnTo>
                    <a:lnTo>
                      <a:pt x="561" y="158"/>
                    </a:lnTo>
                    <a:lnTo>
                      <a:pt x="561" y="146"/>
                    </a:lnTo>
                    <a:lnTo>
                      <a:pt x="560" y="135"/>
                    </a:lnTo>
                    <a:lnTo>
                      <a:pt x="560" y="125"/>
                    </a:lnTo>
                    <a:lnTo>
                      <a:pt x="560" y="119"/>
                    </a:lnTo>
                    <a:lnTo>
                      <a:pt x="560" y="114"/>
                    </a:lnTo>
                    <a:lnTo>
                      <a:pt x="561" y="108"/>
                    </a:lnTo>
                    <a:lnTo>
                      <a:pt x="561" y="102"/>
                    </a:lnTo>
                    <a:lnTo>
                      <a:pt x="563" y="96"/>
                    </a:lnTo>
                    <a:lnTo>
                      <a:pt x="564" y="90"/>
                    </a:lnTo>
                    <a:lnTo>
                      <a:pt x="564" y="85"/>
                    </a:lnTo>
                    <a:lnTo>
                      <a:pt x="564" y="79"/>
                    </a:lnTo>
                    <a:lnTo>
                      <a:pt x="565" y="72"/>
                    </a:lnTo>
                    <a:lnTo>
                      <a:pt x="564" y="66"/>
                    </a:lnTo>
                    <a:lnTo>
                      <a:pt x="564" y="60"/>
                    </a:lnTo>
                    <a:lnTo>
                      <a:pt x="564" y="53"/>
                    </a:lnTo>
                    <a:lnTo>
                      <a:pt x="563" y="47"/>
                    </a:lnTo>
                    <a:lnTo>
                      <a:pt x="563" y="41"/>
                    </a:lnTo>
                    <a:lnTo>
                      <a:pt x="564" y="35"/>
                    </a:lnTo>
                    <a:lnTo>
                      <a:pt x="564" y="27"/>
                    </a:lnTo>
                    <a:lnTo>
                      <a:pt x="565" y="24"/>
                    </a:lnTo>
                    <a:lnTo>
                      <a:pt x="566" y="19"/>
                    </a:lnTo>
                    <a:lnTo>
                      <a:pt x="569" y="14"/>
                    </a:lnTo>
                    <a:lnTo>
                      <a:pt x="570" y="9"/>
                    </a:lnTo>
                    <a:lnTo>
                      <a:pt x="572" y="6"/>
                    </a:lnTo>
                    <a:lnTo>
                      <a:pt x="576" y="2"/>
                    </a:lnTo>
                    <a:lnTo>
                      <a:pt x="579" y="1"/>
                    </a:lnTo>
                    <a:lnTo>
                      <a:pt x="583" y="0"/>
                    </a:lnTo>
                    <a:lnTo>
                      <a:pt x="590" y="1"/>
                    </a:lnTo>
                    <a:lnTo>
                      <a:pt x="599" y="3"/>
                    </a:lnTo>
                    <a:lnTo>
                      <a:pt x="606" y="7"/>
                    </a:lnTo>
                    <a:lnTo>
                      <a:pt x="613" y="11"/>
                    </a:lnTo>
                    <a:lnTo>
                      <a:pt x="620" y="15"/>
                    </a:lnTo>
                    <a:lnTo>
                      <a:pt x="626" y="21"/>
                    </a:lnTo>
                    <a:lnTo>
                      <a:pt x="632" y="26"/>
                    </a:lnTo>
                    <a:lnTo>
                      <a:pt x="638" y="32"/>
                    </a:lnTo>
                    <a:lnTo>
                      <a:pt x="644" y="41"/>
                    </a:lnTo>
                    <a:lnTo>
                      <a:pt x="649" y="48"/>
                    </a:lnTo>
                    <a:lnTo>
                      <a:pt x="653" y="56"/>
                    </a:lnTo>
                    <a:lnTo>
                      <a:pt x="656" y="66"/>
                    </a:lnTo>
                    <a:lnTo>
                      <a:pt x="660" y="74"/>
                    </a:lnTo>
                    <a:lnTo>
                      <a:pt x="663" y="84"/>
                    </a:lnTo>
                    <a:lnTo>
                      <a:pt x="667" y="93"/>
                    </a:lnTo>
                    <a:lnTo>
                      <a:pt x="671" y="102"/>
                    </a:lnTo>
                    <a:lnTo>
                      <a:pt x="675" y="114"/>
                    </a:lnTo>
                    <a:lnTo>
                      <a:pt x="681" y="127"/>
                    </a:lnTo>
                    <a:lnTo>
                      <a:pt x="686" y="140"/>
                    </a:lnTo>
                    <a:lnTo>
                      <a:pt x="691" y="152"/>
                    </a:lnTo>
                    <a:lnTo>
                      <a:pt x="696" y="165"/>
                    </a:lnTo>
                    <a:lnTo>
                      <a:pt x="702" y="177"/>
                    </a:lnTo>
                    <a:lnTo>
                      <a:pt x="707" y="191"/>
                    </a:lnTo>
                    <a:lnTo>
                      <a:pt x="713" y="203"/>
                    </a:lnTo>
                    <a:lnTo>
                      <a:pt x="715" y="211"/>
                    </a:lnTo>
                    <a:lnTo>
                      <a:pt x="719" y="218"/>
                    </a:lnTo>
                    <a:lnTo>
                      <a:pt x="721" y="227"/>
                    </a:lnTo>
                    <a:lnTo>
                      <a:pt x="725" y="234"/>
                    </a:lnTo>
                    <a:lnTo>
                      <a:pt x="728" y="241"/>
                    </a:lnTo>
                    <a:lnTo>
                      <a:pt x="732" y="249"/>
                    </a:lnTo>
                    <a:lnTo>
                      <a:pt x="735" y="257"/>
                    </a:lnTo>
                    <a:lnTo>
                      <a:pt x="740" y="263"/>
                    </a:lnTo>
                    <a:lnTo>
                      <a:pt x="745" y="271"/>
                    </a:lnTo>
                    <a:lnTo>
                      <a:pt x="751" y="278"/>
                    </a:lnTo>
                    <a:lnTo>
                      <a:pt x="757" y="285"/>
                    </a:lnTo>
                    <a:lnTo>
                      <a:pt x="763" y="293"/>
                    </a:lnTo>
                    <a:lnTo>
                      <a:pt x="770" y="299"/>
                    </a:lnTo>
                    <a:lnTo>
                      <a:pt x="776" y="306"/>
                    </a:lnTo>
                    <a:lnTo>
                      <a:pt x="783" y="312"/>
                    </a:lnTo>
                    <a:lnTo>
                      <a:pt x="791" y="318"/>
                    </a:lnTo>
                    <a:lnTo>
                      <a:pt x="799" y="326"/>
                    </a:lnTo>
                    <a:lnTo>
                      <a:pt x="807" y="335"/>
                    </a:lnTo>
                    <a:lnTo>
                      <a:pt x="817" y="343"/>
                    </a:lnTo>
                    <a:lnTo>
                      <a:pt x="825" y="351"/>
                    </a:lnTo>
                    <a:lnTo>
                      <a:pt x="835" y="359"/>
                    </a:lnTo>
                    <a:lnTo>
                      <a:pt x="845" y="366"/>
                    </a:lnTo>
                    <a:lnTo>
                      <a:pt x="854" y="373"/>
                    </a:lnTo>
                    <a:lnTo>
                      <a:pt x="864" y="378"/>
                    </a:lnTo>
                    <a:lnTo>
                      <a:pt x="873" y="383"/>
                    </a:lnTo>
                    <a:lnTo>
                      <a:pt x="882" y="385"/>
                    </a:lnTo>
                    <a:lnTo>
                      <a:pt x="891" y="387"/>
                    </a:lnTo>
                    <a:lnTo>
                      <a:pt x="900" y="389"/>
                    </a:lnTo>
                    <a:lnTo>
                      <a:pt x="909" y="390"/>
                    </a:lnTo>
                    <a:lnTo>
                      <a:pt x="919" y="391"/>
                    </a:lnTo>
                    <a:lnTo>
                      <a:pt x="929" y="392"/>
                    </a:lnTo>
                    <a:lnTo>
                      <a:pt x="938" y="392"/>
                    </a:lnTo>
                    <a:lnTo>
                      <a:pt x="950" y="392"/>
                    </a:lnTo>
                    <a:lnTo>
                      <a:pt x="961" y="393"/>
                    </a:lnTo>
                    <a:lnTo>
                      <a:pt x="973" y="393"/>
                    </a:lnTo>
                    <a:lnTo>
                      <a:pt x="984" y="392"/>
                    </a:lnTo>
                    <a:lnTo>
                      <a:pt x="996" y="392"/>
                    </a:lnTo>
                    <a:lnTo>
                      <a:pt x="1008" y="391"/>
                    </a:lnTo>
                    <a:lnTo>
                      <a:pt x="1019" y="390"/>
                    </a:lnTo>
                    <a:lnTo>
                      <a:pt x="1031" y="387"/>
                    </a:lnTo>
                    <a:lnTo>
                      <a:pt x="1038" y="386"/>
                    </a:lnTo>
                    <a:lnTo>
                      <a:pt x="1046" y="384"/>
                    </a:lnTo>
                    <a:lnTo>
                      <a:pt x="1055" y="381"/>
                    </a:lnTo>
                    <a:lnTo>
                      <a:pt x="1062" y="379"/>
                    </a:lnTo>
                    <a:lnTo>
                      <a:pt x="1069" y="377"/>
                    </a:lnTo>
                    <a:lnTo>
                      <a:pt x="1076" y="373"/>
                    </a:lnTo>
                    <a:lnTo>
                      <a:pt x="1083" y="369"/>
                    </a:lnTo>
                    <a:lnTo>
                      <a:pt x="1091" y="365"/>
                    </a:lnTo>
                    <a:lnTo>
                      <a:pt x="1097" y="360"/>
                    </a:lnTo>
                    <a:lnTo>
                      <a:pt x="1104" y="354"/>
                    </a:lnTo>
                    <a:lnTo>
                      <a:pt x="1111" y="348"/>
                    </a:lnTo>
                    <a:lnTo>
                      <a:pt x="1117" y="342"/>
                    </a:lnTo>
                    <a:lnTo>
                      <a:pt x="1123" y="336"/>
                    </a:lnTo>
                    <a:lnTo>
                      <a:pt x="1127" y="329"/>
                    </a:lnTo>
                    <a:lnTo>
                      <a:pt x="1128" y="325"/>
                    </a:lnTo>
                    <a:lnTo>
                      <a:pt x="1128" y="321"/>
                    </a:lnTo>
                    <a:lnTo>
                      <a:pt x="1128" y="318"/>
                    </a:lnTo>
                    <a:lnTo>
                      <a:pt x="1128" y="314"/>
                    </a:lnTo>
                    <a:lnTo>
                      <a:pt x="1125" y="309"/>
                    </a:lnTo>
                    <a:lnTo>
                      <a:pt x="1124" y="307"/>
                    </a:lnTo>
                    <a:lnTo>
                      <a:pt x="1122" y="303"/>
                    </a:lnTo>
                    <a:lnTo>
                      <a:pt x="1118" y="301"/>
                    </a:lnTo>
                    <a:lnTo>
                      <a:pt x="1111" y="296"/>
                    </a:lnTo>
                    <a:lnTo>
                      <a:pt x="1103" y="293"/>
                    </a:lnTo>
                    <a:lnTo>
                      <a:pt x="1094" y="290"/>
                    </a:lnTo>
                    <a:lnTo>
                      <a:pt x="1085" y="288"/>
                    </a:lnTo>
                    <a:lnTo>
                      <a:pt x="1075" y="284"/>
                    </a:lnTo>
                    <a:lnTo>
                      <a:pt x="1068" y="282"/>
                    </a:lnTo>
                    <a:lnTo>
                      <a:pt x="1057" y="278"/>
                    </a:lnTo>
                    <a:lnTo>
                      <a:pt x="1047" y="275"/>
                    </a:lnTo>
                    <a:lnTo>
                      <a:pt x="1038" y="271"/>
                    </a:lnTo>
                    <a:lnTo>
                      <a:pt x="1028" y="269"/>
                    </a:lnTo>
                    <a:lnTo>
                      <a:pt x="1017" y="265"/>
                    </a:lnTo>
                    <a:lnTo>
                      <a:pt x="1008" y="263"/>
                    </a:lnTo>
                    <a:lnTo>
                      <a:pt x="998" y="258"/>
                    </a:lnTo>
                    <a:lnTo>
                      <a:pt x="989" y="254"/>
                    </a:lnTo>
                    <a:lnTo>
                      <a:pt x="983" y="251"/>
                    </a:lnTo>
                    <a:lnTo>
                      <a:pt x="977" y="247"/>
                    </a:lnTo>
                    <a:lnTo>
                      <a:pt x="972" y="242"/>
                    </a:lnTo>
                    <a:lnTo>
                      <a:pt x="966" y="237"/>
                    </a:lnTo>
                    <a:lnTo>
                      <a:pt x="961" y="233"/>
                    </a:lnTo>
                    <a:lnTo>
                      <a:pt x="956" y="228"/>
                    </a:lnTo>
                    <a:lnTo>
                      <a:pt x="951" y="223"/>
                    </a:lnTo>
                    <a:lnTo>
                      <a:pt x="948" y="217"/>
                    </a:lnTo>
                    <a:lnTo>
                      <a:pt x="943" y="211"/>
                    </a:lnTo>
                    <a:lnTo>
                      <a:pt x="939" y="205"/>
                    </a:lnTo>
                    <a:lnTo>
                      <a:pt x="936" y="199"/>
                    </a:lnTo>
                    <a:lnTo>
                      <a:pt x="933" y="193"/>
                    </a:lnTo>
                    <a:lnTo>
                      <a:pt x="930" y="186"/>
                    </a:lnTo>
                    <a:lnTo>
                      <a:pt x="927" y="180"/>
                    </a:lnTo>
                    <a:lnTo>
                      <a:pt x="926" y="173"/>
                    </a:lnTo>
                    <a:lnTo>
                      <a:pt x="924" y="167"/>
                    </a:lnTo>
                    <a:lnTo>
                      <a:pt x="924" y="162"/>
                    </a:lnTo>
                    <a:lnTo>
                      <a:pt x="923" y="157"/>
                    </a:lnTo>
                    <a:lnTo>
                      <a:pt x="923" y="151"/>
                    </a:lnTo>
                    <a:lnTo>
                      <a:pt x="923" y="146"/>
                    </a:lnTo>
                    <a:lnTo>
                      <a:pt x="923" y="141"/>
                    </a:lnTo>
                    <a:lnTo>
                      <a:pt x="924" y="137"/>
                    </a:lnTo>
                    <a:lnTo>
                      <a:pt x="926" y="133"/>
                    </a:lnTo>
                    <a:lnTo>
                      <a:pt x="929" y="129"/>
                    </a:lnTo>
                    <a:lnTo>
                      <a:pt x="933" y="126"/>
                    </a:lnTo>
                    <a:lnTo>
                      <a:pt x="938" y="123"/>
                    </a:lnTo>
                    <a:lnTo>
                      <a:pt x="944" y="121"/>
                    </a:lnTo>
                    <a:lnTo>
                      <a:pt x="950" y="120"/>
                    </a:lnTo>
                    <a:lnTo>
                      <a:pt x="956" y="120"/>
                    </a:lnTo>
                    <a:lnTo>
                      <a:pt x="963" y="120"/>
                    </a:lnTo>
                    <a:lnTo>
                      <a:pt x="969" y="120"/>
                    </a:lnTo>
                    <a:lnTo>
                      <a:pt x="975" y="120"/>
                    </a:lnTo>
                    <a:lnTo>
                      <a:pt x="983" y="121"/>
                    </a:lnTo>
                    <a:lnTo>
                      <a:pt x="990" y="123"/>
                    </a:lnTo>
                    <a:lnTo>
                      <a:pt x="998" y="126"/>
                    </a:lnTo>
                    <a:lnTo>
                      <a:pt x="1005" y="128"/>
                    </a:lnTo>
                    <a:lnTo>
                      <a:pt x="1013" y="132"/>
                    </a:lnTo>
                    <a:lnTo>
                      <a:pt x="1020" y="134"/>
                    </a:lnTo>
                    <a:lnTo>
                      <a:pt x="1027" y="137"/>
                    </a:lnTo>
                    <a:lnTo>
                      <a:pt x="1035" y="139"/>
                    </a:lnTo>
                    <a:lnTo>
                      <a:pt x="1044" y="140"/>
                    </a:lnTo>
                    <a:lnTo>
                      <a:pt x="1053" y="141"/>
                    </a:lnTo>
                    <a:lnTo>
                      <a:pt x="1063" y="144"/>
                    </a:lnTo>
                    <a:lnTo>
                      <a:pt x="1071" y="145"/>
                    </a:lnTo>
                    <a:lnTo>
                      <a:pt x="1081" y="145"/>
                    </a:lnTo>
                    <a:lnTo>
                      <a:pt x="1091" y="146"/>
                    </a:lnTo>
                    <a:lnTo>
                      <a:pt x="1099" y="147"/>
                    </a:lnTo>
                    <a:lnTo>
                      <a:pt x="1109" y="147"/>
                    </a:lnTo>
                    <a:lnTo>
                      <a:pt x="1119" y="149"/>
                    </a:lnTo>
                    <a:lnTo>
                      <a:pt x="1129" y="149"/>
                    </a:lnTo>
                    <a:lnTo>
                      <a:pt x="1140" y="149"/>
                    </a:lnTo>
                    <a:lnTo>
                      <a:pt x="1151" y="149"/>
                    </a:lnTo>
                    <a:lnTo>
                      <a:pt x="1160" y="149"/>
                    </a:lnTo>
                    <a:lnTo>
                      <a:pt x="1171" y="149"/>
                    </a:lnTo>
                    <a:lnTo>
                      <a:pt x="1182" y="149"/>
                    </a:lnTo>
                    <a:lnTo>
                      <a:pt x="1191" y="147"/>
                    </a:lnTo>
                    <a:lnTo>
                      <a:pt x="1199" y="147"/>
                    </a:lnTo>
                    <a:lnTo>
                      <a:pt x="1206" y="146"/>
                    </a:lnTo>
                    <a:lnTo>
                      <a:pt x="1213" y="145"/>
                    </a:lnTo>
                    <a:lnTo>
                      <a:pt x="1220" y="144"/>
                    </a:lnTo>
                    <a:lnTo>
                      <a:pt x="1226" y="143"/>
                    </a:lnTo>
                    <a:lnTo>
                      <a:pt x="1233" y="143"/>
                    </a:lnTo>
                    <a:lnTo>
                      <a:pt x="1241" y="143"/>
                    </a:lnTo>
                    <a:lnTo>
                      <a:pt x="1248" y="143"/>
                    </a:lnTo>
                    <a:lnTo>
                      <a:pt x="1253" y="145"/>
                    </a:lnTo>
                    <a:lnTo>
                      <a:pt x="1259" y="146"/>
                    </a:lnTo>
                    <a:lnTo>
                      <a:pt x="1265" y="149"/>
                    </a:lnTo>
                    <a:lnTo>
                      <a:pt x="1271" y="151"/>
                    </a:lnTo>
                    <a:lnTo>
                      <a:pt x="1275" y="155"/>
                    </a:lnTo>
                    <a:lnTo>
                      <a:pt x="1280" y="158"/>
                    </a:lnTo>
                    <a:lnTo>
                      <a:pt x="1285" y="162"/>
                    </a:lnTo>
                    <a:lnTo>
                      <a:pt x="1289" y="167"/>
                    </a:lnTo>
                    <a:lnTo>
                      <a:pt x="1292" y="171"/>
                    </a:lnTo>
                    <a:lnTo>
                      <a:pt x="1295" y="176"/>
                    </a:lnTo>
                    <a:lnTo>
                      <a:pt x="1297" y="182"/>
                    </a:lnTo>
                    <a:lnTo>
                      <a:pt x="1298" y="188"/>
                    </a:lnTo>
                    <a:lnTo>
                      <a:pt x="1299" y="194"/>
                    </a:lnTo>
                    <a:lnTo>
                      <a:pt x="1301" y="200"/>
                    </a:lnTo>
                    <a:lnTo>
                      <a:pt x="1302" y="206"/>
                    </a:lnTo>
                    <a:lnTo>
                      <a:pt x="1303" y="212"/>
                    </a:lnTo>
                    <a:lnTo>
                      <a:pt x="1307" y="228"/>
                    </a:lnTo>
                    <a:lnTo>
                      <a:pt x="1310" y="243"/>
                    </a:lnTo>
                    <a:lnTo>
                      <a:pt x="1314" y="259"/>
                    </a:lnTo>
                    <a:lnTo>
                      <a:pt x="1317" y="275"/>
                    </a:lnTo>
                    <a:lnTo>
                      <a:pt x="1321" y="290"/>
                    </a:lnTo>
                    <a:lnTo>
                      <a:pt x="1325" y="306"/>
                    </a:lnTo>
                    <a:lnTo>
                      <a:pt x="1328" y="321"/>
                    </a:lnTo>
                    <a:lnTo>
                      <a:pt x="1331" y="337"/>
                    </a:lnTo>
                    <a:lnTo>
                      <a:pt x="1332" y="351"/>
                    </a:lnTo>
                    <a:lnTo>
                      <a:pt x="1333" y="366"/>
                    </a:lnTo>
                    <a:lnTo>
                      <a:pt x="1333" y="380"/>
                    </a:lnTo>
                    <a:lnTo>
                      <a:pt x="1334" y="395"/>
                    </a:lnTo>
                    <a:lnTo>
                      <a:pt x="1334" y="409"/>
                    </a:lnTo>
                    <a:lnTo>
                      <a:pt x="1335" y="423"/>
                    </a:lnTo>
                    <a:lnTo>
                      <a:pt x="1337" y="438"/>
                    </a:lnTo>
                    <a:lnTo>
                      <a:pt x="1339" y="452"/>
                    </a:lnTo>
                    <a:lnTo>
                      <a:pt x="1341" y="462"/>
                    </a:lnTo>
                    <a:lnTo>
                      <a:pt x="1344" y="471"/>
                    </a:lnTo>
                    <a:lnTo>
                      <a:pt x="1347" y="480"/>
                    </a:lnTo>
                    <a:lnTo>
                      <a:pt x="1351" y="489"/>
                    </a:lnTo>
                    <a:lnTo>
                      <a:pt x="1355" y="498"/>
                    </a:lnTo>
                    <a:lnTo>
                      <a:pt x="1359" y="506"/>
                    </a:lnTo>
                    <a:lnTo>
                      <a:pt x="1365" y="514"/>
                    </a:lnTo>
                    <a:lnTo>
                      <a:pt x="1371" y="520"/>
                    </a:lnTo>
                    <a:lnTo>
                      <a:pt x="1376" y="525"/>
                    </a:lnTo>
                    <a:lnTo>
                      <a:pt x="1382" y="528"/>
                    </a:lnTo>
                    <a:lnTo>
                      <a:pt x="1388" y="530"/>
                    </a:lnTo>
                    <a:lnTo>
                      <a:pt x="1394" y="530"/>
                    </a:lnTo>
                    <a:lnTo>
                      <a:pt x="1400" y="531"/>
                    </a:lnTo>
                    <a:lnTo>
                      <a:pt x="1407" y="530"/>
                    </a:lnTo>
                    <a:lnTo>
                      <a:pt x="1412" y="529"/>
                    </a:lnTo>
                    <a:lnTo>
                      <a:pt x="1418" y="525"/>
                    </a:lnTo>
                    <a:lnTo>
                      <a:pt x="1429" y="518"/>
                    </a:lnTo>
                    <a:lnTo>
                      <a:pt x="1439" y="508"/>
                    </a:lnTo>
                    <a:lnTo>
                      <a:pt x="1447" y="498"/>
                    </a:lnTo>
                    <a:lnTo>
                      <a:pt x="1455" y="487"/>
                    </a:lnTo>
                    <a:lnTo>
                      <a:pt x="1464" y="476"/>
                    </a:lnTo>
                    <a:lnTo>
                      <a:pt x="1471" y="465"/>
                    </a:lnTo>
                    <a:lnTo>
                      <a:pt x="1479" y="453"/>
                    </a:lnTo>
                    <a:lnTo>
                      <a:pt x="1487" y="442"/>
                    </a:lnTo>
                    <a:lnTo>
                      <a:pt x="1497" y="429"/>
                    </a:lnTo>
                    <a:lnTo>
                      <a:pt x="1507" y="415"/>
                    </a:lnTo>
                    <a:lnTo>
                      <a:pt x="1517" y="402"/>
                    </a:lnTo>
                    <a:lnTo>
                      <a:pt x="1526" y="387"/>
                    </a:lnTo>
                    <a:lnTo>
                      <a:pt x="1536" y="373"/>
                    </a:lnTo>
                    <a:lnTo>
                      <a:pt x="1545" y="360"/>
                    </a:lnTo>
                    <a:lnTo>
                      <a:pt x="1555" y="345"/>
                    </a:lnTo>
                    <a:lnTo>
                      <a:pt x="1566" y="332"/>
                    </a:lnTo>
                    <a:lnTo>
                      <a:pt x="1573" y="323"/>
                    </a:lnTo>
                    <a:lnTo>
                      <a:pt x="1580" y="313"/>
                    </a:lnTo>
                    <a:lnTo>
                      <a:pt x="1589" y="303"/>
                    </a:lnTo>
                    <a:lnTo>
                      <a:pt x="1596" y="294"/>
                    </a:lnTo>
                    <a:lnTo>
                      <a:pt x="1604" y="284"/>
                    </a:lnTo>
                    <a:lnTo>
                      <a:pt x="1613" y="276"/>
                    </a:lnTo>
                    <a:lnTo>
                      <a:pt x="1621" y="266"/>
                    </a:lnTo>
                    <a:lnTo>
                      <a:pt x="1631" y="259"/>
                    </a:lnTo>
                    <a:lnTo>
                      <a:pt x="1635" y="254"/>
                    </a:lnTo>
                    <a:lnTo>
                      <a:pt x="1641" y="249"/>
                    </a:lnTo>
                    <a:lnTo>
                      <a:pt x="1647" y="245"/>
                    </a:lnTo>
                    <a:lnTo>
                      <a:pt x="1653" y="240"/>
                    </a:lnTo>
                    <a:lnTo>
                      <a:pt x="1659" y="237"/>
                    </a:lnTo>
                    <a:lnTo>
                      <a:pt x="1665" y="235"/>
                    </a:lnTo>
                    <a:lnTo>
                      <a:pt x="1667" y="235"/>
                    </a:lnTo>
                    <a:lnTo>
                      <a:pt x="1669" y="236"/>
                    </a:lnTo>
                    <a:lnTo>
                      <a:pt x="1670" y="237"/>
                    </a:lnTo>
                    <a:lnTo>
                      <a:pt x="1671" y="240"/>
                    </a:lnTo>
                    <a:lnTo>
                      <a:pt x="1676" y="257"/>
                    </a:lnTo>
                    <a:lnTo>
                      <a:pt x="1679" y="272"/>
                    </a:lnTo>
                    <a:lnTo>
                      <a:pt x="1680" y="290"/>
                    </a:lnTo>
                    <a:lnTo>
                      <a:pt x="1679" y="307"/>
                    </a:lnTo>
                    <a:lnTo>
                      <a:pt x="1677" y="324"/>
                    </a:lnTo>
                    <a:lnTo>
                      <a:pt x="1675" y="341"/>
                    </a:lnTo>
                    <a:lnTo>
                      <a:pt x="1671" y="357"/>
                    </a:lnTo>
                    <a:lnTo>
                      <a:pt x="1667" y="374"/>
                    </a:lnTo>
                    <a:lnTo>
                      <a:pt x="1658" y="402"/>
                    </a:lnTo>
                    <a:lnTo>
                      <a:pt x="1649" y="430"/>
                    </a:lnTo>
                    <a:lnTo>
                      <a:pt x="1638" y="458"/>
                    </a:lnTo>
                    <a:lnTo>
                      <a:pt x="1626" y="486"/>
                    </a:lnTo>
                    <a:lnTo>
                      <a:pt x="1614" y="513"/>
                    </a:lnTo>
                    <a:lnTo>
                      <a:pt x="1601" y="541"/>
                    </a:lnTo>
                    <a:lnTo>
                      <a:pt x="1587" y="567"/>
                    </a:lnTo>
                    <a:lnTo>
                      <a:pt x="1575" y="595"/>
                    </a:lnTo>
                    <a:lnTo>
                      <a:pt x="1567" y="610"/>
                    </a:lnTo>
                    <a:lnTo>
                      <a:pt x="1560" y="625"/>
                    </a:lnTo>
                    <a:lnTo>
                      <a:pt x="1551" y="640"/>
                    </a:lnTo>
                    <a:lnTo>
                      <a:pt x="1543" y="655"/>
                    </a:lnTo>
                    <a:lnTo>
                      <a:pt x="1535" y="669"/>
                    </a:lnTo>
                    <a:lnTo>
                      <a:pt x="1525" y="684"/>
                    </a:lnTo>
                    <a:lnTo>
                      <a:pt x="1515" y="697"/>
                    </a:lnTo>
                    <a:lnTo>
                      <a:pt x="1506" y="710"/>
                    </a:lnTo>
                    <a:lnTo>
                      <a:pt x="1499" y="718"/>
                    </a:lnTo>
                    <a:lnTo>
                      <a:pt x="1490" y="726"/>
                    </a:lnTo>
                    <a:lnTo>
                      <a:pt x="1482" y="733"/>
                    </a:lnTo>
                    <a:lnTo>
                      <a:pt x="1472" y="739"/>
                    </a:lnTo>
                    <a:lnTo>
                      <a:pt x="1463" y="745"/>
                    </a:lnTo>
                    <a:lnTo>
                      <a:pt x="1454" y="752"/>
                    </a:lnTo>
                    <a:lnTo>
                      <a:pt x="1445" y="758"/>
                    </a:lnTo>
                    <a:lnTo>
                      <a:pt x="1436" y="765"/>
                    </a:lnTo>
                    <a:lnTo>
                      <a:pt x="1433" y="769"/>
                    </a:lnTo>
                    <a:lnTo>
                      <a:pt x="1428" y="772"/>
                    </a:lnTo>
                    <a:lnTo>
                      <a:pt x="1424" y="776"/>
                    </a:lnTo>
                    <a:lnTo>
                      <a:pt x="1419" y="780"/>
                    </a:lnTo>
                    <a:lnTo>
                      <a:pt x="1416" y="784"/>
                    </a:lnTo>
                    <a:lnTo>
                      <a:pt x="1413" y="788"/>
                    </a:lnTo>
                    <a:lnTo>
                      <a:pt x="1410" y="793"/>
                    </a:lnTo>
                    <a:lnTo>
                      <a:pt x="1409" y="798"/>
                    </a:lnTo>
                    <a:lnTo>
                      <a:pt x="1407" y="804"/>
                    </a:lnTo>
                    <a:lnTo>
                      <a:pt x="1406" y="810"/>
                    </a:lnTo>
                    <a:lnTo>
                      <a:pt x="1406" y="817"/>
                    </a:lnTo>
                    <a:lnTo>
                      <a:pt x="1407" y="823"/>
                    </a:lnTo>
                    <a:lnTo>
                      <a:pt x="1409" y="829"/>
                    </a:lnTo>
                    <a:lnTo>
                      <a:pt x="1411" y="835"/>
                    </a:lnTo>
                    <a:lnTo>
                      <a:pt x="1413" y="840"/>
                    </a:lnTo>
                    <a:lnTo>
                      <a:pt x="1418" y="843"/>
                    </a:lnTo>
                    <a:lnTo>
                      <a:pt x="1427" y="849"/>
                    </a:lnTo>
                    <a:lnTo>
                      <a:pt x="1437" y="853"/>
                    </a:lnTo>
                    <a:lnTo>
                      <a:pt x="1447" y="856"/>
                    </a:lnTo>
                    <a:lnTo>
                      <a:pt x="1458" y="858"/>
                    </a:lnTo>
                    <a:lnTo>
                      <a:pt x="1469" y="859"/>
                    </a:lnTo>
                    <a:lnTo>
                      <a:pt x="1479" y="860"/>
                    </a:lnTo>
                    <a:lnTo>
                      <a:pt x="1490" y="859"/>
                    </a:lnTo>
                    <a:lnTo>
                      <a:pt x="1501" y="858"/>
                    </a:lnTo>
                    <a:lnTo>
                      <a:pt x="1513" y="855"/>
                    </a:lnTo>
                    <a:lnTo>
                      <a:pt x="1524" y="852"/>
                    </a:lnTo>
                    <a:lnTo>
                      <a:pt x="1535" y="848"/>
                    </a:lnTo>
                    <a:lnTo>
                      <a:pt x="1547" y="843"/>
                    </a:lnTo>
                    <a:lnTo>
                      <a:pt x="1556" y="838"/>
                    </a:lnTo>
                    <a:lnTo>
                      <a:pt x="1567" y="831"/>
                    </a:lnTo>
                    <a:lnTo>
                      <a:pt x="1575" y="824"/>
                    </a:lnTo>
                    <a:lnTo>
                      <a:pt x="1584" y="816"/>
                    </a:lnTo>
                    <a:lnTo>
                      <a:pt x="1598" y="799"/>
                    </a:lnTo>
                    <a:lnTo>
                      <a:pt x="1610" y="782"/>
                    </a:lnTo>
                    <a:lnTo>
                      <a:pt x="1621" y="763"/>
                    </a:lnTo>
                    <a:lnTo>
                      <a:pt x="1632" y="744"/>
                    </a:lnTo>
                    <a:lnTo>
                      <a:pt x="1641" y="724"/>
                    </a:lnTo>
                    <a:lnTo>
                      <a:pt x="1652" y="705"/>
                    </a:lnTo>
                    <a:lnTo>
                      <a:pt x="1664" y="686"/>
                    </a:lnTo>
                    <a:lnTo>
                      <a:pt x="1676" y="668"/>
                    </a:lnTo>
                    <a:lnTo>
                      <a:pt x="1686" y="657"/>
                    </a:lnTo>
                    <a:lnTo>
                      <a:pt x="1695" y="645"/>
                    </a:lnTo>
                    <a:lnTo>
                      <a:pt x="1706" y="634"/>
                    </a:lnTo>
                    <a:lnTo>
                      <a:pt x="1717" y="624"/>
                    </a:lnTo>
                    <a:lnTo>
                      <a:pt x="1728" y="614"/>
                    </a:lnTo>
                    <a:lnTo>
                      <a:pt x="1740" y="604"/>
                    </a:lnTo>
                    <a:lnTo>
                      <a:pt x="1752" y="595"/>
                    </a:lnTo>
                    <a:lnTo>
                      <a:pt x="1764" y="585"/>
                    </a:lnTo>
                    <a:lnTo>
                      <a:pt x="1772" y="580"/>
                    </a:lnTo>
                    <a:lnTo>
                      <a:pt x="1779" y="574"/>
                    </a:lnTo>
                    <a:lnTo>
                      <a:pt x="1788" y="570"/>
                    </a:lnTo>
                    <a:lnTo>
                      <a:pt x="1797" y="565"/>
                    </a:lnTo>
                    <a:lnTo>
                      <a:pt x="1806" y="561"/>
                    </a:lnTo>
                    <a:lnTo>
                      <a:pt x="1814" y="559"/>
                    </a:lnTo>
                    <a:lnTo>
                      <a:pt x="1824" y="558"/>
                    </a:lnTo>
                    <a:lnTo>
                      <a:pt x="1833" y="558"/>
                    </a:lnTo>
                    <a:lnTo>
                      <a:pt x="1842" y="560"/>
                    </a:lnTo>
                    <a:lnTo>
                      <a:pt x="1850" y="562"/>
                    </a:lnTo>
                    <a:lnTo>
                      <a:pt x="1859" y="567"/>
                    </a:lnTo>
                    <a:lnTo>
                      <a:pt x="1866" y="573"/>
                    </a:lnTo>
                    <a:lnTo>
                      <a:pt x="1873" y="579"/>
                    </a:lnTo>
                    <a:lnTo>
                      <a:pt x="1880" y="586"/>
                    </a:lnTo>
                    <a:lnTo>
                      <a:pt x="1886" y="592"/>
                    </a:lnTo>
                    <a:lnTo>
                      <a:pt x="1893" y="600"/>
                    </a:lnTo>
                    <a:lnTo>
                      <a:pt x="1899" y="607"/>
                    </a:lnTo>
                    <a:lnTo>
                      <a:pt x="1905" y="614"/>
                    </a:lnTo>
                    <a:lnTo>
                      <a:pt x="1910" y="622"/>
                    </a:lnTo>
                    <a:lnTo>
                      <a:pt x="1916" y="631"/>
                    </a:lnTo>
                    <a:lnTo>
                      <a:pt x="1921" y="639"/>
                    </a:lnTo>
                    <a:lnTo>
                      <a:pt x="1925" y="648"/>
                    </a:lnTo>
                    <a:lnTo>
                      <a:pt x="1929" y="656"/>
                    </a:lnTo>
                    <a:lnTo>
                      <a:pt x="1934" y="664"/>
                    </a:lnTo>
                    <a:lnTo>
                      <a:pt x="1941" y="676"/>
                    </a:lnTo>
                    <a:lnTo>
                      <a:pt x="1950" y="687"/>
                    </a:lnTo>
                    <a:lnTo>
                      <a:pt x="1957" y="699"/>
                    </a:lnTo>
                    <a:lnTo>
                      <a:pt x="1964" y="711"/>
                    </a:lnTo>
                    <a:lnTo>
                      <a:pt x="1971" y="723"/>
                    </a:lnTo>
                    <a:lnTo>
                      <a:pt x="1979" y="735"/>
                    </a:lnTo>
                    <a:lnTo>
                      <a:pt x="1985" y="748"/>
                    </a:lnTo>
                    <a:lnTo>
                      <a:pt x="1991" y="760"/>
                    </a:lnTo>
                    <a:lnTo>
                      <a:pt x="1993" y="769"/>
                    </a:lnTo>
                    <a:lnTo>
                      <a:pt x="1995" y="776"/>
                    </a:lnTo>
                    <a:lnTo>
                      <a:pt x="1998" y="784"/>
                    </a:lnTo>
                    <a:lnTo>
                      <a:pt x="1999" y="793"/>
                    </a:lnTo>
                    <a:lnTo>
                      <a:pt x="2000" y="801"/>
                    </a:lnTo>
                    <a:lnTo>
                      <a:pt x="2000" y="810"/>
                    </a:lnTo>
                    <a:lnTo>
                      <a:pt x="2000" y="817"/>
                    </a:lnTo>
                    <a:lnTo>
                      <a:pt x="1999" y="825"/>
                    </a:lnTo>
                    <a:lnTo>
                      <a:pt x="1998" y="831"/>
                    </a:lnTo>
                    <a:lnTo>
                      <a:pt x="1995" y="836"/>
                    </a:lnTo>
                    <a:lnTo>
                      <a:pt x="1993" y="842"/>
                    </a:lnTo>
                    <a:lnTo>
                      <a:pt x="1989" y="847"/>
                    </a:lnTo>
                    <a:lnTo>
                      <a:pt x="1986" y="850"/>
                    </a:lnTo>
                    <a:lnTo>
                      <a:pt x="1981" y="854"/>
                    </a:lnTo>
                    <a:lnTo>
                      <a:pt x="1976" y="856"/>
                    </a:lnTo>
                    <a:lnTo>
                      <a:pt x="1971" y="858"/>
                    </a:lnTo>
                    <a:lnTo>
                      <a:pt x="1963" y="858"/>
                    </a:lnTo>
                    <a:lnTo>
                      <a:pt x="1956" y="855"/>
                    </a:lnTo>
                    <a:lnTo>
                      <a:pt x="1947" y="853"/>
                    </a:lnTo>
                    <a:lnTo>
                      <a:pt x="1939" y="849"/>
                    </a:lnTo>
                    <a:lnTo>
                      <a:pt x="1932" y="846"/>
                    </a:lnTo>
                    <a:lnTo>
                      <a:pt x="1925" y="841"/>
                    </a:lnTo>
                    <a:lnTo>
                      <a:pt x="1917" y="835"/>
                    </a:lnTo>
                    <a:lnTo>
                      <a:pt x="1911" y="830"/>
                    </a:lnTo>
                    <a:lnTo>
                      <a:pt x="1903" y="822"/>
                    </a:lnTo>
                    <a:lnTo>
                      <a:pt x="1896" y="812"/>
                    </a:lnTo>
                    <a:lnTo>
                      <a:pt x="1889" y="802"/>
                    </a:lnTo>
                    <a:lnTo>
                      <a:pt x="1883" y="793"/>
                    </a:lnTo>
                    <a:lnTo>
                      <a:pt x="1875" y="782"/>
                    </a:lnTo>
                    <a:lnTo>
                      <a:pt x="1869" y="771"/>
                    </a:lnTo>
                    <a:lnTo>
                      <a:pt x="1863" y="762"/>
                    </a:lnTo>
                    <a:lnTo>
                      <a:pt x="1856" y="752"/>
                    </a:lnTo>
                    <a:lnTo>
                      <a:pt x="1851" y="746"/>
                    </a:lnTo>
                    <a:lnTo>
                      <a:pt x="1848" y="739"/>
                    </a:lnTo>
                    <a:lnTo>
                      <a:pt x="1843" y="733"/>
                    </a:lnTo>
                    <a:lnTo>
                      <a:pt x="1839" y="727"/>
                    </a:lnTo>
                    <a:lnTo>
                      <a:pt x="1835" y="721"/>
                    </a:lnTo>
                    <a:lnTo>
                      <a:pt x="1830" y="716"/>
                    </a:lnTo>
                    <a:lnTo>
                      <a:pt x="1825" y="710"/>
                    </a:lnTo>
                    <a:lnTo>
                      <a:pt x="1819" y="705"/>
                    </a:lnTo>
                    <a:lnTo>
                      <a:pt x="1817" y="704"/>
                    </a:lnTo>
                    <a:lnTo>
                      <a:pt x="1814" y="703"/>
                    </a:lnTo>
                    <a:lnTo>
                      <a:pt x="1811" y="702"/>
                    </a:lnTo>
                    <a:lnTo>
                      <a:pt x="1807" y="702"/>
                    </a:lnTo>
                    <a:lnTo>
                      <a:pt x="1803" y="702"/>
                    </a:lnTo>
                    <a:lnTo>
                      <a:pt x="1801" y="702"/>
                    </a:lnTo>
                    <a:lnTo>
                      <a:pt x="1799" y="704"/>
                    </a:lnTo>
                    <a:lnTo>
                      <a:pt x="1796" y="705"/>
                    </a:lnTo>
                    <a:lnTo>
                      <a:pt x="1788" y="717"/>
                    </a:lnTo>
                    <a:lnTo>
                      <a:pt x="1781" y="730"/>
                    </a:lnTo>
                    <a:lnTo>
                      <a:pt x="1773" y="744"/>
                    </a:lnTo>
                    <a:lnTo>
                      <a:pt x="1767" y="758"/>
                    </a:lnTo>
                    <a:lnTo>
                      <a:pt x="1761" y="771"/>
                    </a:lnTo>
                    <a:lnTo>
                      <a:pt x="1755" y="784"/>
                    </a:lnTo>
                    <a:lnTo>
                      <a:pt x="1748" y="799"/>
                    </a:lnTo>
                    <a:lnTo>
                      <a:pt x="1741" y="812"/>
                    </a:lnTo>
                    <a:lnTo>
                      <a:pt x="1733" y="824"/>
                    </a:lnTo>
                    <a:lnTo>
                      <a:pt x="1725" y="837"/>
                    </a:lnTo>
                    <a:lnTo>
                      <a:pt x="1717" y="850"/>
                    </a:lnTo>
                    <a:lnTo>
                      <a:pt x="1709" y="864"/>
                    </a:lnTo>
                    <a:lnTo>
                      <a:pt x="1700" y="877"/>
                    </a:lnTo>
                    <a:lnTo>
                      <a:pt x="1691" y="889"/>
                    </a:lnTo>
                    <a:lnTo>
                      <a:pt x="1681" y="901"/>
                    </a:lnTo>
                    <a:lnTo>
                      <a:pt x="1671" y="913"/>
                    </a:lnTo>
                    <a:lnTo>
                      <a:pt x="1662" y="924"/>
                    </a:lnTo>
                    <a:lnTo>
                      <a:pt x="1652" y="934"/>
                    </a:lnTo>
                    <a:lnTo>
                      <a:pt x="1643" y="944"/>
                    </a:lnTo>
                    <a:lnTo>
                      <a:pt x="1632" y="954"/>
                    </a:lnTo>
                    <a:lnTo>
                      <a:pt x="1621" y="963"/>
                    </a:lnTo>
                    <a:lnTo>
                      <a:pt x="1610" y="973"/>
                    </a:lnTo>
                    <a:lnTo>
                      <a:pt x="1599" y="982"/>
                    </a:lnTo>
                    <a:lnTo>
                      <a:pt x="1589" y="991"/>
                    </a:lnTo>
                    <a:lnTo>
                      <a:pt x="1580" y="997"/>
                    </a:lnTo>
                    <a:lnTo>
                      <a:pt x="1573" y="1003"/>
                    </a:lnTo>
                    <a:lnTo>
                      <a:pt x="1565" y="1009"/>
                    </a:lnTo>
                    <a:lnTo>
                      <a:pt x="1555" y="1015"/>
                    </a:lnTo>
                    <a:lnTo>
                      <a:pt x="1547" y="1020"/>
                    </a:lnTo>
                    <a:lnTo>
                      <a:pt x="1538" y="1024"/>
                    </a:lnTo>
                    <a:lnTo>
                      <a:pt x="1529" y="1029"/>
                    </a:lnTo>
                    <a:lnTo>
                      <a:pt x="1519" y="1033"/>
                    </a:lnTo>
                    <a:lnTo>
                      <a:pt x="1511" y="1035"/>
                    </a:lnTo>
                    <a:lnTo>
                      <a:pt x="1502" y="1038"/>
                    </a:lnTo>
                    <a:lnTo>
                      <a:pt x="1494" y="1039"/>
                    </a:lnTo>
                    <a:lnTo>
                      <a:pt x="1485" y="1040"/>
                    </a:lnTo>
                    <a:lnTo>
                      <a:pt x="1476" y="1041"/>
                    </a:lnTo>
                    <a:lnTo>
                      <a:pt x="1467" y="1042"/>
                    </a:lnTo>
                    <a:lnTo>
                      <a:pt x="1459" y="1045"/>
                    </a:lnTo>
                    <a:lnTo>
                      <a:pt x="1451" y="1046"/>
                    </a:lnTo>
                    <a:lnTo>
                      <a:pt x="1445" y="1048"/>
                    </a:lnTo>
                    <a:lnTo>
                      <a:pt x="1439" y="1050"/>
                    </a:lnTo>
                    <a:lnTo>
                      <a:pt x="1433" y="1051"/>
                    </a:lnTo>
                    <a:lnTo>
                      <a:pt x="1427" y="1052"/>
                    </a:lnTo>
                    <a:lnTo>
                      <a:pt x="1421" y="1054"/>
                    </a:lnTo>
                    <a:lnTo>
                      <a:pt x="1416" y="1057"/>
                    </a:lnTo>
                    <a:lnTo>
                      <a:pt x="1412" y="1060"/>
                    </a:lnTo>
                    <a:lnTo>
                      <a:pt x="1409" y="1065"/>
                    </a:lnTo>
                    <a:lnTo>
                      <a:pt x="1407" y="1069"/>
                    </a:lnTo>
                    <a:lnTo>
                      <a:pt x="1407" y="1074"/>
                    </a:lnTo>
                    <a:lnTo>
                      <a:pt x="1409" y="1077"/>
                    </a:lnTo>
                    <a:lnTo>
                      <a:pt x="1411" y="1082"/>
                    </a:lnTo>
                    <a:lnTo>
                      <a:pt x="1413" y="1086"/>
                    </a:lnTo>
                    <a:lnTo>
                      <a:pt x="1416" y="1090"/>
                    </a:lnTo>
                    <a:lnTo>
                      <a:pt x="1419" y="1094"/>
                    </a:lnTo>
                    <a:lnTo>
                      <a:pt x="1423" y="1098"/>
                    </a:lnTo>
                    <a:lnTo>
                      <a:pt x="1430" y="1104"/>
                    </a:lnTo>
                    <a:lnTo>
                      <a:pt x="1439" y="1110"/>
                    </a:lnTo>
                    <a:lnTo>
                      <a:pt x="1447" y="1114"/>
                    </a:lnTo>
                    <a:lnTo>
                      <a:pt x="1455" y="1119"/>
                    </a:lnTo>
                    <a:lnTo>
                      <a:pt x="1464" y="1125"/>
                    </a:lnTo>
                    <a:lnTo>
                      <a:pt x="1472" y="1130"/>
                    </a:lnTo>
                    <a:lnTo>
                      <a:pt x="1481" y="1136"/>
                    </a:lnTo>
                    <a:lnTo>
                      <a:pt x="1487" y="1143"/>
                    </a:lnTo>
                    <a:lnTo>
                      <a:pt x="1494" y="1153"/>
                    </a:lnTo>
                    <a:lnTo>
                      <a:pt x="1500" y="1162"/>
                    </a:lnTo>
                    <a:lnTo>
                      <a:pt x="1506" y="1173"/>
                    </a:lnTo>
                    <a:lnTo>
                      <a:pt x="1511" y="1183"/>
                    </a:lnTo>
                    <a:lnTo>
                      <a:pt x="1514" y="1193"/>
                    </a:lnTo>
                    <a:lnTo>
                      <a:pt x="1519" y="1205"/>
                    </a:lnTo>
                    <a:lnTo>
                      <a:pt x="1524" y="1215"/>
                    </a:lnTo>
                    <a:lnTo>
                      <a:pt x="1529" y="1226"/>
                    </a:lnTo>
                    <a:lnTo>
                      <a:pt x="1536" y="1241"/>
                    </a:lnTo>
                    <a:lnTo>
                      <a:pt x="1541" y="1256"/>
                    </a:lnTo>
                    <a:lnTo>
                      <a:pt x="1547" y="1271"/>
                    </a:lnTo>
                    <a:lnTo>
                      <a:pt x="1553" y="1287"/>
                    </a:lnTo>
                    <a:lnTo>
                      <a:pt x="1559" y="1301"/>
                    </a:lnTo>
                    <a:lnTo>
                      <a:pt x="1566" y="1316"/>
                    </a:lnTo>
                    <a:lnTo>
                      <a:pt x="1574" y="1329"/>
                    </a:lnTo>
                    <a:lnTo>
                      <a:pt x="1584" y="1341"/>
                    </a:lnTo>
                    <a:lnTo>
                      <a:pt x="1597" y="1353"/>
                    </a:lnTo>
                    <a:lnTo>
                      <a:pt x="1610" y="1364"/>
                    </a:lnTo>
                    <a:lnTo>
                      <a:pt x="1625" y="1372"/>
                    </a:lnTo>
                    <a:lnTo>
                      <a:pt x="1640" y="1381"/>
                    </a:lnTo>
                    <a:lnTo>
                      <a:pt x="1656" y="1389"/>
                    </a:lnTo>
                    <a:lnTo>
                      <a:pt x="1673" y="1396"/>
                    </a:lnTo>
                    <a:lnTo>
                      <a:pt x="1688" y="1403"/>
                    </a:lnTo>
                    <a:lnTo>
                      <a:pt x="1704" y="1411"/>
                    </a:lnTo>
                    <a:lnTo>
                      <a:pt x="1716" y="1415"/>
                    </a:lnTo>
                    <a:lnTo>
                      <a:pt x="1727" y="1420"/>
                    </a:lnTo>
                    <a:lnTo>
                      <a:pt x="1739" y="1424"/>
                    </a:lnTo>
                    <a:lnTo>
                      <a:pt x="1751" y="1429"/>
                    </a:lnTo>
                    <a:lnTo>
                      <a:pt x="1763" y="1432"/>
                    </a:lnTo>
                    <a:lnTo>
                      <a:pt x="1773" y="1437"/>
                    </a:lnTo>
                    <a:lnTo>
                      <a:pt x="1785" y="1442"/>
                    </a:lnTo>
                    <a:lnTo>
                      <a:pt x="1796" y="1448"/>
                    </a:lnTo>
                    <a:lnTo>
                      <a:pt x="1801" y="1450"/>
                    </a:lnTo>
                    <a:lnTo>
                      <a:pt x="1807" y="1455"/>
                    </a:lnTo>
                    <a:lnTo>
                      <a:pt x="1812" y="1459"/>
                    </a:lnTo>
                    <a:lnTo>
                      <a:pt x="1817" y="1463"/>
                    </a:lnTo>
                    <a:lnTo>
                      <a:pt x="1820" y="1468"/>
                    </a:lnTo>
                    <a:lnTo>
                      <a:pt x="1824" y="1473"/>
                    </a:lnTo>
                    <a:lnTo>
                      <a:pt x="1826" y="1479"/>
                    </a:lnTo>
                    <a:lnTo>
                      <a:pt x="1829" y="1484"/>
                    </a:lnTo>
                    <a:lnTo>
                      <a:pt x="1830" y="1491"/>
                    </a:lnTo>
                    <a:lnTo>
                      <a:pt x="1831" y="1499"/>
                    </a:lnTo>
                    <a:lnTo>
                      <a:pt x="1832" y="1508"/>
                    </a:lnTo>
                    <a:lnTo>
                      <a:pt x="1832" y="1516"/>
                    </a:lnTo>
                    <a:lnTo>
                      <a:pt x="1831" y="1523"/>
                    </a:lnTo>
                    <a:lnTo>
                      <a:pt x="1829" y="1531"/>
                    </a:lnTo>
                    <a:lnTo>
                      <a:pt x="1827" y="1533"/>
                    </a:lnTo>
                    <a:lnTo>
                      <a:pt x="1825" y="1537"/>
                    </a:lnTo>
                    <a:lnTo>
                      <a:pt x="1823" y="1538"/>
                    </a:lnTo>
                    <a:lnTo>
                      <a:pt x="1819" y="1540"/>
                    </a:lnTo>
                    <a:lnTo>
                      <a:pt x="1808" y="1543"/>
                    </a:lnTo>
                    <a:lnTo>
                      <a:pt x="1796" y="1544"/>
                    </a:lnTo>
                    <a:lnTo>
                      <a:pt x="1784" y="1543"/>
                    </a:lnTo>
                    <a:lnTo>
                      <a:pt x="1771" y="1540"/>
                    </a:lnTo>
                    <a:lnTo>
                      <a:pt x="1759" y="1537"/>
                    </a:lnTo>
                    <a:lnTo>
                      <a:pt x="1747" y="1533"/>
                    </a:lnTo>
                    <a:lnTo>
                      <a:pt x="1734" y="1529"/>
                    </a:lnTo>
                    <a:lnTo>
                      <a:pt x="1723" y="1526"/>
                    </a:lnTo>
                    <a:lnTo>
                      <a:pt x="1710" y="1522"/>
                    </a:lnTo>
                    <a:lnTo>
                      <a:pt x="1697" y="1517"/>
                    </a:lnTo>
                    <a:lnTo>
                      <a:pt x="1683" y="1513"/>
                    </a:lnTo>
                    <a:lnTo>
                      <a:pt x="1671" y="1507"/>
                    </a:lnTo>
                    <a:lnTo>
                      <a:pt x="1658" y="1502"/>
                    </a:lnTo>
                    <a:lnTo>
                      <a:pt x="1646" y="1496"/>
                    </a:lnTo>
                    <a:lnTo>
                      <a:pt x="1633" y="1490"/>
                    </a:lnTo>
                    <a:lnTo>
                      <a:pt x="1621" y="1484"/>
                    </a:lnTo>
                    <a:lnTo>
                      <a:pt x="1605" y="1478"/>
                    </a:lnTo>
                    <a:lnTo>
                      <a:pt x="1590" y="1472"/>
                    </a:lnTo>
                    <a:lnTo>
                      <a:pt x="1574" y="1466"/>
                    </a:lnTo>
                    <a:lnTo>
                      <a:pt x="1559" y="1460"/>
                    </a:lnTo>
                    <a:lnTo>
                      <a:pt x="1544" y="1453"/>
                    </a:lnTo>
                    <a:lnTo>
                      <a:pt x="1529" y="1447"/>
                    </a:lnTo>
                    <a:lnTo>
                      <a:pt x="1514" y="1438"/>
                    </a:lnTo>
                    <a:lnTo>
                      <a:pt x="1501" y="1429"/>
                    </a:lnTo>
                    <a:lnTo>
                      <a:pt x="1491" y="1421"/>
                    </a:lnTo>
                    <a:lnTo>
                      <a:pt x="1482" y="1413"/>
                    </a:lnTo>
                    <a:lnTo>
                      <a:pt x="1472" y="1403"/>
                    </a:lnTo>
                    <a:lnTo>
                      <a:pt x="1464" y="1394"/>
                    </a:lnTo>
                    <a:lnTo>
                      <a:pt x="1457" y="1383"/>
                    </a:lnTo>
                    <a:lnTo>
                      <a:pt x="1449" y="1373"/>
                    </a:lnTo>
                    <a:lnTo>
                      <a:pt x="1442" y="1361"/>
                    </a:lnTo>
                    <a:lnTo>
                      <a:pt x="1436" y="1351"/>
                    </a:lnTo>
                    <a:lnTo>
                      <a:pt x="1434" y="1342"/>
                    </a:lnTo>
                    <a:lnTo>
                      <a:pt x="1431" y="1334"/>
                    </a:lnTo>
                    <a:lnTo>
                      <a:pt x="1431" y="1325"/>
                    </a:lnTo>
                    <a:lnTo>
                      <a:pt x="1430" y="1317"/>
                    </a:lnTo>
                    <a:lnTo>
                      <a:pt x="1430" y="1307"/>
                    </a:lnTo>
                    <a:lnTo>
                      <a:pt x="1430" y="1299"/>
                    </a:lnTo>
                    <a:lnTo>
                      <a:pt x="1429" y="1289"/>
                    </a:lnTo>
                    <a:lnTo>
                      <a:pt x="1427" y="1281"/>
                    </a:lnTo>
                    <a:lnTo>
                      <a:pt x="1424" y="1274"/>
                    </a:lnTo>
                    <a:lnTo>
                      <a:pt x="1422" y="1267"/>
                    </a:lnTo>
                    <a:lnTo>
                      <a:pt x="1418" y="1258"/>
                    </a:lnTo>
                    <a:lnTo>
                      <a:pt x="1415" y="1251"/>
                    </a:lnTo>
                    <a:lnTo>
                      <a:pt x="1411" y="1244"/>
                    </a:lnTo>
                    <a:lnTo>
                      <a:pt x="1406" y="1238"/>
                    </a:lnTo>
                    <a:lnTo>
                      <a:pt x="1400" y="1232"/>
                    </a:lnTo>
                    <a:lnTo>
                      <a:pt x="1395" y="1226"/>
                    </a:lnTo>
                    <a:lnTo>
                      <a:pt x="1391" y="1223"/>
                    </a:lnTo>
                    <a:lnTo>
                      <a:pt x="1386" y="1222"/>
                    </a:lnTo>
                    <a:lnTo>
                      <a:pt x="1381" y="1221"/>
                    </a:lnTo>
                    <a:lnTo>
                      <a:pt x="1376" y="1220"/>
                    </a:lnTo>
                    <a:lnTo>
                      <a:pt x="1371" y="1220"/>
                    </a:lnTo>
                    <a:lnTo>
                      <a:pt x="1367" y="1221"/>
                    </a:lnTo>
                    <a:lnTo>
                      <a:pt x="1362" y="1223"/>
                    </a:lnTo>
                    <a:lnTo>
                      <a:pt x="1358" y="1226"/>
                    </a:lnTo>
                    <a:lnTo>
                      <a:pt x="1353" y="1232"/>
                    </a:lnTo>
                    <a:lnTo>
                      <a:pt x="1350" y="1238"/>
                    </a:lnTo>
                    <a:lnTo>
                      <a:pt x="1346" y="1245"/>
                    </a:lnTo>
                    <a:lnTo>
                      <a:pt x="1344" y="1252"/>
                    </a:lnTo>
                    <a:lnTo>
                      <a:pt x="1343" y="1259"/>
                    </a:lnTo>
                    <a:lnTo>
                      <a:pt x="1341" y="1267"/>
                    </a:lnTo>
                    <a:lnTo>
                      <a:pt x="1340" y="1274"/>
                    </a:lnTo>
                    <a:lnTo>
                      <a:pt x="1339" y="1281"/>
                    </a:lnTo>
                    <a:lnTo>
                      <a:pt x="1338" y="1297"/>
                    </a:lnTo>
                    <a:lnTo>
                      <a:pt x="1338" y="1312"/>
                    </a:lnTo>
                    <a:lnTo>
                      <a:pt x="1338" y="1328"/>
                    </a:lnTo>
                    <a:lnTo>
                      <a:pt x="1338" y="1343"/>
                    </a:lnTo>
                    <a:lnTo>
                      <a:pt x="1338" y="1359"/>
                    </a:lnTo>
                    <a:lnTo>
                      <a:pt x="1339" y="1375"/>
                    </a:lnTo>
                    <a:lnTo>
                      <a:pt x="1339" y="1390"/>
                    </a:lnTo>
                    <a:lnTo>
                      <a:pt x="1339" y="1406"/>
                    </a:lnTo>
                    <a:lnTo>
                      <a:pt x="1340" y="1418"/>
                    </a:lnTo>
                    <a:lnTo>
                      <a:pt x="1341" y="1430"/>
                    </a:lnTo>
                    <a:lnTo>
                      <a:pt x="1343" y="1442"/>
                    </a:lnTo>
                    <a:lnTo>
                      <a:pt x="1344" y="1455"/>
                    </a:lnTo>
                    <a:lnTo>
                      <a:pt x="1345" y="1467"/>
                    </a:lnTo>
                    <a:lnTo>
                      <a:pt x="1345" y="1479"/>
                    </a:lnTo>
                    <a:lnTo>
                      <a:pt x="1345" y="1491"/>
                    </a:lnTo>
                    <a:lnTo>
                      <a:pt x="1344" y="1503"/>
                    </a:lnTo>
                    <a:lnTo>
                      <a:pt x="1343" y="1511"/>
                    </a:lnTo>
                    <a:lnTo>
                      <a:pt x="1340" y="1521"/>
                    </a:lnTo>
                    <a:lnTo>
                      <a:pt x="1337" y="1529"/>
                    </a:lnTo>
                    <a:lnTo>
                      <a:pt x="1332" y="1538"/>
                    </a:lnTo>
                    <a:lnTo>
                      <a:pt x="1328" y="1546"/>
                    </a:lnTo>
                    <a:lnTo>
                      <a:pt x="1325" y="1555"/>
                    </a:lnTo>
                    <a:lnTo>
                      <a:pt x="1320" y="1563"/>
                    </a:lnTo>
                    <a:lnTo>
                      <a:pt x="1316" y="1571"/>
                    </a:lnTo>
                    <a:lnTo>
                      <a:pt x="1313" y="1582"/>
                    </a:lnTo>
                    <a:lnTo>
                      <a:pt x="1309" y="1593"/>
                    </a:lnTo>
                    <a:lnTo>
                      <a:pt x="1305" y="1604"/>
                    </a:lnTo>
                    <a:lnTo>
                      <a:pt x="1303" y="1615"/>
                    </a:lnTo>
                    <a:lnTo>
                      <a:pt x="1299" y="1625"/>
                    </a:lnTo>
                    <a:lnTo>
                      <a:pt x="1295" y="1635"/>
                    </a:lnTo>
                    <a:lnTo>
                      <a:pt x="1290" y="1646"/>
                    </a:lnTo>
                    <a:lnTo>
                      <a:pt x="1284" y="1655"/>
                    </a:lnTo>
                    <a:lnTo>
                      <a:pt x="1278" y="1663"/>
                    </a:lnTo>
                    <a:lnTo>
                      <a:pt x="1272" y="1670"/>
                    </a:lnTo>
                    <a:lnTo>
                      <a:pt x="1265" y="1677"/>
                    </a:lnTo>
                    <a:lnTo>
                      <a:pt x="1257" y="1683"/>
                    </a:lnTo>
                    <a:lnTo>
                      <a:pt x="1249" y="1689"/>
                    </a:lnTo>
                    <a:lnTo>
                      <a:pt x="1241" y="1695"/>
                    </a:lnTo>
                    <a:lnTo>
                      <a:pt x="1232" y="1700"/>
                    </a:lnTo>
                    <a:lnTo>
                      <a:pt x="1224" y="1706"/>
                    </a:lnTo>
                    <a:lnTo>
                      <a:pt x="1219" y="1709"/>
                    </a:lnTo>
                    <a:lnTo>
                      <a:pt x="1213" y="1713"/>
                    </a:lnTo>
                    <a:lnTo>
                      <a:pt x="1207" y="1715"/>
                    </a:lnTo>
                    <a:lnTo>
                      <a:pt x="1201" y="1719"/>
                    </a:lnTo>
                    <a:lnTo>
                      <a:pt x="1195" y="1721"/>
                    </a:lnTo>
                    <a:lnTo>
                      <a:pt x="1189" y="1723"/>
                    </a:lnTo>
                    <a:lnTo>
                      <a:pt x="1183" y="1721"/>
                    </a:lnTo>
                    <a:lnTo>
                      <a:pt x="1178" y="1719"/>
                    </a:lnTo>
                    <a:lnTo>
                      <a:pt x="1172" y="1714"/>
                    </a:lnTo>
                    <a:lnTo>
                      <a:pt x="1167" y="1708"/>
                    </a:lnTo>
                    <a:lnTo>
                      <a:pt x="1163" y="1701"/>
                    </a:lnTo>
                    <a:lnTo>
                      <a:pt x="1160" y="1693"/>
                    </a:lnTo>
                    <a:lnTo>
                      <a:pt x="1158" y="1684"/>
                    </a:lnTo>
                    <a:lnTo>
                      <a:pt x="1157" y="1676"/>
                    </a:lnTo>
                    <a:lnTo>
                      <a:pt x="1155" y="1667"/>
                    </a:lnTo>
                    <a:lnTo>
                      <a:pt x="1155" y="1659"/>
                    </a:lnTo>
                    <a:lnTo>
                      <a:pt x="1155" y="1648"/>
                    </a:lnTo>
                    <a:lnTo>
                      <a:pt x="1157" y="1636"/>
                    </a:lnTo>
                    <a:lnTo>
                      <a:pt x="1159" y="1624"/>
                    </a:lnTo>
                    <a:lnTo>
                      <a:pt x="1163" y="1612"/>
                    </a:lnTo>
                    <a:lnTo>
                      <a:pt x="1166" y="1601"/>
                    </a:lnTo>
                    <a:lnTo>
                      <a:pt x="1170" y="1589"/>
                    </a:lnTo>
                    <a:lnTo>
                      <a:pt x="1173" y="1579"/>
                    </a:lnTo>
                    <a:lnTo>
                      <a:pt x="1178" y="1568"/>
                    </a:lnTo>
                    <a:lnTo>
                      <a:pt x="1182" y="1558"/>
                    </a:lnTo>
                    <a:lnTo>
                      <a:pt x="1187" y="1549"/>
                    </a:lnTo>
                    <a:lnTo>
                      <a:pt x="1193" y="1540"/>
                    </a:lnTo>
                    <a:lnTo>
                      <a:pt x="1197" y="1531"/>
                    </a:lnTo>
                    <a:lnTo>
                      <a:pt x="1203" y="1522"/>
                    </a:lnTo>
                    <a:lnTo>
                      <a:pt x="1208" y="1513"/>
                    </a:lnTo>
                    <a:lnTo>
                      <a:pt x="1212" y="1503"/>
                    </a:lnTo>
                    <a:lnTo>
                      <a:pt x="1215" y="1493"/>
                    </a:lnTo>
                    <a:lnTo>
                      <a:pt x="1219" y="1477"/>
                    </a:lnTo>
                    <a:lnTo>
                      <a:pt x="1221" y="1461"/>
                    </a:lnTo>
                    <a:lnTo>
                      <a:pt x="1225" y="1444"/>
                    </a:lnTo>
                    <a:lnTo>
                      <a:pt x="1226" y="1427"/>
                    </a:lnTo>
                    <a:lnTo>
                      <a:pt x="1229" y="1411"/>
                    </a:lnTo>
                    <a:lnTo>
                      <a:pt x="1229" y="1394"/>
                    </a:lnTo>
                    <a:lnTo>
                      <a:pt x="1229" y="1377"/>
                    </a:lnTo>
                    <a:lnTo>
                      <a:pt x="1229" y="1360"/>
                    </a:lnTo>
                    <a:lnTo>
                      <a:pt x="1227" y="1349"/>
                    </a:lnTo>
                    <a:lnTo>
                      <a:pt x="1226" y="1339"/>
                    </a:lnTo>
                    <a:lnTo>
                      <a:pt x="1225" y="1328"/>
                    </a:lnTo>
                    <a:lnTo>
                      <a:pt x="1223" y="1317"/>
                    </a:lnTo>
                    <a:lnTo>
                      <a:pt x="1219" y="1306"/>
                    </a:lnTo>
                    <a:lnTo>
                      <a:pt x="1215" y="1297"/>
                    </a:lnTo>
                    <a:lnTo>
                      <a:pt x="1211" y="1287"/>
                    </a:lnTo>
                    <a:lnTo>
                      <a:pt x="1206" y="1277"/>
                    </a:lnTo>
                    <a:lnTo>
                      <a:pt x="1202" y="1271"/>
                    </a:lnTo>
                    <a:lnTo>
                      <a:pt x="1199" y="1265"/>
                    </a:lnTo>
                    <a:lnTo>
                      <a:pt x="1194" y="1261"/>
                    </a:lnTo>
                    <a:lnTo>
                      <a:pt x="1188" y="1256"/>
                    </a:lnTo>
                    <a:lnTo>
                      <a:pt x="1183" y="1251"/>
                    </a:lnTo>
                    <a:lnTo>
                      <a:pt x="1177" y="1249"/>
                    </a:lnTo>
                    <a:lnTo>
                      <a:pt x="1171" y="1246"/>
                    </a:lnTo>
                    <a:lnTo>
                      <a:pt x="1164" y="1245"/>
                    </a:lnTo>
                    <a:lnTo>
                      <a:pt x="1157" y="1245"/>
                    </a:lnTo>
                    <a:lnTo>
                      <a:pt x="1149" y="1245"/>
                    </a:lnTo>
                    <a:lnTo>
                      <a:pt x="1141" y="1247"/>
                    </a:lnTo>
                    <a:lnTo>
                      <a:pt x="1134" y="1250"/>
                    </a:lnTo>
                    <a:lnTo>
                      <a:pt x="1127" y="1253"/>
                    </a:lnTo>
                    <a:lnTo>
                      <a:pt x="1121" y="1257"/>
                    </a:lnTo>
                    <a:lnTo>
                      <a:pt x="1115" y="1262"/>
                    </a:lnTo>
                    <a:lnTo>
                      <a:pt x="1109" y="1268"/>
                    </a:lnTo>
                    <a:lnTo>
                      <a:pt x="1101" y="1276"/>
                    </a:lnTo>
                    <a:lnTo>
                      <a:pt x="1095" y="1286"/>
                    </a:lnTo>
                    <a:lnTo>
                      <a:pt x="1091" y="1297"/>
                    </a:lnTo>
                    <a:lnTo>
                      <a:pt x="1086" y="1307"/>
                    </a:lnTo>
                    <a:lnTo>
                      <a:pt x="1081" y="1318"/>
                    </a:lnTo>
                    <a:lnTo>
                      <a:pt x="1076" y="1329"/>
                    </a:lnTo>
                    <a:lnTo>
                      <a:pt x="1073" y="1340"/>
                    </a:lnTo>
                    <a:lnTo>
                      <a:pt x="1068" y="1351"/>
                    </a:lnTo>
                    <a:lnTo>
                      <a:pt x="1059" y="1367"/>
                    </a:lnTo>
                    <a:lnTo>
                      <a:pt x="1051" y="1384"/>
                    </a:lnTo>
                    <a:lnTo>
                      <a:pt x="1043" y="1401"/>
                    </a:lnTo>
                    <a:lnTo>
                      <a:pt x="1034" y="1418"/>
                    </a:lnTo>
                    <a:lnTo>
                      <a:pt x="1026" y="1435"/>
                    </a:lnTo>
                    <a:lnTo>
                      <a:pt x="1017" y="1451"/>
                    </a:lnTo>
                    <a:lnTo>
                      <a:pt x="1008" y="1468"/>
                    </a:lnTo>
                    <a:lnTo>
                      <a:pt x="998" y="1484"/>
                    </a:lnTo>
                    <a:lnTo>
                      <a:pt x="989" y="1499"/>
                    </a:lnTo>
                    <a:lnTo>
                      <a:pt x="979" y="1514"/>
                    </a:lnTo>
                    <a:lnTo>
                      <a:pt x="969" y="1528"/>
                    </a:lnTo>
                    <a:lnTo>
                      <a:pt x="960" y="1543"/>
                    </a:lnTo>
                    <a:lnTo>
                      <a:pt x="949" y="1556"/>
                    </a:lnTo>
                    <a:lnTo>
                      <a:pt x="938" y="1570"/>
                    </a:lnTo>
                    <a:lnTo>
                      <a:pt x="927" y="1582"/>
                    </a:lnTo>
                    <a:lnTo>
                      <a:pt x="915" y="1595"/>
                    </a:lnTo>
                    <a:lnTo>
                      <a:pt x="902" y="1606"/>
                    </a:lnTo>
                    <a:lnTo>
                      <a:pt x="889" y="1618"/>
                    </a:lnTo>
                    <a:lnTo>
                      <a:pt x="875" y="1629"/>
                    </a:lnTo>
                    <a:lnTo>
                      <a:pt x="860" y="1639"/>
                    </a:lnTo>
                    <a:lnTo>
                      <a:pt x="846" y="1648"/>
                    </a:lnTo>
                    <a:lnTo>
                      <a:pt x="830" y="1657"/>
                    </a:lnTo>
                    <a:lnTo>
                      <a:pt x="816" y="1665"/>
                    </a:lnTo>
                    <a:lnTo>
                      <a:pt x="800" y="1673"/>
                    </a:lnTo>
                    <a:lnTo>
                      <a:pt x="788" y="1678"/>
                    </a:lnTo>
                    <a:lnTo>
                      <a:pt x="775" y="1683"/>
                    </a:lnTo>
                    <a:lnTo>
                      <a:pt x="763" y="1688"/>
                    </a:lnTo>
                    <a:lnTo>
                      <a:pt x="750" y="1691"/>
                    </a:lnTo>
                    <a:lnTo>
                      <a:pt x="738" y="1694"/>
                    </a:lnTo>
                    <a:lnTo>
                      <a:pt x="725" y="1697"/>
                    </a:lnTo>
                    <a:lnTo>
                      <a:pt x="711" y="1699"/>
                    </a:lnTo>
                    <a:lnTo>
                      <a:pt x="698" y="1701"/>
                    </a:lnTo>
                    <a:lnTo>
                      <a:pt x="693" y="1701"/>
                    </a:lnTo>
                    <a:lnTo>
                      <a:pt x="689" y="1702"/>
                    </a:lnTo>
                    <a:lnTo>
                      <a:pt x="683" y="1701"/>
                    </a:lnTo>
                    <a:lnTo>
                      <a:pt x="678" y="1701"/>
                    </a:lnTo>
                    <a:lnTo>
                      <a:pt x="673" y="1700"/>
                    </a:lnTo>
                    <a:lnTo>
                      <a:pt x="668" y="1697"/>
                    </a:lnTo>
                    <a:lnTo>
                      <a:pt x="665" y="1695"/>
                    </a:lnTo>
                    <a:lnTo>
                      <a:pt x="661" y="1691"/>
                    </a:lnTo>
                    <a:lnTo>
                      <a:pt x="659" y="1688"/>
                    </a:lnTo>
                    <a:lnTo>
                      <a:pt x="657" y="1683"/>
                    </a:lnTo>
                    <a:lnTo>
                      <a:pt x="657" y="1678"/>
                    </a:lnTo>
                    <a:lnTo>
                      <a:pt x="657" y="1673"/>
                    </a:lnTo>
                    <a:lnTo>
                      <a:pt x="659" y="1669"/>
                    </a:lnTo>
                    <a:lnTo>
                      <a:pt x="661" y="1664"/>
                    </a:lnTo>
                    <a:lnTo>
                      <a:pt x="663" y="1659"/>
                    </a:lnTo>
                    <a:lnTo>
                      <a:pt x="666" y="1655"/>
                    </a:lnTo>
                    <a:lnTo>
                      <a:pt x="675" y="1645"/>
                    </a:lnTo>
                    <a:lnTo>
                      <a:pt x="686" y="1635"/>
                    </a:lnTo>
                    <a:lnTo>
                      <a:pt x="697" y="1625"/>
                    </a:lnTo>
                    <a:lnTo>
                      <a:pt x="708" y="1617"/>
                    </a:lnTo>
                    <a:lnTo>
                      <a:pt x="720" y="1607"/>
                    </a:lnTo>
                    <a:lnTo>
                      <a:pt x="732" y="1599"/>
                    </a:lnTo>
                    <a:lnTo>
                      <a:pt x="743" y="1591"/>
                    </a:lnTo>
                    <a:lnTo>
                      <a:pt x="753" y="1581"/>
                    </a:lnTo>
                    <a:lnTo>
                      <a:pt x="767" y="1570"/>
                    </a:lnTo>
                    <a:lnTo>
                      <a:pt x="779" y="1559"/>
                    </a:lnTo>
                    <a:lnTo>
                      <a:pt x="792" y="1549"/>
                    </a:lnTo>
                    <a:lnTo>
                      <a:pt x="805" y="1538"/>
                    </a:lnTo>
                    <a:lnTo>
                      <a:pt x="817" y="1526"/>
                    </a:lnTo>
                    <a:lnTo>
                      <a:pt x="829" y="1515"/>
                    </a:lnTo>
                    <a:lnTo>
                      <a:pt x="840" y="1502"/>
                    </a:lnTo>
                    <a:lnTo>
                      <a:pt x="851" y="1489"/>
                    </a:lnTo>
                    <a:lnTo>
                      <a:pt x="860" y="1474"/>
                    </a:lnTo>
                    <a:lnTo>
                      <a:pt x="869" y="1460"/>
                    </a:lnTo>
                    <a:lnTo>
                      <a:pt x="877" y="1445"/>
                    </a:lnTo>
                    <a:lnTo>
                      <a:pt x="885" y="1430"/>
                    </a:lnTo>
                    <a:lnTo>
                      <a:pt x="891" y="1414"/>
                    </a:lnTo>
                    <a:lnTo>
                      <a:pt x="897" y="1397"/>
                    </a:lnTo>
                    <a:lnTo>
                      <a:pt x="902" y="1381"/>
                    </a:lnTo>
                    <a:lnTo>
                      <a:pt x="906" y="1365"/>
                    </a:lnTo>
                    <a:lnTo>
                      <a:pt x="907" y="1357"/>
                    </a:lnTo>
                    <a:lnTo>
                      <a:pt x="906" y="1349"/>
                    </a:lnTo>
                    <a:lnTo>
                      <a:pt x="905" y="1341"/>
                    </a:lnTo>
                    <a:lnTo>
                      <a:pt x="902" y="1334"/>
                    </a:lnTo>
                    <a:lnTo>
                      <a:pt x="899" y="1327"/>
                    </a:lnTo>
                    <a:lnTo>
                      <a:pt x="894" y="1319"/>
                    </a:lnTo>
                    <a:lnTo>
                      <a:pt x="889" y="1315"/>
                    </a:lnTo>
                    <a:lnTo>
                      <a:pt x="883" y="1309"/>
                    </a:lnTo>
                    <a:lnTo>
                      <a:pt x="878" y="1307"/>
                    </a:lnTo>
                    <a:lnTo>
                      <a:pt x="873" y="1306"/>
                    </a:lnTo>
                    <a:lnTo>
                      <a:pt x="867" y="1306"/>
                    </a:lnTo>
                    <a:lnTo>
                      <a:pt x="861" y="1307"/>
                    </a:lnTo>
                    <a:lnTo>
                      <a:pt x="857" y="1310"/>
                    </a:lnTo>
                    <a:lnTo>
                      <a:pt x="851" y="1312"/>
                    </a:lnTo>
                    <a:lnTo>
                      <a:pt x="846" y="1315"/>
                    </a:lnTo>
                    <a:lnTo>
                      <a:pt x="841" y="1318"/>
                    </a:lnTo>
                    <a:lnTo>
                      <a:pt x="836" y="1323"/>
                    </a:lnTo>
                    <a:lnTo>
                      <a:pt x="833" y="1328"/>
                    </a:lnTo>
                    <a:lnTo>
                      <a:pt x="830" y="1334"/>
                    </a:lnTo>
                    <a:lnTo>
                      <a:pt x="828" y="1340"/>
                    </a:lnTo>
                    <a:lnTo>
                      <a:pt x="824" y="1345"/>
                    </a:lnTo>
                    <a:lnTo>
                      <a:pt x="822" y="1351"/>
                    </a:lnTo>
                    <a:lnTo>
                      <a:pt x="818" y="1355"/>
                    </a:lnTo>
                    <a:lnTo>
                      <a:pt x="813" y="1360"/>
                    </a:lnTo>
                    <a:lnTo>
                      <a:pt x="805" y="1366"/>
                    </a:lnTo>
                    <a:lnTo>
                      <a:pt x="795" y="1371"/>
                    </a:lnTo>
                    <a:lnTo>
                      <a:pt x="786" y="1377"/>
                    </a:lnTo>
                    <a:lnTo>
                      <a:pt x="776" y="1382"/>
                    </a:lnTo>
                    <a:lnTo>
                      <a:pt x="767" y="1385"/>
                    </a:lnTo>
                    <a:lnTo>
                      <a:pt x="756" y="1389"/>
                    </a:lnTo>
                    <a:lnTo>
                      <a:pt x="745" y="1391"/>
                    </a:lnTo>
                    <a:lnTo>
                      <a:pt x="735" y="1393"/>
                    </a:lnTo>
                    <a:lnTo>
                      <a:pt x="727" y="1393"/>
                    </a:lnTo>
                    <a:lnTo>
                      <a:pt x="719" y="1391"/>
                    </a:lnTo>
                    <a:lnTo>
                      <a:pt x="710" y="1390"/>
                    </a:lnTo>
                    <a:lnTo>
                      <a:pt x="703" y="1388"/>
                    </a:lnTo>
                    <a:lnTo>
                      <a:pt x="695" y="1385"/>
                    </a:lnTo>
                    <a:lnTo>
                      <a:pt x="689" y="1381"/>
                    </a:lnTo>
                    <a:lnTo>
                      <a:pt x="684" y="1376"/>
                    </a:lnTo>
                    <a:lnTo>
                      <a:pt x="680" y="1369"/>
                    </a:lnTo>
                    <a:lnTo>
                      <a:pt x="677" y="1358"/>
                    </a:lnTo>
                    <a:lnTo>
                      <a:pt x="675" y="1346"/>
                    </a:lnTo>
                    <a:lnTo>
                      <a:pt x="677" y="1334"/>
                    </a:lnTo>
                    <a:lnTo>
                      <a:pt x="679" y="1322"/>
                    </a:lnTo>
                    <a:lnTo>
                      <a:pt x="681" y="1309"/>
                    </a:lnTo>
                    <a:lnTo>
                      <a:pt x="685" y="1297"/>
                    </a:lnTo>
                    <a:lnTo>
                      <a:pt x="687" y="1285"/>
                    </a:lnTo>
                    <a:lnTo>
                      <a:pt x="689" y="1273"/>
                    </a:lnTo>
                    <a:lnTo>
                      <a:pt x="690" y="1263"/>
                    </a:lnTo>
                    <a:lnTo>
                      <a:pt x="692" y="1255"/>
                    </a:lnTo>
                    <a:lnTo>
                      <a:pt x="693" y="1246"/>
                    </a:lnTo>
                    <a:lnTo>
                      <a:pt x="696" y="1237"/>
                    </a:lnTo>
                    <a:lnTo>
                      <a:pt x="697" y="1228"/>
                    </a:lnTo>
                    <a:lnTo>
                      <a:pt x="697" y="1220"/>
                    </a:lnTo>
                    <a:lnTo>
                      <a:pt x="696" y="1211"/>
                    </a:lnTo>
                    <a:lnTo>
                      <a:pt x="693" y="1203"/>
                    </a:lnTo>
                    <a:lnTo>
                      <a:pt x="691" y="1198"/>
                    </a:lnTo>
                    <a:lnTo>
                      <a:pt x="686" y="1196"/>
                    </a:lnTo>
                    <a:lnTo>
                      <a:pt x="681" y="1193"/>
                    </a:lnTo>
                    <a:lnTo>
                      <a:pt x="677" y="1191"/>
                    </a:lnTo>
                    <a:lnTo>
                      <a:pt x="669" y="1190"/>
                    </a:lnTo>
                    <a:lnTo>
                      <a:pt x="663" y="1190"/>
                    </a:lnTo>
                    <a:lnTo>
                      <a:pt x="657" y="1190"/>
                    </a:lnTo>
                    <a:lnTo>
                      <a:pt x="653" y="1190"/>
                    </a:lnTo>
                    <a:lnTo>
                      <a:pt x="639" y="1190"/>
                    </a:lnTo>
                    <a:lnTo>
                      <a:pt x="626" y="1192"/>
                    </a:lnTo>
                    <a:lnTo>
                      <a:pt x="614" y="1195"/>
                    </a:lnTo>
                    <a:lnTo>
                      <a:pt x="601" y="1197"/>
                    </a:lnTo>
                    <a:lnTo>
                      <a:pt x="589" y="1199"/>
                    </a:lnTo>
                    <a:lnTo>
                      <a:pt x="576" y="1202"/>
                    </a:lnTo>
                    <a:lnTo>
                      <a:pt x="564" y="1203"/>
                    </a:lnTo>
                    <a:lnTo>
                      <a:pt x="551" y="1203"/>
                    </a:lnTo>
                    <a:lnTo>
                      <a:pt x="540" y="1202"/>
                    </a:lnTo>
                    <a:lnTo>
                      <a:pt x="529" y="1201"/>
                    </a:lnTo>
                    <a:lnTo>
                      <a:pt x="518" y="1198"/>
                    </a:lnTo>
                    <a:lnTo>
                      <a:pt x="507" y="1195"/>
                    </a:lnTo>
                    <a:lnTo>
                      <a:pt x="497" y="1191"/>
                    </a:lnTo>
                    <a:lnTo>
                      <a:pt x="487" y="1186"/>
                    </a:lnTo>
                    <a:lnTo>
                      <a:pt x="477" y="1181"/>
                    </a:lnTo>
                    <a:lnTo>
                      <a:pt x="468" y="1175"/>
                    </a:lnTo>
                    <a:lnTo>
                      <a:pt x="461" y="1169"/>
                    </a:lnTo>
                    <a:lnTo>
                      <a:pt x="456" y="1163"/>
                    </a:lnTo>
                    <a:lnTo>
                      <a:pt x="451" y="1156"/>
                    </a:lnTo>
                    <a:lnTo>
                      <a:pt x="446" y="1149"/>
                    </a:lnTo>
                    <a:lnTo>
                      <a:pt x="441" y="1141"/>
                    </a:lnTo>
                    <a:lnTo>
                      <a:pt x="437" y="1134"/>
                    </a:lnTo>
                    <a:lnTo>
                      <a:pt x="432" y="1126"/>
                    </a:lnTo>
                    <a:lnTo>
                      <a:pt x="426" y="1120"/>
                    </a:lnTo>
                    <a:lnTo>
                      <a:pt x="421" y="1117"/>
                    </a:lnTo>
                    <a:lnTo>
                      <a:pt x="416" y="1113"/>
                    </a:lnTo>
                    <a:lnTo>
                      <a:pt x="410" y="1110"/>
                    </a:lnTo>
                    <a:lnTo>
                      <a:pt x="404" y="1107"/>
                    </a:lnTo>
                    <a:lnTo>
                      <a:pt x="398" y="1106"/>
                    </a:lnTo>
                    <a:lnTo>
                      <a:pt x="392" y="1104"/>
                    </a:lnTo>
                    <a:lnTo>
                      <a:pt x="386" y="1102"/>
                    </a:lnTo>
                    <a:lnTo>
                      <a:pt x="380" y="1102"/>
                    </a:lnTo>
                    <a:lnTo>
                      <a:pt x="365" y="1101"/>
                    </a:lnTo>
                    <a:lnTo>
                      <a:pt x="350" y="1101"/>
                    </a:lnTo>
                    <a:lnTo>
                      <a:pt x="335" y="1101"/>
                    </a:lnTo>
                    <a:lnTo>
                      <a:pt x="320" y="1102"/>
                    </a:lnTo>
                    <a:lnTo>
                      <a:pt x="305" y="1104"/>
                    </a:lnTo>
                    <a:lnTo>
                      <a:pt x="290" y="1105"/>
                    </a:lnTo>
                    <a:lnTo>
                      <a:pt x="275" y="1106"/>
                    </a:lnTo>
                    <a:lnTo>
                      <a:pt x="260" y="1106"/>
                    </a:lnTo>
                    <a:lnTo>
                      <a:pt x="243" y="1107"/>
                    </a:lnTo>
                    <a:lnTo>
                      <a:pt x="227" y="1108"/>
                    </a:lnTo>
                    <a:lnTo>
                      <a:pt x="210" y="1111"/>
                    </a:lnTo>
                    <a:lnTo>
                      <a:pt x="193" y="1112"/>
                    </a:lnTo>
                    <a:lnTo>
                      <a:pt x="176" y="1113"/>
                    </a:lnTo>
                    <a:lnTo>
                      <a:pt x="159" y="1113"/>
                    </a:lnTo>
                    <a:lnTo>
                      <a:pt x="143" y="1113"/>
                    </a:lnTo>
                    <a:lnTo>
                      <a:pt x="126" y="1111"/>
                    </a:lnTo>
                    <a:lnTo>
                      <a:pt x="117" y="1110"/>
                    </a:lnTo>
                    <a:lnTo>
                      <a:pt x="110" y="1106"/>
                    </a:lnTo>
                    <a:lnTo>
                      <a:pt x="102" y="1104"/>
                    </a:lnTo>
                    <a:lnTo>
                      <a:pt x="95" y="1099"/>
                    </a:lnTo>
                    <a:lnTo>
                      <a:pt x="87" y="1094"/>
                    </a:lnTo>
                    <a:lnTo>
                      <a:pt x="80" y="1089"/>
                    </a:lnTo>
                    <a:lnTo>
                      <a:pt x="73" y="1084"/>
                    </a:lnTo>
                    <a:lnTo>
                      <a:pt x="66" y="1078"/>
                    </a:lnTo>
                    <a:lnTo>
                      <a:pt x="60" y="1074"/>
                    </a:lnTo>
                    <a:lnTo>
                      <a:pt x="53" y="1069"/>
                    </a:lnTo>
                    <a:lnTo>
                      <a:pt x="45" y="1064"/>
                    </a:lnTo>
                    <a:lnTo>
                      <a:pt x="39" y="1058"/>
                    </a:lnTo>
                    <a:lnTo>
                      <a:pt x="33" y="1053"/>
                    </a:lnTo>
                    <a:lnTo>
                      <a:pt x="29" y="1046"/>
                    </a:lnTo>
                    <a:lnTo>
                      <a:pt x="24" y="1040"/>
                    </a:lnTo>
                    <a:lnTo>
                      <a:pt x="20" y="1033"/>
                    </a:lnTo>
                    <a:lnTo>
                      <a:pt x="18" y="1028"/>
                    </a:lnTo>
                    <a:lnTo>
                      <a:pt x="18" y="1022"/>
                    </a:lnTo>
                    <a:lnTo>
                      <a:pt x="17" y="1016"/>
                    </a:lnTo>
                    <a:lnTo>
                      <a:pt x="18" y="1010"/>
                    </a:lnTo>
                    <a:lnTo>
                      <a:pt x="19" y="1004"/>
                    </a:lnTo>
                    <a:lnTo>
                      <a:pt x="21" y="999"/>
                    </a:lnTo>
                    <a:lnTo>
                      <a:pt x="25" y="994"/>
                    </a:lnTo>
                    <a:lnTo>
                      <a:pt x="29" y="991"/>
                    </a:lnTo>
                    <a:lnTo>
                      <a:pt x="39" y="986"/>
                    </a:lnTo>
                    <a:lnTo>
                      <a:pt x="50" y="982"/>
                    </a:lnTo>
                    <a:lnTo>
                      <a:pt x="62" y="981"/>
                    </a:lnTo>
                    <a:lnTo>
                      <a:pt x="74" y="979"/>
                    </a:lnTo>
                    <a:lnTo>
                      <a:pt x="86" y="979"/>
                    </a:lnTo>
                    <a:lnTo>
                      <a:pt x="98" y="978"/>
                    </a:lnTo>
                    <a:lnTo>
                      <a:pt x="110" y="978"/>
                    </a:lnTo>
                    <a:lnTo>
                      <a:pt x="121" y="978"/>
                    </a:lnTo>
                    <a:lnTo>
                      <a:pt x="141" y="978"/>
                    </a:lnTo>
                    <a:lnTo>
                      <a:pt x="161" y="978"/>
                    </a:lnTo>
                    <a:lnTo>
                      <a:pt x="180" y="979"/>
                    </a:lnTo>
                    <a:lnTo>
                      <a:pt x="200" y="980"/>
                    </a:lnTo>
                    <a:lnTo>
                      <a:pt x="219" y="981"/>
                    </a:lnTo>
                    <a:lnTo>
                      <a:pt x="239" y="982"/>
                    </a:lnTo>
                    <a:lnTo>
                      <a:pt x="259" y="982"/>
                    </a:lnTo>
                    <a:lnTo>
                      <a:pt x="278" y="982"/>
                    </a:lnTo>
                    <a:lnTo>
                      <a:pt x="290" y="981"/>
                    </a:lnTo>
                    <a:lnTo>
                      <a:pt x="302" y="979"/>
                    </a:lnTo>
                    <a:lnTo>
                      <a:pt x="313" y="975"/>
                    </a:lnTo>
                    <a:lnTo>
                      <a:pt x="325" y="973"/>
                    </a:lnTo>
                    <a:lnTo>
                      <a:pt x="336" y="969"/>
                    </a:lnTo>
                    <a:lnTo>
                      <a:pt x="348" y="966"/>
                    </a:lnTo>
                    <a:lnTo>
                      <a:pt x="359" y="962"/>
                    </a:lnTo>
                    <a:lnTo>
                      <a:pt x="371" y="958"/>
                    </a:lnTo>
                    <a:lnTo>
                      <a:pt x="378" y="957"/>
                    </a:lnTo>
                    <a:lnTo>
                      <a:pt x="385" y="955"/>
                    </a:lnTo>
                    <a:lnTo>
                      <a:pt x="393" y="951"/>
                    </a:lnTo>
                    <a:lnTo>
                      <a:pt x="401" y="949"/>
                    </a:lnTo>
                    <a:lnTo>
                      <a:pt x="408" y="946"/>
                    </a:lnTo>
                    <a:lnTo>
                      <a:pt x="415" y="945"/>
                    </a:lnTo>
                    <a:lnTo>
                      <a:pt x="423" y="944"/>
                    </a:lnTo>
                    <a:lnTo>
                      <a:pt x="431" y="945"/>
                    </a:lnTo>
                    <a:lnTo>
                      <a:pt x="445" y="949"/>
                    </a:lnTo>
                    <a:lnTo>
                      <a:pt x="459" y="952"/>
                    </a:lnTo>
                    <a:lnTo>
                      <a:pt x="474" y="958"/>
                    </a:lnTo>
                    <a:lnTo>
                      <a:pt x="487" y="964"/>
                    </a:lnTo>
                    <a:lnTo>
                      <a:pt x="501" y="970"/>
                    </a:lnTo>
                    <a:lnTo>
                      <a:pt x="515" y="978"/>
                    </a:lnTo>
                    <a:lnTo>
                      <a:pt x="528" y="985"/>
                    </a:lnTo>
                    <a:lnTo>
                      <a:pt x="541" y="991"/>
                    </a:lnTo>
                    <a:lnTo>
                      <a:pt x="553" y="997"/>
                    </a:lnTo>
                    <a:lnTo>
                      <a:pt x="564" y="1004"/>
                    </a:lnTo>
                    <a:lnTo>
                      <a:pt x="573" y="1011"/>
                    </a:lnTo>
                    <a:lnTo>
                      <a:pt x="584" y="1018"/>
                    </a:lnTo>
                    <a:lnTo>
                      <a:pt x="595" y="1024"/>
                    </a:lnTo>
                    <a:lnTo>
                      <a:pt x="606" y="1032"/>
                    </a:lnTo>
                    <a:lnTo>
                      <a:pt x="618" y="1038"/>
                    </a:lnTo>
                    <a:lnTo>
                      <a:pt x="629" y="1042"/>
                    </a:lnTo>
                    <a:lnTo>
                      <a:pt x="638" y="1045"/>
                    </a:lnTo>
                    <a:lnTo>
                      <a:pt x="648" y="1048"/>
                    </a:lnTo>
                    <a:lnTo>
                      <a:pt x="659" y="1052"/>
                    </a:lnTo>
                    <a:lnTo>
                      <a:pt x="668" y="1054"/>
                    </a:lnTo>
                    <a:lnTo>
                      <a:pt x="679" y="1056"/>
                    </a:lnTo>
                    <a:lnTo>
                      <a:pt x="689" y="1056"/>
                    </a:lnTo>
                    <a:lnTo>
                      <a:pt x="698" y="1054"/>
                    </a:lnTo>
                    <a:lnTo>
                      <a:pt x="708" y="1051"/>
                    </a:lnTo>
                    <a:lnTo>
                      <a:pt x="714" y="1047"/>
                    </a:lnTo>
                    <a:lnTo>
                      <a:pt x="719" y="1041"/>
                    </a:lnTo>
                    <a:lnTo>
                      <a:pt x="723" y="1034"/>
                    </a:lnTo>
                    <a:lnTo>
                      <a:pt x="726" y="1026"/>
                    </a:lnTo>
                    <a:lnTo>
                      <a:pt x="728" y="1017"/>
                    </a:lnTo>
                    <a:lnTo>
                      <a:pt x="729" y="1009"/>
                    </a:lnTo>
                    <a:lnTo>
                      <a:pt x="731" y="999"/>
                    </a:lnTo>
                    <a:lnTo>
                      <a:pt x="731" y="991"/>
                    </a:lnTo>
                    <a:lnTo>
                      <a:pt x="729" y="982"/>
                    </a:lnTo>
                    <a:lnTo>
                      <a:pt x="728" y="974"/>
                    </a:lnTo>
                    <a:lnTo>
                      <a:pt x="725" y="966"/>
                    </a:lnTo>
                    <a:lnTo>
                      <a:pt x="721" y="957"/>
                    </a:lnTo>
                    <a:lnTo>
                      <a:pt x="717" y="950"/>
                    </a:lnTo>
                    <a:lnTo>
                      <a:pt x="713" y="942"/>
                    </a:lnTo>
                    <a:lnTo>
                      <a:pt x="708" y="934"/>
                    </a:lnTo>
                    <a:lnTo>
                      <a:pt x="703" y="927"/>
                    </a:lnTo>
                    <a:lnTo>
                      <a:pt x="693" y="914"/>
                    </a:lnTo>
                    <a:lnTo>
                      <a:pt x="684" y="901"/>
                    </a:lnTo>
                    <a:lnTo>
                      <a:pt x="674" y="888"/>
                    </a:lnTo>
                    <a:lnTo>
                      <a:pt x="665" y="876"/>
                    </a:lnTo>
                    <a:lnTo>
                      <a:pt x="654" y="864"/>
                    </a:lnTo>
                    <a:lnTo>
                      <a:pt x="643" y="852"/>
                    </a:lnTo>
                    <a:lnTo>
                      <a:pt x="631" y="841"/>
                    </a:lnTo>
                    <a:lnTo>
                      <a:pt x="620" y="830"/>
                    </a:lnTo>
                    <a:lnTo>
                      <a:pt x="606" y="818"/>
                    </a:lnTo>
                    <a:lnTo>
                      <a:pt x="590" y="806"/>
                    </a:lnTo>
                    <a:lnTo>
                      <a:pt x="576" y="795"/>
                    </a:lnTo>
                    <a:lnTo>
                      <a:pt x="560" y="784"/>
                    </a:lnTo>
                    <a:lnTo>
                      <a:pt x="545" y="775"/>
                    </a:lnTo>
                    <a:lnTo>
                      <a:pt x="528" y="765"/>
                    </a:lnTo>
                    <a:lnTo>
                      <a:pt x="512" y="756"/>
                    </a:lnTo>
                    <a:lnTo>
                      <a:pt x="495" y="747"/>
                    </a:lnTo>
                    <a:lnTo>
                      <a:pt x="483" y="741"/>
                    </a:lnTo>
                    <a:lnTo>
                      <a:pt x="471" y="736"/>
                    </a:lnTo>
                    <a:lnTo>
                      <a:pt x="458" y="732"/>
                    </a:lnTo>
                    <a:lnTo>
                      <a:pt x="445" y="728"/>
                    </a:lnTo>
                    <a:lnTo>
                      <a:pt x="433" y="724"/>
                    </a:lnTo>
                    <a:lnTo>
                      <a:pt x="420" y="721"/>
                    </a:lnTo>
                    <a:lnTo>
                      <a:pt x="407" y="717"/>
                    </a:lnTo>
                    <a:lnTo>
                      <a:pt x="393" y="715"/>
                    </a:lnTo>
                    <a:lnTo>
                      <a:pt x="383" y="712"/>
                    </a:lnTo>
                    <a:lnTo>
                      <a:pt x="371" y="710"/>
                    </a:lnTo>
                    <a:lnTo>
                      <a:pt x="360" y="708"/>
                    </a:lnTo>
                    <a:lnTo>
                      <a:pt x="348" y="705"/>
                    </a:lnTo>
                    <a:lnTo>
                      <a:pt x="336" y="703"/>
                    </a:lnTo>
                    <a:lnTo>
                      <a:pt x="325" y="702"/>
                    </a:lnTo>
                    <a:lnTo>
                      <a:pt x="313" y="702"/>
                    </a:lnTo>
                    <a:lnTo>
                      <a:pt x="301" y="700"/>
                    </a:lnTo>
                    <a:lnTo>
                      <a:pt x="294" y="702"/>
                    </a:lnTo>
                    <a:lnTo>
                      <a:pt x="285" y="702"/>
                    </a:lnTo>
                    <a:lnTo>
                      <a:pt x="278" y="703"/>
                    </a:lnTo>
                    <a:lnTo>
                      <a:pt x="271" y="704"/>
                    </a:lnTo>
                    <a:lnTo>
                      <a:pt x="263" y="706"/>
                    </a:lnTo>
                    <a:lnTo>
                      <a:pt x="255" y="709"/>
                    </a:lnTo>
                    <a:lnTo>
                      <a:pt x="248" y="711"/>
                    </a:lnTo>
                    <a:lnTo>
                      <a:pt x="241" y="715"/>
                    </a:lnTo>
                    <a:lnTo>
                      <a:pt x="234" y="718"/>
                    </a:lnTo>
                    <a:lnTo>
                      <a:pt x="228" y="723"/>
                    </a:lnTo>
                    <a:lnTo>
                      <a:pt x="222" y="729"/>
                    </a:lnTo>
                    <a:lnTo>
                      <a:pt x="216" y="735"/>
                    </a:lnTo>
                    <a:lnTo>
                      <a:pt x="210" y="741"/>
                    </a:lnTo>
                    <a:lnTo>
                      <a:pt x="204" y="746"/>
                    </a:lnTo>
                    <a:lnTo>
                      <a:pt x="198" y="752"/>
                    </a:lnTo>
                    <a:lnTo>
                      <a:pt x="191" y="756"/>
                    </a:lnTo>
                    <a:lnTo>
                      <a:pt x="180" y="762"/>
                    </a:lnTo>
                    <a:lnTo>
                      <a:pt x="169" y="768"/>
                    </a:lnTo>
                    <a:lnTo>
                      <a:pt x="157" y="772"/>
                    </a:lnTo>
                    <a:lnTo>
                      <a:pt x="146" y="778"/>
                    </a:lnTo>
                    <a:lnTo>
                      <a:pt x="134" y="782"/>
                    </a:lnTo>
                    <a:lnTo>
                      <a:pt x="122" y="787"/>
                    </a:lnTo>
                    <a:lnTo>
                      <a:pt x="110" y="790"/>
                    </a:lnTo>
                    <a:lnTo>
                      <a:pt x="98" y="793"/>
                    </a:lnTo>
                    <a:lnTo>
                      <a:pt x="95" y="794"/>
                    </a:lnTo>
                    <a:lnTo>
                      <a:pt x="90" y="794"/>
                    </a:lnTo>
                    <a:lnTo>
                      <a:pt x="85" y="794"/>
                    </a:lnTo>
                    <a:lnTo>
                      <a:pt x="80" y="793"/>
                    </a:lnTo>
                    <a:lnTo>
                      <a:pt x="75" y="792"/>
                    </a:lnTo>
                    <a:lnTo>
                      <a:pt x="72" y="789"/>
                    </a:lnTo>
                    <a:lnTo>
                      <a:pt x="68" y="787"/>
                    </a:lnTo>
                    <a:lnTo>
                      <a:pt x="66" y="783"/>
                    </a:lnTo>
                    <a:lnTo>
                      <a:pt x="63" y="778"/>
                    </a:lnTo>
                    <a:lnTo>
                      <a:pt x="61" y="771"/>
                    </a:lnTo>
                    <a:lnTo>
                      <a:pt x="60" y="765"/>
                    </a:lnTo>
                    <a:lnTo>
                      <a:pt x="60" y="758"/>
                    </a:lnTo>
                    <a:lnTo>
                      <a:pt x="60" y="751"/>
                    </a:lnTo>
                    <a:lnTo>
                      <a:pt x="61" y="745"/>
                    </a:lnTo>
                    <a:lnTo>
                      <a:pt x="63" y="739"/>
                    </a:lnTo>
                    <a:lnTo>
                      <a:pt x="66" y="733"/>
                    </a:lnTo>
                    <a:lnTo>
                      <a:pt x="75" y="720"/>
                    </a:lnTo>
                    <a:lnTo>
                      <a:pt x="85" y="708"/>
                    </a:lnTo>
                    <a:lnTo>
                      <a:pt x="97" y="697"/>
                    </a:lnTo>
                    <a:lnTo>
                      <a:pt x="108" y="685"/>
                    </a:lnTo>
                    <a:lnTo>
                      <a:pt x="120" y="675"/>
                    </a:lnTo>
                    <a:lnTo>
                      <a:pt x="133" y="664"/>
                    </a:lnTo>
                    <a:lnTo>
                      <a:pt x="145" y="655"/>
                    </a:lnTo>
                    <a:lnTo>
                      <a:pt x="158" y="645"/>
                    </a:lnTo>
                    <a:lnTo>
                      <a:pt x="168" y="639"/>
                    </a:lnTo>
                    <a:lnTo>
                      <a:pt x="176" y="634"/>
                    </a:lnTo>
                    <a:lnTo>
                      <a:pt x="186" y="630"/>
                    </a:lnTo>
                    <a:lnTo>
                      <a:pt x="195" y="625"/>
                    </a:lnTo>
                    <a:lnTo>
                      <a:pt x="206" y="621"/>
                    </a:lnTo>
                    <a:lnTo>
                      <a:pt x="216" y="619"/>
                    </a:lnTo>
                    <a:lnTo>
                      <a:pt x="227" y="615"/>
                    </a:lnTo>
                    <a:lnTo>
                      <a:pt x="236" y="613"/>
                    </a:lnTo>
                    <a:lnTo>
                      <a:pt x="251" y="610"/>
                    </a:lnTo>
                    <a:lnTo>
                      <a:pt x="264" y="609"/>
                    </a:lnTo>
                    <a:lnTo>
                      <a:pt x="278" y="609"/>
                    </a:lnTo>
                    <a:lnTo>
                      <a:pt x="291" y="608"/>
                    </a:lnTo>
                    <a:lnTo>
                      <a:pt x="306" y="608"/>
                    </a:lnTo>
                    <a:lnTo>
                      <a:pt x="320" y="608"/>
                    </a:lnTo>
                    <a:lnTo>
                      <a:pt x="333" y="608"/>
                    </a:lnTo>
                    <a:lnTo>
                      <a:pt x="348" y="608"/>
                    </a:lnTo>
                    <a:lnTo>
                      <a:pt x="367" y="609"/>
                    </a:lnTo>
                    <a:lnTo>
                      <a:pt x="386" y="609"/>
                    </a:lnTo>
                    <a:lnTo>
                      <a:pt x="407" y="609"/>
                    </a:lnTo>
                    <a:lnTo>
                      <a:pt x="426" y="610"/>
                    </a:lnTo>
                    <a:lnTo>
                      <a:pt x="445" y="610"/>
                    </a:lnTo>
                    <a:lnTo>
                      <a:pt x="465" y="612"/>
                    </a:lnTo>
                    <a:lnTo>
                      <a:pt x="485" y="613"/>
                    </a:lnTo>
                    <a:lnTo>
                      <a:pt x="504" y="613"/>
                    </a:lnTo>
                    <a:lnTo>
                      <a:pt x="519" y="614"/>
                    </a:lnTo>
                    <a:lnTo>
                      <a:pt x="534" y="615"/>
                    </a:lnTo>
                    <a:lnTo>
                      <a:pt x="548" y="616"/>
                    </a:lnTo>
                    <a:lnTo>
                      <a:pt x="563" y="619"/>
                    </a:lnTo>
                    <a:lnTo>
                      <a:pt x="577" y="620"/>
                    </a:lnTo>
                    <a:lnTo>
                      <a:pt x="591" y="621"/>
                    </a:lnTo>
                    <a:lnTo>
                      <a:pt x="606" y="622"/>
                    </a:lnTo>
                    <a:lnTo>
                      <a:pt x="620" y="622"/>
                    </a:lnTo>
                    <a:lnTo>
                      <a:pt x="629" y="622"/>
                    </a:lnTo>
                    <a:lnTo>
                      <a:pt x="637" y="624"/>
                    </a:lnTo>
                    <a:lnTo>
                      <a:pt x="645" y="624"/>
                    </a:lnTo>
                    <a:lnTo>
                      <a:pt x="654" y="624"/>
                    </a:lnTo>
                    <a:lnTo>
                      <a:pt x="662" y="622"/>
                    </a:lnTo>
                    <a:lnTo>
                      <a:pt x="671" y="621"/>
                    </a:lnTo>
                    <a:lnTo>
                      <a:pt x="678" y="618"/>
                    </a:lnTo>
                    <a:lnTo>
                      <a:pt x="684" y="613"/>
                    </a:lnTo>
                    <a:close/>
                  </a:path>
                </a:pathLst>
              </a:custGeom>
              <a:solidFill>
                <a:srgbClr val="f2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494240" y="1617840"/>
                <a:ext cx="166680" cy="166680"/>
              </a:xfrm>
              <a:custGeom>
                <a:avLst/>
                <a:gdLst/>
                <a:ahLst/>
                <a:rect l="l" t="t" r="r" b="b"/>
                <a:pathLst>
                  <a:path w="421" h="421">
                    <a:moveTo>
                      <a:pt x="210" y="0"/>
                    </a:moveTo>
                    <a:lnTo>
                      <a:pt x="232" y="0"/>
                    </a:lnTo>
                    <a:lnTo>
                      <a:pt x="253" y="3"/>
                    </a:lnTo>
                    <a:lnTo>
                      <a:pt x="272" y="8"/>
                    </a:lnTo>
                    <a:lnTo>
                      <a:pt x="293" y="15"/>
                    </a:lnTo>
                    <a:lnTo>
                      <a:pt x="311" y="25"/>
                    </a:lnTo>
                    <a:lnTo>
                      <a:pt x="328" y="36"/>
                    </a:lnTo>
                    <a:lnTo>
                      <a:pt x="344" y="48"/>
                    </a:lnTo>
                    <a:lnTo>
                      <a:pt x="359" y="61"/>
                    </a:lnTo>
                    <a:lnTo>
                      <a:pt x="373" y="76"/>
                    </a:lnTo>
                    <a:lnTo>
                      <a:pt x="385" y="92"/>
                    </a:lnTo>
                    <a:lnTo>
                      <a:pt x="396" y="110"/>
                    </a:lnTo>
                    <a:lnTo>
                      <a:pt x="404" y="128"/>
                    </a:lnTo>
                    <a:lnTo>
                      <a:pt x="412" y="147"/>
                    </a:lnTo>
                    <a:lnTo>
                      <a:pt x="416" y="168"/>
                    </a:lnTo>
                    <a:lnTo>
                      <a:pt x="420" y="188"/>
                    </a:lnTo>
                    <a:lnTo>
                      <a:pt x="421" y="210"/>
                    </a:lnTo>
                    <a:lnTo>
                      <a:pt x="420" y="231"/>
                    </a:lnTo>
                    <a:lnTo>
                      <a:pt x="416" y="252"/>
                    </a:lnTo>
                    <a:lnTo>
                      <a:pt x="412" y="272"/>
                    </a:lnTo>
                    <a:lnTo>
                      <a:pt x="404" y="291"/>
                    </a:lnTo>
                    <a:lnTo>
                      <a:pt x="396" y="310"/>
                    </a:lnTo>
                    <a:lnTo>
                      <a:pt x="385" y="327"/>
                    </a:lnTo>
                    <a:lnTo>
                      <a:pt x="373" y="344"/>
                    </a:lnTo>
                    <a:lnTo>
                      <a:pt x="359" y="358"/>
                    </a:lnTo>
                    <a:lnTo>
                      <a:pt x="344" y="372"/>
                    </a:lnTo>
                    <a:lnTo>
                      <a:pt x="328" y="385"/>
                    </a:lnTo>
                    <a:lnTo>
                      <a:pt x="311" y="394"/>
                    </a:lnTo>
                    <a:lnTo>
                      <a:pt x="293" y="404"/>
                    </a:lnTo>
                    <a:lnTo>
                      <a:pt x="272" y="411"/>
                    </a:lnTo>
                    <a:lnTo>
                      <a:pt x="253" y="416"/>
                    </a:lnTo>
                    <a:lnTo>
                      <a:pt x="232" y="420"/>
                    </a:lnTo>
                    <a:lnTo>
                      <a:pt x="210" y="421"/>
                    </a:lnTo>
                    <a:lnTo>
                      <a:pt x="188" y="420"/>
                    </a:lnTo>
                    <a:lnTo>
                      <a:pt x="168" y="416"/>
                    </a:lnTo>
                    <a:lnTo>
                      <a:pt x="148" y="411"/>
                    </a:lnTo>
                    <a:lnTo>
                      <a:pt x="128" y="404"/>
                    </a:lnTo>
                    <a:lnTo>
                      <a:pt x="110" y="394"/>
                    </a:lnTo>
                    <a:lnTo>
                      <a:pt x="92" y="385"/>
                    </a:lnTo>
                    <a:lnTo>
                      <a:pt x="77" y="372"/>
                    </a:lnTo>
                    <a:lnTo>
                      <a:pt x="61" y="358"/>
                    </a:lnTo>
                    <a:lnTo>
                      <a:pt x="48" y="344"/>
                    </a:lnTo>
                    <a:lnTo>
                      <a:pt x="36" y="327"/>
                    </a:lnTo>
                    <a:lnTo>
                      <a:pt x="25" y="310"/>
                    </a:lnTo>
                    <a:lnTo>
                      <a:pt x="16" y="291"/>
                    </a:lnTo>
                    <a:lnTo>
                      <a:pt x="8" y="272"/>
                    </a:lnTo>
                    <a:lnTo>
                      <a:pt x="4" y="252"/>
                    </a:lnTo>
                    <a:lnTo>
                      <a:pt x="0" y="231"/>
                    </a:lnTo>
                    <a:lnTo>
                      <a:pt x="0" y="210"/>
                    </a:lnTo>
                    <a:lnTo>
                      <a:pt x="0" y="188"/>
                    </a:lnTo>
                    <a:lnTo>
                      <a:pt x="4" y="168"/>
                    </a:lnTo>
                    <a:lnTo>
                      <a:pt x="8" y="147"/>
                    </a:lnTo>
                    <a:lnTo>
                      <a:pt x="16" y="128"/>
                    </a:lnTo>
                    <a:lnTo>
                      <a:pt x="25" y="110"/>
                    </a:lnTo>
                    <a:lnTo>
                      <a:pt x="36" y="92"/>
                    </a:lnTo>
                    <a:lnTo>
                      <a:pt x="48" y="76"/>
                    </a:lnTo>
                    <a:lnTo>
                      <a:pt x="61" y="61"/>
                    </a:lnTo>
                    <a:lnTo>
                      <a:pt x="77" y="48"/>
                    </a:lnTo>
                    <a:lnTo>
                      <a:pt x="92" y="36"/>
                    </a:lnTo>
                    <a:lnTo>
                      <a:pt x="110" y="25"/>
                    </a:lnTo>
                    <a:lnTo>
                      <a:pt x="128" y="15"/>
                    </a:lnTo>
                    <a:lnTo>
                      <a:pt x="148" y="8"/>
                    </a:lnTo>
                    <a:lnTo>
                      <a:pt x="168" y="3"/>
                    </a:lnTo>
                    <a:lnTo>
                      <a:pt x="188" y="0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926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78120" y="160956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228" h="228">
                    <a:moveTo>
                      <a:pt x="228" y="228"/>
                    </a:moveTo>
                    <a:lnTo>
                      <a:pt x="228" y="228"/>
                    </a:lnTo>
                    <a:lnTo>
                      <a:pt x="227" y="205"/>
                    </a:lnTo>
                    <a:lnTo>
                      <a:pt x="224" y="182"/>
                    </a:lnTo>
                    <a:lnTo>
                      <a:pt x="218" y="160"/>
                    </a:lnTo>
                    <a:lnTo>
                      <a:pt x="210" y="139"/>
                    </a:lnTo>
                    <a:lnTo>
                      <a:pt x="200" y="120"/>
                    </a:lnTo>
                    <a:lnTo>
                      <a:pt x="190" y="100"/>
                    </a:lnTo>
                    <a:lnTo>
                      <a:pt x="176" y="82"/>
                    </a:lnTo>
                    <a:lnTo>
                      <a:pt x="162" y="67"/>
                    </a:lnTo>
                    <a:lnTo>
                      <a:pt x="145" y="52"/>
                    </a:lnTo>
                    <a:lnTo>
                      <a:pt x="127" y="39"/>
                    </a:lnTo>
                    <a:lnTo>
                      <a:pt x="109" y="27"/>
                    </a:lnTo>
                    <a:lnTo>
                      <a:pt x="89" y="18"/>
                    </a:lnTo>
                    <a:lnTo>
                      <a:pt x="68" y="10"/>
                    </a:lnTo>
                    <a:lnTo>
                      <a:pt x="46" y="4"/>
                    </a:lnTo>
                    <a:lnTo>
                      <a:pt x="24" y="1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20" y="36"/>
                    </a:lnTo>
                    <a:lnTo>
                      <a:pt x="40" y="38"/>
                    </a:lnTo>
                    <a:lnTo>
                      <a:pt x="58" y="43"/>
                    </a:lnTo>
                    <a:lnTo>
                      <a:pt x="76" y="50"/>
                    </a:lnTo>
                    <a:lnTo>
                      <a:pt x="92" y="57"/>
                    </a:lnTo>
                    <a:lnTo>
                      <a:pt x="108" y="68"/>
                    </a:lnTo>
                    <a:lnTo>
                      <a:pt x="124" y="79"/>
                    </a:lnTo>
                    <a:lnTo>
                      <a:pt x="137" y="91"/>
                    </a:lnTo>
                    <a:lnTo>
                      <a:pt x="150" y="105"/>
                    </a:lnTo>
                    <a:lnTo>
                      <a:pt x="161" y="120"/>
                    </a:lnTo>
                    <a:lnTo>
                      <a:pt x="170" y="135"/>
                    </a:lnTo>
                    <a:lnTo>
                      <a:pt x="179" y="152"/>
                    </a:lnTo>
                    <a:lnTo>
                      <a:pt x="185" y="170"/>
                    </a:lnTo>
                    <a:lnTo>
                      <a:pt x="190" y="189"/>
                    </a:lnTo>
                    <a:lnTo>
                      <a:pt x="193" y="208"/>
                    </a:lnTo>
                    <a:lnTo>
                      <a:pt x="193" y="228"/>
                    </a:lnTo>
                    <a:lnTo>
                      <a:pt x="193" y="228"/>
                    </a:lnTo>
                    <a:lnTo>
                      <a:pt x="228" y="2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78120" y="170028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228" h="227">
                    <a:moveTo>
                      <a:pt x="0" y="227"/>
                    </a:moveTo>
                    <a:lnTo>
                      <a:pt x="0" y="227"/>
                    </a:lnTo>
                    <a:lnTo>
                      <a:pt x="24" y="226"/>
                    </a:lnTo>
                    <a:lnTo>
                      <a:pt x="46" y="223"/>
                    </a:lnTo>
                    <a:lnTo>
                      <a:pt x="68" y="218"/>
                    </a:lnTo>
                    <a:lnTo>
                      <a:pt x="89" y="210"/>
                    </a:lnTo>
                    <a:lnTo>
                      <a:pt x="109" y="200"/>
                    </a:lnTo>
                    <a:lnTo>
                      <a:pt x="127" y="189"/>
                    </a:lnTo>
                    <a:lnTo>
                      <a:pt x="145" y="176"/>
                    </a:lnTo>
                    <a:lnTo>
                      <a:pt x="162" y="160"/>
                    </a:lnTo>
                    <a:lnTo>
                      <a:pt x="176" y="145"/>
                    </a:lnTo>
                    <a:lnTo>
                      <a:pt x="190" y="127"/>
                    </a:lnTo>
                    <a:lnTo>
                      <a:pt x="200" y="109"/>
                    </a:lnTo>
                    <a:lnTo>
                      <a:pt x="210" y="88"/>
                    </a:lnTo>
                    <a:lnTo>
                      <a:pt x="218" y="67"/>
                    </a:lnTo>
                    <a:lnTo>
                      <a:pt x="224" y="45"/>
                    </a:lnTo>
                    <a:lnTo>
                      <a:pt x="227" y="22"/>
                    </a:lnTo>
                    <a:lnTo>
                      <a:pt x="228" y="0"/>
                    </a:lnTo>
                    <a:lnTo>
                      <a:pt x="193" y="0"/>
                    </a:lnTo>
                    <a:lnTo>
                      <a:pt x="193" y="20"/>
                    </a:lnTo>
                    <a:lnTo>
                      <a:pt x="190" y="39"/>
                    </a:lnTo>
                    <a:lnTo>
                      <a:pt x="185" y="57"/>
                    </a:lnTo>
                    <a:lnTo>
                      <a:pt x="179" y="75"/>
                    </a:lnTo>
                    <a:lnTo>
                      <a:pt x="170" y="92"/>
                    </a:lnTo>
                    <a:lnTo>
                      <a:pt x="161" y="108"/>
                    </a:lnTo>
                    <a:lnTo>
                      <a:pt x="150" y="122"/>
                    </a:lnTo>
                    <a:lnTo>
                      <a:pt x="137" y="136"/>
                    </a:lnTo>
                    <a:lnTo>
                      <a:pt x="124" y="148"/>
                    </a:lnTo>
                    <a:lnTo>
                      <a:pt x="108" y="160"/>
                    </a:lnTo>
                    <a:lnTo>
                      <a:pt x="92" y="170"/>
                    </a:lnTo>
                    <a:lnTo>
                      <a:pt x="76" y="178"/>
                    </a:lnTo>
                    <a:lnTo>
                      <a:pt x="58" y="184"/>
                    </a:lnTo>
                    <a:lnTo>
                      <a:pt x="40" y="189"/>
                    </a:lnTo>
                    <a:lnTo>
                      <a:pt x="20" y="192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487760" y="17002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228" h="227">
                    <a:moveTo>
                      <a:pt x="0" y="0"/>
                    </a:moveTo>
                    <a:lnTo>
                      <a:pt x="0" y="0"/>
                    </a:lnTo>
                    <a:lnTo>
                      <a:pt x="1" y="22"/>
                    </a:lnTo>
                    <a:lnTo>
                      <a:pt x="5" y="45"/>
                    </a:lnTo>
                    <a:lnTo>
                      <a:pt x="11" y="67"/>
                    </a:lnTo>
                    <a:lnTo>
                      <a:pt x="18" y="88"/>
                    </a:lnTo>
                    <a:lnTo>
                      <a:pt x="28" y="109"/>
                    </a:lnTo>
                    <a:lnTo>
                      <a:pt x="40" y="127"/>
                    </a:lnTo>
                    <a:lnTo>
                      <a:pt x="53" y="145"/>
                    </a:lnTo>
                    <a:lnTo>
                      <a:pt x="67" y="160"/>
                    </a:lnTo>
                    <a:lnTo>
                      <a:pt x="83" y="176"/>
                    </a:lnTo>
                    <a:lnTo>
                      <a:pt x="101" y="189"/>
                    </a:lnTo>
                    <a:lnTo>
                      <a:pt x="120" y="200"/>
                    </a:lnTo>
                    <a:lnTo>
                      <a:pt x="139" y="210"/>
                    </a:lnTo>
                    <a:lnTo>
                      <a:pt x="161" y="218"/>
                    </a:lnTo>
                    <a:lnTo>
                      <a:pt x="182" y="223"/>
                    </a:lnTo>
                    <a:lnTo>
                      <a:pt x="205" y="226"/>
                    </a:lnTo>
                    <a:lnTo>
                      <a:pt x="228" y="227"/>
                    </a:lnTo>
                    <a:lnTo>
                      <a:pt x="228" y="193"/>
                    </a:lnTo>
                    <a:lnTo>
                      <a:pt x="209" y="192"/>
                    </a:lnTo>
                    <a:lnTo>
                      <a:pt x="190" y="189"/>
                    </a:lnTo>
                    <a:lnTo>
                      <a:pt x="170" y="184"/>
                    </a:lnTo>
                    <a:lnTo>
                      <a:pt x="154" y="178"/>
                    </a:lnTo>
                    <a:lnTo>
                      <a:pt x="136" y="170"/>
                    </a:lnTo>
                    <a:lnTo>
                      <a:pt x="120" y="160"/>
                    </a:lnTo>
                    <a:lnTo>
                      <a:pt x="106" y="148"/>
                    </a:lnTo>
                    <a:lnTo>
                      <a:pt x="91" y="136"/>
                    </a:lnTo>
                    <a:lnTo>
                      <a:pt x="79" y="122"/>
                    </a:lnTo>
                    <a:lnTo>
                      <a:pt x="68" y="108"/>
                    </a:lnTo>
                    <a:lnTo>
                      <a:pt x="58" y="92"/>
                    </a:lnTo>
                    <a:lnTo>
                      <a:pt x="50" y="75"/>
                    </a:lnTo>
                    <a:lnTo>
                      <a:pt x="43" y="57"/>
                    </a:lnTo>
                    <a:lnTo>
                      <a:pt x="38" y="39"/>
                    </a:lnTo>
                    <a:lnTo>
                      <a:pt x="36" y="2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487760" y="160956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228" h="228">
                    <a:moveTo>
                      <a:pt x="228" y="0"/>
                    </a:moveTo>
                    <a:lnTo>
                      <a:pt x="228" y="0"/>
                    </a:lnTo>
                    <a:lnTo>
                      <a:pt x="205" y="1"/>
                    </a:lnTo>
                    <a:lnTo>
                      <a:pt x="182" y="4"/>
                    </a:lnTo>
                    <a:lnTo>
                      <a:pt x="161" y="10"/>
                    </a:lnTo>
                    <a:lnTo>
                      <a:pt x="139" y="18"/>
                    </a:lnTo>
                    <a:lnTo>
                      <a:pt x="120" y="27"/>
                    </a:lnTo>
                    <a:lnTo>
                      <a:pt x="101" y="39"/>
                    </a:lnTo>
                    <a:lnTo>
                      <a:pt x="83" y="52"/>
                    </a:lnTo>
                    <a:lnTo>
                      <a:pt x="67" y="67"/>
                    </a:lnTo>
                    <a:lnTo>
                      <a:pt x="53" y="82"/>
                    </a:lnTo>
                    <a:lnTo>
                      <a:pt x="40" y="100"/>
                    </a:lnTo>
                    <a:lnTo>
                      <a:pt x="28" y="120"/>
                    </a:lnTo>
                    <a:lnTo>
                      <a:pt x="18" y="139"/>
                    </a:lnTo>
                    <a:lnTo>
                      <a:pt x="11" y="160"/>
                    </a:lnTo>
                    <a:lnTo>
                      <a:pt x="5" y="182"/>
                    </a:lnTo>
                    <a:lnTo>
                      <a:pt x="1" y="205"/>
                    </a:lnTo>
                    <a:lnTo>
                      <a:pt x="0" y="228"/>
                    </a:lnTo>
                    <a:lnTo>
                      <a:pt x="35" y="228"/>
                    </a:lnTo>
                    <a:lnTo>
                      <a:pt x="36" y="208"/>
                    </a:lnTo>
                    <a:lnTo>
                      <a:pt x="38" y="189"/>
                    </a:lnTo>
                    <a:lnTo>
                      <a:pt x="43" y="170"/>
                    </a:lnTo>
                    <a:lnTo>
                      <a:pt x="50" y="152"/>
                    </a:lnTo>
                    <a:lnTo>
                      <a:pt x="58" y="135"/>
                    </a:lnTo>
                    <a:lnTo>
                      <a:pt x="68" y="120"/>
                    </a:lnTo>
                    <a:lnTo>
                      <a:pt x="79" y="105"/>
                    </a:lnTo>
                    <a:lnTo>
                      <a:pt x="91" y="91"/>
                    </a:lnTo>
                    <a:lnTo>
                      <a:pt x="106" y="79"/>
                    </a:lnTo>
                    <a:lnTo>
                      <a:pt x="120" y="68"/>
                    </a:lnTo>
                    <a:lnTo>
                      <a:pt x="136" y="57"/>
                    </a:lnTo>
                    <a:lnTo>
                      <a:pt x="154" y="50"/>
                    </a:lnTo>
                    <a:lnTo>
                      <a:pt x="170" y="43"/>
                    </a:lnTo>
                    <a:lnTo>
                      <a:pt x="190" y="38"/>
                    </a:lnTo>
                    <a:lnTo>
                      <a:pt x="209" y="36"/>
                    </a:lnTo>
                    <a:lnTo>
                      <a:pt x="228" y="34"/>
                    </a:lnTo>
                    <a:lnTo>
                      <a:pt x="228" y="34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5411880" y="3873600"/>
              <a:ext cx="2088720" cy="1887480"/>
              <a:chOff x="5411880" y="3873600"/>
              <a:chExt cx="2088720" cy="1887480"/>
            </a:xfrm>
          </p:grpSpPr>
          <p:sp>
            <p:nvSpPr>
              <p:cNvPr id="494" name=""/>
              <p:cNvSpPr/>
              <p:nvPr/>
            </p:nvSpPr>
            <p:spPr>
              <a:xfrm>
                <a:off x="6449760" y="3879720"/>
                <a:ext cx="1044360" cy="898560"/>
              </a:xfrm>
              <a:custGeom>
                <a:avLst/>
                <a:gdLst/>
                <a:ahLst/>
                <a:rect l="l" t="t" r="r" b="b"/>
                <a:pathLst>
                  <a:path w="2629" h="2263">
                    <a:moveTo>
                      <a:pt x="898" y="805"/>
                    </a:moveTo>
                    <a:lnTo>
                      <a:pt x="907" y="796"/>
                    </a:lnTo>
                    <a:lnTo>
                      <a:pt x="914" y="787"/>
                    </a:lnTo>
                    <a:lnTo>
                      <a:pt x="919" y="776"/>
                    </a:lnTo>
                    <a:lnTo>
                      <a:pt x="922" y="764"/>
                    </a:lnTo>
                    <a:lnTo>
                      <a:pt x="926" y="752"/>
                    </a:lnTo>
                    <a:lnTo>
                      <a:pt x="927" y="739"/>
                    </a:lnTo>
                    <a:lnTo>
                      <a:pt x="928" y="727"/>
                    </a:lnTo>
                    <a:lnTo>
                      <a:pt x="930" y="715"/>
                    </a:lnTo>
                    <a:lnTo>
                      <a:pt x="928" y="700"/>
                    </a:lnTo>
                    <a:lnTo>
                      <a:pt x="927" y="686"/>
                    </a:lnTo>
                    <a:lnTo>
                      <a:pt x="926" y="671"/>
                    </a:lnTo>
                    <a:lnTo>
                      <a:pt x="922" y="657"/>
                    </a:lnTo>
                    <a:lnTo>
                      <a:pt x="919" y="643"/>
                    </a:lnTo>
                    <a:lnTo>
                      <a:pt x="913" y="630"/>
                    </a:lnTo>
                    <a:lnTo>
                      <a:pt x="907" y="618"/>
                    </a:lnTo>
                    <a:lnTo>
                      <a:pt x="898" y="606"/>
                    </a:lnTo>
                    <a:lnTo>
                      <a:pt x="890" y="596"/>
                    </a:lnTo>
                    <a:lnTo>
                      <a:pt x="880" y="589"/>
                    </a:lnTo>
                    <a:lnTo>
                      <a:pt x="868" y="582"/>
                    </a:lnTo>
                    <a:lnTo>
                      <a:pt x="858" y="577"/>
                    </a:lnTo>
                    <a:lnTo>
                      <a:pt x="844" y="572"/>
                    </a:lnTo>
                    <a:lnTo>
                      <a:pt x="832" y="567"/>
                    </a:lnTo>
                    <a:lnTo>
                      <a:pt x="819" y="562"/>
                    </a:lnTo>
                    <a:lnTo>
                      <a:pt x="807" y="556"/>
                    </a:lnTo>
                    <a:lnTo>
                      <a:pt x="794" y="550"/>
                    </a:lnTo>
                    <a:lnTo>
                      <a:pt x="780" y="543"/>
                    </a:lnTo>
                    <a:lnTo>
                      <a:pt x="765" y="537"/>
                    </a:lnTo>
                    <a:lnTo>
                      <a:pt x="751" y="531"/>
                    </a:lnTo>
                    <a:lnTo>
                      <a:pt x="736" y="525"/>
                    </a:lnTo>
                    <a:lnTo>
                      <a:pt x="722" y="519"/>
                    </a:lnTo>
                    <a:lnTo>
                      <a:pt x="708" y="513"/>
                    </a:lnTo>
                    <a:lnTo>
                      <a:pt x="692" y="508"/>
                    </a:lnTo>
                    <a:lnTo>
                      <a:pt x="676" y="504"/>
                    </a:lnTo>
                    <a:lnTo>
                      <a:pt x="660" y="500"/>
                    </a:lnTo>
                    <a:lnTo>
                      <a:pt x="643" y="498"/>
                    </a:lnTo>
                    <a:lnTo>
                      <a:pt x="626" y="494"/>
                    </a:lnTo>
                    <a:lnTo>
                      <a:pt x="608" y="492"/>
                    </a:lnTo>
                    <a:lnTo>
                      <a:pt x="591" y="488"/>
                    </a:lnTo>
                    <a:lnTo>
                      <a:pt x="576" y="483"/>
                    </a:lnTo>
                    <a:lnTo>
                      <a:pt x="559" y="478"/>
                    </a:lnTo>
                    <a:lnTo>
                      <a:pt x="546" y="472"/>
                    </a:lnTo>
                    <a:lnTo>
                      <a:pt x="534" y="466"/>
                    </a:lnTo>
                    <a:lnTo>
                      <a:pt x="520" y="459"/>
                    </a:lnTo>
                    <a:lnTo>
                      <a:pt x="508" y="452"/>
                    </a:lnTo>
                    <a:lnTo>
                      <a:pt x="496" y="444"/>
                    </a:lnTo>
                    <a:lnTo>
                      <a:pt x="484" y="435"/>
                    </a:lnTo>
                    <a:lnTo>
                      <a:pt x="474" y="427"/>
                    </a:lnTo>
                    <a:lnTo>
                      <a:pt x="462" y="417"/>
                    </a:lnTo>
                    <a:lnTo>
                      <a:pt x="442" y="402"/>
                    </a:lnTo>
                    <a:lnTo>
                      <a:pt x="423" y="385"/>
                    </a:lnTo>
                    <a:lnTo>
                      <a:pt x="405" y="368"/>
                    </a:lnTo>
                    <a:lnTo>
                      <a:pt x="386" y="351"/>
                    </a:lnTo>
                    <a:lnTo>
                      <a:pt x="368" y="334"/>
                    </a:lnTo>
                    <a:lnTo>
                      <a:pt x="349" y="316"/>
                    </a:lnTo>
                    <a:lnTo>
                      <a:pt x="330" y="301"/>
                    </a:lnTo>
                    <a:lnTo>
                      <a:pt x="310" y="284"/>
                    </a:lnTo>
                    <a:lnTo>
                      <a:pt x="292" y="271"/>
                    </a:lnTo>
                    <a:lnTo>
                      <a:pt x="276" y="256"/>
                    </a:lnTo>
                    <a:lnTo>
                      <a:pt x="258" y="243"/>
                    </a:lnTo>
                    <a:lnTo>
                      <a:pt x="240" y="230"/>
                    </a:lnTo>
                    <a:lnTo>
                      <a:pt x="220" y="218"/>
                    </a:lnTo>
                    <a:lnTo>
                      <a:pt x="202" y="205"/>
                    </a:lnTo>
                    <a:lnTo>
                      <a:pt x="183" y="193"/>
                    </a:lnTo>
                    <a:lnTo>
                      <a:pt x="165" y="181"/>
                    </a:lnTo>
                    <a:lnTo>
                      <a:pt x="152" y="175"/>
                    </a:lnTo>
                    <a:lnTo>
                      <a:pt x="140" y="169"/>
                    </a:lnTo>
                    <a:lnTo>
                      <a:pt x="127" y="163"/>
                    </a:lnTo>
                    <a:lnTo>
                      <a:pt x="112" y="158"/>
                    </a:lnTo>
                    <a:lnTo>
                      <a:pt x="99" y="152"/>
                    </a:lnTo>
                    <a:lnTo>
                      <a:pt x="87" y="146"/>
                    </a:lnTo>
                    <a:lnTo>
                      <a:pt x="74" y="140"/>
                    </a:lnTo>
                    <a:lnTo>
                      <a:pt x="62" y="133"/>
                    </a:lnTo>
                    <a:lnTo>
                      <a:pt x="52" y="127"/>
                    </a:lnTo>
                    <a:lnTo>
                      <a:pt x="44" y="121"/>
                    </a:lnTo>
                    <a:lnTo>
                      <a:pt x="34" y="114"/>
                    </a:lnTo>
                    <a:lnTo>
                      <a:pt x="26" y="106"/>
                    </a:lnTo>
                    <a:lnTo>
                      <a:pt x="18" y="99"/>
                    </a:lnTo>
                    <a:lnTo>
                      <a:pt x="10" y="91"/>
                    </a:lnTo>
                    <a:lnTo>
                      <a:pt x="6" y="82"/>
                    </a:lnTo>
                    <a:lnTo>
                      <a:pt x="1" y="72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8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5" y="18"/>
                    </a:lnTo>
                    <a:lnTo>
                      <a:pt x="37" y="13"/>
                    </a:lnTo>
                    <a:lnTo>
                      <a:pt x="50" y="8"/>
                    </a:lnTo>
                    <a:lnTo>
                      <a:pt x="62" y="6"/>
                    </a:lnTo>
                    <a:lnTo>
                      <a:pt x="75" y="4"/>
                    </a:lnTo>
                    <a:lnTo>
                      <a:pt x="88" y="3"/>
                    </a:lnTo>
                    <a:lnTo>
                      <a:pt x="102" y="3"/>
                    </a:lnTo>
                    <a:lnTo>
                      <a:pt x="115" y="4"/>
                    </a:lnTo>
                    <a:lnTo>
                      <a:pt x="128" y="6"/>
                    </a:lnTo>
                    <a:lnTo>
                      <a:pt x="140" y="7"/>
                    </a:lnTo>
                    <a:lnTo>
                      <a:pt x="152" y="9"/>
                    </a:lnTo>
                    <a:lnTo>
                      <a:pt x="164" y="12"/>
                    </a:lnTo>
                    <a:lnTo>
                      <a:pt x="176" y="15"/>
                    </a:lnTo>
                    <a:lnTo>
                      <a:pt x="187" y="19"/>
                    </a:lnTo>
                    <a:lnTo>
                      <a:pt x="199" y="24"/>
                    </a:lnTo>
                    <a:lnTo>
                      <a:pt x="210" y="30"/>
                    </a:lnTo>
                    <a:lnTo>
                      <a:pt x="219" y="36"/>
                    </a:lnTo>
                    <a:lnTo>
                      <a:pt x="234" y="46"/>
                    </a:lnTo>
                    <a:lnTo>
                      <a:pt x="247" y="57"/>
                    </a:lnTo>
                    <a:lnTo>
                      <a:pt x="260" y="69"/>
                    </a:lnTo>
                    <a:lnTo>
                      <a:pt x="272" y="82"/>
                    </a:lnTo>
                    <a:lnTo>
                      <a:pt x="285" y="96"/>
                    </a:lnTo>
                    <a:lnTo>
                      <a:pt x="297" y="108"/>
                    </a:lnTo>
                    <a:lnTo>
                      <a:pt x="309" y="121"/>
                    </a:lnTo>
                    <a:lnTo>
                      <a:pt x="322" y="133"/>
                    </a:lnTo>
                    <a:lnTo>
                      <a:pt x="342" y="150"/>
                    </a:lnTo>
                    <a:lnTo>
                      <a:pt x="360" y="165"/>
                    </a:lnTo>
                    <a:lnTo>
                      <a:pt x="379" y="181"/>
                    </a:lnTo>
                    <a:lnTo>
                      <a:pt x="398" y="198"/>
                    </a:lnTo>
                    <a:lnTo>
                      <a:pt x="416" y="213"/>
                    </a:lnTo>
                    <a:lnTo>
                      <a:pt x="435" y="229"/>
                    </a:lnTo>
                    <a:lnTo>
                      <a:pt x="454" y="244"/>
                    </a:lnTo>
                    <a:lnTo>
                      <a:pt x="474" y="260"/>
                    </a:lnTo>
                    <a:lnTo>
                      <a:pt x="488" y="271"/>
                    </a:lnTo>
                    <a:lnTo>
                      <a:pt x="502" y="283"/>
                    </a:lnTo>
                    <a:lnTo>
                      <a:pt x="516" y="294"/>
                    </a:lnTo>
                    <a:lnTo>
                      <a:pt x="530" y="304"/>
                    </a:lnTo>
                    <a:lnTo>
                      <a:pt x="544" y="315"/>
                    </a:lnTo>
                    <a:lnTo>
                      <a:pt x="559" y="326"/>
                    </a:lnTo>
                    <a:lnTo>
                      <a:pt x="574" y="336"/>
                    </a:lnTo>
                    <a:lnTo>
                      <a:pt x="590" y="345"/>
                    </a:lnTo>
                    <a:lnTo>
                      <a:pt x="597" y="349"/>
                    </a:lnTo>
                    <a:lnTo>
                      <a:pt x="606" y="352"/>
                    </a:lnTo>
                    <a:lnTo>
                      <a:pt x="613" y="355"/>
                    </a:lnTo>
                    <a:lnTo>
                      <a:pt x="621" y="357"/>
                    </a:lnTo>
                    <a:lnTo>
                      <a:pt x="630" y="360"/>
                    </a:lnTo>
                    <a:lnTo>
                      <a:pt x="639" y="361"/>
                    </a:lnTo>
                    <a:lnTo>
                      <a:pt x="648" y="362"/>
                    </a:lnTo>
                    <a:lnTo>
                      <a:pt x="656" y="363"/>
                    </a:lnTo>
                    <a:lnTo>
                      <a:pt x="664" y="363"/>
                    </a:lnTo>
                    <a:lnTo>
                      <a:pt x="673" y="363"/>
                    </a:lnTo>
                    <a:lnTo>
                      <a:pt x="680" y="363"/>
                    </a:lnTo>
                    <a:lnTo>
                      <a:pt x="688" y="363"/>
                    </a:lnTo>
                    <a:lnTo>
                      <a:pt x="697" y="361"/>
                    </a:lnTo>
                    <a:lnTo>
                      <a:pt x="704" y="360"/>
                    </a:lnTo>
                    <a:lnTo>
                      <a:pt x="711" y="356"/>
                    </a:lnTo>
                    <a:lnTo>
                      <a:pt x="717" y="351"/>
                    </a:lnTo>
                    <a:lnTo>
                      <a:pt x="723" y="344"/>
                    </a:lnTo>
                    <a:lnTo>
                      <a:pt x="728" y="336"/>
                    </a:lnTo>
                    <a:lnTo>
                      <a:pt x="732" y="327"/>
                    </a:lnTo>
                    <a:lnTo>
                      <a:pt x="735" y="318"/>
                    </a:lnTo>
                    <a:lnTo>
                      <a:pt x="738" y="308"/>
                    </a:lnTo>
                    <a:lnTo>
                      <a:pt x="739" y="297"/>
                    </a:lnTo>
                    <a:lnTo>
                      <a:pt x="740" y="288"/>
                    </a:lnTo>
                    <a:lnTo>
                      <a:pt x="741" y="278"/>
                    </a:lnTo>
                    <a:lnTo>
                      <a:pt x="742" y="264"/>
                    </a:lnTo>
                    <a:lnTo>
                      <a:pt x="741" y="249"/>
                    </a:lnTo>
                    <a:lnTo>
                      <a:pt x="741" y="235"/>
                    </a:lnTo>
                    <a:lnTo>
                      <a:pt x="739" y="220"/>
                    </a:lnTo>
                    <a:lnTo>
                      <a:pt x="738" y="206"/>
                    </a:lnTo>
                    <a:lnTo>
                      <a:pt x="736" y="192"/>
                    </a:lnTo>
                    <a:lnTo>
                      <a:pt x="735" y="177"/>
                    </a:lnTo>
                    <a:lnTo>
                      <a:pt x="735" y="163"/>
                    </a:lnTo>
                    <a:lnTo>
                      <a:pt x="735" y="156"/>
                    </a:lnTo>
                    <a:lnTo>
                      <a:pt x="735" y="148"/>
                    </a:lnTo>
                    <a:lnTo>
                      <a:pt x="736" y="140"/>
                    </a:lnTo>
                    <a:lnTo>
                      <a:pt x="738" y="133"/>
                    </a:lnTo>
                    <a:lnTo>
                      <a:pt x="739" y="126"/>
                    </a:lnTo>
                    <a:lnTo>
                      <a:pt x="740" y="117"/>
                    </a:lnTo>
                    <a:lnTo>
                      <a:pt x="740" y="110"/>
                    </a:lnTo>
                    <a:lnTo>
                      <a:pt x="741" y="103"/>
                    </a:lnTo>
                    <a:lnTo>
                      <a:pt x="741" y="94"/>
                    </a:lnTo>
                    <a:lnTo>
                      <a:pt x="741" y="86"/>
                    </a:lnTo>
                    <a:lnTo>
                      <a:pt x="740" y="78"/>
                    </a:lnTo>
                    <a:lnTo>
                      <a:pt x="740" y="69"/>
                    </a:lnTo>
                    <a:lnTo>
                      <a:pt x="739" y="61"/>
                    </a:lnTo>
                    <a:lnTo>
                      <a:pt x="739" y="52"/>
                    </a:lnTo>
                    <a:lnTo>
                      <a:pt x="740" y="44"/>
                    </a:lnTo>
                    <a:lnTo>
                      <a:pt x="741" y="36"/>
                    </a:lnTo>
                    <a:lnTo>
                      <a:pt x="742" y="30"/>
                    </a:lnTo>
                    <a:lnTo>
                      <a:pt x="744" y="24"/>
                    </a:lnTo>
                    <a:lnTo>
                      <a:pt x="746" y="18"/>
                    </a:lnTo>
                    <a:lnTo>
                      <a:pt x="748" y="12"/>
                    </a:lnTo>
                    <a:lnTo>
                      <a:pt x="752" y="7"/>
                    </a:lnTo>
                    <a:lnTo>
                      <a:pt x="756" y="3"/>
                    </a:lnTo>
                    <a:lnTo>
                      <a:pt x="760" y="0"/>
                    </a:lnTo>
                    <a:lnTo>
                      <a:pt x="765" y="0"/>
                    </a:lnTo>
                    <a:lnTo>
                      <a:pt x="776" y="1"/>
                    </a:lnTo>
                    <a:lnTo>
                      <a:pt x="786" y="4"/>
                    </a:lnTo>
                    <a:lnTo>
                      <a:pt x="795" y="8"/>
                    </a:lnTo>
                    <a:lnTo>
                      <a:pt x="805" y="13"/>
                    </a:lnTo>
                    <a:lnTo>
                      <a:pt x="814" y="20"/>
                    </a:lnTo>
                    <a:lnTo>
                      <a:pt x="823" y="26"/>
                    </a:lnTo>
                    <a:lnTo>
                      <a:pt x="831" y="34"/>
                    </a:lnTo>
                    <a:lnTo>
                      <a:pt x="838" y="42"/>
                    </a:lnTo>
                    <a:lnTo>
                      <a:pt x="846" y="51"/>
                    </a:lnTo>
                    <a:lnTo>
                      <a:pt x="852" y="62"/>
                    </a:lnTo>
                    <a:lnTo>
                      <a:pt x="858" y="74"/>
                    </a:lnTo>
                    <a:lnTo>
                      <a:pt x="862" y="85"/>
                    </a:lnTo>
                    <a:lnTo>
                      <a:pt x="867" y="97"/>
                    </a:lnTo>
                    <a:lnTo>
                      <a:pt x="871" y="109"/>
                    </a:lnTo>
                    <a:lnTo>
                      <a:pt x="876" y="121"/>
                    </a:lnTo>
                    <a:lnTo>
                      <a:pt x="880" y="133"/>
                    </a:lnTo>
                    <a:lnTo>
                      <a:pt x="888" y="150"/>
                    </a:lnTo>
                    <a:lnTo>
                      <a:pt x="895" y="166"/>
                    </a:lnTo>
                    <a:lnTo>
                      <a:pt x="901" y="183"/>
                    </a:lnTo>
                    <a:lnTo>
                      <a:pt x="908" y="199"/>
                    </a:lnTo>
                    <a:lnTo>
                      <a:pt x="914" y="216"/>
                    </a:lnTo>
                    <a:lnTo>
                      <a:pt x="921" y="232"/>
                    </a:lnTo>
                    <a:lnTo>
                      <a:pt x="928" y="249"/>
                    </a:lnTo>
                    <a:lnTo>
                      <a:pt x="936" y="266"/>
                    </a:lnTo>
                    <a:lnTo>
                      <a:pt x="939" y="276"/>
                    </a:lnTo>
                    <a:lnTo>
                      <a:pt x="943" y="286"/>
                    </a:lnTo>
                    <a:lnTo>
                      <a:pt x="948" y="296"/>
                    </a:lnTo>
                    <a:lnTo>
                      <a:pt x="951" y="307"/>
                    </a:lnTo>
                    <a:lnTo>
                      <a:pt x="956" y="316"/>
                    </a:lnTo>
                    <a:lnTo>
                      <a:pt x="961" y="326"/>
                    </a:lnTo>
                    <a:lnTo>
                      <a:pt x="966" y="336"/>
                    </a:lnTo>
                    <a:lnTo>
                      <a:pt x="972" y="345"/>
                    </a:lnTo>
                    <a:lnTo>
                      <a:pt x="979" y="355"/>
                    </a:lnTo>
                    <a:lnTo>
                      <a:pt x="986" y="364"/>
                    </a:lnTo>
                    <a:lnTo>
                      <a:pt x="994" y="374"/>
                    </a:lnTo>
                    <a:lnTo>
                      <a:pt x="1003" y="384"/>
                    </a:lnTo>
                    <a:lnTo>
                      <a:pt x="1011" y="392"/>
                    </a:lnTo>
                    <a:lnTo>
                      <a:pt x="1021" y="400"/>
                    </a:lnTo>
                    <a:lnTo>
                      <a:pt x="1029" y="409"/>
                    </a:lnTo>
                    <a:lnTo>
                      <a:pt x="1039" y="417"/>
                    </a:lnTo>
                    <a:lnTo>
                      <a:pt x="1050" y="428"/>
                    </a:lnTo>
                    <a:lnTo>
                      <a:pt x="1062" y="439"/>
                    </a:lnTo>
                    <a:lnTo>
                      <a:pt x="1072" y="450"/>
                    </a:lnTo>
                    <a:lnTo>
                      <a:pt x="1084" y="460"/>
                    </a:lnTo>
                    <a:lnTo>
                      <a:pt x="1096" y="471"/>
                    </a:lnTo>
                    <a:lnTo>
                      <a:pt x="1108" y="480"/>
                    </a:lnTo>
                    <a:lnTo>
                      <a:pt x="1122" y="489"/>
                    </a:lnTo>
                    <a:lnTo>
                      <a:pt x="1135" y="496"/>
                    </a:lnTo>
                    <a:lnTo>
                      <a:pt x="1147" y="501"/>
                    </a:lnTo>
                    <a:lnTo>
                      <a:pt x="1159" y="505"/>
                    </a:lnTo>
                    <a:lnTo>
                      <a:pt x="1171" y="508"/>
                    </a:lnTo>
                    <a:lnTo>
                      <a:pt x="1183" y="511"/>
                    </a:lnTo>
                    <a:lnTo>
                      <a:pt x="1195" y="512"/>
                    </a:lnTo>
                    <a:lnTo>
                      <a:pt x="1208" y="513"/>
                    </a:lnTo>
                    <a:lnTo>
                      <a:pt x="1220" y="514"/>
                    </a:lnTo>
                    <a:lnTo>
                      <a:pt x="1232" y="514"/>
                    </a:lnTo>
                    <a:lnTo>
                      <a:pt x="1248" y="516"/>
                    </a:lnTo>
                    <a:lnTo>
                      <a:pt x="1263" y="516"/>
                    </a:lnTo>
                    <a:lnTo>
                      <a:pt x="1278" y="516"/>
                    </a:lnTo>
                    <a:lnTo>
                      <a:pt x="1293" y="516"/>
                    </a:lnTo>
                    <a:lnTo>
                      <a:pt x="1309" y="514"/>
                    </a:lnTo>
                    <a:lnTo>
                      <a:pt x="1323" y="513"/>
                    </a:lnTo>
                    <a:lnTo>
                      <a:pt x="1339" y="511"/>
                    </a:lnTo>
                    <a:lnTo>
                      <a:pt x="1353" y="508"/>
                    </a:lnTo>
                    <a:lnTo>
                      <a:pt x="1364" y="506"/>
                    </a:lnTo>
                    <a:lnTo>
                      <a:pt x="1375" y="504"/>
                    </a:lnTo>
                    <a:lnTo>
                      <a:pt x="1384" y="501"/>
                    </a:lnTo>
                    <a:lnTo>
                      <a:pt x="1395" y="498"/>
                    </a:lnTo>
                    <a:lnTo>
                      <a:pt x="1405" y="494"/>
                    </a:lnTo>
                    <a:lnTo>
                      <a:pt x="1414" y="489"/>
                    </a:lnTo>
                    <a:lnTo>
                      <a:pt x="1424" y="484"/>
                    </a:lnTo>
                    <a:lnTo>
                      <a:pt x="1432" y="478"/>
                    </a:lnTo>
                    <a:lnTo>
                      <a:pt x="1441" y="471"/>
                    </a:lnTo>
                    <a:lnTo>
                      <a:pt x="1450" y="464"/>
                    </a:lnTo>
                    <a:lnTo>
                      <a:pt x="1459" y="457"/>
                    </a:lnTo>
                    <a:lnTo>
                      <a:pt x="1467" y="448"/>
                    </a:lnTo>
                    <a:lnTo>
                      <a:pt x="1474" y="440"/>
                    </a:lnTo>
                    <a:lnTo>
                      <a:pt x="1479" y="430"/>
                    </a:lnTo>
                    <a:lnTo>
                      <a:pt x="1482" y="426"/>
                    </a:lnTo>
                    <a:lnTo>
                      <a:pt x="1482" y="421"/>
                    </a:lnTo>
                    <a:lnTo>
                      <a:pt x="1482" y="416"/>
                    </a:lnTo>
                    <a:lnTo>
                      <a:pt x="1480" y="411"/>
                    </a:lnTo>
                    <a:lnTo>
                      <a:pt x="1479" y="406"/>
                    </a:lnTo>
                    <a:lnTo>
                      <a:pt x="1477" y="402"/>
                    </a:lnTo>
                    <a:lnTo>
                      <a:pt x="1473" y="398"/>
                    </a:lnTo>
                    <a:lnTo>
                      <a:pt x="1470" y="394"/>
                    </a:lnTo>
                    <a:lnTo>
                      <a:pt x="1460" y="388"/>
                    </a:lnTo>
                    <a:lnTo>
                      <a:pt x="1449" y="384"/>
                    </a:lnTo>
                    <a:lnTo>
                      <a:pt x="1437" y="380"/>
                    </a:lnTo>
                    <a:lnTo>
                      <a:pt x="1425" y="376"/>
                    </a:lnTo>
                    <a:lnTo>
                      <a:pt x="1413" y="373"/>
                    </a:lnTo>
                    <a:lnTo>
                      <a:pt x="1402" y="369"/>
                    </a:lnTo>
                    <a:lnTo>
                      <a:pt x="1389" y="364"/>
                    </a:lnTo>
                    <a:lnTo>
                      <a:pt x="1376" y="360"/>
                    </a:lnTo>
                    <a:lnTo>
                      <a:pt x="1363" y="356"/>
                    </a:lnTo>
                    <a:lnTo>
                      <a:pt x="1350" y="352"/>
                    </a:lnTo>
                    <a:lnTo>
                      <a:pt x="1336" y="348"/>
                    </a:lnTo>
                    <a:lnTo>
                      <a:pt x="1324" y="344"/>
                    </a:lnTo>
                    <a:lnTo>
                      <a:pt x="1311" y="339"/>
                    </a:lnTo>
                    <a:lnTo>
                      <a:pt x="1299" y="333"/>
                    </a:lnTo>
                    <a:lnTo>
                      <a:pt x="1291" y="328"/>
                    </a:lnTo>
                    <a:lnTo>
                      <a:pt x="1284" y="324"/>
                    </a:lnTo>
                    <a:lnTo>
                      <a:pt x="1276" y="318"/>
                    </a:lnTo>
                    <a:lnTo>
                      <a:pt x="1269" y="312"/>
                    </a:lnTo>
                    <a:lnTo>
                      <a:pt x="1262" y="306"/>
                    </a:lnTo>
                    <a:lnTo>
                      <a:pt x="1256" y="298"/>
                    </a:lnTo>
                    <a:lnTo>
                      <a:pt x="1250" y="291"/>
                    </a:lnTo>
                    <a:lnTo>
                      <a:pt x="1244" y="284"/>
                    </a:lnTo>
                    <a:lnTo>
                      <a:pt x="1239" y="277"/>
                    </a:lnTo>
                    <a:lnTo>
                      <a:pt x="1234" y="268"/>
                    </a:lnTo>
                    <a:lnTo>
                      <a:pt x="1230" y="261"/>
                    </a:lnTo>
                    <a:lnTo>
                      <a:pt x="1226" y="253"/>
                    </a:lnTo>
                    <a:lnTo>
                      <a:pt x="1222" y="244"/>
                    </a:lnTo>
                    <a:lnTo>
                      <a:pt x="1219" y="235"/>
                    </a:lnTo>
                    <a:lnTo>
                      <a:pt x="1216" y="226"/>
                    </a:lnTo>
                    <a:lnTo>
                      <a:pt x="1214" y="218"/>
                    </a:lnTo>
                    <a:lnTo>
                      <a:pt x="1213" y="211"/>
                    </a:lnTo>
                    <a:lnTo>
                      <a:pt x="1212" y="205"/>
                    </a:lnTo>
                    <a:lnTo>
                      <a:pt x="1212" y="198"/>
                    </a:lnTo>
                    <a:lnTo>
                      <a:pt x="1212" y="192"/>
                    </a:lnTo>
                    <a:lnTo>
                      <a:pt x="1212" y="186"/>
                    </a:lnTo>
                    <a:lnTo>
                      <a:pt x="1214" y="180"/>
                    </a:lnTo>
                    <a:lnTo>
                      <a:pt x="1216" y="174"/>
                    </a:lnTo>
                    <a:lnTo>
                      <a:pt x="1220" y="169"/>
                    </a:lnTo>
                    <a:lnTo>
                      <a:pt x="1226" y="164"/>
                    </a:lnTo>
                    <a:lnTo>
                      <a:pt x="1233" y="162"/>
                    </a:lnTo>
                    <a:lnTo>
                      <a:pt x="1240" y="159"/>
                    </a:lnTo>
                    <a:lnTo>
                      <a:pt x="1249" y="157"/>
                    </a:lnTo>
                    <a:lnTo>
                      <a:pt x="1257" y="157"/>
                    </a:lnTo>
                    <a:lnTo>
                      <a:pt x="1264" y="156"/>
                    </a:lnTo>
                    <a:lnTo>
                      <a:pt x="1273" y="157"/>
                    </a:lnTo>
                    <a:lnTo>
                      <a:pt x="1281" y="157"/>
                    </a:lnTo>
                    <a:lnTo>
                      <a:pt x="1291" y="158"/>
                    </a:lnTo>
                    <a:lnTo>
                      <a:pt x="1300" y="160"/>
                    </a:lnTo>
                    <a:lnTo>
                      <a:pt x="1311" y="164"/>
                    </a:lnTo>
                    <a:lnTo>
                      <a:pt x="1321" y="168"/>
                    </a:lnTo>
                    <a:lnTo>
                      <a:pt x="1330" y="171"/>
                    </a:lnTo>
                    <a:lnTo>
                      <a:pt x="1340" y="176"/>
                    </a:lnTo>
                    <a:lnTo>
                      <a:pt x="1350" y="178"/>
                    </a:lnTo>
                    <a:lnTo>
                      <a:pt x="1359" y="181"/>
                    </a:lnTo>
                    <a:lnTo>
                      <a:pt x="1371" y="183"/>
                    </a:lnTo>
                    <a:lnTo>
                      <a:pt x="1383" y="186"/>
                    </a:lnTo>
                    <a:lnTo>
                      <a:pt x="1396" y="188"/>
                    </a:lnTo>
                    <a:lnTo>
                      <a:pt x="1408" y="189"/>
                    </a:lnTo>
                    <a:lnTo>
                      <a:pt x="1420" y="190"/>
                    </a:lnTo>
                    <a:lnTo>
                      <a:pt x="1432" y="192"/>
                    </a:lnTo>
                    <a:lnTo>
                      <a:pt x="1444" y="193"/>
                    </a:lnTo>
                    <a:lnTo>
                      <a:pt x="1456" y="193"/>
                    </a:lnTo>
                    <a:lnTo>
                      <a:pt x="1471" y="194"/>
                    </a:lnTo>
                    <a:lnTo>
                      <a:pt x="1484" y="194"/>
                    </a:lnTo>
                    <a:lnTo>
                      <a:pt x="1497" y="195"/>
                    </a:lnTo>
                    <a:lnTo>
                      <a:pt x="1512" y="194"/>
                    </a:lnTo>
                    <a:lnTo>
                      <a:pt x="1525" y="194"/>
                    </a:lnTo>
                    <a:lnTo>
                      <a:pt x="1539" y="194"/>
                    </a:lnTo>
                    <a:lnTo>
                      <a:pt x="1552" y="194"/>
                    </a:lnTo>
                    <a:lnTo>
                      <a:pt x="1566" y="193"/>
                    </a:lnTo>
                    <a:lnTo>
                      <a:pt x="1575" y="193"/>
                    </a:lnTo>
                    <a:lnTo>
                      <a:pt x="1584" y="192"/>
                    </a:lnTo>
                    <a:lnTo>
                      <a:pt x="1593" y="190"/>
                    </a:lnTo>
                    <a:lnTo>
                      <a:pt x="1603" y="188"/>
                    </a:lnTo>
                    <a:lnTo>
                      <a:pt x="1611" y="187"/>
                    </a:lnTo>
                    <a:lnTo>
                      <a:pt x="1621" y="186"/>
                    </a:lnTo>
                    <a:lnTo>
                      <a:pt x="1629" y="186"/>
                    </a:lnTo>
                    <a:lnTo>
                      <a:pt x="1639" y="187"/>
                    </a:lnTo>
                    <a:lnTo>
                      <a:pt x="1646" y="189"/>
                    </a:lnTo>
                    <a:lnTo>
                      <a:pt x="1654" y="192"/>
                    </a:lnTo>
                    <a:lnTo>
                      <a:pt x="1662" y="194"/>
                    </a:lnTo>
                    <a:lnTo>
                      <a:pt x="1669" y="198"/>
                    </a:lnTo>
                    <a:lnTo>
                      <a:pt x="1676" y="202"/>
                    </a:lnTo>
                    <a:lnTo>
                      <a:pt x="1682" y="206"/>
                    </a:lnTo>
                    <a:lnTo>
                      <a:pt x="1688" y="212"/>
                    </a:lnTo>
                    <a:lnTo>
                      <a:pt x="1693" y="218"/>
                    </a:lnTo>
                    <a:lnTo>
                      <a:pt x="1698" y="224"/>
                    </a:lnTo>
                    <a:lnTo>
                      <a:pt x="1701" y="231"/>
                    </a:lnTo>
                    <a:lnTo>
                      <a:pt x="1704" y="238"/>
                    </a:lnTo>
                    <a:lnTo>
                      <a:pt x="1706" y="247"/>
                    </a:lnTo>
                    <a:lnTo>
                      <a:pt x="1707" y="254"/>
                    </a:lnTo>
                    <a:lnTo>
                      <a:pt x="1708" y="262"/>
                    </a:lnTo>
                    <a:lnTo>
                      <a:pt x="1710" y="271"/>
                    </a:lnTo>
                    <a:lnTo>
                      <a:pt x="1712" y="278"/>
                    </a:lnTo>
                    <a:lnTo>
                      <a:pt x="1717" y="298"/>
                    </a:lnTo>
                    <a:lnTo>
                      <a:pt x="1722" y="319"/>
                    </a:lnTo>
                    <a:lnTo>
                      <a:pt x="1726" y="339"/>
                    </a:lnTo>
                    <a:lnTo>
                      <a:pt x="1731" y="360"/>
                    </a:lnTo>
                    <a:lnTo>
                      <a:pt x="1736" y="380"/>
                    </a:lnTo>
                    <a:lnTo>
                      <a:pt x="1741" y="400"/>
                    </a:lnTo>
                    <a:lnTo>
                      <a:pt x="1744" y="421"/>
                    </a:lnTo>
                    <a:lnTo>
                      <a:pt x="1748" y="441"/>
                    </a:lnTo>
                    <a:lnTo>
                      <a:pt x="1750" y="460"/>
                    </a:lnTo>
                    <a:lnTo>
                      <a:pt x="1752" y="480"/>
                    </a:lnTo>
                    <a:lnTo>
                      <a:pt x="1752" y="499"/>
                    </a:lnTo>
                    <a:lnTo>
                      <a:pt x="1753" y="518"/>
                    </a:lnTo>
                    <a:lnTo>
                      <a:pt x="1753" y="537"/>
                    </a:lnTo>
                    <a:lnTo>
                      <a:pt x="1754" y="556"/>
                    </a:lnTo>
                    <a:lnTo>
                      <a:pt x="1756" y="574"/>
                    </a:lnTo>
                    <a:lnTo>
                      <a:pt x="1760" y="594"/>
                    </a:lnTo>
                    <a:lnTo>
                      <a:pt x="1762" y="606"/>
                    </a:lnTo>
                    <a:lnTo>
                      <a:pt x="1766" y="618"/>
                    </a:lnTo>
                    <a:lnTo>
                      <a:pt x="1771" y="631"/>
                    </a:lnTo>
                    <a:lnTo>
                      <a:pt x="1774" y="643"/>
                    </a:lnTo>
                    <a:lnTo>
                      <a:pt x="1780" y="653"/>
                    </a:lnTo>
                    <a:lnTo>
                      <a:pt x="1786" y="664"/>
                    </a:lnTo>
                    <a:lnTo>
                      <a:pt x="1794" y="675"/>
                    </a:lnTo>
                    <a:lnTo>
                      <a:pt x="1802" y="683"/>
                    </a:lnTo>
                    <a:lnTo>
                      <a:pt x="1808" y="688"/>
                    </a:lnTo>
                    <a:lnTo>
                      <a:pt x="1815" y="693"/>
                    </a:lnTo>
                    <a:lnTo>
                      <a:pt x="1824" y="695"/>
                    </a:lnTo>
                    <a:lnTo>
                      <a:pt x="1832" y="697"/>
                    </a:lnTo>
                    <a:lnTo>
                      <a:pt x="1840" y="697"/>
                    </a:lnTo>
                    <a:lnTo>
                      <a:pt x="1849" y="695"/>
                    </a:lnTo>
                    <a:lnTo>
                      <a:pt x="1856" y="694"/>
                    </a:lnTo>
                    <a:lnTo>
                      <a:pt x="1863" y="691"/>
                    </a:lnTo>
                    <a:lnTo>
                      <a:pt x="1878" y="680"/>
                    </a:lnTo>
                    <a:lnTo>
                      <a:pt x="1890" y="667"/>
                    </a:lnTo>
                    <a:lnTo>
                      <a:pt x="1902" y="653"/>
                    </a:lnTo>
                    <a:lnTo>
                      <a:pt x="1912" y="640"/>
                    </a:lnTo>
                    <a:lnTo>
                      <a:pt x="1923" y="625"/>
                    </a:lnTo>
                    <a:lnTo>
                      <a:pt x="1933" y="610"/>
                    </a:lnTo>
                    <a:lnTo>
                      <a:pt x="1944" y="596"/>
                    </a:lnTo>
                    <a:lnTo>
                      <a:pt x="1954" y="582"/>
                    </a:lnTo>
                    <a:lnTo>
                      <a:pt x="1968" y="564"/>
                    </a:lnTo>
                    <a:lnTo>
                      <a:pt x="1981" y="546"/>
                    </a:lnTo>
                    <a:lnTo>
                      <a:pt x="1993" y="526"/>
                    </a:lnTo>
                    <a:lnTo>
                      <a:pt x="2006" y="508"/>
                    </a:lnTo>
                    <a:lnTo>
                      <a:pt x="2018" y="490"/>
                    </a:lnTo>
                    <a:lnTo>
                      <a:pt x="2031" y="471"/>
                    </a:lnTo>
                    <a:lnTo>
                      <a:pt x="2043" y="453"/>
                    </a:lnTo>
                    <a:lnTo>
                      <a:pt x="2058" y="435"/>
                    </a:lnTo>
                    <a:lnTo>
                      <a:pt x="2067" y="423"/>
                    </a:lnTo>
                    <a:lnTo>
                      <a:pt x="2077" y="410"/>
                    </a:lnTo>
                    <a:lnTo>
                      <a:pt x="2088" y="398"/>
                    </a:lnTo>
                    <a:lnTo>
                      <a:pt x="2097" y="385"/>
                    </a:lnTo>
                    <a:lnTo>
                      <a:pt x="2108" y="373"/>
                    </a:lnTo>
                    <a:lnTo>
                      <a:pt x="2119" y="361"/>
                    </a:lnTo>
                    <a:lnTo>
                      <a:pt x="2130" y="350"/>
                    </a:lnTo>
                    <a:lnTo>
                      <a:pt x="2142" y="339"/>
                    </a:lnTo>
                    <a:lnTo>
                      <a:pt x="2149" y="333"/>
                    </a:lnTo>
                    <a:lnTo>
                      <a:pt x="2156" y="327"/>
                    </a:lnTo>
                    <a:lnTo>
                      <a:pt x="2164" y="320"/>
                    </a:lnTo>
                    <a:lnTo>
                      <a:pt x="2173" y="315"/>
                    </a:lnTo>
                    <a:lnTo>
                      <a:pt x="2181" y="310"/>
                    </a:lnTo>
                    <a:lnTo>
                      <a:pt x="2187" y="308"/>
                    </a:lnTo>
                    <a:lnTo>
                      <a:pt x="2191" y="309"/>
                    </a:lnTo>
                    <a:lnTo>
                      <a:pt x="2193" y="309"/>
                    </a:lnTo>
                    <a:lnTo>
                      <a:pt x="2196" y="312"/>
                    </a:lnTo>
                    <a:lnTo>
                      <a:pt x="2197" y="314"/>
                    </a:lnTo>
                    <a:lnTo>
                      <a:pt x="2202" y="336"/>
                    </a:lnTo>
                    <a:lnTo>
                      <a:pt x="2205" y="357"/>
                    </a:lnTo>
                    <a:lnTo>
                      <a:pt x="2206" y="380"/>
                    </a:lnTo>
                    <a:lnTo>
                      <a:pt x="2206" y="402"/>
                    </a:lnTo>
                    <a:lnTo>
                      <a:pt x="2204" y="424"/>
                    </a:lnTo>
                    <a:lnTo>
                      <a:pt x="2200" y="447"/>
                    </a:lnTo>
                    <a:lnTo>
                      <a:pt x="2196" y="469"/>
                    </a:lnTo>
                    <a:lnTo>
                      <a:pt x="2191" y="490"/>
                    </a:lnTo>
                    <a:lnTo>
                      <a:pt x="2179" y="528"/>
                    </a:lnTo>
                    <a:lnTo>
                      <a:pt x="2167" y="565"/>
                    </a:lnTo>
                    <a:lnTo>
                      <a:pt x="2152" y="602"/>
                    </a:lnTo>
                    <a:lnTo>
                      <a:pt x="2137" y="638"/>
                    </a:lnTo>
                    <a:lnTo>
                      <a:pt x="2120" y="674"/>
                    </a:lnTo>
                    <a:lnTo>
                      <a:pt x="2103" y="710"/>
                    </a:lnTo>
                    <a:lnTo>
                      <a:pt x="2086" y="746"/>
                    </a:lnTo>
                    <a:lnTo>
                      <a:pt x="2070" y="781"/>
                    </a:lnTo>
                    <a:lnTo>
                      <a:pt x="2060" y="801"/>
                    </a:lnTo>
                    <a:lnTo>
                      <a:pt x="2049" y="820"/>
                    </a:lnTo>
                    <a:lnTo>
                      <a:pt x="2040" y="841"/>
                    </a:lnTo>
                    <a:lnTo>
                      <a:pt x="2028" y="860"/>
                    </a:lnTo>
                    <a:lnTo>
                      <a:pt x="2017" y="879"/>
                    </a:lnTo>
                    <a:lnTo>
                      <a:pt x="2005" y="897"/>
                    </a:lnTo>
                    <a:lnTo>
                      <a:pt x="1992" y="915"/>
                    </a:lnTo>
                    <a:lnTo>
                      <a:pt x="1978" y="933"/>
                    </a:lnTo>
                    <a:lnTo>
                      <a:pt x="1969" y="943"/>
                    </a:lnTo>
                    <a:lnTo>
                      <a:pt x="1958" y="953"/>
                    </a:lnTo>
                    <a:lnTo>
                      <a:pt x="1946" y="962"/>
                    </a:lnTo>
                    <a:lnTo>
                      <a:pt x="1934" y="970"/>
                    </a:lnTo>
                    <a:lnTo>
                      <a:pt x="1922" y="979"/>
                    </a:lnTo>
                    <a:lnTo>
                      <a:pt x="1910" y="987"/>
                    </a:lnTo>
                    <a:lnTo>
                      <a:pt x="1898" y="995"/>
                    </a:lnTo>
                    <a:lnTo>
                      <a:pt x="1887" y="1005"/>
                    </a:lnTo>
                    <a:lnTo>
                      <a:pt x="1882" y="1010"/>
                    </a:lnTo>
                    <a:lnTo>
                      <a:pt x="1876" y="1015"/>
                    </a:lnTo>
                    <a:lnTo>
                      <a:pt x="1870" y="1019"/>
                    </a:lnTo>
                    <a:lnTo>
                      <a:pt x="1866" y="1024"/>
                    </a:lnTo>
                    <a:lnTo>
                      <a:pt x="1861" y="1029"/>
                    </a:lnTo>
                    <a:lnTo>
                      <a:pt x="1856" y="1035"/>
                    </a:lnTo>
                    <a:lnTo>
                      <a:pt x="1854" y="1041"/>
                    </a:lnTo>
                    <a:lnTo>
                      <a:pt x="1851" y="1047"/>
                    </a:lnTo>
                    <a:lnTo>
                      <a:pt x="1850" y="1055"/>
                    </a:lnTo>
                    <a:lnTo>
                      <a:pt x="1849" y="1064"/>
                    </a:lnTo>
                    <a:lnTo>
                      <a:pt x="1848" y="1072"/>
                    </a:lnTo>
                    <a:lnTo>
                      <a:pt x="1849" y="1082"/>
                    </a:lnTo>
                    <a:lnTo>
                      <a:pt x="1850" y="1089"/>
                    </a:lnTo>
                    <a:lnTo>
                      <a:pt x="1854" y="1097"/>
                    </a:lnTo>
                    <a:lnTo>
                      <a:pt x="1857" y="1103"/>
                    </a:lnTo>
                    <a:lnTo>
                      <a:pt x="1863" y="1108"/>
                    </a:lnTo>
                    <a:lnTo>
                      <a:pt x="1875" y="1115"/>
                    </a:lnTo>
                    <a:lnTo>
                      <a:pt x="1888" y="1120"/>
                    </a:lnTo>
                    <a:lnTo>
                      <a:pt x="1902" y="1124"/>
                    </a:lnTo>
                    <a:lnTo>
                      <a:pt x="1916" y="1127"/>
                    </a:lnTo>
                    <a:lnTo>
                      <a:pt x="1930" y="1129"/>
                    </a:lnTo>
                    <a:lnTo>
                      <a:pt x="1944" y="1129"/>
                    </a:lnTo>
                    <a:lnTo>
                      <a:pt x="1958" y="1129"/>
                    </a:lnTo>
                    <a:lnTo>
                      <a:pt x="1972" y="1126"/>
                    </a:lnTo>
                    <a:lnTo>
                      <a:pt x="1987" y="1124"/>
                    </a:lnTo>
                    <a:lnTo>
                      <a:pt x="2002" y="1119"/>
                    </a:lnTo>
                    <a:lnTo>
                      <a:pt x="2017" y="1114"/>
                    </a:lnTo>
                    <a:lnTo>
                      <a:pt x="2031" y="1108"/>
                    </a:lnTo>
                    <a:lnTo>
                      <a:pt x="2046" y="1101"/>
                    </a:lnTo>
                    <a:lnTo>
                      <a:pt x="2059" y="1091"/>
                    </a:lnTo>
                    <a:lnTo>
                      <a:pt x="2071" y="1083"/>
                    </a:lnTo>
                    <a:lnTo>
                      <a:pt x="2082" y="1072"/>
                    </a:lnTo>
                    <a:lnTo>
                      <a:pt x="2091" y="1061"/>
                    </a:lnTo>
                    <a:lnTo>
                      <a:pt x="2100" y="1049"/>
                    </a:lnTo>
                    <a:lnTo>
                      <a:pt x="2108" y="1039"/>
                    </a:lnTo>
                    <a:lnTo>
                      <a:pt x="2115" y="1027"/>
                    </a:lnTo>
                    <a:lnTo>
                      <a:pt x="2131" y="1001"/>
                    </a:lnTo>
                    <a:lnTo>
                      <a:pt x="2144" y="976"/>
                    </a:lnTo>
                    <a:lnTo>
                      <a:pt x="2157" y="951"/>
                    </a:lnTo>
                    <a:lnTo>
                      <a:pt x="2172" y="926"/>
                    </a:lnTo>
                    <a:lnTo>
                      <a:pt x="2186" y="902"/>
                    </a:lnTo>
                    <a:lnTo>
                      <a:pt x="2203" y="878"/>
                    </a:lnTo>
                    <a:lnTo>
                      <a:pt x="2215" y="862"/>
                    </a:lnTo>
                    <a:lnTo>
                      <a:pt x="2228" y="848"/>
                    </a:lnTo>
                    <a:lnTo>
                      <a:pt x="2242" y="833"/>
                    </a:lnTo>
                    <a:lnTo>
                      <a:pt x="2257" y="819"/>
                    </a:lnTo>
                    <a:lnTo>
                      <a:pt x="2271" y="806"/>
                    </a:lnTo>
                    <a:lnTo>
                      <a:pt x="2287" y="793"/>
                    </a:lnTo>
                    <a:lnTo>
                      <a:pt x="2302" y="781"/>
                    </a:lnTo>
                    <a:lnTo>
                      <a:pt x="2318" y="769"/>
                    </a:lnTo>
                    <a:lnTo>
                      <a:pt x="2329" y="761"/>
                    </a:lnTo>
                    <a:lnTo>
                      <a:pt x="2338" y="754"/>
                    </a:lnTo>
                    <a:lnTo>
                      <a:pt x="2350" y="748"/>
                    </a:lnTo>
                    <a:lnTo>
                      <a:pt x="2361" y="742"/>
                    </a:lnTo>
                    <a:lnTo>
                      <a:pt x="2373" y="737"/>
                    </a:lnTo>
                    <a:lnTo>
                      <a:pt x="2385" y="734"/>
                    </a:lnTo>
                    <a:lnTo>
                      <a:pt x="2397" y="733"/>
                    </a:lnTo>
                    <a:lnTo>
                      <a:pt x="2409" y="733"/>
                    </a:lnTo>
                    <a:lnTo>
                      <a:pt x="2420" y="735"/>
                    </a:lnTo>
                    <a:lnTo>
                      <a:pt x="2432" y="739"/>
                    </a:lnTo>
                    <a:lnTo>
                      <a:pt x="2442" y="745"/>
                    </a:lnTo>
                    <a:lnTo>
                      <a:pt x="2452" y="752"/>
                    </a:lnTo>
                    <a:lnTo>
                      <a:pt x="2462" y="760"/>
                    </a:lnTo>
                    <a:lnTo>
                      <a:pt x="2470" y="770"/>
                    </a:lnTo>
                    <a:lnTo>
                      <a:pt x="2479" y="778"/>
                    </a:lnTo>
                    <a:lnTo>
                      <a:pt x="2487" y="787"/>
                    </a:lnTo>
                    <a:lnTo>
                      <a:pt x="2496" y="796"/>
                    </a:lnTo>
                    <a:lnTo>
                      <a:pt x="2504" y="807"/>
                    </a:lnTo>
                    <a:lnTo>
                      <a:pt x="2511" y="817"/>
                    </a:lnTo>
                    <a:lnTo>
                      <a:pt x="2517" y="827"/>
                    </a:lnTo>
                    <a:lnTo>
                      <a:pt x="2523" y="838"/>
                    </a:lnTo>
                    <a:lnTo>
                      <a:pt x="2530" y="850"/>
                    </a:lnTo>
                    <a:lnTo>
                      <a:pt x="2536" y="861"/>
                    </a:lnTo>
                    <a:lnTo>
                      <a:pt x="2542" y="872"/>
                    </a:lnTo>
                    <a:lnTo>
                      <a:pt x="2552" y="887"/>
                    </a:lnTo>
                    <a:lnTo>
                      <a:pt x="2562" y="903"/>
                    </a:lnTo>
                    <a:lnTo>
                      <a:pt x="2571" y="919"/>
                    </a:lnTo>
                    <a:lnTo>
                      <a:pt x="2581" y="934"/>
                    </a:lnTo>
                    <a:lnTo>
                      <a:pt x="2590" y="950"/>
                    </a:lnTo>
                    <a:lnTo>
                      <a:pt x="2600" y="965"/>
                    </a:lnTo>
                    <a:lnTo>
                      <a:pt x="2608" y="982"/>
                    </a:lnTo>
                    <a:lnTo>
                      <a:pt x="2616" y="999"/>
                    </a:lnTo>
                    <a:lnTo>
                      <a:pt x="2619" y="1010"/>
                    </a:lnTo>
                    <a:lnTo>
                      <a:pt x="2623" y="1019"/>
                    </a:lnTo>
                    <a:lnTo>
                      <a:pt x="2625" y="1030"/>
                    </a:lnTo>
                    <a:lnTo>
                      <a:pt x="2628" y="1041"/>
                    </a:lnTo>
                    <a:lnTo>
                      <a:pt x="2629" y="1052"/>
                    </a:lnTo>
                    <a:lnTo>
                      <a:pt x="2629" y="1063"/>
                    </a:lnTo>
                    <a:lnTo>
                      <a:pt x="2629" y="1073"/>
                    </a:lnTo>
                    <a:lnTo>
                      <a:pt x="2628" y="1084"/>
                    </a:lnTo>
                    <a:lnTo>
                      <a:pt x="2625" y="1091"/>
                    </a:lnTo>
                    <a:lnTo>
                      <a:pt x="2623" y="1099"/>
                    </a:lnTo>
                    <a:lnTo>
                      <a:pt x="2619" y="1105"/>
                    </a:lnTo>
                    <a:lnTo>
                      <a:pt x="2614" y="1112"/>
                    </a:lnTo>
                    <a:lnTo>
                      <a:pt x="2610" y="1118"/>
                    </a:lnTo>
                    <a:lnTo>
                      <a:pt x="2604" y="1121"/>
                    </a:lnTo>
                    <a:lnTo>
                      <a:pt x="2598" y="1125"/>
                    </a:lnTo>
                    <a:lnTo>
                      <a:pt x="2590" y="1126"/>
                    </a:lnTo>
                    <a:lnTo>
                      <a:pt x="2580" y="1126"/>
                    </a:lnTo>
                    <a:lnTo>
                      <a:pt x="2569" y="1124"/>
                    </a:lnTo>
                    <a:lnTo>
                      <a:pt x="2559" y="1120"/>
                    </a:lnTo>
                    <a:lnTo>
                      <a:pt x="2548" y="1117"/>
                    </a:lnTo>
                    <a:lnTo>
                      <a:pt x="2539" y="1111"/>
                    </a:lnTo>
                    <a:lnTo>
                      <a:pt x="2529" y="1105"/>
                    </a:lnTo>
                    <a:lnTo>
                      <a:pt x="2521" y="1097"/>
                    </a:lnTo>
                    <a:lnTo>
                      <a:pt x="2512" y="1090"/>
                    </a:lnTo>
                    <a:lnTo>
                      <a:pt x="2502" y="1079"/>
                    </a:lnTo>
                    <a:lnTo>
                      <a:pt x="2491" y="1066"/>
                    </a:lnTo>
                    <a:lnTo>
                      <a:pt x="2482" y="1054"/>
                    </a:lnTo>
                    <a:lnTo>
                      <a:pt x="2474" y="1041"/>
                    </a:lnTo>
                    <a:lnTo>
                      <a:pt x="2466" y="1027"/>
                    </a:lnTo>
                    <a:lnTo>
                      <a:pt x="2457" y="1013"/>
                    </a:lnTo>
                    <a:lnTo>
                      <a:pt x="2449" y="1000"/>
                    </a:lnTo>
                    <a:lnTo>
                      <a:pt x="2439" y="987"/>
                    </a:lnTo>
                    <a:lnTo>
                      <a:pt x="2433" y="979"/>
                    </a:lnTo>
                    <a:lnTo>
                      <a:pt x="2428" y="971"/>
                    </a:lnTo>
                    <a:lnTo>
                      <a:pt x="2422" y="963"/>
                    </a:lnTo>
                    <a:lnTo>
                      <a:pt x="2416" y="955"/>
                    </a:lnTo>
                    <a:lnTo>
                      <a:pt x="2412" y="947"/>
                    </a:lnTo>
                    <a:lnTo>
                      <a:pt x="2404" y="939"/>
                    </a:lnTo>
                    <a:lnTo>
                      <a:pt x="2398" y="933"/>
                    </a:lnTo>
                    <a:lnTo>
                      <a:pt x="2391" y="926"/>
                    </a:lnTo>
                    <a:lnTo>
                      <a:pt x="2388" y="925"/>
                    </a:lnTo>
                    <a:lnTo>
                      <a:pt x="2384" y="922"/>
                    </a:lnTo>
                    <a:lnTo>
                      <a:pt x="2379" y="921"/>
                    </a:lnTo>
                    <a:lnTo>
                      <a:pt x="2374" y="921"/>
                    </a:lnTo>
                    <a:lnTo>
                      <a:pt x="2371" y="921"/>
                    </a:lnTo>
                    <a:lnTo>
                      <a:pt x="2366" y="922"/>
                    </a:lnTo>
                    <a:lnTo>
                      <a:pt x="2364" y="923"/>
                    </a:lnTo>
                    <a:lnTo>
                      <a:pt x="2360" y="926"/>
                    </a:lnTo>
                    <a:lnTo>
                      <a:pt x="2349" y="943"/>
                    </a:lnTo>
                    <a:lnTo>
                      <a:pt x="2340" y="959"/>
                    </a:lnTo>
                    <a:lnTo>
                      <a:pt x="2331" y="977"/>
                    </a:lnTo>
                    <a:lnTo>
                      <a:pt x="2323" y="995"/>
                    </a:lnTo>
                    <a:lnTo>
                      <a:pt x="2314" y="1013"/>
                    </a:lnTo>
                    <a:lnTo>
                      <a:pt x="2306" y="1031"/>
                    </a:lnTo>
                    <a:lnTo>
                      <a:pt x="2298" y="1048"/>
                    </a:lnTo>
                    <a:lnTo>
                      <a:pt x="2288" y="1066"/>
                    </a:lnTo>
                    <a:lnTo>
                      <a:pt x="2277" y="1083"/>
                    </a:lnTo>
                    <a:lnTo>
                      <a:pt x="2266" y="1100"/>
                    </a:lnTo>
                    <a:lnTo>
                      <a:pt x="2256" y="1118"/>
                    </a:lnTo>
                    <a:lnTo>
                      <a:pt x="2245" y="1135"/>
                    </a:lnTo>
                    <a:lnTo>
                      <a:pt x="2234" y="1151"/>
                    </a:lnTo>
                    <a:lnTo>
                      <a:pt x="2222" y="1167"/>
                    </a:lnTo>
                    <a:lnTo>
                      <a:pt x="2210" y="1184"/>
                    </a:lnTo>
                    <a:lnTo>
                      <a:pt x="2197" y="1199"/>
                    </a:lnTo>
                    <a:lnTo>
                      <a:pt x="2185" y="1214"/>
                    </a:lnTo>
                    <a:lnTo>
                      <a:pt x="2172" y="1227"/>
                    </a:lnTo>
                    <a:lnTo>
                      <a:pt x="2158" y="1240"/>
                    </a:lnTo>
                    <a:lnTo>
                      <a:pt x="2145" y="1253"/>
                    </a:lnTo>
                    <a:lnTo>
                      <a:pt x="2131" y="1265"/>
                    </a:lnTo>
                    <a:lnTo>
                      <a:pt x="2116" y="1279"/>
                    </a:lnTo>
                    <a:lnTo>
                      <a:pt x="2102" y="1291"/>
                    </a:lnTo>
                    <a:lnTo>
                      <a:pt x="2088" y="1303"/>
                    </a:lnTo>
                    <a:lnTo>
                      <a:pt x="2077" y="1310"/>
                    </a:lnTo>
                    <a:lnTo>
                      <a:pt x="2066" y="1318"/>
                    </a:lnTo>
                    <a:lnTo>
                      <a:pt x="2055" y="1325"/>
                    </a:lnTo>
                    <a:lnTo>
                      <a:pt x="2044" y="1333"/>
                    </a:lnTo>
                    <a:lnTo>
                      <a:pt x="2032" y="1340"/>
                    </a:lnTo>
                    <a:lnTo>
                      <a:pt x="2020" y="1346"/>
                    </a:lnTo>
                    <a:lnTo>
                      <a:pt x="2008" y="1352"/>
                    </a:lnTo>
                    <a:lnTo>
                      <a:pt x="1996" y="1357"/>
                    </a:lnTo>
                    <a:lnTo>
                      <a:pt x="1986" y="1360"/>
                    </a:lnTo>
                    <a:lnTo>
                      <a:pt x="1975" y="1363"/>
                    </a:lnTo>
                    <a:lnTo>
                      <a:pt x="1963" y="1365"/>
                    </a:lnTo>
                    <a:lnTo>
                      <a:pt x="1951" y="1367"/>
                    </a:lnTo>
                    <a:lnTo>
                      <a:pt x="1940" y="1369"/>
                    </a:lnTo>
                    <a:lnTo>
                      <a:pt x="1928" y="1370"/>
                    </a:lnTo>
                    <a:lnTo>
                      <a:pt x="1917" y="1372"/>
                    </a:lnTo>
                    <a:lnTo>
                      <a:pt x="1905" y="1375"/>
                    </a:lnTo>
                    <a:lnTo>
                      <a:pt x="1898" y="1377"/>
                    </a:lnTo>
                    <a:lnTo>
                      <a:pt x="1891" y="1378"/>
                    </a:lnTo>
                    <a:lnTo>
                      <a:pt x="1882" y="1381"/>
                    </a:lnTo>
                    <a:lnTo>
                      <a:pt x="1875" y="1383"/>
                    </a:lnTo>
                    <a:lnTo>
                      <a:pt x="1867" y="1385"/>
                    </a:lnTo>
                    <a:lnTo>
                      <a:pt x="1861" y="1389"/>
                    </a:lnTo>
                    <a:lnTo>
                      <a:pt x="1855" y="1394"/>
                    </a:lnTo>
                    <a:lnTo>
                      <a:pt x="1851" y="1398"/>
                    </a:lnTo>
                    <a:lnTo>
                      <a:pt x="1849" y="1404"/>
                    </a:lnTo>
                    <a:lnTo>
                      <a:pt x="1849" y="1409"/>
                    </a:lnTo>
                    <a:lnTo>
                      <a:pt x="1850" y="1415"/>
                    </a:lnTo>
                    <a:lnTo>
                      <a:pt x="1854" y="1421"/>
                    </a:lnTo>
                    <a:lnTo>
                      <a:pt x="1857" y="1427"/>
                    </a:lnTo>
                    <a:lnTo>
                      <a:pt x="1861" y="1432"/>
                    </a:lnTo>
                    <a:lnTo>
                      <a:pt x="1864" y="1437"/>
                    </a:lnTo>
                    <a:lnTo>
                      <a:pt x="1869" y="1442"/>
                    </a:lnTo>
                    <a:lnTo>
                      <a:pt x="1879" y="1450"/>
                    </a:lnTo>
                    <a:lnTo>
                      <a:pt x="1890" y="1457"/>
                    </a:lnTo>
                    <a:lnTo>
                      <a:pt x="1902" y="1464"/>
                    </a:lnTo>
                    <a:lnTo>
                      <a:pt x="1912" y="1470"/>
                    </a:lnTo>
                    <a:lnTo>
                      <a:pt x="1924" y="1478"/>
                    </a:lnTo>
                    <a:lnTo>
                      <a:pt x="1935" y="1485"/>
                    </a:lnTo>
                    <a:lnTo>
                      <a:pt x="1945" y="1492"/>
                    </a:lnTo>
                    <a:lnTo>
                      <a:pt x="1954" y="1502"/>
                    </a:lnTo>
                    <a:lnTo>
                      <a:pt x="1963" y="1514"/>
                    </a:lnTo>
                    <a:lnTo>
                      <a:pt x="1971" y="1527"/>
                    </a:lnTo>
                    <a:lnTo>
                      <a:pt x="1978" y="1540"/>
                    </a:lnTo>
                    <a:lnTo>
                      <a:pt x="1984" y="1554"/>
                    </a:lnTo>
                    <a:lnTo>
                      <a:pt x="1990" y="1569"/>
                    </a:lnTo>
                    <a:lnTo>
                      <a:pt x="1996" y="1583"/>
                    </a:lnTo>
                    <a:lnTo>
                      <a:pt x="2002" y="1598"/>
                    </a:lnTo>
                    <a:lnTo>
                      <a:pt x="2008" y="1611"/>
                    </a:lnTo>
                    <a:lnTo>
                      <a:pt x="2017" y="1630"/>
                    </a:lnTo>
                    <a:lnTo>
                      <a:pt x="2025" y="1650"/>
                    </a:lnTo>
                    <a:lnTo>
                      <a:pt x="2032" y="1671"/>
                    </a:lnTo>
                    <a:lnTo>
                      <a:pt x="2040" y="1690"/>
                    </a:lnTo>
                    <a:lnTo>
                      <a:pt x="2048" y="1710"/>
                    </a:lnTo>
                    <a:lnTo>
                      <a:pt x="2058" y="1728"/>
                    </a:lnTo>
                    <a:lnTo>
                      <a:pt x="2062" y="1738"/>
                    </a:lnTo>
                    <a:lnTo>
                      <a:pt x="2068" y="1746"/>
                    </a:lnTo>
                    <a:lnTo>
                      <a:pt x="2074" y="1755"/>
                    </a:lnTo>
                    <a:lnTo>
                      <a:pt x="2082" y="1762"/>
                    </a:lnTo>
                    <a:lnTo>
                      <a:pt x="2090" y="1770"/>
                    </a:lnTo>
                    <a:lnTo>
                      <a:pt x="2098" y="1778"/>
                    </a:lnTo>
                    <a:lnTo>
                      <a:pt x="2107" y="1785"/>
                    </a:lnTo>
                    <a:lnTo>
                      <a:pt x="2116" y="1792"/>
                    </a:lnTo>
                    <a:lnTo>
                      <a:pt x="2136" y="1804"/>
                    </a:lnTo>
                    <a:lnTo>
                      <a:pt x="2156" y="1815"/>
                    </a:lnTo>
                    <a:lnTo>
                      <a:pt x="2176" y="1824"/>
                    </a:lnTo>
                    <a:lnTo>
                      <a:pt x="2198" y="1834"/>
                    </a:lnTo>
                    <a:lnTo>
                      <a:pt x="2218" y="1844"/>
                    </a:lnTo>
                    <a:lnTo>
                      <a:pt x="2239" y="1853"/>
                    </a:lnTo>
                    <a:lnTo>
                      <a:pt x="2254" y="1860"/>
                    </a:lnTo>
                    <a:lnTo>
                      <a:pt x="2269" y="1866"/>
                    </a:lnTo>
                    <a:lnTo>
                      <a:pt x="2284" y="1871"/>
                    </a:lnTo>
                    <a:lnTo>
                      <a:pt x="2300" y="1876"/>
                    </a:lnTo>
                    <a:lnTo>
                      <a:pt x="2316" y="1882"/>
                    </a:lnTo>
                    <a:lnTo>
                      <a:pt x="2331" y="1888"/>
                    </a:lnTo>
                    <a:lnTo>
                      <a:pt x="2346" y="1894"/>
                    </a:lnTo>
                    <a:lnTo>
                      <a:pt x="2360" y="1902"/>
                    </a:lnTo>
                    <a:lnTo>
                      <a:pt x="2367" y="1906"/>
                    </a:lnTo>
                    <a:lnTo>
                      <a:pt x="2374" y="1911"/>
                    </a:lnTo>
                    <a:lnTo>
                      <a:pt x="2380" y="1917"/>
                    </a:lnTo>
                    <a:lnTo>
                      <a:pt x="2386" y="1923"/>
                    </a:lnTo>
                    <a:lnTo>
                      <a:pt x="2392" y="1929"/>
                    </a:lnTo>
                    <a:lnTo>
                      <a:pt x="2397" y="1936"/>
                    </a:lnTo>
                    <a:lnTo>
                      <a:pt x="2401" y="1943"/>
                    </a:lnTo>
                    <a:lnTo>
                      <a:pt x="2403" y="1950"/>
                    </a:lnTo>
                    <a:lnTo>
                      <a:pt x="2406" y="1960"/>
                    </a:lnTo>
                    <a:lnTo>
                      <a:pt x="2407" y="1971"/>
                    </a:lnTo>
                    <a:lnTo>
                      <a:pt x="2408" y="1982"/>
                    </a:lnTo>
                    <a:lnTo>
                      <a:pt x="2408" y="1992"/>
                    </a:lnTo>
                    <a:lnTo>
                      <a:pt x="2407" y="2002"/>
                    </a:lnTo>
                    <a:lnTo>
                      <a:pt x="2403" y="2012"/>
                    </a:lnTo>
                    <a:lnTo>
                      <a:pt x="2401" y="2015"/>
                    </a:lnTo>
                    <a:lnTo>
                      <a:pt x="2398" y="2019"/>
                    </a:lnTo>
                    <a:lnTo>
                      <a:pt x="2395" y="2021"/>
                    </a:lnTo>
                    <a:lnTo>
                      <a:pt x="2391" y="2024"/>
                    </a:lnTo>
                    <a:lnTo>
                      <a:pt x="2383" y="2026"/>
                    </a:lnTo>
                    <a:lnTo>
                      <a:pt x="2376" y="2027"/>
                    </a:lnTo>
                    <a:lnTo>
                      <a:pt x="2367" y="2028"/>
                    </a:lnTo>
                    <a:lnTo>
                      <a:pt x="2360" y="2028"/>
                    </a:lnTo>
                    <a:lnTo>
                      <a:pt x="2343" y="2027"/>
                    </a:lnTo>
                    <a:lnTo>
                      <a:pt x="2328" y="2024"/>
                    </a:lnTo>
                    <a:lnTo>
                      <a:pt x="2311" y="2020"/>
                    </a:lnTo>
                    <a:lnTo>
                      <a:pt x="2295" y="2015"/>
                    </a:lnTo>
                    <a:lnTo>
                      <a:pt x="2280" y="2009"/>
                    </a:lnTo>
                    <a:lnTo>
                      <a:pt x="2263" y="2004"/>
                    </a:lnTo>
                    <a:lnTo>
                      <a:pt x="2246" y="2000"/>
                    </a:lnTo>
                    <a:lnTo>
                      <a:pt x="2229" y="1994"/>
                    </a:lnTo>
                    <a:lnTo>
                      <a:pt x="2212" y="1988"/>
                    </a:lnTo>
                    <a:lnTo>
                      <a:pt x="2196" y="1980"/>
                    </a:lnTo>
                    <a:lnTo>
                      <a:pt x="2179" y="1973"/>
                    </a:lnTo>
                    <a:lnTo>
                      <a:pt x="2163" y="1965"/>
                    </a:lnTo>
                    <a:lnTo>
                      <a:pt x="2146" y="1958"/>
                    </a:lnTo>
                    <a:lnTo>
                      <a:pt x="2130" y="1950"/>
                    </a:lnTo>
                    <a:lnTo>
                      <a:pt x="2110" y="1942"/>
                    </a:lnTo>
                    <a:lnTo>
                      <a:pt x="2090" y="1934"/>
                    </a:lnTo>
                    <a:lnTo>
                      <a:pt x="2070" y="1926"/>
                    </a:lnTo>
                    <a:lnTo>
                      <a:pt x="2049" y="1918"/>
                    </a:lnTo>
                    <a:lnTo>
                      <a:pt x="2029" y="1910"/>
                    </a:lnTo>
                    <a:lnTo>
                      <a:pt x="2010" y="1900"/>
                    </a:lnTo>
                    <a:lnTo>
                      <a:pt x="1990" y="1889"/>
                    </a:lnTo>
                    <a:lnTo>
                      <a:pt x="1972" y="1877"/>
                    </a:lnTo>
                    <a:lnTo>
                      <a:pt x="1959" y="1868"/>
                    </a:lnTo>
                    <a:lnTo>
                      <a:pt x="1946" y="1856"/>
                    </a:lnTo>
                    <a:lnTo>
                      <a:pt x="1935" y="1844"/>
                    </a:lnTo>
                    <a:lnTo>
                      <a:pt x="1923" y="1832"/>
                    </a:lnTo>
                    <a:lnTo>
                      <a:pt x="1914" y="1817"/>
                    </a:lnTo>
                    <a:lnTo>
                      <a:pt x="1904" y="1804"/>
                    </a:lnTo>
                    <a:lnTo>
                      <a:pt x="1896" y="1790"/>
                    </a:lnTo>
                    <a:lnTo>
                      <a:pt x="1887" y="1774"/>
                    </a:lnTo>
                    <a:lnTo>
                      <a:pt x="1884" y="1764"/>
                    </a:lnTo>
                    <a:lnTo>
                      <a:pt x="1881" y="1752"/>
                    </a:lnTo>
                    <a:lnTo>
                      <a:pt x="1880" y="1742"/>
                    </a:lnTo>
                    <a:lnTo>
                      <a:pt x="1880" y="1730"/>
                    </a:lnTo>
                    <a:lnTo>
                      <a:pt x="1880" y="1718"/>
                    </a:lnTo>
                    <a:lnTo>
                      <a:pt x="1879" y="1707"/>
                    </a:lnTo>
                    <a:lnTo>
                      <a:pt x="1878" y="1695"/>
                    </a:lnTo>
                    <a:lnTo>
                      <a:pt x="1875" y="1684"/>
                    </a:lnTo>
                    <a:lnTo>
                      <a:pt x="1872" y="1673"/>
                    </a:lnTo>
                    <a:lnTo>
                      <a:pt x="1868" y="1664"/>
                    </a:lnTo>
                    <a:lnTo>
                      <a:pt x="1863" y="1654"/>
                    </a:lnTo>
                    <a:lnTo>
                      <a:pt x="1858" y="1644"/>
                    </a:lnTo>
                    <a:lnTo>
                      <a:pt x="1854" y="1635"/>
                    </a:lnTo>
                    <a:lnTo>
                      <a:pt x="1848" y="1626"/>
                    </a:lnTo>
                    <a:lnTo>
                      <a:pt x="1840" y="1618"/>
                    </a:lnTo>
                    <a:lnTo>
                      <a:pt x="1833" y="1611"/>
                    </a:lnTo>
                    <a:lnTo>
                      <a:pt x="1827" y="1607"/>
                    </a:lnTo>
                    <a:lnTo>
                      <a:pt x="1821" y="1605"/>
                    </a:lnTo>
                    <a:lnTo>
                      <a:pt x="1815" y="1604"/>
                    </a:lnTo>
                    <a:lnTo>
                      <a:pt x="1808" y="1602"/>
                    </a:lnTo>
                    <a:lnTo>
                      <a:pt x="1801" y="1604"/>
                    </a:lnTo>
                    <a:lnTo>
                      <a:pt x="1795" y="1605"/>
                    </a:lnTo>
                    <a:lnTo>
                      <a:pt x="1789" y="1607"/>
                    </a:lnTo>
                    <a:lnTo>
                      <a:pt x="1784" y="1611"/>
                    </a:lnTo>
                    <a:lnTo>
                      <a:pt x="1778" y="1618"/>
                    </a:lnTo>
                    <a:lnTo>
                      <a:pt x="1773" y="1626"/>
                    </a:lnTo>
                    <a:lnTo>
                      <a:pt x="1770" y="1635"/>
                    </a:lnTo>
                    <a:lnTo>
                      <a:pt x="1766" y="1644"/>
                    </a:lnTo>
                    <a:lnTo>
                      <a:pt x="1764" y="1654"/>
                    </a:lnTo>
                    <a:lnTo>
                      <a:pt x="1762" y="1664"/>
                    </a:lnTo>
                    <a:lnTo>
                      <a:pt x="1761" y="1674"/>
                    </a:lnTo>
                    <a:lnTo>
                      <a:pt x="1760" y="1684"/>
                    </a:lnTo>
                    <a:lnTo>
                      <a:pt x="1759" y="1704"/>
                    </a:lnTo>
                    <a:lnTo>
                      <a:pt x="1758" y="1725"/>
                    </a:lnTo>
                    <a:lnTo>
                      <a:pt x="1758" y="1745"/>
                    </a:lnTo>
                    <a:lnTo>
                      <a:pt x="1758" y="1766"/>
                    </a:lnTo>
                    <a:lnTo>
                      <a:pt x="1758" y="1786"/>
                    </a:lnTo>
                    <a:lnTo>
                      <a:pt x="1759" y="1806"/>
                    </a:lnTo>
                    <a:lnTo>
                      <a:pt x="1760" y="1827"/>
                    </a:lnTo>
                    <a:lnTo>
                      <a:pt x="1760" y="1847"/>
                    </a:lnTo>
                    <a:lnTo>
                      <a:pt x="1761" y="1863"/>
                    </a:lnTo>
                    <a:lnTo>
                      <a:pt x="1762" y="1880"/>
                    </a:lnTo>
                    <a:lnTo>
                      <a:pt x="1764" y="1895"/>
                    </a:lnTo>
                    <a:lnTo>
                      <a:pt x="1766" y="1911"/>
                    </a:lnTo>
                    <a:lnTo>
                      <a:pt x="1767" y="1928"/>
                    </a:lnTo>
                    <a:lnTo>
                      <a:pt x="1767" y="1943"/>
                    </a:lnTo>
                    <a:lnTo>
                      <a:pt x="1767" y="1959"/>
                    </a:lnTo>
                    <a:lnTo>
                      <a:pt x="1766" y="1974"/>
                    </a:lnTo>
                    <a:lnTo>
                      <a:pt x="1764" y="1986"/>
                    </a:lnTo>
                    <a:lnTo>
                      <a:pt x="1760" y="1998"/>
                    </a:lnTo>
                    <a:lnTo>
                      <a:pt x="1755" y="2009"/>
                    </a:lnTo>
                    <a:lnTo>
                      <a:pt x="1750" y="2021"/>
                    </a:lnTo>
                    <a:lnTo>
                      <a:pt x="1746" y="2032"/>
                    </a:lnTo>
                    <a:lnTo>
                      <a:pt x="1740" y="2043"/>
                    </a:lnTo>
                    <a:lnTo>
                      <a:pt x="1735" y="2054"/>
                    </a:lnTo>
                    <a:lnTo>
                      <a:pt x="1730" y="2066"/>
                    </a:lnTo>
                    <a:lnTo>
                      <a:pt x="1725" y="2079"/>
                    </a:lnTo>
                    <a:lnTo>
                      <a:pt x="1720" y="2093"/>
                    </a:lnTo>
                    <a:lnTo>
                      <a:pt x="1716" y="2108"/>
                    </a:lnTo>
                    <a:lnTo>
                      <a:pt x="1711" y="2122"/>
                    </a:lnTo>
                    <a:lnTo>
                      <a:pt x="1706" y="2135"/>
                    </a:lnTo>
                    <a:lnTo>
                      <a:pt x="1701" y="2149"/>
                    </a:lnTo>
                    <a:lnTo>
                      <a:pt x="1695" y="2161"/>
                    </a:lnTo>
                    <a:lnTo>
                      <a:pt x="1687" y="2175"/>
                    </a:lnTo>
                    <a:lnTo>
                      <a:pt x="1680" y="2184"/>
                    </a:lnTo>
                    <a:lnTo>
                      <a:pt x="1671" y="2194"/>
                    </a:lnTo>
                    <a:lnTo>
                      <a:pt x="1662" y="2203"/>
                    </a:lnTo>
                    <a:lnTo>
                      <a:pt x="1652" y="2212"/>
                    </a:lnTo>
                    <a:lnTo>
                      <a:pt x="1641" y="2219"/>
                    </a:lnTo>
                    <a:lnTo>
                      <a:pt x="1630" y="2227"/>
                    </a:lnTo>
                    <a:lnTo>
                      <a:pt x="1620" y="2235"/>
                    </a:lnTo>
                    <a:lnTo>
                      <a:pt x="1609" y="2241"/>
                    </a:lnTo>
                    <a:lnTo>
                      <a:pt x="1602" y="2245"/>
                    </a:lnTo>
                    <a:lnTo>
                      <a:pt x="1593" y="2250"/>
                    </a:lnTo>
                    <a:lnTo>
                      <a:pt x="1586" y="2255"/>
                    </a:lnTo>
                    <a:lnTo>
                      <a:pt x="1578" y="2259"/>
                    </a:lnTo>
                    <a:lnTo>
                      <a:pt x="1570" y="2261"/>
                    </a:lnTo>
                    <a:lnTo>
                      <a:pt x="1562" y="2263"/>
                    </a:lnTo>
                    <a:lnTo>
                      <a:pt x="1558" y="2263"/>
                    </a:lnTo>
                    <a:lnTo>
                      <a:pt x="1555" y="2262"/>
                    </a:lnTo>
                    <a:lnTo>
                      <a:pt x="1551" y="2261"/>
                    </a:lnTo>
                    <a:lnTo>
                      <a:pt x="1548" y="2259"/>
                    </a:lnTo>
                    <a:lnTo>
                      <a:pt x="1539" y="2253"/>
                    </a:lnTo>
                    <a:lnTo>
                      <a:pt x="1533" y="2244"/>
                    </a:lnTo>
                    <a:lnTo>
                      <a:pt x="1527" y="2235"/>
                    </a:lnTo>
                    <a:lnTo>
                      <a:pt x="1524" y="2225"/>
                    </a:lnTo>
                    <a:lnTo>
                      <a:pt x="1521" y="2213"/>
                    </a:lnTo>
                    <a:lnTo>
                      <a:pt x="1519" y="2202"/>
                    </a:lnTo>
                    <a:lnTo>
                      <a:pt x="1518" y="2191"/>
                    </a:lnTo>
                    <a:lnTo>
                      <a:pt x="1518" y="2181"/>
                    </a:lnTo>
                    <a:lnTo>
                      <a:pt x="1518" y="2165"/>
                    </a:lnTo>
                    <a:lnTo>
                      <a:pt x="1520" y="2149"/>
                    </a:lnTo>
                    <a:lnTo>
                      <a:pt x="1524" y="2134"/>
                    </a:lnTo>
                    <a:lnTo>
                      <a:pt x="1527" y="2120"/>
                    </a:lnTo>
                    <a:lnTo>
                      <a:pt x="1532" y="2104"/>
                    </a:lnTo>
                    <a:lnTo>
                      <a:pt x="1537" y="2090"/>
                    </a:lnTo>
                    <a:lnTo>
                      <a:pt x="1543" y="2074"/>
                    </a:lnTo>
                    <a:lnTo>
                      <a:pt x="1548" y="2060"/>
                    </a:lnTo>
                    <a:lnTo>
                      <a:pt x="1552" y="2046"/>
                    </a:lnTo>
                    <a:lnTo>
                      <a:pt x="1560" y="2034"/>
                    </a:lnTo>
                    <a:lnTo>
                      <a:pt x="1566" y="2024"/>
                    </a:lnTo>
                    <a:lnTo>
                      <a:pt x="1573" y="2012"/>
                    </a:lnTo>
                    <a:lnTo>
                      <a:pt x="1580" y="2000"/>
                    </a:lnTo>
                    <a:lnTo>
                      <a:pt x="1587" y="1988"/>
                    </a:lnTo>
                    <a:lnTo>
                      <a:pt x="1592" y="1976"/>
                    </a:lnTo>
                    <a:lnTo>
                      <a:pt x="1597" y="1962"/>
                    </a:lnTo>
                    <a:lnTo>
                      <a:pt x="1602" y="1941"/>
                    </a:lnTo>
                    <a:lnTo>
                      <a:pt x="1605" y="1919"/>
                    </a:lnTo>
                    <a:lnTo>
                      <a:pt x="1609" y="1898"/>
                    </a:lnTo>
                    <a:lnTo>
                      <a:pt x="1611" y="1875"/>
                    </a:lnTo>
                    <a:lnTo>
                      <a:pt x="1614" y="1853"/>
                    </a:lnTo>
                    <a:lnTo>
                      <a:pt x="1615" y="1830"/>
                    </a:lnTo>
                    <a:lnTo>
                      <a:pt x="1615" y="1809"/>
                    </a:lnTo>
                    <a:lnTo>
                      <a:pt x="1615" y="1787"/>
                    </a:lnTo>
                    <a:lnTo>
                      <a:pt x="1614" y="1773"/>
                    </a:lnTo>
                    <a:lnTo>
                      <a:pt x="1611" y="1758"/>
                    </a:lnTo>
                    <a:lnTo>
                      <a:pt x="1609" y="1744"/>
                    </a:lnTo>
                    <a:lnTo>
                      <a:pt x="1605" y="1731"/>
                    </a:lnTo>
                    <a:lnTo>
                      <a:pt x="1602" y="1716"/>
                    </a:lnTo>
                    <a:lnTo>
                      <a:pt x="1597" y="1703"/>
                    </a:lnTo>
                    <a:lnTo>
                      <a:pt x="1591" y="1690"/>
                    </a:lnTo>
                    <a:lnTo>
                      <a:pt x="1584" y="1678"/>
                    </a:lnTo>
                    <a:lnTo>
                      <a:pt x="1580" y="1670"/>
                    </a:lnTo>
                    <a:lnTo>
                      <a:pt x="1574" y="1662"/>
                    </a:lnTo>
                    <a:lnTo>
                      <a:pt x="1568" y="1656"/>
                    </a:lnTo>
                    <a:lnTo>
                      <a:pt x="1561" y="1649"/>
                    </a:lnTo>
                    <a:lnTo>
                      <a:pt x="1554" y="1644"/>
                    </a:lnTo>
                    <a:lnTo>
                      <a:pt x="1546" y="1640"/>
                    </a:lnTo>
                    <a:lnTo>
                      <a:pt x="1538" y="1637"/>
                    </a:lnTo>
                    <a:lnTo>
                      <a:pt x="1530" y="1635"/>
                    </a:lnTo>
                    <a:lnTo>
                      <a:pt x="1520" y="1635"/>
                    </a:lnTo>
                    <a:lnTo>
                      <a:pt x="1509" y="1636"/>
                    </a:lnTo>
                    <a:lnTo>
                      <a:pt x="1500" y="1638"/>
                    </a:lnTo>
                    <a:lnTo>
                      <a:pt x="1490" y="1642"/>
                    </a:lnTo>
                    <a:lnTo>
                      <a:pt x="1480" y="1647"/>
                    </a:lnTo>
                    <a:lnTo>
                      <a:pt x="1472" y="1653"/>
                    </a:lnTo>
                    <a:lnTo>
                      <a:pt x="1464" y="1659"/>
                    </a:lnTo>
                    <a:lnTo>
                      <a:pt x="1456" y="1666"/>
                    </a:lnTo>
                    <a:lnTo>
                      <a:pt x="1447" y="1677"/>
                    </a:lnTo>
                    <a:lnTo>
                      <a:pt x="1440" y="1690"/>
                    </a:lnTo>
                    <a:lnTo>
                      <a:pt x="1432" y="1703"/>
                    </a:lnTo>
                    <a:lnTo>
                      <a:pt x="1426" y="1718"/>
                    </a:lnTo>
                    <a:lnTo>
                      <a:pt x="1420" y="1732"/>
                    </a:lnTo>
                    <a:lnTo>
                      <a:pt x="1414" y="1746"/>
                    </a:lnTo>
                    <a:lnTo>
                      <a:pt x="1408" y="1761"/>
                    </a:lnTo>
                    <a:lnTo>
                      <a:pt x="1402" y="1774"/>
                    </a:lnTo>
                    <a:lnTo>
                      <a:pt x="1392" y="1797"/>
                    </a:lnTo>
                    <a:lnTo>
                      <a:pt x="1380" y="1818"/>
                    </a:lnTo>
                    <a:lnTo>
                      <a:pt x="1369" y="1841"/>
                    </a:lnTo>
                    <a:lnTo>
                      <a:pt x="1358" y="1864"/>
                    </a:lnTo>
                    <a:lnTo>
                      <a:pt x="1347" y="1886"/>
                    </a:lnTo>
                    <a:lnTo>
                      <a:pt x="1336" y="1907"/>
                    </a:lnTo>
                    <a:lnTo>
                      <a:pt x="1324" y="1929"/>
                    </a:lnTo>
                    <a:lnTo>
                      <a:pt x="1311" y="1950"/>
                    </a:lnTo>
                    <a:lnTo>
                      <a:pt x="1299" y="1970"/>
                    </a:lnTo>
                    <a:lnTo>
                      <a:pt x="1287" y="1989"/>
                    </a:lnTo>
                    <a:lnTo>
                      <a:pt x="1274" y="2008"/>
                    </a:lnTo>
                    <a:lnTo>
                      <a:pt x="1261" y="2027"/>
                    </a:lnTo>
                    <a:lnTo>
                      <a:pt x="1248" y="2045"/>
                    </a:lnTo>
                    <a:lnTo>
                      <a:pt x="1233" y="2063"/>
                    </a:lnTo>
                    <a:lnTo>
                      <a:pt x="1218" y="2080"/>
                    </a:lnTo>
                    <a:lnTo>
                      <a:pt x="1202" y="2096"/>
                    </a:lnTo>
                    <a:lnTo>
                      <a:pt x="1185" y="2111"/>
                    </a:lnTo>
                    <a:lnTo>
                      <a:pt x="1167" y="2125"/>
                    </a:lnTo>
                    <a:lnTo>
                      <a:pt x="1149" y="2140"/>
                    </a:lnTo>
                    <a:lnTo>
                      <a:pt x="1130" y="2153"/>
                    </a:lnTo>
                    <a:lnTo>
                      <a:pt x="1111" y="2165"/>
                    </a:lnTo>
                    <a:lnTo>
                      <a:pt x="1090" y="2177"/>
                    </a:lnTo>
                    <a:lnTo>
                      <a:pt x="1071" y="2188"/>
                    </a:lnTo>
                    <a:lnTo>
                      <a:pt x="1051" y="2199"/>
                    </a:lnTo>
                    <a:lnTo>
                      <a:pt x="1035" y="2206"/>
                    </a:lnTo>
                    <a:lnTo>
                      <a:pt x="1018" y="2212"/>
                    </a:lnTo>
                    <a:lnTo>
                      <a:pt x="1002" y="2218"/>
                    </a:lnTo>
                    <a:lnTo>
                      <a:pt x="985" y="2223"/>
                    </a:lnTo>
                    <a:lnTo>
                      <a:pt x="968" y="2226"/>
                    </a:lnTo>
                    <a:lnTo>
                      <a:pt x="951" y="2230"/>
                    </a:lnTo>
                    <a:lnTo>
                      <a:pt x="934" y="2232"/>
                    </a:lnTo>
                    <a:lnTo>
                      <a:pt x="916" y="2235"/>
                    </a:lnTo>
                    <a:lnTo>
                      <a:pt x="910" y="2236"/>
                    </a:lnTo>
                    <a:lnTo>
                      <a:pt x="903" y="2236"/>
                    </a:lnTo>
                    <a:lnTo>
                      <a:pt x="897" y="2236"/>
                    </a:lnTo>
                    <a:lnTo>
                      <a:pt x="890" y="2235"/>
                    </a:lnTo>
                    <a:lnTo>
                      <a:pt x="884" y="2233"/>
                    </a:lnTo>
                    <a:lnTo>
                      <a:pt x="878" y="2231"/>
                    </a:lnTo>
                    <a:lnTo>
                      <a:pt x="872" y="2227"/>
                    </a:lnTo>
                    <a:lnTo>
                      <a:pt x="868" y="2223"/>
                    </a:lnTo>
                    <a:lnTo>
                      <a:pt x="866" y="2218"/>
                    </a:lnTo>
                    <a:lnTo>
                      <a:pt x="864" y="2212"/>
                    </a:lnTo>
                    <a:lnTo>
                      <a:pt x="864" y="2205"/>
                    </a:lnTo>
                    <a:lnTo>
                      <a:pt x="864" y="2199"/>
                    </a:lnTo>
                    <a:lnTo>
                      <a:pt x="866" y="2191"/>
                    </a:lnTo>
                    <a:lnTo>
                      <a:pt x="868" y="2185"/>
                    </a:lnTo>
                    <a:lnTo>
                      <a:pt x="871" y="2179"/>
                    </a:lnTo>
                    <a:lnTo>
                      <a:pt x="874" y="2175"/>
                    </a:lnTo>
                    <a:lnTo>
                      <a:pt x="888" y="2160"/>
                    </a:lnTo>
                    <a:lnTo>
                      <a:pt x="901" y="2148"/>
                    </a:lnTo>
                    <a:lnTo>
                      <a:pt x="915" y="2135"/>
                    </a:lnTo>
                    <a:lnTo>
                      <a:pt x="930" y="2124"/>
                    </a:lnTo>
                    <a:lnTo>
                      <a:pt x="945" y="2112"/>
                    </a:lnTo>
                    <a:lnTo>
                      <a:pt x="961" y="2102"/>
                    </a:lnTo>
                    <a:lnTo>
                      <a:pt x="975" y="2090"/>
                    </a:lnTo>
                    <a:lnTo>
                      <a:pt x="990" y="2078"/>
                    </a:lnTo>
                    <a:lnTo>
                      <a:pt x="1006" y="2063"/>
                    </a:lnTo>
                    <a:lnTo>
                      <a:pt x="1023" y="2049"/>
                    </a:lnTo>
                    <a:lnTo>
                      <a:pt x="1040" y="2034"/>
                    </a:lnTo>
                    <a:lnTo>
                      <a:pt x="1057" y="2020"/>
                    </a:lnTo>
                    <a:lnTo>
                      <a:pt x="1074" y="2006"/>
                    </a:lnTo>
                    <a:lnTo>
                      <a:pt x="1089" y="1990"/>
                    </a:lnTo>
                    <a:lnTo>
                      <a:pt x="1104" y="1973"/>
                    </a:lnTo>
                    <a:lnTo>
                      <a:pt x="1117" y="1956"/>
                    </a:lnTo>
                    <a:lnTo>
                      <a:pt x="1130" y="1937"/>
                    </a:lnTo>
                    <a:lnTo>
                      <a:pt x="1142" y="1918"/>
                    </a:lnTo>
                    <a:lnTo>
                      <a:pt x="1153" y="1899"/>
                    </a:lnTo>
                    <a:lnTo>
                      <a:pt x="1162" y="1878"/>
                    </a:lnTo>
                    <a:lnTo>
                      <a:pt x="1171" y="1858"/>
                    </a:lnTo>
                    <a:lnTo>
                      <a:pt x="1179" y="1836"/>
                    </a:lnTo>
                    <a:lnTo>
                      <a:pt x="1185" y="1815"/>
                    </a:lnTo>
                    <a:lnTo>
                      <a:pt x="1190" y="1793"/>
                    </a:lnTo>
                    <a:lnTo>
                      <a:pt x="1191" y="1782"/>
                    </a:lnTo>
                    <a:lnTo>
                      <a:pt x="1190" y="1773"/>
                    </a:lnTo>
                    <a:lnTo>
                      <a:pt x="1188" y="1762"/>
                    </a:lnTo>
                    <a:lnTo>
                      <a:pt x="1184" y="1752"/>
                    </a:lnTo>
                    <a:lnTo>
                      <a:pt x="1179" y="1743"/>
                    </a:lnTo>
                    <a:lnTo>
                      <a:pt x="1174" y="1734"/>
                    </a:lnTo>
                    <a:lnTo>
                      <a:pt x="1167" y="1726"/>
                    </a:lnTo>
                    <a:lnTo>
                      <a:pt x="1160" y="1720"/>
                    </a:lnTo>
                    <a:lnTo>
                      <a:pt x="1154" y="1718"/>
                    </a:lnTo>
                    <a:lnTo>
                      <a:pt x="1147" y="1716"/>
                    </a:lnTo>
                    <a:lnTo>
                      <a:pt x="1140" y="1716"/>
                    </a:lnTo>
                    <a:lnTo>
                      <a:pt x="1132" y="1718"/>
                    </a:lnTo>
                    <a:lnTo>
                      <a:pt x="1125" y="1721"/>
                    </a:lnTo>
                    <a:lnTo>
                      <a:pt x="1118" y="1724"/>
                    </a:lnTo>
                    <a:lnTo>
                      <a:pt x="1111" y="1728"/>
                    </a:lnTo>
                    <a:lnTo>
                      <a:pt x="1105" y="1732"/>
                    </a:lnTo>
                    <a:lnTo>
                      <a:pt x="1099" y="1738"/>
                    </a:lnTo>
                    <a:lnTo>
                      <a:pt x="1094" y="1744"/>
                    </a:lnTo>
                    <a:lnTo>
                      <a:pt x="1090" y="1752"/>
                    </a:lnTo>
                    <a:lnTo>
                      <a:pt x="1087" y="1760"/>
                    </a:lnTo>
                    <a:lnTo>
                      <a:pt x="1083" y="1767"/>
                    </a:lnTo>
                    <a:lnTo>
                      <a:pt x="1080" y="1775"/>
                    </a:lnTo>
                    <a:lnTo>
                      <a:pt x="1075" y="1781"/>
                    </a:lnTo>
                    <a:lnTo>
                      <a:pt x="1069" y="1787"/>
                    </a:lnTo>
                    <a:lnTo>
                      <a:pt x="1057" y="1794"/>
                    </a:lnTo>
                    <a:lnTo>
                      <a:pt x="1045" y="1802"/>
                    </a:lnTo>
                    <a:lnTo>
                      <a:pt x="1033" y="1809"/>
                    </a:lnTo>
                    <a:lnTo>
                      <a:pt x="1020" y="1815"/>
                    </a:lnTo>
                    <a:lnTo>
                      <a:pt x="1006" y="1820"/>
                    </a:lnTo>
                    <a:lnTo>
                      <a:pt x="993" y="1824"/>
                    </a:lnTo>
                    <a:lnTo>
                      <a:pt x="979" y="1828"/>
                    </a:lnTo>
                    <a:lnTo>
                      <a:pt x="966" y="1829"/>
                    </a:lnTo>
                    <a:lnTo>
                      <a:pt x="955" y="1829"/>
                    </a:lnTo>
                    <a:lnTo>
                      <a:pt x="944" y="1829"/>
                    </a:lnTo>
                    <a:lnTo>
                      <a:pt x="933" y="1827"/>
                    </a:lnTo>
                    <a:lnTo>
                      <a:pt x="922" y="1824"/>
                    </a:lnTo>
                    <a:lnTo>
                      <a:pt x="913" y="1820"/>
                    </a:lnTo>
                    <a:lnTo>
                      <a:pt x="904" y="1814"/>
                    </a:lnTo>
                    <a:lnTo>
                      <a:pt x="901" y="1811"/>
                    </a:lnTo>
                    <a:lnTo>
                      <a:pt x="897" y="1808"/>
                    </a:lnTo>
                    <a:lnTo>
                      <a:pt x="895" y="1803"/>
                    </a:lnTo>
                    <a:lnTo>
                      <a:pt x="892" y="1799"/>
                    </a:lnTo>
                    <a:lnTo>
                      <a:pt x="890" y="1791"/>
                    </a:lnTo>
                    <a:lnTo>
                      <a:pt x="889" y="1784"/>
                    </a:lnTo>
                    <a:lnTo>
                      <a:pt x="888" y="1776"/>
                    </a:lnTo>
                    <a:lnTo>
                      <a:pt x="888" y="1768"/>
                    </a:lnTo>
                    <a:lnTo>
                      <a:pt x="889" y="1752"/>
                    </a:lnTo>
                    <a:lnTo>
                      <a:pt x="891" y="1737"/>
                    </a:lnTo>
                    <a:lnTo>
                      <a:pt x="895" y="1720"/>
                    </a:lnTo>
                    <a:lnTo>
                      <a:pt x="900" y="1703"/>
                    </a:lnTo>
                    <a:lnTo>
                      <a:pt x="903" y="1688"/>
                    </a:lnTo>
                    <a:lnTo>
                      <a:pt x="904" y="1672"/>
                    </a:lnTo>
                    <a:lnTo>
                      <a:pt x="907" y="1660"/>
                    </a:lnTo>
                    <a:lnTo>
                      <a:pt x="908" y="1648"/>
                    </a:lnTo>
                    <a:lnTo>
                      <a:pt x="912" y="1637"/>
                    </a:lnTo>
                    <a:lnTo>
                      <a:pt x="913" y="1625"/>
                    </a:lnTo>
                    <a:lnTo>
                      <a:pt x="915" y="1613"/>
                    </a:lnTo>
                    <a:lnTo>
                      <a:pt x="915" y="1602"/>
                    </a:lnTo>
                    <a:lnTo>
                      <a:pt x="914" y="1592"/>
                    </a:lnTo>
                    <a:lnTo>
                      <a:pt x="910" y="1581"/>
                    </a:lnTo>
                    <a:lnTo>
                      <a:pt x="907" y="1575"/>
                    </a:lnTo>
                    <a:lnTo>
                      <a:pt x="902" y="1570"/>
                    </a:lnTo>
                    <a:lnTo>
                      <a:pt x="895" y="1568"/>
                    </a:lnTo>
                    <a:lnTo>
                      <a:pt x="888" y="1565"/>
                    </a:lnTo>
                    <a:lnTo>
                      <a:pt x="880" y="1564"/>
                    </a:lnTo>
                    <a:lnTo>
                      <a:pt x="872" y="1563"/>
                    </a:lnTo>
                    <a:lnTo>
                      <a:pt x="864" y="1563"/>
                    </a:lnTo>
                    <a:lnTo>
                      <a:pt x="856" y="1563"/>
                    </a:lnTo>
                    <a:lnTo>
                      <a:pt x="840" y="1564"/>
                    </a:lnTo>
                    <a:lnTo>
                      <a:pt x="823" y="1566"/>
                    </a:lnTo>
                    <a:lnTo>
                      <a:pt x="806" y="1569"/>
                    </a:lnTo>
                    <a:lnTo>
                      <a:pt x="789" y="1572"/>
                    </a:lnTo>
                    <a:lnTo>
                      <a:pt x="772" y="1576"/>
                    </a:lnTo>
                    <a:lnTo>
                      <a:pt x="757" y="1580"/>
                    </a:lnTo>
                    <a:lnTo>
                      <a:pt x="740" y="1581"/>
                    </a:lnTo>
                    <a:lnTo>
                      <a:pt x="723" y="1581"/>
                    </a:lnTo>
                    <a:lnTo>
                      <a:pt x="709" y="1580"/>
                    </a:lnTo>
                    <a:lnTo>
                      <a:pt x="694" y="1577"/>
                    </a:lnTo>
                    <a:lnTo>
                      <a:pt x="680" y="1574"/>
                    </a:lnTo>
                    <a:lnTo>
                      <a:pt x="666" y="1569"/>
                    </a:lnTo>
                    <a:lnTo>
                      <a:pt x="652" y="1564"/>
                    </a:lnTo>
                    <a:lnTo>
                      <a:pt x="639" y="1558"/>
                    </a:lnTo>
                    <a:lnTo>
                      <a:pt x="626" y="1552"/>
                    </a:lnTo>
                    <a:lnTo>
                      <a:pt x="614" y="1545"/>
                    </a:lnTo>
                    <a:lnTo>
                      <a:pt x="606" y="1538"/>
                    </a:lnTo>
                    <a:lnTo>
                      <a:pt x="597" y="1529"/>
                    </a:lnTo>
                    <a:lnTo>
                      <a:pt x="591" y="1520"/>
                    </a:lnTo>
                    <a:lnTo>
                      <a:pt x="585" y="1509"/>
                    </a:lnTo>
                    <a:lnTo>
                      <a:pt x="580" y="1499"/>
                    </a:lnTo>
                    <a:lnTo>
                      <a:pt x="574" y="1488"/>
                    </a:lnTo>
                    <a:lnTo>
                      <a:pt x="567" y="1480"/>
                    </a:lnTo>
                    <a:lnTo>
                      <a:pt x="559" y="1472"/>
                    </a:lnTo>
                    <a:lnTo>
                      <a:pt x="553" y="1467"/>
                    </a:lnTo>
                    <a:lnTo>
                      <a:pt x="546" y="1462"/>
                    </a:lnTo>
                    <a:lnTo>
                      <a:pt x="538" y="1458"/>
                    </a:lnTo>
                    <a:lnTo>
                      <a:pt x="531" y="1455"/>
                    </a:lnTo>
                    <a:lnTo>
                      <a:pt x="523" y="1452"/>
                    </a:lnTo>
                    <a:lnTo>
                      <a:pt x="514" y="1450"/>
                    </a:lnTo>
                    <a:lnTo>
                      <a:pt x="506" y="1449"/>
                    </a:lnTo>
                    <a:lnTo>
                      <a:pt x="499" y="1448"/>
                    </a:lnTo>
                    <a:lnTo>
                      <a:pt x="478" y="1446"/>
                    </a:lnTo>
                    <a:lnTo>
                      <a:pt x="459" y="1446"/>
                    </a:lnTo>
                    <a:lnTo>
                      <a:pt x="439" y="1446"/>
                    </a:lnTo>
                    <a:lnTo>
                      <a:pt x="420" y="1448"/>
                    </a:lnTo>
                    <a:lnTo>
                      <a:pt x="400" y="1450"/>
                    </a:lnTo>
                    <a:lnTo>
                      <a:pt x="380" y="1451"/>
                    </a:lnTo>
                    <a:lnTo>
                      <a:pt x="361" y="1452"/>
                    </a:lnTo>
                    <a:lnTo>
                      <a:pt x="340" y="1454"/>
                    </a:lnTo>
                    <a:lnTo>
                      <a:pt x="319" y="1455"/>
                    </a:lnTo>
                    <a:lnTo>
                      <a:pt x="297" y="1456"/>
                    </a:lnTo>
                    <a:lnTo>
                      <a:pt x="274" y="1458"/>
                    </a:lnTo>
                    <a:lnTo>
                      <a:pt x="253" y="1461"/>
                    </a:lnTo>
                    <a:lnTo>
                      <a:pt x="230" y="1462"/>
                    </a:lnTo>
                    <a:lnTo>
                      <a:pt x="208" y="1462"/>
                    </a:lnTo>
                    <a:lnTo>
                      <a:pt x="187" y="1462"/>
                    </a:lnTo>
                    <a:lnTo>
                      <a:pt x="165" y="1460"/>
                    </a:lnTo>
                    <a:lnTo>
                      <a:pt x="154" y="1457"/>
                    </a:lnTo>
                    <a:lnTo>
                      <a:pt x="144" y="1454"/>
                    </a:lnTo>
                    <a:lnTo>
                      <a:pt x="133" y="1449"/>
                    </a:lnTo>
                    <a:lnTo>
                      <a:pt x="123" y="1443"/>
                    </a:lnTo>
                    <a:lnTo>
                      <a:pt x="114" y="1437"/>
                    </a:lnTo>
                    <a:lnTo>
                      <a:pt x="104" y="1431"/>
                    </a:lnTo>
                    <a:lnTo>
                      <a:pt x="96" y="1424"/>
                    </a:lnTo>
                    <a:lnTo>
                      <a:pt x="86" y="1418"/>
                    </a:lnTo>
                    <a:lnTo>
                      <a:pt x="78" y="1410"/>
                    </a:lnTo>
                    <a:lnTo>
                      <a:pt x="68" y="1404"/>
                    </a:lnTo>
                    <a:lnTo>
                      <a:pt x="60" y="1397"/>
                    </a:lnTo>
                    <a:lnTo>
                      <a:pt x="51" y="1390"/>
                    </a:lnTo>
                    <a:lnTo>
                      <a:pt x="43" y="1383"/>
                    </a:lnTo>
                    <a:lnTo>
                      <a:pt x="37" y="1375"/>
                    </a:lnTo>
                    <a:lnTo>
                      <a:pt x="30" y="1366"/>
                    </a:lnTo>
                    <a:lnTo>
                      <a:pt x="25" y="1357"/>
                    </a:lnTo>
                    <a:lnTo>
                      <a:pt x="24" y="1349"/>
                    </a:lnTo>
                    <a:lnTo>
                      <a:pt x="22" y="1342"/>
                    </a:lnTo>
                    <a:lnTo>
                      <a:pt x="21" y="1334"/>
                    </a:lnTo>
                    <a:lnTo>
                      <a:pt x="22" y="1327"/>
                    </a:lnTo>
                    <a:lnTo>
                      <a:pt x="25" y="1318"/>
                    </a:lnTo>
                    <a:lnTo>
                      <a:pt x="27" y="1312"/>
                    </a:lnTo>
                    <a:lnTo>
                      <a:pt x="32" y="1306"/>
                    </a:lnTo>
                    <a:lnTo>
                      <a:pt x="38" y="1303"/>
                    </a:lnTo>
                    <a:lnTo>
                      <a:pt x="51" y="1295"/>
                    </a:lnTo>
                    <a:lnTo>
                      <a:pt x="66" y="1292"/>
                    </a:lnTo>
                    <a:lnTo>
                      <a:pt x="81" y="1288"/>
                    </a:lnTo>
                    <a:lnTo>
                      <a:pt x="97" y="1286"/>
                    </a:lnTo>
                    <a:lnTo>
                      <a:pt x="112" y="1285"/>
                    </a:lnTo>
                    <a:lnTo>
                      <a:pt x="128" y="1285"/>
                    </a:lnTo>
                    <a:lnTo>
                      <a:pt x="144" y="1285"/>
                    </a:lnTo>
                    <a:lnTo>
                      <a:pt x="159" y="1283"/>
                    </a:lnTo>
                    <a:lnTo>
                      <a:pt x="184" y="1283"/>
                    </a:lnTo>
                    <a:lnTo>
                      <a:pt x="211" y="1285"/>
                    </a:lnTo>
                    <a:lnTo>
                      <a:pt x="236" y="1286"/>
                    </a:lnTo>
                    <a:lnTo>
                      <a:pt x="262" y="1288"/>
                    </a:lnTo>
                    <a:lnTo>
                      <a:pt x="288" y="1289"/>
                    </a:lnTo>
                    <a:lnTo>
                      <a:pt x="314" y="1291"/>
                    </a:lnTo>
                    <a:lnTo>
                      <a:pt x="339" y="1291"/>
                    </a:lnTo>
                    <a:lnTo>
                      <a:pt x="366" y="1289"/>
                    </a:lnTo>
                    <a:lnTo>
                      <a:pt x="380" y="1288"/>
                    </a:lnTo>
                    <a:lnTo>
                      <a:pt x="396" y="1286"/>
                    </a:lnTo>
                    <a:lnTo>
                      <a:pt x="411" y="1282"/>
                    </a:lnTo>
                    <a:lnTo>
                      <a:pt x="426" y="1277"/>
                    </a:lnTo>
                    <a:lnTo>
                      <a:pt x="441" y="1273"/>
                    </a:lnTo>
                    <a:lnTo>
                      <a:pt x="456" y="1268"/>
                    </a:lnTo>
                    <a:lnTo>
                      <a:pt x="471" y="1264"/>
                    </a:lnTo>
                    <a:lnTo>
                      <a:pt x="487" y="1259"/>
                    </a:lnTo>
                    <a:lnTo>
                      <a:pt x="496" y="1257"/>
                    </a:lnTo>
                    <a:lnTo>
                      <a:pt x="506" y="1253"/>
                    </a:lnTo>
                    <a:lnTo>
                      <a:pt x="516" y="1250"/>
                    </a:lnTo>
                    <a:lnTo>
                      <a:pt x="525" y="1246"/>
                    </a:lnTo>
                    <a:lnTo>
                      <a:pt x="536" y="1244"/>
                    </a:lnTo>
                    <a:lnTo>
                      <a:pt x="546" y="1241"/>
                    </a:lnTo>
                    <a:lnTo>
                      <a:pt x="555" y="1240"/>
                    </a:lnTo>
                    <a:lnTo>
                      <a:pt x="565" y="1241"/>
                    </a:lnTo>
                    <a:lnTo>
                      <a:pt x="584" y="1246"/>
                    </a:lnTo>
                    <a:lnTo>
                      <a:pt x="603" y="1252"/>
                    </a:lnTo>
                    <a:lnTo>
                      <a:pt x="621" y="1259"/>
                    </a:lnTo>
                    <a:lnTo>
                      <a:pt x="639" y="1267"/>
                    </a:lnTo>
                    <a:lnTo>
                      <a:pt x="657" y="1275"/>
                    </a:lnTo>
                    <a:lnTo>
                      <a:pt x="675" y="1285"/>
                    </a:lnTo>
                    <a:lnTo>
                      <a:pt x="693" y="1293"/>
                    </a:lnTo>
                    <a:lnTo>
                      <a:pt x="711" y="1303"/>
                    </a:lnTo>
                    <a:lnTo>
                      <a:pt x="726" y="1310"/>
                    </a:lnTo>
                    <a:lnTo>
                      <a:pt x="740" y="1318"/>
                    </a:lnTo>
                    <a:lnTo>
                      <a:pt x="753" y="1328"/>
                    </a:lnTo>
                    <a:lnTo>
                      <a:pt x="768" y="1337"/>
                    </a:lnTo>
                    <a:lnTo>
                      <a:pt x="782" y="1346"/>
                    </a:lnTo>
                    <a:lnTo>
                      <a:pt x="796" y="1354"/>
                    </a:lnTo>
                    <a:lnTo>
                      <a:pt x="811" y="1363"/>
                    </a:lnTo>
                    <a:lnTo>
                      <a:pt x="826" y="1369"/>
                    </a:lnTo>
                    <a:lnTo>
                      <a:pt x="838" y="1373"/>
                    </a:lnTo>
                    <a:lnTo>
                      <a:pt x="852" y="1378"/>
                    </a:lnTo>
                    <a:lnTo>
                      <a:pt x="865" y="1382"/>
                    </a:lnTo>
                    <a:lnTo>
                      <a:pt x="878" y="1385"/>
                    </a:lnTo>
                    <a:lnTo>
                      <a:pt x="891" y="1386"/>
                    </a:lnTo>
                    <a:lnTo>
                      <a:pt x="904" y="1386"/>
                    </a:lnTo>
                    <a:lnTo>
                      <a:pt x="910" y="1386"/>
                    </a:lnTo>
                    <a:lnTo>
                      <a:pt x="918" y="1385"/>
                    </a:lnTo>
                    <a:lnTo>
                      <a:pt x="924" y="1383"/>
                    </a:lnTo>
                    <a:lnTo>
                      <a:pt x="930" y="1381"/>
                    </a:lnTo>
                    <a:lnTo>
                      <a:pt x="933" y="1378"/>
                    </a:lnTo>
                    <a:lnTo>
                      <a:pt x="938" y="1375"/>
                    </a:lnTo>
                    <a:lnTo>
                      <a:pt x="942" y="1371"/>
                    </a:lnTo>
                    <a:lnTo>
                      <a:pt x="944" y="1367"/>
                    </a:lnTo>
                    <a:lnTo>
                      <a:pt x="950" y="1358"/>
                    </a:lnTo>
                    <a:lnTo>
                      <a:pt x="954" y="1347"/>
                    </a:lnTo>
                    <a:lnTo>
                      <a:pt x="957" y="1336"/>
                    </a:lnTo>
                    <a:lnTo>
                      <a:pt x="958" y="1324"/>
                    </a:lnTo>
                    <a:lnTo>
                      <a:pt x="960" y="1313"/>
                    </a:lnTo>
                    <a:lnTo>
                      <a:pt x="960" y="1303"/>
                    </a:lnTo>
                    <a:lnTo>
                      <a:pt x="958" y="1291"/>
                    </a:lnTo>
                    <a:lnTo>
                      <a:pt x="956" y="1280"/>
                    </a:lnTo>
                    <a:lnTo>
                      <a:pt x="952" y="1269"/>
                    </a:lnTo>
                    <a:lnTo>
                      <a:pt x="948" y="1258"/>
                    </a:lnTo>
                    <a:lnTo>
                      <a:pt x="942" y="1247"/>
                    </a:lnTo>
                    <a:lnTo>
                      <a:pt x="936" y="1237"/>
                    </a:lnTo>
                    <a:lnTo>
                      <a:pt x="930" y="1227"/>
                    </a:lnTo>
                    <a:lnTo>
                      <a:pt x="922" y="1217"/>
                    </a:lnTo>
                    <a:lnTo>
                      <a:pt x="910" y="1201"/>
                    </a:lnTo>
                    <a:lnTo>
                      <a:pt x="898" y="1183"/>
                    </a:lnTo>
                    <a:lnTo>
                      <a:pt x="885" y="1167"/>
                    </a:lnTo>
                    <a:lnTo>
                      <a:pt x="872" y="1150"/>
                    </a:lnTo>
                    <a:lnTo>
                      <a:pt x="859" y="1135"/>
                    </a:lnTo>
                    <a:lnTo>
                      <a:pt x="844" y="1119"/>
                    </a:lnTo>
                    <a:lnTo>
                      <a:pt x="829" y="1105"/>
                    </a:lnTo>
                    <a:lnTo>
                      <a:pt x="814" y="1090"/>
                    </a:lnTo>
                    <a:lnTo>
                      <a:pt x="795" y="1075"/>
                    </a:lnTo>
                    <a:lnTo>
                      <a:pt x="776" y="1059"/>
                    </a:lnTo>
                    <a:lnTo>
                      <a:pt x="756" y="1045"/>
                    </a:lnTo>
                    <a:lnTo>
                      <a:pt x="735" y="1030"/>
                    </a:lnTo>
                    <a:lnTo>
                      <a:pt x="715" y="1017"/>
                    </a:lnTo>
                    <a:lnTo>
                      <a:pt x="693" y="1005"/>
                    </a:lnTo>
                    <a:lnTo>
                      <a:pt x="672" y="993"/>
                    </a:lnTo>
                    <a:lnTo>
                      <a:pt x="650" y="981"/>
                    </a:lnTo>
                    <a:lnTo>
                      <a:pt x="634" y="974"/>
                    </a:lnTo>
                    <a:lnTo>
                      <a:pt x="618" y="967"/>
                    </a:lnTo>
                    <a:lnTo>
                      <a:pt x="602" y="961"/>
                    </a:lnTo>
                    <a:lnTo>
                      <a:pt x="585" y="956"/>
                    </a:lnTo>
                    <a:lnTo>
                      <a:pt x="568" y="951"/>
                    </a:lnTo>
                    <a:lnTo>
                      <a:pt x="550" y="946"/>
                    </a:lnTo>
                    <a:lnTo>
                      <a:pt x="534" y="943"/>
                    </a:lnTo>
                    <a:lnTo>
                      <a:pt x="517" y="939"/>
                    </a:lnTo>
                    <a:lnTo>
                      <a:pt x="501" y="935"/>
                    </a:lnTo>
                    <a:lnTo>
                      <a:pt x="487" y="932"/>
                    </a:lnTo>
                    <a:lnTo>
                      <a:pt x="471" y="928"/>
                    </a:lnTo>
                    <a:lnTo>
                      <a:pt x="457" y="926"/>
                    </a:lnTo>
                    <a:lnTo>
                      <a:pt x="441" y="923"/>
                    </a:lnTo>
                    <a:lnTo>
                      <a:pt x="426" y="922"/>
                    </a:lnTo>
                    <a:lnTo>
                      <a:pt x="411" y="921"/>
                    </a:lnTo>
                    <a:lnTo>
                      <a:pt x="396" y="920"/>
                    </a:lnTo>
                    <a:lnTo>
                      <a:pt x="385" y="921"/>
                    </a:lnTo>
                    <a:lnTo>
                      <a:pt x="375" y="921"/>
                    </a:lnTo>
                    <a:lnTo>
                      <a:pt x="364" y="923"/>
                    </a:lnTo>
                    <a:lnTo>
                      <a:pt x="355" y="925"/>
                    </a:lnTo>
                    <a:lnTo>
                      <a:pt x="345" y="927"/>
                    </a:lnTo>
                    <a:lnTo>
                      <a:pt x="336" y="931"/>
                    </a:lnTo>
                    <a:lnTo>
                      <a:pt x="326" y="934"/>
                    </a:lnTo>
                    <a:lnTo>
                      <a:pt x="316" y="939"/>
                    </a:lnTo>
                    <a:lnTo>
                      <a:pt x="307" y="944"/>
                    </a:lnTo>
                    <a:lnTo>
                      <a:pt x="298" y="951"/>
                    </a:lnTo>
                    <a:lnTo>
                      <a:pt x="291" y="958"/>
                    </a:lnTo>
                    <a:lnTo>
                      <a:pt x="283" y="965"/>
                    </a:lnTo>
                    <a:lnTo>
                      <a:pt x="276" y="973"/>
                    </a:lnTo>
                    <a:lnTo>
                      <a:pt x="267" y="981"/>
                    </a:lnTo>
                    <a:lnTo>
                      <a:pt x="259" y="987"/>
                    </a:lnTo>
                    <a:lnTo>
                      <a:pt x="249" y="993"/>
                    </a:lnTo>
                    <a:lnTo>
                      <a:pt x="235" y="1000"/>
                    </a:lnTo>
                    <a:lnTo>
                      <a:pt x="220" y="1009"/>
                    </a:lnTo>
                    <a:lnTo>
                      <a:pt x="206" y="1015"/>
                    </a:lnTo>
                    <a:lnTo>
                      <a:pt x="190" y="1022"/>
                    </a:lnTo>
                    <a:lnTo>
                      <a:pt x="176" y="1028"/>
                    </a:lnTo>
                    <a:lnTo>
                      <a:pt x="160" y="1033"/>
                    </a:lnTo>
                    <a:lnTo>
                      <a:pt x="145" y="1037"/>
                    </a:lnTo>
                    <a:lnTo>
                      <a:pt x="128" y="1041"/>
                    </a:lnTo>
                    <a:lnTo>
                      <a:pt x="123" y="1042"/>
                    </a:lnTo>
                    <a:lnTo>
                      <a:pt x="117" y="1043"/>
                    </a:lnTo>
                    <a:lnTo>
                      <a:pt x="110" y="1042"/>
                    </a:lnTo>
                    <a:lnTo>
                      <a:pt x="104" y="1041"/>
                    </a:lnTo>
                    <a:lnTo>
                      <a:pt x="99" y="1040"/>
                    </a:lnTo>
                    <a:lnTo>
                      <a:pt x="93" y="1037"/>
                    </a:lnTo>
                    <a:lnTo>
                      <a:pt x="90" y="1034"/>
                    </a:lnTo>
                    <a:lnTo>
                      <a:pt x="86" y="1029"/>
                    </a:lnTo>
                    <a:lnTo>
                      <a:pt x="82" y="1022"/>
                    </a:lnTo>
                    <a:lnTo>
                      <a:pt x="80" y="1013"/>
                    </a:lnTo>
                    <a:lnTo>
                      <a:pt x="78" y="1005"/>
                    </a:lnTo>
                    <a:lnTo>
                      <a:pt x="78" y="995"/>
                    </a:lnTo>
                    <a:lnTo>
                      <a:pt x="78" y="987"/>
                    </a:lnTo>
                    <a:lnTo>
                      <a:pt x="79" y="979"/>
                    </a:lnTo>
                    <a:lnTo>
                      <a:pt x="82" y="970"/>
                    </a:lnTo>
                    <a:lnTo>
                      <a:pt x="86" y="963"/>
                    </a:lnTo>
                    <a:lnTo>
                      <a:pt x="98" y="946"/>
                    </a:lnTo>
                    <a:lnTo>
                      <a:pt x="111" y="929"/>
                    </a:lnTo>
                    <a:lnTo>
                      <a:pt x="126" y="915"/>
                    </a:lnTo>
                    <a:lnTo>
                      <a:pt x="141" y="899"/>
                    </a:lnTo>
                    <a:lnTo>
                      <a:pt x="157" y="886"/>
                    </a:lnTo>
                    <a:lnTo>
                      <a:pt x="174" y="873"/>
                    </a:lnTo>
                    <a:lnTo>
                      <a:pt x="190" y="860"/>
                    </a:lnTo>
                    <a:lnTo>
                      <a:pt x="207" y="848"/>
                    </a:lnTo>
                    <a:lnTo>
                      <a:pt x="219" y="839"/>
                    </a:lnTo>
                    <a:lnTo>
                      <a:pt x="231" y="833"/>
                    </a:lnTo>
                    <a:lnTo>
                      <a:pt x="243" y="826"/>
                    </a:lnTo>
                    <a:lnTo>
                      <a:pt x="256" y="821"/>
                    </a:lnTo>
                    <a:lnTo>
                      <a:pt x="270" y="817"/>
                    </a:lnTo>
                    <a:lnTo>
                      <a:pt x="283" y="812"/>
                    </a:lnTo>
                    <a:lnTo>
                      <a:pt x="297" y="808"/>
                    </a:lnTo>
                    <a:lnTo>
                      <a:pt x="310" y="805"/>
                    </a:lnTo>
                    <a:lnTo>
                      <a:pt x="328" y="802"/>
                    </a:lnTo>
                    <a:lnTo>
                      <a:pt x="346" y="800"/>
                    </a:lnTo>
                    <a:lnTo>
                      <a:pt x="364" y="800"/>
                    </a:lnTo>
                    <a:lnTo>
                      <a:pt x="382" y="799"/>
                    </a:lnTo>
                    <a:lnTo>
                      <a:pt x="402" y="799"/>
                    </a:lnTo>
                    <a:lnTo>
                      <a:pt x="420" y="799"/>
                    </a:lnTo>
                    <a:lnTo>
                      <a:pt x="438" y="799"/>
                    </a:lnTo>
                    <a:lnTo>
                      <a:pt x="456" y="799"/>
                    </a:lnTo>
                    <a:lnTo>
                      <a:pt x="482" y="800"/>
                    </a:lnTo>
                    <a:lnTo>
                      <a:pt x="507" y="800"/>
                    </a:lnTo>
                    <a:lnTo>
                      <a:pt x="534" y="800"/>
                    </a:lnTo>
                    <a:lnTo>
                      <a:pt x="559" y="801"/>
                    </a:lnTo>
                    <a:lnTo>
                      <a:pt x="585" y="802"/>
                    </a:lnTo>
                    <a:lnTo>
                      <a:pt x="610" y="802"/>
                    </a:lnTo>
                    <a:lnTo>
                      <a:pt x="637" y="803"/>
                    </a:lnTo>
                    <a:lnTo>
                      <a:pt x="662" y="805"/>
                    </a:lnTo>
                    <a:lnTo>
                      <a:pt x="681" y="807"/>
                    </a:lnTo>
                    <a:lnTo>
                      <a:pt x="700" y="808"/>
                    </a:lnTo>
                    <a:lnTo>
                      <a:pt x="720" y="811"/>
                    </a:lnTo>
                    <a:lnTo>
                      <a:pt x="738" y="812"/>
                    </a:lnTo>
                    <a:lnTo>
                      <a:pt x="757" y="814"/>
                    </a:lnTo>
                    <a:lnTo>
                      <a:pt x="776" y="815"/>
                    </a:lnTo>
                    <a:lnTo>
                      <a:pt x="795" y="817"/>
                    </a:lnTo>
                    <a:lnTo>
                      <a:pt x="814" y="818"/>
                    </a:lnTo>
                    <a:lnTo>
                      <a:pt x="825" y="818"/>
                    </a:lnTo>
                    <a:lnTo>
                      <a:pt x="836" y="818"/>
                    </a:lnTo>
                    <a:lnTo>
                      <a:pt x="848" y="819"/>
                    </a:lnTo>
                    <a:lnTo>
                      <a:pt x="859" y="818"/>
                    </a:lnTo>
                    <a:lnTo>
                      <a:pt x="870" y="818"/>
                    </a:lnTo>
                    <a:lnTo>
                      <a:pt x="880" y="815"/>
                    </a:lnTo>
                    <a:lnTo>
                      <a:pt x="890" y="811"/>
                    </a:lnTo>
                    <a:lnTo>
                      <a:pt x="898" y="805"/>
                    </a:lnTo>
                    <a:close/>
                  </a:path>
                </a:pathLst>
              </a:custGeom>
              <a:solidFill>
                <a:srgbClr val="be8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02200" y="4164120"/>
                <a:ext cx="23760" cy="41040"/>
              </a:xfrm>
              <a:custGeom>
                <a:avLst/>
                <a:gdLst/>
                <a:ahLst/>
                <a:rect l="l" t="t" r="r" b="b"/>
                <a:pathLst>
                  <a:path w="58" h="103">
                    <a:moveTo>
                      <a:pt x="24" y="0"/>
                    </a:moveTo>
                    <a:lnTo>
                      <a:pt x="24" y="0"/>
                    </a:lnTo>
                    <a:lnTo>
                      <a:pt x="24" y="10"/>
                    </a:lnTo>
                    <a:lnTo>
                      <a:pt x="22" y="22"/>
                    </a:lnTo>
                    <a:lnTo>
                      <a:pt x="21" y="33"/>
                    </a:lnTo>
                    <a:lnTo>
                      <a:pt x="18" y="44"/>
                    </a:lnTo>
                    <a:lnTo>
                      <a:pt x="15" y="54"/>
                    </a:lnTo>
                    <a:lnTo>
                      <a:pt x="10" y="63"/>
                    </a:lnTo>
                    <a:lnTo>
                      <a:pt x="6" y="70"/>
                    </a:lnTo>
                    <a:lnTo>
                      <a:pt x="0" y="78"/>
                    </a:lnTo>
                    <a:lnTo>
                      <a:pt x="22" y="103"/>
                    </a:lnTo>
                    <a:lnTo>
                      <a:pt x="32" y="92"/>
                    </a:lnTo>
                    <a:lnTo>
                      <a:pt x="40" y="80"/>
                    </a:lnTo>
                    <a:lnTo>
                      <a:pt x="46" y="67"/>
                    </a:lnTo>
                    <a:lnTo>
                      <a:pt x="51" y="54"/>
                    </a:lnTo>
                    <a:lnTo>
                      <a:pt x="55" y="40"/>
                    </a:lnTo>
                    <a:lnTo>
                      <a:pt x="57" y="26"/>
                    </a:lnTo>
                    <a:lnTo>
                      <a:pt x="58" y="13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802200" y="4116240"/>
                <a:ext cx="23760" cy="47880"/>
              </a:xfrm>
              <a:custGeom>
                <a:avLst/>
                <a:gdLst/>
                <a:ahLst/>
                <a:rect l="l" t="t" r="r" b="b"/>
                <a:pathLst>
                  <a:path w="61" h="120">
                    <a:moveTo>
                      <a:pt x="0" y="21"/>
                    </a:moveTo>
                    <a:lnTo>
                      <a:pt x="0" y="21"/>
                    </a:lnTo>
                    <a:lnTo>
                      <a:pt x="6" y="31"/>
                    </a:lnTo>
                    <a:lnTo>
                      <a:pt x="12" y="42"/>
                    </a:lnTo>
                    <a:lnTo>
                      <a:pt x="17" y="54"/>
                    </a:lnTo>
                    <a:lnTo>
                      <a:pt x="21" y="66"/>
                    </a:lnTo>
                    <a:lnTo>
                      <a:pt x="23" y="79"/>
                    </a:lnTo>
                    <a:lnTo>
                      <a:pt x="25" y="92"/>
                    </a:lnTo>
                    <a:lnTo>
                      <a:pt x="27" y="106"/>
                    </a:lnTo>
                    <a:lnTo>
                      <a:pt x="27" y="120"/>
                    </a:lnTo>
                    <a:lnTo>
                      <a:pt x="61" y="120"/>
                    </a:lnTo>
                    <a:lnTo>
                      <a:pt x="61" y="104"/>
                    </a:lnTo>
                    <a:lnTo>
                      <a:pt x="60" y="88"/>
                    </a:lnTo>
                    <a:lnTo>
                      <a:pt x="58" y="73"/>
                    </a:lnTo>
                    <a:lnTo>
                      <a:pt x="54" y="57"/>
                    </a:lnTo>
                    <a:lnTo>
                      <a:pt x="49" y="43"/>
                    </a:lnTo>
                    <a:lnTo>
                      <a:pt x="45" y="27"/>
                    </a:lnTo>
                    <a:lnTo>
                      <a:pt x="36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769080" y="4094280"/>
                <a:ext cx="43920" cy="29880"/>
              </a:xfrm>
              <a:custGeom>
                <a:avLst/>
                <a:gdLst/>
                <a:ahLst/>
                <a:rect l="l" t="t" r="r" b="b"/>
                <a:pathLst>
                  <a:path w="113" h="75">
                    <a:moveTo>
                      <a:pt x="0" y="32"/>
                    </a:moveTo>
                    <a:lnTo>
                      <a:pt x="0" y="32"/>
                    </a:lnTo>
                    <a:lnTo>
                      <a:pt x="13" y="37"/>
                    </a:lnTo>
                    <a:lnTo>
                      <a:pt x="26" y="42"/>
                    </a:lnTo>
                    <a:lnTo>
                      <a:pt x="38" y="47"/>
                    </a:lnTo>
                    <a:lnTo>
                      <a:pt x="50" y="51"/>
                    </a:lnTo>
                    <a:lnTo>
                      <a:pt x="61" y="56"/>
                    </a:lnTo>
                    <a:lnTo>
                      <a:pt x="71" y="62"/>
                    </a:lnTo>
                    <a:lnTo>
                      <a:pt x="78" y="68"/>
                    </a:lnTo>
                    <a:lnTo>
                      <a:pt x="85" y="75"/>
                    </a:lnTo>
                    <a:lnTo>
                      <a:pt x="113" y="54"/>
                    </a:lnTo>
                    <a:lnTo>
                      <a:pt x="102" y="42"/>
                    </a:lnTo>
                    <a:lnTo>
                      <a:pt x="90" y="33"/>
                    </a:lnTo>
                    <a:lnTo>
                      <a:pt x="77" y="25"/>
                    </a:lnTo>
                    <a:lnTo>
                      <a:pt x="64" y="19"/>
                    </a:lnTo>
                    <a:lnTo>
                      <a:pt x="50" y="14"/>
                    </a:lnTo>
                    <a:lnTo>
                      <a:pt x="38" y="9"/>
                    </a:lnTo>
                    <a:lnTo>
                      <a:pt x="26" y="5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723000" y="4075200"/>
                <a:ext cx="50400" cy="33120"/>
              </a:xfrm>
              <a:custGeom>
                <a:avLst/>
                <a:gdLst/>
                <a:ahLst/>
                <a:rect l="l" t="t" r="r" b="b"/>
                <a:pathLst>
                  <a:path w="129" h="81">
                    <a:moveTo>
                      <a:pt x="0" y="33"/>
                    </a:moveTo>
                    <a:lnTo>
                      <a:pt x="0" y="33"/>
                    </a:lnTo>
                    <a:lnTo>
                      <a:pt x="15" y="38"/>
                    </a:lnTo>
                    <a:lnTo>
                      <a:pt x="29" y="43"/>
                    </a:lnTo>
                    <a:lnTo>
                      <a:pt x="43" y="49"/>
                    </a:lnTo>
                    <a:lnTo>
                      <a:pt x="57" y="55"/>
                    </a:lnTo>
                    <a:lnTo>
                      <a:pt x="71" y="61"/>
                    </a:lnTo>
                    <a:lnTo>
                      <a:pt x="85" y="68"/>
                    </a:lnTo>
                    <a:lnTo>
                      <a:pt x="100" y="74"/>
                    </a:lnTo>
                    <a:lnTo>
                      <a:pt x="113" y="81"/>
                    </a:lnTo>
                    <a:lnTo>
                      <a:pt x="129" y="49"/>
                    </a:lnTo>
                    <a:lnTo>
                      <a:pt x="114" y="43"/>
                    </a:lnTo>
                    <a:lnTo>
                      <a:pt x="100" y="36"/>
                    </a:lnTo>
                    <a:lnTo>
                      <a:pt x="85" y="30"/>
                    </a:lnTo>
                    <a:lnTo>
                      <a:pt x="71" y="22"/>
                    </a:lnTo>
                    <a:lnTo>
                      <a:pt x="57" y="16"/>
                    </a:lnTo>
                    <a:lnTo>
                      <a:pt x="41" y="10"/>
                    </a:lnTo>
                    <a:lnTo>
                      <a:pt x="27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670440" y="4064040"/>
                <a:ext cx="56880" cy="25200"/>
              </a:xfrm>
              <a:custGeom>
                <a:avLst/>
                <a:gdLst/>
                <a:ahLst/>
                <a:rect l="l" t="t" r="r" b="b"/>
                <a:pathLst>
                  <a:path w="145" h="63">
                    <a:moveTo>
                      <a:pt x="0" y="32"/>
                    </a:moveTo>
                    <a:lnTo>
                      <a:pt x="0" y="32"/>
                    </a:lnTo>
                    <a:lnTo>
                      <a:pt x="17" y="38"/>
                    </a:lnTo>
                    <a:lnTo>
                      <a:pt x="35" y="43"/>
                    </a:lnTo>
                    <a:lnTo>
                      <a:pt x="53" y="46"/>
                    </a:lnTo>
                    <a:lnTo>
                      <a:pt x="69" y="50"/>
                    </a:lnTo>
                    <a:lnTo>
                      <a:pt x="86" y="52"/>
                    </a:lnTo>
                    <a:lnTo>
                      <a:pt x="103" y="55"/>
                    </a:lnTo>
                    <a:lnTo>
                      <a:pt x="119" y="58"/>
                    </a:lnTo>
                    <a:lnTo>
                      <a:pt x="134" y="63"/>
                    </a:lnTo>
                    <a:lnTo>
                      <a:pt x="145" y="30"/>
                    </a:lnTo>
                    <a:lnTo>
                      <a:pt x="127" y="25"/>
                    </a:lnTo>
                    <a:lnTo>
                      <a:pt x="110" y="21"/>
                    </a:lnTo>
                    <a:lnTo>
                      <a:pt x="92" y="18"/>
                    </a:lnTo>
                    <a:lnTo>
                      <a:pt x="75" y="15"/>
                    </a:lnTo>
                    <a:lnTo>
                      <a:pt x="59" y="13"/>
                    </a:lnTo>
                    <a:lnTo>
                      <a:pt x="43" y="9"/>
                    </a:lnTo>
                    <a:lnTo>
                      <a:pt x="27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629400" y="4040280"/>
                <a:ext cx="45720" cy="36360"/>
              </a:xfrm>
              <a:custGeom>
                <a:avLst/>
                <a:gdLst/>
                <a:ahLst/>
                <a:rect l="l" t="t" r="r" b="b"/>
                <a:pathLst>
                  <a:path w="115" h="90">
                    <a:moveTo>
                      <a:pt x="0" y="28"/>
                    </a:moveTo>
                    <a:lnTo>
                      <a:pt x="0" y="28"/>
                    </a:lnTo>
                    <a:lnTo>
                      <a:pt x="12" y="36"/>
                    </a:lnTo>
                    <a:lnTo>
                      <a:pt x="24" y="44"/>
                    </a:lnTo>
                    <a:lnTo>
                      <a:pt x="36" y="54"/>
                    </a:lnTo>
                    <a:lnTo>
                      <a:pt x="48" y="62"/>
                    </a:lnTo>
                    <a:lnTo>
                      <a:pt x="61" y="70"/>
                    </a:lnTo>
                    <a:lnTo>
                      <a:pt x="74" y="77"/>
                    </a:lnTo>
                    <a:lnTo>
                      <a:pt x="87" y="84"/>
                    </a:lnTo>
                    <a:lnTo>
                      <a:pt x="102" y="90"/>
                    </a:lnTo>
                    <a:lnTo>
                      <a:pt x="115" y="58"/>
                    </a:lnTo>
                    <a:lnTo>
                      <a:pt x="102" y="53"/>
                    </a:lnTo>
                    <a:lnTo>
                      <a:pt x="90" y="47"/>
                    </a:lnTo>
                    <a:lnTo>
                      <a:pt x="79" y="40"/>
                    </a:lnTo>
                    <a:lnTo>
                      <a:pt x="67" y="32"/>
                    </a:lnTo>
                    <a:lnTo>
                      <a:pt x="55" y="25"/>
                    </a:lnTo>
                    <a:lnTo>
                      <a:pt x="44" y="17"/>
                    </a:lnTo>
                    <a:lnTo>
                      <a:pt x="33" y="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568920" y="3987720"/>
                <a:ext cx="69480" cy="63720"/>
              </a:xfrm>
              <a:custGeom>
                <a:avLst/>
                <a:gdLst/>
                <a:ahLst/>
                <a:rect l="l" t="t" r="r" b="b"/>
                <a:pathLst>
                  <a:path w="172" h="161">
                    <a:moveTo>
                      <a:pt x="0" y="27"/>
                    </a:moveTo>
                    <a:lnTo>
                      <a:pt x="0" y="27"/>
                    </a:lnTo>
                    <a:lnTo>
                      <a:pt x="19" y="43"/>
                    </a:lnTo>
                    <a:lnTo>
                      <a:pt x="37" y="59"/>
                    </a:lnTo>
                    <a:lnTo>
                      <a:pt x="56" y="75"/>
                    </a:lnTo>
                    <a:lnTo>
                      <a:pt x="74" y="92"/>
                    </a:lnTo>
                    <a:lnTo>
                      <a:pt x="93" y="110"/>
                    </a:lnTo>
                    <a:lnTo>
                      <a:pt x="112" y="127"/>
                    </a:lnTo>
                    <a:lnTo>
                      <a:pt x="132" y="144"/>
                    </a:lnTo>
                    <a:lnTo>
                      <a:pt x="151" y="161"/>
                    </a:lnTo>
                    <a:lnTo>
                      <a:pt x="172" y="133"/>
                    </a:lnTo>
                    <a:lnTo>
                      <a:pt x="153" y="117"/>
                    </a:lnTo>
                    <a:lnTo>
                      <a:pt x="135" y="101"/>
                    </a:lnTo>
                    <a:lnTo>
                      <a:pt x="116" y="85"/>
                    </a:lnTo>
                    <a:lnTo>
                      <a:pt x="98" y="67"/>
                    </a:lnTo>
                    <a:lnTo>
                      <a:pt x="79" y="50"/>
                    </a:lnTo>
                    <a:lnTo>
                      <a:pt x="61" y="33"/>
                    </a:lnTo>
                    <a:lnTo>
                      <a:pt x="42" y="17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11680" y="3946680"/>
                <a:ext cx="66600" cy="52200"/>
              </a:xfrm>
              <a:custGeom>
                <a:avLst/>
                <a:gdLst/>
                <a:ahLst/>
                <a:rect l="l" t="t" r="r" b="b"/>
                <a:pathLst>
                  <a:path w="165" h="132">
                    <a:moveTo>
                      <a:pt x="0" y="30"/>
                    </a:moveTo>
                    <a:lnTo>
                      <a:pt x="0" y="30"/>
                    </a:lnTo>
                    <a:lnTo>
                      <a:pt x="19" y="41"/>
                    </a:lnTo>
                    <a:lnTo>
                      <a:pt x="37" y="53"/>
                    </a:lnTo>
                    <a:lnTo>
                      <a:pt x="55" y="66"/>
                    </a:lnTo>
                    <a:lnTo>
                      <a:pt x="73" y="78"/>
                    </a:lnTo>
                    <a:lnTo>
                      <a:pt x="91" y="92"/>
                    </a:lnTo>
                    <a:lnTo>
                      <a:pt x="109" y="105"/>
                    </a:lnTo>
                    <a:lnTo>
                      <a:pt x="127" y="118"/>
                    </a:lnTo>
                    <a:lnTo>
                      <a:pt x="144" y="132"/>
                    </a:lnTo>
                    <a:lnTo>
                      <a:pt x="165" y="105"/>
                    </a:lnTo>
                    <a:lnTo>
                      <a:pt x="147" y="90"/>
                    </a:lnTo>
                    <a:lnTo>
                      <a:pt x="129" y="77"/>
                    </a:lnTo>
                    <a:lnTo>
                      <a:pt x="111" y="64"/>
                    </a:lnTo>
                    <a:lnTo>
                      <a:pt x="93" y="51"/>
                    </a:lnTo>
                    <a:lnTo>
                      <a:pt x="75" y="38"/>
                    </a:lnTo>
                    <a:lnTo>
                      <a:pt x="56" y="24"/>
                    </a:lnTo>
                    <a:lnTo>
                      <a:pt x="37" y="1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72080" y="3927600"/>
                <a:ext cx="47160" cy="29880"/>
              </a:xfrm>
              <a:custGeom>
                <a:avLst/>
                <a:gdLst/>
                <a:ahLst/>
                <a:rect l="l" t="t" r="r" b="b"/>
                <a:pathLst>
                  <a:path w="122" h="78">
                    <a:moveTo>
                      <a:pt x="0" y="29"/>
                    </a:moveTo>
                    <a:lnTo>
                      <a:pt x="0" y="29"/>
                    </a:lnTo>
                    <a:lnTo>
                      <a:pt x="14" y="38"/>
                    </a:lnTo>
                    <a:lnTo>
                      <a:pt x="27" y="44"/>
                    </a:lnTo>
                    <a:lnTo>
                      <a:pt x="41" y="50"/>
                    </a:lnTo>
                    <a:lnTo>
                      <a:pt x="54" y="56"/>
                    </a:lnTo>
                    <a:lnTo>
                      <a:pt x="68" y="60"/>
                    </a:lnTo>
                    <a:lnTo>
                      <a:pt x="81" y="66"/>
                    </a:lnTo>
                    <a:lnTo>
                      <a:pt x="93" y="72"/>
                    </a:lnTo>
                    <a:lnTo>
                      <a:pt x="104" y="78"/>
                    </a:lnTo>
                    <a:lnTo>
                      <a:pt x="122" y="48"/>
                    </a:lnTo>
                    <a:lnTo>
                      <a:pt x="108" y="41"/>
                    </a:lnTo>
                    <a:lnTo>
                      <a:pt x="94" y="34"/>
                    </a:lnTo>
                    <a:lnTo>
                      <a:pt x="81" y="29"/>
                    </a:lnTo>
                    <a:lnTo>
                      <a:pt x="68" y="23"/>
                    </a:lnTo>
                    <a:lnTo>
                      <a:pt x="54" y="18"/>
                    </a:lnTo>
                    <a:lnTo>
                      <a:pt x="42" y="12"/>
                    </a:lnTo>
                    <a:lnTo>
                      <a:pt x="3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5080" y="3906720"/>
                <a:ext cx="33120" cy="32040"/>
              </a:xfrm>
              <a:custGeom>
                <a:avLst/>
                <a:gdLst/>
                <a:ahLst/>
                <a:rect l="l" t="t" r="r" b="b"/>
                <a:pathLst>
                  <a:path w="88" h="80">
                    <a:moveTo>
                      <a:pt x="0" y="11"/>
                    </a:moveTo>
                    <a:lnTo>
                      <a:pt x="0" y="11"/>
                    </a:lnTo>
                    <a:lnTo>
                      <a:pt x="6" y="23"/>
                    </a:lnTo>
                    <a:lnTo>
                      <a:pt x="13" y="35"/>
                    </a:lnTo>
                    <a:lnTo>
                      <a:pt x="22" y="44"/>
                    </a:lnTo>
                    <a:lnTo>
                      <a:pt x="30" y="53"/>
                    </a:lnTo>
                    <a:lnTo>
                      <a:pt x="40" y="61"/>
                    </a:lnTo>
                    <a:lnTo>
                      <a:pt x="49" y="68"/>
                    </a:lnTo>
                    <a:lnTo>
                      <a:pt x="59" y="74"/>
                    </a:lnTo>
                    <a:lnTo>
                      <a:pt x="68" y="80"/>
                    </a:lnTo>
                    <a:lnTo>
                      <a:pt x="88" y="51"/>
                    </a:lnTo>
                    <a:lnTo>
                      <a:pt x="78" y="45"/>
                    </a:lnTo>
                    <a:lnTo>
                      <a:pt x="70" y="39"/>
                    </a:lnTo>
                    <a:lnTo>
                      <a:pt x="61" y="33"/>
                    </a:lnTo>
                    <a:lnTo>
                      <a:pt x="53" y="26"/>
                    </a:lnTo>
                    <a:lnTo>
                      <a:pt x="47" y="20"/>
                    </a:lnTo>
                    <a:lnTo>
                      <a:pt x="41" y="14"/>
                    </a:lnTo>
                    <a:lnTo>
                      <a:pt x="37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43640" y="3881520"/>
                <a:ext cx="20160" cy="30240"/>
              </a:xfrm>
              <a:custGeom>
                <a:avLst/>
                <a:gdLst/>
                <a:ahLst/>
                <a:rect l="l" t="t" r="r" b="b"/>
                <a:pathLst>
                  <a:path w="50" h="76">
                    <a:moveTo>
                      <a:pt x="35" y="0"/>
                    </a:moveTo>
                    <a:lnTo>
                      <a:pt x="35" y="0"/>
                    </a:lnTo>
                    <a:lnTo>
                      <a:pt x="25" y="6"/>
                    </a:lnTo>
                    <a:lnTo>
                      <a:pt x="18" y="14"/>
                    </a:lnTo>
                    <a:lnTo>
                      <a:pt x="11" y="23"/>
                    </a:lnTo>
                    <a:lnTo>
                      <a:pt x="6" y="32"/>
                    </a:lnTo>
                    <a:lnTo>
                      <a:pt x="2" y="42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1" y="76"/>
                    </a:lnTo>
                    <a:lnTo>
                      <a:pt x="35" y="65"/>
                    </a:lnTo>
                    <a:lnTo>
                      <a:pt x="35" y="61"/>
                    </a:lnTo>
                    <a:lnTo>
                      <a:pt x="35" y="56"/>
                    </a:lnTo>
                    <a:lnTo>
                      <a:pt x="35" y="52"/>
                    </a:lnTo>
                    <a:lnTo>
                      <a:pt x="37" y="47"/>
                    </a:lnTo>
                    <a:lnTo>
                      <a:pt x="39" y="41"/>
                    </a:lnTo>
                    <a:lnTo>
                      <a:pt x="43" y="37"/>
                    </a:lnTo>
                    <a:lnTo>
                      <a:pt x="47" y="34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457680" y="387504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2" h="47">
                    <a:moveTo>
                      <a:pt x="112" y="3"/>
                    </a:moveTo>
                    <a:lnTo>
                      <a:pt x="112" y="3"/>
                    </a:lnTo>
                    <a:lnTo>
                      <a:pt x="98" y="2"/>
                    </a:lnTo>
                    <a:lnTo>
                      <a:pt x="85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3"/>
                    </a:lnTo>
                    <a:lnTo>
                      <a:pt x="27" y="5"/>
                    </a:lnTo>
                    <a:lnTo>
                      <a:pt x="13" y="10"/>
                    </a:lnTo>
                    <a:lnTo>
                      <a:pt x="0" y="16"/>
                    </a:lnTo>
                    <a:lnTo>
                      <a:pt x="15" y="47"/>
                    </a:lnTo>
                    <a:lnTo>
                      <a:pt x="25" y="42"/>
                    </a:lnTo>
                    <a:lnTo>
                      <a:pt x="36" y="39"/>
                    </a:lnTo>
                    <a:lnTo>
                      <a:pt x="48" y="36"/>
                    </a:lnTo>
                    <a:lnTo>
                      <a:pt x="58" y="35"/>
                    </a:lnTo>
                    <a:lnTo>
                      <a:pt x="72" y="35"/>
                    </a:lnTo>
                    <a:lnTo>
                      <a:pt x="84" y="35"/>
                    </a:lnTo>
                    <a:lnTo>
                      <a:pt x="97" y="35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00880" y="3875040"/>
                <a:ext cx="40680" cy="25560"/>
              </a:xfrm>
              <a:custGeom>
                <a:avLst/>
                <a:gdLst/>
                <a:ahLst/>
                <a:rect l="l" t="t" r="r" b="b"/>
                <a:pathLst>
                  <a:path w="102" h="61">
                    <a:moveTo>
                      <a:pt x="102" y="32"/>
                    </a:moveTo>
                    <a:lnTo>
                      <a:pt x="102" y="32"/>
                    </a:lnTo>
                    <a:lnTo>
                      <a:pt x="91" y="25"/>
                    </a:lnTo>
                    <a:lnTo>
                      <a:pt x="79" y="19"/>
                    </a:lnTo>
                    <a:lnTo>
                      <a:pt x="67" y="14"/>
                    </a:lnTo>
                    <a:lnTo>
                      <a:pt x="54" y="9"/>
                    </a:lnTo>
                    <a:lnTo>
                      <a:pt x="42" y="6"/>
                    </a:lnTo>
                    <a:lnTo>
                      <a:pt x="29" y="3"/>
                    </a:lnTo>
                    <a:lnTo>
                      <a:pt x="15" y="1"/>
                    </a:lnTo>
                    <a:lnTo>
                      <a:pt x="3" y="0"/>
                    </a:lnTo>
                    <a:lnTo>
                      <a:pt x="0" y="33"/>
                    </a:lnTo>
                    <a:lnTo>
                      <a:pt x="11" y="35"/>
                    </a:lnTo>
                    <a:lnTo>
                      <a:pt x="21" y="37"/>
                    </a:lnTo>
                    <a:lnTo>
                      <a:pt x="33" y="39"/>
                    </a:lnTo>
                    <a:lnTo>
                      <a:pt x="43" y="43"/>
                    </a:lnTo>
                    <a:lnTo>
                      <a:pt x="54" y="47"/>
                    </a:lnTo>
                    <a:lnTo>
                      <a:pt x="65" y="50"/>
                    </a:lnTo>
                    <a:lnTo>
                      <a:pt x="74" y="56"/>
                    </a:lnTo>
                    <a:lnTo>
                      <a:pt x="83" y="61"/>
                    </a:lnTo>
                    <a:lnTo>
                      <a:pt x="83" y="61"/>
                    </a:lnTo>
                    <a:lnTo>
                      <a:pt x="102" y="3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534000" y="3889440"/>
                <a:ext cx="48960" cy="49320"/>
              </a:xfrm>
              <a:custGeom>
                <a:avLst/>
                <a:gdLst/>
                <a:ahLst/>
                <a:rect l="l" t="t" r="r" b="b"/>
                <a:pathLst>
                  <a:path w="124" h="125">
                    <a:moveTo>
                      <a:pt x="124" y="99"/>
                    </a:moveTo>
                    <a:lnTo>
                      <a:pt x="124" y="99"/>
                    </a:lnTo>
                    <a:lnTo>
                      <a:pt x="111" y="87"/>
                    </a:lnTo>
                    <a:lnTo>
                      <a:pt x="99" y="75"/>
                    </a:lnTo>
                    <a:lnTo>
                      <a:pt x="87" y="63"/>
                    </a:lnTo>
                    <a:lnTo>
                      <a:pt x="75" y="49"/>
                    </a:lnTo>
                    <a:lnTo>
                      <a:pt x="62" y="36"/>
                    </a:lnTo>
                    <a:lnTo>
                      <a:pt x="49" y="23"/>
                    </a:lnTo>
                    <a:lnTo>
                      <a:pt x="34" y="11"/>
                    </a:lnTo>
                    <a:lnTo>
                      <a:pt x="19" y="0"/>
                    </a:lnTo>
                    <a:lnTo>
                      <a:pt x="0" y="29"/>
                    </a:lnTo>
                    <a:lnTo>
                      <a:pt x="13" y="39"/>
                    </a:lnTo>
                    <a:lnTo>
                      <a:pt x="26" y="49"/>
                    </a:lnTo>
                    <a:lnTo>
                      <a:pt x="38" y="61"/>
                    </a:lnTo>
                    <a:lnTo>
                      <a:pt x="50" y="73"/>
                    </a:lnTo>
                    <a:lnTo>
                      <a:pt x="62" y="87"/>
                    </a:lnTo>
                    <a:lnTo>
                      <a:pt x="75" y="99"/>
                    </a:lnTo>
                    <a:lnTo>
                      <a:pt x="87" y="112"/>
                    </a:lnTo>
                    <a:lnTo>
                      <a:pt x="102" y="125"/>
                    </a:lnTo>
                    <a:lnTo>
                      <a:pt x="102" y="125"/>
                    </a:lnTo>
                    <a:lnTo>
                      <a:pt x="124" y="9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73600" y="3927600"/>
                <a:ext cx="69480" cy="61920"/>
              </a:xfrm>
              <a:custGeom>
                <a:avLst/>
                <a:gdLst/>
                <a:ahLst/>
                <a:rect l="l" t="t" r="r" b="b"/>
                <a:pathLst>
                  <a:path w="172" h="153">
                    <a:moveTo>
                      <a:pt x="172" y="127"/>
                    </a:moveTo>
                    <a:lnTo>
                      <a:pt x="172" y="127"/>
                    </a:lnTo>
                    <a:lnTo>
                      <a:pt x="153" y="111"/>
                    </a:lnTo>
                    <a:lnTo>
                      <a:pt x="135" y="96"/>
                    </a:lnTo>
                    <a:lnTo>
                      <a:pt x="116" y="80"/>
                    </a:lnTo>
                    <a:lnTo>
                      <a:pt x="97" y="64"/>
                    </a:lnTo>
                    <a:lnTo>
                      <a:pt x="78" y="48"/>
                    </a:lnTo>
                    <a:lnTo>
                      <a:pt x="60" y="32"/>
                    </a:lnTo>
                    <a:lnTo>
                      <a:pt x="40" y="1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18" y="42"/>
                    </a:lnTo>
                    <a:lnTo>
                      <a:pt x="37" y="58"/>
                    </a:lnTo>
                    <a:lnTo>
                      <a:pt x="56" y="74"/>
                    </a:lnTo>
                    <a:lnTo>
                      <a:pt x="74" y="91"/>
                    </a:lnTo>
                    <a:lnTo>
                      <a:pt x="93" y="106"/>
                    </a:lnTo>
                    <a:lnTo>
                      <a:pt x="112" y="122"/>
                    </a:lnTo>
                    <a:lnTo>
                      <a:pt x="132" y="138"/>
                    </a:lnTo>
                    <a:lnTo>
                      <a:pt x="151" y="153"/>
                    </a:lnTo>
                    <a:lnTo>
                      <a:pt x="151" y="153"/>
                    </a:lnTo>
                    <a:lnTo>
                      <a:pt x="172" y="12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634080" y="3978360"/>
                <a:ext cx="53640" cy="44280"/>
              </a:xfrm>
              <a:custGeom>
                <a:avLst/>
                <a:gdLst/>
                <a:ahLst/>
                <a:rect l="l" t="t" r="r" b="b"/>
                <a:pathLst>
                  <a:path w="135" h="113">
                    <a:moveTo>
                      <a:pt x="135" y="83"/>
                    </a:moveTo>
                    <a:lnTo>
                      <a:pt x="135" y="83"/>
                    </a:lnTo>
                    <a:lnTo>
                      <a:pt x="120" y="74"/>
                    </a:lnTo>
                    <a:lnTo>
                      <a:pt x="105" y="65"/>
                    </a:lnTo>
                    <a:lnTo>
                      <a:pt x="92" y="55"/>
                    </a:lnTo>
                    <a:lnTo>
                      <a:pt x="78" y="44"/>
                    </a:lnTo>
                    <a:lnTo>
                      <a:pt x="63" y="33"/>
                    </a:lnTo>
                    <a:lnTo>
                      <a:pt x="50" y="21"/>
                    </a:lnTo>
                    <a:lnTo>
                      <a:pt x="36" y="11"/>
                    </a:lnTo>
                    <a:lnTo>
                      <a:pt x="21" y="0"/>
                    </a:lnTo>
                    <a:lnTo>
                      <a:pt x="0" y="26"/>
                    </a:lnTo>
                    <a:lnTo>
                      <a:pt x="14" y="38"/>
                    </a:lnTo>
                    <a:lnTo>
                      <a:pt x="29" y="49"/>
                    </a:lnTo>
                    <a:lnTo>
                      <a:pt x="42" y="60"/>
                    </a:lnTo>
                    <a:lnTo>
                      <a:pt x="56" y="72"/>
                    </a:lnTo>
                    <a:lnTo>
                      <a:pt x="72" y="83"/>
                    </a:lnTo>
                    <a:lnTo>
                      <a:pt x="86" y="93"/>
                    </a:lnTo>
                    <a:lnTo>
                      <a:pt x="102" y="10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35" y="8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81600" y="40114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77" h="50">
                    <a:moveTo>
                      <a:pt x="77" y="15"/>
                    </a:moveTo>
                    <a:lnTo>
                      <a:pt x="77" y="15"/>
                    </a:lnTo>
                    <a:lnTo>
                      <a:pt x="69" y="15"/>
                    </a:lnTo>
                    <a:lnTo>
                      <a:pt x="62" y="14"/>
                    </a:lnTo>
                    <a:lnTo>
                      <a:pt x="53" y="13"/>
                    </a:lnTo>
                    <a:lnTo>
                      <a:pt x="46" y="10"/>
                    </a:lnTo>
                    <a:lnTo>
                      <a:pt x="39" y="9"/>
                    </a:lnTo>
                    <a:lnTo>
                      <a:pt x="32" y="7"/>
                    </a:lnTo>
                    <a:lnTo>
                      <a:pt x="24" y="3"/>
                    </a:lnTo>
                    <a:lnTo>
                      <a:pt x="18" y="0"/>
                    </a:lnTo>
                    <a:lnTo>
                      <a:pt x="0" y="30"/>
                    </a:lnTo>
                    <a:lnTo>
                      <a:pt x="10" y="34"/>
                    </a:lnTo>
                    <a:lnTo>
                      <a:pt x="18" y="38"/>
                    </a:lnTo>
                    <a:lnTo>
                      <a:pt x="28" y="42"/>
                    </a:lnTo>
                    <a:lnTo>
                      <a:pt x="38" y="44"/>
                    </a:lnTo>
                    <a:lnTo>
                      <a:pt x="47" y="46"/>
                    </a:lnTo>
                    <a:lnTo>
                      <a:pt x="57" y="49"/>
                    </a:lnTo>
                    <a:lnTo>
                      <a:pt x="66" y="50"/>
                    </a:lnTo>
                    <a:lnTo>
                      <a:pt x="75" y="50"/>
                    </a:lnTo>
                    <a:lnTo>
                      <a:pt x="75" y="50"/>
                    </a:lnTo>
                    <a:lnTo>
                      <a:pt x="77" y="1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710400" y="4014720"/>
                <a:ext cx="29520" cy="1764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49" y="0"/>
                    </a:moveTo>
                    <a:lnTo>
                      <a:pt x="49" y="0"/>
                    </a:lnTo>
                    <a:lnTo>
                      <a:pt x="47" y="4"/>
                    </a:lnTo>
                    <a:lnTo>
                      <a:pt x="43" y="5"/>
                    </a:lnTo>
                    <a:lnTo>
                      <a:pt x="37" y="6"/>
                    </a:lnTo>
                    <a:lnTo>
                      <a:pt x="31" y="7"/>
                    </a:lnTo>
                    <a:lnTo>
                      <a:pt x="25" y="8"/>
                    </a:lnTo>
                    <a:lnTo>
                      <a:pt x="18" y="8"/>
                    </a:lnTo>
                    <a:lnTo>
                      <a:pt x="9" y="8"/>
                    </a:lnTo>
                    <a:lnTo>
                      <a:pt x="2" y="7"/>
                    </a:lnTo>
                    <a:lnTo>
                      <a:pt x="0" y="42"/>
                    </a:lnTo>
                    <a:lnTo>
                      <a:pt x="8" y="43"/>
                    </a:lnTo>
                    <a:lnTo>
                      <a:pt x="17" y="43"/>
                    </a:lnTo>
                    <a:lnTo>
                      <a:pt x="26" y="43"/>
                    </a:lnTo>
                    <a:lnTo>
                      <a:pt x="36" y="42"/>
                    </a:lnTo>
                    <a:lnTo>
                      <a:pt x="45" y="41"/>
                    </a:lnTo>
                    <a:lnTo>
                      <a:pt x="55" y="37"/>
                    </a:lnTo>
                    <a:lnTo>
                      <a:pt x="66" y="32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730920" y="3989520"/>
                <a:ext cx="20160" cy="34920"/>
              </a:xfrm>
              <a:custGeom>
                <a:avLst/>
                <a:gdLst/>
                <a:ahLst/>
                <a:rect l="l" t="t" r="r" b="b"/>
                <a:pathLst>
                  <a:path w="54" h="86">
                    <a:moveTo>
                      <a:pt x="19" y="0"/>
                    </a:moveTo>
                    <a:lnTo>
                      <a:pt x="19" y="0"/>
                    </a:lnTo>
                    <a:lnTo>
                      <a:pt x="19" y="9"/>
                    </a:lnTo>
                    <a:lnTo>
                      <a:pt x="18" y="18"/>
                    </a:lnTo>
                    <a:lnTo>
                      <a:pt x="16" y="27"/>
                    </a:lnTo>
                    <a:lnTo>
                      <a:pt x="14" y="36"/>
                    </a:lnTo>
                    <a:lnTo>
                      <a:pt x="12" y="43"/>
                    </a:lnTo>
                    <a:lnTo>
                      <a:pt x="8" y="50"/>
                    </a:lnTo>
                    <a:lnTo>
                      <a:pt x="5" y="56"/>
                    </a:lnTo>
                    <a:lnTo>
                      <a:pt x="0" y="61"/>
                    </a:lnTo>
                    <a:lnTo>
                      <a:pt x="25" y="86"/>
                    </a:lnTo>
                    <a:lnTo>
                      <a:pt x="32" y="77"/>
                    </a:lnTo>
                    <a:lnTo>
                      <a:pt x="40" y="67"/>
                    </a:lnTo>
                    <a:lnTo>
                      <a:pt x="44" y="56"/>
                    </a:lnTo>
                    <a:lnTo>
                      <a:pt x="48" y="45"/>
                    </a:lnTo>
                    <a:lnTo>
                      <a:pt x="50" y="35"/>
                    </a:lnTo>
                    <a:lnTo>
                      <a:pt x="52" y="24"/>
                    </a:lnTo>
                    <a:lnTo>
                      <a:pt x="53" y="1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35600" y="3944880"/>
                <a:ext cx="15480" cy="46080"/>
              </a:xfrm>
              <a:custGeom>
                <a:avLst/>
                <a:gdLst/>
                <a:ahLst/>
                <a:rect l="l" t="t" r="r" b="b"/>
                <a:pathLst>
                  <a:path w="42" h="117">
                    <a:moveTo>
                      <a:pt x="0" y="0"/>
                    </a:moveTo>
                    <a:lnTo>
                      <a:pt x="0" y="0"/>
                    </a:lnTo>
                    <a:lnTo>
                      <a:pt x="1" y="15"/>
                    </a:lnTo>
                    <a:lnTo>
                      <a:pt x="3" y="30"/>
                    </a:lnTo>
                    <a:lnTo>
                      <a:pt x="4" y="45"/>
                    </a:lnTo>
                    <a:lnTo>
                      <a:pt x="5" y="60"/>
                    </a:lnTo>
                    <a:lnTo>
                      <a:pt x="6" y="73"/>
                    </a:lnTo>
                    <a:lnTo>
                      <a:pt x="7" y="87"/>
                    </a:lnTo>
                    <a:lnTo>
                      <a:pt x="7" y="101"/>
                    </a:lnTo>
                    <a:lnTo>
                      <a:pt x="6" y="114"/>
                    </a:lnTo>
                    <a:lnTo>
                      <a:pt x="41" y="117"/>
                    </a:lnTo>
                    <a:lnTo>
                      <a:pt x="42" y="101"/>
                    </a:lnTo>
                    <a:lnTo>
                      <a:pt x="42" y="86"/>
                    </a:lnTo>
                    <a:lnTo>
                      <a:pt x="41" y="71"/>
                    </a:lnTo>
                    <a:lnTo>
                      <a:pt x="40" y="56"/>
                    </a:lnTo>
                    <a:lnTo>
                      <a:pt x="39" y="42"/>
                    </a:lnTo>
                    <a:lnTo>
                      <a:pt x="36" y="27"/>
                    </a:lnTo>
                    <a:lnTo>
                      <a:pt x="36" y="1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35600" y="3921120"/>
                <a:ext cx="15480" cy="23760"/>
              </a:xfrm>
              <a:custGeom>
                <a:avLst/>
                <a:gdLst/>
                <a:ahLst/>
                <a:rect l="l" t="t" r="r" b="b"/>
                <a:pathLst>
                  <a:path w="41" h="61">
                    <a:moveTo>
                      <a:pt x="6" y="0"/>
                    </a:moveTo>
                    <a:lnTo>
                      <a:pt x="6" y="0"/>
                    </a:lnTo>
                    <a:lnTo>
                      <a:pt x="6" y="7"/>
                    </a:lnTo>
                    <a:lnTo>
                      <a:pt x="5" y="14"/>
                    </a:lnTo>
                    <a:lnTo>
                      <a:pt x="5" y="21"/>
                    </a:lnTo>
                    <a:lnTo>
                      <a:pt x="4" y="28"/>
                    </a:lnTo>
                    <a:lnTo>
                      <a:pt x="3" y="36"/>
                    </a:lnTo>
                    <a:lnTo>
                      <a:pt x="1" y="44"/>
                    </a:lnTo>
                    <a:lnTo>
                      <a:pt x="1" y="52"/>
                    </a:lnTo>
                    <a:lnTo>
                      <a:pt x="0" y="61"/>
                    </a:lnTo>
                    <a:lnTo>
                      <a:pt x="35" y="61"/>
                    </a:lnTo>
                    <a:lnTo>
                      <a:pt x="35" y="55"/>
                    </a:lnTo>
                    <a:lnTo>
                      <a:pt x="36" y="48"/>
                    </a:lnTo>
                    <a:lnTo>
                      <a:pt x="37" y="40"/>
                    </a:lnTo>
                    <a:lnTo>
                      <a:pt x="37" y="33"/>
                    </a:lnTo>
                    <a:lnTo>
                      <a:pt x="39" y="26"/>
                    </a:lnTo>
                    <a:lnTo>
                      <a:pt x="40" y="18"/>
                    </a:lnTo>
                    <a:lnTo>
                      <a:pt x="41" y="9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37400" y="3892680"/>
                <a:ext cx="13680" cy="28440"/>
              </a:xfrm>
              <a:custGeom>
                <a:avLst/>
                <a:gdLst/>
                <a:ahLst/>
                <a:rect l="l" t="t" r="r" b="b"/>
                <a:pathLst>
                  <a:path w="36" h="71">
                    <a:moveTo>
                      <a:pt x="2" y="0"/>
                    </a:moveTo>
                    <a:lnTo>
                      <a:pt x="2" y="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1" y="47"/>
                    </a:lnTo>
                    <a:lnTo>
                      <a:pt x="1" y="55"/>
                    </a:lnTo>
                    <a:lnTo>
                      <a:pt x="1" y="62"/>
                    </a:lnTo>
                    <a:lnTo>
                      <a:pt x="1" y="70"/>
                    </a:lnTo>
                    <a:lnTo>
                      <a:pt x="36" y="71"/>
                    </a:lnTo>
                    <a:lnTo>
                      <a:pt x="36" y="62"/>
                    </a:lnTo>
                    <a:lnTo>
                      <a:pt x="36" y="53"/>
                    </a:lnTo>
                    <a:lnTo>
                      <a:pt x="36" y="44"/>
                    </a:lnTo>
                    <a:lnTo>
                      <a:pt x="35" y="36"/>
                    </a:lnTo>
                    <a:lnTo>
                      <a:pt x="35" y="28"/>
                    </a:lnTo>
                    <a:lnTo>
                      <a:pt x="35" y="20"/>
                    </a:lnTo>
                    <a:lnTo>
                      <a:pt x="35" y="14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38840" y="3873600"/>
                <a:ext cx="15480" cy="21960"/>
              </a:xfrm>
              <a:custGeom>
                <a:avLst/>
                <a:gdLst/>
                <a:ahLst/>
                <a:rect l="l" t="t" r="r" b="b"/>
                <a:pathLst>
                  <a:path w="42" h="57">
                    <a:moveTo>
                      <a:pt x="42" y="0"/>
                    </a:moveTo>
                    <a:lnTo>
                      <a:pt x="42" y="0"/>
                    </a:lnTo>
                    <a:lnTo>
                      <a:pt x="30" y="2"/>
                    </a:lnTo>
                    <a:lnTo>
                      <a:pt x="21" y="7"/>
                    </a:lnTo>
                    <a:lnTo>
                      <a:pt x="14" y="14"/>
                    </a:lnTo>
                    <a:lnTo>
                      <a:pt x="10" y="22"/>
                    </a:lnTo>
                    <a:lnTo>
                      <a:pt x="6" y="30"/>
                    </a:lnTo>
                    <a:lnTo>
                      <a:pt x="4" y="37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34" y="57"/>
                    </a:lnTo>
                    <a:lnTo>
                      <a:pt x="35" y="52"/>
                    </a:lnTo>
                    <a:lnTo>
                      <a:pt x="36" y="48"/>
                    </a:lnTo>
                    <a:lnTo>
                      <a:pt x="39" y="43"/>
                    </a:lnTo>
                    <a:lnTo>
                      <a:pt x="40" y="38"/>
                    </a:lnTo>
                    <a:lnTo>
                      <a:pt x="42" y="36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54680" y="38736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88" h="72">
                    <a:moveTo>
                      <a:pt x="88" y="49"/>
                    </a:moveTo>
                    <a:lnTo>
                      <a:pt x="88" y="49"/>
                    </a:lnTo>
                    <a:lnTo>
                      <a:pt x="79" y="39"/>
                    </a:lnTo>
                    <a:lnTo>
                      <a:pt x="71" y="32"/>
                    </a:lnTo>
                    <a:lnTo>
                      <a:pt x="61" y="24"/>
                    </a:lnTo>
                    <a:lnTo>
                      <a:pt x="50" y="16"/>
                    </a:lnTo>
                    <a:lnTo>
                      <a:pt x="40" y="10"/>
                    </a:lnTo>
                    <a:lnTo>
                      <a:pt x="28" y="6"/>
                    </a:lnTo>
                    <a:lnTo>
                      <a:pt x="16" y="2"/>
                    </a:lnTo>
                    <a:lnTo>
                      <a:pt x="2" y="0"/>
                    </a:lnTo>
                    <a:lnTo>
                      <a:pt x="0" y="34"/>
                    </a:lnTo>
                    <a:lnTo>
                      <a:pt x="8" y="36"/>
                    </a:lnTo>
                    <a:lnTo>
                      <a:pt x="16" y="38"/>
                    </a:lnTo>
                    <a:lnTo>
                      <a:pt x="24" y="42"/>
                    </a:lnTo>
                    <a:lnTo>
                      <a:pt x="32" y="46"/>
                    </a:lnTo>
                    <a:lnTo>
                      <a:pt x="40" y="51"/>
                    </a:lnTo>
                    <a:lnTo>
                      <a:pt x="48" y="57"/>
                    </a:lnTo>
                    <a:lnTo>
                      <a:pt x="54" y="64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88" y="4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78440" y="3892680"/>
                <a:ext cx="28440" cy="42840"/>
              </a:xfrm>
              <a:custGeom>
                <a:avLst/>
                <a:gdLst/>
                <a:ahLst/>
                <a:rect l="l" t="t" r="r" b="b"/>
                <a:pathLst>
                  <a:path w="71" h="109">
                    <a:moveTo>
                      <a:pt x="71" y="95"/>
                    </a:moveTo>
                    <a:lnTo>
                      <a:pt x="71" y="95"/>
                    </a:lnTo>
                    <a:lnTo>
                      <a:pt x="67" y="84"/>
                    </a:lnTo>
                    <a:lnTo>
                      <a:pt x="63" y="72"/>
                    </a:lnTo>
                    <a:lnTo>
                      <a:pt x="58" y="60"/>
                    </a:lnTo>
                    <a:lnTo>
                      <a:pt x="54" y="48"/>
                    </a:lnTo>
                    <a:lnTo>
                      <a:pt x="48" y="36"/>
                    </a:lnTo>
                    <a:lnTo>
                      <a:pt x="42" y="23"/>
                    </a:lnTo>
                    <a:lnTo>
                      <a:pt x="35" y="11"/>
                    </a:lnTo>
                    <a:lnTo>
                      <a:pt x="27" y="0"/>
                    </a:lnTo>
                    <a:lnTo>
                      <a:pt x="0" y="23"/>
                    </a:lnTo>
                    <a:lnTo>
                      <a:pt x="6" y="31"/>
                    </a:lnTo>
                    <a:lnTo>
                      <a:pt x="12" y="39"/>
                    </a:lnTo>
                    <a:lnTo>
                      <a:pt x="17" y="50"/>
                    </a:lnTo>
                    <a:lnTo>
                      <a:pt x="22" y="61"/>
                    </a:lnTo>
                    <a:lnTo>
                      <a:pt x="25" y="72"/>
                    </a:lnTo>
                    <a:lnTo>
                      <a:pt x="30" y="84"/>
                    </a:lnTo>
                    <a:lnTo>
                      <a:pt x="35" y="96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71" y="9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794280" y="3930480"/>
                <a:ext cx="33120" cy="59040"/>
              </a:xfrm>
              <a:custGeom>
                <a:avLst/>
                <a:gdLst/>
                <a:ahLst/>
                <a:rect l="l" t="t" r="r" b="b"/>
                <a:pathLst>
                  <a:path w="86" h="147">
                    <a:moveTo>
                      <a:pt x="86" y="133"/>
                    </a:moveTo>
                    <a:lnTo>
                      <a:pt x="86" y="133"/>
                    </a:lnTo>
                    <a:lnTo>
                      <a:pt x="79" y="117"/>
                    </a:lnTo>
                    <a:lnTo>
                      <a:pt x="72" y="100"/>
                    </a:lnTo>
                    <a:lnTo>
                      <a:pt x="66" y="84"/>
                    </a:lnTo>
                    <a:lnTo>
                      <a:pt x="59" y="67"/>
                    </a:lnTo>
                    <a:lnTo>
                      <a:pt x="53" y="50"/>
                    </a:lnTo>
                    <a:lnTo>
                      <a:pt x="45" y="33"/>
                    </a:lnTo>
                    <a:lnTo>
                      <a:pt x="38" y="16"/>
                    </a:lnTo>
                    <a:lnTo>
                      <a:pt x="31" y="0"/>
                    </a:lnTo>
                    <a:lnTo>
                      <a:pt x="0" y="14"/>
                    </a:lnTo>
                    <a:lnTo>
                      <a:pt x="7" y="30"/>
                    </a:lnTo>
                    <a:lnTo>
                      <a:pt x="13" y="46"/>
                    </a:lnTo>
                    <a:lnTo>
                      <a:pt x="20" y="63"/>
                    </a:lnTo>
                    <a:lnTo>
                      <a:pt x="26" y="80"/>
                    </a:lnTo>
                    <a:lnTo>
                      <a:pt x="33" y="97"/>
                    </a:lnTo>
                    <a:lnTo>
                      <a:pt x="41" y="114"/>
                    </a:lnTo>
                    <a:lnTo>
                      <a:pt x="47" y="130"/>
                    </a:lnTo>
                    <a:lnTo>
                      <a:pt x="54" y="147"/>
                    </a:lnTo>
                    <a:lnTo>
                      <a:pt x="54" y="147"/>
                    </a:lnTo>
                    <a:lnTo>
                      <a:pt x="86" y="13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815160" y="3983040"/>
                <a:ext cx="26640" cy="38160"/>
              </a:xfrm>
              <a:custGeom>
                <a:avLst/>
                <a:gdLst/>
                <a:ahLst/>
                <a:rect l="l" t="t" r="r" b="b"/>
                <a:pathLst>
                  <a:path w="67" h="96">
                    <a:moveTo>
                      <a:pt x="67" y="77"/>
                    </a:moveTo>
                    <a:lnTo>
                      <a:pt x="67" y="77"/>
                    </a:lnTo>
                    <a:lnTo>
                      <a:pt x="62" y="68"/>
                    </a:lnTo>
                    <a:lnTo>
                      <a:pt x="57" y="60"/>
                    </a:lnTo>
                    <a:lnTo>
                      <a:pt x="53" y="50"/>
                    </a:lnTo>
                    <a:lnTo>
                      <a:pt x="49" y="41"/>
                    </a:lnTo>
                    <a:lnTo>
                      <a:pt x="44" y="31"/>
                    </a:lnTo>
                    <a:lnTo>
                      <a:pt x="41" y="21"/>
                    </a:lnTo>
                    <a:lnTo>
                      <a:pt x="36" y="11"/>
                    </a:lnTo>
                    <a:lnTo>
                      <a:pt x="32" y="0"/>
                    </a:lnTo>
                    <a:lnTo>
                      <a:pt x="0" y="14"/>
                    </a:lnTo>
                    <a:lnTo>
                      <a:pt x="5" y="24"/>
                    </a:lnTo>
                    <a:lnTo>
                      <a:pt x="8" y="33"/>
                    </a:lnTo>
                    <a:lnTo>
                      <a:pt x="12" y="44"/>
                    </a:lnTo>
                    <a:lnTo>
                      <a:pt x="17" y="54"/>
                    </a:lnTo>
                    <a:lnTo>
                      <a:pt x="21" y="65"/>
                    </a:lnTo>
                    <a:lnTo>
                      <a:pt x="26" y="75"/>
                    </a:lnTo>
                    <a:lnTo>
                      <a:pt x="32" y="85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67" y="7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31000" y="4013280"/>
                <a:ext cx="36000" cy="38160"/>
              </a:xfrm>
              <a:custGeom>
                <a:avLst/>
                <a:gdLst/>
                <a:ahLst/>
                <a:rect l="l" t="t" r="r" b="b"/>
                <a:pathLst>
                  <a:path w="93" h="94">
                    <a:moveTo>
                      <a:pt x="93" y="69"/>
                    </a:moveTo>
                    <a:lnTo>
                      <a:pt x="93" y="69"/>
                    </a:lnTo>
                    <a:lnTo>
                      <a:pt x="84" y="61"/>
                    </a:lnTo>
                    <a:lnTo>
                      <a:pt x="76" y="52"/>
                    </a:lnTo>
                    <a:lnTo>
                      <a:pt x="66" y="44"/>
                    </a:lnTo>
                    <a:lnTo>
                      <a:pt x="58" y="36"/>
                    </a:lnTo>
                    <a:lnTo>
                      <a:pt x="51" y="26"/>
                    </a:lnTo>
                    <a:lnTo>
                      <a:pt x="42" y="18"/>
                    </a:lnTo>
                    <a:lnTo>
                      <a:pt x="35" y="8"/>
                    </a:lnTo>
                    <a:lnTo>
                      <a:pt x="29" y="0"/>
                    </a:lnTo>
                    <a:lnTo>
                      <a:pt x="0" y="19"/>
                    </a:lnTo>
                    <a:lnTo>
                      <a:pt x="7" y="30"/>
                    </a:lnTo>
                    <a:lnTo>
                      <a:pt x="16" y="39"/>
                    </a:lnTo>
                    <a:lnTo>
                      <a:pt x="24" y="49"/>
                    </a:lnTo>
                    <a:lnTo>
                      <a:pt x="33" y="58"/>
                    </a:lnTo>
                    <a:lnTo>
                      <a:pt x="42" y="68"/>
                    </a:lnTo>
                    <a:lnTo>
                      <a:pt x="51" y="78"/>
                    </a:lnTo>
                    <a:lnTo>
                      <a:pt x="60" y="86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93" y="6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858000" y="4041720"/>
                <a:ext cx="45720" cy="41400"/>
              </a:xfrm>
              <a:custGeom>
                <a:avLst/>
                <a:gdLst/>
                <a:ahLst/>
                <a:rect l="l" t="t" r="r" b="b"/>
                <a:pathLst>
                  <a:path w="116" h="107">
                    <a:moveTo>
                      <a:pt x="116" y="76"/>
                    </a:moveTo>
                    <a:lnTo>
                      <a:pt x="116" y="76"/>
                    </a:lnTo>
                    <a:lnTo>
                      <a:pt x="104" y="69"/>
                    </a:lnTo>
                    <a:lnTo>
                      <a:pt x="92" y="61"/>
                    </a:lnTo>
                    <a:lnTo>
                      <a:pt x="80" y="52"/>
                    </a:lnTo>
                    <a:lnTo>
                      <a:pt x="68" y="42"/>
                    </a:lnTo>
                    <a:lnTo>
                      <a:pt x="57" y="33"/>
                    </a:lnTo>
                    <a:lnTo>
                      <a:pt x="47" y="22"/>
                    </a:lnTo>
                    <a:lnTo>
                      <a:pt x="35" y="11"/>
                    </a:lnTo>
                    <a:lnTo>
                      <a:pt x="23" y="0"/>
                    </a:lnTo>
                    <a:lnTo>
                      <a:pt x="0" y="25"/>
                    </a:lnTo>
                    <a:lnTo>
                      <a:pt x="11" y="36"/>
                    </a:lnTo>
                    <a:lnTo>
                      <a:pt x="23" y="47"/>
                    </a:lnTo>
                    <a:lnTo>
                      <a:pt x="33" y="58"/>
                    </a:lnTo>
                    <a:lnTo>
                      <a:pt x="45" y="69"/>
                    </a:lnTo>
                    <a:lnTo>
                      <a:pt x="59" y="79"/>
                    </a:lnTo>
                    <a:lnTo>
                      <a:pt x="72" y="89"/>
                    </a:lnTo>
                    <a:lnTo>
                      <a:pt x="86" y="99"/>
                    </a:lnTo>
                    <a:lnTo>
                      <a:pt x="101" y="107"/>
                    </a:lnTo>
                    <a:lnTo>
                      <a:pt x="101" y="107"/>
                    </a:lnTo>
                    <a:lnTo>
                      <a:pt x="116" y="7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97600" y="4070520"/>
                <a:ext cx="42480" cy="2052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17"/>
                    </a:moveTo>
                    <a:lnTo>
                      <a:pt x="105" y="17"/>
                    </a:lnTo>
                    <a:lnTo>
                      <a:pt x="93" y="15"/>
                    </a:lnTo>
                    <a:lnTo>
                      <a:pt x="81" y="14"/>
                    </a:lnTo>
                    <a:lnTo>
                      <a:pt x="69" y="13"/>
                    </a:lnTo>
                    <a:lnTo>
                      <a:pt x="57" y="12"/>
                    </a:lnTo>
                    <a:lnTo>
                      <a:pt x="45" y="11"/>
                    </a:lnTo>
                    <a:lnTo>
                      <a:pt x="34" y="7"/>
                    </a:lnTo>
                    <a:lnTo>
                      <a:pt x="25" y="5"/>
                    </a:lnTo>
                    <a:lnTo>
                      <a:pt x="15" y="0"/>
                    </a:lnTo>
                    <a:lnTo>
                      <a:pt x="0" y="31"/>
                    </a:lnTo>
                    <a:lnTo>
                      <a:pt x="13" y="37"/>
                    </a:lnTo>
                    <a:lnTo>
                      <a:pt x="26" y="41"/>
                    </a:lnTo>
                    <a:lnTo>
                      <a:pt x="39" y="44"/>
                    </a:lnTo>
                    <a:lnTo>
                      <a:pt x="52" y="47"/>
                    </a:lnTo>
                    <a:lnTo>
                      <a:pt x="66" y="48"/>
                    </a:lnTo>
                    <a:lnTo>
                      <a:pt x="78" y="49"/>
                    </a:lnTo>
                    <a:lnTo>
                      <a:pt x="91" y="50"/>
                    </a:lnTo>
                    <a:lnTo>
                      <a:pt x="103" y="51"/>
                    </a:lnTo>
                    <a:lnTo>
                      <a:pt x="103" y="51"/>
                    </a:lnTo>
                    <a:lnTo>
                      <a:pt x="105" y="1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939000" y="4075200"/>
                <a:ext cx="50400" cy="15840"/>
              </a:xfrm>
              <a:custGeom>
                <a:avLst/>
                <a:gdLst/>
                <a:ahLst/>
                <a:rect l="l" t="t" r="r" b="b"/>
                <a:pathLst>
                  <a:path w="126" h="40">
                    <a:moveTo>
                      <a:pt x="120" y="0"/>
                    </a:moveTo>
                    <a:lnTo>
                      <a:pt x="120" y="0"/>
                    </a:lnTo>
                    <a:lnTo>
                      <a:pt x="105" y="2"/>
                    </a:lnTo>
                    <a:lnTo>
                      <a:pt x="91" y="3"/>
                    </a:lnTo>
                    <a:lnTo>
                      <a:pt x="77" y="4"/>
                    </a:lnTo>
                    <a:lnTo>
                      <a:pt x="61" y="6"/>
                    </a:lnTo>
                    <a:lnTo>
                      <a:pt x="47" y="6"/>
                    </a:lnTo>
                    <a:lnTo>
                      <a:pt x="32" y="6"/>
                    </a:lnTo>
                    <a:lnTo>
                      <a:pt x="17" y="6"/>
                    </a:lnTo>
                    <a:lnTo>
                      <a:pt x="2" y="6"/>
                    </a:lnTo>
                    <a:lnTo>
                      <a:pt x="0" y="40"/>
                    </a:lnTo>
                    <a:lnTo>
                      <a:pt x="15" y="40"/>
                    </a:lnTo>
                    <a:lnTo>
                      <a:pt x="31" y="40"/>
                    </a:lnTo>
                    <a:lnTo>
                      <a:pt x="48" y="40"/>
                    </a:lnTo>
                    <a:lnTo>
                      <a:pt x="63" y="40"/>
                    </a:lnTo>
                    <a:lnTo>
                      <a:pt x="79" y="39"/>
                    </a:lnTo>
                    <a:lnTo>
                      <a:pt x="95" y="38"/>
                    </a:lnTo>
                    <a:lnTo>
                      <a:pt x="110" y="36"/>
                    </a:lnTo>
                    <a:lnTo>
                      <a:pt x="126" y="33"/>
                    </a:lnTo>
                    <a:lnTo>
                      <a:pt x="126" y="33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986520" y="4064040"/>
                <a:ext cx="36000" cy="2520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71" y="0"/>
                    </a:moveTo>
                    <a:lnTo>
                      <a:pt x="71" y="0"/>
                    </a:lnTo>
                    <a:lnTo>
                      <a:pt x="63" y="6"/>
                    </a:lnTo>
                    <a:lnTo>
                      <a:pt x="56" y="10"/>
                    </a:lnTo>
                    <a:lnTo>
                      <a:pt x="47" y="14"/>
                    </a:lnTo>
                    <a:lnTo>
                      <a:pt x="38" y="18"/>
                    </a:lnTo>
                    <a:lnTo>
                      <a:pt x="29" y="20"/>
                    </a:lnTo>
                    <a:lnTo>
                      <a:pt x="19" y="23"/>
                    </a:lnTo>
                    <a:lnTo>
                      <a:pt x="9" y="25"/>
                    </a:lnTo>
                    <a:lnTo>
                      <a:pt x="0" y="28"/>
                    </a:lnTo>
                    <a:lnTo>
                      <a:pt x="6" y="61"/>
                    </a:lnTo>
                    <a:lnTo>
                      <a:pt x="17" y="59"/>
                    </a:lnTo>
                    <a:lnTo>
                      <a:pt x="27" y="56"/>
                    </a:lnTo>
                    <a:lnTo>
                      <a:pt x="38" y="54"/>
                    </a:lnTo>
                    <a:lnTo>
                      <a:pt x="50" y="50"/>
                    </a:lnTo>
                    <a:lnTo>
                      <a:pt x="61" y="46"/>
                    </a:lnTo>
                    <a:lnTo>
                      <a:pt x="72" y="41"/>
                    </a:lnTo>
                    <a:lnTo>
                      <a:pt x="83" y="35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14960" y="404172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78" h="86">
                    <a:moveTo>
                      <a:pt x="43" y="10"/>
                    </a:moveTo>
                    <a:lnTo>
                      <a:pt x="43" y="10"/>
                    </a:lnTo>
                    <a:lnTo>
                      <a:pt x="43" y="12"/>
                    </a:lnTo>
                    <a:lnTo>
                      <a:pt x="43" y="14"/>
                    </a:lnTo>
                    <a:lnTo>
                      <a:pt x="43" y="16"/>
                    </a:lnTo>
                    <a:lnTo>
                      <a:pt x="42" y="17"/>
                    </a:lnTo>
                    <a:lnTo>
                      <a:pt x="38" y="24"/>
                    </a:lnTo>
                    <a:lnTo>
                      <a:pt x="33" y="30"/>
                    </a:lnTo>
                    <a:lnTo>
                      <a:pt x="26" y="38"/>
                    </a:lnTo>
                    <a:lnTo>
                      <a:pt x="18" y="45"/>
                    </a:lnTo>
                    <a:lnTo>
                      <a:pt x="8" y="52"/>
                    </a:lnTo>
                    <a:lnTo>
                      <a:pt x="0" y="58"/>
                    </a:lnTo>
                    <a:lnTo>
                      <a:pt x="21" y="86"/>
                    </a:lnTo>
                    <a:lnTo>
                      <a:pt x="30" y="80"/>
                    </a:lnTo>
                    <a:lnTo>
                      <a:pt x="39" y="72"/>
                    </a:lnTo>
                    <a:lnTo>
                      <a:pt x="49" y="64"/>
                    </a:lnTo>
                    <a:lnTo>
                      <a:pt x="58" y="54"/>
                    </a:lnTo>
                    <a:lnTo>
                      <a:pt x="67" y="44"/>
                    </a:lnTo>
                    <a:lnTo>
                      <a:pt x="73" y="32"/>
                    </a:lnTo>
                    <a:lnTo>
                      <a:pt x="76" y="24"/>
                    </a:lnTo>
                    <a:lnTo>
                      <a:pt x="78" y="17"/>
                    </a:lnTo>
                    <a:lnTo>
                      <a:pt x="78" y="9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003800" y="402120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31"/>
                    </a:moveTo>
                    <a:lnTo>
                      <a:pt x="0" y="31"/>
                    </a:lnTo>
                    <a:lnTo>
                      <a:pt x="12" y="36"/>
                    </a:lnTo>
                    <a:lnTo>
                      <a:pt x="25" y="39"/>
                    </a:lnTo>
                    <a:lnTo>
                      <a:pt x="37" y="43"/>
                    </a:lnTo>
                    <a:lnTo>
                      <a:pt x="48" y="46"/>
                    </a:lnTo>
                    <a:lnTo>
                      <a:pt x="57" y="50"/>
                    </a:lnTo>
                    <a:lnTo>
                      <a:pt x="64" y="55"/>
                    </a:lnTo>
                    <a:lnTo>
                      <a:pt x="66" y="56"/>
                    </a:lnTo>
                    <a:lnTo>
                      <a:pt x="67" y="58"/>
                    </a:lnTo>
                    <a:lnTo>
                      <a:pt x="69" y="60"/>
                    </a:lnTo>
                    <a:lnTo>
                      <a:pt x="70" y="62"/>
                    </a:lnTo>
                    <a:lnTo>
                      <a:pt x="102" y="52"/>
                    </a:lnTo>
                    <a:lnTo>
                      <a:pt x="100" y="45"/>
                    </a:lnTo>
                    <a:lnTo>
                      <a:pt x="96" y="38"/>
                    </a:lnTo>
                    <a:lnTo>
                      <a:pt x="90" y="32"/>
                    </a:lnTo>
                    <a:lnTo>
                      <a:pt x="84" y="26"/>
                    </a:lnTo>
                    <a:lnTo>
                      <a:pt x="72" y="19"/>
                    </a:lnTo>
                    <a:lnTo>
                      <a:pt x="60" y="14"/>
                    </a:lnTo>
                    <a:lnTo>
                      <a:pt x="47" y="9"/>
                    </a:lnTo>
                    <a:lnTo>
                      <a:pt x="35" y="6"/>
                    </a:lnTo>
                    <a:lnTo>
                      <a:pt x="23" y="3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62760" y="4006800"/>
                <a:ext cx="47160" cy="25560"/>
              </a:xfrm>
              <a:custGeom>
                <a:avLst/>
                <a:gdLst/>
                <a:ahLst/>
                <a:rect l="l" t="t" r="r" b="b"/>
                <a:pathLst>
                  <a:path w="119" h="67">
                    <a:moveTo>
                      <a:pt x="0" y="30"/>
                    </a:moveTo>
                    <a:lnTo>
                      <a:pt x="0" y="30"/>
                    </a:lnTo>
                    <a:lnTo>
                      <a:pt x="13" y="37"/>
                    </a:lnTo>
                    <a:lnTo>
                      <a:pt x="27" y="42"/>
                    </a:lnTo>
                    <a:lnTo>
                      <a:pt x="41" y="46"/>
                    </a:lnTo>
                    <a:lnTo>
                      <a:pt x="54" y="50"/>
                    </a:lnTo>
                    <a:lnTo>
                      <a:pt x="67" y="55"/>
                    </a:lnTo>
                    <a:lnTo>
                      <a:pt x="80" y="58"/>
                    </a:lnTo>
                    <a:lnTo>
                      <a:pt x="92" y="62"/>
                    </a:lnTo>
                    <a:lnTo>
                      <a:pt x="104" y="67"/>
                    </a:lnTo>
                    <a:lnTo>
                      <a:pt x="119" y="36"/>
                    </a:lnTo>
                    <a:lnTo>
                      <a:pt x="104" y="30"/>
                    </a:lnTo>
                    <a:lnTo>
                      <a:pt x="91" y="25"/>
                    </a:lnTo>
                    <a:lnTo>
                      <a:pt x="77" y="21"/>
                    </a:lnTo>
                    <a:lnTo>
                      <a:pt x="63" y="18"/>
                    </a:lnTo>
                    <a:lnTo>
                      <a:pt x="51" y="14"/>
                    </a:lnTo>
                    <a:lnTo>
                      <a:pt x="39" y="9"/>
                    </a:lnTo>
                    <a:lnTo>
                      <a:pt x="27" y="4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39000" y="3989520"/>
                <a:ext cx="29520" cy="28440"/>
              </a:xfrm>
              <a:custGeom>
                <a:avLst/>
                <a:gdLst/>
                <a:ahLst/>
                <a:rect l="l" t="t" r="r" b="b"/>
                <a:pathLst>
                  <a:path w="77" h="74">
                    <a:moveTo>
                      <a:pt x="0" y="21"/>
                    </a:moveTo>
                    <a:lnTo>
                      <a:pt x="0" y="21"/>
                    </a:lnTo>
                    <a:lnTo>
                      <a:pt x="6" y="28"/>
                    </a:lnTo>
                    <a:lnTo>
                      <a:pt x="12" y="36"/>
                    </a:lnTo>
                    <a:lnTo>
                      <a:pt x="19" y="44"/>
                    </a:lnTo>
                    <a:lnTo>
                      <a:pt x="26" y="51"/>
                    </a:lnTo>
                    <a:lnTo>
                      <a:pt x="35" y="57"/>
                    </a:lnTo>
                    <a:lnTo>
                      <a:pt x="43" y="63"/>
                    </a:lnTo>
                    <a:lnTo>
                      <a:pt x="51" y="69"/>
                    </a:lnTo>
                    <a:lnTo>
                      <a:pt x="60" y="74"/>
                    </a:lnTo>
                    <a:lnTo>
                      <a:pt x="77" y="44"/>
                    </a:lnTo>
                    <a:lnTo>
                      <a:pt x="69" y="39"/>
                    </a:lnTo>
                    <a:lnTo>
                      <a:pt x="62" y="35"/>
                    </a:lnTo>
                    <a:lnTo>
                      <a:pt x="56" y="30"/>
                    </a:lnTo>
                    <a:lnTo>
                      <a:pt x="50" y="24"/>
                    </a:lnTo>
                    <a:lnTo>
                      <a:pt x="44" y="18"/>
                    </a:lnTo>
                    <a:lnTo>
                      <a:pt x="38" y="12"/>
                    </a:lnTo>
                    <a:lnTo>
                      <a:pt x="32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926040" y="3965400"/>
                <a:ext cx="23760" cy="3204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8"/>
                    </a:moveTo>
                    <a:lnTo>
                      <a:pt x="0" y="8"/>
                    </a:lnTo>
                    <a:lnTo>
                      <a:pt x="3" y="17"/>
                    </a:lnTo>
                    <a:lnTo>
                      <a:pt x="5" y="27"/>
                    </a:lnTo>
                    <a:lnTo>
                      <a:pt x="9" y="36"/>
                    </a:lnTo>
                    <a:lnTo>
                      <a:pt x="13" y="46"/>
                    </a:lnTo>
                    <a:lnTo>
                      <a:pt x="17" y="54"/>
                    </a:lnTo>
                    <a:lnTo>
                      <a:pt x="22" y="64"/>
                    </a:lnTo>
                    <a:lnTo>
                      <a:pt x="28" y="72"/>
                    </a:lnTo>
                    <a:lnTo>
                      <a:pt x="34" y="81"/>
                    </a:lnTo>
                    <a:lnTo>
                      <a:pt x="61" y="60"/>
                    </a:lnTo>
                    <a:lnTo>
                      <a:pt x="57" y="53"/>
                    </a:lnTo>
                    <a:lnTo>
                      <a:pt x="52" y="46"/>
                    </a:lnTo>
                    <a:lnTo>
                      <a:pt x="48" y="39"/>
                    </a:lnTo>
                    <a:lnTo>
                      <a:pt x="45" y="32"/>
                    </a:lnTo>
                    <a:lnTo>
                      <a:pt x="41" y="23"/>
                    </a:lnTo>
                    <a:lnTo>
                      <a:pt x="39" y="16"/>
                    </a:lnTo>
                    <a:lnTo>
                      <a:pt x="36" y="8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924600" y="39416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38" h="65">
                    <a:moveTo>
                      <a:pt x="14" y="0"/>
                    </a:moveTo>
                    <a:lnTo>
                      <a:pt x="14" y="0"/>
                    </a:lnTo>
                    <a:lnTo>
                      <a:pt x="8" y="7"/>
                    </a:lnTo>
                    <a:lnTo>
                      <a:pt x="3" y="17"/>
                    </a:lnTo>
                    <a:lnTo>
                      <a:pt x="1" y="25"/>
                    </a:lnTo>
                    <a:lnTo>
                      <a:pt x="0" y="33"/>
                    </a:lnTo>
                    <a:lnTo>
                      <a:pt x="0" y="42"/>
                    </a:lnTo>
                    <a:lnTo>
                      <a:pt x="1" y="50"/>
                    </a:lnTo>
                    <a:lnTo>
                      <a:pt x="2" y="57"/>
                    </a:lnTo>
                    <a:lnTo>
                      <a:pt x="3" y="65"/>
                    </a:lnTo>
                    <a:lnTo>
                      <a:pt x="37" y="57"/>
                    </a:lnTo>
                    <a:lnTo>
                      <a:pt x="36" y="51"/>
                    </a:lnTo>
                    <a:lnTo>
                      <a:pt x="36" y="45"/>
                    </a:lnTo>
                    <a:lnTo>
                      <a:pt x="34" y="41"/>
                    </a:lnTo>
                    <a:lnTo>
                      <a:pt x="34" y="36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7" y="26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31080" y="3935520"/>
                <a:ext cx="28080" cy="1728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74" y="1"/>
                    </a:moveTo>
                    <a:lnTo>
                      <a:pt x="74" y="1"/>
                    </a:lnTo>
                    <a:lnTo>
                      <a:pt x="66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38" y="1"/>
                    </a:lnTo>
                    <a:lnTo>
                      <a:pt x="29" y="3"/>
                    </a:lnTo>
                    <a:lnTo>
                      <a:pt x="19" y="6"/>
                    </a:lnTo>
                    <a:lnTo>
                      <a:pt x="10" y="11"/>
                    </a:lnTo>
                    <a:lnTo>
                      <a:pt x="0" y="18"/>
                    </a:lnTo>
                    <a:lnTo>
                      <a:pt x="24" y="43"/>
                    </a:lnTo>
                    <a:lnTo>
                      <a:pt x="28" y="41"/>
                    </a:lnTo>
                    <a:lnTo>
                      <a:pt x="31" y="38"/>
                    </a:lnTo>
                    <a:lnTo>
                      <a:pt x="37" y="37"/>
                    </a:lnTo>
                    <a:lnTo>
                      <a:pt x="43" y="36"/>
                    </a:lnTo>
                    <a:lnTo>
                      <a:pt x="49" y="35"/>
                    </a:lnTo>
                    <a:lnTo>
                      <a:pt x="56" y="35"/>
                    </a:lnTo>
                    <a:lnTo>
                      <a:pt x="64" y="35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58080" y="3935520"/>
                <a:ext cx="32760" cy="23760"/>
              </a:xfrm>
              <a:custGeom>
                <a:avLst/>
                <a:gdLst/>
                <a:ahLst/>
                <a:rect l="l" t="t" r="r" b="b"/>
                <a:pathLst>
                  <a:path w="84" h="58">
                    <a:moveTo>
                      <a:pt x="84" y="24"/>
                    </a:moveTo>
                    <a:lnTo>
                      <a:pt x="84" y="24"/>
                    </a:lnTo>
                    <a:lnTo>
                      <a:pt x="75" y="22"/>
                    </a:lnTo>
                    <a:lnTo>
                      <a:pt x="67" y="19"/>
                    </a:lnTo>
                    <a:lnTo>
                      <a:pt x="57" y="16"/>
                    </a:lnTo>
                    <a:lnTo>
                      <a:pt x="48" y="12"/>
                    </a:lnTo>
                    <a:lnTo>
                      <a:pt x="37" y="8"/>
                    </a:lnTo>
                    <a:lnTo>
                      <a:pt x="26" y="5"/>
                    </a:lnTo>
                    <a:lnTo>
                      <a:pt x="15" y="1"/>
                    </a:lnTo>
                    <a:lnTo>
                      <a:pt x="3" y="0"/>
                    </a:lnTo>
                    <a:lnTo>
                      <a:pt x="0" y="35"/>
                    </a:lnTo>
                    <a:lnTo>
                      <a:pt x="8" y="36"/>
                    </a:lnTo>
                    <a:lnTo>
                      <a:pt x="17" y="37"/>
                    </a:lnTo>
                    <a:lnTo>
                      <a:pt x="26" y="41"/>
                    </a:lnTo>
                    <a:lnTo>
                      <a:pt x="35" y="44"/>
                    </a:lnTo>
                    <a:lnTo>
                      <a:pt x="45" y="48"/>
                    </a:lnTo>
                    <a:lnTo>
                      <a:pt x="55" y="52"/>
                    </a:lnTo>
                    <a:lnTo>
                      <a:pt x="66" y="55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84" y="2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989760" y="394488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101" h="47">
                    <a:moveTo>
                      <a:pt x="101" y="12"/>
                    </a:moveTo>
                    <a:lnTo>
                      <a:pt x="101" y="12"/>
                    </a:lnTo>
                    <a:lnTo>
                      <a:pt x="89" y="11"/>
                    </a:lnTo>
                    <a:lnTo>
                      <a:pt x="77" y="11"/>
                    </a:lnTo>
                    <a:lnTo>
                      <a:pt x="65" y="10"/>
                    </a:lnTo>
                    <a:lnTo>
                      <a:pt x="53" y="7"/>
                    </a:lnTo>
                    <a:lnTo>
                      <a:pt x="42" y="6"/>
                    </a:lnTo>
                    <a:lnTo>
                      <a:pt x="30" y="5"/>
                    </a:lnTo>
                    <a:lnTo>
                      <a:pt x="18" y="2"/>
                    </a:lnTo>
                    <a:lnTo>
                      <a:pt x="6" y="0"/>
                    </a:lnTo>
                    <a:lnTo>
                      <a:pt x="0" y="34"/>
                    </a:lnTo>
                    <a:lnTo>
                      <a:pt x="12" y="36"/>
                    </a:lnTo>
                    <a:lnTo>
                      <a:pt x="24" y="38"/>
                    </a:lnTo>
                    <a:lnTo>
                      <a:pt x="37" y="41"/>
                    </a:lnTo>
                    <a:lnTo>
                      <a:pt x="49" y="42"/>
                    </a:lnTo>
                    <a:lnTo>
                      <a:pt x="61" y="43"/>
                    </a:lnTo>
                    <a:lnTo>
                      <a:pt x="74" y="44"/>
                    </a:lnTo>
                    <a:lnTo>
                      <a:pt x="86" y="46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27920" y="3949560"/>
                <a:ext cx="43920" cy="14400"/>
              </a:xfrm>
              <a:custGeom>
                <a:avLst/>
                <a:gdLst/>
                <a:ahLst/>
                <a:rect l="l" t="t" r="r" b="b"/>
                <a:pathLst>
                  <a:path w="112" h="36">
                    <a:moveTo>
                      <a:pt x="111" y="0"/>
                    </a:moveTo>
                    <a:lnTo>
                      <a:pt x="111" y="0"/>
                    </a:lnTo>
                    <a:lnTo>
                      <a:pt x="96" y="0"/>
                    </a:lnTo>
                    <a:lnTo>
                      <a:pt x="83" y="1"/>
                    </a:lnTo>
                    <a:lnTo>
                      <a:pt x="70" y="1"/>
                    </a:lnTo>
                    <a:lnTo>
                      <a:pt x="57" y="1"/>
                    </a:lnTo>
                    <a:lnTo>
                      <a:pt x="42" y="1"/>
                    </a:lnTo>
                    <a:lnTo>
                      <a:pt x="29" y="1"/>
                    </a:lnTo>
                    <a:lnTo>
                      <a:pt x="16" y="1"/>
                    </a:lnTo>
                    <a:lnTo>
                      <a:pt x="3" y="0"/>
                    </a:lnTo>
                    <a:lnTo>
                      <a:pt x="0" y="35"/>
                    </a:lnTo>
                    <a:lnTo>
                      <a:pt x="15" y="35"/>
                    </a:lnTo>
                    <a:lnTo>
                      <a:pt x="29" y="36"/>
                    </a:lnTo>
                    <a:lnTo>
                      <a:pt x="42" y="36"/>
                    </a:lnTo>
                    <a:lnTo>
                      <a:pt x="57" y="36"/>
                    </a:lnTo>
                    <a:lnTo>
                      <a:pt x="70" y="36"/>
                    </a:lnTo>
                    <a:lnTo>
                      <a:pt x="84" y="36"/>
                    </a:lnTo>
                    <a:lnTo>
                      <a:pt x="97" y="35"/>
                    </a:lnTo>
                    <a:lnTo>
                      <a:pt x="112" y="35"/>
                    </a:lnTo>
                    <a:lnTo>
                      <a:pt x="112" y="35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72200" y="3946680"/>
                <a:ext cx="29880" cy="17280"/>
              </a:xfrm>
              <a:custGeom>
                <a:avLst/>
                <a:gdLst/>
                <a:ahLst/>
                <a:rect l="l" t="t" r="r" b="b"/>
                <a:pathLst>
                  <a:path w="76" h="42">
                    <a:moveTo>
                      <a:pt x="76" y="1"/>
                    </a:moveTo>
                    <a:lnTo>
                      <a:pt x="76" y="1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4" y="1"/>
                    </a:lnTo>
                    <a:lnTo>
                      <a:pt x="33" y="2"/>
                    </a:lnTo>
                    <a:lnTo>
                      <a:pt x="25" y="3"/>
                    </a:lnTo>
                    <a:lnTo>
                      <a:pt x="15" y="6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1" y="42"/>
                    </a:lnTo>
                    <a:lnTo>
                      <a:pt x="10" y="41"/>
                    </a:lnTo>
                    <a:lnTo>
                      <a:pt x="21" y="39"/>
                    </a:lnTo>
                    <a:lnTo>
                      <a:pt x="31" y="38"/>
                    </a:lnTo>
                    <a:lnTo>
                      <a:pt x="39" y="37"/>
                    </a:lnTo>
                    <a:lnTo>
                      <a:pt x="48" y="36"/>
                    </a:lnTo>
                    <a:lnTo>
                      <a:pt x="55" y="35"/>
                    </a:lnTo>
                    <a:lnTo>
                      <a:pt x="63" y="35"/>
                    </a:lnTo>
                    <a:lnTo>
                      <a:pt x="69" y="36"/>
                    </a:lnTo>
                    <a:lnTo>
                      <a:pt x="69" y="36"/>
                    </a:lnTo>
                    <a:lnTo>
                      <a:pt x="76" y="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99200" y="3948120"/>
                <a:ext cx="28080" cy="22320"/>
              </a:xfrm>
              <a:custGeom>
                <a:avLst/>
                <a:gdLst/>
                <a:ahLst/>
                <a:rect l="l" t="t" r="r" b="b"/>
                <a:pathLst>
                  <a:path w="72" h="59">
                    <a:moveTo>
                      <a:pt x="72" y="37"/>
                    </a:moveTo>
                    <a:lnTo>
                      <a:pt x="72" y="37"/>
                    </a:lnTo>
                    <a:lnTo>
                      <a:pt x="65" y="30"/>
                    </a:lnTo>
                    <a:lnTo>
                      <a:pt x="58" y="23"/>
                    </a:lnTo>
                    <a:lnTo>
                      <a:pt x="51" y="17"/>
                    </a:lnTo>
                    <a:lnTo>
                      <a:pt x="42" y="12"/>
                    </a:lnTo>
                    <a:lnTo>
                      <a:pt x="34" y="8"/>
                    </a:lnTo>
                    <a:lnTo>
                      <a:pt x="24" y="5"/>
                    </a:lnTo>
                    <a:lnTo>
                      <a:pt x="16" y="2"/>
                    </a:lnTo>
                    <a:lnTo>
                      <a:pt x="7" y="0"/>
                    </a:lnTo>
                    <a:lnTo>
                      <a:pt x="0" y="35"/>
                    </a:lnTo>
                    <a:lnTo>
                      <a:pt x="7" y="36"/>
                    </a:lnTo>
                    <a:lnTo>
                      <a:pt x="13" y="37"/>
                    </a:lnTo>
                    <a:lnTo>
                      <a:pt x="19" y="40"/>
                    </a:lnTo>
                    <a:lnTo>
                      <a:pt x="25" y="43"/>
                    </a:lnTo>
                    <a:lnTo>
                      <a:pt x="31" y="47"/>
                    </a:lnTo>
                    <a:lnTo>
                      <a:pt x="36" y="50"/>
                    </a:lnTo>
                    <a:lnTo>
                      <a:pt x="41" y="54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72" y="3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16840" y="3962520"/>
                <a:ext cx="20160" cy="2988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9" y="67"/>
                    </a:moveTo>
                    <a:lnTo>
                      <a:pt x="49" y="67"/>
                    </a:lnTo>
                    <a:lnTo>
                      <a:pt x="46" y="60"/>
                    </a:lnTo>
                    <a:lnTo>
                      <a:pt x="45" y="52"/>
                    </a:lnTo>
                    <a:lnTo>
                      <a:pt x="44" y="45"/>
                    </a:lnTo>
                    <a:lnTo>
                      <a:pt x="43" y="36"/>
                    </a:lnTo>
                    <a:lnTo>
                      <a:pt x="40" y="27"/>
                    </a:lnTo>
                    <a:lnTo>
                      <a:pt x="37" y="18"/>
                    </a:lnTo>
                    <a:lnTo>
                      <a:pt x="33" y="9"/>
                    </a:lnTo>
                    <a:lnTo>
                      <a:pt x="27" y="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4" y="30"/>
                    </a:lnTo>
                    <a:lnTo>
                      <a:pt x="7" y="36"/>
                    </a:lnTo>
                    <a:lnTo>
                      <a:pt x="8" y="43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3" y="6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49" y="6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122960" y="3989520"/>
                <a:ext cx="28440" cy="66600"/>
              </a:xfrm>
              <a:custGeom>
                <a:avLst/>
                <a:gdLst/>
                <a:ahLst/>
                <a:rect l="l" t="t" r="r" b="b"/>
                <a:pathLst>
                  <a:path w="70" h="171">
                    <a:moveTo>
                      <a:pt x="70" y="165"/>
                    </a:moveTo>
                    <a:lnTo>
                      <a:pt x="70" y="165"/>
                    </a:lnTo>
                    <a:lnTo>
                      <a:pt x="66" y="144"/>
                    </a:lnTo>
                    <a:lnTo>
                      <a:pt x="63" y="123"/>
                    </a:lnTo>
                    <a:lnTo>
                      <a:pt x="58" y="102"/>
                    </a:lnTo>
                    <a:lnTo>
                      <a:pt x="53" y="82"/>
                    </a:lnTo>
                    <a:lnTo>
                      <a:pt x="48" y="62"/>
                    </a:lnTo>
                    <a:lnTo>
                      <a:pt x="43" y="41"/>
                    </a:lnTo>
                    <a:lnTo>
                      <a:pt x="39" y="21"/>
                    </a:lnTo>
                    <a:lnTo>
                      <a:pt x="34" y="0"/>
                    </a:lnTo>
                    <a:lnTo>
                      <a:pt x="0" y="9"/>
                    </a:lnTo>
                    <a:lnTo>
                      <a:pt x="5" y="29"/>
                    </a:lnTo>
                    <a:lnTo>
                      <a:pt x="10" y="50"/>
                    </a:lnTo>
                    <a:lnTo>
                      <a:pt x="15" y="69"/>
                    </a:lnTo>
                    <a:lnTo>
                      <a:pt x="19" y="89"/>
                    </a:lnTo>
                    <a:lnTo>
                      <a:pt x="24" y="110"/>
                    </a:lnTo>
                    <a:lnTo>
                      <a:pt x="29" y="130"/>
                    </a:lnTo>
                    <a:lnTo>
                      <a:pt x="33" y="150"/>
                    </a:lnTo>
                    <a:lnTo>
                      <a:pt x="36" y="171"/>
                    </a:lnTo>
                    <a:lnTo>
                      <a:pt x="36" y="171"/>
                    </a:lnTo>
                    <a:lnTo>
                      <a:pt x="70" y="16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137360" y="4054320"/>
                <a:ext cx="18720" cy="63720"/>
              </a:xfrm>
              <a:custGeom>
                <a:avLst/>
                <a:gdLst/>
                <a:ahLst/>
                <a:rect l="l" t="t" r="r" b="b"/>
                <a:pathLst>
                  <a:path w="46" h="158">
                    <a:moveTo>
                      <a:pt x="46" y="151"/>
                    </a:moveTo>
                    <a:lnTo>
                      <a:pt x="46" y="151"/>
                    </a:lnTo>
                    <a:lnTo>
                      <a:pt x="42" y="133"/>
                    </a:lnTo>
                    <a:lnTo>
                      <a:pt x="41" y="115"/>
                    </a:lnTo>
                    <a:lnTo>
                      <a:pt x="40" y="97"/>
                    </a:lnTo>
                    <a:lnTo>
                      <a:pt x="39" y="78"/>
                    </a:lnTo>
                    <a:lnTo>
                      <a:pt x="39" y="59"/>
                    </a:lnTo>
                    <a:lnTo>
                      <a:pt x="37" y="39"/>
                    </a:lnTo>
                    <a:lnTo>
                      <a:pt x="36" y="20"/>
                    </a:lnTo>
                    <a:lnTo>
                      <a:pt x="34" y="0"/>
                    </a:lnTo>
                    <a:lnTo>
                      <a:pt x="0" y="6"/>
                    </a:lnTo>
                    <a:lnTo>
                      <a:pt x="1" y="24"/>
                    </a:lnTo>
                    <a:lnTo>
                      <a:pt x="3" y="42"/>
                    </a:lnTo>
                    <a:lnTo>
                      <a:pt x="4" y="60"/>
                    </a:lnTo>
                    <a:lnTo>
                      <a:pt x="4" y="79"/>
                    </a:lnTo>
                    <a:lnTo>
                      <a:pt x="5" y="98"/>
                    </a:lnTo>
                    <a:lnTo>
                      <a:pt x="6" y="119"/>
                    </a:lnTo>
                    <a:lnTo>
                      <a:pt x="9" y="138"/>
                    </a:lnTo>
                    <a:lnTo>
                      <a:pt x="12" y="158"/>
                    </a:lnTo>
                    <a:lnTo>
                      <a:pt x="12" y="158"/>
                    </a:lnTo>
                    <a:lnTo>
                      <a:pt x="46" y="1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142040" y="4114800"/>
                <a:ext cx="28080" cy="4140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71" y="81"/>
                    </a:moveTo>
                    <a:lnTo>
                      <a:pt x="71" y="81"/>
                    </a:lnTo>
                    <a:lnTo>
                      <a:pt x="64" y="74"/>
                    </a:lnTo>
                    <a:lnTo>
                      <a:pt x="58" y="66"/>
                    </a:lnTo>
                    <a:lnTo>
                      <a:pt x="53" y="56"/>
                    </a:lnTo>
                    <a:lnTo>
                      <a:pt x="48" y="46"/>
                    </a:lnTo>
                    <a:lnTo>
                      <a:pt x="43" y="35"/>
                    </a:lnTo>
                    <a:lnTo>
                      <a:pt x="40" y="23"/>
                    </a:lnTo>
                    <a:lnTo>
                      <a:pt x="36" y="11"/>
                    </a:lnTo>
                    <a:lnTo>
                      <a:pt x="34" y="0"/>
                    </a:lnTo>
                    <a:lnTo>
                      <a:pt x="0" y="7"/>
                    </a:lnTo>
                    <a:lnTo>
                      <a:pt x="3" y="20"/>
                    </a:lnTo>
                    <a:lnTo>
                      <a:pt x="6" y="32"/>
                    </a:lnTo>
                    <a:lnTo>
                      <a:pt x="11" y="46"/>
                    </a:lnTo>
                    <a:lnTo>
                      <a:pt x="16" y="59"/>
                    </a:lnTo>
                    <a:lnTo>
                      <a:pt x="22" y="72"/>
                    </a:lnTo>
                    <a:lnTo>
                      <a:pt x="29" y="84"/>
                    </a:lnTo>
                    <a:lnTo>
                      <a:pt x="37" y="96"/>
                    </a:lnTo>
                    <a:lnTo>
                      <a:pt x="47" y="107"/>
                    </a:lnTo>
                    <a:lnTo>
                      <a:pt x="47" y="107"/>
                    </a:lnTo>
                    <a:lnTo>
                      <a:pt x="71" y="8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61120" y="414648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64" y="5"/>
                    </a:moveTo>
                    <a:lnTo>
                      <a:pt x="64" y="5"/>
                    </a:lnTo>
                    <a:lnTo>
                      <a:pt x="60" y="6"/>
                    </a:lnTo>
                    <a:lnTo>
                      <a:pt x="55" y="8"/>
                    </a:lnTo>
                    <a:lnTo>
                      <a:pt x="50" y="9"/>
                    </a:lnTo>
                    <a:lnTo>
                      <a:pt x="44" y="9"/>
                    </a:lnTo>
                    <a:lnTo>
                      <a:pt x="38" y="8"/>
                    </a:lnTo>
                    <a:lnTo>
                      <a:pt x="32" y="5"/>
                    </a:lnTo>
                    <a:lnTo>
                      <a:pt x="28" y="3"/>
                    </a:lnTo>
                    <a:lnTo>
                      <a:pt x="24" y="0"/>
                    </a:lnTo>
                    <a:lnTo>
                      <a:pt x="0" y="26"/>
                    </a:lnTo>
                    <a:lnTo>
                      <a:pt x="10" y="33"/>
                    </a:lnTo>
                    <a:lnTo>
                      <a:pt x="19" y="38"/>
                    </a:lnTo>
                    <a:lnTo>
                      <a:pt x="30" y="41"/>
                    </a:lnTo>
                    <a:lnTo>
                      <a:pt x="40" y="42"/>
                    </a:lnTo>
                    <a:lnTo>
                      <a:pt x="52" y="44"/>
                    </a:lnTo>
                    <a:lnTo>
                      <a:pt x="62" y="42"/>
                    </a:lnTo>
                    <a:lnTo>
                      <a:pt x="73" y="39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64" y="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86680" y="4106880"/>
                <a:ext cx="43920" cy="52200"/>
              </a:xfrm>
              <a:custGeom>
                <a:avLst/>
                <a:gdLst/>
                <a:ahLst/>
                <a:rect l="l" t="t" r="r" b="b"/>
                <a:pathLst>
                  <a:path w="114" h="133">
                    <a:moveTo>
                      <a:pt x="86" y="0"/>
                    </a:moveTo>
                    <a:lnTo>
                      <a:pt x="86" y="0"/>
                    </a:lnTo>
                    <a:lnTo>
                      <a:pt x="75" y="14"/>
                    </a:lnTo>
                    <a:lnTo>
                      <a:pt x="64" y="30"/>
                    </a:lnTo>
                    <a:lnTo>
                      <a:pt x="55" y="44"/>
                    </a:lnTo>
                    <a:lnTo>
                      <a:pt x="44" y="59"/>
                    </a:lnTo>
                    <a:lnTo>
                      <a:pt x="34" y="72"/>
                    </a:lnTo>
                    <a:lnTo>
                      <a:pt x="24" y="84"/>
                    </a:lnTo>
                    <a:lnTo>
                      <a:pt x="12" y="96"/>
                    </a:lnTo>
                    <a:lnTo>
                      <a:pt x="0" y="105"/>
                    </a:lnTo>
                    <a:lnTo>
                      <a:pt x="19" y="133"/>
                    </a:lnTo>
                    <a:lnTo>
                      <a:pt x="34" y="122"/>
                    </a:lnTo>
                    <a:lnTo>
                      <a:pt x="49" y="108"/>
                    </a:lnTo>
                    <a:lnTo>
                      <a:pt x="61" y="94"/>
                    </a:lnTo>
                    <a:lnTo>
                      <a:pt x="73" y="79"/>
                    </a:lnTo>
                    <a:lnTo>
                      <a:pt x="84" y="65"/>
                    </a:lnTo>
                    <a:lnTo>
                      <a:pt x="93" y="49"/>
                    </a:lnTo>
                    <a:lnTo>
                      <a:pt x="104" y="35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21600" y="4049640"/>
                <a:ext cx="50400" cy="65160"/>
              </a:xfrm>
              <a:custGeom>
                <a:avLst/>
                <a:gdLst/>
                <a:ahLst/>
                <a:rect l="l" t="t" r="r" b="b"/>
                <a:pathLst>
                  <a:path w="131" h="165">
                    <a:moveTo>
                      <a:pt x="103" y="0"/>
                    </a:moveTo>
                    <a:lnTo>
                      <a:pt x="103" y="0"/>
                    </a:lnTo>
                    <a:lnTo>
                      <a:pt x="90" y="18"/>
                    </a:lnTo>
                    <a:lnTo>
                      <a:pt x="77" y="36"/>
                    </a:lnTo>
                    <a:lnTo>
                      <a:pt x="64" y="54"/>
                    </a:lnTo>
                    <a:lnTo>
                      <a:pt x="52" y="73"/>
                    </a:lnTo>
                    <a:lnTo>
                      <a:pt x="38" y="91"/>
                    </a:lnTo>
                    <a:lnTo>
                      <a:pt x="26" y="109"/>
                    </a:lnTo>
                    <a:lnTo>
                      <a:pt x="13" y="127"/>
                    </a:lnTo>
                    <a:lnTo>
                      <a:pt x="0" y="145"/>
                    </a:lnTo>
                    <a:lnTo>
                      <a:pt x="28" y="165"/>
                    </a:lnTo>
                    <a:lnTo>
                      <a:pt x="41" y="147"/>
                    </a:lnTo>
                    <a:lnTo>
                      <a:pt x="54" y="129"/>
                    </a:lnTo>
                    <a:lnTo>
                      <a:pt x="67" y="110"/>
                    </a:lnTo>
                    <a:lnTo>
                      <a:pt x="80" y="92"/>
                    </a:lnTo>
                    <a:lnTo>
                      <a:pt x="92" y="74"/>
                    </a:lnTo>
                    <a:lnTo>
                      <a:pt x="104" y="56"/>
                    </a:lnTo>
                    <a:lnTo>
                      <a:pt x="118" y="38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61200" y="4010040"/>
                <a:ext cx="43920" cy="47520"/>
              </a:xfrm>
              <a:custGeom>
                <a:avLst/>
                <a:gdLst/>
                <a:ahLst/>
                <a:rect l="l" t="t" r="r" b="b"/>
                <a:pathLst>
                  <a:path w="111" h="120">
                    <a:moveTo>
                      <a:pt x="88" y="0"/>
                    </a:moveTo>
                    <a:lnTo>
                      <a:pt x="88" y="0"/>
                    </a:lnTo>
                    <a:lnTo>
                      <a:pt x="75" y="11"/>
                    </a:lnTo>
                    <a:lnTo>
                      <a:pt x="64" y="23"/>
                    </a:lnTo>
                    <a:lnTo>
                      <a:pt x="52" y="35"/>
                    </a:lnTo>
                    <a:lnTo>
                      <a:pt x="41" y="48"/>
                    </a:lnTo>
                    <a:lnTo>
                      <a:pt x="30" y="61"/>
                    </a:lnTo>
                    <a:lnTo>
                      <a:pt x="21" y="73"/>
                    </a:lnTo>
                    <a:lnTo>
                      <a:pt x="10" y="86"/>
                    </a:lnTo>
                    <a:lnTo>
                      <a:pt x="0" y="100"/>
                    </a:lnTo>
                    <a:lnTo>
                      <a:pt x="28" y="120"/>
                    </a:lnTo>
                    <a:lnTo>
                      <a:pt x="37" y="108"/>
                    </a:lnTo>
                    <a:lnTo>
                      <a:pt x="48" y="95"/>
                    </a:lnTo>
                    <a:lnTo>
                      <a:pt x="58" y="83"/>
                    </a:lnTo>
                    <a:lnTo>
                      <a:pt x="67" y="71"/>
                    </a:lnTo>
                    <a:lnTo>
                      <a:pt x="78" y="59"/>
                    </a:lnTo>
                    <a:lnTo>
                      <a:pt x="88" y="47"/>
                    </a:lnTo>
                    <a:lnTo>
                      <a:pt x="100" y="36"/>
                    </a:lnTo>
                    <a:lnTo>
                      <a:pt x="111" y="26"/>
                    </a:lnTo>
                    <a:lnTo>
                      <a:pt x="111" y="26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96120" y="3995640"/>
                <a:ext cx="32760" cy="23760"/>
              </a:xfrm>
              <a:custGeom>
                <a:avLst/>
                <a:gdLst/>
                <a:ahLst/>
                <a:rect l="l" t="t" r="r" b="b"/>
                <a:pathLst>
                  <a:path w="83" h="61">
                    <a:moveTo>
                      <a:pt x="83" y="18"/>
                    </a:moveTo>
                    <a:lnTo>
                      <a:pt x="83" y="18"/>
                    </a:lnTo>
                    <a:lnTo>
                      <a:pt x="79" y="11"/>
                    </a:lnTo>
                    <a:lnTo>
                      <a:pt x="72" y="4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3" y="4"/>
                    </a:lnTo>
                    <a:lnTo>
                      <a:pt x="32" y="9"/>
                    </a:lnTo>
                    <a:lnTo>
                      <a:pt x="23" y="16"/>
                    </a:lnTo>
                    <a:lnTo>
                      <a:pt x="14" y="22"/>
                    </a:lnTo>
                    <a:lnTo>
                      <a:pt x="6" y="29"/>
                    </a:lnTo>
                    <a:lnTo>
                      <a:pt x="0" y="35"/>
                    </a:lnTo>
                    <a:lnTo>
                      <a:pt x="23" y="61"/>
                    </a:lnTo>
                    <a:lnTo>
                      <a:pt x="29" y="55"/>
                    </a:lnTo>
                    <a:lnTo>
                      <a:pt x="36" y="49"/>
                    </a:lnTo>
                    <a:lnTo>
                      <a:pt x="44" y="43"/>
                    </a:lnTo>
                    <a:lnTo>
                      <a:pt x="50" y="39"/>
                    </a:lnTo>
                    <a:lnTo>
                      <a:pt x="56" y="35"/>
                    </a:lnTo>
                    <a:lnTo>
                      <a:pt x="60" y="35"/>
                    </a:lnTo>
                    <a:lnTo>
                      <a:pt x="56" y="35"/>
                    </a:lnTo>
                    <a:lnTo>
                      <a:pt x="53" y="34"/>
                    </a:lnTo>
                    <a:lnTo>
                      <a:pt x="50" y="30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83" y="1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13400" y="4003560"/>
                <a:ext cx="20520" cy="7308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34" y="186"/>
                    </a:moveTo>
                    <a:lnTo>
                      <a:pt x="34" y="186"/>
                    </a:lnTo>
                    <a:lnTo>
                      <a:pt x="38" y="163"/>
                    </a:lnTo>
                    <a:lnTo>
                      <a:pt x="43" y="141"/>
                    </a:lnTo>
                    <a:lnTo>
                      <a:pt x="47" y="118"/>
                    </a:lnTo>
                    <a:lnTo>
                      <a:pt x="49" y="94"/>
                    </a:lnTo>
                    <a:lnTo>
                      <a:pt x="50" y="71"/>
                    </a:lnTo>
                    <a:lnTo>
                      <a:pt x="49" y="47"/>
                    </a:lnTo>
                    <a:lnTo>
                      <a:pt x="46" y="23"/>
                    </a:lnTo>
                    <a:lnTo>
                      <a:pt x="40" y="0"/>
                    </a:lnTo>
                    <a:lnTo>
                      <a:pt x="6" y="11"/>
                    </a:lnTo>
                    <a:lnTo>
                      <a:pt x="11" y="30"/>
                    </a:lnTo>
                    <a:lnTo>
                      <a:pt x="14" y="51"/>
                    </a:lnTo>
                    <a:lnTo>
                      <a:pt x="16" y="71"/>
                    </a:lnTo>
                    <a:lnTo>
                      <a:pt x="14" y="93"/>
                    </a:lnTo>
                    <a:lnTo>
                      <a:pt x="13" y="113"/>
                    </a:lnTo>
                    <a:lnTo>
                      <a:pt x="10" y="135"/>
                    </a:lnTo>
                    <a:lnTo>
                      <a:pt x="5" y="156"/>
                    </a:lnTo>
                    <a:lnTo>
                      <a:pt x="0" y="177"/>
                    </a:lnTo>
                    <a:lnTo>
                      <a:pt x="0" y="177"/>
                    </a:lnTo>
                    <a:lnTo>
                      <a:pt x="34" y="18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65880" y="4073400"/>
                <a:ext cx="60120" cy="120600"/>
              </a:xfrm>
              <a:custGeom>
                <a:avLst/>
                <a:gdLst/>
                <a:ahLst/>
                <a:rect l="l" t="t" r="r" b="b"/>
                <a:pathLst>
                  <a:path w="154" h="303">
                    <a:moveTo>
                      <a:pt x="31" y="303"/>
                    </a:moveTo>
                    <a:lnTo>
                      <a:pt x="31" y="303"/>
                    </a:lnTo>
                    <a:lnTo>
                      <a:pt x="48" y="267"/>
                    </a:lnTo>
                    <a:lnTo>
                      <a:pt x="65" y="231"/>
                    </a:lnTo>
                    <a:lnTo>
                      <a:pt x="82" y="195"/>
                    </a:lnTo>
                    <a:lnTo>
                      <a:pt x="98" y="159"/>
                    </a:lnTo>
                    <a:lnTo>
                      <a:pt x="114" y="122"/>
                    </a:lnTo>
                    <a:lnTo>
                      <a:pt x="128" y="85"/>
                    </a:lnTo>
                    <a:lnTo>
                      <a:pt x="142" y="48"/>
                    </a:lnTo>
                    <a:lnTo>
                      <a:pt x="154" y="9"/>
                    </a:lnTo>
                    <a:lnTo>
                      <a:pt x="120" y="0"/>
                    </a:lnTo>
                    <a:lnTo>
                      <a:pt x="109" y="37"/>
                    </a:lnTo>
                    <a:lnTo>
                      <a:pt x="96" y="73"/>
                    </a:lnTo>
                    <a:lnTo>
                      <a:pt x="82" y="109"/>
                    </a:lnTo>
                    <a:lnTo>
                      <a:pt x="67" y="145"/>
                    </a:lnTo>
                    <a:lnTo>
                      <a:pt x="50" y="181"/>
                    </a:lnTo>
                    <a:lnTo>
                      <a:pt x="34" y="217"/>
                    </a:lnTo>
                    <a:lnTo>
                      <a:pt x="17" y="251"/>
                    </a:lnTo>
                    <a:lnTo>
                      <a:pt x="0" y="287"/>
                    </a:lnTo>
                    <a:lnTo>
                      <a:pt x="0" y="287"/>
                    </a:lnTo>
                    <a:lnTo>
                      <a:pt x="31" y="30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30960" y="4187880"/>
                <a:ext cx="47160" cy="66600"/>
              </a:xfrm>
              <a:custGeom>
                <a:avLst/>
                <a:gdLst/>
                <a:ahLst/>
                <a:rect l="l" t="t" r="r" b="b"/>
                <a:pathLst>
                  <a:path w="120" h="171">
                    <a:moveTo>
                      <a:pt x="27" y="171"/>
                    </a:moveTo>
                    <a:lnTo>
                      <a:pt x="27" y="171"/>
                    </a:lnTo>
                    <a:lnTo>
                      <a:pt x="41" y="153"/>
                    </a:lnTo>
                    <a:lnTo>
                      <a:pt x="54" y="134"/>
                    </a:lnTo>
                    <a:lnTo>
                      <a:pt x="66" y="114"/>
                    </a:lnTo>
                    <a:lnTo>
                      <a:pt x="78" y="95"/>
                    </a:lnTo>
                    <a:lnTo>
                      <a:pt x="89" y="76"/>
                    </a:lnTo>
                    <a:lnTo>
                      <a:pt x="100" y="56"/>
                    </a:lnTo>
                    <a:lnTo>
                      <a:pt x="111" y="35"/>
                    </a:lnTo>
                    <a:lnTo>
                      <a:pt x="120" y="16"/>
                    </a:lnTo>
                    <a:lnTo>
                      <a:pt x="89" y="0"/>
                    </a:lnTo>
                    <a:lnTo>
                      <a:pt x="79" y="20"/>
                    </a:lnTo>
                    <a:lnTo>
                      <a:pt x="69" y="40"/>
                    </a:lnTo>
                    <a:lnTo>
                      <a:pt x="59" y="59"/>
                    </a:lnTo>
                    <a:lnTo>
                      <a:pt x="48" y="77"/>
                    </a:lnTo>
                    <a:lnTo>
                      <a:pt x="37" y="96"/>
                    </a:lnTo>
                    <a:lnTo>
                      <a:pt x="25" y="114"/>
                    </a:lnTo>
                    <a:lnTo>
                      <a:pt x="13" y="131"/>
                    </a:lnTo>
                    <a:lnTo>
                      <a:pt x="0" y="148"/>
                    </a:lnTo>
                    <a:lnTo>
                      <a:pt x="0" y="148"/>
                    </a:lnTo>
                    <a:lnTo>
                      <a:pt x="27" y="17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194600" y="4246560"/>
                <a:ext cx="45360" cy="38160"/>
              </a:xfrm>
              <a:custGeom>
                <a:avLst/>
                <a:gdLst/>
                <a:ahLst/>
                <a:rect l="l" t="t" r="r" b="b"/>
                <a:pathLst>
                  <a:path w="117" h="97">
                    <a:moveTo>
                      <a:pt x="24" y="97"/>
                    </a:moveTo>
                    <a:lnTo>
                      <a:pt x="24" y="97"/>
                    </a:lnTo>
                    <a:lnTo>
                      <a:pt x="34" y="89"/>
                    </a:lnTo>
                    <a:lnTo>
                      <a:pt x="46" y="80"/>
                    </a:lnTo>
                    <a:lnTo>
                      <a:pt x="57" y="72"/>
                    </a:lnTo>
                    <a:lnTo>
                      <a:pt x="70" y="64"/>
                    </a:lnTo>
                    <a:lnTo>
                      <a:pt x="82" y="55"/>
                    </a:lnTo>
                    <a:lnTo>
                      <a:pt x="94" y="46"/>
                    </a:lnTo>
                    <a:lnTo>
                      <a:pt x="106" y="35"/>
                    </a:lnTo>
                    <a:lnTo>
                      <a:pt x="117" y="23"/>
                    </a:lnTo>
                    <a:lnTo>
                      <a:pt x="90" y="0"/>
                    </a:lnTo>
                    <a:lnTo>
                      <a:pt x="82" y="10"/>
                    </a:lnTo>
                    <a:lnTo>
                      <a:pt x="72" y="19"/>
                    </a:lnTo>
                    <a:lnTo>
                      <a:pt x="61" y="26"/>
                    </a:lnTo>
                    <a:lnTo>
                      <a:pt x="49" y="35"/>
                    </a:lnTo>
                    <a:lnTo>
                      <a:pt x="37" y="43"/>
                    </a:lnTo>
                    <a:lnTo>
                      <a:pt x="25" y="52"/>
                    </a:lnTo>
                    <a:lnTo>
                      <a:pt x="12" y="6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4" y="9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178760" y="427356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5" h="60">
                    <a:moveTo>
                      <a:pt x="34" y="60"/>
                    </a:moveTo>
                    <a:lnTo>
                      <a:pt x="34" y="60"/>
                    </a:lnTo>
                    <a:lnTo>
                      <a:pt x="35" y="56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4" y="44"/>
                    </a:lnTo>
                    <a:lnTo>
                      <a:pt x="48" y="41"/>
                    </a:lnTo>
                    <a:lnTo>
                      <a:pt x="53" y="36"/>
                    </a:lnTo>
                    <a:lnTo>
                      <a:pt x="59" y="31"/>
                    </a:lnTo>
                    <a:lnTo>
                      <a:pt x="65" y="26"/>
                    </a:lnTo>
                    <a:lnTo>
                      <a:pt x="41" y="0"/>
                    </a:lnTo>
                    <a:lnTo>
                      <a:pt x="36" y="5"/>
                    </a:lnTo>
                    <a:lnTo>
                      <a:pt x="32" y="9"/>
                    </a:lnTo>
                    <a:lnTo>
                      <a:pt x="26" y="14"/>
                    </a:lnTo>
                    <a:lnTo>
                      <a:pt x="20" y="20"/>
                    </a:lnTo>
                    <a:lnTo>
                      <a:pt x="14" y="26"/>
                    </a:lnTo>
                    <a:lnTo>
                      <a:pt x="8" y="33"/>
                    </a:lnTo>
                    <a:lnTo>
                      <a:pt x="3" y="42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176960" y="4294080"/>
                <a:ext cx="17280" cy="31680"/>
              </a:xfrm>
              <a:custGeom>
                <a:avLst/>
                <a:gdLst/>
                <a:ahLst/>
                <a:rect l="l" t="t" r="r" b="b"/>
                <a:pathLst>
                  <a:path w="42" h="80">
                    <a:moveTo>
                      <a:pt x="42" y="51"/>
                    </a:moveTo>
                    <a:lnTo>
                      <a:pt x="42" y="51"/>
                    </a:lnTo>
                    <a:lnTo>
                      <a:pt x="39" y="48"/>
                    </a:lnTo>
                    <a:lnTo>
                      <a:pt x="38" y="46"/>
                    </a:lnTo>
                    <a:lnTo>
                      <a:pt x="36" y="41"/>
                    </a:lnTo>
                    <a:lnTo>
                      <a:pt x="35" y="36"/>
                    </a:lnTo>
                    <a:lnTo>
                      <a:pt x="35" y="29"/>
                    </a:lnTo>
                    <a:lnTo>
                      <a:pt x="35" y="22"/>
                    </a:lnTo>
                    <a:lnTo>
                      <a:pt x="36" y="15"/>
                    </a:lnTo>
                    <a:lnTo>
                      <a:pt x="37" y="9"/>
                    </a:lnTo>
                    <a:lnTo>
                      <a:pt x="3" y="0"/>
                    </a:lnTo>
                    <a:lnTo>
                      <a:pt x="1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1" y="40"/>
                    </a:lnTo>
                    <a:lnTo>
                      <a:pt x="2" y="51"/>
                    </a:lnTo>
                    <a:lnTo>
                      <a:pt x="7" y="62"/>
                    </a:lnTo>
                    <a:lnTo>
                      <a:pt x="13" y="71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42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86680" y="4314960"/>
                <a:ext cx="47160" cy="20520"/>
              </a:xfrm>
              <a:custGeom>
                <a:avLst/>
                <a:gdLst/>
                <a:ahLst/>
                <a:rect l="l" t="t" r="r" b="b"/>
                <a:pathLst>
                  <a:path w="121" h="53">
                    <a:moveTo>
                      <a:pt x="116" y="15"/>
                    </a:moveTo>
                    <a:lnTo>
                      <a:pt x="116" y="15"/>
                    </a:lnTo>
                    <a:lnTo>
                      <a:pt x="103" y="17"/>
                    </a:lnTo>
                    <a:lnTo>
                      <a:pt x="90" y="18"/>
                    </a:lnTo>
                    <a:lnTo>
                      <a:pt x="76" y="18"/>
                    </a:lnTo>
                    <a:lnTo>
                      <a:pt x="64" y="15"/>
                    </a:lnTo>
                    <a:lnTo>
                      <a:pt x="51" y="13"/>
                    </a:lnTo>
                    <a:lnTo>
                      <a:pt x="40" y="9"/>
                    </a:lnTo>
                    <a:lnTo>
                      <a:pt x="28" y="6"/>
                    </a:lnTo>
                    <a:lnTo>
                      <a:pt x="19" y="0"/>
                    </a:lnTo>
                    <a:lnTo>
                      <a:pt x="0" y="29"/>
                    </a:lnTo>
                    <a:lnTo>
                      <a:pt x="14" y="37"/>
                    </a:lnTo>
                    <a:lnTo>
                      <a:pt x="28" y="43"/>
                    </a:lnTo>
                    <a:lnTo>
                      <a:pt x="44" y="48"/>
                    </a:lnTo>
                    <a:lnTo>
                      <a:pt x="60" y="50"/>
                    </a:lnTo>
                    <a:lnTo>
                      <a:pt x="75" y="51"/>
                    </a:lnTo>
                    <a:lnTo>
                      <a:pt x="91" y="53"/>
                    </a:lnTo>
                    <a:lnTo>
                      <a:pt x="106" y="51"/>
                    </a:lnTo>
                    <a:lnTo>
                      <a:pt x="121" y="49"/>
                    </a:lnTo>
                    <a:lnTo>
                      <a:pt x="121" y="49"/>
                    </a:lnTo>
                    <a:lnTo>
                      <a:pt x="116" y="1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232400" y="4300560"/>
                <a:ext cx="48960" cy="33480"/>
              </a:xfrm>
              <a:custGeom>
                <a:avLst/>
                <a:gdLst/>
                <a:ahLst/>
                <a:rect l="l" t="t" r="r" b="b"/>
                <a:pathLst>
                  <a:path w="124" h="83">
                    <a:moveTo>
                      <a:pt x="98" y="0"/>
                    </a:moveTo>
                    <a:lnTo>
                      <a:pt x="98" y="0"/>
                    </a:lnTo>
                    <a:lnTo>
                      <a:pt x="89" y="10"/>
                    </a:lnTo>
                    <a:lnTo>
                      <a:pt x="78" y="18"/>
                    </a:lnTo>
                    <a:lnTo>
                      <a:pt x="66" y="25"/>
                    </a:lnTo>
                    <a:lnTo>
                      <a:pt x="54" y="33"/>
                    </a:lnTo>
                    <a:lnTo>
                      <a:pt x="41" y="37"/>
                    </a:lnTo>
                    <a:lnTo>
                      <a:pt x="28" y="42"/>
                    </a:lnTo>
                    <a:lnTo>
                      <a:pt x="13" y="47"/>
                    </a:lnTo>
                    <a:lnTo>
                      <a:pt x="0" y="49"/>
                    </a:lnTo>
                    <a:lnTo>
                      <a:pt x="5" y="83"/>
                    </a:lnTo>
                    <a:lnTo>
                      <a:pt x="22" y="81"/>
                    </a:lnTo>
                    <a:lnTo>
                      <a:pt x="37" y="76"/>
                    </a:lnTo>
                    <a:lnTo>
                      <a:pt x="54" y="70"/>
                    </a:lnTo>
                    <a:lnTo>
                      <a:pt x="70" y="64"/>
                    </a:lnTo>
                    <a:lnTo>
                      <a:pt x="84" y="55"/>
                    </a:lnTo>
                    <a:lnTo>
                      <a:pt x="98" y="46"/>
                    </a:lnTo>
                    <a:lnTo>
                      <a:pt x="112" y="35"/>
                    </a:lnTo>
                    <a:lnTo>
                      <a:pt x="124" y="24"/>
                    </a:lnTo>
                    <a:lnTo>
                      <a:pt x="124" y="24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72360" y="4224240"/>
                <a:ext cx="58320" cy="85680"/>
              </a:xfrm>
              <a:custGeom>
                <a:avLst/>
                <a:gdLst/>
                <a:ahLst/>
                <a:rect l="l" t="t" r="r" b="b"/>
                <a:pathLst>
                  <a:path w="148" h="217">
                    <a:moveTo>
                      <a:pt x="122" y="0"/>
                    </a:moveTo>
                    <a:lnTo>
                      <a:pt x="122" y="0"/>
                    </a:lnTo>
                    <a:lnTo>
                      <a:pt x="104" y="25"/>
                    </a:lnTo>
                    <a:lnTo>
                      <a:pt x="88" y="50"/>
                    </a:lnTo>
                    <a:lnTo>
                      <a:pt x="74" y="76"/>
                    </a:lnTo>
                    <a:lnTo>
                      <a:pt x="60" y="101"/>
                    </a:lnTo>
                    <a:lnTo>
                      <a:pt x="47" y="126"/>
                    </a:lnTo>
                    <a:lnTo>
                      <a:pt x="33" y="150"/>
                    </a:lnTo>
                    <a:lnTo>
                      <a:pt x="26" y="162"/>
                    </a:lnTo>
                    <a:lnTo>
                      <a:pt x="17" y="173"/>
                    </a:lnTo>
                    <a:lnTo>
                      <a:pt x="10" y="184"/>
                    </a:lnTo>
                    <a:lnTo>
                      <a:pt x="0" y="193"/>
                    </a:lnTo>
                    <a:lnTo>
                      <a:pt x="26" y="217"/>
                    </a:lnTo>
                    <a:lnTo>
                      <a:pt x="36" y="205"/>
                    </a:lnTo>
                    <a:lnTo>
                      <a:pt x="46" y="193"/>
                    </a:lnTo>
                    <a:lnTo>
                      <a:pt x="54" y="181"/>
                    </a:lnTo>
                    <a:lnTo>
                      <a:pt x="63" y="168"/>
                    </a:lnTo>
                    <a:lnTo>
                      <a:pt x="77" y="143"/>
                    </a:lnTo>
                    <a:lnTo>
                      <a:pt x="92" y="118"/>
                    </a:lnTo>
                    <a:lnTo>
                      <a:pt x="105" y="92"/>
                    </a:lnTo>
                    <a:lnTo>
                      <a:pt x="118" y="67"/>
                    </a:lnTo>
                    <a:lnTo>
                      <a:pt x="132" y="43"/>
                    </a:lnTo>
                    <a:lnTo>
                      <a:pt x="148" y="22"/>
                    </a:lnTo>
                    <a:lnTo>
                      <a:pt x="148" y="22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319880" y="4179960"/>
                <a:ext cx="53640" cy="52200"/>
              </a:xfrm>
              <a:custGeom>
                <a:avLst/>
                <a:gdLst/>
                <a:ahLst/>
                <a:rect l="l" t="t" r="r" b="b"/>
                <a:pathLst>
                  <a:path w="138" h="135">
                    <a:moveTo>
                      <a:pt x="118" y="0"/>
                    </a:moveTo>
                    <a:lnTo>
                      <a:pt x="118" y="0"/>
                    </a:lnTo>
                    <a:lnTo>
                      <a:pt x="102" y="12"/>
                    </a:lnTo>
                    <a:lnTo>
                      <a:pt x="85" y="25"/>
                    </a:lnTo>
                    <a:lnTo>
                      <a:pt x="69" y="39"/>
                    </a:lnTo>
                    <a:lnTo>
                      <a:pt x="55" y="53"/>
                    </a:lnTo>
                    <a:lnTo>
                      <a:pt x="39" y="67"/>
                    </a:lnTo>
                    <a:lnTo>
                      <a:pt x="26" y="82"/>
                    </a:lnTo>
                    <a:lnTo>
                      <a:pt x="12" y="97"/>
                    </a:lnTo>
                    <a:lnTo>
                      <a:pt x="0" y="113"/>
                    </a:lnTo>
                    <a:lnTo>
                      <a:pt x="26" y="135"/>
                    </a:lnTo>
                    <a:lnTo>
                      <a:pt x="38" y="120"/>
                    </a:lnTo>
                    <a:lnTo>
                      <a:pt x="51" y="106"/>
                    </a:lnTo>
                    <a:lnTo>
                      <a:pt x="64" y="91"/>
                    </a:lnTo>
                    <a:lnTo>
                      <a:pt x="79" y="78"/>
                    </a:lnTo>
                    <a:lnTo>
                      <a:pt x="92" y="65"/>
                    </a:lnTo>
                    <a:lnTo>
                      <a:pt x="108" y="52"/>
                    </a:lnTo>
                    <a:lnTo>
                      <a:pt x="122" y="40"/>
                    </a:lnTo>
                    <a:lnTo>
                      <a:pt x="138" y="29"/>
                    </a:lnTo>
                    <a:lnTo>
                      <a:pt x="138" y="29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67400" y="416412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102" h="68">
                    <a:moveTo>
                      <a:pt x="102" y="1"/>
                    </a:moveTo>
                    <a:lnTo>
                      <a:pt x="102" y="1"/>
                    </a:lnTo>
                    <a:lnTo>
                      <a:pt x="88" y="0"/>
                    </a:lnTo>
                    <a:lnTo>
                      <a:pt x="74" y="2"/>
                    </a:lnTo>
                    <a:lnTo>
                      <a:pt x="59" y="6"/>
                    </a:lnTo>
                    <a:lnTo>
                      <a:pt x="46" y="12"/>
                    </a:lnTo>
                    <a:lnTo>
                      <a:pt x="34" y="18"/>
                    </a:lnTo>
                    <a:lnTo>
                      <a:pt x="22" y="25"/>
                    </a:lnTo>
                    <a:lnTo>
                      <a:pt x="10" y="32"/>
                    </a:lnTo>
                    <a:lnTo>
                      <a:pt x="0" y="39"/>
                    </a:lnTo>
                    <a:lnTo>
                      <a:pt x="20" y="68"/>
                    </a:lnTo>
                    <a:lnTo>
                      <a:pt x="30" y="61"/>
                    </a:lnTo>
                    <a:lnTo>
                      <a:pt x="40" y="55"/>
                    </a:lnTo>
                    <a:lnTo>
                      <a:pt x="51" y="49"/>
                    </a:lnTo>
                    <a:lnTo>
                      <a:pt x="60" y="43"/>
                    </a:lnTo>
                    <a:lnTo>
                      <a:pt x="71" y="39"/>
                    </a:lnTo>
                    <a:lnTo>
                      <a:pt x="81" y="36"/>
                    </a:lnTo>
                    <a:lnTo>
                      <a:pt x="90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102" y="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405560" y="416412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93" h="83">
                    <a:moveTo>
                      <a:pt x="93" y="59"/>
                    </a:moveTo>
                    <a:lnTo>
                      <a:pt x="93" y="59"/>
                    </a:lnTo>
                    <a:lnTo>
                      <a:pt x="85" y="50"/>
                    </a:lnTo>
                    <a:lnTo>
                      <a:pt x="75" y="41"/>
                    </a:lnTo>
                    <a:lnTo>
                      <a:pt x="66" y="32"/>
                    </a:lnTo>
                    <a:lnTo>
                      <a:pt x="56" y="23"/>
                    </a:lnTo>
                    <a:lnTo>
                      <a:pt x="44" y="14"/>
                    </a:lnTo>
                    <a:lnTo>
                      <a:pt x="32" y="7"/>
                    </a:lnTo>
                    <a:lnTo>
                      <a:pt x="19" y="2"/>
                    </a:lnTo>
                    <a:lnTo>
                      <a:pt x="3" y="0"/>
                    </a:lnTo>
                    <a:lnTo>
                      <a:pt x="0" y="33"/>
                    </a:lnTo>
                    <a:lnTo>
                      <a:pt x="8" y="36"/>
                    </a:lnTo>
                    <a:lnTo>
                      <a:pt x="17" y="39"/>
                    </a:lnTo>
                    <a:lnTo>
                      <a:pt x="26" y="44"/>
                    </a:lnTo>
                    <a:lnTo>
                      <a:pt x="35" y="50"/>
                    </a:lnTo>
                    <a:lnTo>
                      <a:pt x="43" y="57"/>
                    </a:lnTo>
                    <a:lnTo>
                      <a:pt x="51" y="66"/>
                    </a:lnTo>
                    <a:lnTo>
                      <a:pt x="60" y="74"/>
                    </a:lnTo>
                    <a:lnTo>
                      <a:pt x="68" y="83"/>
                    </a:lnTo>
                    <a:lnTo>
                      <a:pt x="68" y="83"/>
                    </a:ln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432560" y="4187880"/>
                <a:ext cx="33120" cy="41400"/>
              </a:xfrm>
              <a:custGeom>
                <a:avLst/>
                <a:gdLst/>
                <a:ahLst/>
                <a:rect l="l" t="t" r="r" b="b"/>
                <a:pathLst>
                  <a:path w="82" h="105">
                    <a:moveTo>
                      <a:pt x="82" y="88"/>
                    </a:moveTo>
                    <a:lnTo>
                      <a:pt x="82" y="88"/>
                    </a:lnTo>
                    <a:lnTo>
                      <a:pt x="76" y="78"/>
                    </a:lnTo>
                    <a:lnTo>
                      <a:pt x="70" y="67"/>
                    </a:lnTo>
                    <a:lnTo>
                      <a:pt x="64" y="55"/>
                    </a:lnTo>
                    <a:lnTo>
                      <a:pt x="58" y="44"/>
                    </a:lnTo>
                    <a:lnTo>
                      <a:pt x="51" y="32"/>
                    </a:lnTo>
                    <a:lnTo>
                      <a:pt x="43" y="21"/>
                    </a:lnTo>
                    <a:lnTo>
                      <a:pt x="35" y="10"/>
                    </a:lnTo>
                    <a:lnTo>
                      <a:pt x="25" y="0"/>
                    </a:lnTo>
                    <a:lnTo>
                      <a:pt x="0" y="24"/>
                    </a:lnTo>
                    <a:lnTo>
                      <a:pt x="7" y="32"/>
                    </a:lnTo>
                    <a:lnTo>
                      <a:pt x="15" y="42"/>
                    </a:lnTo>
                    <a:lnTo>
                      <a:pt x="21" y="51"/>
                    </a:lnTo>
                    <a:lnTo>
                      <a:pt x="28" y="62"/>
                    </a:lnTo>
                    <a:lnTo>
                      <a:pt x="34" y="73"/>
                    </a:lnTo>
                    <a:lnTo>
                      <a:pt x="40" y="84"/>
                    </a:lnTo>
                    <a:lnTo>
                      <a:pt x="46" y="94"/>
                    </a:lnTo>
                    <a:lnTo>
                      <a:pt x="53" y="105"/>
                    </a:lnTo>
                    <a:lnTo>
                      <a:pt x="53" y="105"/>
                    </a:lnTo>
                    <a:lnTo>
                      <a:pt x="82" y="8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454880" y="4222800"/>
                <a:ext cx="39240" cy="57240"/>
              </a:xfrm>
              <a:custGeom>
                <a:avLst/>
                <a:gdLst/>
                <a:ahLst/>
                <a:rect l="l" t="t" r="r" b="b"/>
                <a:pathLst>
                  <a:path w="103" h="142">
                    <a:moveTo>
                      <a:pt x="103" y="130"/>
                    </a:moveTo>
                    <a:lnTo>
                      <a:pt x="103" y="130"/>
                    </a:lnTo>
                    <a:lnTo>
                      <a:pt x="96" y="112"/>
                    </a:lnTo>
                    <a:lnTo>
                      <a:pt x="88" y="95"/>
                    </a:lnTo>
                    <a:lnTo>
                      <a:pt x="78" y="78"/>
                    </a:lnTo>
                    <a:lnTo>
                      <a:pt x="68" y="62"/>
                    </a:lnTo>
                    <a:lnTo>
                      <a:pt x="59" y="46"/>
                    </a:lnTo>
                    <a:lnTo>
                      <a:pt x="48" y="30"/>
                    </a:lnTo>
                    <a:lnTo>
                      <a:pt x="38" y="15"/>
                    </a:lnTo>
                    <a:lnTo>
                      <a:pt x="29" y="0"/>
                    </a:lnTo>
                    <a:lnTo>
                      <a:pt x="0" y="17"/>
                    </a:lnTo>
                    <a:lnTo>
                      <a:pt x="10" y="34"/>
                    </a:lnTo>
                    <a:lnTo>
                      <a:pt x="19" y="50"/>
                    </a:lnTo>
                    <a:lnTo>
                      <a:pt x="29" y="65"/>
                    </a:lnTo>
                    <a:lnTo>
                      <a:pt x="38" y="81"/>
                    </a:lnTo>
                    <a:lnTo>
                      <a:pt x="48" y="95"/>
                    </a:lnTo>
                    <a:lnTo>
                      <a:pt x="56" y="111"/>
                    </a:lnTo>
                    <a:lnTo>
                      <a:pt x="64" y="126"/>
                    </a:lnTo>
                    <a:lnTo>
                      <a:pt x="71" y="142"/>
                    </a:lnTo>
                    <a:lnTo>
                      <a:pt x="71" y="142"/>
                    </a:lnTo>
                    <a:lnTo>
                      <a:pt x="103" y="13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481880" y="4275000"/>
                <a:ext cx="18720" cy="36720"/>
              </a:xfrm>
              <a:custGeom>
                <a:avLst/>
                <a:gdLst/>
                <a:ahLst/>
                <a:rect l="l" t="t" r="r" b="b"/>
                <a:pathLst>
                  <a:path w="48" h="94">
                    <a:moveTo>
                      <a:pt x="45" y="94"/>
                    </a:moveTo>
                    <a:lnTo>
                      <a:pt x="45" y="94"/>
                    </a:lnTo>
                    <a:lnTo>
                      <a:pt x="47" y="82"/>
                    </a:lnTo>
                    <a:lnTo>
                      <a:pt x="48" y="70"/>
                    </a:lnTo>
                    <a:lnTo>
                      <a:pt x="47" y="58"/>
                    </a:lnTo>
                    <a:lnTo>
                      <a:pt x="45" y="46"/>
                    </a:lnTo>
                    <a:lnTo>
                      <a:pt x="43" y="34"/>
                    </a:lnTo>
                    <a:lnTo>
                      <a:pt x="39" y="22"/>
                    </a:lnTo>
                    <a:lnTo>
                      <a:pt x="36" y="11"/>
                    </a:lnTo>
                    <a:lnTo>
                      <a:pt x="32" y="0"/>
                    </a:lnTo>
                    <a:lnTo>
                      <a:pt x="0" y="12"/>
                    </a:lnTo>
                    <a:lnTo>
                      <a:pt x="3" y="22"/>
                    </a:lnTo>
                    <a:lnTo>
                      <a:pt x="7" y="31"/>
                    </a:lnTo>
                    <a:lnTo>
                      <a:pt x="9" y="41"/>
                    </a:lnTo>
                    <a:lnTo>
                      <a:pt x="11" y="50"/>
                    </a:lnTo>
                    <a:lnTo>
                      <a:pt x="12" y="60"/>
                    </a:lnTo>
                    <a:lnTo>
                      <a:pt x="13" y="70"/>
                    </a:lnTo>
                    <a:lnTo>
                      <a:pt x="13" y="79"/>
                    </a:lnTo>
                    <a:lnTo>
                      <a:pt x="12" y="88"/>
                    </a:lnTo>
                    <a:lnTo>
                      <a:pt x="12" y="88"/>
                    </a:lnTo>
                    <a:lnTo>
                      <a:pt x="45" y="9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478640" y="430848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2" y="63"/>
                    </a:moveTo>
                    <a:lnTo>
                      <a:pt x="2" y="63"/>
                    </a:lnTo>
                    <a:lnTo>
                      <a:pt x="14" y="61"/>
                    </a:lnTo>
                    <a:lnTo>
                      <a:pt x="23" y="56"/>
                    </a:lnTo>
                    <a:lnTo>
                      <a:pt x="32" y="49"/>
                    </a:lnTo>
                    <a:lnTo>
                      <a:pt x="39" y="42"/>
                    </a:lnTo>
                    <a:lnTo>
                      <a:pt x="44" y="33"/>
                    </a:lnTo>
                    <a:lnTo>
                      <a:pt x="48" y="25"/>
                    </a:lnTo>
                    <a:lnTo>
                      <a:pt x="52" y="15"/>
                    </a:lnTo>
                    <a:lnTo>
                      <a:pt x="54" y="6"/>
                    </a:lnTo>
                    <a:lnTo>
                      <a:pt x="21" y="0"/>
                    </a:lnTo>
                    <a:lnTo>
                      <a:pt x="18" y="4"/>
                    </a:lnTo>
                    <a:lnTo>
                      <a:pt x="17" y="10"/>
                    </a:lnTo>
                    <a:lnTo>
                      <a:pt x="15" y="15"/>
                    </a:lnTo>
                    <a:lnTo>
                      <a:pt x="11" y="20"/>
                    </a:lnTo>
                    <a:lnTo>
                      <a:pt x="8" y="24"/>
                    </a:lnTo>
                    <a:lnTo>
                      <a:pt x="5" y="26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443720" y="4307040"/>
                <a:ext cx="34560" cy="2700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25"/>
                    </a:moveTo>
                    <a:lnTo>
                      <a:pt x="0" y="25"/>
                    </a:lnTo>
                    <a:lnTo>
                      <a:pt x="9" y="34"/>
                    </a:lnTo>
                    <a:lnTo>
                      <a:pt x="20" y="41"/>
                    </a:lnTo>
                    <a:lnTo>
                      <a:pt x="29" y="48"/>
                    </a:lnTo>
                    <a:lnTo>
                      <a:pt x="41" y="54"/>
                    </a:lnTo>
                    <a:lnTo>
                      <a:pt x="53" y="60"/>
                    </a:lnTo>
                    <a:lnTo>
                      <a:pt x="65" y="64"/>
                    </a:lnTo>
                    <a:lnTo>
                      <a:pt x="78" y="66"/>
                    </a:lnTo>
                    <a:lnTo>
                      <a:pt x="92" y="67"/>
                    </a:lnTo>
                    <a:lnTo>
                      <a:pt x="90" y="32"/>
                    </a:lnTo>
                    <a:lnTo>
                      <a:pt x="82" y="31"/>
                    </a:lnTo>
                    <a:lnTo>
                      <a:pt x="74" y="30"/>
                    </a:lnTo>
                    <a:lnTo>
                      <a:pt x="65" y="28"/>
                    </a:lnTo>
                    <a:lnTo>
                      <a:pt x="57" y="24"/>
                    </a:lnTo>
                    <a:lnTo>
                      <a:pt x="48" y="19"/>
                    </a:lnTo>
                    <a:lnTo>
                      <a:pt x="40" y="13"/>
                    </a:lnTo>
                    <a:lnTo>
                      <a:pt x="32" y="7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413480" y="4267080"/>
                <a:ext cx="39240" cy="50760"/>
              </a:xfrm>
              <a:custGeom>
                <a:avLst/>
                <a:gdLst/>
                <a:ahLst/>
                <a:rect l="l" t="t" r="r" b="b"/>
                <a:pathLst>
                  <a:path w="99" h="126">
                    <a:moveTo>
                      <a:pt x="0" y="22"/>
                    </a:moveTo>
                    <a:lnTo>
                      <a:pt x="0" y="22"/>
                    </a:lnTo>
                    <a:lnTo>
                      <a:pt x="9" y="34"/>
                    </a:lnTo>
                    <a:lnTo>
                      <a:pt x="17" y="47"/>
                    </a:lnTo>
                    <a:lnTo>
                      <a:pt x="25" y="60"/>
                    </a:lnTo>
                    <a:lnTo>
                      <a:pt x="33" y="73"/>
                    </a:lnTo>
                    <a:lnTo>
                      <a:pt x="43" y="88"/>
                    </a:lnTo>
                    <a:lnTo>
                      <a:pt x="53" y="101"/>
                    </a:lnTo>
                    <a:lnTo>
                      <a:pt x="63" y="114"/>
                    </a:lnTo>
                    <a:lnTo>
                      <a:pt x="75" y="126"/>
                    </a:lnTo>
                    <a:lnTo>
                      <a:pt x="99" y="101"/>
                    </a:lnTo>
                    <a:lnTo>
                      <a:pt x="89" y="91"/>
                    </a:lnTo>
                    <a:lnTo>
                      <a:pt x="80" y="81"/>
                    </a:lnTo>
                    <a:lnTo>
                      <a:pt x="72" y="69"/>
                    </a:lnTo>
                    <a:lnTo>
                      <a:pt x="63" y="55"/>
                    </a:lnTo>
                    <a:lnTo>
                      <a:pt x="55" y="42"/>
                    </a:lnTo>
                    <a:lnTo>
                      <a:pt x="47" y="28"/>
                    </a:lnTo>
                    <a:lnTo>
                      <a:pt x="38" y="15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96200" y="424188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74" h="85">
                    <a:moveTo>
                      <a:pt x="0" y="27"/>
                    </a:moveTo>
                    <a:lnTo>
                      <a:pt x="0" y="27"/>
                    </a:lnTo>
                    <a:lnTo>
                      <a:pt x="6" y="32"/>
                    </a:lnTo>
                    <a:lnTo>
                      <a:pt x="12" y="38"/>
                    </a:lnTo>
                    <a:lnTo>
                      <a:pt x="17" y="45"/>
                    </a:lnTo>
                    <a:lnTo>
                      <a:pt x="23" y="52"/>
                    </a:lnTo>
                    <a:lnTo>
                      <a:pt x="28" y="60"/>
                    </a:lnTo>
                    <a:lnTo>
                      <a:pt x="34" y="68"/>
                    </a:lnTo>
                    <a:lnTo>
                      <a:pt x="40" y="76"/>
                    </a:lnTo>
                    <a:lnTo>
                      <a:pt x="45" y="85"/>
                    </a:lnTo>
                    <a:lnTo>
                      <a:pt x="74" y="63"/>
                    </a:lnTo>
                    <a:lnTo>
                      <a:pt x="68" y="56"/>
                    </a:lnTo>
                    <a:lnTo>
                      <a:pt x="63" y="48"/>
                    </a:lnTo>
                    <a:lnTo>
                      <a:pt x="57" y="40"/>
                    </a:lnTo>
                    <a:lnTo>
                      <a:pt x="51" y="32"/>
                    </a:lnTo>
                    <a:lnTo>
                      <a:pt x="45" y="24"/>
                    </a:lnTo>
                    <a:lnTo>
                      <a:pt x="38" y="15"/>
                    </a:lnTo>
                    <a:lnTo>
                      <a:pt x="30" y="7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1800" y="423864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27" y="33"/>
                    </a:moveTo>
                    <a:lnTo>
                      <a:pt x="27" y="33"/>
                    </a:lnTo>
                    <a:lnTo>
                      <a:pt x="26" y="34"/>
                    </a:lnTo>
                    <a:lnTo>
                      <a:pt x="25" y="35"/>
                    </a:lnTo>
                    <a:lnTo>
                      <a:pt x="26" y="35"/>
                    </a:lnTo>
                    <a:lnTo>
                      <a:pt x="27" y="34"/>
                    </a:lnTo>
                    <a:lnTo>
                      <a:pt x="29" y="35"/>
                    </a:lnTo>
                    <a:lnTo>
                      <a:pt x="31" y="35"/>
                    </a:lnTo>
                    <a:lnTo>
                      <a:pt x="32" y="36"/>
                    </a:lnTo>
                    <a:lnTo>
                      <a:pt x="33" y="36"/>
                    </a:lnTo>
                    <a:lnTo>
                      <a:pt x="54" y="9"/>
                    </a:lnTo>
                    <a:lnTo>
                      <a:pt x="48" y="5"/>
                    </a:lnTo>
                    <a:lnTo>
                      <a:pt x="42" y="3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7" y="3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353360" y="4243320"/>
                <a:ext cx="39240" cy="63720"/>
              </a:xfrm>
              <a:custGeom>
                <a:avLst/>
                <a:gdLst/>
                <a:ahLst/>
                <a:rect l="l" t="t" r="r" b="b"/>
                <a:pathLst>
                  <a:path w="102" h="159">
                    <a:moveTo>
                      <a:pt x="30" y="159"/>
                    </a:moveTo>
                    <a:lnTo>
                      <a:pt x="30" y="159"/>
                    </a:lnTo>
                    <a:lnTo>
                      <a:pt x="40" y="141"/>
                    </a:lnTo>
                    <a:lnTo>
                      <a:pt x="50" y="123"/>
                    </a:lnTo>
                    <a:lnTo>
                      <a:pt x="58" y="105"/>
                    </a:lnTo>
                    <a:lnTo>
                      <a:pt x="66" y="87"/>
                    </a:lnTo>
                    <a:lnTo>
                      <a:pt x="75" y="69"/>
                    </a:lnTo>
                    <a:lnTo>
                      <a:pt x="83" y="52"/>
                    </a:lnTo>
                    <a:lnTo>
                      <a:pt x="92" y="36"/>
                    </a:lnTo>
                    <a:lnTo>
                      <a:pt x="102" y="21"/>
                    </a:lnTo>
                    <a:lnTo>
                      <a:pt x="75" y="0"/>
                    </a:lnTo>
                    <a:lnTo>
                      <a:pt x="63" y="17"/>
                    </a:lnTo>
                    <a:lnTo>
                      <a:pt x="52" y="35"/>
                    </a:lnTo>
                    <a:lnTo>
                      <a:pt x="44" y="53"/>
                    </a:lnTo>
                    <a:lnTo>
                      <a:pt x="35" y="72"/>
                    </a:lnTo>
                    <a:lnTo>
                      <a:pt x="27" y="90"/>
                    </a:lnTo>
                    <a:lnTo>
                      <a:pt x="18" y="107"/>
                    </a:lnTo>
                    <a:lnTo>
                      <a:pt x="10" y="125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30" y="15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16640" y="4299120"/>
                <a:ext cx="47160" cy="61920"/>
              </a:xfrm>
              <a:custGeom>
                <a:avLst/>
                <a:gdLst/>
                <a:ahLst/>
                <a:rect l="l" t="t" r="r" b="b"/>
                <a:pathLst>
                  <a:path w="118" h="153">
                    <a:moveTo>
                      <a:pt x="26" y="153"/>
                    </a:moveTo>
                    <a:lnTo>
                      <a:pt x="26" y="153"/>
                    </a:lnTo>
                    <a:lnTo>
                      <a:pt x="39" y="138"/>
                    </a:lnTo>
                    <a:lnTo>
                      <a:pt x="51" y="121"/>
                    </a:lnTo>
                    <a:lnTo>
                      <a:pt x="63" y="104"/>
                    </a:lnTo>
                    <a:lnTo>
                      <a:pt x="75" y="87"/>
                    </a:lnTo>
                    <a:lnTo>
                      <a:pt x="86" y="69"/>
                    </a:lnTo>
                    <a:lnTo>
                      <a:pt x="97" y="52"/>
                    </a:lnTo>
                    <a:lnTo>
                      <a:pt x="108" y="36"/>
                    </a:lnTo>
                    <a:lnTo>
                      <a:pt x="118" y="18"/>
                    </a:lnTo>
                    <a:lnTo>
                      <a:pt x="88" y="0"/>
                    </a:lnTo>
                    <a:lnTo>
                      <a:pt x="79" y="18"/>
                    </a:lnTo>
                    <a:lnTo>
                      <a:pt x="68" y="34"/>
                    </a:lnTo>
                    <a:lnTo>
                      <a:pt x="57" y="51"/>
                    </a:lnTo>
                    <a:lnTo>
                      <a:pt x="46" y="68"/>
                    </a:lnTo>
                    <a:lnTo>
                      <a:pt x="36" y="84"/>
                    </a:lnTo>
                    <a:lnTo>
                      <a:pt x="24" y="100"/>
                    </a:lnTo>
                    <a:lnTo>
                      <a:pt x="12" y="11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26" y="15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75600" y="4351320"/>
                <a:ext cx="51840" cy="50760"/>
              </a:xfrm>
              <a:custGeom>
                <a:avLst/>
                <a:gdLst/>
                <a:ahLst/>
                <a:rect l="l" t="t" r="r" b="b"/>
                <a:pathLst>
                  <a:path w="133" h="129">
                    <a:moveTo>
                      <a:pt x="21" y="129"/>
                    </a:moveTo>
                    <a:lnTo>
                      <a:pt x="21" y="129"/>
                    </a:lnTo>
                    <a:lnTo>
                      <a:pt x="36" y="117"/>
                    </a:lnTo>
                    <a:lnTo>
                      <a:pt x="51" y="105"/>
                    </a:lnTo>
                    <a:lnTo>
                      <a:pt x="66" y="92"/>
                    </a:lnTo>
                    <a:lnTo>
                      <a:pt x="79" y="80"/>
                    </a:lnTo>
                    <a:lnTo>
                      <a:pt x="93" y="65"/>
                    </a:lnTo>
                    <a:lnTo>
                      <a:pt x="107" y="52"/>
                    </a:lnTo>
                    <a:lnTo>
                      <a:pt x="120" y="38"/>
                    </a:lnTo>
                    <a:lnTo>
                      <a:pt x="133" y="23"/>
                    </a:lnTo>
                    <a:lnTo>
                      <a:pt x="107" y="0"/>
                    </a:lnTo>
                    <a:lnTo>
                      <a:pt x="95" y="15"/>
                    </a:lnTo>
                    <a:lnTo>
                      <a:pt x="81" y="28"/>
                    </a:lnTo>
                    <a:lnTo>
                      <a:pt x="69" y="41"/>
                    </a:lnTo>
                    <a:lnTo>
                      <a:pt x="56" y="53"/>
                    </a:lnTo>
                    <a:lnTo>
                      <a:pt x="42" y="66"/>
                    </a:lnTo>
                    <a:lnTo>
                      <a:pt x="29" y="78"/>
                    </a:lnTo>
                    <a:lnTo>
                      <a:pt x="14" y="90"/>
                    </a:lnTo>
                    <a:lnTo>
                      <a:pt x="0" y="101"/>
                    </a:lnTo>
                    <a:lnTo>
                      <a:pt x="0" y="101"/>
                    </a:lnTo>
                    <a:lnTo>
                      <a:pt x="21" y="12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240320" y="4390920"/>
                <a:ext cx="42840" cy="33480"/>
              </a:xfrm>
              <a:custGeom>
                <a:avLst/>
                <a:gdLst/>
                <a:ahLst/>
                <a:rect l="l" t="t" r="r" b="b"/>
                <a:pathLst>
                  <a:path w="108" h="84">
                    <a:moveTo>
                      <a:pt x="12" y="84"/>
                    </a:moveTo>
                    <a:lnTo>
                      <a:pt x="12" y="84"/>
                    </a:lnTo>
                    <a:lnTo>
                      <a:pt x="26" y="79"/>
                    </a:lnTo>
                    <a:lnTo>
                      <a:pt x="39" y="73"/>
                    </a:lnTo>
                    <a:lnTo>
                      <a:pt x="51" y="66"/>
                    </a:lnTo>
                    <a:lnTo>
                      <a:pt x="63" y="59"/>
                    </a:lnTo>
                    <a:lnTo>
                      <a:pt x="75" y="52"/>
                    </a:lnTo>
                    <a:lnTo>
                      <a:pt x="86" y="45"/>
                    </a:lnTo>
                    <a:lnTo>
                      <a:pt x="98" y="36"/>
                    </a:lnTo>
                    <a:lnTo>
                      <a:pt x="108" y="28"/>
                    </a:lnTo>
                    <a:lnTo>
                      <a:pt x="87" y="0"/>
                    </a:lnTo>
                    <a:lnTo>
                      <a:pt x="76" y="9"/>
                    </a:lnTo>
                    <a:lnTo>
                      <a:pt x="66" y="16"/>
                    </a:lnTo>
                    <a:lnTo>
                      <a:pt x="56" y="23"/>
                    </a:lnTo>
                    <a:lnTo>
                      <a:pt x="45" y="30"/>
                    </a:lnTo>
                    <a:lnTo>
                      <a:pt x="34" y="36"/>
                    </a:lnTo>
                    <a:lnTo>
                      <a:pt x="23" y="42"/>
                    </a:lnTo>
                    <a:lnTo>
                      <a:pt x="11" y="4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2" y="8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05400" y="441180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102" h="50">
                    <a:moveTo>
                      <a:pt x="10" y="50"/>
                    </a:moveTo>
                    <a:lnTo>
                      <a:pt x="10" y="50"/>
                    </a:lnTo>
                    <a:lnTo>
                      <a:pt x="21" y="48"/>
                    </a:lnTo>
                    <a:lnTo>
                      <a:pt x="32" y="45"/>
                    </a:lnTo>
                    <a:lnTo>
                      <a:pt x="42" y="44"/>
                    </a:lnTo>
                    <a:lnTo>
                      <a:pt x="53" y="43"/>
                    </a:lnTo>
                    <a:lnTo>
                      <a:pt x="65" y="41"/>
                    </a:lnTo>
                    <a:lnTo>
                      <a:pt x="78" y="40"/>
                    </a:lnTo>
                    <a:lnTo>
                      <a:pt x="90" y="36"/>
                    </a:lnTo>
                    <a:lnTo>
                      <a:pt x="102" y="31"/>
                    </a:lnTo>
                    <a:lnTo>
                      <a:pt x="90" y="0"/>
                    </a:lnTo>
                    <a:lnTo>
                      <a:pt x="81" y="2"/>
                    </a:lnTo>
                    <a:lnTo>
                      <a:pt x="71" y="5"/>
                    </a:lnTo>
                    <a:lnTo>
                      <a:pt x="60" y="7"/>
                    </a:lnTo>
                    <a:lnTo>
                      <a:pt x="50" y="8"/>
                    </a:lnTo>
                    <a:lnTo>
                      <a:pt x="38" y="10"/>
                    </a:lnTo>
                    <a:lnTo>
                      <a:pt x="26" y="12"/>
                    </a:lnTo>
                    <a:lnTo>
                      <a:pt x="14" y="1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0" y="5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178760" y="4419720"/>
                <a:ext cx="29520" cy="1908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30" y="49"/>
                    </a:moveTo>
                    <a:lnTo>
                      <a:pt x="30" y="49"/>
                    </a:lnTo>
                    <a:lnTo>
                      <a:pt x="32" y="48"/>
                    </a:lnTo>
                    <a:lnTo>
                      <a:pt x="34" y="45"/>
                    </a:lnTo>
                    <a:lnTo>
                      <a:pt x="38" y="43"/>
                    </a:lnTo>
                    <a:lnTo>
                      <a:pt x="44" y="40"/>
                    </a:lnTo>
                    <a:lnTo>
                      <a:pt x="51" y="39"/>
                    </a:lnTo>
                    <a:lnTo>
                      <a:pt x="58" y="37"/>
                    </a:lnTo>
                    <a:lnTo>
                      <a:pt x="66" y="36"/>
                    </a:lnTo>
                    <a:lnTo>
                      <a:pt x="74" y="33"/>
                    </a:lnTo>
                    <a:lnTo>
                      <a:pt x="64" y="0"/>
                    </a:lnTo>
                    <a:lnTo>
                      <a:pt x="58" y="2"/>
                    </a:lnTo>
                    <a:lnTo>
                      <a:pt x="50" y="3"/>
                    </a:lnTo>
                    <a:lnTo>
                      <a:pt x="42" y="6"/>
                    </a:lnTo>
                    <a:lnTo>
                      <a:pt x="33" y="8"/>
                    </a:lnTo>
                    <a:lnTo>
                      <a:pt x="25" y="12"/>
                    </a:lnTo>
                    <a:lnTo>
                      <a:pt x="15" y="17"/>
                    </a:lnTo>
                    <a:lnTo>
                      <a:pt x="7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30" y="4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178760" y="443232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49" y="38"/>
                    </a:moveTo>
                    <a:lnTo>
                      <a:pt x="49" y="38"/>
                    </a:lnTo>
                    <a:lnTo>
                      <a:pt x="46" y="35"/>
                    </a:lnTo>
                    <a:lnTo>
                      <a:pt x="42" y="31"/>
                    </a:lnTo>
                    <a:lnTo>
                      <a:pt x="38" y="26"/>
                    </a:lnTo>
                    <a:lnTo>
                      <a:pt x="36" y="23"/>
                    </a:lnTo>
                    <a:lnTo>
                      <a:pt x="35" y="19"/>
                    </a:lnTo>
                    <a:lnTo>
                      <a:pt x="35" y="18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4" y="0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6" y="40"/>
                    </a:lnTo>
                    <a:lnTo>
                      <a:pt x="11" y="47"/>
                    </a:lnTo>
                    <a:lnTo>
                      <a:pt x="16" y="53"/>
                    </a:lnTo>
                    <a:lnTo>
                      <a:pt x="20" y="59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49" y="3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188120" y="4446720"/>
                <a:ext cx="42480" cy="3312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111" y="63"/>
                    </a:moveTo>
                    <a:lnTo>
                      <a:pt x="111" y="63"/>
                    </a:lnTo>
                    <a:lnTo>
                      <a:pt x="100" y="52"/>
                    </a:lnTo>
                    <a:lnTo>
                      <a:pt x="88" y="42"/>
                    </a:lnTo>
                    <a:lnTo>
                      <a:pt x="76" y="35"/>
                    </a:lnTo>
                    <a:lnTo>
                      <a:pt x="64" y="28"/>
                    </a:lnTo>
                    <a:lnTo>
                      <a:pt x="53" y="21"/>
                    </a:lnTo>
                    <a:lnTo>
                      <a:pt x="42" y="15"/>
                    </a:lnTo>
                    <a:lnTo>
                      <a:pt x="33" y="8"/>
                    </a:lnTo>
                    <a:lnTo>
                      <a:pt x="24" y="0"/>
                    </a:lnTo>
                    <a:lnTo>
                      <a:pt x="0" y="26"/>
                    </a:lnTo>
                    <a:lnTo>
                      <a:pt x="11" y="35"/>
                    </a:lnTo>
                    <a:lnTo>
                      <a:pt x="23" y="44"/>
                    </a:lnTo>
                    <a:lnTo>
                      <a:pt x="35" y="51"/>
                    </a:lnTo>
                    <a:lnTo>
                      <a:pt x="47" y="58"/>
                    </a:lnTo>
                    <a:lnTo>
                      <a:pt x="58" y="64"/>
                    </a:lnTo>
                    <a:lnTo>
                      <a:pt x="67" y="71"/>
                    </a:lnTo>
                    <a:lnTo>
                      <a:pt x="77" y="77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111" y="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221600" y="4471920"/>
                <a:ext cx="32760" cy="50760"/>
              </a:xfrm>
              <a:custGeom>
                <a:avLst/>
                <a:gdLst/>
                <a:ahLst/>
                <a:rect l="l" t="t" r="r" b="b"/>
                <a:pathLst>
                  <a:path w="83" h="127">
                    <a:moveTo>
                      <a:pt x="83" y="113"/>
                    </a:moveTo>
                    <a:lnTo>
                      <a:pt x="83" y="113"/>
                    </a:lnTo>
                    <a:lnTo>
                      <a:pt x="77" y="99"/>
                    </a:lnTo>
                    <a:lnTo>
                      <a:pt x="71" y="85"/>
                    </a:lnTo>
                    <a:lnTo>
                      <a:pt x="65" y="71"/>
                    </a:lnTo>
                    <a:lnTo>
                      <a:pt x="59" y="56"/>
                    </a:lnTo>
                    <a:lnTo>
                      <a:pt x="53" y="42"/>
                    </a:lnTo>
                    <a:lnTo>
                      <a:pt x="45" y="27"/>
                    </a:lnTo>
                    <a:lnTo>
                      <a:pt x="36" y="13"/>
                    </a:lnTo>
                    <a:lnTo>
                      <a:pt x="27" y="0"/>
                    </a:lnTo>
                    <a:lnTo>
                      <a:pt x="0" y="21"/>
                    </a:lnTo>
                    <a:lnTo>
                      <a:pt x="7" y="32"/>
                    </a:lnTo>
                    <a:lnTo>
                      <a:pt x="15" y="44"/>
                    </a:lnTo>
                    <a:lnTo>
                      <a:pt x="22" y="57"/>
                    </a:lnTo>
                    <a:lnTo>
                      <a:pt x="28" y="71"/>
                    </a:lnTo>
                    <a:lnTo>
                      <a:pt x="34" y="84"/>
                    </a:lnTo>
                    <a:lnTo>
                      <a:pt x="39" y="98"/>
                    </a:lnTo>
                    <a:lnTo>
                      <a:pt x="46" y="113"/>
                    </a:lnTo>
                    <a:lnTo>
                      <a:pt x="52" y="127"/>
                    </a:lnTo>
                    <a:lnTo>
                      <a:pt x="52" y="127"/>
                    </a:lnTo>
                    <a:lnTo>
                      <a:pt x="83" y="11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242120" y="4516560"/>
                <a:ext cx="39240" cy="68040"/>
              </a:xfrm>
              <a:custGeom>
                <a:avLst/>
                <a:gdLst/>
                <a:ahLst/>
                <a:rect l="l" t="t" r="r" b="b"/>
                <a:pathLst>
                  <a:path w="101" h="170">
                    <a:moveTo>
                      <a:pt x="101" y="146"/>
                    </a:moveTo>
                    <a:lnTo>
                      <a:pt x="101" y="146"/>
                    </a:lnTo>
                    <a:lnTo>
                      <a:pt x="95" y="140"/>
                    </a:lnTo>
                    <a:lnTo>
                      <a:pt x="90" y="133"/>
                    </a:lnTo>
                    <a:lnTo>
                      <a:pt x="84" y="124"/>
                    </a:lnTo>
                    <a:lnTo>
                      <a:pt x="79" y="117"/>
                    </a:lnTo>
                    <a:lnTo>
                      <a:pt x="71" y="99"/>
                    </a:lnTo>
                    <a:lnTo>
                      <a:pt x="63" y="80"/>
                    </a:lnTo>
                    <a:lnTo>
                      <a:pt x="56" y="61"/>
                    </a:lnTo>
                    <a:lnTo>
                      <a:pt x="48" y="40"/>
                    </a:lnTo>
                    <a:lnTo>
                      <a:pt x="41" y="20"/>
                    </a:lnTo>
                    <a:lnTo>
                      <a:pt x="31" y="0"/>
                    </a:lnTo>
                    <a:lnTo>
                      <a:pt x="0" y="14"/>
                    </a:lnTo>
                    <a:lnTo>
                      <a:pt x="8" y="33"/>
                    </a:lnTo>
                    <a:lnTo>
                      <a:pt x="15" y="52"/>
                    </a:lnTo>
                    <a:lnTo>
                      <a:pt x="23" y="73"/>
                    </a:lnTo>
                    <a:lnTo>
                      <a:pt x="31" y="93"/>
                    </a:lnTo>
                    <a:lnTo>
                      <a:pt x="39" y="114"/>
                    </a:lnTo>
                    <a:lnTo>
                      <a:pt x="49" y="133"/>
                    </a:lnTo>
                    <a:lnTo>
                      <a:pt x="55" y="142"/>
                    </a:lnTo>
                    <a:lnTo>
                      <a:pt x="61" y="152"/>
                    </a:lnTo>
                    <a:lnTo>
                      <a:pt x="68" y="162"/>
                    </a:lnTo>
                    <a:lnTo>
                      <a:pt x="75" y="170"/>
                    </a:lnTo>
                    <a:lnTo>
                      <a:pt x="75" y="170"/>
                    </a:lnTo>
                    <a:lnTo>
                      <a:pt x="101" y="14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72360" y="4575240"/>
                <a:ext cx="69480" cy="46080"/>
              </a:xfrm>
              <a:custGeom>
                <a:avLst/>
                <a:gdLst/>
                <a:ahLst/>
                <a:rect l="l" t="t" r="r" b="b"/>
                <a:pathLst>
                  <a:path w="179" h="119">
                    <a:moveTo>
                      <a:pt x="179" y="88"/>
                    </a:moveTo>
                    <a:lnTo>
                      <a:pt x="179" y="88"/>
                    </a:lnTo>
                    <a:lnTo>
                      <a:pt x="158" y="78"/>
                    </a:lnTo>
                    <a:lnTo>
                      <a:pt x="137" y="68"/>
                    </a:lnTo>
                    <a:lnTo>
                      <a:pt x="116" y="59"/>
                    </a:lnTo>
                    <a:lnTo>
                      <a:pt x="95" y="49"/>
                    </a:lnTo>
                    <a:lnTo>
                      <a:pt x="76" y="38"/>
                    </a:lnTo>
                    <a:lnTo>
                      <a:pt x="58" y="26"/>
                    </a:lnTo>
                    <a:lnTo>
                      <a:pt x="50" y="20"/>
                    </a:lnTo>
                    <a:lnTo>
                      <a:pt x="41" y="14"/>
                    </a:lnTo>
                    <a:lnTo>
                      <a:pt x="33" y="7"/>
                    </a:lnTo>
                    <a:lnTo>
                      <a:pt x="26" y="0"/>
                    </a:lnTo>
                    <a:lnTo>
                      <a:pt x="0" y="24"/>
                    </a:lnTo>
                    <a:lnTo>
                      <a:pt x="10" y="34"/>
                    </a:lnTo>
                    <a:lnTo>
                      <a:pt x="18" y="41"/>
                    </a:lnTo>
                    <a:lnTo>
                      <a:pt x="28" y="49"/>
                    </a:lnTo>
                    <a:lnTo>
                      <a:pt x="39" y="56"/>
                    </a:lnTo>
                    <a:lnTo>
                      <a:pt x="59" y="68"/>
                    </a:lnTo>
                    <a:lnTo>
                      <a:pt x="80" y="79"/>
                    </a:lnTo>
                    <a:lnTo>
                      <a:pt x="101" y="90"/>
                    </a:lnTo>
                    <a:lnTo>
                      <a:pt x="123" y="100"/>
                    </a:lnTo>
                    <a:lnTo>
                      <a:pt x="143" y="109"/>
                    </a:lnTo>
                    <a:lnTo>
                      <a:pt x="164" y="119"/>
                    </a:lnTo>
                    <a:lnTo>
                      <a:pt x="164" y="119"/>
                    </a:lnTo>
                    <a:lnTo>
                      <a:pt x="179" y="8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35720" y="4610160"/>
                <a:ext cx="55080" cy="30240"/>
              </a:xfrm>
              <a:custGeom>
                <a:avLst/>
                <a:gdLst/>
                <a:ahLst/>
                <a:rect l="l" t="t" r="r" b="b"/>
                <a:pathLst>
                  <a:path w="138" h="79">
                    <a:moveTo>
                      <a:pt x="138" y="49"/>
                    </a:moveTo>
                    <a:lnTo>
                      <a:pt x="138" y="49"/>
                    </a:lnTo>
                    <a:lnTo>
                      <a:pt x="122" y="40"/>
                    </a:lnTo>
                    <a:lnTo>
                      <a:pt x="105" y="33"/>
                    </a:lnTo>
                    <a:lnTo>
                      <a:pt x="90" y="27"/>
                    </a:lnTo>
                    <a:lnTo>
                      <a:pt x="74" y="22"/>
                    </a:lnTo>
                    <a:lnTo>
                      <a:pt x="58" y="16"/>
                    </a:lnTo>
                    <a:lnTo>
                      <a:pt x="43" y="12"/>
                    </a:lnTo>
                    <a:lnTo>
                      <a:pt x="28" y="6"/>
                    </a:lnTo>
                    <a:lnTo>
                      <a:pt x="15" y="0"/>
                    </a:lnTo>
                    <a:lnTo>
                      <a:pt x="0" y="31"/>
                    </a:lnTo>
                    <a:lnTo>
                      <a:pt x="15" y="38"/>
                    </a:lnTo>
                    <a:lnTo>
                      <a:pt x="31" y="44"/>
                    </a:lnTo>
                    <a:lnTo>
                      <a:pt x="48" y="50"/>
                    </a:lnTo>
                    <a:lnTo>
                      <a:pt x="63" y="55"/>
                    </a:lnTo>
                    <a:lnTo>
                      <a:pt x="78" y="60"/>
                    </a:lnTo>
                    <a:lnTo>
                      <a:pt x="93" y="66"/>
                    </a:lnTo>
                    <a:lnTo>
                      <a:pt x="106" y="72"/>
                    </a:lnTo>
                    <a:lnTo>
                      <a:pt x="120" y="79"/>
                    </a:lnTo>
                    <a:lnTo>
                      <a:pt x="120" y="79"/>
                    </a:lnTo>
                    <a:lnTo>
                      <a:pt x="138" y="4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383240" y="46292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68" y="59"/>
                    </a:moveTo>
                    <a:lnTo>
                      <a:pt x="68" y="59"/>
                    </a:lnTo>
                    <a:lnTo>
                      <a:pt x="64" y="49"/>
                    </a:lnTo>
                    <a:lnTo>
                      <a:pt x="60" y="39"/>
                    </a:lnTo>
                    <a:lnTo>
                      <a:pt x="54" y="31"/>
                    </a:lnTo>
                    <a:lnTo>
                      <a:pt x="48" y="24"/>
                    </a:lnTo>
                    <a:lnTo>
                      <a:pt x="40" y="17"/>
                    </a:lnTo>
                    <a:lnTo>
                      <a:pt x="33" y="11"/>
                    </a:lnTo>
                    <a:lnTo>
                      <a:pt x="25" y="5"/>
                    </a:lnTo>
                    <a:lnTo>
                      <a:pt x="18" y="0"/>
                    </a:lnTo>
                    <a:lnTo>
                      <a:pt x="0" y="30"/>
                    </a:lnTo>
                    <a:lnTo>
                      <a:pt x="6" y="33"/>
                    </a:lnTo>
                    <a:lnTo>
                      <a:pt x="12" y="38"/>
                    </a:lnTo>
                    <a:lnTo>
                      <a:pt x="16" y="43"/>
                    </a:lnTo>
                    <a:lnTo>
                      <a:pt x="22" y="47"/>
                    </a:lnTo>
                    <a:lnTo>
                      <a:pt x="26" y="53"/>
                    </a:lnTo>
                    <a:lnTo>
                      <a:pt x="30" y="57"/>
                    </a:lnTo>
                    <a:lnTo>
                      <a:pt x="32" y="62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68" y="5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397640" y="4653000"/>
                <a:ext cx="15480" cy="36360"/>
              </a:xfrm>
              <a:custGeom>
                <a:avLst/>
                <a:gdLst/>
                <a:ahLst/>
                <a:rect l="l" t="t" r="r" b="b"/>
                <a:pathLst>
                  <a:path w="41" h="93">
                    <a:moveTo>
                      <a:pt x="13" y="93"/>
                    </a:moveTo>
                    <a:lnTo>
                      <a:pt x="13" y="93"/>
                    </a:lnTo>
                    <a:lnTo>
                      <a:pt x="20" y="90"/>
                    </a:lnTo>
                    <a:lnTo>
                      <a:pt x="26" y="85"/>
                    </a:lnTo>
                    <a:lnTo>
                      <a:pt x="31" y="79"/>
                    </a:lnTo>
                    <a:lnTo>
                      <a:pt x="35" y="72"/>
                    </a:lnTo>
                    <a:lnTo>
                      <a:pt x="40" y="61"/>
                    </a:lnTo>
                    <a:lnTo>
                      <a:pt x="41" y="48"/>
                    </a:lnTo>
                    <a:lnTo>
                      <a:pt x="41" y="34"/>
                    </a:lnTo>
                    <a:lnTo>
                      <a:pt x="40" y="22"/>
                    </a:lnTo>
                    <a:lnTo>
                      <a:pt x="38" y="10"/>
                    </a:lnTo>
                    <a:lnTo>
                      <a:pt x="36" y="0"/>
                    </a:lnTo>
                    <a:lnTo>
                      <a:pt x="2" y="8"/>
                    </a:lnTo>
                    <a:lnTo>
                      <a:pt x="4" y="18"/>
                    </a:lnTo>
                    <a:lnTo>
                      <a:pt x="6" y="26"/>
                    </a:lnTo>
                    <a:lnTo>
                      <a:pt x="6" y="36"/>
                    </a:lnTo>
                    <a:lnTo>
                      <a:pt x="6" y="45"/>
                    </a:lnTo>
                    <a:lnTo>
                      <a:pt x="5" y="52"/>
                    </a:lnTo>
                    <a:lnTo>
                      <a:pt x="4" y="58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1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13" y="9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46880" y="4668840"/>
                <a:ext cx="55080" cy="23760"/>
              </a:xfrm>
              <a:custGeom>
                <a:avLst/>
                <a:gdLst/>
                <a:ahLst/>
                <a:rect l="l" t="t" r="r" b="b"/>
                <a:pathLst>
                  <a:path w="138" h="57">
                    <a:moveTo>
                      <a:pt x="0" y="33"/>
                    </a:moveTo>
                    <a:lnTo>
                      <a:pt x="0" y="33"/>
                    </a:lnTo>
                    <a:lnTo>
                      <a:pt x="15" y="38"/>
                    </a:lnTo>
                    <a:lnTo>
                      <a:pt x="31" y="43"/>
                    </a:lnTo>
                    <a:lnTo>
                      <a:pt x="47" y="49"/>
                    </a:lnTo>
                    <a:lnTo>
                      <a:pt x="65" y="54"/>
                    </a:lnTo>
                    <a:lnTo>
                      <a:pt x="83" y="56"/>
                    </a:lnTo>
                    <a:lnTo>
                      <a:pt x="100" y="57"/>
                    </a:lnTo>
                    <a:lnTo>
                      <a:pt x="109" y="57"/>
                    </a:lnTo>
                    <a:lnTo>
                      <a:pt x="119" y="56"/>
                    </a:lnTo>
                    <a:lnTo>
                      <a:pt x="129" y="55"/>
                    </a:lnTo>
                    <a:lnTo>
                      <a:pt x="138" y="51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4" y="22"/>
                    </a:lnTo>
                    <a:lnTo>
                      <a:pt x="107" y="22"/>
                    </a:lnTo>
                    <a:lnTo>
                      <a:pt x="101" y="24"/>
                    </a:lnTo>
                    <a:lnTo>
                      <a:pt x="87" y="22"/>
                    </a:lnTo>
                    <a:lnTo>
                      <a:pt x="72" y="19"/>
                    </a:lnTo>
                    <a:lnTo>
                      <a:pt x="57" y="15"/>
                    </a:lnTo>
                    <a:lnTo>
                      <a:pt x="41" y="10"/>
                    </a:lnTo>
                    <a:lnTo>
                      <a:pt x="25" y="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92880" y="4648320"/>
                <a:ext cx="56880" cy="3492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31"/>
                    </a:moveTo>
                    <a:lnTo>
                      <a:pt x="0" y="31"/>
                    </a:lnTo>
                    <a:lnTo>
                      <a:pt x="15" y="38"/>
                    </a:lnTo>
                    <a:lnTo>
                      <a:pt x="32" y="45"/>
                    </a:lnTo>
                    <a:lnTo>
                      <a:pt x="49" y="54"/>
                    </a:lnTo>
                    <a:lnTo>
                      <a:pt x="64" y="61"/>
                    </a:lnTo>
                    <a:lnTo>
                      <a:pt x="82" y="68"/>
                    </a:lnTo>
                    <a:lnTo>
                      <a:pt x="99" y="75"/>
                    </a:lnTo>
                    <a:lnTo>
                      <a:pt x="117" y="81"/>
                    </a:lnTo>
                    <a:lnTo>
                      <a:pt x="135" y="86"/>
                    </a:lnTo>
                    <a:lnTo>
                      <a:pt x="144" y="53"/>
                    </a:lnTo>
                    <a:lnTo>
                      <a:pt x="128" y="48"/>
                    </a:lnTo>
                    <a:lnTo>
                      <a:pt x="111" y="42"/>
                    </a:lnTo>
                    <a:lnTo>
                      <a:pt x="94" y="36"/>
                    </a:lnTo>
                    <a:lnTo>
                      <a:pt x="79" y="29"/>
                    </a:lnTo>
                    <a:lnTo>
                      <a:pt x="62" y="21"/>
                    </a:lnTo>
                    <a:lnTo>
                      <a:pt x="46" y="14"/>
                    </a:lnTo>
                    <a:lnTo>
                      <a:pt x="30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29520" y="4619520"/>
                <a:ext cx="69480" cy="41400"/>
              </a:xfrm>
              <a:custGeom>
                <a:avLst/>
                <a:gdLst/>
                <a:ahLst/>
                <a:rect l="l" t="t" r="r" b="b"/>
                <a:pathLst>
                  <a:path w="175" h="102">
                    <a:moveTo>
                      <a:pt x="0" y="28"/>
                    </a:moveTo>
                    <a:lnTo>
                      <a:pt x="0" y="28"/>
                    </a:lnTo>
                    <a:lnTo>
                      <a:pt x="19" y="41"/>
                    </a:lnTo>
                    <a:lnTo>
                      <a:pt x="39" y="52"/>
                    </a:lnTo>
                    <a:lnTo>
                      <a:pt x="60" y="61"/>
                    </a:lnTo>
                    <a:lnTo>
                      <a:pt x="80" y="70"/>
                    </a:lnTo>
                    <a:lnTo>
                      <a:pt x="100" y="78"/>
                    </a:lnTo>
                    <a:lnTo>
                      <a:pt x="121" y="86"/>
                    </a:lnTo>
                    <a:lnTo>
                      <a:pt x="141" y="94"/>
                    </a:lnTo>
                    <a:lnTo>
                      <a:pt x="162" y="102"/>
                    </a:lnTo>
                    <a:lnTo>
                      <a:pt x="175" y="71"/>
                    </a:lnTo>
                    <a:lnTo>
                      <a:pt x="154" y="62"/>
                    </a:lnTo>
                    <a:lnTo>
                      <a:pt x="134" y="54"/>
                    </a:lnTo>
                    <a:lnTo>
                      <a:pt x="114" y="46"/>
                    </a:lnTo>
                    <a:lnTo>
                      <a:pt x="93" y="38"/>
                    </a:lnTo>
                    <a:lnTo>
                      <a:pt x="74" y="30"/>
                    </a:lnTo>
                    <a:lnTo>
                      <a:pt x="55" y="20"/>
                    </a:lnTo>
                    <a:lnTo>
                      <a:pt x="37" y="1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192800" y="4581360"/>
                <a:ext cx="44280" cy="49320"/>
              </a:xfrm>
              <a:custGeom>
                <a:avLst/>
                <a:gdLst/>
                <a:ahLst/>
                <a:rect l="l" t="t" r="r" b="b"/>
                <a:pathLst>
                  <a:path w="110" h="125">
                    <a:moveTo>
                      <a:pt x="0" y="15"/>
                    </a:moveTo>
                    <a:lnTo>
                      <a:pt x="0" y="15"/>
                    </a:lnTo>
                    <a:lnTo>
                      <a:pt x="8" y="31"/>
                    </a:lnTo>
                    <a:lnTo>
                      <a:pt x="18" y="47"/>
                    </a:lnTo>
                    <a:lnTo>
                      <a:pt x="27" y="61"/>
                    </a:lnTo>
                    <a:lnTo>
                      <a:pt x="38" y="75"/>
                    </a:lnTo>
                    <a:lnTo>
                      <a:pt x="50" y="89"/>
                    </a:lnTo>
                    <a:lnTo>
                      <a:pt x="62" y="102"/>
                    </a:lnTo>
                    <a:lnTo>
                      <a:pt x="76" y="114"/>
                    </a:lnTo>
                    <a:lnTo>
                      <a:pt x="90" y="125"/>
                    </a:lnTo>
                    <a:lnTo>
                      <a:pt x="110" y="97"/>
                    </a:lnTo>
                    <a:lnTo>
                      <a:pt x="98" y="87"/>
                    </a:lnTo>
                    <a:lnTo>
                      <a:pt x="87" y="77"/>
                    </a:lnTo>
                    <a:lnTo>
                      <a:pt x="75" y="66"/>
                    </a:lnTo>
                    <a:lnTo>
                      <a:pt x="66" y="54"/>
                    </a:lnTo>
                    <a:lnTo>
                      <a:pt x="56" y="41"/>
                    </a:lnTo>
                    <a:lnTo>
                      <a:pt x="46" y="27"/>
                    </a:lnTo>
                    <a:lnTo>
                      <a:pt x="38" y="14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88120" y="4546440"/>
                <a:ext cx="16920" cy="41400"/>
              </a:xfrm>
              <a:custGeom>
                <a:avLst/>
                <a:gdLst/>
                <a:ahLst/>
                <a:rect l="l" t="t" r="r" b="b"/>
                <a:pathLst>
                  <a:path w="45" h="104">
                    <a:moveTo>
                      <a:pt x="0" y="11"/>
                    </a:moveTo>
                    <a:lnTo>
                      <a:pt x="0" y="11"/>
                    </a:lnTo>
                    <a:lnTo>
                      <a:pt x="3" y="20"/>
                    </a:lnTo>
                    <a:lnTo>
                      <a:pt x="4" y="30"/>
                    </a:lnTo>
                    <a:lnTo>
                      <a:pt x="4" y="41"/>
                    </a:lnTo>
                    <a:lnTo>
                      <a:pt x="4" y="52"/>
                    </a:lnTo>
                    <a:lnTo>
                      <a:pt x="5" y="65"/>
                    </a:lnTo>
                    <a:lnTo>
                      <a:pt x="6" y="77"/>
                    </a:lnTo>
                    <a:lnTo>
                      <a:pt x="9" y="91"/>
                    </a:lnTo>
                    <a:lnTo>
                      <a:pt x="14" y="104"/>
                    </a:lnTo>
                    <a:lnTo>
                      <a:pt x="45" y="89"/>
                    </a:lnTo>
                    <a:lnTo>
                      <a:pt x="42" y="82"/>
                    </a:lnTo>
                    <a:lnTo>
                      <a:pt x="40" y="72"/>
                    </a:lnTo>
                    <a:lnTo>
                      <a:pt x="39" y="62"/>
                    </a:lnTo>
                    <a:lnTo>
                      <a:pt x="39" y="52"/>
                    </a:lnTo>
                    <a:lnTo>
                      <a:pt x="39" y="40"/>
                    </a:lnTo>
                    <a:lnTo>
                      <a:pt x="39" y="26"/>
                    </a:lnTo>
                    <a:lnTo>
                      <a:pt x="38" y="13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173720" y="4514760"/>
                <a:ext cx="28440" cy="34920"/>
              </a:xfrm>
              <a:custGeom>
                <a:avLst/>
                <a:gdLst/>
                <a:ahLst/>
                <a:rect l="l" t="t" r="r" b="b"/>
                <a:pathLst>
                  <a:path w="70" h="91">
                    <a:moveTo>
                      <a:pt x="0" y="26"/>
                    </a:moveTo>
                    <a:lnTo>
                      <a:pt x="0" y="26"/>
                    </a:lnTo>
                    <a:lnTo>
                      <a:pt x="6" y="32"/>
                    </a:lnTo>
                    <a:lnTo>
                      <a:pt x="11" y="39"/>
                    </a:lnTo>
                    <a:lnTo>
                      <a:pt x="17" y="46"/>
                    </a:lnTo>
                    <a:lnTo>
                      <a:pt x="22" y="54"/>
                    </a:lnTo>
                    <a:lnTo>
                      <a:pt x="26" y="63"/>
                    </a:lnTo>
                    <a:lnTo>
                      <a:pt x="30" y="72"/>
                    </a:lnTo>
                    <a:lnTo>
                      <a:pt x="34" y="81"/>
                    </a:lnTo>
                    <a:lnTo>
                      <a:pt x="36" y="91"/>
                    </a:lnTo>
                    <a:lnTo>
                      <a:pt x="70" y="80"/>
                    </a:lnTo>
                    <a:lnTo>
                      <a:pt x="66" y="69"/>
                    </a:lnTo>
                    <a:lnTo>
                      <a:pt x="62" y="60"/>
                    </a:lnTo>
                    <a:lnTo>
                      <a:pt x="58" y="49"/>
                    </a:lnTo>
                    <a:lnTo>
                      <a:pt x="52" y="38"/>
                    </a:lnTo>
                    <a:lnTo>
                      <a:pt x="46" y="27"/>
                    </a:lnTo>
                    <a:lnTo>
                      <a:pt x="39" y="18"/>
                    </a:lnTo>
                    <a:lnTo>
                      <a:pt x="30" y="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54640" y="45100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24" y="37"/>
                    </a:moveTo>
                    <a:lnTo>
                      <a:pt x="24" y="37"/>
                    </a:lnTo>
                    <a:lnTo>
                      <a:pt x="26" y="37"/>
                    </a:lnTo>
                    <a:lnTo>
                      <a:pt x="29" y="36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0" y="34"/>
                    </a:lnTo>
                    <a:lnTo>
                      <a:pt x="44" y="36"/>
                    </a:lnTo>
                    <a:lnTo>
                      <a:pt x="48" y="37"/>
                    </a:lnTo>
                    <a:lnTo>
                      <a:pt x="50" y="38"/>
                    </a:lnTo>
                    <a:lnTo>
                      <a:pt x="72" y="12"/>
                    </a:lnTo>
                    <a:lnTo>
                      <a:pt x="64" y="6"/>
                    </a:lnTo>
                    <a:lnTo>
                      <a:pt x="55" y="3"/>
                    </a:lnTo>
                    <a:lnTo>
                      <a:pt x="46" y="1"/>
                    </a:lnTo>
                    <a:lnTo>
                      <a:pt x="36" y="0"/>
                    </a:lnTo>
                    <a:lnTo>
                      <a:pt x="26" y="0"/>
                    </a:lnTo>
                    <a:lnTo>
                      <a:pt x="18" y="2"/>
                    </a:lnTo>
                    <a:lnTo>
                      <a:pt x="8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4" y="3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142040" y="451476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34" y="86"/>
                    </a:moveTo>
                    <a:lnTo>
                      <a:pt x="34" y="86"/>
                    </a:lnTo>
                    <a:lnTo>
                      <a:pt x="35" y="77"/>
                    </a:lnTo>
                    <a:lnTo>
                      <a:pt x="36" y="68"/>
                    </a:lnTo>
                    <a:lnTo>
                      <a:pt x="39" y="59"/>
                    </a:lnTo>
                    <a:lnTo>
                      <a:pt x="40" y="50"/>
                    </a:lnTo>
                    <a:lnTo>
                      <a:pt x="42" y="42"/>
                    </a:lnTo>
                    <a:lnTo>
                      <a:pt x="46" y="36"/>
                    </a:lnTo>
                    <a:lnTo>
                      <a:pt x="49" y="30"/>
                    </a:lnTo>
                    <a:lnTo>
                      <a:pt x="53" y="24"/>
                    </a:lnTo>
                    <a:lnTo>
                      <a:pt x="29" y="0"/>
                    </a:lnTo>
                    <a:lnTo>
                      <a:pt x="21" y="9"/>
                    </a:lnTo>
                    <a:lnTo>
                      <a:pt x="15" y="19"/>
                    </a:lnTo>
                    <a:lnTo>
                      <a:pt x="10" y="30"/>
                    </a:lnTo>
                    <a:lnTo>
                      <a:pt x="6" y="41"/>
                    </a:lnTo>
                    <a:lnTo>
                      <a:pt x="4" y="51"/>
                    </a:lnTo>
                    <a:lnTo>
                      <a:pt x="3" y="62"/>
                    </a:lnTo>
                    <a:lnTo>
                      <a:pt x="0" y="7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34" y="8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140600" y="4548240"/>
                <a:ext cx="15480" cy="65160"/>
              </a:xfrm>
              <a:custGeom>
                <a:avLst/>
                <a:gdLst/>
                <a:ahLst/>
                <a:rect l="l" t="t" r="r" b="b"/>
                <a:pathLst>
                  <a:path w="37" h="165">
                    <a:moveTo>
                      <a:pt x="37" y="165"/>
                    </a:moveTo>
                    <a:lnTo>
                      <a:pt x="37" y="165"/>
                    </a:lnTo>
                    <a:lnTo>
                      <a:pt x="37" y="145"/>
                    </a:lnTo>
                    <a:lnTo>
                      <a:pt x="36" y="124"/>
                    </a:lnTo>
                    <a:lnTo>
                      <a:pt x="36" y="104"/>
                    </a:lnTo>
                    <a:lnTo>
                      <a:pt x="34" y="84"/>
                    </a:lnTo>
                    <a:lnTo>
                      <a:pt x="34" y="63"/>
                    </a:lnTo>
                    <a:lnTo>
                      <a:pt x="34" y="43"/>
                    </a:lnTo>
                    <a:lnTo>
                      <a:pt x="36" y="24"/>
                    </a:lnTo>
                    <a:lnTo>
                      <a:pt x="37" y="3"/>
                    </a:lnTo>
                    <a:lnTo>
                      <a:pt x="3" y="0"/>
                    </a:lnTo>
                    <a:lnTo>
                      <a:pt x="1" y="21"/>
                    </a:lnTo>
                    <a:lnTo>
                      <a:pt x="0" y="42"/>
                    </a:lnTo>
                    <a:lnTo>
                      <a:pt x="0" y="63"/>
                    </a:lnTo>
                    <a:lnTo>
                      <a:pt x="0" y="84"/>
                    </a:lnTo>
                    <a:lnTo>
                      <a:pt x="1" y="104"/>
                    </a:lnTo>
                    <a:lnTo>
                      <a:pt x="1" y="124"/>
                    </a:lnTo>
                    <a:lnTo>
                      <a:pt x="2" y="145"/>
                    </a:lnTo>
                    <a:lnTo>
                      <a:pt x="3" y="165"/>
                    </a:lnTo>
                    <a:lnTo>
                      <a:pt x="3" y="165"/>
                    </a:lnTo>
                    <a:lnTo>
                      <a:pt x="37" y="16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142040" y="4613400"/>
                <a:ext cx="17280" cy="50760"/>
              </a:xfrm>
              <a:custGeom>
                <a:avLst/>
                <a:gdLst/>
                <a:ahLst/>
                <a:rect l="l" t="t" r="r" b="b"/>
                <a:pathLst>
                  <a:path w="42" h="130">
                    <a:moveTo>
                      <a:pt x="40" y="130"/>
                    </a:moveTo>
                    <a:lnTo>
                      <a:pt x="40" y="130"/>
                    </a:lnTo>
                    <a:lnTo>
                      <a:pt x="42" y="113"/>
                    </a:lnTo>
                    <a:lnTo>
                      <a:pt x="42" y="96"/>
                    </a:lnTo>
                    <a:lnTo>
                      <a:pt x="41" y="79"/>
                    </a:lnTo>
                    <a:lnTo>
                      <a:pt x="40" y="63"/>
                    </a:lnTo>
                    <a:lnTo>
                      <a:pt x="39" y="46"/>
                    </a:lnTo>
                    <a:lnTo>
                      <a:pt x="36" y="30"/>
                    </a:lnTo>
                    <a:lnTo>
                      <a:pt x="35" y="15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" y="34"/>
                    </a:lnTo>
                    <a:lnTo>
                      <a:pt x="4" y="49"/>
                    </a:lnTo>
                    <a:lnTo>
                      <a:pt x="5" y="66"/>
                    </a:lnTo>
                    <a:lnTo>
                      <a:pt x="6" y="81"/>
                    </a:lnTo>
                    <a:lnTo>
                      <a:pt x="7" y="96"/>
                    </a:lnTo>
                    <a:lnTo>
                      <a:pt x="7" y="111"/>
                    </a:lnTo>
                    <a:lnTo>
                      <a:pt x="6" y="125"/>
                    </a:lnTo>
                    <a:lnTo>
                      <a:pt x="6" y="125"/>
                    </a:lnTo>
                    <a:lnTo>
                      <a:pt x="40" y="13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130880" y="4662360"/>
                <a:ext cx="26640" cy="39960"/>
              </a:xfrm>
              <a:custGeom>
                <a:avLst/>
                <a:gdLst/>
                <a:ahLst/>
                <a:rect l="l" t="t" r="r" b="b"/>
                <a:pathLst>
                  <a:path w="70" h="100">
                    <a:moveTo>
                      <a:pt x="33" y="100"/>
                    </a:moveTo>
                    <a:lnTo>
                      <a:pt x="33" y="100"/>
                    </a:lnTo>
                    <a:lnTo>
                      <a:pt x="37" y="89"/>
                    </a:lnTo>
                    <a:lnTo>
                      <a:pt x="42" y="78"/>
                    </a:lnTo>
                    <a:lnTo>
                      <a:pt x="48" y="67"/>
                    </a:lnTo>
                    <a:lnTo>
                      <a:pt x="53" y="56"/>
                    </a:lnTo>
                    <a:lnTo>
                      <a:pt x="59" y="44"/>
                    </a:lnTo>
                    <a:lnTo>
                      <a:pt x="64" y="31"/>
                    </a:lnTo>
                    <a:lnTo>
                      <a:pt x="67" y="19"/>
                    </a:lnTo>
                    <a:lnTo>
                      <a:pt x="70" y="5"/>
                    </a:lnTo>
                    <a:lnTo>
                      <a:pt x="36" y="0"/>
                    </a:lnTo>
                    <a:lnTo>
                      <a:pt x="34" y="11"/>
                    </a:lnTo>
                    <a:lnTo>
                      <a:pt x="30" y="20"/>
                    </a:lnTo>
                    <a:lnTo>
                      <a:pt x="27" y="31"/>
                    </a:lnTo>
                    <a:lnTo>
                      <a:pt x="22" y="42"/>
                    </a:lnTo>
                    <a:lnTo>
                      <a:pt x="17" y="53"/>
                    </a:lnTo>
                    <a:lnTo>
                      <a:pt x="11" y="64"/>
                    </a:lnTo>
                    <a:lnTo>
                      <a:pt x="6" y="76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33" y="10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15040" y="4697280"/>
                <a:ext cx="28080" cy="49320"/>
              </a:xfrm>
              <a:custGeom>
                <a:avLst/>
                <a:gdLst/>
                <a:ahLst/>
                <a:rect l="l" t="t" r="r" b="b"/>
                <a:pathLst>
                  <a:path w="74" h="124">
                    <a:moveTo>
                      <a:pt x="29" y="124"/>
                    </a:moveTo>
                    <a:lnTo>
                      <a:pt x="29" y="124"/>
                    </a:lnTo>
                    <a:lnTo>
                      <a:pt x="38" y="110"/>
                    </a:lnTo>
                    <a:lnTo>
                      <a:pt x="45" y="95"/>
                    </a:lnTo>
                    <a:lnTo>
                      <a:pt x="51" y="81"/>
                    </a:lnTo>
                    <a:lnTo>
                      <a:pt x="56" y="67"/>
                    </a:lnTo>
                    <a:lnTo>
                      <a:pt x="60" y="52"/>
                    </a:lnTo>
                    <a:lnTo>
                      <a:pt x="65" y="38"/>
                    </a:lnTo>
                    <a:lnTo>
                      <a:pt x="69" y="25"/>
                    </a:lnTo>
                    <a:lnTo>
                      <a:pt x="74" y="12"/>
                    </a:lnTo>
                    <a:lnTo>
                      <a:pt x="41" y="0"/>
                    </a:lnTo>
                    <a:lnTo>
                      <a:pt x="36" y="14"/>
                    </a:lnTo>
                    <a:lnTo>
                      <a:pt x="32" y="28"/>
                    </a:lnTo>
                    <a:lnTo>
                      <a:pt x="27" y="43"/>
                    </a:lnTo>
                    <a:lnTo>
                      <a:pt x="23" y="56"/>
                    </a:lnTo>
                    <a:lnTo>
                      <a:pt x="18" y="69"/>
                    </a:lnTo>
                    <a:lnTo>
                      <a:pt x="14" y="82"/>
                    </a:lnTo>
                    <a:lnTo>
                      <a:pt x="8" y="93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29" y="12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084800" y="4740120"/>
                <a:ext cx="41040" cy="3492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18" y="91"/>
                    </a:moveTo>
                    <a:lnTo>
                      <a:pt x="18" y="91"/>
                    </a:lnTo>
                    <a:lnTo>
                      <a:pt x="30" y="84"/>
                    </a:lnTo>
                    <a:lnTo>
                      <a:pt x="41" y="77"/>
                    </a:lnTo>
                    <a:lnTo>
                      <a:pt x="52" y="68"/>
                    </a:lnTo>
                    <a:lnTo>
                      <a:pt x="64" y="60"/>
                    </a:lnTo>
                    <a:lnTo>
                      <a:pt x="75" y="52"/>
                    </a:lnTo>
                    <a:lnTo>
                      <a:pt x="84" y="41"/>
                    </a:lnTo>
                    <a:lnTo>
                      <a:pt x="94" y="31"/>
                    </a:lnTo>
                    <a:lnTo>
                      <a:pt x="102" y="19"/>
                    </a:lnTo>
                    <a:lnTo>
                      <a:pt x="73" y="0"/>
                    </a:lnTo>
                    <a:lnTo>
                      <a:pt x="67" y="8"/>
                    </a:lnTo>
                    <a:lnTo>
                      <a:pt x="59" y="17"/>
                    </a:lnTo>
                    <a:lnTo>
                      <a:pt x="51" y="25"/>
                    </a:lnTo>
                    <a:lnTo>
                      <a:pt x="41" y="34"/>
                    </a:lnTo>
                    <a:lnTo>
                      <a:pt x="31" y="41"/>
                    </a:lnTo>
                    <a:lnTo>
                      <a:pt x="22" y="48"/>
                    </a:lnTo>
                    <a:lnTo>
                      <a:pt x="11" y="54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18" y="9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61040" y="4764240"/>
                <a:ext cx="31320" cy="20520"/>
              </a:xfrm>
              <a:custGeom>
                <a:avLst/>
                <a:gdLst/>
                <a:ahLst/>
                <a:rect l="l" t="t" r="r" b="b"/>
                <a:pathLst>
                  <a:path w="79" h="54">
                    <a:moveTo>
                      <a:pt x="0" y="48"/>
                    </a:moveTo>
                    <a:lnTo>
                      <a:pt x="0" y="48"/>
                    </a:lnTo>
                    <a:lnTo>
                      <a:pt x="6" y="51"/>
                    </a:lnTo>
                    <a:lnTo>
                      <a:pt x="12" y="53"/>
                    </a:lnTo>
                    <a:lnTo>
                      <a:pt x="19" y="54"/>
                    </a:lnTo>
                    <a:lnTo>
                      <a:pt x="26" y="54"/>
                    </a:lnTo>
                    <a:lnTo>
                      <a:pt x="36" y="52"/>
                    </a:lnTo>
                    <a:lnTo>
                      <a:pt x="47" y="48"/>
                    </a:lnTo>
                    <a:lnTo>
                      <a:pt x="56" y="43"/>
                    </a:lnTo>
                    <a:lnTo>
                      <a:pt x="65" y="39"/>
                    </a:lnTo>
                    <a:lnTo>
                      <a:pt x="72" y="34"/>
                    </a:lnTo>
                    <a:lnTo>
                      <a:pt x="79" y="30"/>
                    </a:lnTo>
                    <a:lnTo>
                      <a:pt x="61" y="0"/>
                    </a:lnTo>
                    <a:lnTo>
                      <a:pt x="54" y="5"/>
                    </a:lnTo>
                    <a:lnTo>
                      <a:pt x="47" y="10"/>
                    </a:lnTo>
                    <a:lnTo>
                      <a:pt x="40" y="13"/>
                    </a:lnTo>
                    <a:lnTo>
                      <a:pt x="34" y="17"/>
                    </a:lnTo>
                    <a:lnTo>
                      <a:pt x="28" y="18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045200" y="4745160"/>
                <a:ext cx="23400" cy="37800"/>
              </a:xfrm>
              <a:custGeom>
                <a:avLst/>
                <a:gdLst/>
                <a:ahLst/>
                <a:rect l="l" t="t" r="r" b="b"/>
                <a:pathLst>
                  <a:path w="57" h="93">
                    <a:moveTo>
                      <a:pt x="0" y="0"/>
                    </a:moveTo>
                    <a:lnTo>
                      <a:pt x="0" y="0"/>
                    </a:lnTo>
                    <a:lnTo>
                      <a:pt x="1" y="12"/>
                    </a:lnTo>
                    <a:lnTo>
                      <a:pt x="2" y="24"/>
                    </a:lnTo>
                    <a:lnTo>
                      <a:pt x="4" y="37"/>
                    </a:lnTo>
                    <a:lnTo>
                      <a:pt x="7" y="49"/>
                    </a:lnTo>
                    <a:lnTo>
                      <a:pt x="12" y="61"/>
                    </a:lnTo>
                    <a:lnTo>
                      <a:pt x="19" y="73"/>
                    </a:lnTo>
                    <a:lnTo>
                      <a:pt x="27" y="84"/>
                    </a:lnTo>
                    <a:lnTo>
                      <a:pt x="38" y="93"/>
                    </a:lnTo>
                    <a:lnTo>
                      <a:pt x="57" y="63"/>
                    </a:lnTo>
                    <a:lnTo>
                      <a:pt x="52" y="60"/>
                    </a:lnTo>
                    <a:lnTo>
                      <a:pt x="48" y="54"/>
                    </a:lnTo>
                    <a:lnTo>
                      <a:pt x="44" y="46"/>
                    </a:lnTo>
                    <a:lnTo>
                      <a:pt x="40" y="38"/>
                    </a:lnTo>
                    <a:lnTo>
                      <a:pt x="38" y="28"/>
                    </a:lnTo>
                    <a:lnTo>
                      <a:pt x="36" y="19"/>
                    </a:lnTo>
                    <a:lnTo>
                      <a:pt x="36" y="9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045200" y="4695840"/>
                <a:ext cx="26640" cy="49320"/>
              </a:xfrm>
              <a:custGeom>
                <a:avLst/>
                <a:gdLst/>
                <a:ahLst/>
                <a:rect l="l" t="t" r="r" b="b"/>
                <a:pathLst>
                  <a:path w="64" h="127">
                    <a:moveTo>
                      <a:pt x="32" y="0"/>
                    </a:moveTo>
                    <a:lnTo>
                      <a:pt x="32" y="0"/>
                    </a:lnTo>
                    <a:lnTo>
                      <a:pt x="26" y="14"/>
                    </a:lnTo>
                    <a:lnTo>
                      <a:pt x="21" y="30"/>
                    </a:lnTo>
                    <a:lnTo>
                      <a:pt x="15" y="45"/>
                    </a:lnTo>
                    <a:lnTo>
                      <a:pt x="10" y="61"/>
                    </a:lnTo>
                    <a:lnTo>
                      <a:pt x="7" y="76"/>
                    </a:lnTo>
                    <a:lnTo>
                      <a:pt x="3" y="93"/>
                    </a:lnTo>
                    <a:lnTo>
                      <a:pt x="1" y="110"/>
                    </a:lnTo>
                    <a:lnTo>
                      <a:pt x="0" y="127"/>
                    </a:lnTo>
                    <a:lnTo>
                      <a:pt x="34" y="127"/>
                    </a:lnTo>
                    <a:lnTo>
                      <a:pt x="36" y="112"/>
                    </a:lnTo>
                    <a:lnTo>
                      <a:pt x="37" y="98"/>
                    </a:lnTo>
                    <a:lnTo>
                      <a:pt x="40" y="85"/>
                    </a:lnTo>
                    <a:lnTo>
                      <a:pt x="44" y="70"/>
                    </a:lnTo>
                    <a:lnTo>
                      <a:pt x="49" y="55"/>
                    </a:lnTo>
                    <a:lnTo>
                      <a:pt x="54" y="40"/>
                    </a:lnTo>
                    <a:lnTo>
                      <a:pt x="58" y="26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059600" y="4657680"/>
                <a:ext cx="31320" cy="4284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47" y="0"/>
                    </a:moveTo>
                    <a:lnTo>
                      <a:pt x="47" y="0"/>
                    </a:lnTo>
                    <a:lnTo>
                      <a:pt x="44" y="11"/>
                    </a:lnTo>
                    <a:lnTo>
                      <a:pt x="40" y="21"/>
                    </a:lnTo>
                    <a:lnTo>
                      <a:pt x="34" y="32"/>
                    </a:lnTo>
                    <a:lnTo>
                      <a:pt x="26" y="43"/>
                    </a:lnTo>
                    <a:lnTo>
                      <a:pt x="19" y="55"/>
                    </a:lnTo>
                    <a:lnTo>
                      <a:pt x="12" y="67"/>
                    </a:lnTo>
                    <a:lnTo>
                      <a:pt x="5" y="80"/>
                    </a:lnTo>
                    <a:lnTo>
                      <a:pt x="0" y="95"/>
                    </a:lnTo>
                    <a:lnTo>
                      <a:pt x="32" y="107"/>
                    </a:lnTo>
                    <a:lnTo>
                      <a:pt x="37" y="96"/>
                    </a:lnTo>
                    <a:lnTo>
                      <a:pt x="42" y="84"/>
                    </a:lnTo>
                    <a:lnTo>
                      <a:pt x="49" y="73"/>
                    </a:lnTo>
                    <a:lnTo>
                      <a:pt x="56" y="61"/>
                    </a:lnTo>
                    <a:lnTo>
                      <a:pt x="64" y="49"/>
                    </a:lnTo>
                    <a:lnTo>
                      <a:pt x="71" y="36"/>
                    </a:lnTo>
                    <a:lnTo>
                      <a:pt x="77" y="23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076880" y="4589640"/>
                <a:ext cx="21960" cy="71280"/>
              </a:xfrm>
              <a:custGeom>
                <a:avLst/>
                <a:gdLst/>
                <a:ahLst/>
                <a:rect l="l" t="t" r="r" b="b"/>
                <a:pathLst>
                  <a:path w="54" h="180">
                    <a:moveTo>
                      <a:pt x="18" y="1"/>
                    </a:moveTo>
                    <a:lnTo>
                      <a:pt x="18" y="1"/>
                    </a:lnTo>
                    <a:lnTo>
                      <a:pt x="19" y="23"/>
                    </a:lnTo>
                    <a:lnTo>
                      <a:pt x="18" y="44"/>
                    </a:lnTo>
                    <a:lnTo>
                      <a:pt x="17" y="66"/>
                    </a:lnTo>
                    <a:lnTo>
                      <a:pt x="15" y="88"/>
                    </a:lnTo>
                    <a:lnTo>
                      <a:pt x="13" y="109"/>
                    </a:lnTo>
                    <a:lnTo>
                      <a:pt x="9" y="130"/>
                    </a:lnTo>
                    <a:lnTo>
                      <a:pt x="5" y="151"/>
                    </a:lnTo>
                    <a:lnTo>
                      <a:pt x="0" y="173"/>
                    </a:lnTo>
                    <a:lnTo>
                      <a:pt x="35" y="180"/>
                    </a:lnTo>
                    <a:lnTo>
                      <a:pt x="39" y="158"/>
                    </a:lnTo>
                    <a:lnTo>
                      <a:pt x="43" y="136"/>
                    </a:lnTo>
                    <a:lnTo>
                      <a:pt x="47" y="114"/>
                    </a:lnTo>
                    <a:lnTo>
                      <a:pt x="50" y="91"/>
                    </a:lnTo>
                    <a:lnTo>
                      <a:pt x="51" y="68"/>
                    </a:lnTo>
                    <a:lnTo>
                      <a:pt x="53" y="46"/>
                    </a:lnTo>
                    <a:lnTo>
                      <a:pt x="54" y="23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073640" y="4543560"/>
                <a:ext cx="23760" cy="46080"/>
              </a:xfrm>
              <a:custGeom>
                <a:avLst/>
                <a:gdLst/>
                <a:ahLst/>
                <a:rect l="l" t="t" r="r" b="b"/>
                <a:pathLst>
                  <a:path w="63" h="117">
                    <a:moveTo>
                      <a:pt x="0" y="16"/>
                    </a:moveTo>
                    <a:lnTo>
                      <a:pt x="0" y="16"/>
                    </a:lnTo>
                    <a:lnTo>
                      <a:pt x="6" y="27"/>
                    </a:lnTo>
                    <a:lnTo>
                      <a:pt x="11" y="39"/>
                    </a:lnTo>
                    <a:lnTo>
                      <a:pt x="16" y="52"/>
                    </a:lnTo>
                    <a:lnTo>
                      <a:pt x="19" y="64"/>
                    </a:lnTo>
                    <a:lnTo>
                      <a:pt x="23" y="78"/>
                    </a:lnTo>
                    <a:lnTo>
                      <a:pt x="25" y="91"/>
                    </a:lnTo>
                    <a:lnTo>
                      <a:pt x="27" y="104"/>
                    </a:lnTo>
                    <a:lnTo>
                      <a:pt x="28" y="117"/>
                    </a:lnTo>
                    <a:lnTo>
                      <a:pt x="63" y="116"/>
                    </a:lnTo>
                    <a:lnTo>
                      <a:pt x="61" y="100"/>
                    </a:lnTo>
                    <a:lnTo>
                      <a:pt x="60" y="86"/>
                    </a:lnTo>
                    <a:lnTo>
                      <a:pt x="57" y="70"/>
                    </a:lnTo>
                    <a:lnTo>
                      <a:pt x="53" y="56"/>
                    </a:lnTo>
                    <a:lnTo>
                      <a:pt x="49" y="42"/>
                    </a:lnTo>
                    <a:lnTo>
                      <a:pt x="43" y="27"/>
                    </a:lnTo>
                    <a:lnTo>
                      <a:pt x="37" y="13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057800" y="45226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0" y="35"/>
                    </a:moveTo>
                    <a:lnTo>
                      <a:pt x="0" y="35"/>
                    </a:lnTo>
                    <a:lnTo>
                      <a:pt x="5" y="36"/>
                    </a:lnTo>
                    <a:lnTo>
                      <a:pt x="11" y="37"/>
                    </a:lnTo>
                    <a:lnTo>
                      <a:pt x="16" y="41"/>
                    </a:lnTo>
                    <a:lnTo>
                      <a:pt x="22" y="46"/>
                    </a:lnTo>
                    <a:lnTo>
                      <a:pt x="28" y="50"/>
                    </a:lnTo>
                    <a:lnTo>
                      <a:pt x="33" y="55"/>
                    </a:lnTo>
                    <a:lnTo>
                      <a:pt x="38" y="62"/>
                    </a:lnTo>
                    <a:lnTo>
                      <a:pt x="41" y="68"/>
                    </a:lnTo>
                    <a:lnTo>
                      <a:pt x="71" y="52"/>
                    </a:lnTo>
                    <a:lnTo>
                      <a:pt x="65" y="42"/>
                    </a:lnTo>
                    <a:lnTo>
                      <a:pt x="59" y="34"/>
                    </a:lnTo>
                    <a:lnTo>
                      <a:pt x="52" y="26"/>
                    </a:lnTo>
                    <a:lnTo>
                      <a:pt x="45" y="18"/>
                    </a:lnTo>
                    <a:lnTo>
                      <a:pt x="35" y="12"/>
                    </a:lnTo>
                    <a:lnTo>
                      <a:pt x="26" y="6"/>
                    </a:lnTo>
                    <a:lnTo>
                      <a:pt x="1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024680" y="4522680"/>
                <a:ext cx="32760" cy="22320"/>
              </a:xfrm>
              <a:custGeom>
                <a:avLst/>
                <a:gdLst/>
                <a:ahLst/>
                <a:rect l="l" t="t" r="r" b="b"/>
                <a:pathLst>
                  <a:path w="87" h="59">
                    <a:moveTo>
                      <a:pt x="26" y="59"/>
                    </a:moveTo>
                    <a:lnTo>
                      <a:pt x="26" y="59"/>
                    </a:lnTo>
                    <a:lnTo>
                      <a:pt x="32" y="54"/>
                    </a:lnTo>
                    <a:lnTo>
                      <a:pt x="38" y="48"/>
                    </a:lnTo>
                    <a:lnTo>
                      <a:pt x="45" y="44"/>
                    </a:lnTo>
                    <a:lnTo>
                      <a:pt x="53" y="40"/>
                    </a:lnTo>
                    <a:lnTo>
                      <a:pt x="60" y="37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84" y="35"/>
                    </a:lnTo>
                    <a:lnTo>
                      <a:pt x="87" y="0"/>
                    </a:lnTo>
                    <a:lnTo>
                      <a:pt x="75" y="0"/>
                    </a:lnTo>
                    <a:lnTo>
                      <a:pt x="63" y="1"/>
                    </a:lnTo>
                    <a:lnTo>
                      <a:pt x="51" y="4"/>
                    </a:lnTo>
                    <a:lnTo>
                      <a:pt x="39" y="8"/>
                    </a:lnTo>
                    <a:lnTo>
                      <a:pt x="28" y="13"/>
                    </a:lnTo>
                    <a:lnTo>
                      <a:pt x="18" y="20"/>
                    </a:lnTo>
                    <a:lnTo>
                      <a:pt x="9" y="28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6" y="5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000920" y="4537080"/>
                <a:ext cx="32760" cy="50760"/>
              </a:xfrm>
              <a:custGeom>
                <a:avLst/>
                <a:gdLst/>
                <a:ahLst/>
                <a:rect l="l" t="t" r="r" b="b"/>
                <a:pathLst>
                  <a:path w="83" h="128">
                    <a:moveTo>
                      <a:pt x="31" y="128"/>
                    </a:moveTo>
                    <a:lnTo>
                      <a:pt x="31" y="128"/>
                    </a:lnTo>
                    <a:lnTo>
                      <a:pt x="37" y="114"/>
                    </a:lnTo>
                    <a:lnTo>
                      <a:pt x="44" y="100"/>
                    </a:lnTo>
                    <a:lnTo>
                      <a:pt x="49" y="84"/>
                    </a:lnTo>
                    <a:lnTo>
                      <a:pt x="55" y="71"/>
                    </a:lnTo>
                    <a:lnTo>
                      <a:pt x="61" y="58"/>
                    </a:lnTo>
                    <a:lnTo>
                      <a:pt x="67" y="44"/>
                    </a:lnTo>
                    <a:lnTo>
                      <a:pt x="74" y="34"/>
                    </a:lnTo>
                    <a:lnTo>
                      <a:pt x="83" y="23"/>
                    </a:lnTo>
                    <a:lnTo>
                      <a:pt x="57" y="0"/>
                    </a:lnTo>
                    <a:lnTo>
                      <a:pt x="47" y="13"/>
                    </a:lnTo>
                    <a:lnTo>
                      <a:pt x="37" y="28"/>
                    </a:lnTo>
                    <a:lnTo>
                      <a:pt x="30" y="42"/>
                    </a:lnTo>
                    <a:lnTo>
                      <a:pt x="23" y="58"/>
                    </a:lnTo>
                    <a:lnTo>
                      <a:pt x="17" y="72"/>
                    </a:lnTo>
                    <a:lnTo>
                      <a:pt x="12" y="86"/>
                    </a:lnTo>
                    <a:lnTo>
                      <a:pt x="6" y="100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31" y="1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966000" y="4581360"/>
                <a:ext cx="47160" cy="76320"/>
              </a:xfrm>
              <a:custGeom>
                <a:avLst/>
                <a:gdLst/>
                <a:ahLst/>
                <a:rect l="l" t="t" r="r" b="b"/>
                <a:pathLst>
                  <a:path w="121" h="193">
                    <a:moveTo>
                      <a:pt x="29" y="193"/>
                    </a:moveTo>
                    <a:lnTo>
                      <a:pt x="29" y="193"/>
                    </a:lnTo>
                    <a:lnTo>
                      <a:pt x="42" y="170"/>
                    </a:lnTo>
                    <a:lnTo>
                      <a:pt x="54" y="149"/>
                    </a:lnTo>
                    <a:lnTo>
                      <a:pt x="66" y="127"/>
                    </a:lnTo>
                    <a:lnTo>
                      <a:pt x="77" y="104"/>
                    </a:lnTo>
                    <a:lnTo>
                      <a:pt x="87" y="81"/>
                    </a:lnTo>
                    <a:lnTo>
                      <a:pt x="98" y="60"/>
                    </a:lnTo>
                    <a:lnTo>
                      <a:pt x="109" y="37"/>
                    </a:lnTo>
                    <a:lnTo>
                      <a:pt x="121" y="15"/>
                    </a:lnTo>
                    <a:lnTo>
                      <a:pt x="90" y="0"/>
                    </a:lnTo>
                    <a:lnTo>
                      <a:pt x="79" y="23"/>
                    </a:lnTo>
                    <a:lnTo>
                      <a:pt x="67" y="44"/>
                    </a:lnTo>
                    <a:lnTo>
                      <a:pt x="56" y="67"/>
                    </a:lnTo>
                    <a:lnTo>
                      <a:pt x="45" y="89"/>
                    </a:lnTo>
                    <a:lnTo>
                      <a:pt x="35" y="110"/>
                    </a:lnTo>
                    <a:lnTo>
                      <a:pt x="24" y="132"/>
                    </a:lnTo>
                    <a:lnTo>
                      <a:pt x="12" y="153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29" y="19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23160" y="4649760"/>
                <a:ext cx="53280" cy="66600"/>
              </a:xfrm>
              <a:custGeom>
                <a:avLst/>
                <a:gdLst/>
                <a:ahLst/>
                <a:rect l="l" t="t" r="r" b="b"/>
                <a:pathLst>
                  <a:path w="136" h="168">
                    <a:moveTo>
                      <a:pt x="24" y="168"/>
                    </a:moveTo>
                    <a:lnTo>
                      <a:pt x="24" y="168"/>
                    </a:lnTo>
                    <a:lnTo>
                      <a:pt x="41" y="151"/>
                    </a:lnTo>
                    <a:lnTo>
                      <a:pt x="56" y="133"/>
                    </a:lnTo>
                    <a:lnTo>
                      <a:pt x="71" y="115"/>
                    </a:lnTo>
                    <a:lnTo>
                      <a:pt x="85" y="96"/>
                    </a:lnTo>
                    <a:lnTo>
                      <a:pt x="98" y="77"/>
                    </a:lnTo>
                    <a:lnTo>
                      <a:pt x="112" y="57"/>
                    </a:lnTo>
                    <a:lnTo>
                      <a:pt x="124" y="38"/>
                    </a:lnTo>
                    <a:lnTo>
                      <a:pt x="136" y="19"/>
                    </a:lnTo>
                    <a:lnTo>
                      <a:pt x="107" y="0"/>
                    </a:lnTo>
                    <a:lnTo>
                      <a:pt x="95" y="19"/>
                    </a:lnTo>
                    <a:lnTo>
                      <a:pt x="83" y="38"/>
                    </a:lnTo>
                    <a:lnTo>
                      <a:pt x="70" y="57"/>
                    </a:lnTo>
                    <a:lnTo>
                      <a:pt x="56" y="75"/>
                    </a:lnTo>
                    <a:lnTo>
                      <a:pt x="43" y="93"/>
                    </a:lnTo>
                    <a:lnTo>
                      <a:pt x="30" y="110"/>
                    </a:lnTo>
                    <a:lnTo>
                      <a:pt x="16" y="127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24" y="16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64120" y="4707000"/>
                <a:ext cx="68040" cy="52200"/>
              </a:xfrm>
              <a:custGeom>
                <a:avLst/>
                <a:gdLst/>
                <a:ahLst/>
                <a:rect l="l" t="t" r="r" b="b"/>
                <a:pathLst>
                  <a:path w="172" h="130">
                    <a:moveTo>
                      <a:pt x="16" y="130"/>
                    </a:moveTo>
                    <a:lnTo>
                      <a:pt x="16" y="130"/>
                    </a:lnTo>
                    <a:lnTo>
                      <a:pt x="36" y="119"/>
                    </a:lnTo>
                    <a:lnTo>
                      <a:pt x="58" y="109"/>
                    </a:lnTo>
                    <a:lnTo>
                      <a:pt x="78" y="97"/>
                    </a:lnTo>
                    <a:lnTo>
                      <a:pt x="98" y="83"/>
                    </a:lnTo>
                    <a:lnTo>
                      <a:pt x="117" y="70"/>
                    </a:lnTo>
                    <a:lnTo>
                      <a:pt x="136" y="56"/>
                    </a:lnTo>
                    <a:lnTo>
                      <a:pt x="154" y="40"/>
                    </a:lnTo>
                    <a:lnTo>
                      <a:pt x="172" y="25"/>
                    </a:lnTo>
                    <a:lnTo>
                      <a:pt x="148" y="0"/>
                    </a:lnTo>
                    <a:lnTo>
                      <a:pt x="131" y="14"/>
                    </a:lnTo>
                    <a:lnTo>
                      <a:pt x="114" y="28"/>
                    </a:lnTo>
                    <a:lnTo>
                      <a:pt x="96" y="41"/>
                    </a:lnTo>
                    <a:lnTo>
                      <a:pt x="78" y="55"/>
                    </a:lnTo>
                    <a:lnTo>
                      <a:pt x="59" y="67"/>
                    </a:lnTo>
                    <a:lnTo>
                      <a:pt x="40" y="79"/>
                    </a:lnTo>
                    <a:lnTo>
                      <a:pt x="21" y="8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6" y="13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813360" y="4746600"/>
                <a:ext cx="56880" cy="27000"/>
              </a:xfrm>
              <a:custGeom>
                <a:avLst/>
                <a:gdLst/>
                <a:ahLst/>
                <a:rect l="l" t="t" r="r" b="b"/>
                <a:pathLst>
                  <a:path w="143" h="70">
                    <a:moveTo>
                      <a:pt x="4" y="70"/>
                    </a:moveTo>
                    <a:lnTo>
                      <a:pt x="4" y="70"/>
                    </a:lnTo>
                    <a:lnTo>
                      <a:pt x="22" y="66"/>
                    </a:lnTo>
                    <a:lnTo>
                      <a:pt x="40" y="64"/>
                    </a:lnTo>
                    <a:lnTo>
                      <a:pt x="57" y="60"/>
                    </a:lnTo>
                    <a:lnTo>
                      <a:pt x="75" y="56"/>
                    </a:lnTo>
                    <a:lnTo>
                      <a:pt x="93" y="50"/>
                    </a:lnTo>
                    <a:lnTo>
                      <a:pt x="109" y="46"/>
                    </a:lnTo>
                    <a:lnTo>
                      <a:pt x="126" y="38"/>
                    </a:lnTo>
                    <a:lnTo>
                      <a:pt x="143" y="31"/>
                    </a:lnTo>
                    <a:lnTo>
                      <a:pt x="127" y="0"/>
                    </a:lnTo>
                    <a:lnTo>
                      <a:pt x="113" y="7"/>
                    </a:lnTo>
                    <a:lnTo>
                      <a:pt x="97" y="12"/>
                    </a:lnTo>
                    <a:lnTo>
                      <a:pt x="82" y="18"/>
                    </a:lnTo>
                    <a:lnTo>
                      <a:pt x="66" y="23"/>
                    </a:lnTo>
                    <a:lnTo>
                      <a:pt x="49" y="26"/>
                    </a:lnTo>
                    <a:lnTo>
                      <a:pt x="33" y="30"/>
                    </a:lnTo>
                    <a:lnTo>
                      <a:pt x="17" y="32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4" y="7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789600" y="475920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0" y="19"/>
                    </a:moveTo>
                    <a:lnTo>
                      <a:pt x="0" y="19"/>
                    </a:lnTo>
                    <a:lnTo>
                      <a:pt x="7" y="28"/>
                    </a:lnTo>
                    <a:lnTo>
                      <a:pt x="16" y="34"/>
                    </a:lnTo>
                    <a:lnTo>
                      <a:pt x="24" y="37"/>
                    </a:lnTo>
                    <a:lnTo>
                      <a:pt x="32" y="38"/>
                    </a:lnTo>
                    <a:lnTo>
                      <a:pt x="42" y="40"/>
                    </a:lnTo>
                    <a:lnTo>
                      <a:pt x="49" y="41"/>
                    </a:lnTo>
                    <a:lnTo>
                      <a:pt x="58" y="40"/>
                    </a:lnTo>
                    <a:lnTo>
                      <a:pt x="65" y="40"/>
                    </a:lnTo>
                    <a:lnTo>
                      <a:pt x="61" y="5"/>
                    </a:lnTo>
                    <a:lnTo>
                      <a:pt x="55" y="5"/>
                    </a:lnTo>
                    <a:lnTo>
                      <a:pt x="49" y="6"/>
                    </a:lnTo>
                    <a:lnTo>
                      <a:pt x="44" y="5"/>
                    </a:lnTo>
                    <a:lnTo>
                      <a:pt x="40" y="5"/>
                    </a:lnTo>
                    <a:lnTo>
                      <a:pt x="35" y="4"/>
                    </a:lnTo>
                    <a:lnTo>
                      <a:pt x="32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786360" y="473868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15" y="0"/>
                    </a:moveTo>
                    <a:lnTo>
                      <a:pt x="15" y="0"/>
                    </a:lnTo>
                    <a:lnTo>
                      <a:pt x="10" y="7"/>
                    </a:lnTo>
                    <a:lnTo>
                      <a:pt x="6" y="14"/>
                    </a:lnTo>
                    <a:lnTo>
                      <a:pt x="3" y="23"/>
                    </a:lnTo>
                    <a:lnTo>
                      <a:pt x="1" y="32"/>
                    </a:lnTo>
                    <a:lnTo>
                      <a:pt x="0" y="41"/>
                    </a:lnTo>
                    <a:lnTo>
                      <a:pt x="1" y="50"/>
                    </a:lnTo>
                    <a:lnTo>
                      <a:pt x="3" y="60"/>
                    </a:lnTo>
                    <a:lnTo>
                      <a:pt x="8" y="68"/>
                    </a:lnTo>
                    <a:lnTo>
                      <a:pt x="37" y="49"/>
                    </a:lnTo>
                    <a:lnTo>
                      <a:pt x="36" y="47"/>
                    </a:lnTo>
                    <a:lnTo>
                      <a:pt x="36" y="44"/>
                    </a:lnTo>
                    <a:lnTo>
                      <a:pt x="34" y="41"/>
                    </a:lnTo>
                    <a:lnTo>
                      <a:pt x="36" y="37"/>
                    </a:lnTo>
                    <a:lnTo>
                      <a:pt x="36" y="32"/>
                    </a:lnTo>
                    <a:lnTo>
                      <a:pt x="38" y="29"/>
                    </a:lnTo>
                    <a:lnTo>
                      <a:pt x="39" y="25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792840" y="4699080"/>
                <a:ext cx="55080" cy="48960"/>
              </a:xfrm>
              <a:custGeom>
                <a:avLst/>
                <a:gdLst/>
                <a:ahLst/>
                <a:rect l="l" t="t" r="r" b="b"/>
                <a:pathLst>
                  <a:path w="141" h="121">
                    <a:moveTo>
                      <a:pt x="117" y="0"/>
                    </a:moveTo>
                    <a:lnTo>
                      <a:pt x="117" y="0"/>
                    </a:lnTo>
                    <a:lnTo>
                      <a:pt x="103" y="12"/>
                    </a:lnTo>
                    <a:lnTo>
                      <a:pt x="89" y="23"/>
                    </a:lnTo>
                    <a:lnTo>
                      <a:pt x="73" y="35"/>
                    </a:lnTo>
                    <a:lnTo>
                      <a:pt x="59" y="46"/>
                    </a:lnTo>
                    <a:lnTo>
                      <a:pt x="43" y="58"/>
                    </a:lnTo>
                    <a:lnTo>
                      <a:pt x="28" y="71"/>
                    </a:lnTo>
                    <a:lnTo>
                      <a:pt x="13" y="84"/>
                    </a:lnTo>
                    <a:lnTo>
                      <a:pt x="0" y="100"/>
                    </a:lnTo>
                    <a:lnTo>
                      <a:pt x="27" y="121"/>
                    </a:lnTo>
                    <a:lnTo>
                      <a:pt x="39" y="108"/>
                    </a:lnTo>
                    <a:lnTo>
                      <a:pt x="52" y="96"/>
                    </a:lnTo>
                    <a:lnTo>
                      <a:pt x="65" y="85"/>
                    </a:lnTo>
                    <a:lnTo>
                      <a:pt x="79" y="73"/>
                    </a:lnTo>
                    <a:lnTo>
                      <a:pt x="95" y="63"/>
                    </a:lnTo>
                    <a:lnTo>
                      <a:pt x="111" y="51"/>
                    </a:lnTo>
                    <a:lnTo>
                      <a:pt x="125" y="39"/>
                    </a:lnTo>
                    <a:lnTo>
                      <a:pt x="141" y="27"/>
                    </a:lnTo>
                    <a:lnTo>
                      <a:pt x="141" y="27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838920" y="4653000"/>
                <a:ext cx="59760" cy="57240"/>
              </a:xfrm>
              <a:custGeom>
                <a:avLst/>
                <a:gdLst/>
                <a:ahLst/>
                <a:rect l="l" t="t" r="r" b="b"/>
                <a:pathLst>
                  <a:path w="153" h="144">
                    <a:moveTo>
                      <a:pt x="124" y="0"/>
                    </a:moveTo>
                    <a:lnTo>
                      <a:pt x="124" y="0"/>
                    </a:lnTo>
                    <a:lnTo>
                      <a:pt x="112" y="15"/>
                    </a:lnTo>
                    <a:lnTo>
                      <a:pt x="98" y="31"/>
                    </a:lnTo>
                    <a:lnTo>
                      <a:pt x="84" y="45"/>
                    </a:lnTo>
                    <a:lnTo>
                      <a:pt x="68" y="60"/>
                    </a:lnTo>
                    <a:lnTo>
                      <a:pt x="51" y="74"/>
                    </a:lnTo>
                    <a:lnTo>
                      <a:pt x="34" y="89"/>
                    </a:lnTo>
                    <a:lnTo>
                      <a:pt x="18" y="103"/>
                    </a:lnTo>
                    <a:lnTo>
                      <a:pt x="0" y="117"/>
                    </a:lnTo>
                    <a:lnTo>
                      <a:pt x="24" y="144"/>
                    </a:lnTo>
                    <a:lnTo>
                      <a:pt x="39" y="129"/>
                    </a:lnTo>
                    <a:lnTo>
                      <a:pt x="56" y="115"/>
                    </a:lnTo>
                    <a:lnTo>
                      <a:pt x="74" y="101"/>
                    </a:lnTo>
                    <a:lnTo>
                      <a:pt x="91" y="86"/>
                    </a:lnTo>
                    <a:lnTo>
                      <a:pt x="108" y="71"/>
                    </a:lnTo>
                    <a:lnTo>
                      <a:pt x="123" y="55"/>
                    </a:lnTo>
                    <a:lnTo>
                      <a:pt x="139" y="38"/>
                    </a:lnTo>
                    <a:lnTo>
                      <a:pt x="153" y="19"/>
                    </a:lnTo>
                    <a:lnTo>
                      <a:pt x="153" y="19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888240" y="4591080"/>
                <a:ext cx="40680" cy="69840"/>
              </a:xfrm>
              <a:custGeom>
                <a:avLst/>
                <a:gdLst/>
                <a:ahLst/>
                <a:rect l="l" t="t" r="r" b="b"/>
                <a:pathLst>
                  <a:path w="105" h="176">
                    <a:moveTo>
                      <a:pt x="71" y="0"/>
                    </a:moveTo>
                    <a:lnTo>
                      <a:pt x="71" y="0"/>
                    </a:lnTo>
                    <a:lnTo>
                      <a:pt x="66" y="20"/>
                    </a:lnTo>
                    <a:lnTo>
                      <a:pt x="60" y="40"/>
                    </a:lnTo>
                    <a:lnTo>
                      <a:pt x="53" y="61"/>
                    </a:lnTo>
                    <a:lnTo>
                      <a:pt x="45" y="81"/>
                    </a:lnTo>
                    <a:lnTo>
                      <a:pt x="35" y="100"/>
                    </a:lnTo>
                    <a:lnTo>
                      <a:pt x="24" y="120"/>
                    </a:lnTo>
                    <a:lnTo>
                      <a:pt x="14" y="139"/>
                    </a:lnTo>
                    <a:lnTo>
                      <a:pt x="0" y="157"/>
                    </a:lnTo>
                    <a:lnTo>
                      <a:pt x="29" y="176"/>
                    </a:lnTo>
                    <a:lnTo>
                      <a:pt x="42" y="157"/>
                    </a:lnTo>
                    <a:lnTo>
                      <a:pt x="54" y="138"/>
                    </a:lnTo>
                    <a:lnTo>
                      <a:pt x="66" y="117"/>
                    </a:lnTo>
                    <a:lnTo>
                      <a:pt x="76" y="96"/>
                    </a:lnTo>
                    <a:lnTo>
                      <a:pt x="86" y="74"/>
                    </a:lnTo>
                    <a:lnTo>
                      <a:pt x="93" y="51"/>
                    </a:lnTo>
                    <a:lnTo>
                      <a:pt x="100" y="28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906960" y="455760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59" h="90">
                    <a:moveTo>
                      <a:pt x="0" y="28"/>
                    </a:moveTo>
                    <a:lnTo>
                      <a:pt x="0" y="28"/>
                    </a:lnTo>
                    <a:lnTo>
                      <a:pt x="6" y="33"/>
                    </a:lnTo>
                    <a:lnTo>
                      <a:pt x="11" y="39"/>
                    </a:lnTo>
                    <a:lnTo>
                      <a:pt x="16" y="45"/>
                    </a:lnTo>
                    <a:lnTo>
                      <a:pt x="19" y="54"/>
                    </a:lnTo>
                    <a:lnTo>
                      <a:pt x="22" y="61"/>
                    </a:lnTo>
                    <a:lnTo>
                      <a:pt x="24" y="69"/>
                    </a:lnTo>
                    <a:lnTo>
                      <a:pt x="24" y="76"/>
                    </a:lnTo>
                    <a:lnTo>
                      <a:pt x="24" y="84"/>
                    </a:lnTo>
                    <a:lnTo>
                      <a:pt x="58" y="90"/>
                    </a:lnTo>
                    <a:lnTo>
                      <a:pt x="59" y="76"/>
                    </a:lnTo>
                    <a:lnTo>
                      <a:pt x="58" y="64"/>
                    </a:lnTo>
                    <a:lnTo>
                      <a:pt x="55" y="52"/>
                    </a:lnTo>
                    <a:lnTo>
                      <a:pt x="52" y="39"/>
                    </a:lnTo>
                    <a:lnTo>
                      <a:pt x="46" y="28"/>
                    </a:lnTo>
                    <a:lnTo>
                      <a:pt x="39" y="18"/>
                    </a:lnTo>
                    <a:lnTo>
                      <a:pt x="30" y="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85000" y="4554360"/>
                <a:ext cx="29520" cy="19080"/>
              </a:xfrm>
              <a:custGeom>
                <a:avLst/>
                <a:gdLst/>
                <a:ahLst/>
                <a:rect l="l" t="t" r="r" b="b"/>
                <a:pathLst>
                  <a:path w="75" h="48">
                    <a:moveTo>
                      <a:pt x="21" y="48"/>
                    </a:moveTo>
                    <a:lnTo>
                      <a:pt x="21" y="48"/>
                    </a:lnTo>
                    <a:lnTo>
                      <a:pt x="25" y="45"/>
                    </a:lnTo>
                    <a:lnTo>
                      <a:pt x="31" y="41"/>
                    </a:lnTo>
                    <a:lnTo>
                      <a:pt x="36" y="39"/>
                    </a:lnTo>
                    <a:lnTo>
                      <a:pt x="42" y="36"/>
                    </a:lnTo>
                    <a:lnTo>
                      <a:pt x="47" y="35"/>
                    </a:lnTo>
                    <a:lnTo>
                      <a:pt x="51" y="35"/>
                    </a:lnTo>
                    <a:lnTo>
                      <a:pt x="53" y="35"/>
                    </a:lnTo>
                    <a:lnTo>
                      <a:pt x="54" y="36"/>
                    </a:lnTo>
                    <a:lnTo>
                      <a:pt x="75" y="8"/>
                    </a:lnTo>
                    <a:lnTo>
                      <a:pt x="64" y="3"/>
                    </a:lnTo>
                    <a:lnTo>
                      <a:pt x="53" y="0"/>
                    </a:lnTo>
                    <a:lnTo>
                      <a:pt x="42" y="2"/>
                    </a:lnTo>
                    <a:lnTo>
                      <a:pt x="33" y="3"/>
                    </a:lnTo>
                    <a:lnTo>
                      <a:pt x="23" y="6"/>
                    </a:lnTo>
                    <a:lnTo>
                      <a:pt x="15" y="11"/>
                    </a:lnTo>
                    <a:lnTo>
                      <a:pt x="6" y="15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1" y="4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70600" y="456264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57" h="82">
                    <a:moveTo>
                      <a:pt x="19" y="82"/>
                    </a:moveTo>
                    <a:lnTo>
                      <a:pt x="19" y="82"/>
                    </a:lnTo>
                    <a:lnTo>
                      <a:pt x="29" y="75"/>
                    </a:lnTo>
                    <a:lnTo>
                      <a:pt x="35" y="66"/>
                    </a:lnTo>
                    <a:lnTo>
                      <a:pt x="40" y="57"/>
                    </a:lnTo>
                    <a:lnTo>
                      <a:pt x="43" y="49"/>
                    </a:lnTo>
                    <a:lnTo>
                      <a:pt x="47" y="42"/>
                    </a:lnTo>
                    <a:lnTo>
                      <a:pt x="51" y="36"/>
                    </a:lnTo>
                    <a:lnTo>
                      <a:pt x="53" y="31"/>
                    </a:lnTo>
                    <a:lnTo>
                      <a:pt x="57" y="28"/>
                    </a:lnTo>
                    <a:lnTo>
                      <a:pt x="36" y="0"/>
                    </a:lnTo>
                    <a:lnTo>
                      <a:pt x="27" y="8"/>
                    </a:lnTo>
                    <a:lnTo>
                      <a:pt x="21" y="18"/>
                    </a:lnTo>
                    <a:lnTo>
                      <a:pt x="16" y="26"/>
                    </a:lnTo>
                    <a:lnTo>
                      <a:pt x="12" y="34"/>
                    </a:lnTo>
                    <a:lnTo>
                      <a:pt x="9" y="42"/>
                    </a:lnTo>
                    <a:lnTo>
                      <a:pt x="6" y="48"/>
                    </a:lnTo>
                    <a:lnTo>
                      <a:pt x="3" y="51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19" y="8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34240" y="4583160"/>
                <a:ext cx="43920" cy="30240"/>
              </a:xfrm>
              <a:custGeom>
                <a:avLst/>
                <a:gdLst/>
                <a:ahLst/>
                <a:rect l="l" t="t" r="r" b="b"/>
                <a:pathLst>
                  <a:path w="114" h="73">
                    <a:moveTo>
                      <a:pt x="3" y="73"/>
                    </a:moveTo>
                    <a:lnTo>
                      <a:pt x="3" y="73"/>
                    </a:lnTo>
                    <a:lnTo>
                      <a:pt x="18" y="72"/>
                    </a:lnTo>
                    <a:lnTo>
                      <a:pt x="33" y="68"/>
                    </a:lnTo>
                    <a:lnTo>
                      <a:pt x="48" y="63"/>
                    </a:lnTo>
                    <a:lnTo>
                      <a:pt x="63" y="57"/>
                    </a:lnTo>
                    <a:lnTo>
                      <a:pt x="76" y="51"/>
                    </a:lnTo>
                    <a:lnTo>
                      <a:pt x="89" y="44"/>
                    </a:lnTo>
                    <a:lnTo>
                      <a:pt x="102" y="36"/>
                    </a:lnTo>
                    <a:lnTo>
                      <a:pt x="114" y="27"/>
                    </a:lnTo>
                    <a:lnTo>
                      <a:pt x="95" y="0"/>
                    </a:lnTo>
                    <a:lnTo>
                      <a:pt x="83" y="7"/>
                    </a:lnTo>
                    <a:lnTo>
                      <a:pt x="72" y="14"/>
                    </a:lnTo>
                    <a:lnTo>
                      <a:pt x="60" y="20"/>
                    </a:lnTo>
                    <a:lnTo>
                      <a:pt x="48" y="26"/>
                    </a:lnTo>
                    <a:lnTo>
                      <a:pt x="36" y="31"/>
                    </a:lnTo>
                    <a:lnTo>
                      <a:pt x="24" y="35"/>
                    </a:lnTo>
                    <a:lnTo>
                      <a:pt x="12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799320" y="4592520"/>
                <a:ext cx="34560" cy="208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0" y="12"/>
                    </a:moveTo>
                    <a:lnTo>
                      <a:pt x="0" y="12"/>
                    </a:lnTo>
                    <a:lnTo>
                      <a:pt x="2" y="18"/>
                    </a:lnTo>
                    <a:lnTo>
                      <a:pt x="7" y="25"/>
                    </a:lnTo>
                    <a:lnTo>
                      <a:pt x="12" y="30"/>
                    </a:lnTo>
                    <a:lnTo>
                      <a:pt x="18" y="35"/>
                    </a:lnTo>
                    <a:lnTo>
                      <a:pt x="27" y="42"/>
                    </a:lnTo>
                    <a:lnTo>
                      <a:pt x="41" y="47"/>
                    </a:lnTo>
                    <a:lnTo>
                      <a:pt x="53" y="51"/>
                    </a:lnTo>
                    <a:lnTo>
                      <a:pt x="66" y="53"/>
                    </a:lnTo>
                    <a:lnTo>
                      <a:pt x="78" y="54"/>
                    </a:lnTo>
                    <a:lnTo>
                      <a:pt x="90" y="53"/>
                    </a:lnTo>
                    <a:lnTo>
                      <a:pt x="87" y="19"/>
                    </a:lnTo>
                    <a:lnTo>
                      <a:pt x="79" y="19"/>
                    </a:lnTo>
                    <a:lnTo>
                      <a:pt x="69" y="18"/>
                    </a:lnTo>
                    <a:lnTo>
                      <a:pt x="60" y="17"/>
                    </a:lnTo>
                    <a:lnTo>
                      <a:pt x="51" y="15"/>
                    </a:lnTo>
                    <a:lnTo>
                      <a:pt x="44" y="11"/>
                    </a:lnTo>
                    <a:lnTo>
                      <a:pt x="37" y="7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796080" y="4543560"/>
                <a:ext cx="20160" cy="54000"/>
              </a:xfrm>
              <a:custGeom>
                <a:avLst/>
                <a:gdLst/>
                <a:ahLst/>
                <a:rect l="l" t="t" r="r" b="b"/>
                <a:pathLst>
                  <a:path w="51" h="135">
                    <a:moveTo>
                      <a:pt x="17" y="0"/>
                    </a:moveTo>
                    <a:lnTo>
                      <a:pt x="17" y="0"/>
                    </a:lnTo>
                    <a:lnTo>
                      <a:pt x="14" y="15"/>
                    </a:lnTo>
                    <a:lnTo>
                      <a:pt x="12" y="30"/>
                    </a:lnTo>
                    <a:lnTo>
                      <a:pt x="7" y="46"/>
                    </a:lnTo>
                    <a:lnTo>
                      <a:pt x="3" y="63"/>
                    </a:lnTo>
                    <a:lnTo>
                      <a:pt x="1" y="80"/>
                    </a:lnTo>
                    <a:lnTo>
                      <a:pt x="0" y="97"/>
                    </a:lnTo>
                    <a:lnTo>
                      <a:pt x="0" y="108"/>
                    </a:lnTo>
                    <a:lnTo>
                      <a:pt x="1" y="116"/>
                    </a:lnTo>
                    <a:lnTo>
                      <a:pt x="2" y="126"/>
                    </a:lnTo>
                    <a:lnTo>
                      <a:pt x="6" y="135"/>
                    </a:lnTo>
                    <a:lnTo>
                      <a:pt x="38" y="123"/>
                    </a:lnTo>
                    <a:lnTo>
                      <a:pt x="36" y="117"/>
                    </a:lnTo>
                    <a:lnTo>
                      <a:pt x="35" y="111"/>
                    </a:lnTo>
                    <a:lnTo>
                      <a:pt x="35" y="105"/>
                    </a:lnTo>
                    <a:lnTo>
                      <a:pt x="33" y="99"/>
                    </a:lnTo>
                    <a:lnTo>
                      <a:pt x="35" y="85"/>
                    </a:lnTo>
                    <a:lnTo>
                      <a:pt x="38" y="69"/>
                    </a:lnTo>
                    <a:lnTo>
                      <a:pt x="42" y="54"/>
                    </a:lnTo>
                    <a:lnTo>
                      <a:pt x="45" y="38"/>
                    </a:lnTo>
                    <a:lnTo>
                      <a:pt x="49" y="20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802200" y="450540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45" h="99">
                    <a:moveTo>
                      <a:pt x="7" y="14"/>
                    </a:moveTo>
                    <a:lnTo>
                      <a:pt x="7" y="14"/>
                    </a:lnTo>
                    <a:lnTo>
                      <a:pt x="9" y="21"/>
                    </a:lnTo>
                    <a:lnTo>
                      <a:pt x="10" y="28"/>
                    </a:lnTo>
                    <a:lnTo>
                      <a:pt x="9" y="38"/>
                    </a:lnTo>
                    <a:lnTo>
                      <a:pt x="8" y="49"/>
                    </a:lnTo>
                    <a:lnTo>
                      <a:pt x="6" y="60"/>
                    </a:lnTo>
                    <a:lnTo>
                      <a:pt x="3" y="72"/>
                    </a:lnTo>
                    <a:lnTo>
                      <a:pt x="1" y="84"/>
                    </a:lnTo>
                    <a:lnTo>
                      <a:pt x="0" y="96"/>
                    </a:lnTo>
                    <a:lnTo>
                      <a:pt x="34" y="99"/>
                    </a:lnTo>
                    <a:lnTo>
                      <a:pt x="36" y="88"/>
                    </a:lnTo>
                    <a:lnTo>
                      <a:pt x="38" y="78"/>
                    </a:lnTo>
                    <a:lnTo>
                      <a:pt x="40" y="67"/>
                    </a:lnTo>
                    <a:lnTo>
                      <a:pt x="43" y="54"/>
                    </a:lnTo>
                    <a:lnTo>
                      <a:pt x="44" y="42"/>
                    </a:lnTo>
                    <a:lnTo>
                      <a:pt x="45" y="27"/>
                    </a:lnTo>
                    <a:lnTo>
                      <a:pt x="43" y="14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791400" y="449280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0" y="35"/>
                    </a:moveTo>
                    <a:lnTo>
                      <a:pt x="0" y="35"/>
                    </a:lnTo>
                    <a:lnTo>
                      <a:pt x="8" y="35"/>
                    </a:lnTo>
                    <a:lnTo>
                      <a:pt x="15" y="35"/>
                    </a:lnTo>
                    <a:lnTo>
                      <a:pt x="22" y="36"/>
                    </a:lnTo>
                    <a:lnTo>
                      <a:pt x="28" y="37"/>
                    </a:lnTo>
                    <a:lnTo>
                      <a:pt x="33" y="38"/>
                    </a:lnTo>
                    <a:lnTo>
                      <a:pt x="36" y="41"/>
                    </a:lnTo>
                    <a:lnTo>
                      <a:pt x="38" y="42"/>
                    </a:lnTo>
                    <a:lnTo>
                      <a:pt x="39" y="43"/>
                    </a:lnTo>
                    <a:lnTo>
                      <a:pt x="71" y="29"/>
                    </a:lnTo>
                    <a:lnTo>
                      <a:pt x="64" y="18"/>
                    </a:lnTo>
                    <a:lnTo>
                      <a:pt x="56" y="11"/>
                    </a:lnTo>
                    <a:lnTo>
                      <a:pt x="46" y="6"/>
                    </a:lnTo>
                    <a:lnTo>
                      <a:pt x="35" y="3"/>
                    </a:lnTo>
                    <a:lnTo>
                      <a:pt x="26" y="1"/>
                    </a:lnTo>
                    <a:lnTo>
                      <a:pt x="17" y="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737400" y="4492800"/>
                <a:ext cx="53640" cy="21960"/>
              </a:xfrm>
              <a:custGeom>
                <a:avLst/>
                <a:gdLst/>
                <a:ahLst/>
                <a:rect l="l" t="t" r="r" b="b"/>
                <a:pathLst>
                  <a:path w="134" h="53">
                    <a:moveTo>
                      <a:pt x="0" y="53"/>
                    </a:moveTo>
                    <a:lnTo>
                      <a:pt x="0" y="53"/>
                    </a:lnTo>
                    <a:lnTo>
                      <a:pt x="18" y="53"/>
                    </a:lnTo>
                    <a:lnTo>
                      <a:pt x="36" y="51"/>
                    </a:lnTo>
                    <a:lnTo>
                      <a:pt x="54" y="49"/>
                    </a:lnTo>
                    <a:lnTo>
                      <a:pt x="71" y="45"/>
                    </a:lnTo>
                    <a:lnTo>
                      <a:pt x="88" y="41"/>
                    </a:lnTo>
                    <a:lnTo>
                      <a:pt x="103" y="38"/>
                    </a:lnTo>
                    <a:lnTo>
                      <a:pt x="119" y="36"/>
                    </a:lnTo>
                    <a:lnTo>
                      <a:pt x="134" y="35"/>
                    </a:lnTo>
                    <a:lnTo>
                      <a:pt x="134" y="0"/>
                    </a:lnTo>
                    <a:lnTo>
                      <a:pt x="115" y="1"/>
                    </a:lnTo>
                    <a:lnTo>
                      <a:pt x="98" y="3"/>
                    </a:lnTo>
                    <a:lnTo>
                      <a:pt x="80" y="7"/>
                    </a:lnTo>
                    <a:lnTo>
                      <a:pt x="64" y="11"/>
                    </a:lnTo>
                    <a:lnTo>
                      <a:pt x="48" y="14"/>
                    </a:lnTo>
                    <a:lnTo>
                      <a:pt x="32" y="17"/>
                    </a:lnTo>
                    <a:lnTo>
                      <a:pt x="17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691320" y="4487760"/>
                <a:ext cx="47160" cy="27000"/>
              </a:xfrm>
              <a:custGeom>
                <a:avLst/>
                <a:gdLst/>
                <a:ahLst/>
                <a:rect l="l" t="t" r="r" b="b"/>
                <a:pathLst>
                  <a:path w="120" h="68">
                    <a:moveTo>
                      <a:pt x="0" y="29"/>
                    </a:moveTo>
                    <a:lnTo>
                      <a:pt x="0" y="29"/>
                    </a:lnTo>
                    <a:lnTo>
                      <a:pt x="14" y="36"/>
                    </a:lnTo>
                    <a:lnTo>
                      <a:pt x="27" y="44"/>
                    </a:lnTo>
                    <a:lnTo>
                      <a:pt x="41" y="51"/>
                    </a:lnTo>
                    <a:lnTo>
                      <a:pt x="57" y="56"/>
                    </a:lnTo>
                    <a:lnTo>
                      <a:pt x="71" y="60"/>
                    </a:lnTo>
                    <a:lnTo>
                      <a:pt x="87" y="64"/>
                    </a:lnTo>
                    <a:lnTo>
                      <a:pt x="102" y="66"/>
                    </a:lnTo>
                    <a:lnTo>
                      <a:pt x="118" y="68"/>
                    </a:lnTo>
                    <a:lnTo>
                      <a:pt x="120" y="33"/>
                    </a:lnTo>
                    <a:lnTo>
                      <a:pt x="107" y="32"/>
                    </a:lnTo>
                    <a:lnTo>
                      <a:pt x="94" y="29"/>
                    </a:lnTo>
                    <a:lnTo>
                      <a:pt x="81" y="27"/>
                    </a:lnTo>
                    <a:lnTo>
                      <a:pt x="68" y="23"/>
                    </a:lnTo>
                    <a:lnTo>
                      <a:pt x="54" y="18"/>
                    </a:lnTo>
                    <a:lnTo>
                      <a:pt x="42" y="12"/>
                    </a:lnTo>
                    <a:lnTo>
                      <a:pt x="3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669000" y="4459320"/>
                <a:ext cx="28080" cy="39600"/>
              </a:xfrm>
              <a:custGeom>
                <a:avLst/>
                <a:gdLst/>
                <a:ahLst/>
                <a:rect l="l" t="t" r="r" b="b"/>
                <a:pathLst>
                  <a:path w="76" h="101">
                    <a:moveTo>
                      <a:pt x="0" y="27"/>
                    </a:moveTo>
                    <a:lnTo>
                      <a:pt x="0" y="27"/>
                    </a:lnTo>
                    <a:lnTo>
                      <a:pt x="6" y="33"/>
                    </a:lnTo>
                    <a:lnTo>
                      <a:pt x="12" y="40"/>
                    </a:lnTo>
                    <a:lnTo>
                      <a:pt x="17" y="50"/>
                    </a:lnTo>
                    <a:lnTo>
                      <a:pt x="23" y="59"/>
                    </a:lnTo>
                    <a:lnTo>
                      <a:pt x="29" y="70"/>
                    </a:lnTo>
                    <a:lnTo>
                      <a:pt x="36" y="81"/>
                    </a:lnTo>
                    <a:lnTo>
                      <a:pt x="44" y="92"/>
                    </a:lnTo>
                    <a:lnTo>
                      <a:pt x="56" y="101"/>
                    </a:lnTo>
                    <a:lnTo>
                      <a:pt x="76" y="72"/>
                    </a:lnTo>
                    <a:lnTo>
                      <a:pt x="70" y="66"/>
                    </a:lnTo>
                    <a:lnTo>
                      <a:pt x="64" y="60"/>
                    </a:lnTo>
                    <a:lnTo>
                      <a:pt x="58" y="52"/>
                    </a:lnTo>
                    <a:lnTo>
                      <a:pt x="53" y="42"/>
                    </a:lnTo>
                    <a:lnTo>
                      <a:pt x="47" y="32"/>
                    </a:lnTo>
                    <a:lnTo>
                      <a:pt x="41" y="21"/>
                    </a:lnTo>
                    <a:lnTo>
                      <a:pt x="32" y="1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648480" y="444816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73" h="55">
                    <a:moveTo>
                      <a:pt x="0" y="34"/>
                    </a:moveTo>
                    <a:lnTo>
                      <a:pt x="0" y="34"/>
                    </a:lnTo>
                    <a:lnTo>
                      <a:pt x="6" y="36"/>
                    </a:lnTo>
                    <a:lnTo>
                      <a:pt x="13" y="37"/>
                    </a:lnTo>
                    <a:lnTo>
                      <a:pt x="20" y="39"/>
                    </a:lnTo>
                    <a:lnTo>
                      <a:pt x="26" y="42"/>
                    </a:lnTo>
                    <a:lnTo>
                      <a:pt x="33" y="44"/>
                    </a:lnTo>
                    <a:lnTo>
                      <a:pt x="39" y="48"/>
                    </a:lnTo>
                    <a:lnTo>
                      <a:pt x="45" y="51"/>
                    </a:lnTo>
                    <a:lnTo>
                      <a:pt x="50" y="55"/>
                    </a:lnTo>
                    <a:lnTo>
                      <a:pt x="73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3"/>
                    </a:lnTo>
                    <a:lnTo>
                      <a:pt x="39" y="9"/>
                    </a:lnTo>
                    <a:lnTo>
                      <a:pt x="30" y="6"/>
                    </a:lnTo>
                    <a:lnTo>
                      <a:pt x="21" y="3"/>
                    </a:lnTo>
                    <a:lnTo>
                      <a:pt x="1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586560" y="4446720"/>
                <a:ext cx="63000" cy="17280"/>
              </a:xfrm>
              <a:custGeom>
                <a:avLst/>
                <a:gdLst/>
                <a:ahLst/>
                <a:rect l="l" t="t" r="r" b="b"/>
                <a:pathLst>
                  <a:path w="160" h="42">
                    <a:moveTo>
                      <a:pt x="2" y="42"/>
                    </a:moveTo>
                    <a:lnTo>
                      <a:pt x="2" y="42"/>
                    </a:lnTo>
                    <a:lnTo>
                      <a:pt x="22" y="41"/>
                    </a:lnTo>
                    <a:lnTo>
                      <a:pt x="41" y="40"/>
                    </a:lnTo>
                    <a:lnTo>
                      <a:pt x="62" y="39"/>
                    </a:lnTo>
                    <a:lnTo>
                      <a:pt x="81" y="38"/>
                    </a:lnTo>
                    <a:lnTo>
                      <a:pt x="100" y="36"/>
                    </a:lnTo>
                    <a:lnTo>
                      <a:pt x="119" y="35"/>
                    </a:lnTo>
                    <a:lnTo>
                      <a:pt x="138" y="35"/>
                    </a:lnTo>
                    <a:lnTo>
                      <a:pt x="158" y="36"/>
                    </a:lnTo>
                    <a:lnTo>
                      <a:pt x="160" y="2"/>
                    </a:lnTo>
                    <a:lnTo>
                      <a:pt x="140" y="0"/>
                    </a:lnTo>
                    <a:lnTo>
                      <a:pt x="119" y="0"/>
                    </a:lnTo>
                    <a:lnTo>
                      <a:pt x="99" y="2"/>
                    </a:lnTo>
                    <a:lnTo>
                      <a:pt x="78" y="3"/>
                    </a:lnTo>
                    <a:lnTo>
                      <a:pt x="59" y="4"/>
                    </a:lnTo>
                    <a:lnTo>
                      <a:pt x="39" y="5"/>
                    </a:lnTo>
                    <a:lnTo>
                      <a:pt x="2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514920" y="4449600"/>
                <a:ext cx="71280" cy="17640"/>
              </a:xfrm>
              <a:custGeom>
                <a:avLst/>
                <a:gdLst/>
                <a:ahLst/>
                <a:rect l="l" t="t" r="r" b="b"/>
                <a:pathLst>
                  <a:path w="179" h="44">
                    <a:moveTo>
                      <a:pt x="0" y="40"/>
                    </a:moveTo>
                    <a:lnTo>
                      <a:pt x="0" y="40"/>
                    </a:lnTo>
                    <a:lnTo>
                      <a:pt x="23" y="43"/>
                    </a:lnTo>
                    <a:lnTo>
                      <a:pt x="45" y="44"/>
                    </a:lnTo>
                    <a:lnTo>
                      <a:pt x="68" y="43"/>
                    </a:lnTo>
                    <a:lnTo>
                      <a:pt x="91" y="42"/>
                    </a:lnTo>
                    <a:lnTo>
                      <a:pt x="113" y="39"/>
                    </a:lnTo>
                    <a:lnTo>
                      <a:pt x="135" y="38"/>
                    </a:lnTo>
                    <a:lnTo>
                      <a:pt x="157" y="36"/>
                    </a:lnTo>
                    <a:lnTo>
                      <a:pt x="179" y="34"/>
                    </a:lnTo>
                    <a:lnTo>
                      <a:pt x="177" y="0"/>
                    </a:lnTo>
                    <a:lnTo>
                      <a:pt x="155" y="1"/>
                    </a:lnTo>
                    <a:lnTo>
                      <a:pt x="132" y="3"/>
                    </a:lnTo>
                    <a:lnTo>
                      <a:pt x="110" y="6"/>
                    </a:lnTo>
                    <a:lnTo>
                      <a:pt x="89" y="7"/>
                    </a:lnTo>
                    <a:lnTo>
                      <a:pt x="67" y="8"/>
                    </a:lnTo>
                    <a:lnTo>
                      <a:pt x="45" y="9"/>
                    </a:lnTo>
                    <a:lnTo>
                      <a:pt x="2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480000" y="4437000"/>
                <a:ext cx="36360" cy="28800"/>
              </a:xfrm>
              <a:custGeom>
                <a:avLst/>
                <a:gdLst/>
                <a:ahLst/>
                <a:rect l="l" t="t" r="r" b="b"/>
                <a:pathLst>
                  <a:path w="93" h="73">
                    <a:moveTo>
                      <a:pt x="0" y="28"/>
                    </a:moveTo>
                    <a:lnTo>
                      <a:pt x="0" y="28"/>
                    </a:lnTo>
                    <a:lnTo>
                      <a:pt x="10" y="35"/>
                    </a:lnTo>
                    <a:lnTo>
                      <a:pt x="19" y="42"/>
                    </a:lnTo>
                    <a:lnTo>
                      <a:pt x="29" y="48"/>
                    </a:lnTo>
                    <a:lnTo>
                      <a:pt x="40" y="55"/>
                    </a:lnTo>
                    <a:lnTo>
                      <a:pt x="51" y="61"/>
                    </a:lnTo>
                    <a:lnTo>
                      <a:pt x="61" y="66"/>
                    </a:lnTo>
                    <a:lnTo>
                      <a:pt x="75" y="71"/>
                    </a:lnTo>
                    <a:lnTo>
                      <a:pt x="88" y="73"/>
                    </a:lnTo>
                    <a:lnTo>
                      <a:pt x="93" y="40"/>
                    </a:lnTo>
                    <a:lnTo>
                      <a:pt x="83" y="37"/>
                    </a:lnTo>
                    <a:lnTo>
                      <a:pt x="75" y="35"/>
                    </a:lnTo>
                    <a:lnTo>
                      <a:pt x="66" y="30"/>
                    </a:lnTo>
                    <a:lnTo>
                      <a:pt x="58" y="25"/>
                    </a:lnTo>
                    <a:lnTo>
                      <a:pt x="48" y="19"/>
                    </a:lnTo>
                    <a:lnTo>
                      <a:pt x="40" y="13"/>
                    </a:lnTo>
                    <a:lnTo>
                      <a:pt x="30" y="7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54800" y="441648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88" h="82">
                    <a:moveTo>
                      <a:pt x="0" y="15"/>
                    </a:moveTo>
                    <a:lnTo>
                      <a:pt x="0" y="15"/>
                    </a:lnTo>
                    <a:lnTo>
                      <a:pt x="6" y="26"/>
                    </a:lnTo>
                    <a:lnTo>
                      <a:pt x="13" y="36"/>
                    </a:lnTo>
                    <a:lnTo>
                      <a:pt x="22" y="46"/>
                    </a:lnTo>
                    <a:lnTo>
                      <a:pt x="30" y="54"/>
                    </a:lnTo>
                    <a:lnTo>
                      <a:pt x="40" y="61"/>
                    </a:lnTo>
                    <a:lnTo>
                      <a:pt x="49" y="69"/>
                    </a:lnTo>
                    <a:lnTo>
                      <a:pt x="58" y="76"/>
                    </a:lnTo>
                    <a:lnTo>
                      <a:pt x="66" y="82"/>
                    </a:lnTo>
                    <a:lnTo>
                      <a:pt x="88" y="54"/>
                    </a:lnTo>
                    <a:lnTo>
                      <a:pt x="78" y="48"/>
                    </a:lnTo>
                    <a:lnTo>
                      <a:pt x="70" y="41"/>
                    </a:lnTo>
                    <a:lnTo>
                      <a:pt x="61" y="35"/>
                    </a:lnTo>
                    <a:lnTo>
                      <a:pt x="54" y="28"/>
                    </a:lnTo>
                    <a:lnTo>
                      <a:pt x="47" y="22"/>
                    </a:lnTo>
                    <a:lnTo>
                      <a:pt x="41" y="15"/>
                    </a:lnTo>
                    <a:lnTo>
                      <a:pt x="36" y="9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453000" y="4390920"/>
                <a:ext cx="15480" cy="30240"/>
              </a:xfrm>
              <a:custGeom>
                <a:avLst/>
                <a:gdLst/>
                <a:ahLst/>
                <a:rect l="l" t="t" r="r" b="b"/>
                <a:pathLst>
                  <a:path w="41" h="77">
                    <a:moveTo>
                      <a:pt x="26" y="0"/>
                    </a:moveTo>
                    <a:lnTo>
                      <a:pt x="26" y="0"/>
                    </a:lnTo>
                    <a:lnTo>
                      <a:pt x="16" y="7"/>
                    </a:lnTo>
                    <a:lnTo>
                      <a:pt x="9" y="16"/>
                    </a:lnTo>
                    <a:lnTo>
                      <a:pt x="4" y="26"/>
                    </a:lnTo>
                    <a:lnTo>
                      <a:pt x="2" y="36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3" y="67"/>
                    </a:lnTo>
                    <a:lnTo>
                      <a:pt x="5" y="77"/>
                    </a:lnTo>
                    <a:lnTo>
                      <a:pt x="38" y="62"/>
                    </a:lnTo>
                    <a:lnTo>
                      <a:pt x="36" y="59"/>
                    </a:lnTo>
                    <a:lnTo>
                      <a:pt x="35" y="54"/>
                    </a:lnTo>
                    <a:lnTo>
                      <a:pt x="35" y="48"/>
                    </a:lnTo>
                    <a:lnTo>
                      <a:pt x="35" y="42"/>
                    </a:lnTo>
                    <a:lnTo>
                      <a:pt x="36" y="37"/>
                    </a:lnTo>
                    <a:lnTo>
                      <a:pt x="39" y="34"/>
                    </a:lnTo>
                    <a:lnTo>
                      <a:pt x="40" y="31"/>
                    </a:lnTo>
                    <a:lnTo>
                      <a:pt x="41" y="30"/>
                    </a:lnTo>
                    <a:lnTo>
                      <a:pt x="41" y="3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462720" y="4383000"/>
                <a:ext cx="50400" cy="19080"/>
              </a:xfrm>
              <a:custGeom>
                <a:avLst/>
                <a:gdLst/>
                <a:ahLst/>
                <a:rect l="l" t="t" r="r" b="b"/>
                <a:pathLst>
                  <a:path w="129" h="50">
                    <a:moveTo>
                      <a:pt x="128" y="0"/>
                    </a:moveTo>
                    <a:lnTo>
                      <a:pt x="128" y="0"/>
                    </a:lnTo>
                    <a:lnTo>
                      <a:pt x="112" y="0"/>
                    </a:lnTo>
                    <a:lnTo>
                      <a:pt x="97" y="1"/>
                    </a:lnTo>
                    <a:lnTo>
                      <a:pt x="81" y="1"/>
                    </a:lnTo>
                    <a:lnTo>
                      <a:pt x="64" y="2"/>
                    </a:lnTo>
                    <a:lnTo>
                      <a:pt x="48" y="4"/>
                    </a:lnTo>
                    <a:lnTo>
                      <a:pt x="32" y="8"/>
                    </a:lnTo>
                    <a:lnTo>
                      <a:pt x="15" y="13"/>
                    </a:lnTo>
                    <a:lnTo>
                      <a:pt x="0" y="20"/>
                    </a:lnTo>
                    <a:lnTo>
                      <a:pt x="15" y="50"/>
                    </a:lnTo>
                    <a:lnTo>
                      <a:pt x="27" y="45"/>
                    </a:lnTo>
                    <a:lnTo>
                      <a:pt x="40" y="42"/>
                    </a:lnTo>
                    <a:lnTo>
                      <a:pt x="54" y="38"/>
                    </a:lnTo>
                    <a:lnTo>
                      <a:pt x="68" y="37"/>
                    </a:lnTo>
                    <a:lnTo>
                      <a:pt x="82" y="36"/>
                    </a:lnTo>
                    <a:lnTo>
                      <a:pt x="98" y="34"/>
                    </a:lnTo>
                    <a:lnTo>
                      <a:pt x="114" y="34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513480" y="4383000"/>
                <a:ext cx="82080" cy="15840"/>
              </a:xfrm>
              <a:custGeom>
                <a:avLst/>
                <a:gdLst/>
                <a:ahLst/>
                <a:rect l="l" t="t" r="r" b="b"/>
                <a:pathLst>
                  <a:path w="209" h="42">
                    <a:moveTo>
                      <a:pt x="205" y="6"/>
                    </a:moveTo>
                    <a:lnTo>
                      <a:pt x="205" y="6"/>
                    </a:lnTo>
                    <a:lnTo>
                      <a:pt x="181" y="7"/>
                    </a:lnTo>
                    <a:lnTo>
                      <a:pt x="156" y="7"/>
                    </a:lnTo>
                    <a:lnTo>
                      <a:pt x="131" y="6"/>
                    </a:lnTo>
                    <a:lnTo>
                      <a:pt x="106" y="3"/>
                    </a:lnTo>
                    <a:lnTo>
                      <a:pt x="79" y="2"/>
                    </a:lnTo>
                    <a:lnTo>
                      <a:pt x="53" y="1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1" y="34"/>
                    </a:lnTo>
                    <a:lnTo>
                      <a:pt x="26" y="34"/>
                    </a:lnTo>
                    <a:lnTo>
                      <a:pt x="52" y="34"/>
                    </a:lnTo>
                    <a:lnTo>
                      <a:pt x="77" y="37"/>
                    </a:lnTo>
                    <a:lnTo>
                      <a:pt x="103" y="38"/>
                    </a:lnTo>
                    <a:lnTo>
                      <a:pt x="128" y="40"/>
                    </a:lnTo>
                    <a:lnTo>
                      <a:pt x="155" y="42"/>
                    </a:lnTo>
                    <a:lnTo>
                      <a:pt x="181" y="42"/>
                    </a:lnTo>
                    <a:lnTo>
                      <a:pt x="209" y="40"/>
                    </a:lnTo>
                    <a:lnTo>
                      <a:pt x="209" y="40"/>
                    </a:lnTo>
                    <a:lnTo>
                      <a:pt x="205" y="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594480" y="4373640"/>
                <a:ext cx="50400" cy="25200"/>
              </a:xfrm>
              <a:custGeom>
                <a:avLst/>
                <a:gdLst/>
                <a:ahLst/>
                <a:rect l="l" t="t" r="r" b="b"/>
                <a:pathLst>
                  <a:path w="127" h="64">
                    <a:moveTo>
                      <a:pt x="119" y="0"/>
                    </a:moveTo>
                    <a:lnTo>
                      <a:pt x="119" y="0"/>
                    </a:lnTo>
                    <a:lnTo>
                      <a:pt x="103" y="4"/>
                    </a:lnTo>
                    <a:lnTo>
                      <a:pt x="88" y="8"/>
                    </a:lnTo>
                    <a:lnTo>
                      <a:pt x="73" y="13"/>
                    </a:lnTo>
                    <a:lnTo>
                      <a:pt x="58" y="18"/>
                    </a:lnTo>
                    <a:lnTo>
                      <a:pt x="43" y="22"/>
                    </a:lnTo>
                    <a:lnTo>
                      <a:pt x="29" y="25"/>
                    </a:lnTo>
                    <a:lnTo>
                      <a:pt x="15" y="28"/>
                    </a:lnTo>
                    <a:lnTo>
                      <a:pt x="0" y="30"/>
                    </a:lnTo>
                    <a:lnTo>
                      <a:pt x="4" y="64"/>
                    </a:lnTo>
                    <a:lnTo>
                      <a:pt x="21" y="62"/>
                    </a:lnTo>
                    <a:lnTo>
                      <a:pt x="36" y="60"/>
                    </a:lnTo>
                    <a:lnTo>
                      <a:pt x="52" y="56"/>
                    </a:lnTo>
                    <a:lnTo>
                      <a:pt x="67" y="51"/>
                    </a:lnTo>
                    <a:lnTo>
                      <a:pt x="83" y="46"/>
                    </a:lnTo>
                    <a:lnTo>
                      <a:pt x="99" y="42"/>
                    </a:lnTo>
                    <a:lnTo>
                      <a:pt x="113" y="37"/>
                    </a:lnTo>
                    <a:lnTo>
                      <a:pt x="127" y="33"/>
                    </a:lnTo>
                    <a:lnTo>
                      <a:pt x="127" y="33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642000" y="43657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86" y="2"/>
                    </a:moveTo>
                    <a:lnTo>
                      <a:pt x="86" y="2"/>
                    </a:lnTo>
                    <a:lnTo>
                      <a:pt x="73" y="0"/>
                    </a:lnTo>
                    <a:lnTo>
                      <a:pt x="61" y="2"/>
                    </a:lnTo>
                    <a:lnTo>
                      <a:pt x="49" y="4"/>
                    </a:lnTo>
                    <a:lnTo>
                      <a:pt x="38" y="6"/>
                    </a:lnTo>
                    <a:lnTo>
                      <a:pt x="28" y="10"/>
                    </a:lnTo>
                    <a:lnTo>
                      <a:pt x="18" y="14"/>
                    </a:lnTo>
                    <a:lnTo>
                      <a:pt x="8" y="17"/>
                    </a:lnTo>
                    <a:lnTo>
                      <a:pt x="0" y="20"/>
                    </a:lnTo>
                    <a:lnTo>
                      <a:pt x="8" y="53"/>
                    </a:lnTo>
                    <a:lnTo>
                      <a:pt x="19" y="51"/>
                    </a:lnTo>
                    <a:lnTo>
                      <a:pt x="30" y="47"/>
                    </a:lnTo>
                    <a:lnTo>
                      <a:pt x="40" y="44"/>
                    </a:lnTo>
                    <a:lnTo>
                      <a:pt x="49" y="40"/>
                    </a:lnTo>
                    <a:lnTo>
                      <a:pt x="58" y="38"/>
                    </a:lnTo>
                    <a:lnTo>
                      <a:pt x="66" y="35"/>
                    </a:lnTo>
                    <a:lnTo>
                      <a:pt x="73" y="35"/>
                    </a:lnTo>
                    <a:lnTo>
                      <a:pt x="80" y="35"/>
                    </a:lnTo>
                    <a:lnTo>
                      <a:pt x="80" y="35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673680" y="4365720"/>
                <a:ext cx="61560" cy="38160"/>
              </a:xfrm>
              <a:custGeom>
                <a:avLst/>
                <a:gdLst/>
                <a:ahLst/>
                <a:rect l="l" t="t" r="r" b="b"/>
                <a:pathLst>
                  <a:path w="156" h="93">
                    <a:moveTo>
                      <a:pt x="156" y="62"/>
                    </a:moveTo>
                    <a:lnTo>
                      <a:pt x="156" y="62"/>
                    </a:lnTo>
                    <a:lnTo>
                      <a:pt x="138" y="52"/>
                    </a:lnTo>
                    <a:lnTo>
                      <a:pt x="122" y="44"/>
                    </a:lnTo>
                    <a:lnTo>
                      <a:pt x="104" y="34"/>
                    </a:lnTo>
                    <a:lnTo>
                      <a:pt x="84" y="26"/>
                    </a:lnTo>
                    <a:lnTo>
                      <a:pt x="66" y="18"/>
                    </a:lnTo>
                    <a:lnTo>
                      <a:pt x="47" y="10"/>
                    </a:lnTo>
                    <a:lnTo>
                      <a:pt x="27" y="4"/>
                    </a:lnTo>
                    <a:lnTo>
                      <a:pt x="6" y="0"/>
                    </a:lnTo>
                    <a:lnTo>
                      <a:pt x="0" y="33"/>
                    </a:lnTo>
                    <a:lnTo>
                      <a:pt x="17" y="38"/>
                    </a:lnTo>
                    <a:lnTo>
                      <a:pt x="35" y="43"/>
                    </a:lnTo>
                    <a:lnTo>
                      <a:pt x="53" y="50"/>
                    </a:lnTo>
                    <a:lnTo>
                      <a:pt x="70" y="57"/>
                    </a:lnTo>
                    <a:lnTo>
                      <a:pt x="88" y="66"/>
                    </a:lnTo>
                    <a:lnTo>
                      <a:pt x="106" y="75"/>
                    </a:lnTo>
                    <a:lnTo>
                      <a:pt x="123" y="84"/>
                    </a:lnTo>
                    <a:lnTo>
                      <a:pt x="141" y="93"/>
                    </a:lnTo>
                    <a:lnTo>
                      <a:pt x="141" y="93"/>
                    </a:lnTo>
                    <a:lnTo>
                      <a:pt x="156" y="6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729480" y="4390920"/>
                <a:ext cx="50400" cy="39960"/>
              </a:xfrm>
              <a:custGeom>
                <a:avLst/>
                <a:gdLst/>
                <a:ahLst/>
                <a:rect l="l" t="t" r="r" b="b"/>
                <a:pathLst>
                  <a:path w="128" h="98">
                    <a:moveTo>
                      <a:pt x="128" y="66"/>
                    </a:moveTo>
                    <a:lnTo>
                      <a:pt x="128" y="66"/>
                    </a:lnTo>
                    <a:lnTo>
                      <a:pt x="115" y="60"/>
                    </a:lnTo>
                    <a:lnTo>
                      <a:pt x="102" y="53"/>
                    </a:lnTo>
                    <a:lnTo>
                      <a:pt x="87" y="44"/>
                    </a:lnTo>
                    <a:lnTo>
                      <a:pt x="74" y="36"/>
                    </a:lnTo>
                    <a:lnTo>
                      <a:pt x="60" y="26"/>
                    </a:lnTo>
                    <a:lnTo>
                      <a:pt x="45" y="17"/>
                    </a:lnTo>
                    <a:lnTo>
                      <a:pt x="31" y="8"/>
                    </a:lnTo>
                    <a:lnTo>
                      <a:pt x="15" y="0"/>
                    </a:lnTo>
                    <a:lnTo>
                      <a:pt x="0" y="31"/>
                    </a:lnTo>
                    <a:lnTo>
                      <a:pt x="14" y="38"/>
                    </a:lnTo>
                    <a:lnTo>
                      <a:pt x="27" y="47"/>
                    </a:lnTo>
                    <a:lnTo>
                      <a:pt x="41" y="55"/>
                    </a:lnTo>
                    <a:lnTo>
                      <a:pt x="55" y="65"/>
                    </a:lnTo>
                    <a:lnTo>
                      <a:pt x="69" y="74"/>
                    </a:lnTo>
                    <a:lnTo>
                      <a:pt x="85" y="83"/>
                    </a:lnTo>
                    <a:lnTo>
                      <a:pt x="101" y="91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28" y="6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777000" y="4416480"/>
                <a:ext cx="45720" cy="20520"/>
              </a:xfrm>
              <a:custGeom>
                <a:avLst/>
                <a:gdLst/>
                <a:ahLst/>
                <a:rect l="l" t="t" r="r" b="b"/>
                <a:pathLst>
                  <a:path w="117" h="51">
                    <a:moveTo>
                      <a:pt x="101" y="12"/>
                    </a:moveTo>
                    <a:lnTo>
                      <a:pt x="101" y="12"/>
                    </a:lnTo>
                    <a:lnTo>
                      <a:pt x="98" y="14"/>
                    </a:lnTo>
                    <a:lnTo>
                      <a:pt x="93" y="16"/>
                    </a:lnTo>
                    <a:lnTo>
                      <a:pt x="88" y="17"/>
                    </a:lnTo>
                    <a:lnTo>
                      <a:pt x="84" y="17"/>
                    </a:lnTo>
                    <a:lnTo>
                      <a:pt x="72" y="17"/>
                    </a:lnTo>
                    <a:lnTo>
                      <a:pt x="62" y="14"/>
                    </a:lnTo>
                    <a:lnTo>
                      <a:pt x="50" y="12"/>
                    </a:lnTo>
                    <a:lnTo>
                      <a:pt x="36" y="8"/>
                    </a:lnTo>
                    <a:lnTo>
                      <a:pt x="24" y="4"/>
                    </a:lnTo>
                    <a:lnTo>
                      <a:pt x="11" y="0"/>
                    </a:lnTo>
                    <a:lnTo>
                      <a:pt x="0" y="32"/>
                    </a:lnTo>
                    <a:lnTo>
                      <a:pt x="12" y="37"/>
                    </a:lnTo>
                    <a:lnTo>
                      <a:pt x="26" y="41"/>
                    </a:lnTo>
                    <a:lnTo>
                      <a:pt x="40" y="45"/>
                    </a:lnTo>
                    <a:lnTo>
                      <a:pt x="54" y="49"/>
                    </a:lnTo>
                    <a:lnTo>
                      <a:pt x="70" y="51"/>
                    </a:lnTo>
                    <a:lnTo>
                      <a:pt x="84" y="51"/>
                    </a:lnTo>
                    <a:lnTo>
                      <a:pt x="93" y="50"/>
                    </a:lnTo>
                    <a:lnTo>
                      <a:pt x="101" y="49"/>
                    </a:lnTo>
                    <a:lnTo>
                      <a:pt x="110" y="47"/>
                    </a:lnTo>
                    <a:lnTo>
                      <a:pt x="117" y="43"/>
                    </a:lnTo>
                    <a:lnTo>
                      <a:pt x="117" y="43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816600" y="439740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55" h="95">
                    <a:moveTo>
                      <a:pt x="21" y="2"/>
                    </a:moveTo>
                    <a:lnTo>
                      <a:pt x="21" y="2"/>
                    </a:lnTo>
                    <a:lnTo>
                      <a:pt x="21" y="11"/>
                    </a:lnTo>
                    <a:lnTo>
                      <a:pt x="21" y="22"/>
                    </a:lnTo>
                    <a:lnTo>
                      <a:pt x="19" y="32"/>
                    </a:lnTo>
                    <a:lnTo>
                      <a:pt x="17" y="41"/>
                    </a:lnTo>
                    <a:lnTo>
                      <a:pt x="13" y="50"/>
                    </a:lnTo>
                    <a:lnTo>
                      <a:pt x="9" y="57"/>
                    </a:lnTo>
                    <a:lnTo>
                      <a:pt x="7" y="59"/>
                    </a:lnTo>
                    <a:lnTo>
                      <a:pt x="5" y="62"/>
                    </a:lnTo>
                    <a:lnTo>
                      <a:pt x="3" y="63"/>
                    </a:lnTo>
                    <a:lnTo>
                      <a:pt x="0" y="64"/>
                    </a:lnTo>
                    <a:lnTo>
                      <a:pt x="16" y="95"/>
                    </a:lnTo>
                    <a:lnTo>
                      <a:pt x="22" y="91"/>
                    </a:lnTo>
                    <a:lnTo>
                      <a:pt x="28" y="87"/>
                    </a:lnTo>
                    <a:lnTo>
                      <a:pt x="34" y="82"/>
                    </a:lnTo>
                    <a:lnTo>
                      <a:pt x="39" y="76"/>
                    </a:lnTo>
                    <a:lnTo>
                      <a:pt x="45" y="64"/>
                    </a:lnTo>
                    <a:lnTo>
                      <a:pt x="49" y="52"/>
                    </a:lnTo>
                    <a:lnTo>
                      <a:pt x="53" y="39"/>
                    </a:lnTo>
                    <a:lnTo>
                      <a:pt x="55" y="26"/>
                    </a:lnTo>
                    <a:lnTo>
                      <a:pt x="55" y="12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811920" y="4359240"/>
                <a:ext cx="26640" cy="38160"/>
              </a:xfrm>
              <a:custGeom>
                <a:avLst/>
                <a:gdLst/>
                <a:ahLst/>
                <a:rect l="l" t="t" r="r" b="b"/>
                <a:pathLst>
                  <a:path w="67" h="95">
                    <a:moveTo>
                      <a:pt x="0" y="19"/>
                    </a:moveTo>
                    <a:lnTo>
                      <a:pt x="0" y="19"/>
                    </a:lnTo>
                    <a:lnTo>
                      <a:pt x="6" y="29"/>
                    </a:lnTo>
                    <a:lnTo>
                      <a:pt x="12" y="38"/>
                    </a:lnTo>
                    <a:lnTo>
                      <a:pt x="18" y="48"/>
                    </a:lnTo>
                    <a:lnTo>
                      <a:pt x="23" y="57"/>
                    </a:lnTo>
                    <a:lnTo>
                      <a:pt x="27" y="67"/>
                    </a:lnTo>
                    <a:lnTo>
                      <a:pt x="30" y="77"/>
                    </a:lnTo>
                    <a:lnTo>
                      <a:pt x="33" y="85"/>
                    </a:lnTo>
                    <a:lnTo>
                      <a:pt x="33" y="95"/>
                    </a:lnTo>
                    <a:lnTo>
                      <a:pt x="67" y="93"/>
                    </a:lnTo>
                    <a:lnTo>
                      <a:pt x="66" y="80"/>
                    </a:lnTo>
                    <a:lnTo>
                      <a:pt x="64" y="67"/>
                    </a:lnTo>
                    <a:lnTo>
                      <a:pt x="59" y="54"/>
                    </a:lnTo>
                    <a:lnTo>
                      <a:pt x="54" y="42"/>
                    </a:lnTo>
                    <a:lnTo>
                      <a:pt x="48" y="31"/>
                    </a:lnTo>
                    <a:lnTo>
                      <a:pt x="42" y="20"/>
                    </a:lnTo>
                    <a:lnTo>
                      <a:pt x="35" y="9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769080" y="4307040"/>
                <a:ext cx="53640" cy="60120"/>
              </a:xfrm>
              <a:custGeom>
                <a:avLst/>
                <a:gdLst/>
                <a:ahLst/>
                <a:rect l="l" t="t" r="r" b="b"/>
                <a:pathLst>
                  <a:path w="135" h="150">
                    <a:moveTo>
                      <a:pt x="0" y="26"/>
                    </a:moveTo>
                    <a:lnTo>
                      <a:pt x="0" y="26"/>
                    </a:lnTo>
                    <a:lnTo>
                      <a:pt x="15" y="40"/>
                    </a:lnTo>
                    <a:lnTo>
                      <a:pt x="30" y="54"/>
                    </a:lnTo>
                    <a:lnTo>
                      <a:pt x="44" y="68"/>
                    </a:lnTo>
                    <a:lnTo>
                      <a:pt x="57" y="84"/>
                    </a:lnTo>
                    <a:lnTo>
                      <a:pt x="70" y="100"/>
                    </a:lnTo>
                    <a:lnTo>
                      <a:pt x="83" y="116"/>
                    </a:lnTo>
                    <a:lnTo>
                      <a:pt x="95" y="133"/>
                    </a:lnTo>
                    <a:lnTo>
                      <a:pt x="107" y="150"/>
                    </a:lnTo>
                    <a:lnTo>
                      <a:pt x="135" y="131"/>
                    </a:lnTo>
                    <a:lnTo>
                      <a:pt x="123" y="113"/>
                    </a:lnTo>
                    <a:lnTo>
                      <a:pt x="111" y="96"/>
                    </a:lnTo>
                    <a:lnTo>
                      <a:pt x="98" y="79"/>
                    </a:lnTo>
                    <a:lnTo>
                      <a:pt x="83" y="62"/>
                    </a:lnTo>
                    <a:lnTo>
                      <a:pt x="70" y="46"/>
                    </a:lnTo>
                    <a:lnTo>
                      <a:pt x="54" y="30"/>
                    </a:lnTo>
                    <a:lnTo>
                      <a:pt x="39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705360" y="4264200"/>
                <a:ext cx="72720" cy="53640"/>
              </a:xfrm>
              <a:custGeom>
                <a:avLst/>
                <a:gdLst/>
                <a:ahLst/>
                <a:rect l="l" t="t" r="r" b="b"/>
                <a:pathLst>
                  <a:path w="183" h="138">
                    <a:moveTo>
                      <a:pt x="0" y="32"/>
                    </a:moveTo>
                    <a:lnTo>
                      <a:pt x="0" y="32"/>
                    </a:lnTo>
                    <a:lnTo>
                      <a:pt x="21" y="42"/>
                    </a:lnTo>
                    <a:lnTo>
                      <a:pt x="43" y="54"/>
                    </a:lnTo>
                    <a:lnTo>
                      <a:pt x="63" y="66"/>
                    </a:lnTo>
                    <a:lnTo>
                      <a:pt x="84" y="80"/>
                    </a:lnTo>
                    <a:lnTo>
                      <a:pt x="104" y="94"/>
                    </a:lnTo>
                    <a:lnTo>
                      <a:pt x="123" y="108"/>
                    </a:lnTo>
                    <a:lnTo>
                      <a:pt x="142" y="123"/>
                    </a:lnTo>
                    <a:lnTo>
                      <a:pt x="160" y="138"/>
                    </a:lnTo>
                    <a:lnTo>
                      <a:pt x="183" y="112"/>
                    </a:lnTo>
                    <a:lnTo>
                      <a:pt x="164" y="95"/>
                    </a:lnTo>
                    <a:lnTo>
                      <a:pt x="144" y="80"/>
                    </a:lnTo>
                    <a:lnTo>
                      <a:pt x="123" y="65"/>
                    </a:lnTo>
                    <a:lnTo>
                      <a:pt x="103" y="51"/>
                    </a:lnTo>
                    <a:lnTo>
                      <a:pt x="81" y="38"/>
                    </a:lnTo>
                    <a:lnTo>
                      <a:pt x="60" y="24"/>
                    </a:lnTo>
                    <a:lnTo>
                      <a:pt x="38" y="1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54600" y="4246560"/>
                <a:ext cx="56880" cy="28440"/>
              </a:xfrm>
              <a:custGeom>
                <a:avLst/>
                <a:gdLst/>
                <a:ahLst/>
                <a:rect l="l" t="t" r="r" b="b"/>
                <a:pathLst>
                  <a:path w="145" h="76">
                    <a:moveTo>
                      <a:pt x="0" y="35"/>
                    </a:moveTo>
                    <a:lnTo>
                      <a:pt x="0" y="35"/>
                    </a:lnTo>
                    <a:lnTo>
                      <a:pt x="17" y="38"/>
                    </a:lnTo>
                    <a:lnTo>
                      <a:pt x="34" y="42"/>
                    </a:lnTo>
                    <a:lnTo>
                      <a:pt x="51" y="47"/>
                    </a:lnTo>
                    <a:lnTo>
                      <a:pt x="67" y="52"/>
                    </a:lnTo>
                    <a:lnTo>
                      <a:pt x="83" y="56"/>
                    </a:lnTo>
                    <a:lnTo>
                      <a:pt x="99" y="62"/>
                    </a:lnTo>
                    <a:lnTo>
                      <a:pt x="114" y="68"/>
                    </a:lnTo>
                    <a:lnTo>
                      <a:pt x="129" y="76"/>
                    </a:lnTo>
                    <a:lnTo>
                      <a:pt x="145" y="44"/>
                    </a:lnTo>
                    <a:lnTo>
                      <a:pt x="129" y="36"/>
                    </a:lnTo>
                    <a:lnTo>
                      <a:pt x="111" y="30"/>
                    </a:lnTo>
                    <a:lnTo>
                      <a:pt x="94" y="24"/>
                    </a:lnTo>
                    <a:lnTo>
                      <a:pt x="77" y="18"/>
                    </a:lnTo>
                    <a:lnTo>
                      <a:pt x="59" y="13"/>
                    </a:lnTo>
                    <a:lnTo>
                      <a:pt x="42" y="8"/>
                    </a:lnTo>
                    <a:lnTo>
                      <a:pt x="24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607080" y="4238640"/>
                <a:ext cx="50400" cy="20520"/>
              </a:xfrm>
              <a:custGeom>
                <a:avLst/>
                <a:gdLst/>
                <a:ahLst/>
                <a:rect l="l" t="t" r="r" b="b"/>
                <a:pathLst>
                  <a:path w="124" h="53">
                    <a:moveTo>
                      <a:pt x="0" y="35"/>
                    </a:moveTo>
                    <a:lnTo>
                      <a:pt x="0" y="35"/>
                    </a:lnTo>
                    <a:lnTo>
                      <a:pt x="14" y="35"/>
                    </a:lnTo>
                    <a:lnTo>
                      <a:pt x="28" y="36"/>
                    </a:lnTo>
                    <a:lnTo>
                      <a:pt x="43" y="37"/>
                    </a:lnTo>
                    <a:lnTo>
                      <a:pt x="57" y="40"/>
                    </a:lnTo>
                    <a:lnTo>
                      <a:pt x="73" y="43"/>
                    </a:lnTo>
                    <a:lnTo>
                      <a:pt x="87" y="46"/>
                    </a:lnTo>
                    <a:lnTo>
                      <a:pt x="102" y="49"/>
                    </a:lnTo>
                    <a:lnTo>
                      <a:pt x="117" y="53"/>
                    </a:lnTo>
                    <a:lnTo>
                      <a:pt x="124" y="18"/>
                    </a:lnTo>
                    <a:lnTo>
                      <a:pt x="110" y="16"/>
                    </a:lnTo>
                    <a:lnTo>
                      <a:pt x="94" y="12"/>
                    </a:lnTo>
                    <a:lnTo>
                      <a:pt x="79" y="8"/>
                    </a:lnTo>
                    <a:lnTo>
                      <a:pt x="63" y="6"/>
                    </a:lnTo>
                    <a:lnTo>
                      <a:pt x="48" y="4"/>
                    </a:lnTo>
                    <a:lnTo>
                      <a:pt x="32" y="1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573600" y="423864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16" y="52"/>
                    </a:moveTo>
                    <a:lnTo>
                      <a:pt x="16" y="52"/>
                    </a:lnTo>
                    <a:lnTo>
                      <a:pt x="23" y="47"/>
                    </a:lnTo>
                    <a:lnTo>
                      <a:pt x="31" y="44"/>
                    </a:lnTo>
                    <a:lnTo>
                      <a:pt x="41" y="41"/>
                    </a:lnTo>
                    <a:lnTo>
                      <a:pt x="49" y="38"/>
                    </a:lnTo>
                    <a:lnTo>
                      <a:pt x="59" y="37"/>
                    </a:lnTo>
                    <a:lnTo>
                      <a:pt x="67" y="36"/>
                    </a:lnTo>
                    <a:lnTo>
                      <a:pt x="77" y="35"/>
                    </a:lnTo>
                    <a:lnTo>
                      <a:pt x="87" y="35"/>
                    </a:lnTo>
                    <a:lnTo>
                      <a:pt x="87" y="0"/>
                    </a:lnTo>
                    <a:lnTo>
                      <a:pt x="76" y="0"/>
                    </a:lnTo>
                    <a:lnTo>
                      <a:pt x="64" y="1"/>
                    </a:lnTo>
                    <a:lnTo>
                      <a:pt x="53" y="2"/>
                    </a:lnTo>
                    <a:lnTo>
                      <a:pt x="42" y="5"/>
                    </a:lnTo>
                    <a:lnTo>
                      <a:pt x="31" y="8"/>
                    </a:lnTo>
                    <a:lnTo>
                      <a:pt x="21" y="11"/>
                    </a:lnTo>
                    <a:lnTo>
                      <a:pt x="1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546600" y="424656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83" h="86">
                    <a:moveTo>
                      <a:pt x="16" y="86"/>
                    </a:moveTo>
                    <a:lnTo>
                      <a:pt x="16" y="86"/>
                    </a:lnTo>
                    <a:lnTo>
                      <a:pt x="26" y="78"/>
                    </a:lnTo>
                    <a:lnTo>
                      <a:pt x="36" y="71"/>
                    </a:lnTo>
                    <a:lnTo>
                      <a:pt x="46" y="63"/>
                    </a:lnTo>
                    <a:lnTo>
                      <a:pt x="53" y="54"/>
                    </a:lnTo>
                    <a:lnTo>
                      <a:pt x="60" y="47"/>
                    </a:lnTo>
                    <a:lnTo>
                      <a:pt x="68" y="41"/>
                    </a:lnTo>
                    <a:lnTo>
                      <a:pt x="74" y="35"/>
                    </a:lnTo>
                    <a:lnTo>
                      <a:pt x="83" y="32"/>
                    </a:lnTo>
                    <a:lnTo>
                      <a:pt x="67" y="0"/>
                    </a:lnTo>
                    <a:lnTo>
                      <a:pt x="55" y="6"/>
                    </a:lnTo>
                    <a:lnTo>
                      <a:pt x="46" y="14"/>
                    </a:lnTo>
                    <a:lnTo>
                      <a:pt x="37" y="22"/>
                    </a:lnTo>
                    <a:lnTo>
                      <a:pt x="29" y="30"/>
                    </a:lnTo>
                    <a:lnTo>
                      <a:pt x="22" y="38"/>
                    </a:lnTo>
                    <a:lnTo>
                      <a:pt x="14" y="45"/>
                    </a:lnTo>
                    <a:lnTo>
                      <a:pt x="7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6" y="8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500880" y="4268880"/>
                <a:ext cx="51840" cy="31680"/>
              </a:xfrm>
              <a:custGeom>
                <a:avLst/>
                <a:gdLst/>
                <a:ahLst/>
                <a:rect l="l" t="t" r="r" b="b"/>
                <a:pathLst>
                  <a:path w="134" h="82">
                    <a:moveTo>
                      <a:pt x="8" y="82"/>
                    </a:moveTo>
                    <a:lnTo>
                      <a:pt x="8" y="82"/>
                    </a:lnTo>
                    <a:lnTo>
                      <a:pt x="24" y="77"/>
                    </a:lnTo>
                    <a:lnTo>
                      <a:pt x="41" y="72"/>
                    </a:lnTo>
                    <a:lnTo>
                      <a:pt x="58" y="66"/>
                    </a:lnTo>
                    <a:lnTo>
                      <a:pt x="74" y="60"/>
                    </a:lnTo>
                    <a:lnTo>
                      <a:pt x="89" y="54"/>
                    </a:lnTo>
                    <a:lnTo>
                      <a:pt x="105" y="47"/>
                    </a:lnTo>
                    <a:lnTo>
                      <a:pt x="119" y="39"/>
                    </a:lnTo>
                    <a:lnTo>
                      <a:pt x="134" y="32"/>
                    </a:lnTo>
                    <a:lnTo>
                      <a:pt x="118" y="0"/>
                    </a:lnTo>
                    <a:lnTo>
                      <a:pt x="104" y="9"/>
                    </a:lnTo>
                    <a:lnTo>
                      <a:pt x="89" y="16"/>
                    </a:lnTo>
                    <a:lnTo>
                      <a:pt x="75" y="22"/>
                    </a:lnTo>
                    <a:lnTo>
                      <a:pt x="60" y="28"/>
                    </a:lnTo>
                    <a:lnTo>
                      <a:pt x="46" y="34"/>
                    </a:lnTo>
                    <a:lnTo>
                      <a:pt x="30" y="40"/>
                    </a:lnTo>
                    <a:lnTo>
                      <a:pt x="16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8" y="8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478560" y="428472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62" h="39">
                    <a:moveTo>
                      <a:pt x="0" y="16"/>
                    </a:moveTo>
                    <a:lnTo>
                      <a:pt x="0" y="16"/>
                    </a:lnTo>
                    <a:lnTo>
                      <a:pt x="6" y="25"/>
                    </a:lnTo>
                    <a:lnTo>
                      <a:pt x="15" y="31"/>
                    </a:lnTo>
                    <a:lnTo>
                      <a:pt x="22" y="34"/>
                    </a:lnTo>
                    <a:lnTo>
                      <a:pt x="30" y="38"/>
                    </a:lnTo>
                    <a:lnTo>
                      <a:pt x="39" y="39"/>
                    </a:lnTo>
                    <a:lnTo>
                      <a:pt x="47" y="39"/>
                    </a:lnTo>
                    <a:lnTo>
                      <a:pt x="54" y="39"/>
                    </a:lnTo>
                    <a:lnTo>
                      <a:pt x="62" y="38"/>
                    </a:lnTo>
                    <a:lnTo>
                      <a:pt x="54" y="3"/>
                    </a:lnTo>
                    <a:lnTo>
                      <a:pt x="51" y="4"/>
                    </a:lnTo>
                    <a:lnTo>
                      <a:pt x="47" y="4"/>
                    </a:lnTo>
                    <a:lnTo>
                      <a:pt x="42" y="4"/>
                    </a:lnTo>
                    <a:lnTo>
                      <a:pt x="39" y="3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473880" y="4259160"/>
                <a:ext cx="16920" cy="33480"/>
              </a:xfrm>
              <a:custGeom>
                <a:avLst/>
                <a:gdLst/>
                <a:ahLst/>
                <a:rect l="l" t="t" r="r" b="b"/>
                <a:pathLst>
                  <a:path w="42" h="84">
                    <a:moveTo>
                      <a:pt x="12" y="0"/>
                    </a:moveTo>
                    <a:lnTo>
                      <a:pt x="12" y="0"/>
                    </a:lnTo>
                    <a:lnTo>
                      <a:pt x="6" y="10"/>
                    </a:lnTo>
                    <a:lnTo>
                      <a:pt x="2" y="21"/>
                    </a:lnTo>
                    <a:lnTo>
                      <a:pt x="1" y="32"/>
                    </a:lnTo>
                    <a:lnTo>
                      <a:pt x="0" y="42"/>
                    </a:lnTo>
                    <a:lnTo>
                      <a:pt x="1" y="54"/>
                    </a:lnTo>
                    <a:lnTo>
                      <a:pt x="3" y="65"/>
                    </a:lnTo>
                    <a:lnTo>
                      <a:pt x="7" y="75"/>
                    </a:lnTo>
                    <a:lnTo>
                      <a:pt x="10" y="84"/>
                    </a:lnTo>
                    <a:lnTo>
                      <a:pt x="42" y="68"/>
                    </a:lnTo>
                    <a:lnTo>
                      <a:pt x="39" y="63"/>
                    </a:lnTo>
                    <a:lnTo>
                      <a:pt x="37" y="56"/>
                    </a:lnTo>
                    <a:lnTo>
                      <a:pt x="36" y="50"/>
                    </a:lnTo>
                    <a:lnTo>
                      <a:pt x="34" y="42"/>
                    </a:lnTo>
                    <a:lnTo>
                      <a:pt x="36" y="35"/>
                    </a:lnTo>
                    <a:lnTo>
                      <a:pt x="36" y="29"/>
                    </a:lnTo>
                    <a:lnTo>
                      <a:pt x="38" y="24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478560" y="4211640"/>
                <a:ext cx="58320" cy="54000"/>
              </a:xfrm>
              <a:custGeom>
                <a:avLst/>
                <a:gdLst/>
                <a:ahLst/>
                <a:rect l="l" t="t" r="r" b="b"/>
                <a:pathLst>
                  <a:path w="145" h="140">
                    <a:moveTo>
                      <a:pt x="126" y="0"/>
                    </a:moveTo>
                    <a:lnTo>
                      <a:pt x="126" y="0"/>
                    </a:lnTo>
                    <a:lnTo>
                      <a:pt x="108" y="12"/>
                    </a:lnTo>
                    <a:lnTo>
                      <a:pt x="91" y="26"/>
                    </a:lnTo>
                    <a:lnTo>
                      <a:pt x="74" y="40"/>
                    </a:lnTo>
                    <a:lnTo>
                      <a:pt x="57" y="54"/>
                    </a:lnTo>
                    <a:lnTo>
                      <a:pt x="42" y="69"/>
                    </a:lnTo>
                    <a:lnTo>
                      <a:pt x="27" y="86"/>
                    </a:lnTo>
                    <a:lnTo>
                      <a:pt x="13" y="102"/>
                    </a:lnTo>
                    <a:lnTo>
                      <a:pt x="0" y="120"/>
                    </a:lnTo>
                    <a:lnTo>
                      <a:pt x="28" y="140"/>
                    </a:lnTo>
                    <a:lnTo>
                      <a:pt x="40" y="124"/>
                    </a:lnTo>
                    <a:lnTo>
                      <a:pt x="52" y="108"/>
                    </a:lnTo>
                    <a:lnTo>
                      <a:pt x="67" y="94"/>
                    </a:lnTo>
                    <a:lnTo>
                      <a:pt x="81" y="80"/>
                    </a:lnTo>
                    <a:lnTo>
                      <a:pt x="96" y="66"/>
                    </a:lnTo>
                    <a:lnTo>
                      <a:pt x="112" y="53"/>
                    </a:lnTo>
                    <a:lnTo>
                      <a:pt x="128" y="41"/>
                    </a:lnTo>
                    <a:lnTo>
                      <a:pt x="145" y="29"/>
                    </a:lnTo>
                    <a:lnTo>
                      <a:pt x="145" y="29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529320" y="4192560"/>
                <a:ext cx="45720" cy="30240"/>
              </a:xfrm>
              <a:custGeom>
                <a:avLst/>
                <a:gdLst/>
                <a:ahLst/>
                <a:rect l="l" t="t" r="r" b="b"/>
                <a:pathLst>
                  <a:path w="116" h="74">
                    <a:moveTo>
                      <a:pt x="109" y="0"/>
                    </a:moveTo>
                    <a:lnTo>
                      <a:pt x="109" y="0"/>
                    </a:lnTo>
                    <a:lnTo>
                      <a:pt x="94" y="3"/>
                    </a:lnTo>
                    <a:lnTo>
                      <a:pt x="80" y="7"/>
                    </a:lnTo>
                    <a:lnTo>
                      <a:pt x="66" y="12"/>
                    </a:lnTo>
                    <a:lnTo>
                      <a:pt x="52" y="17"/>
                    </a:lnTo>
                    <a:lnTo>
                      <a:pt x="38" y="23"/>
                    </a:lnTo>
                    <a:lnTo>
                      <a:pt x="25" y="30"/>
                    </a:lnTo>
                    <a:lnTo>
                      <a:pt x="12" y="37"/>
                    </a:lnTo>
                    <a:lnTo>
                      <a:pt x="0" y="45"/>
                    </a:lnTo>
                    <a:lnTo>
                      <a:pt x="19" y="74"/>
                    </a:lnTo>
                    <a:lnTo>
                      <a:pt x="30" y="67"/>
                    </a:lnTo>
                    <a:lnTo>
                      <a:pt x="42" y="60"/>
                    </a:lnTo>
                    <a:lnTo>
                      <a:pt x="54" y="54"/>
                    </a:lnTo>
                    <a:lnTo>
                      <a:pt x="66" y="49"/>
                    </a:lnTo>
                    <a:lnTo>
                      <a:pt x="78" y="44"/>
                    </a:lnTo>
                    <a:lnTo>
                      <a:pt x="90" y="41"/>
                    </a:lnTo>
                    <a:lnTo>
                      <a:pt x="103" y="37"/>
                    </a:lnTo>
                    <a:lnTo>
                      <a:pt x="116" y="35"/>
                    </a:lnTo>
                    <a:lnTo>
                      <a:pt x="116" y="3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72160" y="4191120"/>
                <a:ext cx="58320" cy="15840"/>
              </a:xfrm>
              <a:custGeom>
                <a:avLst/>
                <a:gdLst/>
                <a:ahLst/>
                <a:rect l="l" t="t" r="r" b="b"/>
                <a:pathLst>
                  <a:path w="149" h="41">
                    <a:moveTo>
                      <a:pt x="149" y="0"/>
                    </a:moveTo>
                    <a:lnTo>
                      <a:pt x="149" y="0"/>
                    </a:lnTo>
                    <a:lnTo>
                      <a:pt x="131" y="0"/>
                    </a:lnTo>
                    <a:lnTo>
                      <a:pt x="113" y="0"/>
                    </a:lnTo>
                    <a:lnTo>
                      <a:pt x="95" y="0"/>
                    </a:lnTo>
                    <a:lnTo>
                      <a:pt x="75" y="0"/>
                    </a:lnTo>
                    <a:lnTo>
                      <a:pt x="57" y="0"/>
                    </a:lnTo>
                    <a:lnTo>
                      <a:pt x="38" y="1"/>
                    </a:lnTo>
                    <a:lnTo>
                      <a:pt x="19" y="3"/>
                    </a:lnTo>
                    <a:lnTo>
                      <a:pt x="0" y="6"/>
                    </a:lnTo>
                    <a:lnTo>
                      <a:pt x="7" y="41"/>
                    </a:lnTo>
                    <a:lnTo>
                      <a:pt x="24" y="37"/>
                    </a:lnTo>
                    <a:lnTo>
                      <a:pt x="41" y="36"/>
                    </a:lnTo>
                    <a:lnTo>
                      <a:pt x="59" y="35"/>
                    </a:lnTo>
                    <a:lnTo>
                      <a:pt x="77" y="35"/>
                    </a:lnTo>
                    <a:lnTo>
                      <a:pt x="95" y="33"/>
                    </a:lnTo>
                    <a:lnTo>
                      <a:pt x="113" y="35"/>
                    </a:lnTo>
                    <a:lnTo>
                      <a:pt x="131" y="35"/>
                    </a:lnTo>
                    <a:lnTo>
                      <a:pt x="149" y="35"/>
                    </a:lnTo>
                    <a:lnTo>
                      <a:pt x="149" y="35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630840" y="4191120"/>
                <a:ext cx="82080" cy="15840"/>
              </a:xfrm>
              <a:custGeom>
                <a:avLst/>
                <a:gdLst/>
                <a:ahLst/>
                <a:rect l="l" t="t" r="r" b="b"/>
                <a:pathLst>
                  <a:path w="207" h="41">
                    <a:moveTo>
                      <a:pt x="207" y="6"/>
                    </a:moveTo>
                    <a:lnTo>
                      <a:pt x="207" y="6"/>
                    </a:lnTo>
                    <a:lnTo>
                      <a:pt x="181" y="5"/>
                    </a:lnTo>
                    <a:lnTo>
                      <a:pt x="156" y="3"/>
                    </a:lnTo>
                    <a:lnTo>
                      <a:pt x="129" y="2"/>
                    </a:lnTo>
                    <a:lnTo>
                      <a:pt x="104" y="1"/>
                    </a:lnTo>
                    <a:lnTo>
                      <a:pt x="78" y="1"/>
                    </a:lnTo>
                    <a:lnTo>
                      <a:pt x="52" y="0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26" y="35"/>
                    </a:lnTo>
                    <a:lnTo>
                      <a:pt x="51" y="35"/>
                    </a:lnTo>
                    <a:lnTo>
                      <a:pt x="76" y="36"/>
                    </a:lnTo>
                    <a:lnTo>
                      <a:pt x="103" y="36"/>
                    </a:lnTo>
                    <a:lnTo>
                      <a:pt x="128" y="37"/>
                    </a:lnTo>
                    <a:lnTo>
                      <a:pt x="154" y="38"/>
                    </a:lnTo>
                    <a:lnTo>
                      <a:pt x="180" y="39"/>
                    </a:lnTo>
                    <a:lnTo>
                      <a:pt x="205" y="41"/>
                    </a:lnTo>
                    <a:lnTo>
                      <a:pt x="205" y="41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713280" y="4192560"/>
                <a:ext cx="60120" cy="19080"/>
              </a:xfrm>
              <a:custGeom>
                <a:avLst/>
                <a:gdLst/>
                <a:ahLst/>
                <a:rect l="l" t="t" r="r" b="b"/>
                <a:pathLst>
                  <a:path w="153" h="47">
                    <a:moveTo>
                      <a:pt x="153" y="12"/>
                    </a:moveTo>
                    <a:lnTo>
                      <a:pt x="153" y="12"/>
                    </a:lnTo>
                    <a:lnTo>
                      <a:pt x="134" y="12"/>
                    </a:lnTo>
                    <a:lnTo>
                      <a:pt x="116" y="11"/>
                    </a:lnTo>
                    <a:lnTo>
                      <a:pt x="97" y="9"/>
                    </a:lnTo>
                    <a:lnTo>
                      <a:pt x="79" y="7"/>
                    </a:lnTo>
                    <a:lnTo>
                      <a:pt x="60" y="5"/>
                    </a:lnTo>
                    <a:lnTo>
                      <a:pt x="41" y="3"/>
                    </a:lnTo>
                    <a:lnTo>
                      <a:pt x="21" y="1"/>
                    </a:lnTo>
                    <a:lnTo>
                      <a:pt x="2" y="0"/>
                    </a:lnTo>
                    <a:lnTo>
                      <a:pt x="0" y="35"/>
                    </a:lnTo>
                    <a:lnTo>
                      <a:pt x="19" y="36"/>
                    </a:lnTo>
                    <a:lnTo>
                      <a:pt x="37" y="37"/>
                    </a:lnTo>
                    <a:lnTo>
                      <a:pt x="56" y="39"/>
                    </a:lnTo>
                    <a:lnTo>
                      <a:pt x="75" y="42"/>
                    </a:lnTo>
                    <a:lnTo>
                      <a:pt x="95" y="43"/>
                    </a:lnTo>
                    <a:lnTo>
                      <a:pt x="114" y="45"/>
                    </a:lnTo>
                    <a:lnTo>
                      <a:pt x="133" y="47"/>
                    </a:lnTo>
                    <a:lnTo>
                      <a:pt x="153" y="47"/>
                    </a:lnTo>
                    <a:lnTo>
                      <a:pt x="153" y="47"/>
                    </a:lnTo>
                    <a:lnTo>
                      <a:pt x="153" y="1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773760" y="4194000"/>
                <a:ext cx="37800" cy="17640"/>
              </a:xfrm>
              <a:custGeom>
                <a:avLst/>
                <a:gdLst/>
                <a:ahLst/>
                <a:rect l="l" t="t" r="r" b="b"/>
                <a:pathLst>
                  <a:path w="96" h="43">
                    <a:moveTo>
                      <a:pt x="74" y="0"/>
                    </a:moveTo>
                    <a:lnTo>
                      <a:pt x="74" y="0"/>
                    </a:lnTo>
                    <a:lnTo>
                      <a:pt x="68" y="3"/>
                    </a:lnTo>
                    <a:lnTo>
                      <a:pt x="62" y="6"/>
                    </a:lnTo>
                    <a:lnTo>
                      <a:pt x="53" y="7"/>
                    </a:lnTo>
                    <a:lnTo>
                      <a:pt x="44" y="8"/>
                    </a:lnTo>
                    <a:lnTo>
                      <a:pt x="34" y="8"/>
                    </a:lnTo>
                    <a:lnTo>
                      <a:pt x="23" y="8"/>
                    </a:lnTo>
                    <a:lnTo>
                      <a:pt x="11" y="7"/>
                    </a:lnTo>
                    <a:lnTo>
                      <a:pt x="0" y="7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22" y="43"/>
                    </a:lnTo>
                    <a:lnTo>
                      <a:pt x="34" y="43"/>
                    </a:lnTo>
                    <a:lnTo>
                      <a:pt x="46" y="43"/>
                    </a:lnTo>
                    <a:lnTo>
                      <a:pt x="59" y="42"/>
                    </a:lnTo>
                    <a:lnTo>
                      <a:pt x="71" y="39"/>
                    </a:lnTo>
                    <a:lnTo>
                      <a:pt x="84" y="33"/>
                    </a:lnTo>
                    <a:lnTo>
                      <a:pt x="96" y="25"/>
                    </a:lnTo>
                    <a:lnTo>
                      <a:pt x="96" y="2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454800" y="3882960"/>
                <a:ext cx="1034640" cy="892080"/>
              </a:xfrm>
              <a:custGeom>
                <a:avLst/>
                <a:gdLst/>
                <a:ahLst/>
                <a:rect l="l" t="t" r="r" b="b"/>
                <a:pathLst>
                  <a:path w="2610" h="2247">
                    <a:moveTo>
                      <a:pt x="893" y="799"/>
                    </a:moveTo>
                    <a:lnTo>
                      <a:pt x="901" y="791"/>
                    </a:lnTo>
                    <a:lnTo>
                      <a:pt x="907" y="781"/>
                    </a:lnTo>
                    <a:lnTo>
                      <a:pt x="912" y="770"/>
                    </a:lnTo>
                    <a:lnTo>
                      <a:pt x="917" y="758"/>
                    </a:lnTo>
                    <a:lnTo>
                      <a:pt x="919" y="746"/>
                    </a:lnTo>
                    <a:lnTo>
                      <a:pt x="922" y="734"/>
                    </a:lnTo>
                    <a:lnTo>
                      <a:pt x="923" y="721"/>
                    </a:lnTo>
                    <a:lnTo>
                      <a:pt x="923" y="709"/>
                    </a:lnTo>
                    <a:lnTo>
                      <a:pt x="923" y="695"/>
                    </a:lnTo>
                    <a:lnTo>
                      <a:pt x="922" y="681"/>
                    </a:lnTo>
                    <a:lnTo>
                      <a:pt x="919" y="667"/>
                    </a:lnTo>
                    <a:lnTo>
                      <a:pt x="917" y="653"/>
                    </a:lnTo>
                    <a:lnTo>
                      <a:pt x="912" y="638"/>
                    </a:lnTo>
                    <a:lnTo>
                      <a:pt x="907" y="625"/>
                    </a:lnTo>
                    <a:lnTo>
                      <a:pt x="900" y="613"/>
                    </a:lnTo>
                    <a:lnTo>
                      <a:pt x="893" y="601"/>
                    </a:lnTo>
                    <a:lnTo>
                      <a:pt x="885" y="592"/>
                    </a:lnTo>
                    <a:lnTo>
                      <a:pt x="874" y="584"/>
                    </a:lnTo>
                    <a:lnTo>
                      <a:pt x="863" y="578"/>
                    </a:lnTo>
                    <a:lnTo>
                      <a:pt x="851" y="572"/>
                    </a:lnTo>
                    <a:lnTo>
                      <a:pt x="839" y="568"/>
                    </a:lnTo>
                    <a:lnTo>
                      <a:pt x="827" y="563"/>
                    </a:lnTo>
                    <a:lnTo>
                      <a:pt x="814" y="558"/>
                    </a:lnTo>
                    <a:lnTo>
                      <a:pt x="803" y="553"/>
                    </a:lnTo>
                    <a:lnTo>
                      <a:pt x="789" y="546"/>
                    </a:lnTo>
                    <a:lnTo>
                      <a:pt x="774" y="540"/>
                    </a:lnTo>
                    <a:lnTo>
                      <a:pt x="760" y="534"/>
                    </a:lnTo>
                    <a:lnTo>
                      <a:pt x="747" y="527"/>
                    </a:lnTo>
                    <a:lnTo>
                      <a:pt x="732" y="521"/>
                    </a:lnTo>
                    <a:lnTo>
                      <a:pt x="718" y="515"/>
                    </a:lnTo>
                    <a:lnTo>
                      <a:pt x="703" y="510"/>
                    </a:lnTo>
                    <a:lnTo>
                      <a:pt x="688" y="505"/>
                    </a:lnTo>
                    <a:lnTo>
                      <a:pt x="672" y="500"/>
                    </a:lnTo>
                    <a:lnTo>
                      <a:pt x="655" y="497"/>
                    </a:lnTo>
                    <a:lnTo>
                      <a:pt x="639" y="494"/>
                    </a:lnTo>
                    <a:lnTo>
                      <a:pt x="622" y="491"/>
                    </a:lnTo>
                    <a:lnTo>
                      <a:pt x="605" y="488"/>
                    </a:lnTo>
                    <a:lnTo>
                      <a:pt x="588" y="485"/>
                    </a:lnTo>
                    <a:lnTo>
                      <a:pt x="571" y="480"/>
                    </a:lnTo>
                    <a:lnTo>
                      <a:pt x="556" y="475"/>
                    </a:lnTo>
                    <a:lnTo>
                      <a:pt x="543" y="469"/>
                    </a:lnTo>
                    <a:lnTo>
                      <a:pt x="529" y="463"/>
                    </a:lnTo>
                    <a:lnTo>
                      <a:pt x="517" y="456"/>
                    </a:lnTo>
                    <a:lnTo>
                      <a:pt x="505" y="449"/>
                    </a:lnTo>
                    <a:lnTo>
                      <a:pt x="493" y="440"/>
                    </a:lnTo>
                    <a:lnTo>
                      <a:pt x="483" y="432"/>
                    </a:lnTo>
                    <a:lnTo>
                      <a:pt x="471" y="424"/>
                    </a:lnTo>
                    <a:lnTo>
                      <a:pt x="460" y="415"/>
                    </a:lnTo>
                    <a:lnTo>
                      <a:pt x="439" y="400"/>
                    </a:lnTo>
                    <a:lnTo>
                      <a:pt x="421" y="383"/>
                    </a:lnTo>
                    <a:lnTo>
                      <a:pt x="402" y="366"/>
                    </a:lnTo>
                    <a:lnTo>
                      <a:pt x="384" y="349"/>
                    </a:lnTo>
                    <a:lnTo>
                      <a:pt x="365" y="332"/>
                    </a:lnTo>
                    <a:lnTo>
                      <a:pt x="347" y="314"/>
                    </a:lnTo>
                    <a:lnTo>
                      <a:pt x="328" y="299"/>
                    </a:lnTo>
                    <a:lnTo>
                      <a:pt x="309" y="282"/>
                    </a:lnTo>
                    <a:lnTo>
                      <a:pt x="292" y="269"/>
                    </a:lnTo>
                    <a:lnTo>
                      <a:pt x="274" y="256"/>
                    </a:lnTo>
                    <a:lnTo>
                      <a:pt x="256" y="242"/>
                    </a:lnTo>
                    <a:lnTo>
                      <a:pt x="238" y="229"/>
                    </a:lnTo>
                    <a:lnTo>
                      <a:pt x="220" y="216"/>
                    </a:lnTo>
                    <a:lnTo>
                      <a:pt x="202" y="204"/>
                    </a:lnTo>
                    <a:lnTo>
                      <a:pt x="183" y="192"/>
                    </a:lnTo>
                    <a:lnTo>
                      <a:pt x="165" y="180"/>
                    </a:lnTo>
                    <a:lnTo>
                      <a:pt x="151" y="173"/>
                    </a:lnTo>
                    <a:lnTo>
                      <a:pt x="139" y="167"/>
                    </a:lnTo>
                    <a:lnTo>
                      <a:pt x="126" y="162"/>
                    </a:lnTo>
                    <a:lnTo>
                      <a:pt x="113" y="157"/>
                    </a:lnTo>
                    <a:lnTo>
                      <a:pt x="100" y="151"/>
                    </a:lnTo>
                    <a:lnTo>
                      <a:pt x="87" y="145"/>
                    </a:lnTo>
                    <a:lnTo>
                      <a:pt x="75" y="139"/>
                    </a:lnTo>
                    <a:lnTo>
                      <a:pt x="61" y="132"/>
                    </a:lnTo>
                    <a:lnTo>
                      <a:pt x="53" y="126"/>
                    </a:lnTo>
                    <a:lnTo>
                      <a:pt x="43" y="120"/>
                    </a:lnTo>
                    <a:lnTo>
                      <a:pt x="35" y="113"/>
                    </a:lnTo>
                    <a:lnTo>
                      <a:pt x="27" y="107"/>
                    </a:lnTo>
                    <a:lnTo>
                      <a:pt x="18" y="98"/>
                    </a:lnTo>
                    <a:lnTo>
                      <a:pt x="11" y="90"/>
                    </a:lnTo>
                    <a:lnTo>
                      <a:pt x="6" y="82"/>
                    </a:lnTo>
                    <a:lnTo>
                      <a:pt x="1" y="72"/>
                    </a:lnTo>
                    <a:lnTo>
                      <a:pt x="0" y="65"/>
                    </a:lnTo>
                    <a:lnTo>
                      <a:pt x="0" y="56"/>
                    </a:lnTo>
                    <a:lnTo>
                      <a:pt x="3" y="49"/>
                    </a:lnTo>
                    <a:lnTo>
                      <a:pt x="5" y="41"/>
                    </a:lnTo>
                    <a:lnTo>
                      <a:pt x="9" y="34"/>
                    </a:lnTo>
                    <a:lnTo>
                      <a:pt x="13" y="28"/>
                    </a:lnTo>
                    <a:lnTo>
                      <a:pt x="19" y="22"/>
                    </a:lnTo>
                    <a:lnTo>
                      <a:pt x="25" y="18"/>
                    </a:lnTo>
                    <a:lnTo>
                      <a:pt x="37" y="13"/>
                    </a:lnTo>
                    <a:lnTo>
                      <a:pt x="49" y="8"/>
                    </a:lnTo>
                    <a:lnTo>
                      <a:pt x="63" y="6"/>
                    </a:lnTo>
                    <a:lnTo>
                      <a:pt x="76" y="5"/>
                    </a:lnTo>
                    <a:lnTo>
                      <a:pt x="89" y="4"/>
                    </a:lnTo>
                    <a:lnTo>
                      <a:pt x="102" y="4"/>
                    </a:lnTo>
                    <a:lnTo>
                      <a:pt x="115" y="5"/>
                    </a:lnTo>
                    <a:lnTo>
                      <a:pt x="129" y="6"/>
                    </a:lnTo>
                    <a:lnTo>
                      <a:pt x="141" y="7"/>
                    </a:lnTo>
                    <a:lnTo>
                      <a:pt x="151" y="10"/>
                    </a:lnTo>
                    <a:lnTo>
                      <a:pt x="163" y="12"/>
                    </a:lnTo>
                    <a:lnTo>
                      <a:pt x="175" y="16"/>
                    </a:lnTo>
                    <a:lnTo>
                      <a:pt x="186" y="19"/>
                    </a:lnTo>
                    <a:lnTo>
                      <a:pt x="198" y="24"/>
                    </a:lnTo>
                    <a:lnTo>
                      <a:pt x="208" y="30"/>
                    </a:lnTo>
                    <a:lnTo>
                      <a:pt x="219" y="36"/>
                    </a:lnTo>
                    <a:lnTo>
                      <a:pt x="233" y="46"/>
                    </a:lnTo>
                    <a:lnTo>
                      <a:pt x="246" y="58"/>
                    </a:lnTo>
                    <a:lnTo>
                      <a:pt x="259" y="70"/>
                    </a:lnTo>
                    <a:lnTo>
                      <a:pt x="271" y="82"/>
                    </a:lnTo>
                    <a:lnTo>
                      <a:pt x="283" y="95"/>
                    </a:lnTo>
                    <a:lnTo>
                      <a:pt x="295" y="108"/>
                    </a:lnTo>
                    <a:lnTo>
                      <a:pt x="307" y="120"/>
                    </a:lnTo>
                    <a:lnTo>
                      <a:pt x="321" y="132"/>
                    </a:lnTo>
                    <a:lnTo>
                      <a:pt x="340" y="149"/>
                    </a:lnTo>
                    <a:lnTo>
                      <a:pt x="358" y="164"/>
                    </a:lnTo>
                    <a:lnTo>
                      <a:pt x="377" y="180"/>
                    </a:lnTo>
                    <a:lnTo>
                      <a:pt x="395" y="197"/>
                    </a:lnTo>
                    <a:lnTo>
                      <a:pt x="414" y="212"/>
                    </a:lnTo>
                    <a:lnTo>
                      <a:pt x="433" y="228"/>
                    </a:lnTo>
                    <a:lnTo>
                      <a:pt x="453" y="244"/>
                    </a:lnTo>
                    <a:lnTo>
                      <a:pt x="472" y="258"/>
                    </a:lnTo>
                    <a:lnTo>
                      <a:pt x="485" y="270"/>
                    </a:lnTo>
                    <a:lnTo>
                      <a:pt x="499" y="281"/>
                    </a:lnTo>
                    <a:lnTo>
                      <a:pt x="513" y="292"/>
                    </a:lnTo>
                    <a:lnTo>
                      <a:pt x="527" y="302"/>
                    </a:lnTo>
                    <a:lnTo>
                      <a:pt x="541" y="313"/>
                    </a:lnTo>
                    <a:lnTo>
                      <a:pt x="556" y="324"/>
                    </a:lnTo>
                    <a:lnTo>
                      <a:pt x="570" y="334"/>
                    </a:lnTo>
                    <a:lnTo>
                      <a:pt x="586" y="343"/>
                    </a:lnTo>
                    <a:lnTo>
                      <a:pt x="593" y="347"/>
                    </a:lnTo>
                    <a:lnTo>
                      <a:pt x="601" y="350"/>
                    </a:lnTo>
                    <a:lnTo>
                      <a:pt x="610" y="353"/>
                    </a:lnTo>
                    <a:lnTo>
                      <a:pt x="618" y="355"/>
                    </a:lnTo>
                    <a:lnTo>
                      <a:pt x="627" y="358"/>
                    </a:lnTo>
                    <a:lnTo>
                      <a:pt x="635" y="359"/>
                    </a:lnTo>
                    <a:lnTo>
                      <a:pt x="643" y="360"/>
                    </a:lnTo>
                    <a:lnTo>
                      <a:pt x="652" y="361"/>
                    </a:lnTo>
                    <a:lnTo>
                      <a:pt x="660" y="361"/>
                    </a:lnTo>
                    <a:lnTo>
                      <a:pt x="667" y="361"/>
                    </a:lnTo>
                    <a:lnTo>
                      <a:pt x="676" y="361"/>
                    </a:lnTo>
                    <a:lnTo>
                      <a:pt x="684" y="360"/>
                    </a:lnTo>
                    <a:lnTo>
                      <a:pt x="693" y="359"/>
                    </a:lnTo>
                    <a:lnTo>
                      <a:pt x="700" y="356"/>
                    </a:lnTo>
                    <a:lnTo>
                      <a:pt x="706" y="353"/>
                    </a:lnTo>
                    <a:lnTo>
                      <a:pt x="712" y="349"/>
                    </a:lnTo>
                    <a:lnTo>
                      <a:pt x="718" y="342"/>
                    </a:lnTo>
                    <a:lnTo>
                      <a:pt x="723" y="334"/>
                    </a:lnTo>
                    <a:lnTo>
                      <a:pt x="727" y="325"/>
                    </a:lnTo>
                    <a:lnTo>
                      <a:pt x="730" y="316"/>
                    </a:lnTo>
                    <a:lnTo>
                      <a:pt x="732" y="306"/>
                    </a:lnTo>
                    <a:lnTo>
                      <a:pt x="733" y="296"/>
                    </a:lnTo>
                    <a:lnTo>
                      <a:pt x="736" y="286"/>
                    </a:lnTo>
                    <a:lnTo>
                      <a:pt x="736" y="276"/>
                    </a:lnTo>
                    <a:lnTo>
                      <a:pt x="737" y="263"/>
                    </a:lnTo>
                    <a:lnTo>
                      <a:pt x="737" y="248"/>
                    </a:lnTo>
                    <a:lnTo>
                      <a:pt x="736" y="234"/>
                    </a:lnTo>
                    <a:lnTo>
                      <a:pt x="735" y="220"/>
                    </a:lnTo>
                    <a:lnTo>
                      <a:pt x="733" y="205"/>
                    </a:lnTo>
                    <a:lnTo>
                      <a:pt x="732" y="191"/>
                    </a:lnTo>
                    <a:lnTo>
                      <a:pt x="731" y="176"/>
                    </a:lnTo>
                    <a:lnTo>
                      <a:pt x="730" y="162"/>
                    </a:lnTo>
                    <a:lnTo>
                      <a:pt x="731" y="155"/>
                    </a:lnTo>
                    <a:lnTo>
                      <a:pt x="731" y="148"/>
                    </a:lnTo>
                    <a:lnTo>
                      <a:pt x="732" y="139"/>
                    </a:lnTo>
                    <a:lnTo>
                      <a:pt x="733" y="132"/>
                    </a:lnTo>
                    <a:lnTo>
                      <a:pt x="733" y="125"/>
                    </a:lnTo>
                    <a:lnTo>
                      <a:pt x="735" y="118"/>
                    </a:lnTo>
                    <a:lnTo>
                      <a:pt x="736" y="109"/>
                    </a:lnTo>
                    <a:lnTo>
                      <a:pt x="736" y="102"/>
                    </a:lnTo>
                    <a:lnTo>
                      <a:pt x="736" y="94"/>
                    </a:lnTo>
                    <a:lnTo>
                      <a:pt x="736" y="85"/>
                    </a:lnTo>
                    <a:lnTo>
                      <a:pt x="736" y="77"/>
                    </a:lnTo>
                    <a:lnTo>
                      <a:pt x="735" y="68"/>
                    </a:lnTo>
                    <a:lnTo>
                      <a:pt x="735" y="60"/>
                    </a:lnTo>
                    <a:lnTo>
                      <a:pt x="735" y="52"/>
                    </a:lnTo>
                    <a:lnTo>
                      <a:pt x="735" y="44"/>
                    </a:lnTo>
                    <a:lnTo>
                      <a:pt x="736" y="36"/>
                    </a:lnTo>
                    <a:lnTo>
                      <a:pt x="738" y="30"/>
                    </a:lnTo>
                    <a:lnTo>
                      <a:pt x="739" y="24"/>
                    </a:lnTo>
                    <a:lnTo>
                      <a:pt x="742" y="18"/>
                    </a:lnTo>
                    <a:lnTo>
                      <a:pt x="744" y="12"/>
                    </a:lnTo>
                    <a:lnTo>
                      <a:pt x="748" y="7"/>
                    </a:lnTo>
                    <a:lnTo>
                      <a:pt x="751" y="4"/>
                    </a:lnTo>
                    <a:lnTo>
                      <a:pt x="755" y="0"/>
                    </a:lnTo>
                    <a:lnTo>
                      <a:pt x="760" y="0"/>
                    </a:lnTo>
                    <a:lnTo>
                      <a:pt x="771" y="1"/>
                    </a:lnTo>
                    <a:lnTo>
                      <a:pt x="781" y="4"/>
                    </a:lnTo>
                    <a:lnTo>
                      <a:pt x="791" y="8"/>
                    </a:lnTo>
                    <a:lnTo>
                      <a:pt x="801" y="13"/>
                    </a:lnTo>
                    <a:lnTo>
                      <a:pt x="809" y="19"/>
                    </a:lnTo>
                    <a:lnTo>
                      <a:pt x="817" y="26"/>
                    </a:lnTo>
                    <a:lnTo>
                      <a:pt x="826" y="34"/>
                    </a:lnTo>
                    <a:lnTo>
                      <a:pt x="833" y="42"/>
                    </a:lnTo>
                    <a:lnTo>
                      <a:pt x="840" y="52"/>
                    </a:lnTo>
                    <a:lnTo>
                      <a:pt x="846" y="62"/>
                    </a:lnTo>
                    <a:lnTo>
                      <a:pt x="852" y="73"/>
                    </a:lnTo>
                    <a:lnTo>
                      <a:pt x="857" y="85"/>
                    </a:lnTo>
                    <a:lnTo>
                      <a:pt x="862" y="97"/>
                    </a:lnTo>
                    <a:lnTo>
                      <a:pt x="865" y="109"/>
                    </a:lnTo>
                    <a:lnTo>
                      <a:pt x="870" y="120"/>
                    </a:lnTo>
                    <a:lnTo>
                      <a:pt x="875" y="132"/>
                    </a:lnTo>
                    <a:lnTo>
                      <a:pt x="882" y="149"/>
                    </a:lnTo>
                    <a:lnTo>
                      <a:pt x="888" y="166"/>
                    </a:lnTo>
                    <a:lnTo>
                      <a:pt x="895" y="181"/>
                    </a:lnTo>
                    <a:lnTo>
                      <a:pt x="901" y="198"/>
                    </a:lnTo>
                    <a:lnTo>
                      <a:pt x="909" y="215"/>
                    </a:lnTo>
                    <a:lnTo>
                      <a:pt x="915" y="232"/>
                    </a:lnTo>
                    <a:lnTo>
                      <a:pt x="922" y="248"/>
                    </a:lnTo>
                    <a:lnTo>
                      <a:pt x="929" y="264"/>
                    </a:lnTo>
                    <a:lnTo>
                      <a:pt x="933" y="275"/>
                    </a:lnTo>
                    <a:lnTo>
                      <a:pt x="937" y="284"/>
                    </a:lnTo>
                    <a:lnTo>
                      <a:pt x="941" y="294"/>
                    </a:lnTo>
                    <a:lnTo>
                      <a:pt x="945" y="305"/>
                    </a:lnTo>
                    <a:lnTo>
                      <a:pt x="949" y="314"/>
                    </a:lnTo>
                    <a:lnTo>
                      <a:pt x="954" y="324"/>
                    </a:lnTo>
                    <a:lnTo>
                      <a:pt x="959" y="334"/>
                    </a:lnTo>
                    <a:lnTo>
                      <a:pt x="965" y="343"/>
                    </a:lnTo>
                    <a:lnTo>
                      <a:pt x="972" y="353"/>
                    </a:lnTo>
                    <a:lnTo>
                      <a:pt x="979" y="362"/>
                    </a:lnTo>
                    <a:lnTo>
                      <a:pt x="988" y="372"/>
                    </a:lnTo>
                    <a:lnTo>
                      <a:pt x="996" y="380"/>
                    </a:lnTo>
                    <a:lnTo>
                      <a:pt x="1005" y="389"/>
                    </a:lnTo>
                    <a:lnTo>
                      <a:pt x="1013" y="398"/>
                    </a:lnTo>
                    <a:lnTo>
                      <a:pt x="1023" y="407"/>
                    </a:lnTo>
                    <a:lnTo>
                      <a:pt x="1031" y="415"/>
                    </a:lnTo>
                    <a:lnTo>
                      <a:pt x="1043" y="426"/>
                    </a:lnTo>
                    <a:lnTo>
                      <a:pt x="1054" y="437"/>
                    </a:lnTo>
                    <a:lnTo>
                      <a:pt x="1066" y="448"/>
                    </a:lnTo>
                    <a:lnTo>
                      <a:pt x="1077" y="457"/>
                    </a:lnTo>
                    <a:lnTo>
                      <a:pt x="1089" y="468"/>
                    </a:lnTo>
                    <a:lnTo>
                      <a:pt x="1101" y="476"/>
                    </a:lnTo>
                    <a:lnTo>
                      <a:pt x="1114" y="486"/>
                    </a:lnTo>
                    <a:lnTo>
                      <a:pt x="1127" y="493"/>
                    </a:lnTo>
                    <a:lnTo>
                      <a:pt x="1139" y="498"/>
                    </a:lnTo>
                    <a:lnTo>
                      <a:pt x="1150" y="502"/>
                    </a:lnTo>
                    <a:lnTo>
                      <a:pt x="1162" y="505"/>
                    </a:lnTo>
                    <a:lnTo>
                      <a:pt x="1175" y="506"/>
                    </a:lnTo>
                    <a:lnTo>
                      <a:pt x="1187" y="509"/>
                    </a:lnTo>
                    <a:lnTo>
                      <a:pt x="1199" y="510"/>
                    </a:lnTo>
                    <a:lnTo>
                      <a:pt x="1212" y="510"/>
                    </a:lnTo>
                    <a:lnTo>
                      <a:pt x="1224" y="511"/>
                    </a:lnTo>
                    <a:lnTo>
                      <a:pt x="1239" y="511"/>
                    </a:lnTo>
                    <a:lnTo>
                      <a:pt x="1254" y="512"/>
                    </a:lnTo>
                    <a:lnTo>
                      <a:pt x="1270" y="512"/>
                    </a:lnTo>
                    <a:lnTo>
                      <a:pt x="1284" y="511"/>
                    </a:lnTo>
                    <a:lnTo>
                      <a:pt x="1300" y="511"/>
                    </a:lnTo>
                    <a:lnTo>
                      <a:pt x="1314" y="509"/>
                    </a:lnTo>
                    <a:lnTo>
                      <a:pt x="1330" y="508"/>
                    </a:lnTo>
                    <a:lnTo>
                      <a:pt x="1344" y="505"/>
                    </a:lnTo>
                    <a:lnTo>
                      <a:pt x="1355" y="503"/>
                    </a:lnTo>
                    <a:lnTo>
                      <a:pt x="1365" y="500"/>
                    </a:lnTo>
                    <a:lnTo>
                      <a:pt x="1375" y="498"/>
                    </a:lnTo>
                    <a:lnTo>
                      <a:pt x="1385" y="494"/>
                    </a:lnTo>
                    <a:lnTo>
                      <a:pt x="1396" y="491"/>
                    </a:lnTo>
                    <a:lnTo>
                      <a:pt x="1405" y="486"/>
                    </a:lnTo>
                    <a:lnTo>
                      <a:pt x="1414" y="481"/>
                    </a:lnTo>
                    <a:lnTo>
                      <a:pt x="1422" y="475"/>
                    </a:lnTo>
                    <a:lnTo>
                      <a:pt x="1431" y="468"/>
                    </a:lnTo>
                    <a:lnTo>
                      <a:pt x="1440" y="461"/>
                    </a:lnTo>
                    <a:lnTo>
                      <a:pt x="1450" y="454"/>
                    </a:lnTo>
                    <a:lnTo>
                      <a:pt x="1457" y="445"/>
                    </a:lnTo>
                    <a:lnTo>
                      <a:pt x="1464" y="437"/>
                    </a:lnTo>
                    <a:lnTo>
                      <a:pt x="1469" y="428"/>
                    </a:lnTo>
                    <a:lnTo>
                      <a:pt x="1471" y="424"/>
                    </a:lnTo>
                    <a:lnTo>
                      <a:pt x="1471" y="419"/>
                    </a:lnTo>
                    <a:lnTo>
                      <a:pt x="1471" y="414"/>
                    </a:lnTo>
                    <a:lnTo>
                      <a:pt x="1470" y="409"/>
                    </a:lnTo>
                    <a:lnTo>
                      <a:pt x="1469" y="403"/>
                    </a:lnTo>
                    <a:lnTo>
                      <a:pt x="1467" y="400"/>
                    </a:lnTo>
                    <a:lnTo>
                      <a:pt x="1463" y="395"/>
                    </a:lnTo>
                    <a:lnTo>
                      <a:pt x="1459" y="392"/>
                    </a:lnTo>
                    <a:lnTo>
                      <a:pt x="1450" y="386"/>
                    </a:lnTo>
                    <a:lnTo>
                      <a:pt x="1439" y="382"/>
                    </a:lnTo>
                    <a:lnTo>
                      <a:pt x="1427" y="378"/>
                    </a:lnTo>
                    <a:lnTo>
                      <a:pt x="1415" y="374"/>
                    </a:lnTo>
                    <a:lnTo>
                      <a:pt x="1403" y="371"/>
                    </a:lnTo>
                    <a:lnTo>
                      <a:pt x="1392" y="367"/>
                    </a:lnTo>
                    <a:lnTo>
                      <a:pt x="1380" y="361"/>
                    </a:lnTo>
                    <a:lnTo>
                      <a:pt x="1367" y="358"/>
                    </a:lnTo>
                    <a:lnTo>
                      <a:pt x="1354" y="354"/>
                    </a:lnTo>
                    <a:lnTo>
                      <a:pt x="1341" y="349"/>
                    </a:lnTo>
                    <a:lnTo>
                      <a:pt x="1327" y="346"/>
                    </a:lnTo>
                    <a:lnTo>
                      <a:pt x="1315" y="342"/>
                    </a:lnTo>
                    <a:lnTo>
                      <a:pt x="1302" y="336"/>
                    </a:lnTo>
                    <a:lnTo>
                      <a:pt x="1290" y="331"/>
                    </a:lnTo>
                    <a:lnTo>
                      <a:pt x="1282" y="326"/>
                    </a:lnTo>
                    <a:lnTo>
                      <a:pt x="1275" y="322"/>
                    </a:lnTo>
                    <a:lnTo>
                      <a:pt x="1267" y="316"/>
                    </a:lnTo>
                    <a:lnTo>
                      <a:pt x="1260" y="310"/>
                    </a:lnTo>
                    <a:lnTo>
                      <a:pt x="1254" y="304"/>
                    </a:lnTo>
                    <a:lnTo>
                      <a:pt x="1247" y="296"/>
                    </a:lnTo>
                    <a:lnTo>
                      <a:pt x="1241" y="289"/>
                    </a:lnTo>
                    <a:lnTo>
                      <a:pt x="1236" y="282"/>
                    </a:lnTo>
                    <a:lnTo>
                      <a:pt x="1230" y="275"/>
                    </a:lnTo>
                    <a:lnTo>
                      <a:pt x="1225" y="268"/>
                    </a:lnTo>
                    <a:lnTo>
                      <a:pt x="1222" y="259"/>
                    </a:lnTo>
                    <a:lnTo>
                      <a:pt x="1217" y="251"/>
                    </a:lnTo>
                    <a:lnTo>
                      <a:pt x="1213" y="242"/>
                    </a:lnTo>
                    <a:lnTo>
                      <a:pt x="1211" y="234"/>
                    </a:lnTo>
                    <a:lnTo>
                      <a:pt x="1207" y="226"/>
                    </a:lnTo>
                    <a:lnTo>
                      <a:pt x="1206" y="216"/>
                    </a:lnTo>
                    <a:lnTo>
                      <a:pt x="1205" y="210"/>
                    </a:lnTo>
                    <a:lnTo>
                      <a:pt x="1204" y="204"/>
                    </a:lnTo>
                    <a:lnTo>
                      <a:pt x="1203" y="197"/>
                    </a:lnTo>
                    <a:lnTo>
                      <a:pt x="1203" y="191"/>
                    </a:lnTo>
                    <a:lnTo>
                      <a:pt x="1204" y="184"/>
                    </a:lnTo>
                    <a:lnTo>
                      <a:pt x="1205" y="178"/>
                    </a:lnTo>
                    <a:lnTo>
                      <a:pt x="1209" y="173"/>
                    </a:lnTo>
                    <a:lnTo>
                      <a:pt x="1212" y="168"/>
                    </a:lnTo>
                    <a:lnTo>
                      <a:pt x="1218" y="163"/>
                    </a:lnTo>
                    <a:lnTo>
                      <a:pt x="1225" y="161"/>
                    </a:lnTo>
                    <a:lnTo>
                      <a:pt x="1233" y="158"/>
                    </a:lnTo>
                    <a:lnTo>
                      <a:pt x="1240" y="156"/>
                    </a:lnTo>
                    <a:lnTo>
                      <a:pt x="1248" y="156"/>
                    </a:lnTo>
                    <a:lnTo>
                      <a:pt x="1257" y="155"/>
                    </a:lnTo>
                    <a:lnTo>
                      <a:pt x="1264" y="156"/>
                    </a:lnTo>
                    <a:lnTo>
                      <a:pt x="1272" y="156"/>
                    </a:lnTo>
                    <a:lnTo>
                      <a:pt x="1282" y="157"/>
                    </a:lnTo>
                    <a:lnTo>
                      <a:pt x="1293" y="160"/>
                    </a:lnTo>
                    <a:lnTo>
                      <a:pt x="1302" y="163"/>
                    </a:lnTo>
                    <a:lnTo>
                      <a:pt x="1312" y="167"/>
                    </a:lnTo>
                    <a:lnTo>
                      <a:pt x="1321" y="170"/>
                    </a:lnTo>
                    <a:lnTo>
                      <a:pt x="1331" y="174"/>
                    </a:lnTo>
                    <a:lnTo>
                      <a:pt x="1341" y="178"/>
                    </a:lnTo>
                    <a:lnTo>
                      <a:pt x="1350" y="180"/>
                    </a:lnTo>
                    <a:lnTo>
                      <a:pt x="1362" y="182"/>
                    </a:lnTo>
                    <a:lnTo>
                      <a:pt x="1374" y="185"/>
                    </a:lnTo>
                    <a:lnTo>
                      <a:pt x="1386" y="186"/>
                    </a:lnTo>
                    <a:lnTo>
                      <a:pt x="1398" y="188"/>
                    </a:lnTo>
                    <a:lnTo>
                      <a:pt x="1410" y="190"/>
                    </a:lnTo>
                    <a:lnTo>
                      <a:pt x="1422" y="191"/>
                    </a:lnTo>
                    <a:lnTo>
                      <a:pt x="1434" y="192"/>
                    </a:lnTo>
                    <a:lnTo>
                      <a:pt x="1446" y="192"/>
                    </a:lnTo>
                    <a:lnTo>
                      <a:pt x="1461" y="193"/>
                    </a:lnTo>
                    <a:lnTo>
                      <a:pt x="1474" y="193"/>
                    </a:lnTo>
                    <a:lnTo>
                      <a:pt x="1487" y="193"/>
                    </a:lnTo>
                    <a:lnTo>
                      <a:pt x="1501" y="193"/>
                    </a:lnTo>
                    <a:lnTo>
                      <a:pt x="1515" y="193"/>
                    </a:lnTo>
                    <a:lnTo>
                      <a:pt x="1528" y="193"/>
                    </a:lnTo>
                    <a:lnTo>
                      <a:pt x="1541" y="193"/>
                    </a:lnTo>
                    <a:lnTo>
                      <a:pt x="1555" y="192"/>
                    </a:lnTo>
                    <a:lnTo>
                      <a:pt x="1564" y="192"/>
                    </a:lnTo>
                    <a:lnTo>
                      <a:pt x="1573" y="191"/>
                    </a:lnTo>
                    <a:lnTo>
                      <a:pt x="1582" y="188"/>
                    </a:lnTo>
                    <a:lnTo>
                      <a:pt x="1591" y="187"/>
                    </a:lnTo>
                    <a:lnTo>
                      <a:pt x="1600" y="186"/>
                    </a:lnTo>
                    <a:lnTo>
                      <a:pt x="1609" y="185"/>
                    </a:lnTo>
                    <a:lnTo>
                      <a:pt x="1618" y="185"/>
                    </a:lnTo>
                    <a:lnTo>
                      <a:pt x="1627" y="186"/>
                    </a:lnTo>
                    <a:lnTo>
                      <a:pt x="1635" y="188"/>
                    </a:lnTo>
                    <a:lnTo>
                      <a:pt x="1643" y="191"/>
                    </a:lnTo>
                    <a:lnTo>
                      <a:pt x="1650" y="193"/>
                    </a:lnTo>
                    <a:lnTo>
                      <a:pt x="1657" y="197"/>
                    </a:lnTo>
                    <a:lnTo>
                      <a:pt x="1663" y="200"/>
                    </a:lnTo>
                    <a:lnTo>
                      <a:pt x="1671" y="205"/>
                    </a:lnTo>
                    <a:lnTo>
                      <a:pt x="1677" y="210"/>
                    </a:lnTo>
                    <a:lnTo>
                      <a:pt x="1681" y="216"/>
                    </a:lnTo>
                    <a:lnTo>
                      <a:pt x="1686" y="223"/>
                    </a:lnTo>
                    <a:lnTo>
                      <a:pt x="1689" y="229"/>
                    </a:lnTo>
                    <a:lnTo>
                      <a:pt x="1692" y="238"/>
                    </a:lnTo>
                    <a:lnTo>
                      <a:pt x="1693" y="245"/>
                    </a:lnTo>
                    <a:lnTo>
                      <a:pt x="1695" y="253"/>
                    </a:lnTo>
                    <a:lnTo>
                      <a:pt x="1697" y="260"/>
                    </a:lnTo>
                    <a:lnTo>
                      <a:pt x="1698" y="269"/>
                    </a:lnTo>
                    <a:lnTo>
                      <a:pt x="1699" y="276"/>
                    </a:lnTo>
                    <a:lnTo>
                      <a:pt x="1704" y="296"/>
                    </a:lnTo>
                    <a:lnTo>
                      <a:pt x="1709" y="317"/>
                    </a:lnTo>
                    <a:lnTo>
                      <a:pt x="1715" y="337"/>
                    </a:lnTo>
                    <a:lnTo>
                      <a:pt x="1720" y="358"/>
                    </a:lnTo>
                    <a:lnTo>
                      <a:pt x="1723" y="378"/>
                    </a:lnTo>
                    <a:lnTo>
                      <a:pt x="1728" y="398"/>
                    </a:lnTo>
                    <a:lnTo>
                      <a:pt x="1732" y="419"/>
                    </a:lnTo>
                    <a:lnTo>
                      <a:pt x="1735" y="439"/>
                    </a:lnTo>
                    <a:lnTo>
                      <a:pt x="1738" y="457"/>
                    </a:lnTo>
                    <a:lnTo>
                      <a:pt x="1739" y="476"/>
                    </a:lnTo>
                    <a:lnTo>
                      <a:pt x="1740" y="496"/>
                    </a:lnTo>
                    <a:lnTo>
                      <a:pt x="1740" y="515"/>
                    </a:lnTo>
                    <a:lnTo>
                      <a:pt x="1741" y="533"/>
                    </a:lnTo>
                    <a:lnTo>
                      <a:pt x="1743" y="552"/>
                    </a:lnTo>
                    <a:lnTo>
                      <a:pt x="1744" y="571"/>
                    </a:lnTo>
                    <a:lnTo>
                      <a:pt x="1747" y="589"/>
                    </a:lnTo>
                    <a:lnTo>
                      <a:pt x="1751" y="601"/>
                    </a:lnTo>
                    <a:lnTo>
                      <a:pt x="1753" y="614"/>
                    </a:lnTo>
                    <a:lnTo>
                      <a:pt x="1758" y="626"/>
                    </a:lnTo>
                    <a:lnTo>
                      <a:pt x="1763" y="638"/>
                    </a:lnTo>
                    <a:lnTo>
                      <a:pt x="1768" y="649"/>
                    </a:lnTo>
                    <a:lnTo>
                      <a:pt x="1774" y="660"/>
                    </a:lnTo>
                    <a:lnTo>
                      <a:pt x="1781" y="671"/>
                    </a:lnTo>
                    <a:lnTo>
                      <a:pt x="1789" y="679"/>
                    </a:lnTo>
                    <a:lnTo>
                      <a:pt x="1795" y="684"/>
                    </a:lnTo>
                    <a:lnTo>
                      <a:pt x="1803" y="687"/>
                    </a:lnTo>
                    <a:lnTo>
                      <a:pt x="1811" y="690"/>
                    </a:lnTo>
                    <a:lnTo>
                      <a:pt x="1819" y="692"/>
                    </a:lnTo>
                    <a:lnTo>
                      <a:pt x="1828" y="692"/>
                    </a:lnTo>
                    <a:lnTo>
                      <a:pt x="1836" y="691"/>
                    </a:lnTo>
                    <a:lnTo>
                      <a:pt x="1843" y="689"/>
                    </a:lnTo>
                    <a:lnTo>
                      <a:pt x="1851" y="685"/>
                    </a:lnTo>
                    <a:lnTo>
                      <a:pt x="1864" y="674"/>
                    </a:lnTo>
                    <a:lnTo>
                      <a:pt x="1877" y="662"/>
                    </a:lnTo>
                    <a:lnTo>
                      <a:pt x="1888" y="649"/>
                    </a:lnTo>
                    <a:lnTo>
                      <a:pt x="1899" y="636"/>
                    </a:lnTo>
                    <a:lnTo>
                      <a:pt x="1909" y="620"/>
                    </a:lnTo>
                    <a:lnTo>
                      <a:pt x="1920" y="606"/>
                    </a:lnTo>
                    <a:lnTo>
                      <a:pt x="1930" y="592"/>
                    </a:lnTo>
                    <a:lnTo>
                      <a:pt x="1941" y="577"/>
                    </a:lnTo>
                    <a:lnTo>
                      <a:pt x="1954" y="559"/>
                    </a:lnTo>
                    <a:lnTo>
                      <a:pt x="1966" y="541"/>
                    </a:lnTo>
                    <a:lnTo>
                      <a:pt x="1979" y="523"/>
                    </a:lnTo>
                    <a:lnTo>
                      <a:pt x="1991" y="505"/>
                    </a:lnTo>
                    <a:lnTo>
                      <a:pt x="2004" y="487"/>
                    </a:lnTo>
                    <a:lnTo>
                      <a:pt x="2016" y="468"/>
                    </a:lnTo>
                    <a:lnTo>
                      <a:pt x="2029" y="450"/>
                    </a:lnTo>
                    <a:lnTo>
                      <a:pt x="2043" y="433"/>
                    </a:lnTo>
                    <a:lnTo>
                      <a:pt x="2052" y="420"/>
                    </a:lnTo>
                    <a:lnTo>
                      <a:pt x="2062" y="408"/>
                    </a:lnTo>
                    <a:lnTo>
                      <a:pt x="2073" y="395"/>
                    </a:lnTo>
                    <a:lnTo>
                      <a:pt x="2082" y="383"/>
                    </a:lnTo>
                    <a:lnTo>
                      <a:pt x="2093" y="371"/>
                    </a:lnTo>
                    <a:lnTo>
                      <a:pt x="2104" y="359"/>
                    </a:lnTo>
                    <a:lnTo>
                      <a:pt x="2115" y="348"/>
                    </a:lnTo>
                    <a:lnTo>
                      <a:pt x="2127" y="337"/>
                    </a:lnTo>
                    <a:lnTo>
                      <a:pt x="2134" y="331"/>
                    </a:lnTo>
                    <a:lnTo>
                      <a:pt x="2141" y="325"/>
                    </a:lnTo>
                    <a:lnTo>
                      <a:pt x="2149" y="318"/>
                    </a:lnTo>
                    <a:lnTo>
                      <a:pt x="2158" y="313"/>
                    </a:lnTo>
                    <a:lnTo>
                      <a:pt x="2165" y="308"/>
                    </a:lnTo>
                    <a:lnTo>
                      <a:pt x="2172" y="306"/>
                    </a:lnTo>
                    <a:lnTo>
                      <a:pt x="2175" y="307"/>
                    </a:lnTo>
                    <a:lnTo>
                      <a:pt x="2178" y="307"/>
                    </a:lnTo>
                    <a:lnTo>
                      <a:pt x="2179" y="310"/>
                    </a:lnTo>
                    <a:lnTo>
                      <a:pt x="2181" y="312"/>
                    </a:lnTo>
                    <a:lnTo>
                      <a:pt x="2187" y="334"/>
                    </a:lnTo>
                    <a:lnTo>
                      <a:pt x="2190" y="355"/>
                    </a:lnTo>
                    <a:lnTo>
                      <a:pt x="2191" y="377"/>
                    </a:lnTo>
                    <a:lnTo>
                      <a:pt x="2190" y="400"/>
                    </a:lnTo>
                    <a:lnTo>
                      <a:pt x="2189" y="421"/>
                    </a:lnTo>
                    <a:lnTo>
                      <a:pt x="2185" y="444"/>
                    </a:lnTo>
                    <a:lnTo>
                      <a:pt x="2181" y="466"/>
                    </a:lnTo>
                    <a:lnTo>
                      <a:pt x="2175" y="487"/>
                    </a:lnTo>
                    <a:lnTo>
                      <a:pt x="2164" y="524"/>
                    </a:lnTo>
                    <a:lnTo>
                      <a:pt x="2151" y="562"/>
                    </a:lnTo>
                    <a:lnTo>
                      <a:pt x="2137" y="598"/>
                    </a:lnTo>
                    <a:lnTo>
                      <a:pt x="2122" y="634"/>
                    </a:lnTo>
                    <a:lnTo>
                      <a:pt x="2105" y="669"/>
                    </a:lnTo>
                    <a:lnTo>
                      <a:pt x="2088" y="705"/>
                    </a:lnTo>
                    <a:lnTo>
                      <a:pt x="2071" y="740"/>
                    </a:lnTo>
                    <a:lnTo>
                      <a:pt x="2055" y="775"/>
                    </a:lnTo>
                    <a:lnTo>
                      <a:pt x="2045" y="795"/>
                    </a:lnTo>
                    <a:lnTo>
                      <a:pt x="2035" y="815"/>
                    </a:lnTo>
                    <a:lnTo>
                      <a:pt x="2025" y="834"/>
                    </a:lnTo>
                    <a:lnTo>
                      <a:pt x="2014" y="853"/>
                    </a:lnTo>
                    <a:lnTo>
                      <a:pt x="2003" y="872"/>
                    </a:lnTo>
                    <a:lnTo>
                      <a:pt x="1991" y="890"/>
                    </a:lnTo>
                    <a:lnTo>
                      <a:pt x="1978" y="908"/>
                    </a:lnTo>
                    <a:lnTo>
                      <a:pt x="1965" y="926"/>
                    </a:lnTo>
                    <a:lnTo>
                      <a:pt x="1955" y="937"/>
                    </a:lnTo>
                    <a:lnTo>
                      <a:pt x="1944" y="947"/>
                    </a:lnTo>
                    <a:lnTo>
                      <a:pt x="1932" y="955"/>
                    </a:lnTo>
                    <a:lnTo>
                      <a:pt x="1921" y="963"/>
                    </a:lnTo>
                    <a:lnTo>
                      <a:pt x="1909" y="972"/>
                    </a:lnTo>
                    <a:lnTo>
                      <a:pt x="1897" y="980"/>
                    </a:lnTo>
                    <a:lnTo>
                      <a:pt x="1885" y="989"/>
                    </a:lnTo>
                    <a:lnTo>
                      <a:pt x="1875" y="998"/>
                    </a:lnTo>
                    <a:lnTo>
                      <a:pt x="1869" y="1003"/>
                    </a:lnTo>
                    <a:lnTo>
                      <a:pt x="1864" y="1008"/>
                    </a:lnTo>
                    <a:lnTo>
                      <a:pt x="1858" y="1013"/>
                    </a:lnTo>
                    <a:lnTo>
                      <a:pt x="1853" y="1017"/>
                    </a:lnTo>
                    <a:lnTo>
                      <a:pt x="1848" y="1022"/>
                    </a:lnTo>
                    <a:lnTo>
                      <a:pt x="1843" y="1028"/>
                    </a:lnTo>
                    <a:lnTo>
                      <a:pt x="1840" y="1034"/>
                    </a:lnTo>
                    <a:lnTo>
                      <a:pt x="1837" y="1040"/>
                    </a:lnTo>
                    <a:lnTo>
                      <a:pt x="1836" y="1049"/>
                    </a:lnTo>
                    <a:lnTo>
                      <a:pt x="1835" y="1057"/>
                    </a:lnTo>
                    <a:lnTo>
                      <a:pt x="1835" y="1065"/>
                    </a:lnTo>
                    <a:lnTo>
                      <a:pt x="1836" y="1074"/>
                    </a:lnTo>
                    <a:lnTo>
                      <a:pt x="1837" y="1082"/>
                    </a:lnTo>
                    <a:lnTo>
                      <a:pt x="1840" y="1089"/>
                    </a:lnTo>
                    <a:lnTo>
                      <a:pt x="1845" y="1095"/>
                    </a:lnTo>
                    <a:lnTo>
                      <a:pt x="1851" y="1100"/>
                    </a:lnTo>
                    <a:lnTo>
                      <a:pt x="1863" y="1107"/>
                    </a:lnTo>
                    <a:lnTo>
                      <a:pt x="1875" y="1112"/>
                    </a:lnTo>
                    <a:lnTo>
                      <a:pt x="1888" y="1117"/>
                    </a:lnTo>
                    <a:lnTo>
                      <a:pt x="1902" y="1119"/>
                    </a:lnTo>
                    <a:lnTo>
                      <a:pt x="1917" y="1121"/>
                    </a:lnTo>
                    <a:lnTo>
                      <a:pt x="1931" y="1121"/>
                    </a:lnTo>
                    <a:lnTo>
                      <a:pt x="1944" y="1121"/>
                    </a:lnTo>
                    <a:lnTo>
                      <a:pt x="1959" y="1118"/>
                    </a:lnTo>
                    <a:lnTo>
                      <a:pt x="1973" y="1116"/>
                    </a:lnTo>
                    <a:lnTo>
                      <a:pt x="1989" y="1111"/>
                    </a:lnTo>
                    <a:lnTo>
                      <a:pt x="2003" y="1106"/>
                    </a:lnTo>
                    <a:lnTo>
                      <a:pt x="2017" y="1100"/>
                    </a:lnTo>
                    <a:lnTo>
                      <a:pt x="2031" y="1093"/>
                    </a:lnTo>
                    <a:lnTo>
                      <a:pt x="2044" y="1085"/>
                    </a:lnTo>
                    <a:lnTo>
                      <a:pt x="2056" y="1075"/>
                    </a:lnTo>
                    <a:lnTo>
                      <a:pt x="2067" y="1064"/>
                    </a:lnTo>
                    <a:lnTo>
                      <a:pt x="2076" y="1053"/>
                    </a:lnTo>
                    <a:lnTo>
                      <a:pt x="2085" y="1043"/>
                    </a:lnTo>
                    <a:lnTo>
                      <a:pt x="2093" y="1031"/>
                    </a:lnTo>
                    <a:lnTo>
                      <a:pt x="2100" y="1019"/>
                    </a:lnTo>
                    <a:lnTo>
                      <a:pt x="2116" y="995"/>
                    </a:lnTo>
                    <a:lnTo>
                      <a:pt x="2129" y="969"/>
                    </a:lnTo>
                    <a:lnTo>
                      <a:pt x="2142" y="944"/>
                    </a:lnTo>
                    <a:lnTo>
                      <a:pt x="2155" y="919"/>
                    </a:lnTo>
                    <a:lnTo>
                      <a:pt x="2171" y="895"/>
                    </a:lnTo>
                    <a:lnTo>
                      <a:pt x="2187" y="872"/>
                    </a:lnTo>
                    <a:lnTo>
                      <a:pt x="2200" y="857"/>
                    </a:lnTo>
                    <a:lnTo>
                      <a:pt x="2213" y="842"/>
                    </a:lnTo>
                    <a:lnTo>
                      <a:pt x="2226" y="828"/>
                    </a:lnTo>
                    <a:lnTo>
                      <a:pt x="2241" y="813"/>
                    </a:lnTo>
                    <a:lnTo>
                      <a:pt x="2255" y="800"/>
                    </a:lnTo>
                    <a:lnTo>
                      <a:pt x="2271" y="787"/>
                    </a:lnTo>
                    <a:lnTo>
                      <a:pt x="2286" y="775"/>
                    </a:lnTo>
                    <a:lnTo>
                      <a:pt x="2302" y="763"/>
                    </a:lnTo>
                    <a:lnTo>
                      <a:pt x="2311" y="757"/>
                    </a:lnTo>
                    <a:lnTo>
                      <a:pt x="2322" y="750"/>
                    </a:lnTo>
                    <a:lnTo>
                      <a:pt x="2333" y="743"/>
                    </a:lnTo>
                    <a:lnTo>
                      <a:pt x="2345" y="737"/>
                    </a:lnTo>
                    <a:lnTo>
                      <a:pt x="2356" y="733"/>
                    </a:lnTo>
                    <a:lnTo>
                      <a:pt x="2368" y="729"/>
                    </a:lnTo>
                    <a:lnTo>
                      <a:pt x="2380" y="727"/>
                    </a:lnTo>
                    <a:lnTo>
                      <a:pt x="2392" y="727"/>
                    </a:lnTo>
                    <a:lnTo>
                      <a:pt x="2404" y="729"/>
                    </a:lnTo>
                    <a:lnTo>
                      <a:pt x="2415" y="734"/>
                    </a:lnTo>
                    <a:lnTo>
                      <a:pt x="2424" y="740"/>
                    </a:lnTo>
                    <a:lnTo>
                      <a:pt x="2435" y="747"/>
                    </a:lnTo>
                    <a:lnTo>
                      <a:pt x="2445" y="756"/>
                    </a:lnTo>
                    <a:lnTo>
                      <a:pt x="2453" y="764"/>
                    </a:lnTo>
                    <a:lnTo>
                      <a:pt x="2461" y="773"/>
                    </a:lnTo>
                    <a:lnTo>
                      <a:pt x="2470" y="781"/>
                    </a:lnTo>
                    <a:lnTo>
                      <a:pt x="2478" y="791"/>
                    </a:lnTo>
                    <a:lnTo>
                      <a:pt x="2485" y="801"/>
                    </a:lnTo>
                    <a:lnTo>
                      <a:pt x="2493" y="811"/>
                    </a:lnTo>
                    <a:lnTo>
                      <a:pt x="2500" y="822"/>
                    </a:lnTo>
                    <a:lnTo>
                      <a:pt x="2506" y="833"/>
                    </a:lnTo>
                    <a:lnTo>
                      <a:pt x="2512" y="843"/>
                    </a:lnTo>
                    <a:lnTo>
                      <a:pt x="2518" y="855"/>
                    </a:lnTo>
                    <a:lnTo>
                      <a:pt x="2524" y="866"/>
                    </a:lnTo>
                    <a:lnTo>
                      <a:pt x="2533" y="882"/>
                    </a:lnTo>
                    <a:lnTo>
                      <a:pt x="2543" y="896"/>
                    </a:lnTo>
                    <a:lnTo>
                      <a:pt x="2554" y="912"/>
                    </a:lnTo>
                    <a:lnTo>
                      <a:pt x="2563" y="927"/>
                    </a:lnTo>
                    <a:lnTo>
                      <a:pt x="2572" y="943"/>
                    </a:lnTo>
                    <a:lnTo>
                      <a:pt x="2581" y="960"/>
                    </a:lnTo>
                    <a:lnTo>
                      <a:pt x="2590" y="975"/>
                    </a:lnTo>
                    <a:lnTo>
                      <a:pt x="2597" y="992"/>
                    </a:lnTo>
                    <a:lnTo>
                      <a:pt x="2601" y="1002"/>
                    </a:lnTo>
                    <a:lnTo>
                      <a:pt x="2604" y="1013"/>
                    </a:lnTo>
                    <a:lnTo>
                      <a:pt x="2607" y="1023"/>
                    </a:lnTo>
                    <a:lnTo>
                      <a:pt x="2609" y="1034"/>
                    </a:lnTo>
                    <a:lnTo>
                      <a:pt x="2610" y="1044"/>
                    </a:lnTo>
                    <a:lnTo>
                      <a:pt x="2610" y="1055"/>
                    </a:lnTo>
                    <a:lnTo>
                      <a:pt x="2610" y="1065"/>
                    </a:lnTo>
                    <a:lnTo>
                      <a:pt x="2609" y="1076"/>
                    </a:lnTo>
                    <a:lnTo>
                      <a:pt x="2607" y="1083"/>
                    </a:lnTo>
                    <a:lnTo>
                      <a:pt x="2604" y="1091"/>
                    </a:lnTo>
                    <a:lnTo>
                      <a:pt x="2601" y="1098"/>
                    </a:lnTo>
                    <a:lnTo>
                      <a:pt x="2596" y="1104"/>
                    </a:lnTo>
                    <a:lnTo>
                      <a:pt x="2591" y="1110"/>
                    </a:lnTo>
                    <a:lnTo>
                      <a:pt x="2585" y="1113"/>
                    </a:lnTo>
                    <a:lnTo>
                      <a:pt x="2579" y="1117"/>
                    </a:lnTo>
                    <a:lnTo>
                      <a:pt x="2573" y="1118"/>
                    </a:lnTo>
                    <a:lnTo>
                      <a:pt x="2562" y="1118"/>
                    </a:lnTo>
                    <a:lnTo>
                      <a:pt x="2551" y="1116"/>
                    </a:lnTo>
                    <a:lnTo>
                      <a:pt x="2541" y="1112"/>
                    </a:lnTo>
                    <a:lnTo>
                      <a:pt x="2531" y="1109"/>
                    </a:lnTo>
                    <a:lnTo>
                      <a:pt x="2520" y="1103"/>
                    </a:lnTo>
                    <a:lnTo>
                      <a:pt x="2512" y="1097"/>
                    </a:lnTo>
                    <a:lnTo>
                      <a:pt x="2502" y="1089"/>
                    </a:lnTo>
                    <a:lnTo>
                      <a:pt x="2494" y="1082"/>
                    </a:lnTo>
                    <a:lnTo>
                      <a:pt x="2483" y="1071"/>
                    </a:lnTo>
                    <a:lnTo>
                      <a:pt x="2473" y="1059"/>
                    </a:lnTo>
                    <a:lnTo>
                      <a:pt x="2464" y="1046"/>
                    </a:lnTo>
                    <a:lnTo>
                      <a:pt x="2455" y="1033"/>
                    </a:lnTo>
                    <a:lnTo>
                      <a:pt x="2448" y="1020"/>
                    </a:lnTo>
                    <a:lnTo>
                      <a:pt x="2440" y="1007"/>
                    </a:lnTo>
                    <a:lnTo>
                      <a:pt x="2431" y="993"/>
                    </a:lnTo>
                    <a:lnTo>
                      <a:pt x="2422" y="980"/>
                    </a:lnTo>
                    <a:lnTo>
                      <a:pt x="2416" y="972"/>
                    </a:lnTo>
                    <a:lnTo>
                      <a:pt x="2411" y="965"/>
                    </a:lnTo>
                    <a:lnTo>
                      <a:pt x="2405" y="956"/>
                    </a:lnTo>
                    <a:lnTo>
                      <a:pt x="2400" y="948"/>
                    </a:lnTo>
                    <a:lnTo>
                      <a:pt x="2394" y="941"/>
                    </a:lnTo>
                    <a:lnTo>
                      <a:pt x="2388" y="933"/>
                    </a:lnTo>
                    <a:lnTo>
                      <a:pt x="2381" y="926"/>
                    </a:lnTo>
                    <a:lnTo>
                      <a:pt x="2374" y="920"/>
                    </a:lnTo>
                    <a:lnTo>
                      <a:pt x="2370" y="918"/>
                    </a:lnTo>
                    <a:lnTo>
                      <a:pt x="2367" y="917"/>
                    </a:lnTo>
                    <a:lnTo>
                      <a:pt x="2362" y="915"/>
                    </a:lnTo>
                    <a:lnTo>
                      <a:pt x="2358" y="914"/>
                    </a:lnTo>
                    <a:lnTo>
                      <a:pt x="2353" y="914"/>
                    </a:lnTo>
                    <a:lnTo>
                      <a:pt x="2350" y="915"/>
                    </a:lnTo>
                    <a:lnTo>
                      <a:pt x="2346" y="918"/>
                    </a:lnTo>
                    <a:lnTo>
                      <a:pt x="2344" y="920"/>
                    </a:lnTo>
                    <a:lnTo>
                      <a:pt x="2333" y="936"/>
                    </a:lnTo>
                    <a:lnTo>
                      <a:pt x="2323" y="953"/>
                    </a:lnTo>
                    <a:lnTo>
                      <a:pt x="2314" y="971"/>
                    </a:lnTo>
                    <a:lnTo>
                      <a:pt x="2307" y="989"/>
                    </a:lnTo>
                    <a:lnTo>
                      <a:pt x="2298" y="1005"/>
                    </a:lnTo>
                    <a:lnTo>
                      <a:pt x="2290" y="1023"/>
                    </a:lnTo>
                    <a:lnTo>
                      <a:pt x="2281" y="1041"/>
                    </a:lnTo>
                    <a:lnTo>
                      <a:pt x="2272" y="1058"/>
                    </a:lnTo>
                    <a:lnTo>
                      <a:pt x="2261" y="1075"/>
                    </a:lnTo>
                    <a:lnTo>
                      <a:pt x="2250" y="1093"/>
                    </a:lnTo>
                    <a:lnTo>
                      <a:pt x="2239" y="1110"/>
                    </a:lnTo>
                    <a:lnTo>
                      <a:pt x="2229" y="1127"/>
                    </a:lnTo>
                    <a:lnTo>
                      <a:pt x="2218" y="1143"/>
                    </a:lnTo>
                    <a:lnTo>
                      <a:pt x="2206" y="1159"/>
                    </a:lnTo>
                    <a:lnTo>
                      <a:pt x="2194" y="1175"/>
                    </a:lnTo>
                    <a:lnTo>
                      <a:pt x="2181" y="1190"/>
                    </a:lnTo>
                    <a:lnTo>
                      <a:pt x="2169" y="1205"/>
                    </a:lnTo>
                    <a:lnTo>
                      <a:pt x="2157" y="1218"/>
                    </a:lnTo>
                    <a:lnTo>
                      <a:pt x="2143" y="1231"/>
                    </a:lnTo>
                    <a:lnTo>
                      <a:pt x="2129" y="1244"/>
                    </a:lnTo>
                    <a:lnTo>
                      <a:pt x="2116" y="1257"/>
                    </a:lnTo>
                    <a:lnTo>
                      <a:pt x="2101" y="1269"/>
                    </a:lnTo>
                    <a:lnTo>
                      <a:pt x="2087" y="1281"/>
                    </a:lnTo>
                    <a:lnTo>
                      <a:pt x="2073" y="1293"/>
                    </a:lnTo>
                    <a:lnTo>
                      <a:pt x="2062" y="1301"/>
                    </a:lnTo>
                    <a:lnTo>
                      <a:pt x="2052" y="1309"/>
                    </a:lnTo>
                    <a:lnTo>
                      <a:pt x="2040" y="1316"/>
                    </a:lnTo>
                    <a:lnTo>
                      <a:pt x="2029" y="1323"/>
                    </a:lnTo>
                    <a:lnTo>
                      <a:pt x="2019" y="1329"/>
                    </a:lnTo>
                    <a:lnTo>
                      <a:pt x="2007" y="1337"/>
                    </a:lnTo>
                    <a:lnTo>
                      <a:pt x="1995" y="1341"/>
                    </a:lnTo>
                    <a:lnTo>
                      <a:pt x="1983" y="1347"/>
                    </a:lnTo>
                    <a:lnTo>
                      <a:pt x="1972" y="1351"/>
                    </a:lnTo>
                    <a:lnTo>
                      <a:pt x="1961" y="1353"/>
                    </a:lnTo>
                    <a:lnTo>
                      <a:pt x="1949" y="1356"/>
                    </a:lnTo>
                    <a:lnTo>
                      <a:pt x="1938" y="1357"/>
                    </a:lnTo>
                    <a:lnTo>
                      <a:pt x="1926" y="1358"/>
                    </a:lnTo>
                    <a:lnTo>
                      <a:pt x="1914" y="1361"/>
                    </a:lnTo>
                    <a:lnTo>
                      <a:pt x="1903" y="1362"/>
                    </a:lnTo>
                    <a:lnTo>
                      <a:pt x="1893" y="1365"/>
                    </a:lnTo>
                    <a:lnTo>
                      <a:pt x="1884" y="1367"/>
                    </a:lnTo>
                    <a:lnTo>
                      <a:pt x="1877" y="1369"/>
                    </a:lnTo>
                    <a:lnTo>
                      <a:pt x="1869" y="1370"/>
                    </a:lnTo>
                    <a:lnTo>
                      <a:pt x="1861" y="1373"/>
                    </a:lnTo>
                    <a:lnTo>
                      <a:pt x="1854" y="1375"/>
                    </a:lnTo>
                    <a:lnTo>
                      <a:pt x="1848" y="1378"/>
                    </a:lnTo>
                    <a:lnTo>
                      <a:pt x="1842" y="1383"/>
                    </a:lnTo>
                    <a:lnTo>
                      <a:pt x="1837" y="1389"/>
                    </a:lnTo>
                    <a:lnTo>
                      <a:pt x="1836" y="1394"/>
                    </a:lnTo>
                    <a:lnTo>
                      <a:pt x="1836" y="1400"/>
                    </a:lnTo>
                    <a:lnTo>
                      <a:pt x="1837" y="1405"/>
                    </a:lnTo>
                    <a:lnTo>
                      <a:pt x="1840" y="1411"/>
                    </a:lnTo>
                    <a:lnTo>
                      <a:pt x="1843" y="1417"/>
                    </a:lnTo>
                    <a:lnTo>
                      <a:pt x="1848" y="1422"/>
                    </a:lnTo>
                    <a:lnTo>
                      <a:pt x="1852" y="1426"/>
                    </a:lnTo>
                    <a:lnTo>
                      <a:pt x="1857" y="1431"/>
                    </a:lnTo>
                    <a:lnTo>
                      <a:pt x="1866" y="1440"/>
                    </a:lnTo>
                    <a:lnTo>
                      <a:pt x="1877" y="1447"/>
                    </a:lnTo>
                    <a:lnTo>
                      <a:pt x="1888" y="1454"/>
                    </a:lnTo>
                    <a:lnTo>
                      <a:pt x="1899" y="1460"/>
                    </a:lnTo>
                    <a:lnTo>
                      <a:pt x="1911" y="1467"/>
                    </a:lnTo>
                    <a:lnTo>
                      <a:pt x="1921" y="1474"/>
                    </a:lnTo>
                    <a:lnTo>
                      <a:pt x="1931" y="1482"/>
                    </a:lnTo>
                    <a:lnTo>
                      <a:pt x="1941" y="1491"/>
                    </a:lnTo>
                    <a:lnTo>
                      <a:pt x="1949" y="1503"/>
                    </a:lnTo>
                    <a:lnTo>
                      <a:pt x="1957" y="1516"/>
                    </a:lnTo>
                    <a:lnTo>
                      <a:pt x="1965" y="1530"/>
                    </a:lnTo>
                    <a:lnTo>
                      <a:pt x="1971" y="1543"/>
                    </a:lnTo>
                    <a:lnTo>
                      <a:pt x="1977" y="1557"/>
                    </a:lnTo>
                    <a:lnTo>
                      <a:pt x="1983" y="1572"/>
                    </a:lnTo>
                    <a:lnTo>
                      <a:pt x="1989" y="1586"/>
                    </a:lnTo>
                    <a:lnTo>
                      <a:pt x="1995" y="1599"/>
                    </a:lnTo>
                    <a:lnTo>
                      <a:pt x="2003" y="1618"/>
                    </a:lnTo>
                    <a:lnTo>
                      <a:pt x="2010" y="1639"/>
                    </a:lnTo>
                    <a:lnTo>
                      <a:pt x="2017" y="1658"/>
                    </a:lnTo>
                    <a:lnTo>
                      <a:pt x="2026" y="1678"/>
                    </a:lnTo>
                    <a:lnTo>
                      <a:pt x="2033" y="1698"/>
                    </a:lnTo>
                    <a:lnTo>
                      <a:pt x="2043" y="1717"/>
                    </a:lnTo>
                    <a:lnTo>
                      <a:pt x="2047" y="1725"/>
                    </a:lnTo>
                    <a:lnTo>
                      <a:pt x="2053" y="1734"/>
                    </a:lnTo>
                    <a:lnTo>
                      <a:pt x="2059" y="1742"/>
                    </a:lnTo>
                    <a:lnTo>
                      <a:pt x="2067" y="1749"/>
                    </a:lnTo>
                    <a:lnTo>
                      <a:pt x="2075" y="1758"/>
                    </a:lnTo>
                    <a:lnTo>
                      <a:pt x="2083" y="1765"/>
                    </a:lnTo>
                    <a:lnTo>
                      <a:pt x="2092" y="1772"/>
                    </a:lnTo>
                    <a:lnTo>
                      <a:pt x="2101" y="1778"/>
                    </a:lnTo>
                    <a:lnTo>
                      <a:pt x="2121" y="1790"/>
                    </a:lnTo>
                    <a:lnTo>
                      <a:pt x="2140" y="1801"/>
                    </a:lnTo>
                    <a:lnTo>
                      <a:pt x="2161" y="1812"/>
                    </a:lnTo>
                    <a:lnTo>
                      <a:pt x="2182" y="1821"/>
                    </a:lnTo>
                    <a:lnTo>
                      <a:pt x="2202" y="1831"/>
                    </a:lnTo>
                    <a:lnTo>
                      <a:pt x="2224" y="1840"/>
                    </a:lnTo>
                    <a:lnTo>
                      <a:pt x="2238" y="1846"/>
                    </a:lnTo>
                    <a:lnTo>
                      <a:pt x="2253" y="1852"/>
                    </a:lnTo>
                    <a:lnTo>
                      <a:pt x="2268" y="1858"/>
                    </a:lnTo>
                    <a:lnTo>
                      <a:pt x="2284" y="1863"/>
                    </a:lnTo>
                    <a:lnTo>
                      <a:pt x="2299" y="1868"/>
                    </a:lnTo>
                    <a:lnTo>
                      <a:pt x="2315" y="1874"/>
                    </a:lnTo>
                    <a:lnTo>
                      <a:pt x="2329" y="1880"/>
                    </a:lnTo>
                    <a:lnTo>
                      <a:pt x="2344" y="1888"/>
                    </a:lnTo>
                    <a:lnTo>
                      <a:pt x="2351" y="1892"/>
                    </a:lnTo>
                    <a:lnTo>
                      <a:pt x="2357" y="1897"/>
                    </a:lnTo>
                    <a:lnTo>
                      <a:pt x="2364" y="1903"/>
                    </a:lnTo>
                    <a:lnTo>
                      <a:pt x="2370" y="1909"/>
                    </a:lnTo>
                    <a:lnTo>
                      <a:pt x="2375" y="1915"/>
                    </a:lnTo>
                    <a:lnTo>
                      <a:pt x="2380" y="1922"/>
                    </a:lnTo>
                    <a:lnTo>
                      <a:pt x="2383" y="1929"/>
                    </a:lnTo>
                    <a:lnTo>
                      <a:pt x="2386" y="1936"/>
                    </a:lnTo>
                    <a:lnTo>
                      <a:pt x="2388" y="1946"/>
                    </a:lnTo>
                    <a:lnTo>
                      <a:pt x="2389" y="1957"/>
                    </a:lnTo>
                    <a:lnTo>
                      <a:pt x="2391" y="1968"/>
                    </a:lnTo>
                    <a:lnTo>
                      <a:pt x="2391" y="1978"/>
                    </a:lnTo>
                    <a:lnTo>
                      <a:pt x="2389" y="1988"/>
                    </a:lnTo>
                    <a:lnTo>
                      <a:pt x="2386" y="1996"/>
                    </a:lnTo>
                    <a:lnTo>
                      <a:pt x="2383" y="2000"/>
                    </a:lnTo>
                    <a:lnTo>
                      <a:pt x="2381" y="2004"/>
                    </a:lnTo>
                    <a:lnTo>
                      <a:pt x="2377" y="2006"/>
                    </a:lnTo>
                    <a:lnTo>
                      <a:pt x="2374" y="2008"/>
                    </a:lnTo>
                    <a:lnTo>
                      <a:pt x="2367" y="2011"/>
                    </a:lnTo>
                    <a:lnTo>
                      <a:pt x="2358" y="2013"/>
                    </a:lnTo>
                    <a:lnTo>
                      <a:pt x="2351" y="2013"/>
                    </a:lnTo>
                    <a:lnTo>
                      <a:pt x="2343" y="2013"/>
                    </a:lnTo>
                    <a:lnTo>
                      <a:pt x="2327" y="2012"/>
                    </a:lnTo>
                    <a:lnTo>
                      <a:pt x="2311" y="2010"/>
                    </a:lnTo>
                    <a:lnTo>
                      <a:pt x="2295" y="2005"/>
                    </a:lnTo>
                    <a:lnTo>
                      <a:pt x="2279" y="2000"/>
                    </a:lnTo>
                    <a:lnTo>
                      <a:pt x="2263" y="1995"/>
                    </a:lnTo>
                    <a:lnTo>
                      <a:pt x="2248" y="1990"/>
                    </a:lnTo>
                    <a:lnTo>
                      <a:pt x="2230" y="1986"/>
                    </a:lnTo>
                    <a:lnTo>
                      <a:pt x="2213" y="1980"/>
                    </a:lnTo>
                    <a:lnTo>
                      <a:pt x="2196" y="1972"/>
                    </a:lnTo>
                    <a:lnTo>
                      <a:pt x="2181" y="1965"/>
                    </a:lnTo>
                    <a:lnTo>
                      <a:pt x="2164" y="1958"/>
                    </a:lnTo>
                    <a:lnTo>
                      <a:pt x="2147" y="1951"/>
                    </a:lnTo>
                    <a:lnTo>
                      <a:pt x="2131" y="1944"/>
                    </a:lnTo>
                    <a:lnTo>
                      <a:pt x="2115" y="1936"/>
                    </a:lnTo>
                    <a:lnTo>
                      <a:pt x="2095" y="1928"/>
                    </a:lnTo>
                    <a:lnTo>
                      <a:pt x="2075" y="1920"/>
                    </a:lnTo>
                    <a:lnTo>
                      <a:pt x="2055" y="1912"/>
                    </a:lnTo>
                    <a:lnTo>
                      <a:pt x="2034" y="1904"/>
                    </a:lnTo>
                    <a:lnTo>
                      <a:pt x="2015" y="1896"/>
                    </a:lnTo>
                    <a:lnTo>
                      <a:pt x="1995" y="1886"/>
                    </a:lnTo>
                    <a:lnTo>
                      <a:pt x="1977" y="1876"/>
                    </a:lnTo>
                    <a:lnTo>
                      <a:pt x="1959" y="1864"/>
                    </a:lnTo>
                    <a:lnTo>
                      <a:pt x="1945" y="1854"/>
                    </a:lnTo>
                    <a:lnTo>
                      <a:pt x="1933" y="1843"/>
                    </a:lnTo>
                    <a:lnTo>
                      <a:pt x="1921" y="1831"/>
                    </a:lnTo>
                    <a:lnTo>
                      <a:pt x="1911" y="1818"/>
                    </a:lnTo>
                    <a:lnTo>
                      <a:pt x="1900" y="1804"/>
                    </a:lnTo>
                    <a:lnTo>
                      <a:pt x="1890" y="1791"/>
                    </a:lnTo>
                    <a:lnTo>
                      <a:pt x="1882" y="1777"/>
                    </a:lnTo>
                    <a:lnTo>
                      <a:pt x="1875" y="1762"/>
                    </a:lnTo>
                    <a:lnTo>
                      <a:pt x="1870" y="1752"/>
                    </a:lnTo>
                    <a:lnTo>
                      <a:pt x="1867" y="1741"/>
                    </a:lnTo>
                    <a:lnTo>
                      <a:pt x="1867" y="1729"/>
                    </a:lnTo>
                    <a:lnTo>
                      <a:pt x="1866" y="1717"/>
                    </a:lnTo>
                    <a:lnTo>
                      <a:pt x="1866" y="1706"/>
                    </a:lnTo>
                    <a:lnTo>
                      <a:pt x="1866" y="1694"/>
                    </a:lnTo>
                    <a:lnTo>
                      <a:pt x="1865" y="1683"/>
                    </a:lnTo>
                    <a:lnTo>
                      <a:pt x="1863" y="1671"/>
                    </a:lnTo>
                    <a:lnTo>
                      <a:pt x="1859" y="1662"/>
                    </a:lnTo>
                    <a:lnTo>
                      <a:pt x="1855" y="1652"/>
                    </a:lnTo>
                    <a:lnTo>
                      <a:pt x="1851" y="1641"/>
                    </a:lnTo>
                    <a:lnTo>
                      <a:pt x="1846" y="1632"/>
                    </a:lnTo>
                    <a:lnTo>
                      <a:pt x="1841" y="1623"/>
                    </a:lnTo>
                    <a:lnTo>
                      <a:pt x="1835" y="1615"/>
                    </a:lnTo>
                    <a:lnTo>
                      <a:pt x="1828" y="1606"/>
                    </a:lnTo>
                    <a:lnTo>
                      <a:pt x="1819" y="1599"/>
                    </a:lnTo>
                    <a:lnTo>
                      <a:pt x="1815" y="1596"/>
                    </a:lnTo>
                    <a:lnTo>
                      <a:pt x="1809" y="1593"/>
                    </a:lnTo>
                    <a:lnTo>
                      <a:pt x="1803" y="1592"/>
                    </a:lnTo>
                    <a:lnTo>
                      <a:pt x="1795" y="1592"/>
                    </a:lnTo>
                    <a:lnTo>
                      <a:pt x="1788" y="1592"/>
                    </a:lnTo>
                    <a:lnTo>
                      <a:pt x="1782" y="1593"/>
                    </a:lnTo>
                    <a:lnTo>
                      <a:pt x="1776" y="1596"/>
                    </a:lnTo>
                    <a:lnTo>
                      <a:pt x="1771" y="1599"/>
                    </a:lnTo>
                    <a:lnTo>
                      <a:pt x="1765" y="1606"/>
                    </a:lnTo>
                    <a:lnTo>
                      <a:pt x="1761" y="1615"/>
                    </a:lnTo>
                    <a:lnTo>
                      <a:pt x="1757" y="1623"/>
                    </a:lnTo>
                    <a:lnTo>
                      <a:pt x="1753" y="1633"/>
                    </a:lnTo>
                    <a:lnTo>
                      <a:pt x="1752" y="1642"/>
                    </a:lnTo>
                    <a:lnTo>
                      <a:pt x="1750" y="1652"/>
                    </a:lnTo>
                    <a:lnTo>
                      <a:pt x="1749" y="1662"/>
                    </a:lnTo>
                    <a:lnTo>
                      <a:pt x="1747" y="1671"/>
                    </a:lnTo>
                    <a:lnTo>
                      <a:pt x="1746" y="1692"/>
                    </a:lnTo>
                    <a:lnTo>
                      <a:pt x="1745" y="1712"/>
                    </a:lnTo>
                    <a:lnTo>
                      <a:pt x="1745" y="1732"/>
                    </a:lnTo>
                    <a:lnTo>
                      <a:pt x="1745" y="1753"/>
                    </a:lnTo>
                    <a:lnTo>
                      <a:pt x="1746" y="1773"/>
                    </a:lnTo>
                    <a:lnTo>
                      <a:pt x="1746" y="1794"/>
                    </a:lnTo>
                    <a:lnTo>
                      <a:pt x="1747" y="1814"/>
                    </a:lnTo>
                    <a:lnTo>
                      <a:pt x="1747" y="1834"/>
                    </a:lnTo>
                    <a:lnTo>
                      <a:pt x="1749" y="1850"/>
                    </a:lnTo>
                    <a:lnTo>
                      <a:pt x="1750" y="1866"/>
                    </a:lnTo>
                    <a:lnTo>
                      <a:pt x="1751" y="1881"/>
                    </a:lnTo>
                    <a:lnTo>
                      <a:pt x="1753" y="1897"/>
                    </a:lnTo>
                    <a:lnTo>
                      <a:pt x="1755" y="1914"/>
                    </a:lnTo>
                    <a:lnTo>
                      <a:pt x="1756" y="1929"/>
                    </a:lnTo>
                    <a:lnTo>
                      <a:pt x="1755" y="1945"/>
                    </a:lnTo>
                    <a:lnTo>
                      <a:pt x="1753" y="1960"/>
                    </a:lnTo>
                    <a:lnTo>
                      <a:pt x="1751" y="1972"/>
                    </a:lnTo>
                    <a:lnTo>
                      <a:pt x="1747" y="1983"/>
                    </a:lnTo>
                    <a:lnTo>
                      <a:pt x="1744" y="1995"/>
                    </a:lnTo>
                    <a:lnTo>
                      <a:pt x="1739" y="2006"/>
                    </a:lnTo>
                    <a:lnTo>
                      <a:pt x="1733" y="2017"/>
                    </a:lnTo>
                    <a:lnTo>
                      <a:pt x="1728" y="2029"/>
                    </a:lnTo>
                    <a:lnTo>
                      <a:pt x="1722" y="2040"/>
                    </a:lnTo>
                    <a:lnTo>
                      <a:pt x="1717" y="2050"/>
                    </a:lnTo>
                    <a:lnTo>
                      <a:pt x="1713" y="2065"/>
                    </a:lnTo>
                    <a:lnTo>
                      <a:pt x="1708" y="2078"/>
                    </a:lnTo>
                    <a:lnTo>
                      <a:pt x="1704" y="2092"/>
                    </a:lnTo>
                    <a:lnTo>
                      <a:pt x="1699" y="2107"/>
                    </a:lnTo>
                    <a:lnTo>
                      <a:pt x="1695" y="2120"/>
                    </a:lnTo>
                    <a:lnTo>
                      <a:pt x="1690" y="2133"/>
                    </a:lnTo>
                    <a:lnTo>
                      <a:pt x="1683" y="2146"/>
                    </a:lnTo>
                    <a:lnTo>
                      <a:pt x="1675" y="2158"/>
                    </a:lnTo>
                    <a:lnTo>
                      <a:pt x="1668" y="2169"/>
                    </a:lnTo>
                    <a:lnTo>
                      <a:pt x="1659" y="2179"/>
                    </a:lnTo>
                    <a:lnTo>
                      <a:pt x="1650" y="2187"/>
                    </a:lnTo>
                    <a:lnTo>
                      <a:pt x="1639" y="2195"/>
                    </a:lnTo>
                    <a:lnTo>
                      <a:pt x="1630" y="2204"/>
                    </a:lnTo>
                    <a:lnTo>
                      <a:pt x="1619" y="2211"/>
                    </a:lnTo>
                    <a:lnTo>
                      <a:pt x="1608" y="2218"/>
                    </a:lnTo>
                    <a:lnTo>
                      <a:pt x="1597" y="2224"/>
                    </a:lnTo>
                    <a:lnTo>
                      <a:pt x="1590" y="2229"/>
                    </a:lnTo>
                    <a:lnTo>
                      <a:pt x="1583" y="2234"/>
                    </a:lnTo>
                    <a:lnTo>
                      <a:pt x="1575" y="2239"/>
                    </a:lnTo>
                    <a:lnTo>
                      <a:pt x="1567" y="2242"/>
                    </a:lnTo>
                    <a:lnTo>
                      <a:pt x="1559" y="2245"/>
                    </a:lnTo>
                    <a:lnTo>
                      <a:pt x="1552" y="2247"/>
                    </a:lnTo>
                    <a:lnTo>
                      <a:pt x="1547" y="2247"/>
                    </a:lnTo>
                    <a:lnTo>
                      <a:pt x="1543" y="2246"/>
                    </a:lnTo>
                    <a:lnTo>
                      <a:pt x="1540" y="2245"/>
                    </a:lnTo>
                    <a:lnTo>
                      <a:pt x="1537" y="2243"/>
                    </a:lnTo>
                    <a:lnTo>
                      <a:pt x="1529" y="2236"/>
                    </a:lnTo>
                    <a:lnTo>
                      <a:pt x="1523" y="2228"/>
                    </a:lnTo>
                    <a:lnTo>
                      <a:pt x="1517" y="2218"/>
                    </a:lnTo>
                    <a:lnTo>
                      <a:pt x="1513" y="2209"/>
                    </a:lnTo>
                    <a:lnTo>
                      <a:pt x="1510" y="2198"/>
                    </a:lnTo>
                    <a:lnTo>
                      <a:pt x="1509" y="2187"/>
                    </a:lnTo>
                    <a:lnTo>
                      <a:pt x="1507" y="2175"/>
                    </a:lnTo>
                    <a:lnTo>
                      <a:pt x="1507" y="2164"/>
                    </a:lnTo>
                    <a:lnTo>
                      <a:pt x="1507" y="2150"/>
                    </a:lnTo>
                    <a:lnTo>
                      <a:pt x="1510" y="2134"/>
                    </a:lnTo>
                    <a:lnTo>
                      <a:pt x="1512" y="2119"/>
                    </a:lnTo>
                    <a:lnTo>
                      <a:pt x="1517" y="2103"/>
                    </a:lnTo>
                    <a:lnTo>
                      <a:pt x="1522" y="2089"/>
                    </a:lnTo>
                    <a:lnTo>
                      <a:pt x="1527" y="2074"/>
                    </a:lnTo>
                    <a:lnTo>
                      <a:pt x="1531" y="2059"/>
                    </a:lnTo>
                    <a:lnTo>
                      <a:pt x="1537" y="2044"/>
                    </a:lnTo>
                    <a:lnTo>
                      <a:pt x="1542" y="2032"/>
                    </a:lnTo>
                    <a:lnTo>
                      <a:pt x="1548" y="2020"/>
                    </a:lnTo>
                    <a:lnTo>
                      <a:pt x="1555" y="2008"/>
                    </a:lnTo>
                    <a:lnTo>
                      <a:pt x="1563" y="1996"/>
                    </a:lnTo>
                    <a:lnTo>
                      <a:pt x="1570" y="1986"/>
                    </a:lnTo>
                    <a:lnTo>
                      <a:pt x="1576" y="1974"/>
                    </a:lnTo>
                    <a:lnTo>
                      <a:pt x="1581" y="1962"/>
                    </a:lnTo>
                    <a:lnTo>
                      <a:pt x="1585" y="1948"/>
                    </a:lnTo>
                    <a:lnTo>
                      <a:pt x="1590" y="1927"/>
                    </a:lnTo>
                    <a:lnTo>
                      <a:pt x="1594" y="1905"/>
                    </a:lnTo>
                    <a:lnTo>
                      <a:pt x="1597" y="1884"/>
                    </a:lnTo>
                    <a:lnTo>
                      <a:pt x="1600" y="1862"/>
                    </a:lnTo>
                    <a:lnTo>
                      <a:pt x="1602" y="1839"/>
                    </a:lnTo>
                    <a:lnTo>
                      <a:pt x="1603" y="1818"/>
                    </a:lnTo>
                    <a:lnTo>
                      <a:pt x="1603" y="1796"/>
                    </a:lnTo>
                    <a:lnTo>
                      <a:pt x="1603" y="1774"/>
                    </a:lnTo>
                    <a:lnTo>
                      <a:pt x="1602" y="1760"/>
                    </a:lnTo>
                    <a:lnTo>
                      <a:pt x="1600" y="1746"/>
                    </a:lnTo>
                    <a:lnTo>
                      <a:pt x="1597" y="1731"/>
                    </a:lnTo>
                    <a:lnTo>
                      <a:pt x="1595" y="1718"/>
                    </a:lnTo>
                    <a:lnTo>
                      <a:pt x="1590" y="1705"/>
                    </a:lnTo>
                    <a:lnTo>
                      <a:pt x="1585" y="1692"/>
                    </a:lnTo>
                    <a:lnTo>
                      <a:pt x="1579" y="1678"/>
                    </a:lnTo>
                    <a:lnTo>
                      <a:pt x="1573" y="1665"/>
                    </a:lnTo>
                    <a:lnTo>
                      <a:pt x="1569" y="1658"/>
                    </a:lnTo>
                    <a:lnTo>
                      <a:pt x="1563" y="1651"/>
                    </a:lnTo>
                    <a:lnTo>
                      <a:pt x="1557" y="1644"/>
                    </a:lnTo>
                    <a:lnTo>
                      <a:pt x="1551" y="1638"/>
                    </a:lnTo>
                    <a:lnTo>
                      <a:pt x="1543" y="1633"/>
                    </a:lnTo>
                    <a:lnTo>
                      <a:pt x="1535" y="1628"/>
                    </a:lnTo>
                    <a:lnTo>
                      <a:pt x="1528" y="1626"/>
                    </a:lnTo>
                    <a:lnTo>
                      <a:pt x="1519" y="1623"/>
                    </a:lnTo>
                    <a:lnTo>
                      <a:pt x="1509" y="1623"/>
                    </a:lnTo>
                    <a:lnTo>
                      <a:pt x="1499" y="1624"/>
                    </a:lnTo>
                    <a:lnTo>
                      <a:pt x="1489" y="1627"/>
                    </a:lnTo>
                    <a:lnTo>
                      <a:pt x="1480" y="1630"/>
                    </a:lnTo>
                    <a:lnTo>
                      <a:pt x="1470" y="1635"/>
                    </a:lnTo>
                    <a:lnTo>
                      <a:pt x="1462" y="1640"/>
                    </a:lnTo>
                    <a:lnTo>
                      <a:pt x="1453" y="1647"/>
                    </a:lnTo>
                    <a:lnTo>
                      <a:pt x="1446" y="1653"/>
                    </a:lnTo>
                    <a:lnTo>
                      <a:pt x="1438" y="1665"/>
                    </a:lnTo>
                    <a:lnTo>
                      <a:pt x="1429" y="1678"/>
                    </a:lnTo>
                    <a:lnTo>
                      <a:pt x="1422" y="1692"/>
                    </a:lnTo>
                    <a:lnTo>
                      <a:pt x="1416" y="1705"/>
                    </a:lnTo>
                    <a:lnTo>
                      <a:pt x="1410" y="1719"/>
                    </a:lnTo>
                    <a:lnTo>
                      <a:pt x="1405" y="1734"/>
                    </a:lnTo>
                    <a:lnTo>
                      <a:pt x="1399" y="1748"/>
                    </a:lnTo>
                    <a:lnTo>
                      <a:pt x="1392" y="1762"/>
                    </a:lnTo>
                    <a:lnTo>
                      <a:pt x="1381" y="1784"/>
                    </a:lnTo>
                    <a:lnTo>
                      <a:pt x="1371" y="1806"/>
                    </a:lnTo>
                    <a:lnTo>
                      <a:pt x="1360" y="1828"/>
                    </a:lnTo>
                    <a:lnTo>
                      <a:pt x="1349" y="1850"/>
                    </a:lnTo>
                    <a:lnTo>
                      <a:pt x="1338" y="1872"/>
                    </a:lnTo>
                    <a:lnTo>
                      <a:pt x="1326" y="1893"/>
                    </a:lnTo>
                    <a:lnTo>
                      <a:pt x="1314" y="1915"/>
                    </a:lnTo>
                    <a:lnTo>
                      <a:pt x="1302" y="1936"/>
                    </a:lnTo>
                    <a:lnTo>
                      <a:pt x="1290" y="1956"/>
                    </a:lnTo>
                    <a:lnTo>
                      <a:pt x="1278" y="1975"/>
                    </a:lnTo>
                    <a:lnTo>
                      <a:pt x="1265" y="1994"/>
                    </a:lnTo>
                    <a:lnTo>
                      <a:pt x="1253" y="2012"/>
                    </a:lnTo>
                    <a:lnTo>
                      <a:pt x="1239" y="2030"/>
                    </a:lnTo>
                    <a:lnTo>
                      <a:pt x="1224" y="2048"/>
                    </a:lnTo>
                    <a:lnTo>
                      <a:pt x="1210" y="2065"/>
                    </a:lnTo>
                    <a:lnTo>
                      <a:pt x="1194" y="2080"/>
                    </a:lnTo>
                    <a:lnTo>
                      <a:pt x="1177" y="2096"/>
                    </a:lnTo>
                    <a:lnTo>
                      <a:pt x="1159" y="2110"/>
                    </a:lnTo>
                    <a:lnTo>
                      <a:pt x="1141" y="2125"/>
                    </a:lnTo>
                    <a:lnTo>
                      <a:pt x="1122" y="2138"/>
                    </a:lnTo>
                    <a:lnTo>
                      <a:pt x="1103" y="2150"/>
                    </a:lnTo>
                    <a:lnTo>
                      <a:pt x="1084" y="2162"/>
                    </a:lnTo>
                    <a:lnTo>
                      <a:pt x="1063" y="2173"/>
                    </a:lnTo>
                    <a:lnTo>
                      <a:pt x="1043" y="2182"/>
                    </a:lnTo>
                    <a:lnTo>
                      <a:pt x="1027" y="2189"/>
                    </a:lnTo>
                    <a:lnTo>
                      <a:pt x="1012" y="2195"/>
                    </a:lnTo>
                    <a:lnTo>
                      <a:pt x="995" y="2201"/>
                    </a:lnTo>
                    <a:lnTo>
                      <a:pt x="978" y="2206"/>
                    </a:lnTo>
                    <a:lnTo>
                      <a:pt x="961" y="2210"/>
                    </a:lnTo>
                    <a:lnTo>
                      <a:pt x="945" y="2213"/>
                    </a:lnTo>
                    <a:lnTo>
                      <a:pt x="928" y="2216"/>
                    </a:lnTo>
                    <a:lnTo>
                      <a:pt x="911" y="2218"/>
                    </a:lnTo>
                    <a:lnTo>
                      <a:pt x="905" y="2219"/>
                    </a:lnTo>
                    <a:lnTo>
                      <a:pt x="898" y="2219"/>
                    </a:lnTo>
                    <a:lnTo>
                      <a:pt x="891" y="2219"/>
                    </a:lnTo>
                    <a:lnTo>
                      <a:pt x="885" y="2218"/>
                    </a:lnTo>
                    <a:lnTo>
                      <a:pt x="877" y="2217"/>
                    </a:lnTo>
                    <a:lnTo>
                      <a:pt x="871" y="2215"/>
                    </a:lnTo>
                    <a:lnTo>
                      <a:pt x="867" y="2211"/>
                    </a:lnTo>
                    <a:lnTo>
                      <a:pt x="863" y="2206"/>
                    </a:lnTo>
                    <a:lnTo>
                      <a:pt x="859" y="2201"/>
                    </a:lnTo>
                    <a:lnTo>
                      <a:pt x="858" y="2195"/>
                    </a:lnTo>
                    <a:lnTo>
                      <a:pt x="858" y="2189"/>
                    </a:lnTo>
                    <a:lnTo>
                      <a:pt x="858" y="2182"/>
                    </a:lnTo>
                    <a:lnTo>
                      <a:pt x="859" y="2176"/>
                    </a:lnTo>
                    <a:lnTo>
                      <a:pt x="862" y="2169"/>
                    </a:lnTo>
                    <a:lnTo>
                      <a:pt x="865" y="2164"/>
                    </a:lnTo>
                    <a:lnTo>
                      <a:pt x="869" y="2158"/>
                    </a:lnTo>
                    <a:lnTo>
                      <a:pt x="881" y="2145"/>
                    </a:lnTo>
                    <a:lnTo>
                      <a:pt x="895" y="2132"/>
                    </a:lnTo>
                    <a:lnTo>
                      <a:pt x="909" y="2120"/>
                    </a:lnTo>
                    <a:lnTo>
                      <a:pt x="924" y="2109"/>
                    </a:lnTo>
                    <a:lnTo>
                      <a:pt x="939" y="2097"/>
                    </a:lnTo>
                    <a:lnTo>
                      <a:pt x="954" y="2086"/>
                    </a:lnTo>
                    <a:lnTo>
                      <a:pt x="969" y="2074"/>
                    </a:lnTo>
                    <a:lnTo>
                      <a:pt x="983" y="2062"/>
                    </a:lnTo>
                    <a:lnTo>
                      <a:pt x="1000" y="2048"/>
                    </a:lnTo>
                    <a:lnTo>
                      <a:pt x="1017" y="2034"/>
                    </a:lnTo>
                    <a:lnTo>
                      <a:pt x="1033" y="2020"/>
                    </a:lnTo>
                    <a:lnTo>
                      <a:pt x="1050" y="2006"/>
                    </a:lnTo>
                    <a:lnTo>
                      <a:pt x="1066" y="1992"/>
                    </a:lnTo>
                    <a:lnTo>
                      <a:pt x="1081" y="1976"/>
                    </a:lnTo>
                    <a:lnTo>
                      <a:pt x="1096" y="1959"/>
                    </a:lnTo>
                    <a:lnTo>
                      <a:pt x="1109" y="1942"/>
                    </a:lnTo>
                    <a:lnTo>
                      <a:pt x="1122" y="1923"/>
                    </a:lnTo>
                    <a:lnTo>
                      <a:pt x="1134" y="1905"/>
                    </a:lnTo>
                    <a:lnTo>
                      <a:pt x="1145" y="1885"/>
                    </a:lnTo>
                    <a:lnTo>
                      <a:pt x="1155" y="1864"/>
                    </a:lnTo>
                    <a:lnTo>
                      <a:pt x="1163" y="1844"/>
                    </a:lnTo>
                    <a:lnTo>
                      <a:pt x="1171" y="1824"/>
                    </a:lnTo>
                    <a:lnTo>
                      <a:pt x="1177" y="1802"/>
                    </a:lnTo>
                    <a:lnTo>
                      <a:pt x="1182" y="1780"/>
                    </a:lnTo>
                    <a:lnTo>
                      <a:pt x="1182" y="1770"/>
                    </a:lnTo>
                    <a:lnTo>
                      <a:pt x="1182" y="1760"/>
                    </a:lnTo>
                    <a:lnTo>
                      <a:pt x="1180" y="1749"/>
                    </a:lnTo>
                    <a:lnTo>
                      <a:pt x="1176" y="1740"/>
                    </a:lnTo>
                    <a:lnTo>
                      <a:pt x="1171" y="1730"/>
                    </a:lnTo>
                    <a:lnTo>
                      <a:pt x="1165" y="1722"/>
                    </a:lnTo>
                    <a:lnTo>
                      <a:pt x="1159" y="1714"/>
                    </a:lnTo>
                    <a:lnTo>
                      <a:pt x="1152" y="1707"/>
                    </a:lnTo>
                    <a:lnTo>
                      <a:pt x="1146" y="1705"/>
                    </a:lnTo>
                    <a:lnTo>
                      <a:pt x="1139" y="1704"/>
                    </a:lnTo>
                    <a:lnTo>
                      <a:pt x="1132" y="1704"/>
                    </a:lnTo>
                    <a:lnTo>
                      <a:pt x="1125" y="1706"/>
                    </a:lnTo>
                    <a:lnTo>
                      <a:pt x="1117" y="1708"/>
                    </a:lnTo>
                    <a:lnTo>
                      <a:pt x="1110" y="1712"/>
                    </a:lnTo>
                    <a:lnTo>
                      <a:pt x="1103" y="1716"/>
                    </a:lnTo>
                    <a:lnTo>
                      <a:pt x="1097" y="1719"/>
                    </a:lnTo>
                    <a:lnTo>
                      <a:pt x="1092" y="1725"/>
                    </a:lnTo>
                    <a:lnTo>
                      <a:pt x="1087" y="1732"/>
                    </a:lnTo>
                    <a:lnTo>
                      <a:pt x="1083" y="1740"/>
                    </a:lnTo>
                    <a:lnTo>
                      <a:pt x="1079" y="1747"/>
                    </a:lnTo>
                    <a:lnTo>
                      <a:pt x="1077" y="1755"/>
                    </a:lnTo>
                    <a:lnTo>
                      <a:pt x="1072" y="1762"/>
                    </a:lnTo>
                    <a:lnTo>
                      <a:pt x="1067" y="1768"/>
                    </a:lnTo>
                    <a:lnTo>
                      <a:pt x="1061" y="1774"/>
                    </a:lnTo>
                    <a:lnTo>
                      <a:pt x="1050" y="1782"/>
                    </a:lnTo>
                    <a:lnTo>
                      <a:pt x="1038" y="1789"/>
                    </a:lnTo>
                    <a:lnTo>
                      <a:pt x="1025" y="1796"/>
                    </a:lnTo>
                    <a:lnTo>
                      <a:pt x="1013" y="1802"/>
                    </a:lnTo>
                    <a:lnTo>
                      <a:pt x="1000" y="1807"/>
                    </a:lnTo>
                    <a:lnTo>
                      <a:pt x="987" y="1812"/>
                    </a:lnTo>
                    <a:lnTo>
                      <a:pt x="972" y="1814"/>
                    </a:lnTo>
                    <a:lnTo>
                      <a:pt x="959" y="1816"/>
                    </a:lnTo>
                    <a:lnTo>
                      <a:pt x="949" y="1816"/>
                    </a:lnTo>
                    <a:lnTo>
                      <a:pt x="939" y="1815"/>
                    </a:lnTo>
                    <a:lnTo>
                      <a:pt x="928" y="1814"/>
                    </a:lnTo>
                    <a:lnTo>
                      <a:pt x="917" y="1810"/>
                    </a:lnTo>
                    <a:lnTo>
                      <a:pt x="907" y="1807"/>
                    </a:lnTo>
                    <a:lnTo>
                      <a:pt x="898" y="1801"/>
                    </a:lnTo>
                    <a:lnTo>
                      <a:pt x="894" y="1798"/>
                    </a:lnTo>
                    <a:lnTo>
                      <a:pt x="892" y="1795"/>
                    </a:lnTo>
                    <a:lnTo>
                      <a:pt x="889" y="1790"/>
                    </a:lnTo>
                    <a:lnTo>
                      <a:pt x="887" y="1786"/>
                    </a:lnTo>
                    <a:lnTo>
                      <a:pt x="885" y="1778"/>
                    </a:lnTo>
                    <a:lnTo>
                      <a:pt x="882" y="1771"/>
                    </a:lnTo>
                    <a:lnTo>
                      <a:pt x="882" y="1764"/>
                    </a:lnTo>
                    <a:lnTo>
                      <a:pt x="882" y="1755"/>
                    </a:lnTo>
                    <a:lnTo>
                      <a:pt x="883" y="1740"/>
                    </a:lnTo>
                    <a:lnTo>
                      <a:pt x="886" y="1724"/>
                    </a:lnTo>
                    <a:lnTo>
                      <a:pt x="889" y="1707"/>
                    </a:lnTo>
                    <a:lnTo>
                      <a:pt x="893" y="1692"/>
                    </a:lnTo>
                    <a:lnTo>
                      <a:pt x="897" y="1676"/>
                    </a:lnTo>
                    <a:lnTo>
                      <a:pt x="899" y="1659"/>
                    </a:lnTo>
                    <a:lnTo>
                      <a:pt x="900" y="1648"/>
                    </a:lnTo>
                    <a:lnTo>
                      <a:pt x="903" y="1636"/>
                    </a:lnTo>
                    <a:lnTo>
                      <a:pt x="905" y="1626"/>
                    </a:lnTo>
                    <a:lnTo>
                      <a:pt x="907" y="1614"/>
                    </a:lnTo>
                    <a:lnTo>
                      <a:pt x="909" y="1602"/>
                    </a:lnTo>
                    <a:lnTo>
                      <a:pt x="910" y="1591"/>
                    </a:lnTo>
                    <a:lnTo>
                      <a:pt x="909" y="1580"/>
                    </a:lnTo>
                    <a:lnTo>
                      <a:pt x="905" y="1569"/>
                    </a:lnTo>
                    <a:lnTo>
                      <a:pt x="901" y="1563"/>
                    </a:lnTo>
                    <a:lnTo>
                      <a:pt x="895" y="1560"/>
                    </a:lnTo>
                    <a:lnTo>
                      <a:pt x="889" y="1556"/>
                    </a:lnTo>
                    <a:lnTo>
                      <a:pt x="882" y="1554"/>
                    </a:lnTo>
                    <a:lnTo>
                      <a:pt x="874" y="1552"/>
                    </a:lnTo>
                    <a:lnTo>
                      <a:pt x="867" y="1551"/>
                    </a:lnTo>
                    <a:lnTo>
                      <a:pt x="858" y="1551"/>
                    </a:lnTo>
                    <a:lnTo>
                      <a:pt x="851" y="1551"/>
                    </a:lnTo>
                    <a:lnTo>
                      <a:pt x="834" y="1552"/>
                    </a:lnTo>
                    <a:lnTo>
                      <a:pt x="817" y="1555"/>
                    </a:lnTo>
                    <a:lnTo>
                      <a:pt x="801" y="1558"/>
                    </a:lnTo>
                    <a:lnTo>
                      <a:pt x="784" y="1562"/>
                    </a:lnTo>
                    <a:lnTo>
                      <a:pt x="768" y="1566"/>
                    </a:lnTo>
                    <a:lnTo>
                      <a:pt x="751" y="1568"/>
                    </a:lnTo>
                    <a:lnTo>
                      <a:pt x="735" y="1569"/>
                    </a:lnTo>
                    <a:lnTo>
                      <a:pt x="718" y="1569"/>
                    </a:lnTo>
                    <a:lnTo>
                      <a:pt x="703" y="1568"/>
                    </a:lnTo>
                    <a:lnTo>
                      <a:pt x="690" y="1566"/>
                    </a:lnTo>
                    <a:lnTo>
                      <a:pt x="676" y="1562"/>
                    </a:lnTo>
                    <a:lnTo>
                      <a:pt x="661" y="1558"/>
                    </a:lnTo>
                    <a:lnTo>
                      <a:pt x="648" y="1554"/>
                    </a:lnTo>
                    <a:lnTo>
                      <a:pt x="635" y="1548"/>
                    </a:lnTo>
                    <a:lnTo>
                      <a:pt x="622" y="1540"/>
                    </a:lnTo>
                    <a:lnTo>
                      <a:pt x="610" y="1533"/>
                    </a:lnTo>
                    <a:lnTo>
                      <a:pt x="601" y="1526"/>
                    </a:lnTo>
                    <a:lnTo>
                      <a:pt x="594" y="1518"/>
                    </a:lnTo>
                    <a:lnTo>
                      <a:pt x="588" y="1508"/>
                    </a:lnTo>
                    <a:lnTo>
                      <a:pt x="582" y="1498"/>
                    </a:lnTo>
                    <a:lnTo>
                      <a:pt x="576" y="1488"/>
                    </a:lnTo>
                    <a:lnTo>
                      <a:pt x="570" y="1478"/>
                    </a:lnTo>
                    <a:lnTo>
                      <a:pt x="563" y="1470"/>
                    </a:lnTo>
                    <a:lnTo>
                      <a:pt x="556" y="1461"/>
                    </a:lnTo>
                    <a:lnTo>
                      <a:pt x="550" y="1456"/>
                    </a:lnTo>
                    <a:lnTo>
                      <a:pt x="543" y="1452"/>
                    </a:lnTo>
                    <a:lnTo>
                      <a:pt x="535" y="1448"/>
                    </a:lnTo>
                    <a:lnTo>
                      <a:pt x="527" y="1444"/>
                    </a:lnTo>
                    <a:lnTo>
                      <a:pt x="520" y="1442"/>
                    </a:lnTo>
                    <a:lnTo>
                      <a:pt x="511" y="1440"/>
                    </a:lnTo>
                    <a:lnTo>
                      <a:pt x="503" y="1438"/>
                    </a:lnTo>
                    <a:lnTo>
                      <a:pt x="496" y="1437"/>
                    </a:lnTo>
                    <a:lnTo>
                      <a:pt x="475" y="1436"/>
                    </a:lnTo>
                    <a:lnTo>
                      <a:pt x="456" y="1436"/>
                    </a:lnTo>
                    <a:lnTo>
                      <a:pt x="437" y="1436"/>
                    </a:lnTo>
                    <a:lnTo>
                      <a:pt x="418" y="1437"/>
                    </a:lnTo>
                    <a:lnTo>
                      <a:pt x="397" y="1440"/>
                    </a:lnTo>
                    <a:lnTo>
                      <a:pt x="378" y="1441"/>
                    </a:lnTo>
                    <a:lnTo>
                      <a:pt x="359" y="1442"/>
                    </a:lnTo>
                    <a:lnTo>
                      <a:pt x="339" y="1443"/>
                    </a:lnTo>
                    <a:lnTo>
                      <a:pt x="317" y="1444"/>
                    </a:lnTo>
                    <a:lnTo>
                      <a:pt x="295" y="1446"/>
                    </a:lnTo>
                    <a:lnTo>
                      <a:pt x="274" y="1448"/>
                    </a:lnTo>
                    <a:lnTo>
                      <a:pt x="251" y="1450"/>
                    </a:lnTo>
                    <a:lnTo>
                      <a:pt x="229" y="1452"/>
                    </a:lnTo>
                    <a:lnTo>
                      <a:pt x="208" y="1452"/>
                    </a:lnTo>
                    <a:lnTo>
                      <a:pt x="186" y="1452"/>
                    </a:lnTo>
                    <a:lnTo>
                      <a:pt x="165" y="1449"/>
                    </a:lnTo>
                    <a:lnTo>
                      <a:pt x="154" y="1447"/>
                    </a:lnTo>
                    <a:lnTo>
                      <a:pt x="143" y="1443"/>
                    </a:lnTo>
                    <a:lnTo>
                      <a:pt x="133" y="1438"/>
                    </a:lnTo>
                    <a:lnTo>
                      <a:pt x="123" y="1434"/>
                    </a:lnTo>
                    <a:lnTo>
                      <a:pt x="113" y="1426"/>
                    </a:lnTo>
                    <a:lnTo>
                      <a:pt x="105" y="1420"/>
                    </a:lnTo>
                    <a:lnTo>
                      <a:pt x="95" y="1413"/>
                    </a:lnTo>
                    <a:lnTo>
                      <a:pt x="87" y="1407"/>
                    </a:lnTo>
                    <a:lnTo>
                      <a:pt x="77" y="1400"/>
                    </a:lnTo>
                    <a:lnTo>
                      <a:pt x="69" y="1394"/>
                    </a:lnTo>
                    <a:lnTo>
                      <a:pt x="60" y="1387"/>
                    </a:lnTo>
                    <a:lnTo>
                      <a:pt x="52" y="1381"/>
                    </a:lnTo>
                    <a:lnTo>
                      <a:pt x="43" y="1373"/>
                    </a:lnTo>
                    <a:lnTo>
                      <a:pt x="36" y="1365"/>
                    </a:lnTo>
                    <a:lnTo>
                      <a:pt x="30" y="1356"/>
                    </a:lnTo>
                    <a:lnTo>
                      <a:pt x="25" y="1347"/>
                    </a:lnTo>
                    <a:lnTo>
                      <a:pt x="24" y="1340"/>
                    </a:lnTo>
                    <a:lnTo>
                      <a:pt x="23" y="1333"/>
                    </a:lnTo>
                    <a:lnTo>
                      <a:pt x="22" y="1325"/>
                    </a:lnTo>
                    <a:lnTo>
                      <a:pt x="23" y="1317"/>
                    </a:lnTo>
                    <a:lnTo>
                      <a:pt x="25" y="1309"/>
                    </a:lnTo>
                    <a:lnTo>
                      <a:pt x="28" y="1303"/>
                    </a:lnTo>
                    <a:lnTo>
                      <a:pt x="33" y="1297"/>
                    </a:lnTo>
                    <a:lnTo>
                      <a:pt x="37" y="1293"/>
                    </a:lnTo>
                    <a:lnTo>
                      <a:pt x="52" y="1286"/>
                    </a:lnTo>
                    <a:lnTo>
                      <a:pt x="66" y="1283"/>
                    </a:lnTo>
                    <a:lnTo>
                      <a:pt x="81" y="1279"/>
                    </a:lnTo>
                    <a:lnTo>
                      <a:pt x="96" y="1277"/>
                    </a:lnTo>
                    <a:lnTo>
                      <a:pt x="112" y="1277"/>
                    </a:lnTo>
                    <a:lnTo>
                      <a:pt x="127" y="1275"/>
                    </a:lnTo>
                    <a:lnTo>
                      <a:pt x="143" y="1275"/>
                    </a:lnTo>
                    <a:lnTo>
                      <a:pt x="159" y="1274"/>
                    </a:lnTo>
                    <a:lnTo>
                      <a:pt x="184" y="1274"/>
                    </a:lnTo>
                    <a:lnTo>
                      <a:pt x="209" y="1275"/>
                    </a:lnTo>
                    <a:lnTo>
                      <a:pt x="235" y="1277"/>
                    </a:lnTo>
                    <a:lnTo>
                      <a:pt x="261" y="1279"/>
                    </a:lnTo>
                    <a:lnTo>
                      <a:pt x="286" y="1280"/>
                    </a:lnTo>
                    <a:lnTo>
                      <a:pt x="312" y="1281"/>
                    </a:lnTo>
                    <a:lnTo>
                      <a:pt x="337" y="1281"/>
                    </a:lnTo>
                    <a:lnTo>
                      <a:pt x="363" y="1281"/>
                    </a:lnTo>
                    <a:lnTo>
                      <a:pt x="378" y="1279"/>
                    </a:lnTo>
                    <a:lnTo>
                      <a:pt x="394" y="1277"/>
                    </a:lnTo>
                    <a:lnTo>
                      <a:pt x="408" y="1273"/>
                    </a:lnTo>
                    <a:lnTo>
                      <a:pt x="424" y="1268"/>
                    </a:lnTo>
                    <a:lnTo>
                      <a:pt x="438" y="1263"/>
                    </a:lnTo>
                    <a:lnTo>
                      <a:pt x="454" y="1259"/>
                    </a:lnTo>
                    <a:lnTo>
                      <a:pt x="468" y="1255"/>
                    </a:lnTo>
                    <a:lnTo>
                      <a:pt x="484" y="1250"/>
                    </a:lnTo>
                    <a:lnTo>
                      <a:pt x="493" y="1248"/>
                    </a:lnTo>
                    <a:lnTo>
                      <a:pt x="503" y="1244"/>
                    </a:lnTo>
                    <a:lnTo>
                      <a:pt x="513" y="1241"/>
                    </a:lnTo>
                    <a:lnTo>
                      <a:pt x="522" y="1237"/>
                    </a:lnTo>
                    <a:lnTo>
                      <a:pt x="532" y="1235"/>
                    </a:lnTo>
                    <a:lnTo>
                      <a:pt x="543" y="1232"/>
                    </a:lnTo>
                    <a:lnTo>
                      <a:pt x="552" y="1232"/>
                    </a:lnTo>
                    <a:lnTo>
                      <a:pt x="562" y="1232"/>
                    </a:lnTo>
                    <a:lnTo>
                      <a:pt x="581" y="1237"/>
                    </a:lnTo>
                    <a:lnTo>
                      <a:pt x="599" y="1243"/>
                    </a:lnTo>
                    <a:lnTo>
                      <a:pt x="617" y="1250"/>
                    </a:lnTo>
                    <a:lnTo>
                      <a:pt x="635" y="1257"/>
                    </a:lnTo>
                    <a:lnTo>
                      <a:pt x="653" y="1266"/>
                    </a:lnTo>
                    <a:lnTo>
                      <a:pt x="671" y="1275"/>
                    </a:lnTo>
                    <a:lnTo>
                      <a:pt x="689" y="1284"/>
                    </a:lnTo>
                    <a:lnTo>
                      <a:pt x="706" y="1293"/>
                    </a:lnTo>
                    <a:lnTo>
                      <a:pt x="720" y="1301"/>
                    </a:lnTo>
                    <a:lnTo>
                      <a:pt x="735" y="1309"/>
                    </a:lnTo>
                    <a:lnTo>
                      <a:pt x="749" y="1319"/>
                    </a:lnTo>
                    <a:lnTo>
                      <a:pt x="762" y="1327"/>
                    </a:lnTo>
                    <a:lnTo>
                      <a:pt x="777" y="1337"/>
                    </a:lnTo>
                    <a:lnTo>
                      <a:pt x="791" y="1345"/>
                    </a:lnTo>
                    <a:lnTo>
                      <a:pt x="805" y="1352"/>
                    </a:lnTo>
                    <a:lnTo>
                      <a:pt x="821" y="1359"/>
                    </a:lnTo>
                    <a:lnTo>
                      <a:pt x="833" y="1363"/>
                    </a:lnTo>
                    <a:lnTo>
                      <a:pt x="846" y="1368"/>
                    </a:lnTo>
                    <a:lnTo>
                      <a:pt x="859" y="1373"/>
                    </a:lnTo>
                    <a:lnTo>
                      <a:pt x="873" y="1375"/>
                    </a:lnTo>
                    <a:lnTo>
                      <a:pt x="886" y="1377"/>
                    </a:lnTo>
                    <a:lnTo>
                      <a:pt x="899" y="1377"/>
                    </a:lnTo>
                    <a:lnTo>
                      <a:pt x="905" y="1376"/>
                    </a:lnTo>
                    <a:lnTo>
                      <a:pt x="911" y="1375"/>
                    </a:lnTo>
                    <a:lnTo>
                      <a:pt x="917" y="1374"/>
                    </a:lnTo>
                    <a:lnTo>
                      <a:pt x="923" y="1371"/>
                    </a:lnTo>
                    <a:lnTo>
                      <a:pt x="928" y="1369"/>
                    </a:lnTo>
                    <a:lnTo>
                      <a:pt x="931" y="1365"/>
                    </a:lnTo>
                    <a:lnTo>
                      <a:pt x="935" y="1362"/>
                    </a:lnTo>
                    <a:lnTo>
                      <a:pt x="939" y="1357"/>
                    </a:lnTo>
                    <a:lnTo>
                      <a:pt x="943" y="1349"/>
                    </a:lnTo>
                    <a:lnTo>
                      <a:pt x="948" y="1338"/>
                    </a:lnTo>
                    <a:lnTo>
                      <a:pt x="951" y="1327"/>
                    </a:lnTo>
                    <a:lnTo>
                      <a:pt x="952" y="1315"/>
                    </a:lnTo>
                    <a:lnTo>
                      <a:pt x="953" y="1304"/>
                    </a:lnTo>
                    <a:lnTo>
                      <a:pt x="953" y="1293"/>
                    </a:lnTo>
                    <a:lnTo>
                      <a:pt x="952" y="1281"/>
                    </a:lnTo>
                    <a:lnTo>
                      <a:pt x="949" y="1271"/>
                    </a:lnTo>
                    <a:lnTo>
                      <a:pt x="946" y="1260"/>
                    </a:lnTo>
                    <a:lnTo>
                      <a:pt x="941" y="1249"/>
                    </a:lnTo>
                    <a:lnTo>
                      <a:pt x="936" y="1238"/>
                    </a:lnTo>
                    <a:lnTo>
                      <a:pt x="930" y="1229"/>
                    </a:lnTo>
                    <a:lnTo>
                      <a:pt x="923" y="1218"/>
                    </a:lnTo>
                    <a:lnTo>
                      <a:pt x="917" y="1208"/>
                    </a:lnTo>
                    <a:lnTo>
                      <a:pt x="905" y="1191"/>
                    </a:lnTo>
                    <a:lnTo>
                      <a:pt x="893" y="1175"/>
                    </a:lnTo>
                    <a:lnTo>
                      <a:pt x="880" y="1158"/>
                    </a:lnTo>
                    <a:lnTo>
                      <a:pt x="867" y="1142"/>
                    </a:lnTo>
                    <a:lnTo>
                      <a:pt x="853" y="1127"/>
                    </a:lnTo>
                    <a:lnTo>
                      <a:pt x="839" y="1111"/>
                    </a:lnTo>
                    <a:lnTo>
                      <a:pt x="823" y="1097"/>
                    </a:lnTo>
                    <a:lnTo>
                      <a:pt x="809" y="1082"/>
                    </a:lnTo>
                    <a:lnTo>
                      <a:pt x="790" y="1067"/>
                    </a:lnTo>
                    <a:lnTo>
                      <a:pt x="771" y="1051"/>
                    </a:lnTo>
                    <a:lnTo>
                      <a:pt x="750" y="1037"/>
                    </a:lnTo>
                    <a:lnTo>
                      <a:pt x="731" y="1023"/>
                    </a:lnTo>
                    <a:lnTo>
                      <a:pt x="709" y="1010"/>
                    </a:lnTo>
                    <a:lnTo>
                      <a:pt x="689" y="997"/>
                    </a:lnTo>
                    <a:lnTo>
                      <a:pt x="667" y="985"/>
                    </a:lnTo>
                    <a:lnTo>
                      <a:pt x="646" y="974"/>
                    </a:lnTo>
                    <a:lnTo>
                      <a:pt x="630" y="967"/>
                    </a:lnTo>
                    <a:lnTo>
                      <a:pt x="615" y="960"/>
                    </a:lnTo>
                    <a:lnTo>
                      <a:pt x="598" y="954"/>
                    </a:lnTo>
                    <a:lnTo>
                      <a:pt x="581" y="949"/>
                    </a:lnTo>
                    <a:lnTo>
                      <a:pt x="564" y="944"/>
                    </a:lnTo>
                    <a:lnTo>
                      <a:pt x="547" y="941"/>
                    </a:lnTo>
                    <a:lnTo>
                      <a:pt x="531" y="936"/>
                    </a:lnTo>
                    <a:lnTo>
                      <a:pt x="514" y="932"/>
                    </a:lnTo>
                    <a:lnTo>
                      <a:pt x="498" y="929"/>
                    </a:lnTo>
                    <a:lnTo>
                      <a:pt x="484" y="925"/>
                    </a:lnTo>
                    <a:lnTo>
                      <a:pt x="468" y="923"/>
                    </a:lnTo>
                    <a:lnTo>
                      <a:pt x="454" y="919"/>
                    </a:lnTo>
                    <a:lnTo>
                      <a:pt x="438" y="917"/>
                    </a:lnTo>
                    <a:lnTo>
                      <a:pt x="424" y="915"/>
                    </a:lnTo>
                    <a:lnTo>
                      <a:pt x="408" y="914"/>
                    </a:lnTo>
                    <a:lnTo>
                      <a:pt x="393" y="914"/>
                    </a:lnTo>
                    <a:lnTo>
                      <a:pt x="383" y="914"/>
                    </a:lnTo>
                    <a:lnTo>
                      <a:pt x="373" y="915"/>
                    </a:lnTo>
                    <a:lnTo>
                      <a:pt x="363" y="917"/>
                    </a:lnTo>
                    <a:lnTo>
                      <a:pt x="353" y="919"/>
                    </a:lnTo>
                    <a:lnTo>
                      <a:pt x="343" y="921"/>
                    </a:lnTo>
                    <a:lnTo>
                      <a:pt x="334" y="924"/>
                    </a:lnTo>
                    <a:lnTo>
                      <a:pt x="324" y="927"/>
                    </a:lnTo>
                    <a:lnTo>
                      <a:pt x="315" y="932"/>
                    </a:lnTo>
                    <a:lnTo>
                      <a:pt x="306" y="937"/>
                    </a:lnTo>
                    <a:lnTo>
                      <a:pt x="298" y="944"/>
                    </a:lnTo>
                    <a:lnTo>
                      <a:pt x="289" y="951"/>
                    </a:lnTo>
                    <a:lnTo>
                      <a:pt x="281" y="959"/>
                    </a:lnTo>
                    <a:lnTo>
                      <a:pt x="274" y="966"/>
                    </a:lnTo>
                    <a:lnTo>
                      <a:pt x="265" y="974"/>
                    </a:lnTo>
                    <a:lnTo>
                      <a:pt x="258" y="980"/>
                    </a:lnTo>
                    <a:lnTo>
                      <a:pt x="249" y="986"/>
                    </a:lnTo>
                    <a:lnTo>
                      <a:pt x="234" y="993"/>
                    </a:lnTo>
                    <a:lnTo>
                      <a:pt x="220" y="1001"/>
                    </a:lnTo>
                    <a:lnTo>
                      <a:pt x="205" y="1008"/>
                    </a:lnTo>
                    <a:lnTo>
                      <a:pt x="190" y="1015"/>
                    </a:lnTo>
                    <a:lnTo>
                      <a:pt x="175" y="1020"/>
                    </a:lnTo>
                    <a:lnTo>
                      <a:pt x="160" y="1026"/>
                    </a:lnTo>
                    <a:lnTo>
                      <a:pt x="144" y="1031"/>
                    </a:lnTo>
                    <a:lnTo>
                      <a:pt x="129" y="1034"/>
                    </a:lnTo>
                    <a:lnTo>
                      <a:pt x="123" y="1035"/>
                    </a:lnTo>
                    <a:lnTo>
                      <a:pt x="117" y="1035"/>
                    </a:lnTo>
                    <a:lnTo>
                      <a:pt x="111" y="1035"/>
                    </a:lnTo>
                    <a:lnTo>
                      <a:pt x="105" y="1034"/>
                    </a:lnTo>
                    <a:lnTo>
                      <a:pt x="99" y="1033"/>
                    </a:lnTo>
                    <a:lnTo>
                      <a:pt x="94" y="1029"/>
                    </a:lnTo>
                    <a:lnTo>
                      <a:pt x="89" y="1027"/>
                    </a:lnTo>
                    <a:lnTo>
                      <a:pt x="87" y="1022"/>
                    </a:lnTo>
                    <a:lnTo>
                      <a:pt x="83" y="1015"/>
                    </a:lnTo>
                    <a:lnTo>
                      <a:pt x="79" y="1007"/>
                    </a:lnTo>
                    <a:lnTo>
                      <a:pt x="78" y="997"/>
                    </a:lnTo>
                    <a:lnTo>
                      <a:pt x="77" y="989"/>
                    </a:lnTo>
                    <a:lnTo>
                      <a:pt x="78" y="980"/>
                    </a:lnTo>
                    <a:lnTo>
                      <a:pt x="79" y="972"/>
                    </a:lnTo>
                    <a:lnTo>
                      <a:pt x="82" y="963"/>
                    </a:lnTo>
                    <a:lnTo>
                      <a:pt x="87" y="956"/>
                    </a:lnTo>
                    <a:lnTo>
                      <a:pt x="99" y="939"/>
                    </a:lnTo>
                    <a:lnTo>
                      <a:pt x="112" y="924"/>
                    </a:lnTo>
                    <a:lnTo>
                      <a:pt x="126" y="908"/>
                    </a:lnTo>
                    <a:lnTo>
                      <a:pt x="141" y="894"/>
                    </a:lnTo>
                    <a:lnTo>
                      <a:pt x="156" y="879"/>
                    </a:lnTo>
                    <a:lnTo>
                      <a:pt x="173" y="866"/>
                    </a:lnTo>
                    <a:lnTo>
                      <a:pt x="190" y="854"/>
                    </a:lnTo>
                    <a:lnTo>
                      <a:pt x="207" y="842"/>
                    </a:lnTo>
                    <a:lnTo>
                      <a:pt x="219" y="834"/>
                    </a:lnTo>
                    <a:lnTo>
                      <a:pt x="231" y="827"/>
                    </a:lnTo>
                    <a:lnTo>
                      <a:pt x="243" y="821"/>
                    </a:lnTo>
                    <a:lnTo>
                      <a:pt x="256" y="816"/>
                    </a:lnTo>
                    <a:lnTo>
                      <a:pt x="269" y="811"/>
                    </a:lnTo>
                    <a:lnTo>
                      <a:pt x="282" y="806"/>
                    </a:lnTo>
                    <a:lnTo>
                      <a:pt x="295" y="803"/>
                    </a:lnTo>
                    <a:lnTo>
                      <a:pt x="309" y="799"/>
                    </a:lnTo>
                    <a:lnTo>
                      <a:pt x="327" y="797"/>
                    </a:lnTo>
                    <a:lnTo>
                      <a:pt x="345" y="794"/>
                    </a:lnTo>
                    <a:lnTo>
                      <a:pt x="363" y="794"/>
                    </a:lnTo>
                    <a:lnTo>
                      <a:pt x="381" y="793"/>
                    </a:lnTo>
                    <a:lnTo>
                      <a:pt x="399" y="793"/>
                    </a:lnTo>
                    <a:lnTo>
                      <a:pt x="417" y="793"/>
                    </a:lnTo>
                    <a:lnTo>
                      <a:pt x="436" y="793"/>
                    </a:lnTo>
                    <a:lnTo>
                      <a:pt x="454" y="793"/>
                    </a:lnTo>
                    <a:lnTo>
                      <a:pt x="479" y="794"/>
                    </a:lnTo>
                    <a:lnTo>
                      <a:pt x="504" y="794"/>
                    </a:lnTo>
                    <a:lnTo>
                      <a:pt x="531" y="794"/>
                    </a:lnTo>
                    <a:lnTo>
                      <a:pt x="556" y="795"/>
                    </a:lnTo>
                    <a:lnTo>
                      <a:pt x="581" y="797"/>
                    </a:lnTo>
                    <a:lnTo>
                      <a:pt x="607" y="798"/>
                    </a:lnTo>
                    <a:lnTo>
                      <a:pt x="633" y="798"/>
                    </a:lnTo>
                    <a:lnTo>
                      <a:pt x="658" y="799"/>
                    </a:lnTo>
                    <a:lnTo>
                      <a:pt x="677" y="801"/>
                    </a:lnTo>
                    <a:lnTo>
                      <a:pt x="696" y="803"/>
                    </a:lnTo>
                    <a:lnTo>
                      <a:pt x="714" y="805"/>
                    </a:lnTo>
                    <a:lnTo>
                      <a:pt x="733" y="806"/>
                    </a:lnTo>
                    <a:lnTo>
                      <a:pt x="753" y="809"/>
                    </a:lnTo>
                    <a:lnTo>
                      <a:pt x="771" y="810"/>
                    </a:lnTo>
                    <a:lnTo>
                      <a:pt x="790" y="811"/>
                    </a:lnTo>
                    <a:lnTo>
                      <a:pt x="809" y="812"/>
                    </a:lnTo>
                    <a:lnTo>
                      <a:pt x="820" y="812"/>
                    </a:lnTo>
                    <a:lnTo>
                      <a:pt x="831" y="812"/>
                    </a:lnTo>
                    <a:lnTo>
                      <a:pt x="843" y="813"/>
                    </a:lnTo>
                    <a:lnTo>
                      <a:pt x="853" y="812"/>
                    </a:lnTo>
                    <a:lnTo>
                      <a:pt x="864" y="812"/>
                    </a:lnTo>
                    <a:lnTo>
                      <a:pt x="875" y="810"/>
                    </a:lnTo>
                    <a:lnTo>
                      <a:pt x="885" y="805"/>
                    </a:lnTo>
                    <a:lnTo>
                      <a:pt x="893" y="799"/>
                    </a:lnTo>
                    <a:close/>
                  </a:path>
                </a:pathLst>
              </a:custGeom>
              <a:solidFill>
                <a:srgbClr val="c38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457680" y="3886200"/>
                <a:ext cx="1028520" cy="885960"/>
              </a:xfrm>
              <a:custGeom>
                <a:avLst/>
                <a:gdLst/>
                <a:ahLst/>
                <a:rect l="l" t="t" r="r" b="b"/>
                <a:pathLst>
                  <a:path w="2591" h="2231">
                    <a:moveTo>
                      <a:pt x="885" y="795"/>
                    </a:moveTo>
                    <a:lnTo>
                      <a:pt x="894" y="785"/>
                    </a:lnTo>
                    <a:lnTo>
                      <a:pt x="901" y="775"/>
                    </a:lnTo>
                    <a:lnTo>
                      <a:pt x="906" y="765"/>
                    </a:lnTo>
                    <a:lnTo>
                      <a:pt x="909" y="753"/>
                    </a:lnTo>
                    <a:lnTo>
                      <a:pt x="913" y="741"/>
                    </a:lnTo>
                    <a:lnTo>
                      <a:pt x="914" y="729"/>
                    </a:lnTo>
                    <a:lnTo>
                      <a:pt x="915" y="717"/>
                    </a:lnTo>
                    <a:lnTo>
                      <a:pt x="915" y="705"/>
                    </a:lnTo>
                    <a:lnTo>
                      <a:pt x="915" y="690"/>
                    </a:lnTo>
                    <a:lnTo>
                      <a:pt x="914" y="676"/>
                    </a:lnTo>
                    <a:lnTo>
                      <a:pt x="912" y="661"/>
                    </a:lnTo>
                    <a:lnTo>
                      <a:pt x="909" y="648"/>
                    </a:lnTo>
                    <a:lnTo>
                      <a:pt x="906" y="634"/>
                    </a:lnTo>
                    <a:lnTo>
                      <a:pt x="900" y="621"/>
                    </a:lnTo>
                    <a:lnTo>
                      <a:pt x="894" y="609"/>
                    </a:lnTo>
                    <a:lnTo>
                      <a:pt x="885" y="597"/>
                    </a:lnTo>
                    <a:lnTo>
                      <a:pt x="877" y="588"/>
                    </a:lnTo>
                    <a:lnTo>
                      <a:pt x="867" y="580"/>
                    </a:lnTo>
                    <a:lnTo>
                      <a:pt x="857" y="574"/>
                    </a:lnTo>
                    <a:lnTo>
                      <a:pt x="845" y="569"/>
                    </a:lnTo>
                    <a:lnTo>
                      <a:pt x="833" y="563"/>
                    </a:lnTo>
                    <a:lnTo>
                      <a:pt x="821" y="560"/>
                    </a:lnTo>
                    <a:lnTo>
                      <a:pt x="809" y="555"/>
                    </a:lnTo>
                    <a:lnTo>
                      <a:pt x="797" y="550"/>
                    </a:lnTo>
                    <a:lnTo>
                      <a:pt x="782" y="543"/>
                    </a:lnTo>
                    <a:lnTo>
                      <a:pt x="768" y="537"/>
                    </a:lnTo>
                    <a:lnTo>
                      <a:pt x="755" y="530"/>
                    </a:lnTo>
                    <a:lnTo>
                      <a:pt x="740" y="524"/>
                    </a:lnTo>
                    <a:lnTo>
                      <a:pt x="726" y="518"/>
                    </a:lnTo>
                    <a:lnTo>
                      <a:pt x="711" y="512"/>
                    </a:lnTo>
                    <a:lnTo>
                      <a:pt x="697" y="507"/>
                    </a:lnTo>
                    <a:lnTo>
                      <a:pt x="683" y="502"/>
                    </a:lnTo>
                    <a:lnTo>
                      <a:pt x="667" y="497"/>
                    </a:lnTo>
                    <a:lnTo>
                      <a:pt x="650" y="494"/>
                    </a:lnTo>
                    <a:lnTo>
                      <a:pt x="633" y="491"/>
                    </a:lnTo>
                    <a:lnTo>
                      <a:pt x="617" y="488"/>
                    </a:lnTo>
                    <a:lnTo>
                      <a:pt x="600" y="485"/>
                    </a:lnTo>
                    <a:lnTo>
                      <a:pt x="583" y="482"/>
                    </a:lnTo>
                    <a:lnTo>
                      <a:pt x="567" y="477"/>
                    </a:lnTo>
                    <a:lnTo>
                      <a:pt x="552" y="472"/>
                    </a:lnTo>
                    <a:lnTo>
                      <a:pt x="539" y="466"/>
                    </a:lnTo>
                    <a:lnTo>
                      <a:pt x="525" y="460"/>
                    </a:lnTo>
                    <a:lnTo>
                      <a:pt x="513" y="453"/>
                    </a:lnTo>
                    <a:lnTo>
                      <a:pt x="501" y="446"/>
                    </a:lnTo>
                    <a:lnTo>
                      <a:pt x="489" y="437"/>
                    </a:lnTo>
                    <a:lnTo>
                      <a:pt x="479" y="429"/>
                    </a:lnTo>
                    <a:lnTo>
                      <a:pt x="467" y="420"/>
                    </a:lnTo>
                    <a:lnTo>
                      <a:pt x="456" y="412"/>
                    </a:lnTo>
                    <a:lnTo>
                      <a:pt x="437" y="396"/>
                    </a:lnTo>
                    <a:lnTo>
                      <a:pt x="417" y="380"/>
                    </a:lnTo>
                    <a:lnTo>
                      <a:pt x="399" y="364"/>
                    </a:lnTo>
                    <a:lnTo>
                      <a:pt x="380" y="347"/>
                    </a:lnTo>
                    <a:lnTo>
                      <a:pt x="362" y="329"/>
                    </a:lnTo>
                    <a:lnTo>
                      <a:pt x="344" y="312"/>
                    </a:lnTo>
                    <a:lnTo>
                      <a:pt x="325" y="297"/>
                    </a:lnTo>
                    <a:lnTo>
                      <a:pt x="306" y="281"/>
                    </a:lnTo>
                    <a:lnTo>
                      <a:pt x="289" y="267"/>
                    </a:lnTo>
                    <a:lnTo>
                      <a:pt x="271" y="254"/>
                    </a:lnTo>
                    <a:lnTo>
                      <a:pt x="254" y="240"/>
                    </a:lnTo>
                    <a:lnTo>
                      <a:pt x="236" y="227"/>
                    </a:lnTo>
                    <a:lnTo>
                      <a:pt x="218" y="215"/>
                    </a:lnTo>
                    <a:lnTo>
                      <a:pt x="200" y="203"/>
                    </a:lnTo>
                    <a:lnTo>
                      <a:pt x="181" y="191"/>
                    </a:lnTo>
                    <a:lnTo>
                      <a:pt x="163" y="179"/>
                    </a:lnTo>
                    <a:lnTo>
                      <a:pt x="151" y="172"/>
                    </a:lnTo>
                    <a:lnTo>
                      <a:pt x="138" y="166"/>
                    </a:lnTo>
                    <a:lnTo>
                      <a:pt x="125" y="161"/>
                    </a:lnTo>
                    <a:lnTo>
                      <a:pt x="111" y="156"/>
                    </a:lnTo>
                    <a:lnTo>
                      <a:pt x="98" y="150"/>
                    </a:lnTo>
                    <a:lnTo>
                      <a:pt x="86" y="144"/>
                    </a:lnTo>
                    <a:lnTo>
                      <a:pt x="73" y="138"/>
                    </a:lnTo>
                    <a:lnTo>
                      <a:pt x="61" y="131"/>
                    </a:lnTo>
                    <a:lnTo>
                      <a:pt x="53" y="125"/>
                    </a:lnTo>
                    <a:lnTo>
                      <a:pt x="43" y="119"/>
                    </a:lnTo>
                    <a:lnTo>
                      <a:pt x="35" y="113"/>
                    </a:lnTo>
                    <a:lnTo>
                      <a:pt x="26" y="106"/>
                    </a:lnTo>
                    <a:lnTo>
                      <a:pt x="18" y="99"/>
                    </a:lnTo>
                    <a:lnTo>
                      <a:pt x="11" y="90"/>
                    </a:lnTo>
                    <a:lnTo>
                      <a:pt x="6" y="82"/>
                    </a:lnTo>
                    <a:lnTo>
                      <a:pt x="1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48"/>
                    </a:lnTo>
                    <a:lnTo>
                      <a:pt x="5" y="41"/>
                    </a:lnTo>
                    <a:lnTo>
                      <a:pt x="8" y="34"/>
                    </a:lnTo>
                    <a:lnTo>
                      <a:pt x="13" y="28"/>
                    </a:lnTo>
                    <a:lnTo>
                      <a:pt x="19" y="22"/>
                    </a:lnTo>
                    <a:lnTo>
                      <a:pt x="25" y="18"/>
                    </a:lnTo>
                    <a:lnTo>
                      <a:pt x="37" y="12"/>
                    </a:lnTo>
                    <a:lnTo>
                      <a:pt x="49" y="9"/>
                    </a:lnTo>
                    <a:lnTo>
                      <a:pt x="62" y="6"/>
                    </a:lnTo>
                    <a:lnTo>
                      <a:pt x="74" y="5"/>
                    </a:lnTo>
                    <a:lnTo>
                      <a:pt x="87" y="4"/>
                    </a:lnTo>
                    <a:lnTo>
                      <a:pt x="101" y="4"/>
                    </a:lnTo>
                    <a:lnTo>
                      <a:pt x="114" y="5"/>
                    </a:lnTo>
                    <a:lnTo>
                      <a:pt x="127" y="6"/>
                    </a:lnTo>
                    <a:lnTo>
                      <a:pt x="139" y="8"/>
                    </a:lnTo>
                    <a:lnTo>
                      <a:pt x="151" y="10"/>
                    </a:lnTo>
                    <a:lnTo>
                      <a:pt x="162" y="12"/>
                    </a:lnTo>
                    <a:lnTo>
                      <a:pt x="174" y="16"/>
                    </a:lnTo>
                    <a:lnTo>
                      <a:pt x="185" y="20"/>
                    </a:lnTo>
                    <a:lnTo>
                      <a:pt x="195" y="24"/>
                    </a:lnTo>
                    <a:lnTo>
                      <a:pt x="206" y="30"/>
                    </a:lnTo>
                    <a:lnTo>
                      <a:pt x="217" y="36"/>
                    </a:lnTo>
                    <a:lnTo>
                      <a:pt x="230" y="46"/>
                    </a:lnTo>
                    <a:lnTo>
                      <a:pt x="243" y="57"/>
                    </a:lnTo>
                    <a:lnTo>
                      <a:pt x="257" y="69"/>
                    </a:lnTo>
                    <a:lnTo>
                      <a:pt x="269" y="82"/>
                    </a:lnTo>
                    <a:lnTo>
                      <a:pt x="281" y="94"/>
                    </a:lnTo>
                    <a:lnTo>
                      <a:pt x="293" y="107"/>
                    </a:lnTo>
                    <a:lnTo>
                      <a:pt x="306" y="119"/>
                    </a:lnTo>
                    <a:lnTo>
                      <a:pt x="318" y="131"/>
                    </a:lnTo>
                    <a:lnTo>
                      <a:pt x="337" y="148"/>
                    </a:lnTo>
                    <a:lnTo>
                      <a:pt x="355" y="164"/>
                    </a:lnTo>
                    <a:lnTo>
                      <a:pt x="373" y="179"/>
                    </a:lnTo>
                    <a:lnTo>
                      <a:pt x="392" y="195"/>
                    </a:lnTo>
                    <a:lnTo>
                      <a:pt x="411" y="210"/>
                    </a:lnTo>
                    <a:lnTo>
                      <a:pt x="429" y="226"/>
                    </a:lnTo>
                    <a:lnTo>
                      <a:pt x="449" y="242"/>
                    </a:lnTo>
                    <a:lnTo>
                      <a:pt x="468" y="257"/>
                    </a:lnTo>
                    <a:lnTo>
                      <a:pt x="481" y="268"/>
                    </a:lnTo>
                    <a:lnTo>
                      <a:pt x="495" y="279"/>
                    </a:lnTo>
                    <a:lnTo>
                      <a:pt x="509" y="290"/>
                    </a:lnTo>
                    <a:lnTo>
                      <a:pt x="523" y="300"/>
                    </a:lnTo>
                    <a:lnTo>
                      <a:pt x="537" y="311"/>
                    </a:lnTo>
                    <a:lnTo>
                      <a:pt x="552" y="322"/>
                    </a:lnTo>
                    <a:lnTo>
                      <a:pt x="566" y="332"/>
                    </a:lnTo>
                    <a:lnTo>
                      <a:pt x="581" y="340"/>
                    </a:lnTo>
                    <a:lnTo>
                      <a:pt x="589" y="345"/>
                    </a:lnTo>
                    <a:lnTo>
                      <a:pt x="596" y="348"/>
                    </a:lnTo>
                    <a:lnTo>
                      <a:pt x="605" y="351"/>
                    </a:lnTo>
                    <a:lnTo>
                      <a:pt x="613" y="353"/>
                    </a:lnTo>
                    <a:lnTo>
                      <a:pt x="621" y="356"/>
                    </a:lnTo>
                    <a:lnTo>
                      <a:pt x="630" y="357"/>
                    </a:lnTo>
                    <a:lnTo>
                      <a:pt x="638" y="358"/>
                    </a:lnTo>
                    <a:lnTo>
                      <a:pt x="647" y="358"/>
                    </a:lnTo>
                    <a:lnTo>
                      <a:pt x="655" y="359"/>
                    </a:lnTo>
                    <a:lnTo>
                      <a:pt x="662" y="359"/>
                    </a:lnTo>
                    <a:lnTo>
                      <a:pt x="671" y="359"/>
                    </a:lnTo>
                    <a:lnTo>
                      <a:pt x="679" y="358"/>
                    </a:lnTo>
                    <a:lnTo>
                      <a:pt x="686" y="357"/>
                    </a:lnTo>
                    <a:lnTo>
                      <a:pt x="695" y="354"/>
                    </a:lnTo>
                    <a:lnTo>
                      <a:pt x="701" y="351"/>
                    </a:lnTo>
                    <a:lnTo>
                      <a:pt x="707" y="346"/>
                    </a:lnTo>
                    <a:lnTo>
                      <a:pt x="713" y="339"/>
                    </a:lnTo>
                    <a:lnTo>
                      <a:pt x="717" y="332"/>
                    </a:lnTo>
                    <a:lnTo>
                      <a:pt x="721" y="322"/>
                    </a:lnTo>
                    <a:lnTo>
                      <a:pt x="725" y="314"/>
                    </a:lnTo>
                    <a:lnTo>
                      <a:pt x="727" y="304"/>
                    </a:lnTo>
                    <a:lnTo>
                      <a:pt x="728" y="294"/>
                    </a:lnTo>
                    <a:lnTo>
                      <a:pt x="729" y="285"/>
                    </a:lnTo>
                    <a:lnTo>
                      <a:pt x="731" y="275"/>
                    </a:lnTo>
                    <a:lnTo>
                      <a:pt x="732" y="261"/>
                    </a:lnTo>
                    <a:lnTo>
                      <a:pt x="731" y="246"/>
                    </a:lnTo>
                    <a:lnTo>
                      <a:pt x="731" y="232"/>
                    </a:lnTo>
                    <a:lnTo>
                      <a:pt x="729" y="218"/>
                    </a:lnTo>
                    <a:lnTo>
                      <a:pt x="727" y="204"/>
                    </a:lnTo>
                    <a:lnTo>
                      <a:pt x="726" y="190"/>
                    </a:lnTo>
                    <a:lnTo>
                      <a:pt x="725" y="176"/>
                    </a:lnTo>
                    <a:lnTo>
                      <a:pt x="725" y="161"/>
                    </a:lnTo>
                    <a:lnTo>
                      <a:pt x="725" y="154"/>
                    </a:lnTo>
                    <a:lnTo>
                      <a:pt x="726" y="147"/>
                    </a:lnTo>
                    <a:lnTo>
                      <a:pt x="726" y="138"/>
                    </a:lnTo>
                    <a:lnTo>
                      <a:pt x="727" y="131"/>
                    </a:lnTo>
                    <a:lnTo>
                      <a:pt x="728" y="124"/>
                    </a:lnTo>
                    <a:lnTo>
                      <a:pt x="729" y="117"/>
                    </a:lnTo>
                    <a:lnTo>
                      <a:pt x="729" y="110"/>
                    </a:lnTo>
                    <a:lnTo>
                      <a:pt x="731" y="101"/>
                    </a:lnTo>
                    <a:lnTo>
                      <a:pt x="731" y="94"/>
                    </a:lnTo>
                    <a:lnTo>
                      <a:pt x="731" y="86"/>
                    </a:lnTo>
                    <a:lnTo>
                      <a:pt x="729" y="77"/>
                    </a:lnTo>
                    <a:lnTo>
                      <a:pt x="729" y="69"/>
                    </a:lnTo>
                    <a:lnTo>
                      <a:pt x="728" y="60"/>
                    </a:lnTo>
                    <a:lnTo>
                      <a:pt x="728" y="52"/>
                    </a:lnTo>
                    <a:lnTo>
                      <a:pt x="729" y="44"/>
                    </a:lnTo>
                    <a:lnTo>
                      <a:pt x="731" y="36"/>
                    </a:lnTo>
                    <a:lnTo>
                      <a:pt x="732" y="30"/>
                    </a:lnTo>
                    <a:lnTo>
                      <a:pt x="734" y="24"/>
                    </a:lnTo>
                    <a:lnTo>
                      <a:pt x="735" y="18"/>
                    </a:lnTo>
                    <a:lnTo>
                      <a:pt x="738" y="12"/>
                    </a:lnTo>
                    <a:lnTo>
                      <a:pt x="741" y="8"/>
                    </a:lnTo>
                    <a:lnTo>
                      <a:pt x="745" y="4"/>
                    </a:lnTo>
                    <a:lnTo>
                      <a:pt x="750" y="0"/>
                    </a:lnTo>
                    <a:lnTo>
                      <a:pt x="755" y="0"/>
                    </a:lnTo>
                    <a:lnTo>
                      <a:pt x="764" y="2"/>
                    </a:lnTo>
                    <a:lnTo>
                      <a:pt x="775" y="4"/>
                    </a:lnTo>
                    <a:lnTo>
                      <a:pt x="785" y="9"/>
                    </a:lnTo>
                    <a:lnTo>
                      <a:pt x="794" y="14"/>
                    </a:lnTo>
                    <a:lnTo>
                      <a:pt x="803" y="20"/>
                    </a:lnTo>
                    <a:lnTo>
                      <a:pt x="811" y="27"/>
                    </a:lnTo>
                    <a:lnTo>
                      <a:pt x="819" y="34"/>
                    </a:lnTo>
                    <a:lnTo>
                      <a:pt x="827" y="42"/>
                    </a:lnTo>
                    <a:lnTo>
                      <a:pt x="834" y="52"/>
                    </a:lnTo>
                    <a:lnTo>
                      <a:pt x="840" y="62"/>
                    </a:lnTo>
                    <a:lnTo>
                      <a:pt x="846" y="74"/>
                    </a:lnTo>
                    <a:lnTo>
                      <a:pt x="851" y="84"/>
                    </a:lnTo>
                    <a:lnTo>
                      <a:pt x="854" y="96"/>
                    </a:lnTo>
                    <a:lnTo>
                      <a:pt x="859" y="108"/>
                    </a:lnTo>
                    <a:lnTo>
                      <a:pt x="864" y="120"/>
                    </a:lnTo>
                    <a:lnTo>
                      <a:pt x="867" y="131"/>
                    </a:lnTo>
                    <a:lnTo>
                      <a:pt x="875" y="148"/>
                    </a:lnTo>
                    <a:lnTo>
                      <a:pt x="882" y="165"/>
                    </a:lnTo>
                    <a:lnTo>
                      <a:pt x="888" y="180"/>
                    </a:lnTo>
                    <a:lnTo>
                      <a:pt x="895" y="197"/>
                    </a:lnTo>
                    <a:lnTo>
                      <a:pt x="901" y="214"/>
                    </a:lnTo>
                    <a:lnTo>
                      <a:pt x="908" y="230"/>
                    </a:lnTo>
                    <a:lnTo>
                      <a:pt x="915" y="246"/>
                    </a:lnTo>
                    <a:lnTo>
                      <a:pt x="921" y="263"/>
                    </a:lnTo>
                    <a:lnTo>
                      <a:pt x="926" y="273"/>
                    </a:lnTo>
                    <a:lnTo>
                      <a:pt x="930" y="282"/>
                    </a:lnTo>
                    <a:lnTo>
                      <a:pt x="933" y="293"/>
                    </a:lnTo>
                    <a:lnTo>
                      <a:pt x="938" y="303"/>
                    </a:lnTo>
                    <a:lnTo>
                      <a:pt x="942" y="312"/>
                    </a:lnTo>
                    <a:lnTo>
                      <a:pt x="947" y="322"/>
                    </a:lnTo>
                    <a:lnTo>
                      <a:pt x="951" y="332"/>
                    </a:lnTo>
                    <a:lnTo>
                      <a:pt x="957" y="340"/>
                    </a:lnTo>
                    <a:lnTo>
                      <a:pt x="965" y="351"/>
                    </a:lnTo>
                    <a:lnTo>
                      <a:pt x="972" y="360"/>
                    </a:lnTo>
                    <a:lnTo>
                      <a:pt x="980" y="369"/>
                    </a:lnTo>
                    <a:lnTo>
                      <a:pt x="989" y="378"/>
                    </a:lnTo>
                    <a:lnTo>
                      <a:pt x="997" y="387"/>
                    </a:lnTo>
                    <a:lnTo>
                      <a:pt x="1005" y="395"/>
                    </a:lnTo>
                    <a:lnTo>
                      <a:pt x="1014" y="404"/>
                    </a:lnTo>
                    <a:lnTo>
                      <a:pt x="1023" y="412"/>
                    </a:lnTo>
                    <a:lnTo>
                      <a:pt x="1034" y="423"/>
                    </a:lnTo>
                    <a:lnTo>
                      <a:pt x="1046" y="434"/>
                    </a:lnTo>
                    <a:lnTo>
                      <a:pt x="1057" y="444"/>
                    </a:lnTo>
                    <a:lnTo>
                      <a:pt x="1069" y="454"/>
                    </a:lnTo>
                    <a:lnTo>
                      <a:pt x="1081" y="465"/>
                    </a:lnTo>
                    <a:lnTo>
                      <a:pt x="1093" y="473"/>
                    </a:lnTo>
                    <a:lnTo>
                      <a:pt x="1105" y="483"/>
                    </a:lnTo>
                    <a:lnTo>
                      <a:pt x="1119" y="490"/>
                    </a:lnTo>
                    <a:lnTo>
                      <a:pt x="1130" y="495"/>
                    </a:lnTo>
                    <a:lnTo>
                      <a:pt x="1141" y="498"/>
                    </a:lnTo>
                    <a:lnTo>
                      <a:pt x="1153" y="501"/>
                    </a:lnTo>
                    <a:lnTo>
                      <a:pt x="1165" y="503"/>
                    </a:lnTo>
                    <a:lnTo>
                      <a:pt x="1178" y="504"/>
                    </a:lnTo>
                    <a:lnTo>
                      <a:pt x="1190" y="506"/>
                    </a:lnTo>
                    <a:lnTo>
                      <a:pt x="1202" y="507"/>
                    </a:lnTo>
                    <a:lnTo>
                      <a:pt x="1214" y="508"/>
                    </a:lnTo>
                    <a:lnTo>
                      <a:pt x="1230" y="508"/>
                    </a:lnTo>
                    <a:lnTo>
                      <a:pt x="1244" y="509"/>
                    </a:lnTo>
                    <a:lnTo>
                      <a:pt x="1260" y="508"/>
                    </a:lnTo>
                    <a:lnTo>
                      <a:pt x="1274" y="508"/>
                    </a:lnTo>
                    <a:lnTo>
                      <a:pt x="1290" y="507"/>
                    </a:lnTo>
                    <a:lnTo>
                      <a:pt x="1304" y="506"/>
                    </a:lnTo>
                    <a:lnTo>
                      <a:pt x="1320" y="504"/>
                    </a:lnTo>
                    <a:lnTo>
                      <a:pt x="1334" y="502"/>
                    </a:lnTo>
                    <a:lnTo>
                      <a:pt x="1344" y="500"/>
                    </a:lnTo>
                    <a:lnTo>
                      <a:pt x="1355" y="497"/>
                    </a:lnTo>
                    <a:lnTo>
                      <a:pt x="1364" y="495"/>
                    </a:lnTo>
                    <a:lnTo>
                      <a:pt x="1375" y="491"/>
                    </a:lnTo>
                    <a:lnTo>
                      <a:pt x="1385" y="488"/>
                    </a:lnTo>
                    <a:lnTo>
                      <a:pt x="1394" y="483"/>
                    </a:lnTo>
                    <a:lnTo>
                      <a:pt x="1403" y="478"/>
                    </a:lnTo>
                    <a:lnTo>
                      <a:pt x="1412" y="472"/>
                    </a:lnTo>
                    <a:lnTo>
                      <a:pt x="1421" y="465"/>
                    </a:lnTo>
                    <a:lnTo>
                      <a:pt x="1429" y="459"/>
                    </a:lnTo>
                    <a:lnTo>
                      <a:pt x="1439" y="450"/>
                    </a:lnTo>
                    <a:lnTo>
                      <a:pt x="1447" y="443"/>
                    </a:lnTo>
                    <a:lnTo>
                      <a:pt x="1453" y="434"/>
                    </a:lnTo>
                    <a:lnTo>
                      <a:pt x="1458" y="425"/>
                    </a:lnTo>
                    <a:lnTo>
                      <a:pt x="1460" y="420"/>
                    </a:lnTo>
                    <a:lnTo>
                      <a:pt x="1460" y="416"/>
                    </a:lnTo>
                    <a:lnTo>
                      <a:pt x="1460" y="411"/>
                    </a:lnTo>
                    <a:lnTo>
                      <a:pt x="1459" y="406"/>
                    </a:lnTo>
                    <a:lnTo>
                      <a:pt x="1458" y="401"/>
                    </a:lnTo>
                    <a:lnTo>
                      <a:pt x="1455" y="396"/>
                    </a:lnTo>
                    <a:lnTo>
                      <a:pt x="1452" y="393"/>
                    </a:lnTo>
                    <a:lnTo>
                      <a:pt x="1448" y="389"/>
                    </a:lnTo>
                    <a:lnTo>
                      <a:pt x="1439" y="383"/>
                    </a:lnTo>
                    <a:lnTo>
                      <a:pt x="1428" y="378"/>
                    </a:lnTo>
                    <a:lnTo>
                      <a:pt x="1416" y="375"/>
                    </a:lnTo>
                    <a:lnTo>
                      <a:pt x="1404" y="372"/>
                    </a:lnTo>
                    <a:lnTo>
                      <a:pt x="1393" y="369"/>
                    </a:lnTo>
                    <a:lnTo>
                      <a:pt x="1382" y="364"/>
                    </a:lnTo>
                    <a:lnTo>
                      <a:pt x="1369" y="359"/>
                    </a:lnTo>
                    <a:lnTo>
                      <a:pt x="1357" y="356"/>
                    </a:lnTo>
                    <a:lnTo>
                      <a:pt x="1344" y="351"/>
                    </a:lnTo>
                    <a:lnTo>
                      <a:pt x="1331" y="347"/>
                    </a:lnTo>
                    <a:lnTo>
                      <a:pt x="1317" y="344"/>
                    </a:lnTo>
                    <a:lnTo>
                      <a:pt x="1305" y="339"/>
                    </a:lnTo>
                    <a:lnTo>
                      <a:pt x="1292" y="334"/>
                    </a:lnTo>
                    <a:lnTo>
                      <a:pt x="1280" y="328"/>
                    </a:lnTo>
                    <a:lnTo>
                      <a:pt x="1273" y="324"/>
                    </a:lnTo>
                    <a:lnTo>
                      <a:pt x="1265" y="318"/>
                    </a:lnTo>
                    <a:lnTo>
                      <a:pt x="1257" y="314"/>
                    </a:lnTo>
                    <a:lnTo>
                      <a:pt x="1250" y="308"/>
                    </a:lnTo>
                    <a:lnTo>
                      <a:pt x="1244" y="302"/>
                    </a:lnTo>
                    <a:lnTo>
                      <a:pt x="1238" y="294"/>
                    </a:lnTo>
                    <a:lnTo>
                      <a:pt x="1232" y="288"/>
                    </a:lnTo>
                    <a:lnTo>
                      <a:pt x="1226" y="281"/>
                    </a:lnTo>
                    <a:lnTo>
                      <a:pt x="1221" y="273"/>
                    </a:lnTo>
                    <a:lnTo>
                      <a:pt x="1217" y="266"/>
                    </a:lnTo>
                    <a:lnTo>
                      <a:pt x="1212" y="257"/>
                    </a:lnTo>
                    <a:lnTo>
                      <a:pt x="1208" y="250"/>
                    </a:lnTo>
                    <a:lnTo>
                      <a:pt x="1205" y="242"/>
                    </a:lnTo>
                    <a:lnTo>
                      <a:pt x="1201" y="232"/>
                    </a:lnTo>
                    <a:lnTo>
                      <a:pt x="1199" y="224"/>
                    </a:lnTo>
                    <a:lnTo>
                      <a:pt x="1196" y="215"/>
                    </a:lnTo>
                    <a:lnTo>
                      <a:pt x="1195" y="209"/>
                    </a:lnTo>
                    <a:lnTo>
                      <a:pt x="1195" y="202"/>
                    </a:lnTo>
                    <a:lnTo>
                      <a:pt x="1194" y="196"/>
                    </a:lnTo>
                    <a:lnTo>
                      <a:pt x="1194" y="189"/>
                    </a:lnTo>
                    <a:lnTo>
                      <a:pt x="1195" y="183"/>
                    </a:lnTo>
                    <a:lnTo>
                      <a:pt x="1196" y="177"/>
                    </a:lnTo>
                    <a:lnTo>
                      <a:pt x="1199" y="172"/>
                    </a:lnTo>
                    <a:lnTo>
                      <a:pt x="1202" y="167"/>
                    </a:lnTo>
                    <a:lnTo>
                      <a:pt x="1208" y="162"/>
                    </a:lnTo>
                    <a:lnTo>
                      <a:pt x="1215" y="160"/>
                    </a:lnTo>
                    <a:lnTo>
                      <a:pt x="1223" y="158"/>
                    </a:lnTo>
                    <a:lnTo>
                      <a:pt x="1231" y="155"/>
                    </a:lnTo>
                    <a:lnTo>
                      <a:pt x="1238" y="155"/>
                    </a:lnTo>
                    <a:lnTo>
                      <a:pt x="1247" y="154"/>
                    </a:lnTo>
                    <a:lnTo>
                      <a:pt x="1255" y="155"/>
                    </a:lnTo>
                    <a:lnTo>
                      <a:pt x="1262" y="155"/>
                    </a:lnTo>
                    <a:lnTo>
                      <a:pt x="1272" y="156"/>
                    </a:lnTo>
                    <a:lnTo>
                      <a:pt x="1283" y="159"/>
                    </a:lnTo>
                    <a:lnTo>
                      <a:pt x="1292" y="162"/>
                    </a:lnTo>
                    <a:lnTo>
                      <a:pt x="1302" y="166"/>
                    </a:lnTo>
                    <a:lnTo>
                      <a:pt x="1311" y="170"/>
                    </a:lnTo>
                    <a:lnTo>
                      <a:pt x="1321" y="173"/>
                    </a:lnTo>
                    <a:lnTo>
                      <a:pt x="1331" y="177"/>
                    </a:lnTo>
                    <a:lnTo>
                      <a:pt x="1340" y="179"/>
                    </a:lnTo>
                    <a:lnTo>
                      <a:pt x="1352" y="182"/>
                    </a:lnTo>
                    <a:lnTo>
                      <a:pt x="1364" y="184"/>
                    </a:lnTo>
                    <a:lnTo>
                      <a:pt x="1376" y="185"/>
                    </a:lnTo>
                    <a:lnTo>
                      <a:pt x="1387" y="186"/>
                    </a:lnTo>
                    <a:lnTo>
                      <a:pt x="1399" y="189"/>
                    </a:lnTo>
                    <a:lnTo>
                      <a:pt x="1411" y="190"/>
                    </a:lnTo>
                    <a:lnTo>
                      <a:pt x="1423" y="190"/>
                    </a:lnTo>
                    <a:lnTo>
                      <a:pt x="1436" y="191"/>
                    </a:lnTo>
                    <a:lnTo>
                      <a:pt x="1449" y="192"/>
                    </a:lnTo>
                    <a:lnTo>
                      <a:pt x="1463" y="192"/>
                    </a:lnTo>
                    <a:lnTo>
                      <a:pt x="1476" y="192"/>
                    </a:lnTo>
                    <a:lnTo>
                      <a:pt x="1489" y="192"/>
                    </a:lnTo>
                    <a:lnTo>
                      <a:pt x="1503" y="192"/>
                    </a:lnTo>
                    <a:lnTo>
                      <a:pt x="1517" y="192"/>
                    </a:lnTo>
                    <a:lnTo>
                      <a:pt x="1530" y="191"/>
                    </a:lnTo>
                    <a:lnTo>
                      <a:pt x="1543" y="191"/>
                    </a:lnTo>
                    <a:lnTo>
                      <a:pt x="1553" y="190"/>
                    </a:lnTo>
                    <a:lnTo>
                      <a:pt x="1561" y="189"/>
                    </a:lnTo>
                    <a:lnTo>
                      <a:pt x="1571" y="188"/>
                    </a:lnTo>
                    <a:lnTo>
                      <a:pt x="1579" y="186"/>
                    </a:lnTo>
                    <a:lnTo>
                      <a:pt x="1589" y="185"/>
                    </a:lnTo>
                    <a:lnTo>
                      <a:pt x="1597" y="184"/>
                    </a:lnTo>
                    <a:lnTo>
                      <a:pt x="1607" y="184"/>
                    </a:lnTo>
                    <a:lnTo>
                      <a:pt x="1615" y="185"/>
                    </a:lnTo>
                    <a:lnTo>
                      <a:pt x="1622" y="186"/>
                    </a:lnTo>
                    <a:lnTo>
                      <a:pt x="1629" y="189"/>
                    </a:lnTo>
                    <a:lnTo>
                      <a:pt x="1638" y="192"/>
                    </a:lnTo>
                    <a:lnTo>
                      <a:pt x="1645" y="196"/>
                    </a:lnTo>
                    <a:lnTo>
                      <a:pt x="1651" y="200"/>
                    </a:lnTo>
                    <a:lnTo>
                      <a:pt x="1658" y="204"/>
                    </a:lnTo>
                    <a:lnTo>
                      <a:pt x="1663" y="209"/>
                    </a:lnTo>
                    <a:lnTo>
                      <a:pt x="1669" y="215"/>
                    </a:lnTo>
                    <a:lnTo>
                      <a:pt x="1673" y="221"/>
                    </a:lnTo>
                    <a:lnTo>
                      <a:pt x="1676" y="228"/>
                    </a:lnTo>
                    <a:lnTo>
                      <a:pt x="1679" y="236"/>
                    </a:lnTo>
                    <a:lnTo>
                      <a:pt x="1681" y="244"/>
                    </a:lnTo>
                    <a:lnTo>
                      <a:pt x="1682" y="251"/>
                    </a:lnTo>
                    <a:lnTo>
                      <a:pt x="1683" y="260"/>
                    </a:lnTo>
                    <a:lnTo>
                      <a:pt x="1685" y="267"/>
                    </a:lnTo>
                    <a:lnTo>
                      <a:pt x="1687" y="275"/>
                    </a:lnTo>
                    <a:lnTo>
                      <a:pt x="1692" y="294"/>
                    </a:lnTo>
                    <a:lnTo>
                      <a:pt x="1697" y="315"/>
                    </a:lnTo>
                    <a:lnTo>
                      <a:pt x="1701" y="335"/>
                    </a:lnTo>
                    <a:lnTo>
                      <a:pt x="1706" y="356"/>
                    </a:lnTo>
                    <a:lnTo>
                      <a:pt x="1711" y="375"/>
                    </a:lnTo>
                    <a:lnTo>
                      <a:pt x="1715" y="395"/>
                    </a:lnTo>
                    <a:lnTo>
                      <a:pt x="1719" y="416"/>
                    </a:lnTo>
                    <a:lnTo>
                      <a:pt x="1723" y="436"/>
                    </a:lnTo>
                    <a:lnTo>
                      <a:pt x="1724" y="454"/>
                    </a:lnTo>
                    <a:lnTo>
                      <a:pt x="1725" y="473"/>
                    </a:lnTo>
                    <a:lnTo>
                      <a:pt x="1727" y="492"/>
                    </a:lnTo>
                    <a:lnTo>
                      <a:pt x="1727" y="510"/>
                    </a:lnTo>
                    <a:lnTo>
                      <a:pt x="1728" y="530"/>
                    </a:lnTo>
                    <a:lnTo>
                      <a:pt x="1729" y="549"/>
                    </a:lnTo>
                    <a:lnTo>
                      <a:pt x="1731" y="567"/>
                    </a:lnTo>
                    <a:lnTo>
                      <a:pt x="1735" y="585"/>
                    </a:lnTo>
                    <a:lnTo>
                      <a:pt x="1737" y="597"/>
                    </a:lnTo>
                    <a:lnTo>
                      <a:pt x="1741" y="610"/>
                    </a:lnTo>
                    <a:lnTo>
                      <a:pt x="1745" y="622"/>
                    </a:lnTo>
                    <a:lnTo>
                      <a:pt x="1749" y="634"/>
                    </a:lnTo>
                    <a:lnTo>
                      <a:pt x="1754" y="645"/>
                    </a:lnTo>
                    <a:lnTo>
                      <a:pt x="1760" y="655"/>
                    </a:lnTo>
                    <a:lnTo>
                      <a:pt x="1767" y="665"/>
                    </a:lnTo>
                    <a:lnTo>
                      <a:pt x="1776" y="675"/>
                    </a:lnTo>
                    <a:lnTo>
                      <a:pt x="1782" y="679"/>
                    </a:lnTo>
                    <a:lnTo>
                      <a:pt x="1789" y="683"/>
                    </a:lnTo>
                    <a:lnTo>
                      <a:pt x="1797" y="685"/>
                    </a:lnTo>
                    <a:lnTo>
                      <a:pt x="1806" y="687"/>
                    </a:lnTo>
                    <a:lnTo>
                      <a:pt x="1814" y="688"/>
                    </a:lnTo>
                    <a:lnTo>
                      <a:pt x="1821" y="687"/>
                    </a:lnTo>
                    <a:lnTo>
                      <a:pt x="1830" y="684"/>
                    </a:lnTo>
                    <a:lnTo>
                      <a:pt x="1836" y="681"/>
                    </a:lnTo>
                    <a:lnTo>
                      <a:pt x="1850" y="670"/>
                    </a:lnTo>
                    <a:lnTo>
                      <a:pt x="1862" y="658"/>
                    </a:lnTo>
                    <a:lnTo>
                      <a:pt x="1874" y="645"/>
                    </a:lnTo>
                    <a:lnTo>
                      <a:pt x="1885" y="631"/>
                    </a:lnTo>
                    <a:lnTo>
                      <a:pt x="1895" y="617"/>
                    </a:lnTo>
                    <a:lnTo>
                      <a:pt x="1905" y="602"/>
                    </a:lnTo>
                    <a:lnTo>
                      <a:pt x="1915" y="587"/>
                    </a:lnTo>
                    <a:lnTo>
                      <a:pt x="1926" y="573"/>
                    </a:lnTo>
                    <a:lnTo>
                      <a:pt x="1939" y="556"/>
                    </a:lnTo>
                    <a:lnTo>
                      <a:pt x="1951" y="538"/>
                    </a:lnTo>
                    <a:lnTo>
                      <a:pt x="1964" y="520"/>
                    </a:lnTo>
                    <a:lnTo>
                      <a:pt x="1976" y="502"/>
                    </a:lnTo>
                    <a:lnTo>
                      <a:pt x="1988" y="484"/>
                    </a:lnTo>
                    <a:lnTo>
                      <a:pt x="2001" y="465"/>
                    </a:lnTo>
                    <a:lnTo>
                      <a:pt x="2013" y="448"/>
                    </a:lnTo>
                    <a:lnTo>
                      <a:pt x="2028" y="430"/>
                    </a:lnTo>
                    <a:lnTo>
                      <a:pt x="2037" y="418"/>
                    </a:lnTo>
                    <a:lnTo>
                      <a:pt x="2047" y="405"/>
                    </a:lnTo>
                    <a:lnTo>
                      <a:pt x="2057" y="393"/>
                    </a:lnTo>
                    <a:lnTo>
                      <a:pt x="2066" y="380"/>
                    </a:lnTo>
                    <a:lnTo>
                      <a:pt x="2077" y="368"/>
                    </a:lnTo>
                    <a:lnTo>
                      <a:pt x="2088" y="357"/>
                    </a:lnTo>
                    <a:lnTo>
                      <a:pt x="2099" y="345"/>
                    </a:lnTo>
                    <a:lnTo>
                      <a:pt x="2111" y="334"/>
                    </a:lnTo>
                    <a:lnTo>
                      <a:pt x="2117" y="329"/>
                    </a:lnTo>
                    <a:lnTo>
                      <a:pt x="2125" y="323"/>
                    </a:lnTo>
                    <a:lnTo>
                      <a:pt x="2132" y="316"/>
                    </a:lnTo>
                    <a:lnTo>
                      <a:pt x="2141" y="311"/>
                    </a:lnTo>
                    <a:lnTo>
                      <a:pt x="2149" y="306"/>
                    </a:lnTo>
                    <a:lnTo>
                      <a:pt x="2156" y="305"/>
                    </a:lnTo>
                    <a:lnTo>
                      <a:pt x="2159" y="305"/>
                    </a:lnTo>
                    <a:lnTo>
                      <a:pt x="2161" y="305"/>
                    </a:lnTo>
                    <a:lnTo>
                      <a:pt x="2163" y="308"/>
                    </a:lnTo>
                    <a:lnTo>
                      <a:pt x="2165" y="310"/>
                    </a:lnTo>
                    <a:lnTo>
                      <a:pt x="2171" y="332"/>
                    </a:lnTo>
                    <a:lnTo>
                      <a:pt x="2173" y="353"/>
                    </a:lnTo>
                    <a:lnTo>
                      <a:pt x="2174" y="375"/>
                    </a:lnTo>
                    <a:lnTo>
                      <a:pt x="2174" y="396"/>
                    </a:lnTo>
                    <a:lnTo>
                      <a:pt x="2172" y="419"/>
                    </a:lnTo>
                    <a:lnTo>
                      <a:pt x="2168" y="441"/>
                    </a:lnTo>
                    <a:lnTo>
                      <a:pt x="2163" y="462"/>
                    </a:lnTo>
                    <a:lnTo>
                      <a:pt x="2159" y="484"/>
                    </a:lnTo>
                    <a:lnTo>
                      <a:pt x="2148" y="521"/>
                    </a:lnTo>
                    <a:lnTo>
                      <a:pt x="2135" y="557"/>
                    </a:lnTo>
                    <a:lnTo>
                      <a:pt x="2120" y="593"/>
                    </a:lnTo>
                    <a:lnTo>
                      <a:pt x="2106" y="629"/>
                    </a:lnTo>
                    <a:lnTo>
                      <a:pt x="2089" y="665"/>
                    </a:lnTo>
                    <a:lnTo>
                      <a:pt x="2073" y="700"/>
                    </a:lnTo>
                    <a:lnTo>
                      <a:pt x="2057" y="735"/>
                    </a:lnTo>
                    <a:lnTo>
                      <a:pt x="2039" y="771"/>
                    </a:lnTo>
                    <a:lnTo>
                      <a:pt x="2029" y="790"/>
                    </a:lnTo>
                    <a:lnTo>
                      <a:pt x="2019" y="809"/>
                    </a:lnTo>
                    <a:lnTo>
                      <a:pt x="2010" y="828"/>
                    </a:lnTo>
                    <a:lnTo>
                      <a:pt x="1999" y="847"/>
                    </a:lnTo>
                    <a:lnTo>
                      <a:pt x="1987" y="867"/>
                    </a:lnTo>
                    <a:lnTo>
                      <a:pt x="1975" y="885"/>
                    </a:lnTo>
                    <a:lnTo>
                      <a:pt x="1963" y="903"/>
                    </a:lnTo>
                    <a:lnTo>
                      <a:pt x="1950" y="919"/>
                    </a:lnTo>
                    <a:lnTo>
                      <a:pt x="1940" y="930"/>
                    </a:lnTo>
                    <a:lnTo>
                      <a:pt x="1929" y="940"/>
                    </a:lnTo>
                    <a:lnTo>
                      <a:pt x="1919" y="948"/>
                    </a:lnTo>
                    <a:lnTo>
                      <a:pt x="1907" y="957"/>
                    </a:lnTo>
                    <a:lnTo>
                      <a:pt x="1895" y="965"/>
                    </a:lnTo>
                    <a:lnTo>
                      <a:pt x="1883" y="973"/>
                    </a:lnTo>
                    <a:lnTo>
                      <a:pt x="1871" y="982"/>
                    </a:lnTo>
                    <a:lnTo>
                      <a:pt x="1860" y="991"/>
                    </a:lnTo>
                    <a:lnTo>
                      <a:pt x="1855" y="996"/>
                    </a:lnTo>
                    <a:lnTo>
                      <a:pt x="1849" y="1000"/>
                    </a:lnTo>
                    <a:lnTo>
                      <a:pt x="1844" y="1005"/>
                    </a:lnTo>
                    <a:lnTo>
                      <a:pt x="1838" y="1009"/>
                    </a:lnTo>
                    <a:lnTo>
                      <a:pt x="1833" y="1015"/>
                    </a:lnTo>
                    <a:lnTo>
                      <a:pt x="1830" y="1020"/>
                    </a:lnTo>
                    <a:lnTo>
                      <a:pt x="1826" y="1026"/>
                    </a:lnTo>
                    <a:lnTo>
                      <a:pt x="1824" y="1033"/>
                    </a:lnTo>
                    <a:lnTo>
                      <a:pt x="1823" y="1041"/>
                    </a:lnTo>
                    <a:lnTo>
                      <a:pt x="1821" y="1049"/>
                    </a:lnTo>
                    <a:lnTo>
                      <a:pt x="1821" y="1057"/>
                    </a:lnTo>
                    <a:lnTo>
                      <a:pt x="1821" y="1066"/>
                    </a:lnTo>
                    <a:lnTo>
                      <a:pt x="1824" y="1074"/>
                    </a:lnTo>
                    <a:lnTo>
                      <a:pt x="1826" y="1081"/>
                    </a:lnTo>
                    <a:lnTo>
                      <a:pt x="1830" y="1087"/>
                    </a:lnTo>
                    <a:lnTo>
                      <a:pt x="1836" y="1092"/>
                    </a:lnTo>
                    <a:lnTo>
                      <a:pt x="1848" y="1099"/>
                    </a:lnTo>
                    <a:lnTo>
                      <a:pt x="1861" y="1104"/>
                    </a:lnTo>
                    <a:lnTo>
                      <a:pt x="1874" y="1109"/>
                    </a:lnTo>
                    <a:lnTo>
                      <a:pt x="1887" y="1111"/>
                    </a:lnTo>
                    <a:lnTo>
                      <a:pt x="1902" y="1113"/>
                    </a:lnTo>
                    <a:lnTo>
                      <a:pt x="1916" y="1113"/>
                    </a:lnTo>
                    <a:lnTo>
                      <a:pt x="1929" y="1113"/>
                    </a:lnTo>
                    <a:lnTo>
                      <a:pt x="1944" y="1110"/>
                    </a:lnTo>
                    <a:lnTo>
                      <a:pt x="1958" y="1108"/>
                    </a:lnTo>
                    <a:lnTo>
                      <a:pt x="1973" y="1103"/>
                    </a:lnTo>
                    <a:lnTo>
                      <a:pt x="1988" y="1098"/>
                    </a:lnTo>
                    <a:lnTo>
                      <a:pt x="2001" y="1092"/>
                    </a:lnTo>
                    <a:lnTo>
                      <a:pt x="2016" y="1085"/>
                    </a:lnTo>
                    <a:lnTo>
                      <a:pt x="2028" y="1077"/>
                    </a:lnTo>
                    <a:lnTo>
                      <a:pt x="2040" y="1067"/>
                    </a:lnTo>
                    <a:lnTo>
                      <a:pt x="2051" y="1056"/>
                    </a:lnTo>
                    <a:lnTo>
                      <a:pt x="2060" y="1047"/>
                    </a:lnTo>
                    <a:lnTo>
                      <a:pt x="2069" y="1035"/>
                    </a:lnTo>
                    <a:lnTo>
                      <a:pt x="2077" y="1024"/>
                    </a:lnTo>
                    <a:lnTo>
                      <a:pt x="2085" y="1012"/>
                    </a:lnTo>
                    <a:lnTo>
                      <a:pt x="2099" y="988"/>
                    </a:lnTo>
                    <a:lnTo>
                      <a:pt x="2113" y="963"/>
                    </a:lnTo>
                    <a:lnTo>
                      <a:pt x="2126" y="937"/>
                    </a:lnTo>
                    <a:lnTo>
                      <a:pt x="2139" y="912"/>
                    </a:lnTo>
                    <a:lnTo>
                      <a:pt x="2154" y="888"/>
                    </a:lnTo>
                    <a:lnTo>
                      <a:pt x="2171" y="865"/>
                    </a:lnTo>
                    <a:lnTo>
                      <a:pt x="2183" y="851"/>
                    </a:lnTo>
                    <a:lnTo>
                      <a:pt x="2196" y="835"/>
                    </a:lnTo>
                    <a:lnTo>
                      <a:pt x="2209" y="821"/>
                    </a:lnTo>
                    <a:lnTo>
                      <a:pt x="2223" y="808"/>
                    </a:lnTo>
                    <a:lnTo>
                      <a:pt x="2238" y="795"/>
                    </a:lnTo>
                    <a:lnTo>
                      <a:pt x="2253" y="781"/>
                    </a:lnTo>
                    <a:lnTo>
                      <a:pt x="2268" y="769"/>
                    </a:lnTo>
                    <a:lnTo>
                      <a:pt x="2285" y="759"/>
                    </a:lnTo>
                    <a:lnTo>
                      <a:pt x="2294" y="751"/>
                    </a:lnTo>
                    <a:lnTo>
                      <a:pt x="2305" y="744"/>
                    </a:lnTo>
                    <a:lnTo>
                      <a:pt x="2316" y="738"/>
                    </a:lnTo>
                    <a:lnTo>
                      <a:pt x="2327" y="732"/>
                    </a:lnTo>
                    <a:lnTo>
                      <a:pt x="2339" y="727"/>
                    </a:lnTo>
                    <a:lnTo>
                      <a:pt x="2349" y="724"/>
                    </a:lnTo>
                    <a:lnTo>
                      <a:pt x="2361" y="723"/>
                    </a:lnTo>
                    <a:lnTo>
                      <a:pt x="2373" y="723"/>
                    </a:lnTo>
                    <a:lnTo>
                      <a:pt x="2385" y="725"/>
                    </a:lnTo>
                    <a:lnTo>
                      <a:pt x="2396" y="729"/>
                    </a:lnTo>
                    <a:lnTo>
                      <a:pt x="2406" y="735"/>
                    </a:lnTo>
                    <a:lnTo>
                      <a:pt x="2417" y="742"/>
                    </a:lnTo>
                    <a:lnTo>
                      <a:pt x="2425" y="750"/>
                    </a:lnTo>
                    <a:lnTo>
                      <a:pt x="2435" y="759"/>
                    </a:lnTo>
                    <a:lnTo>
                      <a:pt x="2443" y="767"/>
                    </a:lnTo>
                    <a:lnTo>
                      <a:pt x="2451" y="777"/>
                    </a:lnTo>
                    <a:lnTo>
                      <a:pt x="2460" y="785"/>
                    </a:lnTo>
                    <a:lnTo>
                      <a:pt x="2467" y="796"/>
                    </a:lnTo>
                    <a:lnTo>
                      <a:pt x="2474" y="805"/>
                    </a:lnTo>
                    <a:lnTo>
                      <a:pt x="2480" y="816"/>
                    </a:lnTo>
                    <a:lnTo>
                      <a:pt x="2486" y="827"/>
                    </a:lnTo>
                    <a:lnTo>
                      <a:pt x="2493" y="838"/>
                    </a:lnTo>
                    <a:lnTo>
                      <a:pt x="2499" y="849"/>
                    </a:lnTo>
                    <a:lnTo>
                      <a:pt x="2505" y="859"/>
                    </a:lnTo>
                    <a:lnTo>
                      <a:pt x="2515" y="875"/>
                    </a:lnTo>
                    <a:lnTo>
                      <a:pt x="2525" y="891"/>
                    </a:lnTo>
                    <a:lnTo>
                      <a:pt x="2534" y="906"/>
                    </a:lnTo>
                    <a:lnTo>
                      <a:pt x="2544" y="921"/>
                    </a:lnTo>
                    <a:lnTo>
                      <a:pt x="2553" y="936"/>
                    </a:lnTo>
                    <a:lnTo>
                      <a:pt x="2562" y="953"/>
                    </a:lnTo>
                    <a:lnTo>
                      <a:pt x="2570" y="969"/>
                    </a:lnTo>
                    <a:lnTo>
                      <a:pt x="2577" y="985"/>
                    </a:lnTo>
                    <a:lnTo>
                      <a:pt x="2581" y="995"/>
                    </a:lnTo>
                    <a:lnTo>
                      <a:pt x="2583" y="1006"/>
                    </a:lnTo>
                    <a:lnTo>
                      <a:pt x="2587" y="1015"/>
                    </a:lnTo>
                    <a:lnTo>
                      <a:pt x="2589" y="1026"/>
                    </a:lnTo>
                    <a:lnTo>
                      <a:pt x="2591" y="1037"/>
                    </a:lnTo>
                    <a:lnTo>
                      <a:pt x="2591" y="1048"/>
                    </a:lnTo>
                    <a:lnTo>
                      <a:pt x="2591" y="1059"/>
                    </a:lnTo>
                    <a:lnTo>
                      <a:pt x="2589" y="1068"/>
                    </a:lnTo>
                    <a:lnTo>
                      <a:pt x="2587" y="1075"/>
                    </a:lnTo>
                    <a:lnTo>
                      <a:pt x="2585" y="1083"/>
                    </a:lnTo>
                    <a:lnTo>
                      <a:pt x="2581" y="1090"/>
                    </a:lnTo>
                    <a:lnTo>
                      <a:pt x="2576" y="1096"/>
                    </a:lnTo>
                    <a:lnTo>
                      <a:pt x="2571" y="1102"/>
                    </a:lnTo>
                    <a:lnTo>
                      <a:pt x="2565" y="1107"/>
                    </a:lnTo>
                    <a:lnTo>
                      <a:pt x="2559" y="1109"/>
                    </a:lnTo>
                    <a:lnTo>
                      <a:pt x="2553" y="1110"/>
                    </a:lnTo>
                    <a:lnTo>
                      <a:pt x="2543" y="1110"/>
                    </a:lnTo>
                    <a:lnTo>
                      <a:pt x="2532" y="1108"/>
                    </a:lnTo>
                    <a:lnTo>
                      <a:pt x="2521" y="1105"/>
                    </a:lnTo>
                    <a:lnTo>
                      <a:pt x="2511" y="1101"/>
                    </a:lnTo>
                    <a:lnTo>
                      <a:pt x="2502" y="1095"/>
                    </a:lnTo>
                    <a:lnTo>
                      <a:pt x="2492" y="1089"/>
                    </a:lnTo>
                    <a:lnTo>
                      <a:pt x="2484" y="1081"/>
                    </a:lnTo>
                    <a:lnTo>
                      <a:pt x="2475" y="1074"/>
                    </a:lnTo>
                    <a:lnTo>
                      <a:pt x="2465" y="1063"/>
                    </a:lnTo>
                    <a:lnTo>
                      <a:pt x="2455" y="1051"/>
                    </a:lnTo>
                    <a:lnTo>
                      <a:pt x="2445" y="1039"/>
                    </a:lnTo>
                    <a:lnTo>
                      <a:pt x="2437" y="1026"/>
                    </a:lnTo>
                    <a:lnTo>
                      <a:pt x="2429" y="1013"/>
                    </a:lnTo>
                    <a:lnTo>
                      <a:pt x="2421" y="999"/>
                    </a:lnTo>
                    <a:lnTo>
                      <a:pt x="2413" y="985"/>
                    </a:lnTo>
                    <a:lnTo>
                      <a:pt x="2403" y="973"/>
                    </a:lnTo>
                    <a:lnTo>
                      <a:pt x="2399" y="965"/>
                    </a:lnTo>
                    <a:lnTo>
                      <a:pt x="2393" y="958"/>
                    </a:lnTo>
                    <a:lnTo>
                      <a:pt x="2387" y="949"/>
                    </a:lnTo>
                    <a:lnTo>
                      <a:pt x="2382" y="941"/>
                    </a:lnTo>
                    <a:lnTo>
                      <a:pt x="2376" y="934"/>
                    </a:lnTo>
                    <a:lnTo>
                      <a:pt x="2370" y="927"/>
                    </a:lnTo>
                    <a:lnTo>
                      <a:pt x="2363" y="919"/>
                    </a:lnTo>
                    <a:lnTo>
                      <a:pt x="2355" y="913"/>
                    </a:lnTo>
                    <a:lnTo>
                      <a:pt x="2353" y="911"/>
                    </a:lnTo>
                    <a:lnTo>
                      <a:pt x="2348" y="910"/>
                    </a:lnTo>
                    <a:lnTo>
                      <a:pt x="2345" y="909"/>
                    </a:lnTo>
                    <a:lnTo>
                      <a:pt x="2340" y="909"/>
                    </a:lnTo>
                    <a:lnTo>
                      <a:pt x="2336" y="909"/>
                    </a:lnTo>
                    <a:lnTo>
                      <a:pt x="2333" y="909"/>
                    </a:lnTo>
                    <a:lnTo>
                      <a:pt x="2329" y="911"/>
                    </a:lnTo>
                    <a:lnTo>
                      <a:pt x="2325" y="913"/>
                    </a:lnTo>
                    <a:lnTo>
                      <a:pt x="2315" y="929"/>
                    </a:lnTo>
                    <a:lnTo>
                      <a:pt x="2305" y="946"/>
                    </a:lnTo>
                    <a:lnTo>
                      <a:pt x="2297" y="964"/>
                    </a:lnTo>
                    <a:lnTo>
                      <a:pt x="2288" y="981"/>
                    </a:lnTo>
                    <a:lnTo>
                      <a:pt x="2281" y="999"/>
                    </a:lnTo>
                    <a:lnTo>
                      <a:pt x="2273" y="1017"/>
                    </a:lnTo>
                    <a:lnTo>
                      <a:pt x="2264" y="1033"/>
                    </a:lnTo>
                    <a:lnTo>
                      <a:pt x="2255" y="1050"/>
                    </a:lnTo>
                    <a:lnTo>
                      <a:pt x="2244" y="1068"/>
                    </a:lnTo>
                    <a:lnTo>
                      <a:pt x="2233" y="1085"/>
                    </a:lnTo>
                    <a:lnTo>
                      <a:pt x="2223" y="1102"/>
                    </a:lnTo>
                    <a:lnTo>
                      <a:pt x="2213" y="1119"/>
                    </a:lnTo>
                    <a:lnTo>
                      <a:pt x="2201" y="1134"/>
                    </a:lnTo>
                    <a:lnTo>
                      <a:pt x="2190" y="1151"/>
                    </a:lnTo>
                    <a:lnTo>
                      <a:pt x="2178" y="1167"/>
                    </a:lnTo>
                    <a:lnTo>
                      <a:pt x="2165" y="1182"/>
                    </a:lnTo>
                    <a:lnTo>
                      <a:pt x="2153" y="1197"/>
                    </a:lnTo>
                    <a:lnTo>
                      <a:pt x="2139" y="1210"/>
                    </a:lnTo>
                    <a:lnTo>
                      <a:pt x="2127" y="1223"/>
                    </a:lnTo>
                    <a:lnTo>
                      <a:pt x="2113" y="1235"/>
                    </a:lnTo>
                    <a:lnTo>
                      <a:pt x="2100" y="1248"/>
                    </a:lnTo>
                    <a:lnTo>
                      <a:pt x="2085" y="1260"/>
                    </a:lnTo>
                    <a:lnTo>
                      <a:pt x="2071" y="1272"/>
                    </a:lnTo>
                    <a:lnTo>
                      <a:pt x="2057" y="1283"/>
                    </a:lnTo>
                    <a:lnTo>
                      <a:pt x="2047" y="1291"/>
                    </a:lnTo>
                    <a:lnTo>
                      <a:pt x="2036" y="1300"/>
                    </a:lnTo>
                    <a:lnTo>
                      <a:pt x="2025" y="1307"/>
                    </a:lnTo>
                    <a:lnTo>
                      <a:pt x="2015" y="1314"/>
                    </a:lnTo>
                    <a:lnTo>
                      <a:pt x="2003" y="1320"/>
                    </a:lnTo>
                    <a:lnTo>
                      <a:pt x="1992" y="1326"/>
                    </a:lnTo>
                    <a:lnTo>
                      <a:pt x="1980" y="1332"/>
                    </a:lnTo>
                    <a:lnTo>
                      <a:pt x="1968" y="1337"/>
                    </a:lnTo>
                    <a:lnTo>
                      <a:pt x="1957" y="1341"/>
                    </a:lnTo>
                    <a:lnTo>
                      <a:pt x="1946" y="1344"/>
                    </a:lnTo>
                    <a:lnTo>
                      <a:pt x="1934" y="1345"/>
                    </a:lnTo>
                    <a:lnTo>
                      <a:pt x="1923" y="1348"/>
                    </a:lnTo>
                    <a:lnTo>
                      <a:pt x="1911" y="1349"/>
                    </a:lnTo>
                    <a:lnTo>
                      <a:pt x="1901" y="1350"/>
                    </a:lnTo>
                    <a:lnTo>
                      <a:pt x="1889" y="1353"/>
                    </a:lnTo>
                    <a:lnTo>
                      <a:pt x="1878" y="1355"/>
                    </a:lnTo>
                    <a:lnTo>
                      <a:pt x="1871" y="1357"/>
                    </a:lnTo>
                    <a:lnTo>
                      <a:pt x="1862" y="1359"/>
                    </a:lnTo>
                    <a:lnTo>
                      <a:pt x="1855" y="1361"/>
                    </a:lnTo>
                    <a:lnTo>
                      <a:pt x="1848" y="1362"/>
                    </a:lnTo>
                    <a:lnTo>
                      <a:pt x="1841" y="1366"/>
                    </a:lnTo>
                    <a:lnTo>
                      <a:pt x="1833" y="1369"/>
                    </a:lnTo>
                    <a:lnTo>
                      <a:pt x="1829" y="1373"/>
                    </a:lnTo>
                    <a:lnTo>
                      <a:pt x="1824" y="1379"/>
                    </a:lnTo>
                    <a:lnTo>
                      <a:pt x="1823" y="1384"/>
                    </a:lnTo>
                    <a:lnTo>
                      <a:pt x="1823" y="1390"/>
                    </a:lnTo>
                    <a:lnTo>
                      <a:pt x="1824" y="1396"/>
                    </a:lnTo>
                    <a:lnTo>
                      <a:pt x="1826" y="1400"/>
                    </a:lnTo>
                    <a:lnTo>
                      <a:pt x="1830" y="1406"/>
                    </a:lnTo>
                    <a:lnTo>
                      <a:pt x="1833" y="1411"/>
                    </a:lnTo>
                    <a:lnTo>
                      <a:pt x="1838" y="1416"/>
                    </a:lnTo>
                    <a:lnTo>
                      <a:pt x="1842" y="1421"/>
                    </a:lnTo>
                    <a:lnTo>
                      <a:pt x="1851" y="1429"/>
                    </a:lnTo>
                    <a:lnTo>
                      <a:pt x="1862" y="1436"/>
                    </a:lnTo>
                    <a:lnTo>
                      <a:pt x="1873" y="1444"/>
                    </a:lnTo>
                    <a:lnTo>
                      <a:pt x="1885" y="1450"/>
                    </a:lnTo>
                    <a:lnTo>
                      <a:pt x="1896" y="1457"/>
                    </a:lnTo>
                    <a:lnTo>
                      <a:pt x="1907" y="1463"/>
                    </a:lnTo>
                    <a:lnTo>
                      <a:pt x="1916" y="1471"/>
                    </a:lnTo>
                    <a:lnTo>
                      <a:pt x="1926" y="1481"/>
                    </a:lnTo>
                    <a:lnTo>
                      <a:pt x="1934" y="1493"/>
                    </a:lnTo>
                    <a:lnTo>
                      <a:pt x="1943" y="1505"/>
                    </a:lnTo>
                    <a:lnTo>
                      <a:pt x="1949" y="1518"/>
                    </a:lnTo>
                    <a:lnTo>
                      <a:pt x="1956" y="1532"/>
                    </a:lnTo>
                    <a:lnTo>
                      <a:pt x="1962" y="1547"/>
                    </a:lnTo>
                    <a:lnTo>
                      <a:pt x="1967" y="1560"/>
                    </a:lnTo>
                    <a:lnTo>
                      <a:pt x="1973" y="1574"/>
                    </a:lnTo>
                    <a:lnTo>
                      <a:pt x="1980" y="1588"/>
                    </a:lnTo>
                    <a:lnTo>
                      <a:pt x="1988" y="1607"/>
                    </a:lnTo>
                    <a:lnTo>
                      <a:pt x="1995" y="1626"/>
                    </a:lnTo>
                    <a:lnTo>
                      <a:pt x="2003" y="1646"/>
                    </a:lnTo>
                    <a:lnTo>
                      <a:pt x="2010" y="1666"/>
                    </a:lnTo>
                    <a:lnTo>
                      <a:pt x="2018" y="1686"/>
                    </a:lnTo>
                    <a:lnTo>
                      <a:pt x="2028" y="1704"/>
                    </a:lnTo>
                    <a:lnTo>
                      <a:pt x="2033" y="1712"/>
                    </a:lnTo>
                    <a:lnTo>
                      <a:pt x="2039" y="1721"/>
                    </a:lnTo>
                    <a:lnTo>
                      <a:pt x="2045" y="1729"/>
                    </a:lnTo>
                    <a:lnTo>
                      <a:pt x="2051" y="1738"/>
                    </a:lnTo>
                    <a:lnTo>
                      <a:pt x="2059" y="1745"/>
                    </a:lnTo>
                    <a:lnTo>
                      <a:pt x="2067" y="1752"/>
                    </a:lnTo>
                    <a:lnTo>
                      <a:pt x="2076" y="1759"/>
                    </a:lnTo>
                    <a:lnTo>
                      <a:pt x="2085" y="1765"/>
                    </a:lnTo>
                    <a:lnTo>
                      <a:pt x="2105" y="1777"/>
                    </a:lnTo>
                    <a:lnTo>
                      <a:pt x="2124" y="1788"/>
                    </a:lnTo>
                    <a:lnTo>
                      <a:pt x="2144" y="1798"/>
                    </a:lnTo>
                    <a:lnTo>
                      <a:pt x="2166" y="1807"/>
                    </a:lnTo>
                    <a:lnTo>
                      <a:pt x="2186" y="1817"/>
                    </a:lnTo>
                    <a:lnTo>
                      <a:pt x="2207" y="1826"/>
                    </a:lnTo>
                    <a:lnTo>
                      <a:pt x="2221" y="1834"/>
                    </a:lnTo>
                    <a:lnTo>
                      <a:pt x="2237" y="1840"/>
                    </a:lnTo>
                    <a:lnTo>
                      <a:pt x="2251" y="1844"/>
                    </a:lnTo>
                    <a:lnTo>
                      <a:pt x="2267" y="1849"/>
                    </a:lnTo>
                    <a:lnTo>
                      <a:pt x="2282" y="1855"/>
                    </a:lnTo>
                    <a:lnTo>
                      <a:pt x="2297" y="1860"/>
                    </a:lnTo>
                    <a:lnTo>
                      <a:pt x="2312" y="1867"/>
                    </a:lnTo>
                    <a:lnTo>
                      <a:pt x="2325" y="1874"/>
                    </a:lnTo>
                    <a:lnTo>
                      <a:pt x="2333" y="1879"/>
                    </a:lnTo>
                    <a:lnTo>
                      <a:pt x="2340" y="1884"/>
                    </a:lnTo>
                    <a:lnTo>
                      <a:pt x="2346" y="1889"/>
                    </a:lnTo>
                    <a:lnTo>
                      <a:pt x="2352" y="1895"/>
                    </a:lnTo>
                    <a:lnTo>
                      <a:pt x="2357" y="1901"/>
                    </a:lnTo>
                    <a:lnTo>
                      <a:pt x="2361" y="1908"/>
                    </a:lnTo>
                    <a:lnTo>
                      <a:pt x="2365" y="1915"/>
                    </a:lnTo>
                    <a:lnTo>
                      <a:pt x="2367" y="1922"/>
                    </a:lnTo>
                    <a:lnTo>
                      <a:pt x="2370" y="1932"/>
                    </a:lnTo>
                    <a:lnTo>
                      <a:pt x="2371" y="1942"/>
                    </a:lnTo>
                    <a:lnTo>
                      <a:pt x="2372" y="1952"/>
                    </a:lnTo>
                    <a:lnTo>
                      <a:pt x="2372" y="1963"/>
                    </a:lnTo>
                    <a:lnTo>
                      <a:pt x="2371" y="1974"/>
                    </a:lnTo>
                    <a:lnTo>
                      <a:pt x="2369" y="1982"/>
                    </a:lnTo>
                    <a:lnTo>
                      <a:pt x="2366" y="1986"/>
                    </a:lnTo>
                    <a:lnTo>
                      <a:pt x="2363" y="1990"/>
                    </a:lnTo>
                    <a:lnTo>
                      <a:pt x="2360" y="1992"/>
                    </a:lnTo>
                    <a:lnTo>
                      <a:pt x="2355" y="1994"/>
                    </a:lnTo>
                    <a:lnTo>
                      <a:pt x="2348" y="1997"/>
                    </a:lnTo>
                    <a:lnTo>
                      <a:pt x="2341" y="1998"/>
                    </a:lnTo>
                    <a:lnTo>
                      <a:pt x="2333" y="1999"/>
                    </a:lnTo>
                    <a:lnTo>
                      <a:pt x="2325" y="1999"/>
                    </a:lnTo>
                    <a:lnTo>
                      <a:pt x="2310" y="1998"/>
                    </a:lnTo>
                    <a:lnTo>
                      <a:pt x="2294" y="1994"/>
                    </a:lnTo>
                    <a:lnTo>
                      <a:pt x="2277" y="1991"/>
                    </a:lnTo>
                    <a:lnTo>
                      <a:pt x="2262" y="1986"/>
                    </a:lnTo>
                    <a:lnTo>
                      <a:pt x="2246" y="1981"/>
                    </a:lnTo>
                    <a:lnTo>
                      <a:pt x="2231" y="1976"/>
                    </a:lnTo>
                    <a:lnTo>
                      <a:pt x="2214" y="1970"/>
                    </a:lnTo>
                    <a:lnTo>
                      <a:pt x="2197" y="1964"/>
                    </a:lnTo>
                    <a:lnTo>
                      <a:pt x="2180" y="1958"/>
                    </a:lnTo>
                    <a:lnTo>
                      <a:pt x="2163" y="1951"/>
                    </a:lnTo>
                    <a:lnTo>
                      <a:pt x="2148" y="1944"/>
                    </a:lnTo>
                    <a:lnTo>
                      <a:pt x="2131" y="1937"/>
                    </a:lnTo>
                    <a:lnTo>
                      <a:pt x="2115" y="1930"/>
                    </a:lnTo>
                    <a:lnTo>
                      <a:pt x="2099" y="1922"/>
                    </a:lnTo>
                    <a:lnTo>
                      <a:pt x="2079" y="1914"/>
                    </a:lnTo>
                    <a:lnTo>
                      <a:pt x="2059" y="1906"/>
                    </a:lnTo>
                    <a:lnTo>
                      <a:pt x="2039" y="1898"/>
                    </a:lnTo>
                    <a:lnTo>
                      <a:pt x="2019" y="1890"/>
                    </a:lnTo>
                    <a:lnTo>
                      <a:pt x="1999" y="1882"/>
                    </a:lnTo>
                    <a:lnTo>
                      <a:pt x="1980" y="1873"/>
                    </a:lnTo>
                    <a:lnTo>
                      <a:pt x="1962" y="1862"/>
                    </a:lnTo>
                    <a:lnTo>
                      <a:pt x="1944" y="1850"/>
                    </a:lnTo>
                    <a:lnTo>
                      <a:pt x="1931" y="1841"/>
                    </a:lnTo>
                    <a:lnTo>
                      <a:pt x="1919" y="1829"/>
                    </a:lnTo>
                    <a:lnTo>
                      <a:pt x="1907" y="1818"/>
                    </a:lnTo>
                    <a:lnTo>
                      <a:pt x="1896" y="1805"/>
                    </a:lnTo>
                    <a:lnTo>
                      <a:pt x="1886" y="1792"/>
                    </a:lnTo>
                    <a:lnTo>
                      <a:pt x="1877" y="1778"/>
                    </a:lnTo>
                    <a:lnTo>
                      <a:pt x="1868" y="1764"/>
                    </a:lnTo>
                    <a:lnTo>
                      <a:pt x="1860" y="1750"/>
                    </a:lnTo>
                    <a:lnTo>
                      <a:pt x="1856" y="1739"/>
                    </a:lnTo>
                    <a:lnTo>
                      <a:pt x="1854" y="1728"/>
                    </a:lnTo>
                    <a:lnTo>
                      <a:pt x="1853" y="1716"/>
                    </a:lnTo>
                    <a:lnTo>
                      <a:pt x="1853" y="1705"/>
                    </a:lnTo>
                    <a:lnTo>
                      <a:pt x="1853" y="1693"/>
                    </a:lnTo>
                    <a:lnTo>
                      <a:pt x="1851" y="1681"/>
                    </a:lnTo>
                    <a:lnTo>
                      <a:pt x="1850" y="1670"/>
                    </a:lnTo>
                    <a:lnTo>
                      <a:pt x="1848" y="1660"/>
                    </a:lnTo>
                    <a:lnTo>
                      <a:pt x="1844" y="1650"/>
                    </a:lnTo>
                    <a:lnTo>
                      <a:pt x="1841" y="1639"/>
                    </a:lnTo>
                    <a:lnTo>
                      <a:pt x="1837" y="1630"/>
                    </a:lnTo>
                    <a:lnTo>
                      <a:pt x="1832" y="1620"/>
                    </a:lnTo>
                    <a:lnTo>
                      <a:pt x="1826" y="1612"/>
                    </a:lnTo>
                    <a:lnTo>
                      <a:pt x="1820" y="1603"/>
                    </a:lnTo>
                    <a:lnTo>
                      <a:pt x="1814" y="1595"/>
                    </a:lnTo>
                    <a:lnTo>
                      <a:pt x="1806" y="1588"/>
                    </a:lnTo>
                    <a:lnTo>
                      <a:pt x="1801" y="1584"/>
                    </a:lnTo>
                    <a:lnTo>
                      <a:pt x="1795" y="1582"/>
                    </a:lnTo>
                    <a:lnTo>
                      <a:pt x="1789" y="1580"/>
                    </a:lnTo>
                    <a:lnTo>
                      <a:pt x="1782" y="1580"/>
                    </a:lnTo>
                    <a:lnTo>
                      <a:pt x="1775" y="1580"/>
                    </a:lnTo>
                    <a:lnTo>
                      <a:pt x="1769" y="1582"/>
                    </a:lnTo>
                    <a:lnTo>
                      <a:pt x="1763" y="1584"/>
                    </a:lnTo>
                    <a:lnTo>
                      <a:pt x="1758" y="1588"/>
                    </a:lnTo>
                    <a:lnTo>
                      <a:pt x="1752" y="1595"/>
                    </a:lnTo>
                    <a:lnTo>
                      <a:pt x="1747" y="1603"/>
                    </a:lnTo>
                    <a:lnTo>
                      <a:pt x="1743" y="1612"/>
                    </a:lnTo>
                    <a:lnTo>
                      <a:pt x="1741" y="1621"/>
                    </a:lnTo>
                    <a:lnTo>
                      <a:pt x="1739" y="1631"/>
                    </a:lnTo>
                    <a:lnTo>
                      <a:pt x="1736" y="1640"/>
                    </a:lnTo>
                    <a:lnTo>
                      <a:pt x="1735" y="1650"/>
                    </a:lnTo>
                    <a:lnTo>
                      <a:pt x="1735" y="1660"/>
                    </a:lnTo>
                    <a:lnTo>
                      <a:pt x="1733" y="1680"/>
                    </a:lnTo>
                    <a:lnTo>
                      <a:pt x="1731" y="1699"/>
                    </a:lnTo>
                    <a:lnTo>
                      <a:pt x="1731" y="1720"/>
                    </a:lnTo>
                    <a:lnTo>
                      <a:pt x="1731" y="1740"/>
                    </a:lnTo>
                    <a:lnTo>
                      <a:pt x="1733" y="1760"/>
                    </a:lnTo>
                    <a:lnTo>
                      <a:pt x="1733" y="1781"/>
                    </a:lnTo>
                    <a:lnTo>
                      <a:pt x="1734" y="1800"/>
                    </a:lnTo>
                    <a:lnTo>
                      <a:pt x="1735" y="1820"/>
                    </a:lnTo>
                    <a:lnTo>
                      <a:pt x="1735" y="1836"/>
                    </a:lnTo>
                    <a:lnTo>
                      <a:pt x="1736" y="1852"/>
                    </a:lnTo>
                    <a:lnTo>
                      <a:pt x="1739" y="1868"/>
                    </a:lnTo>
                    <a:lnTo>
                      <a:pt x="1740" y="1884"/>
                    </a:lnTo>
                    <a:lnTo>
                      <a:pt x="1741" y="1900"/>
                    </a:lnTo>
                    <a:lnTo>
                      <a:pt x="1742" y="1915"/>
                    </a:lnTo>
                    <a:lnTo>
                      <a:pt x="1742" y="1931"/>
                    </a:lnTo>
                    <a:lnTo>
                      <a:pt x="1740" y="1946"/>
                    </a:lnTo>
                    <a:lnTo>
                      <a:pt x="1739" y="1958"/>
                    </a:lnTo>
                    <a:lnTo>
                      <a:pt x="1735" y="1969"/>
                    </a:lnTo>
                    <a:lnTo>
                      <a:pt x="1730" y="1980"/>
                    </a:lnTo>
                    <a:lnTo>
                      <a:pt x="1725" y="1992"/>
                    </a:lnTo>
                    <a:lnTo>
                      <a:pt x="1719" y="2003"/>
                    </a:lnTo>
                    <a:lnTo>
                      <a:pt x="1715" y="2014"/>
                    </a:lnTo>
                    <a:lnTo>
                      <a:pt x="1710" y="2024"/>
                    </a:lnTo>
                    <a:lnTo>
                      <a:pt x="1705" y="2035"/>
                    </a:lnTo>
                    <a:lnTo>
                      <a:pt x="1699" y="2050"/>
                    </a:lnTo>
                    <a:lnTo>
                      <a:pt x="1695" y="2063"/>
                    </a:lnTo>
                    <a:lnTo>
                      <a:pt x="1691" y="2077"/>
                    </a:lnTo>
                    <a:lnTo>
                      <a:pt x="1687" y="2090"/>
                    </a:lnTo>
                    <a:lnTo>
                      <a:pt x="1682" y="2105"/>
                    </a:lnTo>
                    <a:lnTo>
                      <a:pt x="1676" y="2118"/>
                    </a:lnTo>
                    <a:lnTo>
                      <a:pt x="1670" y="2131"/>
                    </a:lnTo>
                    <a:lnTo>
                      <a:pt x="1663" y="2143"/>
                    </a:lnTo>
                    <a:lnTo>
                      <a:pt x="1655" y="2153"/>
                    </a:lnTo>
                    <a:lnTo>
                      <a:pt x="1646" y="2162"/>
                    </a:lnTo>
                    <a:lnTo>
                      <a:pt x="1638" y="2172"/>
                    </a:lnTo>
                    <a:lnTo>
                      <a:pt x="1627" y="2180"/>
                    </a:lnTo>
                    <a:lnTo>
                      <a:pt x="1617" y="2187"/>
                    </a:lnTo>
                    <a:lnTo>
                      <a:pt x="1607" y="2195"/>
                    </a:lnTo>
                    <a:lnTo>
                      <a:pt x="1596" y="2202"/>
                    </a:lnTo>
                    <a:lnTo>
                      <a:pt x="1585" y="2209"/>
                    </a:lnTo>
                    <a:lnTo>
                      <a:pt x="1578" y="2213"/>
                    </a:lnTo>
                    <a:lnTo>
                      <a:pt x="1571" y="2217"/>
                    </a:lnTo>
                    <a:lnTo>
                      <a:pt x="1563" y="2222"/>
                    </a:lnTo>
                    <a:lnTo>
                      <a:pt x="1555" y="2226"/>
                    </a:lnTo>
                    <a:lnTo>
                      <a:pt x="1547" y="2228"/>
                    </a:lnTo>
                    <a:lnTo>
                      <a:pt x="1539" y="2231"/>
                    </a:lnTo>
                    <a:lnTo>
                      <a:pt x="1536" y="2231"/>
                    </a:lnTo>
                    <a:lnTo>
                      <a:pt x="1532" y="2229"/>
                    </a:lnTo>
                    <a:lnTo>
                      <a:pt x="1529" y="2228"/>
                    </a:lnTo>
                    <a:lnTo>
                      <a:pt x="1525" y="2227"/>
                    </a:lnTo>
                    <a:lnTo>
                      <a:pt x="1518" y="2220"/>
                    </a:lnTo>
                    <a:lnTo>
                      <a:pt x="1511" y="2211"/>
                    </a:lnTo>
                    <a:lnTo>
                      <a:pt x="1506" y="2203"/>
                    </a:lnTo>
                    <a:lnTo>
                      <a:pt x="1502" y="2192"/>
                    </a:lnTo>
                    <a:lnTo>
                      <a:pt x="1499" y="2181"/>
                    </a:lnTo>
                    <a:lnTo>
                      <a:pt x="1496" y="2171"/>
                    </a:lnTo>
                    <a:lnTo>
                      <a:pt x="1496" y="2160"/>
                    </a:lnTo>
                    <a:lnTo>
                      <a:pt x="1495" y="2149"/>
                    </a:lnTo>
                    <a:lnTo>
                      <a:pt x="1496" y="2133"/>
                    </a:lnTo>
                    <a:lnTo>
                      <a:pt x="1499" y="2118"/>
                    </a:lnTo>
                    <a:lnTo>
                      <a:pt x="1501" y="2104"/>
                    </a:lnTo>
                    <a:lnTo>
                      <a:pt x="1505" y="2088"/>
                    </a:lnTo>
                    <a:lnTo>
                      <a:pt x="1509" y="2074"/>
                    </a:lnTo>
                    <a:lnTo>
                      <a:pt x="1514" y="2059"/>
                    </a:lnTo>
                    <a:lnTo>
                      <a:pt x="1520" y="2045"/>
                    </a:lnTo>
                    <a:lnTo>
                      <a:pt x="1525" y="2029"/>
                    </a:lnTo>
                    <a:lnTo>
                      <a:pt x="1531" y="2017"/>
                    </a:lnTo>
                    <a:lnTo>
                      <a:pt x="1537" y="2005"/>
                    </a:lnTo>
                    <a:lnTo>
                      <a:pt x="1543" y="1994"/>
                    </a:lnTo>
                    <a:lnTo>
                      <a:pt x="1550" y="1982"/>
                    </a:lnTo>
                    <a:lnTo>
                      <a:pt x="1557" y="1970"/>
                    </a:lnTo>
                    <a:lnTo>
                      <a:pt x="1563" y="1958"/>
                    </a:lnTo>
                    <a:lnTo>
                      <a:pt x="1569" y="1946"/>
                    </a:lnTo>
                    <a:lnTo>
                      <a:pt x="1573" y="1934"/>
                    </a:lnTo>
                    <a:lnTo>
                      <a:pt x="1578" y="1913"/>
                    </a:lnTo>
                    <a:lnTo>
                      <a:pt x="1583" y="1891"/>
                    </a:lnTo>
                    <a:lnTo>
                      <a:pt x="1585" y="1870"/>
                    </a:lnTo>
                    <a:lnTo>
                      <a:pt x="1589" y="1848"/>
                    </a:lnTo>
                    <a:lnTo>
                      <a:pt x="1590" y="1826"/>
                    </a:lnTo>
                    <a:lnTo>
                      <a:pt x="1591" y="1805"/>
                    </a:lnTo>
                    <a:lnTo>
                      <a:pt x="1591" y="1783"/>
                    </a:lnTo>
                    <a:lnTo>
                      <a:pt x="1591" y="1762"/>
                    </a:lnTo>
                    <a:lnTo>
                      <a:pt x="1590" y="1747"/>
                    </a:lnTo>
                    <a:lnTo>
                      <a:pt x="1589" y="1733"/>
                    </a:lnTo>
                    <a:lnTo>
                      <a:pt x="1586" y="1720"/>
                    </a:lnTo>
                    <a:lnTo>
                      <a:pt x="1583" y="1705"/>
                    </a:lnTo>
                    <a:lnTo>
                      <a:pt x="1578" y="1692"/>
                    </a:lnTo>
                    <a:lnTo>
                      <a:pt x="1573" y="1679"/>
                    </a:lnTo>
                    <a:lnTo>
                      <a:pt x="1567" y="1666"/>
                    </a:lnTo>
                    <a:lnTo>
                      <a:pt x="1561" y="1654"/>
                    </a:lnTo>
                    <a:lnTo>
                      <a:pt x="1556" y="1646"/>
                    </a:lnTo>
                    <a:lnTo>
                      <a:pt x="1551" y="1639"/>
                    </a:lnTo>
                    <a:lnTo>
                      <a:pt x="1545" y="1632"/>
                    </a:lnTo>
                    <a:lnTo>
                      <a:pt x="1538" y="1626"/>
                    </a:lnTo>
                    <a:lnTo>
                      <a:pt x="1531" y="1621"/>
                    </a:lnTo>
                    <a:lnTo>
                      <a:pt x="1524" y="1616"/>
                    </a:lnTo>
                    <a:lnTo>
                      <a:pt x="1515" y="1613"/>
                    </a:lnTo>
                    <a:lnTo>
                      <a:pt x="1507" y="1612"/>
                    </a:lnTo>
                    <a:lnTo>
                      <a:pt x="1497" y="1612"/>
                    </a:lnTo>
                    <a:lnTo>
                      <a:pt x="1488" y="1613"/>
                    </a:lnTo>
                    <a:lnTo>
                      <a:pt x="1478" y="1615"/>
                    </a:lnTo>
                    <a:lnTo>
                      <a:pt x="1469" y="1619"/>
                    </a:lnTo>
                    <a:lnTo>
                      <a:pt x="1459" y="1624"/>
                    </a:lnTo>
                    <a:lnTo>
                      <a:pt x="1451" y="1628"/>
                    </a:lnTo>
                    <a:lnTo>
                      <a:pt x="1442" y="1634"/>
                    </a:lnTo>
                    <a:lnTo>
                      <a:pt x="1436" y="1642"/>
                    </a:lnTo>
                    <a:lnTo>
                      <a:pt x="1427" y="1654"/>
                    </a:lnTo>
                    <a:lnTo>
                      <a:pt x="1418" y="1666"/>
                    </a:lnTo>
                    <a:lnTo>
                      <a:pt x="1411" y="1679"/>
                    </a:lnTo>
                    <a:lnTo>
                      <a:pt x="1405" y="1693"/>
                    </a:lnTo>
                    <a:lnTo>
                      <a:pt x="1400" y="1708"/>
                    </a:lnTo>
                    <a:lnTo>
                      <a:pt x="1394" y="1722"/>
                    </a:lnTo>
                    <a:lnTo>
                      <a:pt x="1388" y="1735"/>
                    </a:lnTo>
                    <a:lnTo>
                      <a:pt x="1382" y="1750"/>
                    </a:lnTo>
                    <a:lnTo>
                      <a:pt x="1371" y="1771"/>
                    </a:lnTo>
                    <a:lnTo>
                      <a:pt x="1361" y="1793"/>
                    </a:lnTo>
                    <a:lnTo>
                      <a:pt x="1350" y="1814"/>
                    </a:lnTo>
                    <a:lnTo>
                      <a:pt x="1339" y="1837"/>
                    </a:lnTo>
                    <a:lnTo>
                      <a:pt x="1328" y="1859"/>
                    </a:lnTo>
                    <a:lnTo>
                      <a:pt x="1316" y="1880"/>
                    </a:lnTo>
                    <a:lnTo>
                      <a:pt x="1304" y="1901"/>
                    </a:lnTo>
                    <a:lnTo>
                      <a:pt x="1292" y="1922"/>
                    </a:lnTo>
                    <a:lnTo>
                      <a:pt x="1280" y="1942"/>
                    </a:lnTo>
                    <a:lnTo>
                      <a:pt x="1268" y="1961"/>
                    </a:lnTo>
                    <a:lnTo>
                      <a:pt x="1256" y="1979"/>
                    </a:lnTo>
                    <a:lnTo>
                      <a:pt x="1243" y="1998"/>
                    </a:lnTo>
                    <a:lnTo>
                      <a:pt x="1230" y="2016"/>
                    </a:lnTo>
                    <a:lnTo>
                      <a:pt x="1215" y="2033"/>
                    </a:lnTo>
                    <a:lnTo>
                      <a:pt x="1200" y="2050"/>
                    </a:lnTo>
                    <a:lnTo>
                      <a:pt x="1184" y="2065"/>
                    </a:lnTo>
                    <a:lnTo>
                      <a:pt x="1167" y="2081"/>
                    </a:lnTo>
                    <a:lnTo>
                      <a:pt x="1151" y="2095"/>
                    </a:lnTo>
                    <a:lnTo>
                      <a:pt x="1133" y="2108"/>
                    </a:lnTo>
                    <a:lnTo>
                      <a:pt x="1113" y="2121"/>
                    </a:lnTo>
                    <a:lnTo>
                      <a:pt x="1095" y="2135"/>
                    </a:lnTo>
                    <a:lnTo>
                      <a:pt x="1075" y="2145"/>
                    </a:lnTo>
                    <a:lnTo>
                      <a:pt x="1056" y="2156"/>
                    </a:lnTo>
                    <a:lnTo>
                      <a:pt x="1035" y="2167"/>
                    </a:lnTo>
                    <a:lnTo>
                      <a:pt x="1020" y="2174"/>
                    </a:lnTo>
                    <a:lnTo>
                      <a:pt x="1004" y="2180"/>
                    </a:lnTo>
                    <a:lnTo>
                      <a:pt x="987" y="2185"/>
                    </a:lnTo>
                    <a:lnTo>
                      <a:pt x="971" y="2190"/>
                    </a:lnTo>
                    <a:lnTo>
                      <a:pt x="955" y="2193"/>
                    </a:lnTo>
                    <a:lnTo>
                      <a:pt x="937" y="2197"/>
                    </a:lnTo>
                    <a:lnTo>
                      <a:pt x="920" y="2201"/>
                    </a:lnTo>
                    <a:lnTo>
                      <a:pt x="903" y="2203"/>
                    </a:lnTo>
                    <a:lnTo>
                      <a:pt x="897" y="2203"/>
                    </a:lnTo>
                    <a:lnTo>
                      <a:pt x="890" y="2203"/>
                    </a:lnTo>
                    <a:lnTo>
                      <a:pt x="884" y="2203"/>
                    </a:lnTo>
                    <a:lnTo>
                      <a:pt x="877" y="2203"/>
                    </a:lnTo>
                    <a:lnTo>
                      <a:pt x="871" y="2201"/>
                    </a:lnTo>
                    <a:lnTo>
                      <a:pt x="865" y="2198"/>
                    </a:lnTo>
                    <a:lnTo>
                      <a:pt x="860" y="2195"/>
                    </a:lnTo>
                    <a:lnTo>
                      <a:pt x="857" y="2191"/>
                    </a:lnTo>
                    <a:lnTo>
                      <a:pt x="853" y="2185"/>
                    </a:lnTo>
                    <a:lnTo>
                      <a:pt x="852" y="2179"/>
                    </a:lnTo>
                    <a:lnTo>
                      <a:pt x="851" y="2173"/>
                    </a:lnTo>
                    <a:lnTo>
                      <a:pt x="852" y="2167"/>
                    </a:lnTo>
                    <a:lnTo>
                      <a:pt x="853" y="2160"/>
                    </a:lnTo>
                    <a:lnTo>
                      <a:pt x="855" y="2154"/>
                    </a:lnTo>
                    <a:lnTo>
                      <a:pt x="858" y="2148"/>
                    </a:lnTo>
                    <a:lnTo>
                      <a:pt x="861" y="2143"/>
                    </a:lnTo>
                    <a:lnTo>
                      <a:pt x="875" y="2130"/>
                    </a:lnTo>
                    <a:lnTo>
                      <a:pt x="888" y="2117"/>
                    </a:lnTo>
                    <a:lnTo>
                      <a:pt x="902" y="2105"/>
                    </a:lnTo>
                    <a:lnTo>
                      <a:pt x="917" y="2094"/>
                    </a:lnTo>
                    <a:lnTo>
                      <a:pt x="932" y="2082"/>
                    </a:lnTo>
                    <a:lnTo>
                      <a:pt x="947" y="2071"/>
                    </a:lnTo>
                    <a:lnTo>
                      <a:pt x="961" y="2059"/>
                    </a:lnTo>
                    <a:lnTo>
                      <a:pt x="975" y="2047"/>
                    </a:lnTo>
                    <a:lnTo>
                      <a:pt x="992" y="2033"/>
                    </a:lnTo>
                    <a:lnTo>
                      <a:pt x="1009" y="2020"/>
                    </a:lnTo>
                    <a:lnTo>
                      <a:pt x="1026" y="2005"/>
                    </a:lnTo>
                    <a:lnTo>
                      <a:pt x="1041" y="1991"/>
                    </a:lnTo>
                    <a:lnTo>
                      <a:pt x="1058" y="1976"/>
                    </a:lnTo>
                    <a:lnTo>
                      <a:pt x="1074" y="1961"/>
                    </a:lnTo>
                    <a:lnTo>
                      <a:pt x="1088" y="1945"/>
                    </a:lnTo>
                    <a:lnTo>
                      <a:pt x="1101" y="1928"/>
                    </a:lnTo>
                    <a:lnTo>
                      <a:pt x="1113" y="1910"/>
                    </a:lnTo>
                    <a:lnTo>
                      <a:pt x="1125" y="1891"/>
                    </a:lnTo>
                    <a:lnTo>
                      <a:pt x="1136" y="1871"/>
                    </a:lnTo>
                    <a:lnTo>
                      <a:pt x="1146" y="1852"/>
                    </a:lnTo>
                    <a:lnTo>
                      <a:pt x="1154" y="1831"/>
                    </a:lnTo>
                    <a:lnTo>
                      <a:pt x="1161" y="1810"/>
                    </a:lnTo>
                    <a:lnTo>
                      <a:pt x="1169" y="1788"/>
                    </a:lnTo>
                    <a:lnTo>
                      <a:pt x="1172" y="1766"/>
                    </a:lnTo>
                    <a:lnTo>
                      <a:pt x="1173" y="1757"/>
                    </a:lnTo>
                    <a:lnTo>
                      <a:pt x="1173" y="1747"/>
                    </a:lnTo>
                    <a:lnTo>
                      <a:pt x="1171" y="1738"/>
                    </a:lnTo>
                    <a:lnTo>
                      <a:pt x="1167" y="1727"/>
                    </a:lnTo>
                    <a:lnTo>
                      <a:pt x="1163" y="1718"/>
                    </a:lnTo>
                    <a:lnTo>
                      <a:pt x="1157" y="1709"/>
                    </a:lnTo>
                    <a:lnTo>
                      <a:pt x="1151" y="1702"/>
                    </a:lnTo>
                    <a:lnTo>
                      <a:pt x="1143" y="1696"/>
                    </a:lnTo>
                    <a:lnTo>
                      <a:pt x="1137" y="1692"/>
                    </a:lnTo>
                    <a:lnTo>
                      <a:pt x="1130" y="1691"/>
                    </a:lnTo>
                    <a:lnTo>
                      <a:pt x="1123" y="1692"/>
                    </a:lnTo>
                    <a:lnTo>
                      <a:pt x="1116" y="1693"/>
                    </a:lnTo>
                    <a:lnTo>
                      <a:pt x="1109" y="1696"/>
                    </a:lnTo>
                    <a:lnTo>
                      <a:pt x="1101" y="1699"/>
                    </a:lnTo>
                    <a:lnTo>
                      <a:pt x="1095" y="1703"/>
                    </a:lnTo>
                    <a:lnTo>
                      <a:pt x="1089" y="1708"/>
                    </a:lnTo>
                    <a:lnTo>
                      <a:pt x="1083" y="1712"/>
                    </a:lnTo>
                    <a:lnTo>
                      <a:pt x="1079" y="1720"/>
                    </a:lnTo>
                    <a:lnTo>
                      <a:pt x="1075" y="1727"/>
                    </a:lnTo>
                    <a:lnTo>
                      <a:pt x="1071" y="1734"/>
                    </a:lnTo>
                    <a:lnTo>
                      <a:pt x="1068" y="1742"/>
                    </a:lnTo>
                    <a:lnTo>
                      <a:pt x="1064" y="1750"/>
                    </a:lnTo>
                    <a:lnTo>
                      <a:pt x="1059" y="1756"/>
                    </a:lnTo>
                    <a:lnTo>
                      <a:pt x="1053" y="1762"/>
                    </a:lnTo>
                    <a:lnTo>
                      <a:pt x="1041" y="1769"/>
                    </a:lnTo>
                    <a:lnTo>
                      <a:pt x="1029" y="1776"/>
                    </a:lnTo>
                    <a:lnTo>
                      <a:pt x="1017" y="1783"/>
                    </a:lnTo>
                    <a:lnTo>
                      <a:pt x="1005" y="1789"/>
                    </a:lnTo>
                    <a:lnTo>
                      <a:pt x="992" y="1794"/>
                    </a:lnTo>
                    <a:lnTo>
                      <a:pt x="979" y="1798"/>
                    </a:lnTo>
                    <a:lnTo>
                      <a:pt x="966" y="1801"/>
                    </a:lnTo>
                    <a:lnTo>
                      <a:pt x="951" y="1802"/>
                    </a:lnTo>
                    <a:lnTo>
                      <a:pt x="942" y="1804"/>
                    </a:lnTo>
                    <a:lnTo>
                      <a:pt x="931" y="1802"/>
                    </a:lnTo>
                    <a:lnTo>
                      <a:pt x="920" y="1800"/>
                    </a:lnTo>
                    <a:lnTo>
                      <a:pt x="909" y="1798"/>
                    </a:lnTo>
                    <a:lnTo>
                      <a:pt x="900" y="1794"/>
                    </a:lnTo>
                    <a:lnTo>
                      <a:pt x="891" y="1788"/>
                    </a:lnTo>
                    <a:lnTo>
                      <a:pt x="888" y="1784"/>
                    </a:lnTo>
                    <a:lnTo>
                      <a:pt x="884" y="1781"/>
                    </a:lnTo>
                    <a:lnTo>
                      <a:pt x="882" y="1777"/>
                    </a:lnTo>
                    <a:lnTo>
                      <a:pt x="879" y="1772"/>
                    </a:lnTo>
                    <a:lnTo>
                      <a:pt x="877" y="1765"/>
                    </a:lnTo>
                    <a:lnTo>
                      <a:pt x="876" y="1758"/>
                    </a:lnTo>
                    <a:lnTo>
                      <a:pt x="875" y="1751"/>
                    </a:lnTo>
                    <a:lnTo>
                      <a:pt x="875" y="1742"/>
                    </a:lnTo>
                    <a:lnTo>
                      <a:pt x="876" y="1727"/>
                    </a:lnTo>
                    <a:lnTo>
                      <a:pt x="879" y="1711"/>
                    </a:lnTo>
                    <a:lnTo>
                      <a:pt x="883" y="1696"/>
                    </a:lnTo>
                    <a:lnTo>
                      <a:pt x="887" y="1679"/>
                    </a:lnTo>
                    <a:lnTo>
                      <a:pt x="890" y="1663"/>
                    </a:lnTo>
                    <a:lnTo>
                      <a:pt x="891" y="1648"/>
                    </a:lnTo>
                    <a:lnTo>
                      <a:pt x="894" y="1637"/>
                    </a:lnTo>
                    <a:lnTo>
                      <a:pt x="895" y="1625"/>
                    </a:lnTo>
                    <a:lnTo>
                      <a:pt x="899" y="1613"/>
                    </a:lnTo>
                    <a:lnTo>
                      <a:pt x="900" y="1602"/>
                    </a:lnTo>
                    <a:lnTo>
                      <a:pt x="902" y="1590"/>
                    </a:lnTo>
                    <a:lnTo>
                      <a:pt x="902" y="1579"/>
                    </a:lnTo>
                    <a:lnTo>
                      <a:pt x="901" y="1568"/>
                    </a:lnTo>
                    <a:lnTo>
                      <a:pt x="897" y="1558"/>
                    </a:lnTo>
                    <a:lnTo>
                      <a:pt x="894" y="1553"/>
                    </a:lnTo>
                    <a:lnTo>
                      <a:pt x="889" y="1548"/>
                    </a:lnTo>
                    <a:lnTo>
                      <a:pt x="883" y="1544"/>
                    </a:lnTo>
                    <a:lnTo>
                      <a:pt x="875" y="1542"/>
                    </a:lnTo>
                    <a:lnTo>
                      <a:pt x="867" y="1541"/>
                    </a:lnTo>
                    <a:lnTo>
                      <a:pt x="859" y="1541"/>
                    </a:lnTo>
                    <a:lnTo>
                      <a:pt x="852" y="1540"/>
                    </a:lnTo>
                    <a:lnTo>
                      <a:pt x="845" y="1540"/>
                    </a:lnTo>
                    <a:lnTo>
                      <a:pt x="828" y="1541"/>
                    </a:lnTo>
                    <a:lnTo>
                      <a:pt x="811" y="1543"/>
                    </a:lnTo>
                    <a:lnTo>
                      <a:pt x="794" y="1547"/>
                    </a:lnTo>
                    <a:lnTo>
                      <a:pt x="779" y="1550"/>
                    </a:lnTo>
                    <a:lnTo>
                      <a:pt x="762" y="1554"/>
                    </a:lnTo>
                    <a:lnTo>
                      <a:pt x="745" y="1556"/>
                    </a:lnTo>
                    <a:lnTo>
                      <a:pt x="729" y="1559"/>
                    </a:lnTo>
                    <a:lnTo>
                      <a:pt x="713" y="1558"/>
                    </a:lnTo>
                    <a:lnTo>
                      <a:pt x="698" y="1556"/>
                    </a:lnTo>
                    <a:lnTo>
                      <a:pt x="684" y="1554"/>
                    </a:lnTo>
                    <a:lnTo>
                      <a:pt x="671" y="1550"/>
                    </a:lnTo>
                    <a:lnTo>
                      <a:pt x="656" y="1547"/>
                    </a:lnTo>
                    <a:lnTo>
                      <a:pt x="643" y="1542"/>
                    </a:lnTo>
                    <a:lnTo>
                      <a:pt x="630" y="1536"/>
                    </a:lnTo>
                    <a:lnTo>
                      <a:pt x="617" y="1530"/>
                    </a:lnTo>
                    <a:lnTo>
                      <a:pt x="605" y="1522"/>
                    </a:lnTo>
                    <a:lnTo>
                      <a:pt x="596" y="1516"/>
                    </a:lnTo>
                    <a:lnTo>
                      <a:pt x="589" y="1507"/>
                    </a:lnTo>
                    <a:lnTo>
                      <a:pt x="583" y="1498"/>
                    </a:lnTo>
                    <a:lnTo>
                      <a:pt x="577" y="1487"/>
                    </a:lnTo>
                    <a:lnTo>
                      <a:pt x="572" y="1477"/>
                    </a:lnTo>
                    <a:lnTo>
                      <a:pt x="566" y="1468"/>
                    </a:lnTo>
                    <a:lnTo>
                      <a:pt x="559" y="1458"/>
                    </a:lnTo>
                    <a:lnTo>
                      <a:pt x="552" y="1451"/>
                    </a:lnTo>
                    <a:lnTo>
                      <a:pt x="545" y="1446"/>
                    </a:lnTo>
                    <a:lnTo>
                      <a:pt x="537" y="1441"/>
                    </a:lnTo>
                    <a:lnTo>
                      <a:pt x="530" y="1438"/>
                    </a:lnTo>
                    <a:lnTo>
                      <a:pt x="523" y="1434"/>
                    </a:lnTo>
                    <a:lnTo>
                      <a:pt x="516" y="1432"/>
                    </a:lnTo>
                    <a:lnTo>
                      <a:pt x="507" y="1429"/>
                    </a:lnTo>
                    <a:lnTo>
                      <a:pt x="499" y="1428"/>
                    </a:lnTo>
                    <a:lnTo>
                      <a:pt x="492" y="1427"/>
                    </a:lnTo>
                    <a:lnTo>
                      <a:pt x="473" y="1426"/>
                    </a:lnTo>
                    <a:lnTo>
                      <a:pt x="452" y="1426"/>
                    </a:lnTo>
                    <a:lnTo>
                      <a:pt x="433" y="1426"/>
                    </a:lnTo>
                    <a:lnTo>
                      <a:pt x="414" y="1427"/>
                    </a:lnTo>
                    <a:lnTo>
                      <a:pt x="395" y="1429"/>
                    </a:lnTo>
                    <a:lnTo>
                      <a:pt x="375" y="1430"/>
                    </a:lnTo>
                    <a:lnTo>
                      <a:pt x="355" y="1432"/>
                    </a:lnTo>
                    <a:lnTo>
                      <a:pt x="336" y="1433"/>
                    </a:lnTo>
                    <a:lnTo>
                      <a:pt x="314" y="1434"/>
                    </a:lnTo>
                    <a:lnTo>
                      <a:pt x="293" y="1435"/>
                    </a:lnTo>
                    <a:lnTo>
                      <a:pt x="271" y="1438"/>
                    </a:lnTo>
                    <a:lnTo>
                      <a:pt x="249" y="1440"/>
                    </a:lnTo>
                    <a:lnTo>
                      <a:pt x="228" y="1441"/>
                    </a:lnTo>
                    <a:lnTo>
                      <a:pt x="206" y="1441"/>
                    </a:lnTo>
                    <a:lnTo>
                      <a:pt x="185" y="1441"/>
                    </a:lnTo>
                    <a:lnTo>
                      <a:pt x="163" y="1439"/>
                    </a:lnTo>
                    <a:lnTo>
                      <a:pt x="152" y="1436"/>
                    </a:lnTo>
                    <a:lnTo>
                      <a:pt x="141" y="1433"/>
                    </a:lnTo>
                    <a:lnTo>
                      <a:pt x="132" y="1428"/>
                    </a:lnTo>
                    <a:lnTo>
                      <a:pt x="122" y="1423"/>
                    </a:lnTo>
                    <a:lnTo>
                      <a:pt x="113" y="1417"/>
                    </a:lnTo>
                    <a:lnTo>
                      <a:pt x="103" y="1410"/>
                    </a:lnTo>
                    <a:lnTo>
                      <a:pt x="95" y="1404"/>
                    </a:lnTo>
                    <a:lnTo>
                      <a:pt x="85" y="1397"/>
                    </a:lnTo>
                    <a:lnTo>
                      <a:pt x="77" y="1391"/>
                    </a:lnTo>
                    <a:lnTo>
                      <a:pt x="68" y="1384"/>
                    </a:lnTo>
                    <a:lnTo>
                      <a:pt x="59" y="1378"/>
                    </a:lnTo>
                    <a:lnTo>
                      <a:pt x="51" y="1370"/>
                    </a:lnTo>
                    <a:lnTo>
                      <a:pt x="43" y="1363"/>
                    </a:lnTo>
                    <a:lnTo>
                      <a:pt x="36" y="1355"/>
                    </a:lnTo>
                    <a:lnTo>
                      <a:pt x="30" y="1347"/>
                    </a:lnTo>
                    <a:lnTo>
                      <a:pt x="25" y="1337"/>
                    </a:lnTo>
                    <a:lnTo>
                      <a:pt x="24" y="1331"/>
                    </a:lnTo>
                    <a:lnTo>
                      <a:pt x="21" y="1323"/>
                    </a:lnTo>
                    <a:lnTo>
                      <a:pt x="21" y="1315"/>
                    </a:lnTo>
                    <a:lnTo>
                      <a:pt x="23" y="1307"/>
                    </a:lnTo>
                    <a:lnTo>
                      <a:pt x="25" y="1300"/>
                    </a:lnTo>
                    <a:lnTo>
                      <a:pt x="27" y="1294"/>
                    </a:lnTo>
                    <a:lnTo>
                      <a:pt x="32" y="1288"/>
                    </a:lnTo>
                    <a:lnTo>
                      <a:pt x="37" y="1283"/>
                    </a:lnTo>
                    <a:lnTo>
                      <a:pt x="51" y="1277"/>
                    </a:lnTo>
                    <a:lnTo>
                      <a:pt x="66" y="1273"/>
                    </a:lnTo>
                    <a:lnTo>
                      <a:pt x="80" y="1270"/>
                    </a:lnTo>
                    <a:lnTo>
                      <a:pt x="96" y="1267"/>
                    </a:lnTo>
                    <a:lnTo>
                      <a:pt x="110" y="1267"/>
                    </a:lnTo>
                    <a:lnTo>
                      <a:pt x="126" y="1266"/>
                    </a:lnTo>
                    <a:lnTo>
                      <a:pt x="141" y="1266"/>
                    </a:lnTo>
                    <a:lnTo>
                      <a:pt x="157" y="1266"/>
                    </a:lnTo>
                    <a:lnTo>
                      <a:pt x="182" y="1265"/>
                    </a:lnTo>
                    <a:lnTo>
                      <a:pt x="207" y="1266"/>
                    </a:lnTo>
                    <a:lnTo>
                      <a:pt x="233" y="1267"/>
                    </a:lnTo>
                    <a:lnTo>
                      <a:pt x="259" y="1270"/>
                    </a:lnTo>
                    <a:lnTo>
                      <a:pt x="284" y="1271"/>
                    </a:lnTo>
                    <a:lnTo>
                      <a:pt x="309" y="1272"/>
                    </a:lnTo>
                    <a:lnTo>
                      <a:pt x="335" y="1272"/>
                    </a:lnTo>
                    <a:lnTo>
                      <a:pt x="360" y="1272"/>
                    </a:lnTo>
                    <a:lnTo>
                      <a:pt x="375" y="1270"/>
                    </a:lnTo>
                    <a:lnTo>
                      <a:pt x="390" y="1267"/>
                    </a:lnTo>
                    <a:lnTo>
                      <a:pt x="405" y="1264"/>
                    </a:lnTo>
                    <a:lnTo>
                      <a:pt x="420" y="1259"/>
                    </a:lnTo>
                    <a:lnTo>
                      <a:pt x="435" y="1254"/>
                    </a:lnTo>
                    <a:lnTo>
                      <a:pt x="450" y="1251"/>
                    </a:lnTo>
                    <a:lnTo>
                      <a:pt x="464" y="1246"/>
                    </a:lnTo>
                    <a:lnTo>
                      <a:pt x="480" y="1242"/>
                    </a:lnTo>
                    <a:lnTo>
                      <a:pt x="489" y="1239"/>
                    </a:lnTo>
                    <a:lnTo>
                      <a:pt x="499" y="1236"/>
                    </a:lnTo>
                    <a:lnTo>
                      <a:pt x="509" y="1233"/>
                    </a:lnTo>
                    <a:lnTo>
                      <a:pt x="518" y="1229"/>
                    </a:lnTo>
                    <a:lnTo>
                      <a:pt x="528" y="1225"/>
                    </a:lnTo>
                    <a:lnTo>
                      <a:pt x="537" y="1224"/>
                    </a:lnTo>
                    <a:lnTo>
                      <a:pt x="547" y="1223"/>
                    </a:lnTo>
                    <a:lnTo>
                      <a:pt x="558" y="1224"/>
                    </a:lnTo>
                    <a:lnTo>
                      <a:pt x="576" y="1228"/>
                    </a:lnTo>
                    <a:lnTo>
                      <a:pt x="595" y="1234"/>
                    </a:lnTo>
                    <a:lnTo>
                      <a:pt x="613" y="1241"/>
                    </a:lnTo>
                    <a:lnTo>
                      <a:pt x="631" y="1249"/>
                    </a:lnTo>
                    <a:lnTo>
                      <a:pt x="648" y="1258"/>
                    </a:lnTo>
                    <a:lnTo>
                      <a:pt x="666" y="1266"/>
                    </a:lnTo>
                    <a:lnTo>
                      <a:pt x="683" y="1275"/>
                    </a:lnTo>
                    <a:lnTo>
                      <a:pt x="701" y="1283"/>
                    </a:lnTo>
                    <a:lnTo>
                      <a:pt x="715" y="1291"/>
                    </a:lnTo>
                    <a:lnTo>
                      <a:pt x="729" y="1300"/>
                    </a:lnTo>
                    <a:lnTo>
                      <a:pt x="743" y="1309"/>
                    </a:lnTo>
                    <a:lnTo>
                      <a:pt x="757" y="1318"/>
                    </a:lnTo>
                    <a:lnTo>
                      <a:pt x="770" y="1327"/>
                    </a:lnTo>
                    <a:lnTo>
                      <a:pt x="785" y="1336"/>
                    </a:lnTo>
                    <a:lnTo>
                      <a:pt x="799" y="1343"/>
                    </a:lnTo>
                    <a:lnTo>
                      <a:pt x="815" y="1349"/>
                    </a:lnTo>
                    <a:lnTo>
                      <a:pt x="827" y="1354"/>
                    </a:lnTo>
                    <a:lnTo>
                      <a:pt x="840" y="1359"/>
                    </a:lnTo>
                    <a:lnTo>
                      <a:pt x="852" y="1362"/>
                    </a:lnTo>
                    <a:lnTo>
                      <a:pt x="865" y="1366"/>
                    </a:lnTo>
                    <a:lnTo>
                      <a:pt x="878" y="1367"/>
                    </a:lnTo>
                    <a:lnTo>
                      <a:pt x="891" y="1367"/>
                    </a:lnTo>
                    <a:lnTo>
                      <a:pt x="897" y="1367"/>
                    </a:lnTo>
                    <a:lnTo>
                      <a:pt x="903" y="1366"/>
                    </a:lnTo>
                    <a:lnTo>
                      <a:pt x="909" y="1363"/>
                    </a:lnTo>
                    <a:lnTo>
                      <a:pt x="915" y="1361"/>
                    </a:lnTo>
                    <a:lnTo>
                      <a:pt x="920" y="1359"/>
                    </a:lnTo>
                    <a:lnTo>
                      <a:pt x="924" y="1355"/>
                    </a:lnTo>
                    <a:lnTo>
                      <a:pt x="927" y="1351"/>
                    </a:lnTo>
                    <a:lnTo>
                      <a:pt x="931" y="1348"/>
                    </a:lnTo>
                    <a:lnTo>
                      <a:pt x="936" y="1338"/>
                    </a:lnTo>
                    <a:lnTo>
                      <a:pt x="941" y="1329"/>
                    </a:lnTo>
                    <a:lnTo>
                      <a:pt x="943" y="1317"/>
                    </a:lnTo>
                    <a:lnTo>
                      <a:pt x="945" y="1306"/>
                    </a:lnTo>
                    <a:lnTo>
                      <a:pt x="945" y="1294"/>
                    </a:lnTo>
                    <a:lnTo>
                      <a:pt x="945" y="1283"/>
                    </a:lnTo>
                    <a:lnTo>
                      <a:pt x="944" y="1272"/>
                    </a:lnTo>
                    <a:lnTo>
                      <a:pt x="942" y="1261"/>
                    </a:lnTo>
                    <a:lnTo>
                      <a:pt x="938" y="1251"/>
                    </a:lnTo>
                    <a:lnTo>
                      <a:pt x="933" y="1240"/>
                    </a:lnTo>
                    <a:lnTo>
                      <a:pt x="929" y="1229"/>
                    </a:lnTo>
                    <a:lnTo>
                      <a:pt x="923" y="1219"/>
                    </a:lnTo>
                    <a:lnTo>
                      <a:pt x="917" y="1210"/>
                    </a:lnTo>
                    <a:lnTo>
                      <a:pt x="909" y="1200"/>
                    </a:lnTo>
                    <a:lnTo>
                      <a:pt x="897" y="1183"/>
                    </a:lnTo>
                    <a:lnTo>
                      <a:pt x="885" y="1167"/>
                    </a:lnTo>
                    <a:lnTo>
                      <a:pt x="873" y="1150"/>
                    </a:lnTo>
                    <a:lnTo>
                      <a:pt x="860" y="1134"/>
                    </a:lnTo>
                    <a:lnTo>
                      <a:pt x="846" y="1119"/>
                    </a:lnTo>
                    <a:lnTo>
                      <a:pt x="833" y="1103"/>
                    </a:lnTo>
                    <a:lnTo>
                      <a:pt x="817" y="1089"/>
                    </a:lnTo>
                    <a:lnTo>
                      <a:pt x="803" y="1074"/>
                    </a:lnTo>
                    <a:lnTo>
                      <a:pt x="783" y="1059"/>
                    </a:lnTo>
                    <a:lnTo>
                      <a:pt x="764" y="1044"/>
                    </a:lnTo>
                    <a:lnTo>
                      <a:pt x="745" y="1030"/>
                    </a:lnTo>
                    <a:lnTo>
                      <a:pt x="725" y="1017"/>
                    </a:lnTo>
                    <a:lnTo>
                      <a:pt x="704" y="1003"/>
                    </a:lnTo>
                    <a:lnTo>
                      <a:pt x="684" y="990"/>
                    </a:lnTo>
                    <a:lnTo>
                      <a:pt x="662" y="978"/>
                    </a:lnTo>
                    <a:lnTo>
                      <a:pt x="641" y="967"/>
                    </a:lnTo>
                    <a:lnTo>
                      <a:pt x="625" y="960"/>
                    </a:lnTo>
                    <a:lnTo>
                      <a:pt x="609" y="953"/>
                    </a:lnTo>
                    <a:lnTo>
                      <a:pt x="593" y="947"/>
                    </a:lnTo>
                    <a:lnTo>
                      <a:pt x="577" y="942"/>
                    </a:lnTo>
                    <a:lnTo>
                      <a:pt x="560" y="937"/>
                    </a:lnTo>
                    <a:lnTo>
                      <a:pt x="543" y="934"/>
                    </a:lnTo>
                    <a:lnTo>
                      <a:pt x="527" y="929"/>
                    </a:lnTo>
                    <a:lnTo>
                      <a:pt x="510" y="925"/>
                    </a:lnTo>
                    <a:lnTo>
                      <a:pt x="494" y="922"/>
                    </a:lnTo>
                    <a:lnTo>
                      <a:pt x="480" y="918"/>
                    </a:lnTo>
                    <a:lnTo>
                      <a:pt x="465" y="916"/>
                    </a:lnTo>
                    <a:lnTo>
                      <a:pt x="450" y="913"/>
                    </a:lnTo>
                    <a:lnTo>
                      <a:pt x="435" y="911"/>
                    </a:lnTo>
                    <a:lnTo>
                      <a:pt x="420" y="909"/>
                    </a:lnTo>
                    <a:lnTo>
                      <a:pt x="405" y="907"/>
                    </a:lnTo>
                    <a:lnTo>
                      <a:pt x="390" y="907"/>
                    </a:lnTo>
                    <a:lnTo>
                      <a:pt x="380" y="907"/>
                    </a:lnTo>
                    <a:lnTo>
                      <a:pt x="369" y="909"/>
                    </a:lnTo>
                    <a:lnTo>
                      <a:pt x="360" y="910"/>
                    </a:lnTo>
                    <a:lnTo>
                      <a:pt x="350" y="912"/>
                    </a:lnTo>
                    <a:lnTo>
                      <a:pt x="341" y="915"/>
                    </a:lnTo>
                    <a:lnTo>
                      <a:pt x="331" y="917"/>
                    </a:lnTo>
                    <a:lnTo>
                      <a:pt x="321" y="921"/>
                    </a:lnTo>
                    <a:lnTo>
                      <a:pt x="312" y="925"/>
                    </a:lnTo>
                    <a:lnTo>
                      <a:pt x="303" y="930"/>
                    </a:lnTo>
                    <a:lnTo>
                      <a:pt x="295" y="937"/>
                    </a:lnTo>
                    <a:lnTo>
                      <a:pt x="287" y="945"/>
                    </a:lnTo>
                    <a:lnTo>
                      <a:pt x="279" y="952"/>
                    </a:lnTo>
                    <a:lnTo>
                      <a:pt x="271" y="959"/>
                    </a:lnTo>
                    <a:lnTo>
                      <a:pt x="264" y="966"/>
                    </a:lnTo>
                    <a:lnTo>
                      <a:pt x="255" y="973"/>
                    </a:lnTo>
                    <a:lnTo>
                      <a:pt x="247" y="979"/>
                    </a:lnTo>
                    <a:lnTo>
                      <a:pt x="233" y="987"/>
                    </a:lnTo>
                    <a:lnTo>
                      <a:pt x="218" y="994"/>
                    </a:lnTo>
                    <a:lnTo>
                      <a:pt x="203" y="1001"/>
                    </a:lnTo>
                    <a:lnTo>
                      <a:pt x="188" y="1007"/>
                    </a:lnTo>
                    <a:lnTo>
                      <a:pt x="174" y="1013"/>
                    </a:lnTo>
                    <a:lnTo>
                      <a:pt x="158" y="1018"/>
                    </a:lnTo>
                    <a:lnTo>
                      <a:pt x="143" y="1023"/>
                    </a:lnTo>
                    <a:lnTo>
                      <a:pt x="127" y="1027"/>
                    </a:lnTo>
                    <a:lnTo>
                      <a:pt x="121" y="1027"/>
                    </a:lnTo>
                    <a:lnTo>
                      <a:pt x="115" y="1029"/>
                    </a:lnTo>
                    <a:lnTo>
                      <a:pt x="109" y="1027"/>
                    </a:lnTo>
                    <a:lnTo>
                      <a:pt x="103" y="1027"/>
                    </a:lnTo>
                    <a:lnTo>
                      <a:pt x="98" y="1025"/>
                    </a:lnTo>
                    <a:lnTo>
                      <a:pt x="92" y="1023"/>
                    </a:lnTo>
                    <a:lnTo>
                      <a:pt x="89" y="1019"/>
                    </a:lnTo>
                    <a:lnTo>
                      <a:pt x="85" y="1015"/>
                    </a:lnTo>
                    <a:lnTo>
                      <a:pt x="81" y="1007"/>
                    </a:lnTo>
                    <a:lnTo>
                      <a:pt x="79" y="999"/>
                    </a:lnTo>
                    <a:lnTo>
                      <a:pt x="78" y="990"/>
                    </a:lnTo>
                    <a:lnTo>
                      <a:pt x="77" y="982"/>
                    </a:lnTo>
                    <a:lnTo>
                      <a:pt x="77" y="973"/>
                    </a:lnTo>
                    <a:lnTo>
                      <a:pt x="79" y="965"/>
                    </a:lnTo>
                    <a:lnTo>
                      <a:pt x="81" y="957"/>
                    </a:lnTo>
                    <a:lnTo>
                      <a:pt x="85" y="949"/>
                    </a:lnTo>
                    <a:lnTo>
                      <a:pt x="97" y="933"/>
                    </a:lnTo>
                    <a:lnTo>
                      <a:pt x="110" y="917"/>
                    </a:lnTo>
                    <a:lnTo>
                      <a:pt x="125" y="901"/>
                    </a:lnTo>
                    <a:lnTo>
                      <a:pt x="139" y="887"/>
                    </a:lnTo>
                    <a:lnTo>
                      <a:pt x="155" y="874"/>
                    </a:lnTo>
                    <a:lnTo>
                      <a:pt x="171" y="861"/>
                    </a:lnTo>
                    <a:lnTo>
                      <a:pt x="188" y="847"/>
                    </a:lnTo>
                    <a:lnTo>
                      <a:pt x="205" y="835"/>
                    </a:lnTo>
                    <a:lnTo>
                      <a:pt x="216" y="828"/>
                    </a:lnTo>
                    <a:lnTo>
                      <a:pt x="228" y="821"/>
                    </a:lnTo>
                    <a:lnTo>
                      <a:pt x="241" y="815"/>
                    </a:lnTo>
                    <a:lnTo>
                      <a:pt x="253" y="810"/>
                    </a:lnTo>
                    <a:lnTo>
                      <a:pt x="266" y="804"/>
                    </a:lnTo>
                    <a:lnTo>
                      <a:pt x="279" y="801"/>
                    </a:lnTo>
                    <a:lnTo>
                      <a:pt x="293" y="797"/>
                    </a:lnTo>
                    <a:lnTo>
                      <a:pt x="306" y="795"/>
                    </a:lnTo>
                    <a:lnTo>
                      <a:pt x="324" y="791"/>
                    </a:lnTo>
                    <a:lnTo>
                      <a:pt x="342" y="790"/>
                    </a:lnTo>
                    <a:lnTo>
                      <a:pt x="360" y="789"/>
                    </a:lnTo>
                    <a:lnTo>
                      <a:pt x="378" y="787"/>
                    </a:lnTo>
                    <a:lnTo>
                      <a:pt x="396" y="787"/>
                    </a:lnTo>
                    <a:lnTo>
                      <a:pt x="414" y="787"/>
                    </a:lnTo>
                    <a:lnTo>
                      <a:pt x="432" y="787"/>
                    </a:lnTo>
                    <a:lnTo>
                      <a:pt x="450" y="789"/>
                    </a:lnTo>
                    <a:lnTo>
                      <a:pt x="475" y="789"/>
                    </a:lnTo>
                    <a:lnTo>
                      <a:pt x="500" y="789"/>
                    </a:lnTo>
                    <a:lnTo>
                      <a:pt x="525" y="789"/>
                    </a:lnTo>
                    <a:lnTo>
                      <a:pt x="552" y="790"/>
                    </a:lnTo>
                    <a:lnTo>
                      <a:pt x="577" y="791"/>
                    </a:lnTo>
                    <a:lnTo>
                      <a:pt x="602" y="792"/>
                    </a:lnTo>
                    <a:lnTo>
                      <a:pt x="627" y="792"/>
                    </a:lnTo>
                    <a:lnTo>
                      <a:pt x="653" y="795"/>
                    </a:lnTo>
                    <a:lnTo>
                      <a:pt x="672" y="796"/>
                    </a:lnTo>
                    <a:lnTo>
                      <a:pt x="690" y="797"/>
                    </a:lnTo>
                    <a:lnTo>
                      <a:pt x="709" y="799"/>
                    </a:lnTo>
                    <a:lnTo>
                      <a:pt x="727" y="801"/>
                    </a:lnTo>
                    <a:lnTo>
                      <a:pt x="746" y="803"/>
                    </a:lnTo>
                    <a:lnTo>
                      <a:pt x="765" y="804"/>
                    </a:lnTo>
                    <a:lnTo>
                      <a:pt x="783" y="805"/>
                    </a:lnTo>
                    <a:lnTo>
                      <a:pt x="803" y="805"/>
                    </a:lnTo>
                    <a:lnTo>
                      <a:pt x="813" y="807"/>
                    </a:lnTo>
                    <a:lnTo>
                      <a:pt x="824" y="807"/>
                    </a:lnTo>
                    <a:lnTo>
                      <a:pt x="835" y="807"/>
                    </a:lnTo>
                    <a:lnTo>
                      <a:pt x="847" y="807"/>
                    </a:lnTo>
                    <a:lnTo>
                      <a:pt x="858" y="807"/>
                    </a:lnTo>
                    <a:lnTo>
                      <a:pt x="867" y="804"/>
                    </a:lnTo>
                    <a:lnTo>
                      <a:pt x="877" y="799"/>
                    </a:lnTo>
                    <a:lnTo>
                      <a:pt x="885" y="795"/>
                    </a:lnTo>
                    <a:close/>
                  </a:path>
                </a:pathLst>
              </a:custGeom>
              <a:solidFill>
                <a:srgbClr val="c78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462720" y="3889440"/>
                <a:ext cx="1020240" cy="879480"/>
              </a:xfrm>
              <a:custGeom>
                <a:avLst/>
                <a:gdLst/>
                <a:ahLst/>
                <a:rect l="l" t="t" r="r" b="b"/>
                <a:pathLst>
                  <a:path w="2572" h="2213">
                    <a:moveTo>
                      <a:pt x="880" y="788"/>
                    </a:moveTo>
                    <a:lnTo>
                      <a:pt x="888" y="778"/>
                    </a:lnTo>
                    <a:lnTo>
                      <a:pt x="894" y="769"/>
                    </a:lnTo>
                    <a:lnTo>
                      <a:pt x="899" y="758"/>
                    </a:lnTo>
                    <a:lnTo>
                      <a:pt x="904" y="747"/>
                    </a:lnTo>
                    <a:lnTo>
                      <a:pt x="906" y="735"/>
                    </a:lnTo>
                    <a:lnTo>
                      <a:pt x="909" y="723"/>
                    </a:lnTo>
                    <a:lnTo>
                      <a:pt x="909" y="710"/>
                    </a:lnTo>
                    <a:lnTo>
                      <a:pt x="910" y="698"/>
                    </a:lnTo>
                    <a:lnTo>
                      <a:pt x="909" y="685"/>
                    </a:lnTo>
                    <a:lnTo>
                      <a:pt x="908" y="670"/>
                    </a:lnTo>
                    <a:lnTo>
                      <a:pt x="906" y="656"/>
                    </a:lnTo>
                    <a:lnTo>
                      <a:pt x="903" y="643"/>
                    </a:lnTo>
                    <a:lnTo>
                      <a:pt x="899" y="628"/>
                    </a:lnTo>
                    <a:lnTo>
                      <a:pt x="894" y="615"/>
                    </a:lnTo>
                    <a:lnTo>
                      <a:pt x="887" y="603"/>
                    </a:lnTo>
                    <a:lnTo>
                      <a:pt x="880" y="593"/>
                    </a:lnTo>
                    <a:lnTo>
                      <a:pt x="872" y="583"/>
                    </a:lnTo>
                    <a:lnTo>
                      <a:pt x="862" y="576"/>
                    </a:lnTo>
                    <a:lnTo>
                      <a:pt x="851" y="569"/>
                    </a:lnTo>
                    <a:lnTo>
                      <a:pt x="839" y="564"/>
                    </a:lnTo>
                    <a:lnTo>
                      <a:pt x="827" y="559"/>
                    </a:lnTo>
                    <a:lnTo>
                      <a:pt x="815" y="554"/>
                    </a:lnTo>
                    <a:lnTo>
                      <a:pt x="803" y="549"/>
                    </a:lnTo>
                    <a:lnTo>
                      <a:pt x="791" y="545"/>
                    </a:lnTo>
                    <a:lnTo>
                      <a:pt x="777" y="539"/>
                    </a:lnTo>
                    <a:lnTo>
                      <a:pt x="764" y="531"/>
                    </a:lnTo>
                    <a:lnTo>
                      <a:pt x="749" y="525"/>
                    </a:lnTo>
                    <a:lnTo>
                      <a:pt x="735" y="519"/>
                    </a:lnTo>
                    <a:lnTo>
                      <a:pt x="722" y="513"/>
                    </a:lnTo>
                    <a:lnTo>
                      <a:pt x="707" y="507"/>
                    </a:lnTo>
                    <a:lnTo>
                      <a:pt x="693" y="503"/>
                    </a:lnTo>
                    <a:lnTo>
                      <a:pt x="678" y="498"/>
                    </a:lnTo>
                    <a:lnTo>
                      <a:pt x="662" y="493"/>
                    </a:lnTo>
                    <a:lnTo>
                      <a:pt x="646" y="489"/>
                    </a:lnTo>
                    <a:lnTo>
                      <a:pt x="629" y="486"/>
                    </a:lnTo>
                    <a:lnTo>
                      <a:pt x="612" y="483"/>
                    </a:lnTo>
                    <a:lnTo>
                      <a:pt x="596" y="481"/>
                    </a:lnTo>
                    <a:lnTo>
                      <a:pt x="580" y="477"/>
                    </a:lnTo>
                    <a:lnTo>
                      <a:pt x="563" y="473"/>
                    </a:lnTo>
                    <a:lnTo>
                      <a:pt x="548" y="468"/>
                    </a:lnTo>
                    <a:lnTo>
                      <a:pt x="534" y="462"/>
                    </a:lnTo>
                    <a:lnTo>
                      <a:pt x="522" y="456"/>
                    </a:lnTo>
                    <a:lnTo>
                      <a:pt x="510" y="449"/>
                    </a:lnTo>
                    <a:lnTo>
                      <a:pt x="498" y="441"/>
                    </a:lnTo>
                    <a:lnTo>
                      <a:pt x="486" y="434"/>
                    </a:lnTo>
                    <a:lnTo>
                      <a:pt x="476" y="426"/>
                    </a:lnTo>
                    <a:lnTo>
                      <a:pt x="464" y="417"/>
                    </a:lnTo>
                    <a:lnTo>
                      <a:pt x="453" y="408"/>
                    </a:lnTo>
                    <a:lnTo>
                      <a:pt x="434" y="393"/>
                    </a:lnTo>
                    <a:lnTo>
                      <a:pt x="416" y="377"/>
                    </a:lnTo>
                    <a:lnTo>
                      <a:pt x="396" y="360"/>
                    </a:lnTo>
                    <a:lnTo>
                      <a:pt x="378" y="343"/>
                    </a:lnTo>
                    <a:lnTo>
                      <a:pt x="360" y="326"/>
                    </a:lnTo>
                    <a:lnTo>
                      <a:pt x="342" y="309"/>
                    </a:lnTo>
                    <a:lnTo>
                      <a:pt x="323" y="294"/>
                    </a:lnTo>
                    <a:lnTo>
                      <a:pt x="305" y="278"/>
                    </a:lnTo>
                    <a:lnTo>
                      <a:pt x="287" y="265"/>
                    </a:lnTo>
                    <a:lnTo>
                      <a:pt x="270" y="252"/>
                    </a:lnTo>
                    <a:lnTo>
                      <a:pt x="252" y="239"/>
                    </a:lnTo>
                    <a:lnTo>
                      <a:pt x="236" y="225"/>
                    </a:lnTo>
                    <a:lnTo>
                      <a:pt x="218" y="213"/>
                    </a:lnTo>
                    <a:lnTo>
                      <a:pt x="200" y="200"/>
                    </a:lnTo>
                    <a:lnTo>
                      <a:pt x="180" y="189"/>
                    </a:lnTo>
                    <a:lnTo>
                      <a:pt x="162" y="177"/>
                    </a:lnTo>
                    <a:lnTo>
                      <a:pt x="150" y="170"/>
                    </a:lnTo>
                    <a:lnTo>
                      <a:pt x="137" y="164"/>
                    </a:lnTo>
                    <a:lnTo>
                      <a:pt x="125" y="159"/>
                    </a:lnTo>
                    <a:lnTo>
                      <a:pt x="112" y="155"/>
                    </a:lnTo>
                    <a:lnTo>
                      <a:pt x="99" y="149"/>
                    </a:lnTo>
                    <a:lnTo>
                      <a:pt x="86" y="144"/>
                    </a:lnTo>
                    <a:lnTo>
                      <a:pt x="74" y="137"/>
                    </a:lnTo>
                    <a:lnTo>
                      <a:pt x="62" y="129"/>
                    </a:lnTo>
                    <a:lnTo>
                      <a:pt x="53" y="123"/>
                    </a:lnTo>
                    <a:lnTo>
                      <a:pt x="44" y="117"/>
                    </a:lnTo>
                    <a:lnTo>
                      <a:pt x="35" y="111"/>
                    </a:lnTo>
                    <a:lnTo>
                      <a:pt x="27" y="104"/>
                    </a:lnTo>
                    <a:lnTo>
                      <a:pt x="18" y="97"/>
                    </a:lnTo>
                    <a:lnTo>
                      <a:pt x="11" y="89"/>
                    </a:lnTo>
                    <a:lnTo>
                      <a:pt x="6" y="80"/>
                    </a:lnTo>
                    <a:lnTo>
                      <a:pt x="3" y="71"/>
                    </a:lnTo>
                    <a:lnTo>
                      <a:pt x="0" y="63"/>
                    </a:lnTo>
                    <a:lnTo>
                      <a:pt x="2" y="56"/>
                    </a:lnTo>
                    <a:lnTo>
                      <a:pt x="3" y="48"/>
                    </a:lnTo>
                    <a:lnTo>
                      <a:pt x="5" y="41"/>
                    </a:lnTo>
                    <a:lnTo>
                      <a:pt x="9" y="33"/>
                    </a:lnTo>
                    <a:lnTo>
                      <a:pt x="14" y="27"/>
                    </a:lnTo>
                    <a:lnTo>
                      <a:pt x="20" y="21"/>
                    </a:lnTo>
                    <a:lnTo>
                      <a:pt x="26" y="18"/>
                    </a:lnTo>
                    <a:lnTo>
                      <a:pt x="38" y="12"/>
                    </a:lnTo>
                    <a:lnTo>
                      <a:pt x="50" y="8"/>
                    </a:lnTo>
                    <a:lnTo>
                      <a:pt x="62" y="6"/>
                    </a:lnTo>
                    <a:lnTo>
                      <a:pt x="75" y="5"/>
                    </a:lnTo>
                    <a:lnTo>
                      <a:pt x="88" y="3"/>
                    </a:lnTo>
                    <a:lnTo>
                      <a:pt x="101" y="3"/>
                    </a:lnTo>
                    <a:lnTo>
                      <a:pt x="114" y="5"/>
                    </a:lnTo>
                    <a:lnTo>
                      <a:pt x="126" y="6"/>
                    </a:lnTo>
                    <a:lnTo>
                      <a:pt x="138" y="7"/>
                    </a:lnTo>
                    <a:lnTo>
                      <a:pt x="150" y="9"/>
                    </a:lnTo>
                    <a:lnTo>
                      <a:pt x="161" y="12"/>
                    </a:lnTo>
                    <a:lnTo>
                      <a:pt x="173" y="15"/>
                    </a:lnTo>
                    <a:lnTo>
                      <a:pt x="184" y="19"/>
                    </a:lnTo>
                    <a:lnTo>
                      <a:pt x="195" y="24"/>
                    </a:lnTo>
                    <a:lnTo>
                      <a:pt x="206" y="29"/>
                    </a:lnTo>
                    <a:lnTo>
                      <a:pt x="215" y="35"/>
                    </a:lnTo>
                    <a:lnTo>
                      <a:pt x="230" y="45"/>
                    </a:lnTo>
                    <a:lnTo>
                      <a:pt x="243" y="56"/>
                    </a:lnTo>
                    <a:lnTo>
                      <a:pt x="256" y="68"/>
                    </a:lnTo>
                    <a:lnTo>
                      <a:pt x="268" y="80"/>
                    </a:lnTo>
                    <a:lnTo>
                      <a:pt x="280" y="93"/>
                    </a:lnTo>
                    <a:lnTo>
                      <a:pt x="292" y="105"/>
                    </a:lnTo>
                    <a:lnTo>
                      <a:pt x="304" y="119"/>
                    </a:lnTo>
                    <a:lnTo>
                      <a:pt x="316" y="129"/>
                    </a:lnTo>
                    <a:lnTo>
                      <a:pt x="335" y="146"/>
                    </a:lnTo>
                    <a:lnTo>
                      <a:pt x="353" y="162"/>
                    </a:lnTo>
                    <a:lnTo>
                      <a:pt x="371" y="177"/>
                    </a:lnTo>
                    <a:lnTo>
                      <a:pt x="390" y="193"/>
                    </a:lnTo>
                    <a:lnTo>
                      <a:pt x="408" y="209"/>
                    </a:lnTo>
                    <a:lnTo>
                      <a:pt x="428" y="224"/>
                    </a:lnTo>
                    <a:lnTo>
                      <a:pt x="446" y="239"/>
                    </a:lnTo>
                    <a:lnTo>
                      <a:pt x="465" y="254"/>
                    </a:lnTo>
                    <a:lnTo>
                      <a:pt x="478" y="265"/>
                    </a:lnTo>
                    <a:lnTo>
                      <a:pt x="492" y="276"/>
                    </a:lnTo>
                    <a:lnTo>
                      <a:pt x="506" y="288"/>
                    </a:lnTo>
                    <a:lnTo>
                      <a:pt x="520" y="299"/>
                    </a:lnTo>
                    <a:lnTo>
                      <a:pt x="533" y="308"/>
                    </a:lnTo>
                    <a:lnTo>
                      <a:pt x="548" y="319"/>
                    </a:lnTo>
                    <a:lnTo>
                      <a:pt x="562" y="329"/>
                    </a:lnTo>
                    <a:lnTo>
                      <a:pt x="578" y="337"/>
                    </a:lnTo>
                    <a:lnTo>
                      <a:pt x="585" y="341"/>
                    </a:lnTo>
                    <a:lnTo>
                      <a:pt x="593" y="344"/>
                    </a:lnTo>
                    <a:lnTo>
                      <a:pt x="600" y="348"/>
                    </a:lnTo>
                    <a:lnTo>
                      <a:pt x="609" y="350"/>
                    </a:lnTo>
                    <a:lnTo>
                      <a:pt x="617" y="351"/>
                    </a:lnTo>
                    <a:lnTo>
                      <a:pt x="626" y="354"/>
                    </a:lnTo>
                    <a:lnTo>
                      <a:pt x="634" y="355"/>
                    </a:lnTo>
                    <a:lnTo>
                      <a:pt x="642" y="355"/>
                    </a:lnTo>
                    <a:lnTo>
                      <a:pt x="651" y="355"/>
                    </a:lnTo>
                    <a:lnTo>
                      <a:pt x="658" y="356"/>
                    </a:lnTo>
                    <a:lnTo>
                      <a:pt x="666" y="355"/>
                    </a:lnTo>
                    <a:lnTo>
                      <a:pt x="675" y="355"/>
                    </a:lnTo>
                    <a:lnTo>
                      <a:pt x="682" y="354"/>
                    </a:lnTo>
                    <a:lnTo>
                      <a:pt x="689" y="351"/>
                    </a:lnTo>
                    <a:lnTo>
                      <a:pt x="696" y="348"/>
                    </a:lnTo>
                    <a:lnTo>
                      <a:pt x="702" y="343"/>
                    </a:lnTo>
                    <a:lnTo>
                      <a:pt x="708" y="336"/>
                    </a:lnTo>
                    <a:lnTo>
                      <a:pt x="713" y="329"/>
                    </a:lnTo>
                    <a:lnTo>
                      <a:pt x="717" y="319"/>
                    </a:lnTo>
                    <a:lnTo>
                      <a:pt x="719" y="311"/>
                    </a:lnTo>
                    <a:lnTo>
                      <a:pt x="722" y="301"/>
                    </a:lnTo>
                    <a:lnTo>
                      <a:pt x="724" y="291"/>
                    </a:lnTo>
                    <a:lnTo>
                      <a:pt x="725" y="282"/>
                    </a:lnTo>
                    <a:lnTo>
                      <a:pt x="725" y="272"/>
                    </a:lnTo>
                    <a:lnTo>
                      <a:pt x="726" y="258"/>
                    </a:lnTo>
                    <a:lnTo>
                      <a:pt x="726" y="245"/>
                    </a:lnTo>
                    <a:lnTo>
                      <a:pt x="725" y="230"/>
                    </a:lnTo>
                    <a:lnTo>
                      <a:pt x="724" y="216"/>
                    </a:lnTo>
                    <a:lnTo>
                      <a:pt x="723" y="201"/>
                    </a:lnTo>
                    <a:lnTo>
                      <a:pt x="722" y="188"/>
                    </a:lnTo>
                    <a:lnTo>
                      <a:pt x="720" y="174"/>
                    </a:lnTo>
                    <a:lnTo>
                      <a:pt x="720" y="159"/>
                    </a:lnTo>
                    <a:lnTo>
                      <a:pt x="720" y="152"/>
                    </a:lnTo>
                    <a:lnTo>
                      <a:pt x="720" y="145"/>
                    </a:lnTo>
                    <a:lnTo>
                      <a:pt x="722" y="138"/>
                    </a:lnTo>
                    <a:lnTo>
                      <a:pt x="723" y="129"/>
                    </a:lnTo>
                    <a:lnTo>
                      <a:pt x="724" y="122"/>
                    </a:lnTo>
                    <a:lnTo>
                      <a:pt x="724" y="115"/>
                    </a:lnTo>
                    <a:lnTo>
                      <a:pt x="725" y="108"/>
                    </a:lnTo>
                    <a:lnTo>
                      <a:pt x="725" y="101"/>
                    </a:lnTo>
                    <a:lnTo>
                      <a:pt x="726" y="92"/>
                    </a:lnTo>
                    <a:lnTo>
                      <a:pt x="725" y="84"/>
                    </a:lnTo>
                    <a:lnTo>
                      <a:pt x="725" y="75"/>
                    </a:lnTo>
                    <a:lnTo>
                      <a:pt x="724" y="67"/>
                    </a:lnTo>
                    <a:lnTo>
                      <a:pt x="724" y="60"/>
                    </a:lnTo>
                    <a:lnTo>
                      <a:pt x="724" y="51"/>
                    </a:lnTo>
                    <a:lnTo>
                      <a:pt x="724" y="43"/>
                    </a:lnTo>
                    <a:lnTo>
                      <a:pt x="725" y="35"/>
                    </a:lnTo>
                    <a:lnTo>
                      <a:pt x="728" y="30"/>
                    </a:lnTo>
                    <a:lnTo>
                      <a:pt x="729" y="24"/>
                    </a:lnTo>
                    <a:lnTo>
                      <a:pt x="731" y="18"/>
                    </a:lnTo>
                    <a:lnTo>
                      <a:pt x="734" y="12"/>
                    </a:lnTo>
                    <a:lnTo>
                      <a:pt x="736" y="7"/>
                    </a:lnTo>
                    <a:lnTo>
                      <a:pt x="741" y="2"/>
                    </a:lnTo>
                    <a:lnTo>
                      <a:pt x="744" y="0"/>
                    </a:lnTo>
                    <a:lnTo>
                      <a:pt x="749" y="0"/>
                    </a:lnTo>
                    <a:lnTo>
                      <a:pt x="760" y="1"/>
                    </a:lnTo>
                    <a:lnTo>
                      <a:pt x="770" y="3"/>
                    </a:lnTo>
                    <a:lnTo>
                      <a:pt x="779" y="8"/>
                    </a:lnTo>
                    <a:lnTo>
                      <a:pt x="789" y="13"/>
                    </a:lnTo>
                    <a:lnTo>
                      <a:pt x="797" y="19"/>
                    </a:lnTo>
                    <a:lnTo>
                      <a:pt x="806" y="26"/>
                    </a:lnTo>
                    <a:lnTo>
                      <a:pt x="814" y="33"/>
                    </a:lnTo>
                    <a:lnTo>
                      <a:pt x="821" y="41"/>
                    </a:lnTo>
                    <a:lnTo>
                      <a:pt x="828" y="50"/>
                    </a:lnTo>
                    <a:lnTo>
                      <a:pt x="834" y="61"/>
                    </a:lnTo>
                    <a:lnTo>
                      <a:pt x="839" y="72"/>
                    </a:lnTo>
                    <a:lnTo>
                      <a:pt x="844" y="84"/>
                    </a:lnTo>
                    <a:lnTo>
                      <a:pt x="849" y="95"/>
                    </a:lnTo>
                    <a:lnTo>
                      <a:pt x="854" y="107"/>
                    </a:lnTo>
                    <a:lnTo>
                      <a:pt x="857" y="119"/>
                    </a:lnTo>
                    <a:lnTo>
                      <a:pt x="862" y="129"/>
                    </a:lnTo>
                    <a:lnTo>
                      <a:pt x="869" y="146"/>
                    </a:lnTo>
                    <a:lnTo>
                      <a:pt x="875" y="162"/>
                    </a:lnTo>
                    <a:lnTo>
                      <a:pt x="882" y="179"/>
                    </a:lnTo>
                    <a:lnTo>
                      <a:pt x="888" y="195"/>
                    </a:lnTo>
                    <a:lnTo>
                      <a:pt x="896" y="211"/>
                    </a:lnTo>
                    <a:lnTo>
                      <a:pt x="902" y="228"/>
                    </a:lnTo>
                    <a:lnTo>
                      <a:pt x="909" y="245"/>
                    </a:lnTo>
                    <a:lnTo>
                      <a:pt x="916" y="260"/>
                    </a:lnTo>
                    <a:lnTo>
                      <a:pt x="920" y="270"/>
                    </a:lnTo>
                    <a:lnTo>
                      <a:pt x="923" y="279"/>
                    </a:lnTo>
                    <a:lnTo>
                      <a:pt x="928" y="290"/>
                    </a:lnTo>
                    <a:lnTo>
                      <a:pt x="932" y="300"/>
                    </a:lnTo>
                    <a:lnTo>
                      <a:pt x="935" y="309"/>
                    </a:lnTo>
                    <a:lnTo>
                      <a:pt x="940" y="319"/>
                    </a:lnTo>
                    <a:lnTo>
                      <a:pt x="946" y="329"/>
                    </a:lnTo>
                    <a:lnTo>
                      <a:pt x="951" y="337"/>
                    </a:lnTo>
                    <a:lnTo>
                      <a:pt x="958" y="347"/>
                    </a:lnTo>
                    <a:lnTo>
                      <a:pt x="965" y="356"/>
                    </a:lnTo>
                    <a:lnTo>
                      <a:pt x="974" y="366"/>
                    </a:lnTo>
                    <a:lnTo>
                      <a:pt x="982" y="374"/>
                    </a:lnTo>
                    <a:lnTo>
                      <a:pt x="990" y="384"/>
                    </a:lnTo>
                    <a:lnTo>
                      <a:pt x="999" y="392"/>
                    </a:lnTo>
                    <a:lnTo>
                      <a:pt x="1007" y="401"/>
                    </a:lnTo>
                    <a:lnTo>
                      <a:pt x="1017" y="408"/>
                    </a:lnTo>
                    <a:lnTo>
                      <a:pt x="1028" y="419"/>
                    </a:lnTo>
                    <a:lnTo>
                      <a:pt x="1038" y="429"/>
                    </a:lnTo>
                    <a:lnTo>
                      <a:pt x="1050" y="440"/>
                    </a:lnTo>
                    <a:lnTo>
                      <a:pt x="1061" y="451"/>
                    </a:lnTo>
                    <a:lnTo>
                      <a:pt x="1073" y="461"/>
                    </a:lnTo>
                    <a:lnTo>
                      <a:pt x="1085" y="469"/>
                    </a:lnTo>
                    <a:lnTo>
                      <a:pt x="1098" y="479"/>
                    </a:lnTo>
                    <a:lnTo>
                      <a:pt x="1112" y="486"/>
                    </a:lnTo>
                    <a:lnTo>
                      <a:pt x="1122" y="491"/>
                    </a:lnTo>
                    <a:lnTo>
                      <a:pt x="1133" y="494"/>
                    </a:lnTo>
                    <a:lnTo>
                      <a:pt x="1145" y="497"/>
                    </a:lnTo>
                    <a:lnTo>
                      <a:pt x="1157" y="499"/>
                    </a:lnTo>
                    <a:lnTo>
                      <a:pt x="1169" y="500"/>
                    </a:lnTo>
                    <a:lnTo>
                      <a:pt x="1181" y="501"/>
                    </a:lnTo>
                    <a:lnTo>
                      <a:pt x="1194" y="503"/>
                    </a:lnTo>
                    <a:lnTo>
                      <a:pt x="1206" y="503"/>
                    </a:lnTo>
                    <a:lnTo>
                      <a:pt x="1221" y="504"/>
                    </a:lnTo>
                    <a:lnTo>
                      <a:pt x="1236" y="504"/>
                    </a:lnTo>
                    <a:lnTo>
                      <a:pt x="1251" y="504"/>
                    </a:lnTo>
                    <a:lnTo>
                      <a:pt x="1265" y="504"/>
                    </a:lnTo>
                    <a:lnTo>
                      <a:pt x="1281" y="503"/>
                    </a:lnTo>
                    <a:lnTo>
                      <a:pt x="1295" y="501"/>
                    </a:lnTo>
                    <a:lnTo>
                      <a:pt x="1310" y="500"/>
                    </a:lnTo>
                    <a:lnTo>
                      <a:pt x="1325" y="498"/>
                    </a:lnTo>
                    <a:lnTo>
                      <a:pt x="1335" y="495"/>
                    </a:lnTo>
                    <a:lnTo>
                      <a:pt x="1346" y="493"/>
                    </a:lnTo>
                    <a:lnTo>
                      <a:pt x="1355" y="491"/>
                    </a:lnTo>
                    <a:lnTo>
                      <a:pt x="1365" y="487"/>
                    </a:lnTo>
                    <a:lnTo>
                      <a:pt x="1374" y="483"/>
                    </a:lnTo>
                    <a:lnTo>
                      <a:pt x="1384" y="479"/>
                    </a:lnTo>
                    <a:lnTo>
                      <a:pt x="1394" y="474"/>
                    </a:lnTo>
                    <a:lnTo>
                      <a:pt x="1402" y="468"/>
                    </a:lnTo>
                    <a:lnTo>
                      <a:pt x="1410" y="462"/>
                    </a:lnTo>
                    <a:lnTo>
                      <a:pt x="1419" y="455"/>
                    </a:lnTo>
                    <a:lnTo>
                      <a:pt x="1428" y="446"/>
                    </a:lnTo>
                    <a:lnTo>
                      <a:pt x="1437" y="439"/>
                    </a:lnTo>
                    <a:lnTo>
                      <a:pt x="1443" y="431"/>
                    </a:lnTo>
                    <a:lnTo>
                      <a:pt x="1448" y="421"/>
                    </a:lnTo>
                    <a:lnTo>
                      <a:pt x="1450" y="416"/>
                    </a:lnTo>
                    <a:lnTo>
                      <a:pt x="1450" y="413"/>
                    </a:lnTo>
                    <a:lnTo>
                      <a:pt x="1450" y="408"/>
                    </a:lnTo>
                    <a:lnTo>
                      <a:pt x="1449" y="403"/>
                    </a:lnTo>
                    <a:lnTo>
                      <a:pt x="1448" y="397"/>
                    </a:lnTo>
                    <a:lnTo>
                      <a:pt x="1445" y="393"/>
                    </a:lnTo>
                    <a:lnTo>
                      <a:pt x="1442" y="389"/>
                    </a:lnTo>
                    <a:lnTo>
                      <a:pt x="1438" y="386"/>
                    </a:lnTo>
                    <a:lnTo>
                      <a:pt x="1428" y="380"/>
                    </a:lnTo>
                    <a:lnTo>
                      <a:pt x="1418" y="375"/>
                    </a:lnTo>
                    <a:lnTo>
                      <a:pt x="1407" y="372"/>
                    </a:lnTo>
                    <a:lnTo>
                      <a:pt x="1395" y="368"/>
                    </a:lnTo>
                    <a:lnTo>
                      <a:pt x="1383" y="365"/>
                    </a:lnTo>
                    <a:lnTo>
                      <a:pt x="1372" y="361"/>
                    </a:lnTo>
                    <a:lnTo>
                      <a:pt x="1360" y="356"/>
                    </a:lnTo>
                    <a:lnTo>
                      <a:pt x="1347" y="351"/>
                    </a:lnTo>
                    <a:lnTo>
                      <a:pt x="1334" y="348"/>
                    </a:lnTo>
                    <a:lnTo>
                      <a:pt x="1322" y="344"/>
                    </a:lnTo>
                    <a:lnTo>
                      <a:pt x="1308" y="341"/>
                    </a:lnTo>
                    <a:lnTo>
                      <a:pt x="1295" y="336"/>
                    </a:lnTo>
                    <a:lnTo>
                      <a:pt x="1283" y="331"/>
                    </a:lnTo>
                    <a:lnTo>
                      <a:pt x="1271" y="325"/>
                    </a:lnTo>
                    <a:lnTo>
                      <a:pt x="1264" y="321"/>
                    </a:lnTo>
                    <a:lnTo>
                      <a:pt x="1256" y="315"/>
                    </a:lnTo>
                    <a:lnTo>
                      <a:pt x="1248" y="311"/>
                    </a:lnTo>
                    <a:lnTo>
                      <a:pt x="1242" y="305"/>
                    </a:lnTo>
                    <a:lnTo>
                      <a:pt x="1235" y="299"/>
                    </a:lnTo>
                    <a:lnTo>
                      <a:pt x="1229" y="291"/>
                    </a:lnTo>
                    <a:lnTo>
                      <a:pt x="1223" y="285"/>
                    </a:lnTo>
                    <a:lnTo>
                      <a:pt x="1218" y="278"/>
                    </a:lnTo>
                    <a:lnTo>
                      <a:pt x="1212" y="271"/>
                    </a:lnTo>
                    <a:lnTo>
                      <a:pt x="1208" y="263"/>
                    </a:lnTo>
                    <a:lnTo>
                      <a:pt x="1204" y="255"/>
                    </a:lnTo>
                    <a:lnTo>
                      <a:pt x="1199" y="247"/>
                    </a:lnTo>
                    <a:lnTo>
                      <a:pt x="1196" y="239"/>
                    </a:lnTo>
                    <a:lnTo>
                      <a:pt x="1193" y="230"/>
                    </a:lnTo>
                    <a:lnTo>
                      <a:pt x="1191" y="222"/>
                    </a:lnTo>
                    <a:lnTo>
                      <a:pt x="1188" y="213"/>
                    </a:lnTo>
                    <a:lnTo>
                      <a:pt x="1187" y="206"/>
                    </a:lnTo>
                    <a:lnTo>
                      <a:pt x="1186" y="200"/>
                    </a:lnTo>
                    <a:lnTo>
                      <a:pt x="1186" y="194"/>
                    </a:lnTo>
                    <a:lnTo>
                      <a:pt x="1186" y="187"/>
                    </a:lnTo>
                    <a:lnTo>
                      <a:pt x="1186" y="181"/>
                    </a:lnTo>
                    <a:lnTo>
                      <a:pt x="1188" y="175"/>
                    </a:lnTo>
                    <a:lnTo>
                      <a:pt x="1191" y="170"/>
                    </a:lnTo>
                    <a:lnTo>
                      <a:pt x="1194" y="165"/>
                    </a:lnTo>
                    <a:lnTo>
                      <a:pt x="1200" y="161"/>
                    </a:lnTo>
                    <a:lnTo>
                      <a:pt x="1208" y="158"/>
                    </a:lnTo>
                    <a:lnTo>
                      <a:pt x="1215" y="156"/>
                    </a:lnTo>
                    <a:lnTo>
                      <a:pt x="1222" y="153"/>
                    </a:lnTo>
                    <a:lnTo>
                      <a:pt x="1230" y="153"/>
                    </a:lnTo>
                    <a:lnTo>
                      <a:pt x="1238" y="152"/>
                    </a:lnTo>
                    <a:lnTo>
                      <a:pt x="1246" y="153"/>
                    </a:lnTo>
                    <a:lnTo>
                      <a:pt x="1253" y="153"/>
                    </a:lnTo>
                    <a:lnTo>
                      <a:pt x="1264" y="155"/>
                    </a:lnTo>
                    <a:lnTo>
                      <a:pt x="1274" y="157"/>
                    </a:lnTo>
                    <a:lnTo>
                      <a:pt x="1283" y="161"/>
                    </a:lnTo>
                    <a:lnTo>
                      <a:pt x="1293" y="164"/>
                    </a:lnTo>
                    <a:lnTo>
                      <a:pt x="1301" y="168"/>
                    </a:lnTo>
                    <a:lnTo>
                      <a:pt x="1311" y="171"/>
                    </a:lnTo>
                    <a:lnTo>
                      <a:pt x="1320" y="175"/>
                    </a:lnTo>
                    <a:lnTo>
                      <a:pt x="1331" y="177"/>
                    </a:lnTo>
                    <a:lnTo>
                      <a:pt x="1342" y="180"/>
                    </a:lnTo>
                    <a:lnTo>
                      <a:pt x="1354" y="181"/>
                    </a:lnTo>
                    <a:lnTo>
                      <a:pt x="1366" y="183"/>
                    </a:lnTo>
                    <a:lnTo>
                      <a:pt x="1378" y="185"/>
                    </a:lnTo>
                    <a:lnTo>
                      <a:pt x="1390" y="186"/>
                    </a:lnTo>
                    <a:lnTo>
                      <a:pt x="1402" y="187"/>
                    </a:lnTo>
                    <a:lnTo>
                      <a:pt x="1414" y="188"/>
                    </a:lnTo>
                    <a:lnTo>
                      <a:pt x="1426" y="189"/>
                    </a:lnTo>
                    <a:lnTo>
                      <a:pt x="1439" y="189"/>
                    </a:lnTo>
                    <a:lnTo>
                      <a:pt x="1452" y="191"/>
                    </a:lnTo>
                    <a:lnTo>
                      <a:pt x="1466" y="191"/>
                    </a:lnTo>
                    <a:lnTo>
                      <a:pt x="1479" y="191"/>
                    </a:lnTo>
                    <a:lnTo>
                      <a:pt x="1492" y="191"/>
                    </a:lnTo>
                    <a:lnTo>
                      <a:pt x="1505" y="189"/>
                    </a:lnTo>
                    <a:lnTo>
                      <a:pt x="1518" y="189"/>
                    </a:lnTo>
                    <a:lnTo>
                      <a:pt x="1533" y="189"/>
                    </a:lnTo>
                    <a:lnTo>
                      <a:pt x="1541" y="188"/>
                    </a:lnTo>
                    <a:lnTo>
                      <a:pt x="1550" y="187"/>
                    </a:lnTo>
                    <a:lnTo>
                      <a:pt x="1559" y="186"/>
                    </a:lnTo>
                    <a:lnTo>
                      <a:pt x="1568" y="185"/>
                    </a:lnTo>
                    <a:lnTo>
                      <a:pt x="1577" y="183"/>
                    </a:lnTo>
                    <a:lnTo>
                      <a:pt x="1586" y="182"/>
                    </a:lnTo>
                    <a:lnTo>
                      <a:pt x="1595" y="182"/>
                    </a:lnTo>
                    <a:lnTo>
                      <a:pt x="1604" y="183"/>
                    </a:lnTo>
                    <a:lnTo>
                      <a:pt x="1611" y="185"/>
                    </a:lnTo>
                    <a:lnTo>
                      <a:pt x="1618" y="187"/>
                    </a:lnTo>
                    <a:lnTo>
                      <a:pt x="1626" y="191"/>
                    </a:lnTo>
                    <a:lnTo>
                      <a:pt x="1632" y="193"/>
                    </a:lnTo>
                    <a:lnTo>
                      <a:pt x="1640" y="198"/>
                    </a:lnTo>
                    <a:lnTo>
                      <a:pt x="1646" y="203"/>
                    </a:lnTo>
                    <a:lnTo>
                      <a:pt x="1652" y="207"/>
                    </a:lnTo>
                    <a:lnTo>
                      <a:pt x="1656" y="213"/>
                    </a:lnTo>
                    <a:lnTo>
                      <a:pt x="1661" y="219"/>
                    </a:lnTo>
                    <a:lnTo>
                      <a:pt x="1665" y="227"/>
                    </a:lnTo>
                    <a:lnTo>
                      <a:pt x="1667" y="234"/>
                    </a:lnTo>
                    <a:lnTo>
                      <a:pt x="1668" y="241"/>
                    </a:lnTo>
                    <a:lnTo>
                      <a:pt x="1671" y="248"/>
                    </a:lnTo>
                    <a:lnTo>
                      <a:pt x="1672" y="257"/>
                    </a:lnTo>
                    <a:lnTo>
                      <a:pt x="1673" y="265"/>
                    </a:lnTo>
                    <a:lnTo>
                      <a:pt x="1674" y="272"/>
                    </a:lnTo>
                    <a:lnTo>
                      <a:pt x="1679" y="291"/>
                    </a:lnTo>
                    <a:lnTo>
                      <a:pt x="1684" y="312"/>
                    </a:lnTo>
                    <a:lnTo>
                      <a:pt x="1689" y="332"/>
                    </a:lnTo>
                    <a:lnTo>
                      <a:pt x="1694" y="351"/>
                    </a:lnTo>
                    <a:lnTo>
                      <a:pt x="1698" y="372"/>
                    </a:lnTo>
                    <a:lnTo>
                      <a:pt x="1703" y="392"/>
                    </a:lnTo>
                    <a:lnTo>
                      <a:pt x="1707" y="411"/>
                    </a:lnTo>
                    <a:lnTo>
                      <a:pt x="1710" y="432"/>
                    </a:lnTo>
                    <a:lnTo>
                      <a:pt x="1713" y="451"/>
                    </a:lnTo>
                    <a:lnTo>
                      <a:pt x="1714" y="469"/>
                    </a:lnTo>
                    <a:lnTo>
                      <a:pt x="1714" y="488"/>
                    </a:lnTo>
                    <a:lnTo>
                      <a:pt x="1715" y="506"/>
                    </a:lnTo>
                    <a:lnTo>
                      <a:pt x="1715" y="525"/>
                    </a:lnTo>
                    <a:lnTo>
                      <a:pt x="1716" y="543"/>
                    </a:lnTo>
                    <a:lnTo>
                      <a:pt x="1719" y="561"/>
                    </a:lnTo>
                    <a:lnTo>
                      <a:pt x="1722" y="581"/>
                    </a:lnTo>
                    <a:lnTo>
                      <a:pt x="1725" y="593"/>
                    </a:lnTo>
                    <a:lnTo>
                      <a:pt x="1728" y="605"/>
                    </a:lnTo>
                    <a:lnTo>
                      <a:pt x="1732" y="617"/>
                    </a:lnTo>
                    <a:lnTo>
                      <a:pt x="1737" y="628"/>
                    </a:lnTo>
                    <a:lnTo>
                      <a:pt x="1742" y="639"/>
                    </a:lnTo>
                    <a:lnTo>
                      <a:pt x="1748" y="650"/>
                    </a:lnTo>
                    <a:lnTo>
                      <a:pt x="1755" y="660"/>
                    </a:lnTo>
                    <a:lnTo>
                      <a:pt x="1763" y="669"/>
                    </a:lnTo>
                    <a:lnTo>
                      <a:pt x="1769" y="674"/>
                    </a:lnTo>
                    <a:lnTo>
                      <a:pt x="1776" y="678"/>
                    </a:lnTo>
                    <a:lnTo>
                      <a:pt x="1785" y="680"/>
                    </a:lnTo>
                    <a:lnTo>
                      <a:pt x="1792" y="681"/>
                    </a:lnTo>
                    <a:lnTo>
                      <a:pt x="1800" y="681"/>
                    </a:lnTo>
                    <a:lnTo>
                      <a:pt x="1809" y="680"/>
                    </a:lnTo>
                    <a:lnTo>
                      <a:pt x="1816" y="679"/>
                    </a:lnTo>
                    <a:lnTo>
                      <a:pt x="1823" y="675"/>
                    </a:lnTo>
                    <a:lnTo>
                      <a:pt x="1836" y="664"/>
                    </a:lnTo>
                    <a:lnTo>
                      <a:pt x="1850" y="652"/>
                    </a:lnTo>
                    <a:lnTo>
                      <a:pt x="1860" y="639"/>
                    </a:lnTo>
                    <a:lnTo>
                      <a:pt x="1871" y="626"/>
                    </a:lnTo>
                    <a:lnTo>
                      <a:pt x="1882" y="612"/>
                    </a:lnTo>
                    <a:lnTo>
                      <a:pt x="1892" y="597"/>
                    </a:lnTo>
                    <a:lnTo>
                      <a:pt x="1901" y="583"/>
                    </a:lnTo>
                    <a:lnTo>
                      <a:pt x="1912" y="569"/>
                    </a:lnTo>
                    <a:lnTo>
                      <a:pt x="1925" y="551"/>
                    </a:lnTo>
                    <a:lnTo>
                      <a:pt x="1937" y="533"/>
                    </a:lnTo>
                    <a:lnTo>
                      <a:pt x="1950" y="515"/>
                    </a:lnTo>
                    <a:lnTo>
                      <a:pt x="1962" y="497"/>
                    </a:lnTo>
                    <a:lnTo>
                      <a:pt x="1974" y="479"/>
                    </a:lnTo>
                    <a:lnTo>
                      <a:pt x="1986" y="462"/>
                    </a:lnTo>
                    <a:lnTo>
                      <a:pt x="2000" y="444"/>
                    </a:lnTo>
                    <a:lnTo>
                      <a:pt x="2013" y="426"/>
                    </a:lnTo>
                    <a:lnTo>
                      <a:pt x="2022" y="414"/>
                    </a:lnTo>
                    <a:lnTo>
                      <a:pt x="2032" y="402"/>
                    </a:lnTo>
                    <a:lnTo>
                      <a:pt x="2042" y="389"/>
                    </a:lnTo>
                    <a:lnTo>
                      <a:pt x="2052" y="377"/>
                    </a:lnTo>
                    <a:lnTo>
                      <a:pt x="2062" y="365"/>
                    </a:lnTo>
                    <a:lnTo>
                      <a:pt x="2073" y="353"/>
                    </a:lnTo>
                    <a:lnTo>
                      <a:pt x="2084" y="342"/>
                    </a:lnTo>
                    <a:lnTo>
                      <a:pt x="2096" y="331"/>
                    </a:lnTo>
                    <a:lnTo>
                      <a:pt x="2102" y="326"/>
                    </a:lnTo>
                    <a:lnTo>
                      <a:pt x="2110" y="320"/>
                    </a:lnTo>
                    <a:lnTo>
                      <a:pt x="2117" y="313"/>
                    </a:lnTo>
                    <a:lnTo>
                      <a:pt x="2126" y="308"/>
                    </a:lnTo>
                    <a:lnTo>
                      <a:pt x="2134" y="303"/>
                    </a:lnTo>
                    <a:lnTo>
                      <a:pt x="2140" y="302"/>
                    </a:lnTo>
                    <a:lnTo>
                      <a:pt x="2144" y="302"/>
                    </a:lnTo>
                    <a:lnTo>
                      <a:pt x="2146" y="303"/>
                    </a:lnTo>
                    <a:lnTo>
                      <a:pt x="2147" y="305"/>
                    </a:lnTo>
                    <a:lnTo>
                      <a:pt x="2150" y="308"/>
                    </a:lnTo>
                    <a:lnTo>
                      <a:pt x="2154" y="329"/>
                    </a:lnTo>
                    <a:lnTo>
                      <a:pt x="2158" y="350"/>
                    </a:lnTo>
                    <a:lnTo>
                      <a:pt x="2159" y="372"/>
                    </a:lnTo>
                    <a:lnTo>
                      <a:pt x="2158" y="393"/>
                    </a:lnTo>
                    <a:lnTo>
                      <a:pt x="2157" y="415"/>
                    </a:lnTo>
                    <a:lnTo>
                      <a:pt x="2153" y="437"/>
                    </a:lnTo>
                    <a:lnTo>
                      <a:pt x="2148" y="458"/>
                    </a:lnTo>
                    <a:lnTo>
                      <a:pt x="2144" y="480"/>
                    </a:lnTo>
                    <a:lnTo>
                      <a:pt x="2132" y="516"/>
                    </a:lnTo>
                    <a:lnTo>
                      <a:pt x="2120" y="553"/>
                    </a:lnTo>
                    <a:lnTo>
                      <a:pt x="2105" y="589"/>
                    </a:lnTo>
                    <a:lnTo>
                      <a:pt x="2091" y="624"/>
                    </a:lnTo>
                    <a:lnTo>
                      <a:pt x="2074" y="660"/>
                    </a:lnTo>
                    <a:lnTo>
                      <a:pt x="2058" y="694"/>
                    </a:lnTo>
                    <a:lnTo>
                      <a:pt x="2042" y="729"/>
                    </a:lnTo>
                    <a:lnTo>
                      <a:pt x="2025" y="764"/>
                    </a:lnTo>
                    <a:lnTo>
                      <a:pt x="2015" y="783"/>
                    </a:lnTo>
                    <a:lnTo>
                      <a:pt x="2006" y="802"/>
                    </a:lnTo>
                    <a:lnTo>
                      <a:pt x="1995" y="822"/>
                    </a:lnTo>
                    <a:lnTo>
                      <a:pt x="1984" y="841"/>
                    </a:lnTo>
                    <a:lnTo>
                      <a:pt x="1973" y="859"/>
                    </a:lnTo>
                    <a:lnTo>
                      <a:pt x="1961" y="877"/>
                    </a:lnTo>
                    <a:lnTo>
                      <a:pt x="1949" y="895"/>
                    </a:lnTo>
                    <a:lnTo>
                      <a:pt x="1936" y="912"/>
                    </a:lnTo>
                    <a:lnTo>
                      <a:pt x="1926" y="922"/>
                    </a:lnTo>
                    <a:lnTo>
                      <a:pt x="1916" y="932"/>
                    </a:lnTo>
                    <a:lnTo>
                      <a:pt x="1905" y="940"/>
                    </a:lnTo>
                    <a:lnTo>
                      <a:pt x="1893" y="949"/>
                    </a:lnTo>
                    <a:lnTo>
                      <a:pt x="1881" y="957"/>
                    </a:lnTo>
                    <a:lnTo>
                      <a:pt x="1869" y="966"/>
                    </a:lnTo>
                    <a:lnTo>
                      <a:pt x="1858" y="974"/>
                    </a:lnTo>
                    <a:lnTo>
                      <a:pt x="1847" y="982"/>
                    </a:lnTo>
                    <a:lnTo>
                      <a:pt x="1841" y="987"/>
                    </a:lnTo>
                    <a:lnTo>
                      <a:pt x="1836" y="992"/>
                    </a:lnTo>
                    <a:lnTo>
                      <a:pt x="1830" y="997"/>
                    </a:lnTo>
                    <a:lnTo>
                      <a:pt x="1826" y="1002"/>
                    </a:lnTo>
                    <a:lnTo>
                      <a:pt x="1821" y="1006"/>
                    </a:lnTo>
                    <a:lnTo>
                      <a:pt x="1816" y="1012"/>
                    </a:lnTo>
                    <a:lnTo>
                      <a:pt x="1814" y="1018"/>
                    </a:lnTo>
                    <a:lnTo>
                      <a:pt x="1811" y="1024"/>
                    </a:lnTo>
                    <a:lnTo>
                      <a:pt x="1810" y="1032"/>
                    </a:lnTo>
                    <a:lnTo>
                      <a:pt x="1809" y="1040"/>
                    </a:lnTo>
                    <a:lnTo>
                      <a:pt x="1809" y="1048"/>
                    </a:lnTo>
                    <a:lnTo>
                      <a:pt x="1809" y="1057"/>
                    </a:lnTo>
                    <a:lnTo>
                      <a:pt x="1810" y="1065"/>
                    </a:lnTo>
                    <a:lnTo>
                      <a:pt x="1814" y="1072"/>
                    </a:lnTo>
                    <a:lnTo>
                      <a:pt x="1817" y="1078"/>
                    </a:lnTo>
                    <a:lnTo>
                      <a:pt x="1823" y="1083"/>
                    </a:lnTo>
                    <a:lnTo>
                      <a:pt x="1835" y="1090"/>
                    </a:lnTo>
                    <a:lnTo>
                      <a:pt x="1847" y="1095"/>
                    </a:lnTo>
                    <a:lnTo>
                      <a:pt x="1860" y="1100"/>
                    </a:lnTo>
                    <a:lnTo>
                      <a:pt x="1875" y="1102"/>
                    </a:lnTo>
                    <a:lnTo>
                      <a:pt x="1888" y="1104"/>
                    </a:lnTo>
                    <a:lnTo>
                      <a:pt x="1902" y="1104"/>
                    </a:lnTo>
                    <a:lnTo>
                      <a:pt x="1916" y="1104"/>
                    </a:lnTo>
                    <a:lnTo>
                      <a:pt x="1930" y="1101"/>
                    </a:lnTo>
                    <a:lnTo>
                      <a:pt x="1944" y="1099"/>
                    </a:lnTo>
                    <a:lnTo>
                      <a:pt x="1959" y="1094"/>
                    </a:lnTo>
                    <a:lnTo>
                      <a:pt x="1973" y="1089"/>
                    </a:lnTo>
                    <a:lnTo>
                      <a:pt x="1988" y="1083"/>
                    </a:lnTo>
                    <a:lnTo>
                      <a:pt x="2001" y="1076"/>
                    </a:lnTo>
                    <a:lnTo>
                      <a:pt x="2014" y="1068"/>
                    </a:lnTo>
                    <a:lnTo>
                      <a:pt x="2026" y="1058"/>
                    </a:lnTo>
                    <a:lnTo>
                      <a:pt x="2037" y="1048"/>
                    </a:lnTo>
                    <a:lnTo>
                      <a:pt x="2045" y="1038"/>
                    </a:lnTo>
                    <a:lnTo>
                      <a:pt x="2054" y="1027"/>
                    </a:lnTo>
                    <a:lnTo>
                      <a:pt x="2062" y="1015"/>
                    </a:lnTo>
                    <a:lnTo>
                      <a:pt x="2070" y="1004"/>
                    </a:lnTo>
                    <a:lnTo>
                      <a:pt x="2084" y="980"/>
                    </a:lnTo>
                    <a:lnTo>
                      <a:pt x="2098" y="955"/>
                    </a:lnTo>
                    <a:lnTo>
                      <a:pt x="2111" y="930"/>
                    </a:lnTo>
                    <a:lnTo>
                      <a:pt x="2124" y="906"/>
                    </a:lnTo>
                    <a:lnTo>
                      <a:pt x="2139" y="882"/>
                    </a:lnTo>
                    <a:lnTo>
                      <a:pt x="2156" y="859"/>
                    </a:lnTo>
                    <a:lnTo>
                      <a:pt x="2168" y="843"/>
                    </a:lnTo>
                    <a:lnTo>
                      <a:pt x="2180" y="829"/>
                    </a:lnTo>
                    <a:lnTo>
                      <a:pt x="2194" y="814"/>
                    </a:lnTo>
                    <a:lnTo>
                      <a:pt x="2207" y="801"/>
                    </a:lnTo>
                    <a:lnTo>
                      <a:pt x="2222" y="788"/>
                    </a:lnTo>
                    <a:lnTo>
                      <a:pt x="2237" y="775"/>
                    </a:lnTo>
                    <a:lnTo>
                      <a:pt x="2252" y="763"/>
                    </a:lnTo>
                    <a:lnTo>
                      <a:pt x="2267" y="752"/>
                    </a:lnTo>
                    <a:lnTo>
                      <a:pt x="2278" y="745"/>
                    </a:lnTo>
                    <a:lnTo>
                      <a:pt x="2288" y="738"/>
                    </a:lnTo>
                    <a:lnTo>
                      <a:pt x="2298" y="732"/>
                    </a:lnTo>
                    <a:lnTo>
                      <a:pt x="2310" y="726"/>
                    </a:lnTo>
                    <a:lnTo>
                      <a:pt x="2321" y="721"/>
                    </a:lnTo>
                    <a:lnTo>
                      <a:pt x="2333" y="718"/>
                    </a:lnTo>
                    <a:lnTo>
                      <a:pt x="2345" y="716"/>
                    </a:lnTo>
                    <a:lnTo>
                      <a:pt x="2357" y="716"/>
                    </a:lnTo>
                    <a:lnTo>
                      <a:pt x="2368" y="718"/>
                    </a:lnTo>
                    <a:lnTo>
                      <a:pt x="2379" y="723"/>
                    </a:lnTo>
                    <a:lnTo>
                      <a:pt x="2390" y="729"/>
                    </a:lnTo>
                    <a:lnTo>
                      <a:pt x="2399" y="735"/>
                    </a:lnTo>
                    <a:lnTo>
                      <a:pt x="2408" y="744"/>
                    </a:lnTo>
                    <a:lnTo>
                      <a:pt x="2417" y="752"/>
                    </a:lnTo>
                    <a:lnTo>
                      <a:pt x="2426" y="762"/>
                    </a:lnTo>
                    <a:lnTo>
                      <a:pt x="2434" y="770"/>
                    </a:lnTo>
                    <a:lnTo>
                      <a:pt x="2442" y="778"/>
                    </a:lnTo>
                    <a:lnTo>
                      <a:pt x="2450" y="789"/>
                    </a:lnTo>
                    <a:lnTo>
                      <a:pt x="2457" y="799"/>
                    </a:lnTo>
                    <a:lnTo>
                      <a:pt x="2463" y="810"/>
                    </a:lnTo>
                    <a:lnTo>
                      <a:pt x="2469" y="820"/>
                    </a:lnTo>
                    <a:lnTo>
                      <a:pt x="2475" y="831"/>
                    </a:lnTo>
                    <a:lnTo>
                      <a:pt x="2481" y="842"/>
                    </a:lnTo>
                    <a:lnTo>
                      <a:pt x="2487" y="853"/>
                    </a:lnTo>
                    <a:lnTo>
                      <a:pt x="2496" y="868"/>
                    </a:lnTo>
                    <a:lnTo>
                      <a:pt x="2506" y="883"/>
                    </a:lnTo>
                    <a:lnTo>
                      <a:pt x="2516" y="898"/>
                    </a:lnTo>
                    <a:lnTo>
                      <a:pt x="2525" y="914"/>
                    </a:lnTo>
                    <a:lnTo>
                      <a:pt x="2535" y="928"/>
                    </a:lnTo>
                    <a:lnTo>
                      <a:pt x="2543" y="945"/>
                    </a:lnTo>
                    <a:lnTo>
                      <a:pt x="2552" y="961"/>
                    </a:lnTo>
                    <a:lnTo>
                      <a:pt x="2559" y="978"/>
                    </a:lnTo>
                    <a:lnTo>
                      <a:pt x="2562" y="987"/>
                    </a:lnTo>
                    <a:lnTo>
                      <a:pt x="2565" y="997"/>
                    </a:lnTo>
                    <a:lnTo>
                      <a:pt x="2568" y="1008"/>
                    </a:lnTo>
                    <a:lnTo>
                      <a:pt x="2570" y="1018"/>
                    </a:lnTo>
                    <a:lnTo>
                      <a:pt x="2572" y="1028"/>
                    </a:lnTo>
                    <a:lnTo>
                      <a:pt x="2572" y="1039"/>
                    </a:lnTo>
                    <a:lnTo>
                      <a:pt x="2572" y="1050"/>
                    </a:lnTo>
                    <a:lnTo>
                      <a:pt x="2571" y="1060"/>
                    </a:lnTo>
                    <a:lnTo>
                      <a:pt x="2568" y="1066"/>
                    </a:lnTo>
                    <a:lnTo>
                      <a:pt x="2566" y="1074"/>
                    </a:lnTo>
                    <a:lnTo>
                      <a:pt x="2562" y="1081"/>
                    </a:lnTo>
                    <a:lnTo>
                      <a:pt x="2558" y="1087"/>
                    </a:lnTo>
                    <a:lnTo>
                      <a:pt x="2553" y="1093"/>
                    </a:lnTo>
                    <a:lnTo>
                      <a:pt x="2547" y="1098"/>
                    </a:lnTo>
                    <a:lnTo>
                      <a:pt x="2541" y="1100"/>
                    </a:lnTo>
                    <a:lnTo>
                      <a:pt x="2535" y="1101"/>
                    </a:lnTo>
                    <a:lnTo>
                      <a:pt x="2524" y="1101"/>
                    </a:lnTo>
                    <a:lnTo>
                      <a:pt x="2513" y="1099"/>
                    </a:lnTo>
                    <a:lnTo>
                      <a:pt x="2504" y="1096"/>
                    </a:lnTo>
                    <a:lnTo>
                      <a:pt x="2493" y="1092"/>
                    </a:lnTo>
                    <a:lnTo>
                      <a:pt x="2483" y="1086"/>
                    </a:lnTo>
                    <a:lnTo>
                      <a:pt x="2475" y="1080"/>
                    </a:lnTo>
                    <a:lnTo>
                      <a:pt x="2465" y="1074"/>
                    </a:lnTo>
                    <a:lnTo>
                      <a:pt x="2458" y="1066"/>
                    </a:lnTo>
                    <a:lnTo>
                      <a:pt x="2447" y="1054"/>
                    </a:lnTo>
                    <a:lnTo>
                      <a:pt x="2438" y="1044"/>
                    </a:lnTo>
                    <a:lnTo>
                      <a:pt x="2428" y="1030"/>
                    </a:lnTo>
                    <a:lnTo>
                      <a:pt x="2420" y="1017"/>
                    </a:lnTo>
                    <a:lnTo>
                      <a:pt x="2411" y="1004"/>
                    </a:lnTo>
                    <a:lnTo>
                      <a:pt x="2404" y="991"/>
                    </a:lnTo>
                    <a:lnTo>
                      <a:pt x="2396" y="978"/>
                    </a:lnTo>
                    <a:lnTo>
                      <a:pt x="2386" y="966"/>
                    </a:lnTo>
                    <a:lnTo>
                      <a:pt x="2381" y="957"/>
                    </a:lnTo>
                    <a:lnTo>
                      <a:pt x="2375" y="950"/>
                    </a:lnTo>
                    <a:lnTo>
                      <a:pt x="2370" y="942"/>
                    </a:lnTo>
                    <a:lnTo>
                      <a:pt x="2364" y="933"/>
                    </a:lnTo>
                    <a:lnTo>
                      <a:pt x="2358" y="926"/>
                    </a:lnTo>
                    <a:lnTo>
                      <a:pt x="2352" y="919"/>
                    </a:lnTo>
                    <a:lnTo>
                      <a:pt x="2346" y="912"/>
                    </a:lnTo>
                    <a:lnTo>
                      <a:pt x="2339" y="906"/>
                    </a:lnTo>
                    <a:lnTo>
                      <a:pt x="2336" y="904"/>
                    </a:lnTo>
                    <a:lnTo>
                      <a:pt x="2332" y="902"/>
                    </a:lnTo>
                    <a:lnTo>
                      <a:pt x="2327" y="901"/>
                    </a:lnTo>
                    <a:lnTo>
                      <a:pt x="2324" y="901"/>
                    </a:lnTo>
                    <a:lnTo>
                      <a:pt x="2319" y="901"/>
                    </a:lnTo>
                    <a:lnTo>
                      <a:pt x="2315" y="902"/>
                    </a:lnTo>
                    <a:lnTo>
                      <a:pt x="2312" y="903"/>
                    </a:lnTo>
                    <a:lnTo>
                      <a:pt x="2309" y="906"/>
                    </a:lnTo>
                    <a:lnTo>
                      <a:pt x="2298" y="922"/>
                    </a:lnTo>
                    <a:lnTo>
                      <a:pt x="2289" y="938"/>
                    </a:lnTo>
                    <a:lnTo>
                      <a:pt x="2280" y="956"/>
                    </a:lnTo>
                    <a:lnTo>
                      <a:pt x="2272" y="973"/>
                    </a:lnTo>
                    <a:lnTo>
                      <a:pt x="2264" y="991"/>
                    </a:lnTo>
                    <a:lnTo>
                      <a:pt x="2256" y="1008"/>
                    </a:lnTo>
                    <a:lnTo>
                      <a:pt x="2248" y="1026"/>
                    </a:lnTo>
                    <a:lnTo>
                      <a:pt x="2238" y="1042"/>
                    </a:lnTo>
                    <a:lnTo>
                      <a:pt x="2228" y="1059"/>
                    </a:lnTo>
                    <a:lnTo>
                      <a:pt x="2218" y="1076"/>
                    </a:lnTo>
                    <a:lnTo>
                      <a:pt x="2207" y="1093"/>
                    </a:lnTo>
                    <a:lnTo>
                      <a:pt x="2196" y="1110"/>
                    </a:lnTo>
                    <a:lnTo>
                      <a:pt x="2186" y="1125"/>
                    </a:lnTo>
                    <a:lnTo>
                      <a:pt x="2174" y="1142"/>
                    </a:lnTo>
                    <a:lnTo>
                      <a:pt x="2162" y="1158"/>
                    </a:lnTo>
                    <a:lnTo>
                      <a:pt x="2150" y="1172"/>
                    </a:lnTo>
                    <a:lnTo>
                      <a:pt x="2138" y="1186"/>
                    </a:lnTo>
                    <a:lnTo>
                      <a:pt x="2124" y="1200"/>
                    </a:lnTo>
                    <a:lnTo>
                      <a:pt x="2111" y="1213"/>
                    </a:lnTo>
                    <a:lnTo>
                      <a:pt x="2098" y="1226"/>
                    </a:lnTo>
                    <a:lnTo>
                      <a:pt x="2085" y="1238"/>
                    </a:lnTo>
                    <a:lnTo>
                      <a:pt x="2070" y="1250"/>
                    </a:lnTo>
                    <a:lnTo>
                      <a:pt x="2057" y="1262"/>
                    </a:lnTo>
                    <a:lnTo>
                      <a:pt x="2043" y="1273"/>
                    </a:lnTo>
                    <a:lnTo>
                      <a:pt x="2032" y="1281"/>
                    </a:lnTo>
                    <a:lnTo>
                      <a:pt x="2021" y="1288"/>
                    </a:lnTo>
                    <a:lnTo>
                      <a:pt x="2010" y="1297"/>
                    </a:lnTo>
                    <a:lnTo>
                      <a:pt x="2000" y="1303"/>
                    </a:lnTo>
                    <a:lnTo>
                      <a:pt x="1989" y="1310"/>
                    </a:lnTo>
                    <a:lnTo>
                      <a:pt x="1977" y="1316"/>
                    </a:lnTo>
                    <a:lnTo>
                      <a:pt x="1965" y="1322"/>
                    </a:lnTo>
                    <a:lnTo>
                      <a:pt x="1954" y="1327"/>
                    </a:lnTo>
                    <a:lnTo>
                      <a:pt x="1943" y="1330"/>
                    </a:lnTo>
                    <a:lnTo>
                      <a:pt x="1931" y="1333"/>
                    </a:lnTo>
                    <a:lnTo>
                      <a:pt x="1920" y="1335"/>
                    </a:lnTo>
                    <a:lnTo>
                      <a:pt x="1910" y="1336"/>
                    </a:lnTo>
                    <a:lnTo>
                      <a:pt x="1898" y="1338"/>
                    </a:lnTo>
                    <a:lnTo>
                      <a:pt x="1887" y="1340"/>
                    </a:lnTo>
                    <a:lnTo>
                      <a:pt x="1876" y="1341"/>
                    </a:lnTo>
                    <a:lnTo>
                      <a:pt x="1864" y="1345"/>
                    </a:lnTo>
                    <a:lnTo>
                      <a:pt x="1857" y="1346"/>
                    </a:lnTo>
                    <a:lnTo>
                      <a:pt x="1850" y="1348"/>
                    </a:lnTo>
                    <a:lnTo>
                      <a:pt x="1841" y="1350"/>
                    </a:lnTo>
                    <a:lnTo>
                      <a:pt x="1834" y="1352"/>
                    </a:lnTo>
                    <a:lnTo>
                      <a:pt x="1827" y="1354"/>
                    </a:lnTo>
                    <a:lnTo>
                      <a:pt x="1821" y="1358"/>
                    </a:lnTo>
                    <a:lnTo>
                      <a:pt x="1815" y="1363"/>
                    </a:lnTo>
                    <a:lnTo>
                      <a:pt x="1811" y="1367"/>
                    </a:lnTo>
                    <a:lnTo>
                      <a:pt x="1809" y="1373"/>
                    </a:lnTo>
                    <a:lnTo>
                      <a:pt x="1809" y="1378"/>
                    </a:lnTo>
                    <a:lnTo>
                      <a:pt x="1811" y="1384"/>
                    </a:lnTo>
                    <a:lnTo>
                      <a:pt x="1814" y="1390"/>
                    </a:lnTo>
                    <a:lnTo>
                      <a:pt x="1817" y="1395"/>
                    </a:lnTo>
                    <a:lnTo>
                      <a:pt x="1821" y="1400"/>
                    </a:lnTo>
                    <a:lnTo>
                      <a:pt x="1824" y="1405"/>
                    </a:lnTo>
                    <a:lnTo>
                      <a:pt x="1829" y="1409"/>
                    </a:lnTo>
                    <a:lnTo>
                      <a:pt x="1839" y="1418"/>
                    </a:lnTo>
                    <a:lnTo>
                      <a:pt x="1848" y="1425"/>
                    </a:lnTo>
                    <a:lnTo>
                      <a:pt x="1860" y="1432"/>
                    </a:lnTo>
                    <a:lnTo>
                      <a:pt x="1871" y="1438"/>
                    </a:lnTo>
                    <a:lnTo>
                      <a:pt x="1882" y="1444"/>
                    </a:lnTo>
                    <a:lnTo>
                      <a:pt x="1893" y="1451"/>
                    </a:lnTo>
                    <a:lnTo>
                      <a:pt x="1904" y="1460"/>
                    </a:lnTo>
                    <a:lnTo>
                      <a:pt x="1912" y="1468"/>
                    </a:lnTo>
                    <a:lnTo>
                      <a:pt x="1920" y="1480"/>
                    </a:lnTo>
                    <a:lnTo>
                      <a:pt x="1929" y="1493"/>
                    </a:lnTo>
                    <a:lnTo>
                      <a:pt x="1935" y="1507"/>
                    </a:lnTo>
                    <a:lnTo>
                      <a:pt x="1942" y="1520"/>
                    </a:lnTo>
                    <a:lnTo>
                      <a:pt x="1947" y="1534"/>
                    </a:lnTo>
                    <a:lnTo>
                      <a:pt x="1953" y="1547"/>
                    </a:lnTo>
                    <a:lnTo>
                      <a:pt x="1959" y="1562"/>
                    </a:lnTo>
                    <a:lnTo>
                      <a:pt x="1965" y="1575"/>
                    </a:lnTo>
                    <a:lnTo>
                      <a:pt x="1973" y="1594"/>
                    </a:lnTo>
                    <a:lnTo>
                      <a:pt x="1982" y="1613"/>
                    </a:lnTo>
                    <a:lnTo>
                      <a:pt x="1989" y="1634"/>
                    </a:lnTo>
                    <a:lnTo>
                      <a:pt x="1996" y="1653"/>
                    </a:lnTo>
                    <a:lnTo>
                      <a:pt x="2003" y="1672"/>
                    </a:lnTo>
                    <a:lnTo>
                      <a:pt x="2013" y="1690"/>
                    </a:lnTo>
                    <a:lnTo>
                      <a:pt x="2018" y="1700"/>
                    </a:lnTo>
                    <a:lnTo>
                      <a:pt x="2024" y="1708"/>
                    </a:lnTo>
                    <a:lnTo>
                      <a:pt x="2030" y="1715"/>
                    </a:lnTo>
                    <a:lnTo>
                      <a:pt x="2037" y="1724"/>
                    </a:lnTo>
                    <a:lnTo>
                      <a:pt x="2044" y="1731"/>
                    </a:lnTo>
                    <a:lnTo>
                      <a:pt x="2052" y="1738"/>
                    </a:lnTo>
                    <a:lnTo>
                      <a:pt x="2061" y="1745"/>
                    </a:lnTo>
                    <a:lnTo>
                      <a:pt x="2070" y="1751"/>
                    </a:lnTo>
                    <a:lnTo>
                      <a:pt x="2090" y="1763"/>
                    </a:lnTo>
                    <a:lnTo>
                      <a:pt x="2109" y="1774"/>
                    </a:lnTo>
                    <a:lnTo>
                      <a:pt x="2129" y="1784"/>
                    </a:lnTo>
                    <a:lnTo>
                      <a:pt x="2150" y="1793"/>
                    </a:lnTo>
                    <a:lnTo>
                      <a:pt x="2170" y="1803"/>
                    </a:lnTo>
                    <a:lnTo>
                      <a:pt x="2190" y="1813"/>
                    </a:lnTo>
                    <a:lnTo>
                      <a:pt x="2205" y="1819"/>
                    </a:lnTo>
                    <a:lnTo>
                      <a:pt x="2220" y="1825"/>
                    </a:lnTo>
                    <a:lnTo>
                      <a:pt x="2235" y="1831"/>
                    </a:lnTo>
                    <a:lnTo>
                      <a:pt x="2250" y="1835"/>
                    </a:lnTo>
                    <a:lnTo>
                      <a:pt x="2266" y="1840"/>
                    </a:lnTo>
                    <a:lnTo>
                      <a:pt x="2280" y="1846"/>
                    </a:lnTo>
                    <a:lnTo>
                      <a:pt x="2295" y="1852"/>
                    </a:lnTo>
                    <a:lnTo>
                      <a:pt x="2309" y="1859"/>
                    </a:lnTo>
                    <a:lnTo>
                      <a:pt x="2316" y="1864"/>
                    </a:lnTo>
                    <a:lnTo>
                      <a:pt x="2322" y="1869"/>
                    </a:lnTo>
                    <a:lnTo>
                      <a:pt x="2328" y="1874"/>
                    </a:lnTo>
                    <a:lnTo>
                      <a:pt x="2334" y="1880"/>
                    </a:lnTo>
                    <a:lnTo>
                      <a:pt x="2340" y="1886"/>
                    </a:lnTo>
                    <a:lnTo>
                      <a:pt x="2345" y="1893"/>
                    </a:lnTo>
                    <a:lnTo>
                      <a:pt x="2349" y="1900"/>
                    </a:lnTo>
                    <a:lnTo>
                      <a:pt x="2351" y="1907"/>
                    </a:lnTo>
                    <a:lnTo>
                      <a:pt x="2352" y="1917"/>
                    </a:lnTo>
                    <a:lnTo>
                      <a:pt x="2355" y="1927"/>
                    </a:lnTo>
                    <a:lnTo>
                      <a:pt x="2356" y="1937"/>
                    </a:lnTo>
                    <a:lnTo>
                      <a:pt x="2356" y="1948"/>
                    </a:lnTo>
                    <a:lnTo>
                      <a:pt x="2354" y="1958"/>
                    </a:lnTo>
                    <a:lnTo>
                      <a:pt x="2351" y="1966"/>
                    </a:lnTo>
                    <a:lnTo>
                      <a:pt x="2349" y="1971"/>
                    </a:lnTo>
                    <a:lnTo>
                      <a:pt x="2346" y="1973"/>
                    </a:lnTo>
                    <a:lnTo>
                      <a:pt x="2343" y="1976"/>
                    </a:lnTo>
                    <a:lnTo>
                      <a:pt x="2339" y="1978"/>
                    </a:lnTo>
                    <a:lnTo>
                      <a:pt x="2332" y="1981"/>
                    </a:lnTo>
                    <a:lnTo>
                      <a:pt x="2324" y="1982"/>
                    </a:lnTo>
                    <a:lnTo>
                      <a:pt x="2316" y="1983"/>
                    </a:lnTo>
                    <a:lnTo>
                      <a:pt x="2309" y="1983"/>
                    </a:lnTo>
                    <a:lnTo>
                      <a:pt x="2292" y="1982"/>
                    </a:lnTo>
                    <a:lnTo>
                      <a:pt x="2277" y="1979"/>
                    </a:lnTo>
                    <a:lnTo>
                      <a:pt x="2261" y="1975"/>
                    </a:lnTo>
                    <a:lnTo>
                      <a:pt x="2246" y="1970"/>
                    </a:lnTo>
                    <a:lnTo>
                      <a:pt x="2230" y="1965"/>
                    </a:lnTo>
                    <a:lnTo>
                      <a:pt x="2214" y="1960"/>
                    </a:lnTo>
                    <a:lnTo>
                      <a:pt x="2198" y="1955"/>
                    </a:lnTo>
                    <a:lnTo>
                      <a:pt x="2181" y="1949"/>
                    </a:lnTo>
                    <a:lnTo>
                      <a:pt x="2164" y="1943"/>
                    </a:lnTo>
                    <a:lnTo>
                      <a:pt x="2148" y="1936"/>
                    </a:lnTo>
                    <a:lnTo>
                      <a:pt x="2132" y="1929"/>
                    </a:lnTo>
                    <a:lnTo>
                      <a:pt x="2116" y="1922"/>
                    </a:lnTo>
                    <a:lnTo>
                      <a:pt x="2100" y="1915"/>
                    </a:lnTo>
                    <a:lnTo>
                      <a:pt x="2084" y="1907"/>
                    </a:lnTo>
                    <a:lnTo>
                      <a:pt x="2064" y="1899"/>
                    </a:lnTo>
                    <a:lnTo>
                      <a:pt x="2044" y="1891"/>
                    </a:lnTo>
                    <a:lnTo>
                      <a:pt x="2025" y="1883"/>
                    </a:lnTo>
                    <a:lnTo>
                      <a:pt x="2004" y="1875"/>
                    </a:lnTo>
                    <a:lnTo>
                      <a:pt x="1985" y="1867"/>
                    </a:lnTo>
                    <a:lnTo>
                      <a:pt x="1966" y="1858"/>
                    </a:lnTo>
                    <a:lnTo>
                      <a:pt x="1947" y="1847"/>
                    </a:lnTo>
                    <a:lnTo>
                      <a:pt x="1930" y="1837"/>
                    </a:lnTo>
                    <a:lnTo>
                      <a:pt x="1917" y="1826"/>
                    </a:lnTo>
                    <a:lnTo>
                      <a:pt x="1905" y="1815"/>
                    </a:lnTo>
                    <a:lnTo>
                      <a:pt x="1893" y="1803"/>
                    </a:lnTo>
                    <a:lnTo>
                      <a:pt x="1882" y="1791"/>
                    </a:lnTo>
                    <a:lnTo>
                      <a:pt x="1872" y="1778"/>
                    </a:lnTo>
                    <a:lnTo>
                      <a:pt x="1863" y="1763"/>
                    </a:lnTo>
                    <a:lnTo>
                      <a:pt x="1854" y="1750"/>
                    </a:lnTo>
                    <a:lnTo>
                      <a:pt x="1847" y="1736"/>
                    </a:lnTo>
                    <a:lnTo>
                      <a:pt x="1842" y="1725"/>
                    </a:lnTo>
                    <a:lnTo>
                      <a:pt x="1840" y="1714"/>
                    </a:lnTo>
                    <a:lnTo>
                      <a:pt x="1840" y="1703"/>
                    </a:lnTo>
                    <a:lnTo>
                      <a:pt x="1839" y="1691"/>
                    </a:lnTo>
                    <a:lnTo>
                      <a:pt x="1839" y="1679"/>
                    </a:lnTo>
                    <a:lnTo>
                      <a:pt x="1839" y="1669"/>
                    </a:lnTo>
                    <a:lnTo>
                      <a:pt x="1838" y="1658"/>
                    </a:lnTo>
                    <a:lnTo>
                      <a:pt x="1835" y="1647"/>
                    </a:lnTo>
                    <a:lnTo>
                      <a:pt x="1832" y="1636"/>
                    </a:lnTo>
                    <a:lnTo>
                      <a:pt x="1828" y="1627"/>
                    </a:lnTo>
                    <a:lnTo>
                      <a:pt x="1823" y="1617"/>
                    </a:lnTo>
                    <a:lnTo>
                      <a:pt x="1818" y="1607"/>
                    </a:lnTo>
                    <a:lnTo>
                      <a:pt x="1814" y="1599"/>
                    </a:lnTo>
                    <a:lnTo>
                      <a:pt x="1808" y="1591"/>
                    </a:lnTo>
                    <a:lnTo>
                      <a:pt x="1800" y="1582"/>
                    </a:lnTo>
                    <a:lnTo>
                      <a:pt x="1793" y="1575"/>
                    </a:lnTo>
                    <a:lnTo>
                      <a:pt x="1788" y="1573"/>
                    </a:lnTo>
                    <a:lnTo>
                      <a:pt x="1782" y="1570"/>
                    </a:lnTo>
                    <a:lnTo>
                      <a:pt x="1775" y="1568"/>
                    </a:lnTo>
                    <a:lnTo>
                      <a:pt x="1769" y="1568"/>
                    </a:lnTo>
                    <a:lnTo>
                      <a:pt x="1762" y="1568"/>
                    </a:lnTo>
                    <a:lnTo>
                      <a:pt x="1756" y="1569"/>
                    </a:lnTo>
                    <a:lnTo>
                      <a:pt x="1750" y="1571"/>
                    </a:lnTo>
                    <a:lnTo>
                      <a:pt x="1746" y="1575"/>
                    </a:lnTo>
                    <a:lnTo>
                      <a:pt x="1740" y="1582"/>
                    </a:lnTo>
                    <a:lnTo>
                      <a:pt x="1736" y="1591"/>
                    </a:lnTo>
                    <a:lnTo>
                      <a:pt x="1731" y="1599"/>
                    </a:lnTo>
                    <a:lnTo>
                      <a:pt x="1728" y="1609"/>
                    </a:lnTo>
                    <a:lnTo>
                      <a:pt x="1726" y="1618"/>
                    </a:lnTo>
                    <a:lnTo>
                      <a:pt x="1725" y="1628"/>
                    </a:lnTo>
                    <a:lnTo>
                      <a:pt x="1724" y="1637"/>
                    </a:lnTo>
                    <a:lnTo>
                      <a:pt x="1722" y="1647"/>
                    </a:lnTo>
                    <a:lnTo>
                      <a:pt x="1720" y="1666"/>
                    </a:lnTo>
                    <a:lnTo>
                      <a:pt x="1720" y="1687"/>
                    </a:lnTo>
                    <a:lnTo>
                      <a:pt x="1720" y="1706"/>
                    </a:lnTo>
                    <a:lnTo>
                      <a:pt x="1720" y="1726"/>
                    </a:lnTo>
                    <a:lnTo>
                      <a:pt x="1720" y="1747"/>
                    </a:lnTo>
                    <a:lnTo>
                      <a:pt x="1721" y="1767"/>
                    </a:lnTo>
                    <a:lnTo>
                      <a:pt x="1721" y="1786"/>
                    </a:lnTo>
                    <a:lnTo>
                      <a:pt x="1722" y="1807"/>
                    </a:lnTo>
                    <a:lnTo>
                      <a:pt x="1722" y="1822"/>
                    </a:lnTo>
                    <a:lnTo>
                      <a:pt x="1724" y="1838"/>
                    </a:lnTo>
                    <a:lnTo>
                      <a:pt x="1726" y="1853"/>
                    </a:lnTo>
                    <a:lnTo>
                      <a:pt x="1727" y="1869"/>
                    </a:lnTo>
                    <a:lnTo>
                      <a:pt x="1728" y="1885"/>
                    </a:lnTo>
                    <a:lnTo>
                      <a:pt x="1730" y="1900"/>
                    </a:lnTo>
                    <a:lnTo>
                      <a:pt x="1730" y="1916"/>
                    </a:lnTo>
                    <a:lnTo>
                      <a:pt x="1728" y="1931"/>
                    </a:lnTo>
                    <a:lnTo>
                      <a:pt x="1726" y="1942"/>
                    </a:lnTo>
                    <a:lnTo>
                      <a:pt x="1722" y="1954"/>
                    </a:lnTo>
                    <a:lnTo>
                      <a:pt x="1718" y="1965"/>
                    </a:lnTo>
                    <a:lnTo>
                      <a:pt x="1713" y="1976"/>
                    </a:lnTo>
                    <a:lnTo>
                      <a:pt x="1708" y="1987"/>
                    </a:lnTo>
                    <a:lnTo>
                      <a:pt x="1702" y="1997"/>
                    </a:lnTo>
                    <a:lnTo>
                      <a:pt x="1697" y="2008"/>
                    </a:lnTo>
                    <a:lnTo>
                      <a:pt x="1692" y="2020"/>
                    </a:lnTo>
                    <a:lnTo>
                      <a:pt x="1688" y="2033"/>
                    </a:lnTo>
                    <a:lnTo>
                      <a:pt x="1683" y="2047"/>
                    </a:lnTo>
                    <a:lnTo>
                      <a:pt x="1679" y="2061"/>
                    </a:lnTo>
                    <a:lnTo>
                      <a:pt x="1674" y="2074"/>
                    </a:lnTo>
                    <a:lnTo>
                      <a:pt x="1670" y="2089"/>
                    </a:lnTo>
                    <a:lnTo>
                      <a:pt x="1665" y="2102"/>
                    </a:lnTo>
                    <a:lnTo>
                      <a:pt x="1659" y="2114"/>
                    </a:lnTo>
                    <a:lnTo>
                      <a:pt x="1650" y="2127"/>
                    </a:lnTo>
                    <a:lnTo>
                      <a:pt x="1643" y="2136"/>
                    </a:lnTo>
                    <a:lnTo>
                      <a:pt x="1635" y="2146"/>
                    </a:lnTo>
                    <a:lnTo>
                      <a:pt x="1625" y="2154"/>
                    </a:lnTo>
                    <a:lnTo>
                      <a:pt x="1616" y="2163"/>
                    </a:lnTo>
                    <a:lnTo>
                      <a:pt x="1606" y="2170"/>
                    </a:lnTo>
                    <a:lnTo>
                      <a:pt x="1595" y="2177"/>
                    </a:lnTo>
                    <a:lnTo>
                      <a:pt x="1584" y="2184"/>
                    </a:lnTo>
                    <a:lnTo>
                      <a:pt x="1574" y="2192"/>
                    </a:lnTo>
                    <a:lnTo>
                      <a:pt x="1566" y="2195"/>
                    </a:lnTo>
                    <a:lnTo>
                      <a:pt x="1559" y="2200"/>
                    </a:lnTo>
                    <a:lnTo>
                      <a:pt x="1552" y="2205"/>
                    </a:lnTo>
                    <a:lnTo>
                      <a:pt x="1544" y="2208"/>
                    </a:lnTo>
                    <a:lnTo>
                      <a:pt x="1536" y="2212"/>
                    </a:lnTo>
                    <a:lnTo>
                      <a:pt x="1528" y="2213"/>
                    </a:lnTo>
                    <a:lnTo>
                      <a:pt x="1524" y="2213"/>
                    </a:lnTo>
                    <a:lnTo>
                      <a:pt x="1521" y="2212"/>
                    </a:lnTo>
                    <a:lnTo>
                      <a:pt x="1518" y="2211"/>
                    </a:lnTo>
                    <a:lnTo>
                      <a:pt x="1515" y="2210"/>
                    </a:lnTo>
                    <a:lnTo>
                      <a:pt x="1506" y="2202"/>
                    </a:lnTo>
                    <a:lnTo>
                      <a:pt x="1500" y="2194"/>
                    </a:lnTo>
                    <a:lnTo>
                      <a:pt x="1496" y="2186"/>
                    </a:lnTo>
                    <a:lnTo>
                      <a:pt x="1491" y="2175"/>
                    </a:lnTo>
                    <a:lnTo>
                      <a:pt x="1488" y="2164"/>
                    </a:lnTo>
                    <a:lnTo>
                      <a:pt x="1486" y="2153"/>
                    </a:lnTo>
                    <a:lnTo>
                      <a:pt x="1485" y="2142"/>
                    </a:lnTo>
                    <a:lnTo>
                      <a:pt x="1485" y="2132"/>
                    </a:lnTo>
                    <a:lnTo>
                      <a:pt x="1486" y="2117"/>
                    </a:lnTo>
                    <a:lnTo>
                      <a:pt x="1487" y="2102"/>
                    </a:lnTo>
                    <a:lnTo>
                      <a:pt x="1491" y="2087"/>
                    </a:lnTo>
                    <a:lnTo>
                      <a:pt x="1494" y="2072"/>
                    </a:lnTo>
                    <a:lnTo>
                      <a:pt x="1499" y="2057"/>
                    </a:lnTo>
                    <a:lnTo>
                      <a:pt x="1504" y="2043"/>
                    </a:lnTo>
                    <a:lnTo>
                      <a:pt x="1509" y="2029"/>
                    </a:lnTo>
                    <a:lnTo>
                      <a:pt x="1515" y="2014"/>
                    </a:lnTo>
                    <a:lnTo>
                      <a:pt x="1520" y="2002"/>
                    </a:lnTo>
                    <a:lnTo>
                      <a:pt x="1526" y="1990"/>
                    </a:lnTo>
                    <a:lnTo>
                      <a:pt x="1533" y="1978"/>
                    </a:lnTo>
                    <a:lnTo>
                      <a:pt x="1540" y="1967"/>
                    </a:lnTo>
                    <a:lnTo>
                      <a:pt x="1546" y="1955"/>
                    </a:lnTo>
                    <a:lnTo>
                      <a:pt x="1553" y="1943"/>
                    </a:lnTo>
                    <a:lnTo>
                      <a:pt x="1558" y="1931"/>
                    </a:lnTo>
                    <a:lnTo>
                      <a:pt x="1562" y="1919"/>
                    </a:lnTo>
                    <a:lnTo>
                      <a:pt x="1566" y="1898"/>
                    </a:lnTo>
                    <a:lnTo>
                      <a:pt x="1571" y="1876"/>
                    </a:lnTo>
                    <a:lnTo>
                      <a:pt x="1575" y="1856"/>
                    </a:lnTo>
                    <a:lnTo>
                      <a:pt x="1577" y="1834"/>
                    </a:lnTo>
                    <a:lnTo>
                      <a:pt x="1578" y="1813"/>
                    </a:lnTo>
                    <a:lnTo>
                      <a:pt x="1580" y="1791"/>
                    </a:lnTo>
                    <a:lnTo>
                      <a:pt x="1581" y="1768"/>
                    </a:lnTo>
                    <a:lnTo>
                      <a:pt x="1580" y="1747"/>
                    </a:lnTo>
                    <a:lnTo>
                      <a:pt x="1578" y="1733"/>
                    </a:lnTo>
                    <a:lnTo>
                      <a:pt x="1577" y="1719"/>
                    </a:lnTo>
                    <a:lnTo>
                      <a:pt x="1575" y="1706"/>
                    </a:lnTo>
                    <a:lnTo>
                      <a:pt x="1571" y="1693"/>
                    </a:lnTo>
                    <a:lnTo>
                      <a:pt x="1568" y="1678"/>
                    </a:lnTo>
                    <a:lnTo>
                      <a:pt x="1562" y="1665"/>
                    </a:lnTo>
                    <a:lnTo>
                      <a:pt x="1557" y="1653"/>
                    </a:lnTo>
                    <a:lnTo>
                      <a:pt x="1550" y="1641"/>
                    </a:lnTo>
                    <a:lnTo>
                      <a:pt x="1546" y="1633"/>
                    </a:lnTo>
                    <a:lnTo>
                      <a:pt x="1540" y="1627"/>
                    </a:lnTo>
                    <a:lnTo>
                      <a:pt x="1534" y="1619"/>
                    </a:lnTo>
                    <a:lnTo>
                      <a:pt x="1528" y="1613"/>
                    </a:lnTo>
                    <a:lnTo>
                      <a:pt x="1521" y="1607"/>
                    </a:lnTo>
                    <a:lnTo>
                      <a:pt x="1512" y="1604"/>
                    </a:lnTo>
                    <a:lnTo>
                      <a:pt x="1505" y="1600"/>
                    </a:lnTo>
                    <a:lnTo>
                      <a:pt x="1497" y="1599"/>
                    </a:lnTo>
                    <a:lnTo>
                      <a:pt x="1487" y="1599"/>
                    </a:lnTo>
                    <a:lnTo>
                      <a:pt x="1478" y="1600"/>
                    </a:lnTo>
                    <a:lnTo>
                      <a:pt x="1468" y="1603"/>
                    </a:lnTo>
                    <a:lnTo>
                      <a:pt x="1458" y="1606"/>
                    </a:lnTo>
                    <a:lnTo>
                      <a:pt x="1449" y="1610"/>
                    </a:lnTo>
                    <a:lnTo>
                      <a:pt x="1440" y="1616"/>
                    </a:lnTo>
                    <a:lnTo>
                      <a:pt x="1432" y="1622"/>
                    </a:lnTo>
                    <a:lnTo>
                      <a:pt x="1426" y="1629"/>
                    </a:lnTo>
                    <a:lnTo>
                      <a:pt x="1416" y="1640"/>
                    </a:lnTo>
                    <a:lnTo>
                      <a:pt x="1408" y="1653"/>
                    </a:lnTo>
                    <a:lnTo>
                      <a:pt x="1402" y="1666"/>
                    </a:lnTo>
                    <a:lnTo>
                      <a:pt x="1396" y="1679"/>
                    </a:lnTo>
                    <a:lnTo>
                      <a:pt x="1390" y="1694"/>
                    </a:lnTo>
                    <a:lnTo>
                      <a:pt x="1384" y="1708"/>
                    </a:lnTo>
                    <a:lnTo>
                      <a:pt x="1378" y="1721"/>
                    </a:lnTo>
                    <a:lnTo>
                      <a:pt x="1372" y="1736"/>
                    </a:lnTo>
                    <a:lnTo>
                      <a:pt x="1361" y="1757"/>
                    </a:lnTo>
                    <a:lnTo>
                      <a:pt x="1350" y="1779"/>
                    </a:lnTo>
                    <a:lnTo>
                      <a:pt x="1340" y="1801"/>
                    </a:lnTo>
                    <a:lnTo>
                      <a:pt x="1330" y="1822"/>
                    </a:lnTo>
                    <a:lnTo>
                      <a:pt x="1319" y="1844"/>
                    </a:lnTo>
                    <a:lnTo>
                      <a:pt x="1307" y="1865"/>
                    </a:lnTo>
                    <a:lnTo>
                      <a:pt x="1295" y="1887"/>
                    </a:lnTo>
                    <a:lnTo>
                      <a:pt x="1283" y="1907"/>
                    </a:lnTo>
                    <a:lnTo>
                      <a:pt x="1271" y="1927"/>
                    </a:lnTo>
                    <a:lnTo>
                      <a:pt x="1259" y="1945"/>
                    </a:lnTo>
                    <a:lnTo>
                      <a:pt x="1247" y="1964"/>
                    </a:lnTo>
                    <a:lnTo>
                      <a:pt x="1234" y="1982"/>
                    </a:lnTo>
                    <a:lnTo>
                      <a:pt x="1221" y="2000"/>
                    </a:lnTo>
                    <a:lnTo>
                      <a:pt x="1206" y="2017"/>
                    </a:lnTo>
                    <a:lnTo>
                      <a:pt x="1192" y="2033"/>
                    </a:lnTo>
                    <a:lnTo>
                      <a:pt x="1176" y="2049"/>
                    </a:lnTo>
                    <a:lnTo>
                      <a:pt x="1160" y="2065"/>
                    </a:lnTo>
                    <a:lnTo>
                      <a:pt x="1143" y="2079"/>
                    </a:lnTo>
                    <a:lnTo>
                      <a:pt x="1125" y="2092"/>
                    </a:lnTo>
                    <a:lnTo>
                      <a:pt x="1107" y="2105"/>
                    </a:lnTo>
                    <a:lnTo>
                      <a:pt x="1088" y="2117"/>
                    </a:lnTo>
                    <a:lnTo>
                      <a:pt x="1068" y="2129"/>
                    </a:lnTo>
                    <a:lnTo>
                      <a:pt x="1048" y="2140"/>
                    </a:lnTo>
                    <a:lnTo>
                      <a:pt x="1029" y="2150"/>
                    </a:lnTo>
                    <a:lnTo>
                      <a:pt x="1013" y="2157"/>
                    </a:lnTo>
                    <a:lnTo>
                      <a:pt x="998" y="2163"/>
                    </a:lnTo>
                    <a:lnTo>
                      <a:pt x="981" y="2169"/>
                    </a:lnTo>
                    <a:lnTo>
                      <a:pt x="964" y="2172"/>
                    </a:lnTo>
                    <a:lnTo>
                      <a:pt x="948" y="2177"/>
                    </a:lnTo>
                    <a:lnTo>
                      <a:pt x="932" y="2181"/>
                    </a:lnTo>
                    <a:lnTo>
                      <a:pt x="915" y="2183"/>
                    </a:lnTo>
                    <a:lnTo>
                      <a:pt x="898" y="2186"/>
                    </a:lnTo>
                    <a:lnTo>
                      <a:pt x="892" y="2186"/>
                    </a:lnTo>
                    <a:lnTo>
                      <a:pt x="885" y="2187"/>
                    </a:lnTo>
                    <a:lnTo>
                      <a:pt x="878" y="2186"/>
                    </a:lnTo>
                    <a:lnTo>
                      <a:pt x="872" y="2186"/>
                    </a:lnTo>
                    <a:lnTo>
                      <a:pt x="866" y="2184"/>
                    </a:lnTo>
                    <a:lnTo>
                      <a:pt x="860" y="2182"/>
                    </a:lnTo>
                    <a:lnTo>
                      <a:pt x="855" y="2178"/>
                    </a:lnTo>
                    <a:lnTo>
                      <a:pt x="850" y="2174"/>
                    </a:lnTo>
                    <a:lnTo>
                      <a:pt x="848" y="2169"/>
                    </a:lnTo>
                    <a:lnTo>
                      <a:pt x="846" y="2163"/>
                    </a:lnTo>
                    <a:lnTo>
                      <a:pt x="845" y="2156"/>
                    </a:lnTo>
                    <a:lnTo>
                      <a:pt x="846" y="2150"/>
                    </a:lnTo>
                    <a:lnTo>
                      <a:pt x="848" y="2144"/>
                    </a:lnTo>
                    <a:lnTo>
                      <a:pt x="850" y="2136"/>
                    </a:lnTo>
                    <a:lnTo>
                      <a:pt x="852" y="2132"/>
                    </a:lnTo>
                    <a:lnTo>
                      <a:pt x="856" y="2127"/>
                    </a:lnTo>
                    <a:lnTo>
                      <a:pt x="868" y="2112"/>
                    </a:lnTo>
                    <a:lnTo>
                      <a:pt x="882" y="2100"/>
                    </a:lnTo>
                    <a:lnTo>
                      <a:pt x="896" y="2089"/>
                    </a:lnTo>
                    <a:lnTo>
                      <a:pt x="911" y="2077"/>
                    </a:lnTo>
                    <a:lnTo>
                      <a:pt x="926" y="2066"/>
                    </a:lnTo>
                    <a:lnTo>
                      <a:pt x="940" y="2055"/>
                    </a:lnTo>
                    <a:lnTo>
                      <a:pt x="954" y="2043"/>
                    </a:lnTo>
                    <a:lnTo>
                      <a:pt x="969" y="2032"/>
                    </a:lnTo>
                    <a:lnTo>
                      <a:pt x="986" y="2018"/>
                    </a:lnTo>
                    <a:lnTo>
                      <a:pt x="1001" y="2003"/>
                    </a:lnTo>
                    <a:lnTo>
                      <a:pt x="1018" y="1990"/>
                    </a:lnTo>
                    <a:lnTo>
                      <a:pt x="1035" y="1976"/>
                    </a:lnTo>
                    <a:lnTo>
                      <a:pt x="1050" y="1961"/>
                    </a:lnTo>
                    <a:lnTo>
                      <a:pt x="1066" y="1946"/>
                    </a:lnTo>
                    <a:lnTo>
                      <a:pt x="1080" y="1930"/>
                    </a:lnTo>
                    <a:lnTo>
                      <a:pt x="1094" y="1913"/>
                    </a:lnTo>
                    <a:lnTo>
                      <a:pt x="1106" y="1895"/>
                    </a:lnTo>
                    <a:lnTo>
                      <a:pt x="1118" y="1876"/>
                    </a:lnTo>
                    <a:lnTo>
                      <a:pt x="1128" y="1857"/>
                    </a:lnTo>
                    <a:lnTo>
                      <a:pt x="1138" y="1837"/>
                    </a:lnTo>
                    <a:lnTo>
                      <a:pt x="1146" y="1816"/>
                    </a:lnTo>
                    <a:lnTo>
                      <a:pt x="1154" y="1796"/>
                    </a:lnTo>
                    <a:lnTo>
                      <a:pt x="1160" y="1774"/>
                    </a:lnTo>
                    <a:lnTo>
                      <a:pt x="1164" y="1753"/>
                    </a:lnTo>
                    <a:lnTo>
                      <a:pt x="1166" y="1743"/>
                    </a:lnTo>
                    <a:lnTo>
                      <a:pt x="1164" y="1733"/>
                    </a:lnTo>
                    <a:lnTo>
                      <a:pt x="1163" y="1724"/>
                    </a:lnTo>
                    <a:lnTo>
                      <a:pt x="1160" y="1714"/>
                    </a:lnTo>
                    <a:lnTo>
                      <a:pt x="1155" y="1705"/>
                    </a:lnTo>
                    <a:lnTo>
                      <a:pt x="1149" y="1696"/>
                    </a:lnTo>
                    <a:lnTo>
                      <a:pt x="1143" y="1688"/>
                    </a:lnTo>
                    <a:lnTo>
                      <a:pt x="1134" y="1682"/>
                    </a:lnTo>
                    <a:lnTo>
                      <a:pt x="1130" y="1679"/>
                    </a:lnTo>
                    <a:lnTo>
                      <a:pt x="1122" y="1678"/>
                    </a:lnTo>
                    <a:lnTo>
                      <a:pt x="1115" y="1678"/>
                    </a:lnTo>
                    <a:lnTo>
                      <a:pt x="1108" y="1679"/>
                    </a:lnTo>
                    <a:lnTo>
                      <a:pt x="1101" y="1683"/>
                    </a:lnTo>
                    <a:lnTo>
                      <a:pt x="1094" y="1685"/>
                    </a:lnTo>
                    <a:lnTo>
                      <a:pt x="1088" y="1690"/>
                    </a:lnTo>
                    <a:lnTo>
                      <a:pt x="1082" y="1694"/>
                    </a:lnTo>
                    <a:lnTo>
                      <a:pt x="1076" y="1700"/>
                    </a:lnTo>
                    <a:lnTo>
                      <a:pt x="1071" y="1706"/>
                    </a:lnTo>
                    <a:lnTo>
                      <a:pt x="1067" y="1713"/>
                    </a:lnTo>
                    <a:lnTo>
                      <a:pt x="1064" y="1720"/>
                    </a:lnTo>
                    <a:lnTo>
                      <a:pt x="1060" y="1729"/>
                    </a:lnTo>
                    <a:lnTo>
                      <a:pt x="1056" y="1736"/>
                    </a:lnTo>
                    <a:lnTo>
                      <a:pt x="1052" y="1742"/>
                    </a:lnTo>
                    <a:lnTo>
                      <a:pt x="1046" y="1747"/>
                    </a:lnTo>
                    <a:lnTo>
                      <a:pt x="1035" y="1755"/>
                    </a:lnTo>
                    <a:lnTo>
                      <a:pt x="1023" y="1762"/>
                    </a:lnTo>
                    <a:lnTo>
                      <a:pt x="1011" y="1768"/>
                    </a:lnTo>
                    <a:lnTo>
                      <a:pt x="998" y="1774"/>
                    </a:lnTo>
                    <a:lnTo>
                      <a:pt x="986" y="1780"/>
                    </a:lnTo>
                    <a:lnTo>
                      <a:pt x="972" y="1784"/>
                    </a:lnTo>
                    <a:lnTo>
                      <a:pt x="959" y="1787"/>
                    </a:lnTo>
                    <a:lnTo>
                      <a:pt x="945" y="1789"/>
                    </a:lnTo>
                    <a:lnTo>
                      <a:pt x="935" y="1789"/>
                    </a:lnTo>
                    <a:lnTo>
                      <a:pt x="924" y="1789"/>
                    </a:lnTo>
                    <a:lnTo>
                      <a:pt x="914" y="1786"/>
                    </a:lnTo>
                    <a:lnTo>
                      <a:pt x="904" y="1784"/>
                    </a:lnTo>
                    <a:lnTo>
                      <a:pt x="894" y="1779"/>
                    </a:lnTo>
                    <a:lnTo>
                      <a:pt x="886" y="1774"/>
                    </a:lnTo>
                    <a:lnTo>
                      <a:pt x="882" y="1771"/>
                    </a:lnTo>
                    <a:lnTo>
                      <a:pt x="879" y="1767"/>
                    </a:lnTo>
                    <a:lnTo>
                      <a:pt x="876" y="1763"/>
                    </a:lnTo>
                    <a:lnTo>
                      <a:pt x="874" y="1759"/>
                    </a:lnTo>
                    <a:lnTo>
                      <a:pt x="872" y="1751"/>
                    </a:lnTo>
                    <a:lnTo>
                      <a:pt x="870" y="1744"/>
                    </a:lnTo>
                    <a:lnTo>
                      <a:pt x="869" y="1737"/>
                    </a:lnTo>
                    <a:lnTo>
                      <a:pt x="869" y="1729"/>
                    </a:lnTo>
                    <a:lnTo>
                      <a:pt x="870" y="1713"/>
                    </a:lnTo>
                    <a:lnTo>
                      <a:pt x="873" y="1697"/>
                    </a:lnTo>
                    <a:lnTo>
                      <a:pt x="876" y="1682"/>
                    </a:lnTo>
                    <a:lnTo>
                      <a:pt x="880" y="1666"/>
                    </a:lnTo>
                    <a:lnTo>
                      <a:pt x="884" y="1651"/>
                    </a:lnTo>
                    <a:lnTo>
                      <a:pt x="886" y="1635"/>
                    </a:lnTo>
                    <a:lnTo>
                      <a:pt x="887" y="1623"/>
                    </a:lnTo>
                    <a:lnTo>
                      <a:pt x="890" y="1612"/>
                    </a:lnTo>
                    <a:lnTo>
                      <a:pt x="892" y="1600"/>
                    </a:lnTo>
                    <a:lnTo>
                      <a:pt x="894" y="1589"/>
                    </a:lnTo>
                    <a:lnTo>
                      <a:pt x="896" y="1577"/>
                    </a:lnTo>
                    <a:lnTo>
                      <a:pt x="897" y="1567"/>
                    </a:lnTo>
                    <a:lnTo>
                      <a:pt x="896" y="1556"/>
                    </a:lnTo>
                    <a:lnTo>
                      <a:pt x="892" y="1546"/>
                    </a:lnTo>
                    <a:lnTo>
                      <a:pt x="888" y="1540"/>
                    </a:lnTo>
                    <a:lnTo>
                      <a:pt x="882" y="1535"/>
                    </a:lnTo>
                    <a:lnTo>
                      <a:pt x="876" y="1533"/>
                    </a:lnTo>
                    <a:lnTo>
                      <a:pt x="869" y="1531"/>
                    </a:lnTo>
                    <a:lnTo>
                      <a:pt x="862" y="1529"/>
                    </a:lnTo>
                    <a:lnTo>
                      <a:pt x="854" y="1528"/>
                    </a:lnTo>
                    <a:lnTo>
                      <a:pt x="845" y="1528"/>
                    </a:lnTo>
                    <a:lnTo>
                      <a:pt x="838" y="1528"/>
                    </a:lnTo>
                    <a:lnTo>
                      <a:pt x="822" y="1529"/>
                    </a:lnTo>
                    <a:lnTo>
                      <a:pt x="806" y="1531"/>
                    </a:lnTo>
                    <a:lnTo>
                      <a:pt x="789" y="1534"/>
                    </a:lnTo>
                    <a:lnTo>
                      <a:pt x="773" y="1538"/>
                    </a:lnTo>
                    <a:lnTo>
                      <a:pt x="756" y="1541"/>
                    </a:lnTo>
                    <a:lnTo>
                      <a:pt x="741" y="1544"/>
                    </a:lnTo>
                    <a:lnTo>
                      <a:pt x="724" y="1546"/>
                    </a:lnTo>
                    <a:lnTo>
                      <a:pt x="708" y="1546"/>
                    </a:lnTo>
                    <a:lnTo>
                      <a:pt x="694" y="1544"/>
                    </a:lnTo>
                    <a:lnTo>
                      <a:pt x="680" y="1541"/>
                    </a:lnTo>
                    <a:lnTo>
                      <a:pt x="666" y="1539"/>
                    </a:lnTo>
                    <a:lnTo>
                      <a:pt x="652" y="1534"/>
                    </a:lnTo>
                    <a:lnTo>
                      <a:pt x="639" y="1529"/>
                    </a:lnTo>
                    <a:lnTo>
                      <a:pt x="626" y="1525"/>
                    </a:lnTo>
                    <a:lnTo>
                      <a:pt x="614" y="1517"/>
                    </a:lnTo>
                    <a:lnTo>
                      <a:pt x="602" y="1510"/>
                    </a:lnTo>
                    <a:lnTo>
                      <a:pt x="593" y="1503"/>
                    </a:lnTo>
                    <a:lnTo>
                      <a:pt x="586" y="1495"/>
                    </a:lnTo>
                    <a:lnTo>
                      <a:pt x="580" y="1485"/>
                    </a:lnTo>
                    <a:lnTo>
                      <a:pt x="574" y="1475"/>
                    </a:lnTo>
                    <a:lnTo>
                      <a:pt x="568" y="1466"/>
                    </a:lnTo>
                    <a:lnTo>
                      <a:pt x="562" y="1456"/>
                    </a:lnTo>
                    <a:lnTo>
                      <a:pt x="556" y="1447"/>
                    </a:lnTo>
                    <a:lnTo>
                      <a:pt x="548" y="1439"/>
                    </a:lnTo>
                    <a:lnTo>
                      <a:pt x="542" y="1435"/>
                    </a:lnTo>
                    <a:lnTo>
                      <a:pt x="534" y="1430"/>
                    </a:lnTo>
                    <a:lnTo>
                      <a:pt x="527" y="1426"/>
                    </a:lnTo>
                    <a:lnTo>
                      <a:pt x="520" y="1423"/>
                    </a:lnTo>
                    <a:lnTo>
                      <a:pt x="513" y="1420"/>
                    </a:lnTo>
                    <a:lnTo>
                      <a:pt x="504" y="1418"/>
                    </a:lnTo>
                    <a:lnTo>
                      <a:pt x="496" y="1417"/>
                    </a:lnTo>
                    <a:lnTo>
                      <a:pt x="489" y="1415"/>
                    </a:lnTo>
                    <a:lnTo>
                      <a:pt x="470" y="1414"/>
                    </a:lnTo>
                    <a:lnTo>
                      <a:pt x="450" y="1414"/>
                    </a:lnTo>
                    <a:lnTo>
                      <a:pt x="431" y="1415"/>
                    </a:lnTo>
                    <a:lnTo>
                      <a:pt x="412" y="1417"/>
                    </a:lnTo>
                    <a:lnTo>
                      <a:pt x="392" y="1418"/>
                    </a:lnTo>
                    <a:lnTo>
                      <a:pt x="372" y="1419"/>
                    </a:lnTo>
                    <a:lnTo>
                      <a:pt x="353" y="1420"/>
                    </a:lnTo>
                    <a:lnTo>
                      <a:pt x="334" y="1421"/>
                    </a:lnTo>
                    <a:lnTo>
                      <a:pt x="312" y="1423"/>
                    </a:lnTo>
                    <a:lnTo>
                      <a:pt x="291" y="1424"/>
                    </a:lnTo>
                    <a:lnTo>
                      <a:pt x="269" y="1426"/>
                    </a:lnTo>
                    <a:lnTo>
                      <a:pt x="248" y="1429"/>
                    </a:lnTo>
                    <a:lnTo>
                      <a:pt x="226" y="1430"/>
                    </a:lnTo>
                    <a:lnTo>
                      <a:pt x="206" y="1430"/>
                    </a:lnTo>
                    <a:lnTo>
                      <a:pt x="184" y="1430"/>
                    </a:lnTo>
                    <a:lnTo>
                      <a:pt x="162" y="1427"/>
                    </a:lnTo>
                    <a:lnTo>
                      <a:pt x="152" y="1425"/>
                    </a:lnTo>
                    <a:lnTo>
                      <a:pt x="141" y="1421"/>
                    </a:lnTo>
                    <a:lnTo>
                      <a:pt x="131" y="1417"/>
                    </a:lnTo>
                    <a:lnTo>
                      <a:pt x="122" y="1412"/>
                    </a:lnTo>
                    <a:lnTo>
                      <a:pt x="112" y="1406"/>
                    </a:lnTo>
                    <a:lnTo>
                      <a:pt x="104" y="1399"/>
                    </a:lnTo>
                    <a:lnTo>
                      <a:pt x="94" y="1393"/>
                    </a:lnTo>
                    <a:lnTo>
                      <a:pt x="86" y="1385"/>
                    </a:lnTo>
                    <a:lnTo>
                      <a:pt x="77" y="1379"/>
                    </a:lnTo>
                    <a:lnTo>
                      <a:pt x="68" y="1373"/>
                    </a:lnTo>
                    <a:lnTo>
                      <a:pt x="59" y="1366"/>
                    </a:lnTo>
                    <a:lnTo>
                      <a:pt x="51" y="1359"/>
                    </a:lnTo>
                    <a:lnTo>
                      <a:pt x="44" y="1352"/>
                    </a:lnTo>
                    <a:lnTo>
                      <a:pt x="36" y="1345"/>
                    </a:lnTo>
                    <a:lnTo>
                      <a:pt x="30" y="1336"/>
                    </a:lnTo>
                    <a:lnTo>
                      <a:pt x="26" y="1327"/>
                    </a:lnTo>
                    <a:lnTo>
                      <a:pt x="23" y="1320"/>
                    </a:lnTo>
                    <a:lnTo>
                      <a:pt x="22" y="1312"/>
                    </a:lnTo>
                    <a:lnTo>
                      <a:pt x="22" y="1305"/>
                    </a:lnTo>
                    <a:lnTo>
                      <a:pt x="23" y="1297"/>
                    </a:lnTo>
                    <a:lnTo>
                      <a:pt x="26" y="1290"/>
                    </a:lnTo>
                    <a:lnTo>
                      <a:pt x="28" y="1282"/>
                    </a:lnTo>
                    <a:lnTo>
                      <a:pt x="33" y="1278"/>
                    </a:lnTo>
                    <a:lnTo>
                      <a:pt x="38" y="1273"/>
                    </a:lnTo>
                    <a:lnTo>
                      <a:pt x="51" y="1267"/>
                    </a:lnTo>
                    <a:lnTo>
                      <a:pt x="65" y="1263"/>
                    </a:lnTo>
                    <a:lnTo>
                      <a:pt x="80" y="1260"/>
                    </a:lnTo>
                    <a:lnTo>
                      <a:pt x="95" y="1258"/>
                    </a:lnTo>
                    <a:lnTo>
                      <a:pt x="111" y="1257"/>
                    </a:lnTo>
                    <a:lnTo>
                      <a:pt x="126" y="1256"/>
                    </a:lnTo>
                    <a:lnTo>
                      <a:pt x="141" y="1256"/>
                    </a:lnTo>
                    <a:lnTo>
                      <a:pt x="156" y="1256"/>
                    </a:lnTo>
                    <a:lnTo>
                      <a:pt x="182" y="1255"/>
                    </a:lnTo>
                    <a:lnTo>
                      <a:pt x="207" y="1256"/>
                    </a:lnTo>
                    <a:lnTo>
                      <a:pt x="232" y="1257"/>
                    </a:lnTo>
                    <a:lnTo>
                      <a:pt x="257" y="1260"/>
                    </a:lnTo>
                    <a:lnTo>
                      <a:pt x="282" y="1261"/>
                    </a:lnTo>
                    <a:lnTo>
                      <a:pt x="308" y="1262"/>
                    </a:lnTo>
                    <a:lnTo>
                      <a:pt x="333" y="1262"/>
                    </a:lnTo>
                    <a:lnTo>
                      <a:pt x="358" y="1262"/>
                    </a:lnTo>
                    <a:lnTo>
                      <a:pt x="374" y="1260"/>
                    </a:lnTo>
                    <a:lnTo>
                      <a:pt x="388" y="1257"/>
                    </a:lnTo>
                    <a:lnTo>
                      <a:pt x="402" y="1254"/>
                    </a:lnTo>
                    <a:lnTo>
                      <a:pt x="418" y="1249"/>
                    </a:lnTo>
                    <a:lnTo>
                      <a:pt x="432" y="1245"/>
                    </a:lnTo>
                    <a:lnTo>
                      <a:pt x="447" y="1240"/>
                    </a:lnTo>
                    <a:lnTo>
                      <a:pt x="462" y="1236"/>
                    </a:lnTo>
                    <a:lnTo>
                      <a:pt x="477" y="1232"/>
                    </a:lnTo>
                    <a:lnTo>
                      <a:pt x="486" y="1230"/>
                    </a:lnTo>
                    <a:lnTo>
                      <a:pt x="496" y="1226"/>
                    </a:lnTo>
                    <a:lnTo>
                      <a:pt x="506" y="1222"/>
                    </a:lnTo>
                    <a:lnTo>
                      <a:pt x="515" y="1219"/>
                    </a:lnTo>
                    <a:lnTo>
                      <a:pt x="525" y="1216"/>
                    </a:lnTo>
                    <a:lnTo>
                      <a:pt x="534" y="1214"/>
                    </a:lnTo>
                    <a:lnTo>
                      <a:pt x="544" y="1213"/>
                    </a:lnTo>
                    <a:lnTo>
                      <a:pt x="554" y="1214"/>
                    </a:lnTo>
                    <a:lnTo>
                      <a:pt x="573" y="1219"/>
                    </a:lnTo>
                    <a:lnTo>
                      <a:pt x="591" y="1224"/>
                    </a:lnTo>
                    <a:lnTo>
                      <a:pt x="609" y="1231"/>
                    </a:lnTo>
                    <a:lnTo>
                      <a:pt x="627" y="1239"/>
                    </a:lnTo>
                    <a:lnTo>
                      <a:pt x="644" y="1248"/>
                    </a:lnTo>
                    <a:lnTo>
                      <a:pt x="662" y="1256"/>
                    </a:lnTo>
                    <a:lnTo>
                      <a:pt x="678" y="1264"/>
                    </a:lnTo>
                    <a:lnTo>
                      <a:pt x="696" y="1273"/>
                    </a:lnTo>
                    <a:lnTo>
                      <a:pt x="711" y="1281"/>
                    </a:lnTo>
                    <a:lnTo>
                      <a:pt x="724" y="1290"/>
                    </a:lnTo>
                    <a:lnTo>
                      <a:pt x="738" y="1298"/>
                    </a:lnTo>
                    <a:lnTo>
                      <a:pt x="752" y="1308"/>
                    </a:lnTo>
                    <a:lnTo>
                      <a:pt x="766" y="1316"/>
                    </a:lnTo>
                    <a:lnTo>
                      <a:pt x="779" y="1324"/>
                    </a:lnTo>
                    <a:lnTo>
                      <a:pt x="794" y="1333"/>
                    </a:lnTo>
                    <a:lnTo>
                      <a:pt x="809" y="1339"/>
                    </a:lnTo>
                    <a:lnTo>
                      <a:pt x="821" y="1342"/>
                    </a:lnTo>
                    <a:lnTo>
                      <a:pt x="833" y="1347"/>
                    </a:lnTo>
                    <a:lnTo>
                      <a:pt x="846" y="1351"/>
                    </a:lnTo>
                    <a:lnTo>
                      <a:pt x="860" y="1354"/>
                    </a:lnTo>
                    <a:lnTo>
                      <a:pt x="873" y="1357"/>
                    </a:lnTo>
                    <a:lnTo>
                      <a:pt x="886" y="1357"/>
                    </a:lnTo>
                    <a:lnTo>
                      <a:pt x="892" y="1356"/>
                    </a:lnTo>
                    <a:lnTo>
                      <a:pt x="898" y="1354"/>
                    </a:lnTo>
                    <a:lnTo>
                      <a:pt x="904" y="1353"/>
                    </a:lnTo>
                    <a:lnTo>
                      <a:pt x="910" y="1351"/>
                    </a:lnTo>
                    <a:lnTo>
                      <a:pt x="914" y="1347"/>
                    </a:lnTo>
                    <a:lnTo>
                      <a:pt x="918" y="1345"/>
                    </a:lnTo>
                    <a:lnTo>
                      <a:pt x="922" y="1341"/>
                    </a:lnTo>
                    <a:lnTo>
                      <a:pt x="924" y="1338"/>
                    </a:lnTo>
                    <a:lnTo>
                      <a:pt x="930" y="1328"/>
                    </a:lnTo>
                    <a:lnTo>
                      <a:pt x="934" y="1317"/>
                    </a:lnTo>
                    <a:lnTo>
                      <a:pt x="936" y="1306"/>
                    </a:lnTo>
                    <a:lnTo>
                      <a:pt x="939" y="1296"/>
                    </a:lnTo>
                    <a:lnTo>
                      <a:pt x="939" y="1284"/>
                    </a:lnTo>
                    <a:lnTo>
                      <a:pt x="939" y="1273"/>
                    </a:lnTo>
                    <a:lnTo>
                      <a:pt x="938" y="1262"/>
                    </a:lnTo>
                    <a:lnTo>
                      <a:pt x="935" y="1251"/>
                    </a:lnTo>
                    <a:lnTo>
                      <a:pt x="932" y="1240"/>
                    </a:lnTo>
                    <a:lnTo>
                      <a:pt x="928" y="1230"/>
                    </a:lnTo>
                    <a:lnTo>
                      <a:pt x="922" y="1220"/>
                    </a:lnTo>
                    <a:lnTo>
                      <a:pt x="916" y="1209"/>
                    </a:lnTo>
                    <a:lnTo>
                      <a:pt x="910" y="1200"/>
                    </a:lnTo>
                    <a:lnTo>
                      <a:pt x="904" y="1190"/>
                    </a:lnTo>
                    <a:lnTo>
                      <a:pt x="892" y="1173"/>
                    </a:lnTo>
                    <a:lnTo>
                      <a:pt x="880" y="1156"/>
                    </a:lnTo>
                    <a:lnTo>
                      <a:pt x="867" y="1141"/>
                    </a:lnTo>
                    <a:lnTo>
                      <a:pt x="854" y="1125"/>
                    </a:lnTo>
                    <a:lnTo>
                      <a:pt x="840" y="1110"/>
                    </a:lnTo>
                    <a:lnTo>
                      <a:pt x="827" y="1094"/>
                    </a:lnTo>
                    <a:lnTo>
                      <a:pt x="812" y="1080"/>
                    </a:lnTo>
                    <a:lnTo>
                      <a:pt x="797" y="1066"/>
                    </a:lnTo>
                    <a:lnTo>
                      <a:pt x="778" y="1051"/>
                    </a:lnTo>
                    <a:lnTo>
                      <a:pt x="760" y="1035"/>
                    </a:lnTo>
                    <a:lnTo>
                      <a:pt x="740" y="1022"/>
                    </a:lnTo>
                    <a:lnTo>
                      <a:pt x="720" y="1008"/>
                    </a:lnTo>
                    <a:lnTo>
                      <a:pt x="700" y="994"/>
                    </a:lnTo>
                    <a:lnTo>
                      <a:pt x="680" y="982"/>
                    </a:lnTo>
                    <a:lnTo>
                      <a:pt x="658" y="970"/>
                    </a:lnTo>
                    <a:lnTo>
                      <a:pt x="636" y="960"/>
                    </a:lnTo>
                    <a:lnTo>
                      <a:pt x="621" y="952"/>
                    </a:lnTo>
                    <a:lnTo>
                      <a:pt x="605" y="945"/>
                    </a:lnTo>
                    <a:lnTo>
                      <a:pt x="590" y="940"/>
                    </a:lnTo>
                    <a:lnTo>
                      <a:pt x="573" y="934"/>
                    </a:lnTo>
                    <a:lnTo>
                      <a:pt x="556" y="930"/>
                    </a:lnTo>
                    <a:lnTo>
                      <a:pt x="539" y="926"/>
                    </a:lnTo>
                    <a:lnTo>
                      <a:pt x="522" y="921"/>
                    </a:lnTo>
                    <a:lnTo>
                      <a:pt x="507" y="918"/>
                    </a:lnTo>
                    <a:lnTo>
                      <a:pt x="491" y="914"/>
                    </a:lnTo>
                    <a:lnTo>
                      <a:pt x="477" y="912"/>
                    </a:lnTo>
                    <a:lnTo>
                      <a:pt x="462" y="908"/>
                    </a:lnTo>
                    <a:lnTo>
                      <a:pt x="448" y="906"/>
                    </a:lnTo>
                    <a:lnTo>
                      <a:pt x="432" y="903"/>
                    </a:lnTo>
                    <a:lnTo>
                      <a:pt x="418" y="902"/>
                    </a:lnTo>
                    <a:lnTo>
                      <a:pt x="402" y="901"/>
                    </a:lnTo>
                    <a:lnTo>
                      <a:pt x="388" y="900"/>
                    </a:lnTo>
                    <a:lnTo>
                      <a:pt x="377" y="901"/>
                    </a:lnTo>
                    <a:lnTo>
                      <a:pt x="368" y="901"/>
                    </a:lnTo>
                    <a:lnTo>
                      <a:pt x="358" y="902"/>
                    </a:lnTo>
                    <a:lnTo>
                      <a:pt x="348" y="904"/>
                    </a:lnTo>
                    <a:lnTo>
                      <a:pt x="339" y="907"/>
                    </a:lnTo>
                    <a:lnTo>
                      <a:pt x="329" y="910"/>
                    </a:lnTo>
                    <a:lnTo>
                      <a:pt x="320" y="914"/>
                    </a:lnTo>
                    <a:lnTo>
                      <a:pt x="310" y="918"/>
                    </a:lnTo>
                    <a:lnTo>
                      <a:pt x="302" y="924"/>
                    </a:lnTo>
                    <a:lnTo>
                      <a:pt x="293" y="930"/>
                    </a:lnTo>
                    <a:lnTo>
                      <a:pt x="286" y="937"/>
                    </a:lnTo>
                    <a:lnTo>
                      <a:pt x="278" y="944"/>
                    </a:lnTo>
                    <a:lnTo>
                      <a:pt x="270" y="951"/>
                    </a:lnTo>
                    <a:lnTo>
                      <a:pt x="262" y="958"/>
                    </a:lnTo>
                    <a:lnTo>
                      <a:pt x="254" y="966"/>
                    </a:lnTo>
                    <a:lnTo>
                      <a:pt x="245" y="972"/>
                    </a:lnTo>
                    <a:lnTo>
                      <a:pt x="231" y="979"/>
                    </a:lnTo>
                    <a:lnTo>
                      <a:pt x="216" y="986"/>
                    </a:lnTo>
                    <a:lnTo>
                      <a:pt x="202" y="993"/>
                    </a:lnTo>
                    <a:lnTo>
                      <a:pt x="188" y="999"/>
                    </a:lnTo>
                    <a:lnTo>
                      <a:pt x="173" y="1005"/>
                    </a:lnTo>
                    <a:lnTo>
                      <a:pt x="158" y="1010"/>
                    </a:lnTo>
                    <a:lnTo>
                      <a:pt x="142" y="1015"/>
                    </a:lnTo>
                    <a:lnTo>
                      <a:pt x="126" y="1018"/>
                    </a:lnTo>
                    <a:lnTo>
                      <a:pt x="122" y="1020"/>
                    </a:lnTo>
                    <a:lnTo>
                      <a:pt x="116" y="1020"/>
                    </a:lnTo>
                    <a:lnTo>
                      <a:pt x="110" y="1020"/>
                    </a:lnTo>
                    <a:lnTo>
                      <a:pt x="104" y="1018"/>
                    </a:lnTo>
                    <a:lnTo>
                      <a:pt x="98" y="1017"/>
                    </a:lnTo>
                    <a:lnTo>
                      <a:pt x="93" y="1015"/>
                    </a:lnTo>
                    <a:lnTo>
                      <a:pt x="88" y="1011"/>
                    </a:lnTo>
                    <a:lnTo>
                      <a:pt x="86" y="1006"/>
                    </a:lnTo>
                    <a:lnTo>
                      <a:pt x="82" y="999"/>
                    </a:lnTo>
                    <a:lnTo>
                      <a:pt x="80" y="991"/>
                    </a:lnTo>
                    <a:lnTo>
                      <a:pt x="77" y="982"/>
                    </a:lnTo>
                    <a:lnTo>
                      <a:pt x="77" y="974"/>
                    </a:lnTo>
                    <a:lnTo>
                      <a:pt x="77" y="966"/>
                    </a:lnTo>
                    <a:lnTo>
                      <a:pt x="78" y="957"/>
                    </a:lnTo>
                    <a:lnTo>
                      <a:pt x="81" y="949"/>
                    </a:lnTo>
                    <a:lnTo>
                      <a:pt x="86" y="942"/>
                    </a:lnTo>
                    <a:lnTo>
                      <a:pt x="98" y="925"/>
                    </a:lnTo>
                    <a:lnTo>
                      <a:pt x="111" y="909"/>
                    </a:lnTo>
                    <a:lnTo>
                      <a:pt x="124" y="895"/>
                    </a:lnTo>
                    <a:lnTo>
                      <a:pt x="140" y="880"/>
                    </a:lnTo>
                    <a:lnTo>
                      <a:pt x="155" y="866"/>
                    </a:lnTo>
                    <a:lnTo>
                      <a:pt x="171" y="853"/>
                    </a:lnTo>
                    <a:lnTo>
                      <a:pt x="188" y="841"/>
                    </a:lnTo>
                    <a:lnTo>
                      <a:pt x="204" y="829"/>
                    </a:lnTo>
                    <a:lnTo>
                      <a:pt x="215" y="822"/>
                    </a:lnTo>
                    <a:lnTo>
                      <a:pt x="227" y="814"/>
                    </a:lnTo>
                    <a:lnTo>
                      <a:pt x="239" y="808"/>
                    </a:lnTo>
                    <a:lnTo>
                      <a:pt x="252" y="802"/>
                    </a:lnTo>
                    <a:lnTo>
                      <a:pt x="264" y="798"/>
                    </a:lnTo>
                    <a:lnTo>
                      <a:pt x="278" y="794"/>
                    </a:lnTo>
                    <a:lnTo>
                      <a:pt x="291" y="790"/>
                    </a:lnTo>
                    <a:lnTo>
                      <a:pt x="305" y="788"/>
                    </a:lnTo>
                    <a:lnTo>
                      <a:pt x="322" y="784"/>
                    </a:lnTo>
                    <a:lnTo>
                      <a:pt x="340" y="783"/>
                    </a:lnTo>
                    <a:lnTo>
                      <a:pt x="358" y="782"/>
                    </a:lnTo>
                    <a:lnTo>
                      <a:pt x="376" y="781"/>
                    </a:lnTo>
                    <a:lnTo>
                      <a:pt x="393" y="781"/>
                    </a:lnTo>
                    <a:lnTo>
                      <a:pt x="411" y="781"/>
                    </a:lnTo>
                    <a:lnTo>
                      <a:pt x="429" y="781"/>
                    </a:lnTo>
                    <a:lnTo>
                      <a:pt x="447" y="782"/>
                    </a:lnTo>
                    <a:lnTo>
                      <a:pt x="472" y="782"/>
                    </a:lnTo>
                    <a:lnTo>
                      <a:pt x="497" y="782"/>
                    </a:lnTo>
                    <a:lnTo>
                      <a:pt x="522" y="782"/>
                    </a:lnTo>
                    <a:lnTo>
                      <a:pt x="548" y="783"/>
                    </a:lnTo>
                    <a:lnTo>
                      <a:pt x="573" y="784"/>
                    </a:lnTo>
                    <a:lnTo>
                      <a:pt x="598" y="786"/>
                    </a:lnTo>
                    <a:lnTo>
                      <a:pt x="623" y="786"/>
                    </a:lnTo>
                    <a:lnTo>
                      <a:pt x="648" y="788"/>
                    </a:lnTo>
                    <a:lnTo>
                      <a:pt x="668" y="789"/>
                    </a:lnTo>
                    <a:lnTo>
                      <a:pt x="686" y="790"/>
                    </a:lnTo>
                    <a:lnTo>
                      <a:pt x="705" y="793"/>
                    </a:lnTo>
                    <a:lnTo>
                      <a:pt x="723" y="794"/>
                    </a:lnTo>
                    <a:lnTo>
                      <a:pt x="741" y="796"/>
                    </a:lnTo>
                    <a:lnTo>
                      <a:pt x="760" y="798"/>
                    </a:lnTo>
                    <a:lnTo>
                      <a:pt x="778" y="799"/>
                    </a:lnTo>
                    <a:lnTo>
                      <a:pt x="797" y="799"/>
                    </a:lnTo>
                    <a:lnTo>
                      <a:pt x="808" y="800"/>
                    </a:lnTo>
                    <a:lnTo>
                      <a:pt x="819" y="800"/>
                    </a:lnTo>
                    <a:lnTo>
                      <a:pt x="830" y="800"/>
                    </a:lnTo>
                    <a:lnTo>
                      <a:pt x="842" y="800"/>
                    </a:lnTo>
                    <a:lnTo>
                      <a:pt x="852" y="799"/>
                    </a:lnTo>
                    <a:lnTo>
                      <a:pt x="862" y="798"/>
                    </a:lnTo>
                    <a:lnTo>
                      <a:pt x="872" y="793"/>
                    </a:lnTo>
                    <a:lnTo>
                      <a:pt x="880" y="788"/>
                    </a:lnTo>
                    <a:close/>
                  </a:path>
                </a:pathLst>
              </a:custGeom>
              <a:solidFill>
                <a:srgbClr val="d1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65960" y="3894120"/>
                <a:ext cx="1012320" cy="871560"/>
              </a:xfrm>
              <a:custGeom>
                <a:avLst/>
                <a:gdLst/>
                <a:ahLst/>
                <a:rect l="l" t="t" r="r" b="b"/>
                <a:pathLst>
                  <a:path w="2552" h="2197">
                    <a:moveTo>
                      <a:pt x="874" y="782"/>
                    </a:moveTo>
                    <a:lnTo>
                      <a:pt x="881" y="773"/>
                    </a:lnTo>
                    <a:lnTo>
                      <a:pt x="887" y="763"/>
                    </a:lnTo>
                    <a:lnTo>
                      <a:pt x="893" y="754"/>
                    </a:lnTo>
                    <a:lnTo>
                      <a:pt x="896" y="742"/>
                    </a:lnTo>
                    <a:lnTo>
                      <a:pt x="899" y="730"/>
                    </a:lnTo>
                    <a:lnTo>
                      <a:pt x="901" y="718"/>
                    </a:lnTo>
                    <a:lnTo>
                      <a:pt x="902" y="706"/>
                    </a:lnTo>
                    <a:lnTo>
                      <a:pt x="902" y="694"/>
                    </a:lnTo>
                    <a:lnTo>
                      <a:pt x="902" y="679"/>
                    </a:lnTo>
                    <a:lnTo>
                      <a:pt x="901" y="666"/>
                    </a:lnTo>
                    <a:lnTo>
                      <a:pt x="899" y="652"/>
                    </a:lnTo>
                    <a:lnTo>
                      <a:pt x="896" y="638"/>
                    </a:lnTo>
                    <a:lnTo>
                      <a:pt x="892" y="624"/>
                    </a:lnTo>
                    <a:lnTo>
                      <a:pt x="887" y="611"/>
                    </a:lnTo>
                    <a:lnTo>
                      <a:pt x="881" y="599"/>
                    </a:lnTo>
                    <a:lnTo>
                      <a:pt x="874" y="588"/>
                    </a:lnTo>
                    <a:lnTo>
                      <a:pt x="865" y="579"/>
                    </a:lnTo>
                    <a:lnTo>
                      <a:pt x="854" y="571"/>
                    </a:lnTo>
                    <a:lnTo>
                      <a:pt x="844" y="565"/>
                    </a:lnTo>
                    <a:lnTo>
                      <a:pt x="833" y="559"/>
                    </a:lnTo>
                    <a:lnTo>
                      <a:pt x="821" y="555"/>
                    </a:lnTo>
                    <a:lnTo>
                      <a:pt x="809" y="551"/>
                    </a:lnTo>
                    <a:lnTo>
                      <a:pt x="797" y="546"/>
                    </a:lnTo>
                    <a:lnTo>
                      <a:pt x="785" y="541"/>
                    </a:lnTo>
                    <a:lnTo>
                      <a:pt x="770" y="534"/>
                    </a:lnTo>
                    <a:lnTo>
                      <a:pt x="757" y="528"/>
                    </a:lnTo>
                    <a:lnTo>
                      <a:pt x="744" y="522"/>
                    </a:lnTo>
                    <a:lnTo>
                      <a:pt x="730" y="515"/>
                    </a:lnTo>
                    <a:lnTo>
                      <a:pt x="715" y="509"/>
                    </a:lnTo>
                    <a:lnTo>
                      <a:pt x="702" y="504"/>
                    </a:lnTo>
                    <a:lnTo>
                      <a:pt x="688" y="498"/>
                    </a:lnTo>
                    <a:lnTo>
                      <a:pt x="673" y="493"/>
                    </a:lnTo>
                    <a:lnTo>
                      <a:pt x="656" y="490"/>
                    </a:lnTo>
                    <a:lnTo>
                      <a:pt x="641" y="486"/>
                    </a:lnTo>
                    <a:lnTo>
                      <a:pt x="624" y="483"/>
                    </a:lnTo>
                    <a:lnTo>
                      <a:pt x="607" y="480"/>
                    </a:lnTo>
                    <a:lnTo>
                      <a:pt x="592" y="478"/>
                    </a:lnTo>
                    <a:lnTo>
                      <a:pt x="575" y="474"/>
                    </a:lnTo>
                    <a:lnTo>
                      <a:pt x="559" y="469"/>
                    </a:lnTo>
                    <a:lnTo>
                      <a:pt x="544" y="465"/>
                    </a:lnTo>
                    <a:lnTo>
                      <a:pt x="530" y="459"/>
                    </a:lnTo>
                    <a:lnTo>
                      <a:pt x="518" y="453"/>
                    </a:lnTo>
                    <a:lnTo>
                      <a:pt x="506" y="445"/>
                    </a:lnTo>
                    <a:lnTo>
                      <a:pt x="494" y="438"/>
                    </a:lnTo>
                    <a:lnTo>
                      <a:pt x="482" y="431"/>
                    </a:lnTo>
                    <a:lnTo>
                      <a:pt x="472" y="423"/>
                    </a:lnTo>
                    <a:lnTo>
                      <a:pt x="461" y="414"/>
                    </a:lnTo>
                    <a:lnTo>
                      <a:pt x="449" y="406"/>
                    </a:lnTo>
                    <a:lnTo>
                      <a:pt x="431" y="390"/>
                    </a:lnTo>
                    <a:lnTo>
                      <a:pt x="412" y="375"/>
                    </a:lnTo>
                    <a:lnTo>
                      <a:pt x="394" y="358"/>
                    </a:lnTo>
                    <a:lnTo>
                      <a:pt x="376" y="341"/>
                    </a:lnTo>
                    <a:lnTo>
                      <a:pt x="358" y="324"/>
                    </a:lnTo>
                    <a:lnTo>
                      <a:pt x="340" y="307"/>
                    </a:lnTo>
                    <a:lnTo>
                      <a:pt x="320" y="292"/>
                    </a:lnTo>
                    <a:lnTo>
                      <a:pt x="302" y="276"/>
                    </a:lnTo>
                    <a:lnTo>
                      <a:pt x="286" y="263"/>
                    </a:lnTo>
                    <a:lnTo>
                      <a:pt x="268" y="250"/>
                    </a:lnTo>
                    <a:lnTo>
                      <a:pt x="251" y="237"/>
                    </a:lnTo>
                    <a:lnTo>
                      <a:pt x="233" y="225"/>
                    </a:lnTo>
                    <a:lnTo>
                      <a:pt x="215" y="211"/>
                    </a:lnTo>
                    <a:lnTo>
                      <a:pt x="197" y="199"/>
                    </a:lnTo>
                    <a:lnTo>
                      <a:pt x="179" y="187"/>
                    </a:lnTo>
                    <a:lnTo>
                      <a:pt x="161" y="177"/>
                    </a:lnTo>
                    <a:lnTo>
                      <a:pt x="149" y="169"/>
                    </a:lnTo>
                    <a:lnTo>
                      <a:pt x="137" y="163"/>
                    </a:lnTo>
                    <a:lnTo>
                      <a:pt x="124" y="159"/>
                    </a:lnTo>
                    <a:lnTo>
                      <a:pt x="110" y="154"/>
                    </a:lnTo>
                    <a:lnTo>
                      <a:pt x="97" y="148"/>
                    </a:lnTo>
                    <a:lnTo>
                      <a:pt x="85" y="143"/>
                    </a:lnTo>
                    <a:lnTo>
                      <a:pt x="72" y="136"/>
                    </a:lnTo>
                    <a:lnTo>
                      <a:pt x="61" y="130"/>
                    </a:lnTo>
                    <a:lnTo>
                      <a:pt x="52" y="124"/>
                    </a:lnTo>
                    <a:lnTo>
                      <a:pt x="43" y="118"/>
                    </a:lnTo>
                    <a:lnTo>
                      <a:pt x="34" y="111"/>
                    </a:lnTo>
                    <a:lnTo>
                      <a:pt x="26" y="103"/>
                    </a:lnTo>
                    <a:lnTo>
                      <a:pt x="18" y="96"/>
                    </a:lnTo>
                    <a:lnTo>
                      <a:pt x="11" y="89"/>
                    </a:lnTo>
                    <a:lnTo>
                      <a:pt x="6" y="79"/>
                    </a:lnTo>
                    <a:lnTo>
                      <a:pt x="2" y="71"/>
                    </a:lnTo>
                    <a:lnTo>
                      <a:pt x="0" y="64"/>
                    </a:lnTo>
                    <a:lnTo>
                      <a:pt x="1" y="55"/>
                    </a:lnTo>
                    <a:lnTo>
                      <a:pt x="2" y="48"/>
                    </a:lnTo>
                    <a:lnTo>
                      <a:pt x="5" y="41"/>
                    </a:lnTo>
                    <a:lnTo>
                      <a:pt x="8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5" y="17"/>
                    </a:lnTo>
                    <a:lnTo>
                      <a:pt x="37" y="12"/>
                    </a:lnTo>
                    <a:lnTo>
                      <a:pt x="49" y="9"/>
                    </a:lnTo>
                    <a:lnTo>
                      <a:pt x="61" y="6"/>
                    </a:lnTo>
                    <a:lnTo>
                      <a:pt x="74" y="5"/>
                    </a:lnTo>
                    <a:lnTo>
                      <a:pt x="86" y="4"/>
                    </a:lnTo>
                    <a:lnTo>
                      <a:pt x="100" y="4"/>
                    </a:lnTo>
                    <a:lnTo>
                      <a:pt x="113" y="5"/>
                    </a:lnTo>
                    <a:lnTo>
                      <a:pt x="126" y="6"/>
                    </a:lnTo>
                    <a:lnTo>
                      <a:pt x="137" y="7"/>
                    </a:lnTo>
                    <a:lnTo>
                      <a:pt x="149" y="9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3" y="24"/>
                    </a:lnTo>
                    <a:lnTo>
                      <a:pt x="204" y="29"/>
                    </a:lnTo>
                    <a:lnTo>
                      <a:pt x="214" y="35"/>
                    </a:lnTo>
                    <a:lnTo>
                      <a:pt x="228" y="45"/>
                    </a:lnTo>
                    <a:lnTo>
                      <a:pt x="241" y="57"/>
                    </a:lnTo>
                    <a:lnTo>
                      <a:pt x="253" y="67"/>
                    </a:lnTo>
                    <a:lnTo>
                      <a:pt x="265" y="81"/>
                    </a:lnTo>
                    <a:lnTo>
                      <a:pt x="277" y="93"/>
                    </a:lnTo>
                    <a:lnTo>
                      <a:pt x="289" y="106"/>
                    </a:lnTo>
                    <a:lnTo>
                      <a:pt x="301" y="118"/>
                    </a:lnTo>
                    <a:lnTo>
                      <a:pt x="314" y="130"/>
                    </a:lnTo>
                    <a:lnTo>
                      <a:pt x="332" y="145"/>
                    </a:lnTo>
                    <a:lnTo>
                      <a:pt x="350" y="161"/>
                    </a:lnTo>
                    <a:lnTo>
                      <a:pt x="368" y="177"/>
                    </a:lnTo>
                    <a:lnTo>
                      <a:pt x="386" y="192"/>
                    </a:lnTo>
                    <a:lnTo>
                      <a:pt x="406" y="208"/>
                    </a:lnTo>
                    <a:lnTo>
                      <a:pt x="424" y="222"/>
                    </a:lnTo>
                    <a:lnTo>
                      <a:pt x="443" y="238"/>
                    </a:lnTo>
                    <a:lnTo>
                      <a:pt x="461" y="252"/>
                    </a:lnTo>
                    <a:lnTo>
                      <a:pt x="474" y="264"/>
                    </a:lnTo>
                    <a:lnTo>
                      <a:pt x="488" y="275"/>
                    </a:lnTo>
                    <a:lnTo>
                      <a:pt x="502" y="286"/>
                    </a:lnTo>
                    <a:lnTo>
                      <a:pt x="515" y="297"/>
                    </a:lnTo>
                    <a:lnTo>
                      <a:pt x="529" y="306"/>
                    </a:lnTo>
                    <a:lnTo>
                      <a:pt x="544" y="317"/>
                    </a:lnTo>
                    <a:lnTo>
                      <a:pt x="558" y="327"/>
                    </a:lnTo>
                    <a:lnTo>
                      <a:pt x="572" y="335"/>
                    </a:lnTo>
                    <a:lnTo>
                      <a:pt x="581" y="339"/>
                    </a:lnTo>
                    <a:lnTo>
                      <a:pt x="588" y="342"/>
                    </a:lnTo>
                    <a:lnTo>
                      <a:pt x="596" y="346"/>
                    </a:lnTo>
                    <a:lnTo>
                      <a:pt x="604" y="348"/>
                    </a:lnTo>
                    <a:lnTo>
                      <a:pt x="612" y="349"/>
                    </a:lnTo>
                    <a:lnTo>
                      <a:pt x="620" y="351"/>
                    </a:lnTo>
                    <a:lnTo>
                      <a:pt x="629" y="352"/>
                    </a:lnTo>
                    <a:lnTo>
                      <a:pt x="637" y="353"/>
                    </a:lnTo>
                    <a:lnTo>
                      <a:pt x="646" y="353"/>
                    </a:lnTo>
                    <a:lnTo>
                      <a:pt x="653" y="353"/>
                    </a:lnTo>
                    <a:lnTo>
                      <a:pt x="661" y="353"/>
                    </a:lnTo>
                    <a:lnTo>
                      <a:pt x="670" y="353"/>
                    </a:lnTo>
                    <a:lnTo>
                      <a:pt x="677" y="351"/>
                    </a:lnTo>
                    <a:lnTo>
                      <a:pt x="684" y="349"/>
                    </a:lnTo>
                    <a:lnTo>
                      <a:pt x="691" y="346"/>
                    </a:lnTo>
                    <a:lnTo>
                      <a:pt x="696" y="341"/>
                    </a:lnTo>
                    <a:lnTo>
                      <a:pt x="702" y="334"/>
                    </a:lnTo>
                    <a:lnTo>
                      <a:pt x="707" y="327"/>
                    </a:lnTo>
                    <a:lnTo>
                      <a:pt x="710" y="317"/>
                    </a:lnTo>
                    <a:lnTo>
                      <a:pt x="714" y="309"/>
                    </a:lnTo>
                    <a:lnTo>
                      <a:pt x="716" y="299"/>
                    </a:lnTo>
                    <a:lnTo>
                      <a:pt x="718" y="289"/>
                    </a:lnTo>
                    <a:lnTo>
                      <a:pt x="719" y="280"/>
                    </a:lnTo>
                    <a:lnTo>
                      <a:pt x="720" y="270"/>
                    </a:lnTo>
                    <a:lnTo>
                      <a:pt x="721" y="257"/>
                    </a:lnTo>
                    <a:lnTo>
                      <a:pt x="720" y="243"/>
                    </a:lnTo>
                    <a:lnTo>
                      <a:pt x="720" y="228"/>
                    </a:lnTo>
                    <a:lnTo>
                      <a:pt x="719" y="215"/>
                    </a:lnTo>
                    <a:lnTo>
                      <a:pt x="716" y="201"/>
                    </a:lnTo>
                    <a:lnTo>
                      <a:pt x="715" y="186"/>
                    </a:lnTo>
                    <a:lnTo>
                      <a:pt x="714" y="173"/>
                    </a:lnTo>
                    <a:lnTo>
                      <a:pt x="714" y="159"/>
                    </a:lnTo>
                    <a:lnTo>
                      <a:pt x="714" y="151"/>
                    </a:lnTo>
                    <a:lnTo>
                      <a:pt x="715" y="144"/>
                    </a:lnTo>
                    <a:lnTo>
                      <a:pt x="715" y="137"/>
                    </a:lnTo>
                    <a:lnTo>
                      <a:pt x="716" y="130"/>
                    </a:lnTo>
                    <a:lnTo>
                      <a:pt x="718" y="121"/>
                    </a:lnTo>
                    <a:lnTo>
                      <a:pt x="719" y="114"/>
                    </a:lnTo>
                    <a:lnTo>
                      <a:pt x="720" y="107"/>
                    </a:lnTo>
                    <a:lnTo>
                      <a:pt x="720" y="100"/>
                    </a:lnTo>
                    <a:lnTo>
                      <a:pt x="720" y="91"/>
                    </a:lnTo>
                    <a:lnTo>
                      <a:pt x="720" y="84"/>
                    </a:lnTo>
                    <a:lnTo>
                      <a:pt x="719" y="76"/>
                    </a:lnTo>
                    <a:lnTo>
                      <a:pt x="719" y="67"/>
                    </a:lnTo>
                    <a:lnTo>
                      <a:pt x="718" y="59"/>
                    </a:lnTo>
                    <a:lnTo>
                      <a:pt x="718" y="51"/>
                    </a:lnTo>
                    <a:lnTo>
                      <a:pt x="719" y="43"/>
                    </a:lnTo>
                    <a:lnTo>
                      <a:pt x="720" y="35"/>
                    </a:lnTo>
                    <a:lnTo>
                      <a:pt x="721" y="30"/>
                    </a:lnTo>
                    <a:lnTo>
                      <a:pt x="724" y="24"/>
                    </a:lnTo>
                    <a:lnTo>
                      <a:pt x="725" y="18"/>
                    </a:lnTo>
                    <a:lnTo>
                      <a:pt x="727" y="12"/>
                    </a:lnTo>
                    <a:lnTo>
                      <a:pt x="731" y="7"/>
                    </a:lnTo>
                    <a:lnTo>
                      <a:pt x="734" y="3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4" y="1"/>
                    </a:lnTo>
                    <a:lnTo>
                      <a:pt x="763" y="4"/>
                    </a:lnTo>
                    <a:lnTo>
                      <a:pt x="773" y="9"/>
                    </a:lnTo>
                    <a:lnTo>
                      <a:pt x="782" y="13"/>
                    </a:lnTo>
                    <a:lnTo>
                      <a:pt x="791" y="19"/>
                    </a:lnTo>
                    <a:lnTo>
                      <a:pt x="799" y="27"/>
                    </a:lnTo>
                    <a:lnTo>
                      <a:pt x="808" y="34"/>
                    </a:lnTo>
                    <a:lnTo>
                      <a:pt x="814" y="41"/>
                    </a:lnTo>
                    <a:lnTo>
                      <a:pt x="822" y="51"/>
                    </a:lnTo>
                    <a:lnTo>
                      <a:pt x="828" y="61"/>
                    </a:lnTo>
                    <a:lnTo>
                      <a:pt x="833" y="72"/>
                    </a:lnTo>
                    <a:lnTo>
                      <a:pt x="838" y="83"/>
                    </a:lnTo>
                    <a:lnTo>
                      <a:pt x="842" y="95"/>
                    </a:lnTo>
                    <a:lnTo>
                      <a:pt x="846" y="106"/>
                    </a:lnTo>
                    <a:lnTo>
                      <a:pt x="851" y="118"/>
                    </a:lnTo>
                    <a:lnTo>
                      <a:pt x="856" y="130"/>
                    </a:lnTo>
                    <a:lnTo>
                      <a:pt x="862" y="145"/>
                    </a:lnTo>
                    <a:lnTo>
                      <a:pt x="869" y="161"/>
                    </a:lnTo>
                    <a:lnTo>
                      <a:pt x="875" y="178"/>
                    </a:lnTo>
                    <a:lnTo>
                      <a:pt x="882" y="193"/>
                    </a:lnTo>
                    <a:lnTo>
                      <a:pt x="888" y="210"/>
                    </a:lnTo>
                    <a:lnTo>
                      <a:pt x="895" y="226"/>
                    </a:lnTo>
                    <a:lnTo>
                      <a:pt x="901" y="243"/>
                    </a:lnTo>
                    <a:lnTo>
                      <a:pt x="908" y="258"/>
                    </a:lnTo>
                    <a:lnTo>
                      <a:pt x="912" y="268"/>
                    </a:lnTo>
                    <a:lnTo>
                      <a:pt x="917" y="279"/>
                    </a:lnTo>
                    <a:lnTo>
                      <a:pt x="920" y="288"/>
                    </a:lnTo>
                    <a:lnTo>
                      <a:pt x="924" y="298"/>
                    </a:lnTo>
                    <a:lnTo>
                      <a:pt x="929" y="307"/>
                    </a:lnTo>
                    <a:lnTo>
                      <a:pt x="934" y="317"/>
                    </a:lnTo>
                    <a:lnTo>
                      <a:pt x="938" y="327"/>
                    </a:lnTo>
                    <a:lnTo>
                      <a:pt x="943" y="335"/>
                    </a:lnTo>
                    <a:lnTo>
                      <a:pt x="950" y="345"/>
                    </a:lnTo>
                    <a:lnTo>
                      <a:pt x="958" y="354"/>
                    </a:lnTo>
                    <a:lnTo>
                      <a:pt x="966" y="364"/>
                    </a:lnTo>
                    <a:lnTo>
                      <a:pt x="974" y="372"/>
                    </a:lnTo>
                    <a:lnTo>
                      <a:pt x="983" y="381"/>
                    </a:lnTo>
                    <a:lnTo>
                      <a:pt x="991" y="389"/>
                    </a:lnTo>
                    <a:lnTo>
                      <a:pt x="1000" y="397"/>
                    </a:lnTo>
                    <a:lnTo>
                      <a:pt x="1008" y="406"/>
                    </a:lnTo>
                    <a:lnTo>
                      <a:pt x="1020" y="417"/>
                    </a:lnTo>
                    <a:lnTo>
                      <a:pt x="1031" y="426"/>
                    </a:lnTo>
                    <a:lnTo>
                      <a:pt x="1042" y="437"/>
                    </a:lnTo>
                    <a:lnTo>
                      <a:pt x="1054" y="448"/>
                    </a:lnTo>
                    <a:lnTo>
                      <a:pt x="1064" y="457"/>
                    </a:lnTo>
                    <a:lnTo>
                      <a:pt x="1076" y="466"/>
                    </a:lnTo>
                    <a:lnTo>
                      <a:pt x="1090" y="474"/>
                    </a:lnTo>
                    <a:lnTo>
                      <a:pt x="1103" y="483"/>
                    </a:lnTo>
                    <a:lnTo>
                      <a:pt x="1114" y="487"/>
                    </a:lnTo>
                    <a:lnTo>
                      <a:pt x="1124" y="491"/>
                    </a:lnTo>
                    <a:lnTo>
                      <a:pt x="1136" y="493"/>
                    </a:lnTo>
                    <a:lnTo>
                      <a:pt x="1148" y="496"/>
                    </a:lnTo>
                    <a:lnTo>
                      <a:pt x="1160" y="497"/>
                    </a:lnTo>
                    <a:lnTo>
                      <a:pt x="1172" y="498"/>
                    </a:lnTo>
                    <a:lnTo>
                      <a:pt x="1184" y="499"/>
                    </a:lnTo>
                    <a:lnTo>
                      <a:pt x="1196" y="499"/>
                    </a:lnTo>
                    <a:lnTo>
                      <a:pt x="1212" y="501"/>
                    </a:lnTo>
                    <a:lnTo>
                      <a:pt x="1226" y="501"/>
                    </a:lnTo>
                    <a:lnTo>
                      <a:pt x="1241" y="501"/>
                    </a:lnTo>
                    <a:lnTo>
                      <a:pt x="1256" y="501"/>
                    </a:lnTo>
                    <a:lnTo>
                      <a:pt x="1271" y="499"/>
                    </a:lnTo>
                    <a:lnTo>
                      <a:pt x="1285" y="498"/>
                    </a:lnTo>
                    <a:lnTo>
                      <a:pt x="1300" y="496"/>
                    </a:lnTo>
                    <a:lnTo>
                      <a:pt x="1314" y="493"/>
                    </a:lnTo>
                    <a:lnTo>
                      <a:pt x="1325" y="492"/>
                    </a:lnTo>
                    <a:lnTo>
                      <a:pt x="1334" y="490"/>
                    </a:lnTo>
                    <a:lnTo>
                      <a:pt x="1345" y="486"/>
                    </a:lnTo>
                    <a:lnTo>
                      <a:pt x="1355" y="484"/>
                    </a:lnTo>
                    <a:lnTo>
                      <a:pt x="1364" y="480"/>
                    </a:lnTo>
                    <a:lnTo>
                      <a:pt x="1374" y="475"/>
                    </a:lnTo>
                    <a:lnTo>
                      <a:pt x="1382" y="471"/>
                    </a:lnTo>
                    <a:lnTo>
                      <a:pt x="1391" y="465"/>
                    </a:lnTo>
                    <a:lnTo>
                      <a:pt x="1399" y="459"/>
                    </a:lnTo>
                    <a:lnTo>
                      <a:pt x="1409" y="451"/>
                    </a:lnTo>
                    <a:lnTo>
                      <a:pt x="1417" y="444"/>
                    </a:lnTo>
                    <a:lnTo>
                      <a:pt x="1426" y="436"/>
                    </a:lnTo>
                    <a:lnTo>
                      <a:pt x="1432" y="427"/>
                    </a:lnTo>
                    <a:lnTo>
                      <a:pt x="1436" y="419"/>
                    </a:lnTo>
                    <a:lnTo>
                      <a:pt x="1438" y="414"/>
                    </a:lnTo>
                    <a:lnTo>
                      <a:pt x="1439" y="409"/>
                    </a:lnTo>
                    <a:lnTo>
                      <a:pt x="1439" y="405"/>
                    </a:lnTo>
                    <a:lnTo>
                      <a:pt x="1438" y="400"/>
                    </a:lnTo>
                    <a:lnTo>
                      <a:pt x="1436" y="395"/>
                    </a:lnTo>
                    <a:lnTo>
                      <a:pt x="1434" y="390"/>
                    </a:lnTo>
                    <a:lnTo>
                      <a:pt x="1430" y="387"/>
                    </a:lnTo>
                    <a:lnTo>
                      <a:pt x="1427" y="383"/>
                    </a:lnTo>
                    <a:lnTo>
                      <a:pt x="1417" y="377"/>
                    </a:lnTo>
                    <a:lnTo>
                      <a:pt x="1406" y="373"/>
                    </a:lnTo>
                    <a:lnTo>
                      <a:pt x="1396" y="370"/>
                    </a:lnTo>
                    <a:lnTo>
                      <a:pt x="1384" y="366"/>
                    </a:lnTo>
                    <a:lnTo>
                      <a:pt x="1372" y="363"/>
                    </a:lnTo>
                    <a:lnTo>
                      <a:pt x="1362" y="359"/>
                    </a:lnTo>
                    <a:lnTo>
                      <a:pt x="1349" y="354"/>
                    </a:lnTo>
                    <a:lnTo>
                      <a:pt x="1337" y="349"/>
                    </a:lnTo>
                    <a:lnTo>
                      <a:pt x="1324" y="346"/>
                    </a:lnTo>
                    <a:lnTo>
                      <a:pt x="1312" y="342"/>
                    </a:lnTo>
                    <a:lnTo>
                      <a:pt x="1298" y="339"/>
                    </a:lnTo>
                    <a:lnTo>
                      <a:pt x="1285" y="334"/>
                    </a:lnTo>
                    <a:lnTo>
                      <a:pt x="1273" y="329"/>
                    </a:lnTo>
                    <a:lnTo>
                      <a:pt x="1261" y="323"/>
                    </a:lnTo>
                    <a:lnTo>
                      <a:pt x="1254" y="319"/>
                    </a:lnTo>
                    <a:lnTo>
                      <a:pt x="1247" y="313"/>
                    </a:lnTo>
                    <a:lnTo>
                      <a:pt x="1240" y="309"/>
                    </a:lnTo>
                    <a:lnTo>
                      <a:pt x="1232" y="303"/>
                    </a:lnTo>
                    <a:lnTo>
                      <a:pt x="1226" y="297"/>
                    </a:lnTo>
                    <a:lnTo>
                      <a:pt x="1219" y="291"/>
                    </a:lnTo>
                    <a:lnTo>
                      <a:pt x="1214" y="283"/>
                    </a:lnTo>
                    <a:lnTo>
                      <a:pt x="1208" y="276"/>
                    </a:lnTo>
                    <a:lnTo>
                      <a:pt x="1204" y="269"/>
                    </a:lnTo>
                    <a:lnTo>
                      <a:pt x="1199" y="262"/>
                    </a:lnTo>
                    <a:lnTo>
                      <a:pt x="1194" y="253"/>
                    </a:lnTo>
                    <a:lnTo>
                      <a:pt x="1190" y="245"/>
                    </a:lnTo>
                    <a:lnTo>
                      <a:pt x="1187" y="238"/>
                    </a:lnTo>
                    <a:lnTo>
                      <a:pt x="1183" y="228"/>
                    </a:lnTo>
                    <a:lnTo>
                      <a:pt x="1181" y="220"/>
                    </a:lnTo>
                    <a:lnTo>
                      <a:pt x="1180" y="211"/>
                    </a:lnTo>
                    <a:lnTo>
                      <a:pt x="1178" y="205"/>
                    </a:lnTo>
                    <a:lnTo>
                      <a:pt x="1177" y="199"/>
                    </a:lnTo>
                    <a:lnTo>
                      <a:pt x="1176" y="192"/>
                    </a:lnTo>
                    <a:lnTo>
                      <a:pt x="1176" y="186"/>
                    </a:lnTo>
                    <a:lnTo>
                      <a:pt x="1177" y="180"/>
                    </a:lnTo>
                    <a:lnTo>
                      <a:pt x="1178" y="174"/>
                    </a:lnTo>
                    <a:lnTo>
                      <a:pt x="1181" y="169"/>
                    </a:lnTo>
                    <a:lnTo>
                      <a:pt x="1184" y="165"/>
                    </a:lnTo>
                    <a:lnTo>
                      <a:pt x="1190" y="160"/>
                    </a:lnTo>
                    <a:lnTo>
                      <a:pt x="1198" y="156"/>
                    </a:lnTo>
                    <a:lnTo>
                      <a:pt x="1205" y="155"/>
                    </a:lnTo>
                    <a:lnTo>
                      <a:pt x="1212" y="153"/>
                    </a:lnTo>
                    <a:lnTo>
                      <a:pt x="1220" y="153"/>
                    </a:lnTo>
                    <a:lnTo>
                      <a:pt x="1229" y="151"/>
                    </a:lnTo>
                    <a:lnTo>
                      <a:pt x="1236" y="153"/>
                    </a:lnTo>
                    <a:lnTo>
                      <a:pt x="1244" y="153"/>
                    </a:lnTo>
                    <a:lnTo>
                      <a:pt x="1254" y="154"/>
                    </a:lnTo>
                    <a:lnTo>
                      <a:pt x="1264" y="156"/>
                    </a:lnTo>
                    <a:lnTo>
                      <a:pt x="1273" y="160"/>
                    </a:lnTo>
                    <a:lnTo>
                      <a:pt x="1283" y="163"/>
                    </a:lnTo>
                    <a:lnTo>
                      <a:pt x="1291" y="167"/>
                    </a:lnTo>
                    <a:lnTo>
                      <a:pt x="1301" y="171"/>
                    </a:lnTo>
                    <a:lnTo>
                      <a:pt x="1310" y="174"/>
                    </a:lnTo>
                    <a:lnTo>
                      <a:pt x="1320" y="177"/>
                    </a:lnTo>
                    <a:lnTo>
                      <a:pt x="1332" y="179"/>
                    </a:lnTo>
                    <a:lnTo>
                      <a:pt x="1344" y="180"/>
                    </a:lnTo>
                    <a:lnTo>
                      <a:pt x="1356" y="183"/>
                    </a:lnTo>
                    <a:lnTo>
                      <a:pt x="1367" y="184"/>
                    </a:lnTo>
                    <a:lnTo>
                      <a:pt x="1379" y="185"/>
                    </a:lnTo>
                    <a:lnTo>
                      <a:pt x="1391" y="186"/>
                    </a:lnTo>
                    <a:lnTo>
                      <a:pt x="1403" y="187"/>
                    </a:lnTo>
                    <a:lnTo>
                      <a:pt x="1415" y="189"/>
                    </a:lnTo>
                    <a:lnTo>
                      <a:pt x="1428" y="189"/>
                    </a:lnTo>
                    <a:lnTo>
                      <a:pt x="1441" y="189"/>
                    </a:lnTo>
                    <a:lnTo>
                      <a:pt x="1454" y="190"/>
                    </a:lnTo>
                    <a:lnTo>
                      <a:pt x="1468" y="190"/>
                    </a:lnTo>
                    <a:lnTo>
                      <a:pt x="1481" y="189"/>
                    </a:lnTo>
                    <a:lnTo>
                      <a:pt x="1494" y="189"/>
                    </a:lnTo>
                    <a:lnTo>
                      <a:pt x="1507" y="189"/>
                    </a:lnTo>
                    <a:lnTo>
                      <a:pt x="1520" y="189"/>
                    </a:lnTo>
                    <a:lnTo>
                      <a:pt x="1529" y="187"/>
                    </a:lnTo>
                    <a:lnTo>
                      <a:pt x="1538" y="186"/>
                    </a:lnTo>
                    <a:lnTo>
                      <a:pt x="1547" y="185"/>
                    </a:lnTo>
                    <a:lnTo>
                      <a:pt x="1556" y="183"/>
                    </a:lnTo>
                    <a:lnTo>
                      <a:pt x="1565" y="181"/>
                    </a:lnTo>
                    <a:lnTo>
                      <a:pt x="1573" y="181"/>
                    </a:lnTo>
                    <a:lnTo>
                      <a:pt x="1583" y="181"/>
                    </a:lnTo>
                    <a:lnTo>
                      <a:pt x="1591" y="183"/>
                    </a:lnTo>
                    <a:lnTo>
                      <a:pt x="1598" y="184"/>
                    </a:lnTo>
                    <a:lnTo>
                      <a:pt x="1606" y="186"/>
                    </a:lnTo>
                    <a:lnTo>
                      <a:pt x="1613" y="189"/>
                    </a:lnTo>
                    <a:lnTo>
                      <a:pt x="1620" y="192"/>
                    </a:lnTo>
                    <a:lnTo>
                      <a:pt x="1627" y="196"/>
                    </a:lnTo>
                    <a:lnTo>
                      <a:pt x="1633" y="201"/>
                    </a:lnTo>
                    <a:lnTo>
                      <a:pt x="1639" y="205"/>
                    </a:lnTo>
                    <a:lnTo>
                      <a:pt x="1644" y="211"/>
                    </a:lnTo>
                    <a:lnTo>
                      <a:pt x="1649" y="217"/>
                    </a:lnTo>
                    <a:lnTo>
                      <a:pt x="1651" y="225"/>
                    </a:lnTo>
                    <a:lnTo>
                      <a:pt x="1654" y="232"/>
                    </a:lnTo>
                    <a:lnTo>
                      <a:pt x="1656" y="239"/>
                    </a:lnTo>
                    <a:lnTo>
                      <a:pt x="1657" y="247"/>
                    </a:lnTo>
                    <a:lnTo>
                      <a:pt x="1658" y="255"/>
                    </a:lnTo>
                    <a:lnTo>
                      <a:pt x="1660" y="263"/>
                    </a:lnTo>
                    <a:lnTo>
                      <a:pt x="1662" y="270"/>
                    </a:lnTo>
                    <a:lnTo>
                      <a:pt x="1667" y="291"/>
                    </a:lnTo>
                    <a:lnTo>
                      <a:pt x="1672" y="310"/>
                    </a:lnTo>
                    <a:lnTo>
                      <a:pt x="1676" y="330"/>
                    </a:lnTo>
                    <a:lnTo>
                      <a:pt x="1681" y="349"/>
                    </a:lnTo>
                    <a:lnTo>
                      <a:pt x="1686" y="370"/>
                    </a:lnTo>
                    <a:lnTo>
                      <a:pt x="1690" y="389"/>
                    </a:lnTo>
                    <a:lnTo>
                      <a:pt x="1693" y="409"/>
                    </a:lnTo>
                    <a:lnTo>
                      <a:pt x="1697" y="429"/>
                    </a:lnTo>
                    <a:lnTo>
                      <a:pt x="1699" y="448"/>
                    </a:lnTo>
                    <a:lnTo>
                      <a:pt x="1700" y="466"/>
                    </a:lnTo>
                    <a:lnTo>
                      <a:pt x="1702" y="485"/>
                    </a:lnTo>
                    <a:lnTo>
                      <a:pt x="1702" y="503"/>
                    </a:lnTo>
                    <a:lnTo>
                      <a:pt x="1703" y="521"/>
                    </a:lnTo>
                    <a:lnTo>
                      <a:pt x="1704" y="540"/>
                    </a:lnTo>
                    <a:lnTo>
                      <a:pt x="1705" y="558"/>
                    </a:lnTo>
                    <a:lnTo>
                      <a:pt x="1709" y="576"/>
                    </a:lnTo>
                    <a:lnTo>
                      <a:pt x="1711" y="588"/>
                    </a:lnTo>
                    <a:lnTo>
                      <a:pt x="1715" y="600"/>
                    </a:lnTo>
                    <a:lnTo>
                      <a:pt x="1718" y="612"/>
                    </a:lnTo>
                    <a:lnTo>
                      <a:pt x="1723" y="624"/>
                    </a:lnTo>
                    <a:lnTo>
                      <a:pt x="1728" y="635"/>
                    </a:lnTo>
                    <a:lnTo>
                      <a:pt x="1734" y="646"/>
                    </a:lnTo>
                    <a:lnTo>
                      <a:pt x="1741" y="655"/>
                    </a:lnTo>
                    <a:lnTo>
                      <a:pt x="1750" y="665"/>
                    </a:lnTo>
                    <a:lnTo>
                      <a:pt x="1756" y="668"/>
                    </a:lnTo>
                    <a:lnTo>
                      <a:pt x="1763" y="672"/>
                    </a:lnTo>
                    <a:lnTo>
                      <a:pt x="1771" y="674"/>
                    </a:lnTo>
                    <a:lnTo>
                      <a:pt x="1778" y="677"/>
                    </a:lnTo>
                    <a:lnTo>
                      <a:pt x="1787" y="677"/>
                    </a:lnTo>
                    <a:lnTo>
                      <a:pt x="1795" y="676"/>
                    </a:lnTo>
                    <a:lnTo>
                      <a:pt x="1802" y="673"/>
                    </a:lnTo>
                    <a:lnTo>
                      <a:pt x="1808" y="670"/>
                    </a:lnTo>
                    <a:lnTo>
                      <a:pt x="1823" y="660"/>
                    </a:lnTo>
                    <a:lnTo>
                      <a:pt x="1835" y="648"/>
                    </a:lnTo>
                    <a:lnTo>
                      <a:pt x="1846" y="635"/>
                    </a:lnTo>
                    <a:lnTo>
                      <a:pt x="1856" y="622"/>
                    </a:lnTo>
                    <a:lnTo>
                      <a:pt x="1867" y="607"/>
                    </a:lnTo>
                    <a:lnTo>
                      <a:pt x="1877" y="593"/>
                    </a:lnTo>
                    <a:lnTo>
                      <a:pt x="1886" y="579"/>
                    </a:lnTo>
                    <a:lnTo>
                      <a:pt x="1897" y="564"/>
                    </a:lnTo>
                    <a:lnTo>
                      <a:pt x="1910" y="547"/>
                    </a:lnTo>
                    <a:lnTo>
                      <a:pt x="1922" y="529"/>
                    </a:lnTo>
                    <a:lnTo>
                      <a:pt x="1934" y="511"/>
                    </a:lnTo>
                    <a:lnTo>
                      <a:pt x="1948" y="493"/>
                    </a:lnTo>
                    <a:lnTo>
                      <a:pt x="1960" y="475"/>
                    </a:lnTo>
                    <a:lnTo>
                      <a:pt x="1972" y="459"/>
                    </a:lnTo>
                    <a:lnTo>
                      <a:pt x="1985" y="441"/>
                    </a:lnTo>
                    <a:lnTo>
                      <a:pt x="1997" y="424"/>
                    </a:lnTo>
                    <a:lnTo>
                      <a:pt x="2006" y="411"/>
                    </a:lnTo>
                    <a:lnTo>
                      <a:pt x="2016" y="399"/>
                    </a:lnTo>
                    <a:lnTo>
                      <a:pt x="2027" y="387"/>
                    </a:lnTo>
                    <a:lnTo>
                      <a:pt x="2036" y="375"/>
                    </a:lnTo>
                    <a:lnTo>
                      <a:pt x="2046" y="363"/>
                    </a:lnTo>
                    <a:lnTo>
                      <a:pt x="2057" y="351"/>
                    </a:lnTo>
                    <a:lnTo>
                      <a:pt x="2068" y="340"/>
                    </a:lnTo>
                    <a:lnTo>
                      <a:pt x="2080" y="329"/>
                    </a:lnTo>
                    <a:lnTo>
                      <a:pt x="2086" y="324"/>
                    </a:lnTo>
                    <a:lnTo>
                      <a:pt x="2093" y="317"/>
                    </a:lnTo>
                    <a:lnTo>
                      <a:pt x="2101" y="311"/>
                    </a:lnTo>
                    <a:lnTo>
                      <a:pt x="2110" y="306"/>
                    </a:lnTo>
                    <a:lnTo>
                      <a:pt x="2117" y="301"/>
                    </a:lnTo>
                    <a:lnTo>
                      <a:pt x="2124" y="300"/>
                    </a:lnTo>
                    <a:lnTo>
                      <a:pt x="2126" y="300"/>
                    </a:lnTo>
                    <a:lnTo>
                      <a:pt x="2129" y="301"/>
                    </a:lnTo>
                    <a:lnTo>
                      <a:pt x="2131" y="303"/>
                    </a:lnTo>
                    <a:lnTo>
                      <a:pt x="2132" y="306"/>
                    </a:lnTo>
                    <a:lnTo>
                      <a:pt x="2138" y="327"/>
                    </a:lnTo>
                    <a:lnTo>
                      <a:pt x="2141" y="347"/>
                    </a:lnTo>
                    <a:lnTo>
                      <a:pt x="2142" y="369"/>
                    </a:lnTo>
                    <a:lnTo>
                      <a:pt x="2142" y="390"/>
                    </a:lnTo>
                    <a:lnTo>
                      <a:pt x="2140" y="413"/>
                    </a:lnTo>
                    <a:lnTo>
                      <a:pt x="2136" y="435"/>
                    </a:lnTo>
                    <a:lnTo>
                      <a:pt x="2132" y="455"/>
                    </a:lnTo>
                    <a:lnTo>
                      <a:pt x="2126" y="477"/>
                    </a:lnTo>
                    <a:lnTo>
                      <a:pt x="2116" y="513"/>
                    </a:lnTo>
                    <a:lnTo>
                      <a:pt x="2104" y="549"/>
                    </a:lnTo>
                    <a:lnTo>
                      <a:pt x="2089" y="585"/>
                    </a:lnTo>
                    <a:lnTo>
                      <a:pt x="2075" y="619"/>
                    </a:lnTo>
                    <a:lnTo>
                      <a:pt x="2058" y="654"/>
                    </a:lnTo>
                    <a:lnTo>
                      <a:pt x="2042" y="689"/>
                    </a:lnTo>
                    <a:lnTo>
                      <a:pt x="2026" y="724"/>
                    </a:lnTo>
                    <a:lnTo>
                      <a:pt x="2009" y="758"/>
                    </a:lnTo>
                    <a:lnTo>
                      <a:pt x="1999" y="778"/>
                    </a:lnTo>
                    <a:lnTo>
                      <a:pt x="1990" y="797"/>
                    </a:lnTo>
                    <a:lnTo>
                      <a:pt x="1980" y="816"/>
                    </a:lnTo>
                    <a:lnTo>
                      <a:pt x="1969" y="834"/>
                    </a:lnTo>
                    <a:lnTo>
                      <a:pt x="1958" y="853"/>
                    </a:lnTo>
                    <a:lnTo>
                      <a:pt x="1946" y="871"/>
                    </a:lnTo>
                    <a:lnTo>
                      <a:pt x="1934" y="888"/>
                    </a:lnTo>
                    <a:lnTo>
                      <a:pt x="1921" y="905"/>
                    </a:lnTo>
                    <a:lnTo>
                      <a:pt x="1912" y="916"/>
                    </a:lnTo>
                    <a:lnTo>
                      <a:pt x="1901" y="925"/>
                    </a:lnTo>
                    <a:lnTo>
                      <a:pt x="1890" y="934"/>
                    </a:lnTo>
                    <a:lnTo>
                      <a:pt x="1878" y="942"/>
                    </a:lnTo>
                    <a:lnTo>
                      <a:pt x="1866" y="950"/>
                    </a:lnTo>
                    <a:lnTo>
                      <a:pt x="1855" y="959"/>
                    </a:lnTo>
                    <a:lnTo>
                      <a:pt x="1843" y="967"/>
                    </a:lnTo>
                    <a:lnTo>
                      <a:pt x="1832" y="976"/>
                    </a:lnTo>
                    <a:lnTo>
                      <a:pt x="1828" y="980"/>
                    </a:lnTo>
                    <a:lnTo>
                      <a:pt x="1822" y="985"/>
                    </a:lnTo>
                    <a:lnTo>
                      <a:pt x="1817" y="990"/>
                    </a:lnTo>
                    <a:lnTo>
                      <a:pt x="1811" y="995"/>
                    </a:lnTo>
                    <a:lnTo>
                      <a:pt x="1806" y="1000"/>
                    </a:lnTo>
                    <a:lnTo>
                      <a:pt x="1802" y="1004"/>
                    </a:lnTo>
                    <a:lnTo>
                      <a:pt x="1799" y="1010"/>
                    </a:lnTo>
                    <a:lnTo>
                      <a:pt x="1798" y="1018"/>
                    </a:lnTo>
                    <a:lnTo>
                      <a:pt x="1795" y="1025"/>
                    </a:lnTo>
                    <a:lnTo>
                      <a:pt x="1795" y="1033"/>
                    </a:lnTo>
                    <a:lnTo>
                      <a:pt x="1794" y="1042"/>
                    </a:lnTo>
                    <a:lnTo>
                      <a:pt x="1795" y="1050"/>
                    </a:lnTo>
                    <a:lnTo>
                      <a:pt x="1796" y="1057"/>
                    </a:lnTo>
                    <a:lnTo>
                      <a:pt x="1799" y="1064"/>
                    </a:lnTo>
                    <a:lnTo>
                      <a:pt x="1804" y="1072"/>
                    </a:lnTo>
                    <a:lnTo>
                      <a:pt x="1808" y="1076"/>
                    </a:lnTo>
                    <a:lnTo>
                      <a:pt x="1820" y="1082"/>
                    </a:lnTo>
                    <a:lnTo>
                      <a:pt x="1834" y="1087"/>
                    </a:lnTo>
                    <a:lnTo>
                      <a:pt x="1847" y="1092"/>
                    </a:lnTo>
                    <a:lnTo>
                      <a:pt x="1860" y="1094"/>
                    </a:lnTo>
                    <a:lnTo>
                      <a:pt x="1873" y="1096"/>
                    </a:lnTo>
                    <a:lnTo>
                      <a:pt x="1888" y="1096"/>
                    </a:lnTo>
                    <a:lnTo>
                      <a:pt x="1901" y="1096"/>
                    </a:lnTo>
                    <a:lnTo>
                      <a:pt x="1915" y="1093"/>
                    </a:lnTo>
                    <a:lnTo>
                      <a:pt x="1930" y="1091"/>
                    </a:lnTo>
                    <a:lnTo>
                      <a:pt x="1944" y="1086"/>
                    </a:lnTo>
                    <a:lnTo>
                      <a:pt x="1958" y="1081"/>
                    </a:lnTo>
                    <a:lnTo>
                      <a:pt x="1973" y="1075"/>
                    </a:lnTo>
                    <a:lnTo>
                      <a:pt x="1986" y="1068"/>
                    </a:lnTo>
                    <a:lnTo>
                      <a:pt x="1998" y="1060"/>
                    </a:lnTo>
                    <a:lnTo>
                      <a:pt x="2010" y="1051"/>
                    </a:lnTo>
                    <a:lnTo>
                      <a:pt x="2021" y="1040"/>
                    </a:lnTo>
                    <a:lnTo>
                      <a:pt x="2030" y="1030"/>
                    </a:lnTo>
                    <a:lnTo>
                      <a:pt x="2039" y="1019"/>
                    </a:lnTo>
                    <a:lnTo>
                      <a:pt x="2046" y="1008"/>
                    </a:lnTo>
                    <a:lnTo>
                      <a:pt x="2054" y="996"/>
                    </a:lnTo>
                    <a:lnTo>
                      <a:pt x="2068" y="972"/>
                    </a:lnTo>
                    <a:lnTo>
                      <a:pt x="2082" y="948"/>
                    </a:lnTo>
                    <a:lnTo>
                      <a:pt x="2094" y="923"/>
                    </a:lnTo>
                    <a:lnTo>
                      <a:pt x="2108" y="899"/>
                    </a:lnTo>
                    <a:lnTo>
                      <a:pt x="2123" y="875"/>
                    </a:lnTo>
                    <a:lnTo>
                      <a:pt x="2138" y="852"/>
                    </a:lnTo>
                    <a:lnTo>
                      <a:pt x="2150" y="838"/>
                    </a:lnTo>
                    <a:lnTo>
                      <a:pt x="2164" y="823"/>
                    </a:lnTo>
                    <a:lnTo>
                      <a:pt x="2177" y="809"/>
                    </a:lnTo>
                    <a:lnTo>
                      <a:pt x="2190" y="796"/>
                    </a:lnTo>
                    <a:lnTo>
                      <a:pt x="2204" y="782"/>
                    </a:lnTo>
                    <a:lnTo>
                      <a:pt x="2220" y="770"/>
                    </a:lnTo>
                    <a:lnTo>
                      <a:pt x="2234" y="758"/>
                    </a:lnTo>
                    <a:lnTo>
                      <a:pt x="2250" y="746"/>
                    </a:lnTo>
                    <a:lnTo>
                      <a:pt x="2261" y="739"/>
                    </a:lnTo>
                    <a:lnTo>
                      <a:pt x="2270" y="733"/>
                    </a:lnTo>
                    <a:lnTo>
                      <a:pt x="2281" y="726"/>
                    </a:lnTo>
                    <a:lnTo>
                      <a:pt x="2292" y="721"/>
                    </a:lnTo>
                    <a:lnTo>
                      <a:pt x="2304" y="716"/>
                    </a:lnTo>
                    <a:lnTo>
                      <a:pt x="2315" y="713"/>
                    </a:lnTo>
                    <a:lnTo>
                      <a:pt x="2327" y="712"/>
                    </a:lnTo>
                    <a:lnTo>
                      <a:pt x="2339" y="712"/>
                    </a:lnTo>
                    <a:lnTo>
                      <a:pt x="2350" y="714"/>
                    </a:lnTo>
                    <a:lnTo>
                      <a:pt x="2360" y="718"/>
                    </a:lnTo>
                    <a:lnTo>
                      <a:pt x="2371" y="724"/>
                    </a:lnTo>
                    <a:lnTo>
                      <a:pt x="2381" y="731"/>
                    </a:lnTo>
                    <a:lnTo>
                      <a:pt x="2389" y="738"/>
                    </a:lnTo>
                    <a:lnTo>
                      <a:pt x="2399" y="746"/>
                    </a:lnTo>
                    <a:lnTo>
                      <a:pt x="2407" y="756"/>
                    </a:lnTo>
                    <a:lnTo>
                      <a:pt x="2416" y="764"/>
                    </a:lnTo>
                    <a:lnTo>
                      <a:pt x="2423" y="773"/>
                    </a:lnTo>
                    <a:lnTo>
                      <a:pt x="2430" y="784"/>
                    </a:lnTo>
                    <a:lnTo>
                      <a:pt x="2437" y="793"/>
                    </a:lnTo>
                    <a:lnTo>
                      <a:pt x="2443" y="804"/>
                    </a:lnTo>
                    <a:lnTo>
                      <a:pt x="2450" y="815"/>
                    </a:lnTo>
                    <a:lnTo>
                      <a:pt x="2456" y="826"/>
                    </a:lnTo>
                    <a:lnTo>
                      <a:pt x="2462" y="836"/>
                    </a:lnTo>
                    <a:lnTo>
                      <a:pt x="2468" y="846"/>
                    </a:lnTo>
                    <a:lnTo>
                      <a:pt x="2478" y="862"/>
                    </a:lnTo>
                    <a:lnTo>
                      <a:pt x="2486" y="877"/>
                    </a:lnTo>
                    <a:lnTo>
                      <a:pt x="2496" y="892"/>
                    </a:lnTo>
                    <a:lnTo>
                      <a:pt x="2506" y="907"/>
                    </a:lnTo>
                    <a:lnTo>
                      <a:pt x="2515" y="923"/>
                    </a:lnTo>
                    <a:lnTo>
                      <a:pt x="2524" y="938"/>
                    </a:lnTo>
                    <a:lnTo>
                      <a:pt x="2532" y="954"/>
                    </a:lnTo>
                    <a:lnTo>
                      <a:pt x="2539" y="970"/>
                    </a:lnTo>
                    <a:lnTo>
                      <a:pt x="2543" y="980"/>
                    </a:lnTo>
                    <a:lnTo>
                      <a:pt x="2545" y="990"/>
                    </a:lnTo>
                    <a:lnTo>
                      <a:pt x="2549" y="1001"/>
                    </a:lnTo>
                    <a:lnTo>
                      <a:pt x="2550" y="1010"/>
                    </a:lnTo>
                    <a:lnTo>
                      <a:pt x="2551" y="1021"/>
                    </a:lnTo>
                    <a:lnTo>
                      <a:pt x="2552" y="1032"/>
                    </a:lnTo>
                    <a:lnTo>
                      <a:pt x="2552" y="1042"/>
                    </a:lnTo>
                    <a:lnTo>
                      <a:pt x="2550" y="1052"/>
                    </a:lnTo>
                    <a:lnTo>
                      <a:pt x="2549" y="1060"/>
                    </a:lnTo>
                    <a:lnTo>
                      <a:pt x="2546" y="1066"/>
                    </a:lnTo>
                    <a:lnTo>
                      <a:pt x="2543" y="1073"/>
                    </a:lnTo>
                    <a:lnTo>
                      <a:pt x="2538" y="1079"/>
                    </a:lnTo>
                    <a:lnTo>
                      <a:pt x="2533" y="1085"/>
                    </a:lnTo>
                    <a:lnTo>
                      <a:pt x="2528" y="1090"/>
                    </a:lnTo>
                    <a:lnTo>
                      <a:pt x="2521" y="1092"/>
                    </a:lnTo>
                    <a:lnTo>
                      <a:pt x="2515" y="1093"/>
                    </a:lnTo>
                    <a:lnTo>
                      <a:pt x="2504" y="1093"/>
                    </a:lnTo>
                    <a:lnTo>
                      <a:pt x="2495" y="1091"/>
                    </a:lnTo>
                    <a:lnTo>
                      <a:pt x="2484" y="1088"/>
                    </a:lnTo>
                    <a:lnTo>
                      <a:pt x="2474" y="1084"/>
                    </a:lnTo>
                    <a:lnTo>
                      <a:pt x="2465" y="1078"/>
                    </a:lnTo>
                    <a:lnTo>
                      <a:pt x="2455" y="1072"/>
                    </a:lnTo>
                    <a:lnTo>
                      <a:pt x="2447" y="1066"/>
                    </a:lnTo>
                    <a:lnTo>
                      <a:pt x="2438" y="1058"/>
                    </a:lnTo>
                    <a:lnTo>
                      <a:pt x="2428" y="1048"/>
                    </a:lnTo>
                    <a:lnTo>
                      <a:pt x="2418" y="1036"/>
                    </a:lnTo>
                    <a:lnTo>
                      <a:pt x="2410" y="1024"/>
                    </a:lnTo>
                    <a:lnTo>
                      <a:pt x="2401" y="1010"/>
                    </a:lnTo>
                    <a:lnTo>
                      <a:pt x="2393" y="997"/>
                    </a:lnTo>
                    <a:lnTo>
                      <a:pt x="2386" y="984"/>
                    </a:lnTo>
                    <a:lnTo>
                      <a:pt x="2377" y="971"/>
                    </a:lnTo>
                    <a:lnTo>
                      <a:pt x="2368" y="959"/>
                    </a:lnTo>
                    <a:lnTo>
                      <a:pt x="2363" y="950"/>
                    </a:lnTo>
                    <a:lnTo>
                      <a:pt x="2357" y="943"/>
                    </a:lnTo>
                    <a:lnTo>
                      <a:pt x="2352" y="935"/>
                    </a:lnTo>
                    <a:lnTo>
                      <a:pt x="2346" y="928"/>
                    </a:lnTo>
                    <a:lnTo>
                      <a:pt x="2341" y="919"/>
                    </a:lnTo>
                    <a:lnTo>
                      <a:pt x="2335" y="912"/>
                    </a:lnTo>
                    <a:lnTo>
                      <a:pt x="2328" y="906"/>
                    </a:lnTo>
                    <a:lnTo>
                      <a:pt x="2321" y="900"/>
                    </a:lnTo>
                    <a:lnTo>
                      <a:pt x="2317" y="898"/>
                    </a:lnTo>
                    <a:lnTo>
                      <a:pt x="2314" y="896"/>
                    </a:lnTo>
                    <a:lnTo>
                      <a:pt x="2310" y="895"/>
                    </a:lnTo>
                    <a:lnTo>
                      <a:pt x="2305" y="894"/>
                    </a:lnTo>
                    <a:lnTo>
                      <a:pt x="2302" y="894"/>
                    </a:lnTo>
                    <a:lnTo>
                      <a:pt x="2298" y="895"/>
                    </a:lnTo>
                    <a:lnTo>
                      <a:pt x="2294" y="896"/>
                    </a:lnTo>
                    <a:lnTo>
                      <a:pt x="2292" y="900"/>
                    </a:lnTo>
                    <a:lnTo>
                      <a:pt x="2281" y="916"/>
                    </a:lnTo>
                    <a:lnTo>
                      <a:pt x="2272" y="931"/>
                    </a:lnTo>
                    <a:lnTo>
                      <a:pt x="2263" y="949"/>
                    </a:lnTo>
                    <a:lnTo>
                      <a:pt x="2255" y="966"/>
                    </a:lnTo>
                    <a:lnTo>
                      <a:pt x="2246" y="984"/>
                    </a:lnTo>
                    <a:lnTo>
                      <a:pt x="2239" y="1001"/>
                    </a:lnTo>
                    <a:lnTo>
                      <a:pt x="2230" y="1018"/>
                    </a:lnTo>
                    <a:lnTo>
                      <a:pt x="2221" y="1034"/>
                    </a:lnTo>
                    <a:lnTo>
                      <a:pt x="2210" y="1051"/>
                    </a:lnTo>
                    <a:lnTo>
                      <a:pt x="2201" y="1068"/>
                    </a:lnTo>
                    <a:lnTo>
                      <a:pt x="2190" y="1085"/>
                    </a:lnTo>
                    <a:lnTo>
                      <a:pt x="2179" y="1102"/>
                    </a:lnTo>
                    <a:lnTo>
                      <a:pt x="2168" y="1117"/>
                    </a:lnTo>
                    <a:lnTo>
                      <a:pt x="2156" y="1133"/>
                    </a:lnTo>
                    <a:lnTo>
                      <a:pt x="2144" y="1148"/>
                    </a:lnTo>
                    <a:lnTo>
                      <a:pt x="2132" y="1164"/>
                    </a:lnTo>
                    <a:lnTo>
                      <a:pt x="2120" y="1177"/>
                    </a:lnTo>
                    <a:lnTo>
                      <a:pt x="2108" y="1192"/>
                    </a:lnTo>
                    <a:lnTo>
                      <a:pt x="2095" y="1204"/>
                    </a:lnTo>
                    <a:lnTo>
                      <a:pt x="2082" y="1217"/>
                    </a:lnTo>
                    <a:lnTo>
                      <a:pt x="2069" y="1229"/>
                    </a:lnTo>
                    <a:lnTo>
                      <a:pt x="2054" y="1241"/>
                    </a:lnTo>
                    <a:lnTo>
                      <a:pt x="2041" y="1253"/>
                    </a:lnTo>
                    <a:lnTo>
                      <a:pt x="2027" y="1264"/>
                    </a:lnTo>
                    <a:lnTo>
                      <a:pt x="2016" y="1272"/>
                    </a:lnTo>
                    <a:lnTo>
                      <a:pt x="2006" y="1279"/>
                    </a:lnTo>
                    <a:lnTo>
                      <a:pt x="1996" y="1286"/>
                    </a:lnTo>
                    <a:lnTo>
                      <a:pt x="1985" y="1294"/>
                    </a:lnTo>
                    <a:lnTo>
                      <a:pt x="1973" y="1301"/>
                    </a:lnTo>
                    <a:lnTo>
                      <a:pt x="1962" y="1307"/>
                    </a:lnTo>
                    <a:lnTo>
                      <a:pt x="1950" y="1312"/>
                    </a:lnTo>
                    <a:lnTo>
                      <a:pt x="1938" y="1316"/>
                    </a:lnTo>
                    <a:lnTo>
                      <a:pt x="1927" y="1321"/>
                    </a:lnTo>
                    <a:lnTo>
                      <a:pt x="1916" y="1324"/>
                    </a:lnTo>
                    <a:lnTo>
                      <a:pt x="1906" y="1325"/>
                    </a:lnTo>
                    <a:lnTo>
                      <a:pt x="1895" y="1327"/>
                    </a:lnTo>
                    <a:lnTo>
                      <a:pt x="1883" y="1328"/>
                    </a:lnTo>
                    <a:lnTo>
                      <a:pt x="1872" y="1330"/>
                    </a:lnTo>
                    <a:lnTo>
                      <a:pt x="1861" y="1332"/>
                    </a:lnTo>
                    <a:lnTo>
                      <a:pt x="1850" y="1334"/>
                    </a:lnTo>
                    <a:lnTo>
                      <a:pt x="1843" y="1337"/>
                    </a:lnTo>
                    <a:lnTo>
                      <a:pt x="1835" y="1338"/>
                    </a:lnTo>
                    <a:lnTo>
                      <a:pt x="1828" y="1340"/>
                    </a:lnTo>
                    <a:lnTo>
                      <a:pt x="1820" y="1342"/>
                    </a:lnTo>
                    <a:lnTo>
                      <a:pt x="1813" y="1345"/>
                    </a:lnTo>
                    <a:lnTo>
                      <a:pt x="1807" y="1348"/>
                    </a:lnTo>
                    <a:lnTo>
                      <a:pt x="1801" y="1352"/>
                    </a:lnTo>
                    <a:lnTo>
                      <a:pt x="1798" y="1358"/>
                    </a:lnTo>
                    <a:lnTo>
                      <a:pt x="1795" y="1363"/>
                    </a:lnTo>
                    <a:lnTo>
                      <a:pt x="1795" y="1369"/>
                    </a:lnTo>
                    <a:lnTo>
                      <a:pt x="1796" y="1374"/>
                    </a:lnTo>
                    <a:lnTo>
                      <a:pt x="1799" y="1380"/>
                    </a:lnTo>
                    <a:lnTo>
                      <a:pt x="1802" y="1385"/>
                    </a:lnTo>
                    <a:lnTo>
                      <a:pt x="1806" y="1391"/>
                    </a:lnTo>
                    <a:lnTo>
                      <a:pt x="1811" y="1395"/>
                    </a:lnTo>
                    <a:lnTo>
                      <a:pt x="1814" y="1399"/>
                    </a:lnTo>
                    <a:lnTo>
                      <a:pt x="1824" y="1407"/>
                    </a:lnTo>
                    <a:lnTo>
                      <a:pt x="1835" y="1415"/>
                    </a:lnTo>
                    <a:lnTo>
                      <a:pt x="1846" y="1422"/>
                    </a:lnTo>
                    <a:lnTo>
                      <a:pt x="1856" y="1428"/>
                    </a:lnTo>
                    <a:lnTo>
                      <a:pt x="1868" y="1434"/>
                    </a:lnTo>
                    <a:lnTo>
                      <a:pt x="1878" y="1441"/>
                    </a:lnTo>
                    <a:lnTo>
                      <a:pt x="1889" y="1449"/>
                    </a:lnTo>
                    <a:lnTo>
                      <a:pt x="1897" y="1458"/>
                    </a:lnTo>
                    <a:lnTo>
                      <a:pt x="1906" y="1470"/>
                    </a:lnTo>
                    <a:lnTo>
                      <a:pt x="1914" y="1482"/>
                    </a:lnTo>
                    <a:lnTo>
                      <a:pt x="1920" y="1495"/>
                    </a:lnTo>
                    <a:lnTo>
                      <a:pt x="1926" y="1509"/>
                    </a:lnTo>
                    <a:lnTo>
                      <a:pt x="1932" y="1523"/>
                    </a:lnTo>
                    <a:lnTo>
                      <a:pt x="1938" y="1537"/>
                    </a:lnTo>
                    <a:lnTo>
                      <a:pt x="1944" y="1550"/>
                    </a:lnTo>
                    <a:lnTo>
                      <a:pt x="1950" y="1563"/>
                    </a:lnTo>
                    <a:lnTo>
                      <a:pt x="1958" y="1583"/>
                    </a:lnTo>
                    <a:lnTo>
                      <a:pt x="1966" y="1602"/>
                    </a:lnTo>
                    <a:lnTo>
                      <a:pt x="1973" y="1621"/>
                    </a:lnTo>
                    <a:lnTo>
                      <a:pt x="1980" y="1641"/>
                    </a:lnTo>
                    <a:lnTo>
                      <a:pt x="1988" y="1659"/>
                    </a:lnTo>
                    <a:lnTo>
                      <a:pt x="1997" y="1679"/>
                    </a:lnTo>
                    <a:lnTo>
                      <a:pt x="2003" y="1687"/>
                    </a:lnTo>
                    <a:lnTo>
                      <a:pt x="2008" y="1695"/>
                    </a:lnTo>
                    <a:lnTo>
                      <a:pt x="2014" y="1704"/>
                    </a:lnTo>
                    <a:lnTo>
                      <a:pt x="2021" y="1711"/>
                    </a:lnTo>
                    <a:lnTo>
                      <a:pt x="2036" y="1725"/>
                    </a:lnTo>
                    <a:lnTo>
                      <a:pt x="2054" y="1739"/>
                    </a:lnTo>
                    <a:lnTo>
                      <a:pt x="2074" y="1751"/>
                    </a:lnTo>
                    <a:lnTo>
                      <a:pt x="2093" y="1761"/>
                    </a:lnTo>
                    <a:lnTo>
                      <a:pt x="2113" y="1771"/>
                    </a:lnTo>
                    <a:lnTo>
                      <a:pt x="2134" y="1781"/>
                    </a:lnTo>
                    <a:lnTo>
                      <a:pt x="2154" y="1789"/>
                    </a:lnTo>
                    <a:lnTo>
                      <a:pt x="2174" y="1799"/>
                    </a:lnTo>
                    <a:lnTo>
                      <a:pt x="2189" y="1806"/>
                    </a:lnTo>
                    <a:lnTo>
                      <a:pt x="2203" y="1812"/>
                    </a:lnTo>
                    <a:lnTo>
                      <a:pt x="2218" y="1817"/>
                    </a:lnTo>
                    <a:lnTo>
                      <a:pt x="2233" y="1821"/>
                    </a:lnTo>
                    <a:lnTo>
                      <a:pt x="2249" y="1826"/>
                    </a:lnTo>
                    <a:lnTo>
                      <a:pt x="2263" y="1832"/>
                    </a:lnTo>
                    <a:lnTo>
                      <a:pt x="2278" y="1838"/>
                    </a:lnTo>
                    <a:lnTo>
                      <a:pt x="2292" y="1847"/>
                    </a:lnTo>
                    <a:lnTo>
                      <a:pt x="2298" y="1850"/>
                    </a:lnTo>
                    <a:lnTo>
                      <a:pt x="2305" y="1855"/>
                    </a:lnTo>
                    <a:lnTo>
                      <a:pt x="2311" y="1860"/>
                    </a:lnTo>
                    <a:lnTo>
                      <a:pt x="2317" y="1866"/>
                    </a:lnTo>
                    <a:lnTo>
                      <a:pt x="2322" y="1872"/>
                    </a:lnTo>
                    <a:lnTo>
                      <a:pt x="2327" y="1879"/>
                    </a:lnTo>
                    <a:lnTo>
                      <a:pt x="2330" y="1886"/>
                    </a:lnTo>
                    <a:lnTo>
                      <a:pt x="2333" y="1893"/>
                    </a:lnTo>
                    <a:lnTo>
                      <a:pt x="2335" y="1903"/>
                    </a:lnTo>
                    <a:lnTo>
                      <a:pt x="2336" y="1913"/>
                    </a:lnTo>
                    <a:lnTo>
                      <a:pt x="2338" y="1923"/>
                    </a:lnTo>
                    <a:lnTo>
                      <a:pt x="2338" y="1934"/>
                    </a:lnTo>
                    <a:lnTo>
                      <a:pt x="2336" y="1944"/>
                    </a:lnTo>
                    <a:lnTo>
                      <a:pt x="2333" y="1952"/>
                    </a:lnTo>
                    <a:lnTo>
                      <a:pt x="2330" y="1956"/>
                    </a:lnTo>
                    <a:lnTo>
                      <a:pt x="2328" y="1959"/>
                    </a:lnTo>
                    <a:lnTo>
                      <a:pt x="2324" y="1962"/>
                    </a:lnTo>
                    <a:lnTo>
                      <a:pt x="2321" y="1964"/>
                    </a:lnTo>
                    <a:lnTo>
                      <a:pt x="2314" y="1967"/>
                    </a:lnTo>
                    <a:lnTo>
                      <a:pt x="2306" y="1968"/>
                    </a:lnTo>
                    <a:lnTo>
                      <a:pt x="2298" y="1969"/>
                    </a:lnTo>
                    <a:lnTo>
                      <a:pt x="2291" y="1969"/>
                    </a:lnTo>
                    <a:lnTo>
                      <a:pt x="2275" y="1968"/>
                    </a:lnTo>
                    <a:lnTo>
                      <a:pt x="2260" y="1964"/>
                    </a:lnTo>
                    <a:lnTo>
                      <a:pt x="2244" y="1961"/>
                    </a:lnTo>
                    <a:lnTo>
                      <a:pt x="2228" y="1956"/>
                    </a:lnTo>
                    <a:lnTo>
                      <a:pt x="2213" y="1951"/>
                    </a:lnTo>
                    <a:lnTo>
                      <a:pt x="2197" y="1946"/>
                    </a:lnTo>
                    <a:lnTo>
                      <a:pt x="2180" y="1941"/>
                    </a:lnTo>
                    <a:lnTo>
                      <a:pt x="2164" y="1935"/>
                    </a:lnTo>
                    <a:lnTo>
                      <a:pt x="2148" y="1928"/>
                    </a:lnTo>
                    <a:lnTo>
                      <a:pt x="2131" y="1922"/>
                    </a:lnTo>
                    <a:lnTo>
                      <a:pt x="2116" y="1915"/>
                    </a:lnTo>
                    <a:lnTo>
                      <a:pt x="2100" y="1908"/>
                    </a:lnTo>
                    <a:lnTo>
                      <a:pt x="2084" y="1901"/>
                    </a:lnTo>
                    <a:lnTo>
                      <a:pt x="2068" y="1893"/>
                    </a:lnTo>
                    <a:lnTo>
                      <a:pt x="2048" y="1885"/>
                    </a:lnTo>
                    <a:lnTo>
                      <a:pt x="2029" y="1878"/>
                    </a:lnTo>
                    <a:lnTo>
                      <a:pt x="2009" y="1869"/>
                    </a:lnTo>
                    <a:lnTo>
                      <a:pt x="1990" y="1862"/>
                    </a:lnTo>
                    <a:lnTo>
                      <a:pt x="1969" y="1854"/>
                    </a:lnTo>
                    <a:lnTo>
                      <a:pt x="1951" y="1844"/>
                    </a:lnTo>
                    <a:lnTo>
                      <a:pt x="1932" y="1835"/>
                    </a:lnTo>
                    <a:lnTo>
                      <a:pt x="1915" y="1823"/>
                    </a:lnTo>
                    <a:lnTo>
                      <a:pt x="1902" y="1813"/>
                    </a:lnTo>
                    <a:lnTo>
                      <a:pt x="1890" y="1802"/>
                    </a:lnTo>
                    <a:lnTo>
                      <a:pt x="1878" y="1790"/>
                    </a:lnTo>
                    <a:lnTo>
                      <a:pt x="1867" y="1777"/>
                    </a:lnTo>
                    <a:lnTo>
                      <a:pt x="1858" y="1765"/>
                    </a:lnTo>
                    <a:lnTo>
                      <a:pt x="1848" y="1751"/>
                    </a:lnTo>
                    <a:lnTo>
                      <a:pt x="1840" y="1737"/>
                    </a:lnTo>
                    <a:lnTo>
                      <a:pt x="1832" y="1723"/>
                    </a:lnTo>
                    <a:lnTo>
                      <a:pt x="1829" y="1712"/>
                    </a:lnTo>
                    <a:lnTo>
                      <a:pt x="1826" y="1701"/>
                    </a:lnTo>
                    <a:lnTo>
                      <a:pt x="1825" y="1691"/>
                    </a:lnTo>
                    <a:lnTo>
                      <a:pt x="1825" y="1679"/>
                    </a:lnTo>
                    <a:lnTo>
                      <a:pt x="1825" y="1668"/>
                    </a:lnTo>
                    <a:lnTo>
                      <a:pt x="1824" y="1656"/>
                    </a:lnTo>
                    <a:lnTo>
                      <a:pt x="1823" y="1645"/>
                    </a:lnTo>
                    <a:lnTo>
                      <a:pt x="1820" y="1634"/>
                    </a:lnTo>
                    <a:lnTo>
                      <a:pt x="1817" y="1625"/>
                    </a:lnTo>
                    <a:lnTo>
                      <a:pt x="1813" y="1615"/>
                    </a:lnTo>
                    <a:lnTo>
                      <a:pt x="1810" y="1605"/>
                    </a:lnTo>
                    <a:lnTo>
                      <a:pt x="1805" y="1596"/>
                    </a:lnTo>
                    <a:lnTo>
                      <a:pt x="1800" y="1586"/>
                    </a:lnTo>
                    <a:lnTo>
                      <a:pt x="1794" y="1578"/>
                    </a:lnTo>
                    <a:lnTo>
                      <a:pt x="1787" y="1571"/>
                    </a:lnTo>
                    <a:lnTo>
                      <a:pt x="1780" y="1563"/>
                    </a:lnTo>
                    <a:lnTo>
                      <a:pt x="1775" y="1561"/>
                    </a:lnTo>
                    <a:lnTo>
                      <a:pt x="1769" y="1559"/>
                    </a:lnTo>
                    <a:lnTo>
                      <a:pt x="1762" y="1556"/>
                    </a:lnTo>
                    <a:lnTo>
                      <a:pt x="1756" y="1556"/>
                    </a:lnTo>
                    <a:lnTo>
                      <a:pt x="1748" y="1556"/>
                    </a:lnTo>
                    <a:lnTo>
                      <a:pt x="1742" y="1557"/>
                    </a:lnTo>
                    <a:lnTo>
                      <a:pt x="1738" y="1560"/>
                    </a:lnTo>
                    <a:lnTo>
                      <a:pt x="1733" y="1563"/>
                    </a:lnTo>
                    <a:lnTo>
                      <a:pt x="1727" y="1571"/>
                    </a:lnTo>
                    <a:lnTo>
                      <a:pt x="1722" y="1579"/>
                    </a:lnTo>
                    <a:lnTo>
                      <a:pt x="1718" y="1587"/>
                    </a:lnTo>
                    <a:lnTo>
                      <a:pt x="1715" y="1596"/>
                    </a:lnTo>
                    <a:lnTo>
                      <a:pt x="1712" y="1605"/>
                    </a:lnTo>
                    <a:lnTo>
                      <a:pt x="1711" y="1615"/>
                    </a:lnTo>
                    <a:lnTo>
                      <a:pt x="1710" y="1625"/>
                    </a:lnTo>
                    <a:lnTo>
                      <a:pt x="1709" y="1634"/>
                    </a:lnTo>
                    <a:lnTo>
                      <a:pt x="1708" y="1655"/>
                    </a:lnTo>
                    <a:lnTo>
                      <a:pt x="1706" y="1674"/>
                    </a:lnTo>
                    <a:lnTo>
                      <a:pt x="1706" y="1694"/>
                    </a:lnTo>
                    <a:lnTo>
                      <a:pt x="1706" y="1713"/>
                    </a:lnTo>
                    <a:lnTo>
                      <a:pt x="1706" y="1734"/>
                    </a:lnTo>
                    <a:lnTo>
                      <a:pt x="1708" y="1753"/>
                    </a:lnTo>
                    <a:lnTo>
                      <a:pt x="1709" y="1773"/>
                    </a:lnTo>
                    <a:lnTo>
                      <a:pt x="1709" y="1793"/>
                    </a:lnTo>
                    <a:lnTo>
                      <a:pt x="1710" y="1808"/>
                    </a:lnTo>
                    <a:lnTo>
                      <a:pt x="1711" y="1824"/>
                    </a:lnTo>
                    <a:lnTo>
                      <a:pt x="1712" y="1839"/>
                    </a:lnTo>
                    <a:lnTo>
                      <a:pt x="1715" y="1855"/>
                    </a:lnTo>
                    <a:lnTo>
                      <a:pt x="1716" y="1871"/>
                    </a:lnTo>
                    <a:lnTo>
                      <a:pt x="1716" y="1886"/>
                    </a:lnTo>
                    <a:lnTo>
                      <a:pt x="1716" y="1902"/>
                    </a:lnTo>
                    <a:lnTo>
                      <a:pt x="1715" y="1916"/>
                    </a:lnTo>
                    <a:lnTo>
                      <a:pt x="1712" y="1928"/>
                    </a:lnTo>
                    <a:lnTo>
                      <a:pt x="1709" y="1939"/>
                    </a:lnTo>
                    <a:lnTo>
                      <a:pt x="1705" y="1951"/>
                    </a:lnTo>
                    <a:lnTo>
                      <a:pt x="1699" y="1962"/>
                    </a:lnTo>
                    <a:lnTo>
                      <a:pt x="1694" y="1973"/>
                    </a:lnTo>
                    <a:lnTo>
                      <a:pt x="1690" y="1983"/>
                    </a:lnTo>
                    <a:lnTo>
                      <a:pt x="1684" y="1994"/>
                    </a:lnTo>
                    <a:lnTo>
                      <a:pt x="1679" y="2005"/>
                    </a:lnTo>
                    <a:lnTo>
                      <a:pt x="1674" y="2018"/>
                    </a:lnTo>
                    <a:lnTo>
                      <a:pt x="1670" y="2031"/>
                    </a:lnTo>
                    <a:lnTo>
                      <a:pt x="1666" y="2046"/>
                    </a:lnTo>
                    <a:lnTo>
                      <a:pt x="1662" y="2059"/>
                    </a:lnTo>
                    <a:lnTo>
                      <a:pt x="1657" y="2073"/>
                    </a:lnTo>
                    <a:lnTo>
                      <a:pt x="1651" y="2085"/>
                    </a:lnTo>
                    <a:lnTo>
                      <a:pt x="1645" y="2098"/>
                    </a:lnTo>
                    <a:lnTo>
                      <a:pt x="1638" y="2110"/>
                    </a:lnTo>
                    <a:lnTo>
                      <a:pt x="1631" y="2120"/>
                    </a:lnTo>
                    <a:lnTo>
                      <a:pt x="1622" y="2130"/>
                    </a:lnTo>
                    <a:lnTo>
                      <a:pt x="1613" y="2138"/>
                    </a:lnTo>
                    <a:lnTo>
                      <a:pt x="1603" y="2146"/>
                    </a:lnTo>
                    <a:lnTo>
                      <a:pt x="1594" y="2155"/>
                    </a:lnTo>
                    <a:lnTo>
                      <a:pt x="1583" y="2162"/>
                    </a:lnTo>
                    <a:lnTo>
                      <a:pt x="1572" y="2168"/>
                    </a:lnTo>
                    <a:lnTo>
                      <a:pt x="1561" y="2175"/>
                    </a:lnTo>
                    <a:lnTo>
                      <a:pt x="1555" y="2180"/>
                    </a:lnTo>
                    <a:lnTo>
                      <a:pt x="1548" y="2184"/>
                    </a:lnTo>
                    <a:lnTo>
                      <a:pt x="1540" y="2188"/>
                    </a:lnTo>
                    <a:lnTo>
                      <a:pt x="1532" y="2192"/>
                    </a:lnTo>
                    <a:lnTo>
                      <a:pt x="1524" y="2196"/>
                    </a:lnTo>
                    <a:lnTo>
                      <a:pt x="1517" y="2197"/>
                    </a:lnTo>
                    <a:lnTo>
                      <a:pt x="1513" y="2197"/>
                    </a:lnTo>
                    <a:lnTo>
                      <a:pt x="1510" y="2196"/>
                    </a:lnTo>
                    <a:lnTo>
                      <a:pt x="1506" y="2194"/>
                    </a:lnTo>
                    <a:lnTo>
                      <a:pt x="1502" y="2193"/>
                    </a:lnTo>
                    <a:lnTo>
                      <a:pt x="1495" y="2186"/>
                    </a:lnTo>
                    <a:lnTo>
                      <a:pt x="1489" y="2179"/>
                    </a:lnTo>
                    <a:lnTo>
                      <a:pt x="1483" y="2169"/>
                    </a:lnTo>
                    <a:lnTo>
                      <a:pt x="1480" y="2160"/>
                    </a:lnTo>
                    <a:lnTo>
                      <a:pt x="1477" y="2149"/>
                    </a:lnTo>
                    <a:lnTo>
                      <a:pt x="1475" y="2138"/>
                    </a:lnTo>
                    <a:lnTo>
                      <a:pt x="1474" y="2127"/>
                    </a:lnTo>
                    <a:lnTo>
                      <a:pt x="1474" y="2116"/>
                    </a:lnTo>
                    <a:lnTo>
                      <a:pt x="1474" y="2101"/>
                    </a:lnTo>
                    <a:lnTo>
                      <a:pt x="1476" y="2087"/>
                    </a:lnTo>
                    <a:lnTo>
                      <a:pt x="1480" y="2072"/>
                    </a:lnTo>
                    <a:lnTo>
                      <a:pt x="1483" y="2057"/>
                    </a:lnTo>
                    <a:lnTo>
                      <a:pt x="1488" y="2042"/>
                    </a:lnTo>
                    <a:lnTo>
                      <a:pt x="1493" y="2028"/>
                    </a:lnTo>
                    <a:lnTo>
                      <a:pt x="1498" y="2013"/>
                    </a:lnTo>
                    <a:lnTo>
                      <a:pt x="1502" y="1999"/>
                    </a:lnTo>
                    <a:lnTo>
                      <a:pt x="1508" y="1987"/>
                    </a:lnTo>
                    <a:lnTo>
                      <a:pt x="1514" y="1975"/>
                    </a:lnTo>
                    <a:lnTo>
                      <a:pt x="1520" y="1964"/>
                    </a:lnTo>
                    <a:lnTo>
                      <a:pt x="1528" y="1952"/>
                    </a:lnTo>
                    <a:lnTo>
                      <a:pt x="1535" y="1941"/>
                    </a:lnTo>
                    <a:lnTo>
                      <a:pt x="1541" y="1929"/>
                    </a:lnTo>
                    <a:lnTo>
                      <a:pt x="1546" y="1917"/>
                    </a:lnTo>
                    <a:lnTo>
                      <a:pt x="1550" y="1905"/>
                    </a:lnTo>
                    <a:lnTo>
                      <a:pt x="1555" y="1884"/>
                    </a:lnTo>
                    <a:lnTo>
                      <a:pt x="1559" y="1863"/>
                    </a:lnTo>
                    <a:lnTo>
                      <a:pt x="1562" y="1842"/>
                    </a:lnTo>
                    <a:lnTo>
                      <a:pt x="1565" y="1820"/>
                    </a:lnTo>
                    <a:lnTo>
                      <a:pt x="1567" y="1799"/>
                    </a:lnTo>
                    <a:lnTo>
                      <a:pt x="1567" y="1777"/>
                    </a:lnTo>
                    <a:lnTo>
                      <a:pt x="1568" y="1755"/>
                    </a:lnTo>
                    <a:lnTo>
                      <a:pt x="1567" y="1734"/>
                    </a:lnTo>
                    <a:lnTo>
                      <a:pt x="1566" y="1721"/>
                    </a:lnTo>
                    <a:lnTo>
                      <a:pt x="1565" y="1707"/>
                    </a:lnTo>
                    <a:lnTo>
                      <a:pt x="1562" y="1693"/>
                    </a:lnTo>
                    <a:lnTo>
                      <a:pt x="1559" y="1680"/>
                    </a:lnTo>
                    <a:lnTo>
                      <a:pt x="1555" y="1667"/>
                    </a:lnTo>
                    <a:lnTo>
                      <a:pt x="1550" y="1653"/>
                    </a:lnTo>
                    <a:lnTo>
                      <a:pt x="1544" y="1640"/>
                    </a:lnTo>
                    <a:lnTo>
                      <a:pt x="1538" y="1628"/>
                    </a:lnTo>
                    <a:lnTo>
                      <a:pt x="1534" y="1621"/>
                    </a:lnTo>
                    <a:lnTo>
                      <a:pt x="1529" y="1614"/>
                    </a:lnTo>
                    <a:lnTo>
                      <a:pt x="1523" y="1608"/>
                    </a:lnTo>
                    <a:lnTo>
                      <a:pt x="1516" y="1602"/>
                    </a:lnTo>
                    <a:lnTo>
                      <a:pt x="1508" y="1596"/>
                    </a:lnTo>
                    <a:lnTo>
                      <a:pt x="1501" y="1592"/>
                    </a:lnTo>
                    <a:lnTo>
                      <a:pt x="1493" y="1589"/>
                    </a:lnTo>
                    <a:lnTo>
                      <a:pt x="1486" y="1587"/>
                    </a:lnTo>
                    <a:lnTo>
                      <a:pt x="1476" y="1587"/>
                    </a:lnTo>
                    <a:lnTo>
                      <a:pt x="1466" y="1589"/>
                    </a:lnTo>
                    <a:lnTo>
                      <a:pt x="1456" y="1591"/>
                    </a:lnTo>
                    <a:lnTo>
                      <a:pt x="1447" y="1595"/>
                    </a:lnTo>
                    <a:lnTo>
                      <a:pt x="1438" y="1598"/>
                    </a:lnTo>
                    <a:lnTo>
                      <a:pt x="1429" y="1604"/>
                    </a:lnTo>
                    <a:lnTo>
                      <a:pt x="1422" y="1610"/>
                    </a:lnTo>
                    <a:lnTo>
                      <a:pt x="1415" y="1616"/>
                    </a:lnTo>
                    <a:lnTo>
                      <a:pt x="1405" y="1628"/>
                    </a:lnTo>
                    <a:lnTo>
                      <a:pt x="1398" y="1640"/>
                    </a:lnTo>
                    <a:lnTo>
                      <a:pt x="1391" y="1653"/>
                    </a:lnTo>
                    <a:lnTo>
                      <a:pt x="1385" y="1668"/>
                    </a:lnTo>
                    <a:lnTo>
                      <a:pt x="1379" y="1681"/>
                    </a:lnTo>
                    <a:lnTo>
                      <a:pt x="1374" y="1695"/>
                    </a:lnTo>
                    <a:lnTo>
                      <a:pt x="1368" y="1709"/>
                    </a:lnTo>
                    <a:lnTo>
                      <a:pt x="1362" y="1723"/>
                    </a:lnTo>
                    <a:lnTo>
                      <a:pt x="1351" y="1745"/>
                    </a:lnTo>
                    <a:lnTo>
                      <a:pt x="1340" y="1766"/>
                    </a:lnTo>
                    <a:lnTo>
                      <a:pt x="1330" y="1788"/>
                    </a:lnTo>
                    <a:lnTo>
                      <a:pt x="1319" y="1809"/>
                    </a:lnTo>
                    <a:lnTo>
                      <a:pt x="1308" y="1830"/>
                    </a:lnTo>
                    <a:lnTo>
                      <a:pt x="1297" y="1851"/>
                    </a:lnTo>
                    <a:lnTo>
                      <a:pt x="1285" y="1873"/>
                    </a:lnTo>
                    <a:lnTo>
                      <a:pt x="1273" y="1893"/>
                    </a:lnTo>
                    <a:lnTo>
                      <a:pt x="1261" y="1911"/>
                    </a:lnTo>
                    <a:lnTo>
                      <a:pt x="1249" y="1931"/>
                    </a:lnTo>
                    <a:lnTo>
                      <a:pt x="1237" y="1949"/>
                    </a:lnTo>
                    <a:lnTo>
                      <a:pt x="1224" y="1967"/>
                    </a:lnTo>
                    <a:lnTo>
                      <a:pt x="1211" y="1985"/>
                    </a:lnTo>
                    <a:lnTo>
                      <a:pt x="1198" y="2003"/>
                    </a:lnTo>
                    <a:lnTo>
                      <a:pt x="1183" y="2018"/>
                    </a:lnTo>
                    <a:lnTo>
                      <a:pt x="1168" y="2034"/>
                    </a:lnTo>
                    <a:lnTo>
                      <a:pt x="1151" y="2049"/>
                    </a:lnTo>
                    <a:lnTo>
                      <a:pt x="1134" y="2064"/>
                    </a:lnTo>
                    <a:lnTo>
                      <a:pt x="1116" y="2077"/>
                    </a:lnTo>
                    <a:lnTo>
                      <a:pt x="1098" y="2090"/>
                    </a:lnTo>
                    <a:lnTo>
                      <a:pt x="1079" y="2102"/>
                    </a:lnTo>
                    <a:lnTo>
                      <a:pt x="1060" y="2113"/>
                    </a:lnTo>
                    <a:lnTo>
                      <a:pt x="1040" y="2124"/>
                    </a:lnTo>
                    <a:lnTo>
                      <a:pt x="1020" y="2134"/>
                    </a:lnTo>
                    <a:lnTo>
                      <a:pt x="1004" y="2140"/>
                    </a:lnTo>
                    <a:lnTo>
                      <a:pt x="989" y="2148"/>
                    </a:lnTo>
                    <a:lnTo>
                      <a:pt x="973" y="2152"/>
                    </a:lnTo>
                    <a:lnTo>
                      <a:pt x="956" y="2157"/>
                    </a:lnTo>
                    <a:lnTo>
                      <a:pt x="941" y="2161"/>
                    </a:lnTo>
                    <a:lnTo>
                      <a:pt x="924" y="2164"/>
                    </a:lnTo>
                    <a:lnTo>
                      <a:pt x="907" y="2167"/>
                    </a:lnTo>
                    <a:lnTo>
                      <a:pt x="890" y="2169"/>
                    </a:lnTo>
                    <a:lnTo>
                      <a:pt x="884" y="2170"/>
                    </a:lnTo>
                    <a:lnTo>
                      <a:pt x="878" y="2170"/>
                    </a:lnTo>
                    <a:lnTo>
                      <a:pt x="871" y="2170"/>
                    </a:lnTo>
                    <a:lnTo>
                      <a:pt x="864" y="2169"/>
                    </a:lnTo>
                    <a:lnTo>
                      <a:pt x="858" y="2168"/>
                    </a:lnTo>
                    <a:lnTo>
                      <a:pt x="853" y="2166"/>
                    </a:lnTo>
                    <a:lnTo>
                      <a:pt x="847" y="2162"/>
                    </a:lnTo>
                    <a:lnTo>
                      <a:pt x="844" y="2157"/>
                    </a:lnTo>
                    <a:lnTo>
                      <a:pt x="841" y="2152"/>
                    </a:lnTo>
                    <a:lnTo>
                      <a:pt x="839" y="2146"/>
                    </a:lnTo>
                    <a:lnTo>
                      <a:pt x="839" y="2140"/>
                    </a:lnTo>
                    <a:lnTo>
                      <a:pt x="839" y="2133"/>
                    </a:lnTo>
                    <a:lnTo>
                      <a:pt x="841" y="2127"/>
                    </a:lnTo>
                    <a:lnTo>
                      <a:pt x="844" y="2121"/>
                    </a:lnTo>
                    <a:lnTo>
                      <a:pt x="846" y="2115"/>
                    </a:lnTo>
                    <a:lnTo>
                      <a:pt x="850" y="2110"/>
                    </a:lnTo>
                    <a:lnTo>
                      <a:pt x="862" y="2097"/>
                    </a:lnTo>
                    <a:lnTo>
                      <a:pt x="875" y="2085"/>
                    </a:lnTo>
                    <a:lnTo>
                      <a:pt x="889" y="2073"/>
                    </a:lnTo>
                    <a:lnTo>
                      <a:pt x="904" y="2061"/>
                    </a:lnTo>
                    <a:lnTo>
                      <a:pt x="918" y="2051"/>
                    </a:lnTo>
                    <a:lnTo>
                      <a:pt x="932" y="2040"/>
                    </a:lnTo>
                    <a:lnTo>
                      <a:pt x="947" y="2029"/>
                    </a:lnTo>
                    <a:lnTo>
                      <a:pt x="961" y="2017"/>
                    </a:lnTo>
                    <a:lnTo>
                      <a:pt x="978" y="2003"/>
                    </a:lnTo>
                    <a:lnTo>
                      <a:pt x="994" y="1988"/>
                    </a:lnTo>
                    <a:lnTo>
                      <a:pt x="1010" y="1975"/>
                    </a:lnTo>
                    <a:lnTo>
                      <a:pt x="1027" y="1961"/>
                    </a:lnTo>
                    <a:lnTo>
                      <a:pt x="1043" y="1946"/>
                    </a:lnTo>
                    <a:lnTo>
                      <a:pt x="1057" y="1932"/>
                    </a:lnTo>
                    <a:lnTo>
                      <a:pt x="1072" y="1916"/>
                    </a:lnTo>
                    <a:lnTo>
                      <a:pt x="1085" y="1899"/>
                    </a:lnTo>
                    <a:lnTo>
                      <a:pt x="1097" y="1881"/>
                    </a:lnTo>
                    <a:lnTo>
                      <a:pt x="1109" y="1862"/>
                    </a:lnTo>
                    <a:lnTo>
                      <a:pt x="1120" y="1843"/>
                    </a:lnTo>
                    <a:lnTo>
                      <a:pt x="1129" y="1824"/>
                    </a:lnTo>
                    <a:lnTo>
                      <a:pt x="1138" y="1803"/>
                    </a:lnTo>
                    <a:lnTo>
                      <a:pt x="1145" y="1783"/>
                    </a:lnTo>
                    <a:lnTo>
                      <a:pt x="1151" y="1761"/>
                    </a:lnTo>
                    <a:lnTo>
                      <a:pt x="1156" y="1740"/>
                    </a:lnTo>
                    <a:lnTo>
                      <a:pt x="1157" y="1730"/>
                    </a:lnTo>
                    <a:lnTo>
                      <a:pt x="1156" y="1721"/>
                    </a:lnTo>
                    <a:lnTo>
                      <a:pt x="1153" y="1711"/>
                    </a:lnTo>
                    <a:lnTo>
                      <a:pt x="1151" y="1701"/>
                    </a:lnTo>
                    <a:lnTo>
                      <a:pt x="1146" y="1692"/>
                    </a:lnTo>
                    <a:lnTo>
                      <a:pt x="1140" y="1683"/>
                    </a:lnTo>
                    <a:lnTo>
                      <a:pt x="1134" y="1676"/>
                    </a:lnTo>
                    <a:lnTo>
                      <a:pt x="1126" y="1670"/>
                    </a:lnTo>
                    <a:lnTo>
                      <a:pt x="1120" y="1667"/>
                    </a:lnTo>
                    <a:lnTo>
                      <a:pt x="1114" y="1665"/>
                    </a:lnTo>
                    <a:lnTo>
                      <a:pt x="1106" y="1665"/>
                    </a:lnTo>
                    <a:lnTo>
                      <a:pt x="1099" y="1668"/>
                    </a:lnTo>
                    <a:lnTo>
                      <a:pt x="1092" y="1670"/>
                    </a:lnTo>
                    <a:lnTo>
                      <a:pt x="1086" y="1674"/>
                    </a:lnTo>
                    <a:lnTo>
                      <a:pt x="1079" y="1677"/>
                    </a:lnTo>
                    <a:lnTo>
                      <a:pt x="1073" y="1681"/>
                    </a:lnTo>
                    <a:lnTo>
                      <a:pt x="1068" y="1687"/>
                    </a:lnTo>
                    <a:lnTo>
                      <a:pt x="1063" y="1693"/>
                    </a:lnTo>
                    <a:lnTo>
                      <a:pt x="1060" y="1700"/>
                    </a:lnTo>
                    <a:lnTo>
                      <a:pt x="1056" y="1709"/>
                    </a:lnTo>
                    <a:lnTo>
                      <a:pt x="1052" y="1716"/>
                    </a:lnTo>
                    <a:lnTo>
                      <a:pt x="1049" y="1723"/>
                    </a:lnTo>
                    <a:lnTo>
                      <a:pt x="1044" y="1729"/>
                    </a:lnTo>
                    <a:lnTo>
                      <a:pt x="1038" y="1734"/>
                    </a:lnTo>
                    <a:lnTo>
                      <a:pt x="1026" y="1742"/>
                    </a:lnTo>
                    <a:lnTo>
                      <a:pt x="1015" y="1749"/>
                    </a:lnTo>
                    <a:lnTo>
                      <a:pt x="1003" y="1755"/>
                    </a:lnTo>
                    <a:lnTo>
                      <a:pt x="990" y="1761"/>
                    </a:lnTo>
                    <a:lnTo>
                      <a:pt x="978" y="1767"/>
                    </a:lnTo>
                    <a:lnTo>
                      <a:pt x="965" y="1771"/>
                    </a:lnTo>
                    <a:lnTo>
                      <a:pt x="952" y="1773"/>
                    </a:lnTo>
                    <a:lnTo>
                      <a:pt x="937" y="1776"/>
                    </a:lnTo>
                    <a:lnTo>
                      <a:pt x="928" y="1776"/>
                    </a:lnTo>
                    <a:lnTo>
                      <a:pt x="917" y="1775"/>
                    </a:lnTo>
                    <a:lnTo>
                      <a:pt x="907" y="1773"/>
                    </a:lnTo>
                    <a:lnTo>
                      <a:pt x="896" y="1770"/>
                    </a:lnTo>
                    <a:lnTo>
                      <a:pt x="887" y="1766"/>
                    </a:lnTo>
                    <a:lnTo>
                      <a:pt x="878" y="1761"/>
                    </a:lnTo>
                    <a:lnTo>
                      <a:pt x="875" y="1758"/>
                    </a:lnTo>
                    <a:lnTo>
                      <a:pt x="871" y="1754"/>
                    </a:lnTo>
                    <a:lnTo>
                      <a:pt x="869" y="1751"/>
                    </a:lnTo>
                    <a:lnTo>
                      <a:pt x="868" y="1746"/>
                    </a:lnTo>
                    <a:lnTo>
                      <a:pt x="865" y="1739"/>
                    </a:lnTo>
                    <a:lnTo>
                      <a:pt x="863" y="1731"/>
                    </a:lnTo>
                    <a:lnTo>
                      <a:pt x="863" y="1724"/>
                    </a:lnTo>
                    <a:lnTo>
                      <a:pt x="863" y="1716"/>
                    </a:lnTo>
                    <a:lnTo>
                      <a:pt x="864" y="1701"/>
                    </a:lnTo>
                    <a:lnTo>
                      <a:pt x="866" y="1686"/>
                    </a:lnTo>
                    <a:lnTo>
                      <a:pt x="870" y="1670"/>
                    </a:lnTo>
                    <a:lnTo>
                      <a:pt x="874" y="1653"/>
                    </a:lnTo>
                    <a:lnTo>
                      <a:pt x="877" y="1638"/>
                    </a:lnTo>
                    <a:lnTo>
                      <a:pt x="878" y="1622"/>
                    </a:lnTo>
                    <a:lnTo>
                      <a:pt x="881" y="1611"/>
                    </a:lnTo>
                    <a:lnTo>
                      <a:pt x="882" y="1601"/>
                    </a:lnTo>
                    <a:lnTo>
                      <a:pt x="884" y="1589"/>
                    </a:lnTo>
                    <a:lnTo>
                      <a:pt x="887" y="1578"/>
                    </a:lnTo>
                    <a:lnTo>
                      <a:pt x="889" y="1566"/>
                    </a:lnTo>
                    <a:lnTo>
                      <a:pt x="889" y="1555"/>
                    </a:lnTo>
                    <a:lnTo>
                      <a:pt x="888" y="1544"/>
                    </a:lnTo>
                    <a:lnTo>
                      <a:pt x="884" y="1535"/>
                    </a:lnTo>
                    <a:lnTo>
                      <a:pt x="881" y="1529"/>
                    </a:lnTo>
                    <a:lnTo>
                      <a:pt x="876" y="1525"/>
                    </a:lnTo>
                    <a:lnTo>
                      <a:pt x="870" y="1521"/>
                    </a:lnTo>
                    <a:lnTo>
                      <a:pt x="863" y="1519"/>
                    </a:lnTo>
                    <a:lnTo>
                      <a:pt x="854" y="1518"/>
                    </a:lnTo>
                    <a:lnTo>
                      <a:pt x="847" y="1517"/>
                    </a:lnTo>
                    <a:lnTo>
                      <a:pt x="839" y="1517"/>
                    </a:lnTo>
                    <a:lnTo>
                      <a:pt x="832" y="1517"/>
                    </a:lnTo>
                    <a:lnTo>
                      <a:pt x="816" y="1518"/>
                    </a:lnTo>
                    <a:lnTo>
                      <a:pt x="799" y="1520"/>
                    </a:lnTo>
                    <a:lnTo>
                      <a:pt x="784" y="1523"/>
                    </a:lnTo>
                    <a:lnTo>
                      <a:pt x="767" y="1526"/>
                    </a:lnTo>
                    <a:lnTo>
                      <a:pt x="751" y="1530"/>
                    </a:lnTo>
                    <a:lnTo>
                      <a:pt x="734" y="1533"/>
                    </a:lnTo>
                    <a:lnTo>
                      <a:pt x="719" y="1535"/>
                    </a:lnTo>
                    <a:lnTo>
                      <a:pt x="702" y="1535"/>
                    </a:lnTo>
                    <a:lnTo>
                      <a:pt x="689" y="1533"/>
                    </a:lnTo>
                    <a:lnTo>
                      <a:pt x="674" y="1531"/>
                    </a:lnTo>
                    <a:lnTo>
                      <a:pt x="661" y="1527"/>
                    </a:lnTo>
                    <a:lnTo>
                      <a:pt x="647" y="1524"/>
                    </a:lnTo>
                    <a:lnTo>
                      <a:pt x="634" y="1519"/>
                    </a:lnTo>
                    <a:lnTo>
                      <a:pt x="620" y="1513"/>
                    </a:lnTo>
                    <a:lnTo>
                      <a:pt x="608" y="1507"/>
                    </a:lnTo>
                    <a:lnTo>
                      <a:pt x="596" y="1499"/>
                    </a:lnTo>
                    <a:lnTo>
                      <a:pt x="588" y="1493"/>
                    </a:lnTo>
                    <a:lnTo>
                      <a:pt x="581" y="1484"/>
                    </a:lnTo>
                    <a:lnTo>
                      <a:pt x="575" y="1475"/>
                    </a:lnTo>
                    <a:lnTo>
                      <a:pt x="569" y="1465"/>
                    </a:lnTo>
                    <a:lnTo>
                      <a:pt x="564" y="1455"/>
                    </a:lnTo>
                    <a:lnTo>
                      <a:pt x="558" y="1446"/>
                    </a:lnTo>
                    <a:lnTo>
                      <a:pt x="551" y="1436"/>
                    </a:lnTo>
                    <a:lnTo>
                      <a:pt x="544" y="1429"/>
                    </a:lnTo>
                    <a:lnTo>
                      <a:pt x="538" y="1424"/>
                    </a:lnTo>
                    <a:lnTo>
                      <a:pt x="530" y="1419"/>
                    </a:lnTo>
                    <a:lnTo>
                      <a:pt x="523" y="1416"/>
                    </a:lnTo>
                    <a:lnTo>
                      <a:pt x="516" y="1412"/>
                    </a:lnTo>
                    <a:lnTo>
                      <a:pt x="508" y="1410"/>
                    </a:lnTo>
                    <a:lnTo>
                      <a:pt x="500" y="1407"/>
                    </a:lnTo>
                    <a:lnTo>
                      <a:pt x="492" y="1406"/>
                    </a:lnTo>
                    <a:lnTo>
                      <a:pt x="485" y="1405"/>
                    </a:lnTo>
                    <a:lnTo>
                      <a:pt x="466" y="1404"/>
                    </a:lnTo>
                    <a:lnTo>
                      <a:pt x="446" y="1404"/>
                    </a:lnTo>
                    <a:lnTo>
                      <a:pt x="427" y="1405"/>
                    </a:lnTo>
                    <a:lnTo>
                      <a:pt x="408" y="1406"/>
                    </a:lnTo>
                    <a:lnTo>
                      <a:pt x="389" y="1407"/>
                    </a:lnTo>
                    <a:lnTo>
                      <a:pt x="370" y="1409"/>
                    </a:lnTo>
                    <a:lnTo>
                      <a:pt x="350" y="1410"/>
                    </a:lnTo>
                    <a:lnTo>
                      <a:pt x="331" y="1411"/>
                    </a:lnTo>
                    <a:lnTo>
                      <a:pt x="310" y="1412"/>
                    </a:lnTo>
                    <a:lnTo>
                      <a:pt x="289" y="1413"/>
                    </a:lnTo>
                    <a:lnTo>
                      <a:pt x="268" y="1416"/>
                    </a:lnTo>
                    <a:lnTo>
                      <a:pt x="246" y="1418"/>
                    </a:lnTo>
                    <a:lnTo>
                      <a:pt x="224" y="1419"/>
                    </a:lnTo>
                    <a:lnTo>
                      <a:pt x="203" y="1419"/>
                    </a:lnTo>
                    <a:lnTo>
                      <a:pt x="182" y="1419"/>
                    </a:lnTo>
                    <a:lnTo>
                      <a:pt x="161" y="1417"/>
                    </a:lnTo>
                    <a:lnTo>
                      <a:pt x="150" y="1415"/>
                    </a:lnTo>
                    <a:lnTo>
                      <a:pt x="140" y="1411"/>
                    </a:lnTo>
                    <a:lnTo>
                      <a:pt x="130" y="1406"/>
                    </a:lnTo>
                    <a:lnTo>
                      <a:pt x="120" y="1401"/>
                    </a:lnTo>
                    <a:lnTo>
                      <a:pt x="112" y="1395"/>
                    </a:lnTo>
                    <a:lnTo>
                      <a:pt x="102" y="1388"/>
                    </a:lnTo>
                    <a:lnTo>
                      <a:pt x="94" y="1382"/>
                    </a:lnTo>
                    <a:lnTo>
                      <a:pt x="84" y="1375"/>
                    </a:lnTo>
                    <a:lnTo>
                      <a:pt x="76" y="1369"/>
                    </a:lnTo>
                    <a:lnTo>
                      <a:pt x="67" y="1363"/>
                    </a:lnTo>
                    <a:lnTo>
                      <a:pt x="59" y="1357"/>
                    </a:lnTo>
                    <a:lnTo>
                      <a:pt x="50" y="1350"/>
                    </a:lnTo>
                    <a:lnTo>
                      <a:pt x="43" y="1343"/>
                    </a:lnTo>
                    <a:lnTo>
                      <a:pt x="36" y="1334"/>
                    </a:lnTo>
                    <a:lnTo>
                      <a:pt x="30" y="1326"/>
                    </a:lnTo>
                    <a:lnTo>
                      <a:pt x="25" y="1316"/>
                    </a:lnTo>
                    <a:lnTo>
                      <a:pt x="23" y="1310"/>
                    </a:lnTo>
                    <a:lnTo>
                      <a:pt x="22" y="1303"/>
                    </a:lnTo>
                    <a:lnTo>
                      <a:pt x="22" y="1295"/>
                    </a:lnTo>
                    <a:lnTo>
                      <a:pt x="23" y="1288"/>
                    </a:lnTo>
                    <a:lnTo>
                      <a:pt x="25" y="1280"/>
                    </a:lnTo>
                    <a:lnTo>
                      <a:pt x="28" y="1273"/>
                    </a:lnTo>
                    <a:lnTo>
                      <a:pt x="32" y="1268"/>
                    </a:lnTo>
                    <a:lnTo>
                      <a:pt x="37" y="1264"/>
                    </a:lnTo>
                    <a:lnTo>
                      <a:pt x="50" y="1258"/>
                    </a:lnTo>
                    <a:lnTo>
                      <a:pt x="65" y="1254"/>
                    </a:lnTo>
                    <a:lnTo>
                      <a:pt x="79" y="1250"/>
                    </a:lnTo>
                    <a:lnTo>
                      <a:pt x="95" y="1249"/>
                    </a:lnTo>
                    <a:lnTo>
                      <a:pt x="109" y="1248"/>
                    </a:lnTo>
                    <a:lnTo>
                      <a:pt x="125" y="1247"/>
                    </a:lnTo>
                    <a:lnTo>
                      <a:pt x="140" y="1247"/>
                    </a:lnTo>
                    <a:lnTo>
                      <a:pt x="155" y="1247"/>
                    </a:lnTo>
                    <a:lnTo>
                      <a:pt x="180" y="1246"/>
                    </a:lnTo>
                    <a:lnTo>
                      <a:pt x="205" y="1247"/>
                    </a:lnTo>
                    <a:lnTo>
                      <a:pt x="230" y="1248"/>
                    </a:lnTo>
                    <a:lnTo>
                      <a:pt x="256" y="1250"/>
                    </a:lnTo>
                    <a:lnTo>
                      <a:pt x="280" y="1252"/>
                    </a:lnTo>
                    <a:lnTo>
                      <a:pt x="305" y="1253"/>
                    </a:lnTo>
                    <a:lnTo>
                      <a:pt x="330" y="1253"/>
                    </a:lnTo>
                    <a:lnTo>
                      <a:pt x="355" y="1253"/>
                    </a:lnTo>
                    <a:lnTo>
                      <a:pt x="370" y="1250"/>
                    </a:lnTo>
                    <a:lnTo>
                      <a:pt x="385" y="1248"/>
                    </a:lnTo>
                    <a:lnTo>
                      <a:pt x="400" y="1244"/>
                    </a:lnTo>
                    <a:lnTo>
                      <a:pt x="414" y="1240"/>
                    </a:lnTo>
                    <a:lnTo>
                      <a:pt x="428" y="1236"/>
                    </a:lnTo>
                    <a:lnTo>
                      <a:pt x="444" y="1231"/>
                    </a:lnTo>
                    <a:lnTo>
                      <a:pt x="458" y="1226"/>
                    </a:lnTo>
                    <a:lnTo>
                      <a:pt x="473" y="1223"/>
                    </a:lnTo>
                    <a:lnTo>
                      <a:pt x="482" y="1220"/>
                    </a:lnTo>
                    <a:lnTo>
                      <a:pt x="492" y="1217"/>
                    </a:lnTo>
                    <a:lnTo>
                      <a:pt x="502" y="1213"/>
                    </a:lnTo>
                    <a:lnTo>
                      <a:pt x="511" y="1210"/>
                    </a:lnTo>
                    <a:lnTo>
                      <a:pt x="521" y="1207"/>
                    </a:lnTo>
                    <a:lnTo>
                      <a:pt x="530" y="1205"/>
                    </a:lnTo>
                    <a:lnTo>
                      <a:pt x="540" y="1205"/>
                    </a:lnTo>
                    <a:lnTo>
                      <a:pt x="550" y="1205"/>
                    </a:lnTo>
                    <a:lnTo>
                      <a:pt x="568" y="1210"/>
                    </a:lnTo>
                    <a:lnTo>
                      <a:pt x="586" y="1216"/>
                    </a:lnTo>
                    <a:lnTo>
                      <a:pt x="604" y="1222"/>
                    </a:lnTo>
                    <a:lnTo>
                      <a:pt x="622" y="1230"/>
                    </a:lnTo>
                    <a:lnTo>
                      <a:pt x="638" y="1238"/>
                    </a:lnTo>
                    <a:lnTo>
                      <a:pt x="656" y="1247"/>
                    </a:lnTo>
                    <a:lnTo>
                      <a:pt x="673" y="1255"/>
                    </a:lnTo>
                    <a:lnTo>
                      <a:pt x="690" y="1264"/>
                    </a:lnTo>
                    <a:lnTo>
                      <a:pt x="704" y="1272"/>
                    </a:lnTo>
                    <a:lnTo>
                      <a:pt x="719" y="1280"/>
                    </a:lnTo>
                    <a:lnTo>
                      <a:pt x="732" y="1289"/>
                    </a:lnTo>
                    <a:lnTo>
                      <a:pt x="745" y="1298"/>
                    </a:lnTo>
                    <a:lnTo>
                      <a:pt x="760" y="1307"/>
                    </a:lnTo>
                    <a:lnTo>
                      <a:pt x="773" y="1315"/>
                    </a:lnTo>
                    <a:lnTo>
                      <a:pt x="787" y="1322"/>
                    </a:lnTo>
                    <a:lnTo>
                      <a:pt x="803" y="1328"/>
                    </a:lnTo>
                    <a:lnTo>
                      <a:pt x="815" y="1333"/>
                    </a:lnTo>
                    <a:lnTo>
                      <a:pt x="827" y="1338"/>
                    </a:lnTo>
                    <a:lnTo>
                      <a:pt x="840" y="1342"/>
                    </a:lnTo>
                    <a:lnTo>
                      <a:pt x="853" y="1344"/>
                    </a:lnTo>
                    <a:lnTo>
                      <a:pt x="866" y="1346"/>
                    </a:lnTo>
                    <a:lnTo>
                      <a:pt x="878" y="1346"/>
                    </a:lnTo>
                    <a:lnTo>
                      <a:pt x="884" y="1346"/>
                    </a:lnTo>
                    <a:lnTo>
                      <a:pt x="890" y="1345"/>
                    </a:lnTo>
                    <a:lnTo>
                      <a:pt x="896" y="1343"/>
                    </a:lnTo>
                    <a:lnTo>
                      <a:pt x="902" y="1340"/>
                    </a:lnTo>
                    <a:lnTo>
                      <a:pt x="907" y="1338"/>
                    </a:lnTo>
                    <a:lnTo>
                      <a:pt x="911" y="1334"/>
                    </a:lnTo>
                    <a:lnTo>
                      <a:pt x="914" y="1331"/>
                    </a:lnTo>
                    <a:lnTo>
                      <a:pt x="918" y="1327"/>
                    </a:lnTo>
                    <a:lnTo>
                      <a:pt x="923" y="1318"/>
                    </a:lnTo>
                    <a:lnTo>
                      <a:pt x="926" y="1308"/>
                    </a:lnTo>
                    <a:lnTo>
                      <a:pt x="930" y="1297"/>
                    </a:lnTo>
                    <a:lnTo>
                      <a:pt x="931" y="1286"/>
                    </a:lnTo>
                    <a:lnTo>
                      <a:pt x="932" y="1274"/>
                    </a:lnTo>
                    <a:lnTo>
                      <a:pt x="932" y="1264"/>
                    </a:lnTo>
                    <a:lnTo>
                      <a:pt x="931" y="1253"/>
                    </a:lnTo>
                    <a:lnTo>
                      <a:pt x="929" y="1242"/>
                    </a:lnTo>
                    <a:lnTo>
                      <a:pt x="925" y="1231"/>
                    </a:lnTo>
                    <a:lnTo>
                      <a:pt x="920" y="1220"/>
                    </a:lnTo>
                    <a:lnTo>
                      <a:pt x="914" y="1211"/>
                    </a:lnTo>
                    <a:lnTo>
                      <a:pt x="910" y="1201"/>
                    </a:lnTo>
                    <a:lnTo>
                      <a:pt x="902" y="1192"/>
                    </a:lnTo>
                    <a:lnTo>
                      <a:pt x="896" y="1182"/>
                    </a:lnTo>
                    <a:lnTo>
                      <a:pt x="884" y="1165"/>
                    </a:lnTo>
                    <a:lnTo>
                      <a:pt x="872" y="1148"/>
                    </a:lnTo>
                    <a:lnTo>
                      <a:pt x="860" y="1133"/>
                    </a:lnTo>
                    <a:lnTo>
                      <a:pt x="847" y="1116"/>
                    </a:lnTo>
                    <a:lnTo>
                      <a:pt x="834" y="1102"/>
                    </a:lnTo>
                    <a:lnTo>
                      <a:pt x="820" y="1086"/>
                    </a:lnTo>
                    <a:lnTo>
                      <a:pt x="805" y="1072"/>
                    </a:lnTo>
                    <a:lnTo>
                      <a:pt x="791" y="1058"/>
                    </a:lnTo>
                    <a:lnTo>
                      <a:pt x="773" y="1043"/>
                    </a:lnTo>
                    <a:lnTo>
                      <a:pt x="754" y="1028"/>
                    </a:lnTo>
                    <a:lnTo>
                      <a:pt x="734" y="1014"/>
                    </a:lnTo>
                    <a:lnTo>
                      <a:pt x="714" y="1001"/>
                    </a:lnTo>
                    <a:lnTo>
                      <a:pt x="695" y="988"/>
                    </a:lnTo>
                    <a:lnTo>
                      <a:pt x="673" y="976"/>
                    </a:lnTo>
                    <a:lnTo>
                      <a:pt x="653" y="964"/>
                    </a:lnTo>
                    <a:lnTo>
                      <a:pt x="631" y="953"/>
                    </a:lnTo>
                    <a:lnTo>
                      <a:pt x="617" y="946"/>
                    </a:lnTo>
                    <a:lnTo>
                      <a:pt x="601" y="938"/>
                    </a:lnTo>
                    <a:lnTo>
                      <a:pt x="584" y="934"/>
                    </a:lnTo>
                    <a:lnTo>
                      <a:pt x="569" y="928"/>
                    </a:lnTo>
                    <a:lnTo>
                      <a:pt x="552" y="924"/>
                    </a:lnTo>
                    <a:lnTo>
                      <a:pt x="535" y="919"/>
                    </a:lnTo>
                    <a:lnTo>
                      <a:pt x="518" y="916"/>
                    </a:lnTo>
                    <a:lnTo>
                      <a:pt x="503" y="911"/>
                    </a:lnTo>
                    <a:lnTo>
                      <a:pt x="487" y="908"/>
                    </a:lnTo>
                    <a:lnTo>
                      <a:pt x="473" y="905"/>
                    </a:lnTo>
                    <a:lnTo>
                      <a:pt x="458" y="901"/>
                    </a:lnTo>
                    <a:lnTo>
                      <a:pt x="444" y="899"/>
                    </a:lnTo>
                    <a:lnTo>
                      <a:pt x="428" y="896"/>
                    </a:lnTo>
                    <a:lnTo>
                      <a:pt x="414" y="895"/>
                    </a:lnTo>
                    <a:lnTo>
                      <a:pt x="400" y="894"/>
                    </a:lnTo>
                    <a:lnTo>
                      <a:pt x="384" y="894"/>
                    </a:lnTo>
                    <a:lnTo>
                      <a:pt x="374" y="894"/>
                    </a:lnTo>
                    <a:lnTo>
                      <a:pt x="365" y="895"/>
                    </a:lnTo>
                    <a:lnTo>
                      <a:pt x="355" y="896"/>
                    </a:lnTo>
                    <a:lnTo>
                      <a:pt x="346" y="898"/>
                    </a:lnTo>
                    <a:lnTo>
                      <a:pt x="336" y="900"/>
                    </a:lnTo>
                    <a:lnTo>
                      <a:pt x="326" y="904"/>
                    </a:lnTo>
                    <a:lnTo>
                      <a:pt x="317" y="907"/>
                    </a:lnTo>
                    <a:lnTo>
                      <a:pt x="308" y="911"/>
                    </a:lnTo>
                    <a:lnTo>
                      <a:pt x="299" y="917"/>
                    </a:lnTo>
                    <a:lnTo>
                      <a:pt x="290" y="923"/>
                    </a:lnTo>
                    <a:lnTo>
                      <a:pt x="283" y="930"/>
                    </a:lnTo>
                    <a:lnTo>
                      <a:pt x="276" y="937"/>
                    </a:lnTo>
                    <a:lnTo>
                      <a:pt x="268" y="944"/>
                    </a:lnTo>
                    <a:lnTo>
                      <a:pt x="260" y="952"/>
                    </a:lnTo>
                    <a:lnTo>
                      <a:pt x="252" y="959"/>
                    </a:lnTo>
                    <a:lnTo>
                      <a:pt x="244" y="964"/>
                    </a:lnTo>
                    <a:lnTo>
                      <a:pt x="229" y="972"/>
                    </a:lnTo>
                    <a:lnTo>
                      <a:pt x="215" y="979"/>
                    </a:lnTo>
                    <a:lnTo>
                      <a:pt x="200" y="985"/>
                    </a:lnTo>
                    <a:lnTo>
                      <a:pt x="186" y="992"/>
                    </a:lnTo>
                    <a:lnTo>
                      <a:pt x="172" y="997"/>
                    </a:lnTo>
                    <a:lnTo>
                      <a:pt x="156" y="1003"/>
                    </a:lnTo>
                    <a:lnTo>
                      <a:pt x="140" y="1007"/>
                    </a:lnTo>
                    <a:lnTo>
                      <a:pt x="126" y="1012"/>
                    </a:lnTo>
                    <a:lnTo>
                      <a:pt x="120" y="1012"/>
                    </a:lnTo>
                    <a:lnTo>
                      <a:pt x="114" y="1013"/>
                    </a:lnTo>
                    <a:lnTo>
                      <a:pt x="108" y="1012"/>
                    </a:lnTo>
                    <a:lnTo>
                      <a:pt x="102" y="1012"/>
                    </a:lnTo>
                    <a:lnTo>
                      <a:pt x="97" y="1009"/>
                    </a:lnTo>
                    <a:lnTo>
                      <a:pt x="91" y="1007"/>
                    </a:lnTo>
                    <a:lnTo>
                      <a:pt x="88" y="1003"/>
                    </a:lnTo>
                    <a:lnTo>
                      <a:pt x="84" y="1000"/>
                    </a:lnTo>
                    <a:lnTo>
                      <a:pt x="80" y="992"/>
                    </a:lnTo>
                    <a:lnTo>
                      <a:pt x="78" y="984"/>
                    </a:lnTo>
                    <a:lnTo>
                      <a:pt x="77" y="976"/>
                    </a:lnTo>
                    <a:lnTo>
                      <a:pt x="76" y="967"/>
                    </a:lnTo>
                    <a:lnTo>
                      <a:pt x="77" y="958"/>
                    </a:lnTo>
                    <a:lnTo>
                      <a:pt x="78" y="949"/>
                    </a:lnTo>
                    <a:lnTo>
                      <a:pt x="80" y="942"/>
                    </a:lnTo>
                    <a:lnTo>
                      <a:pt x="84" y="935"/>
                    </a:lnTo>
                    <a:lnTo>
                      <a:pt x="96" y="918"/>
                    </a:lnTo>
                    <a:lnTo>
                      <a:pt x="109" y="902"/>
                    </a:lnTo>
                    <a:lnTo>
                      <a:pt x="124" y="888"/>
                    </a:lnTo>
                    <a:lnTo>
                      <a:pt x="138" y="874"/>
                    </a:lnTo>
                    <a:lnTo>
                      <a:pt x="154" y="860"/>
                    </a:lnTo>
                    <a:lnTo>
                      <a:pt x="169" y="847"/>
                    </a:lnTo>
                    <a:lnTo>
                      <a:pt x="186" y="835"/>
                    </a:lnTo>
                    <a:lnTo>
                      <a:pt x="202" y="823"/>
                    </a:lnTo>
                    <a:lnTo>
                      <a:pt x="214" y="816"/>
                    </a:lnTo>
                    <a:lnTo>
                      <a:pt x="226" y="809"/>
                    </a:lnTo>
                    <a:lnTo>
                      <a:pt x="238" y="803"/>
                    </a:lnTo>
                    <a:lnTo>
                      <a:pt x="250" y="797"/>
                    </a:lnTo>
                    <a:lnTo>
                      <a:pt x="263" y="792"/>
                    </a:lnTo>
                    <a:lnTo>
                      <a:pt x="276" y="788"/>
                    </a:lnTo>
                    <a:lnTo>
                      <a:pt x="289" y="785"/>
                    </a:lnTo>
                    <a:lnTo>
                      <a:pt x="302" y="782"/>
                    </a:lnTo>
                    <a:lnTo>
                      <a:pt x="319" y="779"/>
                    </a:lnTo>
                    <a:lnTo>
                      <a:pt x="337" y="778"/>
                    </a:lnTo>
                    <a:lnTo>
                      <a:pt x="355" y="776"/>
                    </a:lnTo>
                    <a:lnTo>
                      <a:pt x="372" y="775"/>
                    </a:lnTo>
                    <a:lnTo>
                      <a:pt x="390" y="775"/>
                    </a:lnTo>
                    <a:lnTo>
                      <a:pt x="408" y="775"/>
                    </a:lnTo>
                    <a:lnTo>
                      <a:pt x="426" y="776"/>
                    </a:lnTo>
                    <a:lnTo>
                      <a:pt x="443" y="776"/>
                    </a:lnTo>
                    <a:lnTo>
                      <a:pt x="468" y="776"/>
                    </a:lnTo>
                    <a:lnTo>
                      <a:pt x="493" y="776"/>
                    </a:lnTo>
                    <a:lnTo>
                      <a:pt x="518" y="776"/>
                    </a:lnTo>
                    <a:lnTo>
                      <a:pt x="544" y="778"/>
                    </a:lnTo>
                    <a:lnTo>
                      <a:pt x="569" y="779"/>
                    </a:lnTo>
                    <a:lnTo>
                      <a:pt x="594" y="780"/>
                    </a:lnTo>
                    <a:lnTo>
                      <a:pt x="618" y="781"/>
                    </a:lnTo>
                    <a:lnTo>
                      <a:pt x="643" y="782"/>
                    </a:lnTo>
                    <a:lnTo>
                      <a:pt x="662" y="784"/>
                    </a:lnTo>
                    <a:lnTo>
                      <a:pt x="680" y="785"/>
                    </a:lnTo>
                    <a:lnTo>
                      <a:pt x="698" y="787"/>
                    </a:lnTo>
                    <a:lnTo>
                      <a:pt x="718" y="788"/>
                    </a:lnTo>
                    <a:lnTo>
                      <a:pt x="736" y="791"/>
                    </a:lnTo>
                    <a:lnTo>
                      <a:pt x="754" y="792"/>
                    </a:lnTo>
                    <a:lnTo>
                      <a:pt x="772" y="793"/>
                    </a:lnTo>
                    <a:lnTo>
                      <a:pt x="791" y="793"/>
                    </a:lnTo>
                    <a:lnTo>
                      <a:pt x="802" y="794"/>
                    </a:lnTo>
                    <a:lnTo>
                      <a:pt x="812" y="794"/>
                    </a:lnTo>
                    <a:lnTo>
                      <a:pt x="823" y="794"/>
                    </a:lnTo>
                    <a:lnTo>
                      <a:pt x="834" y="794"/>
                    </a:lnTo>
                    <a:lnTo>
                      <a:pt x="845" y="793"/>
                    </a:lnTo>
                    <a:lnTo>
                      <a:pt x="856" y="792"/>
                    </a:lnTo>
                    <a:lnTo>
                      <a:pt x="865" y="787"/>
                    </a:lnTo>
                    <a:lnTo>
                      <a:pt x="874" y="782"/>
                    </a:lnTo>
                    <a:close/>
                  </a:path>
                </a:pathLst>
              </a:custGeom>
              <a:solidFill>
                <a:srgbClr val="d68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70640" y="3897360"/>
                <a:ext cx="1004400" cy="865080"/>
              </a:xfrm>
              <a:custGeom>
                <a:avLst/>
                <a:gdLst/>
                <a:ahLst/>
                <a:rect l="l" t="t" r="r" b="b"/>
                <a:pathLst>
                  <a:path w="2532" h="2179">
                    <a:moveTo>
                      <a:pt x="865" y="776"/>
                    </a:moveTo>
                    <a:lnTo>
                      <a:pt x="873" y="767"/>
                    </a:lnTo>
                    <a:lnTo>
                      <a:pt x="879" y="758"/>
                    </a:lnTo>
                    <a:lnTo>
                      <a:pt x="884" y="747"/>
                    </a:lnTo>
                    <a:lnTo>
                      <a:pt x="888" y="735"/>
                    </a:lnTo>
                    <a:lnTo>
                      <a:pt x="891" y="723"/>
                    </a:lnTo>
                    <a:lnTo>
                      <a:pt x="893" y="711"/>
                    </a:lnTo>
                    <a:lnTo>
                      <a:pt x="894" y="699"/>
                    </a:lnTo>
                    <a:lnTo>
                      <a:pt x="894" y="688"/>
                    </a:lnTo>
                    <a:lnTo>
                      <a:pt x="894" y="674"/>
                    </a:lnTo>
                    <a:lnTo>
                      <a:pt x="893" y="661"/>
                    </a:lnTo>
                    <a:lnTo>
                      <a:pt x="891" y="646"/>
                    </a:lnTo>
                    <a:lnTo>
                      <a:pt x="888" y="632"/>
                    </a:lnTo>
                    <a:lnTo>
                      <a:pt x="884" y="619"/>
                    </a:lnTo>
                    <a:lnTo>
                      <a:pt x="879" y="607"/>
                    </a:lnTo>
                    <a:lnTo>
                      <a:pt x="872" y="594"/>
                    </a:lnTo>
                    <a:lnTo>
                      <a:pt x="865" y="583"/>
                    </a:lnTo>
                    <a:lnTo>
                      <a:pt x="857" y="574"/>
                    </a:lnTo>
                    <a:lnTo>
                      <a:pt x="847" y="566"/>
                    </a:lnTo>
                    <a:lnTo>
                      <a:pt x="836" y="560"/>
                    </a:lnTo>
                    <a:lnTo>
                      <a:pt x="825" y="555"/>
                    </a:lnTo>
                    <a:lnTo>
                      <a:pt x="813" y="550"/>
                    </a:lnTo>
                    <a:lnTo>
                      <a:pt x="801" y="546"/>
                    </a:lnTo>
                    <a:lnTo>
                      <a:pt x="789" y="541"/>
                    </a:lnTo>
                    <a:lnTo>
                      <a:pt x="777" y="536"/>
                    </a:lnTo>
                    <a:lnTo>
                      <a:pt x="764" y="530"/>
                    </a:lnTo>
                    <a:lnTo>
                      <a:pt x="750" y="523"/>
                    </a:lnTo>
                    <a:lnTo>
                      <a:pt x="737" y="517"/>
                    </a:lnTo>
                    <a:lnTo>
                      <a:pt x="722" y="511"/>
                    </a:lnTo>
                    <a:lnTo>
                      <a:pt x="709" y="505"/>
                    </a:lnTo>
                    <a:lnTo>
                      <a:pt x="695" y="500"/>
                    </a:lnTo>
                    <a:lnTo>
                      <a:pt x="680" y="494"/>
                    </a:lnTo>
                    <a:lnTo>
                      <a:pt x="667" y="489"/>
                    </a:lnTo>
                    <a:lnTo>
                      <a:pt x="650" y="486"/>
                    </a:lnTo>
                    <a:lnTo>
                      <a:pt x="635" y="482"/>
                    </a:lnTo>
                    <a:lnTo>
                      <a:pt x="618" y="478"/>
                    </a:lnTo>
                    <a:lnTo>
                      <a:pt x="602" y="476"/>
                    </a:lnTo>
                    <a:lnTo>
                      <a:pt x="585" y="474"/>
                    </a:lnTo>
                    <a:lnTo>
                      <a:pt x="570" y="470"/>
                    </a:lnTo>
                    <a:lnTo>
                      <a:pt x="553" y="465"/>
                    </a:lnTo>
                    <a:lnTo>
                      <a:pt x="537" y="460"/>
                    </a:lnTo>
                    <a:lnTo>
                      <a:pt x="525" y="454"/>
                    </a:lnTo>
                    <a:lnTo>
                      <a:pt x="513" y="448"/>
                    </a:lnTo>
                    <a:lnTo>
                      <a:pt x="501" y="442"/>
                    </a:lnTo>
                    <a:lnTo>
                      <a:pt x="489" y="434"/>
                    </a:lnTo>
                    <a:lnTo>
                      <a:pt x="477" y="427"/>
                    </a:lnTo>
                    <a:lnTo>
                      <a:pt x="467" y="418"/>
                    </a:lnTo>
                    <a:lnTo>
                      <a:pt x="456" y="410"/>
                    </a:lnTo>
                    <a:lnTo>
                      <a:pt x="445" y="402"/>
                    </a:lnTo>
                    <a:lnTo>
                      <a:pt x="426" y="387"/>
                    </a:lnTo>
                    <a:lnTo>
                      <a:pt x="408" y="370"/>
                    </a:lnTo>
                    <a:lnTo>
                      <a:pt x="390" y="355"/>
                    </a:lnTo>
                    <a:lnTo>
                      <a:pt x="372" y="338"/>
                    </a:lnTo>
                    <a:lnTo>
                      <a:pt x="354" y="321"/>
                    </a:lnTo>
                    <a:lnTo>
                      <a:pt x="336" y="306"/>
                    </a:lnTo>
                    <a:lnTo>
                      <a:pt x="318" y="289"/>
                    </a:lnTo>
                    <a:lnTo>
                      <a:pt x="299" y="273"/>
                    </a:lnTo>
                    <a:lnTo>
                      <a:pt x="282" y="260"/>
                    </a:lnTo>
                    <a:lnTo>
                      <a:pt x="265" y="247"/>
                    </a:lnTo>
                    <a:lnTo>
                      <a:pt x="247" y="235"/>
                    </a:lnTo>
                    <a:lnTo>
                      <a:pt x="230" y="222"/>
                    </a:lnTo>
                    <a:lnTo>
                      <a:pt x="212" y="210"/>
                    </a:lnTo>
                    <a:lnTo>
                      <a:pt x="194" y="198"/>
                    </a:lnTo>
                    <a:lnTo>
                      <a:pt x="176" y="186"/>
                    </a:lnTo>
                    <a:lnTo>
                      <a:pt x="158" y="175"/>
                    </a:lnTo>
                    <a:lnTo>
                      <a:pt x="146" y="168"/>
                    </a:lnTo>
                    <a:lnTo>
                      <a:pt x="134" y="162"/>
                    </a:lnTo>
                    <a:lnTo>
                      <a:pt x="121" y="157"/>
                    </a:lnTo>
                    <a:lnTo>
                      <a:pt x="108" y="152"/>
                    </a:lnTo>
                    <a:lnTo>
                      <a:pt x="96" y="146"/>
                    </a:lnTo>
                    <a:lnTo>
                      <a:pt x="83" y="141"/>
                    </a:lnTo>
                    <a:lnTo>
                      <a:pt x="71" y="135"/>
                    </a:lnTo>
                    <a:lnTo>
                      <a:pt x="59" y="128"/>
                    </a:lnTo>
                    <a:lnTo>
                      <a:pt x="50" y="122"/>
                    </a:lnTo>
                    <a:lnTo>
                      <a:pt x="42" y="116"/>
                    </a:lnTo>
                    <a:lnTo>
                      <a:pt x="32" y="109"/>
                    </a:lnTo>
                    <a:lnTo>
                      <a:pt x="24" y="103"/>
                    </a:lnTo>
                    <a:lnTo>
                      <a:pt x="17" y="96"/>
                    </a:lnTo>
                    <a:lnTo>
                      <a:pt x="9" y="87"/>
                    </a:lnTo>
                    <a:lnTo>
                      <a:pt x="5" y="79"/>
                    </a:lnTo>
                    <a:lnTo>
                      <a:pt x="1" y="69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1" y="46"/>
                    </a:lnTo>
                    <a:lnTo>
                      <a:pt x="3" y="39"/>
                    </a:lnTo>
                    <a:lnTo>
                      <a:pt x="7" y="32"/>
                    </a:lnTo>
                    <a:lnTo>
                      <a:pt x="12" y="26"/>
                    </a:lnTo>
                    <a:lnTo>
                      <a:pt x="18" y="21"/>
                    </a:lnTo>
                    <a:lnTo>
                      <a:pt x="24" y="16"/>
                    </a:lnTo>
                    <a:lnTo>
                      <a:pt x="36" y="12"/>
                    </a:lnTo>
                    <a:lnTo>
                      <a:pt x="48" y="8"/>
                    </a:lnTo>
                    <a:lnTo>
                      <a:pt x="60" y="6"/>
                    </a:lnTo>
                    <a:lnTo>
                      <a:pt x="72" y="4"/>
                    </a:lnTo>
                    <a:lnTo>
                      <a:pt x="85" y="3"/>
                    </a:lnTo>
                    <a:lnTo>
                      <a:pt x="98" y="3"/>
                    </a:lnTo>
                    <a:lnTo>
                      <a:pt x="110" y="4"/>
                    </a:lnTo>
                    <a:lnTo>
                      <a:pt x="123" y="6"/>
                    </a:lnTo>
                    <a:lnTo>
                      <a:pt x="134" y="7"/>
                    </a:lnTo>
                    <a:lnTo>
                      <a:pt x="146" y="8"/>
                    </a:lnTo>
                    <a:lnTo>
                      <a:pt x="158" y="12"/>
                    </a:lnTo>
                    <a:lnTo>
                      <a:pt x="169" y="14"/>
                    </a:lnTo>
                    <a:lnTo>
                      <a:pt x="180" y="19"/>
                    </a:lnTo>
                    <a:lnTo>
                      <a:pt x="191" y="22"/>
                    </a:lnTo>
                    <a:lnTo>
                      <a:pt x="201" y="28"/>
                    </a:lnTo>
                    <a:lnTo>
                      <a:pt x="211" y="34"/>
                    </a:lnTo>
                    <a:lnTo>
                      <a:pt x="224" y="44"/>
                    </a:lnTo>
                    <a:lnTo>
                      <a:pt x="237" y="55"/>
                    </a:lnTo>
                    <a:lnTo>
                      <a:pt x="249" y="67"/>
                    </a:lnTo>
                    <a:lnTo>
                      <a:pt x="261" y="79"/>
                    </a:lnTo>
                    <a:lnTo>
                      <a:pt x="273" y="92"/>
                    </a:lnTo>
                    <a:lnTo>
                      <a:pt x="285" y="104"/>
                    </a:lnTo>
                    <a:lnTo>
                      <a:pt x="297" y="116"/>
                    </a:lnTo>
                    <a:lnTo>
                      <a:pt x="311" y="128"/>
                    </a:lnTo>
                    <a:lnTo>
                      <a:pt x="329" y="144"/>
                    </a:lnTo>
                    <a:lnTo>
                      <a:pt x="347" y="159"/>
                    </a:lnTo>
                    <a:lnTo>
                      <a:pt x="365" y="175"/>
                    </a:lnTo>
                    <a:lnTo>
                      <a:pt x="383" y="190"/>
                    </a:lnTo>
                    <a:lnTo>
                      <a:pt x="401" y="205"/>
                    </a:lnTo>
                    <a:lnTo>
                      <a:pt x="419" y="220"/>
                    </a:lnTo>
                    <a:lnTo>
                      <a:pt x="438" y="235"/>
                    </a:lnTo>
                    <a:lnTo>
                      <a:pt x="456" y="250"/>
                    </a:lnTo>
                    <a:lnTo>
                      <a:pt x="470" y="261"/>
                    </a:lnTo>
                    <a:lnTo>
                      <a:pt x="483" y="272"/>
                    </a:lnTo>
                    <a:lnTo>
                      <a:pt x="497" y="283"/>
                    </a:lnTo>
                    <a:lnTo>
                      <a:pt x="510" y="294"/>
                    </a:lnTo>
                    <a:lnTo>
                      <a:pt x="524" y="303"/>
                    </a:lnTo>
                    <a:lnTo>
                      <a:pt x="539" y="314"/>
                    </a:lnTo>
                    <a:lnTo>
                      <a:pt x="553" y="324"/>
                    </a:lnTo>
                    <a:lnTo>
                      <a:pt x="567" y="332"/>
                    </a:lnTo>
                    <a:lnTo>
                      <a:pt x="575" y="336"/>
                    </a:lnTo>
                    <a:lnTo>
                      <a:pt x="582" y="339"/>
                    </a:lnTo>
                    <a:lnTo>
                      <a:pt x="590" y="342"/>
                    </a:lnTo>
                    <a:lnTo>
                      <a:pt x="599" y="344"/>
                    </a:lnTo>
                    <a:lnTo>
                      <a:pt x="607" y="346"/>
                    </a:lnTo>
                    <a:lnTo>
                      <a:pt x="614" y="348"/>
                    </a:lnTo>
                    <a:lnTo>
                      <a:pt x="623" y="349"/>
                    </a:lnTo>
                    <a:lnTo>
                      <a:pt x="631" y="349"/>
                    </a:lnTo>
                    <a:lnTo>
                      <a:pt x="639" y="350"/>
                    </a:lnTo>
                    <a:lnTo>
                      <a:pt x="647" y="350"/>
                    </a:lnTo>
                    <a:lnTo>
                      <a:pt x="655" y="350"/>
                    </a:lnTo>
                    <a:lnTo>
                      <a:pt x="663" y="349"/>
                    </a:lnTo>
                    <a:lnTo>
                      <a:pt x="671" y="348"/>
                    </a:lnTo>
                    <a:lnTo>
                      <a:pt x="678" y="345"/>
                    </a:lnTo>
                    <a:lnTo>
                      <a:pt x="684" y="343"/>
                    </a:lnTo>
                    <a:lnTo>
                      <a:pt x="690" y="338"/>
                    </a:lnTo>
                    <a:lnTo>
                      <a:pt x="696" y="331"/>
                    </a:lnTo>
                    <a:lnTo>
                      <a:pt x="701" y="322"/>
                    </a:lnTo>
                    <a:lnTo>
                      <a:pt x="704" y="314"/>
                    </a:lnTo>
                    <a:lnTo>
                      <a:pt x="707" y="306"/>
                    </a:lnTo>
                    <a:lnTo>
                      <a:pt x="709" y="296"/>
                    </a:lnTo>
                    <a:lnTo>
                      <a:pt x="711" y="286"/>
                    </a:lnTo>
                    <a:lnTo>
                      <a:pt x="713" y="277"/>
                    </a:lnTo>
                    <a:lnTo>
                      <a:pt x="714" y="267"/>
                    </a:lnTo>
                    <a:lnTo>
                      <a:pt x="714" y="254"/>
                    </a:lnTo>
                    <a:lnTo>
                      <a:pt x="714" y="240"/>
                    </a:lnTo>
                    <a:lnTo>
                      <a:pt x="713" y="226"/>
                    </a:lnTo>
                    <a:lnTo>
                      <a:pt x="711" y="212"/>
                    </a:lnTo>
                    <a:lnTo>
                      <a:pt x="710" y="199"/>
                    </a:lnTo>
                    <a:lnTo>
                      <a:pt x="709" y="184"/>
                    </a:lnTo>
                    <a:lnTo>
                      <a:pt x="708" y="171"/>
                    </a:lnTo>
                    <a:lnTo>
                      <a:pt x="708" y="157"/>
                    </a:lnTo>
                    <a:lnTo>
                      <a:pt x="708" y="150"/>
                    </a:lnTo>
                    <a:lnTo>
                      <a:pt x="708" y="142"/>
                    </a:lnTo>
                    <a:lnTo>
                      <a:pt x="709" y="135"/>
                    </a:lnTo>
                    <a:lnTo>
                      <a:pt x="710" y="128"/>
                    </a:lnTo>
                    <a:lnTo>
                      <a:pt x="711" y="121"/>
                    </a:lnTo>
                    <a:lnTo>
                      <a:pt x="711" y="114"/>
                    </a:lnTo>
                    <a:lnTo>
                      <a:pt x="713" y="105"/>
                    </a:lnTo>
                    <a:lnTo>
                      <a:pt x="714" y="98"/>
                    </a:lnTo>
                    <a:lnTo>
                      <a:pt x="714" y="91"/>
                    </a:lnTo>
                    <a:lnTo>
                      <a:pt x="713" y="82"/>
                    </a:lnTo>
                    <a:lnTo>
                      <a:pt x="713" y="74"/>
                    </a:lnTo>
                    <a:lnTo>
                      <a:pt x="711" y="66"/>
                    </a:lnTo>
                    <a:lnTo>
                      <a:pt x="711" y="58"/>
                    </a:lnTo>
                    <a:lnTo>
                      <a:pt x="711" y="50"/>
                    </a:lnTo>
                    <a:lnTo>
                      <a:pt x="711" y="42"/>
                    </a:lnTo>
                    <a:lnTo>
                      <a:pt x="714" y="34"/>
                    </a:lnTo>
                    <a:lnTo>
                      <a:pt x="715" y="28"/>
                    </a:lnTo>
                    <a:lnTo>
                      <a:pt x="716" y="22"/>
                    </a:lnTo>
                    <a:lnTo>
                      <a:pt x="719" y="16"/>
                    </a:lnTo>
                    <a:lnTo>
                      <a:pt x="721" y="12"/>
                    </a:lnTo>
                    <a:lnTo>
                      <a:pt x="723" y="7"/>
                    </a:lnTo>
                    <a:lnTo>
                      <a:pt x="727" y="2"/>
                    </a:lnTo>
                    <a:lnTo>
                      <a:pt x="732" y="0"/>
                    </a:lnTo>
                    <a:lnTo>
                      <a:pt x="737" y="0"/>
                    </a:lnTo>
                    <a:lnTo>
                      <a:pt x="746" y="1"/>
                    </a:lnTo>
                    <a:lnTo>
                      <a:pt x="757" y="3"/>
                    </a:lnTo>
                    <a:lnTo>
                      <a:pt x="765" y="8"/>
                    </a:lnTo>
                    <a:lnTo>
                      <a:pt x="775" y="13"/>
                    </a:lnTo>
                    <a:lnTo>
                      <a:pt x="783" y="19"/>
                    </a:lnTo>
                    <a:lnTo>
                      <a:pt x="792" y="25"/>
                    </a:lnTo>
                    <a:lnTo>
                      <a:pt x="800" y="32"/>
                    </a:lnTo>
                    <a:lnTo>
                      <a:pt x="806" y="40"/>
                    </a:lnTo>
                    <a:lnTo>
                      <a:pt x="813" y="50"/>
                    </a:lnTo>
                    <a:lnTo>
                      <a:pt x="821" y="60"/>
                    </a:lnTo>
                    <a:lnTo>
                      <a:pt x="825" y="70"/>
                    </a:lnTo>
                    <a:lnTo>
                      <a:pt x="830" y="82"/>
                    </a:lnTo>
                    <a:lnTo>
                      <a:pt x="835" y="93"/>
                    </a:lnTo>
                    <a:lnTo>
                      <a:pt x="839" y="105"/>
                    </a:lnTo>
                    <a:lnTo>
                      <a:pt x="843" y="116"/>
                    </a:lnTo>
                    <a:lnTo>
                      <a:pt x="847" y="128"/>
                    </a:lnTo>
                    <a:lnTo>
                      <a:pt x="854" y="144"/>
                    </a:lnTo>
                    <a:lnTo>
                      <a:pt x="861" y="159"/>
                    </a:lnTo>
                    <a:lnTo>
                      <a:pt x="867" y="176"/>
                    </a:lnTo>
                    <a:lnTo>
                      <a:pt x="873" y="192"/>
                    </a:lnTo>
                    <a:lnTo>
                      <a:pt x="881" y="208"/>
                    </a:lnTo>
                    <a:lnTo>
                      <a:pt x="887" y="224"/>
                    </a:lnTo>
                    <a:lnTo>
                      <a:pt x="894" y="240"/>
                    </a:lnTo>
                    <a:lnTo>
                      <a:pt x="900" y="256"/>
                    </a:lnTo>
                    <a:lnTo>
                      <a:pt x="905" y="266"/>
                    </a:lnTo>
                    <a:lnTo>
                      <a:pt x="908" y="276"/>
                    </a:lnTo>
                    <a:lnTo>
                      <a:pt x="912" y="285"/>
                    </a:lnTo>
                    <a:lnTo>
                      <a:pt x="915" y="295"/>
                    </a:lnTo>
                    <a:lnTo>
                      <a:pt x="920" y="304"/>
                    </a:lnTo>
                    <a:lnTo>
                      <a:pt x="925" y="314"/>
                    </a:lnTo>
                    <a:lnTo>
                      <a:pt x="930" y="324"/>
                    </a:lnTo>
                    <a:lnTo>
                      <a:pt x="935" y="332"/>
                    </a:lnTo>
                    <a:lnTo>
                      <a:pt x="942" y="342"/>
                    </a:lnTo>
                    <a:lnTo>
                      <a:pt x="949" y="351"/>
                    </a:lnTo>
                    <a:lnTo>
                      <a:pt x="957" y="360"/>
                    </a:lnTo>
                    <a:lnTo>
                      <a:pt x="966" y="369"/>
                    </a:lnTo>
                    <a:lnTo>
                      <a:pt x="973" y="378"/>
                    </a:lnTo>
                    <a:lnTo>
                      <a:pt x="983" y="386"/>
                    </a:lnTo>
                    <a:lnTo>
                      <a:pt x="991" y="394"/>
                    </a:lnTo>
                    <a:lnTo>
                      <a:pt x="999" y="402"/>
                    </a:lnTo>
                    <a:lnTo>
                      <a:pt x="1010" y="412"/>
                    </a:lnTo>
                    <a:lnTo>
                      <a:pt x="1021" y="423"/>
                    </a:lnTo>
                    <a:lnTo>
                      <a:pt x="1033" y="433"/>
                    </a:lnTo>
                    <a:lnTo>
                      <a:pt x="1044" y="444"/>
                    </a:lnTo>
                    <a:lnTo>
                      <a:pt x="1056" y="453"/>
                    </a:lnTo>
                    <a:lnTo>
                      <a:pt x="1068" y="463"/>
                    </a:lnTo>
                    <a:lnTo>
                      <a:pt x="1080" y="470"/>
                    </a:lnTo>
                    <a:lnTo>
                      <a:pt x="1093" y="477"/>
                    </a:lnTo>
                    <a:lnTo>
                      <a:pt x="1104" y="482"/>
                    </a:lnTo>
                    <a:lnTo>
                      <a:pt x="1115" y="487"/>
                    </a:lnTo>
                    <a:lnTo>
                      <a:pt x="1127" y="489"/>
                    </a:lnTo>
                    <a:lnTo>
                      <a:pt x="1139" y="492"/>
                    </a:lnTo>
                    <a:lnTo>
                      <a:pt x="1151" y="493"/>
                    </a:lnTo>
                    <a:lnTo>
                      <a:pt x="1163" y="494"/>
                    </a:lnTo>
                    <a:lnTo>
                      <a:pt x="1175" y="495"/>
                    </a:lnTo>
                    <a:lnTo>
                      <a:pt x="1187" y="495"/>
                    </a:lnTo>
                    <a:lnTo>
                      <a:pt x="1201" y="496"/>
                    </a:lnTo>
                    <a:lnTo>
                      <a:pt x="1215" y="496"/>
                    </a:lnTo>
                    <a:lnTo>
                      <a:pt x="1230" y="496"/>
                    </a:lnTo>
                    <a:lnTo>
                      <a:pt x="1245" y="496"/>
                    </a:lnTo>
                    <a:lnTo>
                      <a:pt x="1260" y="495"/>
                    </a:lnTo>
                    <a:lnTo>
                      <a:pt x="1274" y="494"/>
                    </a:lnTo>
                    <a:lnTo>
                      <a:pt x="1289" y="492"/>
                    </a:lnTo>
                    <a:lnTo>
                      <a:pt x="1303" y="489"/>
                    </a:lnTo>
                    <a:lnTo>
                      <a:pt x="1313" y="488"/>
                    </a:lnTo>
                    <a:lnTo>
                      <a:pt x="1323" y="486"/>
                    </a:lnTo>
                    <a:lnTo>
                      <a:pt x="1333" y="482"/>
                    </a:lnTo>
                    <a:lnTo>
                      <a:pt x="1343" y="480"/>
                    </a:lnTo>
                    <a:lnTo>
                      <a:pt x="1352" y="476"/>
                    </a:lnTo>
                    <a:lnTo>
                      <a:pt x="1362" y="471"/>
                    </a:lnTo>
                    <a:lnTo>
                      <a:pt x="1370" y="466"/>
                    </a:lnTo>
                    <a:lnTo>
                      <a:pt x="1379" y="460"/>
                    </a:lnTo>
                    <a:lnTo>
                      <a:pt x="1387" y="454"/>
                    </a:lnTo>
                    <a:lnTo>
                      <a:pt x="1397" y="447"/>
                    </a:lnTo>
                    <a:lnTo>
                      <a:pt x="1405" y="440"/>
                    </a:lnTo>
                    <a:lnTo>
                      <a:pt x="1413" y="432"/>
                    </a:lnTo>
                    <a:lnTo>
                      <a:pt x="1419" y="423"/>
                    </a:lnTo>
                    <a:lnTo>
                      <a:pt x="1424" y="415"/>
                    </a:lnTo>
                    <a:lnTo>
                      <a:pt x="1425" y="410"/>
                    </a:lnTo>
                    <a:lnTo>
                      <a:pt x="1427" y="405"/>
                    </a:lnTo>
                    <a:lnTo>
                      <a:pt x="1427" y="400"/>
                    </a:lnTo>
                    <a:lnTo>
                      <a:pt x="1425" y="396"/>
                    </a:lnTo>
                    <a:lnTo>
                      <a:pt x="1424" y="391"/>
                    </a:lnTo>
                    <a:lnTo>
                      <a:pt x="1422" y="387"/>
                    </a:lnTo>
                    <a:lnTo>
                      <a:pt x="1418" y="384"/>
                    </a:lnTo>
                    <a:lnTo>
                      <a:pt x="1415" y="380"/>
                    </a:lnTo>
                    <a:lnTo>
                      <a:pt x="1405" y="374"/>
                    </a:lnTo>
                    <a:lnTo>
                      <a:pt x="1395" y="369"/>
                    </a:lnTo>
                    <a:lnTo>
                      <a:pt x="1383" y="366"/>
                    </a:lnTo>
                    <a:lnTo>
                      <a:pt x="1371" y="362"/>
                    </a:lnTo>
                    <a:lnTo>
                      <a:pt x="1361" y="360"/>
                    </a:lnTo>
                    <a:lnTo>
                      <a:pt x="1350" y="355"/>
                    </a:lnTo>
                    <a:lnTo>
                      <a:pt x="1338" y="350"/>
                    </a:lnTo>
                    <a:lnTo>
                      <a:pt x="1325" y="346"/>
                    </a:lnTo>
                    <a:lnTo>
                      <a:pt x="1313" y="343"/>
                    </a:lnTo>
                    <a:lnTo>
                      <a:pt x="1299" y="339"/>
                    </a:lnTo>
                    <a:lnTo>
                      <a:pt x="1287" y="334"/>
                    </a:lnTo>
                    <a:lnTo>
                      <a:pt x="1274" y="331"/>
                    </a:lnTo>
                    <a:lnTo>
                      <a:pt x="1262" y="326"/>
                    </a:lnTo>
                    <a:lnTo>
                      <a:pt x="1250" y="320"/>
                    </a:lnTo>
                    <a:lnTo>
                      <a:pt x="1243" y="316"/>
                    </a:lnTo>
                    <a:lnTo>
                      <a:pt x="1236" y="310"/>
                    </a:lnTo>
                    <a:lnTo>
                      <a:pt x="1229" y="306"/>
                    </a:lnTo>
                    <a:lnTo>
                      <a:pt x="1221" y="300"/>
                    </a:lnTo>
                    <a:lnTo>
                      <a:pt x="1215" y="294"/>
                    </a:lnTo>
                    <a:lnTo>
                      <a:pt x="1209" y="288"/>
                    </a:lnTo>
                    <a:lnTo>
                      <a:pt x="1203" y="280"/>
                    </a:lnTo>
                    <a:lnTo>
                      <a:pt x="1199" y="273"/>
                    </a:lnTo>
                    <a:lnTo>
                      <a:pt x="1193" y="266"/>
                    </a:lnTo>
                    <a:lnTo>
                      <a:pt x="1188" y="259"/>
                    </a:lnTo>
                    <a:lnTo>
                      <a:pt x="1184" y="250"/>
                    </a:lnTo>
                    <a:lnTo>
                      <a:pt x="1181" y="243"/>
                    </a:lnTo>
                    <a:lnTo>
                      <a:pt x="1177" y="235"/>
                    </a:lnTo>
                    <a:lnTo>
                      <a:pt x="1173" y="226"/>
                    </a:lnTo>
                    <a:lnTo>
                      <a:pt x="1171" y="218"/>
                    </a:lnTo>
                    <a:lnTo>
                      <a:pt x="1169" y="210"/>
                    </a:lnTo>
                    <a:lnTo>
                      <a:pt x="1167" y="204"/>
                    </a:lnTo>
                    <a:lnTo>
                      <a:pt x="1166" y="198"/>
                    </a:lnTo>
                    <a:lnTo>
                      <a:pt x="1166" y="190"/>
                    </a:lnTo>
                    <a:lnTo>
                      <a:pt x="1166" y="184"/>
                    </a:lnTo>
                    <a:lnTo>
                      <a:pt x="1167" y="178"/>
                    </a:lnTo>
                    <a:lnTo>
                      <a:pt x="1169" y="172"/>
                    </a:lnTo>
                    <a:lnTo>
                      <a:pt x="1171" y="168"/>
                    </a:lnTo>
                    <a:lnTo>
                      <a:pt x="1175" y="163"/>
                    </a:lnTo>
                    <a:lnTo>
                      <a:pt x="1181" y="158"/>
                    </a:lnTo>
                    <a:lnTo>
                      <a:pt x="1187" y="154"/>
                    </a:lnTo>
                    <a:lnTo>
                      <a:pt x="1194" y="153"/>
                    </a:lnTo>
                    <a:lnTo>
                      <a:pt x="1202" y="151"/>
                    </a:lnTo>
                    <a:lnTo>
                      <a:pt x="1209" y="151"/>
                    </a:lnTo>
                    <a:lnTo>
                      <a:pt x="1218" y="150"/>
                    </a:lnTo>
                    <a:lnTo>
                      <a:pt x="1225" y="151"/>
                    </a:lnTo>
                    <a:lnTo>
                      <a:pt x="1233" y="151"/>
                    </a:lnTo>
                    <a:lnTo>
                      <a:pt x="1243" y="152"/>
                    </a:lnTo>
                    <a:lnTo>
                      <a:pt x="1253" y="154"/>
                    </a:lnTo>
                    <a:lnTo>
                      <a:pt x="1262" y="158"/>
                    </a:lnTo>
                    <a:lnTo>
                      <a:pt x="1272" y="162"/>
                    </a:lnTo>
                    <a:lnTo>
                      <a:pt x="1280" y="165"/>
                    </a:lnTo>
                    <a:lnTo>
                      <a:pt x="1290" y="169"/>
                    </a:lnTo>
                    <a:lnTo>
                      <a:pt x="1299" y="172"/>
                    </a:lnTo>
                    <a:lnTo>
                      <a:pt x="1309" y="175"/>
                    </a:lnTo>
                    <a:lnTo>
                      <a:pt x="1321" y="176"/>
                    </a:lnTo>
                    <a:lnTo>
                      <a:pt x="1332" y="178"/>
                    </a:lnTo>
                    <a:lnTo>
                      <a:pt x="1344" y="181"/>
                    </a:lnTo>
                    <a:lnTo>
                      <a:pt x="1356" y="182"/>
                    </a:lnTo>
                    <a:lnTo>
                      <a:pt x="1368" y="183"/>
                    </a:lnTo>
                    <a:lnTo>
                      <a:pt x="1379" y="184"/>
                    </a:lnTo>
                    <a:lnTo>
                      <a:pt x="1391" y="186"/>
                    </a:lnTo>
                    <a:lnTo>
                      <a:pt x="1403" y="186"/>
                    </a:lnTo>
                    <a:lnTo>
                      <a:pt x="1416" y="187"/>
                    </a:lnTo>
                    <a:lnTo>
                      <a:pt x="1429" y="187"/>
                    </a:lnTo>
                    <a:lnTo>
                      <a:pt x="1442" y="187"/>
                    </a:lnTo>
                    <a:lnTo>
                      <a:pt x="1455" y="187"/>
                    </a:lnTo>
                    <a:lnTo>
                      <a:pt x="1469" y="187"/>
                    </a:lnTo>
                    <a:lnTo>
                      <a:pt x="1482" y="187"/>
                    </a:lnTo>
                    <a:lnTo>
                      <a:pt x="1495" y="187"/>
                    </a:lnTo>
                    <a:lnTo>
                      <a:pt x="1508" y="186"/>
                    </a:lnTo>
                    <a:lnTo>
                      <a:pt x="1517" y="186"/>
                    </a:lnTo>
                    <a:lnTo>
                      <a:pt x="1525" y="184"/>
                    </a:lnTo>
                    <a:lnTo>
                      <a:pt x="1533" y="183"/>
                    </a:lnTo>
                    <a:lnTo>
                      <a:pt x="1543" y="181"/>
                    </a:lnTo>
                    <a:lnTo>
                      <a:pt x="1551" y="180"/>
                    </a:lnTo>
                    <a:lnTo>
                      <a:pt x="1560" y="180"/>
                    </a:lnTo>
                    <a:lnTo>
                      <a:pt x="1569" y="180"/>
                    </a:lnTo>
                    <a:lnTo>
                      <a:pt x="1578" y="180"/>
                    </a:lnTo>
                    <a:lnTo>
                      <a:pt x="1585" y="182"/>
                    </a:lnTo>
                    <a:lnTo>
                      <a:pt x="1592" y="184"/>
                    </a:lnTo>
                    <a:lnTo>
                      <a:pt x="1599" y="187"/>
                    </a:lnTo>
                    <a:lnTo>
                      <a:pt x="1607" y="190"/>
                    </a:lnTo>
                    <a:lnTo>
                      <a:pt x="1614" y="194"/>
                    </a:lnTo>
                    <a:lnTo>
                      <a:pt x="1620" y="199"/>
                    </a:lnTo>
                    <a:lnTo>
                      <a:pt x="1626" y="204"/>
                    </a:lnTo>
                    <a:lnTo>
                      <a:pt x="1631" y="210"/>
                    </a:lnTo>
                    <a:lnTo>
                      <a:pt x="1634" y="216"/>
                    </a:lnTo>
                    <a:lnTo>
                      <a:pt x="1638" y="223"/>
                    </a:lnTo>
                    <a:lnTo>
                      <a:pt x="1640" y="230"/>
                    </a:lnTo>
                    <a:lnTo>
                      <a:pt x="1641" y="237"/>
                    </a:lnTo>
                    <a:lnTo>
                      <a:pt x="1644" y="244"/>
                    </a:lnTo>
                    <a:lnTo>
                      <a:pt x="1645" y="253"/>
                    </a:lnTo>
                    <a:lnTo>
                      <a:pt x="1646" y="260"/>
                    </a:lnTo>
                    <a:lnTo>
                      <a:pt x="1647" y="267"/>
                    </a:lnTo>
                    <a:lnTo>
                      <a:pt x="1652" y="288"/>
                    </a:lnTo>
                    <a:lnTo>
                      <a:pt x="1657" y="307"/>
                    </a:lnTo>
                    <a:lnTo>
                      <a:pt x="1662" y="326"/>
                    </a:lnTo>
                    <a:lnTo>
                      <a:pt x="1667" y="346"/>
                    </a:lnTo>
                    <a:lnTo>
                      <a:pt x="1671" y="366"/>
                    </a:lnTo>
                    <a:lnTo>
                      <a:pt x="1676" y="386"/>
                    </a:lnTo>
                    <a:lnTo>
                      <a:pt x="1680" y="405"/>
                    </a:lnTo>
                    <a:lnTo>
                      <a:pt x="1683" y="426"/>
                    </a:lnTo>
                    <a:lnTo>
                      <a:pt x="1685" y="444"/>
                    </a:lnTo>
                    <a:lnTo>
                      <a:pt x="1686" y="462"/>
                    </a:lnTo>
                    <a:lnTo>
                      <a:pt x="1687" y="480"/>
                    </a:lnTo>
                    <a:lnTo>
                      <a:pt x="1687" y="499"/>
                    </a:lnTo>
                    <a:lnTo>
                      <a:pt x="1688" y="517"/>
                    </a:lnTo>
                    <a:lnTo>
                      <a:pt x="1689" y="535"/>
                    </a:lnTo>
                    <a:lnTo>
                      <a:pt x="1692" y="553"/>
                    </a:lnTo>
                    <a:lnTo>
                      <a:pt x="1694" y="571"/>
                    </a:lnTo>
                    <a:lnTo>
                      <a:pt x="1698" y="583"/>
                    </a:lnTo>
                    <a:lnTo>
                      <a:pt x="1700" y="595"/>
                    </a:lnTo>
                    <a:lnTo>
                      <a:pt x="1704" y="607"/>
                    </a:lnTo>
                    <a:lnTo>
                      <a:pt x="1709" y="619"/>
                    </a:lnTo>
                    <a:lnTo>
                      <a:pt x="1715" y="629"/>
                    </a:lnTo>
                    <a:lnTo>
                      <a:pt x="1721" y="640"/>
                    </a:lnTo>
                    <a:lnTo>
                      <a:pt x="1727" y="650"/>
                    </a:lnTo>
                    <a:lnTo>
                      <a:pt x="1735" y="658"/>
                    </a:lnTo>
                    <a:lnTo>
                      <a:pt x="1741" y="663"/>
                    </a:lnTo>
                    <a:lnTo>
                      <a:pt x="1748" y="667"/>
                    </a:lnTo>
                    <a:lnTo>
                      <a:pt x="1755" y="669"/>
                    </a:lnTo>
                    <a:lnTo>
                      <a:pt x="1764" y="670"/>
                    </a:lnTo>
                    <a:lnTo>
                      <a:pt x="1772" y="671"/>
                    </a:lnTo>
                    <a:lnTo>
                      <a:pt x="1779" y="670"/>
                    </a:lnTo>
                    <a:lnTo>
                      <a:pt x="1788" y="668"/>
                    </a:lnTo>
                    <a:lnTo>
                      <a:pt x="1794" y="664"/>
                    </a:lnTo>
                    <a:lnTo>
                      <a:pt x="1807" y="653"/>
                    </a:lnTo>
                    <a:lnTo>
                      <a:pt x="1819" y="643"/>
                    </a:lnTo>
                    <a:lnTo>
                      <a:pt x="1831" y="629"/>
                    </a:lnTo>
                    <a:lnTo>
                      <a:pt x="1842" y="616"/>
                    </a:lnTo>
                    <a:lnTo>
                      <a:pt x="1851" y="602"/>
                    </a:lnTo>
                    <a:lnTo>
                      <a:pt x="1861" y="588"/>
                    </a:lnTo>
                    <a:lnTo>
                      <a:pt x="1872" y="573"/>
                    </a:lnTo>
                    <a:lnTo>
                      <a:pt x="1881" y="560"/>
                    </a:lnTo>
                    <a:lnTo>
                      <a:pt x="1895" y="542"/>
                    </a:lnTo>
                    <a:lnTo>
                      <a:pt x="1907" y="525"/>
                    </a:lnTo>
                    <a:lnTo>
                      <a:pt x="1919" y="507"/>
                    </a:lnTo>
                    <a:lnTo>
                      <a:pt x="1931" y="489"/>
                    </a:lnTo>
                    <a:lnTo>
                      <a:pt x="1943" y="471"/>
                    </a:lnTo>
                    <a:lnTo>
                      <a:pt x="1956" y="454"/>
                    </a:lnTo>
                    <a:lnTo>
                      <a:pt x="1968" y="436"/>
                    </a:lnTo>
                    <a:lnTo>
                      <a:pt x="1981" y="420"/>
                    </a:lnTo>
                    <a:lnTo>
                      <a:pt x="1991" y="408"/>
                    </a:lnTo>
                    <a:lnTo>
                      <a:pt x="2000" y="394"/>
                    </a:lnTo>
                    <a:lnTo>
                      <a:pt x="2010" y="382"/>
                    </a:lnTo>
                    <a:lnTo>
                      <a:pt x="2019" y="370"/>
                    </a:lnTo>
                    <a:lnTo>
                      <a:pt x="2029" y="358"/>
                    </a:lnTo>
                    <a:lnTo>
                      <a:pt x="2040" y="348"/>
                    </a:lnTo>
                    <a:lnTo>
                      <a:pt x="2051" y="337"/>
                    </a:lnTo>
                    <a:lnTo>
                      <a:pt x="2063" y="326"/>
                    </a:lnTo>
                    <a:lnTo>
                      <a:pt x="2069" y="321"/>
                    </a:lnTo>
                    <a:lnTo>
                      <a:pt x="2076" y="314"/>
                    </a:lnTo>
                    <a:lnTo>
                      <a:pt x="2084" y="308"/>
                    </a:lnTo>
                    <a:lnTo>
                      <a:pt x="2093" y="303"/>
                    </a:lnTo>
                    <a:lnTo>
                      <a:pt x="2100" y="298"/>
                    </a:lnTo>
                    <a:lnTo>
                      <a:pt x="2107" y="297"/>
                    </a:lnTo>
                    <a:lnTo>
                      <a:pt x="2109" y="297"/>
                    </a:lnTo>
                    <a:lnTo>
                      <a:pt x="2112" y="298"/>
                    </a:lnTo>
                    <a:lnTo>
                      <a:pt x="2114" y="300"/>
                    </a:lnTo>
                    <a:lnTo>
                      <a:pt x="2115" y="303"/>
                    </a:lnTo>
                    <a:lnTo>
                      <a:pt x="2120" y="324"/>
                    </a:lnTo>
                    <a:lnTo>
                      <a:pt x="2124" y="344"/>
                    </a:lnTo>
                    <a:lnTo>
                      <a:pt x="2125" y="366"/>
                    </a:lnTo>
                    <a:lnTo>
                      <a:pt x="2124" y="387"/>
                    </a:lnTo>
                    <a:lnTo>
                      <a:pt x="2123" y="409"/>
                    </a:lnTo>
                    <a:lnTo>
                      <a:pt x="2119" y="430"/>
                    </a:lnTo>
                    <a:lnTo>
                      <a:pt x="2114" y="451"/>
                    </a:lnTo>
                    <a:lnTo>
                      <a:pt x="2109" y="472"/>
                    </a:lnTo>
                    <a:lnTo>
                      <a:pt x="2099" y="508"/>
                    </a:lnTo>
                    <a:lnTo>
                      <a:pt x="2085" y="544"/>
                    </a:lnTo>
                    <a:lnTo>
                      <a:pt x="2072" y="579"/>
                    </a:lnTo>
                    <a:lnTo>
                      <a:pt x="2058" y="614"/>
                    </a:lnTo>
                    <a:lnTo>
                      <a:pt x="2041" y="649"/>
                    </a:lnTo>
                    <a:lnTo>
                      <a:pt x="2025" y="683"/>
                    </a:lnTo>
                    <a:lnTo>
                      <a:pt x="2009" y="718"/>
                    </a:lnTo>
                    <a:lnTo>
                      <a:pt x="1993" y="752"/>
                    </a:lnTo>
                    <a:lnTo>
                      <a:pt x="1983" y="771"/>
                    </a:lnTo>
                    <a:lnTo>
                      <a:pt x="1974" y="790"/>
                    </a:lnTo>
                    <a:lnTo>
                      <a:pt x="1963" y="809"/>
                    </a:lnTo>
                    <a:lnTo>
                      <a:pt x="1953" y="827"/>
                    </a:lnTo>
                    <a:lnTo>
                      <a:pt x="1941" y="845"/>
                    </a:lnTo>
                    <a:lnTo>
                      <a:pt x="1931" y="863"/>
                    </a:lnTo>
                    <a:lnTo>
                      <a:pt x="1917" y="881"/>
                    </a:lnTo>
                    <a:lnTo>
                      <a:pt x="1905" y="898"/>
                    </a:lnTo>
                    <a:lnTo>
                      <a:pt x="1896" y="908"/>
                    </a:lnTo>
                    <a:lnTo>
                      <a:pt x="1885" y="917"/>
                    </a:lnTo>
                    <a:lnTo>
                      <a:pt x="1874" y="926"/>
                    </a:lnTo>
                    <a:lnTo>
                      <a:pt x="1862" y="934"/>
                    </a:lnTo>
                    <a:lnTo>
                      <a:pt x="1851" y="943"/>
                    </a:lnTo>
                    <a:lnTo>
                      <a:pt x="1839" y="950"/>
                    </a:lnTo>
                    <a:lnTo>
                      <a:pt x="1827" y="959"/>
                    </a:lnTo>
                    <a:lnTo>
                      <a:pt x="1817" y="968"/>
                    </a:lnTo>
                    <a:lnTo>
                      <a:pt x="1812" y="973"/>
                    </a:lnTo>
                    <a:lnTo>
                      <a:pt x="1807" y="977"/>
                    </a:lnTo>
                    <a:lnTo>
                      <a:pt x="1801" y="981"/>
                    </a:lnTo>
                    <a:lnTo>
                      <a:pt x="1796" y="986"/>
                    </a:lnTo>
                    <a:lnTo>
                      <a:pt x="1791" y="992"/>
                    </a:lnTo>
                    <a:lnTo>
                      <a:pt x="1788" y="997"/>
                    </a:lnTo>
                    <a:lnTo>
                      <a:pt x="1784" y="1003"/>
                    </a:lnTo>
                    <a:lnTo>
                      <a:pt x="1782" y="1009"/>
                    </a:lnTo>
                    <a:lnTo>
                      <a:pt x="1781" y="1016"/>
                    </a:lnTo>
                    <a:lnTo>
                      <a:pt x="1779" y="1024"/>
                    </a:lnTo>
                    <a:lnTo>
                      <a:pt x="1779" y="1033"/>
                    </a:lnTo>
                    <a:lnTo>
                      <a:pt x="1781" y="1041"/>
                    </a:lnTo>
                    <a:lnTo>
                      <a:pt x="1782" y="1049"/>
                    </a:lnTo>
                    <a:lnTo>
                      <a:pt x="1784" y="1057"/>
                    </a:lnTo>
                    <a:lnTo>
                      <a:pt x="1788" y="1063"/>
                    </a:lnTo>
                    <a:lnTo>
                      <a:pt x="1794" y="1067"/>
                    </a:lnTo>
                    <a:lnTo>
                      <a:pt x="1806" y="1073"/>
                    </a:lnTo>
                    <a:lnTo>
                      <a:pt x="1818" y="1078"/>
                    </a:lnTo>
                    <a:lnTo>
                      <a:pt x="1831" y="1083"/>
                    </a:lnTo>
                    <a:lnTo>
                      <a:pt x="1844" y="1085"/>
                    </a:lnTo>
                    <a:lnTo>
                      <a:pt x="1859" y="1087"/>
                    </a:lnTo>
                    <a:lnTo>
                      <a:pt x="1872" y="1087"/>
                    </a:lnTo>
                    <a:lnTo>
                      <a:pt x="1885" y="1087"/>
                    </a:lnTo>
                    <a:lnTo>
                      <a:pt x="1899" y="1084"/>
                    </a:lnTo>
                    <a:lnTo>
                      <a:pt x="1914" y="1082"/>
                    </a:lnTo>
                    <a:lnTo>
                      <a:pt x="1928" y="1078"/>
                    </a:lnTo>
                    <a:lnTo>
                      <a:pt x="1943" y="1072"/>
                    </a:lnTo>
                    <a:lnTo>
                      <a:pt x="1956" y="1066"/>
                    </a:lnTo>
                    <a:lnTo>
                      <a:pt x="1969" y="1059"/>
                    </a:lnTo>
                    <a:lnTo>
                      <a:pt x="1982" y="1052"/>
                    </a:lnTo>
                    <a:lnTo>
                      <a:pt x="1993" y="1042"/>
                    </a:lnTo>
                    <a:lnTo>
                      <a:pt x="2004" y="1033"/>
                    </a:lnTo>
                    <a:lnTo>
                      <a:pt x="2013" y="1022"/>
                    </a:lnTo>
                    <a:lnTo>
                      <a:pt x="2022" y="1011"/>
                    </a:lnTo>
                    <a:lnTo>
                      <a:pt x="2029" y="1000"/>
                    </a:lnTo>
                    <a:lnTo>
                      <a:pt x="2037" y="988"/>
                    </a:lnTo>
                    <a:lnTo>
                      <a:pt x="2051" y="964"/>
                    </a:lnTo>
                    <a:lnTo>
                      <a:pt x="2064" y="940"/>
                    </a:lnTo>
                    <a:lnTo>
                      <a:pt x="2077" y="916"/>
                    </a:lnTo>
                    <a:lnTo>
                      <a:pt x="2090" y="891"/>
                    </a:lnTo>
                    <a:lnTo>
                      <a:pt x="2105" y="868"/>
                    </a:lnTo>
                    <a:lnTo>
                      <a:pt x="2121" y="845"/>
                    </a:lnTo>
                    <a:lnTo>
                      <a:pt x="2133" y="831"/>
                    </a:lnTo>
                    <a:lnTo>
                      <a:pt x="2145" y="817"/>
                    </a:lnTo>
                    <a:lnTo>
                      <a:pt x="2159" y="802"/>
                    </a:lnTo>
                    <a:lnTo>
                      <a:pt x="2173" y="789"/>
                    </a:lnTo>
                    <a:lnTo>
                      <a:pt x="2186" y="776"/>
                    </a:lnTo>
                    <a:lnTo>
                      <a:pt x="2202" y="764"/>
                    </a:lnTo>
                    <a:lnTo>
                      <a:pt x="2216" y="752"/>
                    </a:lnTo>
                    <a:lnTo>
                      <a:pt x="2232" y="740"/>
                    </a:lnTo>
                    <a:lnTo>
                      <a:pt x="2241" y="734"/>
                    </a:lnTo>
                    <a:lnTo>
                      <a:pt x="2252" y="727"/>
                    </a:lnTo>
                    <a:lnTo>
                      <a:pt x="2263" y="721"/>
                    </a:lnTo>
                    <a:lnTo>
                      <a:pt x="2274" y="715"/>
                    </a:lnTo>
                    <a:lnTo>
                      <a:pt x="2285" y="710"/>
                    </a:lnTo>
                    <a:lnTo>
                      <a:pt x="2297" y="706"/>
                    </a:lnTo>
                    <a:lnTo>
                      <a:pt x="2307" y="705"/>
                    </a:lnTo>
                    <a:lnTo>
                      <a:pt x="2319" y="705"/>
                    </a:lnTo>
                    <a:lnTo>
                      <a:pt x="2330" y="707"/>
                    </a:lnTo>
                    <a:lnTo>
                      <a:pt x="2341" y="712"/>
                    </a:lnTo>
                    <a:lnTo>
                      <a:pt x="2352" y="717"/>
                    </a:lnTo>
                    <a:lnTo>
                      <a:pt x="2361" y="724"/>
                    </a:lnTo>
                    <a:lnTo>
                      <a:pt x="2370" y="733"/>
                    </a:lnTo>
                    <a:lnTo>
                      <a:pt x="2379" y="741"/>
                    </a:lnTo>
                    <a:lnTo>
                      <a:pt x="2388" y="749"/>
                    </a:lnTo>
                    <a:lnTo>
                      <a:pt x="2395" y="758"/>
                    </a:lnTo>
                    <a:lnTo>
                      <a:pt x="2403" y="767"/>
                    </a:lnTo>
                    <a:lnTo>
                      <a:pt x="2411" y="777"/>
                    </a:lnTo>
                    <a:lnTo>
                      <a:pt x="2418" y="787"/>
                    </a:lnTo>
                    <a:lnTo>
                      <a:pt x="2424" y="797"/>
                    </a:lnTo>
                    <a:lnTo>
                      <a:pt x="2430" y="807"/>
                    </a:lnTo>
                    <a:lnTo>
                      <a:pt x="2436" y="818"/>
                    </a:lnTo>
                    <a:lnTo>
                      <a:pt x="2442" y="829"/>
                    </a:lnTo>
                    <a:lnTo>
                      <a:pt x="2448" y="839"/>
                    </a:lnTo>
                    <a:lnTo>
                      <a:pt x="2457" y="855"/>
                    </a:lnTo>
                    <a:lnTo>
                      <a:pt x="2467" y="869"/>
                    </a:lnTo>
                    <a:lnTo>
                      <a:pt x="2477" y="885"/>
                    </a:lnTo>
                    <a:lnTo>
                      <a:pt x="2486" y="899"/>
                    </a:lnTo>
                    <a:lnTo>
                      <a:pt x="2495" y="915"/>
                    </a:lnTo>
                    <a:lnTo>
                      <a:pt x="2503" y="931"/>
                    </a:lnTo>
                    <a:lnTo>
                      <a:pt x="2511" y="946"/>
                    </a:lnTo>
                    <a:lnTo>
                      <a:pt x="2519" y="962"/>
                    </a:lnTo>
                    <a:lnTo>
                      <a:pt x="2522" y="971"/>
                    </a:lnTo>
                    <a:lnTo>
                      <a:pt x="2525" y="982"/>
                    </a:lnTo>
                    <a:lnTo>
                      <a:pt x="2528" y="992"/>
                    </a:lnTo>
                    <a:lnTo>
                      <a:pt x="2529" y="1003"/>
                    </a:lnTo>
                    <a:lnTo>
                      <a:pt x="2531" y="1012"/>
                    </a:lnTo>
                    <a:lnTo>
                      <a:pt x="2532" y="1023"/>
                    </a:lnTo>
                    <a:lnTo>
                      <a:pt x="2531" y="1034"/>
                    </a:lnTo>
                    <a:lnTo>
                      <a:pt x="2529" y="1043"/>
                    </a:lnTo>
                    <a:lnTo>
                      <a:pt x="2528" y="1051"/>
                    </a:lnTo>
                    <a:lnTo>
                      <a:pt x="2526" y="1058"/>
                    </a:lnTo>
                    <a:lnTo>
                      <a:pt x="2522" y="1064"/>
                    </a:lnTo>
                    <a:lnTo>
                      <a:pt x="2517" y="1070"/>
                    </a:lnTo>
                    <a:lnTo>
                      <a:pt x="2513" y="1076"/>
                    </a:lnTo>
                    <a:lnTo>
                      <a:pt x="2508" y="1081"/>
                    </a:lnTo>
                    <a:lnTo>
                      <a:pt x="2502" y="1083"/>
                    </a:lnTo>
                    <a:lnTo>
                      <a:pt x="2495" y="1084"/>
                    </a:lnTo>
                    <a:lnTo>
                      <a:pt x="2484" y="1084"/>
                    </a:lnTo>
                    <a:lnTo>
                      <a:pt x="2474" y="1082"/>
                    </a:lnTo>
                    <a:lnTo>
                      <a:pt x="2463" y="1079"/>
                    </a:lnTo>
                    <a:lnTo>
                      <a:pt x="2454" y="1075"/>
                    </a:lnTo>
                    <a:lnTo>
                      <a:pt x="2444" y="1070"/>
                    </a:lnTo>
                    <a:lnTo>
                      <a:pt x="2436" y="1063"/>
                    </a:lnTo>
                    <a:lnTo>
                      <a:pt x="2427" y="1057"/>
                    </a:lnTo>
                    <a:lnTo>
                      <a:pt x="2419" y="1049"/>
                    </a:lnTo>
                    <a:lnTo>
                      <a:pt x="2408" y="1039"/>
                    </a:lnTo>
                    <a:lnTo>
                      <a:pt x="2399" y="1027"/>
                    </a:lnTo>
                    <a:lnTo>
                      <a:pt x="2390" y="1015"/>
                    </a:lnTo>
                    <a:lnTo>
                      <a:pt x="2382" y="1001"/>
                    </a:lnTo>
                    <a:lnTo>
                      <a:pt x="2373" y="988"/>
                    </a:lnTo>
                    <a:lnTo>
                      <a:pt x="2366" y="976"/>
                    </a:lnTo>
                    <a:lnTo>
                      <a:pt x="2358" y="963"/>
                    </a:lnTo>
                    <a:lnTo>
                      <a:pt x="2348" y="950"/>
                    </a:lnTo>
                    <a:lnTo>
                      <a:pt x="2343" y="943"/>
                    </a:lnTo>
                    <a:lnTo>
                      <a:pt x="2337" y="935"/>
                    </a:lnTo>
                    <a:lnTo>
                      <a:pt x="2333" y="927"/>
                    </a:lnTo>
                    <a:lnTo>
                      <a:pt x="2328" y="920"/>
                    </a:lnTo>
                    <a:lnTo>
                      <a:pt x="2322" y="911"/>
                    </a:lnTo>
                    <a:lnTo>
                      <a:pt x="2316" y="904"/>
                    </a:lnTo>
                    <a:lnTo>
                      <a:pt x="2309" y="898"/>
                    </a:lnTo>
                    <a:lnTo>
                      <a:pt x="2303" y="892"/>
                    </a:lnTo>
                    <a:lnTo>
                      <a:pt x="2299" y="890"/>
                    </a:lnTo>
                    <a:lnTo>
                      <a:pt x="2295" y="889"/>
                    </a:lnTo>
                    <a:lnTo>
                      <a:pt x="2291" y="887"/>
                    </a:lnTo>
                    <a:lnTo>
                      <a:pt x="2287" y="886"/>
                    </a:lnTo>
                    <a:lnTo>
                      <a:pt x="2282" y="887"/>
                    </a:lnTo>
                    <a:lnTo>
                      <a:pt x="2279" y="887"/>
                    </a:lnTo>
                    <a:lnTo>
                      <a:pt x="2275" y="890"/>
                    </a:lnTo>
                    <a:lnTo>
                      <a:pt x="2273" y="892"/>
                    </a:lnTo>
                    <a:lnTo>
                      <a:pt x="2262" y="908"/>
                    </a:lnTo>
                    <a:lnTo>
                      <a:pt x="2253" y="923"/>
                    </a:lnTo>
                    <a:lnTo>
                      <a:pt x="2244" y="941"/>
                    </a:lnTo>
                    <a:lnTo>
                      <a:pt x="2237" y="958"/>
                    </a:lnTo>
                    <a:lnTo>
                      <a:pt x="2228" y="975"/>
                    </a:lnTo>
                    <a:lnTo>
                      <a:pt x="2220" y="993"/>
                    </a:lnTo>
                    <a:lnTo>
                      <a:pt x="2211" y="1010"/>
                    </a:lnTo>
                    <a:lnTo>
                      <a:pt x="2203" y="1027"/>
                    </a:lnTo>
                    <a:lnTo>
                      <a:pt x="2192" y="1043"/>
                    </a:lnTo>
                    <a:lnTo>
                      <a:pt x="2183" y="1059"/>
                    </a:lnTo>
                    <a:lnTo>
                      <a:pt x="2172" y="1076"/>
                    </a:lnTo>
                    <a:lnTo>
                      <a:pt x="2161" y="1093"/>
                    </a:lnTo>
                    <a:lnTo>
                      <a:pt x="2150" y="1108"/>
                    </a:lnTo>
                    <a:lnTo>
                      <a:pt x="2139" y="1124"/>
                    </a:lnTo>
                    <a:lnTo>
                      <a:pt x="2127" y="1139"/>
                    </a:lnTo>
                    <a:lnTo>
                      <a:pt x="2115" y="1155"/>
                    </a:lnTo>
                    <a:lnTo>
                      <a:pt x="2103" y="1168"/>
                    </a:lnTo>
                    <a:lnTo>
                      <a:pt x="2091" y="1181"/>
                    </a:lnTo>
                    <a:lnTo>
                      <a:pt x="2078" y="1195"/>
                    </a:lnTo>
                    <a:lnTo>
                      <a:pt x="2065" y="1207"/>
                    </a:lnTo>
                    <a:lnTo>
                      <a:pt x="2052" y="1219"/>
                    </a:lnTo>
                    <a:lnTo>
                      <a:pt x="2037" y="1231"/>
                    </a:lnTo>
                    <a:lnTo>
                      <a:pt x="2024" y="1243"/>
                    </a:lnTo>
                    <a:lnTo>
                      <a:pt x="2010" y="1253"/>
                    </a:lnTo>
                    <a:lnTo>
                      <a:pt x="2000" y="1262"/>
                    </a:lnTo>
                    <a:lnTo>
                      <a:pt x="1989" y="1269"/>
                    </a:lnTo>
                    <a:lnTo>
                      <a:pt x="1979" y="1276"/>
                    </a:lnTo>
                    <a:lnTo>
                      <a:pt x="1968" y="1283"/>
                    </a:lnTo>
                    <a:lnTo>
                      <a:pt x="1957" y="1289"/>
                    </a:lnTo>
                    <a:lnTo>
                      <a:pt x="1945" y="1295"/>
                    </a:lnTo>
                    <a:lnTo>
                      <a:pt x="1934" y="1301"/>
                    </a:lnTo>
                    <a:lnTo>
                      <a:pt x="1922" y="1306"/>
                    </a:lnTo>
                    <a:lnTo>
                      <a:pt x="1911" y="1310"/>
                    </a:lnTo>
                    <a:lnTo>
                      <a:pt x="1901" y="1312"/>
                    </a:lnTo>
                    <a:lnTo>
                      <a:pt x="1890" y="1315"/>
                    </a:lnTo>
                    <a:lnTo>
                      <a:pt x="1879" y="1316"/>
                    </a:lnTo>
                    <a:lnTo>
                      <a:pt x="1868" y="1317"/>
                    </a:lnTo>
                    <a:lnTo>
                      <a:pt x="1856" y="1319"/>
                    </a:lnTo>
                    <a:lnTo>
                      <a:pt x="1845" y="1321"/>
                    </a:lnTo>
                    <a:lnTo>
                      <a:pt x="1835" y="1324"/>
                    </a:lnTo>
                    <a:lnTo>
                      <a:pt x="1827" y="1325"/>
                    </a:lnTo>
                    <a:lnTo>
                      <a:pt x="1820" y="1328"/>
                    </a:lnTo>
                    <a:lnTo>
                      <a:pt x="1812" y="1329"/>
                    </a:lnTo>
                    <a:lnTo>
                      <a:pt x="1805" y="1331"/>
                    </a:lnTo>
                    <a:lnTo>
                      <a:pt x="1797" y="1334"/>
                    </a:lnTo>
                    <a:lnTo>
                      <a:pt x="1791" y="1337"/>
                    </a:lnTo>
                    <a:lnTo>
                      <a:pt x="1787" y="1341"/>
                    </a:lnTo>
                    <a:lnTo>
                      <a:pt x="1782" y="1347"/>
                    </a:lnTo>
                    <a:lnTo>
                      <a:pt x="1781" y="1352"/>
                    </a:lnTo>
                    <a:lnTo>
                      <a:pt x="1781" y="1358"/>
                    </a:lnTo>
                    <a:lnTo>
                      <a:pt x="1782" y="1362"/>
                    </a:lnTo>
                    <a:lnTo>
                      <a:pt x="1784" y="1368"/>
                    </a:lnTo>
                    <a:lnTo>
                      <a:pt x="1788" y="1373"/>
                    </a:lnTo>
                    <a:lnTo>
                      <a:pt x="1791" y="1379"/>
                    </a:lnTo>
                    <a:lnTo>
                      <a:pt x="1795" y="1384"/>
                    </a:lnTo>
                    <a:lnTo>
                      <a:pt x="1800" y="1388"/>
                    </a:lnTo>
                    <a:lnTo>
                      <a:pt x="1809" y="1396"/>
                    </a:lnTo>
                    <a:lnTo>
                      <a:pt x="1819" y="1403"/>
                    </a:lnTo>
                    <a:lnTo>
                      <a:pt x="1830" y="1410"/>
                    </a:lnTo>
                    <a:lnTo>
                      <a:pt x="1842" y="1416"/>
                    </a:lnTo>
                    <a:lnTo>
                      <a:pt x="1853" y="1422"/>
                    </a:lnTo>
                    <a:lnTo>
                      <a:pt x="1863" y="1430"/>
                    </a:lnTo>
                    <a:lnTo>
                      <a:pt x="1873" y="1437"/>
                    </a:lnTo>
                    <a:lnTo>
                      <a:pt x="1881" y="1446"/>
                    </a:lnTo>
                    <a:lnTo>
                      <a:pt x="1890" y="1458"/>
                    </a:lnTo>
                    <a:lnTo>
                      <a:pt x="1898" y="1470"/>
                    </a:lnTo>
                    <a:lnTo>
                      <a:pt x="1904" y="1484"/>
                    </a:lnTo>
                    <a:lnTo>
                      <a:pt x="1910" y="1497"/>
                    </a:lnTo>
                    <a:lnTo>
                      <a:pt x="1916" y="1510"/>
                    </a:lnTo>
                    <a:lnTo>
                      <a:pt x="1922" y="1524"/>
                    </a:lnTo>
                    <a:lnTo>
                      <a:pt x="1928" y="1538"/>
                    </a:lnTo>
                    <a:lnTo>
                      <a:pt x="1934" y="1551"/>
                    </a:lnTo>
                    <a:lnTo>
                      <a:pt x="1943" y="1570"/>
                    </a:lnTo>
                    <a:lnTo>
                      <a:pt x="1950" y="1589"/>
                    </a:lnTo>
                    <a:lnTo>
                      <a:pt x="1957" y="1608"/>
                    </a:lnTo>
                    <a:lnTo>
                      <a:pt x="1964" y="1628"/>
                    </a:lnTo>
                    <a:lnTo>
                      <a:pt x="1971" y="1647"/>
                    </a:lnTo>
                    <a:lnTo>
                      <a:pt x="1981" y="1665"/>
                    </a:lnTo>
                    <a:lnTo>
                      <a:pt x="1986" y="1673"/>
                    </a:lnTo>
                    <a:lnTo>
                      <a:pt x="1992" y="1682"/>
                    </a:lnTo>
                    <a:lnTo>
                      <a:pt x="1998" y="1690"/>
                    </a:lnTo>
                    <a:lnTo>
                      <a:pt x="2004" y="1697"/>
                    </a:lnTo>
                    <a:lnTo>
                      <a:pt x="2021" y="1712"/>
                    </a:lnTo>
                    <a:lnTo>
                      <a:pt x="2037" y="1725"/>
                    </a:lnTo>
                    <a:lnTo>
                      <a:pt x="2057" y="1737"/>
                    </a:lnTo>
                    <a:lnTo>
                      <a:pt x="2076" y="1746"/>
                    </a:lnTo>
                    <a:lnTo>
                      <a:pt x="2095" y="1757"/>
                    </a:lnTo>
                    <a:lnTo>
                      <a:pt x="2115" y="1766"/>
                    </a:lnTo>
                    <a:lnTo>
                      <a:pt x="2136" y="1775"/>
                    </a:lnTo>
                    <a:lnTo>
                      <a:pt x="2156" y="1785"/>
                    </a:lnTo>
                    <a:lnTo>
                      <a:pt x="2171" y="1791"/>
                    </a:lnTo>
                    <a:lnTo>
                      <a:pt x="2185" y="1797"/>
                    </a:lnTo>
                    <a:lnTo>
                      <a:pt x="2199" y="1802"/>
                    </a:lnTo>
                    <a:lnTo>
                      <a:pt x="2215" y="1808"/>
                    </a:lnTo>
                    <a:lnTo>
                      <a:pt x="2229" y="1812"/>
                    </a:lnTo>
                    <a:lnTo>
                      <a:pt x="2245" y="1817"/>
                    </a:lnTo>
                    <a:lnTo>
                      <a:pt x="2259" y="1824"/>
                    </a:lnTo>
                    <a:lnTo>
                      <a:pt x="2273" y="1832"/>
                    </a:lnTo>
                    <a:lnTo>
                      <a:pt x="2280" y="1835"/>
                    </a:lnTo>
                    <a:lnTo>
                      <a:pt x="2286" y="1840"/>
                    </a:lnTo>
                    <a:lnTo>
                      <a:pt x="2292" y="1846"/>
                    </a:lnTo>
                    <a:lnTo>
                      <a:pt x="2298" y="1851"/>
                    </a:lnTo>
                    <a:lnTo>
                      <a:pt x="2304" y="1857"/>
                    </a:lnTo>
                    <a:lnTo>
                      <a:pt x="2307" y="1864"/>
                    </a:lnTo>
                    <a:lnTo>
                      <a:pt x="2311" y="1871"/>
                    </a:lnTo>
                    <a:lnTo>
                      <a:pt x="2313" y="1878"/>
                    </a:lnTo>
                    <a:lnTo>
                      <a:pt x="2316" y="1887"/>
                    </a:lnTo>
                    <a:lnTo>
                      <a:pt x="2317" y="1898"/>
                    </a:lnTo>
                    <a:lnTo>
                      <a:pt x="2318" y="1908"/>
                    </a:lnTo>
                    <a:lnTo>
                      <a:pt x="2318" y="1918"/>
                    </a:lnTo>
                    <a:lnTo>
                      <a:pt x="2317" y="1929"/>
                    </a:lnTo>
                    <a:lnTo>
                      <a:pt x="2313" y="1937"/>
                    </a:lnTo>
                    <a:lnTo>
                      <a:pt x="2312" y="1941"/>
                    </a:lnTo>
                    <a:lnTo>
                      <a:pt x="2309" y="1943"/>
                    </a:lnTo>
                    <a:lnTo>
                      <a:pt x="2306" y="1946"/>
                    </a:lnTo>
                    <a:lnTo>
                      <a:pt x="2303" y="1948"/>
                    </a:lnTo>
                    <a:lnTo>
                      <a:pt x="2294" y="1950"/>
                    </a:lnTo>
                    <a:lnTo>
                      <a:pt x="2287" y="1952"/>
                    </a:lnTo>
                    <a:lnTo>
                      <a:pt x="2280" y="1953"/>
                    </a:lnTo>
                    <a:lnTo>
                      <a:pt x="2273" y="1953"/>
                    </a:lnTo>
                    <a:lnTo>
                      <a:pt x="2257" y="1952"/>
                    </a:lnTo>
                    <a:lnTo>
                      <a:pt x="2241" y="1949"/>
                    </a:lnTo>
                    <a:lnTo>
                      <a:pt x="2226" y="1944"/>
                    </a:lnTo>
                    <a:lnTo>
                      <a:pt x="2210" y="1940"/>
                    </a:lnTo>
                    <a:lnTo>
                      <a:pt x="2195" y="1935"/>
                    </a:lnTo>
                    <a:lnTo>
                      <a:pt x="2179" y="1930"/>
                    </a:lnTo>
                    <a:lnTo>
                      <a:pt x="2162" y="1925"/>
                    </a:lnTo>
                    <a:lnTo>
                      <a:pt x="2147" y="1919"/>
                    </a:lnTo>
                    <a:lnTo>
                      <a:pt x="2130" y="1913"/>
                    </a:lnTo>
                    <a:lnTo>
                      <a:pt x="2114" y="1907"/>
                    </a:lnTo>
                    <a:lnTo>
                      <a:pt x="2099" y="1900"/>
                    </a:lnTo>
                    <a:lnTo>
                      <a:pt x="2083" y="1893"/>
                    </a:lnTo>
                    <a:lnTo>
                      <a:pt x="2066" y="1886"/>
                    </a:lnTo>
                    <a:lnTo>
                      <a:pt x="2051" y="1878"/>
                    </a:lnTo>
                    <a:lnTo>
                      <a:pt x="2031" y="1870"/>
                    </a:lnTo>
                    <a:lnTo>
                      <a:pt x="2012" y="1863"/>
                    </a:lnTo>
                    <a:lnTo>
                      <a:pt x="1992" y="1854"/>
                    </a:lnTo>
                    <a:lnTo>
                      <a:pt x="1973" y="1847"/>
                    </a:lnTo>
                    <a:lnTo>
                      <a:pt x="1953" y="1839"/>
                    </a:lnTo>
                    <a:lnTo>
                      <a:pt x="1934" y="1829"/>
                    </a:lnTo>
                    <a:lnTo>
                      <a:pt x="1916" y="1820"/>
                    </a:lnTo>
                    <a:lnTo>
                      <a:pt x="1899" y="1808"/>
                    </a:lnTo>
                    <a:lnTo>
                      <a:pt x="1886" y="1798"/>
                    </a:lnTo>
                    <a:lnTo>
                      <a:pt x="1874" y="1787"/>
                    </a:lnTo>
                    <a:lnTo>
                      <a:pt x="1863" y="1775"/>
                    </a:lnTo>
                    <a:lnTo>
                      <a:pt x="1853" y="1763"/>
                    </a:lnTo>
                    <a:lnTo>
                      <a:pt x="1842" y="1750"/>
                    </a:lnTo>
                    <a:lnTo>
                      <a:pt x="1833" y="1737"/>
                    </a:lnTo>
                    <a:lnTo>
                      <a:pt x="1825" y="1724"/>
                    </a:lnTo>
                    <a:lnTo>
                      <a:pt x="1817" y="1709"/>
                    </a:lnTo>
                    <a:lnTo>
                      <a:pt x="1813" y="1698"/>
                    </a:lnTo>
                    <a:lnTo>
                      <a:pt x="1811" y="1688"/>
                    </a:lnTo>
                    <a:lnTo>
                      <a:pt x="1811" y="1677"/>
                    </a:lnTo>
                    <a:lnTo>
                      <a:pt x="1809" y="1666"/>
                    </a:lnTo>
                    <a:lnTo>
                      <a:pt x="1809" y="1654"/>
                    </a:lnTo>
                    <a:lnTo>
                      <a:pt x="1809" y="1643"/>
                    </a:lnTo>
                    <a:lnTo>
                      <a:pt x="1808" y="1632"/>
                    </a:lnTo>
                    <a:lnTo>
                      <a:pt x="1806" y="1622"/>
                    </a:lnTo>
                    <a:lnTo>
                      <a:pt x="1802" y="1612"/>
                    </a:lnTo>
                    <a:lnTo>
                      <a:pt x="1799" y="1602"/>
                    </a:lnTo>
                    <a:lnTo>
                      <a:pt x="1794" y="1593"/>
                    </a:lnTo>
                    <a:lnTo>
                      <a:pt x="1790" y="1583"/>
                    </a:lnTo>
                    <a:lnTo>
                      <a:pt x="1784" y="1574"/>
                    </a:lnTo>
                    <a:lnTo>
                      <a:pt x="1778" y="1565"/>
                    </a:lnTo>
                    <a:lnTo>
                      <a:pt x="1772" y="1558"/>
                    </a:lnTo>
                    <a:lnTo>
                      <a:pt x="1765" y="1551"/>
                    </a:lnTo>
                    <a:lnTo>
                      <a:pt x="1759" y="1548"/>
                    </a:lnTo>
                    <a:lnTo>
                      <a:pt x="1754" y="1546"/>
                    </a:lnTo>
                    <a:lnTo>
                      <a:pt x="1747" y="1544"/>
                    </a:lnTo>
                    <a:lnTo>
                      <a:pt x="1741" y="1544"/>
                    </a:lnTo>
                    <a:lnTo>
                      <a:pt x="1734" y="1544"/>
                    </a:lnTo>
                    <a:lnTo>
                      <a:pt x="1728" y="1545"/>
                    </a:lnTo>
                    <a:lnTo>
                      <a:pt x="1723" y="1547"/>
                    </a:lnTo>
                    <a:lnTo>
                      <a:pt x="1718" y="1551"/>
                    </a:lnTo>
                    <a:lnTo>
                      <a:pt x="1712" y="1558"/>
                    </a:lnTo>
                    <a:lnTo>
                      <a:pt x="1707" y="1566"/>
                    </a:lnTo>
                    <a:lnTo>
                      <a:pt x="1704" y="1575"/>
                    </a:lnTo>
                    <a:lnTo>
                      <a:pt x="1700" y="1583"/>
                    </a:lnTo>
                    <a:lnTo>
                      <a:pt x="1699" y="1593"/>
                    </a:lnTo>
                    <a:lnTo>
                      <a:pt x="1697" y="1602"/>
                    </a:lnTo>
                    <a:lnTo>
                      <a:pt x="1695" y="1612"/>
                    </a:lnTo>
                    <a:lnTo>
                      <a:pt x="1694" y="1622"/>
                    </a:lnTo>
                    <a:lnTo>
                      <a:pt x="1693" y="1641"/>
                    </a:lnTo>
                    <a:lnTo>
                      <a:pt x="1692" y="1660"/>
                    </a:lnTo>
                    <a:lnTo>
                      <a:pt x="1692" y="1680"/>
                    </a:lnTo>
                    <a:lnTo>
                      <a:pt x="1692" y="1700"/>
                    </a:lnTo>
                    <a:lnTo>
                      <a:pt x="1693" y="1720"/>
                    </a:lnTo>
                    <a:lnTo>
                      <a:pt x="1693" y="1739"/>
                    </a:lnTo>
                    <a:lnTo>
                      <a:pt x="1694" y="1760"/>
                    </a:lnTo>
                    <a:lnTo>
                      <a:pt x="1694" y="1779"/>
                    </a:lnTo>
                    <a:lnTo>
                      <a:pt x="1695" y="1794"/>
                    </a:lnTo>
                    <a:lnTo>
                      <a:pt x="1697" y="1810"/>
                    </a:lnTo>
                    <a:lnTo>
                      <a:pt x="1698" y="1824"/>
                    </a:lnTo>
                    <a:lnTo>
                      <a:pt x="1700" y="1840"/>
                    </a:lnTo>
                    <a:lnTo>
                      <a:pt x="1701" y="1856"/>
                    </a:lnTo>
                    <a:lnTo>
                      <a:pt x="1701" y="1871"/>
                    </a:lnTo>
                    <a:lnTo>
                      <a:pt x="1701" y="1886"/>
                    </a:lnTo>
                    <a:lnTo>
                      <a:pt x="1700" y="1901"/>
                    </a:lnTo>
                    <a:lnTo>
                      <a:pt x="1698" y="1913"/>
                    </a:lnTo>
                    <a:lnTo>
                      <a:pt x="1694" y="1924"/>
                    </a:lnTo>
                    <a:lnTo>
                      <a:pt x="1691" y="1935"/>
                    </a:lnTo>
                    <a:lnTo>
                      <a:pt x="1686" y="1946"/>
                    </a:lnTo>
                    <a:lnTo>
                      <a:pt x="1680" y="1956"/>
                    </a:lnTo>
                    <a:lnTo>
                      <a:pt x="1675" y="1967"/>
                    </a:lnTo>
                    <a:lnTo>
                      <a:pt x="1670" y="1978"/>
                    </a:lnTo>
                    <a:lnTo>
                      <a:pt x="1665" y="1989"/>
                    </a:lnTo>
                    <a:lnTo>
                      <a:pt x="1661" y="2002"/>
                    </a:lnTo>
                    <a:lnTo>
                      <a:pt x="1656" y="2015"/>
                    </a:lnTo>
                    <a:lnTo>
                      <a:pt x="1652" y="2030"/>
                    </a:lnTo>
                    <a:lnTo>
                      <a:pt x="1647" y="2043"/>
                    </a:lnTo>
                    <a:lnTo>
                      <a:pt x="1643" y="2056"/>
                    </a:lnTo>
                    <a:lnTo>
                      <a:pt x="1638" y="2069"/>
                    </a:lnTo>
                    <a:lnTo>
                      <a:pt x="1632" y="2082"/>
                    </a:lnTo>
                    <a:lnTo>
                      <a:pt x="1625" y="2094"/>
                    </a:lnTo>
                    <a:lnTo>
                      <a:pt x="1617" y="2104"/>
                    </a:lnTo>
                    <a:lnTo>
                      <a:pt x="1609" y="2113"/>
                    </a:lnTo>
                    <a:lnTo>
                      <a:pt x="1599" y="2122"/>
                    </a:lnTo>
                    <a:lnTo>
                      <a:pt x="1590" y="2130"/>
                    </a:lnTo>
                    <a:lnTo>
                      <a:pt x="1580" y="2137"/>
                    </a:lnTo>
                    <a:lnTo>
                      <a:pt x="1569" y="2145"/>
                    </a:lnTo>
                    <a:lnTo>
                      <a:pt x="1559" y="2152"/>
                    </a:lnTo>
                    <a:lnTo>
                      <a:pt x="1549" y="2158"/>
                    </a:lnTo>
                    <a:lnTo>
                      <a:pt x="1542" y="2163"/>
                    </a:lnTo>
                    <a:lnTo>
                      <a:pt x="1535" y="2166"/>
                    </a:lnTo>
                    <a:lnTo>
                      <a:pt x="1527" y="2171"/>
                    </a:lnTo>
                    <a:lnTo>
                      <a:pt x="1519" y="2175"/>
                    </a:lnTo>
                    <a:lnTo>
                      <a:pt x="1512" y="2178"/>
                    </a:lnTo>
                    <a:lnTo>
                      <a:pt x="1503" y="2179"/>
                    </a:lnTo>
                    <a:lnTo>
                      <a:pt x="1496" y="2178"/>
                    </a:lnTo>
                    <a:lnTo>
                      <a:pt x="1490" y="2176"/>
                    </a:lnTo>
                    <a:lnTo>
                      <a:pt x="1482" y="2169"/>
                    </a:lnTo>
                    <a:lnTo>
                      <a:pt x="1476" y="2161"/>
                    </a:lnTo>
                    <a:lnTo>
                      <a:pt x="1471" y="2152"/>
                    </a:lnTo>
                    <a:lnTo>
                      <a:pt x="1467" y="2142"/>
                    </a:lnTo>
                    <a:lnTo>
                      <a:pt x="1464" y="2131"/>
                    </a:lnTo>
                    <a:lnTo>
                      <a:pt x="1463" y="2121"/>
                    </a:lnTo>
                    <a:lnTo>
                      <a:pt x="1461" y="2110"/>
                    </a:lnTo>
                    <a:lnTo>
                      <a:pt x="1461" y="2100"/>
                    </a:lnTo>
                    <a:lnTo>
                      <a:pt x="1461" y="2085"/>
                    </a:lnTo>
                    <a:lnTo>
                      <a:pt x="1464" y="2070"/>
                    </a:lnTo>
                    <a:lnTo>
                      <a:pt x="1466" y="2055"/>
                    </a:lnTo>
                    <a:lnTo>
                      <a:pt x="1470" y="2040"/>
                    </a:lnTo>
                    <a:lnTo>
                      <a:pt x="1475" y="2026"/>
                    </a:lnTo>
                    <a:lnTo>
                      <a:pt x="1479" y="2012"/>
                    </a:lnTo>
                    <a:lnTo>
                      <a:pt x="1485" y="1997"/>
                    </a:lnTo>
                    <a:lnTo>
                      <a:pt x="1490" y="1983"/>
                    </a:lnTo>
                    <a:lnTo>
                      <a:pt x="1495" y="1971"/>
                    </a:lnTo>
                    <a:lnTo>
                      <a:pt x="1501" y="1960"/>
                    </a:lnTo>
                    <a:lnTo>
                      <a:pt x="1508" y="1948"/>
                    </a:lnTo>
                    <a:lnTo>
                      <a:pt x="1514" y="1937"/>
                    </a:lnTo>
                    <a:lnTo>
                      <a:pt x="1521" y="1925"/>
                    </a:lnTo>
                    <a:lnTo>
                      <a:pt x="1527" y="1914"/>
                    </a:lnTo>
                    <a:lnTo>
                      <a:pt x="1533" y="1902"/>
                    </a:lnTo>
                    <a:lnTo>
                      <a:pt x="1537" y="1889"/>
                    </a:lnTo>
                    <a:lnTo>
                      <a:pt x="1542" y="1869"/>
                    </a:lnTo>
                    <a:lnTo>
                      <a:pt x="1545" y="1848"/>
                    </a:lnTo>
                    <a:lnTo>
                      <a:pt x="1549" y="1827"/>
                    </a:lnTo>
                    <a:lnTo>
                      <a:pt x="1551" y="1805"/>
                    </a:lnTo>
                    <a:lnTo>
                      <a:pt x="1554" y="1785"/>
                    </a:lnTo>
                    <a:lnTo>
                      <a:pt x="1555" y="1763"/>
                    </a:lnTo>
                    <a:lnTo>
                      <a:pt x="1555" y="1742"/>
                    </a:lnTo>
                    <a:lnTo>
                      <a:pt x="1554" y="1720"/>
                    </a:lnTo>
                    <a:lnTo>
                      <a:pt x="1554" y="1707"/>
                    </a:lnTo>
                    <a:lnTo>
                      <a:pt x="1551" y="1694"/>
                    </a:lnTo>
                    <a:lnTo>
                      <a:pt x="1549" y="1679"/>
                    </a:lnTo>
                    <a:lnTo>
                      <a:pt x="1545" y="1666"/>
                    </a:lnTo>
                    <a:lnTo>
                      <a:pt x="1542" y="1653"/>
                    </a:lnTo>
                    <a:lnTo>
                      <a:pt x="1537" y="1640"/>
                    </a:lnTo>
                    <a:lnTo>
                      <a:pt x="1531" y="1628"/>
                    </a:lnTo>
                    <a:lnTo>
                      <a:pt x="1525" y="1616"/>
                    </a:lnTo>
                    <a:lnTo>
                      <a:pt x="1520" y="1608"/>
                    </a:lnTo>
                    <a:lnTo>
                      <a:pt x="1515" y="1601"/>
                    </a:lnTo>
                    <a:lnTo>
                      <a:pt x="1509" y="1594"/>
                    </a:lnTo>
                    <a:lnTo>
                      <a:pt x="1503" y="1588"/>
                    </a:lnTo>
                    <a:lnTo>
                      <a:pt x="1496" y="1583"/>
                    </a:lnTo>
                    <a:lnTo>
                      <a:pt x="1489" y="1580"/>
                    </a:lnTo>
                    <a:lnTo>
                      <a:pt x="1481" y="1576"/>
                    </a:lnTo>
                    <a:lnTo>
                      <a:pt x="1472" y="1575"/>
                    </a:lnTo>
                    <a:lnTo>
                      <a:pt x="1463" y="1575"/>
                    </a:lnTo>
                    <a:lnTo>
                      <a:pt x="1453" y="1576"/>
                    </a:lnTo>
                    <a:lnTo>
                      <a:pt x="1443" y="1578"/>
                    </a:lnTo>
                    <a:lnTo>
                      <a:pt x="1435" y="1581"/>
                    </a:lnTo>
                    <a:lnTo>
                      <a:pt x="1425" y="1586"/>
                    </a:lnTo>
                    <a:lnTo>
                      <a:pt x="1417" y="1590"/>
                    </a:lnTo>
                    <a:lnTo>
                      <a:pt x="1410" y="1598"/>
                    </a:lnTo>
                    <a:lnTo>
                      <a:pt x="1403" y="1604"/>
                    </a:lnTo>
                    <a:lnTo>
                      <a:pt x="1393" y="1616"/>
                    </a:lnTo>
                    <a:lnTo>
                      <a:pt x="1386" y="1628"/>
                    </a:lnTo>
                    <a:lnTo>
                      <a:pt x="1379" y="1641"/>
                    </a:lnTo>
                    <a:lnTo>
                      <a:pt x="1373" y="1654"/>
                    </a:lnTo>
                    <a:lnTo>
                      <a:pt x="1368" y="1668"/>
                    </a:lnTo>
                    <a:lnTo>
                      <a:pt x="1362" y="1682"/>
                    </a:lnTo>
                    <a:lnTo>
                      <a:pt x="1356" y="1696"/>
                    </a:lnTo>
                    <a:lnTo>
                      <a:pt x="1350" y="1709"/>
                    </a:lnTo>
                    <a:lnTo>
                      <a:pt x="1339" y="1730"/>
                    </a:lnTo>
                    <a:lnTo>
                      <a:pt x="1328" y="1751"/>
                    </a:lnTo>
                    <a:lnTo>
                      <a:pt x="1319" y="1773"/>
                    </a:lnTo>
                    <a:lnTo>
                      <a:pt x="1308" y="1794"/>
                    </a:lnTo>
                    <a:lnTo>
                      <a:pt x="1297" y="1816"/>
                    </a:lnTo>
                    <a:lnTo>
                      <a:pt x="1286" y="1836"/>
                    </a:lnTo>
                    <a:lnTo>
                      <a:pt x="1274" y="1858"/>
                    </a:lnTo>
                    <a:lnTo>
                      <a:pt x="1262" y="1878"/>
                    </a:lnTo>
                    <a:lnTo>
                      <a:pt x="1250" y="1896"/>
                    </a:lnTo>
                    <a:lnTo>
                      <a:pt x="1238" y="1916"/>
                    </a:lnTo>
                    <a:lnTo>
                      <a:pt x="1226" y="1934"/>
                    </a:lnTo>
                    <a:lnTo>
                      <a:pt x="1214" y="1952"/>
                    </a:lnTo>
                    <a:lnTo>
                      <a:pt x="1201" y="1970"/>
                    </a:lnTo>
                    <a:lnTo>
                      <a:pt x="1187" y="1986"/>
                    </a:lnTo>
                    <a:lnTo>
                      <a:pt x="1172" y="2002"/>
                    </a:lnTo>
                    <a:lnTo>
                      <a:pt x="1157" y="2018"/>
                    </a:lnTo>
                    <a:lnTo>
                      <a:pt x="1141" y="2033"/>
                    </a:lnTo>
                    <a:lnTo>
                      <a:pt x="1124" y="2048"/>
                    </a:lnTo>
                    <a:lnTo>
                      <a:pt x="1106" y="2061"/>
                    </a:lnTo>
                    <a:lnTo>
                      <a:pt x="1088" y="2073"/>
                    </a:lnTo>
                    <a:lnTo>
                      <a:pt x="1069" y="2085"/>
                    </a:lnTo>
                    <a:lnTo>
                      <a:pt x="1050" y="2097"/>
                    </a:lnTo>
                    <a:lnTo>
                      <a:pt x="1031" y="2107"/>
                    </a:lnTo>
                    <a:lnTo>
                      <a:pt x="1011" y="2117"/>
                    </a:lnTo>
                    <a:lnTo>
                      <a:pt x="996" y="2124"/>
                    </a:lnTo>
                    <a:lnTo>
                      <a:pt x="980" y="2130"/>
                    </a:lnTo>
                    <a:lnTo>
                      <a:pt x="965" y="2135"/>
                    </a:lnTo>
                    <a:lnTo>
                      <a:pt x="949" y="2140"/>
                    </a:lnTo>
                    <a:lnTo>
                      <a:pt x="932" y="2143"/>
                    </a:lnTo>
                    <a:lnTo>
                      <a:pt x="915" y="2147"/>
                    </a:lnTo>
                    <a:lnTo>
                      <a:pt x="899" y="2149"/>
                    </a:lnTo>
                    <a:lnTo>
                      <a:pt x="883" y="2152"/>
                    </a:lnTo>
                    <a:lnTo>
                      <a:pt x="877" y="2153"/>
                    </a:lnTo>
                    <a:lnTo>
                      <a:pt x="870" y="2153"/>
                    </a:lnTo>
                    <a:lnTo>
                      <a:pt x="864" y="2153"/>
                    </a:lnTo>
                    <a:lnTo>
                      <a:pt x="857" y="2152"/>
                    </a:lnTo>
                    <a:lnTo>
                      <a:pt x="851" y="2151"/>
                    </a:lnTo>
                    <a:lnTo>
                      <a:pt x="845" y="2148"/>
                    </a:lnTo>
                    <a:lnTo>
                      <a:pt x="840" y="2145"/>
                    </a:lnTo>
                    <a:lnTo>
                      <a:pt x="836" y="2141"/>
                    </a:lnTo>
                    <a:lnTo>
                      <a:pt x="833" y="2135"/>
                    </a:lnTo>
                    <a:lnTo>
                      <a:pt x="831" y="2129"/>
                    </a:lnTo>
                    <a:lnTo>
                      <a:pt x="831" y="2123"/>
                    </a:lnTo>
                    <a:lnTo>
                      <a:pt x="831" y="2117"/>
                    </a:lnTo>
                    <a:lnTo>
                      <a:pt x="833" y="2111"/>
                    </a:lnTo>
                    <a:lnTo>
                      <a:pt x="835" y="2104"/>
                    </a:lnTo>
                    <a:lnTo>
                      <a:pt x="839" y="2099"/>
                    </a:lnTo>
                    <a:lnTo>
                      <a:pt x="842" y="2094"/>
                    </a:lnTo>
                    <a:lnTo>
                      <a:pt x="854" y="2081"/>
                    </a:lnTo>
                    <a:lnTo>
                      <a:pt x="867" y="2068"/>
                    </a:lnTo>
                    <a:lnTo>
                      <a:pt x="881" y="2057"/>
                    </a:lnTo>
                    <a:lnTo>
                      <a:pt x="895" y="2045"/>
                    </a:lnTo>
                    <a:lnTo>
                      <a:pt x="909" y="2034"/>
                    </a:lnTo>
                    <a:lnTo>
                      <a:pt x="925" y="2024"/>
                    </a:lnTo>
                    <a:lnTo>
                      <a:pt x="939" y="2013"/>
                    </a:lnTo>
                    <a:lnTo>
                      <a:pt x="953" y="2001"/>
                    </a:lnTo>
                    <a:lnTo>
                      <a:pt x="968" y="1986"/>
                    </a:lnTo>
                    <a:lnTo>
                      <a:pt x="985" y="1973"/>
                    </a:lnTo>
                    <a:lnTo>
                      <a:pt x="1002" y="1959"/>
                    </a:lnTo>
                    <a:lnTo>
                      <a:pt x="1017" y="1946"/>
                    </a:lnTo>
                    <a:lnTo>
                      <a:pt x="1033" y="1931"/>
                    </a:lnTo>
                    <a:lnTo>
                      <a:pt x="1049" y="1917"/>
                    </a:lnTo>
                    <a:lnTo>
                      <a:pt x="1063" y="1901"/>
                    </a:lnTo>
                    <a:lnTo>
                      <a:pt x="1075" y="1884"/>
                    </a:lnTo>
                    <a:lnTo>
                      <a:pt x="1087" y="1866"/>
                    </a:lnTo>
                    <a:lnTo>
                      <a:pt x="1099" y="1847"/>
                    </a:lnTo>
                    <a:lnTo>
                      <a:pt x="1110" y="1828"/>
                    </a:lnTo>
                    <a:lnTo>
                      <a:pt x="1119" y="1809"/>
                    </a:lnTo>
                    <a:lnTo>
                      <a:pt x="1128" y="1788"/>
                    </a:lnTo>
                    <a:lnTo>
                      <a:pt x="1135" y="1768"/>
                    </a:lnTo>
                    <a:lnTo>
                      <a:pt x="1141" y="1748"/>
                    </a:lnTo>
                    <a:lnTo>
                      <a:pt x="1146" y="1726"/>
                    </a:lnTo>
                    <a:lnTo>
                      <a:pt x="1146" y="1716"/>
                    </a:lnTo>
                    <a:lnTo>
                      <a:pt x="1146" y="1707"/>
                    </a:lnTo>
                    <a:lnTo>
                      <a:pt x="1143" y="1697"/>
                    </a:lnTo>
                    <a:lnTo>
                      <a:pt x="1140" y="1688"/>
                    </a:lnTo>
                    <a:lnTo>
                      <a:pt x="1136" y="1678"/>
                    </a:lnTo>
                    <a:lnTo>
                      <a:pt x="1130" y="1670"/>
                    </a:lnTo>
                    <a:lnTo>
                      <a:pt x="1123" y="1662"/>
                    </a:lnTo>
                    <a:lnTo>
                      <a:pt x="1116" y="1656"/>
                    </a:lnTo>
                    <a:lnTo>
                      <a:pt x="1110" y="1653"/>
                    </a:lnTo>
                    <a:lnTo>
                      <a:pt x="1104" y="1653"/>
                    </a:lnTo>
                    <a:lnTo>
                      <a:pt x="1097" y="1653"/>
                    </a:lnTo>
                    <a:lnTo>
                      <a:pt x="1089" y="1654"/>
                    </a:lnTo>
                    <a:lnTo>
                      <a:pt x="1083" y="1656"/>
                    </a:lnTo>
                    <a:lnTo>
                      <a:pt x="1076" y="1660"/>
                    </a:lnTo>
                    <a:lnTo>
                      <a:pt x="1069" y="1664"/>
                    </a:lnTo>
                    <a:lnTo>
                      <a:pt x="1064" y="1668"/>
                    </a:lnTo>
                    <a:lnTo>
                      <a:pt x="1058" y="1673"/>
                    </a:lnTo>
                    <a:lnTo>
                      <a:pt x="1053" y="1679"/>
                    </a:lnTo>
                    <a:lnTo>
                      <a:pt x="1050" y="1686"/>
                    </a:lnTo>
                    <a:lnTo>
                      <a:pt x="1046" y="1695"/>
                    </a:lnTo>
                    <a:lnTo>
                      <a:pt x="1043" y="1702"/>
                    </a:lnTo>
                    <a:lnTo>
                      <a:pt x="1039" y="1709"/>
                    </a:lnTo>
                    <a:lnTo>
                      <a:pt x="1034" y="1715"/>
                    </a:lnTo>
                    <a:lnTo>
                      <a:pt x="1028" y="1720"/>
                    </a:lnTo>
                    <a:lnTo>
                      <a:pt x="1017" y="1728"/>
                    </a:lnTo>
                    <a:lnTo>
                      <a:pt x="1005" y="1736"/>
                    </a:lnTo>
                    <a:lnTo>
                      <a:pt x="993" y="1742"/>
                    </a:lnTo>
                    <a:lnTo>
                      <a:pt x="981" y="1748"/>
                    </a:lnTo>
                    <a:lnTo>
                      <a:pt x="968" y="1752"/>
                    </a:lnTo>
                    <a:lnTo>
                      <a:pt x="956" y="1757"/>
                    </a:lnTo>
                    <a:lnTo>
                      <a:pt x="943" y="1760"/>
                    </a:lnTo>
                    <a:lnTo>
                      <a:pt x="930" y="1761"/>
                    </a:lnTo>
                    <a:lnTo>
                      <a:pt x="919" y="1762"/>
                    </a:lnTo>
                    <a:lnTo>
                      <a:pt x="909" y="1761"/>
                    </a:lnTo>
                    <a:lnTo>
                      <a:pt x="899" y="1760"/>
                    </a:lnTo>
                    <a:lnTo>
                      <a:pt x="888" y="1756"/>
                    </a:lnTo>
                    <a:lnTo>
                      <a:pt x="878" y="1752"/>
                    </a:lnTo>
                    <a:lnTo>
                      <a:pt x="871" y="1746"/>
                    </a:lnTo>
                    <a:lnTo>
                      <a:pt x="867" y="1744"/>
                    </a:lnTo>
                    <a:lnTo>
                      <a:pt x="864" y="1740"/>
                    </a:lnTo>
                    <a:lnTo>
                      <a:pt x="861" y="1737"/>
                    </a:lnTo>
                    <a:lnTo>
                      <a:pt x="859" y="1732"/>
                    </a:lnTo>
                    <a:lnTo>
                      <a:pt x="857" y="1725"/>
                    </a:lnTo>
                    <a:lnTo>
                      <a:pt x="855" y="1718"/>
                    </a:lnTo>
                    <a:lnTo>
                      <a:pt x="854" y="1710"/>
                    </a:lnTo>
                    <a:lnTo>
                      <a:pt x="854" y="1703"/>
                    </a:lnTo>
                    <a:lnTo>
                      <a:pt x="855" y="1688"/>
                    </a:lnTo>
                    <a:lnTo>
                      <a:pt x="858" y="1672"/>
                    </a:lnTo>
                    <a:lnTo>
                      <a:pt x="861" y="1656"/>
                    </a:lnTo>
                    <a:lnTo>
                      <a:pt x="865" y="1641"/>
                    </a:lnTo>
                    <a:lnTo>
                      <a:pt x="869" y="1625"/>
                    </a:lnTo>
                    <a:lnTo>
                      <a:pt x="871" y="1610"/>
                    </a:lnTo>
                    <a:lnTo>
                      <a:pt x="872" y="1599"/>
                    </a:lnTo>
                    <a:lnTo>
                      <a:pt x="875" y="1587"/>
                    </a:lnTo>
                    <a:lnTo>
                      <a:pt x="877" y="1576"/>
                    </a:lnTo>
                    <a:lnTo>
                      <a:pt x="879" y="1565"/>
                    </a:lnTo>
                    <a:lnTo>
                      <a:pt x="881" y="1554"/>
                    </a:lnTo>
                    <a:lnTo>
                      <a:pt x="882" y="1542"/>
                    </a:lnTo>
                    <a:lnTo>
                      <a:pt x="881" y="1533"/>
                    </a:lnTo>
                    <a:lnTo>
                      <a:pt x="877" y="1522"/>
                    </a:lnTo>
                    <a:lnTo>
                      <a:pt x="873" y="1516"/>
                    </a:lnTo>
                    <a:lnTo>
                      <a:pt x="867" y="1512"/>
                    </a:lnTo>
                    <a:lnTo>
                      <a:pt x="861" y="1509"/>
                    </a:lnTo>
                    <a:lnTo>
                      <a:pt x="854" y="1506"/>
                    </a:lnTo>
                    <a:lnTo>
                      <a:pt x="847" y="1505"/>
                    </a:lnTo>
                    <a:lnTo>
                      <a:pt x="839" y="1505"/>
                    </a:lnTo>
                    <a:lnTo>
                      <a:pt x="831" y="1505"/>
                    </a:lnTo>
                    <a:lnTo>
                      <a:pt x="824" y="1504"/>
                    </a:lnTo>
                    <a:lnTo>
                      <a:pt x="809" y="1505"/>
                    </a:lnTo>
                    <a:lnTo>
                      <a:pt x="792" y="1508"/>
                    </a:lnTo>
                    <a:lnTo>
                      <a:pt x="776" y="1511"/>
                    </a:lnTo>
                    <a:lnTo>
                      <a:pt x="759" y="1515"/>
                    </a:lnTo>
                    <a:lnTo>
                      <a:pt x="744" y="1518"/>
                    </a:lnTo>
                    <a:lnTo>
                      <a:pt x="728" y="1521"/>
                    </a:lnTo>
                    <a:lnTo>
                      <a:pt x="711" y="1522"/>
                    </a:lnTo>
                    <a:lnTo>
                      <a:pt x="696" y="1522"/>
                    </a:lnTo>
                    <a:lnTo>
                      <a:pt x="681" y="1521"/>
                    </a:lnTo>
                    <a:lnTo>
                      <a:pt x="668" y="1518"/>
                    </a:lnTo>
                    <a:lnTo>
                      <a:pt x="654" y="1515"/>
                    </a:lnTo>
                    <a:lnTo>
                      <a:pt x="641" y="1511"/>
                    </a:lnTo>
                    <a:lnTo>
                      <a:pt x="627" y="1506"/>
                    </a:lnTo>
                    <a:lnTo>
                      <a:pt x="614" y="1500"/>
                    </a:lnTo>
                    <a:lnTo>
                      <a:pt x="602" y="1494"/>
                    </a:lnTo>
                    <a:lnTo>
                      <a:pt x="590" y="1487"/>
                    </a:lnTo>
                    <a:lnTo>
                      <a:pt x="582" y="1480"/>
                    </a:lnTo>
                    <a:lnTo>
                      <a:pt x="576" y="1472"/>
                    </a:lnTo>
                    <a:lnTo>
                      <a:pt x="569" y="1463"/>
                    </a:lnTo>
                    <a:lnTo>
                      <a:pt x="564" y="1454"/>
                    </a:lnTo>
                    <a:lnTo>
                      <a:pt x="558" y="1443"/>
                    </a:lnTo>
                    <a:lnTo>
                      <a:pt x="552" y="1433"/>
                    </a:lnTo>
                    <a:lnTo>
                      <a:pt x="546" y="1425"/>
                    </a:lnTo>
                    <a:lnTo>
                      <a:pt x="537" y="1418"/>
                    </a:lnTo>
                    <a:lnTo>
                      <a:pt x="531" y="1413"/>
                    </a:lnTo>
                    <a:lnTo>
                      <a:pt x="525" y="1408"/>
                    </a:lnTo>
                    <a:lnTo>
                      <a:pt x="518" y="1404"/>
                    </a:lnTo>
                    <a:lnTo>
                      <a:pt x="511" y="1401"/>
                    </a:lnTo>
                    <a:lnTo>
                      <a:pt x="503" y="1398"/>
                    </a:lnTo>
                    <a:lnTo>
                      <a:pt x="495" y="1396"/>
                    </a:lnTo>
                    <a:lnTo>
                      <a:pt x="487" y="1395"/>
                    </a:lnTo>
                    <a:lnTo>
                      <a:pt x="480" y="1394"/>
                    </a:lnTo>
                    <a:lnTo>
                      <a:pt x="461" y="1392"/>
                    </a:lnTo>
                    <a:lnTo>
                      <a:pt x="441" y="1392"/>
                    </a:lnTo>
                    <a:lnTo>
                      <a:pt x="422" y="1394"/>
                    </a:lnTo>
                    <a:lnTo>
                      <a:pt x="404" y="1395"/>
                    </a:lnTo>
                    <a:lnTo>
                      <a:pt x="385" y="1396"/>
                    </a:lnTo>
                    <a:lnTo>
                      <a:pt x="366" y="1397"/>
                    </a:lnTo>
                    <a:lnTo>
                      <a:pt x="347" y="1398"/>
                    </a:lnTo>
                    <a:lnTo>
                      <a:pt x="327" y="1400"/>
                    </a:lnTo>
                    <a:lnTo>
                      <a:pt x="307" y="1401"/>
                    </a:lnTo>
                    <a:lnTo>
                      <a:pt x="285" y="1402"/>
                    </a:lnTo>
                    <a:lnTo>
                      <a:pt x="264" y="1404"/>
                    </a:lnTo>
                    <a:lnTo>
                      <a:pt x="243" y="1406"/>
                    </a:lnTo>
                    <a:lnTo>
                      <a:pt x="222" y="1408"/>
                    </a:lnTo>
                    <a:lnTo>
                      <a:pt x="200" y="1408"/>
                    </a:lnTo>
                    <a:lnTo>
                      <a:pt x="180" y="1408"/>
                    </a:lnTo>
                    <a:lnTo>
                      <a:pt x="158" y="1406"/>
                    </a:lnTo>
                    <a:lnTo>
                      <a:pt x="147" y="1403"/>
                    </a:lnTo>
                    <a:lnTo>
                      <a:pt x="138" y="1400"/>
                    </a:lnTo>
                    <a:lnTo>
                      <a:pt x="128" y="1395"/>
                    </a:lnTo>
                    <a:lnTo>
                      <a:pt x="119" y="1390"/>
                    </a:lnTo>
                    <a:lnTo>
                      <a:pt x="109" y="1384"/>
                    </a:lnTo>
                    <a:lnTo>
                      <a:pt x="99" y="1378"/>
                    </a:lnTo>
                    <a:lnTo>
                      <a:pt x="91" y="1371"/>
                    </a:lnTo>
                    <a:lnTo>
                      <a:pt x="83" y="1365"/>
                    </a:lnTo>
                    <a:lnTo>
                      <a:pt x="74" y="1359"/>
                    </a:lnTo>
                    <a:lnTo>
                      <a:pt x="66" y="1352"/>
                    </a:lnTo>
                    <a:lnTo>
                      <a:pt x="57" y="1346"/>
                    </a:lnTo>
                    <a:lnTo>
                      <a:pt x="49" y="1339"/>
                    </a:lnTo>
                    <a:lnTo>
                      <a:pt x="42" y="1331"/>
                    </a:lnTo>
                    <a:lnTo>
                      <a:pt x="35" y="1324"/>
                    </a:lnTo>
                    <a:lnTo>
                      <a:pt x="29" y="1316"/>
                    </a:lnTo>
                    <a:lnTo>
                      <a:pt x="24" y="1306"/>
                    </a:lnTo>
                    <a:lnTo>
                      <a:pt x="21" y="1300"/>
                    </a:lnTo>
                    <a:lnTo>
                      <a:pt x="20" y="1292"/>
                    </a:lnTo>
                    <a:lnTo>
                      <a:pt x="20" y="1285"/>
                    </a:lnTo>
                    <a:lnTo>
                      <a:pt x="21" y="1277"/>
                    </a:lnTo>
                    <a:lnTo>
                      <a:pt x="23" y="1270"/>
                    </a:lnTo>
                    <a:lnTo>
                      <a:pt x="26" y="1263"/>
                    </a:lnTo>
                    <a:lnTo>
                      <a:pt x="30" y="1258"/>
                    </a:lnTo>
                    <a:lnTo>
                      <a:pt x="36" y="1253"/>
                    </a:lnTo>
                    <a:lnTo>
                      <a:pt x="49" y="1247"/>
                    </a:lnTo>
                    <a:lnTo>
                      <a:pt x="63" y="1244"/>
                    </a:lnTo>
                    <a:lnTo>
                      <a:pt x="78" y="1240"/>
                    </a:lnTo>
                    <a:lnTo>
                      <a:pt x="92" y="1239"/>
                    </a:lnTo>
                    <a:lnTo>
                      <a:pt x="108" y="1238"/>
                    </a:lnTo>
                    <a:lnTo>
                      <a:pt x="122" y="1237"/>
                    </a:lnTo>
                    <a:lnTo>
                      <a:pt x="138" y="1237"/>
                    </a:lnTo>
                    <a:lnTo>
                      <a:pt x="152" y="1237"/>
                    </a:lnTo>
                    <a:lnTo>
                      <a:pt x="177" y="1237"/>
                    </a:lnTo>
                    <a:lnTo>
                      <a:pt x="203" y="1237"/>
                    </a:lnTo>
                    <a:lnTo>
                      <a:pt x="227" y="1238"/>
                    </a:lnTo>
                    <a:lnTo>
                      <a:pt x="252" y="1240"/>
                    </a:lnTo>
                    <a:lnTo>
                      <a:pt x="277" y="1241"/>
                    </a:lnTo>
                    <a:lnTo>
                      <a:pt x="301" y="1243"/>
                    </a:lnTo>
                    <a:lnTo>
                      <a:pt x="326" y="1243"/>
                    </a:lnTo>
                    <a:lnTo>
                      <a:pt x="351" y="1243"/>
                    </a:lnTo>
                    <a:lnTo>
                      <a:pt x="366" y="1240"/>
                    </a:lnTo>
                    <a:lnTo>
                      <a:pt x="380" y="1238"/>
                    </a:lnTo>
                    <a:lnTo>
                      <a:pt x="396" y="1234"/>
                    </a:lnTo>
                    <a:lnTo>
                      <a:pt x="410" y="1229"/>
                    </a:lnTo>
                    <a:lnTo>
                      <a:pt x="425" y="1226"/>
                    </a:lnTo>
                    <a:lnTo>
                      <a:pt x="439" y="1221"/>
                    </a:lnTo>
                    <a:lnTo>
                      <a:pt x="453" y="1216"/>
                    </a:lnTo>
                    <a:lnTo>
                      <a:pt x="468" y="1213"/>
                    </a:lnTo>
                    <a:lnTo>
                      <a:pt x="477" y="1210"/>
                    </a:lnTo>
                    <a:lnTo>
                      <a:pt x="487" y="1207"/>
                    </a:lnTo>
                    <a:lnTo>
                      <a:pt x="497" y="1203"/>
                    </a:lnTo>
                    <a:lnTo>
                      <a:pt x="506" y="1201"/>
                    </a:lnTo>
                    <a:lnTo>
                      <a:pt x="516" y="1197"/>
                    </a:lnTo>
                    <a:lnTo>
                      <a:pt x="524" y="1196"/>
                    </a:lnTo>
                    <a:lnTo>
                      <a:pt x="534" y="1195"/>
                    </a:lnTo>
                    <a:lnTo>
                      <a:pt x="543" y="1196"/>
                    </a:lnTo>
                    <a:lnTo>
                      <a:pt x="563" y="1199"/>
                    </a:lnTo>
                    <a:lnTo>
                      <a:pt x="581" y="1205"/>
                    </a:lnTo>
                    <a:lnTo>
                      <a:pt x="599" y="1213"/>
                    </a:lnTo>
                    <a:lnTo>
                      <a:pt x="615" y="1220"/>
                    </a:lnTo>
                    <a:lnTo>
                      <a:pt x="632" y="1228"/>
                    </a:lnTo>
                    <a:lnTo>
                      <a:pt x="650" y="1237"/>
                    </a:lnTo>
                    <a:lnTo>
                      <a:pt x="667" y="1245"/>
                    </a:lnTo>
                    <a:lnTo>
                      <a:pt x="684" y="1253"/>
                    </a:lnTo>
                    <a:lnTo>
                      <a:pt x="698" y="1262"/>
                    </a:lnTo>
                    <a:lnTo>
                      <a:pt x="711" y="1270"/>
                    </a:lnTo>
                    <a:lnTo>
                      <a:pt x="726" y="1279"/>
                    </a:lnTo>
                    <a:lnTo>
                      <a:pt x="739" y="1287"/>
                    </a:lnTo>
                    <a:lnTo>
                      <a:pt x="752" y="1297"/>
                    </a:lnTo>
                    <a:lnTo>
                      <a:pt x="767" y="1305"/>
                    </a:lnTo>
                    <a:lnTo>
                      <a:pt x="780" y="1312"/>
                    </a:lnTo>
                    <a:lnTo>
                      <a:pt x="795" y="1318"/>
                    </a:lnTo>
                    <a:lnTo>
                      <a:pt x="807" y="1322"/>
                    </a:lnTo>
                    <a:lnTo>
                      <a:pt x="819" y="1327"/>
                    </a:lnTo>
                    <a:lnTo>
                      <a:pt x="833" y="1330"/>
                    </a:lnTo>
                    <a:lnTo>
                      <a:pt x="846" y="1334"/>
                    </a:lnTo>
                    <a:lnTo>
                      <a:pt x="858" y="1335"/>
                    </a:lnTo>
                    <a:lnTo>
                      <a:pt x="871" y="1336"/>
                    </a:lnTo>
                    <a:lnTo>
                      <a:pt x="877" y="1335"/>
                    </a:lnTo>
                    <a:lnTo>
                      <a:pt x="883" y="1334"/>
                    </a:lnTo>
                    <a:lnTo>
                      <a:pt x="889" y="1333"/>
                    </a:lnTo>
                    <a:lnTo>
                      <a:pt x="894" y="1330"/>
                    </a:lnTo>
                    <a:lnTo>
                      <a:pt x="899" y="1327"/>
                    </a:lnTo>
                    <a:lnTo>
                      <a:pt x="902" y="1324"/>
                    </a:lnTo>
                    <a:lnTo>
                      <a:pt x="906" y="1321"/>
                    </a:lnTo>
                    <a:lnTo>
                      <a:pt x="909" y="1317"/>
                    </a:lnTo>
                    <a:lnTo>
                      <a:pt x="914" y="1307"/>
                    </a:lnTo>
                    <a:lnTo>
                      <a:pt x="918" y="1298"/>
                    </a:lnTo>
                    <a:lnTo>
                      <a:pt x="921" y="1287"/>
                    </a:lnTo>
                    <a:lnTo>
                      <a:pt x="923" y="1275"/>
                    </a:lnTo>
                    <a:lnTo>
                      <a:pt x="924" y="1264"/>
                    </a:lnTo>
                    <a:lnTo>
                      <a:pt x="924" y="1253"/>
                    </a:lnTo>
                    <a:lnTo>
                      <a:pt x="923" y="1243"/>
                    </a:lnTo>
                    <a:lnTo>
                      <a:pt x="920" y="1232"/>
                    </a:lnTo>
                    <a:lnTo>
                      <a:pt x="917" y="1221"/>
                    </a:lnTo>
                    <a:lnTo>
                      <a:pt x="912" y="1211"/>
                    </a:lnTo>
                    <a:lnTo>
                      <a:pt x="907" y="1201"/>
                    </a:lnTo>
                    <a:lnTo>
                      <a:pt x="901" y="1191"/>
                    </a:lnTo>
                    <a:lnTo>
                      <a:pt x="895" y="1181"/>
                    </a:lnTo>
                    <a:lnTo>
                      <a:pt x="889" y="1172"/>
                    </a:lnTo>
                    <a:lnTo>
                      <a:pt x="877" y="1155"/>
                    </a:lnTo>
                    <a:lnTo>
                      <a:pt x="865" y="1139"/>
                    </a:lnTo>
                    <a:lnTo>
                      <a:pt x="853" y="1123"/>
                    </a:lnTo>
                    <a:lnTo>
                      <a:pt x="840" y="1107"/>
                    </a:lnTo>
                    <a:lnTo>
                      <a:pt x="827" y="1093"/>
                    </a:lnTo>
                    <a:lnTo>
                      <a:pt x="812" y="1077"/>
                    </a:lnTo>
                    <a:lnTo>
                      <a:pt x="798" y="1063"/>
                    </a:lnTo>
                    <a:lnTo>
                      <a:pt x="783" y="1049"/>
                    </a:lnTo>
                    <a:lnTo>
                      <a:pt x="765" y="1034"/>
                    </a:lnTo>
                    <a:lnTo>
                      <a:pt x="746" y="1019"/>
                    </a:lnTo>
                    <a:lnTo>
                      <a:pt x="727" y="1006"/>
                    </a:lnTo>
                    <a:lnTo>
                      <a:pt x="708" y="992"/>
                    </a:lnTo>
                    <a:lnTo>
                      <a:pt x="687" y="980"/>
                    </a:lnTo>
                    <a:lnTo>
                      <a:pt x="667" y="967"/>
                    </a:lnTo>
                    <a:lnTo>
                      <a:pt x="647" y="956"/>
                    </a:lnTo>
                    <a:lnTo>
                      <a:pt x="626" y="945"/>
                    </a:lnTo>
                    <a:lnTo>
                      <a:pt x="611" y="938"/>
                    </a:lnTo>
                    <a:lnTo>
                      <a:pt x="595" y="931"/>
                    </a:lnTo>
                    <a:lnTo>
                      <a:pt x="579" y="926"/>
                    </a:lnTo>
                    <a:lnTo>
                      <a:pt x="563" y="920"/>
                    </a:lnTo>
                    <a:lnTo>
                      <a:pt x="547" y="916"/>
                    </a:lnTo>
                    <a:lnTo>
                      <a:pt x="530" y="911"/>
                    </a:lnTo>
                    <a:lnTo>
                      <a:pt x="513" y="908"/>
                    </a:lnTo>
                    <a:lnTo>
                      <a:pt x="497" y="904"/>
                    </a:lnTo>
                    <a:lnTo>
                      <a:pt x="482" y="901"/>
                    </a:lnTo>
                    <a:lnTo>
                      <a:pt x="468" y="897"/>
                    </a:lnTo>
                    <a:lnTo>
                      <a:pt x="453" y="895"/>
                    </a:lnTo>
                    <a:lnTo>
                      <a:pt x="439" y="891"/>
                    </a:lnTo>
                    <a:lnTo>
                      <a:pt x="425" y="890"/>
                    </a:lnTo>
                    <a:lnTo>
                      <a:pt x="410" y="887"/>
                    </a:lnTo>
                    <a:lnTo>
                      <a:pt x="395" y="886"/>
                    </a:lnTo>
                    <a:lnTo>
                      <a:pt x="380" y="886"/>
                    </a:lnTo>
                    <a:lnTo>
                      <a:pt x="371" y="886"/>
                    </a:lnTo>
                    <a:lnTo>
                      <a:pt x="361" y="887"/>
                    </a:lnTo>
                    <a:lnTo>
                      <a:pt x="351" y="889"/>
                    </a:lnTo>
                    <a:lnTo>
                      <a:pt x="342" y="891"/>
                    </a:lnTo>
                    <a:lnTo>
                      <a:pt x="332" y="893"/>
                    </a:lnTo>
                    <a:lnTo>
                      <a:pt x="323" y="896"/>
                    </a:lnTo>
                    <a:lnTo>
                      <a:pt x="313" y="899"/>
                    </a:lnTo>
                    <a:lnTo>
                      <a:pt x="305" y="904"/>
                    </a:lnTo>
                    <a:lnTo>
                      <a:pt x="295" y="909"/>
                    </a:lnTo>
                    <a:lnTo>
                      <a:pt x="288" y="915"/>
                    </a:lnTo>
                    <a:lnTo>
                      <a:pt x="279" y="922"/>
                    </a:lnTo>
                    <a:lnTo>
                      <a:pt x="272" y="929"/>
                    </a:lnTo>
                    <a:lnTo>
                      <a:pt x="265" y="937"/>
                    </a:lnTo>
                    <a:lnTo>
                      <a:pt x="257" y="944"/>
                    </a:lnTo>
                    <a:lnTo>
                      <a:pt x="248" y="951"/>
                    </a:lnTo>
                    <a:lnTo>
                      <a:pt x="240" y="956"/>
                    </a:lnTo>
                    <a:lnTo>
                      <a:pt x="227" y="963"/>
                    </a:lnTo>
                    <a:lnTo>
                      <a:pt x="212" y="970"/>
                    </a:lnTo>
                    <a:lnTo>
                      <a:pt x="198" y="977"/>
                    </a:lnTo>
                    <a:lnTo>
                      <a:pt x="183" y="983"/>
                    </a:lnTo>
                    <a:lnTo>
                      <a:pt x="169" y="989"/>
                    </a:lnTo>
                    <a:lnTo>
                      <a:pt x="153" y="994"/>
                    </a:lnTo>
                    <a:lnTo>
                      <a:pt x="139" y="999"/>
                    </a:lnTo>
                    <a:lnTo>
                      <a:pt x="123" y="1003"/>
                    </a:lnTo>
                    <a:lnTo>
                      <a:pt x="117" y="1004"/>
                    </a:lnTo>
                    <a:lnTo>
                      <a:pt x="111" y="1004"/>
                    </a:lnTo>
                    <a:lnTo>
                      <a:pt x="107" y="1004"/>
                    </a:lnTo>
                    <a:lnTo>
                      <a:pt x="101" y="1003"/>
                    </a:lnTo>
                    <a:lnTo>
                      <a:pt x="95" y="1001"/>
                    </a:lnTo>
                    <a:lnTo>
                      <a:pt x="90" y="999"/>
                    </a:lnTo>
                    <a:lnTo>
                      <a:pt x="85" y="995"/>
                    </a:lnTo>
                    <a:lnTo>
                      <a:pt x="83" y="991"/>
                    </a:lnTo>
                    <a:lnTo>
                      <a:pt x="79" y="983"/>
                    </a:lnTo>
                    <a:lnTo>
                      <a:pt x="77" y="976"/>
                    </a:lnTo>
                    <a:lnTo>
                      <a:pt x="74" y="968"/>
                    </a:lnTo>
                    <a:lnTo>
                      <a:pt x="74" y="958"/>
                    </a:lnTo>
                    <a:lnTo>
                      <a:pt x="74" y="950"/>
                    </a:lnTo>
                    <a:lnTo>
                      <a:pt x="75" y="941"/>
                    </a:lnTo>
                    <a:lnTo>
                      <a:pt x="79" y="934"/>
                    </a:lnTo>
                    <a:lnTo>
                      <a:pt x="83" y="927"/>
                    </a:lnTo>
                    <a:lnTo>
                      <a:pt x="95" y="910"/>
                    </a:lnTo>
                    <a:lnTo>
                      <a:pt x="107" y="895"/>
                    </a:lnTo>
                    <a:lnTo>
                      <a:pt x="121" y="880"/>
                    </a:lnTo>
                    <a:lnTo>
                      <a:pt x="135" y="866"/>
                    </a:lnTo>
                    <a:lnTo>
                      <a:pt x="151" y="853"/>
                    </a:lnTo>
                    <a:lnTo>
                      <a:pt x="167" y="841"/>
                    </a:lnTo>
                    <a:lnTo>
                      <a:pt x="182" y="827"/>
                    </a:lnTo>
                    <a:lnTo>
                      <a:pt x="199" y="817"/>
                    </a:lnTo>
                    <a:lnTo>
                      <a:pt x="211" y="808"/>
                    </a:lnTo>
                    <a:lnTo>
                      <a:pt x="222" y="802"/>
                    </a:lnTo>
                    <a:lnTo>
                      <a:pt x="234" y="796"/>
                    </a:lnTo>
                    <a:lnTo>
                      <a:pt x="247" y="790"/>
                    </a:lnTo>
                    <a:lnTo>
                      <a:pt x="259" y="785"/>
                    </a:lnTo>
                    <a:lnTo>
                      <a:pt x="272" y="782"/>
                    </a:lnTo>
                    <a:lnTo>
                      <a:pt x="285" y="778"/>
                    </a:lnTo>
                    <a:lnTo>
                      <a:pt x="299" y="776"/>
                    </a:lnTo>
                    <a:lnTo>
                      <a:pt x="315" y="772"/>
                    </a:lnTo>
                    <a:lnTo>
                      <a:pt x="333" y="771"/>
                    </a:lnTo>
                    <a:lnTo>
                      <a:pt x="350" y="770"/>
                    </a:lnTo>
                    <a:lnTo>
                      <a:pt x="368" y="769"/>
                    </a:lnTo>
                    <a:lnTo>
                      <a:pt x="386" y="769"/>
                    </a:lnTo>
                    <a:lnTo>
                      <a:pt x="403" y="769"/>
                    </a:lnTo>
                    <a:lnTo>
                      <a:pt x="421" y="770"/>
                    </a:lnTo>
                    <a:lnTo>
                      <a:pt x="439" y="770"/>
                    </a:lnTo>
                    <a:lnTo>
                      <a:pt x="463" y="770"/>
                    </a:lnTo>
                    <a:lnTo>
                      <a:pt x="488" y="770"/>
                    </a:lnTo>
                    <a:lnTo>
                      <a:pt x="513" y="770"/>
                    </a:lnTo>
                    <a:lnTo>
                      <a:pt x="539" y="771"/>
                    </a:lnTo>
                    <a:lnTo>
                      <a:pt x="563" y="772"/>
                    </a:lnTo>
                    <a:lnTo>
                      <a:pt x="588" y="773"/>
                    </a:lnTo>
                    <a:lnTo>
                      <a:pt x="613" y="775"/>
                    </a:lnTo>
                    <a:lnTo>
                      <a:pt x="637" y="776"/>
                    </a:lnTo>
                    <a:lnTo>
                      <a:pt x="655" y="777"/>
                    </a:lnTo>
                    <a:lnTo>
                      <a:pt x="674" y="778"/>
                    </a:lnTo>
                    <a:lnTo>
                      <a:pt x="692" y="781"/>
                    </a:lnTo>
                    <a:lnTo>
                      <a:pt x="710" y="782"/>
                    </a:lnTo>
                    <a:lnTo>
                      <a:pt x="728" y="784"/>
                    </a:lnTo>
                    <a:lnTo>
                      <a:pt x="746" y="785"/>
                    </a:lnTo>
                    <a:lnTo>
                      <a:pt x="765" y="787"/>
                    </a:lnTo>
                    <a:lnTo>
                      <a:pt x="783" y="787"/>
                    </a:lnTo>
                    <a:lnTo>
                      <a:pt x="794" y="787"/>
                    </a:lnTo>
                    <a:lnTo>
                      <a:pt x="805" y="788"/>
                    </a:lnTo>
                    <a:lnTo>
                      <a:pt x="816" y="788"/>
                    </a:lnTo>
                    <a:lnTo>
                      <a:pt x="827" y="788"/>
                    </a:lnTo>
                    <a:lnTo>
                      <a:pt x="837" y="787"/>
                    </a:lnTo>
                    <a:lnTo>
                      <a:pt x="847" y="784"/>
                    </a:lnTo>
                    <a:lnTo>
                      <a:pt x="857" y="781"/>
                    </a:lnTo>
                    <a:lnTo>
                      <a:pt x="865" y="776"/>
                    </a:lnTo>
                    <a:close/>
                  </a:path>
                </a:pathLst>
              </a:custGeom>
              <a:solidFill>
                <a:srgbClr val="df9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73880" y="3900600"/>
                <a:ext cx="996480" cy="858600"/>
              </a:xfrm>
              <a:custGeom>
                <a:avLst/>
                <a:gdLst/>
                <a:ahLst/>
                <a:rect l="l" t="t" r="r" b="b"/>
                <a:pathLst>
                  <a:path w="2513" h="2163">
                    <a:moveTo>
                      <a:pt x="860" y="770"/>
                    </a:moveTo>
                    <a:lnTo>
                      <a:pt x="867" y="762"/>
                    </a:lnTo>
                    <a:lnTo>
                      <a:pt x="873" y="752"/>
                    </a:lnTo>
                    <a:lnTo>
                      <a:pt x="879" y="741"/>
                    </a:lnTo>
                    <a:lnTo>
                      <a:pt x="882" y="731"/>
                    </a:lnTo>
                    <a:lnTo>
                      <a:pt x="885" y="719"/>
                    </a:lnTo>
                    <a:lnTo>
                      <a:pt x="887" y="707"/>
                    </a:lnTo>
                    <a:lnTo>
                      <a:pt x="888" y="695"/>
                    </a:lnTo>
                    <a:lnTo>
                      <a:pt x="888" y="683"/>
                    </a:lnTo>
                    <a:lnTo>
                      <a:pt x="887" y="669"/>
                    </a:lnTo>
                    <a:lnTo>
                      <a:pt x="887" y="655"/>
                    </a:lnTo>
                    <a:lnTo>
                      <a:pt x="885" y="642"/>
                    </a:lnTo>
                    <a:lnTo>
                      <a:pt x="882" y="627"/>
                    </a:lnTo>
                    <a:lnTo>
                      <a:pt x="878" y="614"/>
                    </a:lnTo>
                    <a:lnTo>
                      <a:pt x="873" y="602"/>
                    </a:lnTo>
                    <a:lnTo>
                      <a:pt x="867" y="590"/>
                    </a:lnTo>
                    <a:lnTo>
                      <a:pt x="860" y="578"/>
                    </a:lnTo>
                    <a:lnTo>
                      <a:pt x="851" y="570"/>
                    </a:lnTo>
                    <a:lnTo>
                      <a:pt x="842" y="563"/>
                    </a:lnTo>
                    <a:lnTo>
                      <a:pt x="831" y="557"/>
                    </a:lnTo>
                    <a:lnTo>
                      <a:pt x="819" y="551"/>
                    </a:lnTo>
                    <a:lnTo>
                      <a:pt x="808" y="546"/>
                    </a:lnTo>
                    <a:lnTo>
                      <a:pt x="796" y="542"/>
                    </a:lnTo>
                    <a:lnTo>
                      <a:pt x="784" y="538"/>
                    </a:lnTo>
                    <a:lnTo>
                      <a:pt x="772" y="533"/>
                    </a:lnTo>
                    <a:lnTo>
                      <a:pt x="759" y="526"/>
                    </a:lnTo>
                    <a:lnTo>
                      <a:pt x="746" y="520"/>
                    </a:lnTo>
                    <a:lnTo>
                      <a:pt x="731" y="514"/>
                    </a:lnTo>
                    <a:lnTo>
                      <a:pt x="718" y="508"/>
                    </a:lnTo>
                    <a:lnTo>
                      <a:pt x="704" y="502"/>
                    </a:lnTo>
                    <a:lnTo>
                      <a:pt x="690" y="496"/>
                    </a:lnTo>
                    <a:lnTo>
                      <a:pt x="676" y="491"/>
                    </a:lnTo>
                    <a:lnTo>
                      <a:pt x="662" y="486"/>
                    </a:lnTo>
                    <a:lnTo>
                      <a:pt x="646" y="481"/>
                    </a:lnTo>
                    <a:lnTo>
                      <a:pt x="630" y="479"/>
                    </a:lnTo>
                    <a:lnTo>
                      <a:pt x="614" y="475"/>
                    </a:lnTo>
                    <a:lnTo>
                      <a:pt x="598" y="473"/>
                    </a:lnTo>
                    <a:lnTo>
                      <a:pt x="581" y="470"/>
                    </a:lnTo>
                    <a:lnTo>
                      <a:pt x="566" y="467"/>
                    </a:lnTo>
                    <a:lnTo>
                      <a:pt x="550" y="462"/>
                    </a:lnTo>
                    <a:lnTo>
                      <a:pt x="534" y="457"/>
                    </a:lnTo>
                    <a:lnTo>
                      <a:pt x="522" y="451"/>
                    </a:lnTo>
                    <a:lnTo>
                      <a:pt x="510" y="445"/>
                    </a:lnTo>
                    <a:lnTo>
                      <a:pt x="498" y="439"/>
                    </a:lnTo>
                    <a:lnTo>
                      <a:pt x="486" y="432"/>
                    </a:lnTo>
                    <a:lnTo>
                      <a:pt x="474" y="424"/>
                    </a:lnTo>
                    <a:lnTo>
                      <a:pt x="464" y="416"/>
                    </a:lnTo>
                    <a:lnTo>
                      <a:pt x="453" y="408"/>
                    </a:lnTo>
                    <a:lnTo>
                      <a:pt x="442" y="400"/>
                    </a:lnTo>
                    <a:lnTo>
                      <a:pt x="423" y="384"/>
                    </a:lnTo>
                    <a:lnTo>
                      <a:pt x="405" y="368"/>
                    </a:lnTo>
                    <a:lnTo>
                      <a:pt x="387" y="352"/>
                    </a:lnTo>
                    <a:lnTo>
                      <a:pt x="369" y="336"/>
                    </a:lnTo>
                    <a:lnTo>
                      <a:pt x="352" y="319"/>
                    </a:lnTo>
                    <a:lnTo>
                      <a:pt x="334" y="304"/>
                    </a:lnTo>
                    <a:lnTo>
                      <a:pt x="316" y="287"/>
                    </a:lnTo>
                    <a:lnTo>
                      <a:pt x="297" y="271"/>
                    </a:lnTo>
                    <a:lnTo>
                      <a:pt x="280" y="259"/>
                    </a:lnTo>
                    <a:lnTo>
                      <a:pt x="263" y="246"/>
                    </a:lnTo>
                    <a:lnTo>
                      <a:pt x="246" y="233"/>
                    </a:lnTo>
                    <a:lnTo>
                      <a:pt x="228" y="221"/>
                    </a:lnTo>
                    <a:lnTo>
                      <a:pt x="212" y="208"/>
                    </a:lnTo>
                    <a:lnTo>
                      <a:pt x="194" y="197"/>
                    </a:lnTo>
                    <a:lnTo>
                      <a:pt x="176" y="185"/>
                    </a:lnTo>
                    <a:lnTo>
                      <a:pt x="158" y="173"/>
                    </a:lnTo>
                    <a:lnTo>
                      <a:pt x="146" y="167"/>
                    </a:lnTo>
                    <a:lnTo>
                      <a:pt x="134" y="161"/>
                    </a:lnTo>
                    <a:lnTo>
                      <a:pt x="120" y="156"/>
                    </a:lnTo>
                    <a:lnTo>
                      <a:pt x="108" y="151"/>
                    </a:lnTo>
                    <a:lnTo>
                      <a:pt x="95" y="145"/>
                    </a:lnTo>
                    <a:lnTo>
                      <a:pt x="83" y="140"/>
                    </a:lnTo>
                    <a:lnTo>
                      <a:pt x="71" y="134"/>
                    </a:lnTo>
                    <a:lnTo>
                      <a:pt x="59" y="127"/>
                    </a:lnTo>
                    <a:lnTo>
                      <a:pt x="51" y="121"/>
                    </a:lnTo>
                    <a:lnTo>
                      <a:pt x="41" y="115"/>
                    </a:lnTo>
                    <a:lnTo>
                      <a:pt x="33" y="109"/>
                    </a:lnTo>
                    <a:lnTo>
                      <a:pt x="24" y="102"/>
                    </a:lnTo>
                    <a:lnTo>
                      <a:pt x="17" y="95"/>
                    </a:lnTo>
                    <a:lnTo>
                      <a:pt x="11" y="86"/>
                    </a:lnTo>
                    <a:lnTo>
                      <a:pt x="5" y="78"/>
                    </a:lnTo>
                    <a:lnTo>
                      <a:pt x="2" y="70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2" y="47"/>
                    </a:lnTo>
                    <a:lnTo>
                      <a:pt x="4" y="40"/>
                    </a:lnTo>
                    <a:lnTo>
                      <a:pt x="9" y="32"/>
                    </a:lnTo>
                    <a:lnTo>
                      <a:pt x="12" y="26"/>
                    </a:lnTo>
                    <a:lnTo>
                      <a:pt x="18" y="20"/>
                    </a:lnTo>
                    <a:lnTo>
                      <a:pt x="24" y="17"/>
                    </a:lnTo>
                    <a:lnTo>
                      <a:pt x="35" y="12"/>
                    </a:lnTo>
                    <a:lnTo>
                      <a:pt x="47" y="8"/>
                    </a:lnTo>
                    <a:lnTo>
                      <a:pt x="60" y="6"/>
                    </a:lnTo>
                    <a:lnTo>
                      <a:pt x="72" y="5"/>
                    </a:lnTo>
                    <a:lnTo>
                      <a:pt x="86" y="4"/>
                    </a:lnTo>
                    <a:lnTo>
                      <a:pt x="98" y="4"/>
                    </a:lnTo>
                    <a:lnTo>
                      <a:pt x="111" y="5"/>
                    </a:lnTo>
                    <a:lnTo>
                      <a:pt x="123" y="5"/>
                    </a:lnTo>
                    <a:lnTo>
                      <a:pt x="135" y="7"/>
                    </a:lnTo>
                    <a:lnTo>
                      <a:pt x="146" y="8"/>
                    </a:lnTo>
                    <a:lnTo>
                      <a:pt x="158" y="11"/>
                    </a:lnTo>
                    <a:lnTo>
                      <a:pt x="168" y="14"/>
                    </a:lnTo>
                    <a:lnTo>
                      <a:pt x="179" y="18"/>
                    </a:lnTo>
                    <a:lnTo>
                      <a:pt x="190" y="23"/>
                    </a:lnTo>
                    <a:lnTo>
                      <a:pt x="200" y="29"/>
                    </a:lnTo>
                    <a:lnTo>
                      <a:pt x="210" y="35"/>
                    </a:lnTo>
                    <a:lnTo>
                      <a:pt x="224" y="44"/>
                    </a:lnTo>
                    <a:lnTo>
                      <a:pt x="237" y="55"/>
                    </a:lnTo>
                    <a:lnTo>
                      <a:pt x="249" y="67"/>
                    </a:lnTo>
                    <a:lnTo>
                      <a:pt x="261" y="79"/>
                    </a:lnTo>
                    <a:lnTo>
                      <a:pt x="273" y="91"/>
                    </a:lnTo>
                    <a:lnTo>
                      <a:pt x="284" y="103"/>
                    </a:lnTo>
                    <a:lnTo>
                      <a:pt x="296" y="115"/>
                    </a:lnTo>
                    <a:lnTo>
                      <a:pt x="309" y="127"/>
                    </a:lnTo>
                    <a:lnTo>
                      <a:pt x="327" y="143"/>
                    </a:lnTo>
                    <a:lnTo>
                      <a:pt x="344" y="158"/>
                    </a:lnTo>
                    <a:lnTo>
                      <a:pt x="362" y="174"/>
                    </a:lnTo>
                    <a:lnTo>
                      <a:pt x="381" y="188"/>
                    </a:lnTo>
                    <a:lnTo>
                      <a:pt x="399" y="204"/>
                    </a:lnTo>
                    <a:lnTo>
                      <a:pt x="417" y="218"/>
                    </a:lnTo>
                    <a:lnTo>
                      <a:pt x="435" y="234"/>
                    </a:lnTo>
                    <a:lnTo>
                      <a:pt x="454" y="248"/>
                    </a:lnTo>
                    <a:lnTo>
                      <a:pt x="467" y="259"/>
                    </a:lnTo>
                    <a:lnTo>
                      <a:pt x="480" y="270"/>
                    </a:lnTo>
                    <a:lnTo>
                      <a:pt x="494" y="281"/>
                    </a:lnTo>
                    <a:lnTo>
                      <a:pt x="507" y="292"/>
                    </a:lnTo>
                    <a:lnTo>
                      <a:pt x="521" y="301"/>
                    </a:lnTo>
                    <a:lnTo>
                      <a:pt x="534" y="312"/>
                    </a:lnTo>
                    <a:lnTo>
                      <a:pt x="549" y="320"/>
                    </a:lnTo>
                    <a:lnTo>
                      <a:pt x="563" y="330"/>
                    </a:lnTo>
                    <a:lnTo>
                      <a:pt x="570" y="334"/>
                    </a:lnTo>
                    <a:lnTo>
                      <a:pt x="579" y="337"/>
                    </a:lnTo>
                    <a:lnTo>
                      <a:pt x="586" y="340"/>
                    </a:lnTo>
                    <a:lnTo>
                      <a:pt x="594" y="342"/>
                    </a:lnTo>
                    <a:lnTo>
                      <a:pt x="603" y="344"/>
                    </a:lnTo>
                    <a:lnTo>
                      <a:pt x="611" y="346"/>
                    </a:lnTo>
                    <a:lnTo>
                      <a:pt x="620" y="347"/>
                    </a:lnTo>
                    <a:lnTo>
                      <a:pt x="627" y="347"/>
                    </a:lnTo>
                    <a:lnTo>
                      <a:pt x="635" y="348"/>
                    </a:lnTo>
                    <a:lnTo>
                      <a:pt x="642" y="348"/>
                    </a:lnTo>
                    <a:lnTo>
                      <a:pt x="651" y="348"/>
                    </a:lnTo>
                    <a:lnTo>
                      <a:pt x="658" y="347"/>
                    </a:lnTo>
                    <a:lnTo>
                      <a:pt x="666" y="346"/>
                    </a:lnTo>
                    <a:lnTo>
                      <a:pt x="674" y="343"/>
                    </a:lnTo>
                    <a:lnTo>
                      <a:pt x="680" y="340"/>
                    </a:lnTo>
                    <a:lnTo>
                      <a:pt x="686" y="336"/>
                    </a:lnTo>
                    <a:lnTo>
                      <a:pt x="692" y="329"/>
                    </a:lnTo>
                    <a:lnTo>
                      <a:pt x="696" y="320"/>
                    </a:lnTo>
                    <a:lnTo>
                      <a:pt x="700" y="312"/>
                    </a:lnTo>
                    <a:lnTo>
                      <a:pt x="702" y="304"/>
                    </a:lnTo>
                    <a:lnTo>
                      <a:pt x="705" y="294"/>
                    </a:lnTo>
                    <a:lnTo>
                      <a:pt x="706" y="284"/>
                    </a:lnTo>
                    <a:lnTo>
                      <a:pt x="707" y="275"/>
                    </a:lnTo>
                    <a:lnTo>
                      <a:pt x="708" y="266"/>
                    </a:lnTo>
                    <a:lnTo>
                      <a:pt x="710" y="252"/>
                    </a:lnTo>
                    <a:lnTo>
                      <a:pt x="710" y="239"/>
                    </a:lnTo>
                    <a:lnTo>
                      <a:pt x="708" y="224"/>
                    </a:lnTo>
                    <a:lnTo>
                      <a:pt x="707" y="211"/>
                    </a:lnTo>
                    <a:lnTo>
                      <a:pt x="706" y="197"/>
                    </a:lnTo>
                    <a:lnTo>
                      <a:pt x="704" y="184"/>
                    </a:lnTo>
                    <a:lnTo>
                      <a:pt x="704" y="169"/>
                    </a:lnTo>
                    <a:lnTo>
                      <a:pt x="702" y="156"/>
                    </a:lnTo>
                    <a:lnTo>
                      <a:pt x="702" y="149"/>
                    </a:lnTo>
                    <a:lnTo>
                      <a:pt x="704" y="142"/>
                    </a:lnTo>
                    <a:lnTo>
                      <a:pt x="705" y="134"/>
                    </a:lnTo>
                    <a:lnTo>
                      <a:pt x="705" y="127"/>
                    </a:lnTo>
                    <a:lnTo>
                      <a:pt x="706" y="120"/>
                    </a:lnTo>
                    <a:lnTo>
                      <a:pt x="707" y="113"/>
                    </a:lnTo>
                    <a:lnTo>
                      <a:pt x="708" y="106"/>
                    </a:lnTo>
                    <a:lnTo>
                      <a:pt x="708" y="98"/>
                    </a:lnTo>
                    <a:lnTo>
                      <a:pt x="708" y="90"/>
                    </a:lnTo>
                    <a:lnTo>
                      <a:pt x="708" y="82"/>
                    </a:lnTo>
                    <a:lnTo>
                      <a:pt x="707" y="74"/>
                    </a:lnTo>
                    <a:lnTo>
                      <a:pt x="707" y="66"/>
                    </a:lnTo>
                    <a:lnTo>
                      <a:pt x="706" y="58"/>
                    </a:lnTo>
                    <a:lnTo>
                      <a:pt x="706" y="50"/>
                    </a:lnTo>
                    <a:lnTo>
                      <a:pt x="707" y="42"/>
                    </a:lnTo>
                    <a:lnTo>
                      <a:pt x="708" y="35"/>
                    </a:lnTo>
                    <a:lnTo>
                      <a:pt x="710" y="29"/>
                    </a:lnTo>
                    <a:lnTo>
                      <a:pt x="712" y="23"/>
                    </a:lnTo>
                    <a:lnTo>
                      <a:pt x="713" y="17"/>
                    </a:lnTo>
                    <a:lnTo>
                      <a:pt x="716" y="12"/>
                    </a:lnTo>
                    <a:lnTo>
                      <a:pt x="719" y="7"/>
                    </a:lnTo>
                    <a:lnTo>
                      <a:pt x="723" y="2"/>
                    </a:lnTo>
                    <a:lnTo>
                      <a:pt x="726" y="0"/>
                    </a:lnTo>
                    <a:lnTo>
                      <a:pt x="731" y="0"/>
                    </a:lnTo>
                    <a:lnTo>
                      <a:pt x="742" y="1"/>
                    </a:lnTo>
                    <a:lnTo>
                      <a:pt x="752" y="4"/>
                    </a:lnTo>
                    <a:lnTo>
                      <a:pt x="761" y="8"/>
                    </a:lnTo>
                    <a:lnTo>
                      <a:pt x="770" y="13"/>
                    </a:lnTo>
                    <a:lnTo>
                      <a:pt x="778" y="19"/>
                    </a:lnTo>
                    <a:lnTo>
                      <a:pt x="786" y="25"/>
                    </a:lnTo>
                    <a:lnTo>
                      <a:pt x="795" y="32"/>
                    </a:lnTo>
                    <a:lnTo>
                      <a:pt x="801" y="40"/>
                    </a:lnTo>
                    <a:lnTo>
                      <a:pt x="808" y="49"/>
                    </a:lnTo>
                    <a:lnTo>
                      <a:pt x="814" y="60"/>
                    </a:lnTo>
                    <a:lnTo>
                      <a:pt x="820" y="71"/>
                    </a:lnTo>
                    <a:lnTo>
                      <a:pt x="825" y="82"/>
                    </a:lnTo>
                    <a:lnTo>
                      <a:pt x="828" y="94"/>
                    </a:lnTo>
                    <a:lnTo>
                      <a:pt x="833" y="104"/>
                    </a:lnTo>
                    <a:lnTo>
                      <a:pt x="837" y="116"/>
                    </a:lnTo>
                    <a:lnTo>
                      <a:pt x="842" y="127"/>
                    </a:lnTo>
                    <a:lnTo>
                      <a:pt x="849" y="143"/>
                    </a:lnTo>
                    <a:lnTo>
                      <a:pt x="855" y="158"/>
                    </a:lnTo>
                    <a:lnTo>
                      <a:pt x="862" y="175"/>
                    </a:lnTo>
                    <a:lnTo>
                      <a:pt x="868" y="191"/>
                    </a:lnTo>
                    <a:lnTo>
                      <a:pt x="874" y="206"/>
                    </a:lnTo>
                    <a:lnTo>
                      <a:pt x="881" y="223"/>
                    </a:lnTo>
                    <a:lnTo>
                      <a:pt x="887" y="239"/>
                    </a:lnTo>
                    <a:lnTo>
                      <a:pt x="894" y="254"/>
                    </a:lnTo>
                    <a:lnTo>
                      <a:pt x="898" y="264"/>
                    </a:lnTo>
                    <a:lnTo>
                      <a:pt x="902" y="274"/>
                    </a:lnTo>
                    <a:lnTo>
                      <a:pt x="905" y="283"/>
                    </a:lnTo>
                    <a:lnTo>
                      <a:pt x="910" y="293"/>
                    </a:lnTo>
                    <a:lnTo>
                      <a:pt x="914" y="302"/>
                    </a:lnTo>
                    <a:lnTo>
                      <a:pt x="918" y="312"/>
                    </a:lnTo>
                    <a:lnTo>
                      <a:pt x="923" y="320"/>
                    </a:lnTo>
                    <a:lnTo>
                      <a:pt x="929" y="330"/>
                    </a:lnTo>
                    <a:lnTo>
                      <a:pt x="935" y="340"/>
                    </a:lnTo>
                    <a:lnTo>
                      <a:pt x="942" y="348"/>
                    </a:lnTo>
                    <a:lnTo>
                      <a:pt x="951" y="358"/>
                    </a:lnTo>
                    <a:lnTo>
                      <a:pt x="958" y="366"/>
                    </a:lnTo>
                    <a:lnTo>
                      <a:pt x="966" y="374"/>
                    </a:lnTo>
                    <a:lnTo>
                      <a:pt x="975" y="383"/>
                    </a:lnTo>
                    <a:lnTo>
                      <a:pt x="984" y="391"/>
                    </a:lnTo>
                    <a:lnTo>
                      <a:pt x="993" y="400"/>
                    </a:lnTo>
                    <a:lnTo>
                      <a:pt x="1004" y="409"/>
                    </a:lnTo>
                    <a:lnTo>
                      <a:pt x="1014" y="420"/>
                    </a:lnTo>
                    <a:lnTo>
                      <a:pt x="1025" y="431"/>
                    </a:lnTo>
                    <a:lnTo>
                      <a:pt x="1036" y="440"/>
                    </a:lnTo>
                    <a:lnTo>
                      <a:pt x="1048" y="450"/>
                    </a:lnTo>
                    <a:lnTo>
                      <a:pt x="1060" y="460"/>
                    </a:lnTo>
                    <a:lnTo>
                      <a:pt x="1072" y="467"/>
                    </a:lnTo>
                    <a:lnTo>
                      <a:pt x="1085" y="474"/>
                    </a:lnTo>
                    <a:lnTo>
                      <a:pt x="1096" y="479"/>
                    </a:lnTo>
                    <a:lnTo>
                      <a:pt x="1107" y="482"/>
                    </a:lnTo>
                    <a:lnTo>
                      <a:pt x="1119" y="486"/>
                    </a:lnTo>
                    <a:lnTo>
                      <a:pt x="1131" y="487"/>
                    </a:lnTo>
                    <a:lnTo>
                      <a:pt x="1143" y="490"/>
                    </a:lnTo>
                    <a:lnTo>
                      <a:pt x="1154" y="491"/>
                    </a:lnTo>
                    <a:lnTo>
                      <a:pt x="1166" y="491"/>
                    </a:lnTo>
                    <a:lnTo>
                      <a:pt x="1178" y="492"/>
                    </a:lnTo>
                    <a:lnTo>
                      <a:pt x="1192" y="492"/>
                    </a:lnTo>
                    <a:lnTo>
                      <a:pt x="1208" y="493"/>
                    </a:lnTo>
                    <a:lnTo>
                      <a:pt x="1222" y="493"/>
                    </a:lnTo>
                    <a:lnTo>
                      <a:pt x="1236" y="492"/>
                    </a:lnTo>
                    <a:lnTo>
                      <a:pt x="1251" y="492"/>
                    </a:lnTo>
                    <a:lnTo>
                      <a:pt x="1265" y="490"/>
                    </a:lnTo>
                    <a:lnTo>
                      <a:pt x="1280" y="488"/>
                    </a:lnTo>
                    <a:lnTo>
                      <a:pt x="1294" y="486"/>
                    </a:lnTo>
                    <a:lnTo>
                      <a:pt x="1304" y="484"/>
                    </a:lnTo>
                    <a:lnTo>
                      <a:pt x="1314" y="482"/>
                    </a:lnTo>
                    <a:lnTo>
                      <a:pt x="1324" y="479"/>
                    </a:lnTo>
                    <a:lnTo>
                      <a:pt x="1334" y="476"/>
                    </a:lnTo>
                    <a:lnTo>
                      <a:pt x="1343" y="472"/>
                    </a:lnTo>
                    <a:lnTo>
                      <a:pt x="1352" y="468"/>
                    </a:lnTo>
                    <a:lnTo>
                      <a:pt x="1361" y="463"/>
                    </a:lnTo>
                    <a:lnTo>
                      <a:pt x="1370" y="457"/>
                    </a:lnTo>
                    <a:lnTo>
                      <a:pt x="1378" y="451"/>
                    </a:lnTo>
                    <a:lnTo>
                      <a:pt x="1386" y="444"/>
                    </a:lnTo>
                    <a:lnTo>
                      <a:pt x="1395" y="437"/>
                    </a:lnTo>
                    <a:lnTo>
                      <a:pt x="1403" y="428"/>
                    </a:lnTo>
                    <a:lnTo>
                      <a:pt x="1409" y="420"/>
                    </a:lnTo>
                    <a:lnTo>
                      <a:pt x="1414" y="412"/>
                    </a:lnTo>
                    <a:lnTo>
                      <a:pt x="1415" y="407"/>
                    </a:lnTo>
                    <a:lnTo>
                      <a:pt x="1416" y="403"/>
                    </a:lnTo>
                    <a:lnTo>
                      <a:pt x="1416" y="398"/>
                    </a:lnTo>
                    <a:lnTo>
                      <a:pt x="1415" y="394"/>
                    </a:lnTo>
                    <a:lnTo>
                      <a:pt x="1414" y="389"/>
                    </a:lnTo>
                    <a:lnTo>
                      <a:pt x="1412" y="384"/>
                    </a:lnTo>
                    <a:lnTo>
                      <a:pt x="1408" y="380"/>
                    </a:lnTo>
                    <a:lnTo>
                      <a:pt x="1404" y="377"/>
                    </a:lnTo>
                    <a:lnTo>
                      <a:pt x="1395" y="372"/>
                    </a:lnTo>
                    <a:lnTo>
                      <a:pt x="1385" y="367"/>
                    </a:lnTo>
                    <a:lnTo>
                      <a:pt x="1373" y="364"/>
                    </a:lnTo>
                    <a:lnTo>
                      <a:pt x="1362" y="360"/>
                    </a:lnTo>
                    <a:lnTo>
                      <a:pt x="1350" y="356"/>
                    </a:lnTo>
                    <a:lnTo>
                      <a:pt x="1341" y="353"/>
                    </a:lnTo>
                    <a:lnTo>
                      <a:pt x="1328" y="348"/>
                    </a:lnTo>
                    <a:lnTo>
                      <a:pt x="1316" y="344"/>
                    </a:lnTo>
                    <a:lnTo>
                      <a:pt x="1304" y="340"/>
                    </a:lnTo>
                    <a:lnTo>
                      <a:pt x="1290" y="336"/>
                    </a:lnTo>
                    <a:lnTo>
                      <a:pt x="1278" y="332"/>
                    </a:lnTo>
                    <a:lnTo>
                      <a:pt x="1265" y="329"/>
                    </a:lnTo>
                    <a:lnTo>
                      <a:pt x="1253" y="324"/>
                    </a:lnTo>
                    <a:lnTo>
                      <a:pt x="1241" y="318"/>
                    </a:lnTo>
                    <a:lnTo>
                      <a:pt x="1234" y="313"/>
                    </a:lnTo>
                    <a:lnTo>
                      <a:pt x="1227" y="308"/>
                    </a:lnTo>
                    <a:lnTo>
                      <a:pt x="1220" y="304"/>
                    </a:lnTo>
                    <a:lnTo>
                      <a:pt x="1214" y="298"/>
                    </a:lnTo>
                    <a:lnTo>
                      <a:pt x="1206" y="292"/>
                    </a:lnTo>
                    <a:lnTo>
                      <a:pt x="1200" y="286"/>
                    </a:lnTo>
                    <a:lnTo>
                      <a:pt x="1194" y="278"/>
                    </a:lnTo>
                    <a:lnTo>
                      <a:pt x="1190" y="271"/>
                    </a:lnTo>
                    <a:lnTo>
                      <a:pt x="1185" y="265"/>
                    </a:lnTo>
                    <a:lnTo>
                      <a:pt x="1180" y="257"/>
                    </a:lnTo>
                    <a:lnTo>
                      <a:pt x="1175" y="250"/>
                    </a:lnTo>
                    <a:lnTo>
                      <a:pt x="1172" y="241"/>
                    </a:lnTo>
                    <a:lnTo>
                      <a:pt x="1168" y="233"/>
                    </a:lnTo>
                    <a:lnTo>
                      <a:pt x="1166" y="226"/>
                    </a:lnTo>
                    <a:lnTo>
                      <a:pt x="1163" y="217"/>
                    </a:lnTo>
                    <a:lnTo>
                      <a:pt x="1161" y="208"/>
                    </a:lnTo>
                    <a:lnTo>
                      <a:pt x="1160" y="202"/>
                    </a:lnTo>
                    <a:lnTo>
                      <a:pt x="1158" y="196"/>
                    </a:lnTo>
                    <a:lnTo>
                      <a:pt x="1158" y="190"/>
                    </a:lnTo>
                    <a:lnTo>
                      <a:pt x="1158" y="184"/>
                    </a:lnTo>
                    <a:lnTo>
                      <a:pt x="1158" y="178"/>
                    </a:lnTo>
                    <a:lnTo>
                      <a:pt x="1160" y="172"/>
                    </a:lnTo>
                    <a:lnTo>
                      <a:pt x="1163" y="166"/>
                    </a:lnTo>
                    <a:lnTo>
                      <a:pt x="1167" y="162"/>
                    </a:lnTo>
                    <a:lnTo>
                      <a:pt x="1173" y="157"/>
                    </a:lnTo>
                    <a:lnTo>
                      <a:pt x="1179" y="154"/>
                    </a:lnTo>
                    <a:lnTo>
                      <a:pt x="1186" y="152"/>
                    </a:lnTo>
                    <a:lnTo>
                      <a:pt x="1193" y="150"/>
                    </a:lnTo>
                    <a:lnTo>
                      <a:pt x="1202" y="150"/>
                    </a:lnTo>
                    <a:lnTo>
                      <a:pt x="1209" y="149"/>
                    </a:lnTo>
                    <a:lnTo>
                      <a:pt x="1217" y="150"/>
                    </a:lnTo>
                    <a:lnTo>
                      <a:pt x="1224" y="150"/>
                    </a:lnTo>
                    <a:lnTo>
                      <a:pt x="1234" y="151"/>
                    </a:lnTo>
                    <a:lnTo>
                      <a:pt x="1244" y="154"/>
                    </a:lnTo>
                    <a:lnTo>
                      <a:pt x="1253" y="157"/>
                    </a:lnTo>
                    <a:lnTo>
                      <a:pt x="1262" y="161"/>
                    </a:lnTo>
                    <a:lnTo>
                      <a:pt x="1271" y="164"/>
                    </a:lnTo>
                    <a:lnTo>
                      <a:pt x="1281" y="168"/>
                    </a:lnTo>
                    <a:lnTo>
                      <a:pt x="1290" y="170"/>
                    </a:lnTo>
                    <a:lnTo>
                      <a:pt x="1300" y="173"/>
                    </a:lnTo>
                    <a:lnTo>
                      <a:pt x="1311" y="175"/>
                    </a:lnTo>
                    <a:lnTo>
                      <a:pt x="1323" y="178"/>
                    </a:lnTo>
                    <a:lnTo>
                      <a:pt x="1335" y="179"/>
                    </a:lnTo>
                    <a:lnTo>
                      <a:pt x="1346" y="181"/>
                    </a:lnTo>
                    <a:lnTo>
                      <a:pt x="1358" y="182"/>
                    </a:lnTo>
                    <a:lnTo>
                      <a:pt x="1370" y="184"/>
                    </a:lnTo>
                    <a:lnTo>
                      <a:pt x="1380" y="184"/>
                    </a:lnTo>
                    <a:lnTo>
                      <a:pt x="1392" y="185"/>
                    </a:lnTo>
                    <a:lnTo>
                      <a:pt x="1406" y="186"/>
                    </a:lnTo>
                    <a:lnTo>
                      <a:pt x="1419" y="186"/>
                    </a:lnTo>
                    <a:lnTo>
                      <a:pt x="1432" y="186"/>
                    </a:lnTo>
                    <a:lnTo>
                      <a:pt x="1444" y="186"/>
                    </a:lnTo>
                    <a:lnTo>
                      <a:pt x="1457" y="186"/>
                    </a:lnTo>
                    <a:lnTo>
                      <a:pt x="1470" y="186"/>
                    </a:lnTo>
                    <a:lnTo>
                      <a:pt x="1484" y="185"/>
                    </a:lnTo>
                    <a:lnTo>
                      <a:pt x="1497" y="185"/>
                    </a:lnTo>
                    <a:lnTo>
                      <a:pt x="1505" y="185"/>
                    </a:lnTo>
                    <a:lnTo>
                      <a:pt x="1515" y="184"/>
                    </a:lnTo>
                    <a:lnTo>
                      <a:pt x="1523" y="181"/>
                    </a:lnTo>
                    <a:lnTo>
                      <a:pt x="1532" y="180"/>
                    </a:lnTo>
                    <a:lnTo>
                      <a:pt x="1540" y="179"/>
                    </a:lnTo>
                    <a:lnTo>
                      <a:pt x="1550" y="178"/>
                    </a:lnTo>
                    <a:lnTo>
                      <a:pt x="1558" y="178"/>
                    </a:lnTo>
                    <a:lnTo>
                      <a:pt x="1566" y="179"/>
                    </a:lnTo>
                    <a:lnTo>
                      <a:pt x="1574" y="181"/>
                    </a:lnTo>
                    <a:lnTo>
                      <a:pt x="1581" y="184"/>
                    </a:lnTo>
                    <a:lnTo>
                      <a:pt x="1588" y="186"/>
                    </a:lnTo>
                    <a:lnTo>
                      <a:pt x="1595" y="190"/>
                    </a:lnTo>
                    <a:lnTo>
                      <a:pt x="1601" y="193"/>
                    </a:lnTo>
                    <a:lnTo>
                      <a:pt x="1608" y="198"/>
                    </a:lnTo>
                    <a:lnTo>
                      <a:pt x="1613" y="203"/>
                    </a:lnTo>
                    <a:lnTo>
                      <a:pt x="1618" y="208"/>
                    </a:lnTo>
                    <a:lnTo>
                      <a:pt x="1623" y="215"/>
                    </a:lnTo>
                    <a:lnTo>
                      <a:pt x="1626" y="221"/>
                    </a:lnTo>
                    <a:lnTo>
                      <a:pt x="1629" y="228"/>
                    </a:lnTo>
                    <a:lnTo>
                      <a:pt x="1630" y="235"/>
                    </a:lnTo>
                    <a:lnTo>
                      <a:pt x="1631" y="244"/>
                    </a:lnTo>
                    <a:lnTo>
                      <a:pt x="1632" y="251"/>
                    </a:lnTo>
                    <a:lnTo>
                      <a:pt x="1635" y="258"/>
                    </a:lnTo>
                    <a:lnTo>
                      <a:pt x="1636" y="266"/>
                    </a:lnTo>
                    <a:lnTo>
                      <a:pt x="1641" y="286"/>
                    </a:lnTo>
                    <a:lnTo>
                      <a:pt x="1646" y="305"/>
                    </a:lnTo>
                    <a:lnTo>
                      <a:pt x="1650" y="324"/>
                    </a:lnTo>
                    <a:lnTo>
                      <a:pt x="1655" y="344"/>
                    </a:lnTo>
                    <a:lnTo>
                      <a:pt x="1659" y="364"/>
                    </a:lnTo>
                    <a:lnTo>
                      <a:pt x="1664" y="383"/>
                    </a:lnTo>
                    <a:lnTo>
                      <a:pt x="1667" y="403"/>
                    </a:lnTo>
                    <a:lnTo>
                      <a:pt x="1671" y="422"/>
                    </a:lnTo>
                    <a:lnTo>
                      <a:pt x="1673" y="440"/>
                    </a:lnTo>
                    <a:lnTo>
                      <a:pt x="1674" y="458"/>
                    </a:lnTo>
                    <a:lnTo>
                      <a:pt x="1674" y="476"/>
                    </a:lnTo>
                    <a:lnTo>
                      <a:pt x="1676" y="494"/>
                    </a:lnTo>
                    <a:lnTo>
                      <a:pt x="1676" y="514"/>
                    </a:lnTo>
                    <a:lnTo>
                      <a:pt x="1677" y="532"/>
                    </a:lnTo>
                    <a:lnTo>
                      <a:pt x="1679" y="550"/>
                    </a:lnTo>
                    <a:lnTo>
                      <a:pt x="1683" y="568"/>
                    </a:lnTo>
                    <a:lnTo>
                      <a:pt x="1685" y="578"/>
                    </a:lnTo>
                    <a:lnTo>
                      <a:pt x="1689" y="590"/>
                    </a:lnTo>
                    <a:lnTo>
                      <a:pt x="1692" y="602"/>
                    </a:lnTo>
                    <a:lnTo>
                      <a:pt x="1696" y="614"/>
                    </a:lnTo>
                    <a:lnTo>
                      <a:pt x="1702" y="625"/>
                    </a:lnTo>
                    <a:lnTo>
                      <a:pt x="1708" y="636"/>
                    </a:lnTo>
                    <a:lnTo>
                      <a:pt x="1715" y="645"/>
                    </a:lnTo>
                    <a:lnTo>
                      <a:pt x="1722" y="654"/>
                    </a:lnTo>
                    <a:lnTo>
                      <a:pt x="1728" y="659"/>
                    </a:lnTo>
                    <a:lnTo>
                      <a:pt x="1736" y="662"/>
                    </a:lnTo>
                    <a:lnTo>
                      <a:pt x="1743" y="665"/>
                    </a:lnTo>
                    <a:lnTo>
                      <a:pt x="1751" y="666"/>
                    </a:lnTo>
                    <a:lnTo>
                      <a:pt x="1760" y="666"/>
                    </a:lnTo>
                    <a:lnTo>
                      <a:pt x="1767" y="665"/>
                    </a:lnTo>
                    <a:lnTo>
                      <a:pt x="1774" y="663"/>
                    </a:lnTo>
                    <a:lnTo>
                      <a:pt x="1781" y="660"/>
                    </a:lnTo>
                    <a:lnTo>
                      <a:pt x="1794" y="649"/>
                    </a:lnTo>
                    <a:lnTo>
                      <a:pt x="1806" y="638"/>
                    </a:lnTo>
                    <a:lnTo>
                      <a:pt x="1817" y="625"/>
                    </a:lnTo>
                    <a:lnTo>
                      <a:pt x="1828" y="612"/>
                    </a:lnTo>
                    <a:lnTo>
                      <a:pt x="1838" y="597"/>
                    </a:lnTo>
                    <a:lnTo>
                      <a:pt x="1848" y="583"/>
                    </a:lnTo>
                    <a:lnTo>
                      <a:pt x="1858" y="569"/>
                    </a:lnTo>
                    <a:lnTo>
                      <a:pt x="1868" y="556"/>
                    </a:lnTo>
                    <a:lnTo>
                      <a:pt x="1881" y="539"/>
                    </a:lnTo>
                    <a:lnTo>
                      <a:pt x="1893" y="521"/>
                    </a:lnTo>
                    <a:lnTo>
                      <a:pt x="1905" y="504"/>
                    </a:lnTo>
                    <a:lnTo>
                      <a:pt x="1917" y="486"/>
                    </a:lnTo>
                    <a:lnTo>
                      <a:pt x="1929" y="468"/>
                    </a:lnTo>
                    <a:lnTo>
                      <a:pt x="1941" y="451"/>
                    </a:lnTo>
                    <a:lnTo>
                      <a:pt x="1954" y="433"/>
                    </a:lnTo>
                    <a:lnTo>
                      <a:pt x="1966" y="416"/>
                    </a:lnTo>
                    <a:lnTo>
                      <a:pt x="1976" y="404"/>
                    </a:lnTo>
                    <a:lnTo>
                      <a:pt x="1985" y="392"/>
                    </a:lnTo>
                    <a:lnTo>
                      <a:pt x="1995" y="380"/>
                    </a:lnTo>
                    <a:lnTo>
                      <a:pt x="2004" y="368"/>
                    </a:lnTo>
                    <a:lnTo>
                      <a:pt x="2015" y="356"/>
                    </a:lnTo>
                    <a:lnTo>
                      <a:pt x="2025" y="346"/>
                    </a:lnTo>
                    <a:lnTo>
                      <a:pt x="2036" y="335"/>
                    </a:lnTo>
                    <a:lnTo>
                      <a:pt x="2048" y="324"/>
                    </a:lnTo>
                    <a:lnTo>
                      <a:pt x="2054" y="318"/>
                    </a:lnTo>
                    <a:lnTo>
                      <a:pt x="2061" y="312"/>
                    </a:lnTo>
                    <a:lnTo>
                      <a:pt x="2069" y="306"/>
                    </a:lnTo>
                    <a:lnTo>
                      <a:pt x="2076" y="301"/>
                    </a:lnTo>
                    <a:lnTo>
                      <a:pt x="2085" y="296"/>
                    </a:lnTo>
                    <a:lnTo>
                      <a:pt x="2091" y="295"/>
                    </a:lnTo>
                    <a:lnTo>
                      <a:pt x="2094" y="295"/>
                    </a:lnTo>
                    <a:lnTo>
                      <a:pt x="2097" y="296"/>
                    </a:lnTo>
                    <a:lnTo>
                      <a:pt x="2098" y="298"/>
                    </a:lnTo>
                    <a:lnTo>
                      <a:pt x="2099" y="301"/>
                    </a:lnTo>
                    <a:lnTo>
                      <a:pt x="2105" y="322"/>
                    </a:lnTo>
                    <a:lnTo>
                      <a:pt x="2108" y="342"/>
                    </a:lnTo>
                    <a:lnTo>
                      <a:pt x="2109" y="364"/>
                    </a:lnTo>
                    <a:lnTo>
                      <a:pt x="2109" y="384"/>
                    </a:lnTo>
                    <a:lnTo>
                      <a:pt x="2106" y="406"/>
                    </a:lnTo>
                    <a:lnTo>
                      <a:pt x="2103" y="427"/>
                    </a:lnTo>
                    <a:lnTo>
                      <a:pt x="2099" y="448"/>
                    </a:lnTo>
                    <a:lnTo>
                      <a:pt x="2093" y="469"/>
                    </a:lnTo>
                    <a:lnTo>
                      <a:pt x="2082" y="505"/>
                    </a:lnTo>
                    <a:lnTo>
                      <a:pt x="2070" y="540"/>
                    </a:lnTo>
                    <a:lnTo>
                      <a:pt x="2057" y="575"/>
                    </a:lnTo>
                    <a:lnTo>
                      <a:pt x="2042" y="609"/>
                    </a:lnTo>
                    <a:lnTo>
                      <a:pt x="2027" y="644"/>
                    </a:lnTo>
                    <a:lnTo>
                      <a:pt x="2010" y="679"/>
                    </a:lnTo>
                    <a:lnTo>
                      <a:pt x="1995" y="713"/>
                    </a:lnTo>
                    <a:lnTo>
                      <a:pt x="1978" y="746"/>
                    </a:lnTo>
                    <a:lnTo>
                      <a:pt x="1968" y="765"/>
                    </a:lnTo>
                    <a:lnTo>
                      <a:pt x="1959" y="785"/>
                    </a:lnTo>
                    <a:lnTo>
                      <a:pt x="1949" y="803"/>
                    </a:lnTo>
                    <a:lnTo>
                      <a:pt x="1938" y="822"/>
                    </a:lnTo>
                    <a:lnTo>
                      <a:pt x="1928" y="840"/>
                    </a:lnTo>
                    <a:lnTo>
                      <a:pt x="1916" y="858"/>
                    </a:lnTo>
                    <a:lnTo>
                      <a:pt x="1904" y="875"/>
                    </a:lnTo>
                    <a:lnTo>
                      <a:pt x="1890" y="891"/>
                    </a:lnTo>
                    <a:lnTo>
                      <a:pt x="1882" y="901"/>
                    </a:lnTo>
                    <a:lnTo>
                      <a:pt x="1871" y="911"/>
                    </a:lnTo>
                    <a:lnTo>
                      <a:pt x="1860" y="919"/>
                    </a:lnTo>
                    <a:lnTo>
                      <a:pt x="1848" y="927"/>
                    </a:lnTo>
                    <a:lnTo>
                      <a:pt x="1838" y="936"/>
                    </a:lnTo>
                    <a:lnTo>
                      <a:pt x="1826" y="943"/>
                    </a:lnTo>
                    <a:lnTo>
                      <a:pt x="1815" y="951"/>
                    </a:lnTo>
                    <a:lnTo>
                      <a:pt x="1804" y="961"/>
                    </a:lnTo>
                    <a:lnTo>
                      <a:pt x="1799" y="966"/>
                    </a:lnTo>
                    <a:lnTo>
                      <a:pt x="1793" y="969"/>
                    </a:lnTo>
                    <a:lnTo>
                      <a:pt x="1788" y="974"/>
                    </a:lnTo>
                    <a:lnTo>
                      <a:pt x="1784" y="979"/>
                    </a:lnTo>
                    <a:lnTo>
                      <a:pt x="1779" y="984"/>
                    </a:lnTo>
                    <a:lnTo>
                      <a:pt x="1774" y="990"/>
                    </a:lnTo>
                    <a:lnTo>
                      <a:pt x="1772" y="995"/>
                    </a:lnTo>
                    <a:lnTo>
                      <a:pt x="1769" y="1002"/>
                    </a:lnTo>
                    <a:lnTo>
                      <a:pt x="1768" y="1009"/>
                    </a:lnTo>
                    <a:lnTo>
                      <a:pt x="1767" y="1017"/>
                    </a:lnTo>
                    <a:lnTo>
                      <a:pt x="1767" y="1026"/>
                    </a:lnTo>
                    <a:lnTo>
                      <a:pt x="1767" y="1033"/>
                    </a:lnTo>
                    <a:lnTo>
                      <a:pt x="1769" y="1041"/>
                    </a:lnTo>
                    <a:lnTo>
                      <a:pt x="1772" y="1049"/>
                    </a:lnTo>
                    <a:lnTo>
                      <a:pt x="1775" y="1055"/>
                    </a:lnTo>
                    <a:lnTo>
                      <a:pt x="1781" y="1059"/>
                    </a:lnTo>
                    <a:lnTo>
                      <a:pt x="1792" y="1065"/>
                    </a:lnTo>
                    <a:lnTo>
                      <a:pt x="1805" y="1071"/>
                    </a:lnTo>
                    <a:lnTo>
                      <a:pt x="1817" y="1075"/>
                    </a:lnTo>
                    <a:lnTo>
                      <a:pt x="1830" y="1077"/>
                    </a:lnTo>
                    <a:lnTo>
                      <a:pt x="1845" y="1079"/>
                    </a:lnTo>
                    <a:lnTo>
                      <a:pt x="1858" y="1079"/>
                    </a:lnTo>
                    <a:lnTo>
                      <a:pt x="1872" y="1079"/>
                    </a:lnTo>
                    <a:lnTo>
                      <a:pt x="1886" y="1076"/>
                    </a:lnTo>
                    <a:lnTo>
                      <a:pt x="1900" y="1074"/>
                    </a:lnTo>
                    <a:lnTo>
                      <a:pt x="1914" y="1070"/>
                    </a:lnTo>
                    <a:lnTo>
                      <a:pt x="1928" y="1065"/>
                    </a:lnTo>
                    <a:lnTo>
                      <a:pt x="1942" y="1059"/>
                    </a:lnTo>
                    <a:lnTo>
                      <a:pt x="1955" y="1052"/>
                    </a:lnTo>
                    <a:lnTo>
                      <a:pt x="1967" y="1044"/>
                    </a:lnTo>
                    <a:lnTo>
                      <a:pt x="1979" y="1034"/>
                    </a:lnTo>
                    <a:lnTo>
                      <a:pt x="1990" y="1025"/>
                    </a:lnTo>
                    <a:lnTo>
                      <a:pt x="1998" y="1014"/>
                    </a:lnTo>
                    <a:lnTo>
                      <a:pt x="2007" y="1003"/>
                    </a:lnTo>
                    <a:lnTo>
                      <a:pt x="2015" y="992"/>
                    </a:lnTo>
                    <a:lnTo>
                      <a:pt x="2022" y="981"/>
                    </a:lnTo>
                    <a:lnTo>
                      <a:pt x="2036" y="957"/>
                    </a:lnTo>
                    <a:lnTo>
                      <a:pt x="2049" y="933"/>
                    </a:lnTo>
                    <a:lnTo>
                      <a:pt x="2062" y="909"/>
                    </a:lnTo>
                    <a:lnTo>
                      <a:pt x="2075" y="885"/>
                    </a:lnTo>
                    <a:lnTo>
                      <a:pt x="2090" y="861"/>
                    </a:lnTo>
                    <a:lnTo>
                      <a:pt x="2105" y="839"/>
                    </a:lnTo>
                    <a:lnTo>
                      <a:pt x="2117" y="824"/>
                    </a:lnTo>
                    <a:lnTo>
                      <a:pt x="2130" y="810"/>
                    </a:lnTo>
                    <a:lnTo>
                      <a:pt x="2142" y="797"/>
                    </a:lnTo>
                    <a:lnTo>
                      <a:pt x="2157" y="783"/>
                    </a:lnTo>
                    <a:lnTo>
                      <a:pt x="2171" y="770"/>
                    </a:lnTo>
                    <a:lnTo>
                      <a:pt x="2186" y="758"/>
                    </a:lnTo>
                    <a:lnTo>
                      <a:pt x="2200" y="746"/>
                    </a:lnTo>
                    <a:lnTo>
                      <a:pt x="2216" y="735"/>
                    </a:lnTo>
                    <a:lnTo>
                      <a:pt x="2225" y="728"/>
                    </a:lnTo>
                    <a:lnTo>
                      <a:pt x="2236" y="721"/>
                    </a:lnTo>
                    <a:lnTo>
                      <a:pt x="2246" y="715"/>
                    </a:lnTo>
                    <a:lnTo>
                      <a:pt x="2256" y="709"/>
                    </a:lnTo>
                    <a:lnTo>
                      <a:pt x="2268" y="705"/>
                    </a:lnTo>
                    <a:lnTo>
                      <a:pt x="2279" y="702"/>
                    </a:lnTo>
                    <a:lnTo>
                      <a:pt x="2291" y="699"/>
                    </a:lnTo>
                    <a:lnTo>
                      <a:pt x="2302" y="701"/>
                    </a:lnTo>
                    <a:lnTo>
                      <a:pt x="2314" y="703"/>
                    </a:lnTo>
                    <a:lnTo>
                      <a:pt x="2324" y="707"/>
                    </a:lnTo>
                    <a:lnTo>
                      <a:pt x="2334" y="713"/>
                    </a:lnTo>
                    <a:lnTo>
                      <a:pt x="2344" y="719"/>
                    </a:lnTo>
                    <a:lnTo>
                      <a:pt x="2352" y="727"/>
                    </a:lnTo>
                    <a:lnTo>
                      <a:pt x="2361" y="735"/>
                    </a:lnTo>
                    <a:lnTo>
                      <a:pt x="2369" y="744"/>
                    </a:lnTo>
                    <a:lnTo>
                      <a:pt x="2378" y="752"/>
                    </a:lnTo>
                    <a:lnTo>
                      <a:pt x="2386" y="762"/>
                    </a:lnTo>
                    <a:lnTo>
                      <a:pt x="2393" y="771"/>
                    </a:lnTo>
                    <a:lnTo>
                      <a:pt x="2399" y="781"/>
                    </a:lnTo>
                    <a:lnTo>
                      <a:pt x="2406" y="791"/>
                    </a:lnTo>
                    <a:lnTo>
                      <a:pt x="2412" y="801"/>
                    </a:lnTo>
                    <a:lnTo>
                      <a:pt x="2418" y="812"/>
                    </a:lnTo>
                    <a:lnTo>
                      <a:pt x="2424" y="823"/>
                    </a:lnTo>
                    <a:lnTo>
                      <a:pt x="2430" y="834"/>
                    </a:lnTo>
                    <a:lnTo>
                      <a:pt x="2439" y="848"/>
                    </a:lnTo>
                    <a:lnTo>
                      <a:pt x="2448" y="863"/>
                    </a:lnTo>
                    <a:lnTo>
                      <a:pt x="2458" y="878"/>
                    </a:lnTo>
                    <a:lnTo>
                      <a:pt x="2468" y="893"/>
                    </a:lnTo>
                    <a:lnTo>
                      <a:pt x="2476" y="908"/>
                    </a:lnTo>
                    <a:lnTo>
                      <a:pt x="2484" y="924"/>
                    </a:lnTo>
                    <a:lnTo>
                      <a:pt x="2493" y="939"/>
                    </a:lnTo>
                    <a:lnTo>
                      <a:pt x="2500" y="955"/>
                    </a:lnTo>
                    <a:lnTo>
                      <a:pt x="2504" y="965"/>
                    </a:lnTo>
                    <a:lnTo>
                      <a:pt x="2506" y="974"/>
                    </a:lnTo>
                    <a:lnTo>
                      <a:pt x="2508" y="985"/>
                    </a:lnTo>
                    <a:lnTo>
                      <a:pt x="2511" y="995"/>
                    </a:lnTo>
                    <a:lnTo>
                      <a:pt x="2512" y="1005"/>
                    </a:lnTo>
                    <a:lnTo>
                      <a:pt x="2513" y="1016"/>
                    </a:lnTo>
                    <a:lnTo>
                      <a:pt x="2512" y="1026"/>
                    </a:lnTo>
                    <a:lnTo>
                      <a:pt x="2511" y="1037"/>
                    </a:lnTo>
                    <a:lnTo>
                      <a:pt x="2510" y="1043"/>
                    </a:lnTo>
                    <a:lnTo>
                      <a:pt x="2507" y="1050"/>
                    </a:lnTo>
                    <a:lnTo>
                      <a:pt x="2504" y="1056"/>
                    </a:lnTo>
                    <a:lnTo>
                      <a:pt x="2499" y="1063"/>
                    </a:lnTo>
                    <a:lnTo>
                      <a:pt x="2494" y="1068"/>
                    </a:lnTo>
                    <a:lnTo>
                      <a:pt x="2489" y="1073"/>
                    </a:lnTo>
                    <a:lnTo>
                      <a:pt x="2483" y="1075"/>
                    </a:lnTo>
                    <a:lnTo>
                      <a:pt x="2476" y="1076"/>
                    </a:lnTo>
                    <a:lnTo>
                      <a:pt x="2466" y="1076"/>
                    </a:lnTo>
                    <a:lnTo>
                      <a:pt x="2456" y="1075"/>
                    </a:lnTo>
                    <a:lnTo>
                      <a:pt x="2446" y="1071"/>
                    </a:lnTo>
                    <a:lnTo>
                      <a:pt x="2436" y="1067"/>
                    </a:lnTo>
                    <a:lnTo>
                      <a:pt x="2427" y="1062"/>
                    </a:lnTo>
                    <a:lnTo>
                      <a:pt x="2417" y="1056"/>
                    </a:lnTo>
                    <a:lnTo>
                      <a:pt x="2409" y="1049"/>
                    </a:lnTo>
                    <a:lnTo>
                      <a:pt x="2400" y="1041"/>
                    </a:lnTo>
                    <a:lnTo>
                      <a:pt x="2391" y="1031"/>
                    </a:lnTo>
                    <a:lnTo>
                      <a:pt x="2381" y="1020"/>
                    </a:lnTo>
                    <a:lnTo>
                      <a:pt x="2373" y="1008"/>
                    </a:lnTo>
                    <a:lnTo>
                      <a:pt x="2364" y="995"/>
                    </a:lnTo>
                    <a:lnTo>
                      <a:pt x="2356" y="981"/>
                    </a:lnTo>
                    <a:lnTo>
                      <a:pt x="2349" y="968"/>
                    </a:lnTo>
                    <a:lnTo>
                      <a:pt x="2340" y="956"/>
                    </a:lnTo>
                    <a:lnTo>
                      <a:pt x="2332" y="943"/>
                    </a:lnTo>
                    <a:lnTo>
                      <a:pt x="2326" y="936"/>
                    </a:lnTo>
                    <a:lnTo>
                      <a:pt x="2321" y="929"/>
                    </a:lnTo>
                    <a:lnTo>
                      <a:pt x="2315" y="920"/>
                    </a:lnTo>
                    <a:lnTo>
                      <a:pt x="2310" y="913"/>
                    </a:lnTo>
                    <a:lnTo>
                      <a:pt x="2304" y="905"/>
                    </a:lnTo>
                    <a:lnTo>
                      <a:pt x="2298" y="899"/>
                    </a:lnTo>
                    <a:lnTo>
                      <a:pt x="2292" y="891"/>
                    </a:lnTo>
                    <a:lnTo>
                      <a:pt x="2285" y="885"/>
                    </a:lnTo>
                    <a:lnTo>
                      <a:pt x="2282" y="883"/>
                    </a:lnTo>
                    <a:lnTo>
                      <a:pt x="2278" y="882"/>
                    </a:lnTo>
                    <a:lnTo>
                      <a:pt x="2274" y="881"/>
                    </a:lnTo>
                    <a:lnTo>
                      <a:pt x="2270" y="881"/>
                    </a:lnTo>
                    <a:lnTo>
                      <a:pt x="2266" y="881"/>
                    </a:lnTo>
                    <a:lnTo>
                      <a:pt x="2262" y="882"/>
                    </a:lnTo>
                    <a:lnTo>
                      <a:pt x="2259" y="883"/>
                    </a:lnTo>
                    <a:lnTo>
                      <a:pt x="2256" y="885"/>
                    </a:lnTo>
                    <a:lnTo>
                      <a:pt x="2246" y="901"/>
                    </a:lnTo>
                    <a:lnTo>
                      <a:pt x="2236" y="918"/>
                    </a:lnTo>
                    <a:lnTo>
                      <a:pt x="2228" y="933"/>
                    </a:lnTo>
                    <a:lnTo>
                      <a:pt x="2219" y="951"/>
                    </a:lnTo>
                    <a:lnTo>
                      <a:pt x="2212" y="968"/>
                    </a:lnTo>
                    <a:lnTo>
                      <a:pt x="2204" y="985"/>
                    </a:lnTo>
                    <a:lnTo>
                      <a:pt x="2195" y="1002"/>
                    </a:lnTo>
                    <a:lnTo>
                      <a:pt x="2187" y="1019"/>
                    </a:lnTo>
                    <a:lnTo>
                      <a:pt x="2176" y="1035"/>
                    </a:lnTo>
                    <a:lnTo>
                      <a:pt x="2166" y="1052"/>
                    </a:lnTo>
                    <a:lnTo>
                      <a:pt x="2156" y="1068"/>
                    </a:lnTo>
                    <a:lnTo>
                      <a:pt x="2146" y="1085"/>
                    </a:lnTo>
                    <a:lnTo>
                      <a:pt x="2135" y="1100"/>
                    </a:lnTo>
                    <a:lnTo>
                      <a:pt x="2123" y="1116"/>
                    </a:lnTo>
                    <a:lnTo>
                      <a:pt x="2111" y="1131"/>
                    </a:lnTo>
                    <a:lnTo>
                      <a:pt x="2099" y="1146"/>
                    </a:lnTo>
                    <a:lnTo>
                      <a:pt x="2087" y="1159"/>
                    </a:lnTo>
                    <a:lnTo>
                      <a:pt x="2075" y="1172"/>
                    </a:lnTo>
                    <a:lnTo>
                      <a:pt x="2063" y="1185"/>
                    </a:lnTo>
                    <a:lnTo>
                      <a:pt x="2050" y="1197"/>
                    </a:lnTo>
                    <a:lnTo>
                      <a:pt x="2037" y="1211"/>
                    </a:lnTo>
                    <a:lnTo>
                      <a:pt x="2024" y="1221"/>
                    </a:lnTo>
                    <a:lnTo>
                      <a:pt x="2009" y="1233"/>
                    </a:lnTo>
                    <a:lnTo>
                      <a:pt x="1995" y="1244"/>
                    </a:lnTo>
                    <a:lnTo>
                      <a:pt x="1985" y="1253"/>
                    </a:lnTo>
                    <a:lnTo>
                      <a:pt x="1974" y="1260"/>
                    </a:lnTo>
                    <a:lnTo>
                      <a:pt x="1965" y="1267"/>
                    </a:lnTo>
                    <a:lnTo>
                      <a:pt x="1954" y="1274"/>
                    </a:lnTo>
                    <a:lnTo>
                      <a:pt x="1942" y="1280"/>
                    </a:lnTo>
                    <a:lnTo>
                      <a:pt x="1931" y="1286"/>
                    </a:lnTo>
                    <a:lnTo>
                      <a:pt x="1920" y="1292"/>
                    </a:lnTo>
                    <a:lnTo>
                      <a:pt x="1908" y="1297"/>
                    </a:lnTo>
                    <a:lnTo>
                      <a:pt x="1898" y="1301"/>
                    </a:lnTo>
                    <a:lnTo>
                      <a:pt x="1887" y="1303"/>
                    </a:lnTo>
                    <a:lnTo>
                      <a:pt x="1876" y="1305"/>
                    </a:lnTo>
                    <a:lnTo>
                      <a:pt x="1865" y="1307"/>
                    </a:lnTo>
                    <a:lnTo>
                      <a:pt x="1854" y="1308"/>
                    </a:lnTo>
                    <a:lnTo>
                      <a:pt x="1844" y="1309"/>
                    </a:lnTo>
                    <a:lnTo>
                      <a:pt x="1832" y="1311"/>
                    </a:lnTo>
                    <a:lnTo>
                      <a:pt x="1821" y="1314"/>
                    </a:lnTo>
                    <a:lnTo>
                      <a:pt x="1815" y="1316"/>
                    </a:lnTo>
                    <a:lnTo>
                      <a:pt x="1806" y="1317"/>
                    </a:lnTo>
                    <a:lnTo>
                      <a:pt x="1799" y="1320"/>
                    </a:lnTo>
                    <a:lnTo>
                      <a:pt x="1792" y="1321"/>
                    </a:lnTo>
                    <a:lnTo>
                      <a:pt x="1785" y="1323"/>
                    </a:lnTo>
                    <a:lnTo>
                      <a:pt x="1779" y="1327"/>
                    </a:lnTo>
                    <a:lnTo>
                      <a:pt x="1773" y="1332"/>
                    </a:lnTo>
                    <a:lnTo>
                      <a:pt x="1769" y="1336"/>
                    </a:lnTo>
                    <a:lnTo>
                      <a:pt x="1768" y="1342"/>
                    </a:lnTo>
                    <a:lnTo>
                      <a:pt x="1768" y="1347"/>
                    </a:lnTo>
                    <a:lnTo>
                      <a:pt x="1769" y="1353"/>
                    </a:lnTo>
                    <a:lnTo>
                      <a:pt x="1772" y="1358"/>
                    </a:lnTo>
                    <a:lnTo>
                      <a:pt x="1775" y="1364"/>
                    </a:lnTo>
                    <a:lnTo>
                      <a:pt x="1779" y="1369"/>
                    </a:lnTo>
                    <a:lnTo>
                      <a:pt x="1782" y="1374"/>
                    </a:lnTo>
                    <a:lnTo>
                      <a:pt x="1786" y="1377"/>
                    </a:lnTo>
                    <a:lnTo>
                      <a:pt x="1796" y="1386"/>
                    </a:lnTo>
                    <a:lnTo>
                      <a:pt x="1806" y="1393"/>
                    </a:lnTo>
                    <a:lnTo>
                      <a:pt x="1817" y="1400"/>
                    </a:lnTo>
                    <a:lnTo>
                      <a:pt x="1828" y="1406"/>
                    </a:lnTo>
                    <a:lnTo>
                      <a:pt x="1839" y="1412"/>
                    </a:lnTo>
                    <a:lnTo>
                      <a:pt x="1850" y="1419"/>
                    </a:lnTo>
                    <a:lnTo>
                      <a:pt x="1859" y="1426"/>
                    </a:lnTo>
                    <a:lnTo>
                      <a:pt x="1868" y="1436"/>
                    </a:lnTo>
                    <a:lnTo>
                      <a:pt x="1876" y="1447"/>
                    </a:lnTo>
                    <a:lnTo>
                      <a:pt x="1884" y="1460"/>
                    </a:lnTo>
                    <a:lnTo>
                      <a:pt x="1890" y="1472"/>
                    </a:lnTo>
                    <a:lnTo>
                      <a:pt x="1896" y="1485"/>
                    </a:lnTo>
                    <a:lnTo>
                      <a:pt x="1902" y="1500"/>
                    </a:lnTo>
                    <a:lnTo>
                      <a:pt x="1908" y="1513"/>
                    </a:lnTo>
                    <a:lnTo>
                      <a:pt x="1913" y="1526"/>
                    </a:lnTo>
                    <a:lnTo>
                      <a:pt x="1920" y="1539"/>
                    </a:lnTo>
                    <a:lnTo>
                      <a:pt x="1928" y="1558"/>
                    </a:lnTo>
                    <a:lnTo>
                      <a:pt x="1936" y="1578"/>
                    </a:lnTo>
                    <a:lnTo>
                      <a:pt x="1942" y="1597"/>
                    </a:lnTo>
                    <a:lnTo>
                      <a:pt x="1949" y="1616"/>
                    </a:lnTo>
                    <a:lnTo>
                      <a:pt x="1958" y="1634"/>
                    </a:lnTo>
                    <a:lnTo>
                      <a:pt x="1966" y="1652"/>
                    </a:lnTo>
                    <a:lnTo>
                      <a:pt x="1971" y="1660"/>
                    </a:lnTo>
                    <a:lnTo>
                      <a:pt x="1977" y="1669"/>
                    </a:lnTo>
                    <a:lnTo>
                      <a:pt x="1983" y="1677"/>
                    </a:lnTo>
                    <a:lnTo>
                      <a:pt x="1990" y="1684"/>
                    </a:lnTo>
                    <a:lnTo>
                      <a:pt x="2006" y="1699"/>
                    </a:lnTo>
                    <a:lnTo>
                      <a:pt x="2022" y="1712"/>
                    </a:lnTo>
                    <a:lnTo>
                      <a:pt x="2040" y="1724"/>
                    </a:lnTo>
                    <a:lnTo>
                      <a:pt x="2061" y="1734"/>
                    </a:lnTo>
                    <a:lnTo>
                      <a:pt x="2080" y="1743"/>
                    </a:lnTo>
                    <a:lnTo>
                      <a:pt x="2100" y="1753"/>
                    </a:lnTo>
                    <a:lnTo>
                      <a:pt x="2121" y="1762"/>
                    </a:lnTo>
                    <a:lnTo>
                      <a:pt x="2140" y="1771"/>
                    </a:lnTo>
                    <a:lnTo>
                      <a:pt x="2154" y="1778"/>
                    </a:lnTo>
                    <a:lnTo>
                      <a:pt x="2169" y="1784"/>
                    </a:lnTo>
                    <a:lnTo>
                      <a:pt x="2183" y="1789"/>
                    </a:lnTo>
                    <a:lnTo>
                      <a:pt x="2199" y="1794"/>
                    </a:lnTo>
                    <a:lnTo>
                      <a:pt x="2213" y="1798"/>
                    </a:lnTo>
                    <a:lnTo>
                      <a:pt x="2228" y="1804"/>
                    </a:lnTo>
                    <a:lnTo>
                      <a:pt x="2242" y="1810"/>
                    </a:lnTo>
                    <a:lnTo>
                      <a:pt x="2256" y="1818"/>
                    </a:lnTo>
                    <a:lnTo>
                      <a:pt x="2262" y="1822"/>
                    </a:lnTo>
                    <a:lnTo>
                      <a:pt x="2270" y="1826"/>
                    </a:lnTo>
                    <a:lnTo>
                      <a:pt x="2276" y="1832"/>
                    </a:lnTo>
                    <a:lnTo>
                      <a:pt x="2282" y="1837"/>
                    </a:lnTo>
                    <a:lnTo>
                      <a:pt x="2286" y="1843"/>
                    </a:lnTo>
                    <a:lnTo>
                      <a:pt x="2291" y="1850"/>
                    </a:lnTo>
                    <a:lnTo>
                      <a:pt x="2294" y="1857"/>
                    </a:lnTo>
                    <a:lnTo>
                      <a:pt x="2297" y="1864"/>
                    </a:lnTo>
                    <a:lnTo>
                      <a:pt x="2298" y="1873"/>
                    </a:lnTo>
                    <a:lnTo>
                      <a:pt x="2301" y="1884"/>
                    </a:lnTo>
                    <a:lnTo>
                      <a:pt x="2301" y="1893"/>
                    </a:lnTo>
                    <a:lnTo>
                      <a:pt x="2301" y="1904"/>
                    </a:lnTo>
                    <a:lnTo>
                      <a:pt x="2300" y="1914"/>
                    </a:lnTo>
                    <a:lnTo>
                      <a:pt x="2297" y="1922"/>
                    </a:lnTo>
                    <a:lnTo>
                      <a:pt x="2295" y="1926"/>
                    </a:lnTo>
                    <a:lnTo>
                      <a:pt x="2292" y="1929"/>
                    </a:lnTo>
                    <a:lnTo>
                      <a:pt x="2289" y="1932"/>
                    </a:lnTo>
                    <a:lnTo>
                      <a:pt x="2285" y="1934"/>
                    </a:lnTo>
                    <a:lnTo>
                      <a:pt x="2278" y="1936"/>
                    </a:lnTo>
                    <a:lnTo>
                      <a:pt x="2271" y="1938"/>
                    </a:lnTo>
                    <a:lnTo>
                      <a:pt x="2264" y="1939"/>
                    </a:lnTo>
                    <a:lnTo>
                      <a:pt x="2255" y="1939"/>
                    </a:lnTo>
                    <a:lnTo>
                      <a:pt x="2240" y="1938"/>
                    </a:lnTo>
                    <a:lnTo>
                      <a:pt x="2225" y="1934"/>
                    </a:lnTo>
                    <a:lnTo>
                      <a:pt x="2210" y="1930"/>
                    </a:lnTo>
                    <a:lnTo>
                      <a:pt x="2194" y="1926"/>
                    </a:lnTo>
                    <a:lnTo>
                      <a:pt x="2178" y="1921"/>
                    </a:lnTo>
                    <a:lnTo>
                      <a:pt x="2163" y="1916"/>
                    </a:lnTo>
                    <a:lnTo>
                      <a:pt x="2147" y="1911"/>
                    </a:lnTo>
                    <a:lnTo>
                      <a:pt x="2130" y="1905"/>
                    </a:lnTo>
                    <a:lnTo>
                      <a:pt x="2115" y="1899"/>
                    </a:lnTo>
                    <a:lnTo>
                      <a:pt x="2099" y="1892"/>
                    </a:lnTo>
                    <a:lnTo>
                      <a:pt x="2082" y="1885"/>
                    </a:lnTo>
                    <a:lnTo>
                      <a:pt x="2067" y="1878"/>
                    </a:lnTo>
                    <a:lnTo>
                      <a:pt x="2051" y="1872"/>
                    </a:lnTo>
                    <a:lnTo>
                      <a:pt x="2036" y="1864"/>
                    </a:lnTo>
                    <a:lnTo>
                      <a:pt x="2016" y="1856"/>
                    </a:lnTo>
                    <a:lnTo>
                      <a:pt x="1997" y="1849"/>
                    </a:lnTo>
                    <a:lnTo>
                      <a:pt x="1978" y="1840"/>
                    </a:lnTo>
                    <a:lnTo>
                      <a:pt x="1959" y="1833"/>
                    </a:lnTo>
                    <a:lnTo>
                      <a:pt x="1940" y="1825"/>
                    </a:lnTo>
                    <a:lnTo>
                      <a:pt x="1920" y="1816"/>
                    </a:lnTo>
                    <a:lnTo>
                      <a:pt x="1902" y="1806"/>
                    </a:lnTo>
                    <a:lnTo>
                      <a:pt x="1886" y="1795"/>
                    </a:lnTo>
                    <a:lnTo>
                      <a:pt x="1872" y="1785"/>
                    </a:lnTo>
                    <a:lnTo>
                      <a:pt x="1860" y="1774"/>
                    </a:lnTo>
                    <a:lnTo>
                      <a:pt x="1850" y="1762"/>
                    </a:lnTo>
                    <a:lnTo>
                      <a:pt x="1839" y="1750"/>
                    </a:lnTo>
                    <a:lnTo>
                      <a:pt x="1829" y="1737"/>
                    </a:lnTo>
                    <a:lnTo>
                      <a:pt x="1820" y="1724"/>
                    </a:lnTo>
                    <a:lnTo>
                      <a:pt x="1811" y="1710"/>
                    </a:lnTo>
                    <a:lnTo>
                      <a:pt x="1804" y="1696"/>
                    </a:lnTo>
                    <a:lnTo>
                      <a:pt x="1800" y="1686"/>
                    </a:lnTo>
                    <a:lnTo>
                      <a:pt x="1798" y="1675"/>
                    </a:lnTo>
                    <a:lnTo>
                      <a:pt x="1797" y="1664"/>
                    </a:lnTo>
                    <a:lnTo>
                      <a:pt x="1797" y="1653"/>
                    </a:lnTo>
                    <a:lnTo>
                      <a:pt x="1797" y="1642"/>
                    </a:lnTo>
                    <a:lnTo>
                      <a:pt x="1797" y="1630"/>
                    </a:lnTo>
                    <a:lnTo>
                      <a:pt x="1794" y="1620"/>
                    </a:lnTo>
                    <a:lnTo>
                      <a:pt x="1792" y="1609"/>
                    </a:lnTo>
                    <a:lnTo>
                      <a:pt x="1790" y="1599"/>
                    </a:lnTo>
                    <a:lnTo>
                      <a:pt x="1785" y="1590"/>
                    </a:lnTo>
                    <a:lnTo>
                      <a:pt x="1781" y="1580"/>
                    </a:lnTo>
                    <a:lnTo>
                      <a:pt x="1776" y="1572"/>
                    </a:lnTo>
                    <a:lnTo>
                      <a:pt x="1772" y="1562"/>
                    </a:lnTo>
                    <a:lnTo>
                      <a:pt x="1766" y="1554"/>
                    </a:lnTo>
                    <a:lnTo>
                      <a:pt x="1760" y="1546"/>
                    </a:lnTo>
                    <a:lnTo>
                      <a:pt x="1751" y="1539"/>
                    </a:lnTo>
                    <a:lnTo>
                      <a:pt x="1746" y="1537"/>
                    </a:lnTo>
                    <a:lnTo>
                      <a:pt x="1740" y="1534"/>
                    </a:lnTo>
                    <a:lnTo>
                      <a:pt x="1734" y="1532"/>
                    </a:lnTo>
                    <a:lnTo>
                      <a:pt x="1728" y="1532"/>
                    </a:lnTo>
                    <a:lnTo>
                      <a:pt x="1721" y="1532"/>
                    </a:lnTo>
                    <a:lnTo>
                      <a:pt x="1715" y="1533"/>
                    </a:lnTo>
                    <a:lnTo>
                      <a:pt x="1710" y="1536"/>
                    </a:lnTo>
                    <a:lnTo>
                      <a:pt x="1706" y="1539"/>
                    </a:lnTo>
                    <a:lnTo>
                      <a:pt x="1700" y="1546"/>
                    </a:lnTo>
                    <a:lnTo>
                      <a:pt x="1695" y="1555"/>
                    </a:lnTo>
                    <a:lnTo>
                      <a:pt x="1691" y="1563"/>
                    </a:lnTo>
                    <a:lnTo>
                      <a:pt x="1689" y="1572"/>
                    </a:lnTo>
                    <a:lnTo>
                      <a:pt x="1686" y="1581"/>
                    </a:lnTo>
                    <a:lnTo>
                      <a:pt x="1684" y="1591"/>
                    </a:lnTo>
                    <a:lnTo>
                      <a:pt x="1683" y="1600"/>
                    </a:lnTo>
                    <a:lnTo>
                      <a:pt x="1683" y="1609"/>
                    </a:lnTo>
                    <a:lnTo>
                      <a:pt x="1680" y="1629"/>
                    </a:lnTo>
                    <a:lnTo>
                      <a:pt x="1680" y="1648"/>
                    </a:lnTo>
                    <a:lnTo>
                      <a:pt x="1679" y="1668"/>
                    </a:lnTo>
                    <a:lnTo>
                      <a:pt x="1680" y="1687"/>
                    </a:lnTo>
                    <a:lnTo>
                      <a:pt x="1680" y="1707"/>
                    </a:lnTo>
                    <a:lnTo>
                      <a:pt x="1682" y="1726"/>
                    </a:lnTo>
                    <a:lnTo>
                      <a:pt x="1682" y="1746"/>
                    </a:lnTo>
                    <a:lnTo>
                      <a:pt x="1683" y="1766"/>
                    </a:lnTo>
                    <a:lnTo>
                      <a:pt x="1683" y="1780"/>
                    </a:lnTo>
                    <a:lnTo>
                      <a:pt x="1684" y="1796"/>
                    </a:lnTo>
                    <a:lnTo>
                      <a:pt x="1686" y="1812"/>
                    </a:lnTo>
                    <a:lnTo>
                      <a:pt x="1688" y="1826"/>
                    </a:lnTo>
                    <a:lnTo>
                      <a:pt x="1689" y="1842"/>
                    </a:lnTo>
                    <a:lnTo>
                      <a:pt x="1690" y="1857"/>
                    </a:lnTo>
                    <a:lnTo>
                      <a:pt x="1690" y="1872"/>
                    </a:lnTo>
                    <a:lnTo>
                      <a:pt x="1688" y="1887"/>
                    </a:lnTo>
                    <a:lnTo>
                      <a:pt x="1685" y="1898"/>
                    </a:lnTo>
                    <a:lnTo>
                      <a:pt x="1683" y="1910"/>
                    </a:lnTo>
                    <a:lnTo>
                      <a:pt x="1678" y="1921"/>
                    </a:lnTo>
                    <a:lnTo>
                      <a:pt x="1673" y="1932"/>
                    </a:lnTo>
                    <a:lnTo>
                      <a:pt x="1668" y="1942"/>
                    </a:lnTo>
                    <a:lnTo>
                      <a:pt x="1662" y="1952"/>
                    </a:lnTo>
                    <a:lnTo>
                      <a:pt x="1658" y="1963"/>
                    </a:lnTo>
                    <a:lnTo>
                      <a:pt x="1653" y="1974"/>
                    </a:lnTo>
                    <a:lnTo>
                      <a:pt x="1648" y="1987"/>
                    </a:lnTo>
                    <a:lnTo>
                      <a:pt x="1644" y="2001"/>
                    </a:lnTo>
                    <a:lnTo>
                      <a:pt x="1640" y="2014"/>
                    </a:lnTo>
                    <a:lnTo>
                      <a:pt x="1636" y="2028"/>
                    </a:lnTo>
                    <a:lnTo>
                      <a:pt x="1631" y="2041"/>
                    </a:lnTo>
                    <a:lnTo>
                      <a:pt x="1626" y="2054"/>
                    </a:lnTo>
                    <a:lnTo>
                      <a:pt x="1620" y="2066"/>
                    </a:lnTo>
                    <a:lnTo>
                      <a:pt x="1613" y="2078"/>
                    </a:lnTo>
                    <a:lnTo>
                      <a:pt x="1605" y="2087"/>
                    </a:lnTo>
                    <a:lnTo>
                      <a:pt x="1596" y="2097"/>
                    </a:lnTo>
                    <a:lnTo>
                      <a:pt x="1588" y="2105"/>
                    </a:lnTo>
                    <a:lnTo>
                      <a:pt x="1578" y="2114"/>
                    </a:lnTo>
                    <a:lnTo>
                      <a:pt x="1569" y="2121"/>
                    </a:lnTo>
                    <a:lnTo>
                      <a:pt x="1558" y="2128"/>
                    </a:lnTo>
                    <a:lnTo>
                      <a:pt x="1548" y="2135"/>
                    </a:lnTo>
                    <a:lnTo>
                      <a:pt x="1538" y="2141"/>
                    </a:lnTo>
                    <a:lnTo>
                      <a:pt x="1530" y="2146"/>
                    </a:lnTo>
                    <a:lnTo>
                      <a:pt x="1523" y="2151"/>
                    </a:lnTo>
                    <a:lnTo>
                      <a:pt x="1516" y="2155"/>
                    </a:lnTo>
                    <a:lnTo>
                      <a:pt x="1508" y="2158"/>
                    </a:lnTo>
                    <a:lnTo>
                      <a:pt x="1500" y="2162"/>
                    </a:lnTo>
                    <a:lnTo>
                      <a:pt x="1493" y="2163"/>
                    </a:lnTo>
                    <a:lnTo>
                      <a:pt x="1486" y="2162"/>
                    </a:lnTo>
                    <a:lnTo>
                      <a:pt x="1479" y="2159"/>
                    </a:lnTo>
                    <a:lnTo>
                      <a:pt x="1472" y="2152"/>
                    </a:lnTo>
                    <a:lnTo>
                      <a:pt x="1466" y="2145"/>
                    </a:lnTo>
                    <a:lnTo>
                      <a:pt x="1461" y="2135"/>
                    </a:lnTo>
                    <a:lnTo>
                      <a:pt x="1456" y="2126"/>
                    </a:lnTo>
                    <a:lnTo>
                      <a:pt x="1454" y="2115"/>
                    </a:lnTo>
                    <a:lnTo>
                      <a:pt x="1451" y="2105"/>
                    </a:lnTo>
                    <a:lnTo>
                      <a:pt x="1451" y="2095"/>
                    </a:lnTo>
                    <a:lnTo>
                      <a:pt x="1450" y="2084"/>
                    </a:lnTo>
                    <a:lnTo>
                      <a:pt x="1451" y="2070"/>
                    </a:lnTo>
                    <a:lnTo>
                      <a:pt x="1454" y="2054"/>
                    </a:lnTo>
                    <a:lnTo>
                      <a:pt x="1456" y="2040"/>
                    </a:lnTo>
                    <a:lnTo>
                      <a:pt x="1460" y="2025"/>
                    </a:lnTo>
                    <a:lnTo>
                      <a:pt x="1464" y="2011"/>
                    </a:lnTo>
                    <a:lnTo>
                      <a:pt x="1469" y="1996"/>
                    </a:lnTo>
                    <a:lnTo>
                      <a:pt x="1474" y="1982"/>
                    </a:lnTo>
                    <a:lnTo>
                      <a:pt x="1479" y="1969"/>
                    </a:lnTo>
                    <a:lnTo>
                      <a:pt x="1485" y="1957"/>
                    </a:lnTo>
                    <a:lnTo>
                      <a:pt x="1491" y="1945"/>
                    </a:lnTo>
                    <a:lnTo>
                      <a:pt x="1497" y="1934"/>
                    </a:lnTo>
                    <a:lnTo>
                      <a:pt x="1504" y="1922"/>
                    </a:lnTo>
                    <a:lnTo>
                      <a:pt x="1510" y="1911"/>
                    </a:lnTo>
                    <a:lnTo>
                      <a:pt x="1517" y="1899"/>
                    </a:lnTo>
                    <a:lnTo>
                      <a:pt x="1522" y="1888"/>
                    </a:lnTo>
                    <a:lnTo>
                      <a:pt x="1526" y="1875"/>
                    </a:lnTo>
                    <a:lnTo>
                      <a:pt x="1530" y="1855"/>
                    </a:lnTo>
                    <a:lnTo>
                      <a:pt x="1534" y="1834"/>
                    </a:lnTo>
                    <a:lnTo>
                      <a:pt x="1538" y="1813"/>
                    </a:lnTo>
                    <a:lnTo>
                      <a:pt x="1540" y="1792"/>
                    </a:lnTo>
                    <a:lnTo>
                      <a:pt x="1542" y="1771"/>
                    </a:lnTo>
                    <a:lnTo>
                      <a:pt x="1544" y="1750"/>
                    </a:lnTo>
                    <a:lnTo>
                      <a:pt x="1544" y="1729"/>
                    </a:lnTo>
                    <a:lnTo>
                      <a:pt x="1544" y="1707"/>
                    </a:lnTo>
                    <a:lnTo>
                      <a:pt x="1542" y="1694"/>
                    </a:lnTo>
                    <a:lnTo>
                      <a:pt x="1540" y="1681"/>
                    </a:lnTo>
                    <a:lnTo>
                      <a:pt x="1538" y="1668"/>
                    </a:lnTo>
                    <a:lnTo>
                      <a:pt x="1535" y="1654"/>
                    </a:lnTo>
                    <a:lnTo>
                      <a:pt x="1530" y="1641"/>
                    </a:lnTo>
                    <a:lnTo>
                      <a:pt x="1526" y="1628"/>
                    </a:lnTo>
                    <a:lnTo>
                      <a:pt x="1521" y="1616"/>
                    </a:lnTo>
                    <a:lnTo>
                      <a:pt x="1514" y="1603"/>
                    </a:lnTo>
                    <a:lnTo>
                      <a:pt x="1510" y="1597"/>
                    </a:lnTo>
                    <a:lnTo>
                      <a:pt x="1504" y="1590"/>
                    </a:lnTo>
                    <a:lnTo>
                      <a:pt x="1499" y="1582"/>
                    </a:lnTo>
                    <a:lnTo>
                      <a:pt x="1492" y="1576"/>
                    </a:lnTo>
                    <a:lnTo>
                      <a:pt x="1485" y="1572"/>
                    </a:lnTo>
                    <a:lnTo>
                      <a:pt x="1478" y="1567"/>
                    </a:lnTo>
                    <a:lnTo>
                      <a:pt x="1470" y="1564"/>
                    </a:lnTo>
                    <a:lnTo>
                      <a:pt x="1462" y="1563"/>
                    </a:lnTo>
                    <a:lnTo>
                      <a:pt x="1452" y="1563"/>
                    </a:lnTo>
                    <a:lnTo>
                      <a:pt x="1443" y="1563"/>
                    </a:lnTo>
                    <a:lnTo>
                      <a:pt x="1433" y="1566"/>
                    </a:lnTo>
                    <a:lnTo>
                      <a:pt x="1424" y="1569"/>
                    </a:lnTo>
                    <a:lnTo>
                      <a:pt x="1415" y="1574"/>
                    </a:lnTo>
                    <a:lnTo>
                      <a:pt x="1407" y="1579"/>
                    </a:lnTo>
                    <a:lnTo>
                      <a:pt x="1400" y="1585"/>
                    </a:lnTo>
                    <a:lnTo>
                      <a:pt x="1392" y="1592"/>
                    </a:lnTo>
                    <a:lnTo>
                      <a:pt x="1383" y="1603"/>
                    </a:lnTo>
                    <a:lnTo>
                      <a:pt x="1376" y="1615"/>
                    </a:lnTo>
                    <a:lnTo>
                      <a:pt x="1370" y="1628"/>
                    </a:lnTo>
                    <a:lnTo>
                      <a:pt x="1364" y="1641"/>
                    </a:lnTo>
                    <a:lnTo>
                      <a:pt x="1358" y="1656"/>
                    </a:lnTo>
                    <a:lnTo>
                      <a:pt x="1352" y="1669"/>
                    </a:lnTo>
                    <a:lnTo>
                      <a:pt x="1347" y="1683"/>
                    </a:lnTo>
                    <a:lnTo>
                      <a:pt x="1341" y="1696"/>
                    </a:lnTo>
                    <a:lnTo>
                      <a:pt x="1330" y="1717"/>
                    </a:lnTo>
                    <a:lnTo>
                      <a:pt x="1319" y="1738"/>
                    </a:lnTo>
                    <a:lnTo>
                      <a:pt x="1308" y="1760"/>
                    </a:lnTo>
                    <a:lnTo>
                      <a:pt x="1299" y="1782"/>
                    </a:lnTo>
                    <a:lnTo>
                      <a:pt x="1288" y="1802"/>
                    </a:lnTo>
                    <a:lnTo>
                      <a:pt x="1277" y="1824"/>
                    </a:lnTo>
                    <a:lnTo>
                      <a:pt x="1265" y="1844"/>
                    </a:lnTo>
                    <a:lnTo>
                      <a:pt x="1253" y="1864"/>
                    </a:lnTo>
                    <a:lnTo>
                      <a:pt x="1241" y="1882"/>
                    </a:lnTo>
                    <a:lnTo>
                      <a:pt x="1230" y="1900"/>
                    </a:lnTo>
                    <a:lnTo>
                      <a:pt x="1218" y="1920"/>
                    </a:lnTo>
                    <a:lnTo>
                      <a:pt x="1205" y="1936"/>
                    </a:lnTo>
                    <a:lnTo>
                      <a:pt x="1192" y="1954"/>
                    </a:lnTo>
                    <a:lnTo>
                      <a:pt x="1179" y="1971"/>
                    </a:lnTo>
                    <a:lnTo>
                      <a:pt x="1164" y="1988"/>
                    </a:lnTo>
                    <a:lnTo>
                      <a:pt x="1149" y="2002"/>
                    </a:lnTo>
                    <a:lnTo>
                      <a:pt x="1133" y="2018"/>
                    </a:lnTo>
                    <a:lnTo>
                      <a:pt x="1116" y="2031"/>
                    </a:lnTo>
                    <a:lnTo>
                      <a:pt x="1098" y="2046"/>
                    </a:lnTo>
                    <a:lnTo>
                      <a:pt x="1080" y="2058"/>
                    </a:lnTo>
                    <a:lnTo>
                      <a:pt x="1062" y="2070"/>
                    </a:lnTo>
                    <a:lnTo>
                      <a:pt x="1043" y="2080"/>
                    </a:lnTo>
                    <a:lnTo>
                      <a:pt x="1024" y="2091"/>
                    </a:lnTo>
                    <a:lnTo>
                      <a:pt x="1004" y="2102"/>
                    </a:lnTo>
                    <a:lnTo>
                      <a:pt x="989" y="2108"/>
                    </a:lnTo>
                    <a:lnTo>
                      <a:pt x="974" y="2114"/>
                    </a:lnTo>
                    <a:lnTo>
                      <a:pt x="958" y="2120"/>
                    </a:lnTo>
                    <a:lnTo>
                      <a:pt x="942" y="2123"/>
                    </a:lnTo>
                    <a:lnTo>
                      <a:pt x="926" y="2127"/>
                    </a:lnTo>
                    <a:lnTo>
                      <a:pt x="909" y="2131"/>
                    </a:lnTo>
                    <a:lnTo>
                      <a:pt x="893" y="2134"/>
                    </a:lnTo>
                    <a:lnTo>
                      <a:pt x="876" y="2135"/>
                    </a:lnTo>
                    <a:lnTo>
                      <a:pt x="870" y="2137"/>
                    </a:lnTo>
                    <a:lnTo>
                      <a:pt x="864" y="2137"/>
                    </a:lnTo>
                    <a:lnTo>
                      <a:pt x="857" y="2137"/>
                    </a:lnTo>
                    <a:lnTo>
                      <a:pt x="851" y="2135"/>
                    </a:lnTo>
                    <a:lnTo>
                      <a:pt x="845" y="2134"/>
                    </a:lnTo>
                    <a:lnTo>
                      <a:pt x="839" y="2132"/>
                    </a:lnTo>
                    <a:lnTo>
                      <a:pt x="834" y="2128"/>
                    </a:lnTo>
                    <a:lnTo>
                      <a:pt x="830" y="2125"/>
                    </a:lnTo>
                    <a:lnTo>
                      <a:pt x="827" y="2120"/>
                    </a:lnTo>
                    <a:lnTo>
                      <a:pt x="826" y="2114"/>
                    </a:lnTo>
                    <a:lnTo>
                      <a:pt x="826" y="2108"/>
                    </a:lnTo>
                    <a:lnTo>
                      <a:pt x="826" y="2101"/>
                    </a:lnTo>
                    <a:lnTo>
                      <a:pt x="827" y="2095"/>
                    </a:lnTo>
                    <a:lnTo>
                      <a:pt x="830" y="2089"/>
                    </a:lnTo>
                    <a:lnTo>
                      <a:pt x="832" y="2083"/>
                    </a:lnTo>
                    <a:lnTo>
                      <a:pt x="836" y="2078"/>
                    </a:lnTo>
                    <a:lnTo>
                      <a:pt x="848" y="2065"/>
                    </a:lnTo>
                    <a:lnTo>
                      <a:pt x="861" y="2053"/>
                    </a:lnTo>
                    <a:lnTo>
                      <a:pt x="875" y="2041"/>
                    </a:lnTo>
                    <a:lnTo>
                      <a:pt x="890" y="2030"/>
                    </a:lnTo>
                    <a:lnTo>
                      <a:pt x="904" y="2019"/>
                    </a:lnTo>
                    <a:lnTo>
                      <a:pt x="918" y="2008"/>
                    </a:lnTo>
                    <a:lnTo>
                      <a:pt x="933" y="1998"/>
                    </a:lnTo>
                    <a:lnTo>
                      <a:pt x="946" y="1986"/>
                    </a:lnTo>
                    <a:lnTo>
                      <a:pt x="962" y="1971"/>
                    </a:lnTo>
                    <a:lnTo>
                      <a:pt x="978" y="1958"/>
                    </a:lnTo>
                    <a:lnTo>
                      <a:pt x="994" y="1945"/>
                    </a:lnTo>
                    <a:lnTo>
                      <a:pt x="1011" y="1930"/>
                    </a:lnTo>
                    <a:lnTo>
                      <a:pt x="1026" y="1917"/>
                    </a:lnTo>
                    <a:lnTo>
                      <a:pt x="1041" y="1902"/>
                    </a:lnTo>
                    <a:lnTo>
                      <a:pt x="1055" y="1886"/>
                    </a:lnTo>
                    <a:lnTo>
                      <a:pt x="1068" y="1869"/>
                    </a:lnTo>
                    <a:lnTo>
                      <a:pt x="1080" y="1852"/>
                    </a:lnTo>
                    <a:lnTo>
                      <a:pt x="1091" y="1833"/>
                    </a:lnTo>
                    <a:lnTo>
                      <a:pt x="1102" y="1815"/>
                    </a:lnTo>
                    <a:lnTo>
                      <a:pt x="1112" y="1795"/>
                    </a:lnTo>
                    <a:lnTo>
                      <a:pt x="1120" y="1776"/>
                    </a:lnTo>
                    <a:lnTo>
                      <a:pt x="1127" y="1755"/>
                    </a:lnTo>
                    <a:lnTo>
                      <a:pt x="1133" y="1735"/>
                    </a:lnTo>
                    <a:lnTo>
                      <a:pt x="1137" y="1713"/>
                    </a:lnTo>
                    <a:lnTo>
                      <a:pt x="1138" y="1704"/>
                    </a:lnTo>
                    <a:lnTo>
                      <a:pt x="1138" y="1694"/>
                    </a:lnTo>
                    <a:lnTo>
                      <a:pt x="1136" y="1684"/>
                    </a:lnTo>
                    <a:lnTo>
                      <a:pt x="1132" y="1675"/>
                    </a:lnTo>
                    <a:lnTo>
                      <a:pt x="1127" y="1666"/>
                    </a:lnTo>
                    <a:lnTo>
                      <a:pt x="1122" y="1658"/>
                    </a:lnTo>
                    <a:lnTo>
                      <a:pt x="1115" y="1650"/>
                    </a:lnTo>
                    <a:lnTo>
                      <a:pt x="1108" y="1644"/>
                    </a:lnTo>
                    <a:lnTo>
                      <a:pt x="1102" y="1641"/>
                    </a:lnTo>
                    <a:lnTo>
                      <a:pt x="1096" y="1640"/>
                    </a:lnTo>
                    <a:lnTo>
                      <a:pt x="1089" y="1640"/>
                    </a:lnTo>
                    <a:lnTo>
                      <a:pt x="1083" y="1642"/>
                    </a:lnTo>
                    <a:lnTo>
                      <a:pt x="1076" y="1645"/>
                    </a:lnTo>
                    <a:lnTo>
                      <a:pt x="1068" y="1648"/>
                    </a:lnTo>
                    <a:lnTo>
                      <a:pt x="1062" y="1652"/>
                    </a:lnTo>
                    <a:lnTo>
                      <a:pt x="1056" y="1656"/>
                    </a:lnTo>
                    <a:lnTo>
                      <a:pt x="1050" y="1660"/>
                    </a:lnTo>
                    <a:lnTo>
                      <a:pt x="1046" y="1668"/>
                    </a:lnTo>
                    <a:lnTo>
                      <a:pt x="1042" y="1675"/>
                    </a:lnTo>
                    <a:lnTo>
                      <a:pt x="1038" y="1682"/>
                    </a:lnTo>
                    <a:lnTo>
                      <a:pt x="1036" y="1689"/>
                    </a:lnTo>
                    <a:lnTo>
                      <a:pt x="1031" y="1696"/>
                    </a:lnTo>
                    <a:lnTo>
                      <a:pt x="1028" y="1702"/>
                    </a:lnTo>
                    <a:lnTo>
                      <a:pt x="1022" y="1707"/>
                    </a:lnTo>
                    <a:lnTo>
                      <a:pt x="1011" y="1716"/>
                    </a:lnTo>
                    <a:lnTo>
                      <a:pt x="999" y="1722"/>
                    </a:lnTo>
                    <a:lnTo>
                      <a:pt x="987" y="1729"/>
                    </a:lnTo>
                    <a:lnTo>
                      <a:pt x="975" y="1735"/>
                    </a:lnTo>
                    <a:lnTo>
                      <a:pt x="962" y="1740"/>
                    </a:lnTo>
                    <a:lnTo>
                      <a:pt x="950" y="1743"/>
                    </a:lnTo>
                    <a:lnTo>
                      <a:pt x="936" y="1747"/>
                    </a:lnTo>
                    <a:lnTo>
                      <a:pt x="923" y="1748"/>
                    </a:lnTo>
                    <a:lnTo>
                      <a:pt x="914" y="1748"/>
                    </a:lnTo>
                    <a:lnTo>
                      <a:pt x="903" y="1748"/>
                    </a:lnTo>
                    <a:lnTo>
                      <a:pt x="892" y="1746"/>
                    </a:lnTo>
                    <a:lnTo>
                      <a:pt x="882" y="1743"/>
                    </a:lnTo>
                    <a:lnTo>
                      <a:pt x="873" y="1740"/>
                    </a:lnTo>
                    <a:lnTo>
                      <a:pt x="864" y="1734"/>
                    </a:lnTo>
                    <a:lnTo>
                      <a:pt x="861" y="1731"/>
                    </a:lnTo>
                    <a:lnTo>
                      <a:pt x="858" y="1728"/>
                    </a:lnTo>
                    <a:lnTo>
                      <a:pt x="855" y="1724"/>
                    </a:lnTo>
                    <a:lnTo>
                      <a:pt x="854" y="1719"/>
                    </a:lnTo>
                    <a:lnTo>
                      <a:pt x="851" y="1712"/>
                    </a:lnTo>
                    <a:lnTo>
                      <a:pt x="850" y="1705"/>
                    </a:lnTo>
                    <a:lnTo>
                      <a:pt x="849" y="1698"/>
                    </a:lnTo>
                    <a:lnTo>
                      <a:pt x="849" y="1690"/>
                    </a:lnTo>
                    <a:lnTo>
                      <a:pt x="850" y="1675"/>
                    </a:lnTo>
                    <a:lnTo>
                      <a:pt x="852" y="1659"/>
                    </a:lnTo>
                    <a:lnTo>
                      <a:pt x="856" y="1644"/>
                    </a:lnTo>
                    <a:lnTo>
                      <a:pt x="860" y="1628"/>
                    </a:lnTo>
                    <a:lnTo>
                      <a:pt x="863" y="1612"/>
                    </a:lnTo>
                    <a:lnTo>
                      <a:pt x="864" y="1598"/>
                    </a:lnTo>
                    <a:lnTo>
                      <a:pt x="867" y="1587"/>
                    </a:lnTo>
                    <a:lnTo>
                      <a:pt x="868" y="1575"/>
                    </a:lnTo>
                    <a:lnTo>
                      <a:pt x="870" y="1564"/>
                    </a:lnTo>
                    <a:lnTo>
                      <a:pt x="873" y="1554"/>
                    </a:lnTo>
                    <a:lnTo>
                      <a:pt x="875" y="1543"/>
                    </a:lnTo>
                    <a:lnTo>
                      <a:pt x="875" y="1532"/>
                    </a:lnTo>
                    <a:lnTo>
                      <a:pt x="874" y="1521"/>
                    </a:lnTo>
                    <a:lnTo>
                      <a:pt x="870" y="1510"/>
                    </a:lnTo>
                    <a:lnTo>
                      <a:pt x="867" y="1506"/>
                    </a:lnTo>
                    <a:lnTo>
                      <a:pt x="862" y="1501"/>
                    </a:lnTo>
                    <a:lnTo>
                      <a:pt x="856" y="1498"/>
                    </a:lnTo>
                    <a:lnTo>
                      <a:pt x="849" y="1496"/>
                    </a:lnTo>
                    <a:lnTo>
                      <a:pt x="842" y="1495"/>
                    </a:lnTo>
                    <a:lnTo>
                      <a:pt x="833" y="1494"/>
                    </a:lnTo>
                    <a:lnTo>
                      <a:pt x="826" y="1494"/>
                    </a:lnTo>
                    <a:lnTo>
                      <a:pt x="819" y="1494"/>
                    </a:lnTo>
                    <a:lnTo>
                      <a:pt x="802" y="1495"/>
                    </a:lnTo>
                    <a:lnTo>
                      <a:pt x="786" y="1496"/>
                    </a:lnTo>
                    <a:lnTo>
                      <a:pt x="771" y="1500"/>
                    </a:lnTo>
                    <a:lnTo>
                      <a:pt x="755" y="1503"/>
                    </a:lnTo>
                    <a:lnTo>
                      <a:pt x="738" y="1507"/>
                    </a:lnTo>
                    <a:lnTo>
                      <a:pt x="723" y="1509"/>
                    </a:lnTo>
                    <a:lnTo>
                      <a:pt x="707" y="1510"/>
                    </a:lnTo>
                    <a:lnTo>
                      <a:pt x="692" y="1510"/>
                    </a:lnTo>
                    <a:lnTo>
                      <a:pt x="677" y="1509"/>
                    </a:lnTo>
                    <a:lnTo>
                      <a:pt x="664" y="1507"/>
                    </a:lnTo>
                    <a:lnTo>
                      <a:pt x="650" y="1504"/>
                    </a:lnTo>
                    <a:lnTo>
                      <a:pt x="636" y="1500"/>
                    </a:lnTo>
                    <a:lnTo>
                      <a:pt x="623" y="1495"/>
                    </a:lnTo>
                    <a:lnTo>
                      <a:pt x="611" y="1490"/>
                    </a:lnTo>
                    <a:lnTo>
                      <a:pt x="598" y="1483"/>
                    </a:lnTo>
                    <a:lnTo>
                      <a:pt x="587" y="1476"/>
                    </a:lnTo>
                    <a:lnTo>
                      <a:pt x="579" y="1470"/>
                    </a:lnTo>
                    <a:lnTo>
                      <a:pt x="572" y="1461"/>
                    </a:lnTo>
                    <a:lnTo>
                      <a:pt x="566" y="1452"/>
                    </a:lnTo>
                    <a:lnTo>
                      <a:pt x="560" y="1442"/>
                    </a:lnTo>
                    <a:lnTo>
                      <a:pt x="555" y="1432"/>
                    </a:lnTo>
                    <a:lnTo>
                      <a:pt x="549" y="1423"/>
                    </a:lnTo>
                    <a:lnTo>
                      <a:pt x="542" y="1414"/>
                    </a:lnTo>
                    <a:lnTo>
                      <a:pt x="534" y="1406"/>
                    </a:lnTo>
                    <a:lnTo>
                      <a:pt x="528" y="1401"/>
                    </a:lnTo>
                    <a:lnTo>
                      <a:pt x="521" y="1398"/>
                    </a:lnTo>
                    <a:lnTo>
                      <a:pt x="515" y="1394"/>
                    </a:lnTo>
                    <a:lnTo>
                      <a:pt x="507" y="1390"/>
                    </a:lnTo>
                    <a:lnTo>
                      <a:pt x="500" y="1388"/>
                    </a:lnTo>
                    <a:lnTo>
                      <a:pt x="492" y="1386"/>
                    </a:lnTo>
                    <a:lnTo>
                      <a:pt x="484" y="1384"/>
                    </a:lnTo>
                    <a:lnTo>
                      <a:pt x="477" y="1383"/>
                    </a:lnTo>
                    <a:lnTo>
                      <a:pt x="458" y="1382"/>
                    </a:lnTo>
                    <a:lnTo>
                      <a:pt x="438" y="1382"/>
                    </a:lnTo>
                    <a:lnTo>
                      <a:pt x="420" y="1383"/>
                    </a:lnTo>
                    <a:lnTo>
                      <a:pt x="401" y="1384"/>
                    </a:lnTo>
                    <a:lnTo>
                      <a:pt x="382" y="1386"/>
                    </a:lnTo>
                    <a:lnTo>
                      <a:pt x="364" y="1387"/>
                    </a:lnTo>
                    <a:lnTo>
                      <a:pt x="345" y="1388"/>
                    </a:lnTo>
                    <a:lnTo>
                      <a:pt x="326" y="1389"/>
                    </a:lnTo>
                    <a:lnTo>
                      <a:pt x="305" y="1390"/>
                    </a:lnTo>
                    <a:lnTo>
                      <a:pt x="284" y="1392"/>
                    </a:lnTo>
                    <a:lnTo>
                      <a:pt x="263" y="1394"/>
                    </a:lnTo>
                    <a:lnTo>
                      <a:pt x="242" y="1395"/>
                    </a:lnTo>
                    <a:lnTo>
                      <a:pt x="221" y="1398"/>
                    </a:lnTo>
                    <a:lnTo>
                      <a:pt x="200" y="1398"/>
                    </a:lnTo>
                    <a:lnTo>
                      <a:pt x="179" y="1398"/>
                    </a:lnTo>
                    <a:lnTo>
                      <a:pt x="158" y="1395"/>
                    </a:lnTo>
                    <a:lnTo>
                      <a:pt x="148" y="1393"/>
                    </a:lnTo>
                    <a:lnTo>
                      <a:pt x="137" y="1389"/>
                    </a:lnTo>
                    <a:lnTo>
                      <a:pt x="128" y="1384"/>
                    </a:lnTo>
                    <a:lnTo>
                      <a:pt x="118" y="1380"/>
                    </a:lnTo>
                    <a:lnTo>
                      <a:pt x="108" y="1374"/>
                    </a:lnTo>
                    <a:lnTo>
                      <a:pt x="100" y="1368"/>
                    </a:lnTo>
                    <a:lnTo>
                      <a:pt x="92" y="1360"/>
                    </a:lnTo>
                    <a:lnTo>
                      <a:pt x="82" y="1354"/>
                    </a:lnTo>
                    <a:lnTo>
                      <a:pt x="74" y="1348"/>
                    </a:lnTo>
                    <a:lnTo>
                      <a:pt x="65" y="1342"/>
                    </a:lnTo>
                    <a:lnTo>
                      <a:pt x="57" y="1335"/>
                    </a:lnTo>
                    <a:lnTo>
                      <a:pt x="50" y="1329"/>
                    </a:lnTo>
                    <a:lnTo>
                      <a:pt x="41" y="1322"/>
                    </a:lnTo>
                    <a:lnTo>
                      <a:pt x="35" y="1314"/>
                    </a:lnTo>
                    <a:lnTo>
                      <a:pt x="29" y="1305"/>
                    </a:lnTo>
                    <a:lnTo>
                      <a:pt x="24" y="1297"/>
                    </a:lnTo>
                    <a:lnTo>
                      <a:pt x="22" y="1290"/>
                    </a:lnTo>
                    <a:lnTo>
                      <a:pt x="21" y="1283"/>
                    </a:lnTo>
                    <a:lnTo>
                      <a:pt x="21" y="1275"/>
                    </a:lnTo>
                    <a:lnTo>
                      <a:pt x="22" y="1268"/>
                    </a:lnTo>
                    <a:lnTo>
                      <a:pt x="23" y="1261"/>
                    </a:lnTo>
                    <a:lnTo>
                      <a:pt x="27" y="1254"/>
                    </a:lnTo>
                    <a:lnTo>
                      <a:pt x="30" y="1249"/>
                    </a:lnTo>
                    <a:lnTo>
                      <a:pt x="36" y="1244"/>
                    </a:lnTo>
                    <a:lnTo>
                      <a:pt x="50" y="1238"/>
                    </a:lnTo>
                    <a:lnTo>
                      <a:pt x="63" y="1235"/>
                    </a:lnTo>
                    <a:lnTo>
                      <a:pt x="77" y="1231"/>
                    </a:lnTo>
                    <a:lnTo>
                      <a:pt x="93" y="1230"/>
                    </a:lnTo>
                    <a:lnTo>
                      <a:pt x="107" y="1229"/>
                    </a:lnTo>
                    <a:lnTo>
                      <a:pt x="123" y="1227"/>
                    </a:lnTo>
                    <a:lnTo>
                      <a:pt x="137" y="1227"/>
                    </a:lnTo>
                    <a:lnTo>
                      <a:pt x="152" y="1227"/>
                    </a:lnTo>
                    <a:lnTo>
                      <a:pt x="177" y="1227"/>
                    </a:lnTo>
                    <a:lnTo>
                      <a:pt x="201" y="1227"/>
                    </a:lnTo>
                    <a:lnTo>
                      <a:pt x="226" y="1230"/>
                    </a:lnTo>
                    <a:lnTo>
                      <a:pt x="251" y="1231"/>
                    </a:lnTo>
                    <a:lnTo>
                      <a:pt x="275" y="1232"/>
                    </a:lnTo>
                    <a:lnTo>
                      <a:pt x="300" y="1233"/>
                    </a:lnTo>
                    <a:lnTo>
                      <a:pt x="324" y="1233"/>
                    </a:lnTo>
                    <a:lnTo>
                      <a:pt x="350" y="1233"/>
                    </a:lnTo>
                    <a:lnTo>
                      <a:pt x="364" y="1231"/>
                    </a:lnTo>
                    <a:lnTo>
                      <a:pt x="378" y="1229"/>
                    </a:lnTo>
                    <a:lnTo>
                      <a:pt x="393" y="1225"/>
                    </a:lnTo>
                    <a:lnTo>
                      <a:pt x="407" y="1221"/>
                    </a:lnTo>
                    <a:lnTo>
                      <a:pt x="422" y="1217"/>
                    </a:lnTo>
                    <a:lnTo>
                      <a:pt x="436" y="1212"/>
                    </a:lnTo>
                    <a:lnTo>
                      <a:pt x="450" y="1208"/>
                    </a:lnTo>
                    <a:lnTo>
                      <a:pt x="465" y="1203"/>
                    </a:lnTo>
                    <a:lnTo>
                      <a:pt x="474" y="1201"/>
                    </a:lnTo>
                    <a:lnTo>
                      <a:pt x="484" y="1199"/>
                    </a:lnTo>
                    <a:lnTo>
                      <a:pt x="494" y="1195"/>
                    </a:lnTo>
                    <a:lnTo>
                      <a:pt x="502" y="1191"/>
                    </a:lnTo>
                    <a:lnTo>
                      <a:pt x="512" y="1189"/>
                    </a:lnTo>
                    <a:lnTo>
                      <a:pt x="521" y="1187"/>
                    </a:lnTo>
                    <a:lnTo>
                      <a:pt x="531" y="1185"/>
                    </a:lnTo>
                    <a:lnTo>
                      <a:pt x="540" y="1187"/>
                    </a:lnTo>
                    <a:lnTo>
                      <a:pt x="558" y="1191"/>
                    </a:lnTo>
                    <a:lnTo>
                      <a:pt x="576" y="1196"/>
                    </a:lnTo>
                    <a:lnTo>
                      <a:pt x="594" y="1203"/>
                    </a:lnTo>
                    <a:lnTo>
                      <a:pt x="611" y="1211"/>
                    </a:lnTo>
                    <a:lnTo>
                      <a:pt x="629" y="1219"/>
                    </a:lnTo>
                    <a:lnTo>
                      <a:pt x="646" y="1227"/>
                    </a:lnTo>
                    <a:lnTo>
                      <a:pt x="663" y="1236"/>
                    </a:lnTo>
                    <a:lnTo>
                      <a:pt x="680" y="1244"/>
                    </a:lnTo>
                    <a:lnTo>
                      <a:pt x="694" y="1253"/>
                    </a:lnTo>
                    <a:lnTo>
                      <a:pt x="707" y="1260"/>
                    </a:lnTo>
                    <a:lnTo>
                      <a:pt x="720" y="1269"/>
                    </a:lnTo>
                    <a:lnTo>
                      <a:pt x="734" y="1278"/>
                    </a:lnTo>
                    <a:lnTo>
                      <a:pt x="747" y="1286"/>
                    </a:lnTo>
                    <a:lnTo>
                      <a:pt x="761" y="1295"/>
                    </a:lnTo>
                    <a:lnTo>
                      <a:pt x="774" y="1302"/>
                    </a:lnTo>
                    <a:lnTo>
                      <a:pt x="790" y="1308"/>
                    </a:lnTo>
                    <a:lnTo>
                      <a:pt x="802" y="1313"/>
                    </a:lnTo>
                    <a:lnTo>
                      <a:pt x="814" y="1317"/>
                    </a:lnTo>
                    <a:lnTo>
                      <a:pt x="827" y="1321"/>
                    </a:lnTo>
                    <a:lnTo>
                      <a:pt x="839" y="1323"/>
                    </a:lnTo>
                    <a:lnTo>
                      <a:pt x="852" y="1326"/>
                    </a:lnTo>
                    <a:lnTo>
                      <a:pt x="864" y="1326"/>
                    </a:lnTo>
                    <a:lnTo>
                      <a:pt x="870" y="1326"/>
                    </a:lnTo>
                    <a:lnTo>
                      <a:pt x="876" y="1325"/>
                    </a:lnTo>
                    <a:lnTo>
                      <a:pt x="882" y="1322"/>
                    </a:lnTo>
                    <a:lnTo>
                      <a:pt x="888" y="1320"/>
                    </a:lnTo>
                    <a:lnTo>
                      <a:pt x="892" y="1317"/>
                    </a:lnTo>
                    <a:lnTo>
                      <a:pt x="897" y="1314"/>
                    </a:lnTo>
                    <a:lnTo>
                      <a:pt x="900" y="1310"/>
                    </a:lnTo>
                    <a:lnTo>
                      <a:pt x="903" y="1307"/>
                    </a:lnTo>
                    <a:lnTo>
                      <a:pt x="908" y="1298"/>
                    </a:lnTo>
                    <a:lnTo>
                      <a:pt x="912" y="1287"/>
                    </a:lnTo>
                    <a:lnTo>
                      <a:pt x="915" y="1277"/>
                    </a:lnTo>
                    <a:lnTo>
                      <a:pt x="916" y="1266"/>
                    </a:lnTo>
                    <a:lnTo>
                      <a:pt x="917" y="1255"/>
                    </a:lnTo>
                    <a:lnTo>
                      <a:pt x="917" y="1244"/>
                    </a:lnTo>
                    <a:lnTo>
                      <a:pt x="916" y="1233"/>
                    </a:lnTo>
                    <a:lnTo>
                      <a:pt x="914" y="1223"/>
                    </a:lnTo>
                    <a:lnTo>
                      <a:pt x="910" y="1212"/>
                    </a:lnTo>
                    <a:lnTo>
                      <a:pt x="905" y="1202"/>
                    </a:lnTo>
                    <a:lnTo>
                      <a:pt x="900" y="1193"/>
                    </a:lnTo>
                    <a:lnTo>
                      <a:pt x="894" y="1182"/>
                    </a:lnTo>
                    <a:lnTo>
                      <a:pt x="888" y="1172"/>
                    </a:lnTo>
                    <a:lnTo>
                      <a:pt x="882" y="1164"/>
                    </a:lnTo>
                    <a:lnTo>
                      <a:pt x="870" y="1147"/>
                    </a:lnTo>
                    <a:lnTo>
                      <a:pt x="858" y="1130"/>
                    </a:lnTo>
                    <a:lnTo>
                      <a:pt x="846" y="1115"/>
                    </a:lnTo>
                    <a:lnTo>
                      <a:pt x="834" y="1099"/>
                    </a:lnTo>
                    <a:lnTo>
                      <a:pt x="821" y="1085"/>
                    </a:lnTo>
                    <a:lnTo>
                      <a:pt x="807" y="1069"/>
                    </a:lnTo>
                    <a:lnTo>
                      <a:pt x="792" y="1056"/>
                    </a:lnTo>
                    <a:lnTo>
                      <a:pt x="778" y="1041"/>
                    </a:lnTo>
                    <a:lnTo>
                      <a:pt x="760" y="1027"/>
                    </a:lnTo>
                    <a:lnTo>
                      <a:pt x="742" y="1013"/>
                    </a:lnTo>
                    <a:lnTo>
                      <a:pt x="723" y="998"/>
                    </a:lnTo>
                    <a:lnTo>
                      <a:pt x="702" y="985"/>
                    </a:lnTo>
                    <a:lnTo>
                      <a:pt x="683" y="972"/>
                    </a:lnTo>
                    <a:lnTo>
                      <a:pt x="663" y="960"/>
                    </a:lnTo>
                    <a:lnTo>
                      <a:pt x="642" y="949"/>
                    </a:lnTo>
                    <a:lnTo>
                      <a:pt x="622" y="937"/>
                    </a:lnTo>
                    <a:lnTo>
                      <a:pt x="606" y="931"/>
                    </a:lnTo>
                    <a:lnTo>
                      <a:pt x="591" y="924"/>
                    </a:lnTo>
                    <a:lnTo>
                      <a:pt x="575" y="919"/>
                    </a:lnTo>
                    <a:lnTo>
                      <a:pt x="560" y="913"/>
                    </a:lnTo>
                    <a:lnTo>
                      <a:pt x="543" y="909"/>
                    </a:lnTo>
                    <a:lnTo>
                      <a:pt x="527" y="905"/>
                    </a:lnTo>
                    <a:lnTo>
                      <a:pt x="510" y="901"/>
                    </a:lnTo>
                    <a:lnTo>
                      <a:pt x="494" y="897"/>
                    </a:lnTo>
                    <a:lnTo>
                      <a:pt x="479" y="894"/>
                    </a:lnTo>
                    <a:lnTo>
                      <a:pt x="465" y="890"/>
                    </a:lnTo>
                    <a:lnTo>
                      <a:pt x="450" y="888"/>
                    </a:lnTo>
                    <a:lnTo>
                      <a:pt x="436" y="885"/>
                    </a:lnTo>
                    <a:lnTo>
                      <a:pt x="422" y="883"/>
                    </a:lnTo>
                    <a:lnTo>
                      <a:pt x="407" y="881"/>
                    </a:lnTo>
                    <a:lnTo>
                      <a:pt x="393" y="881"/>
                    </a:lnTo>
                    <a:lnTo>
                      <a:pt x="378" y="879"/>
                    </a:lnTo>
                    <a:lnTo>
                      <a:pt x="369" y="879"/>
                    </a:lnTo>
                    <a:lnTo>
                      <a:pt x="359" y="881"/>
                    </a:lnTo>
                    <a:lnTo>
                      <a:pt x="348" y="882"/>
                    </a:lnTo>
                    <a:lnTo>
                      <a:pt x="339" y="884"/>
                    </a:lnTo>
                    <a:lnTo>
                      <a:pt x="330" y="887"/>
                    </a:lnTo>
                    <a:lnTo>
                      <a:pt x="321" y="889"/>
                    </a:lnTo>
                    <a:lnTo>
                      <a:pt x="311" y="893"/>
                    </a:lnTo>
                    <a:lnTo>
                      <a:pt x="303" y="897"/>
                    </a:lnTo>
                    <a:lnTo>
                      <a:pt x="294" y="902"/>
                    </a:lnTo>
                    <a:lnTo>
                      <a:pt x="286" y="908"/>
                    </a:lnTo>
                    <a:lnTo>
                      <a:pt x="278" y="915"/>
                    </a:lnTo>
                    <a:lnTo>
                      <a:pt x="270" y="923"/>
                    </a:lnTo>
                    <a:lnTo>
                      <a:pt x="263" y="930"/>
                    </a:lnTo>
                    <a:lnTo>
                      <a:pt x="256" y="937"/>
                    </a:lnTo>
                    <a:lnTo>
                      <a:pt x="248" y="944"/>
                    </a:lnTo>
                    <a:lnTo>
                      <a:pt x="239" y="949"/>
                    </a:lnTo>
                    <a:lnTo>
                      <a:pt x="225" y="956"/>
                    </a:lnTo>
                    <a:lnTo>
                      <a:pt x="212" y="963"/>
                    </a:lnTo>
                    <a:lnTo>
                      <a:pt x="197" y="971"/>
                    </a:lnTo>
                    <a:lnTo>
                      <a:pt x="183" y="977"/>
                    </a:lnTo>
                    <a:lnTo>
                      <a:pt x="168" y="983"/>
                    </a:lnTo>
                    <a:lnTo>
                      <a:pt x="153" y="987"/>
                    </a:lnTo>
                    <a:lnTo>
                      <a:pt x="138" y="992"/>
                    </a:lnTo>
                    <a:lnTo>
                      <a:pt x="123" y="996"/>
                    </a:lnTo>
                    <a:lnTo>
                      <a:pt x="118" y="996"/>
                    </a:lnTo>
                    <a:lnTo>
                      <a:pt x="112" y="997"/>
                    </a:lnTo>
                    <a:lnTo>
                      <a:pt x="106" y="997"/>
                    </a:lnTo>
                    <a:lnTo>
                      <a:pt x="100" y="996"/>
                    </a:lnTo>
                    <a:lnTo>
                      <a:pt x="94" y="993"/>
                    </a:lnTo>
                    <a:lnTo>
                      <a:pt x="89" y="991"/>
                    </a:lnTo>
                    <a:lnTo>
                      <a:pt x="86" y="989"/>
                    </a:lnTo>
                    <a:lnTo>
                      <a:pt x="82" y="984"/>
                    </a:lnTo>
                    <a:lnTo>
                      <a:pt x="80" y="977"/>
                    </a:lnTo>
                    <a:lnTo>
                      <a:pt x="76" y="968"/>
                    </a:lnTo>
                    <a:lnTo>
                      <a:pt x="75" y="960"/>
                    </a:lnTo>
                    <a:lnTo>
                      <a:pt x="75" y="951"/>
                    </a:lnTo>
                    <a:lnTo>
                      <a:pt x="75" y="943"/>
                    </a:lnTo>
                    <a:lnTo>
                      <a:pt x="76" y="935"/>
                    </a:lnTo>
                    <a:lnTo>
                      <a:pt x="78" y="927"/>
                    </a:lnTo>
                    <a:lnTo>
                      <a:pt x="82" y="920"/>
                    </a:lnTo>
                    <a:lnTo>
                      <a:pt x="94" y="905"/>
                    </a:lnTo>
                    <a:lnTo>
                      <a:pt x="107" y="889"/>
                    </a:lnTo>
                    <a:lnTo>
                      <a:pt x="120" y="875"/>
                    </a:lnTo>
                    <a:lnTo>
                      <a:pt x="135" y="860"/>
                    </a:lnTo>
                    <a:lnTo>
                      <a:pt x="150" y="847"/>
                    </a:lnTo>
                    <a:lnTo>
                      <a:pt x="166" y="834"/>
                    </a:lnTo>
                    <a:lnTo>
                      <a:pt x="182" y="822"/>
                    </a:lnTo>
                    <a:lnTo>
                      <a:pt x="198" y="810"/>
                    </a:lnTo>
                    <a:lnTo>
                      <a:pt x="209" y="803"/>
                    </a:lnTo>
                    <a:lnTo>
                      <a:pt x="221" y="797"/>
                    </a:lnTo>
                    <a:lnTo>
                      <a:pt x="233" y="791"/>
                    </a:lnTo>
                    <a:lnTo>
                      <a:pt x="245" y="785"/>
                    </a:lnTo>
                    <a:lnTo>
                      <a:pt x="258" y="780"/>
                    </a:lnTo>
                    <a:lnTo>
                      <a:pt x="270" y="776"/>
                    </a:lnTo>
                    <a:lnTo>
                      <a:pt x="284" y="773"/>
                    </a:lnTo>
                    <a:lnTo>
                      <a:pt x="297" y="770"/>
                    </a:lnTo>
                    <a:lnTo>
                      <a:pt x="314" y="767"/>
                    </a:lnTo>
                    <a:lnTo>
                      <a:pt x="332" y="765"/>
                    </a:lnTo>
                    <a:lnTo>
                      <a:pt x="348" y="764"/>
                    </a:lnTo>
                    <a:lnTo>
                      <a:pt x="366" y="763"/>
                    </a:lnTo>
                    <a:lnTo>
                      <a:pt x="383" y="763"/>
                    </a:lnTo>
                    <a:lnTo>
                      <a:pt x="401" y="763"/>
                    </a:lnTo>
                    <a:lnTo>
                      <a:pt x="418" y="764"/>
                    </a:lnTo>
                    <a:lnTo>
                      <a:pt x="436" y="764"/>
                    </a:lnTo>
                    <a:lnTo>
                      <a:pt x="461" y="764"/>
                    </a:lnTo>
                    <a:lnTo>
                      <a:pt x="485" y="764"/>
                    </a:lnTo>
                    <a:lnTo>
                      <a:pt x="510" y="765"/>
                    </a:lnTo>
                    <a:lnTo>
                      <a:pt x="534" y="765"/>
                    </a:lnTo>
                    <a:lnTo>
                      <a:pt x="560" y="767"/>
                    </a:lnTo>
                    <a:lnTo>
                      <a:pt x="584" y="768"/>
                    </a:lnTo>
                    <a:lnTo>
                      <a:pt x="609" y="769"/>
                    </a:lnTo>
                    <a:lnTo>
                      <a:pt x="633" y="770"/>
                    </a:lnTo>
                    <a:lnTo>
                      <a:pt x="651" y="771"/>
                    </a:lnTo>
                    <a:lnTo>
                      <a:pt x="669" y="773"/>
                    </a:lnTo>
                    <a:lnTo>
                      <a:pt x="688" y="774"/>
                    </a:lnTo>
                    <a:lnTo>
                      <a:pt x="706" y="776"/>
                    </a:lnTo>
                    <a:lnTo>
                      <a:pt x="724" y="779"/>
                    </a:lnTo>
                    <a:lnTo>
                      <a:pt x="742" y="780"/>
                    </a:lnTo>
                    <a:lnTo>
                      <a:pt x="760" y="781"/>
                    </a:lnTo>
                    <a:lnTo>
                      <a:pt x="778" y="781"/>
                    </a:lnTo>
                    <a:lnTo>
                      <a:pt x="789" y="781"/>
                    </a:lnTo>
                    <a:lnTo>
                      <a:pt x="800" y="782"/>
                    </a:lnTo>
                    <a:lnTo>
                      <a:pt x="810" y="782"/>
                    </a:lnTo>
                    <a:lnTo>
                      <a:pt x="821" y="782"/>
                    </a:lnTo>
                    <a:lnTo>
                      <a:pt x="832" y="781"/>
                    </a:lnTo>
                    <a:lnTo>
                      <a:pt x="842" y="779"/>
                    </a:lnTo>
                    <a:lnTo>
                      <a:pt x="851" y="775"/>
                    </a:lnTo>
                    <a:lnTo>
                      <a:pt x="860" y="770"/>
                    </a:lnTo>
                    <a:close/>
                  </a:path>
                </a:pathLst>
              </a:custGeom>
              <a:solidFill>
                <a:srgbClr val="e39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478560" y="3903840"/>
                <a:ext cx="988560" cy="850680"/>
              </a:xfrm>
              <a:custGeom>
                <a:avLst/>
                <a:gdLst/>
                <a:ahLst/>
                <a:rect l="l" t="t" r="r" b="b"/>
                <a:pathLst>
                  <a:path w="2494" h="2147">
                    <a:moveTo>
                      <a:pt x="852" y="765"/>
                    </a:moveTo>
                    <a:lnTo>
                      <a:pt x="860" y="756"/>
                    </a:lnTo>
                    <a:lnTo>
                      <a:pt x="866" y="747"/>
                    </a:lnTo>
                    <a:lnTo>
                      <a:pt x="871" y="736"/>
                    </a:lnTo>
                    <a:lnTo>
                      <a:pt x="875" y="725"/>
                    </a:lnTo>
                    <a:lnTo>
                      <a:pt x="878" y="713"/>
                    </a:lnTo>
                    <a:lnTo>
                      <a:pt x="880" y="701"/>
                    </a:lnTo>
                    <a:lnTo>
                      <a:pt x="881" y="689"/>
                    </a:lnTo>
                    <a:lnTo>
                      <a:pt x="881" y="678"/>
                    </a:lnTo>
                    <a:lnTo>
                      <a:pt x="881" y="664"/>
                    </a:lnTo>
                    <a:lnTo>
                      <a:pt x="880" y="651"/>
                    </a:lnTo>
                    <a:lnTo>
                      <a:pt x="877" y="637"/>
                    </a:lnTo>
                    <a:lnTo>
                      <a:pt x="875" y="623"/>
                    </a:lnTo>
                    <a:lnTo>
                      <a:pt x="871" y="610"/>
                    </a:lnTo>
                    <a:lnTo>
                      <a:pt x="866" y="598"/>
                    </a:lnTo>
                    <a:lnTo>
                      <a:pt x="859" y="586"/>
                    </a:lnTo>
                    <a:lnTo>
                      <a:pt x="852" y="575"/>
                    </a:lnTo>
                    <a:lnTo>
                      <a:pt x="844" y="566"/>
                    </a:lnTo>
                    <a:lnTo>
                      <a:pt x="834" y="558"/>
                    </a:lnTo>
                    <a:lnTo>
                      <a:pt x="824" y="552"/>
                    </a:lnTo>
                    <a:lnTo>
                      <a:pt x="812" y="548"/>
                    </a:lnTo>
                    <a:lnTo>
                      <a:pt x="800" y="543"/>
                    </a:lnTo>
                    <a:lnTo>
                      <a:pt x="790" y="538"/>
                    </a:lnTo>
                    <a:lnTo>
                      <a:pt x="778" y="533"/>
                    </a:lnTo>
                    <a:lnTo>
                      <a:pt x="766" y="528"/>
                    </a:lnTo>
                    <a:lnTo>
                      <a:pt x="752" y="522"/>
                    </a:lnTo>
                    <a:lnTo>
                      <a:pt x="739" y="516"/>
                    </a:lnTo>
                    <a:lnTo>
                      <a:pt x="726" y="510"/>
                    </a:lnTo>
                    <a:lnTo>
                      <a:pt x="712" y="504"/>
                    </a:lnTo>
                    <a:lnTo>
                      <a:pt x="698" y="498"/>
                    </a:lnTo>
                    <a:lnTo>
                      <a:pt x="685" y="492"/>
                    </a:lnTo>
                    <a:lnTo>
                      <a:pt x="671" y="488"/>
                    </a:lnTo>
                    <a:lnTo>
                      <a:pt x="656" y="483"/>
                    </a:lnTo>
                    <a:lnTo>
                      <a:pt x="641" y="478"/>
                    </a:lnTo>
                    <a:lnTo>
                      <a:pt x="625" y="474"/>
                    </a:lnTo>
                    <a:lnTo>
                      <a:pt x="610" y="472"/>
                    </a:lnTo>
                    <a:lnTo>
                      <a:pt x="593" y="470"/>
                    </a:lnTo>
                    <a:lnTo>
                      <a:pt x="577" y="466"/>
                    </a:lnTo>
                    <a:lnTo>
                      <a:pt x="562" y="464"/>
                    </a:lnTo>
                    <a:lnTo>
                      <a:pt x="546" y="459"/>
                    </a:lnTo>
                    <a:lnTo>
                      <a:pt x="530" y="454"/>
                    </a:lnTo>
                    <a:lnTo>
                      <a:pt x="517" y="448"/>
                    </a:lnTo>
                    <a:lnTo>
                      <a:pt x="505" y="442"/>
                    </a:lnTo>
                    <a:lnTo>
                      <a:pt x="493" y="436"/>
                    </a:lnTo>
                    <a:lnTo>
                      <a:pt x="482" y="429"/>
                    </a:lnTo>
                    <a:lnTo>
                      <a:pt x="470" y="420"/>
                    </a:lnTo>
                    <a:lnTo>
                      <a:pt x="460" y="413"/>
                    </a:lnTo>
                    <a:lnTo>
                      <a:pt x="449" y="405"/>
                    </a:lnTo>
                    <a:lnTo>
                      <a:pt x="438" y="396"/>
                    </a:lnTo>
                    <a:lnTo>
                      <a:pt x="420" y="382"/>
                    </a:lnTo>
                    <a:lnTo>
                      <a:pt x="402" y="365"/>
                    </a:lnTo>
                    <a:lnTo>
                      <a:pt x="384" y="350"/>
                    </a:lnTo>
                    <a:lnTo>
                      <a:pt x="366" y="334"/>
                    </a:lnTo>
                    <a:lnTo>
                      <a:pt x="348" y="317"/>
                    </a:lnTo>
                    <a:lnTo>
                      <a:pt x="331" y="302"/>
                    </a:lnTo>
                    <a:lnTo>
                      <a:pt x="313" y="285"/>
                    </a:lnTo>
                    <a:lnTo>
                      <a:pt x="294" y="270"/>
                    </a:lnTo>
                    <a:lnTo>
                      <a:pt x="277" y="257"/>
                    </a:lnTo>
                    <a:lnTo>
                      <a:pt x="260" y="244"/>
                    </a:lnTo>
                    <a:lnTo>
                      <a:pt x="244" y="232"/>
                    </a:lnTo>
                    <a:lnTo>
                      <a:pt x="227" y="219"/>
                    </a:lnTo>
                    <a:lnTo>
                      <a:pt x="210" y="207"/>
                    </a:lnTo>
                    <a:lnTo>
                      <a:pt x="192" y="195"/>
                    </a:lnTo>
                    <a:lnTo>
                      <a:pt x="174" y="184"/>
                    </a:lnTo>
                    <a:lnTo>
                      <a:pt x="156" y="172"/>
                    </a:lnTo>
                    <a:lnTo>
                      <a:pt x="144" y="166"/>
                    </a:lnTo>
                    <a:lnTo>
                      <a:pt x="132" y="160"/>
                    </a:lnTo>
                    <a:lnTo>
                      <a:pt x="120" y="155"/>
                    </a:lnTo>
                    <a:lnTo>
                      <a:pt x="107" y="150"/>
                    </a:lnTo>
                    <a:lnTo>
                      <a:pt x="95" y="144"/>
                    </a:lnTo>
                    <a:lnTo>
                      <a:pt x="82" y="140"/>
                    </a:lnTo>
                    <a:lnTo>
                      <a:pt x="70" y="134"/>
                    </a:lnTo>
                    <a:lnTo>
                      <a:pt x="59" y="126"/>
                    </a:lnTo>
                    <a:lnTo>
                      <a:pt x="50" y="120"/>
                    </a:lnTo>
                    <a:lnTo>
                      <a:pt x="41" y="114"/>
                    </a:lnTo>
                    <a:lnTo>
                      <a:pt x="32" y="108"/>
                    </a:lnTo>
                    <a:lnTo>
                      <a:pt x="24" y="101"/>
                    </a:lnTo>
                    <a:lnTo>
                      <a:pt x="17" y="94"/>
                    </a:lnTo>
                    <a:lnTo>
                      <a:pt x="11" y="87"/>
                    </a:lnTo>
                    <a:lnTo>
                      <a:pt x="5" y="78"/>
                    </a:lnTo>
                    <a:lnTo>
                      <a:pt x="1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1" y="47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27"/>
                    </a:lnTo>
                    <a:lnTo>
                      <a:pt x="18" y="21"/>
                    </a:lnTo>
                    <a:lnTo>
                      <a:pt x="24" y="17"/>
                    </a:lnTo>
                    <a:lnTo>
                      <a:pt x="35" y="12"/>
                    </a:lnTo>
                    <a:lnTo>
                      <a:pt x="47" y="9"/>
                    </a:lnTo>
                    <a:lnTo>
                      <a:pt x="59" y="6"/>
                    </a:lnTo>
                    <a:lnTo>
                      <a:pt x="72" y="4"/>
                    </a:lnTo>
                    <a:lnTo>
                      <a:pt x="84" y="4"/>
                    </a:lnTo>
                    <a:lnTo>
                      <a:pt x="97" y="4"/>
                    </a:lnTo>
                    <a:lnTo>
                      <a:pt x="109" y="5"/>
                    </a:lnTo>
                    <a:lnTo>
                      <a:pt x="121" y="5"/>
                    </a:lnTo>
                    <a:lnTo>
                      <a:pt x="133" y="8"/>
                    </a:lnTo>
                    <a:lnTo>
                      <a:pt x="144" y="9"/>
                    </a:lnTo>
                    <a:lnTo>
                      <a:pt x="156" y="11"/>
                    </a:lnTo>
                    <a:lnTo>
                      <a:pt x="167" y="15"/>
                    </a:lnTo>
                    <a:lnTo>
                      <a:pt x="178" y="18"/>
                    </a:lnTo>
                    <a:lnTo>
                      <a:pt x="188" y="23"/>
                    </a:lnTo>
                    <a:lnTo>
                      <a:pt x="198" y="28"/>
                    </a:lnTo>
                    <a:lnTo>
                      <a:pt x="208" y="34"/>
                    </a:lnTo>
                    <a:lnTo>
                      <a:pt x="222" y="45"/>
                    </a:lnTo>
                    <a:lnTo>
                      <a:pt x="234" y="54"/>
                    </a:lnTo>
                    <a:lnTo>
                      <a:pt x="246" y="66"/>
                    </a:lnTo>
                    <a:lnTo>
                      <a:pt x="258" y="78"/>
                    </a:lnTo>
                    <a:lnTo>
                      <a:pt x="270" y="90"/>
                    </a:lnTo>
                    <a:lnTo>
                      <a:pt x="282" y="102"/>
                    </a:lnTo>
                    <a:lnTo>
                      <a:pt x="294" y="114"/>
                    </a:lnTo>
                    <a:lnTo>
                      <a:pt x="306" y="126"/>
                    </a:lnTo>
                    <a:lnTo>
                      <a:pt x="324" y="142"/>
                    </a:lnTo>
                    <a:lnTo>
                      <a:pt x="341" y="158"/>
                    </a:lnTo>
                    <a:lnTo>
                      <a:pt x="359" y="172"/>
                    </a:lnTo>
                    <a:lnTo>
                      <a:pt x="377" y="188"/>
                    </a:lnTo>
                    <a:lnTo>
                      <a:pt x="395" y="203"/>
                    </a:lnTo>
                    <a:lnTo>
                      <a:pt x="413" y="218"/>
                    </a:lnTo>
                    <a:lnTo>
                      <a:pt x="431" y="232"/>
                    </a:lnTo>
                    <a:lnTo>
                      <a:pt x="450" y="248"/>
                    </a:lnTo>
                    <a:lnTo>
                      <a:pt x="463" y="257"/>
                    </a:lnTo>
                    <a:lnTo>
                      <a:pt x="476" y="268"/>
                    </a:lnTo>
                    <a:lnTo>
                      <a:pt x="490" y="279"/>
                    </a:lnTo>
                    <a:lnTo>
                      <a:pt x="503" y="290"/>
                    </a:lnTo>
                    <a:lnTo>
                      <a:pt x="516" y="299"/>
                    </a:lnTo>
                    <a:lnTo>
                      <a:pt x="530" y="310"/>
                    </a:lnTo>
                    <a:lnTo>
                      <a:pt x="545" y="318"/>
                    </a:lnTo>
                    <a:lnTo>
                      <a:pt x="559" y="328"/>
                    </a:lnTo>
                    <a:lnTo>
                      <a:pt x="566" y="332"/>
                    </a:lnTo>
                    <a:lnTo>
                      <a:pt x="574" y="335"/>
                    </a:lnTo>
                    <a:lnTo>
                      <a:pt x="582" y="338"/>
                    </a:lnTo>
                    <a:lnTo>
                      <a:pt x="589" y="340"/>
                    </a:lnTo>
                    <a:lnTo>
                      <a:pt x="598" y="341"/>
                    </a:lnTo>
                    <a:lnTo>
                      <a:pt x="606" y="344"/>
                    </a:lnTo>
                    <a:lnTo>
                      <a:pt x="614" y="344"/>
                    </a:lnTo>
                    <a:lnTo>
                      <a:pt x="622" y="345"/>
                    </a:lnTo>
                    <a:lnTo>
                      <a:pt x="630" y="345"/>
                    </a:lnTo>
                    <a:lnTo>
                      <a:pt x="637" y="345"/>
                    </a:lnTo>
                    <a:lnTo>
                      <a:pt x="646" y="345"/>
                    </a:lnTo>
                    <a:lnTo>
                      <a:pt x="653" y="345"/>
                    </a:lnTo>
                    <a:lnTo>
                      <a:pt x="660" y="344"/>
                    </a:lnTo>
                    <a:lnTo>
                      <a:pt x="667" y="341"/>
                    </a:lnTo>
                    <a:lnTo>
                      <a:pt x="674" y="338"/>
                    </a:lnTo>
                    <a:lnTo>
                      <a:pt x="679" y="333"/>
                    </a:lnTo>
                    <a:lnTo>
                      <a:pt x="685" y="327"/>
                    </a:lnTo>
                    <a:lnTo>
                      <a:pt x="690" y="318"/>
                    </a:lnTo>
                    <a:lnTo>
                      <a:pt x="694" y="310"/>
                    </a:lnTo>
                    <a:lnTo>
                      <a:pt x="697" y="302"/>
                    </a:lnTo>
                    <a:lnTo>
                      <a:pt x="698" y="292"/>
                    </a:lnTo>
                    <a:lnTo>
                      <a:pt x="701" y="282"/>
                    </a:lnTo>
                    <a:lnTo>
                      <a:pt x="702" y="274"/>
                    </a:lnTo>
                    <a:lnTo>
                      <a:pt x="703" y="264"/>
                    </a:lnTo>
                    <a:lnTo>
                      <a:pt x="703" y="251"/>
                    </a:lnTo>
                    <a:lnTo>
                      <a:pt x="703" y="237"/>
                    </a:lnTo>
                    <a:lnTo>
                      <a:pt x="702" y="224"/>
                    </a:lnTo>
                    <a:lnTo>
                      <a:pt x="701" y="209"/>
                    </a:lnTo>
                    <a:lnTo>
                      <a:pt x="700" y="196"/>
                    </a:lnTo>
                    <a:lnTo>
                      <a:pt x="698" y="183"/>
                    </a:lnTo>
                    <a:lnTo>
                      <a:pt x="697" y="168"/>
                    </a:lnTo>
                    <a:lnTo>
                      <a:pt x="697" y="155"/>
                    </a:lnTo>
                    <a:lnTo>
                      <a:pt x="697" y="148"/>
                    </a:lnTo>
                    <a:lnTo>
                      <a:pt x="697" y="141"/>
                    </a:lnTo>
                    <a:lnTo>
                      <a:pt x="698" y="134"/>
                    </a:lnTo>
                    <a:lnTo>
                      <a:pt x="700" y="126"/>
                    </a:lnTo>
                    <a:lnTo>
                      <a:pt x="701" y="119"/>
                    </a:lnTo>
                    <a:lnTo>
                      <a:pt x="702" y="112"/>
                    </a:lnTo>
                    <a:lnTo>
                      <a:pt x="702" y="105"/>
                    </a:lnTo>
                    <a:lnTo>
                      <a:pt x="703" y="98"/>
                    </a:lnTo>
                    <a:lnTo>
                      <a:pt x="703" y="89"/>
                    </a:lnTo>
                    <a:lnTo>
                      <a:pt x="702" y="82"/>
                    </a:lnTo>
                    <a:lnTo>
                      <a:pt x="702" y="74"/>
                    </a:lnTo>
                    <a:lnTo>
                      <a:pt x="701" y="66"/>
                    </a:lnTo>
                    <a:lnTo>
                      <a:pt x="701" y="58"/>
                    </a:lnTo>
                    <a:lnTo>
                      <a:pt x="701" y="50"/>
                    </a:lnTo>
                    <a:lnTo>
                      <a:pt x="701" y="42"/>
                    </a:lnTo>
                    <a:lnTo>
                      <a:pt x="703" y="34"/>
                    </a:lnTo>
                    <a:lnTo>
                      <a:pt x="704" y="29"/>
                    </a:lnTo>
                    <a:lnTo>
                      <a:pt x="706" y="23"/>
                    </a:lnTo>
                    <a:lnTo>
                      <a:pt x="708" y="17"/>
                    </a:lnTo>
                    <a:lnTo>
                      <a:pt x="710" y="12"/>
                    </a:lnTo>
                    <a:lnTo>
                      <a:pt x="713" y="6"/>
                    </a:lnTo>
                    <a:lnTo>
                      <a:pt x="716" y="3"/>
                    </a:lnTo>
                    <a:lnTo>
                      <a:pt x="721" y="0"/>
                    </a:lnTo>
                    <a:lnTo>
                      <a:pt x="726" y="0"/>
                    </a:lnTo>
                    <a:lnTo>
                      <a:pt x="736" y="2"/>
                    </a:lnTo>
                    <a:lnTo>
                      <a:pt x="745" y="4"/>
                    </a:lnTo>
                    <a:lnTo>
                      <a:pt x="755" y="8"/>
                    </a:lnTo>
                    <a:lnTo>
                      <a:pt x="763" y="14"/>
                    </a:lnTo>
                    <a:lnTo>
                      <a:pt x="773" y="20"/>
                    </a:lnTo>
                    <a:lnTo>
                      <a:pt x="780" y="26"/>
                    </a:lnTo>
                    <a:lnTo>
                      <a:pt x="788" y="33"/>
                    </a:lnTo>
                    <a:lnTo>
                      <a:pt x="794" y="40"/>
                    </a:lnTo>
                    <a:lnTo>
                      <a:pt x="802" y="50"/>
                    </a:lnTo>
                    <a:lnTo>
                      <a:pt x="808" y="59"/>
                    </a:lnTo>
                    <a:lnTo>
                      <a:pt x="814" y="70"/>
                    </a:lnTo>
                    <a:lnTo>
                      <a:pt x="818" y="81"/>
                    </a:lnTo>
                    <a:lnTo>
                      <a:pt x="822" y="93"/>
                    </a:lnTo>
                    <a:lnTo>
                      <a:pt x="827" y="104"/>
                    </a:lnTo>
                    <a:lnTo>
                      <a:pt x="830" y="116"/>
                    </a:lnTo>
                    <a:lnTo>
                      <a:pt x="835" y="126"/>
                    </a:lnTo>
                    <a:lnTo>
                      <a:pt x="841" y="142"/>
                    </a:lnTo>
                    <a:lnTo>
                      <a:pt x="848" y="158"/>
                    </a:lnTo>
                    <a:lnTo>
                      <a:pt x="854" y="173"/>
                    </a:lnTo>
                    <a:lnTo>
                      <a:pt x="860" y="190"/>
                    </a:lnTo>
                    <a:lnTo>
                      <a:pt x="868" y="206"/>
                    </a:lnTo>
                    <a:lnTo>
                      <a:pt x="874" y="221"/>
                    </a:lnTo>
                    <a:lnTo>
                      <a:pt x="880" y="237"/>
                    </a:lnTo>
                    <a:lnTo>
                      <a:pt x="887" y="252"/>
                    </a:lnTo>
                    <a:lnTo>
                      <a:pt x="890" y="262"/>
                    </a:lnTo>
                    <a:lnTo>
                      <a:pt x="894" y="272"/>
                    </a:lnTo>
                    <a:lnTo>
                      <a:pt x="899" y="281"/>
                    </a:lnTo>
                    <a:lnTo>
                      <a:pt x="902" y="291"/>
                    </a:lnTo>
                    <a:lnTo>
                      <a:pt x="906" y="300"/>
                    </a:lnTo>
                    <a:lnTo>
                      <a:pt x="911" y="310"/>
                    </a:lnTo>
                    <a:lnTo>
                      <a:pt x="916" y="318"/>
                    </a:lnTo>
                    <a:lnTo>
                      <a:pt x="922" y="328"/>
                    </a:lnTo>
                    <a:lnTo>
                      <a:pt x="928" y="338"/>
                    </a:lnTo>
                    <a:lnTo>
                      <a:pt x="935" y="346"/>
                    </a:lnTo>
                    <a:lnTo>
                      <a:pt x="943" y="356"/>
                    </a:lnTo>
                    <a:lnTo>
                      <a:pt x="950" y="364"/>
                    </a:lnTo>
                    <a:lnTo>
                      <a:pt x="959" y="372"/>
                    </a:lnTo>
                    <a:lnTo>
                      <a:pt x="967" y="381"/>
                    </a:lnTo>
                    <a:lnTo>
                      <a:pt x="976" y="388"/>
                    </a:lnTo>
                    <a:lnTo>
                      <a:pt x="984" y="396"/>
                    </a:lnTo>
                    <a:lnTo>
                      <a:pt x="995" y="407"/>
                    </a:lnTo>
                    <a:lnTo>
                      <a:pt x="1006" y="417"/>
                    </a:lnTo>
                    <a:lnTo>
                      <a:pt x="1018" y="428"/>
                    </a:lnTo>
                    <a:lnTo>
                      <a:pt x="1028" y="437"/>
                    </a:lnTo>
                    <a:lnTo>
                      <a:pt x="1039" y="447"/>
                    </a:lnTo>
                    <a:lnTo>
                      <a:pt x="1051" y="456"/>
                    </a:lnTo>
                    <a:lnTo>
                      <a:pt x="1063" y="464"/>
                    </a:lnTo>
                    <a:lnTo>
                      <a:pt x="1076" y="471"/>
                    </a:lnTo>
                    <a:lnTo>
                      <a:pt x="1087" y="476"/>
                    </a:lnTo>
                    <a:lnTo>
                      <a:pt x="1098" y="479"/>
                    </a:lnTo>
                    <a:lnTo>
                      <a:pt x="1110" y="483"/>
                    </a:lnTo>
                    <a:lnTo>
                      <a:pt x="1121" y="484"/>
                    </a:lnTo>
                    <a:lnTo>
                      <a:pt x="1133" y="486"/>
                    </a:lnTo>
                    <a:lnTo>
                      <a:pt x="1145" y="486"/>
                    </a:lnTo>
                    <a:lnTo>
                      <a:pt x="1157" y="488"/>
                    </a:lnTo>
                    <a:lnTo>
                      <a:pt x="1169" y="489"/>
                    </a:lnTo>
                    <a:lnTo>
                      <a:pt x="1183" y="489"/>
                    </a:lnTo>
                    <a:lnTo>
                      <a:pt x="1198" y="489"/>
                    </a:lnTo>
                    <a:lnTo>
                      <a:pt x="1212" y="489"/>
                    </a:lnTo>
                    <a:lnTo>
                      <a:pt x="1226" y="489"/>
                    </a:lnTo>
                    <a:lnTo>
                      <a:pt x="1241" y="488"/>
                    </a:lnTo>
                    <a:lnTo>
                      <a:pt x="1255" y="486"/>
                    </a:lnTo>
                    <a:lnTo>
                      <a:pt x="1270" y="485"/>
                    </a:lnTo>
                    <a:lnTo>
                      <a:pt x="1284" y="483"/>
                    </a:lnTo>
                    <a:lnTo>
                      <a:pt x="1294" y="480"/>
                    </a:lnTo>
                    <a:lnTo>
                      <a:pt x="1303" y="478"/>
                    </a:lnTo>
                    <a:lnTo>
                      <a:pt x="1313" y="476"/>
                    </a:lnTo>
                    <a:lnTo>
                      <a:pt x="1322" y="472"/>
                    </a:lnTo>
                    <a:lnTo>
                      <a:pt x="1332" y="468"/>
                    </a:lnTo>
                    <a:lnTo>
                      <a:pt x="1342" y="465"/>
                    </a:lnTo>
                    <a:lnTo>
                      <a:pt x="1350" y="460"/>
                    </a:lnTo>
                    <a:lnTo>
                      <a:pt x="1358" y="454"/>
                    </a:lnTo>
                    <a:lnTo>
                      <a:pt x="1367" y="448"/>
                    </a:lnTo>
                    <a:lnTo>
                      <a:pt x="1375" y="441"/>
                    </a:lnTo>
                    <a:lnTo>
                      <a:pt x="1384" y="434"/>
                    </a:lnTo>
                    <a:lnTo>
                      <a:pt x="1392" y="426"/>
                    </a:lnTo>
                    <a:lnTo>
                      <a:pt x="1398" y="418"/>
                    </a:lnTo>
                    <a:lnTo>
                      <a:pt x="1403" y="408"/>
                    </a:lnTo>
                    <a:lnTo>
                      <a:pt x="1404" y="405"/>
                    </a:lnTo>
                    <a:lnTo>
                      <a:pt x="1405" y="400"/>
                    </a:lnTo>
                    <a:lnTo>
                      <a:pt x="1405" y="395"/>
                    </a:lnTo>
                    <a:lnTo>
                      <a:pt x="1404" y="390"/>
                    </a:lnTo>
                    <a:lnTo>
                      <a:pt x="1403" y="386"/>
                    </a:lnTo>
                    <a:lnTo>
                      <a:pt x="1400" y="382"/>
                    </a:lnTo>
                    <a:lnTo>
                      <a:pt x="1397" y="378"/>
                    </a:lnTo>
                    <a:lnTo>
                      <a:pt x="1393" y="375"/>
                    </a:lnTo>
                    <a:lnTo>
                      <a:pt x="1385" y="369"/>
                    </a:lnTo>
                    <a:lnTo>
                      <a:pt x="1374" y="365"/>
                    </a:lnTo>
                    <a:lnTo>
                      <a:pt x="1363" y="360"/>
                    </a:lnTo>
                    <a:lnTo>
                      <a:pt x="1351" y="358"/>
                    </a:lnTo>
                    <a:lnTo>
                      <a:pt x="1340" y="354"/>
                    </a:lnTo>
                    <a:lnTo>
                      <a:pt x="1330" y="351"/>
                    </a:lnTo>
                    <a:lnTo>
                      <a:pt x="1318" y="346"/>
                    </a:lnTo>
                    <a:lnTo>
                      <a:pt x="1306" y="341"/>
                    </a:lnTo>
                    <a:lnTo>
                      <a:pt x="1292" y="338"/>
                    </a:lnTo>
                    <a:lnTo>
                      <a:pt x="1280" y="334"/>
                    </a:lnTo>
                    <a:lnTo>
                      <a:pt x="1267" y="330"/>
                    </a:lnTo>
                    <a:lnTo>
                      <a:pt x="1255" y="327"/>
                    </a:lnTo>
                    <a:lnTo>
                      <a:pt x="1243" y="322"/>
                    </a:lnTo>
                    <a:lnTo>
                      <a:pt x="1232" y="316"/>
                    </a:lnTo>
                    <a:lnTo>
                      <a:pt x="1224" y="311"/>
                    </a:lnTo>
                    <a:lnTo>
                      <a:pt x="1217" y="306"/>
                    </a:lnTo>
                    <a:lnTo>
                      <a:pt x="1210" y="302"/>
                    </a:lnTo>
                    <a:lnTo>
                      <a:pt x="1204" y="296"/>
                    </a:lnTo>
                    <a:lnTo>
                      <a:pt x="1198" y="290"/>
                    </a:lnTo>
                    <a:lnTo>
                      <a:pt x="1192" y="284"/>
                    </a:lnTo>
                    <a:lnTo>
                      <a:pt x="1186" y="276"/>
                    </a:lnTo>
                    <a:lnTo>
                      <a:pt x="1180" y="270"/>
                    </a:lnTo>
                    <a:lnTo>
                      <a:pt x="1175" y="263"/>
                    </a:lnTo>
                    <a:lnTo>
                      <a:pt x="1170" y="256"/>
                    </a:lnTo>
                    <a:lnTo>
                      <a:pt x="1166" y="248"/>
                    </a:lnTo>
                    <a:lnTo>
                      <a:pt x="1163" y="240"/>
                    </a:lnTo>
                    <a:lnTo>
                      <a:pt x="1159" y="232"/>
                    </a:lnTo>
                    <a:lnTo>
                      <a:pt x="1156" y="224"/>
                    </a:lnTo>
                    <a:lnTo>
                      <a:pt x="1153" y="215"/>
                    </a:lnTo>
                    <a:lnTo>
                      <a:pt x="1151" y="207"/>
                    </a:lnTo>
                    <a:lnTo>
                      <a:pt x="1150" y="201"/>
                    </a:lnTo>
                    <a:lnTo>
                      <a:pt x="1150" y="195"/>
                    </a:lnTo>
                    <a:lnTo>
                      <a:pt x="1148" y="189"/>
                    </a:lnTo>
                    <a:lnTo>
                      <a:pt x="1148" y="182"/>
                    </a:lnTo>
                    <a:lnTo>
                      <a:pt x="1150" y="176"/>
                    </a:lnTo>
                    <a:lnTo>
                      <a:pt x="1151" y="171"/>
                    </a:lnTo>
                    <a:lnTo>
                      <a:pt x="1153" y="165"/>
                    </a:lnTo>
                    <a:lnTo>
                      <a:pt x="1157" y="161"/>
                    </a:lnTo>
                    <a:lnTo>
                      <a:pt x="1163" y="156"/>
                    </a:lnTo>
                    <a:lnTo>
                      <a:pt x="1170" y="153"/>
                    </a:lnTo>
                    <a:lnTo>
                      <a:pt x="1176" y="152"/>
                    </a:lnTo>
                    <a:lnTo>
                      <a:pt x="1184" y="149"/>
                    </a:lnTo>
                    <a:lnTo>
                      <a:pt x="1192" y="149"/>
                    </a:lnTo>
                    <a:lnTo>
                      <a:pt x="1199" y="149"/>
                    </a:lnTo>
                    <a:lnTo>
                      <a:pt x="1207" y="149"/>
                    </a:lnTo>
                    <a:lnTo>
                      <a:pt x="1214" y="149"/>
                    </a:lnTo>
                    <a:lnTo>
                      <a:pt x="1224" y="150"/>
                    </a:lnTo>
                    <a:lnTo>
                      <a:pt x="1234" y="153"/>
                    </a:lnTo>
                    <a:lnTo>
                      <a:pt x="1243" y="156"/>
                    </a:lnTo>
                    <a:lnTo>
                      <a:pt x="1252" y="160"/>
                    </a:lnTo>
                    <a:lnTo>
                      <a:pt x="1261" y="164"/>
                    </a:lnTo>
                    <a:lnTo>
                      <a:pt x="1271" y="167"/>
                    </a:lnTo>
                    <a:lnTo>
                      <a:pt x="1280" y="170"/>
                    </a:lnTo>
                    <a:lnTo>
                      <a:pt x="1289" y="172"/>
                    </a:lnTo>
                    <a:lnTo>
                      <a:pt x="1301" y="174"/>
                    </a:lnTo>
                    <a:lnTo>
                      <a:pt x="1312" y="177"/>
                    </a:lnTo>
                    <a:lnTo>
                      <a:pt x="1324" y="178"/>
                    </a:lnTo>
                    <a:lnTo>
                      <a:pt x="1336" y="179"/>
                    </a:lnTo>
                    <a:lnTo>
                      <a:pt x="1346" y="182"/>
                    </a:lnTo>
                    <a:lnTo>
                      <a:pt x="1358" y="182"/>
                    </a:lnTo>
                    <a:lnTo>
                      <a:pt x="1369" y="183"/>
                    </a:lnTo>
                    <a:lnTo>
                      <a:pt x="1381" y="184"/>
                    </a:lnTo>
                    <a:lnTo>
                      <a:pt x="1394" y="184"/>
                    </a:lnTo>
                    <a:lnTo>
                      <a:pt x="1408" y="185"/>
                    </a:lnTo>
                    <a:lnTo>
                      <a:pt x="1420" y="185"/>
                    </a:lnTo>
                    <a:lnTo>
                      <a:pt x="1433" y="185"/>
                    </a:lnTo>
                    <a:lnTo>
                      <a:pt x="1446" y="185"/>
                    </a:lnTo>
                    <a:lnTo>
                      <a:pt x="1459" y="185"/>
                    </a:lnTo>
                    <a:lnTo>
                      <a:pt x="1472" y="184"/>
                    </a:lnTo>
                    <a:lnTo>
                      <a:pt x="1484" y="184"/>
                    </a:lnTo>
                    <a:lnTo>
                      <a:pt x="1494" y="183"/>
                    </a:lnTo>
                    <a:lnTo>
                      <a:pt x="1502" y="182"/>
                    </a:lnTo>
                    <a:lnTo>
                      <a:pt x="1511" y="180"/>
                    </a:lnTo>
                    <a:lnTo>
                      <a:pt x="1519" y="179"/>
                    </a:lnTo>
                    <a:lnTo>
                      <a:pt x="1528" y="178"/>
                    </a:lnTo>
                    <a:lnTo>
                      <a:pt x="1537" y="177"/>
                    </a:lnTo>
                    <a:lnTo>
                      <a:pt x="1546" y="177"/>
                    </a:lnTo>
                    <a:lnTo>
                      <a:pt x="1554" y="178"/>
                    </a:lnTo>
                    <a:lnTo>
                      <a:pt x="1561" y="179"/>
                    </a:lnTo>
                    <a:lnTo>
                      <a:pt x="1568" y="182"/>
                    </a:lnTo>
                    <a:lnTo>
                      <a:pt x="1576" y="185"/>
                    </a:lnTo>
                    <a:lnTo>
                      <a:pt x="1583" y="188"/>
                    </a:lnTo>
                    <a:lnTo>
                      <a:pt x="1589" y="192"/>
                    </a:lnTo>
                    <a:lnTo>
                      <a:pt x="1595" y="196"/>
                    </a:lnTo>
                    <a:lnTo>
                      <a:pt x="1601" y="201"/>
                    </a:lnTo>
                    <a:lnTo>
                      <a:pt x="1606" y="207"/>
                    </a:lnTo>
                    <a:lnTo>
                      <a:pt x="1610" y="213"/>
                    </a:lnTo>
                    <a:lnTo>
                      <a:pt x="1613" y="220"/>
                    </a:lnTo>
                    <a:lnTo>
                      <a:pt x="1615" y="227"/>
                    </a:lnTo>
                    <a:lnTo>
                      <a:pt x="1618" y="234"/>
                    </a:lnTo>
                    <a:lnTo>
                      <a:pt x="1619" y="242"/>
                    </a:lnTo>
                    <a:lnTo>
                      <a:pt x="1620" y="249"/>
                    </a:lnTo>
                    <a:lnTo>
                      <a:pt x="1621" y="257"/>
                    </a:lnTo>
                    <a:lnTo>
                      <a:pt x="1622" y="264"/>
                    </a:lnTo>
                    <a:lnTo>
                      <a:pt x="1627" y="284"/>
                    </a:lnTo>
                    <a:lnTo>
                      <a:pt x="1632" y="303"/>
                    </a:lnTo>
                    <a:lnTo>
                      <a:pt x="1637" y="322"/>
                    </a:lnTo>
                    <a:lnTo>
                      <a:pt x="1642" y="341"/>
                    </a:lnTo>
                    <a:lnTo>
                      <a:pt x="1646" y="360"/>
                    </a:lnTo>
                    <a:lnTo>
                      <a:pt x="1650" y="381"/>
                    </a:lnTo>
                    <a:lnTo>
                      <a:pt x="1654" y="400"/>
                    </a:lnTo>
                    <a:lnTo>
                      <a:pt x="1657" y="419"/>
                    </a:lnTo>
                    <a:lnTo>
                      <a:pt x="1660" y="437"/>
                    </a:lnTo>
                    <a:lnTo>
                      <a:pt x="1661" y="455"/>
                    </a:lnTo>
                    <a:lnTo>
                      <a:pt x="1662" y="473"/>
                    </a:lnTo>
                    <a:lnTo>
                      <a:pt x="1662" y="491"/>
                    </a:lnTo>
                    <a:lnTo>
                      <a:pt x="1662" y="509"/>
                    </a:lnTo>
                    <a:lnTo>
                      <a:pt x="1663" y="527"/>
                    </a:lnTo>
                    <a:lnTo>
                      <a:pt x="1666" y="545"/>
                    </a:lnTo>
                    <a:lnTo>
                      <a:pt x="1669" y="563"/>
                    </a:lnTo>
                    <a:lnTo>
                      <a:pt x="1672" y="575"/>
                    </a:lnTo>
                    <a:lnTo>
                      <a:pt x="1675" y="586"/>
                    </a:lnTo>
                    <a:lnTo>
                      <a:pt x="1679" y="598"/>
                    </a:lnTo>
                    <a:lnTo>
                      <a:pt x="1684" y="610"/>
                    </a:lnTo>
                    <a:lnTo>
                      <a:pt x="1688" y="621"/>
                    </a:lnTo>
                    <a:lnTo>
                      <a:pt x="1694" y="631"/>
                    </a:lnTo>
                    <a:lnTo>
                      <a:pt x="1702" y="641"/>
                    </a:lnTo>
                    <a:lnTo>
                      <a:pt x="1709" y="649"/>
                    </a:lnTo>
                    <a:lnTo>
                      <a:pt x="1715" y="654"/>
                    </a:lnTo>
                    <a:lnTo>
                      <a:pt x="1722" y="657"/>
                    </a:lnTo>
                    <a:lnTo>
                      <a:pt x="1729" y="659"/>
                    </a:lnTo>
                    <a:lnTo>
                      <a:pt x="1738" y="661"/>
                    </a:lnTo>
                    <a:lnTo>
                      <a:pt x="1745" y="661"/>
                    </a:lnTo>
                    <a:lnTo>
                      <a:pt x="1753" y="660"/>
                    </a:lnTo>
                    <a:lnTo>
                      <a:pt x="1760" y="658"/>
                    </a:lnTo>
                    <a:lnTo>
                      <a:pt x="1766" y="655"/>
                    </a:lnTo>
                    <a:lnTo>
                      <a:pt x="1780" y="645"/>
                    </a:lnTo>
                    <a:lnTo>
                      <a:pt x="1792" y="633"/>
                    </a:lnTo>
                    <a:lnTo>
                      <a:pt x="1804" y="621"/>
                    </a:lnTo>
                    <a:lnTo>
                      <a:pt x="1813" y="607"/>
                    </a:lnTo>
                    <a:lnTo>
                      <a:pt x="1824" y="593"/>
                    </a:lnTo>
                    <a:lnTo>
                      <a:pt x="1834" y="579"/>
                    </a:lnTo>
                    <a:lnTo>
                      <a:pt x="1843" y="566"/>
                    </a:lnTo>
                    <a:lnTo>
                      <a:pt x="1853" y="551"/>
                    </a:lnTo>
                    <a:lnTo>
                      <a:pt x="1866" y="534"/>
                    </a:lnTo>
                    <a:lnTo>
                      <a:pt x="1878" y="518"/>
                    </a:lnTo>
                    <a:lnTo>
                      <a:pt x="1890" y="500"/>
                    </a:lnTo>
                    <a:lnTo>
                      <a:pt x="1902" y="483"/>
                    </a:lnTo>
                    <a:lnTo>
                      <a:pt x="1914" y="465"/>
                    </a:lnTo>
                    <a:lnTo>
                      <a:pt x="1926" y="448"/>
                    </a:lnTo>
                    <a:lnTo>
                      <a:pt x="1938" y="430"/>
                    </a:lnTo>
                    <a:lnTo>
                      <a:pt x="1951" y="413"/>
                    </a:lnTo>
                    <a:lnTo>
                      <a:pt x="1960" y="401"/>
                    </a:lnTo>
                    <a:lnTo>
                      <a:pt x="1969" y="389"/>
                    </a:lnTo>
                    <a:lnTo>
                      <a:pt x="1979" y="377"/>
                    </a:lnTo>
                    <a:lnTo>
                      <a:pt x="1988" y="365"/>
                    </a:lnTo>
                    <a:lnTo>
                      <a:pt x="1999" y="354"/>
                    </a:lnTo>
                    <a:lnTo>
                      <a:pt x="2009" y="342"/>
                    </a:lnTo>
                    <a:lnTo>
                      <a:pt x="2020" y="332"/>
                    </a:lnTo>
                    <a:lnTo>
                      <a:pt x="2032" y="322"/>
                    </a:lnTo>
                    <a:lnTo>
                      <a:pt x="2038" y="316"/>
                    </a:lnTo>
                    <a:lnTo>
                      <a:pt x="2045" y="310"/>
                    </a:lnTo>
                    <a:lnTo>
                      <a:pt x="2052" y="304"/>
                    </a:lnTo>
                    <a:lnTo>
                      <a:pt x="2060" y="299"/>
                    </a:lnTo>
                    <a:lnTo>
                      <a:pt x="2068" y="294"/>
                    </a:lnTo>
                    <a:lnTo>
                      <a:pt x="2075" y="293"/>
                    </a:lnTo>
                    <a:lnTo>
                      <a:pt x="2077" y="293"/>
                    </a:lnTo>
                    <a:lnTo>
                      <a:pt x="2080" y="294"/>
                    </a:lnTo>
                    <a:lnTo>
                      <a:pt x="2082" y="296"/>
                    </a:lnTo>
                    <a:lnTo>
                      <a:pt x="2083" y="299"/>
                    </a:lnTo>
                    <a:lnTo>
                      <a:pt x="2088" y="318"/>
                    </a:lnTo>
                    <a:lnTo>
                      <a:pt x="2092" y="340"/>
                    </a:lnTo>
                    <a:lnTo>
                      <a:pt x="2093" y="360"/>
                    </a:lnTo>
                    <a:lnTo>
                      <a:pt x="2092" y="382"/>
                    </a:lnTo>
                    <a:lnTo>
                      <a:pt x="2090" y="404"/>
                    </a:lnTo>
                    <a:lnTo>
                      <a:pt x="2087" y="424"/>
                    </a:lnTo>
                    <a:lnTo>
                      <a:pt x="2082" y="446"/>
                    </a:lnTo>
                    <a:lnTo>
                      <a:pt x="2077" y="466"/>
                    </a:lnTo>
                    <a:lnTo>
                      <a:pt x="2066" y="501"/>
                    </a:lnTo>
                    <a:lnTo>
                      <a:pt x="2054" y="537"/>
                    </a:lnTo>
                    <a:lnTo>
                      <a:pt x="2041" y="572"/>
                    </a:lnTo>
                    <a:lnTo>
                      <a:pt x="2026" y="605"/>
                    </a:lnTo>
                    <a:lnTo>
                      <a:pt x="2011" y="640"/>
                    </a:lnTo>
                    <a:lnTo>
                      <a:pt x="1994" y="673"/>
                    </a:lnTo>
                    <a:lnTo>
                      <a:pt x="1979" y="707"/>
                    </a:lnTo>
                    <a:lnTo>
                      <a:pt x="1962" y="741"/>
                    </a:lnTo>
                    <a:lnTo>
                      <a:pt x="1954" y="760"/>
                    </a:lnTo>
                    <a:lnTo>
                      <a:pt x="1944" y="779"/>
                    </a:lnTo>
                    <a:lnTo>
                      <a:pt x="1933" y="797"/>
                    </a:lnTo>
                    <a:lnTo>
                      <a:pt x="1924" y="815"/>
                    </a:lnTo>
                    <a:lnTo>
                      <a:pt x="1913" y="833"/>
                    </a:lnTo>
                    <a:lnTo>
                      <a:pt x="1901" y="851"/>
                    </a:lnTo>
                    <a:lnTo>
                      <a:pt x="1889" y="868"/>
                    </a:lnTo>
                    <a:lnTo>
                      <a:pt x="1876" y="885"/>
                    </a:lnTo>
                    <a:lnTo>
                      <a:pt x="1867" y="895"/>
                    </a:lnTo>
                    <a:lnTo>
                      <a:pt x="1856" y="904"/>
                    </a:lnTo>
                    <a:lnTo>
                      <a:pt x="1846" y="912"/>
                    </a:lnTo>
                    <a:lnTo>
                      <a:pt x="1835" y="921"/>
                    </a:lnTo>
                    <a:lnTo>
                      <a:pt x="1823" y="929"/>
                    </a:lnTo>
                    <a:lnTo>
                      <a:pt x="1812" y="936"/>
                    </a:lnTo>
                    <a:lnTo>
                      <a:pt x="1800" y="945"/>
                    </a:lnTo>
                    <a:lnTo>
                      <a:pt x="1789" y="954"/>
                    </a:lnTo>
                    <a:lnTo>
                      <a:pt x="1784" y="958"/>
                    </a:lnTo>
                    <a:lnTo>
                      <a:pt x="1780" y="963"/>
                    </a:lnTo>
                    <a:lnTo>
                      <a:pt x="1774" y="967"/>
                    </a:lnTo>
                    <a:lnTo>
                      <a:pt x="1769" y="972"/>
                    </a:lnTo>
                    <a:lnTo>
                      <a:pt x="1764" y="977"/>
                    </a:lnTo>
                    <a:lnTo>
                      <a:pt x="1760" y="982"/>
                    </a:lnTo>
                    <a:lnTo>
                      <a:pt x="1757" y="988"/>
                    </a:lnTo>
                    <a:lnTo>
                      <a:pt x="1756" y="994"/>
                    </a:lnTo>
                    <a:lnTo>
                      <a:pt x="1753" y="1001"/>
                    </a:lnTo>
                    <a:lnTo>
                      <a:pt x="1753" y="1009"/>
                    </a:lnTo>
                    <a:lnTo>
                      <a:pt x="1752" y="1018"/>
                    </a:lnTo>
                    <a:lnTo>
                      <a:pt x="1753" y="1026"/>
                    </a:lnTo>
                    <a:lnTo>
                      <a:pt x="1754" y="1033"/>
                    </a:lnTo>
                    <a:lnTo>
                      <a:pt x="1757" y="1041"/>
                    </a:lnTo>
                    <a:lnTo>
                      <a:pt x="1762" y="1047"/>
                    </a:lnTo>
                    <a:lnTo>
                      <a:pt x="1766" y="1051"/>
                    </a:lnTo>
                    <a:lnTo>
                      <a:pt x="1778" y="1057"/>
                    </a:lnTo>
                    <a:lnTo>
                      <a:pt x="1790" y="1063"/>
                    </a:lnTo>
                    <a:lnTo>
                      <a:pt x="1804" y="1067"/>
                    </a:lnTo>
                    <a:lnTo>
                      <a:pt x="1817" y="1069"/>
                    </a:lnTo>
                    <a:lnTo>
                      <a:pt x="1830" y="1071"/>
                    </a:lnTo>
                    <a:lnTo>
                      <a:pt x="1843" y="1071"/>
                    </a:lnTo>
                    <a:lnTo>
                      <a:pt x="1858" y="1071"/>
                    </a:lnTo>
                    <a:lnTo>
                      <a:pt x="1871" y="1068"/>
                    </a:lnTo>
                    <a:lnTo>
                      <a:pt x="1884" y="1066"/>
                    </a:lnTo>
                    <a:lnTo>
                      <a:pt x="1898" y="1062"/>
                    </a:lnTo>
                    <a:lnTo>
                      <a:pt x="1913" y="1057"/>
                    </a:lnTo>
                    <a:lnTo>
                      <a:pt x="1926" y="1051"/>
                    </a:lnTo>
                    <a:lnTo>
                      <a:pt x="1939" y="1044"/>
                    </a:lnTo>
                    <a:lnTo>
                      <a:pt x="1952" y="1036"/>
                    </a:lnTo>
                    <a:lnTo>
                      <a:pt x="1963" y="1027"/>
                    </a:lnTo>
                    <a:lnTo>
                      <a:pt x="1974" y="1017"/>
                    </a:lnTo>
                    <a:lnTo>
                      <a:pt x="1982" y="1007"/>
                    </a:lnTo>
                    <a:lnTo>
                      <a:pt x="1991" y="996"/>
                    </a:lnTo>
                    <a:lnTo>
                      <a:pt x="1999" y="985"/>
                    </a:lnTo>
                    <a:lnTo>
                      <a:pt x="2006" y="973"/>
                    </a:lnTo>
                    <a:lnTo>
                      <a:pt x="2020" y="951"/>
                    </a:lnTo>
                    <a:lnTo>
                      <a:pt x="2033" y="927"/>
                    </a:lnTo>
                    <a:lnTo>
                      <a:pt x="2046" y="903"/>
                    </a:lnTo>
                    <a:lnTo>
                      <a:pt x="2059" y="879"/>
                    </a:lnTo>
                    <a:lnTo>
                      <a:pt x="2074" y="855"/>
                    </a:lnTo>
                    <a:lnTo>
                      <a:pt x="2089" y="833"/>
                    </a:lnTo>
                    <a:lnTo>
                      <a:pt x="2101" y="819"/>
                    </a:lnTo>
                    <a:lnTo>
                      <a:pt x="2113" y="804"/>
                    </a:lnTo>
                    <a:lnTo>
                      <a:pt x="2126" y="791"/>
                    </a:lnTo>
                    <a:lnTo>
                      <a:pt x="2140" y="778"/>
                    </a:lnTo>
                    <a:lnTo>
                      <a:pt x="2154" y="765"/>
                    </a:lnTo>
                    <a:lnTo>
                      <a:pt x="2168" y="753"/>
                    </a:lnTo>
                    <a:lnTo>
                      <a:pt x="2183" y="741"/>
                    </a:lnTo>
                    <a:lnTo>
                      <a:pt x="2198" y="730"/>
                    </a:lnTo>
                    <a:lnTo>
                      <a:pt x="2208" y="723"/>
                    </a:lnTo>
                    <a:lnTo>
                      <a:pt x="2218" y="717"/>
                    </a:lnTo>
                    <a:lnTo>
                      <a:pt x="2228" y="709"/>
                    </a:lnTo>
                    <a:lnTo>
                      <a:pt x="2239" y="705"/>
                    </a:lnTo>
                    <a:lnTo>
                      <a:pt x="2250" y="700"/>
                    </a:lnTo>
                    <a:lnTo>
                      <a:pt x="2262" y="696"/>
                    </a:lnTo>
                    <a:lnTo>
                      <a:pt x="2273" y="695"/>
                    </a:lnTo>
                    <a:lnTo>
                      <a:pt x="2285" y="695"/>
                    </a:lnTo>
                    <a:lnTo>
                      <a:pt x="2296" y="697"/>
                    </a:lnTo>
                    <a:lnTo>
                      <a:pt x="2305" y="701"/>
                    </a:lnTo>
                    <a:lnTo>
                      <a:pt x="2316" y="707"/>
                    </a:lnTo>
                    <a:lnTo>
                      <a:pt x="2326" y="714"/>
                    </a:lnTo>
                    <a:lnTo>
                      <a:pt x="2334" y="721"/>
                    </a:lnTo>
                    <a:lnTo>
                      <a:pt x="2342" y="730"/>
                    </a:lnTo>
                    <a:lnTo>
                      <a:pt x="2351" y="738"/>
                    </a:lnTo>
                    <a:lnTo>
                      <a:pt x="2359" y="747"/>
                    </a:lnTo>
                    <a:lnTo>
                      <a:pt x="2366" y="756"/>
                    </a:lnTo>
                    <a:lnTo>
                      <a:pt x="2375" y="766"/>
                    </a:lnTo>
                    <a:lnTo>
                      <a:pt x="2381" y="775"/>
                    </a:lnTo>
                    <a:lnTo>
                      <a:pt x="2387" y="785"/>
                    </a:lnTo>
                    <a:lnTo>
                      <a:pt x="2393" y="796"/>
                    </a:lnTo>
                    <a:lnTo>
                      <a:pt x="2399" y="807"/>
                    </a:lnTo>
                    <a:lnTo>
                      <a:pt x="2405" y="817"/>
                    </a:lnTo>
                    <a:lnTo>
                      <a:pt x="2411" y="827"/>
                    </a:lnTo>
                    <a:lnTo>
                      <a:pt x="2420" y="843"/>
                    </a:lnTo>
                    <a:lnTo>
                      <a:pt x="2429" y="857"/>
                    </a:lnTo>
                    <a:lnTo>
                      <a:pt x="2438" y="871"/>
                    </a:lnTo>
                    <a:lnTo>
                      <a:pt x="2448" y="886"/>
                    </a:lnTo>
                    <a:lnTo>
                      <a:pt x="2456" y="901"/>
                    </a:lnTo>
                    <a:lnTo>
                      <a:pt x="2465" y="917"/>
                    </a:lnTo>
                    <a:lnTo>
                      <a:pt x="2473" y="933"/>
                    </a:lnTo>
                    <a:lnTo>
                      <a:pt x="2480" y="948"/>
                    </a:lnTo>
                    <a:lnTo>
                      <a:pt x="2484" y="958"/>
                    </a:lnTo>
                    <a:lnTo>
                      <a:pt x="2486" y="967"/>
                    </a:lnTo>
                    <a:lnTo>
                      <a:pt x="2489" y="977"/>
                    </a:lnTo>
                    <a:lnTo>
                      <a:pt x="2491" y="988"/>
                    </a:lnTo>
                    <a:lnTo>
                      <a:pt x="2492" y="997"/>
                    </a:lnTo>
                    <a:lnTo>
                      <a:pt x="2494" y="1008"/>
                    </a:lnTo>
                    <a:lnTo>
                      <a:pt x="2492" y="1018"/>
                    </a:lnTo>
                    <a:lnTo>
                      <a:pt x="2491" y="1029"/>
                    </a:lnTo>
                    <a:lnTo>
                      <a:pt x="2490" y="1035"/>
                    </a:lnTo>
                    <a:lnTo>
                      <a:pt x="2488" y="1042"/>
                    </a:lnTo>
                    <a:lnTo>
                      <a:pt x="2484" y="1049"/>
                    </a:lnTo>
                    <a:lnTo>
                      <a:pt x="2479" y="1055"/>
                    </a:lnTo>
                    <a:lnTo>
                      <a:pt x="2474" y="1060"/>
                    </a:lnTo>
                    <a:lnTo>
                      <a:pt x="2470" y="1065"/>
                    </a:lnTo>
                    <a:lnTo>
                      <a:pt x="2464" y="1067"/>
                    </a:lnTo>
                    <a:lnTo>
                      <a:pt x="2456" y="1068"/>
                    </a:lnTo>
                    <a:lnTo>
                      <a:pt x="2447" y="1068"/>
                    </a:lnTo>
                    <a:lnTo>
                      <a:pt x="2436" y="1067"/>
                    </a:lnTo>
                    <a:lnTo>
                      <a:pt x="2426" y="1063"/>
                    </a:lnTo>
                    <a:lnTo>
                      <a:pt x="2417" y="1059"/>
                    </a:lnTo>
                    <a:lnTo>
                      <a:pt x="2407" y="1054"/>
                    </a:lnTo>
                    <a:lnTo>
                      <a:pt x="2399" y="1048"/>
                    </a:lnTo>
                    <a:lnTo>
                      <a:pt x="2390" y="1041"/>
                    </a:lnTo>
                    <a:lnTo>
                      <a:pt x="2382" y="1035"/>
                    </a:lnTo>
                    <a:lnTo>
                      <a:pt x="2371" y="1024"/>
                    </a:lnTo>
                    <a:lnTo>
                      <a:pt x="2363" y="1012"/>
                    </a:lnTo>
                    <a:lnTo>
                      <a:pt x="2353" y="1000"/>
                    </a:lnTo>
                    <a:lnTo>
                      <a:pt x="2346" y="987"/>
                    </a:lnTo>
                    <a:lnTo>
                      <a:pt x="2338" y="975"/>
                    </a:lnTo>
                    <a:lnTo>
                      <a:pt x="2329" y="961"/>
                    </a:lnTo>
                    <a:lnTo>
                      <a:pt x="2322" y="948"/>
                    </a:lnTo>
                    <a:lnTo>
                      <a:pt x="2314" y="936"/>
                    </a:lnTo>
                    <a:lnTo>
                      <a:pt x="2308" y="929"/>
                    </a:lnTo>
                    <a:lnTo>
                      <a:pt x="2303" y="922"/>
                    </a:lnTo>
                    <a:lnTo>
                      <a:pt x="2297" y="913"/>
                    </a:lnTo>
                    <a:lnTo>
                      <a:pt x="2292" y="906"/>
                    </a:lnTo>
                    <a:lnTo>
                      <a:pt x="2286" y="899"/>
                    </a:lnTo>
                    <a:lnTo>
                      <a:pt x="2280" y="892"/>
                    </a:lnTo>
                    <a:lnTo>
                      <a:pt x="2274" y="885"/>
                    </a:lnTo>
                    <a:lnTo>
                      <a:pt x="2267" y="879"/>
                    </a:lnTo>
                    <a:lnTo>
                      <a:pt x="2264" y="877"/>
                    </a:lnTo>
                    <a:lnTo>
                      <a:pt x="2260" y="875"/>
                    </a:lnTo>
                    <a:lnTo>
                      <a:pt x="2256" y="874"/>
                    </a:lnTo>
                    <a:lnTo>
                      <a:pt x="2252" y="874"/>
                    </a:lnTo>
                    <a:lnTo>
                      <a:pt x="2248" y="874"/>
                    </a:lnTo>
                    <a:lnTo>
                      <a:pt x="2244" y="875"/>
                    </a:lnTo>
                    <a:lnTo>
                      <a:pt x="2240" y="876"/>
                    </a:lnTo>
                    <a:lnTo>
                      <a:pt x="2238" y="879"/>
                    </a:lnTo>
                    <a:lnTo>
                      <a:pt x="2228" y="894"/>
                    </a:lnTo>
                    <a:lnTo>
                      <a:pt x="2219" y="911"/>
                    </a:lnTo>
                    <a:lnTo>
                      <a:pt x="2210" y="927"/>
                    </a:lnTo>
                    <a:lnTo>
                      <a:pt x="2202" y="945"/>
                    </a:lnTo>
                    <a:lnTo>
                      <a:pt x="2195" y="961"/>
                    </a:lnTo>
                    <a:lnTo>
                      <a:pt x="2186" y="978"/>
                    </a:lnTo>
                    <a:lnTo>
                      <a:pt x="2178" y="995"/>
                    </a:lnTo>
                    <a:lnTo>
                      <a:pt x="2170" y="1011"/>
                    </a:lnTo>
                    <a:lnTo>
                      <a:pt x="2160" y="1027"/>
                    </a:lnTo>
                    <a:lnTo>
                      <a:pt x="2149" y="1044"/>
                    </a:lnTo>
                    <a:lnTo>
                      <a:pt x="2140" y="1060"/>
                    </a:lnTo>
                    <a:lnTo>
                      <a:pt x="2129" y="1077"/>
                    </a:lnTo>
                    <a:lnTo>
                      <a:pt x="2118" y="1092"/>
                    </a:lnTo>
                    <a:lnTo>
                      <a:pt x="2107" y="1108"/>
                    </a:lnTo>
                    <a:lnTo>
                      <a:pt x="2095" y="1122"/>
                    </a:lnTo>
                    <a:lnTo>
                      <a:pt x="2083" y="1138"/>
                    </a:lnTo>
                    <a:lnTo>
                      <a:pt x="2071" y="1151"/>
                    </a:lnTo>
                    <a:lnTo>
                      <a:pt x="2059" y="1164"/>
                    </a:lnTo>
                    <a:lnTo>
                      <a:pt x="2047" y="1176"/>
                    </a:lnTo>
                    <a:lnTo>
                      <a:pt x="2034" y="1189"/>
                    </a:lnTo>
                    <a:lnTo>
                      <a:pt x="2021" y="1201"/>
                    </a:lnTo>
                    <a:lnTo>
                      <a:pt x="2008" y="1212"/>
                    </a:lnTo>
                    <a:lnTo>
                      <a:pt x="1993" y="1224"/>
                    </a:lnTo>
                    <a:lnTo>
                      <a:pt x="1980" y="1235"/>
                    </a:lnTo>
                    <a:lnTo>
                      <a:pt x="1969" y="1243"/>
                    </a:lnTo>
                    <a:lnTo>
                      <a:pt x="1960" y="1251"/>
                    </a:lnTo>
                    <a:lnTo>
                      <a:pt x="1949" y="1258"/>
                    </a:lnTo>
                    <a:lnTo>
                      <a:pt x="1938" y="1264"/>
                    </a:lnTo>
                    <a:lnTo>
                      <a:pt x="1927" y="1271"/>
                    </a:lnTo>
                    <a:lnTo>
                      <a:pt x="1916" y="1277"/>
                    </a:lnTo>
                    <a:lnTo>
                      <a:pt x="1904" y="1282"/>
                    </a:lnTo>
                    <a:lnTo>
                      <a:pt x="1894" y="1287"/>
                    </a:lnTo>
                    <a:lnTo>
                      <a:pt x="1883" y="1290"/>
                    </a:lnTo>
                    <a:lnTo>
                      <a:pt x="1872" y="1293"/>
                    </a:lnTo>
                    <a:lnTo>
                      <a:pt x="1861" y="1295"/>
                    </a:lnTo>
                    <a:lnTo>
                      <a:pt x="1850" y="1296"/>
                    </a:lnTo>
                    <a:lnTo>
                      <a:pt x="1840" y="1299"/>
                    </a:lnTo>
                    <a:lnTo>
                      <a:pt x="1829" y="1300"/>
                    </a:lnTo>
                    <a:lnTo>
                      <a:pt x="1818" y="1301"/>
                    </a:lnTo>
                    <a:lnTo>
                      <a:pt x="1807" y="1305"/>
                    </a:lnTo>
                    <a:lnTo>
                      <a:pt x="1800" y="1306"/>
                    </a:lnTo>
                    <a:lnTo>
                      <a:pt x="1793" y="1308"/>
                    </a:lnTo>
                    <a:lnTo>
                      <a:pt x="1786" y="1309"/>
                    </a:lnTo>
                    <a:lnTo>
                      <a:pt x="1777" y="1312"/>
                    </a:lnTo>
                    <a:lnTo>
                      <a:pt x="1771" y="1314"/>
                    </a:lnTo>
                    <a:lnTo>
                      <a:pt x="1764" y="1318"/>
                    </a:lnTo>
                    <a:lnTo>
                      <a:pt x="1759" y="1321"/>
                    </a:lnTo>
                    <a:lnTo>
                      <a:pt x="1756" y="1327"/>
                    </a:lnTo>
                    <a:lnTo>
                      <a:pt x="1753" y="1332"/>
                    </a:lnTo>
                    <a:lnTo>
                      <a:pt x="1753" y="1337"/>
                    </a:lnTo>
                    <a:lnTo>
                      <a:pt x="1754" y="1343"/>
                    </a:lnTo>
                    <a:lnTo>
                      <a:pt x="1757" y="1348"/>
                    </a:lnTo>
                    <a:lnTo>
                      <a:pt x="1760" y="1354"/>
                    </a:lnTo>
                    <a:lnTo>
                      <a:pt x="1764" y="1358"/>
                    </a:lnTo>
                    <a:lnTo>
                      <a:pt x="1769" y="1363"/>
                    </a:lnTo>
                    <a:lnTo>
                      <a:pt x="1772" y="1367"/>
                    </a:lnTo>
                    <a:lnTo>
                      <a:pt x="1782" y="1375"/>
                    </a:lnTo>
                    <a:lnTo>
                      <a:pt x="1792" y="1382"/>
                    </a:lnTo>
                    <a:lnTo>
                      <a:pt x="1802" y="1388"/>
                    </a:lnTo>
                    <a:lnTo>
                      <a:pt x="1813" y="1396"/>
                    </a:lnTo>
                    <a:lnTo>
                      <a:pt x="1824" y="1402"/>
                    </a:lnTo>
                    <a:lnTo>
                      <a:pt x="1835" y="1409"/>
                    </a:lnTo>
                    <a:lnTo>
                      <a:pt x="1844" y="1416"/>
                    </a:lnTo>
                    <a:lnTo>
                      <a:pt x="1853" y="1424"/>
                    </a:lnTo>
                    <a:lnTo>
                      <a:pt x="1861" y="1436"/>
                    </a:lnTo>
                    <a:lnTo>
                      <a:pt x="1870" y="1448"/>
                    </a:lnTo>
                    <a:lnTo>
                      <a:pt x="1876" y="1462"/>
                    </a:lnTo>
                    <a:lnTo>
                      <a:pt x="1882" y="1475"/>
                    </a:lnTo>
                    <a:lnTo>
                      <a:pt x="1888" y="1488"/>
                    </a:lnTo>
                    <a:lnTo>
                      <a:pt x="1892" y="1501"/>
                    </a:lnTo>
                    <a:lnTo>
                      <a:pt x="1898" y="1514"/>
                    </a:lnTo>
                    <a:lnTo>
                      <a:pt x="1904" y="1528"/>
                    </a:lnTo>
                    <a:lnTo>
                      <a:pt x="1913" y="1547"/>
                    </a:lnTo>
                    <a:lnTo>
                      <a:pt x="1920" y="1565"/>
                    </a:lnTo>
                    <a:lnTo>
                      <a:pt x="1927" y="1584"/>
                    </a:lnTo>
                    <a:lnTo>
                      <a:pt x="1934" y="1603"/>
                    </a:lnTo>
                    <a:lnTo>
                      <a:pt x="1942" y="1622"/>
                    </a:lnTo>
                    <a:lnTo>
                      <a:pt x="1951" y="1640"/>
                    </a:lnTo>
                    <a:lnTo>
                      <a:pt x="1956" y="1649"/>
                    </a:lnTo>
                    <a:lnTo>
                      <a:pt x="1961" y="1656"/>
                    </a:lnTo>
                    <a:lnTo>
                      <a:pt x="1967" y="1664"/>
                    </a:lnTo>
                    <a:lnTo>
                      <a:pt x="1974" y="1672"/>
                    </a:lnTo>
                    <a:lnTo>
                      <a:pt x="1990" y="1686"/>
                    </a:lnTo>
                    <a:lnTo>
                      <a:pt x="2006" y="1699"/>
                    </a:lnTo>
                    <a:lnTo>
                      <a:pt x="2024" y="1711"/>
                    </a:lnTo>
                    <a:lnTo>
                      <a:pt x="2044" y="1721"/>
                    </a:lnTo>
                    <a:lnTo>
                      <a:pt x="2064" y="1730"/>
                    </a:lnTo>
                    <a:lnTo>
                      <a:pt x="2083" y="1740"/>
                    </a:lnTo>
                    <a:lnTo>
                      <a:pt x="2104" y="1748"/>
                    </a:lnTo>
                    <a:lnTo>
                      <a:pt x="2123" y="1758"/>
                    </a:lnTo>
                    <a:lnTo>
                      <a:pt x="2137" y="1764"/>
                    </a:lnTo>
                    <a:lnTo>
                      <a:pt x="2152" y="1770"/>
                    </a:lnTo>
                    <a:lnTo>
                      <a:pt x="2166" y="1775"/>
                    </a:lnTo>
                    <a:lnTo>
                      <a:pt x="2182" y="1780"/>
                    </a:lnTo>
                    <a:lnTo>
                      <a:pt x="2196" y="1786"/>
                    </a:lnTo>
                    <a:lnTo>
                      <a:pt x="2210" y="1790"/>
                    </a:lnTo>
                    <a:lnTo>
                      <a:pt x="2225" y="1796"/>
                    </a:lnTo>
                    <a:lnTo>
                      <a:pt x="2238" y="1804"/>
                    </a:lnTo>
                    <a:lnTo>
                      <a:pt x="2245" y="1808"/>
                    </a:lnTo>
                    <a:lnTo>
                      <a:pt x="2251" y="1813"/>
                    </a:lnTo>
                    <a:lnTo>
                      <a:pt x="2257" y="1818"/>
                    </a:lnTo>
                    <a:lnTo>
                      <a:pt x="2263" y="1824"/>
                    </a:lnTo>
                    <a:lnTo>
                      <a:pt x="2268" y="1830"/>
                    </a:lnTo>
                    <a:lnTo>
                      <a:pt x="2273" y="1836"/>
                    </a:lnTo>
                    <a:lnTo>
                      <a:pt x="2276" y="1843"/>
                    </a:lnTo>
                    <a:lnTo>
                      <a:pt x="2279" y="1850"/>
                    </a:lnTo>
                    <a:lnTo>
                      <a:pt x="2281" y="1859"/>
                    </a:lnTo>
                    <a:lnTo>
                      <a:pt x="2282" y="1870"/>
                    </a:lnTo>
                    <a:lnTo>
                      <a:pt x="2284" y="1879"/>
                    </a:lnTo>
                    <a:lnTo>
                      <a:pt x="2284" y="1890"/>
                    </a:lnTo>
                    <a:lnTo>
                      <a:pt x="2281" y="1900"/>
                    </a:lnTo>
                    <a:lnTo>
                      <a:pt x="2279" y="1908"/>
                    </a:lnTo>
                    <a:lnTo>
                      <a:pt x="2276" y="1912"/>
                    </a:lnTo>
                    <a:lnTo>
                      <a:pt x="2274" y="1914"/>
                    </a:lnTo>
                    <a:lnTo>
                      <a:pt x="2270" y="1916"/>
                    </a:lnTo>
                    <a:lnTo>
                      <a:pt x="2267" y="1919"/>
                    </a:lnTo>
                    <a:lnTo>
                      <a:pt x="2260" y="1921"/>
                    </a:lnTo>
                    <a:lnTo>
                      <a:pt x="2252" y="1922"/>
                    </a:lnTo>
                    <a:lnTo>
                      <a:pt x="2245" y="1924"/>
                    </a:lnTo>
                    <a:lnTo>
                      <a:pt x="2238" y="1924"/>
                    </a:lnTo>
                    <a:lnTo>
                      <a:pt x="2222" y="1922"/>
                    </a:lnTo>
                    <a:lnTo>
                      <a:pt x="2207" y="1920"/>
                    </a:lnTo>
                    <a:lnTo>
                      <a:pt x="2191" y="1916"/>
                    </a:lnTo>
                    <a:lnTo>
                      <a:pt x="2177" y="1912"/>
                    </a:lnTo>
                    <a:lnTo>
                      <a:pt x="2161" y="1906"/>
                    </a:lnTo>
                    <a:lnTo>
                      <a:pt x="2147" y="1902"/>
                    </a:lnTo>
                    <a:lnTo>
                      <a:pt x="2130" y="1897"/>
                    </a:lnTo>
                    <a:lnTo>
                      <a:pt x="2114" y="1891"/>
                    </a:lnTo>
                    <a:lnTo>
                      <a:pt x="2098" y="1885"/>
                    </a:lnTo>
                    <a:lnTo>
                      <a:pt x="2082" y="1878"/>
                    </a:lnTo>
                    <a:lnTo>
                      <a:pt x="2066" y="1871"/>
                    </a:lnTo>
                    <a:lnTo>
                      <a:pt x="2051" y="1864"/>
                    </a:lnTo>
                    <a:lnTo>
                      <a:pt x="2035" y="1856"/>
                    </a:lnTo>
                    <a:lnTo>
                      <a:pt x="2020" y="1850"/>
                    </a:lnTo>
                    <a:lnTo>
                      <a:pt x="2000" y="1842"/>
                    </a:lnTo>
                    <a:lnTo>
                      <a:pt x="1981" y="1835"/>
                    </a:lnTo>
                    <a:lnTo>
                      <a:pt x="1962" y="1826"/>
                    </a:lnTo>
                    <a:lnTo>
                      <a:pt x="1943" y="1819"/>
                    </a:lnTo>
                    <a:lnTo>
                      <a:pt x="1924" y="1811"/>
                    </a:lnTo>
                    <a:lnTo>
                      <a:pt x="1906" y="1802"/>
                    </a:lnTo>
                    <a:lnTo>
                      <a:pt x="1888" y="1793"/>
                    </a:lnTo>
                    <a:lnTo>
                      <a:pt x="1871" y="1781"/>
                    </a:lnTo>
                    <a:lnTo>
                      <a:pt x="1858" y="1771"/>
                    </a:lnTo>
                    <a:lnTo>
                      <a:pt x="1846" y="1760"/>
                    </a:lnTo>
                    <a:lnTo>
                      <a:pt x="1835" y="1750"/>
                    </a:lnTo>
                    <a:lnTo>
                      <a:pt x="1824" y="1738"/>
                    </a:lnTo>
                    <a:lnTo>
                      <a:pt x="1814" y="1724"/>
                    </a:lnTo>
                    <a:lnTo>
                      <a:pt x="1806" y="1711"/>
                    </a:lnTo>
                    <a:lnTo>
                      <a:pt x="1798" y="1697"/>
                    </a:lnTo>
                    <a:lnTo>
                      <a:pt x="1789" y="1684"/>
                    </a:lnTo>
                    <a:lnTo>
                      <a:pt x="1786" y="1673"/>
                    </a:lnTo>
                    <a:lnTo>
                      <a:pt x="1783" y="1663"/>
                    </a:lnTo>
                    <a:lnTo>
                      <a:pt x="1783" y="1652"/>
                    </a:lnTo>
                    <a:lnTo>
                      <a:pt x="1782" y="1640"/>
                    </a:lnTo>
                    <a:lnTo>
                      <a:pt x="1782" y="1630"/>
                    </a:lnTo>
                    <a:lnTo>
                      <a:pt x="1782" y="1619"/>
                    </a:lnTo>
                    <a:lnTo>
                      <a:pt x="1781" y="1608"/>
                    </a:lnTo>
                    <a:lnTo>
                      <a:pt x="1778" y="1597"/>
                    </a:lnTo>
                    <a:lnTo>
                      <a:pt x="1775" y="1588"/>
                    </a:lnTo>
                    <a:lnTo>
                      <a:pt x="1771" y="1578"/>
                    </a:lnTo>
                    <a:lnTo>
                      <a:pt x="1768" y="1568"/>
                    </a:lnTo>
                    <a:lnTo>
                      <a:pt x="1763" y="1559"/>
                    </a:lnTo>
                    <a:lnTo>
                      <a:pt x="1758" y="1550"/>
                    </a:lnTo>
                    <a:lnTo>
                      <a:pt x="1752" y="1542"/>
                    </a:lnTo>
                    <a:lnTo>
                      <a:pt x="1745" y="1535"/>
                    </a:lnTo>
                    <a:lnTo>
                      <a:pt x="1738" y="1528"/>
                    </a:lnTo>
                    <a:lnTo>
                      <a:pt x="1733" y="1525"/>
                    </a:lnTo>
                    <a:lnTo>
                      <a:pt x="1727" y="1523"/>
                    </a:lnTo>
                    <a:lnTo>
                      <a:pt x="1721" y="1522"/>
                    </a:lnTo>
                    <a:lnTo>
                      <a:pt x="1715" y="1520"/>
                    </a:lnTo>
                    <a:lnTo>
                      <a:pt x="1708" y="1520"/>
                    </a:lnTo>
                    <a:lnTo>
                      <a:pt x="1702" y="1523"/>
                    </a:lnTo>
                    <a:lnTo>
                      <a:pt x="1697" y="1525"/>
                    </a:lnTo>
                    <a:lnTo>
                      <a:pt x="1692" y="1528"/>
                    </a:lnTo>
                    <a:lnTo>
                      <a:pt x="1686" y="1535"/>
                    </a:lnTo>
                    <a:lnTo>
                      <a:pt x="1681" y="1543"/>
                    </a:lnTo>
                    <a:lnTo>
                      <a:pt x="1678" y="1552"/>
                    </a:lnTo>
                    <a:lnTo>
                      <a:pt x="1675" y="1560"/>
                    </a:lnTo>
                    <a:lnTo>
                      <a:pt x="1673" y="1570"/>
                    </a:lnTo>
                    <a:lnTo>
                      <a:pt x="1672" y="1578"/>
                    </a:lnTo>
                    <a:lnTo>
                      <a:pt x="1670" y="1588"/>
                    </a:lnTo>
                    <a:lnTo>
                      <a:pt x="1669" y="1597"/>
                    </a:lnTo>
                    <a:lnTo>
                      <a:pt x="1667" y="1616"/>
                    </a:lnTo>
                    <a:lnTo>
                      <a:pt x="1667" y="1636"/>
                    </a:lnTo>
                    <a:lnTo>
                      <a:pt x="1667" y="1655"/>
                    </a:lnTo>
                    <a:lnTo>
                      <a:pt x="1667" y="1674"/>
                    </a:lnTo>
                    <a:lnTo>
                      <a:pt x="1667" y="1694"/>
                    </a:lnTo>
                    <a:lnTo>
                      <a:pt x="1668" y="1714"/>
                    </a:lnTo>
                    <a:lnTo>
                      <a:pt x="1668" y="1733"/>
                    </a:lnTo>
                    <a:lnTo>
                      <a:pt x="1669" y="1752"/>
                    </a:lnTo>
                    <a:lnTo>
                      <a:pt x="1669" y="1768"/>
                    </a:lnTo>
                    <a:lnTo>
                      <a:pt x="1670" y="1782"/>
                    </a:lnTo>
                    <a:lnTo>
                      <a:pt x="1673" y="1798"/>
                    </a:lnTo>
                    <a:lnTo>
                      <a:pt x="1674" y="1813"/>
                    </a:lnTo>
                    <a:lnTo>
                      <a:pt x="1675" y="1828"/>
                    </a:lnTo>
                    <a:lnTo>
                      <a:pt x="1676" y="1843"/>
                    </a:lnTo>
                    <a:lnTo>
                      <a:pt x="1676" y="1858"/>
                    </a:lnTo>
                    <a:lnTo>
                      <a:pt x="1675" y="1873"/>
                    </a:lnTo>
                    <a:lnTo>
                      <a:pt x="1673" y="1884"/>
                    </a:lnTo>
                    <a:lnTo>
                      <a:pt x="1669" y="1895"/>
                    </a:lnTo>
                    <a:lnTo>
                      <a:pt x="1664" y="1906"/>
                    </a:lnTo>
                    <a:lnTo>
                      <a:pt x="1660" y="1916"/>
                    </a:lnTo>
                    <a:lnTo>
                      <a:pt x="1655" y="1927"/>
                    </a:lnTo>
                    <a:lnTo>
                      <a:pt x="1650" y="1938"/>
                    </a:lnTo>
                    <a:lnTo>
                      <a:pt x="1645" y="1949"/>
                    </a:lnTo>
                    <a:lnTo>
                      <a:pt x="1640" y="1960"/>
                    </a:lnTo>
                    <a:lnTo>
                      <a:pt x="1636" y="1973"/>
                    </a:lnTo>
                    <a:lnTo>
                      <a:pt x="1631" y="1986"/>
                    </a:lnTo>
                    <a:lnTo>
                      <a:pt x="1627" y="1999"/>
                    </a:lnTo>
                    <a:lnTo>
                      <a:pt x="1622" y="2012"/>
                    </a:lnTo>
                    <a:lnTo>
                      <a:pt x="1619" y="2026"/>
                    </a:lnTo>
                    <a:lnTo>
                      <a:pt x="1613" y="2039"/>
                    </a:lnTo>
                    <a:lnTo>
                      <a:pt x="1607" y="2051"/>
                    </a:lnTo>
                    <a:lnTo>
                      <a:pt x="1600" y="2063"/>
                    </a:lnTo>
                    <a:lnTo>
                      <a:pt x="1592" y="2072"/>
                    </a:lnTo>
                    <a:lnTo>
                      <a:pt x="1584" y="2082"/>
                    </a:lnTo>
                    <a:lnTo>
                      <a:pt x="1576" y="2090"/>
                    </a:lnTo>
                    <a:lnTo>
                      <a:pt x="1566" y="2097"/>
                    </a:lnTo>
                    <a:lnTo>
                      <a:pt x="1556" y="2106"/>
                    </a:lnTo>
                    <a:lnTo>
                      <a:pt x="1546" y="2112"/>
                    </a:lnTo>
                    <a:lnTo>
                      <a:pt x="1536" y="2119"/>
                    </a:lnTo>
                    <a:lnTo>
                      <a:pt x="1525" y="2125"/>
                    </a:lnTo>
                    <a:lnTo>
                      <a:pt x="1518" y="2130"/>
                    </a:lnTo>
                    <a:lnTo>
                      <a:pt x="1511" y="2135"/>
                    </a:lnTo>
                    <a:lnTo>
                      <a:pt x="1504" y="2138"/>
                    </a:lnTo>
                    <a:lnTo>
                      <a:pt x="1496" y="2142"/>
                    </a:lnTo>
                    <a:lnTo>
                      <a:pt x="1489" y="2145"/>
                    </a:lnTo>
                    <a:lnTo>
                      <a:pt x="1481" y="2147"/>
                    </a:lnTo>
                    <a:lnTo>
                      <a:pt x="1474" y="2145"/>
                    </a:lnTo>
                    <a:lnTo>
                      <a:pt x="1468" y="2143"/>
                    </a:lnTo>
                    <a:lnTo>
                      <a:pt x="1460" y="2137"/>
                    </a:lnTo>
                    <a:lnTo>
                      <a:pt x="1453" y="2129"/>
                    </a:lnTo>
                    <a:lnTo>
                      <a:pt x="1448" y="2120"/>
                    </a:lnTo>
                    <a:lnTo>
                      <a:pt x="1445" y="2109"/>
                    </a:lnTo>
                    <a:lnTo>
                      <a:pt x="1442" y="2100"/>
                    </a:lnTo>
                    <a:lnTo>
                      <a:pt x="1440" y="2089"/>
                    </a:lnTo>
                    <a:lnTo>
                      <a:pt x="1439" y="2078"/>
                    </a:lnTo>
                    <a:lnTo>
                      <a:pt x="1439" y="2069"/>
                    </a:lnTo>
                    <a:lnTo>
                      <a:pt x="1440" y="2053"/>
                    </a:lnTo>
                    <a:lnTo>
                      <a:pt x="1441" y="2039"/>
                    </a:lnTo>
                    <a:lnTo>
                      <a:pt x="1445" y="2024"/>
                    </a:lnTo>
                    <a:lnTo>
                      <a:pt x="1448" y="2010"/>
                    </a:lnTo>
                    <a:lnTo>
                      <a:pt x="1453" y="1996"/>
                    </a:lnTo>
                    <a:lnTo>
                      <a:pt x="1458" y="1981"/>
                    </a:lnTo>
                    <a:lnTo>
                      <a:pt x="1463" y="1967"/>
                    </a:lnTo>
                    <a:lnTo>
                      <a:pt x="1468" y="1954"/>
                    </a:lnTo>
                    <a:lnTo>
                      <a:pt x="1472" y="1942"/>
                    </a:lnTo>
                    <a:lnTo>
                      <a:pt x="1478" y="1930"/>
                    </a:lnTo>
                    <a:lnTo>
                      <a:pt x="1486" y="1919"/>
                    </a:lnTo>
                    <a:lnTo>
                      <a:pt x="1492" y="1908"/>
                    </a:lnTo>
                    <a:lnTo>
                      <a:pt x="1499" y="1897"/>
                    </a:lnTo>
                    <a:lnTo>
                      <a:pt x="1505" y="1885"/>
                    </a:lnTo>
                    <a:lnTo>
                      <a:pt x="1510" y="1873"/>
                    </a:lnTo>
                    <a:lnTo>
                      <a:pt x="1513" y="1861"/>
                    </a:lnTo>
                    <a:lnTo>
                      <a:pt x="1518" y="1841"/>
                    </a:lnTo>
                    <a:lnTo>
                      <a:pt x="1523" y="1820"/>
                    </a:lnTo>
                    <a:lnTo>
                      <a:pt x="1525" y="1800"/>
                    </a:lnTo>
                    <a:lnTo>
                      <a:pt x="1528" y="1778"/>
                    </a:lnTo>
                    <a:lnTo>
                      <a:pt x="1530" y="1758"/>
                    </a:lnTo>
                    <a:lnTo>
                      <a:pt x="1531" y="1736"/>
                    </a:lnTo>
                    <a:lnTo>
                      <a:pt x="1531" y="1716"/>
                    </a:lnTo>
                    <a:lnTo>
                      <a:pt x="1531" y="1694"/>
                    </a:lnTo>
                    <a:lnTo>
                      <a:pt x="1530" y="1681"/>
                    </a:lnTo>
                    <a:lnTo>
                      <a:pt x="1529" y="1668"/>
                    </a:lnTo>
                    <a:lnTo>
                      <a:pt x="1525" y="1655"/>
                    </a:lnTo>
                    <a:lnTo>
                      <a:pt x="1523" y="1642"/>
                    </a:lnTo>
                    <a:lnTo>
                      <a:pt x="1518" y="1628"/>
                    </a:lnTo>
                    <a:lnTo>
                      <a:pt x="1514" y="1615"/>
                    </a:lnTo>
                    <a:lnTo>
                      <a:pt x="1508" y="1603"/>
                    </a:lnTo>
                    <a:lnTo>
                      <a:pt x="1502" y="1591"/>
                    </a:lnTo>
                    <a:lnTo>
                      <a:pt x="1498" y="1584"/>
                    </a:lnTo>
                    <a:lnTo>
                      <a:pt x="1493" y="1577"/>
                    </a:lnTo>
                    <a:lnTo>
                      <a:pt x="1487" y="1571"/>
                    </a:lnTo>
                    <a:lnTo>
                      <a:pt x="1481" y="1565"/>
                    </a:lnTo>
                    <a:lnTo>
                      <a:pt x="1474" y="1560"/>
                    </a:lnTo>
                    <a:lnTo>
                      <a:pt x="1466" y="1555"/>
                    </a:lnTo>
                    <a:lnTo>
                      <a:pt x="1458" y="1553"/>
                    </a:lnTo>
                    <a:lnTo>
                      <a:pt x="1451" y="1552"/>
                    </a:lnTo>
                    <a:lnTo>
                      <a:pt x="1441" y="1550"/>
                    </a:lnTo>
                    <a:lnTo>
                      <a:pt x="1432" y="1552"/>
                    </a:lnTo>
                    <a:lnTo>
                      <a:pt x="1422" y="1554"/>
                    </a:lnTo>
                    <a:lnTo>
                      <a:pt x="1412" y="1558"/>
                    </a:lnTo>
                    <a:lnTo>
                      <a:pt x="1404" y="1562"/>
                    </a:lnTo>
                    <a:lnTo>
                      <a:pt x="1396" y="1567"/>
                    </a:lnTo>
                    <a:lnTo>
                      <a:pt x="1388" y="1573"/>
                    </a:lnTo>
                    <a:lnTo>
                      <a:pt x="1381" y="1580"/>
                    </a:lnTo>
                    <a:lnTo>
                      <a:pt x="1373" y="1591"/>
                    </a:lnTo>
                    <a:lnTo>
                      <a:pt x="1364" y="1603"/>
                    </a:lnTo>
                    <a:lnTo>
                      <a:pt x="1358" y="1616"/>
                    </a:lnTo>
                    <a:lnTo>
                      <a:pt x="1352" y="1630"/>
                    </a:lnTo>
                    <a:lnTo>
                      <a:pt x="1346" y="1643"/>
                    </a:lnTo>
                    <a:lnTo>
                      <a:pt x="1342" y="1657"/>
                    </a:lnTo>
                    <a:lnTo>
                      <a:pt x="1336" y="1670"/>
                    </a:lnTo>
                    <a:lnTo>
                      <a:pt x="1330" y="1684"/>
                    </a:lnTo>
                    <a:lnTo>
                      <a:pt x="1319" y="1704"/>
                    </a:lnTo>
                    <a:lnTo>
                      <a:pt x="1309" y="1726"/>
                    </a:lnTo>
                    <a:lnTo>
                      <a:pt x="1298" y="1746"/>
                    </a:lnTo>
                    <a:lnTo>
                      <a:pt x="1288" y="1768"/>
                    </a:lnTo>
                    <a:lnTo>
                      <a:pt x="1278" y="1788"/>
                    </a:lnTo>
                    <a:lnTo>
                      <a:pt x="1267" y="1810"/>
                    </a:lnTo>
                    <a:lnTo>
                      <a:pt x="1255" y="1830"/>
                    </a:lnTo>
                    <a:lnTo>
                      <a:pt x="1243" y="1850"/>
                    </a:lnTo>
                    <a:lnTo>
                      <a:pt x="1232" y="1868"/>
                    </a:lnTo>
                    <a:lnTo>
                      <a:pt x="1220" y="1886"/>
                    </a:lnTo>
                    <a:lnTo>
                      <a:pt x="1208" y="1904"/>
                    </a:lnTo>
                    <a:lnTo>
                      <a:pt x="1195" y="1922"/>
                    </a:lnTo>
                    <a:lnTo>
                      <a:pt x="1183" y="1939"/>
                    </a:lnTo>
                    <a:lnTo>
                      <a:pt x="1169" y="1956"/>
                    </a:lnTo>
                    <a:lnTo>
                      <a:pt x="1154" y="1973"/>
                    </a:lnTo>
                    <a:lnTo>
                      <a:pt x="1140" y="1988"/>
                    </a:lnTo>
                    <a:lnTo>
                      <a:pt x="1123" y="2003"/>
                    </a:lnTo>
                    <a:lnTo>
                      <a:pt x="1106" y="2016"/>
                    </a:lnTo>
                    <a:lnTo>
                      <a:pt x="1090" y="2029"/>
                    </a:lnTo>
                    <a:lnTo>
                      <a:pt x="1072" y="2042"/>
                    </a:lnTo>
                    <a:lnTo>
                      <a:pt x="1054" y="2054"/>
                    </a:lnTo>
                    <a:lnTo>
                      <a:pt x="1034" y="2065"/>
                    </a:lnTo>
                    <a:lnTo>
                      <a:pt x="1015" y="2076"/>
                    </a:lnTo>
                    <a:lnTo>
                      <a:pt x="996" y="2085"/>
                    </a:lnTo>
                    <a:lnTo>
                      <a:pt x="982" y="2093"/>
                    </a:lnTo>
                    <a:lnTo>
                      <a:pt x="966" y="2099"/>
                    </a:lnTo>
                    <a:lnTo>
                      <a:pt x="950" y="2103"/>
                    </a:lnTo>
                    <a:lnTo>
                      <a:pt x="935" y="2108"/>
                    </a:lnTo>
                    <a:lnTo>
                      <a:pt x="918" y="2112"/>
                    </a:lnTo>
                    <a:lnTo>
                      <a:pt x="902" y="2114"/>
                    </a:lnTo>
                    <a:lnTo>
                      <a:pt x="886" y="2118"/>
                    </a:lnTo>
                    <a:lnTo>
                      <a:pt x="870" y="2120"/>
                    </a:lnTo>
                    <a:lnTo>
                      <a:pt x="863" y="2120"/>
                    </a:lnTo>
                    <a:lnTo>
                      <a:pt x="857" y="2120"/>
                    </a:lnTo>
                    <a:lnTo>
                      <a:pt x="851" y="2120"/>
                    </a:lnTo>
                    <a:lnTo>
                      <a:pt x="844" y="2120"/>
                    </a:lnTo>
                    <a:lnTo>
                      <a:pt x="838" y="2118"/>
                    </a:lnTo>
                    <a:lnTo>
                      <a:pt x="833" y="2115"/>
                    </a:lnTo>
                    <a:lnTo>
                      <a:pt x="827" y="2113"/>
                    </a:lnTo>
                    <a:lnTo>
                      <a:pt x="823" y="2108"/>
                    </a:lnTo>
                    <a:lnTo>
                      <a:pt x="821" y="2103"/>
                    </a:lnTo>
                    <a:lnTo>
                      <a:pt x="820" y="2097"/>
                    </a:lnTo>
                    <a:lnTo>
                      <a:pt x="818" y="2091"/>
                    </a:lnTo>
                    <a:lnTo>
                      <a:pt x="820" y="2085"/>
                    </a:lnTo>
                    <a:lnTo>
                      <a:pt x="821" y="2079"/>
                    </a:lnTo>
                    <a:lnTo>
                      <a:pt x="823" y="2072"/>
                    </a:lnTo>
                    <a:lnTo>
                      <a:pt x="826" y="2067"/>
                    </a:lnTo>
                    <a:lnTo>
                      <a:pt x="829" y="2063"/>
                    </a:lnTo>
                    <a:lnTo>
                      <a:pt x="841" y="2050"/>
                    </a:lnTo>
                    <a:lnTo>
                      <a:pt x="854" y="2038"/>
                    </a:lnTo>
                    <a:lnTo>
                      <a:pt x="868" y="2026"/>
                    </a:lnTo>
                    <a:lnTo>
                      <a:pt x="882" y="2015"/>
                    </a:lnTo>
                    <a:lnTo>
                      <a:pt x="896" y="2004"/>
                    </a:lnTo>
                    <a:lnTo>
                      <a:pt x="911" y="1993"/>
                    </a:lnTo>
                    <a:lnTo>
                      <a:pt x="925" y="1982"/>
                    </a:lnTo>
                    <a:lnTo>
                      <a:pt x="938" y="1970"/>
                    </a:lnTo>
                    <a:lnTo>
                      <a:pt x="954" y="1957"/>
                    </a:lnTo>
                    <a:lnTo>
                      <a:pt x="971" y="1943"/>
                    </a:lnTo>
                    <a:lnTo>
                      <a:pt x="986" y="1930"/>
                    </a:lnTo>
                    <a:lnTo>
                      <a:pt x="1002" y="1916"/>
                    </a:lnTo>
                    <a:lnTo>
                      <a:pt x="1018" y="1902"/>
                    </a:lnTo>
                    <a:lnTo>
                      <a:pt x="1033" y="1888"/>
                    </a:lnTo>
                    <a:lnTo>
                      <a:pt x="1046" y="1872"/>
                    </a:lnTo>
                    <a:lnTo>
                      <a:pt x="1060" y="1855"/>
                    </a:lnTo>
                    <a:lnTo>
                      <a:pt x="1072" y="1838"/>
                    </a:lnTo>
                    <a:lnTo>
                      <a:pt x="1082" y="1819"/>
                    </a:lnTo>
                    <a:lnTo>
                      <a:pt x="1093" y="1801"/>
                    </a:lnTo>
                    <a:lnTo>
                      <a:pt x="1103" y="1782"/>
                    </a:lnTo>
                    <a:lnTo>
                      <a:pt x="1111" y="1762"/>
                    </a:lnTo>
                    <a:lnTo>
                      <a:pt x="1118" y="1741"/>
                    </a:lnTo>
                    <a:lnTo>
                      <a:pt x="1123" y="1721"/>
                    </a:lnTo>
                    <a:lnTo>
                      <a:pt x="1128" y="1700"/>
                    </a:lnTo>
                    <a:lnTo>
                      <a:pt x="1129" y="1691"/>
                    </a:lnTo>
                    <a:lnTo>
                      <a:pt x="1128" y="1681"/>
                    </a:lnTo>
                    <a:lnTo>
                      <a:pt x="1127" y="1672"/>
                    </a:lnTo>
                    <a:lnTo>
                      <a:pt x="1123" y="1662"/>
                    </a:lnTo>
                    <a:lnTo>
                      <a:pt x="1118" y="1654"/>
                    </a:lnTo>
                    <a:lnTo>
                      <a:pt x="1114" y="1645"/>
                    </a:lnTo>
                    <a:lnTo>
                      <a:pt x="1106" y="1638"/>
                    </a:lnTo>
                    <a:lnTo>
                      <a:pt x="1099" y="1632"/>
                    </a:lnTo>
                    <a:lnTo>
                      <a:pt x="1093" y="1628"/>
                    </a:lnTo>
                    <a:lnTo>
                      <a:pt x="1087" y="1627"/>
                    </a:lnTo>
                    <a:lnTo>
                      <a:pt x="1080" y="1628"/>
                    </a:lnTo>
                    <a:lnTo>
                      <a:pt x="1074" y="1630"/>
                    </a:lnTo>
                    <a:lnTo>
                      <a:pt x="1067" y="1632"/>
                    </a:lnTo>
                    <a:lnTo>
                      <a:pt x="1060" y="1636"/>
                    </a:lnTo>
                    <a:lnTo>
                      <a:pt x="1054" y="1639"/>
                    </a:lnTo>
                    <a:lnTo>
                      <a:pt x="1048" y="1643"/>
                    </a:lnTo>
                    <a:lnTo>
                      <a:pt x="1042" y="1649"/>
                    </a:lnTo>
                    <a:lnTo>
                      <a:pt x="1038" y="1655"/>
                    </a:lnTo>
                    <a:lnTo>
                      <a:pt x="1034" y="1662"/>
                    </a:lnTo>
                    <a:lnTo>
                      <a:pt x="1031" y="1669"/>
                    </a:lnTo>
                    <a:lnTo>
                      <a:pt x="1027" y="1676"/>
                    </a:lnTo>
                    <a:lnTo>
                      <a:pt x="1024" y="1684"/>
                    </a:lnTo>
                    <a:lnTo>
                      <a:pt x="1019" y="1690"/>
                    </a:lnTo>
                    <a:lnTo>
                      <a:pt x="1013" y="1694"/>
                    </a:lnTo>
                    <a:lnTo>
                      <a:pt x="1002" y="1703"/>
                    </a:lnTo>
                    <a:lnTo>
                      <a:pt x="991" y="1709"/>
                    </a:lnTo>
                    <a:lnTo>
                      <a:pt x="979" y="1716"/>
                    </a:lnTo>
                    <a:lnTo>
                      <a:pt x="967" y="1722"/>
                    </a:lnTo>
                    <a:lnTo>
                      <a:pt x="954" y="1727"/>
                    </a:lnTo>
                    <a:lnTo>
                      <a:pt x="942" y="1730"/>
                    </a:lnTo>
                    <a:lnTo>
                      <a:pt x="929" y="1734"/>
                    </a:lnTo>
                    <a:lnTo>
                      <a:pt x="916" y="1735"/>
                    </a:lnTo>
                    <a:lnTo>
                      <a:pt x="906" y="1735"/>
                    </a:lnTo>
                    <a:lnTo>
                      <a:pt x="895" y="1734"/>
                    </a:lnTo>
                    <a:lnTo>
                      <a:pt x="886" y="1733"/>
                    </a:lnTo>
                    <a:lnTo>
                      <a:pt x="875" y="1730"/>
                    </a:lnTo>
                    <a:lnTo>
                      <a:pt x="865" y="1726"/>
                    </a:lnTo>
                    <a:lnTo>
                      <a:pt x="858" y="1721"/>
                    </a:lnTo>
                    <a:lnTo>
                      <a:pt x="854" y="1717"/>
                    </a:lnTo>
                    <a:lnTo>
                      <a:pt x="851" y="1715"/>
                    </a:lnTo>
                    <a:lnTo>
                      <a:pt x="848" y="1710"/>
                    </a:lnTo>
                    <a:lnTo>
                      <a:pt x="846" y="1706"/>
                    </a:lnTo>
                    <a:lnTo>
                      <a:pt x="844" y="1699"/>
                    </a:lnTo>
                    <a:lnTo>
                      <a:pt x="842" y="1692"/>
                    </a:lnTo>
                    <a:lnTo>
                      <a:pt x="842" y="1685"/>
                    </a:lnTo>
                    <a:lnTo>
                      <a:pt x="841" y="1678"/>
                    </a:lnTo>
                    <a:lnTo>
                      <a:pt x="842" y="1662"/>
                    </a:lnTo>
                    <a:lnTo>
                      <a:pt x="846" y="1646"/>
                    </a:lnTo>
                    <a:lnTo>
                      <a:pt x="850" y="1632"/>
                    </a:lnTo>
                    <a:lnTo>
                      <a:pt x="853" y="1616"/>
                    </a:lnTo>
                    <a:lnTo>
                      <a:pt x="856" y="1601"/>
                    </a:lnTo>
                    <a:lnTo>
                      <a:pt x="858" y="1585"/>
                    </a:lnTo>
                    <a:lnTo>
                      <a:pt x="859" y="1574"/>
                    </a:lnTo>
                    <a:lnTo>
                      <a:pt x="862" y="1564"/>
                    </a:lnTo>
                    <a:lnTo>
                      <a:pt x="864" y="1553"/>
                    </a:lnTo>
                    <a:lnTo>
                      <a:pt x="866" y="1542"/>
                    </a:lnTo>
                    <a:lnTo>
                      <a:pt x="868" y="1531"/>
                    </a:lnTo>
                    <a:lnTo>
                      <a:pt x="868" y="1520"/>
                    </a:lnTo>
                    <a:lnTo>
                      <a:pt x="866" y="1510"/>
                    </a:lnTo>
                    <a:lnTo>
                      <a:pt x="864" y="1500"/>
                    </a:lnTo>
                    <a:lnTo>
                      <a:pt x="860" y="1494"/>
                    </a:lnTo>
                    <a:lnTo>
                      <a:pt x="856" y="1489"/>
                    </a:lnTo>
                    <a:lnTo>
                      <a:pt x="848" y="1487"/>
                    </a:lnTo>
                    <a:lnTo>
                      <a:pt x="842" y="1484"/>
                    </a:lnTo>
                    <a:lnTo>
                      <a:pt x="834" y="1483"/>
                    </a:lnTo>
                    <a:lnTo>
                      <a:pt x="827" y="1482"/>
                    </a:lnTo>
                    <a:lnTo>
                      <a:pt x="820" y="1482"/>
                    </a:lnTo>
                    <a:lnTo>
                      <a:pt x="812" y="1482"/>
                    </a:lnTo>
                    <a:lnTo>
                      <a:pt x="796" y="1483"/>
                    </a:lnTo>
                    <a:lnTo>
                      <a:pt x="780" y="1486"/>
                    </a:lnTo>
                    <a:lnTo>
                      <a:pt x="764" y="1488"/>
                    </a:lnTo>
                    <a:lnTo>
                      <a:pt x="749" y="1492"/>
                    </a:lnTo>
                    <a:lnTo>
                      <a:pt x="733" y="1495"/>
                    </a:lnTo>
                    <a:lnTo>
                      <a:pt x="718" y="1498"/>
                    </a:lnTo>
                    <a:lnTo>
                      <a:pt x="701" y="1500"/>
                    </a:lnTo>
                    <a:lnTo>
                      <a:pt x="685" y="1500"/>
                    </a:lnTo>
                    <a:lnTo>
                      <a:pt x="672" y="1498"/>
                    </a:lnTo>
                    <a:lnTo>
                      <a:pt x="659" y="1495"/>
                    </a:lnTo>
                    <a:lnTo>
                      <a:pt x="644" y="1493"/>
                    </a:lnTo>
                    <a:lnTo>
                      <a:pt x="631" y="1489"/>
                    </a:lnTo>
                    <a:lnTo>
                      <a:pt x="618" y="1484"/>
                    </a:lnTo>
                    <a:lnTo>
                      <a:pt x="606" y="1478"/>
                    </a:lnTo>
                    <a:lnTo>
                      <a:pt x="594" y="1472"/>
                    </a:lnTo>
                    <a:lnTo>
                      <a:pt x="582" y="1465"/>
                    </a:lnTo>
                    <a:lnTo>
                      <a:pt x="574" y="1458"/>
                    </a:lnTo>
                    <a:lnTo>
                      <a:pt x="566" y="1450"/>
                    </a:lnTo>
                    <a:lnTo>
                      <a:pt x="560" y="1441"/>
                    </a:lnTo>
                    <a:lnTo>
                      <a:pt x="556" y="1432"/>
                    </a:lnTo>
                    <a:lnTo>
                      <a:pt x="550" y="1422"/>
                    </a:lnTo>
                    <a:lnTo>
                      <a:pt x="544" y="1412"/>
                    </a:lnTo>
                    <a:lnTo>
                      <a:pt x="538" y="1404"/>
                    </a:lnTo>
                    <a:lnTo>
                      <a:pt x="530" y="1396"/>
                    </a:lnTo>
                    <a:lnTo>
                      <a:pt x="524" y="1391"/>
                    </a:lnTo>
                    <a:lnTo>
                      <a:pt x="517" y="1387"/>
                    </a:lnTo>
                    <a:lnTo>
                      <a:pt x="510" y="1384"/>
                    </a:lnTo>
                    <a:lnTo>
                      <a:pt x="503" y="1380"/>
                    </a:lnTo>
                    <a:lnTo>
                      <a:pt x="496" y="1378"/>
                    </a:lnTo>
                    <a:lnTo>
                      <a:pt x="488" y="1375"/>
                    </a:lnTo>
                    <a:lnTo>
                      <a:pt x="480" y="1374"/>
                    </a:lnTo>
                    <a:lnTo>
                      <a:pt x="473" y="1373"/>
                    </a:lnTo>
                    <a:lnTo>
                      <a:pt x="454" y="1372"/>
                    </a:lnTo>
                    <a:lnTo>
                      <a:pt x="436" y="1372"/>
                    </a:lnTo>
                    <a:lnTo>
                      <a:pt x="416" y="1373"/>
                    </a:lnTo>
                    <a:lnTo>
                      <a:pt x="398" y="1374"/>
                    </a:lnTo>
                    <a:lnTo>
                      <a:pt x="379" y="1375"/>
                    </a:lnTo>
                    <a:lnTo>
                      <a:pt x="360" y="1376"/>
                    </a:lnTo>
                    <a:lnTo>
                      <a:pt x="342" y="1378"/>
                    </a:lnTo>
                    <a:lnTo>
                      <a:pt x="323" y="1379"/>
                    </a:lnTo>
                    <a:lnTo>
                      <a:pt x="302" y="1380"/>
                    </a:lnTo>
                    <a:lnTo>
                      <a:pt x="281" y="1381"/>
                    </a:lnTo>
                    <a:lnTo>
                      <a:pt x="260" y="1384"/>
                    </a:lnTo>
                    <a:lnTo>
                      <a:pt x="240" y="1385"/>
                    </a:lnTo>
                    <a:lnTo>
                      <a:pt x="218" y="1387"/>
                    </a:lnTo>
                    <a:lnTo>
                      <a:pt x="198" y="1387"/>
                    </a:lnTo>
                    <a:lnTo>
                      <a:pt x="176" y="1386"/>
                    </a:lnTo>
                    <a:lnTo>
                      <a:pt x="156" y="1385"/>
                    </a:lnTo>
                    <a:lnTo>
                      <a:pt x="146" y="1382"/>
                    </a:lnTo>
                    <a:lnTo>
                      <a:pt x="136" y="1379"/>
                    </a:lnTo>
                    <a:lnTo>
                      <a:pt x="126" y="1374"/>
                    </a:lnTo>
                    <a:lnTo>
                      <a:pt x="116" y="1369"/>
                    </a:lnTo>
                    <a:lnTo>
                      <a:pt x="108" y="1363"/>
                    </a:lnTo>
                    <a:lnTo>
                      <a:pt x="98" y="1357"/>
                    </a:lnTo>
                    <a:lnTo>
                      <a:pt x="90" y="1351"/>
                    </a:lnTo>
                    <a:lnTo>
                      <a:pt x="82" y="1344"/>
                    </a:lnTo>
                    <a:lnTo>
                      <a:pt x="73" y="1338"/>
                    </a:lnTo>
                    <a:lnTo>
                      <a:pt x="65" y="1332"/>
                    </a:lnTo>
                    <a:lnTo>
                      <a:pt x="56" y="1326"/>
                    </a:lnTo>
                    <a:lnTo>
                      <a:pt x="48" y="1319"/>
                    </a:lnTo>
                    <a:lnTo>
                      <a:pt x="41" y="1312"/>
                    </a:lnTo>
                    <a:lnTo>
                      <a:pt x="35" y="1305"/>
                    </a:lnTo>
                    <a:lnTo>
                      <a:pt x="29" y="1296"/>
                    </a:lnTo>
                    <a:lnTo>
                      <a:pt x="24" y="1287"/>
                    </a:lnTo>
                    <a:lnTo>
                      <a:pt x="22" y="1281"/>
                    </a:lnTo>
                    <a:lnTo>
                      <a:pt x="20" y="1273"/>
                    </a:lnTo>
                    <a:lnTo>
                      <a:pt x="20" y="1266"/>
                    </a:lnTo>
                    <a:lnTo>
                      <a:pt x="22" y="1258"/>
                    </a:lnTo>
                    <a:lnTo>
                      <a:pt x="23" y="1251"/>
                    </a:lnTo>
                    <a:lnTo>
                      <a:pt x="26" y="1245"/>
                    </a:lnTo>
                    <a:lnTo>
                      <a:pt x="30" y="1240"/>
                    </a:lnTo>
                    <a:lnTo>
                      <a:pt x="36" y="1235"/>
                    </a:lnTo>
                    <a:lnTo>
                      <a:pt x="49" y="1229"/>
                    </a:lnTo>
                    <a:lnTo>
                      <a:pt x="62" y="1225"/>
                    </a:lnTo>
                    <a:lnTo>
                      <a:pt x="77" y="1222"/>
                    </a:lnTo>
                    <a:lnTo>
                      <a:pt x="91" y="1221"/>
                    </a:lnTo>
                    <a:lnTo>
                      <a:pt x="106" y="1219"/>
                    </a:lnTo>
                    <a:lnTo>
                      <a:pt x="121" y="1218"/>
                    </a:lnTo>
                    <a:lnTo>
                      <a:pt x="136" y="1218"/>
                    </a:lnTo>
                    <a:lnTo>
                      <a:pt x="150" y="1218"/>
                    </a:lnTo>
                    <a:lnTo>
                      <a:pt x="175" y="1218"/>
                    </a:lnTo>
                    <a:lnTo>
                      <a:pt x="199" y="1218"/>
                    </a:lnTo>
                    <a:lnTo>
                      <a:pt x="224" y="1221"/>
                    </a:lnTo>
                    <a:lnTo>
                      <a:pt x="248" y="1222"/>
                    </a:lnTo>
                    <a:lnTo>
                      <a:pt x="272" y="1223"/>
                    </a:lnTo>
                    <a:lnTo>
                      <a:pt x="298" y="1224"/>
                    </a:lnTo>
                    <a:lnTo>
                      <a:pt x="322" y="1225"/>
                    </a:lnTo>
                    <a:lnTo>
                      <a:pt x="346" y="1224"/>
                    </a:lnTo>
                    <a:lnTo>
                      <a:pt x="361" y="1222"/>
                    </a:lnTo>
                    <a:lnTo>
                      <a:pt x="376" y="1219"/>
                    </a:lnTo>
                    <a:lnTo>
                      <a:pt x="390" y="1216"/>
                    </a:lnTo>
                    <a:lnTo>
                      <a:pt x="404" y="1212"/>
                    </a:lnTo>
                    <a:lnTo>
                      <a:pt x="419" y="1207"/>
                    </a:lnTo>
                    <a:lnTo>
                      <a:pt x="432" y="1203"/>
                    </a:lnTo>
                    <a:lnTo>
                      <a:pt x="446" y="1199"/>
                    </a:lnTo>
                    <a:lnTo>
                      <a:pt x="461" y="1195"/>
                    </a:lnTo>
                    <a:lnTo>
                      <a:pt x="470" y="1192"/>
                    </a:lnTo>
                    <a:lnTo>
                      <a:pt x="480" y="1189"/>
                    </a:lnTo>
                    <a:lnTo>
                      <a:pt x="490" y="1186"/>
                    </a:lnTo>
                    <a:lnTo>
                      <a:pt x="498" y="1182"/>
                    </a:lnTo>
                    <a:lnTo>
                      <a:pt x="508" y="1180"/>
                    </a:lnTo>
                    <a:lnTo>
                      <a:pt x="517" y="1177"/>
                    </a:lnTo>
                    <a:lnTo>
                      <a:pt x="527" y="1177"/>
                    </a:lnTo>
                    <a:lnTo>
                      <a:pt x="536" y="1177"/>
                    </a:lnTo>
                    <a:lnTo>
                      <a:pt x="554" y="1182"/>
                    </a:lnTo>
                    <a:lnTo>
                      <a:pt x="572" y="1188"/>
                    </a:lnTo>
                    <a:lnTo>
                      <a:pt x="589" y="1194"/>
                    </a:lnTo>
                    <a:lnTo>
                      <a:pt x="606" y="1201"/>
                    </a:lnTo>
                    <a:lnTo>
                      <a:pt x="624" y="1210"/>
                    </a:lnTo>
                    <a:lnTo>
                      <a:pt x="641" y="1218"/>
                    </a:lnTo>
                    <a:lnTo>
                      <a:pt x="658" y="1227"/>
                    </a:lnTo>
                    <a:lnTo>
                      <a:pt x="674" y="1235"/>
                    </a:lnTo>
                    <a:lnTo>
                      <a:pt x="688" y="1242"/>
                    </a:lnTo>
                    <a:lnTo>
                      <a:pt x="701" y="1251"/>
                    </a:lnTo>
                    <a:lnTo>
                      <a:pt x="715" y="1260"/>
                    </a:lnTo>
                    <a:lnTo>
                      <a:pt x="728" y="1269"/>
                    </a:lnTo>
                    <a:lnTo>
                      <a:pt x="742" y="1277"/>
                    </a:lnTo>
                    <a:lnTo>
                      <a:pt x="755" y="1285"/>
                    </a:lnTo>
                    <a:lnTo>
                      <a:pt x="769" y="1293"/>
                    </a:lnTo>
                    <a:lnTo>
                      <a:pt x="784" y="1299"/>
                    </a:lnTo>
                    <a:lnTo>
                      <a:pt x="796" y="1302"/>
                    </a:lnTo>
                    <a:lnTo>
                      <a:pt x="808" y="1307"/>
                    </a:lnTo>
                    <a:lnTo>
                      <a:pt x="820" y="1311"/>
                    </a:lnTo>
                    <a:lnTo>
                      <a:pt x="833" y="1314"/>
                    </a:lnTo>
                    <a:lnTo>
                      <a:pt x="845" y="1315"/>
                    </a:lnTo>
                    <a:lnTo>
                      <a:pt x="858" y="1315"/>
                    </a:lnTo>
                    <a:lnTo>
                      <a:pt x="864" y="1315"/>
                    </a:lnTo>
                    <a:lnTo>
                      <a:pt x="870" y="1314"/>
                    </a:lnTo>
                    <a:lnTo>
                      <a:pt x="875" y="1312"/>
                    </a:lnTo>
                    <a:lnTo>
                      <a:pt x="881" y="1309"/>
                    </a:lnTo>
                    <a:lnTo>
                      <a:pt x="886" y="1307"/>
                    </a:lnTo>
                    <a:lnTo>
                      <a:pt x="889" y="1305"/>
                    </a:lnTo>
                    <a:lnTo>
                      <a:pt x="893" y="1301"/>
                    </a:lnTo>
                    <a:lnTo>
                      <a:pt x="895" y="1297"/>
                    </a:lnTo>
                    <a:lnTo>
                      <a:pt x="901" y="1288"/>
                    </a:lnTo>
                    <a:lnTo>
                      <a:pt x="905" y="1278"/>
                    </a:lnTo>
                    <a:lnTo>
                      <a:pt x="907" y="1267"/>
                    </a:lnTo>
                    <a:lnTo>
                      <a:pt x="910" y="1257"/>
                    </a:lnTo>
                    <a:lnTo>
                      <a:pt x="910" y="1246"/>
                    </a:lnTo>
                    <a:lnTo>
                      <a:pt x="910" y="1235"/>
                    </a:lnTo>
                    <a:lnTo>
                      <a:pt x="908" y="1224"/>
                    </a:lnTo>
                    <a:lnTo>
                      <a:pt x="906" y="1213"/>
                    </a:lnTo>
                    <a:lnTo>
                      <a:pt x="902" y="1204"/>
                    </a:lnTo>
                    <a:lnTo>
                      <a:pt x="899" y="1193"/>
                    </a:lnTo>
                    <a:lnTo>
                      <a:pt x="893" y="1183"/>
                    </a:lnTo>
                    <a:lnTo>
                      <a:pt x="888" y="1174"/>
                    </a:lnTo>
                    <a:lnTo>
                      <a:pt x="882" y="1164"/>
                    </a:lnTo>
                    <a:lnTo>
                      <a:pt x="875" y="1155"/>
                    </a:lnTo>
                    <a:lnTo>
                      <a:pt x="864" y="1139"/>
                    </a:lnTo>
                    <a:lnTo>
                      <a:pt x="852" y="1122"/>
                    </a:lnTo>
                    <a:lnTo>
                      <a:pt x="840" y="1107"/>
                    </a:lnTo>
                    <a:lnTo>
                      <a:pt x="827" y="1091"/>
                    </a:lnTo>
                    <a:lnTo>
                      <a:pt x="814" y="1077"/>
                    </a:lnTo>
                    <a:lnTo>
                      <a:pt x="800" y="1061"/>
                    </a:lnTo>
                    <a:lnTo>
                      <a:pt x="786" y="1048"/>
                    </a:lnTo>
                    <a:lnTo>
                      <a:pt x="772" y="1035"/>
                    </a:lnTo>
                    <a:lnTo>
                      <a:pt x="754" y="1019"/>
                    </a:lnTo>
                    <a:lnTo>
                      <a:pt x="736" y="1005"/>
                    </a:lnTo>
                    <a:lnTo>
                      <a:pt x="716" y="991"/>
                    </a:lnTo>
                    <a:lnTo>
                      <a:pt x="697" y="978"/>
                    </a:lnTo>
                    <a:lnTo>
                      <a:pt x="678" y="965"/>
                    </a:lnTo>
                    <a:lnTo>
                      <a:pt x="658" y="953"/>
                    </a:lnTo>
                    <a:lnTo>
                      <a:pt x="637" y="941"/>
                    </a:lnTo>
                    <a:lnTo>
                      <a:pt x="617" y="930"/>
                    </a:lnTo>
                    <a:lnTo>
                      <a:pt x="601" y="924"/>
                    </a:lnTo>
                    <a:lnTo>
                      <a:pt x="586" y="917"/>
                    </a:lnTo>
                    <a:lnTo>
                      <a:pt x="570" y="912"/>
                    </a:lnTo>
                    <a:lnTo>
                      <a:pt x="554" y="907"/>
                    </a:lnTo>
                    <a:lnTo>
                      <a:pt x="539" y="903"/>
                    </a:lnTo>
                    <a:lnTo>
                      <a:pt x="522" y="898"/>
                    </a:lnTo>
                    <a:lnTo>
                      <a:pt x="506" y="894"/>
                    </a:lnTo>
                    <a:lnTo>
                      <a:pt x="490" y="891"/>
                    </a:lnTo>
                    <a:lnTo>
                      <a:pt x="475" y="887"/>
                    </a:lnTo>
                    <a:lnTo>
                      <a:pt x="462" y="885"/>
                    </a:lnTo>
                    <a:lnTo>
                      <a:pt x="448" y="881"/>
                    </a:lnTo>
                    <a:lnTo>
                      <a:pt x="433" y="879"/>
                    </a:lnTo>
                    <a:lnTo>
                      <a:pt x="419" y="876"/>
                    </a:lnTo>
                    <a:lnTo>
                      <a:pt x="404" y="875"/>
                    </a:lnTo>
                    <a:lnTo>
                      <a:pt x="389" y="874"/>
                    </a:lnTo>
                    <a:lnTo>
                      <a:pt x="374" y="874"/>
                    </a:lnTo>
                    <a:lnTo>
                      <a:pt x="365" y="874"/>
                    </a:lnTo>
                    <a:lnTo>
                      <a:pt x="355" y="874"/>
                    </a:lnTo>
                    <a:lnTo>
                      <a:pt x="346" y="876"/>
                    </a:lnTo>
                    <a:lnTo>
                      <a:pt x="336" y="877"/>
                    </a:lnTo>
                    <a:lnTo>
                      <a:pt x="328" y="880"/>
                    </a:lnTo>
                    <a:lnTo>
                      <a:pt x="318" y="883"/>
                    </a:lnTo>
                    <a:lnTo>
                      <a:pt x="308" y="887"/>
                    </a:lnTo>
                    <a:lnTo>
                      <a:pt x="300" y="891"/>
                    </a:lnTo>
                    <a:lnTo>
                      <a:pt x="292" y="895"/>
                    </a:lnTo>
                    <a:lnTo>
                      <a:pt x="283" y="901"/>
                    </a:lnTo>
                    <a:lnTo>
                      <a:pt x="276" y="909"/>
                    </a:lnTo>
                    <a:lnTo>
                      <a:pt x="269" y="916"/>
                    </a:lnTo>
                    <a:lnTo>
                      <a:pt x="260" y="923"/>
                    </a:lnTo>
                    <a:lnTo>
                      <a:pt x="253" y="930"/>
                    </a:lnTo>
                    <a:lnTo>
                      <a:pt x="245" y="936"/>
                    </a:lnTo>
                    <a:lnTo>
                      <a:pt x="236" y="942"/>
                    </a:lnTo>
                    <a:lnTo>
                      <a:pt x="223" y="949"/>
                    </a:lnTo>
                    <a:lnTo>
                      <a:pt x="209" y="957"/>
                    </a:lnTo>
                    <a:lnTo>
                      <a:pt x="196" y="963"/>
                    </a:lnTo>
                    <a:lnTo>
                      <a:pt x="181" y="970"/>
                    </a:lnTo>
                    <a:lnTo>
                      <a:pt x="167" y="975"/>
                    </a:lnTo>
                    <a:lnTo>
                      <a:pt x="151" y="979"/>
                    </a:lnTo>
                    <a:lnTo>
                      <a:pt x="137" y="984"/>
                    </a:lnTo>
                    <a:lnTo>
                      <a:pt x="121" y="988"/>
                    </a:lnTo>
                    <a:lnTo>
                      <a:pt x="116" y="989"/>
                    </a:lnTo>
                    <a:lnTo>
                      <a:pt x="110" y="989"/>
                    </a:lnTo>
                    <a:lnTo>
                      <a:pt x="104" y="989"/>
                    </a:lnTo>
                    <a:lnTo>
                      <a:pt x="100" y="988"/>
                    </a:lnTo>
                    <a:lnTo>
                      <a:pt x="94" y="987"/>
                    </a:lnTo>
                    <a:lnTo>
                      <a:pt x="89" y="984"/>
                    </a:lnTo>
                    <a:lnTo>
                      <a:pt x="84" y="981"/>
                    </a:lnTo>
                    <a:lnTo>
                      <a:pt x="82" y="977"/>
                    </a:lnTo>
                    <a:lnTo>
                      <a:pt x="78" y="970"/>
                    </a:lnTo>
                    <a:lnTo>
                      <a:pt x="76" y="961"/>
                    </a:lnTo>
                    <a:lnTo>
                      <a:pt x="74" y="953"/>
                    </a:lnTo>
                    <a:lnTo>
                      <a:pt x="73" y="945"/>
                    </a:lnTo>
                    <a:lnTo>
                      <a:pt x="73" y="936"/>
                    </a:lnTo>
                    <a:lnTo>
                      <a:pt x="76" y="928"/>
                    </a:lnTo>
                    <a:lnTo>
                      <a:pt x="78" y="921"/>
                    </a:lnTo>
                    <a:lnTo>
                      <a:pt x="82" y="913"/>
                    </a:lnTo>
                    <a:lnTo>
                      <a:pt x="94" y="898"/>
                    </a:lnTo>
                    <a:lnTo>
                      <a:pt x="106" y="882"/>
                    </a:lnTo>
                    <a:lnTo>
                      <a:pt x="120" y="868"/>
                    </a:lnTo>
                    <a:lnTo>
                      <a:pt x="134" y="853"/>
                    </a:lnTo>
                    <a:lnTo>
                      <a:pt x="149" y="840"/>
                    </a:lnTo>
                    <a:lnTo>
                      <a:pt x="164" y="828"/>
                    </a:lnTo>
                    <a:lnTo>
                      <a:pt x="180" y="816"/>
                    </a:lnTo>
                    <a:lnTo>
                      <a:pt x="197" y="804"/>
                    </a:lnTo>
                    <a:lnTo>
                      <a:pt x="208" y="797"/>
                    </a:lnTo>
                    <a:lnTo>
                      <a:pt x="220" y="790"/>
                    </a:lnTo>
                    <a:lnTo>
                      <a:pt x="232" y="785"/>
                    </a:lnTo>
                    <a:lnTo>
                      <a:pt x="244" y="779"/>
                    </a:lnTo>
                    <a:lnTo>
                      <a:pt x="256" y="774"/>
                    </a:lnTo>
                    <a:lnTo>
                      <a:pt x="269" y="771"/>
                    </a:lnTo>
                    <a:lnTo>
                      <a:pt x="281" y="767"/>
                    </a:lnTo>
                    <a:lnTo>
                      <a:pt x="294" y="765"/>
                    </a:lnTo>
                    <a:lnTo>
                      <a:pt x="311" y="761"/>
                    </a:lnTo>
                    <a:lnTo>
                      <a:pt x="329" y="760"/>
                    </a:lnTo>
                    <a:lnTo>
                      <a:pt x="346" y="759"/>
                    </a:lnTo>
                    <a:lnTo>
                      <a:pt x="364" y="757"/>
                    </a:lnTo>
                    <a:lnTo>
                      <a:pt x="380" y="757"/>
                    </a:lnTo>
                    <a:lnTo>
                      <a:pt x="397" y="757"/>
                    </a:lnTo>
                    <a:lnTo>
                      <a:pt x="415" y="759"/>
                    </a:lnTo>
                    <a:lnTo>
                      <a:pt x="432" y="759"/>
                    </a:lnTo>
                    <a:lnTo>
                      <a:pt x="457" y="759"/>
                    </a:lnTo>
                    <a:lnTo>
                      <a:pt x="481" y="759"/>
                    </a:lnTo>
                    <a:lnTo>
                      <a:pt x="505" y="760"/>
                    </a:lnTo>
                    <a:lnTo>
                      <a:pt x="530" y="760"/>
                    </a:lnTo>
                    <a:lnTo>
                      <a:pt x="554" y="761"/>
                    </a:lnTo>
                    <a:lnTo>
                      <a:pt x="580" y="762"/>
                    </a:lnTo>
                    <a:lnTo>
                      <a:pt x="604" y="763"/>
                    </a:lnTo>
                    <a:lnTo>
                      <a:pt x="628" y="765"/>
                    </a:lnTo>
                    <a:lnTo>
                      <a:pt x="646" y="766"/>
                    </a:lnTo>
                    <a:lnTo>
                      <a:pt x="664" y="767"/>
                    </a:lnTo>
                    <a:lnTo>
                      <a:pt x="682" y="768"/>
                    </a:lnTo>
                    <a:lnTo>
                      <a:pt x="700" y="771"/>
                    </a:lnTo>
                    <a:lnTo>
                      <a:pt x="718" y="773"/>
                    </a:lnTo>
                    <a:lnTo>
                      <a:pt x="736" y="774"/>
                    </a:lnTo>
                    <a:lnTo>
                      <a:pt x="754" y="775"/>
                    </a:lnTo>
                    <a:lnTo>
                      <a:pt x="772" y="775"/>
                    </a:lnTo>
                    <a:lnTo>
                      <a:pt x="782" y="775"/>
                    </a:lnTo>
                    <a:lnTo>
                      <a:pt x="793" y="777"/>
                    </a:lnTo>
                    <a:lnTo>
                      <a:pt x="804" y="777"/>
                    </a:lnTo>
                    <a:lnTo>
                      <a:pt x="815" y="777"/>
                    </a:lnTo>
                    <a:lnTo>
                      <a:pt x="826" y="775"/>
                    </a:lnTo>
                    <a:lnTo>
                      <a:pt x="835" y="773"/>
                    </a:lnTo>
                    <a:lnTo>
                      <a:pt x="844" y="769"/>
                    </a:lnTo>
                    <a:lnTo>
                      <a:pt x="852" y="765"/>
                    </a:lnTo>
                    <a:close/>
                  </a:path>
                </a:pathLst>
              </a:custGeom>
              <a:solidFill>
                <a:srgbClr val="e99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481800" y="3906720"/>
                <a:ext cx="982080" cy="844560"/>
              </a:xfrm>
              <a:custGeom>
                <a:avLst/>
                <a:gdLst/>
                <a:ahLst/>
                <a:rect l="l" t="t" r="r" b="b"/>
                <a:pathLst>
                  <a:path w="2474" h="2129">
                    <a:moveTo>
                      <a:pt x="846" y="758"/>
                    </a:moveTo>
                    <a:lnTo>
                      <a:pt x="853" y="750"/>
                    </a:lnTo>
                    <a:lnTo>
                      <a:pt x="859" y="740"/>
                    </a:lnTo>
                    <a:lnTo>
                      <a:pt x="864" y="729"/>
                    </a:lnTo>
                    <a:lnTo>
                      <a:pt x="868" y="718"/>
                    </a:lnTo>
                    <a:lnTo>
                      <a:pt x="871" y="706"/>
                    </a:lnTo>
                    <a:lnTo>
                      <a:pt x="872" y="696"/>
                    </a:lnTo>
                    <a:lnTo>
                      <a:pt x="873" y="684"/>
                    </a:lnTo>
                    <a:lnTo>
                      <a:pt x="874" y="672"/>
                    </a:lnTo>
                    <a:lnTo>
                      <a:pt x="873" y="658"/>
                    </a:lnTo>
                    <a:lnTo>
                      <a:pt x="872" y="645"/>
                    </a:lnTo>
                    <a:lnTo>
                      <a:pt x="871" y="631"/>
                    </a:lnTo>
                    <a:lnTo>
                      <a:pt x="867" y="618"/>
                    </a:lnTo>
                    <a:lnTo>
                      <a:pt x="864" y="604"/>
                    </a:lnTo>
                    <a:lnTo>
                      <a:pt x="859" y="592"/>
                    </a:lnTo>
                    <a:lnTo>
                      <a:pt x="853" y="580"/>
                    </a:lnTo>
                    <a:lnTo>
                      <a:pt x="846" y="570"/>
                    </a:lnTo>
                    <a:lnTo>
                      <a:pt x="837" y="560"/>
                    </a:lnTo>
                    <a:lnTo>
                      <a:pt x="828" y="553"/>
                    </a:lnTo>
                    <a:lnTo>
                      <a:pt x="817" y="547"/>
                    </a:lnTo>
                    <a:lnTo>
                      <a:pt x="806" y="542"/>
                    </a:lnTo>
                    <a:lnTo>
                      <a:pt x="794" y="537"/>
                    </a:lnTo>
                    <a:lnTo>
                      <a:pt x="783" y="534"/>
                    </a:lnTo>
                    <a:lnTo>
                      <a:pt x="771" y="529"/>
                    </a:lnTo>
                    <a:lnTo>
                      <a:pt x="759" y="524"/>
                    </a:lnTo>
                    <a:lnTo>
                      <a:pt x="746" y="518"/>
                    </a:lnTo>
                    <a:lnTo>
                      <a:pt x="733" y="511"/>
                    </a:lnTo>
                    <a:lnTo>
                      <a:pt x="720" y="505"/>
                    </a:lnTo>
                    <a:lnTo>
                      <a:pt x="706" y="499"/>
                    </a:lnTo>
                    <a:lnTo>
                      <a:pt x="693" y="493"/>
                    </a:lnTo>
                    <a:lnTo>
                      <a:pt x="679" y="488"/>
                    </a:lnTo>
                    <a:lnTo>
                      <a:pt x="666" y="483"/>
                    </a:lnTo>
                    <a:lnTo>
                      <a:pt x="651" y="479"/>
                    </a:lnTo>
                    <a:lnTo>
                      <a:pt x="636" y="474"/>
                    </a:lnTo>
                    <a:lnTo>
                      <a:pt x="620" y="470"/>
                    </a:lnTo>
                    <a:lnTo>
                      <a:pt x="604" y="468"/>
                    </a:lnTo>
                    <a:lnTo>
                      <a:pt x="588" y="465"/>
                    </a:lnTo>
                    <a:lnTo>
                      <a:pt x="572" y="462"/>
                    </a:lnTo>
                    <a:lnTo>
                      <a:pt x="556" y="459"/>
                    </a:lnTo>
                    <a:lnTo>
                      <a:pt x="541" y="455"/>
                    </a:lnTo>
                    <a:lnTo>
                      <a:pt x="525" y="450"/>
                    </a:lnTo>
                    <a:lnTo>
                      <a:pt x="513" y="445"/>
                    </a:lnTo>
                    <a:lnTo>
                      <a:pt x="501" y="439"/>
                    </a:lnTo>
                    <a:lnTo>
                      <a:pt x="489" y="432"/>
                    </a:lnTo>
                    <a:lnTo>
                      <a:pt x="478" y="425"/>
                    </a:lnTo>
                    <a:lnTo>
                      <a:pt x="466" y="417"/>
                    </a:lnTo>
                    <a:lnTo>
                      <a:pt x="456" y="409"/>
                    </a:lnTo>
                    <a:lnTo>
                      <a:pt x="445" y="401"/>
                    </a:lnTo>
                    <a:lnTo>
                      <a:pt x="434" y="392"/>
                    </a:lnTo>
                    <a:lnTo>
                      <a:pt x="416" y="378"/>
                    </a:lnTo>
                    <a:lnTo>
                      <a:pt x="398" y="362"/>
                    </a:lnTo>
                    <a:lnTo>
                      <a:pt x="380" y="347"/>
                    </a:lnTo>
                    <a:lnTo>
                      <a:pt x="363" y="330"/>
                    </a:lnTo>
                    <a:lnTo>
                      <a:pt x="345" y="314"/>
                    </a:lnTo>
                    <a:lnTo>
                      <a:pt x="328" y="299"/>
                    </a:lnTo>
                    <a:lnTo>
                      <a:pt x="310" y="283"/>
                    </a:lnTo>
                    <a:lnTo>
                      <a:pt x="291" y="267"/>
                    </a:lnTo>
                    <a:lnTo>
                      <a:pt x="276" y="254"/>
                    </a:lnTo>
                    <a:lnTo>
                      <a:pt x="259" y="241"/>
                    </a:lnTo>
                    <a:lnTo>
                      <a:pt x="242" y="229"/>
                    </a:lnTo>
                    <a:lnTo>
                      <a:pt x="225" y="217"/>
                    </a:lnTo>
                    <a:lnTo>
                      <a:pt x="207" y="205"/>
                    </a:lnTo>
                    <a:lnTo>
                      <a:pt x="190" y="193"/>
                    </a:lnTo>
                    <a:lnTo>
                      <a:pt x="172" y="181"/>
                    </a:lnTo>
                    <a:lnTo>
                      <a:pt x="154" y="170"/>
                    </a:lnTo>
                    <a:lnTo>
                      <a:pt x="144" y="164"/>
                    </a:lnTo>
                    <a:lnTo>
                      <a:pt x="130" y="158"/>
                    </a:lnTo>
                    <a:lnTo>
                      <a:pt x="118" y="153"/>
                    </a:lnTo>
                    <a:lnTo>
                      <a:pt x="106" y="149"/>
                    </a:lnTo>
                    <a:lnTo>
                      <a:pt x="93" y="143"/>
                    </a:lnTo>
                    <a:lnTo>
                      <a:pt x="81" y="138"/>
                    </a:lnTo>
                    <a:lnTo>
                      <a:pt x="69" y="132"/>
                    </a:lnTo>
                    <a:lnTo>
                      <a:pt x="57" y="125"/>
                    </a:lnTo>
                    <a:lnTo>
                      <a:pt x="49" y="119"/>
                    </a:lnTo>
                    <a:lnTo>
                      <a:pt x="40" y="113"/>
                    </a:lnTo>
                    <a:lnTo>
                      <a:pt x="32" y="107"/>
                    </a:lnTo>
                    <a:lnTo>
                      <a:pt x="24" y="101"/>
                    </a:lnTo>
                    <a:lnTo>
                      <a:pt x="16" y="93"/>
                    </a:lnTo>
                    <a:lnTo>
                      <a:pt x="10" y="85"/>
                    </a:lnTo>
                    <a:lnTo>
                      <a:pt x="4" y="77"/>
                    </a:lnTo>
                    <a:lnTo>
                      <a:pt x="1" y="68"/>
                    </a:lnTo>
                    <a:lnTo>
                      <a:pt x="0" y="61"/>
                    </a:lnTo>
                    <a:lnTo>
                      <a:pt x="0" y="54"/>
                    </a:lnTo>
                    <a:lnTo>
                      <a:pt x="1" y="45"/>
                    </a:lnTo>
                    <a:lnTo>
                      <a:pt x="3" y="38"/>
                    </a:lnTo>
                    <a:lnTo>
                      <a:pt x="8" y="32"/>
                    </a:lnTo>
                    <a:lnTo>
                      <a:pt x="12" y="25"/>
                    </a:lnTo>
                    <a:lnTo>
                      <a:pt x="18" y="20"/>
                    </a:lnTo>
                    <a:lnTo>
                      <a:pt x="24" y="17"/>
                    </a:lnTo>
                    <a:lnTo>
                      <a:pt x="34" y="12"/>
                    </a:lnTo>
                    <a:lnTo>
                      <a:pt x="46" y="8"/>
                    </a:lnTo>
                    <a:lnTo>
                      <a:pt x="58" y="6"/>
                    </a:lnTo>
                    <a:lnTo>
                      <a:pt x="70" y="3"/>
                    </a:lnTo>
                    <a:lnTo>
                      <a:pt x="84" y="3"/>
                    </a:lnTo>
                    <a:lnTo>
                      <a:pt x="96" y="3"/>
                    </a:lnTo>
                    <a:lnTo>
                      <a:pt x="109" y="5"/>
                    </a:lnTo>
                    <a:lnTo>
                      <a:pt x="121" y="5"/>
                    </a:lnTo>
                    <a:lnTo>
                      <a:pt x="132" y="6"/>
                    </a:lnTo>
                    <a:lnTo>
                      <a:pt x="144" y="8"/>
                    </a:lnTo>
                    <a:lnTo>
                      <a:pt x="154" y="11"/>
                    </a:lnTo>
                    <a:lnTo>
                      <a:pt x="165" y="14"/>
                    </a:lnTo>
                    <a:lnTo>
                      <a:pt x="176" y="18"/>
                    </a:lnTo>
                    <a:lnTo>
                      <a:pt x="187" y="23"/>
                    </a:lnTo>
                    <a:lnTo>
                      <a:pt x="196" y="27"/>
                    </a:lnTo>
                    <a:lnTo>
                      <a:pt x="206" y="33"/>
                    </a:lnTo>
                    <a:lnTo>
                      <a:pt x="219" y="43"/>
                    </a:lnTo>
                    <a:lnTo>
                      <a:pt x="232" y="54"/>
                    </a:lnTo>
                    <a:lnTo>
                      <a:pt x="244" y="66"/>
                    </a:lnTo>
                    <a:lnTo>
                      <a:pt x="256" y="78"/>
                    </a:lnTo>
                    <a:lnTo>
                      <a:pt x="267" y="90"/>
                    </a:lnTo>
                    <a:lnTo>
                      <a:pt x="279" y="102"/>
                    </a:lnTo>
                    <a:lnTo>
                      <a:pt x="291" y="114"/>
                    </a:lnTo>
                    <a:lnTo>
                      <a:pt x="303" y="125"/>
                    </a:lnTo>
                    <a:lnTo>
                      <a:pt x="321" y="140"/>
                    </a:lnTo>
                    <a:lnTo>
                      <a:pt x="338" y="156"/>
                    </a:lnTo>
                    <a:lnTo>
                      <a:pt x="356" y="170"/>
                    </a:lnTo>
                    <a:lnTo>
                      <a:pt x="374" y="186"/>
                    </a:lnTo>
                    <a:lnTo>
                      <a:pt x="392" y="200"/>
                    </a:lnTo>
                    <a:lnTo>
                      <a:pt x="410" y="216"/>
                    </a:lnTo>
                    <a:lnTo>
                      <a:pt x="428" y="230"/>
                    </a:lnTo>
                    <a:lnTo>
                      <a:pt x="446" y="245"/>
                    </a:lnTo>
                    <a:lnTo>
                      <a:pt x="459" y="255"/>
                    </a:lnTo>
                    <a:lnTo>
                      <a:pt x="472" y="266"/>
                    </a:lnTo>
                    <a:lnTo>
                      <a:pt x="486" y="276"/>
                    </a:lnTo>
                    <a:lnTo>
                      <a:pt x="499" y="287"/>
                    </a:lnTo>
                    <a:lnTo>
                      <a:pt x="512" y="296"/>
                    </a:lnTo>
                    <a:lnTo>
                      <a:pt x="525" y="307"/>
                    </a:lnTo>
                    <a:lnTo>
                      <a:pt x="540" y="315"/>
                    </a:lnTo>
                    <a:lnTo>
                      <a:pt x="554" y="324"/>
                    </a:lnTo>
                    <a:lnTo>
                      <a:pt x="561" y="329"/>
                    </a:lnTo>
                    <a:lnTo>
                      <a:pt x="568" y="331"/>
                    </a:lnTo>
                    <a:lnTo>
                      <a:pt x="577" y="335"/>
                    </a:lnTo>
                    <a:lnTo>
                      <a:pt x="585" y="337"/>
                    </a:lnTo>
                    <a:lnTo>
                      <a:pt x="592" y="338"/>
                    </a:lnTo>
                    <a:lnTo>
                      <a:pt x="601" y="339"/>
                    </a:lnTo>
                    <a:lnTo>
                      <a:pt x="609" y="341"/>
                    </a:lnTo>
                    <a:lnTo>
                      <a:pt x="618" y="342"/>
                    </a:lnTo>
                    <a:lnTo>
                      <a:pt x="625" y="342"/>
                    </a:lnTo>
                    <a:lnTo>
                      <a:pt x="632" y="342"/>
                    </a:lnTo>
                    <a:lnTo>
                      <a:pt x="640" y="342"/>
                    </a:lnTo>
                    <a:lnTo>
                      <a:pt x="648" y="342"/>
                    </a:lnTo>
                    <a:lnTo>
                      <a:pt x="655" y="339"/>
                    </a:lnTo>
                    <a:lnTo>
                      <a:pt x="662" y="338"/>
                    </a:lnTo>
                    <a:lnTo>
                      <a:pt x="668" y="335"/>
                    </a:lnTo>
                    <a:lnTo>
                      <a:pt x="674" y="330"/>
                    </a:lnTo>
                    <a:lnTo>
                      <a:pt x="680" y="323"/>
                    </a:lnTo>
                    <a:lnTo>
                      <a:pt x="685" y="315"/>
                    </a:lnTo>
                    <a:lnTo>
                      <a:pt x="688" y="307"/>
                    </a:lnTo>
                    <a:lnTo>
                      <a:pt x="691" y="299"/>
                    </a:lnTo>
                    <a:lnTo>
                      <a:pt x="693" y="289"/>
                    </a:lnTo>
                    <a:lnTo>
                      <a:pt x="694" y="279"/>
                    </a:lnTo>
                    <a:lnTo>
                      <a:pt x="696" y="271"/>
                    </a:lnTo>
                    <a:lnTo>
                      <a:pt x="697" y="261"/>
                    </a:lnTo>
                    <a:lnTo>
                      <a:pt x="698" y="248"/>
                    </a:lnTo>
                    <a:lnTo>
                      <a:pt x="698" y="235"/>
                    </a:lnTo>
                    <a:lnTo>
                      <a:pt x="697" y="221"/>
                    </a:lnTo>
                    <a:lnTo>
                      <a:pt x="696" y="207"/>
                    </a:lnTo>
                    <a:lnTo>
                      <a:pt x="694" y="194"/>
                    </a:lnTo>
                    <a:lnTo>
                      <a:pt x="692" y="180"/>
                    </a:lnTo>
                    <a:lnTo>
                      <a:pt x="692" y="167"/>
                    </a:lnTo>
                    <a:lnTo>
                      <a:pt x="691" y="153"/>
                    </a:lnTo>
                    <a:lnTo>
                      <a:pt x="692" y="146"/>
                    </a:lnTo>
                    <a:lnTo>
                      <a:pt x="692" y="139"/>
                    </a:lnTo>
                    <a:lnTo>
                      <a:pt x="693" y="132"/>
                    </a:lnTo>
                    <a:lnTo>
                      <a:pt x="693" y="125"/>
                    </a:lnTo>
                    <a:lnTo>
                      <a:pt x="694" y="117"/>
                    </a:lnTo>
                    <a:lnTo>
                      <a:pt x="696" y="110"/>
                    </a:lnTo>
                    <a:lnTo>
                      <a:pt x="697" y="103"/>
                    </a:lnTo>
                    <a:lnTo>
                      <a:pt x="697" y="96"/>
                    </a:lnTo>
                    <a:lnTo>
                      <a:pt x="697" y="89"/>
                    </a:lnTo>
                    <a:lnTo>
                      <a:pt x="697" y="80"/>
                    </a:lnTo>
                    <a:lnTo>
                      <a:pt x="696" y="73"/>
                    </a:lnTo>
                    <a:lnTo>
                      <a:pt x="696" y="65"/>
                    </a:lnTo>
                    <a:lnTo>
                      <a:pt x="696" y="57"/>
                    </a:lnTo>
                    <a:lnTo>
                      <a:pt x="696" y="49"/>
                    </a:lnTo>
                    <a:lnTo>
                      <a:pt x="696" y="42"/>
                    </a:lnTo>
                    <a:lnTo>
                      <a:pt x="697" y="33"/>
                    </a:lnTo>
                    <a:lnTo>
                      <a:pt x="698" y="29"/>
                    </a:lnTo>
                    <a:lnTo>
                      <a:pt x="700" y="23"/>
                    </a:lnTo>
                    <a:lnTo>
                      <a:pt x="702" y="17"/>
                    </a:lnTo>
                    <a:lnTo>
                      <a:pt x="704" y="11"/>
                    </a:lnTo>
                    <a:lnTo>
                      <a:pt x="708" y="6"/>
                    </a:lnTo>
                    <a:lnTo>
                      <a:pt x="711" y="2"/>
                    </a:lnTo>
                    <a:lnTo>
                      <a:pt x="715" y="0"/>
                    </a:lnTo>
                    <a:lnTo>
                      <a:pt x="720" y="0"/>
                    </a:lnTo>
                    <a:lnTo>
                      <a:pt x="729" y="1"/>
                    </a:lnTo>
                    <a:lnTo>
                      <a:pt x="739" y="3"/>
                    </a:lnTo>
                    <a:lnTo>
                      <a:pt x="748" y="7"/>
                    </a:lnTo>
                    <a:lnTo>
                      <a:pt x="758" y="13"/>
                    </a:lnTo>
                    <a:lnTo>
                      <a:pt x="766" y="18"/>
                    </a:lnTo>
                    <a:lnTo>
                      <a:pt x="774" y="25"/>
                    </a:lnTo>
                    <a:lnTo>
                      <a:pt x="782" y="32"/>
                    </a:lnTo>
                    <a:lnTo>
                      <a:pt x="788" y="39"/>
                    </a:lnTo>
                    <a:lnTo>
                      <a:pt x="795" y="49"/>
                    </a:lnTo>
                    <a:lnTo>
                      <a:pt x="801" y="59"/>
                    </a:lnTo>
                    <a:lnTo>
                      <a:pt x="807" y="69"/>
                    </a:lnTo>
                    <a:lnTo>
                      <a:pt x="811" y="80"/>
                    </a:lnTo>
                    <a:lnTo>
                      <a:pt x="816" y="91"/>
                    </a:lnTo>
                    <a:lnTo>
                      <a:pt x="819" y="103"/>
                    </a:lnTo>
                    <a:lnTo>
                      <a:pt x="824" y="114"/>
                    </a:lnTo>
                    <a:lnTo>
                      <a:pt x="828" y="125"/>
                    </a:lnTo>
                    <a:lnTo>
                      <a:pt x="835" y="140"/>
                    </a:lnTo>
                    <a:lnTo>
                      <a:pt x="841" y="156"/>
                    </a:lnTo>
                    <a:lnTo>
                      <a:pt x="848" y="171"/>
                    </a:lnTo>
                    <a:lnTo>
                      <a:pt x="854" y="187"/>
                    </a:lnTo>
                    <a:lnTo>
                      <a:pt x="860" y="204"/>
                    </a:lnTo>
                    <a:lnTo>
                      <a:pt x="866" y="219"/>
                    </a:lnTo>
                    <a:lnTo>
                      <a:pt x="873" y="235"/>
                    </a:lnTo>
                    <a:lnTo>
                      <a:pt x="879" y="251"/>
                    </a:lnTo>
                    <a:lnTo>
                      <a:pt x="884" y="260"/>
                    </a:lnTo>
                    <a:lnTo>
                      <a:pt x="888" y="269"/>
                    </a:lnTo>
                    <a:lnTo>
                      <a:pt x="891" y="278"/>
                    </a:lnTo>
                    <a:lnTo>
                      <a:pt x="895" y="288"/>
                    </a:lnTo>
                    <a:lnTo>
                      <a:pt x="900" y="297"/>
                    </a:lnTo>
                    <a:lnTo>
                      <a:pt x="903" y="307"/>
                    </a:lnTo>
                    <a:lnTo>
                      <a:pt x="908" y="315"/>
                    </a:lnTo>
                    <a:lnTo>
                      <a:pt x="914" y="324"/>
                    </a:lnTo>
                    <a:lnTo>
                      <a:pt x="920" y="333"/>
                    </a:lnTo>
                    <a:lnTo>
                      <a:pt x="927" y="343"/>
                    </a:lnTo>
                    <a:lnTo>
                      <a:pt x="936" y="351"/>
                    </a:lnTo>
                    <a:lnTo>
                      <a:pt x="943" y="360"/>
                    </a:lnTo>
                    <a:lnTo>
                      <a:pt x="951" y="368"/>
                    </a:lnTo>
                    <a:lnTo>
                      <a:pt x="960" y="377"/>
                    </a:lnTo>
                    <a:lnTo>
                      <a:pt x="968" y="385"/>
                    </a:lnTo>
                    <a:lnTo>
                      <a:pt x="976" y="392"/>
                    </a:lnTo>
                    <a:lnTo>
                      <a:pt x="987" y="403"/>
                    </a:lnTo>
                    <a:lnTo>
                      <a:pt x="998" y="413"/>
                    </a:lnTo>
                    <a:lnTo>
                      <a:pt x="1009" y="423"/>
                    </a:lnTo>
                    <a:lnTo>
                      <a:pt x="1020" y="433"/>
                    </a:lnTo>
                    <a:lnTo>
                      <a:pt x="1032" y="443"/>
                    </a:lnTo>
                    <a:lnTo>
                      <a:pt x="1042" y="452"/>
                    </a:lnTo>
                    <a:lnTo>
                      <a:pt x="1056" y="459"/>
                    </a:lnTo>
                    <a:lnTo>
                      <a:pt x="1068" y="467"/>
                    </a:lnTo>
                    <a:lnTo>
                      <a:pt x="1078" y="471"/>
                    </a:lnTo>
                    <a:lnTo>
                      <a:pt x="1089" y="475"/>
                    </a:lnTo>
                    <a:lnTo>
                      <a:pt x="1101" y="477"/>
                    </a:lnTo>
                    <a:lnTo>
                      <a:pt x="1112" y="480"/>
                    </a:lnTo>
                    <a:lnTo>
                      <a:pt x="1124" y="481"/>
                    </a:lnTo>
                    <a:lnTo>
                      <a:pt x="1136" y="482"/>
                    </a:lnTo>
                    <a:lnTo>
                      <a:pt x="1148" y="483"/>
                    </a:lnTo>
                    <a:lnTo>
                      <a:pt x="1159" y="483"/>
                    </a:lnTo>
                    <a:lnTo>
                      <a:pt x="1173" y="485"/>
                    </a:lnTo>
                    <a:lnTo>
                      <a:pt x="1188" y="485"/>
                    </a:lnTo>
                    <a:lnTo>
                      <a:pt x="1202" y="485"/>
                    </a:lnTo>
                    <a:lnTo>
                      <a:pt x="1216" y="485"/>
                    </a:lnTo>
                    <a:lnTo>
                      <a:pt x="1231" y="483"/>
                    </a:lnTo>
                    <a:lnTo>
                      <a:pt x="1245" y="482"/>
                    </a:lnTo>
                    <a:lnTo>
                      <a:pt x="1260" y="481"/>
                    </a:lnTo>
                    <a:lnTo>
                      <a:pt x="1273" y="479"/>
                    </a:lnTo>
                    <a:lnTo>
                      <a:pt x="1284" y="476"/>
                    </a:lnTo>
                    <a:lnTo>
                      <a:pt x="1293" y="474"/>
                    </a:lnTo>
                    <a:lnTo>
                      <a:pt x="1303" y="471"/>
                    </a:lnTo>
                    <a:lnTo>
                      <a:pt x="1312" y="468"/>
                    </a:lnTo>
                    <a:lnTo>
                      <a:pt x="1322" y="464"/>
                    </a:lnTo>
                    <a:lnTo>
                      <a:pt x="1330" y="461"/>
                    </a:lnTo>
                    <a:lnTo>
                      <a:pt x="1339" y="456"/>
                    </a:lnTo>
                    <a:lnTo>
                      <a:pt x="1347" y="450"/>
                    </a:lnTo>
                    <a:lnTo>
                      <a:pt x="1356" y="444"/>
                    </a:lnTo>
                    <a:lnTo>
                      <a:pt x="1364" y="437"/>
                    </a:lnTo>
                    <a:lnTo>
                      <a:pt x="1372" y="429"/>
                    </a:lnTo>
                    <a:lnTo>
                      <a:pt x="1381" y="422"/>
                    </a:lnTo>
                    <a:lnTo>
                      <a:pt x="1387" y="414"/>
                    </a:lnTo>
                    <a:lnTo>
                      <a:pt x="1392" y="405"/>
                    </a:lnTo>
                    <a:lnTo>
                      <a:pt x="1393" y="401"/>
                    </a:lnTo>
                    <a:lnTo>
                      <a:pt x="1394" y="396"/>
                    </a:lnTo>
                    <a:lnTo>
                      <a:pt x="1394" y="392"/>
                    </a:lnTo>
                    <a:lnTo>
                      <a:pt x="1393" y="387"/>
                    </a:lnTo>
                    <a:lnTo>
                      <a:pt x="1392" y="383"/>
                    </a:lnTo>
                    <a:lnTo>
                      <a:pt x="1389" y="378"/>
                    </a:lnTo>
                    <a:lnTo>
                      <a:pt x="1386" y="374"/>
                    </a:lnTo>
                    <a:lnTo>
                      <a:pt x="1382" y="371"/>
                    </a:lnTo>
                    <a:lnTo>
                      <a:pt x="1374" y="366"/>
                    </a:lnTo>
                    <a:lnTo>
                      <a:pt x="1363" y="361"/>
                    </a:lnTo>
                    <a:lnTo>
                      <a:pt x="1352" y="357"/>
                    </a:lnTo>
                    <a:lnTo>
                      <a:pt x="1340" y="354"/>
                    </a:lnTo>
                    <a:lnTo>
                      <a:pt x="1329" y="351"/>
                    </a:lnTo>
                    <a:lnTo>
                      <a:pt x="1318" y="347"/>
                    </a:lnTo>
                    <a:lnTo>
                      <a:pt x="1306" y="343"/>
                    </a:lnTo>
                    <a:lnTo>
                      <a:pt x="1294" y="338"/>
                    </a:lnTo>
                    <a:lnTo>
                      <a:pt x="1282" y="335"/>
                    </a:lnTo>
                    <a:lnTo>
                      <a:pt x="1270" y="331"/>
                    </a:lnTo>
                    <a:lnTo>
                      <a:pt x="1257" y="327"/>
                    </a:lnTo>
                    <a:lnTo>
                      <a:pt x="1245" y="324"/>
                    </a:lnTo>
                    <a:lnTo>
                      <a:pt x="1233" y="319"/>
                    </a:lnTo>
                    <a:lnTo>
                      <a:pt x="1222" y="313"/>
                    </a:lnTo>
                    <a:lnTo>
                      <a:pt x="1214" y="308"/>
                    </a:lnTo>
                    <a:lnTo>
                      <a:pt x="1207" y="303"/>
                    </a:lnTo>
                    <a:lnTo>
                      <a:pt x="1201" y="299"/>
                    </a:lnTo>
                    <a:lnTo>
                      <a:pt x="1194" y="293"/>
                    </a:lnTo>
                    <a:lnTo>
                      <a:pt x="1188" y="287"/>
                    </a:lnTo>
                    <a:lnTo>
                      <a:pt x="1182" y="281"/>
                    </a:lnTo>
                    <a:lnTo>
                      <a:pt x="1176" y="275"/>
                    </a:lnTo>
                    <a:lnTo>
                      <a:pt x="1171" y="267"/>
                    </a:lnTo>
                    <a:lnTo>
                      <a:pt x="1166" y="260"/>
                    </a:lnTo>
                    <a:lnTo>
                      <a:pt x="1161" y="253"/>
                    </a:lnTo>
                    <a:lnTo>
                      <a:pt x="1156" y="246"/>
                    </a:lnTo>
                    <a:lnTo>
                      <a:pt x="1153" y="237"/>
                    </a:lnTo>
                    <a:lnTo>
                      <a:pt x="1149" y="229"/>
                    </a:lnTo>
                    <a:lnTo>
                      <a:pt x="1147" y="222"/>
                    </a:lnTo>
                    <a:lnTo>
                      <a:pt x="1144" y="213"/>
                    </a:lnTo>
                    <a:lnTo>
                      <a:pt x="1142" y="205"/>
                    </a:lnTo>
                    <a:lnTo>
                      <a:pt x="1141" y="199"/>
                    </a:lnTo>
                    <a:lnTo>
                      <a:pt x="1140" y="193"/>
                    </a:lnTo>
                    <a:lnTo>
                      <a:pt x="1140" y="186"/>
                    </a:lnTo>
                    <a:lnTo>
                      <a:pt x="1140" y="180"/>
                    </a:lnTo>
                    <a:lnTo>
                      <a:pt x="1140" y="174"/>
                    </a:lnTo>
                    <a:lnTo>
                      <a:pt x="1142" y="168"/>
                    </a:lnTo>
                    <a:lnTo>
                      <a:pt x="1144" y="163"/>
                    </a:lnTo>
                    <a:lnTo>
                      <a:pt x="1148" y="159"/>
                    </a:lnTo>
                    <a:lnTo>
                      <a:pt x="1154" y="155"/>
                    </a:lnTo>
                    <a:lnTo>
                      <a:pt x="1160" y="151"/>
                    </a:lnTo>
                    <a:lnTo>
                      <a:pt x="1167" y="149"/>
                    </a:lnTo>
                    <a:lnTo>
                      <a:pt x="1174" y="147"/>
                    </a:lnTo>
                    <a:lnTo>
                      <a:pt x="1182" y="147"/>
                    </a:lnTo>
                    <a:lnTo>
                      <a:pt x="1190" y="147"/>
                    </a:lnTo>
                    <a:lnTo>
                      <a:pt x="1197" y="147"/>
                    </a:lnTo>
                    <a:lnTo>
                      <a:pt x="1204" y="147"/>
                    </a:lnTo>
                    <a:lnTo>
                      <a:pt x="1214" y="149"/>
                    </a:lnTo>
                    <a:lnTo>
                      <a:pt x="1224" y="151"/>
                    </a:lnTo>
                    <a:lnTo>
                      <a:pt x="1233" y="155"/>
                    </a:lnTo>
                    <a:lnTo>
                      <a:pt x="1242" y="158"/>
                    </a:lnTo>
                    <a:lnTo>
                      <a:pt x="1251" y="162"/>
                    </a:lnTo>
                    <a:lnTo>
                      <a:pt x="1261" y="165"/>
                    </a:lnTo>
                    <a:lnTo>
                      <a:pt x="1269" y="168"/>
                    </a:lnTo>
                    <a:lnTo>
                      <a:pt x="1279" y="170"/>
                    </a:lnTo>
                    <a:lnTo>
                      <a:pt x="1291" y="173"/>
                    </a:lnTo>
                    <a:lnTo>
                      <a:pt x="1302" y="175"/>
                    </a:lnTo>
                    <a:lnTo>
                      <a:pt x="1314" y="176"/>
                    </a:lnTo>
                    <a:lnTo>
                      <a:pt x="1324" y="177"/>
                    </a:lnTo>
                    <a:lnTo>
                      <a:pt x="1336" y="179"/>
                    </a:lnTo>
                    <a:lnTo>
                      <a:pt x="1347" y="180"/>
                    </a:lnTo>
                    <a:lnTo>
                      <a:pt x="1359" y="181"/>
                    </a:lnTo>
                    <a:lnTo>
                      <a:pt x="1370" y="182"/>
                    </a:lnTo>
                    <a:lnTo>
                      <a:pt x="1383" y="182"/>
                    </a:lnTo>
                    <a:lnTo>
                      <a:pt x="1396" y="182"/>
                    </a:lnTo>
                    <a:lnTo>
                      <a:pt x="1408" y="183"/>
                    </a:lnTo>
                    <a:lnTo>
                      <a:pt x="1422" y="183"/>
                    </a:lnTo>
                    <a:lnTo>
                      <a:pt x="1435" y="183"/>
                    </a:lnTo>
                    <a:lnTo>
                      <a:pt x="1447" y="182"/>
                    </a:lnTo>
                    <a:lnTo>
                      <a:pt x="1460" y="182"/>
                    </a:lnTo>
                    <a:lnTo>
                      <a:pt x="1473" y="182"/>
                    </a:lnTo>
                    <a:lnTo>
                      <a:pt x="1482" y="181"/>
                    </a:lnTo>
                    <a:lnTo>
                      <a:pt x="1490" y="180"/>
                    </a:lnTo>
                    <a:lnTo>
                      <a:pt x="1498" y="179"/>
                    </a:lnTo>
                    <a:lnTo>
                      <a:pt x="1508" y="177"/>
                    </a:lnTo>
                    <a:lnTo>
                      <a:pt x="1516" y="176"/>
                    </a:lnTo>
                    <a:lnTo>
                      <a:pt x="1525" y="175"/>
                    </a:lnTo>
                    <a:lnTo>
                      <a:pt x="1533" y="175"/>
                    </a:lnTo>
                    <a:lnTo>
                      <a:pt x="1542" y="176"/>
                    </a:lnTo>
                    <a:lnTo>
                      <a:pt x="1549" y="177"/>
                    </a:lnTo>
                    <a:lnTo>
                      <a:pt x="1556" y="180"/>
                    </a:lnTo>
                    <a:lnTo>
                      <a:pt x="1563" y="182"/>
                    </a:lnTo>
                    <a:lnTo>
                      <a:pt x="1570" y="186"/>
                    </a:lnTo>
                    <a:lnTo>
                      <a:pt x="1576" y="189"/>
                    </a:lnTo>
                    <a:lnTo>
                      <a:pt x="1582" y="194"/>
                    </a:lnTo>
                    <a:lnTo>
                      <a:pt x="1588" y="199"/>
                    </a:lnTo>
                    <a:lnTo>
                      <a:pt x="1593" y="205"/>
                    </a:lnTo>
                    <a:lnTo>
                      <a:pt x="1597" y="211"/>
                    </a:lnTo>
                    <a:lnTo>
                      <a:pt x="1600" y="217"/>
                    </a:lnTo>
                    <a:lnTo>
                      <a:pt x="1603" y="224"/>
                    </a:lnTo>
                    <a:lnTo>
                      <a:pt x="1604" y="231"/>
                    </a:lnTo>
                    <a:lnTo>
                      <a:pt x="1605" y="239"/>
                    </a:lnTo>
                    <a:lnTo>
                      <a:pt x="1608" y="247"/>
                    </a:lnTo>
                    <a:lnTo>
                      <a:pt x="1609" y="254"/>
                    </a:lnTo>
                    <a:lnTo>
                      <a:pt x="1610" y="261"/>
                    </a:lnTo>
                    <a:lnTo>
                      <a:pt x="1615" y="281"/>
                    </a:lnTo>
                    <a:lnTo>
                      <a:pt x="1620" y="300"/>
                    </a:lnTo>
                    <a:lnTo>
                      <a:pt x="1624" y="319"/>
                    </a:lnTo>
                    <a:lnTo>
                      <a:pt x="1629" y="338"/>
                    </a:lnTo>
                    <a:lnTo>
                      <a:pt x="1633" y="357"/>
                    </a:lnTo>
                    <a:lnTo>
                      <a:pt x="1638" y="377"/>
                    </a:lnTo>
                    <a:lnTo>
                      <a:pt x="1641" y="396"/>
                    </a:lnTo>
                    <a:lnTo>
                      <a:pt x="1645" y="415"/>
                    </a:lnTo>
                    <a:lnTo>
                      <a:pt x="1646" y="433"/>
                    </a:lnTo>
                    <a:lnTo>
                      <a:pt x="1647" y="451"/>
                    </a:lnTo>
                    <a:lnTo>
                      <a:pt x="1648" y="469"/>
                    </a:lnTo>
                    <a:lnTo>
                      <a:pt x="1648" y="487"/>
                    </a:lnTo>
                    <a:lnTo>
                      <a:pt x="1650" y="505"/>
                    </a:lnTo>
                    <a:lnTo>
                      <a:pt x="1651" y="523"/>
                    </a:lnTo>
                    <a:lnTo>
                      <a:pt x="1652" y="541"/>
                    </a:lnTo>
                    <a:lnTo>
                      <a:pt x="1656" y="558"/>
                    </a:lnTo>
                    <a:lnTo>
                      <a:pt x="1658" y="570"/>
                    </a:lnTo>
                    <a:lnTo>
                      <a:pt x="1662" y="582"/>
                    </a:lnTo>
                    <a:lnTo>
                      <a:pt x="1665" y="592"/>
                    </a:lnTo>
                    <a:lnTo>
                      <a:pt x="1670" y="604"/>
                    </a:lnTo>
                    <a:lnTo>
                      <a:pt x="1675" y="615"/>
                    </a:lnTo>
                    <a:lnTo>
                      <a:pt x="1681" y="625"/>
                    </a:lnTo>
                    <a:lnTo>
                      <a:pt x="1688" y="634"/>
                    </a:lnTo>
                    <a:lnTo>
                      <a:pt x="1695" y="644"/>
                    </a:lnTo>
                    <a:lnTo>
                      <a:pt x="1701" y="648"/>
                    </a:lnTo>
                    <a:lnTo>
                      <a:pt x="1708" y="651"/>
                    </a:lnTo>
                    <a:lnTo>
                      <a:pt x="1716" y="654"/>
                    </a:lnTo>
                    <a:lnTo>
                      <a:pt x="1724" y="655"/>
                    </a:lnTo>
                    <a:lnTo>
                      <a:pt x="1731" y="656"/>
                    </a:lnTo>
                    <a:lnTo>
                      <a:pt x="1740" y="655"/>
                    </a:lnTo>
                    <a:lnTo>
                      <a:pt x="1747" y="652"/>
                    </a:lnTo>
                    <a:lnTo>
                      <a:pt x="1753" y="649"/>
                    </a:lnTo>
                    <a:lnTo>
                      <a:pt x="1766" y="639"/>
                    </a:lnTo>
                    <a:lnTo>
                      <a:pt x="1778" y="627"/>
                    </a:lnTo>
                    <a:lnTo>
                      <a:pt x="1789" y="615"/>
                    </a:lnTo>
                    <a:lnTo>
                      <a:pt x="1800" y="602"/>
                    </a:lnTo>
                    <a:lnTo>
                      <a:pt x="1809" y="588"/>
                    </a:lnTo>
                    <a:lnTo>
                      <a:pt x="1819" y="575"/>
                    </a:lnTo>
                    <a:lnTo>
                      <a:pt x="1828" y="560"/>
                    </a:lnTo>
                    <a:lnTo>
                      <a:pt x="1838" y="547"/>
                    </a:lnTo>
                    <a:lnTo>
                      <a:pt x="1851" y="530"/>
                    </a:lnTo>
                    <a:lnTo>
                      <a:pt x="1863" y="512"/>
                    </a:lnTo>
                    <a:lnTo>
                      <a:pt x="1875" y="495"/>
                    </a:lnTo>
                    <a:lnTo>
                      <a:pt x="1887" y="479"/>
                    </a:lnTo>
                    <a:lnTo>
                      <a:pt x="1898" y="461"/>
                    </a:lnTo>
                    <a:lnTo>
                      <a:pt x="1910" y="444"/>
                    </a:lnTo>
                    <a:lnTo>
                      <a:pt x="1923" y="427"/>
                    </a:lnTo>
                    <a:lnTo>
                      <a:pt x="1935" y="410"/>
                    </a:lnTo>
                    <a:lnTo>
                      <a:pt x="1945" y="398"/>
                    </a:lnTo>
                    <a:lnTo>
                      <a:pt x="1954" y="386"/>
                    </a:lnTo>
                    <a:lnTo>
                      <a:pt x="1963" y="374"/>
                    </a:lnTo>
                    <a:lnTo>
                      <a:pt x="1974" y="362"/>
                    </a:lnTo>
                    <a:lnTo>
                      <a:pt x="1983" y="350"/>
                    </a:lnTo>
                    <a:lnTo>
                      <a:pt x="1993" y="339"/>
                    </a:lnTo>
                    <a:lnTo>
                      <a:pt x="2004" y="329"/>
                    </a:lnTo>
                    <a:lnTo>
                      <a:pt x="2016" y="319"/>
                    </a:lnTo>
                    <a:lnTo>
                      <a:pt x="2022" y="313"/>
                    </a:lnTo>
                    <a:lnTo>
                      <a:pt x="2029" y="307"/>
                    </a:lnTo>
                    <a:lnTo>
                      <a:pt x="2036" y="301"/>
                    </a:lnTo>
                    <a:lnTo>
                      <a:pt x="2044" y="296"/>
                    </a:lnTo>
                    <a:lnTo>
                      <a:pt x="2052" y="291"/>
                    </a:lnTo>
                    <a:lnTo>
                      <a:pt x="2058" y="290"/>
                    </a:lnTo>
                    <a:lnTo>
                      <a:pt x="2061" y="290"/>
                    </a:lnTo>
                    <a:lnTo>
                      <a:pt x="2064" y="291"/>
                    </a:lnTo>
                    <a:lnTo>
                      <a:pt x="2065" y="293"/>
                    </a:lnTo>
                    <a:lnTo>
                      <a:pt x="2066" y="296"/>
                    </a:lnTo>
                    <a:lnTo>
                      <a:pt x="2072" y="315"/>
                    </a:lnTo>
                    <a:lnTo>
                      <a:pt x="2074" y="336"/>
                    </a:lnTo>
                    <a:lnTo>
                      <a:pt x="2076" y="357"/>
                    </a:lnTo>
                    <a:lnTo>
                      <a:pt x="2076" y="378"/>
                    </a:lnTo>
                    <a:lnTo>
                      <a:pt x="2073" y="399"/>
                    </a:lnTo>
                    <a:lnTo>
                      <a:pt x="2070" y="420"/>
                    </a:lnTo>
                    <a:lnTo>
                      <a:pt x="2066" y="441"/>
                    </a:lnTo>
                    <a:lnTo>
                      <a:pt x="2061" y="461"/>
                    </a:lnTo>
                    <a:lnTo>
                      <a:pt x="2050" y="497"/>
                    </a:lnTo>
                    <a:lnTo>
                      <a:pt x="2038" y="531"/>
                    </a:lnTo>
                    <a:lnTo>
                      <a:pt x="2024" y="566"/>
                    </a:lnTo>
                    <a:lnTo>
                      <a:pt x="2010" y="600"/>
                    </a:lnTo>
                    <a:lnTo>
                      <a:pt x="1995" y="634"/>
                    </a:lnTo>
                    <a:lnTo>
                      <a:pt x="1978" y="668"/>
                    </a:lnTo>
                    <a:lnTo>
                      <a:pt x="1963" y="702"/>
                    </a:lnTo>
                    <a:lnTo>
                      <a:pt x="1947" y="735"/>
                    </a:lnTo>
                    <a:lnTo>
                      <a:pt x="1938" y="753"/>
                    </a:lnTo>
                    <a:lnTo>
                      <a:pt x="1928" y="772"/>
                    </a:lnTo>
                    <a:lnTo>
                      <a:pt x="1918" y="790"/>
                    </a:lnTo>
                    <a:lnTo>
                      <a:pt x="1908" y="808"/>
                    </a:lnTo>
                    <a:lnTo>
                      <a:pt x="1897" y="826"/>
                    </a:lnTo>
                    <a:lnTo>
                      <a:pt x="1886" y="843"/>
                    </a:lnTo>
                    <a:lnTo>
                      <a:pt x="1874" y="861"/>
                    </a:lnTo>
                    <a:lnTo>
                      <a:pt x="1861" y="877"/>
                    </a:lnTo>
                    <a:lnTo>
                      <a:pt x="1852" y="888"/>
                    </a:lnTo>
                    <a:lnTo>
                      <a:pt x="1842" y="896"/>
                    </a:lnTo>
                    <a:lnTo>
                      <a:pt x="1831" y="904"/>
                    </a:lnTo>
                    <a:lnTo>
                      <a:pt x="1820" y="913"/>
                    </a:lnTo>
                    <a:lnTo>
                      <a:pt x="1808" y="921"/>
                    </a:lnTo>
                    <a:lnTo>
                      <a:pt x="1797" y="928"/>
                    </a:lnTo>
                    <a:lnTo>
                      <a:pt x="1786" y="937"/>
                    </a:lnTo>
                    <a:lnTo>
                      <a:pt x="1776" y="945"/>
                    </a:lnTo>
                    <a:lnTo>
                      <a:pt x="1771" y="950"/>
                    </a:lnTo>
                    <a:lnTo>
                      <a:pt x="1765" y="955"/>
                    </a:lnTo>
                    <a:lnTo>
                      <a:pt x="1760" y="958"/>
                    </a:lnTo>
                    <a:lnTo>
                      <a:pt x="1755" y="963"/>
                    </a:lnTo>
                    <a:lnTo>
                      <a:pt x="1750" y="968"/>
                    </a:lnTo>
                    <a:lnTo>
                      <a:pt x="1747" y="974"/>
                    </a:lnTo>
                    <a:lnTo>
                      <a:pt x="1743" y="980"/>
                    </a:lnTo>
                    <a:lnTo>
                      <a:pt x="1741" y="986"/>
                    </a:lnTo>
                    <a:lnTo>
                      <a:pt x="1740" y="993"/>
                    </a:lnTo>
                    <a:lnTo>
                      <a:pt x="1738" y="1000"/>
                    </a:lnTo>
                    <a:lnTo>
                      <a:pt x="1738" y="1009"/>
                    </a:lnTo>
                    <a:lnTo>
                      <a:pt x="1740" y="1017"/>
                    </a:lnTo>
                    <a:lnTo>
                      <a:pt x="1741" y="1024"/>
                    </a:lnTo>
                    <a:lnTo>
                      <a:pt x="1743" y="1032"/>
                    </a:lnTo>
                    <a:lnTo>
                      <a:pt x="1747" y="1038"/>
                    </a:lnTo>
                    <a:lnTo>
                      <a:pt x="1753" y="1042"/>
                    </a:lnTo>
                    <a:lnTo>
                      <a:pt x="1764" y="1048"/>
                    </a:lnTo>
                    <a:lnTo>
                      <a:pt x="1776" y="1054"/>
                    </a:lnTo>
                    <a:lnTo>
                      <a:pt x="1789" y="1058"/>
                    </a:lnTo>
                    <a:lnTo>
                      <a:pt x="1802" y="1060"/>
                    </a:lnTo>
                    <a:lnTo>
                      <a:pt x="1815" y="1062"/>
                    </a:lnTo>
                    <a:lnTo>
                      <a:pt x="1828" y="1062"/>
                    </a:lnTo>
                    <a:lnTo>
                      <a:pt x="1843" y="1062"/>
                    </a:lnTo>
                    <a:lnTo>
                      <a:pt x="1855" y="1059"/>
                    </a:lnTo>
                    <a:lnTo>
                      <a:pt x="1869" y="1057"/>
                    </a:lnTo>
                    <a:lnTo>
                      <a:pt x="1884" y="1053"/>
                    </a:lnTo>
                    <a:lnTo>
                      <a:pt x="1898" y="1048"/>
                    </a:lnTo>
                    <a:lnTo>
                      <a:pt x="1911" y="1042"/>
                    </a:lnTo>
                    <a:lnTo>
                      <a:pt x="1924" y="1035"/>
                    </a:lnTo>
                    <a:lnTo>
                      <a:pt x="1936" y="1027"/>
                    </a:lnTo>
                    <a:lnTo>
                      <a:pt x="1947" y="1018"/>
                    </a:lnTo>
                    <a:lnTo>
                      <a:pt x="1958" y="1009"/>
                    </a:lnTo>
                    <a:lnTo>
                      <a:pt x="1966" y="998"/>
                    </a:lnTo>
                    <a:lnTo>
                      <a:pt x="1975" y="987"/>
                    </a:lnTo>
                    <a:lnTo>
                      <a:pt x="1983" y="976"/>
                    </a:lnTo>
                    <a:lnTo>
                      <a:pt x="1990" y="966"/>
                    </a:lnTo>
                    <a:lnTo>
                      <a:pt x="2004" y="943"/>
                    </a:lnTo>
                    <a:lnTo>
                      <a:pt x="2017" y="919"/>
                    </a:lnTo>
                    <a:lnTo>
                      <a:pt x="2030" y="895"/>
                    </a:lnTo>
                    <a:lnTo>
                      <a:pt x="2043" y="871"/>
                    </a:lnTo>
                    <a:lnTo>
                      <a:pt x="2056" y="848"/>
                    </a:lnTo>
                    <a:lnTo>
                      <a:pt x="2072" y="826"/>
                    </a:lnTo>
                    <a:lnTo>
                      <a:pt x="2084" y="811"/>
                    </a:lnTo>
                    <a:lnTo>
                      <a:pt x="2096" y="798"/>
                    </a:lnTo>
                    <a:lnTo>
                      <a:pt x="2109" y="783"/>
                    </a:lnTo>
                    <a:lnTo>
                      <a:pt x="2122" y="771"/>
                    </a:lnTo>
                    <a:lnTo>
                      <a:pt x="2137" y="758"/>
                    </a:lnTo>
                    <a:lnTo>
                      <a:pt x="2151" y="746"/>
                    </a:lnTo>
                    <a:lnTo>
                      <a:pt x="2166" y="734"/>
                    </a:lnTo>
                    <a:lnTo>
                      <a:pt x="2181" y="723"/>
                    </a:lnTo>
                    <a:lnTo>
                      <a:pt x="2191" y="716"/>
                    </a:lnTo>
                    <a:lnTo>
                      <a:pt x="2200" y="710"/>
                    </a:lnTo>
                    <a:lnTo>
                      <a:pt x="2211" y="704"/>
                    </a:lnTo>
                    <a:lnTo>
                      <a:pt x="2222" y="698"/>
                    </a:lnTo>
                    <a:lnTo>
                      <a:pt x="2233" y="693"/>
                    </a:lnTo>
                    <a:lnTo>
                      <a:pt x="2244" y="691"/>
                    </a:lnTo>
                    <a:lnTo>
                      <a:pt x="2254" y="688"/>
                    </a:lnTo>
                    <a:lnTo>
                      <a:pt x="2266" y="690"/>
                    </a:lnTo>
                    <a:lnTo>
                      <a:pt x="2277" y="691"/>
                    </a:lnTo>
                    <a:lnTo>
                      <a:pt x="2288" y="696"/>
                    </a:lnTo>
                    <a:lnTo>
                      <a:pt x="2298" y="700"/>
                    </a:lnTo>
                    <a:lnTo>
                      <a:pt x="2307" y="708"/>
                    </a:lnTo>
                    <a:lnTo>
                      <a:pt x="2316" y="716"/>
                    </a:lnTo>
                    <a:lnTo>
                      <a:pt x="2324" y="723"/>
                    </a:lnTo>
                    <a:lnTo>
                      <a:pt x="2332" y="732"/>
                    </a:lnTo>
                    <a:lnTo>
                      <a:pt x="2341" y="740"/>
                    </a:lnTo>
                    <a:lnTo>
                      <a:pt x="2348" y="750"/>
                    </a:lnTo>
                    <a:lnTo>
                      <a:pt x="2355" y="759"/>
                    </a:lnTo>
                    <a:lnTo>
                      <a:pt x="2362" y="769"/>
                    </a:lnTo>
                    <a:lnTo>
                      <a:pt x="2368" y="778"/>
                    </a:lnTo>
                    <a:lnTo>
                      <a:pt x="2374" y="789"/>
                    </a:lnTo>
                    <a:lnTo>
                      <a:pt x="2380" y="800"/>
                    </a:lnTo>
                    <a:lnTo>
                      <a:pt x="2386" y="810"/>
                    </a:lnTo>
                    <a:lnTo>
                      <a:pt x="2392" y="820"/>
                    </a:lnTo>
                    <a:lnTo>
                      <a:pt x="2401" y="835"/>
                    </a:lnTo>
                    <a:lnTo>
                      <a:pt x="2410" y="849"/>
                    </a:lnTo>
                    <a:lnTo>
                      <a:pt x="2419" y="864"/>
                    </a:lnTo>
                    <a:lnTo>
                      <a:pt x="2428" y="879"/>
                    </a:lnTo>
                    <a:lnTo>
                      <a:pt x="2437" y="894"/>
                    </a:lnTo>
                    <a:lnTo>
                      <a:pt x="2445" y="909"/>
                    </a:lnTo>
                    <a:lnTo>
                      <a:pt x="2454" y="924"/>
                    </a:lnTo>
                    <a:lnTo>
                      <a:pt x="2461" y="940"/>
                    </a:lnTo>
                    <a:lnTo>
                      <a:pt x="2464" y="950"/>
                    </a:lnTo>
                    <a:lnTo>
                      <a:pt x="2467" y="960"/>
                    </a:lnTo>
                    <a:lnTo>
                      <a:pt x="2469" y="969"/>
                    </a:lnTo>
                    <a:lnTo>
                      <a:pt x="2472" y="979"/>
                    </a:lnTo>
                    <a:lnTo>
                      <a:pt x="2473" y="990"/>
                    </a:lnTo>
                    <a:lnTo>
                      <a:pt x="2474" y="999"/>
                    </a:lnTo>
                    <a:lnTo>
                      <a:pt x="2473" y="1010"/>
                    </a:lnTo>
                    <a:lnTo>
                      <a:pt x="2472" y="1020"/>
                    </a:lnTo>
                    <a:lnTo>
                      <a:pt x="2470" y="1027"/>
                    </a:lnTo>
                    <a:lnTo>
                      <a:pt x="2468" y="1033"/>
                    </a:lnTo>
                    <a:lnTo>
                      <a:pt x="2464" y="1040"/>
                    </a:lnTo>
                    <a:lnTo>
                      <a:pt x="2460" y="1046"/>
                    </a:lnTo>
                    <a:lnTo>
                      <a:pt x="2455" y="1051"/>
                    </a:lnTo>
                    <a:lnTo>
                      <a:pt x="2450" y="1056"/>
                    </a:lnTo>
                    <a:lnTo>
                      <a:pt x="2444" y="1058"/>
                    </a:lnTo>
                    <a:lnTo>
                      <a:pt x="2438" y="1059"/>
                    </a:lnTo>
                    <a:lnTo>
                      <a:pt x="2427" y="1059"/>
                    </a:lnTo>
                    <a:lnTo>
                      <a:pt x="2418" y="1058"/>
                    </a:lnTo>
                    <a:lnTo>
                      <a:pt x="2407" y="1054"/>
                    </a:lnTo>
                    <a:lnTo>
                      <a:pt x="2397" y="1050"/>
                    </a:lnTo>
                    <a:lnTo>
                      <a:pt x="2389" y="1045"/>
                    </a:lnTo>
                    <a:lnTo>
                      <a:pt x="2379" y="1039"/>
                    </a:lnTo>
                    <a:lnTo>
                      <a:pt x="2371" y="1033"/>
                    </a:lnTo>
                    <a:lnTo>
                      <a:pt x="2364" y="1026"/>
                    </a:lnTo>
                    <a:lnTo>
                      <a:pt x="2353" y="1015"/>
                    </a:lnTo>
                    <a:lnTo>
                      <a:pt x="2343" y="1004"/>
                    </a:lnTo>
                    <a:lnTo>
                      <a:pt x="2335" y="991"/>
                    </a:lnTo>
                    <a:lnTo>
                      <a:pt x="2326" y="979"/>
                    </a:lnTo>
                    <a:lnTo>
                      <a:pt x="2319" y="966"/>
                    </a:lnTo>
                    <a:lnTo>
                      <a:pt x="2311" y="954"/>
                    </a:lnTo>
                    <a:lnTo>
                      <a:pt x="2304" y="940"/>
                    </a:lnTo>
                    <a:lnTo>
                      <a:pt x="2295" y="928"/>
                    </a:lnTo>
                    <a:lnTo>
                      <a:pt x="2289" y="921"/>
                    </a:lnTo>
                    <a:lnTo>
                      <a:pt x="2284" y="914"/>
                    </a:lnTo>
                    <a:lnTo>
                      <a:pt x="2280" y="906"/>
                    </a:lnTo>
                    <a:lnTo>
                      <a:pt x="2274" y="898"/>
                    </a:lnTo>
                    <a:lnTo>
                      <a:pt x="2269" y="891"/>
                    </a:lnTo>
                    <a:lnTo>
                      <a:pt x="2263" y="884"/>
                    </a:lnTo>
                    <a:lnTo>
                      <a:pt x="2256" y="878"/>
                    </a:lnTo>
                    <a:lnTo>
                      <a:pt x="2250" y="872"/>
                    </a:lnTo>
                    <a:lnTo>
                      <a:pt x="2246" y="870"/>
                    </a:lnTo>
                    <a:lnTo>
                      <a:pt x="2242" y="868"/>
                    </a:lnTo>
                    <a:lnTo>
                      <a:pt x="2239" y="867"/>
                    </a:lnTo>
                    <a:lnTo>
                      <a:pt x="2234" y="866"/>
                    </a:lnTo>
                    <a:lnTo>
                      <a:pt x="2230" y="867"/>
                    </a:lnTo>
                    <a:lnTo>
                      <a:pt x="2227" y="867"/>
                    </a:lnTo>
                    <a:lnTo>
                      <a:pt x="2223" y="870"/>
                    </a:lnTo>
                    <a:lnTo>
                      <a:pt x="2221" y="872"/>
                    </a:lnTo>
                    <a:lnTo>
                      <a:pt x="2210" y="886"/>
                    </a:lnTo>
                    <a:lnTo>
                      <a:pt x="2202" y="903"/>
                    </a:lnTo>
                    <a:lnTo>
                      <a:pt x="2193" y="919"/>
                    </a:lnTo>
                    <a:lnTo>
                      <a:pt x="2185" y="936"/>
                    </a:lnTo>
                    <a:lnTo>
                      <a:pt x="2178" y="954"/>
                    </a:lnTo>
                    <a:lnTo>
                      <a:pt x="2169" y="970"/>
                    </a:lnTo>
                    <a:lnTo>
                      <a:pt x="2161" y="986"/>
                    </a:lnTo>
                    <a:lnTo>
                      <a:pt x="2152" y="1003"/>
                    </a:lnTo>
                    <a:lnTo>
                      <a:pt x="2143" y="1018"/>
                    </a:lnTo>
                    <a:lnTo>
                      <a:pt x="2132" y="1035"/>
                    </a:lnTo>
                    <a:lnTo>
                      <a:pt x="2122" y="1051"/>
                    </a:lnTo>
                    <a:lnTo>
                      <a:pt x="2112" y="1068"/>
                    </a:lnTo>
                    <a:lnTo>
                      <a:pt x="2101" y="1083"/>
                    </a:lnTo>
                    <a:lnTo>
                      <a:pt x="2090" y="1099"/>
                    </a:lnTo>
                    <a:lnTo>
                      <a:pt x="2078" y="1113"/>
                    </a:lnTo>
                    <a:lnTo>
                      <a:pt x="2066" y="1128"/>
                    </a:lnTo>
                    <a:lnTo>
                      <a:pt x="2055" y="1141"/>
                    </a:lnTo>
                    <a:lnTo>
                      <a:pt x="2043" y="1154"/>
                    </a:lnTo>
                    <a:lnTo>
                      <a:pt x="2030" y="1167"/>
                    </a:lnTo>
                    <a:lnTo>
                      <a:pt x="2018" y="1179"/>
                    </a:lnTo>
                    <a:lnTo>
                      <a:pt x="2005" y="1191"/>
                    </a:lnTo>
                    <a:lnTo>
                      <a:pt x="1992" y="1203"/>
                    </a:lnTo>
                    <a:lnTo>
                      <a:pt x="1977" y="1214"/>
                    </a:lnTo>
                    <a:lnTo>
                      <a:pt x="1964" y="1225"/>
                    </a:lnTo>
                    <a:lnTo>
                      <a:pt x="1954" y="1233"/>
                    </a:lnTo>
                    <a:lnTo>
                      <a:pt x="1944" y="1240"/>
                    </a:lnTo>
                    <a:lnTo>
                      <a:pt x="1933" y="1248"/>
                    </a:lnTo>
                    <a:lnTo>
                      <a:pt x="1923" y="1254"/>
                    </a:lnTo>
                    <a:lnTo>
                      <a:pt x="1912" y="1260"/>
                    </a:lnTo>
                    <a:lnTo>
                      <a:pt x="1900" y="1266"/>
                    </a:lnTo>
                    <a:lnTo>
                      <a:pt x="1890" y="1272"/>
                    </a:lnTo>
                    <a:lnTo>
                      <a:pt x="1879" y="1276"/>
                    </a:lnTo>
                    <a:lnTo>
                      <a:pt x="1868" y="1280"/>
                    </a:lnTo>
                    <a:lnTo>
                      <a:pt x="1857" y="1282"/>
                    </a:lnTo>
                    <a:lnTo>
                      <a:pt x="1846" y="1285"/>
                    </a:lnTo>
                    <a:lnTo>
                      <a:pt x="1836" y="1286"/>
                    </a:lnTo>
                    <a:lnTo>
                      <a:pt x="1825" y="1287"/>
                    </a:lnTo>
                    <a:lnTo>
                      <a:pt x="1814" y="1288"/>
                    </a:lnTo>
                    <a:lnTo>
                      <a:pt x="1803" y="1291"/>
                    </a:lnTo>
                    <a:lnTo>
                      <a:pt x="1792" y="1293"/>
                    </a:lnTo>
                    <a:lnTo>
                      <a:pt x="1785" y="1296"/>
                    </a:lnTo>
                    <a:lnTo>
                      <a:pt x="1778" y="1297"/>
                    </a:lnTo>
                    <a:lnTo>
                      <a:pt x="1771" y="1299"/>
                    </a:lnTo>
                    <a:lnTo>
                      <a:pt x="1764" y="1300"/>
                    </a:lnTo>
                    <a:lnTo>
                      <a:pt x="1756" y="1303"/>
                    </a:lnTo>
                    <a:lnTo>
                      <a:pt x="1750" y="1306"/>
                    </a:lnTo>
                    <a:lnTo>
                      <a:pt x="1746" y="1311"/>
                    </a:lnTo>
                    <a:lnTo>
                      <a:pt x="1741" y="1316"/>
                    </a:lnTo>
                    <a:lnTo>
                      <a:pt x="1740" y="1321"/>
                    </a:lnTo>
                    <a:lnTo>
                      <a:pt x="1740" y="1327"/>
                    </a:lnTo>
                    <a:lnTo>
                      <a:pt x="1741" y="1331"/>
                    </a:lnTo>
                    <a:lnTo>
                      <a:pt x="1743" y="1337"/>
                    </a:lnTo>
                    <a:lnTo>
                      <a:pt x="1747" y="1342"/>
                    </a:lnTo>
                    <a:lnTo>
                      <a:pt x="1750" y="1347"/>
                    </a:lnTo>
                    <a:lnTo>
                      <a:pt x="1754" y="1352"/>
                    </a:lnTo>
                    <a:lnTo>
                      <a:pt x="1759" y="1355"/>
                    </a:lnTo>
                    <a:lnTo>
                      <a:pt x="1767" y="1364"/>
                    </a:lnTo>
                    <a:lnTo>
                      <a:pt x="1778" y="1371"/>
                    </a:lnTo>
                    <a:lnTo>
                      <a:pt x="1789" y="1377"/>
                    </a:lnTo>
                    <a:lnTo>
                      <a:pt x="1800" y="1384"/>
                    </a:lnTo>
                    <a:lnTo>
                      <a:pt x="1810" y="1390"/>
                    </a:lnTo>
                    <a:lnTo>
                      <a:pt x="1820" y="1396"/>
                    </a:lnTo>
                    <a:lnTo>
                      <a:pt x="1830" y="1405"/>
                    </a:lnTo>
                    <a:lnTo>
                      <a:pt x="1838" y="1413"/>
                    </a:lnTo>
                    <a:lnTo>
                      <a:pt x="1846" y="1425"/>
                    </a:lnTo>
                    <a:lnTo>
                      <a:pt x="1854" y="1437"/>
                    </a:lnTo>
                    <a:lnTo>
                      <a:pt x="1861" y="1449"/>
                    </a:lnTo>
                    <a:lnTo>
                      <a:pt x="1867" y="1462"/>
                    </a:lnTo>
                    <a:lnTo>
                      <a:pt x="1873" y="1475"/>
                    </a:lnTo>
                    <a:lnTo>
                      <a:pt x="1878" y="1490"/>
                    </a:lnTo>
                    <a:lnTo>
                      <a:pt x="1884" y="1503"/>
                    </a:lnTo>
                    <a:lnTo>
                      <a:pt x="1890" y="1516"/>
                    </a:lnTo>
                    <a:lnTo>
                      <a:pt x="1898" y="1534"/>
                    </a:lnTo>
                    <a:lnTo>
                      <a:pt x="1905" y="1552"/>
                    </a:lnTo>
                    <a:lnTo>
                      <a:pt x="1912" y="1571"/>
                    </a:lnTo>
                    <a:lnTo>
                      <a:pt x="1918" y="1591"/>
                    </a:lnTo>
                    <a:lnTo>
                      <a:pt x="1927" y="1609"/>
                    </a:lnTo>
                    <a:lnTo>
                      <a:pt x="1935" y="1627"/>
                    </a:lnTo>
                    <a:lnTo>
                      <a:pt x="1940" y="1635"/>
                    </a:lnTo>
                    <a:lnTo>
                      <a:pt x="1946" y="1643"/>
                    </a:lnTo>
                    <a:lnTo>
                      <a:pt x="1952" y="1651"/>
                    </a:lnTo>
                    <a:lnTo>
                      <a:pt x="1958" y="1658"/>
                    </a:lnTo>
                    <a:lnTo>
                      <a:pt x="1974" y="1672"/>
                    </a:lnTo>
                    <a:lnTo>
                      <a:pt x="1990" y="1685"/>
                    </a:lnTo>
                    <a:lnTo>
                      <a:pt x="2008" y="1696"/>
                    </a:lnTo>
                    <a:lnTo>
                      <a:pt x="2028" y="1707"/>
                    </a:lnTo>
                    <a:lnTo>
                      <a:pt x="2048" y="1717"/>
                    </a:lnTo>
                    <a:lnTo>
                      <a:pt x="2067" y="1725"/>
                    </a:lnTo>
                    <a:lnTo>
                      <a:pt x="2088" y="1735"/>
                    </a:lnTo>
                    <a:lnTo>
                      <a:pt x="2107" y="1744"/>
                    </a:lnTo>
                    <a:lnTo>
                      <a:pt x="2120" y="1750"/>
                    </a:lnTo>
                    <a:lnTo>
                      <a:pt x="2134" y="1755"/>
                    </a:lnTo>
                    <a:lnTo>
                      <a:pt x="2149" y="1761"/>
                    </a:lnTo>
                    <a:lnTo>
                      <a:pt x="2164" y="1766"/>
                    </a:lnTo>
                    <a:lnTo>
                      <a:pt x="2179" y="1771"/>
                    </a:lnTo>
                    <a:lnTo>
                      <a:pt x="2193" y="1775"/>
                    </a:lnTo>
                    <a:lnTo>
                      <a:pt x="2208" y="1783"/>
                    </a:lnTo>
                    <a:lnTo>
                      <a:pt x="2221" y="1790"/>
                    </a:lnTo>
                    <a:lnTo>
                      <a:pt x="2227" y="1793"/>
                    </a:lnTo>
                    <a:lnTo>
                      <a:pt x="2234" y="1798"/>
                    </a:lnTo>
                    <a:lnTo>
                      <a:pt x="2240" y="1803"/>
                    </a:lnTo>
                    <a:lnTo>
                      <a:pt x="2245" y="1809"/>
                    </a:lnTo>
                    <a:lnTo>
                      <a:pt x="2251" y="1815"/>
                    </a:lnTo>
                    <a:lnTo>
                      <a:pt x="2254" y="1821"/>
                    </a:lnTo>
                    <a:lnTo>
                      <a:pt x="2258" y="1828"/>
                    </a:lnTo>
                    <a:lnTo>
                      <a:pt x="2260" y="1835"/>
                    </a:lnTo>
                    <a:lnTo>
                      <a:pt x="2263" y="1844"/>
                    </a:lnTo>
                    <a:lnTo>
                      <a:pt x="2264" y="1853"/>
                    </a:lnTo>
                    <a:lnTo>
                      <a:pt x="2265" y="1864"/>
                    </a:lnTo>
                    <a:lnTo>
                      <a:pt x="2265" y="1874"/>
                    </a:lnTo>
                    <a:lnTo>
                      <a:pt x="2264" y="1883"/>
                    </a:lnTo>
                    <a:lnTo>
                      <a:pt x="2260" y="1892"/>
                    </a:lnTo>
                    <a:lnTo>
                      <a:pt x="2259" y="1895"/>
                    </a:lnTo>
                    <a:lnTo>
                      <a:pt x="2256" y="1899"/>
                    </a:lnTo>
                    <a:lnTo>
                      <a:pt x="2253" y="1901"/>
                    </a:lnTo>
                    <a:lnTo>
                      <a:pt x="2250" y="1904"/>
                    </a:lnTo>
                    <a:lnTo>
                      <a:pt x="2242" y="1906"/>
                    </a:lnTo>
                    <a:lnTo>
                      <a:pt x="2235" y="1907"/>
                    </a:lnTo>
                    <a:lnTo>
                      <a:pt x="2228" y="1909"/>
                    </a:lnTo>
                    <a:lnTo>
                      <a:pt x="2220" y="1909"/>
                    </a:lnTo>
                    <a:lnTo>
                      <a:pt x="2205" y="1907"/>
                    </a:lnTo>
                    <a:lnTo>
                      <a:pt x="2190" y="1904"/>
                    </a:lnTo>
                    <a:lnTo>
                      <a:pt x="2174" y="1900"/>
                    </a:lnTo>
                    <a:lnTo>
                      <a:pt x="2160" y="1895"/>
                    </a:lnTo>
                    <a:lnTo>
                      <a:pt x="2144" y="1891"/>
                    </a:lnTo>
                    <a:lnTo>
                      <a:pt x="2130" y="1886"/>
                    </a:lnTo>
                    <a:lnTo>
                      <a:pt x="2113" y="1881"/>
                    </a:lnTo>
                    <a:lnTo>
                      <a:pt x="2097" y="1876"/>
                    </a:lnTo>
                    <a:lnTo>
                      <a:pt x="2082" y="1869"/>
                    </a:lnTo>
                    <a:lnTo>
                      <a:pt x="2066" y="1863"/>
                    </a:lnTo>
                    <a:lnTo>
                      <a:pt x="2050" y="1856"/>
                    </a:lnTo>
                    <a:lnTo>
                      <a:pt x="2035" y="1849"/>
                    </a:lnTo>
                    <a:lnTo>
                      <a:pt x="2019" y="1841"/>
                    </a:lnTo>
                    <a:lnTo>
                      <a:pt x="2004" y="1835"/>
                    </a:lnTo>
                    <a:lnTo>
                      <a:pt x="1984" y="1827"/>
                    </a:lnTo>
                    <a:lnTo>
                      <a:pt x="1965" y="1820"/>
                    </a:lnTo>
                    <a:lnTo>
                      <a:pt x="1946" y="1813"/>
                    </a:lnTo>
                    <a:lnTo>
                      <a:pt x="1927" y="1804"/>
                    </a:lnTo>
                    <a:lnTo>
                      <a:pt x="1909" y="1797"/>
                    </a:lnTo>
                    <a:lnTo>
                      <a:pt x="1890" y="1787"/>
                    </a:lnTo>
                    <a:lnTo>
                      <a:pt x="1873" y="1778"/>
                    </a:lnTo>
                    <a:lnTo>
                      <a:pt x="1855" y="1767"/>
                    </a:lnTo>
                    <a:lnTo>
                      <a:pt x="1843" y="1757"/>
                    </a:lnTo>
                    <a:lnTo>
                      <a:pt x="1831" y="1747"/>
                    </a:lnTo>
                    <a:lnTo>
                      <a:pt x="1820" y="1735"/>
                    </a:lnTo>
                    <a:lnTo>
                      <a:pt x="1809" y="1723"/>
                    </a:lnTo>
                    <a:lnTo>
                      <a:pt x="1800" y="1711"/>
                    </a:lnTo>
                    <a:lnTo>
                      <a:pt x="1791" y="1697"/>
                    </a:lnTo>
                    <a:lnTo>
                      <a:pt x="1783" y="1683"/>
                    </a:lnTo>
                    <a:lnTo>
                      <a:pt x="1776" y="1670"/>
                    </a:lnTo>
                    <a:lnTo>
                      <a:pt x="1772" y="1660"/>
                    </a:lnTo>
                    <a:lnTo>
                      <a:pt x="1770" y="1649"/>
                    </a:lnTo>
                    <a:lnTo>
                      <a:pt x="1768" y="1639"/>
                    </a:lnTo>
                    <a:lnTo>
                      <a:pt x="1768" y="1628"/>
                    </a:lnTo>
                    <a:lnTo>
                      <a:pt x="1768" y="1616"/>
                    </a:lnTo>
                    <a:lnTo>
                      <a:pt x="1768" y="1605"/>
                    </a:lnTo>
                    <a:lnTo>
                      <a:pt x="1767" y="1594"/>
                    </a:lnTo>
                    <a:lnTo>
                      <a:pt x="1764" y="1585"/>
                    </a:lnTo>
                    <a:lnTo>
                      <a:pt x="1761" y="1575"/>
                    </a:lnTo>
                    <a:lnTo>
                      <a:pt x="1758" y="1565"/>
                    </a:lnTo>
                    <a:lnTo>
                      <a:pt x="1753" y="1556"/>
                    </a:lnTo>
                    <a:lnTo>
                      <a:pt x="1749" y="1546"/>
                    </a:lnTo>
                    <a:lnTo>
                      <a:pt x="1743" y="1538"/>
                    </a:lnTo>
                    <a:lnTo>
                      <a:pt x="1738" y="1529"/>
                    </a:lnTo>
                    <a:lnTo>
                      <a:pt x="1731" y="1522"/>
                    </a:lnTo>
                    <a:lnTo>
                      <a:pt x="1724" y="1516"/>
                    </a:lnTo>
                    <a:lnTo>
                      <a:pt x="1719" y="1513"/>
                    </a:lnTo>
                    <a:lnTo>
                      <a:pt x="1713" y="1510"/>
                    </a:lnTo>
                    <a:lnTo>
                      <a:pt x="1707" y="1509"/>
                    </a:lnTo>
                    <a:lnTo>
                      <a:pt x="1701" y="1508"/>
                    </a:lnTo>
                    <a:lnTo>
                      <a:pt x="1694" y="1508"/>
                    </a:lnTo>
                    <a:lnTo>
                      <a:pt x="1688" y="1510"/>
                    </a:lnTo>
                    <a:lnTo>
                      <a:pt x="1683" y="1513"/>
                    </a:lnTo>
                    <a:lnTo>
                      <a:pt x="1678" y="1516"/>
                    </a:lnTo>
                    <a:lnTo>
                      <a:pt x="1672" y="1522"/>
                    </a:lnTo>
                    <a:lnTo>
                      <a:pt x="1668" y="1531"/>
                    </a:lnTo>
                    <a:lnTo>
                      <a:pt x="1664" y="1539"/>
                    </a:lnTo>
                    <a:lnTo>
                      <a:pt x="1662" y="1547"/>
                    </a:lnTo>
                    <a:lnTo>
                      <a:pt x="1659" y="1556"/>
                    </a:lnTo>
                    <a:lnTo>
                      <a:pt x="1658" y="1565"/>
                    </a:lnTo>
                    <a:lnTo>
                      <a:pt x="1657" y="1575"/>
                    </a:lnTo>
                    <a:lnTo>
                      <a:pt x="1656" y="1585"/>
                    </a:lnTo>
                    <a:lnTo>
                      <a:pt x="1654" y="1603"/>
                    </a:lnTo>
                    <a:lnTo>
                      <a:pt x="1653" y="1623"/>
                    </a:lnTo>
                    <a:lnTo>
                      <a:pt x="1653" y="1642"/>
                    </a:lnTo>
                    <a:lnTo>
                      <a:pt x="1653" y="1661"/>
                    </a:lnTo>
                    <a:lnTo>
                      <a:pt x="1653" y="1681"/>
                    </a:lnTo>
                    <a:lnTo>
                      <a:pt x="1654" y="1700"/>
                    </a:lnTo>
                    <a:lnTo>
                      <a:pt x="1656" y="1719"/>
                    </a:lnTo>
                    <a:lnTo>
                      <a:pt x="1656" y="1738"/>
                    </a:lnTo>
                    <a:lnTo>
                      <a:pt x="1657" y="1753"/>
                    </a:lnTo>
                    <a:lnTo>
                      <a:pt x="1658" y="1768"/>
                    </a:lnTo>
                    <a:lnTo>
                      <a:pt x="1659" y="1783"/>
                    </a:lnTo>
                    <a:lnTo>
                      <a:pt x="1660" y="1798"/>
                    </a:lnTo>
                    <a:lnTo>
                      <a:pt x="1662" y="1813"/>
                    </a:lnTo>
                    <a:lnTo>
                      <a:pt x="1663" y="1828"/>
                    </a:lnTo>
                    <a:lnTo>
                      <a:pt x="1663" y="1843"/>
                    </a:lnTo>
                    <a:lnTo>
                      <a:pt x="1662" y="1858"/>
                    </a:lnTo>
                    <a:lnTo>
                      <a:pt x="1659" y="1869"/>
                    </a:lnTo>
                    <a:lnTo>
                      <a:pt x="1656" y="1880"/>
                    </a:lnTo>
                    <a:lnTo>
                      <a:pt x="1652" y="1891"/>
                    </a:lnTo>
                    <a:lnTo>
                      <a:pt x="1647" y="1901"/>
                    </a:lnTo>
                    <a:lnTo>
                      <a:pt x="1641" y="1912"/>
                    </a:lnTo>
                    <a:lnTo>
                      <a:pt x="1636" y="1922"/>
                    </a:lnTo>
                    <a:lnTo>
                      <a:pt x="1632" y="1933"/>
                    </a:lnTo>
                    <a:lnTo>
                      <a:pt x="1627" y="1943"/>
                    </a:lnTo>
                    <a:lnTo>
                      <a:pt x="1622" y="1957"/>
                    </a:lnTo>
                    <a:lnTo>
                      <a:pt x="1618" y="1970"/>
                    </a:lnTo>
                    <a:lnTo>
                      <a:pt x="1614" y="1983"/>
                    </a:lnTo>
                    <a:lnTo>
                      <a:pt x="1610" y="1996"/>
                    </a:lnTo>
                    <a:lnTo>
                      <a:pt x="1605" y="2009"/>
                    </a:lnTo>
                    <a:lnTo>
                      <a:pt x="1600" y="2021"/>
                    </a:lnTo>
                    <a:lnTo>
                      <a:pt x="1594" y="2035"/>
                    </a:lnTo>
                    <a:lnTo>
                      <a:pt x="1587" y="2045"/>
                    </a:lnTo>
                    <a:lnTo>
                      <a:pt x="1580" y="2055"/>
                    </a:lnTo>
                    <a:lnTo>
                      <a:pt x="1572" y="2064"/>
                    </a:lnTo>
                    <a:lnTo>
                      <a:pt x="1563" y="2073"/>
                    </a:lnTo>
                    <a:lnTo>
                      <a:pt x="1554" y="2081"/>
                    </a:lnTo>
                    <a:lnTo>
                      <a:pt x="1544" y="2088"/>
                    </a:lnTo>
                    <a:lnTo>
                      <a:pt x="1533" y="2096"/>
                    </a:lnTo>
                    <a:lnTo>
                      <a:pt x="1524" y="2102"/>
                    </a:lnTo>
                    <a:lnTo>
                      <a:pt x="1513" y="2109"/>
                    </a:lnTo>
                    <a:lnTo>
                      <a:pt x="1507" y="2112"/>
                    </a:lnTo>
                    <a:lnTo>
                      <a:pt x="1500" y="2117"/>
                    </a:lnTo>
                    <a:lnTo>
                      <a:pt x="1492" y="2121"/>
                    </a:lnTo>
                    <a:lnTo>
                      <a:pt x="1484" y="2124"/>
                    </a:lnTo>
                    <a:lnTo>
                      <a:pt x="1477" y="2128"/>
                    </a:lnTo>
                    <a:lnTo>
                      <a:pt x="1470" y="2129"/>
                    </a:lnTo>
                    <a:lnTo>
                      <a:pt x="1462" y="2128"/>
                    </a:lnTo>
                    <a:lnTo>
                      <a:pt x="1456" y="2126"/>
                    </a:lnTo>
                    <a:lnTo>
                      <a:pt x="1448" y="2120"/>
                    </a:lnTo>
                    <a:lnTo>
                      <a:pt x="1442" y="2111"/>
                    </a:lnTo>
                    <a:lnTo>
                      <a:pt x="1437" y="2103"/>
                    </a:lnTo>
                    <a:lnTo>
                      <a:pt x="1434" y="2093"/>
                    </a:lnTo>
                    <a:lnTo>
                      <a:pt x="1430" y="2082"/>
                    </a:lnTo>
                    <a:lnTo>
                      <a:pt x="1429" y="2072"/>
                    </a:lnTo>
                    <a:lnTo>
                      <a:pt x="1428" y="2062"/>
                    </a:lnTo>
                    <a:lnTo>
                      <a:pt x="1428" y="2051"/>
                    </a:lnTo>
                    <a:lnTo>
                      <a:pt x="1428" y="2037"/>
                    </a:lnTo>
                    <a:lnTo>
                      <a:pt x="1430" y="2023"/>
                    </a:lnTo>
                    <a:lnTo>
                      <a:pt x="1432" y="2008"/>
                    </a:lnTo>
                    <a:lnTo>
                      <a:pt x="1437" y="1994"/>
                    </a:lnTo>
                    <a:lnTo>
                      <a:pt x="1441" y="1979"/>
                    </a:lnTo>
                    <a:lnTo>
                      <a:pt x="1446" y="1965"/>
                    </a:lnTo>
                    <a:lnTo>
                      <a:pt x="1450" y="1952"/>
                    </a:lnTo>
                    <a:lnTo>
                      <a:pt x="1456" y="1937"/>
                    </a:lnTo>
                    <a:lnTo>
                      <a:pt x="1461" y="1925"/>
                    </a:lnTo>
                    <a:lnTo>
                      <a:pt x="1467" y="1915"/>
                    </a:lnTo>
                    <a:lnTo>
                      <a:pt x="1473" y="1904"/>
                    </a:lnTo>
                    <a:lnTo>
                      <a:pt x="1480" y="1892"/>
                    </a:lnTo>
                    <a:lnTo>
                      <a:pt x="1486" y="1881"/>
                    </a:lnTo>
                    <a:lnTo>
                      <a:pt x="1492" y="1870"/>
                    </a:lnTo>
                    <a:lnTo>
                      <a:pt x="1497" y="1858"/>
                    </a:lnTo>
                    <a:lnTo>
                      <a:pt x="1502" y="1846"/>
                    </a:lnTo>
                    <a:lnTo>
                      <a:pt x="1506" y="1826"/>
                    </a:lnTo>
                    <a:lnTo>
                      <a:pt x="1510" y="1805"/>
                    </a:lnTo>
                    <a:lnTo>
                      <a:pt x="1513" y="1785"/>
                    </a:lnTo>
                    <a:lnTo>
                      <a:pt x="1516" y="1765"/>
                    </a:lnTo>
                    <a:lnTo>
                      <a:pt x="1518" y="1743"/>
                    </a:lnTo>
                    <a:lnTo>
                      <a:pt x="1519" y="1723"/>
                    </a:lnTo>
                    <a:lnTo>
                      <a:pt x="1519" y="1702"/>
                    </a:lnTo>
                    <a:lnTo>
                      <a:pt x="1519" y="1681"/>
                    </a:lnTo>
                    <a:lnTo>
                      <a:pt x="1518" y="1667"/>
                    </a:lnTo>
                    <a:lnTo>
                      <a:pt x="1516" y="1654"/>
                    </a:lnTo>
                    <a:lnTo>
                      <a:pt x="1514" y="1641"/>
                    </a:lnTo>
                    <a:lnTo>
                      <a:pt x="1510" y="1628"/>
                    </a:lnTo>
                    <a:lnTo>
                      <a:pt x="1507" y="1615"/>
                    </a:lnTo>
                    <a:lnTo>
                      <a:pt x="1502" y="1603"/>
                    </a:lnTo>
                    <a:lnTo>
                      <a:pt x="1496" y="1591"/>
                    </a:lnTo>
                    <a:lnTo>
                      <a:pt x="1490" y="1579"/>
                    </a:lnTo>
                    <a:lnTo>
                      <a:pt x="1485" y="1571"/>
                    </a:lnTo>
                    <a:lnTo>
                      <a:pt x="1480" y="1564"/>
                    </a:lnTo>
                    <a:lnTo>
                      <a:pt x="1474" y="1558"/>
                    </a:lnTo>
                    <a:lnTo>
                      <a:pt x="1468" y="1552"/>
                    </a:lnTo>
                    <a:lnTo>
                      <a:pt x="1461" y="1547"/>
                    </a:lnTo>
                    <a:lnTo>
                      <a:pt x="1454" y="1543"/>
                    </a:lnTo>
                    <a:lnTo>
                      <a:pt x="1447" y="1540"/>
                    </a:lnTo>
                    <a:lnTo>
                      <a:pt x="1438" y="1539"/>
                    </a:lnTo>
                    <a:lnTo>
                      <a:pt x="1430" y="1538"/>
                    </a:lnTo>
                    <a:lnTo>
                      <a:pt x="1420" y="1539"/>
                    </a:lnTo>
                    <a:lnTo>
                      <a:pt x="1411" y="1541"/>
                    </a:lnTo>
                    <a:lnTo>
                      <a:pt x="1401" y="1545"/>
                    </a:lnTo>
                    <a:lnTo>
                      <a:pt x="1393" y="1550"/>
                    </a:lnTo>
                    <a:lnTo>
                      <a:pt x="1384" y="1555"/>
                    </a:lnTo>
                    <a:lnTo>
                      <a:pt x="1377" y="1561"/>
                    </a:lnTo>
                    <a:lnTo>
                      <a:pt x="1370" y="1567"/>
                    </a:lnTo>
                    <a:lnTo>
                      <a:pt x="1362" y="1579"/>
                    </a:lnTo>
                    <a:lnTo>
                      <a:pt x="1354" y="1591"/>
                    </a:lnTo>
                    <a:lnTo>
                      <a:pt x="1347" y="1603"/>
                    </a:lnTo>
                    <a:lnTo>
                      <a:pt x="1341" y="1616"/>
                    </a:lnTo>
                    <a:lnTo>
                      <a:pt x="1336" y="1629"/>
                    </a:lnTo>
                    <a:lnTo>
                      <a:pt x="1330" y="1643"/>
                    </a:lnTo>
                    <a:lnTo>
                      <a:pt x="1326" y="1657"/>
                    </a:lnTo>
                    <a:lnTo>
                      <a:pt x="1318" y="1670"/>
                    </a:lnTo>
                    <a:lnTo>
                      <a:pt x="1309" y="1690"/>
                    </a:lnTo>
                    <a:lnTo>
                      <a:pt x="1298" y="1712"/>
                    </a:lnTo>
                    <a:lnTo>
                      <a:pt x="1288" y="1732"/>
                    </a:lnTo>
                    <a:lnTo>
                      <a:pt x="1278" y="1753"/>
                    </a:lnTo>
                    <a:lnTo>
                      <a:pt x="1268" y="1774"/>
                    </a:lnTo>
                    <a:lnTo>
                      <a:pt x="1257" y="1795"/>
                    </a:lnTo>
                    <a:lnTo>
                      <a:pt x="1245" y="1815"/>
                    </a:lnTo>
                    <a:lnTo>
                      <a:pt x="1233" y="1835"/>
                    </a:lnTo>
                    <a:lnTo>
                      <a:pt x="1222" y="1853"/>
                    </a:lnTo>
                    <a:lnTo>
                      <a:pt x="1210" y="1871"/>
                    </a:lnTo>
                    <a:lnTo>
                      <a:pt x="1198" y="1889"/>
                    </a:lnTo>
                    <a:lnTo>
                      <a:pt x="1186" y="1906"/>
                    </a:lnTo>
                    <a:lnTo>
                      <a:pt x="1173" y="1924"/>
                    </a:lnTo>
                    <a:lnTo>
                      <a:pt x="1160" y="1941"/>
                    </a:lnTo>
                    <a:lnTo>
                      <a:pt x="1146" y="1957"/>
                    </a:lnTo>
                    <a:lnTo>
                      <a:pt x="1131" y="1972"/>
                    </a:lnTo>
                    <a:lnTo>
                      <a:pt x="1114" y="1987"/>
                    </a:lnTo>
                    <a:lnTo>
                      <a:pt x="1098" y="2000"/>
                    </a:lnTo>
                    <a:lnTo>
                      <a:pt x="1081" y="2013"/>
                    </a:lnTo>
                    <a:lnTo>
                      <a:pt x="1063" y="2026"/>
                    </a:lnTo>
                    <a:lnTo>
                      <a:pt x="1045" y="2037"/>
                    </a:lnTo>
                    <a:lnTo>
                      <a:pt x="1026" y="2049"/>
                    </a:lnTo>
                    <a:lnTo>
                      <a:pt x="1008" y="2058"/>
                    </a:lnTo>
                    <a:lnTo>
                      <a:pt x="988" y="2068"/>
                    </a:lnTo>
                    <a:lnTo>
                      <a:pt x="973" y="2075"/>
                    </a:lnTo>
                    <a:lnTo>
                      <a:pt x="958" y="2081"/>
                    </a:lnTo>
                    <a:lnTo>
                      <a:pt x="943" y="2086"/>
                    </a:lnTo>
                    <a:lnTo>
                      <a:pt x="927" y="2091"/>
                    </a:lnTo>
                    <a:lnTo>
                      <a:pt x="910" y="2094"/>
                    </a:lnTo>
                    <a:lnTo>
                      <a:pt x="895" y="2098"/>
                    </a:lnTo>
                    <a:lnTo>
                      <a:pt x="878" y="2100"/>
                    </a:lnTo>
                    <a:lnTo>
                      <a:pt x="862" y="2103"/>
                    </a:lnTo>
                    <a:lnTo>
                      <a:pt x="856" y="2103"/>
                    </a:lnTo>
                    <a:lnTo>
                      <a:pt x="850" y="2104"/>
                    </a:lnTo>
                    <a:lnTo>
                      <a:pt x="843" y="2103"/>
                    </a:lnTo>
                    <a:lnTo>
                      <a:pt x="837" y="2103"/>
                    </a:lnTo>
                    <a:lnTo>
                      <a:pt x="831" y="2102"/>
                    </a:lnTo>
                    <a:lnTo>
                      <a:pt x="825" y="2099"/>
                    </a:lnTo>
                    <a:lnTo>
                      <a:pt x="820" y="2096"/>
                    </a:lnTo>
                    <a:lnTo>
                      <a:pt x="817" y="2091"/>
                    </a:lnTo>
                    <a:lnTo>
                      <a:pt x="814" y="2086"/>
                    </a:lnTo>
                    <a:lnTo>
                      <a:pt x="812" y="2080"/>
                    </a:lnTo>
                    <a:lnTo>
                      <a:pt x="812" y="2074"/>
                    </a:lnTo>
                    <a:lnTo>
                      <a:pt x="813" y="2068"/>
                    </a:lnTo>
                    <a:lnTo>
                      <a:pt x="814" y="2062"/>
                    </a:lnTo>
                    <a:lnTo>
                      <a:pt x="816" y="2056"/>
                    </a:lnTo>
                    <a:lnTo>
                      <a:pt x="819" y="2050"/>
                    </a:lnTo>
                    <a:lnTo>
                      <a:pt x="823" y="2045"/>
                    </a:lnTo>
                    <a:lnTo>
                      <a:pt x="835" y="2033"/>
                    </a:lnTo>
                    <a:lnTo>
                      <a:pt x="847" y="2020"/>
                    </a:lnTo>
                    <a:lnTo>
                      <a:pt x="861" y="2009"/>
                    </a:lnTo>
                    <a:lnTo>
                      <a:pt x="874" y="1999"/>
                    </a:lnTo>
                    <a:lnTo>
                      <a:pt x="889" y="1988"/>
                    </a:lnTo>
                    <a:lnTo>
                      <a:pt x="903" y="1977"/>
                    </a:lnTo>
                    <a:lnTo>
                      <a:pt x="918" y="1966"/>
                    </a:lnTo>
                    <a:lnTo>
                      <a:pt x="931" y="1954"/>
                    </a:lnTo>
                    <a:lnTo>
                      <a:pt x="946" y="1941"/>
                    </a:lnTo>
                    <a:lnTo>
                      <a:pt x="962" y="1928"/>
                    </a:lnTo>
                    <a:lnTo>
                      <a:pt x="979" y="1915"/>
                    </a:lnTo>
                    <a:lnTo>
                      <a:pt x="994" y="1900"/>
                    </a:lnTo>
                    <a:lnTo>
                      <a:pt x="1010" y="1887"/>
                    </a:lnTo>
                    <a:lnTo>
                      <a:pt x="1024" y="1873"/>
                    </a:lnTo>
                    <a:lnTo>
                      <a:pt x="1038" y="1857"/>
                    </a:lnTo>
                    <a:lnTo>
                      <a:pt x="1051" y="1840"/>
                    </a:lnTo>
                    <a:lnTo>
                      <a:pt x="1063" y="1823"/>
                    </a:lnTo>
                    <a:lnTo>
                      <a:pt x="1074" y="1805"/>
                    </a:lnTo>
                    <a:lnTo>
                      <a:pt x="1084" y="1786"/>
                    </a:lnTo>
                    <a:lnTo>
                      <a:pt x="1093" y="1767"/>
                    </a:lnTo>
                    <a:lnTo>
                      <a:pt x="1101" y="1748"/>
                    </a:lnTo>
                    <a:lnTo>
                      <a:pt x="1108" y="1727"/>
                    </a:lnTo>
                    <a:lnTo>
                      <a:pt x="1114" y="1707"/>
                    </a:lnTo>
                    <a:lnTo>
                      <a:pt x="1119" y="1687"/>
                    </a:lnTo>
                    <a:lnTo>
                      <a:pt x="1120" y="1677"/>
                    </a:lnTo>
                    <a:lnTo>
                      <a:pt x="1119" y="1667"/>
                    </a:lnTo>
                    <a:lnTo>
                      <a:pt x="1118" y="1658"/>
                    </a:lnTo>
                    <a:lnTo>
                      <a:pt x="1114" y="1648"/>
                    </a:lnTo>
                    <a:lnTo>
                      <a:pt x="1110" y="1640"/>
                    </a:lnTo>
                    <a:lnTo>
                      <a:pt x="1105" y="1631"/>
                    </a:lnTo>
                    <a:lnTo>
                      <a:pt x="1098" y="1624"/>
                    </a:lnTo>
                    <a:lnTo>
                      <a:pt x="1090" y="1618"/>
                    </a:lnTo>
                    <a:lnTo>
                      <a:pt x="1084" y="1616"/>
                    </a:lnTo>
                    <a:lnTo>
                      <a:pt x="1078" y="1615"/>
                    </a:lnTo>
                    <a:lnTo>
                      <a:pt x="1072" y="1615"/>
                    </a:lnTo>
                    <a:lnTo>
                      <a:pt x="1065" y="1616"/>
                    </a:lnTo>
                    <a:lnTo>
                      <a:pt x="1058" y="1618"/>
                    </a:lnTo>
                    <a:lnTo>
                      <a:pt x="1051" y="1622"/>
                    </a:lnTo>
                    <a:lnTo>
                      <a:pt x="1045" y="1625"/>
                    </a:lnTo>
                    <a:lnTo>
                      <a:pt x="1039" y="1630"/>
                    </a:lnTo>
                    <a:lnTo>
                      <a:pt x="1034" y="1635"/>
                    </a:lnTo>
                    <a:lnTo>
                      <a:pt x="1029" y="1641"/>
                    </a:lnTo>
                    <a:lnTo>
                      <a:pt x="1026" y="1648"/>
                    </a:lnTo>
                    <a:lnTo>
                      <a:pt x="1022" y="1655"/>
                    </a:lnTo>
                    <a:lnTo>
                      <a:pt x="1018" y="1663"/>
                    </a:lnTo>
                    <a:lnTo>
                      <a:pt x="1015" y="1670"/>
                    </a:lnTo>
                    <a:lnTo>
                      <a:pt x="1011" y="1676"/>
                    </a:lnTo>
                    <a:lnTo>
                      <a:pt x="1005" y="1681"/>
                    </a:lnTo>
                    <a:lnTo>
                      <a:pt x="994" y="1688"/>
                    </a:lnTo>
                    <a:lnTo>
                      <a:pt x="982" y="1695"/>
                    </a:lnTo>
                    <a:lnTo>
                      <a:pt x="970" y="1702"/>
                    </a:lnTo>
                    <a:lnTo>
                      <a:pt x="958" y="1707"/>
                    </a:lnTo>
                    <a:lnTo>
                      <a:pt x="946" y="1713"/>
                    </a:lnTo>
                    <a:lnTo>
                      <a:pt x="934" y="1717"/>
                    </a:lnTo>
                    <a:lnTo>
                      <a:pt x="921" y="1719"/>
                    </a:lnTo>
                    <a:lnTo>
                      <a:pt x="908" y="1721"/>
                    </a:lnTo>
                    <a:lnTo>
                      <a:pt x="898" y="1721"/>
                    </a:lnTo>
                    <a:lnTo>
                      <a:pt x="889" y="1720"/>
                    </a:lnTo>
                    <a:lnTo>
                      <a:pt x="878" y="1719"/>
                    </a:lnTo>
                    <a:lnTo>
                      <a:pt x="868" y="1715"/>
                    </a:lnTo>
                    <a:lnTo>
                      <a:pt x="859" y="1712"/>
                    </a:lnTo>
                    <a:lnTo>
                      <a:pt x="850" y="1707"/>
                    </a:lnTo>
                    <a:lnTo>
                      <a:pt x="847" y="1703"/>
                    </a:lnTo>
                    <a:lnTo>
                      <a:pt x="844" y="1700"/>
                    </a:lnTo>
                    <a:lnTo>
                      <a:pt x="842" y="1696"/>
                    </a:lnTo>
                    <a:lnTo>
                      <a:pt x="840" y="1693"/>
                    </a:lnTo>
                    <a:lnTo>
                      <a:pt x="837" y="1685"/>
                    </a:lnTo>
                    <a:lnTo>
                      <a:pt x="836" y="1678"/>
                    </a:lnTo>
                    <a:lnTo>
                      <a:pt x="835" y="1671"/>
                    </a:lnTo>
                    <a:lnTo>
                      <a:pt x="835" y="1664"/>
                    </a:lnTo>
                    <a:lnTo>
                      <a:pt x="836" y="1648"/>
                    </a:lnTo>
                    <a:lnTo>
                      <a:pt x="838" y="1634"/>
                    </a:lnTo>
                    <a:lnTo>
                      <a:pt x="842" y="1618"/>
                    </a:lnTo>
                    <a:lnTo>
                      <a:pt x="846" y="1603"/>
                    </a:lnTo>
                    <a:lnTo>
                      <a:pt x="849" y="1588"/>
                    </a:lnTo>
                    <a:lnTo>
                      <a:pt x="852" y="1573"/>
                    </a:lnTo>
                    <a:lnTo>
                      <a:pt x="853" y="1562"/>
                    </a:lnTo>
                    <a:lnTo>
                      <a:pt x="854" y="1551"/>
                    </a:lnTo>
                    <a:lnTo>
                      <a:pt x="856" y="1540"/>
                    </a:lnTo>
                    <a:lnTo>
                      <a:pt x="859" y="1529"/>
                    </a:lnTo>
                    <a:lnTo>
                      <a:pt x="861" y="1519"/>
                    </a:lnTo>
                    <a:lnTo>
                      <a:pt x="861" y="1508"/>
                    </a:lnTo>
                    <a:lnTo>
                      <a:pt x="860" y="1497"/>
                    </a:lnTo>
                    <a:lnTo>
                      <a:pt x="856" y="1487"/>
                    </a:lnTo>
                    <a:lnTo>
                      <a:pt x="853" y="1481"/>
                    </a:lnTo>
                    <a:lnTo>
                      <a:pt x="848" y="1478"/>
                    </a:lnTo>
                    <a:lnTo>
                      <a:pt x="842" y="1474"/>
                    </a:lnTo>
                    <a:lnTo>
                      <a:pt x="835" y="1472"/>
                    </a:lnTo>
                    <a:lnTo>
                      <a:pt x="828" y="1471"/>
                    </a:lnTo>
                    <a:lnTo>
                      <a:pt x="820" y="1471"/>
                    </a:lnTo>
                    <a:lnTo>
                      <a:pt x="812" y="1471"/>
                    </a:lnTo>
                    <a:lnTo>
                      <a:pt x="805" y="1469"/>
                    </a:lnTo>
                    <a:lnTo>
                      <a:pt x="789" y="1471"/>
                    </a:lnTo>
                    <a:lnTo>
                      <a:pt x="774" y="1473"/>
                    </a:lnTo>
                    <a:lnTo>
                      <a:pt x="758" y="1477"/>
                    </a:lnTo>
                    <a:lnTo>
                      <a:pt x="742" y="1480"/>
                    </a:lnTo>
                    <a:lnTo>
                      <a:pt x="727" y="1483"/>
                    </a:lnTo>
                    <a:lnTo>
                      <a:pt x="711" y="1486"/>
                    </a:lnTo>
                    <a:lnTo>
                      <a:pt x="696" y="1487"/>
                    </a:lnTo>
                    <a:lnTo>
                      <a:pt x="680" y="1487"/>
                    </a:lnTo>
                    <a:lnTo>
                      <a:pt x="667" y="1486"/>
                    </a:lnTo>
                    <a:lnTo>
                      <a:pt x="652" y="1484"/>
                    </a:lnTo>
                    <a:lnTo>
                      <a:pt x="639" y="1480"/>
                    </a:lnTo>
                    <a:lnTo>
                      <a:pt x="626" y="1477"/>
                    </a:lnTo>
                    <a:lnTo>
                      <a:pt x="613" y="1472"/>
                    </a:lnTo>
                    <a:lnTo>
                      <a:pt x="601" y="1466"/>
                    </a:lnTo>
                    <a:lnTo>
                      <a:pt x="589" y="1460"/>
                    </a:lnTo>
                    <a:lnTo>
                      <a:pt x="577" y="1453"/>
                    </a:lnTo>
                    <a:lnTo>
                      <a:pt x="568" y="1447"/>
                    </a:lnTo>
                    <a:lnTo>
                      <a:pt x="562" y="1438"/>
                    </a:lnTo>
                    <a:lnTo>
                      <a:pt x="556" y="1429"/>
                    </a:lnTo>
                    <a:lnTo>
                      <a:pt x="550" y="1420"/>
                    </a:lnTo>
                    <a:lnTo>
                      <a:pt x="546" y="1411"/>
                    </a:lnTo>
                    <a:lnTo>
                      <a:pt x="540" y="1401"/>
                    </a:lnTo>
                    <a:lnTo>
                      <a:pt x="534" y="1393"/>
                    </a:lnTo>
                    <a:lnTo>
                      <a:pt x="525" y="1384"/>
                    </a:lnTo>
                    <a:lnTo>
                      <a:pt x="519" y="1379"/>
                    </a:lnTo>
                    <a:lnTo>
                      <a:pt x="513" y="1376"/>
                    </a:lnTo>
                    <a:lnTo>
                      <a:pt x="506" y="1372"/>
                    </a:lnTo>
                    <a:lnTo>
                      <a:pt x="499" y="1369"/>
                    </a:lnTo>
                    <a:lnTo>
                      <a:pt x="492" y="1366"/>
                    </a:lnTo>
                    <a:lnTo>
                      <a:pt x="484" y="1364"/>
                    </a:lnTo>
                    <a:lnTo>
                      <a:pt x="476" y="1363"/>
                    </a:lnTo>
                    <a:lnTo>
                      <a:pt x="469" y="1361"/>
                    </a:lnTo>
                    <a:lnTo>
                      <a:pt x="450" y="1360"/>
                    </a:lnTo>
                    <a:lnTo>
                      <a:pt x="432" y="1360"/>
                    </a:lnTo>
                    <a:lnTo>
                      <a:pt x="414" y="1361"/>
                    </a:lnTo>
                    <a:lnTo>
                      <a:pt x="394" y="1363"/>
                    </a:lnTo>
                    <a:lnTo>
                      <a:pt x="376" y="1364"/>
                    </a:lnTo>
                    <a:lnTo>
                      <a:pt x="357" y="1365"/>
                    </a:lnTo>
                    <a:lnTo>
                      <a:pt x="339" y="1366"/>
                    </a:lnTo>
                    <a:lnTo>
                      <a:pt x="320" y="1367"/>
                    </a:lnTo>
                    <a:lnTo>
                      <a:pt x="300" y="1369"/>
                    </a:lnTo>
                    <a:lnTo>
                      <a:pt x="279" y="1370"/>
                    </a:lnTo>
                    <a:lnTo>
                      <a:pt x="258" y="1372"/>
                    </a:lnTo>
                    <a:lnTo>
                      <a:pt x="237" y="1373"/>
                    </a:lnTo>
                    <a:lnTo>
                      <a:pt x="217" y="1376"/>
                    </a:lnTo>
                    <a:lnTo>
                      <a:pt x="196" y="1376"/>
                    </a:lnTo>
                    <a:lnTo>
                      <a:pt x="175" y="1375"/>
                    </a:lnTo>
                    <a:lnTo>
                      <a:pt x="154" y="1373"/>
                    </a:lnTo>
                    <a:lnTo>
                      <a:pt x="145" y="1371"/>
                    </a:lnTo>
                    <a:lnTo>
                      <a:pt x="135" y="1367"/>
                    </a:lnTo>
                    <a:lnTo>
                      <a:pt x="126" y="1363"/>
                    </a:lnTo>
                    <a:lnTo>
                      <a:pt x="116" y="1358"/>
                    </a:lnTo>
                    <a:lnTo>
                      <a:pt x="106" y="1352"/>
                    </a:lnTo>
                    <a:lnTo>
                      <a:pt x="98" y="1346"/>
                    </a:lnTo>
                    <a:lnTo>
                      <a:pt x="90" y="1340"/>
                    </a:lnTo>
                    <a:lnTo>
                      <a:pt x="81" y="1333"/>
                    </a:lnTo>
                    <a:lnTo>
                      <a:pt x="73" y="1327"/>
                    </a:lnTo>
                    <a:lnTo>
                      <a:pt x="64" y="1321"/>
                    </a:lnTo>
                    <a:lnTo>
                      <a:pt x="56" y="1315"/>
                    </a:lnTo>
                    <a:lnTo>
                      <a:pt x="48" y="1308"/>
                    </a:lnTo>
                    <a:lnTo>
                      <a:pt x="40" y="1302"/>
                    </a:lnTo>
                    <a:lnTo>
                      <a:pt x="34" y="1293"/>
                    </a:lnTo>
                    <a:lnTo>
                      <a:pt x="28" y="1285"/>
                    </a:lnTo>
                    <a:lnTo>
                      <a:pt x="24" y="1276"/>
                    </a:lnTo>
                    <a:lnTo>
                      <a:pt x="21" y="1270"/>
                    </a:lnTo>
                    <a:lnTo>
                      <a:pt x="20" y="1263"/>
                    </a:lnTo>
                    <a:lnTo>
                      <a:pt x="20" y="1255"/>
                    </a:lnTo>
                    <a:lnTo>
                      <a:pt x="21" y="1248"/>
                    </a:lnTo>
                    <a:lnTo>
                      <a:pt x="22" y="1240"/>
                    </a:lnTo>
                    <a:lnTo>
                      <a:pt x="26" y="1234"/>
                    </a:lnTo>
                    <a:lnTo>
                      <a:pt x="30" y="1228"/>
                    </a:lnTo>
                    <a:lnTo>
                      <a:pt x="34" y="1225"/>
                    </a:lnTo>
                    <a:lnTo>
                      <a:pt x="48" y="1219"/>
                    </a:lnTo>
                    <a:lnTo>
                      <a:pt x="62" y="1215"/>
                    </a:lnTo>
                    <a:lnTo>
                      <a:pt x="75" y="1212"/>
                    </a:lnTo>
                    <a:lnTo>
                      <a:pt x="91" y="1210"/>
                    </a:lnTo>
                    <a:lnTo>
                      <a:pt x="105" y="1209"/>
                    </a:lnTo>
                    <a:lnTo>
                      <a:pt x="120" y="1208"/>
                    </a:lnTo>
                    <a:lnTo>
                      <a:pt x="134" y="1208"/>
                    </a:lnTo>
                    <a:lnTo>
                      <a:pt x="150" y="1208"/>
                    </a:lnTo>
                    <a:lnTo>
                      <a:pt x="174" y="1208"/>
                    </a:lnTo>
                    <a:lnTo>
                      <a:pt x="198" y="1208"/>
                    </a:lnTo>
                    <a:lnTo>
                      <a:pt x="222" y="1210"/>
                    </a:lnTo>
                    <a:lnTo>
                      <a:pt x="246" y="1212"/>
                    </a:lnTo>
                    <a:lnTo>
                      <a:pt x="271" y="1213"/>
                    </a:lnTo>
                    <a:lnTo>
                      <a:pt x="295" y="1214"/>
                    </a:lnTo>
                    <a:lnTo>
                      <a:pt x="319" y="1215"/>
                    </a:lnTo>
                    <a:lnTo>
                      <a:pt x="343" y="1214"/>
                    </a:lnTo>
                    <a:lnTo>
                      <a:pt x="357" y="1212"/>
                    </a:lnTo>
                    <a:lnTo>
                      <a:pt x="372" y="1209"/>
                    </a:lnTo>
                    <a:lnTo>
                      <a:pt x="386" y="1206"/>
                    </a:lnTo>
                    <a:lnTo>
                      <a:pt x="400" y="1202"/>
                    </a:lnTo>
                    <a:lnTo>
                      <a:pt x="415" y="1197"/>
                    </a:lnTo>
                    <a:lnTo>
                      <a:pt x="429" y="1194"/>
                    </a:lnTo>
                    <a:lnTo>
                      <a:pt x="442" y="1189"/>
                    </a:lnTo>
                    <a:lnTo>
                      <a:pt x="457" y="1185"/>
                    </a:lnTo>
                    <a:lnTo>
                      <a:pt x="466" y="1183"/>
                    </a:lnTo>
                    <a:lnTo>
                      <a:pt x="476" y="1179"/>
                    </a:lnTo>
                    <a:lnTo>
                      <a:pt x="484" y="1176"/>
                    </a:lnTo>
                    <a:lnTo>
                      <a:pt x="494" y="1172"/>
                    </a:lnTo>
                    <a:lnTo>
                      <a:pt x="504" y="1170"/>
                    </a:lnTo>
                    <a:lnTo>
                      <a:pt x="513" y="1168"/>
                    </a:lnTo>
                    <a:lnTo>
                      <a:pt x="522" y="1167"/>
                    </a:lnTo>
                    <a:lnTo>
                      <a:pt x="531" y="1168"/>
                    </a:lnTo>
                    <a:lnTo>
                      <a:pt x="549" y="1172"/>
                    </a:lnTo>
                    <a:lnTo>
                      <a:pt x="567" y="1178"/>
                    </a:lnTo>
                    <a:lnTo>
                      <a:pt x="584" y="1184"/>
                    </a:lnTo>
                    <a:lnTo>
                      <a:pt x="602" y="1192"/>
                    </a:lnTo>
                    <a:lnTo>
                      <a:pt x="619" y="1200"/>
                    </a:lnTo>
                    <a:lnTo>
                      <a:pt x="636" y="1208"/>
                    </a:lnTo>
                    <a:lnTo>
                      <a:pt x="651" y="1216"/>
                    </a:lnTo>
                    <a:lnTo>
                      <a:pt x="668" y="1225"/>
                    </a:lnTo>
                    <a:lnTo>
                      <a:pt x="682" y="1232"/>
                    </a:lnTo>
                    <a:lnTo>
                      <a:pt x="696" y="1240"/>
                    </a:lnTo>
                    <a:lnTo>
                      <a:pt x="709" y="1249"/>
                    </a:lnTo>
                    <a:lnTo>
                      <a:pt x="722" y="1258"/>
                    </a:lnTo>
                    <a:lnTo>
                      <a:pt x="735" y="1267"/>
                    </a:lnTo>
                    <a:lnTo>
                      <a:pt x="748" y="1274"/>
                    </a:lnTo>
                    <a:lnTo>
                      <a:pt x="763" y="1281"/>
                    </a:lnTo>
                    <a:lnTo>
                      <a:pt x="777" y="1287"/>
                    </a:lnTo>
                    <a:lnTo>
                      <a:pt x="788" y="1292"/>
                    </a:lnTo>
                    <a:lnTo>
                      <a:pt x="801" y="1297"/>
                    </a:lnTo>
                    <a:lnTo>
                      <a:pt x="813" y="1300"/>
                    </a:lnTo>
                    <a:lnTo>
                      <a:pt x="826" y="1303"/>
                    </a:lnTo>
                    <a:lnTo>
                      <a:pt x="838" y="1305"/>
                    </a:lnTo>
                    <a:lnTo>
                      <a:pt x="850" y="1305"/>
                    </a:lnTo>
                    <a:lnTo>
                      <a:pt x="856" y="1304"/>
                    </a:lnTo>
                    <a:lnTo>
                      <a:pt x="862" y="1303"/>
                    </a:lnTo>
                    <a:lnTo>
                      <a:pt x="868" y="1302"/>
                    </a:lnTo>
                    <a:lnTo>
                      <a:pt x="874" y="1299"/>
                    </a:lnTo>
                    <a:lnTo>
                      <a:pt x="878" y="1297"/>
                    </a:lnTo>
                    <a:lnTo>
                      <a:pt x="882" y="1293"/>
                    </a:lnTo>
                    <a:lnTo>
                      <a:pt x="885" y="1290"/>
                    </a:lnTo>
                    <a:lnTo>
                      <a:pt x="889" y="1286"/>
                    </a:lnTo>
                    <a:lnTo>
                      <a:pt x="894" y="1278"/>
                    </a:lnTo>
                    <a:lnTo>
                      <a:pt x="897" y="1268"/>
                    </a:lnTo>
                    <a:lnTo>
                      <a:pt x="900" y="1257"/>
                    </a:lnTo>
                    <a:lnTo>
                      <a:pt x="902" y="1246"/>
                    </a:lnTo>
                    <a:lnTo>
                      <a:pt x="902" y="1236"/>
                    </a:lnTo>
                    <a:lnTo>
                      <a:pt x="902" y="1225"/>
                    </a:lnTo>
                    <a:lnTo>
                      <a:pt x="901" y="1214"/>
                    </a:lnTo>
                    <a:lnTo>
                      <a:pt x="898" y="1203"/>
                    </a:lnTo>
                    <a:lnTo>
                      <a:pt x="895" y="1194"/>
                    </a:lnTo>
                    <a:lnTo>
                      <a:pt x="891" y="1183"/>
                    </a:lnTo>
                    <a:lnTo>
                      <a:pt x="886" y="1173"/>
                    </a:lnTo>
                    <a:lnTo>
                      <a:pt x="880" y="1164"/>
                    </a:lnTo>
                    <a:lnTo>
                      <a:pt x="874" y="1154"/>
                    </a:lnTo>
                    <a:lnTo>
                      <a:pt x="868" y="1146"/>
                    </a:lnTo>
                    <a:lnTo>
                      <a:pt x="856" y="1129"/>
                    </a:lnTo>
                    <a:lnTo>
                      <a:pt x="846" y="1113"/>
                    </a:lnTo>
                    <a:lnTo>
                      <a:pt x="834" y="1098"/>
                    </a:lnTo>
                    <a:lnTo>
                      <a:pt x="820" y="1082"/>
                    </a:lnTo>
                    <a:lnTo>
                      <a:pt x="807" y="1068"/>
                    </a:lnTo>
                    <a:lnTo>
                      <a:pt x="794" y="1052"/>
                    </a:lnTo>
                    <a:lnTo>
                      <a:pt x="780" y="1039"/>
                    </a:lnTo>
                    <a:lnTo>
                      <a:pt x="765" y="1026"/>
                    </a:lnTo>
                    <a:lnTo>
                      <a:pt x="747" y="1010"/>
                    </a:lnTo>
                    <a:lnTo>
                      <a:pt x="729" y="997"/>
                    </a:lnTo>
                    <a:lnTo>
                      <a:pt x="711" y="982"/>
                    </a:lnTo>
                    <a:lnTo>
                      <a:pt x="692" y="969"/>
                    </a:lnTo>
                    <a:lnTo>
                      <a:pt x="672" y="957"/>
                    </a:lnTo>
                    <a:lnTo>
                      <a:pt x="652" y="945"/>
                    </a:lnTo>
                    <a:lnTo>
                      <a:pt x="632" y="933"/>
                    </a:lnTo>
                    <a:lnTo>
                      <a:pt x="612" y="922"/>
                    </a:lnTo>
                    <a:lnTo>
                      <a:pt x="596" y="915"/>
                    </a:lnTo>
                    <a:lnTo>
                      <a:pt x="582" y="909"/>
                    </a:lnTo>
                    <a:lnTo>
                      <a:pt x="566" y="904"/>
                    </a:lnTo>
                    <a:lnTo>
                      <a:pt x="550" y="900"/>
                    </a:lnTo>
                    <a:lnTo>
                      <a:pt x="534" y="895"/>
                    </a:lnTo>
                    <a:lnTo>
                      <a:pt x="518" y="891"/>
                    </a:lnTo>
                    <a:lnTo>
                      <a:pt x="502" y="886"/>
                    </a:lnTo>
                    <a:lnTo>
                      <a:pt x="486" y="883"/>
                    </a:lnTo>
                    <a:lnTo>
                      <a:pt x="471" y="879"/>
                    </a:lnTo>
                    <a:lnTo>
                      <a:pt x="458" y="877"/>
                    </a:lnTo>
                    <a:lnTo>
                      <a:pt x="444" y="873"/>
                    </a:lnTo>
                    <a:lnTo>
                      <a:pt x="429" y="871"/>
                    </a:lnTo>
                    <a:lnTo>
                      <a:pt x="415" y="868"/>
                    </a:lnTo>
                    <a:lnTo>
                      <a:pt x="400" y="867"/>
                    </a:lnTo>
                    <a:lnTo>
                      <a:pt x="386" y="866"/>
                    </a:lnTo>
                    <a:lnTo>
                      <a:pt x="372" y="866"/>
                    </a:lnTo>
                    <a:lnTo>
                      <a:pt x="362" y="866"/>
                    </a:lnTo>
                    <a:lnTo>
                      <a:pt x="352" y="867"/>
                    </a:lnTo>
                    <a:lnTo>
                      <a:pt x="343" y="868"/>
                    </a:lnTo>
                    <a:lnTo>
                      <a:pt x="333" y="870"/>
                    </a:lnTo>
                    <a:lnTo>
                      <a:pt x="325" y="872"/>
                    </a:lnTo>
                    <a:lnTo>
                      <a:pt x="315" y="876"/>
                    </a:lnTo>
                    <a:lnTo>
                      <a:pt x="306" y="879"/>
                    </a:lnTo>
                    <a:lnTo>
                      <a:pt x="297" y="883"/>
                    </a:lnTo>
                    <a:lnTo>
                      <a:pt x="289" y="888"/>
                    </a:lnTo>
                    <a:lnTo>
                      <a:pt x="280" y="894"/>
                    </a:lnTo>
                    <a:lnTo>
                      <a:pt x="273" y="901"/>
                    </a:lnTo>
                    <a:lnTo>
                      <a:pt x="266" y="908"/>
                    </a:lnTo>
                    <a:lnTo>
                      <a:pt x="259" y="915"/>
                    </a:lnTo>
                    <a:lnTo>
                      <a:pt x="252" y="922"/>
                    </a:lnTo>
                    <a:lnTo>
                      <a:pt x="243" y="928"/>
                    </a:lnTo>
                    <a:lnTo>
                      <a:pt x="235" y="934"/>
                    </a:lnTo>
                    <a:lnTo>
                      <a:pt x="222" y="942"/>
                    </a:lnTo>
                    <a:lnTo>
                      <a:pt x="207" y="949"/>
                    </a:lnTo>
                    <a:lnTo>
                      <a:pt x="193" y="955"/>
                    </a:lnTo>
                    <a:lnTo>
                      <a:pt x="180" y="961"/>
                    </a:lnTo>
                    <a:lnTo>
                      <a:pt x="165" y="967"/>
                    </a:lnTo>
                    <a:lnTo>
                      <a:pt x="151" y="972"/>
                    </a:lnTo>
                    <a:lnTo>
                      <a:pt x="135" y="976"/>
                    </a:lnTo>
                    <a:lnTo>
                      <a:pt x="121" y="980"/>
                    </a:lnTo>
                    <a:lnTo>
                      <a:pt x="115" y="981"/>
                    </a:lnTo>
                    <a:lnTo>
                      <a:pt x="110" y="981"/>
                    </a:lnTo>
                    <a:lnTo>
                      <a:pt x="104" y="981"/>
                    </a:lnTo>
                    <a:lnTo>
                      <a:pt x="98" y="980"/>
                    </a:lnTo>
                    <a:lnTo>
                      <a:pt x="92" y="978"/>
                    </a:lnTo>
                    <a:lnTo>
                      <a:pt x="87" y="975"/>
                    </a:lnTo>
                    <a:lnTo>
                      <a:pt x="84" y="973"/>
                    </a:lnTo>
                    <a:lnTo>
                      <a:pt x="81" y="968"/>
                    </a:lnTo>
                    <a:lnTo>
                      <a:pt x="78" y="961"/>
                    </a:lnTo>
                    <a:lnTo>
                      <a:pt x="75" y="954"/>
                    </a:lnTo>
                    <a:lnTo>
                      <a:pt x="73" y="945"/>
                    </a:lnTo>
                    <a:lnTo>
                      <a:pt x="73" y="937"/>
                    </a:lnTo>
                    <a:lnTo>
                      <a:pt x="73" y="928"/>
                    </a:lnTo>
                    <a:lnTo>
                      <a:pt x="74" y="920"/>
                    </a:lnTo>
                    <a:lnTo>
                      <a:pt x="76" y="913"/>
                    </a:lnTo>
                    <a:lnTo>
                      <a:pt x="81" y="906"/>
                    </a:lnTo>
                    <a:lnTo>
                      <a:pt x="92" y="890"/>
                    </a:lnTo>
                    <a:lnTo>
                      <a:pt x="105" y="874"/>
                    </a:lnTo>
                    <a:lnTo>
                      <a:pt x="118" y="860"/>
                    </a:lnTo>
                    <a:lnTo>
                      <a:pt x="133" y="847"/>
                    </a:lnTo>
                    <a:lnTo>
                      <a:pt x="147" y="834"/>
                    </a:lnTo>
                    <a:lnTo>
                      <a:pt x="163" y="820"/>
                    </a:lnTo>
                    <a:lnTo>
                      <a:pt x="178" y="808"/>
                    </a:lnTo>
                    <a:lnTo>
                      <a:pt x="195" y="798"/>
                    </a:lnTo>
                    <a:lnTo>
                      <a:pt x="206" y="790"/>
                    </a:lnTo>
                    <a:lnTo>
                      <a:pt x="217" y="783"/>
                    </a:lnTo>
                    <a:lnTo>
                      <a:pt x="229" y="777"/>
                    </a:lnTo>
                    <a:lnTo>
                      <a:pt x="241" y="772"/>
                    </a:lnTo>
                    <a:lnTo>
                      <a:pt x="254" y="768"/>
                    </a:lnTo>
                    <a:lnTo>
                      <a:pt x="266" y="764"/>
                    </a:lnTo>
                    <a:lnTo>
                      <a:pt x="279" y="760"/>
                    </a:lnTo>
                    <a:lnTo>
                      <a:pt x="291" y="758"/>
                    </a:lnTo>
                    <a:lnTo>
                      <a:pt x="309" y="754"/>
                    </a:lnTo>
                    <a:lnTo>
                      <a:pt x="326" y="753"/>
                    </a:lnTo>
                    <a:lnTo>
                      <a:pt x="343" y="752"/>
                    </a:lnTo>
                    <a:lnTo>
                      <a:pt x="360" y="751"/>
                    </a:lnTo>
                    <a:lnTo>
                      <a:pt x="378" y="751"/>
                    </a:lnTo>
                    <a:lnTo>
                      <a:pt x="394" y="752"/>
                    </a:lnTo>
                    <a:lnTo>
                      <a:pt x="411" y="752"/>
                    </a:lnTo>
                    <a:lnTo>
                      <a:pt x="429" y="752"/>
                    </a:lnTo>
                    <a:lnTo>
                      <a:pt x="453" y="752"/>
                    </a:lnTo>
                    <a:lnTo>
                      <a:pt x="477" y="752"/>
                    </a:lnTo>
                    <a:lnTo>
                      <a:pt x="501" y="753"/>
                    </a:lnTo>
                    <a:lnTo>
                      <a:pt x="525" y="753"/>
                    </a:lnTo>
                    <a:lnTo>
                      <a:pt x="550" y="754"/>
                    </a:lnTo>
                    <a:lnTo>
                      <a:pt x="574" y="756"/>
                    </a:lnTo>
                    <a:lnTo>
                      <a:pt x="598" y="757"/>
                    </a:lnTo>
                    <a:lnTo>
                      <a:pt x="622" y="758"/>
                    </a:lnTo>
                    <a:lnTo>
                      <a:pt x="640" y="759"/>
                    </a:lnTo>
                    <a:lnTo>
                      <a:pt x="658" y="760"/>
                    </a:lnTo>
                    <a:lnTo>
                      <a:pt x="676" y="762"/>
                    </a:lnTo>
                    <a:lnTo>
                      <a:pt x="694" y="764"/>
                    </a:lnTo>
                    <a:lnTo>
                      <a:pt x="712" y="766"/>
                    </a:lnTo>
                    <a:lnTo>
                      <a:pt x="729" y="768"/>
                    </a:lnTo>
                    <a:lnTo>
                      <a:pt x="747" y="769"/>
                    </a:lnTo>
                    <a:lnTo>
                      <a:pt x="765" y="769"/>
                    </a:lnTo>
                    <a:lnTo>
                      <a:pt x="776" y="769"/>
                    </a:lnTo>
                    <a:lnTo>
                      <a:pt x="787" y="770"/>
                    </a:lnTo>
                    <a:lnTo>
                      <a:pt x="798" y="770"/>
                    </a:lnTo>
                    <a:lnTo>
                      <a:pt x="808" y="770"/>
                    </a:lnTo>
                    <a:lnTo>
                      <a:pt x="818" y="769"/>
                    </a:lnTo>
                    <a:lnTo>
                      <a:pt x="828" y="766"/>
                    </a:lnTo>
                    <a:lnTo>
                      <a:pt x="837" y="763"/>
                    </a:lnTo>
                    <a:lnTo>
                      <a:pt x="846" y="758"/>
                    </a:lnTo>
                    <a:close/>
                  </a:path>
                </a:pathLst>
              </a:custGeom>
              <a:solidFill>
                <a:srgbClr val="f2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08760" y="4262400"/>
                <a:ext cx="205920" cy="206280"/>
              </a:xfrm>
              <a:custGeom>
                <a:avLst/>
                <a:gdLst/>
                <a:ahLst/>
                <a:rect l="l" t="t" r="r" b="b"/>
                <a:pathLst>
                  <a:path w="521" h="521">
                    <a:moveTo>
                      <a:pt x="260" y="0"/>
                    </a:moveTo>
                    <a:lnTo>
                      <a:pt x="274" y="0"/>
                    </a:lnTo>
                    <a:lnTo>
                      <a:pt x="287" y="1"/>
                    </a:lnTo>
                    <a:lnTo>
                      <a:pt x="300" y="2"/>
                    </a:lnTo>
                    <a:lnTo>
                      <a:pt x="313" y="5"/>
                    </a:lnTo>
                    <a:lnTo>
                      <a:pt x="325" y="8"/>
                    </a:lnTo>
                    <a:lnTo>
                      <a:pt x="337" y="12"/>
                    </a:lnTo>
                    <a:lnTo>
                      <a:pt x="349" y="16"/>
                    </a:lnTo>
                    <a:lnTo>
                      <a:pt x="361" y="20"/>
                    </a:lnTo>
                    <a:lnTo>
                      <a:pt x="373" y="25"/>
                    </a:lnTo>
                    <a:lnTo>
                      <a:pt x="384" y="31"/>
                    </a:lnTo>
                    <a:lnTo>
                      <a:pt x="395" y="37"/>
                    </a:lnTo>
                    <a:lnTo>
                      <a:pt x="406" y="44"/>
                    </a:lnTo>
                    <a:lnTo>
                      <a:pt x="426" y="59"/>
                    </a:lnTo>
                    <a:lnTo>
                      <a:pt x="444" y="77"/>
                    </a:lnTo>
                    <a:lnTo>
                      <a:pt x="461" y="95"/>
                    </a:lnTo>
                    <a:lnTo>
                      <a:pt x="476" y="115"/>
                    </a:lnTo>
                    <a:lnTo>
                      <a:pt x="484" y="126"/>
                    </a:lnTo>
                    <a:lnTo>
                      <a:pt x="490" y="137"/>
                    </a:lnTo>
                    <a:lnTo>
                      <a:pt x="496" y="148"/>
                    </a:lnTo>
                    <a:lnTo>
                      <a:pt x="500" y="160"/>
                    </a:lnTo>
                    <a:lnTo>
                      <a:pt x="505" y="170"/>
                    </a:lnTo>
                    <a:lnTo>
                      <a:pt x="509" y="184"/>
                    </a:lnTo>
                    <a:lnTo>
                      <a:pt x="512" y="196"/>
                    </a:lnTo>
                    <a:lnTo>
                      <a:pt x="516" y="208"/>
                    </a:lnTo>
                    <a:lnTo>
                      <a:pt x="518" y="221"/>
                    </a:lnTo>
                    <a:lnTo>
                      <a:pt x="520" y="234"/>
                    </a:lnTo>
                    <a:lnTo>
                      <a:pt x="521" y="247"/>
                    </a:lnTo>
                    <a:lnTo>
                      <a:pt x="521" y="260"/>
                    </a:lnTo>
                    <a:lnTo>
                      <a:pt x="521" y="274"/>
                    </a:lnTo>
                    <a:lnTo>
                      <a:pt x="520" y="287"/>
                    </a:lnTo>
                    <a:lnTo>
                      <a:pt x="518" y="300"/>
                    </a:lnTo>
                    <a:lnTo>
                      <a:pt x="516" y="313"/>
                    </a:lnTo>
                    <a:lnTo>
                      <a:pt x="512" y="325"/>
                    </a:lnTo>
                    <a:lnTo>
                      <a:pt x="509" y="337"/>
                    </a:lnTo>
                    <a:lnTo>
                      <a:pt x="505" y="349"/>
                    </a:lnTo>
                    <a:lnTo>
                      <a:pt x="500" y="361"/>
                    </a:lnTo>
                    <a:lnTo>
                      <a:pt x="496" y="373"/>
                    </a:lnTo>
                    <a:lnTo>
                      <a:pt x="490" y="384"/>
                    </a:lnTo>
                    <a:lnTo>
                      <a:pt x="484" y="395"/>
                    </a:lnTo>
                    <a:lnTo>
                      <a:pt x="476" y="406"/>
                    </a:lnTo>
                    <a:lnTo>
                      <a:pt x="461" y="426"/>
                    </a:lnTo>
                    <a:lnTo>
                      <a:pt x="444" y="444"/>
                    </a:lnTo>
                    <a:lnTo>
                      <a:pt x="426" y="461"/>
                    </a:lnTo>
                    <a:lnTo>
                      <a:pt x="406" y="476"/>
                    </a:lnTo>
                    <a:lnTo>
                      <a:pt x="395" y="483"/>
                    </a:lnTo>
                    <a:lnTo>
                      <a:pt x="384" y="489"/>
                    </a:lnTo>
                    <a:lnTo>
                      <a:pt x="373" y="495"/>
                    </a:lnTo>
                    <a:lnTo>
                      <a:pt x="361" y="500"/>
                    </a:lnTo>
                    <a:lnTo>
                      <a:pt x="349" y="505"/>
                    </a:lnTo>
                    <a:lnTo>
                      <a:pt x="337" y="509"/>
                    </a:lnTo>
                    <a:lnTo>
                      <a:pt x="325" y="512"/>
                    </a:lnTo>
                    <a:lnTo>
                      <a:pt x="313" y="516"/>
                    </a:lnTo>
                    <a:lnTo>
                      <a:pt x="300" y="518"/>
                    </a:lnTo>
                    <a:lnTo>
                      <a:pt x="287" y="519"/>
                    </a:lnTo>
                    <a:lnTo>
                      <a:pt x="274" y="521"/>
                    </a:lnTo>
                    <a:lnTo>
                      <a:pt x="260" y="521"/>
                    </a:lnTo>
                    <a:lnTo>
                      <a:pt x="247" y="521"/>
                    </a:lnTo>
                    <a:lnTo>
                      <a:pt x="234" y="519"/>
                    </a:lnTo>
                    <a:lnTo>
                      <a:pt x="221" y="518"/>
                    </a:lnTo>
                    <a:lnTo>
                      <a:pt x="208" y="516"/>
                    </a:lnTo>
                    <a:lnTo>
                      <a:pt x="196" y="512"/>
                    </a:lnTo>
                    <a:lnTo>
                      <a:pt x="182" y="509"/>
                    </a:lnTo>
                    <a:lnTo>
                      <a:pt x="170" y="505"/>
                    </a:lnTo>
                    <a:lnTo>
                      <a:pt x="158" y="500"/>
                    </a:lnTo>
                    <a:lnTo>
                      <a:pt x="148" y="495"/>
                    </a:lnTo>
                    <a:lnTo>
                      <a:pt x="136" y="489"/>
                    </a:lnTo>
                    <a:lnTo>
                      <a:pt x="125" y="483"/>
                    </a:lnTo>
                    <a:lnTo>
                      <a:pt x="115" y="476"/>
                    </a:lnTo>
                    <a:lnTo>
                      <a:pt x="104" y="469"/>
                    </a:lnTo>
                    <a:lnTo>
                      <a:pt x="95" y="461"/>
                    </a:lnTo>
                    <a:lnTo>
                      <a:pt x="85" y="453"/>
                    </a:lnTo>
                    <a:lnTo>
                      <a:pt x="76" y="444"/>
                    </a:lnTo>
                    <a:lnTo>
                      <a:pt x="67" y="435"/>
                    </a:lnTo>
                    <a:lnTo>
                      <a:pt x="59" y="426"/>
                    </a:lnTo>
                    <a:lnTo>
                      <a:pt x="52" y="416"/>
                    </a:lnTo>
                    <a:lnTo>
                      <a:pt x="44" y="406"/>
                    </a:lnTo>
                    <a:lnTo>
                      <a:pt x="37" y="395"/>
                    </a:lnTo>
                    <a:lnTo>
                      <a:pt x="31" y="384"/>
                    </a:lnTo>
                    <a:lnTo>
                      <a:pt x="25" y="373"/>
                    </a:lnTo>
                    <a:lnTo>
                      <a:pt x="20" y="361"/>
                    </a:lnTo>
                    <a:lnTo>
                      <a:pt x="16" y="349"/>
                    </a:lnTo>
                    <a:lnTo>
                      <a:pt x="11" y="337"/>
                    </a:lnTo>
                    <a:lnTo>
                      <a:pt x="7" y="325"/>
                    </a:lnTo>
                    <a:lnTo>
                      <a:pt x="5" y="313"/>
                    </a:lnTo>
                    <a:lnTo>
                      <a:pt x="2" y="300"/>
                    </a:lnTo>
                    <a:lnTo>
                      <a:pt x="1" y="287"/>
                    </a:lnTo>
                    <a:lnTo>
                      <a:pt x="0" y="274"/>
                    </a:lnTo>
                    <a:lnTo>
                      <a:pt x="0" y="260"/>
                    </a:lnTo>
                    <a:lnTo>
                      <a:pt x="0" y="247"/>
                    </a:lnTo>
                    <a:lnTo>
                      <a:pt x="1" y="234"/>
                    </a:lnTo>
                    <a:lnTo>
                      <a:pt x="2" y="221"/>
                    </a:lnTo>
                    <a:lnTo>
                      <a:pt x="5" y="208"/>
                    </a:lnTo>
                    <a:lnTo>
                      <a:pt x="7" y="196"/>
                    </a:lnTo>
                    <a:lnTo>
                      <a:pt x="11" y="184"/>
                    </a:lnTo>
                    <a:lnTo>
                      <a:pt x="16" y="170"/>
                    </a:lnTo>
                    <a:lnTo>
                      <a:pt x="20" y="160"/>
                    </a:lnTo>
                    <a:lnTo>
                      <a:pt x="25" y="148"/>
                    </a:lnTo>
                    <a:lnTo>
                      <a:pt x="31" y="137"/>
                    </a:lnTo>
                    <a:lnTo>
                      <a:pt x="37" y="126"/>
                    </a:lnTo>
                    <a:lnTo>
                      <a:pt x="44" y="115"/>
                    </a:lnTo>
                    <a:lnTo>
                      <a:pt x="59" y="95"/>
                    </a:lnTo>
                    <a:lnTo>
                      <a:pt x="76" y="77"/>
                    </a:lnTo>
                    <a:lnTo>
                      <a:pt x="95" y="59"/>
                    </a:lnTo>
                    <a:lnTo>
                      <a:pt x="115" y="44"/>
                    </a:lnTo>
                    <a:lnTo>
                      <a:pt x="125" y="37"/>
                    </a:lnTo>
                    <a:lnTo>
                      <a:pt x="136" y="31"/>
                    </a:lnTo>
                    <a:lnTo>
                      <a:pt x="148" y="25"/>
                    </a:lnTo>
                    <a:lnTo>
                      <a:pt x="158" y="20"/>
                    </a:lnTo>
                    <a:lnTo>
                      <a:pt x="170" y="16"/>
                    </a:lnTo>
                    <a:lnTo>
                      <a:pt x="182" y="12"/>
                    </a:lnTo>
                    <a:lnTo>
                      <a:pt x="196" y="8"/>
                    </a:lnTo>
                    <a:lnTo>
                      <a:pt x="208" y="5"/>
                    </a:lnTo>
                    <a:lnTo>
                      <a:pt x="221" y="2"/>
                    </a:lnTo>
                    <a:lnTo>
                      <a:pt x="234" y="1"/>
                    </a:lnTo>
                    <a:lnTo>
                      <a:pt x="247" y="0"/>
                    </a:lnTo>
                    <a:lnTo>
                      <a:pt x="260" y="0"/>
                    </a:lnTo>
                    <a:close/>
                  </a:path>
                </a:pathLst>
              </a:custGeom>
              <a:solidFill>
                <a:srgbClr val="926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11720" y="4255920"/>
                <a:ext cx="110880" cy="109800"/>
              </a:xfrm>
              <a:custGeom>
                <a:avLst/>
                <a:gdLst/>
                <a:ahLst/>
                <a:rect l="l" t="t" r="r" b="b"/>
                <a:pathLst>
                  <a:path w="279" h="278">
                    <a:moveTo>
                      <a:pt x="279" y="278"/>
                    </a:moveTo>
                    <a:lnTo>
                      <a:pt x="279" y="278"/>
                    </a:lnTo>
                    <a:lnTo>
                      <a:pt x="278" y="264"/>
                    </a:lnTo>
                    <a:lnTo>
                      <a:pt x="276" y="250"/>
                    </a:lnTo>
                    <a:lnTo>
                      <a:pt x="275" y="236"/>
                    </a:lnTo>
                    <a:lnTo>
                      <a:pt x="273" y="222"/>
                    </a:lnTo>
                    <a:lnTo>
                      <a:pt x="269" y="209"/>
                    </a:lnTo>
                    <a:lnTo>
                      <a:pt x="266" y="196"/>
                    </a:lnTo>
                    <a:lnTo>
                      <a:pt x="262" y="182"/>
                    </a:lnTo>
                    <a:lnTo>
                      <a:pt x="256" y="170"/>
                    </a:lnTo>
                    <a:lnTo>
                      <a:pt x="251" y="158"/>
                    </a:lnTo>
                    <a:lnTo>
                      <a:pt x="245" y="146"/>
                    </a:lnTo>
                    <a:lnTo>
                      <a:pt x="238" y="134"/>
                    </a:lnTo>
                    <a:lnTo>
                      <a:pt x="231" y="122"/>
                    </a:lnTo>
                    <a:lnTo>
                      <a:pt x="215" y="102"/>
                    </a:lnTo>
                    <a:lnTo>
                      <a:pt x="197" y="82"/>
                    </a:lnTo>
                    <a:lnTo>
                      <a:pt x="177" y="64"/>
                    </a:lnTo>
                    <a:lnTo>
                      <a:pt x="156" y="48"/>
                    </a:lnTo>
                    <a:lnTo>
                      <a:pt x="144" y="41"/>
                    </a:lnTo>
                    <a:lnTo>
                      <a:pt x="132" y="34"/>
                    </a:lnTo>
                    <a:lnTo>
                      <a:pt x="120" y="28"/>
                    </a:lnTo>
                    <a:lnTo>
                      <a:pt x="108" y="23"/>
                    </a:lnTo>
                    <a:lnTo>
                      <a:pt x="95" y="17"/>
                    </a:lnTo>
                    <a:lnTo>
                      <a:pt x="83" y="13"/>
                    </a:lnTo>
                    <a:lnTo>
                      <a:pt x="70" y="10"/>
                    </a:lnTo>
                    <a:lnTo>
                      <a:pt x="56" y="6"/>
                    </a:lnTo>
                    <a:lnTo>
                      <a:pt x="42" y="4"/>
                    </a:lnTo>
                    <a:lnTo>
                      <a:pt x="28" y="2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2" y="36"/>
                    </a:lnTo>
                    <a:lnTo>
                      <a:pt x="26" y="36"/>
                    </a:lnTo>
                    <a:lnTo>
                      <a:pt x="38" y="38"/>
                    </a:lnTo>
                    <a:lnTo>
                      <a:pt x="50" y="40"/>
                    </a:lnTo>
                    <a:lnTo>
                      <a:pt x="60" y="43"/>
                    </a:lnTo>
                    <a:lnTo>
                      <a:pt x="72" y="46"/>
                    </a:lnTo>
                    <a:lnTo>
                      <a:pt x="83" y="50"/>
                    </a:lnTo>
                    <a:lnTo>
                      <a:pt x="95" y="54"/>
                    </a:lnTo>
                    <a:lnTo>
                      <a:pt x="106" y="59"/>
                    </a:lnTo>
                    <a:lnTo>
                      <a:pt x="116" y="65"/>
                    </a:lnTo>
                    <a:lnTo>
                      <a:pt x="126" y="71"/>
                    </a:lnTo>
                    <a:lnTo>
                      <a:pt x="136" y="77"/>
                    </a:lnTo>
                    <a:lnTo>
                      <a:pt x="155" y="91"/>
                    </a:lnTo>
                    <a:lnTo>
                      <a:pt x="172" y="107"/>
                    </a:lnTo>
                    <a:lnTo>
                      <a:pt x="188" y="124"/>
                    </a:lnTo>
                    <a:lnTo>
                      <a:pt x="202" y="143"/>
                    </a:lnTo>
                    <a:lnTo>
                      <a:pt x="208" y="152"/>
                    </a:lnTo>
                    <a:lnTo>
                      <a:pt x="214" y="163"/>
                    </a:lnTo>
                    <a:lnTo>
                      <a:pt x="220" y="173"/>
                    </a:lnTo>
                    <a:lnTo>
                      <a:pt x="225" y="184"/>
                    </a:lnTo>
                    <a:lnTo>
                      <a:pt x="228" y="194"/>
                    </a:lnTo>
                    <a:lnTo>
                      <a:pt x="233" y="206"/>
                    </a:lnTo>
                    <a:lnTo>
                      <a:pt x="236" y="217"/>
                    </a:lnTo>
                    <a:lnTo>
                      <a:pt x="239" y="229"/>
                    </a:lnTo>
                    <a:lnTo>
                      <a:pt x="240" y="241"/>
                    </a:lnTo>
                    <a:lnTo>
                      <a:pt x="243" y="253"/>
                    </a:lnTo>
                    <a:lnTo>
                      <a:pt x="244" y="266"/>
                    </a:lnTo>
                    <a:lnTo>
                      <a:pt x="244" y="278"/>
                    </a:lnTo>
                    <a:lnTo>
                      <a:pt x="244" y="278"/>
                    </a:lnTo>
                    <a:lnTo>
                      <a:pt x="279" y="27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11720" y="436572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279" h="279">
                    <a:moveTo>
                      <a:pt x="0" y="279"/>
                    </a:moveTo>
                    <a:lnTo>
                      <a:pt x="0" y="279"/>
                    </a:lnTo>
                    <a:lnTo>
                      <a:pt x="15" y="277"/>
                    </a:lnTo>
                    <a:lnTo>
                      <a:pt x="28" y="276"/>
                    </a:lnTo>
                    <a:lnTo>
                      <a:pt x="42" y="275"/>
                    </a:lnTo>
                    <a:lnTo>
                      <a:pt x="56" y="273"/>
                    </a:lnTo>
                    <a:lnTo>
                      <a:pt x="70" y="269"/>
                    </a:lnTo>
                    <a:lnTo>
                      <a:pt x="83" y="265"/>
                    </a:lnTo>
                    <a:lnTo>
                      <a:pt x="95" y="261"/>
                    </a:lnTo>
                    <a:lnTo>
                      <a:pt x="108" y="256"/>
                    </a:lnTo>
                    <a:lnTo>
                      <a:pt x="120" y="251"/>
                    </a:lnTo>
                    <a:lnTo>
                      <a:pt x="132" y="245"/>
                    </a:lnTo>
                    <a:lnTo>
                      <a:pt x="144" y="238"/>
                    </a:lnTo>
                    <a:lnTo>
                      <a:pt x="156" y="231"/>
                    </a:lnTo>
                    <a:lnTo>
                      <a:pt x="177" y="215"/>
                    </a:lnTo>
                    <a:lnTo>
                      <a:pt x="197" y="197"/>
                    </a:lnTo>
                    <a:lnTo>
                      <a:pt x="215" y="177"/>
                    </a:lnTo>
                    <a:lnTo>
                      <a:pt x="231" y="156"/>
                    </a:lnTo>
                    <a:lnTo>
                      <a:pt x="238" y="144"/>
                    </a:lnTo>
                    <a:lnTo>
                      <a:pt x="245" y="132"/>
                    </a:lnTo>
                    <a:lnTo>
                      <a:pt x="251" y="120"/>
                    </a:lnTo>
                    <a:lnTo>
                      <a:pt x="256" y="108"/>
                    </a:lnTo>
                    <a:lnTo>
                      <a:pt x="262" y="95"/>
                    </a:lnTo>
                    <a:lnTo>
                      <a:pt x="266" y="83"/>
                    </a:lnTo>
                    <a:lnTo>
                      <a:pt x="269" y="70"/>
                    </a:lnTo>
                    <a:lnTo>
                      <a:pt x="273" y="57"/>
                    </a:lnTo>
                    <a:lnTo>
                      <a:pt x="275" y="42"/>
                    </a:lnTo>
                    <a:lnTo>
                      <a:pt x="276" y="29"/>
                    </a:lnTo>
                    <a:lnTo>
                      <a:pt x="278" y="15"/>
                    </a:lnTo>
                    <a:lnTo>
                      <a:pt x="279" y="0"/>
                    </a:lnTo>
                    <a:lnTo>
                      <a:pt x="244" y="0"/>
                    </a:lnTo>
                    <a:lnTo>
                      <a:pt x="244" y="12"/>
                    </a:lnTo>
                    <a:lnTo>
                      <a:pt x="243" y="26"/>
                    </a:lnTo>
                    <a:lnTo>
                      <a:pt x="240" y="38"/>
                    </a:lnTo>
                    <a:lnTo>
                      <a:pt x="239" y="50"/>
                    </a:lnTo>
                    <a:lnTo>
                      <a:pt x="236" y="60"/>
                    </a:lnTo>
                    <a:lnTo>
                      <a:pt x="233" y="72"/>
                    </a:lnTo>
                    <a:lnTo>
                      <a:pt x="228" y="84"/>
                    </a:lnTo>
                    <a:lnTo>
                      <a:pt x="225" y="95"/>
                    </a:lnTo>
                    <a:lnTo>
                      <a:pt x="220" y="106"/>
                    </a:lnTo>
                    <a:lnTo>
                      <a:pt x="214" y="116"/>
                    </a:lnTo>
                    <a:lnTo>
                      <a:pt x="208" y="126"/>
                    </a:lnTo>
                    <a:lnTo>
                      <a:pt x="202" y="136"/>
                    </a:lnTo>
                    <a:lnTo>
                      <a:pt x="188" y="155"/>
                    </a:lnTo>
                    <a:lnTo>
                      <a:pt x="172" y="172"/>
                    </a:lnTo>
                    <a:lnTo>
                      <a:pt x="155" y="187"/>
                    </a:lnTo>
                    <a:lnTo>
                      <a:pt x="136" y="202"/>
                    </a:lnTo>
                    <a:lnTo>
                      <a:pt x="126" y="208"/>
                    </a:lnTo>
                    <a:lnTo>
                      <a:pt x="116" y="214"/>
                    </a:lnTo>
                    <a:lnTo>
                      <a:pt x="106" y="220"/>
                    </a:lnTo>
                    <a:lnTo>
                      <a:pt x="95" y="225"/>
                    </a:lnTo>
                    <a:lnTo>
                      <a:pt x="83" y="228"/>
                    </a:lnTo>
                    <a:lnTo>
                      <a:pt x="72" y="232"/>
                    </a:lnTo>
                    <a:lnTo>
                      <a:pt x="62" y="235"/>
                    </a:lnTo>
                    <a:lnTo>
                      <a:pt x="50" y="239"/>
                    </a:lnTo>
                    <a:lnTo>
                      <a:pt x="38" y="240"/>
                    </a:lnTo>
                    <a:lnTo>
                      <a:pt x="26" y="243"/>
                    </a:lnTo>
                    <a:lnTo>
                      <a:pt x="12" y="243"/>
                    </a:lnTo>
                    <a:lnTo>
                      <a:pt x="0" y="244"/>
                    </a:lnTo>
                    <a:lnTo>
                      <a:pt x="0" y="244"/>
                    </a:lnTo>
                    <a:lnTo>
                      <a:pt x="0" y="27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902280" y="4365720"/>
                <a:ext cx="109080" cy="110880"/>
              </a:xfrm>
              <a:custGeom>
                <a:avLst/>
                <a:gdLst/>
                <a:ahLst/>
                <a:rect l="l" t="t" r="r" b="b"/>
                <a:pathLst>
                  <a:path w="278" h="279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" y="29"/>
                    </a:lnTo>
                    <a:lnTo>
                      <a:pt x="4" y="42"/>
                    </a:lnTo>
                    <a:lnTo>
                      <a:pt x="6" y="57"/>
                    </a:lnTo>
                    <a:lnTo>
                      <a:pt x="8" y="70"/>
                    </a:lnTo>
                    <a:lnTo>
                      <a:pt x="13" y="83"/>
                    </a:lnTo>
                    <a:lnTo>
                      <a:pt x="17" y="95"/>
                    </a:lnTo>
                    <a:lnTo>
                      <a:pt x="22" y="108"/>
                    </a:lnTo>
                    <a:lnTo>
                      <a:pt x="28" y="120"/>
                    </a:lnTo>
                    <a:lnTo>
                      <a:pt x="34" y="132"/>
                    </a:lnTo>
                    <a:lnTo>
                      <a:pt x="41" y="144"/>
                    </a:lnTo>
                    <a:lnTo>
                      <a:pt x="48" y="155"/>
                    </a:lnTo>
                    <a:lnTo>
                      <a:pt x="55" y="166"/>
                    </a:lnTo>
                    <a:lnTo>
                      <a:pt x="64" y="177"/>
                    </a:lnTo>
                    <a:lnTo>
                      <a:pt x="72" y="187"/>
                    </a:lnTo>
                    <a:lnTo>
                      <a:pt x="82" y="197"/>
                    </a:lnTo>
                    <a:lnTo>
                      <a:pt x="91" y="205"/>
                    </a:lnTo>
                    <a:lnTo>
                      <a:pt x="102" y="215"/>
                    </a:lnTo>
                    <a:lnTo>
                      <a:pt x="112" y="222"/>
                    </a:lnTo>
                    <a:lnTo>
                      <a:pt x="122" y="231"/>
                    </a:lnTo>
                    <a:lnTo>
                      <a:pt x="134" y="238"/>
                    </a:lnTo>
                    <a:lnTo>
                      <a:pt x="146" y="245"/>
                    </a:lnTo>
                    <a:lnTo>
                      <a:pt x="158" y="251"/>
                    </a:lnTo>
                    <a:lnTo>
                      <a:pt x="170" y="256"/>
                    </a:lnTo>
                    <a:lnTo>
                      <a:pt x="182" y="261"/>
                    </a:lnTo>
                    <a:lnTo>
                      <a:pt x="196" y="265"/>
                    </a:lnTo>
                    <a:lnTo>
                      <a:pt x="209" y="269"/>
                    </a:lnTo>
                    <a:lnTo>
                      <a:pt x="222" y="273"/>
                    </a:lnTo>
                    <a:lnTo>
                      <a:pt x="236" y="275"/>
                    </a:lnTo>
                    <a:lnTo>
                      <a:pt x="250" y="276"/>
                    </a:lnTo>
                    <a:lnTo>
                      <a:pt x="264" y="277"/>
                    </a:lnTo>
                    <a:lnTo>
                      <a:pt x="278" y="279"/>
                    </a:lnTo>
                    <a:lnTo>
                      <a:pt x="278" y="244"/>
                    </a:lnTo>
                    <a:lnTo>
                      <a:pt x="265" y="243"/>
                    </a:lnTo>
                    <a:lnTo>
                      <a:pt x="253" y="243"/>
                    </a:lnTo>
                    <a:lnTo>
                      <a:pt x="241" y="240"/>
                    </a:lnTo>
                    <a:lnTo>
                      <a:pt x="229" y="239"/>
                    </a:lnTo>
                    <a:lnTo>
                      <a:pt x="217" y="235"/>
                    </a:lnTo>
                    <a:lnTo>
                      <a:pt x="206" y="232"/>
                    </a:lnTo>
                    <a:lnTo>
                      <a:pt x="194" y="228"/>
                    </a:lnTo>
                    <a:lnTo>
                      <a:pt x="184" y="225"/>
                    </a:lnTo>
                    <a:lnTo>
                      <a:pt x="173" y="220"/>
                    </a:lnTo>
                    <a:lnTo>
                      <a:pt x="162" y="214"/>
                    </a:lnTo>
                    <a:lnTo>
                      <a:pt x="152" y="208"/>
                    </a:lnTo>
                    <a:lnTo>
                      <a:pt x="143" y="202"/>
                    </a:lnTo>
                    <a:lnTo>
                      <a:pt x="133" y="195"/>
                    </a:lnTo>
                    <a:lnTo>
                      <a:pt x="124" y="187"/>
                    </a:lnTo>
                    <a:lnTo>
                      <a:pt x="115" y="180"/>
                    </a:lnTo>
                    <a:lnTo>
                      <a:pt x="107" y="172"/>
                    </a:lnTo>
                    <a:lnTo>
                      <a:pt x="98" y="163"/>
                    </a:lnTo>
                    <a:lnTo>
                      <a:pt x="90" y="155"/>
                    </a:lnTo>
                    <a:lnTo>
                      <a:pt x="83" y="146"/>
                    </a:lnTo>
                    <a:lnTo>
                      <a:pt x="77" y="136"/>
                    </a:lnTo>
                    <a:lnTo>
                      <a:pt x="70" y="126"/>
                    </a:lnTo>
                    <a:lnTo>
                      <a:pt x="65" y="116"/>
                    </a:lnTo>
                    <a:lnTo>
                      <a:pt x="59" y="106"/>
                    </a:lnTo>
                    <a:lnTo>
                      <a:pt x="54" y="95"/>
                    </a:lnTo>
                    <a:lnTo>
                      <a:pt x="49" y="84"/>
                    </a:lnTo>
                    <a:lnTo>
                      <a:pt x="46" y="72"/>
                    </a:lnTo>
                    <a:lnTo>
                      <a:pt x="42" y="60"/>
                    </a:lnTo>
                    <a:lnTo>
                      <a:pt x="40" y="50"/>
                    </a:lnTo>
                    <a:lnTo>
                      <a:pt x="37" y="38"/>
                    </a:lnTo>
                    <a:lnTo>
                      <a:pt x="36" y="26"/>
                    </a:lnTo>
                    <a:lnTo>
                      <a:pt x="35" y="12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02280" y="4255920"/>
                <a:ext cx="109080" cy="109800"/>
              </a:xfrm>
              <a:custGeom>
                <a:avLst/>
                <a:gdLst/>
                <a:ahLst/>
                <a:rect l="l" t="t" r="r" b="b"/>
                <a:pathLst>
                  <a:path w="278" h="278">
                    <a:moveTo>
                      <a:pt x="278" y="0"/>
                    </a:moveTo>
                    <a:lnTo>
                      <a:pt x="278" y="0"/>
                    </a:lnTo>
                    <a:lnTo>
                      <a:pt x="264" y="1"/>
                    </a:lnTo>
                    <a:lnTo>
                      <a:pt x="250" y="2"/>
                    </a:lnTo>
                    <a:lnTo>
                      <a:pt x="236" y="4"/>
                    </a:lnTo>
                    <a:lnTo>
                      <a:pt x="222" y="6"/>
                    </a:lnTo>
                    <a:lnTo>
                      <a:pt x="209" y="10"/>
                    </a:lnTo>
                    <a:lnTo>
                      <a:pt x="196" y="13"/>
                    </a:lnTo>
                    <a:lnTo>
                      <a:pt x="182" y="17"/>
                    </a:lnTo>
                    <a:lnTo>
                      <a:pt x="170" y="23"/>
                    </a:lnTo>
                    <a:lnTo>
                      <a:pt x="158" y="28"/>
                    </a:lnTo>
                    <a:lnTo>
                      <a:pt x="146" y="34"/>
                    </a:lnTo>
                    <a:lnTo>
                      <a:pt x="134" y="41"/>
                    </a:lnTo>
                    <a:lnTo>
                      <a:pt x="122" y="48"/>
                    </a:lnTo>
                    <a:lnTo>
                      <a:pt x="102" y="64"/>
                    </a:lnTo>
                    <a:lnTo>
                      <a:pt x="82" y="82"/>
                    </a:lnTo>
                    <a:lnTo>
                      <a:pt x="64" y="102"/>
                    </a:lnTo>
                    <a:lnTo>
                      <a:pt x="48" y="122"/>
                    </a:lnTo>
                    <a:lnTo>
                      <a:pt x="41" y="134"/>
                    </a:lnTo>
                    <a:lnTo>
                      <a:pt x="34" y="146"/>
                    </a:lnTo>
                    <a:lnTo>
                      <a:pt x="28" y="158"/>
                    </a:lnTo>
                    <a:lnTo>
                      <a:pt x="22" y="170"/>
                    </a:lnTo>
                    <a:lnTo>
                      <a:pt x="17" y="182"/>
                    </a:lnTo>
                    <a:lnTo>
                      <a:pt x="13" y="196"/>
                    </a:lnTo>
                    <a:lnTo>
                      <a:pt x="8" y="209"/>
                    </a:lnTo>
                    <a:lnTo>
                      <a:pt x="6" y="222"/>
                    </a:lnTo>
                    <a:lnTo>
                      <a:pt x="4" y="236"/>
                    </a:lnTo>
                    <a:lnTo>
                      <a:pt x="1" y="250"/>
                    </a:lnTo>
                    <a:lnTo>
                      <a:pt x="0" y="264"/>
                    </a:lnTo>
                    <a:lnTo>
                      <a:pt x="0" y="278"/>
                    </a:lnTo>
                    <a:lnTo>
                      <a:pt x="35" y="278"/>
                    </a:lnTo>
                    <a:lnTo>
                      <a:pt x="35" y="265"/>
                    </a:lnTo>
                    <a:lnTo>
                      <a:pt x="36" y="253"/>
                    </a:lnTo>
                    <a:lnTo>
                      <a:pt x="37" y="241"/>
                    </a:lnTo>
                    <a:lnTo>
                      <a:pt x="40" y="229"/>
                    </a:lnTo>
                    <a:lnTo>
                      <a:pt x="42" y="217"/>
                    </a:lnTo>
                    <a:lnTo>
                      <a:pt x="46" y="206"/>
                    </a:lnTo>
                    <a:lnTo>
                      <a:pt x="49" y="194"/>
                    </a:lnTo>
                    <a:lnTo>
                      <a:pt x="54" y="184"/>
                    </a:lnTo>
                    <a:lnTo>
                      <a:pt x="59" y="173"/>
                    </a:lnTo>
                    <a:lnTo>
                      <a:pt x="65" y="163"/>
                    </a:lnTo>
                    <a:lnTo>
                      <a:pt x="70" y="152"/>
                    </a:lnTo>
                    <a:lnTo>
                      <a:pt x="77" y="143"/>
                    </a:lnTo>
                    <a:lnTo>
                      <a:pt x="90" y="124"/>
                    </a:lnTo>
                    <a:lnTo>
                      <a:pt x="107" y="107"/>
                    </a:lnTo>
                    <a:lnTo>
                      <a:pt x="124" y="91"/>
                    </a:lnTo>
                    <a:lnTo>
                      <a:pt x="143" y="77"/>
                    </a:lnTo>
                    <a:lnTo>
                      <a:pt x="152" y="71"/>
                    </a:lnTo>
                    <a:lnTo>
                      <a:pt x="162" y="65"/>
                    </a:lnTo>
                    <a:lnTo>
                      <a:pt x="173" y="59"/>
                    </a:lnTo>
                    <a:lnTo>
                      <a:pt x="184" y="54"/>
                    </a:lnTo>
                    <a:lnTo>
                      <a:pt x="194" y="50"/>
                    </a:lnTo>
                    <a:lnTo>
                      <a:pt x="206" y="46"/>
                    </a:lnTo>
                    <a:lnTo>
                      <a:pt x="217" y="43"/>
                    </a:lnTo>
                    <a:lnTo>
                      <a:pt x="229" y="40"/>
                    </a:lnTo>
                    <a:lnTo>
                      <a:pt x="241" y="38"/>
                    </a:lnTo>
                    <a:lnTo>
                      <a:pt x="253" y="36"/>
                    </a:lnTo>
                    <a:lnTo>
                      <a:pt x="265" y="36"/>
                    </a:lnTo>
                    <a:lnTo>
                      <a:pt x="278" y="35"/>
                    </a:lnTo>
                    <a:lnTo>
                      <a:pt x="278" y="35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418000" y="4851360"/>
                <a:ext cx="1055520" cy="909720"/>
              </a:xfrm>
              <a:custGeom>
                <a:avLst/>
                <a:gdLst/>
                <a:ahLst/>
                <a:rect l="l" t="t" r="r" b="b"/>
                <a:pathLst>
                  <a:path w="2658" h="2289">
                    <a:moveTo>
                      <a:pt x="909" y="815"/>
                    </a:moveTo>
                    <a:lnTo>
                      <a:pt x="917" y="806"/>
                    </a:lnTo>
                    <a:lnTo>
                      <a:pt x="923" y="797"/>
                    </a:lnTo>
                    <a:lnTo>
                      <a:pt x="929" y="785"/>
                    </a:lnTo>
                    <a:lnTo>
                      <a:pt x="933" y="773"/>
                    </a:lnTo>
                    <a:lnTo>
                      <a:pt x="936" y="761"/>
                    </a:lnTo>
                    <a:lnTo>
                      <a:pt x="937" y="748"/>
                    </a:lnTo>
                    <a:lnTo>
                      <a:pt x="939" y="736"/>
                    </a:lnTo>
                    <a:lnTo>
                      <a:pt x="939" y="724"/>
                    </a:lnTo>
                    <a:lnTo>
                      <a:pt x="939" y="709"/>
                    </a:lnTo>
                    <a:lnTo>
                      <a:pt x="937" y="694"/>
                    </a:lnTo>
                    <a:lnTo>
                      <a:pt x="936" y="679"/>
                    </a:lnTo>
                    <a:lnTo>
                      <a:pt x="933" y="665"/>
                    </a:lnTo>
                    <a:lnTo>
                      <a:pt x="929" y="652"/>
                    </a:lnTo>
                    <a:lnTo>
                      <a:pt x="923" y="637"/>
                    </a:lnTo>
                    <a:lnTo>
                      <a:pt x="917" y="625"/>
                    </a:lnTo>
                    <a:lnTo>
                      <a:pt x="909" y="613"/>
                    </a:lnTo>
                    <a:lnTo>
                      <a:pt x="900" y="604"/>
                    </a:lnTo>
                    <a:lnTo>
                      <a:pt x="889" y="595"/>
                    </a:lnTo>
                    <a:lnTo>
                      <a:pt x="879" y="589"/>
                    </a:lnTo>
                    <a:lnTo>
                      <a:pt x="867" y="583"/>
                    </a:lnTo>
                    <a:lnTo>
                      <a:pt x="853" y="578"/>
                    </a:lnTo>
                    <a:lnTo>
                      <a:pt x="841" y="574"/>
                    </a:lnTo>
                    <a:lnTo>
                      <a:pt x="828" y="569"/>
                    </a:lnTo>
                    <a:lnTo>
                      <a:pt x="816" y="564"/>
                    </a:lnTo>
                    <a:lnTo>
                      <a:pt x="802" y="557"/>
                    </a:lnTo>
                    <a:lnTo>
                      <a:pt x="787" y="551"/>
                    </a:lnTo>
                    <a:lnTo>
                      <a:pt x="773" y="544"/>
                    </a:lnTo>
                    <a:lnTo>
                      <a:pt x="759" y="538"/>
                    </a:lnTo>
                    <a:lnTo>
                      <a:pt x="744" y="532"/>
                    </a:lnTo>
                    <a:lnTo>
                      <a:pt x="730" y="526"/>
                    </a:lnTo>
                    <a:lnTo>
                      <a:pt x="715" y="520"/>
                    </a:lnTo>
                    <a:lnTo>
                      <a:pt x="700" y="515"/>
                    </a:lnTo>
                    <a:lnTo>
                      <a:pt x="683" y="510"/>
                    </a:lnTo>
                    <a:lnTo>
                      <a:pt x="666" y="506"/>
                    </a:lnTo>
                    <a:lnTo>
                      <a:pt x="649" y="504"/>
                    </a:lnTo>
                    <a:lnTo>
                      <a:pt x="633" y="500"/>
                    </a:lnTo>
                    <a:lnTo>
                      <a:pt x="615" y="498"/>
                    </a:lnTo>
                    <a:lnTo>
                      <a:pt x="598" y="494"/>
                    </a:lnTo>
                    <a:lnTo>
                      <a:pt x="581" y="490"/>
                    </a:lnTo>
                    <a:lnTo>
                      <a:pt x="565" y="485"/>
                    </a:lnTo>
                    <a:lnTo>
                      <a:pt x="552" y="479"/>
                    </a:lnTo>
                    <a:lnTo>
                      <a:pt x="539" y="472"/>
                    </a:lnTo>
                    <a:lnTo>
                      <a:pt x="526" y="464"/>
                    </a:lnTo>
                    <a:lnTo>
                      <a:pt x="514" y="457"/>
                    </a:lnTo>
                    <a:lnTo>
                      <a:pt x="502" y="449"/>
                    </a:lnTo>
                    <a:lnTo>
                      <a:pt x="490" y="440"/>
                    </a:lnTo>
                    <a:lnTo>
                      <a:pt x="479" y="432"/>
                    </a:lnTo>
                    <a:lnTo>
                      <a:pt x="467" y="424"/>
                    </a:lnTo>
                    <a:lnTo>
                      <a:pt x="448" y="407"/>
                    </a:lnTo>
                    <a:lnTo>
                      <a:pt x="427" y="390"/>
                    </a:lnTo>
                    <a:lnTo>
                      <a:pt x="409" y="373"/>
                    </a:lnTo>
                    <a:lnTo>
                      <a:pt x="390" y="357"/>
                    </a:lnTo>
                    <a:lnTo>
                      <a:pt x="371" y="339"/>
                    </a:lnTo>
                    <a:lnTo>
                      <a:pt x="353" y="322"/>
                    </a:lnTo>
                    <a:lnTo>
                      <a:pt x="334" y="305"/>
                    </a:lnTo>
                    <a:lnTo>
                      <a:pt x="313" y="288"/>
                    </a:lnTo>
                    <a:lnTo>
                      <a:pt x="297" y="275"/>
                    </a:lnTo>
                    <a:lnTo>
                      <a:pt x="279" y="261"/>
                    </a:lnTo>
                    <a:lnTo>
                      <a:pt x="261" y="247"/>
                    </a:lnTo>
                    <a:lnTo>
                      <a:pt x="241" y="234"/>
                    </a:lnTo>
                    <a:lnTo>
                      <a:pt x="223" y="221"/>
                    </a:lnTo>
                    <a:lnTo>
                      <a:pt x="204" y="209"/>
                    </a:lnTo>
                    <a:lnTo>
                      <a:pt x="186" y="196"/>
                    </a:lnTo>
                    <a:lnTo>
                      <a:pt x="167" y="184"/>
                    </a:lnTo>
                    <a:lnTo>
                      <a:pt x="154" y="178"/>
                    </a:lnTo>
                    <a:lnTo>
                      <a:pt x="141" y="172"/>
                    </a:lnTo>
                    <a:lnTo>
                      <a:pt x="127" y="166"/>
                    </a:lnTo>
                    <a:lnTo>
                      <a:pt x="114" y="160"/>
                    </a:lnTo>
                    <a:lnTo>
                      <a:pt x="101" y="155"/>
                    </a:lnTo>
                    <a:lnTo>
                      <a:pt x="88" y="149"/>
                    </a:lnTo>
                    <a:lnTo>
                      <a:pt x="75" y="143"/>
                    </a:lnTo>
                    <a:lnTo>
                      <a:pt x="63" y="136"/>
                    </a:lnTo>
                    <a:lnTo>
                      <a:pt x="53" y="130"/>
                    </a:lnTo>
                    <a:lnTo>
                      <a:pt x="43" y="123"/>
                    </a:lnTo>
                    <a:lnTo>
                      <a:pt x="35" y="117"/>
                    </a:lnTo>
                    <a:lnTo>
                      <a:pt x="25" y="109"/>
                    </a:lnTo>
                    <a:lnTo>
                      <a:pt x="18" y="101"/>
                    </a:lnTo>
                    <a:lnTo>
                      <a:pt x="11" y="93"/>
                    </a:lnTo>
                    <a:lnTo>
                      <a:pt x="5" y="84"/>
                    </a:lnTo>
                    <a:lnTo>
                      <a:pt x="1" y="75"/>
                    </a:lnTo>
                    <a:lnTo>
                      <a:pt x="0" y="66"/>
                    </a:lnTo>
                    <a:lnTo>
                      <a:pt x="0" y="59"/>
                    </a:lnTo>
                    <a:lnTo>
                      <a:pt x="1" y="51"/>
                    </a:lnTo>
                    <a:lnTo>
                      <a:pt x="4" y="43"/>
                    </a:lnTo>
                    <a:lnTo>
                      <a:pt x="9" y="35"/>
                    </a:lnTo>
                    <a:lnTo>
                      <a:pt x="13" y="29"/>
                    </a:lnTo>
                    <a:lnTo>
                      <a:pt x="19" y="23"/>
                    </a:lnTo>
                    <a:lnTo>
                      <a:pt x="25" y="19"/>
                    </a:lnTo>
                    <a:lnTo>
                      <a:pt x="37" y="13"/>
                    </a:lnTo>
                    <a:lnTo>
                      <a:pt x="51" y="10"/>
                    </a:lnTo>
                    <a:lnTo>
                      <a:pt x="63" y="7"/>
                    </a:lnTo>
                    <a:lnTo>
                      <a:pt x="76" y="5"/>
                    </a:lnTo>
                    <a:lnTo>
                      <a:pt x="90" y="5"/>
                    </a:lnTo>
                    <a:lnTo>
                      <a:pt x="103" y="5"/>
                    </a:lnTo>
                    <a:lnTo>
                      <a:pt x="117" y="6"/>
                    </a:lnTo>
                    <a:lnTo>
                      <a:pt x="130" y="6"/>
                    </a:lnTo>
                    <a:lnTo>
                      <a:pt x="142" y="9"/>
                    </a:lnTo>
                    <a:lnTo>
                      <a:pt x="154" y="10"/>
                    </a:lnTo>
                    <a:lnTo>
                      <a:pt x="166" y="13"/>
                    </a:lnTo>
                    <a:lnTo>
                      <a:pt x="178" y="17"/>
                    </a:lnTo>
                    <a:lnTo>
                      <a:pt x="190" y="21"/>
                    </a:lnTo>
                    <a:lnTo>
                      <a:pt x="201" y="25"/>
                    </a:lnTo>
                    <a:lnTo>
                      <a:pt x="211" y="31"/>
                    </a:lnTo>
                    <a:lnTo>
                      <a:pt x="222" y="37"/>
                    </a:lnTo>
                    <a:lnTo>
                      <a:pt x="237" y="48"/>
                    </a:lnTo>
                    <a:lnTo>
                      <a:pt x="250" y="59"/>
                    </a:lnTo>
                    <a:lnTo>
                      <a:pt x="263" y="71"/>
                    </a:lnTo>
                    <a:lnTo>
                      <a:pt x="275" y="84"/>
                    </a:lnTo>
                    <a:lnTo>
                      <a:pt x="288" y="97"/>
                    </a:lnTo>
                    <a:lnTo>
                      <a:pt x="300" y="111"/>
                    </a:lnTo>
                    <a:lnTo>
                      <a:pt x="313" y="123"/>
                    </a:lnTo>
                    <a:lnTo>
                      <a:pt x="327" y="136"/>
                    </a:lnTo>
                    <a:lnTo>
                      <a:pt x="345" y="151"/>
                    </a:lnTo>
                    <a:lnTo>
                      <a:pt x="364" y="168"/>
                    </a:lnTo>
                    <a:lnTo>
                      <a:pt x="383" y="185"/>
                    </a:lnTo>
                    <a:lnTo>
                      <a:pt x="402" y="201"/>
                    </a:lnTo>
                    <a:lnTo>
                      <a:pt x="421" y="216"/>
                    </a:lnTo>
                    <a:lnTo>
                      <a:pt x="441" y="233"/>
                    </a:lnTo>
                    <a:lnTo>
                      <a:pt x="460" y="249"/>
                    </a:lnTo>
                    <a:lnTo>
                      <a:pt x="479" y="264"/>
                    </a:lnTo>
                    <a:lnTo>
                      <a:pt x="493" y="275"/>
                    </a:lnTo>
                    <a:lnTo>
                      <a:pt x="508" y="287"/>
                    </a:lnTo>
                    <a:lnTo>
                      <a:pt x="522" y="298"/>
                    </a:lnTo>
                    <a:lnTo>
                      <a:pt x="535" y="310"/>
                    </a:lnTo>
                    <a:lnTo>
                      <a:pt x="551" y="321"/>
                    </a:lnTo>
                    <a:lnTo>
                      <a:pt x="565" y="330"/>
                    </a:lnTo>
                    <a:lnTo>
                      <a:pt x="580" y="341"/>
                    </a:lnTo>
                    <a:lnTo>
                      <a:pt x="595" y="349"/>
                    </a:lnTo>
                    <a:lnTo>
                      <a:pt x="604" y="354"/>
                    </a:lnTo>
                    <a:lnTo>
                      <a:pt x="612" y="358"/>
                    </a:lnTo>
                    <a:lnTo>
                      <a:pt x="619" y="360"/>
                    </a:lnTo>
                    <a:lnTo>
                      <a:pt x="629" y="363"/>
                    </a:lnTo>
                    <a:lnTo>
                      <a:pt x="637" y="365"/>
                    </a:lnTo>
                    <a:lnTo>
                      <a:pt x="646" y="366"/>
                    </a:lnTo>
                    <a:lnTo>
                      <a:pt x="654" y="367"/>
                    </a:lnTo>
                    <a:lnTo>
                      <a:pt x="664" y="369"/>
                    </a:lnTo>
                    <a:lnTo>
                      <a:pt x="671" y="369"/>
                    </a:lnTo>
                    <a:lnTo>
                      <a:pt x="679" y="369"/>
                    </a:lnTo>
                    <a:lnTo>
                      <a:pt x="688" y="369"/>
                    </a:lnTo>
                    <a:lnTo>
                      <a:pt x="696" y="367"/>
                    </a:lnTo>
                    <a:lnTo>
                      <a:pt x="705" y="366"/>
                    </a:lnTo>
                    <a:lnTo>
                      <a:pt x="712" y="364"/>
                    </a:lnTo>
                    <a:lnTo>
                      <a:pt x="719" y="360"/>
                    </a:lnTo>
                    <a:lnTo>
                      <a:pt x="725" y="355"/>
                    </a:lnTo>
                    <a:lnTo>
                      <a:pt x="731" y="348"/>
                    </a:lnTo>
                    <a:lnTo>
                      <a:pt x="736" y="340"/>
                    </a:lnTo>
                    <a:lnTo>
                      <a:pt x="739" y="331"/>
                    </a:lnTo>
                    <a:lnTo>
                      <a:pt x="743" y="322"/>
                    </a:lnTo>
                    <a:lnTo>
                      <a:pt x="745" y="312"/>
                    </a:lnTo>
                    <a:lnTo>
                      <a:pt x="747" y="303"/>
                    </a:lnTo>
                    <a:lnTo>
                      <a:pt x="748" y="292"/>
                    </a:lnTo>
                    <a:lnTo>
                      <a:pt x="749" y="282"/>
                    </a:lnTo>
                    <a:lnTo>
                      <a:pt x="750" y="268"/>
                    </a:lnTo>
                    <a:lnTo>
                      <a:pt x="750" y="253"/>
                    </a:lnTo>
                    <a:lnTo>
                      <a:pt x="749" y="239"/>
                    </a:lnTo>
                    <a:lnTo>
                      <a:pt x="748" y="225"/>
                    </a:lnTo>
                    <a:lnTo>
                      <a:pt x="745" y="210"/>
                    </a:lnTo>
                    <a:lnTo>
                      <a:pt x="744" y="195"/>
                    </a:lnTo>
                    <a:lnTo>
                      <a:pt x="743" y="180"/>
                    </a:lnTo>
                    <a:lnTo>
                      <a:pt x="743" y="166"/>
                    </a:lnTo>
                    <a:lnTo>
                      <a:pt x="743" y="159"/>
                    </a:lnTo>
                    <a:lnTo>
                      <a:pt x="744" y="150"/>
                    </a:lnTo>
                    <a:lnTo>
                      <a:pt x="744" y="143"/>
                    </a:lnTo>
                    <a:lnTo>
                      <a:pt x="745" y="136"/>
                    </a:lnTo>
                    <a:lnTo>
                      <a:pt x="747" y="127"/>
                    </a:lnTo>
                    <a:lnTo>
                      <a:pt x="748" y="120"/>
                    </a:lnTo>
                    <a:lnTo>
                      <a:pt x="749" y="112"/>
                    </a:lnTo>
                    <a:lnTo>
                      <a:pt x="749" y="105"/>
                    </a:lnTo>
                    <a:lnTo>
                      <a:pt x="749" y="96"/>
                    </a:lnTo>
                    <a:lnTo>
                      <a:pt x="749" y="88"/>
                    </a:lnTo>
                    <a:lnTo>
                      <a:pt x="748" y="79"/>
                    </a:lnTo>
                    <a:lnTo>
                      <a:pt x="748" y="71"/>
                    </a:lnTo>
                    <a:lnTo>
                      <a:pt x="747" y="63"/>
                    </a:lnTo>
                    <a:lnTo>
                      <a:pt x="747" y="54"/>
                    </a:lnTo>
                    <a:lnTo>
                      <a:pt x="748" y="46"/>
                    </a:lnTo>
                    <a:lnTo>
                      <a:pt x="749" y="37"/>
                    </a:lnTo>
                    <a:lnTo>
                      <a:pt x="750" y="31"/>
                    </a:lnTo>
                    <a:lnTo>
                      <a:pt x="753" y="25"/>
                    </a:lnTo>
                    <a:lnTo>
                      <a:pt x="755" y="19"/>
                    </a:lnTo>
                    <a:lnTo>
                      <a:pt x="757" y="13"/>
                    </a:lnTo>
                    <a:lnTo>
                      <a:pt x="760" y="9"/>
                    </a:lnTo>
                    <a:lnTo>
                      <a:pt x="765" y="4"/>
                    </a:lnTo>
                    <a:lnTo>
                      <a:pt x="768" y="1"/>
                    </a:lnTo>
                    <a:lnTo>
                      <a:pt x="774" y="0"/>
                    </a:lnTo>
                    <a:lnTo>
                      <a:pt x="784" y="3"/>
                    </a:lnTo>
                    <a:lnTo>
                      <a:pt x="795" y="5"/>
                    </a:lnTo>
                    <a:lnTo>
                      <a:pt x="804" y="10"/>
                    </a:lnTo>
                    <a:lnTo>
                      <a:pt x="814" y="15"/>
                    </a:lnTo>
                    <a:lnTo>
                      <a:pt x="823" y="21"/>
                    </a:lnTo>
                    <a:lnTo>
                      <a:pt x="832" y="28"/>
                    </a:lnTo>
                    <a:lnTo>
                      <a:pt x="840" y="35"/>
                    </a:lnTo>
                    <a:lnTo>
                      <a:pt x="847" y="43"/>
                    </a:lnTo>
                    <a:lnTo>
                      <a:pt x="855" y="53"/>
                    </a:lnTo>
                    <a:lnTo>
                      <a:pt x="862" y="64"/>
                    </a:lnTo>
                    <a:lnTo>
                      <a:pt x="867" y="76"/>
                    </a:lnTo>
                    <a:lnTo>
                      <a:pt x="871" y="88"/>
                    </a:lnTo>
                    <a:lnTo>
                      <a:pt x="876" y="100"/>
                    </a:lnTo>
                    <a:lnTo>
                      <a:pt x="881" y="112"/>
                    </a:lnTo>
                    <a:lnTo>
                      <a:pt x="886" y="124"/>
                    </a:lnTo>
                    <a:lnTo>
                      <a:pt x="891" y="136"/>
                    </a:lnTo>
                    <a:lnTo>
                      <a:pt x="898" y="153"/>
                    </a:lnTo>
                    <a:lnTo>
                      <a:pt x="904" y="169"/>
                    </a:lnTo>
                    <a:lnTo>
                      <a:pt x="911" y="186"/>
                    </a:lnTo>
                    <a:lnTo>
                      <a:pt x="918" y="203"/>
                    </a:lnTo>
                    <a:lnTo>
                      <a:pt x="924" y="220"/>
                    </a:lnTo>
                    <a:lnTo>
                      <a:pt x="931" y="237"/>
                    </a:lnTo>
                    <a:lnTo>
                      <a:pt x="939" y="253"/>
                    </a:lnTo>
                    <a:lnTo>
                      <a:pt x="946" y="270"/>
                    </a:lnTo>
                    <a:lnTo>
                      <a:pt x="949" y="280"/>
                    </a:lnTo>
                    <a:lnTo>
                      <a:pt x="953" y="291"/>
                    </a:lnTo>
                    <a:lnTo>
                      <a:pt x="958" y="300"/>
                    </a:lnTo>
                    <a:lnTo>
                      <a:pt x="961" y="311"/>
                    </a:lnTo>
                    <a:lnTo>
                      <a:pt x="966" y="321"/>
                    </a:lnTo>
                    <a:lnTo>
                      <a:pt x="971" y="331"/>
                    </a:lnTo>
                    <a:lnTo>
                      <a:pt x="976" y="341"/>
                    </a:lnTo>
                    <a:lnTo>
                      <a:pt x="982" y="349"/>
                    </a:lnTo>
                    <a:lnTo>
                      <a:pt x="989" y="360"/>
                    </a:lnTo>
                    <a:lnTo>
                      <a:pt x="997" y="370"/>
                    </a:lnTo>
                    <a:lnTo>
                      <a:pt x="1006" y="379"/>
                    </a:lnTo>
                    <a:lnTo>
                      <a:pt x="1014" y="388"/>
                    </a:lnTo>
                    <a:lnTo>
                      <a:pt x="1023" y="397"/>
                    </a:lnTo>
                    <a:lnTo>
                      <a:pt x="1031" y="406"/>
                    </a:lnTo>
                    <a:lnTo>
                      <a:pt x="1041" y="414"/>
                    </a:lnTo>
                    <a:lnTo>
                      <a:pt x="1049" y="424"/>
                    </a:lnTo>
                    <a:lnTo>
                      <a:pt x="1061" y="434"/>
                    </a:lnTo>
                    <a:lnTo>
                      <a:pt x="1073" y="445"/>
                    </a:lnTo>
                    <a:lnTo>
                      <a:pt x="1084" y="456"/>
                    </a:lnTo>
                    <a:lnTo>
                      <a:pt x="1096" y="467"/>
                    </a:lnTo>
                    <a:lnTo>
                      <a:pt x="1108" y="476"/>
                    </a:lnTo>
                    <a:lnTo>
                      <a:pt x="1121" y="486"/>
                    </a:lnTo>
                    <a:lnTo>
                      <a:pt x="1134" y="496"/>
                    </a:lnTo>
                    <a:lnTo>
                      <a:pt x="1147" y="503"/>
                    </a:lnTo>
                    <a:lnTo>
                      <a:pt x="1159" y="508"/>
                    </a:lnTo>
                    <a:lnTo>
                      <a:pt x="1171" y="511"/>
                    </a:lnTo>
                    <a:lnTo>
                      <a:pt x="1183" y="515"/>
                    </a:lnTo>
                    <a:lnTo>
                      <a:pt x="1195" y="517"/>
                    </a:lnTo>
                    <a:lnTo>
                      <a:pt x="1207" y="518"/>
                    </a:lnTo>
                    <a:lnTo>
                      <a:pt x="1221" y="520"/>
                    </a:lnTo>
                    <a:lnTo>
                      <a:pt x="1234" y="521"/>
                    </a:lnTo>
                    <a:lnTo>
                      <a:pt x="1246" y="521"/>
                    </a:lnTo>
                    <a:lnTo>
                      <a:pt x="1261" y="522"/>
                    </a:lnTo>
                    <a:lnTo>
                      <a:pt x="1277" y="522"/>
                    </a:lnTo>
                    <a:lnTo>
                      <a:pt x="1291" y="522"/>
                    </a:lnTo>
                    <a:lnTo>
                      <a:pt x="1307" y="522"/>
                    </a:lnTo>
                    <a:lnTo>
                      <a:pt x="1323" y="521"/>
                    </a:lnTo>
                    <a:lnTo>
                      <a:pt x="1338" y="520"/>
                    </a:lnTo>
                    <a:lnTo>
                      <a:pt x="1354" y="517"/>
                    </a:lnTo>
                    <a:lnTo>
                      <a:pt x="1368" y="515"/>
                    </a:lnTo>
                    <a:lnTo>
                      <a:pt x="1379" y="512"/>
                    </a:lnTo>
                    <a:lnTo>
                      <a:pt x="1390" y="510"/>
                    </a:lnTo>
                    <a:lnTo>
                      <a:pt x="1399" y="508"/>
                    </a:lnTo>
                    <a:lnTo>
                      <a:pt x="1410" y="504"/>
                    </a:lnTo>
                    <a:lnTo>
                      <a:pt x="1420" y="500"/>
                    </a:lnTo>
                    <a:lnTo>
                      <a:pt x="1431" y="496"/>
                    </a:lnTo>
                    <a:lnTo>
                      <a:pt x="1439" y="491"/>
                    </a:lnTo>
                    <a:lnTo>
                      <a:pt x="1449" y="485"/>
                    </a:lnTo>
                    <a:lnTo>
                      <a:pt x="1457" y="478"/>
                    </a:lnTo>
                    <a:lnTo>
                      <a:pt x="1467" y="470"/>
                    </a:lnTo>
                    <a:lnTo>
                      <a:pt x="1475" y="463"/>
                    </a:lnTo>
                    <a:lnTo>
                      <a:pt x="1483" y="455"/>
                    </a:lnTo>
                    <a:lnTo>
                      <a:pt x="1491" y="445"/>
                    </a:lnTo>
                    <a:lnTo>
                      <a:pt x="1495" y="437"/>
                    </a:lnTo>
                    <a:lnTo>
                      <a:pt x="1498" y="432"/>
                    </a:lnTo>
                    <a:lnTo>
                      <a:pt x="1498" y="427"/>
                    </a:lnTo>
                    <a:lnTo>
                      <a:pt x="1498" y="422"/>
                    </a:lnTo>
                    <a:lnTo>
                      <a:pt x="1497" y="416"/>
                    </a:lnTo>
                    <a:lnTo>
                      <a:pt x="1495" y="412"/>
                    </a:lnTo>
                    <a:lnTo>
                      <a:pt x="1493" y="407"/>
                    </a:lnTo>
                    <a:lnTo>
                      <a:pt x="1489" y="403"/>
                    </a:lnTo>
                    <a:lnTo>
                      <a:pt x="1485" y="400"/>
                    </a:lnTo>
                    <a:lnTo>
                      <a:pt x="1476" y="394"/>
                    </a:lnTo>
                    <a:lnTo>
                      <a:pt x="1464" y="389"/>
                    </a:lnTo>
                    <a:lnTo>
                      <a:pt x="1452" y="385"/>
                    </a:lnTo>
                    <a:lnTo>
                      <a:pt x="1440" y="382"/>
                    </a:lnTo>
                    <a:lnTo>
                      <a:pt x="1428" y="378"/>
                    </a:lnTo>
                    <a:lnTo>
                      <a:pt x="1417" y="375"/>
                    </a:lnTo>
                    <a:lnTo>
                      <a:pt x="1404" y="369"/>
                    </a:lnTo>
                    <a:lnTo>
                      <a:pt x="1391" y="365"/>
                    </a:lnTo>
                    <a:lnTo>
                      <a:pt x="1378" y="360"/>
                    </a:lnTo>
                    <a:lnTo>
                      <a:pt x="1365" y="357"/>
                    </a:lnTo>
                    <a:lnTo>
                      <a:pt x="1351" y="353"/>
                    </a:lnTo>
                    <a:lnTo>
                      <a:pt x="1338" y="348"/>
                    </a:lnTo>
                    <a:lnTo>
                      <a:pt x="1325" y="343"/>
                    </a:lnTo>
                    <a:lnTo>
                      <a:pt x="1313" y="337"/>
                    </a:lnTo>
                    <a:lnTo>
                      <a:pt x="1305" y="333"/>
                    </a:lnTo>
                    <a:lnTo>
                      <a:pt x="1297" y="328"/>
                    </a:lnTo>
                    <a:lnTo>
                      <a:pt x="1290" y="322"/>
                    </a:lnTo>
                    <a:lnTo>
                      <a:pt x="1283" y="316"/>
                    </a:lnTo>
                    <a:lnTo>
                      <a:pt x="1276" y="310"/>
                    </a:lnTo>
                    <a:lnTo>
                      <a:pt x="1270" y="303"/>
                    </a:lnTo>
                    <a:lnTo>
                      <a:pt x="1264" y="295"/>
                    </a:lnTo>
                    <a:lnTo>
                      <a:pt x="1258" y="288"/>
                    </a:lnTo>
                    <a:lnTo>
                      <a:pt x="1253" y="281"/>
                    </a:lnTo>
                    <a:lnTo>
                      <a:pt x="1248" y="273"/>
                    </a:lnTo>
                    <a:lnTo>
                      <a:pt x="1243" y="265"/>
                    </a:lnTo>
                    <a:lnTo>
                      <a:pt x="1239" y="256"/>
                    </a:lnTo>
                    <a:lnTo>
                      <a:pt x="1235" y="247"/>
                    </a:lnTo>
                    <a:lnTo>
                      <a:pt x="1233" y="239"/>
                    </a:lnTo>
                    <a:lnTo>
                      <a:pt x="1229" y="231"/>
                    </a:lnTo>
                    <a:lnTo>
                      <a:pt x="1228" y="221"/>
                    </a:lnTo>
                    <a:lnTo>
                      <a:pt x="1227" y="215"/>
                    </a:lnTo>
                    <a:lnTo>
                      <a:pt x="1225" y="208"/>
                    </a:lnTo>
                    <a:lnTo>
                      <a:pt x="1224" y="202"/>
                    </a:lnTo>
                    <a:lnTo>
                      <a:pt x="1224" y="195"/>
                    </a:lnTo>
                    <a:lnTo>
                      <a:pt x="1225" y="189"/>
                    </a:lnTo>
                    <a:lnTo>
                      <a:pt x="1227" y="183"/>
                    </a:lnTo>
                    <a:lnTo>
                      <a:pt x="1229" y="177"/>
                    </a:lnTo>
                    <a:lnTo>
                      <a:pt x="1234" y="172"/>
                    </a:lnTo>
                    <a:lnTo>
                      <a:pt x="1240" y="167"/>
                    </a:lnTo>
                    <a:lnTo>
                      <a:pt x="1247" y="165"/>
                    </a:lnTo>
                    <a:lnTo>
                      <a:pt x="1254" y="161"/>
                    </a:lnTo>
                    <a:lnTo>
                      <a:pt x="1263" y="160"/>
                    </a:lnTo>
                    <a:lnTo>
                      <a:pt x="1270" y="160"/>
                    </a:lnTo>
                    <a:lnTo>
                      <a:pt x="1278" y="159"/>
                    </a:lnTo>
                    <a:lnTo>
                      <a:pt x="1287" y="160"/>
                    </a:lnTo>
                    <a:lnTo>
                      <a:pt x="1295" y="160"/>
                    </a:lnTo>
                    <a:lnTo>
                      <a:pt x="1305" y="161"/>
                    </a:lnTo>
                    <a:lnTo>
                      <a:pt x="1315" y="163"/>
                    </a:lnTo>
                    <a:lnTo>
                      <a:pt x="1325" y="167"/>
                    </a:lnTo>
                    <a:lnTo>
                      <a:pt x="1335" y="171"/>
                    </a:lnTo>
                    <a:lnTo>
                      <a:pt x="1344" y="174"/>
                    </a:lnTo>
                    <a:lnTo>
                      <a:pt x="1355" y="179"/>
                    </a:lnTo>
                    <a:lnTo>
                      <a:pt x="1365" y="181"/>
                    </a:lnTo>
                    <a:lnTo>
                      <a:pt x="1374" y="184"/>
                    </a:lnTo>
                    <a:lnTo>
                      <a:pt x="1386" y="186"/>
                    </a:lnTo>
                    <a:lnTo>
                      <a:pt x="1399" y="189"/>
                    </a:lnTo>
                    <a:lnTo>
                      <a:pt x="1411" y="191"/>
                    </a:lnTo>
                    <a:lnTo>
                      <a:pt x="1423" y="192"/>
                    </a:lnTo>
                    <a:lnTo>
                      <a:pt x="1435" y="193"/>
                    </a:lnTo>
                    <a:lnTo>
                      <a:pt x="1447" y="195"/>
                    </a:lnTo>
                    <a:lnTo>
                      <a:pt x="1461" y="196"/>
                    </a:lnTo>
                    <a:lnTo>
                      <a:pt x="1473" y="197"/>
                    </a:lnTo>
                    <a:lnTo>
                      <a:pt x="1486" y="197"/>
                    </a:lnTo>
                    <a:lnTo>
                      <a:pt x="1500" y="198"/>
                    </a:lnTo>
                    <a:lnTo>
                      <a:pt x="1513" y="198"/>
                    </a:lnTo>
                    <a:lnTo>
                      <a:pt x="1528" y="198"/>
                    </a:lnTo>
                    <a:lnTo>
                      <a:pt x="1541" y="198"/>
                    </a:lnTo>
                    <a:lnTo>
                      <a:pt x="1555" y="197"/>
                    </a:lnTo>
                    <a:lnTo>
                      <a:pt x="1569" y="197"/>
                    </a:lnTo>
                    <a:lnTo>
                      <a:pt x="1583" y="197"/>
                    </a:lnTo>
                    <a:lnTo>
                      <a:pt x="1593" y="196"/>
                    </a:lnTo>
                    <a:lnTo>
                      <a:pt x="1601" y="195"/>
                    </a:lnTo>
                    <a:lnTo>
                      <a:pt x="1611" y="193"/>
                    </a:lnTo>
                    <a:lnTo>
                      <a:pt x="1620" y="191"/>
                    </a:lnTo>
                    <a:lnTo>
                      <a:pt x="1629" y="190"/>
                    </a:lnTo>
                    <a:lnTo>
                      <a:pt x="1638" y="190"/>
                    </a:lnTo>
                    <a:lnTo>
                      <a:pt x="1648" y="190"/>
                    </a:lnTo>
                    <a:lnTo>
                      <a:pt x="1656" y="191"/>
                    </a:lnTo>
                    <a:lnTo>
                      <a:pt x="1665" y="192"/>
                    </a:lnTo>
                    <a:lnTo>
                      <a:pt x="1672" y="195"/>
                    </a:lnTo>
                    <a:lnTo>
                      <a:pt x="1680" y="197"/>
                    </a:lnTo>
                    <a:lnTo>
                      <a:pt x="1687" y="201"/>
                    </a:lnTo>
                    <a:lnTo>
                      <a:pt x="1693" y="205"/>
                    </a:lnTo>
                    <a:lnTo>
                      <a:pt x="1701" y="210"/>
                    </a:lnTo>
                    <a:lnTo>
                      <a:pt x="1707" y="215"/>
                    </a:lnTo>
                    <a:lnTo>
                      <a:pt x="1711" y="221"/>
                    </a:lnTo>
                    <a:lnTo>
                      <a:pt x="1716" y="228"/>
                    </a:lnTo>
                    <a:lnTo>
                      <a:pt x="1720" y="234"/>
                    </a:lnTo>
                    <a:lnTo>
                      <a:pt x="1722" y="243"/>
                    </a:lnTo>
                    <a:lnTo>
                      <a:pt x="1725" y="250"/>
                    </a:lnTo>
                    <a:lnTo>
                      <a:pt x="1726" y="258"/>
                    </a:lnTo>
                    <a:lnTo>
                      <a:pt x="1727" y="267"/>
                    </a:lnTo>
                    <a:lnTo>
                      <a:pt x="1728" y="275"/>
                    </a:lnTo>
                    <a:lnTo>
                      <a:pt x="1731" y="282"/>
                    </a:lnTo>
                    <a:lnTo>
                      <a:pt x="1735" y="303"/>
                    </a:lnTo>
                    <a:lnTo>
                      <a:pt x="1740" y="323"/>
                    </a:lnTo>
                    <a:lnTo>
                      <a:pt x="1745" y="345"/>
                    </a:lnTo>
                    <a:lnTo>
                      <a:pt x="1750" y="365"/>
                    </a:lnTo>
                    <a:lnTo>
                      <a:pt x="1755" y="385"/>
                    </a:lnTo>
                    <a:lnTo>
                      <a:pt x="1759" y="406"/>
                    </a:lnTo>
                    <a:lnTo>
                      <a:pt x="1763" y="427"/>
                    </a:lnTo>
                    <a:lnTo>
                      <a:pt x="1767" y="448"/>
                    </a:lnTo>
                    <a:lnTo>
                      <a:pt x="1769" y="467"/>
                    </a:lnTo>
                    <a:lnTo>
                      <a:pt x="1770" y="486"/>
                    </a:lnTo>
                    <a:lnTo>
                      <a:pt x="1771" y="505"/>
                    </a:lnTo>
                    <a:lnTo>
                      <a:pt x="1771" y="524"/>
                    </a:lnTo>
                    <a:lnTo>
                      <a:pt x="1773" y="544"/>
                    </a:lnTo>
                    <a:lnTo>
                      <a:pt x="1774" y="563"/>
                    </a:lnTo>
                    <a:lnTo>
                      <a:pt x="1776" y="582"/>
                    </a:lnTo>
                    <a:lnTo>
                      <a:pt x="1779" y="601"/>
                    </a:lnTo>
                    <a:lnTo>
                      <a:pt x="1782" y="613"/>
                    </a:lnTo>
                    <a:lnTo>
                      <a:pt x="1786" y="625"/>
                    </a:lnTo>
                    <a:lnTo>
                      <a:pt x="1789" y="638"/>
                    </a:lnTo>
                    <a:lnTo>
                      <a:pt x="1794" y="650"/>
                    </a:lnTo>
                    <a:lnTo>
                      <a:pt x="1800" y="662"/>
                    </a:lnTo>
                    <a:lnTo>
                      <a:pt x="1806" y="673"/>
                    </a:lnTo>
                    <a:lnTo>
                      <a:pt x="1813" y="683"/>
                    </a:lnTo>
                    <a:lnTo>
                      <a:pt x="1822" y="692"/>
                    </a:lnTo>
                    <a:lnTo>
                      <a:pt x="1828" y="697"/>
                    </a:lnTo>
                    <a:lnTo>
                      <a:pt x="1836" y="701"/>
                    </a:lnTo>
                    <a:lnTo>
                      <a:pt x="1843" y="703"/>
                    </a:lnTo>
                    <a:lnTo>
                      <a:pt x="1852" y="706"/>
                    </a:lnTo>
                    <a:lnTo>
                      <a:pt x="1860" y="706"/>
                    </a:lnTo>
                    <a:lnTo>
                      <a:pt x="1869" y="704"/>
                    </a:lnTo>
                    <a:lnTo>
                      <a:pt x="1877" y="702"/>
                    </a:lnTo>
                    <a:lnTo>
                      <a:pt x="1883" y="698"/>
                    </a:lnTo>
                    <a:lnTo>
                      <a:pt x="1897" y="688"/>
                    </a:lnTo>
                    <a:lnTo>
                      <a:pt x="1911" y="676"/>
                    </a:lnTo>
                    <a:lnTo>
                      <a:pt x="1923" y="662"/>
                    </a:lnTo>
                    <a:lnTo>
                      <a:pt x="1933" y="648"/>
                    </a:lnTo>
                    <a:lnTo>
                      <a:pt x="1944" y="634"/>
                    </a:lnTo>
                    <a:lnTo>
                      <a:pt x="1954" y="618"/>
                    </a:lnTo>
                    <a:lnTo>
                      <a:pt x="1965" y="604"/>
                    </a:lnTo>
                    <a:lnTo>
                      <a:pt x="1975" y="588"/>
                    </a:lnTo>
                    <a:lnTo>
                      <a:pt x="1989" y="570"/>
                    </a:lnTo>
                    <a:lnTo>
                      <a:pt x="2002" y="552"/>
                    </a:lnTo>
                    <a:lnTo>
                      <a:pt x="2015" y="534"/>
                    </a:lnTo>
                    <a:lnTo>
                      <a:pt x="2027" y="515"/>
                    </a:lnTo>
                    <a:lnTo>
                      <a:pt x="2040" y="497"/>
                    </a:lnTo>
                    <a:lnTo>
                      <a:pt x="2053" y="478"/>
                    </a:lnTo>
                    <a:lnTo>
                      <a:pt x="2067" y="460"/>
                    </a:lnTo>
                    <a:lnTo>
                      <a:pt x="2080" y="442"/>
                    </a:lnTo>
                    <a:lnTo>
                      <a:pt x="2089" y="428"/>
                    </a:lnTo>
                    <a:lnTo>
                      <a:pt x="2100" y="415"/>
                    </a:lnTo>
                    <a:lnTo>
                      <a:pt x="2110" y="403"/>
                    </a:lnTo>
                    <a:lnTo>
                      <a:pt x="2121" y="390"/>
                    </a:lnTo>
                    <a:lnTo>
                      <a:pt x="2131" y="378"/>
                    </a:lnTo>
                    <a:lnTo>
                      <a:pt x="2142" y="366"/>
                    </a:lnTo>
                    <a:lnTo>
                      <a:pt x="2153" y="354"/>
                    </a:lnTo>
                    <a:lnTo>
                      <a:pt x="2165" y="343"/>
                    </a:lnTo>
                    <a:lnTo>
                      <a:pt x="2172" y="339"/>
                    </a:lnTo>
                    <a:lnTo>
                      <a:pt x="2179" y="331"/>
                    </a:lnTo>
                    <a:lnTo>
                      <a:pt x="2188" y="325"/>
                    </a:lnTo>
                    <a:lnTo>
                      <a:pt x="2196" y="319"/>
                    </a:lnTo>
                    <a:lnTo>
                      <a:pt x="2205" y="315"/>
                    </a:lnTo>
                    <a:lnTo>
                      <a:pt x="2212" y="313"/>
                    </a:lnTo>
                    <a:lnTo>
                      <a:pt x="2214" y="313"/>
                    </a:lnTo>
                    <a:lnTo>
                      <a:pt x="2217" y="315"/>
                    </a:lnTo>
                    <a:lnTo>
                      <a:pt x="2219" y="316"/>
                    </a:lnTo>
                    <a:lnTo>
                      <a:pt x="2220" y="319"/>
                    </a:lnTo>
                    <a:lnTo>
                      <a:pt x="2226" y="341"/>
                    </a:lnTo>
                    <a:lnTo>
                      <a:pt x="2230" y="363"/>
                    </a:lnTo>
                    <a:lnTo>
                      <a:pt x="2231" y="385"/>
                    </a:lnTo>
                    <a:lnTo>
                      <a:pt x="2230" y="408"/>
                    </a:lnTo>
                    <a:lnTo>
                      <a:pt x="2229" y="430"/>
                    </a:lnTo>
                    <a:lnTo>
                      <a:pt x="2225" y="452"/>
                    </a:lnTo>
                    <a:lnTo>
                      <a:pt x="2220" y="475"/>
                    </a:lnTo>
                    <a:lnTo>
                      <a:pt x="2214" y="497"/>
                    </a:lnTo>
                    <a:lnTo>
                      <a:pt x="2203" y="535"/>
                    </a:lnTo>
                    <a:lnTo>
                      <a:pt x="2190" y="572"/>
                    </a:lnTo>
                    <a:lnTo>
                      <a:pt x="2176" y="610"/>
                    </a:lnTo>
                    <a:lnTo>
                      <a:pt x="2160" y="646"/>
                    </a:lnTo>
                    <a:lnTo>
                      <a:pt x="2143" y="683"/>
                    </a:lnTo>
                    <a:lnTo>
                      <a:pt x="2127" y="719"/>
                    </a:lnTo>
                    <a:lnTo>
                      <a:pt x="2109" y="755"/>
                    </a:lnTo>
                    <a:lnTo>
                      <a:pt x="2092" y="791"/>
                    </a:lnTo>
                    <a:lnTo>
                      <a:pt x="2082" y="811"/>
                    </a:lnTo>
                    <a:lnTo>
                      <a:pt x="2071" y="830"/>
                    </a:lnTo>
                    <a:lnTo>
                      <a:pt x="2062" y="851"/>
                    </a:lnTo>
                    <a:lnTo>
                      <a:pt x="2050" y="870"/>
                    </a:lnTo>
                    <a:lnTo>
                      <a:pt x="2039" y="889"/>
                    </a:lnTo>
                    <a:lnTo>
                      <a:pt x="2027" y="908"/>
                    </a:lnTo>
                    <a:lnTo>
                      <a:pt x="2014" y="926"/>
                    </a:lnTo>
                    <a:lnTo>
                      <a:pt x="1999" y="943"/>
                    </a:lnTo>
                    <a:lnTo>
                      <a:pt x="1990" y="955"/>
                    </a:lnTo>
                    <a:lnTo>
                      <a:pt x="1979" y="965"/>
                    </a:lnTo>
                    <a:lnTo>
                      <a:pt x="1968" y="973"/>
                    </a:lnTo>
                    <a:lnTo>
                      <a:pt x="1955" y="982"/>
                    </a:lnTo>
                    <a:lnTo>
                      <a:pt x="1943" y="990"/>
                    </a:lnTo>
                    <a:lnTo>
                      <a:pt x="1931" y="1000"/>
                    </a:lnTo>
                    <a:lnTo>
                      <a:pt x="1919" y="1008"/>
                    </a:lnTo>
                    <a:lnTo>
                      <a:pt x="1908" y="1018"/>
                    </a:lnTo>
                    <a:lnTo>
                      <a:pt x="1902" y="1022"/>
                    </a:lnTo>
                    <a:lnTo>
                      <a:pt x="1897" y="1027"/>
                    </a:lnTo>
                    <a:lnTo>
                      <a:pt x="1891" y="1032"/>
                    </a:lnTo>
                    <a:lnTo>
                      <a:pt x="1885" y="1037"/>
                    </a:lnTo>
                    <a:lnTo>
                      <a:pt x="1881" y="1042"/>
                    </a:lnTo>
                    <a:lnTo>
                      <a:pt x="1877" y="1048"/>
                    </a:lnTo>
                    <a:lnTo>
                      <a:pt x="1873" y="1054"/>
                    </a:lnTo>
                    <a:lnTo>
                      <a:pt x="1871" y="1060"/>
                    </a:lnTo>
                    <a:lnTo>
                      <a:pt x="1870" y="1068"/>
                    </a:lnTo>
                    <a:lnTo>
                      <a:pt x="1869" y="1076"/>
                    </a:lnTo>
                    <a:lnTo>
                      <a:pt x="1869" y="1086"/>
                    </a:lnTo>
                    <a:lnTo>
                      <a:pt x="1869" y="1094"/>
                    </a:lnTo>
                    <a:lnTo>
                      <a:pt x="1871" y="1103"/>
                    </a:lnTo>
                    <a:lnTo>
                      <a:pt x="1873" y="1110"/>
                    </a:lnTo>
                    <a:lnTo>
                      <a:pt x="1878" y="1116"/>
                    </a:lnTo>
                    <a:lnTo>
                      <a:pt x="1883" y="1122"/>
                    </a:lnTo>
                    <a:lnTo>
                      <a:pt x="1896" y="1128"/>
                    </a:lnTo>
                    <a:lnTo>
                      <a:pt x="1908" y="1134"/>
                    </a:lnTo>
                    <a:lnTo>
                      <a:pt x="1923" y="1138"/>
                    </a:lnTo>
                    <a:lnTo>
                      <a:pt x="1937" y="1140"/>
                    </a:lnTo>
                    <a:lnTo>
                      <a:pt x="1951" y="1142"/>
                    </a:lnTo>
                    <a:lnTo>
                      <a:pt x="1966" y="1142"/>
                    </a:lnTo>
                    <a:lnTo>
                      <a:pt x="1980" y="1141"/>
                    </a:lnTo>
                    <a:lnTo>
                      <a:pt x="1993" y="1140"/>
                    </a:lnTo>
                    <a:lnTo>
                      <a:pt x="2009" y="1136"/>
                    </a:lnTo>
                    <a:lnTo>
                      <a:pt x="2025" y="1133"/>
                    </a:lnTo>
                    <a:lnTo>
                      <a:pt x="2039" y="1127"/>
                    </a:lnTo>
                    <a:lnTo>
                      <a:pt x="2053" y="1121"/>
                    </a:lnTo>
                    <a:lnTo>
                      <a:pt x="2068" y="1114"/>
                    </a:lnTo>
                    <a:lnTo>
                      <a:pt x="2081" y="1105"/>
                    </a:lnTo>
                    <a:lnTo>
                      <a:pt x="2093" y="1096"/>
                    </a:lnTo>
                    <a:lnTo>
                      <a:pt x="2104" y="1085"/>
                    </a:lnTo>
                    <a:lnTo>
                      <a:pt x="2113" y="1074"/>
                    </a:lnTo>
                    <a:lnTo>
                      <a:pt x="2123" y="1062"/>
                    </a:lnTo>
                    <a:lnTo>
                      <a:pt x="2131" y="1051"/>
                    </a:lnTo>
                    <a:lnTo>
                      <a:pt x="2139" y="1039"/>
                    </a:lnTo>
                    <a:lnTo>
                      <a:pt x="2153" y="1014"/>
                    </a:lnTo>
                    <a:lnTo>
                      <a:pt x="2167" y="989"/>
                    </a:lnTo>
                    <a:lnTo>
                      <a:pt x="2181" y="962"/>
                    </a:lnTo>
                    <a:lnTo>
                      <a:pt x="2195" y="937"/>
                    </a:lnTo>
                    <a:lnTo>
                      <a:pt x="2211" y="912"/>
                    </a:lnTo>
                    <a:lnTo>
                      <a:pt x="2226" y="889"/>
                    </a:lnTo>
                    <a:lnTo>
                      <a:pt x="2239" y="874"/>
                    </a:lnTo>
                    <a:lnTo>
                      <a:pt x="2253" y="858"/>
                    </a:lnTo>
                    <a:lnTo>
                      <a:pt x="2267" y="844"/>
                    </a:lnTo>
                    <a:lnTo>
                      <a:pt x="2281" y="829"/>
                    </a:lnTo>
                    <a:lnTo>
                      <a:pt x="2296" y="816"/>
                    </a:lnTo>
                    <a:lnTo>
                      <a:pt x="2311" y="803"/>
                    </a:lnTo>
                    <a:lnTo>
                      <a:pt x="2327" y="791"/>
                    </a:lnTo>
                    <a:lnTo>
                      <a:pt x="2344" y="779"/>
                    </a:lnTo>
                    <a:lnTo>
                      <a:pt x="2353" y="772"/>
                    </a:lnTo>
                    <a:lnTo>
                      <a:pt x="2364" y="764"/>
                    </a:lnTo>
                    <a:lnTo>
                      <a:pt x="2375" y="757"/>
                    </a:lnTo>
                    <a:lnTo>
                      <a:pt x="2387" y="751"/>
                    </a:lnTo>
                    <a:lnTo>
                      <a:pt x="2399" y="746"/>
                    </a:lnTo>
                    <a:lnTo>
                      <a:pt x="2411" y="743"/>
                    </a:lnTo>
                    <a:lnTo>
                      <a:pt x="2423" y="742"/>
                    </a:lnTo>
                    <a:lnTo>
                      <a:pt x="2435" y="742"/>
                    </a:lnTo>
                    <a:lnTo>
                      <a:pt x="2447" y="744"/>
                    </a:lnTo>
                    <a:lnTo>
                      <a:pt x="2458" y="749"/>
                    </a:lnTo>
                    <a:lnTo>
                      <a:pt x="2469" y="755"/>
                    </a:lnTo>
                    <a:lnTo>
                      <a:pt x="2478" y="762"/>
                    </a:lnTo>
                    <a:lnTo>
                      <a:pt x="2488" y="770"/>
                    </a:lnTo>
                    <a:lnTo>
                      <a:pt x="2497" y="779"/>
                    </a:lnTo>
                    <a:lnTo>
                      <a:pt x="2507" y="788"/>
                    </a:lnTo>
                    <a:lnTo>
                      <a:pt x="2515" y="797"/>
                    </a:lnTo>
                    <a:lnTo>
                      <a:pt x="2524" y="806"/>
                    </a:lnTo>
                    <a:lnTo>
                      <a:pt x="2531" y="816"/>
                    </a:lnTo>
                    <a:lnTo>
                      <a:pt x="2538" y="827"/>
                    </a:lnTo>
                    <a:lnTo>
                      <a:pt x="2545" y="838"/>
                    </a:lnTo>
                    <a:lnTo>
                      <a:pt x="2551" y="850"/>
                    </a:lnTo>
                    <a:lnTo>
                      <a:pt x="2557" y="860"/>
                    </a:lnTo>
                    <a:lnTo>
                      <a:pt x="2563" y="871"/>
                    </a:lnTo>
                    <a:lnTo>
                      <a:pt x="2571" y="882"/>
                    </a:lnTo>
                    <a:lnTo>
                      <a:pt x="2580" y="899"/>
                    </a:lnTo>
                    <a:lnTo>
                      <a:pt x="2590" y="914"/>
                    </a:lnTo>
                    <a:lnTo>
                      <a:pt x="2599" y="930"/>
                    </a:lnTo>
                    <a:lnTo>
                      <a:pt x="2609" y="946"/>
                    </a:lnTo>
                    <a:lnTo>
                      <a:pt x="2619" y="961"/>
                    </a:lnTo>
                    <a:lnTo>
                      <a:pt x="2628" y="978"/>
                    </a:lnTo>
                    <a:lnTo>
                      <a:pt x="2637" y="995"/>
                    </a:lnTo>
                    <a:lnTo>
                      <a:pt x="2644" y="1012"/>
                    </a:lnTo>
                    <a:lnTo>
                      <a:pt x="2647" y="1021"/>
                    </a:lnTo>
                    <a:lnTo>
                      <a:pt x="2651" y="1032"/>
                    </a:lnTo>
                    <a:lnTo>
                      <a:pt x="2653" y="1043"/>
                    </a:lnTo>
                    <a:lnTo>
                      <a:pt x="2656" y="1054"/>
                    </a:lnTo>
                    <a:lnTo>
                      <a:pt x="2657" y="1064"/>
                    </a:lnTo>
                    <a:lnTo>
                      <a:pt x="2658" y="1075"/>
                    </a:lnTo>
                    <a:lnTo>
                      <a:pt x="2657" y="1086"/>
                    </a:lnTo>
                    <a:lnTo>
                      <a:pt x="2656" y="1097"/>
                    </a:lnTo>
                    <a:lnTo>
                      <a:pt x="2655" y="1104"/>
                    </a:lnTo>
                    <a:lnTo>
                      <a:pt x="2651" y="1111"/>
                    </a:lnTo>
                    <a:lnTo>
                      <a:pt x="2647" y="1118"/>
                    </a:lnTo>
                    <a:lnTo>
                      <a:pt x="2644" y="1124"/>
                    </a:lnTo>
                    <a:lnTo>
                      <a:pt x="2638" y="1130"/>
                    </a:lnTo>
                    <a:lnTo>
                      <a:pt x="2632" y="1135"/>
                    </a:lnTo>
                    <a:lnTo>
                      <a:pt x="2626" y="1139"/>
                    </a:lnTo>
                    <a:lnTo>
                      <a:pt x="2619" y="1140"/>
                    </a:lnTo>
                    <a:lnTo>
                      <a:pt x="2608" y="1140"/>
                    </a:lnTo>
                    <a:lnTo>
                      <a:pt x="2597" y="1138"/>
                    </a:lnTo>
                    <a:lnTo>
                      <a:pt x="2586" y="1134"/>
                    </a:lnTo>
                    <a:lnTo>
                      <a:pt x="2577" y="1129"/>
                    </a:lnTo>
                    <a:lnTo>
                      <a:pt x="2567" y="1124"/>
                    </a:lnTo>
                    <a:lnTo>
                      <a:pt x="2557" y="1117"/>
                    </a:lnTo>
                    <a:lnTo>
                      <a:pt x="2548" y="1110"/>
                    </a:lnTo>
                    <a:lnTo>
                      <a:pt x="2539" y="1103"/>
                    </a:lnTo>
                    <a:lnTo>
                      <a:pt x="2529" y="1092"/>
                    </a:lnTo>
                    <a:lnTo>
                      <a:pt x="2518" y="1080"/>
                    </a:lnTo>
                    <a:lnTo>
                      <a:pt x="2509" y="1067"/>
                    </a:lnTo>
                    <a:lnTo>
                      <a:pt x="2501" y="1054"/>
                    </a:lnTo>
                    <a:lnTo>
                      <a:pt x="2493" y="1039"/>
                    </a:lnTo>
                    <a:lnTo>
                      <a:pt x="2484" y="1026"/>
                    </a:lnTo>
                    <a:lnTo>
                      <a:pt x="2475" y="1012"/>
                    </a:lnTo>
                    <a:lnTo>
                      <a:pt x="2466" y="998"/>
                    </a:lnTo>
                    <a:lnTo>
                      <a:pt x="2460" y="991"/>
                    </a:lnTo>
                    <a:lnTo>
                      <a:pt x="2454" y="983"/>
                    </a:lnTo>
                    <a:lnTo>
                      <a:pt x="2449" y="974"/>
                    </a:lnTo>
                    <a:lnTo>
                      <a:pt x="2443" y="966"/>
                    </a:lnTo>
                    <a:lnTo>
                      <a:pt x="2437" y="959"/>
                    </a:lnTo>
                    <a:lnTo>
                      <a:pt x="2431" y="952"/>
                    </a:lnTo>
                    <a:lnTo>
                      <a:pt x="2424" y="944"/>
                    </a:lnTo>
                    <a:lnTo>
                      <a:pt x="2417" y="937"/>
                    </a:lnTo>
                    <a:lnTo>
                      <a:pt x="2413" y="936"/>
                    </a:lnTo>
                    <a:lnTo>
                      <a:pt x="2410" y="934"/>
                    </a:lnTo>
                    <a:lnTo>
                      <a:pt x="2405" y="932"/>
                    </a:lnTo>
                    <a:lnTo>
                      <a:pt x="2400" y="932"/>
                    </a:lnTo>
                    <a:lnTo>
                      <a:pt x="2397" y="932"/>
                    </a:lnTo>
                    <a:lnTo>
                      <a:pt x="2393" y="934"/>
                    </a:lnTo>
                    <a:lnTo>
                      <a:pt x="2389" y="935"/>
                    </a:lnTo>
                    <a:lnTo>
                      <a:pt x="2386" y="937"/>
                    </a:lnTo>
                    <a:lnTo>
                      <a:pt x="2375" y="954"/>
                    </a:lnTo>
                    <a:lnTo>
                      <a:pt x="2365" y="971"/>
                    </a:lnTo>
                    <a:lnTo>
                      <a:pt x="2356" y="989"/>
                    </a:lnTo>
                    <a:lnTo>
                      <a:pt x="2347" y="1007"/>
                    </a:lnTo>
                    <a:lnTo>
                      <a:pt x="2339" y="1025"/>
                    </a:lnTo>
                    <a:lnTo>
                      <a:pt x="2331" y="1043"/>
                    </a:lnTo>
                    <a:lnTo>
                      <a:pt x="2322" y="1061"/>
                    </a:lnTo>
                    <a:lnTo>
                      <a:pt x="2313" y="1079"/>
                    </a:lnTo>
                    <a:lnTo>
                      <a:pt x="2302" y="1096"/>
                    </a:lnTo>
                    <a:lnTo>
                      <a:pt x="2291" y="1114"/>
                    </a:lnTo>
                    <a:lnTo>
                      <a:pt x="2280" y="1130"/>
                    </a:lnTo>
                    <a:lnTo>
                      <a:pt x="2269" y="1148"/>
                    </a:lnTo>
                    <a:lnTo>
                      <a:pt x="2257" y="1165"/>
                    </a:lnTo>
                    <a:lnTo>
                      <a:pt x="2245" y="1181"/>
                    </a:lnTo>
                    <a:lnTo>
                      <a:pt x="2233" y="1197"/>
                    </a:lnTo>
                    <a:lnTo>
                      <a:pt x="2220" y="1213"/>
                    </a:lnTo>
                    <a:lnTo>
                      <a:pt x="2208" y="1227"/>
                    </a:lnTo>
                    <a:lnTo>
                      <a:pt x="2195" y="1242"/>
                    </a:lnTo>
                    <a:lnTo>
                      <a:pt x="2182" y="1255"/>
                    </a:lnTo>
                    <a:lnTo>
                      <a:pt x="2169" y="1268"/>
                    </a:lnTo>
                    <a:lnTo>
                      <a:pt x="2154" y="1280"/>
                    </a:lnTo>
                    <a:lnTo>
                      <a:pt x="2140" y="1293"/>
                    </a:lnTo>
                    <a:lnTo>
                      <a:pt x="2125" y="1305"/>
                    </a:lnTo>
                    <a:lnTo>
                      <a:pt x="2110" y="1317"/>
                    </a:lnTo>
                    <a:lnTo>
                      <a:pt x="2100" y="1326"/>
                    </a:lnTo>
                    <a:lnTo>
                      <a:pt x="2088" y="1333"/>
                    </a:lnTo>
                    <a:lnTo>
                      <a:pt x="2077" y="1341"/>
                    </a:lnTo>
                    <a:lnTo>
                      <a:pt x="2067" y="1349"/>
                    </a:lnTo>
                    <a:lnTo>
                      <a:pt x="2055" y="1355"/>
                    </a:lnTo>
                    <a:lnTo>
                      <a:pt x="2043" y="1362"/>
                    </a:lnTo>
                    <a:lnTo>
                      <a:pt x="2031" y="1367"/>
                    </a:lnTo>
                    <a:lnTo>
                      <a:pt x="2019" y="1373"/>
                    </a:lnTo>
                    <a:lnTo>
                      <a:pt x="2008" y="1376"/>
                    </a:lnTo>
                    <a:lnTo>
                      <a:pt x="1996" y="1379"/>
                    </a:lnTo>
                    <a:lnTo>
                      <a:pt x="1984" y="1381"/>
                    </a:lnTo>
                    <a:lnTo>
                      <a:pt x="1973" y="1382"/>
                    </a:lnTo>
                    <a:lnTo>
                      <a:pt x="1961" y="1385"/>
                    </a:lnTo>
                    <a:lnTo>
                      <a:pt x="1949" y="1386"/>
                    </a:lnTo>
                    <a:lnTo>
                      <a:pt x="1938" y="1388"/>
                    </a:lnTo>
                    <a:lnTo>
                      <a:pt x="1926" y="1391"/>
                    </a:lnTo>
                    <a:lnTo>
                      <a:pt x="1919" y="1393"/>
                    </a:lnTo>
                    <a:lnTo>
                      <a:pt x="1911" y="1394"/>
                    </a:lnTo>
                    <a:lnTo>
                      <a:pt x="1903" y="1397"/>
                    </a:lnTo>
                    <a:lnTo>
                      <a:pt x="1895" y="1399"/>
                    </a:lnTo>
                    <a:lnTo>
                      <a:pt x="1888" y="1401"/>
                    </a:lnTo>
                    <a:lnTo>
                      <a:pt x="1881" y="1405"/>
                    </a:lnTo>
                    <a:lnTo>
                      <a:pt x="1876" y="1410"/>
                    </a:lnTo>
                    <a:lnTo>
                      <a:pt x="1871" y="1416"/>
                    </a:lnTo>
                    <a:lnTo>
                      <a:pt x="1870" y="1421"/>
                    </a:lnTo>
                    <a:lnTo>
                      <a:pt x="1870" y="1427"/>
                    </a:lnTo>
                    <a:lnTo>
                      <a:pt x="1871" y="1431"/>
                    </a:lnTo>
                    <a:lnTo>
                      <a:pt x="1873" y="1437"/>
                    </a:lnTo>
                    <a:lnTo>
                      <a:pt x="1877" y="1443"/>
                    </a:lnTo>
                    <a:lnTo>
                      <a:pt x="1881" y="1448"/>
                    </a:lnTo>
                    <a:lnTo>
                      <a:pt x="1885" y="1454"/>
                    </a:lnTo>
                    <a:lnTo>
                      <a:pt x="1889" y="1458"/>
                    </a:lnTo>
                    <a:lnTo>
                      <a:pt x="1900" y="1467"/>
                    </a:lnTo>
                    <a:lnTo>
                      <a:pt x="1911" y="1475"/>
                    </a:lnTo>
                    <a:lnTo>
                      <a:pt x="1921" y="1482"/>
                    </a:lnTo>
                    <a:lnTo>
                      <a:pt x="1933" y="1488"/>
                    </a:lnTo>
                    <a:lnTo>
                      <a:pt x="1945" y="1495"/>
                    </a:lnTo>
                    <a:lnTo>
                      <a:pt x="1956" y="1502"/>
                    </a:lnTo>
                    <a:lnTo>
                      <a:pt x="1966" y="1511"/>
                    </a:lnTo>
                    <a:lnTo>
                      <a:pt x="1975" y="1519"/>
                    </a:lnTo>
                    <a:lnTo>
                      <a:pt x="1985" y="1532"/>
                    </a:lnTo>
                    <a:lnTo>
                      <a:pt x="1992" y="1545"/>
                    </a:lnTo>
                    <a:lnTo>
                      <a:pt x="1999" y="1559"/>
                    </a:lnTo>
                    <a:lnTo>
                      <a:pt x="2007" y="1573"/>
                    </a:lnTo>
                    <a:lnTo>
                      <a:pt x="2013" y="1587"/>
                    </a:lnTo>
                    <a:lnTo>
                      <a:pt x="2019" y="1602"/>
                    </a:lnTo>
                    <a:lnTo>
                      <a:pt x="2025" y="1616"/>
                    </a:lnTo>
                    <a:lnTo>
                      <a:pt x="2031" y="1629"/>
                    </a:lnTo>
                    <a:lnTo>
                      <a:pt x="2039" y="1650"/>
                    </a:lnTo>
                    <a:lnTo>
                      <a:pt x="2047" y="1669"/>
                    </a:lnTo>
                    <a:lnTo>
                      <a:pt x="2055" y="1689"/>
                    </a:lnTo>
                    <a:lnTo>
                      <a:pt x="2062" y="1710"/>
                    </a:lnTo>
                    <a:lnTo>
                      <a:pt x="2070" y="1730"/>
                    </a:lnTo>
                    <a:lnTo>
                      <a:pt x="2080" y="1748"/>
                    </a:lnTo>
                    <a:lnTo>
                      <a:pt x="2085" y="1758"/>
                    </a:lnTo>
                    <a:lnTo>
                      <a:pt x="2091" y="1766"/>
                    </a:lnTo>
                    <a:lnTo>
                      <a:pt x="2097" y="1775"/>
                    </a:lnTo>
                    <a:lnTo>
                      <a:pt x="2104" y="1783"/>
                    </a:lnTo>
                    <a:lnTo>
                      <a:pt x="2112" y="1791"/>
                    </a:lnTo>
                    <a:lnTo>
                      <a:pt x="2121" y="1799"/>
                    </a:lnTo>
                    <a:lnTo>
                      <a:pt x="2130" y="1806"/>
                    </a:lnTo>
                    <a:lnTo>
                      <a:pt x="2139" y="1812"/>
                    </a:lnTo>
                    <a:lnTo>
                      <a:pt x="2159" y="1824"/>
                    </a:lnTo>
                    <a:lnTo>
                      <a:pt x="2179" y="1836"/>
                    </a:lnTo>
                    <a:lnTo>
                      <a:pt x="2200" y="1845"/>
                    </a:lnTo>
                    <a:lnTo>
                      <a:pt x="2221" y="1855"/>
                    </a:lnTo>
                    <a:lnTo>
                      <a:pt x="2243" y="1865"/>
                    </a:lnTo>
                    <a:lnTo>
                      <a:pt x="2263" y="1874"/>
                    </a:lnTo>
                    <a:lnTo>
                      <a:pt x="2279" y="1881"/>
                    </a:lnTo>
                    <a:lnTo>
                      <a:pt x="2295" y="1887"/>
                    </a:lnTo>
                    <a:lnTo>
                      <a:pt x="2310" y="1893"/>
                    </a:lnTo>
                    <a:lnTo>
                      <a:pt x="2326" y="1898"/>
                    </a:lnTo>
                    <a:lnTo>
                      <a:pt x="2341" y="1904"/>
                    </a:lnTo>
                    <a:lnTo>
                      <a:pt x="2357" y="1909"/>
                    </a:lnTo>
                    <a:lnTo>
                      <a:pt x="2371" y="1916"/>
                    </a:lnTo>
                    <a:lnTo>
                      <a:pt x="2386" y="1923"/>
                    </a:lnTo>
                    <a:lnTo>
                      <a:pt x="2393" y="1928"/>
                    </a:lnTo>
                    <a:lnTo>
                      <a:pt x="2400" y="1933"/>
                    </a:lnTo>
                    <a:lnTo>
                      <a:pt x="2406" y="1939"/>
                    </a:lnTo>
                    <a:lnTo>
                      <a:pt x="2412" y="1945"/>
                    </a:lnTo>
                    <a:lnTo>
                      <a:pt x="2418" y="1951"/>
                    </a:lnTo>
                    <a:lnTo>
                      <a:pt x="2423" y="1958"/>
                    </a:lnTo>
                    <a:lnTo>
                      <a:pt x="2427" y="1965"/>
                    </a:lnTo>
                    <a:lnTo>
                      <a:pt x="2429" y="1972"/>
                    </a:lnTo>
                    <a:lnTo>
                      <a:pt x="2431" y="1982"/>
                    </a:lnTo>
                    <a:lnTo>
                      <a:pt x="2433" y="1993"/>
                    </a:lnTo>
                    <a:lnTo>
                      <a:pt x="2434" y="2004"/>
                    </a:lnTo>
                    <a:lnTo>
                      <a:pt x="2434" y="2014"/>
                    </a:lnTo>
                    <a:lnTo>
                      <a:pt x="2433" y="2025"/>
                    </a:lnTo>
                    <a:lnTo>
                      <a:pt x="2429" y="2034"/>
                    </a:lnTo>
                    <a:lnTo>
                      <a:pt x="2427" y="2038"/>
                    </a:lnTo>
                    <a:lnTo>
                      <a:pt x="2424" y="2041"/>
                    </a:lnTo>
                    <a:lnTo>
                      <a:pt x="2421" y="2044"/>
                    </a:lnTo>
                    <a:lnTo>
                      <a:pt x="2417" y="2046"/>
                    </a:lnTo>
                    <a:lnTo>
                      <a:pt x="2410" y="2049"/>
                    </a:lnTo>
                    <a:lnTo>
                      <a:pt x="2401" y="2050"/>
                    </a:lnTo>
                    <a:lnTo>
                      <a:pt x="2393" y="2052"/>
                    </a:lnTo>
                    <a:lnTo>
                      <a:pt x="2386" y="2052"/>
                    </a:lnTo>
                    <a:lnTo>
                      <a:pt x="2369" y="2050"/>
                    </a:lnTo>
                    <a:lnTo>
                      <a:pt x="2353" y="2047"/>
                    </a:lnTo>
                    <a:lnTo>
                      <a:pt x="2337" y="2043"/>
                    </a:lnTo>
                    <a:lnTo>
                      <a:pt x="2320" y="2037"/>
                    </a:lnTo>
                    <a:lnTo>
                      <a:pt x="2304" y="2032"/>
                    </a:lnTo>
                    <a:lnTo>
                      <a:pt x="2289" y="2028"/>
                    </a:lnTo>
                    <a:lnTo>
                      <a:pt x="2271" y="2023"/>
                    </a:lnTo>
                    <a:lnTo>
                      <a:pt x="2254" y="2017"/>
                    </a:lnTo>
                    <a:lnTo>
                      <a:pt x="2237" y="2010"/>
                    </a:lnTo>
                    <a:lnTo>
                      <a:pt x="2220" y="2002"/>
                    </a:lnTo>
                    <a:lnTo>
                      <a:pt x="2203" y="1995"/>
                    </a:lnTo>
                    <a:lnTo>
                      <a:pt x="2187" y="1988"/>
                    </a:lnTo>
                    <a:lnTo>
                      <a:pt x="2170" y="1980"/>
                    </a:lnTo>
                    <a:lnTo>
                      <a:pt x="2153" y="1972"/>
                    </a:lnTo>
                    <a:lnTo>
                      <a:pt x="2133" y="1964"/>
                    </a:lnTo>
                    <a:lnTo>
                      <a:pt x="2112" y="1956"/>
                    </a:lnTo>
                    <a:lnTo>
                      <a:pt x="2092" y="1948"/>
                    </a:lnTo>
                    <a:lnTo>
                      <a:pt x="2071" y="1940"/>
                    </a:lnTo>
                    <a:lnTo>
                      <a:pt x="2051" y="1932"/>
                    </a:lnTo>
                    <a:lnTo>
                      <a:pt x="2031" y="1922"/>
                    </a:lnTo>
                    <a:lnTo>
                      <a:pt x="2013" y="1911"/>
                    </a:lnTo>
                    <a:lnTo>
                      <a:pt x="1993" y="1899"/>
                    </a:lnTo>
                    <a:lnTo>
                      <a:pt x="1980" y="1889"/>
                    </a:lnTo>
                    <a:lnTo>
                      <a:pt x="1968" y="1878"/>
                    </a:lnTo>
                    <a:lnTo>
                      <a:pt x="1956" y="1866"/>
                    </a:lnTo>
                    <a:lnTo>
                      <a:pt x="1944" y="1853"/>
                    </a:lnTo>
                    <a:lnTo>
                      <a:pt x="1935" y="1839"/>
                    </a:lnTo>
                    <a:lnTo>
                      <a:pt x="1925" y="1825"/>
                    </a:lnTo>
                    <a:lnTo>
                      <a:pt x="1915" y="1811"/>
                    </a:lnTo>
                    <a:lnTo>
                      <a:pt x="1908" y="1795"/>
                    </a:lnTo>
                    <a:lnTo>
                      <a:pt x="1903" y="1784"/>
                    </a:lnTo>
                    <a:lnTo>
                      <a:pt x="1901" y="1773"/>
                    </a:lnTo>
                    <a:lnTo>
                      <a:pt x="1901" y="1761"/>
                    </a:lnTo>
                    <a:lnTo>
                      <a:pt x="1900" y="1749"/>
                    </a:lnTo>
                    <a:lnTo>
                      <a:pt x="1900" y="1737"/>
                    </a:lnTo>
                    <a:lnTo>
                      <a:pt x="1900" y="1727"/>
                    </a:lnTo>
                    <a:lnTo>
                      <a:pt x="1899" y="1715"/>
                    </a:lnTo>
                    <a:lnTo>
                      <a:pt x="1896" y="1704"/>
                    </a:lnTo>
                    <a:lnTo>
                      <a:pt x="1893" y="1693"/>
                    </a:lnTo>
                    <a:lnTo>
                      <a:pt x="1888" y="1683"/>
                    </a:lnTo>
                    <a:lnTo>
                      <a:pt x="1884" y="1673"/>
                    </a:lnTo>
                    <a:lnTo>
                      <a:pt x="1879" y="1663"/>
                    </a:lnTo>
                    <a:lnTo>
                      <a:pt x="1873" y="1653"/>
                    </a:lnTo>
                    <a:lnTo>
                      <a:pt x="1867" y="1645"/>
                    </a:lnTo>
                    <a:lnTo>
                      <a:pt x="1860" y="1637"/>
                    </a:lnTo>
                    <a:lnTo>
                      <a:pt x="1853" y="1629"/>
                    </a:lnTo>
                    <a:lnTo>
                      <a:pt x="1847" y="1626"/>
                    </a:lnTo>
                    <a:lnTo>
                      <a:pt x="1841" y="1623"/>
                    </a:lnTo>
                    <a:lnTo>
                      <a:pt x="1835" y="1622"/>
                    </a:lnTo>
                    <a:lnTo>
                      <a:pt x="1828" y="1621"/>
                    </a:lnTo>
                    <a:lnTo>
                      <a:pt x="1821" y="1622"/>
                    </a:lnTo>
                    <a:lnTo>
                      <a:pt x="1815" y="1623"/>
                    </a:lnTo>
                    <a:lnTo>
                      <a:pt x="1809" y="1626"/>
                    </a:lnTo>
                    <a:lnTo>
                      <a:pt x="1804" y="1629"/>
                    </a:lnTo>
                    <a:lnTo>
                      <a:pt x="1798" y="1637"/>
                    </a:lnTo>
                    <a:lnTo>
                      <a:pt x="1793" y="1645"/>
                    </a:lnTo>
                    <a:lnTo>
                      <a:pt x="1788" y="1655"/>
                    </a:lnTo>
                    <a:lnTo>
                      <a:pt x="1786" y="1664"/>
                    </a:lnTo>
                    <a:lnTo>
                      <a:pt x="1783" y="1674"/>
                    </a:lnTo>
                    <a:lnTo>
                      <a:pt x="1781" y="1683"/>
                    </a:lnTo>
                    <a:lnTo>
                      <a:pt x="1780" y="1693"/>
                    </a:lnTo>
                    <a:lnTo>
                      <a:pt x="1779" y="1704"/>
                    </a:lnTo>
                    <a:lnTo>
                      <a:pt x="1777" y="1724"/>
                    </a:lnTo>
                    <a:lnTo>
                      <a:pt x="1776" y="1745"/>
                    </a:lnTo>
                    <a:lnTo>
                      <a:pt x="1776" y="1765"/>
                    </a:lnTo>
                    <a:lnTo>
                      <a:pt x="1776" y="1785"/>
                    </a:lnTo>
                    <a:lnTo>
                      <a:pt x="1777" y="1807"/>
                    </a:lnTo>
                    <a:lnTo>
                      <a:pt x="1777" y="1827"/>
                    </a:lnTo>
                    <a:lnTo>
                      <a:pt x="1779" y="1848"/>
                    </a:lnTo>
                    <a:lnTo>
                      <a:pt x="1779" y="1868"/>
                    </a:lnTo>
                    <a:lnTo>
                      <a:pt x="1780" y="1885"/>
                    </a:lnTo>
                    <a:lnTo>
                      <a:pt x="1781" y="1900"/>
                    </a:lnTo>
                    <a:lnTo>
                      <a:pt x="1783" y="1917"/>
                    </a:lnTo>
                    <a:lnTo>
                      <a:pt x="1785" y="1933"/>
                    </a:lnTo>
                    <a:lnTo>
                      <a:pt x="1786" y="1950"/>
                    </a:lnTo>
                    <a:lnTo>
                      <a:pt x="1787" y="1965"/>
                    </a:lnTo>
                    <a:lnTo>
                      <a:pt x="1787" y="1981"/>
                    </a:lnTo>
                    <a:lnTo>
                      <a:pt x="1786" y="1998"/>
                    </a:lnTo>
                    <a:lnTo>
                      <a:pt x="1783" y="2010"/>
                    </a:lnTo>
                    <a:lnTo>
                      <a:pt x="1780" y="2020"/>
                    </a:lnTo>
                    <a:lnTo>
                      <a:pt x="1775" y="2032"/>
                    </a:lnTo>
                    <a:lnTo>
                      <a:pt x="1770" y="2043"/>
                    </a:lnTo>
                    <a:lnTo>
                      <a:pt x="1764" y="2055"/>
                    </a:lnTo>
                    <a:lnTo>
                      <a:pt x="1758" y="2066"/>
                    </a:lnTo>
                    <a:lnTo>
                      <a:pt x="1753" y="2078"/>
                    </a:lnTo>
                    <a:lnTo>
                      <a:pt x="1749" y="2089"/>
                    </a:lnTo>
                    <a:lnTo>
                      <a:pt x="1744" y="2103"/>
                    </a:lnTo>
                    <a:lnTo>
                      <a:pt x="1739" y="2118"/>
                    </a:lnTo>
                    <a:lnTo>
                      <a:pt x="1734" y="2132"/>
                    </a:lnTo>
                    <a:lnTo>
                      <a:pt x="1731" y="2145"/>
                    </a:lnTo>
                    <a:lnTo>
                      <a:pt x="1726" y="2160"/>
                    </a:lnTo>
                    <a:lnTo>
                      <a:pt x="1720" y="2174"/>
                    </a:lnTo>
                    <a:lnTo>
                      <a:pt x="1714" y="2187"/>
                    </a:lnTo>
                    <a:lnTo>
                      <a:pt x="1705" y="2199"/>
                    </a:lnTo>
                    <a:lnTo>
                      <a:pt x="1698" y="2210"/>
                    </a:lnTo>
                    <a:lnTo>
                      <a:pt x="1689" y="2220"/>
                    </a:lnTo>
                    <a:lnTo>
                      <a:pt x="1679" y="2228"/>
                    </a:lnTo>
                    <a:lnTo>
                      <a:pt x="1669" y="2236"/>
                    </a:lnTo>
                    <a:lnTo>
                      <a:pt x="1659" y="2245"/>
                    </a:lnTo>
                    <a:lnTo>
                      <a:pt x="1648" y="2252"/>
                    </a:lnTo>
                    <a:lnTo>
                      <a:pt x="1637" y="2259"/>
                    </a:lnTo>
                    <a:lnTo>
                      <a:pt x="1626" y="2266"/>
                    </a:lnTo>
                    <a:lnTo>
                      <a:pt x="1619" y="2271"/>
                    </a:lnTo>
                    <a:lnTo>
                      <a:pt x="1611" y="2276"/>
                    </a:lnTo>
                    <a:lnTo>
                      <a:pt x="1603" y="2281"/>
                    </a:lnTo>
                    <a:lnTo>
                      <a:pt x="1595" y="2284"/>
                    </a:lnTo>
                    <a:lnTo>
                      <a:pt x="1587" y="2287"/>
                    </a:lnTo>
                    <a:lnTo>
                      <a:pt x="1579" y="2289"/>
                    </a:lnTo>
                    <a:lnTo>
                      <a:pt x="1576" y="2289"/>
                    </a:lnTo>
                    <a:lnTo>
                      <a:pt x="1571" y="2288"/>
                    </a:lnTo>
                    <a:lnTo>
                      <a:pt x="1567" y="2287"/>
                    </a:lnTo>
                    <a:lnTo>
                      <a:pt x="1565" y="2286"/>
                    </a:lnTo>
                    <a:lnTo>
                      <a:pt x="1557" y="2278"/>
                    </a:lnTo>
                    <a:lnTo>
                      <a:pt x="1549" y="2270"/>
                    </a:lnTo>
                    <a:lnTo>
                      <a:pt x="1545" y="2260"/>
                    </a:lnTo>
                    <a:lnTo>
                      <a:pt x="1540" y="2250"/>
                    </a:lnTo>
                    <a:lnTo>
                      <a:pt x="1537" y="2239"/>
                    </a:lnTo>
                    <a:lnTo>
                      <a:pt x="1535" y="2228"/>
                    </a:lnTo>
                    <a:lnTo>
                      <a:pt x="1534" y="2216"/>
                    </a:lnTo>
                    <a:lnTo>
                      <a:pt x="1534" y="2205"/>
                    </a:lnTo>
                    <a:lnTo>
                      <a:pt x="1535" y="2190"/>
                    </a:lnTo>
                    <a:lnTo>
                      <a:pt x="1536" y="2174"/>
                    </a:lnTo>
                    <a:lnTo>
                      <a:pt x="1540" y="2158"/>
                    </a:lnTo>
                    <a:lnTo>
                      <a:pt x="1543" y="2143"/>
                    </a:lnTo>
                    <a:lnTo>
                      <a:pt x="1548" y="2128"/>
                    </a:lnTo>
                    <a:lnTo>
                      <a:pt x="1554" y="2113"/>
                    </a:lnTo>
                    <a:lnTo>
                      <a:pt x="1559" y="2097"/>
                    </a:lnTo>
                    <a:lnTo>
                      <a:pt x="1565" y="2083"/>
                    </a:lnTo>
                    <a:lnTo>
                      <a:pt x="1570" y="2071"/>
                    </a:lnTo>
                    <a:lnTo>
                      <a:pt x="1576" y="2058"/>
                    </a:lnTo>
                    <a:lnTo>
                      <a:pt x="1583" y="2046"/>
                    </a:lnTo>
                    <a:lnTo>
                      <a:pt x="1590" y="2035"/>
                    </a:lnTo>
                    <a:lnTo>
                      <a:pt x="1597" y="2023"/>
                    </a:lnTo>
                    <a:lnTo>
                      <a:pt x="1605" y="2011"/>
                    </a:lnTo>
                    <a:lnTo>
                      <a:pt x="1609" y="1998"/>
                    </a:lnTo>
                    <a:lnTo>
                      <a:pt x="1614" y="1984"/>
                    </a:lnTo>
                    <a:lnTo>
                      <a:pt x="1619" y="1963"/>
                    </a:lnTo>
                    <a:lnTo>
                      <a:pt x="1623" y="1941"/>
                    </a:lnTo>
                    <a:lnTo>
                      <a:pt x="1626" y="1918"/>
                    </a:lnTo>
                    <a:lnTo>
                      <a:pt x="1629" y="1897"/>
                    </a:lnTo>
                    <a:lnTo>
                      <a:pt x="1631" y="1874"/>
                    </a:lnTo>
                    <a:lnTo>
                      <a:pt x="1632" y="1853"/>
                    </a:lnTo>
                    <a:lnTo>
                      <a:pt x="1632" y="1830"/>
                    </a:lnTo>
                    <a:lnTo>
                      <a:pt x="1632" y="1807"/>
                    </a:lnTo>
                    <a:lnTo>
                      <a:pt x="1631" y="1793"/>
                    </a:lnTo>
                    <a:lnTo>
                      <a:pt x="1629" y="1778"/>
                    </a:lnTo>
                    <a:lnTo>
                      <a:pt x="1626" y="1765"/>
                    </a:lnTo>
                    <a:lnTo>
                      <a:pt x="1623" y="1751"/>
                    </a:lnTo>
                    <a:lnTo>
                      <a:pt x="1619" y="1736"/>
                    </a:lnTo>
                    <a:lnTo>
                      <a:pt x="1614" y="1723"/>
                    </a:lnTo>
                    <a:lnTo>
                      <a:pt x="1608" y="1710"/>
                    </a:lnTo>
                    <a:lnTo>
                      <a:pt x="1601" y="1697"/>
                    </a:lnTo>
                    <a:lnTo>
                      <a:pt x="1596" y="1689"/>
                    </a:lnTo>
                    <a:lnTo>
                      <a:pt x="1591" y="1682"/>
                    </a:lnTo>
                    <a:lnTo>
                      <a:pt x="1585" y="1675"/>
                    </a:lnTo>
                    <a:lnTo>
                      <a:pt x="1578" y="1669"/>
                    </a:lnTo>
                    <a:lnTo>
                      <a:pt x="1571" y="1663"/>
                    </a:lnTo>
                    <a:lnTo>
                      <a:pt x="1563" y="1659"/>
                    </a:lnTo>
                    <a:lnTo>
                      <a:pt x="1554" y="1656"/>
                    </a:lnTo>
                    <a:lnTo>
                      <a:pt x="1546" y="1655"/>
                    </a:lnTo>
                    <a:lnTo>
                      <a:pt x="1536" y="1655"/>
                    </a:lnTo>
                    <a:lnTo>
                      <a:pt x="1527" y="1656"/>
                    </a:lnTo>
                    <a:lnTo>
                      <a:pt x="1516" y="1658"/>
                    </a:lnTo>
                    <a:lnTo>
                      <a:pt x="1506" y="1662"/>
                    </a:lnTo>
                    <a:lnTo>
                      <a:pt x="1497" y="1665"/>
                    </a:lnTo>
                    <a:lnTo>
                      <a:pt x="1488" y="1671"/>
                    </a:lnTo>
                    <a:lnTo>
                      <a:pt x="1480" y="1677"/>
                    </a:lnTo>
                    <a:lnTo>
                      <a:pt x="1473" y="1685"/>
                    </a:lnTo>
                    <a:lnTo>
                      <a:pt x="1463" y="1697"/>
                    </a:lnTo>
                    <a:lnTo>
                      <a:pt x="1455" y="1710"/>
                    </a:lnTo>
                    <a:lnTo>
                      <a:pt x="1447" y="1723"/>
                    </a:lnTo>
                    <a:lnTo>
                      <a:pt x="1441" y="1737"/>
                    </a:lnTo>
                    <a:lnTo>
                      <a:pt x="1435" y="1752"/>
                    </a:lnTo>
                    <a:lnTo>
                      <a:pt x="1431" y="1766"/>
                    </a:lnTo>
                    <a:lnTo>
                      <a:pt x="1425" y="1781"/>
                    </a:lnTo>
                    <a:lnTo>
                      <a:pt x="1417" y="1795"/>
                    </a:lnTo>
                    <a:lnTo>
                      <a:pt x="1407" y="1818"/>
                    </a:lnTo>
                    <a:lnTo>
                      <a:pt x="1396" y="1839"/>
                    </a:lnTo>
                    <a:lnTo>
                      <a:pt x="1384" y="1862"/>
                    </a:lnTo>
                    <a:lnTo>
                      <a:pt x="1373" y="1885"/>
                    </a:lnTo>
                    <a:lnTo>
                      <a:pt x="1362" y="1908"/>
                    </a:lnTo>
                    <a:lnTo>
                      <a:pt x="1350" y="1929"/>
                    </a:lnTo>
                    <a:lnTo>
                      <a:pt x="1338" y="1951"/>
                    </a:lnTo>
                    <a:lnTo>
                      <a:pt x="1325" y="1972"/>
                    </a:lnTo>
                    <a:lnTo>
                      <a:pt x="1313" y="1992"/>
                    </a:lnTo>
                    <a:lnTo>
                      <a:pt x="1301" y="2012"/>
                    </a:lnTo>
                    <a:lnTo>
                      <a:pt x="1288" y="2031"/>
                    </a:lnTo>
                    <a:lnTo>
                      <a:pt x="1275" y="2049"/>
                    </a:lnTo>
                    <a:lnTo>
                      <a:pt x="1261" y="2068"/>
                    </a:lnTo>
                    <a:lnTo>
                      <a:pt x="1247" y="2086"/>
                    </a:lnTo>
                    <a:lnTo>
                      <a:pt x="1231" y="2103"/>
                    </a:lnTo>
                    <a:lnTo>
                      <a:pt x="1215" y="2120"/>
                    </a:lnTo>
                    <a:lnTo>
                      <a:pt x="1198" y="2136"/>
                    </a:lnTo>
                    <a:lnTo>
                      <a:pt x="1180" y="2150"/>
                    </a:lnTo>
                    <a:lnTo>
                      <a:pt x="1162" y="2164"/>
                    </a:lnTo>
                    <a:lnTo>
                      <a:pt x="1143" y="2178"/>
                    </a:lnTo>
                    <a:lnTo>
                      <a:pt x="1123" y="2190"/>
                    </a:lnTo>
                    <a:lnTo>
                      <a:pt x="1103" y="2202"/>
                    </a:lnTo>
                    <a:lnTo>
                      <a:pt x="1083" y="2214"/>
                    </a:lnTo>
                    <a:lnTo>
                      <a:pt x="1062" y="2223"/>
                    </a:lnTo>
                    <a:lnTo>
                      <a:pt x="1045" y="2230"/>
                    </a:lnTo>
                    <a:lnTo>
                      <a:pt x="1030" y="2238"/>
                    </a:lnTo>
                    <a:lnTo>
                      <a:pt x="1013" y="2242"/>
                    </a:lnTo>
                    <a:lnTo>
                      <a:pt x="996" y="2247"/>
                    </a:lnTo>
                    <a:lnTo>
                      <a:pt x="979" y="2252"/>
                    </a:lnTo>
                    <a:lnTo>
                      <a:pt x="961" y="2256"/>
                    </a:lnTo>
                    <a:lnTo>
                      <a:pt x="945" y="2258"/>
                    </a:lnTo>
                    <a:lnTo>
                      <a:pt x="927" y="2260"/>
                    </a:lnTo>
                    <a:lnTo>
                      <a:pt x="921" y="2262"/>
                    </a:lnTo>
                    <a:lnTo>
                      <a:pt x="913" y="2262"/>
                    </a:lnTo>
                    <a:lnTo>
                      <a:pt x="906" y="2262"/>
                    </a:lnTo>
                    <a:lnTo>
                      <a:pt x="900" y="2260"/>
                    </a:lnTo>
                    <a:lnTo>
                      <a:pt x="893" y="2259"/>
                    </a:lnTo>
                    <a:lnTo>
                      <a:pt x="887" y="2257"/>
                    </a:lnTo>
                    <a:lnTo>
                      <a:pt x="882" y="2253"/>
                    </a:lnTo>
                    <a:lnTo>
                      <a:pt x="877" y="2248"/>
                    </a:lnTo>
                    <a:lnTo>
                      <a:pt x="875" y="2242"/>
                    </a:lnTo>
                    <a:lnTo>
                      <a:pt x="874" y="2236"/>
                    </a:lnTo>
                    <a:lnTo>
                      <a:pt x="873" y="2230"/>
                    </a:lnTo>
                    <a:lnTo>
                      <a:pt x="874" y="2223"/>
                    </a:lnTo>
                    <a:lnTo>
                      <a:pt x="875" y="2217"/>
                    </a:lnTo>
                    <a:lnTo>
                      <a:pt x="877" y="2210"/>
                    </a:lnTo>
                    <a:lnTo>
                      <a:pt x="880" y="2204"/>
                    </a:lnTo>
                    <a:lnTo>
                      <a:pt x="883" y="2199"/>
                    </a:lnTo>
                    <a:lnTo>
                      <a:pt x="897" y="2185"/>
                    </a:lnTo>
                    <a:lnTo>
                      <a:pt x="911" y="2173"/>
                    </a:lnTo>
                    <a:lnTo>
                      <a:pt x="925" y="2160"/>
                    </a:lnTo>
                    <a:lnTo>
                      <a:pt x="940" y="2149"/>
                    </a:lnTo>
                    <a:lnTo>
                      <a:pt x="955" y="2137"/>
                    </a:lnTo>
                    <a:lnTo>
                      <a:pt x="971" y="2125"/>
                    </a:lnTo>
                    <a:lnTo>
                      <a:pt x="985" y="2114"/>
                    </a:lnTo>
                    <a:lnTo>
                      <a:pt x="1001" y="2101"/>
                    </a:lnTo>
                    <a:lnTo>
                      <a:pt x="1018" y="2086"/>
                    </a:lnTo>
                    <a:lnTo>
                      <a:pt x="1035" y="2072"/>
                    </a:lnTo>
                    <a:lnTo>
                      <a:pt x="1051" y="2058"/>
                    </a:lnTo>
                    <a:lnTo>
                      <a:pt x="1068" y="2043"/>
                    </a:lnTo>
                    <a:lnTo>
                      <a:pt x="1085" y="2029"/>
                    </a:lnTo>
                    <a:lnTo>
                      <a:pt x="1101" y="2013"/>
                    </a:lnTo>
                    <a:lnTo>
                      <a:pt x="1116" y="1996"/>
                    </a:lnTo>
                    <a:lnTo>
                      <a:pt x="1129" y="1978"/>
                    </a:lnTo>
                    <a:lnTo>
                      <a:pt x="1141" y="1960"/>
                    </a:lnTo>
                    <a:lnTo>
                      <a:pt x="1153" y="1940"/>
                    </a:lnTo>
                    <a:lnTo>
                      <a:pt x="1165" y="1921"/>
                    </a:lnTo>
                    <a:lnTo>
                      <a:pt x="1175" y="1899"/>
                    </a:lnTo>
                    <a:lnTo>
                      <a:pt x="1185" y="1879"/>
                    </a:lnTo>
                    <a:lnTo>
                      <a:pt x="1192" y="1857"/>
                    </a:lnTo>
                    <a:lnTo>
                      <a:pt x="1198" y="1836"/>
                    </a:lnTo>
                    <a:lnTo>
                      <a:pt x="1203" y="1813"/>
                    </a:lnTo>
                    <a:lnTo>
                      <a:pt x="1204" y="1803"/>
                    </a:lnTo>
                    <a:lnTo>
                      <a:pt x="1203" y="1793"/>
                    </a:lnTo>
                    <a:lnTo>
                      <a:pt x="1201" y="1783"/>
                    </a:lnTo>
                    <a:lnTo>
                      <a:pt x="1198" y="1772"/>
                    </a:lnTo>
                    <a:lnTo>
                      <a:pt x="1193" y="1763"/>
                    </a:lnTo>
                    <a:lnTo>
                      <a:pt x="1187" y="1754"/>
                    </a:lnTo>
                    <a:lnTo>
                      <a:pt x="1180" y="1747"/>
                    </a:lnTo>
                    <a:lnTo>
                      <a:pt x="1173" y="1740"/>
                    </a:lnTo>
                    <a:lnTo>
                      <a:pt x="1167" y="1737"/>
                    </a:lnTo>
                    <a:lnTo>
                      <a:pt x="1159" y="1736"/>
                    </a:lnTo>
                    <a:lnTo>
                      <a:pt x="1152" y="1736"/>
                    </a:lnTo>
                    <a:lnTo>
                      <a:pt x="1145" y="1737"/>
                    </a:lnTo>
                    <a:lnTo>
                      <a:pt x="1137" y="1741"/>
                    </a:lnTo>
                    <a:lnTo>
                      <a:pt x="1129" y="1745"/>
                    </a:lnTo>
                    <a:lnTo>
                      <a:pt x="1123" y="1748"/>
                    </a:lnTo>
                    <a:lnTo>
                      <a:pt x="1117" y="1752"/>
                    </a:lnTo>
                    <a:lnTo>
                      <a:pt x="1111" y="1758"/>
                    </a:lnTo>
                    <a:lnTo>
                      <a:pt x="1107" y="1765"/>
                    </a:lnTo>
                    <a:lnTo>
                      <a:pt x="1102" y="1772"/>
                    </a:lnTo>
                    <a:lnTo>
                      <a:pt x="1098" y="1779"/>
                    </a:lnTo>
                    <a:lnTo>
                      <a:pt x="1095" y="1788"/>
                    </a:lnTo>
                    <a:lnTo>
                      <a:pt x="1091" y="1795"/>
                    </a:lnTo>
                    <a:lnTo>
                      <a:pt x="1086" y="1802"/>
                    </a:lnTo>
                    <a:lnTo>
                      <a:pt x="1080" y="1807"/>
                    </a:lnTo>
                    <a:lnTo>
                      <a:pt x="1068" y="1815"/>
                    </a:lnTo>
                    <a:lnTo>
                      <a:pt x="1056" y="1823"/>
                    </a:lnTo>
                    <a:lnTo>
                      <a:pt x="1043" y="1830"/>
                    </a:lnTo>
                    <a:lnTo>
                      <a:pt x="1031" y="1836"/>
                    </a:lnTo>
                    <a:lnTo>
                      <a:pt x="1018" y="1842"/>
                    </a:lnTo>
                    <a:lnTo>
                      <a:pt x="1003" y="1845"/>
                    </a:lnTo>
                    <a:lnTo>
                      <a:pt x="990" y="1849"/>
                    </a:lnTo>
                    <a:lnTo>
                      <a:pt x="976" y="1850"/>
                    </a:lnTo>
                    <a:lnTo>
                      <a:pt x="965" y="1850"/>
                    </a:lnTo>
                    <a:lnTo>
                      <a:pt x="954" y="1850"/>
                    </a:lnTo>
                    <a:lnTo>
                      <a:pt x="943" y="1848"/>
                    </a:lnTo>
                    <a:lnTo>
                      <a:pt x="933" y="1845"/>
                    </a:lnTo>
                    <a:lnTo>
                      <a:pt x="923" y="1841"/>
                    </a:lnTo>
                    <a:lnTo>
                      <a:pt x="915" y="1835"/>
                    </a:lnTo>
                    <a:lnTo>
                      <a:pt x="911" y="1832"/>
                    </a:lnTo>
                    <a:lnTo>
                      <a:pt x="907" y="1829"/>
                    </a:lnTo>
                    <a:lnTo>
                      <a:pt x="905" y="1824"/>
                    </a:lnTo>
                    <a:lnTo>
                      <a:pt x="903" y="1820"/>
                    </a:lnTo>
                    <a:lnTo>
                      <a:pt x="900" y="1812"/>
                    </a:lnTo>
                    <a:lnTo>
                      <a:pt x="898" y="1805"/>
                    </a:lnTo>
                    <a:lnTo>
                      <a:pt x="898" y="1796"/>
                    </a:lnTo>
                    <a:lnTo>
                      <a:pt x="898" y="1789"/>
                    </a:lnTo>
                    <a:lnTo>
                      <a:pt x="899" y="1772"/>
                    </a:lnTo>
                    <a:lnTo>
                      <a:pt x="901" y="1757"/>
                    </a:lnTo>
                    <a:lnTo>
                      <a:pt x="905" y="1740"/>
                    </a:lnTo>
                    <a:lnTo>
                      <a:pt x="909" y="1723"/>
                    </a:lnTo>
                    <a:lnTo>
                      <a:pt x="912" y="1707"/>
                    </a:lnTo>
                    <a:lnTo>
                      <a:pt x="915" y="1691"/>
                    </a:lnTo>
                    <a:lnTo>
                      <a:pt x="916" y="1680"/>
                    </a:lnTo>
                    <a:lnTo>
                      <a:pt x="918" y="1668"/>
                    </a:lnTo>
                    <a:lnTo>
                      <a:pt x="921" y="1656"/>
                    </a:lnTo>
                    <a:lnTo>
                      <a:pt x="923" y="1644"/>
                    </a:lnTo>
                    <a:lnTo>
                      <a:pt x="925" y="1633"/>
                    </a:lnTo>
                    <a:lnTo>
                      <a:pt x="925" y="1621"/>
                    </a:lnTo>
                    <a:lnTo>
                      <a:pt x="924" y="1610"/>
                    </a:lnTo>
                    <a:lnTo>
                      <a:pt x="921" y="1599"/>
                    </a:lnTo>
                    <a:lnTo>
                      <a:pt x="917" y="1593"/>
                    </a:lnTo>
                    <a:lnTo>
                      <a:pt x="911" y="1589"/>
                    </a:lnTo>
                    <a:lnTo>
                      <a:pt x="905" y="1585"/>
                    </a:lnTo>
                    <a:lnTo>
                      <a:pt x="898" y="1584"/>
                    </a:lnTo>
                    <a:lnTo>
                      <a:pt x="889" y="1581"/>
                    </a:lnTo>
                    <a:lnTo>
                      <a:pt x="881" y="1581"/>
                    </a:lnTo>
                    <a:lnTo>
                      <a:pt x="874" y="1580"/>
                    </a:lnTo>
                    <a:lnTo>
                      <a:pt x="865" y="1580"/>
                    </a:lnTo>
                    <a:lnTo>
                      <a:pt x="849" y="1581"/>
                    </a:lnTo>
                    <a:lnTo>
                      <a:pt x="832" y="1584"/>
                    </a:lnTo>
                    <a:lnTo>
                      <a:pt x="815" y="1587"/>
                    </a:lnTo>
                    <a:lnTo>
                      <a:pt x="798" y="1591"/>
                    </a:lnTo>
                    <a:lnTo>
                      <a:pt x="781" y="1595"/>
                    </a:lnTo>
                    <a:lnTo>
                      <a:pt x="765" y="1598"/>
                    </a:lnTo>
                    <a:lnTo>
                      <a:pt x="748" y="1599"/>
                    </a:lnTo>
                    <a:lnTo>
                      <a:pt x="731" y="1599"/>
                    </a:lnTo>
                    <a:lnTo>
                      <a:pt x="717" y="1597"/>
                    </a:lnTo>
                    <a:lnTo>
                      <a:pt x="702" y="1595"/>
                    </a:lnTo>
                    <a:lnTo>
                      <a:pt x="688" y="1592"/>
                    </a:lnTo>
                    <a:lnTo>
                      <a:pt x="673" y="1587"/>
                    </a:lnTo>
                    <a:lnTo>
                      <a:pt x="659" y="1583"/>
                    </a:lnTo>
                    <a:lnTo>
                      <a:pt x="646" y="1577"/>
                    </a:lnTo>
                    <a:lnTo>
                      <a:pt x="633" y="1569"/>
                    </a:lnTo>
                    <a:lnTo>
                      <a:pt x="621" y="1562"/>
                    </a:lnTo>
                    <a:lnTo>
                      <a:pt x="612" y="1555"/>
                    </a:lnTo>
                    <a:lnTo>
                      <a:pt x="604" y="1547"/>
                    </a:lnTo>
                    <a:lnTo>
                      <a:pt x="598" y="1537"/>
                    </a:lnTo>
                    <a:lnTo>
                      <a:pt x="592" y="1526"/>
                    </a:lnTo>
                    <a:lnTo>
                      <a:pt x="586" y="1517"/>
                    </a:lnTo>
                    <a:lnTo>
                      <a:pt x="580" y="1506"/>
                    </a:lnTo>
                    <a:lnTo>
                      <a:pt x="574" y="1497"/>
                    </a:lnTo>
                    <a:lnTo>
                      <a:pt x="565" y="1489"/>
                    </a:lnTo>
                    <a:lnTo>
                      <a:pt x="558" y="1484"/>
                    </a:lnTo>
                    <a:lnTo>
                      <a:pt x="551" y="1479"/>
                    </a:lnTo>
                    <a:lnTo>
                      <a:pt x="544" y="1476"/>
                    </a:lnTo>
                    <a:lnTo>
                      <a:pt x="537" y="1472"/>
                    </a:lnTo>
                    <a:lnTo>
                      <a:pt x="528" y="1469"/>
                    </a:lnTo>
                    <a:lnTo>
                      <a:pt x="520" y="1467"/>
                    </a:lnTo>
                    <a:lnTo>
                      <a:pt x="513" y="1465"/>
                    </a:lnTo>
                    <a:lnTo>
                      <a:pt x="504" y="1464"/>
                    </a:lnTo>
                    <a:lnTo>
                      <a:pt x="484" y="1464"/>
                    </a:lnTo>
                    <a:lnTo>
                      <a:pt x="465" y="1463"/>
                    </a:lnTo>
                    <a:lnTo>
                      <a:pt x="444" y="1464"/>
                    </a:lnTo>
                    <a:lnTo>
                      <a:pt x="424" y="1465"/>
                    </a:lnTo>
                    <a:lnTo>
                      <a:pt x="405" y="1466"/>
                    </a:lnTo>
                    <a:lnTo>
                      <a:pt x="384" y="1469"/>
                    </a:lnTo>
                    <a:lnTo>
                      <a:pt x="364" y="1470"/>
                    </a:lnTo>
                    <a:lnTo>
                      <a:pt x="345" y="1471"/>
                    </a:lnTo>
                    <a:lnTo>
                      <a:pt x="322" y="1472"/>
                    </a:lnTo>
                    <a:lnTo>
                      <a:pt x="300" y="1473"/>
                    </a:lnTo>
                    <a:lnTo>
                      <a:pt x="277" y="1476"/>
                    </a:lnTo>
                    <a:lnTo>
                      <a:pt x="256" y="1477"/>
                    </a:lnTo>
                    <a:lnTo>
                      <a:pt x="233" y="1479"/>
                    </a:lnTo>
                    <a:lnTo>
                      <a:pt x="211" y="1479"/>
                    </a:lnTo>
                    <a:lnTo>
                      <a:pt x="189" y="1479"/>
                    </a:lnTo>
                    <a:lnTo>
                      <a:pt x="167" y="1477"/>
                    </a:lnTo>
                    <a:lnTo>
                      <a:pt x="155" y="1475"/>
                    </a:lnTo>
                    <a:lnTo>
                      <a:pt x="145" y="1471"/>
                    </a:lnTo>
                    <a:lnTo>
                      <a:pt x="135" y="1466"/>
                    </a:lnTo>
                    <a:lnTo>
                      <a:pt x="125" y="1460"/>
                    </a:lnTo>
                    <a:lnTo>
                      <a:pt x="115" y="1454"/>
                    </a:lnTo>
                    <a:lnTo>
                      <a:pt x="106" y="1447"/>
                    </a:lnTo>
                    <a:lnTo>
                      <a:pt x="96" y="1441"/>
                    </a:lnTo>
                    <a:lnTo>
                      <a:pt x="87" y="1434"/>
                    </a:lnTo>
                    <a:lnTo>
                      <a:pt x="78" y="1428"/>
                    </a:lnTo>
                    <a:lnTo>
                      <a:pt x="69" y="1421"/>
                    </a:lnTo>
                    <a:lnTo>
                      <a:pt x="60" y="1413"/>
                    </a:lnTo>
                    <a:lnTo>
                      <a:pt x="52" y="1406"/>
                    </a:lnTo>
                    <a:lnTo>
                      <a:pt x="43" y="1399"/>
                    </a:lnTo>
                    <a:lnTo>
                      <a:pt x="36" y="1391"/>
                    </a:lnTo>
                    <a:lnTo>
                      <a:pt x="30" y="1382"/>
                    </a:lnTo>
                    <a:lnTo>
                      <a:pt x="25" y="1373"/>
                    </a:lnTo>
                    <a:lnTo>
                      <a:pt x="23" y="1365"/>
                    </a:lnTo>
                    <a:lnTo>
                      <a:pt x="22" y="1358"/>
                    </a:lnTo>
                    <a:lnTo>
                      <a:pt x="22" y="1350"/>
                    </a:lnTo>
                    <a:lnTo>
                      <a:pt x="23" y="1341"/>
                    </a:lnTo>
                    <a:lnTo>
                      <a:pt x="24" y="1334"/>
                    </a:lnTo>
                    <a:lnTo>
                      <a:pt x="28" y="1327"/>
                    </a:lnTo>
                    <a:lnTo>
                      <a:pt x="33" y="1321"/>
                    </a:lnTo>
                    <a:lnTo>
                      <a:pt x="37" y="1317"/>
                    </a:lnTo>
                    <a:lnTo>
                      <a:pt x="52" y="1311"/>
                    </a:lnTo>
                    <a:lnTo>
                      <a:pt x="66" y="1307"/>
                    </a:lnTo>
                    <a:lnTo>
                      <a:pt x="82" y="1303"/>
                    </a:lnTo>
                    <a:lnTo>
                      <a:pt x="97" y="1302"/>
                    </a:lnTo>
                    <a:lnTo>
                      <a:pt x="113" y="1301"/>
                    </a:lnTo>
                    <a:lnTo>
                      <a:pt x="129" y="1299"/>
                    </a:lnTo>
                    <a:lnTo>
                      <a:pt x="145" y="1299"/>
                    </a:lnTo>
                    <a:lnTo>
                      <a:pt x="161" y="1299"/>
                    </a:lnTo>
                    <a:lnTo>
                      <a:pt x="186" y="1298"/>
                    </a:lnTo>
                    <a:lnTo>
                      <a:pt x="213" y="1299"/>
                    </a:lnTo>
                    <a:lnTo>
                      <a:pt x="239" y="1301"/>
                    </a:lnTo>
                    <a:lnTo>
                      <a:pt x="264" y="1303"/>
                    </a:lnTo>
                    <a:lnTo>
                      <a:pt x="291" y="1304"/>
                    </a:lnTo>
                    <a:lnTo>
                      <a:pt x="317" y="1305"/>
                    </a:lnTo>
                    <a:lnTo>
                      <a:pt x="343" y="1307"/>
                    </a:lnTo>
                    <a:lnTo>
                      <a:pt x="369" y="1305"/>
                    </a:lnTo>
                    <a:lnTo>
                      <a:pt x="384" y="1303"/>
                    </a:lnTo>
                    <a:lnTo>
                      <a:pt x="400" y="1301"/>
                    </a:lnTo>
                    <a:lnTo>
                      <a:pt x="415" y="1297"/>
                    </a:lnTo>
                    <a:lnTo>
                      <a:pt x="431" y="1292"/>
                    </a:lnTo>
                    <a:lnTo>
                      <a:pt x="445" y="1287"/>
                    </a:lnTo>
                    <a:lnTo>
                      <a:pt x="461" y="1283"/>
                    </a:lnTo>
                    <a:lnTo>
                      <a:pt x="477" y="1279"/>
                    </a:lnTo>
                    <a:lnTo>
                      <a:pt x="491" y="1274"/>
                    </a:lnTo>
                    <a:lnTo>
                      <a:pt x="502" y="1272"/>
                    </a:lnTo>
                    <a:lnTo>
                      <a:pt x="511" y="1268"/>
                    </a:lnTo>
                    <a:lnTo>
                      <a:pt x="521" y="1265"/>
                    </a:lnTo>
                    <a:lnTo>
                      <a:pt x="532" y="1261"/>
                    </a:lnTo>
                    <a:lnTo>
                      <a:pt x="541" y="1257"/>
                    </a:lnTo>
                    <a:lnTo>
                      <a:pt x="551" y="1256"/>
                    </a:lnTo>
                    <a:lnTo>
                      <a:pt x="562" y="1255"/>
                    </a:lnTo>
                    <a:lnTo>
                      <a:pt x="571" y="1256"/>
                    </a:lnTo>
                    <a:lnTo>
                      <a:pt x="591" y="1261"/>
                    </a:lnTo>
                    <a:lnTo>
                      <a:pt x="610" y="1267"/>
                    </a:lnTo>
                    <a:lnTo>
                      <a:pt x="628" y="1274"/>
                    </a:lnTo>
                    <a:lnTo>
                      <a:pt x="647" y="1281"/>
                    </a:lnTo>
                    <a:lnTo>
                      <a:pt x="665" y="1290"/>
                    </a:lnTo>
                    <a:lnTo>
                      <a:pt x="683" y="1299"/>
                    </a:lnTo>
                    <a:lnTo>
                      <a:pt x="701" y="1308"/>
                    </a:lnTo>
                    <a:lnTo>
                      <a:pt x="719" y="1317"/>
                    </a:lnTo>
                    <a:lnTo>
                      <a:pt x="733" y="1326"/>
                    </a:lnTo>
                    <a:lnTo>
                      <a:pt x="748" y="1334"/>
                    </a:lnTo>
                    <a:lnTo>
                      <a:pt x="762" y="1344"/>
                    </a:lnTo>
                    <a:lnTo>
                      <a:pt x="775" y="1352"/>
                    </a:lnTo>
                    <a:lnTo>
                      <a:pt x="790" y="1362"/>
                    </a:lnTo>
                    <a:lnTo>
                      <a:pt x="804" y="1370"/>
                    </a:lnTo>
                    <a:lnTo>
                      <a:pt x="820" y="1379"/>
                    </a:lnTo>
                    <a:lnTo>
                      <a:pt x="835" y="1385"/>
                    </a:lnTo>
                    <a:lnTo>
                      <a:pt x="847" y="1389"/>
                    </a:lnTo>
                    <a:lnTo>
                      <a:pt x="861" y="1394"/>
                    </a:lnTo>
                    <a:lnTo>
                      <a:pt x="874" y="1398"/>
                    </a:lnTo>
                    <a:lnTo>
                      <a:pt x="888" y="1401"/>
                    </a:lnTo>
                    <a:lnTo>
                      <a:pt x="901" y="1403"/>
                    </a:lnTo>
                    <a:lnTo>
                      <a:pt x="915" y="1404"/>
                    </a:lnTo>
                    <a:lnTo>
                      <a:pt x="921" y="1403"/>
                    </a:lnTo>
                    <a:lnTo>
                      <a:pt x="927" y="1401"/>
                    </a:lnTo>
                    <a:lnTo>
                      <a:pt x="934" y="1399"/>
                    </a:lnTo>
                    <a:lnTo>
                      <a:pt x="939" y="1397"/>
                    </a:lnTo>
                    <a:lnTo>
                      <a:pt x="943" y="1394"/>
                    </a:lnTo>
                    <a:lnTo>
                      <a:pt x="948" y="1391"/>
                    </a:lnTo>
                    <a:lnTo>
                      <a:pt x="952" y="1387"/>
                    </a:lnTo>
                    <a:lnTo>
                      <a:pt x="955" y="1383"/>
                    </a:lnTo>
                    <a:lnTo>
                      <a:pt x="960" y="1374"/>
                    </a:lnTo>
                    <a:lnTo>
                      <a:pt x="965" y="1363"/>
                    </a:lnTo>
                    <a:lnTo>
                      <a:pt x="967" y="1352"/>
                    </a:lnTo>
                    <a:lnTo>
                      <a:pt x="969" y="1340"/>
                    </a:lnTo>
                    <a:lnTo>
                      <a:pt x="970" y="1328"/>
                    </a:lnTo>
                    <a:lnTo>
                      <a:pt x="970" y="1317"/>
                    </a:lnTo>
                    <a:lnTo>
                      <a:pt x="969" y="1305"/>
                    </a:lnTo>
                    <a:lnTo>
                      <a:pt x="966" y="1295"/>
                    </a:lnTo>
                    <a:lnTo>
                      <a:pt x="963" y="1284"/>
                    </a:lnTo>
                    <a:lnTo>
                      <a:pt x="958" y="1272"/>
                    </a:lnTo>
                    <a:lnTo>
                      <a:pt x="952" y="1262"/>
                    </a:lnTo>
                    <a:lnTo>
                      <a:pt x="946" y="1251"/>
                    </a:lnTo>
                    <a:lnTo>
                      <a:pt x="940" y="1242"/>
                    </a:lnTo>
                    <a:lnTo>
                      <a:pt x="933" y="1231"/>
                    </a:lnTo>
                    <a:lnTo>
                      <a:pt x="921" y="1214"/>
                    </a:lnTo>
                    <a:lnTo>
                      <a:pt x="909" y="1197"/>
                    </a:lnTo>
                    <a:lnTo>
                      <a:pt x="895" y="1181"/>
                    </a:lnTo>
                    <a:lnTo>
                      <a:pt x="882" y="1164"/>
                    </a:lnTo>
                    <a:lnTo>
                      <a:pt x="868" y="1147"/>
                    </a:lnTo>
                    <a:lnTo>
                      <a:pt x="853" y="1133"/>
                    </a:lnTo>
                    <a:lnTo>
                      <a:pt x="838" y="1117"/>
                    </a:lnTo>
                    <a:lnTo>
                      <a:pt x="822" y="1103"/>
                    </a:lnTo>
                    <a:lnTo>
                      <a:pt x="803" y="1087"/>
                    </a:lnTo>
                    <a:lnTo>
                      <a:pt x="784" y="1072"/>
                    </a:lnTo>
                    <a:lnTo>
                      <a:pt x="763" y="1057"/>
                    </a:lnTo>
                    <a:lnTo>
                      <a:pt x="743" y="1043"/>
                    </a:lnTo>
                    <a:lnTo>
                      <a:pt x="723" y="1030"/>
                    </a:lnTo>
                    <a:lnTo>
                      <a:pt x="701" y="1016"/>
                    </a:lnTo>
                    <a:lnTo>
                      <a:pt x="679" y="1004"/>
                    </a:lnTo>
                    <a:lnTo>
                      <a:pt x="657" y="992"/>
                    </a:lnTo>
                    <a:lnTo>
                      <a:pt x="641" y="985"/>
                    </a:lnTo>
                    <a:lnTo>
                      <a:pt x="624" y="978"/>
                    </a:lnTo>
                    <a:lnTo>
                      <a:pt x="609" y="973"/>
                    </a:lnTo>
                    <a:lnTo>
                      <a:pt x="591" y="967"/>
                    </a:lnTo>
                    <a:lnTo>
                      <a:pt x="574" y="962"/>
                    </a:lnTo>
                    <a:lnTo>
                      <a:pt x="557" y="959"/>
                    </a:lnTo>
                    <a:lnTo>
                      <a:pt x="539" y="954"/>
                    </a:lnTo>
                    <a:lnTo>
                      <a:pt x="522" y="950"/>
                    </a:lnTo>
                    <a:lnTo>
                      <a:pt x="507" y="947"/>
                    </a:lnTo>
                    <a:lnTo>
                      <a:pt x="492" y="943"/>
                    </a:lnTo>
                    <a:lnTo>
                      <a:pt x="477" y="940"/>
                    </a:lnTo>
                    <a:lnTo>
                      <a:pt x="461" y="937"/>
                    </a:lnTo>
                    <a:lnTo>
                      <a:pt x="445" y="935"/>
                    </a:lnTo>
                    <a:lnTo>
                      <a:pt x="431" y="934"/>
                    </a:lnTo>
                    <a:lnTo>
                      <a:pt x="415" y="932"/>
                    </a:lnTo>
                    <a:lnTo>
                      <a:pt x="400" y="931"/>
                    </a:lnTo>
                    <a:lnTo>
                      <a:pt x="389" y="932"/>
                    </a:lnTo>
                    <a:lnTo>
                      <a:pt x="379" y="932"/>
                    </a:lnTo>
                    <a:lnTo>
                      <a:pt x="369" y="934"/>
                    </a:lnTo>
                    <a:lnTo>
                      <a:pt x="359" y="936"/>
                    </a:lnTo>
                    <a:lnTo>
                      <a:pt x="348" y="938"/>
                    </a:lnTo>
                    <a:lnTo>
                      <a:pt x="339" y="942"/>
                    </a:lnTo>
                    <a:lnTo>
                      <a:pt x="329" y="946"/>
                    </a:lnTo>
                    <a:lnTo>
                      <a:pt x="319" y="950"/>
                    </a:lnTo>
                    <a:lnTo>
                      <a:pt x="311" y="955"/>
                    </a:lnTo>
                    <a:lnTo>
                      <a:pt x="301" y="962"/>
                    </a:lnTo>
                    <a:lnTo>
                      <a:pt x="294" y="970"/>
                    </a:lnTo>
                    <a:lnTo>
                      <a:pt x="286" y="977"/>
                    </a:lnTo>
                    <a:lnTo>
                      <a:pt x="279" y="985"/>
                    </a:lnTo>
                    <a:lnTo>
                      <a:pt x="270" y="992"/>
                    </a:lnTo>
                    <a:lnTo>
                      <a:pt x="262" y="1000"/>
                    </a:lnTo>
                    <a:lnTo>
                      <a:pt x="252" y="1006"/>
                    </a:lnTo>
                    <a:lnTo>
                      <a:pt x="238" y="1013"/>
                    </a:lnTo>
                    <a:lnTo>
                      <a:pt x="223" y="1020"/>
                    </a:lnTo>
                    <a:lnTo>
                      <a:pt x="208" y="1027"/>
                    </a:lnTo>
                    <a:lnTo>
                      <a:pt x="192" y="1034"/>
                    </a:lnTo>
                    <a:lnTo>
                      <a:pt x="178" y="1040"/>
                    </a:lnTo>
                    <a:lnTo>
                      <a:pt x="162" y="1045"/>
                    </a:lnTo>
                    <a:lnTo>
                      <a:pt x="145" y="1050"/>
                    </a:lnTo>
                    <a:lnTo>
                      <a:pt x="130" y="1054"/>
                    </a:lnTo>
                    <a:lnTo>
                      <a:pt x="124" y="1055"/>
                    </a:lnTo>
                    <a:lnTo>
                      <a:pt x="118" y="1055"/>
                    </a:lnTo>
                    <a:lnTo>
                      <a:pt x="112" y="1055"/>
                    </a:lnTo>
                    <a:lnTo>
                      <a:pt x="106" y="1054"/>
                    </a:lnTo>
                    <a:lnTo>
                      <a:pt x="100" y="1052"/>
                    </a:lnTo>
                    <a:lnTo>
                      <a:pt x="95" y="1050"/>
                    </a:lnTo>
                    <a:lnTo>
                      <a:pt x="90" y="1046"/>
                    </a:lnTo>
                    <a:lnTo>
                      <a:pt x="87" y="1042"/>
                    </a:lnTo>
                    <a:lnTo>
                      <a:pt x="83" y="1034"/>
                    </a:lnTo>
                    <a:lnTo>
                      <a:pt x="81" y="1026"/>
                    </a:lnTo>
                    <a:lnTo>
                      <a:pt x="79" y="1016"/>
                    </a:lnTo>
                    <a:lnTo>
                      <a:pt x="78" y="1008"/>
                    </a:lnTo>
                    <a:lnTo>
                      <a:pt x="78" y="998"/>
                    </a:lnTo>
                    <a:lnTo>
                      <a:pt x="81" y="990"/>
                    </a:lnTo>
                    <a:lnTo>
                      <a:pt x="83" y="982"/>
                    </a:lnTo>
                    <a:lnTo>
                      <a:pt x="87" y="974"/>
                    </a:lnTo>
                    <a:lnTo>
                      <a:pt x="100" y="958"/>
                    </a:lnTo>
                    <a:lnTo>
                      <a:pt x="113" y="941"/>
                    </a:lnTo>
                    <a:lnTo>
                      <a:pt x="127" y="925"/>
                    </a:lnTo>
                    <a:lnTo>
                      <a:pt x="143" y="911"/>
                    </a:lnTo>
                    <a:lnTo>
                      <a:pt x="159" y="896"/>
                    </a:lnTo>
                    <a:lnTo>
                      <a:pt x="175" y="883"/>
                    </a:lnTo>
                    <a:lnTo>
                      <a:pt x="192" y="870"/>
                    </a:lnTo>
                    <a:lnTo>
                      <a:pt x="209" y="858"/>
                    </a:lnTo>
                    <a:lnTo>
                      <a:pt x="221" y="851"/>
                    </a:lnTo>
                    <a:lnTo>
                      <a:pt x="233" y="844"/>
                    </a:lnTo>
                    <a:lnTo>
                      <a:pt x="246" y="836"/>
                    </a:lnTo>
                    <a:lnTo>
                      <a:pt x="259" y="832"/>
                    </a:lnTo>
                    <a:lnTo>
                      <a:pt x="273" y="826"/>
                    </a:lnTo>
                    <a:lnTo>
                      <a:pt x="286" y="822"/>
                    </a:lnTo>
                    <a:lnTo>
                      <a:pt x="300" y="818"/>
                    </a:lnTo>
                    <a:lnTo>
                      <a:pt x="313" y="815"/>
                    </a:lnTo>
                    <a:lnTo>
                      <a:pt x="331" y="812"/>
                    </a:lnTo>
                    <a:lnTo>
                      <a:pt x="351" y="810"/>
                    </a:lnTo>
                    <a:lnTo>
                      <a:pt x="369" y="809"/>
                    </a:lnTo>
                    <a:lnTo>
                      <a:pt x="387" y="809"/>
                    </a:lnTo>
                    <a:lnTo>
                      <a:pt x="406" y="809"/>
                    </a:lnTo>
                    <a:lnTo>
                      <a:pt x="424" y="809"/>
                    </a:lnTo>
                    <a:lnTo>
                      <a:pt x="443" y="809"/>
                    </a:lnTo>
                    <a:lnTo>
                      <a:pt x="461" y="809"/>
                    </a:lnTo>
                    <a:lnTo>
                      <a:pt x="487" y="809"/>
                    </a:lnTo>
                    <a:lnTo>
                      <a:pt x="513" y="810"/>
                    </a:lnTo>
                    <a:lnTo>
                      <a:pt x="539" y="810"/>
                    </a:lnTo>
                    <a:lnTo>
                      <a:pt x="565" y="811"/>
                    </a:lnTo>
                    <a:lnTo>
                      <a:pt x="592" y="811"/>
                    </a:lnTo>
                    <a:lnTo>
                      <a:pt x="617" y="812"/>
                    </a:lnTo>
                    <a:lnTo>
                      <a:pt x="643" y="814"/>
                    </a:lnTo>
                    <a:lnTo>
                      <a:pt x="670" y="815"/>
                    </a:lnTo>
                    <a:lnTo>
                      <a:pt x="689" y="816"/>
                    </a:lnTo>
                    <a:lnTo>
                      <a:pt x="708" y="818"/>
                    </a:lnTo>
                    <a:lnTo>
                      <a:pt x="727" y="820"/>
                    </a:lnTo>
                    <a:lnTo>
                      <a:pt x="747" y="822"/>
                    </a:lnTo>
                    <a:lnTo>
                      <a:pt x="765" y="824"/>
                    </a:lnTo>
                    <a:lnTo>
                      <a:pt x="784" y="826"/>
                    </a:lnTo>
                    <a:lnTo>
                      <a:pt x="803" y="827"/>
                    </a:lnTo>
                    <a:lnTo>
                      <a:pt x="822" y="827"/>
                    </a:lnTo>
                    <a:lnTo>
                      <a:pt x="834" y="828"/>
                    </a:lnTo>
                    <a:lnTo>
                      <a:pt x="845" y="828"/>
                    </a:lnTo>
                    <a:lnTo>
                      <a:pt x="857" y="828"/>
                    </a:lnTo>
                    <a:lnTo>
                      <a:pt x="868" y="828"/>
                    </a:lnTo>
                    <a:lnTo>
                      <a:pt x="880" y="828"/>
                    </a:lnTo>
                    <a:lnTo>
                      <a:pt x="891" y="826"/>
                    </a:lnTo>
                    <a:lnTo>
                      <a:pt x="900" y="821"/>
                    </a:lnTo>
                    <a:lnTo>
                      <a:pt x="909" y="815"/>
                    </a:lnTo>
                    <a:close/>
                  </a:path>
                </a:pathLst>
              </a:custGeom>
              <a:solidFill>
                <a:srgbClr val="be8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773680" y="5138640"/>
                <a:ext cx="23400" cy="41400"/>
              </a:xfrm>
              <a:custGeom>
                <a:avLst/>
                <a:gdLst/>
                <a:ahLst/>
                <a:rect l="l" t="t" r="r" b="b"/>
                <a:pathLst>
                  <a:path w="60" h="104">
                    <a:moveTo>
                      <a:pt x="25" y="0"/>
                    </a:moveTo>
                    <a:lnTo>
                      <a:pt x="25" y="0"/>
                    </a:lnTo>
                    <a:lnTo>
                      <a:pt x="25" y="10"/>
                    </a:lnTo>
                    <a:lnTo>
                      <a:pt x="24" y="22"/>
                    </a:lnTo>
                    <a:lnTo>
                      <a:pt x="21" y="33"/>
                    </a:lnTo>
                    <a:lnTo>
                      <a:pt x="19" y="44"/>
                    </a:lnTo>
                    <a:lnTo>
                      <a:pt x="15" y="55"/>
                    </a:lnTo>
                    <a:lnTo>
                      <a:pt x="12" y="63"/>
                    </a:lnTo>
                    <a:lnTo>
                      <a:pt x="6" y="72"/>
                    </a:lnTo>
                    <a:lnTo>
                      <a:pt x="0" y="79"/>
                    </a:lnTo>
                    <a:lnTo>
                      <a:pt x="24" y="104"/>
                    </a:lnTo>
                    <a:lnTo>
                      <a:pt x="33" y="93"/>
                    </a:lnTo>
                    <a:lnTo>
                      <a:pt x="42" y="81"/>
                    </a:lnTo>
                    <a:lnTo>
                      <a:pt x="48" y="68"/>
                    </a:lnTo>
                    <a:lnTo>
                      <a:pt x="52" y="54"/>
                    </a:lnTo>
                    <a:lnTo>
                      <a:pt x="56" y="40"/>
                    </a:lnTo>
                    <a:lnTo>
                      <a:pt x="58" y="26"/>
                    </a:lnTo>
                    <a:lnTo>
                      <a:pt x="60" y="13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773680" y="5091120"/>
                <a:ext cx="23400" cy="47520"/>
              </a:xfrm>
              <a:custGeom>
                <a:avLst/>
                <a:gdLst/>
                <a:ahLst/>
                <a:rect l="l" t="t" r="r" b="b"/>
                <a:pathLst>
                  <a:path w="62" h="122">
                    <a:moveTo>
                      <a:pt x="0" y="22"/>
                    </a:moveTo>
                    <a:lnTo>
                      <a:pt x="0" y="22"/>
                    </a:lnTo>
                    <a:lnTo>
                      <a:pt x="6" y="32"/>
                    </a:lnTo>
                    <a:lnTo>
                      <a:pt x="12" y="42"/>
                    </a:lnTo>
                    <a:lnTo>
                      <a:pt x="17" y="54"/>
                    </a:lnTo>
                    <a:lnTo>
                      <a:pt x="21" y="68"/>
                    </a:lnTo>
                    <a:lnTo>
                      <a:pt x="23" y="81"/>
                    </a:lnTo>
                    <a:lnTo>
                      <a:pt x="26" y="94"/>
                    </a:lnTo>
                    <a:lnTo>
                      <a:pt x="27" y="107"/>
                    </a:lnTo>
                    <a:lnTo>
                      <a:pt x="27" y="122"/>
                    </a:lnTo>
                    <a:lnTo>
                      <a:pt x="62" y="122"/>
                    </a:lnTo>
                    <a:lnTo>
                      <a:pt x="62" y="106"/>
                    </a:lnTo>
                    <a:lnTo>
                      <a:pt x="60" y="90"/>
                    </a:lnTo>
                    <a:lnTo>
                      <a:pt x="58" y="75"/>
                    </a:lnTo>
                    <a:lnTo>
                      <a:pt x="54" y="59"/>
                    </a:lnTo>
                    <a:lnTo>
                      <a:pt x="50" y="44"/>
                    </a:lnTo>
                    <a:lnTo>
                      <a:pt x="44" y="28"/>
                    </a:lnTo>
                    <a:lnTo>
                      <a:pt x="36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740200" y="5068800"/>
                <a:ext cx="44280" cy="30240"/>
              </a:xfrm>
              <a:custGeom>
                <a:avLst/>
                <a:gdLst/>
                <a:ahLst/>
                <a:rect l="l" t="t" r="r" b="b"/>
                <a:pathLst>
                  <a:path w="113" h="76">
                    <a:moveTo>
                      <a:pt x="0" y="32"/>
                    </a:moveTo>
                    <a:lnTo>
                      <a:pt x="0" y="32"/>
                    </a:lnTo>
                    <a:lnTo>
                      <a:pt x="13" y="38"/>
                    </a:lnTo>
                    <a:lnTo>
                      <a:pt x="26" y="42"/>
                    </a:lnTo>
                    <a:lnTo>
                      <a:pt x="38" y="47"/>
                    </a:lnTo>
                    <a:lnTo>
                      <a:pt x="50" y="52"/>
                    </a:lnTo>
                    <a:lnTo>
                      <a:pt x="61" y="57"/>
                    </a:lnTo>
                    <a:lnTo>
                      <a:pt x="71" y="62"/>
                    </a:lnTo>
                    <a:lnTo>
                      <a:pt x="79" y="69"/>
                    </a:lnTo>
                    <a:lnTo>
                      <a:pt x="86" y="76"/>
                    </a:lnTo>
                    <a:lnTo>
                      <a:pt x="113" y="54"/>
                    </a:lnTo>
                    <a:lnTo>
                      <a:pt x="102" y="42"/>
                    </a:lnTo>
                    <a:lnTo>
                      <a:pt x="90" y="33"/>
                    </a:lnTo>
                    <a:lnTo>
                      <a:pt x="78" y="26"/>
                    </a:lnTo>
                    <a:lnTo>
                      <a:pt x="65" y="20"/>
                    </a:lnTo>
                    <a:lnTo>
                      <a:pt x="52" y="15"/>
                    </a:lnTo>
                    <a:lnTo>
                      <a:pt x="38" y="10"/>
                    </a:lnTo>
                    <a:lnTo>
                      <a:pt x="26" y="5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94120" y="5049720"/>
                <a:ext cx="50760" cy="32040"/>
              </a:xfrm>
              <a:custGeom>
                <a:avLst/>
                <a:gdLst/>
                <a:ahLst/>
                <a:rect l="l" t="t" r="r" b="b"/>
                <a:pathLst>
                  <a:path w="128" h="82">
                    <a:moveTo>
                      <a:pt x="0" y="34"/>
                    </a:moveTo>
                    <a:lnTo>
                      <a:pt x="0" y="34"/>
                    </a:lnTo>
                    <a:lnTo>
                      <a:pt x="14" y="38"/>
                    </a:lnTo>
                    <a:lnTo>
                      <a:pt x="29" y="43"/>
                    </a:lnTo>
                    <a:lnTo>
                      <a:pt x="43" y="49"/>
                    </a:lnTo>
                    <a:lnTo>
                      <a:pt x="58" y="55"/>
                    </a:lnTo>
                    <a:lnTo>
                      <a:pt x="71" y="61"/>
                    </a:lnTo>
                    <a:lnTo>
                      <a:pt x="85" y="68"/>
                    </a:lnTo>
                    <a:lnTo>
                      <a:pt x="100" y="74"/>
                    </a:lnTo>
                    <a:lnTo>
                      <a:pt x="114" y="82"/>
                    </a:lnTo>
                    <a:lnTo>
                      <a:pt x="128" y="50"/>
                    </a:lnTo>
                    <a:lnTo>
                      <a:pt x="114" y="43"/>
                    </a:lnTo>
                    <a:lnTo>
                      <a:pt x="100" y="37"/>
                    </a:lnTo>
                    <a:lnTo>
                      <a:pt x="85" y="30"/>
                    </a:lnTo>
                    <a:lnTo>
                      <a:pt x="71" y="24"/>
                    </a:lnTo>
                    <a:lnTo>
                      <a:pt x="56" y="17"/>
                    </a:lnTo>
                    <a:lnTo>
                      <a:pt x="41" y="11"/>
                    </a:lnTo>
                    <a:lnTo>
                      <a:pt x="25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40120" y="5037120"/>
                <a:ext cx="58680" cy="25560"/>
              </a:xfrm>
              <a:custGeom>
                <a:avLst/>
                <a:gdLst/>
                <a:ahLst/>
                <a:rect l="l" t="t" r="r" b="b"/>
                <a:pathLst>
                  <a:path w="147" h="64">
                    <a:moveTo>
                      <a:pt x="0" y="32"/>
                    </a:moveTo>
                    <a:lnTo>
                      <a:pt x="0" y="32"/>
                    </a:lnTo>
                    <a:lnTo>
                      <a:pt x="17" y="38"/>
                    </a:lnTo>
                    <a:lnTo>
                      <a:pt x="35" y="43"/>
                    </a:lnTo>
                    <a:lnTo>
                      <a:pt x="53" y="47"/>
                    </a:lnTo>
                    <a:lnTo>
                      <a:pt x="70" y="50"/>
                    </a:lnTo>
                    <a:lnTo>
                      <a:pt x="88" y="53"/>
                    </a:lnTo>
                    <a:lnTo>
                      <a:pt x="104" y="55"/>
                    </a:lnTo>
                    <a:lnTo>
                      <a:pt x="120" y="59"/>
                    </a:lnTo>
                    <a:lnTo>
                      <a:pt x="136" y="64"/>
                    </a:lnTo>
                    <a:lnTo>
                      <a:pt x="147" y="30"/>
                    </a:lnTo>
                    <a:lnTo>
                      <a:pt x="129" y="25"/>
                    </a:lnTo>
                    <a:lnTo>
                      <a:pt x="111" y="22"/>
                    </a:lnTo>
                    <a:lnTo>
                      <a:pt x="93" y="18"/>
                    </a:lnTo>
                    <a:lnTo>
                      <a:pt x="76" y="16"/>
                    </a:lnTo>
                    <a:lnTo>
                      <a:pt x="59" y="13"/>
                    </a:lnTo>
                    <a:lnTo>
                      <a:pt x="44" y="10"/>
                    </a:lnTo>
                    <a:lnTo>
                      <a:pt x="28" y="5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99080" y="5014800"/>
                <a:ext cx="45720" cy="34920"/>
              </a:xfrm>
              <a:custGeom>
                <a:avLst/>
                <a:gdLst/>
                <a:ahLst/>
                <a:rect l="l" t="t" r="r" b="b"/>
                <a:pathLst>
                  <a:path w="115" h="91">
                    <a:moveTo>
                      <a:pt x="0" y="28"/>
                    </a:moveTo>
                    <a:lnTo>
                      <a:pt x="0" y="28"/>
                    </a:lnTo>
                    <a:lnTo>
                      <a:pt x="12" y="36"/>
                    </a:lnTo>
                    <a:lnTo>
                      <a:pt x="24" y="46"/>
                    </a:lnTo>
                    <a:lnTo>
                      <a:pt x="36" y="54"/>
                    </a:lnTo>
                    <a:lnTo>
                      <a:pt x="48" y="63"/>
                    </a:lnTo>
                    <a:lnTo>
                      <a:pt x="61" y="71"/>
                    </a:lnTo>
                    <a:lnTo>
                      <a:pt x="75" y="78"/>
                    </a:lnTo>
                    <a:lnTo>
                      <a:pt x="89" y="85"/>
                    </a:lnTo>
                    <a:lnTo>
                      <a:pt x="103" y="91"/>
                    </a:lnTo>
                    <a:lnTo>
                      <a:pt x="115" y="59"/>
                    </a:lnTo>
                    <a:lnTo>
                      <a:pt x="103" y="54"/>
                    </a:lnTo>
                    <a:lnTo>
                      <a:pt x="91" y="48"/>
                    </a:lnTo>
                    <a:lnTo>
                      <a:pt x="79" y="41"/>
                    </a:lnTo>
                    <a:lnTo>
                      <a:pt x="67" y="34"/>
                    </a:lnTo>
                    <a:lnTo>
                      <a:pt x="55" y="25"/>
                    </a:lnTo>
                    <a:lnTo>
                      <a:pt x="45" y="18"/>
                    </a:lnTo>
                    <a:lnTo>
                      <a:pt x="33" y="9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38600" y="4960800"/>
                <a:ext cx="69480" cy="63720"/>
              </a:xfrm>
              <a:custGeom>
                <a:avLst/>
                <a:gdLst/>
                <a:ahLst/>
                <a:rect l="l" t="t" r="r" b="b"/>
                <a:pathLst>
                  <a:path w="175" h="162">
                    <a:moveTo>
                      <a:pt x="0" y="28"/>
                    </a:moveTo>
                    <a:lnTo>
                      <a:pt x="0" y="28"/>
                    </a:lnTo>
                    <a:lnTo>
                      <a:pt x="19" y="43"/>
                    </a:lnTo>
                    <a:lnTo>
                      <a:pt x="38" y="60"/>
                    </a:lnTo>
                    <a:lnTo>
                      <a:pt x="57" y="77"/>
                    </a:lnTo>
                    <a:lnTo>
                      <a:pt x="75" y="94"/>
                    </a:lnTo>
                    <a:lnTo>
                      <a:pt x="94" y="112"/>
                    </a:lnTo>
                    <a:lnTo>
                      <a:pt x="114" y="128"/>
                    </a:lnTo>
                    <a:lnTo>
                      <a:pt x="133" y="145"/>
                    </a:lnTo>
                    <a:lnTo>
                      <a:pt x="153" y="162"/>
                    </a:lnTo>
                    <a:lnTo>
                      <a:pt x="175" y="134"/>
                    </a:lnTo>
                    <a:lnTo>
                      <a:pt x="156" y="119"/>
                    </a:lnTo>
                    <a:lnTo>
                      <a:pt x="136" y="102"/>
                    </a:lnTo>
                    <a:lnTo>
                      <a:pt x="117" y="85"/>
                    </a:lnTo>
                    <a:lnTo>
                      <a:pt x="99" y="68"/>
                    </a:lnTo>
                    <a:lnTo>
                      <a:pt x="80" y="50"/>
                    </a:lnTo>
                    <a:lnTo>
                      <a:pt x="61" y="34"/>
                    </a:lnTo>
                    <a:lnTo>
                      <a:pt x="42" y="17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81720" y="4919760"/>
                <a:ext cx="64440" cy="52200"/>
              </a:xfrm>
              <a:custGeom>
                <a:avLst/>
                <a:gdLst/>
                <a:ahLst/>
                <a:rect l="l" t="t" r="r" b="b"/>
                <a:pathLst>
                  <a:path w="167" h="134">
                    <a:moveTo>
                      <a:pt x="0" y="30"/>
                    </a:moveTo>
                    <a:lnTo>
                      <a:pt x="0" y="30"/>
                    </a:lnTo>
                    <a:lnTo>
                      <a:pt x="20" y="42"/>
                    </a:lnTo>
                    <a:lnTo>
                      <a:pt x="38" y="54"/>
                    </a:lnTo>
                    <a:lnTo>
                      <a:pt x="57" y="66"/>
                    </a:lnTo>
                    <a:lnTo>
                      <a:pt x="75" y="80"/>
                    </a:lnTo>
                    <a:lnTo>
                      <a:pt x="93" y="93"/>
                    </a:lnTo>
                    <a:lnTo>
                      <a:pt x="111" y="106"/>
                    </a:lnTo>
                    <a:lnTo>
                      <a:pt x="129" y="119"/>
                    </a:lnTo>
                    <a:lnTo>
                      <a:pt x="146" y="134"/>
                    </a:lnTo>
                    <a:lnTo>
                      <a:pt x="167" y="106"/>
                    </a:lnTo>
                    <a:lnTo>
                      <a:pt x="149" y="92"/>
                    </a:lnTo>
                    <a:lnTo>
                      <a:pt x="131" y="78"/>
                    </a:lnTo>
                    <a:lnTo>
                      <a:pt x="113" y="64"/>
                    </a:lnTo>
                    <a:lnTo>
                      <a:pt x="95" y="51"/>
                    </a:lnTo>
                    <a:lnTo>
                      <a:pt x="76" y="38"/>
                    </a:lnTo>
                    <a:lnTo>
                      <a:pt x="57" y="2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440320" y="4900680"/>
                <a:ext cx="47160" cy="30240"/>
              </a:xfrm>
              <a:custGeom>
                <a:avLst/>
                <a:gdLst/>
                <a:ahLst/>
                <a:rect l="l" t="t" r="r" b="b"/>
                <a:pathLst>
                  <a:path w="122" h="78">
                    <a:moveTo>
                      <a:pt x="0" y="29"/>
                    </a:moveTo>
                    <a:lnTo>
                      <a:pt x="0" y="29"/>
                    </a:lnTo>
                    <a:lnTo>
                      <a:pt x="13" y="36"/>
                    </a:lnTo>
                    <a:lnTo>
                      <a:pt x="28" y="44"/>
                    </a:lnTo>
                    <a:lnTo>
                      <a:pt x="41" y="50"/>
                    </a:lnTo>
                    <a:lnTo>
                      <a:pt x="55" y="56"/>
                    </a:lnTo>
                    <a:lnTo>
                      <a:pt x="68" y="60"/>
                    </a:lnTo>
                    <a:lnTo>
                      <a:pt x="80" y="66"/>
                    </a:lnTo>
                    <a:lnTo>
                      <a:pt x="94" y="72"/>
                    </a:lnTo>
                    <a:lnTo>
                      <a:pt x="104" y="78"/>
                    </a:lnTo>
                    <a:lnTo>
                      <a:pt x="122" y="48"/>
                    </a:lnTo>
                    <a:lnTo>
                      <a:pt x="109" y="41"/>
                    </a:lnTo>
                    <a:lnTo>
                      <a:pt x="95" y="34"/>
                    </a:lnTo>
                    <a:lnTo>
                      <a:pt x="82" y="28"/>
                    </a:lnTo>
                    <a:lnTo>
                      <a:pt x="67" y="23"/>
                    </a:lnTo>
                    <a:lnTo>
                      <a:pt x="54" y="18"/>
                    </a:lnTo>
                    <a:lnTo>
                      <a:pt x="42" y="12"/>
                    </a:lnTo>
                    <a:lnTo>
                      <a:pt x="30" y="6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411880" y="487836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0" y="10"/>
                    </a:moveTo>
                    <a:lnTo>
                      <a:pt x="0" y="10"/>
                    </a:lnTo>
                    <a:lnTo>
                      <a:pt x="4" y="22"/>
                    </a:lnTo>
                    <a:lnTo>
                      <a:pt x="12" y="34"/>
                    </a:lnTo>
                    <a:lnTo>
                      <a:pt x="20" y="44"/>
                    </a:lnTo>
                    <a:lnTo>
                      <a:pt x="30" y="52"/>
                    </a:lnTo>
                    <a:lnTo>
                      <a:pt x="39" y="61"/>
                    </a:lnTo>
                    <a:lnTo>
                      <a:pt x="49" y="68"/>
                    </a:lnTo>
                    <a:lnTo>
                      <a:pt x="58" y="75"/>
                    </a:lnTo>
                    <a:lnTo>
                      <a:pt x="68" y="81"/>
                    </a:lnTo>
                    <a:lnTo>
                      <a:pt x="87" y="52"/>
                    </a:lnTo>
                    <a:lnTo>
                      <a:pt x="78" y="46"/>
                    </a:lnTo>
                    <a:lnTo>
                      <a:pt x="69" y="39"/>
                    </a:lnTo>
                    <a:lnTo>
                      <a:pt x="61" y="33"/>
                    </a:lnTo>
                    <a:lnTo>
                      <a:pt x="52" y="27"/>
                    </a:lnTo>
                    <a:lnTo>
                      <a:pt x="45" y="20"/>
                    </a:lnTo>
                    <a:lnTo>
                      <a:pt x="40" y="14"/>
                    </a:lnTo>
                    <a:lnTo>
                      <a:pt x="36" y="7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411880" y="4853160"/>
                <a:ext cx="20520" cy="29880"/>
              </a:xfrm>
              <a:custGeom>
                <a:avLst/>
                <a:gdLst/>
                <a:ahLst/>
                <a:rect l="l" t="t" r="r" b="b"/>
                <a:pathLst>
                  <a:path w="52" h="75">
                    <a:moveTo>
                      <a:pt x="35" y="0"/>
                    </a:moveTo>
                    <a:lnTo>
                      <a:pt x="35" y="0"/>
                    </a:lnTo>
                    <a:lnTo>
                      <a:pt x="27" y="6"/>
                    </a:lnTo>
                    <a:lnTo>
                      <a:pt x="18" y="13"/>
                    </a:lnTo>
                    <a:lnTo>
                      <a:pt x="12" y="23"/>
                    </a:lnTo>
                    <a:lnTo>
                      <a:pt x="6" y="31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3" y="75"/>
                    </a:lnTo>
                    <a:lnTo>
                      <a:pt x="36" y="65"/>
                    </a:lnTo>
                    <a:lnTo>
                      <a:pt x="35" y="61"/>
                    </a:lnTo>
                    <a:lnTo>
                      <a:pt x="35" y="56"/>
                    </a:lnTo>
                    <a:lnTo>
                      <a:pt x="36" y="51"/>
                    </a:lnTo>
                    <a:lnTo>
                      <a:pt x="39" y="47"/>
                    </a:lnTo>
                    <a:lnTo>
                      <a:pt x="41" y="41"/>
                    </a:lnTo>
                    <a:lnTo>
                      <a:pt x="45" y="36"/>
                    </a:lnTo>
                    <a:lnTo>
                      <a:pt x="48" y="32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25920" y="484668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4" h="47">
                    <a:moveTo>
                      <a:pt x="114" y="2"/>
                    </a:moveTo>
                    <a:lnTo>
                      <a:pt x="114" y="2"/>
                    </a:lnTo>
                    <a:lnTo>
                      <a:pt x="101" y="1"/>
                    </a:lnTo>
                    <a:lnTo>
                      <a:pt x="86" y="1"/>
                    </a:lnTo>
                    <a:lnTo>
                      <a:pt x="72" y="0"/>
                    </a:lnTo>
                    <a:lnTo>
                      <a:pt x="58" y="1"/>
                    </a:lnTo>
                    <a:lnTo>
                      <a:pt x="43" y="2"/>
                    </a:lnTo>
                    <a:lnTo>
                      <a:pt x="29" y="6"/>
                    </a:lnTo>
                    <a:lnTo>
                      <a:pt x="14" y="11"/>
                    </a:lnTo>
                    <a:lnTo>
                      <a:pt x="0" y="17"/>
                    </a:lnTo>
                    <a:lnTo>
                      <a:pt x="17" y="47"/>
                    </a:lnTo>
                    <a:lnTo>
                      <a:pt x="26" y="43"/>
                    </a:lnTo>
                    <a:lnTo>
                      <a:pt x="37" y="40"/>
                    </a:lnTo>
                    <a:lnTo>
                      <a:pt x="49" y="37"/>
                    </a:lnTo>
                    <a:lnTo>
                      <a:pt x="61" y="36"/>
                    </a:lnTo>
                    <a:lnTo>
                      <a:pt x="73" y="35"/>
                    </a:lnTo>
                    <a:lnTo>
                      <a:pt x="85" y="35"/>
                    </a:lnTo>
                    <a:lnTo>
                      <a:pt x="98" y="36"/>
                    </a:lnTo>
                    <a:lnTo>
                      <a:pt x="112" y="37"/>
                    </a:lnTo>
                    <a:lnTo>
                      <a:pt x="112" y="37"/>
                    </a:lnTo>
                    <a:lnTo>
                      <a:pt x="114" y="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468760" y="484812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103" h="63">
                    <a:moveTo>
                      <a:pt x="103" y="34"/>
                    </a:moveTo>
                    <a:lnTo>
                      <a:pt x="103" y="34"/>
                    </a:lnTo>
                    <a:lnTo>
                      <a:pt x="91" y="27"/>
                    </a:lnTo>
                    <a:lnTo>
                      <a:pt x="79" y="21"/>
                    </a:lnTo>
                    <a:lnTo>
                      <a:pt x="67" y="16"/>
                    </a:lnTo>
                    <a:lnTo>
                      <a:pt x="54" y="11"/>
                    </a:lnTo>
                    <a:lnTo>
                      <a:pt x="42" y="8"/>
                    </a:lnTo>
                    <a:lnTo>
                      <a:pt x="28" y="4"/>
                    </a:lnTo>
                    <a:lnTo>
                      <a:pt x="15" y="2"/>
                    </a:lnTo>
                    <a:lnTo>
                      <a:pt x="2" y="0"/>
                    </a:lnTo>
                    <a:lnTo>
                      <a:pt x="0" y="35"/>
                    </a:lnTo>
                    <a:lnTo>
                      <a:pt x="10" y="36"/>
                    </a:lnTo>
                    <a:lnTo>
                      <a:pt x="21" y="39"/>
                    </a:lnTo>
                    <a:lnTo>
                      <a:pt x="32" y="41"/>
                    </a:lnTo>
                    <a:lnTo>
                      <a:pt x="43" y="44"/>
                    </a:lnTo>
                    <a:lnTo>
                      <a:pt x="54" y="47"/>
                    </a:lnTo>
                    <a:lnTo>
                      <a:pt x="64" y="52"/>
                    </a:lnTo>
                    <a:lnTo>
                      <a:pt x="74" y="57"/>
                    </a:lnTo>
                    <a:lnTo>
                      <a:pt x="84" y="63"/>
                    </a:lnTo>
                    <a:lnTo>
                      <a:pt x="84" y="63"/>
                    </a:lnTo>
                    <a:lnTo>
                      <a:pt x="103" y="3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02240" y="4861080"/>
                <a:ext cx="50400" cy="48960"/>
              </a:xfrm>
              <a:custGeom>
                <a:avLst/>
                <a:gdLst/>
                <a:ahLst/>
                <a:rect l="l" t="t" r="r" b="b"/>
                <a:pathLst>
                  <a:path w="124" h="125">
                    <a:moveTo>
                      <a:pt x="124" y="100"/>
                    </a:moveTo>
                    <a:lnTo>
                      <a:pt x="124" y="100"/>
                    </a:lnTo>
                    <a:lnTo>
                      <a:pt x="112" y="88"/>
                    </a:lnTo>
                    <a:lnTo>
                      <a:pt x="99" y="76"/>
                    </a:lnTo>
                    <a:lnTo>
                      <a:pt x="87" y="62"/>
                    </a:lnTo>
                    <a:lnTo>
                      <a:pt x="75" y="49"/>
                    </a:lnTo>
                    <a:lnTo>
                      <a:pt x="62" y="36"/>
                    </a:lnTo>
                    <a:lnTo>
                      <a:pt x="49" y="23"/>
                    </a:lnTo>
                    <a:lnTo>
                      <a:pt x="34" y="11"/>
                    </a:lnTo>
                    <a:lnTo>
                      <a:pt x="19" y="0"/>
                    </a:lnTo>
                    <a:lnTo>
                      <a:pt x="0" y="29"/>
                    </a:lnTo>
                    <a:lnTo>
                      <a:pt x="13" y="38"/>
                    </a:lnTo>
                    <a:lnTo>
                      <a:pt x="25" y="49"/>
                    </a:lnTo>
                    <a:lnTo>
                      <a:pt x="38" y="61"/>
                    </a:lnTo>
                    <a:lnTo>
                      <a:pt x="50" y="73"/>
                    </a:lnTo>
                    <a:lnTo>
                      <a:pt x="62" y="86"/>
                    </a:lnTo>
                    <a:lnTo>
                      <a:pt x="75" y="100"/>
                    </a:lnTo>
                    <a:lnTo>
                      <a:pt x="88" y="113"/>
                    </a:lnTo>
                    <a:lnTo>
                      <a:pt x="102" y="125"/>
                    </a:lnTo>
                    <a:lnTo>
                      <a:pt x="102" y="125"/>
                    </a:lnTo>
                    <a:lnTo>
                      <a:pt x="124" y="10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3280" y="490068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75" h="154">
                    <a:moveTo>
                      <a:pt x="175" y="127"/>
                    </a:moveTo>
                    <a:lnTo>
                      <a:pt x="175" y="127"/>
                    </a:lnTo>
                    <a:lnTo>
                      <a:pt x="156" y="112"/>
                    </a:lnTo>
                    <a:lnTo>
                      <a:pt x="136" y="96"/>
                    </a:lnTo>
                    <a:lnTo>
                      <a:pt x="117" y="80"/>
                    </a:lnTo>
                    <a:lnTo>
                      <a:pt x="98" y="64"/>
                    </a:lnTo>
                    <a:lnTo>
                      <a:pt x="79" y="49"/>
                    </a:lnTo>
                    <a:lnTo>
                      <a:pt x="60" y="32"/>
                    </a:lnTo>
                    <a:lnTo>
                      <a:pt x="42" y="15"/>
                    </a:lnTo>
                    <a:lnTo>
                      <a:pt x="22" y="0"/>
                    </a:lnTo>
                    <a:lnTo>
                      <a:pt x="0" y="25"/>
                    </a:lnTo>
                    <a:lnTo>
                      <a:pt x="19" y="42"/>
                    </a:lnTo>
                    <a:lnTo>
                      <a:pt x="38" y="58"/>
                    </a:lnTo>
                    <a:lnTo>
                      <a:pt x="56" y="75"/>
                    </a:lnTo>
                    <a:lnTo>
                      <a:pt x="75" y="91"/>
                    </a:lnTo>
                    <a:lnTo>
                      <a:pt x="94" y="108"/>
                    </a:lnTo>
                    <a:lnTo>
                      <a:pt x="115" y="123"/>
                    </a:lnTo>
                    <a:lnTo>
                      <a:pt x="134" y="139"/>
                    </a:lnTo>
                    <a:lnTo>
                      <a:pt x="153" y="154"/>
                    </a:lnTo>
                    <a:lnTo>
                      <a:pt x="153" y="154"/>
                    </a:lnTo>
                    <a:lnTo>
                      <a:pt x="175" y="127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603760" y="4951440"/>
                <a:ext cx="53640" cy="44280"/>
              </a:xfrm>
              <a:custGeom>
                <a:avLst/>
                <a:gdLst/>
                <a:ahLst/>
                <a:rect l="l" t="t" r="r" b="b"/>
                <a:pathLst>
                  <a:path w="136" h="115">
                    <a:moveTo>
                      <a:pt x="136" y="85"/>
                    </a:moveTo>
                    <a:lnTo>
                      <a:pt x="136" y="85"/>
                    </a:lnTo>
                    <a:lnTo>
                      <a:pt x="121" y="75"/>
                    </a:lnTo>
                    <a:lnTo>
                      <a:pt x="107" y="66"/>
                    </a:lnTo>
                    <a:lnTo>
                      <a:pt x="93" y="56"/>
                    </a:lnTo>
                    <a:lnTo>
                      <a:pt x="78" y="45"/>
                    </a:lnTo>
                    <a:lnTo>
                      <a:pt x="65" y="35"/>
                    </a:lnTo>
                    <a:lnTo>
                      <a:pt x="51" y="23"/>
                    </a:lnTo>
                    <a:lnTo>
                      <a:pt x="36" y="12"/>
                    </a:lnTo>
                    <a:lnTo>
                      <a:pt x="22" y="0"/>
                    </a:lnTo>
                    <a:lnTo>
                      <a:pt x="0" y="27"/>
                    </a:lnTo>
                    <a:lnTo>
                      <a:pt x="15" y="39"/>
                    </a:lnTo>
                    <a:lnTo>
                      <a:pt x="29" y="50"/>
                    </a:lnTo>
                    <a:lnTo>
                      <a:pt x="43" y="62"/>
                    </a:lnTo>
                    <a:lnTo>
                      <a:pt x="58" y="73"/>
                    </a:lnTo>
                    <a:lnTo>
                      <a:pt x="72" y="84"/>
                    </a:lnTo>
                    <a:lnTo>
                      <a:pt x="88" y="95"/>
                    </a:lnTo>
                    <a:lnTo>
                      <a:pt x="103" y="105"/>
                    </a:lnTo>
                    <a:lnTo>
                      <a:pt x="119" y="115"/>
                    </a:lnTo>
                    <a:lnTo>
                      <a:pt x="119" y="115"/>
                    </a:lnTo>
                    <a:lnTo>
                      <a:pt x="136" y="8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651280" y="498492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77" h="50">
                    <a:moveTo>
                      <a:pt x="77" y="16"/>
                    </a:moveTo>
                    <a:lnTo>
                      <a:pt x="77" y="16"/>
                    </a:lnTo>
                    <a:lnTo>
                      <a:pt x="70" y="16"/>
                    </a:lnTo>
                    <a:lnTo>
                      <a:pt x="61" y="14"/>
                    </a:lnTo>
                    <a:lnTo>
                      <a:pt x="54" y="13"/>
                    </a:lnTo>
                    <a:lnTo>
                      <a:pt x="46" y="11"/>
                    </a:lnTo>
                    <a:lnTo>
                      <a:pt x="38" y="8"/>
                    </a:lnTo>
                    <a:lnTo>
                      <a:pt x="31" y="6"/>
                    </a:lnTo>
                    <a:lnTo>
                      <a:pt x="24" y="4"/>
                    </a:lnTo>
                    <a:lnTo>
                      <a:pt x="17" y="0"/>
                    </a:lnTo>
                    <a:lnTo>
                      <a:pt x="0" y="30"/>
                    </a:lnTo>
                    <a:lnTo>
                      <a:pt x="10" y="35"/>
                    </a:lnTo>
                    <a:lnTo>
                      <a:pt x="18" y="38"/>
                    </a:lnTo>
                    <a:lnTo>
                      <a:pt x="28" y="42"/>
                    </a:lnTo>
                    <a:lnTo>
                      <a:pt x="37" y="44"/>
                    </a:lnTo>
                    <a:lnTo>
                      <a:pt x="47" y="47"/>
                    </a:lnTo>
                    <a:lnTo>
                      <a:pt x="56" y="48"/>
                    </a:lnTo>
                    <a:lnTo>
                      <a:pt x="66" y="49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77" y="1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681520" y="4987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49" y="0"/>
                    </a:moveTo>
                    <a:lnTo>
                      <a:pt x="49" y="0"/>
                    </a:lnTo>
                    <a:lnTo>
                      <a:pt x="46" y="3"/>
                    </a:lnTo>
                    <a:lnTo>
                      <a:pt x="42" y="5"/>
                    </a:lnTo>
                    <a:lnTo>
                      <a:pt x="37" y="6"/>
                    </a:lnTo>
                    <a:lnTo>
                      <a:pt x="31" y="8"/>
                    </a:lnTo>
                    <a:lnTo>
                      <a:pt x="24" y="9"/>
                    </a:lnTo>
                    <a:lnTo>
                      <a:pt x="16" y="9"/>
                    </a:lnTo>
                    <a:lnTo>
                      <a:pt x="9" y="8"/>
                    </a:lnTo>
                    <a:lnTo>
                      <a:pt x="1" y="8"/>
                    </a:lnTo>
                    <a:lnTo>
                      <a:pt x="0" y="42"/>
                    </a:lnTo>
                    <a:lnTo>
                      <a:pt x="8" y="42"/>
                    </a:lnTo>
                    <a:lnTo>
                      <a:pt x="16" y="44"/>
                    </a:lnTo>
                    <a:lnTo>
                      <a:pt x="26" y="42"/>
                    </a:lnTo>
                    <a:lnTo>
                      <a:pt x="36" y="42"/>
                    </a:lnTo>
                    <a:lnTo>
                      <a:pt x="45" y="40"/>
                    </a:lnTo>
                    <a:lnTo>
                      <a:pt x="55" y="38"/>
                    </a:lnTo>
                    <a:lnTo>
                      <a:pt x="64" y="33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700600" y="496260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54" h="88">
                    <a:moveTo>
                      <a:pt x="20" y="0"/>
                    </a:moveTo>
                    <a:lnTo>
                      <a:pt x="20" y="0"/>
                    </a:lnTo>
                    <a:lnTo>
                      <a:pt x="19" y="10"/>
                    </a:lnTo>
                    <a:lnTo>
                      <a:pt x="18" y="18"/>
                    </a:lnTo>
                    <a:lnTo>
                      <a:pt x="17" y="28"/>
                    </a:lnTo>
                    <a:lnTo>
                      <a:pt x="14" y="36"/>
                    </a:lnTo>
                    <a:lnTo>
                      <a:pt x="12" y="44"/>
                    </a:lnTo>
                    <a:lnTo>
                      <a:pt x="8" y="52"/>
                    </a:lnTo>
                    <a:lnTo>
                      <a:pt x="5" y="58"/>
                    </a:lnTo>
                    <a:lnTo>
                      <a:pt x="0" y="62"/>
                    </a:lnTo>
                    <a:lnTo>
                      <a:pt x="25" y="88"/>
                    </a:lnTo>
                    <a:lnTo>
                      <a:pt x="33" y="78"/>
                    </a:lnTo>
                    <a:lnTo>
                      <a:pt x="39" y="67"/>
                    </a:lnTo>
                    <a:lnTo>
                      <a:pt x="44" y="56"/>
                    </a:lnTo>
                    <a:lnTo>
                      <a:pt x="48" y="46"/>
                    </a:lnTo>
                    <a:lnTo>
                      <a:pt x="50" y="35"/>
                    </a:lnTo>
                    <a:lnTo>
                      <a:pt x="51" y="24"/>
                    </a:lnTo>
                    <a:lnTo>
                      <a:pt x="54" y="13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07080" y="4917960"/>
                <a:ext cx="15480" cy="46080"/>
              </a:xfrm>
              <a:custGeom>
                <a:avLst/>
                <a:gdLst/>
                <a:ahLst/>
                <a:rect l="l" t="t" r="r" b="b"/>
                <a:pathLst>
                  <a:path w="42" h="117">
                    <a:moveTo>
                      <a:pt x="0" y="0"/>
                    </a:moveTo>
                    <a:lnTo>
                      <a:pt x="0" y="0"/>
                    </a:lnTo>
                    <a:lnTo>
                      <a:pt x="1" y="15"/>
                    </a:lnTo>
                    <a:lnTo>
                      <a:pt x="2" y="31"/>
                    </a:lnTo>
                    <a:lnTo>
                      <a:pt x="4" y="45"/>
                    </a:lnTo>
                    <a:lnTo>
                      <a:pt x="5" y="60"/>
                    </a:lnTo>
                    <a:lnTo>
                      <a:pt x="6" y="74"/>
                    </a:lnTo>
                    <a:lnTo>
                      <a:pt x="7" y="87"/>
                    </a:lnTo>
                    <a:lnTo>
                      <a:pt x="7" y="102"/>
                    </a:lnTo>
                    <a:lnTo>
                      <a:pt x="7" y="115"/>
                    </a:lnTo>
                    <a:lnTo>
                      <a:pt x="41" y="117"/>
                    </a:lnTo>
                    <a:lnTo>
                      <a:pt x="42" y="102"/>
                    </a:lnTo>
                    <a:lnTo>
                      <a:pt x="42" y="86"/>
                    </a:lnTo>
                    <a:lnTo>
                      <a:pt x="41" y="72"/>
                    </a:lnTo>
                    <a:lnTo>
                      <a:pt x="40" y="56"/>
                    </a:lnTo>
                    <a:lnTo>
                      <a:pt x="38" y="42"/>
                    </a:lnTo>
                    <a:lnTo>
                      <a:pt x="37" y="27"/>
                    </a:lnTo>
                    <a:lnTo>
                      <a:pt x="36" y="1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707080" y="4892760"/>
                <a:ext cx="15480" cy="25200"/>
              </a:xfrm>
              <a:custGeom>
                <a:avLst/>
                <a:gdLst/>
                <a:ahLst/>
                <a:rect l="l" t="t" r="r" b="b"/>
                <a:pathLst>
                  <a:path w="42" h="63">
                    <a:moveTo>
                      <a:pt x="7" y="0"/>
                    </a:moveTo>
                    <a:lnTo>
                      <a:pt x="7" y="0"/>
                    </a:lnTo>
                    <a:lnTo>
                      <a:pt x="6" y="8"/>
                    </a:lnTo>
                    <a:lnTo>
                      <a:pt x="6" y="15"/>
                    </a:lnTo>
                    <a:lnTo>
                      <a:pt x="5" y="22"/>
                    </a:lnTo>
                    <a:lnTo>
                      <a:pt x="4" y="30"/>
                    </a:lnTo>
                    <a:lnTo>
                      <a:pt x="2" y="38"/>
                    </a:lnTo>
                    <a:lnTo>
                      <a:pt x="1" y="46"/>
                    </a:lnTo>
                    <a:lnTo>
                      <a:pt x="1" y="54"/>
                    </a:lnTo>
                    <a:lnTo>
                      <a:pt x="0" y="63"/>
                    </a:lnTo>
                    <a:lnTo>
                      <a:pt x="35" y="63"/>
                    </a:lnTo>
                    <a:lnTo>
                      <a:pt x="36" y="56"/>
                    </a:lnTo>
                    <a:lnTo>
                      <a:pt x="36" y="50"/>
                    </a:lnTo>
                    <a:lnTo>
                      <a:pt x="37" y="42"/>
                    </a:lnTo>
                    <a:lnTo>
                      <a:pt x="38" y="35"/>
                    </a:lnTo>
                    <a:lnTo>
                      <a:pt x="38" y="27"/>
                    </a:lnTo>
                    <a:lnTo>
                      <a:pt x="40" y="20"/>
                    </a:lnTo>
                    <a:lnTo>
                      <a:pt x="41" y="11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708520" y="486576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37" h="72">
                    <a:moveTo>
                      <a:pt x="2" y="0"/>
                    </a:moveTo>
                    <a:lnTo>
                      <a:pt x="2" y="0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1" y="47"/>
                    </a:lnTo>
                    <a:lnTo>
                      <a:pt x="1" y="55"/>
                    </a:lnTo>
                    <a:lnTo>
                      <a:pt x="2" y="62"/>
                    </a:lnTo>
                    <a:lnTo>
                      <a:pt x="2" y="69"/>
                    </a:lnTo>
                    <a:lnTo>
                      <a:pt x="37" y="72"/>
                    </a:lnTo>
                    <a:lnTo>
                      <a:pt x="37" y="62"/>
                    </a:lnTo>
                    <a:lnTo>
                      <a:pt x="36" y="53"/>
                    </a:lnTo>
                    <a:lnTo>
                      <a:pt x="36" y="44"/>
                    </a:lnTo>
                    <a:lnTo>
                      <a:pt x="35" y="36"/>
                    </a:lnTo>
                    <a:lnTo>
                      <a:pt x="35" y="27"/>
                    </a:lnTo>
                    <a:lnTo>
                      <a:pt x="35" y="20"/>
                    </a:lnTo>
                    <a:lnTo>
                      <a:pt x="35" y="14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708520" y="484488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43" h="58">
                    <a:moveTo>
                      <a:pt x="42" y="0"/>
                    </a:moveTo>
                    <a:lnTo>
                      <a:pt x="42" y="0"/>
                    </a:lnTo>
                    <a:lnTo>
                      <a:pt x="30" y="2"/>
                    </a:lnTo>
                    <a:lnTo>
                      <a:pt x="21" y="8"/>
                    </a:lnTo>
                    <a:lnTo>
                      <a:pt x="15" y="15"/>
                    </a:lnTo>
                    <a:lnTo>
                      <a:pt x="10" y="22"/>
                    </a:lnTo>
                    <a:lnTo>
                      <a:pt x="6" y="29"/>
                    </a:lnTo>
                    <a:lnTo>
                      <a:pt x="4" y="38"/>
                    </a:lnTo>
                    <a:lnTo>
                      <a:pt x="1" y="44"/>
                    </a:lnTo>
                    <a:lnTo>
                      <a:pt x="0" y="51"/>
                    </a:lnTo>
                    <a:lnTo>
                      <a:pt x="34" y="58"/>
                    </a:lnTo>
                    <a:lnTo>
                      <a:pt x="35" y="53"/>
                    </a:lnTo>
                    <a:lnTo>
                      <a:pt x="37" y="47"/>
                    </a:lnTo>
                    <a:lnTo>
                      <a:pt x="39" y="42"/>
                    </a:lnTo>
                    <a:lnTo>
                      <a:pt x="41" y="39"/>
                    </a:lnTo>
                    <a:lnTo>
                      <a:pt x="42" y="35"/>
                    </a:lnTo>
                    <a:lnTo>
                      <a:pt x="43" y="34"/>
                    </a:lnTo>
                    <a:lnTo>
                      <a:pt x="42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726160" y="4844880"/>
                <a:ext cx="32760" cy="28800"/>
              </a:xfrm>
              <a:custGeom>
                <a:avLst/>
                <a:gdLst/>
                <a:ahLst/>
                <a:rect l="l" t="t" r="r" b="b"/>
                <a:pathLst>
                  <a:path w="88" h="71">
                    <a:moveTo>
                      <a:pt x="88" y="50"/>
                    </a:moveTo>
                    <a:lnTo>
                      <a:pt x="88" y="50"/>
                    </a:lnTo>
                    <a:lnTo>
                      <a:pt x="79" y="40"/>
                    </a:lnTo>
                    <a:lnTo>
                      <a:pt x="71" y="32"/>
                    </a:lnTo>
                    <a:lnTo>
                      <a:pt x="61" y="24"/>
                    </a:lnTo>
                    <a:lnTo>
                      <a:pt x="50" y="17"/>
                    </a:lnTo>
                    <a:lnTo>
                      <a:pt x="40" y="11"/>
                    </a:lnTo>
                    <a:lnTo>
                      <a:pt x="28" y="5"/>
                    </a:lnTo>
                    <a:lnTo>
                      <a:pt x="14" y="2"/>
                    </a:lnTo>
                    <a:lnTo>
                      <a:pt x="1" y="0"/>
                    </a:lnTo>
                    <a:lnTo>
                      <a:pt x="0" y="35"/>
                    </a:lnTo>
                    <a:lnTo>
                      <a:pt x="7" y="36"/>
                    </a:lnTo>
                    <a:lnTo>
                      <a:pt x="16" y="39"/>
                    </a:lnTo>
                    <a:lnTo>
                      <a:pt x="24" y="41"/>
                    </a:lnTo>
                    <a:lnTo>
                      <a:pt x="32" y="46"/>
                    </a:lnTo>
                    <a:lnTo>
                      <a:pt x="40" y="52"/>
                    </a:lnTo>
                    <a:lnTo>
                      <a:pt x="48" y="58"/>
                    </a:lnTo>
                    <a:lnTo>
                      <a:pt x="54" y="65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88" y="5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49920" y="4863960"/>
                <a:ext cx="28080" cy="44640"/>
              </a:xfrm>
              <a:custGeom>
                <a:avLst/>
                <a:gdLst/>
                <a:ahLst/>
                <a:rect l="l" t="t" r="r" b="b"/>
                <a:pathLst>
                  <a:path w="72" h="109">
                    <a:moveTo>
                      <a:pt x="72" y="96"/>
                    </a:moveTo>
                    <a:lnTo>
                      <a:pt x="72" y="96"/>
                    </a:lnTo>
                    <a:lnTo>
                      <a:pt x="67" y="85"/>
                    </a:lnTo>
                    <a:lnTo>
                      <a:pt x="63" y="73"/>
                    </a:lnTo>
                    <a:lnTo>
                      <a:pt x="59" y="61"/>
                    </a:lnTo>
                    <a:lnTo>
                      <a:pt x="54" y="48"/>
                    </a:lnTo>
                    <a:lnTo>
                      <a:pt x="48" y="36"/>
                    </a:lnTo>
                    <a:lnTo>
                      <a:pt x="42" y="22"/>
                    </a:lnTo>
                    <a:lnTo>
                      <a:pt x="35" y="10"/>
                    </a:lnTo>
                    <a:lnTo>
                      <a:pt x="27" y="0"/>
                    </a:lnTo>
                    <a:lnTo>
                      <a:pt x="0" y="21"/>
                    </a:lnTo>
                    <a:lnTo>
                      <a:pt x="6" y="30"/>
                    </a:lnTo>
                    <a:lnTo>
                      <a:pt x="12" y="39"/>
                    </a:lnTo>
                    <a:lnTo>
                      <a:pt x="17" y="50"/>
                    </a:lnTo>
                    <a:lnTo>
                      <a:pt x="22" y="61"/>
                    </a:lnTo>
                    <a:lnTo>
                      <a:pt x="27" y="73"/>
                    </a:lnTo>
                    <a:lnTo>
                      <a:pt x="30" y="85"/>
                    </a:lnTo>
                    <a:lnTo>
                      <a:pt x="35" y="97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72" y="9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65760" y="4902120"/>
                <a:ext cx="34560" cy="60480"/>
              </a:xfrm>
              <a:custGeom>
                <a:avLst/>
                <a:gdLst/>
                <a:ahLst/>
                <a:rect l="l" t="t" r="r" b="b"/>
                <a:pathLst>
                  <a:path w="87" h="148">
                    <a:moveTo>
                      <a:pt x="87" y="134"/>
                    </a:moveTo>
                    <a:lnTo>
                      <a:pt x="87" y="134"/>
                    </a:lnTo>
                    <a:lnTo>
                      <a:pt x="80" y="117"/>
                    </a:lnTo>
                    <a:lnTo>
                      <a:pt x="73" y="100"/>
                    </a:lnTo>
                    <a:lnTo>
                      <a:pt x="67" y="84"/>
                    </a:lnTo>
                    <a:lnTo>
                      <a:pt x="60" y="67"/>
                    </a:lnTo>
                    <a:lnTo>
                      <a:pt x="53" y="50"/>
                    </a:lnTo>
                    <a:lnTo>
                      <a:pt x="47" y="33"/>
                    </a:lnTo>
                    <a:lnTo>
                      <a:pt x="39" y="16"/>
                    </a:lnTo>
                    <a:lnTo>
                      <a:pt x="32" y="0"/>
                    </a:lnTo>
                    <a:lnTo>
                      <a:pt x="0" y="13"/>
                    </a:lnTo>
                    <a:lnTo>
                      <a:pt x="7" y="30"/>
                    </a:lnTo>
                    <a:lnTo>
                      <a:pt x="14" y="46"/>
                    </a:lnTo>
                    <a:lnTo>
                      <a:pt x="21" y="63"/>
                    </a:lnTo>
                    <a:lnTo>
                      <a:pt x="27" y="80"/>
                    </a:lnTo>
                    <a:lnTo>
                      <a:pt x="35" y="97"/>
                    </a:lnTo>
                    <a:lnTo>
                      <a:pt x="42" y="114"/>
                    </a:lnTo>
                    <a:lnTo>
                      <a:pt x="48" y="130"/>
                    </a:lnTo>
                    <a:lnTo>
                      <a:pt x="55" y="148"/>
                    </a:lnTo>
                    <a:lnTo>
                      <a:pt x="55" y="148"/>
                    </a:lnTo>
                    <a:lnTo>
                      <a:pt x="87" y="13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5788080" y="4956120"/>
              <a:ext cx="25200" cy="38160"/>
            </a:xfrm>
            <a:custGeom>
              <a:avLst/>
              <a:gdLst/>
              <a:ahLst/>
              <a:rect l="l" t="t" r="r" b="b"/>
              <a:pathLst>
                <a:path w="67" h="96">
                  <a:moveTo>
                    <a:pt x="67" y="77"/>
                  </a:moveTo>
                  <a:lnTo>
                    <a:pt x="67" y="77"/>
                  </a:lnTo>
                  <a:lnTo>
                    <a:pt x="62" y="68"/>
                  </a:lnTo>
                  <a:lnTo>
                    <a:pt x="58" y="60"/>
                  </a:lnTo>
                  <a:lnTo>
                    <a:pt x="53" y="50"/>
                  </a:lnTo>
                  <a:lnTo>
                    <a:pt x="49" y="41"/>
                  </a:lnTo>
                  <a:lnTo>
                    <a:pt x="44" y="31"/>
                  </a:lnTo>
                  <a:lnTo>
                    <a:pt x="41" y="22"/>
                  </a:lnTo>
                  <a:lnTo>
                    <a:pt x="37" y="11"/>
                  </a:lnTo>
                  <a:lnTo>
                    <a:pt x="32" y="0"/>
                  </a:lnTo>
                  <a:lnTo>
                    <a:pt x="0" y="14"/>
                  </a:lnTo>
                  <a:lnTo>
                    <a:pt x="5" y="24"/>
                  </a:lnTo>
                  <a:lnTo>
                    <a:pt x="8" y="34"/>
                  </a:lnTo>
                  <a:lnTo>
                    <a:pt x="12" y="44"/>
                  </a:lnTo>
                  <a:lnTo>
                    <a:pt x="17" y="55"/>
                  </a:lnTo>
                  <a:lnTo>
                    <a:pt x="22" y="65"/>
                  </a:lnTo>
                  <a:lnTo>
                    <a:pt x="26" y="76"/>
                  </a:lnTo>
                  <a:lnTo>
                    <a:pt x="32" y="86"/>
                  </a:lnTo>
                  <a:lnTo>
                    <a:pt x="38" y="96"/>
                  </a:lnTo>
                  <a:lnTo>
                    <a:pt x="38" y="96"/>
                  </a:lnTo>
                  <a:lnTo>
                    <a:pt x="67" y="7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802480" y="4986360"/>
              <a:ext cx="37800" cy="38160"/>
            </a:xfrm>
            <a:custGeom>
              <a:avLst/>
              <a:gdLst/>
              <a:ahLst/>
              <a:rect l="l" t="t" r="r" b="b"/>
              <a:pathLst>
                <a:path w="94" h="96">
                  <a:moveTo>
                    <a:pt x="94" y="71"/>
                  </a:moveTo>
                  <a:lnTo>
                    <a:pt x="94" y="71"/>
                  </a:lnTo>
                  <a:lnTo>
                    <a:pt x="86" y="62"/>
                  </a:lnTo>
                  <a:lnTo>
                    <a:pt x="76" y="54"/>
                  </a:lnTo>
                  <a:lnTo>
                    <a:pt x="68" y="45"/>
                  </a:lnTo>
                  <a:lnTo>
                    <a:pt x="59" y="37"/>
                  </a:lnTo>
                  <a:lnTo>
                    <a:pt x="51" y="27"/>
                  </a:lnTo>
                  <a:lnTo>
                    <a:pt x="44" y="19"/>
                  </a:lnTo>
                  <a:lnTo>
                    <a:pt x="36" y="9"/>
                  </a:lnTo>
                  <a:lnTo>
                    <a:pt x="29" y="0"/>
                  </a:lnTo>
                  <a:lnTo>
                    <a:pt x="0" y="19"/>
                  </a:lnTo>
                  <a:lnTo>
                    <a:pt x="9" y="30"/>
                  </a:lnTo>
                  <a:lnTo>
                    <a:pt x="17" y="41"/>
                  </a:lnTo>
                  <a:lnTo>
                    <a:pt x="26" y="50"/>
                  </a:lnTo>
                  <a:lnTo>
                    <a:pt x="34" y="60"/>
                  </a:lnTo>
                  <a:lnTo>
                    <a:pt x="44" y="69"/>
                  </a:lnTo>
                  <a:lnTo>
                    <a:pt x="52" y="79"/>
                  </a:lnTo>
                  <a:lnTo>
                    <a:pt x="62" y="87"/>
                  </a:lnTo>
                  <a:lnTo>
                    <a:pt x="71" y="96"/>
                  </a:lnTo>
                  <a:lnTo>
                    <a:pt x="71" y="96"/>
                  </a:lnTo>
                  <a:lnTo>
                    <a:pt x="94" y="7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830920" y="5014800"/>
              <a:ext cx="46080" cy="42840"/>
            </a:xfrm>
            <a:custGeom>
              <a:avLst/>
              <a:gdLst/>
              <a:ahLst/>
              <a:rect l="l" t="t" r="r" b="b"/>
              <a:pathLst>
                <a:path w="118" h="107">
                  <a:moveTo>
                    <a:pt x="118" y="76"/>
                  </a:moveTo>
                  <a:lnTo>
                    <a:pt x="118" y="76"/>
                  </a:lnTo>
                  <a:lnTo>
                    <a:pt x="105" y="69"/>
                  </a:lnTo>
                  <a:lnTo>
                    <a:pt x="93" y="62"/>
                  </a:lnTo>
                  <a:lnTo>
                    <a:pt x="81" y="52"/>
                  </a:lnTo>
                  <a:lnTo>
                    <a:pt x="70" y="43"/>
                  </a:lnTo>
                  <a:lnTo>
                    <a:pt x="58" y="32"/>
                  </a:lnTo>
                  <a:lnTo>
                    <a:pt x="47" y="21"/>
                  </a:lnTo>
                  <a:lnTo>
                    <a:pt x="35" y="10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11" y="35"/>
                  </a:lnTo>
                  <a:lnTo>
                    <a:pt x="23" y="46"/>
                  </a:lnTo>
                  <a:lnTo>
                    <a:pt x="35" y="58"/>
                  </a:lnTo>
                  <a:lnTo>
                    <a:pt x="47" y="69"/>
                  </a:lnTo>
                  <a:lnTo>
                    <a:pt x="59" y="80"/>
                  </a:lnTo>
                  <a:lnTo>
                    <a:pt x="72" y="89"/>
                  </a:lnTo>
                  <a:lnTo>
                    <a:pt x="87" y="99"/>
                  </a:lnTo>
                  <a:lnTo>
                    <a:pt x="102" y="107"/>
                  </a:lnTo>
                  <a:lnTo>
                    <a:pt x="102" y="107"/>
                  </a:lnTo>
                  <a:lnTo>
                    <a:pt x="118" y="7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870520" y="5045040"/>
              <a:ext cx="42840" cy="20520"/>
            </a:xfrm>
            <a:custGeom>
              <a:avLst/>
              <a:gdLst/>
              <a:ahLst/>
              <a:rect l="l" t="t" r="r" b="b"/>
              <a:pathLst>
                <a:path w="107" h="52">
                  <a:moveTo>
                    <a:pt x="107" y="17"/>
                  </a:moveTo>
                  <a:lnTo>
                    <a:pt x="107" y="17"/>
                  </a:lnTo>
                  <a:lnTo>
                    <a:pt x="94" y="16"/>
                  </a:lnTo>
                  <a:lnTo>
                    <a:pt x="82" y="16"/>
                  </a:lnTo>
                  <a:lnTo>
                    <a:pt x="70" y="15"/>
                  </a:lnTo>
                  <a:lnTo>
                    <a:pt x="58" y="12"/>
                  </a:lnTo>
                  <a:lnTo>
                    <a:pt x="47" y="11"/>
                  </a:lnTo>
                  <a:lnTo>
                    <a:pt x="36" y="7"/>
                  </a:lnTo>
                  <a:lnTo>
                    <a:pt x="25" y="5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3" y="37"/>
                  </a:lnTo>
                  <a:lnTo>
                    <a:pt x="27" y="41"/>
                  </a:lnTo>
                  <a:lnTo>
                    <a:pt x="40" y="45"/>
                  </a:lnTo>
                  <a:lnTo>
                    <a:pt x="53" y="47"/>
                  </a:lnTo>
                  <a:lnTo>
                    <a:pt x="66" y="48"/>
                  </a:lnTo>
                  <a:lnTo>
                    <a:pt x="79" y="49"/>
                  </a:lnTo>
                  <a:lnTo>
                    <a:pt x="93" y="51"/>
                  </a:lnTo>
                  <a:lnTo>
                    <a:pt x="105" y="52"/>
                  </a:lnTo>
                  <a:lnTo>
                    <a:pt x="105" y="52"/>
                  </a:lnTo>
                  <a:lnTo>
                    <a:pt x="107" y="1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911920" y="5049720"/>
              <a:ext cx="50760" cy="15840"/>
            </a:xfrm>
            <a:custGeom>
              <a:avLst/>
              <a:gdLst/>
              <a:ahLst/>
              <a:rect l="l" t="t" r="r" b="b"/>
              <a:pathLst>
                <a:path w="127" h="42">
                  <a:moveTo>
                    <a:pt x="121" y="0"/>
                  </a:moveTo>
                  <a:lnTo>
                    <a:pt x="121" y="0"/>
                  </a:lnTo>
                  <a:lnTo>
                    <a:pt x="105" y="2"/>
                  </a:lnTo>
                  <a:lnTo>
                    <a:pt x="91" y="4"/>
                  </a:lnTo>
                  <a:lnTo>
                    <a:pt x="76" y="5"/>
                  </a:lnTo>
                  <a:lnTo>
                    <a:pt x="62" y="6"/>
                  </a:lnTo>
                  <a:lnTo>
                    <a:pt x="46" y="7"/>
                  </a:lnTo>
                  <a:lnTo>
                    <a:pt x="32" y="7"/>
                  </a:lnTo>
                  <a:lnTo>
                    <a:pt x="16" y="6"/>
                  </a:lnTo>
                  <a:lnTo>
                    <a:pt x="2" y="6"/>
                  </a:lnTo>
                  <a:lnTo>
                    <a:pt x="0" y="41"/>
                  </a:lnTo>
                  <a:lnTo>
                    <a:pt x="15" y="41"/>
                  </a:lnTo>
                  <a:lnTo>
                    <a:pt x="31" y="42"/>
                  </a:lnTo>
                  <a:lnTo>
                    <a:pt x="48" y="42"/>
                  </a:lnTo>
                  <a:lnTo>
                    <a:pt x="63" y="41"/>
                  </a:lnTo>
                  <a:lnTo>
                    <a:pt x="79" y="40"/>
                  </a:lnTo>
                  <a:lnTo>
                    <a:pt x="94" y="38"/>
                  </a:lnTo>
                  <a:lnTo>
                    <a:pt x="111" y="36"/>
                  </a:lnTo>
                  <a:lnTo>
                    <a:pt x="127" y="34"/>
                  </a:lnTo>
                  <a:lnTo>
                    <a:pt x="127" y="3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61240" y="5038560"/>
              <a:ext cx="36360" cy="24120"/>
            </a:xfrm>
            <a:custGeom>
              <a:avLst/>
              <a:gdLst/>
              <a:ahLst/>
              <a:rect l="l" t="t" r="r" b="b"/>
              <a:pathLst>
                <a:path w="92" h="62">
                  <a:moveTo>
                    <a:pt x="72" y="0"/>
                  </a:moveTo>
                  <a:lnTo>
                    <a:pt x="72" y="0"/>
                  </a:lnTo>
                  <a:lnTo>
                    <a:pt x="65" y="5"/>
                  </a:lnTo>
                  <a:lnTo>
                    <a:pt x="56" y="10"/>
                  </a:lnTo>
                  <a:lnTo>
                    <a:pt x="48" y="15"/>
                  </a:lnTo>
                  <a:lnTo>
                    <a:pt x="38" y="18"/>
                  </a:lnTo>
                  <a:lnTo>
                    <a:pt x="29" y="21"/>
                  </a:lnTo>
                  <a:lnTo>
                    <a:pt x="19" y="23"/>
                  </a:lnTo>
                  <a:lnTo>
                    <a:pt x="9" y="26"/>
                  </a:lnTo>
                  <a:lnTo>
                    <a:pt x="0" y="28"/>
                  </a:lnTo>
                  <a:lnTo>
                    <a:pt x="6" y="62"/>
                  </a:lnTo>
                  <a:lnTo>
                    <a:pt x="17" y="60"/>
                  </a:lnTo>
                  <a:lnTo>
                    <a:pt x="27" y="57"/>
                  </a:lnTo>
                  <a:lnTo>
                    <a:pt x="39" y="54"/>
                  </a:lnTo>
                  <a:lnTo>
                    <a:pt x="50" y="51"/>
                  </a:lnTo>
                  <a:lnTo>
                    <a:pt x="61" y="46"/>
                  </a:lnTo>
                  <a:lnTo>
                    <a:pt x="72" y="41"/>
                  </a:lnTo>
                  <a:lnTo>
                    <a:pt x="83" y="35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89680" y="5014800"/>
              <a:ext cx="30240" cy="3492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43" y="8"/>
                  </a:moveTo>
                  <a:lnTo>
                    <a:pt x="43" y="8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38" y="23"/>
                  </a:lnTo>
                  <a:lnTo>
                    <a:pt x="32" y="30"/>
                  </a:lnTo>
                  <a:lnTo>
                    <a:pt x="25" y="37"/>
                  </a:lnTo>
                  <a:lnTo>
                    <a:pt x="17" y="44"/>
                  </a:lnTo>
                  <a:lnTo>
                    <a:pt x="8" y="51"/>
                  </a:lnTo>
                  <a:lnTo>
                    <a:pt x="0" y="57"/>
                  </a:lnTo>
                  <a:lnTo>
                    <a:pt x="20" y="85"/>
                  </a:lnTo>
                  <a:lnTo>
                    <a:pt x="30" y="79"/>
                  </a:lnTo>
                  <a:lnTo>
                    <a:pt x="39" y="71"/>
                  </a:lnTo>
                  <a:lnTo>
                    <a:pt x="49" y="62"/>
                  </a:lnTo>
                  <a:lnTo>
                    <a:pt x="59" y="53"/>
                  </a:lnTo>
                  <a:lnTo>
                    <a:pt x="67" y="42"/>
                  </a:lnTo>
                  <a:lnTo>
                    <a:pt x="73" y="31"/>
                  </a:lnTo>
                  <a:lnTo>
                    <a:pt x="77" y="23"/>
                  </a:lnTo>
                  <a:lnTo>
                    <a:pt x="78" y="15"/>
                  </a:lnTo>
                  <a:lnTo>
                    <a:pt x="78" y="7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43" y="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78520" y="4994280"/>
              <a:ext cx="41400" cy="25560"/>
            </a:xfrm>
            <a:custGeom>
              <a:avLst/>
              <a:gdLst/>
              <a:ahLst/>
              <a:rect l="l" t="t" r="r" b="b"/>
              <a:pathLst>
                <a:path w="103" h="63">
                  <a:moveTo>
                    <a:pt x="0" y="32"/>
                  </a:moveTo>
                  <a:lnTo>
                    <a:pt x="0" y="32"/>
                  </a:lnTo>
                  <a:lnTo>
                    <a:pt x="13" y="37"/>
                  </a:lnTo>
                  <a:lnTo>
                    <a:pt x="25" y="41"/>
                  </a:lnTo>
                  <a:lnTo>
                    <a:pt x="37" y="44"/>
                  </a:lnTo>
                  <a:lnTo>
                    <a:pt x="48" y="48"/>
                  </a:lnTo>
                  <a:lnTo>
                    <a:pt x="58" y="51"/>
                  </a:lnTo>
                  <a:lnTo>
                    <a:pt x="65" y="56"/>
                  </a:lnTo>
                  <a:lnTo>
                    <a:pt x="66" y="57"/>
                  </a:lnTo>
                  <a:lnTo>
                    <a:pt x="69" y="60"/>
                  </a:lnTo>
                  <a:lnTo>
                    <a:pt x="70" y="61"/>
                  </a:lnTo>
                  <a:lnTo>
                    <a:pt x="71" y="63"/>
                  </a:lnTo>
                  <a:lnTo>
                    <a:pt x="103" y="55"/>
                  </a:lnTo>
                  <a:lnTo>
                    <a:pt x="101" y="47"/>
                  </a:lnTo>
                  <a:lnTo>
                    <a:pt x="96" y="39"/>
                  </a:lnTo>
                  <a:lnTo>
                    <a:pt x="91" y="33"/>
                  </a:lnTo>
                  <a:lnTo>
                    <a:pt x="85" y="27"/>
                  </a:lnTo>
                  <a:lnTo>
                    <a:pt x="73" y="20"/>
                  </a:lnTo>
                  <a:lnTo>
                    <a:pt x="60" y="15"/>
                  </a:lnTo>
                  <a:lnTo>
                    <a:pt x="48" y="11"/>
                  </a:lnTo>
                  <a:lnTo>
                    <a:pt x="35" y="7"/>
                  </a:lnTo>
                  <a:lnTo>
                    <a:pt x="2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35680" y="4979880"/>
              <a:ext cx="47520" cy="2700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0" y="31"/>
                  </a:moveTo>
                  <a:lnTo>
                    <a:pt x="0" y="31"/>
                  </a:lnTo>
                  <a:lnTo>
                    <a:pt x="14" y="37"/>
                  </a:lnTo>
                  <a:lnTo>
                    <a:pt x="27" y="43"/>
                  </a:lnTo>
                  <a:lnTo>
                    <a:pt x="42" y="48"/>
                  </a:lnTo>
                  <a:lnTo>
                    <a:pt x="55" y="51"/>
                  </a:lnTo>
                  <a:lnTo>
                    <a:pt x="68" y="55"/>
                  </a:lnTo>
                  <a:lnTo>
                    <a:pt x="81" y="60"/>
                  </a:lnTo>
                  <a:lnTo>
                    <a:pt x="93" y="63"/>
                  </a:lnTo>
                  <a:lnTo>
                    <a:pt x="105" y="68"/>
                  </a:lnTo>
                  <a:lnTo>
                    <a:pt x="120" y="36"/>
                  </a:lnTo>
                  <a:lnTo>
                    <a:pt x="105" y="31"/>
                  </a:lnTo>
                  <a:lnTo>
                    <a:pt x="92" y="26"/>
                  </a:lnTo>
                  <a:lnTo>
                    <a:pt x="78" y="23"/>
                  </a:lnTo>
                  <a:lnTo>
                    <a:pt x="64" y="18"/>
                  </a:lnTo>
                  <a:lnTo>
                    <a:pt x="51" y="14"/>
                  </a:lnTo>
                  <a:lnTo>
                    <a:pt x="39" y="11"/>
                  </a:lnTo>
                  <a:lnTo>
                    <a:pt x="27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11920" y="4962600"/>
              <a:ext cx="31680" cy="2844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0" y="20"/>
                  </a:moveTo>
                  <a:lnTo>
                    <a:pt x="0" y="20"/>
                  </a:lnTo>
                  <a:lnTo>
                    <a:pt x="6" y="27"/>
                  </a:lnTo>
                  <a:lnTo>
                    <a:pt x="12" y="36"/>
                  </a:lnTo>
                  <a:lnTo>
                    <a:pt x="19" y="43"/>
                  </a:lnTo>
                  <a:lnTo>
                    <a:pt x="26" y="50"/>
                  </a:lnTo>
                  <a:lnTo>
                    <a:pt x="34" y="57"/>
                  </a:lnTo>
                  <a:lnTo>
                    <a:pt x="43" y="63"/>
                  </a:lnTo>
                  <a:lnTo>
                    <a:pt x="51" y="69"/>
                  </a:lnTo>
                  <a:lnTo>
                    <a:pt x="60" y="74"/>
                  </a:lnTo>
                  <a:lnTo>
                    <a:pt x="76" y="43"/>
                  </a:lnTo>
                  <a:lnTo>
                    <a:pt x="69" y="39"/>
                  </a:lnTo>
                  <a:lnTo>
                    <a:pt x="62" y="34"/>
                  </a:lnTo>
                  <a:lnTo>
                    <a:pt x="56" y="30"/>
                  </a:lnTo>
                  <a:lnTo>
                    <a:pt x="50" y="24"/>
                  </a:lnTo>
                  <a:lnTo>
                    <a:pt x="43" y="19"/>
                  </a:lnTo>
                  <a:lnTo>
                    <a:pt x="38" y="13"/>
                  </a:lnTo>
                  <a:lnTo>
                    <a:pt x="32" y="6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99320" y="4938840"/>
              <a:ext cx="23760" cy="3168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0" y="8"/>
                  </a:moveTo>
                  <a:lnTo>
                    <a:pt x="0" y="8"/>
                  </a:lnTo>
                  <a:lnTo>
                    <a:pt x="2" y="17"/>
                  </a:lnTo>
                  <a:lnTo>
                    <a:pt x="6" y="28"/>
                  </a:lnTo>
                  <a:lnTo>
                    <a:pt x="9" y="38"/>
                  </a:lnTo>
                  <a:lnTo>
                    <a:pt x="13" y="47"/>
                  </a:lnTo>
                  <a:lnTo>
                    <a:pt x="18" y="56"/>
                  </a:lnTo>
                  <a:lnTo>
                    <a:pt x="23" y="65"/>
                  </a:lnTo>
                  <a:lnTo>
                    <a:pt x="29" y="74"/>
                  </a:lnTo>
                  <a:lnTo>
                    <a:pt x="35" y="82"/>
                  </a:lnTo>
                  <a:lnTo>
                    <a:pt x="62" y="62"/>
                  </a:lnTo>
                  <a:lnTo>
                    <a:pt x="57" y="54"/>
                  </a:lnTo>
                  <a:lnTo>
                    <a:pt x="53" y="47"/>
                  </a:lnTo>
                  <a:lnTo>
                    <a:pt x="49" y="40"/>
                  </a:lnTo>
                  <a:lnTo>
                    <a:pt x="45" y="32"/>
                  </a:lnTo>
                  <a:lnTo>
                    <a:pt x="42" y="24"/>
                  </a:lnTo>
                  <a:lnTo>
                    <a:pt x="38" y="16"/>
                  </a:lnTo>
                  <a:lnTo>
                    <a:pt x="36" y="9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97520" y="4915080"/>
              <a:ext cx="14400" cy="2520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15" y="0"/>
                  </a:moveTo>
                  <a:lnTo>
                    <a:pt x="15" y="0"/>
                  </a:lnTo>
                  <a:lnTo>
                    <a:pt x="8" y="7"/>
                  </a:lnTo>
                  <a:lnTo>
                    <a:pt x="4" y="17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3" y="65"/>
                  </a:lnTo>
                  <a:lnTo>
                    <a:pt x="38" y="57"/>
                  </a:lnTo>
                  <a:lnTo>
                    <a:pt x="36" y="51"/>
                  </a:lnTo>
                  <a:lnTo>
                    <a:pt x="35" y="47"/>
                  </a:lnTo>
                  <a:lnTo>
                    <a:pt x="35" y="41"/>
                  </a:lnTo>
                  <a:lnTo>
                    <a:pt x="35" y="36"/>
                  </a:lnTo>
                  <a:lnTo>
                    <a:pt x="35" y="31"/>
                  </a:lnTo>
                  <a:lnTo>
                    <a:pt x="36" y="29"/>
                  </a:lnTo>
                  <a:lnTo>
                    <a:pt x="38" y="26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04000" y="4908600"/>
              <a:ext cx="28440" cy="1584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74" y="1"/>
                  </a:moveTo>
                  <a:lnTo>
                    <a:pt x="74" y="1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38" y="1"/>
                  </a:lnTo>
                  <a:lnTo>
                    <a:pt x="27" y="2"/>
                  </a:lnTo>
                  <a:lnTo>
                    <a:pt x="18" y="6"/>
                  </a:lnTo>
                  <a:lnTo>
                    <a:pt x="8" y="11"/>
                  </a:lnTo>
                  <a:lnTo>
                    <a:pt x="0" y="18"/>
                  </a:lnTo>
                  <a:lnTo>
                    <a:pt x="23" y="43"/>
                  </a:lnTo>
                  <a:lnTo>
                    <a:pt x="26" y="41"/>
                  </a:lnTo>
                  <a:lnTo>
                    <a:pt x="31" y="38"/>
                  </a:lnTo>
                  <a:lnTo>
                    <a:pt x="37" y="37"/>
                  </a:lnTo>
                  <a:lnTo>
                    <a:pt x="43" y="36"/>
                  </a:lnTo>
                  <a:lnTo>
                    <a:pt x="49" y="35"/>
                  </a:lnTo>
                  <a:lnTo>
                    <a:pt x="56" y="35"/>
                  </a:lnTo>
                  <a:lnTo>
                    <a:pt x="65" y="35"/>
                  </a:lnTo>
                  <a:lnTo>
                    <a:pt x="72" y="35"/>
                  </a:lnTo>
                  <a:lnTo>
                    <a:pt x="72" y="35"/>
                  </a:lnTo>
                  <a:lnTo>
                    <a:pt x="74" y="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932440" y="4908600"/>
              <a:ext cx="33480" cy="2376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84" y="24"/>
                  </a:moveTo>
                  <a:lnTo>
                    <a:pt x="84" y="24"/>
                  </a:lnTo>
                  <a:lnTo>
                    <a:pt x="75" y="22"/>
                  </a:lnTo>
                  <a:lnTo>
                    <a:pt x="66" y="19"/>
                  </a:lnTo>
                  <a:lnTo>
                    <a:pt x="57" y="16"/>
                  </a:lnTo>
                  <a:lnTo>
                    <a:pt x="47" y="12"/>
                  </a:lnTo>
                  <a:lnTo>
                    <a:pt x="37" y="7"/>
                  </a:lnTo>
                  <a:lnTo>
                    <a:pt x="26" y="5"/>
                  </a:lnTo>
                  <a:lnTo>
                    <a:pt x="14" y="1"/>
                  </a:lnTo>
                  <a:lnTo>
                    <a:pt x="2" y="0"/>
                  </a:lnTo>
                  <a:lnTo>
                    <a:pt x="0" y="34"/>
                  </a:lnTo>
                  <a:lnTo>
                    <a:pt x="8" y="35"/>
                  </a:lnTo>
                  <a:lnTo>
                    <a:pt x="17" y="37"/>
                  </a:lnTo>
                  <a:lnTo>
                    <a:pt x="25" y="41"/>
                  </a:lnTo>
                  <a:lnTo>
                    <a:pt x="35" y="44"/>
                  </a:lnTo>
                  <a:lnTo>
                    <a:pt x="44" y="48"/>
                  </a:lnTo>
                  <a:lnTo>
                    <a:pt x="55" y="52"/>
                  </a:lnTo>
                  <a:lnTo>
                    <a:pt x="66" y="55"/>
                  </a:lnTo>
                  <a:lnTo>
                    <a:pt x="77" y="59"/>
                  </a:lnTo>
                  <a:lnTo>
                    <a:pt x="77" y="59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62680" y="4917960"/>
              <a:ext cx="41400" cy="19080"/>
            </a:xfrm>
            <a:custGeom>
              <a:avLst/>
              <a:gdLst/>
              <a:ahLst/>
              <a:rect l="l" t="t" r="r" b="b"/>
              <a:pathLst>
                <a:path w="103" h="47">
                  <a:moveTo>
                    <a:pt x="103" y="12"/>
                  </a:moveTo>
                  <a:lnTo>
                    <a:pt x="103" y="12"/>
                  </a:lnTo>
                  <a:lnTo>
                    <a:pt x="91" y="12"/>
                  </a:lnTo>
                  <a:lnTo>
                    <a:pt x="79" y="11"/>
                  </a:lnTo>
                  <a:lnTo>
                    <a:pt x="67" y="10"/>
                  </a:lnTo>
                  <a:lnTo>
                    <a:pt x="55" y="8"/>
                  </a:lnTo>
                  <a:lnTo>
                    <a:pt x="43" y="6"/>
                  </a:lnTo>
                  <a:lnTo>
                    <a:pt x="31" y="5"/>
                  </a:lnTo>
                  <a:lnTo>
                    <a:pt x="19" y="2"/>
                  </a:lnTo>
                  <a:lnTo>
                    <a:pt x="7" y="0"/>
                  </a:lnTo>
                  <a:lnTo>
                    <a:pt x="0" y="35"/>
                  </a:lnTo>
                  <a:lnTo>
                    <a:pt x="13" y="37"/>
                  </a:lnTo>
                  <a:lnTo>
                    <a:pt x="25" y="38"/>
                  </a:lnTo>
                  <a:lnTo>
                    <a:pt x="38" y="41"/>
                  </a:lnTo>
                  <a:lnTo>
                    <a:pt x="50" y="42"/>
                  </a:lnTo>
                  <a:lnTo>
                    <a:pt x="63" y="44"/>
                  </a:lnTo>
                  <a:lnTo>
                    <a:pt x="75" y="46"/>
                  </a:lnTo>
                  <a:lnTo>
                    <a:pt x="88" y="46"/>
                  </a:lnTo>
                  <a:lnTo>
                    <a:pt x="100" y="47"/>
                  </a:lnTo>
                  <a:lnTo>
                    <a:pt x="100" y="47"/>
                  </a:lnTo>
                  <a:lnTo>
                    <a:pt x="103" y="1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002280" y="4923000"/>
              <a:ext cx="44640" cy="14040"/>
            </a:xfrm>
            <a:custGeom>
              <a:avLst/>
              <a:gdLst/>
              <a:ahLst/>
              <a:rect l="l" t="t" r="r" b="b"/>
              <a:pathLst>
                <a:path w="112" h="36">
                  <a:moveTo>
                    <a:pt x="112" y="0"/>
                  </a:moveTo>
                  <a:lnTo>
                    <a:pt x="112" y="0"/>
                  </a:lnTo>
                  <a:lnTo>
                    <a:pt x="98" y="1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1"/>
                  </a:lnTo>
                  <a:lnTo>
                    <a:pt x="44" y="1"/>
                  </a:lnTo>
                  <a:lnTo>
                    <a:pt x="29" y="1"/>
                  </a:lnTo>
                  <a:lnTo>
                    <a:pt x="16" y="1"/>
                  </a:lnTo>
                  <a:lnTo>
                    <a:pt x="3" y="0"/>
                  </a:lnTo>
                  <a:lnTo>
                    <a:pt x="0" y="35"/>
                  </a:lnTo>
                  <a:lnTo>
                    <a:pt x="15" y="36"/>
                  </a:lnTo>
                  <a:lnTo>
                    <a:pt x="29" y="36"/>
                  </a:lnTo>
                  <a:lnTo>
                    <a:pt x="42" y="36"/>
                  </a:lnTo>
                  <a:lnTo>
                    <a:pt x="57" y="36"/>
                  </a:lnTo>
                  <a:lnTo>
                    <a:pt x="71" y="36"/>
                  </a:lnTo>
                  <a:lnTo>
                    <a:pt x="84" y="36"/>
                  </a:lnTo>
                  <a:lnTo>
                    <a:pt x="99" y="35"/>
                  </a:lnTo>
                  <a:lnTo>
                    <a:pt x="112" y="35"/>
                  </a:lnTo>
                  <a:lnTo>
                    <a:pt x="112" y="3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046920" y="4919760"/>
              <a:ext cx="29880" cy="1728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7" y="1"/>
                  </a:moveTo>
                  <a:lnTo>
                    <a:pt x="77" y="1"/>
                  </a:lnTo>
                  <a:lnTo>
                    <a:pt x="66" y="0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5" y="2"/>
                  </a:lnTo>
                  <a:lnTo>
                    <a:pt x="25" y="3"/>
                  </a:lnTo>
                  <a:lnTo>
                    <a:pt x="16" y="6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42"/>
                  </a:lnTo>
                  <a:lnTo>
                    <a:pt x="11" y="41"/>
                  </a:lnTo>
                  <a:lnTo>
                    <a:pt x="22" y="39"/>
                  </a:lnTo>
                  <a:lnTo>
                    <a:pt x="31" y="38"/>
                  </a:lnTo>
                  <a:lnTo>
                    <a:pt x="40" y="37"/>
                  </a:lnTo>
                  <a:lnTo>
                    <a:pt x="48" y="36"/>
                  </a:lnTo>
                  <a:lnTo>
                    <a:pt x="56" y="35"/>
                  </a:lnTo>
                  <a:lnTo>
                    <a:pt x="64" y="35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77" y="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75360" y="4919760"/>
              <a:ext cx="28440" cy="2376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72" y="37"/>
                  </a:moveTo>
                  <a:lnTo>
                    <a:pt x="72" y="37"/>
                  </a:lnTo>
                  <a:lnTo>
                    <a:pt x="65" y="30"/>
                  </a:lnTo>
                  <a:lnTo>
                    <a:pt x="57" y="24"/>
                  </a:lnTo>
                  <a:lnTo>
                    <a:pt x="49" y="18"/>
                  </a:lnTo>
                  <a:lnTo>
                    <a:pt x="41" y="13"/>
                  </a:lnTo>
                  <a:lnTo>
                    <a:pt x="32" y="8"/>
                  </a:lnTo>
                  <a:lnTo>
                    <a:pt x="24" y="5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35"/>
                  </a:lnTo>
                  <a:lnTo>
                    <a:pt x="6" y="36"/>
                  </a:lnTo>
                  <a:lnTo>
                    <a:pt x="12" y="38"/>
                  </a:lnTo>
                  <a:lnTo>
                    <a:pt x="19" y="41"/>
                  </a:lnTo>
                  <a:lnTo>
                    <a:pt x="25" y="43"/>
                  </a:lnTo>
                  <a:lnTo>
                    <a:pt x="31" y="47"/>
                  </a:lnTo>
                  <a:lnTo>
                    <a:pt x="36" y="50"/>
                  </a:lnTo>
                  <a:lnTo>
                    <a:pt x="41" y="55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93000" y="4935600"/>
              <a:ext cx="18720" cy="3024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49" y="69"/>
                  </a:moveTo>
                  <a:lnTo>
                    <a:pt x="49" y="69"/>
                  </a:lnTo>
                  <a:lnTo>
                    <a:pt x="47" y="61"/>
                  </a:lnTo>
                  <a:lnTo>
                    <a:pt x="46" y="53"/>
                  </a:lnTo>
                  <a:lnTo>
                    <a:pt x="45" y="45"/>
                  </a:lnTo>
                  <a:lnTo>
                    <a:pt x="43" y="36"/>
                  </a:lnTo>
                  <a:lnTo>
                    <a:pt x="41" y="28"/>
                  </a:lnTo>
                  <a:lnTo>
                    <a:pt x="37" y="18"/>
                  </a:lnTo>
                  <a:lnTo>
                    <a:pt x="34" y="9"/>
                  </a:lnTo>
                  <a:lnTo>
                    <a:pt x="28" y="0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3"/>
                  </a:lnTo>
                  <a:lnTo>
                    <a:pt x="11" y="52"/>
                  </a:lnTo>
                  <a:lnTo>
                    <a:pt x="12" y="59"/>
                  </a:lnTo>
                  <a:lnTo>
                    <a:pt x="13" y="6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99120" y="4962600"/>
              <a:ext cx="27000" cy="68040"/>
            </a:xfrm>
            <a:custGeom>
              <a:avLst/>
              <a:gdLst/>
              <a:ahLst/>
              <a:rect l="l" t="t" r="r" b="b"/>
              <a:pathLst>
                <a:path w="71" h="171">
                  <a:moveTo>
                    <a:pt x="71" y="166"/>
                  </a:moveTo>
                  <a:lnTo>
                    <a:pt x="71" y="166"/>
                  </a:lnTo>
                  <a:lnTo>
                    <a:pt x="67" y="145"/>
                  </a:lnTo>
                  <a:lnTo>
                    <a:pt x="62" y="123"/>
                  </a:lnTo>
                  <a:lnTo>
                    <a:pt x="57" y="103"/>
                  </a:lnTo>
                  <a:lnTo>
                    <a:pt x="54" y="81"/>
                  </a:lnTo>
                  <a:lnTo>
                    <a:pt x="48" y="61"/>
                  </a:lnTo>
                  <a:lnTo>
                    <a:pt x="43" y="40"/>
                  </a:lnTo>
                  <a:lnTo>
                    <a:pt x="38" y="20"/>
                  </a:lnTo>
                  <a:lnTo>
                    <a:pt x="33" y="0"/>
                  </a:lnTo>
                  <a:lnTo>
                    <a:pt x="0" y="8"/>
                  </a:lnTo>
                  <a:lnTo>
                    <a:pt x="5" y="28"/>
                  </a:lnTo>
                  <a:lnTo>
                    <a:pt x="9" y="49"/>
                  </a:lnTo>
                  <a:lnTo>
                    <a:pt x="14" y="69"/>
                  </a:lnTo>
                  <a:lnTo>
                    <a:pt x="19" y="90"/>
                  </a:lnTo>
                  <a:lnTo>
                    <a:pt x="24" y="110"/>
                  </a:lnTo>
                  <a:lnTo>
                    <a:pt x="29" y="130"/>
                  </a:lnTo>
                  <a:lnTo>
                    <a:pt x="32" y="151"/>
                  </a:lnTo>
                  <a:lnTo>
                    <a:pt x="36" y="171"/>
                  </a:lnTo>
                  <a:lnTo>
                    <a:pt x="36" y="171"/>
                  </a:lnTo>
                  <a:lnTo>
                    <a:pt x="71" y="16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13520" y="5029200"/>
              <a:ext cx="17280" cy="619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151"/>
                  </a:moveTo>
                  <a:lnTo>
                    <a:pt x="47" y="151"/>
                  </a:lnTo>
                  <a:lnTo>
                    <a:pt x="43" y="135"/>
                  </a:lnTo>
                  <a:lnTo>
                    <a:pt x="41" y="117"/>
                  </a:lnTo>
                  <a:lnTo>
                    <a:pt x="39" y="97"/>
                  </a:lnTo>
                  <a:lnTo>
                    <a:pt x="39" y="79"/>
                  </a:lnTo>
                  <a:lnTo>
                    <a:pt x="38" y="59"/>
                  </a:lnTo>
                  <a:lnTo>
                    <a:pt x="38" y="40"/>
                  </a:lnTo>
                  <a:lnTo>
                    <a:pt x="37" y="21"/>
                  </a:lnTo>
                  <a:lnTo>
                    <a:pt x="35" y="0"/>
                  </a:lnTo>
                  <a:lnTo>
                    <a:pt x="0" y="5"/>
                  </a:lnTo>
                  <a:lnTo>
                    <a:pt x="2" y="23"/>
                  </a:lnTo>
                  <a:lnTo>
                    <a:pt x="3" y="42"/>
                  </a:lnTo>
                  <a:lnTo>
                    <a:pt x="3" y="60"/>
                  </a:lnTo>
                  <a:lnTo>
                    <a:pt x="5" y="79"/>
                  </a:lnTo>
                  <a:lnTo>
                    <a:pt x="5" y="100"/>
                  </a:lnTo>
                  <a:lnTo>
                    <a:pt x="6" y="119"/>
                  </a:lnTo>
                  <a:lnTo>
                    <a:pt x="8" y="139"/>
                  </a:lnTo>
                  <a:lnTo>
                    <a:pt x="12" y="160"/>
                  </a:lnTo>
                  <a:lnTo>
                    <a:pt x="12" y="160"/>
                  </a:lnTo>
                  <a:lnTo>
                    <a:pt x="47" y="15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18200" y="5087880"/>
              <a:ext cx="28440" cy="4464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72" y="84"/>
                  </a:moveTo>
                  <a:lnTo>
                    <a:pt x="72" y="84"/>
                  </a:lnTo>
                  <a:lnTo>
                    <a:pt x="65" y="76"/>
                  </a:lnTo>
                  <a:lnTo>
                    <a:pt x="59" y="68"/>
                  </a:lnTo>
                  <a:lnTo>
                    <a:pt x="53" y="58"/>
                  </a:lnTo>
                  <a:lnTo>
                    <a:pt x="48" y="47"/>
                  </a:lnTo>
                  <a:lnTo>
                    <a:pt x="44" y="36"/>
                  </a:lnTo>
                  <a:lnTo>
                    <a:pt x="41" y="24"/>
                  </a:lnTo>
                  <a:lnTo>
                    <a:pt x="37" y="12"/>
                  </a:lnTo>
                  <a:lnTo>
                    <a:pt x="35" y="0"/>
                  </a:lnTo>
                  <a:lnTo>
                    <a:pt x="0" y="9"/>
                  </a:lnTo>
                  <a:lnTo>
                    <a:pt x="3" y="22"/>
                  </a:lnTo>
                  <a:lnTo>
                    <a:pt x="7" y="35"/>
                  </a:lnTo>
                  <a:lnTo>
                    <a:pt x="11" y="48"/>
                  </a:lnTo>
                  <a:lnTo>
                    <a:pt x="17" y="62"/>
                  </a:lnTo>
                  <a:lnTo>
                    <a:pt x="23" y="74"/>
                  </a:lnTo>
                  <a:lnTo>
                    <a:pt x="30" y="87"/>
                  </a:lnTo>
                  <a:lnTo>
                    <a:pt x="38" y="99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72" y="8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37280" y="5121360"/>
              <a:ext cx="31680" cy="17280"/>
            </a:xfrm>
            <a:custGeom>
              <a:avLst/>
              <a:gdLst/>
              <a:ahLst/>
              <a:rect l="l" t="t" r="r" b="b"/>
              <a:pathLst>
                <a:path w="83" h="42">
                  <a:moveTo>
                    <a:pt x="63" y="4"/>
                  </a:moveTo>
                  <a:lnTo>
                    <a:pt x="63" y="4"/>
                  </a:lnTo>
                  <a:lnTo>
                    <a:pt x="60" y="6"/>
                  </a:lnTo>
                  <a:lnTo>
                    <a:pt x="55" y="8"/>
                  </a:lnTo>
                  <a:lnTo>
                    <a:pt x="50" y="9"/>
                  </a:lnTo>
                  <a:lnTo>
                    <a:pt x="44" y="8"/>
                  </a:lnTo>
                  <a:lnTo>
                    <a:pt x="38" y="6"/>
                  </a:lnTo>
                  <a:lnTo>
                    <a:pt x="32" y="5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9" y="32"/>
                  </a:lnTo>
                  <a:lnTo>
                    <a:pt x="19" y="38"/>
                  </a:lnTo>
                  <a:lnTo>
                    <a:pt x="30" y="41"/>
                  </a:lnTo>
                  <a:lnTo>
                    <a:pt x="41" y="42"/>
                  </a:lnTo>
                  <a:lnTo>
                    <a:pt x="51" y="42"/>
                  </a:lnTo>
                  <a:lnTo>
                    <a:pt x="62" y="41"/>
                  </a:lnTo>
                  <a:lnTo>
                    <a:pt x="73" y="39"/>
                  </a:lnTo>
                  <a:lnTo>
                    <a:pt x="83" y="33"/>
                  </a:lnTo>
                  <a:lnTo>
                    <a:pt x="83" y="33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62840" y="5081760"/>
              <a:ext cx="44280" cy="52200"/>
            </a:xfrm>
            <a:custGeom>
              <a:avLst/>
              <a:gdLst/>
              <a:ahLst/>
              <a:rect l="l" t="t" r="r" b="b"/>
              <a:pathLst>
                <a:path w="116" h="135">
                  <a:moveTo>
                    <a:pt x="89" y="0"/>
                  </a:moveTo>
                  <a:lnTo>
                    <a:pt x="89" y="0"/>
                  </a:lnTo>
                  <a:lnTo>
                    <a:pt x="77" y="15"/>
                  </a:lnTo>
                  <a:lnTo>
                    <a:pt x="68" y="30"/>
                  </a:lnTo>
                  <a:lnTo>
                    <a:pt x="57" y="45"/>
                  </a:lnTo>
                  <a:lnTo>
                    <a:pt x="46" y="59"/>
                  </a:lnTo>
                  <a:lnTo>
                    <a:pt x="36" y="74"/>
                  </a:lnTo>
                  <a:lnTo>
                    <a:pt x="24" y="86"/>
                  </a:lnTo>
                  <a:lnTo>
                    <a:pt x="14" y="96"/>
                  </a:lnTo>
                  <a:lnTo>
                    <a:pt x="0" y="106"/>
                  </a:lnTo>
                  <a:lnTo>
                    <a:pt x="20" y="135"/>
                  </a:lnTo>
                  <a:lnTo>
                    <a:pt x="36" y="123"/>
                  </a:lnTo>
                  <a:lnTo>
                    <a:pt x="50" y="110"/>
                  </a:lnTo>
                  <a:lnTo>
                    <a:pt x="63" y="95"/>
                  </a:lnTo>
                  <a:lnTo>
                    <a:pt x="75" y="80"/>
                  </a:lnTo>
                  <a:lnTo>
                    <a:pt x="86" y="65"/>
                  </a:lnTo>
                  <a:lnTo>
                    <a:pt x="95" y="50"/>
                  </a:lnTo>
                  <a:lnTo>
                    <a:pt x="106" y="35"/>
                  </a:lnTo>
                  <a:lnTo>
                    <a:pt x="116" y="21"/>
                  </a:lnTo>
                  <a:lnTo>
                    <a:pt x="116" y="21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97760" y="5022720"/>
              <a:ext cx="52200" cy="66960"/>
            </a:xfrm>
            <a:custGeom>
              <a:avLst/>
              <a:gdLst/>
              <a:ahLst/>
              <a:rect l="l" t="t" r="r" b="b"/>
              <a:pathLst>
                <a:path w="131" h="168">
                  <a:moveTo>
                    <a:pt x="103" y="0"/>
                  </a:moveTo>
                  <a:lnTo>
                    <a:pt x="103" y="0"/>
                  </a:lnTo>
                  <a:lnTo>
                    <a:pt x="90" y="18"/>
                  </a:lnTo>
                  <a:lnTo>
                    <a:pt x="77" y="37"/>
                  </a:lnTo>
                  <a:lnTo>
                    <a:pt x="64" y="55"/>
                  </a:lnTo>
                  <a:lnTo>
                    <a:pt x="51" y="74"/>
                  </a:lnTo>
                  <a:lnTo>
                    <a:pt x="39" y="92"/>
                  </a:lnTo>
                  <a:lnTo>
                    <a:pt x="25" y="111"/>
                  </a:lnTo>
                  <a:lnTo>
                    <a:pt x="12" y="129"/>
                  </a:lnTo>
                  <a:lnTo>
                    <a:pt x="0" y="147"/>
                  </a:lnTo>
                  <a:lnTo>
                    <a:pt x="27" y="168"/>
                  </a:lnTo>
                  <a:lnTo>
                    <a:pt x="41" y="150"/>
                  </a:lnTo>
                  <a:lnTo>
                    <a:pt x="54" y="131"/>
                  </a:lnTo>
                  <a:lnTo>
                    <a:pt x="67" y="113"/>
                  </a:lnTo>
                  <a:lnTo>
                    <a:pt x="79" y="93"/>
                  </a:lnTo>
                  <a:lnTo>
                    <a:pt x="93" y="75"/>
                  </a:lnTo>
                  <a:lnTo>
                    <a:pt x="105" y="56"/>
                  </a:lnTo>
                  <a:lnTo>
                    <a:pt x="118" y="38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38800" y="4983120"/>
              <a:ext cx="44640" cy="47520"/>
            </a:xfrm>
            <a:custGeom>
              <a:avLst/>
              <a:gdLst/>
              <a:ahLst/>
              <a:rect l="l" t="t" r="r" b="b"/>
              <a:pathLst>
                <a:path w="112" h="122">
                  <a:moveTo>
                    <a:pt x="89" y="0"/>
                  </a:moveTo>
                  <a:lnTo>
                    <a:pt x="89" y="0"/>
                  </a:lnTo>
                  <a:lnTo>
                    <a:pt x="76" y="12"/>
                  </a:lnTo>
                  <a:lnTo>
                    <a:pt x="64" y="24"/>
                  </a:lnTo>
                  <a:lnTo>
                    <a:pt x="53" y="36"/>
                  </a:lnTo>
                  <a:lnTo>
                    <a:pt x="42" y="49"/>
                  </a:lnTo>
                  <a:lnTo>
                    <a:pt x="32" y="63"/>
                  </a:lnTo>
                  <a:lnTo>
                    <a:pt x="21" y="75"/>
                  </a:lnTo>
                  <a:lnTo>
                    <a:pt x="11" y="88"/>
                  </a:lnTo>
                  <a:lnTo>
                    <a:pt x="0" y="101"/>
                  </a:lnTo>
                  <a:lnTo>
                    <a:pt x="28" y="122"/>
                  </a:lnTo>
                  <a:lnTo>
                    <a:pt x="39" y="109"/>
                  </a:lnTo>
                  <a:lnTo>
                    <a:pt x="48" y="96"/>
                  </a:lnTo>
                  <a:lnTo>
                    <a:pt x="58" y="84"/>
                  </a:lnTo>
                  <a:lnTo>
                    <a:pt x="69" y="72"/>
                  </a:lnTo>
                  <a:lnTo>
                    <a:pt x="78" y="60"/>
                  </a:lnTo>
                  <a:lnTo>
                    <a:pt x="89" y="48"/>
                  </a:lnTo>
                  <a:lnTo>
                    <a:pt x="100" y="37"/>
                  </a:lnTo>
                  <a:lnTo>
                    <a:pt x="112" y="27"/>
                  </a:lnTo>
                  <a:lnTo>
                    <a:pt x="112" y="27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73720" y="4968720"/>
              <a:ext cx="33480" cy="24120"/>
            </a:xfrm>
            <a:custGeom>
              <a:avLst/>
              <a:gdLst/>
              <a:ahLst/>
              <a:rect l="l" t="t" r="r" b="b"/>
              <a:pathLst>
                <a:path w="83" h="62">
                  <a:moveTo>
                    <a:pt x="83" y="18"/>
                  </a:moveTo>
                  <a:lnTo>
                    <a:pt x="83" y="18"/>
                  </a:lnTo>
                  <a:lnTo>
                    <a:pt x="79" y="11"/>
                  </a:lnTo>
                  <a:lnTo>
                    <a:pt x="72" y="4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3" y="4"/>
                  </a:lnTo>
                  <a:lnTo>
                    <a:pt x="34" y="10"/>
                  </a:lnTo>
                  <a:lnTo>
                    <a:pt x="24" y="16"/>
                  </a:lnTo>
                  <a:lnTo>
                    <a:pt x="15" y="23"/>
                  </a:lnTo>
                  <a:lnTo>
                    <a:pt x="6" y="30"/>
                  </a:lnTo>
                  <a:lnTo>
                    <a:pt x="0" y="35"/>
                  </a:lnTo>
                  <a:lnTo>
                    <a:pt x="23" y="62"/>
                  </a:lnTo>
                  <a:lnTo>
                    <a:pt x="29" y="56"/>
                  </a:lnTo>
                  <a:lnTo>
                    <a:pt x="36" y="50"/>
                  </a:lnTo>
                  <a:lnTo>
                    <a:pt x="45" y="44"/>
                  </a:lnTo>
                  <a:lnTo>
                    <a:pt x="52" y="39"/>
                  </a:lnTo>
                  <a:lnTo>
                    <a:pt x="57" y="36"/>
                  </a:lnTo>
                  <a:lnTo>
                    <a:pt x="60" y="35"/>
                  </a:lnTo>
                  <a:lnTo>
                    <a:pt x="57" y="35"/>
                  </a:lnTo>
                  <a:lnTo>
                    <a:pt x="54" y="34"/>
                  </a:lnTo>
                  <a:lnTo>
                    <a:pt x="51" y="32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83" y="1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291360" y="4976640"/>
              <a:ext cx="19080" cy="74880"/>
            </a:xfrm>
            <a:custGeom>
              <a:avLst/>
              <a:gdLst/>
              <a:ahLst/>
              <a:rect l="l" t="t" r="r" b="b"/>
              <a:pathLst>
                <a:path w="51" h="189">
                  <a:moveTo>
                    <a:pt x="34" y="189"/>
                  </a:moveTo>
                  <a:lnTo>
                    <a:pt x="34" y="189"/>
                  </a:lnTo>
                  <a:lnTo>
                    <a:pt x="40" y="166"/>
                  </a:lnTo>
                  <a:lnTo>
                    <a:pt x="45" y="143"/>
                  </a:lnTo>
                  <a:lnTo>
                    <a:pt x="48" y="119"/>
                  </a:lnTo>
                  <a:lnTo>
                    <a:pt x="51" y="95"/>
                  </a:lnTo>
                  <a:lnTo>
                    <a:pt x="51" y="71"/>
                  </a:lnTo>
                  <a:lnTo>
                    <a:pt x="50" y="48"/>
                  </a:lnTo>
                  <a:lnTo>
                    <a:pt x="46" y="24"/>
                  </a:lnTo>
                  <a:lnTo>
                    <a:pt x="40" y="0"/>
                  </a:lnTo>
                  <a:lnTo>
                    <a:pt x="8" y="11"/>
                  </a:lnTo>
                  <a:lnTo>
                    <a:pt x="12" y="32"/>
                  </a:lnTo>
                  <a:lnTo>
                    <a:pt x="15" y="52"/>
                  </a:lnTo>
                  <a:lnTo>
                    <a:pt x="16" y="72"/>
                  </a:lnTo>
                  <a:lnTo>
                    <a:pt x="16" y="94"/>
                  </a:lnTo>
                  <a:lnTo>
                    <a:pt x="14" y="115"/>
                  </a:lnTo>
                  <a:lnTo>
                    <a:pt x="10" y="137"/>
                  </a:lnTo>
                  <a:lnTo>
                    <a:pt x="6" y="157"/>
                  </a:lnTo>
                  <a:lnTo>
                    <a:pt x="0" y="179"/>
                  </a:lnTo>
                  <a:lnTo>
                    <a:pt x="0" y="179"/>
                  </a:lnTo>
                  <a:lnTo>
                    <a:pt x="34" y="18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42040" y="5046840"/>
              <a:ext cx="61920" cy="122040"/>
            </a:xfrm>
            <a:custGeom>
              <a:avLst/>
              <a:gdLst/>
              <a:ahLst/>
              <a:rect l="l" t="t" r="r" b="b"/>
              <a:pathLst>
                <a:path w="155" h="306">
                  <a:moveTo>
                    <a:pt x="31" y="306"/>
                  </a:moveTo>
                  <a:lnTo>
                    <a:pt x="31" y="306"/>
                  </a:lnTo>
                  <a:lnTo>
                    <a:pt x="49" y="270"/>
                  </a:lnTo>
                  <a:lnTo>
                    <a:pt x="66" y="234"/>
                  </a:lnTo>
                  <a:lnTo>
                    <a:pt x="83" y="198"/>
                  </a:lnTo>
                  <a:lnTo>
                    <a:pt x="100" y="161"/>
                  </a:lnTo>
                  <a:lnTo>
                    <a:pt x="115" y="124"/>
                  </a:lnTo>
                  <a:lnTo>
                    <a:pt x="130" y="86"/>
                  </a:lnTo>
                  <a:lnTo>
                    <a:pt x="144" y="48"/>
                  </a:lnTo>
                  <a:lnTo>
                    <a:pt x="155" y="10"/>
                  </a:lnTo>
                  <a:lnTo>
                    <a:pt x="121" y="0"/>
                  </a:lnTo>
                  <a:lnTo>
                    <a:pt x="111" y="37"/>
                  </a:lnTo>
                  <a:lnTo>
                    <a:pt x="97" y="74"/>
                  </a:lnTo>
                  <a:lnTo>
                    <a:pt x="83" y="110"/>
                  </a:lnTo>
                  <a:lnTo>
                    <a:pt x="69" y="148"/>
                  </a:lnTo>
                  <a:lnTo>
                    <a:pt x="52" y="184"/>
                  </a:lnTo>
                  <a:lnTo>
                    <a:pt x="35" y="220"/>
                  </a:lnTo>
                  <a:lnTo>
                    <a:pt x="17" y="256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31" y="30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07120" y="5162400"/>
              <a:ext cx="47520" cy="6840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28" y="171"/>
                  </a:moveTo>
                  <a:lnTo>
                    <a:pt x="28" y="171"/>
                  </a:lnTo>
                  <a:lnTo>
                    <a:pt x="41" y="152"/>
                  </a:lnTo>
                  <a:lnTo>
                    <a:pt x="55" y="134"/>
                  </a:lnTo>
                  <a:lnTo>
                    <a:pt x="67" y="115"/>
                  </a:lnTo>
                  <a:lnTo>
                    <a:pt x="79" y="94"/>
                  </a:lnTo>
                  <a:lnTo>
                    <a:pt x="90" y="75"/>
                  </a:lnTo>
                  <a:lnTo>
                    <a:pt x="101" y="55"/>
                  </a:lnTo>
                  <a:lnTo>
                    <a:pt x="112" y="34"/>
                  </a:lnTo>
                  <a:lnTo>
                    <a:pt x="121" y="14"/>
                  </a:lnTo>
                  <a:lnTo>
                    <a:pt x="90" y="0"/>
                  </a:lnTo>
                  <a:lnTo>
                    <a:pt x="81" y="19"/>
                  </a:lnTo>
                  <a:lnTo>
                    <a:pt x="71" y="39"/>
                  </a:lnTo>
                  <a:lnTo>
                    <a:pt x="60" y="58"/>
                  </a:lnTo>
                  <a:lnTo>
                    <a:pt x="49" y="78"/>
                  </a:lnTo>
                  <a:lnTo>
                    <a:pt x="39" y="96"/>
                  </a:lnTo>
                  <a:lnTo>
                    <a:pt x="27" y="114"/>
                  </a:lnTo>
                  <a:lnTo>
                    <a:pt x="13" y="132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8" y="17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170760" y="5221440"/>
              <a:ext cx="47520" cy="39600"/>
            </a:xfrm>
            <a:custGeom>
              <a:avLst/>
              <a:gdLst/>
              <a:ahLst/>
              <a:rect l="l" t="t" r="r" b="b"/>
              <a:pathLst>
                <a:path w="118" h="98">
                  <a:moveTo>
                    <a:pt x="23" y="98"/>
                  </a:moveTo>
                  <a:lnTo>
                    <a:pt x="23" y="98"/>
                  </a:lnTo>
                  <a:lnTo>
                    <a:pt x="34" y="89"/>
                  </a:lnTo>
                  <a:lnTo>
                    <a:pt x="46" y="81"/>
                  </a:lnTo>
                  <a:lnTo>
                    <a:pt x="57" y="72"/>
                  </a:lnTo>
                  <a:lnTo>
                    <a:pt x="70" y="64"/>
                  </a:lnTo>
                  <a:lnTo>
                    <a:pt x="82" y="56"/>
                  </a:lnTo>
                  <a:lnTo>
                    <a:pt x="94" y="46"/>
                  </a:lnTo>
                  <a:lnTo>
                    <a:pt x="106" y="35"/>
                  </a:lnTo>
                  <a:lnTo>
                    <a:pt x="118" y="23"/>
                  </a:lnTo>
                  <a:lnTo>
                    <a:pt x="90" y="0"/>
                  </a:lnTo>
                  <a:lnTo>
                    <a:pt x="82" y="10"/>
                  </a:lnTo>
                  <a:lnTo>
                    <a:pt x="72" y="20"/>
                  </a:lnTo>
                  <a:lnTo>
                    <a:pt x="61" y="28"/>
                  </a:lnTo>
                  <a:lnTo>
                    <a:pt x="49" y="36"/>
                  </a:lnTo>
                  <a:lnTo>
                    <a:pt x="37" y="45"/>
                  </a:lnTo>
                  <a:lnTo>
                    <a:pt x="25" y="53"/>
                  </a:lnTo>
                  <a:lnTo>
                    <a:pt x="12" y="63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3" y="9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154560" y="5249880"/>
              <a:ext cx="25560" cy="23760"/>
            </a:xfrm>
            <a:custGeom>
              <a:avLst/>
              <a:gdLst/>
              <a:ahLst/>
              <a:rect l="l" t="t" r="r" b="b"/>
              <a:pathLst>
                <a:path w="65" h="60">
                  <a:moveTo>
                    <a:pt x="34" y="60"/>
                  </a:moveTo>
                  <a:lnTo>
                    <a:pt x="34" y="60"/>
                  </a:lnTo>
                  <a:lnTo>
                    <a:pt x="35" y="57"/>
                  </a:lnTo>
                  <a:lnTo>
                    <a:pt x="37" y="53"/>
                  </a:lnTo>
                  <a:lnTo>
                    <a:pt x="40" y="50"/>
                  </a:lnTo>
                  <a:lnTo>
                    <a:pt x="45" y="45"/>
                  </a:lnTo>
                  <a:lnTo>
                    <a:pt x="49" y="40"/>
                  </a:lnTo>
                  <a:lnTo>
                    <a:pt x="54" y="36"/>
                  </a:lnTo>
                  <a:lnTo>
                    <a:pt x="60" y="32"/>
                  </a:lnTo>
                  <a:lnTo>
                    <a:pt x="65" y="26"/>
                  </a:lnTo>
                  <a:lnTo>
                    <a:pt x="42" y="0"/>
                  </a:lnTo>
                  <a:lnTo>
                    <a:pt x="37" y="5"/>
                  </a:lnTo>
                  <a:lnTo>
                    <a:pt x="31" y="10"/>
                  </a:lnTo>
                  <a:lnTo>
                    <a:pt x="25" y="15"/>
                  </a:lnTo>
                  <a:lnTo>
                    <a:pt x="19" y="21"/>
                  </a:lnTo>
                  <a:lnTo>
                    <a:pt x="13" y="27"/>
                  </a:lnTo>
                  <a:lnTo>
                    <a:pt x="9" y="34"/>
                  </a:lnTo>
                  <a:lnTo>
                    <a:pt x="4" y="4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34" y="6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53120" y="5270400"/>
              <a:ext cx="15840" cy="31680"/>
            </a:xfrm>
            <a:custGeom>
              <a:avLst/>
              <a:gdLst/>
              <a:ahLst/>
              <a:rect l="l" t="t" r="r" b="b"/>
              <a:pathLst>
                <a:path w="42" h="80">
                  <a:moveTo>
                    <a:pt x="42" y="50"/>
                  </a:moveTo>
                  <a:lnTo>
                    <a:pt x="42" y="50"/>
                  </a:lnTo>
                  <a:lnTo>
                    <a:pt x="39" y="49"/>
                  </a:lnTo>
                  <a:lnTo>
                    <a:pt x="38" y="46"/>
                  </a:lnTo>
                  <a:lnTo>
                    <a:pt x="37" y="42"/>
                  </a:lnTo>
                  <a:lnTo>
                    <a:pt x="36" y="36"/>
                  </a:lnTo>
                  <a:lnTo>
                    <a:pt x="34" y="29"/>
                  </a:lnTo>
                  <a:lnTo>
                    <a:pt x="34" y="22"/>
                  </a:lnTo>
                  <a:lnTo>
                    <a:pt x="36" y="14"/>
                  </a:lnTo>
                  <a:lnTo>
                    <a:pt x="37" y="8"/>
                  </a:lnTo>
                  <a:lnTo>
                    <a:pt x="3" y="0"/>
                  </a:lnTo>
                  <a:lnTo>
                    <a:pt x="1" y="10"/>
                  </a:lnTo>
                  <a:lnTo>
                    <a:pt x="1" y="19"/>
                  </a:lnTo>
                  <a:lnTo>
                    <a:pt x="0" y="30"/>
                  </a:lnTo>
                  <a:lnTo>
                    <a:pt x="1" y="41"/>
                  </a:lnTo>
                  <a:lnTo>
                    <a:pt x="3" y="52"/>
                  </a:lnTo>
                  <a:lnTo>
                    <a:pt x="7" y="61"/>
                  </a:lnTo>
                  <a:lnTo>
                    <a:pt x="14" y="72"/>
                  </a:lnTo>
                  <a:lnTo>
                    <a:pt x="22" y="80"/>
                  </a:lnTo>
                  <a:lnTo>
                    <a:pt x="22" y="80"/>
                  </a:lnTo>
                  <a:lnTo>
                    <a:pt x="42" y="5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62840" y="5291280"/>
              <a:ext cx="48960" cy="20520"/>
            </a:xfrm>
            <a:custGeom>
              <a:avLst/>
              <a:gdLst/>
              <a:ahLst/>
              <a:rect l="l" t="t" r="r" b="b"/>
              <a:pathLst>
                <a:path w="124" h="53">
                  <a:moveTo>
                    <a:pt x="118" y="17"/>
                  </a:moveTo>
                  <a:lnTo>
                    <a:pt x="118" y="17"/>
                  </a:lnTo>
                  <a:lnTo>
                    <a:pt x="105" y="18"/>
                  </a:lnTo>
                  <a:lnTo>
                    <a:pt x="93" y="20"/>
                  </a:lnTo>
                  <a:lnTo>
                    <a:pt x="80" y="18"/>
                  </a:lnTo>
                  <a:lnTo>
                    <a:pt x="66" y="17"/>
                  </a:lnTo>
                  <a:lnTo>
                    <a:pt x="53" y="15"/>
                  </a:lnTo>
                  <a:lnTo>
                    <a:pt x="41" y="11"/>
                  </a:lnTo>
                  <a:lnTo>
                    <a:pt x="30" y="6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5" y="38"/>
                  </a:lnTo>
                  <a:lnTo>
                    <a:pt x="30" y="44"/>
                  </a:lnTo>
                  <a:lnTo>
                    <a:pt x="45" y="48"/>
                  </a:lnTo>
                  <a:lnTo>
                    <a:pt x="62" y="52"/>
                  </a:lnTo>
                  <a:lnTo>
                    <a:pt x="77" y="53"/>
                  </a:lnTo>
                  <a:lnTo>
                    <a:pt x="93" y="53"/>
                  </a:lnTo>
                  <a:lnTo>
                    <a:pt x="108" y="53"/>
                  </a:lnTo>
                  <a:lnTo>
                    <a:pt x="124" y="51"/>
                  </a:lnTo>
                  <a:lnTo>
                    <a:pt x="124" y="51"/>
                  </a:lnTo>
                  <a:lnTo>
                    <a:pt x="118" y="1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08560" y="5276880"/>
              <a:ext cx="51120" cy="3348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101" y="0"/>
                  </a:moveTo>
                  <a:lnTo>
                    <a:pt x="101" y="0"/>
                  </a:lnTo>
                  <a:lnTo>
                    <a:pt x="91" y="9"/>
                  </a:lnTo>
                  <a:lnTo>
                    <a:pt x="79" y="18"/>
                  </a:lnTo>
                  <a:lnTo>
                    <a:pt x="68" y="26"/>
                  </a:lnTo>
                  <a:lnTo>
                    <a:pt x="55" y="32"/>
                  </a:lnTo>
                  <a:lnTo>
                    <a:pt x="42" y="38"/>
                  </a:lnTo>
                  <a:lnTo>
                    <a:pt x="28" y="43"/>
                  </a:lnTo>
                  <a:lnTo>
                    <a:pt x="14" y="47"/>
                  </a:lnTo>
                  <a:lnTo>
                    <a:pt x="0" y="50"/>
                  </a:lnTo>
                  <a:lnTo>
                    <a:pt x="6" y="84"/>
                  </a:lnTo>
                  <a:lnTo>
                    <a:pt x="22" y="80"/>
                  </a:lnTo>
                  <a:lnTo>
                    <a:pt x="38" y="77"/>
                  </a:lnTo>
                  <a:lnTo>
                    <a:pt x="54" y="71"/>
                  </a:lnTo>
                  <a:lnTo>
                    <a:pt x="71" y="63"/>
                  </a:lnTo>
                  <a:lnTo>
                    <a:pt x="85" y="55"/>
                  </a:lnTo>
                  <a:lnTo>
                    <a:pt x="100" y="47"/>
                  </a:lnTo>
                  <a:lnTo>
                    <a:pt x="114" y="36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48520" y="5200560"/>
              <a:ext cx="58680" cy="85680"/>
            </a:xfrm>
            <a:custGeom>
              <a:avLst/>
              <a:gdLst/>
              <a:ahLst/>
              <a:rect l="l" t="t" r="r" b="b"/>
              <a:pathLst>
                <a:path w="149" h="219">
                  <a:moveTo>
                    <a:pt x="121" y="0"/>
                  </a:moveTo>
                  <a:lnTo>
                    <a:pt x="121" y="0"/>
                  </a:lnTo>
                  <a:lnTo>
                    <a:pt x="103" y="24"/>
                  </a:lnTo>
                  <a:lnTo>
                    <a:pt x="87" y="51"/>
                  </a:lnTo>
                  <a:lnTo>
                    <a:pt x="74" y="76"/>
                  </a:lnTo>
                  <a:lnTo>
                    <a:pt x="60" y="102"/>
                  </a:lnTo>
                  <a:lnTo>
                    <a:pt x="47" y="128"/>
                  </a:lnTo>
                  <a:lnTo>
                    <a:pt x="32" y="152"/>
                  </a:lnTo>
                  <a:lnTo>
                    <a:pt x="25" y="164"/>
                  </a:lnTo>
                  <a:lnTo>
                    <a:pt x="17" y="174"/>
                  </a:lnTo>
                  <a:lnTo>
                    <a:pt x="8" y="185"/>
                  </a:lnTo>
                  <a:lnTo>
                    <a:pt x="0" y="195"/>
                  </a:lnTo>
                  <a:lnTo>
                    <a:pt x="25" y="219"/>
                  </a:lnTo>
                  <a:lnTo>
                    <a:pt x="35" y="207"/>
                  </a:lnTo>
                  <a:lnTo>
                    <a:pt x="44" y="195"/>
                  </a:lnTo>
                  <a:lnTo>
                    <a:pt x="53" y="183"/>
                  </a:lnTo>
                  <a:lnTo>
                    <a:pt x="61" y="170"/>
                  </a:lnTo>
                  <a:lnTo>
                    <a:pt x="77" y="144"/>
                  </a:lnTo>
                  <a:lnTo>
                    <a:pt x="91" y="118"/>
                  </a:lnTo>
                  <a:lnTo>
                    <a:pt x="104" y="93"/>
                  </a:lnTo>
                  <a:lnTo>
                    <a:pt x="117" y="68"/>
                  </a:lnTo>
                  <a:lnTo>
                    <a:pt x="133" y="44"/>
                  </a:lnTo>
                  <a:lnTo>
                    <a:pt x="149" y="21"/>
                  </a:lnTo>
                  <a:lnTo>
                    <a:pt x="149" y="21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97480" y="5154480"/>
              <a:ext cx="55800" cy="54000"/>
            </a:xfrm>
            <a:custGeom>
              <a:avLst/>
              <a:gdLst/>
              <a:ahLst/>
              <a:rect l="l" t="t" r="r" b="b"/>
              <a:pathLst>
                <a:path w="140" h="135">
                  <a:moveTo>
                    <a:pt x="120" y="0"/>
                  </a:moveTo>
                  <a:lnTo>
                    <a:pt x="120" y="0"/>
                  </a:lnTo>
                  <a:lnTo>
                    <a:pt x="103" y="12"/>
                  </a:lnTo>
                  <a:lnTo>
                    <a:pt x="88" y="26"/>
                  </a:lnTo>
                  <a:lnTo>
                    <a:pt x="72" y="39"/>
                  </a:lnTo>
                  <a:lnTo>
                    <a:pt x="56" y="53"/>
                  </a:lnTo>
                  <a:lnTo>
                    <a:pt x="41" y="68"/>
                  </a:lnTo>
                  <a:lnTo>
                    <a:pt x="26" y="82"/>
                  </a:lnTo>
                  <a:lnTo>
                    <a:pt x="13" y="98"/>
                  </a:lnTo>
                  <a:lnTo>
                    <a:pt x="0" y="114"/>
                  </a:lnTo>
                  <a:lnTo>
                    <a:pt x="28" y="135"/>
                  </a:lnTo>
                  <a:lnTo>
                    <a:pt x="40" y="120"/>
                  </a:lnTo>
                  <a:lnTo>
                    <a:pt x="53" y="106"/>
                  </a:lnTo>
                  <a:lnTo>
                    <a:pt x="66" y="92"/>
                  </a:lnTo>
                  <a:lnTo>
                    <a:pt x="80" y="78"/>
                  </a:lnTo>
                  <a:lnTo>
                    <a:pt x="95" y="65"/>
                  </a:lnTo>
                  <a:lnTo>
                    <a:pt x="109" y="52"/>
                  </a:lnTo>
                  <a:lnTo>
                    <a:pt x="125" y="40"/>
                  </a:lnTo>
                  <a:lnTo>
                    <a:pt x="140" y="28"/>
                  </a:lnTo>
                  <a:lnTo>
                    <a:pt x="140" y="2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45360" y="5138640"/>
              <a:ext cx="41040" cy="27000"/>
            </a:xfrm>
            <a:custGeom>
              <a:avLst/>
              <a:gdLst/>
              <a:ahLst/>
              <a:rect l="l" t="t" r="r" b="b"/>
              <a:pathLst>
                <a:path w="104" h="68">
                  <a:moveTo>
                    <a:pt x="104" y="1"/>
                  </a:moveTo>
                  <a:lnTo>
                    <a:pt x="104" y="1"/>
                  </a:lnTo>
                  <a:lnTo>
                    <a:pt x="89" y="0"/>
                  </a:lnTo>
                  <a:lnTo>
                    <a:pt x="74" y="2"/>
                  </a:lnTo>
                  <a:lnTo>
                    <a:pt x="60" y="7"/>
                  </a:lnTo>
                  <a:lnTo>
                    <a:pt x="47" y="12"/>
                  </a:lnTo>
                  <a:lnTo>
                    <a:pt x="34" y="19"/>
                  </a:lnTo>
                  <a:lnTo>
                    <a:pt x="23" y="25"/>
                  </a:lnTo>
                  <a:lnTo>
                    <a:pt x="11" y="33"/>
                  </a:lnTo>
                  <a:lnTo>
                    <a:pt x="0" y="40"/>
                  </a:lnTo>
                  <a:lnTo>
                    <a:pt x="20" y="68"/>
                  </a:lnTo>
                  <a:lnTo>
                    <a:pt x="30" y="62"/>
                  </a:lnTo>
                  <a:lnTo>
                    <a:pt x="41" y="55"/>
                  </a:lnTo>
                  <a:lnTo>
                    <a:pt x="50" y="49"/>
                  </a:lnTo>
                  <a:lnTo>
                    <a:pt x="61" y="43"/>
                  </a:lnTo>
                  <a:lnTo>
                    <a:pt x="72" y="39"/>
                  </a:lnTo>
                  <a:lnTo>
                    <a:pt x="82" y="36"/>
                  </a:lnTo>
                  <a:lnTo>
                    <a:pt x="91" y="34"/>
                  </a:lnTo>
                  <a:lnTo>
                    <a:pt x="101" y="34"/>
                  </a:lnTo>
                  <a:lnTo>
                    <a:pt x="101" y="34"/>
                  </a:lnTo>
                  <a:lnTo>
                    <a:pt x="104" y="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84960" y="5138640"/>
              <a:ext cx="36360" cy="3348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93" y="60"/>
                  </a:moveTo>
                  <a:lnTo>
                    <a:pt x="93" y="60"/>
                  </a:lnTo>
                  <a:lnTo>
                    <a:pt x="85" y="51"/>
                  </a:lnTo>
                  <a:lnTo>
                    <a:pt x="75" y="42"/>
                  </a:lnTo>
                  <a:lnTo>
                    <a:pt x="66" y="32"/>
                  </a:lnTo>
                  <a:lnTo>
                    <a:pt x="55" y="23"/>
                  </a:lnTo>
                  <a:lnTo>
                    <a:pt x="44" y="15"/>
                  </a:lnTo>
                  <a:lnTo>
                    <a:pt x="31" y="8"/>
                  </a:lnTo>
                  <a:lnTo>
                    <a:pt x="18" y="2"/>
                  </a:lnTo>
                  <a:lnTo>
                    <a:pt x="3" y="0"/>
                  </a:lnTo>
                  <a:lnTo>
                    <a:pt x="0" y="33"/>
                  </a:lnTo>
                  <a:lnTo>
                    <a:pt x="8" y="36"/>
                  </a:lnTo>
                  <a:lnTo>
                    <a:pt x="17" y="39"/>
                  </a:lnTo>
                  <a:lnTo>
                    <a:pt x="25" y="44"/>
                  </a:lnTo>
                  <a:lnTo>
                    <a:pt x="35" y="50"/>
                  </a:lnTo>
                  <a:lnTo>
                    <a:pt x="43" y="57"/>
                  </a:lnTo>
                  <a:lnTo>
                    <a:pt x="51" y="66"/>
                  </a:lnTo>
                  <a:lnTo>
                    <a:pt x="60" y="75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93" y="6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11960" y="5162400"/>
              <a:ext cx="33120" cy="42840"/>
            </a:xfrm>
            <a:custGeom>
              <a:avLst/>
              <a:gdLst/>
              <a:ahLst/>
              <a:rect l="l" t="t" r="r" b="b"/>
              <a:pathLst>
                <a:path w="83" h="107">
                  <a:moveTo>
                    <a:pt x="83" y="89"/>
                  </a:moveTo>
                  <a:lnTo>
                    <a:pt x="83" y="89"/>
                  </a:lnTo>
                  <a:lnTo>
                    <a:pt x="77" y="78"/>
                  </a:lnTo>
                  <a:lnTo>
                    <a:pt x="71" y="67"/>
                  </a:lnTo>
                  <a:lnTo>
                    <a:pt x="64" y="55"/>
                  </a:lnTo>
                  <a:lnTo>
                    <a:pt x="58" y="44"/>
                  </a:lnTo>
                  <a:lnTo>
                    <a:pt x="51" y="32"/>
                  </a:lnTo>
                  <a:lnTo>
                    <a:pt x="43" y="21"/>
                  </a:lnTo>
                  <a:lnTo>
                    <a:pt x="35" y="11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5" y="42"/>
                  </a:lnTo>
                  <a:lnTo>
                    <a:pt x="22" y="51"/>
                  </a:lnTo>
                  <a:lnTo>
                    <a:pt x="28" y="62"/>
                  </a:lnTo>
                  <a:lnTo>
                    <a:pt x="34" y="73"/>
                  </a:lnTo>
                  <a:lnTo>
                    <a:pt x="40" y="84"/>
                  </a:lnTo>
                  <a:lnTo>
                    <a:pt x="47" y="95"/>
                  </a:lnTo>
                  <a:lnTo>
                    <a:pt x="53" y="107"/>
                  </a:lnTo>
                  <a:lnTo>
                    <a:pt x="53" y="107"/>
                  </a:lnTo>
                  <a:lnTo>
                    <a:pt x="83" y="8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432480" y="5199120"/>
              <a:ext cx="41400" cy="5724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104" y="130"/>
                  </a:moveTo>
                  <a:lnTo>
                    <a:pt x="104" y="130"/>
                  </a:lnTo>
                  <a:lnTo>
                    <a:pt x="97" y="112"/>
                  </a:lnTo>
                  <a:lnTo>
                    <a:pt x="89" y="96"/>
                  </a:lnTo>
                  <a:lnTo>
                    <a:pt x="79" y="79"/>
                  </a:lnTo>
                  <a:lnTo>
                    <a:pt x="70" y="62"/>
                  </a:lnTo>
                  <a:lnTo>
                    <a:pt x="60" y="46"/>
                  </a:lnTo>
                  <a:lnTo>
                    <a:pt x="49" y="31"/>
                  </a:lnTo>
                  <a:lnTo>
                    <a:pt x="40" y="15"/>
                  </a:lnTo>
                  <a:lnTo>
                    <a:pt x="30" y="0"/>
                  </a:lnTo>
                  <a:lnTo>
                    <a:pt x="0" y="18"/>
                  </a:lnTo>
                  <a:lnTo>
                    <a:pt x="10" y="33"/>
                  </a:lnTo>
                  <a:lnTo>
                    <a:pt x="20" y="49"/>
                  </a:lnTo>
                  <a:lnTo>
                    <a:pt x="30" y="64"/>
                  </a:lnTo>
                  <a:lnTo>
                    <a:pt x="40" y="80"/>
                  </a:lnTo>
                  <a:lnTo>
                    <a:pt x="49" y="96"/>
                  </a:lnTo>
                  <a:lnTo>
                    <a:pt x="58" y="111"/>
                  </a:lnTo>
                  <a:lnTo>
                    <a:pt x="66" y="128"/>
                  </a:lnTo>
                  <a:lnTo>
                    <a:pt x="73" y="144"/>
                  </a:lnTo>
                  <a:lnTo>
                    <a:pt x="73" y="144"/>
                  </a:lnTo>
                  <a:lnTo>
                    <a:pt x="104" y="13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61280" y="5249880"/>
              <a:ext cx="18720" cy="3816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45" y="96"/>
                  </a:moveTo>
                  <a:lnTo>
                    <a:pt x="45" y="96"/>
                  </a:lnTo>
                  <a:lnTo>
                    <a:pt x="47" y="83"/>
                  </a:lnTo>
                  <a:lnTo>
                    <a:pt x="47" y="71"/>
                  </a:lnTo>
                  <a:lnTo>
                    <a:pt x="47" y="59"/>
                  </a:lnTo>
                  <a:lnTo>
                    <a:pt x="45" y="47"/>
                  </a:lnTo>
                  <a:lnTo>
                    <a:pt x="42" y="35"/>
                  </a:lnTo>
                  <a:lnTo>
                    <a:pt x="40" y="23"/>
                  </a:lnTo>
                  <a:lnTo>
                    <a:pt x="36" y="11"/>
                  </a:lnTo>
                  <a:lnTo>
                    <a:pt x="31" y="0"/>
                  </a:lnTo>
                  <a:lnTo>
                    <a:pt x="0" y="14"/>
                  </a:lnTo>
                  <a:lnTo>
                    <a:pt x="3" y="23"/>
                  </a:lnTo>
                  <a:lnTo>
                    <a:pt x="6" y="33"/>
                  </a:lnTo>
                  <a:lnTo>
                    <a:pt x="9" y="42"/>
                  </a:lnTo>
                  <a:lnTo>
                    <a:pt x="11" y="52"/>
                  </a:lnTo>
                  <a:lnTo>
                    <a:pt x="12" y="62"/>
                  </a:lnTo>
                  <a:lnTo>
                    <a:pt x="12" y="71"/>
                  </a:lnTo>
                  <a:lnTo>
                    <a:pt x="12" y="81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45" y="9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58040" y="5286240"/>
              <a:ext cx="20520" cy="24120"/>
            </a:xfrm>
            <a:custGeom>
              <a:avLst/>
              <a:gdLst/>
              <a:ahLst/>
              <a:rect l="l" t="t" r="r" b="b"/>
              <a:pathLst>
                <a:path w="54" h="64">
                  <a:moveTo>
                    <a:pt x="1" y="64"/>
                  </a:moveTo>
                  <a:lnTo>
                    <a:pt x="1" y="64"/>
                  </a:lnTo>
                  <a:lnTo>
                    <a:pt x="13" y="61"/>
                  </a:lnTo>
                  <a:lnTo>
                    <a:pt x="22" y="57"/>
                  </a:lnTo>
                  <a:lnTo>
                    <a:pt x="31" y="51"/>
                  </a:lnTo>
                  <a:lnTo>
                    <a:pt x="38" y="42"/>
                  </a:lnTo>
                  <a:lnTo>
                    <a:pt x="44" y="34"/>
                  </a:lnTo>
                  <a:lnTo>
                    <a:pt x="49" y="25"/>
                  </a:lnTo>
                  <a:lnTo>
                    <a:pt x="51" y="16"/>
                  </a:lnTo>
                  <a:lnTo>
                    <a:pt x="54" y="7"/>
                  </a:lnTo>
                  <a:lnTo>
                    <a:pt x="20" y="0"/>
                  </a:lnTo>
                  <a:lnTo>
                    <a:pt x="19" y="6"/>
                  </a:lnTo>
                  <a:lnTo>
                    <a:pt x="16" y="11"/>
                  </a:lnTo>
                  <a:lnTo>
                    <a:pt x="14" y="17"/>
                  </a:lnTo>
                  <a:lnTo>
                    <a:pt x="10" y="22"/>
                  </a:lnTo>
                  <a:lnTo>
                    <a:pt x="7" y="25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21320" y="5284800"/>
              <a:ext cx="36720" cy="25560"/>
            </a:xfrm>
            <a:custGeom>
              <a:avLst/>
              <a:gdLst/>
              <a:ahLst/>
              <a:rect l="l" t="t" r="r" b="b"/>
              <a:pathLst>
                <a:path w="93" h="66">
                  <a:moveTo>
                    <a:pt x="0" y="25"/>
                  </a:moveTo>
                  <a:lnTo>
                    <a:pt x="0" y="25"/>
                  </a:lnTo>
                  <a:lnTo>
                    <a:pt x="10" y="32"/>
                  </a:lnTo>
                  <a:lnTo>
                    <a:pt x="20" y="41"/>
                  </a:lnTo>
                  <a:lnTo>
                    <a:pt x="30" y="48"/>
                  </a:lnTo>
                  <a:lnTo>
                    <a:pt x="41" y="54"/>
                  </a:lnTo>
                  <a:lnTo>
                    <a:pt x="53" y="60"/>
                  </a:lnTo>
                  <a:lnTo>
                    <a:pt x="66" y="63"/>
                  </a:lnTo>
                  <a:lnTo>
                    <a:pt x="80" y="66"/>
                  </a:lnTo>
                  <a:lnTo>
                    <a:pt x="93" y="66"/>
                  </a:lnTo>
                  <a:lnTo>
                    <a:pt x="92" y="31"/>
                  </a:lnTo>
                  <a:lnTo>
                    <a:pt x="83" y="31"/>
                  </a:lnTo>
                  <a:lnTo>
                    <a:pt x="75" y="30"/>
                  </a:lnTo>
                  <a:lnTo>
                    <a:pt x="66" y="27"/>
                  </a:lnTo>
                  <a:lnTo>
                    <a:pt x="57" y="23"/>
                  </a:lnTo>
                  <a:lnTo>
                    <a:pt x="48" y="18"/>
                  </a:lnTo>
                  <a:lnTo>
                    <a:pt x="40" y="12"/>
                  </a:lnTo>
                  <a:lnTo>
                    <a:pt x="32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91440" y="5243400"/>
              <a:ext cx="39600" cy="5076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0" y="20"/>
                  </a:moveTo>
                  <a:lnTo>
                    <a:pt x="0" y="20"/>
                  </a:lnTo>
                  <a:lnTo>
                    <a:pt x="8" y="32"/>
                  </a:lnTo>
                  <a:lnTo>
                    <a:pt x="17" y="45"/>
                  </a:lnTo>
                  <a:lnTo>
                    <a:pt x="25" y="60"/>
                  </a:lnTo>
                  <a:lnTo>
                    <a:pt x="33" y="73"/>
                  </a:lnTo>
                  <a:lnTo>
                    <a:pt x="43" y="87"/>
                  </a:lnTo>
                  <a:lnTo>
                    <a:pt x="53" y="101"/>
                  </a:lnTo>
                  <a:lnTo>
                    <a:pt x="63" y="114"/>
                  </a:lnTo>
                  <a:lnTo>
                    <a:pt x="75" y="127"/>
                  </a:lnTo>
                  <a:lnTo>
                    <a:pt x="99" y="102"/>
                  </a:lnTo>
                  <a:lnTo>
                    <a:pt x="90" y="91"/>
                  </a:lnTo>
                  <a:lnTo>
                    <a:pt x="80" y="80"/>
                  </a:lnTo>
                  <a:lnTo>
                    <a:pt x="72" y="68"/>
                  </a:lnTo>
                  <a:lnTo>
                    <a:pt x="63" y="55"/>
                  </a:lnTo>
                  <a:lnTo>
                    <a:pt x="55" y="42"/>
                  </a:lnTo>
                  <a:lnTo>
                    <a:pt x="47" y="27"/>
                  </a:lnTo>
                  <a:lnTo>
                    <a:pt x="37" y="1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73800" y="5218200"/>
              <a:ext cx="28440" cy="3492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28"/>
                  </a:moveTo>
                  <a:lnTo>
                    <a:pt x="0" y="28"/>
                  </a:lnTo>
                  <a:lnTo>
                    <a:pt x="6" y="32"/>
                  </a:lnTo>
                  <a:lnTo>
                    <a:pt x="12" y="38"/>
                  </a:lnTo>
                  <a:lnTo>
                    <a:pt x="18" y="46"/>
                  </a:lnTo>
                  <a:lnTo>
                    <a:pt x="23" y="53"/>
                  </a:lnTo>
                  <a:lnTo>
                    <a:pt x="29" y="60"/>
                  </a:lnTo>
                  <a:lnTo>
                    <a:pt x="34" y="68"/>
                  </a:lnTo>
                  <a:lnTo>
                    <a:pt x="40" y="77"/>
                  </a:lnTo>
                  <a:lnTo>
                    <a:pt x="46" y="85"/>
                  </a:lnTo>
                  <a:lnTo>
                    <a:pt x="73" y="65"/>
                  </a:lnTo>
                  <a:lnTo>
                    <a:pt x="69" y="56"/>
                  </a:lnTo>
                  <a:lnTo>
                    <a:pt x="63" y="49"/>
                  </a:lnTo>
                  <a:lnTo>
                    <a:pt x="58" y="41"/>
                  </a:lnTo>
                  <a:lnTo>
                    <a:pt x="52" y="32"/>
                  </a:lnTo>
                  <a:lnTo>
                    <a:pt x="45" y="24"/>
                  </a:lnTo>
                  <a:lnTo>
                    <a:pt x="37" y="16"/>
                  </a:lnTo>
                  <a:lnTo>
                    <a:pt x="30" y="7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359400" y="5214960"/>
              <a:ext cx="22320" cy="1440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27" y="34"/>
                  </a:moveTo>
                  <a:lnTo>
                    <a:pt x="27" y="34"/>
                  </a:lnTo>
                  <a:lnTo>
                    <a:pt x="26" y="35"/>
                  </a:lnTo>
                  <a:lnTo>
                    <a:pt x="25" y="35"/>
                  </a:lnTo>
                  <a:lnTo>
                    <a:pt x="26" y="35"/>
                  </a:lnTo>
                  <a:lnTo>
                    <a:pt x="27" y="35"/>
                  </a:lnTo>
                  <a:lnTo>
                    <a:pt x="28" y="36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33" y="38"/>
                  </a:lnTo>
                  <a:lnTo>
                    <a:pt x="55" y="10"/>
                  </a:lnTo>
                  <a:lnTo>
                    <a:pt x="49" y="6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1" y="2"/>
                  </a:lnTo>
                  <a:lnTo>
                    <a:pt x="14" y="3"/>
                  </a:lnTo>
                  <a:lnTo>
                    <a:pt x="6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7" y="3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330960" y="5219640"/>
              <a:ext cx="39600" cy="63720"/>
            </a:xfrm>
            <a:custGeom>
              <a:avLst/>
              <a:gdLst/>
              <a:ahLst/>
              <a:rect l="l" t="t" r="r" b="b"/>
              <a:pathLst>
                <a:path w="102" h="159">
                  <a:moveTo>
                    <a:pt x="29" y="159"/>
                  </a:moveTo>
                  <a:lnTo>
                    <a:pt x="29" y="159"/>
                  </a:lnTo>
                  <a:lnTo>
                    <a:pt x="40" y="141"/>
                  </a:lnTo>
                  <a:lnTo>
                    <a:pt x="49" y="123"/>
                  </a:lnTo>
                  <a:lnTo>
                    <a:pt x="58" y="104"/>
                  </a:lnTo>
                  <a:lnTo>
                    <a:pt x="65" y="86"/>
                  </a:lnTo>
                  <a:lnTo>
                    <a:pt x="73" y="68"/>
                  </a:lnTo>
                  <a:lnTo>
                    <a:pt x="83" y="51"/>
                  </a:lnTo>
                  <a:lnTo>
                    <a:pt x="91" y="36"/>
                  </a:lnTo>
                  <a:lnTo>
                    <a:pt x="102" y="20"/>
                  </a:lnTo>
                  <a:lnTo>
                    <a:pt x="75" y="0"/>
                  </a:lnTo>
                  <a:lnTo>
                    <a:pt x="63" y="16"/>
                  </a:lnTo>
                  <a:lnTo>
                    <a:pt x="52" y="36"/>
                  </a:lnTo>
                  <a:lnTo>
                    <a:pt x="42" y="54"/>
                  </a:lnTo>
                  <a:lnTo>
                    <a:pt x="34" y="72"/>
                  </a:lnTo>
                  <a:lnTo>
                    <a:pt x="25" y="90"/>
                  </a:lnTo>
                  <a:lnTo>
                    <a:pt x="17" y="108"/>
                  </a:lnTo>
                  <a:lnTo>
                    <a:pt x="9" y="12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29" y="15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94600" y="5276880"/>
              <a:ext cx="47520" cy="60120"/>
            </a:xfrm>
            <a:custGeom>
              <a:avLst/>
              <a:gdLst/>
              <a:ahLst/>
              <a:rect l="l" t="t" r="r" b="b"/>
              <a:pathLst>
                <a:path w="120" h="155">
                  <a:moveTo>
                    <a:pt x="26" y="155"/>
                  </a:moveTo>
                  <a:lnTo>
                    <a:pt x="26" y="155"/>
                  </a:lnTo>
                  <a:lnTo>
                    <a:pt x="40" y="139"/>
                  </a:lnTo>
                  <a:lnTo>
                    <a:pt x="53" y="122"/>
                  </a:lnTo>
                  <a:lnTo>
                    <a:pt x="65" y="106"/>
                  </a:lnTo>
                  <a:lnTo>
                    <a:pt x="77" y="89"/>
                  </a:lnTo>
                  <a:lnTo>
                    <a:pt x="88" y="71"/>
                  </a:lnTo>
                  <a:lnTo>
                    <a:pt x="100" y="54"/>
                  </a:lnTo>
                  <a:lnTo>
                    <a:pt x="110" y="36"/>
                  </a:lnTo>
                  <a:lnTo>
                    <a:pt x="120" y="18"/>
                  </a:lnTo>
                  <a:lnTo>
                    <a:pt x="91" y="0"/>
                  </a:lnTo>
                  <a:lnTo>
                    <a:pt x="80" y="18"/>
                  </a:lnTo>
                  <a:lnTo>
                    <a:pt x="70" y="35"/>
                  </a:lnTo>
                  <a:lnTo>
                    <a:pt x="59" y="52"/>
                  </a:lnTo>
                  <a:lnTo>
                    <a:pt x="48" y="70"/>
                  </a:lnTo>
                  <a:lnTo>
                    <a:pt x="37" y="85"/>
                  </a:lnTo>
                  <a:lnTo>
                    <a:pt x="25" y="102"/>
                  </a:lnTo>
                  <a:lnTo>
                    <a:pt x="13" y="118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26" y="15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51400" y="5329080"/>
              <a:ext cx="54000" cy="51120"/>
            </a:xfrm>
            <a:custGeom>
              <a:avLst/>
              <a:gdLst/>
              <a:ahLst/>
              <a:rect l="l" t="t" r="r" b="b"/>
              <a:pathLst>
                <a:path w="134" h="129">
                  <a:moveTo>
                    <a:pt x="22" y="129"/>
                  </a:moveTo>
                  <a:lnTo>
                    <a:pt x="22" y="129"/>
                  </a:lnTo>
                  <a:lnTo>
                    <a:pt x="37" y="117"/>
                  </a:lnTo>
                  <a:lnTo>
                    <a:pt x="52" y="105"/>
                  </a:lnTo>
                  <a:lnTo>
                    <a:pt x="66" y="91"/>
                  </a:lnTo>
                  <a:lnTo>
                    <a:pt x="80" y="78"/>
                  </a:lnTo>
                  <a:lnTo>
                    <a:pt x="95" y="65"/>
                  </a:lnTo>
                  <a:lnTo>
                    <a:pt x="109" y="52"/>
                  </a:lnTo>
                  <a:lnTo>
                    <a:pt x="122" y="37"/>
                  </a:lnTo>
                  <a:lnTo>
                    <a:pt x="134" y="22"/>
                  </a:lnTo>
                  <a:lnTo>
                    <a:pt x="108" y="0"/>
                  </a:lnTo>
                  <a:lnTo>
                    <a:pt x="96" y="13"/>
                  </a:lnTo>
                  <a:lnTo>
                    <a:pt x="84" y="28"/>
                  </a:lnTo>
                  <a:lnTo>
                    <a:pt x="71" y="41"/>
                  </a:lnTo>
                  <a:lnTo>
                    <a:pt x="58" y="53"/>
                  </a:lnTo>
                  <a:lnTo>
                    <a:pt x="43" y="66"/>
                  </a:lnTo>
                  <a:lnTo>
                    <a:pt x="30" y="78"/>
                  </a:lnTo>
                  <a:lnTo>
                    <a:pt x="16" y="9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2" y="12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16480" y="5369040"/>
              <a:ext cx="43200" cy="33120"/>
            </a:xfrm>
            <a:custGeom>
              <a:avLst/>
              <a:gdLst/>
              <a:ahLst/>
              <a:rect l="l" t="t" r="r" b="b"/>
              <a:pathLst>
                <a:path w="110" h="84">
                  <a:moveTo>
                    <a:pt x="14" y="84"/>
                  </a:moveTo>
                  <a:lnTo>
                    <a:pt x="14" y="84"/>
                  </a:lnTo>
                  <a:lnTo>
                    <a:pt x="27" y="79"/>
                  </a:lnTo>
                  <a:lnTo>
                    <a:pt x="40" y="73"/>
                  </a:lnTo>
                  <a:lnTo>
                    <a:pt x="52" y="66"/>
                  </a:lnTo>
                  <a:lnTo>
                    <a:pt x="64" y="59"/>
                  </a:lnTo>
                  <a:lnTo>
                    <a:pt x="76" y="52"/>
                  </a:lnTo>
                  <a:lnTo>
                    <a:pt x="88" y="43"/>
                  </a:lnTo>
                  <a:lnTo>
                    <a:pt x="99" y="35"/>
                  </a:lnTo>
                  <a:lnTo>
                    <a:pt x="110" y="27"/>
                  </a:lnTo>
                  <a:lnTo>
                    <a:pt x="88" y="0"/>
                  </a:lnTo>
                  <a:lnTo>
                    <a:pt x="78" y="7"/>
                  </a:lnTo>
                  <a:lnTo>
                    <a:pt x="68" y="15"/>
                  </a:lnTo>
                  <a:lnTo>
                    <a:pt x="57" y="23"/>
                  </a:lnTo>
                  <a:lnTo>
                    <a:pt x="46" y="29"/>
                  </a:lnTo>
                  <a:lnTo>
                    <a:pt x="35" y="36"/>
                  </a:lnTo>
                  <a:lnTo>
                    <a:pt x="24" y="42"/>
                  </a:lnTo>
                  <a:lnTo>
                    <a:pt x="12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8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81560" y="5389560"/>
              <a:ext cx="39960" cy="2052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10" y="51"/>
                  </a:moveTo>
                  <a:lnTo>
                    <a:pt x="10" y="51"/>
                  </a:lnTo>
                  <a:lnTo>
                    <a:pt x="21" y="49"/>
                  </a:lnTo>
                  <a:lnTo>
                    <a:pt x="32" y="47"/>
                  </a:lnTo>
                  <a:lnTo>
                    <a:pt x="42" y="45"/>
                  </a:lnTo>
                  <a:lnTo>
                    <a:pt x="54" y="44"/>
                  </a:lnTo>
                  <a:lnTo>
                    <a:pt x="66" y="42"/>
                  </a:lnTo>
                  <a:lnTo>
                    <a:pt x="78" y="39"/>
                  </a:lnTo>
                  <a:lnTo>
                    <a:pt x="92" y="37"/>
                  </a:lnTo>
                  <a:lnTo>
                    <a:pt x="104" y="32"/>
                  </a:lnTo>
                  <a:lnTo>
                    <a:pt x="90" y="0"/>
                  </a:lnTo>
                  <a:lnTo>
                    <a:pt x="82" y="3"/>
                  </a:lnTo>
                  <a:lnTo>
                    <a:pt x="71" y="6"/>
                  </a:lnTo>
                  <a:lnTo>
                    <a:pt x="60" y="8"/>
                  </a:lnTo>
                  <a:lnTo>
                    <a:pt x="50" y="9"/>
                  </a:lnTo>
                  <a:lnTo>
                    <a:pt x="38" y="11"/>
                  </a:lnTo>
                  <a:lnTo>
                    <a:pt x="26" y="13"/>
                  </a:lnTo>
                  <a:lnTo>
                    <a:pt x="14" y="1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54560" y="5397480"/>
              <a:ext cx="30240" cy="1908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32" y="49"/>
                  </a:move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40" y="43"/>
                  </a:lnTo>
                  <a:lnTo>
                    <a:pt x="46" y="41"/>
                  </a:lnTo>
                  <a:lnTo>
                    <a:pt x="52" y="39"/>
                  </a:lnTo>
                  <a:lnTo>
                    <a:pt x="59" y="37"/>
                  </a:lnTo>
                  <a:lnTo>
                    <a:pt x="68" y="36"/>
                  </a:lnTo>
                  <a:lnTo>
                    <a:pt x="76" y="33"/>
                  </a:lnTo>
                  <a:lnTo>
                    <a:pt x="66" y="0"/>
                  </a:lnTo>
                  <a:lnTo>
                    <a:pt x="59" y="2"/>
                  </a:lnTo>
                  <a:lnTo>
                    <a:pt x="52" y="3"/>
                  </a:lnTo>
                  <a:lnTo>
                    <a:pt x="44" y="6"/>
                  </a:lnTo>
                  <a:lnTo>
                    <a:pt x="35" y="8"/>
                  </a:lnTo>
                  <a:lnTo>
                    <a:pt x="26" y="12"/>
                  </a:lnTo>
                  <a:lnTo>
                    <a:pt x="16" y="17"/>
                  </a:lnTo>
                  <a:lnTo>
                    <a:pt x="8" y="2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32" y="4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53120" y="5410080"/>
              <a:ext cx="20520" cy="255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50" y="39"/>
                  </a:moveTo>
                  <a:lnTo>
                    <a:pt x="50" y="39"/>
                  </a:lnTo>
                  <a:lnTo>
                    <a:pt x="47" y="35"/>
                  </a:lnTo>
                  <a:lnTo>
                    <a:pt x="43" y="30"/>
                  </a:lnTo>
                  <a:lnTo>
                    <a:pt x="39" y="27"/>
                  </a:lnTo>
                  <a:lnTo>
                    <a:pt x="37" y="22"/>
                  </a:lnTo>
                  <a:lnTo>
                    <a:pt x="35" y="20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6" y="39"/>
                  </a:lnTo>
                  <a:lnTo>
                    <a:pt x="11" y="46"/>
                  </a:lnTo>
                  <a:lnTo>
                    <a:pt x="15" y="53"/>
                  </a:lnTo>
                  <a:lnTo>
                    <a:pt x="20" y="58"/>
                  </a:lnTo>
                  <a:lnTo>
                    <a:pt x="25" y="64"/>
                  </a:lnTo>
                  <a:lnTo>
                    <a:pt x="25" y="64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164280" y="5425920"/>
              <a:ext cx="42840" cy="33480"/>
            </a:xfrm>
            <a:custGeom>
              <a:avLst/>
              <a:gdLst/>
              <a:ahLst/>
              <a:rect l="l" t="t" r="r" b="b"/>
              <a:pathLst>
                <a:path w="112" h="85">
                  <a:moveTo>
                    <a:pt x="112" y="62"/>
                  </a:moveTo>
                  <a:lnTo>
                    <a:pt x="112" y="62"/>
                  </a:lnTo>
                  <a:lnTo>
                    <a:pt x="101" y="51"/>
                  </a:lnTo>
                  <a:lnTo>
                    <a:pt x="89" y="42"/>
                  </a:lnTo>
                  <a:lnTo>
                    <a:pt x="77" y="33"/>
                  </a:lnTo>
                  <a:lnTo>
                    <a:pt x="65" y="27"/>
                  </a:lnTo>
                  <a:lnTo>
                    <a:pt x="54" y="20"/>
                  </a:lnTo>
                  <a:lnTo>
                    <a:pt x="43" y="14"/>
                  </a:lnTo>
                  <a:lnTo>
                    <a:pt x="34" y="7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12" y="35"/>
                  </a:lnTo>
                  <a:lnTo>
                    <a:pt x="24" y="43"/>
                  </a:lnTo>
                  <a:lnTo>
                    <a:pt x="36" y="50"/>
                  </a:lnTo>
                  <a:lnTo>
                    <a:pt x="48" y="57"/>
                  </a:lnTo>
                  <a:lnTo>
                    <a:pt x="59" y="63"/>
                  </a:lnTo>
                  <a:lnTo>
                    <a:pt x="68" y="69"/>
                  </a:lnTo>
                  <a:lnTo>
                    <a:pt x="78" y="77"/>
                  </a:lnTo>
                  <a:lnTo>
                    <a:pt x="85" y="85"/>
                  </a:lnTo>
                  <a:lnTo>
                    <a:pt x="85" y="85"/>
                  </a:lnTo>
                  <a:lnTo>
                    <a:pt x="112" y="6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97760" y="5450040"/>
              <a:ext cx="33120" cy="52200"/>
            </a:xfrm>
            <a:custGeom>
              <a:avLst/>
              <a:gdLst/>
              <a:ahLst/>
              <a:rect l="l" t="t" r="r" b="b"/>
              <a:pathLst>
                <a:path w="84" h="130">
                  <a:moveTo>
                    <a:pt x="84" y="114"/>
                  </a:moveTo>
                  <a:lnTo>
                    <a:pt x="84" y="114"/>
                  </a:lnTo>
                  <a:lnTo>
                    <a:pt x="78" y="101"/>
                  </a:lnTo>
                  <a:lnTo>
                    <a:pt x="72" y="87"/>
                  </a:lnTo>
                  <a:lnTo>
                    <a:pt x="66" y="72"/>
                  </a:lnTo>
                  <a:lnTo>
                    <a:pt x="60" y="58"/>
                  </a:lnTo>
                  <a:lnTo>
                    <a:pt x="53" y="43"/>
                  </a:lnTo>
                  <a:lnTo>
                    <a:pt x="46" y="29"/>
                  </a:lnTo>
                  <a:lnTo>
                    <a:pt x="37" y="15"/>
                  </a:lnTo>
                  <a:lnTo>
                    <a:pt x="27" y="0"/>
                  </a:lnTo>
                  <a:lnTo>
                    <a:pt x="0" y="23"/>
                  </a:lnTo>
                  <a:lnTo>
                    <a:pt x="9" y="34"/>
                  </a:lnTo>
                  <a:lnTo>
                    <a:pt x="16" y="46"/>
                  </a:lnTo>
                  <a:lnTo>
                    <a:pt x="22" y="58"/>
                  </a:lnTo>
                  <a:lnTo>
                    <a:pt x="28" y="72"/>
                  </a:lnTo>
                  <a:lnTo>
                    <a:pt x="34" y="85"/>
                  </a:lnTo>
                  <a:lnTo>
                    <a:pt x="40" y="100"/>
                  </a:lnTo>
                  <a:lnTo>
                    <a:pt x="46" y="114"/>
                  </a:lnTo>
                  <a:lnTo>
                    <a:pt x="53" y="130"/>
                  </a:lnTo>
                  <a:lnTo>
                    <a:pt x="53" y="130"/>
                  </a:lnTo>
                  <a:lnTo>
                    <a:pt x="84" y="11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18280" y="5495760"/>
              <a:ext cx="41400" cy="68400"/>
            </a:xfrm>
            <a:custGeom>
              <a:avLst/>
              <a:gdLst/>
              <a:ahLst/>
              <a:rect l="l" t="t" r="r" b="b"/>
              <a:pathLst>
                <a:path w="102" h="173">
                  <a:moveTo>
                    <a:pt x="102" y="149"/>
                  </a:moveTo>
                  <a:lnTo>
                    <a:pt x="102" y="149"/>
                  </a:lnTo>
                  <a:lnTo>
                    <a:pt x="96" y="142"/>
                  </a:lnTo>
                  <a:lnTo>
                    <a:pt x="90" y="135"/>
                  </a:lnTo>
                  <a:lnTo>
                    <a:pt x="85" y="126"/>
                  </a:lnTo>
                  <a:lnTo>
                    <a:pt x="80" y="119"/>
                  </a:lnTo>
                  <a:lnTo>
                    <a:pt x="71" y="101"/>
                  </a:lnTo>
                  <a:lnTo>
                    <a:pt x="64" y="82"/>
                  </a:lnTo>
                  <a:lnTo>
                    <a:pt x="55" y="61"/>
                  </a:lnTo>
                  <a:lnTo>
                    <a:pt x="48" y="41"/>
                  </a:lnTo>
                  <a:lnTo>
                    <a:pt x="41" y="21"/>
                  </a:lnTo>
                  <a:lnTo>
                    <a:pt x="31" y="0"/>
                  </a:lnTo>
                  <a:lnTo>
                    <a:pt x="0" y="16"/>
                  </a:lnTo>
                  <a:lnTo>
                    <a:pt x="8" y="34"/>
                  </a:lnTo>
                  <a:lnTo>
                    <a:pt x="16" y="53"/>
                  </a:lnTo>
                  <a:lnTo>
                    <a:pt x="23" y="73"/>
                  </a:lnTo>
                  <a:lnTo>
                    <a:pt x="31" y="94"/>
                  </a:lnTo>
                  <a:lnTo>
                    <a:pt x="40" y="115"/>
                  </a:lnTo>
                  <a:lnTo>
                    <a:pt x="49" y="135"/>
                  </a:lnTo>
                  <a:lnTo>
                    <a:pt x="55" y="145"/>
                  </a:lnTo>
                  <a:lnTo>
                    <a:pt x="61" y="155"/>
                  </a:lnTo>
                  <a:lnTo>
                    <a:pt x="68" y="163"/>
                  </a:lnTo>
                  <a:lnTo>
                    <a:pt x="77" y="173"/>
                  </a:lnTo>
                  <a:lnTo>
                    <a:pt x="77" y="173"/>
                  </a:lnTo>
                  <a:lnTo>
                    <a:pt x="102" y="14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48520" y="5554800"/>
              <a:ext cx="71280" cy="47520"/>
            </a:xfrm>
            <a:custGeom>
              <a:avLst/>
              <a:gdLst/>
              <a:ahLst/>
              <a:rect l="l" t="t" r="r" b="b"/>
              <a:pathLst>
                <a:path w="180" h="119">
                  <a:moveTo>
                    <a:pt x="180" y="89"/>
                  </a:moveTo>
                  <a:lnTo>
                    <a:pt x="180" y="89"/>
                  </a:lnTo>
                  <a:lnTo>
                    <a:pt x="158" y="78"/>
                  </a:lnTo>
                  <a:lnTo>
                    <a:pt x="137" y="68"/>
                  </a:lnTo>
                  <a:lnTo>
                    <a:pt x="115" y="59"/>
                  </a:lnTo>
                  <a:lnTo>
                    <a:pt x="95" y="49"/>
                  </a:lnTo>
                  <a:lnTo>
                    <a:pt x="75" y="38"/>
                  </a:lnTo>
                  <a:lnTo>
                    <a:pt x="56" y="26"/>
                  </a:lnTo>
                  <a:lnTo>
                    <a:pt x="48" y="20"/>
                  </a:lnTo>
                  <a:lnTo>
                    <a:pt x="39" y="14"/>
                  </a:lnTo>
                  <a:lnTo>
                    <a:pt x="32" y="7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18" y="41"/>
                  </a:lnTo>
                  <a:lnTo>
                    <a:pt x="27" y="48"/>
                  </a:lnTo>
                  <a:lnTo>
                    <a:pt x="38" y="55"/>
                  </a:lnTo>
                  <a:lnTo>
                    <a:pt x="57" y="68"/>
                  </a:lnTo>
                  <a:lnTo>
                    <a:pt x="79" y="79"/>
                  </a:lnTo>
                  <a:lnTo>
                    <a:pt x="101" y="90"/>
                  </a:lnTo>
                  <a:lnTo>
                    <a:pt x="122" y="100"/>
                  </a:lnTo>
                  <a:lnTo>
                    <a:pt x="144" y="109"/>
                  </a:lnTo>
                  <a:lnTo>
                    <a:pt x="164" y="119"/>
                  </a:lnTo>
                  <a:lnTo>
                    <a:pt x="164" y="119"/>
                  </a:lnTo>
                  <a:lnTo>
                    <a:pt x="180" y="8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13320" y="5589720"/>
              <a:ext cx="55800" cy="31680"/>
            </a:xfrm>
            <a:custGeom>
              <a:avLst/>
              <a:gdLst/>
              <a:ahLst/>
              <a:rect l="l" t="t" r="r" b="b"/>
              <a:pathLst>
                <a:path w="139" h="79">
                  <a:moveTo>
                    <a:pt x="139" y="49"/>
                  </a:moveTo>
                  <a:lnTo>
                    <a:pt x="139" y="49"/>
                  </a:lnTo>
                  <a:lnTo>
                    <a:pt x="124" y="40"/>
                  </a:lnTo>
                  <a:lnTo>
                    <a:pt x="107" y="33"/>
                  </a:lnTo>
                  <a:lnTo>
                    <a:pt x="91" y="27"/>
                  </a:lnTo>
                  <a:lnTo>
                    <a:pt x="75" y="21"/>
                  </a:lnTo>
                  <a:lnTo>
                    <a:pt x="59" y="17"/>
                  </a:lnTo>
                  <a:lnTo>
                    <a:pt x="43" y="12"/>
                  </a:lnTo>
                  <a:lnTo>
                    <a:pt x="29" y="6"/>
                  </a:lnTo>
                  <a:lnTo>
                    <a:pt x="16" y="0"/>
                  </a:lnTo>
                  <a:lnTo>
                    <a:pt x="0" y="30"/>
                  </a:lnTo>
                  <a:lnTo>
                    <a:pt x="16" y="37"/>
                  </a:lnTo>
                  <a:lnTo>
                    <a:pt x="33" y="44"/>
                  </a:lnTo>
                  <a:lnTo>
                    <a:pt x="48" y="49"/>
                  </a:lnTo>
                  <a:lnTo>
                    <a:pt x="64" y="55"/>
                  </a:lnTo>
                  <a:lnTo>
                    <a:pt x="79" y="60"/>
                  </a:lnTo>
                  <a:lnTo>
                    <a:pt x="94" y="66"/>
                  </a:lnTo>
                  <a:lnTo>
                    <a:pt x="108" y="72"/>
                  </a:lnTo>
                  <a:lnTo>
                    <a:pt x="121" y="79"/>
                  </a:lnTo>
                  <a:lnTo>
                    <a:pt x="121" y="79"/>
                  </a:lnTo>
                  <a:lnTo>
                    <a:pt x="139" y="4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62640" y="5608800"/>
              <a:ext cx="27000" cy="2844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9" y="60"/>
                  </a:moveTo>
                  <a:lnTo>
                    <a:pt x="69" y="60"/>
                  </a:lnTo>
                  <a:lnTo>
                    <a:pt x="65" y="49"/>
                  </a:lnTo>
                  <a:lnTo>
                    <a:pt x="60" y="39"/>
                  </a:lnTo>
                  <a:lnTo>
                    <a:pt x="54" y="31"/>
                  </a:lnTo>
                  <a:lnTo>
                    <a:pt x="48" y="24"/>
                  </a:lnTo>
                  <a:lnTo>
                    <a:pt x="41" y="17"/>
                  </a:lnTo>
                  <a:lnTo>
                    <a:pt x="34" y="11"/>
                  </a:lnTo>
                  <a:lnTo>
                    <a:pt x="26" y="5"/>
                  </a:lnTo>
                  <a:lnTo>
                    <a:pt x="18" y="0"/>
                  </a:lnTo>
                  <a:lnTo>
                    <a:pt x="0" y="30"/>
                  </a:lnTo>
                  <a:lnTo>
                    <a:pt x="6" y="33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3" y="47"/>
                  </a:lnTo>
                  <a:lnTo>
                    <a:pt x="27" y="53"/>
                  </a:lnTo>
                  <a:lnTo>
                    <a:pt x="30" y="57"/>
                  </a:lnTo>
                  <a:lnTo>
                    <a:pt x="34" y="62"/>
                  </a:lnTo>
                  <a:lnTo>
                    <a:pt x="35" y="68"/>
                  </a:lnTo>
                  <a:lnTo>
                    <a:pt x="35" y="68"/>
                  </a:lnTo>
                  <a:lnTo>
                    <a:pt x="69" y="6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75240" y="5632560"/>
              <a:ext cx="16200" cy="3816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12" y="93"/>
                  </a:moveTo>
                  <a:lnTo>
                    <a:pt x="12" y="93"/>
                  </a:lnTo>
                  <a:lnTo>
                    <a:pt x="19" y="90"/>
                  </a:lnTo>
                  <a:lnTo>
                    <a:pt x="25" y="85"/>
                  </a:lnTo>
                  <a:lnTo>
                    <a:pt x="30" y="79"/>
                  </a:lnTo>
                  <a:lnTo>
                    <a:pt x="35" y="72"/>
                  </a:lnTo>
                  <a:lnTo>
                    <a:pt x="38" y="60"/>
                  </a:lnTo>
                  <a:lnTo>
                    <a:pt x="41" y="48"/>
                  </a:lnTo>
                  <a:lnTo>
                    <a:pt x="41" y="35"/>
                  </a:lnTo>
                  <a:lnTo>
                    <a:pt x="40" y="21"/>
                  </a:lnTo>
                  <a:lnTo>
                    <a:pt x="37" y="11"/>
                  </a:lnTo>
                  <a:lnTo>
                    <a:pt x="35" y="0"/>
                  </a:lnTo>
                  <a:lnTo>
                    <a:pt x="1" y="8"/>
                  </a:lnTo>
                  <a:lnTo>
                    <a:pt x="4" y="17"/>
                  </a:lnTo>
                  <a:lnTo>
                    <a:pt x="5" y="26"/>
                  </a:lnTo>
                  <a:lnTo>
                    <a:pt x="6" y="36"/>
                  </a:lnTo>
                  <a:lnTo>
                    <a:pt x="6" y="44"/>
                  </a:lnTo>
                  <a:lnTo>
                    <a:pt x="5" y="53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2" y="9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24480" y="5649840"/>
              <a:ext cx="55800" cy="2232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33"/>
                  </a:moveTo>
                  <a:lnTo>
                    <a:pt x="0" y="33"/>
                  </a:lnTo>
                  <a:lnTo>
                    <a:pt x="14" y="38"/>
                  </a:lnTo>
                  <a:lnTo>
                    <a:pt x="31" y="43"/>
                  </a:lnTo>
                  <a:lnTo>
                    <a:pt x="48" y="49"/>
                  </a:lnTo>
                  <a:lnTo>
                    <a:pt x="65" y="53"/>
                  </a:lnTo>
                  <a:lnTo>
                    <a:pt x="83" y="56"/>
                  </a:lnTo>
                  <a:lnTo>
                    <a:pt x="101" y="57"/>
                  </a:lnTo>
                  <a:lnTo>
                    <a:pt x="111" y="57"/>
                  </a:lnTo>
                  <a:lnTo>
                    <a:pt x="120" y="56"/>
                  </a:lnTo>
                  <a:lnTo>
                    <a:pt x="129" y="54"/>
                  </a:lnTo>
                  <a:lnTo>
                    <a:pt x="139" y="51"/>
                  </a:lnTo>
                  <a:lnTo>
                    <a:pt x="127" y="19"/>
                  </a:lnTo>
                  <a:lnTo>
                    <a:pt x="121" y="21"/>
                  </a:lnTo>
                  <a:lnTo>
                    <a:pt x="115" y="23"/>
                  </a:lnTo>
                  <a:lnTo>
                    <a:pt x="108" y="23"/>
                  </a:lnTo>
                  <a:lnTo>
                    <a:pt x="102" y="24"/>
                  </a:lnTo>
                  <a:lnTo>
                    <a:pt x="87" y="23"/>
                  </a:lnTo>
                  <a:lnTo>
                    <a:pt x="73" y="19"/>
                  </a:lnTo>
                  <a:lnTo>
                    <a:pt x="57" y="15"/>
                  </a:lnTo>
                  <a:lnTo>
                    <a:pt x="42" y="11"/>
                  </a:lnTo>
                  <a:lnTo>
                    <a:pt x="25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70480" y="562752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7">
                  <a:moveTo>
                    <a:pt x="0" y="31"/>
                  </a:moveTo>
                  <a:lnTo>
                    <a:pt x="0" y="31"/>
                  </a:lnTo>
                  <a:lnTo>
                    <a:pt x="17" y="39"/>
                  </a:lnTo>
                  <a:lnTo>
                    <a:pt x="33" y="47"/>
                  </a:lnTo>
                  <a:lnTo>
                    <a:pt x="50" y="54"/>
                  </a:lnTo>
                  <a:lnTo>
                    <a:pt x="67" y="61"/>
                  </a:lnTo>
                  <a:lnTo>
                    <a:pt x="84" y="68"/>
                  </a:lnTo>
                  <a:lnTo>
                    <a:pt x="102" y="75"/>
                  </a:lnTo>
                  <a:lnTo>
                    <a:pt x="120" y="81"/>
                  </a:lnTo>
                  <a:lnTo>
                    <a:pt x="138" y="87"/>
                  </a:lnTo>
                  <a:lnTo>
                    <a:pt x="146" y="54"/>
                  </a:lnTo>
                  <a:lnTo>
                    <a:pt x="131" y="49"/>
                  </a:lnTo>
                  <a:lnTo>
                    <a:pt x="114" y="43"/>
                  </a:lnTo>
                  <a:lnTo>
                    <a:pt x="97" y="37"/>
                  </a:lnTo>
                  <a:lnTo>
                    <a:pt x="80" y="30"/>
                  </a:lnTo>
                  <a:lnTo>
                    <a:pt x="65" y="23"/>
                  </a:lnTo>
                  <a:lnTo>
                    <a:pt x="48" y="14"/>
                  </a:lnTo>
                  <a:lnTo>
                    <a:pt x="31" y="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05680" y="5599080"/>
              <a:ext cx="69840" cy="41400"/>
            </a:xfrm>
            <a:custGeom>
              <a:avLst/>
              <a:gdLst/>
              <a:ahLst/>
              <a:rect l="l" t="t" r="r" b="b"/>
              <a:pathLst>
                <a:path w="176" h="103">
                  <a:moveTo>
                    <a:pt x="0" y="29"/>
                  </a:moveTo>
                  <a:lnTo>
                    <a:pt x="0" y="29"/>
                  </a:lnTo>
                  <a:lnTo>
                    <a:pt x="19" y="41"/>
                  </a:lnTo>
                  <a:lnTo>
                    <a:pt x="39" y="53"/>
                  </a:lnTo>
                  <a:lnTo>
                    <a:pt x="60" y="62"/>
                  </a:lnTo>
                  <a:lnTo>
                    <a:pt x="80" y="71"/>
                  </a:lnTo>
                  <a:lnTo>
                    <a:pt x="102" y="79"/>
                  </a:lnTo>
                  <a:lnTo>
                    <a:pt x="122" y="87"/>
                  </a:lnTo>
                  <a:lnTo>
                    <a:pt x="143" y="96"/>
                  </a:lnTo>
                  <a:lnTo>
                    <a:pt x="162" y="103"/>
                  </a:lnTo>
                  <a:lnTo>
                    <a:pt x="176" y="72"/>
                  </a:lnTo>
                  <a:lnTo>
                    <a:pt x="156" y="63"/>
                  </a:lnTo>
                  <a:lnTo>
                    <a:pt x="134" y="55"/>
                  </a:lnTo>
                  <a:lnTo>
                    <a:pt x="114" y="47"/>
                  </a:lnTo>
                  <a:lnTo>
                    <a:pt x="93" y="39"/>
                  </a:lnTo>
                  <a:lnTo>
                    <a:pt x="74" y="31"/>
                  </a:lnTo>
                  <a:lnTo>
                    <a:pt x="55" y="21"/>
                  </a:lnTo>
                  <a:lnTo>
                    <a:pt x="37" y="1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68960" y="5560920"/>
              <a:ext cx="44640" cy="5076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0" y="15"/>
                  </a:moveTo>
                  <a:lnTo>
                    <a:pt x="0" y="15"/>
                  </a:lnTo>
                  <a:lnTo>
                    <a:pt x="8" y="31"/>
                  </a:lnTo>
                  <a:lnTo>
                    <a:pt x="18" y="47"/>
                  </a:lnTo>
                  <a:lnTo>
                    <a:pt x="27" y="61"/>
                  </a:lnTo>
                  <a:lnTo>
                    <a:pt x="38" y="75"/>
                  </a:lnTo>
                  <a:lnTo>
                    <a:pt x="50" y="89"/>
                  </a:lnTo>
                  <a:lnTo>
                    <a:pt x="63" y="102"/>
                  </a:lnTo>
                  <a:lnTo>
                    <a:pt x="76" y="114"/>
                  </a:lnTo>
                  <a:lnTo>
                    <a:pt x="91" y="126"/>
                  </a:lnTo>
                  <a:lnTo>
                    <a:pt x="111" y="97"/>
                  </a:lnTo>
                  <a:lnTo>
                    <a:pt x="98" y="87"/>
                  </a:lnTo>
                  <a:lnTo>
                    <a:pt x="87" y="77"/>
                  </a:lnTo>
                  <a:lnTo>
                    <a:pt x="75" y="66"/>
                  </a:lnTo>
                  <a:lnTo>
                    <a:pt x="66" y="54"/>
                  </a:lnTo>
                  <a:lnTo>
                    <a:pt x="55" y="41"/>
                  </a:lnTo>
                  <a:lnTo>
                    <a:pt x="46" y="27"/>
                  </a:lnTo>
                  <a:lnTo>
                    <a:pt x="38" y="13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64280" y="5526000"/>
              <a:ext cx="17280" cy="41400"/>
            </a:xfrm>
            <a:custGeom>
              <a:avLst/>
              <a:gdLst/>
              <a:ahLst/>
              <a:rect l="l" t="t" r="r" b="b"/>
              <a:pathLst>
                <a:path w="45" h="105">
                  <a:moveTo>
                    <a:pt x="0" y="11"/>
                  </a:moveTo>
                  <a:lnTo>
                    <a:pt x="0" y="11"/>
                  </a:lnTo>
                  <a:lnTo>
                    <a:pt x="3" y="19"/>
                  </a:lnTo>
                  <a:lnTo>
                    <a:pt x="4" y="30"/>
                  </a:lnTo>
                  <a:lnTo>
                    <a:pt x="4" y="41"/>
                  </a:lnTo>
                  <a:lnTo>
                    <a:pt x="4" y="53"/>
                  </a:lnTo>
                  <a:lnTo>
                    <a:pt x="4" y="65"/>
                  </a:lnTo>
                  <a:lnTo>
                    <a:pt x="5" y="78"/>
                  </a:lnTo>
                  <a:lnTo>
                    <a:pt x="9" y="91"/>
                  </a:lnTo>
                  <a:lnTo>
                    <a:pt x="14" y="105"/>
                  </a:lnTo>
                  <a:lnTo>
                    <a:pt x="45" y="90"/>
                  </a:lnTo>
                  <a:lnTo>
                    <a:pt x="41" y="81"/>
                  </a:lnTo>
                  <a:lnTo>
                    <a:pt x="40" y="73"/>
                  </a:lnTo>
                  <a:lnTo>
                    <a:pt x="39" y="62"/>
                  </a:lnTo>
                  <a:lnTo>
                    <a:pt x="39" y="51"/>
                  </a:lnTo>
                  <a:lnTo>
                    <a:pt x="39" y="39"/>
                  </a:lnTo>
                  <a:lnTo>
                    <a:pt x="38" y="26"/>
                  </a:lnTo>
                  <a:lnTo>
                    <a:pt x="36" y="1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49880" y="5492880"/>
              <a:ext cx="27000" cy="36360"/>
            </a:xfrm>
            <a:custGeom>
              <a:avLst/>
              <a:gdLst/>
              <a:ahLst/>
              <a:rect l="l" t="t" r="r" b="b"/>
              <a:pathLst>
                <a:path w="70" h="93">
                  <a:moveTo>
                    <a:pt x="0" y="28"/>
                  </a:moveTo>
                  <a:lnTo>
                    <a:pt x="0" y="28"/>
                  </a:lnTo>
                  <a:lnTo>
                    <a:pt x="6" y="33"/>
                  </a:lnTo>
                  <a:lnTo>
                    <a:pt x="12" y="40"/>
                  </a:lnTo>
                  <a:lnTo>
                    <a:pt x="17" y="47"/>
                  </a:lnTo>
                  <a:lnTo>
                    <a:pt x="22" y="55"/>
                  </a:lnTo>
                  <a:lnTo>
                    <a:pt x="27" y="64"/>
                  </a:lnTo>
                  <a:lnTo>
                    <a:pt x="30" y="73"/>
                  </a:lnTo>
                  <a:lnTo>
                    <a:pt x="34" y="83"/>
                  </a:lnTo>
                  <a:lnTo>
                    <a:pt x="37" y="93"/>
                  </a:lnTo>
                  <a:lnTo>
                    <a:pt x="70" y="82"/>
                  </a:lnTo>
                  <a:lnTo>
                    <a:pt x="66" y="71"/>
                  </a:lnTo>
                  <a:lnTo>
                    <a:pt x="63" y="60"/>
                  </a:lnTo>
                  <a:lnTo>
                    <a:pt x="58" y="49"/>
                  </a:lnTo>
                  <a:lnTo>
                    <a:pt x="53" y="39"/>
                  </a:lnTo>
                  <a:lnTo>
                    <a:pt x="46" y="28"/>
                  </a:lnTo>
                  <a:lnTo>
                    <a:pt x="40" y="18"/>
                  </a:lnTo>
                  <a:lnTo>
                    <a:pt x="31" y="9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29360" y="5487840"/>
              <a:ext cx="28440" cy="1620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4" y="39"/>
                  </a:moveTo>
                  <a:lnTo>
                    <a:pt x="24" y="39"/>
                  </a:lnTo>
                  <a:lnTo>
                    <a:pt x="25" y="37"/>
                  </a:lnTo>
                  <a:lnTo>
                    <a:pt x="27" y="36"/>
                  </a:lnTo>
                  <a:lnTo>
                    <a:pt x="31" y="35"/>
                  </a:lnTo>
                  <a:lnTo>
                    <a:pt x="36" y="35"/>
                  </a:lnTo>
                  <a:lnTo>
                    <a:pt x="39" y="35"/>
                  </a:lnTo>
                  <a:lnTo>
                    <a:pt x="44" y="36"/>
                  </a:lnTo>
                  <a:lnTo>
                    <a:pt x="48" y="37"/>
                  </a:lnTo>
                  <a:lnTo>
                    <a:pt x="50" y="40"/>
                  </a:lnTo>
                  <a:lnTo>
                    <a:pt x="72" y="12"/>
                  </a:lnTo>
                  <a:lnTo>
                    <a:pt x="63" y="7"/>
                  </a:lnTo>
                  <a:lnTo>
                    <a:pt x="55" y="4"/>
                  </a:lnTo>
                  <a:lnTo>
                    <a:pt x="45" y="1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7" y="3"/>
                  </a:lnTo>
                  <a:lnTo>
                    <a:pt x="8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118200" y="5494320"/>
              <a:ext cx="20520" cy="33480"/>
            </a:xfrm>
            <a:custGeom>
              <a:avLst/>
              <a:gdLst/>
              <a:ahLst/>
              <a:rect l="l" t="t" r="r" b="b"/>
              <a:pathLst>
                <a:path w="54" h="88">
                  <a:moveTo>
                    <a:pt x="35" y="88"/>
                  </a:moveTo>
                  <a:lnTo>
                    <a:pt x="35" y="88"/>
                  </a:lnTo>
                  <a:lnTo>
                    <a:pt x="36" y="78"/>
                  </a:lnTo>
                  <a:lnTo>
                    <a:pt x="37" y="69"/>
                  </a:lnTo>
                  <a:lnTo>
                    <a:pt x="38" y="60"/>
                  </a:lnTo>
                  <a:lnTo>
                    <a:pt x="41" y="51"/>
                  </a:lnTo>
                  <a:lnTo>
                    <a:pt x="43" y="44"/>
                  </a:lnTo>
                  <a:lnTo>
                    <a:pt x="45" y="36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30" y="0"/>
                  </a:lnTo>
                  <a:lnTo>
                    <a:pt x="21" y="10"/>
                  </a:lnTo>
                  <a:lnTo>
                    <a:pt x="15" y="21"/>
                  </a:lnTo>
                  <a:lnTo>
                    <a:pt x="11" y="32"/>
                  </a:lnTo>
                  <a:lnTo>
                    <a:pt x="7" y="42"/>
                  </a:lnTo>
                  <a:lnTo>
                    <a:pt x="5" y="53"/>
                  </a:lnTo>
                  <a:lnTo>
                    <a:pt x="2" y="64"/>
                  </a:lnTo>
                  <a:lnTo>
                    <a:pt x="1" y="75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5" y="8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16760" y="5527800"/>
              <a:ext cx="14040" cy="66600"/>
            </a:xfrm>
            <a:custGeom>
              <a:avLst/>
              <a:gdLst/>
              <a:ahLst/>
              <a:rect l="l" t="t" r="r" b="b"/>
              <a:pathLst>
                <a:path w="38" h="168">
                  <a:moveTo>
                    <a:pt x="38" y="167"/>
                  </a:moveTo>
                  <a:lnTo>
                    <a:pt x="38" y="167"/>
                  </a:lnTo>
                  <a:lnTo>
                    <a:pt x="36" y="147"/>
                  </a:lnTo>
                  <a:lnTo>
                    <a:pt x="36" y="125"/>
                  </a:lnTo>
                  <a:lnTo>
                    <a:pt x="35" y="105"/>
                  </a:lnTo>
                  <a:lnTo>
                    <a:pt x="35" y="84"/>
                  </a:lnTo>
                  <a:lnTo>
                    <a:pt x="35" y="64"/>
                  </a:lnTo>
                  <a:lnTo>
                    <a:pt x="35" y="44"/>
                  </a:lnTo>
                  <a:lnTo>
                    <a:pt x="36" y="24"/>
                  </a:lnTo>
                  <a:lnTo>
                    <a:pt x="38" y="4"/>
                  </a:lnTo>
                  <a:lnTo>
                    <a:pt x="3" y="0"/>
                  </a:lnTo>
                  <a:lnTo>
                    <a:pt x="2" y="22"/>
                  </a:lnTo>
                  <a:lnTo>
                    <a:pt x="0" y="44"/>
                  </a:lnTo>
                  <a:lnTo>
                    <a:pt x="0" y="64"/>
                  </a:lnTo>
                  <a:lnTo>
                    <a:pt x="0" y="86"/>
                  </a:lnTo>
                  <a:lnTo>
                    <a:pt x="0" y="106"/>
                  </a:lnTo>
                  <a:lnTo>
                    <a:pt x="2" y="126"/>
                  </a:lnTo>
                  <a:lnTo>
                    <a:pt x="3" y="148"/>
                  </a:lnTo>
                  <a:lnTo>
                    <a:pt x="3" y="168"/>
                  </a:lnTo>
                  <a:lnTo>
                    <a:pt x="3" y="168"/>
                  </a:lnTo>
                  <a:lnTo>
                    <a:pt x="38" y="16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118200" y="5592600"/>
              <a:ext cx="15840" cy="52560"/>
            </a:xfrm>
            <a:custGeom>
              <a:avLst/>
              <a:gdLst/>
              <a:ahLst/>
              <a:rect l="l" t="t" r="r" b="b"/>
              <a:pathLst>
                <a:path w="42" h="132">
                  <a:moveTo>
                    <a:pt x="41" y="132"/>
                  </a:moveTo>
                  <a:lnTo>
                    <a:pt x="41" y="132"/>
                  </a:lnTo>
                  <a:lnTo>
                    <a:pt x="42" y="114"/>
                  </a:lnTo>
                  <a:lnTo>
                    <a:pt x="42" y="97"/>
                  </a:lnTo>
                  <a:lnTo>
                    <a:pt x="42" y="80"/>
                  </a:lnTo>
                  <a:lnTo>
                    <a:pt x="41" y="64"/>
                  </a:lnTo>
                  <a:lnTo>
                    <a:pt x="38" y="47"/>
                  </a:lnTo>
                  <a:lnTo>
                    <a:pt x="37" y="31"/>
                  </a:lnTo>
                  <a:lnTo>
                    <a:pt x="36" y="16"/>
                  </a:lnTo>
                  <a:lnTo>
                    <a:pt x="35" y="0"/>
                  </a:lnTo>
                  <a:lnTo>
                    <a:pt x="0" y="1"/>
                  </a:lnTo>
                  <a:lnTo>
                    <a:pt x="1" y="18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6" y="66"/>
                  </a:lnTo>
                  <a:lnTo>
                    <a:pt x="7" y="82"/>
                  </a:lnTo>
                  <a:lnTo>
                    <a:pt x="7" y="97"/>
                  </a:lnTo>
                  <a:lnTo>
                    <a:pt x="7" y="113"/>
                  </a:lnTo>
                  <a:lnTo>
                    <a:pt x="6" y="127"/>
                  </a:lnTo>
                  <a:lnTo>
                    <a:pt x="6" y="127"/>
                  </a:lnTo>
                  <a:lnTo>
                    <a:pt x="41" y="13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05600" y="5643720"/>
              <a:ext cx="28440" cy="3960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32" y="100"/>
                  </a:moveTo>
                  <a:lnTo>
                    <a:pt x="32" y="100"/>
                  </a:lnTo>
                  <a:lnTo>
                    <a:pt x="37" y="90"/>
                  </a:lnTo>
                  <a:lnTo>
                    <a:pt x="42" y="79"/>
                  </a:lnTo>
                  <a:lnTo>
                    <a:pt x="48" y="67"/>
                  </a:lnTo>
                  <a:lnTo>
                    <a:pt x="54" y="57"/>
                  </a:lnTo>
                  <a:lnTo>
                    <a:pt x="59" y="45"/>
                  </a:lnTo>
                  <a:lnTo>
                    <a:pt x="63" y="31"/>
                  </a:lnTo>
                  <a:lnTo>
                    <a:pt x="68" y="18"/>
                  </a:lnTo>
                  <a:lnTo>
                    <a:pt x="71" y="5"/>
                  </a:lnTo>
                  <a:lnTo>
                    <a:pt x="36" y="0"/>
                  </a:lnTo>
                  <a:lnTo>
                    <a:pt x="35" y="10"/>
                  </a:lnTo>
                  <a:lnTo>
                    <a:pt x="31" y="21"/>
                  </a:lnTo>
                  <a:lnTo>
                    <a:pt x="27" y="30"/>
                  </a:lnTo>
                  <a:lnTo>
                    <a:pt x="23" y="41"/>
                  </a:lnTo>
                  <a:lnTo>
                    <a:pt x="17" y="53"/>
                  </a:lnTo>
                  <a:lnTo>
                    <a:pt x="11" y="64"/>
                  </a:lnTo>
                  <a:lnTo>
                    <a:pt x="6" y="7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32" y="10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89760" y="5678640"/>
              <a:ext cx="28440" cy="48960"/>
            </a:xfrm>
            <a:custGeom>
              <a:avLst/>
              <a:gdLst/>
              <a:ahLst/>
              <a:rect l="l" t="t" r="r" b="b"/>
              <a:pathLst>
                <a:path w="73" h="126">
                  <a:moveTo>
                    <a:pt x="29" y="126"/>
                  </a:moveTo>
                  <a:lnTo>
                    <a:pt x="29" y="126"/>
                  </a:lnTo>
                  <a:lnTo>
                    <a:pt x="37" y="113"/>
                  </a:lnTo>
                  <a:lnTo>
                    <a:pt x="44" y="97"/>
                  </a:lnTo>
                  <a:lnTo>
                    <a:pt x="50" y="83"/>
                  </a:lnTo>
                  <a:lnTo>
                    <a:pt x="55" y="68"/>
                  </a:lnTo>
                  <a:lnTo>
                    <a:pt x="60" y="54"/>
                  </a:lnTo>
                  <a:lnTo>
                    <a:pt x="65" y="39"/>
                  </a:lnTo>
                  <a:lnTo>
                    <a:pt x="68" y="25"/>
                  </a:lnTo>
                  <a:lnTo>
                    <a:pt x="73" y="12"/>
                  </a:lnTo>
                  <a:lnTo>
                    <a:pt x="41" y="0"/>
                  </a:lnTo>
                  <a:lnTo>
                    <a:pt x="36" y="14"/>
                  </a:lnTo>
                  <a:lnTo>
                    <a:pt x="31" y="29"/>
                  </a:lnTo>
                  <a:lnTo>
                    <a:pt x="26" y="43"/>
                  </a:lnTo>
                  <a:lnTo>
                    <a:pt x="23" y="57"/>
                  </a:lnTo>
                  <a:lnTo>
                    <a:pt x="18" y="71"/>
                  </a:lnTo>
                  <a:lnTo>
                    <a:pt x="13" y="84"/>
                  </a:lnTo>
                  <a:lnTo>
                    <a:pt x="7" y="9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29" y="12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059520" y="5721480"/>
              <a:ext cx="41400" cy="36360"/>
            </a:xfrm>
            <a:custGeom>
              <a:avLst/>
              <a:gdLst/>
              <a:ahLst/>
              <a:rect l="l" t="t" r="r" b="b"/>
              <a:pathLst>
                <a:path w="103" h="92">
                  <a:moveTo>
                    <a:pt x="18" y="92"/>
                  </a:moveTo>
                  <a:lnTo>
                    <a:pt x="18" y="92"/>
                  </a:lnTo>
                  <a:lnTo>
                    <a:pt x="30" y="85"/>
                  </a:lnTo>
                  <a:lnTo>
                    <a:pt x="40" y="76"/>
                  </a:lnTo>
                  <a:lnTo>
                    <a:pt x="52" y="69"/>
                  </a:lnTo>
                  <a:lnTo>
                    <a:pt x="63" y="61"/>
                  </a:lnTo>
                  <a:lnTo>
                    <a:pt x="74" y="51"/>
                  </a:lnTo>
                  <a:lnTo>
                    <a:pt x="85" y="42"/>
                  </a:lnTo>
                  <a:lnTo>
                    <a:pt x="94" y="31"/>
                  </a:lnTo>
                  <a:lnTo>
                    <a:pt x="103" y="19"/>
                  </a:lnTo>
                  <a:lnTo>
                    <a:pt x="74" y="0"/>
                  </a:lnTo>
                  <a:lnTo>
                    <a:pt x="67" y="8"/>
                  </a:lnTo>
                  <a:lnTo>
                    <a:pt x="60" y="18"/>
                  </a:lnTo>
                  <a:lnTo>
                    <a:pt x="51" y="26"/>
                  </a:lnTo>
                  <a:lnTo>
                    <a:pt x="42" y="33"/>
                  </a:lnTo>
                  <a:lnTo>
                    <a:pt x="32" y="40"/>
                  </a:lnTo>
                  <a:lnTo>
                    <a:pt x="21" y="48"/>
                  </a:lnTo>
                  <a:lnTo>
                    <a:pt x="10" y="55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18" y="9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035760" y="5745240"/>
              <a:ext cx="31680" cy="22320"/>
            </a:xfrm>
            <a:custGeom>
              <a:avLst/>
              <a:gdLst/>
              <a:ahLst/>
              <a:rect l="l" t="t" r="r" b="b"/>
              <a:pathLst>
                <a:path w="80" h="54">
                  <a:moveTo>
                    <a:pt x="0" y="48"/>
                  </a:moveTo>
                  <a:lnTo>
                    <a:pt x="0" y="48"/>
                  </a:lnTo>
                  <a:lnTo>
                    <a:pt x="6" y="50"/>
                  </a:lnTo>
                  <a:lnTo>
                    <a:pt x="12" y="53"/>
                  </a:lnTo>
                  <a:lnTo>
                    <a:pt x="18" y="54"/>
                  </a:lnTo>
                  <a:lnTo>
                    <a:pt x="26" y="54"/>
                  </a:lnTo>
                  <a:lnTo>
                    <a:pt x="36" y="52"/>
                  </a:lnTo>
                  <a:lnTo>
                    <a:pt x="47" y="48"/>
                  </a:lnTo>
                  <a:lnTo>
                    <a:pt x="57" y="43"/>
                  </a:lnTo>
                  <a:lnTo>
                    <a:pt x="65" y="38"/>
                  </a:lnTo>
                  <a:lnTo>
                    <a:pt x="72" y="34"/>
                  </a:lnTo>
                  <a:lnTo>
                    <a:pt x="80" y="30"/>
                  </a:lnTo>
                  <a:lnTo>
                    <a:pt x="62" y="0"/>
                  </a:lnTo>
                  <a:lnTo>
                    <a:pt x="54" y="5"/>
                  </a:lnTo>
                  <a:lnTo>
                    <a:pt x="47" y="8"/>
                  </a:lnTo>
                  <a:lnTo>
                    <a:pt x="40" y="13"/>
                  </a:lnTo>
                  <a:lnTo>
                    <a:pt x="33" y="17"/>
                  </a:lnTo>
                  <a:lnTo>
                    <a:pt x="28" y="18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21360" y="5727600"/>
              <a:ext cx="22320" cy="36720"/>
            </a:xfrm>
            <a:custGeom>
              <a:avLst/>
              <a:gdLst/>
              <a:ahLst/>
              <a:rect l="l" t="t" r="r" b="b"/>
              <a:pathLst>
                <a:path w="58" h="95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" y="25"/>
                  </a:lnTo>
                  <a:lnTo>
                    <a:pt x="4" y="37"/>
                  </a:lnTo>
                  <a:lnTo>
                    <a:pt x="7" y="51"/>
                  </a:lnTo>
                  <a:lnTo>
                    <a:pt x="12" y="63"/>
                  </a:lnTo>
                  <a:lnTo>
                    <a:pt x="18" y="75"/>
                  </a:lnTo>
                  <a:lnTo>
                    <a:pt x="28" y="85"/>
                  </a:lnTo>
                  <a:lnTo>
                    <a:pt x="38" y="95"/>
                  </a:lnTo>
                  <a:lnTo>
                    <a:pt x="58" y="65"/>
                  </a:lnTo>
                  <a:lnTo>
                    <a:pt x="52" y="61"/>
                  </a:lnTo>
                  <a:lnTo>
                    <a:pt x="47" y="55"/>
                  </a:lnTo>
                  <a:lnTo>
                    <a:pt x="43" y="48"/>
                  </a:lnTo>
                  <a:lnTo>
                    <a:pt x="40" y="40"/>
                  </a:lnTo>
                  <a:lnTo>
                    <a:pt x="37" y="30"/>
                  </a:lnTo>
                  <a:lnTo>
                    <a:pt x="36" y="21"/>
                  </a:lnTo>
                  <a:lnTo>
                    <a:pt x="35" y="1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21360" y="5675400"/>
              <a:ext cx="23760" cy="52200"/>
            </a:xfrm>
            <a:custGeom>
              <a:avLst/>
              <a:gdLst/>
              <a:ahLst/>
              <a:rect l="l" t="t" r="r" b="b"/>
              <a:pathLst>
                <a:path w="64" h="128">
                  <a:moveTo>
                    <a:pt x="31" y="0"/>
                  </a:moveTo>
                  <a:lnTo>
                    <a:pt x="31" y="0"/>
                  </a:lnTo>
                  <a:lnTo>
                    <a:pt x="26" y="15"/>
                  </a:lnTo>
                  <a:lnTo>
                    <a:pt x="20" y="30"/>
                  </a:lnTo>
                  <a:lnTo>
                    <a:pt x="16" y="45"/>
                  </a:lnTo>
                  <a:lnTo>
                    <a:pt x="10" y="61"/>
                  </a:lnTo>
                  <a:lnTo>
                    <a:pt x="6" y="78"/>
                  </a:lnTo>
                  <a:lnTo>
                    <a:pt x="2" y="95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35" y="128"/>
                  </a:lnTo>
                  <a:lnTo>
                    <a:pt x="35" y="114"/>
                  </a:lnTo>
                  <a:lnTo>
                    <a:pt x="37" y="99"/>
                  </a:lnTo>
                  <a:lnTo>
                    <a:pt x="40" y="85"/>
                  </a:lnTo>
                  <a:lnTo>
                    <a:pt x="43" y="71"/>
                  </a:lnTo>
                  <a:lnTo>
                    <a:pt x="48" y="56"/>
                  </a:lnTo>
                  <a:lnTo>
                    <a:pt x="53" y="42"/>
                  </a:lnTo>
                  <a:lnTo>
                    <a:pt x="59" y="2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32520" y="5637240"/>
              <a:ext cx="33480" cy="42840"/>
            </a:xfrm>
            <a:custGeom>
              <a:avLst/>
              <a:gdLst/>
              <a:ahLst/>
              <a:rect l="l" t="t" r="r" b="b"/>
              <a:pathLst>
                <a:path w="83" h="108">
                  <a:moveTo>
                    <a:pt x="48" y="0"/>
                  </a:moveTo>
                  <a:lnTo>
                    <a:pt x="48" y="0"/>
                  </a:lnTo>
                  <a:lnTo>
                    <a:pt x="46" y="11"/>
                  </a:lnTo>
                  <a:lnTo>
                    <a:pt x="41" y="21"/>
                  </a:lnTo>
                  <a:lnTo>
                    <a:pt x="35" y="33"/>
                  </a:lnTo>
                  <a:lnTo>
                    <a:pt x="28" y="44"/>
                  </a:lnTo>
                  <a:lnTo>
                    <a:pt x="21" y="56"/>
                  </a:lnTo>
                  <a:lnTo>
                    <a:pt x="13" y="68"/>
                  </a:lnTo>
                  <a:lnTo>
                    <a:pt x="6" y="81"/>
                  </a:lnTo>
                  <a:lnTo>
                    <a:pt x="0" y="96"/>
                  </a:lnTo>
                  <a:lnTo>
                    <a:pt x="33" y="108"/>
                  </a:lnTo>
                  <a:lnTo>
                    <a:pt x="37" y="97"/>
                  </a:lnTo>
                  <a:lnTo>
                    <a:pt x="43" y="85"/>
                  </a:lnTo>
                  <a:lnTo>
                    <a:pt x="51" y="74"/>
                  </a:lnTo>
                  <a:lnTo>
                    <a:pt x="58" y="62"/>
                  </a:lnTo>
                  <a:lnTo>
                    <a:pt x="65" y="50"/>
                  </a:lnTo>
                  <a:lnTo>
                    <a:pt x="72" y="37"/>
                  </a:lnTo>
                  <a:lnTo>
                    <a:pt x="78" y="23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51600" y="5568840"/>
              <a:ext cx="22320" cy="7308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18" y="1"/>
                  </a:moveTo>
                  <a:lnTo>
                    <a:pt x="18" y="1"/>
                  </a:lnTo>
                  <a:lnTo>
                    <a:pt x="19" y="23"/>
                  </a:lnTo>
                  <a:lnTo>
                    <a:pt x="19" y="44"/>
                  </a:lnTo>
                  <a:lnTo>
                    <a:pt x="18" y="66"/>
                  </a:lnTo>
                  <a:lnTo>
                    <a:pt x="16" y="87"/>
                  </a:lnTo>
                  <a:lnTo>
                    <a:pt x="13" y="109"/>
                  </a:lnTo>
                  <a:lnTo>
                    <a:pt x="10" y="131"/>
                  </a:lnTo>
                  <a:lnTo>
                    <a:pt x="6" y="152"/>
                  </a:lnTo>
                  <a:lnTo>
                    <a:pt x="0" y="174"/>
                  </a:lnTo>
                  <a:lnTo>
                    <a:pt x="35" y="182"/>
                  </a:lnTo>
                  <a:lnTo>
                    <a:pt x="40" y="159"/>
                  </a:lnTo>
                  <a:lnTo>
                    <a:pt x="43" y="137"/>
                  </a:lnTo>
                  <a:lnTo>
                    <a:pt x="47" y="114"/>
                  </a:lnTo>
                  <a:lnTo>
                    <a:pt x="51" y="91"/>
                  </a:lnTo>
                  <a:lnTo>
                    <a:pt x="52" y="68"/>
                  </a:lnTo>
                  <a:lnTo>
                    <a:pt x="53" y="46"/>
                  </a:lnTo>
                  <a:lnTo>
                    <a:pt x="54" y="23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48360" y="5521320"/>
              <a:ext cx="25560" cy="47520"/>
            </a:xfrm>
            <a:custGeom>
              <a:avLst/>
              <a:gdLst/>
              <a:ahLst/>
              <a:rect l="l" t="t" r="r" b="b"/>
              <a:pathLst>
                <a:path w="62" h="120">
                  <a:moveTo>
                    <a:pt x="0" y="17"/>
                  </a:moveTo>
                  <a:lnTo>
                    <a:pt x="0" y="17"/>
                  </a:lnTo>
                  <a:lnTo>
                    <a:pt x="6" y="29"/>
                  </a:lnTo>
                  <a:lnTo>
                    <a:pt x="10" y="41"/>
                  </a:lnTo>
                  <a:lnTo>
                    <a:pt x="15" y="54"/>
                  </a:lnTo>
                  <a:lnTo>
                    <a:pt x="19" y="67"/>
                  </a:lnTo>
                  <a:lnTo>
                    <a:pt x="22" y="81"/>
                  </a:lnTo>
                  <a:lnTo>
                    <a:pt x="25" y="94"/>
                  </a:lnTo>
                  <a:lnTo>
                    <a:pt x="27" y="107"/>
                  </a:lnTo>
                  <a:lnTo>
                    <a:pt x="27" y="120"/>
                  </a:lnTo>
                  <a:lnTo>
                    <a:pt x="62" y="119"/>
                  </a:lnTo>
                  <a:lnTo>
                    <a:pt x="61" y="103"/>
                  </a:lnTo>
                  <a:lnTo>
                    <a:pt x="60" y="88"/>
                  </a:lnTo>
                  <a:lnTo>
                    <a:pt x="56" y="73"/>
                  </a:lnTo>
                  <a:lnTo>
                    <a:pt x="52" y="58"/>
                  </a:lnTo>
                  <a:lnTo>
                    <a:pt x="49" y="43"/>
                  </a:lnTo>
                  <a:lnTo>
                    <a:pt x="43" y="29"/>
                  </a:lnTo>
                  <a:lnTo>
                    <a:pt x="37" y="1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31080" y="5500800"/>
              <a:ext cx="28440" cy="27000"/>
            </a:xfrm>
            <a:custGeom>
              <a:avLst/>
              <a:gdLst/>
              <a:ahLst/>
              <a:rect l="l" t="t" r="r" b="b"/>
              <a:pathLst>
                <a:path w="72" h="68">
                  <a:moveTo>
                    <a:pt x="0" y="34"/>
                  </a:moveTo>
                  <a:lnTo>
                    <a:pt x="0" y="34"/>
                  </a:lnTo>
                  <a:lnTo>
                    <a:pt x="4" y="36"/>
                  </a:lnTo>
                  <a:lnTo>
                    <a:pt x="10" y="38"/>
                  </a:lnTo>
                  <a:lnTo>
                    <a:pt x="16" y="40"/>
                  </a:lnTo>
                  <a:lnTo>
                    <a:pt x="22" y="45"/>
                  </a:lnTo>
                  <a:lnTo>
                    <a:pt x="27" y="50"/>
                  </a:lnTo>
                  <a:lnTo>
                    <a:pt x="33" y="56"/>
                  </a:lnTo>
                  <a:lnTo>
                    <a:pt x="37" y="62"/>
                  </a:lnTo>
                  <a:lnTo>
                    <a:pt x="42" y="68"/>
                  </a:lnTo>
                  <a:lnTo>
                    <a:pt x="72" y="51"/>
                  </a:lnTo>
                  <a:lnTo>
                    <a:pt x="66" y="43"/>
                  </a:lnTo>
                  <a:lnTo>
                    <a:pt x="60" y="34"/>
                  </a:lnTo>
                  <a:lnTo>
                    <a:pt x="52" y="26"/>
                  </a:lnTo>
                  <a:lnTo>
                    <a:pt x="44" y="19"/>
                  </a:lnTo>
                  <a:lnTo>
                    <a:pt x="36" y="12"/>
                  </a:lnTo>
                  <a:lnTo>
                    <a:pt x="25" y="7"/>
                  </a:lnTo>
                  <a:lnTo>
                    <a:pt x="1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97600" y="5500800"/>
              <a:ext cx="34920" cy="2376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27" y="60"/>
                  </a:moveTo>
                  <a:lnTo>
                    <a:pt x="27" y="60"/>
                  </a:lnTo>
                  <a:lnTo>
                    <a:pt x="33" y="54"/>
                  </a:lnTo>
                  <a:lnTo>
                    <a:pt x="39" y="49"/>
                  </a:lnTo>
                  <a:lnTo>
                    <a:pt x="46" y="44"/>
                  </a:lnTo>
                  <a:lnTo>
                    <a:pt x="54" y="40"/>
                  </a:lnTo>
                  <a:lnTo>
                    <a:pt x="62" y="37"/>
                  </a:lnTo>
                  <a:lnTo>
                    <a:pt x="70" y="36"/>
                  </a:lnTo>
                  <a:lnTo>
                    <a:pt x="78" y="34"/>
                  </a:lnTo>
                  <a:lnTo>
                    <a:pt x="86" y="34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64" y="1"/>
                  </a:lnTo>
                  <a:lnTo>
                    <a:pt x="52" y="4"/>
                  </a:lnTo>
                  <a:lnTo>
                    <a:pt x="40" y="8"/>
                  </a:lnTo>
                  <a:lnTo>
                    <a:pt x="29" y="14"/>
                  </a:lnTo>
                  <a:lnTo>
                    <a:pt x="18" y="20"/>
                  </a:lnTo>
                  <a:lnTo>
                    <a:pt x="10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7" y="6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75280" y="5514840"/>
              <a:ext cx="33480" cy="52560"/>
            </a:xfrm>
            <a:custGeom>
              <a:avLst/>
              <a:gdLst/>
              <a:ahLst/>
              <a:rect l="l" t="t" r="r" b="b"/>
              <a:pathLst>
                <a:path w="84" h="130">
                  <a:moveTo>
                    <a:pt x="31" y="130"/>
                  </a:moveTo>
                  <a:lnTo>
                    <a:pt x="31" y="130"/>
                  </a:lnTo>
                  <a:lnTo>
                    <a:pt x="38" y="115"/>
                  </a:lnTo>
                  <a:lnTo>
                    <a:pt x="44" y="100"/>
                  </a:lnTo>
                  <a:lnTo>
                    <a:pt x="50" y="86"/>
                  </a:lnTo>
                  <a:lnTo>
                    <a:pt x="56" y="72"/>
                  </a:lnTo>
                  <a:lnTo>
                    <a:pt x="61" y="58"/>
                  </a:lnTo>
                  <a:lnTo>
                    <a:pt x="68" y="45"/>
                  </a:lnTo>
                  <a:lnTo>
                    <a:pt x="75" y="34"/>
                  </a:lnTo>
                  <a:lnTo>
                    <a:pt x="84" y="24"/>
                  </a:lnTo>
                  <a:lnTo>
                    <a:pt x="57" y="0"/>
                  </a:lnTo>
                  <a:lnTo>
                    <a:pt x="47" y="14"/>
                  </a:lnTo>
                  <a:lnTo>
                    <a:pt x="38" y="28"/>
                  </a:lnTo>
                  <a:lnTo>
                    <a:pt x="30" y="43"/>
                  </a:lnTo>
                  <a:lnTo>
                    <a:pt x="24" y="58"/>
                  </a:lnTo>
                  <a:lnTo>
                    <a:pt x="18" y="73"/>
                  </a:lnTo>
                  <a:lnTo>
                    <a:pt x="12" y="87"/>
                  </a:lnTo>
                  <a:lnTo>
                    <a:pt x="6" y="102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38920" y="5560920"/>
              <a:ext cx="48960" cy="77760"/>
            </a:xfrm>
            <a:custGeom>
              <a:avLst/>
              <a:gdLst/>
              <a:ahLst/>
              <a:rect l="l" t="t" r="r" b="b"/>
              <a:pathLst>
                <a:path w="122" h="194">
                  <a:moveTo>
                    <a:pt x="30" y="194"/>
                  </a:moveTo>
                  <a:lnTo>
                    <a:pt x="30" y="194"/>
                  </a:lnTo>
                  <a:lnTo>
                    <a:pt x="43" y="171"/>
                  </a:lnTo>
                  <a:lnTo>
                    <a:pt x="55" y="150"/>
                  </a:lnTo>
                  <a:lnTo>
                    <a:pt x="67" y="127"/>
                  </a:lnTo>
                  <a:lnTo>
                    <a:pt x="78" y="104"/>
                  </a:lnTo>
                  <a:lnTo>
                    <a:pt x="88" y="83"/>
                  </a:lnTo>
                  <a:lnTo>
                    <a:pt x="100" y="60"/>
                  </a:lnTo>
                  <a:lnTo>
                    <a:pt x="111" y="37"/>
                  </a:lnTo>
                  <a:lnTo>
                    <a:pt x="122" y="15"/>
                  </a:lnTo>
                  <a:lnTo>
                    <a:pt x="91" y="0"/>
                  </a:lnTo>
                  <a:lnTo>
                    <a:pt x="80" y="21"/>
                  </a:lnTo>
                  <a:lnTo>
                    <a:pt x="68" y="44"/>
                  </a:lnTo>
                  <a:lnTo>
                    <a:pt x="57" y="67"/>
                  </a:lnTo>
                  <a:lnTo>
                    <a:pt x="46" y="90"/>
                  </a:lnTo>
                  <a:lnTo>
                    <a:pt x="36" y="111"/>
                  </a:lnTo>
                  <a:lnTo>
                    <a:pt x="24" y="133"/>
                  </a:lnTo>
                  <a:lnTo>
                    <a:pt x="13" y="15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896080" y="5630760"/>
              <a:ext cx="54000" cy="66600"/>
            </a:xfrm>
            <a:custGeom>
              <a:avLst/>
              <a:gdLst/>
              <a:ahLst/>
              <a:rect l="l" t="t" r="r" b="b"/>
              <a:pathLst>
                <a:path w="138" h="168">
                  <a:moveTo>
                    <a:pt x="24" y="168"/>
                  </a:moveTo>
                  <a:lnTo>
                    <a:pt x="24" y="168"/>
                  </a:lnTo>
                  <a:lnTo>
                    <a:pt x="40" y="151"/>
                  </a:lnTo>
                  <a:lnTo>
                    <a:pt x="57" y="133"/>
                  </a:lnTo>
                  <a:lnTo>
                    <a:pt x="72" y="115"/>
                  </a:lnTo>
                  <a:lnTo>
                    <a:pt x="86" y="96"/>
                  </a:lnTo>
                  <a:lnTo>
                    <a:pt x="99" y="77"/>
                  </a:lnTo>
                  <a:lnTo>
                    <a:pt x="112" y="58"/>
                  </a:lnTo>
                  <a:lnTo>
                    <a:pt x="124" y="37"/>
                  </a:lnTo>
                  <a:lnTo>
                    <a:pt x="138" y="18"/>
                  </a:lnTo>
                  <a:lnTo>
                    <a:pt x="108" y="0"/>
                  </a:lnTo>
                  <a:lnTo>
                    <a:pt x="96" y="19"/>
                  </a:lnTo>
                  <a:lnTo>
                    <a:pt x="84" y="38"/>
                  </a:lnTo>
                  <a:lnTo>
                    <a:pt x="70" y="58"/>
                  </a:lnTo>
                  <a:lnTo>
                    <a:pt x="57" y="76"/>
                  </a:lnTo>
                  <a:lnTo>
                    <a:pt x="44" y="94"/>
                  </a:lnTo>
                  <a:lnTo>
                    <a:pt x="31" y="110"/>
                  </a:lnTo>
                  <a:lnTo>
                    <a:pt x="15" y="127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24" y="16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37400" y="5688000"/>
              <a:ext cx="68040" cy="52560"/>
            </a:xfrm>
            <a:custGeom>
              <a:avLst/>
              <a:gdLst/>
              <a:ahLst/>
              <a:rect l="l" t="t" r="r" b="b"/>
              <a:pathLst>
                <a:path w="173" h="132">
                  <a:moveTo>
                    <a:pt x="15" y="132"/>
                  </a:moveTo>
                  <a:lnTo>
                    <a:pt x="15" y="132"/>
                  </a:lnTo>
                  <a:lnTo>
                    <a:pt x="37" y="122"/>
                  </a:lnTo>
                  <a:lnTo>
                    <a:pt x="57" y="110"/>
                  </a:lnTo>
                  <a:lnTo>
                    <a:pt x="78" y="98"/>
                  </a:lnTo>
                  <a:lnTo>
                    <a:pt x="98" y="85"/>
                  </a:lnTo>
                  <a:lnTo>
                    <a:pt x="117" y="71"/>
                  </a:lnTo>
                  <a:lnTo>
                    <a:pt x="137" y="56"/>
                  </a:lnTo>
                  <a:lnTo>
                    <a:pt x="156" y="42"/>
                  </a:lnTo>
                  <a:lnTo>
                    <a:pt x="173" y="25"/>
                  </a:lnTo>
                  <a:lnTo>
                    <a:pt x="149" y="0"/>
                  </a:lnTo>
                  <a:lnTo>
                    <a:pt x="133" y="15"/>
                  </a:lnTo>
                  <a:lnTo>
                    <a:pt x="115" y="30"/>
                  </a:lnTo>
                  <a:lnTo>
                    <a:pt x="97" y="43"/>
                  </a:lnTo>
                  <a:lnTo>
                    <a:pt x="79" y="56"/>
                  </a:lnTo>
                  <a:lnTo>
                    <a:pt x="60" y="68"/>
                  </a:lnTo>
                  <a:lnTo>
                    <a:pt x="41" y="80"/>
                  </a:lnTo>
                  <a:lnTo>
                    <a:pt x="20" y="91"/>
                  </a:lnTo>
                  <a:lnTo>
                    <a:pt x="0" y="102"/>
                  </a:lnTo>
                  <a:lnTo>
                    <a:pt x="0" y="101"/>
                  </a:lnTo>
                  <a:lnTo>
                    <a:pt x="15" y="13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84840" y="5727600"/>
              <a:ext cx="58680" cy="28800"/>
            </a:xfrm>
            <a:custGeom>
              <a:avLst/>
              <a:gdLst/>
              <a:ahLst/>
              <a:rect l="l" t="t" r="r" b="b"/>
              <a:pathLst>
                <a:path w="145" h="69">
                  <a:moveTo>
                    <a:pt x="5" y="69"/>
                  </a:moveTo>
                  <a:lnTo>
                    <a:pt x="5" y="69"/>
                  </a:lnTo>
                  <a:lnTo>
                    <a:pt x="23" y="67"/>
                  </a:lnTo>
                  <a:lnTo>
                    <a:pt x="41" y="64"/>
                  </a:lnTo>
                  <a:lnTo>
                    <a:pt x="59" y="61"/>
                  </a:lnTo>
                  <a:lnTo>
                    <a:pt x="76" y="56"/>
                  </a:lnTo>
                  <a:lnTo>
                    <a:pt x="94" y="51"/>
                  </a:lnTo>
                  <a:lnTo>
                    <a:pt x="112" y="45"/>
                  </a:lnTo>
                  <a:lnTo>
                    <a:pt x="129" y="39"/>
                  </a:lnTo>
                  <a:lnTo>
                    <a:pt x="145" y="31"/>
                  </a:lnTo>
                  <a:lnTo>
                    <a:pt x="130" y="0"/>
                  </a:lnTo>
                  <a:lnTo>
                    <a:pt x="115" y="7"/>
                  </a:lnTo>
                  <a:lnTo>
                    <a:pt x="100" y="13"/>
                  </a:lnTo>
                  <a:lnTo>
                    <a:pt x="84" y="19"/>
                  </a:lnTo>
                  <a:lnTo>
                    <a:pt x="67" y="22"/>
                  </a:lnTo>
                  <a:lnTo>
                    <a:pt x="51" y="27"/>
                  </a:lnTo>
                  <a:lnTo>
                    <a:pt x="35" y="30"/>
                  </a:lnTo>
                  <a:lnTo>
                    <a:pt x="17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61080" y="5740560"/>
              <a:ext cx="27000" cy="15840"/>
            </a:xfrm>
            <a:custGeom>
              <a:avLst/>
              <a:gdLst/>
              <a:ahLst/>
              <a:rect l="l" t="t" r="r" b="b"/>
              <a:pathLst>
                <a:path w="65" h="39">
                  <a:moveTo>
                    <a:pt x="0" y="19"/>
                  </a:moveTo>
                  <a:lnTo>
                    <a:pt x="0" y="19"/>
                  </a:lnTo>
                  <a:lnTo>
                    <a:pt x="6" y="27"/>
                  </a:lnTo>
                  <a:lnTo>
                    <a:pt x="15" y="32"/>
                  </a:lnTo>
                  <a:lnTo>
                    <a:pt x="24" y="36"/>
                  </a:lnTo>
                  <a:lnTo>
                    <a:pt x="33" y="38"/>
                  </a:lnTo>
                  <a:lnTo>
                    <a:pt x="41" y="39"/>
                  </a:lnTo>
                  <a:lnTo>
                    <a:pt x="49" y="39"/>
                  </a:lnTo>
                  <a:lnTo>
                    <a:pt x="58" y="39"/>
                  </a:lnTo>
                  <a:lnTo>
                    <a:pt x="65" y="38"/>
                  </a:lnTo>
                  <a:lnTo>
                    <a:pt x="60" y="5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39" y="5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57840" y="5719680"/>
              <a:ext cx="17640" cy="28800"/>
            </a:xfrm>
            <a:custGeom>
              <a:avLst/>
              <a:gdLst/>
              <a:ahLst/>
              <a:rect l="l" t="t" r="r" b="b"/>
              <a:pathLst>
                <a:path w="42" h="70">
                  <a:moveTo>
                    <a:pt x="14" y="0"/>
                  </a:moveTo>
                  <a:lnTo>
                    <a:pt x="14" y="0"/>
                  </a:lnTo>
                  <a:lnTo>
                    <a:pt x="9" y="8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3" y="62"/>
                  </a:lnTo>
                  <a:lnTo>
                    <a:pt x="8" y="70"/>
                  </a:lnTo>
                  <a:lnTo>
                    <a:pt x="36" y="51"/>
                  </a:lnTo>
                  <a:lnTo>
                    <a:pt x="35" y="48"/>
                  </a:lnTo>
                  <a:lnTo>
                    <a:pt x="35" y="46"/>
                  </a:lnTo>
                  <a:lnTo>
                    <a:pt x="35" y="42"/>
                  </a:lnTo>
                  <a:lnTo>
                    <a:pt x="35" y="38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9" y="26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64320" y="5680080"/>
              <a:ext cx="55440" cy="49320"/>
            </a:xfrm>
            <a:custGeom>
              <a:avLst/>
              <a:gdLst/>
              <a:ahLst/>
              <a:rect l="l" t="t" r="r" b="b"/>
              <a:pathLst>
                <a:path w="142" h="121">
                  <a:moveTo>
                    <a:pt x="119" y="0"/>
                  </a:moveTo>
                  <a:lnTo>
                    <a:pt x="119" y="0"/>
                  </a:lnTo>
                  <a:lnTo>
                    <a:pt x="105" y="11"/>
                  </a:lnTo>
                  <a:lnTo>
                    <a:pt x="90" y="23"/>
                  </a:lnTo>
                  <a:lnTo>
                    <a:pt x="76" y="35"/>
                  </a:lnTo>
                  <a:lnTo>
                    <a:pt x="60" y="45"/>
                  </a:lnTo>
                  <a:lnTo>
                    <a:pt x="45" y="57"/>
                  </a:lnTo>
                  <a:lnTo>
                    <a:pt x="29" y="71"/>
                  </a:lnTo>
                  <a:lnTo>
                    <a:pt x="15" y="84"/>
                  </a:lnTo>
                  <a:lnTo>
                    <a:pt x="0" y="99"/>
                  </a:lnTo>
                  <a:lnTo>
                    <a:pt x="28" y="121"/>
                  </a:lnTo>
                  <a:lnTo>
                    <a:pt x="39" y="109"/>
                  </a:lnTo>
                  <a:lnTo>
                    <a:pt x="52" y="96"/>
                  </a:lnTo>
                  <a:lnTo>
                    <a:pt x="66" y="85"/>
                  </a:lnTo>
                  <a:lnTo>
                    <a:pt x="81" y="73"/>
                  </a:lnTo>
                  <a:lnTo>
                    <a:pt x="96" y="62"/>
                  </a:lnTo>
                  <a:lnTo>
                    <a:pt x="112" y="50"/>
                  </a:lnTo>
                  <a:lnTo>
                    <a:pt x="127" y="38"/>
                  </a:lnTo>
                  <a:lnTo>
                    <a:pt x="142" y="25"/>
                  </a:lnTo>
                  <a:lnTo>
                    <a:pt x="142" y="2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11840" y="5632560"/>
              <a:ext cx="60480" cy="58680"/>
            </a:xfrm>
            <a:custGeom>
              <a:avLst/>
              <a:gdLst/>
              <a:ahLst/>
              <a:rect l="l" t="t" r="r" b="b"/>
              <a:pathLst>
                <a:path w="155" h="145">
                  <a:moveTo>
                    <a:pt x="126" y="0"/>
                  </a:moveTo>
                  <a:lnTo>
                    <a:pt x="126" y="0"/>
                  </a:lnTo>
                  <a:lnTo>
                    <a:pt x="114" y="17"/>
                  </a:lnTo>
                  <a:lnTo>
                    <a:pt x="100" y="32"/>
                  </a:lnTo>
                  <a:lnTo>
                    <a:pt x="84" y="47"/>
                  </a:lnTo>
                  <a:lnTo>
                    <a:pt x="68" y="61"/>
                  </a:lnTo>
                  <a:lnTo>
                    <a:pt x="52" y="75"/>
                  </a:lnTo>
                  <a:lnTo>
                    <a:pt x="35" y="90"/>
                  </a:lnTo>
                  <a:lnTo>
                    <a:pt x="17" y="104"/>
                  </a:lnTo>
                  <a:lnTo>
                    <a:pt x="0" y="120"/>
                  </a:lnTo>
                  <a:lnTo>
                    <a:pt x="23" y="145"/>
                  </a:lnTo>
                  <a:lnTo>
                    <a:pt x="40" y="131"/>
                  </a:lnTo>
                  <a:lnTo>
                    <a:pt x="56" y="116"/>
                  </a:lnTo>
                  <a:lnTo>
                    <a:pt x="74" y="102"/>
                  </a:lnTo>
                  <a:lnTo>
                    <a:pt x="91" y="87"/>
                  </a:lnTo>
                  <a:lnTo>
                    <a:pt x="108" y="72"/>
                  </a:lnTo>
                  <a:lnTo>
                    <a:pt x="125" y="56"/>
                  </a:lnTo>
                  <a:lnTo>
                    <a:pt x="140" y="38"/>
                  </a:lnTo>
                  <a:lnTo>
                    <a:pt x="155" y="20"/>
                  </a:lnTo>
                  <a:lnTo>
                    <a:pt x="155" y="2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61160" y="5570640"/>
              <a:ext cx="41040" cy="71280"/>
            </a:xfrm>
            <a:custGeom>
              <a:avLst/>
              <a:gdLst/>
              <a:ahLst/>
              <a:rect l="l" t="t" r="r" b="b"/>
              <a:pathLst>
                <a:path w="104" h="178">
                  <a:moveTo>
                    <a:pt x="71" y="0"/>
                  </a:moveTo>
                  <a:lnTo>
                    <a:pt x="71" y="0"/>
                  </a:lnTo>
                  <a:lnTo>
                    <a:pt x="66" y="20"/>
                  </a:lnTo>
                  <a:lnTo>
                    <a:pt x="60" y="42"/>
                  </a:lnTo>
                  <a:lnTo>
                    <a:pt x="53" y="62"/>
                  </a:lnTo>
                  <a:lnTo>
                    <a:pt x="44" y="81"/>
                  </a:lnTo>
                  <a:lnTo>
                    <a:pt x="35" y="101"/>
                  </a:lnTo>
                  <a:lnTo>
                    <a:pt x="24" y="121"/>
                  </a:lnTo>
                  <a:lnTo>
                    <a:pt x="12" y="140"/>
                  </a:lnTo>
                  <a:lnTo>
                    <a:pt x="0" y="158"/>
                  </a:lnTo>
                  <a:lnTo>
                    <a:pt x="29" y="178"/>
                  </a:lnTo>
                  <a:lnTo>
                    <a:pt x="42" y="158"/>
                  </a:lnTo>
                  <a:lnTo>
                    <a:pt x="54" y="139"/>
                  </a:lnTo>
                  <a:lnTo>
                    <a:pt x="65" y="117"/>
                  </a:lnTo>
                  <a:lnTo>
                    <a:pt x="76" y="95"/>
                  </a:lnTo>
                  <a:lnTo>
                    <a:pt x="85" y="74"/>
                  </a:lnTo>
                  <a:lnTo>
                    <a:pt x="94" y="51"/>
                  </a:lnTo>
                  <a:lnTo>
                    <a:pt x="100" y="28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80240" y="5537160"/>
              <a:ext cx="21960" cy="34920"/>
            </a:xfrm>
            <a:custGeom>
              <a:avLst/>
              <a:gdLst/>
              <a:ahLst/>
              <a:rect l="l" t="t" r="r" b="b"/>
              <a:pathLst>
                <a:path w="59" h="92">
                  <a:moveTo>
                    <a:pt x="0" y="29"/>
                  </a:moveTo>
                  <a:lnTo>
                    <a:pt x="0" y="29"/>
                  </a:lnTo>
                  <a:lnTo>
                    <a:pt x="6" y="34"/>
                  </a:lnTo>
                  <a:lnTo>
                    <a:pt x="11" y="40"/>
                  </a:lnTo>
                  <a:lnTo>
                    <a:pt x="15" y="47"/>
                  </a:lnTo>
                  <a:lnTo>
                    <a:pt x="19" y="54"/>
                  </a:lnTo>
                  <a:lnTo>
                    <a:pt x="23" y="63"/>
                  </a:lnTo>
                  <a:lnTo>
                    <a:pt x="24" y="70"/>
                  </a:lnTo>
                  <a:lnTo>
                    <a:pt x="24" y="78"/>
                  </a:lnTo>
                  <a:lnTo>
                    <a:pt x="24" y="86"/>
                  </a:lnTo>
                  <a:lnTo>
                    <a:pt x="57" y="92"/>
                  </a:lnTo>
                  <a:lnTo>
                    <a:pt x="59" y="78"/>
                  </a:lnTo>
                  <a:lnTo>
                    <a:pt x="59" y="65"/>
                  </a:lnTo>
                  <a:lnTo>
                    <a:pt x="55" y="53"/>
                  </a:lnTo>
                  <a:lnTo>
                    <a:pt x="51" y="41"/>
                  </a:lnTo>
                  <a:lnTo>
                    <a:pt x="45" y="29"/>
                  </a:lnTo>
                  <a:lnTo>
                    <a:pt x="38" y="18"/>
                  </a:lnTo>
                  <a:lnTo>
                    <a:pt x="30" y="9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57920" y="5533920"/>
              <a:ext cx="30240" cy="19080"/>
            </a:xfrm>
            <a:custGeom>
              <a:avLst/>
              <a:gdLst/>
              <a:ahLst/>
              <a:rect l="l" t="t" r="r" b="b"/>
              <a:pathLst>
                <a:path w="75" h="48">
                  <a:moveTo>
                    <a:pt x="20" y="48"/>
                  </a:moveTo>
                  <a:lnTo>
                    <a:pt x="20" y="48"/>
                  </a:lnTo>
                  <a:lnTo>
                    <a:pt x="25" y="45"/>
                  </a:lnTo>
                  <a:lnTo>
                    <a:pt x="31" y="41"/>
                  </a:lnTo>
                  <a:lnTo>
                    <a:pt x="37" y="39"/>
                  </a:lnTo>
                  <a:lnTo>
                    <a:pt x="43" y="36"/>
                  </a:lnTo>
                  <a:lnTo>
                    <a:pt x="48" y="35"/>
                  </a:lnTo>
                  <a:lnTo>
                    <a:pt x="51" y="35"/>
                  </a:lnTo>
                  <a:lnTo>
                    <a:pt x="54" y="35"/>
                  </a:lnTo>
                  <a:lnTo>
                    <a:pt x="55" y="36"/>
                  </a:lnTo>
                  <a:lnTo>
                    <a:pt x="75" y="7"/>
                  </a:lnTo>
                  <a:lnTo>
                    <a:pt x="64" y="3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4"/>
                  </a:lnTo>
                  <a:lnTo>
                    <a:pt x="24" y="6"/>
                  </a:lnTo>
                  <a:lnTo>
                    <a:pt x="15" y="11"/>
                  </a:lnTo>
                  <a:lnTo>
                    <a:pt x="7" y="16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43520" y="5541840"/>
              <a:ext cx="22320" cy="3348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19" y="82"/>
                  </a:moveTo>
                  <a:lnTo>
                    <a:pt x="19" y="82"/>
                  </a:lnTo>
                  <a:lnTo>
                    <a:pt x="28" y="74"/>
                  </a:lnTo>
                  <a:lnTo>
                    <a:pt x="34" y="66"/>
                  </a:lnTo>
                  <a:lnTo>
                    <a:pt x="39" y="56"/>
                  </a:lnTo>
                  <a:lnTo>
                    <a:pt x="44" y="48"/>
                  </a:lnTo>
                  <a:lnTo>
                    <a:pt x="46" y="40"/>
                  </a:lnTo>
                  <a:lnTo>
                    <a:pt x="50" y="34"/>
                  </a:lnTo>
                  <a:lnTo>
                    <a:pt x="54" y="30"/>
                  </a:lnTo>
                  <a:lnTo>
                    <a:pt x="56" y="27"/>
                  </a:lnTo>
                  <a:lnTo>
                    <a:pt x="36" y="0"/>
                  </a:lnTo>
                  <a:lnTo>
                    <a:pt x="27" y="8"/>
                  </a:lnTo>
                  <a:lnTo>
                    <a:pt x="20" y="16"/>
                  </a:lnTo>
                  <a:lnTo>
                    <a:pt x="15" y="26"/>
                  </a:lnTo>
                  <a:lnTo>
                    <a:pt x="12" y="33"/>
                  </a:lnTo>
                  <a:lnTo>
                    <a:pt x="8" y="42"/>
                  </a:lnTo>
                  <a:lnTo>
                    <a:pt x="6" y="48"/>
                  </a:lnTo>
                  <a:lnTo>
                    <a:pt x="2" y="51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9" y="8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05360" y="5562720"/>
              <a:ext cx="46080" cy="29880"/>
            </a:xfrm>
            <a:custGeom>
              <a:avLst/>
              <a:gdLst/>
              <a:ahLst/>
              <a:rect l="l" t="t" r="r" b="b"/>
              <a:pathLst>
                <a:path w="115" h="74">
                  <a:moveTo>
                    <a:pt x="2" y="74"/>
                  </a:moveTo>
                  <a:lnTo>
                    <a:pt x="2" y="74"/>
                  </a:lnTo>
                  <a:lnTo>
                    <a:pt x="18" y="73"/>
                  </a:lnTo>
                  <a:lnTo>
                    <a:pt x="33" y="69"/>
                  </a:lnTo>
                  <a:lnTo>
                    <a:pt x="48" y="64"/>
                  </a:lnTo>
                  <a:lnTo>
                    <a:pt x="62" y="58"/>
                  </a:lnTo>
                  <a:lnTo>
                    <a:pt x="76" y="52"/>
                  </a:lnTo>
                  <a:lnTo>
                    <a:pt x="90" y="45"/>
                  </a:lnTo>
                  <a:lnTo>
                    <a:pt x="103" y="37"/>
                  </a:lnTo>
                  <a:lnTo>
                    <a:pt x="115" y="28"/>
                  </a:lnTo>
                  <a:lnTo>
                    <a:pt x="96" y="0"/>
                  </a:lnTo>
                  <a:lnTo>
                    <a:pt x="84" y="8"/>
                  </a:lnTo>
                  <a:lnTo>
                    <a:pt x="73" y="15"/>
                  </a:lnTo>
                  <a:lnTo>
                    <a:pt x="61" y="21"/>
                  </a:lnTo>
                  <a:lnTo>
                    <a:pt x="49" y="27"/>
                  </a:lnTo>
                  <a:lnTo>
                    <a:pt x="37" y="32"/>
                  </a:lnTo>
                  <a:lnTo>
                    <a:pt x="25" y="36"/>
                  </a:lnTo>
                  <a:lnTo>
                    <a:pt x="1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770440" y="5570640"/>
              <a:ext cx="36720" cy="219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13"/>
                  </a:moveTo>
                  <a:lnTo>
                    <a:pt x="0" y="13"/>
                  </a:lnTo>
                  <a:lnTo>
                    <a:pt x="3" y="19"/>
                  </a:lnTo>
                  <a:lnTo>
                    <a:pt x="7" y="25"/>
                  </a:lnTo>
                  <a:lnTo>
                    <a:pt x="12" y="31"/>
                  </a:lnTo>
                  <a:lnTo>
                    <a:pt x="18" y="36"/>
                  </a:lnTo>
                  <a:lnTo>
                    <a:pt x="29" y="43"/>
                  </a:lnTo>
                  <a:lnTo>
                    <a:pt x="41" y="48"/>
                  </a:lnTo>
                  <a:lnTo>
                    <a:pt x="54" y="52"/>
                  </a:lnTo>
                  <a:lnTo>
                    <a:pt x="67" y="54"/>
                  </a:lnTo>
                  <a:lnTo>
                    <a:pt x="79" y="55"/>
                  </a:lnTo>
                  <a:lnTo>
                    <a:pt x="91" y="54"/>
                  </a:lnTo>
                  <a:lnTo>
                    <a:pt x="89" y="20"/>
                  </a:lnTo>
                  <a:lnTo>
                    <a:pt x="80" y="20"/>
                  </a:lnTo>
                  <a:lnTo>
                    <a:pt x="71" y="19"/>
                  </a:lnTo>
                  <a:lnTo>
                    <a:pt x="61" y="18"/>
                  </a:lnTo>
                  <a:lnTo>
                    <a:pt x="53" y="16"/>
                  </a:lnTo>
                  <a:lnTo>
                    <a:pt x="45" y="12"/>
                  </a:lnTo>
                  <a:lnTo>
                    <a:pt x="38" y="8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67560" y="5522760"/>
              <a:ext cx="20520" cy="54000"/>
            </a:xfrm>
            <a:custGeom>
              <a:avLst/>
              <a:gdLst/>
              <a:ahLst/>
              <a:rect l="l" t="t" r="r" b="b"/>
              <a:pathLst>
                <a:path w="51" h="137">
                  <a:moveTo>
                    <a:pt x="18" y="0"/>
                  </a:moveTo>
                  <a:lnTo>
                    <a:pt x="18" y="0"/>
                  </a:lnTo>
                  <a:lnTo>
                    <a:pt x="15" y="15"/>
                  </a:lnTo>
                  <a:lnTo>
                    <a:pt x="12" y="30"/>
                  </a:lnTo>
                  <a:lnTo>
                    <a:pt x="8" y="47"/>
                  </a:lnTo>
                  <a:lnTo>
                    <a:pt x="5" y="64"/>
                  </a:lnTo>
                  <a:lnTo>
                    <a:pt x="1" y="82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1" y="118"/>
                  </a:lnTo>
                  <a:lnTo>
                    <a:pt x="3" y="128"/>
                  </a:lnTo>
                  <a:lnTo>
                    <a:pt x="6" y="137"/>
                  </a:lnTo>
                  <a:lnTo>
                    <a:pt x="38" y="124"/>
                  </a:lnTo>
                  <a:lnTo>
                    <a:pt x="37" y="119"/>
                  </a:lnTo>
                  <a:lnTo>
                    <a:pt x="36" y="113"/>
                  </a:lnTo>
                  <a:lnTo>
                    <a:pt x="35" y="106"/>
                  </a:lnTo>
                  <a:lnTo>
                    <a:pt x="35" y="100"/>
                  </a:lnTo>
                  <a:lnTo>
                    <a:pt x="36" y="86"/>
                  </a:lnTo>
                  <a:lnTo>
                    <a:pt x="38" y="71"/>
                  </a:lnTo>
                  <a:lnTo>
                    <a:pt x="42" y="54"/>
                  </a:lnTo>
                  <a:lnTo>
                    <a:pt x="45" y="39"/>
                  </a:lnTo>
                  <a:lnTo>
                    <a:pt x="49" y="21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75480" y="5483160"/>
              <a:ext cx="17280" cy="3960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7" y="15"/>
                  </a:moveTo>
                  <a:lnTo>
                    <a:pt x="7" y="15"/>
                  </a:lnTo>
                  <a:lnTo>
                    <a:pt x="9" y="22"/>
                  </a:lnTo>
                  <a:lnTo>
                    <a:pt x="11" y="29"/>
                  </a:lnTo>
                  <a:lnTo>
                    <a:pt x="9" y="39"/>
                  </a:lnTo>
                  <a:lnTo>
                    <a:pt x="8" y="49"/>
                  </a:lnTo>
                  <a:lnTo>
                    <a:pt x="6" y="60"/>
                  </a:lnTo>
                  <a:lnTo>
                    <a:pt x="3" y="72"/>
                  </a:lnTo>
                  <a:lnTo>
                    <a:pt x="1" y="84"/>
                  </a:lnTo>
                  <a:lnTo>
                    <a:pt x="0" y="97"/>
                  </a:lnTo>
                  <a:lnTo>
                    <a:pt x="33" y="101"/>
                  </a:lnTo>
                  <a:lnTo>
                    <a:pt x="36" y="90"/>
                  </a:lnTo>
                  <a:lnTo>
                    <a:pt x="37" y="79"/>
                  </a:lnTo>
                  <a:lnTo>
                    <a:pt x="39" y="67"/>
                  </a:lnTo>
                  <a:lnTo>
                    <a:pt x="43" y="55"/>
                  </a:lnTo>
                  <a:lnTo>
                    <a:pt x="44" y="42"/>
                  </a:lnTo>
                  <a:lnTo>
                    <a:pt x="44" y="29"/>
                  </a:lnTo>
                  <a:lnTo>
                    <a:pt x="43" y="1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762520" y="5472000"/>
              <a:ext cx="27000" cy="1764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35"/>
                  </a:moveTo>
                  <a:lnTo>
                    <a:pt x="0" y="35"/>
                  </a:lnTo>
                  <a:lnTo>
                    <a:pt x="8" y="35"/>
                  </a:lnTo>
                  <a:lnTo>
                    <a:pt x="15" y="35"/>
                  </a:lnTo>
                  <a:lnTo>
                    <a:pt x="22" y="36"/>
                  </a:lnTo>
                  <a:lnTo>
                    <a:pt x="28" y="38"/>
                  </a:lnTo>
                  <a:lnTo>
                    <a:pt x="34" y="39"/>
                  </a:lnTo>
                  <a:lnTo>
                    <a:pt x="38" y="40"/>
                  </a:lnTo>
                  <a:lnTo>
                    <a:pt x="39" y="41"/>
                  </a:lnTo>
                  <a:lnTo>
                    <a:pt x="40" y="44"/>
                  </a:lnTo>
                  <a:lnTo>
                    <a:pt x="71" y="29"/>
                  </a:lnTo>
                  <a:lnTo>
                    <a:pt x="65" y="18"/>
                  </a:lnTo>
                  <a:lnTo>
                    <a:pt x="56" y="11"/>
                  </a:lnTo>
                  <a:lnTo>
                    <a:pt x="46" y="6"/>
                  </a:lnTo>
                  <a:lnTo>
                    <a:pt x="36" y="3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08520" y="5472000"/>
              <a:ext cx="54000" cy="20880"/>
            </a:xfrm>
            <a:custGeom>
              <a:avLst/>
              <a:gdLst/>
              <a:ahLst/>
              <a:rect l="l" t="t" r="r" b="b"/>
              <a:pathLst>
                <a:path w="135" h="53">
                  <a:moveTo>
                    <a:pt x="0" y="53"/>
                  </a:moveTo>
                  <a:lnTo>
                    <a:pt x="0" y="53"/>
                  </a:lnTo>
                  <a:lnTo>
                    <a:pt x="18" y="53"/>
                  </a:lnTo>
                  <a:lnTo>
                    <a:pt x="37" y="52"/>
                  </a:lnTo>
                  <a:lnTo>
                    <a:pt x="55" y="48"/>
                  </a:lnTo>
                  <a:lnTo>
                    <a:pt x="72" y="45"/>
                  </a:lnTo>
                  <a:lnTo>
                    <a:pt x="89" y="41"/>
                  </a:lnTo>
                  <a:lnTo>
                    <a:pt x="104" y="38"/>
                  </a:lnTo>
                  <a:lnTo>
                    <a:pt x="120" y="36"/>
                  </a:lnTo>
                  <a:lnTo>
                    <a:pt x="135" y="35"/>
                  </a:lnTo>
                  <a:lnTo>
                    <a:pt x="135" y="0"/>
                  </a:lnTo>
                  <a:lnTo>
                    <a:pt x="117" y="2"/>
                  </a:lnTo>
                  <a:lnTo>
                    <a:pt x="99" y="4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5"/>
                  </a:lnTo>
                  <a:lnTo>
                    <a:pt x="32" y="17"/>
                  </a:lnTo>
                  <a:lnTo>
                    <a:pt x="17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661000" y="5465880"/>
              <a:ext cx="47520" cy="27000"/>
            </a:xfrm>
            <a:custGeom>
              <a:avLst/>
              <a:gdLst/>
              <a:ahLst/>
              <a:rect l="l" t="t" r="r" b="b"/>
              <a:pathLst>
                <a:path w="121" h="68">
                  <a:moveTo>
                    <a:pt x="0" y="29"/>
                  </a:moveTo>
                  <a:lnTo>
                    <a:pt x="0" y="29"/>
                  </a:lnTo>
                  <a:lnTo>
                    <a:pt x="13" y="37"/>
                  </a:lnTo>
                  <a:lnTo>
                    <a:pt x="28" y="44"/>
                  </a:lnTo>
                  <a:lnTo>
                    <a:pt x="42" y="50"/>
                  </a:lnTo>
                  <a:lnTo>
                    <a:pt x="56" y="56"/>
                  </a:lnTo>
                  <a:lnTo>
                    <a:pt x="72" y="61"/>
                  </a:lnTo>
                  <a:lnTo>
                    <a:pt x="88" y="65"/>
                  </a:lnTo>
                  <a:lnTo>
                    <a:pt x="103" y="67"/>
                  </a:lnTo>
                  <a:lnTo>
                    <a:pt x="119" y="68"/>
                  </a:lnTo>
                  <a:lnTo>
                    <a:pt x="121" y="33"/>
                  </a:lnTo>
                  <a:lnTo>
                    <a:pt x="108" y="32"/>
                  </a:lnTo>
                  <a:lnTo>
                    <a:pt x="94" y="30"/>
                  </a:lnTo>
                  <a:lnTo>
                    <a:pt x="80" y="27"/>
                  </a:lnTo>
                  <a:lnTo>
                    <a:pt x="67" y="23"/>
                  </a:lnTo>
                  <a:lnTo>
                    <a:pt x="55" y="19"/>
                  </a:lnTo>
                  <a:lnTo>
                    <a:pt x="42" y="13"/>
                  </a:lnTo>
                  <a:lnTo>
                    <a:pt x="30" y="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38680" y="5437080"/>
              <a:ext cx="30240" cy="3996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0" y="26"/>
                  </a:moveTo>
                  <a:lnTo>
                    <a:pt x="0" y="26"/>
                  </a:lnTo>
                  <a:lnTo>
                    <a:pt x="6" y="32"/>
                  </a:lnTo>
                  <a:lnTo>
                    <a:pt x="10" y="39"/>
                  </a:lnTo>
                  <a:lnTo>
                    <a:pt x="16" y="49"/>
                  </a:lnTo>
                  <a:lnTo>
                    <a:pt x="22" y="59"/>
                  </a:lnTo>
                  <a:lnTo>
                    <a:pt x="28" y="69"/>
                  </a:lnTo>
                  <a:lnTo>
                    <a:pt x="36" y="81"/>
                  </a:lnTo>
                  <a:lnTo>
                    <a:pt x="44" y="91"/>
                  </a:lnTo>
                  <a:lnTo>
                    <a:pt x="56" y="101"/>
                  </a:lnTo>
                  <a:lnTo>
                    <a:pt x="75" y="72"/>
                  </a:lnTo>
                  <a:lnTo>
                    <a:pt x="69" y="67"/>
                  </a:lnTo>
                  <a:lnTo>
                    <a:pt x="63" y="60"/>
                  </a:lnTo>
                  <a:lnTo>
                    <a:pt x="57" y="51"/>
                  </a:lnTo>
                  <a:lnTo>
                    <a:pt x="52" y="42"/>
                  </a:lnTo>
                  <a:lnTo>
                    <a:pt x="46" y="31"/>
                  </a:lnTo>
                  <a:lnTo>
                    <a:pt x="39" y="20"/>
                  </a:lnTo>
                  <a:lnTo>
                    <a:pt x="31" y="9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18160" y="5425920"/>
              <a:ext cx="28440" cy="2232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35"/>
                  </a:moveTo>
                  <a:lnTo>
                    <a:pt x="0" y="35"/>
                  </a:lnTo>
                  <a:lnTo>
                    <a:pt x="6" y="36"/>
                  </a:lnTo>
                  <a:lnTo>
                    <a:pt x="13" y="37"/>
                  </a:lnTo>
                  <a:lnTo>
                    <a:pt x="20" y="38"/>
                  </a:lnTo>
                  <a:lnTo>
                    <a:pt x="28" y="41"/>
                  </a:lnTo>
                  <a:lnTo>
                    <a:pt x="34" y="44"/>
                  </a:lnTo>
                  <a:lnTo>
                    <a:pt x="40" y="47"/>
                  </a:lnTo>
                  <a:lnTo>
                    <a:pt x="46" y="50"/>
                  </a:lnTo>
                  <a:lnTo>
                    <a:pt x="52" y="55"/>
                  </a:lnTo>
                  <a:lnTo>
                    <a:pt x="73" y="29"/>
                  </a:lnTo>
                  <a:lnTo>
                    <a:pt x="66" y="23"/>
                  </a:lnTo>
                  <a:lnTo>
                    <a:pt x="58" y="17"/>
                  </a:lnTo>
                  <a:lnTo>
                    <a:pt x="49" y="13"/>
                  </a:lnTo>
                  <a:lnTo>
                    <a:pt x="40" y="8"/>
                  </a:lnTo>
                  <a:lnTo>
                    <a:pt x="31" y="6"/>
                  </a:lnTo>
                  <a:lnTo>
                    <a:pt x="22" y="4"/>
                  </a:lnTo>
                  <a:lnTo>
                    <a:pt x="1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554800" y="5425920"/>
              <a:ext cx="64800" cy="16200"/>
            </a:xfrm>
            <a:custGeom>
              <a:avLst/>
              <a:gdLst/>
              <a:ahLst/>
              <a:rect l="l" t="t" r="r" b="b"/>
              <a:pathLst>
                <a:path w="162" h="42">
                  <a:moveTo>
                    <a:pt x="2" y="42"/>
                  </a:moveTo>
                  <a:lnTo>
                    <a:pt x="2" y="42"/>
                  </a:lnTo>
                  <a:lnTo>
                    <a:pt x="22" y="41"/>
                  </a:lnTo>
                  <a:lnTo>
                    <a:pt x="42" y="39"/>
                  </a:lnTo>
                  <a:lnTo>
                    <a:pt x="63" y="38"/>
                  </a:lnTo>
                  <a:lnTo>
                    <a:pt x="82" y="36"/>
                  </a:lnTo>
                  <a:lnTo>
                    <a:pt x="102" y="35"/>
                  </a:lnTo>
                  <a:lnTo>
                    <a:pt x="122" y="35"/>
                  </a:lnTo>
                  <a:lnTo>
                    <a:pt x="141" y="35"/>
                  </a:lnTo>
                  <a:lnTo>
                    <a:pt x="160" y="36"/>
                  </a:lnTo>
                  <a:lnTo>
                    <a:pt x="162" y="1"/>
                  </a:lnTo>
                  <a:lnTo>
                    <a:pt x="142" y="0"/>
                  </a:lnTo>
                  <a:lnTo>
                    <a:pt x="120" y="0"/>
                  </a:lnTo>
                  <a:lnTo>
                    <a:pt x="100" y="1"/>
                  </a:lnTo>
                  <a:lnTo>
                    <a:pt x="80" y="2"/>
                  </a:lnTo>
                  <a:lnTo>
                    <a:pt x="60" y="3"/>
                  </a:lnTo>
                  <a:lnTo>
                    <a:pt x="40" y="5"/>
                  </a:lnTo>
                  <a:lnTo>
                    <a:pt x="2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83160" y="5429160"/>
              <a:ext cx="71640" cy="17640"/>
            </a:xfrm>
            <a:custGeom>
              <a:avLst/>
              <a:gdLst/>
              <a:ahLst/>
              <a:rect l="l" t="t" r="r" b="b"/>
              <a:pathLst>
                <a:path w="180" h="44">
                  <a:moveTo>
                    <a:pt x="0" y="41"/>
                  </a:moveTo>
                  <a:lnTo>
                    <a:pt x="0" y="41"/>
                  </a:lnTo>
                  <a:lnTo>
                    <a:pt x="22" y="43"/>
                  </a:lnTo>
                  <a:lnTo>
                    <a:pt x="46" y="44"/>
                  </a:lnTo>
                  <a:lnTo>
                    <a:pt x="69" y="43"/>
                  </a:lnTo>
                  <a:lnTo>
                    <a:pt x="92" y="42"/>
                  </a:lnTo>
                  <a:lnTo>
                    <a:pt x="114" y="40"/>
                  </a:lnTo>
                  <a:lnTo>
                    <a:pt x="136" y="38"/>
                  </a:lnTo>
                  <a:lnTo>
                    <a:pt x="158" y="36"/>
                  </a:lnTo>
                  <a:lnTo>
                    <a:pt x="180" y="35"/>
                  </a:lnTo>
                  <a:lnTo>
                    <a:pt x="178" y="0"/>
                  </a:lnTo>
                  <a:lnTo>
                    <a:pt x="156" y="1"/>
                  </a:lnTo>
                  <a:lnTo>
                    <a:pt x="134" y="4"/>
                  </a:lnTo>
                  <a:lnTo>
                    <a:pt x="111" y="5"/>
                  </a:lnTo>
                  <a:lnTo>
                    <a:pt x="90" y="7"/>
                  </a:lnTo>
                  <a:lnTo>
                    <a:pt x="67" y="8"/>
                  </a:lnTo>
                  <a:lnTo>
                    <a:pt x="46" y="10"/>
                  </a:lnTo>
                  <a:lnTo>
                    <a:pt x="25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50040" y="5415120"/>
              <a:ext cx="36360" cy="2988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0" y="29"/>
                  </a:moveTo>
                  <a:lnTo>
                    <a:pt x="0" y="29"/>
                  </a:lnTo>
                  <a:lnTo>
                    <a:pt x="8" y="35"/>
                  </a:lnTo>
                  <a:lnTo>
                    <a:pt x="18" y="42"/>
                  </a:lnTo>
                  <a:lnTo>
                    <a:pt x="29" y="50"/>
                  </a:lnTo>
                  <a:lnTo>
                    <a:pt x="38" y="56"/>
                  </a:lnTo>
                  <a:lnTo>
                    <a:pt x="49" y="63"/>
                  </a:lnTo>
                  <a:lnTo>
                    <a:pt x="61" y="68"/>
                  </a:lnTo>
                  <a:lnTo>
                    <a:pt x="74" y="72"/>
                  </a:lnTo>
                  <a:lnTo>
                    <a:pt x="88" y="75"/>
                  </a:lnTo>
                  <a:lnTo>
                    <a:pt x="92" y="40"/>
                  </a:lnTo>
                  <a:lnTo>
                    <a:pt x="83" y="39"/>
                  </a:lnTo>
                  <a:lnTo>
                    <a:pt x="74" y="35"/>
                  </a:lnTo>
                  <a:lnTo>
                    <a:pt x="66" y="32"/>
                  </a:lnTo>
                  <a:lnTo>
                    <a:pt x="56" y="27"/>
                  </a:lnTo>
                  <a:lnTo>
                    <a:pt x="48" y="21"/>
                  </a:lnTo>
                  <a:lnTo>
                    <a:pt x="38" y="15"/>
                  </a:lnTo>
                  <a:lnTo>
                    <a:pt x="29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23040" y="5394240"/>
              <a:ext cx="34920" cy="3168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0" y="14"/>
                  </a:moveTo>
                  <a:lnTo>
                    <a:pt x="0" y="14"/>
                  </a:lnTo>
                  <a:lnTo>
                    <a:pt x="6" y="26"/>
                  </a:lnTo>
                  <a:lnTo>
                    <a:pt x="13" y="36"/>
                  </a:lnTo>
                  <a:lnTo>
                    <a:pt x="21" y="46"/>
                  </a:lnTo>
                  <a:lnTo>
                    <a:pt x="30" y="54"/>
                  </a:lnTo>
                  <a:lnTo>
                    <a:pt x="39" y="63"/>
                  </a:lnTo>
                  <a:lnTo>
                    <a:pt x="49" y="70"/>
                  </a:lnTo>
                  <a:lnTo>
                    <a:pt x="57" y="76"/>
                  </a:lnTo>
                  <a:lnTo>
                    <a:pt x="67" y="83"/>
                  </a:lnTo>
                  <a:lnTo>
                    <a:pt x="87" y="54"/>
                  </a:lnTo>
                  <a:lnTo>
                    <a:pt x="78" y="48"/>
                  </a:lnTo>
                  <a:lnTo>
                    <a:pt x="69" y="41"/>
                  </a:lnTo>
                  <a:lnTo>
                    <a:pt x="61" y="35"/>
                  </a:lnTo>
                  <a:lnTo>
                    <a:pt x="54" y="29"/>
                  </a:lnTo>
                  <a:lnTo>
                    <a:pt x="47" y="22"/>
                  </a:lnTo>
                  <a:lnTo>
                    <a:pt x="41" y="15"/>
                  </a:lnTo>
                  <a:lnTo>
                    <a:pt x="36" y="8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21240" y="5369040"/>
              <a:ext cx="15840" cy="29880"/>
            </a:xfrm>
            <a:custGeom>
              <a:avLst/>
              <a:gdLst/>
              <a:ahLst/>
              <a:rect l="l" t="t" r="r" b="b"/>
              <a:pathLst>
                <a:path w="41" h="77">
                  <a:moveTo>
                    <a:pt x="24" y="0"/>
                  </a:moveTo>
                  <a:lnTo>
                    <a:pt x="24" y="0"/>
                  </a:lnTo>
                  <a:lnTo>
                    <a:pt x="14" y="7"/>
                  </a:lnTo>
                  <a:lnTo>
                    <a:pt x="8" y="17"/>
                  </a:lnTo>
                  <a:lnTo>
                    <a:pt x="4" y="26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7"/>
                  </a:lnTo>
                  <a:lnTo>
                    <a:pt x="5" y="77"/>
                  </a:lnTo>
                  <a:lnTo>
                    <a:pt x="36" y="63"/>
                  </a:lnTo>
                  <a:lnTo>
                    <a:pt x="35" y="60"/>
                  </a:lnTo>
                  <a:lnTo>
                    <a:pt x="35" y="54"/>
                  </a:lnTo>
                  <a:lnTo>
                    <a:pt x="35" y="49"/>
                  </a:lnTo>
                  <a:lnTo>
                    <a:pt x="35" y="43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40" y="32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30960" y="5361120"/>
              <a:ext cx="52200" cy="20520"/>
            </a:xfrm>
            <a:custGeom>
              <a:avLst/>
              <a:gdLst/>
              <a:ahLst/>
              <a:rect l="l" t="t" r="r" b="b"/>
              <a:pathLst>
                <a:path w="132" h="52">
                  <a:moveTo>
                    <a:pt x="131" y="0"/>
                  </a:moveTo>
                  <a:lnTo>
                    <a:pt x="131" y="0"/>
                  </a:lnTo>
                  <a:lnTo>
                    <a:pt x="115" y="2"/>
                  </a:lnTo>
                  <a:lnTo>
                    <a:pt x="100" y="2"/>
                  </a:lnTo>
                  <a:lnTo>
                    <a:pt x="83" y="2"/>
                  </a:lnTo>
                  <a:lnTo>
                    <a:pt x="67" y="3"/>
                  </a:lnTo>
                  <a:lnTo>
                    <a:pt x="50" y="5"/>
                  </a:lnTo>
                  <a:lnTo>
                    <a:pt x="34" y="9"/>
                  </a:lnTo>
                  <a:lnTo>
                    <a:pt x="17" y="14"/>
                  </a:lnTo>
                  <a:lnTo>
                    <a:pt x="0" y="21"/>
                  </a:lnTo>
                  <a:lnTo>
                    <a:pt x="17" y="52"/>
                  </a:lnTo>
                  <a:lnTo>
                    <a:pt x="29" y="46"/>
                  </a:lnTo>
                  <a:lnTo>
                    <a:pt x="42" y="42"/>
                  </a:lnTo>
                  <a:lnTo>
                    <a:pt x="55" y="39"/>
                  </a:lnTo>
                  <a:lnTo>
                    <a:pt x="70" y="38"/>
                  </a:lnTo>
                  <a:lnTo>
                    <a:pt x="85" y="36"/>
                  </a:lnTo>
                  <a:lnTo>
                    <a:pt x="101" y="36"/>
                  </a:lnTo>
                  <a:lnTo>
                    <a:pt x="116" y="35"/>
                  </a:lnTo>
                  <a:lnTo>
                    <a:pt x="132" y="35"/>
                  </a:lnTo>
                  <a:lnTo>
                    <a:pt x="132" y="3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81720" y="5361120"/>
              <a:ext cx="83880" cy="1584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207" y="6"/>
                  </a:moveTo>
                  <a:lnTo>
                    <a:pt x="207" y="6"/>
                  </a:lnTo>
                  <a:lnTo>
                    <a:pt x="182" y="8"/>
                  </a:lnTo>
                  <a:lnTo>
                    <a:pt x="157" y="8"/>
                  </a:lnTo>
                  <a:lnTo>
                    <a:pt x="132" y="6"/>
                  </a:lnTo>
                  <a:lnTo>
                    <a:pt x="105" y="5"/>
                  </a:lnTo>
                  <a:lnTo>
                    <a:pt x="80" y="3"/>
                  </a:lnTo>
                  <a:lnTo>
                    <a:pt x="54" y="2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" y="35"/>
                  </a:lnTo>
                  <a:lnTo>
                    <a:pt x="26" y="35"/>
                  </a:lnTo>
                  <a:lnTo>
                    <a:pt x="51" y="36"/>
                  </a:lnTo>
                  <a:lnTo>
                    <a:pt x="78" y="38"/>
                  </a:lnTo>
                  <a:lnTo>
                    <a:pt x="104" y="39"/>
                  </a:lnTo>
                  <a:lnTo>
                    <a:pt x="129" y="41"/>
                  </a:lnTo>
                  <a:lnTo>
                    <a:pt x="157" y="42"/>
                  </a:lnTo>
                  <a:lnTo>
                    <a:pt x="183" y="42"/>
                  </a:lnTo>
                  <a:lnTo>
                    <a:pt x="210" y="41"/>
                  </a:lnTo>
                  <a:lnTo>
                    <a:pt x="210" y="41"/>
                  </a:lnTo>
                  <a:lnTo>
                    <a:pt x="207" y="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64160" y="5351400"/>
              <a:ext cx="50760" cy="25560"/>
            </a:xfrm>
            <a:custGeom>
              <a:avLst/>
              <a:gdLst/>
              <a:ahLst/>
              <a:rect l="l" t="t" r="r" b="b"/>
              <a:pathLst>
                <a:path w="129" h="65">
                  <a:moveTo>
                    <a:pt x="120" y="0"/>
                  </a:moveTo>
                  <a:lnTo>
                    <a:pt x="120" y="0"/>
                  </a:lnTo>
                  <a:lnTo>
                    <a:pt x="105" y="5"/>
                  </a:lnTo>
                  <a:lnTo>
                    <a:pt x="89" y="9"/>
                  </a:lnTo>
                  <a:lnTo>
                    <a:pt x="74" y="14"/>
                  </a:lnTo>
                  <a:lnTo>
                    <a:pt x="59" y="18"/>
                  </a:lnTo>
                  <a:lnTo>
                    <a:pt x="44" y="23"/>
                  </a:lnTo>
                  <a:lnTo>
                    <a:pt x="29" y="27"/>
                  </a:lnTo>
                  <a:lnTo>
                    <a:pt x="15" y="29"/>
                  </a:lnTo>
                  <a:lnTo>
                    <a:pt x="0" y="30"/>
                  </a:lnTo>
                  <a:lnTo>
                    <a:pt x="3" y="65"/>
                  </a:lnTo>
                  <a:lnTo>
                    <a:pt x="20" y="64"/>
                  </a:lnTo>
                  <a:lnTo>
                    <a:pt x="36" y="60"/>
                  </a:lnTo>
                  <a:lnTo>
                    <a:pt x="53" y="57"/>
                  </a:lnTo>
                  <a:lnTo>
                    <a:pt x="69" y="52"/>
                  </a:lnTo>
                  <a:lnTo>
                    <a:pt x="84" y="47"/>
                  </a:lnTo>
                  <a:lnTo>
                    <a:pt x="99" y="42"/>
                  </a:lnTo>
                  <a:lnTo>
                    <a:pt x="114" y="38"/>
                  </a:lnTo>
                  <a:lnTo>
                    <a:pt x="129" y="34"/>
                  </a:lnTo>
                  <a:lnTo>
                    <a:pt x="129" y="3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611680" y="5343480"/>
              <a:ext cx="34920" cy="2052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88" y="1"/>
                  </a:moveTo>
                  <a:lnTo>
                    <a:pt x="88" y="1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50" y="3"/>
                  </a:lnTo>
                  <a:lnTo>
                    <a:pt x="39" y="6"/>
                  </a:lnTo>
                  <a:lnTo>
                    <a:pt x="28" y="10"/>
                  </a:lnTo>
                  <a:lnTo>
                    <a:pt x="18" y="13"/>
                  </a:lnTo>
                  <a:lnTo>
                    <a:pt x="9" y="17"/>
                  </a:lnTo>
                  <a:lnTo>
                    <a:pt x="0" y="19"/>
                  </a:lnTo>
                  <a:lnTo>
                    <a:pt x="9" y="53"/>
                  </a:lnTo>
                  <a:lnTo>
                    <a:pt x="20" y="51"/>
                  </a:lnTo>
                  <a:lnTo>
                    <a:pt x="30" y="47"/>
                  </a:lnTo>
                  <a:lnTo>
                    <a:pt x="40" y="42"/>
                  </a:lnTo>
                  <a:lnTo>
                    <a:pt x="50" y="40"/>
                  </a:lnTo>
                  <a:lnTo>
                    <a:pt x="58" y="36"/>
                  </a:lnTo>
                  <a:lnTo>
                    <a:pt x="66" y="35"/>
                  </a:lnTo>
                  <a:lnTo>
                    <a:pt x="74" y="35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8" y="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43720" y="5343480"/>
              <a:ext cx="63360" cy="38160"/>
            </a:xfrm>
            <a:custGeom>
              <a:avLst/>
              <a:gdLst/>
              <a:ahLst/>
              <a:rect l="l" t="t" r="r" b="b"/>
              <a:pathLst>
                <a:path w="158" h="94">
                  <a:moveTo>
                    <a:pt x="158" y="63"/>
                  </a:moveTo>
                  <a:lnTo>
                    <a:pt x="158" y="63"/>
                  </a:lnTo>
                  <a:lnTo>
                    <a:pt x="140" y="54"/>
                  </a:lnTo>
                  <a:lnTo>
                    <a:pt x="122" y="45"/>
                  </a:lnTo>
                  <a:lnTo>
                    <a:pt x="104" y="35"/>
                  </a:lnTo>
                  <a:lnTo>
                    <a:pt x="86" y="27"/>
                  </a:lnTo>
                  <a:lnTo>
                    <a:pt x="67" y="18"/>
                  </a:lnTo>
                  <a:lnTo>
                    <a:pt x="48" y="11"/>
                  </a:lnTo>
                  <a:lnTo>
                    <a:pt x="27" y="5"/>
                  </a:lnTo>
                  <a:lnTo>
                    <a:pt x="7" y="0"/>
                  </a:lnTo>
                  <a:lnTo>
                    <a:pt x="0" y="34"/>
                  </a:lnTo>
                  <a:lnTo>
                    <a:pt x="18" y="39"/>
                  </a:lnTo>
                  <a:lnTo>
                    <a:pt x="36" y="44"/>
                  </a:lnTo>
                  <a:lnTo>
                    <a:pt x="54" y="51"/>
                  </a:lnTo>
                  <a:lnTo>
                    <a:pt x="72" y="58"/>
                  </a:lnTo>
                  <a:lnTo>
                    <a:pt x="89" y="66"/>
                  </a:lnTo>
                  <a:lnTo>
                    <a:pt x="107" y="76"/>
                  </a:lnTo>
                  <a:lnTo>
                    <a:pt x="125" y="84"/>
                  </a:lnTo>
                  <a:lnTo>
                    <a:pt x="143" y="94"/>
                  </a:lnTo>
                  <a:lnTo>
                    <a:pt x="143" y="94"/>
                  </a:lnTo>
                  <a:lnTo>
                    <a:pt x="158" y="6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00600" y="5369040"/>
              <a:ext cx="50760" cy="3960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129" y="66"/>
                  </a:moveTo>
                  <a:lnTo>
                    <a:pt x="129" y="66"/>
                  </a:lnTo>
                  <a:lnTo>
                    <a:pt x="116" y="61"/>
                  </a:lnTo>
                  <a:lnTo>
                    <a:pt x="102" y="54"/>
                  </a:lnTo>
                  <a:lnTo>
                    <a:pt x="88" y="45"/>
                  </a:lnTo>
                  <a:lnTo>
                    <a:pt x="74" y="36"/>
                  </a:lnTo>
                  <a:lnTo>
                    <a:pt x="61" y="26"/>
                  </a:lnTo>
                  <a:lnTo>
                    <a:pt x="46" y="18"/>
                  </a:lnTo>
                  <a:lnTo>
                    <a:pt x="31" y="8"/>
                  </a:lnTo>
                  <a:lnTo>
                    <a:pt x="15" y="0"/>
                  </a:lnTo>
                  <a:lnTo>
                    <a:pt x="0" y="31"/>
                  </a:lnTo>
                  <a:lnTo>
                    <a:pt x="14" y="38"/>
                  </a:lnTo>
                  <a:lnTo>
                    <a:pt x="27" y="47"/>
                  </a:lnTo>
                  <a:lnTo>
                    <a:pt x="42" y="56"/>
                  </a:lnTo>
                  <a:lnTo>
                    <a:pt x="56" y="65"/>
                  </a:lnTo>
                  <a:lnTo>
                    <a:pt x="70" y="74"/>
                  </a:lnTo>
                  <a:lnTo>
                    <a:pt x="85" y="84"/>
                  </a:lnTo>
                  <a:lnTo>
                    <a:pt x="102" y="92"/>
                  </a:lnTo>
                  <a:lnTo>
                    <a:pt x="118" y="99"/>
                  </a:lnTo>
                  <a:lnTo>
                    <a:pt x="118" y="99"/>
                  </a:lnTo>
                  <a:lnTo>
                    <a:pt x="129" y="6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48480" y="5394240"/>
              <a:ext cx="45720" cy="2088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102" y="13"/>
                  </a:moveTo>
                  <a:lnTo>
                    <a:pt x="102" y="13"/>
                  </a:lnTo>
                  <a:lnTo>
                    <a:pt x="99" y="15"/>
                  </a:lnTo>
                  <a:lnTo>
                    <a:pt x="94" y="17"/>
                  </a:lnTo>
                  <a:lnTo>
                    <a:pt x="89" y="18"/>
                  </a:lnTo>
                  <a:lnTo>
                    <a:pt x="84" y="18"/>
                  </a:lnTo>
                  <a:lnTo>
                    <a:pt x="74" y="18"/>
                  </a:lnTo>
                  <a:lnTo>
                    <a:pt x="62" y="17"/>
                  </a:lnTo>
                  <a:lnTo>
                    <a:pt x="50" y="13"/>
                  </a:lnTo>
                  <a:lnTo>
                    <a:pt x="38" y="9"/>
                  </a:lnTo>
                  <a:lnTo>
                    <a:pt x="24" y="5"/>
                  </a:lnTo>
                  <a:lnTo>
                    <a:pt x="11" y="0"/>
                  </a:lnTo>
                  <a:lnTo>
                    <a:pt x="0" y="33"/>
                  </a:lnTo>
                  <a:lnTo>
                    <a:pt x="12" y="38"/>
                  </a:lnTo>
                  <a:lnTo>
                    <a:pt x="27" y="42"/>
                  </a:lnTo>
                  <a:lnTo>
                    <a:pt x="40" y="47"/>
                  </a:lnTo>
                  <a:lnTo>
                    <a:pt x="56" y="50"/>
                  </a:lnTo>
                  <a:lnTo>
                    <a:pt x="71" y="53"/>
                  </a:lnTo>
                  <a:lnTo>
                    <a:pt x="86" y="53"/>
                  </a:lnTo>
                  <a:lnTo>
                    <a:pt x="94" y="51"/>
                  </a:lnTo>
                  <a:lnTo>
                    <a:pt x="102" y="50"/>
                  </a:lnTo>
                  <a:lnTo>
                    <a:pt x="110" y="48"/>
                  </a:lnTo>
                  <a:lnTo>
                    <a:pt x="118" y="44"/>
                  </a:lnTo>
                  <a:lnTo>
                    <a:pt x="118" y="44"/>
                  </a:lnTo>
                  <a:lnTo>
                    <a:pt x="102" y="1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788080" y="5373720"/>
              <a:ext cx="22320" cy="38160"/>
            </a:xfrm>
            <a:custGeom>
              <a:avLst/>
              <a:gdLst/>
              <a:ahLst/>
              <a:rect l="l" t="t" r="r" b="b"/>
              <a:pathLst>
                <a:path w="56" h="96">
                  <a:moveTo>
                    <a:pt x="22" y="1"/>
                  </a:moveTo>
                  <a:lnTo>
                    <a:pt x="22" y="1"/>
                  </a:lnTo>
                  <a:lnTo>
                    <a:pt x="22" y="12"/>
                  </a:lnTo>
                  <a:lnTo>
                    <a:pt x="21" y="22"/>
                  </a:lnTo>
                  <a:lnTo>
                    <a:pt x="20" y="33"/>
                  </a:lnTo>
                  <a:lnTo>
                    <a:pt x="17" y="42"/>
                  </a:lnTo>
                  <a:lnTo>
                    <a:pt x="14" y="51"/>
                  </a:lnTo>
                  <a:lnTo>
                    <a:pt x="9" y="58"/>
                  </a:lnTo>
                  <a:lnTo>
                    <a:pt x="8" y="60"/>
                  </a:lnTo>
                  <a:lnTo>
                    <a:pt x="5" y="63"/>
                  </a:lnTo>
                  <a:lnTo>
                    <a:pt x="3" y="64"/>
                  </a:lnTo>
                  <a:lnTo>
                    <a:pt x="0" y="65"/>
                  </a:lnTo>
                  <a:lnTo>
                    <a:pt x="16" y="96"/>
                  </a:lnTo>
                  <a:lnTo>
                    <a:pt x="22" y="93"/>
                  </a:lnTo>
                  <a:lnTo>
                    <a:pt x="28" y="88"/>
                  </a:lnTo>
                  <a:lnTo>
                    <a:pt x="34" y="83"/>
                  </a:lnTo>
                  <a:lnTo>
                    <a:pt x="39" y="77"/>
                  </a:lnTo>
                  <a:lnTo>
                    <a:pt x="45" y="65"/>
                  </a:lnTo>
                  <a:lnTo>
                    <a:pt x="50" y="52"/>
                  </a:lnTo>
                  <a:lnTo>
                    <a:pt x="53" y="39"/>
                  </a:lnTo>
                  <a:lnTo>
                    <a:pt x="56" y="25"/>
                  </a:lnTo>
                  <a:lnTo>
                    <a:pt x="56" y="13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83400" y="5337000"/>
              <a:ext cx="27000" cy="3816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0" y="21"/>
                  </a:moveTo>
                  <a:lnTo>
                    <a:pt x="0" y="21"/>
                  </a:lnTo>
                  <a:lnTo>
                    <a:pt x="7" y="30"/>
                  </a:lnTo>
                  <a:lnTo>
                    <a:pt x="13" y="40"/>
                  </a:lnTo>
                  <a:lnTo>
                    <a:pt x="19" y="50"/>
                  </a:lnTo>
                  <a:lnTo>
                    <a:pt x="24" y="59"/>
                  </a:lnTo>
                  <a:lnTo>
                    <a:pt x="28" y="69"/>
                  </a:lnTo>
                  <a:lnTo>
                    <a:pt x="31" y="78"/>
                  </a:lnTo>
                  <a:lnTo>
                    <a:pt x="34" y="88"/>
                  </a:lnTo>
                  <a:lnTo>
                    <a:pt x="35" y="96"/>
                  </a:lnTo>
                  <a:lnTo>
                    <a:pt x="69" y="95"/>
                  </a:lnTo>
                  <a:lnTo>
                    <a:pt x="67" y="82"/>
                  </a:lnTo>
                  <a:lnTo>
                    <a:pt x="65" y="69"/>
                  </a:lnTo>
                  <a:lnTo>
                    <a:pt x="60" y="56"/>
                  </a:lnTo>
                  <a:lnTo>
                    <a:pt x="55" y="44"/>
                  </a:lnTo>
                  <a:lnTo>
                    <a:pt x="49" y="33"/>
                  </a:lnTo>
                  <a:lnTo>
                    <a:pt x="43" y="21"/>
                  </a:lnTo>
                  <a:lnTo>
                    <a:pt x="36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40560" y="5284800"/>
              <a:ext cx="53640" cy="60480"/>
            </a:xfrm>
            <a:custGeom>
              <a:avLst/>
              <a:gdLst/>
              <a:ahLst/>
              <a:rect l="l" t="t" r="r" b="b"/>
              <a:pathLst>
                <a:path w="136" h="152">
                  <a:moveTo>
                    <a:pt x="0" y="26"/>
                  </a:moveTo>
                  <a:lnTo>
                    <a:pt x="0" y="26"/>
                  </a:lnTo>
                  <a:lnTo>
                    <a:pt x="16" y="40"/>
                  </a:lnTo>
                  <a:lnTo>
                    <a:pt x="30" y="55"/>
                  </a:lnTo>
                  <a:lnTo>
                    <a:pt x="44" y="69"/>
                  </a:lnTo>
                  <a:lnTo>
                    <a:pt x="58" y="85"/>
                  </a:lnTo>
                  <a:lnTo>
                    <a:pt x="71" y="101"/>
                  </a:lnTo>
                  <a:lnTo>
                    <a:pt x="83" y="117"/>
                  </a:lnTo>
                  <a:lnTo>
                    <a:pt x="95" y="134"/>
                  </a:lnTo>
                  <a:lnTo>
                    <a:pt x="107" y="152"/>
                  </a:lnTo>
                  <a:lnTo>
                    <a:pt x="136" y="131"/>
                  </a:lnTo>
                  <a:lnTo>
                    <a:pt x="124" y="115"/>
                  </a:lnTo>
                  <a:lnTo>
                    <a:pt x="111" y="97"/>
                  </a:lnTo>
                  <a:lnTo>
                    <a:pt x="98" y="80"/>
                  </a:lnTo>
                  <a:lnTo>
                    <a:pt x="84" y="63"/>
                  </a:lnTo>
                  <a:lnTo>
                    <a:pt x="70" y="46"/>
                  </a:lnTo>
                  <a:lnTo>
                    <a:pt x="54" y="30"/>
                  </a:lnTo>
                  <a:lnTo>
                    <a:pt x="39" y="1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76840" y="5238720"/>
              <a:ext cx="73080" cy="55440"/>
            </a:xfrm>
            <a:custGeom>
              <a:avLst/>
              <a:gdLst/>
              <a:ahLst/>
              <a:rect l="l" t="t" r="r" b="b"/>
              <a:pathLst>
                <a:path w="185" h="139">
                  <a:moveTo>
                    <a:pt x="0" y="31"/>
                  </a:moveTo>
                  <a:lnTo>
                    <a:pt x="0" y="31"/>
                  </a:lnTo>
                  <a:lnTo>
                    <a:pt x="22" y="43"/>
                  </a:lnTo>
                  <a:lnTo>
                    <a:pt x="44" y="55"/>
                  </a:lnTo>
                  <a:lnTo>
                    <a:pt x="64" y="67"/>
                  </a:lnTo>
                  <a:lnTo>
                    <a:pt x="84" y="80"/>
                  </a:lnTo>
                  <a:lnTo>
                    <a:pt x="105" y="95"/>
                  </a:lnTo>
                  <a:lnTo>
                    <a:pt x="124" y="109"/>
                  </a:lnTo>
                  <a:lnTo>
                    <a:pt x="143" y="123"/>
                  </a:lnTo>
                  <a:lnTo>
                    <a:pt x="162" y="139"/>
                  </a:lnTo>
                  <a:lnTo>
                    <a:pt x="185" y="113"/>
                  </a:lnTo>
                  <a:lnTo>
                    <a:pt x="166" y="97"/>
                  </a:lnTo>
                  <a:lnTo>
                    <a:pt x="146" y="81"/>
                  </a:lnTo>
                  <a:lnTo>
                    <a:pt x="125" y="66"/>
                  </a:lnTo>
                  <a:lnTo>
                    <a:pt x="104" y="51"/>
                  </a:lnTo>
                  <a:lnTo>
                    <a:pt x="82" y="38"/>
                  </a:lnTo>
                  <a:lnTo>
                    <a:pt x="60" y="25"/>
                  </a:lnTo>
                  <a:lnTo>
                    <a:pt x="39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24640" y="5221440"/>
              <a:ext cx="58680" cy="29880"/>
            </a:xfrm>
            <a:custGeom>
              <a:avLst/>
              <a:gdLst/>
              <a:ahLst/>
              <a:rect l="l" t="t" r="r" b="b"/>
              <a:pathLst>
                <a:path w="146" h="76">
                  <a:moveTo>
                    <a:pt x="0" y="35"/>
                  </a:moveTo>
                  <a:lnTo>
                    <a:pt x="0" y="35"/>
                  </a:lnTo>
                  <a:lnTo>
                    <a:pt x="16" y="39"/>
                  </a:lnTo>
                  <a:lnTo>
                    <a:pt x="33" y="44"/>
                  </a:lnTo>
                  <a:lnTo>
                    <a:pt x="50" y="47"/>
                  </a:lnTo>
                  <a:lnTo>
                    <a:pt x="67" y="52"/>
                  </a:lnTo>
                  <a:lnTo>
                    <a:pt x="84" y="57"/>
                  </a:lnTo>
                  <a:lnTo>
                    <a:pt x="99" y="63"/>
                  </a:lnTo>
                  <a:lnTo>
                    <a:pt x="115" y="69"/>
                  </a:lnTo>
                  <a:lnTo>
                    <a:pt x="130" y="76"/>
                  </a:lnTo>
                  <a:lnTo>
                    <a:pt x="146" y="45"/>
                  </a:lnTo>
                  <a:lnTo>
                    <a:pt x="129" y="38"/>
                  </a:lnTo>
                  <a:lnTo>
                    <a:pt x="112" y="30"/>
                  </a:lnTo>
                  <a:lnTo>
                    <a:pt x="94" y="24"/>
                  </a:lnTo>
                  <a:lnTo>
                    <a:pt x="78" y="18"/>
                  </a:lnTo>
                  <a:lnTo>
                    <a:pt x="60" y="14"/>
                  </a:lnTo>
                  <a:lnTo>
                    <a:pt x="42" y="9"/>
                  </a:lnTo>
                  <a:lnTo>
                    <a:pt x="25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576760" y="5214960"/>
              <a:ext cx="50760" cy="20520"/>
            </a:xfrm>
            <a:custGeom>
              <a:avLst/>
              <a:gdLst/>
              <a:ahLst/>
              <a:rect l="l" t="t" r="r" b="b"/>
              <a:pathLst>
                <a:path w="126" h="53">
                  <a:moveTo>
                    <a:pt x="0" y="35"/>
                  </a:moveTo>
                  <a:lnTo>
                    <a:pt x="0" y="35"/>
                  </a:lnTo>
                  <a:lnTo>
                    <a:pt x="14" y="35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9" y="40"/>
                  </a:lnTo>
                  <a:lnTo>
                    <a:pt x="73" y="42"/>
                  </a:lnTo>
                  <a:lnTo>
                    <a:pt x="89" y="46"/>
                  </a:lnTo>
                  <a:lnTo>
                    <a:pt x="103" y="50"/>
                  </a:lnTo>
                  <a:lnTo>
                    <a:pt x="119" y="53"/>
                  </a:lnTo>
                  <a:lnTo>
                    <a:pt x="126" y="18"/>
                  </a:lnTo>
                  <a:lnTo>
                    <a:pt x="111" y="16"/>
                  </a:lnTo>
                  <a:lnTo>
                    <a:pt x="96" y="12"/>
                  </a:lnTo>
                  <a:lnTo>
                    <a:pt x="80" y="9"/>
                  </a:lnTo>
                  <a:lnTo>
                    <a:pt x="65" y="6"/>
                  </a:lnTo>
                  <a:lnTo>
                    <a:pt x="48" y="4"/>
                  </a:lnTo>
                  <a:lnTo>
                    <a:pt x="32" y="2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541840" y="5214960"/>
              <a:ext cx="34920" cy="2052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16" y="52"/>
                  </a:moveTo>
                  <a:lnTo>
                    <a:pt x="16" y="52"/>
                  </a:lnTo>
                  <a:lnTo>
                    <a:pt x="24" y="47"/>
                  </a:lnTo>
                  <a:lnTo>
                    <a:pt x="33" y="45"/>
                  </a:lnTo>
                  <a:lnTo>
                    <a:pt x="41" y="41"/>
                  </a:lnTo>
                  <a:lnTo>
                    <a:pt x="51" y="39"/>
                  </a:lnTo>
                  <a:lnTo>
                    <a:pt x="60" y="38"/>
                  </a:lnTo>
                  <a:lnTo>
                    <a:pt x="69" y="36"/>
                  </a:lnTo>
                  <a:lnTo>
                    <a:pt x="78" y="35"/>
                  </a:lnTo>
                  <a:lnTo>
                    <a:pt x="88" y="35"/>
                  </a:lnTo>
                  <a:lnTo>
                    <a:pt x="88" y="0"/>
                  </a:lnTo>
                  <a:lnTo>
                    <a:pt x="76" y="0"/>
                  </a:lnTo>
                  <a:lnTo>
                    <a:pt x="65" y="2"/>
                  </a:lnTo>
                  <a:lnTo>
                    <a:pt x="54" y="3"/>
                  </a:lnTo>
                  <a:lnTo>
                    <a:pt x="43" y="5"/>
                  </a:lnTo>
                  <a:lnTo>
                    <a:pt x="31" y="8"/>
                  </a:lnTo>
                  <a:lnTo>
                    <a:pt x="21" y="11"/>
                  </a:lnTo>
                  <a:lnTo>
                    <a:pt x="11" y="16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6" y="5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14840" y="5222880"/>
              <a:ext cx="33480" cy="3348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17" y="85"/>
                  </a:moveTo>
                  <a:lnTo>
                    <a:pt x="17" y="85"/>
                  </a:lnTo>
                  <a:lnTo>
                    <a:pt x="27" y="78"/>
                  </a:lnTo>
                  <a:lnTo>
                    <a:pt x="37" y="71"/>
                  </a:lnTo>
                  <a:lnTo>
                    <a:pt x="47" y="62"/>
                  </a:lnTo>
                  <a:lnTo>
                    <a:pt x="54" y="55"/>
                  </a:lnTo>
                  <a:lnTo>
                    <a:pt x="62" y="47"/>
                  </a:lnTo>
                  <a:lnTo>
                    <a:pt x="69" y="41"/>
                  </a:lnTo>
                  <a:lnTo>
                    <a:pt x="77" y="35"/>
                  </a:lnTo>
                  <a:lnTo>
                    <a:pt x="84" y="31"/>
                  </a:lnTo>
                  <a:lnTo>
                    <a:pt x="68" y="0"/>
                  </a:lnTo>
                  <a:lnTo>
                    <a:pt x="57" y="6"/>
                  </a:lnTo>
                  <a:lnTo>
                    <a:pt x="47" y="14"/>
                  </a:lnTo>
                  <a:lnTo>
                    <a:pt x="38" y="21"/>
                  </a:lnTo>
                  <a:lnTo>
                    <a:pt x="30" y="30"/>
                  </a:lnTo>
                  <a:lnTo>
                    <a:pt x="23" y="37"/>
                  </a:lnTo>
                  <a:lnTo>
                    <a:pt x="14" y="44"/>
                  </a:lnTo>
                  <a:lnTo>
                    <a:pt x="7" y="50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7" y="8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468760" y="5245200"/>
              <a:ext cx="52560" cy="31680"/>
            </a:xfrm>
            <a:custGeom>
              <a:avLst/>
              <a:gdLst/>
              <a:ahLst/>
              <a:rect l="l" t="t" r="r" b="b"/>
              <a:pathLst>
                <a:path w="135" h="80">
                  <a:moveTo>
                    <a:pt x="7" y="80"/>
                  </a:moveTo>
                  <a:lnTo>
                    <a:pt x="7" y="80"/>
                  </a:lnTo>
                  <a:lnTo>
                    <a:pt x="24" y="77"/>
                  </a:lnTo>
                  <a:lnTo>
                    <a:pt x="41" y="72"/>
                  </a:lnTo>
                  <a:lnTo>
                    <a:pt x="58" y="66"/>
                  </a:lnTo>
                  <a:lnTo>
                    <a:pt x="73" y="60"/>
                  </a:lnTo>
                  <a:lnTo>
                    <a:pt x="89" y="53"/>
                  </a:lnTo>
                  <a:lnTo>
                    <a:pt x="105" y="46"/>
                  </a:lnTo>
                  <a:lnTo>
                    <a:pt x="120" y="38"/>
                  </a:lnTo>
                  <a:lnTo>
                    <a:pt x="135" y="30"/>
                  </a:lnTo>
                  <a:lnTo>
                    <a:pt x="118" y="0"/>
                  </a:lnTo>
                  <a:lnTo>
                    <a:pt x="103" y="7"/>
                  </a:lnTo>
                  <a:lnTo>
                    <a:pt x="89" y="14"/>
                  </a:lnTo>
                  <a:lnTo>
                    <a:pt x="75" y="22"/>
                  </a:lnTo>
                  <a:lnTo>
                    <a:pt x="60" y="28"/>
                  </a:lnTo>
                  <a:lnTo>
                    <a:pt x="46" y="34"/>
                  </a:lnTo>
                  <a:lnTo>
                    <a:pt x="30" y="38"/>
                  </a:lnTo>
                  <a:lnTo>
                    <a:pt x="16" y="4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7" y="8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46800" y="5262480"/>
              <a:ext cx="25200" cy="1440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17"/>
                  </a:moveTo>
                  <a:lnTo>
                    <a:pt x="0" y="17"/>
                  </a:lnTo>
                  <a:lnTo>
                    <a:pt x="6" y="25"/>
                  </a:lnTo>
                  <a:lnTo>
                    <a:pt x="13" y="31"/>
                  </a:lnTo>
                  <a:lnTo>
                    <a:pt x="22" y="35"/>
                  </a:lnTo>
                  <a:lnTo>
                    <a:pt x="30" y="37"/>
                  </a:lnTo>
                  <a:lnTo>
                    <a:pt x="37" y="40"/>
                  </a:lnTo>
                  <a:lnTo>
                    <a:pt x="46" y="40"/>
                  </a:lnTo>
                  <a:lnTo>
                    <a:pt x="54" y="40"/>
                  </a:lnTo>
                  <a:lnTo>
                    <a:pt x="61" y="37"/>
                  </a:lnTo>
                  <a:lnTo>
                    <a:pt x="54" y="4"/>
                  </a:lnTo>
                  <a:lnTo>
                    <a:pt x="51" y="5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43560" y="5234040"/>
              <a:ext cx="15840" cy="3492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11" y="0"/>
                  </a:moveTo>
                  <a:lnTo>
                    <a:pt x="11" y="0"/>
                  </a:lnTo>
                  <a:lnTo>
                    <a:pt x="6" y="11"/>
                  </a:lnTo>
                  <a:lnTo>
                    <a:pt x="3" y="21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3" y="65"/>
                  </a:lnTo>
                  <a:lnTo>
                    <a:pt x="6" y="75"/>
                  </a:lnTo>
                  <a:lnTo>
                    <a:pt x="11" y="85"/>
                  </a:lnTo>
                  <a:lnTo>
                    <a:pt x="41" y="68"/>
                  </a:lnTo>
                  <a:lnTo>
                    <a:pt x="39" y="62"/>
                  </a:lnTo>
                  <a:lnTo>
                    <a:pt x="36" y="56"/>
                  </a:lnTo>
                  <a:lnTo>
                    <a:pt x="35" y="49"/>
                  </a:lnTo>
                  <a:lnTo>
                    <a:pt x="35" y="43"/>
                  </a:lnTo>
                  <a:lnTo>
                    <a:pt x="35" y="36"/>
                  </a:lnTo>
                  <a:lnTo>
                    <a:pt x="36" y="30"/>
                  </a:lnTo>
                  <a:lnTo>
                    <a:pt x="38" y="24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46800" y="5186520"/>
              <a:ext cx="58680" cy="55440"/>
            </a:xfrm>
            <a:custGeom>
              <a:avLst/>
              <a:gdLst/>
              <a:ahLst/>
              <a:rect l="l" t="t" r="r" b="b"/>
              <a:pathLst>
                <a:path w="148" h="140">
                  <a:moveTo>
                    <a:pt x="127" y="0"/>
                  </a:moveTo>
                  <a:lnTo>
                    <a:pt x="127" y="0"/>
                  </a:lnTo>
                  <a:lnTo>
                    <a:pt x="109" y="13"/>
                  </a:lnTo>
                  <a:lnTo>
                    <a:pt x="93" y="26"/>
                  </a:lnTo>
                  <a:lnTo>
                    <a:pt x="76" y="39"/>
                  </a:lnTo>
                  <a:lnTo>
                    <a:pt x="59" y="54"/>
                  </a:lnTo>
                  <a:lnTo>
                    <a:pt x="43" y="69"/>
                  </a:lnTo>
                  <a:lnTo>
                    <a:pt x="28" y="86"/>
                  </a:lnTo>
                  <a:lnTo>
                    <a:pt x="13" y="103"/>
                  </a:lnTo>
                  <a:lnTo>
                    <a:pt x="0" y="121"/>
                  </a:lnTo>
                  <a:lnTo>
                    <a:pt x="29" y="140"/>
                  </a:lnTo>
                  <a:lnTo>
                    <a:pt x="41" y="124"/>
                  </a:lnTo>
                  <a:lnTo>
                    <a:pt x="54" y="109"/>
                  </a:lnTo>
                  <a:lnTo>
                    <a:pt x="67" y="93"/>
                  </a:lnTo>
                  <a:lnTo>
                    <a:pt x="82" y="80"/>
                  </a:lnTo>
                  <a:lnTo>
                    <a:pt x="97" y="66"/>
                  </a:lnTo>
                  <a:lnTo>
                    <a:pt x="114" y="52"/>
                  </a:lnTo>
                  <a:lnTo>
                    <a:pt x="131" y="40"/>
                  </a:lnTo>
                  <a:lnTo>
                    <a:pt x="148" y="28"/>
                  </a:lnTo>
                  <a:lnTo>
                    <a:pt x="148" y="2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97560" y="5168880"/>
              <a:ext cx="47520" cy="28440"/>
            </a:xfrm>
            <a:custGeom>
              <a:avLst/>
              <a:gdLst/>
              <a:ahLst/>
              <a:rect l="l" t="t" r="r" b="b"/>
              <a:pathLst>
                <a:path w="118" h="74">
                  <a:moveTo>
                    <a:pt x="112" y="0"/>
                  </a:moveTo>
                  <a:lnTo>
                    <a:pt x="112" y="0"/>
                  </a:lnTo>
                  <a:lnTo>
                    <a:pt x="96" y="4"/>
                  </a:lnTo>
                  <a:lnTo>
                    <a:pt x="82" y="7"/>
                  </a:lnTo>
                  <a:lnTo>
                    <a:pt x="68" y="12"/>
                  </a:lnTo>
                  <a:lnTo>
                    <a:pt x="54" y="17"/>
                  </a:lnTo>
                  <a:lnTo>
                    <a:pt x="40" y="23"/>
                  </a:lnTo>
                  <a:lnTo>
                    <a:pt x="27" y="30"/>
                  </a:lnTo>
                  <a:lnTo>
                    <a:pt x="14" y="37"/>
                  </a:lnTo>
                  <a:lnTo>
                    <a:pt x="0" y="46"/>
                  </a:lnTo>
                  <a:lnTo>
                    <a:pt x="21" y="74"/>
                  </a:lnTo>
                  <a:lnTo>
                    <a:pt x="32" y="67"/>
                  </a:lnTo>
                  <a:lnTo>
                    <a:pt x="42" y="60"/>
                  </a:lnTo>
                  <a:lnTo>
                    <a:pt x="54" y="54"/>
                  </a:lnTo>
                  <a:lnTo>
                    <a:pt x="66" y="49"/>
                  </a:lnTo>
                  <a:lnTo>
                    <a:pt x="80" y="44"/>
                  </a:lnTo>
                  <a:lnTo>
                    <a:pt x="92" y="41"/>
                  </a:lnTo>
                  <a:lnTo>
                    <a:pt x="105" y="37"/>
                  </a:lnTo>
                  <a:lnTo>
                    <a:pt x="118" y="34"/>
                  </a:lnTo>
                  <a:lnTo>
                    <a:pt x="118" y="34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41840" y="5165640"/>
              <a:ext cx="60480" cy="15840"/>
            </a:xfrm>
            <a:custGeom>
              <a:avLst/>
              <a:gdLst/>
              <a:ahLst/>
              <a:rect l="l" t="t" r="r" b="b"/>
              <a:pathLst>
                <a:path w="150" h="41">
                  <a:moveTo>
                    <a:pt x="150" y="1"/>
                  </a:moveTo>
                  <a:lnTo>
                    <a:pt x="150" y="1"/>
                  </a:lnTo>
                  <a:lnTo>
                    <a:pt x="132" y="1"/>
                  </a:lnTo>
                  <a:lnTo>
                    <a:pt x="113" y="0"/>
                  </a:lnTo>
                  <a:lnTo>
                    <a:pt x="95" y="0"/>
                  </a:lnTo>
                  <a:lnTo>
                    <a:pt x="76" y="0"/>
                  </a:lnTo>
                  <a:lnTo>
                    <a:pt x="56" y="1"/>
                  </a:lnTo>
                  <a:lnTo>
                    <a:pt x="37" y="2"/>
                  </a:lnTo>
                  <a:lnTo>
                    <a:pt x="18" y="3"/>
                  </a:lnTo>
                  <a:lnTo>
                    <a:pt x="0" y="7"/>
                  </a:lnTo>
                  <a:lnTo>
                    <a:pt x="6" y="41"/>
                  </a:lnTo>
                  <a:lnTo>
                    <a:pt x="23" y="38"/>
                  </a:lnTo>
                  <a:lnTo>
                    <a:pt x="41" y="37"/>
                  </a:lnTo>
                  <a:lnTo>
                    <a:pt x="59" y="36"/>
                  </a:lnTo>
                  <a:lnTo>
                    <a:pt x="77" y="35"/>
                  </a:lnTo>
                  <a:lnTo>
                    <a:pt x="95" y="35"/>
                  </a:lnTo>
                  <a:lnTo>
                    <a:pt x="113" y="35"/>
                  </a:lnTo>
                  <a:lnTo>
                    <a:pt x="131" y="36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0" y="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602320" y="5165640"/>
              <a:ext cx="82440" cy="15840"/>
            </a:xfrm>
            <a:custGeom>
              <a:avLst/>
              <a:gdLst/>
              <a:ahLst/>
              <a:rect l="l" t="t" r="r" b="b"/>
              <a:pathLst>
                <a:path w="209" h="41">
                  <a:moveTo>
                    <a:pt x="209" y="6"/>
                  </a:moveTo>
                  <a:lnTo>
                    <a:pt x="209" y="6"/>
                  </a:lnTo>
                  <a:lnTo>
                    <a:pt x="184" y="5"/>
                  </a:lnTo>
                  <a:lnTo>
                    <a:pt x="157" y="4"/>
                  </a:lnTo>
                  <a:lnTo>
                    <a:pt x="131" y="2"/>
                  </a:lnTo>
                  <a:lnTo>
                    <a:pt x="104" y="1"/>
                  </a:lnTo>
                  <a:lnTo>
                    <a:pt x="78" y="1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26" y="35"/>
                  </a:lnTo>
                  <a:lnTo>
                    <a:pt x="52" y="35"/>
                  </a:lnTo>
                  <a:lnTo>
                    <a:pt x="78" y="35"/>
                  </a:lnTo>
                  <a:lnTo>
                    <a:pt x="103" y="36"/>
                  </a:lnTo>
                  <a:lnTo>
                    <a:pt x="130" y="37"/>
                  </a:lnTo>
                  <a:lnTo>
                    <a:pt x="156" y="38"/>
                  </a:lnTo>
                  <a:lnTo>
                    <a:pt x="181" y="40"/>
                  </a:lnTo>
                  <a:lnTo>
                    <a:pt x="208" y="41"/>
                  </a:lnTo>
                  <a:lnTo>
                    <a:pt x="208" y="41"/>
                  </a:lnTo>
                  <a:lnTo>
                    <a:pt x="209" y="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83320" y="5168880"/>
              <a:ext cx="61920" cy="17640"/>
            </a:xfrm>
            <a:custGeom>
              <a:avLst/>
              <a:gdLst/>
              <a:ahLst/>
              <a:rect l="l" t="t" r="r" b="b"/>
              <a:pathLst>
                <a:path w="153" h="47">
                  <a:moveTo>
                    <a:pt x="153" y="12"/>
                  </a:moveTo>
                  <a:lnTo>
                    <a:pt x="153" y="12"/>
                  </a:lnTo>
                  <a:lnTo>
                    <a:pt x="135" y="12"/>
                  </a:lnTo>
                  <a:lnTo>
                    <a:pt x="116" y="11"/>
                  </a:lnTo>
                  <a:lnTo>
                    <a:pt x="98" y="8"/>
                  </a:lnTo>
                  <a:lnTo>
                    <a:pt x="79" y="7"/>
                  </a:lnTo>
                  <a:lnTo>
                    <a:pt x="60" y="5"/>
                  </a:lnTo>
                  <a:lnTo>
                    <a:pt x="40" y="2"/>
                  </a:lnTo>
                  <a:lnTo>
                    <a:pt x="21" y="1"/>
                  </a:lnTo>
                  <a:lnTo>
                    <a:pt x="1" y="0"/>
                  </a:lnTo>
                  <a:lnTo>
                    <a:pt x="0" y="35"/>
                  </a:lnTo>
                  <a:lnTo>
                    <a:pt x="19" y="36"/>
                  </a:lnTo>
                  <a:lnTo>
                    <a:pt x="37" y="37"/>
                  </a:lnTo>
                  <a:lnTo>
                    <a:pt x="56" y="40"/>
                  </a:lnTo>
                  <a:lnTo>
                    <a:pt x="75" y="42"/>
                  </a:lnTo>
                  <a:lnTo>
                    <a:pt x="94" y="43"/>
                  </a:lnTo>
                  <a:lnTo>
                    <a:pt x="114" y="46"/>
                  </a:lnTo>
                  <a:lnTo>
                    <a:pt x="134" y="47"/>
                  </a:lnTo>
                  <a:lnTo>
                    <a:pt x="153" y="47"/>
                  </a:lnTo>
                  <a:lnTo>
                    <a:pt x="153" y="47"/>
                  </a:lnTo>
                  <a:lnTo>
                    <a:pt x="153" y="1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745240" y="5170320"/>
              <a:ext cx="38160" cy="1764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75" y="0"/>
                  </a:moveTo>
                  <a:lnTo>
                    <a:pt x="75" y="0"/>
                  </a:lnTo>
                  <a:lnTo>
                    <a:pt x="70" y="3"/>
                  </a:lnTo>
                  <a:lnTo>
                    <a:pt x="63" y="6"/>
                  </a:lnTo>
                  <a:lnTo>
                    <a:pt x="55" y="7"/>
                  </a:lnTo>
                  <a:lnTo>
                    <a:pt x="46" y="8"/>
                  </a:lnTo>
                  <a:lnTo>
                    <a:pt x="35" y="8"/>
                  </a:lnTo>
                  <a:lnTo>
                    <a:pt x="24" y="8"/>
                  </a:lnTo>
                  <a:lnTo>
                    <a:pt x="12" y="7"/>
                  </a:lnTo>
                  <a:lnTo>
                    <a:pt x="0" y="7"/>
                  </a:lnTo>
                  <a:lnTo>
                    <a:pt x="0" y="42"/>
                  </a:lnTo>
                  <a:lnTo>
                    <a:pt x="11" y="42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47" y="43"/>
                  </a:lnTo>
                  <a:lnTo>
                    <a:pt x="60" y="42"/>
                  </a:lnTo>
                  <a:lnTo>
                    <a:pt x="73" y="38"/>
                  </a:lnTo>
                  <a:lnTo>
                    <a:pt x="87" y="33"/>
                  </a:lnTo>
                  <a:lnTo>
                    <a:pt x="99" y="25"/>
                  </a:lnTo>
                  <a:lnTo>
                    <a:pt x="99" y="2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23040" y="4854600"/>
              <a:ext cx="1046160" cy="901800"/>
            </a:xfrm>
            <a:custGeom>
              <a:avLst/>
              <a:gdLst/>
              <a:ahLst/>
              <a:rect l="l" t="t" r="r" b="b"/>
              <a:pathLst>
                <a:path w="2639" h="2272">
                  <a:moveTo>
                    <a:pt x="902" y="808"/>
                  </a:moveTo>
                  <a:lnTo>
                    <a:pt x="909" y="800"/>
                  </a:lnTo>
                  <a:lnTo>
                    <a:pt x="917" y="790"/>
                  </a:lnTo>
                  <a:lnTo>
                    <a:pt x="921" y="778"/>
                  </a:lnTo>
                  <a:lnTo>
                    <a:pt x="926" y="767"/>
                  </a:lnTo>
                  <a:lnTo>
                    <a:pt x="929" y="754"/>
                  </a:lnTo>
                  <a:lnTo>
                    <a:pt x="931" y="742"/>
                  </a:lnTo>
                  <a:lnTo>
                    <a:pt x="932" y="730"/>
                  </a:lnTo>
                  <a:lnTo>
                    <a:pt x="932" y="717"/>
                  </a:lnTo>
                  <a:lnTo>
                    <a:pt x="932" y="703"/>
                  </a:lnTo>
                  <a:lnTo>
                    <a:pt x="931" y="688"/>
                  </a:lnTo>
                  <a:lnTo>
                    <a:pt x="929" y="674"/>
                  </a:lnTo>
                  <a:lnTo>
                    <a:pt x="925" y="659"/>
                  </a:lnTo>
                  <a:lnTo>
                    <a:pt x="921" y="646"/>
                  </a:lnTo>
                  <a:lnTo>
                    <a:pt x="917" y="632"/>
                  </a:lnTo>
                  <a:lnTo>
                    <a:pt x="909" y="620"/>
                  </a:lnTo>
                  <a:lnTo>
                    <a:pt x="902" y="608"/>
                  </a:lnTo>
                  <a:lnTo>
                    <a:pt x="893" y="598"/>
                  </a:lnTo>
                  <a:lnTo>
                    <a:pt x="883" y="591"/>
                  </a:lnTo>
                  <a:lnTo>
                    <a:pt x="872" y="584"/>
                  </a:lnTo>
                  <a:lnTo>
                    <a:pt x="860" y="579"/>
                  </a:lnTo>
                  <a:lnTo>
                    <a:pt x="847" y="574"/>
                  </a:lnTo>
                  <a:lnTo>
                    <a:pt x="835" y="569"/>
                  </a:lnTo>
                  <a:lnTo>
                    <a:pt x="822" y="565"/>
                  </a:lnTo>
                  <a:lnTo>
                    <a:pt x="810" y="560"/>
                  </a:lnTo>
                  <a:lnTo>
                    <a:pt x="797" y="553"/>
                  </a:lnTo>
                  <a:lnTo>
                    <a:pt x="782" y="545"/>
                  </a:lnTo>
                  <a:lnTo>
                    <a:pt x="768" y="539"/>
                  </a:lnTo>
                  <a:lnTo>
                    <a:pt x="753" y="533"/>
                  </a:lnTo>
                  <a:lnTo>
                    <a:pt x="739" y="527"/>
                  </a:lnTo>
                  <a:lnTo>
                    <a:pt x="725" y="521"/>
                  </a:lnTo>
                  <a:lnTo>
                    <a:pt x="709" y="515"/>
                  </a:lnTo>
                  <a:lnTo>
                    <a:pt x="695" y="511"/>
                  </a:lnTo>
                  <a:lnTo>
                    <a:pt x="678" y="506"/>
                  </a:lnTo>
                  <a:lnTo>
                    <a:pt x="661" y="502"/>
                  </a:lnTo>
                  <a:lnTo>
                    <a:pt x="644" y="500"/>
                  </a:lnTo>
                  <a:lnTo>
                    <a:pt x="627" y="496"/>
                  </a:lnTo>
                  <a:lnTo>
                    <a:pt x="611" y="494"/>
                  </a:lnTo>
                  <a:lnTo>
                    <a:pt x="594" y="490"/>
                  </a:lnTo>
                  <a:lnTo>
                    <a:pt x="577" y="485"/>
                  </a:lnTo>
                  <a:lnTo>
                    <a:pt x="560" y="481"/>
                  </a:lnTo>
                  <a:lnTo>
                    <a:pt x="548" y="475"/>
                  </a:lnTo>
                  <a:lnTo>
                    <a:pt x="535" y="469"/>
                  </a:lnTo>
                  <a:lnTo>
                    <a:pt x="522" y="461"/>
                  </a:lnTo>
                  <a:lnTo>
                    <a:pt x="510" y="453"/>
                  </a:lnTo>
                  <a:lnTo>
                    <a:pt x="498" y="446"/>
                  </a:lnTo>
                  <a:lnTo>
                    <a:pt x="486" y="437"/>
                  </a:lnTo>
                  <a:lnTo>
                    <a:pt x="475" y="428"/>
                  </a:lnTo>
                  <a:lnTo>
                    <a:pt x="463" y="419"/>
                  </a:lnTo>
                  <a:lnTo>
                    <a:pt x="444" y="404"/>
                  </a:lnTo>
                  <a:lnTo>
                    <a:pt x="425" y="387"/>
                  </a:lnTo>
                  <a:lnTo>
                    <a:pt x="405" y="370"/>
                  </a:lnTo>
                  <a:lnTo>
                    <a:pt x="387" y="352"/>
                  </a:lnTo>
                  <a:lnTo>
                    <a:pt x="368" y="336"/>
                  </a:lnTo>
                  <a:lnTo>
                    <a:pt x="350" y="319"/>
                  </a:lnTo>
                  <a:lnTo>
                    <a:pt x="331" y="302"/>
                  </a:lnTo>
                  <a:lnTo>
                    <a:pt x="312" y="286"/>
                  </a:lnTo>
                  <a:lnTo>
                    <a:pt x="294" y="272"/>
                  </a:lnTo>
                  <a:lnTo>
                    <a:pt x="276" y="259"/>
                  </a:lnTo>
                  <a:lnTo>
                    <a:pt x="258" y="244"/>
                  </a:lnTo>
                  <a:lnTo>
                    <a:pt x="240" y="232"/>
                  </a:lnTo>
                  <a:lnTo>
                    <a:pt x="222" y="219"/>
                  </a:lnTo>
                  <a:lnTo>
                    <a:pt x="203" y="206"/>
                  </a:lnTo>
                  <a:lnTo>
                    <a:pt x="185" y="194"/>
                  </a:lnTo>
                  <a:lnTo>
                    <a:pt x="165" y="182"/>
                  </a:lnTo>
                  <a:lnTo>
                    <a:pt x="152" y="176"/>
                  </a:lnTo>
                  <a:lnTo>
                    <a:pt x="140" y="170"/>
                  </a:lnTo>
                  <a:lnTo>
                    <a:pt x="127" y="164"/>
                  </a:lnTo>
                  <a:lnTo>
                    <a:pt x="113" y="158"/>
                  </a:lnTo>
                  <a:lnTo>
                    <a:pt x="99" y="153"/>
                  </a:lnTo>
                  <a:lnTo>
                    <a:pt x="86" y="147"/>
                  </a:lnTo>
                  <a:lnTo>
                    <a:pt x="74" y="141"/>
                  </a:lnTo>
                  <a:lnTo>
                    <a:pt x="62" y="134"/>
                  </a:lnTo>
                  <a:lnTo>
                    <a:pt x="53" y="128"/>
                  </a:lnTo>
                  <a:lnTo>
                    <a:pt x="43" y="122"/>
                  </a:lnTo>
                  <a:lnTo>
                    <a:pt x="35" y="115"/>
                  </a:lnTo>
                  <a:lnTo>
                    <a:pt x="25" y="108"/>
                  </a:lnTo>
                  <a:lnTo>
                    <a:pt x="18" y="100"/>
                  </a:lnTo>
                  <a:lnTo>
                    <a:pt x="11" y="92"/>
                  </a:lnTo>
                  <a:lnTo>
                    <a:pt x="5" y="82"/>
                  </a:lnTo>
                  <a:lnTo>
                    <a:pt x="1" y="73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8" y="34"/>
                  </a:lnTo>
                  <a:lnTo>
                    <a:pt x="13" y="28"/>
                  </a:lnTo>
                  <a:lnTo>
                    <a:pt x="19" y="22"/>
                  </a:lnTo>
                  <a:lnTo>
                    <a:pt x="25" y="19"/>
                  </a:lnTo>
                  <a:lnTo>
                    <a:pt x="37" y="13"/>
                  </a:lnTo>
                  <a:lnTo>
                    <a:pt x="49" y="9"/>
                  </a:lnTo>
                  <a:lnTo>
                    <a:pt x="62" y="7"/>
                  </a:lnTo>
                  <a:lnTo>
                    <a:pt x="75" y="4"/>
                  </a:lnTo>
                  <a:lnTo>
                    <a:pt x="89" y="4"/>
                  </a:lnTo>
                  <a:lnTo>
                    <a:pt x="102" y="4"/>
                  </a:lnTo>
                  <a:lnTo>
                    <a:pt x="115" y="6"/>
                  </a:lnTo>
                  <a:lnTo>
                    <a:pt x="128" y="6"/>
                  </a:lnTo>
                  <a:lnTo>
                    <a:pt x="140" y="8"/>
                  </a:lnTo>
                  <a:lnTo>
                    <a:pt x="152" y="9"/>
                  </a:lnTo>
                  <a:lnTo>
                    <a:pt x="164" y="13"/>
                  </a:lnTo>
                  <a:lnTo>
                    <a:pt x="176" y="16"/>
                  </a:lnTo>
                  <a:lnTo>
                    <a:pt x="188" y="20"/>
                  </a:lnTo>
                  <a:lnTo>
                    <a:pt x="199" y="25"/>
                  </a:lnTo>
                  <a:lnTo>
                    <a:pt x="210" y="31"/>
                  </a:lnTo>
                  <a:lnTo>
                    <a:pt x="219" y="37"/>
                  </a:lnTo>
                  <a:lnTo>
                    <a:pt x="234" y="46"/>
                  </a:lnTo>
                  <a:lnTo>
                    <a:pt x="248" y="58"/>
                  </a:lnTo>
                  <a:lnTo>
                    <a:pt x="260" y="70"/>
                  </a:lnTo>
                  <a:lnTo>
                    <a:pt x="273" y="84"/>
                  </a:lnTo>
                  <a:lnTo>
                    <a:pt x="285" y="96"/>
                  </a:lnTo>
                  <a:lnTo>
                    <a:pt x="297" y="109"/>
                  </a:lnTo>
                  <a:lnTo>
                    <a:pt x="311" y="122"/>
                  </a:lnTo>
                  <a:lnTo>
                    <a:pt x="324" y="134"/>
                  </a:lnTo>
                  <a:lnTo>
                    <a:pt x="342" y="150"/>
                  </a:lnTo>
                  <a:lnTo>
                    <a:pt x="361" y="166"/>
                  </a:lnTo>
                  <a:lnTo>
                    <a:pt x="380" y="182"/>
                  </a:lnTo>
                  <a:lnTo>
                    <a:pt x="398" y="199"/>
                  </a:lnTo>
                  <a:lnTo>
                    <a:pt x="417" y="214"/>
                  </a:lnTo>
                  <a:lnTo>
                    <a:pt x="437" y="230"/>
                  </a:lnTo>
                  <a:lnTo>
                    <a:pt x="456" y="246"/>
                  </a:lnTo>
                  <a:lnTo>
                    <a:pt x="475" y="261"/>
                  </a:lnTo>
                  <a:lnTo>
                    <a:pt x="489" y="273"/>
                  </a:lnTo>
                  <a:lnTo>
                    <a:pt x="504" y="284"/>
                  </a:lnTo>
                  <a:lnTo>
                    <a:pt x="518" y="295"/>
                  </a:lnTo>
                  <a:lnTo>
                    <a:pt x="531" y="307"/>
                  </a:lnTo>
                  <a:lnTo>
                    <a:pt x="546" y="318"/>
                  </a:lnTo>
                  <a:lnTo>
                    <a:pt x="561" y="327"/>
                  </a:lnTo>
                  <a:lnTo>
                    <a:pt x="576" y="338"/>
                  </a:lnTo>
                  <a:lnTo>
                    <a:pt x="591" y="346"/>
                  </a:lnTo>
                  <a:lnTo>
                    <a:pt x="599" y="351"/>
                  </a:lnTo>
                  <a:lnTo>
                    <a:pt x="607" y="354"/>
                  </a:lnTo>
                  <a:lnTo>
                    <a:pt x="615" y="357"/>
                  </a:lnTo>
                  <a:lnTo>
                    <a:pt x="624" y="360"/>
                  </a:lnTo>
                  <a:lnTo>
                    <a:pt x="632" y="362"/>
                  </a:lnTo>
                  <a:lnTo>
                    <a:pt x="641" y="363"/>
                  </a:lnTo>
                  <a:lnTo>
                    <a:pt x="649" y="364"/>
                  </a:lnTo>
                  <a:lnTo>
                    <a:pt x="659" y="364"/>
                  </a:lnTo>
                  <a:lnTo>
                    <a:pt x="666" y="366"/>
                  </a:lnTo>
                  <a:lnTo>
                    <a:pt x="674" y="366"/>
                  </a:lnTo>
                  <a:lnTo>
                    <a:pt x="683" y="366"/>
                  </a:lnTo>
                  <a:lnTo>
                    <a:pt x="691" y="364"/>
                  </a:lnTo>
                  <a:lnTo>
                    <a:pt x="698" y="363"/>
                  </a:lnTo>
                  <a:lnTo>
                    <a:pt x="707" y="361"/>
                  </a:lnTo>
                  <a:lnTo>
                    <a:pt x="713" y="357"/>
                  </a:lnTo>
                  <a:lnTo>
                    <a:pt x="719" y="352"/>
                  </a:lnTo>
                  <a:lnTo>
                    <a:pt x="725" y="345"/>
                  </a:lnTo>
                  <a:lnTo>
                    <a:pt x="731" y="337"/>
                  </a:lnTo>
                  <a:lnTo>
                    <a:pt x="734" y="328"/>
                  </a:lnTo>
                  <a:lnTo>
                    <a:pt x="737" y="319"/>
                  </a:lnTo>
                  <a:lnTo>
                    <a:pt x="739" y="309"/>
                  </a:lnTo>
                  <a:lnTo>
                    <a:pt x="741" y="300"/>
                  </a:lnTo>
                  <a:lnTo>
                    <a:pt x="743" y="290"/>
                  </a:lnTo>
                  <a:lnTo>
                    <a:pt x="744" y="279"/>
                  </a:lnTo>
                  <a:lnTo>
                    <a:pt x="744" y="265"/>
                  </a:lnTo>
                  <a:lnTo>
                    <a:pt x="744" y="250"/>
                  </a:lnTo>
                  <a:lnTo>
                    <a:pt x="743" y="236"/>
                  </a:lnTo>
                  <a:lnTo>
                    <a:pt x="741" y="222"/>
                  </a:lnTo>
                  <a:lnTo>
                    <a:pt x="740" y="207"/>
                  </a:lnTo>
                  <a:lnTo>
                    <a:pt x="739" y="193"/>
                  </a:lnTo>
                  <a:lnTo>
                    <a:pt x="738" y="178"/>
                  </a:lnTo>
                  <a:lnTo>
                    <a:pt x="738" y="164"/>
                  </a:lnTo>
                  <a:lnTo>
                    <a:pt x="738" y="157"/>
                  </a:lnTo>
                  <a:lnTo>
                    <a:pt x="738" y="148"/>
                  </a:lnTo>
                  <a:lnTo>
                    <a:pt x="739" y="141"/>
                  </a:lnTo>
                  <a:lnTo>
                    <a:pt x="740" y="134"/>
                  </a:lnTo>
                  <a:lnTo>
                    <a:pt x="741" y="127"/>
                  </a:lnTo>
                  <a:lnTo>
                    <a:pt x="743" y="118"/>
                  </a:lnTo>
                  <a:lnTo>
                    <a:pt x="743" y="111"/>
                  </a:lnTo>
                  <a:lnTo>
                    <a:pt x="744" y="103"/>
                  </a:lnTo>
                  <a:lnTo>
                    <a:pt x="744" y="96"/>
                  </a:lnTo>
                  <a:lnTo>
                    <a:pt x="743" y="86"/>
                  </a:lnTo>
                  <a:lnTo>
                    <a:pt x="743" y="78"/>
                  </a:lnTo>
                  <a:lnTo>
                    <a:pt x="741" y="69"/>
                  </a:lnTo>
                  <a:lnTo>
                    <a:pt x="741" y="61"/>
                  </a:lnTo>
                  <a:lnTo>
                    <a:pt x="741" y="52"/>
                  </a:lnTo>
                  <a:lnTo>
                    <a:pt x="741" y="45"/>
                  </a:lnTo>
                  <a:lnTo>
                    <a:pt x="744" y="37"/>
                  </a:lnTo>
                  <a:lnTo>
                    <a:pt x="745" y="31"/>
                  </a:lnTo>
                  <a:lnTo>
                    <a:pt x="746" y="25"/>
                  </a:lnTo>
                  <a:lnTo>
                    <a:pt x="749" y="19"/>
                  </a:lnTo>
                  <a:lnTo>
                    <a:pt x="751" y="13"/>
                  </a:lnTo>
                  <a:lnTo>
                    <a:pt x="755" y="8"/>
                  </a:lnTo>
                  <a:lnTo>
                    <a:pt x="758" y="3"/>
                  </a:lnTo>
                  <a:lnTo>
                    <a:pt x="763" y="1"/>
                  </a:lnTo>
                  <a:lnTo>
                    <a:pt x="768" y="0"/>
                  </a:lnTo>
                  <a:lnTo>
                    <a:pt x="779" y="2"/>
                  </a:lnTo>
                  <a:lnTo>
                    <a:pt x="788" y="4"/>
                  </a:lnTo>
                  <a:lnTo>
                    <a:pt x="798" y="9"/>
                  </a:lnTo>
                  <a:lnTo>
                    <a:pt x="807" y="14"/>
                  </a:lnTo>
                  <a:lnTo>
                    <a:pt x="817" y="20"/>
                  </a:lnTo>
                  <a:lnTo>
                    <a:pt x="825" y="27"/>
                  </a:lnTo>
                  <a:lnTo>
                    <a:pt x="834" y="34"/>
                  </a:lnTo>
                  <a:lnTo>
                    <a:pt x="841" y="43"/>
                  </a:lnTo>
                  <a:lnTo>
                    <a:pt x="848" y="52"/>
                  </a:lnTo>
                  <a:lnTo>
                    <a:pt x="855" y="63"/>
                  </a:lnTo>
                  <a:lnTo>
                    <a:pt x="860" y="74"/>
                  </a:lnTo>
                  <a:lnTo>
                    <a:pt x="865" y="86"/>
                  </a:lnTo>
                  <a:lnTo>
                    <a:pt x="870" y="98"/>
                  </a:lnTo>
                  <a:lnTo>
                    <a:pt x="875" y="110"/>
                  </a:lnTo>
                  <a:lnTo>
                    <a:pt x="878" y="122"/>
                  </a:lnTo>
                  <a:lnTo>
                    <a:pt x="883" y="134"/>
                  </a:lnTo>
                  <a:lnTo>
                    <a:pt x="890" y="151"/>
                  </a:lnTo>
                  <a:lnTo>
                    <a:pt x="897" y="168"/>
                  </a:lnTo>
                  <a:lnTo>
                    <a:pt x="905" y="184"/>
                  </a:lnTo>
                  <a:lnTo>
                    <a:pt x="911" y="201"/>
                  </a:lnTo>
                  <a:lnTo>
                    <a:pt x="918" y="218"/>
                  </a:lnTo>
                  <a:lnTo>
                    <a:pt x="924" y="235"/>
                  </a:lnTo>
                  <a:lnTo>
                    <a:pt x="931" y="250"/>
                  </a:lnTo>
                  <a:lnTo>
                    <a:pt x="938" y="267"/>
                  </a:lnTo>
                  <a:lnTo>
                    <a:pt x="942" y="278"/>
                  </a:lnTo>
                  <a:lnTo>
                    <a:pt x="947" y="288"/>
                  </a:lnTo>
                  <a:lnTo>
                    <a:pt x="950" y="298"/>
                  </a:lnTo>
                  <a:lnTo>
                    <a:pt x="955" y="308"/>
                  </a:lnTo>
                  <a:lnTo>
                    <a:pt x="959" y="318"/>
                  </a:lnTo>
                  <a:lnTo>
                    <a:pt x="963" y="328"/>
                  </a:lnTo>
                  <a:lnTo>
                    <a:pt x="969" y="338"/>
                  </a:lnTo>
                  <a:lnTo>
                    <a:pt x="974" y="346"/>
                  </a:lnTo>
                  <a:lnTo>
                    <a:pt x="981" y="357"/>
                  </a:lnTo>
                  <a:lnTo>
                    <a:pt x="990" y="367"/>
                  </a:lnTo>
                  <a:lnTo>
                    <a:pt x="997" y="375"/>
                  </a:lnTo>
                  <a:lnTo>
                    <a:pt x="1007" y="385"/>
                  </a:lnTo>
                  <a:lnTo>
                    <a:pt x="1015" y="394"/>
                  </a:lnTo>
                  <a:lnTo>
                    <a:pt x="1023" y="403"/>
                  </a:lnTo>
                  <a:lnTo>
                    <a:pt x="1033" y="411"/>
                  </a:lnTo>
                  <a:lnTo>
                    <a:pt x="1041" y="419"/>
                  </a:lnTo>
                  <a:lnTo>
                    <a:pt x="1053" y="430"/>
                  </a:lnTo>
                  <a:lnTo>
                    <a:pt x="1064" y="441"/>
                  </a:lnTo>
                  <a:lnTo>
                    <a:pt x="1076" y="452"/>
                  </a:lnTo>
                  <a:lnTo>
                    <a:pt x="1088" y="463"/>
                  </a:lnTo>
                  <a:lnTo>
                    <a:pt x="1100" y="472"/>
                  </a:lnTo>
                  <a:lnTo>
                    <a:pt x="1112" y="482"/>
                  </a:lnTo>
                  <a:lnTo>
                    <a:pt x="1125" y="491"/>
                  </a:lnTo>
                  <a:lnTo>
                    <a:pt x="1139" y="499"/>
                  </a:lnTo>
                  <a:lnTo>
                    <a:pt x="1151" y="503"/>
                  </a:lnTo>
                  <a:lnTo>
                    <a:pt x="1163" y="507"/>
                  </a:lnTo>
                  <a:lnTo>
                    <a:pt x="1175" y="511"/>
                  </a:lnTo>
                  <a:lnTo>
                    <a:pt x="1187" y="513"/>
                  </a:lnTo>
                  <a:lnTo>
                    <a:pt x="1199" y="514"/>
                  </a:lnTo>
                  <a:lnTo>
                    <a:pt x="1212" y="515"/>
                  </a:lnTo>
                  <a:lnTo>
                    <a:pt x="1224" y="515"/>
                  </a:lnTo>
                  <a:lnTo>
                    <a:pt x="1236" y="517"/>
                  </a:lnTo>
                  <a:lnTo>
                    <a:pt x="1251" y="518"/>
                  </a:lnTo>
                  <a:lnTo>
                    <a:pt x="1267" y="518"/>
                  </a:lnTo>
                  <a:lnTo>
                    <a:pt x="1283" y="518"/>
                  </a:lnTo>
                  <a:lnTo>
                    <a:pt x="1297" y="518"/>
                  </a:lnTo>
                  <a:lnTo>
                    <a:pt x="1313" y="517"/>
                  </a:lnTo>
                  <a:lnTo>
                    <a:pt x="1328" y="515"/>
                  </a:lnTo>
                  <a:lnTo>
                    <a:pt x="1343" y="513"/>
                  </a:lnTo>
                  <a:lnTo>
                    <a:pt x="1358" y="511"/>
                  </a:lnTo>
                  <a:lnTo>
                    <a:pt x="1369" y="508"/>
                  </a:lnTo>
                  <a:lnTo>
                    <a:pt x="1379" y="506"/>
                  </a:lnTo>
                  <a:lnTo>
                    <a:pt x="1389" y="503"/>
                  </a:lnTo>
                  <a:lnTo>
                    <a:pt x="1400" y="500"/>
                  </a:lnTo>
                  <a:lnTo>
                    <a:pt x="1410" y="496"/>
                  </a:lnTo>
                  <a:lnTo>
                    <a:pt x="1419" y="491"/>
                  </a:lnTo>
                  <a:lnTo>
                    <a:pt x="1429" y="487"/>
                  </a:lnTo>
                  <a:lnTo>
                    <a:pt x="1437" y="481"/>
                  </a:lnTo>
                  <a:lnTo>
                    <a:pt x="1446" y="473"/>
                  </a:lnTo>
                  <a:lnTo>
                    <a:pt x="1455" y="466"/>
                  </a:lnTo>
                  <a:lnTo>
                    <a:pt x="1464" y="459"/>
                  </a:lnTo>
                  <a:lnTo>
                    <a:pt x="1472" y="451"/>
                  </a:lnTo>
                  <a:lnTo>
                    <a:pt x="1479" y="442"/>
                  </a:lnTo>
                  <a:lnTo>
                    <a:pt x="1484" y="433"/>
                  </a:lnTo>
                  <a:lnTo>
                    <a:pt x="1487" y="428"/>
                  </a:lnTo>
                  <a:lnTo>
                    <a:pt x="1487" y="423"/>
                  </a:lnTo>
                  <a:lnTo>
                    <a:pt x="1487" y="418"/>
                  </a:lnTo>
                  <a:lnTo>
                    <a:pt x="1485" y="413"/>
                  </a:lnTo>
                  <a:lnTo>
                    <a:pt x="1484" y="409"/>
                  </a:lnTo>
                  <a:lnTo>
                    <a:pt x="1482" y="404"/>
                  </a:lnTo>
                  <a:lnTo>
                    <a:pt x="1478" y="400"/>
                  </a:lnTo>
                  <a:lnTo>
                    <a:pt x="1475" y="397"/>
                  </a:lnTo>
                  <a:lnTo>
                    <a:pt x="1465" y="391"/>
                  </a:lnTo>
                  <a:lnTo>
                    <a:pt x="1454" y="386"/>
                  </a:lnTo>
                  <a:lnTo>
                    <a:pt x="1442" y="382"/>
                  </a:lnTo>
                  <a:lnTo>
                    <a:pt x="1430" y="379"/>
                  </a:lnTo>
                  <a:lnTo>
                    <a:pt x="1418" y="375"/>
                  </a:lnTo>
                  <a:lnTo>
                    <a:pt x="1406" y="370"/>
                  </a:lnTo>
                  <a:lnTo>
                    <a:pt x="1394" y="366"/>
                  </a:lnTo>
                  <a:lnTo>
                    <a:pt x="1381" y="362"/>
                  </a:lnTo>
                  <a:lnTo>
                    <a:pt x="1368" y="357"/>
                  </a:lnTo>
                  <a:lnTo>
                    <a:pt x="1355" y="354"/>
                  </a:lnTo>
                  <a:lnTo>
                    <a:pt x="1341" y="350"/>
                  </a:lnTo>
                  <a:lnTo>
                    <a:pt x="1328" y="345"/>
                  </a:lnTo>
                  <a:lnTo>
                    <a:pt x="1316" y="340"/>
                  </a:lnTo>
                  <a:lnTo>
                    <a:pt x="1303" y="334"/>
                  </a:lnTo>
                  <a:lnTo>
                    <a:pt x="1296" y="330"/>
                  </a:lnTo>
                  <a:lnTo>
                    <a:pt x="1287" y="325"/>
                  </a:lnTo>
                  <a:lnTo>
                    <a:pt x="1280" y="319"/>
                  </a:lnTo>
                  <a:lnTo>
                    <a:pt x="1273" y="313"/>
                  </a:lnTo>
                  <a:lnTo>
                    <a:pt x="1267" y="307"/>
                  </a:lnTo>
                  <a:lnTo>
                    <a:pt x="1260" y="300"/>
                  </a:lnTo>
                  <a:lnTo>
                    <a:pt x="1254" y="294"/>
                  </a:lnTo>
                  <a:lnTo>
                    <a:pt x="1249" y="286"/>
                  </a:lnTo>
                  <a:lnTo>
                    <a:pt x="1243" y="278"/>
                  </a:lnTo>
                  <a:lnTo>
                    <a:pt x="1238" y="271"/>
                  </a:lnTo>
                  <a:lnTo>
                    <a:pt x="1233" y="262"/>
                  </a:lnTo>
                  <a:lnTo>
                    <a:pt x="1230" y="254"/>
                  </a:lnTo>
                  <a:lnTo>
                    <a:pt x="1226" y="246"/>
                  </a:lnTo>
                  <a:lnTo>
                    <a:pt x="1223" y="237"/>
                  </a:lnTo>
                  <a:lnTo>
                    <a:pt x="1220" y="228"/>
                  </a:lnTo>
                  <a:lnTo>
                    <a:pt x="1218" y="219"/>
                  </a:lnTo>
                  <a:lnTo>
                    <a:pt x="1217" y="213"/>
                  </a:lnTo>
                  <a:lnTo>
                    <a:pt x="1215" y="206"/>
                  </a:lnTo>
                  <a:lnTo>
                    <a:pt x="1215" y="200"/>
                  </a:lnTo>
                  <a:lnTo>
                    <a:pt x="1215" y="193"/>
                  </a:lnTo>
                  <a:lnTo>
                    <a:pt x="1217" y="187"/>
                  </a:lnTo>
                  <a:lnTo>
                    <a:pt x="1218" y="181"/>
                  </a:lnTo>
                  <a:lnTo>
                    <a:pt x="1220" y="175"/>
                  </a:lnTo>
                  <a:lnTo>
                    <a:pt x="1224" y="170"/>
                  </a:lnTo>
                  <a:lnTo>
                    <a:pt x="1230" y="165"/>
                  </a:lnTo>
                  <a:lnTo>
                    <a:pt x="1237" y="163"/>
                  </a:lnTo>
                  <a:lnTo>
                    <a:pt x="1244" y="160"/>
                  </a:lnTo>
                  <a:lnTo>
                    <a:pt x="1253" y="158"/>
                  </a:lnTo>
                  <a:lnTo>
                    <a:pt x="1261" y="158"/>
                  </a:lnTo>
                  <a:lnTo>
                    <a:pt x="1269" y="157"/>
                  </a:lnTo>
                  <a:lnTo>
                    <a:pt x="1277" y="158"/>
                  </a:lnTo>
                  <a:lnTo>
                    <a:pt x="1285" y="158"/>
                  </a:lnTo>
                  <a:lnTo>
                    <a:pt x="1296" y="159"/>
                  </a:lnTo>
                  <a:lnTo>
                    <a:pt x="1305" y="162"/>
                  </a:lnTo>
                  <a:lnTo>
                    <a:pt x="1315" y="165"/>
                  </a:lnTo>
                  <a:lnTo>
                    <a:pt x="1325" y="169"/>
                  </a:lnTo>
                  <a:lnTo>
                    <a:pt x="1334" y="172"/>
                  </a:lnTo>
                  <a:lnTo>
                    <a:pt x="1344" y="177"/>
                  </a:lnTo>
                  <a:lnTo>
                    <a:pt x="1355" y="180"/>
                  </a:lnTo>
                  <a:lnTo>
                    <a:pt x="1364" y="182"/>
                  </a:lnTo>
                  <a:lnTo>
                    <a:pt x="1376" y="184"/>
                  </a:lnTo>
                  <a:lnTo>
                    <a:pt x="1388" y="187"/>
                  </a:lnTo>
                  <a:lnTo>
                    <a:pt x="1400" y="189"/>
                  </a:lnTo>
                  <a:lnTo>
                    <a:pt x="1412" y="190"/>
                  </a:lnTo>
                  <a:lnTo>
                    <a:pt x="1425" y="192"/>
                  </a:lnTo>
                  <a:lnTo>
                    <a:pt x="1437" y="193"/>
                  </a:lnTo>
                  <a:lnTo>
                    <a:pt x="1449" y="194"/>
                  </a:lnTo>
                  <a:lnTo>
                    <a:pt x="1461" y="194"/>
                  </a:lnTo>
                  <a:lnTo>
                    <a:pt x="1476" y="195"/>
                  </a:lnTo>
                  <a:lnTo>
                    <a:pt x="1489" y="195"/>
                  </a:lnTo>
                  <a:lnTo>
                    <a:pt x="1502" y="196"/>
                  </a:lnTo>
                  <a:lnTo>
                    <a:pt x="1517" y="196"/>
                  </a:lnTo>
                  <a:lnTo>
                    <a:pt x="1530" y="195"/>
                  </a:lnTo>
                  <a:lnTo>
                    <a:pt x="1544" y="195"/>
                  </a:lnTo>
                  <a:lnTo>
                    <a:pt x="1557" y="195"/>
                  </a:lnTo>
                  <a:lnTo>
                    <a:pt x="1571" y="194"/>
                  </a:lnTo>
                  <a:lnTo>
                    <a:pt x="1580" y="194"/>
                  </a:lnTo>
                  <a:lnTo>
                    <a:pt x="1590" y="193"/>
                  </a:lnTo>
                  <a:lnTo>
                    <a:pt x="1598" y="192"/>
                  </a:lnTo>
                  <a:lnTo>
                    <a:pt x="1608" y="189"/>
                  </a:lnTo>
                  <a:lnTo>
                    <a:pt x="1617" y="188"/>
                  </a:lnTo>
                  <a:lnTo>
                    <a:pt x="1626" y="188"/>
                  </a:lnTo>
                  <a:lnTo>
                    <a:pt x="1635" y="188"/>
                  </a:lnTo>
                  <a:lnTo>
                    <a:pt x="1644" y="188"/>
                  </a:lnTo>
                  <a:lnTo>
                    <a:pt x="1652" y="190"/>
                  </a:lnTo>
                  <a:lnTo>
                    <a:pt x="1659" y="193"/>
                  </a:lnTo>
                  <a:lnTo>
                    <a:pt x="1667" y="195"/>
                  </a:lnTo>
                  <a:lnTo>
                    <a:pt x="1674" y="199"/>
                  </a:lnTo>
                  <a:lnTo>
                    <a:pt x="1681" y="204"/>
                  </a:lnTo>
                  <a:lnTo>
                    <a:pt x="1688" y="208"/>
                  </a:lnTo>
                  <a:lnTo>
                    <a:pt x="1694" y="213"/>
                  </a:lnTo>
                  <a:lnTo>
                    <a:pt x="1699" y="219"/>
                  </a:lnTo>
                  <a:lnTo>
                    <a:pt x="1704" y="225"/>
                  </a:lnTo>
                  <a:lnTo>
                    <a:pt x="1706" y="232"/>
                  </a:lnTo>
                  <a:lnTo>
                    <a:pt x="1709" y="240"/>
                  </a:lnTo>
                  <a:lnTo>
                    <a:pt x="1711" y="248"/>
                  </a:lnTo>
                  <a:lnTo>
                    <a:pt x="1712" y="256"/>
                  </a:lnTo>
                  <a:lnTo>
                    <a:pt x="1715" y="264"/>
                  </a:lnTo>
                  <a:lnTo>
                    <a:pt x="1716" y="272"/>
                  </a:lnTo>
                  <a:lnTo>
                    <a:pt x="1717" y="279"/>
                  </a:lnTo>
                  <a:lnTo>
                    <a:pt x="1722" y="300"/>
                  </a:lnTo>
                  <a:lnTo>
                    <a:pt x="1728" y="320"/>
                  </a:lnTo>
                  <a:lnTo>
                    <a:pt x="1733" y="342"/>
                  </a:lnTo>
                  <a:lnTo>
                    <a:pt x="1737" y="362"/>
                  </a:lnTo>
                  <a:lnTo>
                    <a:pt x="1742" y="382"/>
                  </a:lnTo>
                  <a:lnTo>
                    <a:pt x="1746" y="403"/>
                  </a:lnTo>
                  <a:lnTo>
                    <a:pt x="1751" y="423"/>
                  </a:lnTo>
                  <a:lnTo>
                    <a:pt x="1754" y="443"/>
                  </a:lnTo>
                  <a:lnTo>
                    <a:pt x="1755" y="463"/>
                  </a:lnTo>
                  <a:lnTo>
                    <a:pt x="1758" y="482"/>
                  </a:lnTo>
                  <a:lnTo>
                    <a:pt x="1758" y="501"/>
                  </a:lnTo>
                  <a:lnTo>
                    <a:pt x="1759" y="520"/>
                  </a:lnTo>
                  <a:lnTo>
                    <a:pt x="1759" y="539"/>
                  </a:lnTo>
                  <a:lnTo>
                    <a:pt x="1760" y="559"/>
                  </a:lnTo>
                  <a:lnTo>
                    <a:pt x="1763" y="577"/>
                  </a:lnTo>
                  <a:lnTo>
                    <a:pt x="1766" y="596"/>
                  </a:lnTo>
                  <a:lnTo>
                    <a:pt x="1769" y="608"/>
                  </a:lnTo>
                  <a:lnTo>
                    <a:pt x="1772" y="621"/>
                  </a:lnTo>
                  <a:lnTo>
                    <a:pt x="1776" y="633"/>
                  </a:lnTo>
                  <a:lnTo>
                    <a:pt x="1781" y="645"/>
                  </a:lnTo>
                  <a:lnTo>
                    <a:pt x="1787" y="657"/>
                  </a:lnTo>
                  <a:lnTo>
                    <a:pt x="1793" y="668"/>
                  </a:lnTo>
                  <a:lnTo>
                    <a:pt x="1800" y="677"/>
                  </a:lnTo>
                  <a:lnTo>
                    <a:pt x="1808" y="687"/>
                  </a:lnTo>
                  <a:lnTo>
                    <a:pt x="1814" y="692"/>
                  </a:lnTo>
                  <a:lnTo>
                    <a:pt x="1821" y="695"/>
                  </a:lnTo>
                  <a:lnTo>
                    <a:pt x="1830" y="698"/>
                  </a:lnTo>
                  <a:lnTo>
                    <a:pt x="1838" y="699"/>
                  </a:lnTo>
                  <a:lnTo>
                    <a:pt x="1847" y="700"/>
                  </a:lnTo>
                  <a:lnTo>
                    <a:pt x="1855" y="699"/>
                  </a:lnTo>
                  <a:lnTo>
                    <a:pt x="1862" y="697"/>
                  </a:lnTo>
                  <a:lnTo>
                    <a:pt x="1869" y="693"/>
                  </a:lnTo>
                  <a:lnTo>
                    <a:pt x="1884" y="682"/>
                  </a:lnTo>
                  <a:lnTo>
                    <a:pt x="1896" y="670"/>
                  </a:lnTo>
                  <a:lnTo>
                    <a:pt x="1908" y="657"/>
                  </a:lnTo>
                  <a:lnTo>
                    <a:pt x="1919" y="643"/>
                  </a:lnTo>
                  <a:lnTo>
                    <a:pt x="1929" y="628"/>
                  </a:lnTo>
                  <a:lnTo>
                    <a:pt x="1940" y="613"/>
                  </a:lnTo>
                  <a:lnTo>
                    <a:pt x="1950" y="598"/>
                  </a:lnTo>
                  <a:lnTo>
                    <a:pt x="1961" y="584"/>
                  </a:lnTo>
                  <a:lnTo>
                    <a:pt x="1974" y="566"/>
                  </a:lnTo>
                  <a:lnTo>
                    <a:pt x="1987" y="548"/>
                  </a:lnTo>
                  <a:lnTo>
                    <a:pt x="1999" y="529"/>
                  </a:lnTo>
                  <a:lnTo>
                    <a:pt x="2012" y="511"/>
                  </a:lnTo>
                  <a:lnTo>
                    <a:pt x="2025" y="493"/>
                  </a:lnTo>
                  <a:lnTo>
                    <a:pt x="2037" y="473"/>
                  </a:lnTo>
                  <a:lnTo>
                    <a:pt x="2051" y="455"/>
                  </a:lnTo>
                  <a:lnTo>
                    <a:pt x="2064" y="437"/>
                  </a:lnTo>
                  <a:lnTo>
                    <a:pt x="2073" y="425"/>
                  </a:lnTo>
                  <a:lnTo>
                    <a:pt x="2084" y="412"/>
                  </a:lnTo>
                  <a:lnTo>
                    <a:pt x="2094" y="399"/>
                  </a:lnTo>
                  <a:lnTo>
                    <a:pt x="2105" y="387"/>
                  </a:lnTo>
                  <a:lnTo>
                    <a:pt x="2115" y="375"/>
                  </a:lnTo>
                  <a:lnTo>
                    <a:pt x="2126" y="363"/>
                  </a:lnTo>
                  <a:lnTo>
                    <a:pt x="2137" y="351"/>
                  </a:lnTo>
                  <a:lnTo>
                    <a:pt x="2149" y="340"/>
                  </a:lnTo>
                  <a:lnTo>
                    <a:pt x="2156" y="334"/>
                  </a:lnTo>
                  <a:lnTo>
                    <a:pt x="2163" y="328"/>
                  </a:lnTo>
                  <a:lnTo>
                    <a:pt x="2172" y="322"/>
                  </a:lnTo>
                  <a:lnTo>
                    <a:pt x="2180" y="316"/>
                  </a:lnTo>
                  <a:lnTo>
                    <a:pt x="2189" y="312"/>
                  </a:lnTo>
                  <a:lnTo>
                    <a:pt x="2195" y="310"/>
                  </a:lnTo>
                  <a:lnTo>
                    <a:pt x="2198" y="310"/>
                  </a:lnTo>
                  <a:lnTo>
                    <a:pt x="2201" y="312"/>
                  </a:lnTo>
                  <a:lnTo>
                    <a:pt x="2203" y="313"/>
                  </a:lnTo>
                  <a:lnTo>
                    <a:pt x="2204" y="316"/>
                  </a:lnTo>
                  <a:lnTo>
                    <a:pt x="2209" y="338"/>
                  </a:lnTo>
                  <a:lnTo>
                    <a:pt x="2213" y="360"/>
                  </a:lnTo>
                  <a:lnTo>
                    <a:pt x="2214" y="381"/>
                  </a:lnTo>
                  <a:lnTo>
                    <a:pt x="2214" y="404"/>
                  </a:lnTo>
                  <a:lnTo>
                    <a:pt x="2211" y="427"/>
                  </a:lnTo>
                  <a:lnTo>
                    <a:pt x="2208" y="448"/>
                  </a:lnTo>
                  <a:lnTo>
                    <a:pt x="2203" y="471"/>
                  </a:lnTo>
                  <a:lnTo>
                    <a:pt x="2198" y="493"/>
                  </a:lnTo>
                  <a:lnTo>
                    <a:pt x="2186" y="530"/>
                  </a:lnTo>
                  <a:lnTo>
                    <a:pt x="2174" y="567"/>
                  </a:lnTo>
                  <a:lnTo>
                    <a:pt x="2160" y="604"/>
                  </a:lnTo>
                  <a:lnTo>
                    <a:pt x="2144" y="640"/>
                  </a:lnTo>
                  <a:lnTo>
                    <a:pt x="2127" y="677"/>
                  </a:lnTo>
                  <a:lnTo>
                    <a:pt x="2111" y="713"/>
                  </a:lnTo>
                  <a:lnTo>
                    <a:pt x="2094" y="748"/>
                  </a:lnTo>
                  <a:lnTo>
                    <a:pt x="2076" y="784"/>
                  </a:lnTo>
                  <a:lnTo>
                    <a:pt x="2066" y="805"/>
                  </a:lnTo>
                  <a:lnTo>
                    <a:pt x="2057" y="824"/>
                  </a:lnTo>
                  <a:lnTo>
                    <a:pt x="2046" y="844"/>
                  </a:lnTo>
                  <a:lnTo>
                    <a:pt x="2035" y="863"/>
                  </a:lnTo>
                  <a:lnTo>
                    <a:pt x="2023" y="883"/>
                  </a:lnTo>
                  <a:lnTo>
                    <a:pt x="2011" y="901"/>
                  </a:lnTo>
                  <a:lnTo>
                    <a:pt x="1999" y="919"/>
                  </a:lnTo>
                  <a:lnTo>
                    <a:pt x="1985" y="937"/>
                  </a:lnTo>
                  <a:lnTo>
                    <a:pt x="1975" y="947"/>
                  </a:lnTo>
                  <a:lnTo>
                    <a:pt x="1964" y="957"/>
                  </a:lnTo>
                  <a:lnTo>
                    <a:pt x="1953" y="965"/>
                  </a:lnTo>
                  <a:lnTo>
                    <a:pt x="1941" y="974"/>
                  </a:lnTo>
                  <a:lnTo>
                    <a:pt x="1928" y="982"/>
                  </a:lnTo>
                  <a:lnTo>
                    <a:pt x="1916" y="991"/>
                  </a:lnTo>
                  <a:lnTo>
                    <a:pt x="1905" y="1000"/>
                  </a:lnTo>
                  <a:lnTo>
                    <a:pt x="1893" y="1010"/>
                  </a:lnTo>
                  <a:lnTo>
                    <a:pt x="1889" y="1013"/>
                  </a:lnTo>
                  <a:lnTo>
                    <a:pt x="1883" y="1018"/>
                  </a:lnTo>
                  <a:lnTo>
                    <a:pt x="1877" y="1023"/>
                  </a:lnTo>
                  <a:lnTo>
                    <a:pt x="1872" y="1029"/>
                  </a:lnTo>
                  <a:lnTo>
                    <a:pt x="1867" y="1034"/>
                  </a:lnTo>
                  <a:lnTo>
                    <a:pt x="1862" y="1040"/>
                  </a:lnTo>
                  <a:lnTo>
                    <a:pt x="1860" y="1046"/>
                  </a:lnTo>
                  <a:lnTo>
                    <a:pt x="1857" y="1052"/>
                  </a:lnTo>
                  <a:lnTo>
                    <a:pt x="1855" y="1060"/>
                  </a:lnTo>
                  <a:lnTo>
                    <a:pt x="1855" y="1069"/>
                  </a:lnTo>
                  <a:lnTo>
                    <a:pt x="1854" y="1077"/>
                  </a:lnTo>
                  <a:lnTo>
                    <a:pt x="1855" y="1085"/>
                  </a:lnTo>
                  <a:lnTo>
                    <a:pt x="1856" y="1094"/>
                  </a:lnTo>
                  <a:lnTo>
                    <a:pt x="1860" y="1101"/>
                  </a:lnTo>
                  <a:lnTo>
                    <a:pt x="1863" y="1108"/>
                  </a:lnTo>
                  <a:lnTo>
                    <a:pt x="1869" y="1113"/>
                  </a:lnTo>
                  <a:lnTo>
                    <a:pt x="1881" y="1119"/>
                  </a:lnTo>
                  <a:lnTo>
                    <a:pt x="1895" y="1125"/>
                  </a:lnTo>
                  <a:lnTo>
                    <a:pt x="1908" y="1129"/>
                  </a:lnTo>
                  <a:lnTo>
                    <a:pt x="1922" y="1131"/>
                  </a:lnTo>
                  <a:lnTo>
                    <a:pt x="1937" y="1133"/>
                  </a:lnTo>
                  <a:lnTo>
                    <a:pt x="1951" y="1133"/>
                  </a:lnTo>
                  <a:lnTo>
                    <a:pt x="1965" y="1132"/>
                  </a:lnTo>
                  <a:lnTo>
                    <a:pt x="1979" y="1131"/>
                  </a:lnTo>
                  <a:lnTo>
                    <a:pt x="1994" y="1127"/>
                  </a:lnTo>
                  <a:lnTo>
                    <a:pt x="2009" y="1124"/>
                  </a:lnTo>
                  <a:lnTo>
                    <a:pt x="2024" y="1119"/>
                  </a:lnTo>
                  <a:lnTo>
                    <a:pt x="2039" y="1112"/>
                  </a:lnTo>
                  <a:lnTo>
                    <a:pt x="2052" y="1105"/>
                  </a:lnTo>
                  <a:lnTo>
                    <a:pt x="2065" y="1096"/>
                  </a:lnTo>
                  <a:lnTo>
                    <a:pt x="2077" y="1087"/>
                  </a:lnTo>
                  <a:lnTo>
                    <a:pt x="2089" y="1076"/>
                  </a:lnTo>
                  <a:lnTo>
                    <a:pt x="2097" y="1065"/>
                  </a:lnTo>
                  <a:lnTo>
                    <a:pt x="2107" y="1054"/>
                  </a:lnTo>
                  <a:lnTo>
                    <a:pt x="2115" y="1042"/>
                  </a:lnTo>
                  <a:lnTo>
                    <a:pt x="2123" y="1030"/>
                  </a:lnTo>
                  <a:lnTo>
                    <a:pt x="2137" y="1006"/>
                  </a:lnTo>
                  <a:lnTo>
                    <a:pt x="2151" y="981"/>
                  </a:lnTo>
                  <a:lnTo>
                    <a:pt x="2165" y="955"/>
                  </a:lnTo>
                  <a:lnTo>
                    <a:pt x="2179" y="929"/>
                  </a:lnTo>
                  <a:lnTo>
                    <a:pt x="2193" y="905"/>
                  </a:lnTo>
                  <a:lnTo>
                    <a:pt x="2210" y="881"/>
                  </a:lnTo>
                  <a:lnTo>
                    <a:pt x="2222" y="866"/>
                  </a:lnTo>
                  <a:lnTo>
                    <a:pt x="2235" y="851"/>
                  </a:lnTo>
                  <a:lnTo>
                    <a:pt x="2250" y="837"/>
                  </a:lnTo>
                  <a:lnTo>
                    <a:pt x="2264" y="823"/>
                  </a:lnTo>
                  <a:lnTo>
                    <a:pt x="2279" y="809"/>
                  </a:lnTo>
                  <a:lnTo>
                    <a:pt x="2294" y="796"/>
                  </a:lnTo>
                  <a:lnTo>
                    <a:pt x="2310" y="784"/>
                  </a:lnTo>
                  <a:lnTo>
                    <a:pt x="2325" y="772"/>
                  </a:lnTo>
                  <a:lnTo>
                    <a:pt x="2336" y="765"/>
                  </a:lnTo>
                  <a:lnTo>
                    <a:pt x="2347" y="758"/>
                  </a:lnTo>
                  <a:lnTo>
                    <a:pt x="2358" y="752"/>
                  </a:lnTo>
                  <a:lnTo>
                    <a:pt x="2370" y="746"/>
                  </a:lnTo>
                  <a:lnTo>
                    <a:pt x="2381" y="741"/>
                  </a:lnTo>
                  <a:lnTo>
                    <a:pt x="2393" y="737"/>
                  </a:lnTo>
                  <a:lnTo>
                    <a:pt x="2405" y="735"/>
                  </a:lnTo>
                  <a:lnTo>
                    <a:pt x="2417" y="736"/>
                  </a:lnTo>
                  <a:lnTo>
                    <a:pt x="2429" y="737"/>
                  </a:lnTo>
                  <a:lnTo>
                    <a:pt x="2439" y="742"/>
                  </a:lnTo>
                  <a:lnTo>
                    <a:pt x="2450" y="748"/>
                  </a:lnTo>
                  <a:lnTo>
                    <a:pt x="2460" y="755"/>
                  </a:lnTo>
                  <a:lnTo>
                    <a:pt x="2469" y="764"/>
                  </a:lnTo>
                  <a:lnTo>
                    <a:pt x="2479" y="772"/>
                  </a:lnTo>
                  <a:lnTo>
                    <a:pt x="2487" y="782"/>
                  </a:lnTo>
                  <a:lnTo>
                    <a:pt x="2496" y="790"/>
                  </a:lnTo>
                  <a:lnTo>
                    <a:pt x="2504" y="800"/>
                  </a:lnTo>
                  <a:lnTo>
                    <a:pt x="2513" y="809"/>
                  </a:lnTo>
                  <a:lnTo>
                    <a:pt x="2519" y="820"/>
                  </a:lnTo>
                  <a:lnTo>
                    <a:pt x="2526" y="831"/>
                  </a:lnTo>
                  <a:lnTo>
                    <a:pt x="2532" y="842"/>
                  </a:lnTo>
                  <a:lnTo>
                    <a:pt x="2538" y="854"/>
                  </a:lnTo>
                  <a:lnTo>
                    <a:pt x="2545" y="865"/>
                  </a:lnTo>
                  <a:lnTo>
                    <a:pt x="2551" y="875"/>
                  </a:lnTo>
                  <a:lnTo>
                    <a:pt x="2561" y="891"/>
                  </a:lnTo>
                  <a:lnTo>
                    <a:pt x="2570" y="907"/>
                  </a:lnTo>
                  <a:lnTo>
                    <a:pt x="2580" y="922"/>
                  </a:lnTo>
                  <a:lnTo>
                    <a:pt x="2591" y="938"/>
                  </a:lnTo>
                  <a:lnTo>
                    <a:pt x="2599" y="953"/>
                  </a:lnTo>
                  <a:lnTo>
                    <a:pt x="2609" y="970"/>
                  </a:lnTo>
                  <a:lnTo>
                    <a:pt x="2617" y="986"/>
                  </a:lnTo>
                  <a:lnTo>
                    <a:pt x="2624" y="1003"/>
                  </a:lnTo>
                  <a:lnTo>
                    <a:pt x="2628" y="1013"/>
                  </a:lnTo>
                  <a:lnTo>
                    <a:pt x="2631" y="1024"/>
                  </a:lnTo>
                  <a:lnTo>
                    <a:pt x="2634" y="1034"/>
                  </a:lnTo>
                  <a:lnTo>
                    <a:pt x="2636" y="1045"/>
                  </a:lnTo>
                  <a:lnTo>
                    <a:pt x="2637" y="1057"/>
                  </a:lnTo>
                  <a:lnTo>
                    <a:pt x="2639" y="1067"/>
                  </a:lnTo>
                  <a:lnTo>
                    <a:pt x="2637" y="1078"/>
                  </a:lnTo>
                  <a:lnTo>
                    <a:pt x="2636" y="1088"/>
                  </a:lnTo>
                  <a:lnTo>
                    <a:pt x="2634" y="1095"/>
                  </a:lnTo>
                  <a:lnTo>
                    <a:pt x="2631" y="1102"/>
                  </a:lnTo>
                  <a:lnTo>
                    <a:pt x="2628" y="1109"/>
                  </a:lnTo>
                  <a:lnTo>
                    <a:pt x="2624" y="1117"/>
                  </a:lnTo>
                  <a:lnTo>
                    <a:pt x="2618" y="1121"/>
                  </a:lnTo>
                  <a:lnTo>
                    <a:pt x="2612" y="1126"/>
                  </a:lnTo>
                  <a:lnTo>
                    <a:pt x="2606" y="1130"/>
                  </a:lnTo>
                  <a:lnTo>
                    <a:pt x="2600" y="1131"/>
                  </a:lnTo>
                  <a:lnTo>
                    <a:pt x="2588" y="1131"/>
                  </a:lnTo>
                  <a:lnTo>
                    <a:pt x="2579" y="1129"/>
                  </a:lnTo>
                  <a:lnTo>
                    <a:pt x="2568" y="1125"/>
                  </a:lnTo>
                  <a:lnTo>
                    <a:pt x="2557" y="1120"/>
                  </a:lnTo>
                  <a:lnTo>
                    <a:pt x="2547" y="1115"/>
                  </a:lnTo>
                  <a:lnTo>
                    <a:pt x="2538" y="1108"/>
                  </a:lnTo>
                  <a:lnTo>
                    <a:pt x="2529" y="1102"/>
                  </a:lnTo>
                  <a:lnTo>
                    <a:pt x="2521" y="1094"/>
                  </a:lnTo>
                  <a:lnTo>
                    <a:pt x="2509" y="1083"/>
                  </a:lnTo>
                  <a:lnTo>
                    <a:pt x="2499" y="1071"/>
                  </a:lnTo>
                  <a:lnTo>
                    <a:pt x="2490" y="1058"/>
                  </a:lnTo>
                  <a:lnTo>
                    <a:pt x="2481" y="1045"/>
                  </a:lnTo>
                  <a:lnTo>
                    <a:pt x="2473" y="1031"/>
                  </a:lnTo>
                  <a:lnTo>
                    <a:pt x="2465" y="1017"/>
                  </a:lnTo>
                  <a:lnTo>
                    <a:pt x="2456" y="1004"/>
                  </a:lnTo>
                  <a:lnTo>
                    <a:pt x="2448" y="991"/>
                  </a:lnTo>
                  <a:lnTo>
                    <a:pt x="2442" y="983"/>
                  </a:lnTo>
                  <a:lnTo>
                    <a:pt x="2436" y="975"/>
                  </a:lnTo>
                  <a:lnTo>
                    <a:pt x="2431" y="967"/>
                  </a:lnTo>
                  <a:lnTo>
                    <a:pt x="2425" y="958"/>
                  </a:lnTo>
                  <a:lnTo>
                    <a:pt x="2419" y="951"/>
                  </a:lnTo>
                  <a:lnTo>
                    <a:pt x="2413" y="944"/>
                  </a:lnTo>
                  <a:lnTo>
                    <a:pt x="2406" y="937"/>
                  </a:lnTo>
                  <a:lnTo>
                    <a:pt x="2399" y="931"/>
                  </a:lnTo>
                  <a:lnTo>
                    <a:pt x="2395" y="928"/>
                  </a:lnTo>
                  <a:lnTo>
                    <a:pt x="2391" y="927"/>
                  </a:lnTo>
                  <a:lnTo>
                    <a:pt x="2388" y="926"/>
                  </a:lnTo>
                  <a:lnTo>
                    <a:pt x="2383" y="925"/>
                  </a:lnTo>
                  <a:lnTo>
                    <a:pt x="2378" y="925"/>
                  </a:lnTo>
                  <a:lnTo>
                    <a:pt x="2375" y="926"/>
                  </a:lnTo>
                  <a:lnTo>
                    <a:pt x="2371" y="928"/>
                  </a:lnTo>
                  <a:lnTo>
                    <a:pt x="2369" y="931"/>
                  </a:lnTo>
                  <a:lnTo>
                    <a:pt x="2358" y="946"/>
                  </a:lnTo>
                  <a:lnTo>
                    <a:pt x="2347" y="963"/>
                  </a:lnTo>
                  <a:lnTo>
                    <a:pt x="2339" y="981"/>
                  </a:lnTo>
                  <a:lnTo>
                    <a:pt x="2330" y="999"/>
                  </a:lnTo>
                  <a:lnTo>
                    <a:pt x="2322" y="1017"/>
                  </a:lnTo>
                  <a:lnTo>
                    <a:pt x="2313" y="1035"/>
                  </a:lnTo>
                  <a:lnTo>
                    <a:pt x="2305" y="1053"/>
                  </a:lnTo>
                  <a:lnTo>
                    <a:pt x="2295" y="1070"/>
                  </a:lnTo>
                  <a:lnTo>
                    <a:pt x="2285" y="1088"/>
                  </a:lnTo>
                  <a:lnTo>
                    <a:pt x="2274" y="1105"/>
                  </a:lnTo>
                  <a:lnTo>
                    <a:pt x="2263" y="1121"/>
                  </a:lnTo>
                  <a:lnTo>
                    <a:pt x="2252" y="1139"/>
                  </a:lnTo>
                  <a:lnTo>
                    <a:pt x="2241" y="1156"/>
                  </a:lnTo>
                  <a:lnTo>
                    <a:pt x="2229" y="1172"/>
                  </a:lnTo>
                  <a:lnTo>
                    <a:pt x="2217" y="1188"/>
                  </a:lnTo>
                  <a:lnTo>
                    <a:pt x="2204" y="1204"/>
                  </a:lnTo>
                  <a:lnTo>
                    <a:pt x="2192" y="1218"/>
                  </a:lnTo>
                  <a:lnTo>
                    <a:pt x="2179" y="1232"/>
                  </a:lnTo>
                  <a:lnTo>
                    <a:pt x="2166" y="1245"/>
                  </a:lnTo>
                  <a:lnTo>
                    <a:pt x="2151" y="1258"/>
                  </a:lnTo>
                  <a:lnTo>
                    <a:pt x="2138" y="1271"/>
                  </a:lnTo>
                  <a:lnTo>
                    <a:pt x="2124" y="1283"/>
                  </a:lnTo>
                  <a:lnTo>
                    <a:pt x="2109" y="1295"/>
                  </a:lnTo>
                  <a:lnTo>
                    <a:pt x="2095" y="1307"/>
                  </a:lnTo>
                  <a:lnTo>
                    <a:pt x="2084" y="1316"/>
                  </a:lnTo>
                  <a:lnTo>
                    <a:pt x="2073" y="1323"/>
                  </a:lnTo>
                  <a:lnTo>
                    <a:pt x="2063" y="1330"/>
                  </a:lnTo>
                  <a:lnTo>
                    <a:pt x="2051" y="1337"/>
                  </a:lnTo>
                  <a:lnTo>
                    <a:pt x="2040" y="1344"/>
                  </a:lnTo>
                  <a:lnTo>
                    <a:pt x="2028" y="1350"/>
                  </a:lnTo>
                  <a:lnTo>
                    <a:pt x="2016" y="1356"/>
                  </a:lnTo>
                  <a:lnTo>
                    <a:pt x="2004" y="1361"/>
                  </a:lnTo>
                  <a:lnTo>
                    <a:pt x="1992" y="1366"/>
                  </a:lnTo>
                  <a:lnTo>
                    <a:pt x="1981" y="1368"/>
                  </a:lnTo>
                  <a:lnTo>
                    <a:pt x="1969" y="1371"/>
                  </a:lnTo>
                  <a:lnTo>
                    <a:pt x="1958" y="1372"/>
                  </a:lnTo>
                  <a:lnTo>
                    <a:pt x="1946" y="1373"/>
                  </a:lnTo>
                  <a:lnTo>
                    <a:pt x="1934" y="1376"/>
                  </a:lnTo>
                  <a:lnTo>
                    <a:pt x="1923" y="1377"/>
                  </a:lnTo>
                  <a:lnTo>
                    <a:pt x="1911" y="1380"/>
                  </a:lnTo>
                  <a:lnTo>
                    <a:pt x="1904" y="1382"/>
                  </a:lnTo>
                  <a:lnTo>
                    <a:pt x="1897" y="1384"/>
                  </a:lnTo>
                  <a:lnTo>
                    <a:pt x="1889" y="1385"/>
                  </a:lnTo>
                  <a:lnTo>
                    <a:pt x="1881" y="1388"/>
                  </a:lnTo>
                  <a:lnTo>
                    <a:pt x="1874" y="1390"/>
                  </a:lnTo>
                  <a:lnTo>
                    <a:pt x="1867" y="1394"/>
                  </a:lnTo>
                  <a:lnTo>
                    <a:pt x="1861" y="1398"/>
                  </a:lnTo>
                  <a:lnTo>
                    <a:pt x="1857" y="1404"/>
                  </a:lnTo>
                  <a:lnTo>
                    <a:pt x="1855" y="1409"/>
                  </a:lnTo>
                  <a:lnTo>
                    <a:pt x="1855" y="1415"/>
                  </a:lnTo>
                  <a:lnTo>
                    <a:pt x="1856" y="1421"/>
                  </a:lnTo>
                  <a:lnTo>
                    <a:pt x="1860" y="1426"/>
                  </a:lnTo>
                  <a:lnTo>
                    <a:pt x="1863" y="1432"/>
                  </a:lnTo>
                  <a:lnTo>
                    <a:pt x="1867" y="1438"/>
                  </a:lnTo>
                  <a:lnTo>
                    <a:pt x="1871" y="1443"/>
                  </a:lnTo>
                  <a:lnTo>
                    <a:pt x="1875" y="1446"/>
                  </a:lnTo>
                  <a:lnTo>
                    <a:pt x="1885" y="1456"/>
                  </a:lnTo>
                  <a:lnTo>
                    <a:pt x="1896" y="1463"/>
                  </a:lnTo>
                  <a:lnTo>
                    <a:pt x="1908" y="1470"/>
                  </a:lnTo>
                  <a:lnTo>
                    <a:pt x="1919" y="1476"/>
                  </a:lnTo>
                  <a:lnTo>
                    <a:pt x="1931" y="1484"/>
                  </a:lnTo>
                  <a:lnTo>
                    <a:pt x="1941" y="1491"/>
                  </a:lnTo>
                  <a:lnTo>
                    <a:pt x="1951" y="1498"/>
                  </a:lnTo>
                  <a:lnTo>
                    <a:pt x="1961" y="1508"/>
                  </a:lnTo>
                  <a:lnTo>
                    <a:pt x="1970" y="1520"/>
                  </a:lnTo>
                  <a:lnTo>
                    <a:pt x="1977" y="1533"/>
                  </a:lnTo>
                  <a:lnTo>
                    <a:pt x="1985" y="1546"/>
                  </a:lnTo>
                  <a:lnTo>
                    <a:pt x="1991" y="1560"/>
                  </a:lnTo>
                  <a:lnTo>
                    <a:pt x="1997" y="1575"/>
                  </a:lnTo>
                  <a:lnTo>
                    <a:pt x="2003" y="1589"/>
                  </a:lnTo>
                  <a:lnTo>
                    <a:pt x="2009" y="1604"/>
                  </a:lnTo>
                  <a:lnTo>
                    <a:pt x="2016" y="1617"/>
                  </a:lnTo>
                  <a:lnTo>
                    <a:pt x="2024" y="1636"/>
                  </a:lnTo>
                  <a:lnTo>
                    <a:pt x="2031" y="1656"/>
                  </a:lnTo>
                  <a:lnTo>
                    <a:pt x="2039" y="1677"/>
                  </a:lnTo>
                  <a:lnTo>
                    <a:pt x="2047" y="1697"/>
                  </a:lnTo>
                  <a:lnTo>
                    <a:pt x="2054" y="1716"/>
                  </a:lnTo>
                  <a:lnTo>
                    <a:pt x="2064" y="1736"/>
                  </a:lnTo>
                  <a:lnTo>
                    <a:pt x="2070" y="1744"/>
                  </a:lnTo>
                  <a:lnTo>
                    <a:pt x="2075" y="1754"/>
                  </a:lnTo>
                  <a:lnTo>
                    <a:pt x="2082" y="1761"/>
                  </a:lnTo>
                  <a:lnTo>
                    <a:pt x="2089" y="1769"/>
                  </a:lnTo>
                  <a:lnTo>
                    <a:pt x="2096" y="1778"/>
                  </a:lnTo>
                  <a:lnTo>
                    <a:pt x="2105" y="1785"/>
                  </a:lnTo>
                  <a:lnTo>
                    <a:pt x="2114" y="1792"/>
                  </a:lnTo>
                  <a:lnTo>
                    <a:pt x="2123" y="1798"/>
                  </a:lnTo>
                  <a:lnTo>
                    <a:pt x="2143" y="1810"/>
                  </a:lnTo>
                  <a:lnTo>
                    <a:pt x="2163" y="1821"/>
                  </a:lnTo>
                  <a:lnTo>
                    <a:pt x="2184" y="1832"/>
                  </a:lnTo>
                  <a:lnTo>
                    <a:pt x="2205" y="1841"/>
                  </a:lnTo>
                  <a:lnTo>
                    <a:pt x="2226" y="1851"/>
                  </a:lnTo>
                  <a:lnTo>
                    <a:pt x="2246" y="1860"/>
                  </a:lnTo>
                  <a:lnTo>
                    <a:pt x="2262" y="1868"/>
                  </a:lnTo>
                  <a:lnTo>
                    <a:pt x="2277" y="1874"/>
                  </a:lnTo>
                  <a:lnTo>
                    <a:pt x="2293" y="1878"/>
                  </a:lnTo>
                  <a:lnTo>
                    <a:pt x="2309" y="1883"/>
                  </a:lnTo>
                  <a:lnTo>
                    <a:pt x="2324" y="1889"/>
                  </a:lnTo>
                  <a:lnTo>
                    <a:pt x="2339" y="1895"/>
                  </a:lnTo>
                  <a:lnTo>
                    <a:pt x="2354" y="1901"/>
                  </a:lnTo>
                  <a:lnTo>
                    <a:pt x="2369" y="1909"/>
                  </a:lnTo>
                  <a:lnTo>
                    <a:pt x="2376" y="1913"/>
                  </a:lnTo>
                  <a:lnTo>
                    <a:pt x="2382" y="1918"/>
                  </a:lnTo>
                  <a:lnTo>
                    <a:pt x="2389" y="1924"/>
                  </a:lnTo>
                  <a:lnTo>
                    <a:pt x="2395" y="1930"/>
                  </a:lnTo>
                  <a:lnTo>
                    <a:pt x="2400" y="1936"/>
                  </a:lnTo>
                  <a:lnTo>
                    <a:pt x="2405" y="1943"/>
                  </a:lnTo>
                  <a:lnTo>
                    <a:pt x="2408" y="1950"/>
                  </a:lnTo>
                  <a:lnTo>
                    <a:pt x="2411" y="1957"/>
                  </a:lnTo>
                  <a:lnTo>
                    <a:pt x="2413" y="1967"/>
                  </a:lnTo>
                  <a:lnTo>
                    <a:pt x="2415" y="1978"/>
                  </a:lnTo>
                  <a:lnTo>
                    <a:pt x="2415" y="1989"/>
                  </a:lnTo>
                  <a:lnTo>
                    <a:pt x="2415" y="1999"/>
                  </a:lnTo>
                  <a:lnTo>
                    <a:pt x="2414" y="2010"/>
                  </a:lnTo>
                  <a:lnTo>
                    <a:pt x="2412" y="2019"/>
                  </a:lnTo>
                  <a:lnTo>
                    <a:pt x="2409" y="2022"/>
                  </a:lnTo>
                  <a:lnTo>
                    <a:pt x="2406" y="2026"/>
                  </a:lnTo>
                  <a:lnTo>
                    <a:pt x="2403" y="2028"/>
                  </a:lnTo>
                  <a:lnTo>
                    <a:pt x="2399" y="2031"/>
                  </a:lnTo>
                  <a:lnTo>
                    <a:pt x="2391" y="2033"/>
                  </a:lnTo>
                  <a:lnTo>
                    <a:pt x="2383" y="2034"/>
                  </a:lnTo>
                  <a:lnTo>
                    <a:pt x="2376" y="2035"/>
                  </a:lnTo>
                  <a:lnTo>
                    <a:pt x="2367" y="2035"/>
                  </a:lnTo>
                  <a:lnTo>
                    <a:pt x="2352" y="2034"/>
                  </a:lnTo>
                  <a:lnTo>
                    <a:pt x="2335" y="2032"/>
                  </a:lnTo>
                  <a:lnTo>
                    <a:pt x="2319" y="2027"/>
                  </a:lnTo>
                  <a:lnTo>
                    <a:pt x="2303" y="2022"/>
                  </a:lnTo>
                  <a:lnTo>
                    <a:pt x="2287" y="2017"/>
                  </a:lnTo>
                  <a:lnTo>
                    <a:pt x="2271" y="2013"/>
                  </a:lnTo>
                  <a:lnTo>
                    <a:pt x="2253" y="2007"/>
                  </a:lnTo>
                  <a:lnTo>
                    <a:pt x="2237" y="2001"/>
                  </a:lnTo>
                  <a:lnTo>
                    <a:pt x="2220" y="1995"/>
                  </a:lnTo>
                  <a:lnTo>
                    <a:pt x="2203" y="1987"/>
                  </a:lnTo>
                  <a:lnTo>
                    <a:pt x="2186" y="1980"/>
                  </a:lnTo>
                  <a:lnTo>
                    <a:pt x="2171" y="1972"/>
                  </a:lnTo>
                  <a:lnTo>
                    <a:pt x="2154" y="1965"/>
                  </a:lnTo>
                  <a:lnTo>
                    <a:pt x="2137" y="1957"/>
                  </a:lnTo>
                  <a:lnTo>
                    <a:pt x="2117" y="1949"/>
                  </a:lnTo>
                  <a:lnTo>
                    <a:pt x="2096" y="1941"/>
                  </a:lnTo>
                  <a:lnTo>
                    <a:pt x="2076" y="1933"/>
                  </a:lnTo>
                  <a:lnTo>
                    <a:pt x="2055" y="1925"/>
                  </a:lnTo>
                  <a:lnTo>
                    <a:pt x="2035" y="1917"/>
                  </a:lnTo>
                  <a:lnTo>
                    <a:pt x="2016" y="1907"/>
                  </a:lnTo>
                  <a:lnTo>
                    <a:pt x="1997" y="1896"/>
                  </a:lnTo>
                  <a:lnTo>
                    <a:pt x="1979" y="1884"/>
                  </a:lnTo>
                  <a:lnTo>
                    <a:pt x="1965" y="1875"/>
                  </a:lnTo>
                  <a:lnTo>
                    <a:pt x="1953" y="1863"/>
                  </a:lnTo>
                  <a:lnTo>
                    <a:pt x="1941" y="1851"/>
                  </a:lnTo>
                  <a:lnTo>
                    <a:pt x="1931" y="1838"/>
                  </a:lnTo>
                  <a:lnTo>
                    <a:pt x="1920" y="1824"/>
                  </a:lnTo>
                  <a:lnTo>
                    <a:pt x="1910" y="1811"/>
                  </a:lnTo>
                  <a:lnTo>
                    <a:pt x="1902" y="1796"/>
                  </a:lnTo>
                  <a:lnTo>
                    <a:pt x="1893" y="1781"/>
                  </a:lnTo>
                  <a:lnTo>
                    <a:pt x="1890" y="1770"/>
                  </a:lnTo>
                  <a:lnTo>
                    <a:pt x="1887" y="1760"/>
                  </a:lnTo>
                  <a:lnTo>
                    <a:pt x="1886" y="1748"/>
                  </a:lnTo>
                  <a:lnTo>
                    <a:pt x="1886" y="1737"/>
                  </a:lnTo>
                  <a:lnTo>
                    <a:pt x="1886" y="1725"/>
                  </a:lnTo>
                  <a:lnTo>
                    <a:pt x="1885" y="1713"/>
                  </a:lnTo>
                  <a:lnTo>
                    <a:pt x="1884" y="1701"/>
                  </a:lnTo>
                  <a:lnTo>
                    <a:pt x="1881" y="1690"/>
                  </a:lnTo>
                  <a:lnTo>
                    <a:pt x="1878" y="1680"/>
                  </a:lnTo>
                  <a:lnTo>
                    <a:pt x="1874" y="1670"/>
                  </a:lnTo>
                  <a:lnTo>
                    <a:pt x="1869" y="1660"/>
                  </a:lnTo>
                  <a:lnTo>
                    <a:pt x="1865" y="1650"/>
                  </a:lnTo>
                  <a:lnTo>
                    <a:pt x="1860" y="1641"/>
                  </a:lnTo>
                  <a:lnTo>
                    <a:pt x="1854" y="1632"/>
                  </a:lnTo>
                  <a:lnTo>
                    <a:pt x="1847" y="1624"/>
                  </a:lnTo>
                  <a:lnTo>
                    <a:pt x="1839" y="1617"/>
                  </a:lnTo>
                  <a:lnTo>
                    <a:pt x="1833" y="1613"/>
                  </a:lnTo>
                  <a:lnTo>
                    <a:pt x="1827" y="1611"/>
                  </a:lnTo>
                  <a:lnTo>
                    <a:pt x="1821" y="1610"/>
                  </a:lnTo>
                  <a:lnTo>
                    <a:pt x="1814" y="1610"/>
                  </a:lnTo>
                  <a:lnTo>
                    <a:pt x="1807" y="1610"/>
                  </a:lnTo>
                  <a:lnTo>
                    <a:pt x="1801" y="1611"/>
                  </a:lnTo>
                  <a:lnTo>
                    <a:pt x="1795" y="1613"/>
                  </a:lnTo>
                  <a:lnTo>
                    <a:pt x="1790" y="1617"/>
                  </a:lnTo>
                  <a:lnTo>
                    <a:pt x="1784" y="1624"/>
                  </a:lnTo>
                  <a:lnTo>
                    <a:pt x="1779" y="1632"/>
                  </a:lnTo>
                  <a:lnTo>
                    <a:pt x="1776" y="1642"/>
                  </a:lnTo>
                  <a:lnTo>
                    <a:pt x="1772" y="1650"/>
                  </a:lnTo>
                  <a:lnTo>
                    <a:pt x="1770" y="1661"/>
                  </a:lnTo>
                  <a:lnTo>
                    <a:pt x="1769" y="1671"/>
                  </a:lnTo>
                  <a:lnTo>
                    <a:pt x="1767" y="1680"/>
                  </a:lnTo>
                  <a:lnTo>
                    <a:pt x="1766" y="1690"/>
                  </a:lnTo>
                  <a:lnTo>
                    <a:pt x="1764" y="1710"/>
                  </a:lnTo>
                  <a:lnTo>
                    <a:pt x="1764" y="1731"/>
                  </a:lnTo>
                  <a:lnTo>
                    <a:pt x="1763" y="1751"/>
                  </a:lnTo>
                  <a:lnTo>
                    <a:pt x="1764" y="1772"/>
                  </a:lnTo>
                  <a:lnTo>
                    <a:pt x="1764" y="1793"/>
                  </a:lnTo>
                  <a:lnTo>
                    <a:pt x="1765" y="1814"/>
                  </a:lnTo>
                  <a:lnTo>
                    <a:pt x="1765" y="1834"/>
                  </a:lnTo>
                  <a:lnTo>
                    <a:pt x="1766" y="1854"/>
                  </a:lnTo>
                  <a:lnTo>
                    <a:pt x="1766" y="1870"/>
                  </a:lnTo>
                  <a:lnTo>
                    <a:pt x="1769" y="1887"/>
                  </a:lnTo>
                  <a:lnTo>
                    <a:pt x="1770" y="1902"/>
                  </a:lnTo>
                  <a:lnTo>
                    <a:pt x="1771" y="1918"/>
                  </a:lnTo>
                  <a:lnTo>
                    <a:pt x="1773" y="1935"/>
                  </a:lnTo>
                  <a:lnTo>
                    <a:pt x="1773" y="1950"/>
                  </a:lnTo>
                  <a:lnTo>
                    <a:pt x="1773" y="1966"/>
                  </a:lnTo>
                  <a:lnTo>
                    <a:pt x="1772" y="1981"/>
                  </a:lnTo>
                  <a:lnTo>
                    <a:pt x="1770" y="1993"/>
                  </a:lnTo>
                  <a:lnTo>
                    <a:pt x="1766" y="2005"/>
                  </a:lnTo>
                  <a:lnTo>
                    <a:pt x="1761" y="2017"/>
                  </a:lnTo>
                  <a:lnTo>
                    <a:pt x="1757" y="2028"/>
                  </a:lnTo>
                  <a:lnTo>
                    <a:pt x="1751" y="2039"/>
                  </a:lnTo>
                  <a:lnTo>
                    <a:pt x="1746" y="2051"/>
                  </a:lnTo>
                  <a:lnTo>
                    <a:pt x="1740" y="2062"/>
                  </a:lnTo>
                  <a:lnTo>
                    <a:pt x="1735" y="2073"/>
                  </a:lnTo>
                  <a:lnTo>
                    <a:pt x="1730" y="2087"/>
                  </a:lnTo>
                  <a:lnTo>
                    <a:pt x="1725" y="2101"/>
                  </a:lnTo>
                  <a:lnTo>
                    <a:pt x="1722" y="2115"/>
                  </a:lnTo>
                  <a:lnTo>
                    <a:pt x="1717" y="2129"/>
                  </a:lnTo>
                  <a:lnTo>
                    <a:pt x="1712" y="2143"/>
                  </a:lnTo>
                  <a:lnTo>
                    <a:pt x="1707" y="2157"/>
                  </a:lnTo>
                  <a:lnTo>
                    <a:pt x="1700" y="2170"/>
                  </a:lnTo>
                  <a:lnTo>
                    <a:pt x="1693" y="2183"/>
                  </a:lnTo>
                  <a:lnTo>
                    <a:pt x="1685" y="2193"/>
                  </a:lnTo>
                  <a:lnTo>
                    <a:pt x="1676" y="2202"/>
                  </a:lnTo>
                  <a:lnTo>
                    <a:pt x="1667" y="2212"/>
                  </a:lnTo>
                  <a:lnTo>
                    <a:pt x="1657" y="2220"/>
                  </a:lnTo>
                  <a:lnTo>
                    <a:pt x="1646" y="2227"/>
                  </a:lnTo>
                  <a:lnTo>
                    <a:pt x="1635" y="2236"/>
                  </a:lnTo>
                  <a:lnTo>
                    <a:pt x="1625" y="2243"/>
                  </a:lnTo>
                  <a:lnTo>
                    <a:pt x="1614" y="2249"/>
                  </a:lnTo>
                  <a:lnTo>
                    <a:pt x="1607" y="2254"/>
                  </a:lnTo>
                  <a:lnTo>
                    <a:pt x="1599" y="2259"/>
                  </a:lnTo>
                  <a:lnTo>
                    <a:pt x="1591" y="2263"/>
                  </a:lnTo>
                  <a:lnTo>
                    <a:pt x="1583" y="2267"/>
                  </a:lnTo>
                  <a:lnTo>
                    <a:pt x="1575" y="2269"/>
                  </a:lnTo>
                  <a:lnTo>
                    <a:pt x="1567" y="2272"/>
                  </a:lnTo>
                  <a:lnTo>
                    <a:pt x="1563" y="2272"/>
                  </a:lnTo>
                  <a:lnTo>
                    <a:pt x="1560" y="2271"/>
                  </a:lnTo>
                  <a:lnTo>
                    <a:pt x="1556" y="2269"/>
                  </a:lnTo>
                  <a:lnTo>
                    <a:pt x="1553" y="2268"/>
                  </a:lnTo>
                  <a:lnTo>
                    <a:pt x="1544" y="2261"/>
                  </a:lnTo>
                  <a:lnTo>
                    <a:pt x="1538" y="2253"/>
                  </a:lnTo>
                  <a:lnTo>
                    <a:pt x="1533" y="2243"/>
                  </a:lnTo>
                  <a:lnTo>
                    <a:pt x="1529" y="2232"/>
                  </a:lnTo>
                  <a:lnTo>
                    <a:pt x="1526" y="2221"/>
                  </a:lnTo>
                  <a:lnTo>
                    <a:pt x="1524" y="2211"/>
                  </a:lnTo>
                  <a:lnTo>
                    <a:pt x="1523" y="2200"/>
                  </a:lnTo>
                  <a:lnTo>
                    <a:pt x="1523" y="2189"/>
                  </a:lnTo>
                  <a:lnTo>
                    <a:pt x="1523" y="2173"/>
                  </a:lnTo>
                  <a:lnTo>
                    <a:pt x="1525" y="2158"/>
                  </a:lnTo>
                  <a:lnTo>
                    <a:pt x="1529" y="2142"/>
                  </a:lnTo>
                  <a:lnTo>
                    <a:pt x="1532" y="2127"/>
                  </a:lnTo>
                  <a:lnTo>
                    <a:pt x="1537" y="2112"/>
                  </a:lnTo>
                  <a:lnTo>
                    <a:pt x="1542" y="2097"/>
                  </a:lnTo>
                  <a:lnTo>
                    <a:pt x="1548" y="2082"/>
                  </a:lnTo>
                  <a:lnTo>
                    <a:pt x="1553" y="2067"/>
                  </a:lnTo>
                  <a:lnTo>
                    <a:pt x="1559" y="2055"/>
                  </a:lnTo>
                  <a:lnTo>
                    <a:pt x="1565" y="2043"/>
                  </a:lnTo>
                  <a:lnTo>
                    <a:pt x="1572" y="2031"/>
                  </a:lnTo>
                  <a:lnTo>
                    <a:pt x="1579" y="2019"/>
                  </a:lnTo>
                  <a:lnTo>
                    <a:pt x="1585" y="2007"/>
                  </a:lnTo>
                  <a:lnTo>
                    <a:pt x="1592" y="1995"/>
                  </a:lnTo>
                  <a:lnTo>
                    <a:pt x="1597" y="1983"/>
                  </a:lnTo>
                  <a:lnTo>
                    <a:pt x="1602" y="1969"/>
                  </a:lnTo>
                  <a:lnTo>
                    <a:pt x="1607" y="1948"/>
                  </a:lnTo>
                  <a:lnTo>
                    <a:pt x="1610" y="1926"/>
                  </a:lnTo>
                  <a:lnTo>
                    <a:pt x="1614" y="1905"/>
                  </a:lnTo>
                  <a:lnTo>
                    <a:pt x="1617" y="1882"/>
                  </a:lnTo>
                  <a:lnTo>
                    <a:pt x="1619" y="1860"/>
                  </a:lnTo>
                  <a:lnTo>
                    <a:pt x="1620" y="1838"/>
                  </a:lnTo>
                  <a:lnTo>
                    <a:pt x="1620" y="1816"/>
                  </a:lnTo>
                  <a:lnTo>
                    <a:pt x="1620" y="1793"/>
                  </a:lnTo>
                  <a:lnTo>
                    <a:pt x="1619" y="1779"/>
                  </a:lnTo>
                  <a:lnTo>
                    <a:pt x="1617" y="1766"/>
                  </a:lnTo>
                  <a:lnTo>
                    <a:pt x="1614" y="1751"/>
                  </a:lnTo>
                  <a:lnTo>
                    <a:pt x="1611" y="1737"/>
                  </a:lnTo>
                  <a:lnTo>
                    <a:pt x="1607" y="1724"/>
                  </a:lnTo>
                  <a:lnTo>
                    <a:pt x="1602" y="1709"/>
                  </a:lnTo>
                  <a:lnTo>
                    <a:pt x="1596" y="1697"/>
                  </a:lnTo>
                  <a:lnTo>
                    <a:pt x="1590" y="1684"/>
                  </a:lnTo>
                  <a:lnTo>
                    <a:pt x="1585" y="1677"/>
                  </a:lnTo>
                  <a:lnTo>
                    <a:pt x="1579" y="1670"/>
                  </a:lnTo>
                  <a:lnTo>
                    <a:pt x="1573" y="1662"/>
                  </a:lnTo>
                  <a:lnTo>
                    <a:pt x="1566" y="1656"/>
                  </a:lnTo>
                  <a:lnTo>
                    <a:pt x="1559" y="1650"/>
                  </a:lnTo>
                  <a:lnTo>
                    <a:pt x="1551" y="1647"/>
                  </a:lnTo>
                  <a:lnTo>
                    <a:pt x="1543" y="1643"/>
                  </a:lnTo>
                  <a:lnTo>
                    <a:pt x="1535" y="1642"/>
                  </a:lnTo>
                  <a:lnTo>
                    <a:pt x="1525" y="1641"/>
                  </a:lnTo>
                  <a:lnTo>
                    <a:pt x="1514" y="1642"/>
                  </a:lnTo>
                  <a:lnTo>
                    <a:pt x="1505" y="1644"/>
                  </a:lnTo>
                  <a:lnTo>
                    <a:pt x="1495" y="1648"/>
                  </a:lnTo>
                  <a:lnTo>
                    <a:pt x="1485" y="1653"/>
                  </a:lnTo>
                  <a:lnTo>
                    <a:pt x="1477" y="1659"/>
                  </a:lnTo>
                  <a:lnTo>
                    <a:pt x="1469" y="1665"/>
                  </a:lnTo>
                  <a:lnTo>
                    <a:pt x="1461" y="1672"/>
                  </a:lnTo>
                  <a:lnTo>
                    <a:pt x="1452" y="1684"/>
                  </a:lnTo>
                  <a:lnTo>
                    <a:pt x="1443" y="1696"/>
                  </a:lnTo>
                  <a:lnTo>
                    <a:pt x="1437" y="1710"/>
                  </a:lnTo>
                  <a:lnTo>
                    <a:pt x="1431" y="1725"/>
                  </a:lnTo>
                  <a:lnTo>
                    <a:pt x="1425" y="1739"/>
                  </a:lnTo>
                  <a:lnTo>
                    <a:pt x="1419" y="1754"/>
                  </a:lnTo>
                  <a:lnTo>
                    <a:pt x="1413" y="1768"/>
                  </a:lnTo>
                  <a:lnTo>
                    <a:pt x="1406" y="1781"/>
                  </a:lnTo>
                  <a:lnTo>
                    <a:pt x="1395" y="1804"/>
                  </a:lnTo>
                  <a:lnTo>
                    <a:pt x="1385" y="1826"/>
                  </a:lnTo>
                  <a:lnTo>
                    <a:pt x="1374" y="1848"/>
                  </a:lnTo>
                  <a:lnTo>
                    <a:pt x="1363" y="1870"/>
                  </a:lnTo>
                  <a:lnTo>
                    <a:pt x="1352" y="1893"/>
                  </a:lnTo>
                  <a:lnTo>
                    <a:pt x="1340" y="1914"/>
                  </a:lnTo>
                  <a:lnTo>
                    <a:pt x="1328" y="1936"/>
                  </a:lnTo>
                  <a:lnTo>
                    <a:pt x="1315" y="1957"/>
                  </a:lnTo>
                  <a:lnTo>
                    <a:pt x="1303" y="1977"/>
                  </a:lnTo>
                  <a:lnTo>
                    <a:pt x="1291" y="1996"/>
                  </a:lnTo>
                  <a:lnTo>
                    <a:pt x="1278" y="2015"/>
                  </a:lnTo>
                  <a:lnTo>
                    <a:pt x="1265" y="2034"/>
                  </a:lnTo>
                  <a:lnTo>
                    <a:pt x="1251" y="2052"/>
                  </a:lnTo>
                  <a:lnTo>
                    <a:pt x="1237" y="2070"/>
                  </a:lnTo>
                  <a:lnTo>
                    <a:pt x="1221" y="2087"/>
                  </a:lnTo>
                  <a:lnTo>
                    <a:pt x="1206" y="2104"/>
                  </a:lnTo>
                  <a:lnTo>
                    <a:pt x="1189" y="2119"/>
                  </a:lnTo>
                  <a:lnTo>
                    <a:pt x="1171" y="2134"/>
                  </a:lnTo>
                  <a:lnTo>
                    <a:pt x="1153" y="2148"/>
                  </a:lnTo>
                  <a:lnTo>
                    <a:pt x="1134" y="2161"/>
                  </a:lnTo>
                  <a:lnTo>
                    <a:pt x="1115" y="2173"/>
                  </a:lnTo>
                  <a:lnTo>
                    <a:pt x="1094" y="2185"/>
                  </a:lnTo>
                  <a:lnTo>
                    <a:pt x="1074" y="2196"/>
                  </a:lnTo>
                  <a:lnTo>
                    <a:pt x="1053" y="2207"/>
                  </a:lnTo>
                  <a:lnTo>
                    <a:pt x="1038" y="2214"/>
                  </a:lnTo>
                  <a:lnTo>
                    <a:pt x="1022" y="2220"/>
                  </a:lnTo>
                  <a:lnTo>
                    <a:pt x="1005" y="2226"/>
                  </a:lnTo>
                  <a:lnTo>
                    <a:pt x="989" y="2230"/>
                  </a:lnTo>
                  <a:lnTo>
                    <a:pt x="972" y="2235"/>
                  </a:lnTo>
                  <a:lnTo>
                    <a:pt x="954" y="2238"/>
                  </a:lnTo>
                  <a:lnTo>
                    <a:pt x="937" y="2241"/>
                  </a:lnTo>
                  <a:lnTo>
                    <a:pt x="920" y="2243"/>
                  </a:lnTo>
                  <a:lnTo>
                    <a:pt x="913" y="2244"/>
                  </a:lnTo>
                  <a:lnTo>
                    <a:pt x="907" y="2244"/>
                  </a:lnTo>
                  <a:lnTo>
                    <a:pt x="900" y="2244"/>
                  </a:lnTo>
                  <a:lnTo>
                    <a:pt x="893" y="2243"/>
                  </a:lnTo>
                  <a:lnTo>
                    <a:pt x="887" y="2242"/>
                  </a:lnTo>
                  <a:lnTo>
                    <a:pt x="881" y="2239"/>
                  </a:lnTo>
                  <a:lnTo>
                    <a:pt x="876" y="2236"/>
                  </a:lnTo>
                  <a:lnTo>
                    <a:pt x="871" y="2231"/>
                  </a:lnTo>
                  <a:lnTo>
                    <a:pt x="869" y="2226"/>
                  </a:lnTo>
                  <a:lnTo>
                    <a:pt x="866" y="2220"/>
                  </a:lnTo>
                  <a:lnTo>
                    <a:pt x="866" y="2213"/>
                  </a:lnTo>
                  <a:lnTo>
                    <a:pt x="866" y="2207"/>
                  </a:lnTo>
                  <a:lnTo>
                    <a:pt x="869" y="2200"/>
                  </a:lnTo>
                  <a:lnTo>
                    <a:pt x="871" y="2194"/>
                  </a:lnTo>
                  <a:lnTo>
                    <a:pt x="873" y="2188"/>
                  </a:lnTo>
                  <a:lnTo>
                    <a:pt x="877" y="2183"/>
                  </a:lnTo>
                  <a:lnTo>
                    <a:pt x="890" y="2169"/>
                  </a:lnTo>
                  <a:lnTo>
                    <a:pt x="903" y="2155"/>
                  </a:lnTo>
                  <a:lnTo>
                    <a:pt x="918" y="2143"/>
                  </a:lnTo>
                  <a:lnTo>
                    <a:pt x="933" y="2131"/>
                  </a:lnTo>
                  <a:lnTo>
                    <a:pt x="948" y="2121"/>
                  </a:lnTo>
                  <a:lnTo>
                    <a:pt x="963" y="2109"/>
                  </a:lnTo>
                  <a:lnTo>
                    <a:pt x="979" y="2098"/>
                  </a:lnTo>
                  <a:lnTo>
                    <a:pt x="993" y="2085"/>
                  </a:lnTo>
                  <a:lnTo>
                    <a:pt x="1009" y="2070"/>
                  </a:lnTo>
                  <a:lnTo>
                    <a:pt x="1027" y="2056"/>
                  </a:lnTo>
                  <a:lnTo>
                    <a:pt x="1044" y="2043"/>
                  </a:lnTo>
                  <a:lnTo>
                    <a:pt x="1061" y="2028"/>
                  </a:lnTo>
                  <a:lnTo>
                    <a:pt x="1077" y="2013"/>
                  </a:lnTo>
                  <a:lnTo>
                    <a:pt x="1093" y="1997"/>
                  </a:lnTo>
                  <a:lnTo>
                    <a:pt x="1107" y="1981"/>
                  </a:lnTo>
                  <a:lnTo>
                    <a:pt x="1121" y="1963"/>
                  </a:lnTo>
                  <a:lnTo>
                    <a:pt x="1134" y="1945"/>
                  </a:lnTo>
                  <a:lnTo>
                    <a:pt x="1145" y="1925"/>
                  </a:lnTo>
                  <a:lnTo>
                    <a:pt x="1157" y="1906"/>
                  </a:lnTo>
                  <a:lnTo>
                    <a:pt x="1166" y="1885"/>
                  </a:lnTo>
                  <a:lnTo>
                    <a:pt x="1175" y="1864"/>
                  </a:lnTo>
                  <a:lnTo>
                    <a:pt x="1183" y="1844"/>
                  </a:lnTo>
                  <a:lnTo>
                    <a:pt x="1189" y="1822"/>
                  </a:lnTo>
                  <a:lnTo>
                    <a:pt x="1194" y="1799"/>
                  </a:lnTo>
                  <a:lnTo>
                    <a:pt x="1195" y="1790"/>
                  </a:lnTo>
                  <a:lnTo>
                    <a:pt x="1194" y="1779"/>
                  </a:lnTo>
                  <a:lnTo>
                    <a:pt x="1191" y="1769"/>
                  </a:lnTo>
                  <a:lnTo>
                    <a:pt x="1188" y="1760"/>
                  </a:lnTo>
                  <a:lnTo>
                    <a:pt x="1184" y="1750"/>
                  </a:lnTo>
                  <a:lnTo>
                    <a:pt x="1178" y="1740"/>
                  </a:lnTo>
                  <a:lnTo>
                    <a:pt x="1171" y="1733"/>
                  </a:lnTo>
                  <a:lnTo>
                    <a:pt x="1164" y="1726"/>
                  </a:lnTo>
                  <a:lnTo>
                    <a:pt x="1158" y="1724"/>
                  </a:lnTo>
                  <a:lnTo>
                    <a:pt x="1151" y="1722"/>
                  </a:lnTo>
                  <a:lnTo>
                    <a:pt x="1143" y="1722"/>
                  </a:lnTo>
                  <a:lnTo>
                    <a:pt x="1136" y="1725"/>
                  </a:lnTo>
                  <a:lnTo>
                    <a:pt x="1129" y="1727"/>
                  </a:lnTo>
                  <a:lnTo>
                    <a:pt x="1122" y="1731"/>
                  </a:lnTo>
                  <a:lnTo>
                    <a:pt x="1115" y="1734"/>
                  </a:lnTo>
                  <a:lnTo>
                    <a:pt x="1109" y="1739"/>
                  </a:lnTo>
                  <a:lnTo>
                    <a:pt x="1103" y="1744"/>
                  </a:lnTo>
                  <a:lnTo>
                    <a:pt x="1098" y="1751"/>
                  </a:lnTo>
                  <a:lnTo>
                    <a:pt x="1094" y="1758"/>
                  </a:lnTo>
                  <a:lnTo>
                    <a:pt x="1091" y="1767"/>
                  </a:lnTo>
                  <a:lnTo>
                    <a:pt x="1087" y="1774"/>
                  </a:lnTo>
                  <a:lnTo>
                    <a:pt x="1083" y="1781"/>
                  </a:lnTo>
                  <a:lnTo>
                    <a:pt x="1079" y="1788"/>
                  </a:lnTo>
                  <a:lnTo>
                    <a:pt x="1073" y="1793"/>
                  </a:lnTo>
                  <a:lnTo>
                    <a:pt x="1061" y="1802"/>
                  </a:lnTo>
                  <a:lnTo>
                    <a:pt x="1049" y="1809"/>
                  </a:lnTo>
                  <a:lnTo>
                    <a:pt x="1035" y="1816"/>
                  </a:lnTo>
                  <a:lnTo>
                    <a:pt x="1022" y="1822"/>
                  </a:lnTo>
                  <a:lnTo>
                    <a:pt x="1009" y="1827"/>
                  </a:lnTo>
                  <a:lnTo>
                    <a:pt x="996" y="1832"/>
                  </a:lnTo>
                  <a:lnTo>
                    <a:pt x="983" y="1834"/>
                  </a:lnTo>
                  <a:lnTo>
                    <a:pt x="968" y="1836"/>
                  </a:lnTo>
                  <a:lnTo>
                    <a:pt x="959" y="1836"/>
                  </a:lnTo>
                  <a:lnTo>
                    <a:pt x="948" y="1835"/>
                  </a:lnTo>
                  <a:lnTo>
                    <a:pt x="936" y="1834"/>
                  </a:lnTo>
                  <a:lnTo>
                    <a:pt x="926" y="1830"/>
                  </a:lnTo>
                  <a:lnTo>
                    <a:pt x="915" y="1827"/>
                  </a:lnTo>
                  <a:lnTo>
                    <a:pt x="907" y="1821"/>
                  </a:lnTo>
                  <a:lnTo>
                    <a:pt x="903" y="1817"/>
                  </a:lnTo>
                  <a:lnTo>
                    <a:pt x="900" y="1814"/>
                  </a:lnTo>
                  <a:lnTo>
                    <a:pt x="897" y="1810"/>
                  </a:lnTo>
                  <a:lnTo>
                    <a:pt x="895" y="1805"/>
                  </a:lnTo>
                  <a:lnTo>
                    <a:pt x="893" y="1798"/>
                  </a:lnTo>
                  <a:lnTo>
                    <a:pt x="891" y="1791"/>
                  </a:lnTo>
                  <a:lnTo>
                    <a:pt x="890" y="1782"/>
                  </a:lnTo>
                  <a:lnTo>
                    <a:pt x="890" y="1775"/>
                  </a:lnTo>
                  <a:lnTo>
                    <a:pt x="891" y="1758"/>
                  </a:lnTo>
                  <a:lnTo>
                    <a:pt x="895" y="1743"/>
                  </a:lnTo>
                  <a:lnTo>
                    <a:pt x="899" y="1726"/>
                  </a:lnTo>
                  <a:lnTo>
                    <a:pt x="902" y="1710"/>
                  </a:lnTo>
                  <a:lnTo>
                    <a:pt x="906" y="1694"/>
                  </a:lnTo>
                  <a:lnTo>
                    <a:pt x="908" y="1678"/>
                  </a:lnTo>
                  <a:lnTo>
                    <a:pt x="909" y="1666"/>
                  </a:lnTo>
                  <a:lnTo>
                    <a:pt x="912" y="1655"/>
                  </a:lnTo>
                  <a:lnTo>
                    <a:pt x="914" y="1643"/>
                  </a:lnTo>
                  <a:lnTo>
                    <a:pt x="917" y="1631"/>
                  </a:lnTo>
                  <a:lnTo>
                    <a:pt x="918" y="1620"/>
                  </a:lnTo>
                  <a:lnTo>
                    <a:pt x="919" y="1608"/>
                  </a:lnTo>
                  <a:lnTo>
                    <a:pt x="917" y="1598"/>
                  </a:lnTo>
                  <a:lnTo>
                    <a:pt x="914" y="1587"/>
                  </a:lnTo>
                  <a:lnTo>
                    <a:pt x="909" y="1581"/>
                  </a:lnTo>
                  <a:lnTo>
                    <a:pt x="905" y="1576"/>
                  </a:lnTo>
                  <a:lnTo>
                    <a:pt x="899" y="1574"/>
                  </a:lnTo>
                  <a:lnTo>
                    <a:pt x="890" y="1571"/>
                  </a:lnTo>
                  <a:lnTo>
                    <a:pt x="883" y="1570"/>
                  </a:lnTo>
                  <a:lnTo>
                    <a:pt x="875" y="1569"/>
                  </a:lnTo>
                  <a:lnTo>
                    <a:pt x="866" y="1569"/>
                  </a:lnTo>
                  <a:lnTo>
                    <a:pt x="859" y="1569"/>
                  </a:lnTo>
                  <a:lnTo>
                    <a:pt x="842" y="1570"/>
                  </a:lnTo>
                  <a:lnTo>
                    <a:pt x="825" y="1572"/>
                  </a:lnTo>
                  <a:lnTo>
                    <a:pt x="809" y="1575"/>
                  </a:lnTo>
                  <a:lnTo>
                    <a:pt x="792" y="1578"/>
                  </a:lnTo>
                  <a:lnTo>
                    <a:pt x="775" y="1582"/>
                  </a:lnTo>
                  <a:lnTo>
                    <a:pt x="758" y="1586"/>
                  </a:lnTo>
                  <a:lnTo>
                    <a:pt x="741" y="1587"/>
                  </a:lnTo>
                  <a:lnTo>
                    <a:pt x="725" y="1587"/>
                  </a:lnTo>
                  <a:lnTo>
                    <a:pt x="710" y="1586"/>
                  </a:lnTo>
                  <a:lnTo>
                    <a:pt x="696" y="1583"/>
                  </a:lnTo>
                  <a:lnTo>
                    <a:pt x="683" y="1580"/>
                  </a:lnTo>
                  <a:lnTo>
                    <a:pt x="668" y="1576"/>
                  </a:lnTo>
                  <a:lnTo>
                    <a:pt x="654" y="1570"/>
                  </a:lnTo>
                  <a:lnTo>
                    <a:pt x="641" y="1564"/>
                  </a:lnTo>
                  <a:lnTo>
                    <a:pt x="627" y="1558"/>
                  </a:lnTo>
                  <a:lnTo>
                    <a:pt x="615" y="1551"/>
                  </a:lnTo>
                  <a:lnTo>
                    <a:pt x="607" y="1544"/>
                  </a:lnTo>
                  <a:lnTo>
                    <a:pt x="600" y="1534"/>
                  </a:lnTo>
                  <a:lnTo>
                    <a:pt x="594" y="1524"/>
                  </a:lnTo>
                  <a:lnTo>
                    <a:pt x="588" y="1515"/>
                  </a:lnTo>
                  <a:lnTo>
                    <a:pt x="582" y="1504"/>
                  </a:lnTo>
                  <a:lnTo>
                    <a:pt x="576" y="1494"/>
                  </a:lnTo>
                  <a:lnTo>
                    <a:pt x="569" y="1485"/>
                  </a:lnTo>
                  <a:lnTo>
                    <a:pt x="560" y="1478"/>
                  </a:lnTo>
                  <a:lnTo>
                    <a:pt x="554" y="1473"/>
                  </a:lnTo>
                  <a:lnTo>
                    <a:pt x="547" y="1468"/>
                  </a:lnTo>
                  <a:lnTo>
                    <a:pt x="540" y="1464"/>
                  </a:lnTo>
                  <a:lnTo>
                    <a:pt x="533" y="1461"/>
                  </a:lnTo>
                  <a:lnTo>
                    <a:pt x="524" y="1457"/>
                  </a:lnTo>
                  <a:lnTo>
                    <a:pt x="516" y="1456"/>
                  </a:lnTo>
                  <a:lnTo>
                    <a:pt x="509" y="1454"/>
                  </a:lnTo>
                  <a:lnTo>
                    <a:pt x="500" y="1452"/>
                  </a:lnTo>
                  <a:lnTo>
                    <a:pt x="480" y="1452"/>
                  </a:lnTo>
                  <a:lnTo>
                    <a:pt x="461" y="1451"/>
                  </a:lnTo>
                  <a:lnTo>
                    <a:pt x="440" y="1452"/>
                  </a:lnTo>
                  <a:lnTo>
                    <a:pt x="421" y="1454"/>
                  </a:lnTo>
                  <a:lnTo>
                    <a:pt x="401" y="1455"/>
                  </a:lnTo>
                  <a:lnTo>
                    <a:pt x="381" y="1457"/>
                  </a:lnTo>
                  <a:lnTo>
                    <a:pt x="361" y="1458"/>
                  </a:lnTo>
                  <a:lnTo>
                    <a:pt x="342" y="1460"/>
                  </a:lnTo>
                  <a:lnTo>
                    <a:pt x="320" y="1461"/>
                  </a:lnTo>
                  <a:lnTo>
                    <a:pt x="297" y="1462"/>
                  </a:lnTo>
                  <a:lnTo>
                    <a:pt x="276" y="1464"/>
                  </a:lnTo>
                  <a:lnTo>
                    <a:pt x="253" y="1466"/>
                  </a:lnTo>
                  <a:lnTo>
                    <a:pt x="231" y="1468"/>
                  </a:lnTo>
                  <a:lnTo>
                    <a:pt x="209" y="1468"/>
                  </a:lnTo>
                  <a:lnTo>
                    <a:pt x="187" y="1467"/>
                  </a:lnTo>
                  <a:lnTo>
                    <a:pt x="165" y="1466"/>
                  </a:lnTo>
                  <a:lnTo>
                    <a:pt x="155" y="1463"/>
                  </a:lnTo>
                  <a:lnTo>
                    <a:pt x="144" y="1460"/>
                  </a:lnTo>
                  <a:lnTo>
                    <a:pt x="133" y="1455"/>
                  </a:lnTo>
                  <a:lnTo>
                    <a:pt x="123" y="1449"/>
                  </a:lnTo>
                  <a:lnTo>
                    <a:pt x="114" y="1443"/>
                  </a:lnTo>
                  <a:lnTo>
                    <a:pt x="104" y="1436"/>
                  </a:lnTo>
                  <a:lnTo>
                    <a:pt x="95" y="1430"/>
                  </a:lnTo>
                  <a:lnTo>
                    <a:pt x="86" y="1422"/>
                  </a:lnTo>
                  <a:lnTo>
                    <a:pt x="78" y="1416"/>
                  </a:lnTo>
                  <a:lnTo>
                    <a:pt x="68" y="1409"/>
                  </a:lnTo>
                  <a:lnTo>
                    <a:pt x="60" y="1403"/>
                  </a:lnTo>
                  <a:lnTo>
                    <a:pt x="51" y="1396"/>
                  </a:lnTo>
                  <a:lnTo>
                    <a:pt x="43" y="1388"/>
                  </a:lnTo>
                  <a:lnTo>
                    <a:pt x="36" y="1380"/>
                  </a:lnTo>
                  <a:lnTo>
                    <a:pt x="30" y="1371"/>
                  </a:lnTo>
                  <a:lnTo>
                    <a:pt x="25" y="1361"/>
                  </a:lnTo>
                  <a:lnTo>
                    <a:pt x="23" y="1355"/>
                  </a:lnTo>
                  <a:lnTo>
                    <a:pt x="21" y="1347"/>
                  </a:lnTo>
                  <a:lnTo>
                    <a:pt x="21" y="1340"/>
                  </a:lnTo>
                  <a:lnTo>
                    <a:pt x="23" y="1331"/>
                  </a:lnTo>
                  <a:lnTo>
                    <a:pt x="25" y="1324"/>
                  </a:lnTo>
                  <a:lnTo>
                    <a:pt x="27" y="1317"/>
                  </a:lnTo>
                  <a:lnTo>
                    <a:pt x="32" y="1311"/>
                  </a:lnTo>
                  <a:lnTo>
                    <a:pt x="37" y="1307"/>
                  </a:lnTo>
                  <a:lnTo>
                    <a:pt x="51" y="1301"/>
                  </a:lnTo>
                  <a:lnTo>
                    <a:pt x="66" y="1296"/>
                  </a:lnTo>
                  <a:lnTo>
                    <a:pt x="81" y="1293"/>
                  </a:lnTo>
                  <a:lnTo>
                    <a:pt x="96" y="1292"/>
                  </a:lnTo>
                  <a:lnTo>
                    <a:pt x="113" y="1290"/>
                  </a:lnTo>
                  <a:lnTo>
                    <a:pt x="128" y="1289"/>
                  </a:lnTo>
                  <a:lnTo>
                    <a:pt x="144" y="1289"/>
                  </a:lnTo>
                  <a:lnTo>
                    <a:pt x="159" y="1289"/>
                  </a:lnTo>
                  <a:lnTo>
                    <a:pt x="185" y="1288"/>
                  </a:lnTo>
                  <a:lnTo>
                    <a:pt x="211" y="1289"/>
                  </a:lnTo>
                  <a:lnTo>
                    <a:pt x="236" y="1290"/>
                  </a:lnTo>
                  <a:lnTo>
                    <a:pt x="263" y="1293"/>
                  </a:lnTo>
                  <a:lnTo>
                    <a:pt x="289" y="1294"/>
                  </a:lnTo>
                  <a:lnTo>
                    <a:pt x="314" y="1295"/>
                  </a:lnTo>
                  <a:lnTo>
                    <a:pt x="341" y="1296"/>
                  </a:lnTo>
                  <a:lnTo>
                    <a:pt x="366" y="1295"/>
                  </a:lnTo>
                  <a:lnTo>
                    <a:pt x="381" y="1293"/>
                  </a:lnTo>
                  <a:lnTo>
                    <a:pt x="397" y="1290"/>
                  </a:lnTo>
                  <a:lnTo>
                    <a:pt x="413" y="1287"/>
                  </a:lnTo>
                  <a:lnTo>
                    <a:pt x="427" y="1282"/>
                  </a:lnTo>
                  <a:lnTo>
                    <a:pt x="443" y="1277"/>
                  </a:lnTo>
                  <a:lnTo>
                    <a:pt x="457" y="1272"/>
                  </a:lnTo>
                  <a:lnTo>
                    <a:pt x="473" y="1269"/>
                  </a:lnTo>
                  <a:lnTo>
                    <a:pt x="488" y="1264"/>
                  </a:lnTo>
                  <a:lnTo>
                    <a:pt x="498" y="1262"/>
                  </a:lnTo>
                  <a:lnTo>
                    <a:pt x="507" y="1258"/>
                  </a:lnTo>
                  <a:lnTo>
                    <a:pt x="517" y="1254"/>
                  </a:lnTo>
                  <a:lnTo>
                    <a:pt x="528" y="1251"/>
                  </a:lnTo>
                  <a:lnTo>
                    <a:pt x="537" y="1248"/>
                  </a:lnTo>
                  <a:lnTo>
                    <a:pt x="547" y="1246"/>
                  </a:lnTo>
                  <a:lnTo>
                    <a:pt x="557" y="1245"/>
                  </a:lnTo>
                  <a:lnTo>
                    <a:pt x="567" y="1246"/>
                  </a:lnTo>
                  <a:lnTo>
                    <a:pt x="587" y="1251"/>
                  </a:lnTo>
                  <a:lnTo>
                    <a:pt x="605" y="1257"/>
                  </a:lnTo>
                  <a:lnTo>
                    <a:pt x="624" y="1264"/>
                  </a:lnTo>
                  <a:lnTo>
                    <a:pt x="642" y="1271"/>
                  </a:lnTo>
                  <a:lnTo>
                    <a:pt x="660" y="1280"/>
                  </a:lnTo>
                  <a:lnTo>
                    <a:pt x="678" y="1289"/>
                  </a:lnTo>
                  <a:lnTo>
                    <a:pt x="695" y="1298"/>
                  </a:lnTo>
                  <a:lnTo>
                    <a:pt x="713" y="1307"/>
                  </a:lnTo>
                  <a:lnTo>
                    <a:pt x="728" y="1314"/>
                  </a:lnTo>
                  <a:lnTo>
                    <a:pt x="743" y="1324"/>
                  </a:lnTo>
                  <a:lnTo>
                    <a:pt x="756" y="1332"/>
                  </a:lnTo>
                  <a:lnTo>
                    <a:pt x="770" y="1342"/>
                  </a:lnTo>
                  <a:lnTo>
                    <a:pt x="785" y="1352"/>
                  </a:lnTo>
                  <a:lnTo>
                    <a:pt x="799" y="1360"/>
                  </a:lnTo>
                  <a:lnTo>
                    <a:pt x="813" y="1367"/>
                  </a:lnTo>
                  <a:lnTo>
                    <a:pt x="829" y="1374"/>
                  </a:lnTo>
                  <a:lnTo>
                    <a:pt x="841" y="1378"/>
                  </a:lnTo>
                  <a:lnTo>
                    <a:pt x="854" y="1383"/>
                  </a:lnTo>
                  <a:lnTo>
                    <a:pt x="867" y="1388"/>
                  </a:lnTo>
                  <a:lnTo>
                    <a:pt x="881" y="1390"/>
                  </a:lnTo>
                  <a:lnTo>
                    <a:pt x="894" y="1392"/>
                  </a:lnTo>
                  <a:lnTo>
                    <a:pt x="907" y="1392"/>
                  </a:lnTo>
                  <a:lnTo>
                    <a:pt x="914" y="1391"/>
                  </a:lnTo>
                  <a:lnTo>
                    <a:pt x="920" y="1390"/>
                  </a:lnTo>
                  <a:lnTo>
                    <a:pt x="926" y="1389"/>
                  </a:lnTo>
                  <a:lnTo>
                    <a:pt x="932" y="1386"/>
                  </a:lnTo>
                  <a:lnTo>
                    <a:pt x="937" y="1384"/>
                  </a:lnTo>
                  <a:lnTo>
                    <a:pt x="941" y="1380"/>
                  </a:lnTo>
                  <a:lnTo>
                    <a:pt x="944" y="1377"/>
                  </a:lnTo>
                  <a:lnTo>
                    <a:pt x="948" y="1372"/>
                  </a:lnTo>
                  <a:lnTo>
                    <a:pt x="953" y="1362"/>
                  </a:lnTo>
                  <a:lnTo>
                    <a:pt x="957" y="1353"/>
                  </a:lnTo>
                  <a:lnTo>
                    <a:pt x="960" y="1341"/>
                  </a:lnTo>
                  <a:lnTo>
                    <a:pt x="962" y="1330"/>
                  </a:lnTo>
                  <a:lnTo>
                    <a:pt x="962" y="1318"/>
                  </a:lnTo>
                  <a:lnTo>
                    <a:pt x="962" y="1307"/>
                  </a:lnTo>
                  <a:lnTo>
                    <a:pt x="961" y="1295"/>
                  </a:lnTo>
                  <a:lnTo>
                    <a:pt x="959" y="1284"/>
                  </a:lnTo>
                  <a:lnTo>
                    <a:pt x="955" y="1274"/>
                  </a:lnTo>
                  <a:lnTo>
                    <a:pt x="950" y="1263"/>
                  </a:lnTo>
                  <a:lnTo>
                    <a:pt x="945" y="1252"/>
                  </a:lnTo>
                  <a:lnTo>
                    <a:pt x="939" y="1241"/>
                  </a:lnTo>
                  <a:lnTo>
                    <a:pt x="932" y="1232"/>
                  </a:lnTo>
                  <a:lnTo>
                    <a:pt x="926" y="1222"/>
                  </a:lnTo>
                  <a:lnTo>
                    <a:pt x="914" y="1205"/>
                  </a:lnTo>
                  <a:lnTo>
                    <a:pt x="901" y="1187"/>
                  </a:lnTo>
                  <a:lnTo>
                    <a:pt x="889" y="1170"/>
                  </a:lnTo>
                  <a:lnTo>
                    <a:pt x="875" y="1155"/>
                  </a:lnTo>
                  <a:lnTo>
                    <a:pt x="861" y="1138"/>
                  </a:lnTo>
                  <a:lnTo>
                    <a:pt x="847" y="1124"/>
                  </a:lnTo>
                  <a:lnTo>
                    <a:pt x="831" y="1108"/>
                  </a:lnTo>
                  <a:lnTo>
                    <a:pt x="817" y="1094"/>
                  </a:lnTo>
                  <a:lnTo>
                    <a:pt x="798" y="1078"/>
                  </a:lnTo>
                  <a:lnTo>
                    <a:pt x="777" y="1064"/>
                  </a:lnTo>
                  <a:lnTo>
                    <a:pt x="758" y="1048"/>
                  </a:lnTo>
                  <a:lnTo>
                    <a:pt x="738" y="1035"/>
                  </a:lnTo>
                  <a:lnTo>
                    <a:pt x="716" y="1022"/>
                  </a:lnTo>
                  <a:lnTo>
                    <a:pt x="696" y="1009"/>
                  </a:lnTo>
                  <a:lnTo>
                    <a:pt x="674" y="997"/>
                  </a:lnTo>
                  <a:lnTo>
                    <a:pt x="653" y="985"/>
                  </a:lnTo>
                  <a:lnTo>
                    <a:pt x="636" y="977"/>
                  </a:lnTo>
                  <a:lnTo>
                    <a:pt x="620" y="971"/>
                  </a:lnTo>
                  <a:lnTo>
                    <a:pt x="603" y="965"/>
                  </a:lnTo>
                  <a:lnTo>
                    <a:pt x="587" y="959"/>
                  </a:lnTo>
                  <a:lnTo>
                    <a:pt x="570" y="955"/>
                  </a:lnTo>
                  <a:lnTo>
                    <a:pt x="553" y="951"/>
                  </a:lnTo>
                  <a:lnTo>
                    <a:pt x="535" y="946"/>
                  </a:lnTo>
                  <a:lnTo>
                    <a:pt x="518" y="943"/>
                  </a:lnTo>
                  <a:lnTo>
                    <a:pt x="503" y="939"/>
                  </a:lnTo>
                  <a:lnTo>
                    <a:pt x="488" y="935"/>
                  </a:lnTo>
                  <a:lnTo>
                    <a:pt x="473" y="933"/>
                  </a:lnTo>
                  <a:lnTo>
                    <a:pt x="458" y="929"/>
                  </a:lnTo>
                  <a:lnTo>
                    <a:pt x="443" y="927"/>
                  </a:lnTo>
                  <a:lnTo>
                    <a:pt x="427" y="926"/>
                  </a:lnTo>
                  <a:lnTo>
                    <a:pt x="411" y="925"/>
                  </a:lnTo>
                  <a:lnTo>
                    <a:pt x="397" y="925"/>
                  </a:lnTo>
                  <a:lnTo>
                    <a:pt x="386" y="925"/>
                  </a:lnTo>
                  <a:lnTo>
                    <a:pt x="377" y="926"/>
                  </a:lnTo>
                  <a:lnTo>
                    <a:pt x="366" y="927"/>
                  </a:lnTo>
                  <a:lnTo>
                    <a:pt x="356" y="928"/>
                  </a:lnTo>
                  <a:lnTo>
                    <a:pt x="345" y="932"/>
                  </a:lnTo>
                  <a:lnTo>
                    <a:pt x="336" y="934"/>
                  </a:lnTo>
                  <a:lnTo>
                    <a:pt x="326" y="938"/>
                  </a:lnTo>
                  <a:lnTo>
                    <a:pt x="318" y="943"/>
                  </a:lnTo>
                  <a:lnTo>
                    <a:pt x="308" y="947"/>
                  </a:lnTo>
                  <a:lnTo>
                    <a:pt x="300" y="955"/>
                  </a:lnTo>
                  <a:lnTo>
                    <a:pt x="291" y="962"/>
                  </a:lnTo>
                  <a:lnTo>
                    <a:pt x="284" y="969"/>
                  </a:lnTo>
                  <a:lnTo>
                    <a:pt x="276" y="977"/>
                  </a:lnTo>
                  <a:lnTo>
                    <a:pt x="267" y="985"/>
                  </a:lnTo>
                  <a:lnTo>
                    <a:pt x="259" y="992"/>
                  </a:lnTo>
                  <a:lnTo>
                    <a:pt x="251" y="997"/>
                  </a:lnTo>
                  <a:lnTo>
                    <a:pt x="236" y="1005"/>
                  </a:lnTo>
                  <a:lnTo>
                    <a:pt x="222" y="1012"/>
                  </a:lnTo>
                  <a:lnTo>
                    <a:pt x="206" y="1019"/>
                  </a:lnTo>
                  <a:lnTo>
                    <a:pt x="191" y="1025"/>
                  </a:lnTo>
                  <a:lnTo>
                    <a:pt x="176" y="1031"/>
                  </a:lnTo>
                  <a:lnTo>
                    <a:pt x="161" y="1037"/>
                  </a:lnTo>
                  <a:lnTo>
                    <a:pt x="145" y="1042"/>
                  </a:lnTo>
                  <a:lnTo>
                    <a:pt x="128" y="1046"/>
                  </a:lnTo>
                  <a:lnTo>
                    <a:pt x="123" y="1047"/>
                  </a:lnTo>
                  <a:lnTo>
                    <a:pt x="117" y="1047"/>
                  </a:lnTo>
                  <a:lnTo>
                    <a:pt x="110" y="1047"/>
                  </a:lnTo>
                  <a:lnTo>
                    <a:pt x="104" y="1046"/>
                  </a:lnTo>
                  <a:lnTo>
                    <a:pt x="99" y="1043"/>
                  </a:lnTo>
                  <a:lnTo>
                    <a:pt x="93" y="1041"/>
                  </a:lnTo>
                  <a:lnTo>
                    <a:pt x="90" y="1037"/>
                  </a:lnTo>
                  <a:lnTo>
                    <a:pt x="86" y="1034"/>
                  </a:lnTo>
                  <a:lnTo>
                    <a:pt x="83" y="1025"/>
                  </a:lnTo>
                  <a:lnTo>
                    <a:pt x="80" y="1017"/>
                  </a:lnTo>
                  <a:lnTo>
                    <a:pt x="78" y="1009"/>
                  </a:lnTo>
                  <a:lnTo>
                    <a:pt x="78" y="1000"/>
                  </a:lnTo>
                  <a:lnTo>
                    <a:pt x="78" y="991"/>
                  </a:lnTo>
                  <a:lnTo>
                    <a:pt x="79" y="982"/>
                  </a:lnTo>
                  <a:lnTo>
                    <a:pt x="83" y="974"/>
                  </a:lnTo>
                  <a:lnTo>
                    <a:pt x="86" y="967"/>
                  </a:lnTo>
                  <a:lnTo>
                    <a:pt x="98" y="950"/>
                  </a:lnTo>
                  <a:lnTo>
                    <a:pt x="111" y="933"/>
                  </a:lnTo>
                  <a:lnTo>
                    <a:pt x="126" y="919"/>
                  </a:lnTo>
                  <a:lnTo>
                    <a:pt x="141" y="903"/>
                  </a:lnTo>
                  <a:lnTo>
                    <a:pt x="157" y="890"/>
                  </a:lnTo>
                  <a:lnTo>
                    <a:pt x="174" y="877"/>
                  </a:lnTo>
                  <a:lnTo>
                    <a:pt x="191" y="863"/>
                  </a:lnTo>
                  <a:lnTo>
                    <a:pt x="207" y="851"/>
                  </a:lnTo>
                  <a:lnTo>
                    <a:pt x="219" y="843"/>
                  </a:lnTo>
                  <a:lnTo>
                    <a:pt x="231" y="837"/>
                  </a:lnTo>
                  <a:lnTo>
                    <a:pt x="245" y="830"/>
                  </a:lnTo>
                  <a:lnTo>
                    <a:pt x="258" y="825"/>
                  </a:lnTo>
                  <a:lnTo>
                    <a:pt x="271" y="819"/>
                  </a:lnTo>
                  <a:lnTo>
                    <a:pt x="284" y="815"/>
                  </a:lnTo>
                  <a:lnTo>
                    <a:pt x="297" y="812"/>
                  </a:lnTo>
                  <a:lnTo>
                    <a:pt x="312" y="808"/>
                  </a:lnTo>
                  <a:lnTo>
                    <a:pt x="330" y="806"/>
                  </a:lnTo>
                  <a:lnTo>
                    <a:pt x="348" y="803"/>
                  </a:lnTo>
                  <a:lnTo>
                    <a:pt x="366" y="802"/>
                  </a:lnTo>
                  <a:lnTo>
                    <a:pt x="384" y="802"/>
                  </a:lnTo>
                  <a:lnTo>
                    <a:pt x="402" y="802"/>
                  </a:lnTo>
                  <a:lnTo>
                    <a:pt x="421" y="802"/>
                  </a:lnTo>
                  <a:lnTo>
                    <a:pt x="439" y="802"/>
                  </a:lnTo>
                  <a:lnTo>
                    <a:pt x="457" y="802"/>
                  </a:lnTo>
                  <a:lnTo>
                    <a:pt x="483" y="802"/>
                  </a:lnTo>
                  <a:lnTo>
                    <a:pt x="509" y="803"/>
                  </a:lnTo>
                  <a:lnTo>
                    <a:pt x="535" y="803"/>
                  </a:lnTo>
                  <a:lnTo>
                    <a:pt x="561" y="805"/>
                  </a:lnTo>
                  <a:lnTo>
                    <a:pt x="587" y="805"/>
                  </a:lnTo>
                  <a:lnTo>
                    <a:pt x="613" y="806"/>
                  </a:lnTo>
                  <a:lnTo>
                    <a:pt x="638" y="807"/>
                  </a:lnTo>
                  <a:lnTo>
                    <a:pt x="665" y="808"/>
                  </a:lnTo>
                  <a:lnTo>
                    <a:pt x="684" y="809"/>
                  </a:lnTo>
                  <a:lnTo>
                    <a:pt x="702" y="812"/>
                  </a:lnTo>
                  <a:lnTo>
                    <a:pt x="721" y="813"/>
                  </a:lnTo>
                  <a:lnTo>
                    <a:pt x="740" y="815"/>
                  </a:lnTo>
                  <a:lnTo>
                    <a:pt x="759" y="818"/>
                  </a:lnTo>
                  <a:lnTo>
                    <a:pt x="779" y="819"/>
                  </a:lnTo>
                  <a:lnTo>
                    <a:pt x="798" y="820"/>
                  </a:lnTo>
                  <a:lnTo>
                    <a:pt x="817" y="820"/>
                  </a:lnTo>
                  <a:lnTo>
                    <a:pt x="828" y="821"/>
                  </a:lnTo>
                  <a:lnTo>
                    <a:pt x="839" y="821"/>
                  </a:lnTo>
                  <a:lnTo>
                    <a:pt x="851" y="821"/>
                  </a:lnTo>
                  <a:lnTo>
                    <a:pt x="861" y="821"/>
                  </a:lnTo>
                  <a:lnTo>
                    <a:pt x="873" y="821"/>
                  </a:lnTo>
                  <a:lnTo>
                    <a:pt x="883" y="819"/>
                  </a:lnTo>
                  <a:lnTo>
                    <a:pt x="893" y="814"/>
                  </a:lnTo>
                  <a:lnTo>
                    <a:pt x="902" y="808"/>
                  </a:lnTo>
                  <a:close/>
                </a:path>
              </a:pathLst>
            </a:custGeom>
            <a:solidFill>
              <a:srgbClr val="c38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25920" y="4859280"/>
              <a:ext cx="1040040" cy="893880"/>
            </a:xfrm>
            <a:custGeom>
              <a:avLst/>
              <a:gdLst/>
              <a:ahLst/>
              <a:rect l="l" t="t" r="r" b="b"/>
              <a:pathLst>
                <a:path w="2619" h="2255">
                  <a:moveTo>
                    <a:pt x="896" y="803"/>
                  </a:moveTo>
                  <a:lnTo>
                    <a:pt x="904" y="794"/>
                  </a:lnTo>
                  <a:lnTo>
                    <a:pt x="910" y="785"/>
                  </a:lnTo>
                  <a:lnTo>
                    <a:pt x="916" y="774"/>
                  </a:lnTo>
                  <a:lnTo>
                    <a:pt x="920" y="762"/>
                  </a:lnTo>
                  <a:lnTo>
                    <a:pt x="923" y="750"/>
                  </a:lnTo>
                  <a:lnTo>
                    <a:pt x="924" y="737"/>
                  </a:lnTo>
                  <a:lnTo>
                    <a:pt x="926" y="725"/>
                  </a:lnTo>
                  <a:lnTo>
                    <a:pt x="926" y="713"/>
                  </a:lnTo>
                  <a:lnTo>
                    <a:pt x="926" y="698"/>
                  </a:lnTo>
                  <a:lnTo>
                    <a:pt x="924" y="684"/>
                  </a:lnTo>
                  <a:lnTo>
                    <a:pt x="922" y="669"/>
                  </a:lnTo>
                  <a:lnTo>
                    <a:pt x="920" y="655"/>
                  </a:lnTo>
                  <a:lnTo>
                    <a:pt x="915" y="642"/>
                  </a:lnTo>
                  <a:lnTo>
                    <a:pt x="910" y="629"/>
                  </a:lnTo>
                  <a:lnTo>
                    <a:pt x="904" y="615"/>
                  </a:lnTo>
                  <a:lnTo>
                    <a:pt x="896" y="603"/>
                  </a:lnTo>
                  <a:lnTo>
                    <a:pt x="887" y="595"/>
                  </a:lnTo>
                  <a:lnTo>
                    <a:pt x="878" y="587"/>
                  </a:lnTo>
                  <a:lnTo>
                    <a:pt x="866" y="581"/>
                  </a:lnTo>
                  <a:lnTo>
                    <a:pt x="855" y="575"/>
                  </a:lnTo>
                  <a:lnTo>
                    <a:pt x="842" y="570"/>
                  </a:lnTo>
                  <a:lnTo>
                    <a:pt x="830" y="565"/>
                  </a:lnTo>
                  <a:lnTo>
                    <a:pt x="818" y="560"/>
                  </a:lnTo>
                  <a:lnTo>
                    <a:pt x="806" y="555"/>
                  </a:lnTo>
                  <a:lnTo>
                    <a:pt x="791" y="549"/>
                  </a:lnTo>
                  <a:lnTo>
                    <a:pt x="777" y="542"/>
                  </a:lnTo>
                  <a:lnTo>
                    <a:pt x="762" y="536"/>
                  </a:lnTo>
                  <a:lnTo>
                    <a:pt x="748" y="529"/>
                  </a:lnTo>
                  <a:lnTo>
                    <a:pt x="734" y="523"/>
                  </a:lnTo>
                  <a:lnTo>
                    <a:pt x="719" y="518"/>
                  </a:lnTo>
                  <a:lnTo>
                    <a:pt x="705" y="512"/>
                  </a:lnTo>
                  <a:lnTo>
                    <a:pt x="690" y="507"/>
                  </a:lnTo>
                  <a:lnTo>
                    <a:pt x="674" y="503"/>
                  </a:lnTo>
                  <a:lnTo>
                    <a:pt x="657" y="499"/>
                  </a:lnTo>
                  <a:lnTo>
                    <a:pt x="640" y="497"/>
                  </a:lnTo>
                  <a:lnTo>
                    <a:pt x="623" y="493"/>
                  </a:lnTo>
                  <a:lnTo>
                    <a:pt x="606" y="491"/>
                  </a:lnTo>
                  <a:lnTo>
                    <a:pt x="590" y="487"/>
                  </a:lnTo>
                  <a:lnTo>
                    <a:pt x="574" y="482"/>
                  </a:lnTo>
                  <a:lnTo>
                    <a:pt x="557" y="477"/>
                  </a:lnTo>
                  <a:lnTo>
                    <a:pt x="544" y="471"/>
                  </a:lnTo>
                  <a:lnTo>
                    <a:pt x="532" y="465"/>
                  </a:lnTo>
                  <a:lnTo>
                    <a:pt x="519" y="458"/>
                  </a:lnTo>
                  <a:lnTo>
                    <a:pt x="507" y="451"/>
                  </a:lnTo>
                  <a:lnTo>
                    <a:pt x="495" y="443"/>
                  </a:lnTo>
                  <a:lnTo>
                    <a:pt x="484" y="434"/>
                  </a:lnTo>
                  <a:lnTo>
                    <a:pt x="472" y="426"/>
                  </a:lnTo>
                  <a:lnTo>
                    <a:pt x="461" y="416"/>
                  </a:lnTo>
                  <a:lnTo>
                    <a:pt x="441" y="401"/>
                  </a:lnTo>
                  <a:lnTo>
                    <a:pt x="423" y="385"/>
                  </a:lnTo>
                  <a:lnTo>
                    <a:pt x="404" y="368"/>
                  </a:lnTo>
                  <a:lnTo>
                    <a:pt x="386" y="350"/>
                  </a:lnTo>
                  <a:lnTo>
                    <a:pt x="366" y="334"/>
                  </a:lnTo>
                  <a:lnTo>
                    <a:pt x="348" y="317"/>
                  </a:lnTo>
                  <a:lnTo>
                    <a:pt x="329" y="300"/>
                  </a:lnTo>
                  <a:lnTo>
                    <a:pt x="310" y="284"/>
                  </a:lnTo>
                  <a:lnTo>
                    <a:pt x="292" y="270"/>
                  </a:lnTo>
                  <a:lnTo>
                    <a:pt x="275" y="257"/>
                  </a:lnTo>
                  <a:lnTo>
                    <a:pt x="257" y="244"/>
                  </a:lnTo>
                  <a:lnTo>
                    <a:pt x="239" y="230"/>
                  </a:lnTo>
                  <a:lnTo>
                    <a:pt x="221" y="218"/>
                  </a:lnTo>
                  <a:lnTo>
                    <a:pt x="202" y="205"/>
                  </a:lnTo>
                  <a:lnTo>
                    <a:pt x="184" y="193"/>
                  </a:lnTo>
                  <a:lnTo>
                    <a:pt x="165" y="181"/>
                  </a:lnTo>
                  <a:lnTo>
                    <a:pt x="153" y="175"/>
                  </a:lnTo>
                  <a:lnTo>
                    <a:pt x="140" y="169"/>
                  </a:lnTo>
                  <a:lnTo>
                    <a:pt x="126" y="163"/>
                  </a:lnTo>
                  <a:lnTo>
                    <a:pt x="113" y="158"/>
                  </a:lnTo>
                  <a:lnTo>
                    <a:pt x="100" y="152"/>
                  </a:lnTo>
                  <a:lnTo>
                    <a:pt x="87" y="146"/>
                  </a:lnTo>
                  <a:lnTo>
                    <a:pt x="75" y="140"/>
                  </a:lnTo>
                  <a:lnTo>
                    <a:pt x="62" y="133"/>
                  </a:lnTo>
                  <a:lnTo>
                    <a:pt x="53" y="127"/>
                  </a:lnTo>
                  <a:lnTo>
                    <a:pt x="44" y="121"/>
                  </a:lnTo>
                  <a:lnTo>
                    <a:pt x="35" y="114"/>
                  </a:lnTo>
                  <a:lnTo>
                    <a:pt x="27" y="107"/>
                  </a:lnTo>
                  <a:lnTo>
                    <a:pt x="18" y="100"/>
                  </a:lnTo>
                  <a:lnTo>
                    <a:pt x="11" y="91"/>
                  </a:lnTo>
                  <a:lnTo>
                    <a:pt x="5" y="83"/>
                  </a:lnTo>
                  <a:lnTo>
                    <a:pt x="2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5" y="42"/>
                  </a:lnTo>
                  <a:lnTo>
                    <a:pt x="9" y="35"/>
                  </a:lnTo>
                  <a:lnTo>
                    <a:pt x="14" y="29"/>
                  </a:lnTo>
                  <a:lnTo>
                    <a:pt x="20" y="23"/>
                  </a:lnTo>
                  <a:lnTo>
                    <a:pt x="26" y="18"/>
                  </a:lnTo>
                  <a:lnTo>
                    <a:pt x="38" y="13"/>
                  </a:lnTo>
                  <a:lnTo>
                    <a:pt x="50" y="10"/>
                  </a:lnTo>
                  <a:lnTo>
                    <a:pt x="63" y="7"/>
                  </a:lnTo>
                  <a:lnTo>
                    <a:pt x="76" y="5"/>
                  </a:lnTo>
                  <a:lnTo>
                    <a:pt x="89" y="5"/>
                  </a:lnTo>
                  <a:lnTo>
                    <a:pt x="102" y="5"/>
                  </a:lnTo>
                  <a:lnTo>
                    <a:pt x="116" y="6"/>
                  </a:lnTo>
                  <a:lnTo>
                    <a:pt x="129" y="6"/>
                  </a:lnTo>
                  <a:lnTo>
                    <a:pt x="141" y="8"/>
                  </a:lnTo>
                  <a:lnTo>
                    <a:pt x="153" y="10"/>
                  </a:lnTo>
                  <a:lnTo>
                    <a:pt x="164" y="13"/>
                  </a:lnTo>
                  <a:lnTo>
                    <a:pt x="176" y="16"/>
                  </a:lnTo>
                  <a:lnTo>
                    <a:pt x="188" y="20"/>
                  </a:lnTo>
                  <a:lnTo>
                    <a:pt x="198" y="25"/>
                  </a:lnTo>
                  <a:lnTo>
                    <a:pt x="209" y="30"/>
                  </a:lnTo>
                  <a:lnTo>
                    <a:pt x="219" y="37"/>
                  </a:lnTo>
                  <a:lnTo>
                    <a:pt x="233" y="47"/>
                  </a:lnTo>
                  <a:lnTo>
                    <a:pt x="246" y="59"/>
                  </a:lnTo>
                  <a:lnTo>
                    <a:pt x="260" y="71"/>
                  </a:lnTo>
                  <a:lnTo>
                    <a:pt x="272" y="83"/>
                  </a:lnTo>
                  <a:lnTo>
                    <a:pt x="285" y="96"/>
                  </a:lnTo>
                  <a:lnTo>
                    <a:pt x="297" y="109"/>
                  </a:lnTo>
                  <a:lnTo>
                    <a:pt x="309" y="121"/>
                  </a:lnTo>
                  <a:lnTo>
                    <a:pt x="322" y="133"/>
                  </a:lnTo>
                  <a:lnTo>
                    <a:pt x="340" y="150"/>
                  </a:lnTo>
                  <a:lnTo>
                    <a:pt x="359" y="166"/>
                  </a:lnTo>
                  <a:lnTo>
                    <a:pt x="377" y="181"/>
                  </a:lnTo>
                  <a:lnTo>
                    <a:pt x="396" y="198"/>
                  </a:lnTo>
                  <a:lnTo>
                    <a:pt x="416" y="214"/>
                  </a:lnTo>
                  <a:lnTo>
                    <a:pt x="435" y="229"/>
                  </a:lnTo>
                  <a:lnTo>
                    <a:pt x="454" y="245"/>
                  </a:lnTo>
                  <a:lnTo>
                    <a:pt x="473" y="260"/>
                  </a:lnTo>
                  <a:lnTo>
                    <a:pt x="486" y="271"/>
                  </a:lnTo>
                  <a:lnTo>
                    <a:pt x="501" y="282"/>
                  </a:lnTo>
                  <a:lnTo>
                    <a:pt x="515" y="294"/>
                  </a:lnTo>
                  <a:lnTo>
                    <a:pt x="528" y="305"/>
                  </a:lnTo>
                  <a:lnTo>
                    <a:pt x="543" y="316"/>
                  </a:lnTo>
                  <a:lnTo>
                    <a:pt x="557" y="325"/>
                  </a:lnTo>
                  <a:lnTo>
                    <a:pt x="573" y="335"/>
                  </a:lnTo>
                  <a:lnTo>
                    <a:pt x="587" y="344"/>
                  </a:lnTo>
                  <a:lnTo>
                    <a:pt x="596" y="348"/>
                  </a:lnTo>
                  <a:lnTo>
                    <a:pt x="603" y="352"/>
                  </a:lnTo>
                  <a:lnTo>
                    <a:pt x="611" y="355"/>
                  </a:lnTo>
                  <a:lnTo>
                    <a:pt x="620" y="358"/>
                  </a:lnTo>
                  <a:lnTo>
                    <a:pt x="628" y="359"/>
                  </a:lnTo>
                  <a:lnTo>
                    <a:pt x="636" y="361"/>
                  </a:lnTo>
                  <a:lnTo>
                    <a:pt x="646" y="362"/>
                  </a:lnTo>
                  <a:lnTo>
                    <a:pt x="654" y="362"/>
                  </a:lnTo>
                  <a:lnTo>
                    <a:pt x="662" y="362"/>
                  </a:lnTo>
                  <a:lnTo>
                    <a:pt x="670" y="364"/>
                  </a:lnTo>
                  <a:lnTo>
                    <a:pt x="678" y="364"/>
                  </a:lnTo>
                  <a:lnTo>
                    <a:pt x="687" y="362"/>
                  </a:lnTo>
                  <a:lnTo>
                    <a:pt x="694" y="361"/>
                  </a:lnTo>
                  <a:lnTo>
                    <a:pt x="702" y="359"/>
                  </a:lnTo>
                  <a:lnTo>
                    <a:pt x="708" y="355"/>
                  </a:lnTo>
                  <a:lnTo>
                    <a:pt x="714" y="350"/>
                  </a:lnTo>
                  <a:lnTo>
                    <a:pt x="720" y="343"/>
                  </a:lnTo>
                  <a:lnTo>
                    <a:pt x="725" y="335"/>
                  </a:lnTo>
                  <a:lnTo>
                    <a:pt x="730" y="326"/>
                  </a:lnTo>
                  <a:lnTo>
                    <a:pt x="732" y="317"/>
                  </a:lnTo>
                  <a:lnTo>
                    <a:pt x="735" y="307"/>
                  </a:lnTo>
                  <a:lnTo>
                    <a:pt x="736" y="298"/>
                  </a:lnTo>
                  <a:lnTo>
                    <a:pt x="737" y="288"/>
                  </a:lnTo>
                  <a:lnTo>
                    <a:pt x="738" y="278"/>
                  </a:lnTo>
                  <a:lnTo>
                    <a:pt x="740" y="264"/>
                  </a:lnTo>
                  <a:lnTo>
                    <a:pt x="740" y="250"/>
                  </a:lnTo>
                  <a:lnTo>
                    <a:pt x="738" y="235"/>
                  </a:lnTo>
                  <a:lnTo>
                    <a:pt x="737" y="221"/>
                  </a:lnTo>
                  <a:lnTo>
                    <a:pt x="736" y="206"/>
                  </a:lnTo>
                  <a:lnTo>
                    <a:pt x="734" y="192"/>
                  </a:lnTo>
                  <a:lnTo>
                    <a:pt x="734" y="178"/>
                  </a:lnTo>
                  <a:lnTo>
                    <a:pt x="732" y="163"/>
                  </a:lnTo>
                  <a:lnTo>
                    <a:pt x="732" y="156"/>
                  </a:lnTo>
                  <a:lnTo>
                    <a:pt x="734" y="149"/>
                  </a:lnTo>
                  <a:lnTo>
                    <a:pt x="735" y="140"/>
                  </a:lnTo>
                  <a:lnTo>
                    <a:pt x="735" y="133"/>
                  </a:lnTo>
                  <a:lnTo>
                    <a:pt x="736" y="126"/>
                  </a:lnTo>
                  <a:lnTo>
                    <a:pt x="737" y="118"/>
                  </a:lnTo>
                  <a:lnTo>
                    <a:pt x="738" y="110"/>
                  </a:lnTo>
                  <a:lnTo>
                    <a:pt x="738" y="103"/>
                  </a:lnTo>
                  <a:lnTo>
                    <a:pt x="738" y="95"/>
                  </a:lnTo>
                  <a:lnTo>
                    <a:pt x="738" y="86"/>
                  </a:lnTo>
                  <a:lnTo>
                    <a:pt x="737" y="78"/>
                  </a:lnTo>
                  <a:lnTo>
                    <a:pt x="737" y="70"/>
                  </a:lnTo>
                  <a:lnTo>
                    <a:pt x="737" y="61"/>
                  </a:lnTo>
                  <a:lnTo>
                    <a:pt x="737" y="53"/>
                  </a:lnTo>
                  <a:lnTo>
                    <a:pt x="737" y="44"/>
                  </a:lnTo>
                  <a:lnTo>
                    <a:pt x="738" y="37"/>
                  </a:lnTo>
                  <a:lnTo>
                    <a:pt x="740" y="31"/>
                  </a:lnTo>
                  <a:lnTo>
                    <a:pt x="742" y="25"/>
                  </a:lnTo>
                  <a:lnTo>
                    <a:pt x="744" y="19"/>
                  </a:lnTo>
                  <a:lnTo>
                    <a:pt x="747" y="13"/>
                  </a:lnTo>
                  <a:lnTo>
                    <a:pt x="749" y="8"/>
                  </a:lnTo>
                  <a:lnTo>
                    <a:pt x="754" y="4"/>
                  </a:lnTo>
                  <a:lnTo>
                    <a:pt x="758" y="1"/>
                  </a:lnTo>
                  <a:lnTo>
                    <a:pt x="762" y="0"/>
                  </a:lnTo>
                  <a:lnTo>
                    <a:pt x="773" y="2"/>
                  </a:lnTo>
                  <a:lnTo>
                    <a:pt x="783" y="5"/>
                  </a:lnTo>
                  <a:lnTo>
                    <a:pt x="794" y="10"/>
                  </a:lnTo>
                  <a:lnTo>
                    <a:pt x="803" y="14"/>
                  </a:lnTo>
                  <a:lnTo>
                    <a:pt x="812" y="20"/>
                  </a:lnTo>
                  <a:lnTo>
                    <a:pt x="820" y="28"/>
                  </a:lnTo>
                  <a:lnTo>
                    <a:pt x="828" y="35"/>
                  </a:lnTo>
                  <a:lnTo>
                    <a:pt x="836" y="43"/>
                  </a:lnTo>
                  <a:lnTo>
                    <a:pt x="843" y="53"/>
                  </a:lnTo>
                  <a:lnTo>
                    <a:pt x="849" y="64"/>
                  </a:lnTo>
                  <a:lnTo>
                    <a:pt x="855" y="74"/>
                  </a:lnTo>
                  <a:lnTo>
                    <a:pt x="860" y="86"/>
                  </a:lnTo>
                  <a:lnTo>
                    <a:pt x="864" y="98"/>
                  </a:lnTo>
                  <a:lnTo>
                    <a:pt x="868" y="109"/>
                  </a:lnTo>
                  <a:lnTo>
                    <a:pt x="873" y="121"/>
                  </a:lnTo>
                  <a:lnTo>
                    <a:pt x="878" y="133"/>
                  </a:lnTo>
                  <a:lnTo>
                    <a:pt x="885" y="150"/>
                  </a:lnTo>
                  <a:lnTo>
                    <a:pt x="892" y="167"/>
                  </a:lnTo>
                  <a:lnTo>
                    <a:pt x="898" y="182"/>
                  </a:lnTo>
                  <a:lnTo>
                    <a:pt x="905" y="199"/>
                  </a:lnTo>
                  <a:lnTo>
                    <a:pt x="911" y="216"/>
                  </a:lnTo>
                  <a:lnTo>
                    <a:pt x="918" y="233"/>
                  </a:lnTo>
                  <a:lnTo>
                    <a:pt x="926" y="250"/>
                  </a:lnTo>
                  <a:lnTo>
                    <a:pt x="932" y="266"/>
                  </a:lnTo>
                  <a:lnTo>
                    <a:pt x="936" y="276"/>
                  </a:lnTo>
                  <a:lnTo>
                    <a:pt x="940" y="286"/>
                  </a:lnTo>
                  <a:lnTo>
                    <a:pt x="944" y="296"/>
                  </a:lnTo>
                  <a:lnTo>
                    <a:pt x="948" y="306"/>
                  </a:lnTo>
                  <a:lnTo>
                    <a:pt x="953" y="316"/>
                  </a:lnTo>
                  <a:lnTo>
                    <a:pt x="957" y="326"/>
                  </a:lnTo>
                  <a:lnTo>
                    <a:pt x="963" y="335"/>
                  </a:lnTo>
                  <a:lnTo>
                    <a:pt x="969" y="344"/>
                  </a:lnTo>
                  <a:lnTo>
                    <a:pt x="975" y="354"/>
                  </a:lnTo>
                  <a:lnTo>
                    <a:pt x="983" y="364"/>
                  </a:lnTo>
                  <a:lnTo>
                    <a:pt x="990" y="373"/>
                  </a:lnTo>
                  <a:lnTo>
                    <a:pt x="999" y="383"/>
                  </a:lnTo>
                  <a:lnTo>
                    <a:pt x="1008" y="391"/>
                  </a:lnTo>
                  <a:lnTo>
                    <a:pt x="1017" y="399"/>
                  </a:lnTo>
                  <a:lnTo>
                    <a:pt x="1025" y="408"/>
                  </a:lnTo>
                  <a:lnTo>
                    <a:pt x="1035" y="416"/>
                  </a:lnTo>
                  <a:lnTo>
                    <a:pt x="1046" y="427"/>
                  </a:lnTo>
                  <a:lnTo>
                    <a:pt x="1058" y="438"/>
                  </a:lnTo>
                  <a:lnTo>
                    <a:pt x="1068" y="449"/>
                  </a:lnTo>
                  <a:lnTo>
                    <a:pt x="1080" y="459"/>
                  </a:lnTo>
                  <a:lnTo>
                    <a:pt x="1092" y="470"/>
                  </a:lnTo>
                  <a:lnTo>
                    <a:pt x="1104" y="479"/>
                  </a:lnTo>
                  <a:lnTo>
                    <a:pt x="1118" y="488"/>
                  </a:lnTo>
                  <a:lnTo>
                    <a:pt x="1131" y="495"/>
                  </a:lnTo>
                  <a:lnTo>
                    <a:pt x="1143" y="500"/>
                  </a:lnTo>
                  <a:lnTo>
                    <a:pt x="1154" y="504"/>
                  </a:lnTo>
                  <a:lnTo>
                    <a:pt x="1166" y="507"/>
                  </a:lnTo>
                  <a:lnTo>
                    <a:pt x="1179" y="509"/>
                  </a:lnTo>
                  <a:lnTo>
                    <a:pt x="1191" y="511"/>
                  </a:lnTo>
                  <a:lnTo>
                    <a:pt x="1203" y="512"/>
                  </a:lnTo>
                  <a:lnTo>
                    <a:pt x="1216" y="512"/>
                  </a:lnTo>
                  <a:lnTo>
                    <a:pt x="1228" y="513"/>
                  </a:lnTo>
                  <a:lnTo>
                    <a:pt x="1244" y="513"/>
                  </a:lnTo>
                  <a:lnTo>
                    <a:pt x="1258" y="515"/>
                  </a:lnTo>
                  <a:lnTo>
                    <a:pt x="1274" y="515"/>
                  </a:lnTo>
                  <a:lnTo>
                    <a:pt x="1289" y="513"/>
                  </a:lnTo>
                  <a:lnTo>
                    <a:pt x="1304" y="513"/>
                  </a:lnTo>
                  <a:lnTo>
                    <a:pt x="1319" y="511"/>
                  </a:lnTo>
                  <a:lnTo>
                    <a:pt x="1334" y="510"/>
                  </a:lnTo>
                  <a:lnTo>
                    <a:pt x="1349" y="507"/>
                  </a:lnTo>
                  <a:lnTo>
                    <a:pt x="1359" y="505"/>
                  </a:lnTo>
                  <a:lnTo>
                    <a:pt x="1370" y="503"/>
                  </a:lnTo>
                  <a:lnTo>
                    <a:pt x="1380" y="500"/>
                  </a:lnTo>
                  <a:lnTo>
                    <a:pt x="1390" y="497"/>
                  </a:lnTo>
                  <a:lnTo>
                    <a:pt x="1400" y="493"/>
                  </a:lnTo>
                  <a:lnTo>
                    <a:pt x="1409" y="488"/>
                  </a:lnTo>
                  <a:lnTo>
                    <a:pt x="1419" y="483"/>
                  </a:lnTo>
                  <a:lnTo>
                    <a:pt x="1427" y="477"/>
                  </a:lnTo>
                  <a:lnTo>
                    <a:pt x="1436" y="470"/>
                  </a:lnTo>
                  <a:lnTo>
                    <a:pt x="1445" y="463"/>
                  </a:lnTo>
                  <a:lnTo>
                    <a:pt x="1454" y="456"/>
                  </a:lnTo>
                  <a:lnTo>
                    <a:pt x="1462" y="447"/>
                  </a:lnTo>
                  <a:lnTo>
                    <a:pt x="1469" y="439"/>
                  </a:lnTo>
                  <a:lnTo>
                    <a:pt x="1474" y="429"/>
                  </a:lnTo>
                  <a:lnTo>
                    <a:pt x="1475" y="425"/>
                  </a:lnTo>
                  <a:lnTo>
                    <a:pt x="1476" y="421"/>
                  </a:lnTo>
                  <a:lnTo>
                    <a:pt x="1476" y="416"/>
                  </a:lnTo>
                  <a:lnTo>
                    <a:pt x="1475" y="410"/>
                  </a:lnTo>
                  <a:lnTo>
                    <a:pt x="1474" y="405"/>
                  </a:lnTo>
                  <a:lnTo>
                    <a:pt x="1472" y="401"/>
                  </a:lnTo>
                  <a:lnTo>
                    <a:pt x="1468" y="397"/>
                  </a:lnTo>
                  <a:lnTo>
                    <a:pt x="1464" y="394"/>
                  </a:lnTo>
                  <a:lnTo>
                    <a:pt x="1455" y="388"/>
                  </a:lnTo>
                  <a:lnTo>
                    <a:pt x="1444" y="384"/>
                  </a:lnTo>
                  <a:lnTo>
                    <a:pt x="1432" y="379"/>
                  </a:lnTo>
                  <a:lnTo>
                    <a:pt x="1420" y="376"/>
                  </a:lnTo>
                  <a:lnTo>
                    <a:pt x="1408" y="373"/>
                  </a:lnTo>
                  <a:lnTo>
                    <a:pt x="1397" y="368"/>
                  </a:lnTo>
                  <a:lnTo>
                    <a:pt x="1384" y="364"/>
                  </a:lnTo>
                  <a:lnTo>
                    <a:pt x="1372" y="359"/>
                  </a:lnTo>
                  <a:lnTo>
                    <a:pt x="1359" y="355"/>
                  </a:lnTo>
                  <a:lnTo>
                    <a:pt x="1346" y="352"/>
                  </a:lnTo>
                  <a:lnTo>
                    <a:pt x="1332" y="348"/>
                  </a:lnTo>
                  <a:lnTo>
                    <a:pt x="1319" y="343"/>
                  </a:lnTo>
                  <a:lnTo>
                    <a:pt x="1307" y="338"/>
                  </a:lnTo>
                  <a:lnTo>
                    <a:pt x="1294" y="332"/>
                  </a:lnTo>
                  <a:lnTo>
                    <a:pt x="1287" y="328"/>
                  </a:lnTo>
                  <a:lnTo>
                    <a:pt x="1278" y="323"/>
                  </a:lnTo>
                  <a:lnTo>
                    <a:pt x="1271" y="317"/>
                  </a:lnTo>
                  <a:lnTo>
                    <a:pt x="1265" y="311"/>
                  </a:lnTo>
                  <a:lnTo>
                    <a:pt x="1258" y="305"/>
                  </a:lnTo>
                  <a:lnTo>
                    <a:pt x="1252" y="299"/>
                  </a:lnTo>
                  <a:lnTo>
                    <a:pt x="1246" y="292"/>
                  </a:lnTo>
                  <a:lnTo>
                    <a:pt x="1240" y="284"/>
                  </a:lnTo>
                  <a:lnTo>
                    <a:pt x="1235" y="277"/>
                  </a:lnTo>
                  <a:lnTo>
                    <a:pt x="1230" y="269"/>
                  </a:lnTo>
                  <a:lnTo>
                    <a:pt x="1226" y="260"/>
                  </a:lnTo>
                  <a:lnTo>
                    <a:pt x="1222" y="252"/>
                  </a:lnTo>
                  <a:lnTo>
                    <a:pt x="1218" y="244"/>
                  </a:lnTo>
                  <a:lnTo>
                    <a:pt x="1215" y="235"/>
                  </a:lnTo>
                  <a:lnTo>
                    <a:pt x="1212" y="227"/>
                  </a:lnTo>
                  <a:lnTo>
                    <a:pt x="1210" y="217"/>
                  </a:lnTo>
                  <a:lnTo>
                    <a:pt x="1209" y="211"/>
                  </a:lnTo>
                  <a:lnTo>
                    <a:pt x="1208" y="205"/>
                  </a:lnTo>
                  <a:lnTo>
                    <a:pt x="1208" y="198"/>
                  </a:lnTo>
                  <a:lnTo>
                    <a:pt x="1208" y="192"/>
                  </a:lnTo>
                  <a:lnTo>
                    <a:pt x="1208" y="185"/>
                  </a:lnTo>
                  <a:lnTo>
                    <a:pt x="1210" y="179"/>
                  </a:lnTo>
                  <a:lnTo>
                    <a:pt x="1212" y="174"/>
                  </a:lnTo>
                  <a:lnTo>
                    <a:pt x="1216" y="169"/>
                  </a:lnTo>
                  <a:lnTo>
                    <a:pt x="1222" y="164"/>
                  </a:lnTo>
                  <a:lnTo>
                    <a:pt x="1229" y="162"/>
                  </a:lnTo>
                  <a:lnTo>
                    <a:pt x="1236" y="160"/>
                  </a:lnTo>
                  <a:lnTo>
                    <a:pt x="1244" y="157"/>
                  </a:lnTo>
                  <a:lnTo>
                    <a:pt x="1252" y="157"/>
                  </a:lnTo>
                  <a:lnTo>
                    <a:pt x="1260" y="156"/>
                  </a:lnTo>
                  <a:lnTo>
                    <a:pt x="1269" y="157"/>
                  </a:lnTo>
                  <a:lnTo>
                    <a:pt x="1276" y="157"/>
                  </a:lnTo>
                  <a:lnTo>
                    <a:pt x="1287" y="158"/>
                  </a:lnTo>
                  <a:lnTo>
                    <a:pt x="1296" y="161"/>
                  </a:lnTo>
                  <a:lnTo>
                    <a:pt x="1306" y="164"/>
                  </a:lnTo>
                  <a:lnTo>
                    <a:pt x="1316" y="168"/>
                  </a:lnTo>
                  <a:lnTo>
                    <a:pt x="1325" y="172"/>
                  </a:lnTo>
                  <a:lnTo>
                    <a:pt x="1335" y="175"/>
                  </a:lnTo>
                  <a:lnTo>
                    <a:pt x="1344" y="179"/>
                  </a:lnTo>
                  <a:lnTo>
                    <a:pt x="1355" y="181"/>
                  </a:lnTo>
                  <a:lnTo>
                    <a:pt x="1367" y="184"/>
                  </a:lnTo>
                  <a:lnTo>
                    <a:pt x="1379" y="186"/>
                  </a:lnTo>
                  <a:lnTo>
                    <a:pt x="1391" y="187"/>
                  </a:lnTo>
                  <a:lnTo>
                    <a:pt x="1403" y="190"/>
                  </a:lnTo>
                  <a:lnTo>
                    <a:pt x="1415" y="191"/>
                  </a:lnTo>
                  <a:lnTo>
                    <a:pt x="1427" y="192"/>
                  </a:lnTo>
                  <a:lnTo>
                    <a:pt x="1439" y="193"/>
                  </a:lnTo>
                  <a:lnTo>
                    <a:pt x="1451" y="193"/>
                  </a:lnTo>
                  <a:lnTo>
                    <a:pt x="1466" y="194"/>
                  </a:lnTo>
                  <a:lnTo>
                    <a:pt x="1479" y="194"/>
                  </a:lnTo>
                  <a:lnTo>
                    <a:pt x="1492" y="194"/>
                  </a:lnTo>
                  <a:lnTo>
                    <a:pt x="1506" y="194"/>
                  </a:lnTo>
                  <a:lnTo>
                    <a:pt x="1520" y="194"/>
                  </a:lnTo>
                  <a:lnTo>
                    <a:pt x="1533" y="194"/>
                  </a:lnTo>
                  <a:lnTo>
                    <a:pt x="1547" y="194"/>
                  </a:lnTo>
                  <a:lnTo>
                    <a:pt x="1560" y="193"/>
                  </a:lnTo>
                  <a:lnTo>
                    <a:pt x="1569" y="193"/>
                  </a:lnTo>
                  <a:lnTo>
                    <a:pt x="1578" y="192"/>
                  </a:lnTo>
                  <a:lnTo>
                    <a:pt x="1588" y="190"/>
                  </a:lnTo>
                  <a:lnTo>
                    <a:pt x="1596" y="188"/>
                  </a:lnTo>
                  <a:lnTo>
                    <a:pt x="1606" y="187"/>
                  </a:lnTo>
                  <a:lnTo>
                    <a:pt x="1614" y="186"/>
                  </a:lnTo>
                  <a:lnTo>
                    <a:pt x="1624" y="186"/>
                  </a:lnTo>
                  <a:lnTo>
                    <a:pt x="1632" y="187"/>
                  </a:lnTo>
                  <a:lnTo>
                    <a:pt x="1641" y="190"/>
                  </a:lnTo>
                  <a:lnTo>
                    <a:pt x="1648" y="192"/>
                  </a:lnTo>
                  <a:lnTo>
                    <a:pt x="1655" y="194"/>
                  </a:lnTo>
                  <a:lnTo>
                    <a:pt x="1662" y="198"/>
                  </a:lnTo>
                  <a:lnTo>
                    <a:pt x="1670" y="202"/>
                  </a:lnTo>
                  <a:lnTo>
                    <a:pt x="1676" y="206"/>
                  </a:lnTo>
                  <a:lnTo>
                    <a:pt x="1682" y="212"/>
                  </a:lnTo>
                  <a:lnTo>
                    <a:pt x="1688" y="217"/>
                  </a:lnTo>
                  <a:lnTo>
                    <a:pt x="1691" y="224"/>
                  </a:lnTo>
                  <a:lnTo>
                    <a:pt x="1695" y="232"/>
                  </a:lnTo>
                  <a:lnTo>
                    <a:pt x="1697" y="239"/>
                  </a:lnTo>
                  <a:lnTo>
                    <a:pt x="1700" y="246"/>
                  </a:lnTo>
                  <a:lnTo>
                    <a:pt x="1701" y="254"/>
                  </a:lnTo>
                  <a:lnTo>
                    <a:pt x="1702" y="263"/>
                  </a:lnTo>
                  <a:lnTo>
                    <a:pt x="1703" y="270"/>
                  </a:lnTo>
                  <a:lnTo>
                    <a:pt x="1706" y="278"/>
                  </a:lnTo>
                  <a:lnTo>
                    <a:pt x="1710" y="299"/>
                  </a:lnTo>
                  <a:lnTo>
                    <a:pt x="1715" y="319"/>
                  </a:lnTo>
                  <a:lnTo>
                    <a:pt x="1720" y="338"/>
                  </a:lnTo>
                  <a:lnTo>
                    <a:pt x="1725" y="359"/>
                  </a:lnTo>
                  <a:lnTo>
                    <a:pt x="1730" y="379"/>
                  </a:lnTo>
                  <a:lnTo>
                    <a:pt x="1734" y="399"/>
                  </a:lnTo>
                  <a:lnTo>
                    <a:pt x="1738" y="420"/>
                  </a:lnTo>
                  <a:lnTo>
                    <a:pt x="1742" y="441"/>
                  </a:lnTo>
                  <a:lnTo>
                    <a:pt x="1744" y="459"/>
                  </a:lnTo>
                  <a:lnTo>
                    <a:pt x="1745" y="479"/>
                  </a:lnTo>
                  <a:lnTo>
                    <a:pt x="1745" y="498"/>
                  </a:lnTo>
                  <a:lnTo>
                    <a:pt x="1746" y="517"/>
                  </a:lnTo>
                  <a:lnTo>
                    <a:pt x="1746" y="535"/>
                  </a:lnTo>
                  <a:lnTo>
                    <a:pt x="1748" y="554"/>
                  </a:lnTo>
                  <a:lnTo>
                    <a:pt x="1750" y="573"/>
                  </a:lnTo>
                  <a:lnTo>
                    <a:pt x="1754" y="591"/>
                  </a:lnTo>
                  <a:lnTo>
                    <a:pt x="1756" y="605"/>
                  </a:lnTo>
                  <a:lnTo>
                    <a:pt x="1760" y="617"/>
                  </a:lnTo>
                  <a:lnTo>
                    <a:pt x="1763" y="629"/>
                  </a:lnTo>
                  <a:lnTo>
                    <a:pt x="1768" y="641"/>
                  </a:lnTo>
                  <a:lnTo>
                    <a:pt x="1774" y="653"/>
                  </a:lnTo>
                  <a:lnTo>
                    <a:pt x="1780" y="663"/>
                  </a:lnTo>
                  <a:lnTo>
                    <a:pt x="1787" y="673"/>
                  </a:lnTo>
                  <a:lnTo>
                    <a:pt x="1796" y="683"/>
                  </a:lnTo>
                  <a:lnTo>
                    <a:pt x="1802" y="687"/>
                  </a:lnTo>
                  <a:lnTo>
                    <a:pt x="1809" y="691"/>
                  </a:lnTo>
                  <a:lnTo>
                    <a:pt x="1817" y="693"/>
                  </a:lnTo>
                  <a:lnTo>
                    <a:pt x="1826" y="695"/>
                  </a:lnTo>
                  <a:lnTo>
                    <a:pt x="1834" y="695"/>
                  </a:lnTo>
                  <a:lnTo>
                    <a:pt x="1841" y="695"/>
                  </a:lnTo>
                  <a:lnTo>
                    <a:pt x="1850" y="692"/>
                  </a:lnTo>
                  <a:lnTo>
                    <a:pt x="1857" y="689"/>
                  </a:lnTo>
                  <a:lnTo>
                    <a:pt x="1870" y="678"/>
                  </a:lnTo>
                  <a:lnTo>
                    <a:pt x="1883" y="666"/>
                  </a:lnTo>
                  <a:lnTo>
                    <a:pt x="1894" y="653"/>
                  </a:lnTo>
                  <a:lnTo>
                    <a:pt x="1906" y="638"/>
                  </a:lnTo>
                  <a:lnTo>
                    <a:pt x="1916" y="624"/>
                  </a:lnTo>
                  <a:lnTo>
                    <a:pt x="1926" y="608"/>
                  </a:lnTo>
                  <a:lnTo>
                    <a:pt x="1936" y="594"/>
                  </a:lnTo>
                  <a:lnTo>
                    <a:pt x="1947" y="579"/>
                  </a:lnTo>
                  <a:lnTo>
                    <a:pt x="1960" y="561"/>
                  </a:lnTo>
                  <a:lnTo>
                    <a:pt x="1973" y="543"/>
                  </a:lnTo>
                  <a:lnTo>
                    <a:pt x="1985" y="525"/>
                  </a:lnTo>
                  <a:lnTo>
                    <a:pt x="1998" y="507"/>
                  </a:lnTo>
                  <a:lnTo>
                    <a:pt x="2010" y="489"/>
                  </a:lnTo>
                  <a:lnTo>
                    <a:pt x="2024" y="470"/>
                  </a:lnTo>
                  <a:lnTo>
                    <a:pt x="2036" y="452"/>
                  </a:lnTo>
                  <a:lnTo>
                    <a:pt x="2050" y="435"/>
                  </a:lnTo>
                  <a:lnTo>
                    <a:pt x="2060" y="422"/>
                  </a:lnTo>
                  <a:lnTo>
                    <a:pt x="2069" y="409"/>
                  </a:lnTo>
                  <a:lnTo>
                    <a:pt x="2079" y="397"/>
                  </a:lnTo>
                  <a:lnTo>
                    <a:pt x="2090" y="384"/>
                  </a:lnTo>
                  <a:lnTo>
                    <a:pt x="2100" y="372"/>
                  </a:lnTo>
                  <a:lnTo>
                    <a:pt x="2111" y="361"/>
                  </a:lnTo>
                  <a:lnTo>
                    <a:pt x="2122" y="349"/>
                  </a:lnTo>
                  <a:lnTo>
                    <a:pt x="2134" y="338"/>
                  </a:lnTo>
                  <a:lnTo>
                    <a:pt x="2140" y="332"/>
                  </a:lnTo>
                  <a:lnTo>
                    <a:pt x="2148" y="326"/>
                  </a:lnTo>
                  <a:lnTo>
                    <a:pt x="2157" y="320"/>
                  </a:lnTo>
                  <a:lnTo>
                    <a:pt x="2165" y="314"/>
                  </a:lnTo>
                  <a:lnTo>
                    <a:pt x="2172" y="311"/>
                  </a:lnTo>
                  <a:lnTo>
                    <a:pt x="2180" y="308"/>
                  </a:lnTo>
                  <a:lnTo>
                    <a:pt x="2182" y="308"/>
                  </a:lnTo>
                  <a:lnTo>
                    <a:pt x="2186" y="310"/>
                  </a:lnTo>
                  <a:lnTo>
                    <a:pt x="2187" y="311"/>
                  </a:lnTo>
                  <a:lnTo>
                    <a:pt x="2188" y="314"/>
                  </a:lnTo>
                  <a:lnTo>
                    <a:pt x="2194" y="336"/>
                  </a:lnTo>
                  <a:lnTo>
                    <a:pt x="2198" y="358"/>
                  </a:lnTo>
                  <a:lnTo>
                    <a:pt x="2199" y="379"/>
                  </a:lnTo>
                  <a:lnTo>
                    <a:pt x="2198" y="402"/>
                  </a:lnTo>
                  <a:lnTo>
                    <a:pt x="2195" y="423"/>
                  </a:lnTo>
                  <a:lnTo>
                    <a:pt x="2193" y="446"/>
                  </a:lnTo>
                  <a:lnTo>
                    <a:pt x="2188" y="468"/>
                  </a:lnTo>
                  <a:lnTo>
                    <a:pt x="2182" y="489"/>
                  </a:lnTo>
                  <a:lnTo>
                    <a:pt x="2171" y="527"/>
                  </a:lnTo>
                  <a:lnTo>
                    <a:pt x="2158" y="564"/>
                  </a:lnTo>
                  <a:lnTo>
                    <a:pt x="2144" y="600"/>
                  </a:lnTo>
                  <a:lnTo>
                    <a:pt x="2129" y="637"/>
                  </a:lnTo>
                  <a:lnTo>
                    <a:pt x="2112" y="672"/>
                  </a:lnTo>
                  <a:lnTo>
                    <a:pt x="2096" y="708"/>
                  </a:lnTo>
                  <a:lnTo>
                    <a:pt x="2079" y="744"/>
                  </a:lnTo>
                  <a:lnTo>
                    <a:pt x="2062" y="779"/>
                  </a:lnTo>
                  <a:lnTo>
                    <a:pt x="2052" y="799"/>
                  </a:lnTo>
                  <a:lnTo>
                    <a:pt x="2042" y="818"/>
                  </a:lnTo>
                  <a:lnTo>
                    <a:pt x="2032" y="837"/>
                  </a:lnTo>
                  <a:lnTo>
                    <a:pt x="2021" y="857"/>
                  </a:lnTo>
                  <a:lnTo>
                    <a:pt x="2009" y="876"/>
                  </a:lnTo>
                  <a:lnTo>
                    <a:pt x="1997" y="895"/>
                  </a:lnTo>
                  <a:lnTo>
                    <a:pt x="1984" y="912"/>
                  </a:lnTo>
                  <a:lnTo>
                    <a:pt x="1971" y="930"/>
                  </a:lnTo>
                  <a:lnTo>
                    <a:pt x="1961" y="941"/>
                  </a:lnTo>
                  <a:lnTo>
                    <a:pt x="1950" y="950"/>
                  </a:lnTo>
                  <a:lnTo>
                    <a:pt x="1940" y="959"/>
                  </a:lnTo>
                  <a:lnTo>
                    <a:pt x="1928" y="967"/>
                  </a:lnTo>
                  <a:lnTo>
                    <a:pt x="1916" y="975"/>
                  </a:lnTo>
                  <a:lnTo>
                    <a:pt x="1904" y="984"/>
                  </a:lnTo>
                  <a:lnTo>
                    <a:pt x="1892" y="993"/>
                  </a:lnTo>
                  <a:lnTo>
                    <a:pt x="1881" y="1002"/>
                  </a:lnTo>
                  <a:lnTo>
                    <a:pt x="1875" y="1007"/>
                  </a:lnTo>
                  <a:lnTo>
                    <a:pt x="1870" y="1011"/>
                  </a:lnTo>
                  <a:lnTo>
                    <a:pt x="1864" y="1016"/>
                  </a:lnTo>
                  <a:lnTo>
                    <a:pt x="1859" y="1021"/>
                  </a:lnTo>
                  <a:lnTo>
                    <a:pt x="1854" y="1027"/>
                  </a:lnTo>
                  <a:lnTo>
                    <a:pt x="1850" y="1032"/>
                  </a:lnTo>
                  <a:lnTo>
                    <a:pt x="1846" y="1038"/>
                  </a:lnTo>
                  <a:lnTo>
                    <a:pt x="1844" y="1045"/>
                  </a:lnTo>
                  <a:lnTo>
                    <a:pt x="1842" y="1052"/>
                  </a:lnTo>
                  <a:lnTo>
                    <a:pt x="1841" y="1061"/>
                  </a:lnTo>
                  <a:lnTo>
                    <a:pt x="1841" y="1069"/>
                  </a:lnTo>
                  <a:lnTo>
                    <a:pt x="1842" y="1077"/>
                  </a:lnTo>
                  <a:lnTo>
                    <a:pt x="1844" y="1086"/>
                  </a:lnTo>
                  <a:lnTo>
                    <a:pt x="1846" y="1093"/>
                  </a:lnTo>
                  <a:lnTo>
                    <a:pt x="1851" y="1100"/>
                  </a:lnTo>
                  <a:lnTo>
                    <a:pt x="1857" y="1105"/>
                  </a:lnTo>
                  <a:lnTo>
                    <a:pt x="1869" y="1111"/>
                  </a:lnTo>
                  <a:lnTo>
                    <a:pt x="1881" y="1117"/>
                  </a:lnTo>
                  <a:lnTo>
                    <a:pt x="1895" y="1121"/>
                  </a:lnTo>
                  <a:lnTo>
                    <a:pt x="1908" y="1124"/>
                  </a:lnTo>
                  <a:lnTo>
                    <a:pt x="1923" y="1125"/>
                  </a:lnTo>
                  <a:lnTo>
                    <a:pt x="1937" y="1125"/>
                  </a:lnTo>
                  <a:lnTo>
                    <a:pt x="1952" y="1124"/>
                  </a:lnTo>
                  <a:lnTo>
                    <a:pt x="1965" y="1123"/>
                  </a:lnTo>
                  <a:lnTo>
                    <a:pt x="1980" y="1119"/>
                  </a:lnTo>
                  <a:lnTo>
                    <a:pt x="1995" y="1116"/>
                  </a:lnTo>
                  <a:lnTo>
                    <a:pt x="2009" y="1111"/>
                  </a:lnTo>
                  <a:lnTo>
                    <a:pt x="2024" y="1104"/>
                  </a:lnTo>
                  <a:lnTo>
                    <a:pt x="2038" y="1097"/>
                  </a:lnTo>
                  <a:lnTo>
                    <a:pt x="2051" y="1088"/>
                  </a:lnTo>
                  <a:lnTo>
                    <a:pt x="2063" y="1079"/>
                  </a:lnTo>
                  <a:lnTo>
                    <a:pt x="2074" y="1069"/>
                  </a:lnTo>
                  <a:lnTo>
                    <a:pt x="2084" y="1058"/>
                  </a:lnTo>
                  <a:lnTo>
                    <a:pt x="2092" y="1046"/>
                  </a:lnTo>
                  <a:lnTo>
                    <a:pt x="2100" y="1035"/>
                  </a:lnTo>
                  <a:lnTo>
                    <a:pt x="2108" y="1023"/>
                  </a:lnTo>
                  <a:lnTo>
                    <a:pt x="2122" y="998"/>
                  </a:lnTo>
                  <a:lnTo>
                    <a:pt x="2136" y="973"/>
                  </a:lnTo>
                  <a:lnTo>
                    <a:pt x="2150" y="948"/>
                  </a:lnTo>
                  <a:lnTo>
                    <a:pt x="2163" y="923"/>
                  </a:lnTo>
                  <a:lnTo>
                    <a:pt x="2178" y="899"/>
                  </a:lnTo>
                  <a:lnTo>
                    <a:pt x="2194" y="876"/>
                  </a:lnTo>
                  <a:lnTo>
                    <a:pt x="2207" y="860"/>
                  </a:lnTo>
                  <a:lnTo>
                    <a:pt x="2220" y="846"/>
                  </a:lnTo>
                  <a:lnTo>
                    <a:pt x="2234" y="831"/>
                  </a:lnTo>
                  <a:lnTo>
                    <a:pt x="2248" y="817"/>
                  </a:lnTo>
                  <a:lnTo>
                    <a:pt x="2262" y="804"/>
                  </a:lnTo>
                  <a:lnTo>
                    <a:pt x="2278" y="791"/>
                  </a:lnTo>
                  <a:lnTo>
                    <a:pt x="2294" y="779"/>
                  </a:lnTo>
                  <a:lnTo>
                    <a:pt x="2309" y="767"/>
                  </a:lnTo>
                  <a:lnTo>
                    <a:pt x="2320" y="759"/>
                  </a:lnTo>
                  <a:lnTo>
                    <a:pt x="2330" y="752"/>
                  </a:lnTo>
                  <a:lnTo>
                    <a:pt x="2342" y="746"/>
                  </a:lnTo>
                  <a:lnTo>
                    <a:pt x="2352" y="740"/>
                  </a:lnTo>
                  <a:lnTo>
                    <a:pt x="2364" y="735"/>
                  </a:lnTo>
                  <a:lnTo>
                    <a:pt x="2376" y="732"/>
                  </a:lnTo>
                  <a:lnTo>
                    <a:pt x="2388" y="731"/>
                  </a:lnTo>
                  <a:lnTo>
                    <a:pt x="2400" y="731"/>
                  </a:lnTo>
                  <a:lnTo>
                    <a:pt x="2411" y="733"/>
                  </a:lnTo>
                  <a:lnTo>
                    <a:pt x="2422" y="738"/>
                  </a:lnTo>
                  <a:lnTo>
                    <a:pt x="2433" y="743"/>
                  </a:lnTo>
                  <a:lnTo>
                    <a:pt x="2442" y="750"/>
                  </a:lnTo>
                  <a:lnTo>
                    <a:pt x="2452" y="758"/>
                  </a:lnTo>
                  <a:lnTo>
                    <a:pt x="2462" y="767"/>
                  </a:lnTo>
                  <a:lnTo>
                    <a:pt x="2470" y="776"/>
                  </a:lnTo>
                  <a:lnTo>
                    <a:pt x="2478" y="785"/>
                  </a:lnTo>
                  <a:lnTo>
                    <a:pt x="2487" y="794"/>
                  </a:lnTo>
                  <a:lnTo>
                    <a:pt x="2494" y="804"/>
                  </a:lnTo>
                  <a:lnTo>
                    <a:pt x="2501" y="815"/>
                  </a:lnTo>
                  <a:lnTo>
                    <a:pt x="2508" y="825"/>
                  </a:lnTo>
                  <a:lnTo>
                    <a:pt x="2514" y="836"/>
                  </a:lnTo>
                  <a:lnTo>
                    <a:pt x="2520" y="847"/>
                  </a:lnTo>
                  <a:lnTo>
                    <a:pt x="2526" y="859"/>
                  </a:lnTo>
                  <a:lnTo>
                    <a:pt x="2532" y="870"/>
                  </a:lnTo>
                  <a:lnTo>
                    <a:pt x="2542" y="885"/>
                  </a:lnTo>
                  <a:lnTo>
                    <a:pt x="2552" y="901"/>
                  </a:lnTo>
                  <a:lnTo>
                    <a:pt x="2562" y="915"/>
                  </a:lnTo>
                  <a:lnTo>
                    <a:pt x="2572" y="931"/>
                  </a:lnTo>
                  <a:lnTo>
                    <a:pt x="2582" y="948"/>
                  </a:lnTo>
                  <a:lnTo>
                    <a:pt x="2590" y="963"/>
                  </a:lnTo>
                  <a:lnTo>
                    <a:pt x="2598" y="979"/>
                  </a:lnTo>
                  <a:lnTo>
                    <a:pt x="2606" y="996"/>
                  </a:lnTo>
                  <a:lnTo>
                    <a:pt x="2609" y="1007"/>
                  </a:lnTo>
                  <a:lnTo>
                    <a:pt x="2613" y="1016"/>
                  </a:lnTo>
                  <a:lnTo>
                    <a:pt x="2615" y="1027"/>
                  </a:lnTo>
                  <a:lnTo>
                    <a:pt x="2618" y="1038"/>
                  </a:lnTo>
                  <a:lnTo>
                    <a:pt x="2619" y="1049"/>
                  </a:lnTo>
                  <a:lnTo>
                    <a:pt x="2619" y="1059"/>
                  </a:lnTo>
                  <a:lnTo>
                    <a:pt x="2619" y="1070"/>
                  </a:lnTo>
                  <a:lnTo>
                    <a:pt x="2618" y="1081"/>
                  </a:lnTo>
                  <a:lnTo>
                    <a:pt x="2615" y="1088"/>
                  </a:lnTo>
                  <a:lnTo>
                    <a:pt x="2613" y="1095"/>
                  </a:lnTo>
                  <a:lnTo>
                    <a:pt x="2609" y="1101"/>
                  </a:lnTo>
                  <a:lnTo>
                    <a:pt x="2604" y="1109"/>
                  </a:lnTo>
                  <a:lnTo>
                    <a:pt x="2600" y="1113"/>
                  </a:lnTo>
                  <a:lnTo>
                    <a:pt x="2594" y="1118"/>
                  </a:lnTo>
                  <a:lnTo>
                    <a:pt x="2588" y="1122"/>
                  </a:lnTo>
                  <a:lnTo>
                    <a:pt x="2582" y="1123"/>
                  </a:lnTo>
                  <a:lnTo>
                    <a:pt x="2571" y="1123"/>
                  </a:lnTo>
                  <a:lnTo>
                    <a:pt x="2560" y="1121"/>
                  </a:lnTo>
                  <a:lnTo>
                    <a:pt x="2549" y="1117"/>
                  </a:lnTo>
                  <a:lnTo>
                    <a:pt x="2540" y="1112"/>
                  </a:lnTo>
                  <a:lnTo>
                    <a:pt x="2529" y="1107"/>
                  </a:lnTo>
                  <a:lnTo>
                    <a:pt x="2519" y="1100"/>
                  </a:lnTo>
                  <a:lnTo>
                    <a:pt x="2511" y="1094"/>
                  </a:lnTo>
                  <a:lnTo>
                    <a:pt x="2502" y="1087"/>
                  </a:lnTo>
                  <a:lnTo>
                    <a:pt x="2492" y="1075"/>
                  </a:lnTo>
                  <a:lnTo>
                    <a:pt x="2482" y="1063"/>
                  </a:lnTo>
                  <a:lnTo>
                    <a:pt x="2472" y="1051"/>
                  </a:lnTo>
                  <a:lnTo>
                    <a:pt x="2464" y="1038"/>
                  </a:lnTo>
                  <a:lnTo>
                    <a:pt x="2456" y="1023"/>
                  </a:lnTo>
                  <a:lnTo>
                    <a:pt x="2447" y="1010"/>
                  </a:lnTo>
                  <a:lnTo>
                    <a:pt x="2439" y="997"/>
                  </a:lnTo>
                  <a:lnTo>
                    <a:pt x="2430" y="984"/>
                  </a:lnTo>
                  <a:lnTo>
                    <a:pt x="2424" y="977"/>
                  </a:lnTo>
                  <a:lnTo>
                    <a:pt x="2418" y="968"/>
                  </a:lnTo>
                  <a:lnTo>
                    <a:pt x="2414" y="960"/>
                  </a:lnTo>
                  <a:lnTo>
                    <a:pt x="2408" y="953"/>
                  </a:lnTo>
                  <a:lnTo>
                    <a:pt x="2402" y="944"/>
                  </a:lnTo>
                  <a:lnTo>
                    <a:pt x="2396" y="937"/>
                  </a:lnTo>
                  <a:lnTo>
                    <a:pt x="2390" y="930"/>
                  </a:lnTo>
                  <a:lnTo>
                    <a:pt x="2381" y="924"/>
                  </a:lnTo>
                  <a:lnTo>
                    <a:pt x="2379" y="921"/>
                  </a:lnTo>
                  <a:lnTo>
                    <a:pt x="2374" y="920"/>
                  </a:lnTo>
                  <a:lnTo>
                    <a:pt x="2370" y="919"/>
                  </a:lnTo>
                  <a:lnTo>
                    <a:pt x="2366" y="918"/>
                  </a:lnTo>
                  <a:lnTo>
                    <a:pt x="2362" y="919"/>
                  </a:lnTo>
                  <a:lnTo>
                    <a:pt x="2357" y="919"/>
                  </a:lnTo>
                  <a:lnTo>
                    <a:pt x="2355" y="921"/>
                  </a:lnTo>
                  <a:lnTo>
                    <a:pt x="2351" y="924"/>
                  </a:lnTo>
                  <a:lnTo>
                    <a:pt x="2340" y="939"/>
                  </a:lnTo>
                  <a:lnTo>
                    <a:pt x="2331" y="957"/>
                  </a:lnTo>
                  <a:lnTo>
                    <a:pt x="2322" y="974"/>
                  </a:lnTo>
                  <a:lnTo>
                    <a:pt x="2314" y="992"/>
                  </a:lnTo>
                  <a:lnTo>
                    <a:pt x="2306" y="1010"/>
                  </a:lnTo>
                  <a:lnTo>
                    <a:pt x="2297" y="1028"/>
                  </a:lnTo>
                  <a:lnTo>
                    <a:pt x="2289" y="1045"/>
                  </a:lnTo>
                  <a:lnTo>
                    <a:pt x="2279" y="1063"/>
                  </a:lnTo>
                  <a:lnTo>
                    <a:pt x="2268" y="1080"/>
                  </a:lnTo>
                  <a:lnTo>
                    <a:pt x="2258" y="1097"/>
                  </a:lnTo>
                  <a:lnTo>
                    <a:pt x="2248" y="1113"/>
                  </a:lnTo>
                  <a:lnTo>
                    <a:pt x="2236" y="1131"/>
                  </a:lnTo>
                  <a:lnTo>
                    <a:pt x="2225" y="1147"/>
                  </a:lnTo>
                  <a:lnTo>
                    <a:pt x="2213" y="1164"/>
                  </a:lnTo>
                  <a:lnTo>
                    <a:pt x="2201" y="1179"/>
                  </a:lnTo>
                  <a:lnTo>
                    <a:pt x="2188" y="1195"/>
                  </a:lnTo>
                  <a:lnTo>
                    <a:pt x="2176" y="1209"/>
                  </a:lnTo>
                  <a:lnTo>
                    <a:pt x="2164" y="1222"/>
                  </a:lnTo>
                  <a:lnTo>
                    <a:pt x="2151" y="1236"/>
                  </a:lnTo>
                  <a:lnTo>
                    <a:pt x="2136" y="1249"/>
                  </a:lnTo>
                  <a:lnTo>
                    <a:pt x="2123" y="1262"/>
                  </a:lnTo>
                  <a:lnTo>
                    <a:pt x="2109" y="1274"/>
                  </a:lnTo>
                  <a:lnTo>
                    <a:pt x="2094" y="1286"/>
                  </a:lnTo>
                  <a:lnTo>
                    <a:pt x="2080" y="1298"/>
                  </a:lnTo>
                  <a:lnTo>
                    <a:pt x="2069" y="1305"/>
                  </a:lnTo>
                  <a:lnTo>
                    <a:pt x="2058" y="1314"/>
                  </a:lnTo>
                  <a:lnTo>
                    <a:pt x="2048" y="1321"/>
                  </a:lnTo>
                  <a:lnTo>
                    <a:pt x="2037" y="1328"/>
                  </a:lnTo>
                  <a:lnTo>
                    <a:pt x="2025" y="1335"/>
                  </a:lnTo>
                  <a:lnTo>
                    <a:pt x="2013" y="1341"/>
                  </a:lnTo>
                  <a:lnTo>
                    <a:pt x="2001" y="1347"/>
                  </a:lnTo>
                  <a:lnTo>
                    <a:pt x="1989" y="1352"/>
                  </a:lnTo>
                  <a:lnTo>
                    <a:pt x="1978" y="1356"/>
                  </a:lnTo>
                  <a:lnTo>
                    <a:pt x="1967" y="1358"/>
                  </a:lnTo>
                  <a:lnTo>
                    <a:pt x="1955" y="1360"/>
                  </a:lnTo>
                  <a:lnTo>
                    <a:pt x="1944" y="1362"/>
                  </a:lnTo>
                  <a:lnTo>
                    <a:pt x="1932" y="1364"/>
                  </a:lnTo>
                  <a:lnTo>
                    <a:pt x="1922" y="1365"/>
                  </a:lnTo>
                  <a:lnTo>
                    <a:pt x="1910" y="1368"/>
                  </a:lnTo>
                  <a:lnTo>
                    <a:pt x="1899" y="1370"/>
                  </a:lnTo>
                  <a:lnTo>
                    <a:pt x="1892" y="1372"/>
                  </a:lnTo>
                  <a:lnTo>
                    <a:pt x="1883" y="1374"/>
                  </a:lnTo>
                  <a:lnTo>
                    <a:pt x="1876" y="1376"/>
                  </a:lnTo>
                  <a:lnTo>
                    <a:pt x="1868" y="1377"/>
                  </a:lnTo>
                  <a:lnTo>
                    <a:pt x="1860" y="1381"/>
                  </a:lnTo>
                  <a:lnTo>
                    <a:pt x="1854" y="1384"/>
                  </a:lnTo>
                  <a:lnTo>
                    <a:pt x="1848" y="1388"/>
                  </a:lnTo>
                  <a:lnTo>
                    <a:pt x="1844" y="1394"/>
                  </a:lnTo>
                  <a:lnTo>
                    <a:pt x="1842" y="1400"/>
                  </a:lnTo>
                  <a:lnTo>
                    <a:pt x="1842" y="1405"/>
                  </a:lnTo>
                  <a:lnTo>
                    <a:pt x="1844" y="1411"/>
                  </a:lnTo>
                  <a:lnTo>
                    <a:pt x="1846" y="1417"/>
                  </a:lnTo>
                  <a:lnTo>
                    <a:pt x="1850" y="1422"/>
                  </a:lnTo>
                  <a:lnTo>
                    <a:pt x="1854" y="1428"/>
                  </a:lnTo>
                  <a:lnTo>
                    <a:pt x="1858" y="1432"/>
                  </a:lnTo>
                  <a:lnTo>
                    <a:pt x="1863" y="1436"/>
                  </a:lnTo>
                  <a:lnTo>
                    <a:pt x="1872" y="1446"/>
                  </a:lnTo>
                  <a:lnTo>
                    <a:pt x="1883" y="1453"/>
                  </a:lnTo>
                  <a:lnTo>
                    <a:pt x="1894" y="1459"/>
                  </a:lnTo>
                  <a:lnTo>
                    <a:pt x="1906" y="1466"/>
                  </a:lnTo>
                  <a:lnTo>
                    <a:pt x="1917" y="1472"/>
                  </a:lnTo>
                  <a:lnTo>
                    <a:pt x="1928" y="1479"/>
                  </a:lnTo>
                  <a:lnTo>
                    <a:pt x="1938" y="1488"/>
                  </a:lnTo>
                  <a:lnTo>
                    <a:pt x="1947" y="1497"/>
                  </a:lnTo>
                  <a:lnTo>
                    <a:pt x="1956" y="1509"/>
                  </a:lnTo>
                  <a:lnTo>
                    <a:pt x="1964" y="1522"/>
                  </a:lnTo>
                  <a:lnTo>
                    <a:pt x="1971" y="1536"/>
                  </a:lnTo>
                  <a:lnTo>
                    <a:pt x="1977" y="1549"/>
                  </a:lnTo>
                  <a:lnTo>
                    <a:pt x="1983" y="1563"/>
                  </a:lnTo>
                  <a:lnTo>
                    <a:pt x="1989" y="1578"/>
                  </a:lnTo>
                  <a:lnTo>
                    <a:pt x="1995" y="1592"/>
                  </a:lnTo>
                  <a:lnTo>
                    <a:pt x="2001" y="1605"/>
                  </a:lnTo>
                  <a:lnTo>
                    <a:pt x="2009" y="1624"/>
                  </a:lnTo>
                  <a:lnTo>
                    <a:pt x="2018" y="1645"/>
                  </a:lnTo>
                  <a:lnTo>
                    <a:pt x="2025" y="1665"/>
                  </a:lnTo>
                  <a:lnTo>
                    <a:pt x="2032" y="1684"/>
                  </a:lnTo>
                  <a:lnTo>
                    <a:pt x="2040" y="1704"/>
                  </a:lnTo>
                  <a:lnTo>
                    <a:pt x="2050" y="1723"/>
                  </a:lnTo>
                  <a:lnTo>
                    <a:pt x="2055" y="1732"/>
                  </a:lnTo>
                  <a:lnTo>
                    <a:pt x="2061" y="1741"/>
                  </a:lnTo>
                  <a:lnTo>
                    <a:pt x="2067" y="1749"/>
                  </a:lnTo>
                  <a:lnTo>
                    <a:pt x="2074" y="1756"/>
                  </a:lnTo>
                  <a:lnTo>
                    <a:pt x="2081" y="1765"/>
                  </a:lnTo>
                  <a:lnTo>
                    <a:pt x="2090" y="1772"/>
                  </a:lnTo>
                  <a:lnTo>
                    <a:pt x="2099" y="1779"/>
                  </a:lnTo>
                  <a:lnTo>
                    <a:pt x="2108" y="1785"/>
                  </a:lnTo>
                  <a:lnTo>
                    <a:pt x="2128" y="1797"/>
                  </a:lnTo>
                  <a:lnTo>
                    <a:pt x="2147" y="1808"/>
                  </a:lnTo>
                  <a:lnTo>
                    <a:pt x="2169" y="1818"/>
                  </a:lnTo>
                  <a:lnTo>
                    <a:pt x="2189" y="1827"/>
                  </a:lnTo>
                  <a:lnTo>
                    <a:pt x="2210" y="1837"/>
                  </a:lnTo>
                  <a:lnTo>
                    <a:pt x="2231" y="1846"/>
                  </a:lnTo>
                  <a:lnTo>
                    <a:pt x="2246" y="1854"/>
                  </a:lnTo>
                  <a:lnTo>
                    <a:pt x="2261" y="1860"/>
                  </a:lnTo>
                  <a:lnTo>
                    <a:pt x="2276" y="1864"/>
                  </a:lnTo>
                  <a:lnTo>
                    <a:pt x="2291" y="1870"/>
                  </a:lnTo>
                  <a:lnTo>
                    <a:pt x="2307" y="1875"/>
                  </a:lnTo>
                  <a:lnTo>
                    <a:pt x="2322" y="1881"/>
                  </a:lnTo>
                  <a:lnTo>
                    <a:pt x="2337" y="1887"/>
                  </a:lnTo>
                  <a:lnTo>
                    <a:pt x="2351" y="1895"/>
                  </a:lnTo>
                  <a:lnTo>
                    <a:pt x="2358" y="1899"/>
                  </a:lnTo>
                  <a:lnTo>
                    <a:pt x="2366" y="1904"/>
                  </a:lnTo>
                  <a:lnTo>
                    <a:pt x="2372" y="1910"/>
                  </a:lnTo>
                  <a:lnTo>
                    <a:pt x="2378" y="1916"/>
                  </a:lnTo>
                  <a:lnTo>
                    <a:pt x="2384" y="1922"/>
                  </a:lnTo>
                  <a:lnTo>
                    <a:pt x="2387" y="1929"/>
                  </a:lnTo>
                  <a:lnTo>
                    <a:pt x="2391" y="1936"/>
                  </a:lnTo>
                  <a:lnTo>
                    <a:pt x="2394" y="1943"/>
                  </a:lnTo>
                  <a:lnTo>
                    <a:pt x="2396" y="1953"/>
                  </a:lnTo>
                  <a:lnTo>
                    <a:pt x="2398" y="1964"/>
                  </a:lnTo>
                  <a:lnTo>
                    <a:pt x="2399" y="1975"/>
                  </a:lnTo>
                  <a:lnTo>
                    <a:pt x="2399" y="1985"/>
                  </a:lnTo>
                  <a:lnTo>
                    <a:pt x="2397" y="1995"/>
                  </a:lnTo>
                  <a:lnTo>
                    <a:pt x="2394" y="2005"/>
                  </a:lnTo>
                  <a:lnTo>
                    <a:pt x="2392" y="2008"/>
                  </a:lnTo>
                  <a:lnTo>
                    <a:pt x="2390" y="2011"/>
                  </a:lnTo>
                  <a:lnTo>
                    <a:pt x="2386" y="2014"/>
                  </a:lnTo>
                  <a:lnTo>
                    <a:pt x="2381" y="2015"/>
                  </a:lnTo>
                  <a:lnTo>
                    <a:pt x="2374" y="2018"/>
                  </a:lnTo>
                  <a:lnTo>
                    <a:pt x="2367" y="2020"/>
                  </a:lnTo>
                  <a:lnTo>
                    <a:pt x="2358" y="2021"/>
                  </a:lnTo>
                  <a:lnTo>
                    <a:pt x="2351" y="2021"/>
                  </a:lnTo>
                  <a:lnTo>
                    <a:pt x="2336" y="2020"/>
                  </a:lnTo>
                  <a:lnTo>
                    <a:pt x="2319" y="2017"/>
                  </a:lnTo>
                  <a:lnTo>
                    <a:pt x="2303" y="2013"/>
                  </a:lnTo>
                  <a:lnTo>
                    <a:pt x="2286" y="2007"/>
                  </a:lnTo>
                  <a:lnTo>
                    <a:pt x="2271" y="2002"/>
                  </a:lnTo>
                  <a:lnTo>
                    <a:pt x="2255" y="1997"/>
                  </a:lnTo>
                  <a:lnTo>
                    <a:pt x="2237" y="1993"/>
                  </a:lnTo>
                  <a:lnTo>
                    <a:pt x="2220" y="1987"/>
                  </a:lnTo>
                  <a:lnTo>
                    <a:pt x="2204" y="1979"/>
                  </a:lnTo>
                  <a:lnTo>
                    <a:pt x="2188" y="1973"/>
                  </a:lnTo>
                  <a:lnTo>
                    <a:pt x="2171" y="1965"/>
                  </a:lnTo>
                  <a:lnTo>
                    <a:pt x="2154" y="1958"/>
                  </a:lnTo>
                  <a:lnTo>
                    <a:pt x="2139" y="1951"/>
                  </a:lnTo>
                  <a:lnTo>
                    <a:pt x="2122" y="1943"/>
                  </a:lnTo>
                  <a:lnTo>
                    <a:pt x="2102" y="1935"/>
                  </a:lnTo>
                  <a:lnTo>
                    <a:pt x="2081" y="1927"/>
                  </a:lnTo>
                  <a:lnTo>
                    <a:pt x="2062" y="1919"/>
                  </a:lnTo>
                  <a:lnTo>
                    <a:pt x="2042" y="1911"/>
                  </a:lnTo>
                  <a:lnTo>
                    <a:pt x="2021" y="1903"/>
                  </a:lnTo>
                  <a:lnTo>
                    <a:pt x="2002" y="1893"/>
                  </a:lnTo>
                  <a:lnTo>
                    <a:pt x="1983" y="1882"/>
                  </a:lnTo>
                  <a:lnTo>
                    <a:pt x="1965" y="1872"/>
                  </a:lnTo>
                  <a:lnTo>
                    <a:pt x="1952" y="1861"/>
                  </a:lnTo>
                  <a:lnTo>
                    <a:pt x="1940" y="1850"/>
                  </a:lnTo>
                  <a:lnTo>
                    <a:pt x="1928" y="1838"/>
                  </a:lnTo>
                  <a:lnTo>
                    <a:pt x="1917" y="1825"/>
                  </a:lnTo>
                  <a:lnTo>
                    <a:pt x="1906" y="1812"/>
                  </a:lnTo>
                  <a:lnTo>
                    <a:pt x="1896" y="1797"/>
                  </a:lnTo>
                  <a:lnTo>
                    <a:pt x="1888" y="1783"/>
                  </a:lnTo>
                  <a:lnTo>
                    <a:pt x="1881" y="1768"/>
                  </a:lnTo>
                  <a:lnTo>
                    <a:pt x="1876" y="1758"/>
                  </a:lnTo>
                  <a:lnTo>
                    <a:pt x="1874" y="1747"/>
                  </a:lnTo>
                  <a:lnTo>
                    <a:pt x="1874" y="1736"/>
                  </a:lnTo>
                  <a:lnTo>
                    <a:pt x="1872" y="1724"/>
                  </a:lnTo>
                  <a:lnTo>
                    <a:pt x="1872" y="1712"/>
                  </a:lnTo>
                  <a:lnTo>
                    <a:pt x="1872" y="1700"/>
                  </a:lnTo>
                  <a:lnTo>
                    <a:pt x="1871" y="1689"/>
                  </a:lnTo>
                  <a:lnTo>
                    <a:pt x="1869" y="1678"/>
                  </a:lnTo>
                  <a:lnTo>
                    <a:pt x="1865" y="1668"/>
                  </a:lnTo>
                  <a:lnTo>
                    <a:pt x="1862" y="1658"/>
                  </a:lnTo>
                  <a:lnTo>
                    <a:pt x="1857" y="1648"/>
                  </a:lnTo>
                  <a:lnTo>
                    <a:pt x="1852" y="1639"/>
                  </a:lnTo>
                  <a:lnTo>
                    <a:pt x="1847" y="1629"/>
                  </a:lnTo>
                  <a:lnTo>
                    <a:pt x="1840" y="1621"/>
                  </a:lnTo>
                  <a:lnTo>
                    <a:pt x="1834" y="1612"/>
                  </a:lnTo>
                  <a:lnTo>
                    <a:pt x="1826" y="1605"/>
                  </a:lnTo>
                  <a:lnTo>
                    <a:pt x="1821" y="1603"/>
                  </a:lnTo>
                  <a:lnTo>
                    <a:pt x="1815" y="1599"/>
                  </a:lnTo>
                  <a:lnTo>
                    <a:pt x="1808" y="1598"/>
                  </a:lnTo>
                  <a:lnTo>
                    <a:pt x="1802" y="1598"/>
                  </a:lnTo>
                  <a:lnTo>
                    <a:pt x="1794" y="1598"/>
                  </a:lnTo>
                  <a:lnTo>
                    <a:pt x="1788" y="1599"/>
                  </a:lnTo>
                  <a:lnTo>
                    <a:pt x="1782" y="1602"/>
                  </a:lnTo>
                  <a:lnTo>
                    <a:pt x="1778" y="1605"/>
                  </a:lnTo>
                  <a:lnTo>
                    <a:pt x="1772" y="1612"/>
                  </a:lnTo>
                  <a:lnTo>
                    <a:pt x="1767" y="1621"/>
                  </a:lnTo>
                  <a:lnTo>
                    <a:pt x="1763" y="1629"/>
                  </a:lnTo>
                  <a:lnTo>
                    <a:pt x="1760" y="1639"/>
                  </a:lnTo>
                  <a:lnTo>
                    <a:pt x="1757" y="1648"/>
                  </a:lnTo>
                  <a:lnTo>
                    <a:pt x="1756" y="1658"/>
                  </a:lnTo>
                  <a:lnTo>
                    <a:pt x="1755" y="1669"/>
                  </a:lnTo>
                  <a:lnTo>
                    <a:pt x="1754" y="1678"/>
                  </a:lnTo>
                  <a:lnTo>
                    <a:pt x="1752" y="1699"/>
                  </a:lnTo>
                  <a:lnTo>
                    <a:pt x="1751" y="1719"/>
                  </a:lnTo>
                  <a:lnTo>
                    <a:pt x="1751" y="1738"/>
                  </a:lnTo>
                  <a:lnTo>
                    <a:pt x="1751" y="1759"/>
                  </a:lnTo>
                  <a:lnTo>
                    <a:pt x="1751" y="1779"/>
                  </a:lnTo>
                  <a:lnTo>
                    <a:pt x="1752" y="1800"/>
                  </a:lnTo>
                  <a:lnTo>
                    <a:pt x="1752" y="1820"/>
                  </a:lnTo>
                  <a:lnTo>
                    <a:pt x="1754" y="1840"/>
                  </a:lnTo>
                  <a:lnTo>
                    <a:pt x="1755" y="1857"/>
                  </a:lnTo>
                  <a:lnTo>
                    <a:pt x="1756" y="1873"/>
                  </a:lnTo>
                  <a:lnTo>
                    <a:pt x="1757" y="1888"/>
                  </a:lnTo>
                  <a:lnTo>
                    <a:pt x="1760" y="1904"/>
                  </a:lnTo>
                  <a:lnTo>
                    <a:pt x="1761" y="1921"/>
                  </a:lnTo>
                  <a:lnTo>
                    <a:pt x="1761" y="1936"/>
                  </a:lnTo>
                  <a:lnTo>
                    <a:pt x="1761" y="1952"/>
                  </a:lnTo>
                  <a:lnTo>
                    <a:pt x="1760" y="1967"/>
                  </a:lnTo>
                  <a:lnTo>
                    <a:pt x="1757" y="1979"/>
                  </a:lnTo>
                  <a:lnTo>
                    <a:pt x="1754" y="1991"/>
                  </a:lnTo>
                  <a:lnTo>
                    <a:pt x="1749" y="2002"/>
                  </a:lnTo>
                  <a:lnTo>
                    <a:pt x="1744" y="2013"/>
                  </a:lnTo>
                  <a:lnTo>
                    <a:pt x="1739" y="2025"/>
                  </a:lnTo>
                  <a:lnTo>
                    <a:pt x="1733" y="2036"/>
                  </a:lnTo>
                  <a:lnTo>
                    <a:pt x="1728" y="2047"/>
                  </a:lnTo>
                  <a:lnTo>
                    <a:pt x="1724" y="2059"/>
                  </a:lnTo>
                  <a:lnTo>
                    <a:pt x="1719" y="2072"/>
                  </a:lnTo>
                  <a:lnTo>
                    <a:pt x="1714" y="2086"/>
                  </a:lnTo>
                  <a:lnTo>
                    <a:pt x="1709" y="2099"/>
                  </a:lnTo>
                  <a:lnTo>
                    <a:pt x="1706" y="2114"/>
                  </a:lnTo>
                  <a:lnTo>
                    <a:pt x="1701" y="2128"/>
                  </a:lnTo>
                  <a:lnTo>
                    <a:pt x="1695" y="2141"/>
                  </a:lnTo>
                  <a:lnTo>
                    <a:pt x="1689" y="2155"/>
                  </a:lnTo>
                  <a:lnTo>
                    <a:pt x="1682" y="2167"/>
                  </a:lnTo>
                  <a:lnTo>
                    <a:pt x="1673" y="2177"/>
                  </a:lnTo>
                  <a:lnTo>
                    <a:pt x="1665" y="2187"/>
                  </a:lnTo>
                  <a:lnTo>
                    <a:pt x="1655" y="2195"/>
                  </a:lnTo>
                  <a:lnTo>
                    <a:pt x="1646" y="2204"/>
                  </a:lnTo>
                  <a:lnTo>
                    <a:pt x="1635" y="2212"/>
                  </a:lnTo>
                  <a:lnTo>
                    <a:pt x="1624" y="2219"/>
                  </a:lnTo>
                  <a:lnTo>
                    <a:pt x="1613" y="2227"/>
                  </a:lnTo>
                  <a:lnTo>
                    <a:pt x="1602" y="2233"/>
                  </a:lnTo>
                  <a:lnTo>
                    <a:pt x="1595" y="2237"/>
                  </a:lnTo>
                  <a:lnTo>
                    <a:pt x="1588" y="2242"/>
                  </a:lnTo>
                  <a:lnTo>
                    <a:pt x="1580" y="2247"/>
                  </a:lnTo>
                  <a:lnTo>
                    <a:pt x="1572" y="2251"/>
                  </a:lnTo>
                  <a:lnTo>
                    <a:pt x="1564" y="2253"/>
                  </a:lnTo>
                  <a:lnTo>
                    <a:pt x="1557" y="2255"/>
                  </a:lnTo>
                  <a:lnTo>
                    <a:pt x="1553" y="2254"/>
                  </a:lnTo>
                  <a:lnTo>
                    <a:pt x="1548" y="2254"/>
                  </a:lnTo>
                  <a:lnTo>
                    <a:pt x="1546" y="2253"/>
                  </a:lnTo>
                  <a:lnTo>
                    <a:pt x="1542" y="2251"/>
                  </a:lnTo>
                  <a:lnTo>
                    <a:pt x="1534" y="2245"/>
                  </a:lnTo>
                  <a:lnTo>
                    <a:pt x="1528" y="2236"/>
                  </a:lnTo>
                  <a:lnTo>
                    <a:pt x="1522" y="2227"/>
                  </a:lnTo>
                  <a:lnTo>
                    <a:pt x="1518" y="2217"/>
                  </a:lnTo>
                  <a:lnTo>
                    <a:pt x="1515" y="2206"/>
                  </a:lnTo>
                  <a:lnTo>
                    <a:pt x="1514" y="2194"/>
                  </a:lnTo>
                  <a:lnTo>
                    <a:pt x="1512" y="2183"/>
                  </a:lnTo>
                  <a:lnTo>
                    <a:pt x="1512" y="2173"/>
                  </a:lnTo>
                  <a:lnTo>
                    <a:pt x="1512" y="2157"/>
                  </a:lnTo>
                  <a:lnTo>
                    <a:pt x="1515" y="2141"/>
                  </a:lnTo>
                  <a:lnTo>
                    <a:pt x="1517" y="2127"/>
                  </a:lnTo>
                  <a:lnTo>
                    <a:pt x="1522" y="2111"/>
                  </a:lnTo>
                  <a:lnTo>
                    <a:pt x="1527" y="2097"/>
                  </a:lnTo>
                  <a:lnTo>
                    <a:pt x="1532" y="2081"/>
                  </a:lnTo>
                  <a:lnTo>
                    <a:pt x="1536" y="2067"/>
                  </a:lnTo>
                  <a:lnTo>
                    <a:pt x="1542" y="2051"/>
                  </a:lnTo>
                  <a:lnTo>
                    <a:pt x="1547" y="2039"/>
                  </a:lnTo>
                  <a:lnTo>
                    <a:pt x="1553" y="2027"/>
                  </a:lnTo>
                  <a:lnTo>
                    <a:pt x="1560" y="2015"/>
                  </a:lnTo>
                  <a:lnTo>
                    <a:pt x="1568" y="2005"/>
                  </a:lnTo>
                  <a:lnTo>
                    <a:pt x="1575" y="1993"/>
                  </a:lnTo>
                  <a:lnTo>
                    <a:pt x="1581" y="1981"/>
                  </a:lnTo>
                  <a:lnTo>
                    <a:pt x="1587" y="1969"/>
                  </a:lnTo>
                  <a:lnTo>
                    <a:pt x="1590" y="1955"/>
                  </a:lnTo>
                  <a:lnTo>
                    <a:pt x="1595" y="1934"/>
                  </a:lnTo>
                  <a:lnTo>
                    <a:pt x="1600" y="1912"/>
                  </a:lnTo>
                  <a:lnTo>
                    <a:pt x="1602" y="1891"/>
                  </a:lnTo>
                  <a:lnTo>
                    <a:pt x="1606" y="1869"/>
                  </a:lnTo>
                  <a:lnTo>
                    <a:pt x="1607" y="1846"/>
                  </a:lnTo>
                  <a:lnTo>
                    <a:pt x="1608" y="1825"/>
                  </a:lnTo>
                  <a:lnTo>
                    <a:pt x="1610" y="1803"/>
                  </a:lnTo>
                  <a:lnTo>
                    <a:pt x="1608" y="1780"/>
                  </a:lnTo>
                  <a:lnTo>
                    <a:pt x="1607" y="1766"/>
                  </a:lnTo>
                  <a:lnTo>
                    <a:pt x="1606" y="1753"/>
                  </a:lnTo>
                  <a:lnTo>
                    <a:pt x="1604" y="1738"/>
                  </a:lnTo>
                  <a:lnTo>
                    <a:pt x="1600" y="1724"/>
                  </a:lnTo>
                  <a:lnTo>
                    <a:pt x="1595" y="1711"/>
                  </a:lnTo>
                  <a:lnTo>
                    <a:pt x="1590" y="1698"/>
                  </a:lnTo>
                  <a:lnTo>
                    <a:pt x="1584" y="1684"/>
                  </a:lnTo>
                  <a:lnTo>
                    <a:pt x="1578" y="1672"/>
                  </a:lnTo>
                  <a:lnTo>
                    <a:pt x="1574" y="1664"/>
                  </a:lnTo>
                  <a:lnTo>
                    <a:pt x="1569" y="1657"/>
                  </a:lnTo>
                  <a:lnTo>
                    <a:pt x="1563" y="1651"/>
                  </a:lnTo>
                  <a:lnTo>
                    <a:pt x="1556" y="1644"/>
                  </a:lnTo>
                  <a:lnTo>
                    <a:pt x="1548" y="1639"/>
                  </a:lnTo>
                  <a:lnTo>
                    <a:pt x="1540" y="1634"/>
                  </a:lnTo>
                  <a:lnTo>
                    <a:pt x="1533" y="1632"/>
                  </a:lnTo>
                  <a:lnTo>
                    <a:pt x="1524" y="1629"/>
                  </a:lnTo>
                  <a:lnTo>
                    <a:pt x="1514" y="1629"/>
                  </a:lnTo>
                  <a:lnTo>
                    <a:pt x="1504" y="1630"/>
                  </a:lnTo>
                  <a:lnTo>
                    <a:pt x="1494" y="1633"/>
                  </a:lnTo>
                  <a:lnTo>
                    <a:pt x="1485" y="1636"/>
                  </a:lnTo>
                  <a:lnTo>
                    <a:pt x="1475" y="1641"/>
                  </a:lnTo>
                  <a:lnTo>
                    <a:pt x="1467" y="1647"/>
                  </a:lnTo>
                  <a:lnTo>
                    <a:pt x="1458" y="1653"/>
                  </a:lnTo>
                  <a:lnTo>
                    <a:pt x="1451" y="1660"/>
                  </a:lnTo>
                  <a:lnTo>
                    <a:pt x="1442" y="1671"/>
                  </a:lnTo>
                  <a:lnTo>
                    <a:pt x="1434" y="1684"/>
                  </a:lnTo>
                  <a:lnTo>
                    <a:pt x="1427" y="1698"/>
                  </a:lnTo>
                  <a:lnTo>
                    <a:pt x="1421" y="1712"/>
                  </a:lnTo>
                  <a:lnTo>
                    <a:pt x="1415" y="1726"/>
                  </a:lnTo>
                  <a:lnTo>
                    <a:pt x="1409" y="1741"/>
                  </a:lnTo>
                  <a:lnTo>
                    <a:pt x="1403" y="1755"/>
                  </a:lnTo>
                  <a:lnTo>
                    <a:pt x="1397" y="1768"/>
                  </a:lnTo>
                  <a:lnTo>
                    <a:pt x="1386" y="1790"/>
                  </a:lnTo>
                  <a:lnTo>
                    <a:pt x="1376" y="1813"/>
                  </a:lnTo>
                  <a:lnTo>
                    <a:pt x="1365" y="1834"/>
                  </a:lnTo>
                  <a:lnTo>
                    <a:pt x="1354" y="1857"/>
                  </a:lnTo>
                  <a:lnTo>
                    <a:pt x="1342" y="1879"/>
                  </a:lnTo>
                  <a:lnTo>
                    <a:pt x="1331" y="1900"/>
                  </a:lnTo>
                  <a:lnTo>
                    <a:pt x="1319" y="1922"/>
                  </a:lnTo>
                  <a:lnTo>
                    <a:pt x="1306" y="1943"/>
                  </a:lnTo>
                  <a:lnTo>
                    <a:pt x="1294" y="1963"/>
                  </a:lnTo>
                  <a:lnTo>
                    <a:pt x="1282" y="1982"/>
                  </a:lnTo>
                  <a:lnTo>
                    <a:pt x="1270" y="2001"/>
                  </a:lnTo>
                  <a:lnTo>
                    <a:pt x="1257" y="2019"/>
                  </a:lnTo>
                  <a:lnTo>
                    <a:pt x="1242" y="2037"/>
                  </a:lnTo>
                  <a:lnTo>
                    <a:pt x="1229" y="2055"/>
                  </a:lnTo>
                  <a:lnTo>
                    <a:pt x="1214" y="2072"/>
                  </a:lnTo>
                  <a:lnTo>
                    <a:pt x="1198" y="2089"/>
                  </a:lnTo>
                  <a:lnTo>
                    <a:pt x="1181" y="2103"/>
                  </a:lnTo>
                  <a:lnTo>
                    <a:pt x="1163" y="2119"/>
                  </a:lnTo>
                  <a:lnTo>
                    <a:pt x="1145" y="2132"/>
                  </a:lnTo>
                  <a:lnTo>
                    <a:pt x="1126" y="2145"/>
                  </a:lnTo>
                  <a:lnTo>
                    <a:pt x="1107" y="2158"/>
                  </a:lnTo>
                  <a:lnTo>
                    <a:pt x="1088" y="2169"/>
                  </a:lnTo>
                  <a:lnTo>
                    <a:pt x="1067" y="2181"/>
                  </a:lnTo>
                  <a:lnTo>
                    <a:pt x="1047" y="2191"/>
                  </a:lnTo>
                  <a:lnTo>
                    <a:pt x="1031" y="2198"/>
                  </a:lnTo>
                  <a:lnTo>
                    <a:pt x="1014" y="2204"/>
                  </a:lnTo>
                  <a:lnTo>
                    <a:pt x="999" y="2210"/>
                  </a:lnTo>
                  <a:lnTo>
                    <a:pt x="982" y="2215"/>
                  </a:lnTo>
                  <a:lnTo>
                    <a:pt x="965" y="2218"/>
                  </a:lnTo>
                  <a:lnTo>
                    <a:pt x="948" y="2222"/>
                  </a:lnTo>
                  <a:lnTo>
                    <a:pt x="930" y="2224"/>
                  </a:lnTo>
                  <a:lnTo>
                    <a:pt x="914" y="2227"/>
                  </a:lnTo>
                  <a:lnTo>
                    <a:pt x="908" y="2228"/>
                  </a:lnTo>
                  <a:lnTo>
                    <a:pt x="900" y="2228"/>
                  </a:lnTo>
                  <a:lnTo>
                    <a:pt x="894" y="2228"/>
                  </a:lnTo>
                  <a:lnTo>
                    <a:pt x="887" y="2227"/>
                  </a:lnTo>
                  <a:lnTo>
                    <a:pt x="881" y="2225"/>
                  </a:lnTo>
                  <a:lnTo>
                    <a:pt x="875" y="2223"/>
                  </a:lnTo>
                  <a:lnTo>
                    <a:pt x="869" y="2219"/>
                  </a:lnTo>
                  <a:lnTo>
                    <a:pt x="866" y="2215"/>
                  </a:lnTo>
                  <a:lnTo>
                    <a:pt x="863" y="2210"/>
                  </a:lnTo>
                  <a:lnTo>
                    <a:pt x="861" y="2204"/>
                  </a:lnTo>
                  <a:lnTo>
                    <a:pt x="861" y="2197"/>
                  </a:lnTo>
                  <a:lnTo>
                    <a:pt x="861" y="2191"/>
                  </a:lnTo>
                  <a:lnTo>
                    <a:pt x="863" y="2183"/>
                  </a:lnTo>
                  <a:lnTo>
                    <a:pt x="864" y="2177"/>
                  </a:lnTo>
                  <a:lnTo>
                    <a:pt x="868" y="2171"/>
                  </a:lnTo>
                  <a:lnTo>
                    <a:pt x="872" y="2167"/>
                  </a:lnTo>
                  <a:lnTo>
                    <a:pt x="884" y="2153"/>
                  </a:lnTo>
                  <a:lnTo>
                    <a:pt x="898" y="2140"/>
                  </a:lnTo>
                  <a:lnTo>
                    <a:pt x="912" y="2128"/>
                  </a:lnTo>
                  <a:lnTo>
                    <a:pt x="927" y="2116"/>
                  </a:lnTo>
                  <a:lnTo>
                    <a:pt x="942" y="2105"/>
                  </a:lnTo>
                  <a:lnTo>
                    <a:pt x="957" y="2093"/>
                  </a:lnTo>
                  <a:lnTo>
                    <a:pt x="972" y="2083"/>
                  </a:lnTo>
                  <a:lnTo>
                    <a:pt x="987" y="2071"/>
                  </a:lnTo>
                  <a:lnTo>
                    <a:pt x="1002" y="2056"/>
                  </a:lnTo>
                  <a:lnTo>
                    <a:pt x="1019" y="2042"/>
                  </a:lnTo>
                  <a:lnTo>
                    <a:pt x="1037" y="2027"/>
                  </a:lnTo>
                  <a:lnTo>
                    <a:pt x="1054" y="2013"/>
                  </a:lnTo>
                  <a:lnTo>
                    <a:pt x="1070" y="1999"/>
                  </a:lnTo>
                  <a:lnTo>
                    <a:pt x="1085" y="1983"/>
                  </a:lnTo>
                  <a:lnTo>
                    <a:pt x="1100" y="1966"/>
                  </a:lnTo>
                  <a:lnTo>
                    <a:pt x="1113" y="1949"/>
                  </a:lnTo>
                  <a:lnTo>
                    <a:pt x="1126" y="1931"/>
                  </a:lnTo>
                  <a:lnTo>
                    <a:pt x="1138" y="1912"/>
                  </a:lnTo>
                  <a:lnTo>
                    <a:pt x="1149" y="1892"/>
                  </a:lnTo>
                  <a:lnTo>
                    <a:pt x="1158" y="1872"/>
                  </a:lnTo>
                  <a:lnTo>
                    <a:pt x="1167" y="1851"/>
                  </a:lnTo>
                  <a:lnTo>
                    <a:pt x="1175" y="1830"/>
                  </a:lnTo>
                  <a:lnTo>
                    <a:pt x="1181" y="1808"/>
                  </a:lnTo>
                  <a:lnTo>
                    <a:pt x="1186" y="1786"/>
                  </a:lnTo>
                  <a:lnTo>
                    <a:pt x="1186" y="1777"/>
                  </a:lnTo>
                  <a:lnTo>
                    <a:pt x="1186" y="1766"/>
                  </a:lnTo>
                  <a:lnTo>
                    <a:pt x="1184" y="1756"/>
                  </a:lnTo>
                  <a:lnTo>
                    <a:pt x="1180" y="1747"/>
                  </a:lnTo>
                  <a:lnTo>
                    <a:pt x="1175" y="1737"/>
                  </a:lnTo>
                  <a:lnTo>
                    <a:pt x="1170" y="1729"/>
                  </a:lnTo>
                  <a:lnTo>
                    <a:pt x="1163" y="1720"/>
                  </a:lnTo>
                  <a:lnTo>
                    <a:pt x="1156" y="1714"/>
                  </a:lnTo>
                  <a:lnTo>
                    <a:pt x="1150" y="1711"/>
                  </a:lnTo>
                  <a:lnTo>
                    <a:pt x="1143" y="1710"/>
                  </a:lnTo>
                  <a:lnTo>
                    <a:pt x="1136" y="1711"/>
                  </a:lnTo>
                  <a:lnTo>
                    <a:pt x="1128" y="1712"/>
                  </a:lnTo>
                  <a:lnTo>
                    <a:pt x="1121" y="1714"/>
                  </a:lnTo>
                  <a:lnTo>
                    <a:pt x="1114" y="1718"/>
                  </a:lnTo>
                  <a:lnTo>
                    <a:pt x="1107" y="1722"/>
                  </a:lnTo>
                  <a:lnTo>
                    <a:pt x="1101" y="1726"/>
                  </a:lnTo>
                  <a:lnTo>
                    <a:pt x="1095" y="1731"/>
                  </a:lnTo>
                  <a:lnTo>
                    <a:pt x="1090" y="1738"/>
                  </a:lnTo>
                  <a:lnTo>
                    <a:pt x="1086" y="1746"/>
                  </a:lnTo>
                  <a:lnTo>
                    <a:pt x="1083" y="1754"/>
                  </a:lnTo>
                  <a:lnTo>
                    <a:pt x="1079" y="1761"/>
                  </a:lnTo>
                  <a:lnTo>
                    <a:pt x="1076" y="1768"/>
                  </a:lnTo>
                  <a:lnTo>
                    <a:pt x="1071" y="1776"/>
                  </a:lnTo>
                  <a:lnTo>
                    <a:pt x="1065" y="1780"/>
                  </a:lnTo>
                  <a:lnTo>
                    <a:pt x="1053" y="1789"/>
                  </a:lnTo>
                  <a:lnTo>
                    <a:pt x="1041" y="1796"/>
                  </a:lnTo>
                  <a:lnTo>
                    <a:pt x="1029" y="1802"/>
                  </a:lnTo>
                  <a:lnTo>
                    <a:pt x="1016" y="1809"/>
                  </a:lnTo>
                  <a:lnTo>
                    <a:pt x="1002" y="1814"/>
                  </a:lnTo>
                  <a:lnTo>
                    <a:pt x="989" y="1818"/>
                  </a:lnTo>
                  <a:lnTo>
                    <a:pt x="976" y="1821"/>
                  </a:lnTo>
                  <a:lnTo>
                    <a:pt x="962" y="1822"/>
                  </a:lnTo>
                  <a:lnTo>
                    <a:pt x="952" y="1824"/>
                  </a:lnTo>
                  <a:lnTo>
                    <a:pt x="941" y="1822"/>
                  </a:lnTo>
                  <a:lnTo>
                    <a:pt x="930" y="1820"/>
                  </a:lnTo>
                  <a:lnTo>
                    <a:pt x="920" y="1818"/>
                  </a:lnTo>
                  <a:lnTo>
                    <a:pt x="910" y="1814"/>
                  </a:lnTo>
                  <a:lnTo>
                    <a:pt x="902" y="1808"/>
                  </a:lnTo>
                  <a:lnTo>
                    <a:pt x="898" y="1804"/>
                  </a:lnTo>
                  <a:lnTo>
                    <a:pt x="894" y="1801"/>
                  </a:lnTo>
                  <a:lnTo>
                    <a:pt x="892" y="1797"/>
                  </a:lnTo>
                  <a:lnTo>
                    <a:pt x="890" y="1792"/>
                  </a:lnTo>
                  <a:lnTo>
                    <a:pt x="887" y="1785"/>
                  </a:lnTo>
                  <a:lnTo>
                    <a:pt x="886" y="1778"/>
                  </a:lnTo>
                  <a:lnTo>
                    <a:pt x="885" y="1770"/>
                  </a:lnTo>
                  <a:lnTo>
                    <a:pt x="885" y="1762"/>
                  </a:lnTo>
                  <a:lnTo>
                    <a:pt x="886" y="1747"/>
                  </a:lnTo>
                  <a:lnTo>
                    <a:pt x="888" y="1730"/>
                  </a:lnTo>
                  <a:lnTo>
                    <a:pt x="892" y="1714"/>
                  </a:lnTo>
                  <a:lnTo>
                    <a:pt x="897" y="1698"/>
                  </a:lnTo>
                  <a:lnTo>
                    <a:pt x="899" y="1682"/>
                  </a:lnTo>
                  <a:lnTo>
                    <a:pt x="902" y="1666"/>
                  </a:lnTo>
                  <a:lnTo>
                    <a:pt x="903" y="1654"/>
                  </a:lnTo>
                  <a:lnTo>
                    <a:pt x="905" y="1642"/>
                  </a:lnTo>
                  <a:lnTo>
                    <a:pt x="908" y="1632"/>
                  </a:lnTo>
                  <a:lnTo>
                    <a:pt x="910" y="1620"/>
                  </a:lnTo>
                  <a:lnTo>
                    <a:pt x="912" y="1609"/>
                  </a:lnTo>
                  <a:lnTo>
                    <a:pt x="912" y="1597"/>
                  </a:lnTo>
                  <a:lnTo>
                    <a:pt x="911" y="1586"/>
                  </a:lnTo>
                  <a:lnTo>
                    <a:pt x="908" y="1575"/>
                  </a:lnTo>
                  <a:lnTo>
                    <a:pt x="904" y="1569"/>
                  </a:lnTo>
                  <a:lnTo>
                    <a:pt x="899" y="1566"/>
                  </a:lnTo>
                  <a:lnTo>
                    <a:pt x="892" y="1562"/>
                  </a:lnTo>
                  <a:lnTo>
                    <a:pt x="885" y="1560"/>
                  </a:lnTo>
                  <a:lnTo>
                    <a:pt x="876" y="1558"/>
                  </a:lnTo>
                  <a:lnTo>
                    <a:pt x="869" y="1557"/>
                  </a:lnTo>
                  <a:lnTo>
                    <a:pt x="861" y="1557"/>
                  </a:lnTo>
                  <a:lnTo>
                    <a:pt x="854" y="1557"/>
                  </a:lnTo>
                  <a:lnTo>
                    <a:pt x="837" y="1558"/>
                  </a:lnTo>
                  <a:lnTo>
                    <a:pt x="820" y="1561"/>
                  </a:lnTo>
                  <a:lnTo>
                    <a:pt x="803" y="1564"/>
                  </a:lnTo>
                  <a:lnTo>
                    <a:pt x="786" y="1568"/>
                  </a:lnTo>
                  <a:lnTo>
                    <a:pt x="771" y="1572"/>
                  </a:lnTo>
                  <a:lnTo>
                    <a:pt x="754" y="1574"/>
                  </a:lnTo>
                  <a:lnTo>
                    <a:pt x="737" y="1575"/>
                  </a:lnTo>
                  <a:lnTo>
                    <a:pt x="720" y="1575"/>
                  </a:lnTo>
                  <a:lnTo>
                    <a:pt x="706" y="1574"/>
                  </a:lnTo>
                  <a:lnTo>
                    <a:pt x="692" y="1572"/>
                  </a:lnTo>
                  <a:lnTo>
                    <a:pt x="677" y="1568"/>
                  </a:lnTo>
                  <a:lnTo>
                    <a:pt x="664" y="1564"/>
                  </a:lnTo>
                  <a:lnTo>
                    <a:pt x="650" y="1560"/>
                  </a:lnTo>
                  <a:lnTo>
                    <a:pt x="636" y="1554"/>
                  </a:lnTo>
                  <a:lnTo>
                    <a:pt x="624" y="1546"/>
                  </a:lnTo>
                  <a:lnTo>
                    <a:pt x="612" y="1539"/>
                  </a:lnTo>
                  <a:lnTo>
                    <a:pt x="603" y="1532"/>
                  </a:lnTo>
                  <a:lnTo>
                    <a:pt x="596" y="1524"/>
                  </a:lnTo>
                  <a:lnTo>
                    <a:pt x="590" y="1514"/>
                  </a:lnTo>
                  <a:lnTo>
                    <a:pt x="584" y="1504"/>
                  </a:lnTo>
                  <a:lnTo>
                    <a:pt x="578" y="1494"/>
                  </a:lnTo>
                  <a:lnTo>
                    <a:pt x="572" y="1484"/>
                  </a:lnTo>
                  <a:lnTo>
                    <a:pt x="566" y="1474"/>
                  </a:lnTo>
                  <a:lnTo>
                    <a:pt x="557" y="1467"/>
                  </a:lnTo>
                  <a:lnTo>
                    <a:pt x="551" y="1461"/>
                  </a:lnTo>
                  <a:lnTo>
                    <a:pt x="544" y="1458"/>
                  </a:lnTo>
                  <a:lnTo>
                    <a:pt x="537" y="1454"/>
                  </a:lnTo>
                  <a:lnTo>
                    <a:pt x="530" y="1450"/>
                  </a:lnTo>
                  <a:lnTo>
                    <a:pt x="521" y="1447"/>
                  </a:lnTo>
                  <a:lnTo>
                    <a:pt x="513" y="1446"/>
                  </a:lnTo>
                  <a:lnTo>
                    <a:pt x="506" y="1443"/>
                  </a:lnTo>
                  <a:lnTo>
                    <a:pt x="497" y="1442"/>
                  </a:lnTo>
                  <a:lnTo>
                    <a:pt x="478" y="1442"/>
                  </a:lnTo>
                  <a:lnTo>
                    <a:pt x="458" y="1442"/>
                  </a:lnTo>
                  <a:lnTo>
                    <a:pt x="438" y="1442"/>
                  </a:lnTo>
                  <a:lnTo>
                    <a:pt x="418" y="1443"/>
                  </a:lnTo>
                  <a:lnTo>
                    <a:pt x="399" y="1444"/>
                  </a:lnTo>
                  <a:lnTo>
                    <a:pt x="380" y="1447"/>
                  </a:lnTo>
                  <a:lnTo>
                    <a:pt x="359" y="1448"/>
                  </a:lnTo>
                  <a:lnTo>
                    <a:pt x="340" y="1449"/>
                  </a:lnTo>
                  <a:lnTo>
                    <a:pt x="318" y="1450"/>
                  </a:lnTo>
                  <a:lnTo>
                    <a:pt x="296" y="1452"/>
                  </a:lnTo>
                  <a:lnTo>
                    <a:pt x="274" y="1454"/>
                  </a:lnTo>
                  <a:lnTo>
                    <a:pt x="252" y="1455"/>
                  </a:lnTo>
                  <a:lnTo>
                    <a:pt x="231" y="1456"/>
                  </a:lnTo>
                  <a:lnTo>
                    <a:pt x="208" y="1458"/>
                  </a:lnTo>
                  <a:lnTo>
                    <a:pt x="186" y="1456"/>
                  </a:lnTo>
                  <a:lnTo>
                    <a:pt x="165" y="1455"/>
                  </a:lnTo>
                  <a:lnTo>
                    <a:pt x="154" y="1453"/>
                  </a:lnTo>
                  <a:lnTo>
                    <a:pt x="143" y="1449"/>
                  </a:lnTo>
                  <a:lnTo>
                    <a:pt x="134" y="1444"/>
                  </a:lnTo>
                  <a:lnTo>
                    <a:pt x="124" y="1438"/>
                  </a:lnTo>
                  <a:lnTo>
                    <a:pt x="114" y="1432"/>
                  </a:lnTo>
                  <a:lnTo>
                    <a:pt x="105" y="1426"/>
                  </a:lnTo>
                  <a:lnTo>
                    <a:pt x="95" y="1419"/>
                  </a:lnTo>
                  <a:lnTo>
                    <a:pt x="87" y="1412"/>
                  </a:lnTo>
                  <a:lnTo>
                    <a:pt x="77" y="1406"/>
                  </a:lnTo>
                  <a:lnTo>
                    <a:pt x="69" y="1400"/>
                  </a:lnTo>
                  <a:lnTo>
                    <a:pt x="60" y="1393"/>
                  </a:lnTo>
                  <a:lnTo>
                    <a:pt x="52" y="1386"/>
                  </a:lnTo>
                  <a:lnTo>
                    <a:pt x="44" y="1378"/>
                  </a:lnTo>
                  <a:lnTo>
                    <a:pt x="36" y="1370"/>
                  </a:lnTo>
                  <a:lnTo>
                    <a:pt x="30" y="1362"/>
                  </a:lnTo>
                  <a:lnTo>
                    <a:pt x="26" y="1352"/>
                  </a:lnTo>
                  <a:lnTo>
                    <a:pt x="23" y="1345"/>
                  </a:lnTo>
                  <a:lnTo>
                    <a:pt x="22" y="1338"/>
                  </a:lnTo>
                  <a:lnTo>
                    <a:pt x="22" y="1329"/>
                  </a:lnTo>
                  <a:lnTo>
                    <a:pt x="23" y="1322"/>
                  </a:lnTo>
                  <a:lnTo>
                    <a:pt x="26" y="1315"/>
                  </a:lnTo>
                  <a:lnTo>
                    <a:pt x="28" y="1308"/>
                  </a:lnTo>
                  <a:lnTo>
                    <a:pt x="33" y="1302"/>
                  </a:lnTo>
                  <a:lnTo>
                    <a:pt x="38" y="1298"/>
                  </a:lnTo>
                  <a:lnTo>
                    <a:pt x="52" y="1292"/>
                  </a:lnTo>
                  <a:lnTo>
                    <a:pt x="66" y="1287"/>
                  </a:lnTo>
                  <a:lnTo>
                    <a:pt x="81" y="1284"/>
                  </a:lnTo>
                  <a:lnTo>
                    <a:pt x="96" y="1282"/>
                  </a:lnTo>
                  <a:lnTo>
                    <a:pt x="112" y="1281"/>
                  </a:lnTo>
                  <a:lnTo>
                    <a:pt x="128" y="1280"/>
                  </a:lnTo>
                  <a:lnTo>
                    <a:pt x="143" y="1280"/>
                  </a:lnTo>
                  <a:lnTo>
                    <a:pt x="159" y="1280"/>
                  </a:lnTo>
                  <a:lnTo>
                    <a:pt x="184" y="1279"/>
                  </a:lnTo>
                  <a:lnTo>
                    <a:pt x="210" y="1280"/>
                  </a:lnTo>
                  <a:lnTo>
                    <a:pt x="236" y="1281"/>
                  </a:lnTo>
                  <a:lnTo>
                    <a:pt x="262" y="1284"/>
                  </a:lnTo>
                  <a:lnTo>
                    <a:pt x="287" y="1285"/>
                  </a:lnTo>
                  <a:lnTo>
                    <a:pt x="312" y="1286"/>
                  </a:lnTo>
                  <a:lnTo>
                    <a:pt x="339" y="1287"/>
                  </a:lnTo>
                  <a:lnTo>
                    <a:pt x="364" y="1286"/>
                  </a:lnTo>
                  <a:lnTo>
                    <a:pt x="380" y="1284"/>
                  </a:lnTo>
                  <a:lnTo>
                    <a:pt x="395" y="1281"/>
                  </a:lnTo>
                  <a:lnTo>
                    <a:pt x="410" y="1278"/>
                  </a:lnTo>
                  <a:lnTo>
                    <a:pt x="425" y="1273"/>
                  </a:lnTo>
                  <a:lnTo>
                    <a:pt x="440" y="1268"/>
                  </a:lnTo>
                  <a:lnTo>
                    <a:pt x="455" y="1264"/>
                  </a:lnTo>
                  <a:lnTo>
                    <a:pt x="470" y="1260"/>
                  </a:lnTo>
                  <a:lnTo>
                    <a:pt x="485" y="1256"/>
                  </a:lnTo>
                  <a:lnTo>
                    <a:pt x="495" y="1252"/>
                  </a:lnTo>
                  <a:lnTo>
                    <a:pt x="504" y="1249"/>
                  </a:lnTo>
                  <a:lnTo>
                    <a:pt x="514" y="1245"/>
                  </a:lnTo>
                  <a:lnTo>
                    <a:pt x="524" y="1242"/>
                  </a:lnTo>
                  <a:lnTo>
                    <a:pt x="534" y="1239"/>
                  </a:lnTo>
                  <a:lnTo>
                    <a:pt x="544" y="1237"/>
                  </a:lnTo>
                  <a:lnTo>
                    <a:pt x="554" y="1237"/>
                  </a:lnTo>
                  <a:lnTo>
                    <a:pt x="563" y="1237"/>
                  </a:lnTo>
                  <a:lnTo>
                    <a:pt x="582" y="1242"/>
                  </a:lnTo>
                  <a:lnTo>
                    <a:pt x="602" y="1248"/>
                  </a:lnTo>
                  <a:lnTo>
                    <a:pt x="620" y="1255"/>
                  </a:lnTo>
                  <a:lnTo>
                    <a:pt x="638" y="1262"/>
                  </a:lnTo>
                  <a:lnTo>
                    <a:pt x="656" y="1272"/>
                  </a:lnTo>
                  <a:lnTo>
                    <a:pt x="674" y="1280"/>
                  </a:lnTo>
                  <a:lnTo>
                    <a:pt x="690" y="1288"/>
                  </a:lnTo>
                  <a:lnTo>
                    <a:pt x="708" y="1298"/>
                  </a:lnTo>
                  <a:lnTo>
                    <a:pt x="723" y="1305"/>
                  </a:lnTo>
                  <a:lnTo>
                    <a:pt x="737" y="1314"/>
                  </a:lnTo>
                  <a:lnTo>
                    <a:pt x="752" y="1323"/>
                  </a:lnTo>
                  <a:lnTo>
                    <a:pt x="765" y="1333"/>
                  </a:lnTo>
                  <a:lnTo>
                    <a:pt x="779" y="1341"/>
                  </a:lnTo>
                  <a:lnTo>
                    <a:pt x="794" y="1350"/>
                  </a:lnTo>
                  <a:lnTo>
                    <a:pt x="808" y="1358"/>
                  </a:lnTo>
                  <a:lnTo>
                    <a:pt x="824" y="1364"/>
                  </a:lnTo>
                  <a:lnTo>
                    <a:pt x="836" y="1369"/>
                  </a:lnTo>
                  <a:lnTo>
                    <a:pt x="849" y="1374"/>
                  </a:lnTo>
                  <a:lnTo>
                    <a:pt x="862" y="1377"/>
                  </a:lnTo>
                  <a:lnTo>
                    <a:pt x="875" y="1381"/>
                  </a:lnTo>
                  <a:lnTo>
                    <a:pt x="888" y="1382"/>
                  </a:lnTo>
                  <a:lnTo>
                    <a:pt x="902" y="1382"/>
                  </a:lnTo>
                  <a:lnTo>
                    <a:pt x="908" y="1382"/>
                  </a:lnTo>
                  <a:lnTo>
                    <a:pt x="914" y="1381"/>
                  </a:lnTo>
                  <a:lnTo>
                    <a:pt x="920" y="1378"/>
                  </a:lnTo>
                  <a:lnTo>
                    <a:pt x="926" y="1376"/>
                  </a:lnTo>
                  <a:lnTo>
                    <a:pt x="930" y="1374"/>
                  </a:lnTo>
                  <a:lnTo>
                    <a:pt x="934" y="1370"/>
                  </a:lnTo>
                  <a:lnTo>
                    <a:pt x="938" y="1366"/>
                  </a:lnTo>
                  <a:lnTo>
                    <a:pt x="941" y="1363"/>
                  </a:lnTo>
                  <a:lnTo>
                    <a:pt x="947" y="1353"/>
                  </a:lnTo>
                  <a:lnTo>
                    <a:pt x="951" y="1342"/>
                  </a:lnTo>
                  <a:lnTo>
                    <a:pt x="953" y="1332"/>
                  </a:lnTo>
                  <a:lnTo>
                    <a:pt x="956" y="1320"/>
                  </a:lnTo>
                  <a:lnTo>
                    <a:pt x="956" y="1309"/>
                  </a:lnTo>
                  <a:lnTo>
                    <a:pt x="956" y="1298"/>
                  </a:lnTo>
                  <a:lnTo>
                    <a:pt x="954" y="1286"/>
                  </a:lnTo>
                  <a:lnTo>
                    <a:pt x="952" y="1275"/>
                  </a:lnTo>
                  <a:lnTo>
                    <a:pt x="948" y="1264"/>
                  </a:lnTo>
                  <a:lnTo>
                    <a:pt x="944" y="1254"/>
                  </a:lnTo>
                  <a:lnTo>
                    <a:pt x="939" y="1243"/>
                  </a:lnTo>
                  <a:lnTo>
                    <a:pt x="933" y="1233"/>
                  </a:lnTo>
                  <a:lnTo>
                    <a:pt x="927" y="1222"/>
                  </a:lnTo>
                  <a:lnTo>
                    <a:pt x="920" y="1213"/>
                  </a:lnTo>
                  <a:lnTo>
                    <a:pt x="908" y="1196"/>
                  </a:lnTo>
                  <a:lnTo>
                    <a:pt x="896" y="1179"/>
                  </a:lnTo>
                  <a:lnTo>
                    <a:pt x="882" y="1162"/>
                  </a:lnTo>
                  <a:lnTo>
                    <a:pt x="869" y="1147"/>
                  </a:lnTo>
                  <a:lnTo>
                    <a:pt x="856" y="1130"/>
                  </a:lnTo>
                  <a:lnTo>
                    <a:pt x="842" y="1116"/>
                  </a:lnTo>
                  <a:lnTo>
                    <a:pt x="827" y="1100"/>
                  </a:lnTo>
                  <a:lnTo>
                    <a:pt x="812" y="1087"/>
                  </a:lnTo>
                  <a:lnTo>
                    <a:pt x="792" y="1071"/>
                  </a:lnTo>
                  <a:lnTo>
                    <a:pt x="773" y="1056"/>
                  </a:lnTo>
                  <a:lnTo>
                    <a:pt x="753" y="1041"/>
                  </a:lnTo>
                  <a:lnTo>
                    <a:pt x="732" y="1027"/>
                  </a:lnTo>
                  <a:lnTo>
                    <a:pt x="712" y="1014"/>
                  </a:lnTo>
                  <a:lnTo>
                    <a:pt x="692" y="1002"/>
                  </a:lnTo>
                  <a:lnTo>
                    <a:pt x="670" y="990"/>
                  </a:lnTo>
                  <a:lnTo>
                    <a:pt x="648" y="978"/>
                  </a:lnTo>
                  <a:lnTo>
                    <a:pt x="633" y="971"/>
                  </a:lnTo>
                  <a:lnTo>
                    <a:pt x="616" y="965"/>
                  </a:lnTo>
                  <a:lnTo>
                    <a:pt x="599" y="959"/>
                  </a:lnTo>
                  <a:lnTo>
                    <a:pt x="584" y="953"/>
                  </a:lnTo>
                  <a:lnTo>
                    <a:pt x="566" y="948"/>
                  </a:lnTo>
                  <a:lnTo>
                    <a:pt x="549" y="944"/>
                  </a:lnTo>
                  <a:lnTo>
                    <a:pt x="532" y="939"/>
                  </a:lnTo>
                  <a:lnTo>
                    <a:pt x="515" y="936"/>
                  </a:lnTo>
                  <a:lnTo>
                    <a:pt x="501" y="932"/>
                  </a:lnTo>
                  <a:lnTo>
                    <a:pt x="485" y="929"/>
                  </a:lnTo>
                  <a:lnTo>
                    <a:pt x="471" y="926"/>
                  </a:lnTo>
                  <a:lnTo>
                    <a:pt x="455" y="924"/>
                  </a:lnTo>
                  <a:lnTo>
                    <a:pt x="440" y="921"/>
                  </a:lnTo>
                  <a:lnTo>
                    <a:pt x="425" y="919"/>
                  </a:lnTo>
                  <a:lnTo>
                    <a:pt x="410" y="918"/>
                  </a:lnTo>
                  <a:lnTo>
                    <a:pt x="394" y="918"/>
                  </a:lnTo>
                  <a:lnTo>
                    <a:pt x="384" y="918"/>
                  </a:lnTo>
                  <a:lnTo>
                    <a:pt x="374" y="919"/>
                  </a:lnTo>
                  <a:lnTo>
                    <a:pt x="364" y="920"/>
                  </a:lnTo>
                  <a:lnTo>
                    <a:pt x="354" y="923"/>
                  </a:lnTo>
                  <a:lnTo>
                    <a:pt x="344" y="925"/>
                  </a:lnTo>
                  <a:lnTo>
                    <a:pt x="334" y="927"/>
                  </a:lnTo>
                  <a:lnTo>
                    <a:pt x="324" y="931"/>
                  </a:lnTo>
                  <a:lnTo>
                    <a:pt x="316" y="936"/>
                  </a:lnTo>
                  <a:lnTo>
                    <a:pt x="306" y="942"/>
                  </a:lnTo>
                  <a:lnTo>
                    <a:pt x="298" y="948"/>
                  </a:lnTo>
                  <a:lnTo>
                    <a:pt x="290" y="955"/>
                  </a:lnTo>
                  <a:lnTo>
                    <a:pt x="282" y="962"/>
                  </a:lnTo>
                  <a:lnTo>
                    <a:pt x="275" y="971"/>
                  </a:lnTo>
                  <a:lnTo>
                    <a:pt x="267" y="978"/>
                  </a:lnTo>
                  <a:lnTo>
                    <a:pt x="258" y="984"/>
                  </a:lnTo>
                  <a:lnTo>
                    <a:pt x="249" y="990"/>
                  </a:lnTo>
                  <a:lnTo>
                    <a:pt x="234" y="998"/>
                  </a:lnTo>
                  <a:lnTo>
                    <a:pt x="220" y="1005"/>
                  </a:lnTo>
                  <a:lnTo>
                    <a:pt x="206" y="1013"/>
                  </a:lnTo>
                  <a:lnTo>
                    <a:pt x="190" y="1019"/>
                  </a:lnTo>
                  <a:lnTo>
                    <a:pt x="176" y="1025"/>
                  </a:lnTo>
                  <a:lnTo>
                    <a:pt x="160" y="1029"/>
                  </a:lnTo>
                  <a:lnTo>
                    <a:pt x="144" y="1034"/>
                  </a:lnTo>
                  <a:lnTo>
                    <a:pt x="129" y="1038"/>
                  </a:lnTo>
                  <a:lnTo>
                    <a:pt x="123" y="1039"/>
                  </a:lnTo>
                  <a:lnTo>
                    <a:pt x="117" y="1040"/>
                  </a:lnTo>
                  <a:lnTo>
                    <a:pt x="111" y="1039"/>
                  </a:lnTo>
                  <a:lnTo>
                    <a:pt x="105" y="1038"/>
                  </a:lnTo>
                  <a:lnTo>
                    <a:pt x="99" y="1037"/>
                  </a:lnTo>
                  <a:lnTo>
                    <a:pt x="94" y="1034"/>
                  </a:lnTo>
                  <a:lnTo>
                    <a:pt x="89" y="1031"/>
                  </a:lnTo>
                  <a:lnTo>
                    <a:pt x="87" y="1026"/>
                  </a:lnTo>
                  <a:lnTo>
                    <a:pt x="83" y="1019"/>
                  </a:lnTo>
                  <a:lnTo>
                    <a:pt x="80" y="1010"/>
                  </a:lnTo>
                  <a:lnTo>
                    <a:pt x="78" y="1002"/>
                  </a:lnTo>
                  <a:lnTo>
                    <a:pt x="77" y="992"/>
                  </a:lnTo>
                  <a:lnTo>
                    <a:pt x="78" y="984"/>
                  </a:lnTo>
                  <a:lnTo>
                    <a:pt x="80" y="975"/>
                  </a:lnTo>
                  <a:lnTo>
                    <a:pt x="82" y="967"/>
                  </a:lnTo>
                  <a:lnTo>
                    <a:pt x="87" y="960"/>
                  </a:lnTo>
                  <a:lnTo>
                    <a:pt x="99" y="943"/>
                  </a:lnTo>
                  <a:lnTo>
                    <a:pt x="112" y="927"/>
                  </a:lnTo>
                  <a:lnTo>
                    <a:pt x="126" y="912"/>
                  </a:lnTo>
                  <a:lnTo>
                    <a:pt x="141" y="897"/>
                  </a:lnTo>
                  <a:lnTo>
                    <a:pt x="156" y="883"/>
                  </a:lnTo>
                  <a:lnTo>
                    <a:pt x="173" y="870"/>
                  </a:lnTo>
                  <a:lnTo>
                    <a:pt x="190" y="858"/>
                  </a:lnTo>
                  <a:lnTo>
                    <a:pt x="207" y="846"/>
                  </a:lnTo>
                  <a:lnTo>
                    <a:pt x="219" y="837"/>
                  </a:lnTo>
                  <a:lnTo>
                    <a:pt x="231" y="830"/>
                  </a:lnTo>
                  <a:lnTo>
                    <a:pt x="243" y="824"/>
                  </a:lnTo>
                  <a:lnTo>
                    <a:pt x="256" y="819"/>
                  </a:lnTo>
                  <a:lnTo>
                    <a:pt x="269" y="813"/>
                  </a:lnTo>
                  <a:lnTo>
                    <a:pt x="282" y="810"/>
                  </a:lnTo>
                  <a:lnTo>
                    <a:pt x="296" y="806"/>
                  </a:lnTo>
                  <a:lnTo>
                    <a:pt x="310" y="803"/>
                  </a:lnTo>
                  <a:lnTo>
                    <a:pt x="328" y="800"/>
                  </a:lnTo>
                  <a:lnTo>
                    <a:pt x="346" y="798"/>
                  </a:lnTo>
                  <a:lnTo>
                    <a:pt x="364" y="797"/>
                  </a:lnTo>
                  <a:lnTo>
                    <a:pt x="382" y="797"/>
                  </a:lnTo>
                  <a:lnTo>
                    <a:pt x="400" y="797"/>
                  </a:lnTo>
                  <a:lnTo>
                    <a:pt x="418" y="797"/>
                  </a:lnTo>
                  <a:lnTo>
                    <a:pt x="436" y="797"/>
                  </a:lnTo>
                  <a:lnTo>
                    <a:pt x="455" y="797"/>
                  </a:lnTo>
                  <a:lnTo>
                    <a:pt x="480" y="797"/>
                  </a:lnTo>
                  <a:lnTo>
                    <a:pt x="506" y="798"/>
                  </a:lnTo>
                  <a:lnTo>
                    <a:pt x="532" y="798"/>
                  </a:lnTo>
                  <a:lnTo>
                    <a:pt x="557" y="799"/>
                  </a:lnTo>
                  <a:lnTo>
                    <a:pt x="584" y="799"/>
                  </a:lnTo>
                  <a:lnTo>
                    <a:pt x="609" y="800"/>
                  </a:lnTo>
                  <a:lnTo>
                    <a:pt x="634" y="801"/>
                  </a:lnTo>
                  <a:lnTo>
                    <a:pt x="660" y="803"/>
                  </a:lnTo>
                  <a:lnTo>
                    <a:pt x="680" y="804"/>
                  </a:lnTo>
                  <a:lnTo>
                    <a:pt x="698" y="806"/>
                  </a:lnTo>
                  <a:lnTo>
                    <a:pt x="717" y="807"/>
                  </a:lnTo>
                  <a:lnTo>
                    <a:pt x="736" y="810"/>
                  </a:lnTo>
                  <a:lnTo>
                    <a:pt x="754" y="812"/>
                  </a:lnTo>
                  <a:lnTo>
                    <a:pt x="773" y="813"/>
                  </a:lnTo>
                  <a:lnTo>
                    <a:pt x="792" y="815"/>
                  </a:lnTo>
                  <a:lnTo>
                    <a:pt x="812" y="815"/>
                  </a:lnTo>
                  <a:lnTo>
                    <a:pt x="822" y="816"/>
                  </a:lnTo>
                  <a:lnTo>
                    <a:pt x="833" y="816"/>
                  </a:lnTo>
                  <a:lnTo>
                    <a:pt x="845" y="816"/>
                  </a:lnTo>
                  <a:lnTo>
                    <a:pt x="856" y="816"/>
                  </a:lnTo>
                  <a:lnTo>
                    <a:pt x="867" y="815"/>
                  </a:lnTo>
                  <a:lnTo>
                    <a:pt x="878" y="813"/>
                  </a:lnTo>
                  <a:lnTo>
                    <a:pt x="887" y="809"/>
                  </a:lnTo>
                  <a:lnTo>
                    <a:pt x="896" y="803"/>
                  </a:lnTo>
                  <a:close/>
                </a:path>
              </a:pathLst>
            </a:custGeom>
            <a:solidFill>
              <a:srgbClr val="c78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30960" y="4862520"/>
              <a:ext cx="1030320" cy="887400"/>
            </a:xfrm>
            <a:custGeom>
              <a:avLst/>
              <a:gdLst/>
              <a:ahLst/>
              <a:rect l="l" t="t" r="r" b="b"/>
              <a:pathLst>
                <a:path w="2599" h="2238">
                  <a:moveTo>
                    <a:pt x="889" y="797"/>
                  </a:moveTo>
                  <a:lnTo>
                    <a:pt x="896" y="789"/>
                  </a:lnTo>
                  <a:lnTo>
                    <a:pt x="904" y="779"/>
                  </a:lnTo>
                  <a:lnTo>
                    <a:pt x="908" y="768"/>
                  </a:lnTo>
                  <a:lnTo>
                    <a:pt x="913" y="756"/>
                  </a:lnTo>
                  <a:lnTo>
                    <a:pt x="916" y="744"/>
                  </a:lnTo>
                  <a:lnTo>
                    <a:pt x="918" y="732"/>
                  </a:lnTo>
                  <a:lnTo>
                    <a:pt x="918" y="720"/>
                  </a:lnTo>
                  <a:lnTo>
                    <a:pt x="919" y="707"/>
                  </a:lnTo>
                  <a:lnTo>
                    <a:pt x="918" y="694"/>
                  </a:lnTo>
                  <a:lnTo>
                    <a:pt x="917" y="679"/>
                  </a:lnTo>
                  <a:lnTo>
                    <a:pt x="916" y="665"/>
                  </a:lnTo>
                  <a:lnTo>
                    <a:pt x="912" y="651"/>
                  </a:lnTo>
                  <a:lnTo>
                    <a:pt x="908" y="637"/>
                  </a:lnTo>
                  <a:lnTo>
                    <a:pt x="904" y="624"/>
                  </a:lnTo>
                  <a:lnTo>
                    <a:pt x="896" y="611"/>
                  </a:lnTo>
                  <a:lnTo>
                    <a:pt x="889" y="600"/>
                  </a:lnTo>
                  <a:lnTo>
                    <a:pt x="881" y="591"/>
                  </a:lnTo>
                  <a:lnTo>
                    <a:pt x="870" y="583"/>
                  </a:lnTo>
                  <a:lnTo>
                    <a:pt x="859" y="576"/>
                  </a:lnTo>
                  <a:lnTo>
                    <a:pt x="847" y="571"/>
                  </a:lnTo>
                  <a:lnTo>
                    <a:pt x="835" y="567"/>
                  </a:lnTo>
                  <a:lnTo>
                    <a:pt x="823" y="562"/>
                  </a:lnTo>
                  <a:lnTo>
                    <a:pt x="811" y="557"/>
                  </a:lnTo>
                  <a:lnTo>
                    <a:pt x="799" y="552"/>
                  </a:lnTo>
                  <a:lnTo>
                    <a:pt x="785" y="545"/>
                  </a:lnTo>
                  <a:lnTo>
                    <a:pt x="770" y="539"/>
                  </a:lnTo>
                  <a:lnTo>
                    <a:pt x="757" y="532"/>
                  </a:lnTo>
                  <a:lnTo>
                    <a:pt x="743" y="526"/>
                  </a:lnTo>
                  <a:lnTo>
                    <a:pt x="728" y="520"/>
                  </a:lnTo>
                  <a:lnTo>
                    <a:pt x="714" y="514"/>
                  </a:lnTo>
                  <a:lnTo>
                    <a:pt x="700" y="509"/>
                  </a:lnTo>
                  <a:lnTo>
                    <a:pt x="685" y="504"/>
                  </a:lnTo>
                  <a:lnTo>
                    <a:pt x="668" y="499"/>
                  </a:lnTo>
                  <a:lnTo>
                    <a:pt x="652" y="496"/>
                  </a:lnTo>
                  <a:lnTo>
                    <a:pt x="636" y="493"/>
                  </a:lnTo>
                  <a:lnTo>
                    <a:pt x="619" y="490"/>
                  </a:lnTo>
                  <a:lnTo>
                    <a:pt x="602" y="487"/>
                  </a:lnTo>
                  <a:lnTo>
                    <a:pt x="586" y="484"/>
                  </a:lnTo>
                  <a:lnTo>
                    <a:pt x="569" y="479"/>
                  </a:lnTo>
                  <a:lnTo>
                    <a:pt x="553" y="474"/>
                  </a:lnTo>
                  <a:lnTo>
                    <a:pt x="540" y="468"/>
                  </a:lnTo>
                  <a:lnTo>
                    <a:pt x="528" y="462"/>
                  </a:lnTo>
                  <a:lnTo>
                    <a:pt x="515" y="455"/>
                  </a:lnTo>
                  <a:lnTo>
                    <a:pt x="503" y="448"/>
                  </a:lnTo>
                  <a:lnTo>
                    <a:pt x="491" y="439"/>
                  </a:lnTo>
                  <a:lnTo>
                    <a:pt x="480" y="431"/>
                  </a:lnTo>
                  <a:lnTo>
                    <a:pt x="468" y="423"/>
                  </a:lnTo>
                  <a:lnTo>
                    <a:pt x="457" y="414"/>
                  </a:lnTo>
                  <a:lnTo>
                    <a:pt x="438" y="399"/>
                  </a:lnTo>
                  <a:lnTo>
                    <a:pt x="419" y="382"/>
                  </a:lnTo>
                  <a:lnTo>
                    <a:pt x="401" y="365"/>
                  </a:lnTo>
                  <a:lnTo>
                    <a:pt x="382" y="348"/>
                  </a:lnTo>
                  <a:lnTo>
                    <a:pt x="364" y="332"/>
                  </a:lnTo>
                  <a:lnTo>
                    <a:pt x="346" y="315"/>
                  </a:lnTo>
                  <a:lnTo>
                    <a:pt x="326" y="298"/>
                  </a:lnTo>
                  <a:lnTo>
                    <a:pt x="307" y="282"/>
                  </a:lnTo>
                  <a:lnTo>
                    <a:pt x="290" y="269"/>
                  </a:lnTo>
                  <a:lnTo>
                    <a:pt x="272" y="256"/>
                  </a:lnTo>
                  <a:lnTo>
                    <a:pt x="254" y="243"/>
                  </a:lnTo>
                  <a:lnTo>
                    <a:pt x="236" y="230"/>
                  </a:lnTo>
                  <a:lnTo>
                    <a:pt x="218" y="216"/>
                  </a:lnTo>
                  <a:lnTo>
                    <a:pt x="200" y="204"/>
                  </a:lnTo>
                  <a:lnTo>
                    <a:pt x="182" y="192"/>
                  </a:lnTo>
                  <a:lnTo>
                    <a:pt x="163" y="180"/>
                  </a:lnTo>
                  <a:lnTo>
                    <a:pt x="151" y="174"/>
                  </a:lnTo>
                  <a:lnTo>
                    <a:pt x="138" y="168"/>
                  </a:lnTo>
                  <a:lnTo>
                    <a:pt x="125" y="162"/>
                  </a:lnTo>
                  <a:lnTo>
                    <a:pt x="112" y="158"/>
                  </a:lnTo>
                  <a:lnTo>
                    <a:pt x="98" y="152"/>
                  </a:lnTo>
                  <a:lnTo>
                    <a:pt x="86" y="147"/>
                  </a:lnTo>
                  <a:lnTo>
                    <a:pt x="73" y="140"/>
                  </a:lnTo>
                  <a:lnTo>
                    <a:pt x="61" y="132"/>
                  </a:lnTo>
                  <a:lnTo>
                    <a:pt x="53" y="126"/>
                  </a:lnTo>
                  <a:lnTo>
                    <a:pt x="43" y="120"/>
                  </a:lnTo>
                  <a:lnTo>
                    <a:pt x="35" y="114"/>
                  </a:lnTo>
                  <a:lnTo>
                    <a:pt x="26" y="107"/>
                  </a:lnTo>
                  <a:lnTo>
                    <a:pt x="18" y="100"/>
                  </a:lnTo>
                  <a:lnTo>
                    <a:pt x="11" y="92"/>
                  </a:lnTo>
                  <a:lnTo>
                    <a:pt x="6" y="82"/>
                  </a:lnTo>
                  <a:lnTo>
                    <a:pt x="1" y="72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5" y="42"/>
                  </a:lnTo>
                  <a:lnTo>
                    <a:pt x="8" y="35"/>
                  </a:lnTo>
                  <a:lnTo>
                    <a:pt x="13" y="28"/>
                  </a:lnTo>
                  <a:lnTo>
                    <a:pt x="19" y="23"/>
                  </a:lnTo>
                  <a:lnTo>
                    <a:pt x="25" y="18"/>
                  </a:lnTo>
                  <a:lnTo>
                    <a:pt x="37" y="14"/>
                  </a:lnTo>
                  <a:lnTo>
                    <a:pt x="49" y="10"/>
                  </a:lnTo>
                  <a:lnTo>
                    <a:pt x="62" y="8"/>
                  </a:lnTo>
                  <a:lnTo>
                    <a:pt x="76" y="5"/>
                  </a:lnTo>
                  <a:lnTo>
                    <a:pt x="88" y="5"/>
                  </a:lnTo>
                  <a:lnTo>
                    <a:pt x="101" y="5"/>
                  </a:lnTo>
                  <a:lnTo>
                    <a:pt x="114" y="6"/>
                  </a:lnTo>
                  <a:lnTo>
                    <a:pt x="127" y="6"/>
                  </a:lnTo>
                  <a:lnTo>
                    <a:pt x="139" y="9"/>
                  </a:lnTo>
                  <a:lnTo>
                    <a:pt x="151" y="10"/>
                  </a:lnTo>
                  <a:lnTo>
                    <a:pt x="163" y="14"/>
                  </a:lnTo>
                  <a:lnTo>
                    <a:pt x="174" y="16"/>
                  </a:lnTo>
                  <a:lnTo>
                    <a:pt x="186" y="21"/>
                  </a:lnTo>
                  <a:lnTo>
                    <a:pt x="197" y="26"/>
                  </a:lnTo>
                  <a:lnTo>
                    <a:pt x="208" y="30"/>
                  </a:lnTo>
                  <a:lnTo>
                    <a:pt x="217" y="36"/>
                  </a:lnTo>
                  <a:lnTo>
                    <a:pt x="232" y="47"/>
                  </a:lnTo>
                  <a:lnTo>
                    <a:pt x="245" y="58"/>
                  </a:lnTo>
                  <a:lnTo>
                    <a:pt x="258" y="70"/>
                  </a:lnTo>
                  <a:lnTo>
                    <a:pt x="270" y="83"/>
                  </a:lnTo>
                  <a:lnTo>
                    <a:pt x="282" y="95"/>
                  </a:lnTo>
                  <a:lnTo>
                    <a:pt x="294" y="108"/>
                  </a:lnTo>
                  <a:lnTo>
                    <a:pt x="306" y="120"/>
                  </a:lnTo>
                  <a:lnTo>
                    <a:pt x="319" y="132"/>
                  </a:lnTo>
                  <a:lnTo>
                    <a:pt x="337" y="149"/>
                  </a:lnTo>
                  <a:lnTo>
                    <a:pt x="356" y="165"/>
                  </a:lnTo>
                  <a:lnTo>
                    <a:pt x="374" y="180"/>
                  </a:lnTo>
                  <a:lnTo>
                    <a:pt x="394" y="196"/>
                  </a:lnTo>
                  <a:lnTo>
                    <a:pt x="412" y="213"/>
                  </a:lnTo>
                  <a:lnTo>
                    <a:pt x="431" y="227"/>
                  </a:lnTo>
                  <a:lnTo>
                    <a:pt x="450" y="243"/>
                  </a:lnTo>
                  <a:lnTo>
                    <a:pt x="469" y="258"/>
                  </a:lnTo>
                  <a:lnTo>
                    <a:pt x="482" y="269"/>
                  </a:lnTo>
                  <a:lnTo>
                    <a:pt x="497" y="281"/>
                  </a:lnTo>
                  <a:lnTo>
                    <a:pt x="510" y="292"/>
                  </a:lnTo>
                  <a:lnTo>
                    <a:pt x="524" y="303"/>
                  </a:lnTo>
                  <a:lnTo>
                    <a:pt x="539" y="314"/>
                  </a:lnTo>
                  <a:lnTo>
                    <a:pt x="553" y="323"/>
                  </a:lnTo>
                  <a:lnTo>
                    <a:pt x="568" y="333"/>
                  </a:lnTo>
                  <a:lnTo>
                    <a:pt x="583" y="342"/>
                  </a:lnTo>
                  <a:lnTo>
                    <a:pt x="590" y="346"/>
                  </a:lnTo>
                  <a:lnTo>
                    <a:pt x="599" y="350"/>
                  </a:lnTo>
                  <a:lnTo>
                    <a:pt x="607" y="353"/>
                  </a:lnTo>
                  <a:lnTo>
                    <a:pt x="614" y="356"/>
                  </a:lnTo>
                  <a:lnTo>
                    <a:pt x="623" y="357"/>
                  </a:lnTo>
                  <a:lnTo>
                    <a:pt x="632" y="359"/>
                  </a:lnTo>
                  <a:lnTo>
                    <a:pt x="641" y="359"/>
                  </a:lnTo>
                  <a:lnTo>
                    <a:pt x="649" y="360"/>
                  </a:lnTo>
                  <a:lnTo>
                    <a:pt x="656" y="360"/>
                  </a:lnTo>
                  <a:lnTo>
                    <a:pt x="665" y="360"/>
                  </a:lnTo>
                  <a:lnTo>
                    <a:pt x="673" y="360"/>
                  </a:lnTo>
                  <a:lnTo>
                    <a:pt x="682" y="360"/>
                  </a:lnTo>
                  <a:lnTo>
                    <a:pt x="689" y="359"/>
                  </a:lnTo>
                  <a:lnTo>
                    <a:pt x="696" y="357"/>
                  </a:lnTo>
                  <a:lnTo>
                    <a:pt x="703" y="353"/>
                  </a:lnTo>
                  <a:lnTo>
                    <a:pt x="709" y="348"/>
                  </a:lnTo>
                  <a:lnTo>
                    <a:pt x="715" y="341"/>
                  </a:lnTo>
                  <a:lnTo>
                    <a:pt x="720" y="333"/>
                  </a:lnTo>
                  <a:lnTo>
                    <a:pt x="724" y="324"/>
                  </a:lnTo>
                  <a:lnTo>
                    <a:pt x="727" y="315"/>
                  </a:lnTo>
                  <a:lnTo>
                    <a:pt x="728" y="305"/>
                  </a:lnTo>
                  <a:lnTo>
                    <a:pt x="731" y="296"/>
                  </a:lnTo>
                  <a:lnTo>
                    <a:pt x="732" y="286"/>
                  </a:lnTo>
                  <a:lnTo>
                    <a:pt x="733" y="276"/>
                  </a:lnTo>
                  <a:lnTo>
                    <a:pt x="733" y="262"/>
                  </a:lnTo>
                  <a:lnTo>
                    <a:pt x="733" y="248"/>
                  </a:lnTo>
                  <a:lnTo>
                    <a:pt x="733" y="234"/>
                  </a:lnTo>
                  <a:lnTo>
                    <a:pt x="731" y="220"/>
                  </a:lnTo>
                  <a:lnTo>
                    <a:pt x="730" y="206"/>
                  </a:lnTo>
                  <a:lnTo>
                    <a:pt x="728" y="191"/>
                  </a:lnTo>
                  <a:lnTo>
                    <a:pt x="727" y="177"/>
                  </a:lnTo>
                  <a:lnTo>
                    <a:pt x="727" y="162"/>
                  </a:lnTo>
                  <a:lnTo>
                    <a:pt x="727" y="155"/>
                  </a:lnTo>
                  <a:lnTo>
                    <a:pt x="727" y="148"/>
                  </a:lnTo>
                  <a:lnTo>
                    <a:pt x="728" y="140"/>
                  </a:lnTo>
                  <a:lnTo>
                    <a:pt x="730" y="132"/>
                  </a:lnTo>
                  <a:lnTo>
                    <a:pt x="731" y="125"/>
                  </a:lnTo>
                  <a:lnTo>
                    <a:pt x="732" y="118"/>
                  </a:lnTo>
                  <a:lnTo>
                    <a:pt x="732" y="111"/>
                  </a:lnTo>
                  <a:lnTo>
                    <a:pt x="733" y="102"/>
                  </a:lnTo>
                  <a:lnTo>
                    <a:pt x="733" y="94"/>
                  </a:lnTo>
                  <a:lnTo>
                    <a:pt x="733" y="87"/>
                  </a:lnTo>
                  <a:lnTo>
                    <a:pt x="732" y="78"/>
                  </a:lnTo>
                  <a:lnTo>
                    <a:pt x="732" y="70"/>
                  </a:lnTo>
                  <a:lnTo>
                    <a:pt x="731" y="62"/>
                  </a:lnTo>
                  <a:lnTo>
                    <a:pt x="731" y="53"/>
                  </a:lnTo>
                  <a:lnTo>
                    <a:pt x="732" y="45"/>
                  </a:lnTo>
                  <a:lnTo>
                    <a:pt x="733" y="36"/>
                  </a:lnTo>
                  <a:lnTo>
                    <a:pt x="734" y="32"/>
                  </a:lnTo>
                  <a:lnTo>
                    <a:pt x="736" y="26"/>
                  </a:lnTo>
                  <a:lnTo>
                    <a:pt x="738" y="20"/>
                  </a:lnTo>
                  <a:lnTo>
                    <a:pt x="740" y="14"/>
                  </a:lnTo>
                  <a:lnTo>
                    <a:pt x="744" y="9"/>
                  </a:lnTo>
                  <a:lnTo>
                    <a:pt x="748" y="4"/>
                  </a:lnTo>
                  <a:lnTo>
                    <a:pt x="752" y="2"/>
                  </a:lnTo>
                  <a:lnTo>
                    <a:pt x="757" y="0"/>
                  </a:lnTo>
                  <a:lnTo>
                    <a:pt x="767" y="3"/>
                  </a:lnTo>
                  <a:lnTo>
                    <a:pt x="778" y="5"/>
                  </a:lnTo>
                  <a:lnTo>
                    <a:pt x="787" y="10"/>
                  </a:lnTo>
                  <a:lnTo>
                    <a:pt x="797" y="15"/>
                  </a:lnTo>
                  <a:lnTo>
                    <a:pt x="805" y="21"/>
                  </a:lnTo>
                  <a:lnTo>
                    <a:pt x="814" y="28"/>
                  </a:lnTo>
                  <a:lnTo>
                    <a:pt x="822" y="35"/>
                  </a:lnTo>
                  <a:lnTo>
                    <a:pt x="829" y="42"/>
                  </a:lnTo>
                  <a:lnTo>
                    <a:pt x="836" y="53"/>
                  </a:lnTo>
                  <a:lnTo>
                    <a:pt x="842" y="63"/>
                  </a:lnTo>
                  <a:lnTo>
                    <a:pt x="848" y="75"/>
                  </a:lnTo>
                  <a:lnTo>
                    <a:pt x="853" y="86"/>
                  </a:lnTo>
                  <a:lnTo>
                    <a:pt x="858" y="98"/>
                  </a:lnTo>
                  <a:lnTo>
                    <a:pt x="862" y="110"/>
                  </a:lnTo>
                  <a:lnTo>
                    <a:pt x="866" y="122"/>
                  </a:lnTo>
                  <a:lnTo>
                    <a:pt x="871" y="132"/>
                  </a:lnTo>
                  <a:lnTo>
                    <a:pt x="878" y="149"/>
                  </a:lnTo>
                  <a:lnTo>
                    <a:pt x="884" y="166"/>
                  </a:lnTo>
                  <a:lnTo>
                    <a:pt x="892" y="182"/>
                  </a:lnTo>
                  <a:lnTo>
                    <a:pt x="898" y="198"/>
                  </a:lnTo>
                  <a:lnTo>
                    <a:pt x="905" y="215"/>
                  </a:lnTo>
                  <a:lnTo>
                    <a:pt x="911" y="232"/>
                  </a:lnTo>
                  <a:lnTo>
                    <a:pt x="918" y="248"/>
                  </a:lnTo>
                  <a:lnTo>
                    <a:pt x="925" y="264"/>
                  </a:lnTo>
                  <a:lnTo>
                    <a:pt x="929" y="274"/>
                  </a:lnTo>
                  <a:lnTo>
                    <a:pt x="932" y="285"/>
                  </a:lnTo>
                  <a:lnTo>
                    <a:pt x="937" y="294"/>
                  </a:lnTo>
                  <a:lnTo>
                    <a:pt x="941" y="304"/>
                  </a:lnTo>
                  <a:lnTo>
                    <a:pt x="946" y="315"/>
                  </a:lnTo>
                  <a:lnTo>
                    <a:pt x="950" y="324"/>
                  </a:lnTo>
                  <a:lnTo>
                    <a:pt x="955" y="333"/>
                  </a:lnTo>
                  <a:lnTo>
                    <a:pt x="961" y="342"/>
                  </a:lnTo>
                  <a:lnTo>
                    <a:pt x="968" y="352"/>
                  </a:lnTo>
                  <a:lnTo>
                    <a:pt x="976" y="362"/>
                  </a:lnTo>
                  <a:lnTo>
                    <a:pt x="983" y="371"/>
                  </a:lnTo>
                  <a:lnTo>
                    <a:pt x="991" y="380"/>
                  </a:lnTo>
                  <a:lnTo>
                    <a:pt x="1000" y="389"/>
                  </a:lnTo>
                  <a:lnTo>
                    <a:pt x="1009" y="397"/>
                  </a:lnTo>
                  <a:lnTo>
                    <a:pt x="1018" y="406"/>
                  </a:lnTo>
                  <a:lnTo>
                    <a:pt x="1027" y="414"/>
                  </a:lnTo>
                  <a:lnTo>
                    <a:pt x="1038" y="425"/>
                  </a:lnTo>
                  <a:lnTo>
                    <a:pt x="1049" y="436"/>
                  </a:lnTo>
                  <a:lnTo>
                    <a:pt x="1061" y="447"/>
                  </a:lnTo>
                  <a:lnTo>
                    <a:pt x="1073" y="456"/>
                  </a:lnTo>
                  <a:lnTo>
                    <a:pt x="1084" y="467"/>
                  </a:lnTo>
                  <a:lnTo>
                    <a:pt x="1097" y="475"/>
                  </a:lnTo>
                  <a:lnTo>
                    <a:pt x="1109" y="485"/>
                  </a:lnTo>
                  <a:lnTo>
                    <a:pt x="1123" y="492"/>
                  </a:lnTo>
                  <a:lnTo>
                    <a:pt x="1134" y="497"/>
                  </a:lnTo>
                  <a:lnTo>
                    <a:pt x="1145" y="501"/>
                  </a:lnTo>
                  <a:lnTo>
                    <a:pt x="1157" y="503"/>
                  </a:lnTo>
                  <a:lnTo>
                    <a:pt x="1169" y="505"/>
                  </a:lnTo>
                  <a:lnTo>
                    <a:pt x="1182" y="508"/>
                  </a:lnTo>
                  <a:lnTo>
                    <a:pt x="1194" y="508"/>
                  </a:lnTo>
                  <a:lnTo>
                    <a:pt x="1206" y="509"/>
                  </a:lnTo>
                  <a:lnTo>
                    <a:pt x="1218" y="510"/>
                  </a:lnTo>
                  <a:lnTo>
                    <a:pt x="1234" y="510"/>
                  </a:lnTo>
                  <a:lnTo>
                    <a:pt x="1249" y="511"/>
                  </a:lnTo>
                  <a:lnTo>
                    <a:pt x="1264" y="511"/>
                  </a:lnTo>
                  <a:lnTo>
                    <a:pt x="1279" y="510"/>
                  </a:lnTo>
                  <a:lnTo>
                    <a:pt x="1294" y="509"/>
                  </a:lnTo>
                  <a:lnTo>
                    <a:pt x="1309" y="508"/>
                  </a:lnTo>
                  <a:lnTo>
                    <a:pt x="1324" y="507"/>
                  </a:lnTo>
                  <a:lnTo>
                    <a:pt x="1338" y="504"/>
                  </a:lnTo>
                  <a:lnTo>
                    <a:pt x="1349" y="502"/>
                  </a:lnTo>
                  <a:lnTo>
                    <a:pt x="1360" y="499"/>
                  </a:lnTo>
                  <a:lnTo>
                    <a:pt x="1369" y="497"/>
                  </a:lnTo>
                  <a:lnTo>
                    <a:pt x="1380" y="493"/>
                  </a:lnTo>
                  <a:lnTo>
                    <a:pt x="1390" y="490"/>
                  </a:lnTo>
                  <a:lnTo>
                    <a:pt x="1399" y="485"/>
                  </a:lnTo>
                  <a:lnTo>
                    <a:pt x="1408" y="480"/>
                  </a:lnTo>
                  <a:lnTo>
                    <a:pt x="1416" y="474"/>
                  </a:lnTo>
                  <a:lnTo>
                    <a:pt x="1426" y="467"/>
                  </a:lnTo>
                  <a:lnTo>
                    <a:pt x="1434" y="461"/>
                  </a:lnTo>
                  <a:lnTo>
                    <a:pt x="1444" y="453"/>
                  </a:lnTo>
                  <a:lnTo>
                    <a:pt x="1451" y="444"/>
                  </a:lnTo>
                  <a:lnTo>
                    <a:pt x="1458" y="436"/>
                  </a:lnTo>
                  <a:lnTo>
                    <a:pt x="1463" y="427"/>
                  </a:lnTo>
                  <a:lnTo>
                    <a:pt x="1464" y="423"/>
                  </a:lnTo>
                  <a:lnTo>
                    <a:pt x="1465" y="418"/>
                  </a:lnTo>
                  <a:lnTo>
                    <a:pt x="1465" y="413"/>
                  </a:lnTo>
                  <a:lnTo>
                    <a:pt x="1464" y="408"/>
                  </a:lnTo>
                  <a:lnTo>
                    <a:pt x="1463" y="403"/>
                  </a:lnTo>
                  <a:lnTo>
                    <a:pt x="1460" y="399"/>
                  </a:lnTo>
                  <a:lnTo>
                    <a:pt x="1457" y="395"/>
                  </a:lnTo>
                  <a:lnTo>
                    <a:pt x="1453" y="391"/>
                  </a:lnTo>
                  <a:lnTo>
                    <a:pt x="1444" y="386"/>
                  </a:lnTo>
                  <a:lnTo>
                    <a:pt x="1433" y="381"/>
                  </a:lnTo>
                  <a:lnTo>
                    <a:pt x="1421" y="377"/>
                  </a:lnTo>
                  <a:lnTo>
                    <a:pt x="1409" y="374"/>
                  </a:lnTo>
                  <a:lnTo>
                    <a:pt x="1397" y="370"/>
                  </a:lnTo>
                  <a:lnTo>
                    <a:pt x="1386" y="366"/>
                  </a:lnTo>
                  <a:lnTo>
                    <a:pt x="1374" y="362"/>
                  </a:lnTo>
                  <a:lnTo>
                    <a:pt x="1361" y="357"/>
                  </a:lnTo>
                  <a:lnTo>
                    <a:pt x="1348" y="353"/>
                  </a:lnTo>
                  <a:lnTo>
                    <a:pt x="1334" y="350"/>
                  </a:lnTo>
                  <a:lnTo>
                    <a:pt x="1322" y="346"/>
                  </a:lnTo>
                  <a:lnTo>
                    <a:pt x="1309" y="341"/>
                  </a:lnTo>
                  <a:lnTo>
                    <a:pt x="1297" y="336"/>
                  </a:lnTo>
                  <a:lnTo>
                    <a:pt x="1284" y="330"/>
                  </a:lnTo>
                  <a:lnTo>
                    <a:pt x="1277" y="326"/>
                  </a:lnTo>
                  <a:lnTo>
                    <a:pt x="1270" y="321"/>
                  </a:lnTo>
                  <a:lnTo>
                    <a:pt x="1262" y="315"/>
                  </a:lnTo>
                  <a:lnTo>
                    <a:pt x="1255" y="310"/>
                  </a:lnTo>
                  <a:lnTo>
                    <a:pt x="1248" y="303"/>
                  </a:lnTo>
                  <a:lnTo>
                    <a:pt x="1242" y="297"/>
                  </a:lnTo>
                  <a:lnTo>
                    <a:pt x="1236" y="290"/>
                  </a:lnTo>
                  <a:lnTo>
                    <a:pt x="1230" y="282"/>
                  </a:lnTo>
                  <a:lnTo>
                    <a:pt x="1225" y="275"/>
                  </a:lnTo>
                  <a:lnTo>
                    <a:pt x="1220" y="267"/>
                  </a:lnTo>
                  <a:lnTo>
                    <a:pt x="1216" y="260"/>
                  </a:lnTo>
                  <a:lnTo>
                    <a:pt x="1212" y="251"/>
                  </a:lnTo>
                  <a:lnTo>
                    <a:pt x="1208" y="243"/>
                  </a:lnTo>
                  <a:lnTo>
                    <a:pt x="1205" y="234"/>
                  </a:lnTo>
                  <a:lnTo>
                    <a:pt x="1202" y="225"/>
                  </a:lnTo>
                  <a:lnTo>
                    <a:pt x="1201" y="216"/>
                  </a:lnTo>
                  <a:lnTo>
                    <a:pt x="1200" y="210"/>
                  </a:lnTo>
                  <a:lnTo>
                    <a:pt x="1199" y="204"/>
                  </a:lnTo>
                  <a:lnTo>
                    <a:pt x="1198" y="197"/>
                  </a:lnTo>
                  <a:lnTo>
                    <a:pt x="1198" y="191"/>
                  </a:lnTo>
                  <a:lnTo>
                    <a:pt x="1199" y="184"/>
                  </a:lnTo>
                  <a:lnTo>
                    <a:pt x="1200" y="178"/>
                  </a:lnTo>
                  <a:lnTo>
                    <a:pt x="1202" y="173"/>
                  </a:lnTo>
                  <a:lnTo>
                    <a:pt x="1207" y="168"/>
                  </a:lnTo>
                  <a:lnTo>
                    <a:pt x="1213" y="164"/>
                  </a:lnTo>
                  <a:lnTo>
                    <a:pt x="1219" y="161"/>
                  </a:lnTo>
                  <a:lnTo>
                    <a:pt x="1226" y="159"/>
                  </a:lnTo>
                  <a:lnTo>
                    <a:pt x="1235" y="156"/>
                  </a:lnTo>
                  <a:lnTo>
                    <a:pt x="1243" y="156"/>
                  </a:lnTo>
                  <a:lnTo>
                    <a:pt x="1250" y="156"/>
                  </a:lnTo>
                  <a:lnTo>
                    <a:pt x="1259" y="156"/>
                  </a:lnTo>
                  <a:lnTo>
                    <a:pt x="1266" y="156"/>
                  </a:lnTo>
                  <a:lnTo>
                    <a:pt x="1277" y="158"/>
                  </a:lnTo>
                  <a:lnTo>
                    <a:pt x="1286" y="161"/>
                  </a:lnTo>
                  <a:lnTo>
                    <a:pt x="1296" y="164"/>
                  </a:lnTo>
                  <a:lnTo>
                    <a:pt x="1306" y="167"/>
                  </a:lnTo>
                  <a:lnTo>
                    <a:pt x="1315" y="171"/>
                  </a:lnTo>
                  <a:lnTo>
                    <a:pt x="1325" y="174"/>
                  </a:lnTo>
                  <a:lnTo>
                    <a:pt x="1334" y="178"/>
                  </a:lnTo>
                  <a:lnTo>
                    <a:pt x="1344" y="180"/>
                  </a:lnTo>
                  <a:lnTo>
                    <a:pt x="1356" y="183"/>
                  </a:lnTo>
                  <a:lnTo>
                    <a:pt x="1368" y="185"/>
                  </a:lnTo>
                  <a:lnTo>
                    <a:pt x="1380" y="186"/>
                  </a:lnTo>
                  <a:lnTo>
                    <a:pt x="1392" y="189"/>
                  </a:lnTo>
                  <a:lnTo>
                    <a:pt x="1404" y="190"/>
                  </a:lnTo>
                  <a:lnTo>
                    <a:pt x="1416" y="191"/>
                  </a:lnTo>
                  <a:lnTo>
                    <a:pt x="1428" y="192"/>
                  </a:lnTo>
                  <a:lnTo>
                    <a:pt x="1440" y="192"/>
                  </a:lnTo>
                  <a:lnTo>
                    <a:pt x="1454" y="194"/>
                  </a:lnTo>
                  <a:lnTo>
                    <a:pt x="1468" y="194"/>
                  </a:lnTo>
                  <a:lnTo>
                    <a:pt x="1481" y="194"/>
                  </a:lnTo>
                  <a:lnTo>
                    <a:pt x="1494" y="194"/>
                  </a:lnTo>
                  <a:lnTo>
                    <a:pt x="1508" y="194"/>
                  </a:lnTo>
                  <a:lnTo>
                    <a:pt x="1522" y="194"/>
                  </a:lnTo>
                  <a:lnTo>
                    <a:pt x="1535" y="194"/>
                  </a:lnTo>
                  <a:lnTo>
                    <a:pt x="1548" y="192"/>
                  </a:lnTo>
                  <a:lnTo>
                    <a:pt x="1558" y="192"/>
                  </a:lnTo>
                  <a:lnTo>
                    <a:pt x="1566" y="191"/>
                  </a:lnTo>
                  <a:lnTo>
                    <a:pt x="1576" y="189"/>
                  </a:lnTo>
                  <a:lnTo>
                    <a:pt x="1584" y="188"/>
                  </a:lnTo>
                  <a:lnTo>
                    <a:pt x="1594" y="186"/>
                  </a:lnTo>
                  <a:lnTo>
                    <a:pt x="1602" y="185"/>
                  </a:lnTo>
                  <a:lnTo>
                    <a:pt x="1612" y="185"/>
                  </a:lnTo>
                  <a:lnTo>
                    <a:pt x="1620" y="186"/>
                  </a:lnTo>
                  <a:lnTo>
                    <a:pt x="1628" y="189"/>
                  </a:lnTo>
                  <a:lnTo>
                    <a:pt x="1636" y="191"/>
                  </a:lnTo>
                  <a:lnTo>
                    <a:pt x="1643" y="194"/>
                  </a:lnTo>
                  <a:lnTo>
                    <a:pt x="1650" y="197"/>
                  </a:lnTo>
                  <a:lnTo>
                    <a:pt x="1657" y="201"/>
                  </a:lnTo>
                  <a:lnTo>
                    <a:pt x="1663" y="206"/>
                  </a:lnTo>
                  <a:lnTo>
                    <a:pt x="1669" y="210"/>
                  </a:lnTo>
                  <a:lnTo>
                    <a:pt x="1674" y="216"/>
                  </a:lnTo>
                  <a:lnTo>
                    <a:pt x="1679" y="222"/>
                  </a:lnTo>
                  <a:lnTo>
                    <a:pt x="1682" y="230"/>
                  </a:lnTo>
                  <a:lnTo>
                    <a:pt x="1685" y="237"/>
                  </a:lnTo>
                  <a:lnTo>
                    <a:pt x="1686" y="245"/>
                  </a:lnTo>
                  <a:lnTo>
                    <a:pt x="1688" y="252"/>
                  </a:lnTo>
                  <a:lnTo>
                    <a:pt x="1690" y="261"/>
                  </a:lnTo>
                  <a:lnTo>
                    <a:pt x="1691" y="269"/>
                  </a:lnTo>
                  <a:lnTo>
                    <a:pt x="1692" y="276"/>
                  </a:lnTo>
                  <a:lnTo>
                    <a:pt x="1697" y="297"/>
                  </a:lnTo>
                  <a:lnTo>
                    <a:pt x="1702" y="317"/>
                  </a:lnTo>
                  <a:lnTo>
                    <a:pt x="1708" y="336"/>
                  </a:lnTo>
                  <a:lnTo>
                    <a:pt x="1712" y="357"/>
                  </a:lnTo>
                  <a:lnTo>
                    <a:pt x="1716" y="377"/>
                  </a:lnTo>
                  <a:lnTo>
                    <a:pt x="1721" y="397"/>
                  </a:lnTo>
                  <a:lnTo>
                    <a:pt x="1724" y="418"/>
                  </a:lnTo>
                  <a:lnTo>
                    <a:pt x="1728" y="438"/>
                  </a:lnTo>
                  <a:lnTo>
                    <a:pt x="1730" y="456"/>
                  </a:lnTo>
                  <a:lnTo>
                    <a:pt x="1732" y="475"/>
                  </a:lnTo>
                  <a:lnTo>
                    <a:pt x="1733" y="495"/>
                  </a:lnTo>
                  <a:lnTo>
                    <a:pt x="1733" y="513"/>
                  </a:lnTo>
                  <a:lnTo>
                    <a:pt x="1734" y="532"/>
                  </a:lnTo>
                  <a:lnTo>
                    <a:pt x="1735" y="551"/>
                  </a:lnTo>
                  <a:lnTo>
                    <a:pt x="1736" y="569"/>
                  </a:lnTo>
                  <a:lnTo>
                    <a:pt x="1740" y="588"/>
                  </a:lnTo>
                  <a:lnTo>
                    <a:pt x="1744" y="600"/>
                  </a:lnTo>
                  <a:lnTo>
                    <a:pt x="1746" y="612"/>
                  </a:lnTo>
                  <a:lnTo>
                    <a:pt x="1751" y="624"/>
                  </a:lnTo>
                  <a:lnTo>
                    <a:pt x="1754" y="636"/>
                  </a:lnTo>
                  <a:lnTo>
                    <a:pt x="1760" y="648"/>
                  </a:lnTo>
                  <a:lnTo>
                    <a:pt x="1766" y="659"/>
                  </a:lnTo>
                  <a:lnTo>
                    <a:pt x="1774" y="669"/>
                  </a:lnTo>
                  <a:lnTo>
                    <a:pt x="1782" y="678"/>
                  </a:lnTo>
                  <a:lnTo>
                    <a:pt x="1788" y="682"/>
                  </a:lnTo>
                  <a:lnTo>
                    <a:pt x="1795" y="685"/>
                  </a:lnTo>
                  <a:lnTo>
                    <a:pt x="1804" y="689"/>
                  </a:lnTo>
                  <a:lnTo>
                    <a:pt x="1812" y="690"/>
                  </a:lnTo>
                  <a:lnTo>
                    <a:pt x="1819" y="690"/>
                  </a:lnTo>
                  <a:lnTo>
                    <a:pt x="1828" y="689"/>
                  </a:lnTo>
                  <a:lnTo>
                    <a:pt x="1835" y="687"/>
                  </a:lnTo>
                  <a:lnTo>
                    <a:pt x="1842" y="684"/>
                  </a:lnTo>
                  <a:lnTo>
                    <a:pt x="1856" y="673"/>
                  </a:lnTo>
                  <a:lnTo>
                    <a:pt x="1868" y="661"/>
                  </a:lnTo>
                  <a:lnTo>
                    <a:pt x="1880" y="648"/>
                  </a:lnTo>
                  <a:lnTo>
                    <a:pt x="1891" y="634"/>
                  </a:lnTo>
                  <a:lnTo>
                    <a:pt x="1901" y="619"/>
                  </a:lnTo>
                  <a:lnTo>
                    <a:pt x="1912" y="605"/>
                  </a:lnTo>
                  <a:lnTo>
                    <a:pt x="1921" y="591"/>
                  </a:lnTo>
                  <a:lnTo>
                    <a:pt x="1932" y="576"/>
                  </a:lnTo>
                  <a:lnTo>
                    <a:pt x="1945" y="558"/>
                  </a:lnTo>
                  <a:lnTo>
                    <a:pt x="1958" y="540"/>
                  </a:lnTo>
                  <a:lnTo>
                    <a:pt x="1970" y="522"/>
                  </a:lnTo>
                  <a:lnTo>
                    <a:pt x="1982" y="504"/>
                  </a:lnTo>
                  <a:lnTo>
                    <a:pt x="1996" y="486"/>
                  </a:lnTo>
                  <a:lnTo>
                    <a:pt x="2008" y="467"/>
                  </a:lnTo>
                  <a:lnTo>
                    <a:pt x="2021" y="450"/>
                  </a:lnTo>
                  <a:lnTo>
                    <a:pt x="2034" y="432"/>
                  </a:lnTo>
                  <a:lnTo>
                    <a:pt x="2044" y="419"/>
                  </a:lnTo>
                  <a:lnTo>
                    <a:pt x="2053" y="407"/>
                  </a:lnTo>
                  <a:lnTo>
                    <a:pt x="2064" y="394"/>
                  </a:lnTo>
                  <a:lnTo>
                    <a:pt x="2074" y="382"/>
                  </a:lnTo>
                  <a:lnTo>
                    <a:pt x="2084" y="370"/>
                  </a:lnTo>
                  <a:lnTo>
                    <a:pt x="2095" y="358"/>
                  </a:lnTo>
                  <a:lnTo>
                    <a:pt x="2106" y="347"/>
                  </a:lnTo>
                  <a:lnTo>
                    <a:pt x="2118" y="336"/>
                  </a:lnTo>
                  <a:lnTo>
                    <a:pt x="2124" y="330"/>
                  </a:lnTo>
                  <a:lnTo>
                    <a:pt x="2131" y="324"/>
                  </a:lnTo>
                  <a:lnTo>
                    <a:pt x="2140" y="318"/>
                  </a:lnTo>
                  <a:lnTo>
                    <a:pt x="2148" y="312"/>
                  </a:lnTo>
                  <a:lnTo>
                    <a:pt x="2156" y="309"/>
                  </a:lnTo>
                  <a:lnTo>
                    <a:pt x="2164" y="306"/>
                  </a:lnTo>
                  <a:lnTo>
                    <a:pt x="2166" y="306"/>
                  </a:lnTo>
                  <a:lnTo>
                    <a:pt x="2168" y="308"/>
                  </a:lnTo>
                  <a:lnTo>
                    <a:pt x="2171" y="310"/>
                  </a:lnTo>
                  <a:lnTo>
                    <a:pt x="2172" y="312"/>
                  </a:lnTo>
                  <a:lnTo>
                    <a:pt x="2177" y="334"/>
                  </a:lnTo>
                  <a:lnTo>
                    <a:pt x="2180" y="354"/>
                  </a:lnTo>
                  <a:lnTo>
                    <a:pt x="2182" y="377"/>
                  </a:lnTo>
                  <a:lnTo>
                    <a:pt x="2182" y="399"/>
                  </a:lnTo>
                  <a:lnTo>
                    <a:pt x="2179" y="421"/>
                  </a:lnTo>
                  <a:lnTo>
                    <a:pt x="2176" y="443"/>
                  </a:lnTo>
                  <a:lnTo>
                    <a:pt x="2171" y="465"/>
                  </a:lnTo>
                  <a:lnTo>
                    <a:pt x="2166" y="486"/>
                  </a:lnTo>
                  <a:lnTo>
                    <a:pt x="2155" y="523"/>
                  </a:lnTo>
                  <a:lnTo>
                    <a:pt x="2142" y="559"/>
                  </a:lnTo>
                  <a:lnTo>
                    <a:pt x="2128" y="597"/>
                  </a:lnTo>
                  <a:lnTo>
                    <a:pt x="2112" y="633"/>
                  </a:lnTo>
                  <a:lnTo>
                    <a:pt x="2096" y="667"/>
                  </a:lnTo>
                  <a:lnTo>
                    <a:pt x="2080" y="703"/>
                  </a:lnTo>
                  <a:lnTo>
                    <a:pt x="2063" y="738"/>
                  </a:lnTo>
                  <a:lnTo>
                    <a:pt x="2046" y="773"/>
                  </a:lnTo>
                  <a:lnTo>
                    <a:pt x="2036" y="793"/>
                  </a:lnTo>
                  <a:lnTo>
                    <a:pt x="2027" y="813"/>
                  </a:lnTo>
                  <a:lnTo>
                    <a:pt x="2016" y="832"/>
                  </a:lnTo>
                  <a:lnTo>
                    <a:pt x="2005" y="851"/>
                  </a:lnTo>
                  <a:lnTo>
                    <a:pt x="1994" y="870"/>
                  </a:lnTo>
                  <a:lnTo>
                    <a:pt x="1982" y="888"/>
                  </a:lnTo>
                  <a:lnTo>
                    <a:pt x="1969" y="906"/>
                  </a:lnTo>
                  <a:lnTo>
                    <a:pt x="1956" y="923"/>
                  </a:lnTo>
                  <a:lnTo>
                    <a:pt x="1946" y="934"/>
                  </a:lnTo>
                  <a:lnTo>
                    <a:pt x="1936" y="943"/>
                  </a:lnTo>
                  <a:lnTo>
                    <a:pt x="1925" y="952"/>
                  </a:lnTo>
                  <a:lnTo>
                    <a:pt x="1913" y="960"/>
                  </a:lnTo>
                  <a:lnTo>
                    <a:pt x="1901" y="969"/>
                  </a:lnTo>
                  <a:lnTo>
                    <a:pt x="1889" y="977"/>
                  </a:lnTo>
                  <a:lnTo>
                    <a:pt x="1877" y="985"/>
                  </a:lnTo>
                  <a:lnTo>
                    <a:pt x="1866" y="995"/>
                  </a:lnTo>
                  <a:lnTo>
                    <a:pt x="1861" y="1000"/>
                  </a:lnTo>
                  <a:lnTo>
                    <a:pt x="1855" y="1005"/>
                  </a:lnTo>
                  <a:lnTo>
                    <a:pt x="1850" y="1009"/>
                  </a:lnTo>
                  <a:lnTo>
                    <a:pt x="1844" y="1014"/>
                  </a:lnTo>
                  <a:lnTo>
                    <a:pt x="1840" y="1019"/>
                  </a:lnTo>
                  <a:lnTo>
                    <a:pt x="1836" y="1025"/>
                  </a:lnTo>
                  <a:lnTo>
                    <a:pt x="1832" y="1031"/>
                  </a:lnTo>
                  <a:lnTo>
                    <a:pt x="1830" y="1037"/>
                  </a:lnTo>
                  <a:lnTo>
                    <a:pt x="1829" y="1045"/>
                  </a:lnTo>
                  <a:lnTo>
                    <a:pt x="1828" y="1054"/>
                  </a:lnTo>
                  <a:lnTo>
                    <a:pt x="1828" y="1062"/>
                  </a:lnTo>
                  <a:lnTo>
                    <a:pt x="1828" y="1071"/>
                  </a:lnTo>
                  <a:lnTo>
                    <a:pt x="1830" y="1078"/>
                  </a:lnTo>
                  <a:lnTo>
                    <a:pt x="1832" y="1086"/>
                  </a:lnTo>
                  <a:lnTo>
                    <a:pt x="1836" y="1092"/>
                  </a:lnTo>
                  <a:lnTo>
                    <a:pt x="1842" y="1097"/>
                  </a:lnTo>
                  <a:lnTo>
                    <a:pt x="1854" y="1104"/>
                  </a:lnTo>
                  <a:lnTo>
                    <a:pt x="1867" y="1109"/>
                  </a:lnTo>
                  <a:lnTo>
                    <a:pt x="1880" y="1113"/>
                  </a:lnTo>
                  <a:lnTo>
                    <a:pt x="1894" y="1116"/>
                  </a:lnTo>
                  <a:lnTo>
                    <a:pt x="1908" y="1117"/>
                  </a:lnTo>
                  <a:lnTo>
                    <a:pt x="1922" y="1117"/>
                  </a:lnTo>
                  <a:lnTo>
                    <a:pt x="1937" y="1116"/>
                  </a:lnTo>
                  <a:lnTo>
                    <a:pt x="1950" y="1115"/>
                  </a:lnTo>
                  <a:lnTo>
                    <a:pt x="1964" y="1111"/>
                  </a:lnTo>
                  <a:lnTo>
                    <a:pt x="1980" y="1108"/>
                  </a:lnTo>
                  <a:lnTo>
                    <a:pt x="1994" y="1103"/>
                  </a:lnTo>
                  <a:lnTo>
                    <a:pt x="2009" y="1097"/>
                  </a:lnTo>
                  <a:lnTo>
                    <a:pt x="2022" y="1090"/>
                  </a:lnTo>
                  <a:lnTo>
                    <a:pt x="2035" y="1081"/>
                  </a:lnTo>
                  <a:lnTo>
                    <a:pt x="2047" y="1072"/>
                  </a:lnTo>
                  <a:lnTo>
                    <a:pt x="2058" y="1061"/>
                  </a:lnTo>
                  <a:lnTo>
                    <a:pt x="2068" y="1050"/>
                  </a:lnTo>
                  <a:lnTo>
                    <a:pt x="2076" y="1039"/>
                  </a:lnTo>
                  <a:lnTo>
                    <a:pt x="2084" y="1027"/>
                  </a:lnTo>
                  <a:lnTo>
                    <a:pt x="2092" y="1017"/>
                  </a:lnTo>
                  <a:lnTo>
                    <a:pt x="2106" y="991"/>
                  </a:lnTo>
                  <a:lnTo>
                    <a:pt x="2119" y="966"/>
                  </a:lnTo>
                  <a:lnTo>
                    <a:pt x="2134" y="941"/>
                  </a:lnTo>
                  <a:lnTo>
                    <a:pt x="2147" y="917"/>
                  </a:lnTo>
                  <a:lnTo>
                    <a:pt x="2161" y="892"/>
                  </a:lnTo>
                  <a:lnTo>
                    <a:pt x="2178" y="869"/>
                  </a:lnTo>
                  <a:lnTo>
                    <a:pt x="2190" y="855"/>
                  </a:lnTo>
                  <a:lnTo>
                    <a:pt x="2203" y="839"/>
                  </a:lnTo>
                  <a:lnTo>
                    <a:pt x="2216" y="825"/>
                  </a:lnTo>
                  <a:lnTo>
                    <a:pt x="2231" y="811"/>
                  </a:lnTo>
                  <a:lnTo>
                    <a:pt x="2245" y="798"/>
                  </a:lnTo>
                  <a:lnTo>
                    <a:pt x="2261" y="785"/>
                  </a:lnTo>
                  <a:lnTo>
                    <a:pt x="2276" y="773"/>
                  </a:lnTo>
                  <a:lnTo>
                    <a:pt x="2292" y="761"/>
                  </a:lnTo>
                  <a:lnTo>
                    <a:pt x="2302" y="755"/>
                  </a:lnTo>
                  <a:lnTo>
                    <a:pt x="2312" y="748"/>
                  </a:lnTo>
                  <a:lnTo>
                    <a:pt x="2323" y="741"/>
                  </a:lnTo>
                  <a:lnTo>
                    <a:pt x="2335" y="736"/>
                  </a:lnTo>
                  <a:lnTo>
                    <a:pt x="2346" y="731"/>
                  </a:lnTo>
                  <a:lnTo>
                    <a:pt x="2358" y="727"/>
                  </a:lnTo>
                  <a:lnTo>
                    <a:pt x="2370" y="725"/>
                  </a:lnTo>
                  <a:lnTo>
                    <a:pt x="2382" y="725"/>
                  </a:lnTo>
                  <a:lnTo>
                    <a:pt x="2393" y="727"/>
                  </a:lnTo>
                  <a:lnTo>
                    <a:pt x="2404" y="732"/>
                  </a:lnTo>
                  <a:lnTo>
                    <a:pt x="2414" y="738"/>
                  </a:lnTo>
                  <a:lnTo>
                    <a:pt x="2424" y="745"/>
                  </a:lnTo>
                  <a:lnTo>
                    <a:pt x="2434" y="754"/>
                  </a:lnTo>
                  <a:lnTo>
                    <a:pt x="2443" y="762"/>
                  </a:lnTo>
                  <a:lnTo>
                    <a:pt x="2452" y="771"/>
                  </a:lnTo>
                  <a:lnTo>
                    <a:pt x="2460" y="779"/>
                  </a:lnTo>
                  <a:lnTo>
                    <a:pt x="2468" y="789"/>
                  </a:lnTo>
                  <a:lnTo>
                    <a:pt x="2476" y="798"/>
                  </a:lnTo>
                  <a:lnTo>
                    <a:pt x="2483" y="809"/>
                  </a:lnTo>
                  <a:lnTo>
                    <a:pt x="2489" y="820"/>
                  </a:lnTo>
                  <a:lnTo>
                    <a:pt x="2495" y="831"/>
                  </a:lnTo>
                  <a:lnTo>
                    <a:pt x="2501" y="841"/>
                  </a:lnTo>
                  <a:lnTo>
                    <a:pt x="2507" y="852"/>
                  </a:lnTo>
                  <a:lnTo>
                    <a:pt x="2514" y="863"/>
                  </a:lnTo>
                  <a:lnTo>
                    <a:pt x="2524" y="879"/>
                  </a:lnTo>
                  <a:lnTo>
                    <a:pt x="2533" y="894"/>
                  </a:lnTo>
                  <a:lnTo>
                    <a:pt x="2543" y="910"/>
                  </a:lnTo>
                  <a:lnTo>
                    <a:pt x="2552" y="925"/>
                  </a:lnTo>
                  <a:lnTo>
                    <a:pt x="2562" y="941"/>
                  </a:lnTo>
                  <a:lnTo>
                    <a:pt x="2570" y="957"/>
                  </a:lnTo>
                  <a:lnTo>
                    <a:pt x="2579" y="972"/>
                  </a:lnTo>
                  <a:lnTo>
                    <a:pt x="2586" y="989"/>
                  </a:lnTo>
                  <a:lnTo>
                    <a:pt x="2590" y="999"/>
                  </a:lnTo>
                  <a:lnTo>
                    <a:pt x="2593" y="1009"/>
                  </a:lnTo>
                  <a:lnTo>
                    <a:pt x="2596" y="1020"/>
                  </a:lnTo>
                  <a:lnTo>
                    <a:pt x="2598" y="1031"/>
                  </a:lnTo>
                  <a:lnTo>
                    <a:pt x="2599" y="1042"/>
                  </a:lnTo>
                  <a:lnTo>
                    <a:pt x="2599" y="1051"/>
                  </a:lnTo>
                  <a:lnTo>
                    <a:pt x="2599" y="1062"/>
                  </a:lnTo>
                  <a:lnTo>
                    <a:pt x="2598" y="1073"/>
                  </a:lnTo>
                  <a:lnTo>
                    <a:pt x="2596" y="1080"/>
                  </a:lnTo>
                  <a:lnTo>
                    <a:pt x="2593" y="1087"/>
                  </a:lnTo>
                  <a:lnTo>
                    <a:pt x="2590" y="1093"/>
                  </a:lnTo>
                  <a:lnTo>
                    <a:pt x="2585" y="1101"/>
                  </a:lnTo>
                  <a:lnTo>
                    <a:pt x="2580" y="1107"/>
                  </a:lnTo>
                  <a:lnTo>
                    <a:pt x="2574" y="1110"/>
                  </a:lnTo>
                  <a:lnTo>
                    <a:pt x="2568" y="1114"/>
                  </a:lnTo>
                  <a:lnTo>
                    <a:pt x="2562" y="1115"/>
                  </a:lnTo>
                  <a:lnTo>
                    <a:pt x="2551" y="1115"/>
                  </a:lnTo>
                  <a:lnTo>
                    <a:pt x="2540" y="1113"/>
                  </a:lnTo>
                  <a:lnTo>
                    <a:pt x="2530" y="1109"/>
                  </a:lnTo>
                  <a:lnTo>
                    <a:pt x="2520" y="1104"/>
                  </a:lnTo>
                  <a:lnTo>
                    <a:pt x="2510" y="1099"/>
                  </a:lnTo>
                  <a:lnTo>
                    <a:pt x="2501" y="1093"/>
                  </a:lnTo>
                  <a:lnTo>
                    <a:pt x="2492" y="1086"/>
                  </a:lnTo>
                  <a:lnTo>
                    <a:pt x="2484" y="1079"/>
                  </a:lnTo>
                  <a:lnTo>
                    <a:pt x="2473" y="1068"/>
                  </a:lnTo>
                  <a:lnTo>
                    <a:pt x="2462" y="1056"/>
                  </a:lnTo>
                  <a:lnTo>
                    <a:pt x="2454" y="1043"/>
                  </a:lnTo>
                  <a:lnTo>
                    <a:pt x="2446" y="1030"/>
                  </a:lnTo>
                  <a:lnTo>
                    <a:pt x="2437" y="1017"/>
                  </a:lnTo>
                  <a:lnTo>
                    <a:pt x="2429" y="1003"/>
                  </a:lnTo>
                  <a:lnTo>
                    <a:pt x="2420" y="990"/>
                  </a:lnTo>
                  <a:lnTo>
                    <a:pt x="2412" y="977"/>
                  </a:lnTo>
                  <a:lnTo>
                    <a:pt x="2406" y="970"/>
                  </a:lnTo>
                  <a:lnTo>
                    <a:pt x="2401" y="961"/>
                  </a:lnTo>
                  <a:lnTo>
                    <a:pt x="2395" y="953"/>
                  </a:lnTo>
                  <a:lnTo>
                    <a:pt x="2389" y="946"/>
                  </a:lnTo>
                  <a:lnTo>
                    <a:pt x="2384" y="937"/>
                  </a:lnTo>
                  <a:lnTo>
                    <a:pt x="2377" y="930"/>
                  </a:lnTo>
                  <a:lnTo>
                    <a:pt x="2371" y="923"/>
                  </a:lnTo>
                  <a:lnTo>
                    <a:pt x="2364" y="917"/>
                  </a:lnTo>
                  <a:lnTo>
                    <a:pt x="2360" y="915"/>
                  </a:lnTo>
                  <a:lnTo>
                    <a:pt x="2357" y="913"/>
                  </a:lnTo>
                  <a:lnTo>
                    <a:pt x="2352" y="912"/>
                  </a:lnTo>
                  <a:lnTo>
                    <a:pt x="2348" y="912"/>
                  </a:lnTo>
                  <a:lnTo>
                    <a:pt x="2344" y="912"/>
                  </a:lnTo>
                  <a:lnTo>
                    <a:pt x="2340" y="913"/>
                  </a:lnTo>
                  <a:lnTo>
                    <a:pt x="2336" y="915"/>
                  </a:lnTo>
                  <a:lnTo>
                    <a:pt x="2334" y="917"/>
                  </a:lnTo>
                  <a:lnTo>
                    <a:pt x="2323" y="934"/>
                  </a:lnTo>
                  <a:lnTo>
                    <a:pt x="2314" y="951"/>
                  </a:lnTo>
                  <a:lnTo>
                    <a:pt x="2304" y="967"/>
                  </a:lnTo>
                  <a:lnTo>
                    <a:pt x="2297" y="985"/>
                  </a:lnTo>
                  <a:lnTo>
                    <a:pt x="2288" y="1003"/>
                  </a:lnTo>
                  <a:lnTo>
                    <a:pt x="2280" y="1020"/>
                  </a:lnTo>
                  <a:lnTo>
                    <a:pt x="2272" y="1038"/>
                  </a:lnTo>
                  <a:lnTo>
                    <a:pt x="2262" y="1055"/>
                  </a:lnTo>
                  <a:lnTo>
                    <a:pt x="2251" y="1072"/>
                  </a:lnTo>
                  <a:lnTo>
                    <a:pt x="2242" y="1089"/>
                  </a:lnTo>
                  <a:lnTo>
                    <a:pt x="2231" y="1107"/>
                  </a:lnTo>
                  <a:lnTo>
                    <a:pt x="2220" y="1123"/>
                  </a:lnTo>
                  <a:lnTo>
                    <a:pt x="2208" y="1139"/>
                  </a:lnTo>
                  <a:lnTo>
                    <a:pt x="2196" y="1156"/>
                  </a:lnTo>
                  <a:lnTo>
                    <a:pt x="2184" y="1171"/>
                  </a:lnTo>
                  <a:lnTo>
                    <a:pt x="2172" y="1187"/>
                  </a:lnTo>
                  <a:lnTo>
                    <a:pt x="2160" y="1200"/>
                  </a:lnTo>
                  <a:lnTo>
                    <a:pt x="2147" y="1214"/>
                  </a:lnTo>
                  <a:lnTo>
                    <a:pt x="2134" y="1228"/>
                  </a:lnTo>
                  <a:lnTo>
                    <a:pt x="2120" y="1241"/>
                  </a:lnTo>
                  <a:lnTo>
                    <a:pt x="2107" y="1253"/>
                  </a:lnTo>
                  <a:lnTo>
                    <a:pt x="2093" y="1265"/>
                  </a:lnTo>
                  <a:lnTo>
                    <a:pt x="2078" y="1277"/>
                  </a:lnTo>
                  <a:lnTo>
                    <a:pt x="2064" y="1289"/>
                  </a:lnTo>
                  <a:lnTo>
                    <a:pt x="2053" y="1296"/>
                  </a:lnTo>
                  <a:lnTo>
                    <a:pt x="2042" y="1304"/>
                  </a:lnTo>
                  <a:lnTo>
                    <a:pt x="2032" y="1312"/>
                  </a:lnTo>
                  <a:lnTo>
                    <a:pt x="2021" y="1319"/>
                  </a:lnTo>
                  <a:lnTo>
                    <a:pt x="2010" y="1325"/>
                  </a:lnTo>
                  <a:lnTo>
                    <a:pt x="1998" y="1332"/>
                  </a:lnTo>
                  <a:lnTo>
                    <a:pt x="1986" y="1337"/>
                  </a:lnTo>
                  <a:lnTo>
                    <a:pt x="1974" y="1343"/>
                  </a:lnTo>
                  <a:lnTo>
                    <a:pt x="1963" y="1346"/>
                  </a:lnTo>
                  <a:lnTo>
                    <a:pt x="1952" y="1349"/>
                  </a:lnTo>
                  <a:lnTo>
                    <a:pt x="1940" y="1351"/>
                  </a:lnTo>
                  <a:lnTo>
                    <a:pt x="1930" y="1352"/>
                  </a:lnTo>
                  <a:lnTo>
                    <a:pt x="1918" y="1354"/>
                  </a:lnTo>
                  <a:lnTo>
                    <a:pt x="1907" y="1356"/>
                  </a:lnTo>
                  <a:lnTo>
                    <a:pt x="1895" y="1357"/>
                  </a:lnTo>
                  <a:lnTo>
                    <a:pt x="1884" y="1361"/>
                  </a:lnTo>
                  <a:lnTo>
                    <a:pt x="1877" y="1362"/>
                  </a:lnTo>
                  <a:lnTo>
                    <a:pt x="1870" y="1364"/>
                  </a:lnTo>
                  <a:lnTo>
                    <a:pt x="1861" y="1366"/>
                  </a:lnTo>
                  <a:lnTo>
                    <a:pt x="1854" y="1368"/>
                  </a:lnTo>
                  <a:lnTo>
                    <a:pt x="1847" y="1370"/>
                  </a:lnTo>
                  <a:lnTo>
                    <a:pt x="1840" y="1374"/>
                  </a:lnTo>
                  <a:lnTo>
                    <a:pt x="1835" y="1379"/>
                  </a:lnTo>
                  <a:lnTo>
                    <a:pt x="1830" y="1385"/>
                  </a:lnTo>
                  <a:lnTo>
                    <a:pt x="1829" y="1390"/>
                  </a:lnTo>
                  <a:lnTo>
                    <a:pt x="1829" y="1394"/>
                  </a:lnTo>
                  <a:lnTo>
                    <a:pt x="1830" y="1400"/>
                  </a:lnTo>
                  <a:lnTo>
                    <a:pt x="1832" y="1406"/>
                  </a:lnTo>
                  <a:lnTo>
                    <a:pt x="1836" y="1411"/>
                  </a:lnTo>
                  <a:lnTo>
                    <a:pt x="1840" y="1417"/>
                  </a:lnTo>
                  <a:lnTo>
                    <a:pt x="1844" y="1422"/>
                  </a:lnTo>
                  <a:lnTo>
                    <a:pt x="1848" y="1427"/>
                  </a:lnTo>
                  <a:lnTo>
                    <a:pt x="1858" y="1435"/>
                  </a:lnTo>
                  <a:lnTo>
                    <a:pt x="1868" y="1442"/>
                  </a:lnTo>
                  <a:lnTo>
                    <a:pt x="1879" y="1448"/>
                  </a:lnTo>
                  <a:lnTo>
                    <a:pt x="1891" y="1456"/>
                  </a:lnTo>
                  <a:lnTo>
                    <a:pt x="1902" y="1462"/>
                  </a:lnTo>
                  <a:lnTo>
                    <a:pt x="1913" y="1469"/>
                  </a:lnTo>
                  <a:lnTo>
                    <a:pt x="1924" y="1477"/>
                  </a:lnTo>
                  <a:lnTo>
                    <a:pt x="1932" y="1486"/>
                  </a:lnTo>
                  <a:lnTo>
                    <a:pt x="1940" y="1499"/>
                  </a:lnTo>
                  <a:lnTo>
                    <a:pt x="1949" y="1511"/>
                  </a:lnTo>
                  <a:lnTo>
                    <a:pt x="1956" y="1524"/>
                  </a:lnTo>
                  <a:lnTo>
                    <a:pt x="1962" y="1538"/>
                  </a:lnTo>
                  <a:lnTo>
                    <a:pt x="1968" y="1552"/>
                  </a:lnTo>
                  <a:lnTo>
                    <a:pt x="1974" y="1566"/>
                  </a:lnTo>
                  <a:lnTo>
                    <a:pt x="1980" y="1580"/>
                  </a:lnTo>
                  <a:lnTo>
                    <a:pt x="1986" y="1594"/>
                  </a:lnTo>
                  <a:lnTo>
                    <a:pt x="1994" y="1613"/>
                  </a:lnTo>
                  <a:lnTo>
                    <a:pt x="2002" y="1633"/>
                  </a:lnTo>
                  <a:lnTo>
                    <a:pt x="2010" y="1652"/>
                  </a:lnTo>
                  <a:lnTo>
                    <a:pt x="2017" y="1673"/>
                  </a:lnTo>
                  <a:lnTo>
                    <a:pt x="2024" y="1692"/>
                  </a:lnTo>
                  <a:lnTo>
                    <a:pt x="2034" y="1710"/>
                  </a:lnTo>
                  <a:lnTo>
                    <a:pt x="2039" y="1720"/>
                  </a:lnTo>
                  <a:lnTo>
                    <a:pt x="2045" y="1728"/>
                  </a:lnTo>
                  <a:lnTo>
                    <a:pt x="2051" y="1736"/>
                  </a:lnTo>
                  <a:lnTo>
                    <a:pt x="2058" y="1744"/>
                  </a:lnTo>
                  <a:lnTo>
                    <a:pt x="2066" y="1752"/>
                  </a:lnTo>
                  <a:lnTo>
                    <a:pt x="2075" y="1759"/>
                  </a:lnTo>
                  <a:lnTo>
                    <a:pt x="2083" y="1766"/>
                  </a:lnTo>
                  <a:lnTo>
                    <a:pt x="2093" y="1772"/>
                  </a:lnTo>
                  <a:lnTo>
                    <a:pt x="2111" y="1784"/>
                  </a:lnTo>
                  <a:lnTo>
                    <a:pt x="2131" y="1795"/>
                  </a:lnTo>
                  <a:lnTo>
                    <a:pt x="2152" y="1805"/>
                  </a:lnTo>
                  <a:lnTo>
                    <a:pt x="2173" y="1814"/>
                  </a:lnTo>
                  <a:lnTo>
                    <a:pt x="2194" y="1824"/>
                  </a:lnTo>
                  <a:lnTo>
                    <a:pt x="2214" y="1834"/>
                  </a:lnTo>
                  <a:lnTo>
                    <a:pt x="2228" y="1841"/>
                  </a:lnTo>
                  <a:lnTo>
                    <a:pt x="2244" y="1846"/>
                  </a:lnTo>
                  <a:lnTo>
                    <a:pt x="2258" y="1852"/>
                  </a:lnTo>
                  <a:lnTo>
                    <a:pt x="2274" y="1856"/>
                  </a:lnTo>
                  <a:lnTo>
                    <a:pt x="2290" y="1861"/>
                  </a:lnTo>
                  <a:lnTo>
                    <a:pt x="2305" y="1867"/>
                  </a:lnTo>
                  <a:lnTo>
                    <a:pt x="2320" y="1874"/>
                  </a:lnTo>
                  <a:lnTo>
                    <a:pt x="2334" y="1881"/>
                  </a:lnTo>
                  <a:lnTo>
                    <a:pt x="2340" y="1886"/>
                  </a:lnTo>
                  <a:lnTo>
                    <a:pt x="2347" y="1891"/>
                  </a:lnTo>
                  <a:lnTo>
                    <a:pt x="2353" y="1896"/>
                  </a:lnTo>
                  <a:lnTo>
                    <a:pt x="2359" y="1902"/>
                  </a:lnTo>
                  <a:lnTo>
                    <a:pt x="2365" y="1908"/>
                  </a:lnTo>
                  <a:lnTo>
                    <a:pt x="2370" y="1915"/>
                  </a:lnTo>
                  <a:lnTo>
                    <a:pt x="2374" y="1922"/>
                  </a:lnTo>
                  <a:lnTo>
                    <a:pt x="2376" y="1929"/>
                  </a:lnTo>
                  <a:lnTo>
                    <a:pt x="2378" y="1939"/>
                  </a:lnTo>
                  <a:lnTo>
                    <a:pt x="2380" y="1949"/>
                  </a:lnTo>
                  <a:lnTo>
                    <a:pt x="2381" y="1961"/>
                  </a:lnTo>
                  <a:lnTo>
                    <a:pt x="2381" y="1970"/>
                  </a:lnTo>
                  <a:lnTo>
                    <a:pt x="2380" y="1981"/>
                  </a:lnTo>
                  <a:lnTo>
                    <a:pt x="2376" y="1989"/>
                  </a:lnTo>
                  <a:lnTo>
                    <a:pt x="2374" y="1993"/>
                  </a:lnTo>
                  <a:lnTo>
                    <a:pt x="2371" y="1997"/>
                  </a:lnTo>
                  <a:lnTo>
                    <a:pt x="2368" y="1999"/>
                  </a:lnTo>
                  <a:lnTo>
                    <a:pt x="2364" y="2001"/>
                  </a:lnTo>
                  <a:lnTo>
                    <a:pt x="2357" y="2004"/>
                  </a:lnTo>
                  <a:lnTo>
                    <a:pt x="2348" y="2005"/>
                  </a:lnTo>
                  <a:lnTo>
                    <a:pt x="2341" y="2006"/>
                  </a:lnTo>
                  <a:lnTo>
                    <a:pt x="2333" y="2006"/>
                  </a:lnTo>
                  <a:lnTo>
                    <a:pt x="2317" y="2005"/>
                  </a:lnTo>
                  <a:lnTo>
                    <a:pt x="2302" y="2003"/>
                  </a:lnTo>
                  <a:lnTo>
                    <a:pt x="2285" y="1998"/>
                  </a:lnTo>
                  <a:lnTo>
                    <a:pt x="2269" y="1993"/>
                  </a:lnTo>
                  <a:lnTo>
                    <a:pt x="2254" y="1988"/>
                  </a:lnTo>
                  <a:lnTo>
                    <a:pt x="2238" y="1983"/>
                  </a:lnTo>
                  <a:lnTo>
                    <a:pt x="2221" y="1977"/>
                  </a:lnTo>
                  <a:lnTo>
                    <a:pt x="2204" y="1973"/>
                  </a:lnTo>
                  <a:lnTo>
                    <a:pt x="2188" y="1965"/>
                  </a:lnTo>
                  <a:lnTo>
                    <a:pt x="2171" y="1958"/>
                  </a:lnTo>
                  <a:lnTo>
                    <a:pt x="2155" y="1951"/>
                  </a:lnTo>
                  <a:lnTo>
                    <a:pt x="2138" y="1944"/>
                  </a:lnTo>
                  <a:lnTo>
                    <a:pt x="2123" y="1937"/>
                  </a:lnTo>
                  <a:lnTo>
                    <a:pt x="2106" y="1929"/>
                  </a:lnTo>
                  <a:lnTo>
                    <a:pt x="2086" y="1921"/>
                  </a:lnTo>
                  <a:lnTo>
                    <a:pt x="2066" y="1913"/>
                  </a:lnTo>
                  <a:lnTo>
                    <a:pt x="2046" y="1905"/>
                  </a:lnTo>
                  <a:lnTo>
                    <a:pt x="2026" y="1897"/>
                  </a:lnTo>
                  <a:lnTo>
                    <a:pt x="2006" y="1889"/>
                  </a:lnTo>
                  <a:lnTo>
                    <a:pt x="1986" y="1879"/>
                  </a:lnTo>
                  <a:lnTo>
                    <a:pt x="1968" y="1869"/>
                  </a:lnTo>
                  <a:lnTo>
                    <a:pt x="1950" y="1858"/>
                  </a:lnTo>
                  <a:lnTo>
                    <a:pt x="1937" y="1847"/>
                  </a:lnTo>
                  <a:lnTo>
                    <a:pt x="1925" y="1836"/>
                  </a:lnTo>
                  <a:lnTo>
                    <a:pt x="1913" y="1824"/>
                  </a:lnTo>
                  <a:lnTo>
                    <a:pt x="1902" y="1812"/>
                  </a:lnTo>
                  <a:lnTo>
                    <a:pt x="1892" y="1799"/>
                  </a:lnTo>
                  <a:lnTo>
                    <a:pt x="1883" y="1784"/>
                  </a:lnTo>
                  <a:lnTo>
                    <a:pt x="1874" y="1770"/>
                  </a:lnTo>
                  <a:lnTo>
                    <a:pt x="1866" y="1756"/>
                  </a:lnTo>
                  <a:lnTo>
                    <a:pt x="1862" y="1745"/>
                  </a:lnTo>
                  <a:lnTo>
                    <a:pt x="1860" y="1734"/>
                  </a:lnTo>
                  <a:lnTo>
                    <a:pt x="1859" y="1723"/>
                  </a:lnTo>
                  <a:lnTo>
                    <a:pt x="1859" y="1711"/>
                  </a:lnTo>
                  <a:lnTo>
                    <a:pt x="1859" y="1699"/>
                  </a:lnTo>
                  <a:lnTo>
                    <a:pt x="1858" y="1688"/>
                  </a:lnTo>
                  <a:lnTo>
                    <a:pt x="1856" y="1676"/>
                  </a:lnTo>
                  <a:lnTo>
                    <a:pt x="1854" y="1666"/>
                  </a:lnTo>
                  <a:lnTo>
                    <a:pt x="1850" y="1656"/>
                  </a:lnTo>
                  <a:lnTo>
                    <a:pt x="1847" y="1646"/>
                  </a:lnTo>
                  <a:lnTo>
                    <a:pt x="1843" y="1636"/>
                  </a:lnTo>
                  <a:lnTo>
                    <a:pt x="1838" y="1626"/>
                  </a:lnTo>
                  <a:lnTo>
                    <a:pt x="1832" y="1618"/>
                  </a:lnTo>
                  <a:lnTo>
                    <a:pt x="1826" y="1609"/>
                  </a:lnTo>
                  <a:lnTo>
                    <a:pt x="1820" y="1601"/>
                  </a:lnTo>
                  <a:lnTo>
                    <a:pt x="1812" y="1594"/>
                  </a:lnTo>
                  <a:lnTo>
                    <a:pt x="1807" y="1591"/>
                  </a:lnTo>
                  <a:lnTo>
                    <a:pt x="1801" y="1588"/>
                  </a:lnTo>
                  <a:lnTo>
                    <a:pt x="1794" y="1586"/>
                  </a:lnTo>
                  <a:lnTo>
                    <a:pt x="1788" y="1586"/>
                  </a:lnTo>
                  <a:lnTo>
                    <a:pt x="1781" y="1586"/>
                  </a:lnTo>
                  <a:lnTo>
                    <a:pt x="1775" y="1588"/>
                  </a:lnTo>
                  <a:lnTo>
                    <a:pt x="1769" y="1590"/>
                  </a:lnTo>
                  <a:lnTo>
                    <a:pt x="1764" y="1594"/>
                  </a:lnTo>
                  <a:lnTo>
                    <a:pt x="1758" y="1601"/>
                  </a:lnTo>
                  <a:lnTo>
                    <a:pt x="1753" y="1609"/>
                  </a:lnTo>
                  <a:lnTo>
                    <a:pt x="1750" y="1618"/>
                  </a:lnTo>
                  <a:lnTo>
                    <a:pt x="1746" y="1627"/>
                  </a:lnTo>
                  <a:lnTo>
                    <a:pt x="1745" y="1637"/>
                  </a:lnTo>
                  <a:lnTo>
                    <a:pt x="1742" y="1646"/>
                  </a:lnTo>
                  <a:lnTo>
                    <a:pt x="1741" y="1656"/>
                  </a:lnTo>
                  <a:lnTo>
                    <a:pt x="1740" y="1666"/>
                  </a:lnTo>
                  <a:lnTo>
                    <a:pt x="1739" y="1686"/>
                  </a:lnTo>
                  <a:lnTo>
                    <a:pt x="1738" y="1706"/>
                  </a:lnTo>
                  <a:lnTo>
                    <a:pt x="1738" y="1727"/>
                  </a:lnTo>
                  <a:lnTo>
                    <a:pt x="1738" y="1747"/>
                  </a:lnTo>
                  <a:lnTo>
                    <a:pt x="1739" y="1766"/>
                  </a:lnTo>
                  <a:lnTo>
                    <a:pt x="1739" y="1787"/>
                  </a:lnTo>
                  <a:lnTo>
                    <a:pt x="1740" y="1807"/>
                  </a:lnTo>
                  <a:lnTo>
                    <a:pt x="1740" y="1828"/>
                  </a:lnTo>
                  <a:lnTo>
                    <a:pt x="1741" y="1843"/>
                  </a:lnTo>
                  <a:lnTo>
                    <a:pt x="1742" y="1859"/>
                  </a:lnTo>
                  <a:lnTo>
                    <a:pt x="1744" y="1874"/>
                  </a:lnTo>
                  <a:lnTo>
                    <a:pt x="1746" y="1891"/>
                  </a:lnTo>
                  <a:lnTo>
                    <a:pt x="1747" y="1907"/>
                  </a:lnTo>
                  <a:lnTo>
                    <a:pt x="1748" y="1922"/>
                  </a:lnTo>
                  <a:lnTo>
                    <a:pt x="1747" y="1938"/>
                  </a:lnTo>
                  <a:lnTo>
                    <a:pt x="1746" y="1953"/>
                  </a:lnTo>
                  <a:lnTo>
                    <a:pt x="1744" y="1965"/>
                  </a:lnTo>
                  <a:lnTo>
                    <a:pt x="1740" y="1976"/>
                  </a:lnTo>
                  <a:lnTo>
                    <a:pt x="1736" y="1988"/>
                  </a:lnTo>
                  <a:lnTo>
                    <a:pt x="1730" y="1999"/>
                  </a:lnTo>
                  <a:lnTo>
                    <a:pt x="1726" y="2010"/>
                  </a:lnTo>
                  <a:lnTo>
                    <a:pt x="1721" y="2021"/>
                  </a:lnTo>
                  <a:lnTo>
                    <a:pt x="1715" y="2031"/>
                  </a:lnTo>
                  <a:lnTo>
                    <a:pt x="1710" y="2043"/>
                  </a:lnTo>
                  <a:lnTo>
                    <a:pt x="1705" y="2057"/>
                  </a:lnTo>
                  <a:lnTo>
                    <a:pt x="1700" y="2071"/>
                  </a:lnTo>
                  <a:lnTo>
                    <a:pt x="1697" y="2084"/>
                  </a:lnTo>
                  <a:lnTo>
                    <a:pt x="1692" y="2099"/>
                  </a:lnTo>
                  <a:lnTo>
                    <a:pt x="1687" y="2112"/>
                  </a:lnTo>
                  <a:lnTo>
                    <a:pt x="1682" y="2126"/>
                  </a:lnTo>
                  <a:lnTo>
                    <a:pt x="1675" y="2138"/>
                  </a:lnTo>
                  <a:lnTo>
                    <a:pt x="1668" y="2151"/>
                  </a:lnTo>
                  <a:lnTo>
                    <a:pt x="1661" y="2161"/>
                  </a:lnTo>
                  <a:lnTo>
                    <a:pt x="1652" y="2171"/>
                  </a:lnTo>
                  <a:lnTo>
                    <a:pt x="1643" y="2179"/>
                  </a:lnTo>
                  <a:lnTo>
                    <a:pt x="1633" y="2187"/>
                  </a:lnTo>
                  <a:lnTo>
                    <a:pt x="1622" y="2196"/>
                  </a:lnTo>
                  <a:lnTo>
                    <a:pt x="1612" y="2203"/>
                  </a:lnTo>
                  <a:lnTo>
                    <a:pt x="1601" y="2210"/>
                  </a:lnTo>
                  <a:lnTo>
                    <a:pt x="1590" y="2216"/>
                  </a:lnTo>
                  <a:lnTo>
                    <a:pt x="1583" y="2221"/>
                  </a:lnTo>
                  <a:lnTo>
                    <a:pt x="1576" y="2226"/>
                  </a:lnTo>
                  <a:lnTo>
                    <a:pt x="1568" y="2231"/>
                  </a:lnTo>
                  <a:lnTo>
                    <a:pt x="1560" y="2234"/>
                  </a:lnTo>
                  <a:lnTo>
                    <a:pt x="1553" y="2237"/>
                  </a:lnTo>
                  <a:lnTo>
                    <a:pt x="1544" y="2238"/>
                  </a:lnTo>
                  <a:lnTo>
                    <a:pt x="1541" y="2238"/>
                  </a:lnTo>
                  <a:lnTo>
                    <a:pt x="1537" y="2238"/>
                  </a:lnTo>
                  <a:lnTo>
                    <a:pt x="1534" y="2237"/>
                  </a:lnTo>
                  <a:lnTo>
                    <a:pt x="1530" y="2234"/>
                  </a:lnTo>
                  <a:lnTo>
                    <a:pt x="1523" y="2228"/>
                  </a:lnTo>
                  <a:lnTo>
                    <a:pt x="1516" y="2220"/>
                  </a:lnTo>
                  <a:lnTo>
                    <a:pt x="1511" y="2210"/>
                  </a:lnTo>
                  <a:lnTo>
                    <a:pt x="1507" y="2201"/>
                  </a:lnTo>
                  <a:lnTo>
                    <a:pt x="1504" y="2190"/>
                  </a:lnTo>
                  <a:lnTo>
                    <a:pt x="1502" y="2179"/>
                  </a:lnTo>
                  <a:lnTo>
                    <a:pt x="1501" y="2167"/>
                  </a:lnTo>
                  <a:lnTo>
                    <a:pt x="1500" y="2157"/>
                  </a:lnTo>
                  <a:lnTo>
                    <a:pt x="1501" y="2142"/>
                  </a:lnTo>
                  <a:lnTo>
                    <a:pt x="1504" y="2126"/>
                  </a:lnTo>
                  <a:lnTo>
                    <a:pt x="1506" y="2111"/>
                  </a:lnTo>
                  <a:lnTo>
                    <a:pt x="1510" y="2096"/>
                  </a:lnTo>
                  <a:lnTo>
                    <a:pt x="1514" y="2081"/>
                  </a:lnTo>
                  <a:lnTo>
                    <a:pt x="1519" y="2066"/>
                  </a:lnTo>
                  <a:lnTo>
                    <a:pt x="1525" y="2052"/>
                  </a:lnTo>
                  <a:lnTo>
                    <a:pt x="1530" y="2037"/>
                  </a:lnTo>
                  <a:lnTo>
                    <a:pt x="1536" y="2024"/>
                  </a:lnTo>
                  <a:lnTo>
                    <a:pt x="1542" y="2013"/>
                  </a:lnTo>
                  <a:lnTo>
                    <a:pt x="1549" y="2001"/>
                  </a:lnTo>
                  <a:lnTo>
                    <a:pt x="1555" y="1989"/>
                  </a:lnTo>
                  <a:lnTo>
                    <a:pt x="1562" y="1977"/>
                  </a:lnTo>
                  <a:lnTo>
                    <a:pt x="1568" y="1967"/>
                  </a:lnTo>
                  <a:lnTo>
                    <a:pt x="1574" y="1953"/>
                  </a:lnTo>
                  <a:lnTo>
                    <a:pt x="1578" y="1941"/>
                  </a:lnTo>
                  <a:lnTo>
                    <a:pt x="1583" y="1920"/>
                  </a:lnTo>
                  <a:lnTo>
                    <a:pt x="1588" y="1898"/>
                  </a:lnTo>
                  <a:lnTo>
                    <a:pt x="1591" y="1877"/>
                  </a:lnTo>
                  <a:lnTo>
                    <a:pt x="1594" y="1855"/>
                  </a:lnTo>
                  <a:lnTo>
                    <a:pt x="1595" y="1834"/>
                  </a:lnTo>
                  <a:lnTo>
                    <a:pt x="1596" y="1812"/>
                  </a:lnTo>
                  <a:lnTo>
                    <a:pt x="1597" y="1789"/>
                  </a:lnTo>
                  <a:lnTo>
                    <a:pt x="1596" y="1768"/>
                  </a:lnTo>
                  <a:lnTo>
                    <a:pt x="1595" y="1753"/>
                  </a:lnTo>
                  <a:lnTo>
                    <a:pt x="1594" y="1740"/>
                  </a:lnTo>
                  <a:lnTo>
                    <a:pt x="1591" y="1726"/>
                  </a:lnTo>
                  <a:lnTo>
                    <a:pt x="1588" y="1712"/>
                  </a:lnTo>
                  <a:lnTo>
                    <a:pt x="1584" y="1698"/>
                  </a:lnTo>
                  <a:lnTo>
                    <a:pt x="1578" y="1685"/>
                  </a:lnTo>
                  <a:lnTo>
                    <a:pt x="1573" y="1673"/>
                  </a:lnTo>
                  <a:lnTo>
                    <a:pt x="1566" y="1660"/>
                  </a:lnTo>
                  <a:lnTo>
                    <a:pt x="1561" y="1652"/>
                  </a:lnTo>
                  <a:lnTo>
                    <a:pt x="1556" y="1645"/>
                  </a:lnTo>
                  <a:lnTo>
                    <a:pt x="1550" y="1638"/>
                  </a:lnTo>
                  <a:lnTo>
                    <a:pt x="1543" y="1632"/>
                  </a:lnTo>
                  <a:lnTo>
                    <a:pt x="1536" y="1627"/>
                  </a:lnTo>
                  <a:lnTo>
                    <a:pt x="1529" y="1622"/>
                  </a:lnTo>
                  <a:lnTo>
                    <a:pt x="1520" y="1620"/>
                  </a:lnTo>
                  <a:lnTo>
                    <a:pt x="1512" y="1618"/>
                  </a:lnTo>
                  <a:lnTo>
                    <a:pt x="1502" y="1618"/>
                  </a:lnTo>
                  <a:lnTo>
                    <a:pt x="1493" y="1619"/>
                  </a:lnTo>
                  <a:lnTo>
                    <a:pt x="1483" y="1621"/>
                  </a:lnTo>
                  <a:lnTo>
                    <a:pt x="1474" y="1625"/>
                  </a:lnTo>
                  <a:lnTo>
                    <a:pt x="1464" y="1630"/>
                  </a:lnTo>
                  <a:lnTo>
                    <a:pt x="1456" y="1634"/>
                  </a:lnTo>
                  <a:lnTo>
                    <a:pt x="1447" y="1642"/>
                  </a:lnTo>
                  <a:lnTo>
                    <a:pt x="1440" y="1648"/>
                  </a:lnTo>
                  <a:lnTo>
                    <a:pt x="1432" y="1660"/>
                  </a:lnTo>
                  <a:lnTo>
                    <a:pt x="1423" y="1673"/>
                  </a:lnTo>
                  <a:lnTo>
                    <a:pt x="1416" y="1686"/>
                  </a:lnTo>
                  <a:lnTo>
                    <a:pt x="1410" y="1699"/>
                  </a:lnTo>
                  <a:lnTo>
                    <a:pt x="1404" y="1714"/>
                  </a:lnTo>
                  <a:lnTo>
                    <a:pt x="1399" y="1728"/>
                  </a:lnTo>
                  <a:lnTo>
                    <a:pt x="1393" y="1742"/>
                  </a:lnTo>
                  <a:lnTo>
                    <a:pt x="1386" y="1756"/>
                  </a:lnTo>
                  <a:lnTo>
                    <a:pt x="1375" y="1777"/>
                  </a:lnTo>
                  <a:lnTo>
                    <a:pt x="1364" y="1800"/>
                  </a:lnTo>
                  <a:lnTo>
                    <a:pt x="1354" y="1822"/>
                  </a:lnTo>
                  <a:lnTo>
                    <a:pt x="1343" y="1843"/>
                  </a:lnTo>
                  <a:lnTo>
                    <a:pt x="1332" y="1866"/>
                  </a:lnTo>
                  <a:lnTo>
                    <a:pt x="1321" y="1887"/>
                  </a:lnTo>
                  <a:lnTo>
                    <a:pt x="1309" y="1908"/>
                  </a:lnTo>
                  <a:lnTo>
                    <a:pt x="1296" y="1929"/>
                  </a:lnTo>
                  <a:lnTo>
                    <a:pt x="1284" y="1949"/>
                  </a:lnTo>
                  <a:lnTo>
                    <a:pt x="1272" y="1968"/>
                  </a:lnTo>
                  <a:lnTo>
                    <a:pt x="1260" y="1986"/>
                  </a:lnTo>
                  <a:lnTo>
                    <a:pt x="1247" y="2005"/>
                  </a:lnTo>
                  <a:lnTo>
                    <a:pt x="1234" y="2023"/>
                  </a:lnTo>
                  <a:lnTo>
                    <a:pt x="1219" y="2040"/>
                  </a:lnTo>
                  <a:lnTo>
                    <a:pt x="1205" y="2057"/>
                  </a:lnTo>
                  <a:lnTo>
                    <a:pt x="1189" y="2073"/>
                  </a:lnTo>
                  <a:lnTo>
                    <a:pt x="1172" y="2088"/>
                  </a:lnTo>
                  <a:lnTo>
                    <a:pt x="1154" y="2102"/>
                  </a:lnTo>
                  <a:lnTo>
                    <a:pt x="1136" y="2117"/>
                  </a:lnTo>
                  <a:lnTo>
                    <a:pt x="1117" y="2130"/>
                  </a:lnTo>
                  <a:lnTo>
                    <a:pt x="1098" y="2142"/>
                  </a:lnTo>
                  <a:lnTo>
                    <a:pt x="1079" y="2154"/>
                  </a:lnTo>
                  <a:lnTo>
                    <a:pt x="1058" y="2165"/>
                  </a:lnTo>
                  <a:lnTo>
                    <a:pt x="1039" y="2175"/>
                  </a:lnTo>
                  <a:lnTo>
                    <a:pt x="1024" y="2181"/>
                  </a:lnTo>
                  <a:lnTo>
                    <a:pt x="1007" y="2189"/>
                  </a:lnTo>
                  <a:lnTo>
                    <a:pt x="991" y="2193"/>
                  </a:lnTo>
                  <a:lnTo>
                    <a:pt x="974" y="2198"/>
                  </a:lnTo>
                  <a:lnTo>
                    <a:pt x="958" y="2202"/>
                  </a:lnTo>
                  <a:lnTo>
                    <a:pt x="941" y="2205"/>
                  </a:lnTo>
                  <a:lnTo>
                    <a:pt x="924" y="2208"/>
                  </a:lnTo>
                  <a:lnTo>
                    <a:pt x="907" y="2210"/>
                  </a:lnTo>
                  <a:lnTo>
                    <a:pt x="900" y="2211"/>
                  </a:lnTo>
                  <a:lnTo>
                    <a:pt x="894" y="2211"/>
                  </a:lnTo>
                  <a:lnTo>
                    <a:pt x="887" y="2211"/>
                  </a:lnTo>
                  <a:lnTo>
                    <a:pt x="881" y="2210"/>
                  </a:lnTo>
                  <a:lnTo>
                    <a:pt x="874" y="2209"/>
                  </a:lnTo>
                  <a:lnTo>
                    <a:pt x="868" y="2207"/>
                  </a:lnTo>
                  <a:lnTo>
                    <a:pt x="863" y="2203"/>
                  </a:lnTo>
                  <a:lnTo>
                    <a:pt x="859" y="2199"/>
                  </a:lnTo>
                  <a:lnTo>
                    <a:pt x="856" y="2193"/>
                  </a:lnTo>
                  <a:lnTo>
                    <a:pt x="854" y="2187"/>
                  </a:lnTo>
                  <a:lnTo>
                    <a:pt x="854" y="2181"/>
                  </a:lnTo>
                  <a:lnTo>
                    <a:pt x="854" y="2174"/>
                  </a:lnTo>
                  <a:lnTo>
                    <a:pt x="856" y="2168"/>
                  </a:lnTo>
                  <a:lnTo>
                    <a:pt x="858" y="2162"/>
                  </a:lnTo>
                  <a:lnTo>
                    <a:pt x="862" y="2156"/>
                  </a:lnTo>
                  <a:lnTo>
                    <a:pt x="865" y="2151"/>
                  </a:lnTo>
                  <a:lnTo>
                    <a:pt x="877" y="2137"/>
                  </a:lnTo>
                  <a:lnTo>
                    <a:pt x="890" y="2125"/>
                  </a:lnTo>
                  <a:lnTo>
                    <a:pt x="905" y="2113"/>
                  </a:lnTo>
                  <a:lnTo>
                    <a:pt x="920" y="2101"/>
                  </a:lnTo>
                  <a:lnTo>
                    <a:pt x="935" y="2090"/>
                  </a:lnTo>
                  <a:lnTo>
                    <a:pt x="950" y="2078"/>
                  </a:lnTo>
                  <a:lnTo>
                    <a:pt x="965" y="2067"/>
                  </a:lnTo>
                  <a:lnTo>
                    <a:pt x="979" y="2055"/>
                  </a:lnTo>
                  <a:lnTo>
                    <a:pt x="995" y="2041"/>
                  </a:lnTo>
                  <a:lnTo>
                    <a:pt x="1012" y="2027"/>
                  </a:lnTo>
                  <a:lnTo>
                    <a:pt x="1028" y="2012"/>
                  </a:lnTo>
                  <a:lnTo>
                    <a:pt x="1045" y="1998"/>
                  </a:lnTo>
                  <a:lnTo>
                    <a:pt x="1062" y="1983"/>
                  </a:lnTo>
                  <a:lnTo>
                    <a:pt x="1076" y="1969"/>
                  </a:lnTo>
                  <a:lnTo>
                    <a:pt x="1092" y="1952"/>
                  </a:lnTo>
                  <a:lnTo>
                    <a:pt x="1105" y="1935"/>
                  </a:lnTo>
                  <a:lnTo>
                    <a:pt x="1117" y="1917"/>
                  </a:lnTo>
                  <a:lnTo>
                    <a:pt x="1129" y="1898"/>
                  </a:lnTo>
                  <a:lnTo>
                    <a:pt x="1140" y="1878"/>
                  </a:lnTo>
                  <a:lnTo>
                    <a:pt x="1150" y="1859"/>
                  </a:lnTo>
                  <a:lnTo>
                    <a:pt x="1158" y="1837"/>
                  </a:lnTo>
                  <a:lnTo>
                    <a:pt x="1165" y="1817"/>
                  </a:lnTo>
                  <a:lnTo>
                    <a:pt x="1172" y="1795"/>
                  </a:lnTo>
                  <a:lnTo>
                    <a:pt x="1177" y="1774"/>
                  </a:lnTo>
                  <a:lnTo>
                    <a:pt x="1177" y="1764"/>
                  </a:lnTo>
                  <a:lnTo>
                    <a:pt x="1177" y="1753"/>
                  </a:lnTo>
                  <a:lnTo>
                    <a:pt x="1175" y="1744"/>
                  </a:lnTo>
                  <a:lnTo>
                    <a:pt x="1171" y="1734"/>
                  </a:lnTo>
                  <a:lnTo>
                    <a:pt x="1166" y="1724"/>
                  </a:lnTo>
                  <a:lnTo>
                    <a:pt x="1160" y="1716"/>
                  </a:lnTo>
                  <a:lnTo>
                    <a:pt x="1154" y="1708"/>
                  </a:lnTo>
                  <a:lnTo>
                    <a:pt x="1147" y="1702"/>
                  </a:lnTo>
                  <a:lnTo>
                    <a:pt x="1141" y="1699"/>
                  </a:lnTo>
                  <a:lnTo>
                    <a:pt x="1134" y="1698"/>
                  </a:lnTo>
                  <a:lnTo>
                    <a:pt x="1127" y="1698"/>
                  </a:lnTo>
                  <a:lnTo>
                    <a:pt x="1120" y="1699"/>
                  </a:lnTo>
                  <a:lnTo>
                    <a:pt x="1112" y="1703"/>
                  </a:lnTo>
                  <a:lnTo>
                    <a:pt x="1105" y="1706"/>
                  </a:lnTo>
                  <a:lnTo>
                    <a:pt x="1099" y="1710"/>
                  </a:lnTo>
                  <a:lnTo>
                    <a:pt x="1093" y="1714"/>
                  </a:lnTo>
                  <a:lnTo>
                    <a:pt x="1087" y="1720"/>
                  </a:lnTo>
                  <a:lnTo>
                    <a:pt x="1082" y="1726"/>
                  </a:lnTo>
                  <a:lnTo>
                    <a:pt x="1079" y="1733"/>
                  </a:lnTo>
                  <a:lnTo>
                    <a:pt x="1075" y="1741"/>
                  </a:lnTo>
                  <a:lnTo>
                    <a:pt x="1072" y="1748"/>
                  </a:lnTo>
                  <a:lnTo>
                    <a:pt x="1067" y="1756"/>
                  </a:lnTo>
                  <a:lnTo>
                    <a:pt x="1063" y="1763"/>
                  </a:lnTo>
                  <a:lnTo>
                    <a:pt x="1057" y="1768"/>
                  </a:lnTo>
                  <a:lnTo>
                    <a:pt x="1045" y="1776"/>
                  </a:lnTo>
                  <a:lnTo>
                    <a:pt x="1033" y="1783"/>
                  </a:lnTo>
                  <a:lnTo>
                    <a:pt x="1021" y="1789"/>
                  </a:lnTo>
                  <a:lnTo>
                    <a:pt x="1008" y="1795"/>
                  </a:lnTo>
                  <a:lnTo>
                    <a:pt x="995" y="1801"/>
                  </a:lnTo>
                  <a:lnTo>
                    <a:pt x="982" y="1805"/>
                  </a:lnTo>
                  <a:lnTo>
                    <a:pt x="968" y="1808"/>
                  </a:lnTo>
                  <a:lnTo>
                    <a:pt x="955" y="1810"/>
                  </a:lnTo>
                  <a:lnTo>
                    <a:pt x="944" y="1810"/>
                  </a:lnTo>
                  <a:lnTo>
                    <a:pt x="934" y="1810"/>
                  </a:lnTo>
                  <a:lnTo>
                    <a:pt x="923" y="1807"/>
                  </a:lnTo>
                  <a:lnTo>
                    <a:pt x="912" y="1805"/>
                  </a:lnTo>
                  <a:lnTo>
                    <a:pt x="902" y="1800"/>
                  </a:lnTo>
                  <a:lnTo>
                    <a:pt x="894" y="1795"/>
                  </a:lnTo>
                  <a:lnTo>
                    <a:pt x="890" y="1792"/>
                  </a:lnTo>
                  <a:lnTo>
                    <a:pt x="888" y="1788"/>
                  </a:lnTo>
                  <a:lnTo>
                    <a:pt x="884" y="1784"/>
                  </a:lnTo>
                  <a:lnTo>
                    <a:pt x="883" y="1780"/>
                  </a:lnTo>
                  <a:lnTo>
                    <a:pt x="881" y="1772"/>
                  </a:lnTo>
                  <a:lnTo>
                    <a:pt x="878" y="1765"/>
                  </a:lnTo>
                  <a:lnTo>
                    <a:pt x="878" y="1757"/>
                  </a:lnTo>
                  <a:lnTo>
                    <a:pt x="878" y="1750"/>
                  </a:lnTo>
                  <a:lnTo>
                    <a:pt x="880" y="1734"/>
                  </a:lnTo>
                  <a:lnTo>
                    <a:pt x="882" y="1717"/>
                  </a:lnTo>
                  <a:lnTo>
                    <a:pt x="886" y="1702"/>
                  </a:lnTo>
                  <a:lnTo>
                    <a:pt x="889" y="1686"/>
                  </a:lnTo>
                  <a:lnTo>
                    <a:pt x="893" y="1669"/>
                  </a:lnTo>
                  <a:lnTo>
                    <a:pt x="895" y="1654"/>
                  </a:lnTo>
                  <a:lnTo>
                    <a:pt x="896" y="1643"/>
                  </a:lnTo>
                  <a:lnTo>
                    <a:pt x="899" y="1631"/>
                  </a:lnTo>
                  <a:lnTo>
                    <a:pt x="901" y="1620"/>
                  </a:lnTo>
                  <a:lnTo>
                    <a:pt x="904" y="1608"/>
                  </a:lnTo>
                  <a:lnTo>
                    <a:pt x="905" y="1597"/>
                  </a:lnTo>
                  <a:lnTo>
                    <a:pt x="905" y="1585"/>
                  </a:lnTo>
                  <a:lnTo>
                    <a:pt x="904" y="1574"/>
                  </a:lnTo>
                  <a:lnTo>
                    <a:pt x="901" y="1564"/>
                  </a:lnTo>
                  <a:lnTo>
                    <a:pt x="898" y="1559"/>
                  </a:lnTo>
                  <a:lnTo>
                    <a:pt x="892" y="1554"/>
                  </a:lnTo>
                  <a:lnTo>
                    <a:pt x="886" y="1550"/>
                  </a:lnTo>
                  <a:lnTo>
                    <a:pt x="878" y="1548"/>
                  </a:lnTo>
                  <a:lnTo>
                    <a:pt x="870" y="1547"/>
                  </a:lnTo>
                  <a:lnTo>
                    <a:pt x="863" y="1547"/>
                  </a:lnTo>
                  <a:lnTo>
                    <a:pt x="854" y="1546"/>
                  </a:lnTo>
                  <a:lnTo>
                    <a:pt x="847" y="1546"/>
                  </a:lnTo>
                  <a:lnTo>
                    <a:pt x="830" y="1547"/>
                  </a:lnTo>
                  <a:lnTo>
                    <a:pt x="814" y="1549"/>
                  </a:lnTo>
                  <a:lnTo>
                    <a:pt x="797" y="1553"/>
                  </a:lnTo>
                  <a:lnTo>
                    <a:pt x="781" y="1556"/>
                  </a:lnTo>
                  <a:lnTo>
                    <a:pt x="764" y="1560"/>
                  </a:lnTo>
                  <a:lnTo>
                    <a:pt x="748" y="1562"/>
                  </a:lnTo>
                  <a:lnTo>
                    <a:pt x="732" y="1565"/>
                  </a:lnTo>
                  <a:lnTo>
                    <a:pt x="715" y="1564"/>
                  </a:lnTo>
                  <a:lnTo>
                    <a:pt x="701" y="1562"/>
                  </a:lnTo>
                  <a:lnTo>
                    <a:pt x="686" y="1560"/>
                  </a:lnTo>
                  <a:lnTo>
                    <a:pt x="672" y="1556"/>
                  </a:lnTo>
                  <a:lnTo>
                    <a:pt x="659" y="1553"/>
                  </a:lnTo>
                  <a:lnTo>
                    <a:pt x="646" y="1548"/>
                  </a:lnTo>
                  <a:lnTo>
                    <a:pt x="632" y="1542"/>
                  </a:lnTo>
                  <a:lnTo>
                    <a:pt x="619" y="1536"/>
                  </a:lnTo>
                  <a:lnTo>
                    <a:pt x="607" y="1528"/>
                  </a:lnTo>
                  <a:lnTo>
                    <a:pt x="599" y="1522"/>
                  </a:lnTo>
                  <a:lnTo>
                    <a:pt x="592" y="1512"/>
                  </a:lnTo>
                  <a:lnTo>
                    <a:pt x="586" y="1504"/>
                  </a:lnTo>
                  <a:lnTo>
                    <a:pt x="580" y="1493"/>
                  </a:lnTo>
                  <a:lnTo>
                    <a:pt x="574" y="1483"/>
                  </a:lnTo>
                  <a:lnTo>
                    <a:pt x="568" y="1474"/>
                  </a:lnTo>
                  <a:lnTo>
                    <a:pt x="560" y="1464"/>
                  </a:lnTo>
                  <a:lnTo>
                    <a:pt x="553" y="1456"/>
                  </a:lnTo>
                  <a:lnTo>
                    <a:pt x="547" y="1451"/>
                  </a:lnTo>
                  <a:lnTo>
                    <a:pt x="540" y="1447"/>
                  </a:lnTo>
                  <a:lnTo>
                    <a:pt x="533" y="1444"/>
                  </a:lnTo>
                  <a:lnTo>
                    <a:pt x="524" y="1440"/>
                  </a:lnTo>
                  <a:lnTo>
                    <a:pt x="517" y="1436"/>
                  </a:lnTo>
                  <a:lnTo>
                    <a:pt x="509" y="1435"/>
                  </a:lnTo>
                  <a:lnTo>
                    <a:pt x="502" y="1433"/>
                  </a:lnTo>
                  <a:lnTo>
                    <a:pt x="493" y="1433"/>
                  </a:lnTo>
                  <a:lnTo>
                    <a:pt x="474" y="1432"/>
                  </a:lnTo>
                  <a:lnTo>
                    <a:pt x="455" y="1432"/>
                  </a:lnTo>
                  <a:lnTo>
                    <a:pt x="434" y="1432"/>
                  </a:lnTo>
                  <a:lnTo>
                    <a:pt x="415" y="1433"/>
                  </a:lnTo>
                  <a:lnTo>
                    <a:pt x="396" y="1434"/>
                  </a:lnTo>
                  <a:lnTo>
                    <a:pt x="377" y="1436"/>
                  </a:lnTo>
                  <a:lnTo>
                    <a:pt x="356" y="1438"/>
                  </a:lnTo>
                  <a:lnTo>
                    <a:pt x="337" y="1439"/>
                  </a:lnTo>
                  <a:lnTo>
                    <a:pt x="316" y="1440"/>
                  </a:lnTo>
                  <a:lnTo>
                    <a:pt x="294" y="1441"/>
                  </a:lnTo>
                  <a:lnTo>
                    <a:pt x="272" y="1444"/>
                  </a:lnTo>
                  <a:lnTo>
                    <a:pt x="250" y="1445"/>
                  </a:lnTo>
                  <a:lnTo>
                    <a:pt x="228" y="1446"/>
                  </a:lnTo>
                  <a:lnTo>
                    <a:pt x="206" y="1447"/>
                  </a:lnTo>
                  <a:lnTo>
                    <a:pt x="185" y="1446"/>
                  </a:lnTo>
                  <a:lnTo>
                    <a:pt x="163" y="1445"/>
                  </a:lnTo>
                  <a:lnTo>
                    <a:pt x="152" y="1442"/>
                  </a:lnTo>
                  <a:lnTo>
                    <a:pt x="143" y="1439"/>
                  </a:lnTo>
                  <a:lnTo>
                    <a:pt x="132" y="1434"/>
                  </a:lnTo>
                  <a:lnTo>
                    <a:pt x="122" y="1428"/>
                  </a:lnTo>
                  <a:lnTo>
                    <a:pt x="113" y="1422"/>
                  </a:lnTo>
                  <a:lnTo>
                    <a:pt x="103" y="1416"/>
                  </a:lnTo>
                  <a:lnTo>
                    <a:pt x="95" y="1409"/>
                  </a:lnTo>
                  <a:lnTo>
                    <a:pt x="85" y="1403"/>
                  </a:lnTo>
                  <a:lnTo>
                    <a:pt x="77" y="1396"/>
                  </a:lnTo>
                  <a:lnTo>
                    <a:pt x="68" y="1390"/>
                  </a:lnTo>
                  <a:lnTo>
                    <a:pt x="59" y="1382"/>
                  </a:lnTo>
                  <a:lnTo>
                    <a:pt x="52" y="1375"/>
                  </a:lnTo>
                  <a:lnTo>
                    <a:pt x="43" y="1368"/>
                  </a:lnTo>
                  <a:lnTo>
                    <a:pt x="36" y="1361"/>
                  </a:lnTo>
                  <a:lnTo>
                    <a:pt x="30" y="1351"/>
                  </a:lnTo>
                  <a:lnTo>
                    <a:pt x="25" y="1343"/>
                  </a:lnTo>
                  <a:lnTo>
                    <a:pt x="23" y="1336"/>
                  </a:lnTo>
                  <a:lnTo>
                    <a:pt x="22" y="1328"/>
                  </a:lnTo>
                  <a:lnTo>
                    <a:pt x="22" y="1320"/>
                  </a:lnTo>
                  <a:lnTo>
                    <a:pt x="23" y="1313"/>
                  </a:lnTo>
                  <a:lnTo>
                    <a:pt x="25" y="1304"/>
                  </a:lnTo>
                  <a:lnTo>
                    <a:pt x="28" y="1298"/>
                  </a:lnTo>
                  <a:lnTo>
                    <a:pt x="32" y="1292"/>
                  </a:lnTo>
                  <a:lnTo>
                    <a:pt x="37" y="1289"/>
                  </a:lnTo>
                  <a:lnTo>
                    <a:pt x="52" y="1283"/>
                  </a:lnTo>
                  <a:lnTo>
                    <a:pt x="66" y="1278"/>
                  </a:lnTo>
                  <a:lnTo>
                    <a:pt x="80" y="1274"/>
                  </a:lnTo>
                  <a:lnTo>
                    <a:pt x="96" y="1273"/>
                  </a:lnTo>
                  <a:lnTo>
                    <a:pt x="112" y="1272"/>
                  </a:lnTo>
                  <a:lnTo>
                    <a:pt x="126" y="1271"/>
                  </a:lnTo>
                  <a:lnTo>
                    <a:pt x="142" y="1271"/>
                  </a:lnTo>
                  <a:lnTo>
                    <a:pt x="157" y="1271"/>
                  </a:lnTo>
                  <a:lnTo>
                    <a:pt x="182" y="1271"/>
                  </a:lnTo>
                  <a:lnTo>
                    <a:pt x="209" y="1271"/>
                  </a:lnTo>
                  <a:lnTo>
                    <a:pt x="234" y="1273"/>
                  </a:lnTo>
                  <a:lnTo>
                    <a:pt x="259" y="1274"/>
                  </a:lnTo>
                  <a:lnTo>
                    <a:pt x="284" y="1276"/>
                  </a:lnTo>
                  <a:lnTo>
                    <a:pt x="311" y="1277"/>
                  </a:lnTo>
                  <a:lnTo>
                    <a:pt x="336" y="1278"/>
                  </a:lnTo>
                  <a:lnTo>
                    <a:pt x="361" y="1277"/>
                  </a:lnTo>
                  <a:lnTo>
                    <a:pt x="377" y="1274"/>
                  </a:lnTo>
                  <a:lnTo>
                    <a:pt x="391" y="1272"/>
                  </a:lnTo>
                  <a:lnTo>
                    <a:pt x="407" y="1268"/>
                  </a:lnTo>
                  <a:lnTo>
                    <a:pt x="421" y="1264"/>
                  </a:lnTo>
                  <a:lnTo>
                    <a:pt x="437" y="1260"/>
                  </a:lnTo>
                  <a:lnTo>
                    <a:pt x="451" y="1255"/>
                  </a:lnTo>
                  <a:lnTo>
                    <a:pt x="466" y="1250"/>
                  </a:lnTo>
                  <a:lnTo>
                    <a:pt x="481" y="1247"/>
                  </a:lnTo>
                  <a:lnTo>
                    <a:pt x="491" y="1243"/>
                  </a:lnTo>
                  <a:lnTo>
                    <a:pt x="500" y="1241"/>
                  </a:lnTo>
                  <a:lnTo>
                    <a:pt x="510" y="1237"/>
                  </a:lnTo>
                  <a:lnTo>
                    <a:pt x="520" y="1234"/>
                  </a:lnTo>
                  <a:lnTo>
                    <a:pt x="529" y="1230"/>
                  </a:lnTo>
                  <a:lnTo>
                    <a:pt x="540" y="1229"/>
                  </a:lnTo>
                  <a:lnTo>
                    <a:pt x="550" y="1228"/>
                  </a:lnTo>
                  <a:lnTo>
                    <a:pt x="559" y="1229"/>
                  </a:lnTo>
                  <a:lnTo>
                    <a:pt x="578" y="1232"/>
                  </a:lnTo>
                  <a:lnTo>
                    <a:pt x="596" y="1238"/>
                  </a:lnTo>
                  <a:lnTo>
                    <a:pt x="614" y="1246"/>
                  </a:lnTo>
                  <a:lnTo>
                    <a:pt x="632" y="1254"/>
                  </a:lnTo>
                  <a:lnTo>
                    <a:pt x="650" y="1262"/>
                  </a:lnTo>
                  <a:lnTo>
                    <a:pt x="668" y="1271"/>
                  </a:lnTo>
                  <a:lnTo>
                    <a:pt x="685" y="1279"/>
                  </a:lnTo>
                  <a:lnTo>
                    <a:pt x="703" y="1289"/>
                  </a:lnTo>
                  <a:lnTo>
                    <a:pt x="718" y="1296"/>
                  </a:lnTo>
                  <a:lnTo>
                    <a:pt x="732" y="1304"/>
                  </a:lnTo>
                  <a:lnTo>
                    <a:pt x="745" y="1314"/>
                  </a:lnTo>
                  <a:lnTo>
                    <a:pt x="760" y="1324"/>
                  </a:lnTo>
                  <a:lnTo>
                    <a:pt x="773" y="1332"/>
                  </a:lnTo>
                  <a:lnTo>
                    <a:pt x="787" y="1340"/>
                  </a:lnTo>
                  <a:lnTo>
                    <a:pt x="802" y="1348"/>
                  </a:lnTo>
                  <a:lnTo>
                    <a:pt x="817" y="1355"/>
                  </a:lnTo>
                  <a:lnTo>
                    <a:pt x="829" y="1358"/>
                  </a:lnTo>
                  <a:lnTo>
                    <a:pt x="842" y="1363"/>
                  </a:lnTo>
                  <a:lnTo>
                    <a:pt x="856" y="1367"/>
                  </a:lnTo>
                  <a:lnTo>
                    <a:pt x="869" y="1370"/>
                  </a:lnTo>
                  <a:lnTo>
                    <a:pt x="882" y="1373"/>
                  </a:lnTo>
                  <a:lnTo>
                    <a:pt x="894" y="1373"/>
                  </a:lnTo>
                  <a:lnTo>
                    <a:pt x="901" y="1372"/>
                  </a:lnTo>
                  <a:lnTo>
                    <a:pt x="907" y="1370"/>
                  </a:lnTo>
                  <a:lnTo>
                    <a:pt x="913" y="1369"/>
                  </a:lnTo>
                  <a:lnTo>
                    <a:pt x="919" y="1367"/>
                  </a:lnTo>
                  <a:lnTo>
                    <a:pt x="923" y="1363"/>
                  </a:lnTo>
                  <a:lnTo>
                    <a:pt x="928" y="1361"/>
                  </a:lnTo>
                  <a:lnTo>
                    <a:pt x="931" y="1357"/>
                  </a:lnTo>
                  <a:lnTo>
                    <a:pt x="934" y="1352"/>
                  </a:lnTo>
                  <a:lnTo>
                    <a:pt x="940" y="1344"/>
                  </a:lnTo>
                  <a:lnTo>
                    <a:pt x="943" y="1333"/>
                  </a:lnTo>
                  <a:lnTo>
                    <a:pt x="947" y="1322"/>
                  </a:lnTo>
                  <a:lnTo>
                    <a:pt x="948" y="1310"/>
                  </a:lnTo>
                  <a:lnTo>
                    <a:pt x="949" y="1300"/>
                  </a:lnTo>
                  <a:lnTo>
                    <a:pt x="949" y="1289"/>
                  </a:lnTo>
                  <a:lnTo>
                    <a:pt x="948" y="1277"/>
                  </a:lnTo>
                  <a:lnTo>
                    <a:pt x="946" y="1266"/>
                  </a:lnTo>
                  <a:lnTo>
                    <a:pt x="942" y="1255"/>
                  </a:lnTo>
                  <a:lnTo>
                    <a:pt x="937" y="1244"/>
                  </a:lnTo>
                  <a:lnTo>
                    <a:pt x="931" y="1234"/>
                  </a:lnTo>
                  <a:lnTo>
                    <a:pt x="925" y="1224"/>
                  </a:lnTo>
                  <a:lnTo>
                    <a:pt x="919" y="1214"/>
                  </a:lnTo>
                  <a:lnTo>
                    <a:pt x="913" y="1205"/>
                  </a:lnTo>
                  <a:lnTo>
                    <a:pt x="901" y="1188"/>
                  </a:lnTo>
                  <a:lnTo>
                    <a:pt x="889" y="1171"/>
                  </a:lnTo>
                  <a:lnTo>
                    <a:pt x="876" y="1154"/>
                  </a:lnTo>
                  <a:lnTo>
                    <a:pt x="863" y="1138"/>
                  </a:lnTo>
                  <a:lnTo>
                    <a:pt x="850" y="1122"/>
                  </a:lnTo>
                  <a:lnTo>
                    <a:pt x="835" y="1108"/>
                  </a:lnTo>
                  <a:lnTo>
                    <a:pt x="821" y="1093"/>
                  </a:lnTo>
                  <a:lnTo>
                    <a:pt x="805" y="1079"/>
                  </a:lnTo>
                  <a:lnTo>
                    <a:pt x="786" y="1063"/>
                  </a:lnTo>
                  <a:lnTo>
                    <a:pt x="767" y="1048"/>
                  </a:lnTo>
                  <a:lnTo>
                    <a:pt x="748" y="1033"/>
                  </a:lnTo>
                  <a:lnTo>
                    <a:pt x="727" y="1020"/>
                  </a:lnTo>
                  <a:lnTo>
                    <a:pt x="707" y="1007"/>
                  </a:lnTo>
                  <a:lnTo>
                    <a:pt x="685" y="995"/>
                  </a:lnTo>
                  <a:lnTo>
                    <a:pt x="665" y="983"/>
                  </a:lnTo>
                  <a:lnTo>
                    <a:pt x="643" y="971"/>
                  </a:lnTo>
                  <a:lnTo>
                    <a:pt x="628" y="964"/>
                  </a:lnTo>
                  <a:lnTo>
                    <a:pt x="611" y="958"/>
                  </a:lnTo>
                  <a:lnTo>
                    <a:pt x="595" y="952"/>
                  </a:lnTo>
                  <a:lnTo>
                    <a:pt x="578" y="946"/>
                  </a:lnTo>
                  <a:lnTo>
                    <a:pt x="562" y="942"/>
                  </a:lnTo>
                  <a:lnTo>
                    <a:pt x="545" y="937"/>
                  </a:lnTo>
                  <a:lnTo>
                    <a:pt x="528" y="934"/>
                  </a:lnTo>
                  <a:lnTo>
                    <a:pt x="511" y="929"/>
                  </a:lnTo>
                  <a:lnTo>
                    <a:pt x="497" y="925"/>
                  </a:lnTo>
                  <a:lnTo>
                    <a:pt x="481" y="923"/>
                  </a:lnTo>
                  <a:lnTo>
                    <a:pt x="467" y="919"/>
                  </a:lnTo>
                  <a:lnTo>
                    <a:pt x="451" y="917"/>
                  </a:lnTo>
                  <a:lnTo>
                    <a:pt x="437" y="915"/>
                  </a:lnTo>
                  <a:lnTo>
                    <a:pt x="421" y="912"/>
                  </a:lnTo>
                  <a:lnTo>
                    <a:pt x="407" y="912"/>
                  </a:lnTo>
                  <a:lnTo>
                    <a:pt x="391" y="911"/>
                  </a:lnTo>
                  <a:lnTo>
                    <a:pt x="382" y="911"/>
                  </a:lnTo>
                  <a:lnTo>
                    <a:pt x="371" y="912"/>
                  </a:lnTo>
                  <a:lnTo>
                    <a:pt x="361" y="913"/>
                  </a:lnTo>
                  <a:lnTo>
                    <a:pt x="352" y="916"/>
                  </a:lnTo>
                  <a:lnTo>
                    <a:pt x="341" y="918"/>
                  </a:lnTo>
                  <a:lnTo>
                    <a:pt x="331" y="922"/>
                  </a:lnTo>
                  <a:lnTo>
                    <a:pt x="323" y="925"/>
                  </a:lnTo>
                  <a:lnTo>
                    <a:pt x="313" y="929"/>
                  </a:lnTo>
                  <a:lnTo>
                    <a:pt x="304" y="935"/>
                  </a:lnTo>
                  <a:lnTo>
                    <a:pt x="295" y="941"/>
                  </a:lnTo>
                  <a:lnTo>
                    <a:pt x="288" y="948"/>
                  </a:lnTo>
                  <a:lnTo>
                    <a:pt x="280" y="955"/>
                  </a:lnTo>
                  <a:lnTo>
                    <a:pt x="272" y="964"/>
                  </a:lnTo>
                  <a:lnTo>
                    <a:pt x="264" y="971"/>
                  </a:lnTo>
                  <a:lnTo>
                    <a:pt x="257" y="977"/>
                  </a:lnTo>
                  <a:lnTo>
                    <a:pt x="247" y="983"/>
                  </a:lnTo>
                  <a:lnTo>
                    <a:pt x="233" y="990"/>
                  </a:lnTo>
                  <a:lnTo>
                    <a:pt x="218" y="999"/>
                  </a:lnTo>
                  <a:lnTo>
                    <a:pt x="204" y="1005"/>
                  </a:lnTo>
                  <a:lnTo>
                    <a:pt x="188" y="1012"/>
                  </a:lnTo>
                  <a:lnTo>
                    <a:pt x="174" y="1018"/>
                  </a:lnTo>
                  <a:lnTo>
                    <a:pt x="158" y="1023"/>
                  </a:lnTo>
                  <a:lnTo>
                    <a:pt x="143" y="1027"/>
                  </a:lnTo>
                  <a:lnTo>
                    <a:pt x="127" y="1031"/>
                  </a:lnTo>
                  <a:lnTo>
                    <a:pt x="121" y="1032"/>
                  </a:lnTo>
                  <a:lnTo>
                    <a:pt x="116" y="1032"/>
                  </a:lnTo>
                  <a:lnTo>
                    <a:pt x="109" y="1032"/>
                  </a:lnTo>
                  <a:lnTo>
                    <a:pt x="103" y="1031"/>
                  </a:lnTo>
                  <a:lnTo>
                    <a:pt x="98" y="1030"/>
                  </a:lnTo>
                  <a:lnTo>
                    <a:pt x="92" y="1027"/>
                  </a:lnTo>
                  <a:lnTo>
                    <a:pt x="89" y="1024"/>
                  </a:lnTo>
                  <a:lnTo>
                    <a:pt x="85" y="1019"/>
                  </a:lnTo>
                  <a:lnTo>
                    <a:pt x="82" y="1012"/>
                  </a:lnTo>
                  <a:lnTo>
                    <a:pt x="79" y="1003"/>
                  </a:lnTo>
                  <a:lnTo>
                    <a:pt x="78" y="995"/>
                  </a:lnTo>
                  <a:lnTo>
                    <a:pt x="77" y="985"/>
                  </a:lnTo>
                  <a:lnTo>
                    <a:pt x="77" y="977"/>
                  </a:lnTo>
                  <a:lnTo>
                    <a:pt x="79" y="969"/>
                  </a:lnTo>
                  <a:lnTo>
                    <a:pt x="82" y="960"/>
                  </a:lnTo>
                  <a:lnTo>
                    <a:pt x="85" y="953"/>
                  </a:lnTo>
                  <a:lnTo>
                    <a:pt x="97" y="936"/>
                  </a:lnTo>
                  <a:lnTo>
                    <a:pt x="110" y="921"/>
                  </a:lnTo>
                  <a:lnTo>
                    <a:pt x="125" y="905"/>
                  </a:lnTo>
                  <a:lnTo>
                    <a:pt x="140" y="891"/>
                  </a:lnTo>
                  <a:lnTo>
                    <a:pt x="156" y="877"/>
                  </a:lnTo>
                  <a:lnTo>
                    <a:pt x="172" y="864"/>
                  </a:lnTo>
                  <a:lnTo>
                    <a:pt x="188" y="851"/>
                  </a:lnTo>
                  <a:lnTo>
                    <a:pt x="205" y="839"/>
                  </a:lnTo>
                  <a:lnTo>
                    <a:pt x="217" y="832"/>
                  </a:lnTo>
                  <a:lnTo>
                    <a:pt x="229" y="825"/>
                  </a:lnTo>
                  <a:lnTo>
                    <a:pt x="241" y="819"/>
                  </a:lnTo>
                  <a:lnTo>
                    <a:pt x="254" y="813"/>
                  </a:lnTo>
                  <a:lnTo>
                    <a:pt x="268" y="808"/>
                  </a:lnTo>
                  <a:lnTo>
                    <a:pt x="281" y="804"/>
                  </a:lnTo>
                  <a:lnTo>
                    <a:pt x="294" y="801"/>
                  </a:lnTo>
                  <a:lnTo>
                    <a:pt x="307" y="797"/>
                  </a:lnTo>
                  <a:lnTo>
                    <a:pt x="325" y="795"/>
                  </a:lnTo>
                  <a:lnTo>
                    <a:pt x="343" y="792"/>
                  </a:lnTo>
                  <a:lnTo>
                    <a:pt x="361" y="791"/>
                  </a:lnTo>
                  <a:lnTo>
                    <a:pt x="379" y="791"/>
                  </a:lnTo>
                  <a:lnTo>
                    <a:pt x="397" y="791"/>
                  </a:lnTo>
                  <a:lnTo>
                    <a:pt x="415" y="791"/>
                  </a:lnTo>
                  <a:lnTo>
                    <a:pt x="433" y="791"/>
                  </a:lnTo>
                  <a:lnTo>
                    <a:pt x="451" y="791"/>
                  </a:lnTo>
                  <a:lnTo>
                    <a:pt x="476" y="791"/>
                  </a:lnTo>
                  <a:lnTo>
                    <a:pt x="502" y="792"/>
                  </a:lnTo>
                  <a:lnTo>
                    <a:pt x="528" y="792"/>
                  </a:lnTo>
                  <a:lnTo>
                    <a:pt x="553" y="793"/>
                  </a:lnTo>
                  <a:lnTo>
                    <a:pt x="578" y="795"/>
                  </a:lnTo>
                  <a:lnTo>
                    <a:pt x="604" y="795"/>
                  </a:lnTo>
                  <a:lnTo>
                    <a:pt x="630" y="796"/>
                  </a:lnTo>
                  <a:lnTo>
                    <a:pt x="655" y="797"/>
                  </a:lnTo>
                  <a:lnTo>
                    <a:pt x="673" y="798"/>
                  </a:lnTo>
                  <a:lnTo>
                    <a:pt x="692" y="801"/>
                  </a:lnTo>
                  <a:lnTo>
                    <a:pt x="712" y="802"/>
                  </a:lnTo>
                  <a:lnTo>
                    <a:pt x="730" y="804"/>
                  </a:lnTo>
                  <a:lnTo>
                    <a:pt x="749" y="807"/>
                  </a:lnTo>
                  <a:lnTo>
                    <a:pt x="767" y="808"/>
                  </a:lnTo>
                  <a:lnTo>
                    <a:pt x="786" y="809"/>
                  </a:lnTo>
                  <a:lnTo>
                    <a:pt x="805" y="809"/>
                  </a:lnTo>
                  <a:lnTo>
                    <a:pt x="816" y="810"/>
                  </a:lnTo>
                  <a:lnTo>
                    <a:pt x="827" y="810"/>
                  </a:lnTo>
                  <a:lnTo>
                    <a:pt x="839" y="810"/>
                  </a:lnTo>
                  <a:lnTo>
                    <a:pt x="850" y="810"/>
                  </a:lnTo>
                  <a:lnTo>
                    <a:pt x="860" y="809"/>
                  </a:lnTo>
                  <a:lnTo>
                    <a:pt x="871" y="808"/>
                  </a:lnTo>
                  <a:lnTo>
                    <a:pt x="881" y="803"/>
                  </a:lnTo>
                  <a:lnTo>
                    <a:pt x="889" y="797"/>
                  </a:lnTo>
                  <a:close/>
                </a:path>
              </a:pathLst>
            </a:custGeom>
            <a:solidFill>
              <a:srgbClr val="d18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33840" y="4865760"/>
              <a:ext cx="1024200" cy="880920"/>
            </a:xfrm>
            <a:custGeom>
              <a:avLst/>
              <a:gdLst/>
              <a:ahLst/>
              <a:rect l="l" t="t" r="r" b="b"/>
              <a:pathLst>
                <a:path w="2580" h="2220">
                  <a:moveTo>
                    <a:pt x="882" y="790"/>
                  </a:moveTo>
                  <a:lnTo>
                    <a:pt x="890" y="782"/>
                  </a:lnTo>
                  <a:lnTo>
                    <a:pt x="896" y="772"/>
                  </a:lnTo>
                  <a:lnTo>
                    <a:pt x="902" y="762"/>
                  </a:lnTo>
                  <a:lnTo>
                    <a:pt x="906" y="751"/>
                  </a:lnTo>
                  <a:lnTo>
                    <a:pt x="908" y="738"/>
                  </a:lnTo>
                  <a:lnTo>
                    <a:pt x="910" y="726"/>
                  </a:lnTo>
                  <a:lnTo>
                    <a:pt x="912" y="714"/>
                  </a:lnTo>
                  <a:lnTo>
                    <a:pt x="912" y="702"/>
                  </a:lnTo>
                  <a:lnTo>
                    <a:pt x="912" y="687"/>
                  </a:lnTo>
                  <a:lnTo>
                    <a:pt x="910" y="674"/>
                  </a:lnTo>
                  <a:lnTo>
                    <a:pt x="908" y="660"/>
                  </a:lnTo>
                  <a:lnTo>
                    <a:pt x="906" y="645"/>
                  </a:lnTo>
                  <a:lnTo>
                    <a:pt x="901" y="632"/>
                  </a:lnTo>
                  <a:lnTo>
                    <a:pt x="896" y="619"/>
                  </a:lnTo>
                  <a:lnTo>
                    <a:pt x="890" y="606"/>
                  </a:lnTo>
                  <a:lnTo>
                    <a:pt x="882" y="595"/>
                  </a:lnTo>
                  <a:lnTo>
                    <a:pt x="873" y="585"/>
                  </a:lnTo>
                  <a:lnTo>
                    <a:pt x="864" y="578"/>
                  </a:lnTo>
                  <a:lnTo>
                    <a:pt x="853" y="572"/>
                  </a:lnTo>
                  <a:lnTo>
                    <a:pt x="841" y="566"/>
                  </a:lnTo>
                  <a:lnTo>
                    <a:pt x="829" y="561"/>
                  </a:lnTo>
                  <a:lnTo>
                    <a:pt x="817" y="556"/>
                  </a:lnTo>
                  <a:lnTo>
                    <a:pt x="805" y="552"/>
                  </a:lnTo>
                  <a:lnTo>
                    <a:pt x="793" y="547"/>
                  </a:lnTo>
                  <a:lnTo>
                    <a:pt x="778" y="541"/>
                  </a:lnTo>
                  <a:lnTo>
                    <a:pt x="765" y="534"/>
                  </a:lnTo>
                  <a:lnTo>
                    <a:pt x="751" y="528"/>
                  </a:lnTo>
                  <a:lnTo>
                    <a:pt x="736" y="522"/>
                  </a:lnTo>
                  <a:lnTo>
                    <a:pt x="723" y="516"/>
                  </a:lnTo>
                  <a:lnTo>
                    <a:pt x="709" y="510"/>
                  </a:lnTo>
                  <a:lnTo>
                    <a:pt x="694" y="505"/>
                  </a:lnTo>
                  <a:lnTo>
                    <a:pt x="680" y="500"/>
                  </a:lnTo>
                  <a:lnTo>
                    <a:pt x="663" y="495"/>
                  </a:lnTo>
                  <a:lnTo>
                    <a:pt x="648" y="492"/>
                  </a:lnTo>
                  <a:lnTo>
                    <a:pt x="631" y="488"/>
                  </a:lnTo>
                  <a:lnTo>
                    <a:pt x="614" y="486"/>
                  </a:lnTo>
                  <a:lnTo>
                    <a:pt x="597" y="483"/>
                  </a:lnTo>
                  <a:lnTo>
                    <a:pt x="580" y="480"/>
                  </a:lnTo>
                  <a:lnTo>
                    <a:pt x="565" y="475"/>
                  </a:lnTo>
                  <a:lnTo>
                    <a:pt x="549" y="470"/>
                  </a:lnTo>
                  <a:lnTo>
                    <a:pt x="536" y="464"/>
                  </a:lnTo>
                  <a:lnTo>
                    <a:pt x="523" y="458"/>
                  </a:lnTo>
                  <a:lnTo>
                    <a:pt x="511" y="451"/>
                  </a:lnTo>
                  <a:lnTo>
                    <a:pt x="499" y="444"/>
                  </a:lnTo>
                  <a:lnTo>
                    <a:pt x="488" y="435"/>
                  </a:lnTo>
                  <a:lnTo>
                    <a:pt x="476" y="428"/>
                  </a:lnTo>
                  <a:lnTo>
                    <a:pt x="465" y="418"/>
                  </a:lnTo>
                  <a:lnTo>
                    <a:pt x="453" y="410"/>
                  </a:lnTo>
                  <a:lnTo>
                    <a:pt x="434" y="394"/>
                  </a:lnTo>
                  <a:lnTo>
                    <a:pt x="416" y="379"/>
                  </a:lnTo>
                  <a:lnTo>
                    <a:pt x="397" y="362"/>
                  </a:lnTo>
                  <a:lnTo>
                    <a:pt x="379" y="345"/>
                  </a:lnTo>
                  <a:lnTo>
                    <a:pt x="361" y="329"/>
                  </a:lnTo>
                  <a:lnTo>
                    <a:pt x="343" y="312"/>
                  </a:lnTo>
                  <a:lnTo>
                    <a:pt x="324" y="295"/>
                  </a:lnTo>
                  <a:lnTo>
                    <a:pt x="304" y="279"/>
                  </a:lnTo>
                  <a:lnTo>
                    <a:pt x="288" y="266"/>
                  </a:lnTo>
                  <a:lnTo>
                    <a:pt x="270" y="253"/>
                  </a:lnTo>
                  <a:lnTo>
                    <a:pt x="253" y="240"/>
                  </a:lnTo>
                  <a:lnTo>
                    <a:pt x="235" y="227"/>
                  </a:lnTo>
                  <a:lnTo>
                    <a:pt x="217" y="215"/>
                  </a:lnTo>
                  <a:lnTo>
                    <a:pt x="199" y="203"/>
                  </a:lnTo>
                  <a:lnTo>
                    <a:pt x="181" y="191"/>
                  </a:lnTo>
                  <a:lnTo>
                    <a:pt x="162" y="179"/>
                  </a:lnTo>
                  <a:lnTo>
                    <a:pt x="150" y="171"/>
                  </a:lnTo>
                  <a:lnTo>
                    <a:pt x="138" y="167"/>
                  </a:lnTo>
                  <a:lnTo>
                    <a:pt x="124" y="161"/>
                  </a:lnTo>
                  <a:lnTo>
                    <a:pt x="111" y="156"/>
                  </a:lnTo>
                  <a:lnTo>
                    <a:pt x="98" y="150"/>
                  </a:lnTo>
                  <a:lnTo>
                    <a:pt x="85" y="145"/>
                  </a:lnTo>
                  <a:lnTo>
                    <a:pt x="73" y="138"/>
                  </a:lnTo>
                  <a:lnTo>
                    <a:pt x="61" y="131"/>
                  </a:lnTo>
                  <a:lnTo>
                    <a:pt x="52" y="126"/>
                  </a:lnTo>
                  <a:lnTo>
                    <a:pt x="43" y="119"/>
                  </a:lnTo>
                  <a:lnTo>
                    <a:pt x="34" y="113"/>
                  </a:lnTo>
                  <a:lnTo>
                    <a:pt x="26" y="105"/>
                  </a:lnTo>
                  <a:lnTo>
                    <a:pt x="18" y="98"/>
                  </a:lnTo>
                  <a:lnTo>
                    <a:pt x="10" y="90"/>
                  </a:lnTo>
                  <a:lnTo>
                    <a:pt x="6" y="81"/>
                  </a:lnTo>
                  <a:lnTo>
                    <a:pt x="1" y="72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2" y="49"/>
                  </a:lnTo>
                  <a:lnTo>
                    <a:pt x="4" y="42"/>
                  </a:lnTo>
                  <a:lnTo>
                    <a:pt x="8" y="35"/>
                  </a:lnTo>
                  <a:lnTo>
                    <a:pt x="13" y="27"/>
                  </a:lnTo>
                  <a:lnTo>
                    <a:pt x="19" y="23"/>
                  </a:lnTo>
                  <a:lnTo>
                    <a:pt x="25" y="18"/>
                  </a:lnTo>
                  <a:lnTo>
                    <a:pt x="37" y="13"/>
                  </a:lnTo>
                  <a:lnTo>
                    <a:pt x="49" y="9"/>
                  </a:lnTo>
                  <a:lnTo>
                    <a:pt x="61" y="7"/>
                  </a:lnTo>
                  <a:lnTo>
                    <a:pt x="74" y="5"/>
                  </a:lnTo>
                  <a:lnTo>
                    <a:pt x="87" y="5"/>
                  </a:lnTo>
                  <a:lnTo>
                    <a:pt x="100" y="5"/>
                  </a:lnTo>
                  <a:lnTo>
                    <a:pt x="114" y="6"/>
                  </a:lnTo>
                  <a:lnTo>
                    <a:pt x="127" y="6"/>
                  </a:lnTo>
                  <a:lnTo>
                    <a:pt x="138" y="8"/>
                  </a:lnTo>
                  <a:lnTo>
                    <a:pt x="150" y="9"/>
                  </a:lnTo>
                  <a:lnTo>
                    <a:pt x="162" y="13"/>
                  </a:lnTo>
                  <a:lnTo>
                    <a:pt x="172" y="15"/>
                  </a:lnTo>
                  <a:lnTo>
                    <a:pt x="184" y="20"/>
                  </a:lnTo>
                  <a:lnTo>
                    <a:pt x="195" y="25"/>
                  </a:lnTo>
                  <a:lnTo>
                    <a:pt x="206" y="30"/>
                  </a:lnTo>
                  <a:lnTo>
                    <a:pt x="216" y="36"/>
                  </a:lnTo>
                  <a:lnTo>
                    <a:pt x="230" y="47"/>
                  </a:lnTo>
                  <a:lnTo>
                    <a:pt x="243" y="57"/>
                  </a:lnTo>
                  <a:lnTo>
                    <a:pt x="255" y="69"/>
                  </a:lnTo>
                  <a:lnTo>
                    <a:pt x="267" y="81"/>
                  </a:lnTo>
                  <a:lnTo>
                    <a:pt x="279" y="95"/>
                  </a:lnTo>
                  <a:lnTo>
                    <a:pt x="291" y="107"/>
                  </a:lnTo>
                  <a:lnTo>
                    <a:pt x="304" y="120"/>
                  </a:lnTo>
                  <a:lnTo>
                    <a:pt x="316" y="131"/>
                  </a:lnTo>
                  <a:lnTo>
                    <a:pt x="334" y="147"/>
                  </a:lnTo>
                  <a:lnTo>
                    <a:pt x="354" y="163"/>
                  </a:lnTo>
                  <a:lnTo>
                    <a:pt x="372" y="179"/>
                  </a:lnTo>
                  <a:lnTo>
                    <a:pt x="391" y="194"/>
                  </a:lnTo>
                  <a:lnTo>
                    <a:pt x="409" y="210"/>
                  </a:lnTo>
                  <a:lnTo>
                    <a:pt x="428" y="225"/>
                  </a:lnTo>
                  <a:lnTo>
                    <a:pt x="446" y="241"/>
                  </a:lnTo>
                  <a:lnTo>
                    <a:pt x="465" y="257"/>
                  </a:lnTo>
                  <a:lnTo>
                    <a:pt x="480" y="267"/>
                  </a:lnTo>
                  <a:lnTo>
                    <a:pt x="493" y="278"/>
                  </a:lnTo>
                  <a:lnTo>
                    <a:pt x="506" y="289"/>
                  </a:lnTo>
                  <a:lnTo>
                    <a:pt x="520" y="300"/>
                  </a:lnTo>
                  <a:lnTo>
                    <a:pt x="535" y="311"/>
                  </a:lnTo>
                  <a:lnTo>
                    <a:pt x="549" y="320"/>
                  </a:lnTo>
                  <a:lnTo>
                    <a:pt x="564" y="330"/>
                  </a:lnTo>
                  <a:lnTo>
                    <a:pt x="578" y="339"/>
                  </a:lnTo>
                  <a:lnTo>
                    <a:pt x="586" y="343"/>
                  </a:lnTo>
                  <a:lnTo>
                    <a:pt x="594" y="347"/>
                  </a:lnTo>
                  <a:lnTo>
                    <a:pt x="602" y="349"/>
                  </a:lnTo>
                  <a:lnTo>
                    <a:pt x="610" y="351"/>
                  </a:lnTo>
                  <a:lnTo>
                    <a:pt x="619" y="354"/>
                  </a:lnTo>
                  <a:lnTo>
                    <a:pt x="627" y="355"/>
                  </a:lnTo>
                  <a:lnTo>
                    <a:pt x="636" y="356"/>
                  </a:lnTo>
                  <a:lnTo>
                    <a:pt x="644" y="357"/>
                  </a:lnTo>
                  <a:lnTo>
                    <a:pt x="651" y="357"/>
                  </a:lnTo>
                  <a:lnTo>
                    <a:pt x="660" y="357"/>
                  </a:lnTo>
                  <a:lnTo>
                    <a:pt x="668" y="357"/>
                  </a:lnTo>
                  <a:lnTo>
                    <a:pt x="676" y="357"/>
                  </a:lnTo>
                  <a:lnTo>
                    <a:pt x="684" y="355"/>
                  </a:lnTo>
                  <a:lnTo>
                    <a:pt x="691" y="354"/>
                  </a:lnTo>
                  <a:lnTo>
                    <a:pt x="698" y="350"/>
                  </a:lnTo>
                  <a:lnTo>
                    <a:pt x="704" y="345"/>
                  </a:lnTo>
                  <a:lnTo>
                    <a:pt x="710" y="338"/>
                  </a:lnTo>
                  <a:lnTo>
                    <a:pt x="715" y="330"/>
                  </a:lnTo>
                  <a:lnTo>
                    <a:pt x="718" y="321"/>
                  </a:lnTo>
                  <a:lnTo>
                    <a:pt x="721" y="312"/>
                  </a:lnTo>
                  <a:lnTo>
                    <a:pt x="723" y="302"/>
                  </a:lnTo>
                  <a:lnTo>
                    <a:pt x="724" y="293"/>
                  </a:lnTo>
                  <a:lnTo>
                    <a:pt x="727" y="283"/>
                  </a:lnTo>
                  <a:lnTo>
                    <a:pt x="727" y="273"/>
                  </a:lnTo>
                  <a:lnTo>
                    <a:pt x="728" y="260"/>
                  </a:lnTo>
                  <a:lnTo>
                    <a:pt x="728" y="246"/>
                  </a:lnTo>
                  <a:lnTo>
                    <a:pt x="727" y="231"/>
                  </a:lnTo>
                  <a:lnTo>
                    <a:pt x="726" y="217"/>
                  </a:lnTo>
                  <a:lnTo>
                    <a:pt x="724" y="204"/>
                  </a:lnTo>
                  <a:lnTo>
                    <a:pt x="723" y="189"/>
                  </a:lnTo>
                  <a:lnTo>
                    <a:pt x="722" y="175"/>
                  </a:lnTo>
                  <a:lnTo>
                    <a:pt x="721" y="161"/>
                  </a:lnTo>
                  <a:lnTo>
                    <a:pt x="722" y="153"/>
                  </a:lnTo>
                  <a:lnTo>
                    <a:pt x="722" y="146"/>
                  </a:lnTo>
                  <a:lnTo>
                    <a:pt x="723" y="139"/>
                  </a:lnTo>
                  <a:lnTo>
                    <a:pt x="724" y="131"/>
                  </a:lnTo>
                  <a:lnTo>
                    <a:pt x="724" y="123"/>
                  </a:lnTo>
                  <a:lnTo>
                    <a:pt x="726" y="116"/>
                  </a:lnTo>
                  <a:lnTo>
                    <a:pt x="727" y="109"/>
                  </a:lnTo>
                  <a:lnTo>
                    <a:pt x="727" y="102"/>
                  </a:lnTo>
                  <a:lnTo>
                    <a:pt x="727" y="93"/>
                  </a:lnTo>
                  <a:lnTo>
                    <a:pt x="727" y="85"/>
                  </a:lnTo>
                  <a:lnTo>
                    <a:pt x="727" y="77"/>
                  </a:lnTo>
                  <a:lnTo>
                    <a:pt x="726" y="68"/>
                  </a:lnTo>
                  <a:lnTo>
                    <a:pt x="726" y="60"/>
                  </a:lnTo>
                  <a:lnTo>
                    <a:pt x="726" y="53"/>
                  </a:lnTo>
                  <a:lnTo>
                    <a:pt x="726" y="44"/>
                  </a:lnTo>
                  <a:lnTo>
                    <a:pt x="727" y="36"/>
                  </a:lnTo>
                  <a:lnTo>
                    <a:pt x="729" y="31"/>
                  </a:lnTo>
                  <a:lnTo>
                    <a:pt x="730" y="25"/>
                  </a:lnTo>
                  <a:lnTo>
                    <a:pt x="733" y="19"/>
                  </a:lnTo>
                  <a:lnTo>
                    <a:pt x="735" y="13"/>
                  </a:lnTo>
                  <a:lnTo>
                    <a:pt x="738" y="7"/>
                  </a:lnTo>
                  <a:lnTo>
                    <a:pt x="741" y="3"/>
                  </a:lnTo>
                  <a:lnTo>
                    <a:pt x="746" y="1"/>
                  </a:lnTo>
                  <a:lnTo>
                    <a:pt x="751" y="0"/>
                  </a:lnTo>
                  <a:lnTo>
                    <a:pt x="762" y="2"/>
                  </a:lnTo>
                  <a:lnTo>
                    <a:pt x="771" y="5"/>
                  </a:lnTo>
                  <a:lnTo>
                    <a:pt x="781" y="9"/>
                  </a:lnTo>
                  <a:lnTo>
                    <a:pt x="790" y="14"/>
                  </a:lnTo>
                  <a:lnTo>
                    <a:pt x="799" y="20"/>
                  </a:lnTo>
                  <a:lnTo>
                    <a:pt x="807" y="27"/>
                  </a:lnTo>
                  <a:lnTo>
                    <a:pt x="816" y="35"/>
                  </a:lnTo>
                  <a:lnTo>
                    <a:pt x="823" y="42"/>
                  </a:lnTo>
                  <a:lnTo>
                    <a:pt x="830" y="51"/>
                  </a:lnTo>
                  <a:lnTo>
                    <a:pt x="836" y="62"/>
                  </a:lnTo>
                  <a:lnTo>
                    <a:pt x="842" y="73"/>
                  </a:lnTo>
                  <a:lnTo>
                    <a:pt x="847" y="85"/>
                  </a:lnTo>
                  <a:lnTo>
                    <a:pt x="850" y="96"/>
                  </a:lnTo>
                  <a:lnTo>
                    <a:pt x="855" y="108"/>
                  </a:lnTo>
                  <a:lnTo>
                    <a:pt x="860" y="120"/>
                  </a:lnTo>
                  <a:lnTo>
                    <a:pt x="864" y="131"/>
                  </a:lnTo>
                  <a:lnTo>
                    <a:pt x="871" y="147"/>
                  </a:lnTo>
                  <a:lnTo>
                    <a:pt x="878" y="164"/>
                  </a:lnTo>
                  <a:lnTo>
                    <a:pt x="884" y="180"/>
                  </a:lnTo>
                  <a:lnTo>
                    <a:pt x="891" y="197"/>
                  </a:lnTo>
                  <a:lnTo>
                    <a:pt x="897" y="213"/>
                  </a:lnTo>
                  <a:lnTo>
                    <a:pt x="904" y="229"/>
                  </a:lnTo>
                  <a:lnTo>
                    <a:pt x="910" y="246"/>
                  </a:lnTo>
                  <a:lnTo>
                    <a:pt x="918" y="261"/>
                  </a:lnTo>
                  <a:lnTo>
                    <a:pt x="921" y="272"/>
                  </a:lnTo>
                  <a:lnTo>
                    <a:pt x="926" y="282"/>
                  </a:lnTo>
                  <a:lnTo>
                    <a:pt x="930" y="291"/>
                  </a:lnTo>
                  <a:lnTo>
                    <a:pt x="933" y="301"/>
                  </a:lnTo>
                  <a:lnTo>
                    <a:pt x="938" y="312"/>
                  </a:lnTo>
                  <a:lnTo>
                    <a:pt x="943" y="321"/>
                  </a:lnTo>
                  <a:lnTo>
                    <a:pt x="948" y="330"/>
                  </a:lnTo>
                  <a:lnTo>
                    <a:pt x="954" y="339"/>
                  </a:lnTo>
                  <a:lnTo>
                    <a:pt x="961" y="349"/>
                  </a:lnTo>
                  <a:lnTo>
                    <a:pt x="968" y="359"/>
                  </a:lnTo>
                  <a:lnTo>
                    <a:pt x="975" y="368"/>
                  </a:lnTo>
                  <a:lnTo>
                    <a:pt x="984" y="377"/>
                  </a:lnTo>
                  <a:lnTo>
                    <a:pt x="992" y="385"/>
                  </a:lnTo>
                  <a:lnTo>
                    <a:pt x="1002" y="393"/>
                  </a:lnTo>
                  <a:lnTo>
                    <a:pt x="1010" y="402"/>
                  </a:lnTo>
                  <a:lnTo>
                    <a:pt x="1018" y="410"/>
                  </a:lnTo>
                  <a:lnTo>
                    <a:pt x="1030" y="421"/>
                  </a:lnTo>
                  <a:lnTo>
                    <a:pt x="1041" y="432"/>
                  </a:lnTo>
                  <a:lnTo>
                    <a:pt x="1052" y="442"/>
                  </a:lnTo>
                  <a:lnTo>
                    <a:pt x="1064" y="452"/>
                  </a:lnTo>
                  <a:lnTo>
                    <a:pt x="1076" y="463"/>
                  </a:lnTo>
                  <a:lnTo>
                    <a:pt x="1088" y="472"/>
                  </a:lnTo>
                  <a:lnTo>
                    <a:pt x="1101" y="481"/>
                  </a:lnTo>
                  <a:lnTo>
                    <a:pt x="1114" y="488"/>
                  </a:lnTo>
                  <a:lnTo>
                    <a:pt x="1125" y="493"/>
                  </a:lnTo>
                  <a:lnTo>
                    <a:pt x="1136" y="496"/>
                  </a:lnTo>
                  <a:lnTo>
                    <a:pt x="1148" y="499"/>
                  </a:lnTo>
                  <a:lnTo>
                    <a:pt x="1160" y="501"/>
                  </a:lnTo>
                  <a:lnTo>
                    <a:pt x="1172" y="502"/>
                  </a:lnTo>
                  <a:lnTo>
                    <a:pt x="1185" y="504"/>
                  </a:lnTo>
                  <a:lnTo>
                    <a:pt x="1197" y="505"/>
                  </a:lnTo>
                  <a:lnTo>
                    <a:pt x="1209" y="506"/>
                  </a:lnTo>
                  <a:lnTo>
                    <a:pt x="1224" y="506"/>
                  </a:lnTo>
                  <a:lnTo>
                    <a:pt x="1239" y="506"/>
                  </a:lnTo>
                  <a:lnTo>
                    <a:pt x="1254" y="506"/>
                  </a:lnTo>
                  <a:lnTo>
                    <a:pt x="1269" y="506"/>
                  </a:lnTo>
                  <a:lnTo>
                    <a:pt x="1284" y="505"/>
                  </a:lnTo>
                  <a:lnTo>
                    <a:pt x="1299" y="504"/>
                  </a:lnTo>
                  <a:lnTo>
                    <a:pt x="1314" y="502"/>
                  </a:lnTo>
                  <a:lnTo>
                    <a:pt x="1328" y="500"/>
                  </a:lnTo>
                  <a:lnTo>
                    <a:pt x="1339" y="498"/>
                  </a:lnTo>
                  <a:lnTo>
                    <a:pt x="1348" y="495"/>
                  </a:lnTo>
                  <a:lnTo>
                    <a:pt x="1359" y="493"/>
                  </a:lnTo>
                  <a:lnTo>
                    <a:pt x="1369" y="489"/>
                  </a:lnTo>
                  <a:lnTo>
                    <a:pt x="1378" y="486"/>
                  </a:lnTo>
                  <a:lnTo>
                    <a:pt x="1388" y="481"/>
                  </a:lnTo>
                  <a:lnTo>
                    <a:pt x="1398" y="476"/>
                  </a:lnTo>
                  <a:lnTo>
                    <a:pt x="1406" y="470"/>
                  </a:lnTo>
                  <a:lnTo>
                    <a:pt x="1414" y="464"/>
                  </a:lnTo>
                  <a:lnTo>
                    <a:pt x="1423" y="457"/>
                  </a:lnTo>
                  <a:lnTo>
                    <a:pt x="1432" y="448"/>
                  </a:lnTo>
                  <a:lnTo>
                    <a:pt x="1440" y="441"/>
                  </a:lnTo>
                  <a:lnTo>
                    <a:pt x="1447" y="433"/>
                  </a:lnTo>
                  <a:lnTo>
                    <a:pt x="1452" y="423"/>
                  </a:lnTo>
                  <a:lnTo>
                    <a:pt x="1453" y="418"/>
                  </a:lnTo>
                  <a:lnTo>
                    <a:pt x="1454" y="414"/>
                  </a:lnTo>
                  <a:lnTo>
                    <a:pt x="1454" y="409"/>
                  </a:lnTo>
                  <a:lnTo>
                    <a:pt x="1453" y="404"/>
                  </a:lnTo>
                  <a:lnTo>
                    <a:pt x="1452" y="399"/>
                  </a:lnTo>
                  <a:lnTo>
                    <a:pt x="1449" y="396"/>
                  </a:lnTo>
                  <a:lnTo>
                    <a:pt x="1446" y="391"/>
                  </a:lnTo>
                  <a:lnTo>
                    <a:pt x="1442" y="387"/>
                  </a:lnTo>
                  <a:lnTo>
                    <a:pt x="1432" y="382"/>
                  </a:lnTo>
                  <a:lnTo>
                    <a:pt x="1422" y="378"/>
                  </a:lnTo>
                  <a:lnTo>
                    <a:pt x="1410" y="374"/>
                  </a:lnTo>
                  <a:lnTo>
                    <a:pt x="1398" y="371"/>
                  </a:lnTo>
                  <a:lnTo>
                    <a:pt x="1387" y="367"/>
                  </a:lnTo>
                  <a:lnTo>
                    <a:pt x="1376" y="363"/>
                  </a:lnTo>
                  <a:lnTo>
                    <a:pt x="1363" y="359"/>
                  </a:lnTo>
                  <a:lnTo>
                    <a:pt x="1351" y="354"/>
                  </a:lnTo>
                  <a:lnTo>
                    <a:pt x="1338" y="350"/>
                  </a:lnTo>
                  <a:lnTo>
                    <a:pt x="1324" y="347"/>
                  </a:lnTo>
                  <a:lnTo>
                    <a:pt x="1312" y="342"/>
                  </a:lnTo>
                  <a:lnTo>
                    <a:pt x="1299" y="338"/>
                  </a:lnTo>
                  <a:lnTo>
                    <a:pt x="1287" y="333"/>
                  </a:lnTo>
                  <a:lnTo>
                    <a:pt x="1275" y="327"/>
                  </a:lnTo>
                  <a:lnTo>
                    <a:pt x="1267" y="323"/>
                  </a:lnTo>
                  <a:lnTo>
                    <a:pt x="1260" y="318"/>
                  </a:lnTo>
                  <a:lnTo>
                    <a:pt x="1252" y="313"/>
                  </a:lnTo>
                  <a:lnTo>
                    <a:pt x="1245" y="307"/>
                  </a:lnTo>
                  <a:lnTo>
                    <a:pt x="1239" y="300"/>
                  </a:lnTo>
                  <a:lnTo>
                    <a:pt x="1232" y="294"/>
                  </a:lnTo>
                  <a:lnTo>
                    <a:pt x="1227" y="287"/>
                  </a:lnTo>
                  <a:lnTo>
                    <a:pt x="1221" y="279"/>
                  </a:lnTo>
                  <a:lnTo>
                    <a:pt x="1216" y="272"/>
                  </a:lnTo>
                  <a:lnTo>
                    <a:pt x="1212" y="265"/>
                  </a:lnTo>
                  <a:lnTo>
                    <a:pt x="1207" y="257"/>
                  </a:lnTo>
                  <a:lnTo>
                    <a:pt x="1203" y="248"/>
                  </a:lnTo>
                  <a:lnTo>
                    <a:pt x="1200" y="240"/>
                  </a:lnTo>
                  <a:lnTo>
                    <a:pt x="1196" y="231"/>
                  </a:lnTo>
                  <a:lnTo>
                    <a:pt x="1194" y="223"/>
                  </a:lnTo>
                  <a:lnTo>
                    <a:pt x="1191" y="215"/>
                  </a:lnTo>
                  <a:lnTo>
                    <a:pt x="1190" y="209"/>
                  </a:lnTo>
                  <a:lnTo>
                    <a:pt x="1189" y="201"/>
                  </a:lnTo>
                  <a:lnTo>
                    <a:pt x="1189" y="195"/>
                  </a:lnTo>
                  <a:lnTo>
                    <a:pt x="1189" y="188"/>
                  </a:lnTo>
                  <a:lnTo>
                    <a:pt x="1189" y="182"/>
                  </a:lnTo>
                  <a:lnTo>
                    <a:pt x="1191" y="176"/>
                  </a:lnTo>
                  <a:lnTo>
                    <a:pt x="1194" y="171"/>
                  </a:lnTo>
                  <a:lnTo>
                    <a:pt x="1197" y="167"/>
                  </a:lnTo>
                  <a:lnTo>
                    <a:pt x="1203" y="162"/>
                  </a:lnTo>
                  <a:lnTo>
                    <a:pt x="1210" y="159"/>
                  </a:lnTo>
                  <a:lnTo>
                    <a:pt x="1218" y="157"/>
                  </a:lnTo>
                  <a:lnTo>
                    <a:pt x="1225" y="155"/>
                  </a:lnTo>
                  <a:lnTo>
                    <a:pt x="1233" y="155"/>
                  </a:lnTo>
                  <a:lnTo>
                    <a:pt x="1242" y="155"/>
                  </a:lnTo>
                  <a:lnTo>
                    <a:pt x="1249" y="155"/>
                  </a:lnTo>
                  <a:lnTo>
                    <a:pt x="1257" y="155"/>
                  </a:lnTo>
                  <a:lnTo>
                    <a:pt x="1267" y="157"/>
                  </a:lnTo>
                  <a:lnTo>
                    <a:pt x="1276" y="159"/>
                  </a:lnTo>
                  <a:lnTo>
                    <a:pt x="1286" y="162"/>
                  </a:lnTo>
                  <a:lnTo>
                    <a:pt x="1296" y="165"/>
                  </a:lnTo>
                  <a:lnTo>
                    <a:pt x="1305" y="169"/>
                  </a:lnTo>
                  <a:lnTo>
                    <a:pt x="1315" y="173"/>
                  </a:lnTo>
                  <a:lnTo>
                    <a:pt x="1324" y="176"/>
                  </a:lnTo>
                  <a:lnTo>
                    <a:pt x="1334" y="179"/>
                  </a:lnTo>
                  <a:lnTo>
                    <a:pt x="1346" y="181"/>
                  </a:lnTo>
                  <a:lnTo>
                    <a:pt x="1358" y="183"/>
                  </a:lnTo>
                  <a:lnTo>
                    <a:pt x="1370" y="185"/>
                  </a:lnTo>
                  <a:lnTo>
                    <a:pt x="1382" y="186"/>
                  </a:lnTo>
                  <a:lnTo>
                    <a:pt x="1394" y="188"/>
                  </a:lnTo>
                  <a:lnTo>
                    <a:pt x="1406" y="189"/>
                  </a:lnTo>
                  <a:lnTo>
                    <a:pt x="1417" y="189"/>
                  </a:lnTo>
                  <a:lnTo>
                    <a:pt x="1429" y="191"/>
                  </a:lnTo>
                  <a:lnTo>
                    <a:pt x="1443" y="192"/>
                  </a:lnTo>
                  <a:lnTo>
                    <a:pt x="1456" y="192"/>
                  </a:lnTo>
                  <a:lnTo>
                    <a:pt x="1470" y="192"/>
                  </a:lnTo>
                  <a:lnTo>
                    <a:pt x="1483" y="192"/>
                  </a:lnTo>
                  <a:lnTo>
                    <a:pt x="1496" y="192"/>
                  </a:lnTo>
                  <a:lnTo>
                    <a:pt x="1509" y="192"/>
                  </a:lnTo>
                  <a:lnTo>
                    <a:pt x="1524" y="191"/>
                  </a:lnTo>
                  <a:lnTo>
                    <a:pt x="1537" y="191"/>
                  </a:lnTo>
                  <a:lnTo>
                    <a:pt x="1545" y="189"/>
                  </a:lnTo>
                  <a:lnTo>
                    <a:pt x="1555" y="188"/>
                  </a:lnTo>
                  <a:lnTo>
                    <a:pt x="1563" y="187"/>
                  </a:lnTo>
                  <a:lnTo>
                    <a:pt x="1573" y="186"/>
                  </a:lnTo>
                  <a:lnTo>
                    <a:pt x="1581" y="185"/>
                  </a:lnTo>
                  <a:lnTo>
                    <a:pt x="1590" y="183"/>
                  </a:lnTo>
                  <a:lnTo>
                    <a:pt x="1599" y="183"/>
                  </a:lnTo>
                  <a:lnTo>
                    <a:pt x="1608" y="185"/>
                  </a:lnTo>
                  <a:lnTo>
                    <a:pt x="1615" y="186"/>
                  </a:lnTo>
                  <a:lnTo>
                    <a:pt x="1623" y="188"/>
                  </a:lnTo>
                  <a:lnTo>
                    <a:pt x="1630" y="192"/>
                  </a:lnTo>
                  <a:lnTo>
                    <a:pt x="1638" y="195"/>
                  </a:lnTo>
                  <a:lnTo>
                    <a:pt x="1644" y="199"/>
                  </a:lnTo>
                  <a:lnTo>
                    <a:pt x="1651" y="204"/>
                  </a:lnTo>
                  <a:lnTo>
                    <a:pt x="1657" y="209"/>
                  </a:lnTo>
                  <a:lnTo>
                    <a:pt x="1662" y="215"/>
                  </a:lnTo>
                  <a:lnTo>
                    <a:pt x="1665" y="221"/>
                  </a:lnTo>
                  <a:lnTo>
                    <a:pt x="1669" y="228"/>
                  </a:lnTo>
                  <a:lnTo>
                    <a:pt x="1671" y="235"/>
                  </a:lnTo>
                  <a:lnTo>
                    <a:pt x="1674" y="242"/>
                  </a:lnTo>
                  <a:lnTo>
                    <a:pt x="1675" y="251"/>
                  </a:lnTo>
                  <a:lnTo>
                    <a:pt x="1676" y="258"/>
                  </a:lnTo>
                  <a:lnTo>
                    <a:pt x="1677" y="266"/>
                  </a:lnTo>
                  <a:lnTo>
                    <a:pt x="1680" y="273"/>
                  </a:lnTo>
                  <a:lnTo>
                    <a:pt x="1684" y="294"/>
                  </a:lnTo>
                  <a:lnTo>
                    <a:pt x="1689" y="314"/>
                  </a:lnTo>
                  <a:lnTo>
                    <a:pt x="1694" y="333"/>
                  </a:lnTo>
                  <a:lnTo>
                    <a:pt x="1699" y="354"/>
                  </a:lnTo>
                  <a:lnTo>
                    <a:pt x="1704" y="374"/>
                  </a:lnTo>
                  <a:lnTo>
                    <a:pt x="1707" y="393"/>
                  </a:lnTo>
                  <a:lnTo>
                    <a:pt x="1712" y="414"/>
                  </a:lnTo>
                  <a:lnTo>
                    <a:pt x="1714" y="434"/>
                  </a:lnTo>
                  <a:lnTo>
                    <a:pt x="1717" y="453"/>
                  </a:lnTo>
                  <a:lnTo>
                    <a:pt x="1718" y="471"/>
                  </a:lnTo>
                  <a:lnTo>
                    <a:pt x="1719" y="490"/>
                  </a:lnTo>
                  <a:lnTo>
                    <a:pt x="1719" y="508"/>
                  </a:lnTo>
                  <a:lnTo>
                    <a:pt x="1720" y="528"/>
                  </a:lnTo>
                  <a:lnTo>
                    <a:pt x="1722" y="546"/>
                  </a:lnTo>
                  <a:lnTo>
                    <a:pt x="1724" y="565"/>
                  </a:lnTo>
                  <a:lnTo>
                    <a:pt x="1726" y="583"/>
                  </a:lnTo>
                  <a:lnTo>
                    <a:pt x="1730" y="595"/>
                  </a:lnTo>
                  <a:lnTo>
                    <a:pt x="1734" y="607"/>
                  </a:lnTo>
                  <a:lnTo>
                    <a:pt x="1737" y="619"/>
                  </a:lnTo>
                  <a:lnTo>
                    <a:pt x="1742" y="631"/>
                  </a:lnTo>
                  <a:lnTo>
                    <a:pt x="1747" y="643"/>
                  </a:lnTo>
                  <a:lnTo>
                    <a:pt x="1753" y="654"/>
                  </a:lnTo>
                  <a:lnTo>
                    <a:pt x="1760" y="663"/>
                  </a:lnTo>
                  <a:lnTo>
                    <a:pt x="1768" y="672"/>
                  </a:lnTo>
                  <a:lnTo>
                    <a:pt x="1774" y="676"/>
                  </a:lnTo>
                  <a:lnTo>
                    <a:pt x="1782" y="680"/>
                  </a:lnTo>
                  <a:lnTo>
                    <a:pt x="1789" y="682"/>
                  </a:lnTo>
                  <a:lnTo>
                    <a:pt x="1797" y="685"/>
                  </a:lnTo>
                  <a:lnTo>
                    <a:pt x="1806" y="685"/>
                  </a:lnTo>
                  <a:lnTo>
                    <a:pt x="1814" y="684"/>
                  </a:lnTo>
                  <a:lnTo>
                    <a:pt x="1821" y="681"/>
                  </a:lnTo>
                  <a:lnTo>
                    <a:pt x="1828" y="678"/>
                  </a:lnTo>
                  <a:lnTo>
                    <a:pt x="1842" y="667"/>
                  </a:lnTo>
                  <a:lnTo>
                    <a:pt x="1855" y="655"/>
                  </a:lnTo>
                  <a:lnTo>
                    <a:pt x="1866" y="643"/>
                  </a:lnTo>
                  <a:lnTo>
                    <a:pt x="1876" y="628"/>
                  </a:lnTo>
                  <a:lnTo>
                    <a:pt x="1887" y="614"/>
                  </a:lnTo>
                  <a:lnTo>
                    <a:pt x="1897" y="600"/>
                  </a:lnTo>
                  <a:lnTo>
                    <a:pt x="1906" y="585"/>
                  </a:lnTo>
                  <a:lnTo>
                    <a:pt x="1917" y="571"/>
                  </a:lnTo>
                  <a:lnTo>
                    <a:pt x="1930" y="553"/>
                  </a:lnTo>
                  <a:lnTo>
                    <a:pt x="1942" y="536"/>
                  </a:lnTo>
                  <a:lnTo>
                    <a:pt x="1956" y="518"/>
                  </a:lnTo>
                  <a:lnTo>
                    <a:pt x="1968" y="500"/>
                  </a:lnTo>
                  <a:lnTo>
                    <a:pt x="1980" y="481"/>
                  </a:lnTo>
                  <a:lnTo>
                    <a:pt x="1993" y="464"/>
                  </a:lnTo>
                  <a:lnTo>
                    <a:pt x="2005" y="446"/>
                  </a:lnTo>
                  <a:lnTo>
                    <a:pt x="2018" y="428"/>
                  </a:lnTo>
                  <a:lnTo>
                    <a:pt x="2028" y="416"/>
                  </a:lnTo>
                  <a:lnTo>
                    <a:pt x="2038" y="403"/>
                  </a:lnTo>
                  <a:lnTo>
                    <a:pt x="2048" y="391"/>
                  </a:lnTo>
                  <a:lnTo>
                    <a:pt x="2058" y="379"/>
                  </a:lnTo>
                  <a:lnTo>
                    <a:pt x="2068" y="367"/>
                  </a:lnTo>
                  <a:lnTo>
                    <a:pt x="2079" y="355"/>
                  </a:lnTo>
                  <a:lnTo>
                    <a:pt x="2090" y="344"/>
                  </a:lnTo>
                  <a:lnTo>
                    <a:pt x="2102" y="333"/>
                  </a:lnTo>
                  <a:lnTo>
                    <a:pt x="2108" y="327"/>
                  </a:lnTo>
                  <a:lnTo>
                    <a:pt x="2115" y="321"/>
                  </a:lnTo>
                  <a:lnTo>
                    <a:pt x="2124" y="315"/>
                  </a:lnTo>
                  <a:lnTo>
                    <a:pt x="2132" y="309"/>
                  </a:lnTo>
                  <a:lnTo>
                    <a:pt x="2139" y="306"/>
                  </a:lnTo>
                  <a:lnTo>
                    <a:pt x="2146" y="303"/>
                  </a:lnTo>
                  <a:lnTo>
                    <a:pt x="2149" y="303"/>
                  </a:lnTo>
                  <a:lnTo>
                    <a:pt x="2152" y="305"/>
                  </a:lnTo>
                  <a:lnTo>
                    <a:pt x="2154" y="307"/>
                  </a:lnTo>
                  <a:lnTo>
                    <a:pt x="2155" y="309"/>
                  </a:lnTo>
                  <a:lnTo>
                    <a:pt x="2161" y="330"/>
                  </a:lnTo>
                  <a:lnTo>
                    <a:pt x="2164" y="351"/>
                  </a:lnTo>
                  <a:lnTo>
                    <a:pt x="2166" y="373"/>
                  </a:lnTo>
                  <a:lnTo>
                    <a:pt x="2164" y="396"/>
                  </a:lnTo>
                  <a:lnTo>
                    <a:pt x="2162" y="417"/>
                  </a:lnTo>
                  <a:lnTo>
                    <a:pt x="2160" y="439"/>
                  </a:lnTo>
                  <a:lnTo>
                    <a:pt x="2155" y="460"/>
                  </a:lnTo>
                  <a:lnTo>
                    <a:pt x="2149" y="482"/>
                  </a:lnTo>
                  <a:lnTo>
                    <a:pt x="2138" y="519"/>
                  </a:lnTo>
                  <a:lnTo>
                    <a:pt x="2126" y="555"/>
                  </a:lnTo>
                  <a:lnTo>
                    <a:pt x="2112" y="591"/>
                  </a:lnTo>
                  <a:lnTo>
                    <a:pt x="2096" y="627"/>
                  </a:lnTo>
                  <a:lnTo>
                    <a:pt x="2080" y="662"/>
                  </a:lnTo>
                  <a:lnTo>
                    <a:pt x="2064" y="697"/>
                  </a:lnTo>
                  <a:lnTo>
                    <a:pt x="2047" y="733"/>
                  </a:lnTo>
                  <a:lnTo>
                    <a:pt x="2030" y="768"/>
                  </a:lnTo>
                  <a:lnTo>
                    <a:pt x="2020" y="787"/>
                  </a:lnTo>
                  <a:lnTo>
                    <a:pt x="2011" y="806"/>
                  </a:lnTo>
                  <a:lnTo>
                    <a:pt x="2001" y="825"/>
                  </a:lnTo>
                  <a:lnTo>
                    <a:pt x="1990" y="844"/>
                  </a:lnTo>
                  <a:lnTo>
                    <a:pt x="1978" y="862"/>
                  </a:lnTo>
                  <a:lnTo>
                    <a:pt x="1966" y="880"/>
                  </a:lnTo>
                  <a:lnTo>
                    <a:pt x="1954" y="898"/>
                  </a:lnTo>
                  <a:lnTo>
                    <a:pt x="1941" y="915"/>
                  </a:lnTo>
                  <a:lnTo>
                    <a:pt x="1932" y="926"/>
                  </a:lnTo>
                  <a:lnTo>
                    <a:pt x="1921" y="936"/>
                  </a:lnTo>
                  <a:lnTo>
                    <a:pt x="1910" y="944"/>
                  </a:lnTo>
                  <a:lnTo>
                    <a:pt x="1898" y="952"/>
                  </a:lnTo>
                  <a:lnTo>
                    <a:pt x="1886" y="961"/>
                  </a:lnTo>
                  <a:lnTo>
                    <a:pt x="1874" y="969"/>
                  </a:lnTo>
                  <a:lnTo>
                    <a:pt x="1863" y="978"/>
                  </a:lnTo>
                  <a:lnTo>
                    <a:pt x="1852" y="987"/>
                  </a:lnTo>
                  <a:lnTo>
                    <a:pt x="1846" y="992"/>
                  </a:lnTo>
                  <a:lnTo>
                    <a:pt x="1842" y="997"/>
                  </a:lnTo>
                  <a:lnTo>
                    <a:pt x="1836" y="1000"/>
                  </a:lnTo>
                  <a:lnTo>
                    <a:pt x="1831" y="1006"/>
                  </a:lnTo>
                  <a:lnTo>
                    <a:pt x="1826" y="1011"/>
                  </a:lnTo>
                  <a:lnTo>
                    <a:pt x="1821" y="1016"/>
                  </a:lnTo>
                  <a:lnTo>
                    <a:pt x="1819" y="1022"/>
                  </a:lnTo>
                  <a:lnTo>
                    <a:pt x="1816" y="1029"/>
                  </a:lnTo>
                  <a:lnTo>
                    <a:pt x="1815" y="1036"/>
                  </a:lnTo>
                  <a:lnTo>
                    <a:pt x="1814" y="1045"/>
                  </a:lnTo>
                  <a:lnTo>
                    <a:pt x="1813" y="1053"/>
                  </a:lnTo>
                  <a:lnTo>
                    <a:pt x="1814" y="1062"/>
                  </a:lnTo>
                  <a:lnTo>
                    <a:pt x="1815" y="1070"/>
                  </a:lnTo>
                  <a:lnTo>
                    <a:pt x="1819" y="1077"/>
                  </a:lnTo>
                  <a:lnTo>
                    <a:pt x="1822" y="1083"/>
                  </a:lnTo>
                  <a:lnTo>
                    <a:pt x="1828" y="1088"/>
                  </a:lnTo>
                  <a:lnTo>
                    <a:pt x="1840" y="1095"/>
                  </a:lnTo>
                  <a:lnTo>
                    <a:pt x="1852" y="1100"/>
                  </a:lnTo>
                  <a:lnTo>
                    <a:pt x="1866" y="1104"/>
                  </a:lnTo>
                  <a:lnTo>
                    <a:pt x="1880" y="1107"/>
                  </a:lnTo>
                  <a:lnTo>
                    <a:pt x="1893" y="1108"/>
                  </a:lnTo>
                  <a:lnTo>
                    <a:pt x="1908" y="1108"/>
                  </a:lnTo>
                  <a:lnTo>
                    <a:pt x="1922" y="1107"/>
                  </a:lnTo>
                  <a:lnTo>
                    <a:pt x="1935" y="1106"/>
                  </a:lnTo>
                  <a:lnTo>
                    <a:pt x="1950" y="1104"/>
                  </a:lnTo>
                  <a:lnTo>
                    <a:pt x="1965" y="1099"/>
                  </a:lnTo>
                  <a:lnTo>
                    <a:pt x="1980" y="1094"/>
                  </a:lnTo>
                  <a:lnTo>
                    <a:pt x="1993" y="1088"/>
                  </a:lnTo>
                  <a:lnTo>
                    <a:pt x="2007" y="1081"/>
                  </a:lnTo>
                  <a:lnTo>
                    <a:pt x="2019" y="1072"/>
                  </a:lnTo>
                  <a:lnTo>
                    <a:pt x="2031" y="1063"/>
                  </a:lnTo>
                  <a:lnTo>
                    <a:pt x="2042" y="1052"/>
                  </a:lnTo>
                  <a:lnTo>
                    <a:pt x="2052" y="1042"/>
                  </a:lnTo>
                  <a:lnTo>
                    <a:pt x="2060" y="1030"/>
                  </a:lnTo>
                  <a:lnTo>
                    <a:pt x="2068" y="1020"/>
                  </a:lnTo>
                  <a:lnTo>
                    <a:pt x="2076" y="1008"/>
                  </a:lnTo>
                  <a:lnTo>
                    <a:pt x="2090" y="984"/>
                  </a:lnTo>
                  <a:lnTo>
                    <a:pt x="2103" y="958"/>
                  </a:lnTo>
                  <a:lnTo>
                    <a:pt x="2116" y="934"/>
                  </a:lnTo>
                  <a:lnTo>
                    <a:pt x="2131" y="909"/>
                  </a:lnTo>
                  <a:lnTo>
                    <a:pt x="2145" y="885"/>
                  </a:lnTo>
                  <a:lnTo>
                    <a:pt x="2161" y="862"/>
                  </a:lnTo>
                  <a:lnTo>
                    <a:pt x="2174" y="847"/>
                  </a:lnTo>
                  <a:lnTo>
                    <a:pt x="2186" y="832"/>
                  </a:lnTo>
                  <a:lnTo>
                    <a:pt x="2200" y="818"/>
                  </a:lnTo>
                  <a:lnTo>
                    <a:pt x="2214" y="805"/>
                  </a:lnTo>
                  <a:lnTo>
                    <a:pt x="2228" y="792"/>
                  </a:lnTo>
                  <a:lnTo>
                    <a:pt x="2244" y="778"/>
                  </a:lnTo>
                  <a:lnTo>
                    <a:pt x="2258" y="766"/>
                  </a:lnTo>
                  <a:lnTo>
                    <a:pt x="2275" y="756"/>
                  </a:lnTo>
                  <a:lnTo>
                    <a:pt x="2284" y="748"/>
                  </a:lnTo>
                  <a:lnTo>
                    <a:pt x="2295" y="741"/>
                  </a:lnTo>
                  <a:lnTo>
                    <a:pt x="2306" y="735"/>
                  </a:lnTo>
                  <a:lnTo>
                    <a:pt x="2317" y="729"/>
                  </a:lnTo>
                  <a:lnTo>
                    <a:pt x="2329" y="724"/>
                  </a:lnTo>
                  <a:lnTo>
                    <a:pt x="2340" y="721"/>
                  </a:lnTo>
                  <a:lnTo>
                    <a:pt x="2352" y="720"/>
                  </a:lnTo>
                  <a:lnTo>
                    <a:pt x="2364" y="720"/>
                  </a:lnTo>
                  <a:lnTo>
                    <a:pt x="2374" y="722"/>
                  </a:lnTo>
                  <a:lnTo>
                    <a:pt x="2385" y="726"/>
                  </a:lnTo>
                  <a:lnTo>
                    <a:pt x="2396" y="732"/>
                  </a:lnTo>
                  <a:lnTo>
                    <a:pt x="2406" y="739"/>
                  </a:lnTo>
                  <a:lnTo>
                    <a:pt x="2415" y="747"/>
                  </a:lnTo>
                  <a:lnTo>
                    <a:pt x="2424" y="756"/>
                  </a:lnTo>
                  <a:lnTo>
                    <a:pt x="2433" y="764"/>
                  </a:lnTo>
                  <a:lnTo>
                    <a:pt x="2440" y="774"/>
                  </a:lnTo>
                  <a:lnTo>
                    <a:pt x="2449" y="782"/>
                  </a:lnTo>
                  <a:lnTo>
                    <a:pt x="2456" y="792"/>
                  </a:lnTo>
                  <a:lnTo>
                    <a:pt x="2463" y="802"/>
                  </a:lnTo>
                  <a:lnTo>
                    <a:pt x="2470" y="813"/>
                  </a:lnTo>
                  <a:lnTo>
                    <a:pt x="2476" y="824"/>
                  </a:lnTo>
                  <a:lnTo>
                    <a:pt x="2482" y="835"/>
                  </a:lnTo>
                  <a:lnTo>
                    <a:pt x="2488" y="846"/>
                  </a:lnTo>
                  <a:lnTo>
                    <a:pt x="2494" y="856"/>
                  </a:lnTo>
                  <a:lnTo>
                    <a:pt x="2504" y="872"/>
                  </a:lnTo>
                  <a:lnTo>
                    <a:pt x="2514" y="886"/>
                  </a:lnTo>
                  <a:lnTo>
                    <a:pt x="2523" y="902"/>
                  </a:lnTo>
                  <a:lnTo>
                    <a:pt x="2533" y="918"/>
                  </a:lnTo>
                  <a:lnTo>
                    <a:pt x="2542" y="933"/>
                  </a:lnTo>
                  <a:lnTo>
                    <a:pt x="2551" y="949"/>
                  </a:lnTo>
                  <a:lnTo>
                    <a:pt x="2559" y="964"/>
                  </a:lnTo>
                  <a:lnTo>
                    <a:pt x="2566" y="981"/>
                  </a:lnTo>
                  <a:lnTo>
                    <a:pt x="2570" y="991"/>
                  </a:lnTo>
                  <a:lnTo>
                    <a:pt x="2572" y="1002"/>
                  </a:lnTo>
                  <a:lnTo>
                    <a:pt x="2576" y="1011"/>
                  </a:lnTo>
                  <a:lnTo>
                    <a:pt x="2577" y="1022"/>
                  </a:lnTo>
                  <a:lnTo>
                    <a:pt x="2580" y="1033"/>
                  </a:lnTo>
                  <a:lnTo>
                    <a:pt x="2580" y="1044"/>
                  </a:lnTo>
                  <a:lnTo>
                    <a:pt x="2580" y="1054"/>
                  </a:lnTo>
                  <a:lnTo>
                    <a:pt x="2577" y="1064"/>
                  </a:lnTo>
                  <a:lnTo>
                    <a:pt x="2576" y="1071"/>
                  </a:lnTo>
                  <a:lnTo>
                    <a:pt x="2574" y="1078"/>
                  </a:lnTo>
                  <a:lnTo>
                    <a:pt x="2570" y="1086"/>
                  </a:lnTo>
                  <a:lnTo>
                    <a:pt x="2565" y="1092"/>
                  </a:lnTo>
                  <a:lnTo>
                    <a:pt x="2560" y="1098"/>
                  </a:lnTo>
                  <a:lnTo>
                    <a:pt x="2554" y="1101"/>
                  </a:lnTo>
                  <a:lnTo>
                    <a:pt x="2548" y="1105"/>
                  </a:lnTo>
                  <a:lnTo>
                    <a:pt x="2542" y="1106"/>
                  </a:lnTo>
                  <a:lnTo>
                    <a:pt x="2532" y="1106"/>
                  </a:lnTo>
                  <a:lnTo>
                    <a:pt x="2521" y="1104"/>
                  </a:lnTo>
                  <a:lnTo>
                    <a:pt x="2511" y="1100"/>
                  </a:lnTo>
                  <a:lnTo>
                    <a:pt x="2500" y="1096"/>
                  </a:lnTo>
                  <a:lnTo>
                    <a:pt x="2491" y="1090"/>
                  </a:lnTo>
                  <a:lnTo>
                    <a:pt x="2481" y="1084"/>
                  </a:lnTo>
                  <a:lnTo>
                    <a:pt x="2473" y="1077"/>
                  </a:lnTo>
                  <a:lnTo>
                    <a:pt x="2464" y="1070"/>
                  </a:lnTo>
                  <a:lnTo>
                    <a:pt x="2454" y="1059"/>
                  </a:lnTo>
                  <a:lnTo>
                    <a:pt x="2444" y="1047"/>
                  </a:lnTo>
                  <a:lnTo>
                    <a:pt x="2436" y="1035"/>
                  </a:lnTo>
                  <a:lnTo>
                    <a:pt x="2427" y="1022"/>
                  </a:lnTo>
                  <a:lnTo>
                    <a:pt x="2419" y="1009"/>
                  </a:lnTo>
                  <a:lnTo>
                    <a:pt x="2410" y="996"/>
                  </a:lnTo>
                  <a:lnTo>
                    <a:pt x="2402" y="982"/>
                  </a:lnTo>
                  <a:lnTo>
                    <a:pt x="2394" y="969"/>
                  </a:lnTo>
                  <a:lnTo>
                    <a:pt x="2388" y="962"/>
                  </a:lnTo>
                  <a:lnTo>
                    <a:pt x="2383" y="954"/>
                  </a:lnTo>
                  <a:lnTo>
                    <a:pt x="2377" y="945"/>
                  </a:lnTo>
                  <a:lnTo>
                    <a:pt x="2371" y="938"/>
                  </a:lnTo>
                  <a:lnTo>
                    <a:pt x="2366" y="930"/>
                  </a:lnTo>
                  <a:lnTo>
                    <a:pt x="2360" y="922"/>
                  </a:lnTo>
                  <a:lnTo>
                    <a:pt x="2353" y="916"/>
                  </a:lnTo>
                  <a:lnTo>
                    <a:pt x="2346" y="909"/>
                  </a:lnTo>
                  <a:lnTo>
                    <a:pt x="2342" y="908"/>
                  </a:lnTo>
                  <a:lnTo>
                    <a:pt x="2338" y="906"/>
                  </a:lnTo>
                  <a:lnTo>
                    <a:pt x="2335" y="906"/>
                  </a:lnTo>
                  <a:lnTo>
                    <a:pt x="2330" y="904"/>
                  </a:lnTo>
                  <a:lnTo>
                    <a:pt x="2326" y="904"/>
                  </a:lnTo>
                  <a:lnTo>
                    <a:pt x="2322" y="906"/>
                  </a:lnTo>
                  <a:lnTo>
                    <a:pt x="2318" y="907"/>
                  </a:lnTo>
                  <a:lnTo>
                    <a:pt x="2316" y="909"/>
                  </a:lnTo>
                  <a:lnTo>
                    <a:pt x="2305" y="926"/>
                  </a:lnTo>
                  <a:lnTo>
                    <a:pt x="2295" y="943"/>
                  </a:lnTo>
                  <a:lnTo>
                    <a:pt x="2287" y="960"/>
                  </a:lnTo>
                  <a:lnTo>
                    <a:pt x="2278" y="978"/>
                  </a:lnTo>
                  <a:lnTo>
                    <a:pt x="2271" y="994"/>
                  </a:lnTo>
                  <a:lnTo>
                    <a:pt x="2263" y="1012"/>
                  </a:lnTo>
                  <a:lnTo>
                    <a:pt x="2254" y="1029"/>
                  </a:lnTo>
                  <a:lnTo>
                    <a:pt x="2245" y="1046"/>
                  </a:lnTo>
                  <a:lnTo>
                    <a:pt x="2234" y="1064"/>
                  </a:lnTo>
                  <a:lnTo>
                    <a:pt x="2224" y="1081"/>
                  </a:lnTo>
                  <a:lnTo>
                    <a:pt x="2214" y="1098"/>
                  </a:lnTo>
                  <a:lnTo>
                    <a:pt x="2203" y="1113"/>
                  </a:lnTo>
                  <a:lnTo>
                    <a:pt x="2191" y="1130"/>
                  </a:lnTo>
                  <a:lnTo>
                    <a:pt x="2180" y="1147"/>
                  </a:lnTo>
                  <a:lnTo>
                    <a:pt x="2168" y="1162"/>
                  </a:lnTo>
                  <a:lnTo>
                    <a:pt x="2155" y="1177"/>
                  </a:lnTo>
                  <a:lnTo>
                    <a:pt x="2143" y="1191"/>
                  </a:lnTo>
                  <a:lnTo>
                    <a:pt x="2131" y="1204"/>
                  </a:lnTo>
                  <a:lnTo>
                    <a:pt x="2118" y="1217"/>
                  </a:lnTo>
                  <a:lnTo>
                    <a:pt x="2104" y="1231"/>
                  </a:lnTo>
                  <a:lnTo>
                    <a:pt x="2091" y="1243"/>
                  </a:lnTo>
                  <a:lnTo>
                    <a:pt x="2077" y="1255"/>
                  </a:lnTo>
                  <a:lnTo>
                    <a:pt x="2062" y="1267"/>
                  </a:lnTo>
                  <a:lnTo>
                    <a:pt x="2048" y="1279"/>
                  </a:lnTo>
                  <a:lnTo>
                    <a:pt x="2038" y="1286"/>
                  </a:lnTo>
                  <a:lnTo>
                    <a:pt x="2028" y="1294"/>
                  </a:lnTo>
                  <a:lnTo>
                    <a:pt x="2017" y="1301"/>
                  </a:lnTo>
                  <a:lnTo>
                    <a:pt x="2006" y="1309"/>
                  </a:lnTo>
                  <a:lnTo>
                    <a:pt x="1994" y="1315"/>
                  </a:lnTo>
                  <a:lnTo>
                    <a:pt x="1983" y="1321"/>
                  </a:lnTo>
                  <a:lnTo>
                    <a:pt x="1971" y="1327"/>
                  </a:lnTo>
                  <a:lnTo>
                    <a:pt x="1959" y="1331"/>
                  </a:lnTo>
                  <a:lnTo>
                    <a:pt x="1948" y="1335"/>
                  </a:lnTo>
                  <a:lnTo>
                    <a:pt x="1938" y="1339"/>
                  </a:lnTo>
                  <a:lnTo>
                    <a:pt x="1926" y="1340"/>
                  </a:lnTo>
                  <a:lnTo>
                    <a:pt x="1915" y="1342"/>
                  </a:lnTo>
                  <a:lnTo>
                    <a:pt x="1903" y="1343"/>
                  </a:lnTo>
                  <a:lnTo>
                    <a:pt x="1892" y="1345"/>
                  </a:lnTo>
                  <a:lnTo>
                    <a:pt x="1881" y="1347"/>
                  </a:lnTo>
                  <a:lnTo>
                    <a:pt x="1869" y="1349"/>
                  </a:lnTo>
                  <a:lnTo>
                    <a:pt x="1862" y="1352"/>
                  </a:lnTo>
                  <a:lnTo>
                    <a:pt x="1855" y="1353"/>
                  </a:lnTo>
                  <a:lnTo>
                    <a:pt x="1846" y="1355"/>
                  </a:lnTo>
                  <a:lnTo>
                    <a:pt x="1839" y="1357"/>
                  </a:lnTo>
                  <a:lnTo>
                    <a:pt x="1832" y="1360"/>
                  </a:lnTo>
                  <a:lnTo>
                    <a:pt x="1826" y="1363"/>
                  </a:lnTo>
                  <a:lnTo>
                    <a:pt x="1820" y="1367"/>
                  </a:lnTo>
                  <a:lnTo>
                    <a:pt x="1816" y="1373"/>
                  </a:lnTo>
                  <a:lnTo>
                    <a:pt x="1814" y="1378"/>
                  </a:lnTo>
                  <a:lnTo>
                    <a:pt x="1814" y="1384"/>
                  </a:lnTo>
                  <a:lnTo>
                    <a:pt x="1815" y="1389"/>
                  </a:lnTo>
                  <a:lnTo>
                    <a:pt x="1819" y="1395"/>
                  </a:lnTo>
                  <a:lnTo>
                    <a:pt x="1821" y="1401"/>
                  </a:lnTo>
                  <a:lnTo>
                    <a:pt x="1826" y="1406"/>
                  </a:lnTo>
                  <a:lnTo>
                    <a:pt x="1830" y="1411"/>
                  </a:lnTo>
                  <a:lnTo>
                    <a:pt x="1834" y="1415"/>
                  </a:lnTo>
                  <a:lnTo>
                    <a:pt x="1844" y="1424"/>
                  </a:lnTo>
                  <a:lnTo>
                    <a:pt x="1854" y="1431"/>
                  </a:lnTo>
                  <a:lnTo>
                    <a:pt x="1866" y="1437"/>
                  </a:lnTo>
                  <a:lnTo>
                    <a:pt x="1876" y="1444"/>
                  </a:lnTo>
                  <a:lnTo>
                    <a:pt x="1887" y="1450"/>
                  </a:lnTo>
                  <a:lnTo>
                    <a:pt x="1898" y="1457"/>
                  </a:lnTo>
                  <a:lnTo>
                    <a:pt x="1909" y="1466"/>
                  </a:lnTo>
                  <a:lnTo>
                    <a:pt x="1917" y="1474"/>
                  </a:lnTo>
                  <a:lnTo>
                    <a:pt x="1926" y="1486"/>
                  </a:lnTo>
                  <a:lnTo>
                    <a:pt x="1934" y="1499"/>
                  </a:lnTo>
                  <a:lnTo>
                    <a:pt x="1941" y="1513"/>
                  </a:lnTo>
                  <a:lnTo>
                    <a:pt x="1947" y="1526"/>
                  </a:lnTo>
                  <a:lnTo>
                    <a:pt x="1953" y="1540"/>
                  </a:lnTo>
                  <a:lnTo>
                    <a:pt x="1959" y="1553"/>
                  </a:lnTo>
                  <a:lnTo>
                    <a:pt x="1964" y="1568"/>
                  </a:lnTo>
                  <a:lnTo>
                    <a:pt x="1971" y="1581"/>
                  </a:lnTo>
                  <a:lnTo>
                    <a:pt x="1980" y="1600"/>
                  </a:lnTo>
                  <a:lnTo>
                    <a:pt x="1987" y="1619"/>
                  </a:lnTo>
                  <a:lnTo>
                    <a:pt x="1994" y="1640"/>
                  </a:lnTo>
                  <a:lnTo>
                    <a:pt x="2001" y="1659"/>
                  </a:lnTo>
                  <a:lnTo>
                    <a:pt x="2010" y="1678"/>
                  </a:lnTo>
                  <a:lnTo>
                    <a:pt x="2018" y="1697"/>
                  </a:lnTo>
                  <a:lnTo>
                    <a:pt x="2024" y="1706"/>
                  </a:lnTo>
                  <a:lnTo>
                    <a:pt x="2029" y="1714"/>
                  </a:lnTo>
                  <a:lnTo>
                    <a:pt x="2036" y="1723"/>
                  </a:lnTo>
                  <a:lnTo>
                    <a:pt x="2042" y="1730"/>
                  </a:lnTo>
                  <a:lnTo>
                    <a:pt x="2050" y="1738"/>
                  </a:lnTo>
                  <a:lnTo>
                    <a:pt x="2059" y="1745"/>
                  </a:lnTo>
                  <a:lnTo>
                    <a:pt x="2067" y="1751"/>
                  </a:lnTo>
                  <a:lnTo>
                    <a:pt x="2077" y="1759"/>
                  </a:lnTo>
                  <a:lnTo>
                    <a:pt x="2095" y="1771"/>
                  </a:lnTo>
                  <a:lnTo>
                    <a:pt x="2115" y="1781"/>
                  </a:lnTo>
                  <a:lnTo>
                    <a:pt x="2136" y="1791"/>
                  </a:lnTo>
                  <a:lnTo>
                    <a:pt x="2156" y="1801"/>
                  </a:lnTo>
                  <a:lnTo>
                    <a:pt x="2176" y="1809"/>
                  </a:lnTo>
                  <a:lnTo>
                    <a:pt x="2197" y="1819"/>
                  </a:lnTo>
                  <a:lnTo>
                    <a:pt x="2211" y="1826"/>
                  </a:lnTo>
                  <a:lnTo>
                    <a:pt x="2227" y="1832"/>
                  </a:lnTo>
                  <a:lnTo>
                    <a:pt x="2241" y="1837"/>
                  </a:lnTo>
                  <a:lnTo>
                    <a:pt x="2257" y="1841"/>
                  </a:lnTo>
                  <a:lnTo>
                    <a:pt x="2272" y="1847"/>
                  </a:lnTo>
                  <a:lnTo>
                    <a:pt x="2287" y="1853"/>
                  </a:lnTo>
                  <a:lnTo>
                    <a:pt x="2302" y="1859"/>
                  </a:lnTo>
                  <a:lnTo>
                    <a:pt x="2316" y="1866"/>
                  </a:lnTo>
                  <a:lnTo>
                    <a:pt x="2323" y="1871"/>
                  </a:lnTo>
                  <a:lnTo>
                    <a:pt x="2329" y="1876"/>
                  </a:lnTo>
                  <a:lnTo>
                    <a:pt x="2336" y="1881"/>
                  </a:lnTo>
                  <a:lnTo>
                    <a:pt x="2342" y="1887"/>
                  </a:lnTo>
                  <a:lnTo>
                    <a:pt x="2347" y="1893"/>
                  </a:lnTo>
                  <a:lnTo>
                    <a:pt x="2352" y="1900"/>
                  </a:lnTo>
                  <a:lnTo>
                    <a:pt x="2355" y="1907"/>
                  </a:lnTo>
                  <a:lnTo>
                    <a:pt x="2358" y="1914"/>
                  </a:lnTo>
                  <a:lnTo>
                    <a:pt x="2360" y="1924"/>
                  </a:lnTo>
                  <a:lnTo>
                    <a:pt x="2361" y="1934"/>
                  </a:lnTo>
                  <a:lnTo>
                    <a:pt x="2362" y="1944"/>
                  </a:lnTo>
                  <a:lnTo>
                    <a:pt x="2362" y="1955"/>
                  </a:lnTo>
                  <a:lnTo>
                    <a:pt x="2361" y="1965"/>
                  </a:lnTo>
                  <a:lnTo>
                    <a:pt x="2358" y="1974"/>
                  </a:lnTo>
                  <a:lnTo>
                    <a:pt x="2355" y="1978"/>
                  </a:lnTo>
                  <a:lnTo>
                    <a:pt x="2353" y="1980"/>
                  </a:lnTo>
                  <a:lnTo>
                    <a:pt x="2349" y="1984"/>
                  </a:lnTo>
                  <a:lnTo>
                    <a:pt x="2346" y="1985"/>
                  </a:lnTo>
                  <a:lnTo>
                    <a:pt x="2338" y="1988"/>
                  </a:lnTo>
                  <a:lnTo>
                    <a:pt x="2331" y="1990"/>
                  </a:lnTo>
                  <a:lnTo>
                    <a:pt x="2323" y="1990"/>
                  </a:lnTo>
                  <a:lnTo>
                    <a:pt x="2316" y="1991"/>
                  </a:lnTo>
                  <a:lnTo>
                    <a:pt x="2300" y="1990"/>
                  </a:lnTo>
                  <a:lnTo>
                    <a:pt x="2283" y="1986"/>
                  </a:lnTo>
                  <a:lnTo>
                    <a:pt x="2268" y="1983"/>
                  </a:lnTo>
                  <a:lnTo>
                    <a:pt x="2252" y="1977"/>
                  </a:lnTo>
                  <a:lnTo>
                    <a:pt x="2236" y="1972"/>
                  </a:lnTo>
                  <a:lnTo>
                    <a:pt x="2221" y="1967"/>
                  </a:lnTo>
                  <a:lnTo>
                    <a:pt x="2204" y="1962"/>
                  </a:lnTo>
                  <a:lnTo>
                    <a:pt x="2187" y="1956"/>
                  </a:lnTo>
                  <a:lnTo>
                    <a:pt x="2170" y="1950"/>
                  </a:lnTo>
                  <a:lnTo>
                    <a:pt x="2155" y="1943"/>
                  </a:lnTo>
                  <a:lnTo>
                    <a:pt x="2138" y="1936"/>
                  </a:lnTo>
                  <a:lnTo>
                    <a:pt x="2122" y="1929"/>
                  </a:lnTo>
                  <a:lnTo>
                    <a:pt x="2106" y="1922"/>
                  </a:lnTo>
                  <a:lnTo>
                    <a:pt x="2090" y="1914"/>
                  </a:lnTo>
                  <a:lnTo>
                    <a:pt x="2070" y="1906"/>
                  </a:lnTo>
                  <a:lnTo>
                    <a:pt x="2050" y="1898"/>
                  </a:lnTo>
                  <a:lnTo>
                    <a:pt x="2030" y="1890"/>
                  </a:lnTo>
                  <a:lnTo>
                    <a:pt x="2011" y="1882"/>
                  </a:lnTo>
                  <a:lnTo>
                    <a:pt x="1990" y="1874"/>
                  </a:lnTo>
                  <a:lnTo>
                    <a:pt x="1971" y="1865"/>
                  </a:lnTo>
                  <a:lnTo>
                    <a:pt x="1953" y="1855"/>
                  </a:lnTo>
                  <a:lnTo>
                    <a:pt x="1935" y="1843"/>
                  </a:lnTo>
                  <a:lnTo>
                    <a:pt x="1922" y="1833"/>
                  </a:lnTo>
                  <a:lnTo>
                    <a:pt x="1910" y="1822"/>
                  </a:lnTo>
                  <a:lnTo>
                    <a:pt x="1898" y="1810"/>
                  </a:lnTo>
                  <a:lnTo>
                    <a:pt x="1887" y="1797"/>
                  </a:lnTo>
                  <a:lnTo>
                    <a:pt x="1878" y="1784"/>
                  </a:lnTo>
                  <a:lnTo>
                    <a:pt x="1868" y="1771"/>
                  </a:lnTo>
                  <a:lnTo>
                    <a:pt x="1860" y="1756"/>
                  </a:lnTo>
                  <a:lnTo>
                    <a:pt x="1852" y="1742"/>
                  </a:lnTo>
                  <a:lnTo>
                    <a:pt x="1848" y="1731"/>
                  </a:lnTo>
                  <a:lnTo>
                    <a:pt x="1845" y="1720"/>
                  </a:lnTo>
                  <a:lnTo>
                    <a:pt x="1845" y="1709"/>
                  </a:lnTo>
                  <a:lnTo>
                    <a:pt x="1844" y="1697"/>
                  </a:lnTo>
                  <a:lnTo>
                    <a:pt x="1844" y="1687"/>
                  </a:lnTo>
                  <a:lnTo>
                    <a:pt x="1844" y="1675"/>
                  </a:lnTo>
                  <a:lnTo>
                    <a:pt x="1843" y="1664"/>
                  </a:lnTo>
                  <a:lnTo>
                    <a:pt x="1840" y="1653"/>
                  </a:lnTo>
                  <a:lnTo>
                    <a:pt x="1837" y="1643"/>
                  </a:lnTo>
                  <a:lnTo>
                    <a:pt x="1833" y="1633"/>
                  </a:lnTo>
                  <a:lnTo>
                    <a:pt x="1828" y="1623"/>
                  </a:lnTo>
                  <a:lnTo>
                    <a:pt x="1824" y="1613"/>
                  </a:lnTo>
                  <a:lnTo>
                    <a:pt x="1819" y="1605"/>
                  </a:lnTo>
                  <a:lnTo>
                    <a:pt x="1813" y="1597"/>
                  </a:lnTo>
                  <a:lnTo>
                    <a:pt x="1806" y="1588"/>
                  </a:lnTo>
                  <a:lnTo>
                    <a:pt x="1798" y="1581"/>
                  </a:lnTo>
                  <a:lnTo>
                    <a:pt x="1794" y="1579"/>
                  </a:lnTo>
                  <a:lnTo>
                    <a:pt x="1788" y="1576"/>
                  </a:lnTo>
                  <a:lnTo>
                    <a:pt x="1780" y="1574"/>
                  </a:lnTo>
                  <a:lnTo>
                    <a:pt x="1774" y="1574"/>
                  </a:lnTo>
                  <a:lnTo>
                    <a:pt x="1767" y="1574"/>
                  </a:lnTo>
                  <a:lnTo>
                    <a:pt x="1761" y="1575"/>
                  </a:lnTo>
                  <a:lnTo>
                    <a:pt x="1755" y="1577"/>
                  </a:lnTo>
                  <a:lnTo>
                    <a:pt x="1750" y="1581"/>
                  </a:lnTo>
                  <a:lnTo>
                    <a:pt x="1744" y="1588"/>
                  </a:lnTo>
                  <a:lnTo>
                    <a:pt x="1740" y="1597"/>
                  </a:lnTo>
                  <a:lnTo>
                    <a:pt x="1736" y="1605"/>
                  </a:lnTo>
                  <a:lnTo>
                    <a:pt x="1734" y="1615"/>
                  </a:lnTo>
                  <a:lnTo>
                    <a:pt x="1731" y="1624"/>
                  </a:lnTo>
                  <a:lnTo>
                    <a:pt x="1729" y="1634"/>
                  </a:lnTo>
                  <a:lnTo>
                    <a:pt x="1728" y="1643"/>
                  </a:lnTo>
                  <a:lnTo>
                    <a:pt x="1726" y="1653"/>
                  </a:lnTo>
                  <a:lnTo>
                    <a:pt x="1725" y="1672"/>
                  </a:lnTo>
                  <a:lnTo>
                    <a:pt x="1724" y="1693"/>
                  </a:lnTo>
                  <a:lnTo>
                    <a:pt x="1724" y="1713"/>
                  </a:lnTo>
                  <a:lnTo>
                    <a:pt x="1724" y="1733"/>
                  </a:lnTo>
                  <a:lnTo>
                    <a:pt x="1725" y="1753"/>
                  </a:lnTo>
                  <a:lnTo>
                    <a:pt x="1725" y="1773"/>
                  </a:lnTo>
                  <a:lnTo>
                    <a:pt x="1726" y="1793"/>
                  </a:lnTo>
                  <a:lnTo>
                    <a:pt x="1726" y="1814"/>
                  </a:lnTo>
                  <a:lnTo>
                    <a:pt x="1728" y="1829"/>
                  </a:lnTo>
                  <a:lnTo>
                    <a:pt x="1729" y="1845"/>
                  </a:lnTo>
                  <a:lnTo>
                    <a:pt x="1731" y="1860"/>
                  </a:lnTo>
                  <a:lnTo>
                    <a:pt x="1732" y="1876"/>
                  </a:lnTo>
                  <a:lnTo>
                    <a:pt x="1734" y="1892"/>
                  </a:lnTo>
                  <a:lnTo>
                    <a:pt x="1735" y="1907"/>
                  </a:lnTo>
                  <a:lnTo>
                    <a:pt x="1735" y="1923"/>
                  </a:lnTo>
                  <a:lnTo>
                    <a:pt x="1732" y="1938"/>
                  </a:lnTo>
                  <a:lnTo>
                    <a:pt x="1730" y="1949"/>
                  </a:lnTo>
                  <a:lnTo>
                    <a:pt x="1728" y="1961"/>
                  </a:lnTo>
                  <a:lnTo>
                    <a:pt x="1723" y="1972"/>
                  </a:lnTo>
                  <a:lnTo>
                    <a:pt x="1718" y="1983"/>
                  </a:lnTo>
                  <a:lnTo>
                    <a:pt x="1712" y="1994"/>
                  </a:lnTo>
                  <a:lnTo>
                    <a:pt x="1707" y="2006"/>
                  </a:lnTo>
                  <a:lnTo>
                    <a:pt x="1702" y="2016"/>
                  </a:lnTo>
                  <a:lnTo>
                    <a:pt x="1698" y="2027"/>
                  </a:lnTo>
                  <a:lnTo>
                    <a:pt x="1692" y="2040"/>
                  </a:lnTo>
                  <a:lnTo>
                    <a:pt x="1688" y="2055"/>
                  </a:lnTo>
                  <a:lnTo>
                    <a:pt x="1683" y="2068"/>
                  </a:lnTo>
                  <a:lnTo>
                    <a:pt x="1680" y="2082"/>
                  </a:lnTo>
                  <a:lnTo>
                    <a:pt x="1675" y="2096"/>
                  </a:lnTo>
                  <a:lnTo>
                    <a:pt x="1669" y="2109"/>
                  </a:lnTo>
                  <a:lnTo>
                    <a:pt x="1663" y="2122"/>
                  </a:lnTo>
                  <a:lnTo>
                    <a:pt x="1656" y="2134"/>
                  </a:lnTo>
                  <a:lnTo>
                    <a:pt x="1648" y="2144"/>
                  </a:lnTo>
                  <a:lnTo>
                    <a:pt x="1639" y="2153"/>
                  </a:lnTo>
                  <a:lnTo>
                    <a:pt x="1630" y="2163"/>
                  </a:lnTo>
                  <a:lnTo>
                    <a:pt x="1621" y="2171"/>
                  </a:lnTo>
                  <a:lnTo>
                    <a:pt x="1610" y="2178"/>
                  </a:lnTo>
                  <a:lnTo>
                    <a:pt x="1599" y="2186"/>
                  </a:lnTo>
                  <a:lnTo>
                    <a:pt x="1588" y="2193"/>
                  </a:lnTo>
                  <a:lnTo>
                    <a:pt x="1578" y="2200"/>
                  </a:lnTo>
                  <a:lnTo>
                    <a:pt x="1572" y="2204"/>
                  </a:lnTo>
                  <a:lnTo>
                    <a:pt x="1563" y="2208"/>
                  </a:lnTo>
                  <a:lnTo>
                    <a:pt x="1556" y="2213"/>
                  </a:lnTo>
                  <a:lnTo>
                    <a:pt x="1548" y="2217"/>
                  </a:lnTo>
                  <a:lnTo>
                    <a:pt x="1540" y="2219"/>
                  </a:lnTo>
                  <a:lnTo>
                    <a:pt x="1533" y="2220"/>
                  </a:lnTo>
                  <a:lnTo>
                    <a:pt x="1528" y="2220"/>
                  </a:lnTo>
                  <a:lnTo>
                    <a:pt x="1525" y="2220"/>
                  </a:lnTo>
                  <a:lnTo>
                    <a:pt x="1522" y="2219"/>
                  </a:lnTo>
                  <a:lnTo>
                    <a:pt x="1519" y="2217"/>
                  </a:lnTo>
                  <a:lnTo>
                    <a:pt x="1510" y="2211"/>
                  </a:lnTo>
                  <a:lnTo>
                    <a:pt x="1504" y="2202"/>
                  </a:lnTo>
                  <a:lnTo>
                    <a:pt x="1500" y="2194"/>
                  </a:lnTo>
                  <a:lnTo>
                    <a:pt x="1495" y="2183"/>
                  </a:lnTo>
                  <a:lnTo>
                    <a:pt x="1492" y="2172"/>
                  </a:lnTo>
                  <a:lnTo>
                    <a:pt x="1490" y="2162"/>
                  </a:lnTo>
                  <a:lnTo>
                    <a:pt x="1489" y="2151"/>
                  </a:lnTo>
                  <a:lnTo>
                    <a:pt x="1489" y="2140"/>
                  </a:lnTo>
                  <a:lnTo>
                    <a:pt x="1490" y="2124"/>
                  </a:lnTo>
                  <a:lnTo>
                    <a:pt x="1491" y="2110"/>
                  </a:lnTo>
                  <a:lnTo>
                    <a:pt x="1495" y="2094"/>
                  </a:lnTo>
                  <a:lnTo>
                    <a:pt x="1498" y="2080"/>
                  </a:lnTo>
                  <a:lnTo>
                    <a:pt x="1503" y="2064"/>
                  </a:lnTo>
                  <a:lnTo>
                    <a:pt x="1508" y="2050"/>
                  </a:lnTo>
                  <a:lnTo>
                    <a:pt x="1513" y="2036"/>
                  </a:lnTo>
                  <a:lnTo>
                    <a:pt x="1519" y="2021"/>
                  </a:lnTo>
                  <a:lnTo>
                    <a:pt x="1524" y="2009"/>
                  </a:lnTo>
                  <a:lnTo>
                    <a:pt x="1530" y="1997"/>
                  </a:lnTo>
                  <a:lnTo>
                    <a:pt x="1537" y="1985"/>
                  </a:lnTo>
                  <a:lnTo>
                    <a:pt x="1544" y="1974"/>
                  </a:lnTo>
                  <a:lnTo>
                    <a:pt x="1551" y="1962"/>
                  </a:lnTo>
                  <a:lnTo>
                    <a:pt x="1557" y="1950"/>
                  </a:lnTo>
                  <a:lnTo>
                    <a:pt x="1562" y="1938"/>
                  </a:lnTo>
                  <a:lnTo>
                    <a:pt x="1567" y="1926"/>
                  </a:lnTo>
                  <a:lnTo>
                    <a:pt x="1572" y="1905"/>
                  </a:lnTo>
                  <a:lnTo>
                    <a:pt x="1575" y="1883"/>
                  </a:lnTo>
                  <a:lnTo>
                    <a:pt x="1579" y="1862"/>
                  </a:lnTo>
                  <a:lnTo>
                    <a:pt x="1581" y="1840"/>
                  </a:lnTo>
                  <a:lnTo>
                    <a:pt x="1584" y="1819"/>
                  </a:lnTo>
                  <a:lnTo>
                    <a:pt x="1585" y="1797"/>
                  </a:lnTo>
                  <a:lnTo>
                    <a:pt x="1585" y="1775"/>
                  </a:lnTo>
                  <a:lnTo>
                    <a:pt x="1584" y="1754"/>
                  </a:lnTo>
                  <a:lnTo>
                    <a:pt x="1584" y="1739"/>
                  </a:lnTo>
                  <a:lnTo>
                    <a:pt x="1581" y="1726"/>
                  </a:lnTo>
                  <a:lnTo>
                    <a:pt x="1579" y="1712"/>
                  </a:lnTo>
                  <a:lnTo>
                    <a:pt x="1575" y="1699"/>
                  </a:lnTo>
                  <a:lnTo>
                    <a:pt x="1572" y="1685"/>
                  </a:lnTo>
                  <a:lnTo>
                    <a:pt x="1567" y="1672"/>
                  </a:lnTo>
                  <a:lnTo>
                    <a:pt x="1561" y="1659"/>
                  </a:lnTo>
                  <a:lnTo>
                    <a:pt x="1555" y="1647"/>
                  </a:lnTo>
                  <a:lnTo>
                    <a:pt x="1550" y="1640"/>
                  </a:lnTo>
                  <a:lnTo>
                    <a:pt x="1544" y="1633"/>
                  </a:lnTo>
                  <a:lnTo>
                    <a:pt x="1538" y="1625"/>
                  </a:lnTo>
                  <a:lnTo>
                    <a:pt x="1532" y="1619"/>
                  </a:lnTo>
                  <a:lnTo>
                    <a:pt x="1525" y="1615"/>
                  </a:lnTo>
                  <a:lnTo>
                    <a:pt x="1518" y="1610"/>
                  </a:lnTo>
                  <a:lnTo>
                    <a:pt x="1509" y="1606"/>
                  </a:lnTo>
                  <a:lnTo>
                    <a:pt x="1501" y="1605"/>
                  </a:lnTo>
                  <a:lnTo>
                    <a:pt x="1491" y="1605"/>
                  </a:lnTo>
                  <a:lnTo>
                    <a:pt x="1482" y="1606"/>
                  </a:lnTo>
                  <a:lnTo>
                    <a:pt x="1472" y="1609"/>
                  </a:lnTo>
                  <a:lnTo>
                    <a:pt x="1462" y="1612"/>
                  </a:lnTo>
                  <a:lnTo>
                    <a:pt x="1453" y="1617"/>
                  </a:lnTo>
                  <a:lnTo>
                    <a:pt x="1444" y="1622"/>
                  </a:lnTo>
                  <a:lnTo>
                    <a:pt x="1436" y="1628"/>
                  </a:lnTo>
                  <a:lnTo>
                    <a:pt x="1429" y="1635"/>
                  </a:lnTo>
                  <a:lnTo>
                    <a:pt x="1420" y="1647"/>
                  </a:lnTo>
                  <a:lnTo>
                    <a:pt x="1412" y="1659"/>
                  </a:lnTo>
                  <a:lnTo>
                    <a:pt x="1405" y="1672"/>
                  </a:lnTo>
                  <a:lnTo>
                    <a:pt x="1399" y="1687"/>
                  </a:lnTo>
                  <a:lnTo>
                    <a:pt x="1394" y="1700"/>
                  </a:lnTo>
                  <a:lnTo>
                    <a:pt x="1388" y="1714"/>
                  </a:lnTo>
                  <a:lnTo>
                    <a:pt x="1382" y="1729"/>
                  </a:lnTo>
                  <a:lnTo>
                    <a:pt x="1376" y="1742"/>
                  </a:lnTo>
                  <a:lnTo>
                    <a:pt x="1365" y="1763"/>
                  </a:lnTo>
                  <a:lnTo>
                    <a:pt x="1354" y="1785"/>
                  </a:lnTo>
                  <a:lnTo>
                    <a:pt x="1344" y="1808"/>
                  </a:lnTo>
                  <a:lnTo>
                    <a:pt x="1333" y="1829"/>
                  </a:lnTo>
                  <a:lnTo>
                    <a:pt x="1322" y="1851"/>
                  </a:lnTo>
                  <a:lnTo>
                    <a:pt x="1311" y="1872"/>
                  </a:lnTo>
                  <a:lnTo>
                    <a:pt x="1299" y="1893"/>
                  </a:lnTo>
                  <a:lnTo>
                    <a:pt x="1286" y="1914"/>
                  </a:lnTo>
                  <a:lnTo>
                    <a:pt x="1275" y="1934"/>
                  </a:lnTo>
                  <a:lnTo>
                    <a:pt x="1263" y="1952"/>
                  </a:lnTo>
                  <a:lnTo>
                    <a:pt x="1250" y="1971"/>
                  </a:lnTo>
                  <a:lnTo>
                    <a:pt x="1237" y="1989"/>
                  </a:lnTo>
                  <a:lnTo>
                    <a:pt x="1224" y="2007"/>
                  </a:lnTo>
                  <a:lnTo>
                    <a:pt x="1210" y="2025"/>
                  </a:lnTo>
                  <a:lnTo>
                    <a:pt x="1195" y="2040"/>
                  </a:lnTo>
                  <a:lnTo>
                    <a:pt x="1179" y="2057"/>
                  </a:lnTo>
                  <a:lnTo>
                    <a:pt x="1162" y="2072"/>
                  </a:lnTo>
                  <a:lnTo>
                    <a:pt x="1146" y="2086"/>
                  </a:lnTo>
                  <a:lnTo>
                    <a:pt x="1128" y="2100"/>
                  </a:lnTo>
                  <a:lnTo>
                    <a:pt x="1108" y="2112"/>
                  </a:lnTo>
                  <a:lnTo>
                    <a:pt x="1090" y="2126"/>
                  </a:lnTo>
                  <a:lnTo>
                    <a:pt x="1070" y="2136"/>
                  </a:lnTo>
                  <a:lnTo>
                    <a:pt x="1051" y="2147"/>
                  </a:lnTo>
                  <a:lnTo>
                    <a:pt x="1030" y="2158"/>
                  </a:lnTo>
                  <a:lnTo>
                    <a:pt x="1015" y="2165"/>
                  </a:lnTo>
                  <a:lnTo>
                    <a:pt x="999" y="2171"/>
                  </a:lnTo>
                  <a:lnTo>
                    <a:pt x="984" y="2176"/>
                  </a:lnTo>
                  <a:lnTo>
                    <a:pt x="967" y="2181"/>
                  </a:lnTo>
                  <a:lnTo>
                    <a:pt x="950" y="2184"/>
                  </a:lnTo>
                  <a:lnTo>
                    <a:pt x="933" y="2188"/>
                  </a:lnTo>
                  <a:lnTo>
                    <a:pt x="916" y="2192"/>
                  </a:lnTo>
                  <a:lnTo>
                    <a:pt x="900" y="2194"/>
                  </a:lnTo>
                  <a:lnTo>
                    <a:pt x="894" y="2194"/>
                  </a:lnTo>
                  <a:lnTo>
                    <a:pt x="886" y="2194"/>
                  </a:lnTo>
                  <a:lnTo>
                    <a:pt x="880" y="2194"/>
                  </a:lnTo>
                  <a:lnTo>
                    <a:pt x="873" y="2194"/>
                  </a:lnTo>
                  <a:lnTo>
                    <a:pt x="867" y="2192"/>
                  </a:lnTo>
                  <a:lnTo>
                    <a:pt x="861" y="2189"/>
                  </a:lnTo>
                  <a:lnTo>
                    <a:pt x="856" y="2186"/>
                  </a:lnTo>
                  <a:lnTo>
                    <a:pt x="852" y="2182"/>
                  </a:lnTo>
                  <a:lnTo>
                    <a:pt x="849" y="2176"/>
                  </a:lnTo>
                  <a:lnTo>
                    <a:pt x="848" y="2170"/>
                  </a:lnTo>
                  <a:lnTo>
                    <a:pt x="847" y="2164"/>
                  </a:lnTo>
                  <a:lnTo>
                    <a:pt x="848" y="2158"/>
                  </a:lnTo>
                  <a:lnTo>
                    <a:pt x="849" y="2151"/>
                  </a:lnTo>
                  <a:lnTo>
                    <a:pt x="852" y="2145"/>
                  </a:lnTo>
                  <a:lnTo>
                    <a:pt x="854" y="2139"/>
                  </a:lnTo>
                  <a:lnTo>
                    <a:pt x="858" y="2134"/>
                  </a:lnTo>
                  <a:lnTo>
                    <a:pt x="871" y="2121"/>
                  </a:lnTo>
                  <a:lnTo>
                    <a:pt x="884" y="2108"/>
                  </a:lnTo>
                  <a:lnTo>
                    <a:pt x="898" y="2096"/>
                  </a:lnTo>
                  <a:lnTo>
                    <a:pt x="913" y="2085"/>
                  </a:lnTo>
                  <a:lnTo>
                    <a:pt x="927" y="2074"/>
                  </a:lnTo>
                  <a:lnTo>
                    <a:pt x="943" y="2062"/>
                  </a:lnTo>
                  <a:lnTo>
                    <a:pt x="957" y="2051"/>
                  </a:lnTo>
                  <a:lnTo>
                    <a:pt x="972" y="2039"/>
                  </a:lnTo>
                  <a:lnTo>
                    <a:pt x="987" y="2025"/>
                  </a:lnTo>
                  <a:lnTo>
                    <a:pt x="1004" y="2010"/>
                  </a:lnTo>
                  <a:lnTo>
                    <a:pt x="1021" y="1997"/>
                  </a:lnTo>
                  <a:lnTo>
                    <a:pt x="1038" y="1983"/>
                  </a:lnTo>
                  <a:lnTo>
                    <a:pt x="1053" y="1968"/>
                  </a:lnTo>
                  <a:lnTo>
                    <a:pt x="1069" y="1953"/>
                  </a:lnTo>
                  <a:lnTo>
                    <a:pt x="1083" y="1937"/>
                  </a:lnTo>
                  <a:lnTo>
                    <a:pt x="1096" y="1920"/>
                  </a:lnTo>
                  <a:lnTo>
                    <a:pt x="1108" y="1901"/>
                  </a:lnTo>
                  <a:lnTo>
                    <a:pt x="1120" y="1883"/>
                  </a:lnTo>
                  <a:lnTo>
                    <a:pt x="1131" y="1864"/>
                  </a:lnTo>
                  <a:lnTo>
                    <a:pt x="1141" y="1844"/>
                  </a:lnTo>
                  <a:lnTo>
                    <a:pt x="1149" y="1823"/>
                  </a:lnTo>
                  <a:lnTo>
                    <a:pt x="1156" y="1803"/>
                  </a:lnTo>
                  <a:lnTo>
                    <a:pt x="1162" y="1781"/>
                  </a:lnTo>
                  <a:lnTo>
                    <a:pt x="1167" y="1760"/>
                  </a:lnTo>
                  <a:lnTo>
                    <a:pt x="1168" y="1750"/>
                  </a:lnTo>
                  <a:lnTo>
                    <a:pt x="1167" y="1741"/>
                  </a:lnTo>
                  <a:lnTo>
                    <a:pt x="1166" y="1730"/>
                  </a:lnTo>
                  <a:lnTo>
                    <a:pt x="1162" y="1720"/>
                  </a:lnTo>
                  <a:lnTo>
                    <a:pt x="1158" y="1711"/>
                  </a:lnTo>
                  <a:lnTo>
                    <a:pt x="1152" y="1702"/>
                  </a:lnTo>
                  <a:lnTo>
                    <a:pt x="1146" y="1695"/>
                  </a:lnTo>
                  <a:lnTo>
                    <a:pt x="1138" y="1688"/>
                  </a:lnTo>
                  <a:lnTo>
                    <a:pt x="1132" y="1685"/>
                  </a:lnTo>
                  <a:lnTo>
                    <a:pt x="1125" y="1684"/>
                  </a:lnTo>
                  <a:lnTo>
                    <a:pt x="1118" y="1684"/>
                  </a:lnTo>
                  <a:lnTo>
                    <a:pt x="1111" y="1687"/>
                  </a:lnTo>
                  <a:lnTo>
                    <a:pt x="1104" y="1689"/>
                  </a:lnTo>
                  <a:lnTo>
                    <a:pt x="1096" y="1693"/>
                  </a:lnTo>
                  <a:lnTo>
                    <a:pt x="1090" y="1696"/>
                  </a:lnTo>
                  <a:lnTo>
                    <a:pt x="1084" y="1700"/>
                  </a:lnTo>
                  <a:lnTo>
                    <a:pt x="1078" y="1706"/>
                  </a:lnTo>
                  <a:lnTo>
                    <a:pt x="1074" y="1712"/>
                  </a:lnTo>
                  <a:lnTo>
                    <a:pt x="1070" y="1719"/>
                  </a:lnTo>
                  <a:lnTo>
                    <a:pt x="1066" y="1727"/>
                  </a:lnTo>
                  <a:lnTo>
                    <a:pt x="1063" y="1735"/>
                  </a:lnTo>
                  <a:lnTo>
                    <a:pt x="1059" y="1742"/>
                  </a:lnTo>
                  <a:lnTo>
                    <a:pt x="1054" y="1749"/>
                  </a:lnTo>
                  <a:lnTo>
                    <a:pt x="1048" y="1754"/>
                  </a:lnTo>
                  <a:lnTo>
                    <a:pt x="1038" y="1761"/>
                  </a:lnTo>
                  <a:lnTo>
                    <a:pt x="1026" y="1768"/>
                  </a:lnTo>
                  <a:lnTo>
                    <a:pt x="1012" y="1775"/>
                  </a:lnTo>
                  <a:lnTo>
                    <a:pt x="1000" y="1781"/>
                  </a:lnTo>
                  <a:lnTo>
                    <a:pt x="987" y="1786"/>
                  </a:lnTo>
                  <a:lnTo>
                    <a:pt x="974" y="1791"/>
                  </a:lnTo>
                  <a:lnTo>
                    <a:pt x="961" y="1793"/>
                  </a:lnTo>
                  <a:lnTo>
                    <a:pt x="948" y="1796"/>
                  </a:lnTo>
                  <a:lnTo>
                    <a:pt x="937" y="1796"/>
                  </a:lnTo>
                  <a:lnTo>
                    <a:pt x="927" y="1795"/>
                  </a:lnTo>
                  <a:lnTo>
                    <a:pt x="916" y="1793"/>
                  </a:lnTo>
                  <a:lnTo>
                    <a:pt x="906" y="1790"/>
                  </a:lnTo>
                  <a:lnTo>
                    <a:pt x="896" y="1786"/>
                  </a:lnTo>
                  <a:lnTo>
                    <a:pt x="888" y="1780"/>
                  </a:lnTo>
                  <a:lnTo>
                    <a:pt x="884" y="1778"/>
                  </a:lnTo>
                  <a:lnTo>
                    <a:pt x="880" y="1774"/>
                  </a:lnTo>
                  <a:lnTo>
                    <a:pt x="878" y="1771"/>
                  </a:lnTo>
                  <a:lnTo>
                    <a:pt x="876" y="1766"/>
                  </a:lnTo>
                  <a:lnTo>
                    <a:pt x="873" y="1759"/>
                  </a:lnTo>
                  <a:lnTo>
                    <a:pt x="872" y="1751"/>
                  </a:lnTo>
                  <a:lnTo>
                    <a:pt x="871" y="1743"/>
                  </a:lnTo>
                  <a:lnTo>
                    <a:pt x="871" y="1736"/>
                  </a:lnTo>
                  <a:lnTo>
                    <a:pt x="872" y="1720"/>
                  </a:lnTo>
                  <a:lnTo>
                    <a:pt x="874" y="1705"/>
                  </a:lnTo>
                  <a:lnTo>
                    <a:pt x="879" y="1688"/>
                  </a:lnTo>
                  <a:lnTo>
                    <a:pt x="883" y="1672"/>
                  </a:lnTo>
                  <a:lnTo>
                    <a:pt x="885" y="1657"/>
                  </a:lnTo>
                  <a:lnTo>
                    <a:pt x="888" y="1641"/>
                  </a:lnTo>
                  <a:lnTo>
                    <a:pt x="889" y="1630"/>
                  </a:lnTo>
                  <a:lnTo>
                    <a:pt x="891" y="1618"/>
                  </a:lnTo>
                  <a:lnTo>
                    <a:pt x="894" y="1606"/>
                  </a:lnTo>
                  <a:lnTo>
                    <a:pt x="896" y="1595"/>
                  </a:lnTo>
                  <a:lnTo>
                    <a:pt x="898" y="1585"/>
                  </a:lnTo>
                  <a:lnTo>
                    <a:pt x="898" y="1573"/>
                  </a:lnTo>
                  <a:lnTo>
                    <a:pt x="897" y="1562"/>
                  </a:lnTo>
                  <a:lnTo>
                    <a:pt x="894" y="1552"/>
                  </a:lnTo>
                  <a:lnTo>
                    <a:pt x="890" y="1546"/>
                  </a:lnTo>
                  <a:lnTo>
                    <a:pt x="885" y="1541"/>
                  </a:lnTo>
                  <a:lnTo>
                    <a:pt x="878" y="1539"/>
                  </a:lnTo>
                  <a:lnTo>
                    <a:pt x="871" y="1537"/>
                  </a:lnTo>
                  <a:lnTo>
                    <a:pt x="864" y="1535"/>
                  </a:lnTo>
                  <a:lnTo>
                    <a:pt x="855" y="1534"/>
                  </a:lnTo>
                  <a:lnTo>
                    <a:pt x="848" y="1534"/>
                  </a:lnTo>
                  <a:lnTo>
                    <a:pt x="841" y="1534"/>
                  </a:lnTo>
                  <a:lnTo>
                    <a:pt x="824" y="1534"/>
                  </a:lnTo>
                  <a:lnTo>
                    <a:pt x="807" y="1537"/>
                  </a:lnTo>
                  <a:lnTo>
                    <a:pt x="792" y="1540"/>
                  </a:lnTo>
                  <a:lnTo>
                    <a:pt x="775" y="1544"/>
                  </a:lnTo>
                  <a:lnTo>
                    <a:pt x="758" y="1547"/>
                  </a:lnTo>
                  <a:lnTo>
                    <a:pt x="742" y="1550"/>
                  </a:lnTo>
                  <a:lnTo>
                    <a:pt x="726" y="1552"/>
                  </a:lnTo>
                  <a:lnTo>
                    <a:pt x="709" y="1552"/>
                  </a:lnTo>
                  <a:lnTo>
                    <a:pt x="696" y="1550"/>
                  </a:lnTo>
                  <a:lnTo>
                    <a:pt x="681" y="1547"/>
                  </a:lnTo>
                  <a:lnTo>
                    <a:pt x="667" y="1545"/>
                  </a:lnTo>
                  <a:lnTo>
                    <a:pt x="654" y="1540"/>
                  </a:lnTo>
                  <a:lnTo>
                    <a:pt x="640" y="1535"/>
                  </a:lnTo>
                  <a:lnTo>
                    <a:pt x="627" y="1529"/>
                  </a:lnTo>
                  <a:lnTo>
                    <a:pt x="614" y="1523"/>
                  </a:lnTo>
                  <a:lnTo>
                    <a:pt x="602" y="1516"/>
                  </a:lnTo>
                  <a:lnTo>
                    <a:pt x="594" y="1509"/>
                  </a:lnTo>
                  <a:lnTo>
                    <a:pt x="586" y="1501"/>
                  </a:lnTo>
                  <a:lnTo>
                    <a:pt x="580" y="1491"/>
                  </a:lnTo>
                  <a:lnTo>
                    <a:pt x="574" y="1481"/>
                  </a:lnTo>
                  <a:lnTo>
                    <a:pt x="570" y="1472"/>
                  </a:lnTo>
                  <a:lnTo>
                    <a:pt x="564" y="1461"/>
                  </a:lnTo>
                  <a:lnTo>
                    <a:pt x="556" y="1453"/>
                  </a:lnTo>
                  <a:lnTo>
                    <a:pt x="549" y="1444"/>
                  </a:lnTo>
                  <a:lnTo>
                    <a:pt x="542" y="1439"/>
                  </a:lnTo>
                  <a:lnTo>
                    <a:pt x="536" y="1436"/>
                  </a:lnTo>
                  <a:lnTo>
                    <a:pt x="529" y="1431"/>
                  </a:lnTo>
                  <a:lnTo>
                    <a:pt x="520" y="1429"/>
                  </a:lnTo>
                  <a:lnTo>
                    <a:pt x="513" y="1425"/>
                  </a:lnTo>
                  <a:lnTo>
                    <a:pt x="505" y="1424"/>
                  </a:lnTo>
                  <a:lnTo>
                    <a:pt x="498" y="1421"/>
                  </a:lnTo>
                  <a:lnTo>
                    <a:pt x="489" y="1421"/>
                  </a:lnTo>
                  <a:lnTo>
                    <a:pt x="470" y="1420"/>
                  </a:lnTo>
                  <a:lnTo>
                    <a:pt x="451" y="1420"/>
                  </a:lnTo>
                  <a:lnTo>
                    <a:pt x="432" y="1420"/>
                  </a:lnTo>
                  <a:lnTo>
                    <a:pt x="412" y="1421"/>
                  </a:lnTo>
                  <a:lnTo>
                    <a:pt x="392" y="1423"/>
                  </a:lnTo>
                  <a:lnTo>
                    <a:pt x="373" y="1425"/>
                  </a:lnTo>
                  <a:lnTo>
                    <a:pt x="354" y="1426"/>
                  </a:lnTo>
                  <a:lnTo>
                    <a:pt x="334" y="1427"/>
                  </a:lnTo>
                  <a:lnTo>
                    <a:pt x="313" y="1429"/>
                  </a:lnTo>
                  <a:lnTo>
                    <a:pt x="291" y="1430"/>
                  </a:lnTo>
                  <a:lnTo>
                    <a:pt x="270" y="1432"/>
                  </a:lnTo>
                  <a:lnTo>
                    <a:pt x="248" y="1433"/>
                  </a:lnTo>
                  <a:lnTo>
                    <a:pt x="226" y="1435"/>
                  </a:lnTo>
                  <a:lnTo>
                    <a:pt x="205" y="1436"/>
                  </a:lnTo>
                  <a:lnTo>
                    <a:pt x="183" y="1435"/>
                  </a:lnTo>
                  <a:lnTo>
                    <a:pt x="162" y="1432"/>
                  </a:lnTo>
                  <a:lnTo>
                    <a:pt x="151" y="1431"/>
                  </a:lnTo>
                  <a:lnTo>
                    <a:pt x="141" y="1427"/>
                  </a:lnTo>
                  <a:lnTo>
                    <a:pt x="130" y="1423"/>
                  </a:lnTo>
                  <a:lnTo>
                    <a:pt x="121" y="1417"/>
                  </a:lnTo>
                  <a:lnTo>
                    <a:pt x="111" y="1411"/>
                  </a:lnTo>
                  <a:lnTo>
                    <a:pt x="103" y="1405"/>
                  </a:lnTo>
                  <a:lnTo>
                    <a:pt x="93" y="1397"/>
                  </a:lnTo>
                  <a:lnTo>
                    <a:pt x="85" y="1391"/>
                  </a:lnTo>
                  <a:lnTo>
                    <a:pt x="76" y="1385"/>
                  </a:lnTo>
                  <a:lnTo>
                    <a:pt x="67" y="1378"/>
                  </a:lnTo>
                  <a:lnTo>
                    <a:pt x="58" y="1372"/>
                  </a:lnTo>
                  <a:lnTo>
                    <a:pt x="50" y="1365"/>
                  </a:lnTo>
                  <a:lnTo>
                    <a:pt x="43" y="1358"/>
                  </a:lnTo>
                  <a:lnTo>
                    <a:pt x="36" y="1349"/>
                  </a:lnTo>
                  <a:lnTo>
                    <a:pt x="30" y="1341"/>
                  </a:lnTo>
                  <a:lnTo>
                    <a:pt x="25" y="1331"/>
                  </a:lnTo>
                  <a:lnTo>
                    <a:pt x="22" y="1325"/>
                  </a:lnTo>
                  <a:lnTo>
                    <a:pt x="21" y="1317"/>
                  </a:lnTo>
                  <a:lnTo>
                    <a:pt x="21" y="1310"/>
                  </a:lnTo>
                  <a:lnTo>
                    <a:pt x="22" y="1301"/>
                  </a:lnTo>
                  <a:lnTo>
                    <a:pt x="25" y="1294"/>
                  </a:lnTo>
                  <a:lnTo>
                    <a:pt x="27" y="1288"/>
                  </a:lnTo>
                  <a:lnTo>
                    <a:pt x="32" y="1282"/>
                  </a:lnTo>
                  <a:lnTo>
                    <a:pt x="37" y="1279"/>
                  </a:lnTo>
                  <a:lnTo>
                    <a:pt x="50" y="1271"/>
                  </a:lnTo>
                  <a:lnTo>
                    <a:pt x="64" y="1268"/>
                  </a:lnTo>
                  <a:lnTo>
                    <a:pt x="80" y="1264"/>
                  </a:lnTo>
                  <a:lnTo>
                    <a:pt x="94" y="1263"/>
                  </a:lnTo>
                  <a:lnTo>
                    <a:pt x="110" y="1262"/>
                  </a:lnTo>
                  <a:lnTo>
                    <a:pt x="126" y="1261"/>
                  </a:lnTo>
                  <a:lnTo>
                    <a:pt x="141" y="1261"/>
                  </a:lnTo>
                  <a:lnTo>
                    <a:pt x="156" y="1261"/>
                  </a:lnTo>
                  <a:lnTo>
                    <a:pt x="181" y="1261"/>
                  </a:lnTo>
                  <a:lnTo>
                    <a:pt x="206" y="1261"/>
                  </a:lnTo>
                  <a:lnTo>
                    <a:pt x="232" y="1263"/>
                  </a:lnTo>
                  <a:lnTo>
                    <a:pt x="258" y="1264"/>
                  </a:lnTo>
                  <a:lnTo>
                    <a:pt x="283" y="1265"/>
                  </a:lnTo>
                  <a:lnTo>
                    <a:pt x="308" y="1267"/>
                  </a:lnTo>
                  <a:lnTo>
                    <a:pt x="333" y="1268"/>
                  </a:lnTo>
                  <a:lnTo>
                    <a:pt x="358" y="1267"/>
                  </a:lnTo>
                  <a:lnTo>
                    <a:pt x="374" y="1264"/>
                  </a:lnTo>
                  <a:lnTo>
                    <a:pt x="388" y="1262"/>
                  </a:lnTo>
                  <a:lnTo>
                    <a:pt x="404" y="1258"/>
                  </a:lnTo>
                  <a:lnTo>
                    <a:pt x="418" y="1253"/>
                  </a:lnTo>
                  <a:lnTo>
                    <a:pt x="433" y="1250"/>
                  </a:lnTo>
                  <a:lnTo>
                    <a:pt x="447" y="1245"/>
                  </a:lnTo>
                  <a:lnTo>
                    <a:pt x="463" y="1240"/>
                  </a:lnTo>
                  <a:lnTo>
                    <a:pt x="477" y="1237"/>
                  </a:lnTo>
                  <a:lnTo>
                    <a:pt x="487" y="1234"/>
                  </a:lnTo>
                  <a:lnTo>
                    <a:pt x="496" y="1231"/>
                  </a:lnTo>
                  <a:lnTo>
                    <a:pt x="506" y="1227"/>
                  </a:lnTo>
                  <a:lnTo>
                    <a:pt x="516" y="1223"/>
                  </a:lnTo>
                  <a:lnTo>
                    <a:pt x="525" y="1221"/>
                  </a:lnTo>
                  <a:lnTo>
                    <a:pt x="535" y="1219"/>
                  </a:lnTo>
                  <a:lnTo>
                    <a:pt x="544" y="1217"/>
                  </a:lnTo>
                  <a:lnTo>
                    <a:pt x="555" y="1219"/>
                  </a:lnTo>
                  <a:lnTo>
                    <a:pt x="573" y="1223"/>
                  </a:lnTo>
                  <a:lnTo>
                    <a:pt x="592" y="1229"/>
                  </a:lnTo>
                  <a:lnTo>
                    <a:pt x="610" y="1235"/>
                  </a:lnTo>
                  <a:lnTo>
                    <a:pt x="627" y="1244"/>
                  </a:lnTo>
                  <a:lnTo>
                    <a:pt x="645" y="1252"/>
                  </a:lnTo>
                  <a:lnTo>
                    <a:pt x="663" y="1261"/>
                  </a:lnTo>
                  <a:lnTo>
                    <a:pt x="680" y="1269"/>
                  </a:lnTo>
                  <a:lnTo>
                    <a:pt x="698" y="1279"/>
                  </a:lnTo>
                  <a:lnTo>
                    <a:pt x="712" y="1286"/>
                  </a:lnTo>
                  <a:lnTo>
                    <a:pt x="726" y="1294"/>
                  </a:lnTo>
                  <a:lnTo>
                    <a:pt x="740" y="1304"/>
                  </a:lnTo>
                  <a:lnTo>
                    <a:pt x="753" y="1312"/>
                  </a:lnTo>
                  <a:lnTo>
                    <a:pt x="768" y="1322"/>
                  </a:lnTo>
                  <a:lnTo>
                    <a:pt x="781" y="1330"/>
                  </a:lnTo>
                  <a:lnTo>
                    <a:pt x="795" y="1337"/>
                  </a:lnTo>
                  <a:lnTo>
                    <a:pt x="811" y="1343"/>
                  </a:lnTo>
                  <a:lnTo>
                    <a:pt x="823" y="1348"/>
                  </a:lnTo>
                  <a:lnTo>
                    <a:pt x="836" y="1353"/>
                  </a:lnTo>
                  <a:lnTo>
                    <a:pt x="848" y="1357"/>
                  </a:lnTo>
                  <a:lnTo>
                    <a:pt x="861" y="1359"/>
                  </a:lnTo>
                  <a:lnTo>
                    <a:pt x="874" y="1361"/>
                  </a:lnTo>
                  <a:lnTo>
                    <a:pt x="888" y="1361"/>
                  </a:lnTo>
                  <a:lnTo>
                    <a:pt x="894" y="1361"/>
                  </a:lnTo>
                  <a:lnTo>
                    <a:pt x="900" y="1360"/>
                  </a:lnTo>
                  <a:lnTo>
                    <a:pt x="906" y="1358"/>
                  </a:lnTo>
                  <a:lnTo>
                    <a:pt x="912" y="1355"/>
                  </a:lnTo>
                  <a:lnTo>
                    <a:pt x="916" y="1353"/>
                  </a:lnTo>
                  <a:lnTo>
                    <a:pt x="920" y="1349"/>
                  </a:lnTo>
                  <a:lnTo>
                    <a:pt x="924" y="1346"/>
                  </a:lnTo>
                  <a:lnTo>
                    <a:pt x="927" y="1342"/>
                  </a:lnTo>
                  <a:lnTo>
                    <a:pt x="932" y="1333"/>
                  </a:lnTo>
                  <a:lnTo>
                    <a:pt x="937" y="1323"/>
                  </a:lnTo>
                  <a:lnTo>
                    <a:pt x="939" y="1311"/>
                  </a:lnTo>
                  <a:lnTo>
                    <a:pt x="940" y="1300"/>
                  </a:lnTo>
                  <a:lnTo>
                    <a:pt x="942" y="1289"/>
                  </a:lnTo>
                  <a:lnTo>
                    <a:pt x="942" y="1279"/>
                  </a:lnTo>
                  <a:lnTo>
                    <a:pt x="940" y="1267"/>
                  </a:lnTo>
                  <a:lnTo>
                    <a:pt x="938" y="1256"/>
                  </a:lnTo>
                  <a:lnTo>
                    <a:pt x="934" y="1245"/>
                  </a:lnTo>
                  <a:lnTo>
                    <a:pt x="930" y="1234"/>
                  </a:lnTo>
                  <a:lnTo>
                    <a:pt x="925" y="1225"/>
                  </a:lnTo>
                  <a:lnTo>
                    <a:pt x="919" y="1214"/>
                  </a:lnTo>
                  <a:lnTo>
                    <a:pt x="912" y="1204"/>
                  </a:lnTo>
                  <a:lnTo>
                    <a:pt x="906" y="1195"/>
                  </a:lnTo>
                  <a:lnTo>
                    <a:pt x="894" y="1178"/>
                  </a:lnTo>
                  <a:lnTo>
                    <a:pt x="882" y="1161"/>
                  </a:lnTo>
                  <a:lnTo>
                    <a:pt x="870" y="1145"/>
                  </a:lnTo>
                  <a:lnTo>
                    <a:pt x="856" y="1129"/>
                  </a:lnTo>
                  <a:lnTo>
                    <a:pt x="842" y="1113"/>
                  </a:lnTo>
                  <a:lnTo>
                    <a:pt x="829" y="1099"/>
                  </a:lnTo>
                  <a:lnTo>
                    <a:pt x="814" y="1084"/>
                  </a:lnTo>
                  <a:lnTo>
                    <a:pt x="799" y="1070"/>
                  </a:lnTo>
                  <a:lnTo>
                    <a:pt x="780" y="1054"/>
                  </a:lnTo>
                  <a:lnTo>
                    <a:pt x="762" y="1040"/>
                  </a:lnTo>
                  <a:lnTo>
                    <a:pt x="741" y="1026"/>
                  </a:lnTo>
                  <a:lnTo>
                    <a:pt x="722" y="1012"/>
                  </a:lnTo>
                  <a:lnTo>
                    <a:pt x="702" y="999"/>
                  </a:lnTo>
                  <a:lnTo>
                    <a:pt x="680" y="986"/>
                  </a:lnTo>
                  <a:lnTo>
                    <a:pt x="660" y="974"/>
                  </a:lnTo>
                  <a:lnTo>
                    <a:pt x="638" y="963"/>
                  </a:lnTo>
                  <a:lnTo>
                    <a:pt x="622" y="956"/>
                  </a:lnTo>
                  <a:lnTo>
                    <a:pt x="607" y="950"/>
                  </a:lnTo>
                  <a:lnTo>
                    <a:pt x="590" y="944"/>
                  </a:lnTo>
                  <a:lnTo>
                    <a:pt x="574" y="939"/>
                  </a:lnTo>
                  <a:lnTo>
                    <a:pt x="558" y="934"/>
                  </a:lnTo>
                  <a:lnTo>
                    <a:pt x="541" y="930"/>
                  </a:lnTo>
                  <a:lnTo>
                    <a:pt x="524" y="926"/>
                  </a:lnTo>
                  <a:lnTo>
                    <a:pt x="507" y="921"/>
                  </a:lnTo>
                  <a:lnTo>
                    <a:pt x="493" y="919"/>
                  </a:lnTo>
                  <a:lnTo>
                    <a:pt x="477" y="915"/>
                  </a:lnTo>
                  <a:lnTo>
                    <a:pt x="463" y="912"/>
                  </a:lnTo>
                  <a:lnTo>
                    <a:pt x="448" y="909"/>
                  </a:lnTo>
                  <a:lnTo>
                    <a:pt x="433" y="907"/>
                  </a:lnTo>
                  <a:lnTo>
                    <a:pt x="418" y="906"/>
                  </a:lnTo>
                  <a:lnTo>
                    <a:pt x="403" y="904"/>
                  </a:lnTo>
                  <a:lnTo>
                    <a:pt x="388" y="904"/>
                  </a:lnTo>
                  <a:lnTo>
                    <a:pt x="378" y="904"/>
                  </a:lnTo>
                  <a:lnTo>
                    <a:pt x="368" y="904"/>
                  </a:lnTo>
                  <a:lnTo>
                    <a:pt x="358" y="907"/>
                  </a:lnTo>
                  <a:lnTo>
                    <a:pt x="349" y="908"/>
                  </a:lnTo>
                  <a:lnTo>
                    <a:pt x="338" y="910"/>
                  </a:lnTo>
                  <a:lnTo>
                    <a:pt x="330" y="914"/>
                  </a:lnTo>
                  <a:lnTo>
                    <a:pt x="320" y="918"/>
                  </a:lnTo>
                  <a:lnTo>
                    <a:pt x="310" y="921"/>
                  </a:lnTo>
                  <a:lnTo>
                    <a:pt x="302" y="927"/>
                  </a:lnTo>
                  <a:lnTo>
                    <a:pt x="294" y="933"/>
                  </a:lnTo>
                  <a:lnTo>
                    <a:pt x="285" y="940"/>
                  </a:lnTo>
                  <a:lnTo>
                    <a:pt x="278" y="948"/>
                  </a:lnTo>
                  <a:lnTo>
                    <a:pt x="270" y="956"/>
                  </a:lnTo>
                  <a:lnTo>
                    <a:pt x="262" y="963"/>
                  </a:lnTo>
                  <a:lnTo>
                    <a:pt x="254" y="969"/>
                  </a:lnTo>
                  <a:lnTo>
                    <a:pt x="246" y="975"/>
                  </a:lnTo>
                  <a:lnTo>
                    <a:pt x="231" y="982"/>
                  </a:lnTo>
                  <a:lnTo>
                    <a:pt x="217" y="990"/>
                  </a:lnTo>
                  <a:lnTo>
                    <a:pt x="202" y="997"/>
                  </a:lnTo>
                  <a:lnTo>
                    <a:pt x="187" y="1003"/>
                  </a:lnTo>
                  <a:lnTo>
                    <a:pt x="172" y="1009"/>
                  </a:lnTo>
                  <a:lnTo>
                    <a:pt x="157" y="1015"/>
                  </a:lnTo>
                  <a:lnTo>
                    <a:pt x="142" y="1018"/>
                  </a:lnTo>
                  <a:lnTo>
                    <a:pt x="127" y="1023"/>
                  </a:lnTo>
                  <a:lnTo>
                    <a:pt x="121" y="1023"/>
                  </a:lnTo>
                  <a:lnTo>
                    <a:pt x="115" y="1024"/>
                  </a:lnTo>
                  <a:lnTo>
                    <a:pt x="109" y="1023"/>
                  </a:lnTo>
                  <a:lnTo>
                    <a:pt x="103" y="1023"/>
                  </a:lnTo>
                  <a:lnTo>
                    <a:pt x="97" y="1021"/>
                  </a:lnTo>
                  <a:lnTo>
                    <a:pt x="92" y="1018"/>
                  </a:lnTo>
                  <a:lnTo>
                    <a:pt x="87" y="1015"/>
                  </a:lnTo>
                  <a:lnTo>
                    <a:pt x="85" y="1011"/>
                  </a:lnTo>
                  <a:lnTo>
                    <a:pt x="81" y="1003"/>
                  </a:lnTo>
                  <a:lnTo>
                    <a:pt x="79" y="996"/>
                  </a:lnTo>
                  <a:lnTo>
                    <a:pt x="76" y="986"/>
                  </a:lnTo>
                  <a:lnTo>
                    <a:pt x="76" y="978"/>
                  </a:lnTo>
                  <a:lnTo>
                    <a:pt x="76" y="969"/>
                  </a:lnTo>
                  <a:lnTo>
                    <a:pt x="78" y="961"/>
                  </a:lnTo>
                  <a:lnTo>
                    <a:pt x="81" y="952"/>
                  </a:lnTo>
                  <a:lnTo>
                    <a:pt x="85" y="945"/>
                  </a:lnTo>
                  <a:lnTo>
                    <a:pt x="97" y="928"/>
                  </a:lnTo>
                  <a:lnTo>
                    <a:pt x="110" y="913"/>
                  </a:lnTo>
                  <a:lnTo>
                    <a:pt x="123" y="898"/>
                  </a:lnTo>
                  <a:lnTo>
                    <a:pt x="139" y="884"/>
                  </a:lnTo>
                  <a:lnTo>
                    <a:pt x="154" y="870"/>
                  </a:lnTo>
                  <a:lnTo>
                    <a:pt x="170" y="858"/>
                  </a:lnTo>
                  <a:lnTo>
                    <a:pt x="187" y="844"/>
                  </a:lnTo>
                  <a:lnTo>
                    <a:pt x="204" y="832"/>
                  </a:lnTo>
                  <a:lnTo>
                    <a:pt x="216" y="825"/>
                  </a:lnTo>
                  <a:lnTo>
                    <a:pt x="226" y="818"/>
                  </a:lnTo>
                  <a:lnTo>
                    <a:pt x="240" y="812"/>
                  </a:lnTo>
                  <a:lnTo>
                    <a:pt x="252" y="806"/>
                  </a:lnTo>
                  <a:lnTo>
                    <a:pt x="265" y="801"/>
                  </a:lnTo>
                  <a:lnTo>
                    <a:pt x="278" y="798"/>
                  </a:lnTo>
                  <a:lnTo>
                    <a:pt x="291" y="794"/>
                  </a:lnTo>
                  <a:lnTo>
                    <a:pt x="304" y="790"/>
                  </a:lnTo>
                  <a:lnTo>
                    <a:pt x="322" y="788"/>
                  </a:lnTo>
                  <a:lnTo>
                    <a:pt x="340" y="786"/>
                  </a:lnTo>
                  <a:lnTo>
                    <a:pt x="358" y="786"/>
                  </a:lnTo>
                  <a:lnTo>
                    <a:pt x="376" y="784"/>
                  </a:lnTo>
                  <a:lnTo>
                    <a:pt x="393" y="784"/>
                  </a:lnTo>
                  <a:lnTo>
                    <a:pt x="411" y="784"/>
                  </a:lnTo>
                  <a:lnTo>
                    <a:pt x="429" y="784"/>
                  </a:lnTo>
                  <a:lnTo>
                    <a:pt x="447" y="784"/>
                  </a:lnTo>
                  <a:lnTo>
                    <a:pt x="472" y="786"/>
                  </a:lnTo>
                  <a:lnTo>
                    <a:pt x="498" y="786"/>
                  </a:lnTo>
                  <a:lnTo>
                    <a:pt x="524" y="786"/>
                  </a:lnTo>
                  <a:lnTo>
                    <a:pt x="549" y="787"/>
                  </a:lnTo>
                  <a:lnTo>
                    <a:pt x="574" y="788"/>
                  </a:lnTo>
                  <a:lnTo>
                    <a:pt x="600" y="788"/>
                  </a:lnTo>
                  <a:lnTo>
                    <a:pt x="625" y="789"/>
                  </a:lnTo>
                  <a:lnTo>
                    <a:pt x="650" y="790"/>
                  </a:lnTo>
                  <a:lnTo>
                    <a:pt x="668" y="792"/>
                  </a:lnTo>
                  <a:lnTo>
                    <a:pt x="687" y="794"/>
                  </a:lnTo>
                  <a:lnTo>
                    <a:pt x="705" y="795"/>
                  </a:lnTo>
                  <a:lnTo>
                    <a:pt x="724" y="798"/>
                  </a:lnTo>
                  <a:lnTo>
                    <a:pt x="742" y="800"/>
                  </a:lnTo>
                  <a:lnTo>
                    <a:pt x="762" y="801"/>
                  </a:lnTo>
                  <a:lnTo>
                    <a:pt x="780" y="802"/>
                  </a:lnTo>
                  <a:lnTo>
                    <a:pt x="799" y="802"/>
                  </a:lnTo>
                  <a:lnTo>
                    <a:pt x="810" y="804"/>
                  </a:lnTo>
                  <a:lnTo>
                    <a:pt x="820" y="804"/>
                  </a:lnTo>
                  <a:lnTo>
                    <a:pt x="831" y="804"/>
                  </a:lnTo>
                  <a:lnTo>
                    <a:pt x="843" y="804"/>
                  </a:lnTo>
                  <a:lnTo>
                    <a:pt x="854" y="802"/>
                  </a:lnTo>
                  <a:lnTo>
                    <a:pt x="864" y="801"/>
                  </a:lnTo>
                  <a:lnTo>
                    <a:pt x="873" y="796"/>
                  </a:lnTo>
                  <a:lnTo>
                    <a:pt x="882" y="790"/>
                  </a:lnTo>
                  <a:close/>
                </a:path>
              </a:pathLst>
            </a:custGeom>
            <a:solidFill>
              <a:srgbClr val="d68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37080" y="4869000"/>
              <a:ext cx="1017720" cy="874440"/>
            </a:xfrm>
            <a:custGeom>
              <a:avLst/>
              <a:gdLst/>
              <a:ahLst/>
              <a:rect l="l" t="t" r="r" b="b"/>
              <a:pathLst>
                <a:path w="2561" h="2203">
                  <a:moveTo>
                    <a:pt x="876" y="784"/>
                  </a:moveTo>
                  <a:lnTo>
                    <a:pt x="883" y="775"/>
                  </a:lnTo>
                  <a:lnTo>
                    <a:pt x="891" y="766"/>
                  </a:lnTo>
                  <a:lnTo>
                    <a:pt x="895" y="755"/>
                  </a:lnTo>
                  <a:lnTo>
                    <a:pt x="899" y="744"/>
                  </a:lnTo>
                  <a:lnTo>
                    <a:pt x="903" y="732"/>
                  </a:lnTo>
                  <a:lnTo>
                    <a:pt x="904" y="720"/>
                  </a:lnTo>
                  <a:lnTo>
                    <a:pt x="905" y="708"/>
                  </a:lnTo>
                  <a:lnTo>
                    <a:pt x="905" y="696"/>
                  </a:lnTo>
                  <a:lnTo>
                    <a:pt x="905" y="682"/>
                  </a:lnTo>
                  <a:lnTo>
                    <a:pt x="904" y="667"/>
                  </a:lnTo>
                  <a:lnTo>
                    <a:pt x="903" y="654"/>
                  </a:lnTo>
                  <a:lnTo>
                    <a:pt x="899" y="640"/>
                  </a:lnTo>
                  <a:lnTo>
                    <a:pt x="895" y="627"/>
                  </a:lnTo>
                  <a:lnTo>
                    <a:pt x="891" y="613"/>
                  </a:lnTo>
                  <a:lnTo>
                    <a:pt x="883" y="601"/>
                  </a:lnTo>
                  <a:lnTo>
                    <a:pt x="876" y="589"/>
                  </a:lnTo>
                  <a:lnTo>
                    <a:pt x="868" y="581"/>
                  </a:lnTo>
                  <a:lnTo>
                    <a:pt x="858" y="573"/>
                  </a:lnTo>
                  <a:lnTo>
                    <a:pt x="847" y="567"/>
                  </a:lnTo>
                  <a:lnTo>
                    <a:pt x="835" y="562"/>
                  </a:lnTo>
                  <a:lnTo>
                    <a:pt x="823" y="557"/>
                  </a:lnTo>
                  <a:lnTo>
                    <a:pt x="811" y="552"/>
                  </a:lnTo>
                  <a:lnTo>
                    <a:pt x="799" y="547"/>
                  </a:lnTo>
                  <a:lnTo>
                    <a:pt x="787" y="543"/>
                  </a:lnTo>
                  <a:lnTo>
                    <a:pt x="774" y="535"/>
                  </a:lnTo>
                  <a:lnTo>
                    <a:pt x="760" y="529"/>
                  </a:lnTo>
                  <a:lnTo>
                    <a:pt x="747" y="523"/>
                  </a:lnTo>
                  <a:lnTo>
                    <a:pt x="732" y="517"/>
                  </a:lnTo>
                  <a:lnTo>
                    <a:pt x="718" y="511"/>
                  </a:lnTo>
                  <a:lnTo>
                    <a:pt x="703" y="505"/>
                  </a:lnTo>
                  <a:lnTo>
                    <a:pt x="690" y="501"/>
                  </a:lnTo>
                  <a:lnTo>
                    <a:pt x="676" y="496"/>
                  </a:lnTo>
                  <a:lnTo>
                    <a:pt x="659" y="491"/>
                  </a:lnTo>
                  <a:lnTo>
                    <a:pt x="643" y="487"/>
                  </a:lnTo>
                  <a:lnTo>
                    <a:pt x="627" y="484"/>
                  </a:lnTo>
                  <a:lnTo>
                    <a:pt x="610" y="481"/>
                  </a:lnTo>
                  <a:lnTo>
                    <a:pt x="593" y="479"/>
                  </a:lnTo>
                  <a:lnTo>
                    <a:pt x="577" y="475"/>
                  </a:lnTo>
                  <a:lnTo>
                    <a:pt x="561" y="471"/>
                  </a:lnTo>
                  <a:lnTo>
                    <a:pt x="545" y="466"/>
                  </a:lnTo>
                  <a:lnTo>
                    <a:pt x="533" y="460"/>
                  </a:lnTo>
                  <a:lnTo>
                    <a:pt x="520" y="454"/>
                  </a:lnTo>
                  <a:lnTo>
                    <a:pt x="508" y="447"/>
                  </a:lnTo>
                  <a:lnTo>
                    <a:pt x="496" y="439"/>
                  </a:lnTo>
                  <a:lnTo>
                    <a:pt x="485" y="432"/>
                  </a:lnTo>
                  <a:lnTo>
                    <a:pt x="473" y="424"/>
                  </a:lnTo>
                  <a:lnTo>
                    <a:pt x="462" y="415"/>
                  </a:lnTo>
                  <a:lnTo>
                    <a:pt x="451" y="407"/>
                  </a:lnTo>
                  <a:lnTo>
                    <a:pt x="432" y="391"/>
                  </a:lnTo>
                  <a:lnTo>
                    <a:pt x="413" y="375"/>
                  </a:lnTo>
                  <a:lnTo>
                    <a:pt x="395" y="359"/>
                  </a:lnTo>
                  <a:lnTo>
                    <a:pt x="377" y="342"/>
                  </a:lnTo>
                  <a:lnTo>
                    <a:pt x="359" y="326"/>
                  </a:lnTo>
                  <a:lnTo>
                    <a:pt x="341" y="309"/>
                  </a:lnTo>
                  <a:lnTo>
                    <a:pt x="322" y="293"/>
                  </a:lnTo>
                  <a:lnTo>
                    <a:pt x="304" y="278"/>
                  </a:lnTo>
                  <a:lnTo>
                    <a:pt x="286" y="263"/>
                  </a:lnTo>
                  <a:lnTo>
                    <a:pt x="269" y="250"/>
                  </a:lnTo>
                  <a:lnTo>
                    <a:pt x="251" y="238"/>
                  </a:lnTo>
                  <a:lnTo>
                    <a:pt x="234" y="225"/>
                  </a:lnTo>
                  <a:lnTo>
                    <a:pt x="216" y="213"/>
                  </a:lnTo>
                  <a:lnTo>
                    <a:pt x="198" y="200"/>
                  </a:lnTo>
                  <a:lnTo>
                    <a:pt x="180" y="189"/>
                  </a:lnTo>
                  <a:lnTo>
                    <a:pt x="161" y="177"/>
                  </a:lnTo>
                  <a:lnTo>
                    <a:pt x="149" y="170"/>
                  </a:lnTo>
                  <a:lnTo>
                    <a:pt x="137" y="165"/>
                  </a:lnTo>
                  <a:lnTo>
                    <a:pt x="124" y="159"/>
                  </a:lnTo>
                  <a:lnTo>
                    <a:pt x="111" y="154"/>
                  </a:lnTo>
                  <a:lnTo>
                    <a:pt x="99" y="148"/>
                  </a:lnTo>
                  <a:lnTo>
                    <a:pt x="85" y="143"/>
                  </a:lnTo>
                  <a:lnTo>
                    <a:pt x="73" y="137"/>
                  </a:lnTo>
                  <a:lnTo>
                    <a:pt x="61" y="130"/>
                  </a:lnTo>
                  <a:lnTo>
                    <a:pt x="52" y="124"/>
                  </a:lnTo>
                  <a:lnTo>
                    <a:pt x="43" y="118"/>
                  </a:lnTo>
                  <a:lnTo>
                    <a:pt x="35" y="111"/>
                  </a:lnTo>
                  <a:lnTo>
                    <a:pt x="27" y="105"/>
                  </a:lnTo>
                  <a:lnTo>
                    <a:pt x="18" y="96"/>
                  </a:lnTo>
                  <a:lnTo>
                    <a:pt x="12" y="89"/>
                  </a:lnTo>
                  <a:lnTo>
                    <a:pt x="6" y="80"/>
                  </a:lnTo>
                  <a:lnTo>
                    <a:pt x="3" y="71"/>
                  </a:lnTo>
                  <a:lnTo>
                    <a:pt x="0" y="64"/>
                  </a:lnTo>
                  <a:lnTo>
                    <a:pt x="1" y="56"/>
                  </a:lnTo>
                  <a:lnTo>
                    <a:pt x="3" y="48"/>
                  </a:lnTo>
                  <a:lnTo>
                    <a:pt x="5" y="40"/>
                  </a:lnTo>
                  <a:lnTo>
                    <a:pt x="9" y="34"/>
                  </a:lnTo>
                  <a:lnTo>
                    <a:pt x="13" y="27"/>
                  </a:lnTo>
                  <a:lnTo>
                    <a:pt x="19" y="22"/>
                  </a:lnTo>
                  <a:lnTo>
                    <a:pt x="25" y="17"/>
                  </a:lnTo>
                  <a:lnTo>
                    <a:pt x="37" y="12"/>
                  </a:lnTo>
                  <a:lnTo>
                    <a:pt x="49" y="9"/>
                  </a:lnTo>
                  <a:lnTo>
                    <a:pt x="61" y="6"/>
                  </a:lnTo>
                  <a:lnTo>
                    <a:pt x="75" y="4"/>
                  </a:lnTo>
                  <a:lnTo>
                    <a:pt x="88" y="4"/>
                  </a:lnTo>
                  <a:lnTo>
                    <a:pt x="101" y="4"/>
                  </a:lnTo>
                  <a:lnTo>
                    <a:pt x="113" y="5"/>
                  </a:lnTo>
                  <a:lnTo>
                    <a:pt x="126" y="5"/>
                  </a:lnTo>
                  <a:lnTo>
                    <a:pt x="138" y="8"/>
                  </a:lnTo>
                  <a:lnTo>
                    <a:pt x="149" y="9"/>
                  </a:lnTo>
                  <a:lnTo>
                    <a:pt x="161" y="12"/>
                  </a:lnTo>
                  <a:lnTo>
                    <a:pt x="172" y="15"/>
                  </a:lnTo>
                  <a:lnTo>
                    <a:pt x="184" y="20"/>
                  </a:lnTo>
                  <a:lnTo>
                    <a:pt x="195" y="24"/>
                  </a:lnTo>
                  <a:lnTo>
                    <a:pt x="204" y="29"/>
                  </a:lnTo>
                  <a:lnTo>
                    <a:pt x="215" y="35"/>
                  </a:lnTo>
                  <a:lnTo>
                    <a:pt x="228" y="45"/>
                  </a:lnTo>
                  <a:lnTo>
                    <a:pt x="241" y="57"/>
                  </a:lnTo>
                  <a:lnTo>
                    <a:pt x="255" y="68"/>
                  </a:lnTo>
                  <a:lnTo>
                    <a:pt x="267" y="81"/>
                  </a:lnTo>
                  <a:lnTo>
                    <a:pt x="279" y="93"/>
                  </a:lnTo>
                  <a:lnTo>
                    <a:pt x="291" y="106"/>
                  </a:lnTo>
                  <a:lnTo>
                    <a:pt x="303" y="118"/>
                  </a:lnTo>
                  <a:lnTo>
                    <a:pt x="315" y="130"/>
                  </a:lnTo>
                  <a:lnTo>
                    <a:pt x="333" y="146"/>
                  </a:lnTo>
                  <a:lnTo>
                    <a:pt x="352" y="161"/>
                  </a:lnTo>
                  <a:lnTo>
                    <a:pt x="370" y="177"/>
                  </a:lnTo>
                  <a:lnTo>
                    <a:pt x="388" y="192"/>
                  </a:lnTo>
                  <a:lnTo>
                    <a:pt x="407" y="208"/>
                  </a:lnTo>
                  <a:lnTo>
                    <a:pt x="425" y="224"/>
                  </a:lnTo>
                  <a:lnTo>
                    <a:pt x="444" y="238"/>
                  </a:lnTo>
                  <a:lnTo>
                    <a:pt x="462" y="254"/>
                  </a:lnTo>
                  <a:lnTo>
                    <a:pt x="477" y="264"/>
                  </a:lnTo>
                  <a:lnTo>
                    <a:pt x="490" y="275"/>
                  </a:lnTo>
                  <a:lnTo>
                    <a:pt x="503" y="286"/>
                  </a:lnTo>
                  <a:lnTo>
                    <a:pt x="517" y="297"/>
                  </a:lnTo>
                  <a:lnTo>
                    <a:pt x="532" y="308"/>
                  </a:lnTo>
                  <a:lnTo>
                    <a:pt x="545" y="317"/>
                  </a:lnTo>
                  <a:lnTo>
                    <a:pt x="559" y="327"/>
                  </a:lnTo>
                  <a:lnTo>
                    <a:pt x="575" y="336"/>
                  </a:lnTo>
                  <a:lnTo>
                    <a:pt x="582" y="340"/>
                  </a:lnTo>
                  <a:lnTo>
                    <a:pt x="591" y="344"/>
                  </a:lnTo>
                  <a:lnTo>
                    <a:pt x="598" y="346"/>
                  </a:lnTo>
                  <a:lnTo>
                    <a:pt x="606" y="348"/>
                  </a:lnTo>
                  <a:lnTo>
                    <a:pt x="615" y="351"/>
                  </a:lnTo>
                  <a:lnTo>
                    <a:pt x="623" y="352"/>
                  </a:lnTo>
                  <a:lnTo>
                    <a:pt x="631" y="353"/>
                  </a:lnTo>
                  <a:lnTo>
                    <a:pt x="640" y="354"/>
                  </a:lnTo>
                  <a:lnTo>
                    <a:pt x="647" y="354"/>
                  </a:lnTo>
                  <a:lnTo>
                    <a:pt x="655" y="354"/>
                  </a:lnTo>
                  <a:lnTo>
                    <a:pt x="664" y="354"/>
                  </a:lnTo>
                  <a:lnTo>
                    <a:pt x="671" y="353"/>
                  </a:lnTo>
                  <a:lnTo>
                    <a:pt x="679" y="352"/>
                  </a:lnTo>
                  <a:lnTo>
                    <a:pt x="687" y="350"/>
                  </a:lnTo>
                  <a:lnTo>
                    <a:pt x="693" y="347"/>
                  </a:lnTo>
                  <a:lnTo>
                    <a:pt x="699" y="342"/>
                  </a:lnTo>
                  <a:lnTo>
                    <a:pt x="705" y="335"/>
                  </a:lnTo>
                  <a:lnTo>
                    <a:pt x="709" y="327"/>
                  </a:lnTo>
                  <a:lnTo>
                    <a:pt x="713" y="318"/>
                  </a:lnTo>
                  <a:lnTo>
                    <a:pt x="717" y="309"/>
                  </a:lnTo>
                  <a:lnTo>
                    <a:pt x="719" y="300"/>
                  </a:lnTo>
                  <a:lnTo>
                    <a:pt x="720" y="291"/>
                  </a:lnTo>
                  <a:lnTo>
                    <a:pt x="721" y="281"/>
                  </a:lnTo>
                  <a:lnTo>
                    <a:pt x="723" y="272"/>
                  </a:lnTo>
                  <a:lnTo>
                    <a:pt x="724" y="257"/>
                  </a:lnTo>
                  <a:lnTo>
                    <a:pt x="723" y="243"/>
                  </a:lnTo>
                  <a:lnTo>
                    <a:pt x="723" y="230"/>
                  </a:lnTo>
                  <a:lnTo>
                    <a:pt x="721" y="215"/>
                  </a:lnTo>
                  <a:lnTo>
                    <a:pt x="719" y="201"/>
                  </a:lnTo>
                  <a:lnTo>
                    <a:pt x="718" y="188"/>
                  </a:lnTo>
                  <a:lnTo>
                    <a:pt x="717" y="173"/>
                  </a:lnTo>
                  <a:lnTo>
                    <a:pt x="717" y="159"/>
                  </a:lnTo>
                  <a:lnTo>
                    <a:pt x="717" y="152"/>
                  </a:lnTo>
                  <a:lnTo>
                    <a:pt x="718" y="144"/>
                  </a:lnTo>
                  <a:lnTo>
                    <a:pt x="718" y="137"/>
                  </a:lnTo>
                  <a:lnTo>
                    <a:pt x="719" y="130"/>
                  </a:lnTo>
                  <a:lnTo>
                    <a:pt x="720" y="123"/>
                  </a:lnTo>
                  <a:lnTo>
                    <a:pt x="721" y="114"/>
                  </a:lnTo>
                  <a:lnTo>
                    <a:pt x="721" y="107"/>
                  </a:lnTo>
                  <a:lnTo>
                    <a:pt x="723" y="100"/>
                  </a:lnTo>
                  <a:lnTo>
                    <a:pt x="723" y="92"/>
                  </a:lnTo>
                  <a:lnTo>
                    <a:pt x="723" y="84"/>
                  </a:lnTo>
                  <a:lnTo>
                    <a:pt x="721" y="76"/>
                  </a:lnTo>
                  <a:lnTo>
                    <a:pt x="721" y="68"/>
                  </a:lnTo>
                  <a:lnTo>
                    <a:pt x="720" y="59"/>
                  </a:lnTo>
                  <a:lnTo>
                    <a:pt x="720" y="51"/>
                  </a:lnTo>
                  <a:lnTo>
                    <a:pt x="721" y="44"/>
                  </a:lnTo>
                  <a:lnTo>
                    <a:pt x="723" y="35"/>
                  </a:lnTo>
                  <a:lnTo>
                    <a:pt x="724" y="29"/>
                  </a:lnTo>
                  <a:lnTo>
                    <a:pt x="725" y="23"/>
                  </a:lnTo>
                  <a:lnTo>
                    <a:pt x="727" y="17"/>
                  </a:lnTo>
                  <a:lnTo>
                    <a:pt x="730" y="12"/>
                  </a:lnTo>
                  <a:lnTo>
                    <a:pt x="733" y="8"/>
                  </a:lnTo>
                  <a:lnTo>
                    <a:pt x="737" y="3"/>
                  </a:lnTo>
                  <a:lnTo>
                    <a:pt x="741" y="0"/>
                  </a:lnTo>
                  <a:lnTo>
                    <a:pt x="747" y="0"/>
                  </a:lnTo>
                  <a:lnTo>
                    <a:pt x="756" y="2"/>
                  </a:lnTo>
                  <a:lnTo>
                    <a:pt x="766" y="4"/>
                  </a:lnTo>
                  <a:lnTo>
                    <a:pt x="775" y="8"/>
                  </a:lnTo>
                  <a:lnTo>
                    <a:pt x="785" y="14"/>
                  </a:lnTo>
                  <a:lnTo>
                    <a:pt x="793" y="20"/>
                  </a:lnTo>
                  <a:lnTo>
                    <a:pt x="802" y="26"/>
                  </a:lnTo>
                  <a:lnTo>
                    <a:pt x="810" y="34"/>
                  </a:lnTo>
                  <a:lnTo>
                    <a:pt x="817" y="41"/>
                  </a:lnTo>
                  <a:lnTo>
                    <a:pt x="825" y="51"/>
                  </a:lnTo>
                  <a:lnTo>
                    <a:pt x="831" y="62"/>
                  </a:lnTo>
                  <a:lnTo>
                    <a:pt x="837" y="72"/>
                  </a:lnTo>
                  <a:lnTo>
                    <a:pt x="840" y="83"/>
                  </a:lnTo>
                  <a:lnTo>
                    <a:pt x="845" y="95"/>
                  </a:lnTo>
                  <a:lnTo>
                    <a:pt x="850" y="107"/>
                  </a:lnTo>
                  <a:lnTo>
                    <a:pt x="853" y="118"/>
                  </a:lnTo>
                  <a:lnTo>
                    <a:pt x="858" y="130"/>
                  </a:lnTo>
                  <a:lnTo>
                    <a:pt x="865" y="146"/>
                  </a:lnTo>
                  <a:lnTo>
                    <a:pt x="871" y="162"/>
                  </a:lnTo>
                  <a:lnTo>
                    <a:pt x="879" y="178"/>
                  </a:lnTo>
                  <a:lnTo>
                    <a:pt x="885" y="195"/>
                  </a:lnTo>
                  <a:lnTo>
                    <a:pt x="892" y="210"/>
                  </a:lnTo>
                  <a:lnTo>
                    <a:pt x="898" y="227"/>
                  </a:lnTo>
                  <a:lnTo>
                    <a:pt x="905" y="243"/>
                  </a:lnTo>
                  <a:lnTo>
                    <a:pt x="911" y="260"/>
                  </a:lnTo>
                  <a:lnTo>
                    <a:pt x="916" y="269"/>
                  </a:lnTo>
                  <a:lnTo>
                    <a:pt x="919" y="279"/>
                  </a:lnTo>
                  <a:lnTo>
                    <a:pt x="923" y="288"/>
                  </a:lnTo>
                  <a:lnTo>
                    <a:pt x="928" y="299"/>
                  </a:lnTo>
                  <a:lnTo>
                    <a:pt x="931" y="309"/>
                  </a:lnTo>
                  <a:lnTo>
                    <a:pt x="936" y="318"/>
                  </a:lnTo>
                  <a:lnTo>
                    <a:pt x="941" y="327"/>
                  </a:lnTo>
                  <a:lnTo>
                    <a:pt x="947" y="336"/>
                  </a:lnTo>
                  <a:lnTo>
                    <a:pt x="954" y="346"/>
                  </a:lnTo>
                  <a:lnTo>
                    <a:pt x="961" y="356"/>
                  </a:lnTo>
                  <a:lnTo>
                    <a:pt x="969" y="364"/>
                  </a:lnTo>
                  <a:lnTo>
                    <a:pt x="977" y="373"/>
                  </a:lnTo>
                  <a:lnTo>
                    <a:pt x="985" y="382"/>
                  </a:lnTo>
                  <a:lnTo>
                    <a:pt x="994" y="390"/>
                  </a:lnTo>
                  <a:lnTo>
                    <a:pt x="1003" y="399"/>
                  </a:lnTo>
                  <a:lnTo>
                    <a:pt x="1012" y="407"/>
                  </a:lnTo>
                  <a:lnTo>
                    <a:pt x="1023" y="417"/>
                  </a:lnTo>
                  <a:lnTo>
                    <a:pt x="1035" y="427"/>
                  </a:lnTo>
                  <a:lnTo>
                    <a:pt x="1045" y="438"/>
                  </a:lnTo>
                  <a:lnTo>
                    <a:pt x="1056" y="449"/>
                  </a:lnTo>
                  <a:lnTo>
                    <a:pt x="1068" y="459"/>
                  </a:lnTo>
                  <a:lnTo>
                    <a:pt x="1080" y="468"/>
                  </a:lnTo>
                  <a:lnTo>
                    <a:pt x="1093" y="477"/>
                  </a:lnTo>
                  <a:lnTo>
                    <a:pt x="1107" y="484"/>
                  </a:lnTo>
                  <a:lnTo>
                    <a:pt x="1117" y="489"/>
                  </a:lnTo>
                  <a:lnTo>
                    <a:pt x="1128" y="492"/>
                  </a:lnTo>
                  <a:lnTo>
                    <a:pt x="1140" y="495"/>
                  </a:lnTo>
                  <a:lnTo>
                    <a:pt x="1152" y="497"/>
                  </a:lnTo>
                  <a:lnTo>
                    <a:pt x="1164" y="498"/>
                  </a:lnTo>
                  <a:lnTo>
                    <a:pt x="1176" y="499"/>
                  </a:lnTo>
                  <a:lnTo>
                    <a:pt x="1188" y="501"/>
                  </a:lnTo>
                  <a:lnTo>
                    <a:pt x="1201" y="501"/>
                  </a:lnTo>
                  <a:lnTo>
                    <a:pt x="1216" y="502"/>
                  </a:lnTo>
                  <a:lnTo>
                    <a:pt x="1230" y="502"/>
                  </a:lnTo>
                  <a:lnTo>
                    <a:pt x="1246" y="502"/>
                  </a:lnTo>
                  <a:lnTo>
                    <a:pt x="1260" y="502"/>
                  </a:lnTo>
                  <a:lnTo>
                    <a:pt x="1275" y="501"/>
                  </a:lnTo>
                  <a:lnTo>
                    <a:pt x="1290" y="499"/>
                  </a:lnTo>
                  <a:lnTo>
                    <a:pt x="1305" y="497"/>
                  </a:lnTo>
                  <a:lnTo>
                    <a:pt x="1319" y="496"/>
                  </a:lnTo>
                  <a:lnTo>
                    <a:pt x="1329" y="493"/>
                  </a:lnTo>
                  <a:lnTo>
                    <a:pt x="1339" y="491"/>
                  </a:lnTo>
                  <a:lnTo>
                    <a:pt x="1349" y="489"/>
                  </a:lnTo>
                  <a:lnTo>
                    <a:pt x="1360" y="485"/>
                  </a:lnTo>
                  <a:lnTo>
                    <a:pt x="1369" y="481"/>
                  </a:lnTo>
                  <a:lnTo>
                    <a:pt x="1378" y="477"/>
                  </a:lnTo>
                  <a:lnTo>
                    <a:pt x="1387" y="472"/>
                  </a:lnTo>
                  <a:lnTo>
                    <a:pt x="1396" y="466"/>
                  </a:lnTo>
                  <a:lnTo>
                    <a:pt x="1404" y="460"/>
                  </a:lnTo>
                  <a:lnTo>
                    <a:pt x="1413" y="453"/>
                  </a:lnTo>
                  <a:lnTo>
                    <a:pt x="1422" y="445"/>
                  </a:lnTo>
                  <a:lnTo>
                    <a:pt x="1429" y="437"/>
                  </a:lnTo>
                  <a:lnTo>
                    <a:pt x="1437" y="429"/>
                  </a:lnTo>
                  <a:lnTo>
                    <a:pt x="1441" y="419"/>
                  </a:lnTo>
                  <a:lnTo>
                    <a:pt x="1443" y="415"/>
                  </a:lnTo>
                  <a:lnTo>
                    <a:pt x="1444" y="411"/>
                  </a:lnTo>
                  <a:lnTo>
                    <a:pt x="1444" y="406"/>
                  </a:lnTo>
                  <a:lnTo>
                    <a:pt x="1443" y="401"/>
                  </a:lnTo>
                  <a:lnTo>
                    <a:pt x="1441" y="396"/>
                  </a:lnTo>
                  <a:lnTo>
                    <a:pt x="1439" y="391"/>
                  </a:lnTo>
                  <a:lnTo>
                    <a:pt x="1435" y="388"/>
                  </a:lnTo>
                  <a:lnTo>
                    <a:pt x="1432" y="384"/>
                  </a:lnTo>
                  <a:lnTo>
                    <a:pt x="1422" y="378"/>
                  </a:lnTo>
                  <a:lnTo>
                    <a:pt x="1411" y="375"/>
                  </a:lnTo>
                  <a:lnTo>
                    <a:pt x="1401" y="370"/>
                  </a:lnTo>
                  <a:lnTo>
                    <a:pt x="1389" y="368"/>
                  </a:lnTo>
                  <a:lnTo>
                    <a:pt x="1377" y="364"/>
                  </a:lnTo>
                  <a:lnTo>
                    <a:pt x="1366" y="359"/>
                  </a:lnTo>
                  <a:lnTo>
                    <a:pt x="1354" y="354"/>
                  </a:lnTo>
                  <a:lnTo>
                    <a:pt x="1341" y="351"/>
                  </a:lnTo>
                  <a:lnTo>
                    <a:pt x="1329" y="347"/>
                  </a:lnTo>
                  <a:lnTo>
                    <a:pt x="1315" y="344"/>
                  </a:lnTo>
                  <a:lnTo>
                    <a:pt x="1302" y="339"/>
                  </a:lnTo>
                  <a:lnTo>
                    <a:pt x="1290" y="335"/>
                  </a:lnTo>
                  <a:lnTo>
                    <a:pt x="1278" y="330"/>
                  </a:lnTo>
                  <a:lnTo>
                    <a:pt x="1266" y="324"/>
                  </a:lnTo>
                  <a:lnTo>
                    <a:pt x="1258" y="320"/>
                  </a:lnTo>
                  <a:lnTo>
                    <a:pt x="1251" y="315"/>
                  </a:lnTo>
                  <a:lnTo>
                    <a:pt x="1243" y="310"/>
                  </a:lnTo>
                  <a:lnTo>
                    <a:pt x="1236" y="304"/>
                  </a:lnTo>
                  <a:lnTo>
                    <a:pt x="1230" y="298"/>
                  </a:lnTo>
                  <a:lnTo>
                    <a:pt x="1224" y="291"/>
                  </a:lnTo>
                  <a:lnTo>
                    <a:pt x="1218" y="284"/>
                  </a:lnTo>
                  <a:lnTo>
                    <a:pt x="1212" y="278"/>
                  </a:lnTo>
                  <a:lnTo>
                    <a:pt x="1207" y="269"/>
                  </a:lnTo>
                  <a:lnTo>
                    <a:pt x="1203" y="262"/>
                  </a:lnTo>
                  <a:lnTo>
                    <a:pt x="1198" y="255"/>
                  </a:lnTo>
                  <a:lnTo>
                    <a:pt x="1194" y="246"/>
                  </a:lnTo>
                  <a:lnTo>
                    <a:pt x="1191" y="238"/>
                  </a:lnTo>
                  <a:lnTo>
                    <a:pt x="1188" y="230"/>
                  </a:lnTo>
                  <a:lnTo>
                    <a:pt x="1185" y="221"/>
                  </a:lnTo>
                  <a:lnTo>
                    <a:pt x="1183" y="213"/>
                  </a:lnTo>
                  <a:lnTo>
                    <a:pt x="1182" y="206"/>
                  </a:lnTo>
                  <a:lnTo>
                    <a:pt x="1181" y="200"/>
                  </a:lnTo>
                  <a:lnTo>
                    <a:pt x="1181" y="194"/>
                  </a:lnTo>
                  <a:lnTo>
                    <a:pt x="1181" y="186"/>
                  </a:lnTo>
                  <a:lnTo>
                    <a:pt x="1181" y="180"/>
                  </a:lnTo>
                  <a:lnTo>
                    <a:pt x="1182" y="174"/>
                  </a:lnTo>
                  <a:lnTo>
                    <a:pt x="1186" y="170"/>
                  </a:lnTo>
                  <a:lnTo>
                    <a:pt x="1189" y="165"/>
                  </a:lnTo>
                  <a:lnTo>
                    <a:pt x="1195" y="160"/>
                  </a:lnTo>
                  <a:lnTo>
                    <a:pt x="1201" y="158"/>
                  </a:lnTo>
                  <a:lnTo>
                    <a:pt x="1209" y="155"/>
                  </a:lnTo>
                  <a:lnTo>
                    <a:pt x="1217" y="154"/>
                  </a:lnTo>
                  <a:lnTo>
                    <a:pt x="1224" y="153"/>
                  </a:lnTo>
                  <a:lnTo>
                    <a:pt x="1233" y="153"/>
                  </a:lnTo>
                  <a:lnTo>
                    <a:pt x="1240" y="153"/>
                  </a:lnTo>
                  <a:lnTo>
                    <a:pt x="1248" y="153"/>
                  </a:lnTo>
                  <a:lnTo>
                    <a:pt x="1258" y="155"/>
                  </a:lnTo>
                  <a:lnTo>
                    <a:pt x="1267" y="158"/>
                  </a:lnTo>
                  <a:lnTo>
                    <a:pt x="1277" y="160"/>
                  </a:lnTo>
                  <a:lnTo>
                    <a:pt x="1287" y="164"/>
                  </a:lnTo>
                  <a:lnTo>
                    <a:pt x="1296" y="167"/>
                  </a:lnTo>
                  <a:lnTo>
                    <a:pt x="1306" y="171"/>
                  </a:lnTo>
                  <a:lnTo>
                    <a:pt x="1315" y="174"/>
                  </a:lnTo>
                  <a:lnTo>
                    <a:pt x="1325" y="177"/>
                  </a:lnTo>
                  <a:lnTo>
                    <a:pt x="1337" y="179"/>
                  </a:lnTo>
                  <a:lnTo>
                    <a:pt x="1348" y="182"/>
                  </a:lnTo>
                  <a:lnTo>
                    <a:pt x="1360" y="183"/>
                  </a:lnTo>
                  <a:lnTo>
                    <a:pt x="1372" y="184"/>
                  </a:lnTo>
                  <a:lnTo>
                    <a:pt x="1384" y="185"/>
                  </a:lnTo>
                  <a:lnTo>
                    <a:pt x="1396" y="186"/>
                  </a:lnTo>
                  <a:lnTo>
                    <a:pt x="1408" y="188"/>
                  </a:lnTo>
                  <a:lnTo>
                    <a:pt x="1420" y="189"/>
                  </a:lnTo>
                  <a:lnTo>
                    <a:pt x="1433" y="189"/>
                  </a:lnTo>
                  <a:lnTo>
                    <a:pt x="1446" y="190"/>
                  </a:lnTo>
                  <a:lnTo>
                    <a:pt x="1459" y="190"/>
                  </a:lnTo>
                  <a:lnTo>
                    <a:pt x="1473" y="190"/>
                  </a:lnTo>
                  <a:lnTo>
                    <a:pt x="1486" y="190"/>
                  </a:lnTo>
                  <a:lnTo>
                    <a:pt x="1499" y="190"/>
                  </a:lnTo>
                  <a:lnTo>
                    <a:pt x="1512" y="189"/>
                  </a:lnTo>
                  <a:lnTo>
                    <a:pt x="1525" y="189"/>
                  </a:lnTo>
                  <a:lnTo>
                    <a:pt x="1535" y="188"/>
                  </a:lnTo>
                  <a:lnTo>
                    <a:pt x="1543" y="186"/>
                  </a:lnTo>
                  <a:lnTo>
                    <a:pt x="1552" y="185"/>
                  </a:lnTo>
                  <a:lnTo>
                    <a:pt x="1561" y="184"/>
                  </a:lnTo>
                  <a:lnTo>
                    <a:pt x="1570" y="183"/>
                  </a:lnTo>
                  <a:lnTo>
                    <a:pt x="1579" y="182"/>
                  </a:lnTo>
                  <a:lnTo>
                    <a:pt x="1588" y="182"/>
                  </a:lnTo>
                  <a:lnTo>
                    <a:pt x="1596" y="183"/>
                  </a:lnTo>
                  <a:lnTo>
                    <a:pt x="1603" y="184"/>
                  </a:lnTo>
                  <a:lnTo>
                    <a:pt x="1612" y="186"/>
                  </a:lnTo>
                  <a:lnTo>
                    <a:pt x="1619" y="190"/>
                  </a:lnTo>
                  <a:lnTo>
                    <a:pt x="1626" y="192"/>
                  </a:lnTo>
                  <a:lnTo>
                    <a:pt x="1632" y="197"/>
                  </a:lnTo>
                  <a:lnTo>
                    <a:pt x="1638" y="202"/>
                  </a:lnTo>
                  <a:lnTo>
                    <a:pt x="1644" y="207"/>
                  </a:lnTo>
                  <a:lnTo>
                    <a:pt x="1649" y="213"/>
                  </a:lnTo>
                  <a:lnTo>
                    <a:pt x="1654" y="219"/>
                  </a:lnTo>
                  <a:lnTo>
                    <a:pt x="1657" y="225"/>
                  </a:lnTo>
                  <a:lnTo>
                    <a:pt x="1660" y="233"/>
                  </a:lnTo>
                  <a:lnTo>
                    <a:pt x="1661" y="240"/>
                  </a:lnTo>
                  <a:lnTo>
                    <a:pt x="1663" y="248"/>
                  </a:lnTo>
                  <a:lnTo>
                    <a:pt x="1665" y="256"/>
                  </a:lnTo>
                  <a:lnTo>
                    <a:pt x="1666" y="263"/>
                  </a:lnTo>
                  <a:lnTo>
                    <a:pt x="1667" y="272"/>
                  </a:lnTo>
                  <a:lnTo>
                    <a:pt x="1672" y="291"/>
                  </a:lnTo>
                  <a:lnTo>
                    <a:pt x="1677" y="311"/>
                  </a:lnTo>
                  <a:lnTo>
                    <a:pt x="1681" y="330"/>
                  </a:lnTo>
                  <a:lnTo>
                    <a:pt x="1686" y="351"/>
                  </a:lnTo>
                  <a:lnTo>
                    <a:pt x="1691" y="370"/>
                  </a:lnTo>
                  <a:lnTo>
                    <a:pt x="1696" y="390"/>
                  </a:lnTo>
                  <a:lnTo>
                    <a:pt x="1699" y="411"/>
                  </a:lnTo>
                  <a:lnTo>
                    <a:pt x="1703" y="430"/>
                  </a:lnTo>
                  <a:lnTo>
                    <a:pt x="1705" y="449"/>
                  </a:lnTo>
                  <a:lnTo>
                    <a:pt x="1707" y="467"/>
                  </a:lnTo>
                  <a:lnTo>
                    <a:pt x="1707" y="486"/>
                  </a:lnTo>
                  <a:lnTo>
                    <a:pt x="1708" y="504"/>
                  </a:lnTo>
                  <a:lnTo>
                    <a:pt x="1708" y="523"/>
                  </a:lnTo>
                  <a:lnTo>
                    <a:pt x="1709" y="541"/>
                  </a:lnTo>
                  <a:lnTo>
                    <a:pt x="1711" y="559"/>
                  </a:lnTo>
                  <a:lnTo>
                    <a:pt x="1715" y="577"/>
                  </a:lnTo>
                  <a:lnTo>
                    <a:pt x="1717" y="589"/>
                  </a:lnTo>
                  <a:lnTo>
                    <a:pt x="1721" y="601"/>
                  </a:lnTo>
                  <a:lnTo>
                    <a:pt x="1725" y="613"/>
                  </a:lnTo>
                  <a:lnTo>
                    <a:pt x="1729" y="625"/>
                  </a:lnTo>
                  <a:lnTo>
                    <a:pt x="1734" y="637"/>
                  </a:lnTo>
                  <a:lnTo>
                    <a:pt x="1740" y="647"/>
                  </a:lnTo>
                  <a:lnTo>
                    <a:pt x="1747" y="658"/>
                  </a:lnTo>
                  <a:lnTo>
                    <a:pt x="1756" y="666"/>
                  </a:lnTo>
                  <a:lnTo>
                    <a:pt x="1762" y="671"/>
                  </a:lnTo>
                  <a:lnTo>
                    <a:pt x="1769" y="675"/>
                  </a:lnTo>
                  <a:lnTo>
                    <a:pt x="1776" y="677"/>
                  </a:lnTo>
                  <a:lnTo>
                    <a:pt x="1785" y="678"/>
                  </a:lnTo>
                  <a:lnTo>
                    <a:pt x="1793" y="679"/>
                  </a:lnTo>
                  <a:lnTo>
                    <a:pt x="1801" y="678"/>
                  </a:lnTo>
                  <a:lnTo>
                    <a:pt x="1809" y="676"/>
                  </a:lnTo>
                  <a:lnTo>
                    <a:pt x="1815" y="672"/>
                  </a:lnTo>
                  <a:lnTo>
                    <a:pt x="1829" y="661"/>
                  </a:lnTo>
                  <a:lnTo>
                    <a:pt x="1841" y="649"/>
                  </a:lnTo>
                  <a:lnTo>
                    <a:pt x="1852" y="637"/>
                  </a:lnTo>
                  <a:lnTo>
                    <a:pt x="1863" y="623"/>
                  </a:lnTo>
                  <a:lnTo>
                    <a:pt x="1873" y="609"/>
                  </a:lnTo>
                  <a:lnTo>
                    <a:pt x="1883" y="594"/>
                  </a:lnTo>
                  <a:lnTo>
                    <a:pt x="1894" y="580"/>
                  </a:lnTo>
                  <a:lnTo>
                    <a:pt x="1903" y="567"/>
                  </a:lnTo>
                  <a:lnTo>
                    <a:pt x="1917" y="549"/>
                  </a:lnTo>
                  <a:lnTo>
                    <a:pt x="1929" y="531"/>
                  </a:lnTo>
                  <a:lnTo>
                    <a:pt x="1942" y="513"/>
                  </a:lnTo>
                  <a:lnTo>
                    <a:pt x="1954" y="495"/>
                  </a:lnTo>
                  <a:lnTo>
                    <a:pt x="1966" y="477"/>
                  </a:lnTo>
                  <a:lnTo>
                    <a:pt x="1978" y="460"/>
                  </a:lnTo>
                  <a:lnTo>
                    <a:pt x="1991" y="442"/>
                  </a:lnTo>
                  <a:lnTo>
                    <a:pt x="2004" y="425"/>
                  </a:lnTo>
                  <a:lnTo>
                    <a:pt x="2014" y="412"/>
                  </a:lnTo>
                  <a:lnTo>
                    <a:pt x="2023" y="400"/>
                  </a:lnTo>
                  <a:lnTo>
                    <a:pt x="2033" y="388"/>
                  </a:lnTo>
                  <a:lnTo>
                    <a:pt x="2043" y="375"/>
                  </a:lnTo>
                  <a:lnTo>
                    <a:pt x="2053" y="364"/>
                  </a:lnTo>
                  <a:lnTo>
                    <a:pt x="2064" y="352"/>
                  </a:lnTo>
                  <a:lnTo>
                    <a:pt x="2075" y="341"/>
                  </a:lnTo>
                  <a:lnTo>
                    <a:pt x="2087" y="330"/>
                  </a:lnTo>
                  <a:lnTo>
                    <a:pt x="2093" y="324"/>
                  </a:lnTo>
                  <a:lnTo>
                    <a:pt x="2100" y="318"/>
                  </a:lnTo>
                  <a:lnTo>
                    <a:pt x="2109" y="312"/>
                  </a:lnTo>
                  <a:lnTo>
                    <a:pt x="2116" y="306"/>
                  </a:lnTo>
                  <a:lnTo>
                    <a:pt x="2124" y="303"/>
                  </a:lnTo>
                  <a:lnTo>
                    <a:pt x="2131" y="300"/>
                  </a:lnTo>
                  <a:lnTo>
                    <a:pt x="2134" y="300"/>
                  </a:lnTo>
                  <a:lnTo>
                    <a:pt x="2136" y="302"/>
                  </a:lnTo>
                  <a:lnTo>
                    <a:pt x="2139" y="304"/>
                  </a:lnTo>
                  <a:lnTo>
                    <a:pt x="2140" y="306"/>
                  </a:lnTo>
                  <a:lnTo>
                    <a:pt x="2145" y="327"/>
                  </a:lnTo>
                  <a:lnTo>
                    <a:pt x="2148" y="348"/>
                  </a:lnTo>
                  <a:lnTo>
                    <a:pt x="2149" y="370"/>
                  </a:lnTo>
                  <a:lnTo>
                    <a:pt x="2149" y="391"/>
                  </a:lnTo>
                  <a:lnTo>
                    <a:pt x="2147" y="413"/>
                  </a:lnTo>
                  <a:lnTo>
                    <a:pt x="2143" y="436"/>
                  </a:lnTo>
                  <a:lnTo>
                    <a:pt x="2139" y="456"/>
                  </a:lnTo>
                  <a:lnTo>
                    <a:pt x="2134" y="478"/>
                  </a:lnTo>
                  <a:lnTo>
                    <a:pt x="2123" y="514"/>
                  </a:lnTo>
                  <a:lnTo>
                    <a:pt x="2110" y="551"/>
                  </a:lnTo>
                  <a:lnTo>
                    <a:pt x="2097" y="586"/>
                  </a:lnTo>
                  <a:lnTo>
                    <a:pt x="2081" y="622"/>
                  </a:lnTo>
                  <a:lnTo>
                    <a:pt x="2065" y="657"/>
                  </a:lnTo>
                  <a:lnTo>
                    <a:pt x="2049" y="691"/>
                  </a:lnTo>
                  <a:lnTo>
                    <a:pt x="2032" y="726"/>
                  </a:lnTo>
                  <a:lnTo>
                    <a:pt x="2016" y="761"/>
                  </a:lnTo>
                  <a:lnTo>
                    <a:pt x="2007" y="780"/>
                  </a:lnTo>
                  <a:lnTo>
                    <a:pt x="1997" y="799"/>
                  </a:lnTo>
                  <a:lnTo>
                    <a:pt x="1986" y="819"/>
                  </a:lnTo>
                  <a:lnTo>
                    <a:pt x="1975" y="837"/>
                  </a:lnTo>
                  <a:lnTo>
                    <a:pt x="1965" y="856"/>
                  </a:lnTo>
                  <a:lnTo>
                    <a:pt x="1953" y="874"/>
                  </a:lnTo>
                  <a:lnTo>
                    <a:pt x="1941" y="892"/>
                  </a:lnTo>
                  <a:lnTo>
                    <a:pt x="1927" y="909"/>
                  </a:lnTo>
                  <a:lnTo>
                    <a:pt x="1918" y="918"/>
                  </a:lnTo>
                  <a:lnTo>
                    <a:pt x="1907" y="928"/>
                  </a:lnTo>
                  <a:lnTo>
                    <a:pt x="1896" y="937"/>
                  </a:lnTo>
                  <a:lnTo>
                    <a:pt x="1884" y="945"/>
                  </a:lnTo>
                  <a:lnTo>
                    <a:pt x="1872" y="953"/>
                  </a:lnTo>
                  <a:lnTo>
                    <a:pt x="1861" y="961"/>
                  </a:lnTo>
                  <a:lnTo>
                    <a:pt x="1849" y="970"/>
                  </a:lnTo>
                  <a:lnTo>
                    <a:pt x="1839" y="979"/>
                  </a:lnTo>
                  <a:lnTo>
                    <a:pt x="1834" y="983"/>
                  </a:lnTo>
                  <a:lnTo>
                    <a:pt x="1828" y="988"/>
                  </a:lnTo>
                  <a:lnTo>
                    <a:pt x="1823" y="993"/>
                  </a:lnTo>
                  <a:lnTo>
                    <a:pt x="1817" y="997"/>
                  </a:lnTo>
                  <a:lnTo>
                    <a:pt x="1812" y="1002"/>
                  </a:lnTo>
                  <a:lnTo>
                    <a:pt x="1809" y="1008"/>
                  </a:lnTo>
                  <a:lnTo>
                    <a:pt x="1805" y="1014"/>
                  </a:lnTo>
                  <a:lnTo>
                    <a:pt x="1803" y="1020"/>
                  </a:lnTo>
                  <a:lnTo>
                    <a:pt x="1801" y="1029"/>
                  </a:lnTo>
                  <a:lnTo>
                    <a:pt x="1800" y="1036"/>
                  </a:lnTo>
                  <a:lnTo>
                    <a:pt x="1800" y="1044"/>
                  </a:lnTo>
                  <a:lnTo>
                    <a:pt x="1801" y="1053"/>
                  </a:lnTo>
                  <a:lnTo>
                    <a:pt x="1803" y="1061"/>
                  </a:lnTo>
                  <a:lnTo>
                    <a:pt x="1805" y="1068"/>
                  </a:lnTo>
                  <a:lnTo>
                    <a:pt x="1810" y="1074"/>
                  </a:lnTo>
                  <a:lnTo>
                    <a:pt x="1815" y="1079"/>
                  </a:lnTo>
                  <a:lnTo>
                    <a:pt x="1827" y="1086"/>
                  </a:lnTo>
                  <a:lnTo>
                    <a:pt x="1840" y="1091"/>
                  </a:lnTo>
                  <a:lnTo>
                    <a:pt x="1853" y="1095"/>
                  </a:lnTo>
                  <a:lnTo>
                    <a:pt x="1866" y="1098"/>
                  </a:lnTo>
                  <a:lnTo>
                    <a:pt x="1879" y="1099"/>
                  </a:lnTo>
                  <a:lnTo>
                    <a:pt x="1894" y="1099"/>
                  </a:lnTo>
                  <a:lnTo>
                    <a:pt x="1908" y="1098"/>
                  </a:lnTo>
                  <a:lnTo>
                    <a:pt x="1921" y="1097"/>
                  </a:lnTo>
                  <a:lnTo>
                    <a:pt x="1936" y="1095"/>
                  </a:lnTo>
                  <a:lnTo>
                    <a:pt x="1950" y="1090"/>
                  </a:lnTo>
                  <a:lnTo>
                    <a:pt x="1965" y="1085"/>
                  </a:lnTo>
                  <a:lnTo>
                    <a:pt x="1979" y="1079"/>
                  </a:lnTo>
                  <a:lnTo>
                    <a:pt x="1992" y="1072"/>
                  </a:lnTo>
                  <a:lnTo>
                    <a:pt x="2005" y="1063"/>
                  </a:lnTo>
                  <a:lnTo>
                    <a:pt x="2017" y="1054"/>
                  </a:lnTo>
                  <a:lnTo>
                    <a:pt x="2027" y="1044"/>
                  </a:lnTo>
                  <a:lnTo>
                    <a:pt x="2037" y="1033"/>
                  </a:lnTo>
                  <a:lnTo>
                    <a:pt x="2045" y="1023"/>
                  </a:lnTo>
                  <a:lnTo>
                    <a:pt x="2053" y="1012"/>
                  </a:lnTo>
                  <a:lnTo>
                    <a:pt x="2061" y="1000"/>
                  </a:lnTo>
                  <a:lnTo>
                    <a:pt x="2075" y="976"/>
                  </a:lnTo>
                  <a:lnTo>
                    <a:pt x="2088" y="951"/>
                  </a:lnTo>
                  <a:lnTo>
                    <a:pt x="2101" y="927"/>
                  </a:lnTo>
                  <a:lnTo>
                    <a:pt x="2115" y="901"/>
                  </a:lnTo>
                  <a:lnTo>
                    <a:pt x="2129" y="877"/>
                  </a:lnTo>
                  <a:lnTo>
                    <a:pt x="2146" y="855"/>
                  </a:lnTo>
                  <a:lnTo>
                    <a:pt x="2158" y="840"/>
                  </a:lnTo>
                  <a:lnTo>
                    <a:pt x="2171" y="826"/>
                  </a:lnTo>
                  <a:lnTo>
                    <a:pt x="2184" y="811"/>
                  </a:lnTo>
                  <a:lnTo>
                    <a:pt x="2197" y="798"/>
                  </a:lnTo>
                  <a:lnTo>
                    <a:pt x="2212" y="785"/>
                  </a:lnTo>
                  <a:lnTo>
                    <a:pt x="2227" y="772"/>
                  </a:lnTo>
                  <a:lnTo>
                    <a:pt x="2242" y="760"/>
                  </a:lnTo>
                  <a:lnTo>
                    <a:pt x="2257" y="749"/>
                  </a:lnTo>
                  <a:lnTo>
                    <a:pt x="2268" y="742"/>
                  </a:lnTo>
                  <a:lnTo>
                    <a:pt x="2278" y="735"/>
                  </a:lnTo>
                  <a:lnTo>
                    <a:pt x="2289" y="729"/>
                  </a:lnTo>
                  <a:lnTo>
                    <a:pt x="2299" y="723"/>
                  </a:lnTo>
                  <a:lnTo>
                    <a:pt x="2311" y="718"/>
                  </a:lnTo>
                  <a:lnTo>
                    <a:pt x="2323" y="715"/>
                  </a:lnTo>
                  <a:lnTo>
                    <a:pt x="2334" y="713"/>
                  </a:lnTo>
                  <a:lnTo>
                    <a:pt x="2346" y="713"/>
                  </a:lnTo>
                  <a:lnTo>
                    <a:pt x="2358" y="715"/>
                  </a:lnTo>
                  <a:lnTo>
                    <a:pt x="2368" y="720"/>
                  </a:lnTo>
                  <a:lnTo>
                    <a:pt x="2379" y="726"/>
                  </a:lnTo>
                  <a:lnTo>
                    <a:pt x="2388" y="733"/>
                  </a:lnTo>
                  <a:lnTo>
                    <a:pt x="2398" y="741"/>
                  </a:lnTo>
                  <a:lnTo>
                    <a:pt x="2406" y="749"/>
                  </a:lnTo>
                  <a:lnTo>
                    <a:pt x="2415" y="759"/>
                  </a:lnTo>
                  <a:lnTo>
                    <a:pt x="2423" y="767"/>
                  </a:lnTo>
                  <a:lnTo>
                    <a:pt x="2431" y="775"/>
                  </a:lnTo>
                  <a:lnTo>
                    <a:pt x="2439" y="785"/>
                  </a:lnTo>
                  <a:lnTo>
                    <a:pt x="2446" y="796"/>
                  </a:lnTo>
                  <a:lnTo>
                    <a:pt x="2452" y="807"/>
                  </a:lnTo>
                  <a:lnTo>
                    <a:pt x="2458" y="817"/>
                  </a:lnTo>
                  <a:lnTo>
                    <a:pt x="2464" y="828"/>
                  </a:lnTo>
                  <a:lnTo>
                    <a:pt x="2470" y="839"/>
                  </a:lnTo>
                  <a:lnTo>
                    <a:pt x="2476" y="850"/>
                  </a:lnTo>
                  <a:lnTo>
                    <a:pt x="2485" y="864"/>
                  </a:lnTo>
                  <a:lnTo>
                    <a:pt x="2495" y="880"/>
                  </a:lnTo>
                  <a:lnTo>
                    <a:pt x="2505" y="894"/>
                  </a:lnTo>
                  <a:lnTo>
                    <a:pt x="2514" y="910"/>
                  </a:lnTo>
                  <a:lnTo>
                    <a:pt x="2524" y="925"/>
                  </a:lnTo>
                  <a:lnTo>
                    <a:pt x="2532" y="941"/>
                  </a:lnTo>
                  <a:lnTo>
                    <a:pt x="2541" y="957"/>
                  </a:lnTo>
                  <a:lnTo>
                    <a:pt x="2547" y="973"/>
                  </a:lnTo>
                  <a:lnTo>
                    <a:pt x="2551" y="983"/>
                  </a:lnTo>
                  <a:lnTo>
                    <a:pt x="2554" y="993"/>
                  </a:lnTo>
                  <a:lnTo>
                    <a:pt x="2556" y="1003"/>
                  </a:lnTo>
                  <a:lnTo>
                    <a:pt x="2559" y="1014"/>
                  </a:lnTo>
                  <a:lnTo>
                    <a:pt x="2560" y="1024"/>
                  </a:lnTo>
                  <a:lnTo>
                    <a:pt x="2561" y="1035"/>
                  </a:lnTo>
                  <a:lnTo>
                    <a:pt x="2560" y="1045"/>
                  </a:lnTo>
                  <a:lnTo>
                    <a:pt x="2559" y="1056"/>
                  </a:lnTo>
                  <a:lnTo>
                    <a:pt x="2557" y="1062"/>
                  </a:lnTo>
                  <a:lnTo>
                    <a:pt x="2555" y="1069"/>
                  </a:lnTo>
                  <a:lnTo>
                    <a:pt x="2551" y="1077"/>
                  </a:lnTo>
                  <a:lnTo>
                    <a:pt x="2547" y="1083"/>
                  </a:lnTo>
                  <a:lnTo>
                    <a:pt x="2542" y="1089"/>
                  </a:lnTo>
                  <a:lnTo>
                    <a:pt x="2536" y="1092"/>
                  </a:lnTo>
                  <a:lnTo>
                    <a:pt x="2530" y="1096"/>
                  </a:lnTo>
                  <a:lnTo>
                    <a:pt x="2524" y="1097"/>
                  </a:lnTo>
                  <a:lnTo>
                    <a:pt x="2513" y="1097"/>
                  </a:lnTo>
                  <a:lnTo>
                    <a:pt x="2502" y="1095"/>
                  </a:lnTo>
                  <a:lnTo>
                    <a:pt x="2493" y="1091"/>
                  </a:lnTo>
                  <a:lnTo>
                    <a:pt x="2482" y="1087"/>
                  </a:lnTo>
                  <a:lnTo>
                    <a:pt x="2472" y="1081"/>
                  </a:lnTo>
                  <a:lnTo>
                    <a:pt x="2464" y="1075"/>
                  </a:lnTo>
                  <a:lnTo>
                    <a:pt x="2455" y="1068"/>
                  </a:lnTo>
                  <a:lnTo>
                    <a:pt x="2447" y="1062"/>
                  </a:lnTo>
                  <a:lnTo>
                    <a:pt x="2436" y="1050"/>
                  </a:lnTo>
                  <a:lnTo>
                    <a:pt x="2427" y="1039"/>
                  </a:lnTo>
                  <a:lnTo>
                    <a:pt x="2417" y="1026"/>
                  </a:lnTo>
                  <a:lnTo>
                    <a:pt x="2409" y="1013"/>
                  </a:lnTo>
                  <a:lnTo>
                    <a:pt x="2401" y="1000"/>
                  </a:lnTo>
                  <a:lnTo>
                    <a:pt x="2393" y="987"/>
                  </a:lnTo>
                  <a:lnTo>
                    <a:pt x="2385" y="973"/>
                  </a:lnTo>
                  <a:lnTo>
                    <a:pt x="2376" y="961"/>
                  </a:lnTo>
                  <a:lnTo>
                    <a:pt x="2370" y="953"/>
                  </a:lnTo>
                  <a:lnTo>
                    <a:pt x="2365" y="946"/>
                  </a:lnTo>
                  <a:lnTo>
                    <a:pt x="2359" y="937"/>
                  </a:lnTo>
                  <a:lnTo>
                    <a:pt x="2355" y="930"/>
                  </a:lnTo>
                  <a:lnTo>
                    <a:pt x="2349" y="922"/>
                  </a:lnTo>
                  <a:lnTo>
                    <a:pt x="2343" y="915"/>
                  </a:lnTo>
                  <a:lnTo>
                    <a:pt x="2335" y="909"/>
                  </a:lnTo>
                  <a:lnTo>
                    <a:pt x="2328" y="903"/>
                  </a:lnTo>
                  <a:lnTo>
                    <a:pt x="2326" y="900"/>
                  </a:lnTo>
                  <a:lnTo>
                    <a:pt x="2321" y="899"/>
                  </a:lnTo>
                  <a:lnTo>
                    <a:pt x="2317" y="898"/>
                  </a:lnTo>
                  <a:lnTo>
                    <a:pt x="2313" y="897"/>
                  </a:lnTo>
                  <a:lnTo>
                    <a:pt x="2309" y="898"/>
                  </a:lnTo>
                  <a:lnTo>
                    <a:pt x="2305" y="898"/>
                  </a:lnTo>
                  <a:lnTo>
                    <a:pt x="2302" y="900"/>
                  </a:lnTo>
                  <a:lnTo>
                    <a:pt x="2299" y="903"/>
                  </a:lnTo>
                  <a:lnTo>
                    <a:pt x="2289" y="918"/>
                  </a:lnTo>
                  <a:lnTo>
                    <a:pt x="2279" y="935"/>
                  </a:lnTo>
                  <a:lnTo>
                    <a:pt x="2271" y="952"/>
                  </a:lnTo>
                  <a:lnTo>
                    <a:pt x="2262" y="969"/>
                  </a:lnTo>
                  <a:lnTo>
                    <a:pt x="2254" y="987"/>
                  </a:lnTo>
                  <a:lnTo>
                    <a:pt x="2247" y="1005"/>
                  </a:lnTo>
                  <a:lnTo>
                    <a:pt x="2238" y="1021"/>
                  </a:lnTo>
                  <a:lnTo>
                    <a:pt x="2229" y="1038"/>
                  </a:lnTo>
                  <a:lnTo>
                    <a:pt x="2218" y="1055"/>
                  </a:lnTo>
                  <a:lnTo>
                    <a:pt x="2208" y="1072"/>
                  </a:lnTo>
                  <a:lnTo>
                    <a:pt x="2197" y="1089"/>
                  </a:lnTo>
                  <a:lnTo>
                    <a:pt x="2187" y="1104"/>
                  </a:lnTo>
                  <a:lnTo>
                    <a:pt x="2176" y="1121"/>
                  </a:lnTo>
                  <a:lnTo>
                    <a:pt x="2164" y="1136"/>
                  </a:lnTo>
                  <a:lnTo>
                    <a:pt x="2152" y="1152"/>
                  </a:lnTo>
                  <a:lnTo>
                    <a:pt x="2140" y="1168"/>
                  </a:lnTo>
                  <a:lnTo>
                    <a:pt x="2128" y="1181"/>
                  </a:lnTo>
                  <a:lnTo>
                    <a:pt x="2115" y="1195"/>
                  </a:lnTo>
                  <a:lnTo>
                    <a:pt x="2103" y="1207"/>
                  </a:lnTo>
                  <a:lnTo>
                    <a:pt x="2089" y="1220"/>
                  </a:lnTo>
                  <a:lnTo>
                    <a:pt x="2075" y="1232"/>
                  </a:lnTo>
                  <a:lnTo>
                    <a:pt x="2062" y="1244"/>
                  </a:lnTo>
                  <a:lnTo>
                    <a:pt x="2047" y="1256"/>
                  </a:lnTo>
                  <a:lnTo>
                    <a:pt x="2033" y="1268"/>
                  </a:lnTo>
                  <a:lnTo>
                    <a:pt x="2023" y="1276"/>
                  </a:lnTo>
                  <a:lnTo>
                    <a:pt x="2013" y="1283"/>
                  </a:lnTo>
                  <a:lnTo>
                    <a:pt x="2002" y="1291"/>
                  </a:lnTo>
                  <a:lnTo>
                    <a:pt x="1991" y="1297"/>
                  </a:lnTo>
                  <a:lnTo>
                    <a:pt x="1980" y="1304"/>
                  </a:lnTo>
                  <a:lnTo>
                    <a:pt x="1968" y="1310"/>
                  </a:lnTo>
                  <a:lnTo>
                    <a:pt x="1956" y="1316"/>
                  </a:lnTo>
                  <a:lnTo>
                    <a:pt x="1945" y="1321"/>
                  </a:lnTo>
                  <a:lnTo>
                    <a:pt x="1935" y="1325"/>
                  </a:lnTo>
                  <a:lnTo>
                    <a:pt x="1924" y="1327"/>
                  </a:lnTo>
                  <a:lnTo>
                    <a:pt x="1912" y="1330"/>
                  </a:lnTo>
                  <a:lnTo>
                    <a:pt x="1901" y="1331"/>
                  </a:lnTo>
                  <a:lnTo>
                    <a:pt x="1890" y="1332"/>
                  </a:lnTo>
                  <a:lnTo>
                    <a:pt x="1878" y="1334"/>
                  </a:lnTo>
                  <a:lnTo>
                    <a:pt x="1867" y="1336"/>
                  </a:lnTo>
                  <a:lnTo>
                    <a:pt x="1857" y="1339"/>
                  </a:lnTo>
                  <a:lnTo>
                    <a:pt x="1849" y="1340"/>
                  </a:lnTo>
                  <a:lnTo>
                    <a:pt x="1841" y="1343"/>
                  </a:lnTo>
                  <a:lnTo>
                    <a:pt x="1834" y="1344"/>
                  </a:lnTo>
                  <a:lnTo>
                    <a:pt x="1827" y="1346"/>
                  </a:lnTo>
                  <a:lnTo>
                    <a:pt x="1819" y="1349"/>
                  </a:lnTo>
                  <a:lnTo>
                    <a:pt x="1812" y="1352"/>
                  </a:lnTo>
                  <a:lnTo>
                    <a:pt x="1807" y="1357"/>
                  </a:lnTo>
                  <a:lnTo>
                    <a:pt x="1803" y="1362"/>
                  </a:lnTo>
                  <a:lnTo>
                    <a:pt x="1801" y="1368"/>
                  </a:lnTo>
                  <a:lnTo>
                    <a:pt x="1801" y="1373"/>
                  </a:lnTo>
                  <a:lnTo>
                    <a:pt x="1803" y="1379"/>
                  </a:lnTo>
                  <a:lnTo>
                    <a:pt x="1805" y="1384"/>
                  </a:lnTo>
                  <a:lnTo>
                    <a:pt x="1809" y="1390"/>
                  </a:lnTo>
                  <a:lnTo>
                    <a:pt x="1812" y="1394"/>
                  </a:lnTo>
                  <a:lnTo>
                    <a:pt x="1817" y="1399"/>
                  </a:lnTo>
                  <a:lnTo>
                    <a:pt x="1821" y="1404"/>
                  </a:lnTo>
                  <a:lnTo>
                    <a:pt x="1830" y="1412"/>
                  </a:lnTo>
                  <a:lnTo>
                    <a:pt x="1841" y="1420"/>
                  </a:lnTo>
                  <a:lnTo>
                    <a:pt x="1852" y="1426"/>
                  </a:lnTo>
                  <a:lnTo>
                    <a:pt x="1863" y="1433"/>
                  </a:lnTo>
                  <a:lnTo>
                    <a:pt x="1875" y="1439"/>
                  </a:lnTo>
                  <a:lnTo>
                    <a:pt x="1885" y="1446"/>
                  </a:lnTo>
                  <a:lnTo>
                    <a:pt x="1895" y="1453"/>
                  </a:lnTo>
                  <a:lnTo>
                    <a:pt x="1903" y="1463"/>
                  </a:lnTo>
                  <a:lnTo>
                    <a:pt x="1912" y="1475"/>
                  </a:lnTo>
                  <a:lnTo>
                    <a:pt x="1920" y="1487"/>
                  </a:lnTo>
                  <a:lnTo>
                    <a:pt x="1926" y="1500"/>
                  </a:lnTo>
                  <a:lnTo>
                    <a:pt x="1933" y="1514"/>
                  </a:lnTo>
                  <a:lnTo>
                    <a:pt x="1939" y="1528"/>
                  </a:lnTo>
                  <a:lnTo>
                    <a:pt x="1944" y="1542"/>
                  </a:lnTo>
                  <a:lnTo>
                    <a:pt x="1950" y="1555"/>
                  </a:lnTo>
                  <a:lnTo>
                    <a:pt x="1956" y="1568"/>
                  </a:lnTo>
                  <a:lnTo>
                    <a:pt x="1965" y="1588"/>
                  </a:lnTo>
                  <a:lnTo>
                    <a:pt x="1973" y="1607"/>
                  </a:lnTo>
                  <a:lnTo>
                    <a:pt x="1980" y="1626"/>
                  </a:lnTo>
                  <a:lnTo>
                    <a:pt x="1987" y="1646"/>
                  </a:lnTo>
                  <a:lnTo>
                    <a:pt x="1995" y="1666"/>
                  </a:lnTo>
                  <a:lnTo>
                    <a:pt x="2004" y="1684"/>
                  </a:lnTo>
                  <a:lnTo>
                    <a:pt x="2009" y="1692"/>
                  </a:lnTo>
                  <a:lnTo>
                    <a:pt x="2015" y="1700"/>
                  </a:lnTo>
                  <a:lnTo>
                    <a:pt x="2021" y="1709"/>
                  </a:lnTo>
                  <a:lnTo>
                    <a:pt x="2027" y="1716"/>
                  </a:lnTo>
                  <a:lnTo>
                    <a:pt x="2044" y="1732"/>
                  </a:lnTo>
                  <a:lnTo>
                    <a:pt x="2062" y="1745"/>
                  </a:lnTo>
                  <a:lnTo>
                    <a:pt x="2080" y="1756"/>
                  </a:lnTo>
                  <a:lnTo>
                    <a:pt x="2100" y="1766"/>
                  </a:lnTo>
                  <a:lnTo>
                    <a:pt x="2119" y="1776"/>
                  </a:lnTo>
                  <a:lnTo>
                    <a:pt x="2141" y="1786"/>
                  </a:lnTo>
                  <a:lnTo>
                    <a:pt x="2161" y="1795"/>
                  </a:lnTo>
                  <a:lnTo>
                    <a:pt x="2181" y="1805"/>
                  </a:lnTo>
                  <a:lnTo>
                    <a:pt x="2195" y="1811"/>
                  </a:lnTo>
                  <a:lnTo>
                    <a:pt x="2211" y="1817"/>
                  </a:lnTo>
                  <a:lnTo>
                    <a:pt x="2225" y="1823"/>
                  </a:lnTo>
                  <a:lnTo>
                    <a:pt x="2241" y="1828"/>
                  </a:lnTo>
                  <a:lnTo>
                    <a:pt x="2256" y="1832"/>
                  </a:lnTo>
                  <a:lnTo>
                    <a:pt x="2271" y="1838"/>
                  </a:lnTo>
                  <a:lnTo>
                    <a:pt x="2285" y="1844"/>
                  </a:lnTo>
                  <a:lnTo>
                    <a:pt x="2299" y="1851"/>
                  </a:lnTo>
                  <a:lnTo>
                    <a:pt x="2305" y="1856"/>
                  </a:lnTo>
                  <a:lnTo>
                    <a:pt x="2313" y="1861"/>
                  </a:lnTo>
                  <a:lnTo>
                    <a:pt x="2319" y="1866"/>
                  </a:lnTo>
                  <a:lnTo>
                    <a:pt x="2325" y="1872"/>
                  </a:lnTo>
                  <a:lnTo>
                    <a:pt x="2329" y="1878"/>
                  </a:lnTo>
                  <a:lnTo>
                    <a:pt x="2334" y="1885"/>
                  </a:lnTo>
                  <a:lnTo>
                    <a:pt x="2338" y="1891"/>
                  </a:lnTo>
                  <a:lnTo>
                    <a:pt x="2340" y="1899"/>
                  </a:lnTo>
                  <a:lnTo>
                    <a:pt x="2343" y="1908"/>
                  </a:lnTo>
                  <a:lnTo>
                    <a:pt x="2344" y="1919"/>
                  </a:lnTo>
                  <a:lnTo>
                    <a:pt x="2345" y="1929"/>
                  </a:lnTo>
                  <a:lnTo>
                    <a:pt x="2345" y="1940"/>
                  </a:lnTo>
                  <a:lnTo>
                    <a:pt x="2344" y="1950"/>
                  </a:lnTo>
                  <a:lnTo>
                    <a:pt x="2340" y="1958"/>
                  </a:lnTo>
                  <a:lnTo>
                    <a:pt x="2339" y="1962"/>
                  </a:lnTo>
                  <a:lnTo>
                    <a:pt x="2335" y="1965"/>
                  </a:lnTo>
                  <a:lnTo>
                    <a:pt x="2333" y="1968"/>
                  </a:lnTo>
                  <a:lnTo>
                    <a:pt x="2328" y="1970"/>
                  </a:lnTo>
                  <a:lnTo>
                    <a:pt x="2321" y="1973"/>
                  </a:lnTo>
                  <a:lnTo>
                    <a:pt x="2314" y="1974"/>
                  </a:lnTo>
                  <a:lnTo>
                    <a:pt x="2307" y="1975"/>
                  </a:lnTo>
                  <a:lnTo>
                    <a:pt x="2298" y="1975"/>
                  </a:lnTo>
                  <a:lnTo>
                    <a:pt x="2283" y="1974"/>
                  </a:lnTo>
                  <a:lnTo>
                    <a:pt x="2267" y="1971"/>
                  </a:lnTo>
                  <a:lnTo>
                    <a:pt x="2251" y="1967"/>
                  </a:lnTo>
                  <a:lnTo>
                    <a:pt x="2236" y="1962"/>
                  </a:lnTo>
                  <a:lnTo>
                    <a:pt x="2220" y="1957"/>
                  </a:lnTo>
                  <a:lnTo>
                    <a:pt x="2205" y="1952"/>
                  </a:lnTo>
                  <a:lnTo>
                    <a:pt x="2188" y="1947"/>
                  </a:lnTo>
                  <a:lnTo>
                    <a:pt x="2171" y="1941"/>
                  </a:lnTo>
                  <a:lnTo>
                    <a:pt x="2155" y="1934"/>
                  </a:lnTo>
                  <a:lnTo>
                    <a:pt x="2139" y="1928"/>
                  </a:lnTo>
                  <a:lnTo>
                    <a:pt x="2123" y="1921"/>
                  </a:lnTo>
                  <a:lnTo>
                    <a:pt x="2106" y="1914"/>
                  </a:lnTo>
                  <a:lnTo>
                    <a:pt x="2091" y="1907"/>
                  </a:lnTo>
                  <a:lnTo>
                    <a:pt x="2075" y="1899"/>
                  </a:lnTo>
                  <a:lnTo>
                    <a:pt x="2055" y="1891"/>
                  </a:lnTo>
                  <a:lnTo>
                    <a:pt x="2035" y="1883"/>
                  </a:lnTo>
                  <a:lnTo>
                    <a:pt x="2015" y="1875"/>
                  </a:lnTo>
                  <a:lnTo>
                    <a:pt x="1996" y="1867"/>
                  </a:lnTo>
                  <a:lnTo>
                    <a:pt x="1977" y="1859"/>
                  </a:lnTo>
                  <a:lnTo>
                    <a:pt x="1957" y="1850"/>
                  </a:lnTo>
                  <a:lnTo>
                    <a:pt x="1939" y="1840"/>
                  </a:lnTo>
                  <a:lnTo>
                    <a:pt x="1921" y="1829"/>
                  </a:lnTo>
                  <a:lnTo>
                    <a:pt x="1908" y="1818"/>
                  </a:lnTo>
                  <a:lnTo>
                    <a:pt x="1896" y="1807"/>
                  </a:lnTo>
                  <a:lnTo>
                    <a:pt x="1884" y="1795"/>
                  </a:lnTo>
                  <a:lnTo>
                    <a:pt x="1873" y="1783"/>
                  </a:lnTo>
                  <a:lnTo>
                    <a:pt x="1864" y="1770"/>
                  </a:lnTo>
                  <a:lnTo>
                    <a:pt x="1854" y="1757"/>
                  </a:lnTo>
                  <a:lnTo>
                    <a:pt x="1846" y="1742"/>
                  </a:lnTo>
                  <a:lnTo>
                    <a:pt x="1839" y="1728"/>
                  </a:lnTo>
                  <a:lnTo>
                    <a:pt x="1835" y="1718"/>
                  </a:lnTo>
                  <a:lnTo>
                    <a:pt x="1833" y="1708"/>
                  </a:lnTo>
                  <a:lnTo>
                    <a:pt x="1831" y="1696"/>
                  </a:lnTo>
                  <a:lnTo>
                    <a:pt x="1831" y="1685"/>
                  </a:lnTo>
                  <a:lnTo>
                    <a:pt x="1831" y="1673"/>
                  </a:lnTo>
                  <a:lnTo>
                    <a:pt x="1830" y="1662"/>
                  </a:lnTo>
                  <a:lnTo>
                    <a:pt x="1829" y="1650"/>
                  </a:lnTo>
                  <a:lnTo>
                    <a:pt x="1827" y="1639"/>
                  </a:lnTo>
                  <a:lnTo>
                    <a:pt x="1823" y="1630"/>
                  </a:lnTo>
                  <a:lnTo>
                    <a:pt x="1819" y="1620"/>
                  </a:lnTo>
                  <a:lnTo>
                    <a:pt x="1816" y="1610"/>
                  </a:lnTo>
                  <a:lnTo>
                    <a:pt x="1811" y="1601"/>
                  </a:lnTo>
                  <a:lnTo>
                    <a:pt x="1805" y="1592"/>
                  </a:lnTo>
                  <a:lnTo>
                    <a:pt x="1800" y="1584"/>
                  </a:lnTo>
                  <a:lnTo>
                    <a:pt x="1793" y="1576"/>
                  </a:lnTo>
                  <a:lnTo>
                    <a:pt x="1786" y="1568"/>
                  </a:lnTo>
                  <a:lnTo>
                    <a:pt x="1780" y="1566"/>
                  </a:lnTo>
                  <a:lnTo>
                    <a:pt x="1774" y="1564"/>
                  </a:lnTo>
                  <a:lnTo>
                    <a:pt x="1768" y="1561"/>
                  </a:lnTo>
                  <a:lnTo>
                    <a:pt x="1762" y="1561"/>
                  </a:lnTo>
                  <a:lnTo>
                    <a:pt x="1755" y="1561"/>
                  </a:lnTo>
                  <a:lnTo>
                    <a:pt x="1749" y="1562"/>
                  </a:lnTo>
                  <a:lnTo>
                    <a:pt x="1743" y="1565"/>
                  </a:lnTo>
                  <a:lnTo>
                    <a:pt x="1738" y="1568"/>
                  </a:lnTo>
                  <a:lnTo>
                    <a:pt x="1732" y="1576"/>
                  </a:lnTo>
                  <a:lnTo>
                    <a:pt x="1727" y="1584"/>
                  </a:lnTo>
                  <a:lnTo>
                    <a:pt x="1723" y="1592"/>
                  </a:lnTo>
                  <a:lnTo>
                    <a:pt x="1721" y="1602"/>
                  </a:lnTo>
                  <a:lnTo>
                    <a:pt x="1719" y="1610"/>
                  </a:lnTo>
                  <a:lnTo>
                    <a:pt x="1717" y="1620"/>
                  </a:lnTo>
                  <a:lnTo>
                    <a:pt x="1715" y="1630"/>
                  </a:lnTo>
                  <a:lnTo>
                    <a:pt x="1715" y="1639"/>
                  </a:lnTo>
                  <a:lnTo>
                    <a:pt x="1713" y="1660"/>
                  </a:lnTo>
                  <a:lnTo>
                    <a:pt x="1713" y="1679"/>
                  </a:lnTo>
                  <a:lnTo>
                    <a:pt x="1711" y="1699"/>
                  </a:lnTo>
                  <a:lnTo>
                    <a:pt x="1713" y="1720"/>
                  </a:lnTo>
                  <a:lnTo>
                    <a:pt x="1713" y="1739"/>
                  </a:lnTo>
                  <a:lnTo>
                    <a:pt x="1714" y="1759"/>
                  </a:lnTo>
                  <a:lnTo>
                    <a:pt x="1714" y="1778"/>
                  </a:lnTo>
                  <a:lnTo>
                    <a:pt x="1715" y="1799"/>
                  </a:lnTo>
                  <a:lnTo>
                    <a:pt x="1715" y="1814"/>
                  </a:lnTo>
                  <a:lnTo>
                    <a:pt x="1716" y="1830"/>
                  </a:lnTo>
                  <a:lnTo>
                    <a:pt x="1719" y="1846"/>
                  </a:lnTo>
                  <a:lnTo>
                    <a:pt x="1720" y="1861"/>
                  </a:lnTo>
                  <a:lnTo>
                    <a:pt x="1721" y="1877"/>
                  </a:lnTo>
                  <a:lnTo>
                    <a:pt x="1722" y="1892"/>
                  </a:lnTo>
                  <a:lnTo>
                    <a:pt x="1722" y="1908"/>
                  </a:lnTo>
                  <a:lnTo>
                    <a:pt x="1721" y="1922"/>
                  </a:lnTo>
                  <a:lnTo>
                    <a:pt x="1719" y="1934"/>
                  </a:lnTo>
                  <a:lnTo>
                    <a:pt x="1715" y="1945"/>
                  </a:lnTo>
                  <a:lnTo>
                    <a:pt x="1710" y="1957"/>
                  </a:lnTo>
                  <a:lnTo>
                    <a:pt x="1705" y="1968"/>
                  </a:lnTo>
                  <a:lnTo>
                    <a:pt x="1701" y="1979"/>
                  </a:lnTo>
                  <a:lnTo>
                    <a:pt x="1695" y="1989"/>
                  </a:lnTo>
                  <a:lnTo>
                    <a:pt x="1690" y="2000"/>
                  </a:lnTo>
                  <a:lnTo>
                    <a:pt x="1685" y="2011"/>
                  </a:lnTo>
                  <a:lnTo>
                    <a:pt x="1680" y="2024"/>
                  </a:lnTo>
                  <a:lnTo>
                    <a:pt x="1675" y="2039"/>
                  </a:lnTo>
                  <a:lnTo>
                    <a:pt x="1672" y="2052"/>
                  </a:lnTo>
                  <a:lnTo>
                    <a:pt x="1667" y="2066"/>
                  </a:lnTo>
                  <a:lnTo>
                    <a:pt x="1662" y="2079"/>
                  </a:lnTo>
                  <a:lnTo>
                    <a:pt x="1657" y="2093"/>
                  </a:lnTo>
                  <a:lnTo>
                    <a:pt x="1651" y="2106"/>
                  </a:lnTo>
                  <a:lnTo>
                    <a:pt x="1644" y="2118"/>
                  </a:lnTo>
                  <a:lnTo>
                    <a:pt x="1636" y="2127"/>
                  </a:lnTo>
                  <a:lnTo>
                    <a:pt x="1627" y="2137"/>
                  </a:lnTo>
                  <a:lnTo>
                    <a:pt x="1619" y="2145"/>
                  </a:lnTo>
                  <a:lnTo>
                    <a:pt x="1609" y="2154"/>
                  </a:lnTo>
                  <a:lnTo>
                    <a:pt x="1599" y="2161"/>
                  </a:lnTo>
                  <a:lnTo>
                    <a:pt x="1588" y="2168"/>
                  </a:lnTo>
                  <a:lnTo>
                    <a:pt x="1578" y="2175"/>
                  </a:lnTo>
                  <a:lnTo>
                    <a:pt x="1567" y="2183"/>
                  </a:lnTo>
                  <a:lnTo>
                    <a:pt x="1560" y="2186"/>
                  </a:lnTo>
                  <a:lnTo>
                    <a:pt x="1553" y="2191"/>
                  </a:lnTo>
                  <a:lnTo>
                    <a:pt x="1545" y="2196"/>
                  </a:lnTo>
                  <a:lnTo>
                    <a:pt x="1537" y="2199"/>
                  </a:lnTo>
                  <a:lnTo>
                    <a:pt x="1529" y="2202"/>
                  </a:lnTo>
                  <a:lnTo>
                    <a:pt x="1522" y="2203"/>
                  </a:lnTo>
                  <a:lnTo>
                    <a:pt x="1518" y="2203"/>
                  </a:lnTo>
                  <a:lnTo>
                    <a:pt x="1515" y="2203"/>
                  </a:lnTo>
                  <a:lnTo>
                    <a:pt x="1511" y="2202"/>
                  </a:lnTo>
                  <a:lnTo>
                    <a:pt x="1507" y="2199"/>
                  </a:lnTo>
                  <a:lnTo>
                    <a:pt x="1500" y="2193"/>
                  </a:lnTo>
                  <a:lnTo>
                    <a:pt x="1494" y="2185"/>
                  </a:lnTo>
                  <a:lnTo>
                    <a:pt x="1488" y="2177"/>
                  </a:lnTo>
                  <a:lnTo>
                    <a:pt x="1485" y="2166"/>
                  </a:lnTo>
                  <a:lnTo>
                    <a:pt x="1482" y="2155"/>
                  </a:lnTo>
                  <a:lnTo>
                    <a:pt x="1480" y="2144"/>
                  </a:lnTo>
                  <a:lnTo>
                    <a:pt x="1479" y="2133"/>
                  </a:lnTo>
                  <a:lnTo>
                    <a:pt x="1479" y="2123"/>
                  </a:lnTo>
                  <a:lnTo>
                    <a:pt x="1479" y="2108"/>
                  </a:lnTo>
                  <a:lnTo>
                    <a:pt x="1481" y="2093"/>
                  </a:lnTo>
                  <a:lnTo>
                    <a:pt x="1485" y="2078"/>
                  </a:lnTo>
                  <a:lnTo>
                    <a:pt x="1488" y="2064"/>
                  </a:lnTo>
                  <a:lnTo>
                    <a:pt x="1493" y="2048"/>
                  </a:lnTo>
                  <a:lnTo>
                    <a:pt x="1498" y="2034"/>
                  </a:lnTo>
                  <a:lnTo>
                    <a:pt x="1503" y="2019"/>
                  </a:lnTo>
                  <a:lnTo>
                    <a:pt x="1507" y="2005"/>
                  </a:lnTo>
                  <a:lnTo>
                    <a:pt x="1513" y="1993"/>
                  </a:lnTo>
                  <a:lnTo>
                    <a:pt x="1519" y="1981"/>
                  </a:lnTo>
                  <a:lnTo>
                    <a:pt x="1525" y="1970"/>
                  </a:lnTo>
                  <a:lnTo>
                    <a:pt x="1533" y="1958"/>
                  </a:lnTo>
                  <a:lnTo>
                    <a:pt x="1540" y="1947"/>
                  </a:lnTo>
                  <a:lnTo>
                    <a:pt x="1546" y="1935"/>
                  </a:lnTo>
                  <a:lnTo>
                    <a:pt x="1551" y="1923"/>
                  </a:lnTo>
                  <a:lnTo>
                    <a:pt x="1555" y="1910"/>
                  </a:lnTo>
                  <a:lnTo>
                    <a:pt x="1560" y="1890"/>
                  </a:lnTo>
                  <a:lnTo>
                    <a:pt x="1564" y="1868"/>
                  </a:lnTo>
                  <a:lnTo>
                    <a:pt x="1567" y="1848"/>
                  </a:lnTo>
                  <a:lnTo>
                    <a:pt x="1570" y="1826"/>
                  </a:lnTo>
                  <a:lnTo>
                    <a:pt x="1572" y="1805"/>
                  </a:lnTo>
                  <a:lnTo>
                    <a:pt x="1573" y="1783"/>
                  </a:lnTo>
                  <a:lnTo>
                    <a:pt x="1573" y="1762"/>
                  </a:lnTo>
                  <a:lnTo>
                    <a:pt x="1573" y="1740"/>
                  </a:lnTo>
                  <a:lnTo>
                    <a:pt x="1572" y="1726"/>
                  </a:lnTo>
                  <a:lnTo>
                    <a:pt x="1570" y="1712"/>
                  </a:lnTo>
                  <a:lnTo>
                    <a:pt x="1567" y="1699"/>
                  </a:lnTo>
                  <a:lnTo>
                    <a:pt x="1564" y="1685"/>
                  </a:lnTo>
                  <a:lnTo>
                    <a:pt x="1560" y="1672"/>
                  </a:lnTo>
                  <a:lnTo>
                    <a:pt x="1555" y="1658"/>
                  </a:lnTo>
                  <a:lnTo>
                    <a:pt x="1549" y="1646"/>
                  </a:lnTo>
                  <a:lnTo>
                    <a:pt x="1543" y="1633"/>
                  </a:lnTo>
                  <a:lnTo>
                    <a:pt x="1539" y="1626"/>
                  </a:lnTo>
                  <a:lnTo>
                    <a:pt x="1534" y="1619"/>
                  </a:lnTo>
                  <a:lnTo>
                    <a:pt x="1528" y="1613"/>
                  </a:lnTo>
                  <a:lnTo>
                    <a:pt x="1521" y="1607"/>
                  </a:lnTo>
                  <a:lnTo>
                    <a:pt x="1513" y="1601"/>
                  </a:lnTo>
                  <a:lnTo>
                    <a:pt x="1506" y="1597"/>
                  </a:lnTo>
                  <a:lnTo>
                    <a:pt x="1499" y="1594"/>
                  </a:lnTo>
                  <a:lnTo>
                    <a:pt x="1491" y="1592"/>
                  </a:lnTo>
                  <a:lnTo>
                    <a:pt x="1481" y="1592"/>
                  </a:lnTo>
                  <a:lnTo>
                    <a:pt x="1470" y="1594"/>
                  </a:lnTo>
                  <a:lnTo>
                    <a:pt x="1461" y="1596"/>
                  </a:lnTo>
                  <a:lnTo>
                    <a:pt x="1452" y="1600"/>
                  </a:lnTo>
                  <a:lnTo>
                    <a:pt x="1443" y="1603"/>
                  </a:lnTo>
                  <a:lnTo>
                    <a:pt x="1434" y="1609"/>
                  </a:lnTo>
                  <a:lnTo>
                    <a:pt x="1426" y="1615"/>
                  </a:lnTo>
                  <a:lnTo>
                    <a:pt x="1420" y="1622"/>
                  </a:lnTo>
                  <a:lnTo>
                    <a:pt x="1410" y="1633"/>
                  </a:lnTo>
                  <a:lnTo>
                    <a:pt x="1402" y="1646"/>
                  </a:lnTo>
                  <a:lnTo>
                    <a:pt x="1396" y="1660"/>
                  </a:lnTo>
                  <a:lnTo>
                    <a:pt x="1390" y="1673"/>
                  </a:lnTo>
                  <a:lnTo>
                    <a:pt x="1384" y="1687"/>
                  </a:lnTo>
                  <a:lnTo>
                    <a:pt x="1378" y="1700"/>
                  </a:lnTo>
                  <a:lnTo>
                    <a:pt x="1373" y="1715"/>
                  </a:lnTo>
                  <a:lnTo>
                    <a:pt x="1366" y="1728"/>
                  </a:lnTo>
                  <a:lnTo>
                    <a:pt x="1355" y="1750"/>
                  </a:lnTo>
                  <a:lnTo>
                    <a:pt x="1344" y="1771"/>
                  </a:lnTo>
                  <a:lnTo>
                    <a:pt x="1335" y="1793"/>
                  </a:lnTo>
                  <a:lnTo>
                    <a:pt x="1324" y="1814"/>
                  </a:lnTo>
                  <a:lnTo>
                    <a:pt x="1313" y="1836"/>
                  </a:lnTo>
                  <a:lnTo>
                    <a:pt x="1302" y="1857"/>
                  </a:lnTo>
                  <a:lnTo>
                    <a:pt x="1290" y="1878"/>
                  </a:lnTo>
                  <a:lnTo>
                    <a:pt x="1277" y="1899"/>
                  </a:lnTo>
                  <a:lnTo>
                    <a:pt x="1266" y="1917"/>
                  </a:lnTo>
                  <a:lnTo>
                    <a:pt x="1254" y="1937"/>
                  </a:lnTo>
                  <a:lnTo>
                    <a:pt x="1241" y="1955"/>
                  </a:lnTo>
                  <a:lnTo>
                    <a:pt x="1229" y="1974"/>
                  </a:lnTo>
                  <a:lnTo>
                    <a:pt x="1216" y="1991"/>
                  </a:lnTo>
                  <a:lnTo>
                    <a:pt x="1201" y="2009"/>
                  </a:lnTo>
                  <a:lnTo>
                    <a:pt x="1187" y="2025"/>
                  </a:lnTo>
                  <a:lnTo>
                    <a:pt x="1171" y="2041"/>
                  </a:lnTo>
                  <a:lnTo>
                    <a:pt x="1155" y="2055"/>
                  </a:lnTo>
                  <a:lnTo>
                    <a:pt x="1138" y="2070"/>
                  </a:lnTo>
                  <a:lnTo>
                    <a:pt x="1120" y="2083"/>
                  </a:lnTo>
                  <a:lnTo>
                    <a:pt x="1102" y="2096"/>
                  </a:lnTo>
                  <a:lnTo>
                    <a:pt x="1083" y="2108"/>
                  </a:lnTo>
                  <a:lnTo>
                    <a:pt x="1063" y="2120"/>
                  </a:lnTo>
                  <a:lnTo>
                    <a:pt x="1043" y="2131"/>
                  </a:lnTo>
                  <a:lnTo>
                    <a:pt x="1024" y="2141"/>
                  </a:lnTo>
                  <a:lnTo>
                    <a:pt x="1008" y="2148"/>
                  </a:lnTo>
                  <a:lnTo>
                    <a:pt x="993" y="2154"/>
                  </a:lnTo>
                  <a:lnTo>
                    <a:pt x="977" y="2160"/>
                  </a:lnTo>
                  <a:lnTo>
                    <a:pt x="960" y="2163"/>
                  </a:lnTo>
                  <a:lnTo>
                    <a:pt x="943" y="2168"/>
                  </a:lnTo>
                  <a:lnTo>
                    <a:pt x="927" y="2171"/>
                  </a:lnTo>
                  <a:lnTo>
                    <a:pt x="911" y="2174"/>
                  </a:lnTo>
                  <a:lnTo>
                    <a:pt x="894" y="2177"/>
                  </a:lnTo>
                  <a:lnTo>
                    <a:pt x="887" y="2177"/>
                  </a:lnTo>
                  <a:lnTo>
                    <a:pt x="881" y="2178"/>
                  </a:lnTo>
                  <a:lnTo>
                    <a:pt x="874" y="2177"/>
                  </a:lnTo>
                  <a:lnTo>
                    <a:pt x="868" y="2177"/>
                  </a:lnTo>
                  <a:lnTo>
                    <a:pt x="862" y="2174"/>
                  </a:lnTo>
                  <a:lnTo>
                    <a:pt x="856" y="2172"/>
                  </a:lnTo>
                  <a:lnTo>
                    <a:pt x="851" y="2169"/>
                  </a:lnTo>
                  <a:lnTo>
                    <a:pt x="846" y="2165"/>
                  </a:lnTo>
                  <a:lnTo>
                    <a:pt x="844" y="2160"/>
                  </a:lnTo>
                  <a:lnTo>
                    <a:pt x="843" y="2154"/>
                  </a:lnTo>
                  <a:lnTo>
                    <a:pt x="841" y="2147"/>
                  </a:lnTo>
                  <a:lnTo>
                    <a:pt x="843" y="2141"/>
                  </a:lnTo>
                  <a:lnTo>
                    <a:pt x="844" y="2135"/>
                  </a:lnTo>
                  <a:lnTo>
                    <a:pt x="846" y="2127"/>
                  </a:lnTo>
                  <a:lnTo>
                    <a:pt x="849" y="2123"/>
                  </a:lnTo>
                  <a:lnTo>
                    <a:pt x="852" y="2118"/>
                  </a:lnTo>
                  <a:lnTo>
                    <a:pt x="864" y="2103"/>
                  </a:lnTo>
                  <a:lnTo>
                    <a:pt x="879" y="2091"/>
                  </a:lnTo>
                  <a:lnTo>
                    <a:pt x="892" y="2079"/>
                  </a:lnTo>
                  <a:lnTo>
                    <a:pt x="906" y="2069"/>
                  </a:lnTo>
                  <a:lnTo>
                    <a:pt x="922" y="2058"/>
                  </a:lnTo>
                  <a:lnTo>
                    <a:pt x="936" y="2046"/>
                  </a:lnTo>
                  <a:lnTo>
                    <a:pt x="951" y="2035"/>
                  </a:lnTo>
                  <a:lnTo>
                    <a:pt x="965" y="2023"/>
                  </a:lnTo>
                  <a:lnTo>
                    <a:pt x="981" y="2009"/>
                  </a:lnTo>
                  <a:lnTo>
                    <a:pt x="997" y="1995"/>
                  </a:lnTo>
                  <a:lnTo>
                    <a:pt x="1014" y="1981"/>
                  </a:lnTo>
                  <a:lnTo>
                    <a:pt x="1030" y="1967"/>
                  </a:lnTo>
                  <a:lnTo>
                    <a:pt x="1047" y="1952"/>
                  </a:lnTo>
                  <a:lnTo>
                    <a:pt x="1061" y="1938"/>
                  </a:lnTo>
                  <a:lnTo>
                    <a:pt x="1075" y="1922"/>
                  </a:lnTo>
                  <a:lnTo>
                    <a:pt x="1089" y="1905"/>
                  </a:lnTo>
                  <a:lnTo>
                    <a:pt x="1101" y="1886"/>
                  </a:lnTo>
                  <a:lnTo>
                    <a:pt x="1113" y="1868"/>
                  </a:lnTo>
                  <a:lnTo>
                    <a:pt x="1123" y="1849"/>
                  </a:lnTo>
                  <a:lnTo>
                    <a:pt x="1133" y="1829"/>
                  </a:lnTo>
                  <a:lnTo>
                    <a:pt x="1141" y="1808"/>
                  </a:lnTo>
                  <a:lnTo>
                    <a:pt x="1149" y="1788"/>
                  </a:lnTo>
                  <a:lnTo>
                    <a:pt x="1155" y="1768"/>
                  </a:lnTo>
                  <a:lnTo>
                    <a:pt x="1159" y="1746"/>
                  </a:lnTo>
                  <a:lnTo>
                    <a:pt x="1161" y="1736"/>
                  </a:lnTo>
                  <a:lnTo>
                    <a:pt x="1159" y="1727"/>
                  </a:lnTo>
                  <a:lnTo>
                    <a:pt x="1158" y="1716"/>
                  </a:lnTo>
                  <a:lnTo>
                    <a:pt x="1155" y="1706"/>
                  </a:lnTo>
                  <a:lnTo>
                    <a:pt x="1150" y="1697"/>
                  </a:lnTo>
                  <a:lnTo>
                    <a:pt x="1144" y="1688"/>
                  </a:lnTo>
                  <a:lnTo>
                    <a:pt x="1138" y="1681"/>
                  </a:lnTo>
                  <a:lnTo>
                    <a:pt x="1129" y="1675"/>
                  </a:lnTo>
                  <a:lnTo>
                    <a:pt x="1125" y="1672"/>
                  </a:lnTo>
                  <a:lnTo>
                    <a:pt x="1117" y="1670"/>
                  </a:lnTo>
                  <a:lnTo>
                    <a:pt x="1110" y="1672"/>
                  </a:lnTo>
                  <a:lnTo>
                    <a:pt x="1103" y="1673"/>
                  </a:lnTo>
                  <a:lnTo>
                    <a:pt x="1096" y="1675"/>
                  </a:lnTo>
                  <a:lnTo>
                    <a:pt x="1090" y="1679"/>
                  </a:lnTo>
                  <a:lnTo>
                    <a:pt x="1083" y="1682"/>
                  </a:lnTo>
                  <a:lnTo>
                    <a:pt x="1077" y="1687"/>
                  </a:lnTo>
                  <a:lnTo>
                    <a:pt x="1071" y="1692"/>
                  </a:lnTo>
                  <a:lnTo>
                    <a:pt x="1067" y="1699"/>
                  </a:lnTo>
                  <a:lnTo>
                    <a:pt x="1062" y="1706"/>
                  </a:lnTo>
                  <a:lnTo>
                    <a:pt x="1060" y="1714"/>
                  </a:lnTo>
                  <a:lnTo>
                    <a:pt x="1056" y="1721"/>
                  </a:lnTo>
                  <a:lnTo>
                    <a:pt x="1051" y="1728"/>
                  </a:lnTo>
                  <a:lnTo>
                    <a:pt x="1048" y="1735"/>
                  </a:lnTo>
                  <a:lnTo>
                    <a:pt x="1042" y="1740"/>
                  </a:lnTo>
                  <a:lnTo>
                    <a:pt x="1030" y="1747"/>
                  </a:lnTo>
                  <a:lnTo>
                    <a:pt x="1018" y="1754"/>
                  </a:lnTo>
                  <a:lnTo>
                    <a:pt x="1006" y="1762"/>
                  </a:lnTo>
                  <a:lnTo>
                    <a:pt x="994" y="1768"/>
                  </a:lnTo>
                  <a:lnTo>
                    <a:pt x="981" y="1772"/>
                  </a:lnTo>
                  <a:lnTo>
                    <a:pt x="967" y="1777"/>
                  </a:lnTo>
                  <a:lnTo>
                    <a:pt x="954" y="1780"/>
                  </a:lnTo>
                  <a:lnTo>
                    <a:pt x="941" y="1781"/>
                  </a:lnTo>
                  <a:lnTo>
                    <a:pt x="931" y="1782"/>
                  </a:lnTo>
                  <a:lnTo>
                    <a:pt x="921" y="1781"/>
                  </a:lnTo>
                  <a:lnTo>
                    <a:pt x="910" y="1778"/>
                  </a:lnTo>
                  <a:lnTo>
                    <a:pt x="899" y="1776"/>
                  </a:lnTo>
                  <a:lnTo>
                    <a:pt x="889" y="1772"/>
                  </a:lnTo>
                  <a:lnTo>
                    <a:pt x="881" y="1766"/>
                  </a:lnTo>
                  <a:lnTo>
                    <a:pt x="877" y="1764"/>
                  </a:lnTo>
                  <a:lnTo>
                    <a:pt x="875" y="1760"/>
                  </a:lnTo>
                  <a:lnTo>
                    <a:pt x="873" y="1756"/>
                  </a:lnTo>
                  <a:lnTo>
                    <a:pt x="870" y="1752"/>
                  </a:lnTo>
                  <a:lnTo>
                    <a:pt x="868" y="1745"/>
                  </a:lnTo>
                  <a:lnTo>
                    <a:pt x="867" y="1736"/>
                  </a:lnTo>
                  <a:lnTo>
                    <a:pt x="865" y="1729"/>
                  </a:lnTo>
                  <a:lnTo>
                    <a:pt x="865" y="1722"/>
                  </a:lnTo>
                  <a:lnTo>
                    <a:pt x="867" y="1706"/>
                  </a:lnTo>
                  <a:lnTo>
                    <a:pt x="869" y="1691"/>
                  </a:lnTo>
                  <a:lnTo>
                    <a:pt x="873" y="1675"/>
                  </a:lnTo>
                  <a:lnTo>
                    <a:pt x="876" y="1660"/>
                  </a:lnTo>
                  <a:lnTo>
                    <a:pt x="880" y="1644"/>
                  </a:lnTo>
                  <a:lnTo>
                    <a:pt x="882" y="1627"/>
                  </a:lnTo>
                  <a:lnTo>
                    <a:pt x="883" y="1616"/>
                  </a:lnTo>
                  <a:lnTo>
                    <a:pt x="886" y="1606"/>
                  </a:lnTo>
                  <a:lnTo>
                    <a:pt x="888" y="1594"/>
                  </a:lnTo>
                  <a:lnTo>
                    <a:pt x="891" y="1583"/>
                  </a:lnTo>
                  <a:lnTo>
                    <a:pt x="892" y="1572"/>
                  </a:lnTo>
                  <a:lnTo>
                    <a:pt x="892" y="1560"/>
                  </a:lnTo>
                  <a:lnTo>
                    <a:pt x="891" y="1549"/>
                  </a:lnTo>
                  <a:lnTo>
                    <a:pt x="888" y="1540"/>
                  </a:lnTo>
                  <a:lnTo>
                    <a:pt x="885" y="1534"/>
                  </a:lnTo>
                  <a:lnTo>
                    <a:pt x="879" y="1529"/>
                  </a:lnTo>
                  <a:lnTo>
                    <a:pt x="873" y="1526"/>
                  </a:lnTo>
                  <a:lnTo>
                    <a:pt x="865" y="1524"/>
                  </a:lnTo>
                  <a:lnTo>
                    <a:pt x="858" y="1523"/>
                  </a:lnTo>
                  <a:lnTo>
                    <a:pt x="850" y="1522"/>
                  </a:lnTo>
                  <a:lnTo>
                    <a:pt x="843" y="1522"/>
                  </a:lnTo>
                  <a:lnTo>
                    <a:pt x="834" y="1522"/>
                  </a:lnTo>
                  <a:lnTo>
                    <a:pt x="819" y="1523"/>
                  </a:lnTo>
                  <a:lnTo>
                    <a:pt x="802" y="1525"/>
                  </a:lnTo>
                  <a:lnTo>
                    <a:pt x="786" y="1528"/>
                  </a:lnTo>
                  <a:lnTo>
                    <a:pt x="769" y="1531"/>
                  </a:lnTo>
                  <a:lnTo>
                    <a:pt x="754" y="1535"/>
                  </a:lnTo>
                  <a:lnTo>
                    <a:pt x="737" y="1538"/>
                  </a:lnTo>
                  <a:lnTo>
                    <a:pt x="721" y="1540"/>
                  </a:lnTo>
                  <a:lnTo>
                    <a:pt x="705" y="1540"/>
                  </a:lnTo>
                  <a:lnTo>
                    <a:pt x="691" y="1538"/>
                  </a:lnTo>
                  <a:lnTo>
                    <a:pt x="677" y="1536"/>
                  </a:lnTo>
                  <a:lnTo>
                    <a:pt x="663" y="1532"/>
                  </a:lnTo>
                  <a:lnTo>
                    <a:pt x="649" y="1529"/>
                  </a:lnTo>
                  <a:lnTo>
                    <a:pt x="636" y="1524"/>
                  </a:lnTo>
                  <a:lnTo>
                    <a:pt x="623" y="1518"/>
                  </a:lnTo>
                  <a:lnTo>
                    <a:pt x="611" y="1511"/>
                  </a:lnTo>
                  <a:lnTo>
                    <a:pt x="599" y="1504"/>
                  </a:lnTo>
                  <a:lnTo>
                    <a:pt x="591" y="1496"/>
                  </a:lnTo>
                  <a:lnTo>
                    <a:pt x="583" y="1489"/>
                  </a:lnTo>
                  <a:lnTo>
                    <a:pt x="577" y="1480"/>
                  </a:lnTo>
                  <a:lnTo>
                    <a:pt x="571" y="1470"/>
                  </a:lnTo>
                  <a:lnTo>
                    <a:pt x="565" y="1459"/>
                  </a:lnTo>
                  <a:lnTo>
                    <a:pt x="559" y="1450"/>
                  </a:lnTo>
                  <a:lnTo>
                    <a:pt x="553" y="1441"/>
                  </a:lnTo>
                  <a:lnTo>
                    <a:pt x="545" y="1433"/>
                  </a:lnTo>
                  <a:lnTo>
                    <a:pt x="539" y="1428"/>
                  </a:lnTo>
                  <a:lnTo>
                    <a:pt x="532" y="1424"/>
                  </a:lnTo>
                  <a:lnTo>
                    <a:pt x="525" y="1420"/>
                  </a:lnTo>
                  <a:lnTo>
                    <a:pt x="517" y="1417"/>
                  </a:lnTo>
                  <a:lnTo>
                    <a:pt x="510" y="1414"/>
                  </a:lnTo>
                  <a:lnTo>
                    <a:pt x="502" y="1412"/>
                  </a:lnTo>
                  <a:lnTo>
                    <a:pt x="495" y="1410"/>
                  </a:lnTo>
                  <a:lnTo>
                    <a:pt x="486" y="1410"/>
                  </a:lnTo>
                  <a:lnTo>
                    <a:pt x="467" y="1409"/>
                  </a:lnTo>
                  <a:lnTo>
                    <a:pt x="448" y="1409"/>
                  </a:lnTo>
                  <a:lnTo>
                    <a:pt x="429" y="1409"/>
                  </a:lnTo>
                  <a:lnTo>
                    <a:pt x="409" y="1410"/>
                  </a:lnTo>
                  <a:lnTo>
                    <a:pt x="390" y="1411"/>
                  </a:lnTo>
                  <a:lnTo>
                    <a:pt x="371" y="1414"/>
                  </a:lnTo>
                  <a:lnTo>
                    <a:pt x="352" y="1415"/>
                  </a:lnTo>
                  <a:lnTo>
                    <a:pt x="333" y="1416"/>
                  </a:lnTo>
                  <a:lnTo>
                    <a:pt x="311" y="1416"/>
                  </a:lnTo>
                  <a:lnTo>
                    <a:pt x="289" y="1418"/>
                  </a:lnTo>
                  <a:lnTo>
                    <a:pt x="269" y="1421"/>
                  </a:lnTo>
                  <a:lnTo>
                    <a:pt x="247" y="1422"/>
                  </a:lnTo>
                  <a:lnTo>
                    <a:pt x="226" y="1423"/>
                  </a:lnTo>
                  <a:lnTo>
                    <a:pt x="204" y="1424"/>
                  </a:lnTo>
                  <a:lnTo>
                    <a:pt x="183" y="1423"/>
                  </a:lnTo>
                  <a:lnTo>
                    <a:pt x="161" y="1421"/>
                  </a:lnTo>
                  <a:lnTo>
                    <a:pt x="151" y="1420"/>
                  </a:lnTo>
                  <a:lnTo>
                    <a:pt x="141" y="1416"/>
                  </a:lnTo>
                  <a:lnTo>
                    <a:pt x="131" y="1411"/>
                  </a:lnTo>
                  <a:lnTo>
                    <a:pt x="121" y="1405"/>
                  </a:lnTo>
                  <a:lnTo>
                    <a:pt x="112" y="1399"/>
                  </a:lnTo>
                  <a:lnTo>
                    <a:pt x="102" y="1393"/>
                  </a:lnTo>
                  <a:lnTo>
                    <a:pt x="94" y="1386"/>
                  </a:lnTo>
                  <a:lnTo>
                    <a:pt x="84" y="1380"/>
                  </a:lnTo>
                  <a:lnTo>
                    <a:pt x="76" y="1374"/>
                  </a:lnTo>
                  <a:lnTo>
                    <a:pt x="67" y="1368"/>
                  </a:lnTo>
                  <a:lnTo>
                    <a:pt x="59" y="1361"/>
                  </a:lnTo>
                  <a:lnTo>
                    <a:pt x="51" y="1354"/>
                  </a:lnTo>
                  <a:lnTo>
                    <a:pt x="43" y="1346"/>
                  </a:lnTo>
                  <a:lnTo>
                    <a:pt x="36" y="1339"/>
                  </a:lnTo>
                  <a:lnTo>
                    <a:pt x="30" y="1331"/>
                  </a:lnTo>
                  <a:lnTo>
                    <a:pt x="25" y="1321"/>
                  </a:lnTo>
                  <a:lnTo>
                    <a:pt x="23" y="1314"/>
                  </a:lnTo>
                  <a:lnTo>
                    <a:pt x="22" y="1307"/>
                  </a:lnTo>
                  <a:lnTo>
                    <a:pt x="22" y="1300"/>
                  </a:lnTo>
                  <a:lnTo>
                    <a:pt x="23" y="1291"/>
                  </a:lnTo>
                  <a:lnTo>
                    <a:pt x="25" y="1284"/>
                  </a:lnTo>
                  <a:lnTo>
                    <a:pt x="28" y="1278"/>
                  </a:lnTo>
                  <a:lnTo>
                    <a:pt x="33" y="1272"/>
                  </a:lnTo>
                  <a:lnTo>
                    <a:pt x="37" y="1268"/>
                  </a:lnTo>
                  <a:lnTo>
                    <a:pt x="51" y="1261"/>
                  </a:lnTo>
                  <a:lnTo>
                    <a:pt x="65" y="1258"/>
                  </a:lnTo>
                  <a:lnTo>
                    <a:pt x="79" y="1254"/>
                  </a:lnTo>
                  <a:lnTo>
                    <a:pt x="95" y="1253"/>
                  </a:lnTo>
                  <a:lnTo>
                    <a:pt x="109" y="1252"/>
                  </a:lnTo>
                  <a:lnTo>
                    <a:pt x="125" y="1250"/>
                  </a:lnTo>
                  <a:lnTo>
                    <a:pt x="141" y="1250"/>
                  </a:lnTo>
                  <a:lnTo>
                    <a:pt x="156" y="1250"/>
                  </a:lnTo>
                  <a:lnTo>
                    <a:pt x="180" y="1250"/>
                  </a:lnTo>
                  <a:lnTo>
                    <a:pt x="205" y="1250"/>
                  </a:lnTo>
                  <a:lnTo>
                    <a:pt x="231" y="1253"/>
                  </a:lnTo>
                  <a:lnTo>
                    <a:pt x="256" y="1254"/>
                  </a:lnTo>
                  <a:lnTo>
                    <a:pt x="281" y="1255"/>
                  </a:lnTo>
                  <a:lnTo>
                    <a:pt x="306" y="1256"/>
                  </a:lnTo>
                  <a:lnTo>
                    <a:pt x="331" y="1258"/>
                  </a:lnTo>
                  <a:lnTo>
                    <a:pt x="357" y="1256"/>
                  </a:lnTo>
                  <a:lnTo>
                    <a:pt x="371" y="1254"/>
                  </a:lnTo>
                  <a:lnTo>
                    <a:pt x="387" y="1252"/>
                  </a:lnTo>
                  <a:lnTo>
                    <a:pt x="401" y="1248"/>
                  </a:lnTo>
                  <a:lnTo>
                    <a:pt x="415" y="1244"/>
                  </a:lnTo>
                  <a:lnTo>
                    <a:pt x="431" y="1240"/>
                  </a:lnTo>
                  <a:lnTo>
                    <a:pt x="445" y="1235"/>
                  </a:lnTo>
                  <a:lnTo>
                    <a:pt x="460" y="1230"/>
                  </a:lnTo>
                  <a:lnTo>
                    <a:pt x="474" y="1226"/>
                  </a:lnTo>
                  <a:lnTo>
                    <a:pt x="484" y="1224"/>
                  </a:lnTo>
                  <a:lnTo>
                    <a:pt x="493" y="1220"/>
                  </a:lnTo>
                  <a:lnTo>
                    <a:pt x="503" y="1217"/>
                  </a:lnTo>
                  <a:lnTo>
                    <a:pt x="513" y="1213"/>
                  </a:lnTo>
                  <a:lnTo>
                    <a:pt x="522" y="1211"/>
                  </a:lnTo>
                  <a:lnTo>
                    <a:pt x="532" y="1208"/>
                  </a:lnTo>
                  <a:lnTo>
                    <a:pt x="541" y="1208"/>
                  </a:lnTo>
                  <a:lnTo>
                    <a:pt x="551" y="1208"/>
                  </a:lnTo>
                  <a:lnTo>
                    <a:pt x="570" y="1213"/>
                  </a:lnTo>
                  <a:lnTo>
                    <a:pt x="588" y="1219"/>
                  </a:lnTo>
                  <a:lnTo>
                    <a:pt x="606" y="1226"/>
                  </a:lnTo>
                  <a:lnTo>
                    <a:pt x="624" y="1234"/>
                  </a:lnTo>
                  <a:lnTo>
                    <a:pt x="641" y="1242"/>
                  </a:lnTo>
                  <a:lnTo>
                    <a:pt x="659" y="1250"/>
                  </a:lnTo>
                  <a:lnTo>
                    <a:pt x="676" y="1259"/>
                  </a:lnTo>
                  <a:lnTo>
                    <a:pt x="693" y="1268"/>
                  </a:lnTo>
                  <a:lnTo>
                    <a:pt x="707" y="1276"/>
                  </a:lnTo>
                  <a:lnTo>
                    <a:pt x="721" y="1284"/>
                  </a:lnTo>
                  <a:lnTo>
                    <a:pt x="735" y="1292"/>
                  </a:lnTo>
                  <a:lnTo>
                    <a:pt x="749" y="1302"/>
                  </a:lnTo>
                  <a:lnTo>
                    <a:pt x="762" y="1310"/>
                  </a:lnTo>
                  <a:lnTo>
                    <a:pt x="775" y="1319"/>
                  </a:lnTo>
                  <a:lnTo>
                    <a:pt x="790" y="1326"/>
                  </a:lnTo>
                  <a:lnTo>
                    <a:pt x="805" y="1333"/>
                  </a:lnTo>
                  <a:lnTo>
                    <a:pt x="817" y="1337"/>
                  </a:lnTo>
                  <a:lnTo>
                    <a:pt x="829" y="1342"/>
                  </a:lnTo>
                  <a:lnTo>
                    <a:pt x="843" y="1345"/>
                  </a:lnTo>
                  <a:lnTo>
                    <a:pt x="856" y="1349"/>
                  </a:lnTo>
                  <a:lnTo>
                    <a:pt x="869" y="1350"/>
                  </a:lnTo>
                  <a:lnTo>
                    <a:pt x="882" y="1351"/>
                  </a:lnTo>
                  <a:lnTo>
                    <a:pt x="888" y="1350"/>
                  </a:lnTo>
                  <a:lnTo>
                    <a:pt x="894" y="1349"/>
                  </a:lnTo>
                  <a:lnTo>
                    <a:pt x="900" y="1348"/>
                  </a:lnTo>
                  <a:lnTo>
                    <a:pt x="905" y="1345"/>
                  </a:lnTo>
                  <a:lnTo>
                    <a:pt x="910" y="1342"/>
                  </a:lnTo>
                  <a:lnTo>
                    <a:pt x="913" y="1339"/>
                  </a:lnTo>
                  <a:lnTo>
                    <a:pt x="917" y="1336"/>
                  </a:lnTo>
                  <a:lnTo>
                    <a:pt x="921" y="1331"/>
                  </a:lnTo>
                  <a:lnTo>
                    <a:pt x="925" y="1322"/>
                  </a:lnTo>
                  <a:lnTo>
                    <a:pt x="930" y="1312"/>
                  </a:lnTo>
                  <a:lnTo>
                    <a:pt x="933" y="1301"/>
                  </a:lnTo>
                  <a:lnTo>
                    <a:pt x="934" y="1290"/>
                  </a:lnTo>
                  <a:lnTo>
                    <a:pt x="935" y="1278"/>
                  </a:lnTo>
                  <a:lnTo>
                    <a:pt x="935" y="1268"/>
                  </a:lnTo>
                  <a:lnTo>
                    <a:pt x="934" y="1256"/>
                  </a:lnTo>
                  <a:lnTo>
                    <a:pt x="931" y="1246"/>
                  </a:lnTo>
                  <a:lnTo>
                    <a:pt x="928" y="1235"/>
                  </a:lnTo>
                  <a:lnTo>
                    <a:pt x="923" y="1225"/>
                  </a:lnTo>
                  <a:lnTo>
                    <a:pt x="918" y="1214"/>
                  </a:lnTo>
                  <a:lnTo>
                    <a:pt x="912" y="1205"/>
                  </a:lnTo>
                  <a:lnTo>
                    <a:pt x="906" y="1195"/>
                  </a:lnTo>
                  <a:lnTo>
                    <a:pt x="900" y="1186"/>
                  </a:lnTo>
                  <a:lnTo>
                    <a:pt x="888" y="1169"/>
                  </a:lnTo>
                  <a:lnTo>
                    <a:pt x="876" y="1152"/>
                  </a:lnTo>
                  <a:lnTo>
                    <a:pt x="863" y="1135"/>
                  </a:lnTo>
                  <a:lnTo>
                    <a:pt x="850" y="1120"/>
                  </a:lnTo>
                  <a:lnTo>
                    <a:pt x="837" y="1104"/>
                  </a:lnTo>
                  <a:lnTo>
                    <a:pt x="823" y="1090"/>
                  </a:lnTo>
                  <a:lnTo>
                    <a:pt x="809" y="1075"/>
                  </a:lnTo>
                  <a:lnTo>
                    <a:pt x="793" y="1062"/>
                  </a:lnTo>
                  <a:lnTo>
                    <a:pt x="775" y="1047"/>
                  </a:lnTo>
                  <a:lnTo>
                    <a:pt x="756" y="1031"/>
                  </a:lnTo>
                  <a:lnTo>
                    <a:pt x="737" y="1018"/>
                  </a:lnTo>
                  <a:lnTo>
                    <a:pt x="717" y="1003"/>
                  </a:lnTo>
                  <a:lnTo>
                    <a:pt x="696" y="990"/>
                  </a:lnTo>
                  <a:lnTo>
                    <a:pt x="676" y="978"/>
                  </a:lnTo>
                  <a:lnTo>
                    <a:pt x="655" y="966"/>
                  </a:lnTo>
                  <a:lnTo>
                    <a:pt x="634" y="955"/>
                  </a:lnTo>
                  <a:lnTo>
                    <a:pt x="618" y="948"/>
                  </a:lnTo>
                  <a:lnTo>
                    <a:pt x="603" y="942"/>
                  </a:lnTo>
                  <a:lnTo>
                    <a:pt x="587" y="936"/>
                  </a:lnTo>
                  <a:lnTo>
                    <a:pt x="570" y="931"/>
                  </a:lnTo>
                  <a:lnTo>
                    <a:pt x="553" y="927"/>
                  </a:lnTo>
                  <a:lnTo>
                    <a:pt x="538" y="922"/>
                  </a:lnTo>
                  <a:lnTo>
                    <a:pt x="521" y="918"/>
                  </a:lnTo>
                  <a:lnTo>
                    <a:pt x="504" y="915"/>
                  </a:lnTo>
                  <a:lnTo>
                    <a:pt x="490" y="911"/>
                  </a:lnTo>
                  <a:lnTo>
                    <a:pt x="475" y="907"/>
                  </a:lnTo>
                  <a:lnTo>
                    <a:pt x="460" y="905"/>
                  </a:lnTo>
                  <a:lnTo>
                    <a:pt x="445" y="901"/>
                  </a:lnTo>
                  <a:lnTo>
                    <a:pt x="431" y="899"/>
                  </a:lnTo>
                  <a:lnTo>
                    <a:pt x="415" y="898"/>
                  </a:lnTo>
                  <a:lnTo>
                    <a:pt x="401" y="897"/>
                  </a:lnTo>
                  <a:lnTo>
                    <a:pt x="385" y="897"/>
                  </a:lnTo>
                  <a:lnTo>
                    <a:pt x="376" y="897"/>
                  </a:lnTo>
                  <a:lnTo>
                    <a:pt x="366" y="898"/>
                  </a:lnTo>
                  <a:lnTo>
                    <a:pt x="357" y="899"/>
                  </a:lnTo>
                  <a:lnTo>
                    <a:pt x="347" y="901"/>
                  </a:lnTo>
                  <a:lnTo>
                    <a:pt x="337" y="904"/>
                  </a:lnTo>
                  <a:lnTo>
                    <a:pt x="328" y="906"/>
                  </a:lnTo>
                  <a:lnTo>
                    <a:pt x="318" y="910"/>
                  </a:lnTo>
                  <a:lnTo>
                    <a:pt x="309" y="915"/>
                  </a:lnTo>
                  <a:lnTo>
                    <a:pt x="300" y="919"/>
                  </a:lnTo>
                  <a:lnTo>
                    <a:pt x="292" y="925"/>
                  </a:lnTo>
                  <a:lnTo>
                    <a:pt x="285" y="933"/>
                  </a:lnTo>
                  <a:lnTo>
                    <a:pt x="276" y="940"/>
                  </a:lnTo>
                  <a:lnTo>
                    <a:pt x="269" y="948"/>
                  </a:lnTo>
                  <a:lnTo>
                    <a:pt x="261" y="955"/>
                  </a:lnTo>
                  <a:lnTo>
                    <a:pt x="253" y="961"/>
                  </a:lnTo>
                  <a:lnTo>
                    <a:pt x="244" y="967"/>
                  </a:lnTo>
                  <a:lnTo>
                    <a:pt x="231" y="975"/>
                  </a:lnTo>
                  <a:lnTo>
                    <a:pt x="216" y="982"/>
                  </a:lnTo>
                  <a:lnTo>
                    <a:pt x="202" y="989"/>
                  </a:lnTo>
                  <a:lnTo>
                    <a:pt x="186" y="995"/>
                  </a:lnTo>
                  <a:lnTo>
                    <a:pt x="172" y="1001"/>
                  </a:lnTo>
                  <a:lnTo>
                    <a:pt x="156" y="1006"/>
                  </a:lnTo>
                  <a:lnTo>
                    <a:pt x="142" y="1011"/>
                  </a:lnTo>
                  <a:lnTo>
                    <a:pt x="126" y="1014"/>
                  </a:lnTo>
                  <a:lnTo>
                    <a:pt x="120" y="1015"/>
                  </a:lnTo>
                  <a:lnTo>
                    <a:pt x="114" y="1015"/>
                  </a:lnTo>
                  <a:lnTo>
                    <a:pt x="108" y="1015"/>
                  </a:lnTo>
                  <a:lnTo>
                    <a:pt x="102" y="1014"/>
                  </a:lnTo>
                  <a:lnTo>
                    <a:pt x="97" y="1013"/>
                  </a:lnTo>
                  <a:lnTo>
                    <a:pt x="93" y="1011"/>
                  </a:lnTo>
                  <a:lnTo>
                    <a:pt x="88" y="1007"/>
                  </a:lnTo>
                  <a:lnTo>
                    <a:pt x="84" y="1002"/>
                  </a:lnTo>
                  <a:lnTo>
                    <a:pt x="82" y="995"/>
                  </a:lnTo>
                  <a:lnTo>
                    <a:pt x="78" y="987"/>
                  </a:lnTo>
                  <a:lnTo>
                    <a:pt x="77" y="978"/>
                  </a:lnTo>
                  <a:lnTo>
                    <a:pt x="77" y="970"/>
                  </a:lnTo>
                  <a:lnTo>
                    <a:pt x="77" y="961"/>
                  </a:lnTo>
                  <a:lnTo>
                    <a:pt x="78" y="953"/>
                  </a:lnTo>
                  <a:lnTo>
                    <a:pt x="81" y="945"/>
                  </a:lnTo>
                  <a:lnTo>
                    <a:pt x="84" y="937"/>
                  </a:lnTo>
                  <a:lnTo>
                    <a:pt x="96" y="922"/>
                  </a:lnTo>
                  <a:lnTo>
                    <a:pt x="109" y="905"/>
                  </a:lnTo>
                  <a:lnTo>
                    <a:pt x="124" y="891"/>
                  </a:lnTo>
                  <a:lnTo>
                    <a:pt x="138" y="876"/>
                  </a:lnTo>
                  <a:lnTo>
                    <a:pt x="154" y="863"/>
                  </a:lnTo>
                  <a:lnTo>
                    <a:pt x="169" y="850"/>
                  </a:lnTo>
                  <a:lnTo>
                    <a:pt x="186" y="838"/>
                  </a:lnTo>
                  <a:lnTo>
                    <a:pt x="203" y="826"/>
                  </a:lnTo>
                  <a:lnTo>
                    <a:pt x="214" y="819"/>
                  </a:lnTo>
                  <a:lnTo>
                    <a:pt x="226" y="811"/>
                  </a:lnTo>
                  <a:lnTo>
                    <a:pt x="238" y="805"/>
                  </a:lnTo>
                  <a:lnTo>
                    <a:pt x="251" y="799"/>
                  </a:lnTo>
                  <a:lnTo>
                    <a:pt x="264" y="795"/>
                  </a:lnTo>
                  <a:lnTo>
                    <a:pt x="276" y="791"/>
                  </a:lnTo>
                  <a:lnTo>
                    <a:pt x="289" y="787"/>
                  </a:lnTo>
                  <a:lnTo>
                    <a:pt x="304" y="784"/>
                  </a:lnTo>
                  <a:lnTo>
                    <a:pt x="321" y="781"/>
                  </a:lnTo>
                  <a:lnTo>
                    <a:pt x="339" y="779"/>
                  </a:lnTo>
                  <a:lnTo>
                    <a:pt x="357" y="779"/>
                  </a:lnTo>
                  <a:lnTo>
                    <a:pt x="373" y="778"/>
                  </a:lnTo>
                  <a:lnTo>
                    <a:pt x="391" y="778"/>
                  </a:lnTo>
                  <a:lnTo>
                    <a:pt x="409" y="778"/>
                  </a:lnTo>
                  <a:lnTo>
                    <a:pt x="427" y="778"/>
                  </a:lnTo>
                  <a:lnTo>
                    <a:pt x="445" y="779"/>
                  </a:lnTo>
                  <a:lnTo>
                    <a:pt x="471" y="779"/>
                  </a:lnTo>
                  <a:lnTo>
                    <a:pt x="495" y="779"/>
                  </a:lnTo>
                  <a:lnTo>
                    <a:pt x="520" y="779"/>
                  </a:lnTo>
                  <a:lnTo>
                    <a:pt x="545" y="780"/>
                  </a:lnTo>
                  <a:lnTo>
                    <a:pt x="570" y="781"/>
                  </a:lnTo>
                  <a:lnTo>
                    <a:pt x="595" y="781"/>
                  </a:lnTo>
                  <a:lnTo>
                    <a:pt x="621" y="783"/>
                  </a:lnTo>
                  <a:lnTo>
                    <a:pt x="646" y="784"/>
                  </a:lnTo>
                  <a:lnTo>
                    <a:pt x="664" y="785"/>
                  </a:lnTo>
                  <a:lnTo>
                    <a:pt x="683" y="787"/>
                  </a:lnTo>
                  <a:lnTo>
                    <a:pt x="701" y="789"/>
                  </a:lnTo>
                  <a:lnTo>
                    <a:pt x="719" y="791"/>
                  </a:lnTo>
                  <a:lnTo>
                    <a:pt x="738" y="793"/>
                  </a:lnTo>
                  <a:lnTo>
                    <a:pt x="756" y="795"/>
                  </a:lnTo>
                  <a:lnTo>
                    <a:pt x="775" y="796"/>
                  </a:lnTo>
                  <a:lnTo>
                    <a:pt x="793" y="796"/>
                  </a:lnTo>
                  <a:lnTo>
                    <a:pt x="804" y="796"/>
                  </a:lnTo>
                  <a:lnTo>
                    <a:pt x="815" y="797"/>
                  </a:lnTo>
                  <a:lnTo>
                    <a:pt x="826" y="797"/>
                  </a:lnTo>
                  <a:lnTo>
                    <a:pt x="838" y="797"/>
                  </a:lnTo>
                  <a:lnTo>
                    <a:pt x="849" y="796"/>
                  </a:lnTo>
                  <a:lnTo>
                    <a:pt x="858" y="793"/>
                  </a:lnTo>
                  <a:lnTo>
                    <a:pt x="868" y="790"/>
                  </a:lnTo>
                  <a:lnTo>
                    <a:pt x="876" y="784"/>
                  </a:lnTo>
                  <a:close/>
                </a:path>
              </a:pathLst>
            </a:custGeom>
            <a:solidFill>
              <a:srgbClr val="df9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42120" y="4871880"/>
              <a:ext cx="1008000" cy="868680"/>
            </a:xfrm>
            <a:custGeom>
              <a:avLst/>
              <a:gdLst/>
              <a:ahLst/>
              <a:rect l="l" t="t" r="r" b="b"/>
              <a:pathLst>
                <a:path w="2540" h="2186">
                  <a:moveTo>
                    <a:pt x="868" y="777"/>
                  </a:moveTo>
                  <a:lnTo>
                    <a:pt x="876" y="769"/>
                  </a:lnTo>
                  <a:lnTo>
                    <a:pt x="882" y="759"/>
                  </a:lnTo>
                  <a:lnTo>
                    <a:pt x="888" y="750"/>
                  </a:lnTo>
                  <a:lnTo>
                    <a:pt x="892" y="738"/>
                  </a:lnTo>
                  <a:lnTo>
                    <a:pt x="894" y="726"/>
                  </a:lnTo>
                  <a:lnTo>
                    <a:pt x="896" y="714"/>
                  </a:lnTo>
                  <a:lnTo>
                    <a:pt x="898" y="702"/>
                  </a:lnTo>
                  <a:lnTo>
                    <a:pt x="898" y="690"/>
                  </a:lnTo>
                  <a:lnTo>
                    <a:pt x="898" y="676"/>
                  </a:lnTo>
                  <a:lnTo>
                    <a:pt x="896" y="662"/>
                  </a:lnTo>
                  <a:lnTo>
                    <a:pt x="894" y="648"/>
                  </a:lnTo>
                  <a:lnTo>
                    <a:pt x="892" y="634"/>
                  </a:lnTo>
                  <a:lnTo>
                    <a:pt x="887" y="621"/>
                  </a:lnTo>
                  <a:lnTo>
                    <a:pt x="882" y="608"/>
                  </a:lnTo>
                  <a:lnTo>
                    <a:pt x="876" y="596"/>
                  </a:lnTo>
                  <a:lnTo>
                    <a:pt x="868" y="584"/>
                  </a:lnTo>
                  <a:lnTo>
                    <a:pt x="859" y="576"/>
                  </a:lnTo>
                  <a:lnTo>
                    <a:pt x="850" y="568"/>
                  </a:lnTo>
                  <a:lnTo>
                    <a:pt x="839" y="562"/>
                  </a:lnTo>
                  <a:lnTo>
                    <a:pt x="828" y="556"/>
                  </a:lnTo>
                  <a:lnTo>
                    <a:pt x="816" y="552"/>
                  </a:lnTo>
                  <a:lnTo>
                    <a:pt x="804" y="547"/>
                  </a:lnTo>
                  <a:lnTo>
                    <a:pt x="792" y="543"/>
                  </a:lnTo>
                  <a:lnTo>
                    <a:pt x="780" y="537"/>
                  </a:lnTo>
                  <a:lnTo>
                    <a:pt x="767" y="531"/>
                  </a:lnTo>
                  <a:lnTo>
                    <a:pt x="752" y="525"/>
                  </a:lnTo>
                  <a:lnTo>
                    <a:pt x="739" y="518"/>
                  </a:lnTo>
                  <a:lnTo>
                    <a:pt x="725" y="512"/>
                  </a:lnTo>
                  <a:lnTo>
                    <a:pt x="712" y="506"/>
                  </a:lnTo>
                  <a:lnTo>
                    <a:pt x="697" y="501"/>
                  </a:lnTo>
                  <a:lnTo>
                    <a:pt x="683" y="495"/>
                  </a:lnTo>
                  <a:lnTo>
                    <a:pt x="668" y="490"/>
                  </a:lnTo>
                  <a:lnTo>
                    <a:pt x="653" y="487"/>
                  </a:lnTo>
                  <a:lnTo>
                    <a:pt x="637" y="483"/>
                  </a:lnTo>
                  <a:lnTo>
                    <a:pt x="620" y="480"/>
                  </a:lnTo>
                  <a:lnTo>
                    <a:pt x="604" y="477"/>
                  </a:lnTo>
                  <a:lnTo>
                    <a:pt x="588" y="475"/>
                  </a:lnTo>
                  <a:lnTo>
                    <a:pt x="571" y="471"/>
                  </a:lnTo>
                  <a:lnTo>
                    <a:pt x="556" y="466"/>
                  </a:lnTo>
                  <a:lnTo>
                    <a:pt x="540" y="462"/>
                  </a:lnTo>
                  <a:lnTo>
                    <a:pt x="527" y="456"/>
                  </a:lnTo>
                  <a:lnTo>
                    <a:pt x="515" y="450"/>
                  </a:lnTo>
                  <a:lnTo>
                    <a:pt x="503" y="444"/>
                  </a:lnTo>
                  <a:lnTo>
                    <a:pt x="491" y="435"/>
                  </a:lnTo>
                  <a:lnTo>
                    <a:pt x="480" y="428"/>
                  </a:lnTo>
                  <a:lnTo>
                    <a:pt x="468" y="420"/>
                  </a:lnTo>
                  <a:lnTo>
                    <a:pt x="457" y="411"/>
                  </a:lnTo>
                  <a:lnTo>
                    <a:pt x="446" y="403"/>
                  </a:lnTo>
                  <a:lnTo>
                    <a:pt x="427" y="387"/>
                  </a:lnTo>
                  <a:lnTo>
                    <a:pt x="409" y="372"/>
                  </a:lnTo>
                  <a:lnTo>
                    <a:pt x="391" y="355"/>
                  </a:lnTo>
                  <a:lnTo>
                    <a:pt x="373" y="339"/>
                  </a:lnTo>
                  <a:lnTo>
                    <a:pt x="355" y="323"/>
                  </a:lnTo>
                  <a:lnTo>
                    <a:pt x="337" y="306"/>
                  </a:lnTo>
                  <a:lnTo>
                    <a:pt x="318" y="290"/>
                  </a:lnTo>
                  <a:lnTo>
                    <a:pt x="300" y="275"/>
                  </a:lnTo>
                  <a:lnTo>
                    <a:pt x="283" y="261"/>
                  </a:lnTo>
                  <a:lnTo>
                    <a:pt x="265" y="248"/>
                  </a:lnTo>
                  <a:lnTo>
                    <a:pt x="248" y="235"/>
                  </a:lnTo>
                  <a:lnTo>
                    <a:pt x="230" y="223"/>
                  </a:lnTo>
                  <a:lnTo>
                    <a:pt x="214" y="210"/>
                  </a:lnTo>
                  <a:lnTo>
                    <a:pt x="196" y="198"/>
                  </a:lnTo>
                  <a:lnTo>
                    <a:pt x="178" y="186"/>
                  </a:lnTo>
                  <a:lnTo>
                    <a:pt x="160" y="175"/>
                  </a:lnTo>
                  <a:lnTo>
                    <a:pt x="148" y="168"/>
                  </a:lnTo>
                  <a:lnTo>
                    <a:pt x="134" y="163"/>
                  </a:lnTo>
                  <a:lnTo>
                    <a:pt x="122" y="157"/>
                  </a:lnTo>
                  <a:lnTo>
                    <a:pt x="109" y="152"/>
                  </a:lnTo>
                  <a:lnTo>
                    <a:pt x="96" y="147"/>
                  </a:lnTo>
                  <a:lnTo>
                    <a:pt x="84" y="141"/>
                  </a:lnTo>
                  <a:lnTo>
                    <a:pt x="71" y="135"/>
                  </a:lnTo>
                  <a:lnTo>
                    <a:pt x="60" y="128"/>
                  </a:lnTo>
                  <a:lnTo>
                    <a:pt x="50" y="122"/>
                  </a:lnTo>
                  <a:lnTo>
                    <a:pt x="42" y="116"/>
                  </a:lnTo>
                  <a:lnTo>
                    <a:pt x="34" y="110"/>
                  </a:lnTo>
                  <a:lnTo>
                    <a:pt x="25" y="103"/>
                  </a:lnTo>
                  <a:lnTo>
                    <a:pt x="17" y="96"/>
                  </a:lnTo>
                  <a:lnTo>
                    <a:pt x="11" y="87"/>
                  </a:lnTo>
                  <a:lnTo>
                    <a:pt x="5" y="79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4" y="39"/>
                  </a:lnTo>
                  <a:lnTo>
                    <a:pt x="8" y="32"/>
                  </a:lnTo>
                  <a:lnTo>
                    <a:pt x="13" y="26"/>
                  </a:lnTo>
                  <a:lnTo>
                    <a:pt x="18" y="21"/>
                  </a:lnTo>
                  <a:lnTo>
                    <a:pt x="24" y="17"/>
                  </a:lnTo>
                  <a:lnTo>
                    <a:pt x="36" y="12"/>
                  </a:lnTo>
                  <a:lnTo>
                    <a:pt x="48" y="8"/>
                  </a:lnTo>
                  <a:lnTo>
                    <a:pt x="60" y="6"/>
                  </a:lnTo>
                  <a:lnTo>
                    <a:pt x="73" y="5"/>
                  </a:lnTo>
                  <a:lnTo>
                    <a:pt x="85" y="3"/>
                  </a:lnTo>
                  <a:lnTo>
                    <a:pt x="98" y="3"/>
                  </a:lnTo>
                  <a:lnTo>
                    <a:pt x="112" y="5"/>
                  </a:lnTo>
                  <a:lnTo>
                    <a:pt x="124" y="5"/>
                  </a:lnTo>
                  <a:lnTo>
                    <a:pt x="136" y="7"/>
                  </a:lnTo>
                  <a:lnTo>
                    <a:pt x="148" y="8"/>
                  </a:lnTo>
                  <a:lnTo>
                    <a:pt x="158" y="12"/>
                  </a:lnTo>
                  <a:lnTo>
                    <a:pt x="169" y="14"/>
                  </a:lnTo>
                  <a:lnTo>
                    <a:pt x="181" y="19"/>
                  </a:lnTo>
                  <a:lnTo>
                    <a:pt x="192" y="23"/>
                  </a:lnTo>
                  <a:lnTo>
                    <a:pt x="202" y="29"/>
                  </a:lnTo>
                  <a:lnTo>
                    <a:pt x="212" y="35"/>
                  </a:lnTo>
                  <a:lnTo>
                    <a:pt x="226" y="44"/>
                  </a:lnTo>
                  <a:lnTo>
                    <a:pt x="239" y="55"/>
                  </a:lnTo>
                  <a:lnTo>
                    <a:pt x="251" y="67"/>
                  </a:lnTo>
                  <a:lnTo>
                    <a:pt x="263" y="79"/>
                  </a:lnTo>
                  <a:lnTo>
                    <a:pt x="275" y="92"/>
                  </a:lnTo>
                  <a:lnTo>
                    <a:pt x="287" y="104"/>
                  </a:lnTo>
                  <a:lnTo>
                    <a:pt x="299" y="116"/>
                  </a:lnTo>
                  <a:lnTo>
                    <a:pt x="312" y="128"/>
                  </a:lnTo>
                  <a:lnTo>
                    <a:pt x="330" y="144"/>
                  </a:lnTo>
                  <a:lnTo>
                    <a:pt x="348" y="159"/>
                  </a:lnTo>
                  <a:lnTo>
                    <a:pt x="366" y="175"/>
                  </a:lnTo>
                  <a:lnTo>
                    <a:pt x="384" y="191"/>
                  </a:lnTo>
                  <a:lnTo>
                    <a:pt x="402" y="206"/>
                  </a:lnTo>
                  <a:lnTo>
                    <a:pt x="421" y="221"/>
                  </a:lnTo>
                  <a:lnTo>
                    <a:pt x="439" y="236"/>
                  </a:lnTo>
                  <a:lnTo>
                    <a:pt x="458" y="251"/>
                  </a:lnTo>
                  <a:lnTo>
                    <a:pt x="472" y="261"/>
                  </a:lnTo>
                  <a:lnTo>
                    <a:pt x="485" y="272"/>
                  </a:lnTo>
                  <a:lnTo>
                    <a:pt x="498" y="283"/>
                  </a:lnTo>
                  <a:lnTo>
                    <a:pt x="512" y="294"/>
                  </a:lnTo>
                  <a:lnTo>
                    <a:pt x="526" y="305"/>
                  </a:lnTo>
                  <a:lnTo>
                    <a:pt x="540" y="314"/>
                  </a:lnTo>
                  <a:lnTo>
                    <a:pt x="554" y="324"/>
                  </a:lnTo>
                  <a:lnTo>
                    <a:pt x="569" y="333"/>
                  </a:lnTo>
                  <a:lnTo>
                    <a:pt x="577" y="337"/>
                  </a:lnTo>
                  <a:lnTo>
                    <a:pt x="584" y="341"/>
                  </a:lnTo>
                  <a:lnTo>
                    <a:pt x="593" y="343"/>
                  </a:lnTo>
                  <a:lnTo>
                    <a:pt x="600" y="345"/>
                  </a:lnTo>
                  <a:lnTo>
                    <a:pt x="608" y="348"/>
                  </a:lnTo>
                  <a:lnTo>
                    <a:pt x="617" y="349"/>
                  </a:lnTo>
                  <a:lnTo>
                    <a:pt x="625" y="350"/>
                  </a:lnTo>
                  <a:lnTo>
                    <a:pt x="634" y="350"/>
                  </a:lnTo>
                  <a:lnTo>
                    <a:pt x="642" y="351"/>
                  </a:lnTo>
                  <a:lnTo>
                    <a:pt x="649" y="351"/>
                  </a:lnTo>
                  <a:lnTo>
                    <a:pt x="658" y="351"/>
                  </a:lnTo>
                  <a:lnTo>
                    <a:pt x="665" y="350"/>
                  </a:lnTo>
                  <a:lnTo>
                    <a:pt x="673" y="349"/>
                  </a:lnTo>
                  <a:lnTo>
                    <a:pt x="680" y="347"/>
                  </a:lnTo>
                  <a:lnTo>
                    <a:pt x="686" y="343"/>
                  </a:lnTo>
                  <a:lnTo>
                    <a:pt x="692" y="339"/>
                  </a:lnTo>
                  <a:lnTo>
                    <a:pt x="698" y="332"/>
                  </a:lnTo>
                  <a:lnTo>
                    <a:pt x="703" y="324"/>
                  </a:lnTo>
                  <a:lnTo>
                    <a:pt x="707" y="315"/>
                  </a:lnTo>
                  <a:lnTo>
                    <a:pt x="709" y="306"/>
                  </a:lnTo>
                  <a:lnTo>
                    <a:pt x="712" y="297"/>
                  </a:lnTo>
                  <a:lnTo>
                    <a:pt x="714" y="288"/>
                  </a:lnTo>
                  <a:lnTo>
                    <a:pt x="715" y="278"/>
                  </a:lnTo>
                  <a:lnTo>
                    <a:pt x="715" y="269"/>
                  </a:lnTo>
                  <a:lnTo>
                    <a:pt x="716" y="254"/>
                  </a:lnTo>
                  <a:lnTo>
                    <a:pt x="716" y="241"/>
                  </a:lnTo>
                  <a:lnTo>
                    <a:pt x="715" y="227"/>
                  </a:lnTo>
                  <a:lnTo>
                    <a:pt x="714" y="213"/>
                  </a:lnTo>
                  <a:lnTo>
                    <a:pt x="713" y="199"/>
                  </a:lnTo>
                  <a:lnTo>
                    <a:pt x="712" y="186"/>
                  </a:lnTo>
                  <a:lnTo>
                    <a:pt x="710" y="171"/>
                  </a:lnTo>
                  <a:lnTo>
                    <a:pt x="710" y="157"/>
                  </a:lnTo>
                  <a:lnTo>
                    <a:pt x="710" y="150"/>
                  </a:lnTo>
                  <a:lnTo>
                    <a:pt x="710" y="143"/>
                  </a:lnTo>
                  <a:lnTo>
                    <a:pt x="712" y="135"/>
                  </a:lnTo>
                  <a:lnTo>
                    <a:pt x="713" y="128"/>
                  </a:lnTo>
                  <a:lnTo>
                    <a:pt x="714" y="121"/>
                  </a:lnTo>
                  <a:lnTo>
                    <a:pt x="714" y="114"/>
                  </a:lnTo>
                  <a:lnTo>
                    <a:pt x="715" y="107"/>
                  </a:lnTo>
                  <a:lnTo>
                    <a:pt x="715" y="98"/>
                  </a:lnTo>
                  <a:lnTo>
                    <a:pt x="716" y="91"/>
                  </a:lnTo>
                  <a:lnTo>
                    <a:pt x="715" y="83"/>
                  </a:lnTo>
                  <a:lnTo>
                    <a:pt x="715" y="74"/>
                  </a:lnTo>
                  <a:lnTo>
                    <a:pt x="714" y="67"/>
                  </a:lnTo>
                  <a:lnTo>
                    <a:pt x="714" y="59"/>
                  </a:lnTo>
                  <a:lnTo>
                    <a:pt x="714" y="50"/>
                  </a:lnTo>
                  <a:lnTo>
                    <a:pt x="714" y="42"/>
                  </a:lnTo>
                  <a:lnTo>
                    <a:pt x="715" y="35"/>
                  </a:lnTo>
                  <a:lnTo>
                    <a:pt x="718" y="29"/>
                  </a:lnTo>
                  <a:lnTo>
                    <a:pt x="719" y="23"/>
                  </a:lnTo>
                  <a:lnTo>
                    <a:pt x="721" y="17"/>
                  </a:lnTo>
                  <a:lnTo>
                    <a:pt x="724" y="12"/>
                  </a:lnTo>
                  <a:lnTo>
                    <a:pt x="726" y="6"/>
                  </a:lnTo>
                  <a:lnTo>
                    <a:pt x="730" y="2"/>
                  </a:lnTo>
                  <a:lnTo>
                    <a:pt x="734" y="0"/>
                  </a:lnTo>
                  <a:lnTo>
                    <a:pt x="739" y="0"/>
                  </a:lnTo>
                  <a:lnTo>
                    <a:pt x="749" y="1"/>
                  </a:lnTo>
                  <a:lnTo>
                    <a:pt x="760" y="3"/>
                  </a:lnTo>
                  <a:lnTo>
                    <a:pt x="769" y="7"/>
                  </a:lnTo>
                  <a:lnTo>
                    <a:pt x="778" y="13"/>
                  </a:lnTo>
                  <a:lnTo>
                    <a:pt x="787" y="19"/>
                  </a:lnTo>
                  <a:lnTo>
                    <a:pt x="794" y="25"/>
                  </a:lnTo>
                  <a:lnTo>
                    <a:pt x="803" y="32"/>
                  </a:lnTo>
                  <a:lnTo>
                    <a:pt x="810" y="41"/>
                  </a:lnTo>
                  <a:lnTo>
                    <a:pt x="817" y="50"/>
                  </a:lnTo>
                  <a:lnTo>
                    <a:pt x="823" y="60"/>
                  </a:lnTo>
                  <a:lnTo>
                    <a:pt x="828" y="71"/>
                  </a:lnTo>
                  <a:lnTo>
                    <a:pt x="833" y="83"/>
                  </a:lnTo>
                  <a:lnTo>
                    <a:pt x="838" y="93"/>
                  </a:lnTo>
                  <a:lnTo>
                    <a:pt x="841" y="105"/>
                  </a:lnTo>
                  <a:lnTo>
                    <a:pt x="846" y="116"/>
                  </a:lnTo>
                  <a:lnTo>
                    <a:pt x="851" y="128"/>
                  </a:lnTo>
                  <a:lnTo>
                    <a:pt x="857" y="144"/>
                  </a:lnTo>
                  <a:lnTo>
                    <a:pt x="864" y="161"/>
                  </a:lnTo>
                  <a:lnTo>
                    <a:pt x="870" y="176"/>
                  </a:lnTo>
                  <a:lnTo>
                    <a:pt x="877" y="193"/>
                  </a:lnTo>
                  <a:lnTo>
                    <a:pt x="883" y="209"/>
                  </a:lnTo>
                  <a:lnTo>
                    <a:pt x="890" y="224"/>
                  </a:lnTo>
                  <a:lnTo>
                    <a:pt x="896" y="241"/>
                  </a:lnTo>
                  <a:lnTo>
                    <a:pt x="904" y="257"/>
                  </a:lnTo>
                  <a:lnTo>
                    <a:pt x="907" y="266"/>
                  </a:lnTo>
                  <a:lnTo>
                    <a:pt x="911" y="276"/>
                  </a:lnTo>
                  <a:lnTo>
                    <a:pt x="916" y="287"/>
                  </a:lnTo>
                  <a:lnTo>
                    <a:pt x="919" y="296"/>
                  </a:lnTo>
                  <a:lnTo>
                    <a:pt x="923" y="306"/>
                  </a:lnTo>
                  <a:lnTo>
                    <a:pt x="928" y="315"/>
                  </a:lnTo>
                  <a:lnTo>
                    <a:pt x="932" y="324"/>
                  </a:lnTo>
                  <a:lnTo>
                    <a:pt x="938" y="333"/>
                  </a:lnTo>
                  <a:lnTo>
                    <a:pt x="946" y="343"/>
                  </a:lnTo>
                  <a:lnTo>
                    <a:pt x="953" y="353"/>
                  </a:lnTo>
                  <a:lnTo>
                    <a:pt x="960" y="361"/>
                  </a:lnTo>
                  <a:lnTo>
                    <a:pt x="968" y="369"/>
                  </a:lnTo>
                  <a:lnTo>
                    <a:pt x="977" y="379"/>
                  </a:lnTo>
                  <a:lnTo>
                    <a:pt x="985" y="387"/>
                  </a:lnTo>
                  <a:lnTo>
                    <a:pt x="994" y="394"/>
                  </a:lnTo>
                  <a:lnTo>
                    <a:pt x="1003" y="403"/>
                  </a:lnTo>
                  <a:lnTo>
                    <a:pt x="1014" y="414"/>
                  </a:lnTo>
                  <a:lnTo>
                    <a:pt x="1025" y="424"/>
                  </a:lnTo>
                  <a:lnTo>
                    <a:pt x="1036" y="434"/>
                  </a:lnTo>
                  <a:lnTo>
                    <a:pt x="1048" y="445"/>
                  </a:lnTo>
                  <a:lnTo>
                    <a:pt x="1058" y="454"/>
                  </a:lnTo>
                  <a:lnTo>
                    <a:pt x="1070" y="464"/>
                  </a:lnTo>
                  <a:lnTo>
                    <a:pt x="1084" y="472"/>
                  </a:lnTo>
                  <a:lnTo>
                    <a:pt x="1097" y="480"/>
                  </a:lnTo>
                  <a:lnTo>
                    <a:pt x="1108" y="484"/>
                  </a:lnTo>
                  <a:lnTo>
                    <a:pt x="1118" y="488"/>
                  </a:lnTo>
                  <a:lnTo>
                    <a:pt x="1130" y="490"/>
                  </a:lnTo>
                  <a:lnTo>
                    <a:pt x="1142" y="493"/>
                  </a:lnTo>
                  <a:lnTo>
                    <a:pt x="1154" y="494"/>
                  </a:lnTo>
                  <a:lnTo>
                    <a:pt x="1166" y="495"/>
                  </a:lnTo>
                  <a:lnTo>
                    <a:pt x="1178" y="496"/>
                  </a:lnTo>
                  <a:lnTo>
                    <a:pt x="1190" y="496"/>
                  </a:lnTo>
                  <a:lnTo>
                    <a:pt x="1205" y="498"/>
                  </a:lnTo>
                  <a:lnTo>
                    <a:pt x="1220" y="498"/>
                  </a:lnTo>
                  <a:lnTo>
                    <a:pt x="1235" y="498"/>
                  </a:lnTo>
                  <a:lnTo>
                    <a:pt x="1249" y="498"/>
                  </a:lnTo>
                  <a:lnTo>
                    <a:pt x="1264" y="496"/>
                  </a:lnTo>
                  <a:lnTo>
                    <a:pt x="1278" y="495"/>
                  </a:lnTo>
                  <a:lnTo>
                    <a:pt x="1294" y="493"/>
                  </a:lnTo>
                  <a:lnTo>
                    <a:pt x="1308" y="490"/>
                  </a:lnTo>
                  <a:lnTo>
                    <a:pt x="1318" y="489"/>
                  </a:lnTo>
                  <a:lnTo>
                    <a:pt x="1327" y="487"/>
                  </a:lnTo>
                  <a:lnTo>
                    <a:pt x="1338" y="484"/>
                  </a:lnTo>
                  <a:lnTo>
                    <a:pt x="1348" y="481"/>
                  </a:lnTo>
                  <a:lnTo>
                    <a:pt x="1357" y="477"/>
                  </a:lnTo>
                  <a:lnTo>
                    <a:pt x="1367" y="472"/>
                  </a:lnTo>
                  <a:lnTo>
                    <a:pt x="1375" y="468"/>
                  </a:lnTo>
                  <a:lnTo>
                    <a:pt x="1384" y="462"/>
                  </a:lnTo>
                  <a:lnTo>
                    <a:pt x="1392" y="456"/>
                  </a:lnTo>
                  <a:lnTo>
                    <a:pt x="1402" y="448"/>
                  </a:lnTo>
                  <a:lnTo>
                    <a:pt x="1410" y="441"/>
                  </a:lnTo>
                  <a:lnTo>
                    <a:pt x="1418" y="433"/>
                  </a:lnTo>
                  <a:lnTo>
                    <a:pt x="1424" y="424"/>
                  </a:lnTo>
                  <a:lnTo>
                    <a:pt x="1429" y="416"/>
                  </a:lnTo>
                  <a:lnTo>
                    <a:pt x="1430" y="411"/>
                  </a:lnTo>
                  <a:lnTo>
                    <a:pt x="1432" y="406"/>
                  </a:lnTo>
                  <a:lnTo>
                    <a:pt x="1432" y="402"/>
                  </a:lnTo>
                  <a:lnTo>
                    <a:pt x="1430" y="397"/>
                  </a:lnTo>
                  <a:lnTo>
                    <a:pt x="1429" y="392"/>
                  </a:lnTo>
                  <a:lnTo>
                    <a:pt x="1427" y="388"/>
                  </a:lnTo>
                  <a:lnTo>
                    <a:pt x="1423" y="384"/>
                  </a:lnTo>
                  <a:lnTo>
                    <a:pt x="1420" y="381"/>
                  </a:lnTo>
                  <a:lnTo>
                    <a:pt x="1410" y="375"/>
                  </a:lnTo>
                  <a:lnTo>
                    <a:pt x="1399" y="370"/>
                  </a:lnTo>
                  <a:lnTo>
                    <a:pt x="1388" y="367"/>
                  </a:lnTo>
                  <a:lnTo>
                    <a:pt x="1376" y="363"/>
                  </a:lnTo>
                  <a:lnTo>
                    <a:pt x="1366" y="360"/>
                  </a:lnTo>
                  <a:lnTo>
                    <a:pt x="1355" y="356"/>
                  </a:lnTo>
                  <a:lnTo>
                    <a:pt x="1343" y="351"/>
                  </a:lnTo>
                  <a:lnTo>
                    <a:pt x="1330" y="348"/>
                  </a:lnTo>
                  <a:lnTo>
                    <a:pt x="1316" y="343"/>
                  </a:lnTo>
                  <a:lnTo>
                    <a:pt x="1304" y="339"/>
                  </a:lnTo>
                  <a:lnTo>
                    <a:pt x="1291" y="336"/>
                  </a:lnTo>
                  <a:lnTo>
                    <a:pt x="1279" y="332"/>
                  </a:lnTo>
                  <a:lnTo>
                    <a:pt x="1267" y="327"/>
                  </a:lnTo>
                  <a:lnTo>
                    <a:pt x="1255" y="321"/>
                  </a:lnTo>
                  <a:lnTo>
                    <a:pt x="1247" y="317"/>
                  </a:lnTo>
                  <a:lnTo>
                    <a:pt x="1240" y="312"/>
                  </a:lnTo>
                  <a:lnTo>
                    <a:pt x="1232" y="307"/>
                  </a:lnTo>
                  <a:lnTo>
                    <a:pt x="1226" y="301"/>
                  </a:lnTo>
                  <a:lnTo>
                    <a:pt x="1219" y="295"/>
                  </a:lnTo>
                  <a:lnTo>
                    <a:pt x="1213" y="288"/>
                  </a:lnTo>
                  <a:lnTo>
                    <a:pt x="1207" y="282"/>
                  </a:lnTo>
                  <a:lnTo>
                    <a:pt x="1202" y="275"/>
                  </a:lnTo>
                  <a:lnTo>
                    <a:pt x="1198" y="267"/>
                  </a:lnTo>
                  <a:lnTo>
                    <a:pt x="1193" y="260"/>
                  </a:lnTo>
                  <a:lnTo>
                    <a:pt x="1188" y="252"/>
                  </a:lnTo>
                  <a:lnTo>
                    <a:pt x="1184" y="243"/>
                  </a:lnTo>
                  <a:lnTo>
                    <a:pt x="1181" y="235"/>
                  </a:lnTo>
                  <a:lnTo>
                    <a:pt x="1177" y="227"/>
                  </a:lnTo>
                  <a:lnTo>
                    <a:pt x="1175" y="218"/>
                  </a:lnTo>
                  <a:lnTo>
                    <a:pt x="1172" y="210"/>
                  </a:lnTo>
                  <a:lnTo>
                    <a:pt x="1171" y="204"/>
                  </a:lnTo>
                  <a:lnTo>
                    <a:pt x="1171" y="198"/>
                  </a:lnTo>
                  <a:lnTo>
                    <a:pt x="1170" y="192"/>
                  </a:lnTo>
                  <a:lnTo>
                    <a:pt x="1170" y="185"/>
                  </a:lnTo>
                  <a:lnTo>
                    <a:pt x="1171" y="179"/>
                  </a:lnTo>
                  <a:lnTo>
                    <a:pt x="1172" y="173"/>
                  </a:lnTo>
                  <a:lnTo>
                    <a:pt x="1175" y="168"/>
                  </a:lnTo>
                  <a:lnTo>
                    <a:pt x="1178" y="163"/>
                  </a:lnTo>
                  <a:lnTo>
                    <a:pt x="1184" y="158"/>
                  </a:lnTo>
                  <a:lnTo>
                    <a:pt x="1192" y="156"/>
                  </a:lnTo>
                  <a:lnTo>
                    <a:pt x="1199" y="153"/>
                  </a:lnTo>
                  <a:lnTo>
                    <a:pt x="1206" y="152"/>
                  </a:lnTo>
                  <a:lnTo>
                    <a:pt x="1214" y="151"/>
                  </a:lnTo>
                  <a:lnTo>
                    <a:pt x="1222" y="151"/>
                  </a:lnTo>
                  <a:lnTo>
                    <a:pt x="1230" y="151"/>
                  </a:lnTo>
                  <a:lnTo>
                    <a:pt x="1237" y="151"/>
                  </a:lnTo>
                  <a:lnTo>
                    <a:pt x="1247" y="153"/>
                  </a:lnTo>
                  <a:lnTo>
                    <a:pt x="1256" y="156"/>
                  </a:lnTo>
                  <a:lnTo>
                    <a:pt x="1266" y="158"/>
                  </a:lnTo>
                  <a:lnTo>
                    <a:pt x="1276" y="162"/>
                  </a:lnTo>
                  <a:lnTo>
                    <a:pt x="1285" y="165"/>
                  </a:lnTo>
                  <a:lnTo>
                    <a:pt x="1295" y="169"/>
                  </a:lnTo>
                  <a:lnTo>
                    <a:pt x="1304" y="173"/>
                  </a:lnTo>
                  <a:lnTo>
                    <a:pt x="1314" y="175"/>
                  </a:lnTo>
                  <a:lnTo>
                    <a:pt x="1325" y="177"/>
                  </a:lnTo>
                  <a:lnTo>
                    <a:pt x="1337" y="179"/>
                  </a:lnTo>
                  <a:lnTo>
                    <a:pt x="1349" y="181"/>
                  </a:lnTo>
                  <a:lnTo>
                    <a:pt x="1360" y="182"/>
                  </a:lnTo>
                  <a:lnTo>
                    <a:pt x="1372" y="183"/>
                  </a:lnTo>
                  <a:lnTo>
                    <a:pt x="1384" y="185"/>
                  </a:lnTo>
                  <a:lnTo>
                    <a:pt x="1396" y="186"/>
                  </a:lnTo>
                  <a:lnTo>
                    <a:pt x="1408" y="187"/>
                  </a:lnTo>
                  <a:lnTo>
                    <a:pt x="1421" y="187"/>
                  </a:lnTo>
                  <a:lnTo>
                    <a:pt x="1434" y="188"/>
                  </a:lnTo>
                  <a:lnTo>
                    <a:pt x="1447" y="188"/>
                  </a:lnTo>
                  <a:lnTo>
                    <a:pt x="1460" y="188"/>
                  </a:lnTo>
                  <a:lnTo>
                    <a:pt x="1474" y="188"/>
                  </a:lnTo>
                  <a:lnTo>
                    <a:pt x="1487" y="187"/>
                  </a:lnTo>
                  <a:lnTo>
                    <a:pt x="1500" y="187"/>
                  </a:lnTo>
                  <a:lnTo>
                    <a:pt x="1513" y="187"/>
                  </a:lnTo>
                  <a:lnTo>
                    <a:pt x="1522" y="186"/>
                  </a:lnTo>
                  <a:lnTo>
                    <a:pt x="1530" y="185"/>
                  </a:lnTo>
                  <a:lnTo>
                    <a:pt x="1540" y="183"/>
                  </a:lnTo>
                  <a:lnTo>
                    <a:pt x="1548" y="182"/>
                  </a:lnTo>
                  <a:lnTo>
                    <a:pt x="1556" y="181"/>
                  </a:lnTo>
                  <a:lnTo>
                    <a:pt x="1566" y="180"/>
                  </a:lnTo>
                  <a:lnTo>
                    <a:pt x="1574" y="180"/>
                  </a:lnTo>
                  <a:lnTo>
                    <a:pt x="1583" y="181"/>
                  </a:lnTo>
                  <a:lnTo>
                    <a:pt x="1590" y="182"/>
                  </a:lnTo>
                  <a:lnTo>
                    <a:pt x="1598" y="185"/>
                  </a:lnTo>
                  <a:lnTo>
                    <a:pt x="1606" y="187"/>
                  </a:lnTo>
                  <a:lnTo>
                    <a:pt x="1612" y="191"/>
                  </a:lnTo>
                  <a:lnTo>
                    <a:pt x="1619" y="195"/>
                  </a:lnTo>
                  <a:lnTo>
                    <a:pt x="1625" y="199"/>
                  </a:lnTo>
                  <a:lnTo>
                    <a:pt x="1631" y="205"/>
                  </a:lnTo>
                  <a:lnTo>
                    <a:pt x="1636" y="210"/>
                  </a:lnTo>
                  <a:lnTo>
                    <a:pt x="1640" y="216"/>
                  </a:lnTo>
                  <a:lnTo>
                    <a:pt x="1643" y="223"/>
                  </a:lnTo>
                  <a:lnTo>
                    <a:pt x="1645" y="230"/>
                  </a:lnTo>
                  <a:lnTo>
                    <a:pt x="1648" y="237"/>
                  </a:lnTo>
                  <a:lnTo>
                    <a:pt x="1649" y="246"/>
                  </a:lnTo>
                  <a:lnTo>
                    <a:pt x="1650" y="253"/>
                  </a:lnTo>
                  <a:lnTo>
                    <a:pt x="1651" y="261"/>
                  </a:lnTo>
                  <a:lnTo>
                    <a:pt x="1654" y="269"/>
                  </a:lnTo>
                  <a:lnTo>
                    <a:pt x="1658" y="288"/>
                  </a:lnTo>
                  <a:lnTo>
                    <a:pt x="1663" y="308"/>
                  </a:lnTo>
                  <a:lnTo>
                    <a:pt x="1668" y="327"/>
                  </a:lnTo>
                  <a:lnTo>
                    <a:pt x="1673" y="348"/>
                  </a:lnTo>
                  <a:lnTo>
                    <a:pt x="1678" y="367"/>
                  </a:lnTo>
                  <a:lnTo>
                    <a:pt x="1681" y="387"/>
                  </a:lnTo>
                  <a:lnTo>
                    <a:pt x="1685" y="406"/>
                  </a:lnTo>
                  <a:lnTo>
                    <a:pt x="1688" y="427"/>
                  </a:lnTo>
                  <a:lnTo>
                    <a:pt x="1691" y="445"/>
                  </a:lnTo>
                  <a:lnTo>
                    <a:pt x="1692" y="463"/>
                  </a:lnTo>
                  <a:lnTo>
                    <a:pt x="1693" y="482"/>
                  </a:lnTo>
                  <a:lnTo>
                    <a:pt x="1693" y="500"/>
                  </a:lnTo>
                  <a:lnTo>
                    <a:pt x="1693" y="518"/>
                  </a:lnTo>
                  <a:lnTo>
                    <a:pt x="1694" y="537"/>
                  </a:lnTo>
                  <a:lnTo>
                    <a:pt x="1697" y="555"/>
                  </a:lnTo>
                  <a:lnTo>
                    <a:pt x="1700" y="573"/>
                  </a:lnTo>
                  <a:lnTo>
                    <a:pt x="1703" y="585"/>
                  </a:lnTo>
                  <a:lnTo>
                    <a:pt x="1706" y="597"/>
                  </a:lnTo>
                  <a:lnTo>
                    <a:pt x="1710" y="609"/>
                  </a:lnTo>
                  <a:lnTo>
                    <a:pt x="1715" y="620"/>
                  </a:lnTo>
                  <a:lnTo>
                    <a:pt x="1720" y="632"/>
                  </a:lnTo>
                  <a:lnTo>
                    <a:pt x="1726" y="642"/>
                  </a:lnTo>
                  <a:lnTo>
                    <a:pt x="1733" y="652"/>
                  </a:lnTo>
                  <a:lnTo>
                    <a:pt x="1741" y="661"/>
                  </a:lnTo>
                  <a:lnTo>
                    <a:pt x="1747" y="666"/>
                  </a:lnTo>
                  <a:lnTo>
                    <a:pt x="1754" y="669"/>
                  </a:lnTo>
                  <a:lnTo>
                    <a:pt x="1762" y="672"/>
                  </a:lnTo>
                  <a:lnTo>
                    <a:pt x="1770" y="673"/>
                  </a:lnTo>
                  <a:lnTo>
                    <a:pt x="1778" y="673"/>
                  </a:lnTo>
                  <a:lnTo>
                    <a:pt x="1786" y="672"/>
                  </a:lnTo>
                  <a:lnTo>
                    <a:pt x="1793" y="670"/>
                  </a:lnTo>
                  <a:lnTo>
                    <a:pt x="1800" y="667"/>
                  </a:lnTo>
                  <a:lnTo>
                    <a:pt x="1813" y="656"/>
                  </a:lnTo>
                  <a:lnTo>
                    <a:pt x="1825" y="644"/>
                  </a:lnTo>
                  <a:lnTo>
                    <a:pt x="1837" y="632"/>
                  </a:lnTo>
                  <a:lnTo>
                    <a:pt x="1848" y="618"/>
                  </a:lnTo>
                  <a:lnTo>
                    <a:pt x="1858" y="603"/>
                  </a:lnTo>
                  <a:lnTo>
                    <a:pt x="1867" y="589"/>
                  </a:lnTo>
                  <a:lnTo>
                    <a:pt x="1878" y="576"/>
                  </a:lnTo>
                  <a:lnTo>
                    <a:pt x="1888" y="561"/>
                  </a:lnTo>
                  <a:lnTo>
                    <a:pt x="1901" y="544"/>
                  </a:lnTo>
                  <a:lnTo>
                    <a:pt x="1913" y="526"/>
                  </a:lnTo>
                  <a:lnTo>
                    <a:pt x="1925" y="508"/>
                  </a:lnTo>
                  <a:lnTo>
                    <a:pt x="1937" y="490"/>
                  </a:lnTo>
                  <a:lnTo>
                    <a:pt x="1950" y="472"/>
                  </a:lnTo>
                  <a:lnTo>
                    <a:pt x="1962" y="456"/>
                  </a:lnTo>
                  <a:lnTo>
                    <a:pt x="1974" y="438"/>
                  </a:lnTo>
                  <a:lnTo>
                    <a:pt x="1987" y="421"/>
                  </a:lnTo>
                  <a:lnTo>
                    <a:pt x="1997" y="409"/>
                  </a:lnTo>
                  <a:lnTo>
                    <a:pt x="2006" y="396"/>
                  </a:lnTo>
                  <a:lnTo>
                    <a:pt x="2016" y="384"/>
                  </a:lnTo>
                  <a:lnTo>
                    <a:pt x="2026" y="372"/>
                  </a:lnTo>
                  <a:lnTo>
                    <a:pt x="2036" y="360"/>
                  </a:lnTo>
                  <a:lnTo>
                    <a:pt x="2047" y="349"/>
                  </a:lnTo>
                  <a:lnTo>
                    <a:pt x="2058" y="338"/>
                  </a:lnTo>
                  <a:lnTo>
                    <a:pt x="2069" y="327"/>
                  </a:lnTo>
                  <a:lnTo>
                    <a:pt x="2076" y="321"/>
                  </a:lnTo>
                  <a:lnTo>
                    <a:pt x="2083" y="315"/>
                  </a:lnTo>
                  <a:lnTo>
                    <a:pt x="2090" y="309"/>
                  </a:lnTo>
                  <a:lnTo>
                    <a:pt x="2099" y="303"/>
                  </a:lnTo>
                  <a:lnTo>
                    <a:pt x="2107" y="300"/>
                  </a:lnTo>
                  <a:lnTo>
                    <a:pt x="2113" y="297"/>
                  </a:lnTo>
                  <a:lnTo>
                    <a:pt x="2117" y="299"/>
                  </a:lnTo>
                  <a:lnTo>
                    <a:pt x="2119" y="299"/>
                  </a:lnTo>
                  <a:lnTo>
                    <a:pt x="2120" y="301"/>
                  </a:lnTo>
                  <a:lnTo>
                    <a:pt x="2122" y="303"/>
                  </a:lnTo>
                  <a:lnTo>
                    <a:pt x="2128" y="324"/>
                  </a:lnTo>
                  <a:lnTo>
                    <a:pt x="2130" y="345"/>
                  </a:lnTo>
                  <a:lnTo>
                    <a:pt x="2131" y="367"/>
                  </a:lnTo>
                  <a:lnTo>
                    <a:pt x="2131" y="388"/>
                  </a:lnTo>
                  <a:lnTo>
                    <a:pt x="2129" y="410"/>
                  </a:lnTo>
                  <a:lnTo>
                    <a:pt x="2126" y="432"/>
                  </a:lnTo>
                  <a:lnTo>
                    <a:pt x="2122" y="452"/>
                  </a:lnTo>
                  <a:lnTo>
                    <a:pt x="2117" y="474"/>
                  </a:lnTo>
                  <a:lnTo>
                    <a:pt x="2105" y="510"/>
                  </a:lnTo>
                  <a:lnTo>
                    <a:pt x="2093" y="546"/>
                  </a:lnTo>
                  <a:lnTo>
                    <a:pt x="2080" y="582"/>
                  </a:lnTo>
                  <a:lnTo>
                    <a:pt x="2064" y="616"/>
                  </a:lnTo>
                  <a:lnTo>
                    <a:pt x="2048" y="651"/>
                  </a:lnTo>
                  <a:lnTo>
                    <a:pt x="2032" y="686"/>
                  </a:lnTo>
                  <a:lnTo>
                    <a:pt x="2016" y="720"/>
                  </a:lnTo>
                  <a:lnTo>
                    <a:pt x="1999" y="754"/>
                  </a:lnTo>
                  <a:lnTo>
                    <a:pt x="1990" y="774"/>
                  </a:lnTo>
                  <a:lnTo>
                    <a:pt x="1980" y="793"/>
                  </a:lnTo>
                  <a:lnTo>
                    <a:pt x="1970" y="812"/>
                  </a:lnTo>
                  <a:lnTo>
                    <a:pt x="1960" y="830"/>
                  </a:lnTo>
                  <a:lnTo>
                    <a:pt x="1949" y="848"/>
                  </a:lnTo>
                  <a:lnTo>
                    <a:pt x="1937" y="866"/>
                  </a:lnTo>
                  <a:lnTo>
                    <a:pt x="1925" y="884"/>
                  </a:lnTo>
                  <a:lnTo>
                    <a:pt x="1912" y="901"/>
                  </a:lnTo>
                  <a:lnTo>
                    <a:pt x="1902" y="912"/>
                  </a:lnTo>
                  <a:lnTo>
                    <a:pt x="1891" y="920"/>
                  </a:lnTo>
                  <a:lnTo>
                    <a:pt x="1880" y="930"/>
                  </a:lnTo>
                  <a:lnTo>
                    <a:pt x="1868" y="937"/>
                  </a:lnTo>
                  <a:lnTo>
                    <a:pt x="1858" y="945"/>
                  </a:lnTo>
                  <a:lnTo>
                    <a:pt x="1846" y="954"/>
                  </a:lnTo>
                  <a:lnTo>
                    <a:pt x="1834" y="962"/>
                  </a:lnTo>
                  <a:lnTo>
                    <a:pt x="1823" y="970"/>
                  </a:lnTo>
                  <a:lnTo>
                    <a:pt x="1818" y="975"/>
                  </a:lnTo>
                  <a:lnTo>
                    <a:pt x="1813" y="980"/>
                  </a:lnTo>
                  <a:lnTo>
                    <a:pt x="1807" y="985"/>
                  </a:lnTo>
                  <a:lnTo>
                    <a:pt x="1802" y="990"/>
                  </a:lnTo>
                  <a:lnTo>
                    <a:pt x="1798" y="994"/>
                  </a:lnTo>
                  <a:lnTo>
                    <a:pt x="1794" y="1000"/>
                  </a:lnTo>
                  <a:lnTo>
                    <a:pt x="1790" y="1005"/>
                  </a:lnTo>
                  <a:lnTo>
                    <a:pt x="1788" y="1012"/>
                  </a:lnTo>
                  <a:lnTo>
                    <a:pt x="1787" y="1020"/>
                  </a:lnTo>
                  <a:lnTo>
                    <a:pt x="1786" y="1028"/>
                  </a:lnTo>
                  <a:lnTo>
                    <a:pt x="1786" y="1036"/>
                  </a:lnTo>
                  <a:lnTo>
                    <a:pt x="1786" y="1045"/>
                  </a:lnTo>
                  <a:lnTo>
                    <a:pt x="1788" y="1052"/>
                  </a:lnTo>
                  <a:lnTo>
                    <a:pt x="1790" y="1059"/>
                  </a:lnTo>
                  <a:lnTo>
                    <a:pt x="1794" y="1065"/>
                  </a:lnTo>
                  <a:lnTo>
                    <a:pt x="1800" y="1070"/>
                  </a:lnTo>
                  <a:lnTo>
                    <a:pt x="1812" y="1077"/>
                  </a:lnTo>
                  <a:lnTo>
                    <a:pt x="1824" y="1082"/>
                  </a:lnTo>
                  <a:lnTo>
                    <a:pt x="1837" y="1086"/>
                  </a:lnTo>
                  <a:lnTo>
                    <a:pt x="1850" y="1089"/>
                  </a:lnTo>
                  <a:lnTo>
                    <a:pt x="1865" y="1090"/>
                  </a:lnTo>
                  <a:lnTo>
                    <a:pt x="1878" y="1090"/>
                  </a:lnTo>
                  <a:lnTo>
                    <a:pt x="1892" y="1089"/>
                  </a:lnTo>
                  <a:lnTo>
                    <a:pt x="1906" y="1088"/>
                  </a:lnTo>
                  <a:lnTo>
                    <a:pt x="1920" y="1086"/>
                  </a:lnTo>
                  <a:lnTo>
                    <a:pt x="1934" y="1081"/>
                  </a:lnTo>
                  <a:lnTo>
                    <a:pt x="1949" y="1076"/>
                  </a:lnTo>
                  <a:lnTo>
                    <a:pt x="1962" y="1070"/>
                  </a:lnTo>
                  <a:lnTo>
                    <a:pt x="1976" y="1063"/>
                  </a:lnTo>
                  <a:lnTo>
                    <a:pt x="1988" y="1054"/>
                  </a:lnTo>
                  <a:lnTo>
                    <a:pt x="2000" y="1046"/>
                  </a:lnTo>
                  <a:lnTo>
                    <a:pt x="2011" y="1035"/>
                  </a:lnTo>
                  <a:lnTo>
                    <a:pt x="2020" y="1024"/>
                  </a:lnTo>
                  <a:lnTo>
                    <a:pt x="2028" y="1014"/>
                  </a:lnTo>
                  <a:lnTo>
                    <a:pt x="2036" y="1003"/>
                  </a:lnTo>
                  <a:lnTo>
                    <a:pt x="2044" y="992"/>
                  </a:lnTo>
                  <a:lnTo>
                    <a:pt x="2058" y="968"/>
                  </a:lnTo>
                  <a:lnTo>
                    <a:pt x="2071" y="943"/>
                  </a:lnTo>
                  <a:lnTo>
                    <a:pt x="2084" y="919"/>
                  </a:lnTo>
                  <a:lnTo>
                    <a:pt x="2098" y="894"/>
                  </a:lnTo>
                  <a:lnTo>
                    <a:pt x="2112" y="871"/>
                  </a:lnTo>
                  <a:lnTo>
                    <a:pt x="2128" y="848"/>
                  </a:lnTo>
                  <a:lnTo>
                    <a:pt x="2140" y="834"/>
                  </a:lnTo>
                  <a:lnTo>
                    <a:pt x="2153" y="819"/>
                  </a:lnTo>
                  <a:lnTo>
                    <a:pt x="2166" y="805"/>
                  </a:lnTo>
                  <a:lnTo>
                    <a:pt x="2179" y="792"/>
                  </a:lnTo>
                  <a:lnTo>
                    <a:pt x="2194" y="778"/>
                  </a:lnTo>
                  <a:lnTo>
                    <a:pt x="2209" y="766"/>
                  </a:lnTo>
                  <a:lnTo>
                    <a:pt x="2224" y="754"/>
                  </a:lnTo>
                  <a:lnTo>
                    <a:pt x="2239" y="742"/>
                  </a:lnTo>
                  <a:lnTo>
                    <a:pt x="2249" y="735"/>
                  </a:lnTo>
                  <a:lnTo>
                    <a:pt x="2260" y="729"/>
                  </a:lnTo>
                  <a:lnTo>
                    <a:pt x="2270" y="723"/>
                  </a:lnTo>
                  <a:lnTo>
                    <a:pt x="2281" y="717"/>
                  </a:lnTo>
                  <a:lnTo>
                    <a:pt x="2292" y="712"/>
                  </a:lnTo>
                  <a:lnTo>
                    <a:pt x="2304" y="709"/>
                  </a:lnTo>
                  <a:lnTo>
                    <a:pt x="2316" y="708"/>
                  </a:lnTo>
                  <a:lnTo>
                    <a:pt x="2327" y="708"/>
                  </a:lnTo>
                  <a:lnTo>
                    <a:pt x="2339" y="710"/>
                  </a:lnTo>
                  <a:lnTo>
                    <a:pt x="2350" y="714"/>
                  </a:lnTo>
                  <a:lnTo>
                    <a:pt x="2359" y="720"/>
                  </a:lnTo>
                  <a:lnTo>
                    <a:pt x="2369" y="727"/>
                  </a:lnTo>
                  <a:lnTo>
                    <a:pt x="2378" y="734"/>
                  </a:lnTo>
                  <a:lnTo>
                    <a:pt x="2387" y="744"/>
                  </a:lnTo>
                  <a:lnTo>
                    <a:pt x="2395" y="752"/>
                  </a:lnTo>
                  <a:lnTo>
                    <a:pt x="2404" y="760"/>
                  </a:lnTo>
                  <a:lnTo>
                    <a:pt x="2412" y="769"/>
                  </a:lnTo>
                  <a:lnTo>
                    <a:pt x="2419" y="778"/>
                  </a:lnTo>
                  <a:lnTo>
                    <a:pt x="2425" y="789"/>
                  </a:lnTo>
                  <a:lnTo>
                    <a:pt x="2432" y="800"/>
                  </a:lnTo>
                  <a:lnTo>
                    <a:pt x="2438" y="810"/>
                  </a:lnTo>
                  <a:lnTo>
                    <a:pt x="2444" y="820"/>
                  </a:lnTo>
                  <a:lnTo>
                    <a:pt x="2450" y="831"/>
                  </a:lnTo>
                  <a:lnTo>
                    <a:pt x="2456" y="842"/>
                  </a:lnTo>
                  <a:lnTo>
                    <a:pt x="2465" y="858"/>
                  </a:lnTo>
                  <a:lnTo>
                    <a:pt x="2474" y="872"/>
                  </a:lnTo>
                  <a:lnTo>
                    <a:pt x="2484" y="888"/>
                  </a:lnTo>
                  <a:lnTo>
                    <a:pt x="2494" y="902"/>
                  </a:lnTo>
                  <a:lnTo>
                    <a:pt x="2503" y="918"/>
                  </a:lnTo>
                  <a:lnTo>
                    <a:pt x="2512" y="933"/>
                  </a:lnTo>
                  <a:lnTo>
                    <a:pt x="2519" y="949"/>
                  </a:lnTo>
                  <a:lnTo>
                    <a:pt x="2526" y="966"/>
                  </a:lnTo>
                  <a:lnTo>
                    <a:pt x="2530" y="975"/>
                  </a:lnTo>
                  <a:lnTo>
                    <a:pt x="2533" y="985"/>
                  </a:lnTo>
                  <a:lnTo>
                    <a:pt x="2536" y="996"/>
                  </a:lnTo>
                  <a:lnTo>
                    <a:pt x="2538" y="1005"/>
                  </a:lnTo>
                  <a:lnTo>
                    <a:pt x="2539" y="1016"/>
                  </a:lnTo>
                  <a:lnTo>
                    <a:pt x="2540" y="1027"/>
                  </a:lnTo>
                  <a:lnTo>
                    <a:pt x="2539" y="1036"/>
                  </a:lnTo>
                  <a:lnTo>
                    <a:pt x="2538" y="1047"/>
                  </a:lnTo>
                  <a:lnTo>
                    <a:pt x="2537" y="1054"/>
                  </a:lnTo>
                  <a:lnTo>
                    <a:pt x="2533" y="1060"/>
                  </a:lnTo>
                  <a:lnTo>
                    <a:pt x="2531" y="1068"/>
                  </a:lnTo>
                  <a:lnTo>
                    <a:pt x="2526" y="1074"/>
                  </a:lnTo>
                  <a:lnTo>
                    <a:pt x="2521" y="1080"/>
                  </a:lnTo>
                  <a:lnTo>
                    <a:pt x="2515" y="1083"/>
                  </a:lnTo>
                  <a:lnTo>
                    <a:pt x="2509" y="1087"/>
                  </a:lnTo>
                  <a:lnTo>
                    <a:pt x="2503" y="1088"/>
                  </a:lnTo>
                  <a:lnTo>
                    <a:pt x="2492" y="1088"/>
                  </a:lnTo>
                  <a:lnTo>
                    <a:pt x="2482" y="1086"/>
                  </a:lnTo>
                  <a:lnTo>
                    <a:pt x="2472" y="1082"/>
                  </a:lnTo>
                  <a:lnTo>
                    <a:pt x="2462" y="1078"/>
                  </a:lnTo>
                  <a:lnTo>
                    <a:pt x="2453" y="1072"/>
                  </a:lnTo>
                  <a:lnTo>
                    <a:pt x="2443" y="1066"/>
                  </a:lnTo>
                  <a:lnTo>
                    <a:pt x="2435" y="1060"/>
                  </a:lnTo>
                  <a:lnTo>
                    <a:pt x="2426" y="1053"/>
                  </a:lnTo>
                  <a:lnTo>
                    <a:pt x="2417" y="1042"/>
                  </a:lnTo>
                  <a:lnTo>
                    <a:pt x="2407" y="1030"/>
                  </a:lnTo>
                  <a:lnTo>
                    <a:pt x="2398" y="1018"/>
                  </a:lnTo>
                  <a:lnTo>
                    <a:pt x="2389" y="1005"/>
                  </a:lnTo>
                  <a:lnTo>
                    <a:pt x="2382" y="992"/>
                  </a:lnTo>
                  <a:lnTo>
                    <a:pt x="2374" y="979"/>
                  </a:lnTo>
                  <a:lnTo>
                    <a:pt x="2365" y="966"/>
                  </a:lnTo>
                  <a:lnTo>
                    <a:pt x="2357" y="954"/>
                  </a:lnTo>
                  <a:lnTo>
                    <a:pt x="2351" y="945"/>
                  </a:lnTo>
                  <a:lnTo>
                    <a:pt x="2346" y="938"/>
                  </a:lnTo>
                  <a:lnTo>
                    <a:pt x="2340" y="930"/>
                  </a:lnTo>
                  <a:lnTo>
                    <a:pt x="2335" y="922"/>
                  </a:lnTo>
                  <a:lnTo>
                    <a:pt x="2329" y="915"/>
                  </a:lnTo>
                  <a:lnTo>
                    <a:pt x="2323" y="908"/>
                  </a:lnTo>
                  <a:lnTo>
                    <a:pt x="2317" y="901"/>
                  </a:lnTo>
                  <a:lnTo>
                    <a:pt x="2310" y="895"/>
                  </a:lnTo>
                  <a:lnTo>
                    <a:pt x="2306" y="892"/>
                  </a:lnTo>
                  <a:lnTo>
                    <a:pt x="2303" y="891"/>
                  </a:lnTo>
                  <a:lnTo>
                    <a:pt x="2298" y="890"/>
                  </a:lnTo>
                  <a:lnTo>
                    <a:pt x="2294" y="890"/>
                  </a:lnTo>
                  <a:lnTo>
                    <a:pt x="2290" y="890"/>
                  </a:lnTo>
                  <a:lnTo>
                    <a:pt x="2286" y="891"/>
                  </a:lnTo>
                  <a:lnTo>
                    <a:pt x="2282" y="892"/>
                  </a:lnTo>
                  <a:lnTo>
                    <a:pt x="2280" y="895"/>
                  </a:lnTo>
                  <a:lnTo>
                    <a:pt x="2269" y="910"/>
                  </a:lnTo>
                  <a:lnTo>
                    <a:pt x="2261" y="927"/>
                  </a:lnTo>
                  <a:lnTo>
                    <a:pt x="2251" y="944"/>
                  </a:lnTo>
                  <a:lnTo>
                    <a:pt x="2244" y="961"/>
                  </a:lnTo>
                  <a:lnTo>
                    <a:pt x="2236" y="979"/>
                  </a:lnTo>
                  <a:lnTo>
                    <a:pt x="2227" y="996"/>
                  </a:lnTo>
                  <a:lnTo>
                    <a:pt x="2219" y="1012"/>
                  </a:lnTo>
                  <a:lnTo>
                    <a:pt x="2210" y="1029"/>
                  </a:lnTo>
                  <a:lnTo>
                    <a:pt x="2200" y="1046"/>
                  </a:lnTo>
                  <a:lnTo>
                    <a:pt x="2190" y="1063"/>
                  </a:lnTo>
                  <a:lnTo>
                    <a:pt x="2179" y="1080"/>
                  </a:lnTo>
                  <a:lnTo>
                    <a:pt x="2168" y="1095"/>
                  </a:lnTo>
                  <a:lnTo>
                    <a:pt x="2158" y="1112"/>
                  </a:lnTo>
                  <a:lnTo>
                    <a:pt x="2147" y="1127"/>
                  </a:lnTo>
                  <a:lnTo>
                    <a:pt x="2135" y="1143"/>
                  </a:lnTo>
                  <a:lnTo>
                    <a:pt x="2122" y="1159"/>
                  </a:lnTo>
                  <a:lnTo>
                    <a:pt x="2110" y="1172"/>
                  </a:lnTo>
                  <a:lnTo>
                    <a:pt x="2098" y="1185"/>
                  </a:lnTo>
                  <a:lnTo>
                    <a:pt x="2086" y="1198"/>
                  </a:lnTo>
                  <a:lnTo>
                    <a:pt x="2072" y="1210"/>
                  </a:lnTo>
                  <a:lnTo>
                    <a:pt x="2058" y="1222"/>
                  </a:lnTo>
                  <a:lnTo>
                    <a:pt x="2045" y="1234"/>
                  </a:lnTo>
                  <a:lnTo>
                    <a:pt x="2030" y="1246"/>
                  </a:lnTo>
                  <a:lnTo>
                    <a:pt x="2017" y="1258"/>
                  </a:lnTo>
                  <a:lnTo>
                    <a:pt x="2006" y="1265"/>
                  </a:lnTo>
                  <a:lnTo>
                    <a:pt x="1996" y="1273"/>
                  </a:lnTo>
                  <a:lnTo>
                    <a:pt x="1985" y="1280"/>
                  </a:lnTo>
                  <a:lnTo>
                    <a:pt x="1974" y="1287"/>
                  </a:lnTo>
                  <a:lnTo>
                    <a:pt x="1963" y="1294"/>
                  </a:lnTo>
                  <a:lnTo>
                    <a:pt x="1952" y="1300"/>
                  </a:lnTo>
                  <a:lnTo>
                    <a:pt x="1940" y="1305"/>
                  </a:lnTo>
                  <a:lnTo>
                    <a:pt x="1928" y="1310"/>
                  </a:lnTo>
                  <a:lnTo>
                    <a:pt x="1918" y="1313"/>
                  </a:lnTo>
                  <a:lnTo>
                    <a:pt x="1907" y="1317"/>
                  </a:lnTo>
                  <a:lnTo>
                    <a:pt x="1896" y="1318"/>
                  </a:lnTo>
                  <a:lnTo>
                    <a:pt x="1885" y="1321"/>
                  </a:lnTo>
                  <a:lnTo>
                    <a:pt x="1874" y="1322"/>
                  </a:lnTo>
                  <a:lnTo>
                    <a:pt x="1862" y="1323"/>
                  </a:lnTo>
                  <a:lnTo>
                    <a:pt x="1852" y="1325"/>
                  </a:lnTo>
                  <a:lnTo>
                    <a:pt x="1841" y="1328"/>
                  </a:lnTo>
                  <a:lnTo>
                    <a:pt x="1834" y="1330"/>
                  </a:lnTo>
                  <a:lnTo>
                    <a:pt x="1826" y="1331"/>
                  </a:lnTo>
                  <a:lnTo>
                    <a:pt x="1818" y="1334"/>
                  </a:lnTo>
                  <a:lnTo>
                    <a:pt x="1811" y="1335"/>
                  </a:lnTo>
                  <a:lnTo>
                    <a:pt x="1804" y="1337"/>
                  </a:lnTo>
                  <a:lnTo>
                    <a:pt x="1798" y="1341"/>
                  </a:lnTo>
                  <a:lnTo>
                    <a:pt x="1793" y="1346"/>
                  </a:lnTo>
                  <a:lnTo>
                    <a:pt x="1788" y="1352"/>
                  </a:lnTo>
                  <a:lnTo>
                    <a:pt x="1787" y="1357"/>
                  </a:lnTo>
                  <a:lnTo>
                    <a:pt x="1787" y="1361"/>
                  </a:lnTo>
                  <a:lnTo>
                    <a:pt x="1788" y="1367"/>
                  </a:lnTo>
                  <a:lnTo>
                    <a:pt x="1790" y="1372"/>
                  </a:lnTo>
                  <a:lnTo>
                    <a:pt x="1794" y="1378"/>
                  </a:lnTo>
                  <a:lnTo>
                    <a:pt x="1798" y="1383"/>
                  </a:lnTo>
                  <a:lnTo>
                    <a:pt x="1801" y="1388"/>
                  </a:lnTo>
                  <a:lnTo>
                    <a:pt x="1806" y="1393"/>
                  </a:lnTo>
                  <a:lnTo>
                    <a:pt x="1816" y="1401"/>
                  </a:lnTo>
                  <a:lnTo>
                    <a:pt x="1825" y="1408"/>
                  </a:lnTo>
                  <a:lnTo>
                    <a:pt x="1836" y="1414"/>
                  </a:lnTo>
                  <a:lnTo>
                    <a:pt x="1848" y="1420"/>
                  </a:lnTo>
                  <a:lnTo>
                    <a:pt x="1859" y="1427"/>
                  </a:lnTo>
                  <a:lnTo>
                    <a:pt x="1870" y="1435"/>
                  </a:lnTo>
                  <a:lnTo>
                    <a:pt x="1879" y="1442"/>
                  </a:lnTo>
                  <a:lnTo>
                    <a:pt x="1888" y="1451"/>
                  </a:lnTo>
                  <a:lnTo>
                    <a:pt x="1896" y="1462"/>
                  </a:lnTo>
                  <a:lnTo>
                    <a:pt x="1904" y="1475"/>
                  </a:lnTo>
                  <a:lnTo>
                    <a:pt x="1910" y="1489"/>
                  </a:lnTo>
                  <a:lnTo>
                    <a:pt x="1916" y="1502"/>
                  </a:lnTo>
                  <a:lnTo>
                    <a:pt x="1922" y="1515"/>
                  </a:lnTo>
                  <a:lnTo>
                    <a:pt x="1928" y="1529"/>
                  </a:lnTo>
                  <a:lnTo>
                    <a:pt x="1934" y="1543"/>
                  </a:lnTo>
                  <a:lnTo>
                    <a:pt x="1940" y="1556"/>
                  </a:lnTo>
                  <a:lnTo>
                    <a:pt x="1949" y="1575"/>
                  </a:lnTo>
                  <a:lnTo>
                    <a:pt x="1956" y="1594"/>
                  </a:lnTo>
                  <a:lnTo>
                    <a:pt x="1963" y="1613"/>
                  </a:lnTo>
                  <a:lnTo>
                    <a:pt x="1970" y="1633"/>
                  </a:lnTo>
                  <a:lnTo>
                    <a:pt x="1979" y="1652"/>
                  </a:lnTo>
                  <a:lnTo>
                    <a:pt x="1987" y="1670"/>
                  </a:lnTo>
                  <a:lnTo>
                    <a:pt x="1992" y="1678"/>
                  </a:lnTo>
                  <a:lnTo>
                    <a:pt x="1998" y="1687"/>
                  </a:lnTo>
                  <a:lnTo>
                    <a:pt x="2004" y="1695"/>
                  </a:lnTo>
                  <a:lnTo>
                    <a:pt x="2011" y="1702"/>
                  </a:lnTo>
                  <a:lnTo>
                    <a:pt x="2027" y="1718"/>
                  </a:lnTo>
                  <a:lnTo>
                    <a:pt x="2045" y="1731"/>
                  </a:lnTo>
                  <a:lnTo>
                    <a:pt x="2063" y="1742"/>
                  </a:lnTo>
                  <a:lnTo>
                    <a:pt x="2082" y="1753"/>
                  </a:lnTo>
                  <a:lnTo>
                    <a:pt x="2102" y="1762"/>
                  </a:lnTo>
                  <a:lnTo>
                    <a:pt x="2123" y="1772"/>
                  </a:lnTo>
                  <a:lnTo>
                    <a:pt x="2143" y="1781"/>
                  </a:lnTo>
                  <a:lnTo>
                    <a:pt x="2164" y="1790"/>
                  </a:lnTo>
                  <a:lnTo>
                    <a:pt x="2178" y="1797"/>
                  </a:lnTo>
                  <a:lnTo>
                    <a:pt x="2192" y="1803"/>
                  </a:lnTo>
                  <a:lnTo>
                    <a:pt x="2207" y="1808"/>
                  </a:lnTo>
                  <a:lnTo>
                    <a:pt x="2222" y="1813"/>
                  </a:lnTo>
                  <a:lnTo>
                    <a:pt x="2237" y="1817"/>
                  </a:lnTo>
                  <a:lnTo>
                    <a:pt x="2252" y="1823"/>
                  </a:lnTo>
                  <a:lnTo>
                    <a:pt x="2267" y="1829"/>
                  </a:lnTo>
                  <a:lnTo>
                    <a:pt x="2280" y="1838"/>
                  </a:lnTo>
                  <a:lnTo>
                    <a:pt x="2287" y="1841"/>
                  </a:lnTo>
                  <a:lnTo>
                    <a:pt x="2293" y="1846"/>
                  </a:lnTo>
                  <a:lnTo>
                    <a:pt x="2300" y="1851"/>
                  </a:lnTo>
                  <a:lnTo>
                    <a:pt x="2305" y="1857"/>
                  </a:lnTo>
                  <a:lnTo>
                    <a:pt x="2311" y="1863"/>
                  </a:lnTo>
                  <a:lnTo>
                    <a:pt x="2315" y="1870"/>
                  </a:lnTo>
                  <a:lnTo>
                    <a:pt x="2318" y="1876"/>
                  </a:lnTo>
                  <a:lnTo>
                    <a:pt x="2321" y="1884"/>
                  </a:lnTo>
                  <a:lnTo>
                    <a:pt x="2323" y="1893"/>
                  </a:lnTo>
                  <a:lnTo>
                    <a:pt x="2326" y="1904"/>
                  </a:lnTo>
                  <a:lnTo>
                    <a:pt x="2326" y="1914"/>
                  </a:lnTo>
                  <a:lnTo>
                    <a:pt x="2326" y="1924"/>
                  </a:lnTo>
                  <a:lnTo>
                    <a:pt x="2324" y="1934"/>
                  </a:lnTo>
                  <a:lnTo>
                    <a:pt x="2322" y="1943"/>
                  </a:lnTo>
                  <a:lnTo>
                    <a:pt x="2320" y="1947"/>
                  </a:lnTo>
                  <a:lnTo>
                    <a:pt x="2317" y="1949"/>
                  </a:lnTo>
                  <a:lnTo>
                    <a:pt x="2314" y="1952"/>
                  </a:lnTo>
                  <a:lnTo>
                    <a:pt x="2310" y="1954"/>
                  </a:lnTo>
                  <a:lnTo>
                    <a:pt x="2303" y="1956"/>
                  </a:lnTo>
                  <a:lnTo>
                    <a:pt x="2294" y="1958"/>
                  </a:lnTo>
                  <a:lnTo>
                    <a:pt x="2287" y="1959"/>
                  </a:lnTo>
                  <a:lnTo>
                    <a:pt x="2280" y="1959"/>
                  </a:lnTo>
                  <a:lnTo>
                    <a:pt x="2264" y="1958"/>
                  </a:lnTo>
                  <a:lnTo>
                    <a:pt x="2249" y="1955"/>
                  </a:lnTo>
                  <a:lnTo>
                    <a:pt x="2233" y="1950"/>
                  </a:lnTo>
                  <a:lnTo>
                    <a:pt x="2218" y="1946"/>
                  </a:lnTo>
                  <a:lnTo>
                    <a:pt x="2202" y="1941"/>
                  </a:lnTo>
                  <a:lnTo>
                    <a:pt x="2186" y="1936"/>
                  </a:lnTo>
                  <a:lnTo>
                    <a:pt x="2170" y="1931"/>
                  </a:lnTo>
                  <a:lnTo>
                    <a:pt x="2154" y="1925"/>
                  </a:lnTo>
                  <a:lnTo>
                    <a:pt x="2137" y="1919"/>
                  </a:lnTo>
                  <a:lnTo>
                    <a:pt x="2122" y="1912"/>
                  </a:lnTo>
                  <a:lnTo>
                    <a:pt x="2105" y="1906"/>
                  </a:lnTo>
                  <a:lnTo>
                    <a:pt x="2089" y="1899"/>
                  </a:lnTo>
                  <a:lnTo>
                    <a:pt x="2074" y="1890"/>
                  </a:lnTo>
                  <a:lnTo>
                    <a:pt x="2058" y="1884"/>
                  </a:lnTo>
                  <a:lnTo>
                    <a:pt x="2039" y="1876"/>
                  </a:lnTo>
                  <a:lnTo>
                    <a:pt x="2018" y="1868"/>
                  </a:lnTo>
                  <a:lnTo>
                    <a:pt x="1999" y="1860"/>
                  </a:lnTo>
                  <a:lnTo>
                    <a:pt x="1979" y="1853"/>
                  </a:lnTo>
                  <a:lnTo>
                    <a:pt x="1960" y="1845"/>
                  </a:lnTo>
                  <a:lnTo>
                    <a:pt x="1942" y="1835"/>
                  </a:lnTo>
                  <a:lnTo>
                    <a:pt x="1922" y="1826"/>
                  </a:lnTo>
                  <a:lnTo>
                    <a:pt x="1906" y="1814"/>
                  </a:lnTo>
                  <a:lnTo>
                    <a:pt x="1892" y="1804"/>
                  </a:lnTo>
                  <a:lnTo>
                    <a:pt x="1880" y="1793"/>
                  </a:lnTo>
                  <a:lnTo>
                    <a:pt x="1870" y="1781"/>
                  </a:lnTo>
                  <a:lnTo>
                    <a:pt x="1859" y="1769"/>
                  </a:lnTo>
                  <a:lnTo>
                    <a:pt x="1848" y="1756"/>
                  </a:lnTo>
                  <a:lnTo>
                    <a:pt x="1840" y="1743"/>
                  </a:lnTo>
                  <a:lnTo>
                    <a:pt x="1831" y="1729"/>
                  </a:lnTo>
                  <a:lnTo>
                    <a:pt x="1823" y="1714"/>
                  </a:lnTo>
                  <a:lnTo>
                    <a:pt x="1819" y="1705"/>
                  </a:lnTo>
                  <a:lnTo>
                    <a:pt x="1817" y="1694"/>
                  </a:lnTo>
                  <a:lnTo>
                    <a:pt x="1817" y="1682"/>
                  </a:lnTo>
                  <a:lnTo>
                    <a:pt x="1816" y="1671"/>
                  </a:lnTo>
                  <a:lnTo>
                    <a:pt x="1816" y="1660"/>
                  </a:lnTo>
                  <a:lnTo>
                    <a:pt x="1816" y="1648"/>
                  </a:lnTo>
                  <a:lnTo>
                    <a:pt x="1814" y="1637"/>
                  </a:lnTo>
                  <a:lnTo>
                    <a:pt x="1812" y="1627"/>
                  </a:lnTo>
                  <a:lnTo>
                    <a:pt x="1808" y="1617"/>
                  </a:lnTo>
                  <a:lnTo>
                    <a:pt x="1805" y="1607"/>
                  </a:lnTo>
                  <a:lnTo>
                    <a:pt x="1800" y="1598"/>
                  </a:lnTo>
                  <a:lnTo>
                    <a:pt x="1795" y="1588"/>
                  </a:lnTo>
                  <a:lnTo>
                    <a:pt x="1790" y="1579"/>
                  </a:lnTo>
                  <a:lnTo>
                    <a:pt x="1784" y="1570"/>
                  </a:lnTo>
                  <a:lnTo>
                    <a:pt x="1778" y="1563"/>
                  </a:lnTo>
                  <a:lnTo>
                    <a:pt x="1770" y="1556"/>
                  </a:lnTo>
                  <a:lnTo>
                    <a:pt x="1765" y="1553"/>
                  </a:lnTo>
                  <a:lnTo>
                    <a:pt x="1759" y="1551"/>
                  </a:lnTo>
                  <a:lnTo>
                    <a:pt x="1753" y="1549"/>
                  </a:lnTo>
                  <a:lnTo>
                    <a:pt x="1747" y="1549"/>
                  </a:lnTo>
                  <a:lnTo>
                    <a:pt x="1740" y="1549"/>
                  </a:lnTo>
                  <a:lnTo>
                    <a:pt x="1734" y="1550"/>
                  </a:lnTo>
                  <a:lnTo>
                    <a:pt x="1728" y="1552"/>
                  </a:lnTo>
                  <a:lnTo>
                    <a:pt x="1723" y="1556"/>
                  </a:lnTo>
                  <a:lnTo>
                    <a:pt x="1717" y="1563"/>
                  </a:lnTo>
                  <a:lnTo>
                    <a:pt x="1712" y="1571"/>
                  </a:lnTo>
                  <a:lnTo>
                    <a:pt x="1709" y="1580"/>
                  </a:lnTo>
                  <a:lnTo>
                    <a:pt x="1706" y="1588"/>
                  </a:lnTo>
                  <a:lnTo>
                    <a:pt x="1704" y="1598"/>
                  </a:lnTo>
                  <a:lnTo>
                    <a:pt x="1703" y="1607"/>
                  </a:lnTo>
                  <a:lnTo>
                    <a:pt x="1702" y="1617"/>
                  </a:lnTo>
                  <a:lnTo>
                    <a:pt x="1700" y="1627"/>
                  </a:lnTo>
                  <a:lnTo>
                    <a:pt x="1699" y="1646"/>
                  </a:lnTo>
                  <a:lnTo>
                    <a:pt x="1698" y="1666"/>
                  </a:lnTo>
                  <a:lnTo>
                    <a:pt x="1698" y="1685"/>
                  </a:lnTo>
                  <a:lnTo>
                    <a:pt x="1698" y="1706"/>
                  </a:lnTo>
                  <a:lnTo>
                    <a:pt x="1698" y="1725"/>
                  </a:lnTo>
                  <a:lnTo>
                    <a:pt x="1699" y="1745"/>
                  </a:lnTo>
                  <a:lnTo>
                    <a:pt x="1699" y="1765"/>
                  </a:lnTo>
                  <a:lnTo>
                    <a:pt x="1700" y="1785"/>
                  </a:lnTo>
                  <a:lnTo>
                    <a:pt x="1700" y="1799"/>
                  </a:lnTo>
                  <a:lnTo>
                    <a:pt x="1703" y="1815"/>
                  </a:lnTo>
                  <a:lnTo>
                    <a:pt x="1704" y="1831"/>
                  </a:lnTo>
                  <a:lnTo>
                    <a:pt x="1705" y="1846"/>
                  </a:lnTo>
                  <a:lnTo>
                    <a:pt x="1706" y="1862"/>
                  </a:lnTo>
                  <a:lnTo>
                    <a:pt x="1708" y="1877"/>
                  </a:lnTo>
                  <a:lnTo>
                    <a:pt x="1708" y="1892"/>
                  </a:lnTo>
                  <a:lnTo>
                    <a:pt x="1706" y="1907"/>
                  </a:lnTo>
                  <a:lnTo>
                    <a:pt x="1704" y="1919"/>
                  </a:lnTo>
                  <a:lnTo>
                    <a:pt x="1700" y="1930"/>
                  </a:lnTo>
                  <a:lnTo>
                    <a:pt x="1696" y="1941"/>
                  </a:lnTo>
                  <a:lnTo>
                    <a:pt x="1691" y="1952"/>
                  </a:lnTo>
                  <a:lnTo>
                    <a:pt x="1686" y="1962"/>
                  </a:lnTo>
                  <a:lnTo>
                    <a:pt x="1681" y="1973"/>
                  </a:lnTo>
                  <a:lnTo>
                    <a:pt x="1675" y="1984"/>
                  </a:lnTo>
                  <a:lnTo>
                    <a:pt x="1670" y="1995"/>
                  </a:lnTo>
                  <a:lnTo>
                    <a:pt x="1666" y="2008"/>
                  </a:lnTo>
                  <a:lnTo>
                    <a:pt x="1662" y="2022"/>
                  </a:lnTo>
                  <a:lnTo>
                    <a:pt x="1657" y="2036"/>
                  </a:lnTo>
                  <a:lnTo>
                    <a:pt x="1654" y="2049"/>
                  </a:lnTo>
                  <a:lnTo>
                    <a:pt x="1649" y="2063"/>
                  </a:lnTo>
                  <a:lnTo>
                    <a:pt x="1644" y="2076"/>
                  </a:lnTo>
                  <a:lnTo>
                    <a:pt x="1637" y="2088"/>
                  </a:lnTo>
                  <a:lnTo>
                    <a:pt x="1630" y="2100"/>
                  </a:lnTo>
                  <a:lnTo>
                    <a:pt x="1622" y="2110"/>
                  </a:lnTo>
                  <a:lnTo>
                    <a:pt x="1614" y="2120"/>
                  </a:lnTo>
                  <a:lnTo>
                    <a:pt x="1604" y="2128"/>
                  </a:lnTo>
                  <a:lnTo>
                    <a:pt x="1595" y="2136"/>
                  </a:lnTo>
                  <a:lnTo>
                    <a:pt x="1585" y="2144"/>
                  </a:lnTo>
                  <a:lnTo>
                    <a:pt x="1574" y="2151"/>
                  </a:lnTo>
                  <a:lnTo>
                    <a:pt x="1565" y="2158"/>
                  </a:lnTo>
                  <a:lnTo>
                    <a:pt x="1554" y="2165"/>
                  </a:lnTo>
                  <a:lnTo>
                    <a:pt x="1547" y="2169"/>
                  </a:lnTo>
                  <a:lnTo>
                    <a:pt x="1540" y="2174"/>
                  </a:lnTo>
                  <a:lnTo>
                    <a:pt x="1532" y="2178"/>
                  </a:lnTo>
                  <a:lnTo>
                    <a:pt x="1524" y="2182"/>
                  </a:lnTo>
                  <a:lnTo>
                    <a:pt x="1517" y="2184"/>
                  </a:lnTo>
                  <a:lnTo>
                    <a:pt x="1508" y="2186"/>
                  </a:lnTo>
                  <a:lnTo>
                    <a:pt x="1505" y="2186"/>
                  </a:lnTo>
                  <a:lnTo>
                    <a:pt x="1501" y="2186"/>
                  </a:lnTo>
                  <a:lnTo>
                    <a:pt x="1499" y="2184"/>
                  </a:lnTo>
                  <a:lnTo>
                    <a:pt x="1495" y="2182"/>
                  </a:lnTo>
                  <a:lnTo>
                    <a:pt x="1487" y="2176"/>
                  </a:lnTo>
                  <a:lnTo>
                    <a:pt x="1481" y="2168"/>
                  </a:lnTo>
                  <a:lnTo>
                    <a:pt x="1476" y="2159"/>
                  </a:lnTo>
                  <a:lnTo>
                    <a:pt x="1472" y="2148"/>
                  </a:lnTo>
                  <a:lnTo>
                    <a:pt x="1469" y="2139"/>
                  </a:lnTo>
                  <a:lnTo>
                    <a:pt x="1468" y="2128"/>
                  </a:lnTo>
                  <a:lnTo>
                    <a:pt x="1466" y="2117"/>
                  </a:lnTo>
                  <a:lnTo>
                    <a:pt x="1466" y="2106"/>
                  </a:lnTo>
                  <a:lnTo>
                    <a:pt x="1466" y="2091"/>
                  </a:lnTo>
                  <a:lnTo>
                    <a:pt x="1469" y="2076"/>
                  </a:lnTo>
                  <a:lnTo>
                    <a:pt x="1471" y="2062"/>
                  </a:lnTo>
                  <a:lnTo>
                    <a:pt x="1475" y="2046"/>
                  </a:lnTo>
                  <a:lnTo>
                    <a:pt x="1480" y="2032"/>
                  </a:lnTo>
                  <a:lnTo>
                    <a:pt x="1484" y="2018"/>
                  </a:lnTo>
                  <a:lnTo>
                    <a:pt x="1490" y="2003"/>
                  </a:lnTo>
                  <a:lnTo>
                    <a:pt x="1495" y="1989"/>
                  </a:lnTo>
                  <a:lnTo>
                    <a:pt x="1500" y="1977"/>
                  </a:lnTo>
                  <a:lnTo>
                    <a:pt x="1506" y="1966"/>
                  </a:lnTo>
                  <a:lnTo>
                    <a:pt x="1513" y="1954"/>
                  </a:lnTo>
                  <a:lnTo>
                    <a:pt x="1520" y="1943"/>
                  </a:lnTo>
                  <a:lnTo>
                    <a:pt x="1526" y="1931"/>
                  </a:lnTo>
                  <a:lnTo>
                    <a:pt x="1532" y="1920"/>
                  </a:lnTo>
                  <a:lnTo>
                    <a:pt x="1538" y="1908"/>
                  </a:lnTo>
                  <a:lnTo>
                    <a:pt x="1542" y="1895"/>
                  </a:lnTo>
                  <a:lnTo>
                    <a:pt x="1547" y="1875"/>
                  </a:lnTo>
                  <a:lnTo>
                    <a:pt x="1550" y="1853"/>
                  </a:lnTo>
                  <a:lnTo>
                    <a:pt x="1554" y="1833"/>
                  </a:lnTo>
                  <a:lnTo>
                    <a:pt x="1556" y="1811"/>
                  </a:lnTo>
                  <a:lnTo>
                    <a:pt x="1559" y="1790"/>
                  </a:lnTo>
                  <a:lnTo>
                    <a:pt x="1560" y="1768"/>
                  </a:lnTo>
                  <a:lnTo>
                    <a:pt x="1560" y="1748"/>
                  </a:lnTo>
                  <a:lnTo>
                    <a:pt x="1560" y="1726"/>
                  </a:lnTo>
                  <a:lnTo>
                    <a:pt x="1559" y="1712"/>
                  </a:lnTo>
                  <a:lnTo>
                    <a:pt x="1556" y="1699"/>
                  </a:lnTo>
                  <a:lnTo>
                    <a:pt x="1554" y="1685"/>
                  </a:lnTo>
                  <a:lnTo>
                    <a:pt x="1552" y="1671"/>
                  </a:lnTo>
                  <a:lnTo>
                    <a:pt x="1547" y="1658"/>
                  </a:lnTo>
                  <a:lnTo>
                    <a:pt x="1542" y="1646"/>
                  </a:lnTo>
                  <a:lnTo>
                    <a:pt x="1536" y="1633"/>
                  </a:lnTo>
                  <a:lnTo>
                    <a:pt x="1530" y="1621"/>
                  </a:lnTo>
                  <a:lnTo>
                    <a:pt x="1526" y="1613"/>
                  </a:lnTo>
                  <a:lnTo>
                    <a:pt x="1520" y="1606"/>
                  </a:lnTo>
                  <a:lnTo>
                    <a:pt x="1514" y="1600"/>
                  </a:lnTo>
                  <a:lnTo>
                    <a:pt x="1508" y="1594"/>
                  </a:lnTo>
                  <a:lnTo>
                    <a:pt x="1501" y="1588"/>
                  </a:lnTo>
                  <a:lnTo>
                    <a:pt x="1494" y="1585"/>
                  </a:lnTo>
                  <a:lnTo>
                    <a:pt x="1486" y="1581"/>
                  </a:lnTo>
                  <a:lnTo>
                    <a:pt x="1477" y="1580"/>
                  </a:lnTo>
                  <a:lnTo>
                    <a:pt x="1468" y="1580"/>
                  </a:lnTo>
                  <a:lnTo>
                    <a:pt x="1458" y="1581"/>
                  </a:lnTo>
                  <a:lnTo>
                    <a:pt x="1448" y="1583"/>
                  </a:lnTo>
                  <a:lnTo>
                    <a:pt x="1439" y="1586"/>
                  </a:lnTo>
                  <a:lnTo>
                    <a:pt x="1430" y="1591"/>
                  </a:lnTo>
                  <a:lnTo>
                    <a:pt x="1422" y="1597"/>
                  </a:lnTo>
                  <a:lnTo>
                    <a:pt x="1414" y="1603"/>
                  </a:lnTo>
                  <a:lnTo>
                    <a:pt x="1408" y="1609"/>
                  </a:lnTo>
                  <a:lnTo>
                    <a:pt x="1398" y="1621"/>
                  </a:lnTo>
                  <a:lnTo>
                    <a:pt x="1391" y="1633"/>
                  </a:lnTo>
                  <a:lnTo>
                    <a:pt x="1384" y="1646"/>
                  </a:lnTo>
                  <a:lnTo>
                    <a:pt x="1378" y="1659"/>
                  </a:lnTo>
                  <a:lnTo>
                    <a:pt x="1372" y="1673"/>
                  </a:lnTo>
                  <a:lnTo>
                    <a:pt x="1367" y="1687"/>
                  </a:lnTo>
                  <a:lnTo>
                    <a:pt x="1361" y="1701"/>
                  </a:lnTo>
                  <a:lnTo>
                    <a:pt x="1355" y="1714"/>
                  </a:lnTo>
                  <a:lnTo>
                    <a:pt x="1344" y="1736"/>
                  </a:lnTo>
                  <a:lnTo>
                    <a:pt x="1333" y="1757"/>
                  </a:lnTo>
                  <a:lnTo>
                    <a:pt x="1322" y="1779"/>
                  </a:lnTo>
                  <a:lnTo>
                    <a:pt x="1313" y="1801"/>
                  </a:lnTo>
                  <a:lnTo>
                    <a:pt x="1302" y="1821"/>
                  </a:lnTo>
                  <a:lnTo>
                    <a:pt x="1290" y="1842"/>
                  </a:lnTo>
                  <a:lnTo>
                    <a:pt x="1279" y="1863"/>
                  </a:lnTo>
                  <a:lnTo>
                    <a:pt x="1267" y="1884"/>
                  </a:lnTo>
                  <a:lnTo>
                    <a:pt x="1255" y="1902"/>
                  </a:lnTo>
                  <a:lnTo>
                    <a:pt x="1243" y="1922"/>
                  </a:lnTo>
                  <a:lnTo>
                    <a:pt x="1231" y="1940"/>
                  </a:lnTo>
                  <a:lnTo>
                    <a:pt x="1218" y="1958"/>
                  </a:lnTo>
                  <a:lnTo>
                    <a:pt x="1205" y="1976"/>
                  </a:lnTo>
                  <a:lnTo>
                    <a:pt x="1192" y="1992"/>
                  </a:lnTo>
                  <a:lnTo>
                    <a:pt x="1176" y="2009"/>
                  </a:lnTo>
                  <a:lnTo>
                    <a:pt x="1162" y="2025"/>
                  </a:lnTo>
                  <a:lnTo>
                    <a:pt x="1145" y="2039"/>
                  </a:lnTo>
                  <a:lnTo>
                    <a:pt x="1128" y="2054"/>
                  </a:lnTo>
                  <a:lnTo>
                    <a:pt x="1110" y="2067"/>
                  </a:lnTo>
                  <a:lnTo>
                    <a:pt x="1092" y="2080"/>
                  </a:lnTo>
                  <a:lnTo>
                    <a:pt x="1073" y="2092"/>
                  </a:lnTo>
                  <a:lnTo>
                    <a:pt x="1054" y="2103"/>
                  </a:lnTo>
                  <a:lnTo>
                    <a:pt x="1034" y="2114"/>
                  </a:lnTo>
                  <a:lnTo>
                    <a:pt x="1015" y="2124"/>
                  </a:lnTo>
                  <a:lnTo>
                    <a:pt x="1000" y="2130"/>
                  </a:lnTo>
                  <a:lnTo>
                    <a:pt x="984" y="2136"/>
                  </a:lnTo>
                  <a:lnTo>
                    <a:pt x="968" y="2142"/>
                  </a:lnTo>
                  <a:lnTo>
                    <a:pt x="952" y="2147"/>
                  </a:lnTo>
                  <a:lnTo>
                    <a:pt x="935" y="2151"/>
                  </a:lnTo>
                  <a:lnTo>
                    <a:pt x="919" y="2154"/>
                  </a:lnTo>
                  <a:lnTo>
                    <a:pt x="902" y="2157"/>
                  </a:lnTo>
                  <a:lnTo>
                    <a:pt x="886" y="2159"/>
                  </a:lnTo>
                  <a:lnTo>
                    <a:pt x="880" y="2159"/>
                  </a:lnTo>
                  <a:lnTo>
                    <a:pt x="872" y="2160"/>
                  </a:lnTo>
                  <a:lnTo>
                    <a:pt x="866" y="2159"/>
                  </a:lnTo>
                  <a:lnTo>
                    <a:pt x="859" y="2159"/>
                  </a:lnTo>
                  <a:lnTo>
                    <a:pt x="853" y="2158"/>
                  </a:lnTo>
                  <a:lnTo>
                    <a:pt x="848" y="2156"/>
                  </a:lnTo>
                  <a:lnTo>
                    <a:pt x="842" y="2152"/>
                  </a:lnTo>
                  <a:lnTo>
                    <a:pt x="839" y="2147"/>
                  </a:lnTo>
                  <a:lnTo>
                    <a:pt x="836" y="2142"/>
                  </a:lnTo>
                  <a:lnTo>
                    <a:pt x="834" y="2136"/>
                  </a:lnTo>
                  <a:lnTo>
                    <a:pt x="834" y="2130"/>
                  </a:lnTo>
                  <a:lnTo>
                    <a:pt x="835" y="2123"/>
                  </a:lnTo>
                  <a:lnTo>
                    <a:pt x="836" y="2117"/>
                  </a:lnTo>
                  <a:lnTo>
                    <a:pt x="839" y="2111"/>
                  </a:lnTo>
                  <a:lnTo>
                    <a:pt x="841" y="2105"/>
                  </a:lnTo>
                  <a:lnTo>
                    <a:pt x="845" y="2100"/>
                  </a:lnTo>
                  <a:lnTo>
                    <a:pt x="857" y="2087"/>
                  </a:lnTo>
                  <a:lnTo>
                    <a:pt x="870" y="2075"/>
                  </a:lnTo>
                  <a:lnTo>
                    <a:pt x="884" y="2063"/>
                  </a:lnTo>
                  <a:lnTo>
                    <a:pt x="899" y="2052"/>
                  </a:lnTo>
                  <a:lnTo>
                    <a:pt x="913" y="2040"/>
                  </a:lnTo>
                  <a:lnTo>
                    <a:pt x="928" y="2030"/>
                  </a:lnTo>
                  <a:lnTo>
                    <a:pt x="942" y="2019"/>
                  </a:lnTo>
                  <a:lnTo>
                    <a:pt x="956" y="2007"/>
                  </a:lnTo>
                  <a:lnTo>
                    <a:pt x="972" y="1992"/>
                  </a:lnTo>
                  <a:lnTo>
                    <a:pt x="989" y="1979"/>
                  </a:lnTo>
                  <a:lnTo>
                    <a:pt x="1004" y="1965"/>
                  </a:lnTo>
                  <a:lnTo>
                    <a:pt x="1021" y="1952"/>
                  </a:lnTo>
                  <a:lnTo>
                    <a:pt x="1037" y="1937"/>
                  </a:lnTo>
                  <a:lnTo>
                    <a:pt x="1052" y="1923"/>
                  </a:lnTo>
                  <a:lnTo>
                    <a:pt x="1066" y="1906"/>
                  </a:lnTo>
                  <a:lnTo>
                    <a:pt x="1079" y="1889"/>
                  </a:lnTo>
                  <a:lnTo>
                    <a:pt x="1091" y="1871"/>
                  </a:lnTo>
                  <a:lnTo>
                    <a:pt x="1103" y="1853"/>
                  </a:lnTo>
                  <a:lnTo>
                    <a:pt x="1114" y="1834"/>
                  </a:lnTo>
                  <a:lnTo>
                    <a:pt x="1123" y="1815"/>
                  </a:lnTo>
                  <a:lnTo>
                    <a:pt x="1132" y="1795"/>
                  </a:lnTo>
                  <a:lnTo>
                    <a:pt x="1139" y="1774"/>
                  </a:lnTo>
                  <a:lnTo>
                    <a:pt x="1145" y="1753"/>
                  </a:lnTo>
                  <a:lnTo>
                    <a:pt x="1150" y="1732"/>
                  </a:lnTo>
                  <a:lnTo>
                    <a:pt x="1151" y="1723"/>
                  </a:lnTo>
                  <a:lnTo>
                    <a:pt x="1150" y="1713"/>
                  </a:lnTo>
                  <a:lnTo>
                    <a:pt x="1147" y="1702"/>
                  </a:lnTo>
                  <a:lnTo>
                    <a:pt x="1144" y="1693"/>
                  </a:lnTo>
                  <a:lnTo>
                    <a:pt x="1140" y="1684"/>
                  </a:lnTo>
                  <a:lnTo>
                    <a:pt x="1134" y="1676"/>
                  </a:lnTo>
                  <a:lnTo>
                    <a:pt x="1128" y="1667"/>
                  </a:lnTo>
                  <a:lnTo>
                    <a:pt x="1120" y="1661"/>
                  </a:lnTo>
                  <a:lnTo>
                    <a:pt x="1115" y="1659"/>
                  </a:lnTo>
                  <a:lnTo>
                    <a:pt x="1108" y="1658"/>
                  </a:lnTo>
                  <a:lnTo>
                    <a:pt x="1100" y="1658"/>
                  </a:lnTo>
                  <a:lnTo>
                    <a:pt x="1093" y="1659"/>
                  </a:lnTo>
                  <a:lnTo>
                    <a:pt x="1086" y="1663"/>
                  </a:lnTo>
                  <a:lnTo>
                    <a:pt x="1080" y="1665"/>
                  </a:lnTo>
                  <a:lnTo>
                    <a:pt x="1073" y="1670"/>
                  </a:lnTo>
                  <a:lnTo>
                    <a:pt x="1067" y="1673"/>
                  </a:lnTo>
                  <a:lnTo>
                    <a:pt x="1062" y="1678"/>
                  </a:lnTo>
                  <a:lnTo>
                    <a:pt x="1057" y="1685"/>
                  </a:lnTo>
                  <a:lnTo>
                    <a:pt x="1054" y="1693"/>
                  </a:lnTo>
                  <a:lnTo>
                    <a:pt x="1050" y="1700"/>
                  </a:lnTo>
                  <a:lnTo>
                    <a:pt x="1046" y="1707"/>
                  </a:lnTo>
                  <a:lnTo>
                    <a:pt x="1043" y="1714"/>
                  </a:lnTo>
                  <a:lnTo>
                    <a:pt x="1038" y="1720"/>
                  </a:lnTo>
                  <a:lnTo>
                    <a:pt x="1032" y="1726"/>
                  </a:lnTo>
                  <a:lnTo>
                    <a:pt x="1021" y="1733"/>
                  </a:lnTo>
                  <a:lnTo>
                    <a:pt x="1009" y="1741"/>
                  </a:lnTo>
                  <a:lnTo>
                    <a:pt x="997" y="1748"/>
                  </a:lnTo>
                  <a:lnTo>
                    <a:pt x="985" y="1754"/>
                  </a:lnTo>
                  <a:lnTo>
                    <a:pt x="972" y="1759"/>
                  </a:lnTo>
                  <a:lnTo>
                    <a:pt x="959" y="1762"/>
                  </a:lnTo>
                  <a:lnTo>
                    <a:pt x="946" y="1766"/>
                  </a:lnTo>
                  <a:lnTo>
                    <a:pt x="932" y="1767"/>
                  </a:lnTo>
                  <a:lnTo>
                    <a:pt x="923" y="1767"/>
                  </a:lnTo>
                  <a:lnTo>
                    <a:pt x="912" y="1767"/>
                  </a:lnTo>
                  <a:lnTo>
                    <a:pt x="901" y="1765"/>
                  </a:lnTo>
                  <a:lnTo>
                    <a:pt x="892" y="1762"/>
                  </a:lnTo>
                  <a:lnTo>
                    <a:pt x="882" y="1757"/>
                  </a:lnTo>
                  <a:lnTo>
                    <a:pt x="874" y="1753"/>
                  </a:lnTo>
                  <a:lnTo>
                    <a:pt x="870" y="1749"/>
                  </a:lnTo>
                  <a:lnTo>
                    <a:pt x="866" y="1745"/>
                  </a:lnTo>
                  <a:lnTo>
                    <a:pt x="864" y="1742"/>
                  </a:lnTo>
                  <a:lnTo>
                    <a:pt x="863" y="1738"/>
                  </a:lnTo>
                  <a:lnTo>
                    <a:pt x="860" y="1731"/>
                  </a:lnTo>
                  <a:lnTo>
                    <a:pt x="858" y="1723"/>
                  </a:lnTo>
                  <a:lnTo>
                    <a:pt x="858" y="1715"/>
                  </a:lnTo>
                  <a:lnTo>
                    <a:pt x="857" y="1708"/>
                  </a:lnTo>
                  <a:lnTo>
                    <a:pt x="858" y="1693"/>
                  </a:lnTo>
                  <a:lnTo>
                    <a:pt x="862" y="1677"/>
                  </a:lnTo>
                  <a:lnTo>
                    <a:pt x="865" y="1661"/>
                  </a:lnTo>
                  <a:lnTo>
                    <a:pt x="869" y="1646"/>
                  </a:lnTo>
                  <a:lnTo>
                    <a:pt x="872" y="1630"/>
                  </a:lnTo>
                  <a:lnTo>
                    <a:pt x="874" y="1615"/>
                  </a:lnTo>
                  <a:lnTo>
                    <a:pt x="876" y="1604"/>
                  </a:lnTo>
                  <a:lnTo>
                    <a:pt x="877" y="1593"/>
                  </a:lnTo>
                  <a:lnTo>
                    <a:pt x="880" y="1581"/>
                  </a:lnTo>
                  <a:lnTo>
                    <a:pt x="882" y="1570"/>
                  </a:lnTo>
                  <a:lnTo>
                    <a:pt x="884" y="1559"/>
                  </a:lnTo>
                  <a:lnTo>
                    <a:pt x="884" y="1547"/>
                  </a:lnTo>
                  <a:lnTo>
                    <a:pt x="883" y="1538"/>
                  </a:lnTo>
                  <a:lnTo>
                    <a:pt x="880" y="1527"/>
                  </a:lnTo>
                  <a:lnTo>
                    <a:pt x="876" y="1521"/>
                  </a:lnTo>
                  <a:lnTo>
                    <a:pt x="871" y="1517"/>
                  </a:lnTo>
                  <a:lnTo>
                    <a:pt x="865" y="1514"/>
                  </a:lnTo>
                  <a:lnTo>
                    <a:pt x="858" y="1511"/>
                  </a:lnTo>
                  <a:lnTo>
                    <a:pt x="850" y="1510"/>
                  </a:lnTo>
                  <a:lnTo>
                    <a:pt x="842" y="1510"/>
                  </a:lnTo>
                  <a:lnTo>
                    <a:pt x="834" y="1509"/>
                  </a:lnTo>
                  <a:lnTo>
                    <a:pt x="827" y="1509"/>
                  </a:lnTo>
                  <a:lnTo>
                    <a:pt x="811" y="1510"/>
                  </a:lnTo>
                  <a:lnTo>
                    <a:pt x="794" y="1513"/>
                  </a:lnTo>
                  <a:lnTo>
                    <a:pt x="779" y="1516"/>
                  </a:lnTo>
                  <a:lnTo>
                    <a:pt x="763" y="1520"/>
                  </a:lnTo>
                  <a:lnTo>
                    <a:pt x="746" y="1523"/>
                  </a:lnTo>
                  <a:lnTo>
                    <a:pt x="731" y="1526"/>
                  </a:lnTo>
                  <a:lnTo>
                    <a:pt x="714" y="1527"/>
                  </a:lnTo>
                  <a:lnTo>
                    <a:pt x="698" y="1527"/>
                  </a:lnTo>
                  <a:lnTo>
                    <a:pt x="684" y="1526"/>
                  </a:lnTo>
                  <a:lnTo>
                    <a:pt x="671" y="1523"/>
                  </a:lnTo>
                  <a:lnTo>
                    <a:pt x="656" y="1520"/>
                  </a:lnTo>
                  <a:lnTo>
                    <a:pt x="643" y="1516"/>
                  </a:lnTo>
                  <a:lnTo>
                    <a:pt x="630" y="1511"/>
                  </a:lnTo>
                  <a:lnTo>
                    <a:pt x="617" y="1505"/>
                  </a:lnTo>
                  <a:lnTo>
                    <a:pt x="605" y="1499"/>
                  </a:lnTo>
                  <a:lnTo>
                    <a:pt x="593" y="1492"/>
                  </a:lnTo>
                  <a:lnTo>
                    <a:pt x="584" y="1485"/>
                  </a:lnTo>
                  <a:lnTo>
                    <a:pt x="577" y="1477"/>
                  </a:lnTo>
                  <a:lnTo>
                    <a:pt x="571" y="1467"/>
                  </a:lnTo>
                  <a:lnTo>
                    <a:pt x="565" y="1457"/>
                  </a:lnTo>
                  <a:lnTo>
                    <a:pt x="560" y="1448"/>
                  </a:lnTo>
                  <a:lnTo>
                    <a:pt x="554" y="1438"/>
                  </a:lnTo>
                  <a:lnTo>
                    <a:pt x="547" y="1430"/>
                  </a:lnTo>
                  <a:lnTo>
                    <a:pt x="540" y="1421"/>
                  </a:lnTo>
                  <a:lnTo>
                    <a:pt x="534" y="1417"/>
                  </a:lnTo>
                  <a:lnTo>
                    <a:pt x="527" y="1413"/>
                  </a:lnTo>
                  <a:lnTo>
                    <a:pt x="520" y="1408"/>
                  </a:lnTo>
                  <a:lnTo>
                    <a:pt x="512" y="1406"/>
                  </a:lnTo>
                  <a:lnTo>
                    <a:pt x="505" y="1402"/>
                  </a:lnTo>
                  <a:lnTo>
                    <a:pt x="497" y="1401"/>
                  </a:lnTo>
                  <a:lnTo>
                    <a:pt x="490" y="1399"/>
                  </a:lnTo>
                  <a:lnTo>
                    <a:pt x="481" y="1399"/>
                  </a:lnTo>
                  <a:lnTo>
                    <a:pt x="462" y="1397"/>
                  </a:lnTo>
                  <a:lnTo>
                    <a:pt x="443" y="1397"/>
                  </a:lnTo>
                  <a:lnTo>
                    <a:pt x="425" y="1397"/>
                  </a:lnTo>
                  <a:lnTo>
                    <a:pt x="406" y="1399"/>
                  </a:lnTo>
                  <a:lnTo>
                    <a:pt x="386" y="1400"/>
                  </a:lnTo>
                  <a:lnTo>
                    <a:pt x="367" y="1402"/>
                  </a:lnTo>
                  <a:lnTo>
                    <a:pt x="348" y="1403"/>
                  </a:lnTo>
                  <a:lnTo>
                    <a:pt x="329" y="1403"/>
                  </a:lnTo>
                  <a:lnTo>
                    <a:pt x="307" y="1405"/>
                  </a:lnTo>
                  <a:lnTo>
                    <a:pt x="287" y="1407"/>
                  </a:lnTo>
                  <a:lnTo>
                    <a:pt x="265" y="1409"/>
                  </a:lnTo>
                  <a:lnTo>
                    <a:pt x="244" y="1411"/>
                  </a:lnTo>
                  <a:lnTo>
                    <a:pt x="223" y="1412"/>
                  </a:lnTo>
                  <a:lnTo>
                    <a:pt x="202" y="1413"/>
                  </a:lnTo>
                  <a:lnTo>
                    <a:pt x="180" y="1412"/>
                  </a:lnTo>
                  <a:lnTo>
                    <a:pt x="160" y="1409"/>
                  </a:lnTo>
                  <a:lnTo>
                    <a:pt x="149" y="1408"/>
                  </a:lnTo>
                  <a:lnTo>
                    <a:pt x="138" y="1405"/>
                  </a:lnTo>
                  <a:lnTo>
                    <a:pt x="128" y="1400"/>
                  </a:lnTo>
                  <a:lnTo>
                    <a:pt x="119" y="1394"/>
                  </a:lnTo>
                  <a:lnTo>
                    <a:pt x="109" y="1388"/>
                  </a:lnTo>
                  <a:lnTo>
                    <a:pt x="101" y="1382"/>
                  </a:lnTo>
                  <a:lnTo>
                    <a:pt x="91" y="1376"/>
                  </a:lnTo>
                  <a:lnTo>
                    <a:pt x="83" y="1369"/>
                  </a:lnTo>
                  <a:lnTo>
                    <a:pt x="74" y="1363"/>
                  </a:lnTo>
                  <a:lnTo>
                    <a:pt x="66" y="1357"/>
                  </a:lnTo>
                  <a:lnTo>
                    <a:pt x="58" y="1349"/>
                  </a:lnTo>
                  <a:lnTo>
                    <a:pt x="49" y="1343"/>
                  </a:lnTo>
                  <a:lnTo>
                    <a:pt x="42" y="1336"/>
                  </a:lnTo>
                  <a:lnTo>
                    <a:pt x="35" y="1328"/>
                  </a:lnTo>
                  <a:lnTo>
                    <a:pt x="29" y="1319"/>
                  </a:lnTo>
                  <a:lnTo>
                    <a:pt x="24" y="1310"/>
                  </a:lnTo>
                  <a:lnTo>
                    <a:pt x="22" y="1304"/>
                  </a:lnTo>
                  <a:lnTo>
                    <a:pt x="22" y="1297"/>
                  </a:lnTo>
                  <a:lnTo>
                    <a:pt x="20" y="1288"/>
                  </a:lnTo>
                  <a:lnTo>
                    <a:pt x="22" y="1281"/>
                  </a:lnTo>
                  <a:lnTo>
                    <a:pt x="24" y="1274"/>
                  </a:lnTo>
                  <a:lnTo>
                    <a:pt x="26" y="1267"/>
                  </a:lnTo>
                  <a:lnTo>
                    <a:pt x="31" y="1262"/>
                  </a:lnTo>
                  <a:lnTo>
                    <a:pt x="36" y="1258"/>
                  </a:lnTo>
                  <a:lnTo>
                    <a:pt x="49" y="1251"/>
                  </a:lnTo>
                  <a:lnTo>
                    <a:pt x="64" y="1247"/>
                  </a:lnTo>
                  <a:lnTo>
                    <a:pt x="78" y="1244"/>
                  </a:lnTo>
                  <a:lnTo>
                    <a:pt x="92" y="1243"/>
                  </a:lnTo>
                  <a:lnTo>
                    <a:pt x="108" y="1241"/>
                  </a:lnTo>
                  <a:lnTo>
                    <a:pt x="124" y="1240"/>
                  </a:lnTo>
                  <a:lnTo>
                    <a:pt x="138" y="1240"/>
                  </a:lnTo>
                  <a:lnTo>
                    <a:pt x="154" y="1240"/>
                  </a:lnTo>
                  <a:lnTo>
                    <a:pt x="178" y="1240"/>
                  </a:lnTo>
                  <a:lnTo>
                    <a:pt x="203" y="1240"/>
                  </a:lnTo>
                  <a:lnTo>
                    <a:pt x="228" y="1243"/>
                  </a:lnTo>
                  <a:lnTo>
                    <a:pt x="253" y="1244"/>
                  </a:lnTo>
                  <a:lnTo>
                    <a:pt x="278" y="1245"/>
                  </a:lnTo>
                  <a:lnTo>
                    <a:pt x="302" y="1246"/>
                  </a:lnTo>
                  <a:lnTo>
                    <a:pt x="328" y="1247"/>
                  </a:lnTo>
                  <a:lnTo>
                    <a:pt x="353" y="1246"/>
                  </a:lnTo>
                  <a:lnTo>
                    <a:pt x="367" y="1244"/>
                  </a:lnTo>
                  <a:lnTo>
                    <a:pt x="383" y="1241"/>
                  </a:lnTo>
                  <a:lnTo>
                    <a:pt x="397" y="1238"/>
                  </a:lnTo>
                  <a:lnTo>
                    <a:pt x="412" y="1234"/>
                  </a:lnTo>
                  <a:lnTo>
                    <a:pt x="426" y="1229"/>
                  </a:lnTo>
                  <a:lnTo>
                    <a:pt x="440" y="1225"/>
                  </a:lnTo>
                  <a:lnTo>
                    <a:pt x="455" y="1221"/>
                  </a:lnTo>
                  <a:lnTo>
                    <a:pt x="469" y="1216"/>
                  </a:lnTo>
                  <a:lnTo>
                    <a:pt x="479" y="1214"/>
                  </a:lnTo>
                  <a:lnTo>
                    <a:pt x="488" y="1210"/>
                  </a:lnTo>
                  <a:lnTo>
                    <a:pt x="498" y="1207"/>
                  </a:lnTo>
                  <a:lnTo>
                    <a:pt x="508" y="1204"/>
                  </a:lnTo>
                  <a:lnTo>
                    <a:pt x="517" y="1201"/>
                  </a:lnTo>
                  <a:lnTo>
                    <a:pt x="527" y="1199"/>
                  </a:lnTo>
                  <a:lnTo>
                    <a:pt x="536" y="1198"/>
                  </a:lnTo>
                  <a:lnTo>
                    <a:pt x="546" y="1199"/>
                  </a:lnTo>
                  <a:lnTo>
                    <a:pt x="564" y="1203"/>
                  </a:lnTo>
                  <a:lnTo>
                    <a:pt x="582" y="1209"/>
                  </a:lnTo>
                  <a:lnTo>
                    <a:pt x="600" y="1216"/>
                  </a:lnTo>
                  <a:lnTo>
                    <a:pt x="618" y="1223"/>
                  </a:lnTo>
                  <a:lnTo>
                    <a:pt x="635" y="1232"/>
                  </a:lnTo>
                  <a:lnTo>
                    <a:pt x="653" y="1240"/>
                  </a:lnTo>
                  <a:lnTo>
                    <a:pt x="670" y="1249"/>
                  </a:lnTo>
                  <a:lnTo>
                    <a:pt x="686" y="1258"/>
                  </a:lnTo>
                  <a:lnTo>
                    <a:pt x="701" y="1265"/>
                  </a:lnTo>
                  <a:lnTo>
                    <a:pt x="714" y="1274"/>
                  </a:lnTo>
                  <a:lnTo>
                    <a:pt x="728" y="1282"/>
                  </a:lnTo>
                  <a:lnTo>
                    <a:pt x="742" y="1292"/>
                  </a:lnTo>
                  <a:lnTo>
                    <a:pt x="755" y="1300"/>
                  </a:lnTo>
                  <a:lnTo>
                    <a:pt x="769" y="1309"/>
                  </a:lnTo>
                  <a:lnTo>
                    <a:pt x="784" y="1316"/>
                  </a:lnTo>
                  <a:lnTo>
                    <a:pt x="798" y="1322"/>
                  </a:lnTo>
                  <a:lnTo>
                    <a:pt x="810" y="1327"/>
                  </a:lnTo>
                  <a:lnTo>
                    <a:pt x="822" y="1330"/>
                  </a:lnTo>
                  <a:lnTo>
                    <a:pt x="835" y="1335"/>
                  </a:lnTo>
                  <a:lnTo>
                    <a:pt x="848" y="1337"/>
                  </a:lnTo>
                  <a:lnTo>
                    <a:pt x="862" y="1340"/>
                  </a:lnTo>
                  <a:lnTo>
                    <a:pt x="874" y="1340"/>
                  </a:lnTo>
                  <a:lnTo>
                    <a:pt x="880" y="1339"/>
                  </a:lnTo>
                  <a:lnTo>
                    <a:pt x="886" y="1337"/>
                  </a:lnTo>
                  <a:lnTo>
                    <a:pt x="892" y="1336"/>
                  </a:lnTo>
                  <a:lnTo>
                    <a:pt x="898" y="1334"/>
                  </a:lnTo>
                  <a:lnTo>
                    <a:pt x="901" y="1331"/>
                  </a:lnTo>
                  <a:lnTo>
                    <a:pt x="906" y="1328"/>
                  </a:lnTo>
                  <a:lnTo>
                    <a:pt x="910" y="1324"/>
                  </a:lnTo>
                  <a:lnTo>
                    <a:pt x="912" y="1321"/>
                  </a:lnTo>
                  <a:lnTo>
                    <a:pt x="918" y="1311"/>
                  </a:lnTo>
                  <a:lnTo>
                    <a:pt x="922" y="1301"/>
                  </a:lnTo>
                  <a:lnTo>
                    <a:pt x="924" y="1291"/>
                  </a:lnTo>
                  <a:lnTo>
                    <a:pt x="926" y="1280"/>
                  </a:lnTo>
                  <a:lnTo>
                    <a:pt x="926" y="1268"/>
                  </a:lnTo>
                  <a:lnTo>
                    <a:pt x="926" y="1258"/>
                  </a:lnTo>
                  <a:lnTo>
                    <a:pt x="925" y="1246"/>
                  </a:lnTo>
                  <a:lnTo>
                    <a:pt x="923" y="1235"/>
                  </a:lnTo>
                  <a:lnTo>
                    <a:pt x="919" y="1225"/>
                  </a:lnTo>
                  <a:lnTo>
                    <a:pt x="916" y="1215"/>
                  </a:lnTo>
                  <a:lnTo>
                    <a:pt x="910" y="1204"/>
                  </a:lnTo>
                  <a:lnTo>
                    <a:pt x="904" y="1195"/>
                  </a:lnTo>
                  <a:lnTo>
                    <a:pt x="898" y="1185"/>
                  </a:lnTo>
                  <a:lnTo>
                    <a:pt x="892" y="1175"/>
                  </a:lnTo>
                  <a:lnTo>
                    <a:pt x="880" y="1159"/>
                  </a:lnTo>
                  <a:lnTo>
                    <a:pt x="868" y="1143"/>
                  </a:lnTo>
                  <a:lnTo>
                    <a:pt x="856" y="1126"/>
                  </a:lnTo>
                  <a:lnTo>
                    <a:pt x="842" y="1111"/>
                  </a:lnTo>
                  <a:lnTo>
                    <a:pt x="829" y="1095"/>
                  </a:lnTo>
                  <a:lnTo>
                    <a:pt x="816" y="1081"/>
                  </a:lnTo>
                  <a:lnTo>
                    <a:pt x="802" y="1066"/>
                  </a:lnTo>
                  <a:lnTo>
                    <a:pt x="786" y="1053"/>
                  </a:lnTo>
                  <a:lnTo>
                    <a:pt x="768" y="1038"/>
                  </a:lnTo>
                  <a:lnTo>
                    <a:pt x="749" y="1023"/>
                  </a:lnTo>
                  <a:lnTo>
                    <a:pt x="730" y="1009"/>
                  </a:lnTo>
                  <a:lnTo>
                    <a:pt x="710" y="996"/>
                  </a:lnTo>
                  <a:lnTo>
                    <a:pt x="690" y="982"/>
                  </a:lnTo>
                  <a:lnTo>
                    <a:pt x="670" y="970"/>
                  </a:lnTo>
                  <a:lnTo>
                    <a:pt x="649" y="958"/>
                  </a:lnTo>
                  <a:lnTo>
                    <a:pt x="628" y="948"/>
                  </a:lnTo>
                  <a:lnTo>
                    <a:pt x="613" y="940"/>
                  </a:lnTo>
                  <a:lnTo>
                    <a:pt x="596" y="934"/>
                  </a:lnTo>
                  <a:lnTo>
                    <a:pt x="581" y="928"/>
                  </a:lnTo>
                  <a:lnTo>
                    <a:pt x="565" y="924"/>
                  </a:lnTo>
                  <a:lnTo>
                    <a:pt x="548" y="919"/>
                  </a:lnTo>
                  <a:lnTo>
                    <a:pt x="532" y="914"/>
                  </a:lnTo>
                  <a:lnTo>
                    <a:pt x="516" y="910"/>
                  </a:lnTo>
                  <a:lnTo>
                    <a:pt x="499" y="907"/>
                  </a:lnTo>
                  <a:lnTo>
                    <a:pt x="485" y="903"/>
                  </a:lnTo>
                  <a:lnTo>
                    <a:pt x="470" y="900"/>
                  </a:lnTo>
                  <a:lnTo>
                    <a:pt x="456" y="897"/>
                  </a:lnTo>
                  <a:lnTo>
                    <a:pt x="440" y="895"/>
                  </a:lnTo>
                  <a:lnTo>
                    <a:pt x="426" y="892"/>
                  </a:lnTo>
                  <a:lnTo>
                    <a:pt x="412" y="890"/>
                  </a:lnTo>
                  <a:lnTo>
                    <a:pt x="396" y="889"/>
                  </a:lnTo>
                  <a:lnTo>
                    <a:pt x="382" y="889"/>
                  </a:lnTo>
                  <a:lnTo>
                    <a:pt x="372" y="889"/>
                  </a:lnTo>
                  <a:lnTo>
                    <a:pt x="362" y="890"/>
                  </a:lnTo>
                  <a:lnTo>
                    <a:pt x="353" y="891"/>
                  </a:lnTo>
                  <a:lnTo>
                    <a:pt x="343" y="894"/>
                  </a:lnTo>
                  <a:lnTo>
                    <a:pt x="334" y="896"/>
                  </a:lnTo>
                  <a:lnTo>
                    <a:pt x="324" y="898"/>
                  </a:lnTo>
                  <a:lnTo>
                    <a:pt x="314" y="902"/>
                  </a:lnTo>
                  <a:lnTo>
                    <a:pt x="306" y="907"/>
                  </a:lnTo>
                  <a:lnTo>
                    <a:pt x="296" y="912"/>
                  </a:lnTo>
                  <a:lnTo>
                    <a:pt x="288" y="918"/>
                  </a:lnTo>
                  <a:lnTo>
                    <a:pt x="281" y="925"/>
                  </a:lnTo>
                  <a:lnTo>
                    <a:pt x="274" y="932"/>
                  </a:lnTo>
                  <a:lnTo>
                    <a:pt x="265" y="940"/>
                  </a:lnTo>
                  <a:lnTo>
                    <a:pt x="258" y="948"/>
                  </a:lnTo>
                  <a:lnTo>
                    <a:pt x="250" y="954"/>
                  </a:lnTo>
                  <a:lnTo>
                    <a:pt x="241" y="960"/>
                  </a:lnTo>
                  <a:lnTo>
                    <a:pt x="227" y="967"/>
                  </a:lnTo>
                  <a:lnTo>
                    <a:pt x="214" y="974"/>
                  </a:lnTo>
                  <a:lnTo>
                    <a:pt x="199" y="980"/>
                  </a:lnTo>
                  <a:lnTo>
                    <a:pt x="184" y="987"/>
                  </a:lnTo>
                  <a:lnTo>
                    <a:pt x="169" y="992"/>
                  </a:lnTo>
                  <a:lnTo>
                    <a:pt x="155" y="998"/>
                  </a:lnTo>
                  <a:lnTo>
                    <a:pt x="139" y="1003"/>
                  </a:lnTo>
                  <a:lnTo>
                    <a:pt x="124" y="1006"/>
                  </a:lnTo>
                  <a:lnTo>
                    <a:pt x="119" y="1006"/>
                  </a:lnTo>
                  <a:lnTo>
                    <a:pt x="113" y="1008"/>
                  </a:lnTo>
                  <a:lnTo>
                    <a:pt x="107" y="1008"/>
                  </a:lnTo>
                  <a:lnTo>
                    <a:pt x="101" y="1006"/>
                  </a:lnTo>
                  <a:lnTo>
                    <a:pt x="95" y="1004"/>
                  </a:lnTo>
                  <a:lnTo>
                    <a:pt x="90" y="1002"/>
                  </a:lnTo>
                  <a:lnTo>
                    <a:pt x="86" y="998"/>
                  </a:lnTo>
                  <a:lnTo>
                    <a:pt x="83" y="994"/>
                  </a:lnTo>
                  <a:lnTo>
                    <a:pt x="79" y="987"/>
                  </a:lnTo>
                  <a:lnTo>
                    <a:pt x="77" y="979"/>
                  </a:lnTo>
                  <a:lnTo>
                    <a:pt x="76" y="970"/>
                  </a:lnTo>
                  <a:lnTo>
                    <a:pt x="74" y="962"/>
                  </a:lnTo>
                  <a:lnTo>
                    <a:pt x="76" y="954"/>
                  </a:lnTo>
                  <a:lnTo>
                    <a:pt x="77" y="945"/>
                  </a:lnTo>
                  <a:lnTo>
                    <a:pt x="79" y="937"/>
                  </a:lnTo>
                  <a:lnTo>
                    <a:pt x="83" y="930"/>
                  </a:lnTo>
                  <a:lnTo>
                    <a:pt x="95" y="914"/>
                  </a:lnTo>
                  <a:lnTo>
                    <a:pt x="108" y="898"/>
                  </a:lnTo>
                  <a:lnTo>
                    <a:pt x="121" y="883"/>
                  </a:lnTo>
                  <a:lnTo>
                    <a:pt x="137" y="870"/>
                  </a:lnTo>
                  <a:lnTo>
                    <a:pt x="151" y="855"/>
                  </a:lnTo>
                  <a:lnTo>
                    <a:pt x="168" y="843"/>
                  </a:lnTo>
                  <a:lnTo>
                    <a:pt x="184" y="830"/>
                  </a:lnTo>
                  <a:lnTo>
                    <a:pt x="200" y="819"/>
                  </a:lnTo>
                  <a:lnTo>
                    <a:pt x="211" y="811"/>
                  </a:lnTo>
                  <a:lnTo>
                    <a:pt x="223" y="805"/>
                  </a:lnTo>
                  <a:lnTo>
                    <a:pt x="235" y="799"/>
                  </a:lnTo>
                  <a:lnTo>
                    <a:pt x="247" y="793"/>
                  </a:lnTo>
                  <a:lnTo>
                    <a:pt x="260" y="788"/>
                  </a:lnTo>
                  <a:lnTo>
                    <a:pt x="274" y="784"/>
                  </a:lnTo>
                  <a:lnTo>
                    <a:pt x="287" y="781"/>
                  </a:lnTo>
                  <a:lnTo>
                    <a:pt x="300" y="777"/>
                  </a:lnTo>
                  <a:lnTo>
                    <a:pt x="317" y="775"/>
                  </a:lnTo>
                  <a:lnTo>
                    <a:pt x="335" y="774"/>
                  </a:lnTo>
                  <a:lnTo>
                    <a:pt x="352" y="772"/>
                  </a:lnTo>
                  <a:lnTo>
                    <a:pt x="370" y="771"/>
                  </a:lnTo>
                  <a:lnTo>
                    <a:pt x="388" y="771"/>
                  </a:lnTo>
                  <a:lnTo>
                    <a:pt x="406" y="771"/>
                  </a:lnTo>
                  <a:lnTo>
                    <a:pt x="422" y="771"/>
                  </a:lnTo>
                  <a:lnTo>
                    <a:pt x="440" y="772"/>
                  </a:lnTo>
                  <a:lnTo>
                    <a:pt x="466" y="772"/>
                  </a:lnTo>
                  <a:lnTo>
                    <a:pt x="491" y="772"/>
                  </a:lnTo>
                  <a:lnTo>
                    <a:pt x="515" y="772"/>
                  </a:lnTo>
                  <a:lnTo>
                    <a:pt x="540" y="774"/>
                  </a:lnTo>
                  <a:lnTo>
                    <a:pt x="565" y="775"/>
                  </a:lnTo>
                  <a:lnTo>
                    <a:pt x="590" y="776"/>
                  </a:lnTo>
                  <a:lnTo>
                    <a:pt x="614" y="776"/>
                  </a:lnTo>
                  <a:lnTo>
                    <a:pt x="640" y="777"/>
                  </a:lnTo>
                  <a:lnTo>
                    <a:pt x="658" y="778"/>
                  </a:lnTo>
                  <a:lnTo>
                    <a:pt x="677" y="781"/>
                  </a:lnTo>
                  <a:lnTo>
                    <a:pt x="695" y="782"/>
                  </a:lnTo>
                  <a:lnTo>
                    <a:pt x="713" y="784"/>
                  </a:lnTo>
                  <a:lnTo>
                    <a:pt x="731" y="787"/>
                  </a:lnTo>
                  <a:lnTo>
                    <a:pt x="750" y="788"/>
                  </a:lnTo>
                  <a:lnTo>
                    <a:pt x="768" y="789"/>
                  </a:lnTo>
                  <a:lnTo>
                    <a:pt x="786" y="789"/>
                  </a:lnTo>
                  <a:lnTo>
                    <a:pt x="797" y="789"/>
                  </a:lnTo>
                  <a:lnTo>
                    <a:pt x="808" y="790"/>
                  </a:lnTo>
                  <a:lnTo>
                    <a:pt x="818" y="790"/>
                  </a:lnTo>
                  <a:lnTo>
                    <a:pt x="829" y="790"/>
                  </a:lnTo>
                  <a:lnTo>
                    <a:pt x="840" y="789"/>
                  </a:lnTo>
                  <a:lnTo>
                    <a:pt x="851" y="787"/>
                  </a:lnTo>
                  <a:lnTo>
                    <a:pt x="860" y="783"/>
                  </a:lnTo>
                  <a:lnTo>
                    <a:pt x="868" y="777"/>
                  </a:lnTo>
                  <a:close/>
                </a:path>
              </a:pathLst>
            </a:custGeom>
            <a:solidFill>
              <a:srgbClr val="e39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45000" y="4875120"/>
              <a:ext cx="1000080" cy="862200"/>
            </a:xfrm>
            <a:custGeom>
              <a:avLst/>
              <a:gdLst/>
              <a:ahLst/>
              <a:rect l="l" t="t" r="r" b="b"/>
              <a:pathLst>
                <a:path w="2520" h="2169">
                  <a:moveTo>
                    <a:pt x="861" y="772"/>
                  </a:moveTo>
                  <a:lnTo>
                    <a:pt x="870" y="764"/>
                  </a:lnTo>
                  <a:lnTo>
                    <a:pt x="876" y="755"/>
                  </a:lnTo>
                  <a:lnTo>
                    <a:pt x="880" y="744"/>
                  </a:lnTo>
                  <a:lnTo>
                    <a:pt x="884" y="732"/>
                  </a:lnTo>
                  <a:lnTo>
                    <a:pt x="888" y="721"/>
                  </a:lnTo>
                  <a:lnTo>
                    <a:pt x="889" y="709"/>
                  </a:lnTo>
                  <a:lnTo>
                    <a:pt x="890" y="697"/>
                  </a:lnTo>
                  <a:lnTo>
                    <a:pt x="890" y="685"/>
                  </a:lnTo>
                  <a:lnTo>
                    <a:pt x="890" y="671"/>
                  </a:lnTo>
                  <a:lnTo>
                    <a:pt x="889" y="658"/>
                  </a:lnTo>
                  <a:lnTo>
                    <a:pt x="886" y="643"/>
                  </a:lnTo>
                  <a:lnTo>
                    <a:pt x="884" y="630"/>
                  </a:lnTo>
                  <a:lnTo>
                    <a:pt x="880" y="617"/>
                  </a:lnTo>
                  <a:lnTo>
                    <a:pt x="876" y="604"/>
                  </a:lnTo>
                  <a:lnTo>
                    <a:pt x="868" y="592"/>
                  </a:lnTo>
                  <a:lnTo>
                    <a:pt x="861" y="581"/>
                  </a:lnTo>
                  <a:lnTo>
                    <a:pt x="853" y="571"/>
                  </a:lnTo>
                  <a:lnTo>
                    <a:pt x="843" y="564"/>
                  </a:lnTo>
                  <a:lnTo>
                    <a:pt x="832" y="558"/>
                  </a:lnTo>
                  <a:lnTo>
                    <a:pt x="822" y="553"/>
                  </a:lnTo>
                  <a:lnTo>
                    <a:pt x="810" y="548"/>
                  </a:lnTo>
                  <a:lnTo>
                    <a:pt x="798" y="544"/>
                  </a:lnTo>
                  <a:lnTo>
                    <a:pt x="786" y="539"/>
                  </a:lnTo>
                  <a:lnTo>
                    <a:pt x="774" y="534"/>
                  </a:lnTo>
                  <a:lnTo>
                    <a:pt x="760" y="528"/>
                  </a:lnTo>
                  <a:lnTo>
                    <a:pt x="747" y="521"/>
                  </a:lnTo>
                  <a:lnTo>
                    <a:pt x="733" y="515"/>
                  </a:lnTo>
                  <a:lnTo>
                    <a:pt x="720" y="509"/>
                  </a:lnTo>
                  <a:lnTo>
                    <a:pt x="705" y="503"/>
                  </a:lnTo>
                  <a:lnTo>
                    <a:pt x="692" y="498"/>
                  </a:lnTo>
                  <a:lnTo>
                    <a:pt x="678" y="492"/>
                  </a:lnTo>
                  <a:lnTo>
                    <a:pt x="663" y="487"/>
                  </a:lnTo>
                  <a:lnTo>
                    <a:pt x="648" y="484"/>
                  </a:lnTo>
                  <a:lnTo>
                    <a:pt x="632" y="480"/>
                  </a:lnTo>
                  <a:lnTo>
                    <a:pt x="615" y="476"/>
                  </a:lnTo>
                  <a:lnTo>
                    <a:pt x="600" y="474"/>
                  </a:lnTo>
                  <a:lnTo>
                    <a:pt x="583" y="472"/>
                  </a:lnTo>
                  <a:lnTo>
                    <a:pt x="567" y="468"/>
                  </a:lnTo>
                  <a:lnTo>
                    <a:pt x="552" y="463"/>
                  </a:lnTo>
                  <a:lnTo>
                    <a:pt x="536" y="458"/>
                  </a:lnTo>
                  <a:lnTo>
                    <a:pt x="523" y="454"/>
                  </a:lnTo>
                  <a:lnTo>
                    <a:pt x="511" y="446"/>
                  </a:lnTo>
                  <a:lnTo>
                    <a:pt x="499" y="440"/>
                  </a:lnTo>
                  <a:lnTo>
                    <a:pt x="487" y="433"/>
                  </a:lnTo>
                  <a:lnTo>
                    <a:pt x="476" y="425"/>
                  </a:lnTo>
                  <a:lnTo>
                    <a:pt x="464" y="418"/>
                  </a:lnTo>
                  <a:lnTo>
                    <a:pt x="453" y="409"/>
                  </a:lnTo>
                  <a:lnTo>
                    <a:pt x="442" y="401"/>
                  </a:lnTo>
                  <a:lnTo>
                    <a:pt x="424" y="385"/>
                  </a:lnTo>
                  <a:lnTo>
                    <a:pt x="405" y="370"/>
                  </a:lnTo>
                  <a:lnTo>
                    <a:pt x="387" y="353"/>
                  </a:lnTo>
                  <a:lnTo>
                    <a:pt x="369" y="337"/>
                  </a:lnTo>
                  <a:lnTo>
                    <a:pt x="352" y="321"/>
                  </a:lnTo>
                  <a:lnTo>
                    <a:pt x="334" y="304"/>
                  </a:lnTo>
                  <a:lnTo>
                    <a:pt x="316" y="288"/>
                  </a:lnTo>
                  <a:lnTo>
                    <a:pt x="297" y="273"/>
                  </a:lnTo>
                  <a:lnTo>
                    <a:pt x="280" y="259"/>
                  </a:lnTo>
                  <a:lnTo>
                    <a:pt x="264" y="246"/>
                  </a:lnTo>
                  <a:lnTo>
                    <a:pt x="247" y="234"/>
                  </a:lnTo>
                  <a:lnTo>
                    <a:pt x="229" y="221"/>
                  </a:lnTo>
                  <a:lnTo>
                    <a:pt x="212" y="209"/>
                  </a:lnTo>
                  <a:lnTo>
                    <a:pt x="194" y="197"/>
                  </a:lnTo>
                  <a:lnTo>
                    <a:pt x="176" y="185"/>
                  </a:lnTo>
                  <a:lnTo>
                    <a:pt x="158" y="174"/>
                  </a:lnTo>
                  <a:lnTo>
                    <a:pt x="146" y="167"/>
                  </a:lnTo>
                  <a:lnTo>
                    <a:pt x="134" y="162"/>
                  </a:lnTo>
                  <a:lnTo>
                    <a:pt x="121" y="156"/>
                  </a:lnTo>
                  <a:lnTo>
                    <a:pt x="108" y="151"/>
                  </a:lnTo>
                  <a:lnTo>
                    <a:pt x="96" y="147"/>
                  </a:lnTo>
                  <a:lnTo>
                    <a:pt x="82" y="141"/>
                  </a:lnTo>
                  <a:lnTo>
                    <a:pt x="70" y="135"/>
                  </a:lnTo>
                  <a:lnTo>
                    <a:pt x="58" y="127"/>
                  </a:lnTo>
                  <a:lnTo>
                    <a:pt x="50" y="121"/>
                  </a:lnTo>
                  <a:lnTo>
                    <a:pt x="42" y="115"/>
                  </a:lnTo>
                  <a:lnTo>
                    <a:pt x="33" y="109"/>
                  </a:lnTo>
                  <a:lnTo>
                    <a:pt x="25" y="102"/>
                  </a:lnTo>
                  <a:lnTo>
                    <a:pt x="16" y="95"/>
                  </a:lnTo>
                  <a:lnTo>
                    <a:pt x="10" y="88"/>
                  </a:lnTo>
                  <a:lnTo>
                    <a:pt x="4" y="79"/>
                  </a:lnTo>
                  <a:lnTo>
                    <a:pt x="1" y="70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4" y="40"/>
                  </a:lnTo>
                  <a:lnTo>
                    <a:pt x="8" y="33"/>
                  </a:lnTo>
                  <a:lnTo>
                    <a:pt x="13" y="27"/>
                  </a:lnTo>
                  <a:lnTo>
                    <a:pt x="18" y="22"/>
                  </a:lnTo>
                  <a:lnTo>
                    <a:pt x="24" y="17"/>
                  </a:lnTo>
                  <a:lnTo>
                    <a:pt x="36" y="12"/>
                  </a:lnTo>
                  <a:lnTo>
                    <a:pt x="48" y="9"/>
                  </a:lnTo>
                  <a:lnTo>
                    <a:pt x="60" y="6"/>
                  </a:lnTo>
                  <a:lnTo>
                    <a:pt x="72" y="5"/>
                  </a:lnTo>
                  <a:lnTo>
                    <a:pt x="85" y="4"/>
                  </a:lnTo>
                  <a:lnTo>
                    <a:pt x="98" y="4"/>
                  </a:lnTo>
                  <a:lnTo>
                    <a:pt x="110" y="5"/>
                  </a:lnTo>
                  <a:lnTo>
                    <a:pt x="123" y="5"/>
                  </a:lnTo>
                  <a:lnTo>
                    <a:pt x="134" y="7"/>
                  </a:lnTo>
                  <a:lnTo>
                    <a:pt x="146" y="9"/>
                  </a:lnTo>
                  <a:lnTo>
                    <a:pt x="157" y="11"/>
                  </a:lnTo>
                  <a:lnTo>
                    <a:pt x="169" y="15"/>
                  </a:lnTo>
                  <a:lnTo>
                    <a:pt x="180" y="18"/>
                  </a:lnTo>
                  <a:lnTo>
                    <a:pt x="190" y="23"/>
                  </a:lnTo>
                  <a:lnTo>
                    <a:pt x="200" y="29"/>
                  </a:lnTo>
                  <a:lnTo>
                    <a:pt x="210" y="35"/>
                  </a:lnTo>
                  <a:lnTo>
                    <a:pt x="224" y="45"/>
                  </a:lnTo>
                  <a:lnTo>
                    <a:pt x="237" y="55"/>
                  </a:lnTo>
                  <a:lnTo>
                    <a:pt x="249" y="67"/>
                  </a:lnTo>
                  <a:lnTo>
                    <a:pt x="261" y="79"/>
                  </a:lnTo>
                  <a:lnTo>
                    <a:pt x="273" y="91"/>
                  </a:lnTo>
                  <a:lnTo>
                    <a:pt x="284" y="103"/>
                  </a:lnTo>
                  <a:lnTo>
                    <a:pt x="296" y="115"/>
                  </a:lnTo>
                  <a:lnTo>
                    <a:pt x="309" y="127"/>
                  </a:lnTo>
                  <a:lnTo>
                    <a:pt x="327" y="143"/>
                  </a:lnTo>
                  <a:lnTo>
                    <a:pt x="345" y="159"/>
                  </a:lnTo>
                  <a:lnTo>
                    <a:pt x="363" y="174"/>
                  </a:lnTo>
                  <a:lnTo>
                    <a:pt x="381" y="190"/>
                  </a:lnTo>
                  <a:lnTo>
                    <a:pt x="399" y="204"/>
                  </a:lnTo>
                  <a:lnTo>
                    <a:pt x="417" y="220"/>
                  </a:lnTo>
                  <a:lnTo>
                    <a:pt x="435" y="234"/>
                  </a:lnTo>
                  <a:lnTo>
                    <a:pt x="454" y="250"/>
                  </a:lnTo>
                  <a:lnTo>
                    <a:pt x="468" y="261"/>
                  </a:lnTo>
                  <a:lnTo>
                    <a:pt x="481" y="271"/>
                  </a:lnTo>
                  <a:lnTo>
                    <a:pt x="494" y="282"/>
                  </a:lnTo>
                  <a:lnTo>
                    <a:pt x="508" y="293"/>
                  </a:lnTo>
                  <a:lnTo>
                    <a:pt x="522" y="303"/>
                  </a:lnTo>
                  <a:lnTo>
                    <a:pt x="536" y="312"/>
                  </a:lnTo>
                  <a:lnTo>
                    <a:pt x="550" y="322"/>
                  </a:lnTo>
                  <a:lnTo>
                    <a:pt x="565" y="331"/>
                  </a:lnTo>
                  <a:lnTo>
                    <a:pt x="572" y="335"/>
                  </a:lnTo>
                  <a:lnTo>
                    <a:pt x="579" y="339"/>
                  </a:lnTo>
                  <a:lnTo>
                    <a:pt x="588" y="341"/>
                  </a:lnTo>
                  <a:lnTo>
                    <a:pt x="596" y="343"/>
                  </a:lnTo>
                  <a:lnTo>
                    <a:pt x="603" y="346"/>
                  </a:lnTo>
                  <a:lnTo>
                    <a:pt x="612" y="347"/>
                  </a:lnTo>
                  <a:lnTo>
                    <a:pt x="620" y="348"/>
                  </a:lnTo>
                  <a:lnTo>
                    <a:pt x="628" y="348"/>
                  </a:lnTo>
                  <a:lnTo>
                    <a:pt x="637" y="348"/>
                  </a:lnTo>
                  <a:lnTo>
                    <a:pt x="644" y="349"/>
                  </a:lnTo>
                  <a:lnTo>
                    <a:pt x="652" y="348"/>
                  </a:lnTo>
                  <a:lnTo>
                    <a:pt x="660" y="348"/>
                  </a:lnTo>
                  <a:lnTo>
                    <a:pt x="668" y="347"/>
                  </a:lnTo>
                  <a:lnTo>
                    <a:pt x="675" y="345"/>
                  </a:lnTo>
                  <a:lnTo>
                    <a:pt x="681" y="341"/>
                  </a:lnTo>
                  <a:lnTo>
                    <a:pt x="687" y="336"/>
                  </a:lnTo>
                  <a:lnTo>
                    <a:pt x="693" y="330"/>
                  </a:lnTo>
                  <a:lnTo>
                    <a:pt x="698" y="322"/>
                  </a:lnTo>
                  <a:lnTo>
                    <a:pt x="702" y="313"/>
                  </a:lnTo>
                  <a:lnTo>
                    <a:pt x="704" y="305"/>
                  </a:lnTo>
                  <a:lnTo>
                    <a:pt x="706" y="295"/>
                  </a:lnTo>
                  <a:lnTo>
                    <a:pt x="708" y="286"/>
                  </a:lnTo>
                  <a:lnTo>
                    <a:pt x="709" y="276"/>
                  </a:lnTo>
                  <a:lnTo>
                    <a:pt x="710" y="267"/>
                  </a:lnTo>
                  <a:lnTo>
                    <a:pt x="711" y="253"/>
                  </a:lnTo>
                  <a:lnTo>
                    <a:pt x="711" y="239"/>
                  </a:lnTo>
                  <a:lnTo>
                    <a:pt x="710" y="226"/>
                  </a:lnTo>
                  <a:lnTo>
                    <a:pt x="709" y="211"/>
                  </a:lnTo>
                  <a:lnTo>
                    <a:pt x="708" y="198"/>
                  </a:lnTo>
                  <a:lnTo>
                    <a:pt x="705" y="184"/>
                  </a:lnTo>
                  <a:lnTo>
                    <a:pt x="705" y="171"/>
                  </a:lnTo>
                  <a:lnTo>
                    <a:pt x="704" y="156"/>
                  </a:lnTo>
                  <a:lnTo>
                    <a:pt x="704" y="149"/>
                  </a:lnTo>
                  <a:lnTo>
                    <a:pt x="705" y="142"/>
                  </a:lnTo>
                  <a:lnTo>
                    <a:pt x="706" y="135"/>
                  </a:lnTo>
                  <a:lnTo>
                    <a:pt x="706" y="127"/>
                  </a:lnTo>
                  <a:lnTo>
                    <a:pt x="708" y="120"/>
                  </a:lnTo>
                  <a:lnTo>
                    <a:pt x="709" y="113"/>
                  </a:lnTo>
                  <a:lnTo>
                    <a:pt x="710" y="106"/>
                  </a:lnTo>
                  <a:lnTo>
                    <a:pt x="710" y="99"/>
                  </a:lnTo>
                  <a:lnTo>
                    <a:pt x="710" y="90"/>
                  </a:lnTo>
                  <a:lnTo>
                    <a:pt x="710" y="83"/>
                  </a:lnTo>
                  <a:lnTo>
                    <a:pt x="709" y="75"/>
                  </a:lnTo>
                  <a:lnTo>
                    <a:pt x="709" y="66"/>
                  </a:lnTo>
                  <a:lnTo>
                    <a:pt x="708" y="58"/>
                  </a:lnTo>
                  <a:lnTo>
                    <a:pt x="708" y="51"/>
                  </a:lnTo>
                  <a:lnTo>
                    <a:pt x="709" y="42"/>
                  </a:lnTo>
                  <a:lnTo>
                    <a:pt x="710" y="35"/>
                  </a:lnTo>
                  <a:lnTo>
                    <a:pt x="711" y="29"/>
                  </a:lnTo>
                  <a:lnTo>
                    <a:pt x="714" y="23"/>
                  </a:lnTo>
                  <a:lnTo>
                    <a:pt x="715" y="17"/>
                  </a:lnTo>
                  <a:lnTo>
                    <a:pt x="717" y="12"/>
                  </a:lnTo>
                  <a:lnTo>
                    <a:pt x="721" y="7"/>
                  </a:lnTo>
                  <a:lnTo>
                    <a:pt x="724" y="3"/>
                  </a:lnTo>
                  <a:lnTo>
                    <a:pt x="728" y="0"/>
                  </a:lnTo>
                  <a:lnTo>
                    <a:pt x="733" y="0"/>
                  </a:lnTo>
                  <a:lnTo>
                    <a:pt x="744" y="1"/>
                  </a:lnTo>
                  <a:lnTo>
                    <a:pt x="753" y="4"/>
                  </a:lnTo>
                  <a:lnTo>
                    <a:pt x="763" y="7"/>
                  </a:lnTo>
                  <a:lnTo>
                    <a:pt x="771" y="13"/>
                  </a:lnTo>
                  <a:lnTo>
                    <a:pt x="781" y="19"/>
                  </a:lnTo>
                  <a:lnTo>
                    <a:pt x="788" y="25"/>
                  </a:lnTo>
                  <a:lnTo>
                    <a:pt x="796" y="33"/>
                  </a:lnTo>
                  <a:lnTo>
                    <a:pt x="804" y="40"/>
                  </a:lnTo>
                  <a:lnTo>
                    <a:pt x="811" y="49"/>
                  </a:lnTo>
                  <a:lnTo>
                    <a:pt x="817" y="60"/>
                  </a:lnTo>
                  <a:lnTo>
                    <a:pt x="822" y="71"/>
                  </a:lnTo>
                  <a:lnTo>
                    <a:pt x="826" y="82"/>
                  </a:lnTo>
                  <a:lnTo>
                    <a:pt x="831" y="94"/>
                  </a:lnTo>
                  <a:lnTo>
                    <a:pt x="835" y="105"/>
                  </a:lnTo>
                  <a:lnTo>
                    <a:pt x="840" y="117"/>
                  </a:lnTo>
                  <a:lnTo>
                    <a:pt x="844" y="127"/>
                  </a:lnTo>
                  <a:lnTo>
                    <a:pt x="850" y="143"/>
                  </a:lnTo>
                  <a:lnTo>
                    <a:pt x="858" y="160"/>
                  </a:lnTo>
                  <a:lnTo>
                    <a:pt x="864" y="175"/>
                  </a:lnTo>
                  <a:lnTo>
                    <a:pt x="870" y="191"/>
                  </a:lnTo>
                  <a:lnTo>
                    <a:pt x="877" y="208"/>
                  </a:lnTo>
                  <a:lnTo>
                    <a:pt x="883" y="223"/>
                  </a:lnTo>
                  <a:lnTo>
                    <a:pt x="890" y="239"/>
                  </a:lnTo>
                  <a:lnTo>
                    <a:pt x="896" y="256"/>
                  </a:lnTo>
                  <a:lnTo>
                    <a:pt x="900" y="265"/>
                  </a:lnTo>
                  <a:lnTo>
                    <a:pt x="904" y="275"/>
                  </a:lnTo>
                  <a:lnTo>
                    <a:pt x="908" y="285"/>
                  </a:lnTo>
                  <a:lnTo>
                    <a:pt x="912" y="294"/>
                  </a:lnTo>
                  <a:lnTo>
                    <a:pt x="916" y="304"/>
                  </a:lnTo>
                  <a:lnTo>
                    <a:pt x="920" y="313"/>
                  </a:lnTo>
                  <a:lnTo>
                    <a:pt x="926" y="322"/>
                  </a:lnTo>
                  <a:lnTo>
                    <a:pt x="931" y="331"/>
                  </a:lnTo>
                  <a:lnTo>
                    <a:pt x="938" y="341"/>
                  </a:lnTo>
                  <a:lnTo>
                    <a:pt x="945" y="349"/>
                  </a:lnTo>
                  <a:lnTo>
                    <a:pt x="952" y="359"/>
                  </a:lnTo>
                  <a:lnTo>
                    <a:pt x="961" y="367"/>
                  </a:lnTo>
                  <a:lnTo>
                    <a:pt x="969" y="376"/>
                  </a:lnTo>
                  <a:lnTo>
                    <a:pt x="978" y="384"/>
                  </a:lnTo>
                  <a:lnTo>
                    <a:pt x="986" y="392"/>
                  </a:lnTo>
                  <a:lnTo>
                    <a:pt x="994" y="401"/>
                  </a:lnTo>
                  <a:lnTo>
                    <a:pt x="1006" y="410"/>
                  </a:lnTo>
                  <a:lnTo>
                    <a:pt x="1017" y="421"/>
                  </a:lnTo>
                  <a:lnTo>
                    <a:pt x="1028" y="432"/>
                  </a:lnTo>
                  <a:lnTo>
                    <a:pt x="1039" y="442"/>
                  </a:lnTo>
                  <a:lnTo>
                    <a:pt x="1051" y="451"/>
                  </a:lnTo>
                  <a:lnTo>
                    <a:pt x="1063" y="461"/>
                  </a:lnTo>
                  <a:lnTo>
                    <a:pt x="1075" y="469"/>
                  </a:lnTo>
                  <a:lnTo>
                    <a:pt x="1088" y="476"/>
                  </a:lnTo>
                  <a:lnTo>
                    <a:pt x="1099" y="481"/>
                  </a:lnTo>
                  <a:lnTo>
                    <a:pt x="1110" y="485"/>
                  </a:lnTo>
                  <a:lnTo>
                    <a:pt x="1122" y="487"/>
                  </a:lnTo>
                  <a:lnTo>
                    <a:pt x="1134" y="490"/>
                  </a:lnTo>
                  <a:lnTo>
                    <a:pt x="1146" y="491"/>
                  </a:lnTo>
                  <a:lnTo>
                    <a:pt x="1158" y="492"/>
                  </a:lnTo>
                  <a:lnTo>
                    <a:pt x="1170" y="493"/>
                  </a:lnTo>
                  <a:lnTo>
                    <a:pt x="1182" y="493"/>
                  </a:lnTo>
                  <a:lnTo>
                    <a:pt x="1196" y="494"/>
                  </a:lnTo>
                  <a:lnTo>
                    <a:pt x="1210" y="494"/>
                  </a:lnTo>
                  <a:lnTo>
                    <a:pt x="1225" y="494"/>
                  </a:lnTo>
                  <a:lnTo>
                    <a:pt x="1239" y="494"/>
                  </a:lnTo>
                  <a:lnTo>
                    <a:pt x="1254" y="493"/>
                  </a:lnTo>
                  <a:lnTo>
                    <a:pt x="1268" y="492"/>
                  </a:lnTo>
                  <a:lnTo>
                    <a:pt x="1282" y="490"/>
                  </a:lnTo>
                  <a:lnTo>
                    <a:pt x="1297" y="487"/>
                  </a:lnTo>
                  <a:lnTo>
                    <a:pt x="1308" y="486"/>
                  </a:lnTo>
                  <a:lnTo>
                    <a:pt x="1317" y="484"/>
                  </a:lnTo>
                  <a:lnTo>
                    <a:pt x="1327" y="480"/>
                  </a:lnTo>
                  <a:lnTo>
                    <a:pt x="1338" y="478"/>
                  </a:lnTo>
                  <a:lnTo>
                    <a:pt x="1346" y="474"/>
                  </a:lnTo>
                  <a:lnTo>
                    <a:pt x="1356" y="469"/>
                  </a:lnTo>
                  <a:lnTo>
                    <a:pt x="1364" y="464"/>
                  </a:lnTo>
                  <a:lnTo>
                    <a:pt x="1372" y="458"/>
                  </a:lnTo>
                  <a:lnTo>
                    <a:pt x="1381" y="452"/>
                  </a:lnTo>
                  <a:lnTo>
                    <a:pt x="1390" y="445"/>
                  </a:lnTo>
                  <a:lnTo>
                    <a:pt x="1399" y="438"/>
                  </a:lnTo>
                  <a:lnTo>
                    <a:pt x="1407" y="430"/>
                  </a:lnTo>
                  <a:lnTo>
                    <a:pt x="1413" y="421"/>
                  </a:lnTo>
                  <a:lnTo>
                    <a:pt x="1418" y="413"/>
                  </a:lnTo>
                  <a:lnTo>
                    <a:pt x="1419" y="408"/>
                  </a:lnTo>
                  <a:lnTo>
                    <a:pt x="1420" y="404"/>
                  </a:lnTo>
                  <a:lnTo>
                    <a:pt x="1420" y="400"/>
                  </a:lnTo>
                  <a:lnTo>
                    <a:pt x="1419" y="395"/>
                  </a:lnTo>
                  <a:lnTo>
                    <a:pt x="1418" y="390"/>
                  </a:lnTo>
                  <a:lnTo>
                    <a:pt x="1416" y="385"/>
                  </a:lnTo>
                  <a:lnTo>
                    <a:pt x="1412" y="382"/>
                  </a:lnTo>
                  <a:lnTo>
                    <a:pt x="1408" y="378"/>
                  </a:lnTo>
                  <a:lnTo>
                    <a:pt x="1399" y="372"/>
                  </a:lnTo>
                  <a:lnTo>
                    <a:pt x="1389" y="368"/>
                  </a:lnTo>
                  <a:lnTo>
                    <a:pt x="1377" y="365"/>
                  </a:lnTo>
                  <a:lnTo>
                    <a:pt x="1365" y="361"/>
                  </a:lnTo>
                  <a:lnTo>
                    <a:pt x="1354" y="358"/>
                  </a:lnTo>
                  <a:lnTo>
                    <a:pt x="1344" y="354"/>
                  </a:lnTo>
                  <a:lnTo>
                    <a:pt x="1332" y="349"/>
                  </a:lnTo>
                  <a:lnTo>
                    <a:pt x="1320" y="345"/>
                  </a:lnTo>
                  <a:lnTo>
                    <a:pt x="1306" y="341"/>
                  </a:lnTo>
                  <a:lnTo>
                    <a:pt x="1294" y="337"/>
                  </a:lnTo>
                  <a:lnTo>
                    <a:pt x="1281" y="334"/>
                  </a:lnTo>
                  <a:lnTo>
                    <a:pt x="1269" y="330"/>
                  </a:lnTo>
                  <a:lnTo>
                    <a:pt x="1257" y="325"/>
                  </a:lnTo>
                  <a:lnTo>
                    <a:pt x="1245" y="319"/>
                  </a:lnTo>
                  <a:lnTo>
                    <a:pt x="1238" y="315"/>
                  </a:lnTo>
                  <a:lnTo>
                    <a:pt x="1230" y="310"/>
                  </a:lnTo>
                  <a:lnTo>
                    <a:pt x="1224" y="305"/>
                  </a:lnTo>
                  <a:lnTo>
                    <a:pt x="1216" y="299"/>
                  </a:lnTo>
                  <a:lnTo>
                    <a:pt x="1210" y="293"/>
                  </a:lnTo>
                  <a:lnTo>
                    <a:pt x="1203" y="287"/>
                  </a:lnTo>
                  <a:lnTo>
                    <a:pt x="1198" y="280"/>
                  </a:lnTo>
                  <a:lnTo>
                    <a:pt x="1192" y="273"/>
                  </a:lnTo>
                  <a:lnTo>
                    <a:pt x="1188" y="265"/>
                  </a:lnTo>
                  <a:lnTo>
                    <a:pt x="1183" y="258"/>
                  </a:lnTo>
                  <a:lnTo>
                    <a:pt x="1179" y="250"/>
                  </a:lnTo>
                  <a:lnTo>
                    <a:pt x="1174" y="243"/>
                  </a:lnTo>
                  <a:lnTo>
                    <a:pt x="1171" y="234"/>
                  </a:lnTo>
                  <a:lnTo>
                    <a:pt x="1168" y="226"/>
                  </a:lnTo>
                  <a:lnTo>
                    <a:pt x="1166" y="217"/>
                  </a:lnTo>
                  <a:lnTo>
                    <a:pt x="1164" y="209"/>
                  </a:lnTo>
                  <a:lnTo>
                    <a:pt x="1162" y="203"/>
                  </a:lnTo>
                  <a:lnTo>
                    <a:pt x="1161" y="197"/>
                  </a:lnTo>
                  <a:lnTo>
                    <a:pt x="1161" y="190"/>
                  </a:lnTo>
                  <a:lnTo>
                    <a:pt x="1161" y="184"/>
                  </a:lnTo>
                  <a:lnTo>
                    <a:pt x="1161" y="178"/>
                  </a:lnTo>
                  <a:lnTo>
                    <a:pt x="1164" y="172"/>
                  </a:lnTo>
                  <a:lnTo>
                    <a:pt x="1166" y="167"/>
                  </a:lnTo>
                  <a:lnTo>
                    <a:pt x="1170" y="162"/>
                  </a:lnTo>
                  <a:lnTo>
                    <a:pt x="1176" y="159"/>
                  </a:lnTo>
                  <a:lnTo>
                    <a:pt x="1182" y="155"/>
                  </a:lnTo>
                  <a:lnTo>
                    <a:pt x="1189" y="153"/>
                  </a:lnTo>
                  <a:lnTo>
                    <a:pt x="1196" y="151"/>
                  </a:lnTo>
                  <a:lnTo>
                    <a:pt x="1204" y="150"/>
                  </a:lnTo>
                  <a:lnTo>
                    <a:pt x="1213" y="150"/>
                  </a:lnTo>
                  <a:lnTo>
                    <a:pt x="1220" y="150"/>
                  </a:lnTo>
                  <a:lnTo>
                    <a:pt x="1227" y="150"/>
                  </a:lnTo>
                  <a:lnTo>
                    <a:pt x="1237" y="153"/>
                  </a:lnTo>
                  <a:lnTo>
                    <a:pt x="1246" y="155"/>
                  </a:lnTo>
                  <a:lnTo>
                    <a:pt x="1256" y="157"/>
                  </a:lnTo>
                  <a:lnTo>
                    <a:pt x="1266" y="161"/>
                  </a:lnTo>
                  <a:lnTo>
                    <a:pt x="1275" y="165"/>
                  </a:lnTo>
                  <a:lnTo>
                    <a:pt x="1284" y="168"/>
                  </a:lnTo>
                  <a:lnTo>
                    <a:pt x="1293" y="172"/>
                  </a:lnTo>
                  <a:lnTo>
                    <a:pt x="1303" y="174"/>
                  </a:lnTo>
                  <a:lnTo>
                    <a:pt x="1315" y="177"/>
                  </a:lnTo>
                  <a:lnTo>
                    <a:pt x="1326" y="178"/>
                  </a:lnTo>
                  <a:lnTo>
                    <a:pt x="1338" y="180"/>
                  </a:lnTo>
                  <a:lnTo>
                    <a:pt x="1350" y="181"/>
                  </a:lnTo>
                  <a:lnTo>
                    <a:pt x="1362" y="183"/>
                  </a:lnTo>
                  <a:lnTo>
                    <a:pt x="1372" y="184"/>
                  </a:lnTo>
                  <a:lnTo>
                    <a:pt x="1384" y="185"/>
                  </a:lnTo>
                  <a:lnTo>
                    <a:pt x="1396" y="186"/>
                  </a:lnTo>
                  <a:lnTo>
                    <a:pt x="1410" y="186"/>
                  </a:lnTo>
                  <a:lnTo>
                    <a:pt x="1423" y="186"/>
                  </a:lnTo>
                  <a:lnTo>
                    <a:pt x="1435" y="187"/>
                  </a:lnTo>
                  <a:lnTo>
                    <a:pt x="1448" y="187"/>
                  </a:lnTo>
                  <a:lnTo>
                    <a:pt x="1461" y="186"/>
                  </a:lnTo>
                  <a:lnTo>
                    <a:pt x="1474" y="186"/>
                  </a:lnTo>
                  <a:lnTo>
                    <a:pt x="1488" y="186"/>
                  </a:lnTo>
                  <a:lnTo>
                    <a:pt x="1501" y="186"/>
                  </a:lnTo>
                  <a:lnTo>
                    <a:pt x="1509" y="185"/>
                  </a:lnTo>
                  <a:lnTo>
                    <a:pt x="1519" y="184"/>
                  </a:lnTo>
                  <a:lnTo>
                    <a:pt x="1527" y="183"/>
                  </a:lnTo>
                  <a:lnTo>
                    <a:pt x="1536" y="181"/>
                  </a:lnTo>
                  <a:lnTo>
                    <a:pt x="1545" y="179"/>
                  </a:lnTo>
                  <a:lnTo>
                    <a:pt x="1554" y="179"/>
                  </a:lnTo>
                  <a:lnTo>
                    <a:pt x="1562" y="179"/>
                  </a:lnTo>
                  <a:lnTo>
                    <a:pt x="1570" y="180"/>
                  </a:lnTo>
                  <a:lnTo>
                    <a:pt x="1578" y="181"/>
                  </a:lnTo>
                  <a:lnTo>
                    <a:pt x="1585" y="184"/>
                  </a:lnTo>
                  <a:lnTo>
                    <a:pt x="1592" y="186"/>
                  </a:lnTo>
                  <a:lnTo>
                    <a:pt x="1599" y="190"/>
                  </a:lnTo>
                  <a:lnTo>
                    <a:pt x="1606" y="193"/>
                  </a:lnTo>
                  <a:lnTo>
                    <a:pt x="1612" y="198"/>
                  </a:lnTo>
                  <a:lnTo>
                    <a:pt x="1618" y="203"/>
                  </a:lnTo>
                  <a:lnTo>
                    <a:pt x="1623" y="209"/>
                  </a:lnTo>
                  <a:lnTo>
                    <a:pt x="1627" y="215"/>
                  </a:lnTo>
                  <a:lnTo>
                    <a:pt x="1630" y="222"/>
                  </a:lnTo>
                  <a:lnTo>
                    <a:pt x="1633" y="229"/>
                  </a:lnTo>
                  <a:lnTo>
                    <a:pt x="1634" y="237"/>
                  </a:lnTo>
                  <a:lnTo>
                    <a:pt x="1636" y="244"/>
                  </a:lnTo>
                  <a:lnTo>
                    <a:pt x="1638" y="252"/>
                  </a:lnTo>
                  <a:lnTo>
                    <a:pt x="1639" y="259"/>
                  </a:lnTo>
                  <a:lnTo>
                    <a:pt x="1640" y="267"/>
                  </a:lnTo>
                  <a:lnTo>
                    <a:pt x="1645" y="287"/>
                  </a:lnTo>
                  <a:lnTo>
                    <a:pt x="1650" y="306"/>
                  </a:lnTo>
                  <a:lnTo>
                    <a:pt x="1654" y="325"/>
                  </a:lnTo>
                  <a:lnTo>
                    <a:pt x="1659" y="345"/>
                  </a:lnTo>
                  <a:lnTo>
                    <a:pt x="1664" y="365"/>
                  </a:lnTo>
                  <a:lnTo>
                    <a:pt x="1668" y="384"/>
                  </a:lnTo>
                  <a:lnTo>
                    <a:pt x="1672" y="404"/>
                  </a:lnTo>
                  <a:lnTo>
                    <a:pt x="1675" y="424"/>
                  </a:lnTo>
                  <a:lnTo>
                    <a:pt x="1677" y="442"/>
                  </a:lnTo>
                  <a:lnTo>
                    <a:pt x="1678" y="460"/>
                  </a:lnTo>
                  <a:lnTo>
                    <a:pt x="1680" y="478"/>
                  </a:lnTo>
                  <a:lnTo>
                    <a:pt x="1680" y="497"/>
                  </a:lnTo>
                  <a:lnTo>
                    <a:pt x="1681" y="515"/>
                  </a:lnTo>
                  <a:lnTo>
                    <a:pt x="1682" y="533"/>
                  </a:lnTo>
                  <a:lnTo>
                    <a:pt x="1683" y="551"/>
                  </a:lnTo>
                  <a:lnTo>
                    <a:pt x="1687" y="569"/>
                  </a:lnTo>
                  <a:lnTo>
                    <a:pt x="1689" y="581"/>
                  </a:lnTo>
                  <a:lnTo>
                    <a:pt x="1693" y="593"/>
                  </a:lnTo>
                  <a:lnTo>
                    <a:pt x="1696" y="605"/>
                  </a:lnTo>
                  <a:lnTo>
                    <a:pt x="1701" y="616"/>
                  </a:lnTo>
                  <a:lnTo>
                    <a:pt x="1706" y="628"/>
                  </a:lnTo>
                  <a:lnTo>
                    <a:pt x="1712" y="637"/>
                  </a:lnTo>
                  <a:lnTo>
                    <a:pt x="1719" y="647"/>
                  </a:lnTo>
                  <a:lnTo>
                    <a:pt x="1728" y="656"/>
                  </a:lnTo>
                  <a:lnTo>
                    <a:pt x="1734" y="660"/>
                  </a:lnTo>
                  <a:lnTo>
                    <a:pt x="1741" y="664"/>
                  </a:lnTo>
                  <a:lnTo>
                    <a:pt x="1748" y="666"/>
                  </a:lnTo>
                  <a:lnTo>
                    <a:pt x="1756" y="668"/>
                  </a:lnTo>
                  <a:lnTo>
                    <a:pt x="1764" y="668"/>
                  </a:lnTo>
                  <a:lnTo>
                    <a:pt x="1772" y="667"/>
                  </a:lnTo>
                  <a:lnTo>
                    <a:pt x="1779" y="665"/>
                  </a:lnTo>
                  <a:lnTo>
                    <a:pt x="1785" y="661"/>
                  </a:lnTo>
                  <a:lnTo>
                    <a:pt x="1800" y="652"/>
                  </a:lnTo>
                  <a:lnTo>
                    <a:pt x="1812" y="640"/>
                  </a:lnTo>
                  <a:lnTo>
                    <a:pt x="1822" y="628"/>
                  </a:lnTo>
                  <a:lnTo>
                    <a:pt x="1833" y="613"/>
                  </a:lnTo>
                  <a:lnTo>
                    <a:pt x="1843" y="600"/>
                  </a:lnTo>
                  <a:lnTo>
                    <a:pt x="1852" y="586"/>
                  </a:lnTo>
                  <a:lnTo>
                    <a:pt x="1863" y="571"/>
                  </a:lnTo>
                  <a:lnTo>
                    <a:pt x="1873" y="557"/>
                  </a:lnTo>
                  <a:lnTo>
                    <a:pt x="1886" y="540"/>
                  </a:lnTo>
                  <a:lnTo>
                    <a:pt x="1898" y="523"/>
                  </a:lnTo>
                  <a:lnTo>
                    <a:pt x="1910" y="505"/>
                  </a:lnTo>
                  <a:lnTo>
                    <a:pt x="1922" y="487"/>
                  </a:lnTo>
                  <a:lnTo>
                    <a:pt x="1934" y="469"/>
                  </a:lnTo>
                  <a:lnTo>
                    <a:pt x="1946" y="452"/>
                  </a:lnTo>
                  <a:lnTo>
                    <a:pt x="1959" y="434"/>
                  </a:lnTo>
                  <a:lnTo>
                    <a:pt x="1971" y="418"/>
                  </a:lnTo>
                  <a:lnTo>
                    <a:pt x="1981" y="406"/>
                  </a:lnTo>
                  <a:lnTo>
                    <a:pt x="1990" y="394"/>
                  </a:lnTo>
                  <a:lnTo>
                    <a:pt x="2000" y="382"/>
                  </a:lnTo>
                  <a:lnTo>
                    <a:pt x="2011" y="370"/>
                  </a:lnTo>
                  <a:lnTo>
                    <a:pt x="2020" y="358"/>
                  </a:lnTo>
                  <a:lnTo>
                    <a:pt x="2031" y="347"/>
                  </a:lnTo>
                  <a:lnTo>
                    <a:pt x="2042" y="335"/>
                  </a:lnTo>
                  <a:lnTo>
                    <a:pt x="2053" y="325"/>
                  </a:lnTo>
                  <a:lnTo>
                    <a:pt x="2059" y="319"/>
                  </a:lnTo>
                  <a:lnTo>
                    <a:pt x="2067" y="313"/>
                  </a:lnTo>
                  <a:lnTo>
                    <a:pt x="2074" y="307"/>
                  </a:lnTo>
                  <a:lnTo>
                    <a:pt x="2083" y="301"/>
                  </a:lnTo>
                  <a:lnTo>
                    <a:pt x="2090" y="298"/>
                  </a:lnTo>
                  <a:lnTo>
                    <a:pt x="2097" y="297"/>
                  </a:lnTo>
                  <a:lnTo>
                    <a:pt x="2100" y="297"/>
                  </a:lnTo>
                  <a:lnTo>
                    <a:pt x="2102" y="297"/>
                  </a:lnTo>
                  <a:lnTo>
                    <a:pt x="2104" y="299"/>
                  </a:lnTo>
                  <a:lnTo>
                    <a:pt x="2106" y="301"/>
                  </a:lnTo>
                  <a:lnTo>
                    <a:pt x="2110" y="322"/>
                  </a:lnTo>
                  <a:lnTo>
                    <a:pt x="2114" y="343"/>
                  </a:lnTo>
                  <a:lnTo>
                    <a:pt x="2115" y="364"/>
                  </a:lnTo>
                  <a:lnTo>
                    <a:pt x="2114" y="385"/>
                  </a:lnTo>
                  <a:lnTo>
                    <a:pt x="2113" y="407"/>
                  </a:lnTo>
                  <a:lnTo>
                    <a:pt x="2109" y="428"/>
                  </a:lnTo>
                  <a:lnTo>
                    <a:pt x="2104" y="450"/>
                  </a:lnTo>
                  <a:lnTo>
                    <a:pt x="2100" y="470"/>
                  </a:lnTo>
                  <a:lnTo>
                    <a:pt x="2089" y="506"/>
                  </a:lnTo>
                  <a:lnTo>
                    <a:pt x="2077" y="542"/>
                  </a:lnTo>
                  <a:lnTo>
                    <a:pt x="2062" y="577"/>
                  </a:lnTo>
                  <a:lnTo>
                    <a:pt x="2048" y="612"/>
                  </a:lnTo>
                  <a:lnTo>
                    <a:pt x="2032" y="647"/>
                  </a:lnTo>
                  <a:lnTo>
                    <a:pt x="2017" y="680"/>
                  </a:lnTo>
                  <a:lnTo>
                    <a:pt x="2000" y="715"/>
                  </a:lnTo>
                  <a:lnTo>
                    <a:pt x="1983" y="749"/>
                  </a:lnTo>
                  <a:lnTo>
                    <a:pt x="1974" y="768"/>
                  </a:lnTo>
                  <a:lnTo>
                    <a:pt x="1964" y="787"/>
                  </a:lnTo>
                  <a:lnTo>
                    <a:pt x="1954" y="805"/>
                  </a:lnTo>
                  <a:lnTo>
                    <a:pt x="1944" y="824"/>
                  </a:lnTo>
                  <a:lnTo>
                    <a:pt x="1933" y="842"/>
                  </a:lnTo>
                  <a:lnTo>
                    <a:pt x="1922" y="860"/>
                  </a:lnTo>
                  <a:lnTo>
                    <a:pt x="1909" y="877"/>
                  </a:lnTo>
                  <a:lnTo>
                    <a:pt x="1897" y="894"/>
                  </a:lnTo>
                  <a:lnTo>
                    <a:pt x="1887" y="905"/>
                  </a:lnTo>
                  <a:lnTo>
                    <a:pt x="1876" y="913"/>
                  </a:lnTo>
                  <a:lnTo>
                    <a:pt x="1866" y="923"/>
                  </a:lnTo>
                  <a:lnTo>
                    <a:pt x="1854" y="930"/>
                  </a:lnTo>
                  <a:lnTo>
                    <a:pt x="1843" y="938"/>
                  </a:lnTo>
                  <a:lnTo>
                    <a:pt x="1831" y="947"/>
                  </a:lnTo>
                  <a:lnTo>
                    <a:pt x="1820" y="955"/>
                  </a:lnTo>
                  <a:lnTo>
                    <a:pt x="1809" y="964"/>
                  </a:lnTo>
                  <a:lnTo>
                    <a:pt x="1804" y="968"/>
                  </a:lnTo>
                  <a:lnTo>
                    <a:pt x="1798" y="973"/>
                  </a:lnTo>
                  <a:lnTo>
                    <a:pt x="1794" y="978"/>
                  </a:lnTo>
                  <a:lnTo>
                    <a:pt x="1788" y="982"/>
                  </a:lnTo>
                  <a:lnTo>
                    <a:pt x="1784" y="988"/>
                  </a:lnTo>
                  <a:lnTo>
                    <a:pt x="1779" y="992"/>
                  </a:lnTo>
                  <a:lnTo>
                    <a:pt x="1777" y="998"/>
                  </a:lnTo>
                  <a:lnTo>
                    <a:pt x="1774" y="1004"/>
                  </a:lnTo>
                  <a:lnTo>
                    <a:pt x="1773" y="1012"/>
                  </a:lnTo>
                  <a:lnTo>
                    <a:pt x="1772" y="1020"/>
                  </a:lnTo>
                  <a:lnTo>
                    <a:pt x="1772" y="1028"/>
                  </a:lnTo>
                  <a:lnTo>
                    <a:pt x="1772" y="1037"/>
                  </a:lnTo>
                  <a:lnTo>
                    <a:pt x="1773" y="1045"/>
                  </a:lnTo>
                  <a:lnTo>
                    <a:pt x="1777" y="1051"/>
                  </a:lnTo>
                  <a:lnTo>
                    <a:pt x="1780" y="1058"/>
                  </a:lnTo>
                  <a:lnTo>
                    <a:pt x="1785" y="1063"/>
                  </a:lnTo>
                  <a:lnTo>
                    <a:pt x="1797" y="1069"/>
                  </a:lnTo>
                  <a:lnTo>
                    <a:pt x="1809" y="1074"/>
                  </a:lnTo>
                  <a:lnTo>
                    <a:pt x="1822" y="1078"/>
                  </a:lnTo>
                  <a:lnTo>
                    <a:pt x="1836" y="1081"/>
                  </a:lnTo>
                  <a:lnTo>
                    <a:pt x="1850" y="1082"/>
                  </a:lnTo>
                  <a:lnTo>
                    <a:pt x="1863" y="1082"/>
                  </a:lnTo>
                  <a:lnTo>
                    <a:pt x="1878" y="1081"/>
                  </a:lnTo>
                  <a:lnTo>
                    <a:pt x="1891" y="1080"/>
                  </a:lnTo>
                  <a:lnTo>
                    <a:pt x="1905" y="1078"/>
                  </a:lnTo>
                  <a:lnTo>
                    <a:pt x="1920" y="1073"/>
                  </a:lnTo>
                  <a:lnTo>
                    <a:pt x="1934" y="1068"/>
                  </a:lnTo>
                  <a:lnTo>
                    <a:pt x="1947" y="1062"/>
                  </a:lnTo>
                  <a:lnTo>
                    <a:pt x="1960" y="1055"/>
                  </a:lnTo>
                  <a:lnTo>
                    <a:pt x="1972" y="1048"/>
                  </a:lnTo>
                  <a:lnTo>
                    <a:pt x="1984" y="1038"/>
                  </a:lnTo>
                  <a:lnTo>
                    <a:pt x="1995" y="1027"/>
                  </a:lnTo>
                  <a:lnTo>
                    <a:pt x="2004" y="1018"/>
                  </a:lnTo>
                  <a:lnTo>
                    <a:pt x="2012" y="1007"/>
                  </a:lnTo>
                  <a:lnTo>
                    <a:pt x="2020" y="996"/>
                  </a:lnTo>
                  <a:lnTo>
                    <a:pt x="2028" y="984"/>
                  </a:lnTo>
                  <a:lnTo>
                    <a:pt x="2042" y="961"/>
                  </a:lnTo>
                  <a:lnTo>
                    <a:pt x="2055" y="936"/>
                  </a:lnTo>
                  <a:lnTo>
                    <a:pt x="2068" y="912"/>
                  </a:lnTo>
                  <a:lnTo>
                    <a:pt x="2082" y="888"/>
                  </a:lnTo>
                  <a:lnTo>
                    <a:pt x="2096" y="864"/>
                  </a:lnTo>
                  <a:lnTo>
                    <a:pt x="2112" y="842"/>
                  </a:lnTo>
                  <a:lnTo>
                    <a:pt x="2124" y="827"/>
                  </a:lnTo>
                  <a:lnTo>
                    <a:pt x="2136" y="812"/>
                  </a:lnTo>
                  <a:lnTo>
                    <a:pt x="2149" y="799"/>
                  </a:lnTo>
                  <a:lnTo>
                    <a:pt x="2163" y="786"/>
                  </a:lnTo>
                  <a:lnTo>
                    <a:pt x="2176" y="773"/>
                  </a:lnTo>
                  <a:lnTo>
                    <a:pt x="2192" y="761"/>
                  </a:lnTo>
                  <a:lnTo>
                    <a:pt x="2206" y="749"/>
                  </a:lnTo>
                  <a:lnTo>
                    <a:pt x="2222" y="737"/>
                  </a:lnTo>
                  <a:lnTo>
                    <a:pt x="2232" y="731"/>
                  </a:lnTo>
                  <a:lnTo>
                    <a:pt x="2242" y="724"/>
                  </a:lnTo>
                  <a:lnTo>
                    <a:pt x="2252" y="718"/>
                  </a:lnTo>
                  <a:lnTo>
                    <a:pt x="2263" y="712"/>
                  </a:lnTo>
                  <a:lnTo>
                    <a:pt x="2275" y="707"/>
                  </a:lnTo>
                  <a:lnTo>
                    <a:pt x="2286" y="704"/>
                  </a:lnTo>
                  <a:lnTo>
                    <a:pt x="2298" y="702"/>
                  </a:lnTo>
                  <a:lnTo>
                    <a:pt x="2310" y="702"/>
                  </a:lnTo>
                  <a:lnTo>
                    <a:pt x="2320" y="704"/>
                  </a:lnTo>
                  <a:lnTo>
                    <a:pt x="2331" y="709"/>
                  </a:lnTo>
                  <a:lnTo>
                    <a:pt x="2341" y="715"/>
                  </a:lnTo>
                  <a:lnTo>
                    <a:pt x="2350" y="721"/>
                  </a:lnTo>
                  <a:lnTo>
                    <a:pt x="2360" y="730"/>
                  </a:lnTo>
                  <a:lnTo>
                    <a:pt x="2368" y="738"/>
                  </a:lnTo>
                  <a:lnTo>
                    <a:pt x="2377" y="746"/>
                  </a:lnTo>
                  <a:lnTo>
                    <a:pt x="2385" y="755"/>
                  </a:lnTo>
                  <a:lnTo>
                    <a:pt x="2392" y="764"/>
                  </a:lnTo>
                  <a:lnTo>
                    <a:pt x="2400" y="774"/>
                  </a:lnTo>
                  <a:lnTo>
                    <a:pt x="2407" y="784"/>
                  </a:lnTo>
                  <a:lnTo>
                    <a:pt x="2413" y="793"/>
                  </a:lnTo>
                  <a:lnTo>
                    <a:pt x="2419" y="804"/>
                  </a:lnTo>
                  <a:lnTo>
                    <a:pt x="2425" y="815"/>
                  </a:lnTo>
                  <a:lnTo>
                    <a:pt x="2431" y="826"/>
                  </a:lnTo>
                  <a:lnTo>
                    <a:pt x="2437" y="836"/>
                  </a:lnTo>
                  <a:lnTo>
                    <a:pt x="2446" y="851"/>
                  </a:lnTo>
                  <a:lnTo>
                    <a:pt x="2456" y="866"/>
                  </a:lnTo>
                  <a:lnTo>
                    <a:pt x="2466" y="881"/>
                  </a:lnTo>
                  <a:lnTo>
                    <a:pt x="2474" y="896"/>
                  </a:lnTo>
                  <a:lnTo>
                    <a:pt x="2484" y="911"/>
                  </a:lnTo>
                  <a:lnTo>
                    <a:pt x="2492" y="926"/>
                  </a:lnTo>
                  <a:lnTo>
                    <a:pt x="2499" y="942"/>
                  </a:lnTo>
                  <a:lnTo>
                    <a:pt x="2506" y="958"/>
                  </a:lnTo>
                  <a:lnTo>
                    <a:pt x="2510" y="967"/>
                  </a:lnTo>
                  <a:lnTo>
                    <a:pt x="2514" y="978"/>
                  </a:lnTo>
                  <a:lnTo>
                    <a:pt x="2516" y="988"/>
                  </a:lnTo>
                  <a:lnTo>
                    <a:pt x="2518" y="998"/>
                  </a:lnTo>
                  <a:lnTo>
                    <a:pt x="2520" y="1008"/>
                  </a:lnTo>
                  <a:lnTo>
                    <a:pt x="2520" y="1019"/>
                  </a:lnTo>
                  <a:lnTo>
                    <a:pt x="2520" y="1030"/>
                  </a:lnTo>
                  <a:lnTo>
                    <a:pt x="2518" y="1039"/>
                  </a:lnTo>
                  <a:lnTo>
                    <a:pt x="2517" y="1046"/>
                  </a:lnTo>
                  <a:lnTo>
                    <a:pt x="2514" y="1054"/>
                  </a:lnTo>
                  <a:lnTo>
                    <a:pt x="2510" y="1060"/>
                  </a:lnTo>
                  <a:lnTo>
                    <a:pt x="2506" y="1066"/>
                  </a:lnTo>
                  <a:lnTo>
                    <a:pt x="2502" y="1072"/>
                  </a:lnTo>
                  <a:lnTo>
                    <a:pt x="2496" y="1076"/>
                  </a:lnTo>
                  <a:lnTo>
                    <a:pt x="2490" y="1079"/>
                  </a:lnTo>
                  <a:lnTo>
                    <a:pt x="2484" y="1080"/>
                  </a:lnTo>
                  <a:lnTo>
                    <a:pt x="2473" y="1080"/>
                  </a:lnTo>
                  <a:lnTo>
                    <a:pt x="2463" y="1078"/>
                  </a:lnTo>
                  <a:lnTo>
                    <a:pt x="2452" y="1075"/>
                  </a:lnTo>
                  <a:lnTo>
                    <a:pt x="2443" y="1070"/>
                  </a:lnTo>
                  <a:lnTo>
                    <a:pt x="2433" y="1064"/>
                  </a:lnTo>
                  <a:lnTo>
                    <a:pt x="2425" y="1058"/>
                  </a:lnTo>
                  <a:lnTo>
                    <a:pt x="2416" y="1052"/>
                  </a:lnTo>
                  <a:lnTo>
                    <a:pt x="2408" y="1045"/>
                  </a:lnTo>
                  <a:lnTo>
                    <a:pt x="2397" y="1034"/>
                  </a:lnTo>
                  <a:lnTo>
                    <a:pt x="2388" y="1022"/>
                  </a:lnTo>
                  <a:lnTo>
                    <a:pt x="2379" y="1010"/>
                  </a:lnTo>
                  <a:lnTo>
                    <a:pt x="2371" y="997"/>
                  </a:lnTo>
                  <a:lnTo>
                    <a:pt x="2362" y="985"/>
                  </a:lnTo>
                  <a:lnTo>
                    <a:pt x="2355" y="972"/>
                  </a:lnTo>
                  <a:lnTo>
                    <a:pt x="2347" y="959"/>
                  </a:lnTo>
                  <a:lnTo>
                    <a:pt x="2338" y="947"/>
                  </a:lnTo>
                  <a:lnTo>
                    <a:pt x="2332" y="938"/>
                  </a:lnTo>
                  <a:lnTo>
                    <a:pt x="2328" y="931"/>
                  </a:lnTo>
                  <a:lnTo>
                    <a:pt x="2322" y="923"/>
                  </a:lnTo>
                  <a:lnTo>
                    <a:pt x="2317" y="916"/>
                  </a:lnTo>
                  <a:lnTo>
                    <a:pt x="2311" y="908"/>
                  </a:lnTo>
                  <a:lnTo>
                    <a:pt x="2305" y="901"/>
                  </a:lnTo>
                  <a:lnTo>
                    <a:pt x="2299" y="894"/>
                  </a:lnTo>
                  <a:lnTo>
                    <a:pt x="2292" y="888"/>
                  </a:lnTo>
                  <a:lnTo>
                    <a:pt x="2288" y="887"/>
                  </a:lnTo>
                  <a:lnTo>
                    <a:pt x="2284" y="884"/>
                  </a:lnTo>
                  <a:lnTo>
                    <a:pt x="2281" y="883"/>
                  </a:lnTo>
                  <a:lnTo>
                    <a:pt x="2276" y="883"/>
                  </a:lnTo>
                  <a:lnTo>
                    <a:pt x="2272" y="883"/>
                  </a:lnTo>
                  <a:lnTo>
                    <a:pt x="2269" y="884"/>
                  </a:lnTo>
                  <a:lnTo>
                    <a:pt x="2265" y="886"/>
                  </a:lnTo>
                  <a:lnTo>
                    <a:pt x="2263" y="888"/>
                  </a:lnTo>
                  <a:lnTo>
                    <a:pt x="2252" y="904"/>
                  </a:lnTo>
                  <a:lnTo>
                    <a:pt x="2242" y="920"/>
                  </a:lnTo>
                  <a:lnTo>
                    <a:pt x="2234" y="937"/>
                  </a:lnTo>
                  <a:lnTo>
                    <a:pt x="2226" y="954"/>
                  </a:lnTo>
                  <a:lnTo>
                    <a:pt x="2218" y="972"/>
                  </a:lnTo>
                  <a:lnTo>
                    <a:pt x="2210" y="989"/>
                  </a:lnTo>
                  <a:lnTo>
                    <a:pt x="2202" y="1006"/>
                  </a:lnTo>
                  <a:lnTo>
                    <a:pt x="2193" y="1022"/>
                  </a:lnTo>
                  <a:lnTo>
                    <a:pt x="2182" y="1038"/>
                  </a:lnTo>
                  <a:lnTo>
                    <a:pt x="2173" y="1055"/>
                  </a:lnTo>
                  <a:lnTo>
                    <a:pt x="2162" y="1072"/>
                  </a:lnTo>
                  <a:lnTo>
                    <a:pt x="2151" y="1087"/>
                  </a:lnTo>
                  <a:lnTo>
                    <a:pt x="2140" y="1104"/>
                  </a:lnTo>
                  <a:lnTo>
                    <a:pt x="2130" y="1119"/>
                  </a:lnTo>
                  <a:lnTo>
                    <a:pt x="2118" y="1135"/>
                  </a:lnTo>
                  <a:lnTo>
                    <a:pt x="2106" y="1149"/>
                  </a:lnTo>
                  <a:lnTo>
                    <a:pt x="2094" y="1163"/>
                  </a:lnTo>
                  <a:lnTo>
                    <a:pt x="2082" y="1176"/>
                  </a:lnTo>
                  <a:lnTo>
                    <a:pt x="2068" y="1189"/>
                  </a:lnTo>
                  <a:lnTo>
                    <a:pt x="2055" y="1201"/>
                  </a:lnTo>
                  <a:lnTo>
                    <a:pt x="2042" y="1214"/>
                  </a:lnTo>
                  <a:lnTo>
                    <a:pt x="2029" y="1225"/>
                  </a:lnTo>
                  <a:lnTo>
                    <a:pt x="2014" y="1237"/>
                  </a:lnTo>
                  <a:lnTo>
                    <a:pt x="2001" y="1248"/>
                  </a:lnTo>
                  <a:lnTo>
                    <a:pt x="1990" y="1256"/>
                  </a:lnTo>
                  <a:lnTo>
                    <a:pt x="1981" y="1263"/>
                  </a:lnTo>
                  <a:lnTo>
                    <a:pt x="1970" y="1271"/>
                  </a:lnTo>
                  <a:lnTo>
                    <a:pt x="1959" y="1278"/>
                  </a:lnTo>
                  <a:lnTo>
                    <a:pt x="1948" y="1284"/>
                  </a:lnTo>
                  <a:lnTo>
                    <a:pt x="1936" y="1290"/>
                  </a:lnTo>
                  <a:lnTo>
                    <a:pt x="1926" y="1296"/>
                  </a:lnTo>
                  <a:lnTo>
                    <a:pt x="1914" y="1301"/>
                  </a:lnTo>
                  <a:lnTo>
                    <a:pt x="1903" y="1304"/>
                  </a:lnTo>
                  <a:lnTo>
                    <a:pt x="1892" y="1307"/>
                  </a:lnTo>
                  <a:lnTo>
                    <a:pt x="1881" y="1309"/>
                  </a:lnTo>
                  <a:lnTo>
                    <a:pt x="1870" y="1310"/>
                  </a:lnTo>
                  <a:lnTo>
                    <a:pt x="1860" y="1311"/>
                  </a:lnTo>
                  <a:lnTo>
                    <a:pt x="1848" y="1314"/>
                  </a:lnTo>
                  <a:lnTo>
                    <a:pt x="1837" y="1315"/>
                  </a:lnTo>
                  <a:lnTo>
                    <a:pt x="1826" y="1319"/>
                  </a:lnTo>
                  <a:lnTo>
                    <a:pt x="1819" y="1320"/>
                  </a:lnTo>
                  <a:lnTo>
                    <a:pt x="1812" y="1321"/>
                  </a:lnTo>
                  <a:lnTo>
                    <a:pt x="1804" y="1323"/>
                  </a:lnTo>
                  <a:lnTo>
                    <a:pt x="1797" y="1326"/>
                  </a:lnTo>
                  <a:lnTo>
                    <a:pt x="1790" y="1328"/>
                  </a:lnTo>
                  <a:lnTo>
                    <a:pt x="1784" y="1332"/>
                  </a:lnTo>
                  <a:lnTo>
                    <a:pt x="1778" y="1335"/>
                  </a:lnTo>
                  <a:lnTo>
                    <a:pt x="1774" y="1341"/>
                  </a:lnTo>
                  <a:lnTo>
                    <a:pt x="1772" y="1346"/>
                  </a:lnTo>
                  <a:lnTo>
                    <a:pt x="1772" y="1352"/>
                  </a:lnTo>
                  <a:lnTo>
                    <a:pt x="1773" y="1357"/>
                  </a:lnTo>
                  <a:lnTo>
                    <a:pt x="1777" y="1363"/>
                  </a:lnTo>
                  <a:lnTo>
                    <a:pt x="1779" y="1368"/>
                  </a:lnTo>
                  <a:lnTo>
                    <a:pt x="1784" y="1373"/>
                  </a:lnTo>
                  <a:lnTo>
                    <a:pt x="1788" y="1377"/>
                  </a:lnTo>
                  <a:lnTo>
                    <a:pt x="1791" y="1382"/>
                  </a:lnTo>
                  <a:lnTo>
                    <a:pt x="1801" y="1391"/>
                  </a:lnTo>
                  <a:lnTo>
                    <a:pt x="1812" y="1398"/>
                  </a:lnTo>
                  <a:lnTo>
                    <a:pt x="1822" y="1404"/>
                  </a:lnTo>
                  <a:lnTo>
                    <a:pt x="1833" y="1410"/>
                  </a:lnTo>
                  <a:lnTo>
                    <a:pt x="1844" y="1417"/>
                  </a:lnTo>
                  <a:lnTo>
                    <a:pt x="1855" y="1423"/>
                  </a:lnTo>
                  <a:lnTo>
                    <a:pt x="1864" y="1431"/>
                  </a:lnTo>
                  <a:lnTo>
                    <a:pt x="1873" y="1440"/>
                  </a:lnTo>
                  <a:lnTo>
                    <a:pt x="1881" y="1452"/>
                  </a:lnTo>
                  <a:lnTo>
                    <a:pt x="1890" y="1464"/>
                  </a:lnTo>
                  <a:lnTo>
                    <a:pt x="1896" y="1477"/>
                  </a:lnTo>
                  <a:lnTo>
                    <a:pt x="1902" y="1490"/>
                  </a:lnTo>
                  <a:lnTo>
                    <a:pt x="1908" y="1505"/>
                  </a:lnTo>
                  <a:lnTo>
                    <a:pt x="1914" y="1518"/>
                  </a:lnTo>
                  <a:lnTo>
                    <a:pt x="1920" y="1531"/>
                  </a:lnTo>
                  <a:lnTo>
                    <a:pt x="1926" y="1544"/>
                  </a:lnTo>
                  <a:lnTo>
                    <a:pt x="1934" y="1563"/>
                  </a:lnTo>
                  <a:lnTo>
                    <a:pt x="1941" y="1583"/>
                  </a:lnTo>
                  <a:lnTo>
                    <a:pt x="1948" y="1602"/>
                  </a:lnTo>
                  <a:lnTo>
                    <a:pt x="1956" y="1621"/>
                  </a:lnTo>
                  <a:lnTo>
                    <a:pt x="1963" y="1639"/>
                  </a:lnTo>
                  <a:lnTo>
                    <a:pt x="1972" y="1657"/>
                  </a:lnTo>
                  <a:lnTo>
                    <a:pt x="1977" y="1667"/>
                  </a:lnTo>
                  <a:lnTo>
                    <a:pt x="1982" y="1675"/>
                  </a:lnTo>
                  <a:lnTo>
                    <a:pt x="1988" y="1682"/>
                  </a:lnTo>
                  <a:lnTo>
                    <a:pt x="1995" y="1689"/>
                  </a:lnTo>
                  <a:lnTo>
                    <a:pt x="2011" y="1705"/>
                  </a:lnTo>
                  <a:lnTo>
                    <a:pt x="2029" y="1718"/>
                  </a:lnTo>
                  <a:lnTo>
                    <a:pt x="2047" y="1729"/>
                  </a:lnTo>
                  <a:lnTo>
                    <a:pt x="2066" y="1740"/>
                  </a:lnTo>
                  <a:lnTo>
                    <a:pt x="2086" y="1749"/>
                  </a:lnTo>
                  <a:lnTo>
                    <a:pt x="2107" y="1758"/>
                  </a:lnTo>
                  <a:lnTo>
                    <a:pt x="2126" y="1767"/>
                  </a:lnTo>
                  <a:lnTo>
                    <a:pt x="2146" y="1777"/>
                  </a:lnTo>
                  <a:lnTo>
                    <a:pt x="2161" y="1783"/>
                  </a:lnTo>
                  <a:lnTo>
                    <a:pt x="2175" y="1789"/>
                  </a:lnTo>
                  <a:lnTo>
                    <a:pt x="2190" y="1794"/>
                  </a:lnTo>
                  <a:lnTo>
                    <a:pt x="2205" y="1800"/>
                  </a:lnTo>
                  <a:lnTo>
                    <a:pt x="2220" y="1805"/>
                  </a:lnTo>
                  <a:lnTo>
                    <a:pt x="2234" y="1809"/>
                  </a:lnTo>
                  <a:lnTo>
                    <a:pt x="2248" y="1817"/>
                  </a:lnTo>
                  <a:lnTo>
                    <a:pt x="2263" y="1824"/>
                  </a:lnTo>
                  <a:lnTo>
                    <a:pt x="2269" y="1827"/>
                  </a:lnTo>
                  <a:lnTo>
                    <a:pt x="2276" y="1832"/>
                  </a:lnTo>
                  <a:lnTo>
                    <a:pt x="2282" y="1837"/>
                  </a:lnTo>
                  <a:lnTo>
                    <a:pt x="2288" y="1843"/>
                  </a:lnTo>
                  <a:lnTo>
                    <a:pt x="2293" y="1849"/>
                  </a:lnTo>
                  <a:lnTo>
                    <a:pt x="2298" y="1856"/>
                  </a:lnTo>
                  <a:lnTo>
                    <a:pt x="2301" y="1862"/>
                  </a:lnTo>
                  <a:lnTo>
                    <a:pt x="2304" y="1869"/>
                  </a:lnTo>
                  <a:lnTo>
                    <a:pt x="2305" y="1879"/>
                  </a:lnTo>
                  <a:lnTo>
                    <a:pt x="2307" y="1890"/>
                  </a:lnTo>
                  <a:lnTo>
                    <a:pt x="2308" y="1899"/>
                  </a:lnTo>
                  <a:lnTo>
                    <a:pt x="2307" y="1910"/>
                  </a:lnTo>
                  <a:lnTo>
                    <a:pt x="2306" y="1920"/>
                  </a:lnTo>
                  <a:lnTo>
                    <a:pt x="2304" y="1928"/>
                  </a:lnTo>
                  <a:lnTo>
                    <a:pt x="2301" y="1932"/>
                  </a:lnTo>
                  <a:lnTo>
                    <a:pt x="2299" y="1935"/>
                  </a:lnTo>
                  <a:lnTo>
                    <a:pt x="2295" y="1938"/>
                  </a:lnTo>
                  <a:lnTo>
                    <a:pt x="2292" y="1940"/>
                  </a:lnTo>
                  <a:lnTo>
                    <a:pt x="2284" y="1942"/>
                  </a:lnTo>
                  <a:lnTo>
                    <a:pt x="2277" y="1944"/>
                  </a:lnTo>
                  <a:lnTo>
                    <a:pt x="2270" y="1945"/>
                  </a:lnTo>
                  <a:lnTo>
                    <a:pt x="2262" y="1945"/>
                  </a:lnTo>
                  <a:lnTo>
                    <a:pt x="2246" y="1944"/>
                  </a:lnTo>
                  <a:lnTo>
                    <a:pt x="2232" y="1940"/>
                  </a:lnTo>
                  <a:lnTo>
                    <a:pt x="2216" y="1936"/>
                  </a:lnTo>
                  <a:lnTo>
                    <a:pt x="2200" y="1932"/>
                  </a:lnTo>
                  <a:lnTo>
                    <a:pt x="2185" y="1927"/>
                  </a:lnTo>
                  <a:lnTo>
                    <a:pt x="2169" y="1922"/>
                  </a:lnTo>
                  <a:lnTo>
                    <a:pt x="2152" y="1917"/>
                  </a:lnTo>
                  <a:lnTo>
                    <a:pt x="2137" y="1911"/>
                  </a:lnTo>
                  <a:lnTo>
                    <a:pt x="2121" y="1905"/>
                  </a:lnTo>
                  <a:lnTo>
                    <a:pt x="2104" y="1898"/>
                  </a:lnTo>
                  <a:lnTo>
                    <a:pt x="2089" y="1891"/>
                  </a:lnTo>
                  <a:lnTo>
                    <a:pt x="2073" y="1884"/>
                  </a:lnTo>
                  <a:lnTo>
                    <a:pt x="2058" y="1876"/>
                  </a:lnTo>
                  <a:lnTo>
                    <a:pt x="2042" y="1869"/>
                  </a:lnTo>
                  <a:lnTo>
                    <a:pt x="2023" y="1862"/>
                  </a:lnTo>
                  <a:lnTo>
                    <a:pt x="2002" y="1854"/>
                  </a:lnTo>
                  <a:lnTo>
                    <a:pt x="1983" y="1846"/>
                  </a:lnTo>
                  <a:lnTo>
                    <a:pt x="1964" y="1839"/>
                  </a:lnTo>
                  <a:lnTo>
                    <a:pt x="1945" y="1831"/>
                  </a:lnTo>
                  <a:lnTo>
                    <a:pt x="1926" y="1821"/>
                  </a:lnTo>
                  <a:lnTo>
                    <a:pt x="1908" y="1812"/>
                  </a:lnTo>
                  <a:lnTo>
                    <a:pt x="1891" y="1800"/>
                  </a:lnTo>
                  <a:lnTo>
                    <a:pt x="1878" y="1790"/>
                  </a:lnTo>
                  <a:lnTo>
                    <a:pt x="1866" y="1779"/>
                  </a:lnTo>
                  <a:lnTo>
                    <a:pt x="1855" y="1769"/>
                  </a:lnTo>
                  <a:lnTo>
                    <a:pt x="1844" y="1755"/>
                  </a:lnTo>
                  <a:lnTo>
                    <a:pt x="1834" y="1743"/>
                  </a:lnTo>
                  <a:lnTo>
                    <a:pt x="1825" y="1729"/>
                  </a:lnTo>
                  <a:lnTo>
                    <a:pt x="1816" y="1716"/>
                  </a:lnTo>
                  <a:lnTo>
                    <a:pt x="1809" y="1701"/>
                  </a:lnTo>
                  <a:lnTo>
                    <a:pt x="1806" y="1692"/>
                  </a:lnTo>
                  <a:lnTo>
                    <a:pt x="1803" y="1681"/>
                  </a:lnTo>
                  <a:lnTo>
                    <a:pt x="1802" y="1670"/>
                  </a:lnTo>
                  <a:lnTo>
                    <a:pt x="1802" y="1658"/>
                  </a:lnTo>
                  <a:lnTo>
                    <a:pt x="1802" y="1647"/>
                  </a:lnTo>
                  <a:lnTo>
                    <a:pt x="1801" y="1637"/>
                  </a:lnTo>
                  <a:lnTo>
                    <a:pt x="1800" y="1625"/>
                  </a:lnTo>
                  <a:lnTo>
                    <a:pt x="1797" y="1614"/>
                  </a:lnTo>
                  <a:lnTo>
                    <a:pt x="1794" y="1604"/>
                  </a:lnTo>
                  <a:lnTo>
                    <a:pt x="1790" y="1595"/>
                  </a:lnTo>
                  <a:lnTo>
                    <a:pt x="1786" y="1585"/>
                  </a:lnTo>
                  <a:lnTo>
                    <a:pt x="1782" y="1577"/>
                  </a:lnTo>
                  <a:lnTo>
                    <a:pt x="1777" y="1567"/>
                  </a:lnTo>
                  <a:lnTo>
                    <a:pt x="1771" y="1559"/>
                  </a:lnTo>
                  <a:lnTo>
                    <a:pt x="1764" y="1551"/>
                  </a:lnTo>
                  <a:lnTo>
                    <a:pt x="1756" y="1544"/>
                  </a:lnTo>
                  <a:lnTo>
                    <a:pt x="1752" y="1542"/>
                  </a:lnTo>
                  <a:lnTo>
                    <a:pt x="1746" y="1539"/>
                  </a:lnTo>
                  <a:lnTo>
                    <a:pt x="1740" y="1537"/>
                  </a:lnTo>
                  <a:lnTo>
                    <a:pt x="1732" y="1537"/>
                  </a:lnTo>
                  <a:lnTo>
                    <a:pt x="1726" y="1537"/>
                  </a:lnTo>
                  <a:lnTo>
                    <a:pt x="1720" y="1538"/>
                  </a:lnTo>
                  <a:lnTo>
                    <a:pt x="1714" y="1541"/>
                  </a:lnTo>
                  <a:lnTo>
                    <a:pt x="1710" y="1544"/>
                  </a:lnTo>
                  <a:lnTo>
                    <a:pt x="1705" y="1551"/>
                  </a:lnTo>
                  <a:lnTo>
                    <a:pt x="1700" y="1560"/>
                  </a:lnTo>
                  <a:lnTo>
                    <a:pt x="1696" y="1568"/>
                  </a:lnTo>
                  <a:lnTo>
                    <a:pt x="1693" y="1577"/>
                  </a:lnTo>
                  <a:lnTo>
                    <a:pt x="1690" y="1586"/>
                  </a:lnTo>
                  <a:lnTo>
                    <a:pt x="1689" y="1596"/>
                  </a:lnTo>
                  <a:lnTo>
                    <a:pt x="1688" y="1605"/>
                  </a:lnTo>
                  <a:lnTo>
                    <a:pt x="1687" y="1614"/>
                  </a:lnTo>
                  <a:lnTo>
                    <a:pt x="1686" y="1634"/>
                  </a:lnTo>
                  <a:lnTo>
                    <a:pt x="1684" y="1653"/>
                  </a:lnTo>
                  <a:lnTo>
                    <a:pt x="1684" y="1673"/>
                  </a:lnTo>
                  <a:lnTo>
                    <a:pt x="1684" y="1693"/>
                  </a:lnTo>
                  <a:lnTo>
                    <a:pt x="1684" y="1712"/>
                  </a:lnTo>
                  <a:lnTo>
                    <a:pt x="1686" y="1731"/>
                  </a:lnTo>
                  <a:lnTo>
                    <a:pt x="1687" y="1752"/>
                  </a:lnTo>
                  <a:lnTo>
                    <a:pt x="1687" y="1771"/>
                  </a:lnTo>
                  <a:lnTo>
                    <a:pt x="1688" y="1787"/>
                  </a:lnTo>
                  <a:lnTo>
                    <a:pt x="1689" y="1802"/>
                  </a:lnTo>
                  <a:lnTo>
                    <a:pt x="1690" y="1817"/>
                  </a:lnTo>
                  <a:lnTo>
                    <a:pt x="1693" y="1832"/>
                  </a:lnTo>
                  <a:lnTo>
                    <a:pt x="1694" y="1848"/>
                  </a:lnTo>
                  <a:lnTo>
                    <a:pt x="1694" y="1863"/>
                  </a:lnTo>
                  <a:lnTo>
                    <a:pt x="1694" y="1878"/>
                  </a:lnTo>
                  <a:lnTo>
                    <a:pt x="1693" y="1893"/>
                  </a:lnTo>
                  <a:lnTo>
                    <a:pt x="1690" y="1904"/>
                  </a:lnTo>
                  <a:lnTo>
                    <a:pt x="1687" y="1916"/>
                  </a:lnTo>
                  <a:lnTo>
                    <a:pt x="1683" y="1927"/>
                  </a:lnTo>
                  <a:lnTo>
                    <a:pt x="1678" y="1938"/>
                  </a:lnTo>
                  <a:lnTo>
                    <a:pt x="1672" y="1948"/>
                  </a:lnTo>
                  <a:lnTo>
                    <a:pt x="1668" y="1959"/>
                  </a:lnTo>
                  <a:lnTo>
                    <a:pt x="1663" y="1969"/>
                  </a:lnTo>
                  <a:lnTo>
                    <a:pt x="1658" y="1980"/>
                  </a:lnTo>
                  <a:lnTo>
                    <a:pt x="1653" y="1993"/>
                  </a:lnTo>
                  <a:lnTo>
                    <a:pt x="1648" y="2007"/>
                  </a:lnTo>
                  <a:lnTo>
                    <a:pt x="1645" y="2020"/>
                  </a:lnTo>
                  <a:lnTo>
                    <a:pt x="1640" y="2034"/>
                  </a:lnTo>
                  <a:lnTo>
                    <a:pt x="1635" y="2047"/>
                  </a:lnTo>
                  <a:lnTo>
                    <a:pt x="1630" y="2060"/>
                  </a:lnTo>
                  <a:lnTo>
                    <a:pt x="1624" y="2073"/>
                  </a:lnTo>
                  <a:lnTo>
                    <a:pt x="1617" y="2085"/>
                  </a:lnTo>
                  <a:lnTo>
                    <a:pt x="1610" y="2095"/>
                  </a:lnTo>
                  <a:lnTo>
                    <a:pt x="1602" y="2103"/>
                  </a:lnTo>
                  <a:lnTo>
                    <a:pt x="1592" y="2113"/>
                  </a:lnTo>
                  <a:lnTo>
                    <a:pt x="1582" y="2120"/>
                  </a:lnTo>
                  <a:lnTo>
                    <a:pt x="1573" y="2128"/>
                  </a:lnTo>
                  <a:lnTo>
                    <a:pt x="1562" y="2136"/>
                  </a:lnTo>
                  <a:lnTo>
                    <a:pt x="1552" y="2142"/>
                  </a:lnTo>
                  <a:lnTo>
                    <a:pt x="1542" y="2149"/>
                  </a:lnTo>
                  <a:lnTo>
                    <a:pt x="1534" y="2152"/>
                  </a:lnTo>
                  <a:lnTo>
                    <a:pt x="1527" y="2157"/>
                  </a:lnTo>
                  <a:lnTo>
                    <a:pt x="1520" y="2162"/>
                  </a:lnTo>
                  <a:lnTo>
                    <a:pt x="1513" y="2166"/>
                  </a:lnTo>
                  <a:lnTo>
                    <a:pt x="1504" y="2168"/>
                  </a:lnTo>
                  <a:lnTo>
                    <a:pt x="1497" y="2169"/>
                  </a:lnTo>
                  <a:lnTo>
                    <a:pt x="1490" y="2169"/>
                  </a:lnTo>
                  <a:lnTo>
                    <a:pt x="1483" y="2166"/>
                  </a:lnTo>
                  <a:lnTo>
                    <a:pt x="1476" y="2160"/>
                  </a:lnTo>
                  <a:lnTo>
                    <a:pt x="1470" y="2151"/>
                  </a:lnTo>
                  <a:lnTo>
                    <a:pt x="1465" y="2143"/>
                  </a:lnTo>
                  <a:lnTo>
                    <a:pt x="1460" y="2133"/>
                  </a:lnTo>
                  <a:lnTo>
                    <a:pt x="1458" y="2122"/>
                  </a:lnTo>
                  <a:lnTo>
                    <a:pt x="1455" y="2112"/>
                  </a:lnTo>
                  <a:lnTo>
                    <a:pt x="1455" y="2101"/>
                  </a:lnTo>
                  <a:lnTo>
                    <a:pt x="1454" y="2090"/>
                  </a:lnTo>
                  <a:lnTo>
                    <a:pt x="1455" y="2076"/>
                  </a:lnTo>
                  <a:lnTo>
                    <a:pt x="1456" y="2061"/>
                  </a:lnTo>
                  <a:lnTo>
                    <a:pt x="1460" y="2046"/>
                  </a:lnTo>
                  <a:lnTo>
                    <a:pt x="1464" y="2031"/>
                  </a:lnTo>
                  <a:lnTo>
                    <a:pt x="1468" y="2017"/>
                  </a:lnTo>
                  <a:lnTo>
                    <a:pt x="1473" y="2002"/>
                  </a:lnTo>
                  <a:lnTo>
                    <a:pt x="1478" y="1988"/>
                  </a:lnTo>
                  <a:lnTo>
                    <a:pt x="1483" y="1975"/>
                  </a:lnTo>
                  <a:lnTo>
                    <a:pt x="1489" y="1963"/>
                  </a:lnTo>
                  <a:lnTo>
                    <a:pt x="1495" y="1951"/>
                  </a:lnTo>
                  <a:lnTo>
                    <a:pt x="1501" y="1940"/>
                  </a:lnTo>
                  <a:lnTo>
                    <a:pt x="1508" y="1928"/>
                  </a:lnTo>
                  <a:lnTo>
                    <a:pt x="1515" y="1917"/>
                  </a:lnTo>
                  <a:lnTo>
                    <a:pt x="1521" y="1905"/>
                  </a:lnTo>
                  <a:lnTo>
                    <a:pt x="1526" y="1893"/>
                  </a:lnTo>
                  <a:lnTo>
                    <a:pt x="1530" y="1881"/>
                  </a:lnTo>
                  <a:lnTo>
                    <a:pt x="1534" y="1861"/>
                  </a:lnTo>
                  <a:lnTo>
                    <a:pt x="1539" y="1840"/>
                  </a:lnTo>
                  <a:lnTo>
                    <a:pt x="1542" y="1819"/>
                  </a:lnTo>
                  <a:lnTo>
                    <a:pt x="1544" y="1797"/>
                  </a:lnTo>
                  <a:lnTo>
                    <a:pt x="1546" y="1777"/>
                  </a:lnTo>
                  <a:lnTo>
                    <a:pt x="1548" y="1755"/>
                  </a:lnTo>
                  <a:lnTo>
                    <a:pt x="1548" y="1734"/>
                  </a:lnTo>
                  <a:lnTo>
                    <a:pt x="1548" y="1713"/>
                  </a:lnTo>
                  <a:lnTo>
                    <a:pt x="1546" y="1699"/>
                  </a:lnTo>
                  <a:lnTo>
                    <a:pt x="1545" y="1686"/>
                  </a:lnTo>
                  <a:lnTo>
                    <a:pt x="1542" y="1673"/>
                  </a:lnTo>
                  <a:lnTo>
                    <a:pt x="1539" y="1659"/>
                  </a:lnTo>
                  <a:lnTo>
                    <a:pt x="1534" y="1646"/>
                  </a:lnTo>
                  <a:lnTo>
                    <a:pt x="1530" y="1633"/>
                  </a:lnTo>
                  <a:lnTo>
                    <a:pt x="1525" y="1621"/>
                  </a:lnTo>
                  <a:lnTo>
                    <a:pt x="1519" y="1609"/>
                  </a:lnTo>
                  <a:lnTo>
                    <a:pt x="1514" y="1602"/>
                  </a:lnTo>
                  <a:lnTo>
                    <a:pt x="1509" y="1595"/>
                  </a:lnTo>
                  <a:lnTo>
                    <a:pt x="1503" y="1587"/>
                  </a:lnTo>
                  <a:lnTo>
                    <a:pt x="1496" y="1581"/>
                  </a:lnTo>
                  <a:lnTo>
                    <a:pt x="1489" y="1577"/>
                  </a:lnTo>
                  <a:lnTo>
                    <a:pt x="1482" y="1573"/>
                  </a:lnTo>
                  <a:lnTo>
                    <a:pt x="1474" y="1569"/>
                  </a:lnTo>
                  <a:lnTo>
                    <a:pt x="1466" y="1568"/>
                  </a:lnTo>
                  <a:lnTo>
                    <a:pt x="1456" y="1568"/>
                  </a:lnTo>
                  <a:lnTo>
                    <a:pt x="1447" y="1568"/>
                  </a:lnTo>
                  <a:lnTo>
                    <a:pt x="1437" y="1571"/>
                  </a:lnTo>
                  <a:lnTo>
                    <a:pt x="1428" y="1574"/>
                  </a:lnTo>
                  <a:lnTo>
                    <a:pt x="1419" y="1579"/>
                  </a:lnTo>
                  <a:lnTo>
                    <a:pt x="1411" y="1584"/>
                  </a:lnTo>
                  <a:lnTo>
                    <a:pt x="1404" y="1590"/>
                  </a:lnTo>
                  <a:lnTo>
                    <a:pt x="1396" y="1597"/>
                  </a:lnTo>
                  <a:lnTo>
                    <a:pt x="1387" y="1608"/>
                  </a:lnTo>
                  <a:lnTo>
                    <a:pt x="1380" y="1621"/>
                  </a:lnTo>
                  <a:lnTo>
                    <a:pt x="1372" y="1633"/>
                  </a:lnTo>
                  <a:lnTo>
                    <a:pt x="1366" y="1647"/>
                  </a:lnTo>
                  <a:lnTo>
                    <a:pt x="1362" y="1661"/>
                  </a:lnTo>
                  <a:lnTo>
                    <a:pt x="1356" y="1675"/>
                  </a:lnTo>
                  <a:lnTo>
                    <a:pt x="1350" y="1688"/>
                  </a:lnTo>
                  <a:lnTo>
                    <a:pt x="1344" y="1701"/>
                  </a:lnTo>
                  <a:lnTo>
                    <a:pt x="1333" y="1723"/>
                  </a:lnTo>
                  <a:lnTo>
                    <a:pt x="1323" y="1745"/>
                  </a:lnTo>
                  <a:lnTo>
                    <a:pt x="1312" y="1765"/>
                  </a:lnTo>
                  <a:lnTo>
                    <a:pt x="1302" y="1787"/>
                  </a:lnTo>
                  <a:lnTo>
                    <a:pt x="1291" y="1808"/>
                  </a:lnTo>
                  <a:lnTo>
                    <a:pt x="1280" y="1829"/>
                  </a:lnTo>
                  <a:lnTo>
                    <a:pt x="1269" y="1850"/>
                  </a:lnTo>
                  <a:lnTo>
                    <a:pt x="1257" y="1869"/>
                  </a:lnTo>
                  <a:lnTo>
                    <a:pt x="1245" y="1888"/>
                  </a:lnTo>
                  <a:lnTo>
                    <a:pt x="1233" y="1906"/>
                  </a:lnTo>
                  <a:lnTo>
                    <a:pt x="1221" y="1924"/>
                  </a:lnTo>
                  <a:lnTo>
                    <a:pt x="1208" y="1942"/>
                  </a:lnTo>
                  <a:lnTo>
                    <a:pt x="1196" y="1960"/>
                  </a:lnTo>
                  <a:lnTo>
                    <a:pt x="1182" y="1977"/>
                  </a:lnTo>
                  <a:lnTo>
                    <a:pt x="1167" y="1994"/>
                  </a:lnTo>
                  <a:lnTo>
                    <a:pt x="1152" y="2010"/>
                  </a:lnTo>
                  <a:lnTo>
                    <a:pt x="1136" y="2024"/>
                  </a:lnTo>
                  <a:lnTo>
                    <a:pt x="1119" y="2038"/>
                  </a:lnTo>
                  <a:lnTo>
                    <a:pt x="1101" y="2052"/>
                  </a:lnTo>
                  <a:lnTo>
                    <a:pt x="1083" y="2064"/>
                  </a:lnTo>
                  <a:lnTo>
                    <a:pt x="1064" y="2076"/>
                  </a:lnTo>
                  <a:lnTo>
                    <a:pt x="1046" y="2088"/>
                  </a:lnTo>
                  <a:lnTo>
                    <a:pt x="1027" y="2098"/>
                  </a:lnTo>
                  <a:lnTo>
                    <a:pt x="1006" y="2108"/>
                  </a:lnTo>
                  <a:lnTo>
                    <a:pt x="992" y="2115"/>
                  </a:lnTo>
                  <a:lnTo>
                    <a:pt x="976" y="2121"/>
                  </a:lnTo>
                  <a:lnTo>
                    <a:pt x="961" y="2126"/>
                  </a:lnTo>
                  <a:lnTo>
                    <a:pt x="944" y="2131"/>
                  </a:lnTo>
                  <a:lnTo>
                    <a:pt x="928" y="2134"/>
                  </a:lnTo>
                  <a:lnTo>
                    <a:pt x="912" y="2138"/>
                  </a:lnTo>
                  <a:lnTo>
                    <a:pt x="895" y="2140"/>
                  </a:lnTo>
                  <a:lnTo>
                    <a:pt x="879" y="2143"/>
                  </a:lnTo>
                  <a:lnTo>
                    <a:pt x="872" y="2144"/>
                  </a:lnTo>
                  <a:lnTo>
                    <a:pt x="866" y="2144"/>
                  </a:lnTo>
                  <a:lnTo>
                    <a:pt x="860" y="2144"/>
                  </a:lnTo>
                  <a:lnTo>
                    <a:pt x="853" y="2143"/>
                  </a:lnTo>
                  <a:lnTo>
                    <a:pt x="847" y="2142"/>
                  </a:lnTo>
                  <a:lnTo>
                    <a:pt x="841" y="2139"/>
                  </a:lnTo>
                  <a:lnTo>
                    <a:pt x="836" y="2136"/>
                  </a:lnTo>
                  <a:lnTo>
                    <a:pt x="832" y="2131"/>
                  </a:lnTo>
                  <a:lnTo>
                    <a:pt x="830" y="2126"/>
                  </a:lnTo>
                  <a:lnTo>
                    <a:pt x="828" y="2120"/>
                  </a:lnTo>
                  <a:lnTo>
                    <a:pt x="828" y="2114"/>
                  </a:lnTo>
                  <a:lnTo>
                    <a:pt x="828" y="2108"/>
                  </a:lnTo>
                  <a:lnTo>
                    <a:pt x="829" y="2101"/>
                  </a:lnTo>
                  <a:lnTo>
                    <a:pt x="831" y="2095"/>
                  </a:lnTo>
                  <a:lnTo>
                    <a:pt x="835" y="2090"/>
                  </a:lnTo>
                  <a:lnTo>
                    <a:pt x="838" y="2085"/>
                  </a:lnTo>
                  <a:lnTo>
                    <a:pt x="850" y="2072"/>
                  </a:lnTo>
                  <a:lnTo>
                    <a:pt x="864" y="2059"/>
                  </a:lnTo>
                  <a:lnTo>
                    <a:pt x="877" y="2048"/>
                  </a:lnTo>
                  <a:lnTo>
                    <a:pt x="891" y="2036"/>
                  </a:lnTo>
                  <a:lnTo>
                    <a:pt x="906" y="2025"/>
                  </a:lnTo>
                  <a:lnTo>
                    <a:pt x="920" y="2014"/>
                  </a:lnTo>
                  <a:lnTo>
                    <a:pt x="934" y="2004"/>
                  </a:lnTo>
                  <a:lnTo>
                    <a:pt x="949" y="1992"/>
                  </a:lnTo>
                  <a:lnTo>
                    <a:pt x="964" y="1978"/>
                  </a:lnTo>
                  <a:lnTo>
                    <a:pt x="981" y="1964"/>
                  </a:lnTo>
                  <a:lnTo>
                    <a:pt x="997" y="1951"/>
                  </a:lnTo>
                  <a:lnTo>
                    <a:pt x="1014" y="1936"/>
                  </a:lnTo>
                  <a:lnTo>
                    <a:pt x="1029" y="1923"/>
                  </a:lnTo>
                  <a:lnTo>
                    <a:pt x="1044" y="1908"/>
                  </a:lnTo>
                  <a:lnTo>
                    <a:pt x="1058" y="1892"/>
                  </a:lnTo>
                  <a:lnTo>
                    <a:pt x="1070" y="1875"/>
                  </a:lnTo>
                  <a:lnTo>
                    <a:pt x="1082" y="1857"/>
                  </a:lnTo>
                  <a:lnTo>
                    <a:pt x="1094" y="1839"/>
                  </a:lnTo>
                  <a:lnTo>
                    <a:pt x="1105" y="1820"/>
                  </a:lnTo>
                  <a:lnTo>
                    <a:pt x="1114" y="1801"/>
                  </a:lnTo>
                  <a:lnTo>
                    <a:pt x="1123" y="1781"/>
                  </a:lnTo>
                  <a:lnTo>
                    <a:pt x="1130" y="1760"/>
                  </a:lnTo>
                  <a:lnTo>
                    <a:pt x="1136" y="1740"/>
                  </a:lnTo>
                  <a:lnTo>
                    <a:pt x="1141" y="1719"/>
                  </a:lnTo>
                  <a:lnTo>
                    <a:pt x="1141" y="1710"/>
                  </a:lnTo>
                  <a:lnTo>
                    <a:pt x="1141" y="1700"/>
                  </a:lnTo>
                  <a:lnTo>
                    <a:pt x="1138" y="1689"/>
                  </a:lnTo>
                  <a:lnTo>
                    <a:pt x="1135" y="1680"/>
                  </a:lnTo>
                  <a:lnTo>
                    <a:pt x="1131" y="1671"/>
                  </a:lnTo>
                  <a:lnTo>
                    <a:pt x="1125" y="1663"/>
                  </a:lnTo>
                  <a:lnTo>
                    <a:pt x="1118" y="1656"/>
                  </a:lnTo>
                  <a:lnTo>
                    <a:pt x="1111" y="1650"/>
                  </a:lnTo>
                  <a:lnTo>
                    <a:pt x="1106" y="1646"/>
                  </a:lnTo>
                  <a:lnTo>
                    <a:pt x="1099" y="1645"/>
                  </a:lnTo>
                  <a:lnTo>
                    <a:pt x="1092" y="1645"/>
                  </a:lnTo>
                  <a:lnTo>
                    <a:pt x="1086" y="1647"/>
                  </a:lnTo>
                  <a:lnTo>
                    <a:pt x="1078" y="1650"/>
                  </a:lnTo>
                  <a:lnTo>
                    <a:pt x="1071" y="1653"/>
                  </a:lnTo>
                  <a:lnTo>
                    <a:pt x="1065" y="1657"/>
                  </a:lnTo>
                  <a:lnTo>
                    <a:pt x="1059" y="1661"/>
                  </a:lnTo>
                  <a:lnTo>
                    <a:pt x="1053" y="1667"/>
                  </a:lnTo>
                  <a:lnTo>
                    <a:pt x="1048" y="1673"/>
                  </a:lnTo>
                  <a:lnTo>
                    <a:pt x="1045" y="1680"/>
                  </a:lnTo>
                  <a:lnTo>
                    <a:pt x="1041" y="1687"/>
                  </a:lnTo>
                  <a:lnTo>
                    <a:pt x="1038" y="1694"/>
                  </a:lnTo>
                  <a:lnTo>
                    <a:pt x="1034" y="1701"/>
                  </a:lnTo>
                  <a:lnTo>
                    <a:pt x="1029" y="1707"/>
                  </a:lnTo>
                  <a:lnTo>
                    <a:pt x="1024" y="1713"/>
                  </a:lnTo>
                  <a:lnTo>
                    <a:pt x="1012" y="1721"/>
                  </a:lnTo>
                  <a:lnTo>
                    <a:pt x="1002" y="1728"/>
                  </a:lnTo>
                  <a:lnTo>
                    <a:pt x="990" y="1734"/>
                  </a:lnTo>
                  <a:lnTo>
                    <a:pt x="976" y="1740"/>
                  </a:lnTo>
                  <a:lnTo>
                    <a:pt x="964" y="1746"/>
                  </a:lnTo>
                  <a:lnTo>
                    <a:pt x="951" y="1749"/>
                  </a:lnTo>
                  <a:lnTo>
                    <a:pt x="938" y="1752"/>
                  </a:lnTo>
                  <a:lnTo>
                    <a:pt x="925" y="1754"/>
                  </a:lnTo>
                  <a:lnTo>
                    <a:pt x="915" y="1754"/>
                  </a:lnTo>
                  <a:lnTo>
                    <a:pt x="904" y="1753"/>
                  </a:lnTo>
                  <a:lnTo>
                    <a:pt x="895" y="1752"/>
                  </a:lnTo>
                  <a:lnTo>
                    <a:pt x="884" y="1748"/>
                  </a:lnTo>
                  <a:lnTo>
                    <a:pt x="874" y="1745"/>
                  </a:lnTo>
                  <a:lnTo>
                    <a:pt x="867" y="1740"/>
                  </a:lnTo>
                  <a:lnTo>
                    <a:pt x="864" y="1736"/>
                  </a:lnTo>
                  <a:lnTo>
                    <a:pt x="860" y="1733"/>
                  </a:lnTo>
                  <a:lnTo>
                    <a:pt x="858" y="1729"/>
                  </a:lnTo>
                  <a:lnTo>
                    <a:pt x="855" y="1724"/>
                  </a:lnTo>
                  <a:lnTo>
                    <a:pt x="853" y="1717"/>
                  </a:lnTo>
                  <a:lnTo>
                    <a:pt x="852" y="1710"/>
                  </a:lnTo>
                  <a:lnTo>
                    <a:pt x="850" y="1703"/>
                  </a:lnTo>
                  <a:lnTo>
                    <a:pt x="850" y="1695"/>
                  </a:lnTo>
                  <a:lnTo>
                    <a:pt x="852" y="1680"/>
                  </a:lnTo>
                  <a:lnTo>
                    <a:pt x="854" y="1664"/>
                  </a:lnTo>
                  <a:lnTo>
                    <a:pt x="858" y="1649"/>
                  </a:lnTo>
                  <a:lnTo>
                    <a:pt x="861" y="1634"/>
                  </a:lnTo>
                  <a:lnTo>
                    <a:pt x="865" y="1619"/>
                  </a:lnTo>
                  <a:lnTo>
                    <a:pt x="867" y="1603"/>
                  </a:lnTo>
                  <a:lnTo>
                    <a:pt x="868" y="1592"/>
                  </a:lnTo>
                  <a:lnTo>
                    <a:pt x="871" y="1580"/>
                  </a:lnTo>
                  <a:lnTo>
                    <a:pt x="873" y="1569"/>
                  </a:lnTo>
                  <a:lnTo>
                    <a:pt x="876" y="1559"/>
                  </a:lnTo>
                  <a:lnTo>
                    <a:pt x="877" y="1548"/>
                  </a:lnTo>
                  <a:lnTo>
                    <a:pt x="877" y="1536"/>
                  </a:lnTo>
                  <a:lnTo>
                    <a:pt x="876" y="1526"/>
                  </a:lnTo>
                  <a:lnTo>
                    <a:pt x="873" y="1515"/>
                  </a:lnTo>
                  <a:lnTo>
                    <a:pt x="870" y="1511"/>
                  </a:lnTo>
                  <a:lnTo>
                    <a:pt x="864" y="1506"/>
                  </a:lnTo>
                  <a:lnTo>
                    <a:pt x="858" y="1502"/>
                  </a:lnTo>
                  <a:lnTo>
                    <a:pt x="850" y="1501"/>
                  </a:lnTo>
                  <a:lnTo>
                    <a:pt x="843" y="1500"/>
                  </a:lnTo>
                  <a:lnTo>
                    <a:pt x="836" y="1499"/>
                  </a:lnTo>
                  <a:lnTo>
                    <a:pt x="828" y="1499"/>
                  </a:lnTo>
                  <a:lnTo>
                    <a:pt x="820" y="1499"/>
                  </a:lnTo>
                  <a:lnTo>
                    <a:pt x="805" y="1499"/>
                  </a:lnTo>
                  <a:lnTo>
                    <a:pt x="788" y="1501"/>
                  </a:lnTo>
                  <a:lnTo>
                    <a:pt x="772" y="1505"/>
                  </a:lnTo>
                  <a:lnTo>
                    <a:pt x="757" y="1508"/>
                  </a:lnTo>
                  <a:lnTo>
                    <a:pt x="741" y="1512"/>
                  </a:lnTo>
                  <a:lnTo>
                    <a:pt x="724" y="1514"/>
                  </a:lnTo>
                  <a:lnTo>
                    <a:pt x="709" y="1515"/>
                  </a:lnTo>
                  <a:lnTo>
                    <a:pt x="693" y="1515"/>
                  </a:lnTo>
                  <a:lnTo>
                    <a:pt x="679" y="1514"/>
                  </a:lnTo>
                  <a:lnTo>
                    <a:pt x="666" y="1512"/>
                  </a:lnTo>
                  <a:lnTo>
                    <a:pt x="651" y="1508"/>
                  </a:lnTo>
                  <a:lnTo>
                    <a:pt x="638" y="1505"/>
                  </a:lnTo>
                  <a:lnTo>
                    <a:pt x="625" y="1500"/>
                  </a:lnTo>
                  <a:lnTo>
                    <a:pt x="612" y="1494"/>
                  </a:lnTo>
                  <a:lnTo>
                    <a:pt x="600" y="1488"/>
                  </a:lnTo>
                  <a:lnTo>
                    <a:pt x="588" y="1481"/>
                  </a:lnTo>
                  <a:lnTo>
                    <a:pt x="579" y="1473"/>
                  </a:lnTo>
                  <a:lnTo>
                    <a:pt x="573" y="1466"/>
                  </a:lnTo>
                  <a:lnTo>
                    <a:pt x="567" y="1457"/>
                  </a:lnTo>
                  <a:lnTo>
                    <a:pt x="561" y="1447"/>
                  </a:lnTo>
                  <a:lnTo>
                    <a:pt x="555" y="1437"/>
                  </a:lnTo>
                  <a:lnTo>
                    <a:pt x="549" y="1428"/>
                  </a:lnTo>
                  <a:lnTo>
                    <a:pt x="543" y="1418"/>
                  </a:lnTo>
                  <a:lnTo>
                    <a:pt x="536" y="1411"/>
                  </a:lnTo>
                  <a:lnTo>
                    <a:pt x="530" y="1406"/>
                  </a:lnTo>
                  <a:lnTo>
                    <a:pt x="523" y="1401"/>
                  </a:lnTo>
                  <a:lnTo>
                    <a:pt x="516" y="1398"/>
                  </a:lnTo>
                  <a:lnTo>
                    <a:pt x="508" y="1395"/>
                  </a:lnTo>
                  <a:lnTo>
                    <a:pt x="501" y="1392"/>
                  </a:lnTo>
                  <a:lnTo>
                    <a:pt x="493" y="1391"/>
                  </a:lnTo>
                  <a:lnTo>
                    <a:pt x="486" y="1388"/>
                  </a:lnTo>
                  <a:lnTo>
                    <a:pt x="477" y="1388"/>
                  </a:lnTo>
                  <a:lnTo>
                    <a:pt x="459" y="1387"/>
                  </a:lnTo>
                  <a:lnTo>
                    <a:pt x="440" y="1387"/>
                  </a:lnTo>
                  <a:lnTo>
                    <a:pt x="421" y="1387"/>
                  </a:lnTo>
                  <a:lnTo>
                    <a:pt x="402" y="1388"/>
                  </a:lnTo>
                  <a:lnTo>
                    <a:pt x="384" y="1389"/>
                  </a:lnTo>
                  <a:lnTo>
                    <a:pt x="364" y="1392"/>
                  </a:lnTo>
                  <a:lnTo>
                    <a:pt x="345" y="1393"/>
                  </a:lnTo>
                  <a:lnTo>
                    <a:pt x="326" y="1393"/>
                  </a:lnTo>
                  <a:lnTo>
                    <a:pt x="306" y="1394"/>
                  </a:lnTo>
                  <a:lnTo>
                    <a:pt x="284" y="1397"/>
                  </a:lnTo>
                  <a:lnTo>
                    <a:pt x="262" y="1399"/>
                  </a:lnTo>
                  <a:lnTo>
                    <a:pt x="242" y="1400"/>
                  </a:lnTo>
                  <a:lnTo>
                    <a:pt x="220" y="1401"/>
                  </a:lnTo>
                  <a:lnTo>
                    <a:pt x="200" y="1403"/>
                  </a:lnTo>
                  <a:lnTo>
                    <a:pt x="178" y="1401"/>
                  </a:lnTo>
                  <a:lnTo>
                    <a:pt x="158" y="1399"/>
                  </a:lnTo>
                  <a:lnTo>
                    <a:pt x="147" y="1397"/>
                  </a:lnTo>
                  <a:lnTo>
                    <a:pt x="138" y="1394"/>
                  </a:lnTo>
                  <a:lnTo>
                    <a:pt x="128" y="1389"/>
                  </a:lnTo>
                  <a:lnTo>
                    <a:pt x="118" y="1383"/>
                  </a:lnTo>
                  <a:lnTo>
                    <a:pt x="109" y="1379"/>
                  </a:lnTo>
                  <a:lnTo>
                    <a:pt x="99" y="1371"/>
                  </a:lnTo>
                  <a:lnTo>
                    <a:pt x="91" y="1365"/>
                  </a:lnTo>
                  <a:lnTo>
                    <a:pt x="82" y="1358"/>
                  </a:lnTo>
                  <a:lnTo>
                    <a:pt x="74" y="1352"/>
                  </a:lnTo>
                  <a:lnTo>
                    <a:pt x="66" y="1346"/>
                  </a:lnTo>
                  <a:lnTo>
                    <a:pt x="57" y="1340"/>
                  </a:lnTo>
                  <a:lnTo>
                    <a:pt x="49" y="1333"/>
                  </a:lnTo>
                  <a:lnTo>
                    <a:pt x="42" y="1326"/>
                  </a:lnTo>
                  <a:lnTo>
                    <a:pt x="34" y="1319"/>
                  </a:lnTo>
                  <a:lnTo>
                    <a:pt x="28" y="1310"/>
                  </a:lnTo>
                  <a:lnTo>
                    <a:pt x="24" y="1301"/>
                  </a:lnTo>
                  <a:lnTo>
                    <a:pt x="22" y="1295"/>
                  </a:lnTo>
                  <a:lnTo>
                    <a:pt x="21" y="1286"/>
                  </a:lnTo>
                  <a:lnTo>
                    <a:pt x="20" y="1279"/>
                  </a:lnTo>
                  <a:lnTo>
                    <a:pt x="21" y="1272"/>
                  </a:lnTo>
                  <a:lnTo>
                    <a:pt x="24" y="1265"/>
                  </a:lnTo>
                  <a:lnTo>
                    <a:pt x="26" y="1257"/>
                  </a:lnTo>
                  <a:lnTo>
                    <a:pt x="31" y="1253"/>
                  </a:lnTo>
                  <a:lnTo>
                    <a:pt x="36" y="1248"/>
                  </a:lnTo>
                  <a:lnTo>
                    <a:pt x="49" y="1242"/>
                  </a:lnTo>
                  <a:lnTo>
                    <a:pt x="63" y="1238"/>
                  </a:lnTo>
                  <a:lnTo>
                    <a:pt x="78" y="1235"/>
                  </a:lnTo>
                  <a:lnTo>
                    <a:pt x="92" y="1233"/>
                  </a:lnTo>
                  <a:lnTo>
                    <a:pt x="106" y="1232"/>
                  </a:lnTo>
                  <a:lnTo>
                    <a:pt x="122" y="1232"/>
                  </a:lnTo>
                  <a:lnTo>
                    <a:pt x="138" y="1231"/>
                  </a:lnTo>
                  <a:lnTo>
                    <a:pt x="152" y="1231"/>
                  </a:lnTo>
                  <a:lnTo>
                    <a:pt x="176" y="1231"/>
                  </a:lnTo>
                  <a:lnTo>
                    <a:pt x="201" y="1231"/>
                  </a:lnTo>
                  <a:lnTo>
                    <a:pt x="226" y="1233"/>
                  </a:lnTo>
                  <a:lnTo>
                    <a:pt x="250" y="1235"/>
                  </a:lnTo>
                  <a:lnTo>
                    <a:pt x="276" y="1236"/>
                  </a:lnTo>
                  <a:lnTo>
                    <a:pt x="301" y="1237"/>
                  </a:lnTo>
                  <a:lnTo>
                    <a:pt x="325" y="1238"/>
                  </a:lnTo>
                  <a:lnTo>
                    <a:pt x="350" y="1237"/>
                  </a:lnTo>
                  <a:lnTo>
                    <a:pt x="364" y="1235"/>
                  </a:lnTo>
                  <a:lnTo>
                    <a:pt x="379" y="1232"/>
                  </a:lnTo>
                  <a:lnTo>
                    <a:pt x="393" y="1229"/>
                  </a:lnTo>
                  <a:lnTo>
                    <a:pt x="408" y="1225"/>
                  </a:lnTo>
                  <a:lnTo>
                    <a:pt x="422" y="1220"/>
                  </a:lnTo>
                  <a:lnTo>
                    <a:pt x="436" y="1215"/>
                  </a:lnTo>
                  <a:lnTo>
                    <a:pt x="451" y="1212"/>
                  </a:lnTo>
                  <a:lnTo>
                    <a:pt x="466" y="1208"/>
                  </a:lnTo>
                  <a:lnTo>
                    <a:pt x="475" y="1205"/>
                  </a:lnTo>
                  <a:lnTo>
                    <a:pt x="484" y="1202"/>
                  </a:lnTo>
                  <a:lnTo>
                    <a:pt x="494" y="1199"/>
                  </a:lnTo>
                  <a:lnTo>
                    <a:pt x="504" y="1195"/>
                  </a:lnTo>
                  <a:lnTo>
                    <a:pt x="513" y="1193"/>
                  </a:lnTo>
                  <a:lnTo>
                    <a:pt x="523" y="1190"/>
                  </a:lnTo>
                  <a:lnTo>
                    <a:pt x="532" y="1189"/>
                  </a:lnTo>
                  <a:lnTo>
                    <a:pt x="542" y="1190"/>
                  </a:lnTo>
                  <a:lnTo>
                    <a:pt x="560" y="1195"/>
                  </a:lnTo>
                  <a:lnTo>
                    <a:pt x="578" y="1200"/>
                  </a:lnTo>
                  <a:lnTo>
                    <a:pt x="596" y="1207"/>
                  </a:lnTo>
                  <a:lnTo>
                    <a:pt x="613" y="1214"/>
                  </a:lnTo>
                  <a:lnTo>
                    <a:pt x="630" y="1223"/>
                  </a:lnTo>
                  <a:lnTo>
                    <a:pt x="648" y="1231"/>
                  </a:lnTo>
                  <a:lnTo>
                    <a:pt x="664" y="1239"/>
                  </a:lnTo>
                  <a:lnTo>
                    <a:pt x="681" y="1248"/>
                  </a:lnTo>
                  <a:lnTo>
                    <a:pt x="696" y="1256"/>
                  </a:lnTo>
                  <a:lnTo>
                    <a:pt x="709" y="1265"/>
                  </a:lnTo>
                  <a:lnTo>
                    <a:pt x="722" y="1273"/>
                  </a:lnTo>
                  <a:lnTo>
                    <a:pt x="735" y="1281"/>
                  </a:lnTo>
                  <a:lnTo>
                    <a:pt x="750" y="1291"/>
                  </a:lnTo>
                  <a:lnTo>
                    <a:pt x="763" y="1299"/>
                  </a:lnTo>
                  <a:lnTo>
                    <a:pt x="777" y="1307"/>
                  </a:lnTo>
                  <a:lnTo>
                    <a:pt x="792" y="1313"/>
                  </a:lnTo>
                  <a:lnTo>
                    <a:pt x="804" y="1316"/>
                  </a:lnTo>
                  <a:lnTo>
                    <a:pt x="816" y="1321"/>
                  </a:lnTo>
                  <a:lnTo>
                    <a:pt x="829" y="1325"/>
                  </a:lnTo>
                  <a:lnTo>
                    <a:pt x="842" y="1328"/>
                  </a:lnTo>
                  <a:lnTo>
                    <a:pt x="854" y="1329"/>
                  </a:lnTo>
                  <a:lnTo>
                    <a:pt x="867" y="1329"/>
                  </a:lnTo>
                  <a:lnTo>
                    <a:pt x="873" y="1329"/>
                  </a:lnTo>
                  <a:lnTo>
                    <a:pt x="879" y="1328"/>
                  </a:lnTo>
                  <a:lnTo>
                    <a:pt x="885" y="1326"/>
                  </a:lnTo>
                  <a:lnTo>
                    <a:pt x="890" y="1323"/>
                  </a:lnTo>
                  <a:lnTo>
                    <a:pt x="895" y="1321"/>
                  </a:lnTo>
                  <a:lnTo>
                    <a:pt x="898" y="1319"/>
                  </a:lnTo>
                  <a:lnTo>
                    <a:pt x="902" y="1315"/>
                  </a:lnTo>
                  <a:lnTo>
                    <a:pt x="906" y="1310"/>
                  </a:lnTo>
                  <a:lnTo>
                    <a:pt x="910" y="1302"/>
                  </a:lnTo>
                  <a:lnTo>
                    <a:pt x="914" y="1292"/>
                  </a:lnTo>
                  <a:lnTo>
                    <a:pt x="916" y="1281"/>
                  </a:lnTo>
                  <a:lnTo>
                    <a:pt x="919" y="1269"/>
                  </a:lnTo>
                  <a:lnTo>
                    <a:pt x="920" y="1259"/>
                  </a:lnTo>
                  <a:lnTo>
                    <a:pt x="919" y="1248"/>
                  </a:lnTo>
                  <a:lnTo>
                    <a:pt x="919" y="1237"/>
                  </a:lnTo>
                  <a:lnTo>
                    <a:pt x="916" y="1226"/>
                  </a:lnTo>
                  <a:lnTo>
                    <a:pt x="913" y="1217"/>
                  </a:lnTo>
                  <a:lnTo>
                    <a:pt x="908" y="1206"/>
                  </a:lnTo>
                  <a:lnTo>
                    <a:pt x="902" y="1196"/>
                  </a:lnTo>
                  <a:lnTo>
                    <a:pt x="897" y="1185"/>
                  </a:lnTo>
                  <a:lnTo>
                    <a:pt x="891" y="1176"/>
                  </a:lnTo>
                  <a:lnTo>
                    <a:pt x="884" y="1167"/>
                  </a:lnTo>
                  <a:lnTo>
                    <a:pt x="873" y="1151"/>
                  </a:lnTo>
                  <a:lnTo>
                    <a:pt x="861" y="1134"/>
                  </a:lnTo>
                  <a:lnTo>
                    <a:pt x="849" y="1118"/>
                  </a:lnTo>
                  <a:lnTo>
                    <a:pt x="836" y="1103"/>
                  </a:lnTo>
                  <a:lnTo>
                    <a:pt x="823" y="1087"/>
                  </a:lnTo>
                  <a:lnTo>
                    <a:pt x="810" y="1073"/>
                  </a:lnTo>
                  <a:lnTo>
                    <a:pt x="795" y="1058"/>
                  </a:lnTo>
                  <a:lnTo>
                    <a:pt x="780" y="1045"/>
                  </a:lnTo>
                  <a:lnTo>
                    <a:pt x="762" y="1030"/>
                  </a:lnTo>
                  <a:lnTo>
                    <a:pt x="744" y="1015"/>
                  </a:lnTo>
                  <a:lnTo>
                    <a:pt x="724" y="1002"/>
                  </a:lnTo>
                  <a:lnTo>
                    <a:pt x="704" y="989"/>
                  </a:lnTo>
                  <a:lnTo>
                    <a:pt x="685" y="976"/>
                  </a:lnTo>
                  <a:lnTo>
                    <a:pt x="664" y="964"/>
                  </a:lnTo>
                  <a:lnTo>
                    <a:pt x="644" y="952"/>
                  </a:lnTo>
                  <a:lnTo>
                    <a:pt x="622" y="941"/>
                  </a:lnTo>
                  <a:lnTo>
                    <a:pt x="608" y="934"/>
                  </a:lnTo>
                  <a:lnTo>
                    <a:pt x="592" y="928"/>
                  </a:lnTo>
                  <a:lnTo>
                    <a:pt x="577" y="922"/>
                  </a:lnTo>
                  <a:lnTo>
                    <a:pt x="560" y="917"/>
                  </a:lnTo>
                  <a:lnTo>
                    <a:pt x="544" y="912"/>
                  </a:lnTo>
                  <a:lnTo>
                    <a:pt x="528" y="908"/>
                  </a:lnTo>
                  <a:lnTo>
                    <a:pt x="511" y="904"/>
                  </a:lnTo>
                  <a:lnTo>
                    <a:pt x="495" y="900"/>
                  </a:lnTo>
                  <a:lnTo>
                    <a:pt x="481" y="896"/>
                  </a:lnTo>
                  <a:lnTo>
                    <a:pt x="466" y="894"/>
                  </a:lnTo>
                  <a:lnTo>
                    <a:pt x="452" y="890"/>
                  </a:lnTo>
                  <a:lnTo>
                    <a:pt x="438" y="888"/>
                  </a:lnTo>
                  <a:lnTo>
                    <a:pt x="423" y="886"/>
                  </a:lnTo>
                  <a:lnTo>
                    <a:pt x="408" y="884"/>
                  </a:lnTo>
                  <a:lnTo>
                    <a:pt x="393" y="883"/>
                  </a:lnTo>
                  <a:lnTo>
                    <a:pt x="379" y="882"/>
                  </a:lnTo>
                  <a:lnTo>
                    <a:pt x="369" y="883"/>
                  </a:lnTo>
                  <a:lnTo>
                    <a:pt x="360" y="883"/>
                  </a:lnTo>
                  <a:lnTo>
                    <a:pt x="350" y="886"/>
                  </a:lnTo>
                  <a:lnTo>
                    <a:pt x="340" y="887"/>
                  </a:lnTo>
                  <a:lnTo>
                    <a:pt x="331" y="889"/>
                  </a:lnTo>
                  <a:lnTo>
                    <a:pt x="321" y="893"/>
                  </a:lnTo>
                  <a:lnTo>
                    <a:pt x="312" y="896"/>
                  </a:lnTo>
                  <a:lnTo>
                    <a:pt x="303" y="900"/>
                  </a:lnTo>
                  <a:lnTo>
                    <a:pt x="295" y="905"/>
                  </a:lnTo>
                  <a:lnTo>
                    <a:pt x="286" y="912"/>
                  </a:lnTo>
                  <a:lnTo>
                    <a:pt x="278" y="918"/>
                  </a:lnTo>
                  <a:lnTo>
                    <a:pt x="271" y="925"/>
                  </a:lnTo>
                  <a:lnTo>
                    <a:pt x="264" y="934"/>
                  </a:lnTo>
                  <a:lnTo>
                    <a:pt x="256" y="941"/>
                  </a:lnTo>
                  <a:lnTo>
                    <a:pt x="248" y="947"/>
                  </a:lnTo>
                  <a:lnTo>
                    <a:pt x="240" y="953"/>
                  </a:lnTo>
                  <a:lnTo>
                    <a:pt x="225" y="960"/>
                  </a:lnTo>
                  <a:lnTo>
                    <a:pt x="211" y="967"/>
                  </a:lnTo>
                  <a:lnTo>
                    <a:pt x="196" y="973"/>
                  </a:lnTo>
                  <a:lnTo>
                    <a:pt x="182" y="979"/>
                  </a:lnTo>
                  <a:lnTo>
                    <a:pt x="168" y="985"/>
                  </a:lnTo>
                  <a:lnTo>
                    <a:pt x="153" y="990"/>
                  </a:lnTo>
                  <a:lnTo>
                    <a:pt x="138" y="995"/>
                  </a:lnTo>
                  <a:lnTo>
                    <a:pt x="123" y="998"/>
                  </a:lnTo>
                  <a:lnTo>
                    <a:pt x="117" y="1000"/>
                  </a:lnTo>
                  <a:lnTo>
                    <a:pt x="111" y="1000"/>
                  </a:lnTo>
                  <a:lnTo>
                    <a:pt x="105" y="1000"/>
                  </a:lnTo>
                  <a:lnTo>
                    <a:pt x="100" y="998"/>
                  </a:lnTo>
                  <a:lnTo>
                    <a:pt x="94" y="997"/>
                  </a:lnTo>
                  <a:lnTo>
                    <a:pt x="90" y="995"/>
                  </a:lnTo>
                  <a:lnTo>
                    <a:pt x="85" y="991"/>
                  </a:lnTo>
                  <a:lnTo>
                    <a:pt x="82" y="988"/>
                  </a:lnTo>
                  <a:lnTo>
                    <a:pt x="79" y="979"/>
                  </a:lnTo>
                  <a:lnTo>
                    <a:pt x="76" y="972"/>
                  </a:lnTo>
                  <a:lnTo>
                    <a:pt x="74" y="964"/>
                  </a:lnTo>
                  <a:lnTo>
                    <a:pt x="74" y="955"/>
                  </a:lnTo>
                  <a:lnTo>
                    <a:pt x="74" y="947"/>
                  </a:lnTo>
                  <a:lnTo>
                    <a:pt x="75" y="938"/>
                  </a:lnTo>
                  <a:lnTo>
                    <a:pt x="79" y="930"/>
                  </a:lnTo>
                  <a:lnTo>
                    <a:pt x="82" y="923"/>
                  </a:lnTo>
                  <a:lnTo>
                    <a:pt x="94" y="907"/>
                  </a:lnTo>
                  <a:lnTo>
                    <a:pt x="106" y="892"/>
                  </a:lnTo>
                  <a:lnTo>
                    <a:pt x="121" y="877"/>
                  </a:lnTo>
                  <a:lnTo>
                    <a:pt x="135" y="863"/>
                  </a:lnTo>
                  <a:lnTo>
                    <a:pt x="151" y="850"/>
                  </a:lnTo>
                  <a:lnTo>
                    <a:pt x="166" y="836"/>
                  </a:lnTo>
                  <a:lnTo>
                    <a:pt x="182" y="824"/>
                  </a:lnTo>
                  <a:lnTo>
                    <a:pt x="199" y="812"/>
                  </a:lnTo>
                  <a:lnTo>
                    <a:pt x="210" y="805"/>
                  </a:lnTo>
                  <a:lnTo>
                    <a:pt x="222" y="799"/>
                  </a:lnTo>
                  <a:lnTo>
                    <a:pt x="234" y="793"/>
                  </a:lnTo>
                  <a:lnTo>
                    <a:pt x="246" y="787"/>
                  </a:lnTo>
                  <a:lnTo>
                    <a:pt x="259" y="782"/>
                  </a:lnTo>
                  <a:lnTo>
                    <a:pt x="271" y="779"/>
                  </a:lnTo>
                  <a:lnTo>
                    <a:pt x="284" y="775"/>
                  </a:lnTo>
                  <a:lnTo>
                    <a:pt x="297" y="772"/>
                  </a:lnTo>
                  <a:lnTo>
                    <a:pt x="314" y="769"/>
                  </a:lnTo>
                  <a:lnTo>
                    <a:pt x="332" y="768"/>
                  </a:lnTo>
                  <a:lnTo>
                    <a:pt x="349" y="767"/>
                  </a:lnTo>
                  <a:lnTo>
                    <a:pt x="367" y="766"/>
                  </a:lnTo>
                  <a:lnTo>
                    <a:pt x="385" y="766"/>
                  </a:lnTo>
                  <a:lnTo>
                    <a:pt x="402" y="766"/>
                  </a:lnTo>
                  <a:lnTo>
                    <a:pt x="420" y="767"/>
                  </a:lnTo>
                  <a:lnTo>
                    <a:pt x="436" y="767"/>
                  </a:lnTo>
                  <a:lnTo>
                    <a:pt x="462" y="767"/>
                  </a:lnTo>
                  <a:lnTo>
                    <a:pt x="487" y="767"/>
                  </a:lnTo>
                  <a:lnTo>
                    <a:pt x="511" y="767"/>
                  </a:lnTo>
                  <a:lnTo>
                    <a:pt x="536" y="768"/>
                  </a:lnTo>
                  <a:lnTo>
                    <a:pt x="560" y="769"/>
                  </a:lnTo>
                  <a:lnTo>
                    <a:pt x="585" y="770"/>
                  </a:lnTo>
                  <a:lnTo>
                    <a:pt x="609" y="770"/>
                  </a:lnTo>
                  <a:lnTo>
                    <a:pt x="634" y="772"/>
                  </a:lnTo>
                  <a:lnTo>
                    <a:pt x="652" y="773"/>
                  </a:lnTo>
                  <a:lnTo>
                    <a:pt x="670" y="775"/>
                  </a:lnTo>
                  <a:lnTo>
                    <a:pt x="688" y="776"/>
                  </a:lnTo>
                  <a:lnTo>
                    <a:pt x="708" y="779"/>
                  </a:lnTo>
                  <a:lnTo>
                    <a:pt x="726" y="781"/>
                  </a:lnTo>
                  <a:lnTo>
                    <a:pt x="744" y="782"/>
                  </a:lnTo>
                  <a:lnTo>
                    <a:pt x="762" y="784"/>
                  </a:lnTo>
                  <a:lnTo>
                    <a:pt x="780" y="784"/>
                  </a:lnTo>
                  <a:lnTo>
                    <a:pt x="790" y="784"/>
                  </a:lnTo>
                  <a:lnTo>
                    <a:pt x="801" y="785"/>
                  </a:lnTo>
                  <a:lnTo>
                    <a:pt x="812" y="785"/>
                  </a:lnTo>
                  <a:lnTo>
                    <a:pt x="823" y="785"/>
                  </a:lnTo>
                  <a:lnTo>
                    <a:pt x="834" y="784"/>
                  </a:lnTo>
                  <a:lnTo>
                    <a:pt x="843" y="781"/>
                  </a:lnTo>
                  <a:lnTo>
                    <a:pt x="853" y="778"/>
                  </a:lnTo>
                  <a:lnTo>
                    <a:pt x="861" y="772"/>
                  </a:lnTo>
                  <a:close/>
                </a:path>
              </a:pathLst>
            </a:custGeom>
            <a:solidFill>
              <a:srgbClr val="e99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50040" y="4878360"/>
              <a:ext cx="992160" cy="854280"/>
            </a:xfrm>
            <a:custGeom>
              <a:avLst/>
              <a:gdLst/>
              <a:ahLst/>
              <a:rect l="l" t="t" r="r" b="b"/>
              <a:pathLst>
                <a:path w="2501" h="2152">
                  <a:moveTo>
                    <a:pt x="856" y="766"/>
                  </a:moveTo>
                  <a:lnTo>
                    <a:pt x="863" y="758"/>
                  </a:lnTo>
                  <a:lnTo>
                    <a:pt x="869" y="748"/>
                  </a:lnTo>
                  <a:lnTo>
                    <a:pt x="875" y="737"/>
                  </a:lnTo>
                  <a:lnTo>
                    <a:pt x="879" y="727"/>
                  </a:lnTo>
                  <a:lnTo>
                    <a:pt x="881" y="715"/>
                  </a:lnTo>
                  <a:lnTo>
                    <a:pt x="883" y="703"/>
                  </a:lnTo>
                  <a:lnTo>
                    <a:pt x="883" y="691"/>
                  </a:lnTo>
                  <a:lnTo>
                    <a:pt x="885" y="679"/>
                  </a:lnTo>
                  <a:lnTo>
                    <a:pt x="883" y="665"/>
                  </a:lnTo>
                  <a:lnTo>
                    <a:pt x="882" y="652"/>
                  </a:lnTo>
                  <a:lnTo>
                    <a:pt x="881" y="638"/>
                  </a:lnTo>
                  <a:lnTo>
                    <a:pt x="877" y="625"/>
                  </a:lnTo>
                  <a:lnTo>
                    <a:pt x="874" y="611"/>
                  </a:lnTo>
                  <a:lnTo>
                    <a:pt x="869" y="598"/>
                  </a:lnTo>
                  <a:lnTo>
                    <a:pt x="863" y="586"/>
                  </a:lnTo>
                  <a:lnTo>
                    <a:pt x="856" y="575"/>
                  </a:lnTo>
                  <a:lnTo>
                    <a:pt x="847" y="567"/>
                  </a:lnTo>
                  <a:lnTo>
                    <a:pt x="838" y="560"/>
                  </a:lnTo>
                  <a:lnTo>
                    <a:pt x="827" y="553"/>
                  </a:lnTo>
                  <a:lnTo>
                    <a:pt x="816" y="548"/>
                  </a:lnTo>
                  <a:lnTo>
                    <a:pt x="804" y="543"/>
                  </a:lnTo>
                  <a:lnTo>
                    <a:pt x="792" y="538"/>
                  </a:lnTo>
                  <a:lnTo>
                    <a:pt x="780" y="535"/>
                  </a:lnTo>
                  <a:lnTo>
                    <a:pt x="769" y="530"/>
                  </a:lnTo>
                  <a:lnTo>
                    <a:pt x="755" y="523"/>
                  </a:lnTo>
                  <a:lnTo>
                    <a:pt x="742" y="517"/>
                  </a:lnTo>
                  <a:lnTo>
                    <a:pt x="729" y="511"/>
                  </a:lnTo>
                  <a:lnTo>
                    <a:pt x="714" y="505"/>
                  </a:lnTo>
                  <a:lnTo>
                    <a:pt x="701" y="499"/>
                  </a:lnTo>
                  <a:lnTo>
                    <a:pt x="688" y="493"/>
                  </a:lnTo>
                  <a:lnTo>
                    <a:pt x="673" y="488"/>
                  </a:lnTo>
                  <a:lnTo>
                    <a:pt x="659" y="483"/>
                  </a:lnTo>
                  <a:lnTo>
                    <a:pt x="643" y="479"/>
                  </a:lnTo>
                  <a:lnTo>
                    <a:pt x="628" y="476"/>
                  </a:lnTo>
                  <a:lnTo>
                    <a:pt x="611" y="472"/>
                  </a:lnTo>
                  <a:lnTo>
                    <a:pt x="595" y="470"/>
                  </a:lnTo>
                  <a:lnTo>
                    <a:pt x="580" y="467"/>
                  </a:lnTo>
                  <a:lnTo>
                    <a:pt x="563" y="464"/>
                  </a:lnTo>
                  <a:lnTo>
                    <a:pt x="547" y="460"/>
                  </a:lnTo>
                  <a:lnTo>
                    <a:pt x="532" y="454"/>
                  </a:lnTo>
                  <a:lnTo>
                    <a:pt x="520" y="449"/>
                  </a:lnTo>
                  <a:lnTo>
                    <a:pt x="508" y="443"/>
                  </a:lnTo>
                  <a:lnTo>
                    <a:pt x="496" y="436"/>
                  </a:lnTo>
                  <a:lnTo>
                    <a:pt x="484" y="429"/>
                  </a:lnTo>
                  <a:lnTo>
                    <a:pt x="473" y="422"/>
                  </a:lnTo>
                  <a:lnTo>
                    <a:pt x="462" y="413"/>
                  </a:lnTo>
                  <a:lnTo>
                    <a:pt x="450" y="405"/>
                  </a:lnTo>
                  <a:lnTo>
                    <a:pt x="439" y="397"/>
                  </a:lnTo>
                  <a:lnTo>
                    <a:pt x="421" y="382"/>
                  </a:lnTo>
                  <a:lnTo>
                    <a:pt x="403" y="365"/>
                  </a:lnTo>
                  <a:lnTo>
                    <a:pt x="385" y="350"/>
                  </a:lnTo>
                  <a:lnTo>
                    <a:pt x="367" y="333"/>
                  </a:lnTo>
                  <a:lnTo>
                    <a:pt x="351" y="318"/>
                  </a:lnTo>
                  <a:lnTo>
                    <a:pt x="333" y="301"/>
                  </a:lnTo>
                  <a:lnTo>
                    <a:pt x="315" y="285"/>
                  </a:lnTo>
                  <a:lnTo>
                    <a:pt x="295" y="270"/>
                  </a:lnTo>
                  <a:lnTo>
                    <a:pt x="279" y="258"/>
                  </a:lnTo>
                  <a:lnTo>
                    <a:pt x="262" y="244"/>
                  </a:lnTo>
                  <a:lnTo>
                    <a:pt x="245" y="231"/>
                  </a:lnTo>
                  <a:lnTo>
                    <a:pt x="228" y="219"/>
                  </a:lnTo>
                  <a:lnTo>
                    <a:pt x="210" y="207"/>
                  </a:lnTo>
                  <a:lnTo>
                    <a:pt x="193" y="195"/>
                  </a:lnTo>
                  <a:lnTo>
                    <a:pt x="175" y="183"/>
                  </a:lnTo>
                  <a:lnTo>
                    <a:pt x="157" y="172"/>
                  </a:lnTo>
                  <a:lnTo>
                    <a:pt x="145" y="165"/>
                  </a:lnTo>
                  <a:lnTo>
                    <a:pt x="133" y="159"/>
                  </a:lnTo>
                  <a:lnTo>
                    <a:pt x="120" y="154"/>
                  </a:lnTo>
                  <a:lnTo>
                    <a:pt x="108" y="150"/>
                  </a:lnTo>
                  <a:lnTo>
                    <a:pt x="95" y="145"/>
                  </a:lnTo>
                  <a:lnTo>
                    <a:pt x="83" y="139"/>
                  </a:lnTo>
                  <a:lnTo>
                    <a:pt x="71" y="133"/>
                  </a:lnTo>
                  <a:lnTo>
                    <a:pt x="59" y="126"/>
                  </a:lnTo>
                  <a:lnTo>
                    <a:pt x="51" y="121"/>
                  </a:lnTo>
                  <a:lnTo>
                    <a:pt x="42" y="115"/>
                  </a:lnTo>
                  <a:lnTo>
                    <a:pt x="33" y="108"/>
                  </a:lnTo>
                  <a:lnTo>
                    <a:pt x="25" y="102"/>
                  </a:lnTo>
                  <a:lnTo>
                    <a:pt x="17" y="94"/>
                  </a:lnTo>
                  <a:lnTo>
                    <a:pt x="11" y="86"/>
                  </a:lnTo>
                  <a:lnTo>
                    <a:pt x="5" y="78"/>
                  </a:lnTo>
                  <a:lnTo>
                    <a:pt x="1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1" y="46"/>
                  </a:lnTo>
                  <a:lnTo>
                    <a:pt x="5" y="39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8" y="20"/>
                  </a:lnTo>
                  <a:lnTo>
                    <a:pt x="24" y="16"/>
                  </a:lnTo>
                  <a:lnTo>
                    <a:pt x="36" y="12"/>
                  </a:lnTo>
                  <a:lnTo>
                    <a:pt x="48" y="8"/>
                  </a:lnTo>
                  <a:lnTo>
                    <a:pt x="60" y="6"/>
                  </a:lnTo>
                  <a:lnTo>
                    <a:pt x="72" y="4"/>
                  </a:lnTo>
                  <a:lnTo>
                    <a:pt x="85" y="3"/>
                  </a:lnTo>
                  <a:lnTo>
                    <a:pt x="97" y="3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5" y="7"/>
                  </a:lnTo>
                  <a:lnTo>
                    <a:pt x="145" y="8"/>
                  </a:lnTo>
                  <a:lnTo>
                    <a:pt x="156" y="10"/>
                  </a:lnTo>
                  <a:lnTo>
                    <a:pt x="168" y="14"/>
                  </a:lnTo>
                  <a:lnTo>
                    <a:pt x="179" y="18"/>
                  </a:lnTo>
                  <a:lnTo>
                    <a:pt x="190" y="22"/>
                  </a:lnTo>
                  <a:lnTo>
                    <a:pt x="199" y="28"/>
                  </a:lnTo>
                  <a:lnTo>
                    <a:pt x="209" y="33"/>
                  </a:lnTo>
                  <a:lnTo>
                    <a:pt x="223" y="44"/>
                  </a:lnTo>
                  <a:lnTo>
                    <a:pt x="235" y="55"/>
                  </a:lnTo>
                  <a:lnTo>
                    <a:pt x="247" y="66"/>
                  </a:lnTo>
                  <a:lnTo>
                    <a:pt x="259" y="78"/>
                  </a:lnTo>
                  <a:lnTo>
                    <a:pt x="271" y="91"/>
                  </a:lnTo>
                  <a:lnTo>
                    <a:pt x="283" y="103"/>
                  </a:lnTo>
                  <a:lnTo>
                    <a:pt x="295" y="115"/>
                  </a:lnTo>
                  <a:lnTo>
                    <a:pt x="307" y="126"/>
                  </a:lnTo>
                  <a:lnTo>
                    <a:pt x="325" y="141"/>
                  </a:lnTo>
                  <a:lnTo>
                    <a:pt x="342" y="157"/>
                  </a:lnTo>
                  <a:lnTo>
                    <a:pt x="360" y="172"/>
                  </a:lnTo>
                  <a:lnTo>
                    <a:pt x="378" y="188"/>
                  </a:lnTo>
                  <a:lnTo>
                    <a:pt x="396" y="202"/>
                  </a:lnTo>
                  <a:lnTo>
                    <a:pt x="415" y="218"/>
                  </a:lnTo>
                  <a:lnTo>
                    <a:pt x="433" y="232"/>
                  </a:lnTo>
                  <a:lnTo>
                    <a:pt x="451" y="247"/>
                  </a:lnTo>
                  <a:lnTo>
                    <a:pt x="465" y="258"/>
                  </a:lnTo>
                  <a:lnTo>
                    <a:pt x="478" y="268"/>
                  </a:lnTo>
                  <a:lnTo>
                    <a:pt x="491" y="279"/>
                  </a:lnTo>
                  <a:lnTo>
                    <a:pt x="505" y="290"/>
                  </a:lnTo>
                  <a:lnTo>
                    <a:pt x="519" y="300"/>
                  </a:lnTo>
                  <a:lnTo>
                    <a:pt x="532" y="309"/>
                  </a:lnTo>
                  <a:lnTo>
                    <a:pt x="546" y="319"/>
                  </a:lnTo>
                  <a:lnTo>
                    <a:pt x="561" y="327"/>
                  </a:lnTo>
                  <a:lnTo>
                    <a:pt x="569" y="332"/>
                  </a:lnTo>
                  <a:lnTo>
                    <a:pt x="576" y="334"/>
                  </a:lnTo>
                  <a:lnTo>
                    <a:pt x="583" y="338"/>
                  </a:lnTo>
                  <a:lnTo>
                    <a:pt x="592" y="340"/>
                  </a:lnTo>
                  <a:lnTo>
                    <a:pt x="600" y="342"/>
                  </a:lnTo>
                  <a:lnTo>
                    <a:pt x="609" y="344"/>
                  </a:lnTo>
                  <a:lnTo>
                    <a:pt x="616" y="344"/>
                  </a:lnTo>
                  <a:lnTo>
                    <a:pt x="624" y="345"/>
                  </a:lnTo>
                  <a:lnTo>
                    <a:pt x="633" y="345"/>
                  </a:lnTo>
                  <a:lnTo>
                    <a:pt x="640" y="345"/>
                  </a:lnTo>
                  <a:lnTo>
                    <a:pt x="648" y="345"/>
                  </a:lnTo>
                  <a:lnTo>
                    <a:pt x="655" y="345"/>
                  </a:lnTo>
                  <a:lnTo>
                    <a:pt x="663" y="344"/>
                  </a:lnTo>
                  <a:lnTo>
                    <a:pt x="670" y="342"/>
                  </a:lnTo>
                  <a:lnTo>
                    <a:pt x="677" y="338"/>
                  </a:lnTo>
                  <a:lnTo>
                    <a:pt x="682" y="333"/>
                  </a:lnTo>
                  <a:lnTo>
                    <a:pt x="688" y="326"/>
                  </a:lnTo>
                  <a:lnTo>
                    <a:pt x="693" y="319"/>
                  </a:lnTo>
                  <a:lnTo>
                    <a:pt x="696" y="310"/>
                  </a:lnTo>
                  <a:lnTo>
                    <a:pt x="700" y="302"/>
                  </a:lnTo>
                  <a:lnTo>
                    <a:pt x="701" y="292"/>
                  </a:lnTo>
                  <a:lnTo>
                    <a:pt x="703" y="283"/>
                  </a:lnTo>
                  <a:lnTo>
                    <a:pt x="705" y="273"/>
                  </a:lnTo>
                  <a:lnTo>
                    <a:pt x="706" y="265"/>
                  </a:lnTo>
                  <a:lnTo>
                    <a:pt x="706" y="250"/>
                  </a:lnTo>
                  <a:lnTo>
                    <a:pt x="706" y="237"/>
                  </a:lnTo>
                  <a:lnTo>
                    <a:pt x="705" y="223"/>
                  </a:lnTo>
                  <a:lnTo>
                    <a:pt x="703" y="210"/>
                  </a:lnTo>
                  <a:lnTo>
                    <a:pt x="702" y="196"/>
                  </a:lnTo>
                  <a:lnTo>
                    <a:pt x="701" y="182"/>
                  </a:lnTo>
                  <a:lnTo>
                    <a:pt x="700" y="169"/>
                  </a:lnTo>
                  <a:lnTo>
                    <a:pt x="700" y="154"/>
                  </a:lnTo>
                  <a:lnTo>
                    <a:pt x="700" y="147"/>
                  </a:lnTo>
                  <a:lnTo>
                    <a:pt x="700" y="140"/>
                  </a:lnTo>
                  <a:lnTo>
                    <a:pt x="701" y="133"/>
                  </a:lnTo>
                  <a:lnTo>
                    <a:pt x="702" y="126"/>
                  </a:lnTo>
                  <a:lnTo>
                    <a:pt x="703" y="118"/>
                  </a:lnTo>
                  <a:lnTo>
                    <a:pt x="705" y="111"/>
                  </a:lnTo>
                  <a:lnTo>
                    <a:pt x="705" y="104"/>
                  </a:lnTo>
                  <a:lnTo>
                    <a:pt x="706" y="97"/>
                  </a:lnTo>
                  <a:lnTo>
                    <a:pt x="706" y="90"/>
                  </a:lnTo>
                  <a:lnTo>
                    <a:pt x="705" y="81"/>
                  </a:lnTo>
                  <a:lnTo>
                    <a:pt x="705" y="73"/>
                  </a:lnTo>
                  <a:lnTo>
                    <a:pt x="703" y="66"/>
                  </a:lnTo>
                  <a:lnTo>
                    <a:pt x="703" y="57"/>
                  </a:lnTo>
                  <a:lnTo>
                    <a:pt x="703" y="49"/>
                  </a:lnTo>
                  <a:lnTo>
                    <a:pt x="705" y="42"/>
                  </a:lnTo>
                  <a:lnTo>
                    <a:pt x="706" y="33"/>
                  </a:lnTo>
                  <a:lnTo>
                    <a:pt x="707" y="28"/>
                  </a:lnTo>
                  <a:lnTo>
                    <a:pt x="708" y="22"/>
                  </a:lnTo>
                  <a:lnTo>
                    <a:pt x="711" y="16"/>
                  </a:lnTo>
                  <a:lnTo>
                    <a:pt x="713" y="12"/>
                  </a:lnTo>
                  <a:lnTo>
                    <a:pt x="715" y="7"/>
                  </a:lnTo>
                  <a:lnTo>
                    <a:pt x="719" y="2"/>
                  </a:lnTo>
                  <a:lnTo>
                    <a:pt x="724" y="0"/>
                  </a:lnTo>
                  <a:lnTo>
                    <a:pt x="729" y="0"/>
                  </a:lnTo>
                  <a:lnTo>
                    <a:pt x="738" y="1"/>
                  </a:lnTo>
                  <a:lnTo>
                    <a:pt x="748" y="3"/>
                  </a:lnTo>
                  <a:lnTo>
                    <a:pt x="757" y="7"/>
                  </a:lnTo>
                  <a:lnTo>
                    <a:pt x="767" y="13"/>
                  </a:lnTo>
                  <a:lnTo>
                    <a:pt x="775" y="19"/>
                  </a:lnTo>
                  <a:lnTo>
                    <a:pt x="784" y="25"/>
                  </a:lnTo>
                  <a:lnTo>
                    <a:pt x="791" y="32"/>
                  </a:lnTo>
                  <a:lnTo>
                    <a:pt x="798" y="39"/>
                  </a:lnTo>
                  <a:lnTo>
                    <a:pt x="805" y="49"/>
                  </a:lnTo>
                  <a:lnTo>
                    <a:pt x="811" y="60"/>
                  </a:lnTo>
                  <a:lnTo>
                    <a:pt x="816" y="69"/>
                  </a:lnTo>
                  <a:lnTo>
                    <a:pt x="821" y="81"/>
                  </a:lnTo>
                  <a:lnTo>
                    <a:pt x="825" y="92"/>
                  </a:lnTo>
                  <a:lnTo>
                    <a:pt x="829" y="104"/>
                  </a:lnTo>
                  <a:lnTo>
                    <a:pt x="833" y="115"/>
                  </a:lnTo>
                  <a:lnTo>
                    <a:pt x="838" y="126"/>
                  </a:lnTo>
                  <a:lnTo>
                    <a:pt x="845" y="141"/>
                  </a:lnTo>
                  <a:lnTo>
                    <a:pt x="851" y="158"/>
                  </a:lnTo>
                  <a:lnTo>
                    <a:pt x="858" y="174"/>
                  </a:lnTo>
                  <a:lnTo>
                    <a:pt x="864" y="189"/>
                  </a:lnTo>
                  <a:lnTo>
                    <a:pt x="870" y="205"/>
                  </a:lnTo>
                  <a:lnTo>
                    <a:pt x="877" y="222"/>
                  </a:lnTo>
                  <a:lnTo>
                    <a:pt x="883" y="237"/>
                  </a:lnTo>
                  <a:lnTo>
                    <a:pt x="889" y="253"/>
                  </a:lnTo>
                  <a:lnTo>
                    <a:pt x="894" y="262"/>
                  </a:lnTo>
                  <a:lnTo>
                    <a:pt x="898" y="272"/>
                  </a:lnTo>
                  <a:lnTo>
                    <a:pt x="901" y="282"/>
                  </a:lnTo>
                  <a:lnTo>
                    <a:pt x="905" y="291"/>
                  </a:lnTo>
                  <a:lnTo>
                    <a:pt x="910" y="301"/>
                  </a:lnTo>
                  <a:lnTo>
                    <a:pt x="915" y="310"/>
                  </a:lnTo>
                  <a:lnTo>
                    <a:pt x="919" y="319"/>
                  </a:lnTo>
                  <a:lnTo>
                    <a:pt x="924" y="327"/>
                  </a:lnTo>
                  <a:lnTo>
                    <a:pt x="931" y="337"/>
                  </a:lnTo>
                  <a:lnTo>
                    <a:pt x="939" y="346"/>
                  </a:lnTo>
                  <a:lnTo>
                    <a:pt x="946" y="355"/>
                  </a:lnTo>
                  <a:lnTo>
                    <a:pt x="954" y="364"/>
                  </a:lnTo>
                  <a:lnTo>
                    <a:pt x="963" y="373"/>
                  </a:lnTo>
                  <a:lnTo>
                    <a:pt x="971" y="381"/>
                  </a:lnTo>
                  <a:lnTo>
                    <a:pt x="979" y="388"/>
                  </a:lnTo>
                  <a:lnTo>
                    <a:pt x="988" y="397"/>
                  </a:lnTo>
                  <a:lnTo>
                    <a:pt x="999" y="407"/>
                  </a:lnTo>
                  <a:lnTo>
                    <a:pt x="1009" y="417"/>
                  </a:lnTo>
                  <a:lnTo>
                    <a:pt x="1020" y="428"/>
                  </a:lnTo>
                  <a:lnTo>
                    <a:pt x="1032" y="437"/>
                  </a:lnTo>
                  <a:lnTo>
                    <a:pt x="1043" y="447"/>
                  </a:lnTo>
                  <a:lnTo>
                    <a:pt x="1055" y="457"/>
                  </a:lnTo>
                  <a:lnTo>
                    <a:pt x="1067" y="465"/>
                  </a:lnTo>
                  <a:lnTo>
                    <a:pt x="1080" y="472"/>
                  </a:lnTo>
                  <a:lnTo>
                    <a:pt x="1091" y="476"/>
                  </a:lnTo>
                  <a:lnTo>
                    <a:pt x="1102" y="481"/>
                  </a:lnTo>
                  <a:lnTo>
                    <a:pt x="1114" y="483"/>
                  </a:lnTo>
                  <a:lnTo>
                    <a:pt x="1126" y="485"/>
                  </a:lnTo>
                  <a:lnTo>
                    <a:pt x="1137" y="487"/>
                  </a:lnTo>
                  <a:lnTo>
                    <a:pt x="1149" y="488"/>
                  </a:lnTo>
                  <a:lnTo>
                    <a:pt x="1161" y="488"/>
                  </a:lnTo>
                  <a:lnTo>
                    <a:pt x="1173" y="489"/>
                  </a:lnTo>
                  <a:lnTo>
                    <a:pt x="1187" y="489"/>
                  </a:lnTo>
                  <a:lnTo>
                    <a:pt x="1201" y="490"/>
                  </a:lnTo>
                  <a:lnTo>
                    <a:pt x="1216" y="490"/>
                  </a:lnTo>
                  <a:lnTo>
                    <a:pt x="1230" y="489"/>
                  </a:lnTo>
                  <a:lnTo>
                    <a:pt x="1245" y="489"/>
                  </a:lnTo>
                  <a:lnTo>
                    <a:pt x="1259" y="488"/>
                  </a:lnTo>
                  <a:lnTo>
                    <a:pt x="1273" y="485"/>
                  </a:lnTo>
                  <a:lnTo>
                    <a:pt x="1288" y="483"/>
                  </a:lnTo>
                  <a:lnTo>
                    <a:pt x="1297" y="482"/>
                  </a:lnTo>
                  <a:lnTo>
                    <a:pt x="1308" y="479"/>
                  </a:lnTo>
                  <a:lnTo>
                    <a:pt x="1318" y="476"/>
                  </a:lnTo>
                  <a:lnTo>
                    <a:pt x="1327" y="473"/>
                  </a:lnTo>
                  <a:lnTo>
                    <a:pt x="1337" y="470"/>
                  </a:lnTo>
                  <a:lnTo>
                    <a:pt x="1347" y="465"/>
                  </a:lnTo>
                  <a:lnTo>
                    <a:pt x="1355" y="460"/>
                  </a:lnTo>
                  <a:lnTo>
                    <a:pt x="1363" y="454"/>
                  </a:lnTo>
                  <a:lnTo>
                    <a:pt x="1372" y="448"/>
                  </a:lnTo>
                  <a:lnTo>
                    <a:pt x="1380" y="441"/>
                  </a:lnTo>
                  <a:lnTo>
                    <a:pt x="1389" y="434"/>
                  </a:lnTo>
                  <a:lnTo>
                    <a:pt x="1397" y="427"/>
                  </a:lnTo>
                  <a:lnTo>
                    <a:pt x="1403" y="418"/>
                  </a:lnTo>
                  <a:lnTo>
                    <a:pt x="1408" y="410"/>
                  </a:lnTo>
                  <a:lnTo>
                    <a:pt x="1409" y="405"/>
                  </a:lnTo>
                  <a:lnTo>
                    <a:pt x="1410" y="400"/>
                  </a:lnTo>
                  <a:lnTo>
                    <a:pt x="1410" y="395"/>
                  </a:lnTo>
                  <a:lnTo>
                    <a:pt x="1409" y="391"/>
                  </a:lnTo>
                  <a:lnTo>
                    <a:pt x="1408" y="386"/>
                  </a:lnTo>
                  <a:lnTo>
                    <a:pt x="1405" y="382"/>
                  </a:lnTo>
                  <a:lnTo>
                    <a:pt x="1402" y="379"/>
                  </a:lnTo>
                  <a:lnTo>
                    <a:pt x="1398" y="375"/>
                  </a:lnTo>
                  <a:lnTo>
                    <a:pt x="1389" y="369"/>
                  </a:lnTo>
                  <a:lnTo>
                    <a:pt x="1379" y="364"/>
                  </a:lnTo>
                  <a:lnTo>
                    <a:pt x="1367" y="361"/>
                  </a:lnTo>
                  <a:lnTo>
                    <a:pt x="1356" y="358"/>
                  </a:lnTo>
                  <a:lnTo>
                    <a:pt x="1344" y="355"/>
                  </a:lnTo>
                  <a:lnTo>
                    <a:pt x="1335" y="351"/>
                  </a:lnTo>
                  <a:lnTo>
                    <a:pt x="1323" y="346"/>
                  </a:lnTo>
                  <a:lnTo>
                    <a:pt x="1309" y="342"/>
                  </a:lnTo>
                  <a:lnTo>
                    <a:pt x="1297" y="338"/>
                  </a:lnTo>
                  <a:lnTo>
                    <a:pt x="1284" y="334"/>
                  </a:lnTo>
                  <a:lnTo>
                    <a:pt x="1272" y="331"/>
                  </a:lnTo>
                  <a:lnTo>
                    <a:pt x="1260" y="327"/>
                  </a:lnTo>
                  <a:lnTo>
                    <a:pt x="1248" y="322"/>
                  </a:lnTo>
                  <a:lnTo>
                    <a:pt x="1236" y="316"/>
                  </a:lnTo>
                  <a:lnTo>
                    <a:pt x="1229" y="312"/>
                  </a:lnTo>
                  <a:lnTo>
                    <a:pt x="1222" y="307"/>
                  </a:lnTo>
                  <a:lnTo>
                    <a:pt x="1215" y="302"/>
                  </a:lnTo>
                  <a:lnTo>
                    <a:pt x="1207" y="296"/>
                  </a:lnTo>
                  <a:lnTo>
                    <a:pt x="1201" y="290"/>
                  </a:lnTo>
                  <a:lnTo>
                    <a:pt x="1195" y="284"/>
                  </a:lnTo>
                  <a:lnTo>
                    <a:pt x="1189" y="277"/>
                  </a:lnTo>
                  <a:lnTo>
                    <a:pt x="1185" y="270"/>
                  </a:lnTo>
                  <a:lnTo>
                    <a:pt x="1179" y="262"/>
                  </a:lnTo>
                  <a:lnTo>
                    <a:pt x="1175" y="255"/>
                  </a:lnTo>
                  <a:lnTo>
                    <a:pt x="1170" y="248"/>
                  </a:lnTo>
                  <a:lnTo>
                    <a:pt x="1167" y="240"/>
                  </a:lnTo>
                  <a:lnTo>
                    <a:pt x="1163" y="232"/>
                  </a:lnTo>
                  <a:lnTo>
                    <a:pt x="1159" y="224"/>
                  </a:lnTo>
                  <a:lnTo>
                    <a:pt x="1157" y="216"/>
                  </a:lnTo>
                  <a:lnTo>
                    <a:pt x="1156" y="207"/>
                  </a:lnTo>
                  <a:lnTo>
                    <a:pt x="1155" y="201"/>
                  </a:lnTo>
                  <a:lnTo>
                    <a:pt x="1153" y="194"/>
                  </a:lnTo>
                  <a:lnTo>
                    <a:pt x="1152" y="188"/>
                  </a:lnTo>
                  <a:lnTo>
                    <a:pt x="1152" y="182"/>
                  </a:lnTo>
                  <a:lnTo>
                    <a:pt x="1153" y="176"/>
                  </a:lnTo>
                  <a:lnTo>
                    <a:pt x="1155" y="170"/>
                  </a:lnTo>
                  <a:lnTo>
                    <a:pt x="1157" y="165"/>
                  </a:lnTo>
                  <a:lnTo>
                    <a:pt x="1161" y="160"/>
                  </a:lnTo>
                  <a:lnTo>
                    <a:pt x="1167" y="157"/>
                  </a:lnTo>
                  <a:lnTo>
                    <a:pt x="1174" y="153"/>
                  </a:lnTo>
                  <a:lnTo>
                    <a:pt x="1181" y="151"/>
                  </a:lnTo>
                  <a:lnTo>
                    <a:pt x="1188" y="150"/>
                  </a:lnTo>
                  <a:lnTo>
                    <a:pt x="1195" y="148"/>
                  </a:lnTo>
                  <a:lnTo>
                    <a:pt x="1204" y="148"/>
                  </a:lnTo>
                  <a:lnTo>
                    <a:pt x="1211" y="148"/>
                  </a:lnTo>
                  <a:lnTo>
                    <a:pt x="1219" y="150"/>
                  </a:lnTo>
                  <a:lnTo>
                    <a:pt x="1229" y="151"/>
                  </a:lnTo>
                  <a:lnTo>
                    <a:pt x="1237" y="153"/>
                  </a:lnTo>
                  <a:lnTo>
                    <a:pt x="1247" y="156"/>
                  </a:lnTo>
                  <a:lnTo>
                    <a:pt x="1257" y="159"/>
                  </a:lnTo>
                  <a:lnTo>
                    <a:pt x="1266" y="163"/>
                  </a:lnTo>
                  <a:lnTo>
                    <a:pt x="1275" y="166"/>
                  </a:lnTo>
                  <a:lnTo>
                    <a:pt x="1284" y="170"/>
                  </a:lnTo>
                  <a:lnTo>
                    <a:pt x="1294" y="172"/>
                  </a:lnTo>
                  <a:lnTo>
                    <a:pt x="1306" y="175"/>
                  </a:lnTo>
                  <a:lnTo>
                    <a:pt x="1317" y="176"/>
                  </a:lnTo>
                  <a:lnTo>
                    <a:pt x="1329" y="178"/>
                  </a:lnTo>
                  <a:lnTo>
                    <a:pt x="1339" y="180"/>
                  </a:lnTo>
                  <a:lnTo>
                    <a:pt x="1351" y="181"/>
                  </a:lnTo>
                  <a:lnTo>
                    <a:pt x="1363" y="182"/>
                  </a:lnTo>
                  <a:lnTo>
                    <a:pt x="1374" y="183"/>
                  </a:lnTo>
                  <a:lnTo>
                    <a:pt x="1386" y="183"/>
                  </a:lnTo>
                  <a:lnTo>
                    <a:pt x="1399" y="184"/>
                  </a:lnTo>
                  <a:lnTo>
                    <a:pt x="1413" y="184"/>
                  </a:lnTo>
                  <a:lnTo>
                    <a:pt x="1425" y="184"/>
                  </a:lnTo>
                  <a:lnTo>
                    <a:pt x="1438" y="184"/>
                  </a:lnTo>
                  <a:lnTo>
                    <a:pt x="1451" y="184"/>
                  </a:lnTo>
                  <a:lnTo>
                    <a:pt x="1464" y="184"/>
                  </a:lnTo>
                  <a:lnTo>
                    <a:pt x="1477" y="184"/>
                  </a:lnTo>
                  <a:lnTo>
                    <a:pt x="1489" y="183"/>
                  </a:lnTo>
                  <a:lnTo>
                    <a:pt x="1499" y="183"/>
                  </a:lnTo>
                  <a:lnTo>
                    <a:pt x="1507" y="182"/>
                  </a:lnTo>
                  <a:lnTo>
                    <a:pt x="1516" y="181"/>
                  </a:lnTo>
                  <a:lnTo>
                    <a:pt x="1524" y="178"/>
                  </a:lnTo>
                  <a:lnTo>
                    <a:pt x="1534" y="177"/>
                  </a:lnTo>
                  <a:lnTo>
                    <a:pt x="1542" y="177"/>
                  </a:lnTo>
                  <a:lnTo>
                    <a:pt x="1551" y="177"/>
                  </a:lnTo>
                  <a:lnTo>
                    <a:pt x="1559" y="178"/>
                  </a:lnTo>
                  <a:lnTo>
                    <a:pt x="1566" y="180"/>
                  </a:lnTo>
                  <a:lnTo>
                    <a:pt x="1573" y="182"/>
                  </a:lnTo>
                  <a:lnTo>
                    <a:pt x="1581" y="184"/>
                  </a:lnTo>
                  <a:lnTo>
                    <a:pt x="1588" y="188"/>
                  </a:lnTo>
                  <a:lnTo>
                    <a:pt x="1594" y="192"/>
                  </a:lnTo>
                  <a:lnTo>
                    <a:pt x="1601" y="196"/>
                  </a:lnTo>
                  <a:lnTo>
                    <a:pt x="1606" y="201"/>
                  </a:lnTo>
                  <a:lnTo>
                    <a:pt x="1611" y="207"/>
                  </a:lnTo>
                  <a:lnTo>
                    <a:pt x="1615" y="213"/>
                  </a:lnTo>
                  <a:lnTo>
                    <a:pt x="1619" y="219"/>
                  </a:lnTo>
                  <a:lnTo>
                    <a:pt x="1621" y="226"/>
                  </a:lnTo>
                  <a:lnTo>
                    <a:pt x="1623" y="234"/>
                  </a:lnTo>
                  <a:lnTo>
                    <a:pt x="1624" y="242"/>
                  </a:lnTo>
                  <a:lnTo>
                    <a:pt x="1625" y="249"/>
                  </a:lnTo>
                  <a:lnTo>
                    <a:pt x="1627" y="256"/>
                  </a:lnTo>
                  <a:lnTo>
                    <a:pt x="1629" y="265"/>
                  </a:lnTo>
                  <a:lnTo>
                    <a:pt x="1633" y="284"/>
                  </a:lnTo>
                  <a:lnTo>
                    <a:pt x="1638" y="303"/>
                  </a:lnTo>
                  <a:lnTo>
                    <a:pt x="1643" y="322"/>
                  </a:lnTo>
                  <a:lnTo>
                    <a:pt x="1648" y="342"/>
                  </a:lnTo>
                  <a:lnTo>
                    <a:pt x="1651" y="361"/>
                  </a:lnTo>
                  <a:lnTo>
                    <a:pt x="1656" y="381"/>
                  </a:lnTo>
                  <a:lnTo>
                    <a:pt x="1660" y="400"/>
                  </a:lnTo>
                  <a:lnTo>
                    <a:pt x="1663" y="419"/>
                  </a:lnTo>
                  <a:lnTo>
                    <a:pt x="1665" y="437"/>
                  </a:lnTo>
                  <a:lnTo>
                    <a:pt x="1667" y="455"/>
                  </a:lnTo>
                  <a:lnTo>
                    <a:pt x="1667" y="473"/>
                  </a:lnTo>
                  <a:lnTo>
                    <a:pt x="1667" y="493"/>
                  </a:lnTo>
                  <a:lnTo>
                    <a:pt x="1668" y="511"/>
                  </a:lnTo>
                  <a:lnTo>
                    <a:pt x="1669" y="529"/>
                  </a:lnTo>
                  <a:lnTo>
                    <a:pt x="1672" y="547"/>
                  </a:lnTo>
                  <a:lnTo>
                    <a:pt x="1674" y="563"/>
                  </a:lnTo>
                  <a:lnTo>
                    <a:pt x="1678" y="575"/>
                  </a:lnTo>
                  <a:lnTo>
                    <a:pt x="1680" y="587"/>
                  </a:lnTo>
                  <a:lnTo>
                    <a:pt x="1684" y="599"/>
                  </a:lnTo>
                  <a:lnTo>
                    <a:pt x="1689" y="610"/>
                  </a:lnTo>
                  <a:lnTo>
                    <a:pt x="1693" y="621"/>
                  </a:lnTo>
                  <a:lnTo>
                    <a:pt x="1699" y="632"/>
                  </a:lnTo>
                  <a:lnTo>
                    <a:pt x="1707" y="641"/>
                  </a:lnTo>
                  <a:lnTo>
                    <a:pt x="1715" y="650"/>
                  </a:lnTo>
                  <a:lnTo>
                    <a:pt x="1721" y="655"/>
                  </a:lnTo>
                  <a:lnTo>
                    <a:pt x="1728" y="658"/>
                  </a:lnTo>
                  <a:lnTo>
                    <a:pt x="1735" y="661"/>
                  </a:lnTo>
                  <a:lnTo>
                    <a:pt x="1743" y="662"/>
                  </a:lnTo>
                  <a:lnTo>
                    <a:pt x="1751" y="663"/>
                  </a:lnTo>
                  <a:lnTo>
                    <a:pt x="1759" y="662"/>
                  </a:lnTo>
                  <a:lnTo>
                    <a:pt x="1767" y="659"/>
                  </a:lnTo>
                  <a:lnTo>
                    <a:pt x="1773" y="656"/>
                  </a:lnTo>
                  <a:lnTo>
                    <a:pt x="1786" y="646"/>
                  </a:lnTo>
                  <a:lnTo>
                    <a:pt x="1798" y="634"/>
                  </a:lnTo>
                  <a:lnTo>
                    <a:pt x="1809" y="622"/>
                  </a:lnTo>
                  <a:lnTo>
                    <a:pt x="1819" y="608"/>
                  </a:lnTo>
                  <a:lnTo>
                    <a:pt x="1830" y="595"/>
                  </a:lnTo>
                  <a:lnTo>
                    <a:pt x="1840" y="580"/>
                  </a:lnTo>
                  <a:lnTo>
                    <a:pt x="1849" y="566"/>
                  </a:lnTo>
                  <a:lnTo>
                    <a:pt x="1859" y="553"/>
                  </a:lnTo>
                  <a:lnTo>
                    <a:pt x="1872" y="536"/>
                  </a:lnTo>
                  <a:lnTo>
                    <a:pt x="1884" y="518"/>
                  </a:lnTo>
                  <a:lnTo>
                    <a:pt x="1896" y="501"/>
                  </a:lnTo>
                  <a:lnTo>
                    <a:pt x="1908" y="483"/>
                  </a:lnTo>
                  <a:lnTo>
                    <a:pt x="1920" y="465"/>
                  </a:lnTo>
                  <a:lnTo>
                    <a:pt x="1932" y="448"/>
                  </a:lnTo>
                  <a:lnTo>
                    <a:pt x="1944" y="431"/>
                  </a:lnTo>
                  <a:lnTo>
                    <a:pt x="1957" y="413"/>
                  </a:lnTo>
                  <a:lnTo>
                    <a:pt x="1967" y="401"/>
                  </a:lnTo>
                  <a:lnTo>
                    <a:pt x="1977" y="389"/>
                  </a:lnTo>
                  <a:lnTo>
                    <a:pt x="1986" y="377"/>
                  </a:lnTo>
                  <a:lnTo>
                    <a:pt x="1996" y="365"/>
                  </a:lnTo>
                  <a:lnTo>
                    <a:pt x="2005" y="355"/>
                  </a:lnTo>
                  <a:lnTo>
                    <a:pt x="2016" y="343"/>
                  </a:lnTo>
                  <a:lnTo>
                    <a:pt x="2027" y="332"/>
                  </a:lnTo>
                  <a:lnTo>
                    <a:pt x="2038" y="322"/>
                  </a:lnTo>
                  <a:lnTo>
                    <a:pt x="2044" y="316"/>
                  </a:lnTo>
                  <a:lnTo>
                    <a:pt x="2051" y="310"/>
                  </a:lnTo>
                  <a:lnTo>
                    <a:pt x="2059" y="304"/>
                  </a:lnTo>
                  <a:lnTo>
                    <a:pt x="2067" y="300"/>
                  </a:lnTo>
                  <a:lnTo>
                    <a:pt x="2075" y="295"/>
                  </a:lnTo>
                  <a:lnTo>
                    <a:pt x="2081" y="294"/>
                  </a:lnTo>
                  <a:lnTo>
                    <a:pt x="2085" y="294"/>
                  </a:lnTo>
                  <a:lnTo>
                    <a:pt x="2087" y="295"/>
                  </a:lnTo>
                  <a:lnTo>
                    <a:pt x="2088" y="296"/>
                  </a:lnTo>
                  <a:lnTo>
                    <a:pt x="2089" y="298"/>
                  </a:lnTo>
                  <a:lnTo>
                    <a:pt x="2095" y="319"/>
                  </a:lnTo>
                  <a:lnTo>
                    <a:pt x="2098" y="340"/>
                  </a:lnTo>
                  <a:lnTo>
                    <a:pt x="2099" y="361"/>
                  </a:lnTo>
                  <a:lnTo>
                    <a:pt x="2099" y="382"/>
                  </a:lnTo>
                  <a:lnTo>
                    <a:pt x="2097" y="404"/>
                  </a:lnTo>
                  <a:lnTo>
                    <a:pt x="2094" y="424"/>
                  </a:lnTo>
                  <a:lnTo>
                    <a:pt x="2089" y="446"/>
                  </a:lnTo>
                  <a:lnTo>
                    <a:pt x="2085" y="466"/>
                  </a:lnTo>
                  <a:lnTo>
                    <a:pt x="2074" y="502"/>
                  </a:lnTo>
                  <a:lnTo>
                    <a:pt x="2061" y="537"/>
                  </a:lnTo>
                  <a:lnTo>
                    <a:pt x="2047" y="572"/>
                  </a:lnTo>
                  <a:lnTo>
                    <a:pt x="2033" y="607"/>
                  </a:lnTo>
                  <a:lnTo>
                    <a:pt x="2017" y="641"/>
                  </a:lnTo>
                  <a:lnTo>
                    <a:pt x="2002" y="675"/>
                  </a:lnTo>
                  <a:lnTo>
                    <a:pt x="1985" y="709"/>
                  </a:lnTo>
                  <a:lnTo>
                    <a:pt x="1968" y="742"/>
                  </a:lnTo>
                  <a:lnTo>
                    <a:pt x="1960" y="761"/>
                  </a:lnTo>
                  <a:lnTo>
                    <a:pt x="1950" y="781"/>
                  </a:lnTo>
                  <a:lnTo>
                    <a:pt x="1941" y="799"/>
                  </a:lnTo>
                  <a:lnTo>
                    <a:pt x="1930" y="818"/>
                  </a:lnTo>
                  <a:lnTo>
                    <a:pt x="1919" y="836"/>
                  </a:lnTo>
                  <a:lnTo>
                    <a:pt x="1907" y="853"/>
                  </a:lnTo>
                  <a:lnTo>
                    <a:pt x="1895" y="871"/>
                  </a:lnTo>
                  <a:lnTo>
                    <a:pt x="1882" y="886"/>
                  </a:lnTo>
                  <a:lnTo>
                    <a:pt x="1873" y="897"/>
                  </a:lnTo>
                  <a:lnTo>
                    <a:pt x="1863" y="907"/>
                  </a:lnTo>
                  <a:lnTo>
                    <a:pt x="1852" y="915"/>
                  </a:lnTo>
                  <a:lnTo>
                    <a:pt x="1841" y="922"/>
                  </a:lnTo>
                  <a:lnTo>
                    <a:pt x="1829" y="931"/>
                  </a:lnTo>
                  <a:lnTo>
                    <a:pt x="1817" y="939"/>
                  </a:lnTo>
                  <a:lnTo>
                    <a:pt x="1806" y="947"/>
                  </a:lnTo>
                  <a:lnTo>
                    <a:pt x="1795" y="956"/>
                  </a:lnTo>
                  <a:lnTo>
                    <a:pt x="1791" y="961"/>
                  </a:lnTo>
                  <a:lnTo>
                    <a:pt x="1786" y="964"/>
                  </a:lnTo>
                  <a:lnTo>
                    <a:pt x="1780" y="969"/>
                  </a:lnTo>
                  <a:lnTo>
                    <a:pt x="1775" y="974"/>
                  </a:lnTo>
                  <a:lnTo>
                    <a:pt x="1770" y="979"/>
                  </a:lnTo>
                  <a:lnTo>
                    <a:pt x="1767" y="985"/>
                  </a:lnTo>
                  <a:lnTo>
                    <a:pt x="1763" y="989"/>
                  </a:lnTo>
                  <a:lnTo>
                    <a:pt x="1761" y="997"/>
                  </a:lnTo>
                  <a:lnTo>
                    <a:pt x="1759" y="1004"/>
                  </a:lnTo>
                  <a:lnTo>
                    <a:pt x="1758" y="1012"/>
                  </a:lnTo>
                  <a:lnTo>
                    <a:pt x="1758" y="1019"/>
                  </a:lnTo>
                  <a:lnTo>
                    <a:pt x="1759" y="1028"/>
                  </a:lnTo>
                  <a:lnTo>
                    <a:pt x="1761" y="1036"/>
                  </a:lnTo>
                  <a:lnTo>
                    <a:pt x="1763" y="1043"/>
                  </a:lnTo>
                  <a:lnTo>
                    <a:pt x="1768" y="1049"/>
                  </a:lnTo>
                  <a:lnTo>
                    <a:pt x="1773" y="1054"/>
                  </a:lnTo>
                  <a:lnTo>
                    <a:pt x="1785" y="1060"/>
                  </a:lnTo>
                  <a:lnTo>
                    <a:pt x="1797" y="1065"/>
                  </a:lnTo>
                  <a:lnTo>
                    <a:pt x="1810" y="1070"/>
                  </a:lnTo>
                  <a:lnTo>
                    <a:pt x="1823" y="1072"/>
                  </a:lnTo>
                  <a:lnTo>
                    <a:pt x="1836" y="1073"/>
                  </a:lnTo>
                  <a:lnTo>
                    <a:pt x="1849" y="1073"/>
                  </a:lnTo>
                  <a:lnTo>
                    <a:pt x="1864" y="1073"/>
                  </a:lnTo>
                  <a:lnTo>
                    <a:pt x="1877" y="1071"/>
                  </a:lnTo>
                  <a:lnTo>
                    <a:pt x="1891" y="1069"/>
                  </a:lnTo>
                  <a:lnTo>
                    <a:pt x="1905" y="1064"/>
                  </a:lnTo>
                  <a:lnTo>
                    <a:pt x="1919" y="1059"/>
                  </a:lnTo>
                  <a:lnTo>
                    <a:pt x="1933" y="1053"/>
                  </a:lnTo>
                  <a:lnTo>
                    <a:pt x="1945" y="1047"/>
                  </a:lnTo>
                  <a:lnTo>
                    <a:pt x="1959" y="1039"/>
                  </a:lnTo>
                  <a:lnTo>
                    <a:pt x="1969" y="1029"/>
                  </a:lnTo>
                  <a:lnTo>
                    <a:pt x="1980" y="1019"/>
                  </a:lnTo>
                  <a:lnTo>
                    <a:pt x="1990" y="1009"/>
                  </a:lnTo>
                  <a:lnTo>
                    <a:pt x="1998" y="998"/>
                  </a:lnTo>
                  <a:lnTo>
                    <a:pt x="2005" y="987"/>
                  </a:lnTo>
                  <a:lnTo>
                    <a:pt x="2013" y="976"/>
                  </a:lnTo>
                  <a:lnTo>
                    <a:pt x="2027" y="952"/>
                  </a:lnTo>
                  <a:lnTo>
                    <a:pt x="2040" y="928"/>
                  </a:lnTo>
                  <a:lnTo>
                    <a:pt x="2052" y="904"/>
                  </a:lnTo>
                  <a:lnTo>
                    <a:pt x="2065" y="880"/>
                  </a:lnTo>
                  <a:lnTo>
                    <a:pt x="2080" y="857"/>
                  </a:lnTo>
                  <a:lnTo>
                    <a:pt x="2095" y="835"/>
                  </a:lnTo>
                  <a:lnTo>
                    <a:pt x="2107" y="820"/>
                  </a:lnTo>
                  <a:lnTo>
                    <a:pt x="2121" y="806"/>
                  </a:lnTo>
                  <a:lnTo>
                    <a:pt x="2133" y="793"/>
                  </a:lnTo>
                  <a:lnTo>
                    <a:pt x="2147" y="779"/>
                  </a:lnTo>
                  <a:lnTo>
                    <a:pt x="2160" y="766"/>
                  </a:lnTo>
                  <a:lnTo>
                    <a:pt x="2175" y="754"/>
                  </a:lnTo>
                  <a:lnTo>
                    <a:pt x="2190" y="742"/>
                  </a:lnTo>
                  <a:lnTo>
                    <a:pt x="2206" y="731"/>
                  </a:lnTo>
                  <a:lnTo>
                    <a:pt x="2215" y="724"/>
                  </a:lnTo>
                  <a:lnTo>
                    <a:pt x="2225" y="718"/>
                  </a:lnTo>
                  <a:lnTo>
                    <a:pt x="2236" y="711"/>
                  </a:lnTo>
                  <a:lnTo>
                    <a:pt x="2247" y="706"/>
                  </a:lnTo>
                  <a:lnTo>
                    <a:pt x="2257" y="701"/>
                  </a:lnTo>
                  <a:lnTo>
                    <a:pt x="2269" y="698"/>
                  </a:lnTo>
                  <a:lnTo>
                    <a:pt x="2280" y="697"/>
                  </a:lnTo>
                  <a:lnTo>
                    <a:pt x="2292" y="697"/>
                  </a:lnTo>
                  <a:lnTo>
                    <a:pt x="2303" y="699"/>
                  </a:lnTo>
                  <a:lnTo>
                    <a:pt x="2314" y="703"/>
                  </a:lnTo>
                  <a:lnTo>
                    <a:pt x="2323" y="709"/>
                  </a:lnTo>
                  <a:lnTo>
                    <a:pt x="2333" y="716"/>
                  </a:lnTo>
                  <a:lnTo>
                    <a:pt x="2341" y="723"/>
                  </a:lnTo>
                  <a:lnTo>
                    <a:pt x="2351" y="731"/>
                  </a:lnTo>
                  <a:lnTo>
                    <a:pt x="2359" y="740"/>
                  </a:lnTo>
                  <a:lnTo>
                    <a:pt x="2367" y="748"/>
                  </a:lnTo>
                  <a:lnTo>
                    <a:pt x="2375" y="758"/>
                  </a:lnTo>
                  <a:lnTo>
                    <a:pt x="2382" y="767"/>
                  </a:lnTo>
                  <a:lnTo>
                    <a:pt x="2388" y="777"/>
                  </a:lnTo>
                  <a:lnTo>
                    <a:pt x="2395" y="787"/>
                  </a:lnTo>
                  <a:lnTo>
                    <a:pt x="2401" y="797"/>
                  </a:lnTo>
                  <a:lnTo>
                    <a:pt x="2407" y="808"/>
                  </a:lnTo>
                  <a:lnTo>
                    <a:pt x="2412" y="819"/>
                  </a:lnTo>
                  <a:lnTo>
                    <a:pt x="2418" y="829"/>
                  </a:lnTo>
                  <a:lnTo>
                    <a:pt x="2428" y="844"/>
                  </a:lnTo>
                  <a:lnTo>
                    <a:pt x="2437" y="859"/>
                  </a:lnTo>
                  <a:lnTo>
                    <a:pt x="2447" y="873"/>
                  </a:lnTo>
                  <a:lnTo>
                    <a:pt x="2455" y="889"/>
                  </a:lnTo>
                  <a:lnTo>
                    <a:pt x="2465" y="903"/>
                  </a:lnTo>
                  <a:lnTo>
                    <a:pt x="2473" y="919"/>
                  </a:lnTo>
                  <a:lnTo>
                    <a:pt x="2481" y="934"/>
                  </a:lnTo>
                  <a:lnTo>
                    <a:pt x="2488" y="950"/>
                  </a:lnTo>
                  <a:lnTo>
                    <a:pt x="2491" y="959"/>
                  </a:lnTo>
                  <a:lnTo>
                    <a:pt x="2495" y="969"/>
                  </a:lnTo>
                  <a:lnTo>
                    <a:pt x="2497" y="980"/>
                  </a:lnTo>
                  <a:lnTo>
                    <a:pt x="2500" y="989"/>
                  </a:lnTo>
                  <a:lnTo>
                    <a:pt x="2501" y="1000"/>
                  </a:lnTo>
                  <a:lnTo>
                    <a:pt x="2501" y="1011"/>
                  </a:lnTo>
                  <a:lnTo>
                    <a:pt x="2501" y="1021"/>
                  </a:lnTo>
                  <a:lnTo>
                    <a:pt x="2500" y="1030"/>
                  </a:lnTo>
                  <a:lnTo>
                    <a:pt x="2497" y="1037"/>
                  </a:lnTo>
                  <a:lnTo>
                    <a:pt x="2495" y="1045"/>
                  </a:lnTo>
                  <a:lnTo>
                    <a:pt x="2491" y="1051"/>
                  </a:lnTo>
                  <a:lnTo>
                    <a:pt x="2488" y="1057"/>
                  </a:lnTo>
                  <a:lnTo>
                    <a:pt x="2483" y="1063"/>
                  </a:lnTo>
                  <a:lnTo>
                    <a:pt x="2477" y="1067"/>
                  </a:lnTo>
                  <a:lnTo>
                    <a:pt x="2471" y="1070"/>
                  </a:lnTo>
                  <a:lnTo>
                    <a:pt x="2465" y="1071"/>
                  </a:lnTo>
                  <a:lnTo>
                    <a:pt x="2454" y="1071"/>
                  </a:lnTo>
                  <a:lnTo>
                    <a:pt x="2445" y="1069"/>
                  </a:lnTo>
                  <a:lnTo>
                    <a:pt x="2435" y="1066"/>
                  </a:lnTo>
                  <a:lnTo>
                    <a:pt x="2424" y="1061"/>
                  </a:lnTo>
                  <a:lnTo>
                    <a:pt x="2416" y="1057"/>
                  </a:lnTo>
                  <a:lnTo>
                    <a:pt x="2406" y="1049"/>
                  </a:lnTo>
                  <a:lnTo>
                    <a:pt x="2398" y="1043"/>
                  </a:lnTo>
                  <a:lnTo>
                    <a:pt x="2389" y="1036"/>
                  </a:lnTo>
                  <a:lnTo>
                    <a:pt x="2380" y="1025"/>
                  </a:lnTo>
                  <a:lnTo>
                    <a:pt x="2370" y="1015"/>
                  </a:lnTo>
                  <a:lnTo>
                    <a:pt x="2362" y="1003"/>
                  </a:lnTo>
                  <a:lnTo>
                    <a:pt x="2353" y="989"/>
                  </a:lnTo>
                  <a:lnTo>
                    <a:pt x="2345" y="976"/>
                  </a:lnTo>
                  <a:lnTo>
                    <a:pt x="2338" y="963"/>
                  </a:lnTo>
                  <a:lnTo>
                    <a:pt x="2329" y="951"/>
                  </a:lnTo>
                  <a:lnTo>
                    <a:pt x="2321" y="939"/>
                  </a:lnTo>
                  <a:lnTo>
                    <a:pt x="2315" y="931"/>
                  </a:lnTo>
                  <a:lnTo>
                    <a:pt x="2310" y="923"/>
                  </a:lnTo>
                  <a:lnTo>
                    <a:pt x="2304" y="915"/>
                  </a:lnTo>
                  <a:lnTo>
                    <a:pt x="2299" y="908"/>
                  </a:lnTo>
                  <a:lnTo>
                    <a:pt x="2293" y="901"/>
                  </a:lnTo>
                  <a:lnTo>
                    <a:pt x="2287" y="893"/>
                  </a:lnTo>
                  <a:lnTo>
                    <a:pt x="2281" y="887"/>
                  </a:lnTo>
                  <a:lnTo>
                    <a:pt x="2274" y="881"/>
                  </a:lnTo>
                  <a:lnTo>
                    <a:pt x="2272" y="879"/>
                  </a:lnTo>
                  <a:lnTo>
                    <a:pt x="2268" y="878"/>
                  </a:lnTo>
                  <a:lnTo>
                    <a:pt x="2263" y="877"/>
                  </a:lnTo>
                  <a:lnTo>
                    <a:pt x="2260" y="875"/>
                  </a:lnTo>
                  <a:lnTo>
                    <a:pt x="2255" y="875"/>
                  </a:lnTo>
                  <a:lnTo>
                    <a:pt x="2251" y="877"/>
                  </a:lnTo>
                  <a:lnTo>
                    <a:pt x="2248" y="879"/>
                  </a:lnTo>
                  <a:lnTo>
                    <a:pt x="2245" y="881"/>
                  </a:lnTo>
                  <a:lnTo>
                    <a:pt x="2236" y="896"/>
                  </a:lnTo>
                  <a:lnTo>
                    <a:pt x="2226" y="913"/>
                  </a:lnTo>
                  <a:lnTo>
                    <a:pt x="2218" y="929"/>
                  </a:lnTo>
                  <a:lnTo>
                    <a:pt x="2209" y="946"/>
                  </a:lnTo>
                  <a:lnTo>
                    <a:pt x="2202" y="963"/>
                  </a:lnTo>
                  <a:lnTo>
                    <a:pt x="2194" y="980"/>
                  </a:lnTo>
                  <a:lnTo>
                    <a:pt x="2185" y="997"/>
                  </a:lnTo>
                  <a:lnTo>
                    <a:pt x="2177" y="1013"/>
                  </a:lnTo>
                  <a:lnTo>
                    <a:pt x="2166" y="1030"/>
                  </a:lnTo>
                  <a:lnTo>
                    <a:pt x="2157" y="1046"/>
                  </a:lnTo>
                  <a:lnTo>
                    <a:pt x="2146" y="1063"/>
                  </a:lnTo>
                  <a:lnTo>
                    <a:pt x="2136" y="1078"/>
                  </a:lnTo>
                  <a:lnTo>
                    <a:pt x="2125" y="1095"/>
                  </a:lnTo>
                  <a:lnTo>
                    <a:pt x="2113" y="1110"/>
                  </a:lnTo>
                  <a:lnTo>
                    <a:pt x="2103" y="1125"/>
                  </a:lnTo>
                  <a:lnTo>
                    <a:pt x="2089" y="1140"/>
                  </a:lnTo>
                  <a:lnTo>
                    <a:pt x="2079" y="1154"/>
                  </a:lnTo>
                  <a:lnTo>
                    <a:pt x="2065" y="1167"/>
                  </a:lnTo>
                  <a:lnTo>
                    <a:pt x="2053" y="1179"/>
                  </a:lnTo>
                  <a:lnTo>
                    <a:pt x="2040" y="1192"/>
                  </a:lnTo>
                  <a:lnTo>
                    <a:pt x="2027" y="1204"/>
                  </a:lnTo>
                  <a:lnTo>
                    <a:pt x="2014" y="1216"/>
                  </a:lnTo>
                  <a:lnTo>
                    <a:pt x="2001" y="1227"/>
                  </a:lnTo>
                  <a:lnTo>
                    <a:pt x="1986" y="1238"/>
                  </a:lnTo>
                  <a:lnTo>
                    <a:pt x="1977" y="1246"/>
                  </a:lnTo>
                  <a:lnTo>
                    <a:pt x="1966" y="1253"/>
                  </a:lnTo>
                  <a:lnTo>
                    <a:pt x="1955" y="1260"/>
                  </a:lnTo>
                  <a:lnTo>
                    <a:pt x="1944" y="1268"/>
                  </a:lnTo>
                  <a:lnTo>
                    <a:pt x="1933" y="1274"/>
                  </a:lnTo>
                  <a:lnTo>
                    <a:pt x="1923" y="1280"/>
                  </a:lnTo>
                  <a:lnTo>
                    <a:pt x="1911" y="1286"/>
                  </a:lnTo>
                  <a:lnTo>
                    <a:pt x="1900" y="1290"/>
                  </a:lnTo>
                  <a:lnTo>
                    <a:pt x="1889" y="1294"/>
                  </a:lnTo>
                  <a:lnTo>
                    <a:pt x="1878" y="1296"/>
                  </a:lnTo>
                  <a:lnTo>
                    <a:pt x="1867" y="1298"/>
                  </a:lnTo>
                  <a:lnTo>
                    <a:pt x="1857" y="1300"/>
                  </a:lnTo>
                  <a:lnTo>
                    <a:pt x="1846" y="1301"/>
                  </a:lnTo>
                  <a:lnTo>
                    <a:pt x="1835" y="1302"/>
                  </a:lnTo>
                  <a:lnTo>
                    <a:pt x="1824" y="1305"/>
                  </a:lnTo>
                  <a:lnTo>
                    <a:pt x="1813" y="1307"/>
                  </a:lnTo>
                  <a:lnTo>
                    <a:pt x="1806" y="1310"/>
                  </a:lnTo>
                  <a:lnTo>
                    <a:pt x="1799" y="1311"/>
                  </a:lnTo>
                  <a:lnTo>
                    <a:pt x="1791" y="1312"/>
                  </a:lnTo>
                  <a:lnTo>
                    <a:pt x="1783" y="1314"/>
                  </a:lnTo>
                  <a:lnTo>
                    <a:pt x="1776" y="1317"/>
                  </a:lnTo>
                  <a:lnTo>
                    <a:pt x="1770" y="1320"/>
                  </a:lnTo>
                  <a:lnTo>
                    <a:pt x="1765" y="1325"/>
                  </a:lnTo>
                  <a:lnTo>
                    <a:pt x="1761" y="1330"/>
                  </a:lnTo>
                  <a:lnTo>
                    <a:pt x="1759" y="1335"/>
                  </a:lnTo>
                  <a:lnTo>
                    <a:pt x="1759" y="1341"/>
                  </a:lnTo>
                  <a:lnTo>
                    <a:pt x="1761" y="1346"/>
                  </a:lnTo>
                  <a:lnTo>
                    <a:pt x="1763" y="1352"/>
                  </a:lnTo>
                  <a:lnTo>
                    <a:pt x="1767" y="1356"/>
                  </a:lnTo>
                  <a:lnTo>
                    <a:pt x="1770" y="1361"/>
                  </a:lnTo>
                  <a:lnTo>
                    <a:pt x="1774" y="1366"/>
                  </a:lnTo>
                  <a:lnTo>
                    <a:pt x="1779" y="1371"/>
                  </a:lnTo>
                  <a:lnTo>
                    <a:pt x="1788" y="1379"/>
                  </a:lnTo>
                  <a:lnTo>
                    <a:pt x="1798" y="1386"/>
                  </a:lnTo>
                  <a:lnTo>
                    <a:pt x="1809" y="1392"/>
                  </a:lnTo>
                  <a:lnTo>
                    <a:pt x="1819" y="1398"/>
                  </a:lnTo>
                  <a:lnTo>
                    <a:pt x="1830" y="1406"/>
                  </a:lnTo>
                  <a:lnTo>
                    <a:pt x="1841" y="1412"/>
                  </a:lnTo>
                  <a:lnTo>
                    <a:pt x="1851" y="1420"/>
                  </a:lnTo>
                  <a:lnTo>
                    <a:pt x="1859" y="1428"/>
                  </a:lnTo>
                  <a:lnTo>
                    <a:pt x="1867" y="1440"/>
                  </a:lnTo>
                  <a:lnTo>
                    <a:pt x="1876" y="1452"/>
                  </a:lnTo>
                  <a:lnTo>
                    <a:pt x="1882" y="1466"/>
                  </a:lnTo>
                  <a:lnTo>
                    <a:pt x="1888" y="1479"/>
                  </a:lnTo>
                  <a:lnTo>
                    <a:pt x="1894" y="1492"/>
                  </a:lnTo>
                  <a:lnTo>
                    <a:pt x="1900" y="1505"/>
                  </a:lnTo>
                  <a:lnTo>
                    <a:pt x="1905" y="1518"/>
                  </a:lnTo>
                  <a:lnTo>
                    <a:pt x="1911" y="1532"/>
                  </a:lnTo>
                  <a:lnTo>
                    <a:pt x="1919" y="1551"/>
                  </a:lnTo>
                  <a:lnTo>
                    <a:pt x="1926" y="1569"/>
                  </a:lnTo>
                  <a:lnTo>
                    <a:pt x="1933" y="1588"/>
                  </a:lnTo>
                  <a:lnTo>
                    <a:pt x="1941" y="1607"/>
                  </a:lnTo>
                  <a:lnTo>
                    <a:pt x="1949" y="1626"/>
                  </a:lnTo>
                  <a:lnTo>
                    <a:pt x="1957" y="1644"/>
                  </a:lnTo>
                  <a:lnTo>
                    <a:pt x="1962" y="1653"/>
                  </a:lnTo>
                  <a:lnTo>
                    <a:pt x="1968" y="1661"/>
                  </a:lnTo>
                  <a:lnTo>
                    <a:pt x="1974" y="1668"/>
                  </a:lnTo>
                  <a:lnTo>
                    <a:pt x="1980" y="1676"/>
                  </a:lnTo>
                  <a:lnTo>
                    <a:pt x="1996" y="1691"/>
                  </a:lnTo>
                  <a:lnTo>
                    <a:pt x="2014" y="1703"/>
                  </a:lnTo>
                  <a:lnTo>
                    <a:pt x="2032" y="1715"/>
                  </a:lnTo>
                  <a:lnTo>
                    <a:pt x="2051" y="1725"/>
                  </a:lnTo>
                  <a:lnTo>
                    <a:pt x="2070" y="1734"/>
                  </a:lnTo>
                  <a:lnTo>
                    <a:pt x="2091" y="1744"/>
                  </a:lnTo>
                  <a:lnTo>
                    <a:pt x="2111" y="1754"/>
                  </a:lnTo>
                  <a:lnTo>
                    <a:pt x="2130" y="1763"/>
                  </a:lnTo>
                  <a:lnTo>
                    <a:pt x="2145" y="1769"/>
                  </a:lnTo>
                  <a:lnTo>
                    <a:pt x="2159" y="1775"/>
                  </a:lnTo>
                  <a:lnTo>
                    <a:pt x="2173" y="1780"/>
                  </a:lnTo>
                  <a:lnTo>
                    <a:pt x="2189" y="1785"/>
                  </a:lnTo>
                  <a:lnTo>
                    <a:pt x="2203" y="1790"/>
                  </a:lnTo>
                  <a:lnTo>
                    <a:pt x="2218" y="1796"/>
                  </a:lnTo>
                  <a:lnTo>
                    <a:pt x="2232" y="1802"/>
                  </a:lnTo>
                  <a:lnTo>
                    <a:pt x="2245" y="1809"/>
                  </a:lnTo>
                  <a:lnTo>
                    <a:pt x="2253" y="1812"/>
                  </a:lnTo>
                  <a:lnTo>
                    <a:pt x="2259" y="1817"/>
                  </a:lnTo>
                  <a:lnTo>
                    <a:pt x="2265" y="1823"/>
                  </a:lnTo>
                  <a:lnTo>
                    <a:pt x="2271" y="1828"/>
                  </a:lnTo>
                  <a:lnTo>
                    <a:pt x="2275" y="1834"/>
                  </a:lnTo>
                  <a:lnTo>
                    <a:pt x="2280" y="1841"/>
                  </a:lnTo>
                  <a:lnTo>
                    <a:pt x="2284" y="1847"/>
                  </a:lnTo>
                  <a:lnTo>
                    <a:pt x="2286" y="1854"/>
                  </a:lnTo>
                  <a:lnTo>
                    <a:pt x="2289" y="1864"/>
                  </a:lnTo>
                  <a:lnTo>
                    <a:pt x="2290" y="1873"/>
                  </a:lnTo>
                  <a:lnTo>
                    <a:pt x="2291" y="1884"/>
                  </a:lnTo>
                  <a:lnTo>
                    <a:pt x="2291" y="1895"/>
                  </a:lnTo>
                  <a:lnTo>
                    <a:pt x="2290" y="1905"/>
                  </a:lnTo>
                  <a:lnTo>
                    <a:pt x="2286" y="1913"/>
                  </a:lnTo>
                  <a:lnTo>
                    <a:pt x="2284" y="1917"/>
                  </a:lnTo>
                  <a:lnTo>
                    <a:pt x="2281" y="1919"/>
                  </a:lnTo>
                  <a:lnTo>
                    <a:pt x="2278" y="1921"/>
                  </a:lnTo>
                  <a:lnTo>
                    <a:pt x="2274" y="1924"/>
                  </a:lnTo>
                  <a:lnTo>
                    <a:pt x="2267" y="1926"/>
                  </a:lnTo>
                  <a:lnTo>
                    <a:pt x="2260" y="1927"/>
                  </a:lnTo>
                  <a:lnTo>
                    <a:pt x="2253" y="1929"/>
                  </a:lnTo>
                  <a:lnTo>
                    <a:pt x="2245" y="1929"/>
                  </a:lnTo>
                  <a:lnTo>
                    <a:pt x="2230" y="1927"/>
                  </a:lnTo>
                  <a:lnTo>
                    <a:pt x="2214" y="1925"/>
                  </a:lnTo>
                  <a:lnTo>
                    <a:pt x="2199" y="1920"/>
                  </a:lnTo>
                  <a:lnTo>
                    <a:pt x="2183" y="1915"/>
                  </a:lnTo>
                  <a:lnTo>
                    <a:pt x="2169" y="1911"/>
                  </a:lnTo>
                  <a:lnTo>
                    <a:pt x="2153" y="1907"/>
                  </a:lnTo>
                  <a:lnTo>
                    <a:pt x="2137" y="1901"/>
                  </a:lnTo>
                  <a:lnTo>
                    <a:pt x="2121" y="1896"/>
                  </a:lnTo>
                  <a:lnTo>
                    <a:pt x="2105" y="1889"/>
                  </a:lnTo>
                  <a:lnTo>
                    <a:pt x="2089" y="1883"/>
                  </a:lnTo>
                  <a:lnTo>
                    <a:pt x="2074" y="1876"/>
                  </a:lnTo>
                  <a:lnTo>
                    <a:pt x="2058" y="1869"/>
                  </a:lnTo>
                  <a:lnTo>
                    <a:pt x="2043" y="1861"/>
                  </a:lnTo>
                  <a:lnTo>
                    <a:pt x="2027" y="1854"/>
                  </a:lnTo>
                  <a:lnTo>
                    <a:pt x="2008" y="1847"/>
                  </a:lnTo>
                  <a:lnTo>
                    <a:pt x="1989" y="1839"/>
                  </a:lnTo>
                  <a:lnTo>
                    <a:pt x="1968" y="1831"/>
                  </a:lnTo>
                  <a:lnTo>
                    <a:pt x="1949" y="1824"/>
                  </a:lnTo>
                  <a:lnTo>
                    <a:pt x="1930" y="1816"/>
                  </a:lnTo>
                  <a:lnTo>
                    <a:pt x="1912" y="1808"/>
                  </a:lnTo>
                  <a:lnTo>
                    <a:pt x="1894" y="1797"/>
                  </a:lnTo>
                  <a:lnTo>
                    <a:pt x="1877" y="1786"/>
                  </a:lnTo>
                  <a:lnTo>
                    <a:pt x="1864" y="1776"/>
                  </a:lnTo>
                  <a:lnTo>
                    <a:pt x="1852" y="1766"/>
                  </a:lnTo>
                  <a:lnTo>
                    <a:pt x="1841" y="1754"/>
                  </a:lnTo>
                  <a:lnTo>
                    <a:pt x="1830" y="1742"/>
                  </a:lnTo>
                  <a:lnTo>
                    <a:pt x="1821" y="1728"/>
                  </a:lnTo>
                  <a:lnTo>
                    <a:pt x="1811" y="1715"/>
                  </a:lnTo>
                  <a:lnTo>
                    <a:pt x="1804" y="1702"/>
                  </a:lnTo>
                  <a:lnTo>
                    <a:pt x="1795" y="1688"/>
                  </a:lnTo>
                  <a:lnTo>
                    <a:pt x="1792" y="1678"/>
                  </a:lnTo>
                  <a:lnTo>
                    <a:pt x="1789" y="1667"/>
                  </a:lnTo>
                  <a:lnTo>
                    <a:pt x="1788" y="1656"/>
                  </a:lnTo>
                  <a:lnTo>
                    <a:pt x="1788" y="1646"/>
                  </a:lnTo>
                  <a:lnTo>
                    <a:pt x="1788" y="1634"/>
                  </a:lnTo>
                  <a:lnTo>
                    <a:pt x="1788" y="1623"/>
                  </a:lnTo>
                  <a:lnTo>
                    <a:pt x="1787" y="1612"/>
                  </a:lnTo>
                  <a:lnTo>
                    <a:pt x="1785" y="1601"/>
                  </a:lnTo>
                  <a:lnTo>
                    <a:pt x="1781" y="1592"/>
                  </a:lnTo>
                  <a:lnTo>
                    <a:pt x="1777" y="1582"/>
                  </a:lnTo>
                  <a:lnTo>
                    <a:pt x="1773" y="1572"/>
                  </a:lnTo>
                  <a:lnTo>
                    <a:pt x="1769" y="1563"/>
                  </a:lnTo>
                  <a:lnTo>
                    <a:pt x="1763" y="1554"/>
                  </a:lnTo>
                  <a:lnTo>
                    <a:pt x="1758" y="1546"/>
                  </a:lnTo>
                  <a:lnTo>
                    <a:pt x="1751" y="1539"/>
                  </a:lnTo>
                  <a:lnTo>
                    <a:pt x="1744" y="1532"/>
                  </a:lnTo>
                  <a:lnTo>
                    <a:pt x="1739" y="1529"/>
                  </a:lnTo>
                  <a:lnTo>
                    <a:pt x="1733" y="1527"/>
                  </a:lnTo>
                  <a:lnTo>
                    <a:pt x="1727" y="1524"/>
                  </a:lnTo>
                  <a:lnTo>
                    <a:pt x="1720" y="1524"/>
                  </a:lnTo>
                  <a:lnTo>
                    <a:pt x="1714" y="1524"/>
                  </a:lnTo>
                  <a:lnTo>
                    <a:pt x="1708" y="1526"/>
                  </a:lnTo>
                  <a:lnTo>
                    <a:pt x="1702" y="1528"/>
                  </a:lnTo>
                  <a:lnTo>
                    <a:pt x="1698" y="1532"/>
                  </a:lnTo>
                  <a:lnTo>
                    <a:pt x="1692" y="1539"/>
                  </a:lnTo>
                  <a:lnTo>
                    <a:pt x="1687" y="1547"/>
                  </a:lnTo>
                  <a:lnTo>
                    <a:pt x="1684" y="1556"/>
                  </a:lnTo>
                  <a:lnTo>
                    <a:pt x="1680" y="1564"/>
                  </a:lnTo>
                  <a:lnTo>
                    <a:pt x="1679" y="1574"/>
                  </a:lnTo>
                  <a:lnTo>
                    <a:pt x="1677" y="1583"/>
                  </a:lnTo>
                  <a:lnTo>
                    <a:pt x="1675" y="1592"/>
                  </a:lnTo>
                  <a:lnTo>
                    <a:pt x="1674" y="1601"/>
                  </a:lnTo>
                  <a:lnTo>
                    <a:pt x="1673" y="1620"/>
                  </a:lnTo>
                  <a:lnTo>
                    <a:pt x="1672" y="1640"/>
                  </a:lnTo>
                  <a:lnTo>
                    <a:pt x="1672" y="1660"/>
                  </a:lnTo>
                  <a:lnTo>
                    <a:pt x="1672" y="1679"/>
                  </a:lnTo>
                  <a:lnTo>
                    <a:pt x="1673" y="1698"/>
                  </a:lnTo>
                  <a:lnTo>
                    <a:pt x="1673" y="1718"/>
                  </a:lnTo>
                  <a:lnTo>
                    <a:pt x="1674" y="1738"/>
                  </a:lnTo>
                  <a:lnTo>
                    <a:pt x="1674" y="1757"/>
                  </a:lnTo>
                  <a:lnTo>
                    <a:pt x="1675" y="1772"/>
                  </a:lnTo>
                  <a:lnTo>
                    <a:pt x="1677" y="1787"/>
                  </a:lnTo>
                  <a:lnTo>
                    <a:pt x="1678" y="1803"/>
                  </a:lnTo>
                  <a:lnTo>
                    <a:pt x="1680" y="1817"/>
                  </a:lnTo>
                  <a:lnTo>
                    <a:pt x="1681" y="1833"/>
                  </a:lnTo>
                  <a:lnTo>
                    <a:pt x="1681" y="1847"/>
                  </a:lnTo>
                  <a:lnTo>
                    <a:pt x="1681" y="1863"/>
                  </a:lnTo>
                  <a:lnTo>
                    <a:pt x="1680" y="1878"/>
                  </a:lnTo>
                  <a:lnTo>
                    <a:pt x="1678" y="1889"/>
                  </a:lnTo>
                  <a:lnTo>
                    <a:pt x="1674" y="1900"/>
                  </a:lnTo>
                  <a:lnTo>
                    <a:pt x="1671" y="1911"/>
                  </a:lnTo>
                  <a:lnTo>
                    <a:pt x="1666" y="1921"/>
                  </a:lnTo>
                  <a:lnTo>
                    <a:pt x="1661" y="1932"/>
                  </a:lnTo>
                  <a:lnTo>
                    <a:pt x="1655" y="1943"/>
                  </a:lnTo>
                  <a:lnTo>
                    <a:pt x="1650" y="1954"/>
                  </a:lnTo>
                  <a:lnTo>
                    <a:pt x="1645" y="1965"/>
                  </a:lnTo>
                  <a:lnTo>
                    <a:pt x="1641" y="1978"/>
                  </a:lnTo>
                  <a:lnTo>
                    <a:pt x="1637" y="1991"/>
                  </a:lnTo>
                  <a:lnTo>
                    <a:pt x="1632" y="2004"/>
                  </a:lnTo>
                  <a:lnTo>
                    <a:pt x="1629" y="2017"/>
                  </a:lnTo>
                  <a:lnTo>
                    <a:pt x="1624" y="2031"/>
                  </a:lnTo>
                  <a:lnTo>
                    <a:pt x="1619" y="2044"/>
                  </a:lnTo>
                  <a:lnTo>
                    <a:pt x="1613" y="2056"/>
                  </a:lnTo>
                  <a:lnTo>
                    <a:pt x="1606" y="2068"/>
                  </a:lnTo>
                  <a:lnTo>
                    <a:pt x="1597" y="2077"/>
                  </a:lnTo>
                  <a:lnTo>
                    <a:pt x="1590" y="2087"/>
                  </a:lnTo>
                  <a:lnTo>
                    <a:pt x="1581" y="2095"/>
                  </a:lnTo>
                  <a:lnTo>
                    <a:pt x="1571" y="2104"/>
                  </a:lnTo>
                  <a:lnTo>
                    <a:pt x="1561" y="2111"/>
                  </a:lnTo>
                  <a:lnTo>
                    <a:pt x="1552" y="2118"/>
                  </a:lnTo>
                  <a:lnTo>
                    <a:pt x="1541" y="2125"/>
                  </a:lnTo>
                  <a:lnTo>
                    <a:pt x="1530" y="2131"/>
                  </a:lnTo>
                  <a:lnTo>
                    <a:pt x="1524" y="2135"/>
                  </a:lnTo>
                  <a:lnTo>
                    <a:pt x="1517" y="2140"/>
                  </a:lnTo>
                  <a:lnTo>
                    <a:pt x="1509" y="2145"/>
                  </a:lnTo>
                  <a:lnTo>
                    <a:pt x="1501" y="2148"/>
                  </a:lnTo>
                  <a:lnTo>
                    <a:pt x="1494" y="2151"/>
                  </a:lnTo>
                  <a:lnTo>
                    <a:pt x="1486" y="2152"/>
                  </a:lnTo>
                  <a:lnTo>
                    <a:pt x="1480" y="2152"/>
                  </a:lnTo>
                  <a:lnTo>
                    <a:pt x="1473" y="2148"/>
                  </a:lnTo>
                  <a:lnTo>
                    <a:pt x="1465" y="2142"/>
                  </a:lnTo>
                  <a:lnTo>
                    <a:pt x="1458" y="2135"/>
                  </a:lnTo>
                  <a:lnTo>
                    <a:pt x="1453" y="2125"/>
                  </a:lnTo>
                  <a:lnTo>
                    <a:pt x="1450" y="2116"/>
                  </a:lnTo>
                  <a:lnTo>
                    <a:pt x="1447" y="2105"/>
                  </a:lnTo>
                  <a:lnTo>
                    <a:pt x="1445" y="2094"/>
                  </a:lnTo>
                  <a:lnTo>
                    <a:pt x="1444" y="2083"/>
                  </a:lnTo>
                  <a:lnTo>
                    <a:pt x="1444" y="2074"/>
                  </a:lnTo>
                  <a:lnTo>
                    <a:pt x="1445" y="2059"/>
                  </a:lnTo>
                  <a:lnTo>
                    <a:pt x="1446" y="2044"/>
                  </a:lnTo>
                  <a:lnTo>
                    <a:pt x="1450" y="2029"/>
                  </a:lnTo>
                  <a:lnTo>
                    <a:pt x="1453" y="2015"/>
                  </a:lnTo>
                  <a:lnTo>
                    <a:pt x="1457" y="2001"/>
                  </a:lnTo>
                  <a:lnTo>
                    <a:pt x="1463" y="1986"/>
                  </a:lnTo>
                  <a:lnTo>
                    <a:pt x="1468" y="1973"/>
                  </a:lnTo>
                  <a:lnTo>
                    <a:pt x="1473" y="1959"/>
                  </a:lnTo>
                  <a:lnTo>
                    <a:pt x="1477" y="1947"/>
                  </a:lnTo>
                  <a:lnTo>
                    <a:pt x="1483" y="1935"/>
                  </a:lnTo>
                  <a:lnTo>
                    <a:pt x="1491" y="1924"/>
                  </a:lnTo>
                  <a:lnTo>
                    <a:pt x="1497" y="1913"/>
                  </a:lnTo>
                  <a:lnTo>
                    <a:pt x="1504" y="1901"/>
                  </a:lnTo>
                  <a:lnTo>
                    <a:pt x="1510" y="1890"/>
                  </a:lnTo>
                  <a:lnTo>
                    <a:pt x="1515" y="1878"/>
                  </a:lnTo>
                  <a:lnTo>
                    <a:pt x="1519" y="1866"/>
                  </a:lnTo>
                  <a:lnTo>
                    <a:pt x="1523" y="1846"/>
                  </a:lnTo>
                  <a:lnTo>
                    <a:pt x="1528" y="1825"/>
                  </a:lnTo>
                  <a:lnTo>
                    <a:pt x="1530" y="1804"/>
                  </a:lnTo>
                  <a:lnTo>
                    <a:pt x="1534" y="1784"/>
                  </a:lnTo>
                  <a:lnTo>
                    <a:pt x="1535" y="1762"/>
                  </a:lnTo>
                  <a:lnTo>
                    <a:pt x="1536" y="1742"/>
                  </a:lnTo>
                  <a:lnTo>
                    <a:pt x="1536" y="1720"/>
                  </a:lnTo>
                  <a:lnTo>
                    <a:pt x="1536" y="1700"/>
                  </a:lnTo>
                  <a:lnTo>
                    <a:pt x="1535" y="1685"/>
                  </a:lnTo>
                  <a:lnTo>
                    <a:pt x="1534" y="1672"/>
                  </a:lnTo>
                  <a:lnTo>
                    <a:pt x="1531" y="1659"/>
                  </a:lnTo>
                  <a:lnTo>
                    <a:pt x="1528" y="1646"/>
                  </a:lnTo>
                  <a:lnTo>
                    <a:pt x="1524" y="1632"/>
                  </a:lnTo>
                  <a:lnTo>
                    <a:pt x="1519" y="1620"/>
                  </a:lnTo>
                  <a:lnTo>
                    <a:pt x="1513" y="1607"/>
                  </a:lnTo>
                  <a:lnTo>
                    <a:pt x="1507" y="1595"/>
                  </a:lnTo>
                  <a:lnTo>
                    <a:pt x="1503" y="1588"/>
                  </a:lnTo>
                  <a:lnTo>
                    <a:pt x="1498" y="1581"/>
                  </a:lnTo>
                  <a:lnTo>
                    <a:pt x="1492" y="1575"/>
                  </a:lnTo>
                  <a:lnTo>
                    <a:pt x="1486" y="1569"/>
                  </a:lnTo>
                  <a:lnTo>
                    <a:pt x="1479" y="1564"/>
                  </a:lnTo>
                  <a:lnTo>
                    <a:pt x="1471" y="1559"/>
                  </a:lnTo>
                  <a:lnTo>
                    <a:pt x="1463" y="1557"/>
                  </a:lnTo>
                  <a:lnTo>
                    <a:pt x="1456" y="1556"/>
                  </a:lnTo>
                  <a:lnTo>
                    <a:pt x="1446" y="1554"/>
                  </a:lnTo>
                  <a:lnTo>
                    <a:pt x="1437" y="1556"/>
                  </a:lnTo>
                  <a:lnTo>
                    <a:pt x="1427" y="1558"/>
                  </a:lnTo>
                  <a:lnTo>
                    <a:pt x="1417" y="1562"/>
                  </a:lnTo>
                  <a:lnTo>
                    <a:pt x="1409" y="1566"/>
                  </a:lnTo>
                  <a:lnTo>
                    <a:pt x="1401" y="1571"/>
                  </a:lnTo>
                  <a:lnTo>
                    <a:pt x="1393" y="1577"/>
                  </a:lnTo>
                  <a:lnTo>
                    <a:pt x="1386" y="1584"/>
                  </a:lnTo>
                  <a:lnTo>
                    <a:pt x="1377" y="1595"/>
                  </a:lnTo>
                  <a:lnTo>
                    <a:pt x="1369" y="1607"/>
                  </a:lnTo>
                  <a:lnTo>
                    <a:pt x="1363" y="1620"/>
                  </a:lnTo>
                  <a:lnTo>
                    <a:pt x="1357" y="1634"/>
                  </a:lnTo>
                  <a:lnTo>
                    <a:pt x="1351" y="1647"/>
                  </a:lnTo>
                  <a:lnTo>
                    <a:pt x="1347" y="1661"/>
                  </a:lnTo>
                  <a:lnTo>
                    <a:pt x="1341" y="1674"/>
                  </a:lnTo>
                  <a:lnTo>
                    <a:pt x="1335" y="1688"/>
                  </a:lnTo>
                  <a:lnTo>
                    <a:pt x="1324" y="1709"/>
                  </a:lnTo>
                  <a:lnTo>
                    <a:pt x="1313" y="1730"/>
                  </a:lnTo>
                  <a:lnTo>
                    <a:pt x="1303" y="1751"/>
                  </a:lnTo>
                  <a:lnTo>
                    <a:pt x="1293" y="1773"/>
                  </a:lnTo>
                  <a:lnTo>
                    <a:pt x="1282" y="1793"/>
                  </a:lnTo>
                  <a:lnTo>
                    <a:pt x="1271" y="1814"/>
                  </a:lnTo>
                  <a:lnTo>
                    <a:pt x="1260" y="1835"/>
                  </a:lnTo>
                  <a:lnTo>
                    <a:pt x="1248" y="1854"/>
                  </a:lnTo>
                  <a:lnTo>
                    <a:pt x="1236" y="1873"/>
                  </a:lnTo>
                  <a:lnTo>
                    <a:pt x="1224" y="1891"/>
                  </a:lnTo>
                  <a:lnTo>
                    <a:pt x="1212" y="1909"/>
                  </a:lnTo>
                  <a:lnTo>
                    <a:pt x="1200" y="1927"/>
                  </a:lnTo>
                  <a:lnTo>
                    <a:pt x="1187" y="1944"/>
                  </a:lnTo>
                  <a:lnTo>
                    <a:pt x="1174" y="1961"/>
                  </a:lnTo>
                  <a:lnTo>
                    <a:pt x="1159" y="1978"/>
                  </a:lnTo>
                  <a:lnTo>
                    <a:pt x="1144" y="1993"/>
                  </a:lnTo>
                  <a:lnTo>
                    <a:pt x="1128" y="2008"/>
                  </a:lnTo>
                  <a:lnTo>
                    <a:pt x="1111" y="2022"/>
                  </a:lnTo>
                  <a:lnTo>
                    <a:pt x="1093" y="2035"/>
                  </a:lnTo>
                  <a:lnTo>
                    <a:pt x="1075" y="2047"/>
                  </a:lnTo>
                  <a:lnTo>
                    <a:pt x="1057" y="2059"/>
                  </a:lnTo>
                  <a:lnTo>
                    <a:pt x="1038" y="2070"/>
                  </a:lnTo>
                  <a:lnTo>
                    <a:pt x="1019" y="2081"/>
                  </a:lnTo>
                  <a:lnTo>
                    <a:pt x="1000" y="2091"/>
                  </a:lnTo>
                  <a:lnTo>
                    <a:pt x="984" y="2098"/>
                  </a:lnTo>
                  <a:lnTo>
                    <a:pt x="970" y="2104"/>
                  </a:lnTo>
                  <a:lnTo>
                    <a:pt x="953" y="2109"/>
                  </a:lnTo>
                  <a:lnTo>
                    <a:pt x="937" y="2113"/>
                  </a:lnTo>
                  <a:lnTo>
                    <a:pt x="922" y="2117"/>
                  </a:lnTo>
                  <a:lnTo>
                    <a:pt x="905" y="2121"/>
                  </a:lnTo>
                  <a:lnTo>
                    <a:pt x="889" y="2123"/>
                  </a:lnTo>
                  <a:lnTo>
                    <a:pt x="873" y="2125"/>
                  </a:lnTo>
                  <a:lnTo>
                    <a:pt x="867" y="2127"/>
                  </a:lnTo>
                  <a:lnTo>
                    <a:pt x="861" y="2127"/>
                  </a:lnTo>
                  <a:lnTo>
                    <a:pt x="853" y="2127"/>
                  </a:lnTo>
                  <a:lnTo>
                    <a:pt x="847" y="2125"/>
                  </a:lnTo>
                  <a:lnTo>
                    <a:pt x="841" y="2124"/>
                  </a:lnTo>
                  <a:lnTo>
                    <a:pt x="835" y="2122"/>
                  </a:lnTo>
                  <a:lnTo>
                    <a:pt x="831" y="2118"/>
                  </a:lnTo>
                  <a:lnTo>
                    <a:pt x="827" y="2115"/>
                  </a:lnTo>
                  <a:lnTo>
                    <a:pt x="823" y="2109"/>
                  </a:lnTo>
                  <a:lnTo>
                    <a:pt x="822" y="2103"/>
                  </a:lnTo>
                  <a:lnTo>
                    <a:pt x="822" y="2097"/>
                  </a:lnTo>
                  <a:lnTo>
                    <a:pt x="822" y="2091"/>
                  </a:lnTo>
                  <a:lnTo>
                    <a:pt x="823" y="2085"/>
                  </a:lnTo>
                  <a:lnTo>
                    <a:pt x="826" y="2079"/>
                  </a:lnTo>
                  <a:lnTo>
                    <a:pt x="829" y="2073"/>
                  </a:lnTo>
                  <a:lnTo>
                    <a:pt x="832" y="2068"/>
                  </a:lnTo>
                  <a:lnTo>
                    <a:pt x="844" y="2055"/>
                  </a:lnTo>
                  <a:lnTo>
                    <a:pt x="857" y="2043"/>
                  </a:lnTo>
                  <a:lnTo>
                    <a:pt x="871" y="2031"/>
                  </a:lnTo>
                  <a:lnTo>
                    <a:pt x="886" y="2020"/>
                  </a:lnTo>
                  <a:lnTo>
                    <a:pt x="900" y="2009"/>
                  </a:lnTo>
                  <a:lnTo>
                    <a:pt x="915" y="1998"/>
                  </a:lnTo>
                  <a:lnTo>
                    <a:pt x="928" y="1987"/>
                  </a:lnTo>
                  <a:lnTo>
                    <a:pt x="942" y="1975"/>
                  </a:lnTo>
                  <a:lnTo>
                    <a:pt x="958" y="1962"/>
                  </a:lnTo>
                  <a:lnTo>
                    <a:pt x="973" y="1948"/>
                  </a:lnTo>
                  <a:lnTo>
                    <a:pt x="990" y="1935"/>
                  </a:lnTo>
                  <a:lnTo>
                    <a:pt x="1006" y="1921"/>
                  </a:lnTo>
                  <a:lnTo>
                    <a:pt x="1021" y="1907"/>
                  </a:lnTo>
                  <a:lnTo>
                    <a:pt x="1037" y="1893"/>
                  </a:lnTo>
                  <a:lnTo>
                    <a:pt x="1050" y="1877"/>
                  </a:lnTo>
                  <a:lnTo>
                    <a:pt x="1063" y="1860"/>
                  </a:lnTo>
                  <a:lnTo>
                    <a:pt x="1075" y="1842"/>
                  </a:lnTo>
                  <a:lnTo>
                    <a:pt x="1086" y="1824"/>
                  </a:lnTo>
                  <a:lnTo>
                    <a:pt x="1097" y="1805"/>
                  </a:lnTo>
                  <a:lnTo>
                    <a:pt x="1107" y="1786"/>
                  </a:lnTo>
                  <a:lnTo>
                    <a:pt x="1115" y="1767"/>
                  </a:lnTo>
                  <a:lnTo>
                    <a:pt x="1122" y="1746"/>
                  </a:lnTo>
                  <a:lnTo>
                    <a:pt x="1128" y="1726"/>
                  </a:lnTo>
                  <a:lnTo>
                    <a:pt x="1132" y="1704"/>
                  </a:lnTo>
                  <a:lnTo>
                    <a:pt x="1133" y="1696"/>
                  </a:lnTo>
                  <a:lnTo>
                    <a:pt x="1133" y="1686"/>
                  </a:lnTo>
                  <a:lnTo>
                    <a:pt x="1131" y="1676"/>
                  </a:lnTo>
                  <a:lnTo>
                    <a:pt x="1127" y="1667"/>
                  </a:lnTo>
                  <a:lnTo>
                    <a:pt x="1122" y="1658"/>
                  </a:lnTo>
                  <a:lnTo>
                    <a:pt x="1117" y="1649"/>
                  </a:lnTo>
                  <a:lnTo>
                    <a:pt x="1110" y="1642"/>
                  </a:lnTo>
                  <a:lnTo>
                    <a:pt x="1103" y="1636"/>
                  </a:lnTo>
                  <a:lnTo>
                    <a:pt x="1098" y="1632"/>
                  </a:lnTo>
                  <a:lnTo>
                    <a:pt x="1091" y="1631"/>
                  </a:lnTo>
                  <a:lnTo>
                    <a:pt x="1085" y="1632"/>
                  </a:lnTo>
                  <a:lnTo>
                    <a:pt x="1078" y="1634"/>
                  </a:lnTo>
                  <a:lnTo>
                    <a:pt x="1071" y="1636"/>
                  </a:lnTo>
                  <a:lnTo>
                    <a:pt x="1063" y="1640"/>
                  </a:lnTo>
                  <a:lnTo>
                    <a:pt x="1057" y="1643"/>
                  </a:lnTo>
                  <a:lnTo>
                    <a:pt x="1051" y="1647"/>
                  </a:lnTo>
                  <a:lnTo>
                    <a:pt x="1045" y="1653"/>
                  </a:lnTo>
                  <a:lnTo>
                    <a:pt x="1042" y="1659"/>
                  </a:lnTo>
                  <a:lnTo>
                    <a:pt x="1038" y="1666"/>
                  </a:lnTo>
                  <a:lnTo>
                    <a:pt x="1035" y="1673"/>
                  </a:lnTo>
                  <a:lnTo>
                    <a:pt x="1031" y="1680"/>
                  </a:lnTo>
                  <a:lnTo>
                    <a:pt x="1027" y="1688"/>
                  </a:lnTo>
                  <a:lnTo>
                    <a:pt x="1023" y="1694"/>
                  </a:lnTo>
                  <a:lnTo>
                    <a:pt x="1017" y="1700"/>
                  </a:lnTo>
                  <a:lnTo>
                    <a:pt x="1006" y="1707"/>
                  </a:lnTo>
                  <a:lnTo>
                    <a:pt x="994" y="1714"/>
                  </a:lnTo>
                  <a:lnTo>
                    <a:pt x="982" y="1720"/>
                  </a:lnTo>
                  <a:lnTo>
                    <a:pt x="970" y="1726"/>
                  </a:lnTo>
                  <a:lnTo>
                    <a:pt x="958" y="1731"/>
                  </a:lnTo>
                  <a:lnTo>
                    <a:pt x="945" y="1736"/>
                  </a:lnTo>
                  <a:lnTo>
                    <a:pt x="931" y="1738"/>
                  </a:lnTo>
                  <a:lnTo>
                    <a:pt x="919" y="1739"/>
                  </a:lnTo>
                  <a:lnTo>
                    <a:pt x="909" y="1739"/>
                  </a:lnTo>
                  <a:lnTo>
                    <a:pt x="899" y="1739"/>
                  </a:lnTo>
                  <a:lnTo>
                    <a:pt x="888" y="1737"/>
                  </a:lnTo>
                  <a:lnTo>
                    <a:pt x="879" y="1734"/>
                  </a:lnTo>
                  <a:lnTo>
                    <a:pt x="869" y="1731"/>
                  </a:lnTo>
                  <a:lnTo>
                    <a:pt x="861" y="1725"/>
                  </a:lnTo>
                  <a:lnTo>
                    <a:pt x="857" y="1722"/>
                  </a:lnTo>
                  <a:lnTo>
                    <a:pt x="855" y="1719"/>
                  </a:lnTo>
                  <a:lnTo>
                    <a:pt x="851" y="1715"/>
                  </a:lnTo>
                  <a:lnTo>
                    <a:pt x="850" y="1710"/>
                  </a:lnTo>
                  <a:lnTo>
                    <a:pt x="847" y="1703"/>
                  </a:lnTo>
                  <a:lnTo>
                    <a:pt x="846" y="1696"/>
                  </a:lnTo>
                  <a:lnTo>
                    <a:pt x="845" y="1689"/>
                  </a:lnTo>
                  <a:lnTo>
                    <a:pt x="845" y="1682"/>
                  </a:lnTo>
                  <a:lnTo>
                    <a:pt x="846" y="1666"/>
                  </a:lnTo>
                  <a:lnTo>
                    <a:pt x="849" y="1652"/>
                  </a:lnTo>
                  <a:lnTo>
                    <a:pt x="852" y="1636"/>
                  </a:lnTo>
                  <a:lnTo>
                    <a:pt x="856" y="1620"/>
                  </a:lnTo>
                  <a:lnTo>
                    <a:pt x="859" y="1605"/>
                  </a:lnTo>
                  <a:lnTo>
                    <a:pt x="861" y="1589"/>
                  </a:lnTo>
                  <a:lnTo>
                    <a:pt x="863" y="1578"/>
                  </a:lnTo>
                  <a:lnTo>
                    <a:pt x="864" y="1568"/>
                  </a:lnTo>
                  <a:lnTo>
                    <a:pt x="867" y="1557"/>
                  </a:lnTo>
                  <a:lnTo>
                    <a:pt x="869" y="1546"/>
                  </a:lnTo>
                  <a:lnTo>
                    <a:pt x="871" y="1534"/>
                  </a:lnTo>
                  <a:lnTo>
                    <a:pt x="871" y="1524"/>
                  </a:lnTo>
                  <a:lnTo>
                    <a:pt x="870" y="1514"/>
                  </a:lnTo>
                  <a:lnTo>
                    <a:pt x="867" y="1503"/>
                  </a:lnTo>
                  <a:lnTo>
                    <a:pt x="863" y="1498"/>
                  </a:lnTo>
                  <a:lnTo>
                    <a:pt x="858" y="1493"/>
                  </a:lnTo>
                  <a:lnTo>
                    <a:pt x="852" y="1491"/>
                  </a:lnTo>
                  <a:lnTo>
                    <a:pt x="845" y="1488"/>
                  </a:lnTo>
                  <a:lnTo>
                    <a:pt x="838" y="1487"/>
                  </a:lnTo>
                  <a:lnTo>
                    <a:pt x="829" y="1486"/>
                  </a:lnTo>
                  <a:lnTo>
                    <a:pt x="822" y="1486"/>
                  </a:lnTo>
                  <a:lnTo>
                    <a:pt x="815" y="1486"/>
                  </a:lnTo>
                  <a:lnTo>
                    <a:pt x="799" y="1487"/>
                  </a:lnTo>
                  <a:lnTo>
                    <a:pt x="783" y="1490"/>
                  </a:lnTo>
                  <a:lnTo>
                    <a:pt x="767" y="1492"/>
                  </a:lnTo>
                  <a:lnTo>
                    <a:pt x="751" y="1496"/>
                  </a:lnTo>
                  <a:lnTo>
                    <a:pt x="736" y="1499"/>
                  </a:lnTo>
                  <a:lnTo>
                    <a:pt x="720" y="1502"/>
                  </a:lnTo>
                  <a:lnTo>
                    <a:pt x="703" y="1504"/>
                  </a:lnTo>
                  <a:lnTo>
                    <a:pt x="688" y="1503"/>
                  </a:lnTo>
                  <a:lnTo>
                    <a:pt x="675" y="1502"/>
                  </a:lnTo>
                  <a:lnTo>
                    <a:pt x="660" y="1499"/>
                  </a:lnTo>
                  <a:lnTo>
                    <a:pt x="647" y="1497"/>
                  </a:lnTo>
                  <a:lnTo>
                    <a:pt x="634" y="1492"/>
                  </a:lnTo>
                  <a:lnTo>
                    <a:pt x="621" y="1487"/>
                  </a:lnTo>
                  <a:lnTo>
                    <a:pt x="609" y="1482"/>
                  </a:lnTo>
                  <a:lnTo>
                    <a:pt x="595" y="1476"/>
                  </a:lnTo>
                  <a:lnTo>
                    <a:pt x="585" y="1469"/>
                  </a:lnTo>
                  <a:lnTo>
                    <a:pt x="576" y="1462"/>
                  </a:lnTo>
                  <a:lnTo>
                    <a:pt x="569" y="1454"/>
                  </a:lnTo>
                  <a:lnTo>
                    <a:pt x="563" y="1445"/>
                  </a:lnTo>
                  <a:lnTo>
                    <a:pt x="557" y="1436"/>
                  </a:lnTo>
                  <a:lnTo>
                    <a:pt x="552" y="1425"/>
                  </a:lnTo>
                  <a:lnTo>
                    <a:pt x="546" y="1416"/>
                  </a:lnTo>
                  <a:lnTo>
                    <a:pt x="540" y="1407"/>
                  </a:lnTo>
                  <a:lnTo>
                    <a:pt x="532" y="1400"/>
                  </a:lnTo>
                  <a:lnTo>
                    <a:pt x="526" y="1395"/>
                  </a:lnTo>
                  <a:lnTo>
                    <a:pt x="520" y="1390"/>
                  </a:lnTo>
                  <a:lnTo>
                    <a:pt x="513" y="1386"/>
                  </a:lnTo>
                  <a:lnTo>
                    <a:pt x="505" y="1384"/>
                  </a:lnTo>
                  <a:lnTo>
                    <a:pt x="498" y="1380"/>
                  </a:lnTo>
                  <a:lnTo>
                    <a:pt x="490" y="1379"/>
                  </a:lnTo>
                  <a:lnTo>
                    <a:pt x="483" y="1377"/>
                  </a:lnTo>
                  <a:lnTo>
                    <a:pt x="474" y="1377"/>
                  </a:lnTo>
                  <a:lnTo>
                    <a:pt x="456" y="1376"/>
                  </a:lnTo>
                  <a:lnTo>
                    <a:pt x="437" y="1376"/>
                  </a:lnTo>
                  <a:lnTo>
                    <a:pt x="419" y="1376"/>
                  </a:lnTo>
                  <a:lnTo>
                    <a:pt x="400" y="1377"/>
                  </a:lnTo>
                  <a:lnTo>
                    <a:pt x="381" y="1378"/>
                  </a:lnTo>
                  <a:lnTo>
                    <a:pt x="363" y="1380"/>
                  </a:lnTo>
                  <a:lnTo>
                    <a:pt x="343" y="1382"/>
                  </a:lnTo>
                  <a:lnTo>
                    <a:pt x="324" y="1382"/>
                  </a:lnTo>
                  <a:lnTo>
                    <a:pt x="304" y="1383"/>
                  </a:lnTo>
                  <a:lnTo>
                    <a:pt x="282" y="1385"/>
                  </a:lnTo>
                  <a:lnTo>
                    <a:pt x="262" y="1386"/>
                  </a:lnTo>
                  <a:lnTo>
                    <a:pt x="240" y="1389"/>
                  </a:lnTo>
                  <a:lnTo>
                    <a:pt x="220" y="1390"/>
                  </a:lnTo>
                  <a:lnTo>
                    <a:pt x="199" y="1391"/>
                  </a:lnTo>
                  <a:lnTo>
                    <a:pt x="178" y="1390"/>
                  </a:lnTo>
                  <a:lnTo>
                    <a:pt x="157" y="1388"/>
                  </a:lnTo>
                  <a:lnTo>
                    <a:pt x="147" y="1385"/>
                  </a:lnTo>
                  <a:lnTo>
                    <a:pt x="137" y="1383"/>
                  </a:lnTo>
                  <a:lnTo>
                    <a:pt x="127" y="1378"/>
                  </a:lnTo>
                  <a:lnTo>
                    <a:pt x="118" y="1372"/>
                  </a:lnTo>
                  <a:lnTo>
                    <a:pt x="108" y="1367"/>
                  </a:lnTo>
                  <a:lnTo>
                    <a:pt x="100" y="1360"/>
                  </a:lnTo>
                  <a:lnTo>
                    <a:pt x="91" y="1354"/>
                  </a:lnTo>
                  <a:lnTo>
                    <a:pt x="82" y="1348"/>
                  </a:lnTo>
                  <a:lnTo>
                    <a:pt x="73" y="1342"/>
                  </a:lnTo>
                  <a:lnTo>
                    <a:pt x="65" y="1335"/>
                  </a:lnTo>
                  <a:lnTo>
                    <a:pt x="58" y="1329"/>
                  </a:lnTo>
                  <a:lnTo>
                    <a:pt x="49" y="1322"/>
                  </a:lnTo>
                  <a:lnTo>
                    <a:pt x="42" y="1314"/>
                  </a:lnTo>
                  <a:lnTo>
                    <a:pt x="35" y="1307"/>
                  </a:lnTo>
                  <a:lnTo>
                    <a:pt x="29" y="1299"/>
                  </a:lnTo>
                  <a:lnTo>
                    <a:pt x="24" y="1290"/>
                  </a:lnTo>
                  <a:lnTo>
                    <a:pt x="23" y="1283"/>
                  </a:lnTo>
                  <a:lnTo>
                    <a:pt x="22" y="1276"/>
                  </a:lnTo>
                  <a:lnTo>
                    <a:pt x="21" y="1269"/>
                  </a:lnTo>
                  <a:lnTo>
                    <a:pt x="22" y="1262"/>
                  </a:lnTo>
                  <a:lnTo>
                    <a:pt x="24" y="1254"/>
                  </a:lnTo>
                  <a:lnTo>
                    <a:pt x="27" y="1247"/>
                  </a:lnTo>
                  <a:lnTo>
                    <a:pt x="31" y="1242"/>
                  </a:lnTo>
                  <a:lnTo>
                    <a:pt x="36" y="1238"/>
                  </a:lnTo>
                  <a:lnTo>
                    <a:pt x="49" y="1232"/>
                  </a:lnTo>
                  <a:lnTo>
                    <a:pt x="63" y="1228"/>
                  </a:lnTo>
                  <a:lnTo>
                    <a:pt x="77" y="1224"/>
                  </a:lnTo>
                  <a:lnTo>
                    <a:pt x="93" y="1223"/>
                  </a:lnTo>
                  <a:lnTo>
                    <a:pt x="107" y="1222"/>
                  </a:lnTo>
                  <a:lnTo>
                    <a:pt x="121" y="1222"/>
                  </a:lnTo>
                  <a:lnTo>
                    <a:pt x="137" y="1221"/>
                  </a:lnTo>
                  <a:lnTo>
                    <a:pt x="151" y="1221"/>
                  </a:lnTo>
                  <a:lnTo>
                    <a:pt x="177" y="1221"/>
                  </a:lnTo>
                  <a:lnTo>
                    <a:pt x="201" y="1221"/>
                  </a:lnTo>
                  <a:lnTo>
                    <a:pt x="225" y="1223"/>
                  </a:lnTo>
                  <a:lnTo>
                    <a:pt x="250" y="1224"/>
                  </a:lnTo>
                  <a:lnTo>
                    <a:pt x="274" y="1227"/>
                  </a:lnTo>
                  <a:lnTo>
                    <a:pt x="299" y="1227"/>
                  </a:lnTo>
                  <a:lnTo>
                    <a:pt x="323" y="1228"/>
                  </a:lnTo>
                  <a:lnTo>
                    <a:pt x="348" y="1227"/>
                  </a:lnTo>
                  <a:lnTo>
                    <a:pt x="363" y="1224"/>
                  </a:lnTo>
                  <a:lnTo>
                    <a:pt x="377" y="1222"/>
                  </a:lnTo>
                  <a:lnTo>
                    <a:pt x="391" y="1218"/>
                  </a:lnTo>
                  <a:lnTo>
                    <a:pt x="406" y="1215"/>
                  </a:lnTo>
                  <a:lnTo>
                    <a:pt x="420" y="1210"/>
                  </a:lnTo>
                  <a:lnTo>
                    <a:pt x="435" y="1205"/>
                  </a:lnTo>
                  <a:lnTo>
                    <a:pt x="449" y="1202"/>
                  </a:lnTo>
                  <a:lnTo>
                    <a:pt x="463" y="1198"/>
                  </a:lnTo>
                  <a:lnTo>
                    <a:pt x="473" y="1196"/>
                  </a:lnTo>
                  <a:lnTo>
                    <a:pt x="481" y="1192"/>
                  </a:lnTo>
                  <a:lnTo>
                    <a:pt x="491" y="1188"/>
                  </a:lnTo>
                  <a:lnTo>
                    <a:pt x="501" y="1185"/>
                  </a:lnTo>
                  <a:lnTo>
                    <a:pt x="510" y="1182"/>
                  </a:lnTo>
                  <a:lnTo>
                    <a:pt x="520" y="1180"/>
                  </a:lnTo>
                  <a:lnTo>
                    <a:pt x="528" y="1180"/>
                  </a:lnTo>
                  <a:lnTo>
                    <a:pt x="538" y="1180"/>
                  </a:lnTo>
                  <a:lnTo>
                    <a:pt x="556" y="1185"/>
                  </a:lnTo>
                  <a:lnTo>
                    <a:pt x="574" y="1191"/>
                  </a:lnTo>
                  <a:lnTo>
                    <a:pt x="592" y="1197"/>
                  </a:lnTo>
                  <a:lnTo>
                    <a:pt x="609" y="1204"/>
                  </a:lnTo>
                  <a:lnTo>
                    <a:pt x="625" y="1212"/>
                  </a:lnTo>
                  <a:lnTo>
                    <a:pt x="643" y="1221"/>
                  </a:lnTo>
                  <a:lnTo>
                    <a:pt x="660" y="1229"/>
                  </a:lnTo>
                  <a:lnTo>
                    <a:pt x="677" y="1238"/>
                  </a:lnTo>
                  <a:lnTo>
                    <a:pt x="690" y="1246"/>
                  </a:lnTo>
                  <a:lnTo>
                    <a:pt x="705" y="1253"/>
                  </a:lnTo>
                  <a:lnTo>
                    <a:pt x="718" y="1263"/>
                  </a:lnTo>
                  <a:lnTo>
                    <a:pt x="731" y="1271"/>
                  </a:lnTo>
                  <a:lnTo>
                    <a:pt x="744" y="1280"/>
                  </a:lnTo>
                  <a:lnTo>
                    <a:pt x="757" y="1288"/>
                  </a:lnTo>
                  <a:lnTo>
                    <a:pt x="772" y="1295"/>
                  </a:lnTo>
                  <a:lnTo>
                    <a:pt x="786" y="1301"/>
                  </a:lnTo>
                  <a:lnTo>
                    <a:pt x="798" y="1306"/>
                  </a:lnTo>
                  <a:lnTo>
                    <a:pt x="810" y="1310"/>
                  </a:lnTo>
                  <a:lnTo>
                    <a:pt x="823" y="1314"/>
                  </a:lnTo>
                  <a:lnTo>
                    <a:pt x="835" y="1317"/>
                  </a:lnTo>
                  <a:lnTo>
                    <a:pt x="849" y="1319"/>
                  </a:lnTo>
                  <a:lnTo>
                    <a:pt x="861" y="1319"/>
                  </a:lnTo>
                  <a:lnTo>
                    <a:pt x="867" y="1318"/>
                  </a:lnTo>
                  <a:lnTo>
                    <a:pt x="873" y="1317"/>
                  </a:lnTo>
                  <a:lnTo>
                    <a:pt x="879" y="1316"/>
                  </a:lnTo>
                  <a:lnTo>
                    <a:pt x="885" y="1313"/>
                  </a:lnTo>
                  <a:lnTo>
                    <a:pt x="888" y="1311"/>
                  </a:lnTo>
                  <a:lnTo>
                    <a:pt x="892" y="1307"/>
                  </a:lnTo>
                  <a:lnTo>
                    <a:pt x="895" y="1304"/>
                  </a:lnTo>
                  <a:lnTo>
                    <a:pt x="899" y="1300"/>
                  </a:lnTo>
                  <a:lnTo>
                    <a:pt x="904" y="1292"/>
                  </a:lnTo>
                  <a:lnTo>
                    <a:pt x="907" y="1281"/>
                  </a:lnTo>
                  <a:lnTo>
                    <a:pt x="911" y="1270"/>
                  </a:lnTo>
                  <a:lnTo>
                    <a:pt x="912" y="1259"/>
                  </a:lnTo>
                  <a:lnTo>
                    <a:pt x="913" y="1248"/>
                  </a:lnTo>
                  <a:lnTo>
                    <a:pt x="913" y="1238"/>
                  </a:lnTo>
                  <a:lnTo>
                    <a:pt x="912" y="1227"/>
                  </a:lnTo>
                  <a:lnTo>
                    <a:pt x="910" y="1216"/>
                  </a:lnTo>
                  <a:lnTo>
                    <a:pt x="906" y="1206"/>
                  </a:lnTo>
                  <a:lnTo>
                    <a:pt x="901" y="1196"/>
                  </a:lnTo>
                  <a:lnTo>
                    <a:pt x="897" y="1186"/>
                  </a:lnTo>
                  <a:lnTo>
                    <a:pt x="891" y="1176"/>
                  </a:lnTo>
                  <a:lnTo>
                    <a:pt x="885" y="1167"/>
                  </a:lnTo>
                  <a:lnTo>
                    <a:pt x="879" y="1157"/>
                  </a:lnTo>
                  <a:lnTo>
                    <a:pt x="867" y="1142"/>
                  </a:lnTo>
                  <a:lnTo>
                    <a:pt x="855" y="1125"/>
                  </a:lnTo>
                  <a:lnTo>
                    <a:pt x="843" y="1109"/>
                  </a:lnTo>
                  <a:lnTo>
                    <a:pt x="831" y="1094"/>
                  </a:lnTo>
                  <a:lnTo>
                    <a:pt x="817" y="1078"/>
                  </a:lnTo>
                  <a:lnTo>
                    <a:pt x="803" y="1064"/>
                  </a:lnTo>
                  <a:lnTo>
                    <a:pt x="790" y="1049"/>
                  </a:lnTo>
                  <a:lnTo>
                    <a:pt x="774" y="1036"/>
                  </a:lnTo>
                  <a:lnTo>
                    <a:pt x="756" y="1022"/>
                  </a:lnTo>
                  <a:lnTo>
                    <a:pt x="738" y="1007"/>
                  </a:lnTo>
                  <a:lnTo>
                    <a:pt x="719" y="993"/>
                  </a:lnTo>
                  <a:lnTo>
                    <a:pt x="700" y="980"/>
                  </a:lnTo>
                  <a:lnTo>
                    <a:pt x="681" y="968"/>
                  </a:lnTo>
                  <a:lnTo>
                    <a:pt x="660" y="956"/>
                  </a:lnTo>
                  <a:lnTo>
                    <a:pt x="640" y="944"/>
                  </a:lnTo>
                  <a:lnTo>
                    <a:pt x="619" y="933"/>
                  </a:lnTo>
                  <a:lnTo>
                    <a:pt x="604" y="926"/>
                  </a:lnTo>
                  <a:lnTo>
                    <a:pt x="588" y="920"/>
                  </a:lnTo>
                  <a:lnTo>
                    <a:pt x="573" y="914"/>
                  </a:lnTo>
                  <a:lnTo>
                    <a:pt x="557" y="909"/>
                  </a:lnTo>
                  <a:lnTo>
                    <a:pt x="540" y="904"/>
                  </a:lnTo>
                  <a:lnTo>
                    <a:pt x="525" y="901"/>
                  </a:lnTo>
                  <a:lnTo>
                    <a:pt x="508" y="896"/>
                  </a:lnTo>
                  <a:lnTo>
                    <a:pt x="492" y="892"/>
                  </a:lnTo>
                  <a:lnTo>
                    <a:pt x="478" y="889"/>
                  </a:lnTo>
                  <a:lnTo>
                    <a:pt x="463" y="886"/>
                  </a:lnTo>
                  <a:lnTo>
                    <a:pt x="449" y="883"/>
                  </a:lnTo>
                  <a:lnTo>
                    <a:pt x="435" y="880"/>
                  </a:lnTo>
                  <a:lnTo>
                    <a:pt x="420" y="878"/>
                  </a:lnTo>
                  <a:lnTo>
                    <a:pt x="406" y="877"/>
                  </a:lnTo>
                  <a:lnTo>
                    <a:pt x="391" y="875"/>
                  </a:lnTo>
                  <a:lnTo>
                    <a:pt x="377" y="875"/>
                  </a:lnTo>
                  <a:lnTo>
                    <a:pt x="367" y="875"/>
                  </a:lnTo>
                  <a:lnTo>
                    <a:pt x="358" y="877"/>
                  </a:lnTo>
                  <a:lnTo>
                    <a:pt x="347" y="878"/>
                  </a:lnTo>
                  <a:lnTo>
                    <a:pt x="339" y="879"/>
                  </a:lnTo>
                  <a:lnTo>
                    <a:pt x="329" y="881"/>
                  </a:lnTo>
                  <a:lnTo>
                    <a:pt x="319" y="885"/>
                  </a:lnTo>
                  <a:lnTo>
                    <a:pt x="310" y="889"/>
                  </a:lnTo>
                  <a:lnTo>
                    <a:pt x="301" y="892"/>
                  </a:lnTo>
                  <a:lnTo>
                    <a:pt x="293" y="898"/>
                  </a:lnTo>
                  <a:lnTo>
                    <a:pt x="285" y="904"/>
                  </a:lnTo>
                  <a:lnTo>
                    <a:pt x="277" y="910"/>
                  </a:lnTo>
                  <a:lnTo>
                    <a:pt x="270" y="919"/>
                  </a:lnTo>
                  <a:lnTo>
                    <a:pt x="262" y="926"/>
                  </a:lnTo>
                  <a:lnTo>
                    <a:pt x="255" y="932"/>
                  </a:lnTo>
                  <a:lnTo>
                    <a:pt x="246" y="939"/>
                  </a:lnTo>
                  <a:lnTo>
                    <a:pt x="238" y="944"/>
                  </a:lnTo>
                  <a:lnTo>
                    <a:pt x="225" y="952"/>
                  </a:lnTo>
                  <a:lnTo>
                    <a:pt x="210" y="958"/>
                  </a:lnTo>
                  <a:lnTo>
                    <a:pt x="196" y="965"/>
                  </a:lnTo>
                  <a:lnTo>
                    <a:pt x="181" y="971"/>
                  </a:lnTo>
                  <a:lnTo>
                    <a:pt x="167" y="977"/>
                  </a:lnTo>
                  <a:lnTo>
                    <a:pt x="153" y="982"/>
                  </a:lnTo>
                  <a:lnTo>
                    <a:pt x="138" y="987"/>
                  </a:lnTo>
                  <a:lnTo>
                    <a:pt x="123" y="991"/>
                  </a:lnTo>
                  <a:lnTo>
                    <a:pt x="118" y="992"/>
                  </a:lnTo>
                  <a:lnTo>
                    <a:pt x="112" y="992"/>
                  </a:lnTo>
                  <a:lnTo>
                    <a:pt x="106" y="992"/>
                  </a:lnTo>
                  <a:lnTo>
                    <a:pt x="100" y="991"/>
                  </a:lnTo>
                  <a:lnTo>
                    <a:pt x="94" y="988"/>
                  </a:lnTo>
                  <a:lnTo>
                    <a:pt x="89" y="986"/>
                  </a:lnTo>
                  <a:lnTo>
                    <a:pt x="85" y="983"/>
                  </a:lnTo>
                  <a:lnTo>
                    <a:pt x="82" y="979"/>
                  </a:lnTo>
                  <a:lnTo>
                    <a:pt x="79" y="971"/>
                  </a:lnTo>
                  <a:lnTo>
                    <a:pt x="77" y="964"/>
                  </a:lnTo>
                  <a:lnTo>
                    <a:pt x="75" y="956"/>
                  </a:lnTo>
                  <a:lnTo>
                    <a:pt x="75" y="947"/>
                  </a:lnTo>
                  <a:lnTo>
                    <a:pt x="75" y="938"/>
                  </a:lnTo>
                  <a:lnTo>
                    <a:pt x="76" y="931"/>
                  </a:lnTo>
                  <a:lnTo>
                    <a:pt x="78" y="922"/>
                  </a:lnTo>
                  <a:lnTo>
                    <a:pt x="82" y="915"/>
                  </a:lnTo>
                  <a:lnTo>
                    <a:pt x="94" y="899"/>
                  </a:lnTo>
                  <a:lnTo>
                    <a:pt x="107" y="884"/>
                  </a:lnTo>
                  <a:lnTo>
                    <a:pt x="120" y="869"/>
                  </a:lnTo>
                  <a:lnTo>
                    <a:pt x="135" y="856"/>
                  </a:lnTo>
                  <a:lnTo>
                    <a:pt x="150" y="842"/>
                  </a:lnTo>
                  <a:lnTo>
                    <a:pt x="166" y="830"/>
                  </a:lnTo>
                  <a:lnTo>
                    <a:pt x="181" y="818"/>
                  </a:lnTo>
                  <a:lnTo>
                    <a:pt x="198" y="806"/>
                  </a:lnTo>
                  <a:lnTo>
                    <a:pt x="209" y="799"/>
                  </a:lnTo>
                  <a:lnTo>
                    <a:pt x="220" y="793"/>
                  </a:lnTo>
                  <a:lnTo>
                    <a:pt x="232" y="787"/>
                  </a:lnTo>
                  <a:lnTo>
                    <a:pt x="245" y="781"/>
                  </a:lnTo>
                  <a:lnTo>
                    <a:pt x="257" y="776"/>
                  </a:lnTo>
                  <a:lnTo>
                    <a:pt x="270" y="772"/>
                  </a:lnTo>
                  <a:lnTo>
                    <a:pt x="282" y="769"/>
                  </a:lnTo>
                  <a:lnTo>
                    <a:pt x="295" y="766"/>
                  </a:lnTo>
                  <a:lnTo>
                    <a:pt x="313" y="763"/>
                  </a:lnTo>
                  <a:lnTo>
                    <a:pt x="330" y="761"/>
                  </a:lnTo>
                  <a:lnTo>
                    <a:pt x="347" y="760"/>
                  </a:lnTo>
                  <a:lnTo>
                    <a:pt x="365" y="759"/>
                  </a:lnTo>
                  <a:lnTo>
                    <a:pt x="382" y="759"/>
                  </a:lnTo>
                  <a:lnTo>
                    <a:pt x="400" y="759"/>
                  </a:lnTo>
                  <a:lnTo>
                    <a:pt x="417" y="760"/>
                  </a:lnTo>
                  <a:lnTo>
                    <a:pt x="435" y="760"/>
                  </a:lnTo>
                  <a:lnTo>
                    <a:pt x="459" y="760"/>
                  </a:lnTo>
                  <a:lnTo>
                    <a:pt x="484" y="760"/>
                  </a:lnTo>
                  <a:lnTo>
                    <a:pt x="508" y="761"/>
                  </a:lnTo>
                  <a:lnTo>
                    <a:pt x="532" y="761"/>
                  </a:lnTo>
                  <a:lnTo>
                    <a:pt x="557" y="763"/>
                  </a:lnTo>
                  <a:lnTo>
                    <a:pt x="581" y="764"/>
                  </a:lnTo>
                  <a:lnTo>
                    <a:pt x="606" y="765"/>
                  </a:lnTo>
                  <a:lnTo>
                    <a:pt x="630" y="766"/>
                  </a:lnTo>
                  <a:lnTo>
                    <a:pt x="648" y="767"/>
                  </a:lnTo>
                  <a:lnTo>
                    <a:pt x="666" y="769"/>
                  </a:lnTo>
                  <a:lnTo>
                    <a:pt x="684" y="770"/>
                  </a:lnTo>
                  <a:lnTo>
                    <a:pt x="702" y="772"/>
                  </a:lnTo>
                  <a:lnTo>
                    <a:pt x="720" y="775"/>
                  </a:lnTo>
                  <a:lnTo>
                    <a:pt x="738" y="776"/>
                  </a:lnTo>
                  <a:lnTo>
                    <a:pt x="756" y="777"/>
                  </a:lnTo>
                  <a:lnTo>
                    <a:pt x="774" y="777"/>
                  </a:lnTo>
                  <a:lnTo>
                    <a:pt x="785" y="777"/>
                  </a:lnTo>
                  <a:lnTo>
                    <a:pt x="796" y="778"/>
                  </a:lnTo>
                  <a:lnTo>
                    <a:pt x="807" y="778"/>
                  </a:lnTo>
                  <a:lnTo>
                    <a:pt x="817" y="778"/>
                  </a:lnTo>
                  <a:lnTo>
                    <a:pt x="828" y="777"/>
                  </a:lnTo>
                  <a:lnTo>
                    <a:pt x="838" y="775"/>
                  </a:lnTo>
                  <a:lnTo>
                    <a:pt x="847" y="771"/>
                  </a:lnTo>
                  <a:lnTo>
                    <a:pt x="856" y="766"/>
                  </a:lnTo>
                  <a:close/>
                </a:path>
              </a:pathLst>
            </a:custGeom>
            <a:solidFill>
              <a:srgbClr val="f2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81680" y="5238720"/>
              <a:ext cx="209520" cy="209520"/>
            </a:xfrm>
            <a:custGeom>
              <a:avLst/>
              <a:gdLst/>
              <a:ahLst/>
              <a:rect l="l" t="t" r="r" b="b"/>
              <a:pathLst>
                <a:path w="526" h="527">
                  <a:moveTo>
                    <a:pt x="262" y="0"/>
                  </a:moveTo>
                  <a:lnTo>
                    <a:pt x="277" y="0"/>
                  </a:lnTo>
                  <a:lnTo>
                    <a:pt x="290" y="2"/>
                  </a:lnTo>
                  <a:lnTo>
                    <a:pt x="303" y="4"/>
                  </a:lnTo>
                  <a:lnTo>
                    <a:pt x="315" y="5"/>
                  </a:lnTo>
                  <a:lnTo>
                    <a:pt x="328" y="9"/>
                  </a:lnTo>
                  <a:lnTo>
                    <a:pt x="340" y="12"/>
                  </a:lnTo>
                  <a:lnTo>
                    <a:pt x="354" y="16"/>
                  </a:lnTo>
                  <a:lnTo>
                    <a:pt x="366" y="21"/>
                  </a:lnTo>
                  <a:lnTo>
                    <a:pt x="376" y="27"/>
                  </a:lnTo>
                  <a:lnTo>
                    <a:pt x="388" y="33"/>
                  </a:lnTo>
                  <a:lnTo>
                    <a:pt x="399" y="39"/>
                  </a:lnTo>
                  <a:lnTo>
                    <a:pt x="410" y="46"/>
                  </a:lnTo>
                  <a:lnTo>
                    <a:pt x="421" y="53"/>
                  </a:lnTo>
                  <a:lnTo>
                    <a:pt x="430" y="60"/>
                  </a:lnTo>
                  <a:lnTo>
                    <a:pt x="440" y="69"/>
                  </a:lnTo>
                  <a:lnTo>
                    <a:pt x="448" y="77"/>
                  </a:lnTo>
                  <a:lnTo>
                    <a:pt x="458" y="87"/>
                  </a:lnTo>
                  <a:lnTo>
                    <a:pt x="466" y="96"/>
                  </a:lnTo>
                  <a:lnTo>
                    <a:pt x="474" y="106"/>
                  </a:lnTo>
                  <a:lnTo>
                    <a:pt x="481" y="117"/>
                  </a:lnTo>
                  <a:lnTo>
                    <a:pt x="488" y="128"/>
                  </a:lnTo>
                  <a:lnTo>
                    <a:pt x="494" y="138"/>
                  </a:lnTo>
                  <a:lnTo>
                    <a:pt x="500" y="150"/>
                  </a:lnTo>
                  <a:lnTo>
                    <a:pt x="506" y="161"/>
                  </a:lnTo>
                  <a:lnTo>
                    <a:pt x="511" y="173"/>
                  </a:lnTo>
                  <a:lnTo>
                    <a:pt x="514" y="185"/>
                  </a:lnTo>
                  <a:lnTo>
                    <a:pt x="518" y="198"/>
                  </a:lnTo>
                  <a:lnTo>
                    <a:pt x="520" y="210"/>
                  </a:lnTo>
                  <a:lnTo>
                    <a:pt x="523" y="223"/>
                  </a:lnTo>
                  <a:lnTo>
                    <a:pt x="525" y="237"/>
                  </a:lnTo>
                  <a:lnTo>
                    <a:pt x="526" y="250"/>
                  </a:lnTo>
                  <a:lnTo>
                    <a:pt x="526" y="264"/>
                  </a:lnTo>
                  <a:lnTo>
                    <a:pt x="526" y="277"/>
                  </a:lnTo>
                  <a:lnTo>
                    <a:pt x="525" y="291"/>
                  </a:lnTo>
                  <a:lnTo>
                    <a:pt x="523" y="304"/>
                  </a:lnTo>
                  <a:lnTo>
                    <a:pt x="520" y="317"/>
                  </a:lnTo>
                  <a:lnTo>
                    <a:pt x="518" y="329"/>
                  </a:lnTo>
                  <a:lnTo>
                    <a:pt x="514" y="342"/>
                  </a:lnTo>
                  <a:lnTo>
                    <a:pt x="511" y="354"/>
                  </a:lnTo>
                  <a:lnTo>
                    <a:pt x="506" y="366"/>
                  </a:lnTo>
                  <a:lnTo>
                    <a:pt x="500" y="378"/>
                  </a:lnTo>
                  <a:lnTo>
                    <a:pt x="494" y="389"/>
                  </a:lnTo>
                  <a:lnTo>
                    <a:pt x="488" y="400"/>
                  </a:lnTo>
                  <a:lnTo>
                    <a:pt x="481" y="411"/>
                  </a:lnTo>
                  <a:lnTo>
                    <a:pt x="474" y="421"/>
                  </a:lnTo>
                  <a:lnTo>
                    <a:pt x="466" y="431"/>
                  </a:lnTo>
                  <a:lnTo>
                    <a:pt x="458" y="441"/>
                  </a:lnTo>
                  <a:lnTo>
                    <a:pt x="448" y="450"/>
                  </a:lnTo>
                  <a:lnTo>
                    <a:pt x="440" y="459"/>
                  </a:lnTo>
                  <a:lnTo>
                    <a:pt x="430" y="467"/>
                  </a:lnTo>
                  <a:lnTo>
                    <a:pt x="421" y="474"/>
                  </a:lnTo>
                  <a:lnTo>
                    <a:pt x="410" y="481"/>
                  </a:lnTo>
                  <a:lnTo>
                    <a:pt x="399" y="489"/>
                  </a:lnTo>
                  <a:lnTo>
                    <a:pt x="388" y="496"/>
                  </a:lnTo>
                  <a:lnTo>
                    <a:pt x="376" y="501"/>
                  </a:lnTo>
                  <a:lnTo>
                    <a:pt x="366" y="507"/>
                  </a:lnTo>
                  <a:lnTo>
                    <a:pt x="354" y="511"/>
                  </a:lnTo>
                  <a:lnTo>
                    <a:pt x="340" y="515"/>
                  </a:lnTo>
                  <a:lnTo>
                    <a:pt x="328" y="519"/>
                  </a:lnTo>
                  <a:lnTo>
                    <a:pt x="315" y="522"/>
                  </a:lnTo>
                  <a:lnTo>
                    <a:pt x="303" y="525"/>
                  </a:lnTo>
                  <a:lnTo>
                    <a:pt x="290" y="526"/>
                  </a:lnTo>
                  <a:lnTo>
                    <a:pt x="277" y="527"/>
                  </a:lnTo>
                  <a:lnTo>
                    <a:pt x="262" y="527"/>
                  </a:lnTo>
                  <a:lnTo>
                    <a:pt x="249" y="527"/>
                  </a:lnTo>
                  <a:lnTo>
                    <a:pt x="236" y="526"/>
                  </a:lnTo>
                  <a:lnTo>
                    <a:pt x="223" y="525"/>
                  </a:lnTo>
                  <a:lnTo>
                    <a:pt x="210" y="522"/>
                  </a:lnTo>
                  <a:lnTo>
                    <a:pt x="196" y="519"/>
                  </a:lnTo>
                  <a:lnTo>
                    <a:pt x="184" y="515"/>
                  </a:lnTo>
                  <a:lnTo>
                    <a:pt x="172" y="511"/>
                  </a:lnTo>
                  <a:lnTo>
                    <a:pt x="160" y="507"/>
                  </a:lnTo>
                  <a:lnTo>
                    <a:pt x="148" y="501"/>
                  </a:lnTo>
                  <a:lnTo>
                    <a:pt x="138" y="496"/>
                  </a:lnTo>
                  <a:lnTo>
                    <a:pt x="126" y="489"/>
                  </a:lnTo>
                  <a:lnTo>
                    <a:pt x="116" y="481"/>
                  </a:lnTo>
                  <a:lnTo>
                    <a:pt x="105" y="474"/>
                  </a:lnTo>
                  <a:lnTo>
                    <a:pt x="96" y="467"/>
                  </a:lnTo>
                  <a:lnTo>
                    <a:pt x="86" y="459"/>
                  </a:lnTo>
                  <a:lnTo>
                    <a:pt x="76" y="450"/>
                  </a:lnTo>
                  <a:lnTo>
                    <a:pt x="68" y="441"/>
                  </a:lnTo>
                  <a:lnTo>
                    <a:pt x="60" y="431"/>
                  </a:lnTo>
                  <a:lnTo>
                    <a:pt x="51" y="421"/>
                  </a:lnTo>
                  <a:lnTo>
                    <a:pt x="44" y="411"/>
                  </a:lnTo>
                  <a:lnTo>
                    <a:pt x="37" y="400"/>
                  </a:lnTo>
                  <a:lnTo>
                    <a:pt x="31" y="389"/>
                  </a:lnTo>
                  <a:lnTo>
                    <a:pt x="25" y="378"/>
                  </a:lnTo>
                  <a:lnTo>
                    <a:pt x="20" y="366"/>
                  </a:lnTo>
                  <a:lnTo>
                    <a:pt x="15" y="354"/>
                  </a:lnTo>
                  <a:lnTo>
                    <a:pt x="10" y="342"/>
                  </a:lnTo>
                  <a:lnTo>
                    <a:pt x="7" y="329"/>
                  </a:lnTo>
                  <a:lnTo>
                    <a:pt x="4" y="317"/>
                  </a:lnTo>
                  <a:lnTo>
                    <a:pt x="2" y="304"/>
                  </a:lnTo>
                  <a:lnTo>
                    <a:pt x="1" y="291"/>
                  </a:lnTo>
                  <a:lnTo>
                    <a:pt x="0" y="277"/>
                  </a:lnTo>
                  <a:lnTo>
                    <a:pt x="0" y="264"/>
                  </a:lnTo>
                  <a:lnTo>
                    <a:pt x="0" y="250"/>
                  </a:lnTo>
                  <a:lnTo>
                    <a:pt x="1" y="237"/>
                  </a:lnTo>
                  <a:lnTo>
                    <a:pt x="2" y="223"/>
                  </a:lnTo>
                  <a:lnTo>
                    <a:pt x="4" y="210"/>
                  </a:lnTo>
                  <a:lnTo>
                    <a:pt x="7" y="198"/>
                  </a:lnTo>
                  <a:lnTo>
                    <a:pt x="10" y="185"/>
                  </a:lnTo>
                  <a:lnTo>
                    <a:pt x="15" y="173"/>
                  </a:lnTo>
                  <a:lnTo>
                    <a:pt x="20" y="161"/>
                  </a:lnTo>
                  <a:lnTo>
                    <a:pt x="25" y="150"/>
                  </a:lnTo>
                  <a:lnTo>
                    <a:pt x="31" y="138"/>
                  </a:lnTo>
                  <a:lnTo>
                    <a:pt x="37" y="128"/>
                  </a:lnTo>
                  <a:lnTo>
                    <a:pt x="44" y="117"/>
                  </a:lnTo>
                  <a:lnTo>
                    <a:pt x="51" y="106"/>
                  </a:lnTo>
                  <a:lnTo>
                    <a:pt x="60" y="96"/>
                  </a:lnTo>
                  <a:lnTo>
                    <a:pt x="68" y="87"/>
                  </a:lnTo>
                  <a:lnTo>
                    <a:pt x="76" y="77"/>
                  </a:lnTo>
                  <a:lnTo>
                    <a:pt x="86" y="69"/>
                  </a:lnTo>
                  <a:lnTo>
                    <a:pt x="96" y="60"/>
                  </a:lnTo>
                  <a:lnTo>
                    <a:pt x="105" y="53"/>
                  </a:lnTo>
                  <a:lnTo>
                    <a:pt x="116" y="46"/>
                  </a:lnTo>
                  <a:lnTo>
                    <a:pt x="126" y="39"/>
                  </a:lnTo>
                  <a:lnTo>
                    <a:pt x="138" y="33"/>
                  </a:lnTo>
                  <a:lnTo>
                    <a:pt x="148" y="27"/>
                  </a:lnTo>
                  <a:lnTo>
                    <a:pt x="160" y="21"/>
                  </a:lnTo>
                  <a:lnTo>
                    <a:pt x="172" y="16"/>
                  </a:lnTo>
                  <a:lnTo>
                    <a:pt x="184" y="12"/>
                  </a:lnTo>
                  <a:lnTo>
                    <a:pt x="196" y="9"/>
                  </a:lnTo>
                  <a:lnTo>
                    <a:pt x="210" y="5"/>
                  </a:lnTo>
                  <a:lnTo>
                    <a:pt x="223" y="4"/>
                  </a:lnTo>
                  <a:lnTo>
                    <a:pt x="236" y="2"/>
                  </a:lnTo>
                  <a:lnTo>
                    <a:pt x="249" y="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92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986440" y="5232240"/>
              <a:ext cx="111240" cy="111240"/>
            </a:xfrm>
            <a:custGeom>
              <a:avLst/>
              <a:gdLst/>
              <a:ahLst/>
              <a:rect l="l" t="t" r="r" b="b"/>
              <a:pathLst>
                <a:path w="281" h="280">
                  <a:moveTo>
                    <a:pt x="281" y="280"/>
                  </a:moveTo>
                  <a:lnTo>
                    <a:pt x="281" y="280"/>
                  </a:lnTo>
                  <a:lnTo>
                    <a:pt x="281" y="266"/>
                  </a:lnTo>
                  <a:lnTo>
                    <a:pt x="280" y="251"/>
                  </a:lnTo>
                  <a:lnTo>
                    <a:pt x="279" y="237"/>
                  </a:lnTo>
                  <a:lnTo>
                    <a:pt x="276" y="224"/>
                  </a:lnTo>
                  <a:lnTo>
                    <a:pt x="273" y="209"/>
                  </a:lnTo>
                  <a:lnTo>
                    <a:pt x="269" y="196"/>
                  </a:lnTo>
                  <a:lnTo>
                    <a:pt x="264" y="183"/>
                  </a:lnTo>
                  <a:lnTo>
                    <a:pt x="260" y="171"/>
                  </a:lnTo>
                  <a:lnTo>
                    <a:pt x="254" y="158"/>
                  </a:lnTo>
                  <a:lnTo>
                    <a:pt x="248" y="146"/>
                  </a:lnTo>
                  <a:lnTo>
                    <a:pt x="240" y="134"/>
                  </a:lnTo>
                  <a:lnTo>
                    <a:pt x="233" y="123"/>
                  </a:lnTo>
                  <a:lnTo>
                    <a:pt x="226" y="112"/>
                  </a:lnTo>
                  <a:lnTo>
                    <a:pt x="218" y="102"/>
                  </a:lnTo>
                  <a:lnTo>
                    <a:pt x="208" y="91"/>
                  </a:lnTo>
                  <a:lnTo>
                    <a:pt x="200" y="81"/>
                  </a:lnTo>
                  <a:lnTo>
                    <a:pt x="190" y="72"/>
                  </a:lnTo>
                  <a:lnTo>
                    <a:pt x="179" y="63"/>
                  </a:lnTo>
                  <a:lnTo>
                    <a:pt x="168" y="55"/>
                  </a:lnTo>
                  <a:lnTo>
                    <a:pt x="158" y="48"/>
                  </a:lnTo>
                  <a:lnTo>
                    <a:pt x="146" y="40"/>
                  </a:lnTo>
                  <a:lnTo>
                    <a:pt x="135" y="33"/>
                  </a:lnTo>
                  <a:lnTo>
                    <a:pt x="123" y="27"/>
                  </a:lnTo>
                  <a:lnTo>
                    <a:pt x="110" y="21"/>
                  </a:lnTo>
                  <a:lnTo>
                    <a:pt x="98" y="16"/>
                  </a:lnTo>
                  <a:lnTo>
                    <a:pt x="84" y="12"/>
                  </a:lnTo>
                  <a:lnTo>
                    <a:pt x="71" y="8"/>
                  </a:lnTo>
                  <a:lnTo>
                    <a:pt x="57" y="4"/>
                  </a:lnTo>
                  <a:lnTo>
                    <a:pt x="44" y="2"/>
                  </a:lnTo>
                  <a:lnTo>
                    <a:pt x="29" y="1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14" y="34"/>
                  </a:lnTo>
                  <a:lnTo>
                    <a:pt x="26" y="36"/>
                  </a:lnTo>
                  <a:lnTo>
                    <a:pt x="38" y="37"/>
                  </a:lnTo>
                  <a:lnTo>
                    <a:pt x="51" y="39"/>
                  </a:lnTo>
                  <a:lnTo>
                    <a:pt x="62" y="42"/>
                  </a:lnTo>
                  <a:lnTo>
                    <a:pt x="74" y="45"/>
                  </a:lnTo>
                  <a:lnTo>
                    <a:pt x="86" y="49"/>
                  </a:lnTo>
                  <a:lnTo>
                    <a:pt x="96" y="54"/>
                  </a:lnTo>
                  <a:lnTo>
                    <a:pt x="107" y="58"/>
                  </a:lnTo>
                  <a:lnTo>
                    <a:pt x="118" y="63"/>
                  </a:lnTo>
                  <a:lnTo>
                    <a:pt x="129" y="69"/>
                  </a:lnTo>
                  <a:lnTo>
                    <a:pt x="138" y="76"/>
                  </a:lnTo>
                  <a:lnTo>
                    <a:pt x="148" y="82"/>
                  </a:lnTo>
                  <a:lnTo>
                    <a:pt x="158" y="90"/>
                  </a:lnTo>
                  <a:lnTo>
                    <a:pt x="166" y="98"/>
                  </a:lnTo>
                  <a:lnTo>
                    <a:pt x="174" y="106"/>
                  </a:lnTo>
                  <a:lnTo>
                    <a:pt x="183" y="115"/>
                  </a:lnTo>
                  <a:lnTo>
                    <a:pt x="191" y="123"/>
                  </a:lnTo>
                  <a:lnTo>
                    <a:pt x="198" y="133"/>
                  </a:lnTo>
                  <a:lnTo>
                    <a:pt x="204" y="142"/>
                  </a:lnTo>
                  <a:lnTo>
                    <a:pt x="212" y="152"/>
                  </a:lnTo>
                  <a:lnTo>
                    <a:pt x="218" y="163"/>
                  </a:lnTo>
                  <a:lnTo>
                    <a:pt x="222" y="174"/>
                  </a:lnTo>
                  <a:lnTo>
                    <a:pt x="227" y="184"/>
                  </a:lnTo>
                  <a:lnTo>
                    <a:pt x="232" y="195"/>
                  </a:lnTo>
                  <a:lnTo>
                    <a:pt x="236" y="207"/>
                  </a:lnTo>
                  <a:lnTo>
                    <a:pt x="239" y="218"/>
                  </a:lnTo>
                  <a:lnTo>
                    <a:pt x="242" y="230"/>
                  </a:lnTo>
                  <a:lnTo>
                    <a:pt x="244" y="242"/>
                  </a:lnTo>
                  <a:lnTo>
                    <a:pt x="245" y="255"/>
                  </a:lnTo>
                  <a:lnTo>
                    <a:pt x="246" y="267"/>
                  </a:lnTo>
                  <a:lnTo>
                    <a:pt x="246" y="280"/>
                  </a:lnTo>
                  <a:lnTo>
                    <a:pt x="246" y="280"/>
                  </a:lnTo>
                  <a:lnTo>
                    <a:pt x="281" y="28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86440" y="5343480"/>
              <a:ext cx="111240" cy="111240"/>
            </a:xfrm>
            <a:custGeom>
              <a:avLst/>
              <a:gdLst/>
              <a:ahLst/>
              <a:rect l="l" t="t" r="r" b="b"/>
              <a:pathLst>
                <a:path w="281" h="281">
                  <a:moveTo>
                    <a:pt x="0" y="281"/>
                  </a:moveTo>
                  <a:lnTo>
                    <a:pt x="0" y="281"/>
                  </a:lnTo>
                  <a:lnTo>
                    <a:pt x="15" y="280"/>
                  </a:lnTo>
                  <a:lnTo>
                    <a:pt x="29" y="279"/>
                  </a:lnTo>
                  <a:lnTo>
                    <a:pt x="44" y="277"/>
                  </a:lnTo>
                  <a:lnTo>
                    <a:pt x="57" y="275"/>
                  </a:lnTo>
                  <a:lnTo>
                    <a:pt x="71" y="271"/>
                  </a:lnTo>
                  <a:lnTo>
                    <a:pt x="84" y="268"/>
                  </a:lnTo>
                  <a:lnTo>
                    <a:pt x="98" y="263"/>
                  </a:lnTo>
                  <a:lnTo>
                    <a:pt x="110" y="258"/>
                  </a:lnTo>
                  <a:lnTo>
                    <a:pt x="123" y="252"/>
                  </a:lnTo>
                  <a:lnTo>
                    <a:pt x="135" y="246"/>
                  </a:lnTo>
                  <a:lnTo>
                    <a:pt x="147" y="240"/>
                  </a:lnTo>
                  <a:lnTo>
                    <a:pt x="158" y="232"/>
                  </a:lnTo>
                  <a:lnTo>
                    <a:pt x="168" y="225"/>
                  </a:lnTo>
                  <a:lnTo>
                    <a:pt x="179" y="216"/>
                  </a:lnTo>
                  <a:lnTo>
                    <a:pt x="190" y="208"/>
                  </a:lnTo>
                  <a:lnTo>
                    <a:pt x="200" y="198"/>
                  </a:lnTo>
                  <a:lnTo>
                    <a:pt x="208" y="189"/>
                  </a:lnTo>
                  <a:lnTo>
                    <a:pt x="218" y="178"/>
                  </a:lnTo>
                  <a:lnTo>
                    <a:pt x="226" y="167"/>
                  </a:lnTo>
                  <a:lnTo>
                    <a:pt x="233" y="156"/>
                  </a:lnTo>
                  <a:lnTo>
                    <a:pt x="240" y="145"/>
                  </a:lnTo>
                  <a:lnTo>
                    <a:pt x="248" y="133"/>
                  </a:lnTo>
                  <a:lnTo>
                    <a:pt x="254" y="121"/>
                  </a:lnTo>
                  <a:lnTo>
                    <a:pt x="260" y="109"/>
                  </a:lnTo>
                  <a:lnTo>
                    <a:pt x="264" y="96"/>
                  </a:lnTo>
                  <a:lnTo>
                    <a:pt x="269" y="83"/>
                  </a:lnTo>
                  <a:lnTo>
                    <a:pt x="273" y="70"/>
                  </a:lnTo>
                  <a:lnTo>
                    <a:pt x="276" y="57"/>
                  </a:lnTo>
                  <a:lnTo>
                    <a:pt x="279" y="42"/>
                  </a:lnTo>
                  <a:lnTo>
                    <a:pt x="280" y="28"/>
                  </a:lnTo>
                  <a:lnTo>
                    <a:pt x="281" y="15"/>
                  </a:lnTo>
                  <a:lnTo>
                    <a:pt x="281" y="0"/>
                  </a:lnTo>
                  <a:lnTo>
                    <a:pt x="246" y="0"/>
                  </a:lnTo>
                  <a:lnTo>
                    <a:pt x="246" y="12"/>
                  </a:lnTo>
                  <a:lnTo>
                    <a:pt x="245" y="24"/>
                  </a:lnTo>
                  <a:lnTo>
                    <a:pt x="244" y="37"/>
                  </a:lnTo>
                  <a:lnTo>
                    <a:pt x="242" y="49"/>
                  </a:lnTo>
                  <a:lnTo>
                    <a:pt x="239" y="61"/>
                  </a:lnTo>
                  <a:lnTo>
                    <a:pt x="236" y="72"/>
                  </a:lnTo>
                  <a:lnTo>
                    <a:pt x="232" y="84"/>
                  </a:lnTo>
                  <a:lnTo>
                    <a:pt x="227" y="95"/>
                  </a:lnTo>
                  <a:lnTo>
                    <a:pt x="222" y="106"/>
                  </a:lnTo>
                  <a:lnTo>
                    <a:pt x="218" y="117"/>
                  </a:lnTo>
                  <a:lnTo>
                    <a:pt x="212" y="127"/>
                  </a:lnTo>
                  <a:lnTo>
                    <a:pt x="204" y="137"/>
                  </a:lnTo>
                  <a:lnTo>
                    <a:pt x="198" y="147"/>
                  </a:lnTo>
                  <a:lnTo>
                    <a:pt x="191" y="156"/>
                  </a:lnTo>
                  <a:lnTo>
                    <a:pt x="183" y="165"/>
                  </a:lnTo>
                  <a:lnTo>
                    <a:pt x="174" y="173"/>
                  </a:lnTo>
                  <a:lnTo>
                    <a:pt x="166" y="181"/>
                  </a:lnTo>
                  <a:lnTo>
                    <a:pt x="158" y="190"/>
                  </a:lnTo>
                  <a:lnTo>
                    <a:pt x="148" y="197"/>
                  </a:lnTo>
                  <a:lnTo>
                    <a:pt x="138" y="203"/>
                  </a:lnTo>
                  <a:lnTo>
                    <a:pt x="128" y="210"/>
                  </a:lnTo>
                  <a:lnTo>
                    <a:pt x="118" y="216"/>
                  </a:lnTo>
                  <a:lnTo>
                    <a:pt x="107" y="221"/>
                  </a:lnTo>
                  <a:lnTo>
                    <a:pt x="96" y="226"/>
                  </a:lnTo>
                  <a:lnTo>
                    <a:pt x="86" y="231"/>
                  </a:lnTo>
                  <a:lnTo>
                    <a:pt x="74" y="234"/>
                  </a:lnTo>
                  <a:lnTo>
                    <a:pt x="62" y="238"/>
                  </a:lnTo>
                  <a:lnTo>
                    <a:pt x="51" y="240"/>
                  </a:lnTo>
                  <a:lnTo>
                    <a:pt x="38" y="243"/>
                  </a:lnTo>
                  <a:lnTo>
                    <a:pt x="26" y="245"/>
                  </a:lnTo>
                  <a:lnTo>
                    <a:pt x="14" y="245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73760" y="5343480"/>
              <a:ext cx="112680" cy="111240"/>
            </a:xfrm>
            <a:custGeom>
              <a:avLst/>
              <a:gdLst/>
              <a:ahLst/>
              <a:rect l="l" t="t" r="r" b="b"/>
              <a:pathLst>
                <a:path w="280" h="28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1" y="28"/>
                  </a:lnTo>
                  <a:lnTo>
                    <a:pt x="3" y="42"/>
                  </a:lnTo>
                  <a:lnTo>
                    <a:pt x="6" y="57"/>
                  </a:lnTo>
                  <a:lnTo>
                    <a:pt x="8" y="70"/>
                  </a:lnTo>
                  <a:lnTo>
                    <a:pt x="13" y="83"/>
                  </a:lnTo>
                  <a:lnTo>
                    <a:pt x="16" y="96"/>
                  </a:lnTo>
                  <a:lnTo>
                    <a:pt x="22" y="109"/>
                  </a:lnTo>
                  <a:lnTo>
                    <a:pt x="27" y="121"/>
                  </a:lnTo>
                  <a:lnTo>
                    <a:pt x="33" y="133"/>
                  </a:lnTo>
                  <a:lnTo>
                    <a:pt x="40" y="145"/>
                  </a:lnTo>
                  <a:lnTo>
                    <a:pt x="48" y="156"/>
                  </a:lnTo>
                  <a:lnTo>
                    <a:pt x="56" y="167"/>
                  </a:lnTo>
                  <a:lnTo>
                    <a:pt x="64" y="178"/>
                  </a:lnTo>
                  <a:lnTo>
                    <a:pt x="73" y="189"/>
                  </a:lnTo>
                  <a:lnTo>
                    <a:pt x="82" y="198"/>
                  </a:lnTo>
                  <a:lnTo>
                    <a:pt x="92" y="208"/>
                  </a:lnTo>
                  <a:lnTo>
                    <a:pt x="102" y="216"/>
                  </a:lnTo>
                  <a:lnTo>
                    <a:pt x="112" y="225"/>
                  </a:lnTo>
                  <a:lnTo>
                    <a:pt x="123" y="232"/>
                  </a:lnTo>
                  <a:lnTo>
                    <a:pt x="135" y="240"/>
                  </a:lnTo>
                  <a:lnTo>
                    <a:pt x="147" y="246"/>
                  </a:lnTo>
                  <a:lnTo>
                    <a:pt x="159" y="252"/>
                  </a:lnTo>
                  <a:lnTo>
                    <a:pt x="171" y="258"/>
                  </a:lnTo>
                  <a:lnTo>
                    <a:pt x="184" y="263"/>
                  </a:lnTo>
                  <a:lnTo>
                    <a:pt x="198" y="268"/>
                  </a:lnTo>
                  <a:lnTo>
                    <a:pt x="211" y="271"/>
                  </a:lnTo>
                  <a:lnTo>
                    <a:pt x="224" y="275"/>
                  </a:lnTo>
                  <a:lnTo>
                    <a:pt x="238" y="277"/>
                  </a:lnTo>
                  <a:lnTo>
                    <a:pt x="252" y="279"/>
                  </a:lnTo>
                  <a:lnTo>
                    <a:pt x="266" y="280"/>
                  </a:lnTo>
                  <a:lnTo>
                    <a:pt x="280" y="281"/>
                  </a:lnTo>
                  <a:lnTo>
                    <a:pt x="280" y="246"/>
                  </a:lnTo>
                  <a:lnTo>
                    <a:pt x="268" y="245"/>
                  </a:lnTo>
                  <a:lnTo>
                    <a:pt x="255" y="245"/>
                  </a:lnTo>
                  <a:lnTo>
                    <a:pt x="243" y="243"/>
                  </a:lnTo>
                  <a:lnTo>
                    <a:pt x="231" y="240"/>
                  </a:lnTo>
                  <a:lnTo>
                    <a:pt x="219" y="238"/>
                  </a:lnTo>
                  <a:lnTo>
                    <a:pt x="207" y="234"/>
                  </a:lnTo>
                  <a:lnTo>
                    <a:pt x="196" y="231"/>
                  </a:lnTo>
                  <a:lnTo>
                    <a:pt x="184" y="226"/>
                  </a:lnTo>
                  <a:lnTo>
                    <a:pt x="174" y="221"/>
                  </a:lnTo>
                  <a:lnTo>
                    <a:pt x="164" y="216"/>
                  </a:lnTo>
                  <a:lnTo>
                    <a:pt x="153" y="210"/>
                  </a:lnTo>
                  <a:lnTo>
                    <a:pt x="144" y="203"/>
                  </a:lnTo>
                  <a:lnTo>
                    <a:pt x="134" y="197"/>
                  </a:lnTo>
                  <a:lnTo>
                    <a:pt x="124" y="190"/>
                  </a:lnTo>
                  <a:lnTo>
                    <a:pt x="115" y="181"/>
                  </a:lnTo>
                  <a:lnTo>
                    <a:pt x="106" y="173"/>
                  </a:lnTo>
                  <a:lnTo>
                    <a:pt x="98" y="165"/>
                  </a:lnTo>
                  <a:lnTo>
                    <a:pt x="91" y="156"/>
                  </a:lnTo>
                  <a:lnTo>
                    <a:pt x="84" y="147"/>
                  </a:lnTo>
                  <a:lnTo>
                    <a:pt x="76" y="137"/>
                  </a:lnTo>
                  <a:lnTo>
                    <a:pt x="70" y="127"/>
                  </a:lnTo>
                  <a:lnTo>
                    <a:pt x="64" y="117"/>
                  </a:lnTo>
                  <a:lnTo>
                    <a:pt x="58" y="106"/>
                  </a:lnTo>
                  <a:lnTo>
                    <a:pt x="54" y="95"/>
                  </a:lnTo>
                  <a:lnTo>
                    <a:pt x="49" y="84"/>
                  </a:lnTo>
                  <a:lnTo>
                    <a:pt x="45" y="72"/>
                  </a:lnTo>
                  <a:lnTo>
                    <a:pt x="42" y="61"/>
                  </a:lnTo>
                  <a:lnTo>
                    <a:pt x="39" y="49"/>
                  </a:lnTo>
                  <a:lnTo>
                    <a:pt x="37" y="37"/>
                  </a:lnTo>
                  <a:lnTo>
                    <a:pt x="36" y="25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73760" y="5232240"/>
              <a:ext cx="112680" cy="11124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0"/>
                  </a:moveTo>
                  <a:lnTo>
                    <a:pt x="280" y="0"/>
                  </a:lnTo>
                  <a:lnTo>
                    <a:pt x="266" y="0"/>
                  </a:lnTo>
                  <a:lnTo>
                    <a:pt x="252" y="1"/>
                  </a:lnTo>
                  <a:lnTo>
                    <a:pt x="238" y="2"/>
                  </a:lnTo>
                  <a:lnTo>
                    <a:pt x="224" y="4"/>
                  </a:lnTo>
                  <a:lnTo>
                    <a:pt x="211" y="8"/>
                  </a:lnTo>
                  <a:lnTo>
                    <a:pt x="198" y="12"/>
                  </a:lnTo>
                  <a:lnTo>
                    <a:pt x="184" y="16"/>
                  </a:lnTo>
                  <a:lnTo>
                    <a:pt x="171" y="21"/>
                  </a:lnTo>
                  <a:lnTo>
                    <a:pt x="159" y="27"/>
                  </a:lnTo>
                  <a:lnTo>
                    <a:pt x="147" y="33"/>
                  </a:lnTo>
                  <a:lnTo>
                    <a:pt x="135" y="40"/>
                  </a:lnTo>
                  <a:lnTo>
                    <a:pt x="123" y="48"/>
                  </a:lnTo>
                  <a:lnTo>
                    <a:pt x="112" y="55"/>
                  </a:lnTo>
                  <a:lnTo>
                    <a:pt x="102" y="63"/>
                  </a:lnTo>
                  <a:lnTo>
                    <a:pt x="92" y="72"/>
                  </a:lnTo>
                  <a:lnTo>
                    <a:pt x="82" y="81"/>
                  </a:lnTo>
                  <a:lnTo>
                    <a:pt x="73" y="91"/>
                  </a:lnTo>
                  <a:lnTo>
                    <a:pt x="64" y="102"/>
                  </a:lnTo>
                  <a:lnTo>
                    <a:pt x="56" y="112"/>
                  </a:lnTo>
                  <a:lnTo>
                    <a:pt x="48" y="123"/>
                  </a:lnTo>
                  <a:lnTo>
                    <a:pt x="40" y="134"/>
                  </a:lnTo>
                  <a:lnTo>
                    <a:pt x="33" y="146"/>
                  </a:lnTo>
                  <a:lnTo>
                    <a:pt x="27" y="158"/>
                  </a:lnTo>
                  <a:lnTo>
                    <a:pt x="22" y="171"/>
                  </a:lnTo>
                  <a:lnTo>
                    <a:pt x="16" y="183"/>
                  </a:lnTo>
                  <a:lnTo>
                    <a:pt x="13" y="196"/>
                  </a:lnTo>
                  <a:lnTo>
                    <a:pt x="8" y="209"/>
                  </a:lnTo>
                  <a:lnTo>
                    <a:pt x="6" y="224"/>
                  </a:lnTo>
                  <a:lnTo>
                    <a:pt x="3" y="237"/>
                  </a:lnTo>
                  <a:lnTo>
                    <a:pt x="1" y="251"/>
                  </a:lnTo>
                  <a:lnTo>
                    <a:pt x="0" y="266"/>
                  </a:lnTo>
                  <a:lnTo>
                    <a:pt x="0" y="280"/>
                  </a:lnTo>
                  <a:lnTo>
                    <a:pt x="34" y="280"/>
                  </a:lnTo>
                  <a:lnTo>
                    <a:pt x="34" y="267"/>
                  </a:lnTo>
                  <a:lnTo>
                    <a:pt x="36" y="255"/>
                  </a:lnTo>
                  <a:lnTo>
                    <a:pt x="37" y="242"/>
                  </a:lnTo>
                  <a:lnTo>
                    <a:pt x="39" y="230"/>
                  </a:lnTo>
                  <a:lnTo>
                    <a:pt x="42" y="218"/>
                  </a:lnTo>
                  <a:lnTo>
                    <a:pt x="45" y="207"/>
                  </a:lnTo>
                  <a:lnTo>
                    <a:pt x="49" y="195"/>
                  </a:lnTo>
                  <a:lnTo>
                    <a:pt x="54" y="184"/>
                  </a:lnTo>
                  <a:lnTo>
                    <a:pt x="58" y="174"/>
                  </a:lnTo>
                  <a:lnTo>
                    <a:pt x="64" y="163"/>
                  </a:lnTo>
                  <a:lnTo>
                    <a:pt x="70" y="152"/>
                  </a:lnTo>
                  <a:lnTo>
                    <a:pt x="76" y="142"/>
                  </a:lnTo>
                  <a:lnTo>
                    <a:pt x="84" y="133"/>
                  </a:lnTo>
                  <a:lnTo>
                    <a:pt x="91" y="123"/>
                  </a:lnTo>
                  <a:lnTo>
                    <a:pt x="98" y="115"/>
                  </a:lnTo>
                  <a:lnTo>
                    <a:pt x="106" y="106"/>
                  </a:lnTo>
                  <a:lnTo>
                    <a:pt x="115" y="98"/>
                  </a:lnTo>
                  <a:lnTo>
                    <a:pt x="124" y="90"/>
                  </a:lnTo>
                  <a:lnTo>
                    <a:pt x="134" y="82"/>
                  </a:lnTo>
                  <a:lnTo>
                    <a:pt x="144" y="76"/>
                  </a:lnTo>
                  <a:lnTo>
                    <a:pt x="153" y="69"/>
                  </a:lnTo>
                  <a:lnTo>
                    <a:pt x="164" y="63"/>
                  </a:lnTo>
                  <a:lnTo>
                    <a:pt x="174" y="58"/>
                  </a:lnTo>
                  <a:lnTo>
                    <a:pt x="184" y="54"/>
                  </a:lnTo>
                  <a:lnTo>
                    <a:pt x="196" y="49"/>
                  </a:lnTo>
                  <a:lnTo>
                    <a:pt x="207" y="45"/>
                  </a:lnTo>
                  <a:lnTo>
                    <a:pt x="219" y="42"/>
                  </a:lnTo>
                  <a:lnTo>
                    <a:pt x="231" y="39"/>
                  </a:lnTo>
                  <a:lnTo>
                    <a:pt x="243" y="37"/>
                  </a:lnTo>
                  <a:lnTo>
                    <a:pt x="255" y="36"/>
                  </a:lnTo>
                  <a:lnTo>
                    <a:pt x="268" y="34"/>
                  </a:lnTo>
                  <a:lnTo>
                    <a:pt x="280" y="34"/>
                  </a:lnTo>
                  <a:lnTo>
                    <a:pt x="280" y="34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011480" y="2685960"/>
              <a:ext cx="648000" cy="647640"/>
            </a:xfrm>
            <a:custGeom>
              <a:avLst/>
              <a:gdLst/>
              <a:ahLst/>
              <a:rect l="l" t="t" r="r" b="b"/>
              <a:pathLst>
                <a:path w="1632" h="1630">
                  <a:moveTo>
                    <a:pt x="816" y="0"/>
                  </a:moveTo>
                  <a:lnTo>
                    <a:pt x="858" y="1"/>
                  </a:lnTo>
                  <a:lnTo>
                    <a:pt x="899" y="3"/>
                  </a:lnTo>
                  <a:lnTo>
                    <a:pt x="940" y="9"/>
                  </a:lnTo>
                  <a:lnTo>
                    <a:pt x="981" y="17"/>
                  </a:lnTo>
                  <a:lnTo>
                    <a:pt x="1019" y="25"/>
                  </a:lnTo>
                  <a:lnTo>
                    <a:pt x="1059" y="36"/>
                  </a:lnTo>
                  <a:lnTo>
                    <a:pt x="1096" y="49"/>
                  </a:lnTo>
                  <a:lnTo>
                    <a:pt x="1133" y="63"/>
                  </a:lnTo>
                  <a:lnTo>
                    <a:pt x="1169" y="80"/>
                  </a:lnTo>
                  <a:lnTo>
                    <a:pt x="1204" y="98"/>
                  </a:lnTo>
                  <a:lnTo>
                    <a:pt x="1239" y="117"/>
                  </a:lnTo>
                  <a:lnTo>
                    <a:pt x="1271" y="139"/>
                  </a:lnTo>
                  <a:lnTo>
                    <a:pt x="1304" y="162"/>
                  </a:lnTo>
                  <a:lnTo>
                    <a:pt x="1335" y="186"/>
                  </a:lnTo>
                  <a:lnTo>
                    <a:pt x="1364" y="212"/>
                  </a:lnTo>
                  <a:lnTo>
                    <a:pt x="1392" y="239"/>
                  </a:lnTo>
                  <a:lnTo>
                    <a:pt x="1420" y="267"/>
                  </a:lnTo>
                  <a:lnTo>
                    <a:pt x="1445" y="296"/>
                  </a:lnTo>
                  <a:lnTo>
                    <a:pt x="1469" y="327"/>
                  </a:lnTo>
                  <a:lnTo>
                    <a:pt x="1492" y="360"/>
                  </a:lnTo>
                  <a:lnTo>
                    <a:pt x="1514" y="392"/>
                  </a:lnTo>
                  <a:lnTo>
                    <a:pt x="1533" y="427"/>
                  </a:lnTo>
                  <a:lnTo>
                    <a:pt x="1551" y="462"/>
                  </a:lnTo>
                  <a:lnTo>
                    <a:pt x="1568" y="498"/>
                  </a:lnTo>
                  <a:lnTo>
                    <a:pt x="1582" y="535"/>
                  </a:lnTo>
                  <a:lnTo>
                    <a:pt x="1595" y="573"/>
                  </a:lnTo>
                  <a:lnTo>
                    <a:pt x="1606" y="612"/>
                  </a:lnTo>
                  <a:lnTo>
                    <a:pt x="1616" y="651"/>
                  </a:lnTo>
                  <a:lnTo>
                    <a:pt x="1623" y="691"/>
                  </a:lnTo>
                  <a:lnTo>
                    <a:pt x="1628" y="732"/>
                  </a:lnTo>
                  <a:lnTo>
                    <a:pt x="1631" y="774"/>
                  </a:lnTo>
                  <a:lnTo>
                    <a:pt x="1632" y="814"/>
                  </a:lnTo>
                  <a:lnTo>
                    <a:pt x="1631" y="856"/>
                  </a:lnTo>
                  <a:lnTo>
                    <a:pt x="1628" y="898"/>
                  </a:lnTo>
                  <a:lnTo>
                    <a:pt x="1623" y="939"/>
                  </a:lnTo>
                  <a:lnTo>
                    <a:pt x="1616" y="979"/>
                  </a:lnTo>
                  <a:lnTo>
                    <a:pt x="1606" y="1018"/>
                  </a:lnTo>
                  <a:lnTo>
                    <a:pt x="1595" y="1057"/>
                  </a:lnTo>
                  <a:lnTo>
                    <a:pt x="1582" y="1095"/>
                  </a:lnTo>
                  <a:lnTo>
                    <a:pt x="1568" y="1132"/>
                  </a:lnTo>
                  <a:lnTo>
                    <a:pt x="1551" y="1168"/>
                  </a:lnTo>
                  <a:lnTo>
                    <a:pt x="1533" y="1203"/>
                  </a:lnTo>
                  <a:lnTo>
                    <a:pt x="1514" y="1237"/>
                  </a:lnTo>
                  <a:lnTo>
                    <a:pt x="1492" y="1270"/>
                  </a:lnTo>
                  <a:lnTo>
                    <a:pt x="1469" y="1303"/>
                  </a:lnTo>
                  <a:lnTo>
                    <a:pt x="1445" y="1333"/>
                  </a:lnTo>
                  <a:lnTo>
                    <a:pt x="1420" y="1363"/>
                  </a:lnTo>
                  <a:lnTo>
                    <a:pt x="1392" y="1392"/>
                  </a:lnTo>
                  <a:lnTo>
                    <a:pt x="1364" y="1418"/>
                  </a:lnTo>
                  <a:lnTo>
                    <a:pt x="1335" y="1444"/>
                  </a:lnTo>
                  <a:lnTo>
                    <a:pt x="1304" y="1468"/>
                  </a:lnTo>
                  <a:lnTo>
                    <a:pt x="1271" y="1491"/>
                  </a:lnTo>
                  <a:lnTo>
                    <a:pt x="1239" y="1513"/>
                  </a:lnTo>
                  <a:lnTo>
                    <a:pt x="1204" y="1532"/>
                  </a:lnTo>
                  <a:lnTo>
                    <a:pt x="1169" y="1550"/>
                  </a:lnTo>
                  <a:lnTo>
                    <a:pt x="1133" y="1567"/>
                  </a:lnTo>
                  <a:lnTo>
                    <a:pt x="1096" y="1581"/>
                  </a:lnTo>
                  <a:lnTo>
                    <a:pt x="1059" y="1594"/>
                  </a:lnTo>
                  <a:lnTo>
                    <a:pt x="1019" y="1605"/>
                  </a:lnTo>
                  <a:lnTo>
                    <a:pt x="981" y="1613"/>
                  </a:lnTo>
                  <a:lnTo>
                    <a:pt x="940" y="1621"/>
                  </a:lnTo>
                  <a:lnTo>
                    <a:pt x="899" y="1627"/>
                  </a:lnTo>
                  <a:lnTo>
                    <a:pt x="858" y="1629"/>
                  </a:lnTo>
                  <a:lnTo>
                    <a:pt x="816" y="1630"/>
                  </a:lnTo>
                  <a:lnTo>
                    <a:pt x="774" y="1629"/>
                  </a:lnTo>
                  <a:lnTo>
                    <a:pt x="734" y="1627"/>
                  </a:lnTo>
                  <a:lnTo>
                    <a:pt x="693" y="1621"/>
                  </a:lnTo>
                  <a:lnTo>
                    <a:pt x="652" y="1613"/>
                  </a:lnTo>
                  <a:lnTo>
                    <a:pt x="612" y="1605"/>
                  </a:lnTo>
                  <a:lnTo>
                    <a:pt x="574" y="1594"/>
                  </a:lnTo>
                  <a:lnTo>
                    <a:pt x="537" y="1581"/>
                  </a:lnTo>
                  <a:lnTo>
                    <a:pt x="500" y="1567"/>
                  </a:lnTo>
                  <a:lnTo>
                    <a:pt x="464" y="1550"/>
                  </a:lnTo>
                  <a:lnTo>
                    <a:pt x="428" y="1532"/>
                  </a:lnTo>
                  <a:lnTo>
                    <a:pt x="394" y="1513"/>
                  </a:lnTo>
                  <a:lnTo>
                    <a:pt x="360" y="1491"/>
                  </a:lnTo>
                  <a:lnTo>
                    <a:pt x="329" y="1468"/>
                  </a:lnTo>
                  <a:lnTo>
                    <a:pt x="298" y="1444"/>
                  </a:lnTo>
                  <a:lnTo>
                    <a:pt x="268" y="1418"/>
                  </a:lnTo>
                  <a:lnTo>
                    <a:pt x="240" y="1392"/>
                  </a:lnTo>
                  <a:lnTo>
                    <a:pt x="213" y="1363"/>
                  </a:lnTo>
                  <a:lnTo>
                    <a:pt x="188" y="1333"/>
                  </a:lnTo>
                  <a:lnTo>
                    <a:pt x="162" y="1303"/>
                  </a:lnTo>
                  <a:lnTo>
                    <a:pt x="140" y="1270"/>
                  </a:lnTo>
                  <a:lnTo>
                    <a:pt x="119" y="1237"/>
                  </a:lnTo>
                  <a:lnTo>
                    <a:pt x="99" y="1203"/>
                  </a:lnTo>
                  <a:lnTo>
                    <a:pt x="81" y="1168"/>
                  </a:lnTo>
                  <a:lnTo>
                    <a:pt x="65" y="1132"/>
                  </a:lnTo>
                  <a:lnTo>
                    <a:pt x="50" y="1095"/>
                  </a:lnTo>
                  <a:lnTo>
                    <a:pt x="38" y="1057"/>
                  </a:lnTo>
                  <a:lnTo>
                    <a:pt x="27" y="1018"/>
                  </a:lnTo>
                  <a:lnTo>
                    <a:pt x="17" y="979"/>
                  </a:lnTo>
                  <a:lnTo>
                    <a:pt x="10" y="939"/>
                  </a:lnTo>
                  <a:lnTo>
                    <a:pt x="5" y="898"/>
                  </a:lnTo>
                  <a:lnTo>
                    <a:pt x="2" y="856"/>
                  </a:lnTo>
                  <a:lnTo>
                    <a:pt x="0" y="814"/>
                  </a:lnTo>
                  <a:lnTo>
                    <a:pt x="2" y="774"/>
                  </a:lnTo>
                  <a:lnTo>
                    <a:pt x="5" y="732"/>
                  </a:lnTo>
                  <a:lnTo>
                    <a:pt x="10" y="691"/>
                  </a:lnTo>
                  <a:lnTo>
                    <a:pt x="17" y="651"/>
                  </a:lnTo>
                  <a:lnTo>
                    <a:pt x="27" y="612"/>
                  </a:lnTo>
                  <a:lnTo>
                    <a:pt x="38" y="573"/>
                  </a:lnTo>
                  <a:lnTo>
                    <a:pt x="50" y="535"/>
                  </a:lnTo>
                  <a:lnTo>
                    <a:pt x="65" y="498"/>
                  </a:lnTo>
                  <a:lnTo>
                    <a:pt x="81" y="462"/>
                  </a:lnTo>
                  <a:lnTo>
                    <a:pt x="99" y="427"/>
                  </a:lnTo>
                  <a:lnTo>
                    <a:pt x="119" y="392"/>
                  </a:lnTo>
                  <a:lnTo>
                    <a:pt x="140" y="360"/>
                  </a:lnTo>
                  <a:lnTo>
                    <a:pt x="162" y="327"/>
                  </a:lnTo>
                  <a:lnTo>
                    <a:pt x="188" y="296"/>
                  </a:lnTo>
                  <a:lnTo>
                    <a:pt x="213" y="267"/>
                  </a:lnTo>
                  <a:lnTo>
                    <a:pt x="240" y="239"/>
                  </a:lnTo>
                  <a:lnTo>
                    <a:pt x="268" y="212"/>
                  </a:lnTo>
                  <a:lnTo>
                    <a:pt x="298" y="186"/>
                  </a:lnTo>
                  <a:lnTo>
                    <a:pt x="329" y="162"/>
                  </a:lnTo>
                  <a:lnTo>
                    <a:pt x="360" y="139"/>
                  </a:lnTo>
                  <a:lnTo>
                    <a:pt x="394" y="117"/>
                  </a:lnTo>
                  <a:lnTo>
                    <a:pt x="428" y="98"/>
                  </a:lnTo>
                  <a:lnTo>
                    <a:pt x="464" y="80"/>
                  </a:lnTo>
                  <a:lnTo>
                    <a:pt x="500" y="63"/>
                  </a:lnTo>
                  <a:lnTo>
                    <a:pt x="537" y="49"/>
                  </a:lnTo>
                  <a:lnTo>
                    <a:pt x="574" y="36"/>
                  </a:lnTo>
                  <a:lnTo>
                    <a:pt x="612" y="25"/>
                  </a:lnTo>
                  <a:lnTo>
                    <a:pt x="652" y="17"/>
                  </a:lnTo>
                  <a:lnTo>
                    <a:pt x="693" y="9"/>
                  </a:lnTo>
                  <a:lnTo>
                    <a:pt x="734" y="3"/>
                  </a:lnTo>
                  <a:lnTo>
                    <a:pt x="774" y="1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be8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35480" y="2678040"/>
              <a:ext cx="330120" cy="33192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833" y="832"/>
                  </a:moveTo>
                  <a:lnTo>
                    <a:pt x="833" y="832"/>
                  </a:lnTo>
                  <a:lnTo>
                    <a:pt x="832" y="790"/>
                  </a:lnTo>
                  <a:lnTo>
                    <a:pt x="828" y="748"/>
                  </a:lnTo>
                  <a:lnTo>
                    <a:pt x="824" y="707"/>
                  </a:lnTo>
                  <a:lnTo>
                    <a:pt x="816" y="666"/>
                  </a:lnTo>
                  <a:lnTo>
                    <a:pt x="807" y="625"/>
                  </a:lnTo>
                  <a:lnTo>
                    <a:pt x="796" y="585"/>
                  </a:lnTo>
                  <a:lnTo>
                    <a:pt x="783" y="547"/>
                  </a:lnTo>
                  <a:lnTo>
                    <a:pt x="767" y="510"/>
                  </a:lnTo>
                  <a:lnTo>
                    <a:pt x="750" y="473"/>
                  </a:lnTo>
                  <a:lnTo>
                    <a:pt x="732" y="437"/>
                  </a:lnTo>
                  <a:lnTo>
                    <a:pt x="712" y="402"/>
                  </a:lnTo>
                  <a:lnTo>
                    <a:pt x="690" y="368"/>
                  </a:lnTo>
                  <a:lnTo>
                    <a:pt x="668" y="335"/>
                  </a:lnTo>
                  <a:lnTo>
                    <a:pt x="642" y="303"/>
                  </a:lnTo>
                  <a:lnTo>
                    <a:pt x="616" y="273"/>
                  </a:lnTo>
                  <a:lnTo>
                    <a:pt x="588" y="245"/>
                  </a:lnTo>
                  <a:lnTo>
                    <a:pt x="560" y="217"/>
                  </a:lnTo>
                  <a:lnTo>
                    <a:pt x="530" y="191"/>
                  </a:lnTo>
                  <a:lnTo>
                    <a:pt x="498" y="165"/>
                  </a:lnTo>
                  <a:lnTo>
                    <a:pt x="466" y="143"/>
                  </a:lnTo>
                  <a:lnTo>
                    <a:pt x="431" y="121"/>
                  </a:lnTo>
                  <a:lnTo>
                    <a:pt x="396" y="101"/>
                  </a:lnTo>
                  <a:lnTo>
                    <a:pt x="360" y="83"/>
                  </a:lnTo>
                  <a:lnTo>
                    <a:pt x="324" y="66"/>
                  </a:lnTo>
                  <a:lnTo>
                    <a:pt x="286" y="50"/>
                  </a:lnTo>
                  <a:lnTo>
                    <a:pt x="248" y="38"/>
                  </a:lnTo>
                  <a:lnTo>
                    <a:pt x="208" y="26"/>
                  </a:lnTo>
                  <a:lnTo>
                    <a:pt x="167" y="17"/>
                  </a:lnTo>
                  <a:lnTo>
                    <a:pt x="126" y="9"/>
                  </a:lnTo>
                  <a:lnTo>
                    <a:pt x="86" y="5"/>
                  </a:lnTo>
                  <a:lnTo>
                    <a:pt x="42" y="1"/>
                  </a:lnTo>
                  <a:lnTo>
                    <a:pt x="0" y="0"/>
                  </a:lnTo>
                  <a:lnTo>
                    <a:pt x="0" y="35"/>
                  </a:lnTo>
                  <a:lnTo>
                    <a:pt x="41" y="36"/>
                  </a:lnTo>
                  <a:lnTo>
                    <a:pt x="82" y="39"/>
                  </a:lnTo>
                  <a:lnTo>
                    <a:pt x="122" y="44"/>
                  </a:lnTo>
                  <a:lnTo>
                    <a:pt x="161" y="51"/>
                  </a:lnTo>
                  <a:lnTo>
                    <a:pt x="200" y="60"/>
                  </a:lnTo>
                  <a:lnTo>
                    <a:pt x="237" y="71"/>
                  </a:lnTo>
                  <a:lnTo>
                    <a:pt x="274" y="84"/>
                  </a:lnTo>
                  <a:lnTo>
                    <a:pt x="310" y="98"/>
                  </a:lnTo>
                  <a:lnTo>
                    <a:pt x="346" y="114"/>
                  </a:lnTo>
                  <a:lnTo>
                    <a:pt x="380" y="132"/>
                  </a:lnTo>
                  <a:lnTo>
                    <a:pt x="413" y="151"/>
                  </a:lnTo>
                  <a:lnTo>
                    <a:pt x="446" y="171"/>
                  </a:lnTo>
                  <a:lnTo>
                    <a:pt x="477" y="194"/>
                  </a:lnTo>
                  <a:lnTo>
                    <a:pt x="508" y="217"/>
                  </a:lnTo>
                  <a:lnTo>
                    <a:pt x="537" y="242"/>
                  </a:lnTo>
                  <a:lnTo>
                    <a:pt x="564" y="269"/>
                  </a:lnTo>
                  <a:lnTo>
                    <a:pt x="591" y="297"/>
                  </a:lnTo>
                  <a:lnTo>
                    <a:pt x="616" y="326"/>
                  </a:lnTo>
                  <a:lnTo>
                    <a:pt x="640" y="356"/>
                  </a:lnTo>
                  <a:lnTo>
                    <a:pt x="662" y="387"/>
                  </a:lnTo>
                  <a:lnTo>
                    <a:pt x="683" y="420"/>
                  </a:lnTo>
                  <a:lnTo>
                    <a:pt x="702" y="453"/>
                  </a:lnTo>
                  <a:lnTo>
                    <a:pt x="719" y="487"/>
                  </a:lnTo>
                  <a:lnTo>
                    <a:pt x="736" y="523"/>
                  </a:lnTo>
                  <a:lnTo>
                    <a:pt x="750" y="559"/>
                  </a:lnTo>
                  <a:lnTo>
                    <a:pt x="762" y="596"/>
                  </a:lnTo>
                  <a:lnTo>
                    <a:pt x="773" y="635"/>
                  </a:lnTo>
                  <a:lnTo>
                    <a:pt x="783" y="673"/>
                  </a:lnTo>
                  <a:lnTo>
                    <a:pt x="789" y="711"/>
                  </a:lnTo>
                  <a:lnTo>
                    <a:pt x="795" y="752"/>
                  </a:lnTo>
                  <a:lnTo>
                    <a:pt x="797" y="792"/>
                  </a:lnTo>
                  <a:lnTo>
                    <a:pt x="798" y="832"/>
                  </a:lnTo>
                  <a:lnTo>
                    <a:pt x="798" y="832"/>
                  </a:lnTo>
                  <a:lnTo>
                    <a:pt x="833" y="83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335480" y="3009960"/>
              <a:ext cx="330120" cy="330120"/>
            </a:xfrm>
            <a:custGeom>
              <a:avLst/>
              <a:gdLst/>
              <a:ahLst/>
              <a:rect l="l" t="t" r="r" b="b"/>
              <a:pathLst>
                <a:path w="833" h="834">
                  <a:moveTo>
                    <a:pt x="0" y="834"/>
                  </a:moveTo>
                  <a:lnTo>
                    <a:pt x="0" y="834"/>
                  </a:lnTo>
                  <a:lnTo>
                    <a:pt x="42" y="833"/>
                  </a:lnTo>
                  <a:lnTo>
                    <a:pt x="86" y="829"/>
                  </a:lnTo>
                  <a:lnTo>
                    <a:pt x="126" y="825"/>
                  </a:lnTo>
                  <a:lnTo>
                    <a:pt x="167" y="816"/>
                  </a:lnTo>
                  <a:lnTo>
                    <a:pt x="208" y="808"/>
                  </a:lnTo>
                  <a:lnTo>
                    <a:pt x="248" y="796"/>
                  </a:lnTo>
                  <a:lnTo>
                    <a:pt x="286" y="783"/>
                  </a:lnTo>
                  <a:lnTo>
                    <a:pt x="324" y="768"/>
                  </a:lnTo>
                  <a:lnTo>
                    <a:pt x="360" y="751"/>
                  </a:lnTo>
                  <a:lnTo>
                    <a:pt x="396" y="733"/>
                  </a:lnTo>
                  <a:lnTo>
                    <a:pt x="431" y="713"/>
                  </a:lnTo>
                  <a:lnTo>
                    <a:pt x="466" y="691"/>
                  </a:lnTo>
                  <a:lnTo>
                    <a:pt x="498" y="667"/>
                  </a:lnTo>
                  <a:lnTo>
                    <a:pt x="530" y="643"/>
                  </a:lnTo>
                  <a:lnTo>
                    <a:pt x="560" y="617"/>
                  </a:lnTo>
                  <a:lnTo>
                    <a:pt x="588" y="590"/>
                  </a:lnTo>
                  <a:lnTo>
                    <a:pt x="616" y="561"/>
                  </a:lnTo>
                  <a:lnTo>
                    <a:pt x="642" y="531"/>
                  </a:lnTo>
                  <a:lnTo>
                    <a:pt x="668" y="498"/>
                  </a:lnTo>
                  <a:lnTo>
                    <a:pt x="690" y="466"/>
                  </a:lnTo>
                  <a:lnTo>
                    <a:pt x="712" y="432"/>
                  </a:lnTo>
                  <a:lnTo>
                    <a:pt x="732" y="398"/>
                  </a:lnTo>
                  <a:lnTo>
                    <a:pt x="750" y="362"/>
                  </a:lnTo>
                  <a:lnTo>
                    <a:pt x="767" y="324"/>
                  </a:lnTo>
                  <a:lnTo>
                    <a:pt x="783" y="287"/>
                  </a:lnTo>
                  <a:lnTo>
                    <a:pt x="796" y="248"/>
                  </a:lnTo>
                  <a:lnTo>
                    <a:pt x="807" y="209"/>
                  </a:lnTo>
                  <a:lnTo>
                    <a:pt x="816" y="168"/>
                  </a:lnTo>
                  <a:lnTo>
                    <a:pt x="824" y="128"/>
                  </a:lnTo>
                  <a:lnTo>
                    <a:pt x="828" y="86"/>
                  </a:lnTo>
                  <a:lnTo>
                    <a:pt x="832" y="44"/>
                  </a:lnTo>
                  <a:lnTo>
                    <a:pt x="833" y="0"/>
                  </a:lnTo>
                  <a:lnTo>
                    <a:pt x="798" y="0"/>
                  </a:lnTo>
                  <a:lnTo>
                    <a:pt x="797" y="42"/>
                  </a:lnTo>
                  <a:lnTo>
                    <a:pt x="795" y="82"/>
                  </a:lnTo>
                  <a:lnTo>
                    <a:pt x="789" y="123"/>
                  </a:lnTo>
                  <a:lnTo>
                    <a:pt x="783" y="161"/>
                  </a:lnTo>
                  <a:lnTo>
                    <a:pt x="773" y="200"/>
                  </a:lnTo>
                  <a:lnTo>
                    <a:pt x="762" y="238"/>
                  </a:lnTo>
                  <a:lnTo>
                    <a:pt x="750" y="275"/>
                  </a:lnTo>
                  <a:lnTo>
                    <a:pt x="736" y="311"/>
                  </a:lnTo>
                  <a:lnTo>
                    <a:pt x="719" y="346"/>
                  </a:lnTo>
                  <a:lnTo>
                    <a:pt x="702" y="381"/>
                  </a:lnTo>
                  <a:lnTo>
                    <a:pt x="683" y="414"/>
                  </a:lnTo>
                  <a:lnTo>
                    <a:pt x="662" y="447"/>
                  </a:lnTo>
                  <a:lnTo>
                    <a:pt x="640" y="478"/>
                  </a:lnTo>
                  <a:lnTo>
                    <a:pt x="616" y="508"/>
                  </a:lnTo>
                  <a:lnTo>
                    <a:pt x="591" y="537"/>
                  </a:lnTo>
                  <a:lnTo>
                    <a:pt x="564" y="564"/>
                  </a:lnTo>
                  <a:lnTo>
                    <a:pt x="537" y="592"/>
                  </a:lnTo>
                  <a:lnTo>
                    <a:pt x="508" y="616"/>
                  </a:lnTo>
                  <a:lnTo>
                    <a:pt x="477" y="640"/>
                  </a:lnTo>
                  <a:lnTo>
                    <a:pt x="446" y="663"/>
                  </a:lnTo>
                  <a:lnTo>
                    <a:pt x="413" y="683"/>
                  </a:lnTo>
                  <a:lnTo>
                    <a:pt x="380" y="702"/>
                  </a:lnTo>
                  <a:lnTo>
                    <a:pt x="346" y="720"/>
                  </a:lnTo>
                  <a:lnTo>
                    <a:pt x="310" y="736"/>
                  </a:lnTo>
                  <a:lnTo>
                    <a:pt x="274" y="750"/>
                  </a:lnTo>
                  <a:lnTo>
                    <a:pt x="237" y="763"/>
                  </a:lnTo>
                  <a:lnTo>
                    <a:pt x="200" y="774"/>
                  </a:lnTo>
                  <a:lnTo>
                    <a:pt x="161" y="783"/>
                  </a:lnTo>
                  <a:lnTo>
                    <a:pt x="122" y="790"/>
                  </a:lnTo>
                  <a:lnTo>
                    <a:pt x="82" y="795"/>
                  </a:lnTo>
                  <a:lnTo>
                    <a:pt x="41" y="798"/>
                  </a:lnTo>
                  <a:lnTo>
                    <a:pt x="0" y="799"/>
                  </a:lnTo>
                  <a:lnTo>
                    <a:pt x="0" y="799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005360" y="3009960"/>
              <a:ext cx="330120" cy="330120"/>
            </a:xfrm>
            <a:custGeom>
              <a:avLst/>
              <a:gdLst/>
              <a:ahLst/>
              <a:rect l="l" t="t" r="r" b="b"/>
              <a:pathLst>
                <a:path w="832" h="834">
                  <a:moveTo>
                    <a:pt x="0" y="0"/>
                  </a:moveTo>
                  <a:lnTo>
                    <a:pt x="0" y="0"/>
                  </a:lnTo>
                  <a:lnTo>
                    <a:pt x="1" y="44"/>
                  </a:lnTo>
                  <a:lnTo>
                    <a:pt x="3" y="86"/>
                  </a:lnTo>
                  <a:lnTo>
                    <a:pt x="9" y="128"/>
                  </a:lnTo>
                  <a:lnTo>
                    <a:pt x="16" y="168"/>
                  </a:lnTo>
                  <a:lnTo>
                    <a:pt x="26" y="209"/>
                  </a:lnTo>
                  <a:lnTo>
                    <a:pt x="37" y="248"/>
                  </a:lnTo>
                  <a:lnTo>
                    <a:pt x="50" y="287"/>
                  </a:lnTo>
                  <a:lnTo>
                    <a:pt x="64" y="324"/>
                  </a:lnTo>
                  <a:lnTo>
                    <a:pt x="81" y="362"/>
                  </a:lnTo>
                  <a:lnTo>
                    <a:pt x="100" y="398"/>
                  </a:lnTo>
                  <a:lnTo>
                    <a:pt x="120" y="432"/>
                  </a:lnTo>
                  <a:lnTo>
                    <a:pt x="141" y="466"/>
                  </a:lnTo>
                  <a:lnTo>
                    <a:pt x="165" y="498"/>
                  </a:lnTo>
                  <a:lnTo>
                    <a:pt x="189" y="531"/>
                  </a:lnTo>
                  <a:lnTo>
                    <a:pt x="216" y="561"/>
                  </a:lnTo>
                  <a:lnTo>
                    <a:pt x="243" y="590"/>
                  </a:lnTo>
                  <a:lnTo>
                    <a:pt x="272" y="617"/>
                  </a:lnTo>
                  <a:lnTo>
                    <a:pt x="303" y="643"/>
                  </a:lnTo>
                  <a:lnTo>
                    <a:pt x="334" y="667"/>
                  </a:lnTo>
                  <a:lnTo>
                    <a:pt x="367" y="691"/>
                  </a:lnTo>
                  <a:lnTo>
                    <a:pt x="400" y="713"/>
                  </a:lnTo>
                  <a:lnTo>
                    <a:pt x="435" y="733"/>
                  </a:lnTo>
                  <a:lnTo>
                    <a:pt x="471" y="751"/>
                  </a:lnTo>
                  <a:lnTo>
                    <a:pt x="508" y="768"/>
                  </a:lnTo>
                  <a:lnTo>
                    <a:pt x="547" y="783"/>
                  </a:lnTo>
                  <a:lnTo>
                    <a:pt x="585" y="796"/>
                  </a:lnTo>
                  <a:lnTo>
                    <a:pt x="625" y="808"/>
                  </a:lnTo>
                  <a:lnTo>
                    <a:pt x="664" y="816"/>
                  </a:lnTo>
                  <a:lnTo>
                    <a:pt x="705" y="825"/>
                  </a:lnTo>
                  <a:lnTo>
                    <a:pt x="747" y="829"/>
                  </a:lnTo>
                  <a:lnTo>
                    <a:pt x="789" y="833"/>
                  </a:lnTo>
                  <a:lnTo>
                    <a:pt x="832" y="834"/>
                  </a:lnTo>
                  <a:lnTo>
                    <a:pt x="832" y="799"/>
                  </a:lnTo>
                  <a:lnTo>
                    <a:pt x="792" y="798"/>
                  </a:lnTo>
                  <a:lnTo>
                    <a:pt x="751" y="795"/>
                  </a:lnTo>
                  <a:lnTo>
                    <a:pt x="711" y="790"/>
                  </a:lnTo>
                  <a:lnTo>
                    <a:pt x="672" y="783"/>
                  </a:lnTo>
                  <a:lnTo>
                    <a:pt x="633" y="774"/>
                  </a:lnTo>
                  <a:lnTo>
                    <a:pt x="595" y="763"/>
                  </a:lnTo>
                  <a:lnTo>
                    <a:pt x="558" y="750"/>
                  </a:lnTo>
                  <a:lnTo>
                    <a:pt x="522" y="736"/>
                  </a:lnTo>
                  <a:lnTo>
                    <a:pt x="487" y="720"/>
                  </a:lnTo>
                  <a:lnTo>
                    <a:pt x="452" y="702"/>
                  </a:lnTo>
                  <a:lnTo>
                    <a:pt x="418" y="683"/>
                  </a:lnTo>
                  <a:lnTo>
                    <a:pt x="386" y="663"/>
                  </a:lnTo>
                  <a:lnTo>
                    <a:pt x="355" y="640"/>
                  </a:lnTo>
                  <a:lnTo>
                    <a:pt x="325" y="616"/>
                  </a:lnTo>
                  <a:lnTo>
                    <a:pt x="296" y="592"/>
                  </a:lnTo>
                  <a:lnTo>
                    <a:pt x="268" y="564"/>
                  </a:lnTo>
                  <a:lnTo>
                    <a:pt x="242" y="537"/>
                  </a:lnTo>
                  <a:lnTo>
                    <a:pt x="217" y="508"/>
                  </a:lnTo>
                  <a:lnTo>
                    <a:pt x="193" y="478"/>
                  </a:lnTo>
                  <a:lnTo>
                    <a:pt x="170" y="447"/>
                  </a:lnTo>
                  <a:lnTo>
                    <a:pt x="150" y="414"/>
                  </a:lnTo>
                  <a:lnTo>
                    <a:pt x="130" y="381"/>
                  </a:lnTo>
                  <a:lnTo>
                    <a:pt x="112" y="346"/>
                  </a:lnTo>
                  <a:lnTo>
                    <a:pt x="97" y="311"/>
                  </a:lnTo>
                  <a:lnTo>
                    <a:pt x="82" y="275"/>
                  </a:lnTo>
                  <a:lnTo>
                    <a:pt x="70" y="238"/>
                  </a:lnTo>
                  <a:lnTo>
                    <a:pt x="60" y="200"/>
                  </a:lnTo>
                  <a:lnTo>
                    <a:pt x="50" y="161"/>
                  </a:lnTo>
                  <a:lnTo>
                    <a:pt x="43" y="123"/>
                  </a:lnTo>
                  <a:lnTo>
                    <a:pt x="38" y="82"/>
                  </a:lnTo>
                  <a:lnTo>
                    <a:pt x="34" y="4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005360" y="2678040"/>
              <a:ext cx="330120" cy="331920"/>
            </a:xfrm>
            <a:custGeom>
              <a:avLst/>
              <a:gdLst/>
              <a:ahLst/>
              <a:rect l="l" t="t" r="r" b="b"/>
              <a:pathLst>
                <a:path w="832" h="832">
                  <a:moveTo>
                    <a:pt x="832" y="0"/>
                  </a:moveTo>
                  <a:lnTo>
                    <a:pt x="832" y="0"/>
                  </a:lnTo>
                  <a:lnTo>
                    <a:pt x="789" y="1"/>
                  </a:lnTo>
                  <a:lnTo>
                    <a:pt x="747" y="5"/>
                  </a:lnTo>
                  <a:lnTo>
                    <a:pt x="705" y="9"/>
                  </a:lnTo>
                  <a:lnTo>
                    <a:pt x="664" y="17"/>
                  </a:lnTo>
                  <a:lnTo>
                    <a:pt x="625" y="26"/>
                  </a:lnTo>
                  <a:lnTo>
                    <a:pt x="585" y="38"/>
                  </a:lnTo>
                  <a:lnTo>
                    <a:pt x="547" y="50"/>
                  </a:lnTo>
                  <a:lnTo>
                    <a:pt x="508" y="66"/>
                  </a:lnTo>
                  <a:lnTo>
                    <a:pt x="471" y="83"/>
                  </a:lnTo>
                  <a:lnTo>
                    <a:pt x="435" y="101"/>
                  </a:lnTo>
                  <a:lnTo>
                    <a:pt x="400" y="121"/>
                  </a:lnTo>
                  <a:lnTo>
                    <a:pt x="367" y="143"/>
                  </a:lnTo>
                  <a:lnTo>
                    <a:pt x="334" y="165"/>
                  </a:lnTo>
                  <a:lnTo>
                    <a:pt x="303" y="191"/>
                  </a:lnTo>
                  <a:lnTo>
                    <a:pt x="272" y="217"/>
                  </a:lnTo>
                  <a:lnTo>
                    <a:pt x="243" y="245"/>
                  </a:lnTo>
                  <a:lnTo>
                    <a:pt x="216" y="273"/>
                  </a:lnTo>
                  <a:lnTo>
                    <a:pt x="189" y="303"/>
                  </a:lnTo>
                  <a:lnTo>
                    <a:pt x="165" y="335"/>
                  </a:lnTo>
                  <a:lnTo>
                    <a:pt x="141" y="368"/>
                  </a:lnTo>
                  <a:lnTo>
                    <a:pt x="120" y="402"/>
                  </a:lnTo>
                  <a:lnTo>
                    <a:pt x="100" y="437"/>
                  </a:lnTo>
                  <a:lnTo>
                    <a:pt x="81" y="473"/>
                  </a:lnTo>
                  <a:lnTo>
                    <a:pt x="64" y="510"/>
                  </a:lnTo>
                  <a:lnTo>
                    <a:pt x="50" y="547"/>
                  </a:lnTo>
                  <a:lnTo>
                    <a:pt x="37" y="585"/>
                  </a:lnTo>
                  <a:lnTo>
                    <a:pt x="26" y="625"/>
                  </a:lnTo>
                  <a:lnTo>
                    <a:pt x="16" y="666"/>
                  </a:lnTo>
                  <a:lnTo>
                    <a:pt x="9" y="707"/>
                  </a:lnTo>
                  <a:lnTo>
                    <a:pt x="3" y="748"/>
                  </a:lnTo>
                  <a:lnTo>
                    <a:pt x="1" y="790"/>
                  </a:lnTo>
                  <a:lnTo>
                    <a:pt x="0" y="832"/>
                  </a:lnTo>
                  <a:lnTo>
                    <a:pt x="34" y="832"/>
                  </a:lnTo>
                  <a:lnTo>
                    <a:pt x="34" y="792"/>
                  </a:lnTo>
                  <a:lnTo>
                    <a:pt x="38" y="752"/>
                  </a:lnTo>
                  <a:lnTo>
                    <a:pt x="43" y="711"/>
                  </a:lnTo>
                  <a:lnTo>
                    <a:pt x="50" y="673"/>
                  </a:lnTo>
                  <a:lnTo>
                    <a:pt x="60" y="633"/>
                  </a:lnTo>
                  <a:lnTo>
                    <a:pt x="70" y="596"/>
                  </a:lnTo>
                  <a:lnTo>
                    <a:pt x="82" y="559"/>
                  </a:lnTo>
                  <a:lnTo>
                    <a:pt x="97" y="523"/>
                  </a:lnTo>
                  <a:lnTo>
                    <a:pt x="112" y="487"/>
                  </a:lnTo>
                  <a:lnTo>
                    <a:pt x="130" y="453"/>
                  </a:lnTo>
                  <a:lnTo>
                    <a:pt x="150" y="420"/>
                  </a:lnTo>
                  <a:lnTo>
                    <a:pt x="170" y="387"/>
                  </a:lnTo>
                  <a:lnTo>
                    <a:pt x="193" y="356"/>
                  </a:lnTo>
                  <a:lnTo>
                    <a:pt x="217" y="326"/>
                  </a:lnTo>
                  <a:lnTo>
                    <a:pt x="242" y="297"/>
                  </a:lnTo>
                  <a:lnTo>
                    <a:pt x="268" y="269"/>
                  </a:lnTo>
                  <a:lnTo>
                    <a:pt x="296" y="242"/>
                  </a:lnTo>
                  <a:lnTo>
                    <a:pt x="325" y="217"/>
                  </a:lnTo>
                  <a:lnTo>
                    <a:pt x="355" y="194"/>
                  </a:lnTo>
                  <a:lnTo>
                    <a:pt x="386" y="171"/>
                  </a:lnTo>
                  <a:lnTo>
                    <a:pt x="418" y="151"/>
                  </a:lnTo>
                  <a:lnTo>
                    <a:pt x="452" y="132"/>
                  </a:lnTo>
                  <a:lnTo>
                    <a:pt x="487" y="114"/>
                  </a:lnTo>
                  <a:lnTo>
                    <a:pt x="522" y="98"/>
                  </a:lnTo>
                  <a:lnTo>
                    <a:pt x="558" y="84"/>
                  </a:lnTo>
                  <a:lnTo>
                    <a:pt x="595" y="71"/>
                  </a:lnTo>
                  <a:lnTo>
                    <a:pt x="633" y="60"/>
                  </a:lnTo>
                  <a:lnTo>
                    <a:pt x="672" y="51"/>
                  </a:lnTo>
                  <a:lnTo>
                    <a:pt x="711" y="44"/>
                  </a:lnTo>
                  <a:lnTo>
                    <a:pt x="751" y="39"/>
                  </a:lnTo>
                  <a:lnTo>
                    <a:pt x="792" y="36"/>
                  </a:lnTo>
                  <a:lnTo>
                    <a:pt x="832" y="35"/>
                  </a:lnTo>
                  <a:lnTo>
                    <a:pt x="832" y="35"/>
                  </a:lnTo>
                  <a:lnTo>
                    <a:pt x="832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14720" y="2690640"/>
              <a:ext cx="641520" cy="641520"/>
            </a:xfrm>
            <a:custGeom>
              <a:avLst/>
              <a:gdLst/>
              <a:ahLst/>
              <a:rect l="l" t="t" r="r" b="b"/>
              <a:pathLst>
                <a:path w="1616" h="1616">
                  <a:moveTo>
                    <a:pt x="809" y="0"/>
                  </a:moveTo>
                  <a:lnTo>
                    <a:pt x="849" y="1"/>
                  </a:lnTo>
                  <a:lnTo>
                    <a:pt x="890" y="5"/>
                  </a:lnTo>
                  <a:lnTo>
                    <a:pt x="931" y="9"/>
                  </a:lnTo>
                  <a:lnTo>
                    <a:pt x="971" y="17"/>
                  </a:lnTo>
                  <a:lnTo>
                    <a:pt x="1010" y="25"/>
                  </a:lnTo>
                  <a:lnTo>
                    <a:pt x="1049" y="37"/>
                  </a:lnTo>
                  <a:lnTo>
                    <a:pt x="1086" y="49"/>
                  </a:lnTo>
                  <a:lnTo>
                    <a:pt x="1122" y="63"/>
                  </a:lnTo>
                  <a:lnTo>
                    <a:pt x="1158" y="80"/>
                  </a:lnTo>
                  <a:lnTo>
                    <a:pt x="1193" y="98"/>
                  </a:lnTo>
                  <a:lnTo>
                    <a:pt x="1227" y="117"/>
                  </a:lnTo>
                  <a:lnTo>
                    <a:pt x="1260" y="138"/>
                  </a:lnTo>
                  <a:lnTo>
                    <a:pt x="1291" y="161"/>
                  </a:lnTo>
                  <a:lnTo>
                    <a:pt x="1322" y="185"/>
                  </a:lnTo>
                  <a:lnTo>
                    <a:pt x="1351" y="210"/>
                  </a:lnTo>
                  <a:lnTo>
                    <a:pt x="1380" y="237"/>
                  </a:lnTo>
                  <a:lnTo>
                    <a:pt x="1406" y="265"/>
                  </a:lnTo>
                  <a:lnTo>
                    <a:pt x="1431" y="295"/>
                  </a:lnTo>
                  <a:lnTo>
                    <a:pt x="1455" y="325"/>
                  </a:lnTo>
                  <a:lnTo>
                    <a:pt x="1478" y="357"/>
                  </a:lnTo>
                  <a:lnTo>
                    <a:pt x="1499" y="390"/>
                  </a:lnTo>
                  <a:lnTo>
                    <a:pt x="1519" y="423"/>
                  </a:lnTo>
                  <a:lnTo>
                    <a:pt x="1537" y="458"/>
                  </a:lnTo>
                  <a:lnTo>
                    <a:pt x="1553" y="494"/>
                  </a:lnTo>
                  <a:lnTo>
                    <a:pt x="1567" y="531"/>
                  </a:lnTo>
                  <a:lnTo>
                    <a:pt x="1580" y="569"/>
                  </a:lnTo>
                  <a:lnTo>
                    <a:pt x="1591" y="607"/>
                  </a:lnTo>
                  <a:lnTo>
                    <a:pt x="1601" y="645"/>
                  </a:lnTo>
                  <a:lnTo>
                    <a:pt x="1607" y="685"/>
                  </a:lnTo>
                  <a:lnTo>
                    <a:pt x="1613" y="726"/>
                  </a:lnTo>
                  <a:lnTo>
                    <a:pt x="1615" y="766"/>
                  </a:lnTo>
                  <a:lnTo>
                    <a:pt x="1616" y="808"/>
                  </a:lnTo>
                  <a:lnTo>
                    <a:pt x="1615" y="849"/>
                  </a:lnTo>
                  <a:lnTo>
                    <a:pt x="1613" y="890"/>
                  </a:lnTo>
                  <a:lnTo>
                    <a:pt x="1607" y="931"/>
                  </a:lnTo>
                  <a:lnTo>
                    <a:pt x="1601" y="970"/>
                  </a:lnTo>
                  <a:lnTo>
                    <a:pt x="1591" y="1010"/>
                  </a:lnTo>
                  <a:lnTo>
                    <a:pt x="1580" y="1048"/>
                  </a:lnTo>
                  <a:lnTo>
                    <a:pt x="1567" y="1086"/>
                  </a:lnTo>
                  <a:lnTo>
                    <a:pt x="1553" y="1122"/>
                  </a:lnTo>
                  <a:lnTo>
                    <a:pt x="1537" y="1158"/>
                  </a:lnTo>
                  <a:lnTo>
                    <a:pt x="1519" y="1192"/>
                  </a:lnTo>
                  <a:lnTo>
                    <a:pt x="1499" y="1227"/>
                  </a:lnTo>
                  <a:lnTo>
                    <a:pt x="1478" y="1260"/>
                  </a:lnTo>
                  <a:lnTo>
                    <a:pt x="1455" y="1291"/>
                  </a:lnTo>
                  <a:lnTo>
                    <a:pt x="1431" y="1322"/>
                  </a:lnTo>
                  <a:lnTo>
                    <a:pt x="1406" y="1351"/>
                  </a:lnTo>
                  <a:lnTo>
                    <a:pt x="1380" y="1380"/>
                  </a:lnTo>
                  <a:lnTo>
                    <a:pt x="1351" y="1406"/>
                  </a:lnTo>
                  <a:lnTo>
                    <a:pt x="1322" y="1431"/>
                  </a:lnTo>
                  <a:lnTo>
                    <a:pt x="1291" y="1455"/>
                  </a:lnTo>
                  <a:lnTo>
                    <a:pt x="1260" y="1478"/>
                  </a:lnTo>
                  <a:lnTo>
                    <a:pt x="1227" y="1499"/>
                  </a:lnTo>
                  <a:lnTo>
                    <a:pt x="1193" y="1519"/>
                  </a:lnTo>
                  <a:lnTo>
                    <a:pt x="1158" y="1537"/>
                  </a:lnTo>
                  <a:lnTo>
                    <a:pt x="1122" y="1552"/>
                  </a:lnTo>
                  <a:lnTo>
                    <a:pt x="1086" y="1567"/>
                  </a:lnTo>
                  <a:lnTo>
                    <a:pt x="1049" y="1580"/>
                  </a:lnTo>
                  <a:lnTo>
                    <a:pt x="1010" y="1591"/>
                  </a:lnTo>
                  <a:lnTo>
                    <a:pt x="971" y="1600"/>
                  </a:lnTo>
                  <a:lnTo>
                    <a:pt x="931" y="1607"/>
                  </a:lnTo>
                  <a:lnTo>
                    <a:pt x="890" y="1612"/>
                  </a:lnTo>
                  <a:lnTo>
                    <a:pt x="849" y="1615"/>
                  </a:lnTo>
                  <a:lnTo>
                    <a:pt x="809" y="1616"/>
                  </a:lnTo>
                  <a:lnTo>
                    <a:pt x="767" y="1615"/>
                  </a:lnTo>
                  <a:lnTo>
                    <a:pt x="726" y="1612"/>
                  </a:lnTo>
                  <a:lnTo>
                    <a:pt x="685" y="1607"/>
                  </a:lnTo>
                  <a:lnTo>
                    <a:pt x="645" y="1600"/>
                  </a:lnTo>
                  <a:lnTo>
                    <a:pt x="607" y="1591"/>
                  </a:lnTo>
                  <a:lnTo>
                    <a:pt x="569" y="1580"/>
                  </a:lnTo>
                  <a:lnTo>
                    <a:pt x="530" y="1567"/>
                  </a:lnTo>
                  <a:lnTo>
                    <a:pt x="494" y="1552"/>
                  </a:lnTo>
                  <a:lnTo>
                    <a:pt x="458" y="1537"/>
                  </a:lnTo>
                  <a:lnTo>
                    <a:pt x="423" y="1519"/>
                  </a:lnTo>
                  <a:lnTo>
                    <a:pt x="390" y="1499"/>
                  </a:lnTo>
                  <a:lnTo>
                    <a:pt x="357" y="1478"/>
                  </a:lnTo>
                  <a:lnTo>
                    <a:pt x="325" y="1455"/>
                  </a:lnTo>
                  <a:lnTo>
                    <a:pt x="295" y="1431"/>
                  </a:lnTo>
                  <a:lnTo>
                    <a:pt x="265" y="1406"/>
                  </a:lnTo>
                  <a:lnTo>
                    <a:pt x="237" y="1380"/>
                  </a:lnTo>
                  <a:lnTo>
                    <a:pt x="210" y="1351"/>
                  </a:lnTo>
                  <a:lnTo>
                    <a:pt x="185" y="1322"/>
                  </a:lnTo>
                  <a:lnTo>
                    <a:pt x="161" y="1291"/>
                  </a:lnTo>
                  <a:lnTo>
                    <a:pt x="138" y="1260"/>
                  </a:lnTo>
                  <a:lnTo>
                    <a:pt x="117" y="1227"/>
                  </a:lnTo>
                  <a:lnTo>
                    <a:pt x="98" y="1192"/>
                  </a:lnTo>
                  <a:lnTo>
                    <a:pt x="80" y="1158"/>
                  </a:lnTo>
                  <a:lnTo>
                    <a:pt x="63" y="1122"/>
                  </a:lnTo>
                  <a:lnTo>
                    <a:pt x="49" y="1086"/>
                  </a:lnTo>
                  <a:lnTo>
                    <a:pt x="36" y="1048"/>
                  </a:lnTo>
                  <a:lnTo>
                    <a:pt x="25" y="1010"/>
                  </a:lnTo>
                  <a:lnTo>
                    <a:pt x="17" y="970"/>
                  </a:lnTo>
                  <a:lnTo>
                    <a:pt x="9" y="931"/>
                  </a:lnTo>
                  <a:lnTo>
                    <a:pt x="5" y="890"/>
                  </a:lnTo>
                  <a:lnTo>
                    <a:pt x="1" y="849"/>
                  </a:lnTo>
                  <a:lnTo>
                    <a:pt x="0" y="808"/>
                  </a:lnTo>
                  <a:lnTo>
                    <a:pt x="1" y="766"/>
                  </a:lnTo>
                  <a:lnTo>
                    <a:pt x="5" y="726"/>
                  </a:lnTo>
                  <a:lnTo>
                    <a:pt x="9" y="685"/>
                  </a:lnTo>
                  <a:lnTo>
                    <a:pt x="17" y="645"/>
                  </a:lnTo>
                  <a:lnTo>
                    <a:pt x="25" y="607"/>
                  </a:lnTo>
                  <a:lnTo>
                    <a:pt x="36" y="569"/>
                  </a:lnTo>
                  <a:lnTo>
                    <a:pt x="49" y="531"/>
                  </a:lnTo>
                  <a:lnTo>
                    <a:pt x="63" y="494"/>
                  </a:lnTo>
                  <a:lnTo>
                    <a:pt x="80" y="458"/>
                  </a:lnTo>
                  <a:lnTo>
                    <a:pt x="98" y="423"/>
                  </a:lnTo>
                  <a:lnTo>
                    <a:pt x="117" y="390"/>
                  </a:lnTo>
                  <a:lnTo>
                    <a:pt x="138" y="357"/>
                  </a:lnTo>
                  <a:lnTo>
                    <a:pt x="161" y="325"/>
                  </a:lnTo>
                  <a:lnTo>
                    <a:pt x="185" y="295"/>
                  </a:lnTo>
                  <a:lnTo>
                    <a:pt x="210" y="265"/>
                  </a:lnTo>
                  <a:lnTo>
                    <a:pt x="237" y="237"/>
                  </a:lnTo>
                  <a:lnTo>
                    <a:pt x="265" y="210"/>
                  </a:lnTo>
                  <a:lnTo>
                    <a:pt x="295" y="185"/>
                  </a:lnTo>
                  <a:lnTo>
                    <a:pt x="325" y="161"/>
                  </a:lnTo>
                  <a:lnTo>
                    <a:pt x="357" y="138"/>
                  </a:lnTo>
                  <a:lnTo>
                    <a:pt x="390" y="117"/>
                  </a:lnTo>
                  <a:lnTo>
                    <a:pt x="423" y="98"/>
                  </a:lnTo>
                  <a:lnTo>
                    <a:pt x="458" y="80"/>
                  </a:lnTo>
                  <a:lnTo>
                    <a:pt x="494" y="63"/>
                  </a:lnTo>
                  <a:lnTo>
                    <a:pt x="530" y="49"/>
                  </a:lnTo>
                  <a:lnTo>
                    <a:pt x="569" y="37"/>
                  </a:lnTo>
                  <a:lnTo>
                    <a:pt x="607" y="25"/>
                  </a:lnTo>
                  <a:lnTo>
                    <a:pt x="645" y="17"/>
                  </a:lnTo>
                  <a:lnTo>
                    <a:pt x="685" y="9"/>
                  </a:lnTo>
                  <a:lnTo>
                    <a:pt x="726" y="5"/>
                  </a:lnTo>
                  <a:lnTo>
                    <a:pt x="767" y="1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c08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017960" y="2695680"/>
              <a:ext cx="636480" cy="635040"/>
            </a:xfrm>
            <a:custGeom>
              <a:avLst/>
              <a:gdLst/>
              <a:ahLst/>
              <a:rect l="l" t="t" r="r" b="b"/>
              <a:pathLst>
                <a:path w="1602" h="1600">
                  <a:moveTo>
                    <a:pt x="802" y="0"/>
                  </a:moveTo>
                  <a:lnTo>
                    <a:pt x="843" y="0"/>
                  </a:lnTo>
                  <a:lnTo>
                    <a:pt x="883" y="4"/>
                  </a:lnTo>
                  <a:lnTo>
                    <a:pt x="923" y="8"/>
                  </a:lnTo>
                  <a:lnTo>
                    <a:pt x="963" y="16"/>
                  </a:lnTo>
                  <a:lnTo>
                    <a:pt x="1001" y="25"/>
                  </a:lnTo>
                  <a:lnTo>
                    <a:pt x="1039" y="36"/>
                  </a:lnTo>
                  <a:lnTo>
                    <a:pt x="1077" y="48"/>
                  </a:lnTo>
                  <a:lnTo>
                    <a:pt x="1113" y="62"/>
                  </a:lnTo>
                  <a:lnTo>
                    <a:pt x="1147" y="79"/>
                  </a:lnTo>
                  <a:lnTo>
                    <a:pt x="1182" y="96"/>
                  </a:lnTo>
                  <a:lnTo>
                    <a:pt x="1216" y="115"/>
                  </a:lnTo>
                  <a:lnTo>
                    <a:pt x="1248" y="137"/>
                  </a:lnTo>
                  <a:lnTo>
                    <a:pt x="1279" y="160"/>
                  </a:lnTo>
                  <a:lnTo>
                    <a:pt x="1311" y="182"/>
                  </a:lnTo>
                  <a:lnTo>
                    <a:pt x="1339" y="208"/>
                  </a:lnTo>
                  <a:lnTo>
                    <a:pt x="1367" y="234"/>
                  </a:lnTo>
                  <a:lnTo>
                    <a:pt x="1393" y="263"/>
                  </a:lnTo>
                  <a:lnTo>
                    <a:pt x="1419" y="292"/>
                  </a:lnTo>
                  <a:lnTo>
                    <a:pt x="1443" y="322"/>
                  </a:lnTo>
                  <a:lnTo>
                    <a:pt x="1465" y="353"/>
                  </a:lnTo>
                  <a:lnTo>
                    <a:pt x="1486" y="385"/>
                  </a:lnTo>
                  <a:lnTo>
                    <a:pt x="1505" y="419"/>
                  </a:lnTo>
                  <a:lnTo>
                    <a:pt x="1523" y="454"/>
                  </a:lnTo>
                  <a:lnTo>
                    <a:pt x="1539" y="490"/>
                  </a:lnTo>
                  <a:lnTo>
                    <a:pt x="1553" y="526"/>
                  </a:lnTo>
                  <a:lnTo>
                    <a:pt x="1566" y="563"/>
                  </a:lnTo>
                  <a:lnTo>
                    <a:pt x="1577" y="601"/>
                  </a:lnTo>
                  <a:lnTo>
                    <a:pt x="1585" y="640"/>
                  </a:lnTo>
                  <a:lnTo>
                    <a:pt x="1593" y="679"/>
                  </a:lnTo>
                  <a:lnTo>
                    <a:pt x="1597" y="719"/>
                  </a:lnTo>
                  <a:lnTo>
                    <a:pt x="1601" y="759"/>
                  </a:lnTo>
                  <a:lnTo>
                    <a:pt x="1602" y="800"/>
                  </a:lnTo>
                  <a:lnTo>
                    <a:pt x="1601" y="841"/>
                  </a:lnTo>
                  <a:lnTo>
                    <a:pt x="1597" y="882"/>
                  </a:lnTo>
                  <a:lnTo>
                    <a:pt x="1593" y="921"/>
                  </a:lnTo>
                  <a:lnTo>
                    <a:pt x="1585" y="961"/>
                  </a:lnTo>
                  <a:lnTo>
                    <a:pt x="1577" y="999"/>
                  </a:lnTo>
                  <a:lnTo>
                    <a:pt x="1566" y="1038"/>
                  </a:lnTo>
                  <a:lnTo>
                    <a:pt x="1553" y="1075"/>
                  </a:lnTo>
                  <a:lnTo>
                    <a:pt x="1539" y="1111"/>
                  </a:lnTo>
                  <a:lnTo>
                    <a:pt x="1523" y="1147"/>
                  </a:lnTo>
                  <a:lnTo>
                    <a:pt x="1505" y="1182"/>
                  </a:lnTo>
                  <a:lnTo>
                    <a:pt x="1486" y="1215"/>
                  </a:lnTo>
                  <a:lnTo>
                    <a:pt x="1465" y="1248"/>
                  </a:lnTo>
                  <a:lnTo>
                    <a:pt x="1443" y="1279"/>
                  </a:lnTo>
                  <a:lnTo>
                    <a:pt x="1419" y="1309"/>
                  </a:lnTo>
                  <a:lnTo>
                    <a:pt x="1393" y="1338"/>
                  </a:lnTo>
                  <a:lnTo>
                    <a:pt x="1367" y="1367"/>
                  </a:lnTo>
                  <a:lnTo>
                    <a:pt x="1339" y="1393"/>
                  </a:lnTo>
                  <a:lnTo>
                    <a:pt x="1311" y="1418"/>
                  </a:lnTo>
                  <a:lnTo>
                    <a:pt x="1279" y="1442"/>
                  </a:lnTo>
                  <a:lnTo>
                    <a:pt x="1248" y="1464"/>
                  </a:lnTo>
                  <a:lnTo>
                    <a:pt x="1216" y="1485"/>
                  </a:lnTo>
                  <a:lnTo>
                    <a:pt x="1182" y="1504"/>
                  </a:lnTo>
                  <a:lnTo>
                    <a:pt x="1147" y="1521"/>
                  </a:lnTo>
                  <a:lnTo>
                    <a:pt x="1113" y="1538"/>
                  </a:lnTo>
                  <a:lnTo>
                    <a:pt x="1077" y="1552"/>
                  </a:lnTo>
                  <a:lnTo>
                    <a:pt x="1039" y="1564"/>
                  </a:lnTo>
                  <a:lnTo>
                    <a:pt x="1001" y="1575"/>
                  </a:lnTo>
                  <a:lnTo>
                    <a:pt x="963" y="1585"/>
                  </a:lnTo>
                  <a:lnTo>
                    <a:pt x="923" y="1592"/>
                  </a:lnTo>
                  <a:lnTo>
                    <a:pt x="883" y="1597"/>
                  </a:lnTo>
                  <a:lnTo>
                    <a:pt x="843" y="1600"/>
                  </a:lnTo>
                  <a:lnTo>
                    <a:pt x="802" y="1600"/>
                  </a:lnTo>
                  <a:lnTo>
                    <a:pt x="760" y="1600"/>
                  </a:lnTo>
                  <a:lnTo>
                    <a:pt x="719" y="1597"/>
                  </a:lnTo>
                  <a:lnTo>
                    <a:pt x="679" y="1592"/>
                  </a:lnTo>
                  <a:lnTo>
                    <a:pt x="640" y="1585"/>
                  </a:lnTo>
                  <a:lnTo>
                    <a:pt x="601" y="1575"/>
                  </a:lnTo>
                  <a:lnTo>
                    <a:pt x="563" y="1564"/>
                  </a:lnTo>
                  <a:lnTo>
                    <a:pt x="526" y="1552"/>
                  </a:lnTo>
                  <a:lnTo>
                    <a:pt x="490" y="1538"/>
                  </a:lnTo>
                  <a:lnTo>
                    <a:pt x="455" y="1521"/>
                  </a:lnTo>
                  <a:lnTo>
                    <a:pt x="420" y="1504"/>
                  </a:lnTo>
                  <a:lnTo>
                    <a:pt x="387" y="1485"/>
                  </a:lnTo>
                  <a:lnTo>
                    <a:pt x="354" y="1464"/>
                  </a:lnTo>
                  <a:lnTo>
                    <a:pt x="323" y="1442"/>
                  </a:lnTo>
                  <a:lnTo>
                    <a:pt x="292" y="1418"/>
                  </a:lnTo>
                  <a:lnTo>
                    <a:pt x="263" y="1393"/>
                  </a:lnTo>
                  <a:lnTo>
                    <a:pt x="235" y="1367"/>
                  </a:lnTo>
                  <a:lnTo>
                    <a:pt x="209" y="1338"/>
                  </a:lnTo>
                  <a:lnTo>
                    <a:pt x="184" y="1309"/>
                  </a:lnTo>
                  <a:lnTo>
                    <a:pt x="160" y="1279"/>
                  </a:lnTo>
                  <a:lnTo>
                    <a:pt x="137" y="1248"/>
                  </a:lnTo>
                  <a:lnTo>
                    <a:pt x="117" y="1215"/>
                  </a:lnTo>
                  <a:lnTo>
                    <a:pt x="97" y="1182"/>
                  </a:lnTo>
                  <a:lnTo>
                    <a:pt x="79" y="1147"/>
                  </a:lnTo>
                  <a:lnTo>
                    <a:pt x="64" y="1111"/>
                  </a:lnTo>
                  <a:lnTo>
                    <a:pt x="49" y="1075"/>
                  </a:lnTo>
                  <a:lnTo>
                    <a:pt x="36" y="1038"/>
                  </a:lnTo>
                  <a:lnTo>
                    <a:pt x="25" y="999"/>
                  </a:lnTo>
                  <a:lnTo>
                    <a:pt x="17" y="961"/>
                  </a:lnTo>
                  <a:lnTo>
                    <a:pt x="10" y="921"/>
                  </a:lnTo>
                  <a:lnTo>
                    <a:pt x="5" y="882"/>
                  </a:lnTo>
                  <a:lnTo>
                    <a:pt x="1" y="841"/>
                  </a:lnTo>
                  <a:lnTo>
                    <a:pt x="0" y="800"/>
                  </a:lnTo>
                  <a:lnTo>
                    <a:pt x="1" y="759"/>
                  </a:lnTo>
                  <a:lnTo>
                    <a:pt x="5" y="719"/>
                  </a:lnTo>
                  <a:lnTo>
                    <a:pt x="10" y="679"/>
                  </a:lnTo>
                  <a:lnTo>
                    <a:pt x="17" y="640"/>
                  </a:lnTo>
                  <a:lnTo>
                    <a:pt x="25" y="601"/>
                  </a:lnTo>
                  <a:lnTo>
                    <a:pt x="36" y="563"/>
                  </a:lnTo>
                  <a:lnTo>
                    <a:pt x="49" y="526"/>
                  </a:lnTo>
                  <a:lnTo>
                    <a:pt x="64" y="490"/>
                  </a:lnTo>
                  <a:lnTo>
                    <a:pt x="79" y="454"/>
                  </a:lnTo>
                  <a:lnTo>
                    <a:pt x="97" y="419"/>
                  </a:lnTo>
                  <a:lnTo>
                    <a:pt x="117" y="385"/>
                  </a:lnTo>
                  <a:lnTo>
                    <a:pt x="137" y="353"/>
                  </a:lnTo>
                  <a:lnTo>
                    <a:pt x="160" y="322"/>
                  </a:lnTo>
                  <a:lnTo>
                    <a:pt x="184" y="292"/>
                  </a:lnTo>
                  <a:lnTo>
                    <a:pt x="209" y="263"/>
                  </a:lnTo>
                  <a:lnTo>
                    <a:pt x="235" y="234"/>
                  </a:lnTo>
                  <a:lnTo>
                    <a:pt x="263" y="208"/>
                  </a:lnTo>
                  <a:lnTo>
                    <a:pt x="292" y="182"/>
                  </a:lnTo>
                  <a:lnTo>
                    <a:pt x="323" y="160"/>
                  </a:lnTo>
                  <a:lnTo>
                    <a:pt x="354" y="137"/>
                  </a:lnTo>
                  <a:lnTo>
                    <a:pt x="387" y="115"/>
                  </a:lnTo>
                  <a:lnTo>
                    <a:pt x="420" y="96"/>
                  </a:lnTo>
                  <a:lnTo>
                    <a:pt x="455" y="79"/>
                  </a:lnTo>
                  <a:lnTo>
                    <a:pt x="490" y="62"/>
                  </a:lnTo>
                  <a:lnTo>
                    <a:pt x="526" y="48"/>
                  </a:lnTo>
                  <a:lnTo>
                    <a:pt x="563" y="36"/>
                  </a:lnTo>
                  <a:lnTo>
                    <a:pt x="601" y="25"/>
                  </a:lnTo>
                  <a:lnTo>
                    <a:pt x="640" y="16"/>
                  </a:lnTo>
                  <a:lnTo>
                    <a:pt x="679" y="8"/>
                  </a:lnTo>
                  <a:lnTo>
                    <a:pt x="719" y="4"/>
                  </a:lnTo>
                  <a:lnTo>
                    <a:pt x="760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c48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21200" y="2700360"/>
              <a:ext cx="630000" cy="630360"/>
            </a:xfrm>
            <a:custGeom>
              <a:avLst/>
              <a:gdLst/>
              <a:ahLst/>
              <a:rect l="l" t="t" r="r" b="b"/>
              <a:pathLst>
                <a:path w="1587" h="1587">
                  <a:moveTo>
                    <a:pt x="793" y="0"/>
                  </a:moveTo>
                  <a:lnTo>
                    <a:pt x="834" y="1"/>
                  </a:lnTo>
                  <a:lnTo>
                    <a:pt x="874" y="4"/>
                  </a:lnTo>
                  <a:lnTo>
                    <a:pt x="914" y="10"/>
                  </a:lnTo>
                  <a:lnTo>
                    <a:pt x="952" y="17"/>
                  </a:lnTo>
                  <a:lnTo>
                    <a:pt x="991" y="25"/>
                  </a:lnTo>
                  <a:lnTo>
                    <a:pt x="1029" y="36"/>
                  </a:lnTo>
                  <a:lnTo>
                    <a:pt x="1065" y="48"/>
                  </a:lnTo>
                  <a:lnTo>
                    <a:pt x="1101" y="62"/>
                  </a:lnTo>
                  <a:lnTo>
                    <a:pt x="1137" y="78"/>
                  </a:lnTo>
                  <a:lnTo>
                    <a:pt x="1171" y="96"/>
                  </a:lnTo>
                  <a:lnTo>
                    <a:pt x="1204" y="115"/>
                  </a:lnTo>
                  <a:lnTo>
                    <a:pt x="1237" y="136"/>
                  </a:lnTo>
                  <a:lnTo>
                    <a:pt x="1268" y="158"/>
                  </a:lnTo>
                  <a:lnTo>
                    <a:pt x="1298" y="181"/>
                  </a:lnTo>
                  <a:lnTo>
                    <a:pt x="1327" y="206"/>
                  </a:lnTo>
                  <a:lnTo>
                    <a:pt x="1354" y="233"/>
                  </a:lnTo>
                  <a:lnTo>
                    <a:pt x="1380" y="260"/>
                  </a:lnTo>
                  <a:lnTo>
                    <a:pt x="1405" y="289"/>
                  </a:lnTo>
                  <a:lnTo>
                    <a:pt x="1429" y="319"/>
                  </a:lnTo>
                  <a:lnTo>
                    <a:pt x="1450" y="350"/>
                  </a:lnTo>
                  <a:lnTo>
                    <a:pt x="1472" y="383"/>
                  </a:lnTo>
                  <a:lnTo>
                    <a:pt x="1491" y="416"/>
                  </a:lnTo>
                  <a:lnTo>
                    <a:pt x="1508" y="450"/>
                  </a:lnTo>
                  <a:lnTo>
                    <a:pt x="1525" y="485"/>
                  </a:lnTo>
                  <a:lnTo>
                    <a:pt x="1538" y="521"/>
                  </a:lnTo>
                  <a:lnTo>
                    <a:pt x="1551" y="558"/>
                  </a:lnTo>
                  <a:lnTo>
                    <a:pt x="1562" y="595"/>
                  </a:lnTo>
                  <a:lnTo>
                    <a:pt x="1570" y="634"/>
                  </a:lnTo>
                  <a:lnTo>
                    <a:pt x="1578" y="673"/>
                  </a:lnTo>
                  <a:lnTo>
                    <a:pt x="1582" y="713"/>
                  </a:lnTo>
                  <a:lnTo>
                    <a:pt x="1586" y="752"/>
                  </a:lnTo>
                  <a:lnTo>
                    <a:pt x="1587" y="793"/>
                  </a:lnTo>
                  <a:lnTo>
                    <a:pt x="1586" y="834"/>
                  </a:lnTo>
                  <a:lnTo>
                    <a:pt x="1582" y="875"/>
                  </a:lnTo>
                  <a:lnTo>
                    <a:pt x="1578" y="914"/>
                  </a:lnTo>
                  <a:lnTo>
                    <a:pt x="1570" y="953"/>
                  </a:lnTo>
                  <a:lnTo>
                    <a:pt x="1562" y="991"/>
                  </a:lnTo>
                  <a:lnTo>
                    <a:pt x="1551" y="1029"/>
                  </a:lnTo>
                  <a:lnTo>
                    <a:pt x="1538" y="1065"/>
                  </a:lnTo>
                  <a:lnTo>
                    <a:pt x="1525" y="1101"/>
                  </a:lnTo>
                  <a:lnTo>
                    <a:pt x="1508" y="1137"/>
                  </a:lnTo>
                  <a:lnTo>
                    <a:pt x="1491" y="1171"/>
                  </a:lnTo>
                  <a:lnTo>
                    <a:pt x="1472" y="1205"/>
                  </a:lnTo>
                  <a:lnTo>
                    <a:pt x="1450" y="1237"/>
                  </a:lnTo>
                  <a:lnTo>
                    <a:pt x="1429" y="1268"/>
                  </a:lnTo>
                  <a:lnTo>
                    <a:pt x="1405" y="1297"/>
                  </a:lnTo>
                  <a:lnTo>
                    <a:pt x="1380" y="1326"/>
                  </a:lnTo>
                  <a:lnTo>
                    <a:pt x="1354" y="1353"/>
                  </a:lnTo>
                  <a:lnTo>
                    <a:pt x="1327" y="1380"/>
                  </a:lnTo>
                  <a:lnTo>
                    <a:pt x="1298" y="1405"/>
                  </a:lnTo>
                  <a:lnTo>
                    <a:pt x="1268" y="1429"/>
                  </a:lnTo>
                  <a:lnTo>
                    <a:pt x="1237" y="1450"/>
                  </a:lnTo>
                  <a:lnTo>
                    <a:pt x="1204" y="1472"/>
                  </a:lnTo>
                  <a:lnTo>
                    <a:pt x="1171" y="1491"/>
                  </a:lnTo>
                  <a:lnTo>
                    <a:pt x="1137" y="1508"/>
                  </a:lnTo>
                  <a:lnTo>
                    <a:pt x="1101" y="1524"/>
                  </a:lnTo>
                  <a:lnTo>
                    <a:pt x="1065" y="1538"/>
                  </a:lnTo>
                  <a:lnTo>
                    <a:pt x="1029" y="1551"/>
                  </a:lnTo>
                  <a:lnTo>
                    <a:pt x="991" y="1562"/>
                  </a:lnTo>
                  <a:lnTo>
                    <a:pt x="952" y="1570"/>
                  </a:lnTo>
                  <a:lnTo>
                    <a:pt x="914" y="1578"/>
                  </a:lnTo>
                  <a:lnTo>
                    <a:pt x="874" y="1582"/>
                  </a:lnTo>
                  <a:lnTo>
                    <a:pt x="834" y="1586"/>
                  </a:lnTo>
                  <a:lnTo>
                    <a:pt x="793" y="1587"/>
                  </a:lnTo>
                  <a:lnTo>
                    <a:pt x="752" y="1586"/>
                  </a:lnTo>
                  <a:lnTo>
                    <a:pt x="712" y="1582"/>
                  </a:lnTo>
                  <a:lnTo>
                    <a:pt x="673" y="1578"/>
                  </a:lnTo>
                  <a:lnTo>
                    <a:pt x="633" y="1570"/>
                  </a:lnTo>
                  <a:lnTo>
                    <a:pt x="595" y="1562"/>
                  </a:lnTo>
                  <a:lnTo>
                    <a:pt x="558" y="1551"/>
                  </a:lnTo>
                  <a:lnTo>
                    <a:pt x="520" y="1538"/>
                  </a:lnTo>
                  <a:lnTo>
                    <a:pt x="484" y="1524"/>
                  </a:lnTo>
                  <a:lnTo>
                    <a:pt x="450" y="1508"/>
                  </a:lnTo>
                  <a:lnTo>
                    <a:pt x="416" y="1491"/>
                  </a:lnTo>
                  <a:lnTo>
                    <a:pt x="382" y="1472"/>
                  </a:lnTo>
                  <a:lnTo>
                    <a:pt x="350" y="1450"/>
                  </a:lnTo>
                  <a:lnTo>
                    <a:pt x="319" y="1429"/>
                  </a:lnTo>
                  <a:lnTo>
                    <a:pt x="289" y="1405"/>
                  </a:lnTo>
                  <a:lnTo>
                    <a:pt x="260" y="1380"/>
                  </a:lnTo>
                  <a:lnTo>
                    <a:pt x="232" y="1353"/>
                  </a:lnTo>
                  <a:lnTo>
                    <a:pt x="206" y="1326"/>
                  </a:lnTo>
                  <a:lnTo>
                    <a:pt x="182" y="1297"/>
                  </a:lnTo>
                  <a:lnTo>
                    <a:pt x="158" y="1268"/>
                  </a:lnTo>
                  <a:lnTo>
                    <a:pt x="135" y="1237"/>
                  </a:lnTo>
                  <a:lnTo>
                    <a:pt x="115" y="1205"/>
                  </a:lnTo>
                  <a:lnTo>
                    <a:pt x="96" y="1171"/>
                  </a:lnTo>
                  <a:lnTo>
                    <a:pt x="79" y="1137"/>
                  </a:lnTo>
                  <a:lnTo>
                    <a:pt x="62" y="1101"/>
                  </a:lnTo>
                  <a:lnTo>
                    <a:pt x="48" y="1065"/>
                  </a:lnTo>
                  <a:lnTo>
                    <a:pt x="36" y="1029"/>
                  </a:lnTo>
                  <a:lnTo>
                    <a:pt x="25" y="991"/>
                  </a:lnTo>
                  <a:lnTo>
                    <a:pt x="16" y="953"/>
                  </a:lnTo>
                  <a:lnTo>
                    <a:pt x="9" y="914"/>
                  </a:lnTo>
                  <a:lnTo>
                    <a:pt x="4" y="875"/>
                  </a:lnTo>
                  <a:lnTo>
                    <a:pt x="1" y="834"/>
                  </a:lnTo>
                  <a:lnTo>
                    <a:pt x="0" y="793"/>
                  </a:lnTo>
                  <a:lnTo>
                    <a:pt x="1" y="752"/>
                  </a:lnTo>
                  <a:lnTo>
                    <a:pt x="4" y="713"/>
                  </a:lnTo>
                  <a:lnTo>
                    <a:pt x="9" y="673"/>
                  </a:lnTo>
                  <a:lnTo>
                    <a:pt x="16" y="634"/>
                  </a:lnTo>
                  <a:lnTo>
                    <a:pt x="25" y="595"/>
                  </a:lnTo>
                  <a:lnTo>
                    <a:pt x="36" y="558"/>
                  </a:lnTo>
                  <a:lnTo>
                    <a:pt x="48" y="521"/>
                  </a:lnTo>
                  <a:lnTo>
                    <a:pt x="62" y="485"/>
                  </a:lnTo>
                  <a:lnTo>
                    <a:pt x="79" y="450"/>
                  </a:lnTo>
                  <a:lnTo>
                    <a:pt x="96" y="416"/>
                  </a:lnTo>
                  <a:lnTo>
                    <a:pt x="115" y="383"/>
                  </a:lnTo>
                  <a:lnTo>
                    <a:pt x="135" y="350"/>
                  </a:lnTo>
                  <a:lnTo>
                    <a:pt x="158" y="319"/>
                  </a:lnTo>
                  <a:lnTo>
                    <a:pt x="182" y="289"/>
                  </a:lnTo>
                  <a:lnTo>
                    <a:pt x="206" y="260"/>
                  </a:lnTo>
                  <a:lnTo>
                    <a:pt x="232" y="233"/>
                  </a:lnTo>
                  <a:lnTo>
                    <a:pt x="260" y="206"/>
                  </a:lnTo>
                  <a:lnTo>
                    <a:pt x="289" y="181"/>
                  </a:lnTo>
                  <a:lnTo>
                    <a:pt x="319" y="158"/>
                  </a:lnTo>
                  <a:lnTo>
                    <a:pt x="350" y="136"/>
                  </a:lnTo>
                  <a:lnTo>
                    <a:pt x="382" y="115"/>
                  </a:lnTo>
                  <a:lnTo>
                    <a:pt x="416" y="96"/>
                  </a:lnTo>
                  <a:lnTo>
                    <a:pt x="450" y="78"/>
                  </a:lnTo>
                  <a:lnTo>
                    <a:pt x="484" y="62"/>
                  </a:lnTo>
                  <a:lnTo>
                    <a:pt x="520" y="48"/>
                  </a:lnTo>
                  <a:lnTo>
                    <a:pt x="558" y="36"/>
                  </a:lnTo>
                  <a:lnTo>
                    <a:pt x="595" y="25"/>
                  </a:lnTo>
                  <a:lnTo>
                    <a:pt x="633" y="17"/>
                  </a:lnTo>
                  <a:lnTo>
                    <a:pt x="673" y="10"/>
                  </a:lnTo>
                  <a:lnTo>
                    <a:pt x="712" y="4"/>
                  </a:lnTo>
                  <a:lnTo>
                    <a:pt x="752" y="1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ca8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25880" y="2706840"/>
              <a:ext cx="623880" cy="622080"/>
            </a:xfrm>
            <a:custGeom>
              <a:avLst/>
              <a:gdLst/>
              <a:ahLst/>
              <a:rect l="l" t="t" r="r" b="b"/>
              <a:pathLst>
                <a:path w="1572" h="1572">
                  <a:moveTo>
                    <a:pt x="786" y="0"/>
                  </a:moveTo>
                  <a:lnTo>
                    <a:pt x="827" y="0"/>
                  </a:lnTo>
                  <a:lnTo>
                    <a:pt x="866" y="4"/>
                  </a:lnTo>
                  <a:lnTo>
                    <a:pt x="906" y="9"/>
                  </a:lnTo>
                  <a:lnTo>
                    <a:pt x="944" y="16"/>
                  </a:lnTo>
                  <a:lnTo>
                    <a:pt x="983" y="24"/>
                  </a:lnTo>
                  <a:lnTo>
                    <a:pt x="1020" y="35"/>
                  </a:lnTo>
                  <a:lnTo>
                    <a:pt x="1056" y="47"/>
                  </a:lnTo>
                  <a:lnTo>
                    <a:pt x="1092" y="61"/>
                  </a:lnTo>
                  <a:lnTo>
                    <a:pt x="1127" y="77"/>
                  </a:lnTo>
                  <a:lnTo>
                    <a:pt x="1160" y="95"/>
                  </a:lnTo>
                  <a:lnTo>
                    <a:pt x="1193" y="114"/>
                  </a:lnTo>
                  <a:lnTo>
                    <a:pt x="1225" y="135"/>
                  </a:lnTo>
                  <a:lnTo>
                    <a:pt x="1256" y="156"/>
                  </a:lnTo>
                  <a:lnTo>
                    <a:pt x="1286" y="179"/>
                  </a:lnTo>
                  <a:lnTo>
                    <a:pt x="1314" y="204"/>
                  </a:lnTo>
                  <a:lnTo>
                    <a:pt x="1342" y="231"/>
                  </a:lnTo>
                  <a:lnTo>
                    <a:pt x="1368" y="258"/>
                  </a:lnTo>
                  <a:lnTo>
                    <a:pt x="1392" y="286"/>
                  </a:lnTo>
                  <a:lnTo>
                    <a:pt x="1416" y="316"/>
                  </a:lnTo>
                  <a:lnTo>
                    <a:pt x="1438" y="347"/>
                  </a:lnTo>
                  <a:lnTo>
                    <a:pt x="1458" y="378"/>
                  </a:lnTo>
                  <a:lnTo>
                    <a:pt x="1477" y="412"/>
                  </a:lnTo>
                  <a:lnTo>
                    <a:pt x="1495" y="445"/>
                  </a:lnTo>
                  <a:lnTo>
                    <a:pt x="1511" y="480"/>
                  </a:lnTo>
                  <a:lnTo>
                    <a:pt x="1524" y="516"/>
                  </a:lnTo>
                  <a:lnTo>
                    <a:pt x="1537" y="552"/>
                  </a:lnTo>
                  <a:lnTo>
                    <a:pt x="1548" y="589"/>
                  </a:lnTo>
                  <a:lnTo>
                    <a:pt x="1556" y="628"/>
                  </a:lnTo>
                  <a:lnTo>
                    <a:pt x="1564" y="666"/>
                  </a:lnTo>
                  <a:lnTo>
                    <a:pt x="1568" y="706"/>
                  </a:lnTo>
                  <a:lnTo>
                    <a:pt x="1571" y="745"/>
                  </a:lnTo>
                  <a:lnTo>
                    <a:pt x="1572" y="786"/>
                  </a:lnTo>
                  <a:lnTo>
                    <a:pt x="1571" y="826"/>
                  </a:lnTo>
                  <a:lnTo>
                    <a:pt x="1568" y="865"/>
                  </a:lnTo>
                  <a:lnTo>
                    <a:pt x="1564" y="905"/>
                  </a:lnTo>
                  <a:lnTo>
                    <a:pt x="1556" y="943"/>
                  </a:lnTo>
                  <a:lnTo>
                    <a:pt x="1548" y="982"/>
                  </a:lnTo>
                  <a:lnTo>
                    <a:pt x="1537" y="1019"/>
                  </a:lnTo>
                  <a:lnTo>
                    <a:pt x="1524" y="1055"/>
                  </a:lnTo>
                  <a:lnTo>
                    <a:pt x="1511" y="1091"/>
                  </a:lnTo>
                  <a:lnTo>
                    <a:pt x="1495" y="1126"/>
                  </a:lnTo>
                  <a:lnTo>
                    <a:pt x="1477" y="1159"/>
                  </a:lnTo>
                  <a:lnTo>
                    <a:pt x="1458" y="1193"/>
                  </a:lnTo>
                  <a:lnTo>
                    <a:pt x="1438" y="1224"/>
                  </a:lnTo>
                  <a:lnTo>
                    <a:pt x="1416" y="1255"/>
                  </a:lnTo>
                  <a:lnTo>
                    <a:pt x="1392" y="1285"/>
                  </a:lnTo>
                  <a:lnTo>
                    <a:pt x="1368" y="1314"/>
                  </a:lnTo>
                  <a:lnTo>
                    <a:pt x="1342" y="1340"/>
                  </a:lnTo>
                  <a:lnTo>
                    <a:pt x="1314" y="1367"/>
                  </a:lnTo>
                  <a:lnTo>
                    <a:pt x="1286" y="1392"/>
                  </a:lnTo>
                  <a:lnTo>
                    <a:pt x="1256" y="1415"/>
                  </a:lnTo>
                  <a:lnTo>
                    <a:pt x="1225" y="1437"/>
                  </a:lnTo>
                  <a:lnTo>
                    <a:pt x="1193" y="1458"/>
                  </a:lnTo>
                  <a:lnTo>
                    <a:pt x="1160" y="1476"/>
                  </a:lnTo>
                  <a:lnTo>
                    <a:pt x="1127" y="1494"/>
                  </a:lnTo>
                  <a:lnTo>
                    <a:pt x="1092" y="1509"/>
                  </a:lnTo>
                  <a:lnTo>
                    <a:pt x="1056" y="1524"/>
                  </a:lnTo>
                  <a:lnTo>
                    <a:pt x="1020" y="1536"/>
                  </a:lnTo>
                  <a:lnTo>
                    <a:pt x="983" y="1547"/>
                  </a:lnTo>
                  <a:lnTo>
                    <a:pt x="944" y="1555"/>
                  </a:lnTo>
                  <a:lnTo>
                    <a:pt x="906" y="1562"/>
                  </a:lnTo>
                  <a:lnTo>
                    <a:pt x="866" y="1567"/>
                  </a:lnTo>
                  <a:lnTo>
                    <a:pt x="827" y="1571"/>
                  </a:lnTo>
                  <a:lnTo>
                    <a:pt x="786" y="1572"/>
                  </a:lnTo>
                  <a:lnTo>
                    <a:pt x="746" y="1571"/>
                  </a:lnTo>
                  <a:lnTo>
                    <a:pt x="706" y="1567"/>
                  </a:lnTo>
                  <a:lnTo>
                    <a:pt x="667" y="1562"/>
                  </a:lnTo>
                  <a:lnTo>
                    <a:pt x="629" y="1555"/>
                  </a:lnTo>
                  <a:lnTo>
                    <a:pt x="590" y="1547"/>
                  </a:lnTo>
                  <a:lnTo>
                    <a:pt x="553" y="1536"/>
                  </a:lnTo>
                  <a:lnTo>
                    <a:pt x="516" y="1524"/>
                  </a:lnTo>
                  <a:lnTo>
                    <a:pt x="481" y="1509"/>
                  </a:lnTo>
                  <a:lnTo>
                    <a:pt x="446" y="1494"/>
                  </a:lnTo>
                  <a:lnTo>
                    <a:pt x="412" y="1476"/>
                  </a:lnTo>
                  <a:lnTo>
                    <a:pt x="379" y="1458"/>
                  </a:lnTo>
                  <a:lnTo>
                    <a:pt x="347" y="1437"/>
                  </a:lnTo>
                  <a:lnTo>
                    <a:pt x="317" y="1415"/>
                  </a:lnTo>
                  <a:lnTo>
                    <a:pt x="287" y="1392"/>
                  </a:lnTo>
                  <a:lnTo>
                    <a:pt x="258" y="1367"/>
                  </a:lnTo>
                  <a:lnTo>
                    <a:pt x="230" y="1340"/>
                  </a:lnTo>
                  <a:lnTo>
                    <a:pt x="205" y="1314"/>
                  </a:lnTo>
                  <a:lnTo>
                    <a:pt x="180" y="1285"/>
                  </a:lnTo>
                  <a:lnTo>
                    <a:pt x="157" y="1255"/>
                  </a:lnTo>
                  <a:lnTo>
                    <a:pt x="134" y="1224"/>
                  </a:lnTo>
                  <a:lnTo>
                    <a:pt x="114" y="1193"/>
                  </a:lnTo>
                  <a:lnTo>
                    <a:pt x="95" y="1159"/>
                  </a:lnTo>
                  <a:lnTo>
                    <a:pt x="78" y="1126"/>
                  </a:lnTo>
                  <a:lnTo>
                    <a:pt x="62" y="1091"/>
                  </a:lnTo>
                  <a:lnTo>
                    <a:pt x="48" y="1055"/>
                  </a:lnTo>
                  <a:lnTo>
                    <a:pt x="36" y="1019"/>
                  </a:lnTo>
                  <a:lnTo>
                    <a:pt x="25" y="982"/>
                  </a:lnTo>
                  <a:lnTo>
                    <a:pt x="17" y="943"/>
                  </a:lnTo>
                  <a:lnTo>
                    <a:pt x="10" y="905"/>
                  </a:lnTo>
                  <a:lnTo>
                    <a:pt x="5" y="865"/>
                  </a:lnTo>
                  <a:lnTo>
                    <a:pt x="1" y="826"/>
                  </a:lnTo>
                  <a:lnTo>
                    <a:pt x="0" y="786"/>
                  </a:lnTo>
                  <a:lnTo>
                    <a:pt x="1" y="745"/>
                  </a:lnTo>
                  <a:lnTo>
                    <a:pt x="5" y="706"/>
                  </a:lnTo>
                  <a:lnTo>
                    <a:pt x="10" y="666"/>
                  </a:lnTo>
                  <a:lnTo>
                    <a:pt x="17" y="628"/>
                  </a:lnTo>
                  <a:lnTo>
                    <a:pt x="25" y="589"/>
                  </a:lnTo>
                  <a:lnTo>
                    <a:pt x="36" y="552"/>
                  </a:lnTo>
                  <a:lnTo>
                    <a:pt x="48" y="516"/>
                  </a:lnTo>
                  <a:lnTo>
                    <a:pt x="62" y="480"/>
                  </a:lnTo>
                  <a:lnTo>
                    <a:pt x="78" y="445"/>
                  </a:lnTo>
                  <a:lnTo>
                    <a:pt x="95" y="412"/>
                  </a:lnTo>
                  <a:lnTo>
                    <a:pt x="114" y="378"/>
                  </a:lnTo>
                  <a:lnTo>
                    <a:pt x="134" y="347"/>
                  </a:lnTo>
                  <a:lnTo>
                    <a:pt x="157" y="316"/>
                  </a:lnTo>
                  <a:lnTo>
                    <a:pt x="180" y="286"/>
                  </a:lnTo>
                  <a:lnTo>
                    <a:pt x="205" y="258"/>
                  </a:lnTo>
                  <a:lnTo>
                    <a:pt x="230" y="231"/>
                  </a:lnTo>
                  <a:lnTo>
                    <a:pt x="258" y="204"/>
                  </a:lnTo>
                  <a:lnTo>
                    <a:pt x="287" y="179"/>
                  </a:lnTo>
                  <a:lnTo>
                    <a:pt x="317" y="156"/>
                  </a:lnTo>
                  <a:lnTo>
                    <a:pt x="347" y="135"/>
                  </a:lnTo>
                  <a:lnTo>
                    <a:pt x="379" y="114"/>
                  </a:lnTo>
                  <a:lnTo>
                    <a:pt x="412" y="95"/>
                  </a:lnTo>
                  <a:lnTo>
                    <a:pt x="446" y="77"/>
                  </a:lnTo>
                  <a:lnTo>
                    <a:pt x="481" y="61"/>
                  </a:lnTo>
                  <a:lnTo>
                    <a:pt x="516" y="47"/>
                  </a:lnTo>
                  <a:lnTo>
                    <a:pt x="553" y="35"/>
                  </a:lnTo>
                  <a:lnTo>
                    <a:pt x="590" y="24"/>
                  </a:lnTo>
                  <a:lnTo>
                    <a:pt x="629" y="16"/>
                  </a:lnTo>
                  <a:lnTo>
                    <a:pt x="667" y="9"/>
                  </a:lnTo>
                  <a:lnTo>
                    <a:pt x="706" y="4"/>
                  </a:lnTo>
                  <a:lnTo>
                    <a:pt x="746" y="0"/>
                  </a:lnTo>
                  <a:lnTo>
                    <a:pt x="786" y="0"/>
                  </a:lnTo>
                  <a:close/>
                </a:path>
              </a:pathLst>
            </a:custGeom>
            <a:solidFill>
              <a:srgbClr val="cc8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29120" y="2711520"/>
              <a:ext cx="617400" cy="617400"/>
            </a:xfrm>
            <a:custGeom>
              <a:avLst/>
              <a:gdLst/>
              <a:ahLst/>
              <a:rect l="l" t="t" r="r" b="b"/>
              <a:pathLst>
                <a:path w="1558" h="1557">
                  <a:moveTo>
                    <a:pt x="779" y="0"/>
                  </a:moveTo>
                  <a:lnTo>
                    <a:pt x="819" y="1"/>
                  </a:lnTo>
                  <a:lnTo>
                    <a:pt x="858" y="4"/>
                  </a:lnTo>
                  <a:lnTo>
                    <a:pt x="898" y="10"/>
                  </a:lnTo>
                  <a:lnTo>
                    <a:pt x="936" y="16"/>
                  </a:lnTo>
                  <a:lnTo>
                    <a:pt x="974" y="25"/>
                  </a:lnTo>
                  <a:lnTo>
                    <a:pt x="1011" y="35"/>
                  </a:lnTo>
                  <a:lnTo>
                    <a:pt x="1047" y="48"/>
                  </a:lnTo>
                  <a:lnTo>
                    <a:pt x="1082" y="61"/>
                  </a:lnTo>
                  <a:lnTo>
                    <a:pt x="1116" y="77"/>
                  </a:lnTo>
                  <a:lnTo>
                    <a:pt x="1150" y="95"/>
                  </a:lnTo>
                  <a:lnTo>
                    <a:pt x="1182" y="113"/>
                  </a:lnTo>
                  <a:lnTo>
                    <a:pt x="1214" y="133"/>
                  </a:lnTo>
                  <a:lnTo>
                    <a:pt x="1245" y="155"/>
                  </a:lnTo>
                  <a:lnTo>
                    <a:pt x="1274" y="179"/>
                  </a:lnTo>
                  <a:lnTo>
                    <a:pt x="1302" y="203"/>
                  </a:lnTo>
                  <a:lnTo>
                    <a:pt x="1330" y="228"/>
                  </a:lnTo>
                  <a:lnTo>
                    <a:pt x="1355" y="256"/>
                  </a:lnTo>
                  <a:lnTo>
                    <a:pt x="1379" y="285"/>
                  </a:lnTo>
                  <a:lnTo>
                    <a:pt x="1403" y="313"/>
                  </a:lnTo>
                  <a:lnTo>
                    <a:pt x="1425" y="345"/>
                  </a:lnTo>
                  <a:lnTo>
                    <a:pt x="1445" y="376"/>
                  </a:lnTo>
                  <a:lnTo>
                    <a:pt x="1463" y="408"/>
                  </a:lnTo>
                  <a:lnTo>
                    <a:pt x="1481" y="442"/>
                  </a:lnTo>
                  <a:lnTo>
                    <a:pt x="1497" y="477"/>
                  </a:lnTo>
                  <a:lnTo>
                    <a:pt x="1510" y="511"/>
                  </a:lnTo>
                  <a:lnTo>
                    <a:pt x="1523" y="547"/>
                  </a:lnTo>
                  <a:lnTo>
                    <a:pt x="1533" y="585"/>
                  </a:lnTo>
                  <a:lnTo>
                    <a:pt x="1542" y="622"/>
                  </a:lnTo>
                  <a:lnTo>
                    <a:pt x="1548" y="660"/>
                  </a:lnTo>
                  <a:lnTo>
                    <a:pt x="1554" y="700"/>
                  </a:lnTo>
                  <a:lnTo>
                    <a:pt x="1557" y="739"/>
                  </a:lnTo>
                  <a:lnTo>
                    <a:pt x="1558" y="779"/>
                  </a:lnTo>
                  <a:lnTo>
                    <a:pt x="1557" y="818"/>
                  </a:lnTo>
                  <a:lnTo>
                    <a:pt x="1554" y="858"/>
                  </a:lnTo>
                  <a:lnTo>
                    <a:pt x="1548" y="896"/>
                  </a:lnTo>
                  <a:lnTo>
                    <a:pt x="1542" y="935"/>
                  </a:lnTo>
                  <a:lnTo>
                    <a:pt x="1533" y="973"/>
                  </a:lnTo>
                  <a:lnTo>
                    <a:pt x="1523" y="1009"/>
                  </a:lnTo>
                  <a:lnTo>
                    <a:pt x="1510" y="1046"/>
                  </a:lnTo>
                  <a:lnTo>
                    <a:pt x="1497" y="1081"/>
                  </a:lnTo>
                  <a:lnTo>
                    <a:pt x="1481" y="1116"/>
                  </a:lnTo>
                  <a:lnTo>
                    <a:pt x="1463" y="1150"/>
                  </a:lnTo>
                  <a:lnTo>
                    <a:pt x="1445" y="1182"/>
                  </a:lnTo>
                  <a:lnTo>
                    <a:pt x="1425" y="1213"/>
                  </a:lnTo>
                  <a:lnTo>
                    <a:pt x="1403" y="1244"/>
                  </a:lnTo>
                  <a:lnTo>
                    <a:pt x="1379" y="1273"/>
                  </a:lnTo>
                  <a:lnTo>
                    <a:pt x="1355" y="1302"/>
                  </a:lnTo>
                  <a:lnTo>
                    <a:pt x="1330" y="1328"/>
                  </a:lnTo>
                  <a:lnTo>
                    <a:pt x="1302" y="1355"/>
                  </a:lnTo>
                  <a:lnTo>
                    <a:pt x="1274" y="1379"/>
                  </a:lnTo>
                  <a:lnTo>
                    <a:pt x="1245" y="1403"/>
                  </a:lnTo>
                  <a:lnTo>
                    <a:pt x="1214" y="1424"/>
                  </a:lnTo>
                  <a:lnTo>
                    <a:pt x="1182" y="1445"/>
                  </a:lnTo>
                  <a:lnTo>
                    <a:pt x="1150" y="1463"/>
                  </a:lnTo>
                  <a:lnTo>
                    <a:pt x="1116" y="1481"/>
                  </a:lnTo>
                  <a:lnTo>
                    <a:pt x="1082" y="1496"/>
                  </a:lnTo>
                  <a:lnTo>
                    <a:pt x="1047" y="1509"/>
                  </a:lnTo>
                  <a:lnTo>
                    <a:pt x="1011" y="1521"/>
                  </a:lnTo>
                  <a:lnTo>
                    <a:pt x="974" y="1532"/>
                  </a:lnTo>
                  <a:lnTo>
                    <a:pt x="936" y="1542"/>
                  </a:lnTo>
                  <a:lnTo>
                    <a:pt x="898" y="1548"/>
                  </a:lnTo>
                  <a:lnTo>
                    <a:pt x="858" y="1553"/>
                  </a:lnTo>
                  <a:lnTo>
                    <a:pt x="819" y="1556"/>
                  </a:lnTo>
                  <a:lnTo>
                    <a:pt x="779" y="1557"/>
                  </a:lnTo>
                  <a:lnTo>
                    <a:pt x="740" y="1556"/>
                  </a:lnTo>
                  <a:lnTo>
                    <a:pt x="700" y="1553"/>
                  </a:lnTo>
                  <a:lnTo>
                    <a:pt x="662" y="1548"/>
                  </a:lnTo>
                  <a:lnTo>
                    <a:pt x="623" y="1542"/>
                  </a:lnTo>
                  <a:lnTo>
                    <a:pt x="585" y="1532"/>
                  </a:lnTo>
                  <a:lnTo>
                    <a:pt x="549" y="1521"/>
                  </a:lnTo>
                  <a:lnTo>
                    <a:pt x="512" y="1509"/>
                  </a:lnTo>
                  <a:lnTo>
                    <a:pt x="477" y="1496"/>
                  </a:lnTo>
                  <a:lnTo>
                    <a:pt x="442" y="1481"/>
                  </a:lnTo>
                  <a:lnTo>
                    <a:pt x="408" y="1463"/>
                  </a:lnTo>
                  <a:lnTo>
                    <a:pt x="376" y="1445"/>
                  </a:lnTo>
                  <a:lnTo>
                    <a:pt x="345" y="1424"/>
                  </a:lnTo>
                  <a:lnTo>
                    <a:pt x="314" y="1403"/>
                  </a:lnTo>
                  <a:lnTo>
                    <a:pt x="285" y="1379"/>
                  </a:lnTo>
                  <a:lnTo>
                    <a:pt x="256" y="1355"/>
                  </a:lnTo>
                  <a:lnTo>
                    <a:pt x="230" y="1328"/>
                  </a:lnTo>
                  <a:lnTo>
                    <a:pt x="203" y="1302"/>
                  </a:lnTo>
                  <a:lnTo>
                    <a:pt x="179" y="1273"/>
                  </a:lnTo>
                  <a:lnTo>
                    <a:pt x="155" y="1244"/>
                  </a:lnTo>
                  <a:lnTo>
                    <a:pt x="134" y="1213"/>
                  </a:lnTo>
                  <a:lnTo>
                    <a:pt x="113" y="1182"/>
                  </a:lnTo>
                  <a:lnTo>
                    <a:pt x="95" y="1150"/>
                  </a:lnTo>
                  <a:lnTo>
                    <a:pt x="77" y="1116"/>
                  </a:lnTo>
                  <a:lnTo>
                    <a:pt x="62" y="1081"/>
                  </a:lnTo>
                  <a:lnTo>
                    <a:pt x="48" y="1046"/>
                  </a:lnTo>
                  <a:lnTo>
                    <a:pt x="36" y="1009"/>
                  </a:lnTo>
                  <a:lnTo>
                    <a:pt x="26" y="973"/>
                  </a:lnTo>
                  <a:lnTo>
                    <a:pt x="16" y="935"/>
                  </a:lnTo>
                  <a:lnTo>
                    <a:pt x="10" y="896"/>
                  </a:lnTo>
                  <a:lnTo>
                    <a:pt x="5" y="858"/>
                  </a:lnTo>
                  <a:lnTo>
                    <a:pt x="2" y="818"/>
                  </a:lnTo>
                  <a:lnTo>
                    <a:pt x="0" y="779"/>
                  </a:lnTo>
                  <a:lnTo>
                    <a:pt x="2" y="739"/>
                  </a:lnTo>
                  <a:lnTo>
                    <a:pt x="5" y="700"/>
                  </a:lnTo>
                  <a:lnTo>
                    <a:pt x="10" y="660"/>
                  </a:lnTo>
                  <a:lnTo>
                    <a:pt x="16" y="622"/>
                  </a:lnTo>
                  <a:lnTo>
                    <a:pt x="26" y="585"/>
                  </a:lnTo>
                  <a:lnTo>
                    <a:pt x="36" y="547"/>
                  </a:lnTo>
                  <a:lnTo>
                    <a:pt x="48" y="511"/>
                  </a:lnTo>
                  <a:lnTo>
                    <a:pt x="62" y="477"/>
                  </a:lnTo>
                  <a:lnTo>
                    <a:pt x="77" y="442"/>
                  </a:lnTo>
                  <a:lnTo>
                    <a:pt x="95" y="408"/>
                  </a:lnTo>
                  <a:lnTo>
                    <a:pt x="113" y="376"/>
                  </a:lnTo>
                  <a:lnTo>
                    <a:pt x="134" y="345"/>
                  </a:lnTo>
                  <a:lnTo>
                    <a:pt x="155" y="313"/>
                  </a:lnTo>
                  <a:lnTo>
                    <a:pt x="179" y="285"/>
                  </a:lnTo>
                  <a:lnTo>
                    <a:pt x="203" y="256"/>
                  </a:lnTo>
                  <a:lnTo>
                    <a:pt x="230" y="228"/>
                  </a:lnTo>
                  <a:lnTo>
                    <a:pt x="256" y="203"/>
                  </a:lnTo>
                  <a:lnTo>
                    <a:pt x="285" y="179"/>
                  </a:lnTo>
                  <a:lnTo>
                    <a:pt x="314" y="155"/>
                  </a:lnTo>
                  <a:lnTo>
                    <a:pt x="345" y="133"/>
                  </a:lnTo>
                  <a:lnTo>
                    <a:pt x="376" y="113"/>
                  </a:lnTo>
                  <a:lnTo>
                    <a:pt x="408" y="95"/>
                  </a:lnTo>
                  <a:lnTo>
                    <a:pt x="442" y="77"/>
                  </a:lnTo>
                  <a:lnTo>
                    <a:pt x="477" y="61"/>
                  </a:lnTo>
                  <a:lnTo>
                    <a:pt x="512" y="48"/>
                  </a:lnTo>
                  <a:lnTo>
                    <a:pt x="549" y="35"/>
                  </a:lnTo>
                  <a:lnTo>
                    <a:pt x="585" y="25"/>
                  </a:lnTo>
                  <a:lnTo>
                    <a:pt x="623" y="16"/>
                  </a:lnTo>
                  <a:lnTo>
                    <a:pt x="662" y="10"/>
                  </a:lnTo>
                  <a:lnTo>
                    <a:pt x="700" y="4"/>
                  </a:lnTo>
                  <a:lnTo>
                    <a:pt x="740" y="1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d48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32360" y="2741760"/>
              <a:ext cx="612720" cy="610920"/>
            </a:xfrm>
            <a:custGeom>
              <a:avLst/>
              <a:gdLst/>
              <a:ahLst/>
              <a:rect l="l" t="t" r="r" b="b"/>
              <a:pathLst>
                <a:path w="1543" h="1543">
                  <a:moveTo>
                    <a:pt x="771" y="0"/>
                  </a:moveTo>
                  <a:lnTo>
                    <a:pt x="811" y="1"/>
                  </a:lnTo>
                  <a:lnTo>
                    <a:pt x="851" y="5"/>
                  </a:lnTo>
                  <a:lnTo>
                    <a:pt x="889" y="10"/>
                  </a:lnTo>
                  <a:lnTo>
                    <a:pt x="926" y="17"/>
                  </a:lnTo>
                  <a:lnTo>
                    <a:pt x="963" y="25"/>
                  </a:lnTo>
                  <a:lnTo>
                    <a:pt x="1001" y="35"/>
                  </a:lnTo>
                  <a:lnTo>
                    <a:pt x="1037" y="48"/>
                  </a:lnTo>
                  <a:lnTo>
                    <a:pt x="1071" y="61"/>
                  </a:lnTo>
                  <a:lnTo>
                    <a:pt x="1105" y="77"/>
                  </a:lnTo>
                  <a:lnTo>
                    <a:pt x="1139" y="94"/>
                  </a:lnTo>
                  <a:lnTo>
                    <a:pt x="1171" y="113"/>
                  </a:lnTo>
                  <a:lnTo>
                    <a:pt x="1202" y="133"/>
                  </a:lnTo>
                  <a:lnTo>
                    <a:pt x="1232" y="154"/>
                  </a:lnTo>
                  <a:lnTo>
                    <a:pt x="1261" y="178"/>
                  </a:lnTo>
                  <a:lnTo>
                    <a:pt x="1290" y="202"/>
                  </a:lnTo>
                  <a:lnTo>
                    <a:pt x="1316" y="227"/>
                  </a:lnTo>
                  <a:lnTo>
                    <a:pt x="1341" y="253"/>
                  </a:lnTo>
                  <a:lnTo>
                    <a:pt x="1367" y="282"/>
                  </a:lnTo>
                  <a:lnTo>
                    <a:pt x="1389" y="311"/>
                  </a:lnTo>
                  <a:lnTo>
                    <a:pt x="1411" y="341"/>
                  </a:lnTo>
                  <a:lnTo>
                    <a:pt x="1430" y="372"/>
                  </a:lnTo>
                  <a:lnTo>
                    <a:pt x="1449" y="405"/>
                  </a:lnTo>
                  <a:lnTo>
                    <a:pt x="1466" y="438"/>
                  </a:lnTo>
                  <a:lnTo>
                    <a:pt x="1482" y="472"/>
                  </a:lnTo>
                  <a:lnTo>
                    <a:pt x="1496" y="508"/>
                  </a:lnTo>
                  <a:lnTo>
                    <a:pt x="1508" y="543"/>
                  </a:lnTo>
                  <a:lnTo>
                    <a:pt x="1518" y="580"/>
                  </a:lnTo>
                  <a:lnTo>
                    <a:pt x="1527" y="617"/>
                  </a:lnTo>
                  <a:lnTo>
                    <a:pt x="1533" y="655"/>
                  </a:lnTo>
                  <a:lnTo>
                    <a:pt x="1538" y="694"/>
                  </a:lnTo>
                  <a:lnTo>
                    <a:pt x="1542" y="732"/>
                  </a:lnTo>
                  <a:lnTo>
                    <a:pt x="1543" y="772"/>
                  </a:lnTo>
                  <a:lnTo>
                    <a:pt x="1542" y="811"/>
                  </a:lnTo>
                  <a:lnTo>
                    <a:pt x="1538" y="851"/>
                  </a:lnTo>
                  <a:lnTo>
                    <a:pt x="1533" y="889"/>
                  </a:lnTo>
                  <a:lnTo>
                    <a:pt x="1527" y="926"/>
                  </a:lnTo>
                  <a:lnTo>
                    <a:pt x="1518" y="964"/>
                  </a:lnTo>
                  <a:lnTo>
                    <a:pt x="1508" y="1001"/>
                  </a:lnTo>
                  <a:lnTo>
                    <a:pt x="1496" y="1037"/>
                  </a:lnTo>
                  <a:lnTo>
                    <a:pt x="1482" y="1072"/>
                  </a:lnTo>
                  <a:lnTo>
                    <a:pt x="1466" y="1105"/>
                  </a:lnTo>
                  <a:lnTo>
                    <a:pt x="1449" y="1139"/>
                  </a:lnTo>
                  <a:lnTo>
                    <a:pt x="1430" y="1171"/>
                  </a:lnTo>
                  <a:lnTo>
                    <a:pt x="1411" y="1202"/>
                  </a:lnTo>
                  <a:lnTo>
                    <a:pt x="1389" y="1232"/>
                  </a:lnTo>
                  <a:lnTo>
                    <a:pt x="1367" y="1262"/>
                  </a:lnTo>
                  <a:lnTo>
                    <a:pt x="1341" y="1290"/>
                  </a:lnTo>
                  <a:lnTo>
                    <a:pt x="1316" y="1316"/>
                  </a:lnTo>
                  <a:lnTo>
                    <a:pt x="1290" y="1343"/>
                  </a:lnTo>
                  <a:lnTo>
                    <a:pt x="1261" y="1367"/>
                  </a:lnTo>
                  <a:lnTo>
                    <a:pt x="1232" y="1389"/>
                  </a:lnTo>
                  <a:lnTo>
                    <a:pt x="1202" y="1411"/>
                  </a:lnTo>
                  <a:lnTo>
                    <a:pt x="1171" y="1431"/>
                  </a:lnTo>
                  <a:lnTo>
                    <a:pt x="1139" y="1449"/>
                  </a:lnTo>
                  <a:lnTo>
                    <a:pt x="1105" y="1466"/>
                  </a:lnTo>
                  <a:lnTo>
                    <a:pt x="1071" y="1482"/>
                  </a:lnTo>
                  <a:lnTo>
                    <a:pt x="1037" y="1496"/>
                  </a:lnTo>
                  <a:lnTo>
                    <a:pt x="1001" y="1508"/>
                  </a:lnTo>
                  <a:lnTo>
                    <a:pt x="963" y="1519"/>
                  </a:lnTo>
                  <a:lnTo>
                    <a:pt x="926" y="1527"/>
                  </a:lnTo>
                  <a:lnTo>
                    <a:pt x="889" y="1533"/>
                  </a:lnTo>
                  <a:lnTo>
                    <a:pt x="851" y="1539"/>
                  </a:lnTo>
                  <a:lnTo>
                    <a:pt x="811" y="1542"/>
                  </a:lnTo>
                  <a:lnTo>
                    <a:pt x="771" y="1543"/>
                  </a:lnTo>
                  <a:lnTo>
                    <a:pt x="732" y="1542"/>
                  </a:lnTo>
                  <a:lnTo>
                    <a:pt x="692" y="1539"/>
                  </a:lnTo>
                  <a:lnTo>
                    <a:pt x="654" y="1533"/>
                  </a:lnTo>
                  <a:lnTo>
                    <a:pt x="617" y="1527"/>
                  </a:lnTo>
                  <a:lnTo>
                    <a:pt x="579" y="1519"/>
                  </a:lnTo>
                  <a:lnTo>
                    <a:pt x="542" y="1508"/>
                  </a:lnTo>
                  <a:lnTo>
                    <a:pt x="506" y="1496"/>
                  </a:lnTo>
                  <a:lnTo>
                    <a:pt x="471" y="1482"/>
                  </a:lnTo>
                  <a:lnTo>
                    <a:pt x="438" y="1466"/>
                  </a:lnTo>
                  <a:lnTo>
                    <a:pt x="404" y="1449"/>
                  </a:lnTo>
                  <a:lnTo>
                    <a:pt x="372" y="1431"/>
                  </a:lnTo>
                  <a:lnTo>
                    <a:pt x="341" y="1411"/>
                  </a:lnTo>
                  <a:lnTo>
                    <a:pt x="311" y="1389"/>
                  </a:lnTo>
                  <a:lnTo>
                    <a:pt x="282" y="1367"/>
                  </a:lnTo>
                  <a:lnTo>
                    <a:pt x="253" y="1343"/>
                  </a:lnTo>
                  <a:lnTo>
                    <a:pt x="227" y="1316"/>
                  </a:lnTo>
                  <a:lnTo>
                    <a:pt x="201" y="1290"/>
                  </a:lnTo>
                  <a:lnTo>
                    <a:pt x="176" y="1262"/>
                  </a:lnTo>
                  <a:lnTo>
                    <a:pt x="153" y="1232"/>
                  </a:lnTo>
                  <a:lnTo>
                    <a:pt x="132" y="1202"/>
                  </a:lnTo>
                  <a:lnTo>
                    <a:pt x="113" y="1171"/>
                  </a:lnTo>
                  <a:lnTo>
                    <a:pt x="93" y="1139"/>
                  </a:lnTo>
                  <a:lnTo>
                    <a:pt x="77" y="1105"/>
                  </a:lnTo>
                  <a:lnTo>
                    <a:pt x="61" y="1072"/>
                  </a:lnTo>
                  <a:lnTo>
                    <a:pt x="47" y="1037"/>
                  </a:lnTo>
                  <a:lnTo>
                    <a:pt x="35" y="1001"/>
                  </a:lnTo>
                  <a:lnTo>
                    <a:pt x="25" y="964"/>
                  </a:lnTo>
                  <a:lnTo>
                    <a:pt x="15" y="926"/>
                  </a:lnTo>
                  <a:lnTo>
                    <a:pt x="9" y="889"/>
                  </a:lnTo>
                  <a:lnTo>
                    <a:pt x="5" y="851"/>
                  </a:lnTo>
                  <a:lnTo>
                    <a:pt x="1" y="811"/>
                  </a:lnTo>
                  <a:lnTo>
                    <a:pt x="0" y="772"/>
                  </a:lnTo>
                  <a:lnTo>
                    <a:pt x="1" y="732"/>
                  </a:lnTo>
                  <a:lnTo>
                    <a:pt x="5" y="694"/>
                  </a:lnTo>
                  <a:lnTo>
                    <a:pt x="9" y="655"/>
                  </a:lnTo>
                  <a:lnTo>
                    <a:pt x="15" y="617"/>
                  </a:lnTo>
                  <a:lnTo>
                    <a:pt x="25" y="580"/>
                  </a:lnTo>
                  <a:lnTo>
                    <a:pt x="35" y="543"/>
                  </a:lnTo>
                  <a:lnTo>
                    <a:pt x="47" y="508"/>
                  </a:lnTo>
                  <a:lnTo>
                    <a:pt x="61" y="472"/>
                  </a:lnTo>
                  <a:lnTo>
                    <a:pt x="77" y="438"/>
                  </a:lnTo>
                  <a:lnTo>
                    <a:pt x="93" y="405"/>
                  </a:lnTo>
                  <a:lnTo>
                    <a:pt x="113" y="372"/>
                  </a:lnTo>
                  <a:lnTo>
                    <a:pt x="132" y="341"/>
                  </a:lnTo>
                  <a:lnTo>
                    <a:pt x="153" y="311"/>
                  </a:lnTo>
                  <a:lnTo>
                    <a:pt x="176" y="282"/>
                  </a:lnTo>
                  <a:lnTo>
                    <a:pt x="201" y="253"/>
                  </a:lnTo>
                  <a:lnTo>
                    <a:pt x="227" y="227"/>
                  </a:lnTo>
                  <a:lnTo>
                    <a:pt x="253" y="202"/>
                  </a:lnTo>
                  <a:lnTo>
                    <a:pt x="282" y="178"/>
                  </a:lnTo>
                  <a:lnTo>
                    <a:pt x="311" y="154"/>
                  </a:lnTo>
                  <a:lnTo>
                    <a:pt x="341" y="133"/>
                  </a:lnTo>
                  <a:lnTo>
                    <a:pt x="372" y="113"/>
                  </a:lnTo>
                  <a:lnTo>
                    <a:pt x="404" y="94"/>
                  </a:lnTo>
                  <a:lnTo>
                    <a:pt x="438" y="77"/>
                  </a:lnTo>
                  <a:lnTo>
                    <a:pt x="471" y="61"/>
                  </a:lnTo>
                  <a:lnTo>
                    <a:pt x="506" y="48"/>
                  </a:lnTo>
                  <a:lnTo>
                    <a:pt x="542" y="35"/>
                  </a:lnTo>
                  <a:lnTo>
                    <a:pt x="579" y="25"/>
                  </a:lnTo>
                  <a:lnTo>
                    <a:pt x="617" y="17"/>
                  </a:lnTo>
                  <a:lnTo>
                    <a:pt x="654" y="10"/>
                  </a:lnTo>
                  <a:lnTo>
                    <a:pt x="692" y="5"/>
                  </a:lnTo>
                  <a:lnTo>
                    <a:pt x="732" y="1"/>
                  </a:lnTo>
                  <a:lnTo>
                    <a:pt x="771" y="0"/>
                  </a:lnTo>
                  <a:close/>
                </a:path>
              </a:pathLst>
            </a:custGeom>
            <a:solidFill>
              <a:srgbClr val="d99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35600" y="2720880"/>
              <a:ext cx="606240" cy="606600"/>
            </a:xfrm>
            <a:custGeom>
              <a:avLst/>
              <a:gdLst/>
              <a:ahLst/>
              <a:rect l="l" t="t" r="r" b="b"/>
              <a:pathLst>
                <a:path w="1528" h="1528">
                  <a:moveTo>
                    <a:pt x="765" y="0"/>
                  </a:moveTo>
                  <a:lnTo>
                    <a:pt x="804" y="2"/>
                  </a:lnTo>
                  <a:lnTo>
                    <a:pt x="843" y="4"/>
                  </a:lnTo>
                  <a:lnTo>
                    <a:pt x="881" y="9"/>
                  </a:lnTo>
                  <a:lnTo>
                    <a:pt x="918" y="16"/>
                  </a:lnTo>
                  <a:lnTo>
                    <a:pt x="955" y="24"/>
                  </a:lnTo>
                  <a:lnTo>
                    <a:pt x="991" y="35"/>
                  </a:lnTo>
                  <a:lnTo>
                    <a:pt x="1026" y="47"/>
                  </a:lnTo>
                  <a:lnTo>
                    <a:pt x="1061" y="60"/>
                  </a:lnTo>
                  <a:lnTo>
                    <a:pt x="1095" y="76"/>
                  </a:lnTo>
                  <a:lnTo>
                    <a:pt x="1128" y="93"/>
                  </a:lnTo>
                  <a:lnTo>
                    <a:pt x="1159" y="111"/>
                  </a:lnTo>
                  <a:lnTo>
                    <a:pt x="1191" y="131"/>
                  </a:lnTo>
                  <a:lnTo>
                    <a:pt x="1221" y="153"/>
                  </a:lnTo>
                  <a:lnTo>
                    <a:pt x="1249" y="176"/>
                  </a:lnTo>
                  <a:lnTo>
                    <a:pt x="1277" y="200"/>
                  </a:lnTo>
                  <a:lnTo>
                    <a:pt x="1305" y="225"/>
                  </a:lnTo>
                  <a:lnTo>
                    <a:pt x="1330" y="251"/>
                  </a:lnTo>
                  <a:lnTo>
                    <a:pt x="1354" y="279"/>
                  </a:lnTo>
                  <a:lnTo>
                    <a:pt x="1377" y="308"/>
                  </a:lnTo>
                  <a:lnTo>
                    <a:pt x="1397" y="338"/>
                  </a:lnTo>
                  <a:lnTo>
                    <a:pt x="1417" y="369"/>
                  </a:lnTo>
                  <a:lnTo>
                    <a:pt x="1435" y="400"/>
                  </a:lnTo>
                  <a:lnTo>
                    <a:pt x="1452" y="434"/>
                  </a:lnTo>
                  <a:lnTo>
                    <a:pt x="1468" y="467"/>
                  </a:lnTo>
                  <a:lnTo>
                    <a:pt x="1482" y="502"/>
                  </a:lnTo>
                  <a:lnTo>
                    <a:pt x="1494" y="538"/>
                  </a:lnTo>
                  <a:lnTo>
                    <a:pt x="1504" y="574"/>
                  </a:lnTo>
                  <a:lnTo>
                    <a:pt x="1512" y="610"/>
                  </a:lnTo>
                  <a:lnTo>
                    <a:pt x="1519" y="648"/>
                  </a:lnTo>
                  <a:lnTo>
                    <a:pt x="1524" y="687"/>
                  </a:lnTo>
                  <a:lnTo>
                    <a:pt x="1528" y="725"/>
                  </a:lnTo>
                  <a:lnTo>
                    <a:pt x="1528" y="763"/>
                  </a:lnTo>
                  <a:lnTo>
                    <a:pt x="1528" y="803"/>
                  </a:lnTo>
                  <a:lnTo>
                    <a:pt x="1524" y="841"/>
                  </a:lnTo>
                  <a:lnTo>
                    <a:pt x="1519" y="880"/>
                  </a:lnTo>
                  <a:lnTo>
                    <a:pt x="1512" y="917"/>
                  </a:lnTo>
                  <a:lnTo>
                    <a:pt x="1504" y="954"/>
                  </a:lnTo>
                  <a:lnTo>
                    <a:pt x="1494" y="990"/>
                  </a:lnTo>
                  <a:lnTo>
                    <a:pt x="1482" y="1026"/>
                  </a:lnTo>
                  <a:lnTo>
                    <a:pt x="1468" y="1061"/>
                  </a:lnTo>
                  <a:lnTo>
                    <a:pt x="1452" y="1095"/>
                  </a:lnTo>
                  <a:lnTo>
                    <a:pt x="1435" y="1127"/>
                  </a:lnTo>
                  <a:lnTo>
                    <a:pt x="1417" y="1159"/>
                  </a:lnTo>
                  <a:lnTo>
                    <a:pt x="1397" y="1191"/>
                  </a:lnTo>
                  <a:lnTo>
                    <a:pt x="1377" y="1221"/>
                  </a:lnTo>
                  <a:lnTo>
                    <a:pt x="1354" y="1249"/>
                  </a:lnTo>
                  <a:lnTo>
                    <a:pt x="1330" y="1277"/>
                  </a:lnTo>
                  <a:lnTo>
                    <a:pt x="1305" y="1303"/>
                  </a:lnTo>
                  <a:lnTo>
                    <a:pt x="1277" y="1329"/>
                  </a:lnTo>
                  <a:lnTo>
                    <a:pt x="1249" y="1352"/>
                  </a:lnTo>
                  <a:lnTo>
                    <a:pt x="1221" y="1375"/>
                  </a:lnTo>
                  <a:lnTo>
                    <a:pt x="1191" y="1397"/>
                  </a:lnTo>
                  <a:lnTo>
                    <a:pt x="1159" y="1417"/>
                  </a:lnTo>
                  <a:lnTo>
                    <a:pt x="1128" y="1435"/>
                  </a:lnTo>
                  <a:lnTo>
                    <a:pt x="1095" y="1452"/>
                  </a:lnTo>
                  <a:lnTo>
                    <a:pt x="1061" y="1468"/>
                  </a:lnTo>
                  <a:lnTo>
                    <a:pt x="1026" y="1481"/>
                  </a:lnTo>
                  <a:lnTo>
                    <a:pt x="991" y="1493"/>
                  </a:lnTo>
                  <a:lnTo>
                    <a:pt x="955" y="1504"/>
                  </a:lnTo>
                  <a:lnTo>
                    <a:pt x="918" y="1512"/>
                  </a:lnTo>
                  <a:lnTo>
                    <a:pt x="881" y="1519"/>
                  </a:lnTo>
                  <a:lnTo>
                    <a:pt x="843" y="1524"/>
                  </a:lnTo>
                  <a:lnTo>
                    <a:pt x="804" y="1526"/>
                  </a:lnTo>
                  <a:lnTo>
                    <a:pt x="765" y="1528"/>
                  </a:lnTo>
                  <a:lnTo>
                    <a:pt x="725" y="1526"/>
                  </a:lnTo>
                  <a:lnTo>
                    <a:pt x="687" y="1524"/>
                  </a:lnTo>
                  <a:lnTo>
                    <a:pt x="648" y="1519"/>
                  </a:lnTo>
                  <a:lnTo>
                    <a:pt x="611" y="1512"/>
                  </a:lnTo>
                  <a:lnTo>
                    <a:pt x="574" y="1504"/>
                  </a:lnTo>
                  <a:lnTo>
                    <a:pt x="538" y="1493"/>
                  </a:lnTo>
                  <a:lnTo>
                    <a:pt x="502" y="1481"/>
                  </a:lnTo>
                  <a:lnTo>
                    <a:pt x="467" y="1468"/>
                  </a:lnTo>
                  <a:lnTo>
                    <a:pt x="433" y="1452"/>
                  </a:lnTo>
                  <a:lnTo>
                    <a:pt x="401" y="1435"/>
                  </a:lnTo>
                  <a:lnTo>
                    <a:pt x="369" y="1417"/>
                  </a:lnTo>
                  <a:lnTo>
                    <a:pt x="337" y="1397"/>
                  </a:lnTo>
                  <a:lnTo>
                    <a:pt x="307" y="1375"/>
                  </a:lnTo>
                  <a:lnTo>
                    <a:pt x="279" y="1352"/>
                  </a:lnTo>
                  <a:lnTo>
                    <a:pt x="251" y="1329"/>
                  </a:lnTo>
                  <a:lnTo>
                    <a:pt x="225" y="1303"/>
                  </a:lnTo>
                  <a:lnTo>
                    <a:pt x="199" y="1277"/>
                  </a:lnTo>
                  <a:lnTo>
                    <a:pt x="175" y="1249"/>
                  </a:lnTo>
                  <a:lnTo>
                    <a:pt x="153" y="1221"/>
                  </a:lnTo>
                  <a:lnTo>
                    <a:pt x="131" y="1191"/>
                  </a:lnTo>
                  <a:lnTo>
                    <a:pt x="112" y="1159"/>
                  </a:lnTo>
                  <a:lnTo>
                    <a:pt x="93" y="1127"/>
                  </a:lnTo>
                  <a:lnTo>
                    <a:pt x="76" y="1095"/>
                  </a:lnTo>
                  <a:lnTo>
                    <a:pt x="61" y="1061"/>
                  </a:lnTo>
                  <a:lnTo>
                    <a:pt x="47" y="1026"/>
                  </a:lnTo>
                  <a:lnTo>
                    <a:pt x="35" y="990"/>
                  </a:lnTo>
                  <a:lnTo>
                    <a:pt x="24" y="954"/>
                  </a:lnTo>
                  <a:lnTo>
                    <a:pt x="16" y="917"/>
                  </a:lnTo>
                  <a:lnTo>
                    <a:pt x="10" y="880"/>
                  </a:lnTo>
                  <a:lnTo>
                    <a:pt x="5" y="841"/>
                  </a:lnTo>
                  <a:lnTo>
                    <a:pt x="1" y="803"/>
                  </a:lnTo>
                  <a:lnTo>
                    <a:pt x="0" y="763"/>
                  </a:lnTo>
                  <a:lnTo>
                    <a:pt x="1" y="725"/>
                  </a:lnTo>
                  <a:lnTo>
                    <a:pt x="5" y="687"/>
                  </a:lnTo>
                  <a:lnTo>
                    <a:pt x="10" y="648"/>
                  </a:lnTo>
                  <a:lnTo>
                    <a:pt x="16" y="610"/>
                  </a:lnTo>
                  <a:lnTo>
                    <a:pt x="24" y="574"/>
                  </a:lnTo>
                  <a:lnTo>
                    <a:pt x="35" y="538"/>
                  </a:lnTo>
                  <a:lnTo>
                    <a:pt x="47" y="502"/>
                  </a:lnTo>
                  <a:lnTo>
                    <a:pt x="61" y="467"/>
                  </a:lnTo>
                  <a:lnTo>
                    <a:pt x="76" y="434"/>
                  </a:lnTo>
                  <a:lnTo>
                    <a:pt x="93" y="400"/>
                  </a:lnTo>
                  <a:lnTo>
                    <a:pt x="112" y="369"/>
                  </a:lnTo>
                  <a:lnTo>
                    <a:pt x="131" y="338"/>
                  </a:lnTo>
                  <a:lnTo>
                    <a:pt x="153" y="308"/>
                  </a:lnTo>
                  <a:lnTo>
                    <a:pt x="175" y="279"/>
                  </a:lnTo>
                  <a:lnTo>
                    <a:pt x="199" y="251"/>
                  </a:lnTo>
                  <a:lnTo>
                    <a:pt x="225" y="225"/>
                  </a:lnTo>
                  <a:lnTo>
                    <a:pt x="251" y="200"/>
                  </a:lnTo>
                  <a:lnTo>
                    <a:pt x="279" y="176"/>
                  </a:lnTo>
                  <a:lnTo>
                    <a:pt x="307" y="153"/>
                  </a:lnTo>
                  <a:lnTo>
                    <a:pt x="337" y="131"/>
                  </a:lnTo>
                  <a:lnTo>
                    <a:pt x="369" y="111"/>
                  </a:lnTo>
                  <a:lnTo>
                    <a:pt x="401" y="93"/>
                  </a:lnTo>
                  <a:lnTo>
                    <a:pt x="433" y="76"/>
                  </a:lnTo>
                  <a:lnTo>
                    <a:pt x="467" y="60"/>
                  </a:lnTo>
                  <a:lnTo>
                    <a:pt x="502" y="47"/>
                  </a:lnTo>
                  <a:lnTo>
                    <a:pt x="538" y="35"/>
                  </a:lnTo>
                  <a:lnTo>
                    <a:pt x="574" y="24"/>
                  </a:lnTo>
                  <a:lnTo>
                    <a:pt x="611" y="16"/>
                  </a:lnTo>
                  <a:lnTo>
                    <a:pt x="648" y="9"/>
                  </a:lnTo>
                  <a:lnTo>
                    <a:pt x="687" y="4"/>
                  </a:lnTo>
                  <a:lnTo>
                    <a:pt x="725" y="2"/>
                  </a:lnTo>
                  <a:lnTo>
                    <a:pt x="765" y="0"/>
                  </a:lnTo>
                  <a:close/>
                </a:path>
              </a:pathLst>
            </a:custGeom>
            <a:solidFill>
              <a:srgbClr val="df9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38480" y="2751120"/>
              <a:ext cx="600120" cy="600120"/>
            </a:xfrm>
            <a:custGeom>
              <a:avLst/>
              <a:gdLst/>
              <a:ahLst/>
              <a:rect l="l" t="t" r="r" b="b"/>
              <a:pathLst>
                <a:path w="1513" h="1513">
                  <a:moveTo>
                    <a:pt x="757" y="0"/>
                  </a:moveTo>
                  <a:lnTo>
                    <a:pt x="795" y="2"/>
                  </a:lnTo>
                  <a:lnTo>
                    <a:pt x="834" y="5"/>
                  </a:lnTo>
                  <a:lnTo>
                    <a:pt x="871" y="10"/>
                  </a:lnTo>
                  <a:lnTo>
                    <a:pt x="908" y="16"/>
                  </a:lnTo>
                  <a:lnTo>
                    <a:pt x="945" y="24"/>
                  </a:lnTo>
                  <a:lnTo>
                    <a:pt x="981" y="35"/>
                  </a:lnTo>
                  <a:lnTo>
                    <a:pt x="1016" y="47"/>
                  </a:lnTo>
                  <a:lnTo>
                    <a:pt x="1051" y="60"/>
                  </a:lnTo>
                  <a:lnTo>
                    <a:pt x="1084" y="76"/>
                  </a:lnTo>
                  <a:lnTo>
                    <a:pt x="1117" y="93"/>
                  </a:lnTo>
                  <a:lnTo>
                    <a:pt x="1148" y="111"/>
                  </a:lnTo>
                  <a:lnTo>
                    <a:pt x="1179" y="130"/>
                  </a:lnTo>
                  <a:lnTo>
                    <a:pt x="1208" y="152"/>
                  </a:lnTo>
                  <a:lnTo>
                    <a:pt x="1237" y="174"/>
                  </a:lnTo>
                  <a:lnTo>
                    <a:pt x="1264" y="198"/>
                  </a:lnTo>
                  <a:lnTo>
                    <a:pt x="1291" y="222"/>
                  </a:lnTo>
                  <a:lnTo>
                    <a:pt x="1316" y="249"/>
                  </a:lnTo>
                  <a:lnTo>
                    <a:pt x="1340" y="276"/>
                  </a:lnTo>
                  <a:lnTo>
                    <a:pt x="1363" y="305"/>
                  </a:lnTo>
                  <a:lnTo>
                    <a:pt x="1383" y="335"/>
                  </a:lnTo>
                  <a:lnTo>
                    <a:pt x="1404" y="365"/>
                  </a:lnTo>
                  <a:lnTo>
                    <a:pt x="1422" y="398"/>
                  </a:lnTo>
                  <a:lnTo>
                    <a:pt x="1438" y="430"/>
                  </a:lnTo>
                  <a:lnTo>
                    <a:pt x="1453" y="464"/>
                  </a:lnTo>
                  <a:lnTo>
                    <a:pt x="1467" y="497"/>
                  </a:lnTo>
                  <a:lnTo>
                    <a:pt x="1479" y="533"/>
                  </a:lnTo>
                  <a:lnTo>
                    <a:pt x="1489" y="569"/>
                  </a:lnTo>
                  <a:lnTo>
                    <a:pt x="1497" y="605"/>
                  </a:lnTo>
                  <a:lnTo>
                    <a:pt x="1504" y="642"/>
                  </a:lnTo>
                  <a:lnTo>
                    <a:pt x="1509" y="679"/>
                  </a:lnTo>
                  <a:lnTo>
                    <a:pt x="1512" y="718"/>
                  </a:lnTo>
                  <a:lnTo>
                    <a:pt x="1513" y="757"/>
                  </a:lnTo>
                  <a:lnTo>
                    <a:pt x="1512" y="796"/>
                  </a:lnTo>
                  <a:lnTo>
                    <a:pt x="1509" y="834"/>
                  </a:lnTo>
                  <a:lnTo>
                    <a:pt x="1504" y="873"/>
                  </a:lnTo>
                  <a:lnTo>
                    <a:pt x="1497" y="910"/>
                  </a:lnTo>
                  <a:lnTo>
                    <a:pt x="1489" y="946"/>
                  </a:lnTo>
                  <a:lnTo>
                    <a:pt x="1479" y="982"/>
                  </a:lnTo>
                  <a:lnTo>
                    <a:pt x="1467" y="1017"/>
                  </a:lnTo>
                  <a:lnTo>
                    <a:pt x="1453" y="1051"/>
                  </a:lnTo>
                  <a:lnTo>
                    <a:pt x="1438" y="1085"/>
                  </a:lnTo>
                  <a:lnTo>
                    <a:pt x="1422" y="1117"/>
                  </a:lnTo>
                  <a:lnTo>
                    <a:pt x="1404" y="1149"/>
                  </a:lnTo>
                  <a:lnTo>
                    <a:pt x="1383" y="1180"/>
                  </a:lnTo>
                  <a:lnTo>
                    <a:pt x="1363" y="1209"/>
                  </a:lnTo>
                  <a:lnTo>
                    <a:pt x="1340" y="1237"/>
                  </a:lnTo>
                  <a:lnTo>
                    <a:pt x="1316" y="1265"/>
                  </a:lnTo>
                  <a:lnTo>
                    <a:pt x="1291" y="1291"/>
                  </a:lnTo>
                  <a:lnTo>
                    <a:pt x="1264" y="1317"/>
                  </a:lnTo>
                  <a:lnTo>
                    <a:pt x="1237" y="1340"/>
                  </a:lnTo>
                  <a:lnTo>
                    <a:pt x="1208" y="1363"/>
                  </a:lnTo>
                  <a:lnTo>
                    <a:pt x="1179" y="1384"/>
                  </a:lnTo>
                  <a:lnTo>
                    <a:pt x="1148" y="1404"/>
                  </a:lnTo>
                  <a:lnTo>
                    <a:pt x="1117" y="1422"/>
                  </a:lnTo>
                  <a:lnTo>
                    <a:pt x="1084" y="1439"/>
                  </a:lnTo>
                  <a:lnTo>
                    <a:pt x="1051" y="1453"/>
                  </a:lnTo>
                  <a:lnTo>
                    <a:pt x="1016" y="1468"/>
                  </a:lnTo>
                  <a:lnTo>
                    <a:pt x="981" y="1480"/>
                  </a:lnTo>
                  <a:lnTo>
                    <a:pt x="945" y="1489"/>
                  </a:lnTo>
                  <a:lnTo>
                    <a:pt x="908" y="1498"/>
                  </a:lnTo>
                  <a:lnTo>
                    <a:pt x="871" y="1505"/>
                  </a:lnTo>
                  <a:lnTo>
                    <a:pt x="834" y="1510"/>
                  </a:lnTo>
                  <a:lnTo>
                    <a:pt x="795" y="1512"/>
                  </a:lnTo>
                  <a:lnTo>
                    <a:pt x="757" y="1513"/>
                  </a:lnTo>
                  <a:lnTo>
                    <a:pt x="717" y="1512"/>
                  </a:lnTo>
                  <a:lnTo>
                    <a:pt x="679" y="1510"/>
                  </a:lnTo>
                  <a:lnTo>
                    <a:pt x="642" y="1505"/>
                  </a:lnTo>
                  <a:lnTo>
                    <a:pt x="604" y="1498"/>
                  </a:lnTo>
                  <a:lnTo>
                    <a:pt x="567" y="1489"/>
                  </a:lnTo>
                  <a:lnTo>
                    <a:pt x="532" y="1480"/>
                  </a:lnTo>
                  <a:lnTo>
                    <a:pt x="496" y="1468"/>
                  </a:lnTo>
                  <a:lnTo>
                    <a:pt x="463" y="1453"/>
                  </a:lnTo>
                  <a:lnTo>
                    <a:pt x="429" y="1439"/>
                  </a:lnTo>
                  <a:lnTo>
                    <a:pt x="397" y="1422"/>
                  </a:lnTo>
                  <a:lnTo>
                    <a:pt x="364" y="1404"/>
                  </a:lnTo>
                  <a:lnTo>
                    <a:pt x="334" y="1384"/>
                  </a:lnTo>
                  <a:lnTo>
                    <a:pt x="304" y="1363"/>
                  </a:lnTo>
                  <a:lnTo>
                    <a:pt x="276" y="1340"/>
                  </a:lnTo>
                  <a:lnTo>
                    <a:pt x="248" y="1317"/>
                  </a:lnTo>
                  <a:lnTo>
                    <a:pt x="222" y="1291"/>
                  </a:lnTo>
                  <a:lnTo>
                    <a:pt x="196" y="1265"/>
                  </a:lnTo>
                  <a:lnTo>
                    <a:pt x="174" y="1237"/>
                  </a:lnTo>
                  <a:lnTo>
                    <a:pt x="151" y="1209"/>
                  </a:lnTo>
                  <a:lnTo>
                    <a:pt x="129" y="1180"/>
                  </a:lnTo>
                  <a:lnTo>
                    <a:pt x="110" y="1149"/>
                  </a:lnTo>
                  <a:lnTo>
                    <a:pt x="92" y="1117"/>
                  </a:lnTo>
                  <a:lnTo>
                    <a:pt x="75" y="1085"/>
                  </a:lnTo>
                  <a:lnTo>
                    <a:pt x="60" y="1051"/>
                  </a:lnTo>
                  <a:lnTo>
                    <a:pt x="46" y="1017"/>
                  </a:lnTo>
                  <a:lnTo>
                    <a:pt x="34" y="982"/>
                  </a:lnTo>
                  <a:lnTo>
                    <a:pt x="24" y="946"/>
                  </a:lnTo>
                  <a:lnTo>
                    <a:pt x="15" y="910"/>
                  </a:lnTo>
                  <a:lnTo>
                    <a:pt x="9" y="873"/>
                  </a:lnTo>
                  <a:lnTo>
                    <a:pt x="4" y="834"/>
                  </a:lnTo>
                  <a:lnTo>
                    <a:pt x="1" y="796"/>
                  </a:lnTo>
                  <a:lnTo>
                    <a:pt x="0" y="757"/>
                  </a:lnTo>
                  <a:lnTo>
                    <a:pt x="1" y="718"/>
                  </a:lnTo>
                  <a:lnTo>
                    <a:pt x="4" y="679"/>
                  </a:lnTo>
                  <a:lnTo>
                    <a:pt x="9" y="642"/>
                  </a:lnTo>
                  <a:lnTo>
                    <a:pt x="15" y="605"/>
                  </a:lnTo>
                  <a:lnTo>
                    <a:pt x="24" y="569"/>
                  </a:lnTo>
                  <a:lnTo>
                    <a:pt x="34" y="533"/>
                  </a:lnTo>
                  <a:lnTo>
                    <a:pt x="46" y="497"/>
                  </a:lnTo>
                  <a:lnTo>
                    <a:pt x="60" y="464"/>
                  </a:lnTo>
                  <a:lnTo>
                    <a:pt x="75" y="430"/>
                  </a:lnTo>
                  <a:lnTo>
                    <a:pt x="92" y="398"/>
                  </a:lnTo>
                  <a:lnTo>
                    <a:pt x="110" y="365"/>
                  </a:lnTo>
                  <a:lnTo>
                    <a:pt x="129" y="335"/>
                  </a:lnTo>
                  <a:lnTo>
                    <a:pt x="151" y="305"/>
                  </a:lnTo>
                  <a:lnTo>
                    <a:pt x="174" y="276"/>
                  </a:lnTo>
                  <a:lnTo>
                    <a:pt x="196" y="249"/>
                  </a:lnTo>
                  <a:lnTo>
                    <a:pt x="222" y="222"/>
                  </a:lnTo>
                  <a:lnTo>
                    <a:pt x="248" y="198"/>
                  </a:lnTo>
                  <a:lnTo>
                    <a:pt x="276" y="174"/>
                  </a:lnTo>
                  <a:lnTo>
                    <a:pt x="304" y="152"/>
                  </a:lnTo>
                  <a:lnTo>
                    <a:pt x="334" y="130"/>
                  </a:lnTo>
                  <a:lnTo>
                    <a:pt x="364" y="111"/>
                  </a:lnTo>
                  <a:lnTo>
                    <a:pt x="397" y="93"/>
                  </a:lnTo>
                  <a:lnTo>
                    <a:pt x="429" y="76"/>
                  </a:lnTo>
                  <a:lnTo>
                    <a:pt x="463" y="60"/>
                  </a:lnTo>
                  <a:lnTo>
                    <a:pt x="496" y="47"/>
                  </a:lnTo>
                  <a:lnTo>
                    <a:pt x="532" y="35"/>
                  </a:lnTo>
                  <a:lnTo>
                    <a:pt x="567" y="24"/>
                  </a:lnTo>
                  <a:lnTo>
                    <a:pt x="604" y="16"/>
                  </a:lnTo>
                  <a:lnTo>
                    <a:pt x="642" y="10"/>
                  </a:lnTo>
                  <a:lnTo>
                    <a:pt x="679" y="5"/>
                  </a:lnTo>
                  <a:lnTo>
                    <a:pt x="717" y="2"/>
                  </a:lnTo>
                  <a:lnTo>
                    <a:pt x="757" y="0"/>
                  </a:lnTo>
                  <a:close/>
                </a:path>
              </a:pathLst>
            </a:custGeom>
            <a:solidFill>
              <a:srgbClr val="e39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41720" y="2730600"/>
              <a:ext cx="595440" cy="593640"/>
            </a:xfrm>
            <a:custGeom>
              <a:avLst/>
              <a:gdLst/>
              <a:ahLst/>
              <a:rect l="l" t="t" r="r" b="b"/>
              <a:pathLst>
                <a:path w="1499" h="1497">
                  <a:moveTo>
                    <a:pt x="750" y="0"/>
                  </a:moveTo>
                  <a:lnTo>
                    <a:pt x="788" y="1"/>
                  </a:lnTo>
                  <a:lnTo>
                    <a:pt x="826" y="3"/>
                  </a:lnTo>
                  <a:lnTo>
                    <a:pt x="863" y="8"/>
                  </a:lnTo>
                  <a:lnTo>
                    <a:pt x="900" y="15"/>
                  </a:lnTo>
                  <a:lnTo>
                    <a:pt x="936" y="24"/>
                  </a:lnTo>
                  <a:lnTo>
                    <a:pt x="972" y="33"/>
                  </a:lnTo>
                  <a:lnTo>
                    <a:pt x="1007" y="45"/>
                  </a:lnTo>
                  <a:lnTo>
                    <a:pt x="1040" y="58"/>
                  </a:lnTo>
                  <a:lnTo>
                    <a:pt x="1074" y="74"/>
                  </a:lnTo>
                  <a:lnTo>
                    <a:pt x="1106" y="90"/>
                  </a:lnTo>
                  <a:lnTo>
                    <a:pt x="1138" y="108"/>
                  </a:lnTo>
                  <a:lnTo>
                    <a:pt x="1168" y="128"/>
                  </a:lnTo>
                  <a:lnTo>
                    <a:pt x="1198" y="148"/>
                  </a:lnTo>
                  <a:lnTo>
                    <a:pt x="1225" y="171"/>
                  </a:lnTo>
                  <a:lnTo>
                    <a:pt x="1253" y="194"/>
                  </a:lnTo>
                  <a:lnTo>
                    <a:pt x="1279" y="219"/>
                  </a:lnTo>
                  <a:lnTo>
                    <a:pt x="1303" y="246"/>
                  </a:lnTo>
                  <a:lnTo>
                    <a:pt x="1327" y="272"/>
                  </a:lnTo>
                  <a:lnTo>
                    <a:pt x="1349" y="301"/>
                  </a:lnTo>
                  <a:lnTo>
                    <a:pt x="1370" y="330"/>
                  </a:lnTo>
                  <a:lnTo>
                    <a:pt x="1390" y="361"/>
                  </a:lnTo>
                  <a:lnTo>
                    <a:pt x="1408" y="392"/>
                  </a:lnTo>
                  <a:lnTo>
                    <a:pt x="1424" y="424"/>
                  </a:lnTo>
                  <a:lnTo>
                    <a:pt x="1440" y="457"/>
                  </a:lnTo>
                  <a:lnTo>
                    <a:pt x="1453" y="492"/>
                  </a:lnTo>
                  <a:lnTo>
                    <a:pt x="1465" y="526"/>
                  </a:lnTo>
                  <a:lnTo>
                    <a:pt x="1475" y="561"/>
                  </a:lnTo>
                  <a:lnTo>
                    <a:pt x="1483" y="598"/>
                  </a:lnTo>
                  <a:lnTo>
                    <a:pt x="1489" y="634"/>
                  </a:lnTo>
                  <a:lnTo>
                    <a:pt x="1494" y="671"/>
                  </a:lnTo>
                  <a:lnTo>
                    <a:pt x="1498" y="710"/>
                  </a:lnTo>
                  <a:lnTo>
                    <a:pt x="1499" y="748"/>
                  </a:lnTo>
                  <a:lnTo>
                    <a:pt x="1498" y="787"/>
                  </a:lnTo>
                  <a:lnTo>
                    <a:pt x="1494" y="825"/>
                  </a:lnTo>
                  <a:lnTo>
                    <a:pt x="1489" y="862"/>
                  </a:lnTo>
                  <a:lnTo>
                    <a:pt x="1483" y="899"/>
                  </a:lnTo>
                  <a:lnTo>
                    <a:pt x="1475" y="935"/>
                  </a:lnTo>
                  <a:lnTo>
                    <a:pt x="1465" y="970"/>
                  </a:lnTo>
                  <a:lnTo>
                    <a:pt x="1453" y="1005"/>
                  </a:lnTo>
                  <a:lnTo>
                    <a:pt x="1440" y="1040"/>
                  </a:lnTo>
                  <a:lnTo>
                    <a:pt x="1424" y="1072"/>
                  </a:lnTo>
                  <a:lnTo>
                    <a:pt x="1408" y="1105"/>
                  </a:lnTo>
                  <a:lnTo>
                    <a:pt x="1390" y="1136"/>
                  </a:lnTo>
                  <a:lnTo>
                    <a:pt x="1370" y="1167"/>
                  </a:lnTo>
                  <a:lnTo>
                    <a:pt x="1349" y="1196"/>
                  </a:lnTo>
                  <a:lnTo>
                    <a:pt x="1327" y="1225"/>
                  </a:lnTo>
                  <a:lnTo>
                    <a:pt x="1303" y="1251"/>
                  </a:lnTo>
                  <a:lnTo>
                    <a:pt x="1279" y="1277"/>
                  </a:lnTo>
                  <a:lnTo>
                    <a:pt x="1253" y="1303"/>
                  </a:lnTo>
                  <a:lnTo>
                    <a:pt x="1225" y="1325"/>
                  </a:lnTo>
                  <a:lnTo>
                    <a:pt x="1198" y="1348"/>
                  </a:lnTo>
                  <a:lnTo>
                    <a:pt x="1168" y="1368"/>
                  </a:lnTo>
                  <a:lnTo>
                    <a:pt x="1138" y="1389"/>
                  </a:lnTo>
                  <a:lnTo>
                    <a:pt x="1106" y="1407"/>
                  </a:lnTo>
                  <a:lnTo>
                    <a:pt x="1074" y="1422"/>
                  </a:lnTo>
                  <a:lnTo>
                    <a:pt x="1040" y="1438"/>
                  </a:lnTo>
                  <a:lnTo>
                    <a:pt x="1007" y="1451"/>
                  </a:lnTo>
                  <a:lnTo>
                    <a:pt x="972" y="1463"/>
                  </a:lnTo>
                  <a:lnTo>
                    <a:pt x="936" y="1473"/>
                  </a:lnTo>
                  <a:lnTo>
                    <a:pt x="900" y="1481"/>
                  </a:lnTo>
                  <a:lnTo>
                    <a:pt x="863" y="1488"/>
                  </a:lnTo>
                  <a:lnTo>
                    <a:pt x="826" y="1493"/>
                  </a:lnTo>
                  <a:lnTo>
                    <a:pt x="788" y="1496"/>
                  </a:lnTo>
                  <a:lnTo>
                    <a:pt x="750" y="1497"/>
                  </a:lnTo>
                  <a:lnTo>
                    <a:pt x="712" y="1496"/>
                  </a:lnTo>
                  <a:lnTo>
                    <a:pt x="673" y="1493"/>
                  </a:lnTo>
                  <a:lnTo>
                    <a:pt x="636" y="1488"/>
                  </a:lnTo>
                  <a:lnTo>
                    <a:pt x="599" y="1481"/>
                  </a:lnTo>
                  <a:lnTo>
                    <a:pt x="563" y="1473"/>
                  </a:lnTo>
                  <a:lnTo>
                    <a:pt x="527" y="1463"/>
                  </a:lnTo>
                  <a:lnTo>
                    <a:pt x="492" y="1451"/>
                  </a:lnTo>
                  <a:lnTo>
                    <a:pt x="458" y="1438"/>
                  </a:lnTo>
                  <a:lnTo>
                    <a:pt x="425" y="1422"/>
                  </a:lnTo>
                  <a:lnTo>
                    <a:pt x="392" y="1407"/>
                  </a:lnTo>
                  <a:lnTo>
                    <a:pt x="361" y="1389"/>
                  </a:lnTo>
                  <a:lnTo>
                    <a:pt x="331" y="1368"/>
                  </a:lnTo>
                  <a:lnTo>
                    <a:pt x="302" y="1348"/>
                  </a:lnTo>
                  <a:lnTo>
                    <a:pt x="274" y="1325"/>
                  </a:lnTo>
                  <a:lnTo>
                    <a:pt x="246" y="1303"/>
                  </a:lnTo>
                  <a:lnTo>
                    <a:pt x="221" y="1277"/>
                  </a:lnTo>
                  <a:lnTo>
                    <a:pt x="196" y="1251"/>
                  </a:lnTo>
                  <a:lnTo>
                    <a:pt x="172" y="1225"/>
                  </a:lnTo>
                  <a:lnTo>
                    <a:pt x="150" y="1196"/>
                  </a:lnTo>
                  <a:lnTo>
                    <a:pt x="128" y="1167"/>
                  </a:lnTo>
                  <a:lnTo>
                    <a:pt x="109" y="1136"/>
                  </a:lnTo>
                  <a:lnTo>
                    <a:pt x="91" y="1105"/>
                  </a:lnTo>
                  <a:lnTo>
                    <a:pt x="74" y="1072"/>
                  </a:lnTo>
                  <a:lnTo>
                    <a:pt x="60" y="1040"/>
                  </a:lnTo>
                  <a:lnTo>
                    <a:pt x="46" y="1005"/>
                  </a:lnTo>
                  <a:lnTo>
                    <a:pt x="35" y="970"/>
                  </a:lnTo>
                  <a:lnTo>
                    <a:pt x="24" y="935"/>
                  </a:lnTo>
                  <a:lnTo>
                    <a:pt x="16" y="899"/>
                  </a:lnTo>
                  <a:lnTo>
                    <a:pt x="10" y="862"/>
                  </a:lnTo>
                  <a:lnTo>
                    <a:pt x="5" y="825"/>
                  </a:lnTo>
                  <a:lnTo>
                    <a:pt x="1" y="787"/>
                  </a:lnTo>
                  <a:lnTo>
                    <a:pt x="0" y="748"/>
                  </a:lnTo>
                  <a:lnTo>
                    <a:pt x="1" y="710"/>
                  </a:lnTo>
                  <a:lnTo>
                    <a:pt x="5" y="671"/>
                  </a:lnTo>
                  <a:lnTo>
                    <a:pt x="10" y="634"/>
                  </a:lnTo>
                  <a:lnTo>
                    <a:pt x="16" y="598"/>
                  </a:lnTo>
                  <a:lnTo>
                    <a:pt x="24" y="561"/>
                  </a:lnTo>
                  <a:lnTo>
                    <a:pt x="35" y="526"/>
                  </a:lnTo>
                  <a:lnTo>
                    <a:pt x="46" y="492"/>
                  </a:lnTo>
                  <a:lnTo>
                    <a:pt x="60" y="457"/>
                  </a:lnTo>
                  <a:lnTo>
                    <a:pt x="74" y="424"/>
                  </a:lnTo>
                  <a:lnTo>
                    <a:pt x="91" y="392"/>
                  </a:lnTo>
                  <a:lnTo>
                    <a:pt x="109" y="361"/>
                  </a:lnTo>
                  <a:lnTo>
                    <a:pt x="128" y="330"/>
                  </a:lnTo>
                  <a:lnTo>
                    <a:pt x="150" y="301"/>
                  </a:lnTo>
                  <a:lnTo>
                    <a:pt x="172" y="272"/>
                  </a:lnTo>
                  <a:lnTo>
                    <a:pt x="196" y="246"/>
                  </a:lnTo>
                  <a:lnTo>
                    <a:pt x="221" y="219"/>
                  </a:lnTo>
                  <a:lnTo>
                    <a:pt x="246" y="194"/>
                  </a:lnTo>
                  <a:lnTo>
                    <a:pt x="274" y="171"/>
                  </a:lnTo>
                  <a:lnTo>
                    <a:pt x="302" y="148"/>
                  </a:lnTo>
                  <a:lnTo>
                    <a:pt x="331" y="128"/>
                  </a:lnTo>
                  <a:lnTo>
                    <a:pt x="361" y="108"/>
                  </a:lnTo>
                  <a:lnTo>
                    <a:pt x="392" y="90"/>
                  </a:lnTo>
                  <a:lnTo>
                    <a:pt x="425" y="74"/>
                  </a:lnTo>
                  <a:lnTo>
                    <a:pt x="458" y="58"/>
                  </a:lnTo>
                  <a:lnTo>
                    <a:pt x="492" y="45"/>
                  </a:lnTo>
                  <a:lnTo>
                    <a:pt x="527" y="33"/>
                  </a:lnTo>
                  <a:lnTo>
                    <a:pt x="563" y="24"/>
                  </a:lnTo>
                  <a:lnTo>
                    <a:pt x="599" y="15"/>
                  </a:lnTo>
                  <a:lnTo>
                    <a:pt x="636" y="8"/>
                  </a:lnTo>
                  <a:lnTo>
                    <a:pt x="673" y="3"/>
                  </a:lnTo>
                  <a:lnTo>
                    <a:pt x="712" y="1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e79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044960" y="2735280"/>
              <a:ext cx="588960" cy="588960"/>
            </a:xfrm>
            <a:custGeom>
              <a:avLst/>
              <a:gdLst/>
              <a:ahLst/>
              <a:rect l="l" t="t" r="r" b="b"/>
              <a:pathLst>
                <a:path w="1484" h="1482">
                  <a:moveTo>
                    <a:pt x="742" y="0"/>
                  </a:moveTo>
                  <a:lnTo>
                    <a:pt x="780" y="1"/>
                  </a:lnTo>
                  <a:lnTo>
                    <a:pt x="818" y="4"/>
                  </a:lnTo>
                  <a:lnTo>
                    <a:pt x="855" y="9"/>
                  </a:lnTo>
                  <a:lnTo>
                    <a:pt x="892" y="15"/>
                  </a:lnTo>
                  <a:lnTo>
                    <a:pt x="928" y="24"/>
                  </a:lnTo>
                  <a:lnTo>
                    <a:pt x="963" y="33"/>
                  </a:lnTo>
                  <a:lnTo>
                    <a:pt x="998" y="45"/>
                  </a:lnTo>
                  <a:lnTo>
                    <a:pt x="1031" y="58"/>
                  </a:lnTo>
                  <a:lnTo>
                    <a:pt x="1064" y="73"/>
                  </a:lnTo>
                  <a:lnTo>
                    <a:pt x="1096" y="90"/>
                  </a:lnTo>
                  <a:lnTo>
                    <a:pt x="1126" y="108"/>
                  </a:lnTo>
                  <a:lnTo>
                    <a:pt x="1157" y="127"/>
                  </a:lnTo>
                  <a:lnTo>
                    <a:pt x="1186" y="147"/>
                  </a:lnTo>
                  <a:lnTo>
                    <a:pt x="1214" y="170"/>
                  </a:lnTo>
                  <a:lnTo>
                    <a:pt x="1241" y="193"/>
                  </a:lnTo>
                  <a:lnTo>
                    <a:pt x="1266" y="218"/>
                  </a:lnTo>
                  <a:lnTo>
                    <a:pt x="1292" y="243"/>
                  </a:lnTo>
                  <a:lnTo>
                    <a:pt x="1314" y="271"/>
                  </a:lnTo>
                  <a:lnTo>
                    <a:pt x="1336" y="298"/>
                  </a:lnTo>
                  <a:lnTo>
                    <a:pt x="1358" y="327"/>
                  </a:lnTo>
                  <a:lnTo>
                    <a:pt x="1377" y="357"/>
                  </a:lnTo>
                  <a:lnTo>
                    <a:pt x="1395" y="388"/>
                  </a:lnTo>
                  <a:lnTo>
                    <a:pt x="1410" y="421"/>
                  </a:lnTo>
                  <a:lnTo>
                    <a:pt x="1426" y="453"/>
                  </a:lnTo>
                  <a:lnTo>
                    <a:pt x="1439" y="487"/>
                  </a:lnTo>
                  <a:lnTo>
                    <a:pt x="1451" y="522"/>
                  </a:lnTo>
                  <a:lnTo>
                    <a:pt x="1461" y="556"/>
                  </a:lnTo>
                  <a:lnTo>
                    <a:pt x="1469" y="592"/>
                  </a:lnTo>
                  <a:lnTo>
                    <a:pt x="1475" y="628"/>
                  </a:lnTo>
                  <a:lnTo>
                    <a:pt x="1480" y="665"/>
                  </a:lnTo>
                  <a:lnTo>
                    <a:pt x="1484" y="704"/>
                  </a:lnTo>
                  <a:lnTo>
                    <a:pt x="1484" y="741"/>
                  </a:lnTo>
                  <a:lnTo>
                    <a:pt x="1484" y="779"/>
                  </a:lnTo>
                  <a:lnTo>
                    <a:pt x="1480" y="817"/>
                  </a:lnTo>
                  <a:lnTo>
                    <a:pt x="1475" y="854"/>
                  </a:lnTo>
                  <a:lnTo>
                    <a:pt x="1469" y="891"/>
                  </a:lnTo>
                  <a:lnTo>
                    <a:pt x="1461" y="926"/>
                  </a:lnTo>
                  <a:lnTo>
                    <a:pt x="1451" y="962"/>
                  </a:lnTo>
                  <a:lnTo>
                    <a:pt x="1439" y="995"/>
                  </a:lnTo>
                  <a:lnTo>
                    <a:pt x="1426" y="1029"/>
                  </a:lnTo>
                  <a:lnTo>
                    <a:pt x="1410" y="1063"/>
                  </a:lnTo>
                  <a:lnTo>
                    <a:pt x="1395" y="1094"/>
                  </a:lnTo>
                  <a:lnTo>
                    <a:pt x="1377" y="1125"/>
                  </a:lnTo>
                  <a:lnTo>
                    <a:pt x="1358" y="1155"/>
                  </a:lnTo>
                  <a:lnTo>
                    <a:pt x="1336" y="1185"/>
                  </a:lnTo>
                  <a:lnTo>
                    <a:pt x="1314" y="1213"/>
                  </a:lnTo>
                  <a:lnTo>
                    <a:pt x="1292" y="1239"/>
                  </a:lnTo>
                  <a:lnTo>
                    <a:pt x="1266" y="1265"/>
                  </a:lnTo>
                  <a:lnTo>
                    <a:pt x="1241" y="1289"/>
                  </a:lnTo>
                  <a:lnTo>
                    <a:pt x="1214" y="1313"/>
                  </a:lnTo>
                  <a:lnTo>
                    <a:pt x="1186" y="1335"/>
                  </a:lnTo>
                  <a:lnTo>
                    <a:pt x="1157" y="1356"/>
                  </a:lnTo>
                  <a:lnTo>
                    <a:pt x="1126" y="1376"/>
                  </a:lnTo>
                  <a:lnTo>
                    <a:pt x="1096" y="1394"/>
                  </a:lnTo>
                  <a:lnTo>
                    <a:pt x="1064" y="1409"/>
                  </a:lnTo>
                  <a:lnTo>
                    <a:pt x="1031" y="1425"/>
                  </a:lnTo>
                  <a:lnTo>
                    <a:pt x="998" y="1438"/>
                  </a:lnTo>
                  <a:lnTo>
                    <a:pt x="963" y="1449"/>
                  </a:lnTo>
                  <a:lnTo>
                    <a:pt x="928" y="1460"/>
                  </a:lnTo>
                  <a:lnTo>
                    <a:pt x="892" y="1468"/>
                  </a:lnTo>
                  <a:lnTo>
                    <a:pt x="855" y="1474"/>
                  </a:lnTo>
                  <a:lnTo>
                    <a:pt x="818" y="1479"/>
                  </a:lnTo>
                  <a:lnTo>
                    <a:pt x="780" y="1481"/>
                  </a:lnTo>
                  <a:lnTo>
                    <a:pt x="742" y="1482"/>
                  </a:lnTo>
                  <a:lnTo>
                    <a:pt x="705" y="1481"/>
                  </a:lnTo>
                  <a:lnTo>
                    <a:pt x="666" y="1479"/>
                  </a:lnTo>
                  <a:lnTo>
                    <a:pt x="630" y="1474"/>
                  </a:lnTo>
                  <a:lnTo>
                    <a:pt x="593" y="1468"/>
                  </a:lnTo>
                  <a:lnTo>
                    <a:pt x="557" y="1460"/>
                  </a:lnTo>
                  <a:lnTo>
                    <a:pt x="522" y="1449"/>
                  </a:lnTo>
                  <a:lnTo>
                    <a:pt x="488" y="1438"/>
                  </a:lnTo>
                  <a:lnTo>
                    <a:pt x="454" y="1425"/>
                  </a:lnTo>
                  <a:lnTo>
                    <a:pt x="422" y="1409"/>
                  </a:lnTo>
                  <a:lnTo>
                    <a:pt x="389" y="1394"/>
                  </a:lnTo>
                  <a:lnTo>
                    <a:pt x="358" y="1376"/>
                  </a:lnTo>
                  <a:lnTo>
                    <a:pt x="328" y="1356"/>
                  </a:lnTo>
                  <a:lnTo>
                    <a:pt x="299" y="1335"/>
                  </a:lnTo>
                  <a:lnTo>
                    <a:pt x="272" y="1313"/>
                  </a:lnTo>
                  <a:lnTo>
                    <a:pt x="244" y="1289"/>
                  </a:lnTo>
                  <a:lnTo>
                    <a:pt x="219" y="1265"/>
                  </a:lnTo>
                  <a:lnTo>
                    <a:pt x="194" y="1239"/>
                  </a:lnTo>
                  <a:lnTo>
                    <a:pt x="171" y="1213"/>
                  </a:lnTo>
                  <a:lnTo>
                    <a:pt x="148" y="1185"/>
                  </a:lnTo>
                  <a:lnTo>
                    <a:pt x="128" y="1155"/>
                  </a:lnTo>
                  <a:lnTo>
                    <a:pt x="108" y="1125"/>
                  </a:lnTo>
                  <a:lnTo>
                    <a:pt x="90" y="1094"/>
                  </a:lnTo>
                  <a:lnTo>
                    <a:pt x="75" y="1063"/>
                  </a:lnTo>
                  <a:lnTo>
                    <a:pt x="59" y="1029"/>
                  </a:lnTo>
                  <a:lnTo>
                    <a:pt x="46" y="995"/>
                  </a:lnTo>
                  <a:lnTo>
                    <a:pt x="34" y="962"/>
                  </a:lnTo>
                  <a:lnTo>
                    <a:pt x="24" y="926"/>
                  </a:lnTo>
                  <a:lnTo>
                    <a:pt x="16" y="891"/>
                  </a:lnTo>
                  <a:lnTo>
                    <a:pt x="10" y="854"/>
                  </a:lnTo>
                  <a:lnTo>
                    <a:pt x="5" y="817"/>
                  </a:lnTo>
                  <a:lnTo>
                    <a:pt x="2" y="779"/>
                  </a:lnTo>
                  <a:lnTo>
                    <a:pt x="0" y="741"/>
                  </a:lnTo>
                  <a:lnTo>
                    <a:pt x="2" y="704"/>
                  </a:lnTo>
                  <a:lnTo>
                    <a:pt x="5" y="665"/>
                  </a:lnTo>
                  <a:lnTo>
                    <a:pt x="10" y="628"/>
                  </a:lnTo>
                  <a:lnTo>
                    <a:pt x="16" y="592"/>
                  </a:lnTo>
                  <a:lnTo>
                    <a:pt x="24" y="556"/>
                  </a:lnTo>
                  <a:lnTo>
                    <a:pt x="34" y="522"/>
                  </a:lnTo>
                  <a:lnTo>
                    <a:pt x="46" y="487"/>
                  </a:lnTo>
                  <a:lnTo>
                    <a:pt x="59" y="453"/>
                  </a:lnTo>
                  <a:lnTo>
                    <a:pt x="75" y="421"/>
                  </a:lnTo>
                  <a:lnTo>
                    <a:pt x="90" y="388"/>
                  </a:lnTo>
                  <a:lnTo>
                    <a:pt x="108" y="357"/>
                  </a:lnTo>
                  <a:lnTo>
                    <a:pt x="128" y="327"/>
                  </a:lnTo>
                  <a:lnTo>
                    <a:pt x="148" y="298"/>
                  </a:lnTo>
                  <a:lnTo>
                    <a:pt x="171" y="271"/>
                  </a:lnTo>
                  <a:lnTo>
                    <a:pt x="194" y="243"/>
                  </a:lnTo>
                  <a:lnTo>
                    <a:pt x="219" y="218"/>
                  </a:lnTo>
                  <a:lnTo>
                    <a:pt x="244" y="193"/>
                  </a:lnTo>
                  <a:lnTo>
                    <a:pt x="272" y="170"/>
                  </a:lnTo>
                  <a:lnTo>
                    <a:pt x="299" y="147"/>
                  </a:lnTo>
                  <a:lnTo>
                    <a:pt x="328" y="127"/>
                  </a:lnTo>
                  <a:lnTo>
                    <a:pt x="358" y="108"/>
                  </a:lnTo>
                  <a:lnTo>
                    <a:pt x="389" y="90"/>
                  </a:lnTo>
                  <a:lnTo>
                    <a:pt x="422" y="73"/>
                  </a:lnTo>
                  <a:lnTo>
                    <a:pt x="454" y="58"/>
                  </a:lnTo>
                  <a:lnTo>
                    <a:pt x="488" y="45"/>
                  </a:lnTo>
                  <a:lnTo>
                    <a:pt x="522" y="33"/>
                  </a:lnTo>
                  <a:lnTo>
                    <a:pt x="557" y="24"/>
                  </a:lnTo>
                  <a:lnTo>
                    <a:pt x="593" y="15"/>
                  </a:lnTo>
                  <a:lnTo>
                    <a:pt x="630" y="9"/>
                  </a:lnTo>
                  <a:lnTo>
                    <a:pt x="666" y="4"/>
                  </a:lnTo>
                  <a:lnTo>
                    <a:pt x="705" y="1"/>
                  </a:lnTo>
                  <a:lnTo>
                    <a:pt x="742" y="0"/>
                  </a:lnTo>
                  <a:close/>
                </a:path>
              </a:pathLst>
            </a:custGeom>
            <a:solidFill>
              <a:srgbClr val="ec9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049640" y="2739960"/>
              <a:ext cx="581040" cy="582840"/>
            </a:xfrm>
            <a:custGeom>
              <a:avLst/>
              <a:gdLst/>
              <a:ahLst/>
              <a:rect l="l" t="t" r="r" b="b"/>
              <a:pathLst>
                <a:path w="1468" h="1467">
                  <a:moveTo>
                    <a:pt x="733" y="0"/>
                  </a:moveTo>
                  <a:lnTo>
                    <a:pt x="772" y="1"/>
                  </a:lnTo>
                  <a:lnTo>
                    <a:pt x="809" y="3"/>
                  </a:lnTo>
                  <a:lnTo>
                    <a:pt x="845" y="8"/>
                  </a:lnTo>
                  <a:lnTo>
                    <a:pt x="881" y="14"/>
                  </a:lnTo>
                  <a:lnTo>
                    <a:pt x="917" y="23"/>
                  </a:lnTo>
                  <a:lnTo>
                    <a:pt x="952" y="32"/>
                  </a:lnTo>
                  <a:lnTo>
                    <a:pt x="985" y="44"/>
                  </a:lnTo>
                  <a:lnTo>
                    <a:pt x="1019" y="57"/>
                  </a:lnTo>
                  <a:lnTo>
                    <a:pt x="1051" y="72"/>
                  </a:lnTo>
                  <a:lnTo>
                    <a:pt x="1082" y="89"/>
                  </a:lnTo>
                  <a:lnTo>
                    <a:pt x="1114" y="107"/>
                  </a:lnTo>
                  <a:lnTo>
                    <a:pt x="1144" y="126"/>
                  </a:lnTo>
                  <a:lnTo>
                    <a:pt x="1172" y="146"/>
                  </a:lnTo>
                  <a:lnTo>
                    <a:pt x="1200" y="168"/>
                  </a:lnTo>
                  <a:lnTo>
                    <a:pt x="1226" y="191"/>
                  </a:lnTo>
                  <a:lnTo>
                    <a:pt x="1253" y="215"/>
                  </a:lnTo>
                  <a:lnTo>
                    <a:pt x="1277" y="241"/>
                  </a:lnTo>
                  <a:lnTo>
                    <a:pt x="1300" y="267"/>
                  </a:lnTo>
                  <a:lnTo>
                    <a:pt x="1321" y="295"/>
                  </a:lnTo>
                  <a:lnTo>
                    <a:pt x="1342" y="324"/>
                  </a:lnTo>
                  <a:lnTo>
                    <a:pt x="1361" y="354"/>
                  </a:lnTo>
                  <a:lnTo>
                    <a:pt x="1379" y="384"/>
                  </a:lnTo>
                  <a:lnTo>
                    <a:pt x="1396" y="416"/>
                  </a:lnTo>
                  <a:lnTo>
                    <a:pt x="1410" y="449"/>
                  </a:lnTo>
                  <a:lnTo>
                    <a:pt x="1423" y="482"/>
                  </a:lnTo>
                  <a:lnTo>
                    <a:pt x="1434" y="516"/>
                  </a:lnTo>
                  <a:lnTo>
                    <a:pt x="1445" y="551"/>
                  </a:lnTo>
                  <a:lnTo>
                    <a:pt x="1453" y="586"/>
                  </a:lnTo>
                  <a:lnTo>
                    <a:pt x="1459" y="622"/>
                  </a:lnTo>
                  <a:lnTo>
                    <a:pt x="1464" y="658"/>
                  </a:lnTo>
                  <a:lnTo>
                    <a:pt x="1466" y="696"/>
                  </a:lnTo>
                  <a:lnTo>
                    <a:pt x="1468" y="734"/>
                  </a:lnTo>
                  <a:lnTo>
                    <a:pt x="1466" y="771"/>
                  </a:lnTo>
                  <a:lnTo>
                    <a:pt x="1464" y="808"/>
                  </a:lnTo>
                  <a:lnTo>
                    <a:pt x="1459" y="846"/>
                  </a:lnTo>
                  <a:lnTo>
                    <a:pt x="1453" y="882"/>
                  </a:lnTo>
                  <a:lnTo>
                    <a:pt x="1445" y="916"/>
                  </a:lnTo>
                  <a:lnTo>
                    <a:pt x="1434" y="951"/>
                  </a:lnTo>
                  <a:lnTo>
                    <a:pt x="1423" y="986"/>
                  </a:lnTo>
                  <a:lnTo>
                    <a:pt x="1410" y="1018"/>
                  </a:lnTo>
                  <a:lnTo>
                    <a:pt x="1396" y="1051"/>
                  </a:lnTo>
                  <a:lnTo>
                    <a:pt x="1379" y="1083"/>
                  </a:lnTo>
                  <a:lnTo>
                    <a:pt x="1361" y="1113"/>
                  </a:lnTo>
                  <a:lnTo>
                    <a:pt x="1342" y="1143"/>
                  </a:lnTo>
                  <a:lnTo>
                    <a:pt x="1321" y="1172"/>
                  </a:lnTo>
                  <a:lnTo>
                    <a:pt x="1300" y="1200"/>
                  </a:lnTo>
                  <a:lnTo>
                    <a:pt x="1277" y="1227"/>
                  </a:lnTo>
                  <a:lnTo>
                    <a:pt x="1253" y="1252"/>
                  </a:lnTo>
                  <a:lnTo>
                    <a:pt x="1226" y="1276"/>
                  </a:lnTo>
                  <a:lnTo>
                    <a:pt x="1200" y="1299"/>
                  </a:lnTo>
                  <a:lnTo>
                    <a:pt x="1172" y="1322"/>
                  </a:lnTo>
                  <a:lnTo>
                    <a:pt x="1144" y="1342"/>
                  </a:lnTo>
                  <a:lnTo>
                    <a:pt x="1114" y="1361"/>
                  </a:lnTo>
                  <a:lnTo>
                    <a:pt x="1082" y="1378"/>
                  </a:lnTo>
                  <a:lnTo>
                    <a:pt x="1051" y="1395"/>
                  </a:lnTo>
                  <a:lnTo>
                    <a:pt x="1019" y="1409"/>
                  </a:lnTo>
                  <a:lnTo>
                    <a:pt x="985" y="1423"/>
                  </a:lnTo>
                  <a:lnTo>
                    <a:pt x="952" y="1435"/>
                  </a:lnTo>
                  <a:lnTo>
                    <a:pt x="917" y="1444"/>
                  </a:lnTo>
                  <a:lnTo>
                    <a:pt x="881" y="1453"/>
                  </a:lnTo>
                  <a:lnTo>
                    <a:pt x="845" y="1459"/>
                  </a:lnTo>
                  <a:lnTo>
                    <a:pt x="809" y="1463"/>
                  </a:lnTo>
                  <a:lnTo>
                    <a:pt x="772" y="1467"/>
                  </a:lnTo>
                  <a:lnTo>
                    <a:pt x="733" y="1467"/>
                  </a:lnTo>
                  <a:lnTo>
                    <a:pt x="696" y="1467"/>
                  </a:lnTo>
                  <a:lnTo>
                    <a:pt x="659" y="1463"/>
                  </a:lnTo>
                  <a:lnTo>
                    <a:pt x="622" y="1459"/>
                  </a:lnTo>
                  <a:lnTo>
                    <a:pt x="586" y="1453"/>
                  </a:lnTo>
                  <a:lnTo>
                    <a:pt x="551" y="1444"/>
                  </a:lnTo>
                  <a:lnTo>
                    <a:pt x="516" y="1435"/>
                  </a:lnTo>
                  <a:lnTo>
                    <a:pt x="481" y="1423"/>
                  </a:lnTo>
                  <a:lnTo>
                    <a:pt x="449" y="1409"/>
                  </a:lnTo>
                  <a:lnTo>
                    <a:pt x="415" y="1395"/>
                  </a:lnTo>
                  <a:lnTo>
                    <a:pt x="384" y="1378"/>
                  </a:lnTo>
                  <a:lnTo>
                    <a:pt x="353" y="1361"/>
                  </a:lnTo>
                  <a:lnTo>
                    <a:pt x="324" y="1342"/>
                  </a:lnTo>
                  <a:lnTo>
                    <a:pt x="295" y="1322"/>
                  </a:lnTo>
                  <a:lnTo>
                    <a:pt x="268" y="1299"/>
                  </a:lnTo>
                  <a:lnTo>
                    <a:pt x="240" y="1276"/>
                  </a:lnTo>
                  <a:lnTo>
                    <a:pt x="215" y="1252"/>
                  </a:lnTo>
                  <a:lnTo>
                    <a:pt x="191" y="1227"/>
                  </a:lnTo>
                  <a:lnTo>
                    <a:pt x="167" y="1200"/>
                  </a:lnTo>
                  <a:lnTo>
                    <a:pt x="145" y="1172"/>
                  </a:lnTo>
                  <a:lnTo>
                    <a:pt x="125" y="1143"/>
                  </a:lnTo>
                  <a:lnTo>
                    <a:pt x="106" y="1113"/>
                  </a:lnTo>
                  <a:lnTo>
                    <a:pt x="89" y="1083"/>
                  </a:lnTo>
                  <a:lnTo>
                    <a:pt x="72" y="1051"/>
                  </a:lnTo>
                  <a:lnTo>
                    <a:pt x="58" y="1018"/>
                  </a:lnTo>
                  <a:lnTo>
                    <a:pt x="44" y="986"/>
                  </a:lnTo>
                  <a:lnTo>
                    <a:pt x="32" y="951"/>
                  </a:lnTo>
                  <a:lnTo>
                    <a:pt x="23" y="916"/>
                  </a:lnTo>
                  <a:lnTo>
                    <a:pt x="14" y="882"/>
                  </a:lnTo>
                  <a:lnTo>
                    <a:pt x="8" y="846"/>
                  </a:lnTo>
                  <a:lnTo>
                    <a:pt x="4" y="808"/>
                  </a:lnTo>
                  <a:lnTo>
                    <a:pt x="0" y="771"/>
                  </a:lnTo>
                  <a:lnTo>
                    <a:pt x="0" y="734"/>
                  </a:lnTo>
                  <a:lnTo>
                    <a:pt x="0" y="696"/>
                  </a:lnTo>
                  <a:lnTo>
                    <a:pt x="4" y="658"/>
                  </a:lnTo>
                  <a:lnTo>
                    <a:pt x="8" y="622"/>
                  </a:lnTo>
                  <a:lnTo>
                    <a:pt x="14" y="586"/>
                  </a:lnTo>
                  <a:lnTo>
                    <a:pt x="23" y="551"/>
                  </a:lnTo>
                  <a:lnTo>
                    <a:pt x="32" y="516"/>
                  </a:lnTo>
                  <a:lnTo>
                    <a:pt x="44" y="482"/>
                  </a:lnTo>
                  <a:lnTo>
                    <a:pt x="58" y="449"/>
                  </a:lnTo>
                  <a:lnTo>
                    <a:pt x="72" y="416"/>
                  </a:lnTo>
                  <a:lnTo>
                    <a:pt x="89" y="384"/>
                  </a:lnTo>
                  <a:lnTo>
                    <a:pt x="106" y="354"/>
                  </a:lnTo>
                  <a:lnTo>
                    <a:pt x="125" y="324"/>
                  </a:lnTo>
                  <a:lnTo>
                    <a:pt x="145" y="295"/>
                  </a:lnTo>
                  <a:lnTo>
                    <a:pt x="167" y="267"/>
                  </a:lnTo>
                  <a:lnTo>
                    <a:pt x="191" y="241"/>
                  </a:lnTo>
                  <a:lnTo>
                    <a:pt x="215" y="215"/>
                  </a:lnTo>
                  <a:lnTo>
                    <a:pt x="240" y="191"/>
                  </a:lnTo>
                  <a:lnTo>
                    <a:pt x="268" y="168"/>
                  </a:lnTo>
                  <a:lnTo>
                    <a:pt x="295" y="146"/>
                  </a:lnTo>
                  <a:lnTo>
                    <a:pt x="324" y="126"/>
                  </a:lnTo>
                  <a:lnTo>
                    <a:pt x="353" y="107"/>
                  </a:lnTo>
                  <a:lnTo>
                    <a:pt x="384" y="89"/>
                  </a:lnTo>
                  <a:lnTo>
                    <a:pt x="415" y="72"/>
                  </a:lnTo>
                  <a:lnTo>
                    <a:pt x="449" y="57"/>
                  </a:lnTo>
                  <a:lnTo>
                    <a:pt x="481" y="44"/>
                  </a:lnTo>
                  <a:lnTo>
                    <a:pt x="516" y="32"/>
                  </a:lnTo>
                  <a:lnTo>
                    <a:pt x="551" y="23"/>
                  </a:lnTo>
                  <a:lnTo>
                    <a:pt x="586" y="14"/>
                  </a:lnTo>
                  <a:lnTo>
                    <a:pt x="622" y="8"/>
                  </a:lnTo>
                  <a:lnTo>
                    <a:pt x="659" y="3"/>
                  </a:lnTo>
                  <a:lnTo>
                    <a:pt x="696" y="1"/>
                  </a:lnTo>
                  <a:lnTo>
                    <a:pt x="733" y="0"/>
                  </a:lnTo>
                  <a:close/>
                </a:path>
              </a:pathLst>
            </a:custGeom>
            <a:solidFill>
              <a:srgbClr val="f2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075200" y="2779560"/>
              <a:ext cx="517320" cy="517680"/>
            </a:xfrm>
            <a:custGeom>
              <a:avLst/>
              <a:gdLst/>
              <a:ahLst/>
              <a:rect l="l" t="t" r="r" b="b"/>
              <a:pathLst>
                <a:path w="1303" h="1303">
                  <a:moveTo>
                    <a:pt x="651" y="0"/>
                  </a:moveTo>
                  <a:lnTo>
                    <a:pt x="685" y="2"/>
                  </a:lnTo>
                  <a:lnTo>
                    <a:pt x="717" y="4"/>
                  </a:lnTo>
                  <a:lnTo>
                    <a:pt x="751" y="8"/>
                  </a:lnTo>
                  <a:lnTo>
                    <a:pt x="782" y="14"/>
                  </a:lnTo>
                  <a:lnTo>
                    <a:pt x="815" y="21"/>
                  </a:lnTo>
                  <a:lnTo>
                    <a:pt x="845" y="29"/>
                  </a:lnTo>
                  <a:lnTo>
                    <a:pt x="875" y="40"/>
                  </a:lnTo>
                  <a:lnTo>
                    <a:pt x="905" y="52"/>
                  </a:lnTo>
                  <a:lnTo>
                    <a:pt x="933" y="65"/>
                  </a:lnTo>
                  <a:lnTo>
                    <a:pt x="962" y="80"/>
                  </a:lnTo>
                  <a:lnTo>
                    <a:pt x="989" y="95"/>
                  </a:lnTo>
                  <a:lnTo>
                    <a:pt x="1015" y="112"/>
                  </a:lnTo>
                  <a:lnTo>
                    <a:pt x="1041" y="130"/>
                  </a:lnTo>
                  <a:lnTo>
                    <a:pt x="1065" y="149"/>
                  </a:lnTo>
                  <a:lnTo>
                    <a:pt x="1089" y="170"/>
                  </a:lnTo>
                  <a:lnTo>
                    <a:pt x="1112" y="191"/>
                  </a:lnTo>
                  <a:lnTo>
                    <a:pt x="1134" y="214"/>
                  </a:lnTo>
                  <a:lnTo>
                    <a:pt x="1154" y="238"/>
                  </a:lnTo>
                  <a:lnTo>
                    <a:pt x="1173" y="262"/>
                  </a:lnTo>
                  <a:lnTo>
                    <a:pt x="1191" y="288"/>
                  </a:lnTo>
                  <a:lnTo>
                    <a:pt x="1208" y="315"/>
                  </a:lnTo>
                  <a:lnTo>
                    <a:pt x="1224" y="341"/>
                  </a:lnTo>
                  <a:lnTo>
                    <a:pt x="1238" y="370"/>
                  </a:lnTo>
                  <a:lnTo>
                    <a:pt x="1251" y="399"/>
                  </a:lnTo>
                  <a:lnTo>
                    <a:pt x="1263" y="428"/>
                  </a:lnTo>
                  <a:lnTo>
                    <a:pt x="1273" y="459"/>
                  </a:lnTo>
                  <a:lnTo>
                    <a:pt x="1283" y="489"/>
                  </a:lnTo>
                  <a:lnTo>
                    <a:pt x="1290" y="521"/>
                  </a:lnTo>
                  <a:lnTo>
                    <a:pt x="1296" y="552"/>
                  </a:lnTo>
                  <a:lnTo>
                    <a:pt x="1299" y="585"/>
                  </a:lnTo>
                  <a:lnTo>
                    <a:pt x="1302" y="618"/>
                  </a:lnTo>
                  <a:lnTo>
                    <a:pt x="1303" y="652"/>
                  </a:lnTo>
                  <a:lnTo>
                    <a:pt x="1302" y="685"/>
                  </a:lnTo>
                  <a:lnTo>
                    <a:pt x="1299" y="718"/>
                  </a:lnTo>
                  <a:lnTo>
                    <a:pt x="1296" y="750"/>
                  </a:lnTo>
                  <a:lnTo>
                    <a:pt x="1290" y="783"/>
                  </a:lnTo>
                  <a:lnTo>
                    <a:pt x="1283" y="814"/>
                  </a:lnTo>
                  <a:lnTo>
                    <a:pt x="1273" y="845"/>
                  </a:lnTo>
                  <a:lnTo>
                    <a:pt x="1263" y="875"/>
                  </a:lnTo>
                  <a:lnTo>
                    <a:pt x="1251" y="905"/>
                  </a:lnTo>
                  <a:lnTo>
                    <a:pt x="1238" y="934"/>
                  </a:lnTo>
                  <a:lnTo>
                    <a:pt x="1224" y="961"/>
                  </a:lnTo>
                  <a:lnTo>
                    <a:pt x="1208" y="989"/>
                  </a:lnTo>
                  <a:lnTo>
                    <a:pt x="1191" y="1015"/>
                  </a:lnTo>
                  <a:lnTo>
                    <a:pt x="1173" y="1041"/>
                  </a:lnTo>
                  <a:lnTo>
                    <a:pt x="1154" y="1066"/>
                  </a:lnTo>
                  <a:lnTo>
                    <a:pt x="1134" y="1089"/>
                  </a:lnTo>
                  <a:lnTo>
                    <a:pt x="1112" y="1111"/>
                  </a:lnTo>
                  <a:lnTo>
                    <a:pt x="1089" y="1133"/>
                  </a:lnTo>
                  <a:lnTo>
                    <a:pt x="1065" y="1153"/>
                  </a:lnTo>
                  <a:lnTo>
                    <a:pt x="1041" y="1174"/>
                  </a:lnTo>
                  <a:lnTo>
                    <a:pt x="1015" y="1192"/>
                  </a:lnTo>
                  <a:lnTo>
                    <a:pt x="989" y="1208"/>
                  </a:lnTo>
                  <a:lnTo>
                    <a:pt x="962" y="1224"/>
                  </a:lnTo>
                  <a:lnTo>
                    <a:pt x="933" y="1238"/>
                  </a:lnTo>
                  <a:lnTo>
                    <a:pt x="905" y="1252"/>
                  </a:lnTo>
                  <a:lnTo>
                    <a:pt x="875" y="1264"/>
                  </a:lnTo>
                  <a:lnTo>
                    <a:pt x="845" y="1273"/>
                  </a:lnTo>
                  <a:lnTo>
                    <a:pt x="815" y="1283"/>
                  </a:lnTo>
                  <a:lnTo>
                    <a:pt x="782" y="1290"/>
                  </a:lnTo>
                  <a:lnTo>
                    <a:pt x="751" y="1295"/>
                  </a:lnTo>
                  <a:lnTo>
                    <a:pt x="717" y="1300"/>
                  </a:lnTo>
                  <a:lnTo>
                    <a:pt x="685" y="1302"/>
                  </a:lnTo>
                  <a:lnTo>
                    <a:pt x="651" y="1303"/>
                  </a:lnTo>
                  <a:lnTo>
                    <a:pt x="618" y="1302"/>
                  </a:lnTo>
                  <a:lnTo>
                    <a:pt x="585" y="1300"/>
                  </a:lnTo>
                  <a:lnTo>
                    <a:pt x="553" y="1295"/>
                  </a:lnTo>
                  <a:lnTo>
                    <a:pt x="521" y="1290"/>
                  </a:lnTo>
                  <a:lnTo>
                    <a:pt x="489" y="1283"/>
                  </a:lnTo>
                  <a:lnTo>
                    <a:pt x="458" y="1273"/>
                  </a:lnTo>
                  <a:lnTo>
                    <a:pt x="428" y="1264"/>
                  </a:lnTo>
                  <a:lnTo>
                    <a:pt x="398" y="1252"/>
                  </a:lnTo>
                  <a:lnTo>
                    <a:pt x="369" y="1238"/>
                  </a:lnTo>
                  <a:lnTo>
                    <a:pt x="342" y="1224"/>
                  </a:lnTo>
                  <a:lnTo>
                    <a:pt x="314" y="1208"/>
                  </a:lnTo>
                  <a:lnTo>
                    <a:pt x="288" y="1192"/>
                  </a:lnTo>
                  <a:lnTo>
                    <a:pt x="263" y="1174"/>
                  </a:lnTo>
                  <a:lnTo>
                    <a:pt x="237" y="1153"/>
                  </a:lnTo>
                  <a:lnTo>
                    <a:pt x="213" y="1133"/>
                  </a:lnTo>
                  <a:lnTo>
                    <a:pt x="192" y="1111"/>
                  </a:lnTo>
                  <a:lnTo>
                    <a:pt x="170" y="1089"/>
                  </a:lnTo>
                  <a:lnTo>
                    <a:pt x="149" y="1066"/>
                  </a:lnTo>
                  <a:lnTo>
                    <a:pt x="129" y="1041"/>
                  </a:lnTo>
                  <a:lnTo>
                    <a:pt x="111" y="1015"/>
                  </a:lnTo>
                  <a:lnTo>
                    <a:pt x="95" y="989"/>
                  </a:lnTo>
                  <a:lnTo>
                    <a:pt x="79" y="961"/>
                  </a:lnTo>
                  <a:lnTo>
                    <a:pt x="65" y="934"/>
                  </a:lnTo>
                  <a:lnTo>
                    <a:pt x="51" y="905"/>
                  </a:lnTo>
                  <a:lnTo>
                    <a:pt x="39" y="875"/>
                  </a:lnTo>
                  <a:lnTo>
                    <a:pt x="30" y="845"/>
                  </a:lnTo>
                  <a:lnTo>
                    <a:pt x="20" y="814"/>
                  </a:lnTo>
                  <a:lnTo>
                    <a:pt x="13" y="783"/>
                  </a:lnTo>
                  <a:lnTo>
                    <a:pt x="8" y="750"/>
                  </a:lnTo>
                  <a:lnTo>
                    <a:pt x="3" y="718"/>
                  </a:lnTo>
                  <a:lnTo>
                    <a:pt x="1" y="685"/>
                  </a:lnTo>
                  <a:lnTo>
                    <a:pt x="0" y="652"/>
                  </a:lnTo>
                  <a:lnTo>
                    <a:pt x="1" y="618"/>
                  </a:lnTo>
                  <a:lnTo>
                    <a:pt x="3" y="585"/>
                  </a:lnTo>
                  <a:lnTo>
                    <a:pt x="8" y="552"/>
                  </a:lnTo>
                  <a:lnTo>
                    <a:pt x="13" y="521"/>
                  </a:lnTo>
                  <a:lnTo>
                    <a:pt x="20" y="489"/>
                  </a:lnTo>
                  <a:lnTo>
                    <a:pt x="30" y="459"/>
                  </a:lnTo>
                  <a:lnTo>
                    <a:pt x="39" y="428"/>
                  </a:lnTo>
                  <a:lnTo>
                    <a:pt x="51" y="399"/>
                  </a:lnTo>
                  <a:lnTo>
                    <a:pt x="65" y="370"/>
                  </a:lnTo>
                  <a:lnTo>
                    <a:pt x="79" y="341"/>
                  </a:lnTo>
                  <a:lnTo>
                    <a:pt x="95" y="315"/>
                  </a:lnTo>
                  <a:lnTo>
                    <a:pt x="111" y="288"/>
                  </a:lnTo>
                  <a:lnTo>
                    <a:pt x="129" y="262"/>
                  </a:lnTo>
                  <a:lnTo>
                    <a:pt x="149" y="238"/>
                  </a:lnTo>
                  <a:lnTo>
                    <a:pt x="170" y="214"/>
                  </a:lnTo>
                  <a:lnTo>
                    <a:pt x="192" y="191"/>
                  </a:lnTo>
                  <a:lnTo>
                    <a:pt x="213" y="170"/>
                  </a:lnTo>
                  <a:lnTo>
                    <a:pt x="237" y="149"/>
                  </a:lnTo>
                  <a:lnTo>
                    <a:pt x="263" y="130"/>
                  </a:lnTo>
                  <a:lnTo>
                    <a:pt x="288" y="112"/>
                  </a:lnTo>
                  <a:lnTo>
                    <a:pt x="314" y="95"/>
                  </a:lnTo>
                  <a:lnTo>
                    <a:pt x="342" y="80"/>
                  </a:lnTo>
                  <a:lnTo>
                    <a:pt x="369" y="65"/>
                  </a:lnTo>
                  <a:lnTo>
                    <a:pt x="398" y="52"/>
                  </a:lnTo>
                  <a:lnTo>
                    <a:pt x="428" y="40"/>
                  </a:lnTo>
                  <a:lnTo>
                    <a:pt x="458" y="29"/>
                  </a:lnTo>
                  <a:lnTo>
                    <a:pt x="489" y="21"/>
                  </a:lnTo>
                  <a:lnTo>
                    <a:pt x="521" y="14"/>
                  </a:lnTo>
                  <a:lnTo>
                    <a:pt x="553" y="8"/>
                  </a:lnTo>
                  <a:lnTo>
                    <a:pt x="585" y="4"/>
                  </a:lnTo>
                  <a:lnTo>
                    <a:pt x="618" y="2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92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34040" y="2773440"/>
              <a:ext cx="264960" cy="264960"/>
            </a:xfrm>
            <a:custGeom>
              <a:avLst/>
              <a:gdLst/>
              <a:ahLst/>
              <a:rect l="l" t="t" r="r" b="b"/>
              <a:pathLst>
                <a:path w="669" h="670">
                  <a:moveTo>
                    <a:pt x="669" y="670"/>
                  </a:moveTo>
                  <a:lnTo>
                    <a:pt x="669" y="670"/>
                  </a:lnTo>
                  <a:lnTo>
                    <a:pt x="669" y="635"/>
                  </a:lnTo>
                  <a:lnTo>
                    <a:pt x="666" y="601"/>
                  </a:lnTo>
                  <a:lnTo>
                    <a:pt x="662" y="568"/>
                  </a:lnTo>
                  <a:lnTo>
                    <a:pt x="656" y="535"/>
                  </a:lnTo>
                  <a:lnTo>
                    <a:pt x="648" y="503"/>
                  </a:lnTo>
                  <a:lnTo>
                    <a:pt x="639" y="471"/>
                  </a:lnTo>
                  <a:lnTo>
                    <a:pt x="629" y="440"/>
                  </a:lnTo>
                  <a:lnTo>
                    <a:pt x="617" y="410"/>
                  </a:lnTo>
                  <a:lnTo>
                    <a:pt x="603" y="381"/>
                  </a:lnTo>
                  <a:lnTo>
                    <a:pt x="588" y="351"/>
                  </a:lnTo>
                  <a:lnTo>
                    <a:pt x="573" y="323"/>
                  </a:lnTo>
                  <a:lnTo>
                    <a:pt x="555" y="297"/>
                  </a:lnTo>
                  <a:lnTo>
                    <a:pt x="536" y="270"/>
                  </a:lnTo>
                  <a:lnTo>
                    <a:pt x="516" y="245"/>
                  </a:lnTo>
                  <a:lnTo>
                    <a:pt x="495" y="220"/>
                  </a:lnTo>
                  <a:lnTo>
                    <a:pt x="473" y="197"/>
                  </a:lnTo>
                  <a:lnTo>
                    <a:pt x="450" y="176"/>
                  </a:lnTo>
                  <a:lnTo>
                    <a:pt x="425" y="154"/>
                  </a:lnTo>
                  <a:lnTo>
                    <a:pt x="400" y="134"/>
                  </a:lnTo>
                  <a:lnTo>
                    <a:pt x="374" y="116"/>
                  </a:lnTo>
                  <a:lnTo>
                    <a:pt x="347" y="98"/>
                  </a:lnTo>
                  <a:lnTo>
                    <a:pt x="318" y="82"/>
                  </a:lnTo>
                  <a:lnTo>
                    <a:pt x="290" y="68"/>
                  </a:lnTo>
                  <a:lnTo>
                    <a:pt x="261" y="53"/>
                  </a:lnTo>
                  <a:lnTo>
                    <a:pt x="230" y="41"/>
                  </a:lnTo>
                  <a:lnTo>
                    <a:pt x="200" y="32"/>
                  </a:lnTo>
                  <a:lnTo>
                    <a:pt x="167" y="22"/>
                  </a:lnTo>
                  <a:lnTo>
                    <a:pt x="135" y="15"/>
                  </a:lnTo>
                  <a:lnTo>
                    <a:pt x="102" y="9"/>
                  </a:lnTo>
                  <a:lnTo>
                    <a:pt x="69" y="4"/>
                  </a:lnTo>
                  <a:lnTo>
                    <a:pt x="35" y="2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3" y="36"/>
                  </a:lnTo>
                  <a:lnTo>
                    <a:pt x="65" y="39"/>
                  </a:lnTo>
                  <a:lnTo>
                    <a:pt x="96" y="44"/>
                  </a:lnTo>
                  <a:lnTo>
                    <a:pt x="128" y="48"/>
                  </a:lnTo>
                  <a:lnTo>
                    <a:pt x="159" y="56"/>
                  </a:lnTo>
                  <a:lnTo>
                    <a:pt x="189" y="64"/>
                  </a:lnTo>
                  <a:lnTo>
                    <a:pt x="218" y="75"/>
                  </a:lnTo>
                  <a:lnTo>
                    <a:pt x="246" y="86"/>
                  </a:lnTo>
                  <a:lnTo>
                    <a:pt x="275" y="99"/>
                  </a:lnTo>
                  <a:lnTo>
                    <a:pt x="303" y="112"/>
                  </a:lnTo>
                  <a:lnTo>
                    <a:pt x="329" y="128"/>
                  </a:lnTo>
                  <a:lnTo>
                    <a:pt x="354" y="144"/>
                  </a:lnTo>
                  <a:lnTo>
                    <a:pt x="380" y="162"/>
                  </a:lnTo>
                  <a:lnTo>
                    <a:pt x="404" y="180"/>
                  </a:lnTo>
                  <a:lnTo>
                    <a:pt x="426" y="201"/>
                  </a:lnTo>
                  <a:lnTo>
                    <a:pt x="448" y="221"/>
                  </a:lnTo>
                  <a:lnTo>
                    <a:pt x="470" y="244"/>
                  </a:lnTo>
                  <a:lnTo>
                    <a:pt x="490" y="267"/>
                  </a:lnTo>
                  <a:lnTo>
                    <a:pt x="508" y="291"/>
                  </a:lnTo>
                  <a:lnTo>
                    <a:pt x="526" y="316"/>
                  </a:lnTo>
                  <a:lnTo>
                    <a:pt x="543" y="341"/>
                  </a:lnTo>
                  <a:lnTo>
                    <a:pt x="558" y="368"/>
                  </a:lnTo>
                  <a:lnTo>
                    <a:pt x="572" y="395"/>
                  </a:lnTo>
                  <a:lnTo>
                    <a:pt x="585" y="423"/>
                  </a:lnTo>
                  <a:lnTo>
                    <a:pt x="596" y="452"/>
                  </a:lnTo>
                  <a:lnTo>
                    <a:pt x="606" y="481"/>
                  </a:lnTo>
                  <a:lnTo>
                    <a:pt x="615" y="511"/>
                  </a:lnTo>
                  <a:lnTo>
                    <a:pt x="622" y="543"/>
                  </a:lnTo>
                  <a:lnTo>
                    <a:pt x="627" y="573"/>
                  </a:lnTo>
                  <a:lnTo>
                    <a:pt x="632" y="605"/>
                  </a:lnTo>
                  <a:lnTo>
                    <a:pt x="634" y="637"/>
                  </a:lnTo>
                  <a:lnTo>
                    <a:pt x="634" y="670"/>
                  </a:lnTo>
                  <a:lnTo>
                    <a:pt x="634" y="670"/>
                  </a:lnTo>
                  <a:lnTo>
                    <a:pt x="669" y="67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334040" y="3038400"/>
              <a:ext cx="264960" cy="265320"/>
            </a:xfrm>
            <a:custGeom>
              <a:avLst/>
              <a:gdLst/>
              <a:ahLst/>
              <a:rect l="l" t="t" r="r" b="b"/>
              <a:pathLst>
                <a:path w="669" h="668">
                  <a:moveTo>
                    <a:pt x="0" y="668"/>
                  </a:moveTo>
                  <a:lnTo>
                    <a:pt x="0" y="668"/>
                  </a:lnTo>
                  <a:lnTo>
                    <a:pt x="35" y="667"/>
                  </a:lnTo>
                  <a:lnTo>
                    <a:pt x="69" y="664"/>
                  </a:lnTo>
                  <a:lnTo>
                    <a:pt x="102" y="661"/>
                  </a:lnTo>
                  <a:lnTo>
                    <a:pt x="135" y="655"/>
                  </a:lnTo>
                  <a:lnTo>
                    <a:pt x="167" y="648"/>
                  </a:lnTo>
                  <a:lnTo>
                    <a:pt x="200" y="638"/>
                  </a:lnTo>
                  <a:lnTo>
                    <a:pt x="230" y="627"/>
                  </a:lnTo>
                  <a:lnTo>
                    <a:pt x="261" y="615"/>
                  </a:lnTo>
                  <a:lnTo>
                    <a:pt x="290" y="602"/>
                  </a:lnTo>
                  <a:lnTo>
                    <a:pt x="318" y="588"/>
                  </a:lnTo>
                  <a:lnTo>
                    <a:pt x="347" y="571"/>
                  </a:lnTo>
                  <a:lnTo>
                    <a:pt x="374" y="554"/>
                  </a:lnTo>
                  <a:lnTo>
                    <a:pt x="400" y="535"/>
                  </a:lnTo>
                  <a:lnTo>
                    <a:pt x="425" y="516"/>
                  </a:lnTo>
                  <a:lnTo>
                    <a:pt x="450" y="494"/>
                  </a:lnTo>
                  <a:lnTo>
                    <a:pt x="473" y="473"/>
                  </a:lnTo>
                  <a:lnTo>
                    <a:pt x="495" y="449"/>
                  </a:lnTo>
                  <a:lnTo>
                    <a:pt x="516" y="425"/>
                  </a:lnTo>
                  <a:lnTo>
                    <a:pt x="536" y="399"/>
                  </a:lnTo>
                  <a:lnTo>
                    <a:pt x="555" y="373"/>
                  </a:lnTo>
                  <a:lnTo>
                    <a:pt x="573" y="345"/>
                  </a:lnTo>
                  <a:lnTo>
                    <a:pt x="588" y="318"/>
                  </a:lnTo>
                  <a:lnTo>
                    <a:pt x="603" y="289"/>
                  </a:lnTo>
                  <a:lnTo>
                    <a:pt x="617" y="259"/>
                  </a:lnTo>
                  <a:lnTo>
                    <a:pt x="629" y="229"/>
                  </a:lnTo>
                  <a:lnTo>
                    <a:pt x="639" y="198"/>
                  </a:lnTo>
                  <a:lnTo>
                    <a:pt x="648" y="167"/>
                  </a:lnTo>
                  <a:lnTo>
                    <a:pt x="656" y="134"/>
                  </a:lnTo>
                  <a:lnTo>
                    <a:pt x="662" y="101"/>
                  </a:lnTo>
                  <a:lnTo>
                    <a:pt x="666" y="68"/>
                  </a:lnTo>
                  <a:lnTo>
                    <a:pt x="669" y="33"/>
                  </a:lnTo>
                  <a:lnTo>
                    <a:pt x="669" y="0"/>
                  </a:lnTo>
                  <a:lnTo>
                    <a:pt x="634" y="0"/>
                  </a:lnTo>
                  <a:lnTo>
                    <a:pt x="634" y="32"/>
                  </a:lnTo>
                  <a:lnTo>
                    <a:pt x="632" y="65"/>
                  </a:lnTo>
                  <a:lnTo>
                    <a:pt x="627" y="96"/>
                  </a:lnTo>
                  <a:lnTo>
                    <a:pt x="622" y="127"/>
                  </a:lnTo>
                  <a:lnTo>
                    <a:pt x="615" y="158"/>
                  </a:lnTo>
                  <a:lnTo>
                    <a:pt x="606" y="188"/>
                  </a:lnTo>
                  <a:lnTo>
                    <a:pt x="596" y="217"/>
                  </a:lnTo>
                  <a:lnTo>
                    <a:pt x="585" y="246"/>
                  </a:lnTo>
                  <a:lnTo>
                    <a:pt x="572" y="275"/>
                  </a:lnTo>
                  <a:lnTo>
                    <a:pt x="558" y="301"/>
                  </a:lnTo>
                  <a:lnTo>
                    <a:pt x="543" y="327"/>
                  </a:lnTo>
                  <a:lnTo>
                    <a:pt x="526" y="354"/>
                  </a:lnTo>
                  <a:lnTo>
                    <a:pt x="508" y="379"/>
                  </a:lnTo>
                  <a:lnTo>
                    <a:pt x="490" y="403"/>
                  </a:lnTo>
                  <a:lnTo>
                    <a:pt x="470" y="426"/>
                  </a:lnTo>
                  <a:lnTo>
                    <a:pt x="448" y="447"/>
                  </a:lnTo>
                  <a:lnTo>
                    <a:pt x="426" y="469"/>
                  </a:lnTo>
                  <a:lnTo>
                    <a:pt x="404" y="488"/>
                  </a:lnTo>
                  <a:lnTo>
                    <a:pt x="380" y="507"/>
                  </a:lnTo>
                  <a:lnTo>
                    <a:pt x="354" y="525"/>
                  </a:lnTo>
                  <a:lnTo>
                    <a:pt x="329" y="542"/>
                  </a:lnTo>
                  <a:lnTo>
                    <a:pt x="303" y="556"/>
                  </a:lnTo>
                  <a:lnTo>
                    <a:pt x="275" y="571"/>
                  </a:lnTo>
                  <a:lnTo>
                    <a:pt x="246" y="584"/>
                  </a:lnTo>
                  <a:lnTo>
                    <a:pt x="218" y="595"/>
                  </a:lnTo>
                  <a:lnTo>
                    <a:pt x="189" y="604"/>
                  </a:lnTo>
                  <a:lnTo>
                    <a:pt x="159" y="614"/>
                  </a:lnTo>
                  <a:lnTo>
                    <a:pt x="128" y="620"/>
                  </a:lnTo>
                  <a:lnTo>
                    <a:pt x="96" y="626"/>
                  </a:lnTo>
                  <a:lnTo>
                    <a:pt x="65" y="630"/>
                  </a:lnTo>
                  <a:lnTo>
                    <a:pt x="33" y="633"/>
                  </a:lnTo>
                  <a:lnTo>
                    <a:pt x="0" y="633"/>
                  </a:lnTo>
                  <a:lnTo>
                    <a:pt x="0" y="633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068720" y="3038400"/>
              <a:ext cx="265320" cy="265320"/>
            </a:xfrm>
            <a:custGeom>
              <a:avLst/>
              <a:gdLst/>
              <a:ahLst/>
              <a:rect l="l" t="t" r="r" b="b"/>
              <a:pathLst>
                <a:path w="668" h="668">
                  <a:moveTo>
                    <a:pt x="0" y="0"/>
                  </a:moveTo>
                  <a:lnTo>
                    <a:pt x="0" y="0"/>
                  </a:lnTo>
                  <a:lnTo>
                    <a:pt x="1" y="33"/>
                  </a:lnTo>
                  <a:lnTo>
                    <a:pt x="4" y="68"/>
                  </a:lnTo>
                  <a:lnTo>
                    <a:pt x="7" y="101"/>
                  </a:lnTo>
                  <a:lnTo>
                    <a:pt x="13" y="134"/>
                  </a:lnTo>
                  <a:lnTo>
                    <a:pt x="20" y="167"/>
                  </a:lnTo>
                  <a:lnTo>
                    <a:pt x="30" y="198"/>
                  </a:lnTo>
                  <a:lnTo>
                    <a:pt x="41" y="229"/>
                  </a:lnTo>
                  <a:lnTo>
                    <a:pt x="53" y="259"/>
                  </a:lnTo>
                  <a:lnTo>
                    <a:pt x="66" y="289"/>
                  </a:lnTo>
                  <a:lnTo>
                    <a:pt x="80" y="318"/>
                  </a:lnTo>
                  <a:lnTo>
                    <a:pt x="97" y="345"/>
                  </a:lnTo>
                  <a:lnTo>
                    <a:pt x="114" y="373"/>
                  </a:lnTo>
                  <a:lnTo>
                    <a:pt x="133" y="399"/>
                  </a:lnTo>
                  <a:lnTo>
                    <a:pt x="152" y="425"/>
                  </a:lnTo>
                  <a:lnTo>
                    <a:pt x="174" y="449"/>
                  </a:lnTo>
                  <a:lnTo>
                    <a:pt x="196" y="473"/>
                  </a:lnTo>
                  <a:lnTo>
                    <a:pt x="220" y="494"/>
                  </a:lnTo>
                  <a:lnTo>
                    <a:pt x="244" y="516"/>
                  </a:lnTo>
                  <a:lnTo>
                    <a:pt x="269" y="535"/>
                  </a:lnTo>
                  <a:lnTo>
                    <a:pt x="295" y="554"/>
                  </a:lnTo>
                  <a:lnTo>
                    <a:pt x="322" y="571"/>
                  </a:lnTo>
                  <a:lnTo>
                    <a:pt x="350" y="588"/>
                  </a:lnTo>
                  <a:lnTo>
                    <a:pt x="379" y="602"/>
                  </a:lnTo>
                  <a:lnTo>
                    <a:pt x="409" y="615"/>
                  </a:lnTo>
                  <a:lnTo>
                    <a:pt x="439" y="627"/>
                  </a:lnTo>
                  <a:lnTo>
                    <a:pt x="470" y="638"/>
                  </a:lnTo>
                  <a:lnTo>
                    <a:pt x="502" y="648"/>
                  </a:lnTo>
                  <a:lnTo>
                    <a:pt x="534" y="655"/>
                  </a:lnTo>
                  <a:lnTo>
                    <a:pt x="566" y="661"/>
                  </a:lnTo>
                  <a:lnTo>
                    <a:pt x="600" y="664"/>
                  </a:lnTo>
                  <a:lnTo>
                    <a:pt x="635" y="667"/>
                  </a:lnTo>
                  <a:lnTo>
                    <a:pt x="668" y="668"/>
                  </a:lnTo>
                  <a:lnTo>
                    <a:pt x="668" y="633"/>
                  </a:lnTo>
                  <a:lnTo>
                    <a:pt x="636" y="633"/>
                  </a:lnTo>
                  <a:lnTo>
                    <a:pt x="604" y="630"/>
                  </a:lnTo>
                  <a:lnTo>
                    <a:pt x="572" y="626"/>
                  </a:lnTo>
                  <a:lnTo>
                    <a:pt x="541" y="620"/>
                  </a:lnTo>
                  <a:lnTo>
                    <a:pt x="510" y="614"/>
                  </a:lnTo>
                  <a:lnTo>
                    <a:pt x="480" y="604"/>
                  </a:lnTo>
                  <a:lnTo>
                    <a:pt x="451" y="595"/>
                  </a:lnTo>
                  <a:lnTo>
                    <a:pt x="422" y="584"/>
                  </a:lnTo>
                  <a:lnTo>
                    <a:pt x="394" y="571"/>
                  </a:lnTo>
                  <a:lnTo>
                    <a:pt x="367" y="556"/>
                  </a:lnTo>
                  <a:lnTo>
                    <a:pt x="341" y="542"/>
                  </a:lnTo>
                  <a:lnTo>
                    <a:pt x="314" y="525"/>
                  </a:lnTo>
                  <a:lnTo>
                    <a:pt x="289" y="507"/>
                  </a:lnTo>
                  <a:lnTo>
                    <a:pt x="265" y="488"/>
                  </a:lnTo>
                  <a:lnTo>
                    <a:pt x="242" y="469"/>
                  </a:lnTo>
                  <a:lnTo>
                    <a:pt x="221" y="447"/>
                  </a:lnTo>
                  <a:lnTo>
                    <a:pt x="199" y="426"/>
                  </a:lnTo>
                  <a:lnTo>
                    <a:pt x="180" y="403"/>
                  </a:lnTo>
                  <a:lnTo>
                    <a:pt x="161" y="379"/>
                  </a:lnTo>
                  <a:lnTo>
                    <a:pt x="143" y="354"/>
                  </a:lnTo>
                  <a:lnTo>
                    <a:pt x="126" y="327"/>
                  </a:lnTo>
                  <a:lnTo>
                    <a:pt x="112" y="301"/>
                  </a:lnTo>
                  <a:lnTo>
                    <a:pt x="97" y="275"/>
                  </a:lnTo>
                  <a:lnTo>
                    <a:pt x="84" y="246"/>
                  </a:lnTo>
                  <a:lnTo>
                    <a:pt x="73" y="217"/>
                  </a:lnTo>
                  <a:lnTo>
                    <a:pt x="64" y="188"/>
                  </a:lnTo>
                  <a:lnTo>
                    <a:pt x="54" y="158"/>
                  </a:lnTo>
                  <a:lnTo>
                    <a:pt x="47" y="127"/>
                  </a:lnTo>
                  <a:lnTo>
                    <a:pt x="42" y="96"/>
                  </a:lnTo>
                  <a:lnTo>
                    <a:pt x="37" y="65"/>
                  </a:lnTo>
                  <a:lnTo>
                    <a:pt x="35" y="3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68720" y="2773440"/>
              <a:ext cx="265320" cy="264960"/>
            </a:xfrm>
            <a:custGeom>
              <a:avLst/>
              <a:gdLst/>
              <a:ahLst/>
              <a:rect l="l" t="t" r="r" b="b"/>
              <a:pathLst>
                <a:path w="668" h="670">
                  <a:moveTo>
                    <a:pt x="668" y="0"/>
                  </a:moveTo>
                  <a:lnTo>
                    <a:pt x="668" y="0"/>
                  </a:lnTo>
                  <a:lnTo>
                    <a:pt x="635" y="2"/>
                  </a:lnTo>
                  <a:lnTo>
                    <a:pt x="600" y="4"/>
                  </a:lnTo>
                  <a:lnTo>
                    <a:pt x="566" y="9"/>
                  </a:lnTo>
                  <a:lnTo>
                    <a:pt x="534" y="15"/>
                  </a:lnTo>
                  <a:lnTo>
                    <a:pt x="502" y="22"/>
                  </a:lnTo>
                  <a:lnTo>
                    <a:pt x="470" y="32"/>
                  </a:lnTo>
                  <a:lnTo>
                    <a:pt x="439" y="41"/>
                  </a:lnTo>
                  <a:lnTo>
                    <a:pt x="409" y="53"/>
                  </a:lnTo>
                  <a:lnTo>
                    <a:pt x="379" y="68"/>
                  </a:lnTo>
                  <a:lnTo>
                    <a:pt x="350" y="82"/>
                  </a:lnTo>
                  <a:lnTo>
                    <a:pt x="322" y="98"/>
                  </a:lnTo>
                  <a:lnTo>
                    <a:pt x="295" y="116"/>
                  </a:lnTo>
                  <a:lnTo>
                    <a:pt x="269" y="134"/>
                  </a:lnTo>
                  <a:lnTo>
                    <a:pt x="244" y="154"/>
                  </a:lnTo>
                  <a:lnTo>
                    <a:pt x="220" y="176"/>
                  </a:lnTo>
                  <a:lnTo>
                    <a:pt x="196" y="197"/>
                  </a:lnTo>
                  <a:lnTo>
                    <a:pt x="174" y="220"/>
                  </a:lnTo>
                  <a:lnTo>
                    <a:pt x="152" y="245"/>
                  </a:lnTo>
                  <a:lnTo>
                    <a:pt x="133" y="270"/>
                  </a:lnTo>
                  <a:lnTo>
                    <a:pt x="114" y="297"/>
                  </a:lnTo>
                  <a:lnTo>
                    <a:pt x="97" y="323"/>
                  </a:lnTo>
                  <a:lnTo>
                    <a:pt x="80" y="351"/>
                  </a:lnTo>
                  <a:lnTo>
                    <a:pt x="66" y="381"/>
                  </a:lnTo>
                  <a:lnTo>
                    <a:pt x="53" y="410"/>
                  </a:lnTo>
                  <a:lnTo>
                    <a:pt x="41" y="440"/>
                  </a:lnTo>
                  <a:lnTo>
                    <a:pt x="30" y="471"/>
                  </a:lnTo>
                  <a:lnTo>
                    <a:pt x="20" y="503"/>
                  </a:lnTo>
                  <a:lnTo>
                    <a:pt x="13" y="535"/>
                  </a:lnTo>
                  <a:lnTo>
                    <a:pt x="7" y="568"/>
                  </a:lnTo>
                  <a:lnTo>
                    <a:pt x="4" y="601"/>
                  </a:lnTo>
                  <a:lnTo>
                    <a:pt x="1" y="635"/>
                  </a:lnTo>
                  <a:lnTo>
                    <a:pt x="0" y="670"/>
                  </a:lnTo>
                  <a:lnTo>
                    <a:pt x="35" y="670"/>
                  </a:lnTo>
                  <a:lnTo>
                    <a:pt x="35" y="637"/>
                  </a:lnTo>
                  <a:lnTo>
                    <a:pt x="37" y="605"/>
                  </a:lnTo>
                  <a:lnTo>
                    <a:pt x="42" y="573"/>
                  </a:lnTo>
                  <a:lnTo>
                    <a:pt x="47" y="543"/>
                  </a:lnTo>
                  <a:lnTo>
                    <a:pt x="54" y="511"/>
                  </a:lnTo>
                  <a:lnTo>
                    <a:pt x="64" y="481"/>
                  </a:lnTo>
                  <a:lnTo>
                    <a:pt x="73" y="452"/>
                  </a:lnTo>
                  <a:lnTo>
                    <a:pt x="84" y="423"/>
                  </a:lnTo>
                  <a:lnTo>
                    <a:pt x="97" y="395"/>
                  </a:lnTo>
                  <a:lnTo>
                    <a:pt x="112" y="368"/>
                  </a:lnTo>
                  <a:lnTo>
                    <a:pt x="126" y="341"/>
                  </a:lnTo>
                  <a:lnTo>
                    <a:pt x="143" y="316"/>
                  </a:lnTo>
                  <a:lnTo>
                    <a:pt x="161" y="291"/>
                  </a:lnTo>
                  <a:lnTo>
                    <a:pt x="180" y="267"/>
                  </a:lnTo>
                  <a:lnTo>
                    <a:pt x="199" y="244"/>
                  </a:lnTo>
                  <a:lnTo>
                    <a:pt x="221" y="221"/>
                  </a:lnTo>
                  <a:lnTo>
                    <a:pt x="242" y="201"/>
                  </a:lnTo>
                  <a:lnTo>
                    <a:pt x="265" y="180"/>
                  </a:lnTo>
                  <a:lnTo>
                    <a:pt x="289" y="162"/>
                  </a:lnTo>
                  <a:lnTo>
                    <a:pt x="314" y="144"/>
                  </a:lnTo>
                  <a:lnTo>
                    <a:pt x="341" y="128"/>
                  </a:lnTo>
                  <a:lnTo>
                    <a:pt x="367" y="112"/>
                  </a:lnTo>
                  <a:lnTo>
                    <a:pt x="394" y="99"/>
                  </a:lnTo>
                  <a:lnTo>
                    <a:pt x="422" y="86"/>
                  </a:lnTo>
                  <a:lnTo>
                    <a:pt x="451" y="75"/>
                  </a:lnTo>
                  <a:lnTo>
                    <a:pt x="480" y="64"/>
                  </a:lnTo>
                  <a:lnTo>
                    <a:pt x="510" y="56"/>
                  </a:lnTo>
                  <a:lnTo>
                    <a:pt x="541" y="48"/>
                  </a:lnTo>
                  <a:lnTo>
                    <a:pt x="572" y="44"/>
                  </a:lnTo>
                  <a:lnTo>
                    <a:pt x="604" y="39"/>
                  </a:lnTo>
                  <a:lnTo>
                    <a:pt x="636" y="36"/>
                  </a:lnTo>
                  <a:lnTo>
                    <a:pt x="668" y="35"/>
                  </a:lnTo>
                  <a:lnTo>
                    <a:pt x="668" y="35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78400" y="4152960"/>
              <a:ext cx="323640" cy="323640"/>
            </a:xfrm>
            <a:custGeom>
              <a:avLst/>
              <a:gdLst/>
              <a:ahLst/>
              <a:rect l="l" t="t" r="r" b="b"/>
              <a:pathLst>
                <a:path w="816" h="816">
                  <a:moveTo>
                    <a:pt x="408" y="0"/>
                  </a:moveTo>
                  <a:lnTo>
                    <a:pt x="430" y="0"/>
                  </a:lnTo>
                  <a:lnTo>
                    <a:pt x="450" y="2"/>
                  </a:lnTo>
                  <a:lnTo>
                    <a:pt x="470" y="5"/>
                  </a:lnTo>
                  <a:lnTo>
                    <a:pt x="491" y="8"/>
                  </a:lnTo>
                  <a:lnTo>
                    <a:pt x="510" y="12"/>
                  </a:lnTo>
                  <a:lnTo>
                    <a:pt x="529" y="18"/>
                  </a:lnTo>
                  <a:lnTo>
                    <a:pt x="548" y="24"/>
                  </a:lnTo>
                  <a:lnTo>
                    <a:pt x="566" y="32"/>
                  </a:lnTo>
                  <a:lnTo>
                    <a:pt x="584" y="40"/>
                  </a:lnTo>
                  <a:lnTo>
                    <a:pt x="602" y="49"/>
                  </a:lnTo>
                  <a:lnTo>
                    <a:pt x="619" y="59"/>
                  </a:lnTo>
                  <a:lnTo>
                    <a:pt x="636" y="70"/>
                  </a:lnTo>
                  <a:lnTo>
                    <a:pt x="652" y="80"/>
                  </a:lnTo>
                  <a:lnTo>
                    <a:pt x="667" y="94"/>
                  </a:lnTo>
                  <a:lnTo>
                    <a:pt x="683" y="106"/>
                  </a:lnTo>
                  <a:lnTo>
                    <a:pt x="696" y="119"/>
                  </a:lnTo>
                  <a:lnTo>
                    <a:pt x="710" y="133"/>
                  </a:lnTo>
                  <a:lnTo>
                    <a:pt x="722" y="149"/>
                  </a:lnTo>
                  <a:lnTo>
                    <a:pt x="734" y="163"/>
                  </a:lnTo>
                  <a:lnTo>
                    <a:pt x="746" y="180"/>
                  </a:lnTo>
                  <a:lnTo>
                    <a:pt x="757" y="197"/>
                  </a:lnTo>
                  <a:lnTo>
                    <a:pt x="767" y="214"/>
                  </a:lnTo>
                  <a:lnTo>
                    <a:pt x="776" y="232"/>
                  </a:lnTo>
                  <a:lnTo>
                    <a:pt x="784" y="250"/>
                  </a:lnTo>
                  <a:lnTo>
                    <a:pt x="791" y="268"/>
                  </a:lnTo>
                  <a:lnTo>
                    <a:pt x="798" y="287"/>
                  </a:lnTo>
                  <a:lnTo>
                    <a:pt x="803" y="306"/>
                  </a:lnTo>
                  <a:lnTo>
                    <a:pt x="808" y="325"/>
                  </a:lnTo>
                  <a:lnTo>
                    <a:pt x="811" y="346"/>
                  </a:lnTo>
                  <a:lnTo>
                    <a:pt x="814" y="366"/>
                  </a:lnTo>
                  <a:lnTo>
                    <a:pt x="816" y="386"/>
                  </a:lnTo>
                  <a:lnTo>
                    <a:pt x="816" y="408"/>
                  </a:lnTo>
                  <a:lnTo>
                    <a:pt x="816" y="428"/>
                  </a:lnTo>
                  <a:lnTo>
                    <a:pt x="814" y="449"/>
                  </a:lnTo>
                  <a:lnTo>
                    <a:pt x="811" y="469"/>
                  </a:lnTo>
                  <a:lnTo>
                    <a:pt x="808" y="490"/>
                  </a:lnTo>
                  <a:lnTo>
                    <a:pt x="803" y="509"/>
                  </a:lnTo>
                  <a:lnTo>
                    <a:pt x="798" y="529"/>
                  </a:lnTo>
                  <a:lnTo>
                    <a:pt x="791" y="547"/>
                  </a:lnTo>
                  <a:lnTo>
                    <a:pt x="784" y="566"/>
                  </a:lnTo>
                  <a:lnTo>
                    <a:pt x="776" y="584"/>
                  </a:lnTo>
                  <a:lnTo>
                    <a:pt x="767" y="601"/>
                  </a:lnTo>
                  <a:lnTo>
                    <a:pt x="757" y="619"/>
                  </a:lnTo>
                  <a:lnTo>
                    <a:pt x="746" y="635"/>
                  </a:lnTo>
                  <a:lnTo>
                    <a:pt x="734" y="652"/>
                  </a:lnTo>
                  <a:lnTo>
                    <a:pt x="722" y="667"/>
                  </a:lnTo>
                  <a:lnTo>
                    <a:pt x="710" y="682"/>
                  </a:lnTo>
                  <a:lnTo>
                    <a:pt x="696" y="696"/>
                  </a:lnTo>
                  <a:lnTo>
                    <a:pt x="683" y="709"/>
                  </a:lnTo>
                  <a:lnTo>
                    <a:pt x="667" y="722"/>
                  </a:lnTo>
                  <a:lnTo>
                    <a:pt x="652" y="734"/>
                  </a:lnTo>
                  <a:lnTo>
                    <a:pt x="636" y="745"/>
                  </a:lnTo>
                  <a:lnTo>
                    <a:pt x="619" y="756"/>
                  </a:lnTo>
                  <a:lnTo>
                    <a:pt x="602" y="765"/>
                  </a:lnTo>
                  <a:lnTo>
                    <a:pt x="584" y="775"/>
                  </a:lnTo>
                  <a:lnTo>
                    <a:pt x="566" y="783"/>
                  </a:lnTo>
                  <a:lnTo>
                    <a:pt x="548" y="791"/>
                  </a:lnTo>
                  <a:lnTo>
                    <a:pt x="529" y="797"/>
                  </a:lnTo>
                  <a:lnTo>
                    <a:pt x="510" y="803"/>
                  </a:lnTo>
                  <a:lnTo>
                    <a:pt x="491" y="807"/>
                  </a:lnTo>
                  <a:lnTo>
                    <a:pt x="470" y="811"/>
                  </a:lnTo>
                  <a:lnTo>
                    <a:pt x="450" y="813"/>
                  </a:lnTo>
                  <a:lnTo>
                    <a:pt x="430" y="815"/>
                  </a:lnTo>
                  <a:lnTo>
                    <a:pt x="408" y="816"/>
                  </a:lnTo>
                  <a:lnTo>
                    <a:pt x="388" y="815"/>
                  </a:lnTo>
                  <a:lnTo>
                    <a:pt x="367" y="813"/>
                  </a:lnTo>
                  <a:lnTo>
                    <a:pt x="347" y="811"/>
                  </a:lnTo>
                  <a:lnTo>
                    <a:pt x="326" y="807"/>
                  </a:lnTo>
                  <a:lnTo>
                    <a:pt x="307" y="803"/>
                  </a:lnTo>
                  <a:lnTo>
                    <a:pt x="287" y="797"/>
                  </a:lnTo>
                  <a:lnTo>
                    <a:pt x="269" y="791"/>
                  </a:lnTo>
                  <a:lnTo>
                    <a:pt x="250" y="783"/>
                  </a:lnTo>
                  <a:lnTo>
                    <a:pt x="232" y="775"/>
                  </a:lnTo>
                  <a:lnTo>
                    <a:pt x="215" y="765"/>
                  </a:lnTo>
                  <a:lnTo>
                    <a:pt x="197" y="756"/>
                  </a:lnTo>
                  <a:lnTo>
                    <a:pt x="180" y="745"/>
                  </a:lnTo>
                  <a:lnTo>
                    <a:pt x="164" y="734"/>
                  </a:lnTo>
                  <a:lnTo>
                    <a:pt x="149" y="722"/>
                  </a:lnTo>
                  <a:lnTo>
                    <a:pt x="134" y="709"/>
                  </a:lnTo>
                  <a:lnTo>
                    <a:pt x="120" y="696"/>
                  </a:lnTo>
                  <a:lnTo>
                    <a:pt x="107" y="682"/>
                  </a:lnTo>
                  <a:lnTo>
                    <a:pt x="94" y="667"/>
                  </a:lnTo>
                  <a:lnTo>
                    <a:pt x="82" y="652"/>
                  </a:lnTo>
                  <a:lnTo>
                    <a:pt x="71" y="635"/>
                  </a:lnTo>
                  <a:lnTo>
                    <a:pt x="60" y="619"/>
                  </a:lnTo>
                  <a:lnTo>
                    <a:pt x="50" y="601"/>
                  </a:lnTo>
                  <a:lnTo>
                    <a:pt x="41" y="584"/>
                  </a:lnTo>
                  <a:lnTo>
                    <a:pt x="32" y="566"/>
                  </a:lnTo>
                  <a:lnTo>
                    <a:pt x="25" y="547"/>
                  </a:lnTo>
                  <a:lnTo>
                    <a:pt x="19" y="529"/>
                  </a:lnTo>
                  <a:lnTo>
                    <a:pt x="13" y="509"/>
                  </a:lnTo>
                  <a:lnTo>
                    <a:pt x="8" y="490"/>
                  </a:lnTo>
                  <a:lnTo>
                    <a:pt x="5" y="469"/>
                  </a:lnTo>
                  <a:lnTo>
                    <a:pt x="2" y="449"/>
                  </a:lnTo>
                  <a:lnTo>
                    <a:pt x="1" y="428"/>
                  </a:lnTo>
                  <a:lnTo>
                    <a:pt x="0" y="408"/>
                  </a:lnTo>
                  <a:lnTo>
                    <a:pt x="1" y="386"/>
                  </a:lnTo>
                  <a:lnTo>
                    <a:pt x="2" y="366"/>
                  </a:lnTo>
                  <a:lnTo>
                    <a:pt x="5" y="346"/>
                  </a:lnTo>
                  <a:lnTo>
                    <a:pt x="8" y="325"/>
                  </a:lnTo>
                  <a:lnTo>
                    <a:pt x="13" y="306"/>
                  </a:lnTo>
                  <a:lnTo>
                    <a:pt x="19" y="287"/>
                  </a:lnTo>
                  <a:lnTo>
                    <a:pt x="25" y="268"/>
                  </a:lnTo>
                  <a:lnTo>
                    <a:pt x="32" y="250"/>
                  </a:lnTo>
                  <a:lnTo>
                    <a:pt x="41" y="232"/>
                  </a:lnTo>
                  <a:lnTo>
                    <a:pt x="50" y="214"/>
                  </a:lnTo>
                  <a:lnTo>
                    <a:pt x="60" y="197"/>
                  </a:lnTo>
                  <a:lnTo>
                    <a:pt x="71" y="180"/>
                  </a:lnTo>
                  <a:lnTo>
                    <a:pt x="82" y="163"/>
                  </a:lnTo>
                  <a:lnTo>
                    <a:pt x="94" y="149"/>
                  </a:lnTo>
                  <a:lnTo>
                    <a:pt x="107" y="133"/>
                  </a:lnTo>
                  <a:lnTo>
                    <a:pt x="120" y="119"/>
                  </a:lnTo>
                  <a:lnTo>
                    <a:pt x="134" y="106"/>
                  </a:lnTo>
                  <a:lnTo>
                    <a:pt x="149" y="94"/>
                  </a:lnTo>
                  <a:lnTo>
                    <a:pt x="164" y="80"/>
                  </a:lnTo>
                  <a:lnTo>
                    <a:pt x="180" y="70"/>
                  </a:lnTo>
                  <a:lnTo>
                    <a:pt x="197" y="59"/>
                  </a:lnTo>
                  <a:lnTo>
                    <a:pt x="215" y="49"/>
                  </a:lnTo>
                  <a:lnTo>
                    <a:pt x="232" y="40"/>
                  </a:lnTo>
                  <a:lnTo>
                    <a:pt x="250" y="32"/>
                  </a:lnTo>
                  <a:lnTo>
                    <a:pt x="269" y="24"/>
                  </a:lnTo>
                  <a:lnTo>
                    <a:pt x="287" y="18"/>
                  </a:lnTo>
                  <a:lnTo>
                    <a:pt x="307" y="12"/>
                  </a:lnTo>
                  <a:lnTo>
                    <a:pt x="326" y="8"/>
                  </a:lnTo>
                  <a:lnTo>
                    <a:pt x="347" y="5"/>
                  </a:lnTo>
                  <a:lnTo>
                    <a:pt x="367" y="2"/>
                  </a:lnTo>
                  <a:lnTo>
                    <a:pt x="388" y="0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be8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40040" y="4146480"/>
              <a:ext cx="168480" cy="168480"/>
            </a:xfrm>
            <a:custGeom>
              <a:avLst/>
              <a:gdLst/>
              <a:ahLst/>
              <a:rect l="l" t="t" r="r" b="b"/>
              <a:pathLst>
                <a:path w="426" h="426">
                  <a:moveTo>
                    <a:pt x="426" y="426"/>
                  </a:moveTo>
                  <a:lnTo>
                    <a:pt x="426" y="426"/>
                  </a:lnTo>
                  <a:lnTo>
                    <a:pt x="425" y="403"/>
                  </a:lnTo>
                  <a:lnTo>
                    <a:pt x="424" y="383"/>
                  </a:lnTo>
                  <a:lnTo>
                    <a:pt x="421" y="361"/>
                  </a:lnTo>
                  <a:lnTo>
                    <a:pt x="416" y="340"/>
                  </a:lnTo>
                  <a:lnTo>
                    <a:pt x="412" y="319"/>
                  </a:lnTo>
                  <a:lnTo>
                    <a:pt x="407" y="299"/>
                  </a:lnTo>
                  <a:lnTo>
                    <a:pt x="400" y="280"/>
                  </a:lnTo>
                  <a:lnTo>
                    <a:pt x="392" y="260"/>
                  </a:lnTo>
                  <a:lnTo>
                    <a:pt x="384" y="241"/>
                  </a:lnTo>
                  <a:lnTo>
                    <a:pt x="374" y="223"/>
                  </a:lnTo>
                  <a:lnTo>
                    <a:pt x="364" y="205"/>
                  </a:lnTo>
                  <a:lnTo>
                    <a:pt x="353" y="188"/>
                  </a:lnTo>
                  <a:lnTo>
                    <a:pt x="341" y="172"/>
                  </a:lnTo>
                  <a:lnTo>
                    <a:pt x="329" y="155"/>
                  </a:lnTo>
                  <a:lnTo>
                    <a:pt x="314" y="140"/>
                  </a:lnTo>
                  <a:lnTo>
                    <a:pt x="301" y="125"/>
                  </a:lnTo>
                  <a:lnTo>
                    <a:pt x="286" y="112"/>
                  </a:lnTo>
                  <a:lnTo>
                    <a:pt x="270" y="97"/>
                  </a:lnTo>
                  <a:lnTo>
                    <a:pt x="254" y="85"/>
                  </a:lnTo>
                  <a:lnTo>
                    <a:pt x="238" y="73"/>
                  </a:lnTo>
                  <a:lnTo>
                    <a:pt x="221" y="62"/>
                  </a:lnTo>
                  <a:lnTo>
                    <a:pt x="203" y="52"/>
                  </a:lnTo>
                  <a:lnTo>
                    <a:pt x="185" y="42"/>
                  </a:lnTo>
                  <a:lnTo>
                    <a:pt x="166" y="34"/>
                  </a:lnTo>
                  <a:lnTo>
                    <a:pt x="146" y="26"/>
                  </a:lnTo>
                  <a:lnTo>
                    <a:pt x="126" y="19"/>
                  </a:lnTo>
                  <a:lnTo>
                    <a:pt x="107" y="13"/>
                  </a:lnTo>
                  <a:lnTo>
                    <a:pt x="86" y="10"/>
                  </a:lnTo>
                  <a:lnTo>
                    <a:pt x="65" y="5"/>
                  </a:lnTo>
                  <a:lnTo>
                    <a:pt x="43" y="2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35"/>
                  </a:lnTo>
                  <a:lnTo>
                    <a:pt x="20" y="36"/>
                  </a:lnTo>
                  <a:lnTo>
                    <a:pt x="41" y="37"/>
                  </a:lnTo>
                  <a:lnTo>
                    <a:pt x="60" y="40"/>
                  </a:lnTo>
                  <a:lnTo>
                    <a:pt x="79" y="43"/>
                  </a:lnTo>
                  <a:lnTo>
                    <a:pt x="97" y="47"/>
                  </a:lnTo>
                  <a:lnTo>
                    <a:pt x="116" y="53"/>
                  </a:lnTo>
                  <a:lnTo>
                    <a:pt x="134" y="59"/>
                  </a:lnTo>
                  <a:lnTo>
                    <a:pt x="152" y="66"/>
                  </a:lnTo>
                  <a:lnTo>
                    <a:pt x="169" y="73"/>
                  </a:lnTo>
                  <a:lnTo>
                    <a:pt x="186" y="83"/>
                  </a:lnTo>
                  <a:lnTo>
                    <a:pt x="203" y="91"/>
                  </a:lnTo>
                  <a:lnTo>
                    <a:pt x="218" y="102"/>
                  </a:lnTo>
                  <a:lnTo>
                    <a:pt x="234" y="113"/>
                  </a:lnTo>
                  <a:lnTo>
                    <a:pt x="248" y="125"/>
                  </a:lnTo>
                  <a:lnTo>
                    <a:pt x="263" y="137"/>
                  </a:lnTo>
                  <a:lnTo>
                    <a:pt x="276" y="150"/>
                  </a:lnTo>
                  <a:lnTo>
                    <a:pt x="289" y="163"/>
                  </a:lnTo>
                  <a:lnTo>
                    <a:pt x="301" y="178"/>
                  </a:lnTo>
                  <a:lnTo>
                    <a:pt x="313" y="192"/>
                  </a:lnTo>
                  <a:lnTo>
                    <a:pt x="324" y="208"/>
                  </a:lnTo>
                  <a:lnTo>
                    <a:pt x="334" y="223"/>
                  </a:lnTo>
                  <a:lnTo>
                    <a:pt x="343" y="240"/>
                  </a:lnTo>
                  <a:lnTo>
                    <a:pt x="353" y="257"/>
                  </a:lnTo>
                  <a:lnTo>
                    <a:pt x="360" y="274"/>
                  </a:lnTo>
                  <a:lnTo>
                    <a:pt x="367" y="292"/>
                  </a:lnTo>
                  <a:lnTo>
                    <a:pt x="373" y="310"/>
                  </a:lnTo>
                  <a:lnTo>
                    <a:pt x="378" y="328"/>
                  </a:lnTo>
                  <a:lnTo>
                    <a:pt x="383" y="347"/>
                  </a:lnTo>
                  <a:lnTo>
                    <a:pt x="386" y="366"/>
                  </a:lnTo>
                  <a:lnTo>
                    <a:pt x="389" y="385"/>
                  </a:lnTo>
                  <a:lnTo>
                    <a:pt x="390" y="406"/>
                  </a:lnTo>
                  <a:lnTo>
                    <a:pt x="391" y="426"/>
                  </a:lnTo>
                  <a:lnTo>
                    <a:pt x="391" y="426"/>
                  </a:lnTo>
                  <a:lnTo>
                    <a:pt x="426" y="42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40040" y="4314960"/>
              <a:ext cx="168480" cy="168120"/>
            </a:xfrm>
            <a:custGeom>
              <a:avLst/>
              <a:gdLst/>
              <a:ahLst/>
              <a:rect l="l" t="t" r="r" b="b"/>
              <a:pathLst>
                <a:path w="426" h="425">
                  <a:moveTo>
                    <a:pt x="0" y="425"/>
                  </a:moveTo>
                  <a:lnTo>
                    <a:pt x="0" y="425"/>
                  </a:lnTo>
                  <a:lnTo>
                    <a:pt x="22" y="423"/>
                  </a:lnTo>
                  <a:lnTo>
                    <a:pt x="43" y="422"/>
                  </a:lnTo>
                  <a:lnTo>
                    <a:pt x="65" y="420"/>
                  </a:lnTo>
                  <a:lnTo>
                    <a:pt x="86" y="416"/>
                  </a:lnTo>
                  <a:lnTo>
                    <a:pt x="107" y="411"/>
                  </a:lnTo>
                  <a:lnTo>
                    <a:pt x="126" y="405"/>
                  </a:lnTo>
                  <a:lnTo>
                    <a:pt x="146" y="398"/>
                  </a:lnTo>
                  <a:lnTo>
                    <a:pt x="166" y="391"/>
                  </a:lnTo>
                  <a:lnTo>
                    <a:pt x="185" y="383"/>
                  </a:lnTo>
                  <a:lnTo>
                    <a:pt x="203" y="373"/>
                  </a:lnTo>
                  <a:lnTo>
                    <a:pt x="221" y="363"/>
                  </a:lnTo>
                  <a:lnTo>
                    <a:pt x="238" y="351"/>
                  </a:lnTo>
                  <a:lnTo>
                    <a:pt x="254" y="339"/>
                  </a:lnTo>
                  <a:lnTo>
                    <a:pt x="270" y="327"/>
                  </a:lnTo>
                  <a:lnTo>
                    <a:pt x="286" y="314"/>
                  </a:lnTo>
                  <a:lnTo>
                    <a:pt x="301" y="300"/>
                  </a:lnTo>
                  <a:lnTo>
                    <a:pt x="314" y="286"/>
                  </a:lnTo>
                  <a:lnTo>
                    <a:pt x="329" y="270"/>
                  </a:lnTo>
                  <a:lnTo>
                    <a:pt x="341" y="253"/>
                  </a:lnTo>
                  <a:lnTo>
                    <a:pt x="353" y="238"/>
                  </a:lnTo>
                  <a:lnTo>
                    <a:pt x="364" y="220"/>
                  </a:lnTo>
                  <a:lnTo>
                    <a:pt x="374" y="202"/>
                  </a:lnTo>
                  <a:lnTo>
                    <a:pt x="384" y="184"/>
                  </a:lnTo>
                  <a:lnTo>
                    <a:pt x="392" y="164"/>
                  </a:lnTo>
                  <a:lnTo>
                    <a:pt x="400" y="145"/>
                  </a:lnTo>
                  <a:lnTo>
                    <a:pt x="407" y="126"/>
                  </a:lnTo>
                  <a:lnTo>
                    <a:pt x="412" y="106"/>
                  </a:lnTo>
                  <a:lnTo>
                    <a:pt x="416" y="85"/>
                  </a:lnTo>
                  <a:lnTo>
                    <a:pt x="421" y="64"/>
                  </a:lnTo>
                  <a:lnTo>
                    <a:pt x="424" y="43"/>
                  </a:lnTo>
                  <a:lnTo>
                    <a:pt x="425" y="22"/>
                  </a:lnTo>
                  <a:lnTo>
                    <a:pt x="426" y="0"/>
                  </a:lnTo>
                  <a:lnTo>
                    <a:pt x="391" y="0"/>
                  </a:lnTo>
                  <a:lnTo>
                    <a:pt x="390" y="19"/>
                  </a:lnTo>
                  <a:lnTo>
                    <a:pt x="389" y="40"/>
                  </a:lnTo>
                  <a:lnTo>
                    <a:pt x="386" y="59"/>
                  </a:lnTo>
                  <a:lnTo>
                    <a:pt x="383" y="78"/>
                  </a:lnTo>
                  <a:lnTo>
                    <a:pt x="378" y="97"/>
                  </a:lnTo>
                  <a:lnTo>
                    <a:pt x="373" y="115"/>
                  </a:lnTo>
                  <a:lnTo>
                    <a:pt x="367" y="133"/>
                  </a:lnTo>
                  <a:lnTo>
                    <a:pt x="360" y="151"/>
                  </a:lnTo>
                  <a:lnTo>
                    <a:pt x="353" y="168"/>
                  </a:lnTo>
                  <a:lnTo>
                    <a:pt x="343" y="186"/>
                  </a:lnTo>
                  <a:lnTo>
                    <a:pt x="334" y="202"/>
                  </a:lnTo>
                  <a:lnTo>
                    <a:pt x="324" y="217"/>
                  </a:lnTo>
                  <a:lnTo>
                    <a:pt x="313" y="233"/>
                  </a:lnTo>
                  <a:lnTo>
                    <a:pt x="301" y="247"/>
                  </a:lnTo>
                  <a:lnTo>
                    <a:pt x="289" y="262"/>
                  </a:lnTo>
                  <a:lnTo>
                    <a:pt x="276" y="276"/>
                  </a:lnTo>
                  <a:lnTo>
                    <a:pt x="263" y="288"/>
                  </a:lnTo>
                  <a:lnTo>
                    <a:pt x="248" y="301"/>
                  </a:lnTo>
                  <a:lnTo>
                    <a:pt x="234" y="312"/>
                  </a:lnTo>
                  <a:lnTo>
                    <a:pt x="218" y="323"/>
                  </a:lnTo>
                  <a:lnTo>
                    <a:pt x="203" y="333"/>
                  </a:lnTo>
                  <a:lnTo>
                    <a:pt x="186" y="343"/>
                  </a:lnTo>
                  <a:lnTo>
                    <a:pt x="169" y="351"/>
                  </a:lnTo>
                  <a:lnTo>
                    <a:pt x="152" y="359"/>
                  </a:lnTo>
                  <a:lnTo>
                    <a:pt x="134" y="366"/>
                  </a:lnTo>
                  <a:lnTo>
                    <a:pt x="116" y="372"/>
                  </a:lnTo>
                  <a:lnTo>
                    <a:pt x="97" y="378"/>
                  </a:lnTo>
                  <a:lnTo>
                    <a:pt x="79" y="381"/>
                  </a:lnTo>
                  <a:lnTo>
                    <a:pt x="60" y="385"/>
                  </a:lnTo>
                  <a:lnTo>
                    <a:pt x="41" y="387"/>
                  </a:lnTo>
                  <a:lnTo>
                    <a:pt x="20" y="390"/>
                  </a:lnTo>
                  <a:lnTo>
                    <a:pt x="0" y="390"/>
                  </a:lnTo>
                  <a:lnTo>
                    <a:pt x="0" y="390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70120" y="4314960"/>
              <a:ext cx="169920" cy="168120"/>
            </a:xfrm>
            <a:custGeom>
              <a:avLst/>
              <a:gdLst/>
              <a:ahLst/>
              <a:rect l="l" t="t" r="r" b="b"/>
              <a:pathLst>
                <a:path w="425" h="425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3" y="43"/>
                  </a:lnTo>
                  <a:lnTo>
                    <a:pt x="5" y="64"/>
                  </a:lnTo>
                  <a:lnTo>
                    <a:pt x="9" y="85"/>
                  </a:lnTo>
                  <a:lnTo>
                    <a:pt x="13" y="106"/>
                  </a:lnTo>
                  <a:lnTo>
                    <a:pt x="19" y="126"/>
                  </a:lnTo>
                  <a:lnTo>
                    <a:pt x="27" y="145"/>
                  </a:lnTo>
                  <a:lnTo>
                    <a:pt x="34" y="164"/>
                  </a:lnTo>
                  <a:lnTo>
                    <a:pt x="42" y="184"/>
                  </a:lnTo>
                  <a:lnTo>
                    <a:pt x="52" y="202"/>
                  </a:lnTo>
                  <a:lnTo>
                    <a:pt x="61" y="220"/>
                  </a:lnTo>
                  <a:lnTo>
                    <a:pt x="73" y="238"/>
                  </a:lnTo>
                  <a:lnTo>
                    <a:pt x="85" y="253"/>
                  </a:lnTo>
                  <a:lnTo>
                    <a:pt x="97" y="270"/>
                  </a:lnTo>
                  <a:lnTo>
                    <a:pt x="111" y="286"/>
                  </a:lnTo>
                  <a:lnTo>
                    <a:pt x="125" y="300"/>
                  </a:lnTo>
                  <a:lnTo>
                    <a:pt x="139" y="314"/>
                  </a:lnTo>
                  <a:lnTo>
                    <a:pt x="155" y="327"/>
                  </a:lnTo>
                  <a:lnTo>
                    <a:pt x="171" y="339"/>
                  </a:lnTo>
                  <a:lnTo>
                    <a:pt x="187" y="351"/>
                  </a:lnTo>
                  <a:lnTo>
                    <a:pt x="205" y="363"/>
                  </a:lnTo>
                  <a:lnTo>
                    <a:pt x="223" y="373"/>
                  </a:lnTo>
                  <a:lnTo>
                    <a:pt x="241" y="383"/>
                  </a:lnTo>
                  <a:lnTo>
                    <a:pt x="261" y="391"/>
                  </a:lnTo>
                  <a:lnTo>
                    <a:pt x="280" y="398"/>
                  </a:lnTo>
                  <a:lnTo>
                    <a:pt x="299" y="405"/>
                  </a:lnTo>
                  <a:lnTo>
                    <a:pt x="319" y="411"/>
                  </a:lnTo>
                  <a:lnTo>
                    <a:pt x="340" y="416"/>
                  </a:lnTo>
                  <a:lnTo>
                    <a:pt x="361" y="420"/>
                  </a:lnTo>
                  <a:lnTo>
                    <a:pt x="382" y="422"/>
                  </a:lnTo>
                  <a:lnTo>
                    <a:pt x="403" y="423"/>
                  </a:lnTo>
                  <a:lnTo>
                    <a:pt x="425" y="425"/>
                  </a:lnTo>
                  <a:lnTo>
                    <a:pt x="425" y="390"/>
                  </a:lnTo>
                  <a:lnTo>
                    <a:pt x="406" y="390"/>
                  </a:lnTo>
                  <a:lnTo>
                    <a:pt x="385" y="387"/>
                  </a:lnTo>
                  <a:lnTo>
                    <a:pt x="366" y="385"/>
                  </a:lnTo>
                  <a:lnTo>
                    <a:pt x="347" y="381"/>
                  </a:lnTo>
                  <a:lnTo>
                    <a:pt x="328" y="378"/>
                  </a:lnTo>
                  <a:lnTo>
                    <a:pt x="310" y="372"/>
                  </a:lnTo>
                  <a:lnTo>
                    <a:pt x="292" y="366"/>
                  </a:lnTo>
                  <a:lnTo>
                    <a:pt x="274" y="359"/>
                  </a:lnTo>
                  <a:lnTo>
                    <a:pt x="256" y="351"/>
                  </a:lnTo>
                  <a:lnTo>
                    <a:pt x="239" y="343"/>
                  </a:lnTo>
                  <a:lnTo>
                    <a:pt x="223" y="333"/>
                  </a:lnTo>
                  <a:lnTo>
                    <a:pt x="208" y="323"/>
                  </a:lnTo>
                  <a:lnTo>
                    <a:pt x="192" y="312"/>
                  </a:lnTo>
                  <a:lnTo>
                    <a:pt x="178" y="301"/>
                  </a:lnTo>
                  <a:lnTo>
                    <a:pt x="163" y="288"/>
                  </a:lnTo>
                  <a:lnTo>
                    <a:pt x="149" y="276"/>
                  </a:lnTo>
                  <a:lnTo>
                    <a:pt x="137" y="262"/>
                  </a:lnTo>
                  <a:lnTo>
                    <a:pt x="124" y="247"/>
                  </a:lnTo>
                  <a:lnTo>
                    <a:pt x="113" y="233"/>
                  </a:lnTo>
                  <a:lnTo>
                    <a:pt x="102" y="217"/>
                  </a:lnTo>
                  <a:lnTo>
                    <a:pt x="91" y="202"/>
                  </a:lnTo>
                  <a:lnTo>
                    <a:pt x="82" y="186"/>
                  </a:lnTo>
                  <a:lnTo>
                    <a:pt x="73" y="168"/>
                  </a:lnTo>
                  <a:lnTo>
                    <a:pt x="66" y="151"/>
                  </a:lnTo>
                  <a:lnTo>
                    <a:pt x="59" y="133"/>
                  </a:lnTo>
                  <a:lnTo>
                    <a:pt x="53" y="115"/>
                  </a:lnTo>
                  <a:lnTo>
                    <a:pt x="47" y="97"/>
                  </a:lnTo>
                  <a:lnTo>
                    <a:pt x="42" y="78"/>
                  </a:lnTo>
                  <a:lnTo>
                    <a:pt x="40" y="59"/>
                  </a:lnTo>
                  <a:lnTo>
                    <a:pt x="37" y="40"/>
                  </a:lnTo>
                  <a:lnTo>
                    <a:pt x="35" y="19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70120" y="4146480"/>
              <a:ext cx="169920" cy="168480"/>
            </a:xfrm>
            <a:custGeom>
              <a:avLst/>
              <a:gdLst/>
              <a:ahLst/>
              <a:rect l="l" t="t" r="r" b="b"/>
              <a:pathLst>
                <a:path w="425" h="426">
                  <a:moveTo>
                    <a:pt x="425" y="0"/>
                  </a:moveTo>
                  <a:lnTo>
                    <a:pt x="425" y="0"/>
                  </a:lnTo>
                  <a:lnTo>
                    <a:pt x="403" y="1"/>
                  </a:lnTo>
                  <a:lnTo>
                    <a:pt x="382" y="2"/>
                  </a:lnTo>
                  <a:lnTo>
                    <a:pt x="361" y="5"/>
                  </a:lnTo>
                  <a:lnTo>
                    <a:pt x="340" y="10"/>
                  </a:lnTo>
                  <a:lnTo>
                    <a:pt x="319" y="13"/>
                  </a:lnTo>
                  <a:lnTo>
                    <a:pt x="299" y="19"/>
                  </a:lnTo>
                  <a:lnTo>
                    <a:pt x="280" y="26"/>
                  </a:lnTo>
                  <a:lnTo>
                    <a:pt x="261" y="34"/>
                  </a:lnTo>
                  <a:lnTo>
                    <a:pt x="241" y="42"/>
                  </a:lnTo>
                  <a:lnTo>
                    <a:pt x="223" y="52"/>
                  </a:lnTo>
                  <a:lnTo>
                    <a:pt x="205" y="62"/>
                  </a:lnTo>
                  <a:lnTo>
                    <a:pt x="187" y="73"/>
                  </a:lnTo>
                  <a:lnTo>
                    <a:pt x="171" y="85"/>
                  </a:lnTo>
                  <a:lnTo>
                    <a:pt x="155" y="97"/>
                  </a:lnTo>
                  <a:lnTo>
                    <a:pt x="139" y="112"/>
                  </a:lnTo>
                  <a:lnTo>
                    <a:pt x="125" y="125"/>
                  </a:lnTo>
                  <a:lnTo>
                    <a:pt x="111" y="140"/>
                  </a:lnTo>
                  <a:lnTo>
                    <a:pt x="97" y="155"/>
                  </a:lnTo>
                  <a:lnTo>
                    <a:pt x="85" y="172"/>
                  </a:lnTo>
                  <a:lnTo>
                    <a:pt x="73" y="188"/>
                  </a:lnTo>
                  <a:lnTo>
                    <a:pt x="61" y="205"/>
                  </a:lnTo>
                  <a:lnTo>
                    <a:pt x="52" y="223"/>
                  </a:lnTo>
                  <a:lnTo>
                    <a:pt x="42" y="241"/>
                  </a:lnTo>
                  <a:lnTo>
                    <a:pt x="34" y="260"/>
                  </a:lnTo>
                  <a:lnTo>
                    <a:pt x="27" y="280"/>
                  </a:lnTo>
                  <a:lnTo>
                    <a:pt x="19" y="299"/>
                  </a:lnTo>
                  <a:lnTo>
                    <a:pt x="13" y="319"/>
                  </a:lnTo>
                  <a:lnTo>
                    <a:pt x="9" y="340"/>
                  </a:lnTo>
                  <a:lnTo>
                    <a:pt x="5" y="361"/>
                  </a:lnTo>
                  <a:lnTo>
                    <a:pt x="3" y="383"/>
                  </a:lnTo>
                  <a:lnTo>
                    <a:pt x="0" y="404"/>
                  </a:lnTo>
                  <a:lnTo>
                    <a:pt x="0" y="426"/>
                  </a:lnTo>
                  <a:lnTo>
                    <a:pt x="35" y="426"/>
                  </a:lnTo>
                  <a:lnTo>
                    <a:pt x="35" y="406"/>
                  </a:lnTo>
                  <a:lnTo>
                    <a:pt x="37" y="385"/>
                  </a:lnTo>
                  <a:lnTo>
                    <a:pt x="40" y="366"/>
                  </a:lnTo>
                  <a:lnTo>
                    <a:pt x="42" y="347"/>
                  </a:lnTo>
                  <a:lnTo>
                    <a:pt x="47" y="328"/>
                  </a:lnTo>
                  <a:lnTo>
                    <a:pt x="53" y="310"/>
                  </a:lnTo>
                  <a:lnTo>
                    <a:pt x="59" y="292"/>
                  </a:lnTo>
                  <a:lnTo>
                    <a:pt x="66" y="274"/>
                  </a:lnTo>
                  <a:lnTo>
                    <a:pt x="73" y="257"/>
                  </a:lnTo>
                  <a:lnTo>
                    <a:pt x="82" y="240"/>
                  </a:lnTo>
                  <a:lnTo>
                    <a:pt x="91" y="223"/>
                  </a:lnTo>
                  <a:lnTo>
                    <a:pt x="102" y="208"/>
                  </a:lnTo>
                  <a:lnTo>
                    <a:pt x="113" y="192"/>
                  </a:lnTo>
                  <a:lnTo>
                    <a:pt x="124" y="178"/>
                  </a:lnTo>
                  <a:lnTo>
                    <a:pt x="137" y="163"/>
                  </a:lnTo>
                  <a:lnTo>
                    <a:pt x="149" y="150"/>
                  </a:lnTo>
                  <a:lnTo>
                    <a:pt x="163" y="137"/>
                  </a:lnTo>
                  <a:lnTo>
                    <a:pt x="178" y="125"/>
                  </a:lnTo>
                  <a:lnTo>
                    <a:pt x="192" y="113"/>
                  </a:lnTo>
                  <a:lnTo>
                    <a:pt x="208" y="102"/>
                  </a:lnTo>
                  <a:lnTo>
                    <a:pt x="223" y="91"/>
                  </a:lnTo>
                  <a:lnTo>
                    <a:pt x="239" y="83"/>
                  </a:lnTo>
                  <a:lnTo>
                    <a:pt x="256" y="73"/>
                  </a:lnTo>
                  <a:lnTo>
                    <a:pt x="274" y="66"/>
                  </a:lnTo>
                  <a:lnTo>
                    <a:pt x="292" y="59"/>
                  </a:lnTo>
                  <a:lnTo>
                    <a:pt x="310" y="53"/>
                  </a:lnTo>
                  <a:lnTo>
                    <a:pt x="328" y="47"/>
                  </a:lnTo>
                  <a:lnTo>
                    <a:pt x="347" y="43"/>
                  </a:lnTo>
                  <a:lnTo>
                    <a:pt x="366" y="40"/>
                  </a:lnTo>
                  <a:lnTo>
                    <a:pt x="385" y="37"/>
                  </a:lnTo>
                  <a:lnTo>
                    <a:pt x="406" y="36"/>
                  </a:lnTo>
                  <a:lnTo>
                    <a:pt x="425" y="35"/>
                  </a:lnTo>
                  <a:lnTo>
                    <a:pt x="425" y="35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79840" y="4156200"/>
              <a:ext cx="320760" cy="320400"/>
            </a:xfrm>
            <a:custGeom>
              <a:avLst/>
              <a:gdLst/>
              <a:ahLst/>
              <a:rect l="l" t="t" r="r" b="b"/>
              <a:pathLst>
                <a:path w="809" h="809">
                  <a:moveTo>
                    <a:pt x="404" y="0"/>
                  </a:moveTo>
                  <a:lnTo>
                    <a:pt x="425" y="0"/>
                  </a:lnTo>
                  <a:lnTo>
                    <a:pt x="445" y="2"/>
                  </a:lnTo>
                  <a:lnTo>
                    <a:pt x="465" y="5"/>
                  </a:lnTo>
                  <a:lnTo>
                    <a:pt x="485" y="8"/>
                  </a:lnTo>
                  <a:lnTo>
                    <a:pt x="505" y="13"/>
                  </a:lnTo>
                  <a:lnTo>
                    <a:pt x="524" y="18"/>
                  </a:lnTo>
                  <a:lnTo>
                    <a:pt x="542" y="24"/>
                  </a:lnTo>
                  <a:lnTo>
                    <a:pt x="561" y="32"/>
                  </a:lnTo>
                  <a:lnTo>
                    <a:pt x="579" y="40"/>
                  </a:lnTo>
                  <a:lnTo>
                    <a:pt x="596" y="49"/>
                  </a:lnTo>
                  <a:lnTo>
                    <a:pt x="613" y="59"/>
                  </a:lnTo>
                  <a:lnTo>
                    <a:pt x="630" y="70"/>
                  </a:lnTo>
                  <a:lnTo>
                    <a:pt x="645" y="80"/>
                  </a:lnTo>
                  <a:lnTo>
                    <a:pt x="661" y="92"/>
                  </a:lnTo>
                  <a:lnTo>
                    <a:pt x="675" y="106"/>
                  </a:lnTo>
                  <a:lnTo>
                    <a:pt x="690" y="119"/>
                  </a:lnTo>
                  <a:lnTo>
                    <a:pt x="703" y="133"/>
                  </a:lnTo>
                  <a:lnTo>
                    <a:pt x="715" y="148"/>
                  </a:lnTo>
                  <a:lnTo>
                    <a:pt x="727" y="162"/>
                  </a:lnTo>
                  <a:lnTo>
                    <a:pt x="739" y="179"/>
                  </a:lnTo>
                  <a:lnTo>
                    <a:pt x="750" y="194"/>
                  </a:lnTo>
                  <a:lnTo>
                    <a:pt x="759" y="211"/>
                  </a:lnTo>
                  <a:lnTo>
                    <a:pt x="768" y="229"/>
                  </a:lnTo>
                  <a:lnTo>
                    <a:pt x="776" y="247"/>
                  </a:lnTo>
                  <a:lnTo>
                    <a:pt x="783" y="265"/>
                  </a:lnTo>
                  <a:lnTo>
                    <a:pt x="789" y="284"/>
                  </a:lnTo>
                  <a:lnTo>
                    <a:pt x="795" y="304"/>
                  </a:lnTo>
                  <a:lnTo>
                    <a:pt x="800" y="323"/>
                  </a:lnTo>
                  <a:lnTo>
                    <a:pt x="804" y="343"/>
                  </a:lnTo>
                  <a:lnTo>
                    <a:pt x="806" y="362"/>
                  </a:lnTo>
                  <a:lnTo>
                    <a:pt x="807" y="383"/>
                  </a:lnTo>
                  <a:lnTo>
                    <a:pt x="809" y="404"/>
                  </a:lnTo>
                  <a:lnTo>
                    <a:pt x="807" y="425"/>
                  </a:lnTo>
                  <a:lnTo>
                    <a:pt x="806" y="445"/>
                  </a:lnTo>
                  <a:lnTo>
                    <a:pt x="804" y="466"/>
                  </a:lnTo>
                  <a:lnTo>
                    <a:pt x="800" y="486"/>
                  </a:lnTo>
                  <a:lnTo>
                    <a:pt x="795" y="505"/>
                  </a:lnTo>
                  <a:lnTo>
                    <a:pt x="789" y="524"/>
                  </a:lnTo>
                  <a:lnTo>
                    <a:pt x="783" y="542"/>
                  </a:lnTo>
                  <a:lnTo>
                    <a:pt x="776" y="562"/>
                  </a:lnTo>
                  <a:lnTo>
                    <a:pt x="768" y="580"/>
                  </a:lnTo>
                  <a:lnTo>
                    <a:pt x="759" y="596"/>
                  </a:lnTo>
                  <a:lnTo>
                    <a:pt x="750" y="613"/>
                  </a:lnTo>
                  <a:lnTo>
                    <a:pt x="739" y="630"/>
                  </a:lnTo>
                  <a:lnTo>
                    <a:pt x="727" y="646"/>
                  </a:lnTo>
                  <a:lnTo>
                    <a:pt x="715" y="661"/>
                  </a:lnTo>
                  <a:lnTo>
                    <a:pt x="703" y="676"/>
                  </a:lnTo>
                  <a:lnTo>
                    <a:pt x="690" y="690"/>
                  </a:lnTo>
                  <a:lnTo>
                    <a:pt x="675" y="703"/>
                  </a:lnTo>
                  <a:lnTo>
                    <a:pt x="661" y="715"/>
                  </a:lnTo>
                  <a:lnTo>
                    <a:pt x="645" y="728"/>
                  </a:lnTo>
                  <a:lnTo>
                    <a:pt x="630" y="739"/>
                  </a:lnTo>
                  <a:lnTo>
                    <a:pt x="613" y="750"/>
                  </a:lnTo>
                  <a:lnTo>
                    <a:pt x="596" y="759"/>
                  </a:lnTo>
                  <a:lnTo>
                    <a:pt x="579" y="768"/>
                  </a:lnTo>
                  <a:lnTo>
                    <a:pt x="561" y="776"/>
                  </a:lnTo>
                  <a:lnTo>
                    <a:pt x="542" y="783"/>
                  </a:lnTo>
                  <a:lnTo>
                    <a:pt x="524" y="789"/>
                  </a:lnTo>
                  <a:lnTo>
                    <a:pt x="505" y="795"/>
                  </a:lnTo>
                  <a:lnTo>
                    <a:pt x="485" y="800"/>
                  </a:lnTo>
                  <a:lnTo>
                    <a:pt x="465" y="804"/>
                  </a:lnTo>
                  <a:lnTo>
                    <a:pt x="445" y="806"/>
                  </a:lnTo>
                  <a:lnTo>
                    <a:pt x="425" y="807"/>
                  </a:lnTo>
                  <a:lnTo>
                    <a:pt x="404" y="809"/>
                  </a:lnTo>
                  <a:lnTo>
                    <a:pt x="383" y="807"/>
                  </a:lnTo>
                  <a:lnTo>
                    <a:pt x="362" y="806"/>
                  </a:lnTo>
                  <a:lnTo>
                    <a:pt x="343" y="804"/>
                  </a:lnTo>
                  <a:lnTo>
                    <a:pt x="323" y="800"/>
                  </a:lnTo>
                  <a:lnTo>
                    <a:pt x="303" y="795"/>
                  </a:lnTo>
                  <a:lnTo>
                    <a:pt x="284" y="789"/>
                  </a:lnTo>
                  <a:lnTo>
                    <a:pt x="265" y="783"/>
                  </a:lnTo>
                  <a:lnTo>
                    <a:pt x="247" y="776"/>
                  </a:lnTo>
                  <a:lnTo>
                    <a:pt x="229" y="768"/>
                  </a:lnTo>
                  <a:lnTo>
                    <a:pt x="211" y="759"/>
                  </a:lnTo>
                  <a:lnTo>
                    <a:pt x="194" y="750"/>
                  </a:lnTo>
                  <a:lnTo>
                    <a:pt x="179" y="739"/>
                  </a:lnTo>
                  <a:lnTo>
                    <a:pt x="162" y="728"/>
                  </a:lnTo>
                  <a:lnTo>
                    <a:pt x="147" y="715"/>
                  </a:lnTo>
                  <a:lnTo>
                    <a:pt x="132" y="703"/>
                  </a:lnTo>
                  <a:lnTo>
                    <a:pt x="119" y="690"/>
                  </a:lnTo>
                  <a:lnTo>
                    <a:pt x="105" y="676"/>
                  </a:lnTo>
                  <a:lnTo>
                    <a:pt x="92" y="661"/>
                  </a:lnTo>
                  <a:lnTo>
                    <a:pt x="80" y="646"/>
                  </a:lnTo>
                  <a:lnTo>
                    <a:pt x="69" y="630"/>
                  </a:lnTo>
                  <a:lnTo>
                    <a:pt x="59" y="613"/>
                  </a:lnTo>
                  <a:lnTo>
                    <a:pt x="49" y="596"/>
                  </a:lnTo>
                  <a:lnTo>
                    <a:pt x="39" y="580"/>
                  </a:lnTo>
                  <a:lnTo>
                    <a:pt x="31" y="562"/>
                  </a:lnTo>
                  <a:lnTo>
                    <a:pt x="24" y="542"/>
                  </a:lnTo>
                  <a:lnTo>
                    <a:pt x="18" y="524"/>
                  </a:lnTo>
                  <a:lnTo>
                    <a:pt x="13" y="505"/>
                  </a:lnTo>
                  <a:lnTo>
                    <a:pt x="8" y="486"/>
                  </a:lnTo>
                  <a:lnTo>
                    <a:pt x="5" y="466"/>
                  </a:lnTo>
                  <a:lnTo>
                    <a:pt x="2" y="445"/>
                  </a:lnTo>
                  <a:lnTo>
                    <a:pt x="0" y="425"/>
                  </a:lnTo>
                  <a:lnTo>
                    <a:pt x="0" y="404"/>
                  </a:lnTo>
                  <a:lnTo>
                    <a:pt x="0" y="383"/>
                  </a:lnTo>
                  <a:lnTo>
                    <a:pt x="2" y="362"/>
                  </a:lnTo>
                  <a:lnTo>
                    <a:pt x="5" y="343"/>
                  </a:lnTo>
                  <a:lnTo>
                    <a:pt x="8" y="323"/>
                  </a:lnTo>
                  <a:lnTo>
                    <a:pt x="13" y="304"/>
                  </a:lnTo>
                  <a:lnTo>
                    <a:pt x="18" y="284"/>
                  </a:lnTo>
                  <a:lnTo>
                    <a:pt x="24" y="265"/>
                  </a:lnTo>
                  <a:lnTo>
                    <a:pt x="31" y="247"/>
                  </a:lnTo>
                  <a:lnTo>
                    <a:pt x="39" y="229"/>
                  </a:lnTo>
                  <a:lnTo>
                    <a:pt x="49" y="211"/>
                  </a:lnTo>
                  <a:lnTo>
                    <a:pt x="59" y="194"/>
                  </a:lnTo>
                  <a:lnTo>
                    <a:pt x="69" y="179"/>
                  </a:lnTo>
                  <a:lnTo>
                    <a:pt x="80" y="162"/>
                  </a:lnTo>
                  <a:lnTo>
                    <a:pt x="92" y="148"/>
                  </a:lnTo>
                  <a:lnTo>
                    <a:pt x="105" y="133"/>
                  </a:lnTo>
                  <a:lnTo>
                    <a:pt x="119" y="119"/>
                  </a:lnTo>
                  <a:lnTo>
                    <a:pt x="132" y="106"/>
                  </a:lnTo>
                  <a:lnTo>
                    <a:pt x="147" y="92"/>
                  </a:lnTo>
                  <a:lnTo>
                    <a:pt x="162" y="80"/>
                  </a:lnTo>
                  <a:lnTo>
                    <a:pt x="179" y="70"/>
                  </a:lnTo>
                  <a:lnTo>
                    <a:pt x="194" y="59"/>
                  </a:lnTo>
                  <a:lnTo>
                    <a:pt x="211" y="49"/>
                  </a:lnTo>
                  <a:lnTo>
                    <a:pt x="229" y="40"/>
                  </a:lnTo>
                  <a:lnTo>
                    <a:pt x="247" y="32"/>
                  </a:lnTo>
                  <a:lnTo>
                    <a:pt x="265" y="24"/>
                  </a:lnTo>
                  <a:lnTo>
                    <a:pt x="284" y="18"/>
                  </a:lnTo>
                  <a:lnTo>
                    <a:pt x="303" y="13"/>
                  </a:lnTo>
                  <a:lnTo>
                    <a:pt x="323" y="8"/>
                  </a:lnTo>
                  <a:lnTo>
                    <a:pt x="343" y="5"/>
                  </a:lnTo>
                  <a:lnTo>
                    <a:pt x="362" y="2"/>
                  </a:lnTo>
                  <a:lnTo>
                    <a:pt x="383" y="0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c08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81280" y="4157640"/>
              <a:ext cx="317520" cy="317520"/>
            </a:xfrm>
            <a:custGeom>
              <a:avLst/>
              <a:gdLst/>
              <a:ahLst/>
              <a:rect l="l" t="t" r="r" b="b"/>
              <a:pathLst>
                <a:path w="802" h="801">
                  <a:moveTo>
                    <a:pt x="401" y="0"/>
                  </a:moveTo>
                  <a:lnTo>
                    <a:pt x="422" y="1"/>
                  </a:lnTo>
                  <a:lnTo>
                    <a:pt x="442" y="2"/>
                  </a:lnTo>
                  <a:lnTo>
                    <a:pt x="462" y="5"/>
                  </a:lnTo>
                  <a:lnTo>
                    <a:pt x="482" y="8"/>
                  </a:lnTo>
                  <a:lnTo>
                    <a:pt x="501" y="13"/>
                  </a:lnTo>
                  <a:lnTo>
                    <a:pt x="520" y="18"/>
                  </a:lnTo>
                  <a:lnTo>
                    <a:pt x="539" y="25"/>
                  </a:lnTo>
                  <a:lnTo>
                    <a:pt x="557" y="32"/>
                  </a:lnTo>
                  <a:lnTo>
                    <a:pt x="575" y="40"/>
                  </a:lnTo>
                  <a:lnTo>
                    <a:pt x="592" y="49"/>
                  </a:lnTo>
                  <a:lnTo>
                    <a:pt x="609" y="59"/>
                  </a:lnTo>
                  <a:lnTo>
                    <a:pt x="626" y="68"/>
                  </a:lnTo>
                  <a:lnTo>
                    <a:pt x="641" y="80"/>
                  </a:lnTo>
                  <a:lnTo>
                    <a:pt x="656" y="92"/>
                  </a:lnTo>
                  <a:lnTo>
                    <a:pt x="670" y="104"/>
                  </a:lnTo>
                  <a:lnTo>
                    <a:pt x="684" y="118"/>
                  </a:lnTo>
                  <a:lnTo>
                    <a:pt x="698" y="132"/>
                  </a:lnTo>
                  <a:lnTo>
                    <a:pt x="710" y="146"/>
                  </a:lnTo>
                  <a:lnTo>
                    <a:pt x="722" y="161"/>
                  </a:lnTo>
                  <a:lnTo>
                    <a:pt x="734" y="178"/>
                  </a:lnTo>
                  <a:lnTo>
                    <a:pt x="743" y="193"/>
                  </a:lnTo>
                  <a:lnTo>
                    <a:pt x="753" y="210"/>
                  </a:lnTo>
                  <a:lnTo>
                    <a:pt x="762" y="227"/>
                  </a:lnTo>
                  <a:lnTo>
                    <a:pt x="771" y="245"/>
                  </a:lnTo>
                  <a:lnTo>
                    <a:pt x="778" y="263"/>
                  </a:lnTo>
                  <a:lnTo>
                    <a:pt x="784" y="282"/>
                  </a:lnTo>
                  <a:lnTo>
                    <a:pt x="789" y="301"/>
                  </a:lnTo>
                  <a:lnTo>
                    <a:pt x="794" y="320"/>
                  </a:lnTo>
                  <a:lnTo>
                    <a:pt x="797" y="340"/>
                  </a:lnTo>
                  <a:lnTo>
                    <a:pt x="800" y="360"/>
                  </a:lnTo>
                  <a:lnTo>
                    <a:pt x="801" y="380"/>
                  </a:lnTo>
                  <a:lnTo>
                    <a:pt x="802" y="401"/>
                  </a:lnTo>
                  <a:lnTo>
                    <a:pt x="801" y="421"/>
                  </a:lnTo>
                  <a:lnTo>
                    <a:pt x="800" y="442"/>
                  </a:lnTo>
                  <a:lnTo>
                    <a:pt x="797" y="462"/>
                  </a:lnTo>
                  <a:lnTo>
                    <a:pt x="794" y="481"/>
                  </a:lnTo>
                  <a:lnTo>
                    <a:pt x="789" y="500"/>
                  </a:lnTo>
                  <a:lnTo>
                    <a:pt x="784" y="520"/>
                  </a:lnTo>
                  <a:lnTo>
                    <a:pt x="778" y="538"/>
                  </a:lnTo>
                  <a:lnTo>
                    <a:pt x="771" y="557"/>
                  </a:lnTo>
                  <a:lnTo>
                    <a:pt x="762" y="574"/>
                  </a:lnTo>
                  <a:lnTo>
                    <a:pt x="753" y="592"/>
                  </a:lnTo>
                  <a:lnTo>
                    <a:pt x="743" y="608"/>
                  </a:lnTo>
                  <a:lnTo>
                    <a:pt x="734" y="624"/>
                  </a:lnTo>
                  <a:lnTo>
                    <a:pt x="722" y="640"/>
                  </a:lnTo>
                  <a:lnTo>
                    <a:pt x="710" y="655"/>
                  </a:lnTo>
                  <a:lnTo>
                    <a:pt x="698" y="670"/>
                  </a:lnTo>
                  <a:lnTo>
                    <a:pt x="684" y="684"/>
                  </a:lnTo>
                  <a:lnTo>
                    <a:pt x="670" y="697"/>
                  </a:lnTo>
                  <a:lnTo>
                    <a:pt x="656" y="709"/>
                  </a:lnTo>
                  <a:lnTo>
                    <a:pt x="641" y="721"/>
                  </a:lnTo>
                  <a:lnTo>
                    <a:pt x="626" y="732"/>
                  </a:lnTo>
                  <a:lnTo>
                    <a:pt x="609" y="743"/>
                  </a:lnTo>
                  <a:lnTo>
                    <a:pt x="592" y="752"/>
                  </a:lnTo>
                  <a:lnTo>
                    <a:pt x="575" y="762"/>
                  </a:lnTo>
                  <a:lnTo>
                    <a:pt x="557" y="769"/>
                  </a:lnTo>
                  <a:lnTo>
                    <a:pt x="539" y="776"/>
                  </a:lnTo>
                  <a:lnTo>
                    <a:pt x="520" y="783"/>
                  </a:lnTo>
                  <a:lnTo>
                    <a:pt x="501" y="788"/>
                  </a:lnTo>
                  <a:lnTo>
                    <a:pt x="482" y="793"/>
                  </a:lnTo>
                  <a:lnTo>
                    <a:pt x="462" y="797"/>
                  </a:lnTo>
                  <a:lnTo>
                    <a:pt x="442" y="799"/>
                  </a:lnTo>
                  <a:lnTo>
                    <a:pt x="422" y="800"/>
                  </a:lnTo>
                  <a:lnTo>
                    <a:pt x="401" y="801"/>
                  </a:lnTo>
                  <a:lnTo>
                    <a:pt x="381" y="800"/>
                  </a:lnTo>
                  <a:lnTo>
                    <a:pt x="360" y="799"/>
                  </a:lnTo>
                  <a:lnTo>
                    <a:pt x="340" y="797"/>
                  </a:lnTo>
                  <a:lnTo>
                    <a:pt x="321" y="793"/>
                  </a:lnTo>
                  <a:lnTo>
                    <a:pt x="302" y="788"/>
                  </a:lnTo>
                  <a:lnTo>
                    <a:pt x="282" y="783"/>
                  </a:lnTo>
                  <a:lnTo>
                    <a:pt x="264" y="776"/>
                  </a:lnTo>
                  <a:lnTo>
                    <a:pt x="245" y="769"/>
                  </a:lnTo>
                  <a:lnTo>
                    <a:pt x="228" y="762"/>
                  </a:lnTo>
                  <a:lnTo>
                    <a:pt x="210" y="752"/>
                  </a:lnTo>
                  <a:lnTo>
                    <a:pt x="194" y="743"/>
                  </a:lnTo>
                  <a:lnTo>
                    <a:pt x="178" y="732"/>
                  </a:lnTo>
                  <a:lnTo>
                    <a:pt x="162" y="721"/>
                  </a:lnTo>
                  <a:lnTo>
                    <a:pt x="147" y="709"/>
                  </a:lnTo>
                  <a:lnTo>
                    <a:pt x="132" y="697"/>
                  </a:lnTo>
                  <a:lnTo>
                    <a:pt x="118" y="684"/>
                  </a:lnTo>
                  <a:lnTo>
                    <a:pt x="105" y="670"/>
                  </a:lnTo>
                  <a:lnTo>
                    <a:pt x="93" y="655"/>
                  </a:lnTo>
                  <a:lnTo>
                    <a:pt x="81" y="640"/>
                  </a:lnTo>
                  <a:lnTo>
                    <a:pt x="70" y="624"/>
                  </a:lnTo>
                  <a:lnTo>
                    <a:pt x="59" y="608"/>
                  </a:lnTo>
                  <a:lnTo>
                    <a:pt x="50" y="592"/>
                  </a:lnTo>
                  <a:lnTo>
                    <a:pt x="40" y="574"/>
                  </a:lnTo>
                  <a:lnTo>
                    <a:pt x="33" y="557"/>
                  </a:lnTo>
                  <a:lnTo>
                    <a:pt x="26" y="538"/>
                  </a:lnTo>
                  <a:lnTo>
                    <a:pt x="18" y="520"/>
                  </a:lnTo>
                  <a:lnTo>
                    <a:pt x="14" y="500"/>
                  </a:lnTo>
                  <a:lnTo>
                    <a:pt x="9" y="481"/>
                  </a:lnTo>
                  <a:lnTo>
                    <a:pt x="5" y="462"/>
                  </a:lnTo>
                  <a:lnTo>
                    <a:pt x="3" y="442"/>
                  </a:lnTo>
                  <a:lnTo>
                    <a:pt x="2" y="421"/>
                  </a:lnTo>
                  <a:lnTo>
                    <a:pt x="0" y="401"/>
                  </a:lnTo>
                  <a:lnTo>
                    <a:pt x="2" y="380"/>
                  </a:lnTo>
                  <a:lnTo>
                    <a:pt x="3" y="360"/>
                  </a:lnTo>
                  <a:lnTo>
                    <a:pt x="5" y="340"/>
                  </a:lnTo>
                  <a:lnTo>
                    <a:pt x="9" y="320"/>
                  </a:lnTo>
                  <a:lnTo>
                    <a:pt x="14" y="301"/>
                  </a:lnTo>
                  <a:lnTo>
                    <a:pt x="18" y="282"/>
                  </a:lnTo>
                  <a:lnTo>
                    <a:pt x="26" y="263"/>
                  </a:lnTo>
                  <a:lnTo>
                    <a:pt x="33" y="245"/>
                  </a:lnTo>
                  <a:lnTo>
                    <a:pt x="40" y="227"/>
                  </a:lnTo>
                  <a:lnTo>
                    <a:pt x="50" y="210"/>
                  </a:lnTo>
                  <a:lnTo>
                    <a:pt x="59" y="193"/>
                  </a:lnTo>
                  <a:lnTo>
                    <a:pt x="70" y="178"/>
                  </a:lnTo>
                  <a:lnTo>
                    <a:pt x="81" y="161"/>
                  </a:lnTo>
                  <a:lnTo>
                    <a:pt x="93" y="146"/>
                  </a:lnTo>
                  <a:lnTo>
                    <a:pt x="105" y="132"/>
                  </a:lnTo>
                  <a:lnTo>
                    <a:pt x="118" y="118"/>
                  </a:lnTo>
                  <a:lnTo>
                    <a:pt x="132" y="104"/>
                  </a:lnTo>
                  <a:lnTo>
                    <a:pt x="147" y="92"/>
                  </a:lnTo>
                  <a:lnTo>
                    <a:pt x="162" y="80"/>
                  </a:lnTo>
                  <a:lnTo>
                    <a:pt x="178" y="68"/>
                  </a:lnTo>
                  <a:lnTo>
                    <a:pt x="194" y="59"/>
                  </a:lnTo>
                  <a:lnTo>
                    <a:pt x="210" y="49"/>
                  </a:lnTo>
                  <a:lnTo>
                    <a:pt x="228" y="40"/>
                  </a:lnTo>
                  <a:lnTo>
                    <a:pt x="245" y="32"/>
                  </a:lnTo>
                  <a:lnTo>
                    <a:pt x="264" y="25"/>
                  </a:lnTo>
                  <a:lnTo>
                    <a:pt x="282" y="18"/>
                  </a:lnTo>
                  <a:lnTo>
                    <a:pt x="302" y="13"/>
                  </a:lnTo>
                  <a:lnTo>
                    <a:pt x="321" y="8"/>
                  </a:lnTo>
                  <a:lnTo>
                    <a:pt x="340" y="5"/>
                  </a:lnTo>
                  <a:lnTo>
                    <a:pt x="360" y="2"/>
                  </a:lnTo>
                  <a:lnTo>
                    <a:pt x="381" y="1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c48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583080" y="4160880"/>
              <a:ext cx="314280" cy="314280"/>
            </a:xfrm>
            <a:custGeom>
              <a:avLst/>
              <a:gdLst/>
              <a:ahLst/>
              <a:rect l="l" t="t" r="r" b="b"/>
              <a:pathLst>
                <a:path w="793" h="794">
                  <a:moveTo>
                    <a:pt x="397" y="0"/>
                  </a:moveTo>
                  <a:lnTo>
                    <a:pt x="418" y="1"/>
                  </a:lnTo>
                  <a:lnTo>
                    <a:pt x="437" y="2"/>
                  </a:lnTo>
                  <a:lnTo>
                    <a:pt x="457" y="5"/>
                  </a:lnTo>
                  <a:lnTo>
                    <a:pt x="477" y="8"/>
                  </a:lnTo>
                  <a:lnTo>
                    <a:pt x="496" y="13"/>
                  </a:lnTo>
                  <a:lnTo>
                    <a:pt x="515" y="18"/>
                  </a:lnTo>
                  <a:lnTo>
                    <a:pt x="533" y="25"/>
                  </a:lnTo>
                  <a:lnTo>
                    <a:pt x="551" y="32"/>
                  </a:lnTo>
                  <a:lnTo>
                    <a:pt x="569" y="40"/>
                  </a:lnTo>
                  <a:lnTo>
                    <a:pt x="586" y="48"/>
                  </a:lnTo>
                  <a:lnTo>
                    <a:pt x="603" y="58"/>
                  </a:lnTo>
                  <a:lnTo>
                    <a:pt x="618" y="68"/>
                  </a:lnTo>
                  <a:lnTo>
                    <a:pt x="634" y="79"/>
                  </a:lnTo>
                  <a:lnTo>
                    <a:pt x="649" y="91"/>
                  </a:lnTo>
                  <a:lnTo>
                    <a:pt x="664" y="104"/>
                  </a:lnTo>
                  <a:lnTo>
                    <a:pt x="677" y="116"/>
                  </a:lnTo>
                  <a:lnTo>
                    <a:pt x="690" y="131"/>
                  </a:lnTo>
                  <a:lnTo>
                    <a:pt x="703" y="145"/>
                  </a:lnTo>
                  <a:lnTo>
                    <a:pt x="714" y="160"/>
                  </a:lnTo>
                  <a:lnTo>
                    <a:pt x="726" y="175"/>
                  </a:lnTo>
                  <a:lnTo>
                    <a:pt x="736" y="192"/>
                  </a:lnTo>
                  <a:lnTo>
                    <a:pt x="745" y="209"/>
                  </a:lnTo>
                  <a:lnTo>
                    <a:pt x="754" y="226"/>
                  </a:lnTo>
                  <a:lnTo>
                    <a:pt x="762" y="244"/>
                  </a:lnTo>
                  <a:lnTo>
                    <a:pt x="769" y="262"/>
                  </a:lnTo>
                  <a:lnTo>
                    <a:pt x="775" y="280"/>
                  </a:lnTo>
                  <a:lnTo>
                    <a:pt x="781" y="299"/>
                  </a:lnTo>
                  <a:lnTo>
                    <a:pt x="785" y="318"/>
                  </a:lnTo>
                  <a:lnTo>
                    <a:pt x="789" y="337"/>
                  </a:lnTo>
                  <a:lnTo>
                    <a:pt x="791" y="356"/>
                  </a:lnTo>
                  <a:lnTo>
                    <a:pt x="793" y="377"/>
                  </a:lnTo>
                  <a:lnTo>
                    <a:pt x="793" y="397"/>
                  </a:lnTo>
                  <a:lnTo>
                    <a:pt x="793" y="418"/>
                  </a:lnTo>
                  <a:lnTo>
                    <a:pt x="791" y="438"/>
                  </a:lnTo>
                  <a:lnTo>
                    <a:pt x="789" y="457"/>
                  </a:lnTo>
                  <a:lnTo>
                    <a:pt x="785" y="478"/>
                  </a:lnTo>
                  <a:lnTo>
                    <a:pt x="781" y="497"/>
                  </a:lnTo>
                  <a:lnTo>
                    <a:pt x="775" y="515"/>
                  </a:lnTo>
                  <a:lnTo>
                    <a:pt x="769" y="534"/>
                  </a:lnTo>
                  <a:lnTo>
                    <a:pt x="762" y="552"/>
                  </a:lnTo>
                  <a:lnTo>
                    <a:pt x="754" y="569"/>
                  </a:lnTo>
                  <a:lnTo>
                    <a:pt x="745" y="586"/>
                  </a:lnTo>
                  <a:lnTo>
                    <a:pt x="736" y="602"/>
                  </a:lnTo>
                  <a:lnTo>
                    <a:pt x="726" y="619"/>
                  </a:lnTo>
                  <a:lnTo>
                    <a:pt x="714" y="635"/>
                  </a:lnTo>
                  <a:lnTo>
                    <a:pt x="703" y="649"/>
                  </a:lnTo>
                  <a:lnTo>
                    <a:pt x="690" y="664"/>
                  </a:lnTo>
                  <a:lnTo>
                    <a:pt x="677" y="678"/>
                  </a:lnTo>
                  <a:lnTo>
                    <a:pt x="664" y="691"/>
                  </a:lnTo>
                  <a:lnTo>
                    <a:pt x="649" y="703"/>
                  </a:lnTo>
                  <a:lnTo>
                    <a:pt x="634" y="715"/>
                  </a:lnTo>
                  <a:lnTo>
                    <a:pt x="618" y="726"/>
                  </a:lnTo>
                  <a:lnTo>
                    <a:pt x="603" y="737"/>
                  </a:lnTo>
                  <a:lnTo>
                    <a:pt x="586" y="746"/>
                  </a:lnTo>
                  <a:lnTo>
                    <a:pt x="569" y="755"/>
                  </a:lnTo>
                  <a:lnTo>
                    <a:pt x="551" y="763"/>
                  </a:lnTo>
                  <a:lnTo>
                    <a:pt x="533" y="770"/>
                  </a:lnTo>
                  <a:lnTo>
                    <a:pt x="515" y="776"/>
                  </a:lnTo>
                  <a:lnTo>
                    <a:pt x="496" y="781"/>
                  </a:lnTo>
                  <a:lnTo>
                    <a:pt x="477" y="786"/>
                  </a:lnTo>
                  <a:lnTo>
                    <a:pt x="457" y="789"/>
                  </a:lnTo>
                  <a:lnTo>
                    <a:pt x="437" y="792"/>
                  </a:lnTo>
                  <a:lnTo>
                    <a:pt x="418" y="793"/>
                  </a:lnTo>
                  <a:lnTo>
                    <a:pt x="397" y="794"/>
                  </a:lnTo>
                  <a:lnTo>
                    <a:pt x="377" y="793"/>
                  </a:lnTo>
                  <a:lnTo>
                    <a:pt x="357" y="792"/>
                  </a:lnTo>
                  <a:lnTo>
                    <a:pt x="336" y="789"/>
                  </a:lnTo>
                  <a:lnTo>
                    <a:pt x="317" y="786"/>
                  </a:lnTo>
                  <a:lnTo>
                    <a:pt x="298" y="781"/>
                  </a:lnTo>
                  <a:lnTo>
                    <a:pt x="279" y="776"/>
                  </a:lnTo>
                  <a:lnTo>
                    <a:pt x="261" y="770"/>
                  </a:lnTo>
                  <a:lnTo>
                    <a:pt x="243" y="763"/>
                  </a:lnTo>
                  <a:lnTo>
                    <a:pt x="225" y="755"/>
                  </a:lnTo>
                  <a:lnTo>
                    <a:pt x="208" y="746"/>
                  </a:lnTo>
                  <a:lnTo>
                    <a:pt x="191" y="737"/>
                  </a:lnTo>
                  <a:lnTo>
                    <a:pt x="175" y="726"/>
                  </a:lnTo>
                  <a:lnTo>
                    <a:pt x="160" y="715"/>
                  </a:lnTo>
                  <a:lnTo>
                    <a:pt x="144" y="703"/>
                  </a:lnTo>
                  <a:lnTo>
                    <a:pt x="130" y="691"/>
                  </a:lnTo>
                  <a:lnTo>
                    <a:pt x="117" y="678"/>
                  </a:lnTo>
                  <a:lnTo>
                    <a:pt x="103" y="664"/>
                  </a:lnTo>
                  <a:lnTo>
                    <a:pt x="91" y="649"/>
                  </a:lnTo>
                  <a:lnTo>
                    <a:pt x="79" y="635"/>
                  </a:lnTo>
                  <a:lnTo>
                    <a:pt x="69" y="619"/>
                  </a:lnTo>
                  <a:lnTo>
                    <a:pt x="58" y="602"/>
                  </a:lnTo>
                  <a:lnTo>
                    <a:pt x="48" y="586"/>
                  </a:lnTo>
                  <a:lnTo>
                    <a:pt x="40" y="569"/>
                  </a:lnTo>
                  <a:lnTo>
                    <a:pt x="31" y="552"/>
                  </a:lnTo>
                  <a:lnTo>
                    <a:pt x="24" y="534"/>
                  </a:lnTo>
                  <a:lnTo>
                    <a:pt x="18" y="515"/>
                  </a:lnTo>
                  <a:lnTo>
                    <a:pt x="12" y="497"/>
                  </a:lnTo>
                  <a:lnTo>
                    <a:pt x="9" y="478"/>
                  </a:lnTo>
                  <a:lnTo>
                    <a:pt x="5" y="457"/>
                  </a:lnTo>
                  <a:lnTo>
                    <a:pt x="3" y="438"/>
                  </a:lnTo>
                  <a:lnTo>
                    <a:pt x="0" y="418"/>
                  </a:lnTo>
                  <a:lnTo>
                    <a:pt x="0" y="397"/>
                  </a:lnTo>
                  <a:lnTo>
                    <a:pt x="0" y="377"/>
                  </a:lnTo>
                  <a:lnTo>
                    <a:pt x="3" y="356"/>
                  </a:lnTo>
                  <a:lnTo>
                    <a:pt x="5" y="337"/>
                  </a:lnTo>
                  <a:lnTo>
                    <a:pt x="9" y="318"/>
                  </a:lnTo>
                  <a:lnTo>
                    <a:pt x="12" y="299"/>
                  </a:lnTo>
                  <a:lnTo>
                    <a:pt x="18" y="280"/>
                  </a:lnTo>
                  <a:lnTo>
                    <a:pt x="24" y="262"/>
                  </a:lnTo>
                  <a:lnTo>
                    <a:pt x="31" y="244"/>
                  </a:lnTo>
                  <a:lnTo>
                    <a:pt x="40" y="226"/>
                  </a:lnTo>
                  <a:lnTo>
                    <a:pt x="48" y="209"/>
                  </a:lnTo>
                  <a:lnTo>
                    <a:pt x="58" y="192"/>
                  </a:lnTo>
                  <a:lnTo>
                    <a:pt x="69" y="175"/>
                  </a:lnTo>
                  <a:lnTo>
                    <a:pt x="79" y="160"/>
                  </a:lnTo>
                  <a:lnTo>
                    <a:pt x="91" y="145"/>
                  </a:lnTo>
                  <a:lnTo>
                    <a:pt x="103" y="131"/>
                  </a:lnTo>
                  <a:lnTo>
                    <a:pt x="117" y="116"/>
                  </a:lnTo>
                  <a:lnTo>
                    <a:pt x="130" y="104"/>
                  </a:lnTo>
                  <a:lnTo>
                    <a:pt x="144" y="91"/>
                  </a:lnTo>
                  <a:lnTo>
                    <a:pt x="160" y="79"/>
                  </a:lnTo>
                  <a:lnTo>
                    <a:pt x="175" y="68"/>
                  </a:lnTo>
                  <a:lnTo>
                    <a:pt x="191" y="58"/>
                  </a:lnTo>
                  <a:lnTo>
                    <a:pt x="208" y="48"/>
                  </a:lnTo>
                  <a:lnTo>
                    <a:pt x="225" y="40"/>
                  </a:lnTo>
                  <a:lnTo>
                    <a:pt x="243" y="32"/>
                  </a:lnTo>
                  <a:lnTo>
                    <a:pt x="261" y="25"/>
                  </a:lnTo>
                  <a:lnTo>
                    <a:pt x="279" y="18"/>
                  </a:lnTo>
                  <a:lnTo>
                    <a:pt x="298" y="13"/>
                  </a:lnTo>
                  <a:lnTo>
                    <a:pt x="317" y="8"/>
                  </a:lnTo>
                  <a:lnTo>
                    <a:pt x="336" y="5"/>
                  </a:lnTo>
                  <a:lnTo>
                    <a:pt x="357" y="2"/>
                  </a:lnTo>
                  <a:lnTo>
                    <a:pt x="377" y="1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ca8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84520" y="4162320"/>
              <a:ext cx="312840" cy="312840"/>
            </a:xfrm>
            <a:custGeom>
              <a:avLst/>
              <a:gdLst/>
              <a:ahLst/>
              <a:rect l="l" t="t" r="r" b="b"/>
              <a:pathLst>
                <a:path w="786" h="786">
                  <a:moveTo>
                    <a:pt x="392" y="0"/>
                  </a:moveTo>
                  <a:lnTo>
                    <a:pt x="413" y="0"/>
                  </a:lnTo>
                  <a:lnTo>
                    <a:pt x="432" y="1"/>
                  </a:lnTo>
                  <a:lnTo>
                    <a:pt x="452" y="4"/>
                  </a:lnTo>
                  <a:lnTo>
                    <a:pt x="472" y="7"/>
                  </a:lnTo>
                  <a:lnTo>
                    <a:pt x="491" y="12"/>
                  </a:lnTo>
                  <a:lnTo>
                    <a:pt x="509" y="17"/>
                  </a:lnTo>
                  <a:lnTo>
                    <a:pt x="527" y="24"/>
                  </a:lnTo>
                  <a:lnTo>
                    <a:pt x="545" y="30"/>
                  </a:lnTo>
                  <a:lnTo>
                    <a:pt x="563" y="39"/>
                  </a:lnTo>
                  <a:lnTo>
                    <a:pt x="580" y="47"/>
                  </a:lnTo>
                  <a:lnTo>
                    <a:pt x="596" y="57"/>
                  </a:lnTo>
                  <a:lnTo>
                    <a:pt x="612" y="67"/>
                  </a:lnTo>
                  <a:lnTo>
                    <a:pt x="628" y="78"/>
                  </a:lnTo>
                  <a:lnTo>
                    <a:pt x="642" y="90"/>
                  </a:lnTo>
                  <a:lnTo>
                    <a:pt x="656" y="102"/>
                  </a:lnTo>
                  <a:lnTo>
                    <a:pt x="670" y="115"/>
                  </a:lnTo>
                  <a:lnTo>
                    <a:pt x="683" y="129"/>
                  </a:lnTo>
                  <a:lnTo>
                    <a:pt x="696" y="143"/>
                  </a:lnTo>
                  <a:lnTo>
                    <a:pt x="707" y="157"/>
                  </a:lnTo>
                  <a:lnTo>
                    <a:pt x="718" y="173"/>
                  </a:lnTo>
                  <a:lnTo>
                    <a:pt x="728" y="190"/>
                  </a:lnTo>
                  <a:lnTo>
                    <a:pt x="738" y="205"/>
                  </a:lnTo>
                  <a:lnTo>
                    <a:pt x="746" y="222"/>
                  </a:lnTo>
                  <a:lnTo>
                    <a:pt x="755" y="240"/>
                  </a:lnTo>
                  <a:lnTo>
                    <a:pt x="762" y="258"/>
                  </a:lnTo>
                  <a:lnTo>
                    <a:pt x="768" y="276"/>
                  </a:lnTo>
                  <a:lnTo>
                    <a:pt x="773" y="295"/>
                  </a:lnTo>
                  <a:lnTo>
                    <a:pt x="778" y="313"/>
                  </a:lnTo>
                  <a:lnTo>
                    <a:pt x="781" y="333"/>
                  </a:lnTo>
                  <a:lnTo>
                    <a:pt x="784" y="353"/>
                  </a:lnTo>
                  <a:lnTo>
                    <a:pt x="785" y="372"/>
                  </a:lnTo>
                  <a:lnTo>
                    <a:pt x="786" y="393"/>
                  </a:lnTo>
                  <a:lnTo>
                    <a:pt x="785" y="413"/>
                  </a:lnTo>
                  <a:lnTo>
                    <a:pt x="784" y="433"/>
                  </a:lnTo>
                  <a:lnTo>
                    <a:pt x="781" y="453"/>
                  </a:lnTo>
                  <a:lnTo>
                    <a:pt x="778" y="472"/>
                  </a:lnTo>
                  <a:lnTo>
                    <a:pt x="773" y="491"/>
                  </a:lnTo>
                  <a:lnTo>
                    <a:pt x="768" y="509"/>
                  </a:lnTo>
                  <a:lnTo>
                    <a:pt x="762" y="528"/>
                  </a:lnTo>
                  <a:lnTo>
                    <a:pt x="755" y="545"/>
                  </a:lnTo>
                  <a:lnTo>
                    <a:pt x="746" y="563"/>
                  </a:lnTo>
                  <a:lnTo>
                    <a:pt x="738" y="580"/>
                  </a:lnTo>
                  <a:lnTo>
                    <a:pt x="728" y="597"/>
                  </a:lnTo>
                  <a:lnTo>
                    <a:pt x="718" y="612"/>
                  </a:lnTo>
                  <a:lnTo>
                    <a:pt x="707" y="628"/>
                  </a:lnTo>
                  <a:lnTo>
                    <a:pt x="696" y="642"/>
                  </a:lnTo>
                  <a:lnTo>
                    <a:pt x="683" y="657"/>
                  </a:lnTo>
                  <a:lnTo>
                    <a:pt x="670" y="671"/>
                  </a:lnTo>
                  <a:lnTo>
                    <a:pt x="656" y="683"/>
                  </a:lnTo>
                  <a:lnTo>
                    <a:pt x="642" y="696"/>
                  </a:lnTo>
                  <a:lnTo>
                    <a:pt x="628" y="708"/>
                  </a:lnTo>
                  <a:lnTo>
                    <a:pt x="612" y="719"/>
                  </a:lnTo>
                  <a:lnTo>
                    <a:pt x="596" y="728"/>
                  </a:lnTo>
                  <a:lnTo>
                    <a:pt x="580" y="738"/>
                  </a:lnTo>
                  <a:lnTo>
                    <a:pt x="563" y="746"/>
                  </a:lnTo>
                  <a:lnTo>
                    <a:pt x="545" y="755"/>
                  </a:lnTo>
                  <a:lnTo>
                    <a:pt x="527" y="762"/>
                  </a:lnTo>
                  <a:lnTo>
                    <a:pt x="509" y="768"/>
                  </a:lnTo>
                  <a:lnTo>
                    <a:pt x="491" y="773"/>
                  </a:lnTo>
                  <a:lnTo>
                    <a:pt x="472" y="778"/>
                  </a:lnTo>
                  <a:lnTo>
                    <a:pt x="452" y="781"/>
                  </a:lnTo>
                  <a:lnTo>
                    <a:pt x="432" y="784"/>
                  </a:lnTo>
                  <a:lnTo>
                    <a:pt x="413" y="785"/>
                  </a:lnTo>
                  <a:lnTo>
                    <a:pt x="392" y="786"/>
                  </a:lnTo>
                  <a:lnTo>
                    <a:pt x="372" y="785"/>
                  </a:lnTo>
                  <a:lnTo>
                    <a:pt x="353" y="784"/>
                  </a:lnTo>
                  <a:lnTo>
                    <a:pt x="332" y="781"/>
                  </a:lnTo>
                  <a:lnTo>
                    <a:pt x="313" y="778"/>
                  </a:lnTo>
                  <a:lnTo>
                    <a:pt x="294" y="773"/>
                  </a:lnTo>
                  <a:lnTo>
                    <a:pt x="276" y="768"/>
                  </a:lnTo>
                  <a:lnTo>
                    <a:pt x="258" y="762"/>
                  </a:lnTo>
                  <a:lnTo>
                    <a:pt x="240" y="755"/>
                  </a:lnTo>
                  <a:lnTo>
                    <a:pt x="222" y="746"/>
                  </a:lnTo>
                  <a:lnTo>
                    <a:pt x="205" y="738"/>
                  </a:lnTo>
                  <a:lnTo>
                    <a:pt x="188" y="728"/>
                  </a:lnTo>
                  <a:lnTo>
                    <a:pt x="173" y="719"/>
                  </a:lnTo>
                  <a:lnTo>
                    <a:pt x="157" y="708"/>
                  </a:lnTo>
                  <a:lnTo>
                    <a:pt x="143" y="696"/>
                  </a:lnTo>
                  <a:lnTo>
                    <a:pt x="128" y="683"/>
                  </a:lnTo>
                  <a:lnTo>
                    <a:pt x="115" y="671"/>
                  </a:lnTo>
                  <a:lnTo>
                    <a:pt x="102" y="657"/>
                  </a:lnTo>
                  <a:lnTo>
                    <a:pt x="89" y="642"/>
                  </a:lnTo>
                  <a:lnTo>
                    <a:pt x="78" y="628"/>
                  </a:lnTo>
                  <a:lnTo>
                    <a:pt x="67" y="612"/>
                  </a:lnTo>
                  <a:lnTo>
                    <a:pt x="56" y="597"/>
                  </a:lnTo>
                  <a:lnTo>
                    <a:pt x="47" y="580"/>
                  </a:lnTo>
                  <a:lnTo>
                    <a:pt x="38" y="563"/>
                  </a:lnTo>
                  <a:lnTo>
                    <a:pt x="30" y="545"/>
                  </a:lnTo>
                  <a:lnTo>
                    <a:pt x="23" y="528"/>
                  </a:lnTo>
                  <a:lnTo>
                    <a:pt x="17" y="509"/>
                  </a:lnTo>
                  <a:lnTo>
                    <a:pt x="12" y="491"/>
                  </a:lnTo>
                  <a:lnTo>
                    <a:pt x="7" y="472"/>
                  </a:lnTo>
                  <a:lnTo>
                    <a:pt x="4" y="453"/>
                  </a:lnTo>
                  <a:lnTo>
                    <a:pt x="1" y="433"/>
                  </a:lnTo>
                  <a:lnTo>
                    <a:pt x="0" y="413"/>
                  </a:lnTo>
                  <a:lnTo>
                    <a:pt x="0" y="393"/>
                  </a:lnTo>
                  <a:lnTo>
                    <a:pt x="0" y="372"/>
                  </a:lnTo>
                  <a:lnTo>
                    <a:pt x="1" y="353"/>
                  </a:lnTo>
                  <a:lnTo>
                    <a:pt x="4" y="333"/>
                  </a:lnTo>
                  <a:lnTo>
                    <a:pt x="7" y="313"/>
                  </a:lnTo>
                  <a:lnTo>
                    <a:pt x="12" y="295"/>
                  </a:lnTo>
                  <a:lnTo>
                    <a:pt x="17" y="276"/>
                  </a:lnTo>
                  <a:lnTo>
                    <a:pt x="23" y="258"/>
                  </a:lnTo>
                  <a:lnTo>
                    <a:pt x="30" y="240"/>
                  </a:lnTo>
                  <a:lnTo>
                    <a:pt x="38" y="222"/>
                  </a:lnTo>
                  <a:lnTo>
                    <a:pt x="47" y="205"/>
                  </a:lnTo>
                  <a:lnTo>
                    <a:pt x="56" y="190"/>
                  </a:lnTo>
                  <a:lnTo>
                    <a:pt x="67" y="173"/>
                  </a:lnTo>
                  <a:lnTo>
                    <a:pt x="78" y="157"/>
                  </a:lnTo>
                  <a:lnTo>
                    <a:pt x="89" y="143"/>
                  </a:lnTo>
                  <a:lnTo>
                    <a:pt x="102" y="129"/>
                  </a:lnTo>
                  <a:lnTo>
                    <a:pt x="115" y="115"/>
                  </a:lnTo>
                  <a:lnTo>
                    <a:pt x="128" y="102"/>
                  </a:lnTo>
                  <a:lnTo>
                    <a:pt x="143" y="90"/>
                  </a:lnTo>
                  <a:lnTo>
                    <a:pt x="157" y="78"/>
                  </a:lnTo>
                  <a:lnTo>
                    <a:pt x="173" y="67"/>
                  </a:lnTo>
                  <a:lnTo>
                    <a:pt x="188" y="57"/>
                  </a:lnTo>
                  <a:lnTo>
                    <a:pt x="205" y="47"/>
                  </a:lnTo>
                  <a:lnTo>
                    <a:pt x="222" y="39"/>
                  </a:lnTo>
                  <a:lnTo>
                    <a:pt x="240" y="30"/>
                  </a:lnTo>
                  <a:lnTo>
                    <a:pt x="258" y="24"/>
                  </a:lnTo>
                  <a:lnTo>
                    <a:pt x="276" y="17"/>
                  </a:lnTo>
                  <a:lnTo>
                    <a:pt x="294" y="12"/>
                  </a:lnTo>
                  <a:lnTo>
                    <a:pt x="313" y="7"/>
                  </a:lnTo>
                  <a:lnTo>
                    <a:pt x="332" y="4"/>
                  </a:lnTo>
                  <a:lnTo>
                    <a:pt x="353" y="1"/>
                  </a:lnTo>
                  <a:lnTo>
                    <a:pt x="372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cc8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86320" y="4165560"/>
              <a:ext cx="309240" cy="308160"/>
            </a:xfrm>
            <a:custGeom>
              <a:avLst/>
              <a:gdLst/>
              <a:ahLst/>
              <a:rect l="l" t="t" r="r" b="b"/>
              <a:pathLst>
                <a:path w="778" h="779">
                  <a:moveTo>
                    <a:pt x="388" y="0"/>
                  </a:moveTo>
                  <a:lnTo>
                    <a:pt x="409" y="0"/>
                  </a:lnTo>
                  <a:lnTo>
                    <a:pt x="429" y="3"/>
                  </a:lnTo>
                  <a:lnTo>
                    <a:pt x="448" y="5"/>
                  </a:lnTo>
                  <a:lnTo>
                    <a:pt x="468" y="9"/>
                  </a:lnTo>
                  <a:lnTo>
                    <a:pt x="486" y="12"/>
                  </a:lnTo>
                  <a:lnTo>
                    <a:pt x="505" y="18"/>
                  </a:lnTo>
                  <a:lnTo>
                    <a:pt x="523" y="24"/>
                  </a:lnTo>
                  <a:lnTo>
                    <a:pt x="541" y="30"/>
                  </a:lnTo>
                  <a:lnTo>
                    <a:pt x="558" y="39"/>
                  </a:lnTo>
                  <a:lnTo>
                    <a:pt x="574" y="47"/>
                  </a:lnTo>
                  <a:lnTo>
                    <a:pt x="590" y="57"/>
                  </a:lnTo>
                  <a:lnTo>
                    <a:pt x="607" y="66"/>
                  </a:lnTo>
                  <a:lnTo>
                    <a:pt x="621" y="78"/>
                  </a:lnTo>
                  <a:lnTo>
                    <a:pt x="637" y="89"/>
                  </a:lnTo>
                  <a:lnTo>
                    <a:pt x="650" y="101"/>
                  </a:lnTo>
                  <a:lnTo>
                    <a:pt x="664" y="114"/>
                  </a:lnTo>
                  <a:lnTo>
                    <a:pt x="676" y="127"/>
                  </a:lnTo>
                  <a:lnTo>
                    <a:pt x="690" y="142"/>
                  </a:lnTo>
                  <a:lnTo>
                    <a:pt x="700" y="156"/>
                  </a:lnTo>
                  <a:lnTo>
                    <a:pt x="711" y="172"/>
                  </a:lnTo>
                  <a:lnTo>
                    <a:pt x="722" y="187"/>
                  </a:lnTo>
                  <a:lnTo>
                    <a:pt x="732" y="204"/>
                  </a:lnTo>
                  <a:lnTo>
                    <a:pt x="740" y="221"/>
                  </a:lnTo>
                  <a:lnTo>
                    <a:pt x="747" y="238"/>
                  </a:lnTo>
                  <a:lnTo>
                    <a:pt x="754" y="256"/>
                  </a:lnTo>
                  <a:lnTo>
                    <a:pt x="760" y="274"/>
                  </a:lnTo>
                  <a:lnTo>
                    <a:pt x="766" y="292"/>
                  </a:lnTo>
                  <a:lnTo>
                    <a:pt x="770" y="311"/>
                  </a:lnTo>
                  <a:lnTo>
                    <a:pt x="774" y="330"/>
                  </a:lnTo>
                  <a:lnTo>
                    <a:pt x="776" y="349"/>
                  </a:lnTo>
                  <a:lnTo>
                    <a:pt x="777" y="370"/>
                  </a:lnTo>
                  <a:lnTo>
                    <a:pt x="778" y="389"/>
                  </a:lnTo>
                  <a:lnTo>
                    <a:pt x="777" y="409"/>
                  </a:lnTo>
                  <a:lnTo>
                    <a:pt x="776" y="429"/>
                  </a:lnTo>
                  <a:lnTo>
                    <a:pt x="774" y="449"/>
                  </a:lnTo>
                  <a:lnTo>
                    <a:pt x="770" y="468"/>
                  </a:lnTo>
                  <a:lnTo>
                    <a:pt x="766" y="486"/>
                  </a:lnTo>
                  <a:lnTo>
                    <a:pt x="760" y="505"/>
                  </a:lnTo>
                  <a:lnTo>
                    <a:pt x="754" y="523"/>
                  </a:lnTo>
                  <a:lnTo>
                    <a:pt x="747" y="540"/>
                  </a:lnTo>
                  <a:lnTo>
                    <a:pt x="740" y="558"/>
                  </a:lnTo>
                  <a:lnTo>
                    <a:pt x="732" y="575"/>
                  </a:lnTo>
                  <a:lnTo>
                    <a:pt x="722" y="591"/>
                  </a:lnTo>
                  <a:lnTo>
                    <a:pt x="711" y="607"/>
                  </a:lnTo>
                  <a:lnTo>
                    <a:pt x="700" y="622"/>
                  </a:lnTo>
                  <a:lnTo>
                    <a:pt x="690" y="637"/>
                  </a:lnTo>
                  <a:lnTo>
                    <a:pt x="676" y="651"/>
                  </a:lnTo>
                  <a:lnTo>
                    <a:pt x="664" y="665"/>
                  </a:lnTo>
                  <a:lnTo>
                    <a:pt x="650" y="677"/>
                  </a:lnTo>
                  <a:lnTo>
                    <a:pt x="637" y="690"/>
                  </a:lnTo>
                  <a:lnTo>
                    <a:pt x="621" y="701"/>
                  </a:lnTo>
                  <a:lnTo>
                    <a:pt x="607" y="712"/>
                  </a:lnTo>
                  <a:lnTo>
                    <a:pt x="590" y="722"/>
                  </a:lnTo>
                  <a:lnTo>
                    <a:pt x="574" y="732"/>
                  </a:lnTo>
                  <a:lnTo>
                    <a:pt x="558" y="740"/>
                  </a:lnTo>
                  <a:lnTo>
                    <a:pt x="541" y="748"/>
                  </a:lnTo>
                  <a:lnTo>
                    <a:pt x="523" y="755"/>
                  </a:lnTo>
                  <a:lnTo>
                    <a:pt x="505" y="761"/>
                  </a:lnTo>
                  <a:lnTo>
                    <a:pt x="486" y="767"/>
                  </a:lnTo>
                  <a:lnTo>
                    <a:pt x="468" y="770"/>
                  </a:lnTo>
                  <a:lnTo>
                    <a:pt x="448" y="774"/>
                  </a:lnTo>
                  <a:lnTo>
                    <a:pt x="429" y="776"/>
                  </a:lnTo>
                  <a:lnTo>
                    <a:pt x="409" y="778"/>
                  </a:lnTo>
                  <a:lnTo>
                    <a:pt x="388" y="779"/>
                  </a:lnTo>
                  <a:lnTo>
                    <a:pt x="369" y="778"/>
                  </a:lnTo>
                  <a:lnTo>
                    <a:pt x="349" y="776"/>
                  </a:lnTo>
                  <a:lnTo>
                    <a:pt x="330" y="774"/>
                  </a:lnTo>
                  <a:lnTo>
                    <a:pt x="310" y="770"/>
                  </a:lnTo>
                  <a:lnTo>
                    <a:pt x="292" y="767"/>
                  </a:lnTo>
                  <a:lnTo>
                    <a:pt x="273" y="761"/>
                  </a:lnTo>
                  <a:lnTo>
                    <a:pt x="255" y="755"/>
                  </a:lnTo>
                  <a:lnTo>
                    <a:pt x="237" y="748"/>
                  </a:lnTo>
                  <a:lnTo>
                    <a:pt x="220" y="740"/>
                  </a:lnTo>
                  <a:lnTo>
                    <a:pt x="204" y="732"/>
                  </a:lnTo>
                  <a:lnTo>
                    <a:pt x="187" y="722"/>
                  </a:lnTo>
                  <a:lnTo>
                    <a:pt x="171" y="712"/>
                  </a:lnTo>
                  <a:lnTo>
                    <a:pt x="157" y="701"/>
                  </a:lnTo>
                  <a:lnTo>
                    <a:pt x="141" y="690"/>
                  </a:lnTo>
                  <a:lnTo>
                    <a:pt x="127" y="677"/>
                  </a:lnTo>
                  <a:lnTo>
                    <a:pt x="114" y="665"/>
                  </a:lnTo>
                  <a:lnTo>
                    <a:pt x="100" y="651"/>
                  </a:lnTo>
                  <a:lnTo>
                    <a:pt x="88" y="637"/>
                  </a:lnTo>
                  <a:lnTo>
                    <a:pt x="78" y="622"/>
                  </a:lnTo>
                  <a:lnTo>
                    <a:pt x="67" y="607"/>
                  </a:lnTo>
                  <a:lnTo>
                    <a:pt x="56" y="591"/>
                  </a:lnTo>
                  <a:lnTo>
                    <a:pt x="46" y="575"/>
                  </a:lnTo>
                  <a:lnTo>
                    <a:pt x="38" y="558"/>
                  </a:lnTo>
                  <a:lnTo>
                    <a:pt x="31" y="540"/>
                  </a:lnTo>
                  <a:lnTo>
                    <a:pt x="24" y="523"/>
                  </a:lnTo>
                  <a:lnTo>
                    <a:pt x="18" y="505"/>
                  </a:lnTo>
                  <a:lnTo>
                    <a:pt x="12" y="486"/>
                  </a:lnTo>
                  <a:lnTo>
                    <a:pt x="8" y="468"/>
                  </a:lnTo>
                  <a:lnTo>
                    <a:pt x="4" y="449"/>
                  </a:lnTo>
                  <a:lnTo>
                    <a:pt x="2" y="429"/>
                  </a:lnTo>
                  <a:lnTo>
                    <a:pt x="0" y="409"/>
                  </a:lnTo>
                  <a:lnTo>
                    <a:pt x="0" y="389"/>
                  </a:lnTo>
                  <a:lnTo>
                    <a:pt x="0" y="370"/>
                  </a:lnTo>
                  <a:lnTo>
                    <a:pt x="2" y="349"/>
                  </a:lnTo>
                  <a:lnTo>
                    <a:pt x="4" y="330"/>
                  </a:lnTo>
                  <a:lnTo>
                    <a:pt x="8" y="311"/>
                  </a:lnTo>
                  <a:lnTo>
                    <a:pt x="12" y="292"/>
                  </a:lnTo>
                  <a:lnTo>
                    <a:pt x="18" y="274"/>
                  </a:lnTo>
                  <a:lnTo>
                    <a:pt x="24" y="256"/>
                  </a:lnTo>
                  <a:lnTo>
                    <a:pt x="31" y="238"/>
                  </a:lnTo>
                  <a:lnTo>
                    <a:pt x="38" y="221"/>
                  </a:lnTo>
                  <a:lnTo>
                    <a:pt x="46" y="204"/>
                  </a:lnTo>
                  <a:lnTo>
                    <a:pt x="56" y="187"/>
                  </a:lnTo>
                  <a:lnTo>
                    <a:pt x="67" y="172"/>
                  </a:lnTo>
                  <a:lnTo>
                    <a:pt x="78" y="156"/>
                  </a:lnTo>
                  <a:lnTo>
                    <a:pt x="88" y="142"/>
                  </a:lnTo>
                  <a:lnTo>
                    <a:pt x="100" y="127"/>
                  </a:lnTo>
                  <a:lnTo>
                    <a:pt x="114" y="114"/>
                  </a:lnTo>
                  <a:lnTo>
                    <a:pt x="127" y="101"/>
                  </a:lnTo>
                  <a:lnTo>
                    <a:pt x="141" y="89"/>
                  </a:lnTo>
                  <a:lnTo>
                    <a:pt x="157" y="78"/>
                  </a:lnTo>
                  <a:lnTo>
                    <a:pt x="171" y="66"/>
                  </a:lnTo>
                  <a:lnTo>
                    <a:pt x="187" y="57"/>
                  </a:lnTo>
                  <a:lnTo>
                    <a:pt x="204" y="47"/>
                  </a:lnTo>
                  <a:lnTo>
                    <a:pt x="220" y="39"/>
                  </a:lnTo>
                  <a:lnTo>
                    <a:pt x="237" y="30"/>
                  </a:lnTo>
                  <a:lnTo>
                    <a:pt x="255" y="24"/>
                  </a:lnTo>
                  <a:lnTo>
                    <a:pt x="273" y="18"/>
                  </a:lnTo>
                  <a:lnTo>
                    <a:pt x="292" y="12"/>
                  </a:lnTo>
                  <a:lnTo>
                    <a:pt x="310" y="9"/>
                  </a:lnTo>
                  <a:lnTo>
                    <a:pt x="330" y="5"/>
                  </a:lnTo>
                  <a:lnTo>
                    <a:pt x="349" y="3"/>
                  </a:lnTo>
                  <a:lnTo>
                    <a:pt x="369" y="0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d48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87760" y="4167360"/>
              <a:ext cx="306360" cy="306360"/>
            </a:xfrm>
            <a:custGeom>
              <a:avLst/>
              <a:gdLst/>
              <a:ahLst/>
              <a:rect l="l" t="t" r="r" b="b"/>
              <a:pathLst>
                <a:path w="771" h="772">
                  <a:moveTo>
                    <a:pt x="386" y="0"/>
                  </a:moveTo>
                  <a:lnTo>
                    <a:pt x="405" y="1"/>
                  </a:lnTo>
                  <a:lnTo>
                    <a:pt x="425" y="3"/>
                  </a:lnTo>
                  <a:lnTo>
                    <a:pt x="444" y="5"/>
                  </a:lnTo>
                  <a:lnTo>
                    <a:pt x="462" y="9"/>
                  </a:lnTo>
                  <a:lnTo>
                    <a:pt x="482" y="12"/>
                  </a:lnTo>
                  <a:lnTo>
                    <a:pt x="500" y="18"/>
                  </a:lnTo>
                  <a:lnTo>
                    <a:pt x="518" y="24"/>
                  </a:lnTo>
                  <a:lnTo>
                    <a:pt x="536" y="30"/>
                  </a:lnTo>
                  <a:lnTo>
                    <a:pt x="552" y="39"/>
                  </a:lnTo>
                  <a:lnTo>
                    <a:pt x="569" y="47"/>
                  </a:lnTo>
                  <a:lnTo>
                    <a:pt x="585" y="57"/>
                  </a:lnTo>
                  <a:lnTo>
                    <a:pt x="600" y="66"/>
                  </a:lnTo>
                  <a:lnTo>
                    <a:pt x="616" y="77"/>
                  </a:lnTo>
                  <a:lnTo>
                    <a:pt x="630" y="89"/>
                  </a:lnTo>
                  <a:lnTo>
                    <a:pt x="645" y="101"/>
                  </a:lnTo>
                  <a:lnTo>
                    <a:pt x="658" y="113"/>
                  </a:lnTo>
                  <a:lnTo>
                    <a:pt x="671" y="127"/>
                  </a:lnTo>
                  <a:lnTo>
                    <a:pt x="683" y="141"/>
                  </a:lnTo>
                  <a:lnTo>
                    <a:pt x="694" y="155"/>
                  </a:lnTo>
                  <a:lnTo>
                    <a:pt x="705" y="171"/>
                  </a:lnTo>
                  <a:lnTo>
                    <a:pt x="716" y="186"/>
                  </a:lnTo>
                  <a:lnTo>
                    <a:pt x="724" y="203"/>
                  </a:lnTo>
                  <a:lnTo>
                    <a:pt x="732" y="219"/>
                  </a:lnTo>
                  <a:lnTo>
                    <a:pt x="741" y="237"/>
                  </a:lnTo>
                  <a:lnTo>
                    <a:pt x="748" y="253"/>
                  </a:lnTo>
                  <a:lnTo>
                    <a:pt x="754" y="271"/>
                  </a:lnTo>
                  <a:lnTo>
                    <a:pt x="759" y="289"/>
                  </a:lnTo>
                  <a:lnTo>
                    <a:pt x="764" y="309"/>
                  </a:lnTo>
                  <a:lnTo>
                    <a:pt x="766" y="328"/>
                  </a:lnTo>
                  <a:lnTo>
                    <a:pt x="770" y="347"/>
                  </a:lnTo>
                  <a:lnTo>
                    <a:pt x="771" y="366"/>
                  </a:lnTo>
                  <a:lnTo>
                    <a:pt x="771" y="385"/>
                  </a:lnTo>
                  <a:lnTo>
                    <a:pt x="771" y="406"/>
                  </a:lnTo>
                  <a:lnTo>
                    <a:pt x="770" y="425"/>
                  </a:lnTo>
                  <a:lnTo>
                    <a:pt x="766" y="444"/>
                  </a:lnTo>
                  <a:lnTo>
                    <a:pt x="764" y="463"/>
                  </a:lnTo>
                  <a:lnTo>
                    <a:pt x="759" y="483"/>
                  </a:lnTo>
                  <a:lnTo>
                    <a:pt x="754" y="501"/>
                  </a:lnTo>
                  <a:lnTo>
                    <a:pt x="748" y="519"/>
                  </a:lnTo>
                  <a:lnTo>
                    <a:pt x="741" y="535"/>
                  </a:lnTo>
                  <a:lnTo>
                    <a:pt x="732" y="553"/>
                  </a:lnTo>
                  <a:lnTo>
                    <a:pt x="724" y="569"/>
                  </a:lnTo>
                  <a:lnTo>
                    <a:pt x="716" y="586"/>
                  </a:lnTo>
                  <a:lnTo>
                    <a:pt x="705" y="601"/>
                  </a:lnTo>
                  <a:lnTo>
                    <a:pt x="694" y="617"/>
                  </a:lnTo>
                  <a:lnTo>
                    <a:pt x="683" y="631"/>
                  </a:lnTo>
                  <a:lnTo>
                    <a:pt x="671" y="645"/>
                  </a:lnTo>
                  <a:lnTo>
                    <a:pt x="658" y="659"/>
                  </a:lnTo>
                  <a:lnTo>
                    <a:pt x="645" y="671"/>
                  </a:lnTo>
                  <a:lnTo>
                    <a:pt x="630" y="683"/>
                  </a:lnTo>
                  <a:lnTo>
                    <a:pt x="616" y="695"/>
                  </a:lnTo>
                  <a:lnTo>
                    <a:pt x="600" y="706"/>
                  </a:lnTo>
                  <a:lnTo>
                    <a:pt x="585" y="715"/>
                  </a:lnTo>
                  <a:lnTo>
                    <a:pt x="569" y="725"/>
                  </a:lnTo>
                  <a:lnTo>
                    <a:pt x="552" y="733"/>
                  </a:lnTo>
                  <a:lnTo>
                    <a:pt x="536" y="742"/>
                  </a:lnTo>
                  <a:lnTo>
                    <a:pt x="518" y="748"/>
                  </a:lnTo>
                  <a:lnTo>
                    <a:pt x="500" y="754"/>
                  </a:lnTo>
                  <a:lnTo>
                    <a:pt x="482" y="760"/>
                  </a:lnTo>
                  <a:lnTo>
                    <a:pt x="462" y="763"/>
                  </a:lnTo>
                  <a:lnTo>
                    <a:pt x="444" y="767"/>
                  </a:lnTo>
                  <a:lnTo>
                    <a:pt x="425" y="769"/>
                  </a:lnTo>
                  <a:lnTo>
                    <a:pt x="405" y="770"/>
                  </a:lnTo>
                  <a:lnTo>
                    <a:pt x="386" y="772"/>
                  </a:lnTo>
                  <a:lnTo>
                    <a:pt x="365" y="770"/>
                  </a:lnTo>
                  <a:lnTo>
                    <a:pt x="346" y="769"/>
                  </a:lnTo>
                  <a:lnTo>
                    <a:pt x="327" y="767"/>
                  </a:lnTo>
                  <a:lnTo>
                    <a:pt x="308" y="763"/>
                  </a:lnTo>
                  <a:lnTo>
                    <a:pt x="290" y="760"/>
                  </a:lnTo>
                  <a:lnTo>
                    <a:pt x="270" y="754"/>
                  </a:lnTo>
                  <a:lnTo>
                    <a:pt x="254" y="748"/>
                  </a:lnTo>
                  <a:lnTo>
                    <a:pt x="236" y="742"/>
                  </a:lnTo>
                  <a:lnTo>
                    <a:pt x="219" y="733"/>
                  </a:lnTo>
                  <a:lnTo>
                    <a:pt x="202" y="725"/>
                  </a:lnTo>
                  <a:lnTo>
                    <a:pt x="185" y="715"/>
                  </a:lnTo>
                  <a:lnTo>
                    <a:pt x="170" y="706"/>
                  </a:lnTo>
                  <a:lnTo>
                    <a:pt x="155" y="695"/>
                  </a:lnTo>
                  <a:lnTo>
                    <a:pt x="141" y="683"/>
                  </a:lnTo>
                  <a:lnTo>
                    <a:pt x="126" y="671"/>
                  </a:lnTo>
                  <a:lnTo>
                    <a:pt x="113" y="659"/>
                  </a:lnTo>
                  <a:lnTo>
                    <a:pt x="100" y="645"/>
                  </a:lnTo>
                  <a:lnTo>
                    <a:pt x="88" y="631"/>
                  </a:lnTo>
                  <a:lnTo>
                    <a:pt x="77" y="617"/>
                  </a:lnTo>
                  <a:lnTo>
                    <a:pt x="66" y="601"/>
                  </a:lnTo>
                  <a:lnTo>
                    <a:pt x="56" y="586"/>
                  </a:lnTo>
                  <a:lnTo>
                    <a:pt x="46" y="569"/>
                  </a:lnTo>
                  <a:lnTo>
                    <a:pt x="38" y="553"/>
                  </a:lnTo>
                  <a:lnTo>
                    <a:pt x="30" y="535"/>
                  </a:lnTo>
                  <a:lnTo>
                    <a:pt x="23" y="519"/>
                  </a:lnTo>
                  <a:lnTo>
                    <a:pt x="17" y="501"/>
                  </a:lnTo>
                  <a:lnTo>
                    <a:pt x="12" y="483"/>
                  </a:lnTo>
                  <a:lnTo>
                    <a:pt x="8" y="463"/>
                  </a:lnTo>
                  <a:lnTo>
                    <a:pt x="4" y="444"/>
                  </a:lnTo>
                  <a:lnTo>
                    <a:pt x="2" y="425"/>
                  </a:lnTo>
                  <a:lnTo>
                    <a:pt x="0" y="406"/>
                  </a:lnTo>
                  <a:lnTo>
                    <a:pt x="0" y="385"/>
                  </a:lnTo>
                  <a:lnTo>
                    <a:pt x="0" y="366"/>
                  </a:lnTo>
                  <a:lnTo>
                    <a:pt x="2" y="347"/>
                  </a:lnTo>
                  <a:lnTo>
                    <a:pt x="4" y="328"/>
                  </a:lnTo>
                  <a:lnTo>
                    <a:pt x="8" y="309"/>
                  </a:lnTo>
                  <a:lnTo>
                    <a:pt x="12" y="289"/>
                  </a:lnTo>
                  <a:lnTo>
                    <a:pt x="17" y="271"/>
                  </a:lnTo>
                  <a:lnTo>
                    <a:pt x="23" y="253"/>
                  </a:lnTo>
                  <a:lnTo>
                    <a:pt x="30" y="237"/>
                  </a:lnTo>
                  <a:lnTo>
                    <a:pt x="38" y="219"/>
                  </a:lnTo>
                  <a:lnTo>
                    <a:pt x="46" y="203"/>
                  </a:lnTo>
                  <a:lnTo>
                    <a:pt x="56" y="186"/>
                  </a:lnTo>
                  <a:lnTo>
                    <a:pt x="66" y="171"/>
                  </a:lnTo>
                  <a:lnTo>
                    <a:pt x="77" y="155"/>
                  </a:lnTo>
                  <a:lnTo>
                    <a:pt x="88" y="141"/>
                  </a:lnTo>
                  <a:lnTo>
                    <a:pt x="100" y="127"/>
                  </a:lnTo>
                  <a:lnTo>
                    <a:pt x="113" y="113"/>
                  </a:lnTo>
                  <a:lnTo>
                    <a:pt x="126" y="101"/>
                  </a:lnTo>
                  <a:lnTo>
                    <a:pt x="141" y="89"/>
                  </a:lnTo>
                  <a:lnTo>
                    <a:pt x="155" y="77"/>
                  </a:lnTo>
                  <a:lnTo>
                    <a:pt x="170" y="66"/>
                  </a:lnTo>
                  <a:lnTo>
                    <a:pt x="185" y="57"/>
                  </a:lnTo>
                  <a:lnTo>
                    <a:pt x="202" y="47"/>
                  </a:lnTo>
                  <a:lnTo>
                    <a:pt x="219" y="39"/>
                  </a:lnTo>
                  <a:lnTo>
                    <a:pt x="236" y="30"/>
                  </a:lnTo>
                  <a:lnTo>
                    <a:pt x="254" y="24"/>
                  </a:lnTo>
                  <a:lnTo>
                    <a:pt x="270" y="18"/>
                  </a:lnTo>
                  <a:lnTo>
                    <a:pt x="290" y="12"/>
                  </a:lnTo>
                  <a:lnTo>
                    <a:pt x="308" y="9"/>
                  </a:lnTo>
                  <a:lnTo>
                    <a:pt x="327" y="5"/>
                  </a:lnTo>
                  <a:lnTo>
                    <a:pt x="346" y="3"/>
                  </a:lnTo>
                  <a:lnTo>
                    <a:pt x="365" y="1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d99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89200" y="4170240"/>
              <a:ext cx="303480" cy="303480"/>
            </a:xfrm>
            <a:custGeom>
              <a:avLst/>
              <a:gdLst/>
              <a:ahLst/>
              <a:rect l="l" t="t" r="r" b="b"/>
              <a:pathLst>
                <a:path w="764" h="764">
                  <a:moveTo>
                    <a:pt x="382" y="0"/>
                  </a:moveTo>
                  <a:lnTo>
                    <a:pt x="402" y="1"/>
                  </a:lnTo>
                  <a:lnTo>
                    <a:pt x="421" y="3"/>
                  </a:lnTo>
                  <a:lnTo>
                    <a:pt x="440" y="5"/>
                  </a:lnTo>
                  <a:lnTo>
                    <a:pt x="458" y="9"/>
                  </a:lnTo>
                  <a:lnTo>
                    <a:pt x="478" y="12"/>
                  </a:lnTo>
                  <a:lnTo>
                    <a:pt x="496" y="18"/>
                  </a:lnTo>
                  <a:lnTo>
                    <a:pt x="514" y="24"/>
                  </a:lnTo>
                  <a:lnTo>
                    <a:pt x="530" y="30"/>
                  </a:lnTo>
                  <a:lnTo>
                    <a:pt x="547" y="39"/>
                  </a:lnTo>
                  <a:lnTo>
                    <a:pt x="564" y="47"/>
                  </a:lnTo>
                  <a:lnTo>
                    <a:pt x="580" y="57"/>
                  </a:lnTo>
                  <a:lnTo>
                    <a:pt x="595" y="66"/>
                  </a:lnTo>
                  <a:lnTo>
                    <a:pt x="610" y="77"/>
                  </a:lnTo>
                  <a:lnTo>
                    <a:pt x="625" y="88"/>
                  </a:lnTo>
                  <a:lnTo>
                    <a:pt x="638" y="100"/>
                  </a:lnTo>
                  <a:lnTo>
                    <a:pt x="652" y="113"/>
                  </a:lnTo>
                  <a:lnTo>
                    <a:pt x="665" y="126"/>
                  </a:lnTo>
                  <a:lnTo>
                    <a:pt x="677" y="139"/>
                  </a:lnTo>
                  <a:lnTo>
                    <a:pt x="688" y="154"/>
                  </a:lnTo>
                  <a:lnTo>
                    <a:pt x="698" y="169"/>
                  </a:lnTo>
                  <a:lnTo>
                    <a:pt x="708" y="185"/>
                  </a:lnTo>
                  <a:lnTo>
                    <a:pt x="718" y="201"/>
                  </a:lnTo>
                  <a:lnTo>
                    <a:pt x="726" y="217"/>
                  </a:lnTo>
                  <a:lnTo>
                    <a:pt x="733" y="234"/>
                  </a:lnTo>
                  <a:lnTo>
                    <a:pt x="740" y="251"/>
                  </a:lnTo>
                  <a:lnTo>
                    <a:pt x="746" y="269"/>
                  </a:lnTo>
                  <a:lnTo>
                    <a:pt x="751" y="287"/>
                  </a:lnTo>
                  <a:lnTo>
                    <a:pt x="756" y="306"/>
                  </a:lnTo>
                  <a:lnTo>
                    <a:pt x="760" y="324"/>
                  </a:lnTo>
                  <a:lnTo>
                    <a:pt x="762" y="343"/>
                  </a:lnTo>
                  <a:lnTo>
                    <a:pt x="763" y="363"/>
                  </a:lnTo>
                  <a:lnTo>
                    <a:pt x="764" y="383"/>
                  </a:lnTo>
                  <a:lnTo>
                    <a:pt x="763" y="402"/>
                  </a:lnTo>
                  <a:lnTo>
                    <a:pt x="762" y="421"/>
                  </a:lnTo>
                  <a:lnTo>
                    <a:pt x="760" y="441"/>
                  </a:lnTo>
                  <a:lnTo>
                    <a:pt x="756" y="460"/>
                  </a:lnTo>
                  <a:lnTo>
                    <a:pt x="751" y="478"/>
                  </a:lnTo>
                  <a:lnTo>
                    <a:pt x="746" y="496"/>
                  </a:lnTo>
                  <a:lnTo>
                    <a:pt x="740" y="514"/>
                  </a:lnTo>
                  <a:lnTo>
                    <a:pt x="733" y="531"/>
                  </a:lnTo>
                  <a:lnTo>
                    <a:pt x="726" y="547"/>
                  </a:lnTo>
                  <a:lnTo>
                    <a:pt x="718" y="564"/>
                  </a:lnTo>
                  <a:lnTo>
                    <a:pt x="708" y="580"/>
                  </a:lnTo>
                  <a:lnTo>
                    <a:pt x="698" y="595"/>
                  </a:lnTo>
                  <a:lnTo>
                    <a:pt x="688" y="611"/>
                  </a:lnTo>
                  <a:lnTo>
                    <a:pt x="677" y="625"/>
                  </a:lnTo>
                  <a:lnTo>
                    <a:pt x="665" y="639"/>
                  </a:lnTo>
                  <a:lnTo>
                    <a:pt x="652" y="652"/>
                  </a:lnTo>
                  <a:lnTo>
                    <a:pt x="638" y="665"/>
                  </a:lnTo>
                  <a:lnTo>
                    <a:pt x="625" y="677"/>
                  </a:lnTo>
                  <a:lnTo>
                    <a:pt x="610" y="689"/>
                  </a:lnTo>
                  <a:lnTo>
                    <a:pt x="595" y="698"/>
                  </a:lnTo>
                  <a:lnTo>
                    <a:pt x="580" y="709"/>
                  </a:lnTo>
                  <a:lnTo>
                    <a:pt x="564" y="718"/>
                  </a:lnTo>
                  <a:lnTo>
                    <a:pt x="547" y="726"/>
                  </a:lnTo>
                  <a:lnTo>
                    <a:pt x="530" y="734"/>
                  </a:lnTo>
                  <a:lnTo>
                    <a:pt x="514" y="742"/>
                  </a:lnTo>
                  <a:lnTo>
                    <a:pt x="496" y="748"/>
                  </a:lnTo>
                  <a:lnTo>
                    <a:pt x="478" y="752"/>
                  </a:lnTo>
                  <a:lnTo>
                    <a:pt x="458" y="756"/>
                  </a:lnTo>
                  <a:lnTo>
                    <a:pt x="440" y="760"/>
                  </a:lnTo>
                  <a:lnTo>
                    <a:pt x="421" y="762"/>
                  </a:lnTo>
                  <a:lnTo>
                    <a:pt x="402" y="763"/>
                  </a:lnTo>
                  <a:lnTo>
                    <a:pt x="382" y="764"/>
                  </a:lnTo>
                  <a:lnTo>
                    <a:pt x="362" y="763"/>
                  </a:lnTo>
                  <a:lnTo>
                    <a:pt x="343" y="762"/>
                  </a:lnTo>
                  <a:lnTo>
                    <a:pt x="324" y="760"/>
                  </a:lnTo>
                  <a:lnTo>
                    <a:pt x="305" y="756"/>
                  </a:lnTo>
                  <a:lnTo>
                    <a:pt x="287" y="752"/>
                  </a:lnTo>
                  <a:lnTo>
                    <a:pt x="269" y="748"/>
                  </a:lnTo>
                  <a:lnTo>
                    <a:pt x="251" y="742"/>
                  </a:lnTo>
                  <a:lnTo>
                    <a:pt x="234" y="734"/>
                  </a:lnTo>
                  <a:lnTo>
                    <a:pt x="217" y="726"/>
                  </a:lnTo>
                  <a:lnTo>
                    <a:pt x="200" y="718"/>
                  </a:lnTo>
                  <a:lnTo>
                    <a:pt x="184" y="709"/>
                  </a:lnTo>
                  <a:lnTo>
                    <a:pt x="169" y="698"/>
                  </a:lnTo>
                  <a:lnTo>
                    <a:pt x="154" y="689"/>
                  </a:lnTo>
                  <a:lnTo>
                    <a:pt x="139" y="677"/>
                  </a:lnTo>
                  <a:lnTo>
                    <a:pt x="126" y="665"/>
                  </a:lnTo>
                  <a:lnTo>
                    <a:pt x="112" y="652"/>
                  </a:lnTo>
                  <a:lnTo>
                    <a:pt x="100" y="639"/>
                  </a:lnTo>
                  <a:lnTo>
                    <a:pt x="88" y="625"/>
                  </a:lnTo>
                  <a:lnTo>
                    <a:pt x="76" y="611"/>
                  </a:lnTo>
                  <a:lnTo>
                    <a:pt x="66" y="595"/>
                  </a:lnTo>
                  <a:lnTo>
                    <a:pt x="55" y="580"/>
                  </a:lnTo>
                  <a:lnTo>
                    <a:pt x="47" y="564"/>
                  </a:lnTo>
                  <a:lnTo>
                    <a:pt x="38" y="547"/>
                  </a:lnTo>
                  <a:lnTo>
                    <a:pt x="30" y="531"/>
                  </a:lnTo>
                  <a:lnTo>
                    <a:pt x="23" y="514"/>
                  </a:lnTo>
                  <a:lnTo>
                    <a:pt x="17" y="496"/>
                  </a:lnTo>
                  <a:lnTo>
                    <a:pt x="12" y="478"/>
                  </a:lnTo>
                  <a:lnTo>
                    <a:pt x="8" y="460"/>
                  </a:lnTo>
                  <a:lnTo>
                    <a:pt x="5" y="441"/>
                  </a:lnTo>
                  <a:lnTo>
                    <a:pt x="2" y="421"/>
                  </a:lnTo>
                  <a:lnTo>
                    <a:pt x="0" y="402"/>
                  </a:lnTo>
                  <a:lnTo>
                    <a:pt x="0" y="383"/>
                  </a:lnTo>
                  <a:lnTo>
                    <a:pt x="0" y="363"/>
                  </a:lnTo>
                  <a:lnTo>
                    <a:pt x="2" y="343"/>
                  </a:lnTo>
                  <a:lnTo>
                    <a:pt x="5" y="324"/>
                  </a:lnTo>
                  <a:lnTo>
                    <a:pt x="8" y="306"/>
                  </a:lnTo>
                  <a:lnTo>
                    <a:pt x="12" y="287"/>
                  </a:lnTo>
                  <a:lnTo>
                    <a:pt x="17" y="269"/>
                  </a:lnTo>
                  <a:lnTo>
                    <a:pt x="23" y="251"/>
                  </a:lnTo>
                  <a:lnTo>
                    <a:pt x="30" y="234"/>
                  </a:lnTo>
                  <a:lnTo>
                    <a:pt x="38" y="217"/>
                  </a:lnTo>
                  <a:lnTo>
                    <a:pt x="47" y="201"/>
                  </a:lnTo>
                  <a:lnTo>
                    <a:pt x="55" y="185"/>
                  </a:lnTo>
                  <a:lnTo>
                    <a:pt x="66" y="169"/>
                  </a:lnTo>
                  <a:lnTo>
                    <a:pt x="76" y="154"/>
                  </a:lnTo>
                  <a:lnTo>
                    <a:pt x="88" y="139"/>
                  </a:lnTo>
                  <a:lnTo>
                    <a:pt x="100" y="126"/>
                  </a:lnTo>
                  <a:lnTo>
                    <a:pt x="112" y="113"/>
                  </a:lnTo>
                  <a:lnTo>
                    <a:pt x="126" y="100"/>
                  </a:lnTo>
                  <a:lnTo>
                    <a:pt x="139" y="88"/>
                  </a:lnTo>
                  <a:lnTo>
                    <a:pt x="154" y="77"/>
                  </a:lnTo>
                  <a:lnTo>
                    <a:pt x="169" y="66"/>
                  </a:lnTo>
                  <a:lnTo>
                    <a:pt x="184" y="57"/>
                  </a:lnTo>
                  <a:lnTo>
                    <a:pt x="200" y="47"/>
                  </a:lnTo>
                  <a:lnTo>
                    <a:pt x="217" y="39"/>
                  </a:lnTo>
                  <a:lnTo>
                    <a:pt x="234" y="30"/>
                  </a:lnTo>
                  <a:lnTo>
                    <a:pt x="251" y="24"/>
                  </a:lnTo>
                  <a:lnTo>
                    <a:pt x="269" y="18"/>
                  </a:lnTo>
                  <a:lnTo>
                    <a:pt x="287" y="12"/>
                  </a:lnTo>
                  <a:lnTo>
                    <a:pt x="305" y="9"/>
                  </a:lnTo>
                  <a:lnTo>
                    <a:pt x="324" y="5"/>
                  </a:lnTo>
                  <a:lnTo>
                    <a:pt x="343" y="3"/>
                  </a:lnTo>
                  <a:lnTo>
                    <a:pt x="362" y="1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df9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591000" y="4173480"/>
              <a:ext cx="299880" cy="300240"/>
            </a:xfrm>
            <a:custGeom>
              <a:avLst/>
              <a:gdLst/>
              <a:ahLst/>
              <a:rect l="l" t="t" r="r" b="b"/>
              <a:pathLst>
                <a:path w="756" h="756">
                  <a:moveTo>
                    <a:pt x="378" y="0"/>
                  </a:moveTo>
                  <a:lnTo>
                    <a:pt x="397" y="0"/>
                  </a:lnTo>
                  <a:lnTo>
                    <a:pt x="416" y="2"/>
                  </a:lnTo>
                  <a:lnTo>
                    <a:pt x="435" y="4"/>
                  </a:lnTo>
                  <a:lnTo>
                    <a:pt x="453" y="8"/>
                  </a:lnTo>
                  <a:lnTo>
                    <a:pt x="471" y="12"/>
                  </a:lnTo>
                  <a:lnTo>
                    <a:pt x="489" y="17"/>
                  </a:lnTo>
                  <a:lnTo>
                    <a:pt x="507" y="23"/>
                  </a:lnTo>
                  <a:lnTo>
                    <a:pt x="524" y="29"/>
                  </a:lnTo>
                  <a:lnTo>
                    <a:pt x="541" y="38"/>
                  </a:lnTo>
                  <a:lnTo>
                    <a:pt x="558" y="46"/>
                  </a:lnTo>
                  <a:lnTo>
                    <a:pt x="573" y="54"/>
                  </a:lnTo>
                  <a:lnTo>
                    <a:pt x="589" y="65"/>
                  </a:lnTo>
                  <a:lnTo>
                    <a:pt x="603" y="75"/>
                  </a:lnTo>
                  <a:lnTo>
                    <a:pt x="618" y="87"/>
                  </a:lnTo>
                  <a:lnTo>
                    <a:pt x="631" y="99"/>
                  </a:lnTo>
                  <a:lnTo>
                    <a:pt x="644" y="111"/>
                  </a:lnTo>
                  <a:lnTo>
                    <a:pt x="657" y="124"/>
                  </a:lnTo>
                  <a:lnTo>
                    <a:pt x="669" y="138"/>
                  </a:lnTo>
                  <a:lnTo>
                    <a:pt x="680" y="152"/>
                  </a:lnTo>
                  <a:lnTo>
                    <a:pt x="691" y="167"/>
                  </a:lnTo>
                  <a:lnTo>
                    <a:pt x="701" y="183"/>
                  </a:lnTo>
                  <a:lnTo>
                    <a:pt x="710" y="198"/>
                  </a:lnTo>
                  <a:lnTo>
                    <a:pt x="719" y="214"/>
                  </a:lnTo>
                  <a:lnTo>
                    <a:pt x="726" y="231"/>
                  </a:lnTo>
                  <a:lnTo>
                    <a:pt x="733" y="249"/>
                  </a:lnTo>
                  <a:lnTo>
                    <a:pt x="739" y="266"/>
                  </a:lnTo>
                  <a:lnTo>
                    <a:pt x="744" y="284"/>
                  </a:lnTo>
                  <a:lnTo>
                    <a:pt x="747" y="302"/>
                  </a:lnTo>
                  <a:lnTo>
                    <a:pt x="751" y="321"/>
                  </a:lnTo>
                  <a:lnTo>
                    <a:pt x="753" y="340"/>
                  </a:lnTo>
                  <a:lnTo>
                    <a:pt x="755" y="359"/>
                  </a:lnTo>
                  <a:lnTo>
                    <a:pt x="756" y="378"/>
                  </a:lnTo>
                  <a:lnTo>
                    <a:pt x="755" y="398"/>
                  </a:lnTo>
                  <a:lnTo>
                    <a:pt x="753" y="417"/>
                  </a:lnTo>
                  <a:lnTo>
                    <a:pt x="751" y="436"/>
                  </a:lnTo>
                  <a:lnTo>
                    <a:pt x="747" y="454"/>
                  </a:lnTo>
                  <a:lnTo>
                    <a:pt x="744" y="472"/>
                  </a:lnTo>
                  <a:lnTo>
                    <a:pt x="739" y="490"/>
                  </a:lnTo>
                  <a:lnTo>
                    <a:pt x="733" y="508"/>
                  </a:lnTo>
                  <a:lnTo>
                    <a:pt x="726" y="525"/>
                  </a:lnTo>
                  <a:lnTo>
                    <a:pt x="719" y="542"/>
                  </a:lnTo>
                  <a:lnTo>
                    <a:pt x="710" y="558"/>
                  </a:lnTo>
                  <a:lnTo>
                    <a:pt x="701" y="574"/>
                  </a:lnTo>
                  <a:lnTo>
                    <a:pt x="691" y="590"/>
                  </a:lnTo>
                  <a:lnTo>
                    <a:pt x="680" y="604"/>
                  </a:lnTo>
                  <a:lnTo>
                    <a:pt x="669" y="618"/>
                  </a:lnTo>
                  <a:lnTo>
                    <a:pt x="657" y="633"/>
                  </a:lnTo>
                  <a:lnTo>
                    <a:pt x="644" y="645"/>
                  </a:lnTo>
                  <a:lnTo>
                    <a:pt x="631" y="658"/>
                  </a:lnTo>
                  <a:lnTo>
                    <a:pt x="618" y="670"/>
                  </a:lnTo>
                  <a:lnTo>
                    <a:pt x="603" y="681"/>
                  </a:lnTo>
                  <a:lnTo>
                    <a:pt x="589" y="691"/>
                  </a:lnTo>
                  <a:lnTo>
                    <a:pt x="573" y="701"/>
                  </a:lnTo>
                  <a:lnTo>
                    <a:pt x="558" y="711"/>
                  </a:lnTo>
                  <a:lnTo>
                    <a:pt x="541" y="719"/>
                  </a:lnTo>
                  <a:lnTo>
                    <a:pt x="524" y="726"/>
                  </a:lnTo>
                  <a:lnTo>
                    <a:pt x="507" y="733"/>
                  </a:lnTo>
                  <a:lnTo>
                    <a:pt x="489" y="739"/>
                  </a:lnTo>
                  <a:lnTo>
                    <a:pt x="471" y="744"/>
                  </a:lnTo>
                  <a:lnTo>
                    <a:pt x="453" y="749"/>
                  </a:lnTo>
                  <a:lnTo>
                    <a:pt x="435" y="751"/>
                  </a:lnTo>
                  <a:lnTo>
                    <a:pt x="416" y="754"/>
                  </a:lnTo>
                  <a:lnTo>
                    <a:pt x="397" y="756"/>
                  </a:lnTo>
                  <a:lnTo>
                    <a:pt x="378" y="756"/>
                  </a:lnTo>
                  <a:lnTo>
                    <a:pt x="359" y="756"/>
                  </a:lnTo>
                  <a:lnTo>
                    <a:pt x="339" y="754"/>
                  </a:lnTo>
                  <a:lnTo>
                    <a:pt x="320" y="751"/>
                  </a:lnTo>
                  <a:lnTo>
                    <a:pt x="301" y="749"/>
                  </a:lnTo>
                  <a:lnTo>
                    <a:pt x="283" y="744"/>
                  </a:lnTo>
                  <a:lnTo>
                    <a:pt x="265" y="739"/>
                  </a:lnTo>
                  <a:lnTo>
                    <a:pt x="248" y="733"/>
                  </a:lnTo>
                  <a:lnTo>
                    <a:pt x="230" y="726"/>
                  </a:lnTo>
                  <a:lnTo>
                    <a:pt x="213" y="719"/>
                  </a:lnTo>
                  <a:lnTo>
                    <a:pt x="198" y="711"/>
                  </a:lnTo>
                  <a:lnTo>
                    <a:pt x="182" y="701"/>
                  </a:lnTo>
                  <a:lnTo>
                    <a:pt x="167" y="691"/>
                  </a:lnTo>
                  <a:lnTo>
                    <a:pt x="151" y="681"/>
                  </a:lnTo>
                  <a:lnTo>
                    <a:pt x="137" y="670"/>
                  </a:lnTo>
                  <a:lnTo>
                    <a:pt x="123" y="658"/>
                  </a:lnTo>
                  <a:lnTo>
                    <a:pt x="110" y="645"/>
                  </a:lnTo>
                  <a:lnTo>
                    <a:pt x="98" y="633"/>
                  </a:lnTo>
                  <a:lnTo>
                    <a:pt x="86" y="618"/>
                  </a:lnTo>
                  <a:lnTo>
                    <a:pt x="74" y="604"/>
                  </a:lnTo>
                  <a:lnTo>
                    <a:pt x="65" y="590"/>
                  </a:lnTo>
                  <a:lnTo>
                    <a:pt x="54" y="574"/>
                  </a:lnTo>
                  <a:lnTo>
                    <a:pt x="45" y="558"/>
                  </a:lnTo>
                  <a:lnTo>
                    <a:pt x="37" y="542"/>
                  </a:lnTo>
                  <a:lnTo>
                    <a:pt x="29" y="525"/>
                  </a:lnTo>
                  <a:lnTo>
                    <a:pt x="23" y="508"/>
                  </a:lnTo>
                  <a:lnTo>
                    <a:pt x="17" y="490"/>
                  </a:lnTo>
                  <a:lnTo>
                    <a:pt x="12" y="472"/>
                  </a:lnTo>
                  <a:lnTo>
                    <a:pt x="7" y="454"/>
                  </a:lnTo>
                  <a:lnTo>
                    <a:pt x="3" y="436"/>
                  </a:lnTo>
                  <a:lnTo>
                    <a:pt x="1" y="417"/>
                  </a:lnTo>
                  <a:lnTo>
                    <a:pt x="0" y="398"/>
                  </a:lnTo>
                  <a:lnTo>
                    <a:pt x="0" y="378"/>
                  </a:lnTo>
                  <a:lnTo>
                    <a:pt x="0" y="359"/>
                  </a:lnTo>
                  <a:lnTo>
                    <a:pt x="1" y="340"/>
                  </a:lnTo>
                  <a:lnTo>
                    <a:pt x="3" y="321"/>
                  </a:lnTo>
                  <a:lnTo>
                    <a:pt x="7" y="302"/>
                  </a:lnTo>
                  <a:lnTo>
                    <a:pt x="12" y="284"/>
                  </a:lnTo>
                  <a:lnTo>
                    <a:pt x="17" y="266"/>
                  </a:lnTo>
                  <a:lnTo>
                    <a:pt x="23" y="249"/>
                  </a:lnTo>
                  <a:lnTo>
                    <a:pt x="29" y="231"/>
                  </a:lnTo>
                  <a:lnTo>
                    <a:pt x="37" y="214"/>
                  </a:lnTo>
                  <a:lnTo>
                    <a:pt x="45" y="198"/>
                  </a:lnTo>
                  <a:lnTo>
                    <a:pt x="54" y="183"/>
                  </a:lnTo>
                  <a:lnTo>
                    <a:pt x="65" y="167"/>
                  </a:lnTo>
                  <a:lnTo>
                    <a:pt x="74" y="152"/>
                  </a:lnTo>
                  <a:lnTo>
                    <a:pt x="86" y="138"/>
                  </a:lnTo>
                  <a:lnTo>
                    <a:pt x="98" y="124"/>
                  </a:lnTo>
                  <a:lnTo>
                    <a:pt x="110" y="111"/>
                  </a:lnTo>
                  <a:lnTo>
                    <a:pt x="123" y="99"/>
                  </a:lnTo>
                  <a:lnTo>
                    <a:pt x="137" y="87"/>
                  </a:lnTo>
                  <a:lnTo>
                    <a:pt x="151" y="75"/>
                  </a:lnTo>
                  <a:lnTo>
                    <a:pt x="167" y="65"/>
                  </a:lnTo>
                  <a:lnTo>
                    <a:pt x="182" y="54"/>
                  </a:lnTo>
                  <a:lnTo>
                    <a:pt x="198" y="46"/>
                  </a:lnTo>
                  <a:lnTo>
                    <a:pt x="213" y="38"/>
                  </a:lnTo>
                  <a:lnTo>
                    <a:pt x="230" y="29"/>
                  </a:lnTo>
                  <a:lnTo>
                    <a:pt x="248" y="23"/>
                  </a:lnTo>
                  <a:lnTo>
                    <a:pt x="265" y="17"/>
                  </a:lnTo>
                  <a:lnTo>
                    <a:pt x="283" y="12"/>
                  </a:lnTo>
                  <a:lnTo>
                    <a:pt x="301" y="8"/>
                  </a:lnTo>
                  <a:lnTo>
                    <a:pt x="320" y="4"/>
                  </a:lnTo>
                  <a:lnTo>
                    <a:pt x="339" y="2"/>
                  </a:lnTo>
                  <a:lnTo>
                    <a:pt x="359" y="0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e39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92440" y="4175280"/>
              <a:ext cx="297000" cy="296640"/>
            </a:xfrm>
            <a:custGeom>
              <a:avLst/>
              <a:gdLst/>
              <a:ahLst/>
              <a:rect l="l" t="t" r="r" b="b"/>
              <a:pathLst>
                <a:path w="749" h="749">
                  <a:moveTo>
                    <a:pt x="375" y="0"/>
                  </a:moveTo>
                  <a:lnTo>
                    <a:pt x="394" y="0"/>
                  </a:lnTo>
                  <a:lnTo>
                    <a:pt x="413" y="2"/>
                  </a:lnTo>
                  <a:lnTo>
                    <a:pt x="432" y="4"/>
                  </a:lnTo>
                  <a:lnTo>
                    <a:pt x="450" y="8"/>
                  </a:lnTo>
                  <a:lnTo>
                    <a:pt x="468" y="12"/>
                  </a:lnTo>
                  <a:lnTo>
                    <a:pt x="486" y="17"/>
                  </a:lnTo>
                  <a:lnTo>
                    <a:pt x="503" y="23"/>
                  </a:lnTo>
                  <a:lnTo>
                    <a:pt x="520" y="29"/>
                  </a:lnTo>
                  <a:lnTo>
                    <a:pt x="537" y="38"/>
                  </a:lnTo>
                  <a:lnTo>
                    <a:pt x="554" y="46"/>
                  </a:lnTo>
                  <a:lnTo>
                    <a:pt x="569" y="54"/>
                  </a:lnTo>
                  <a:lnTo>
                    <a:pt x="584" y="64"/>
                  </a:lnTo>
                  <a:lnTo>
                    <a:pt x="599" y="75"/>
                  </a:lnTo>
                  <a:lnTo>
                    <a:pt x="612" y="86"/>
                  </a:lnTo>
                  <a:lnTo>
                    <a:pt x="627" y="98"/>
                  </a:lnTo>
                  <a:lnTo>
                    <a:pt x="640" y="110"/>
                  </a:lnTo>
                  <a:lnTo>
                    <a:pt x="652" y="123"/>
                  </a:lnTo>
                  <a:lnTo>
                    <a:pt x="664" y="137"/>
                  </a:lnTo>
                  <a:lnTo>
                    <a:pt x="675" y="150"/>
                  </a:lnTo>
                  <a:lnTo>
                    <a:pt x="686" y="166"/>
                  </a:lnTo>
                  <a:lnTo>
                    <a:pt x="695" y="180"/>
                  </a:lnTo>
                  <a:lnTo>
                    <a:pt x="704" y="196"/>
                  </a:lnTo>
                  <a:lnTo>
                    <a:pt x="712" y="213"/>
                  </a:lnTo>
                  <a:lnTo>
                    <a:pt x="720" y="230"/>
                  </a:lnTo>
                  <a:lnTo>
                    <a:pt x="726" y="246"/>
                  </a:lnTo>
                  <a:lnTo>
                    <a:pt x="732" y="263"/>
                  </a:lnTo>
                  <a:lnTo>
                    <a:pt x="737" y="281"/>
                  </a:lnTo>
                  <a:lnTo>
                    <a:pt x="742" y="299"/>
                  </a:lnTo>
                  <a:lnTo>
                    <a:pt x="746" y="318"/>
                  </a:lnTo>
                  <a:lnTo>
                    <a:pt x="748" y="336"/>
                  </a:lnTo>
                  <a:lnTo>
                    <a:pt x="749" y="356"/>
                  </a:lnTo>
                  <a:lnTo>
                    <a:pt x="749" y="375"/>
                  </a:lnTo>
                  <a:lnTo>
                    <a:pt x="749" y="394"/>
                  </a:lnTo>
                  <a:lnTo>
                    <a:pt x="748" y="413"/>
                  </a:lnTo>
                  <a:lnTo>
                    <a:pt x="746" y="431"/>
                  </a:lnTo>
                  <a:lnTo>
                    <a:pt x="742" y="450"/>
                  </a:lnTo>
                  <a:lnTo>
                    <a:pt x="737" y="468"/>
                  </a:lnTo>
                  <a:lnTo>
                    <a:pt x="732" y="486"/>
                  </a:lnTo>
                  <a:lnTo>
                    <a:pt x="726" y="503"/>
                  </a:lnTo>
                  <a:lnTo>
                    <a:pt x="720" y="520"/>
                  </a:lnTo>
                  <a:lnTo>
                    <a:pt x="712" y="537"/>
                  </a:lnTo>
                  <a:lnTo>
                    <a:pt x="704" y="552"/>
                  </a:lnTo>
                  <a:lnTo>
                    <a:pt x="695" y="569"/>
                  </a:lnTo>
                  <a:lnTo>
                    <a:pt x="686" y="584"/>
                  </a:lnTo>
                  <a:lnTo>
                    <a:pt x="675" y="598"/>
                  </a:lnTo>
                  <a:lnTo>
                    <a:pt x="664" y="612"/>
                  </a:lnTo>
                  <a:lnTo>
                    <a:pt x="652" y="627"/>
                  </a:lnTo>
                  <a:lnTo>
                    <a:pt x="640" y="639"/>
                  </a:lnTo>
                  <a:lnTo>
                    <a:pt x="627" y="652"/>
                  </a:lnTo>
                  <a:lnTo>
                    <a:pt x="612" y="664"/>
                  </a:lnTo>
                  <a:lnTo>
                    <a:pt x="599" y="675"/>
                  </a:lnTo>
                  <a:lnTo>
                    <a:pt x="584" y="685"/>
                  </a:lnTo>
                  <a:lnTo>
                    <a:pt x="569" y="695"/>
                  </a:lnTo>
                  <a:lnTo>
                    <a:pt x="554" y="703"/>
                  </a:lnTo>
                  <a:lnTo>
                    <a:pt x="537" y="712"/>
                  </a:lnTo>
                  <a:lnTo>
                    <a:pt x="520" y="719"/>
                  </a:lnTo>
                  <a:lnTo>
                    <a:pt x="503" y="726"/>
                  </a:lnTo>
                  <a:lnTo>
                    <a:pt x="486" y="732"/>
                  </a:lnTo>
                  <a:lnTo>
                    <a:pt x="468" y="737"/>
                  </a:lnTo>
                  <a:lnTo>
                    <a:pt x="450" y="742"/>
                  </a:lnTo>
                  <a:lnTo>
                    <a:pt x="432" y="744"/>
                  </a:lnTo>
                  <a:lnTo>
                    <a:pt x="413" y="747"/>
                  </a:lnTo>
                  <a:lnTo>
                    <a:pt x="394" y="749"/>
                  </a:lnTo>
                  <a:lnTo>
                    <a:pt x="375" y="749"/>
                  </a:lnTo>
                  <a:lnTo>
                    <a:pt x="356" y="749"/>
                  </a:lnTo>
                  <a:lnTo>
                    <a:pt x="336" y="747"/>
                  </a:lnTo>
                  <a:lnTo>
                    <a:pt x="318" y="744"/>
                  </a:lnTo>
                  <a:lnTo>
                    <a:pt x="299" y="742"/>
                  </a:lnTo>
                  <a:lnTo>
                    <a:pt x="281" y="737"/>
                  </a:lnTo>
                  <a:lnTo>
                    <a:pt x="264" y="732"/>
                  </a:lnTo>
                  <a:lnTo>
                    <a:pt x="246" y="726"/>
                  </a:lnTo>
                  <a:lnTo>
                    <a:pt x="230" y="719"/>
                  </a:lnTo>
                  <a:lnTo>
                    <a:pt x="213" y="712"/>
                  </a:lnTo>
                  <a:lnTo>
                    <a:pt x="197" y="703"/>
                  </a:lnTo>
                  <a:lnTo>
                    <a:pt x="182" y="695"/>
                  </a:lnTo>
                  <a:lnTo>
                    <a:pt x="166" y="685"/>
                  </a:lnTo>
                  <a:lnTo>
                    <a:pt x="152" y="675"/>
                  </a:lnTo>
                  <a:lnTo>
                    <a:pt x="137" y="664"/>
                  </a:lnTo>
                  <a:lnTo>
                    <a:pt x="124" y="652"/>
                  </a:lnTo>
                  <a:lnTo>
                    <a:pt x="111" y="639"/>
                  </a:lnTo>
                  <a:lnTo>
                    <a:pt x="98" y="627"/>
                  </a:lnTo>
                  <a:lnTo>
                    <a:pt x="86" y="612"/>
                  </a:lnTo>
                  <a:lnTo>
                    <a:pt x="75" y="598"/>
                  </a:lnTo>
                  <a:lnTo>
                    <a:pt x="65" y="584"/>
                  </a:lnTo>
                  <a:lnTo>
                    <a:pt x="54" y="569"/>
                  </a:lnTo>
                  <a:lnTo>
                    <a:pt x="46" y="552"/>
                  </a:lnTo>
                  <a:lnTo>
                    <a:pt x="38" y="537"/>
                  </a:lnTo>
                  <a:lnTo>
                    <a:pt x="30" y="520"/>
                  </a:lnTo>
                  <a:lnTo>
                    <a:pt x="23" y="503"/>
                  </a:lnTo>
                  <a:lnTo>
                    <a:pt x="17" y="486"/>
                  </a:lnTo>
                  <a:lnTo>
                    <a:pt x="12" y="468"/>
                  </a:lnTo>
                  <a:lnTo>
                    <a:pt x="8" y="450"/>
                  </a:lnTo>
                  <a:lnTo>
                    <a:pt x="5" y="431"/>
                  </a:lnTo>
                  <a:lnTo>
                    <a:pt x="3" y="413"/>
                  </a:lnTo>
                  <a:lnTo>
                    <a:pt x="0" y="394"/>
                  </a:lnTo>
                  <a:lnTo>
                    <a:pt x="0" y="375"/>
                  </a:lnTo>
                  <a:lnTo>
                    <a:pt x="0" y="356"/>
                  </a:lnTo>
                  <a:lnTo>
                    <a:pt x="3" y="336"/>
                  </a:lnTo>
                  <a:lnTo>
                    <a:pt x="5" y="318"/>
                  </a:lnTo>
                  <a:lnTo>
                    <a:pt x="8" y="299"/>
                  </a:lnTo>
                  <a:lnTo>
                    <a:pt x="12" y="281"/>
                  </a:lnTo>
                  <a:lnTo>
                    <a:pt x="17" y="263"/>
                  </a:lnTo>
                  <a:lnTo>
                    <a:pt x="23" y="246"/>
                  </a:lnTo>
                  <a:lnTo>
                    <a:pt x="30" y="230"/>
                  </a:lnTo>
                  <a:lnTo>
                    <a:pt x="38" y="213"/>
                  </a:lnTo>
                  <a:lnTo>
                    <a:pt x="46" y="196"/>
                  </a:lnTo>
                  <a:lnTo>
                    <a:pt x="54" y="180"/>
                  </a:lnTo>
                  <a:lnTo>
                    <a:pt x="65" y="166"/>
                  </a:lnTo>
                  <a:lnTo>
                    <a:pt x="75" y="150"/>
                  </a:lnTo>
                  <a:lnTo>
                    <a:pt x="86" y="137"/>
                  </a:lnTo>
                  <a:lnTo>
                    <a:pt x="98" y="123"/>
                  </a:lnTo>
                  <a:lnTo>
                    <a:pt x="111" y="110"/>
                  </a:lnTo>
                  <a:lnTo>
                    <a:pt x="124" y="98"/>
                  </a:lnTo>
                  <a:lnTo>
                    <a:pt x="137" y="86"/>
                  </a:lnTo>
                  <a:lnTo>
                    <a:pt x="152" y="75"/>
                  </a:lnTo>
                  <a:lnTo>
                    <a:pt x="166" y="64"/>
                  </a:lnTo>
                  <a:lnTo>
                    <a:pt x="182" y="54"/>
                  </a:lnTo>
                  <a:lnTo>
                    <a:pt x="197" y="46"/>
                  </a:lnTo>
                  <a:lnTo>
                    <a:pt x="213" y="38"/>
                  </a:lnTo>
                  <a:lnTo>
                    <a:pt x="230" y="29"/>
                  </a:lnTo>
                  <a:lnTo>
                    <a:pt x="246" y="23"/>
                  </a:lnTo>
                  <a:lnTo>
                    <a:pt x="264" y="17"/>
                  </a:lnTo>
                  <a:lnTo>
                    <a:pt x="281" y="12"/>
                  </a:lnTo>
                  <a:lnTo>
                    <a:pt x="299" y="8"/>
                  </a:lnTo>
                  <a:lnTo>
                    <a:pt x="318" y="4"/>
                  </a:lnTo>
                  <a:lnTo>
                    <a:pt x="336" y="2"/>
                  </a:lnTo>
                  <a:lnTo>
                    <a:pt x="356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e79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594240" y="4178160"/>
              <a:ext cx="295200" cy="293760"/>
            </a:xfrm>
            <a:custGeom>
              <a:avLst/>
              <a:gdLst/>
              <a:ahLst/>
              <a:rect l="l" t="t" r="r" b="b"/>
              <a:pathLst>
                <a:path w="742" h="742">
                  <a:moveTo>
                    <a:pt x="371" y="0"/>
                  </a:moveTo>
                  <a:lnTo>
                    <a:pt x="389" y="2"/>
                  </a:lnTo>
                  <a:lnTo>
                    <a:pt x="408" y="3"/>
                  </a:lnTo>
                  <a:lnTo>
                    <a:pt x="427" y="5"/>
                  </a:lnTo>
                  <a:lnTo>
                    <a:pt x="445" y="8"/>
                  </a:lnTo>
                  <a:lnTo>
                    <a:pt x="463" y="12"/>
                  </a:lnTo>
                  <a:lnTo>
                    <a:pt x="480" y="17"/>
                  </a:lnTo>
                  <a:lnTo>
                    <a:pt x="498" y="23"/>
                  </a:lnTo>
                  <a:lnTo>
                    <a:pt x="515" y="29"/>
                  </a:lnTo>
                  <a:lnTo>
                    <a:pt x="531" y="38"/>
                  </a:lnTo>
                  <a:lnTo>
                    <a:pt x="547" y="45"/>
                  </a:lnTo>
                  <a:lnTo>
                    <a:pt x="563" y="54"/>
                  </a:lnTo>
                  <a:lnTo>
                    <a:pt x="577" y="64"/>
                  </a:lnTo>
                  <a:lnTo>
                    <a:pt x="592" y="75"/>
                  </a:lnTo>
                  <a:lnTo>
                    <a:pt x="606" y="86"/>
                  </a:lnTo>
                  <a:lnTo>
                    <a:pt x="619" y="98"/>
                  </a:lnTo>
                  <a:lnTo>
                    <a:pt x="633" y="110"/>
                  </a:lnTo>
                  <a:lnTo>
                    <a:pt x="645" y="123"/>
                  </a:lnTo>
                  <a:lnTo>
                    <a:pt x="657" y="136"/>
                  </a:lnTo>
                  <a:lnTo>
                    <a:pt x="667" y="149"/>
                  </a:lnTo>
                  <a:lnTo>
                    <a:pt x="678" y="165"/>
                  </a:lnTo>
                  <a:lnTo>
                    <a:pt x="688" y="179"/>
                  </a:lnTo>
                  <a:lnTo>
                    <a:pt x="696" y="195"/>
                  </a:lnTo>
                  <a:lnTo>
                    <a:pt x="705" y="210"/>
                  </a:lnTo>
                  <a:lnTo>
                    <a:pt x="712" y="227"/>
                  </a:lnTo>
                  <a:lnTo>
                    <a:pt x="719" y="244"/>
                  </a:lnTo>
                  <a:lnTo>
                    <a:pt x="725" y="261"/>
                  </a:lnTo>
                  <a:lnTo>
                    <a:pt x="730" y="279"/>
                  </a:lnTo>
                  <a:lnTo>
                    <a:pt x="733" y="297"/>
                  </a:lnTo>
                  <a:lnTo>
                    <a:pt x="737" y="315"/>
                  </a:lnTo>
                  <a:lnTo>
                    <a:pt x="739" y="334"/>
                  </a:lnTo>
                  <a:lnTo>
                    <a:pt x="741" y="352"/>
                  </a:lnTo>
                  <a:lnTo>
                    <a:pt x="742" y="371"/>
                  </a:lnTo>
                  <a:lnTo>
                    <a:pt x="741" y="390"/>
                  </a:lnTo>
                  <a:lnTo>
                    <a:pt x="739" y="410"/>
                  </a:lnTo>
                  <a:lnTo>
                    <a:pt x="737" y="428"/>
                  </a:lnTo>
                  <a:lnTo>
                    <a:pt x="733" y="446"/>
                  </a:lnTo>
                  <a:lnTo>
                    <a:pt x="730" y="464"/>
                  </a:lnTo>
                  <a:lnTo>
                    <a:pt x="725" y="482"/>
                  </a:lnTo>
                  <a:lnTo>
                    <a:pt x="719" y="498"/>
                  </a:lnTo>
                  <a:lnTo>
                    <a:pt x="712" y="515"/>
                  </a:lnTo>
                  <a:lnTo>
                    <a:pt x="705" y="532"/>
                  </a:lnTo>
                  <a:lnTo>
                    <a:pt x="696" y="548"/>
                  </a:lnTo>
                  <a:lnTo>
                    <a:pt x="688" y="563"/>
                  </a:lnTo>
                  <a:lnTo>
                    <a:pt x="678" y="579"/>
                  </a:lnTo>
                  <a:lnTo>
                    <a:pt x="667" y="593"/>
                  </a:lnTo>
                  <a:lnTo>
                    <a:pt x="657" y="606"/>
                  </a:lnTo>
                  <a:lnTo>
                    <a:pt x="645" y="621"/>
                  </a:lnTo>
                  <a:lnTo>
                    <a:pt x="633" y="633"/>
                  </a:lnTo>
                  <a:lnTo>
                    <a:pt x="619" y="646"/>
                  </a:lnTo>
                  <a:lnTo>
                    <a:pt x="606" y="657"/>
                  </a:lnTo>
                  <a:lnTo>
                    <a:pt x="592" y="669"/>
                  </a:lnTo>
                  <a:lnTo>
                    <a:pt x="577" y="678"/>
                  </a:lnTo>
                  <a:lnTo>
                    <a:pt x="563" y="688"/>
                  </a:lnTo>
                  <a:lnTo>
                    <a:pt x="547" y="697"/>
                  </a:lnTo>
                  <a:lnTo>
                    <a:pt x="531" y="706"/>
                  </a:lnTo>
                  <a:lnTo>
                    <a:pt x="515" y="713"/>
                  </a:lnTo>
                  <a:lnTo>
                    <a:pt x="498" y="719"/>
                  </a:lnTo>
                  <a:lnTo>
                    <a:pt x="480" y="725"/>
                  </a:lnTo>
                  <a:lnTo>
                    <a:pt x="463" y="730"/>
                  </a:lnTo>
                  <a:lnTo>
                    <a:pt x="445" y="735"/>
                  </a:lnTo>
                  <a:lnTo>
                    <a:pt x="427" y="738"/>
                  </a:lnTo>
                  <a:lnTo>
                    <a:pt x="408" y="739"/>
                  </a:lnTo>
                  <a:lnTo>
                    <a:pt x="389" y="742"/>
                  </a:lnTo>
                  <a:lnTo>
                    <a:pt x="371" y="742"/>
                  </a:lnTo>
                  <a:lnTo>
                    <a:pt x="352" y="742"/>
                  </a:lnTo>
                  <a:lnTo>
                    <a:pt x="333" y="739"/>
                  </a:lnTo>
                  <a:lnTo>
                    <a:pt x="315" y="738"/>
                  </a:lnTo>
                  <a:lnTo>
                    <a:pt x="295" y="735"/>
                  </a:lnTo>
                  <a:lnTo>
                    <a:pt x="279" y="730"/>
                  </a:lnTo>
                  <a:lnTo>
                    <a:pt x="261" y="725"/>
                  </a:lnTo>
                  <a:lnTo>
                    <a:pt x="244" y="719"/>
                  </a:lnTo>
                  <a:lnTo>
                    <a:pt x="227" y="713"/>
                  </a:lnTo>
                  <a:lnTo>
                    <a:pt x="210" y="706"/>
                  </a:lnTo>
                  <a:lnTo>
                    <a:pt x="195" y="697"/>
                  </a:lnTo>
                  <a:lnTo>
                    <a:pt x="179" y="688"/>
                  </a:lnTo>
                  <a:lnTo>
                    <a:pt x="163" y="678"/>
                  </a:lnTo>
                  <a:lnTo>
                    <a:pt x="149" y="669"/>
                  </a:lnTo>
                  <a:lnTo>
                    <a:pt x="135" y="657"/>
                  </a:lnTo>
                  <a:lnTo>
                    <a:pt x="121" y="646"/>
                  </a:lnTo>
                  <a:lnTo>
                    <a:pt x="108" y="633"/>
                  </a:lnTo>
                  <a:lnTo>
                    <a:pt x="96" y="621"/>
                  </a:lnTo>
                  <a:lnTo>
                    <a:pt x="84" y="606"/>
                  </a:lnTo>
                  <a:lnTo>
                    <a:pt x="73" y="593"/>
                  </a:lnTo>
                  <a:lnTo>
                    <a:pt x="63" y="579"/>
                  </a:lnTo>
                  <a:lnTo>
                    <a:pt x="53" y="563"/>
                  </a:lnTo>
                  <a:lnTo>
                    <a:pt x="45" y="548"/>
                  </a:lnTo>
                  <a:lnTo>
                    <a:pt x="36" y="532"/>
                  </a:lnTo>
                  <a:lnTo>
                    <a:pt x="29" y="515"/>
                  </a:lnTo>
                  <a:lnTo>
                    <a:pt x="22" y="498"/>
                  </a:lnTo>
                  <a:lnTo>
                    <a:pt x="17" y="482"/>
                  </a:lnTo>
                  <a:lnTo>
                    <a:pt x="11" y="464"/>
                  </a:lnTo>
                  <a:lnTo>
                    <a:pt x="7" y="446"/>
                  </a:lnTo>
                  <a:lnTo>
                    <a:pt x="4" y="428"/>
                  </a:lnTo>
                  <a:lnTo>
                    <a:pt x="1" y="410"/>
                  </a:lnTo>
                  <a:lnTo>
                    <a:pt x="0" y="390"/>
                  </a:lnTo>
                  <a:lnTo>
                    <a:pt x="0" y="371"/>
                  </a:lnTo>
                  <a:lnTo>
                    <a:pt x="0" y="352"/>
                  </a:lnTo>
                  <a:lnTo>
                    <a:pt x="1" y="334"/>
                  </a:lnTo>
                  <a:lnTo>
                    <a:pt x="4" y="315"/>
                  </a:lnTo>
                  <a:lnTo>
                    <a:pt x="7" y="297"/>
                  </a:lnTo>
                  <a:lnTo>
                    <a:pt x="11" y="279"/>
                  </a:lnTo>
                  <a:lnTo>
                    <a:pt x="17" y="261"/>
                  </a:lnTo>
                  <a:lnTo>
                    <a:pt x="22" y="244"/>
                  </a:lnTo>
                  <a:lnTo>
                    <a:pt x="29" y="227"/>
                  </a:lnTo>
                  <a:lnTo>
                    <a:pt x="36" y="210"/>
                  </a:lnTo>
                  <a:lnTo>
                    <a:pt x="45" y="195"/>
                  </a:lnTo>
                  <a:lnTo>
                    <a:pt x="53" y="179"/>
                  </a:lnTo>
                  <a:lnTo>
                    <a:pt x="63" y="165"/>
                  </a:lnTo>
                  <a:lnTo>
                    <a:pt x="73" y="149"/>
                  </a:lnTo>
                  <a:lnTo>
                    <a:pt x="84" y="136"/>
                  </a:lnTo>
                  <a:lnTo>
                    <a:pt x="96" y="123"/>
                  </a:lnTo>
                  <a:lnTo>
                    <a:pt x="108" y="110"/>
                  </a:lnTo>
                  <a:lnTo>
                    <a:pt x="121" y="98"/>
                  </a:lnTo>
                  <a:lnTo>
                    <a:pt x="135" y="86"/>
                  </a:lnTo>
                  <a:lnTo>
                    <a:pt x="149" y="75"/>
                  </a:lnTo>
                  <a:lnTo>
                    <a:pt x="163" y="64"/>
                  </a:lnTo>
                  <a:lnTo>
                    <a:pt x="179" y="54"/>
                  </a:lnTo>
                  <a:lnTo>
                    <a:pt x="195" y="45"/>
                  </a:lnTo>
                  <a:lnTo>
                    <a:pt x="210" y="38"/>
                  </a:lnTo>
                  <a:lnTo>
                    <a:pt x="227" y="29"/>
                  </a:lnTo>
                  <a:lnTo>
                    <a:pt x="244" y="23"/>
                  </a:lnTo>
                  <a:lnTo>
                    <a:pt x="261" y="17"/>
                  </a:lnTo>
                  <a:lnTo>
                    <a:pt x="279" y="12"/>
                  </a:lnTo>
                  <a:lnTo>
                    <a:pt x="295" y="8"/>
                  </a:lnTo>
                  <a:lnTo>
                    <a:pt x="315" y="5"/>
                  </a:lnTo>
                  <a:lnTo>
                    <a:pt x="333" y="3"/>
                  </a:lnTo>
                  <a:lnTo>
                    <a:pt x="352" y="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ec9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595680" y="4179960"/>
              <a:ext cx="291960" cy="291960"/>
            </a:xfrm>
            <a:custGeom>
              <a:avLst/>
              <a:gdLst/>
              <a:ahLst/>
              <a:rect l="l" t="t" r="r" b="b"/>
              <a:pathLst>
                <a:path w="734" h="735">
                  <a:moveTo>
                    <a:pt x="367" y="0"/>
                  </a:moveTo>
                  <a:lnTo>
                    <a:pt x="386" y="2"/>
                  </a:lnTo>
                  <a:lnTo>
                    <a:pt x="404" y="3"/>
                  </a:lnTo>
                  <a:lnTo>
                    <a:pt x="422" y="5"/>
                  </a:lnTo>
                  <a:lnTo>
                    <a:pt x="441" y="9"/>
                  </a:lnTo>
                  <a:lnTo>
                    <a:pt x="458" y="12"/>
                  </a:lnTo>
                  <a:lnTo>
                    <a:pt x="476" y="17"/>
                  </a:lnTo>
                  <a:lnTo>
                    <a:pt x="493" y="23"/>
                  </a:lnTo>
                  <a:lnTo>
                    <a:pt x="510" y="29"/>
                  </a:lnTo>
                  <a:lnTo>
                    <a:pt x="525" y="38"/>
                  </a:lnTo>
                  <a:lnTo>
                    <a:pt x="542" y="45"/>
                  </a:lnTo>
                  <a:lnTo>
                    <a:pt x="557" y="54"/>
                  </a:lnTo>
                  <a:lnTo>
                    <a:pt x="572" y="64"/>
                  </a:lnTo>
                  <a:lnTo>
                    <a:pt x="587" y="74"/>
                  </a:lnTo>
                  <a:lnTo>
                    <a:pt x="600" y="84"/>
                  </a:lnTo>
                  <a:lnTo>
                    <a:pt x="613" y="96"/>
                  </a:lnTo>
                  <a:lnTo>
                    <a:pt x="626" y="108"/>
                  </a:lnTo>
                  <a:lnTo>
                    <a:pt x="638" y="122"/>
                  </a:lnTo>
                  <a:lnTo>
                    <a:pt x="650" y="135"/>
                  </a:lnTo>
                  <a:lnTo>
                    <a:pt x="661" y="148"/>
                  </a:lnTo>
                  <a:lnTo>
                    <a:pt x="672" y="162"/>
                  </a:lnTo>
                  <a:lnTo>
                    <a:pt x="681" y="178"/>
                  </a:lnTo>
                  <a:lnTo>
                    <a:pt x="690" y="194"/>
                  </a:lnTo>
                  <a:lnTo>
                    <a:pt x="698" y="209"/>
                  </a:lnTo>
                  <a:lnTo>
                    <a:pt x="705" y="225"/>
                  </a:lnTo>
                  <a:lnTo>
                    <a:pt x="711" y="242"/>
                  </a:lnTo>
                  <a:lnTo>
                    <a:pt x="717" y="258"/>
                  </a:lnTo>
                  <a:lnTo>
                    <a:pt x="722" y="276"/>
                  </a:lnTo>
                  <a:lnTo>
                    <a:pt x="727" y="294"/>
                  </a:lnTo>
                  <a:lnTo>
                    <a:pt x="729" y="312"/>
                  </a:lnTo>
                  <a:lnTo>
                    <a:pt x="732" y="330"/>
                  </a:lnTo>
                  <a:lnTo>
                    <a:pt x="734" y="350"/>
                  </a:lnTo>
                  <a:lnTo>
                    <a:pt x="734" y="368"/>
                  </a:lnTo>
                  <a:lnTo>
                    <a:pt x="734" y="387"/>
                  </a:lnTo>
                  <a:lnTo>
                    <a:pt x="732" y="405"/>
                  </a:lnTo>
                  <a:lnTo>
                    <a:pt x="729" y="424"/>
                  </a:lnTo>
                  <a:lnTo>
                    <a:pt x="727" y="442"/>
                  </a:lnTo>
                  <a:lnTo>
                    <a:pt x="722" y="460"/>
                  </a:lnTo>
                  <a:lnTo>
                    <a:pt x="717" y="477"/>
                  </a:lnTo>
                  <a:lnTo>
                    <a:pt x="711" y="494"/>
                  </a:lnTo>
                  <a:lnTo>
                    <a:pt x="705" y="510"/>
                  </a:lnTo>
                  <a:lnTo>
                    <a:pt x="698" y="527"/>
                  </a:lnTo>
                  <a:lnTo>
                    <a:pt x="690" y="543"/>
                  </a:lnTo>
                  <a:lnTo>
                    <a:pt x="681" y="558"/>
                  </a:lnTo>
                  <a:lnTo>
                    <a:pt x="672" y="573"/>
                  </a:lnTo>
                  <a:lnTo>
                    <a:pt x="661" y="587"/>
                  </a:lnTo>
                  <a:lnTo>
                    <a:pt x="650" y="602"/>
                  </a:lnTo>
                  <a:lnTo>
                    <a:pt x="638" y="615"/>
                  </a:lnTo>
                  <a:lnTo>
                    <a:pt x="626" y="627"/>
                  </a:lnTo>
                  <a:lnTo>
                    <a:pt x="613" y="639"/>
                  </a:lnTo>
                  <a:lnTo>
                    <a:pt x="600" y="651"/>
                  </a:lnTo>
                  <a:lnTo>
                    <a:pt x="587" y="661"/>
                  </a:lnTo>
                  <a:lnTo>
                    <a:pt x="572" y="672"/>
                  </a:lnTo>
                  <a:lnTo>
                    <a:pt x="557" y="682"/>
                  </a:lnTo>
                  <a:lnTo>
                    <a:pt x="542" y="690"/>
                  </a:lnTo>
                  <a:lnTo>
                    <a:pt x="525" y="699"/>
                  </a:lnTo>
                  <a:lnTo>
                    <a:pt x="510" y="706"/>
                  </a:lnTo>
                  <a:lnTo>
                    <a:pt x="493" y="713"/>
                  </a:lnTo>
                  <a:lnTo>
                    <a:pt x="476" y="718"/>
                  </a:lnTo>
                  <a:lnTo>
                    <a:pt x="458" y="723"/>
                  </a:lnTo>
                  <a:lnTo>
                    <a:pt x="441" y="727"/>
                  </a:lnTo>
                  <a:lnTo>
                    <a:pt x="422" y="731"/>
                  </a:lnTo>
                  <a:lnTo>
                    <a:pt x="404" y="733"/>
                  </a:lnTo>
                  <a:lnTo>
                    <a:pt x="386" y="735"/>
                  </a:lnTo>
                  <a:lnTo>
                    <a:pt x="367" y="735"/>
                  </a:lnTo>
                  <a:lnTo>
                    <a:pt x="348" y="735"/>
                  </a:lnTo>
                  <a:lnTo>
                    <a:pt x="330" y="733"/>
                  </a:lnTo>
                  <a:lnTo>
                    <a:pt x="312" y="731"/>
                  </a:lnTo>
                  <a:lnTo>
                    <a:pt x="294" y="727"/>
                  </a:lnTo>
                  <a:lnTo>
                    <a:pt x="276" y="723"/>
                  </a:lnTo>
                  <a:lnTo>
                    <a:pt x="258" y="718"/>
                  </a:lnTo>
                  <a:lnTo>
                    <a:pt x="241" y="713"/>
                  </a:lnTo>
                  <a:lnTo>
                    <a:pt x="224" y="706"/>
                  </a:lnTo>
                  <a:lnTo>
                    <a:pt x="209" y="699"/>
                  </a:lnTo>
                  <a:lnTo>
                    <a:pt x="192" y="690"/>
                  </a:lnTo>
                  <a:lnTo>
                    <a:pt x="177" y="682"/>
                  </a:lnTo>
                  <a:lnTo>
                    <a:pt x="162" y="672"/>
                  </a:lnTo>
                  <a:lnTo>
                    <a:pt x="147" y="661"/>
                  </a:lnTo>
                  <a:lnTo>
                    <a:pt x="134" y="651"/>
                  </a:lnTo>
                  <a:lnTo>
                    <a:pt x="121" y="639"/>
                  </a:lnTo>
                  <a:lnTo>
                    <a:pt x="108" y="627"/>
                  </a:lnTo>
                  <a:lnTo>
                    <a:pt x="96" y="615"/>
                  </a:lnTo>
                  <a:lnTo>
                    <a:pt x="84" y="602"/>
                  </a:lnTo>
                  <a:lnTo>
                    <a:pt x="73" y="587"/>
                  </a:lnTo>
                  <a:lnTo>
                    <a:pt x="62" y="573"/>
                  </a:lnTo>
                  <a:lnTo>
                    <a:pt x="54" y="558"/>
                  </a:lnTo>
                  <a:lnTo>
                    <a:pt x="44" y="543"/>
                  </a:lnTo>
                  <a:lnTo>
                    <a:pt x="36" y="527"/>
                  </a:lnTo>
                  <a:lnTo>
                    <a:pt x="29" y="510"/>
                  </a:lnTo>
                  <a:lnTo>
                    <a:pt x="23" y="494"/>
                  </a:lnTo>
                  <a:lnTo>
                    <a:pt x="17" y="477"/>
                  </a:lnTo>
                  <a:lnTo>
                    <a:pt x="12" y="460"/>
                  </a:lnTo>
                  <a:lnTo>
                    <a:pt x="7" y="442"/>
                  </a:lnTo>
                  <a:lnTo>
                    <a:pt x="5" y="424"/>
                  </a:lnTo>
                  <a:lnTo>
                    <a:pt x="2" y="405"/>
                  </a:lnTo>
                  <a:lnTo>
                    <a:pt x="1" y="387"/>
                  </a:lnTo>
                  <a:lnTo>
                    <a:pt x="0" y="368"/>
                  </a:lnTo>
                  <a:lnTo>
                    <a:pt x="1" y="350"/>
                  </a:lnTo>
                  <a:lnTo>
                    <a:pt x="2" y="330"/>
                  </a:lnTo>
                  <a:lnTo>
                    <a:pt x="5" y="312"/>
                  </a:lnTo>
                  <a:lnTo>
                    <a:pt x="7" y="294"/>
                  </a:lnTo>
                  <a:lnTo>
                    <a:pt x="12" y="276"/>
                  </a:lnTo>
                  <a:lnTo>
                    <a:pt x="17" y="258"/>
                  </a:lnTo>
                  <a:lnTo>
                    <a:pt x="23" y="242"/>
                  </a:lnTo>
                  <a:lnTo>
                    <a:pt x="29" y="225"/>
                  </a:lnTo>
                  <a:lnTo>
                    <a:pt x="36" y="209"/>
                  </a:lnTo>
                  <a:lnTo>
                    <a:pt x="44" y="194"/>
                  </a:lnTo>
                  <a:lnTo>
                    <a:pt x="54" y="178"/>
                  </a:lnTo>
                  <a:lnTo>
                    <a:pt x="62" y="162"/>
                  </a:lnTo>
                  <a:lnTo>
                    <a:pt x="73" y="148"/>
                  </a:lnTo>
                  <a:lnTo>
                    <a:pt x="84" y="135"/>
                  </a:lnTo>
                  <a:lnTo>
                    <a:pt x="96" y="122"/>
                  </a:lnTo>
                  <a:lnTo>
                    <a:pt x="108" y="108"/>
                  </a:lnTo>
                  <a:lnTo>
                    <a:pt x="121" y="96"/>
                  </a:lnTo>
                  <a:lnTo>
                    <a:pt x="134" y="84"/>
                  </a:lnTo>
                  <a:lnTo>
                    <a:pt x="147" y="74"/>
                  </a:lnTo>
                  <a:lnTo>
                    <a:pt x="162" y="64"/>
                  </a:lnTo>
                  <a:lnTo>
                    <a:pt x="177" y="54"/>
                  </a:lnTo>
                  <a:lnTo>
                    <a:pt x="192" y="45"/>
                  </a:lnTo>
                  <a:lnTo>
                    <a:pt x="209" y="38"/>
                  </a:lnTo>
                  <a:lnTo>
                    <a:pt x="224" y="29"/>
                  </a:lnTo>
                  <a:lnTo>
                    <a:pt x="241" y="23"/>
                  </a:lnTo>
                  <a:lnTo>
                    <a:pt x="258" y="17"/>
                  </a:lnTo>
                  <a:lnTo>
                    <a:pt x="276" y="12"/>
                  </a:lnTo>
                  <a:lnTo>
                    <a:pt x="294" y="9"/>
                  </a:lnTo>
                  <a:lnTo>
                    <a:pt x="312" y="5"/>
                  </a:lnTo>
                  <a:lnTo>
                    <a:pt x="330" y="3"/>
                  </a:lnTo>
                  <a:lnTo>
                    <a:pt x="348" y="2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f2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610080" y="4200480"/>
              <a:ext cx="257040" cy="258840"/>
            </a:xfrm>
            <a:custGeom>
              <a:avLst/>
              <a:gdLst/>
              <a:ahLst/>
              <a:rect l="l" t="t" r="r" b="b"/>
              <a:pathLst>
                <a:path w="651" h="651">
                  <a:moveTo>
                    <a:pt x="326" y="0"/>
                  </a:moveTo>
                  <a:lnTo>
                    <a:pt x="342" y="0"/>
                  </a:lnTo>
                  <a:lnTo>
                    <a:pt x="359" y="1"/>
                  </a:lnTo>
                  <a:lnTo>
                    <a:pt x="375" y="3"/>
                  </a:lnTo>
                  <a:lnTo>
                    <a:pt x="392" y="6"/>
                  </a:lnTo>
                  <a:lnTo>
                    <a:pt x="407" y="9"/>
                  </a:lnTo>
                  <a:lnTo>
                    <a:pt x="422" y="14"/>
                  </a:lnTo>
                  <a:lnTo>
                    <a:pt x="437" y="19"/>
                  </a:lnTo>
                  <a:lnTo>
                    <a:pt x="452" y="25"/>
                  </a:lnTo>
                  <a:lnTo>
                    <a:pt x="466" y="32"/>
                  </a:lnTo>
                  <a:lnTo>
                    <a:pt x="480" y="39"/>
                  </a:lnTo>
                  <a:lnTo>
                    <a:pt x="494" y="47"/>
                  </a:lnTo>
                  <a:lnTo>
                    <a:pt x="508" y="55"/>
                  </a:lnTo>
                  <a:lnTo>
                    <a:pt x="520" y="65"/>
                  </a:lnTo>
                  <a:lnTo>
                    <a:pt x="532" y="74"/>
                  </a:lnTo>
                  <a:lnTo>
                    <a:pt x="544" y="85"/>
                  </a:lnTo>
                  <a:lnTo>
                    <a:pt x="556" y="96"/>
                  </a:lnTo>
                  <a:lnTo>
                    <a:pt x="567" y="107"/>
                  </a:lnTo>
                  <a:lnTo>
                    <a:pt x="576" y="119"/>
                  </a:lnTo>
                  <a:lnTo>
                    <a:pt x="586" y="131"/>
                  </a:lnTo>
                  <a:lnTo>
                    <a:pt x="596" y="144"/>
                  </a:lnTo>
                  <a:lnTo>
                    <a:pt x="604" y="157"/>
                  </a:lnTo>
                  <a:lnTo>
                    <a:pt x="612" y="170"/>
                  </a:lnTo>
                  <a:lnTo>
                    <a:pt x="620" y="185"/>
                  </a:lnTo>
                  <a:lnTo>
                    <a:pt x="626" y="199"/>
                  </a:lnTo>
                  <a:lnTo>
                    <a:pt x="632" y="213"/>
                  </a:lnTo>
                  <a:lnTo>
                    <a:pt x="636" y="229"/>
                  </a:lnTo>
                  <a:lnTo>
                    <a:pt x="641" y="245"/>
                  </a:lnTo>
                  <a:lnTo>
                    <a:pt x="645" y="260"/>
                  </a:lnTo>
                  <a:lnTo>
                    <a:pt x="647" y="276"/>
                  </a:lnTo>
                  <a:lnTo>
                    <a:pt x="650" y="293"/>
                  </a:lnTo>
                  <a:lnTo>
                    <a:pt x="651" y="308"/>
                  </a:lnTo>
                  <a:lnTo>
                    <a:pt x="651" y="325"/>
                  </a:lnTo>
                  <a:lnTo>
                    <a:pt x="651" y="342"/>
                  </a:lnTo>
                  <a:lnTo>
                    <a:pt x="650" y="359"/>
                  </a:lnTo>
                  <a:lnTo>
                    <a:pt x="647" y="375"/>
                  </a:lnTo>
                  <a:lnTo>
                    <a:pt x="645" y="391"/>
                  </a:lnTo>
                  <a:lnTo>
                    <a:pt x="641" y="407"/>
                  </a:lnTo>
                  <a:lnTo>
                    <a:pt x="636" y="422"/>
                  </a:lnTo>
                  <a:lnTo>
                    <a:pt x="632" y="437"/>
                  </a:lnTo>
                  <a:lnTo>
                    <a:pt x="626" y="452"/>
                  </a:lnTo>
                  <a:lnTo>
                    <a:pt x="620" y="467"/>
                  </a:lnTo>
                  <a:lnTo>
                    <a:pt x="612" y="481"/>
                  </a:lnTo>
                  <a:lnTo>
                    <a:pt x="604" y="494"/>
                  </a:lnTo>
                  <a:lnTo>
                    <a:pt x="596" y="507"/>
                  </a:lnTo>
                  <a:lnTo>
                    <a:pt x="586" y="521"/>
                  </a:lnTo>
                  <a:lnTo>
                    <a:pt x="576" y="533"/>
                  </a:lnTo>
                  <a:lnTo>
                    <a:pt x="567" y="545"/>
                  </a:lnTo>
                  <a:lnTo>
                    <a:pt x="556" y="555"/>
                  </a:lnTo>
                  <a:lnTo>
                    <a:pt x="544" y="566"/>
                  </a:lnTo>
                  <a:lnTo>
                    <a:pt x="532" y="577"/>
                  </a:lnTo>
                  <a:lnTo>
                    <a:pt x="520" y="586"/>
                  </a:lnTo>
                  <a:lnTo>
                    <a:pt x="508" y="595"/>
                  </a:lnTo>
                  <a:lnTo>
                    <a:pt x="494" y="603"/>
                  </a:lnTo>
                  <a:lnTo>
                    <a:pt x="480" y="612"/>
                  </a:lnTo>
                  <a:lnTo>
                    <a:pt x="466" y="619"/>
                  </a:lnTo>
                  <a:lnTo>
                    <a:pt x="452" y="625"/>
                  </a:lnTo>
                  <a:lnTo>
                    <a:pt x="437" y="631"/>
                  </a:lnTo>
                  <a:lnTo>
                    <a:pt x="422" y="637"/>
                  </a:lnTo>
                  <a:lnTo>
                    <a:pt x="407" y="640"/>
                  </a:lnTo>
                  <a:lnTo>
                    <a:pt x="392" y="644"/>
                  </a:lnTo>
                  <a:lnTo>
                    <a:pt x="375" y="648"/>
                  </a:lnTo>
                  <a:lnTo>
                    <a:pt x="359" y="649"/>
                  </a:lnTo>
                  <a:lnTo>
                    <a:pt x="342" y="650"/>
                  </a:lnTo>
                  <a:lnTo>
                    <a:pt x="326" y="651"/>
                  </a:lnTo>
                  <a:lnTo>
                    <a:pt x="309" y="650"/>
                  </a:lnTo>
                  <a:lnTo>
                    <a:pt x="292" y="649"/>
                  </a:lnTo>
                  <a:lnTo>
                    <a:pt x="276" y="648"/>
                  </a:lnTo>
                  <a:lnTo>
                    <a:pt x="260" y="644"/>
                  </a:lnTo>
                  <a:lnTo>
                    <a:pt x="244" y="640"/>
                  </a:lnTo>
                  <a:lnTo>
                    <a:pt x="228" y="637"/>
                  </a:lnTo>
                  <a:lnTo>
                    <a:pt x="214" y="631"/>
                  </a:lnTo>
                  <a:lnTo>
                    <a:pt x="198" y="625"/>
                  </a:lnTo>
                  <a:lnTo>
                    <a:pt x="184" y="619"/>
                  </a:lnTo>
                  <a:lnTo>
                    <a:pt x="171" y="612"/>
                  </a:lnTo>
                  <a:lnTo>
                    <a:pt x="156" y="603"/>
                  </a:lnTo>
                  <a:lnTo>
                    <a:pt x="143" y="595"/>
                  </a:lnTo>
                  <a:lnTo>
                    <a:pt x="131" y="586"/>
                  </a:lnTo>
                  <a:lnTo>
                    <a:pt x="118" y="577"/>
                  </a:lnTo>
                  <a:lnTo>
                    <a:pt x="107" y="566"/>
                  </a:lnTo>
                  <a:lnTo>
                    <a:pt x="95" y="555"/>
                  </a:lnTo>
                  <a:lnTo>
                    <a:pt x="84" y="545"/>
                  </a:lnTo>
                  <a:lnTo>
                    <a:pt x="75" y="533"/>
                  </a:lnTo>
                  <a:lnTo>
                    <a:pt x="65" y="521"/>
                  </a:lnTo>
                  <a:lnTo>
                    <a:pt x="56" y="507"/>
                  </a:lnTo>
                  <a:lnTo>
                    <a:pt x="47" y="494"/>
                  </a:lnTo>
                  <a:lnTo>
                    <a:pt x="39" y="481"/>
                  </a:lnTo>
                  <a:lnTo>
                    <a:pt x="32" y="467"/>
                  </a:lnTo>
                  <a:lnTo>
                    <a:pt x="26" y="452"/>
                  </a:lnTo>
                  <a:lnTo>
                    <a:pt x="20" y="437"/>
                  </a:lnTo>
                  <a:lnTo>
                    <a:pt x="15" y="422"/>
                  </a:lnTo>
                  <a:lnTo>
                    <a:pt x="10" y="407"/>
                  </a:lnTo>
                  <a:lnTo>
                    <a:pt x="6" y="391"/>
                  </a:lnTo>
                  <a:lnTo>
                    <a:pt x="4" y="375"/>
                  </a:lnTo>
                  <a:lnTo>
                    <a:pt x="2" y="359"/>
                  </a:lnTo>
                  <a:lnTo>
                    <a:pt x="0" y="342"/>
                  </a:lnTo>
                  <a:lnTo>
                    <a:pt x="0" y="325"/>
                  </a:lnTo>
                  <a:lnTo>
                    <a:pt x="0" y="308"/>
                  </a:lnTo>
                  <a:lnTo>
                    <a:pt x="2" y="293"/>
                  </a:lnTo>
                  <a:lnTo>
                    <a:pt x="4" y="276"/>
                  </a:lnTo>
                  <a:lnTo>
                    <a:pt x="6" y="260"/>
                  </a:lnTo>
                  <a:lnTo>
                    <a:pt x="10" y="245"/>
                  </a:lnTo>
                  <a:lnTo>
                    <a:pt x="15" y="229"/>
                  </a:lnTo>
                  <a:lnTo>
                    <a:pt x="20" y="213"/>
                  </a:lnTo>
                  <a:lnTo>
                    <a:pt x="26" y="199"/>
                  </a:lnTo>
                  <a:lnTo>
                    <a:pt x="32" y="185"/>
                  </a:lnTo>
                  <a:lnTo>
                    <a:pt x="39" y="170"/>
                  </a:lnTo>
                  <a:lnTo>
                    <a:pt x="47" y="157"/>
                  </a:lnTo>
                  <a:lnTo>
                    <a:pt x="56" y="144"/>
                  </a:lnTo>
                  <a:lnTo>
                    <a:pt x="65" y="131"/>
                  </a:lnTo>
                  <a:lnTo>
                    <a:pt x="75" y="119"/>
                  </a:lnTo>
                  <a:lnTo>
                    <a:pt x="84" y="107"/>
                  </a:lnTo>
                  <a:lnTo>
                    <a:pt x="95" y="96"/>
                  </a:lnTo>
                  <a:lnTo>
                    <a:pt x="107" y="85"/>
                  </a:lnTo>
                  <a:lnTo>
                    <a:pt x="118" y="74"/>
                  </a:lnTo>
                  <a:lnTo>
                    <a:pt x="131" y="65"/>
                  </a:lnTo>
                  <a:lnTo>
                    <a:pt x="143" y="55"/>
                  </a:lnTo>
                  <a:lnTo>
                    <a:pt x="156" y="47"/>
                  </a:lnTo>
                  <a:lnTo>
                    <a:pt x="171" y="39"/>
                  </a:lnTo>
                  <a:lnTo>
                    <a:pt x="184" y="32"/>
                  </a:lnTo>
                  <a:lnTo>
                    <a:pt x="198" y="25"/>
                  </a:lnTo>
                  <a:lnTo>
                    <a:pt x="214" y="19"/>
                  </a:lnTo>
                  <a:lnTo>
                    <a:pt x="228" y="14"/>
                  </a:lnTo>
                  <a:lnTo>
                    <a:pt x="244" y="9"/>
                  </a:lnTo>
                  <a:lnTo>
                    <a:pt x="260" y="6"/>
                  </a:lnTo>
                  <a:lnTo>
                    <a:pt x="276" y="3"/>
                  </a:lnTo>
                  <a:lnTo>
                    <a:pt x="292" y="1"/>
                  </a:lnTo>
                  <a:lnTo>
                    <a:pt x="309" y="0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92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38600" y="4192560"/>
              <a:ext cx="136440" cy="136440"/>
            </a:xfrm>
            <a:custGeom>
              <a:avLst/>
              <a:gdLst/>
              <a:ahLst/>
              <a:rect l="l" t="t" r="r" b="b"/>
              <a:pathLst>
                <a:path w="343" h="343">
                  <a:moveTo>
                    <a:pt x="343" y="343"/>
                  </a:moveTo>
                  <a:lnTo>
                    <a:pt x="343" y="343"/>
                  </a:lnTo>
                  <a:lnTo>
                    <a:pt x="342" y="326"/>
                  </a:lnTo>
                  <a:lnTo>
                    <a:pt x="340" y="308"/>
                  </a:lnTo>
                  <a:lnTo>
                    <a:pt x="339" y="291"/>
                  </a:lnTo>
                  <a:lnTo>
                    <a:pt x="336" y="275"/>
                  </a:lnTo>
                  <a:lnTo>
                    <a:pt x="332" y="258"/>
                  </a:lnTo>
                  <a:lnTo>
                    <a:pt x="327" y="241"/>
                  </a:lnTo>
                  <a:lnTo>
                    <a:pt x="321" y="225"/>
                  </a:lnTo>
                  <a:lnTo>
                    <a:pt x="315" y="210"/>
                  </a:lnTo>
                  <a:lnTo>
                    <a:pt x="309" y="195"/>
                  </a:lnTo>
                  <a:lnTo>
                    <a:pt x="301" y="180"/>
                  </a:lnTo>
                  <a:lnTo>
                    <a:pt x="292" y="165"/>
                  </a:lnTo>
                  <a:lnTo>
                    <a:pt x="284" y="152"/>
                  </a:lnTo>
                  <a:lnTo>
                    <a:pt x="274" y="138"/>
                  </a:lnTo>
                  <a:lnTo>
                    <a:pt x="264" y="126"/>
                  </a:lnTo>
                  <a:lnTo>
                    <a:pt x="253" y="113"/>
                  </a:lnTo>
                  <a:lnTo>
                    <a:pt x="242" y="101"/>
                  </a:lnTo>
                  <a:lnTo>
                    <a:pt x="230" y="90"/>
                  </a:lnTo>
                  <a:lnTo>
                    <a:pt x="218" y="79"/>
                  </a:lnTo>
                  <a:lnTo>
                    <a:pt x="205" y="68"/>
                  </a:lnTo>
                  <a:lnTo>
                    <a:pt x="192" y="59"/>
                  </a:lnTo>
                  <a:lnTo>
                    <a:pt x="177" y="50"/>
                  </a:lnTo>
                  <a:lnTo>
                    <a:pt x="163" y="42"/>
                  </a:lnTo>
                  <a:lnTo>
                    <a:pt x="148" y="35"/>
                  </a:lnTo>
                  <a:lnTo>
                    <a:pt x="133" y="27"/>
                  </a:lnTo>
                  <a:lnTo>
                    <a:pt x="117" y="21"/>
                  </a:lnTo>
                  <a:lnTo>
                    <a:pt x="102" y="15"/>
                  </a:lnTo>
                  <a:lnTo>
                    <a:pt x="85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4" y="2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5" y="36"/>
                  </a:lnTo>
                  <a:lnTo>
                    <a:pt x="31" y="37"/>
                  </a:lnTo>
                  <a:lnTo>
                    <a:pt x="46" y="38"/>
                  </a:lnTo>
                  <a:lnTo>
                    <a:pt x="62" y="42"/>
                  </a:lnTo>
                  <a:lnTo>
                    <a:pt x="76" y="44"/>
                  </a:lnTo>
                  <a:lnTo>
                    <a:pt x="91" y="49"/>
                  </a:lnTo>
                  <a:lnTo>
                    <a:pt x="105" y="54"/>
                  </a:lnTo>
                  <a:lnTo>
                    <a:pt x="120" y="60"/>
                  </a:lnTo>
                  <a:lnTo>
                    <a:pt x="133" y="66"/>
                  </a:lnTo>
                  <a:lnTo>
                    <a:pt x="146" y="72"/>
                  </a:lnTo>
                  <a:lnTo>
                    <a:pt x="159" y="80"/>
                  </a:lnTo>
                  <a:lnTo>
                    <a:pt x="171" y="87"/>
                  </a:lnTo>
                  <a:lnTo>
                    <a:pt x="183" y="96"/>
                  </a:lnTo>
                  <a:lnTo>
                    <a:pt x="195" y="105"/>
                  </a:lnTo>
                  <a:lnTo>
                    <a:pt x="207" y="115"/>
                  </a:lnTo>
                  <a:lnTo>
                    <a:pt x="217" y="126"/>
                  </a:lnTo>
                  <a:lnTo>
                    <a:pt x="228" y="137"/>
                  </a:lnTo>
                  <a:lnTo>
                    <a:pt x="237" y="147"/>
                  </a:lnTo>
                  <a:lnTo>
                    <a:pt x="247" y="159"/>
                  </a:lnTo>
                  <a:lnTo>
                    <a:pt x="255" y="171"/>
                  </a:lnTo>
                  <a:lnTo>
                    <a:pt x="264" y="183"/>
                  </a:lnTo>
                  <a:lnTo>
                    <a:pt x="271" y="197"/>
                  </a:lnTo>
                  <a:lnTo>
                    <a:pt x="277" y="210"/>
                  </a:lnTo>
                  <a:lnTo>
                    <a:pt x="284" y="223"/>
                  </a:lnTo>
                  <a:lnTo>
                    <a:pt x="289" y="237"/>
                  </a:lnTo>
                  <a:lnTo>
                    <a:pt x="294" y="252"/>
                  </a:lnTo>
                  <a:lnTo>
                    <a:pt x="298" y="266"/>
                  </a:lnTo>
                  <a:lnTo>
                    <a:pt x="302" y="282"/>
                  </a:lnTo>
                  <a:lnTo>
                    <a:pt x="304" y="296"/>
                  </a:lnTo>
                  <a:lnTo>
                    <a:pt x="307" y="312"/>
                  </a:lnTo>
                  <a:lnTo>
                    <a:pt x="308" y="327"/>
                  </a:lnTo>
                  <a:lnTo>
                    <a:pt x="308" y="343"/>
                  </a:lnTo>
                  <a:lnTo>
                    <a:pt x="308" y="343"/>
                  </a:lnTo>
                  <a:lnTo>
                    <a:pt x="343" y="34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38600" y="4329000"/>
              <a:ext cx="136440" cy="136800"/>
            </a:xfrm>
            <a:custGeom>
              <a:avLst/>
              <a:gdLst/>
              <a:ahLst/>
              <a:rect l="l" t="t" r="r" b="b"/>
              <a:pathLst>
                <a:path w="343" h="343">
                  <a:moveTo>
                    <a:pt x="0" y="343"/>
                  </a:moveTo>
                  <a:lnTo>
                    <a:pt x="0" y="343"/>
                  </a:lnTo>
                  <a:lnTo>
                    <a:pt x="18" y="343"/>
                  </a:lnTo>
                  <a:lnTo>
                    <a:pt x="34" y="342"/>
                  </a:lnTo>
                  <a:lnTo>
                    <a:pt x="51" y="339"/>
                  </a:lnTo>
                  <a:lnTo>
                    <a:pt x="68" y="336"/>
                  </a:lnTo>
                  <a:lnTo>
                    <a:pt x="85" y="332"/>
                  </a:lnTo>
                  <a:lnTo>
                    <a:pt x="102" y="327"/>
                  </a:lnTo>
                  <a:lnTo>
                    <a:pt x="117" y="323"/>
                  </a:lnTo>
                  <a:lnTo>
                    <a:pt x="133" y="317"/>
                  </a:lnTo>
                  <a:lnTo>
                    <a:pt x="148" y="309"/>
                  </a:lnTo>
                  <a:lnTo>
                    <a:pt x="163" y="302"/>
                  </a:lnTo>
                  <a:lnTo>
                    <a:pt x="177" y="294"/>
                  </a:lnTo>
                  <a:lnTo>
                    <a:pt x="192" y="284"/>
                  </a:lnTo>
                  <a:lnTo>
                    <a:pt x="205" y="275"/>
                  </a:lnTo>
                  <a:lnTo>
                    <a:pt x="218" y="265"/>
                  </a:lnTo>
                  <a:lnTo>
                    <a:pt x="230" y="254"/>
                  </a:lnTo>
                  <a:lnTo>
                    <a:pt x="242" y="242"/>
                  </a:lnTo>
                  <a:lnTo>
                    <a:pt x="253" y="230"/>
                  </a:lnTo>
                  <a:lnTo>
                    <a:pt x="264" y="218"/>
                  </a:lnTo>
                  <a:lnTo>
                    <a:pt x="274" y="205"/>
                  </a:lnTo>
                  <a:lnTo>
                    <a:pt x="284" y="192"/>
                  </a:lnTo>
                  <a:lnTo>
                    <a:pt x="292" y="178"/>
                  </a:lnTo>
                  <a:lnTo>
                    <a:pt x="301" y="163"/>
                  </a:lnTo>
                  <a:lnTo>
                    <a:pt x="309" y="149"/>
                  </a:lnTo>
                  <a:lnTo>
                    <a:pt x="315" y="133"/>
                  </a:lnTo>
                  <a:lnTo>
                    <a:pt x="321" y="118"/>
                  </a:lnTo>
                  <a:lnTo>
                    <a:pt x="327" y="102"/>
                  </a:lnTo>
                  <a:lnTo>
                    <a:pt x="332" y="86"/>
                  </a:lnTo>
                  <a:lnTo>
                    <a:pt x="336" y="70"/>
                  </a:lnTo>
                  <a:lnTo>
                    <a:pt x="339" y="53"/>
                  </a:lnTo>
                  <a:lnTo>
                    <a:pt x="340" y="35"/>
                  </a:lnTo>
                  <a:lnTo>
                    <a:pt x="342" y="18"/>
                  </a:lnTo>
                  <a:lnTo>
                    <a:pt x="343" y="0"/>
                  </a:lnTo>
                  <a:lnTo>
                    <a:pt x="308" y="0"/>
                  </a:lnTo>
                  <a:lnTo>
                    <a:pt x="308" y="17"/>
                  </a:lnTo>
                  <a:lnTo>
                    <a:pt x="307" y="32"/>
                  </a:lnTo>
                  <a:lnTo>
                    <a:pt x="304" y="47"/>
                  </a:lnTo>
                  <a:lnTo>
                    <a:pt x="302" y="62"/>
                  </a:lnTo>
                  <a:lnTo>
                    <a:pt x="298" y="77"/>
                  </a:lnTo>
                  <a:lnTo>
                    <a:pt x="294" y="92"/>
                  </a:lnTo>
                  <a:lnTo>
                    <a:pt x="289" y="106"/>
                  </a:lnTo>
                  <a:lnTo>
                    <a:pt x="284" y="120"/>
                  </a:lnTo>
                  <a:lnTo>
                    <a:pt x="277" y="134"/>
                  </a:lnTo>
                  <a:lnTo>
                    <a:pt x="271" y="148"/>
                  </a:lnTo>
                  <a:lnTo>
                    <a:pt x="264" y="160"/>
                  </a:lnTo>
                  <a:lnTo>
                    <a:pt x="255" y="173"/>
                  </a:lnTo>
                  <a:lnTo>
                    <a:pt x="247" y="185"/>
                  </a:lnTo>
                  <a:lnTo>
                    <a:pt x="237" y="197"/>
                  </a:lnTo>
                  <a:lnTo>
                    <a:pt x="228" y="208"/>
                  </a:lnTo>
                  <a:lnTo>
                    <a:pt x="217" y="218"/>
                  </a:lnTo>
                  <a:lnTo>
                    <a:pt x="207" y="228"/>
                  </a:lnTo>
                  <a:lnTo>
                    <a:pt x="195" y="238"/>
                  </a:lnTo>
                  <a:lnTo>
                    <a:pt x="183" y="247"/>
                  </a:lnTo>
                  <a:lnTo>
                    <a:pt x="171" y="255"/>
                  </a:lnTo>
                  <a:lnTo>
                    <a:pt x="159" y="264"/>
                  </a:lnTo>
                  <a:lnTo>
                    <a:pt x="146" y="271"/>
                  </a:lnTo>
                  <a:lnTo>
                    <a:pt x="133" y="278"/>
                  </a:lnTo>
                  <a:lnTo>
                    <a:pt x="120" y="284"/>
                  </a:lnTo>
                  <a:lnTo>
                    <a:pt x="105" y="290"/>
                  </a:lnTo>
                  <a:lnTo>
                    <a:pt x="91" y="295"/>
                  </a:lnTo>
                  <a:lnTo>
                    <a:pt x="76" y="299"/>
                  </a:lnTo>
                  <a:lnTo>
                    <a:pt x="62" y="302"/>
                  </a:lnTo>
                  <a:lnTo>
                    <a:pt x="46" y="305"/>
                  </a:lnTo>
                  <a:lnTo>
                    <a:pt x="31" y="307"/>
                  </a:lnTo>
                  <a:lnTo>
                    <a:pt x="15" y="308"/>
                  </a:lnTo>
                  <a:lnTo>
                    <a:pt x="0" y="308"/>
                  </a:lnTo>
                  <a:lnTo>
                    <a:pt x="0" y="308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02160" y="4329000"/>
              <a:ext cx="136440" cy="136800"/>
            </a:xfrm>
            <a:custGeom>
              <a:avLst/>
              <a:gdLst/>
              <a:ahLst/>
              <a:rect l="l" t="t" r="r" b="b"/>
              <a:pathLst>
                <a:path w="344" h="343">
                  <a:moveTo>
                    <a:pt x="0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" y="35"/>
                  </a:lnTo>
                  <a:lnTo>
                    <a:pt x="4" y="53"/>
                  </a:lnTo>
                  <a:lnTo>
                    <a:pt x="8" y="70"/>
                  </a:lnTo>
                  <a:lnTo>
                    <a:pt x="11" y="86"/>
                  </a:lnTo>
                  <a:lnTo>
                    <a:pt x="16" y="102"/>
                  </a:lnTo>
                  <a:lnTo>
                    <a:pt x="21" y="118"/>
                  </a:lnTo>
                  <a:lnTo>
                    <a:pt x="28" y="133"/>
                  </a:lnTo>
                  <a:lnTo>
                    <a:pt x="34" y="149"/>
                  </a:lnTo>
                  <a:lnTo>
                    <a:pt x="42" y="163"/>
                  </a:lnTo>
                  <a:lnTo>
                    <a:pt x="51" y="178"/>
                  </a:lnTo>
                  <a:lnTo>
                    <a:pt x="59" y="192"/>
                  </a:lnTo>
                  <a:lnTo>
                    <a:pt x="69" y="205"/>
                  </a:lnTo>
                  <a:lnTo>
                    <a:pt x="78" y="218"/>
                  </a:lnTo>
                  <a:lnTo>
                    <a:pt x="89" y="230"/>
                  </a:lnTo>
                  <a:lnTo>
                    <a:pt x="101" y="242"/>
                  </a:lnTo>
                  <a:lnTo>
                    <a:pt x="113" y="254"/>
                  </a:lnTo>
                  <a:lnTo>
                    <a:pt x="125" y="265"/>
                  </a:lnTo>
                  <a:lnTo>
                    <a:pt x="138" y="275"/>
                  </a:lnTo>
                  <a:lnTo>
                    <a:pt x="152" y="284"/>
                  </a:lnTo>
                  <a:lnTo>
                    <a:pt x="166" y="294"/>
                  </a:lnTo>
                  <a:lnTo>
                    <a:pt x="180" y="302"/>
                  </a:lnTo>
                  <a:lnTo>
                    <a:pt x="195" y="309"/>
                  </a:lnTo>
                  <a:lnTo>
                    <a:pt x="210" y="317"/>
                  </a:lnTo>
                  <a:lnTo>
                    <a:pt x="226" y="323"/>
                  </a:lnTo>
                  <a:lnTo>
                    <a:pt x="242" y="327"/>
                  </a:lnTo>
                  <a:lnTo>
                    <a:pt x="258" y="332"/>
                  </a:lnTo>
                  <a:lnTo>
                    <a:pt x="274" y="336"/>
                  </a:lnTo>
                  <a:lnTo>
                    <a:pt x="292" y="339"/>
                  </a:lnTo>
                  <a:lnTo>
                    <a:pt x="309" y="342"/>
                  </a:lnTo>
                  <a:lnTo>
                    <a:pt x="326" y="343"/>
                  </a:lnTo>
                  <a:lnTo>
                    <a:pt x="344" y="343"/>
                  </a:lnTo>
                  <a:lnTo>
                    <a:pt x="344" y="308"/>
                  </a:lnTo>
                  <a:lnTo>
                    <a:pt x="328" y="308"/>
                  </a:lnTo>
                  <a:lnTo>
                    <a:pt x="312" y="307"/>
                  </a:lnTo>
                  <a:lnTo>
                    <a:pt x="297" y="305"/>
                  </a:lnTo>
                  <a:lnTo>
                    <a:pt x="281" y="302"/>
                  </a:lnTo>
                  <a:lnTo>
                    <a:pt x="267" y="299"/>
                  </a:lnTo>
                  <a:lnTo>
                    <a:pt x="252" y="295"/>
                  </a:lnTo>
                  <a:lnTo>
                    <a:pt x="238" y="290"/>
                  </a:lnTo>
                  <a:lnTo>
                    <a:pt x="224" y="284"/>
                  </a:lnTo>
                  <a:lnTo>
                    <a:pt x="210" y="278"/>
                  </a:lnTo>
                  <a:lnTo>
                    <a:pt x="197" y="271"/>
                  </a:lnTo>
                  <a:lnTo>
                    <a:pt x="184" y="264"/>
                  </a:lnTo>
                  <a:lnTo>
                    <a:pt x="171" y="255"/>
                  </a:lnTo>
                  <a:lnTo>
                    <a:pt x="159" y="247"/>
                  </a:lnTo>
                  <a:lnTo>
                    <a:pt x="148" y="238"/>
                  </a:lnTo>
                  <a:lnTo>
                    <a:pt x="136" y="228"/>
                  </a:lnTo>
                  <a:lnTo>
                    <a:pt x="125" y="218"/>
                  </a:lnTo>
                  <a:lnTo>
                    <a:pt x="116" y="208"/>
                  </a:lnTo>
                  <a:lnTo>
                    <a:pt x="106" y="197"/>
                  </a:lnTo>
                  <a:lnTo>
                    <a:pt x="96" y="185"/>
                  </a:lnTo>
                  <a:lnTo>
                    <a:pt x="88" y="173"/>
                  </a:lnTo>
                  <a:lnTo>
                    <a:pt x="80" y="160"/>
                  </a:lnTo>
                  <a:lnTo>
                    <a:pt x="72" y="148"/>
                  </a:lnTo>
                  <a:lnTo>
                    <a:pt x="65" y="134"/>
                  </a:lnTo>
                  <a:lnTo>
                    <a:pt x="59" y="120"/>
                  </a:lnTo>
                  <a:lnTo>
                    <a:pt x="54" y="106"/>
                  </a:lnTo>
                  <a:lnTo>
                    <a:pt x="50" y="92"/>
                  </a:lnTo>
                  <a:lnTo>
                    <a:pt x="45" y="77"/>
                  </a:lnTo>
                  <a:lnTo>
                    <a:pt x="41" y="62"/>
                  </a:lnTo>
                  <a:lnTo>
                    <a:pt x="39" y="47"/>
                  </a:lnTo>
                  <a:lnTo>
                    <a:pt x="36" y="32"/>
                  </a:lnTo>
                  <a:lnTo>
                    <a:pt x="35" y="1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02160" y="4192560"/>
              <a:ext cx="136440" cy="136440"/>
            </a:xfrm>
            <a:custGeom>
              <a:avLst/>
              <a:gdLst/>
              <a:ahLst/>
              <a:rect l="l" t="t" r="r" b="b"/>
              <a:pathLst>
                <a:path w="344" h="343">
                  <a:moveTo>
                    <a:pt x="344" y="0"/>
                  </a:moveTo>
                  <a:lnTo>
                    <a:pt x="344" y="0"/>
                  </a:lnTo>
                  <a:lnTo>
                    <a:pt x="326" y="1"/>
                  </a:lnTo>
                  <a:lnTo>
                    <a:pt x="309" y="2"/>
                  </a:lnTo>
                  <a:lnTo>
                    <a:pt x="292" y="5"/>
                  </a:lnTo>
                  <a:lnTo>
                    <a:pt x="274" y="7"/>
                  </a:lnTo>
                  <a:lnTo>
                    <a:pt x="258" y="11"/>
                  </a:lnTo>
                  <a:lnTo>
                    <a:pt x="242" y="15"/>
                  </a:lnTo>
                  <a:lnTo>
                    <a:pt x="226" y="21"/>
                  </a:lnTo>
                  <a:lnTo>
                    <a:pt x="210" y="27"/>
                  </a:lnTo>
                  <a:lnTo>
                    <a:pt x="195" y="35"/>
                  </a:lnTo>
                  <a:lnTo>
                    <a:pt x="180" y="42"/>
                  </a:lnTo>
                  <a:lnTo>
                    <a:pt x="166" y="50"/>
                  </a:lnTo>
                  <a:lnTo>
                    <a:pt x="152" y="59"/>
                  </a:lnTo>
                  <a:lnTo>
                    <a:pt x="138" y="68"/>
                  </a:lnTo>
                  <a:lnTo>
                    <a:pt x="125" y="79"/>
                  </a:lnTo>
                  <a:lnTo>
                    <a:pt x="113" y="90"/>
                  </a:lnTo>
                  <a:lnTo>
                    <a:pt x="101" y="101"/>
                  </a:lnTo>
                  <a:lnTo>
                    <a:pt x="89" y="113"/>
                  </a:lnTo>
                  <a:lnTo>
                    <a:pt x="78" y="126"/>
                  </a:lnTo>
                  <a:lnTo>
                    <a:pt x="69" y="138"/>
                  </a:lnTo>
                  <a:lnTo>
                    <a:pt x="59" y="152"/>
                  </a:lnTo>
                  <a:lnTo>
                    <a:pt x="51" y="165"/>
                  </a:lnTo>
                  <a:lnTo>
                    <a:pt x="42" y="180"/>
                  </a:lnTo>
                  <a:lnTo>
                    <a:pt x="34" y="195"/>
                  </a:lnTo>
                  <a:lnTo>
                    <a:pt x="28" y="210"/>
                  </a:lnTo>
                  <a:lnTo>
                    <a:pt x="21" y="225"/>
                  </a:lnTo>
                  <a:lnTo>
                    <a:pt x="16" y="241"/>
                  </a:lnTo>
                  <a:lnTo>
                    <a:pt x="11" y="258"/>
                  </a:lnTo>
                  <a:lnTo>
                    <a:pt x="8" y="275"/>
                  </a:lnTo>
                  <a:lnTo>
                    <a:pt x="4" y="291"/>
                  </a:lnTo>
                  <a:lnTo>
                    <a:pt x="3" y="308"/>
                  </a:lnTo>
                  <a:lnTo>
                    <a:pt x="0" y="326"/>
                  </a:lnTo>
                  <a:lnTo>
                    <a:pt x="0" y="343"/>
                  </a:lnTo>
                  <a:lnTo>
                    <a:pt x="35" y="343"/>
                  </a:lnTo>
                  <a:lnTo>
                    <a:pt x="35" y="327"/>
                  </a:lnTo>
                  <a:lnTo>
                    <a:pt x="36" y="312"/>
                  </a:lnTo>
                  <a:lnTo>
                    <a:pt x="39" y="296"/>
                  </a:lnTo>
                  <a:lnTo>
                    <a:pt x="41" y="282"/>
                  </a:lnTo>
                  <a:lnTo>
                    <a:pt x="45" y="266"/>
                  </a:lnTo>
                  <a:lnTo>
                    <a:pt x="50" y="252"/>
                  </a:lnTo>
                  <a:lnTo>
                    <a:pt x="54" y="237"/>
                  </a:lnTo>
                  <a:lnTo>
                    <a:pt x="59" y="223"/>
                  </a:lnTo>
                  <a:lnTo>
                    <a:pt x="65" y="210"/>
                  </a:lnTo>
                  <a:lnTo>
                    <a:pt x="72" y="197"/>
                  </a:lnTo>
                  <a:lnTo>
                    <a:pt x="80" y="183"/>
                  </a:lnTo>
                  <a:lnTo>
                    <a:pt x="88" y="171"/>
                  </a:lnTo>
                  <a:lnTo>
                    <a:pt x="96" y="159"/>
                  </a:lnTo>
                  <a:lnTo>
                    <a:pt x="106" y="147"/>
                  </a:lnTo>
                  <a:lnTo>
                    <a:pt x="116" y="137"/>
                  </a:lnTo>
                  <a:lnTo>
                    <a:pt x="125" y="126"/>
                  </a:lnTo>
                  <a:lnTo>
                    <a:pt x="136" y="115"/>
                  </a:lnTo>
                  <a:lnTo>
                    <a:pt x="148" y="105"/>
                  </a:lnTo>
                  <a:lnTo>
                    <a:pt x="159" y="96"/>
                  </a:lnTo>
                  <a:lnTo>
                    <a:pt x="171" y="87"/>
                  </a:lnTo>
                  <a:lnTo>
                    <a:pt x="184" y="80"/>
                  </a:lnTo>
                  <a:lnTo>
                    <a:pt x="197" y="72"/>
                  </a:lnTo>
                  <a:lnTo>
                    <a:pt x="210" y="66"/>
                  </a:lnTo>
                  <a:lnTo>
                    <a:pt x="224" y="60"/>
                  </a:lnTo>
                  <a:lnTo>
                    <a:pt x="238" y="54"/>
                  </a:lnTo>
                  <a:lnTo>
                    <a:pt x="252" y="49"/>
                  </a:lnTo>
                  <a:lnTo>
                    <a:pt x="267" y="44"/>
                  </a:lnTo>
                  <a:lnTo>
                    <a:pt x="281" y="42"/>
                  </a:lnTo>
                  <a:lnTo>
                    <a:pt x="297" y="38"/>
                  </a:lnTo>
                  <a:lnTo>
                    <a:pt x="312" y="37"/>
                  </a:lnTo>
                  <a:lnTo>
                    <a:pt x="328" y="36"/>
                  </a:lnTo>
                  <a:lnTo>
                    <a:pt x="344" y="35"/>
                  </a:lnTo>
                  <a:lnTo>
                    <a:pt x="344" y="35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89080" y="4280040"/>
              <a:ext cx="324000" cy="323640"/>
            </a:xfrm>
            <a:custGeom>
              <a:avLst/>
              <a:gdLst/>
              <a:ahLst/>
              <a:rect l="l" t="t" r="r" b="b"/>
              <a:pathLst>
                <a:path w="815" h="814">
                  <a:moveTo>
                    <a:pt x="110" y="128"/>
                  </a:moveTo>
                  <a:lnTo>
                    <a:pt x="126" y="112"/>
                  </a:lnTo>
                  <a:lnTo>
                    <a:pt x="140" y="99"/>
                  </a:lnTo>
                  <a:lnTo>
                    <a:pt x="157" y="86"/>
                  </a:lnTo>
                  <a:lnTo>
                    <a:pt x="173" y="74"/>
                  </a:lnTo>
                  <a:lnTo>
                    <a:pt x="190" y="62"/>
                  </a:lnTo>
                  <a:lnTo>
                    <a:pt x="208" y="52"/>
                  </a:lnTo>
                  <a:lnTo>
                    <a:pt x="224" y="43"/>
                  </a:lnTo>
                  <a:lnTo>
                    <a:pt x="242" y="34"/>
                  </a:lnTo>
                  <a:lnTo>
                    <a:pt x="262" y="27"/>
                  </a:lnTo>
                  <a:lnTo>
                    <a:pt x="280" y="20"/>
                  </a:lnTo>
                  <a:lnTo>
                    <a:pt x="299" y="14"/>
                  </a:lnTo>
                  <a:lnTo>
                    <a:pt x="318" y="9"/>
                  </a:lnTo>
                  <a:lnTo>
                    <a:pt x="337" y="6"/>
                  </a:lnTo>
                  <a:lnTo>
                    <a:pt x="356" y="3"/>
                  </a:lnTo>
                  <a:lnTo>
                    <a:pt x="376" y="1"/>
                  </a:lnTo>
                  <a:lnTo>
                    <a:pt x="395" y="0"/>
                  </a:lnTo>
                  <a:lnTo>
                    <a:pt x="415" y="0"/>
                  </a:lnTo>
                  <a:lnTo>
                    <a:pt x="434" y="1"/>
                  </a:lnTo>
                  <a:lnTo>
                    <a:pt x="454" y="2"/>
                  </a:lnTo>
                  <a:lnTo>
                    <a:pt x="474" y="4"/>
                  </a:lnTo>
                  <a:lnTo>
                    <a:pt x="493" y="8"/>
                  </a:lnTo>
                  <a:lnTo>
                    <a:pt x="512" y="13"/>
                  </a:lnTo>
                  <a:lnTo>
                    <a:pt x="532" y="19"/>
                  </a:lnTo>
                  <a:lnTo>
                    <a:pt x="550" y="25"/>
                  </a:lnTo>
                  <a:lnTo>
                    <a:pt x="569" y="32"/>
                  </a:lnTo>
                  <a:lnTo>
                    <a:pt x="587" y="40"/>
                  </a:lnTo>
                  <a:lnTo>
                    <a:pt x="605" y="50"/>
                  </a:lnTo>
                  <a:lnTo>
                    <a:pt x="622" y="60"/>
                  </a:lnTo>
                  <a:lnTo>
                    <a:pt x="638" y="70"/>
                  </a:lnTo>
                  <a:lnTo>
                    <a:pt x="655" y="84"/>
                  </a:lnTo>
                  <a:lnTo>
                    <a:pt x="672" y="96"/>
                  </a:lnTo>
                  <a:lnTo>
                    <a:pt x="688" y="110"/>
                  </a:lnTo>
                  <a:lnTo>
                    <a:pt x="702" y="124"/>
                  </a:lnTo>
                  <a:lnTo>
                    <a:pt x="716" y="140"/>
                  </a:lnTo>
                  <a:lnTo>
                    <a:pt x="730" y="156"/>
                  </a:lnTo>
                  <a:lnTo>
                    <a:pt x="742" y="172"/>
                  </a:lnTo>
                  <a:lnTo>
                    <a:pt x="752" y="189"/>
                  </a:lnTo>
                  <a:lnTo>
                    <a:pt x="763" y="206"/>
                  </a:lnTo>
                  <a:lnTo>
                    <a:pt x="773" y="224"/>
                  </a:lnTo>
                  <a:lnTo>
                    <a:pt x="781" y="242"/>
                  </a:lnTo>
                  <a:lnTo>
                    <a:pt x="788" y="260"/>
                  </a:lnTo>
                  <a:lnTo>
                    <a:pt x="794" y="279"/>
                  </a:lnTo>
                  <a:lnTo>
                    <a:pt x="800" y="298"/>
                  </a:lnTo>
                  <a:lnTo>
                    <a:pt x="805" y="316"/>
                  </a:lnTo>
                  <a:lnTo>
                    <a:pt x="809" y="336"/>
                  </a:lnTo>
                  <a:lnTo>
                    <a:pt x="812" y="356"/>
                  </a:lnTo>
                  <a:lnTo>
                    <a:pt x="814" y="375"/>
                  </a:lnTo>
                  <a:lnTo>
                    <a:pt x="815" y="394"/>
                  </a:lnTo>
                  <a:lnTo>
                    <a:pt x="815" y="413"/>
                  </a:lnTo>
                  <a:lnTo>
                    <a:pt x="815" y="434"/>
                  </a:lnTo>
                  <a:lnTo>
                    <a:pt x="812" y="453"/>
                  </a:lnTo>
                  <a:lnTo>
                    <a:pt x="810" y="472"/>
                  </a:lnTo>
                  <a:lnTo>
                    <a:pt x="806" y="491"/>
                  </a:lnTo>
                  <a:lnTo>
                    <a:pt x="802" y="511"/>
                  </a:lnTo>
                  <a:lnTo>
                    <a:pt x="797" y="530"/>
                  </a:lnTo>
                  <a:lnTo>
                    <a:pt x="790" y="549"/>
                  </a:lnTo>
                  <a:lnTo>
                    <a:pt x="782" y="567"/>
                  </a:lnTo>
                  <a:lnTo>
                    <a:pt x="774" y="585"/>
                  </a:lnTo>
                  <a:lnTo>
                    <a:pt x="766" y="603"/>
                  </a:lnTo>
                  <a:lnTo>
                    <a:pt x="755" y="621"/>
                  </a:lnTo>
                  <a:lnTo>
                    <a:pt x="744" y="638"/>
                  </a:lnTo>
                  <a:lnTo>
                    <a:pt x="732" y="655"/>
                  </a:lnTo>
                  <a:lnTo>
                    <a:pt x="719" y="670"/>
                  </a:lnTo>
                  <a:lnTo>
                    <a:pt x="704" y="686"/>
                  </a:lnTo>
                  <a:lnTo>
                    <a:pt x="690" y="701"/>
                  </a:lnTo>
                  <a:lnTo>
                    <a:pt x="674" y="715"/>
                  </a:lnTo>
                  <a:lnTo>
                    <a:pt x="659" y="728"/>
                  </a:lnTo>
                  <a:lnTo>
                    <a:pt x="643" y="740"/>
                  </a:lnTo>
                  <a:lnTo>
                    <a:pt x="626" y="752"/>
                  </a:lnTo>
                  <a:lnTo>
                    <a:pt x="608" y="761"/>
                  </a:lnTo>
                  <a:lnTo>
                    <a:pt x="590" y="771"/>
                  </a:lnTo>
                  <a:lnTo>
                    <a:pt x="572" y="779"/>
                  </a:lnTo>
                  <a:lnTo>
                    <a:pt x="554" y="788"/>
                  </a:lnTo>
                  <a:lnTo>
                    <a:pt x="536" y="794"/>
                  </a:lnTo>
                  <a:lnTo>
                    <a:pt x="517" y="800"/>
                  </a:lnTo>
                  <a:lnTo>
                    <a:pt x="498" y="805"/>
                  </a:lnTo>
                  <a:lnTo>
                    <a:pt x="479" y="808"/>
                  </a:lnTo>
                  <a:lnTo>
                    <a:pt x="460" y="811"/>
                  </a:lnTo>
                  <a:lnTo>
                    <a:pt x="440" y="813"/>
                  </a:lnTo>
                  <a:lnTo>
                    <a:pt x="420" y="814"/>
                  </a:lnTo>
                  <a:lnTo>
                    <a:pt x="401" y="814"/>
                  </a:lnTo>
                  <a:lnTo>
                    <a:pt x="382" y="813"/>
                  </a:lnTo>
                  <a:lnTo>
                    <a:pt x="361" y="812"/>
                  </a:lnTo>
                  <a:lnTo>
                    <a:pt x="342" y="809"/>
                  </a:lnTo>
                  <a:lnTo>
                    <a:pt x="323" y="806"/>
                  </a:lnTo>
                  <a:lnTo>
                    <a:pt x="304" y="801"/>
                  </a:lnTo>
                  <a:lnTo>
                    <a:pt x="284" y="795"/>
                  </a:lnTo>
                  <a:lnTo>
                    <a:pt x="266" y="789"/>
                  </a:lnTo>
                  <a:lnTo>
                    <a:pt x="247" y="782"/>
                  </a:lnTo>
                  <a:lnTo>
                    <a:pt x="229" y="773"/>
                  </a:lnTo>
                  <a:lnTo>
                    <a:pt x="211" y="764"/>
                  </a:lnTo>
                  <a:lnTo>
                    <a:pt x="194" y="754"/>
                  </a:lnTo>
                  <a:lnTo>
                    <a:pt x="176" y="743"/>
                  </a:lnTo>
                  <a:lnTo>
                    <a:pt x="160" y="731"/>
                  </a:lnTo>
                  <a:lnTo>
                    <a:pt x="144" y="718"/>
                  </a:lnTo>
                  <a:lnTo>
                    <a:pt x="128" y="704"/>
                  </a:lnTo>
                  <a:lnTo>
                    <a:pt x="114" y="689"/>
                  </a:lnTo>
                  <a:lnTo>
                    <a:pt x="100" y="674"/>
                  </a:lnTo>
                  <a:lnTo>
                    <a:pt x="86" y="658"/>
                  </a:lnTo>
                  <a:lnTo>
                    <a:pt x="74" y="641"/>
                  </a:lnTo>
                  <a:lnTo>
                    <a:pt x="64" y="625"/>
                  </a:lnTo>
                  <a:lnTo>
                    <a:pt x="53" y="608"/>
                  </a:lnTo>
                  <a:lnTo>
                    <a:pt x="43" y="590"/>
                  </a:lnTo>
                  <a:lnTo>
                    <a:pt x="35" y="572"/>
                  </a:lnTo>
                  <a:lnTo>
                    <a:pt x="28" y="554"/>
                  </a:lnTo>
                  <a:lnTo>
                    <a:pt x="20" y="535"/>
                  </a:lnTo>
                  <a:lnTo>
                    <a:pt x="16" y="517"/>
                  </a:lnTo>
                  <a:lnTo>
                    <a:pt x="11" y="497"/>
                  </a:lnTo>
                  <a:lnTo>
                    <a:pt x="6" y="478"/>
                  </a:lnTo>
                  <a:lnTo>
                    <a:pt x="4" y="459"/>
                  </a:lnTo>
                  <a:lnTo>
                    <a:pt x="1" y="439"/>
                  </a:lnTo>
                  <a:lnTo>
                    <a:pt x="0" y="419"/>
                  </a:lnTo>
                  <a:lnTo>
                    <a:pt x="0" y="400"/>
                  </a:lnTo>
                  <a:lnTo>
                    <a:pt x="1" y="380"/>
                  </a:lnTo>
                  <a:lnTo>
                    <a:pt x="2" y="361"/>
                  </a:lnTo>
                  <a:lnTo>
                    <a:pt x="6" y="342"/>
                  </a:lnTo>
                  <a:lnTo>
                    <a:pt x="10" y="322"/>
                  </a:lnTo>
                  <a:lnTo>
                    <a:pt x="13" y="303"/>
                  </a:lnTo>
                  <a:lnTo>
                    <a:pt x="19" y="284"/>
                  </a:lnTo>
                  <a:lnTo>
                    <a:pt x="25" y="265"/>
                  </a:lnTo>
                  <a:lnTo>
                    <a:pt x="32" y="247"/>
                  </a:lnTo>
                  <a:lnTo>
                    <a:pt x="41" y="229"/>
                  </a:lnTo>
                  <a:lnTo>
                    <a:pt x="50" y="211"/>
                  </a:lnTo>
                  <a:lnTo>
                    <a:pt x="61" y="193"/>
                  </a:lnTo>
                  <a:lnTo>
                    <a:pt x="72" y="176"/>
                  </a:lnTo>
                  <a:lnTo>
                    <a:pt x="84" y="159"/>
                  </a:lnTo>
                  <a:lnTo>
                    <a:pt x="97" y="144"/>
                  </a:lnTo>
                  <a:lnTo>
                    <a:pt x="110" y="128"/>
                  </a:lnTo>
                  <a:close/>
                </a:path>
              </a:pathLst>
            </a:custGeom>
            <a:solidFill>
              <a:srgbClr val="be8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28680" y="4273560"/>
              <a:ext cx="238320" cy="61920"/>
            </a:xfrm>
            <a:custGeom>
              <a:avLst/>
              <a:gdLst/>
              <a:ahLst/>
              <a:rect l="l" t="t" r="r" b="b"/>
              <a:pathLst>
                <a:path w="602" h="157">
                  <a:moveTo>
                    <a:pt x="602" y="114"/>
                  </a:moveTo>
                  <a:lnTo>
                    <a:pt x="602" y="114"/>
                  </a:lnTo>
                  <a:lnTo>
                    <a:pt x="585" y="99"/>
                  </a:lnTo>
                  <a:lnTo>
                    <a:pt x="568" y="86"/>
                  </a:lnTo>
                  <a:lnTo>
                    <a:pt x="551" y="74"/>
                  </a:lnTo>
                  <a:lnTo>
                    <a:pt x="533" y="62"/>
                  </a:lnTo>
                  <a:lnTo>
                    <a:pt x="515" y="51"/>
                  </a:lnTo>
                  <a:lnTo>
                    <a:pt x="496" y="42"/>
                  </a:lnTo>
                  <a:lnTo>
                    <a:pt x="477" y="33"/>
                  </a:lnTo>
                  <a:lnTo>
                    <a:pt x="458" y="25"/>
                  </a:lnTo>
                  <a:lnTo>
                    <a:pt x="438" y="19"/>
                  </a:lnTo>
                  <a:lnTo>
                    <a:pt x="418" y="13"/>
                  </a:lnTo>
                  <a:lnTo>
                    <a:pt x="399" y="8"/>
                  </a:lnTo>
                  <a:lnTo>
                    <a:pt x="378" y="5"/>
                  </a:lnTo>
                  <a:lnTo>
                    <a:pt x="358" y="2"/>
                  </a:lnTo>
                  <a:lnTo>
                    <a:pt x="338" y="0"/>
                  </a:lnTo>
                  <a:lnTo>
                    <a:pt x="317" y="0"/>
                  </a:lnTo>
                  <a:lnTo>
                    <a:pt x="297" y="0"/>
                  </a:lnTo>
                  <a:lnTo>
                    <a:pt x="276" y="1"/>
                  </a:lnTo>
                  <a:lnTo>
                    <a:pt x="256" y="2"/>
                  </a:lnTo>
                  <a:lnTo>
                    <a:pt x="236" y="6"/>
                  </a:lnTo>
                  <a:lnTo>
                    <a:pt x="216" y="9"/>
                  </a:lnTo>
                  <a:lnTo>
                    <a:pt x="196" y="14"/>
                  </a:lnTo>
                  <a:lnTo>
                    <a:pt x="177" y="20"/>
                  </a:lnTo>
                  <a:lnTo>
                    <a:pt x="156" y="27"/>
                  </a:lnTo>
                  <a:lnTo>
                    <a:pt x="137" y="36"/>
                  </a:lnTo>
                  <a:lnTo>
                    <a:pt x="119" y="44"/>
                  </a:lnTo>
                  <a:lnTo>
                    <a:pt x="100" y="54"/>
                  </a:lnTo>
                  <a:lnTo>
                    <a:pt x="82" y="65"/>
                  </a:lnTo>
                  <a:lnTo>
                    <a:pt x="65" y="77"/>
                  </a:lnTo>
                  <a:lnTo>
                    <a:pt x="48" y="89"/>
                  </a:lnTo>
                  <a:lnTo>
                    <a:pt x="32" y="103"/>
                  </a:lnTo>
                  <a:lnTo>
                    <a:pt x="16" y="117"/>
                  </a:lnTo>
                  <a:lnTo>
                    <a:pt x="0" y="133"/>
                  </a:lnTo>
                  <a:lnTo>
                    <a:pt x="26" y="157"/>
                  </a:lnTo>
                  <a:lnTo>
                    <a:pt x="40" y="143"/>
                  </a:lnTo>
                  <a:lnTo>
                    <a:pt x="54" y="129"/>
                  </a:lnTo>
                  <a:lnTo>
                    <a:pt x="69" y="116"/>
                  </a:lnTo>
                  <a:lnTo>
                    <a:pt x="84" y="104"/>
                  </a:lnTo>
                  <a:lnTo>
                    <a:pt x="101" y="95"/>
                  </a:lnTo>
                  <a:lnTo>
                    <a:pt x="118" y="84"/>
                  </a:lnTo>
                  <a:lnTo>
                    <a:pt x="135" y="75"/>
                  </a:lnTo>
                  <a:lnTo>
                    <a:pt x="152" y="67"/>
                  </a:lnTo>
                  <a:lnTo>
                    <a:pt x="170" y="60"/>
                  </a:lnTo>
                  <a:lnTo>
                    <a:pt x="188" y="54"/>
                  </a:lnTo>
                  <a:lnTo>
                    <a:pt x="206" y="48"/>
                  </a:lnTo>
                  <a:lnTo>
                    <a:pt x="224" y="43"/>
                  </a:lnTo>
                  <a:lnTo>
                    <a:pt x="242" y="39"/>
                  </a:lnTo>
                  <a:lnTo>
                    <a:pt x="261" y="37"/>
                  </a:lnTo>
                  <a:lnTo>
                    <a:pt x="279" y="35"/>
                  </a:lnTo>
                  <a:lnTo>
                    <a:pt x="298" y="35"/>
                  </a:lnTo>
                  <a:lnTo>
                    <a:pt x="317" y="33"/>
                  </a:lnTo>
                  <a:lnTo>
                    <a:pt x="335" y="35"/>
                  </a:lnTo>
                  <a:lnTo>
                    <a:pt x="354" y="36"/>
                  </a:lnTo>
                  <a:lnTo>
                    <a:pt x="372" y="39"/>
                  </a:lnTo>
                  <a:lnTo>
                    <a:pt x="392" y="42"/>
                  </a:lnTo>
                  <a:lnTo>
                    <a:pt x="410" y="47"/>
                  </a:lnTo>
                  <a:lnTo>
                    <a:pt x="428" y="51"/>
                  </a:lnTo>
                  <a:lnTo>
                    <a:pt x="446" y="59"/>
                  </a:lnTo>
                  <a:lnTo>
                    <a:pt x="464" y="65"/>
                  </a:lnTo>
                  <a:lnTo>
                    <a:pt x="480" y="73"/>
                  </a:lnTo>
                  <a:lnTo>
                    <a:pt x="498" y="81"/>
                  </a:lnTo>
                  <a:lnTo>
                    <a:pt x="515" y="91"/>
                  </a:lnTo>
                  <a:lnTo>
                    <a:pt x="531" y="102"/>
                  </a:lnTo>
                  <a:lnTo>
                    <a:pt x="546" y="114"/>
                  </a:lnTo>
                  <a:lnTo>
                    <a:pt x="562" y="126"/>
                  </a:lnTo>
                  <a:lnTo>
                    <a:pt x="578" y="140"/>
                  </a:lnTo>
                  <a:lnTo>
                    <a:pt x="578" y="140"/>
                  </a:lnTo>
                  <a:lnTo>
                    <a:pt x="602" y="11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357280" y="4319640"/>
              <a:ext cx="61920" cy="237960"/>
            </a:xfrm>
            <a:custGeom>
              <a:avLst/>
              <a:gdLst/>
              <a:ahLst/>
              <a:rect l="l" t="t" r="r" b="b"/>
              <a:pathLst>
                <a:path w="157" h="601">
                  <a:moveTo>
                    <a:pt x="42" y="601"/>
                  </a:moveTo>
                  <a:lnTo>
                    <a:pt x="42" y="601"/>
                  </a:lnTo>
                  <a:lnTo>
                    <a:pt x="56" y="585"/>
                  </a:lnTo>
                  <a:lnTo>
                    <a:pt x="69" y="568"/>
                  </a:lnTo>
                  <a:lnTo>
                    <a:pt x="82" y="550"/>
                  </a:lnTo>
                  <a:lnTo>
                    <a:pt x="93" y="532"/>
                  </a:lnTo>
                  <a:lnTo>
                    <a:pt x="104" y="514"/>
                  </a:lnTo>
                  <a:lnTo>
                    <a:pt x="114" y="496"/>
                  </a:lnTo>
                  <a:lnTo>
                    <a:pt x="123" y="477"/>
                  </a:lnTo>
                  <a:lnTo>
                    <a:pt x="130" y="458"/>
                  </a:lnTo>
                  <a:lnTo>
                    <a:pt x="138" y="439"/>
                  </a:lnTo>
                  <a:lnTo>
                    <a:pt x="142" y="418"/>
                  </a:lnTo>
                  <a:lnTo>
                    <a:pt x="147" y="398"/>
                  </a:lnTo>
                  <a:lnTo>
                    <a:pt x="151" y="379"/>
                  </a:lnTo>
                  <a:lnTo>
                    <a:pt x="154" y="358"/>
                  </a:lnTo>
                  <a:lnTo>
                    <a:pt x="156" y="338"/>
                  </a:lnTo>
                  <a:lnTo>
                    <a:pt x="157" y="318"/>
                  </a:lnTo>
                  <a:lnTo>
                    <a:pt x="157" y="297"/>
                  </a:lnTo>
                  <a:lnTo>
                    <a:pt x="156" y="277"/>
                  </a:lnTo>
                  <a:lnTo>
                    <a:pt x="153" y="257"/>
                  </a:lnTo>
                  <a:lnTo>
                    <a:pt x="151" y="236"/>
                  </a:lnTo>
                  <a:lnTo>
                    <a:pt x="146" y="216"/>
                  </a:lnTo>
                  <a:lnTo>
                    <a:pt x="141" y="197"/>
                  </a:lnTo>
                  <a:lnTo>
                    <a:pt x="135" y="176"/>
                  </a:lnTo>
                  <a:lnTo>
                    <a:pt x="128" y="157"/>
                  </a:lnTo>
                  <a:lnTo>
                    <a:pt x="121" y="138"/>
                  </a:lnTo>
                  <a:lnTo>
                    <a:pt x="111" y="120"/>
                  </a:lnTo>
                  <a:lnTo>
                    <a:pt x="102" y="101"/>
                  </a:lnTo>
                  <a:lnTo>
                    <a:pt x="91" y="83"/>
                  </a:lnTo>
                  <a:lnTo>
                    <a:pt x="80" y="66"/>
                  </a:lnTo>
                  <a:lnTo>
                    <a:pt x="67" y="48"/>
                  </a:lnTo>
                  <a:lnTo>
                    <a:pt x="54" y="32"/>
                  </a:lnTo>
                  <a:lnTo>
                    <a:pt x="39" y="15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14" y="39"/>
                  </a:lnTo>
                  <a:lnTo>
                    <a:pt x="27" y="54"/>
                  </a:lnTo>
                  <a:lnTo>
                    <a:pt x="39" y="69"/>
                  </a:lnTo>
                  <a:lnTo>
                    <a:pt x="51" y="85"/>
                  </a:lnTo>
                  <a:lnTo>
                    <a:pt x="62" y="102"/>
                  </a:lnTo>
                  <a:lnTo>
                    <a:pt x="72" y="117"/>
                  </a:lnTo>
                  <a:lnTo>
                    <a:pt x="81" y="134"/>
                  </a:lnTo>
                  <a:lnTo>
                    <a:pt x="88" y="152"/>
                  </a:lnTo>
                  <a:lnTo>
                    <a:pt x="96" y="169"/>
                  </a:lnTo>
                  <a:lnTo>
                    <a:pt x="103" y="187"/>
                  </a:lnTo>
                  <a:lnTo>
                    <a:pt x="108" y="205"/>
                  </a:lnTo>
                  <a:lnTo>
                    <a:pt x="112" y="224"/>
                  </a:lnTo>
                  <a:lnTo>
                    <a:pt x="116" y="242"/>
                  </a:lnTo>
                  <a:lnTo>
                    <a:pt x="118" y="260"/>
                  </a:lnTo>
                  <a:lnTo>
                    <a:pt x="121" y="279"/>
                  </a:lnTo>
                  <a:lnTo>
                    <a:pt x="122" y="298"/>
                  </a:lnTo>
                  <a:lnTo>
                    <a:pt x="122" y="316"/>
                  </a:lnTo>
                  <a:lnTo>
                    <a:pt x="121" y="336"/>
                  </a:lnTo>
                  <a:lnTo>
                    <a:pt x="120" y="355"/>
                  </a:lnTo>
                  <a:lnTo>
                    <a:pt x="117" y="373"/>
                  </a:lnTo>
                  <a:lnTo>
                    <a:pt x="114" y="391"/>
                  </a:lnTo>
                  <a:lnTo>
                    <a:pt x="109" y="410"/>
                  </a:lnTo>
                  <a:lnTo>
                    <a:pt x="104" y="428"/>
                  </a:lnTo>
                  <a:lnTo>
                    <a:pt x="98" y="446"/>
                  </a:lnTo>
                  <a:lnTo>
                    <a:pt x="91" y="464"/>
                  </a:lnTo>
                  <a:lnTo>
                    <a:pt x="82" y="481"/>
                  </a:lnTo>
                  <a:lnTo>
                    <a:pt x="74" y="498"/>
                  </a:lnTo>
                  <a:lnTo>
                    <a:pt x="64" y="514"/>
                  </a:lnTo>
                  <a:lnTo>
                    <a:pt x="54" y="531"/>
                  </a:lnTo>
                  <a:lnTo>
                    <a:pt x="42" y="547"/>
                  </a:lnTo>
                  <a:lnTo>
                    <a:pt x="30" y="562"/>
                  </a:lnTo>
                  <a:lnTo>
                    <a:pt x="16" y="578"/>
                  </a:lnTo>
                  <a:lnTo>
                    <a:pt x="16" y="578"/>
                  </a:lnTo>
                  <a:lnTo>
                    <a:pt x="42" y="60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135160" y="4548240"/>
              <a:ext cx="238320" cy="63360"/>
            </a:xfrm>
            <a:custGeom>
              <a:avLst/>
              <a:gdLst/>
              <a:ahLst/>
              <a:rect l="l" t="t" r="r" b="b"/>
              <a:pathLst>
                <a:path w="602" h="157">
                  <a:moveTo>
                    <a:pt x="0" y="42"/>
                  </a:moveTo>
                  <a:lnTo>
                    <a:pt x="0" y="42"/>
                  </a:lnTo>
                  <a:lnTo>
                    <a:pt x="17" y="56"/>
                  </a:lnTo>
                  <a:lnTo>
                    <a:pt x="34" y="70"/>
                  </a:lnTo>
                  <a:lnTo>
                    <a:pt x="51" y="83"/>
                  </a:lnTo>
                  <a:lnTo>
                    <a:pt x="69" y="94"/>
                  </a:lnTo>
                  <a:lnTo>
                    <a:pt x="87" y="104"/>
                  </a:lnTo>
                  <a:lnTo>
                    <a:pt x="106" y="114"/>
                  </a:lnTo>
                  <a:lnTo>
                    <a:pt x="124" y="122"/>
                  </a:lnTo>
                  <a:lnTo>
                    <a:pt x="144" y="131"/>
                  </a:lnTo>
                  <a:lnTo>
                    <a:pt x="164" y="137"/>
                  </a:lnTo>
                  <a:lnTo>
                    <a:pt x="183" y="143"/>
                  </a:lnTo>
                  <a:lnTo>
                    <a:pt x="203" y="148"/>
                  </a:lnTo>
                  <a:lnTo>
                    <a:pt x="224" y="151"/>
                  </a:lnTo>
                  <a:lnTo>
                    <a:pt x="244" y="154"/>
                  </a:lnTo>
                  <a:lnTo>
                    <a:pt x="264" y="156"/>
                  </a:lnTo>
                  <a:lnTo>
                    <a:pt x="285" y="157"/>
                  </a:lnTo>
                  <a:lnTo>
                    <a:pt x="305" y="156"/>
                  </a:lnTo>
                  <a:lnTo>
                    <a:pt x="326" y="156"/>
                  </a:lnTo>
                  <a:lnTo>
                    <a:pt x="346" y="154"/>
                  </a:lnTo>
                  <a:lnTo>
                    <a:pt x="365" y="150"/>
                  </a:lnTo>
                  <a:lnTo>
                    <a:pt x="386" y="146"/>
                  </a:lnTo>
                  <a:lnTo>
                    <a:pt x="406" y="142"/>
                  </a:lnTo>
                  <a:lnTo>
                    <a:pt x="425" y="136"/>
                  </a:lnTo>
                  <a:lnTo>
                    <a:pt x="444" y="128"/>
                  </a:lnTo>
                  <a:lnTo>
                    <a:pt x="464" y="121"/>
                  </a:lnTo>
                  <a:lnTo>
                    <a:pt x="483" y="112"/>
                  </a:lnTo>
                  <a:lnTo>
                    <a:pt x="501" y="102"/>
                  </a:lnTo>
                  <a:lnTo>
                    <a:pt x="519" y="91"/>
                  </a:lnTo>
                  <a:lnTo>
                    <a:pt x="537" y="79"/>
                  </a:lnTo>
                  <a:lnTo>
                    <a:pt x="554" y="67"/>
                  </a:lnTo>
                  <a:lnTo>
                    <a:pt x="570" y="53"/>
                  </a:lnTo>
                  <a:lnTo>
                    <a:pt x="586" y="38"/>
                  </a:lnTo>
                  <a:lnTo>
                    <a:pt x="602" y="23"/>
                  </a:lnTo>
                  <a:lnTo>
                    <a:pt x="576" y="0"/>
                  </a:lnTo>
                  <a:lnTo>
                    <a:pt x="562" y="13"/>
                  </a:lnTo>
                  <a:lnTo>
                    <a:pt x="548" y="28"/>
                  </a:lnTo>
                  <a:lnTo>
                    <a:pt x="532" y="40"/>
                  </a:lnTo>
                  <a:lnTo>
                    <a:pt x="516" y="52"/>
                  </a:lnTo>
                  <a:lnTo>
                    <a:pt x="501" y="62"/>
                  </a:lnTo>
                  <a:lnTo>
                    <a:pt x="484" y="72"/>
                  </a:lnTo>
                  <a:lnTo>
                    <a:pt x="467" y="80"/>
                  </a:lnTo>
                  <a:lnTo>
                    <a:pt x="450" y="89"/>
                  </a:lnTo>
                  <a:lnTo>
                    <a:pt x="432" y="96"/>
                  </a:lnTo>
                  <a:lnTo>
                    <a:pt x="414" y="102"/>
                  </a:lnTo>
                  <a:lnTo>
                    <a:pt x="396" y="108"/>
                  </a:lnTo>
                  <a:lnTo>
                    <a:pt x="378" y="113"/>
                  </a:lnTo>
                  <a:lnTo>
                    <a:pt x="359" y="116"/>
                  </a:lnTo>
                  <a:lnTo>
                    <a:pt x="341" y="119"/>
                  </a:lnTo>
                  <a:lnTo>
                    <a:pt x="322" y="121"/>
                  </a:lnTo>
                  <a:lnTo>
                    <a:pt x="304" y="122"/>
                  </a:lnTo>
                  <a:lnTo>
                    <a:pt x="285" y="122"/>
                  </a:lnTo>
                  <a:lnTo>
                    <a:pt x="266" y="121"/>
                  </a:lnTo>
                  <a:lnTo>
                    <a:pt x="248" y="120"/>
                  </a:lnTo>
                  <a:lnTo>
                    <a:pt x="228" y="118"/>
                  </a:lnTo>
                  <a:lnTo>
                    <a:pt x="210" y="114"/>
                  </a:lnTo>
                  <a:lnTo>
                    <a:pt x="192" y="109"/>
                  </a:lnTo>
                  <a:lnTo>
                    <a:pt x="173" y="104"/>
                  </a:lnTo>
                  <a:lnTo>
                    <a:pt x="156" y="98"/>
                  </a:lnTo>
                  <a:lnTo>
                    <a:pt x="138" y="91"/>
                  </a:lnTo>
                  <a:lnTo>
                    <a:pt x="120" y="83"/>
                  </a:lnTo>
                  <a:lnTo>
                    <a:pt x="104" y="74"/>
                  </a:lnTo>
                  <a:lnTo>
                    <a:pt x="87" y="65"/>
                  </a:lnTo>
                  <a:lnTo>
                    <a:pt x="70" y="54"/>
                  </a:lnTo>
                  <a:lnTo>
                    <a:pt x="54" y="42"/>
                  </a:lnTo>
                  <a:lnTo>
                    <a:pt x="39" y="30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82960" y="4325760"/>
              <a:ext cx="61920" cy="239760"/>
            </a:xfrm>
            <a:custGeom>
              <a:avLst/>
              <a:gdLst/>
              <a:ahLst/>
              <a:rect l="l" t="t" r="r" b="b"/>
              <a:pathLst>
                <a:path w="157" h="601">
                  <a:moveTo>
                    <a:pt x="115" y="0"/>
                  </a:moveTo>
                  <a:lnTo>
                    <a:pt x="115" y="0"/>
                  </a:lnTo>
                  <a:lnTo>
                    <a:pt x="101" y="16"/>
                  </a:lnTo>
                  <a:lnTo>
                    <a:pt x="87" y="32"/>
                  </a:lnTo>
                  <a:lnTo>
                    <a:pt x="75" y="50"/>
                  </a:lnTo>
                  <a:lnTo>
                    <a:pt x="63" y="68"/>
                  </a:lnTo>
                  <a:lnTo>
                    <a:pt x="52" y="86"/>
                  </a:lnTo>
                  <a:lnTo>
                    <a:pt x="42" y="104"/>
                  </a:lnTo>
                  <a:lnTo>
                    <a:pt x="34" y="124"/>
                  </a:lnTo>
                  <a:lnTo>
                    <a:pt x="27" y="143"/>
                  </a:lnTo>
                  <a:lnTo>
                    <a:pt x="19" y="163"/>
                  </a:lnTo>
                  <a:lnTo>
                    <a:pt x="13" y="182"/>
                  </a:lnTo>
                  <a:lnTo>
                    <a:pt x="9" y="203"/>
                  </a:lnTo>
                  <a:lnTo>
                    <a:pt x="5" y="223"/>
                  </a:lnTo>
                  <a:lnTo>
                    <a:pt x="3" y="242"/>
                  </a:lnTo>
                  <a:lnTo>
                    <a:pt x="1" y="263"/>
                  </a:lnTo>
                  <a:lnTo>
                    <a:pt x="0" y="283"/>
                  </a:lnTo>
                  <a:lnTo>
                    <a:pt x="0" y="303"/>
                  </a:lnTo>
                  <a:lnTo>
                    <a:pt x="1" y="324"/>
                  </a:lnTo>
                  <a:lnTo>
                    <a:pt x="4" y="344"/>
                  </a:lnTo>
                  <a:lnTo>
                    <a:pt x="6" y="365"/>
                  </a:lnTo>
                  <a:lnTo>
                    <a:pt x="10" y="385"/>
                  </a:lnTo>
                  <a:lnTo>
                    <a:pt x="16" y="404"/>
                  </a:lnTo>
                  <a:lnTo>
                    <a:pt x="22" y="425"/>
                  </a:lnTo>
                  <a:lnTo>
                    <a:pt x="28" y="444"/>
                  </a:lnTo>
                  <a:lnTo>
                    <a:pt x="36" y="463"/>
                  </a:lnTo>
                  <a:lnTo>
                    <a:pt x="45" y="482"/>
                  </a:lnTo>
                  <a:lnTo>
                    <a:pt x="54" y="500"/>
                  </a:lnTo>
                  <a:lnTo>
                    <a:pt x="65" y="518"/>
                  </a:lnTo>
                  <a:lnTo>
                    <a:pt x="77" y="536"/>
                  </a:lnTo>
                  <a:lnTo>
                    <a:pt x="90" y="553"/>
                  </a:lnTo>
                  <a:lnTo>
                    <a:pt x="103" y="570"/>
                  </a:lnTo>
                  <a:lnTo>
                    <a:pt x="118" y="585"/>
                  </a:lnTo>
                  <a:lnTo>
                    <a:pt x="133" y="601"/>
                  </a:lnTo>
                  <a:lnTo>
                    <a:pt x="157" y="576"/>
                  </a:lnTo>
                  <a:lnTo>
                    <a:pt x="143" y="561"/>
                  </a:lnTo>
                  <a:lnTo>
                    <a:pt x="130" y="547"/>
                  </a:lnTo>
                  <a:lnTo>
                    <a:pt x="117" y="531"/>
                  </a:lnTo>
                  <a:lnTo>
                    <a:pt x="106" y="516"/>
                  </a:lnTo>
                  <a:lnTo>
                    <a:pt x="95" y="500"/>
                  </a:lnTo>
                  <a:lnTo>
                    <a:pt x="85" y="483"/>
                  </a:lnTo>
                  <a:lnTo>
                    <a:pt x="76" y="467"/>
                  </a:lnTo>
                  <a:lnTo>
                    <a:pt x="67" y="449"/>
                  </a:lnTo>
                  <a:lnTo>
                    <a:pt x="60" y="432"/>
                  </a:lnTo>
                  <a:lnTo>
                    <a:pt x="54" y="414"/>
                  </a:lnTo>
                  <a:lnTo>
                    <a:pt x="48" y="396"/>
                  </a:lnTo>
                  <a:lnTo>
                    <a:pt x="45" y="378"/>
                  </a:lnTo>
                  <a:lnTo>
                    <a:pt x="41" y="359"/>
                  </a:lnTo>
                  <a:lnTo>
                    <a:pt x="37" y="341"/>
                  </a:lnTo>
                  <a:lnTo>
                    <a:pt x="36" y="321"/>
                  </a:lnTo>
                  <a:lnTo>
                    <a:pt x="35" y="303"/>
                  </a:lnTo>
                  <a:lnTo>
                    <a:pt x="35" y="284"/>
                  </a:lnTo>
                  <a:lnTo>
                    <a:pt x="35" y="265"/>
                  </a:lnTo>
                  <a:lnTo>
                    <a:pt x="37" y="247"/>
                  </a:lnTo>
                  <a:lnTo>
                    <a:pt x="40" y="228"/>
                  </a:lnTo>
                  <a:lnTo>
                    <a:pt x="43" y="210"/>
                  </a:lnTo>
                  <a:lnTo>
                    <a:pt x="47" y="191"/>
                  </a:lnTo>
                  <a:lnTo>
                    <a:pt x="53" y="173"/>
                  </a:lnTo>
                  <a:lnTo>
                    <a:pt x="59" y="155"/>
                  </a:lnTo>
                  <a:lnTo>
                    <a:pt x="66" y="138"/>
                  </a:lnTo>
                  <a:lnTo>
                    <a:pt x="73" y="120"/>
                  </a:lnTo>
                  <a:lnTo>
                    <a:pt x="83" y="103"/>
                  </a:lnTo>
                  <a:lnTo>
                    <a:pt x="93" y="86"/>
                  </a:lnTo>
                  <a:lnTo>
                    <a:pt x="103" y="70"/>
                  </a:lnTo>
                  <a:lnTo>
                    <a:pt x="114" y="54"/>
                  </a:lnTo>
                  <a:lnTo>
                    <a:pt x="127" y="38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92320" y="4282920"/>
              <a:ext cx="318960" cy="319320"/>
            </a:xfrm>
            <a:custGeom>
              <a:avLst/>
              <a:gdLst/>
              <a:ahLst/>
              <a:rect l="l" t="t" r="r" b="b"/>
              <a:pathLst>
                <a:path w="808" h="808">
                  <a:moveTo>
                    <a:pt x="109" y="128"/>
                  </a:moveTo>
                  <a:lnTo>
                    <a:pt x="125" y="113"/>
                  </a:lnTo>
                  <a:lnTo>
                    <a:pt x="139" y="99"/>
                  </a:lnTo>
                  <a:lnTo>
                    <a:pt x="155" y="86"/>
                  </a:lnTo>
                  <a:lnTo>
                    <a:pt x="172" y="74"/>
                  </a:lnTo>
                  <a:lnTo>
                    <a:pt x="188" y="63"/>
                  </a:lnTo>
                  <a:lnTo>
                    <a:pt x="205" y="53"/>
                  </a:lnTo>
                  <a:lnTo>
                    <a:pt x="223" y="44"/>
                  </a:lnTo>
                  <a:lnTo>
                    <a:pt x="240" y="35"/>
                  </a:lnTo>
                  <a:lnTo>
                    <a:pt x="259" y="28"/>
                  </a:lnTo>
                  <a:lnTo>
                    <a:pt x="277" y="21"/>
                  </a:lnTo>
                  <a:lnTo>
                    <a:pt x="295" y="15"/>
                  </a:lnTo>
                  <a:lnTo>
                    <a:pt x="314" y="10"/>
                  </a:lnTo>
                  <a:lnTo>
                    <a:pt x="334" y="6"/>
                  </a:lnTo>
                  <a:lnTo>
                    <a:pt x="353" y="4"/>
                  </a:lnTo>
                  <a:lnTo>
                    <a:pt x="372" y="2"/>
                  </a:lnTo>
                  <a:lnTo>
                    <a:pt x="391" y="0"/>
                  </a:lnTo>
                  <a:lnTo>
                    <a:pt x="412" y="0"/>
                  </a:lnTo>
                  <a:lnTo>
                    <a:pt x="431" y="2"/>
                  </a:lnTo>
                  <a:lnTo>
                    <a:pt x="450" y="3"/>
                  </a:lnTo>
                  <a:lnTo>
                    <a:pt x="469" y="6"/>
                  </a:lnTo>
                  <a:lnTo>
                    <a:pt x="488" y="10"/>
                  </a:lnTo>
                  <a:lnTo>
                    <a:pt x="508" y="14"/>
                  </a:lnTo>
                  <a:lnTo>
                    <a:pt x="526" y="20"/>
                  </a:lnTo>
                  <a:lnTo>
                    <a:pt x="545" y="26"/>
                  </a:lnTo>
                  <a:lnTo>
                    <a:pt x="563" y="33"/>
                  </a:lnTo>
                  <a:lnTo>
                    <a:pt x="581" y="41"/>
                  </a:lnTo>
                  <a:lnTo>
                    <a:pt x="599" y="51"/>
                  </a:lnTo>
                  <a:lnTo>
                    <a:pt x="616" y="60"/>
                  </a:lnTo>
                  <a:lnTo>
                    <a:pt x="634" y="71"/>
                  </a:lnTo>
                  <a:lnTo>
                    <a:pt x="649" y="83"/>
                  </a:lnTo>
                  <a:lnTo>
                    <a:pt x="666" y="96"/>
                  </a:lnTo>
                  <a:lnTo>
                    <a:pt x="680" y="110"/>
                  </a:lnTo>
                  <a:lnTo>
                    <a:pt x="696" y="125"/>
                  </a:lnTo>
                  <a:lnTo>
                    <a:pt x="709" y="140"/>
                  </a:lnTo>
                  <a:lnTo>
                    <a:pt x="722" y="155"/>
                  </a:lnTo>
                  <a:lnTo>
                    <a:pt x="734" y="172"/>
                  </a:lnTo>
                  <a:lnTo>
                    <a:pt x="745" y="189"/>
                  </a:lnTo>
                  <a:lnTo>
                    <a:pt x="756" y="206"/>
                  </a:lnTo>
                  <a:lnTo>
                    <a:pt x="766" y="224"/>
                  </a:lnTo>
                  <a:lnTo>
                    <a:pt x="774" y="240"/>
                  </a:lnTo>
                  <a:lnTo>
                    <a:pt x="781" y="260"/>
                  </a:lnTo>
                  <a:lnTo>
                    <a:pt x="787" y="278"/>
                  </a:lnTo>
                  <a:lnTo>
                    <a:pt x="793" y="297"/>
                  </a:lnTo>
                  <a:lnTo>
                    <a:pt x="798" y="315"/>
                  </a:lnTo>
                  <a:lnTo>
                    <a:pt x="802" y="334"/>
                  </a:lnTo>
                  <a:lnTo>
                    <a:pt x="805" y="353"/>
                  </a:lnTo>
                  <a:lnTo>
                    <a:pt x="806" y="372"/>
                  </a:lnTo>
                  <a:lnTo>
                    <a:pt x="808" y="391"/>
                  </a:lnTo>
                  <a:lnTo>
                    <a:pt x="808" y="412"/>
                  </a:lnTo>
                  <a:lnTo>
                    <a:pt x="808" y="431"/>
                  </a:lnTo>
                  <a:lnTo>
                    <a:pt x="805" y="450"/>
                  </a:lnTo>
                  <a:lnTo>
                    <a:pt x="803" y="469"/>
                  </a:lnTo>
                  <a:lnTo>
                    <a:pt x="799" y="489"/>
                  </a:lnTo>
                  <a:lnTo>
                    <a:pt x="794" y="508"/>
                  </a:lnTo>
                  <a:lnTo>
                    <a:pt x="790" y="526"/>
                  </a:lnTo>
                  <a:lnTo>
                    <a:pt x="782" y="545"/>
                  </a:lnTo>
                  <a:lnTo>
                    <a:pt x="775" y="563"/>
                  </a:lnTo>
                  <a:lnTo>
                    <a:pt x="767" y="581"/>
                  </a:lnTo>
                  <a:lnTo>
                    <a:pt x="758" y="599"/>
                  </a:lnTo>
                  <a:lnTo>
                    <a:pt x="748" y="616"/>
                  </a:lnTo>
                  <a:lnTo>
                    <a:pt x="737" y="634"/>
                  </a:lnTo>
                  <a:lnTo>
                    <a:pt x="725" y="649"/>
                  </a:lnTo>
                  <a:lnTo>
                    <a:pt x="713" y="666"/>
                  </a:lnTo>
                  <a:lnTo>
                    <a:pt x="698" y="681"/>
                  </a:lnTo>
                  <a:lnTo>
                    <a:pt x="684" y="696"/>
                  </a:lnTo>
                  <a:lnTo>
                    <a:pt x="668" y="709"/>
                  </a:lnTo>
                  <a:lnTo>
                    <a:pt x="653" y="723"/>
                  </a:lnTo>
                  <a:lnTo>
                    <a:pt x="637" y="735"/>
                  </a:lnTo>
                  <a:lnTo>
                    <a:pt x="620" y="745"/>
                  </a:lnTo>
                  <a:lnTo>
                    <a:pt x="602" y="756"/>
                  </a:lnTo>
                  <a:lnTo>
                    <a:pt x="586" y="766"/>
                  </a:lnTo>
                  <a:lnTo>
                    <a:pt x="568" y="774"/>
                  </a:lnTo>
                  <a:lnTo>
                    <a:pt x="550" y="781"/>
                  </a:lnTo>
                  <a:lnTo>
                    <a:pt x="532" y="787"/>
                  </a:lnTo>
                  <a:lnTo>
                    <a:pt x="512" y="793"/>
                  </a:lnTo>
                  <a:lnTo>
                    <a:pt x="493" y="798"/>
                  </a:lnTo>
                  <a:lnTo>
                    <a:pt x="474" y="802"/>
                  </a:lnTo>
                  <a:lnTo>
                    <a:pt x="455" y="805"/>
                  </a:lnTo>
                  <a:lnTo>
                    <a:pt x="436" y="807"/>
                  </a:lnTo>
                  <a:lnTo>
                    <a:pt x="416" y="808"/>
                  </a:lnTo>
                  <a:lnTo>
                    <a:pt x="397" y="808"/>
                  </a:lnTo>
                  <a:lnTo>
                    <a:pt x="378" y="808"/>
                  </a:lnTo>
                  <a:lnTo>
                    <a:pt x="359" y="805"/>
                  </a:lnTo>
                  <a:lnTo>
                    <a:pt x="338" y="803"/>
                  </a:lnTo>
                  <a:lnTo>
                    <a:pt x="319" y="799"/>
                  </a:lnTo>
                  <a:lnTo>
                    <a:pt x="301" y="795"/>
                  </a:lnTo>
                  <a:lnTo>
                    <a:pt x="282" y="790"/>
                  </a:lnTo>
                  <a:lnTo>
                    <a:pt x="263" y="783"/>
                  </a:lnTo>
                  <a:lnTo>
                    <a:pt x="245" y="775"/>
                  </a:lnTo>
                  <a:lnTo>
                    <a:pt x="227" y="767"/>
                  </a:lnTo>
                  <a:lnTo>
                    <a:pt x="209" y="759"/>
                  </a:lnTo>
                  <a:lnTo>
                    <a:pt x="192" y="748"/>
                  </a:lnTo>
                  <a:lnTo>
                    <a:pt x="175" y="737"/>
                  </a:lnTo>
                  <a:lnTo>
                    <a:pt x="158" y="725"/>
                  </a:lnTo>
                  <a:lnTo>
                    <a:pt x="143" y="713"/>
                  </a:lnTo>
                  <a:lnTo>
                    <a:pt x="127" y="699"/>
                  </a:lnTo>
                  <a:lnTo>
                    <a:pt x="113" y="684"/>
                  </a:lnTo>
                  <a:lnTo>
                    <a:pt x="98" y="669"/>
                  </a:lnTo>
                  <a:lnTo>
                    <a:pt x="85" y="653"/>
                  </a:lnTo>
                  <a:lnTo>
                    <a:pt x="73" y="637"/>
                  </a:lnTo>
                  <a:lnTo>
                    <a:pt x="62" y="621"/>
                  </a:lnTo>
                  <a:lnTo>
                    <a:pt x="53" y="603"/>
                  </a:lnTo>
                  <a:lnTo>
                    <a:pt x="43" y="586"/>
                  </a:lnTo>
                  <a:lnTo>
                    <a:pt x="35" y="568"/>
                  </a:lnTo>
                  <a:lnTo>
                    <a:pt x="28" y="550"/>
                  </a:lnTo>
                  <a:lnTo>
                    <a:pt x="20" y="532"/>
                  </a:lnTo>
                  <a:lnTo>
                    <a:pt x="14" y="513"/>
                  </a:lnTo>
                  <a:lnTo>
                    <a:pt x="10" y="493"/>
                  </a:lnTo>
                  <a:lnTo>
                    <a:pt x="6" y="474"/>
                  </a:lnTo>
                  <a:lnTo>
                    <a:pt x="4" y="455"/>
                  </a:lnTo>
                  <a:lnTo>
                    <a:pt x="1" y="436"/>
                  </a:lnTo>
                  <a:lnTo>
                    <a:pt x="0" y="417"/>
                  </a:lnTo>
                  <a:lnTo>
                    <a:pt x="0" y="397"/>
                  </a:lnTo>
                  <a:lnTo>
                    <a:pt x="1" y="378"/>
                  </a:lnTo>
                  <a:lnTo>
                    <a:pt x="2" y="359"/>
                  </a:lnTo>
                  <a:lnTo>
                    <a:pt x="6" y="339"/>
                  </a:lnTo>
                  <a:lnTo>
                    <a:pt x="8" y="321"/>
                  </a:lnTo>
                  <a:lnTo>
                    <a:pt x="13" y="302"/>
                  </a:lnTo>
                  <a:lnTo>
                    <a:pt x="19" y="282"/>
                  </a:lnTo>
                  <a:lnTo>
                    <a:pt x="25" y="263"/>
                  </a:lnTo>
                  <a:lnTo>
                    <a:pt x="32" y="245"/>
                  </a:lnTo>
                  <a:lnTo>
                    <a:pt x="41" y="227"/>
                  </a:lnTo>
                  <a:lnTo>
                    <a:pt x="50" y="209"/>
                  </a:lnTo>
                  <a:lnTo>
                    <a:pt x="60" y="192"/>
                  </a:lnTo>
                  <a:lnTo>
                    <a:pt x="71" y="176"/>
                  </a:lnTo>
                  <a:lnTo>
                    <a:pt x="83" y="159"/>
                  </a:lnTo>
                  <a:lnTo>
                    <a:pt x="96" y="143"/>
                  </a:lnTo>
                  <a:lnTo>
                    <a:pt x="109" y="128"/>
                  </a:lnTo>
                  <a:close/>
                </a:path>
              </a:pathLst>
            </a:custGeom>
            <a:solidFill>
              <a:srgbClr val="c08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93760" y="4284720"/>
              <a:ext cx="317520" cy="317520"/>
            </a:xfrm>
            <a:custGeom>
              <a:avLst/>
              <a:gdLst/>
              <a:ahLst/>
              <a:rect l="l" t="t" r="r" b="b"/>
              <a:pathLst>
                <a:path w="800" h="800">
                  <a:moveTo>
                    <a:pt x="109" y="126"/>
                  </a:moveTo>
                  <a:lnTo>
                    <a:pt x="124" y="112"/>
                  </a:lnTo>
                  <a:lnTo>
                    <a:pt x="138" y="99"/>
                  </a:lnTo>
                  <a:lnTo>
                    <a:pt x="154" y="85"/>
                  </a:lnTo>
                  <a:lnTo>
                    <a:pt x="169" y="73"/>
                  </a:lnTo>
                  <a:lnTo>
                    <a:pt x="186" y="63"/>
                  </a:lnTo>
                  <a:lnTo>
                    <a:pt x="203" y="52"/>
                  </a:lnTo>
                  <a:lnTo>
                    <a:pt x="221" y="43"/>
                  </a:lnTo>
                  <a:lnTo>
                    <a:pt x="239" y="35"/>
                  </a:lnTo>
                  <a:lnTo>
                    <a:pt x="256" y="28"/>
                  </a:lnTo>
                  <a:lnTo>
                    <a:pt x="275" y="21"/>
                  </a:lnTo>
                  <a:lnTo>
                    <a:pt x="293" y="16"/>
                  </a:lnTo>
                  <a:lnTo>
                    <a:pt x="312" y="11"/>
                  </a:lnTo>
                  <a:lnTo>
                    <a:pt x="331" y="6"/>
                  </a:lnTo>
                  <a:lnTo>
                    <a:pt x="349" y="4"/>
                  </a:lnTo>
                  <a:lnTo>
                    <a:pt x="368" y="1"/>
                  </a:lnTo>
                  <a:lnTo>
                    <a:pt x="388" y="1"/>
                  </a:lnTo>
                  <a:lnTo>
                    <a:pt x="407" y="0"/>
                  </a:lnTo>
                  <a:lnTo>
                    <a:pt x="426" y="1"/>
                  </a:lnTo>
                  <a:lnTo>
                    <a:pt x="445" y="4"/>
                  </a:lnTo>
                  <a:lnTo>
                    <a:pt x="464" y="6"/>
                  </a:lnTo>
                  <a:lnTo>
                    <a:pt x="484" y="10"/>
                  </a:lnTo>
                  <a:lnTo>
                    <a:pt x="503" y="13"/>
                  </a:lnTo>
                  <a:lnTo>
                    <a:pt x="521" y="19"/>
                  </a:lnTo>
                  <a:lnTo>
                    <a:pt x="540" y="25"/>
                  </a:lnTo>
                  <a:lnTo>
                    <a:pt x="558" y="33"/>
                  </a:lnTo>
                  <a:lnTo>
                    <a:pt x="576" y="41"/>
                  </a:lnTo>
                  <a:lnTo>
                    <a:pt x="593" y="49"/>
                  </a:lnTo>
                  <a:lnTo>
                    <a:pt x="611" y="60"/>
                  </a:lnTo>
                  <a:lnTo>
                    <a:pt x="628" y="71"/>
                  </a:lnTo>
                  <a:lnTo>
                    <a:pt x="643" y="83"/>
                  </a:lnTo>
                  <a:lnTo>
                    <a:pt x="659" y="95"/>
                  </a:lnTo>
                  <a:lnTo>
                    <a:pt x="674" y="109"/>
                  </a:lnTo>
                  <a:lnTo>
                    <a:pt x="689" y="124"/>
                  </a:lnTo>
                  <a:lnTo>
                    <a:pt x="703" y="138"/>
                  </a:lnTo>
                  <a:lnTo>
                    <a:pt x="715" y="154"/>
                  </a:lnTo>
                  <a:lnTo>
                    <a:pt x="727" y="171"/>
                  </a:lnTo>
                  <a:lnTo>
                    <a:pt x="739" y="187"/>
                  </a:lnTo>
                  <a:lnTo>
                    <a:pt x="749" y="204"/>
                  </a:lnTo>
                  <a:lnTo>
                    <a:pt x="758" y="221"/>
                  </a:lnTo>
                  <a:lnTo>
                    <a:pt x="767" y="239"/>
                  </a:lnTo>
                  <a:lnTo>
                    <a:pt x="774" y="257"/>
                  </a:lnTo>
                  <a:lnTo>
                    <a:pt x="780" y="275"/>
                  </a:lnTo>
                  <a:lnTo>
                    <a:pt x="786" y="293"/>
                  </a:lnTo>
                  <a:lnTo>
                    <a:pt x="791" y="312"/>
                  </a:lnTo>
                  <a:lnTo>
                    <a:pt x="794" y="331"/>
                  </a:lnTo>
                  <a:lnTo>
                    <a:pt x="797" y="351"/>
                  </a:lnTo>
                  <a:lnTo>
                    <a:pt x="799" y="370"/>
                  </a:lnTo>
                  <a:lnTo>
                    <a:pt x="800" y="389"/>
                  </a:lnTo>
                  <a:lnTo>
                    <a:pt x="800" y="408"/>
                  </a:lnTo>
                  <a:lnTo>
                    <a:pt x="799" y="427"/>
                  </a:lnTo>
                  <a:lnTo>
                    <a:pt x="798" y="446"/>
                  </a:lnTo>
                  <a:lnTo>
                    <a:pt x="796" y="466"/>
                  </a:lnTo>
                  <a:lnTo>
                    <a:pt x="792" y="484"/>
                  </a:lnTo>
                  <a:lnTo>
                    <a:pt x="787" y="503"/>
                  </a:lnTo>
                  <a:lnTo>
                    <a:pt x="782" y="522"/>
                  </a:lnTo>
                  <a:lnTo>
                    <a:pt x="775" y="540"/>
                  </a:lnTo>
                  <a:lnTo>
                    <a:pt x="768" y="558"/>
                  </a:lnTo>
                  <a:lnTo>
                    <a:pt x="761" y="576"/>
                  </a:lnTo>
                  <a:lnTo>
                    <a:pt x="751" y="594"/>
                  </a:lnTo>
                  <a:lnTo>
                    <a:pt x="742" y="611"/>
                  </a:lnTo>
                  <a:lnTo>
                    <a:pt x="731" y="628"/>
                  </a:lnTo>
                  <a:lnTo>
                    <a:pt x="719" y="644"/>
                  </a:lnTo>
                  <a:lnTo>
                    <a:pt x="706" y="660"/>
                  </a:lnTo>
                  <a:lnTo>
                    <a:pt x="692" y="676"/>
                  </a:lnTo>
                  <a:lnTo>
                    <a:pt x="678" y="690"/>
                  </a:lnTo>
                  <a:lnTo>
                    <a:pt x="662" y="703"/>
                  </a:lnTo>
                  <a:lnTo>
                    <a:pt x="647" y="716"/>
                  </a:lnTo>
                  <a:lnTo>
                    <a:pt x="631" y="728"/>
                  </a:lnTo>
                  <a:lnTo>
                    <a:pt x="614" y="739"/>
                  </a:lnTo>
                  <a:lnTo>
                    <a:pt x="598" y="749"/>
                  </a:lnTo>
                  <a:lnTo>
                    <a:pt x="580" y="758"/>
                  </a:lnTo>
                  <a:lnTo>
                    <a:pt x="563" y="767"/>
                  </a:lnTo>
                  <a:lnTo>
                    <a:pt x="545" y="774"/>
                  </a:lnTo>
                  <a:lnTo>
                    <a:pt x="526" y="781"/>
                  </a:lnTo>
                  <a:lnTo>
                    <a:pt x="508" y="786"/>
                  </a:lnTo>
                  <a:lnTo>
                    <a:pt x="488" y="791"/>
                  </a:lnTo>
                  <a:lnTo>
                    <a:pt x="470" y="794"/>
                  </a:lnTo>
                  <a:lnTo>
                    <a:pt x="451" y="798"/>
                  </a:lnTo>
                  <a:lnTo>
                    <a:pt x="432" y="799"/>
                  </a:lnTo>
                  <a:lnTo>
                    <a:pt x="413" y="800"/>
                  </a:lnTo>
                  <a:lnTo>
                    <a:pt x="394" y="800"/>
                  </a:lnTo>
                  <a:lnTo>
                    <a:pt x="374" y="800"/>
                  </a:lnTo>
                  <a:lnTo>
                    <a:pt x="355" y="798"/>
                  </a:lnTo>
                  <a:lnTo>
                    <a:pt x="336" y="796"/>
                  </a:lnTo>
                  <a:lnTo>
                    <a:pt x="317" y="792"/>
                  </a:lnTo>
                  <a:lnTo>
                    <a:pt x="298" y="787"/>
                  </a:lnTo>
                  <a:lnTo>
                    <a:pt x="280" y="782"/>
                  </a:lnTo>
                  <a:lnTo>
                    <a:pt x="260" y="776"/>
                  </a:lnTo>
                  <a:lnTo>
                    <a:pt x="242" y="769"/>
                  </a:lnTo>
                  <a:lnTo>
                    <a:pt x="224" y="761"/>
                  </a:lnTo>
                  <a:lnTo>
                    <a:pt x="208" y="751"/>
                  </a:lnTo>
                  <a:lnTo>
                    <a:pt x="190" y="742"/>
                  </a:lnTo>
                  <a:lnTo>
                    <a:pt x="174" y="731"/>
                  </a:lnTo>
                  <a:lnTo>
                    <a:pt x="157" y="719"/>
                  </a:lnTo>
                  <a:lnTo>
                    <a:pt x="142" y="706"/>
                  </a:lnTo>
                  <a:lnTo>
                    <a:pt x="126" y="692"/>
                  </a:lnTo>
                  <a:lnTo>
                    <a:pt x="112" y="678"/>
                  </a:lnTo>
                  <a:lnTo>
                    <a:pt x="97" y="662"/>
                  </a:lnTo>
                  <a:lnTo>
                    <a:pt x="85" y="647"/>
                  </a:lnTo>
                  <a:lnTo>
                    <a:pt x="73" y="631"/>
                  </a:lnTo>
                  <a:lnTo>
                    <a:pt x="62" y="614"/>
                  </a:lnTo>
                  <a:lnTo>
                    <a:pt x="52" y="598"/>
                  </a:lnTo>
                  <a:lnTo>
                    <a:pt x="42" y="581"/>
                  </a:lnTo>
                  <a:lnTo>
                    <a:pt x="34" y="563"/>
                  </a:lnTo>
                  <a:lnTo>
                    <a:pt x="26" y="545"/>
                  </a:lnTo>
                  <a:lnTo>
                    <a:pt x="20" y="527"/>
                  </a:lnTo>
                  <a:lnTo>
                    <a:pt x="14" y="508"/>
                  </a:lnTo>
                  <a:lnTo>
                    <a:pt x="10" y="490"/>
                  </a:lnTo>
                  <a:lnTo>
                    <a:pt x="6" y="470"/>
                  </a:lnTo>
                  <a:lnTo>
                    <a:pt x="4" y="451"/>
                  </a:lnTo>
                  <a:lnTo>
                    <a:pt x="1" y="432"/>
                  </a:lnTo>
                  <a:lnTo>
                    <a:pt x="0" y="413"/>
                  </a:lnTo>
                  <a:lnTo>
                    <a:pt x="0" y="394"/>
                  </a:lnTo>
                  <a:lnTo>
                    <a:pt x="1" y="374"/>
                  </a:lnTo>
                  <a:lnTo>
                    <a:pt x="2" y="355"/>
                  </a:lnTo>
                  <a:lnTo>
                    <a:pt x="5" y="336"/>
                  </a:lnTo>
                  <a:lnTo>
                    <a:pt x="8" y="317"/>
                  </a:lnTo>
                  <a:lnTo>
                    <a:pt x="13" y="299"/>
                  </a:lnTo>
                  <a:lnTo>
                    <a:pt x="19" y="280"/>
                  </a:lnTo>
                  <a:lnTo>
                    <a:pt x="25" y="262"/>
                  </a:lnTo>
                  <a:lnTo>
                    <a:pt x="32" y="244"/>
                  </a:lnTo>
                  <a:lnTo>
                    <a:pt x="41" y="226"/>
                  </a:lnTo>
                  <a:lnTo>
                    <a:pt x="49" y="208"/>
                  </a:lnTo>
                  <a:lnTo>
                    <a:pt x="59" y="191"/>
                  </a:lnTo>
                  <a:lnTo>
                    <a:pt x="71" y="174"/>
                  </a:lnTo>
                  <a:lnTo>
                    <a:pt x="82" y="157"/>
                  </a:lnTo>
                  <a:lnTo>
                    <a:pt x="95" y="142"/>
                  </a:lnTo>
                  <a:lnTo>
                    <a:pt x="109" y="126"/>
                  </a:lnTo>
                  <a:close/>
                </a:path>
              </a:pathLst>
            </a:custGeom>
            <a:solidFill>
              <a:srgbClr val="c48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97000" y="4286160"/>
              <a:ext cx="314280" cy="314280"/>
            </a:xfrm>
            <a:custGeom>
              <a:avLst/>
              <a:gdLst/>
              <a:ahLst/>
              <a:rect l="l" t="t" r="r" b="b"/>
              <a:pathLst>
                <a:path w="793" h="792">
                  <a:moveTo>
                    <a:pt x="108" y="125"/>
                  </a:moveTo>
                  <a:lnTo>
                    <a:pt x="122" y="109"/>
                  </a:lnTo>
                  <a:lnTo>
                    <a:pt x="137" y="96"/>
                  </a:lnTo>
                  <a:lnTo>
                    <a:pt x="152" y="84"/>
                  </a:lnTo>
                  <a:lnTo>
                    <a:pt x="168" y="72"/>
                  </a:lnTo>
                  <a:lnTo>
                    <a:pt x="185" y="61"/>
                  </a:lnTo>
                  <a:lnTo>
                    <a:pt x="202" y="51"/>
                  </a:lnTo>
                  <a:lnTo>
                    <a:pt x="218" y="42"/>
                  </a:lnTo>
                  <a:lnTo>
                    <a:pt x="236" y="34"/>
                  </a:lnTo>
                  <a:lnTo>
                    <a:pt x="253" y="27"/>
                  </a:lnTo>
                  <a:lnTo>
                    <a:pt x="272" y="19"/>
                  </a:lnTo>
                  <a:lnTo>
                    <a:pt x="290" y="15"/>
                  </a:lnTo>
                  <a:lnTo>
                    <a:pt x="308" y="10"/>
                  </a:lnTo>
                  <a:lnTo>
                    <a:pt x="328" y="6"/>
                  </a:lnTo>
                  <a:lnTo>
                    <a:pt x="347" y="3"/>
                  </a:lnTo>
                  <a:lnTo>
                    <a:pt x="365" y="1"/>
                  </a:lnTo>
                  <a:lnTo>
                    <a:pt x="384" y="0"/>
                  </a:lnTo>
                  <a:lnTo>
                    <a:pt x="403" y="0"/>
                  </a:lnTo>
                  <a:lnTo>
                    <a:pt x="422" y="0"/>
                  </a:lnTo>
                  <a:lnTo>
                    <a:pt x="442" y="3"/>
                  </a:lnTo>
                  <a:lnTo>
                    <a:pt x="461" y="5"/>
                  </a:lnTo>
                  <a:lnTo>
                    <a:pt x="479" y="9"/>
                  </a:lnTo>
                  <a:lnTo>
                    <a:pt x="498" y="13"/>
                  </a:lnTo>
                  <a:lnTo>
                    <a:pt x="516" y="18"/>
                  </a:lnTo>
                  <a:lnTo>
                    <a:pt x="535" y="24"/>
                  </a:lnTo>
                  <a:lnTo>
                    <a:pt x="552" y="31"/>
                  </a:lnTo>
                  <a:lnTo>
                    <a:pt x="570" y="40"/>
                  </a:lnTo>
                  <a:lnTo>
                    <a:pt x="588" y="48"/>
                  </a:lnTo>
                  <a:lnTo>
                    <a:pt x="605" y="59"/>
                  </a:lnTo>
                  <a:lnTo>
                    <a:pt x="622" y="70"/>
                  </a:lnTo>
                  <a:lnTo>
                    <a:pt x="637" y="81"/>
                  </a:lnTo>
                  <a:lnTo>
                    <a:pt x="653" y="94"/>
                  </a:lnTo>
                  <a:lnTo>
                    <a:pt x="668" y="107"/>
                  </a:lnTo>
                  <a:lnTo>
                    <a:pt x="683" y="121"/>
                  </a:lnTo>
                  <a:lnTo>
                    <a:pt x="696" y="137"/>
                  </a:lnTo>
                  <a:lnTo>
                    <a:pt x="709" y="151"/>
                  </a:lnTo>
                  <a:lnTo>
                    <a:pt x="721" y="168"/>
                  </a:lnTo>
                  <a:lnTo>
                    <a:pt x="732" y="184"/>
                  </a:lnTo>
                  <a:lnTo>
                    <a:pt x="742" y="201"/>
                  </a:lnTo>
                  <a:lnTo>
                    <a:pt x="751" y="219"/>
                  </a:lnTo>
                  <a:lnTo>
                    <a:pt x="760" y="235"/>
                  </a:lnTo>
                  <a:lnTo>
                    <a:pt x="767" y="253"/>
                  </a:lnTo>
                  <a:lnTo>
                    <a:pt x="773" y="271"/>
                  </a:lnTo>
                  <a:lnTo>
                    <a:pt x="779" y="289"/>
                  </a:lnTo>
                  <a:lnTo>
                    <a:pt x="784" y="309"/>
                  </a:lnTo>
                  <a:lnTo>
                    <a:pt x="787" y="328"/>
                  </a:lnTo>
                  <a:lnTo>
                    <a:pt x="790" y="346"/>
                  </a:lnTo>
                  <a:lnTo>
                    <a:pt x="792" y="365"/>
                  </a:lnTo>
                  <a:lnTo>
                    <a:pt x="793" y="384"/>
                  </a:lnTo>
                  <a:lnTo>
                    <a:pt x="793" y="403"/>
                  </a:lnTo>
                  <a:lnTo>
                    <a:pt x="792" y="422"/>
                  </a:lnTo>
                  <a:lnTo>
                    <a:pt x="791" y="442"/>
                  </a:lnTo>
                  <a:lnTo>
                    <a:pt x="788" y="460"/>
                  </a:lnTo>
                  <a:lnTo>
                    <a:pt x="785" y="479"/>
                  </a:lnTo>
                  <a:lnTo>
                    <a:pt x="780" y="498"/>
                  </a:lnTo>
                  <a:lnTo>
                    <a:pt x="774" y="516"/>
                  </a:lnTo>
                  <a:lnTo>
                    <a:pt x="768" y="534"/>
                  </a:lnTo>
                  <a:lnTo>
                    <a:pt x="761" y="552"/>
                  </a:lnTo>
                  <a:lnTo>
                    <a:pt x="754" y="570"/>
                  </a:lnTo>
                  <a:lnTo>
                    <a:pt x="744" y="587"/>
                  </a:lnTo>
                  <a:lnTo>
                    <a:pt x="734" y="605"/>
                  </a:lnTo>
                  <a:lnTo>
                    <a:pt x="724" y="620"/>
                  </a:lnTo>
                  <a:lnTo>
                    <a:pt x="712" y="637"/>
                  </a:lnTo>
                  <a:lnTo>
                    <a:pt x="700" y="653"/>
                  </a:lnTo>
                  <a:lnTo>
                    <a:pt x="685" y="668"/>
                  </a:lnTo>
                  <a:lnTo>
                    <a:pt x="671" y="683"/>
                  </a:lnTo>
                  <a:lnTo>
                    <a:pt x="656" y="696"/>
                  </a:lnTo>
                  <a:lnTo>
                    <a:pt x="641" y="709"/>
                  </a:lnTo>
                  <a:lnTo>
                    <a:pt x="625" y="720"/>
                  </a:lnTo>
                  <a:lnTo>
                    <a:pt x="608" y="731"/>
                  </a:lnTo>
                  <a:lnTo>
                    <a:pt x="592" y="742"/>
                  </a:lnTo>
                  <a:lnTo>
                    <a:pt x="575" y="750"/>
                  </a:lnTo>
                  <a:lnTo>
                    <a:pt x="557" y="758"/>
                  </a:lnTo>
                  <a:lnTo>
                    <a:pt x="539" y="766"/>
                  </a:lnTo>
                  <a:lnTo>
                    <a:pt x="521" y="773"/>
                  </a:lnTo>
                  <a:lnTo>
                    <a:pt x="503" y="778"/>
                  </a:lnTo>
                  <a:lnTo>
                    <a:pt x="485" y="782"/>
                  </a:lnTo>
                  <a:lnTo>
                    <a:pt x="466" y="786"/>
                  </a:lnTo>
                  <a:lnTo>
                    <a:pt x="446" y="790"/>
                  </a:lnTo>
                  <a:lnTo>
                    <a:pt x="427" y="791"/>
                  </a:lnTo>
                  <a:lnTo>
                    <a:pt x="409" y="792"/>
                  </a:lnTo>
                  <a:lnTo>
                    <a:pt x="390" y="792"/>
                  </a:lnTo>
                  <a:lnTo>
                    <a:pt x="371" y="792"/>
                  </a:lnTo>
                  <a:lnTo>
                    <a:pt x="352" y="790"/>
                  </a:lnTo>
                  <a:lnTo>
                    <a:pt x="332" y="787"/>
                  </a:lnTo>
                  <a:lnTo>
                    <a:pt x="313" y="784"/>
                  </a:lnTo>
                  <a:lnTo>
                    <a:pt x="295" y="780"/>
                  </a:lnTo>
                  <a:lnTo>
                    <a:pt x="277" y="774"/>
                  </a:lnTo>
                  <a:lnTo>
                    <a:pt x="258" y="768"/>
                  </a:lnTo>
                  <a:lnTo>
                    <a:pt x="240" y="761"/>
                  </a:lnTo>
                  <a:lnTo>
                    <a:pt x="223" y="752"/>
                  </a:lnTo>
                  <a:lnTo>
                    <a:pt x="205" y="744"/>
                  </a:lnTo>
                  <a:lnTo>
                    <a:pt x="188" y="733"/>
                  </a:lnTo>
                  <a:lnTo>
                    <a:pt x="172" y="722"/>
                  </a:lnTo>
                  <a:lnTo>
                    <a:pt x="156" y="712"/>
                  </a:lnTo>
                  <a:lnTo>
                    <a:pt x="140" y="698"/>
                  </a:lnTo>
                  <a:lnTo>
                    <a:pt x="125" y="685"/>
                  </a:lnTo>
                  <a:lnTo>
                    <a:pt x="110" y="671"/>
                  </a:lnTo>
                  <a:lnTo>
                    <a:pt x="97" y="655"/>
                  </a:lnTo>
                  <a:lnTo>
                    <a:pt x="84" y="641"/>
                  </a:lnTo>
                  <a:lnTo>
                    <a:pt x="72" y="624"/>
                  </a:lnTo>
                  <a:lnTo>
                    <a:pt x="61" y="608"/>
                  </a:lnTo>
                  <a:lnTo>
                    <a:pt x="52" y="592"/>
                  </a:lnTo>
                  <a:lnTo>
                    <a:pt x="42" y="574"/>
                  </a:lnTo>
                  <a:lnTo>
                    <a:pt x="34" y="557"/>
                  </a:lnTo>
                  <a:lnTo>
                    <a:pt x="26" y="539"/>
                  </a:lnTo>
                  <a:lnTo>
                    <a:pt x="20" y="521"/>
                  </a:lnTo>
                  <a:lnTo>
                    <a:pt x="14" y="503"/>
                  </a:lnTo>
                  <a:lnTo>
                    <a:pt x="10" y="484"/>
                  </a:lnTo>
                  <a:lnTo>
                    <a:pt x="6" y="466"/>
                  </a:lnTo>
                  <a:lnTo>
                    <a:pt x="4" y="446"/>
                  </a:lnTo>
                  <a:lnTo>
                    <a:pt x="1" y="427"/>
                  </a:lnTo>
                  <a:lnTo>
                    <a:pt x="0" y="408"/>
                  </a:lnTo>
                  <a:lnTo>
                    <a:pt x="0" y="389"/>
                  </a:lnTo>
                  <a:lnTo>
                    <a:pt x="1" y="370"/>
                  </a:lnTo>
                  <a:lnTo>
                    <a:pt x="2" y="352"/>
                  </a:lnTo>
                  <a:lnTo>
                    <a:pt x="5" y="333"/>
                  </a:lnTo>
                  <a:lnTo>
                    <a:pt x="8" y="313"/>
                  </a:lnTo>
                  <a:lnTo>
                    <a:pt x="13" y="295"/>
                  </a:lnTo>
                  <a:lnTo>
                    <a:pt x="18" y="276"/>
                  </a:lnTo>
                  <a:lnTo>
                    <a:pt x="25" y="258"/>
                  </a:lnTo>
                  <a:lnTo>
                    <a:pt x="32" y="240"/>
                  </a:lnTo>
                  <a:lnTo>
                    <a:pt x="40" y="222"/>
                  </a:lnTo>
                  <a:lnTo>
                    <a:pt x="49" y="205"/>
                  </a:lnTo>
                  <a:lnTo>
                    <a:pt x="59" y="189"/>
                  </a:lnTo>
                  <a:lnTo>
                    <a:pt x="70" y="172"/>
                  </a:lnTo>
                  <a:lnTo>
                    <a:pt x="82" y="155"/>
                  </a:lnTo>
                  <a:lnTo>
                    <a:pt x="94" y="139"/>
                  </a:lnTo>
                  <a:lnTo>
                    <a:pt x="108" y="125"/>
                  </a:lnTo>
                  <a:close/>
                </a:path>
              </a:pathLst>
            </a:custGeom>
            <a:solidFill>
              <a:srgbClr val="ca8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98800" y="4287960"/>
              <a:ext cx="311040" cy="312480"/>
            </a:xfrm>
            <a:custGeom>
              <a:avLst/>
              <a:gdLst/>
              <a:ahLst/>
              <a:rect l="l" t="t" r="r" b="b"/>
              <a:pathLst>
                <a:path w="785" h="785">
                  <a:moveTo>
                    <a:pt x="107" y="124"/>
                  </a:moveTo>
                  <a:lnTo>
                    <a:pt x="121" y="109"/>
                  </a:lnTo>
                  <a:lnTo>
                    <a:pt x="136" y="96"/>
                  </a:lnTo>
                  <a:lnTo>
                    <a:pt x="151" y="83"/>
                  </a:lnTo>
                  <a:lnTo>
                    <a:pt x="167" y="71"/>
                  </a:lnTo>
                  <a:lnTo>
                    <a:pt x="182" y="60"/>
                  </a:lnTo>
                  <a:lnTo>
                    <a:pt x="199" y="50"/>
                  </a:lnTo>
                  <a:lnTo>
                    <a:pt x="216" y="42"/>
                  </a:lnTo>
                  <a:lnTo>
                    <a:pt x="234" y="34"/>
                  </a:lnTo>
                  <a:lnTo>
                    <a:pt x="251" y="26"/>
                  </a:lnTo>
                  <a:lnTo>
                    <a:pt x="269" y="19"/>
                  </a:lnTo>
                  <a:lnTo>
                    <a:pt x="288" y="14"/>
                  </a:lnTo>
                  <a:lnTo>
                    <a:pt x="306" y="10"/>
                  </a:lnTo>
                  <a:lnTo>
                    <a:pt x="324" y="6"/>
                  </a:lnTo>
                  <a:lnTo>
                    <a:pt x="343" y="4"/>
                  </a:lnTo>
                  <a:lnTo>
                    <a:pt x="362" y="1"/>
                  </a:lnTo>
                  <a:lnTo>
                    <a:pt x="380" y="0"/>
                  </a:lnTo>
                  <a:lnTo>
                    <a:pt x="400" y="0"/>
                  </a:lnTo>
                  <a:lnTo>
                    <a:pt x="419" y="1"/>
                  </a:lnTo>
                  <a:lnTo>
                    <a:pt x="437" y="2"/>
                  </a:lnTo>
                  <a:lnTo>
                    <a:pt x="456" y="5"/>
                  </a:lnTo>
                  <a:lnTo>
                    <a:pt x="475" y="8"/>
                  </a:lnTo>
                  <a:lnTo>
                    <a:pt x="493" y="13"/>
                  </a:lnTo>
                  <a:lnTo>
                    <a:pt x="511" y="18"/>
                  </a:lnTo>
                  <a:lnTo>
                    <a:pt x="529" y="24"/>
                  </a:lnTo>
                  <a:lnTo>
                    <a:pt x="547" y="31"/>
                  </a:lnTo>
                  <a:lnTo>
                    <a:pt x="565" y="40"/>
                  </a:lnTo>
                  <a:lnTo>
                    <a:pt x="582" y="48"/>
                  </a:lnTo>
                  <a:lnTo>
                    <a:pt x="599" y="58"/>
                  </a:lnTo>
                  <a:lnTo>
                    <a:pt x="616" y="68"/>
                  </a:lnTo>
                  <a:lnTo>
                    <a:pt x="631" y="80"/>
                  </a:lnTo>
                  <a:lnTo>
                    <a:pt x="647" y="92"/>
                  </a:lnTo>
                  <a:lnTo>
                    <a:pt x="662" y="107"/>
                  </a:lnTo>
                  <a:lnTo>
                    <a:pt x="677" y="120"/>
                  </a:lnTo>
                  <a:lnTo>
                    <a:pt x="690" y="136"/>
                  </a:lnTo>
                  <a:lnTo>
                    <a:pt x="702" y="150"/>
                  </a:lnTo>
                  <a:lnTo>
                    <a:pt x="714" y="167"/>
                  </a:lnTo>
                  <a:lnTo>
                    <a:pt x="725" y="182"/>
                  </a:lnTo>
                  <a:lnTo>
                    <a:pt x="734" y="199"/>
                  </a:lnTo>
                  <a:lnTo>
                    <a:pt x="744" y="216"/>
                  </a:lnTo>
                  <a:lnTo>
                    <a:pt x="752" y="234"/>
                  </a:lnTo>
                  <a:lnTo>
                    <a:pt x="760" y="251"/>
                  </a:lnTo>
                  <a:lnTo>
                    <a:pt x="766" y="269"/>
                  </a:lnTo>
                  <a:lnTo>
                    <a:pt x="772" y="287"/>
                  </a:lnTo>
                  <a:lnTo>
                    <a:pt x="775" y="306"/>
                  </a:lnTo>
                  <a:lnTo>
                    <a:pt x="780" y="324"/>
                  </a:lnTo>
                  <a:lnTo>
                    <a:pt x="782" y="343"/>
                  </a:lnTo>
                  <a:lnTo>
                    <a:pt x="785" y="361"/>
                  </a:lnTo>
                  <a:lnTo>
                    <a:pt x="785" y="380"/>
                  </a:lnTo>
                  <a:lnTo>
                    <a:pt x="785" y="399"/>
                  </a:lnTo>
                  <a:lnTo>
                    <a:pt x="785" y="419"/>
                  </a:lnTo>
                  <a:lnTo>
                    <a:pt x="782" y="437"/>
                  </a:lnTo>
                  <a:lnTo>
                    <a:pt x="780" y="456"/>
                  </a:lnTo>
                  <a:lnTo>
                    <a:pt x="776" y="474"/>
                  </a:lnTo>
                  <a:lnTo>
                    <a:pt x="773" y="493"/>
                  </a:lnTo>
                  <a:lnTo>
                    <a:pt x="767" y="511"/>
                  </a:lnTo>
                  <a:lnTo>
                    <a:pt x="761" y="529"/>
                  </a:lnTo>
                  <a:lnTo>
                    <a:pt x="754" y="547"/>
                  </a:lnTo>
                  <a:lnTo>
                    <a:pt x="746" y="565"/>
                  </a:lnTo>
                  <a:lnTo>
                    <a:pt x="737" y="582"/>
                  </a:lnTo>
                  <a:lnTo>
                    <a:pt x="727" y="599"/>
                  </a:lnTo>
                  <a:lnTo>
                    <a:pt x="716" y="615"/>
                  </a:lnTo>
                  <a:lnTo>
                    <a:pt x="704" y="631"/>
                  </a:lnTo>
                  <a:lnTo>
                    <a:pt x="692" y="647"/>
                  </a:lnTo>
                  <a:lnTo>
                    <a:pt x="679" y="662"/>
                  </a:lnTo>
                  <a:lnTo>
                    <a:pt x="665" y="677"/>
                  </a:lnTo>
                  <a:lnTo>
                    <a:pt x="650" y="690"/>
                  </a:lnTo>
                  <a:lnTo>
                    <a:pt x="635" y="702"/>
                  </a:lnTo>
                  <a:lnTo>
                    <a:pt x="619" y="714"/>
                  </a:lnTo>
                  <a:lnTo>
                    <a:pt x="602" y="725"/>
                  </a:lnTo>
                  <a:lnTo>
                    <a:pt x="586" y="734"/>
                  </a:lnTo>
                  <a:lnTo>
                    <a:pt x="569" y="744"/>
                  </a:lnTo>
                  <a:lnTo>
                    <a:pt x="552" y="752"/>
                  </a:lnTo>
                  <a:lnTo>
                    <a:pt x="534" y="759"/>
                  </a:lnTo>
                  <a:lnTo>
                    <a:pt x="516" y="765"/>
                  </a:lnTo>
                  <a:lnTo>
                    <a:pt x="498" y="771"/>
                  </a:lnTo>
                  <a:lnTo>
                    <a:pt x="480" y="775"/>
                  </a:lnTo>
                  <a:lnTo>
                    <a:pt x="461" y="780"/>
                  </a:lnTo>
                  <a:lnTo>
                    <a:pt x="443" y="782"/>
                  </a:lnTo>
                  <a:lnTo>
                    <a:pt x="424" y="783"/>
                  </a:lnTo>
                  <a:lnTo>
                    <a:pt x="404" y="785"/>
                  </a:lnTo>
                  <a:lnTo>
                    <a:pt x="386" y="785"/>
                  </a:lnTo>
                  <a:lnTo>
                    <a:pt x="367" y="785"/>
                  </a:lnTo>
                  <a:lnTo>
                    <a:pt x="348" y="782"/>
                  </a:lnTo>
                  <a:lnTo>
                    <a:pt x="330" y="780"/>
                  </a:lnTo>
                  <a:lnTo>
                    <a:pt x="311" y="776"/>
                  </a:lnTo>
                  <a:lnTo>
                    <a:pt x="293" y="773"/>
                  </a:lnTo>
                  <a:lnTo>
                    <a:pt x="274" y="767"/>
                  </a:lnTo>
                  <a:lnTo>
                    <a:pt x="256" y="761"/>
                  </a:lnTo>
                  <a:lnTo>
                    <a:pt x="238" y="753"/>
                  </a:lnTo>
                  <a:lnTo>
                    <a:pt x="221" y="746"/>
                  </a:lnTo>
                  <a:lnTo>
                    <a:pt x="203" y="737"/>
                  </a:lnTo>
                  <a:lnTo>
                    <a:pt x="186" y="727"/>
                  </a:lnTo>
                  <a:lnTo>
                    <a:pt x="170" y="716"/>
                  </a:lnTo>
                  <a:lnTo>
                    <a:pt x="154" y="704"/>
                  </a:lnTo>
                  <a:lnTo>
                    <a:pt x="138" y="692"/>
                  </a:lnTo>
                  <a:lnTo>
                    <a:pt x="124" y="679"/>
                  </a:lnTo>
                  <a:lnTo>
                    <a:pt x="109" y="665"/>
                  </a:lnTo>
                  <a:lnTo>
                    <a:pt x="96" y="650"/>
                  </a:lnTo>
                  <a:lnTo>
                    <a:pt x="83" y="635"/>
                  </a:lnTo>
                  <a:lnTo>
                    <a:pt x="71" y="619"/>
                  </a:lnTo>
                  <a:lnTo>
                    <a:pt x="60" y="602"/>
                  </a:lnTo>
                  <a:lnTo>
                    <a:pt x="50" y="585"/>
                  </a:lnTo>
                  <a:lnTo>
                    <a:pt x="42" y="569"/>
                  </a:lnTo>
                  <a:lnTo>
                    <a:pt x="34" y="552"/>
                  </a:lnTo>
                  <a:lnTo>
                    <a:pt x="26" y="534"/>
                  </a:lnTo>
                  <a:lnTo>
                    <a:pt x="19" y="516"/>
                  </a:lnTo>
                  <a:lnTo>
                    <a:pt x="14" y="498"/>
                  </a:lnTo>
                  <a:lnTo>
                    <a:pt x="10" y="480"/>
                  </a:lnTo>
                  <a:lnTo>
                    <a:pt x="6" y="461"/>
                  </a:lnTo>
                  <a:lnTo>
                    <a:pt x="4" y="443"/>
                  </a:lnTo>
                  <a:lnTo>
                    <a:pt x="1" y="423"/>
                  </a:lnTo>
                  <a:lnTo>
                    <a:pt x="0" y="404"/>
                  </a:lnTo>
                  <a:lnTo>
                    <a:pt x="0" y="385"/>
                  </a:lnTo>
                  <a:lnTo>
                    <a:pt x="1" y="367"/>
                  </a:lnTo>
                  <a:lnTo>
                    <a:pt x="2" y="348"/>
                  </a:lnTo>
                  <a:lnTo>
                    <a:pt x="5" y="329"/>
                  </a:lnTo>
                  <a:lnTo>
                    <a:pt x="8" y="311"/>
                  </a:lnTo>
                  <a:lnTo>
                    <a:pt x="13" y="293"/>
                  </a:lnTo>
                  <a:lnTo>
                    <a:pt x="18" y="274"/>
                  </a:lnTo>
                  <a:lnTo>
                    <a:pt x="24" y="256"/>
                  </a:lnTo>
                  <a:lnTo>
                    <a:pt x="31" y="238"/>
                  </a:lnTo>
                  <a:lnTo>
                    <a:pt x="40" y="221"/>
                  </a:lnTo>
                  <a:lnTo>
                    <a:pt x="48" y="203"/>
                  </a:lnTo>
                  <a:lnTo>
                    <a:pt x="58" y="186"/>
                  </a:lnTo>
                  <a:lnTo>
                    <a:pt x="68" y="170"/>
                  </a:lnTo>
                  <a:lnTo>
                    <a:pt x="80" y="154"/>
                  </a:lnTo>
                  <a:lnTo>
                    <a:pt x="94" y="138"/>
                  </a:lnTo>
                  <a:lnTo>
                    <a:pt x="107" y="124"/>
                  </a:lnTo>
                  <a:close/>
                </a:path>
              </a:pathLst>
            </a:custGeom>
            <a:solidFill>
              <a:srgbClr val="cc8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01680" y="4290840"/>
              <a:ext cx="308160" cy="308160"/>
            </a:xfrm>
            <a:custGeom>
              <a:avLst/>
              <a:gdLst/>
              <a:ahLst/>
              <a:rect l="l" t="t" r="r" b="b"/>
              <a:pathLst>
                <a:path w="778" h="777">
                  <a:moveTo>
                    <a:pt x="106" y="122"/>
                  </a:moveTo>
                  <a:lnTo>
                    <a:pt x="120" y="108"/>
                  </a:lnTo>
                  <a:lnTo>
                    <a:pt x="134" y="95"/>
                  </a:lnTo>
                  <a:lnTo>
                    <a:pt x="149" y="83"/>
                  </a:lnTo>
                  <a:lnTo>
                    <a:pt x="164" y="71"/>
                  </a:lnTo>
                  <a:lnTo>
                    <a:pt x="181" y="60"/>
                  </a:lnTo>
                  <a:lnTo>
                    <a:pt x="197" y="50"/>
                  </a:lnTo>
                  <a:lnTo>
                    <a:pt x="214" y="41"/>
                  </a:lnTo>
                  <a:lnTo>
                    <a:pt x="232" y="33"/>
                  </a:lnTo>
                  <a:lnTo>
                    <a:pt x="248" y="26"/>
                  </a:lnTo>
                  <a:lnTo>
                    <a:pt x="266" y="19"/>
                  </a:lnTo>
                  <a:lnTo>
                    <a:pt x="284" y="14"/>
                  </a:lnTo>
                  <a:lnTo>
                    <a:pt x="302" y="9"/>
                  </a:lnTo>
                  <a:lnTo>
                    <a:pt x="322" y="6"/>
                  </a:lnTo>
                  <a:lnTo>
                    <a:pt x="340" y="3"/>
                  </a:lnTo>
                  <a:lnTo>
                    <a:pt x="359" y="1"/>
                  </a:lnTo>
                  <a:lnTo>
                    <a:pt x="377" y="0"/>
                  </a:lnTo>
                  <a:lnTo>
                    <a:pt x="396" y="0"/>
                  </a:lnTo>
                  <a:lnTo>
                    <a:pt x="414" y="1"/>
                  </a:lnTo>
                  <a:lnTo>
                    <a:pt x="433" y="2"/>
                  </a:lnTo>
                  <a:lnTo>
                    <a:pt x="451" y="5"/>
                  </a:lnTo>
                  <a:lnTo>
                    <a:pt x="470" y="8"/>
                  </a:lnTo>
                  <a:lnTo>
                    <a:pt x="488" y="13"/>
                  </a:lnTo>
                  <a:lnTo>
                    <a:pt x="506" y="18"/>
                  </a:lnTo>
                  <a:lnTo>
                    <a:pt x="524" y="24"/>
                  </a:lnTo>
                  <a:lnTo>
                    <a:pt x="542" y="31"/>
                  </a:lnTo>
                  <a:lnTo>
                    <a:pt x="559" y="39"/>
                  </a:lnTo>
                  <a:lnTo>
                    <a:pt x="576" y="48"/>
                  </a:lnTo>
                  <a:lnTo>
                    <a:pt x="593" y="57"/>
                  </a:lnTo>
                  <a:lnTo>
                    <a:pt x="610" y="68"/>
                  </a:lnTo>
                  <a:lnTo>
                    <a:pt x="625" y="80"/>
                  </a:lnTo>
                  <a:lnTo>
                    <a:pt x="641" y="92"/>
                  </a:lnTo>
                  <a:lnTo>
                    <a:pt x="655" y="105"/>
                  </a:lnTo>
                  <a:lnTo>
                    <a:pt x="670" y="120"/>
                  </a:lnTo>
                  <a:lnTo>
                    <a:pt x="683" y="134"/>
                  </a:lnTo>
                  <a:lnTo>
                    <a:pt x="696" y="150"/>
                  </a:lnTo>
                  <a:lnTo>
                    <a:pt x="707" y="165"/>
                  </a:lnTo>
                  <a:lnTo>
                    <a:pt x="718" y="181"/>
                  </a:lnTo>
                  <a:lnTo>
                    <a:pt x="728" y="198"/>
                  </a:lnTo>
                  <a:lnTo>
                    <a:pt x="737" y="215"/>
                  </a:lnTo>
                  <a:lnTo>
                    <a:pt x="745" y="231"/>
                  </a:lnTo>
                  <a:lnTo>
                    <a:pt x="752" y="249"/>
                  </a:lnTo>
                  <a:lnTo>
                    <a:pt x="758" y="266"/>
                  </a:lnTo>
                  <a:lnTo>
                    <a:pt x="764" y="284"/>
                  </a:lnTo>
                  <a:lnTo>
                    <a:pt x="768" y="303"/>
                  </a:lnTo>
                  <a:lnTo>
                    <a:pt x="772" y="321"/>
                  </a:lnTo>
                  <a:lnTo>
                    <a:pt x="775" y="339"/>
                  </a:lnTo>
                  <a:lnTo>
                    <a:pt x="776" y="358"/>
                  </a:lnTo>
                  <a:lnTo>
                    <a:pt x="778" y="376"/>
                  </a:lnTo>
                  <a:lnTo>
                    <a:pt x="778" y="396"/>
                  </a:lnTo>
                  <a:lnTo>
                    <a:pt x="778" y="415"/>
                  </a:lnTo>
                  <a:lnTo>
                    <a:pt x="775" y="433"/>
                  </a:lnTo>
                  <a:lnTo>
                    <a:pt x="773" y="452"/>
                  </a:lnTo>
                  <a:lnTo>
                    <a:pt x="769" y="470"/>
                  </a:lnTo>
                  <a:lnTo>
                    <a:pt x="766" y="488"/>
                  </a:lnTo>
                  <a:lnTo>
                    <a:pt x="760" y="506"/>
                  </a:lnTo>
                  <a:lnTo>
                    <a:pt x="754" y="524"/>
                  </a:lnTo>
                  <a:lnTo>
                    <a:pt x="746" y="542"/>
                  </a:lnTo>
                  <a:lnTo>
                    <a:pt x="739" y="559"/>
                  </a:lnTo>
                  <a:lnTo>
                    <a:pt x="730" y="577"/>
                  </a:lnTo>
                  <a:lnTo>
                    <a:pt x="720" y="594"/>
                  </a:lnTo>
                  <a:lnTo>
                    <a:pt x="709" y="609"/>
                  </a:lnTo>
                  <a:lnTo>
                    <a:pt x="698" y="625"/>
                  </a:lnTo>
                  <a:lnTo>
                    <a:pt x="686" y="640"/>
                  </a:lnTo>
                  <a:lnTo>
                    <a:pt x="672" y="656"/>
                  </a:lnTo>
                  <a:lnTo>
                    <a:pt x="659" y="669"/>
                  </a:lnTo>
                  <a:lnTo>
                    <a:pt x="644" y="684"/>
                  </a:lnTo>
                  <a:lnTo>
                    <a:pt x="629" y="696"/>
                  </a:lnTo>
                  <a:lnTo>
                    <a:pt x="613" y="708"/>
                  </a:lnTo>
                  <a:lnTo>
                    <a:pt x="598" y="718"/>
                  </a:lnTo>
                  <a:lnTo>
                    <a:pt x="581" y="728"/>
                  </a:lnTo>
                  <a:lnTo>
                    <a:pt x="564" y="736"/>
                  </a:lnTo>
                  <a:lnTo>
                    <a:pt x="546" y="745"/>
                  </a:lnTo>
                  <a:lnTo>
                    <a:pt x="529" y="752"/>
                  </a:lnTo>
                  <a:lnTo>
                    <a:pt x="511" y="758"/>
                  </a:lnTo>
                  <a:lnTo>
                    <a:pt x="493" y="764"/>
                  </a:lnTo>
                  <a:lnTo>
                    <a:pt x="475" y="769"/>
                  </a:lnTo>
                  <a:lnTo>
                    <a:pt x="457" y="772"/>
                  </a:lnTo>
                  <a:lnTo>
                    <a:pt x="438" y="775"/>
                  </a:lnTo>
                  <a:lnTo>
                    <a:pt x="420" y="777"/>
                  </a:lnTo>
                  <a:lnTo>
                    <a:pt x="401" y="777"/>
                  </a:lnTo>
                  <a:lnTo>
                    <a:pt x="382" y="777"/>
                  </a:lnTo>
                  <a:lnTo>
                    <a:pt x="364" y="777"/>
                  </a:lnTo>
                  <a:lnTo>
                    <a:pt x="344" y="775"/>
                  </a:lnTo>
                  <a:lnTo>
                    <a:pt x="326" y="772"/>
                  </a:lnTo>
                  <a:lnTo>
                    <a:pt x="307" y="769"/>
                  </a:lnTo>
                  <a:lnTo>
                    <a:pt x="289" y="765"/>
                  </a:lnTo>
                  <a:lnTo>
                    <a:pt x="271" y="760"/>
                  </a:lnTo>
                  <a:lnTo>
                    <a:pt x="253" y="753"/>
                  </a:lnTo>
                  <a:lnTo>
                    <a:pt x="235" y="747"/>
                  </a:lnTo>
                  <a:lnTo>
                    <a:pt x="218" y="739"/>
                  </a:lnTo>
                  <a:lnTo>
                    <a:pt x="202" y="730"/>
                  </a:lnTo>
                  <a:lnTo>
                    <a:pt x="185" y="721"/>
                  </a:lnTo>
                  <a:lnTo>
                    <a:pt x="168" y="710"/>
                  </a:lnTo>
                  <a:lnTo>
                    <a:pt x="152" y="698"/>
                  </a:lnTo>
                  <a:lnTo>
                    <a:pt x="137" y="686"/>
                  </a:lnTo>
                  <a:lnTo>
                    <a:pt x="122" y="673"/>
                  </a:lnTo>
                  <a:lnTo>
                    <a:pt x="108" y="658"/>
                  </a:lnTo>
                  <a:lnTo>
                    <a:pt x="95" y="644"/>
                  </a:lnTo>
                  <a:lnTo>
                    <a:pt x="83" y="628"/>
                  </a:lnTo>
                  <a:lnTo>
                    <a:pt x="71" y="613"/>
                  </a:lnTo>
                  <a:lnTo>
                    <a:pt x="60" y="597"/>
                  </a:lnTo>
                  <a:lnTo>
                    <a:pt x="50" y="580"/>
                  </a:lnTo>
                  <a:lnTo>
                    <a:pt x="41" y="564"/>
                  </a:lnTo>
                  <a:lnTo>
                    <a:pt x="34" y="547"/>
                  </a:lnTo>
                  <a:lnTo>
                    <a:pt x="26" y="529"/>
                  </a:lnTo>
                  <a:lnTo>
                    <a:pt x="19" y="511"/>
                  </a:lnTo>
                  <a:lnTo>
                    <a:pt x="14" y="493"/>
                  </a:lnTo>
                  <a:lnTo>
                    <a:pt x="10" y="475"/>
                  </a:lnTo>
                  <a:lnTo>
                    <a:pt x="6" y="457"/>
                  </a:lnTo>
                  <a:lnTo>
                    <a:pt x="4" y="438"/>
                  </a:lnTo>
                  <a:lnTo>
                    <a:pt x="1" y="420"/>
                  </a:lnTo>
                  <a:lnTo>
                    <a:pt x="0" y="400"/>
                  </a:lnTo>
                  <a:lnTo>
                    <a:pt x="0" y="382"/>
                  </a:lnTo>
                  <a:lnTo>
                    <a:pt x="1" y="363"/>
                  </a:lnTo>
                  <a:lnTo>
                    <a:pt x="2" y="345"/>
                  </a:lnTo>
                  <a:lnTo>
                    <a:pt x="5" y="326"/>
                  </a:lnTo>
                  <a:lnTo>
                    <a:pt x="8" y="308"/>
                  </a:lnTo>
                  <a:lnTo>
                    <a:pt x="13" y="289"/>
                  </a:lnTo>
                  <a:lnTo>
                    <a:pt x="18" y="271"/>
                  </a:lnTo>
                  <a:lnTo>
                    <a:pt x="24" y="253"/>
                  </a:lnTo>
                  <a:lnTo>
                    <a:pt x="31" y="236"/>
                  </a:lnTo>
                  <a:lnTo>
                    <a:pt x="40" y="218"/>
                  </a:lnTo>
                  <a:lnTo>
                    <a:pt x="48" y="201"/>
                  </a:lnTo>
                  <a:lnTo>
                    <a:pt x="58" y="185"/>
                  </a:lnTo>
                  <a:lnTo>
                    <a:pt x="68" y="169"/>
                  </a:lnTo>
                  <a:lnTo>
                    <a:pt x="79" y="152"/>
                  </a:lnTo>
                  <a:lnTo>
                    <a:pt x="92" y="137"/>
                  </a:lnTo>
                  <a:lnTo>
                    <a:pt x="106" y="122"/>
                  </a:lnTo>
                  <a:close/>
                </a:path>
              </a:pathLst>
            </a:custGeom>
            <a:solidFill>
              <a:srgbClr val="d48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03480" y="4292640"/>
              <a:ext cx="306360" cy="306360"/>
            </a:xfrm>
            <a:custGeom>
              <a:avLst/>
              <a:gdLst/>
              <a:ahLst/>
              <a:rect l="l" t="t" r="r" b="b"/>
              <a:pathLst>
                <a:path w="770" h="771">
                  <a:moveTo>
                    <a:pt x="104" y="121"/>
                  </a:moveTo>
                  <a:lnTo>
                    <a:pt x="119" y="108"/>
                  </a:lnTo>
                  <a:lnTo>
                    <a:pt x="133" y="94"/>
                  </a:lnTo>
                  <a:lnTo>
                    <a:pt x="148" y="81"/>
                  </a:lnTo>
                  <a:lnTo>
                    <a:pt x="163" y="70"/>
                  </a:lnTo>
                  <a:lnTo>
                    <a:pt x="179" y="60"/>
                  </a:lnTo>
                  <a:lnTo>
                    <a:pt x="196" y="50"/>
                  </a:lnTo>
                  <a:lnTo>
                    <a:pt x="212" y="40"/>
                  </a:lnTo>
                  <a:lnTo>
                    <a:pt x="229" y="33"/>
                  </a:lnTo>
                  <a:lnTo>
                    <a:pt x="246" y="26"/>
                  </a:lnTo>
                  <a:lnTo>
                    <a:pt x="264" y="20"/>
                  </a:lnTo>
                  <a:lnTo>
                    <a:pt x="282" y="14"/>
                  </a:lnTo>
                  <a:lnTo>
                    <a:pt x="300" y="9"/>
                  </a:lnTo>
                  <a:lnTo>
                    <a:pt x="318" y="6"/>
                  </a:lnTo>
                  <a:lnTo>
                    <a:pt x="336" y="3"/>
                  </a:lnTo>
                  <a:lnTo>
                    <a:pt x="355" y="1"/>
                  </a:lnTo>
                  <a:lnTo>
                    <a:pt x="373" y="1"/>
                  </a:lnTo>
                  <a:lnTo>
                    <a:pt x="392" y="0"/>
                  </a:lnTo>
                  <a:lnTo>
                    <a:pt x="410" y="1"/>
                  </a:lnTo>
                  <a:lnTo>
                    <a:pt x="428" y="2"/>
                  </a:lnTo>
                  <a:lnTo>
                    <a:pt x="448" y="6"/>
                  </a:lnTo>
                  <a:lnTo>
                    <a:pt x="466" y="8"/>
                  </a:lnTo>
                  <a:lnTo>
                    <a:pt x="484" y="13"/>
                  </a:lnTo>
                  <a:lnTo>
                    <a:pt x="502" y="18"/>
                  </a:lnTo>
                  <a:lnTo>
                    <a:pt x="520" y="24"/>
                  </a:lnTo>
                  <a:lnTo>
                    <a:pt x="536" y="31"/>
                  </a:lnTo>
                  <a:lnTo>
                    <a:pt x="554" y="39"/>
                  </a:lnTo>
                  <a:lnTo>
                    <a:pt x="571" y="48"/>
                  </a:lnTo>
                  <a:lnTo>
                    <a:pt x="588" y="57"/>
                  </a:lnTo>
                  <a:lnTo>
                    <a:pt x="604" y="68"/>
                  </a:lnTo>
                  <a:lnTo>
                    <a:pt x="619" y="79"/>
                  </a:lnTo>
                  <a:lnTo>
                    <a:pt x="635" y="91"/>
                  </a:lnTo>
                  <a:lnTo>
                    <a:pt x="649" y="104"/>
                  </a:lnTo>
                  <a:lnTo>
                    <a:pt x="664" y="118"/>
                  </a:lnTo>
                  <a:lnTo>
                    <a:pt x="677" y="133"/>
                  </a:lnTo>
                  <a:lnTo>
                    <a:pt x="689" y="148"/>
                  </a:lnTo>
                  <a:lnTo>
                    <a:pt x="701" y="163"/>
                  </a:lnTo>
                  <a:lnTo>
                    <a:pt x="712" y="180"/>
                  </a:lnTo>
                  <a:lnTo>
                    <a:pt x="721" y="195"/>
                  </a:lnTo>
                  <a:lnTo>
                    <a:pt x="730" y="212"/>
                  </a:lnTo>
                  <a:lnTo>
                    <a:pt x="738" y="229"/>
                  </a:lnTo>
                  <a:lnTo>
                    <a:pt x="745" y="247"/>
                  </a:lnTo>
                  <a:lnTo>
                    <a:pt x="751" y="265"/>
                  </a:lnTo>
                  <a:lnTo>
                    <a:pt x="756" y="282"/>
                  </a:lnTo>
                  <a:lnTo>
                    <a:pt x="761" y="300"/>
                  </a:lnTo>
                  <a:lnTo>
                    <a:pt x="764" y="319"/>
                  </a:lnTo>
                  <a:lnTo>
                    <a:pt x="768" y="337"/>
                  </a:lnTo>
                  <a:lnTo>
                    <a:pt x="769" y="355"/>
                  </a:lnTo>
                  <a:lnTo>
                    <a:pt x="770" y="374"/>
                  </a:lnTo>
                  <a:lnTo>
                    <a:pt x="770" y="392"/>
                  </a:lnTo>
                  <a:lnTo>
                    <a:pt x="769" y="411"/>
                  </a:lnTo>
                  <a:lnTo>
                    <a:pt x="768" y="429"/>
                  </a:lnTo>
                  <a:lnTo>
                    <a:pt x="766" y="447"/>
                  </a:lnTo>
                  <a:lnTo>
                    <a:pt x="762" y="466"/>
                  </a:lnTo>
                  <a:lnTo>
                    <a:pt x="758" y="484"/>
                  </a:lnTo>
                  <a:lnTo>
                    <a:pt x="752" y="502"/>
                  </a:lnTo>
                  <a:lnTo>
                    <a:pt x="746" y="519"/>
                  </a:lnTo>
                  <a:lnTo>
                    <a:pt x="739" y="537"/>
                  </a:lnTo>
                  <a:lnTo>
                    <a:pt x="732" y="554"/>
                  </a:lnTo>
                  <a:lnTo>
                    <a:pt x="724" y="571"/>
                  </a:lnTo>
                  <a:lnTo>
                    <a:pt x="714" y="587"/>
                  </a:lnTo>
                  <a:lnTo>
                    <a:pt x="703" y="604"/>
                  </a:lnTo>
                  <a:lnTo>
                    <a:pt x="691" y="620"/>
                  </a:lnTo>
                  <a:lnTo>
                    <a:pt x="679" y="634"/>
                  </a:lnTo>
                  <a:lnTo>
                    <a:pt x="666" y="650"/>
                  </a:lnTo>
                  <a:lnTo>
                    <a:pt x="652" y="663"/>
                  </a:lnTo>
                  <a:lnTo>
                    <a:pt x="637" y="676"/>
                  </a:lnTo>
                  <a:lnTo>
                    <a:pt x="623" y="689"/>
                  </a:lnTo>
                  <a:lnTo>
                    <a:pt x="607" y="700"/>
                  </a:lnTo>
                  <a:lnTo>
                    <a:pt x="592" y="711"/>
                  </a:lnTo>
                  <a:lnTo>
                    <a:pt x="575" y="721"/>
                  </a:lnTo>
                  <a:lnTo>
                    <a:pt x="558" y="730"/>
                  </a:lnTo>
                  <a:lnTo>
                    <a:pt x="541" y="737"/>
                  </a:lnTo>
                  <a:lnTo>
                    <a:pt x="524" y="745"/>
                  </a:lnTo>
                  <a:lnTo>
                    <a:pt x="506" y="751"/>
                  </a:lnTo>
                  <a:lnTo>
                    <a:pt x="488" y="757"/>
                  </a:lnTo>
                  <a:lnTo>
                    <a:pt x="470" y="761"/>
                  </a:lnTo>
                  <a:lnTo>
                    <a:pt x="452" y="765"/>
                  </a:lnTo>
                  <a:lnTo>
                    <a:pt x="434" y="767"/>
                  </a:lnTo>
                  <a:lnTo>
                    <a:pt x="415" y="770"/>
                  </a:lnTo>
                  <a:lnTo>
                    <a:pt x="397" y="770"/>
                  </a:lnTo>
                  <a:lnTo>
                    <a:pt x="378" y="771"/>
                  </a:lnTo>
                  <a:lnTo>
                    <a:pt x="360" y="770"/>
                  </a:lnTo>
                  <a:lnTo>
                    <a:pt x="342" y="769"/>
                  </a:lnTo>
                  <a:lnTo>
                    <a:pt x="323" y="765"/>
                  </a:lnTo>
                  <a:lnTo>
                    <a:pt x="305" y="763"/>
                  </a:lnTo>
                  <a:lnTo>
                    <a:pt x="287" y="758"/>
                  </a:lnTo>
                  <a:lnTo>
                    <a:pt x="269" y="753"/>
                  </a:lnTo>
                  <a:lnTo>
                    <a:pt x="251" y="747"/>
                  </a:lnTo>
                  <a:lnTo>
                    <a:pt x="234" y="740"/>
                  </a:lnTo>
                  <a:lnTo>
                    <a:pt x="216" y="731"/>
                  </a:lnTo>
                  <a:lnTo>
                    <a:pt x="199" y="723"/>
                  </a:lnTo>
                  <a:lnTo>
                    <a:pt x="182" y="713"/>
                  </a:lnTo>
                  <a:lnTo>
                    <a:pt x="167" y="703"/>
                  </a:lnTo>
                  <a:lnTo>
                    <a:pt x="151" y="692"/>
                  </a:lnTo>
                  <a:lnTo>
                    <a:pt x="136" y="680"/>
                  </a:lnTo>
                  <a:lnTo>
                    <a:pt x="121" y="667"/>
                  </a:lnTo>
                  <a:lnTo>
                    <a:pt x="107" y="652"/>
                  </a:lnTo>
                  <a:lnTo>
                    <a:pt x="94" y="638"/>
                  </a:lnTo>
                  <a:lnTo>
                    <a:pt x="82" y="622"/>
                  </a:lnTo>
                  <a:lnTo>
                    <a:pt x="70" y="608"/>
                  </a:lnTo>
                  <a:lnTo>
                    <a:pt x="59" y="591"/>
                  </a:lnTo>
                  <a:lnTo>
                    <a:pt x="49" y="575"/>
                  </a:lnTo>
                  <a:lnTo>
                    <a:pt x="41" y="559"/>
                  </a:lnTo>
                  <a:lnTo>
                    <a:pt x="32" y="542"/>
                  </a:lnTo>
                  <a:lnTo>
                    <a:pt x="25" y="524"/>
                  </a:lnTo>
                  <a:lnTo>
                    <a:pt x="19" y="506"/>
                  </a:lnTo>
                  <a:lnTo>
                    <a:pt x="14" y="489"/>
                  </a:lnTo>
                  <a:lnTo>
                    <a:pt x="10" y="471"/>
                  </a:lnTo>
                  <a:lnTo>
                    <a:pt x="6" y="452"/>
                  </a:lnTo>
                  <a:lnTo>
                    <a:pt x="2" y="434"/>
                  </a:lnTo>
                  <a:lnTo>
                    <a:pt x="1" y="416"/>
                  </a:lnTo>
                  <a:lnTo>
                    <a:pt x="0" y="397"/>
                  </a:lnTo>
                  <a:lnTo>
                    <a:pt x="0" y="379"/>
                  </a:lnTo>
                  <a:lnTo>
                    <a:pt x="1" y="359"/>
                  </a:lnTo>
                  <a:lnTo>
                    <a:pt x="2" y="342"/>
                  </a:lnTo>
                  <a:lnTo>
                    <a:pt x="5" y="324"/>
                  </a:lnTo>
                  <a:lnTo>
                    <a:pt x="8" y="306"/>
                  </a:lnTo>
                  <a:lnTo>
                    <a:pt x="12" y="286"/>
                  </a:lnTo>
                  <a:lnTo>
                    <a:pt x="18" y="268"/>
                  </a:lnTo>
                  <a:lnTo>
                    <a:pt x="24" y="252"/>
                  </a:lnTo>
                  <a:lnTo>
                    <a:pt x="31" y="234"/>
                  </a:lnTo>
                  <a:lnTo>
                    <a:pt x="38" y="217"/>
                  </a:lnTo>
                  <a:lnTo>
                    <a:pt x="47" y="200"/>
                  </a:lnTo>
                  <a:lnTo>
                    <a:pt x="56" y="183"/>
                  </a:lnTo>
                  <a:lnTo>
                    <a:pt x="67" y="166"/>
                  </a:lnTo>
                  <a:lnTo>
                    <a:pt x="79" y="151"/>
                  </a:lnTo>
                  <a:lnTo>
                    <a:pt x="91" y="136"/>
                  </a:lnTo>
                  <a:lnTo>
                    <a:pt x="104" y="121"/>
                  </a:lnTo>
                  <a:close/>
                </a:path>
              </a:pathLst>
            </a:custGeom>
            <a:solidFill>
              <a:srgbClr val="d99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06720" y="4294080"/>
              <a:ext cx="301680" cy="303480"/>
            </a:xfrm>
            <a:custGeom>
              <a:avLst/>
              <a:gdLst/>
              <a:ahLst/>
              <a:rect l="l" t="t" r="r" b="b"/>
              <a:pathLst>
                <a:path w="763" h="763">
                  <a:moveTo>
                    <a:pt x="103" y="120"/>
                  </a:moveTo>
                  <a:lnTo>
                    <a:pt x="118" y="105"/>
                  </a:lnTo>
                  <a:lnTo>
                    <a:pt x="131" y="92"/>
                  </a:lnTo>
                  <a:lnTo>
                    <a:pt x="146" y="80"/>
                  </a:lnTo>
                  <a:lnTo>
                    <a:pt x="162" y="68"/>
                  </a:lnTo>
                  <a:lnTo>
                    <a:pt x="178" y="58"/>
                  </a:lnTo>
                  <a:lnTo>
                    <a:pt x="193" y="49"/>
                  </a:lnTo>
                  <a:lnTo>
                    <a:pt x="210" y="39"/>
                  </a:lnTo>
                  <a:lnTo>
                    <a:pt x="227" y="32"/>
                  </a:lnTo>
                  <a:lnTo>
                    <a:pt x="244" y="25"/>
                  </a:lnTo>
                  <a:lnTo>
                    <a:pt x="262" y="19"/>
                  </a:lnTo>
                  <a:lnTo>
                    <a:pt x="280" y="13"/>
                  </a:lnTo>
                  <a:lnTo>
                    <a:pt x="296" y="8"/>
                  </a:lnTo>
                  <a:lnTo>
                    <a:pt x="316" y="4"/>
                  </a:lnTo>
                  <a:lnTo>
                    <a:pt x="334" y="2"/>
                  </a:lnTo>
                  <a:lnTo>
                    <a:pt x="352" y="1"/>
                  </a:lnTo>
                  <a:lnTo>
                    <a:pt x="370" y="0"/>
                  </a:lnTo>
                  <a:lnTo>
                    <a:pt x="388" y="0"/>
                  </a:lnTo>
                  <a:lnTo>
                    <a:pt x="407" y="0"/>
                  </a:lnTo>
                  <a:lnTo>
                    <a:pt x="425" y="2"/>
                  </a:lnTo>
                  <a:lnTo>
                    <a:pt x="443" y="4"/>
                  </a:lnTo>
                  <a:lnTo>
                    <a:pt x="461" y="8"/>
                  </a:lnTo>
                  <a:lnTo>
                    <a:pt x="479" y="12"/>
                  </a:lnTo>
                  <a:lnTo>
                    <a:pt x="497" y="16"/>
                  </a:lnTo>
                  <a:lnTo>
                    <a:pt x="515" y="22"/>
                  </a:lnTo>
                  <a:lnTo>
                    <a:pt x="532" y="30"/>
                  </a:lnTo>
                  <a:lnTo>
                    <a:pt x="548" y="38"/>
                  </a:lnTo>
                  <a:lnTo>
                    <a:pt x="565" y="46"/>
                  </a:lnTo>
                  <a:lnTo>
                    <a:pt x="582" y="56"/>
                  </a:lnTo>
                  <a:lnTo>
                    <a:pt x="598" y="66"/>
                  </a:lnTo>
                  <a:lnTo>
                    <a:pt x="613" y="78"/>
                  </a:lnTo>
                  <a:lnTo>
                    <a:pt x="629" y="90"/>
                  </a:lnTo>
                  <a:lnTo>
                    <a:pt x="643" y="103"/>
                  </a:lnTo>
                  <a:lnTo>
                    <a:pt x="658" y="116"/>
                  </a:lnTo>
                  <a:lnTo>
                    <a:pt x="670" y="130"/>
                  </a:lnTo>
                  <a:lnTo>
                    <a:pt x="683" y="146"/>
                  </a:lnTo>
                  <a:lnTo>
                    <a:pt x="694" y="160"/>
                  </a:lnTo>
                  <a:lnTo>
                    <a:pt x="704" y="177"/>
                  </a:lnTo>
                  <a:lnTo>
                    <a:pt x="714" y="193"/>
                  </a:lnTo>
                  <a:lnTo>
                    <a:pt x="722" y="210"/>
                  </a:lnTo>
                  <a:lnTo>
                    <a:pt x="731" y="226"/>
                  </a:lnTo>
                  <a:lnTo>
                    <a:pt x="738" y="243"/>
                  </a:lnTo>
                  <a:lnTo>
                    <a:pt x="744" y="261"/>
                  </a:lnTo>
                  <a:lnTo>
                    <a:pt x="749" y="278"/>
                  </a:lnTo>
                  <a:lnTo>
                    <a:pt x="754" y="296"/>
                  </a:lnTo>
                  <a:lnTo>
                    <a:pt x="757" y="314"/>
                  </a:lnTo>
                  <a:lnTo>
                    <a:pt x="760" y="332"/>
                  </a:lnTo>
                  <a:lnTo>
                    <a:pt x="762" y="351"/>
                  </a:lnTo>
                  <a:lnTo>
                    <a:pt x="763" y="369"/>
                  </a:lnTo>
                  <a:lnTo>
                    <a:pt x="763" y="387"/>
                  </a:lnTo>
                  <a:lnTo>
                    <a:pt x="762" y="406"/>
                  </a:lnTo>
                  <a:lnTo>
                    <a:pt x="761" y="424"/>
                  </a:lnTo>
                  <a:lnTo>
                    <a:pt x="758" y="442"/>
                  </a:lnTo>
                  <a:lnTo>
                    <a:pt x="755" y="460"/>
                  </a:lnTo>
                  <a:lnTo>
                    <a:pt x="750" y="478"/>
                  </a:lnTo>
                  <a:lnTo>
                    <a:pt x="745" y="496"/>
                  </a:lnTo>
                  <a:lnTo>
                    <a:pt x="739" y="513"/>
                  </a:lnTo>
                  <a:lnTo>
                    <a:pt x="732" y="531"/>
                  </a:lnTo>
                  <a:lnTo>
                    <a:pt x="725" y="548"/>
                  </a:lnTo>
                  <a:lnTo>
                    <a:pt x="716" y="565"/>
                  </a:lnTo>
                  <a:lnTo>
                    <a:pt x="707" y="581"/>
                  </a:lnTo>
                  <a:lnTo>
                    <a:pt x="696" y="597"/>
                  </a:lnTo>
                  <a:lnTo>
                    <a:pt x="685" y="613"/>
                  </a:lnTo>
                  <a:lnTo>
                    <a:pt x="673" y="628"/>
                  </a:lnTo>
                  <a:lnTo>
                    <a:pt x="660" y="643"/>
                  </a:lnTo>
                  <a:lnTo>
                    <a:pt x="646" y="656"/>
                  </a:lnTo>
                  <a:lnTo>
                    <a:pt x="631" y="669"/>
                  </a:lnTo>
                  <a:lnTo>
                    <a:pt x="617" y="681"/>
                  </a:lnTo>
                  <a:lnTo>
                    <a:pt x="601" y="693"/>
                  </a:lnTo>
                  <a:lnTo>
                    <a:pt x="586" y="704"/>
                  </a:lnTo>
                  <a:lnTo>
                    <a:pt x="569" y="713"/>
                  </a:lnTo>
                  <a:lnTo>
                    <a:pt x="553" y="722"/>
                  </a:lnTo>
                  <a:lnTo>
                    <a:pt x="536" y="730"/>
                  </a:lnTo>
                  <a:lnTo>
                    <a:pt x="518" y="737"/>
                  </a:lnTo>
                  <a:lnTo>
                    <a:pt x="502" y="743"/>
                  </a:lnTo>
                  <a:lnTo>
                    <a:pt x="484" y="748"/>
                  </a:lnTo>
                  <a:lnTo>
                    <a:pt x="466" y="753"/>
                  </a:lnTo>
                  <a:lnTo>
                    <a:pt x="448" y="757"/>
                  </a:lnTo>
                  <a:lnTo>
                    <a:pt x="430" y="759"/>
                  </a:lnTo>
                  <a:lnTo>
                    <a:pt x="412" y="761"/>
                  </a:lnTo>
                  <a:lnTo>
                    <a:pt x="394" y="763"/>
                  </a:lnTo>
                  <a:lnTo>
                    <a:pt x="374" y="763"/>
                  </a:lnTo>
                  <a:lnTo>
                    <a:pt x="356" y="761"/>
                  </a:lnTo>
                  <a:lnTo>
                    <a:pt x="338" y="760"/>
                  </a:lnTo>
                  <a:lnTo>
                    <a:pt x="320" y="758"/>
                  </a:lnTo>
                  <a:lnTo>
                    <a:pt x="301" y="754"/>
                  </a:lnTo>
                  <a:lnTo>
                    <a:pt x="284" y="749"/>
                  </a:lnTo>
                  <a:lnTo>
                    <a:pt x="266" y="745"/>
                  </a:lnTo>
                  <a:lnTo>
                    <a:pt x="248" y="739"/>
                  </a:lnTo>
                  <a:lnTo>
                    <a:pt x="232" y="731"/>
                  </a:lnTo>
                  <a:lnTo>
                    <a:pt x="214" y="724"/>
                  </a:lnTo>
                  <a:lnTo>
                    <a:pt x="197" y="716"/>
                  </a:lnTo>
                  <a:lnTo>
                    <a:pt x="181" y="706"/>
                  </a:lnTo>
                  <a:lnTo>
                    <a:pt x="166" y="695"/>
                  </a:lnTo>
                  <a:lnTo>
                    <a:pt x="150" y="685"/>
                  </a:lnTo>
                  <a:lnTo>
                    <a:pt x="134" y="671"/>
                  </a:lnTo>
                  <a:lnTo>
                    <a:pt x="120" y="658"/>
                  </a:lnTo>
                  <a:lnTo>
                    <a:pt x="106" y="645"/>
                  </a:lnTo>
                  <a:lnTo>
                    <a:pt x="92" y="631"/>
                  </a:lnTo>
                  <a:lnTo>
                    <a:pt x="80" y="616"/>
                  </a:lnTo>
                  <a:lnTo>
                    <a:pt x="70" y="601"/>
                  </a:lnTo>
                  <a:lnTo>
                    <a:pt x="59" y="585"/>
                  </a:lnTo>
                  <a:lnTo>
                    <a:pt x="49" y="568"/>
                  </a:lnTo>
                  <a:lnTo>
                    <a:pt x="41" y="553"/>
                  </a:lnTo>
                  <a:lnTo>
                    <a:pt x="32" y="535"/>
                  </a:lnTo>
                  <a:lnTo>
                    <a:pt x="25" y="518"/>
                  </a:lnTo>
                  <a:lnTo>
                    <a:pt x="19" y="501"/>
                  </a:lnTo>
                  <a:lnTo>
                    <a:pt x="13" y="483"/>
                  </a:lnTo>
                  <a:lnTo>
                    <a:pt x="10" y="465"/>
                  </a:lnTo>
                  <a:lnTo>
                    <a:pt x="6" y="447"/>
                  </a:lnTo>
                  <a:lnTo>
                    <a:pt x="2" y="429"/>
                  </a:lnTo>
                  <a:lnTo>
                    <a:pt x="1" y="411"/>
                  </a:lnTo>
                  <a:lnTo>
                    <a:pt x="0" y="392"/>
                  </a:lnTo>
                  <a:lnTo>
                    <a:pt x="0" y="374"/>
                  </a:lnTo>
                  <a:lnTo>
                    <a:pt x="1" y="356"/>
                  </a:lnTo>
                  <a:lnTo>
                    <a:pt x="2" y="338"/>
                  </a:lnTo>
                  <a:lnTo>
                    <a:pt x="5" y="319"/>
                  </a:lnTo>
                  <a:lnTo>
                    <a:pt x="8" y="301"/>
                  </a:lnTo>
                  <a:lnTo>
                    <a:pt x="12" y="283"/>
                  </a:lnTo>
                  <a:lnTo>
                    <a:pt x="18" y="266"/>
                  </a:lnTo>
                  <a:lnTo>
                    <a:pt x="24" y="248"/>
                  </a:lnTo>
                  <a:lnTo>
                    <a:pt x="30" y="230"/>
                  </a:lnTo>
                  <a:lnTo>
                    <a:pt x="38" y="213"/>
                  </a:lnTo>
                  <a:lnTo>
                    <a:pt x="47" y="196"/>
                  </a:lnTo>
                  <a:lnTo>
                    <a:pt x="56" y="181"/>
                  </a:lnTo>
                  <a:lnTo>
                    <a:pt x="67" y="164"/>
                  </a:lnTo>
                  <a:lnTo>
                    <a:pt x="78" y="148"/>
                  </a:lnTo>
                  <a:lnTo>
                    <a:pt x="90" y="134"/>
                  </a:lnTo>
                  <a:lnTo>
                    <a:pt x="103" y="120"/>
                  </a:lnTo>
                  <a:close/>
                </a:path>
              </a:pathLst>
            </a:custGeom>
            <a:solidFill>
              <a:srgbClr val="df9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2108160" y="3166920"/>
              <a:ext cx="4267080" cy="2660760"/>
              <a:chOff x="2108160" y="3166920"/>
              <a:chExt cx="4267080" cy="2660760"/>
            </a:xfrm>
          </p:grpSpPr>
          <p:sp>
            <p:nvSpPr>
              <p:cNvPr id="895" name=""/>
              <p:cNvSpPr/>
              <p:nvPr/>
            </p:nvSpPr>
            <p:spPr>
              <a:xfrm>
                <a:off x="2108160" y="4297320"/>
                <a:ext cx="299880" cy="300240"/>
              </a:xfrm>
              <a:custGeom>
                <a:avLst/>
                <a:gdLst/>
                <a:ahLst/>
                <a:rect l="l" t="t" r="r" b="b"/>
                <a:pathLst>
                  <a:path w="756" h="756">
                    <a:moveTo>
                      <a:pt x="102" y="119"/>
                    </a:moveTo>
                    <a:lnTo>
                      <a:pt x="116" y="105"/>
                    </a:lnTo>
                    <a:lnTo>
                      <a:pt x="130" y="93"/>
                    </a:lnTo>
                    <a:lnTo>
                      <a:pt x="145" y="81"/>
                    </a:lnTo>
                    <a:lnTo>
                      <a:pt x="160" y="69"/>
                    </a:lnTo>
                    <a:lnTo>
                      <a:pt x="175" y="58"/>
                    </a:lnTo>
                    <a:lnTo>
                      <a:pt x="192" y="48"/>
                    </a:lnTo>
                    <a:lnTo>
                      <a:pt x="208" y="40"/>
                    </a:lnTo>
                    <a:lnTo>
                      <a:pt x="224" y="33"/>
                    </a:lnTo>
                    <a:lnTo>
                      <a:pt x="241" y="26"/>
                    </a:lnTo>
                    <a:lnTo>
                      <a:pt x="259" y="20"/>
                    </a:lnTo>
                    <a:lnTo>
                      <a:pt x="276" y="14"/>
                    </a:lnTo>
                    <a:lnTo>
                      <a:pt x="294" y="10"/>
                    </a:lnTo>
                    <a:lnTo>
                      <a:pt x="312" y="6"/>
                    </a:lnTo>
                    <a:lnTo>
                      <a:pt x="330" y="3"/>
                    </a:lnTo>
                    <a:lnTo>
                      <a:pt x="348" y="2"/>
                    </a:lnTo>
                    <a:lnTo>
                      <a:pt x="366" y="0"/>
                    </a:lnTo>
                    <a:lnTo>
                      <a:pt x="384" y="0"/>
                    </a:lnTo>
                    <a:lnTo>
                      <a:pt x="402" y="2"/>
                    </a:lnTo>
                    <a:lnTo>
                      <a:pt x="420" y="3"/>
                    </a:lnTo>
                    <a:lnTo>
                      <a:pt x="438" y="5"/>
                    </a:lnTo>
                    <a:lnTo>
                      <a:pt x="456" y="9"/>
                    </a:lnTo>
                    <a:lnTo>
                      <a:pt x="474" y="12"/>
                    </a:lnTo>
                    <a:lnTo>
                      <a:pt x="492" y="17"/>
                    </a:lnTo>
                    <a:lnTo>
                      <a:pt x="509" y="23"/>
                    </a:lnTo>
                    <a:lnTo>
                      <a:pt x="527" y="30"/>
                    </a:lnTo>
                    <a:lnTo>
                      <a:pt x="544" y="39"/>
                    </a:lnTo>
                    <a:lnTo>
                      <a:pt x="560" y="47"/>
                    </a:lnTo>
                    <a:lnTo>
                      <a:pt x="576" y="57"/>
                    </a:lnTo>
                    <a:lnTo>
                      <a:pt x="592" y="66"/>
                    </a:lnTo>
                    <a:lnTo>
                      <a:pt x="607" y="77"/>
                    </a:lnTo>
                    <a:lnTo>
                      <a:pt x="623" y="89"/>
                    </a:lnTo>
                    <a:lnTo>
                      <a:pt x="637" y="102"/>
                    </a:lnTo>
                    <a:lnTo>
                      <a:pt x="650" y="117"/>
                    </a:lnTo>
                    <a:lnTo>
                      <a:pt x="664" y="130"/>
                    </a:lnTo>
                    <a:lnTo>
                      <a:pt x="676" y="146"/>
                    </a:lnTo>
                    <a:lnTo>
                      <a:pt x="686" y="160"/>
                    </a:lnTo>
                    <a:lnTo>
                      <a:pt x="697" y="176"/>
                    </a:lnTo>
                    <a:lnTo>
                      <a:pt x="707" y="192"/>
                    </a:lnTo>
                    <a:lnTo>
                      <a:pt x="715" y="208"/>
                    </a:lnTo>
                    <a:lnTo>
                      <a:pt x="724" y="225"/>
                    </a:lnTo>
                    <a:lnTo>
                      <a:pt x="731" y="242"/>
                    </a:lnTo>
                    <a:lnTo>
                      <a:pt x="737" y="260"/>
                    </a:lnTo>
                    <a:lnTo>
                      <a:pt x="742" y="276"/>
                    </a:lnTo>
                    <a:lnTo>
                      <a:pt x="746" y="294"/>
                    </a:lnTo>
                    <a:lnTo>
                      <a:pt x="750" y="312"/>
                    </a:lnTo>
                    <a:lnTo>
                      <a:pt x="752" y="330"/>
                    </a:lnTo>
                    <a:lnTo>
                      <a:pt x="755" y="348"/>
                    </a:lnTo>
                    <a:lnTo>
                      <a:pt x="755" y="366"/>
                    </a:lnTo>
                    <a:lnTo>
                      <a:pt x="756" y="384"/>
                    </a:lnTo>
                    <a:lnTo>
                      <a:pt x="755" y="402"/>
                    </a:lnTo>
                    <a:lnTo>
                      <a:pt x="754" y="421"/>
                    </a:lnTo>
                    <a:lnTo>
                      <a:pt x="751" y="439"/>
                    </a:lnTo>
                    <a:lnTo>
                      <a:pt x="748" y="457"/>
                    </a:lnTo>
                    <a:lnTo>
                      <a:pt x="743" y="474"/>
                    </a:lnTo>
                    <a:lnTo>
                      <a:pt x="738" y="492"/>
                    </a:lnTo>
                    <a:lnTo>
                      <a:pt x="732" y="510"/>
                    </a:lnTo>
                    <a:lnTo>
                      <a:pt x="725" y="527"/>
                    </a:lnTo>
                    <a:lnTo>
                      <a:pt x="718" y="544"/>
                    </a:lnTo>
                    <a:lnTo>
                      <a:pt x="709" y="561"/>
                    </a:lnTo>
                    <a:lnTo>
                      <a:pt x="700" y="576"/>
                    </a:lnTo>
                    <a:lnTo>
                      <a:pt x="689" y="592"/>
                    </a:lnTo>
                    <a:lnTo>
                      <a:pt x="678" y="607"/>
                    </a:lnTo>
                    <a:lnTo>
                      <a:pt x="666" y="623"/>
                    </a:lnTo>
                    <a:lnTo>
                      <a:pt x="653" y="637"/>
                    </a:lnTo>
                    <a:lnTo>
                      <a:pt x="640" y="651"/>
                    </a:lnTo>
                    <a:lnTo>
                      <a:pt x="625" y="664"/>
                    </a:lnTo>
                    <a:lnTo>
                      <a:pt x="611" y="676"/>
                    </a:lnTo>
                    <a:lnTo>
                      <a:pt x="595" y="688"/>
                    </a:lnTo>
                    <a:lnTo>
                      <a:pt x="580" y="697"/>
                    </a:lnTo>
                    <a:lnTo>
                      <a:pt x="564" y="707"/>
                    </a:lnTo>
                    <a:lnTo>
                      <a:pt x="547" y="715"/>
                    </a:lnTo>
                    <a:lnTo>
                      <a:pt x="530" y="724"/>
                    </a:lnTo>
                    <a:lnTo>
                      <a:pt x="514" y="731"/>
                    </a:lnTo>
                    <a:lnTo>
                      <a:pt x="497" y="737"/>
                    </a:lnTo>
                    <a:lnTo>
                      <a:pt x="479" y="742"/>
                    </a:lnTo>
                    <a:lnTo>
                      <a:pt x="461" y="747"/>
                    </a:lnTo>
                    <a:lnTo>
                      <a:pt x="443" y="750"/>
                    </a:lnTo>
                    <a:lnTo>
                      <a:pt x="426" y="753"/>
                    </a:lnTo>
                    <a:lnTo>
                      <a:pt x="407" y="755"/>
                    </a:lnTo>
                    <a:lnTo>
                      <a:pt x="389" y="756"/>
                    </a:lnTo>
                    <a:lnTo>
                      <a:pt x="371" y="756"/>
                    </a:lnTo>
                    <a:lnTo>
                      <a:pt x="353" y="755"/>
                    </a:lnTo>
                    <a:lnTo>
                      <a:pt x="335" y="754"/>
                    </a:lnTo>
                    <a:lnTo>
                      <a:pt x="317" y="751"/>
                    </a:lnTo>
                    <a:lnTo>
                      <a:pt x="299" y="748"/>
                    </a:lnTo>
                    <a:lnTo>
                      <a:pt x="281" y="743"/>
                    </a:lnTo>
                    <a:lnTo>
                      <a:pt x="263" y="738"/>
                    </a:lnTo>
                    <a:lnTo>
                      <a:pt x="246" y="732"/>
                    </a:lnTo>
                    <a:lnTo>
                      <a:pt x="229" y="726"/>
                    </a:lnTo>
                    <a:lnTo>
                      <a:pt x="212" y="718"/>
                    </a:lnTo>
                    <a:lnTo>
                      <a:pt x="196" y="709"/>
                    </a:lnTo>
                    <a:lnTo>
                      <a:pt x="179" y="700"/>
                    </a:lnTo>
                    <a:lnTo>
                      <a:pt x="163" y="690"/>
                    </a:lnTo>
                    <a:lnTo>
                      <a:pt x="148" y="678"/>
                    </a:lnTo>
                    <a:lnTo>
                      <a:pt x="133" y="666"/>
                    </a:lnTo>
                    <a:lnTo>
                      <a:pt x="119" y="653"/>
                    </a:lnTo>
                    <a:lnTo>
                      <a:pt x="104" y="640"/>
                    </a:lnTo>
                    <a:lnTo>
                      <a:pt x="91" y="625"/>
                    </a:lnTo>
                    <a:lnTo>
                      <a:pt x="79" y="611"/>
                    </a:lnTo>
                    <a:lnTo>
                      <a:pt x="68" y="595"/>
                    </a:lnTo>
                    <a:lnTo>
                      <a:pt x="58" y="580"/>
                    </a:lnTo>
                    <a:lnTo>
                      <a:pt x="48" y="564"/>
                    </a:lnTo>
                    <a:lnTo>
                      <a:pt x="40" y="547"/>
                    </a:lnTo>
                    <a:lnTo>
                      <a:pt x="32" y="531"/>
                    </a:lnTo>
                    <a:lnTo>
                      <a:pt x="25" y="514"/>
                    </a:lnTo>
                    <a:lnTo>
                      <a:pt x="19" y="497"/>
                    </a:lnTo>
                    <a:lnTo>
                      <a:pt x="13" y="479"/>
                    </a:lnTo>
                    <a:lnTo>
                      <a:pt x="10" y="462"/>
                    </a:lnTo>
                    <a:lnTo>
                      <a:pt x="6" y="444"/>
                    </a:lnTo>
                    <a:lnTo>
                      <a:pt x="2" y="426"/>
                    </a:lnTo>
                    <a:lnTo>
                      <a:pt x="1" y="408"/>
                    </a:lnTo>
                    <a:lnTo>
                      <a:pt x="0" y="389"/>
                    </a:lnTo>
                    <a:lnTo>
                      <a:pt x="0" y="371"/>
                    </a:lnTo>
                    <a:lnTo>
                      <a:pt x="0" y="353"/>
                    </a:lnTo>
                    <a:lnTo>
                      <a:pt x="2" y="335"/>
                    </a:lnTo>
                    <a:lnTo>
                      <a:pt x="5" y="317"/>
                    </a:lnTo>
                    <a:lnTo>
                      <a:pt x="8" y="299"/>
                    </a:lnTo>
                    <a:lnTo>
                      <a:pt x="12" y="281"/>
                    </a:lnTo>
                    <a:lnTo>
                      <a:pt x="17" y="264"/>
                    </a:lnTo>
                    <a:lnTo>
                      <a:pt x="23" y="246"/>
                    </a:lnTo>
                    <a:lnTo>
                      <a:pt x="30" y="230"/>
                    </a:lnTo>
                    <a:lnTo>
                      <a:pt x="37" y="213"/>
                    </a:lnTo>
                    <a:lnTo>
                      <a:pt x="47" y="196"/>
                    </a:lnTo>
                    <a:lnTo>
                      <a:pt x="55" y="179"/>
                    </a:lnTo>
                    <a:lnTo>
                      <a:pt x="66" y="164"/>
                    </a:lnTo>
                    <a:lnTo>
                      <a:pt x="77" y="148"/>
                    </a:lnTo>
                    <a:lnTo>
                      <a:pt x="89" y="134"/>
                    </a:lnTo>
                    <a:lnTo>
                      <a:pt x="102" y="119"/>
                    </a:lnTo>
                    <a:close/>
                  </a:path>
                </a:pathLst>
              </a:custGeom>
              <a:solidFill>
                <a:srgbClr val="e39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111400" y="4299120"/>
                <a:ext cx="295200" cy="296640"/>
              </a:xfrm>
              <a:custGeom>
                <a:avLst/>
                <a:gdLst/>
                <a:ahLst/>
                <a:rect l="l" t="t" r="r" b="b"/>
                <a:pathLst>
                  <a:path w="748" h="749">
                    <a:moveTo>
                      <a:pt x="101" y="118"/>
                    </a:moveTo>
                    <a:lnTo>
                      <a:pt x="115" y="105"/>
                    </a:lnTo>
                    <a:lnTo>
                      <a:pt x="128" y="91"/>
                    </a:lnTo>
                    <a:lnTo>
                      <a:pt x="143" y="79"/>
                    </a:lnTo>
                    <a:lnTo>
                      <a:pt x="158" y="69"/>
                    </a:lnTo>
                    <a:lnTo>
                      <a:pt x="174" y="58"/>
                    </a:lnTo>
                    <a:lnTo>
                      <a:pt x="190" y="48"/>
                    </a:lnTo>
                    <a:lnTo>
                      <a:pt x="205" y="40"/>
                    </a:lnTo>
                    <a:lnTo>
                      <a:pt x="222" y="33"/>
                    </a:lnTo>
                    <a:lnTo>
                      <a:pt x="239" y="25"/>
                    </a:lnTo>
                    <a:lnTo>
                      <a:pt x="257" y="19"/>
                    </a:lnTo>
                    <a:lnTo>
                      <a:pt x="274" y="13"/>
                    </a:lnTo>
                    <a:lnTo>
                      <a:pt x="292" y="10"/>
                    </a:lnTo>
                    <a:lnTo>
                      <a:pt x="308" y="6"/>
                    </a:lnTo>
                    <a:lnTo>
                      <a:pt x="326" y="4"/>
                    </a:lnTo>
                    <a:lnTo>
                      <a:pt x="344" y="1"/>
                    </a:lnTo>
                    <a:lnTo>
                      <a:pt x="362" y="0"/>
                    </a:lnTo>
                    <a:lnTo>
                      <a:pt x="380" y="0"/>
                    </a:lnTo>
                    <a:lnTo>
                      <a:pt x="398" y="1"/>
                    </a:lnTo>
                    <a:lnTo>
                      <a:pt x="416" y="3"/>
                    </a:lnTo>
                    <a:lnTo>
                      <a:pt x="434" y="5"/>
                    </a:lnTo>
                    <a:lnTo>
                      <a:pt x="452" y="9"/>
                    </a:lnTo>
                    <a:lnTo>
                      <a:pt x="469" y="12"/>
                    </a:lnTo>
                    <a:lnTo>
                      <a:pt x="487" y="18"/>
                    </a:lnTo>
                    <a:lnTo>
                      <a:pt x="504" y="23"/>
                    </a:lnTo>
                    <a:lnTo>
                      <a:pt x="521" y="30"/>
                    </a:lnTo>
                    <a:lnTo>
                      <a:pt x="538" y="37"/>
                    </a:lnTo>
                    <a:lnTo>
                      <a:pt x="554" y="47"/>
                    </a:lnTo>
                    <a:lnTo>
                      <a:pt x="570" y="55"/>
                    </a:lnTo>
                    <a:lnTo>
                      <a:pt x="586" y="66"/>
                    </a:lnTo>
                    <a:lnTo>
                      <a:pt x="601" y="77"/>
                    </a:lnTo>
                    <a:lnTo>
                      <a:pt x="616" y="89"/>
                    </a:lnTo>
                    <a:lnTo>
                      <a:pt x="630" y="102"/>
                    </a:lnTo>
                    <a:lnTo>
                      <a:pt x="644" y="115"/>
                    </a:lnTo>
                    <a:lnTo>
                      <a:pt x="656" y="130"/>
                    </a:lnTo>
                    <a:lnTo>
                      <a:pt x="668" y="144"/>
                    </a:lnTo>
                    <a:lnTo>
                      <a:pt x="680" y="159"/>
                    </a:lnTo>
                    <a:lnTo>
                      <a:pt x="690" y="174"/>
                    </a:lnTo>
                    <a:lnTo>
                      <a:pt x="700" y="190"/>
                    </a:lnTo>
                    <a:lnTo>
                      <a:pt x="708" y="207"/>
                    </a:lnTo>
                    <a:lnTo>
                      <a:pt x="716" y="223"/>
                    </a:lnTo>
                    <a:lnTo>
                      <a:pt x="724" y="240"/>
                    </a:lnTo>
                    <a:lnTo>
                      <a:pt x="730" y="257"/>
                    </a:lnTo>
                    <a:lnTo>
                      <a:pt x="734" y="274"/>
                    </a:lnTo>
                    <a:lnTo>
                      <a:pt x="739" y="292"/>
                    </a:lnTo>
                    <a:lnTo>
                      <a:pt x="743" y="310"/>
                    </a:lnTo>
                    <a:lnTo>
                      <a:pt x="745" y="328"/>
                    </a:lnTo>
                    <a:lnTo>
                      <a:pt x="746" y="344"/>
                    </a:lnTo>
                    <a:lnTo>
                      <a:pt x="748" y="362"/>
                    </a:lnTo>
                    <a:lnTo>
                      <a:pt x="748" y="380"/>
                    </a:lnTo>
                    <a:lnTo>
                      <a:pt x="748" y="398"/>
                    </a:lnTo>
                    <a:lnTo>
                      <a:pt x="745" y="416"/>
                    </a:lnTo>
                    <a:lnTo>
                      <a:pt x="743" y="434"/>
                    </a:lnTo>
                    <a:lnTo>
                      <a:pt x="740" y="452"/>
                    </a:lnTo>
                    <a:lnTo>
                      <a:pt x="736" y="470"/>
                    </a:lnTo>
                    <a:lnTo>
                      <a:pt x="731" y="487"/>
                    </a:lnTo>
                    <a:lnTo>
                      <a:pt x="725" y="505"/>
                    </a:lnTo>
                    <a:lnTo>
                      <a:pt x="718" y="522"/>
                    </a:lnTo>
                    <a:lnTo>
                      <a:pt x="710" y="539"/>
                    </a:lnTo>
                    <a:lnTo>
                      <a:pt x="702" y="554"/>
                    </a:lnTo>
                    <a:lnTo>
                      <a:pt x="692" y="571"/>
                    </a:lnTo>
                    <a:lnTo>
                      <a:pt x="683" y="587"/>
                    </a:lnTo>
                    <a:lnTo>
                      <a:pt x="672" y="601"/>
                    </a:lnTo>
                    <a:lnTo>
                      <a:pt x="660" y="617"/>
                    </a:lnTo>
                    <a:lnTo>
                      <a:pt x="647" y="631"/>
                    </a:lnTo>
                    <a:lnTo>
                      <a:pt x="634" y="644"/>
                    </a:lnTo>
                    <a:lnTo>
                      <a:pt x="619" y="658"/>
                    </a:lnTo>
                    <a:lnTo>
                      <a:pt x="605" y="670"/>
                    </a:lnTo>
                    <a:lnTo>
                      <a:pt x="589" y="680"/>
                    </a:lnTo>
                    <a:lnTo>
                      <a:pt x="574" y="691"/>
                    </a:lnTo>
                    <a:lnTo>
                      <a:pt x="558" y="701"/>
                    </a:lnTo>
                    <a:lnTo>
                      <a:pt x="542" y="709"/>
                    </a:lnTo>
                    <a:lnTo>
                      <a:pt x="526" y="716"/>
                    </a:lnTo>
                    <a:lnTo>
                      <a:pt x="509" y="724"/>
                    </a:lnTo>
                    <a:lnTo>
                      <a:pt x="492" y="730"/>
                    </a:lnTo>
                    <a:lnTo>
                      <a:pt x="474" y="734"/>
                    </a:lnTo>
                    <a:lnTo>
                      <a:pt x="457" y="739"/>
                    </a:lnTo>
                    <a:lnTo>
                      <a:pt x="439" y="743"/>
                    </a:lnTo>
                    <a:lnTo>
                      <a:pt x="421" y="745"/>
                    </a:lnTo>
                    <a:lnTo>
                      <a:pt x="403" y="748"/>
                    </a:lnTo>
                    <a:lnTo>
                      <a:pt x="385" y="749"/>
                    </a:lnTo>
                    <a:lnTo>
                      <a:pt x="367" y="749"/>
                    </a:lnTo>
                    <a:lnTo>
                      <a:pt x="349" y="748"/>
                    </a:lnTo>
                    <a:lnTo>
                      <a:pt x="331" y="746"/>
                    </a:lnTo>
                    <a:lnTo>
                      <a:pt x="313" y="744"/>
                    </a:lnTo>
                    <a:lnTo>
                      <a:pt x="295" y="740"/>
                    </a:lnTo>
                    <a:lnTo>
                      <a:pt x="278" y="737"/>
                    </a:lnTo>
                    <a:lnTo>
                      <a:pt x="260" y="731"/>
                    </a:lnTo>
                    <a:lnTo>
                      <a:pt x="244" y="725"/>
                    </a:lnTo>
                    <a:lnTo>
                      <a:pt x="227" y="719"/>
                    </a:lnTo>
                    <a:lnTo>
                      <a:pt x="210" y="712"/>
                    </a:lnTo>
                    <a:lnTo>
                      <a:pt x="193" y="702"/>
                    </a:lnTo>
                    <a:lnTo>
                      <a:pt x="178" y="694"/>
                    </a:lnTo>
                    <a:lnTo>
                      <a:pt x="162" y="683"/>
                    </a:lnTo>
                    <a:lnTo>
                      <a:pt x="146" y="672"/>
                    </a:lnTo>
                    <a:lnTo>
                      <a:pt x="132" y="660"/>
                    </a:lnTo>
                    <a:lnTo>
                      <a:pt x="118" y="647"/>
                    </a:lnTo>
                    <a:lnTo>
                      <a:pt x="103" y="634"/>
                    </a:lnTo>
                    <a:lnTo>
                      <a:pt x="91" y="619"/>
                    </a:lnTo>
                    <a:lnTo>
                      <a:pt x="79" y="605"/>
                    </a:lnTo>
                    <a:lnTo>
                      <a:pt x="67" y="590"/>
                    </a:lnTo>
                    <a:lnTo>
                      <a:pt x="58" y="575"/>
                    </a:lnTo>
                    <a:lnTo>
                      <a:pt x="48" y="559"/>
                    </a:lnTo>
                    <a:lnTo>
                      <a:pt x="40" y="542"/>
                    </a:lnTo>
                    <a:lnTo>
                      <a:pt x="31" y="526"/>
                    </a:lnTo>
                    <a:lnTo>
                      <a:pt x="24" y="509"/>
                    </a:lnTo>
                    <a:lnTo>
                      <a:pt x="18" y="492"/>
                    </a:lnTo>
                    <a:lnTo>
                      <a:pt x="13" y="475"/>
                    </a:lnTo>
                    <a:lnTo>
                      <a:pt x="8" y="457"/>
                    </a:lnTo>
                    <a:lnTo>
                      <a:pt x="5" y="439"/>
                    </a:lnTo>
                    <a:lnTo>
                      <a:pt x="2" y="421"/>
                    </a:lnTo>
                    <a:lnTo>
                      <a:pt x="1" y="403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50"/>
                    </a:lnTo>
                    <a:lnTo>
                      <a:pt x="2" y="332"/>
                    </a:lnTo>
                    <a:lnTo>
                      <a:pt x="5" y="315"/>
                    </a:lnTo>
                    <a:lnTo>
                      <a:pt x="8" y="297"/>
                    </a:lnTo>
                    <a:lnTo>
                      <a:pt x="12" y="279"/>
                    </a:lnTo>
                    <a:lnTo>
                      <a:pt x="17" y="262"/>
                    </a:lnTo>
                    <a:lnTo>
                      <a:pt x="23" y="244"/>
                    </a:lnTo>
                    <a:lnTo>
                      <a:pt x="30" y="227"/>
                    </a:lnTo>
                    <a:lnTo>
                      <a:pt x="37" y="210"/>
                    </a:lnTo>
                    <a:lnTo>
                      <a:pt x="46" y="195"/>
                    </a:lnTo>
                    <a:lnTo>
                      <a:pt x="55" y="178"/>
                    </a:lnTo>
                    <a:lnTo>
                      <a:pt x="65" y="162"/>
                    </a:lnTo>
                    <a:lnTo>
                      <a:pt x="77" y="147"/>
                    </a:lnTo>
                    <a:lnTo>
                      <a:pt x="89" y="132"/>
                    </a:lnTo>
                    <a:lnTo>
                      <a:pt x="101" y="118"/>
                    </a:lnTo>
                    <a:close/>
                  </a:path>
                </a:pathLst>
              </a:custGeom>
              <a:solidFill>
                <a:srgbClr val="e79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112840" y="4300560"/>
                <a:ext cx="293760" cy="293760"/>
              </a:xfrm>
              <a:custGeom>
                <a:avLst/>
                <a:gdLst/>
                <a:ahLst/>
                <a:rect l="l" t="t" r="r" b="b"/>
                <a:pathLst>
                  <a:path w="740" h="741">
                    <a:moveTo>
                      <a:pt x="100" y="116"/>
                    </a:moveTo>
                    <a:lnTo>
                      <a:pt x="114" y="103"/>
                    </a:lnTo>
                    <a:lnTo>
                      <a:pt x="127" y="91"/>
                    </a:lnTo>
                    <a:lnTo>
                      <a:pt x="142" y="79"/>
                    </a:lnTo>
                    <a:lnTo>
                      <a:pt x="157" y="67"/>
                    </a:lnTo>
                    <a:lnTo>
                      <a:pt x="172" y="58"/>
                    </a:lnTo>
                    <a:lnTo>
                      <a:pt x="187" y="48"/>
                    </a:lnTo>
                    <a:lnTo>
                      <a:pt x="204" y="40"/>
                    </a:lnTo>
                    <a:lnTo>
                      <a:pt x="220" y="32"/>
                    </a:lnTo>
                    <a:lnTo>
                      <a:pt x="236" y="25"/>
                    </a:lnTo>
                    <a:lnTo>
                      <a:pt x="253" y="19"/>
                    </a:lnTo>
                    <a:lnTo>
                      <a:pt x="271" y="14"/>
                    </a:lnTo>
                    <a:lnTo>
                      <a:pt x="288" y="10"/>
                    </a:lnTo>
                    <a:lnTo>
                      <a:pt x="306" y="6"/>
                    </a:lnTo>
                    <a:lnTo>
                      <a:pt x="323" y="4"/>
                    </a:lnTo>
                    <a:lnTo>
                      <a:pt x="341" y="1"/>
                    </a:lnTo>
                    <a:lnTo>
                      <a:pt x="359" y="1"/>
                    </a:lnTo>
                    <a:lnTo>
                      <a:pt x="377" y="0"/>
                    </a:lnTo>
                    <a:lnTo>
                      <a:pt x="395" y="1"/>
                    </a:lnTo>
                    <a:lnTo>
                      <a:pt x="412" y="2"/>
                    </a:lnTo>
                    <a:lnTo>
                      <a:pt x="430" y="5"/>
                    </a:lnTo>
                    <a:lnTo>
                      <a:pt x="448" y="8"/>
                    </a:lnTo>
                    <a:lnTo>
                      <a:pt x="464" y="13"/>
                    </a:lnTo>
                    <a:lnTo>
                      <a:pt x="482" y="18"/>
                    </a:lnTo>
                    <a:lnTo>
                      <a:pt x="499" y="24"/>
                    </a:lnTo>
                    <a:lnTo>
                      <a:pt x="516" y="30"/>
                    </a:lnTo>
                    <a:lnTo>
                      <a:pt x="533" y="37"/>
                    </a:lnTo>
                    <a:lnTo>
                      <a:pt x="548" y="46"/>
                    </a:lnTo>
                    <a:lnTo>
                      <a:pt x="565" y="55"/>
                    </a:lnTo>
                    <a:lnTo>
                      <a:pt x="580" y="66"/>
                    </a:lnTo>
                    <a:lnTo>
                      <a:pt x="595" y="77"/>
                    </a:lnTo>
                    <a:lnTo>
                      <a:pt x="610" y="89"/>
                    </a:lnTo>
                    <a:lnTo>
                      <a:pt x="624" y="101"/>
                    </a:lnTo>
                    <a:lnTo>
                      <a:pt x="637" y="114"/>
                    </a:lnTo>
                    <a:lnTo>
                      <a:pt x="650" y="128"/>
                    </a:lnTo>
                    <a:lnTo>
                      <a:pt x="662" y="143"/>
                    </a:lnTo>
                    <a:lnTo>
                      <a:pt x="673" y="157"/>
                    </a:lnTo>
                    <a:lnTo>
                      <a:pt x="684" y="173"/>
                    </a:lnTo>
                    <a:lnTo>
                      <a:pt x="692" y="188"/>
                    </a:lnTo>
                    <a:lnTo>
                      <a:pt x="701" y="204"/>
                    </a:lnTo>
                    <a:lnTo>
                      <a:pt x="709" y="221"/>
                    </a:lnTo>
                    <a:lnTo>
                      <a:pt x="716" y="238"/>
                    </a:lnTo>
                    <a:lnTo>
                      <a:pt x="722" y="254"/>
                    </a:lnTo>
                    <a:lnTo>
                      <a:pt x="727" y="271"/>
                    </a:lnTo>
                    <a:lnTo>
                      <a:pt x="732" y="289"/>
                    </a:lnTo>
                    <a:lnTo>
                      <a:pt x="734" y="306"/>
                    </a:lnTo>
                    <a:lnTo>
                      <a:pt x="738" y="324"/>
                    </a:lnTo>
                    <a:lnTo>
                      <a:pt x="739" y="342"/>
                    </a:lnTo>
                    <a:lnTo>
                      <a:pt x="740" y="360"/>
                    </a:lnTo>
                    <a:lnTo>
                      <a:pt x="740" y="378"/>
                    </a:lnTo>
                    <a:lnTo>
                      <a:pt x="740" y="395"/>
                    </a:lnTo>
                    <a:lnTo>
                      <a:pt x="738" y="413"/>
                    </a:lnTo>
                    <a:lnTo>
                      <a:pt x="736" y="431"/>
                    </a:lnTo>
                    <a:lnTo>
                      <a:pt x="732" y="449"/>
                    </a:lnTo>
                    <a:lnTo>
                      <a:pt x="728" y="465"/>
                    </a:lnTo>
                    <a:lnTo>
                      <a:pt x="724" y="482"/>
                    </a:lnTo>
                    <a:lnTo>
                      <a:pt x="718" y="500"/>
                    </a:lnTo>
                    <a:lnTo>
                      <a:pt x="710" y="517"/>
                    </a:lnTo>
                    <a:lnTo>
                      <a:pt x="703" y="533"/>
                    </a:lnTo>
                    <a:lnTo>
                      <a:pt x="695" y="549"/>
                    </a:lnTo>
                    <a:lnTo>
                      <a:pt x="685" y="565"/>
                    </a:lnTo>
                    <a:lnTo>
                      <a:pt x="676" y="581"/>
                    </a:lnTo>
                    <a:lnTo>
                      <a:pt x="665" y="596"/>
                    </a:lnTo>
                    <a:lnTo>
                      <a:pt x="653" y="611"/>
                    </a:lnTo>
                    <a:lnTo>
                      <a:pt x="640" y="625"/>
                    </a:lnTo>
                    <a:lnTo>
                      <a:pt x="626" y="638"/>
                    </a:lnTo>
                    <a:lnTo>
                      <a:pt x="613" y="651"/>
                    </a:lnTo>
                    <a:lnTo>
                      <a:pt x="599" y="663"/>
                    </a:lnTo>
                    <a:lnTo>
                      <a:pt x="583" y="674"/>
                    </a:lnTo>
                    <a:lnTo>
                      <a:pt x="569" y="684"/>
                    </a:lnTo>
                    <a:lnTo>
                      <a:pt x="552" y="693"/>
                    </a:lnTo>
                    <a:lnTo>
                      <a:pt x="536" y="702"/>
                    </a:lnTo>
                    <a:lnTo>
                      <a:pt x="520" y="710"/>
                    </a:lnTo>
                    <a:lnTo>
                      <a:pt x="504" y="716"/>
                    </a:lnTo>
                    <a:lnTo>
                      <a:pt x="486" y="722"/>
                    </a:lnTo>
                    <a:lnTo>
                      <a:pt x="469" y="728"/>
                    </a:lnTo>
                    <a:lnTo>
                      <a:pt x="452" y="732"/>
                    </a:lnTo>
                    <a:lnTo>
                      <a:pt x="434" y="735"/>
                    </a:lnTo>
                    <a:lnTo>
                      <a:pt x="416" y="738"/>
                    </a:lnTo>
                    <a:lnTo>
                      <a:pt x="400" y="740"/>
                    </a:lnTo>
                    <a:lnTo>
                      <a:pt x="382" y="741"/>
                    </a:lnTo>
                    <a:lnTo>
                      <a:pt x="364" y="741"/>
                    </a:lnTo>
                    <a:lnTo>
                      <a:pt x="346" y="740"/>
                    </a:lnTo>
                    <a:lnTo>
                      <a:pt x="328" y="739"/>
                    </a:lnTo>
                    <a:lnTo>
                      <a:pt x="311" y="737"/>
                    </a:lnTo>
                    <a:lnTo>
                      <a:pt x="293" y="733"/>
                    </a:lnTo>
                    <a:lnTo>
                      <a:pt x="275" y="729"/>
                    </a:lnTo>
                    <a:lnTo>
                      <a:pt x="258" y="725"/>
                    </a:lnTo>
                    <a:lnTo>
                      <a:pt x="241" y="719"/>
                    </a:lnTo>
                    <a:lnTo>
                      <a:pt x="224" y="711"/>
                    </a:lnTo>
                    <a:lnTo>
                      <a:pt x="208" y="704"/>
                    </a:lnTo>
                    <a:lnTo>
                      <a:pt x="192" y="696"/>
                    </a:lnTo>
                    <a:lnTo>
                      <a:pt x="175" y="686"/>
                    </a:lnTo>
                    <a:lnTo>
                      <a:pt x="160" y="677"/>
                    </a:lnTo>
                    <a:lnTo>
                      <a:pt x="145" y="666"/>
                    </a:lnTo>
                    <a:lnTo>
                      <a:pt x="131" y="654"/>
                    </a:lnTo>
                    <a:lnTo>
                      <a:pt x="116" y="641"/>
                    </a:lnTo>
                    <a:lnTo>
                      <a:pt x="102" y="627"/>
                    </a:lnTo>
                    <a:lnTo>
                      <a:pt x="90" y="613"/>
                    </a:lnTo>
                    <a:lnTo>
                      <a:pt x="78" y="599"/>
                    </a:lnTo>
                    <a:lnTo>
                      <a:pt x="67" y="584"/>
                    </a:lnTo>
                    <a:lnTo>
                      <a:pt x="56" y="569"/>
                    </a:lnTo>
                    <a:lnTo>
                      <a:pt x="47" y="553"/>
                    </a:lnTo>
                    <a:lnTo>
                      <a:pt x="38" y="537"/>
                    </a:lnTo>
                    <a:lnTo>
                      <a:pt x="31" y="521"/>
                    </a:lnTo>
                    <a:lnTo>
                      <a:pt x="24" y="504"/>
                    </a:lnTo>
                    <a:lnTo>
                      <a:pt x="18" y="487"/>
                    </a:lnTo>
                    <a:lnTo>
                      <a:pt x="13" y="470"/>
                    </a:lnTo>
                    <a:lnTo>
                      <a:pt x="8" y="452"/>
                    </a:lnTo>
                    <a:lnTo>
                      <a:pt x="5" y="435"/>
                    </a:lnTo>
                    <a:lnTo>
                      <a:pt x="2" y="417"/>
                    </a:lnTo>
                    <a:lnTo>
                      <a:pt x="1" y="399"/>
                    </a:lnTo>
                    <a:lnTo>
                      <a:pt x="0" y="383"/>
                    </a:lnTo>
                    <a:lnTo>
                      <a:pt x="0" y="365"/>
                    </a:lnTo>
                    <a:lnTo>
                      <a:pt x="0" y="347"/>
                    </a:lnTo>
                    <a:lnTo>
                      <a:pt x="2" y="329"/>
                    </a:lnTo>
                    <a:lnTo>
                      <a:pt x="5" y="311"/>
                    </a:lnTo>
                    <a:lnTo>
                      <a:pt x="7" y="294"/>
                    </a:lnTo>
                    <a:lnTo>
                      <a:pt x="12" y="276"/>
                    </a:lnTo>
                    <a:lnTo>
                      <a:pt x="17" y="259"/>
                    </a:lnTo>
                    <a:lnTo>
                      <a:pt x="23" y="242"/>
                    </a:lnTo>
                    <a:lnTo>
                      <a:pt x="29" y="226"/>
                    </a:lnTo>
                    <a:lnTo>
                      <a:pt x="37" y="209"/>
                    </a:lnTo>
                    <a:lnTo>
                      <a:pt x="46" y="192"/>
                    </a:lnTo>
                    <a:lnTo>
                      <a:pt x="54" y="176"/>
                    </a:lnTo>
                    <a:lnTo>
                      <a:pt x="65" y="161"/>
                    </a:lnTo>
                    <a:lnTo>
                      <a:pt x="76" y="145"/>
                    </a:lnTo>
                    <a:lnTo>
                      <a:pt x="88" y="131"/>
                    </a:lnTo>
                    <a:lnTo>
                      <a:pt x="100" y="116"/>
                    </a:lnTo>
                    <a:close/>
                  </a:path>
                </a:pathLst>
              </a:custGeom>
              <a:solidFill>
                <a:srgbClr val="ec9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116080" y="430200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733" h="733">
                    <a:moveTo>
                      <a:pt x="98" y="115"/>
                    </a:moveTo>
                    <a:lnTo>
                      <a:pt x="113" y="102"/>
                    </a:lnTo>
                    <a:lnTo>
                      <a:pt x="126" y="89"/>
                    </a:lnTo>
                    <a:lnTo>
                      <a:pt x="140" y="77"/>
                    </a:lnTo>
                    <a:lnTo>
                      <a:pt x="155" y="66"/>
                    </a:lnTo>
                    <a:lnTo>
                      <a:pt x="170" y="56"/>
                    </a:lnTo>
                    <a:lnTo>
                      <a:pt x="186" y="47"/>
                    </a:lnTo>
                    <a:lnTo>
                      <a:pt x="202" y="38"/>
                    </a:lnTo>
                    <a:lnTo>
                      <a:pt x="217" y="31"/>
                    </a:lnTo>
                    <a:lnTo>
                      <a:pt x="234" y="24"/>
                    </a:lnTo>
                    <a:lnTo>
                      <a:pt x="251" y="18"/>
                    </a:lnTo>
                    <a:lnTo>
                      <a:pt x="268" y="13"/>
                    </a:lnTo>
                    <a:lnTo>
                      <a:pt x="286" y="8"/>
                    </a:lnTo>
                    <a:lnTo>
                      <a:pt x="302" y="5"/>
                    </a:lnTo>
                    <a:lnTo>
                      <a:pt x="320" y="2"/>
                    </a:lnTo>
                    <a:lnTo>
                      <a:pt x="337" y="1"/>
                    </a:lnTo>
                    <a:lnTo>
                      <a:pt x="355" y="0"/>
                    </a:lnTo>
                    <a:lnTo>
                      <a:pt x="373" y="0"/>
                    </a:lnTo>
                    <a:lnTo>
                      <a:pt x="390" y="0"/>
                    </a:lnTo>
                    <a:lnTo>
                      <a:pt x="408" y="2"/>
                    </a:lnTo>
                    <a:lnTo>
                      <a:pt x="426" y="5"/>
                    </a:lnTo>
                    <a:lnTo>
                      <a:pt x="443" y="7"/>
                    </a:lnTo>
                    <a:lnTo>
                      <a:pt x="460" y="12"/>
                    </a:lnTo>
                    <a:lnTo>
                      <a:pt x="478" y="17"/>
                    </a:lnTo>
                    <a:lnTo>
                      <a:pt x="494" y="23"/>
                    </a:lnTo>
                    <a:lnTo>
                      <a:pt x="511" y="29"/>
                    </a:lnTo>
                    <a:lnTo>
                      <a:pt x="527" y="36"/>
                    </a:lnTo>
                    <a:lnTo>
                      <a:pt x="544" y="44"/>
                    </a:lnTo>
                    <a:lnTo>
                      <a:pt x="559" y="54"/>
                    </a:lnTo>
                    <a:lnTo>
                      <a:pt x="575" y="64"/>
                    </a:lnTo>
                    <a:lnTo>
                      <a:pt x="589" y="74"/>
                    </a:lnTo>
                    <a:lnTo>
                      <a:pt x="604" y="86"/>
                    </a:lnTo>
                    <a:lnTo>
                      <a:pt x="618" y="98"/>
                    </a:lnTo>
                    <a:lnTo>
                      <a:pt x="631" y="113"/>
                    </a:lnTo>
                    <a:lnTo>
                      <a:pt x="643" y="126"/>
                    </a:lnTo>
                    <a:lnTo>
                      <a:pt x="655" y="140"/>
                    </a:lnTo>
                    <a:lnTo>
                      <a:pt x="666" y="155"/>
                    </a:lnTo>
                    <a:lnTo>
                      <a:pt x="677" y="170"/>
                    </a:lnTo>
                    <a:lnTo>
                      <a:pt x="686" y="186"/>
                    </a:lnTo>
                    <a:lnTo>
                      <a:pt x="695" y="202"/>
                    </a:lnTo>
                    <a:lnTo>
                      <a:pt x="702" y="217"/>
                    </a:lnTo>
                    <a:lnTo>
                      <a:pt x="709" y="234"/>
                    </a:lnTo>
                    <a:lnTo>
                      <a:pt x="715" y="251"/>
                    </a:lnTo>
                    <a:lnTo>
                      <a:pt x="720" y="268"/>
                    </a:lnTo>
                    <a:lnTo>
                      <a:pt x="724" y="286"/>
                    </a:lnTo>
                    <a:lnTo>
                      <a:pt x="727" y="302"/>
                    </a:lnTo>
                    <a:lnTo>
                      <a:pt x="730" y="320"/>
                    </a:lnTo>
                    <a:lnTo>
                      <a:pt x="732" y="337"/>
                    </a:lnTo>
                    <a:lnTo>
                      <a:pt x="733" y="355"/>
                    </a:lnTo>
                    <a:lnTo>
                      <a:pt x="733" y="373"/>
                    </a:lnTo>
                    <a:lnTo>
                      <a:pt x="732" y="390"/>
                    </a:lnTo>
                    <a:lnTo>
                      <a:pt x="731" y="408"/>
                    </a:lnTo>
                    <a:lnTo>
                      <a:pt x="728" y="426"/>
                    </a:lnTo>
                    <a:lnTo>
                      <a:pt x="725" y="443"/>
                    </a:lnTo>
                    <a:lnTo>
                      <a:pt x="721" y="459"/>
                    </a:lnTo>
                    <a:lnTo>
                      <a:pt x="716" y="477"/>
                    </a:lnTo>
                    <a:lnTo>
                      <a:pt x="710" y="494"/>
                    </a:lnTo>
                    <a:lnTo>
                      <a:pt x="703" y="511"/>
                    </a:lnTo>
                    <a:lnTo>
                      <a:pt x="696" y="527"/>
                    </a:lnTo>
                    <a:lnTo>
                      <a:pt x="688" y="543"/>
                    </a:lnTo>
                    <a:lnTo>
                      <a:pt x="679" y="559"/>
                    </a:lnTo>
                    <a:lnTo>
                      <a:pt x="668" y="575"/>
                    </a:lnTo>
                    <a:lnTo>
                      <a:pt x="658" y="589"/>
                    </a:lnTo>
                    <a:lnTo>
                      <a:pt x="647" y="603"/>
                    </a:lnTo>
                    <a:lnTo>
                      <a:pt x="634" y="618"/>
                    </a:lnTo>
                    <a:lnTo>
                      <a:pt x="620" y="631"/>
                    </a:lnTo>
                    <a:lnTo>
                      <a:pt x="607" y="644"/>
                    </a:lnTo>
                    <a:lnTo>
                      <a:pt x="593" y="655"/>
                    </a:lnTo>
                    <a:lnTo>
                      <a:pt x="577" y="666"/>
                    </a:lnTo>
                    <a:lnTo>
                      <a:pt x="563" y="677"/>
                    </a:lnTo>
                    <a:lnTo>
                      <a:pt x="547" y="686"/>
                    </a:lnTo>
                    <a:lnTo>
                      <a:pt x="532" y="695"/>
                    </a:lnTo>
                    <a:lnTo>
                      <a:pt x="515" y="702"/>
                    </a:lnTo>
                    <a:lnTo>
                      <a:pt x="498" y="709"/>
                    </a:lnTo>
                    <a:lnTo>
                      <a:pt x="481" y="715"/>
                    </a:lnTo>
                    <a:lnTo>
                      <a:pt x="464" y="720"/>
                    </a:lnTo>
                    <a:lnTo>
                      <a:pt x="448" y="723"/>
                    </a:lnTo>
                    <a:lnTo>
                      <a:pt x="430" y="727"/>
                    </a:lnTo>
                    <a:lnTo>
                      <a:pt x="413" y="731"/>
                    </a:lnTo>
                    <a:lnTo>
                      <a:pt x="395" y="732"/>
                    </a:lnTo>
                    <a:lnTo>
                      <a:pt x="378" y="733"/>
                    </a:lnTo>
                    <a:lnTo>
                      <a:pt x="360" y="733"/>
                    </a:lnTo>
                    <a:lnTo>
                      <a:pt x="342" y="732"/>
                    </a:lnTo>
                    <a:lnTo>
                      <a:pt x="325" y="731"/>
                    </a:lnTo>
                    <a:lnTo>
                      <a:pt x="307" y="728"/>
                    </a:lnTo>
                    <a:lnTo>
                      <a:pt x="289" y="725"/>
                    </a:lnTo>
                    <a:lnTo>
                      <a:pt x="272" y="721"/>
                    </a:lnTo>
                    <a:lnTo>
                      <a:pt x="256" y="716"/>
                    </a:lnTo>
                    <a:lnTo>
                      <a:pt x="239" y="710"/>
                    </a:lnTo>
                    <a:lnTo>
                      <a:pt x="222" y="703"/>
                    </a:lnTo>
                    <a:lnTo>
                      <a:pt x="205" y="696"/>
                    </a:lnTo>
                    <a:lnTo>
                      <a:pt x="190" y="687"/>
                    </a:lnTo>
                    <a:lnTo>
                      <a:pt x="174" y="679"/>
                    </a:lnTo>
                    <a:lnTo>
                      <a:pt x="158" y="668"/>
                    </a:lnTo>
                    <a:lnTo>
                      <a:pt x="144" y="657"/>
                    </a:lnTo>
                    <a:lnTo>
                      <a:pt x="128" y="647"/>
                    </a:lnTo>
                    <a:lnTo>
                      <a:pt x="115" y="633"/>
                    </a:lnTo>
                    <a:lnTo>
                      <a:pt x="102" y="620"/>
                    </a:lnTo>
                    <a:lnTo>
                      <a:pt x="89" y="607"/>
                    </a:lnTo>
                    <a:lnTo>
                      <a:pt x="77" y="593"/>
                    </a:lnTo>
                    <a:lnTo>
                      <a:pt x="66" y="577"/>
                    </a:lnTo>
                    <a:lnTo>
                      <a:pt x="56" y="563"/>
                    </a:lnTo>
                    <a:lnTo>
                      <a:pt x="47" y="547"/>
                    </a:lnTo>
                    <a:lnTo>
                      <a:pt x="38" y="531"/>
                    </a:lnTo>
                    <a:lnTo>
                      <a:pt x="31" y="515"/>
                    </a:lnTo>
                    <a:lnTo>
                      <a:pt x="24" y="498"/>
                    </a:lnTo>
                    <a:lnTo>
                      <a:pt x="18" y="481"/>
                    </a:lnTo>
                    <a:lnTo>
                      <a:pt x="13" y="464"/>
                    </a:lnTo>
                    <a:lnTo>
                      <a:pt x="8" y="447"/>
                    </a:lnTo>
                    <a:lnTo>
                      <a:pt x="5" y="429"/>
                    </a:lnTo>
                    <a:lnTo>
                      <a:pt x="2" y="413"/>
                    </a:lnTo>
                    <a:lnTo>
                      <a:pt x="1" y="395"/>
                    </a:lnTo>
                    <a:lnTo>
                      <a:pt x="0" y="378"/>
                    </a:lnTo>
                    <a:lnTo>
                      <a:pt x="0" y="360"/>
                    </a:lnTo>
                    <a:lnTo>
                      <a:pt x="0" y="342"/>
                    </a:lnTo>
                    <a:lnTo>
                      <a:pt x="2" y="325"/>
                    </a:lnTo>
                    <a:lnTo>
                      <a:pt x="5" y="307"/>
                    </a:lnTo>
                    <a:lnTo>
                      <a:pt x="7" y="290"/>
                    </a:lnTo>
                    <a:lnTo>
                      <a:pt x="12" y="272"/>
                    </a:lnTo>
                    <a:lnTo>
                      <a:pt x="17" y="256"/>
                    </a:lnTo>
                    <a:lnTo>
                      <a:pt x="23" y="239"/>
                    </a:lnTo>
                    <a:lnTo>
                      <a:pt x="29" y="222"/>
                    </a:lnTo>
                    <a:lnTo>
                      <a:pt x="36" y="205"/>
                    </a:lnTo>
                    <a:lnTo>
                      <a:pt x="44" y="190"/>
                    </a:lnTo>
                    <a:lnTo>
                      <a:pt x="54" y="174"/>
                    </a:lnTo>
                    <a:lnTo>
                      <a:pt x="64" y="158"/>
                    </a:lnTo>
                    <a:lnTo>
                      <a:pt x="74" y="144"/>
                    </a:lnTo>
                    <a:lnTo>
                      <a:pt x="86" y="128"/>
                    </a:lnTo>
                    <a:lnTo>
                      <a:pt x="98" y="115"/>
                    </a:lnTo>
                    <a:close/>
                  </a:path>
                </a:pathLst>
              </a:custGeom>
              <a:solidFill>
                <a:srgbClr val="f2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131920" y="4324320"/>
                <a:ext cx="258840" cy="257040"/>
              </a:xfrm>
              <a:custGeom>
                <a:avLst/>
                <a:gdLst/>
                <a:ahLst/>
                <a:rect l="l" t="t" r="r" b="b"/>
                <a:pathLst>
                  <a:path w="651" h="650">
                    <a:moveTo>
                      <a:pt x="89" y="102"/>
                    </a:moveTo>
                    <a:lnTo>
                      <a:pt x="101" y="90"/>
                    </a:lnTo>
                    <a:lnTo>
                      <a:pt x="113" y="79"/>
                    </a:lnTo>
                    <a:lnTo>
                      <a:pt x="125" y="68"/>
                    </a:lnTo>
                    <a:lnTo>
                      <a:pt x="138" y="59"/>
                    </a:lnTo>
                    <a:lnTo>
                      <a:pt x="151" y="50"/>
                    </a:lnTo>
                    <a:lnTo>
                      <a:pt x="165" y="42"/>
                    </a:lnTo>
                    <a:lnTo>
                      <a:pt x="180" y="35"/>
                    </a:lnTo>
                    <a:lnTo>
                      <a:pt x="194" y="27"/>
                    </a:lnTo>
                    <a:lnTo>
                      <a:pt x="209" y="21"/>
                    </a:lnTo>
                    <a:lnTo>
                      <a:pt x="223" y="17"/>
                    </a:lnTo>
                    <a:lnTo>
                      <a:pt x="239" y="12"/>
                    </a:lnTo>
                    <a:lnTo>
                      <a:pt x="254" y="8"/>
                    </a:lnTo>
                    <a:lnTo>
                      <a:pt x="269" y="5"/>
                    </a:lnTo>
                    <a:lnTo>
                      <a:pt x="284" y="2"/>
                    </a:lnTo>
                    <a:lnTo>
                      <a:pt x="300" y="1"/>
                    </a:lnTo>
                    <a:lnTo>
                      <a:pt x="315" y="0"/>
                    </a:lnTo>
                    <a:lnTo>
                      <a:pt x="331" y="0"/>
                    </a:lnTo>
                    <a:lnTo>
                      <a:pt x="347" y="1"/>
                    </a:lnTo>
                    <a:lnTo>
                      <a:pt x="362" y="2"/>
                    </a:lnTo>
                    <a:lnTo>
                      <a:pt x="378" y="5"/>
                    </a:lnTo>
                    <a:lnTo>
                      <a:pt x="393" y="7"/>
                    </a:lnTo>
                    <a:lnTo>
                      <a:pt x="409" y="11"/>
                    </a:lnTo>
                    <a:lnTo>
                      <a:pt x="425" y="15"/>
                    </a:lnTo>
                    <a:lnTo>
                      <a:pt x="439" y="20"/>
                    </a:lnTo>
                    <a:lnTo>
                      <a:pt x="453" y="26"/>
                    </a:lnTo>
                    <a:lnTo>
                      <a:pt x="468" y="32"/>
                    </a:lnTo>
                    <a:lnTo>
                      <a:pt x="482" y="39"/>
                    </a:lnTo>
                    <a:lnTo>
                      <a:pt x="497" y="48"/>
                    </a:lnTo>
                    <a:lnTo>
                      <a:pt x="510" y="57"/>
                    </a:lnTo>
                    <a:lnTo>
                      <a:pt x="523" y="67"/>
                    </a:lnTo>
                    <a:lnTo>
                      <a:pt x="536" y="77"/>
                    </a:lnTo>
                    <a:lnTo>
                      <a:pt x="549" y="89"/>
                    </a:lnTo>
                    <a:lnTo>
                      <a:pt x="560" y="99"/>
                    </a:lnTo>
                    <a:lnTo>
                      <a:pt x="572" y="113"/>
                    </a:lnTo>
                    <a:lnTo>
                      <a:pt x="582" y="125"/>
                    </a:lnTo>
                    <a:lnTo>
                      <a:pt x="593" y="138"/>
                    </a:lnTo>
                    <a:lnTo>
                      <a:pt x="601" y="151"/>
                    </a:lnTo>
                    <a:lnTo>
                      <a:pt x="609" y="165"/>
                    </a:lnTo>
                    <a:lnTo>
                      <a:pt x="617" y="179"/>
                    </a:lnTo>
                    <a:lnTo>
                      <a:pt x="624" y="193"/>
                    </a:lnTo>
                    <a:lnTo>
                      <a:pt x="630" y="209"/>
                    </a:lnTo>
                    <a:lnTo>
                      <a:pt x="635" y="223"/>
                    </a:lnTo>
                    <a:lnTo>
                      <a:pt x="639" y="239"/>
                    </a:lnTo>
                    <a:lnTo>
                      <a:pt x="643" y="253"/>
                    </a:lnTo>
                    <a:lnTo>
                      <a:pt x="647" y="268"/>
                    </a:lnTo>
                    <a:lnTo>
                      <a:pt x="649" y="284"/>
                    </a:lnTo>
                    <a:lnTo>
                      <a:pt x="650" y="300"/>
                    </a:lnTo>
                    <a:lnTo>
                      <a:pt x="651" y="315"/>
                    </a:lnTo>
                    <a:lnTo>
                      <a:pt x="651" y="331"/>
                    </a:lnTo>
                    <a:lnTo>
                      <a:pt x="650" y="346"/>
                    </a:lnTo>
                    <a:lnTo>
                      <a:pt x="649" y="362"/>
                    </a:lnTo>
                    <a:lnTo>
                      <a:pt x="647" y="378"/>
                    </a:lnTo>
                    <a:lnTo>
                      <a:pt x="644" y="393"/>
                    </a:lnTo>
                    <a:lnTo>
                      <a:pt x="641" y="409"/>
                    </a:lnTo>
                    <a:lnTo>
                      <a:pt x="636" y="423"/>
                    </a:lnTo>
                    <a:lnTo>
                      <a:pt x="631" y="439"/>
                    </a:lnTo>
                    <a:lnTo>
                      <a:pt x="625" y="453"/>
                    </a:lnTo>
                    <a:lnTo>
                      <a:pt x="619" y="468"/>
                    </a:lnTo>
                    <a:lnTo>
                      <a:pt x="611" y="482"/>
                    </a:lnTo>
                    <a:lnTo>
                      <a:pt x="603" y="496"/>
                    </a:lnTo>
                    <a:lnTo>
                      <a:pt x="594" y="510"/>
                    </a:lnTo>
                    <a:lnTo>
                      <a:pt x="584" y="523"/>
                    </a:lnTo>
                    <a:lnTo>
                      <a:pt x="575" y="536"/>
                    </a:lnTo>
                    <a:lnTo>
                      <a:pt x="563" y="548"/>
                    </a:lnTo>
                    <a:lnTo>
                      <a:pt x="551" y="560"/>
                    </a:lnTo>
                    <a:lnTo>
                      <a:pt x="539" y="571"/>
                    </a:lnTo>
                    <a:lnTo>
                      <a:pt x="527" y="582"/>
                    </a:lnTo>
                    <a:lnTo>
                      <a:pt x="513" y="591"/>
                    </a:lnTo>
                    <a:lnTo>
                      <a:pt x="500" y="601"/>
                    </a:lnTo>
                    <a:lnTo>
                      <a:pt x="486" y="609"/>
                    </a:lnTo>
                    <a:lnTo>
                      <a:pt x="471" y="616"/>
                    </a:lnTo>
                    <a:lnTo>
                      <a:pt x="457" y="622"/>
                    </a:lnTo>
                    <a:lnTo>
                      <a:pt x="443" y="628"/>
                    </a:lnTo>
                    <a:lnTo>
                      <a:pt x="428" y="634"/>
                    </a:lnTo>
                    <a:lnTo>
                      <a:pt x="413" y="639"/>
                    </a:lnTo>
                    <a:lnTo>
                      <a:pt x="398" y="643"/>
                    </a:lnTo>
                    <a:lnTo>
                      <a:pt x="383" y="645"/>
                    </a:lnTo>
                    <a:lnTo>
                      <a:pt x="367" y="648"/>
                    </a:lnTo>
                    <a:lnTo>
                      <a:pt x="351" y="650"/>
                    </a:lnTo>
                    <a:lnTo>
                      <a:pt x="336" y="650"/>
                    </a:lnTo>
                    <a:lnTo>
                      <a:pt x="320" y="650"/>
                    </a:lnTo>
                    <a:lnTo>
                      <a:pt x="305" y="650"/>
                    </a:lnTo>
                    <a:lnTo>
                      <a:pt x="289" y="649"/>
                    </a:lnTo>
                    <a:lnTo>
                      <a:pt x="273" y="646"/>
                    </a:lnTo>
                    <a:lnTo>
                      <a:pt x="258" y="644"/>
                    </a:lnTo>
                    <a:lnTo>
                      <a:pt x="242" y="640"/>
                    </a:lnTo>
                    <a:lnTo>
                      <a:pt x="228" y="636"/>
                    </a:lnTo>
                    <a:lnTo>
                      <a:pt x="212" y="631"/>
                    </a:lnTo>
                    <a:lnTo>
                      <a:pt x="198" y="625"/>
                    </a:lnTo>
                    <a:lnTo>
                      <a:pt x="183" y="618"/>
                    </a:lnTo>
                    <a:lnTo>
                      <a:pt x="169" y="610"/>
                    </a:lnTo>
                    <a:lnTo>
                      <a:pt x="155" y="602"/>
                    </a:lnTo>
                    <a:lnTo>
                      <a:pt x="141" y="594"/>
                    </a:lnTo>
                    <a:lnTo>
                      <a:pt x="128" y="584"/>
                    </a:lnTo>
                    <a:lnTo>
                      <a:pt x="115" y="573"/>
                    </a:lnTo>
                    <a:lnTo>
                      <a:pt x="103" y="562"/>
                    </a:lnTo>
                    <a:lnTo>
                      <a:pt x="91" y="550"/>
                    </a:lnTo>
                    <a:lnTo>
                      <a:pt x="79" y="538"/>
                    </a:lnTo>
                    <a:lnTo>
                      <a:pt x="69" y="525"/>
                    </a:lnTo>
                    <a:lnTo>
                      <a:pt x="60" y="513"/>
                    </a:lnTo>
                    <a:lnTo>
                      <a:pt x="50" y="499"/>
                    </a:lnTo>
                    <a:lnTo>
                      <a:pt x="42" y="486"/>
                    </a:lnTo>
                    <a:lnTo>
                      <a:pt x="35" y="471"/>
                    </a:lnTo>
                    <a:lnTo>
                      <a:pt x="27" y="457"/>
                    </a:lnTo>
                    <a:lnTo>
                      <a:pt x="21" y="442"/>
                    </a:lnTo>
                    <a:lnTo>
                      <a:pt x="17" y="428"/>
                    </a:lnTo>
                    <a:lnTo>
                      <a:pt x="12" y="412"/>
                    </a:lnTo>
                    <a:lnTo>
                      <a:pt x="8" y="397"/>
                    </a:lnTo>
                    <a:lnTo>
                      <a:pt x="5" y="382"/>
                    </a:lnTo>
                    <a:lnTo>
                      <a:pt x="3" y="367"/>
                    </a:lnTo>
                    <a:lnTo>
                      <a:pt x="1" y="351"/>
                    </a:lnTo>
                    <a:lnTo>
                      <a:pt x="1" y="336"/>
                    </a:lnTo>
                    <a:lnTo>
                      <a:pt x="0" y="320"/>
                    </a:lnTo>
                    <a:lnTo>
                      <a:pt x="1" y="304"/>
                    </a:lnTo>
                    <a:lnTo>
                      <a:pt x="2" y="289"/>
                    </a:lnTo>
                    <a:lnTo>
                      <a:pt x="5" y="273"/>
                    </a:lnTo>
                    <a:lnTo>
                      <a:pt x="7" y="258"/>
                    </a:lnTo>
                    <a:lnTo>
                      <a:pt x="11" y="242"/>
                    </a:lnTo>
                    <a:lnTo>
                      <a:pt x="15" y="227"/>
                    </a:lnTo>
                    <a:lnTo>
                      <a:pt x="20" y="212"/>
                    </a:lnTo>
                    <a:lnTo>
                      <a:pt x="26" y="198"/>
                    </a:lnTo>
                    <a:lnTo>
                      <a:pt x="33" y="182"/>
                    </a:lnTo>
                    <a:lnTo>
                      <a:pt x="41" y="169"/>
                    </a:lnTo>
                    <a:lnTo>
                      <a:pt x="49" y="155"/>
                    </a:lnTo>
                    <a:lnTo>
                      <a:pt x="57" y="141"/>
                    </a:lnTo>
                    <a:lnTo>
                      <a:pt x="67" y="127"/>
                    </a:lnTo>
                    <a:lnTo>
                      <a:pt x="78" y="115"/>
                    </a:lnTo>
                    <a:lnTo>
                      <a:pt x="89" y="102"/>
                    </a:lnTo>
                    <a:close/>
                  </a:path>
                </a:pathLst>
              </a:custGeom>
              <a:solidFill>
                <a:srgbClr val="926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162160" y="4316400"/>
                <a:ext cx="191880" cy="52560"/>
              </a:xfrm>
              <a:custGeom>
                <a:avLst/>
                <a:gdLst/>
                <a:ahLst/>
                <a:rect l="l" t="t" r="r" b="b"/>
                <a:pathLst>
                  <a:path w="485" h="131">
                    <a:moveTo>
                      <a:pt x="485" y="92"/>
                    </a:moveTo>
                    <a:lnTo>
                      <a:pt x="485" y="92"/>
                    </a:lnTo>
                    <a:lnTo>
                      <a:pt x="472" y="80"/>
                    </a:lnTo>
                    <a:lnTo>
                      <a:pt x="459" y="70"/>
                    </a:lnTo>
                    <a:lnTo>
                      <a:pt x="446" y="60"/>
                    </a:lnTo>
                    <a:lnTo>
                      <a:pt x="431" y="50"/>
                    </a:lnTo>
                    <a:lnTo>
                      <a:pt x="416" y="42"/>
                    </a:lnTo>
                    <a:lnTo>
                      <a:pt x="401" y="34"/>
                    </a:lnTo>
                    <a:lnTo>
                      <a:pt x="386" y="26"/>
                    </a:lnTo>
                    <a:lnTo>
                      <a:pt x="370" y="20"/>
                    </a:lnTo>
                    <a:lnTo>
                      <a:pt x="354" y="16"/>
                    </a:lnTo>
                    <a:lnTo>
                      <a:pt x="339" y="11"/>
                    </a:lnTo>
                    <a:lnTo>
                      <a:pt x="322" y="7"/>
                    </a:lnTo>
                    <a:lnTo>
                      <a:pt x="306" y="4"/>
                    </a:lnTo>
                    <a:lnTo>
                      <a:pt x="290" y="1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0" y="0"/>
                    </a:lnTo>
                    <a:lnTo>
                      <a:pt x="224" y="0"/>
                    </a:lnTo>
                    <a:lnTo>
                      <a:pt x="207" y="2"/>
                    </a:lnTo>
                    <a:lnTo>
                      <a:pt x="191" y="5"/>
                    </a:lnTo>
                    <a:lnTo>
                      <a:pt x="174" y="8"/>
                    </a:lnTo>
                    <a:lnTo>
                      <a:pt x="159" y="12"/>
                    </a:lnTo>
                    <a:lnTo>
                      <a:pt x="143" y="17"/>
                    </a:lnTo>
                    <a:lnTo>
                      <a:pt x="128" y="23"/>
                    </a:lnTo>
                    <a:lnTo>
                      <a:pt x="112" y="29"/>
                    </a:lnTo>
                    <a:lnTo>
                      <a:pt x="96" y="36"/>
                    </a:lnTo>
                    <a:lnTo>
                      <a:pt x="82" y="43"/>
                    </a:lnTo>
                    <a:lnTo>
                      <a:pt x="68" y="53"/>
                    </a:lnTo>
                    <a:lnTo>
                      <a:pt x="53" y="62"/>
                    </a:lnTo>
                    <a:lnTo>
                      <a:pt x="40" y="72"/>
                    </a:lnTo>
                    <a:lnTo>
                      <a:pt x="26" y="83"/>
                    </a:lnTo>
                    <a:lnTo>
                      <a:pt x="14" y="95"/>
                    </a:lnTo>
                    <a:lnTo>
                      <a:pt x="0" y="107"/>
                    </a:lnTo>
                    <a:lnTo>
                      <a:pt x="26" y="131"/>
                    </a:lnTo>
                    <a:lnTo>
                      <a:pt x="38" y="120"/>
                    </a:lnTo>
                    <a:lnTo>
                      <a:pt x="48" y="109"/>
                    </a:lnTo>
                    <a:lnTo>
                      <a:pt x="60" y="100"/>
                    </a:lnTo>
                    <a:lnTo>
                      <a:pt x="74" y="90"/>
                    </a:lnTo>
                    <a:lnTo>
                      <a:pt x="86" y="82"/>
                    </a:lnTo>
                    <a:lnTo>
                      <a:pt x="99" y="74"/>
                    </a:lnTo>
                    <a:lnTo>
                      <a:pt x="112" y="67"/>
                    </a:lnTo>
                    <a:lnTo>
                      <a:pt x="126" y="60"/>
                    </a:lnTo>
                    <a:lnTo>
                      <a:pt x="140" y="55"/>
                    </a:lnTo>
                    <a:lnTo>
                      <a:pt x="154" y="49"/>
                    </a:lnTo>
                    <a:lnTo>
                      <a:pt x="168" y="46"/>
                    </a:lnTo>
                    <a:lnTo>
                      <a:pt x="183" y="42"/>
                    </a:lnTo>
                    <a:lnTo>
                      <a:pt x="197" y="38"/>
                    </a:lnTo>
                    <a:lnTo>
                      <a:pt x="212" y="37"/>
                    </a:lnTo>
                    <a:lnTo>
                      <a:pt x="226" y="35"/>
                    </a:lnTo>
                    <a:lnTo>
                      <a:pt x="242" y="35"/>
                    </a:lnTo>
                    <a:lnTo>
                      <a:pt x="256" y="35"/>
                    </a:lnTo>
                    <a:lnTo>
                      <a:pt x="270" y="35"/>
                    </a:lnTo>
                    <a:lnTo>
                      <a:pt x="286" y="36"/>
                    </a:lnTo>
                    <a:lnTo>
                      <a:pt x="300" y="38"/>
                    </a:lnTo>
                    <a:lnTo>
                      <a:pt x="315" y="41"/>
                    </a:lnTo>
                    <a:lnTo>
                      <a:pt x="329" y="44"/>
                    </a:lnTo>
                    <a:lnTo>
                      <a:pt x="344" y="48"/>
                    </a:lnTo>
                    <a:lnTo>
                      <a:pt x="358" y="53"/>
                    </a:lnTo>
                    <a:lnTo>
                      <a:pt x="372" y="59"/>
                    </a:lnTo>
                    <a:lnTo>
                      <a:pt x="386" y="65"/>
                    </a:lnTo>
                    <a:lnTo>
                      <a:pt x="399" y="72"/>
                    </a:lnTo>
                    <a:lnTo>
                      <a:pt x="412" y="80"/>
                    </a:lnTo>
                    <a:lnTo>
                      <a:pt x="425" y="89"/>
                    </a:lnTo>
                    <a:lnTo>
                      <a:pt x="438" y="97"/>
                    </a:lnTo>
                    <a:lnTo>
                      <a:pt x="450" y="107"/>
                    </a:lnTo>
                    <a:lnTo>
                      <a:pt x="462" y="118"/>
                    </a:lnTo>
                    <a:lnTo>
                      <a:pt x="462" y="118"/>
                    </a:lnTo>
                    <a:lnTo>
                      <a:pt x="485" y="9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344680" y="4354560"/>
                <a:ext cx="52200" cy="191880"/>
              </a:xfrm>
              <a:custGeom>
                <a:avLst/>
                <a:gdLst/>
                <a:ahLst/>
                <a:rect l="l" t="t" r="r" b="b"/>
                <a:pathLst>
                  <a:path w="131" h="485">
                    <a:moveTo>
                      <a:pt x="39" y="485"/>
                    </a:moveTo>
                    <a:lnTo>
                      <a:pt x="39" y="485"/>
                    </a:lnTo>
                    <a:lnTo>
                      <a:pt x="51" y="472"/>
                    </a:lnTo>
                    <a:lnTo>
                      <a:pt x="62" y="459"/>
                    </a:lnTo>
                    <a:lnTo>
                      <a:pt x="71" y="444"/>
                    </a:lnTo>
                    <a:lnTo>
                      <a:pt x="81" y="430"/>
                    </a:lnTo>
                    <a:lnTo>
                      <a:pt x="89" y="415"/>
                    </a:lnTo>
                    <a:lnTo>
                      <a:pt x="98" y="400"/>
                    </a:lnTo>
                    <a:lnTo>
                      <a:pt x="104" y="385"/>
                    </a:lnTo>
                    <a:lnTo>
                      <a:pt x="111" y="370"/>
                    </a:lnTo>
                    <a:lnTo>
                      <a:pt x="116" y="354"/>
                    </a:lnTo>
                    <a:lnTo>
                      <a:pt x="120" y="337"/>
                    </a:lnTo>
                    <a:lnTo>
                      <a:pt x="124" y="322"/>
                    </a:lnTo>
                    <a:lnTo>
                      <a:pt x="128" y="305"/>
                    </a:lnTo>
                    <a:lnTo>
                      <a:pt x="129" y="289"/>
                    </a:lnTo>
                    <a:lnTo>
                      <a:pt x="131" y="273"/>
                    </a:lnTo>
                    <a:lnTo>
                      <a:pt x="131" y="256"/>
                    </a:lnTo>
                    <a:lnTo>
                      <a:pt x="131" y="240"/>
                    </a:lnTo>
                    <a:lnTo>
                      <a:pt x="130" y="223"/>
                    </a:lnTo>
                    <a:lnTo>
                      <a:pt x="129" y="207"/>
                    </a:lnTo>
                    <a:lnTo>
                      <a:pt x="126" y="191"/>
                    </a:lnTo>
                    <a:lnTo>
                      <a:pt x="123" y="174"/>
                    </a:lnTo>
                    <a:lnTo>
                      <a:pt x="119" y="159"/>
                    </a:lnTo>
                    <a:lnTo>
                      <a:pt x="114" y="143"/>
                    </a:lnTo>
                    <a:lnTo>
                      <a:pt x="108" y="126"/>
                    </a:lnTo>
                    <a:lnTo>
                      <a:pt x="102" y="112"/>
                    </a:lnTo>
                    <a:lnTo>
                      <a:pt x="95" y="96"/>
                    </a:lnTo>
                    <a:lnTo>
                      <a:pt x="87" y="82"/>
                    </a:lnTo>
                    <a:lnTo>
                      <a:pt x="78" y="68"/>
                    </a:lnTo>
                    <a:lnTo>
                      <a:pt x="69" y="53"/>
                    </a:lnTo>
                    <a:lnTo>
                      <a:pt x="59" y="39"/>
                    </a:lnTo>
                    <a:lnTo>
                      <a:pt x="48" y="26"/>
                    </a:lnTo>
                    <a:lnTo>
                      <a:pt x="36" y="12"/>
                    </a:lnTo>
                    <a:lnTo>
                      <a:pt x="23" y="0"/>
                    </a:lnTo>
                    <a:lnTo>
                      <a:pt x="0" y="26"/>
                    </a:lnTo>
                    <a:lnTo>
                      <a:pt x="11" y="36"/>
                    </a:lnTo>
                    <a:lnTo>
                      <a:pt x="22" y="48"/>
                    </a:lnTo>
                    <a:lnTo>
                      <a:pt x="32" y="60"/>
                    </a:lnTo>
                    <a:lnTo>
                      <a:pt x="41" y="72"/>
                    </a:lnTo>
                    <a:lnTo>
                      <a:pt x="50" y="86"/>
                    </a:lnTo>
                    <a:lnTo>
                      <a:pt x="57" y="99"/>
                    </a:lnTo>
                    <a:lnTo>
                      <a:pt x="64" y="112"/>
                    </a:lnTo>
                    <a:lnTo>
                      <a:pt x="70" y="125"/>
                    </a:lnTo>
                    <a:lnTo>
                      <a:pt x="76" y="140"/>
                    </a:lnTo>
                    <a:lnTo>
                      <a:pt x="81" y="154"/>
                    </a:lnTo>
                    <a:lnTo>
                      <a:pt x="86" y="167"/>
                    </a:lnTo>
                    <a:lnTo>
                      <a:pt x="89" y="182"/>
                    </a:lnTo>
                    <a:lnTo>
                      <a:pt x="92" y="197"/>
                    </a:lnTo>
                    <a:lnTo>
                      <a:pt x="94" y="211"/>
                    </a:lnTo>
                    <a:lnTo>
                      <a:pt x="96" y="226"/>
                    </a:lnTo>
                    <a:lnTo>
                      <a:pt x="96" y="240"/>
                    </a:lnTo>
                    <a:lnTo>
                      <a:pt x="96" y="256"/>
                    </a:lnTo>
                    <a:lnTo>
                      <a:pt x="96" y="270"/>
                    </a:lnTo>
                    <a:lnTo>
                      <a:pt x="95" y="286"/>
                    </a:lnTo>
                    <a:lnTo>
                      <a:pt x="93" y="300"/>
                    </a:lnTo>
                    <a:lnTo>
                      <a:pt x="90" y="315"/>
                    </a:lnTo>
                    <a:lnTo>
                      <a:pt x="87" y="329"/>
                    </a:lnTo>
                    <a:lnTo>
                      <a:pt x="82" y="343"/>
                    </a:lnTo>
                    <a:lnTo>
                      <a:pt x="77" y="358"/>
                    </a:lnTo>
                    <a:lnTo>
                      <a:pt x="72" y="371"/>
                    </a:lnTo>
                    <a:lnTo>
                      <a:pt x="66" y="385"/>
                    </a:lnTo>
                    <a:lnTo>
                      <a:pt x="59" y="399"/>
                    </a:lnTo>
                    <a:lnTo>
                      <a:pt x="51" y="412"/>
                    </a:lnTo>
                    <a:lnTo>
                      <a:pt x="42" y="425"/>
                    </a:lnTo>
                    <a:lnTo>
                      <a:pt x="34" y="437"/>
                    </a:lnTo>
                    <a:lnTo>
                      <a:pt x="24" y="450"/>
                    </a:lnTo>
                    <a:lnTo>
                      <a:pt x="14" y="461"/>
                    </a:lnTo>
                    <a:lnTo>
                      <a:pt x="14" y="461"/>
                    </a:lnTo>
                    <a:lnTo>
                      <a:pt x="39" y="48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168280" y="4537080"/>
                <a:ext cx="192240" cy="52560"/>
              </a:xfrm>
              <a:custGeom>
                <a:avLst/>
                <a:gdLst/>
                <a:ahLst/>
                <a:rect l="l" t="t" r="r" b="b"/>
                <a:pathLst>
                  <a:path w="485" h="132">
                    <a:moveTo>
                      <a:pt x="0" y="40"/>
                    </a:moveTo>
                    <a:lnTo>
                      <a:pt x="0" y="40"/>
                    </a:lnTo>
                    <a:lnTo>
                      <a:pt x="13" y="50"/>
                    </a:lnTo>
                    <a:lnTo>
                      <a:pt x="26" y="61"/>
                    </a:lnTo>
                    <a:lnTo>
                      <a:pt x="41" y="72"/>
                    </a:lnTo>
                    <a:lnTo>
                      <a:pt x="55" y="82"/>
                    </a:lnTo>
                    <a:lnTo>
                      <a:pt x="70" y="90"/>
                    </a:lnTo>
                    <a:lnTo>
                      <a:pt x="84" y="97"/>
                    </a:lnTo>
                    <a:lnTo>
                      <a:pt x="100" y="104"/>
                    </a:lnTo>
                    <a:lnTo>
                      <a:pt x="115" y="110"/>
                    </a:lnTo>
                    <a:lnTo>
                      <a:pt x="131" y="116"/>
                    </a:lnTo>
                    <a:lnTo>
                      <a:pt x="148" y="121"/>
                    </a:lnTo>
                    <a:lnTo>
                      <a:pt x="163" y="125"/>
                    </a:lnTo>
                    <a:lnTo>
                      <a:pt x="180" y="127"/>
                    </a:lnTo>
                    <a:lnTo>
                      <a:pt x="196" y="130"/>
                    </a:lnTo>
                    <a:lnTo>
                      <a:pt x="212" y="131"/>
                    </a:lnTo>
                    <a:lnTo>
                      <a:pt x="229" y="132"/>
                    </a:lnTo>
                    <a:lnTo>
                      <a:pt x="245" y="132"/>
                    </a:lnTo>
                    <a:lnTo>
                      <a:pt x="262" y="131"/>
                    </a:lnTo>
                    <a:lnTo>
                      <a:pt x="278" y="130"/>
                    </a:lnTo>
                    <a:lnTo>
                      <a:pt x="294" y="127"/>
                    </a:lnTo>
                    <a:lnTo>
                      <a:pt x="311" y="124"/>
                    </a:lnTo>
                    <a:lnTo>
                      <a:pt x="326" y="120"/>
                    </a:lnTo>
                    <a:lnTo>
                      <a:pt x="342" y="115"/>
                    </a:lnTo>
                    <a:lnTo>
                      <a:pt x="358" y="109"/>
                    </a:lnTo>
                    <a:lnTo>
                      <a:pt x="373" y="103"/>
                    </a:lnTo>
                    <a:lnTo>
                      <a:pt x="389" y="96"/>
                    </a:lnTo>
                    <a:lnTo>
                      <a:pt x="403" y="88"/>
                    </a:lnTo>
                    <a:lnTo>
                      <a:pt x="418" y="79"/>
                    </a:lnTo>
                    <a:lnTo>
                      <a:pt x="432" y="70"/>
                    </a:lnTo>
                    <a:lnTo>
                      <a:pt x="446" y="60"/>
                    </a:lnTo>
                    <a:lnTo>
                      <a:pt x="460" y="48"/>
                    </a:lnTo>
                    <a:lnTo>
                      <a:pt x="473" y="37"/>
                    </a:lnTo>
                    <a:lnTo>
                      <a:pt x="485" y="24"/>
                    </a:lnTo>
                    <a:lnTo>
                      <a:pt x="460" y="0"/>
                    </a:lnTo>
                    <a:lnTo>
                      <a:pt x="448" y="12"/>
                    </a:lnTo>
                    <a:lnTo>
                      <a:pt x="437" y="23"/>
                    </a:lnTo>
                    <a:lnTo>
                      <a:pt x="425" y="32"/>
                    </a:lnTo>
                    <a:lnTo>
                      <a:pt x="413" y="41"/>
                    </a:lnTo>
                    <a:lnTo>
                      <a:pt x="400" y="49"/>
                    </a:lnTo>
                    <a:lnTo>
                      <a:pt x="386" y="58"/>
                    </a:lnTo>
                    <a:lnTo>
                      <a:pt x="373" y="65"/>
                    </a:lnTo>
                    <a:lnTo>
                      <a:pt x="360" y="71"/>
                    </a:lnTo>
                    <a:lnTo>
                      <a:pt x="346" y="77"/>
                    </a:lnTo>
                    <a:lnTo>
                      <a:pt x="331" y="82"/>
                    </a:lnTo>
                    <a:lnTo>
                      <a:pt x="317" y="86"/>
                    </a:lnTo>
                    <a:lnTo>
                      <a:pt x="302" y="90"/>
                    </a:lnTo>
                    <a:lnTo>
                      <a:pt x="288" y="92"/>
                    </a:lnTo>
                    <a:lnTo>
                      <a:pt x="274" y="95"/>
                    </a:lnTo>
                    <a:lnTo>
                      <a:pt x="259" y="96"/>
                    </a:lnTo>
                    <a:lnTo>
                      <a:pt x="244" y="97"/>
                    </a:lnTo>
                    <a:lnTo>
                      <a:pt x="229" y="97"/>
                    </a:lnTo>
                    <a:lnTo>
                      <a:pt x="215" y="97"/>
                    </a:lnTo>
                    <a:lnTo>
                      <a:pt x="199" y="95"/>
                    </a:lnTo>
                    <a:lnTo>
                      <a:pt x="185" y="94"/>
                    </a:lnTo>
                    <a:lnTo>
                      <a:pt x="170" y="90"/>
                    </a:lnTo>
                    <a:lnTo>
                      <a:pt x="156" y="88"/>
                    </a:lnTo>
                    <a:lnTo>
                      <a:pt x="142" y="83"/>
                    </a:lnTo>
                    <a:lnTo>
                      <a:pt x="127" y="78"/>
                    </a:lnTo>
                    <a:lnTo>
                      <a:pt x="113" y="73"/>
                    </a:lnTo>
                    <a:lnTo>
                      <a:pt x="100" y="66"/>
                    </a:lnTo>
                    <a:lnTo>
                      <a:pt x="86" y="59"/>
                    </a:lnTo>
                    <a:lnTo>
                      <a:pt x="73" y="52"/>
                    </a:lnTo>
                    <a:lnTo>
                      <a:pt x="60" y="43"/>
                    </a:lnTo>
                    <a:lnTo>
                      <a:pt x="48" y="34"/>
                    </a:lnTo>
                    <a:lnTo>
                      <a:pt x="35" y="24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125440" y="4359240"/>
                <a:ext cx="52560" cy="193680"/>
              </a:xfrm>
              <a:custGeom>
                <a:avLst/>
                <a:gdLst/>
                <a:ahLst/>
                <a:rect l="l" t="t" r="r" b="b"/>
                <a:pathLst>
                  <a:path w="132" h="486">
                    <a:moveTo>
                      <a:pt x="92" y="0"/>
                    </a:moveTo>
                    <a:lnTo>
                      <a:pt x="92" y="0"/>
                    </a:lnTo>
                    <a:lnTo>
                      <a:pt x="82" y="13"/>
                    </a:lnTo>
                    <a:lnTo>
                      <a:pt x="70" y="27"/>
                    </a:lnTo>
                    <a:lnTo>
                      <a:pt x="60" y="41"/>
                    </a:lnTo>
                    <a:lnTo>
                      <a:pt x="50" y="55"/>
                    </a:lnTo>
                    <a:lnTo>
                      <a:pt x="42" y="71"/>
                    </a:lnTo>
                    <a:lnTo>
                      <a:pt x="35" y="85"/>
                    </a:lnTo>
                    <a:lnTo>
                      <a:pt x="28" y="101"/>
                    </a:lnTo>
                    <a:lnTo>
                      <a:pt x="22" y="116"/>
                    </a:lnTo>
                    <a:lnTo>
                      <a:pt x="16" y="132"/>
                    </a:lnTo>
                    <a:lnTo>
                      <a:pt x="11" y="147"/>
                    </a:lnTo>
                    <a:lnTo>
                      <a:pt x="7" y="164"/>
                    </a:lnTo>
                    <a:lnTo>
                      <a:pt x="5" y="180"/>
                    </a:lnTo>
                    <a:lnTo>
                      <a:pt x="2" y="196"/>
                    </a:lnTo>
                    <a:lnTo>
                      <a:pt x="1" y="213"/>
                    </a:lnTo>
                    <a:lnTo>
                      <a:pt x="0" y="229"/>
                    </a:lnTo>
                    <a:lnTo>
                      <a:pt x="0" y="246"/>
                    </a:lnTo>
                    <a:lnTo>
                      <a:pt x="1" y="262"/>
                    </a:lnTo>
                    <a:lnTo>
                      <a:pt x="2" y="278"/>
                    </a:lnTo>
                    <a:lnTo>
                      <a:pt x="5" y="295"/>
                    </a:lnTo>
                    <a:lnTo>
                      <a:pt x="8" y="310"/>
                    </a:lnTo>
                    <a:lnTo>
                      <a:pt x="12" y="327"/>
                    </a:lnTo>
                    <a:lnTo>
                      <a:pt x="17" y="343"/>
                    </a:lnTo>
                    <a:lnTo>
                      <a:pt x="23" y="358"/>
                    </a:lnTo>
                    <a:lnTo>
                      <a:pt x="29" y="374"/>
                    </a:lnTo>
                    <a:lnTo>
                      <a:pt x="36" y="390"/>
                    </a:lnTo>
                    <a:lnTo>
                      <a:pt x="44" y="404"/>
                    </a:lnTo>
                    <a:lnTo>
                      <a:pt x="53" y="418"/>
                    </a:lnTo>
                    <a:lnTo>
                      <a:pt x="62" y="433"/>
                    </a:lnTo>
                    <a:lnTo>
                      <a:pt x="72" y="446"/>
                    </a:lnTo>
                    <a:lnTo>
                      <a:pt x="83" y="459"/>
                    </a:lnTo>
                    <a:lnTo>
                      <a:pt x="95" y="472"/>
                    </a:lnTo>
                    <a:lnTo>
                      <a:pt x="108" y="486"/>
                    </a:lnTo>
                    <a:lnTo>
                      <a:pt x="132" y="459"/>
                    </a:lnTo>
                    <a:lnTo>
                      <a:pt x="120" y="448"/>
                    </a:lnTo>
                    <a:lnTo>
                      <a:pt x="109" y="438"/>
                    </a:lnTo>
                    <a:lnTo>
                      <a:pt x="100" y="426"/>
                    </a:lnTo>
                    <a:lnTo>
                      <a:pt x="90" y="412"/>
                    </a:lnTo>
                    <a:lnTo>
                      <a:pt x="82" y="400"/>
                    </a:lnTo>
                    <a:lnTo>
                      <a:pt x="74" y="387"/>
                    </a:lnTo>
                    <a:lnTo>
                      <a:pt x="67" y="374"/>
                    </a:lnTo>
                    <a:lnTo>
                      <a:pt x="61" y="360"/>
                    </a:lnTo>
                    <a:lnTo>
                      <a:pt x="55" y="346"/>
                    </a:lnTo>
                    <a:lnTo>
                      <a:pt x="50" y="332"/>
                    </a:lnTo>
                    <a:lnTo>
                      <a:pt x="46" y="318"/>
                    </a:lnTo>
                    <a:lnTo>
                      <a:pt x="42" y="303"/>
                    </a:lnTo>
                    <a:lnTo>
                      <a:pt x="40" y="289"/>
                    </a:lnTo>
                    <a:lnTo>
                      <a:pt x="37" y="274"/>
                    </a:lnTo>
                    <a:lnTo>
                      <a:pt x="36" y="260"/>
                    </a:lnTo>
                    <a:lnTo>
                      <a:pt x="35" y="244"/>
                    </a:lnTo>
                    <a:lnTo>
                      <a:pt x="35" y="230"/>
                    </a:lnTo>
                    <a:lnTo>
                      <a:pt x="35" y="214"/>
                    </a:lnTo>
                    <a:lnTo>
                      <a:pt x="36" y="200"/>
                    </a:lnTo>
                    <a:lnTo>
                      <a:pt x="38" y="186"/>
                    </a:lnTo>
                    <a:lnTo>
                      <a:pt x="41" y="171"/>
                    </a:lnTo>
                    <a:lnTo>
                      <a:pt x="44" y="157"/>
                    </a:lnTo>
                    <a:lnTo>
                      <a:pt x="49" y="143"/>
                    </a:lnTo>
                    <a:lnTo>
                      <a:pt x="54" y="128"/>
                    </a:lnTo>
                    <a:lnTo>
                      <a:pt x="59" y="114"/>
                    </a:lnTo>
                    <a:lnTo>
                      <a:pt x="66" y="101"/>
                    </a:lnTo>
                    <a:lnTo>
                      <a:pt x="72" y="86"/>
                    </a:lnTo>
                    <a:lnTo>
                      <a:pt x="80" y="73"/>
                    </a:lnTo>
                    <a:lnTo>
                      <a:pt x="89" y="61"/>
                    </a:lnTo>
                    <a:lnTo>
                      <a:pt x="97" y="48"/>
                    </a:lnTo>
                    <a:lnTo>
                      <a:pt x="108" y="36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255840" y="4506840"/>
                <a:ext cx="324000" cy="324000"/>
              </a:xfrm>
              <a:custGeom>
                <a:avLst/>
                <a:gdLst/>
                <a:ahLst/>
                <a:rect l="l" t="t" r="r" b="b"/>
                <a:pathLst>
                  <a:path w="816" h="816">
                    <a:moveTo>
                      <a:pt x="408" y="0"/>
                    </a:moveTo>
                    <a:lnTo>
                      <a:pt x="428" y="0"/>
                    </a:lnTo>
                    <a:lnTo>
                      <a:pt x="449" y="3"/>
                    </a:lnTo>
                    <a:lnTo>
                      <a:pt x="469" y="5"/>
                    </a:lnTo>
                    <a:lnTo>
                      <a:pt x="490" y="9"/>
                    </a:lnTo>
                    <a:lnTo>
                      <a:pt x="509" y="14"/>
                    </a:lnTo>
                    <a:lnTo>
                      <a:pt x="529" y="18"/>
                    </a:lnTo>
                    <a:lnTo>
                      <a:pt x="547" y="26"/>
                    </a:lnTo>
                    <a:lnTo>
                      <a:pt x="566" y="33"/>
                    </a:lnTo>
                    <a:lnTo>
                      <a:pt x="584" y="41"/>
                    </a:lnTo>
                    <a:lnTo>
                      <a:pt x="601" y="50"/>
                    </a:lnTo>
                    <a:lnTo>
                      <a:pt x="619" y="59"/>
                    </a:lnTo>
                    <a:lnTo>
                      <a:pt x="636" y="70"/>
                    </a:lnTo>
                    <a:lnTo>
                      <a:pt x="652" y="82"/>
                    </a:lnTo>
                    <a:lnTo>
                      <a:pt x="667" y="94"/>
                    </a:lnTo>
                    <a:lnTo>
                      <a:pt x="682" y="107"/>
                    </a:lnTo>
                    <a:lnTo>
                      <a:pt x="696" y="120"/>
                    </a:lnTo>
                    <a:lnTo>
                      <a:pt x="709" y="135"/>
                    </a:lnTo>
                    <a:lnTo>
                      <a:pt x="722" y="149"/>
                    </a:lnTo>
                    <a:lnTo>
                      <a:pt x="734" y="165"/>
                    </a:lnTo>
                    <a:lnTo>
                      <a:pt x="745" y="180"/>
                    </a:lnTo>
                    <a:lnTo>
                      <a:pt x="756" y="197"/>
                    </a:lnTo>
                    <a:lnTo>
                      <a:pt x="766" y="214"/>
                    </a:lnTo>
                    <a:lnTo>
                      <a:pt x="775" y="232"/>
                    </a:lnTo>
                    <a:lnTo>
                      <a:pt x="784" y="250"/>
                    </a:lnTo>
                    <a:lnTo>
                      <a:pt x="791" y="268"/>
                    </a:lnTo>
                    <a:lnTo>
                      <a:pt x="797" y="287"/>
                    </a:lnTo>
                    <a:lnTo>
                      <a:pt x="803" y="306"/>
                    </a:lnTo>
                    <a:lnTo>
                      <a:pt x="808" y="327"/>
                    </a:lnTo>
                    <a:lnTo>
                      <a:pt x="811" y="346"/>
                    </a:lnTo>
                    <a:lnTo>
                      <a:pt x="814" y="366"/>
                    </a:lnTo>
                    <a:lnTo>
                      <a:pt x="815" y="387"/>
                    </a:lnTo>
                    <a:lnTo>
                      <a:pt x="816" y="408"/>
                    </a:lnTo>
                    <a:lnTo>
                      <a:pt x="815" y="429"/>
                    </a:lnTo>
                    <a:lnTo>
                      <a:pt x="814" y="450"/>
                    </a:lnTo>
                    <a:lnTo>
                      <a:pt x="811" y="471"/>
                    </a:lnTo>
                    <a:lnTo>
                      <a:pt x="808" y="490"/>
                    </a:lnTo>
                    <a:lnTo>
                      <a:pt x="803" y="510"/>
                    </a:lnTo>
                    <a:lnTo>
                      <a:pt x="797" y="530"/>
                    </a:lnTo>
                    <a:lnTo>
                      <a:pt x="791" y="549"/>
                    </a:lnTo>
                    <a:lnTo>
                      <a:pt x="784" y="567"/>
                    </a:lnTo>
                    <a:lnTo>
                      <a:pt x="775" y="585"/>
                    </a:lnTo>
                    <a:lnTo>
                      <a:pt x="766" y="603"/>
                    </a:lnTo>
                    <a:lnTo>
                      <a:pt x="756" y="619"/>
                    </a:lnTo>
                    <a:lnTo>
                      <a:pt x="745" y="636"/>
                    </a:lnTo>
                    <a:lnTo>
                      <a:pt x="734" y="652"/>
                    </a:lnTo>
                    <a:lnTo>
                      <a:pt x="722" y="667"/>
                    </a:lnTo>
                    <a:lnTo>
                      <a:pt x="709" y="682"/>
                    </a:lnTo>
                    <a:lnTo>
                      <a:pt x="696" y="696"/>
                    </a:lnTo>
                    <a:lnTo>
                      <a:pt x="682" y="709"/>
                    </a:lnTo>
                    <a:lnTo>
                      <a:pt x="667" y="723"/>
                    </a:lnTo>
                    <a:lnTo>
                      <a:pt x="652" y="735"/>
                    </a:lnTo>
                    <a:lnTo>
                      <a:pt x="636" y="747"/>
                    </a:lnTo>
                    <a:lnTo>
                      <a:pt x="619" y="756"/>
                    </a:lnTo>
                    <a:lnTo>
                      <a:pt x="601" y="767"/>
                    </a:lnTo>
                    <a:lnTo>
                      <a:pt x="584" y="775"/>
                    </a:lnTo>
                    <a:lnTo>
                      <a:pt x="566" y="784"/>
                    </a:lnTo>
                    <a:lnTo>
                      <a:pt x="547" y="791"/>
                    </a:lnTo>
                    <a:lnTo>
                      <a:pt x="529" y="797"/>
                    </a:lnTo>
                    <a:lnTo>
                      <a:pt x="509" y="803"/>
                    </a:lnTo>
                    <a:lnTo>
                      <a:pt x="490" y="808"/>
                    </a:lnTo>
                    <a:lnTo>
                      <a:pt x="469" y="811"/>
                    </a:lnTo>
                    <a:lnTo>
                      <a:pt x="449" y="814"/>
                    </a:lnTo>
                    <a:lnTo>
                      <a:pt x="428" y="815"/>
                    </a:lnTo>
                    <a:lnTo>
                      <a:pt x="408" y="816"/>
                    </a:lnTo>
                    <a:lnTo>
                      <a:pt x="386" y="815"/>
                    </a:lnTo>
                    <a:lnTo>
                      <a:pt x="366" y="814"/>
                    </a:lnTo>
                    <a:lnTo>
                      <a:pt x="346" y="811"/>
                    </a:lnTo>
                    <a:lnTo>
                      <a:pt x="325" y="808"/>
                    </a:lnTo>
                    <a:lnTo>
                      <a:pt x="306" y="803"/>
                    </a:lnTo>
                    <a:lnTo>
                      <a:pt x="287" y="797"/>
                    </a:lnTo>
                    <a:lnTo>
                      <a:pt x="268" y="791"/>
                    </a:lnTo>
                    <a:lnTo>
                      <a:pt x="250" y="784"/>
                    </a:lnTo>
                    <a:lnTo>
                      <a:pt x="232" y="775"/>
                    </a:lnTo>
                    <a:lnTo>
                      <a:pt x="214" y="767"/>
                    </a:lnTo>
                    <a:lnTo>
                      <a:pt x="197" y="756"/>
                    </a:lnTo>
                    <a:lnTo>
                      <a:pt x="180" y="747"/>
                    </a:lnTo>
                    <a:lnTo>
                      <a:pt x="164" y="735"/>
                    </a:lnTo>
                    <a:lnTo>
                      <a:pt x="149" y="723"/>
                    </a:lnTo>
                    <a:lnTo>
                      <a:pt x="133" y="709"/>
                    </a:lnTo>
                    <a:lnTo>
                      <a:pt x="120" y="696"/>
                    </a:lnTo>
                    <a:lnTo>
                      <a:pt x="106" y="682"/>
                    </a:lnTo>
                    <a:lnTo>
                      <a:pt x="94" y="667"/>
                    </a:lnTo>
                    <a:lnTo>
                      <a:pt x="82" y="652"/>
                    </a:lnTo>
                    <a:lnTo>
                      <a:pt x="70" y="636"/>
                    </a:lnTo>
                    <a:lnTo>
                      <a:pt x="59" y="619"/>
                    </a:lnTo>
                    <a:lnTo>
                      <a:pt x="49" y="603"/>
                    </a:lnTo>
                    <a:lnTo>
                      <a:pt x="40" y="585"/>
                    </a:lnTo>
                    <a:lnTo>
                      <a:pt x="32" y="567"/>
                    </a:lnTo>
                    <a:lnTo>
                      <a:pt x="25" y="549"/>
                    </a:lnTo>
                    <a:lnTo>
                      <a:pt x="18" y="530"/>
                    </a:lnTo>
                    <a:lnTo>
                      <a:pt x="13" y="510"/>
                    </a:lnTo>
                    <a:lnTo>
                      <a:pt x="8" y="490"/>
                    </a:lnTo>
                    <a:lnTo>
                      <a:pt x="5" y="471"/>
                    </a:lnTo>
                    <a:lnTo>
                      <a:pt x="2" y="450"/>
                    </a:lnTo>
                    <a:lnTo>
                      <a:pt x="0" y="429"/>
                    </a:lnTo>
                    <a:lnTo>
                      <a:pt x="0" y="408"/>
                    </a:lnTo>
                    <a:lnTo>
                      <a:pt x="0" y="387"/>
                    </a:lnTo>
                    <a:lnTo>
                      <a:pt x="2" y="366"/>
                    </a:lnTo>
                    <a:lnTo>
                      <a:pt x="5" y="346"/>
                    </a:lnTo>
                    <a:lnTo>
                      <a:pt x="8" y="327"/>
                    </a:lnTo>
                    <a:lnTo>
                      <a:pt x="13" y="306"/>
                    </a:lnTo>
                    <a:lnTo>
                      <a:pt x="18" y="287"/>
                    </a:lnTo>
                    <a:lnTo>
                      <a:pt x="25" y="268"/>
                    </a:lnTo>
                    <a:lnTo>
                      <a:pt x="32" y="250"/>
                    </a:lnTo>
                    <a:lnTo>
                      <a:pt x="40" y="232"/>
                    </a:lnTo>
                    <a:lnTo>
                      <a:pt x="49" y="214"/>
                    </a:lnTo>
                    <a:lnTo>
                      <a:pt x="59" y="197"/>
                    </a:lnTo>
                    <a:lnTo>
                      <a:pt x="70" y="180"/>
                    </a:lnTo>
                    <a:lnTo>
                      <a:pt x="82" y="165"/>
                    </a:lnTo>
                    <a:lnTo>
                      <a:pt x="94" y="149"/>
                    </a:lnTo>
                    <a:lnTo>
                      <a:pt x="106" y="135"/>
                    </a:lnTo>
                    <a:lnTo>
                      <a:pt x="120" y="120"/>
                    </a:lnTo>
                    <a:lnTo>
                      <a:pt x="133" y="107"/>
                    </a:lnTo>
                    <a:lnTo>
                      <a:pt x="149" y="94"/>
                    </a:lnTo>
                    <a:lnTo>
                      <a:pt x="164" y="82"/>
                    </a:lnTo>
                    <a:lnTo>
                      <a:pt x="180" y="70"/>
                    </a:lnTo>
                    <a:lnTo>
                      <a:pt x="197" y="59"/>
                    </a:lnTo>
                    <a:lnTo>
                      <a:pt x="214" y="50"/>
                    </a:lnTo>
                    <a:lnTo>
                      <a:pt x="232" y="41"/>
                    </a:lnTo>
                    <a:lnTo>
                      <a:pt x="250" y="33"/>
                    </a:lnTo>
                    <a:lnTo>
                      <a:pt x="268" y="26"/>
                    </a:lnTo>
                    <a:lnTo>
                      <a:pt x="287" y="18"/>
                    </a:lnTo>
                    <a:lnTo>
                      <a:pt x="306" y="14"/>
                    </a:lnTo>
                    <a:lnTo>
                      <a:pt x="325" y="9"/>
                    </a:lnTo>
                    <a:lnTo>
                      <a:pt x="346" y="5"/>
                    </a:lnTo>
                    <a:lnTo>
                      <a:pt x="366" y="3"/>
                    </a:lnTo>
                    <a:lnTo>
                      <a:pt x="386" y="0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be8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417840" y="45007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425" h="424">
                    <a:moveTo>
                      <a:pt x="425" y="424"/>
                    </a:moveTo>
                    <a:lnTo>
                      <a:pt x="425" y="424"/>
                    </a:lnTo>
                    <a:lnTo>
                      <a:pt x="425" y="403"/>
                    </a:lnTo>
                    <a:lnTo>
                      <a:pt x="422" y="381"/>
                    </a:lnTo>
                    <a:lnTo>
                      <a:pt x="420" y="360"/>
                    </a:lnTo>
                    <a:lnTo>
                      <a:pt x="416" y="339"/>
                    </a:lnTo>
                    <a:lnTo>
                      <a:pt x="412" y="319"/>
                    </a:lnTo>
                    <a:lnTo>
                      <a:pt x="406" y="298"/>
                    </a:lnTo>
                    <a:lnTo>
                      <a:pt x="398" y="278"/>
                    </a:lnTo>
                    <a:lnTo>
                      <a:pt x="391" y="259"/>
                    </a:lnTo>
                    <a:lnTo>
                      <a:pt x="383" y="241"/>
                    </a:lnTo>
                    <a:lnTo>
                      <a:pt x="373" y="222"/>
                    </a:lnTo>
                    <a:lnTo>
                      <a:pt x="364" y="204"/>
                    </a:lnTo>
                    <a:lnTo>
                      <a:pt x="352" y="187"/>
                    </a:lnTo>
                    <a:lnTo>
                      <a:pt x="340" y="170"/>
                    </a:lnTo>
                    <a:lnTo>
                      <a:pt x="328" y="154"/>
                    </a:lnTo>
                    <a:lnTo>
                      <a:pt x="314" y="139"/>
                    </a:lnTo>
                    <a:lnTo>
                      <a:pt x="300" y="124"/>
                    </a:lnTo>
                    <a:lnTo>
                      <a:pt x="286" y="110"/>
                    </a:lnTo>
                    <a:lnTo>
                      <a:pt x="270" y="97"/>
                    </a:lnTo>
                    <a:lnTo>
                      <a:pt x="254" y="84"/>
                    </a:lnTo>
                    <a:lnTo>
                      <a:pt x="238" y="72"/>
                    </a:lnTo>
                    <a:lnTo>
                      <a:pt x="220" y="61"/>
                    </a:lnTo>
                    <a:lnTo>
                      <a:pt x="202" y="50"/>
                    </a:lnTo>
                    <a:lnTo>
                      <a:pt x="184" y="42"/>
                    </a:lnTo>
                    <a:lnTo>
                      <a:pt x="164" y="33"/>
                    </a:lnTo>
                    <a:lnTo>
                      <a:pt x="145" y="25"/>
                    </a:lnTo>
                    <a:lnTo>
                      <a:pt x="126" y="19"/>
                    </a:lnTo>
                    <a:lnTo>
                      <a:pt x="106" y="13"/>
                    </a:lnTo>
                    <a:lnTo>
                      <a:pt x="85" y="8"/>
                    </a:lnTo>
                    <a:lnTo>
                      <a:pt x="65" y="4"/>
                    </a:lnTo>
                    <a:lnTo>
                      <a:pt x="43" y="1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19" y="34"/>
                    </a:lnTo>
                    <a:lnTo>
                      <a:pt x="40" y="36"/>
                    </a:lnTo>
                    <a:lnTo>
                      <a:pt x="59" y="38"/>
                    </a:lnTo>
                    <a:lnTo>
                      <a:pt x="78" y="42"/>
                    </a:lnTo>
                    <a:lnTo>
                      <a:pt x="97" y="46"/>
                    </a:lnTo>
                    <a:lnTo>
                      <a:pt x="115" y="51"/>
                    </a:lnTo>
                    <a:lnTo>
                      <a:pt x="133" y="57"/>
                    </a:lnTo>
                    <a:lnTo>
                      <a:pt x="151" y="64"/>
                    </a:lnTo>
                    <a:lnTo>
                      <a:pt x="169" y="73"/>
                    </a:lnTo>
                    <a:lnTo>
                      <a:pt x="186" y="81"/>
                    </a:lnTo>
                    <a:lnTo>
                      <a:pt x="202" y="91"/>
                    </a:lnTo>
                    <a:lnTo>
                      <a:pt x="217" y="100"/>
                    </a:lnTo>
                    <a:lnTo>
                      <a:pt x="233" y="111"/>
                    </a:lnTo>
                    <a:lnTo>
                      <a:pt x="247" y="123"/>
                    </a:lnTo>
                    <a:lnTo>
                      <a:pt x="262" y="135"/>
                    </a:lnTo>
                    <a:lnTo>
                      <a:pt x="276" y="148"/>
                    </a:lnTo>
                    <a:lnTo>
                      <a:pt x="288" y="162"/>
                    </a:lnTo>
                    <a:lnTo>
                      <a:pt x="301" y="176"/>
                    </a:lnTo>
                    <a:lnTo>
                      <a:pt x="312" y="190"/>
                    </a:lnTo>
                    <a:lnTo>
                      <a:pt x="323" y="206"/>
                    </a:lnTo>
                    <a:lnTo>
                      <a:pt x="334" y="222"/>
                    </a:lnTo>
                    <a:lnTo>
                      <a:pt x="343" y="238"/>
                    </a:lnTo>
                    <a:lnTo>
                      <a:pt x="352" y="255"/>
                    </a:lnTo>
                    <a:lnTo>
                      <a:pt x="360" y="272"/>
                    </a:lnTo>
                    <a:lnTo>
                      <a:pt x="366" y="290"/>
                    </a:lnTo>
                    <a:lnTo>
                      <a:pt x="372" y="308"/>
                    </a:lnTo>
                    <a:lnTo>
                      <a:pt x="378" y="327"/>
                    </a:lnTo>
                    <a:lnTo>
                      <a:pt x="383" y="345"/>
                    </a:lnTo>
                    <a:lnTo>
                      <a:pt x="385" y="364"/>
                    </a:lnTo>
                    <a:lnTo>
                      <a:pt x="388" y="385"/>
                    </a:lnTo>
                    <a:lnTo>
                      <a:pt x="390" y="404"/>
                    </a:lnTo>
                    <a:lnTo>
                      <a:pt x="390" y="424"/>
                    </a:lnTo>
                    <a:lnTo>
                      <a:pt x="390" y="424"/>
                    </a:lnTo>
                    <a:lnTo>
                      <a:pt x="425" y="42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417840" y="466884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425" h="425">
                    <a:moveTo>
                      <a:pt x="0" y="425"/>
                    </a:moveTo>
                    <a:lnTo>
                      <a:pt x="0" y="425"/>
                    </a:lnTo>
                    <a:lnTo>
                      <a:pt x="22" y="425"/>
                    </a:lnTo>
                    <a:lnTo>
                      <a:pt x="43" y="423"/>
                    </a:lnTo>
                    <a:lnTo>
                      <a:pt x="65" y="420"/>
                    </a:lnTo>
                    <a:lnTo>
                      <a:pt x="85" y="417"/>
                    </a:lnTo>
                    <a:lnTo>
                      <a:pt x="106" y="412"/>
                    </a:lnTo>
                    <a:lnTo>
                      <a:pt x="126" y="406"/>
                    </a:lnTo>
                    <a:lnTo>
                      <a:pt x="145" y="400"/>
                    </a:lnTo>
                    <a:lnTo>
                      <a:pt x="164" y="391"/>
                    </a:lnTo>
                    <a:lnTo>
                      <a:pt x="184" y="383"/>
                    </a:lnTo>
                    <a:lnTo>
                      <a:pt x="202" y="373"/>
                    </a:lnTo>
                    <a:lnTo>
                      <a:pt x="220" y="364"/>
                    </a:lnTo>
                    <a:lnTo>
                      <a:pt x="238" y="353"/>
                    </a:lnTo>
                    <a:lnTo>
                      <a:pt x="254" y="341"/>
                    </a:lnTo>
                    <a:lnTo>
                      <a:pt x="270" y="328"/>
                    </a:lnTo>
                    <a:lnTo>
                      <a:pt x="286" y="315"/>
                    </a:lnTo>
                    <a:lnTo>
                      <a:pt x="300" y="300"/>
                    </a:lnTo>
                    <a:lnTo>
                      <a:pt x="314" y="286"/>
                    </a:lnTo>
                    <a:lnTo>
                      <a:pt x="328" y="270"/>
                    </a:lnTo>
                    <a:lnTo>
                      <a:pt x="340" y="255"/>
                    </a:lnTo>
                    <a:lnTo>
                      <a:pt x="352" y="238"/>
                    </a:lnTo>
                    <a:lnTo>
                      <a:pt x="364" y="220"/>
                    </a:lnTo>
                    <a:lnTo>
                      <a:pt x="373" y="203"/>
                    </a:lnTo>
                    <a:lnTo>
                      <a:pt x="383" y="184"/>
                    </a:lnTo>
                    <a:lnTo>
                      <a:pt x="391" y="166"/>
                    </a:lnTo>
                    <a:lnTo>
                      <a:pt x="398" y="147"/>
                    </a:lnTo>
                    <a:lnTo>
                      <a:pt x="406" y="126"/>
                    </a:lnTo>
                    <a:lnTo>
                      <a:pt x="412" y="106"/>
                    </a:lnTo>
                    <a:lnTo>
                      <a:pt x="416" y="86"/>
                    </a:lnTo>
                    <a:lnTo>
                      <a:pt x="420" y="65"/>
                    </a:lnTo>
                    <a:lnTo>
                      <a:pt x="422" y="44"/>
                    </a:lnTo>
                    <a:lnTo>
                      <a:pt x="425" y="22"/>
                    </a:lnTo>
                    <a:lnTo>
                      <a:pt x="425" y="0"/>
                    </a:lnTo>
                    <a:lnTo>
                      <a:pt x="390" y="0"/>
                    </a:lnTo>
                    <a:lnTo>
                      <a:pt x="390" y="21"/>
                    </a:lnTo>
                    <a:lnTo>
                      <a:pt x="388" y="40"/>
                    </a:lnTo>
                    <a:lnTo>
                      <a:pt x="385" y="59"/>
                    </a:lnTo>
                    <a:lnTo>
                      <a:pt x="383" y="78"/>
                    </a:lnTo>
                    <a:lnTo>
                      <a:pt x="378" y="98"/>
                    </a:lnTo>
                    <a:lnTo>
                      <a:pt x="372" y="116"/>
                    </a:lnTo>
                    <a:lnTo>
                      <a:pt x="366" y="135"/>
                    </a:lnTo>
                    <a:lnTo>
                      <a:pt x="360" y="151"/>
                    </a:lnTo>
                    <a:lnTo>
                      <a:pt x="352" y="169"/>
                    </a:lnTo>
                    <a:lnTo>
                      <a:pt x="343" y="186"/>
                    </a:lnTo>
                    <a:lnTo>
                      <a:pt x="334" y="202"/>
                    </a:lnTo>
                    <a:lnTo>
                      <a:pt x="323" y="219"/>
                    </a:lnTo>
                    <a:lnTo>
                      <a:pt x="312" y="233"/>
                    </a:lnTo>
                    <a:lnTo>
                      <a:pt x="301" y="249"/>
                    </a:lnTo>
                    <a:lnTo>
                      <a:pt x="288" y="263"/>
                    </a:lnTo>
                    <a:lnTo>
                      <a:pt x="276" y="276"/>
                    </a:lnTo>
                    <a:lnTo>
                      <a:pt x="262" y="289"/>
                    </a:lnTo>
                    <a:lnTo>
                      <a:pt x="247" y="301"/>
                    </a:lnTo>
                    <a:lnTo>
                      <a:pt x="233" y="313"/>
                    </a:lnTo>
                    <a:lnTo>
                      <a:pt x="217" y="324"/>
                    </a:lnTo>
                    <a:lnTo>
                      <a:pt x="202" y="334"/>
                    </a:lnTo>
                    <a:lnTo>
                      <a:pt x="186" y="343"/>
                    </a:lnTo>
                    <a:lnTo>
                      <a:pt x="169" y="352"/>
                    </a:lnTo>
                    <a:lnTo>
                      <a:pt x="151" y="360"/>
                    </a:lnTo>
                    <a:lnTo>
                      <a:pt x="133" y="367"/>
                    </a:lnTo>
                    <a:lnTo>
                      <a:pt x="115" y="373"/>
                    </a:lnTo>
                    <a:lnTo>
                      <a:pt x="97" y="378"/>
                    </a:lnTo>
                    <a:lnTo>
                      <a:pt x="78" y="383"/>
                    </a:lnTo>
                    <a:lnTo>
                      <a:pt x="59" y="387"/>
                    </a:lnTo>
                    <a:lnTo>
                      <a:pt x="40" y="389"/>
                    </a:lnTo>
                    <a:lnTo>
                      <a:pt x="19" y="390"/>
                    </a:lnTo>
                    <a:lnTo>
                      <a:pt x="0" y="390"/>
                    </a:lnTo>
                    <a:lnTo>
                      <a:pt x="0" y="390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249360" y="4668840"/>
                <a:ext cx="168480" cy="168120"/>
              </a:xfrm>
              <a:custGeom>
                <a:avLst/>
                <a:gdLst/>
                <a:ahLst/>
                <a:rect l="l" t="t" r="r" b="b"/>
                <a:pathLst>
                  <a:path w="426" h="425">
                    <a:moveTo>
                      <a:pt x="0" y="0"/>
                    </a:moveTo>
                    <a:lnTo>
                      <a:pt x="0" y="0"/>
                    </a:lnTo>
                    <a:lnTo>
                      <a:pt x="1" y="22"/>
                    </a:lnTo>
                    <a:lnTo>
                      <a:pt x="2" y="44"/>
                    </a:lnTo>
                    <a:lnTo>
                      <a:pt x="5" y="65"/>
                    </a:lnTo>
                    <a:lnTo>
                      <a:pt x="10" y="86"/>
                    </a:lnTo>
                    <a:lnTo>
                      <a:pt x="14" y="106"/>
                    </a:lnTo>
                    <a:lnTo>
                      <a:pt x="19" y="126"/>
                    </a:lnTo>
                    <a:lnTo>
                      <a:pt x="26" y="147"/>
                    </a:lnTo>
                    <a:lnTo>
                      <a:pt x="34" y="166"/>
                    </a:lnTo>
                    <a:lnTo>
                      <a:pt x="42" y="184"/>
                    </a:lnTo>
                    <a:lnTo>
                      <a:pt x="52" y="203"/>
                    </a:lnTo>
                    <a:lnTo>
                      <a:pt x="62" y="220"/>
                    </a:lnTo>
                    <a:lnTo>
                      <a:pt x="73" y="238"/>
                    </a:lnTo>
                    <a:lnTo>
                      <a:pt x="85" y="255"/>
                    </a:lnTo>
                    <a:lnTo>
                      <a:pt x="97" y="270"/>
                    </a:lnTo>
                    <a:lnTo>
                      <a:pt x="112" y="286"/>
                    </a:lnTo>
                    <a:lnTo>
                      <a:pt x="125" y="300"/>
                    </a:lnTo>
                    <a:lnTo>
                      <a:pt x="140" y="315"/>
                    </a:lnTo>
                    <a:lnTo>
                      <a:pt x="156" y="328"/>
                    </a:lnTo>
                    <a:lnTo>
                      <a:pt x="172" y="341"/>
                    </a:lnTo>
                    <a:lnTo>
                      <a:pt x="188" y="353"/>
                    </a:lnTo>
                    <a:lnTo>
                      <a:pt x="205" y="364"/>
                    </a:lnTo>
                    <a:lnTo>
                      <a:pt x="223" y="373"/>
                    </a:lnTo>
                    <a:lnTo>
                      <a:pt x="241" y="383"/>
                    </a:lnTo>
                    <a:lnTo>
                      <a:pt x="260" y="391"/>
                    </a:lnTo>
                    <a:lnTo>
                      <a:pt x="280" y="400"/>
                    </a:lnTo>
                    <a:lnTo>
                      <a:pt x="300" y="406"/>
                    </a:lnTo>
                    <a:lnTo>
                      <a:pt x="319" y="412"/>
                    </a:lnTo>
                    <a:lnTo>
                      <a:pt x="340" y="417"/>
                    </a:lnTo>
                    <a:lnTo>
                      <a:pt x="361" y="420"/>
                    </a:lnTo>
                    <a:lnTo>
                      <a:pt x="383" y="423"/>
                    </a:lnTo>
                    <a:lnTo>
                      <a:pt x="404" y="425"/>
                    </a:lnTo>
                    <a:lnTo>
                      <a:pt x="426" y="425"/>
                    </a:lnTo>
                    <a:lnTo>
                      <a:pt x="426" y="390"/>
                    </a:lnTo>
                    <a:lnTo>
                      <a:pt x="406" y="390"/>
                    </a:lnTo>
                    <a:lnTo>
                      <a:pt x="385" y="389"/>
                    </a:lnTo>
                    <a:lnTo>
                      <a:pt x="366" y="387"/>
                    </a:lnTo>
                    <a:lnTo>
                      <a:pt x="347" y="383"/>
                    </a:lnTo>
                    <a:lnTo>
                      <a:pt x="329" y="378"/>
                    </a:lnTo>
                    <a:lnTo>
                      <a:pt x="310" y="373"/>
                    </a:lnTo>
                    <a:lnTo>
                      <a:pt x="292" y="367"/>
                    </a:lnTo>
                    <a:lnTo>
                      <a:pt x="274" y="360"/>
                    </a:lnTo>
                    <a:lnTo>
                      <a:pt x="257" y="352"/>
                    </a:lnTo>
                    <a:lnTo>
                      <a:pt x="240" y="343"/>
                    </a:lnTo>
                    <a:lnTo>
                      <a:pt x="223" y="334"/>
                    </a:lnTo>
                    <a:lnTo>
                      <a:pt x="208" y="324"/>
                    </a:lnTo>
                    <a:lnTo>
                      <a:pt x="192" y="313"/>
                    </a:lnTo>
                    <a:lnTo>
                      <a:pt x="178" y="301"/>
                    </a:lnTo>
                    <a:lnTo>
                      <a:pt x="163" y="289"/>
                    </a:lnTo>
                    <a:lnTo>
                      <a:pt x="150" y="276"/>
                    </a:lnTo>
                    <a:lnTo>
                      <a:pt x="137" y="263"/>
                    </a:lnTo>
                    <a:lnTo>
                      <a:pt x="125" y="249"/>
                    </a:lnTo>
                    <a:lnTo>
                      <a:pt x="113" y="233"/>
                    </a:lnTo>
                    <a:lnTo>
                      <a:pt x="102" y="219"/>
                    </a:lnTo>
                    <a:lnTo>
                      <a:pt x="91" y="202"/>
                    </a:lnTo>
                    <a:lnTo>
                      <a:pt x="83" y="186"/>
                    </a:lnTo>
                    <a:lnTo>
                      <a:pt x="73" y="169"/>
                    </a:lnTo>
                    <a:lnTo>
                      <a:pt x="66" y="151"/>
                    </a:lnTo>
                    <a:lnTo>
                      <a:pt x="59" y="135"/>
                    </a:lnTo>
                    <a:lnTo>
                      <a:pt x="53" y="116"/>
                    </a:lnTo>
                    <a:lnTo>
                      <a:pt x="48" y="98"/>
                    </a:lnTo>
                    <a:lnTo>
                      <a:pt x="43" y="78"/>
                    </a:lnTo>
                    <a:lnTo>
                      <a:pt x="40" y="59"/>
                    </a:lnTo>
                    <a:lnTo>
                      <a:pt x="37" y="40"/>
                    </a:lnTo>
                    <a:lnTo>
                      <a:pt x="36" y="2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49360" y="4500720"/>
                <a:ext cx="168480" cy="168120"/>
              </a:xfrm>
              <a:custGeom>
                <a:avLst/>
                <a:gdLst/>
                <a:ahLst/>
                <a:rect l="l" t="t" r="r" b="b"/>
                <a:pathLst>
                  <a:path w="426" h="424">
                    <a:moveTo>
                      <a:pt x="426" y="0"/>
                    </a:moveTo>
                    <a:lnTo>
                      <a:pt x="426" y="0"/>
                    </a:lnTo>
                    <a:lnTo>
                      <a:pt x="404" y="0"/>
                    </a:lnTo>
                    <a:lnTo>
                      <a:pt x="383" y="1"/>
                    </a:lnTo>
                    <a:lnTo>
                      <a:pt x="361" y="4"/>
                    </a:lnTo>
                    <a:lnTo>
                      <a:pt x="340" y="8"/>
                    </a:lnTo>
                    <a:lnTo>
                      <a:pt x="319" y="13"/>
                    </a:lnTo>
                    <a:lnTo>
                      <a:pt x="300" y="19"/>
                    </a:lnTo>
                    <a:lnTo>
                      <a:pt x="280" y="25"/>
                    </a:lnTo>
                    <a:lnTo>
                      <a:pt x="260" y="33"/>
                    </a:lnTo>
                    <a:lnTo>
                      <a:pt x="241" y="42"/>
                    </a:lnTo>
                    <a:lnTo>
                      <a:pt x="223" y="50"/>
                    </a:lnTo>
                    <a:lnTo>
                      <a:pt x="205" y="61"/>
                    </a:lnTo>
                    <a:lnTo>
                      <a:pt x="188" y="72"/>
                    </a:lnTo>
                    <a:lnTo>
                      <a:pt x="172" y="84"/>
                    </a:lnTo>
                    <a:lnTo>
                      <a:pt x="156" y="97"/>
                    </a:lnTo>
                    <a:lnTo>
                      <a:pt x="140" y="110"/>
                    </a:lnTo>
                    <a:lnTo>
                      <a:pt x="125" y="124"/>
                    </a:lnTo>
                    <a:lnTo>
                      <a:pt x="112" y="139"/>
                    </a:lnTo>
                    <a:lnTo>
                      <a:pt x="97" y="154"/>
                    </a:lnTo>
                    <a:lnTo>
                      <a:pt x="85" y="170"/>
                    </a:lnTo>
                    <a:lnTo>
                      <a:pt x="73" y="187"/>
                    </a:lnTo>
                    <a:lnTo>
                      <a:pt x="62" y="204"/>
                    </a:lnTo>
                    <a:lnTo>
                      <a:pt x="52" y="222"/>
                    </a:lnTo>
                    <a:lnTo>
                      <a:pt x="42" y="241"/>
                    </a:lnTo>
                    <a:lnTo>
                      <a:pt x="34" y="259"/>
                    </a:lnTo>
                    <a:lnTo>
                      <a:pt x="26" y="278"/>
                    </a:lnTo>
                    <a:lnTo>
                      <a:pt x="19" y="298"/>
                    </a:lnTo>
                    <a:lnTo>
                      <a:pt x="14" y="319"/>
                    </a:lnTo>
                    <a:lnTo>
                      <a:pt x="10" y="339"/>
                    </a:lnTo>
                    <a:lnTo>
                      <a:pt x="5" y="360"/>
                    </a:lnTo>
                    <a:lnTo>
                      <a:pt x="2" y="381"/>
                    </a:lnTo>
                    <a:lnTo>
                      <a:pt x="1" y="403"/>
                    </a:lnTo>
                    <a:lnTo>
                      <a:pt x="0" y="424"/>
                    </a:lnTo>
                    <a:lnTo>
                      <a:pt x="35" y="424"/>
                    </a:lnTo>
                    <a:lnTo>
                      <a:pt x="36" y="404"/>
                    </a:lnTo>
                    <a:lnTo>
                      <a:pt x="37" y="385"/>
                    </a:lnTo>
                    <a:lnTo>
                      <a:pt x="40" y="364"/>
                    </a:lnTo>
                    <a:lnTo>
                      <a:pt x="43" y="345"/>
                    </a:lnTo>
                    <a:lnTo>
                      <a:pt x="48" y="327"/>
                    </a:lnTo>
                    <a:lnTo>
                      <a:pt x="53" y="308"/>
                    </a:lnTo>
                    <a:lnTo>
                      <a:pt x="59" y="290"/>
                    </a:lnTo>
                    <a:lnTo>
                      <a:pt x="66" y="272"/>
                    </a:lnTo>
                    <a:lnTo>
                      <a:pt x="73" y="255"/>
                    </a:lnTo>
                    <a:lnTo>
                      <a:pt x="83" y="238"/>
                    </a:lnTo>
                    <a:lnTo>
                      <a:pt x="91" y="222"/>
                    </a:lnTo>
                    <a:lnTo>
                      <a:pt x="102" y="206"/>
                    </a:lnTo>
                    <a:lnTo>
                      <a:pt x="113" y="190"/>
                    </a:lnTo>
                    <a:lnTo>
                      <a:pt x="125" y="176"/>
                    </a:lnTo>
                    <a:lnTo>
                      <a:pt x="137" y="162"/>
                    </a:lnTo>
                    <a:lnTo>
                      <a:pt x="150" y="148"/>
                    </a:lnTo>
                    <a:lnTo>
                      <a:pt x="163" y="135"/>
                    </a:lnTo>
                    <a:lnTo>
                      <a:pt x="178" y="123"/>
                    </a:lnTo>
                    <a:lnTo>
                      <a:pt x="192" y="111"/>
                    </a:lnTo>
                    <a:lnTo>
                      <a:pt x="208" y="100"/>
                    </a:lnTo>
                    <a:lnTo>
                      <a:pt x="223" y="91"/>
                    </a:lnTo>
                    <a:lnTo>
                      <a:pt x="240" y="81"/>
                    </a:lnTo>
                    <a:lnTo>
                      <a:pt x="257" y="73"/>
                    </a:lnTo>
                    <a:lnTo>
                      <a:pt x="274" y="64"/>
                    </a:lnTo>
                    <a:lnTo>
                      <a:pt x="292" y="57"/>
                    </a:lnTo>
                    <a:lnTo>
                      <a:pt x="310" y="51"/>
                    </a:lnTo>
                    <a:lnTo>
                      <a:pt x="329" y="46"/>
                    </a:lnTo>
                    <a:lnTo>
                      <a:pt x="347" y="42"/>
                    </a:lnTo>
                    <a:lnTo>
                      <a:pt x="366" y="38"/>
                    </a:lnTo>
                    <a:lnTo>
                      <a:pt x="385" y="36"/>
                    </a:lnTo>
                    <a:lnTo>
                      <a:pt x="406" y="34"/>
                    </a:lnTo>
                    <a:lnTo>
                      <a:pt x="426" y="34"/>
                    </a:lnTo>
                    <a:lnTo>
                      <a:pt x="426" y="34"/>
                    </a:lnTo>
                    <a:lnTo>
                      <a:pt x="426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57280" y="4508640"/>
                <a:ext cx="320760" cy="322200"/>
              </a:xfrm>
              <a:custGeom>
                <a:avLst/>
                <a:gdLst/>
                <a:ahLst/>
                <a:rect l="l" t="t" r="r" b="b"/>
                <a:pathLst>
                  <a:path w="808" h="809">
                    <a:moveTo>
                      <a:pt x="404" y="0"/>
                    </a:moveTo>
                    <a:lnTo>
                      <a:pt x="424" y="2"/>
                    </a:lnTo>
                    <a:lnTo>
                      <a:pt x="445" y="3"/>
                    </a:lnTo>
                    <a:lnTo>
                      <a:pt x="465" y="5"/>
                    </a:lnTo>
                    <a:lnTo>
                      <a:pt x="486" y="9"/>
                    </a:lnTo>
                    <a:lnTo>
                      <a:pt x="505" y="14"/>
                    </a:lnTo>
                    <a:lnTo>
                      <a:pt x="524" y="18"/>
                    </a:lnTo>
                    <a:lnTo>
                      <a:pt x="543" y="26"/>
                    </a:lnTo>
                    <a:lnTo>
                      <a:pt x="561" y="33"/>
                    </a:lnTo>
                    <a:lnTo>
                      <a:pt x="579" y="41"/>
                    </a:lnTo>
                    <a:lnTo>
                      <a:pt x="596" y="50"/>
                    </a:lnTo>
                    <a:lnTo>
                      <a:pt x="614" y="59"/>
                    </a:lnTo>
                    <a:lnTo>
                      <a:pt x="630" y="70"/>
                    </a:lnTo>
                    <a:lnTo>
                      <a:pt x="645" y="81"/>
                    </a:lnTo>
                    <a:lnTo>
                      <a:pt x="661" y="93"/>
                    </a:lnTo>
                    <a:lnTo>
                      <a:pt x="675" y="106"/>
                    </a:lnTo>
                    <a:lnTo>
                      <a:pt x="690" y="119"/>
                    </a:lnTo>
                    <a:lnTo>
                      <a:pt x="703" y="134"/>
                    </a:lnTo>
                    <a:lnTo>
                      <a:pt x="716" y="148"/>
                    </a:lnTo>
                    <a:lnTo>
                      <a:pt x="728" y="164"/>
                    </a:lnTo>
                    <a:lnTo>
                      <a:pt x="739" y="179"/>
                    </a:lnTo>
                    <a:lnTo>
                      <a:pt x="750" y="196"/>
                    </a:lnTo>
                    <a:lnTo>
                      <a:pt x="759" y="213"/>
                    </a:lnTo>
                    <a:lnTo>
                      <a:pt x="769" y="230"/>
                    </a:lnTo>
                    <a:lnTo>
                      <a:pt x="776" y="248"/>
                    </a:lnTo>
                    <a:lnTo>
                      <a:pt x="783" y="266"/>
                    </a:lnTo>
                    <a:lnTo>
                      <a:pt x="790" y="285"/>
                    </a:lnTo>
                    <a:lnTo>
                      <a:pt x="795" y="304"/>
                    </a:lnTo>
                    <a:lnTo>
                      <a:pt x="800" y="323"/>
                    </a:lnTo>
                    <a:lnTo>
                      <a:pt x="804" y="344"/>
                    </a:lnTo>
                    <a:lnTo>
                      <a:pt x="806" y="364"/>
                    </a:lnTo>
                    <a:lnTo>
                      <a:pt x="807" y="384"/>
                    </a:lnTo>
                    <a:lnTo>
                      <a:pt x="808" y="405"/>
                    </a:lnTo>
                    <a:lnTo>
                      <a:pt x="807" y="425"/>
                    </a:lnTo>
                    <a:lnTo>
                      <a:pt x="806" y="446"/>
                    </a:lnTo>
                    <a:lnTo>
                      <a:pt x="804" y="466"/>
                    </a:lnTo>
                    <a:lnTo>
                      <a:pt x="800" y="486"/>
                    </a:lnTo>
                    <a:lnTo>
                      <a:pt x="795" y="506"/>
                    </a:lnTo>
                    <a:lnTo>
                      <a:pt x="790" y="525"/>
                    </a:lnTo>
                    <a:lnTo>
                      <a:pt x="783" y="544"/>
                    </a:lnTo>
                    <a:lnTo>
                      <a:pt x="776" y="562"/>
                    </a:lnTo>
                    <a:lnTo>
                      <a:pt x="769" y="580"/>
                    </a:lnTo>
                    <a:lnTo>
                      <a:pt x="759" y="597"/>
                    </a:lnTo>
                    <a:lnTo>
                      <a:pt x="750" y="613"/>
                    </a:lnTo>
                    <a:lnTo>
                      <a:pt x="739" y="630"/>
                    </a:lnTo>
                    <a:lnTo>
                      <a:pt x="728" y="646"/>
                    </a:lnTo>
                    <a:lnTo>
                      <a:pt x="716" y="661"/>
                    </a:lnTo>
                    <a:lnTo>
                      <a:pt x="703" y="676"/>
                    </a:lnTo>
                    <a:lnTo>
                      <a:pt x="690" y="690"/>
                    </a:lnTo>
                    <a:lnTo>
                      <a:pt x="675" y="703"/>
                    </a:lnTo>
                    <a:lnTo>
                      <a:pt x="661" y="717"/>
                    </a:lnTo>
                    <a:lnTo>
                      <a:pt x="645" y="729"/>
                    </a:lnTo>
                    <a:lnTo>
                      <a:pt x="630" y="739"/>
                    </a:lnTo>
                    <a:lnTo>
                      <a:pt x="614" y="750"/>
                    </a:lnTo>
                    <a:lnTo>
                      <a:pt x="596" y="760"/>
                    </a:lnTo>
                    <a:lnTo>
                      <a:pt x="579" y="769"/>
                    </a:lnTo>
                    <a:lnTo>
                      <a:pt x="561" y="777"/>
                    </a:lnTo>
                    <a:lnTo>
                      <a:pt x="543" y="784"/>
                    </a:lnTo>
                    <a:lnTo>
                      <a:pt x="524" y="791"/>
                    </a:lnTo>
                    <a:lnTo>
                      <a:pt x="505" y="796"/>
                    </a:lnTo>
                    <a:lnTo>
                      <a:pt x="486" y="801"/>
                    </a:lnTo>
                    <a:lnTo>
                      <a:pt x="465" y="804"/>
                    </a:lnTo>
                    <a:lnTo>
                      <a:pt x="445" y="807"/>
                    </a:lnTo>
                    <a:lnTo>
                      <a:pt x="424" y="808"/>
                    </a:lnTo>
                    <a:lnTo>
                      <a:pt x="404" y="809"/>
                    </a:lnTo>
                    <a:lnTo>
                      <a:pt x="384" y="808"/>
                    </a:lnTo>
                    <a:lnTo>
                      <a:pt x="363" y="807"/>
                    </a:lnTo>
                    <a:lnTo>
                      <a:pt x="343" y="804"/>
                    </a:lnTo>
                    <a:lnTo>
                      <a:pt x="322" y="801"/>
                    </a:lnTo>
                    <a:lnTo>
                      <a:pt x="303" y="796"/>
                    </a:lnTo>
                    <a:lnTo>
                      <a:pt x="284" y="791"/>
                    </a:lnTo>
                    <a:lnTo>
                      <a:pt x="266" y="784"/>
                    </a:lnTo>
                    <a:lnTo>
                      <a:pt x="247" y="777"/>
                    </a:lnTo>
                    <a:lnTo>
                      <a:pt x="229" y="769"/>
                    </a:lnTo>
                    <a:lnTo>
                      <a:pt x="212" y="760"/>
                    </a:lnTo>
                    <a:lnTo>
                      <a:pt x="195" y="750"/>
                    </a:lnTo>
                    <a:lnTo>
                      <a:pt x="178" y="739"/>
                    </a:lnTo>
                    <a:lnTo>
                      <a:pt x="163" y="729"/>
                    </a:lnTo>
                    <a:lnTo>
                      <a:pt x="147" y="717"/>
                    </a:lnTo>
                    <a:lnTo>
                      <a:pt x="133" y="703"/>
                    </a:lnTo>
                    <a:lnTo>
                      <a:pt x="118" y="690"/>
                    </a:lnTo>
                    <a:lnTo>
                      <a:pt x="105" y="676"/>
                    </a:lnTo>
                    <a:lnTo>
                      <a:pt x="92" y="661"/>
                    </a:lnTo>
                    <a:lnTo>
                      <a:pt x="80" y="646"/>
                    </a:lnTo>
                    <a:lnTo>
                      <a:pt x="69" y="630"/>
                    </a:lnTo>
                    <a:lnTo>
                      <a:pt x="58" y="613"/>
                    </a:lnTo>
                    <a:lnTo>
                      <a:pt x="49" y="597"/>
                    </a:lnTo>
                    <a:lnTo>
                      <a:pt x="40" y="580"/>
                    </a:lnTo>
                    <a:lnTo>
                      <a:pt x="32" y="562"/>
                    </a:lnTo>
                    <a:lnTo>
                      <a:pt x="25" y="544"/>
                    </a:lnTo>
                    <a:lnTo>
                      <a:pt x="19" y="525"/>
                    </a:lnTo>
                    <a:lnTo>
                      <a:pt x="13" y="506"/>
                    </a:lnTo>
                    <a:lnTo>
                      <a:pt x="8" y="486"/>
                    </a:lnTo>
                    <a:lnTo>
                      <a:pt x="4" y="466"/>
                    </a:lnTo>
                    <a:lnTo>
                      <a:pt x="2" y="446"/>
                    </a:lnTo>
                    <a:lnTo>
                      <a:pt x="1" y="425"/>
                    </a:lnTo>
                    <a:lnTo>
                      <a:pt x="0" y="405"/>
                    </a:lnTo>
                    <a:lnTo>
                      <a:pt x="1" y="384"/>
                    </a:lnTo>
                    <a:lnTo>
                      <a:pt x="2" y="364"/>
                    </a:lnTo>
                    <a:lnTo>
                      <a:pt x="4" y="344"/>
                    </a:lnTo>
                    <a:lnTo>
                      <a:pt x="8" y="323"/>
                    </a:lnTo>
                    <a:lnTo>
                      <a:pt x="13" y="304"/>
                    </a:lnTo>
                    <a:lnTo>
                      <a:pt x="19" y="285"/>
                    </a:lnTo>
                    <a:lnTo>
                      <a:pt x="25" y="266"/>
                    </a:lnTo>
                    <a:lnTo>
                      <a:pt x="32" y="248"/>
                    </a:lnTo>
                    <a:lnTo>
                      <a:pt x="40" y="230"/>
                    </a:lnTo>
                    <a:lnTo>
                      <a:pt x="49" y="213"/>
                    </a:lnTo>
                    <a:lnTo>
                      <a:pt x="58" y="196"/>
                    </a:lnTo>
                    <a:lnTo>
                      <a:pt x="69" y="179"/>
                    </a:lnTo>
                    <a:lnTo>
                      <a:pt x="80" y="164"/>
                    </a:lnTo>
                    <a:lnTo>
                      <a:pt x="92" y="148"/>
                    </a:lnTo>
                    <a:lnTo>
                      <a:pt x="105" y="134"/>
                    </a:lnTo>
                    <a:lnTo>
                      <a:pt x="118" y="119"/>
                    </a:lnTo>
                    <a:lnTo>
                      <a:pt x="133" y="106"/>
                    </a:lnTo>
                    <a:lnTo>
                      <a:pt x="147" y="93"/>
                    </a:lnTo>
                    <a:lnTo>
                      <a:pt x="163" y="81"/>
                    </a:lnTo>
                    <a:lnTo>
                      <a:pt x="178" y="70"/>
                    </a:lnTo>
                    <a:lnTo>
                      <a:pt x="195" y="59"/>
                    </a:lnTo>
                    <a:lnTo>
                      <a:pt x="212" y="50"/>
                    </a:lnTo>
                    <a:lnTo>
                      <a:pt x="229" y="41"/>
                    </a:lnTo>
                    <a:lnTo>
                      <a:pt x="247" y="33"/>
                    </a:lnTo>
                    <a:lnTo>
                      <a:pt x="266" y="26"/>
                    </a:lnTo>
                    <a:lnTo>
                      <a:pt x="284" y="18"/>
                    </a:lnTo>
                    <a:lnTo>
                      <a:pt x="303" y="14"/>
                    </a:lnTo>
                    <a:lnTo>
                      <a:pt x="322" y="9"/>
                    </a:lnTo>
                    <a:lnTo>
                      <a:pt x="343" y="5"/>
                    </a:lnTo>
                    <a:lnTo>
                      <a:pt x="363" y="3"/>
                    </a:lnTo>
                    <a:lnTo>
                      <a:pt x="384" y="2"/>
                    </a:lnTo>
                    <a:lnTo>
                      <a:pt x="404" y="0"/>
                    </a:lnTo>
                    <a:close/>
                  </a:path>
                </a:pathLst>
              </a:custGeom>
              <a:solidFill>
                <a:srgbClr val="c08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59080" y="4511520"/>
                <a:ext cx="317520" cy="317520"/>
              </a:xfrm>
              <a:custGeom>
                <a:avLst/>
                <a:gdLst/>
                <a:ahLst/>
                <a:rect l="l" t="t" r="r" b="b"/>
                <a:pathLst>
                  <a:path w="801" h="802">
                    <a:moveTo>
                      <a:pt x="401" y="0"/>
                    </a:moveTo>
                    <a:lnTo>
                      <a:pt x="422" y="2"/>
                    </a:lnTo>
                    <a:lnTo>
                      <a:pt x="442" y="3"/>
                    </a:lnTo>
                    <a:lnTo>
                      <a:pt x="461" y="5"/>
                    </a:lnTo>
                    <a:lnTo>
                      <a:pt x="482" y="9"/>
                    </a:lnTo>
                    <a:lnTo>
                      <a:pt x="501" y="14"/>
                    </a:lnTo>
                    <a:lnTo>
                      <a:pt x="520" y="20"/>
                    </a:lnTo>
                    <a:lnTo>
                      <a:pt x="538" y="26"/>
                    </a:lnTo>
                    <a:lnTo>
                      <a:pt x="556" y="33"/>
                    </a:lnTo>
                    <a:lnTo>
                      <a:pt x="574" y="41"/>
                    </a:lnTo>
                    <a:lnTo>
                      <a:pt x="591" y="50"/>
                    </a:lnTo>
                    <a:lnTo>
                      <a:pt x="608" y="59"/>
                    </a:lnTo>
                    <a:lnTo>
                      <a:pt x="624" y="70"/>
                    </a:lnTo>
                    <a:lnTo>
                      <a:pt x="640" y="81"/>
                    </a:lnTo>
                    <a:lnTo>
                      <a:pt x="656" y="93"/>
                    </a:lnTo>
                    <a:lnTo>
                      <a:pt x="670" y="105"/>
                    </a:lnTo>
                    <a:lnTo>
                      <a:pt x="683" y="118"/>
                    </a:lnTo>
                    <a:lnTo>
                      <a:pt x="696" y="132"/>
                    </a:lnTo>
                    <a:lnTo>
                      <a:pt x="710" y="147"/>
                    </a:lnTo>
                    <a:lnTo>
                      <a:pt x="722" y="162"/>
                    </a:lnTo>
                    <a:lnTo>
                      <a:pt x="732" y="178"/>
                    </a:lnTo>
                    <a:lnTo>
                      <a:pt x="743" y="194"/>
                    </a:lnTo>
                    <a:lnTo>
                      <a:pt x="753" y="210"/>
                    </a:lnTo>
                    <a:lnTo>
                      <a:pt x="761" y="228"/>
                    </a:lnTo>
                    <a:lnTo>
                      <a:pt x="770" y="246"/>
                    </a:lnTo>
                    <a:lnTo>
                      <a:pt x="777" y="264"/>
                    </a:lnTo>
                    <a:lnTo>
                      <a:pt x="783" y="282"/>
                    </a:lnTo>
                    <a:lnTo>
                      <a:pt x="789" y="302"/>
                    </a:lnTo>
                    <a:lnTo>
                      <a:pt x="792" y="321"/>
                    </a:lnTo>
                    <a:lnTo>
                      <a:pt x="796" y="341"/>
                    </a:lnTo>
                    <a:lnTo>
                      <a:pt x="800" y="360"/>
                    </a:lnTo>
                    <a:lnTo>
                      <a:pt x="801" y="381"/>
                    </a:lnTo>
                    <a:lnTo>
                      <a:pt x="801" y="401"/>
                    </a:lnTo>
                    <a:lnTo>
                      <a:pt x="801" y="422"/>
                    </a:lnTo>
                    <a:lnTo>
                      <a:pt x="800" y="442"/>
                    </a:lnTo>
                    <a:lnTo>
                      <a:pt x="796" y="462"/>
                    </a:lnTo>
                    <a:lnTo>
                      <a:pt x="792" y="482"/>
                    </a:lnTo>
                    <a:lnTo>
                      <a:pt x="789" y="501"/>
                    </a:lnTo>
                    <a:lnTo>
                      <a:pt x="783" y="520"/>
                    </a:lnTo>
                    <a:lnTo>
                      <a:pt x="777" y="539"/>
                    </a:lnTo>
                    <a:lnTo>
                      <a:pt x="770" y="557"/>
                    </a:lnTo>
                    <a:lnTo>
                      <a:pt x="761" y="575"/>
                    </a:lnTo>
                    <a:lnTo>
                      <a:pt x="753" y="592"/>
                    </a:lnTo>
                    <a:lnTo>
                      <a:pt x="743" y="609"/>
                    </a:lnTo>
                    <a:lnTo>
                      <a:pt x="732" y="625"/>
                    </a:lnTo>
                    <a:lnTo>
                      <a:pt x="722" y="641"/>
                    </a:lnTo>
                    <a:lnTo>
                      <a:pt x="710" y="655"/>
                    </a:lnTo>
                    <a:lnTo>
                      <a:pt x="696" y="670"/>
                    </a:lnTo>
                    <a:lnTo>
                      <a:pt x="683" y="684"/>
                    </a:lnTo>
                    <a:lnTo>
                      <a:pt x="670" y="697"/>
                    </a:lnTo>
                    <a:lnTo>
                      <a:pt x="656" y="711"/>
                    </a:lnTo>
                    <a:lnTo>
                      <a:pt x="640" y="721"/>
                    </a:lnTo>
                    <a:lnTo>
                      <a:pt x="624" y="733"/>
                    </a:lnTo>
                    <a:lnTo>
                      <a:pt x="608" y="743"/>
                    </a:lnTo>
                    <a:lnTo>
                      <a:pt x="591" y="754"/>
                    </a:lnTo>
                    <a:lnTo>
                      <a:pt x="574" y="762"/>
                    </a:lnTo>
                    <a:lnTo>
                      <a:pt x="556" y="771"/>
                    </a:lnTo>
                    <a:lnTo>
                      <a:pt x="538" y="778"/>
                    </a:lnTo>
                    <a:lnTo>
                      <a:pt x="520" y="784"/>
                    </a:lnTo>
                    <a:lnTo>
                      <a:pt x="501" y="789"/>
                    </a:lnTo>
                    <a:lnTo>
                      <a:pt x="482" y="793"/>
                    </a:lnTo>
                    <a:lnTo>
                      <a:pt x="461" y="797"/>
                    </a:lnTo>
                    <a:lnTo>
                      <a:pt x="442" y="799"/>
                    </a:lnTo>
                    <a:lnTo>
                      <a:pt x="422" y="801"/>
                    </a:lnTo>
                    <a:lnTo>
                      <a:pt x="401" y="802"/>
                    </a:lnTo>
                    <a:lnTo>
                      <a:pt x="380" y="801"/>
                    </a:lnTo>
                    <a:lnTo>
                      <a:pt x="360" y="799"/>
                    </a:lnTo>
                    <a:lnTo>
                      <a:pt x="340" y="797"/>
                    </a:lnTo>
                    <a:lnTo>
                      <a:pt x="320" y="793"/>
                    </a:lnTo>
                    <a:lnTo>
                      <a:pt x="300" y="789"/>
                    </a:lnTo>
                    <a:lnTo>
                      <a:pt x="282" y="784"/>
                    </a:lnTo>
                    <a:lnTo>
                      <a:pt x="263" y="778"/>
                    </a:lnTo>
                    <a:lnTo>
                      <a:pt x="245" y="771"/>
                    </a:lnTo>
                    <a:lnTo>
                      <a:pt x="227" y="762"/>
                    </a:lnTo>
                    <a:lnTo>
                      <a:pt x="210" y="754"/>
                    </a:lnTo>
                    <a:lnTo>
                      <a:pt x="194" y="743"/>
                    </a:lnTo>
                    <a:lnTo>
                      <a:pt x="177" y="733"/>
                    </a:lnTo>
                    <a:lnTo>
                      <a:pt x="161" y="721"/>
                    </a:lnTo>
                    <a:lnTo>
                      <a:pt x="147" y="711"/>
                    </a:lnTo>
                    <a:lnTo>
                      <a:pt x="131" y="697"/>
                    </a:lnTo>
                    <a:lnTo>
                      <a:pt x="118" y="684"/>
                    </a:lnTo>
                    <a:lnTo>
                      <a:pt x="105" y="670"/>
                    </a:lnTo>
                    <a:lnTo>
                      <a:pt x="92" y="655"/>
                    </a:lnTo>
                    <a:lnTo>
                      <a:pt x="80" y="641"/>
                    </a:lnTo>
                    <a:lnTo>
                      <a:pt x="69" y="625"/>
                    </a:lnTo>
                    <a:lnTo>
                      <a:pt x="58" y="609"/>
                    </a:lnTo>
                    <a:lnTo>
                      <a:pt x="48" y="592"/>
                    </a:lnTo>
                    <a:lnTo>
                      <a:pt x="40" y="575"/>
                    </a:lnTo>
                    <a:lnTo>
                      <a:pt x="32" y="557"/>
                    </a:lnTo>
                    <a:lnTo>
                      <a:pt x="24" y="539"/>
                    </a:lnTo>
                    <a:lnTo>
                      <a:pt x="18" y="520"/>
                    </a:lnTo>
                    <a:lnTo>
                      <a:pt x="12" y="501"/>
                    </a:lnTo>
                    <a:lnTo>
                      <a:pt x="9" y="482"/>
                    </a:lnTo>
                    <a:lnTo>
                      <a:pt x="5" y="462"/>
                    </a:lnTo>
                    <a:lnTo>
                      <a:pt x="3" y="442"/>
                    </a:lnTo>
                    <a:lnTo>
                      <a:pt x="0" y="422"/>
                    </a:lnTo>
                    <a:lnTo>
                      <a:pt x="0" y="401"/>
                    </a:lnTo>
                    <a:lnTo>
                      <a:pt x="0" y="381"/>
                    </a:lnTo>
                    <a:lnTo>
                      <a:pt x="3" y="360"/>
                    </a:lnTo>
                    <a:lnTo>
                      <a:pt x="5" y="341"/>
                    </a:lnTo>
                    <a:lnTo>
                      <a:pt x="9" y="321"/>
                    </a:lnTo>
                    <a:lnTo>
                      <a:pt x="12" y="302"/>
                    </a:lnTo>
                    <a:lnTo>
                      <a:pt x="18" y="282"/>
                    </a:lnTo>
                    <a:lnTo>
                      <a:pt x="24" y="264"/>
                    </a:lnTo>
                    <a:lnTo>
                      <a:pt x="32" y="246"/>
                    </a:lnTo>
                    <a:lnTo>
                      <a:pt x="40" y="228"/>
                    </a:lnTo>
                    <a:lnTo>
                      <a:pt x="48" y="210"/>
                    </a:lnTo>
                    <a:lnTo>
                      <a:pt x="58" y="194"/>
                    </a:lnTo>
                    <a:lnTo>
                      <a:pt x="69" y="178"/>
                    </a:lnTo>
                    <a:lnTo>
                      <a:pt x="80" y="162"/>
                    </a:lnTo>
                    <a:lnTo>
                      <a:pt x="92" y="147"/>
                    </a:lnTo>
                    <a:lnTo>
                      <a:pt x="105" y="132"/>
                    </a:lnTo>
                    <a:lnTo>
                      <a:pt x="118" y="118"/>
                    </a:lnTo>
                    <a:lnTo>
                      <a:pt x="131" y="105"/>
                    </a:lnTo>
                    <a:lnTo>
                      <a:pt x="147" y="93"/>
                    </a:lnTo>
                    <a:lnTo>
                      <a:pt x="161" y="81"/>
                    </a:lnTo>
                    <a:lnTo>
                      <a:pt x="177" y="70"/>
                    </a:lnTo>
                    <a:lnTo>
                      <a:pt x="194" y="59"/>
                    </a:lnTo>
                    <a:lnTo>
                      <a:pt x="210" y="50"/>
                    </a:lnTo>
                    <a:lnTo>
                      <a:pt x="227" y="41"/>
                    </a:lnTo>
                    <a:lnTo>
                      <a:pt x="245" y="33"/>
                    </a:lnTo>
                    <a:lnTo>
                      <a:pt x="263" y="26"/>
                    </a:lnTo>
                    <a:lnTo>
                      <a:pt x="282" y="20"/>
                    </a:lnTo>
                    <a:lnTo>
                      <a:pt x="300" y="14"/>
                    </a:lnTo>
                    <a:lnTo>
                      <a:pt x="320" y="9"/>
                    </a:lnTo>
                    <a:lnTo>
                      <a:pt x="340" y="5"/>
                    </a:lnTo>
                    <a:lnTo>
                      <a:pt x="360" y="3"/>
                    </a:lnTo>
                    <a:lnTo>
                      <a:pt x="380" y="2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c48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60520" y="4514760"/>
                <a:ext cx="316080" cy="314280"/>
              </a:xfrm>
              <a:custGeom>
                <a:avLst/>
                <a:gdLst/>
                <a:ahLst/>
                <a:rect l="l" t="t" r="r" b="b"/>
                <a:pathLst>
                  <a:path w="794" h="793">
                    <a:moveTo>
                      <a:pt x="397" y="0"/>
                    </a:moveTo>
                    <a:lnTo>
                      <a:pt x="418" y="0"/>
                    </a:lnTo>
                    <a:lnTo>
                      <a:pt x="438" y="1"/>
                    </a:lnTo>
                    <a:lnTo>
                      <a:pt x="457" y="4"/>
                    </a:lnTo>
                    <a:lnTo>
                      <a:pt x="476" y="7"/>
                    </a:lnTo>
                    <a:lnTo>
                      <a:pt x="496" y="12"/>
                    </a:lnTo>
                    <a:lnTo>
                      <a:pt x="515" y="18"/>
                    </a:lnTo>
                    <a:lnTo>
                      <a:pt x="533" y="24"/>
                    </a:lnTo>
                    <a:lnTo>
                      <a:pt x="551" y="31"/>
                    </a:lnTo>
                    <a:lnTo>
                      <a:pt x="569" y="38"/>
                    </a:lnTo>
                    <a:lnTo>
                      <a:pt x="586" y="48"/>
                    </a:lnTo>
                    <a:lnTo>
                      <a:pt x="602" y="57"/>
                    </a:lnTo>
                    <a:lnTo>
                      <a:pt x="619" y="67"/>
                    </a:lnTo>
                    <a:lnTo>
                      <a:pt x="635" y="79"/>
                    </a:lnTo>
                    <a:lnTo>
                      <a:pt x="649" y="90"/>
                    </a:lnTo>
                    <a:lnTo>
                      <a:pt x="664" y="103"/>
                    </a:lnTo>
                    <a:lnTo>
                      <a:pt x="678" y="116"/>
                    </a:lnTo>
                    <a:lnTo>
                      <a:pt x="691" y="129"/>
                    </a:lnTo>
                    <a:lnTo>
                      <a:pt x="703" y="144"/>
                    </a:lnTo>
                    <a:lnTo>
                      <a:pt x="715" y="159"/>
                    </a:lnTo>
                    <a:lnTo>
                      <a:pt x="726" y="175"/>
                    </a:lnTo>
                    <a:lnTo>
                      <a:pt x="737" y="190"/>
                    </a:lnTo>
                    <a:lnTo>
                      <a:pt x="746" y="207"/>
                    </a:lnTo>
                    <a:lnTo>
                      <a:pt x="755" y="224"/>
                    </a:lnTo>
                    <a:lnTo>
                      <a:pt x="763" y="242"/>
                    </a:lnTo>
                    <a:lnTo>
                      <a:pt x="769" y="260"/>
                    </a:lnTo>
                    <a:lnTo>
                      <a:pt x="776" y="278"/>
                    </a:lnTo>
                    <a:lnTo>
                      <a:pt x="781" y="297"/>
                    </a:lnTo>
                    <a:lnTo>
                      <a:pt x="786" y="316"/>
                    </a:lnTo>
                    <a:lnTo>
                      <a:pt x="790" y="336"/>
                    </a:lnTo>
                    <a:lnTo>
                      <a:pt x="792" y="356"/>
                    </a:lnTo>
                    <a:lnTo>
                      <a:pt x="793" y="375"/>
                    </a:lnTo>
                    <a:lnTo>
                      <a:pt x="794" y="396"/>
                    </a:lnTo>
                    <a:lnTo>
                      <a:pt x="793" y="416"/>
                    </a:lnTo>
                    <a:lnTo>
                      <a:pt x="792" y="436"/>
                    </a:lnTo>
                    <a:lnTo>
                      <a:pt x="790" y="457"/>
                    </a:lnTo>
                    <a:lnTo>
                      <a:pt x="786" y="476"/>
                    </a:lnTo>
                    <a:lnTo>
                      <a:pt x="781" y="495"/>
                    </a:lnTo>
                    <a:lnTo>
                      <a:pt x="776" y="513"/>
                    </a:lnTo>
                    <a:lnTo>
                      <a:pt x="769" y="532"/>
                    </a:lnTo>
                    <a:lnTo>
                      <a:pt x="763" y="550"/>
                    </a:lnTo>
                    <a:lnTo>
                      <a:pt x="755" y="567"/>
                    </a:lnTo>
                    <a:lnTo>
                      <a:pt x="746" y="585"/>
                    </a:lnTo>
                    <a:lnTo>
                      <a:pt x="737" y="602"/>
                    </a:lnTo>
                    <a:lnTo>
                      <a:pt x="726" y="617"/>
                    </a:lnTo>
                    <a:lnTo>
                      <a:pt x="715" y="633"/>
                    </a:lnTo>
                    <a:lnTo>
                      <a:pt x="703" y="647"/>
                    </a:lnTo>
                    <a:lnTo>
                      <a:pt x="691" y="662"/>
                    </a:lnTo>
                    <a:lnTo>
                      <a:pt x="678" y="676"/>
                    </a:lnTo>
                    <a:lnTo>
                      <a:pt x="664" y="689"/>
                    </a:lnTo>
                    <a:lnTo>
                      <a:pt x="649" y="701"/>
                    </a:lnTo>
                    <a:lnTo>
                      <a:pt x="635" y="713"/>
                    </a:lnTo>
                    <a:lnTo>
                      <a:pt x="619" y="724"/>
                    </a:lnTo>
                    <a:lnTo>
                      <a:pt x="602" y="735"/>
                    </a:lnTo>
                    <a:lnTo>
                      <a:pt x="586" y="745"/>
                    </a:lnTo>
                    <a:lnTo>
                      <a:pt x="569" y="753"/>
                    </a:lnTo>
                    <a:lnTo>
                      <a:pt x="551" y="761"/>
                    </a:lnTo>
                    <a:lnTo>
                      <a:pt x="533" y="769"/>
                    </a:lnTo>
                    <a:lnTo>
                      <a:pt x="515" y="775"/>
                    </a:lnTo>
                    <a:lnTo>
                      <a:pt x="496" y="781"/>
                    </a:lnTo>
                    <a:lnTo>
                      <a:pt x="476" y="784"/>
                    </a:lnTo>
                    <a:lnTo>
                      <a:pt x="457" y="788"/>
                    </a:lnTo>
                    <a:lnTo>
                      <a:pt x="438" y="790"/>
                    </a:lnTo>
                    <a:lnTo>
                      <a:pt x="418" y="793"/>
                    </a:lnTo>
                    <a:lnTo>
                      <a:pt x="397" y="793"/>
                    </a:lnTo>
                    <a:lnTo>
                      <a:pt x="377" y="793"/>
                    </a:lnTo>
                    <a:lnTo>
                      <a:pt x="356" y="790"/>
                    </a:lnTo>
                    <a:lnTo>
                      <a:pt x="337" y="788"/>
                    </a:lnTo>
                    <a:lnTo>
                      <a:pt x="318" y="784"/>
                    </a:lnTo>
                    <a:lnTo>
                      <a:pt x="299" y="781"/>
                    </a:lnTo>
                    <a:lnTo>
                      <a:pt x="280" y="775"/>
                    </a:lnTo>
                    <a:lnTo>
                      <a:pt x="262" y="769"/>
                    </a:lnTo>
                    <a:lnTo>
                      <a:pt x="244" y="761"/>
                    </a:lnTo>
                    <a:lnTo>
                      <a:pt x="226" y="753"/>
                    </a:lnTo>
                    <a:lnTo>
                      <a:pt x="209" y="745"/>
                    </a:lnTo>
                    <a:lnTo>
                      <a:pt x="192" y="735"/>
                    </a:lnTo>
                    <a:lnTo>
                      <a:pt x="175" y="724"/>
                    </a:lnTo>
                    <a:lnTo>
                      <a:pt x="160" y="713"/>
                    </a:lnTo>
                    <a:lnTo>
                      <a:pt x="145" y="701"/>
                    </a:lnTo>
                    <a:lnTo>
                      <a:pt x="131" y="689"/>
                    </a:lnTo>
                    <a:lnTo>
                      <a:pt x="116" y="676"/>
                    </a:lnTo>
                    <a:lnTo>
                      <a:pt x="103" y="662"/>
                    </a:lnTo>
                    <a:lnTo>
                      <a:pt x="91" y="647"/>
                    </a:lnTo>
                    <a:lnTo>
                      <a:pt x="79" y="633"/>
                    </a:lnTo>
                    <a:lnTo>
                      <a:pt x="68" y="617"/>
                    </a:lnTo>
                    <a:lnTo>
                      <a:pt x="58" y="602"/>
                    </a:lnTo>
                    <a:lnTo>
                      <a:pt x="48" y="585"/>
                    </a:lnTo>
                    <a:lnTo>
                      <a:pt x="40" y="567"/>
                    </a:lnTo>
                    <a:lnTo>
                      <a:pt x="31" y="550"/>
                    </a:lnTo>
                    <a:lnTo>
                      <a:pt x="25" y="532"/>
                    </a:lnTo>
                    <a:lnTo>
                      <a:pt x="18" y="513"/>
                    </a:lnTo>
                    <a:lnTo>
                      <a:pt x="13" y="495"/>
                    </a:lnTo>
                    <a:lnTo>
                      <a:pt x="8" y="476"/>
                    </a:lnTo>
                    <a:lnTo>
                      <a:pt x="5" y="457"/>
                    </a:lnTo>
                    <a:lnTo>
                      <a:pt x="2" y="436"/>
                    </a:lnTo>
                    <a:lnTo>
                      <a:pt x="1" y="416"/>
                    </a:lnTo>
                    <a:lnTo>
                      <a:pt x="0" y="396"/>
                    </a:lnTo>
                    <a:lnTo>
                      <a:pt x="1" y="375"/>
                    </a:lnTo>
                    <a:lnTo>
                      <a:pt x="2" y="356"/>
                    </a:lnTo>
                    <a:lnTo>
                      <a:pt x="5" y="336"/>
                    </a:lnTo>
                    <a:lnTo>
                      <a:pt x="8" y="316"/>
                    </a:lnTo>
                    <a:lnTo>
                      <a:pt x="13" y="297"/>
                    </a:lnTo>
                    <a:lnTo>
                      <a:pt x="18" y="278"/>
                    </a:lnTo>
                    <a:lnTo>
                      <a:pt x="25" y="260"/>
                    </a:lnTo>
                    <a:lnTo>
                      <a:pt x="31" y="242"/>
                    </a:lnTo>
                    <a:lnTo>
                      <a:pt x="40" y="224"/>
                    </a:lnTo>
                    <a:lnTo>
                      <a:pt x="48" y="207"/>
                    </a:lnTo>
                    <a:lnTo>
                      <a:pt x="58" y="190"/>
                    </a:lnTo>
                    <a:lnTo>
                      <a:pt x="68" y="175"/>
                    </a:lnTo>
                    <a:lnTo>
                      <a:pt x="79" y="159"/>
                    </a:lnTo>
                    <a:lnTo>
                      <a:pt x="91" y="144"/>
                    </a:lnTo>
                    <a:lnTo>
                      <a:pt x="103" y="129"/>
                    </a:lnTo>
                    <a:lnTo>
                      <a:pt x="116" y="116"/>
                    </a:lnTo>
                    <a:lnTo>
                      <a:pt x="131" y="103"/>
                    </a:lnTo>
                    <a:lnTo>
                      <a:pt x="145" y="90"/>
                    </a:lnTo>
                    <a:lnTo>
                      <a:pt x="160" y="79"/>
                    </a:lnTo>
                    <a:lnTo>
                      <a:pt x="175" y="67"/>
                    </a:lnTo>
                    <a:lnTo>
                      <a:pt x="192" y="57"/>
                    </a:lnTo>
                    <a:lnTo>
                      <a:pt x="209" y="48"/>
                    </a:lnTo>
                    <a:lnTo>
                      <a:pt x="226" y="38"/>
                    </a:lnTo>
                    <a:lnTo>
                      <a:pt x="244" y="31"/>
                    </a:lnTo>
                    <a:lnTo>
                      <a:pt x="262" y="24"/>
                    </a:lnTo>
                    <a:lnTo>
                      <a:pt x="280" y="18"/>
                    </a:lnTo>
                    <a:lnTo>
                      <a:pt x="299" y="12"/>
                    </a:lnTo>
                    <a:lnTo>
                      <a:pt x="318" y="7"/>
                    </a:lnTo>
                    <a:lnTo>
                      <a:pt x="337" y="4"/>
                    </a:lnTo>
                    <a:lnTo>
                      <a:pt x="356" y="1"/>
                    </a:lnTo>
                    <a:lnTo>
                      <a:pt x="377" y="0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ca8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62320" y="4516560"/>
                <a:ext cx="312480" cy="312480"/>
              </a:xfrm>
              <a:custGeom>
                <a:avLst/>
                <a:gdLst/>
                <a:ahLst/>
                <a:rect l="l" t="t" r="r" b="b"/>
                <a:pathLst>
                  <a:path w="786" h="785">
                    <a:moveTo>
                      <a:pt x="392" y="0"/>
                    </a:moveTo>
                    <a:lnTo>
                      <a:pt x="413" y="0"/>
                    </a:lnTo>
                    <a:lnTo>
                      <a:pt x="433" y="2"/>
                    </a:lnTo>
                    <a:lnTo>
                      <a:pt x="452" y="4"/>
                    </a:lnTo>
                    <a:lnTo>
                      <a:pt x="471" y="8"/>
                    </a:lnTo>
                    <a:lnTo>
                      <a:pt x="491" y="12"/>
                    </a:lnTo>
                    <a:lnTo>
                      <a:pt x="510" y="18"/>
                    </a:lnTo>
                    <a:lnTo>
                      <a:pt x="528" y="24"/>
                    </a:lnTo>
                    <a:lnTo>
                      <a:pt x="546" y="31"/>
                    </a:lnTo>
                    <a:lnTo>
                      <a:pt x="563" y="38"/>
                    </a:lnTo>
                    <a:lnTo>
                      <a:pt x="579" y="48"/>
                    </a:lnTo>
                    <a:lnTo>
                      <a:pt x="596" y="57"/>
                    </a:lnTo>
                    <a:lnTo>
                      <a:pt x="612" y="67"/>
                    </a:lnTo>
                    <a:lnTo>
                      <a:pt x="627" y="78"/>
                    </a:lnTo>
                    <a:lnTo>
                      <a:pt x="643" y="90"/>
                    </a:lnTo>
                    <a:lnTo>
                      <a:pt x="656" y="102"/>
                    </a:lnTo>
                    <a:lnTo>
                      <a:pt x="671" y="115"/>
                    </a:lnTo>
                    <a:lnTo>
                      <a:pt x="684" y="128"/>
                    </a:lnTo>
                    <a:lnTo>
                      <a:pt x="696" y="142"/>
                    </a:lnTo>
                    <a:lnTo>
                      <a:pt x="708" y="158"/>
                    </a:lnTo>
                    <a:lnTo>
                      <a:pt x="719" y="174"/>
                    </a:lnTo>
                    <a:lnTo>
                      <a:pt x="728" y="189"/>
                    </a:lnTo>
                    <a:lnTo>
                      <a:pt x="738" y="206"/>
                    </a:lnTo>
                    <a:lnTo>
                      <a:pt x="747" y="223"/>
                    </a:lnTo>
                    <a:lnTo>
                      <a:pt x="755" y="240"/>
                    </a:lnTo>
                    <a:lnTo>
                      <a:pt x="762" y="258"/>
                    </a:lnTo>
                    <a:lnTo>
                      <a:pt x="768" y="276"/>
                    </a:lnTo>
                    <a:lnTo>
                      <a:pt x="774" y="295"/>
                    </a:lnTo>
                    <a:lnTo>
                      <a:pt x="777" y="314"/>
                    </a:lnTo>
                    <a:lnTo>
                      <a:pt x="781" y="333"/>
                    </a:lnTo>
                    <a:lnTo>
                      <a:pt x="783" y="352"/>
                    </a:lnTo>
                    <a:lnTo>
                      <a:pt x="786" y="373"/>
                    </a:lnTo>
                    <a:lnTo>
                      <a:pt x="786" y="392"/>
                    </a:lnTo>
                    <a:lnTo>
                      <a:pt x="786" y="412"/>
                    </a:lnTo>
                    <a:lnTo>
                      <a:pt x="783" y="433"/>
                    </a:lnTo>
                    <a:lnTo>
                      <a:pt x="781" y="452"/>
                    </a:lnTo>
                    <a:lnTo>
                      <a:pt x="777" y="471"/>
                    </a:lnTo>
                    <a:lnTo>
                      <a:pt x="774" y="490"/>
                    </a:lnTo>
                    <a:lnTo>
                      <a:pt x="768" y="510"/>
                    </a:lnTo>
                    <a:lnTo>
                      <a:pt x="762" y="527"/>
                    </a:lnTo>
                    <a:lnTo>
                      <a:pt x="755" y="545"/>
                    </a:lnTo>
                    <a:lnTo>
                      <a:pt x="747" y="562"/>
                    </a:lnTo>
                    <a:lnTo>
                      <a:pt x="738" y="579"/>
                    </a:lnTo>
                    <a:lnTo>
                      <a:pt x="728" y="596"/>
                    </a:lnTo>
                    <a:lnTo>
                      <a:pt x="719" y="611"/>
                    </a:lnTo>
                    <a:lnTo>
                      <a:pt x="708" y="627"/>
                    </a:lnTo>
                    <a:lnTo>
                      <a:pt x="696" y="643"/>
                    </a:lnTo>
                    <a:lnTo>
                      <a:pt x="684" y="657"/>
                    </a:lnTo>
                    <a:lnTo>
                      <a:pt x="671" y="670"/>
                    </a:lnTo>
                    <a:lnTo>
                      <a:pt x="656" y="683"/>
                    </a:lnTo>
                    <a:lnTo>
                      <a:pt x="643" y="695"/>
                    </a:lnTo>
                    <a:lnTo>
                      <a:pt x="627" y="707"/>
                    </a:lnTo>
                    <a:lnTo>
                      <a:pt x="612" y="718"/>
                    </a:lnTo>
                    <a:lnTo>
                      <a:pt x="596" y="728"/>
                    </a:lnTo>
                    <a:lnTo>
                      <a:pt x="579" y="737"/>
                    </a:lnTo>
                    <a:lnTo>
                      <a:pt x="563" y="747"/>
                    </a:lnTo>
                    <a:lnTo>
                      <a:pt x="546" y="754"/>
                    </a:lnTo>
                    <a:lnTo>
                      <a:pt x="528" y="761"/>
                    </a:lnTo>
                    <a:lnTo>
                      <a:pt x="510" y="767"/>
                    </a:lnTo>
                    <a:lnTo>
                      <a:pt x="491" y="773"/>
                    </a:lnTo>
                    <a:lnTo>
                      <a:pt x="471" y="777"/>
                    </a:lnTo>
                    <a:lnTo>
                      <a:pt x="452" y="781"/>
                    </a:lnTo>
                    <a:lnTo>
                      <a:pt x="433" y="783"/>
                    </a:lnTo>
                    <a:lnTo>
                      <a:pt x="413" y="785"/>
                    </a:lnTo>
                    <a:lnTo>
                      <a:pt x="392" y="785"/>
                    </a:lnTo>
                    <a:lnTo>
                      <a:pt x="373" y="785"/>
                    </a:lnTo>
                    <a:lnTo>
                      <a:pt x="353" y="783"/>
                    </a:lnTo>
                    <a:lnTo>
                      <a:pt x="333" y="781"/>
                    </a:lnTo>
                    <a:lnTo>
                      <a:pt x="314" y="777"/>
                    </a:lnTo>
                    <a:lnTo>
                      <a:pt x="295" y="773"/>
                    </a:lnTo>
                    <a:lnTo>
                      <a:pt x="276" y="767"/>
                    </a:lnTo>
                    <a:lnTo>
                      <a:pt x="258" y="761"/>
                    </a:lnTo>
                    <a:lnTo>
                      <a:pt x="240" y="754"/>
                    </a:lnTo>
                    <a:lnTo>
                      <a:pt x="223" y="747"/>
                    </a:lnTo>
                    <a:lnTo>
                      <a:pt x="206" y="737"/>
                    </a:lnTo>
                    <a:lnTo>
                      <a:pt x="189" y="728"/>
                    </a:lnTo>
                    <a:lnTo>
                      <a:pt x="174" y="718"/>
                    </a:lnTo>
                    <a:lnTo>
                      <a:pt x="158" y="707"/>
                    </a:lnTo>
                    <a:lnTo>
                      <a:pt x="143" y="695"/>
                    </a:lnTo>
                    <a:lnTo>
                      <a:pt x="128" y="683"/>
                    </a:lnTo>
                    <a:lnTo>
                      <a:pt x="115" y="670"/>
                    </a:lnTo>
                    <a:lnTo>
                      <a:pt x="102" y="657"/>
                    </a:lnTo>
                    <a:lnTo>
                      <a:pt x="90" y="643"/>
                    </a:lnTo>
                    <a:lnTo>
                      <a:pt x="78" y="627"/>
                    </a:lnTo>
                    <a:lnTo>
                      <a:pt x="67" y="611"/>
                    </a:lnTo>
                    <a:lnTo>
                      <a:pt x="56" y="596"/>
                    </a:lnTo>
                    <a:lnTo>
                      <a:pt x="48" y="579"/>
                    </a:lnTo>
                    <a:lnTo>
                      <a:pt x="38" y="562"/>
                    </a:lnTo>
                    <a:lnTo>
                      <a:pt x="31" y="545"/>
                    </a:lnTo>
                    <a:lnTo>
                      <a:pt x="24" y="527"/>
                    </a:lnTo>
                    <a:lnTo>
                      <a:pt x="18" y="510"/>
                    </a:lnTo>
                    <a:lnTo>
                      <a:pt x="12" y="490"/>
                    </a:lnTo>
                    <a:lnTo>
                      <a:pt x="8" y="471"/>
                    </a:lnTo>
                    <a:lnTo>
                      <a:pt x="5" y="452"/>
                    </a:lnTo>
                    <a:lnTo>
                      <a:pt x="2" y="433"/>
                    </a:lnTo>
                    <a:lnTo>
                      <a:pt x="0" y="412"/>
                    </a:lnTo>
                    <a:lnTo>
                      <a:pt x="0" y="392"/>
                    </a:lnTo>
                    <a:lnTo>
                      <a:pt x="0" y="373"/>
                    </a:lnTo>
                    <a:lnTo>
                      <a:pt x="2" y="352"/>
                    </a:lnTo>
                    <a:lnTo>
                      <a:pt x="5" y="333"/>
                    </a:lnTo>
                    <a:lnTo>
                      <a:pt x="8" y="314"/>
                    </a:lnTo>
                    <a:lnTo>
                      <a:pt x="12" y="295"/>
                    </a:lnTo>
                    <a:lnTo>
                      <a:pt x="18" y="276"/>
                    </a:lnTo>
                    <a:lnTo>
                      <a:pt x="24" y="258"/>
                    </a:lnTo>
                    <a:lnTo>
                      <a:pt x="31" y="240"/>
                    </a:lnTo>
                    <a:lnTo>
                      <a:pt x="38" y="223"/>
                    </a:lnTo>
                    <a:lnTo>
                      <a:pt x="48" y="206"/>
                    </a:lnTo>
                    <a:lnTo>
                      <a:pt x="56" y="189"/>
                    </a:lnTo>
                    <a:lnTo>
                      <a:pt x="67" y="174"/>
                    </a:lnTo>
                    <a:lnTo>
                      <a:pt x="78" y="158"/>
                    </a:lnTo>
                    <a:lnTo>
                      <a:pt x="90" y="142"/>
                    </a:lnTo>
                    <a:lnTo>
                      <a:pt x="102" y="128"/>
                    </a:lnTo>
                    <a:lnTo>
                      <a:pt x="115" y="115"/>
                    </a:lnTo>
                    <a:lnTo>
                      <a:pt x="128" y="102"/>
                    </a:lnTo>
                    <a:lnTo>
                      <a:pt x="143" y="90"/>
                    </a:lnTo>
                    <a:lnTo>
                      <a:pt x="158" y="78"/>
                    </a:lnTo>
                    <a:lnTo>
                      <a:pt x="174" y="67"/>
                    </a:lnTo>
                    <a:lnTo>
                      <a:pt x="189" y="57"/>
                    </a:lnTo>
                    <a:lnTo>
                      <a:pt x="206" y="48"/>
                    </a:lnTo>
                    <a:lnTo>
                      <a:pt x="223" y="38"/>
                    </a:lnTo>
                    <a:lnTo>
                      <a:pt x="240" y="31"/>
                    </a:lnTo>
                    <a:lnTo>
                      <a:pt x="258" y="24"/>
                    </a:lnTo>
                    <a:lnTo>
                      <a:pt x="276" y="18"/>
                    </a:lnTo>
                    <a:lnTo>
                      <a:pt x="295" y="12"/>
                    </a:lnTo>
                    <a:lnTo>
                      <a:pt x="314" y="8"/>
                    </a:lnTo>
                    <a:lnTo>
                      <a:pt x="333" y="4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92" y="0"/>
                    </a:lnTo>
                    <a:close/>
                  </a:path>
                </a:pathLst>
              </a:custGeom>
              <a:solidFill>
                <a:srgbClr val="cc8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263760" y="4519440"/>
                <a:ext cx="309600" cy="308160"/>
              </a:xfrm>
              <a:custGeom>
                <a:avLst/>
                <a:gdLst/>
                <a:ahLst/>
                <a:rect l="l" t="t" r="r" b="b"/>
                <a:pathLst>
                  <a:path w="779" h="778">
                    <a:moveTo>
                      <a:pt x="390" y="0"/>
                    </a:moveTo>
                    <a:lnTo>
                      <a:pt x="411" y="1"/>
                    </a:lnTo>
                    <a:lnTo>
                      <a:pt x="430" y="2"/>
                    </a:lnTo>
                    <a:lnTo>
                      <a:pt x="449" y="4"/>
                    </a:lnTo>
                    <a:lnTo>
                      <a:pt x="468" y="8"/>
                    </a:lnTo>
                    <a:lnTo>
                      <a:pt x="488" y="12"/>
                    </a:lnTo>
                    <a:lnTo>
                      <a:pt x="506" y="18"/>
                    </a:lnTo>
                    <a:lnTo>
                      <a:pt x="524" y="24"/>
                    </a:lnTo>
                    <a:lnTo>
                      <a:pt x="542" y="31"/>
                    </a:lnTo>
                    <a:lnTo>
                      <a:pt x="558" y="38"/>
                    </a:lnTo>
                    <a:lnTo>
                      <a:pt x="575" y="46"/>
                    </a:lnTo>
                    <a:lnTo>
                      <a:pt x="592" y="56"/>
                    </a:lnTo>
                    <a:lnTo>
                      <a:pt x="608" y="67"/>
                    </a:lnTo>
                    <a:lnTo>
                      <a:pt x="623" y="78"/>
                    </a:lnTo>
                    <a:lnTo>
                      <a:pt x="638" y="88"/>
                    </a:lnTo>
                    <a:lnTo>
                      <a:pt x="652" y="102"/>
                    </a:lnTo>
                    <a:lnTo>
                      <a:pt x="665" y="114"/>
                    </a:lnTo>
                    <a:lnTo>
                      <a:pt x="678" y="128"/>
                    </a:lnTo>
                    <a:lnTo>
                      <a:pt x="690" y="141"/>
                    </a:lnTo>
                    <a:lnTo>
                      <a:pt x="702" y="157"/>
                    </a:lnTo>
                    <a:lnTo>
                      <a:pt x="713" y="171"/>
                    </a:lnTo>
                    <a:lnTo>
                      <a:pt x="723" y="188"/>
                    </a:lnTo>
                    <a:lnTo>
                      <a:pt x="732" y="204"/>
                    </a:lnTo>
                    <a:lnTo>
                      <a:pt x="741" y="220"/>
                    </a:lnTo>
                    <a:lnTo>
                      <a:pt x="749" y="238"/>
                    </a:lnTo>
                    <a:lnTo>
                      <a:pt x="756" y="255"/>
                    </a:lnTo>
                    <a:lnTo>
                      <a:pt x="762" y="273"/>
                    </a:lnTo>
                    <a:lnTo>
                      <a:pt x="767" y="292"/>
                    </a:lnTo>
                    <a:lnTo>
                      <a:pt x="772" y="310"/>
                    </a:lnTo>
                    <a:lnTo>
                      <a:pt x="776" y="330"/>
                    </a:lnTo>
                    <a:lnTo>
                      <a:pt x="778" y="350"/>
                    </a:lnTo>
                    <a:lnTo>
                      <a:pt x="779" y="369"/>
                    </a:lnTo>
                    <a:lnTo>
                      <a:pt x="779" y="390"/>
                    </a:lnTo>
                    <a:lnTo>
                      <a:pt x="779" y="409"/>
                    </a:lnTo>
                    <a:lnTo>
                      <a:pt x="778" y="429"/>
                    </a:lnTo>
                    <a:lnTo>
                      <a:pt x="776" y="448"/>
                    </a:lnTo>
                    <a:lnTo>
                      <a:pt x="772" y="468"/>
                    </a:lnTo>
                    <a:lnTo>
                      <a:pt x="767" y="487"/>
                    </a:lnTo>
                    <a:lnTo>
                      <a:pt x="762" y="505"/>
                    </a:lnTo>
                    <a:lnTo>
                      <a:pt x="756" y="523"/>
                    </a:lnTo>
                    <a:lnTo>
                      <a:pt x="749" y="541"/>
                    </a:lnTo>
                    <a:lnTo>
                      <a:pt x="741" y="557"/>
                    </a:lnTo>
                    <a:lnTo>
                      <a:pt x="732" y="574"/>
                    </a:lnTo>
                    <a:lnTo>
                      <a:pt x="723" y="591"/>
                    </a:lnTo>
                    <a:lnTo>
                      <a:pt x="713" y="607"/>
                    </a:lnTo>
                    <a:lnTo>
                      <a:pt x="702" y="622"/>
                    </a:lnTo>
                    <a:lnTo>
                      <a:pt x="690" y="637"/>
                    </a:lnTo>
                    <a:lnTo>
                      <a:pt x="678" y="651"/>
                    </a:lnTo>
                    <a:lnTo>
                      <a:pt x="665" y="664"/>
                    </a:lnTo>
                    <a:lnTo>
                      <a:pt x="652" y="677"/>
                    </a:lnTo>
                    <a:lnTo>
                      <a:pt x="638" y="689"/>
                    </a:lnTo>
                    <a:lnTo>
                      <a:pt x="623" y="700"/>
                    </a:lnTo>
                    <a:lnTo>
                      <a:pt x="608" y="712"/>
                    </a:lnTo>
                    <a:lnTo>
                      <a:pt x="592" y="722"/>
                    </a:lnTo>
                    <a:lnTo>
                      <a:pt x="575" y="731"/>
                    </a:lnTo>
                    <a:lnTo>
                      <a:pt x="558" y="740"/>
                    </a:lnTo>
                    <a:lnTo>
                      <a:pt x="542" y="748"/>
                    </a:lnTo>
                    <a:lnTo>
                      <a:pt x="524" y="754"/>
                    </a:lnTo>
                    <a:lnTo>
                      <a:pt x="506" y="760"/>
                    </a:lnTo>
                    <a:lnTo>
                      <a:pt x="488" y="766"/>
                    </a:lnTo>
                    <a:lnTo>
                      <a:pt x="468" y="770"/>
                    </a:lnTo>
                    <a:lnTo>
                      <a:pt x="449" y="773"/>
                    </a:lnTo>
                    <a:lnTo>
                      <a:pt x="430" y="776"/>
                    </a:lnTo>
                    <a:lnTo>
                      <a:pt x="411" y="778"/>
                    </a:lnTo>
                    <a:lnTo>
                      <a:pt x="390" y="778"/>
                    </a:lnTo>
                    <a:lnTo>
                      <a:pt x="370" y="778"/>
                    </a:lnTo>
                    <a:lnTo>
                      <a:pt x="351" y="776"/>
                    </a:lnTo>
                    <a:lnTo>
                      <a:pt x="332" y="773"/>
                    </a:lnTo>
                    <a:lnTo>
                      <a:pt x="312" y="770"/>
                    </a:lnTo>
                    <a:lnTo>
                      <a:pt x="293" y="766"/>
                    </a:lnTo>
                    <a:lnTo>
                      <a:pt x="275" y="760"/>
                    </a:lnTo>
                    <a:lnTo>
                      <a:pt x="257" y="754"/>
                    </a:lnTo>
                    <a:lnTo>
                      <a:pt x="239" y="748"/>
                    </a:lnTo>
                    <a:lnTo>
                      <a:pt x="221" y="740"/>
                    </a:lnTo>
                    <a:lnTo>
                      <a:pt x="204" y="731"/>
                    </a:lnTo>
                    <a:lnTo>
                      <a:pt x="189" y="722"/>
                    </a:lnTo>
                    <a:lnTo>
                      <a:pt x="173" y="712"/>
                    </a:lnTo>
                    <a:lnTo>
                      <a:pt x="158" y="700"/>
                    </a:lnTo>
                    <a:lnTo>
                      <a:pt x="143" y="689"/>
                    </a:lnTo>
                    <a:lnTo>
                      <a:pt x="129" y="677"/>
                    </a:lnTo>
                    <a:lnTo>
                      <a:pt x="116" y="664"/>
                    </a:lnTo>
                    <a:lnTo>
                      <a:pt x="102" y="651"/>
                    </a:lnTo>
                    <a:lnTo>
                      <a:pt x="90" y="637"/>
                    </a:lnTo>
                    <a:lnTo>
                      <a:pt x="78" y="622"/>
                    </a:lnTo>
                    <a:lnTo>
                      <a:pt x="68" y="607"/>
                    </a:lnTo>
                    <a:lnTo>
                      <a:pt x="58" y="591"/>
                    </a:lnTo>
                    <a:lnTo>
                      <a:pt x="48" y="574"/>
                    </a:lnTo>
                    <a:lnTo>
                      <a:pt x="40" y="557"/>
                    </a:lnTo>
                    <a:lnTo>
                      <a:pt x="32" y="541"/>
                    </a:lnTo>
                    <a:lnTo>
                      <a:pt x="24" y="523"/>
                    </a:lnTo>
                    <a:lnTo>
                      <a:pt x="18" y="505"/>
                    </a:lnTo>
                    <a:lnTo>
                      <a:pt x="14" y="487"/>
                    </a:lnTo>
                    <a:lnTo>
                      <a:pt x="9" y="468"/>
                    </a:lnTo>
                    <a:lnTo>
                      <a:pt x="5" y="448"/>
                    </a:lnTo>
                    <a:lnTo>
                      <a:pt x="3" y="429"/>
                    </a:lnTo>
                    <a:lnTo>
                      <a:pt x="2" y="409"/>
                    </a:lnTo>
                    <a:lnTo>
                      <a:pt x="0" y="390"/>
                    </a:lnTo>
                    <a:lnTo>
                      <a:pt x="2" y="369"/>
                    </a:lnTo>
                    <a:lnTo>
                      <a:pt x="3" y="350"/>
                    </a:lnTo>
                    <a:lnTo>
                      <a:pt x="5" y="330"/>
                    </a:lnTo>
                    <a:lnTo>
                      <a:pt x="9" y="310"/>
                    </a:lnTo>
                    <a:lnTo>
                      <a:pt x="14" y="292"/>
                    </a:lnTo>
                    <a:lnTo>
                      <a:pt x="18" y="273"/>
                    </a:lnTo>
                    <a:lnTo>
                      <a:pt x="24" y="255"/>
                    </a:lnTo>
                    <a:lnTo>
                      <a:pt x="32" y="238"/>
                    </a:lnTo>
                    <a:lnTo>
                      <a:pt x="40" y="220"/>
                    </a:lnTo>
                    <a:lnTo>
                      <a:pt x="48" y="204"/>
                    </a:lnTo>
                    <a:lnTo>
                      <a:pt x="58" y="188"/>
                    </a:lnTo>
                    <a:lnTo>
                      <a:pt x="68" y="171"/>
                    </a:lnTo>
                    <a:lnTo>
                      <a:pt x="78" y="157"/>
                    </a:lnTo>
                    <a:lnTo>
                      <a:pt x="90" y="141"/>
                    </a:lnTo>
                    <a:lnTo>
                      <a:pt x="102" y="128"/>
                    </a:lnTo>
                    <a:lnTo>
                      <a:pt x="116" y="114"/>
                    </a:lnTo>
                    <a:lnTo>
                      <a:pt x="129" y="102"/>
                    </a:lnTo>
                    <a:lnTo>
                      <a:pt x="143" y="88"/>
                    </a:lnTo>
                    <a:lnTo>
                      <a:pt x="158" y="78"/>
                    </a:lnTo>
                    <a:lnTo>
                      <a:pt x="173" y="67"/>
                    </a:lnTo>
                    <a:lnTo>
                      <a:pt x="189" y="56"/>
                    </a:lnTo>
                    <a:lnTo>
                      <a:pt x="204" y="46"/>
                    </a:lnTo>
                    <a:lnTo>
                      <a:pt x="221" y="38"/>
                    </a:lnTo>
                    <a:lnTo>
                      <a:pt x="239" y="31"/>
                    </a:lnTo>
                    <a:lnTo>
                      <a:pt x="257" y="24"/>
                    </a:lnTo>
                    <a:lnTo>
                      <a:pt x="275" y="18"/>
                    </a:lnTo>
                    <a:lnTo>
                      <a:pt x="293" y="12"/>
                    </a:lnTo>
                    <a:lnTo>
                      <a:pt x="312" y="8"/>
                    </a:lnTo>
                    <a:lnTo>
                      <a:pt x="332" y="4"/>
                    </a:lnTo>
                    <a:lnTo>
                      <a:pt x="351" y="2"/>
                    </a:lnTo>
                    <a:lnTo>
                      <a:pt x="370" y="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d48e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265560" y="452124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772" h="771">
                    <a:moveTo>
                      <a:pt x="385" y="0"/>
                    </a:moveTo>
                    <a:lnTo>
                      <a:pt x="406" y="1"/>
                    </a:lnTo>
                    <a:lnTo>
                      <a:pt x="425" y="2"/>
                    </a:lnTo>
                    <a:lnTo>
                      <a:pt x="444" y="4"/>
                    </a:lnTo>
                    <a:lnTo>
                      <a:pt x="463" y="8"/>
                    </a:lnTo>
                    <a:lnTo>
                      <a:pt x="481" y="13"/>
                    </a:lnTo>
                    <a:lnTo>
                      <a:pt x="501" y="18"/>
                    </a:lnTo>
                    <a:lnTo>
                      <a:pt x="519" y="24"/>
                    </a:lnTo>
                    <a:lnTo>
                      <a:pt x="535" y="31"/>
                    </a:lnTo>
                    <a:lnTo>
                      <a:pt x="552" y="38"/>
                    </a:lnTo>
                    <a:lnTo>
                      <a:pt x="569" y="46"/>
                    </a:lnTo>
                    <a:lnTo>
                      <a:pt x="586" y="56"/>
                    </a:lnTo>
                    <a:lnTo>
                      <a:pt x="601" y="66"/>
                    </a:lnTo>
                    <a:lnTo>
                      <a:pt x="616" y="76"/>
                    </a:lnTo>
                    <a:lnTo>
                      <a:pt x="630" y="88"/>
                    </a:lnTo>
                    <a:lnTo>
                      <a:pt x="645" y="100"/>
                    </a:lnTo>
                    <a:lnTo>
                      <a:pt x="658" y="114"/>
                    </a:lnTo>
                    <a:lnTo>
                      <a:pt x="671" y="127"/>
                    </a:lnTo>
                    <a:lnTo>
                      <a:pt x="683" y="141"/>
                    </a:lnTo>
                    <a:lnTo>
                      <a:pt x="695" y="156"/>
                    </a:lnTo>
                    <a:lnTo>
                      <a:pt x="706" y="170"/>
                    </a:lnTo>
                    <a:lnTo>
                      <a:pt x="715" y="186"/>
                    </a:lnTo>
                    <a:lnTo>
                      <a:pt x="725" y="202"/>
                    </a:lnTo>
                    <a:lnTo>
                      <a:pt x="733" y="219"/>
                    </a:lnTo>
                    <a:lnTo>
                      <a:pt x="741" y="236"/>
                    </a:lnTo>
                    <a:lnTo>
                      <a:pt x="748" y="253"/>
                    </a:lnTo>
                    <a:lnTo>
                      <a:pt x="754" y="271"/>
                    </a:lnTo>
                    <a:lnTo>
                      <a:pt x="759" y="290"/>
                    </a:lnTo>
                    <a:lnTo>
                      <a:pt x="763" y="308"/>
                    </a:lnTo>
                    <a:lnTo>
                      <a:pt x="767" y="327"/>
                    </a:lnTo>
                    <a:lnTo>
                      <a:pt x="769" y="346"/>
                    </a:lnTo>
                    <a:lnTo>
                      <a:pt x="771" y="366"/>
                    </a:lnTo>
                    <a:lnTo>
                      <a:pt x="772" y="386"/>
                    </a:lnTo>
                    <a:lnTo>
                      <a:pt x="771" y="405"/>
                    </a:lnTo>
                    <a:lnTo>
                      <a:pt x="769" y="426"/>
                    </a:lnTo>
                    <a:lnTo>
                      <a:pt x="767" y="445"/>
                    </a:lnTo>
                    <a:lnTo>
                      <a:pt x="763" y="463"/>
                    </a:lnTo>
                    <a:lnTo>
                      <a:pt x="759" y="482"/>
                    </a:lnTo>
                    <a:lnTo>
                      <a:pt x="754" y="500"/>
                    </a:lnTo>
                    <a:lnTo>
                      <a:pt x="748" y="518"/>
                    </a:lnTo>
                    <a:lnTo>
                      <a:pt x="741" y="536"/>
                    </a:lnTo>
                    <a:lnTo>
                      <a:pt x="733" y="553"/>
                    </a:lnTo>
                    <a:lnTo>
                      <a:pt x="725" y="569"/>
                    </a:lnTo>
                    <a:lnTo>
                      <a:pt x="715" y="585"/>
                    </a:lnTo>
                    <a:lnTo>
                      <a:pt x="706" y="601"/>
                    </a:lnTo>
                    <a:lnTo>
                      <a:pt x="695" y="616"/>
                    </a:lnTo>
                    <a:lnTo>
                      <a:pt x="683" y="631"/>
                    </a:lnTo>
                    <a:lnTo>
                      <a:pt x="671" y="645"/>
                    </a:lnTo>
                    <a:lnTo>
                      <a:pt x="658" y="658"/>
                    </a:lnTo>
                    <a:lnTo>
                      <a:pt x="645" y="670"/>
                    </a:lnTo>
                    <a:lnTo>
                      <a:pt x="630" y="683"/>
                    </a:lnTo>
                    <a:lnTo>
                      <a:pt x="616" y="694"/>
                    </a:lnTo>
                    <a:lnTo>
                      <a:pt x="601" y="705"/>
                    </a:lnTo>
                    <a:lnTo>
                      <a:pt x="586" y="715"/>
                    </a:lnTo>
                    <a:lnTo>
                      <a:pt x="569" y="724"/>
                    </a:lnTo>
                    <a:lnTo>
                      <a:pt x="552" y="733"/>
                    </a:lnTo>
                    <a:lnTo>
                      <a:pt x="535" y="741"/>
                    </a:lnTo>
                    <a:lnTo>
                      <a:pt x="519" y="748"/>
                    </a:lnTo>
                    <a:lnTo>
                      <a:pt x="501" y="754"/>
                    </a:lnTo>
                    <a:lnTo>
                      <a:pt x="481" y="759"/>
                    </a:lnTo>
                    <a:lnTo>
                      <a:pt x="463" y="764"/>
                    </a:lnTo>
                    <a:lnTo>
                      <a:pt x="444" y="766"/>
                    </a:lnTo>
                    <a:lnTo>
                      <a:pt x="425" y="769"/>
                    </a:lnTo>
                    <a:lnTo>
                      <a:pt x="406" y="771"/>
                    </a:lnTo>
                    <a:lnTo>
                      <a:pt x="385" y="771"/>
                    </a:lnTo>
                    <a:lnTo>
                      <a:pt x="366" y="771"/>
                    </a:lnTo>
                    <a:lnTo>
                      <a:pt x="347" y="769"/>
                    </a:lnTo>
                    <a:lnTo>
                      <a:pt x="327" y="766"/>
                    </a:lnTo>
                    <a:lnTo>
                      <a:pt x="309" y="764"/>
                    </a:lnTo>
                    <a:lnTo>
                      <a:pt x="289" y="759"/>
                    </a:lnTo>
                    <a:lnTo>
                      <a:pt x="271" y="754"/>
                    </a:lnTo>
                    <a:lnTo>
                      <a:pt x="253" y="748"/>
                    </a:lnTo>
                    <a:lnTo>
                      <a:pt x="235" y="741"/>
                    </a:lnTo>
                    <a:lnTo>
                      <a:pt x="219" y="733"/>
                    </a:lnTo>
                    <a:lnTo>
                      <a:pt x="202" y="724"/>
                    </a:lnTo>
                    <a:lnTo>
                      <a:pt x="186" y="715"/>
                    </a:lnTo>
                    <a:lnTo>
                      <a:pt x="171" y="705"/>
                    </a:lnTo>
                    <a:lnTo>
                      <a:pt x="155" y="694"/>
                    </a:lnTo>
                    <a:lnTo>
                      <a:pt x="141" y="683"/>
                    </a:lnTo>
                    <a:lnTo>
                      <a:pt x="126" y="670"/>
                    </a:lnTo>
                    <a:lnTo>
                      <a:pt x="113" y="658"/>
                    </a:lnTo>
                    <a:lnTo>
                      <a:pt x="101" y="645"/>
                    </a:lnTo>
                    <a:lnTo>
                      <a:pt x="88" y="631"/>
                    </a:lnTo>
                    <a:lnTo>
                      <a:pt x="77" y="616"/>
                    </a:lnTo>
                    <a:lnTo>
                      <a:pt x="66" y="601"/>
                    </a:lnTo>
                    <a:lnTo>
                      <a:pt x="57" y="585"/>
                    </a:lnTo>
                    <a:lnTo>
                      <a:pt x="47" y="569"/>
                    </a:lnTo>
                    <a:lnTo>
                      <a:pt x="39" y="553"/>
                    </a:lnTo>
                    <a:lnTo>
                      <a:pt x="30" y="536"/>
                    </a:lnTo>
                    <a:lnTo>
                      <a:pt x="24" y="518"/>
                    </a:lnTo>
                    <a:lnTo>
                      <a:pt x="17" y="500"/>
                    </a:lnTo>
                    <a:lnTo>
                      <a:pt x="12" y="482"/>
                    </a:lnTo>
                    <a:lnTo>
                      <a:pt x="9" y="463"/>
                    </a:lnTo>
                    <a:lnTo>
                      <a:pt x="5" y="445"/>
                    </a:lnTo>
                    <a:lnTo>
                      <a:pt x="3" y="426"/>
                    </a:lnTo>
                    <a:lnTo>
                      <a:pt x="0" y="405"/>
                    </a:lnTo>
                    <a:lnTo>
                      <a:pt x="0" y="386"/>
                    </a:lnTo>
                    <a:lnTo>
                      <a:pt x="0" y="366"/>
                    </a:lnTo>
                    <a:lnTo>
                      <a:pt x="3" y="346"/>
                    </a:lnTo>
                    <a:lnTo>
                      <a:pt x="5" y="327"/>
                    </a:lnTo>
                    <a:lnTo>
                      <a:pt x="9" y="308"/>
                    </a:lnTo>
                    <a:lnTo>
                      <a:pt x="12" y="290"/>
                    </a:lnTo>
                    <a:lnTo>
                      <a:pt x="17" y="271"/>
                    </a:lnTo>
                    <a:lnTo>
                      <a:pt x="24" y="253"/>
                    </a:lnTo>
                    <a:lnTo>
                      <a:pt x="30" y="236"/>
                    </a:lnTo>
                    <a:lnTo>
                      <a:pt x="39" y="219"/>
                    </a:lnTo>
                    <a:lnTo>
                      <a:pt x="47" y="202"/>
                    </a:lnTo>
                    <a:lnTo>
                      <a:pt x="57" y="186"/>
                    </a:lnTo>
                    <a:lnTo>
                      <a:pt x="66" y="170"/>
                    </a:lnTo>
                    <a:lnTo>
                      <a:pt x="77" y="156"/>
                    </a:lnTo>
                    <a:lnTo>
                      <a:pt x="88" y="141"/>
                    </a:lnTo>
                    <a:lnTo>
                      <a:pt x="101" y="127"/>
                    </a:lnTo>
                    <a:lnTo>
                      <a:pt x="113" y="114"/>
                    </a:lnTo>
                    <a:lnTo>
                      <a:pt x="126" y="100"/>
                    </a:lnTo>
                    <a:lnTo>
                      <a:pt x="141" y="88"/>
                    </a:lnTo>
                    <a:lnTo>
                      <a:pt x="155" y="76"/>
                    </a:lnTo>
                    <a:lnTo>
                      <a:pt x="171" y="66"/>
                    </a:lnTo>
                    <a:lnTo>
                      <a:pt x="186" y="56"/>
                    </a:lnTo>
                    <a:lnTo>
                      <a:pt x="202" y="46"/>
                    </a:lnTo>
                    <a:lnTo>
                      <a:pt x="219" y="38"/>
                    </a:lnTo>
                    <a:lnTo>
                      <a:pt x="235" y="31"/>
                    </a:lnTo>
                    <a:lnTo>
                      <a:pt x="253" y="24"/>
                    </a:lnTo>
                    <a:lnTo>
                      <a:pt x="271" y="18"/>
                    </a:lnTo>
                    <a:lnTo>
                      <a:pt x="289" y="13"/>
                    </a:lnTo>
                    <a:lnTo>
                      <a:pt x="309" y="8"/>
                    </a:lnTo>
                    <a:lnTo>
                      <a:pt x="327" y="4"/>
                    </a:lnTo>
                    <a:lnTo>
                      <a:pt x="347" y="2"/>
                    </a:lnTo>
                    <a:lnTo>
                      <a:pt x="366" y="1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990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267000" y="4524480"/>
                <a:ext cx="303120" cy="303120"/>
              </a:xfrm>
              <a:custGeom>
                <a:avLst/>
                <a:gdLst/>
                <a:ahLst/>
                <a:rect l="l" t="t" r="r" b="b"/>
                <a:pathLst>
                  <a:path w="764" h="763">
                    <a:moveTo>
                      <a:pt x="383" y="0"/>
                    </a:moveTo>
                    <a:lnTo>
                      <a:pt x="402" y="0"/>
                    </a:lnTo>
                    <a:lnTo>
                      <a:pt x="421" y="1"/>
                    </a:lnTo>
                    <a:lnTo>
                      <a:pt x="440" y="3"/>
                    </a:lnTo>
                    <a:lnTo>
                      <a:pt x="459" y="7"/>
                    </a:lnTo>
                    <a:lnTo>
                      <a:pt x="477" y="12"/>
                    </a:lnTo>
                    <a:lnTo>
                      <a:pt x="495" y="17"/>
                    </a:lnTo>
                    <a:lnTo>
                      <a:pt x="513" y="23"/>
                    </a:lnTo>
                    <a:lnTo>
                      <a:pt x="530" y="30"/>
                    </a:lnTo>
                    <a:lnTo>
                      <a:pt x="547" y="37"/>
                    </a:lnTo>
                    <a:lnTo>
                      <a:pt x="564" y="45"/>
                    </a:lnTo>
                    <a:lnTo>
                      <a:pt x="581" y="55"/>
                    </a:lnTo>
                    <a:lnTo>
                      <a:pt x="595" y="65"/>
                    </a:lnTo>
                    <a:lnTo>
                      <a:pt x="611" y="75"/>
                    </a:lnTo>
                    <a:lnTo>
                      <a:pt x="625" y="87"/>
                    </a:lnTo>
                    <a:lnTo>
                      <a:pt x="639" y="99"/>
                    </a:lnTo>
                    <a:lnTo>
                      <a:pt x="653" y="111"/>
                    </a:lnTo>
                    <a:lnTo>
                      <a:pt x="665" y="125"/>
                    </a:lnTo>
                    <a:lnTo>
                      <a:pt x="677" y="139"/>
                    </a:lnTo>
                    <a:lnTo>
                      <a:pt x="689" y="153"/>
                    </a:lnTo>
                    <a:lnTo>
                      <a:pt x="698" y="168"/>
                    </a:lnTo>
                    <a:lnTo>
                      <a:pt x="709" y="183"/>
                    </a:lnTo>
                    <a:lnTo>
                      <a:pt x="717" y="199"/>
                    </a:lnTo>
                    <a:lnTo>
                      <a:pt x="726" y="216"/>
                    </a:lnTo>
                    <a:lnTo>
                      <a:pt x="734" y="233"/>
                    </a:lnTo>
                    <a:lnTo>
                      <a:pt x="741" y="251"/>
                    </a:lnTo>
                    <a:lnTo>
                      <a:pt x="747" y="267"/>
                    </a:lnTo>
                    <a:lnTo>
                      <a:pt x="752" y="287"/>
                    </a:lnTo>
                    <a:lnTo>
                      <a:pt x="756" y="305"/>
                    </a:lnTo>
                    <a:lnTo>
                      <a:pt x="759" y="324"/>
                    </a:lnTo>
                    <a:lnTo>
                      <a:pt x="762" y="342"/>
                    </a:lnTo>
                    <a:lnTo>
                      <a:pt x="764" y="362"/>
                    </a:lnTo>
                    <a:lnTo>
                      <a:pt x="764" y="381"/>
                    </a:lnTo>
                    <a:lnTo>
                      <a:pt x="764" y="401"/>
                    </a:lnTo>
                    <a:lnTo>
                      <a:pt x="762" y="420"/>
                    </a:lnTo>
                    <a:lnTo>
                      <a:pt x="759" y="439"/>
                    </a:lnTo>
                    <a:lnTo>
                      <a:pt x="756" y="458"/>
                    </a:lnTo>
                    <a:lnTo>
                      <a:pt x="752" y="476"/>
                    </a:lnTo>
                    <a:lnTo>
                      <a:pt x="747" y="494"/>
                    </a:lnTo>
                    <a:lnTo>
                      <a:pt x="741" y="512"/>
                    </a:lnTo>
                    <a:lnTo>
                      <a:pt x="734" y="530"/>
                    </a:lnTo>
                    <a:lnTo>
                      <a:pt x="726" y="547"/>
                    </a:lnTo>
                    <a:lnTo>
                      <a:pt x="717" y="562"/>
                    </a:lnTo>
                    <a:lnTo>
                      <a:pt x="709" y="579"/>
                    </a:lnTo>
                    <a:lnTo>
                      <a:pt x="698" y="595"/>
                    </a:lnTo>
                    <a:lnTo>
                      <a:pt x="689" y="609"/>
                    </a:lnTo>
                    <a:lnTo>
                      <a:pt x="677" y="624"/>
                    </a:lnTo>
                    <a:lnTo>
                      <a:pt x="665" y="638"/>
                    </a:lnTo>
                    <a:lnTo>
                      <a:pt x="653" y="651"/>
                    </a:lnTo>
                    <a:lnTo>
                      <a:pt x="639" y="663"/>
                    </a:lnTo>
                    <a:lnTo>
                      <a:pt x="625" y="675"/>
                    </a:lnTo>
                    <a:lnTo>
                      <a:pt x="611" y="687"/>
                    </a:lnTo>
                    <a:lnTo>
                      <a:pt x="595" y="698"/>
                    </a:lnTo>
                    <a:lnTo>
                      <a:pt x="581" y="708"/>
                    </a:lnTo>
                    <a:lnTo>
                      <a:pt x="564" y="717"/>
                    </a:lnTo>
                    <a:lnTo>
                      <a:pt x="547" y="726"/>
                    </a:lnTo>
                    <a:lnTo>
                      <a:pt x="530" y="733"/>
                    </a:lnTo>
                    <a:lnTo>
                      <a:pt x="513" y="740"/>
                    </a:lnTo>
                    <a:lnTo>
                      <a:pt x="495" y="746"/>
                    </a:lnTo>
                    <a:lnTo>
                      <a:pt x="477" y="751"/>
                    </a:lnTo>
                    <a:lnTo>
                      <a:pt x="459" y="756"/>
                    </a:lnTo>
                    <a:lnTo>
                      <a:pt x="440" y="759"/>
                    </a:lnTo>
                    <a:lnTo>
                      <a:pt x="421" y="762"/>
                    </a:lnTo>
                    <a:lnTo>
                      <a:pt x="402" y="763"/>
                    </a:lnTo>
                    <a:lnTo>
                      <a:pt x="383" y="763"/>
                    </a:lnTo>
                    <a:lnTo>
                      <a:pt x="362" y="763"/>
                    </a:lnTo>
                    <a:lnTo>
                      <a:pt x="343" y="762"/>
                    </a:lnTo>
                    <a:lnTo>
                      <a:pt x="324" y="759"/>
                    </a:lnTo>
                    <a:lnTo>
                      <a:pt x="306" y="756"/>
                    </a:lnTo>
                    <a:lnTo>
                      <a:pt x="287" y="751"/>
                    </a:lnTo>
                    <a:lnTo>
                      <a:pt x="269" y="746"/>
                    </a:lnTo>
                    <a:lnTo>
                      <a:pt x="251" y="740"/>
                    </a:lnTo>
                    <a:lnTo>
                      <a:pt x="234" y="733"/>
                    </a:lnTo>
                    <a:lnTo>
                      <a:pt x="217" y="726"/>
                    </a:lnTo>
                    <a:lnTo>
                      <a:pt x="200" y="717"/>
                    </a:lnTo>
                    <a:lnTo>
                      <a:pt x="185" y="708"/>
                    </a:lnTo>
                    <a:lnTo>
                      <a:pt x="169" y="698"/>
                    </a:lnTo>
                    <a:lnTo>
                      <a:pt x="155" y="687"/>
                    </a:lnTo>
                    <a:lnTo>
                      <a:pt x="139" y="675"/>
                    </a:lnTo>
                    <a:lnTo>
                      <a:pt x="126" y="663"/>
                    </a:lnTo>
                    <a:lnTo>
                      <a:pt x="113" y="651"/>
                    </a:lnTo>
                    <a:lnTo>
                      <a:pt x="99" y="638"/>
                    </a:lnTo>
                    <a:lnTo>
                      <a:pt x="87" y="624"/>
                    </a:lnTo>
                    <a:lnTo>
                      <a:pt x="77" y="609"/>
                    </a:lnTo>
                    <a:lnTo>
                      <a:pt x="66" y="595"/>
                    </a:lnTo>
                    <a:lnTo>
                      <a:pt x="56" y="579"/>
                    </a:lnTo>
                    <a:lnTo>
                      <a:pt x="47" y="562"/>
                    </a:lnTo>
                    <a:lnTo>
                      <a:pt x="38" y="547"/>
                    </a:lnTo>
                    <a:lnTo>
                      <a:pt x="31" y="530"/>
                    </a:lnTo>
                    <a:lnTo>
                      <a:pt x="24" y="512"/>
                    </a:lnTo>
                    <a:lnTo>
                      <a:pt x="18" y="494"/>
                    </a:lnTo>
                    <a:lnTo>
                      <a:pt x="13" y="476"/>
                    </a:lnTo>
                    <a:lnTo>
                      <a:pt x="8" y="458"/>
                    </a:lnTo>
                    <a:lnTo>
                      <a:pt x="5" y="439"/>
                    </a:lnTo>
                    <a:lnTo>
                      <a:pt x="2" y="420"/>
                    </a:lnTo>
                    <a:lnTo>
                      <a:pt x="1" y="401"/>
                    </a:lnTo>
                    <a:lnTo>
                      <a:pt x="0" y="381"/>
                    </a:lnTo>
                    <a:lnTo>
                      <a:pt x="1" y="362"/>
                    </a:lnTo>
                    <a:lnTo>
                      <a:pt x="2" y="342"/>
                    </a:lnTo>
                    <a:lnTo>
                      <a:pt x="5" y="324"/>
                    </a:lnTo>
                    <a:lnTo>
                      <a:pt x="8" y="305"/>
                    </a:lnTo>
                    <a:lnTo>
                      <a:pt x="13" y="287"/>
                    </a:lnTo>
                    <a:lnTo>
                      <a:pt x="18" y="267"/>
                    </a:lnTo>
                    <a:lnTo>
                      <a:pt x="24" y="251"/>
                    </a:lnTo>
                    <a:lnTo>
                      <a:pt x="31" y="233"/>
                    </a:lnTo>
                    <a:lnTo>
                      <a:pt x="38" y="216"/>
                    </a:lnTo>
                    <a:lnTo>
                      <a:pt x="47" y="199"/>
                    </a:lnTo>
                    <a:lnTo>
                      <a:pt x="56" y="183"/>
                    </a:lnTo>
                    <a:lnTo>
                      <a:pt x="66" y="168"/>
                    </a:lnTo>
                    <a:lnTo>
                      <a:pt x="77" y="153"/>
                    </a:lnTo>
                    <a:lnTo>
                      <a:pt x="87" y="139"/>
                    </a:lnTo>
                    <a:lnTo>
                      <a:pt x="99" y="125"/>
                    </a:lnTo>
                    <a:lnTo>
                      <a:pt x="113" y="111"/>
                    </a:lnTo>
                    <a:lnTo>
                      <a:pt x="126" y="99"/>
                    </a:lnTo>
                    <a:lnTo>
                      <a:pt x="139" y="87"/>
                    </a:lnTo>
                    <a:lnTo>
                      <a:pt x="155" y="75"/>
                    </a:lnTo>
                    <a:lnTo>
                      <a:pt x="169" y="65"/>
                    </a:lnTo>
                    <a:lnTo>
                      <a:pt x="185" y="55"/>
                    </a:lnTo>
                    <a:lnTo>
                      <a:pt x="200" y="45"/>
                    </a:lnTo>
                    <a:lnTo>
                      <a:pt x="217" y="37"/>
                    </a:lnTo>
                    <a:lnTo>
                      <a:pt x="234" y="30"/>
                    </a:lnTo>
                    <a:lnTo>
                      <a:pt x="251" y="23"/>
                    </a:lnTo>
                    <a:lnTo>
                      <a:pt x="269" y="17"/>
                    </a:lnTo>
                    <a:lnTo>
                      <a:pt x="287" y="12"/>
                    </a:lnTo>
                    <a:lnTo>
                      <a:pt x="306" y="7"/>
                    </a:lnTo>
                    <a:lnTo>
                      <a:pt x="324" y="3"/>
                    </a:lnTo>
                    <a:lnTo>
                      <a:pt x="343" y="1"/>
                    </a:lnTo>
                    <a:lnTo>
                      <a:pt x="362" y="0"/>
                    </a:lnTo>
                    <a:lnTo>
                      <a:pt x="383" y="0"/>
                    </a:lnTo>
                    <a:close/>
                  </a:path>
                </a:pathLst>
              </a:custGeom>
              <a:solidFill>
                <a:srgbClr val="df9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268440" y="452592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756" h="756">
                    <a:moveTo>
                      <a:pt x="378" y="0"/>
                    </a:moveTo>
                    <a:lnTo>
                      <a:pt x="397" y="0"/>
                    </a:lnTo>
                    <a:lnTo>
                      <a:pt x="416" y="2"/>
                    </a:lnTo>
                    <a:lnTo>
                      <a:pt x="435" y="5"/>
                    </a:lnTo>
                    <a:lnTo>
                      <a:pt x="454" y="7"/>
                    </a:lnTo>
                    <a:lnTo>
                      <a:pt x="472" y="12"/>
                    </a:lnTo>
                    <a:lnTo>
                      <a:pt x="490" y="17"/>
                    </a:lnTo>
                    <a:lnTo>
                      <a:pt x="507" y="23"/>
                    </a:lnTo>
                    <a:lnTo>
                      <a:pt x="525" y="30"/>
                    </a:lnTo>
                    <a:lnTo>
                      <a:pt x="542" y="37"/>
                    </a:lnTo>
                    <a:lnTo>
                      <a:pt x="558" y="45"/>
                    </a:lnTo>
                    <a:lnTo>
                      <a:pt x="573" y="55"/>
                    </a:lnTo>
                    <a:lnTo>
                      <a:pt x="589" y="65"/>
                    </a:lnTo>
                    <a:lnTo>
                      <a:pt x="604" y="75"/>
                    </a:lnTo>
                    <a:lnTo>
                      <a:pt x="618" y="86"/>
                    </a:lnTo>
                    <a:lnTo>
                      <a:pt x="632" y="98"/>
                    </a:lnTo>
                    <a:lnTo>
                      <a:pt x="645" y="110"/>
                    </a:lnTo>
                    <a:lnTo>
                      <a:pt x="657" y="123"/>
                    </a:lnTo>
                    <a:lnTo>
                      <a:pt x="669" y="138"/>
                    </a:lnTo>
                    <a:lnTo>
                      <a:pt x="681" y="152"/>
                    </a:lnTo>
                    <a:lnTo>
                      <a:pt x="691" y="167"/>
                    </a:lnTo>
                    <a:lnTo>
                      <a:pt x="702" y="182"/>
                    </a:lnTo>
                    <a:lnTo>
                      <a:pt x="710" y="198"/>
                    </a:lnTo>
                    <a:lnTo>
                      <a:pt x="718" y="215"/>
                    </a:lnTo>
                    <a:lnTo>
                      <a:pt x="726" y="231"/>
                    </a:lnTo>
                    <a:lnTo>
                      <a:pt x="733" y="248"/>
                    </a:lnTo>
                    <a:lnTo>
                      <a:pt x="739" y="266"/>
                    </a:lnTo>
                    <a:lnTo>
                      <a:pt x="744" y="283"/>
                    </a:lnTo>
                    <a:lnTo>
                      <a:pt x="748" y="302"/>
                    </a:lnTo>
                    <a:lnTo>
                      <a:pt x="752" y="320"/>
                    </a:lnTo>
                    <a:lnTo>
                      <a:pt x="754" y="339"/>
                    </a:lnTo>
                    <a:lnTo>
                      <a:pt x="756" y="359"/>
                    </a:lnTo>
                    <a:lnTo>
                      <a:pt x="756" y="378"/>
                    </a:lnTo>
                    <a:lnTo>
                      <a:pt x="756" y="397"/>
                    </a:lnTo>
                    <a:lnTo>
                      <a:pt x="754" y="416"/>
                    </a:lnTo>
                    <a:lnTo>
                      <a:pt x="752" y="435"/>
                    </a:lnTo>
                    <a:lnTo>
                      <a:pt x="748" y="453"/>
                    </a:lnTo>
                    <a:lnTo>
                      <a:pt x="744" y="473"/>
                    </a:lnTo>
                    <a:lnTo>
                      <a:pt x="739" y="491"/>
                    </a:lnTo>
                    <a:lnTo>
                      <a:pt x="733" y="507"/>
                    </a:lnTo>
                    <a:lnTo>
                      <a:pt x="726" y="525"/>
                    </a:lnTo>
                    <a:lnTo>
                      <a:pt x="718" y="542"/>
                    </a:lnTo>
                    <a:lnTo>
                      <a:pt x="710" y="558"/>
                    </a:lnTo>
                    <a:lnTo>
                      <a:pt x="702" y="573"/>
                    </a:lnTo>
                    <a:lnTo>
                      <a:pt x="691" y="589"/>
                    </a:lnTo>
                    <a:lnTo>
                      <a:pt x="681" y="603"/>
                    </a:lnTo>
                    <a:lnTo>
                      <a:pt x="669" y="618"/>
                    </a:lnTo>
                    <a:lnTo>
                      <a:pt x="657" y="632"/>
                    </a:lnTo>
                    <a:lnTo>
                      <a:pt x="645" y="645"/>
                    </a:lnTo>
                    <a:lnTo>
                      <a:pt x="632" y="657"/>
                    </a:lnTo>
                    <a:lnTo>
                      <a:pt x="618" y="669"/>
                    </a:lnTo>
                    <a:lnTo>
                      <a:pt x="604" y="680"/>
                    </a:lnTo>
                    <a:lnTo>
                      <a:pt x="589" y="691"/>
                    </a:lnTo>
                    <a:lnTo>
                      <a:pt x="573" y="702"/>
                    </a:lnTo>
                    <a:lnTo>
                      <a:pt x="558" y="710"/>
                    </a:lnTo>
                    <a:lnTo>
                      <a:pt x="542" y="718"/>
                    </a:lnTo>
                    <a:lnTo>
                      <a:pt x="525" y="726"/>
                    </a:lnTo>
                    <a:lnTo>
                      <a:pt x="507" y="733"/>
                    </a:lnTo>
                    <a:lnTo>
                      <a:pt x="490" y="739"/>
                    </a:lnTo>
                    <a:lnTo>
                      <a:pt x="472" y="744"/>
                    </a:lnTo>
                    <a:lnTo>
                      <a:pt x="454" y="748"/>
                    </a:lnTo>
                    <a:lnTo>
                      <a:pt x="435" y="752"/>
                    </a:lnTo>
                    <a:lnTo>
                      <a:pt x="416" y="754"/>
                    </a:lnTo>
                    <a:lnTo>
                      <a:pt x="397" y="756"/>
                    </a:lnTo>
                    <a:lnTo>
                      <a:pt x="378" y="756"/>
                    </a:lnTo>
                    <a:lnTo>
                      <a:pt x="358" y="756"/>
                    </a:lnTo>
                    <a:lnTo>
                      <a:pt x="339" y="754"/>
                    </a:lnTo>
                    <a:lnTo>
                      <a:pt x="320" y="752"/>
                    </a:lnTo>
                    <a:lnTo>
                      <a:pt x="302" y="748"/>
                    </a:lnTo>
                    <a:lnTo>
                      <a:pt x="284" y="744"/>
                    </a:lnTo>
                    <a:lnTo>
                      <a:pt x="266" y="739"/>
                    </a:lnTo>
                    <a:lnTo>
                      <a:pt x="248" y="733"/>
                    </a:lnTo>
                    <a:lnTo>
                      <a:pt x="231" y="726"/>
                    </a:lnTo>
                    <a:lnTo>
                      <a:pt x="214" y="718"/>
                    </a:lnTo>
                    <a:lnTo>
                      <a:pt x="198" y="710"/>
                    </a:lnTo>
                    <a:lnTo>
                      <a:pt x="182" y="702"/>
                    </a:lnTo>
                    <a:lnTo>
                      <a:pt x="166" y="691"/>
                    </a:lnTo>
                    <a:lnTo>
                      <a:pt x="152" y="680"/>
                    </a:lnTo>
                    <a:lnTo>
                      <a:pt x="138" y="669"/>
                    </a:lnTo>
                    <a:lnTo>
                      <a:pt x="123" y="657"/>
                    </a:lnTo>
                    <a:lnTo>
                      <a:pt x="110" y="645"/>
                    </a:lnTo>
                    <a:lnTo>
                      <a:pt x="98" y="632"/>
                    </a:lnTo>
                    <a:lnTo>
                      <a:pt x="86" y="618"/>
                    </a:lnTo>
                    <a:lnTo>
                      <a:pt x="75" y="603"/>
                    </a:lnTo>
                    <a:lnTo>
                      <a:pt x="64" y="589"/>
                    </a:lnTo>
                    <a:lnTo>
                      <a:pt x="55" y="573"/>
                    </a:lnTo>
                    <a:lnTo>
                      <a:pt x="45" y="558"/>
                    </a:lnTo>
                    <a:lnTo>
                      <a:pt x="37" y="542"/>
                    </a:lnTo>
                    <a:lnTo>
                      <a:pt x="30" y="525"/>
                    </a:lnTo>
                    <a:lnTo>
                      <a:pt x="22" y="507"/>
                    </a:lnTo>
                    <a:lnTo>
                      <a:pt x="16" y="491"/>
                    </a:lnTo>
                    <a:lnTo>
                      <a:pt x="12" y="473"/>
                    </a:lnTo>
                    <a:lnTo>
                      <a:pt x="7" y="453"/>
                    </a:lnTo>
                    <a:lnTo>
                      <a:pt x="4" y="435"/>
                    </a:lnTo>
                    <a:lnTo>
                      <a:pt x="2" y="416"/>
                    </a:lnTo>
                    <a:lnTo>
                      <a:pt x="0" y="397"/>
                    </a:lnTo>
                    <a:lnTo>
                      <a:pt x="0" y="378"/>
                    </a:lnTo>
                    <a:lnTo>
                      <a:pt x="0" y="359"/>
                    </a:lnTo>
                    <a:lnTo>
                      <a:pt x="2" y="339"/>
                    </a:lnTo>
                    <a:lnTo>
                      <a:pt x="4" y="320"/>
                    </a:lnTo>
                    <a:lnTo>
                      <a:pt x="7" y="302"/>
                    </a:lnTo>
                    <a:lnTo>
                      <a:pt x="12" y="283"/>
                    </a:lnTo>
                    <a:lnTo>
                      <a:pt x="16" y="266"/>
                    </a:lnTo>
                    <a:lnTo>
                      <a:pt x="22" y="248"/>
                    </a:lnTo>
                    <a:lnTo>
                      <a:pt x="30" y="231"/>
                    </a:lnTo>
                    <a:lnTo>
                      <a:pt x="37" y="215"/>
                    </a:lnTo>
                    <a:lnTo>
                      <a:pt x="45" y="198"/>
                    </a:lnTo>
                    <a:lnTo>
                      <a:pt x="55" y="182"/>
                    </a:lnTo>
                    <a:lnTo>
                      <a:pt x="64" y="167"/>
                    </a:lnTo>
                    <a:lnTo>
                      <a:pt x="75" y="152"/>
                    </a:lnTo>
                    <a:lnTo>
                      <a:pt x="86" y="138"/>
                    </a:lnTo>
                    <a:lnTo>
                      <a:pt x="98" y="123"/>
                    </a:lnTo>
                    <a:lnTo>
                      <a:pt x="110" y="110"/>
                    </a:lnTo>
                    <a:lnTo>
                      <a:pt x="123" y="98"/>
                    </a:lnTo>
                    <a:lnTo>
                      <a:pt x="138" y="86"/>
                    </a:lnTo>
                    <a:lnTo>
                      <a:pt x="152" y="75"/>
                    </a:lnTo>
                    <a:lnTo>
                      <a:pt x="166" y="65"/>
                    </a:lnTo>
                    <a:lnTo>
                      <a:pt x="182" y="55"/>
                    </a:lnTo>
                    <a:lnTo>
                      <a:pt x="198" y="45"/>
                    </a:lnTo>
                    <a:lnTo>
                      <a:pt x="214" y="37"/>
                    </a:lnTo>
                    <a:lnTo>
                      <a:pt x="231" y="30"/>
                    </a:lnTo>
                    <a:lnTo>
                      <a:pt x="248" y="23"/>
                    </a:lnTo>
                    <a:lnTo>
                      <a:pt x="266" y="17"/>
                    </a:lnTo>
                    <a:lnTo>
                      <a:pt x="284" y="12"/>
                    </a:lnTo>
                    <a:lnTo>
                      <a:pt x="302" y="7"/>
                    </a:lnTo>
                    <a:lnTo>
                      <a:pt x="320" y="5"/>
                    </a:lnTo>
                    <a:lnTo>
                      <a:pt x="339" y="2"/>
                    </a:lnTo>
                    <a:lnTo>
                      <a:pt x="358" y="0"/>
                    </a:lnTo>
                    <a:lnTo>
                      <a:pt x="378" y="0"/>
                    </a:lnTo>
                    <a:close/>
                  </a:path>
                </a:pathLst>
              </a:custGeom>
              <a:solidFill>
                <a:srgbClr val="e39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271680" y="4529160"/>
                <a:ext cx="297000" cy="297000"/>
              </a:xfrm>
              <a:custGeom>
                <a:avLst/>
                <a:gdLst/>
                <a:ahLst/>
                <a:rect l="l" t="t" r="r" b="b"/>
                <a:pathLst>
                  <a:path w="749" h="748">
                    <a:moveTo>
                      <a:pt x="375" y="0"/>
                    </a:moveTo>
                    <a:lnTo>
                      <a:pt x="394" y="1"/>
                    </a:lnTo>
                    <a:lnTo>
                      <a:pt x="412" y="2"/>
                    </a:lnTo>
                    <a:lnTo>
                      <a:pt x="431" y="5"/>
                    </a:lnTo>
                    <a:lnTo>
                      <a:pt x="449" y="8"/>
                    </a:lnTo>
                    <a:lnTo>
                      <a:pt x="467" y="12"/>
                    </a:lnTo>
                    <a:lnTo>
                      <a:pt x="485" y="17"/>
                    </a:lnTo>
                    <a:lnTo>
                      <a:pt x="503" y="23"/>
                    </a:lnTo>
                    <a:lnTo>
                      <a:pt x="520" y="30"/>
                    </a:lnTo>
                    <a:lnTo>
                      <a:pt x="537" y="37"/>
                    </a:lnTo>
                    <a:lnTo>
                      <a:pt x="552" y="45"/>
                    </a:lnTo>
                    <a:lnTo>
                      <a:pt x="568" y="54"/>
                    </a:lnTo>
                    <a:lnTo>
                      <a:pt x="584" y="65"/>
                    </a:lnTo>
                    <a:lnTo>
                      <a:pt x="598" y="74"/>
                    </a:lnTo>
                    <a:lnTo>
                      <a:pt x="612" y="86"/>
                    </a:lnTo>
                    <a:lnTo>
                      <a:pt x="626" y="97"/>
                    </a:lnTo>
                    <a:lnTo>
                      <a:pt x="639" y="110"/>
                    </a:lnTo>
                    <a:lnTo>
                      <a:pt x="651" y="123"/>
                    </a:lnTo>
                    <a:lnTo>
                      <a:pt x="663" y="137"/>
                    </a:lnTo>
                    <a:lnTo>
                      <a:pt x="674" y="151"/>
                    </a:lnTo>
                    <a:lnTo>
                      <a:pt x="684" y="165"/>
                    </a:lnTo>
                    <a:lnTo>
                      <a:pt x="694" y="181"/>
                    </a:lnTo>
                    <a:lnTo>
                      <a:pt x="704" y="197"/>
                    </a:lnTo>
                    <a:lnTo>
                      <a:pt x="712" y="212"/>
                    </a:lnTo>
                    <a:lnTo>
                      <a:pt x="719" y="229"/>
                    </a:lnTo>
                    <a:lnTo>
                      <a:pt x="726" y="246"/>
                    </a:lnTo>
                    <a:lnTo>
                      <a:pt x="732" y="264"/>
                    </a:lnTo>
                    <a:lnTo>
                      <a:pt x="737" y="281"/>
                    </a:lnTo>
                    <a:lnTo>
                      <a:pt x="741" y="299"/>
                    </a:lnTo>
                    <a:lnTo>
                      <a:pt x="744" y="318"/>
                    </a:lnTo>
                    <a:lnTo>
                      <a:pt x="747" y="336"/>
                    </a:lnTo>
                    <a:lnTo>
                      <a:pt x="748" y="355"/>
                    </a:lnTo>
                    <a:lnTo>
                      <a:pt x="749" y="374"/>
                    </a:lnTo>
                    <a:lnTo>
                      <a:pt x="748" y="393"/>
                    </a:lnTo>
                    <a:lnTo>
                      <a:pt x="747" y="413"/>
                    </a:lnTo>
                    <a:lnTo>
                      <a:pt x="744" y="432"/>
                    </a:lnTo>
                    <a:lnTo>
                      <a:pt x="741" y="450"/>
                    </a:lnTo>
                    <a:lnTo>
                      <a:pt x="737" y="468"/>
                    </a:lnTo>
                    <a:lnTo>
                      <a:pt x="732" y="486"/>
                    </a:lnTo>
                    <a:lnTo>
                      <a:pt x="726" y="502"/>
                    </a:lnTo>
                    <a:lnTo>
                      <a:pt x="719" y="519"/>
                    </a:lnTo>
                    <a:lnTo>
                      <a:pt x="712" y="536"/>
                    </a:lnTo>
                    <a:lnTo>
                      <a:pt x="704" y="553"/>
                    </a:lnTo>
                    <a:lnTo>
                      <a:pt x="694" y="568"/>
                    </a:lnTo>
                    <a:lnTo>
                      <a:pt x="684" y="584"/>
                    </a:lnTo>
                    <a:lnTo>
                      <a:pt x="674" y="598"/>
                    </a:lnTo>
                    <a:lnTo>
                      <a:pt x="663" y="613"/>
                    </a:lnTo>
                    <a:lnTo>
                      <a:pt x="651" y="626"/>
                    </a:lnTo>
                    <a:lnTo>
                      <a:pt x="639" y="639"/>
                    </a:lnTo>
                    <a:lnTo>
                      <a:pt x="626" y="651"/>
                    </a:lnTo>
                    <a:lnTo>
                      <a:pt x="612" y="663"/>
                    </a:lnTo>
                    <a:lnTo>
                      <a:pt x="598" y="674"/>
                    </a:lnTo>
                    <a:lnTo>
                      <a:pt x="584" y="685"/>
                    </a:lnTo>
                    <a:lnTo>
                      <a:pt x="568" y="694"/>
                    </a:lnTo>
                    <a:lnTo>
                      <a:pt x="552" y="704"/>
                    </a:lnTo>
                    <a:lnTo>
                      <a:pt x="537" y="711"/>
                    </a:lnTo>
                    <a:lnTo>
                      <a:pt x="520" y="720"/>
                    </a:lnTo>
                    <a:lnTo>
                      <a:pt x="503" y="726"/>
                    </a:lnTo>
                    <a:lnTo>
                      <a:pt x="485" y="732"/>
                    </a:lnTo>
                    <a:lnTo>
                      <a:pt x="467" y="736"/>
                    </a:lnTo>
                    <a:lnTo>
                      <a:pt x="449" y="741"/>
                    </a:lnTo>
                    <a:lnTo>
                      <a:pt x="431" y="745"/>
                    </a:lnTo>
                    <a:lnTo>
                      <a:pt x="412" y="747"/>
                    </a:lnTo>
                    <a:lnTo>
                      <a:pt x="394" y="748"/>
                    </a:lnTo>
                    <a:lnTo>
                      <a:pt x="375" y="748"/>
                    </a:lnTo>
                    <a:lnTo>
                      <a:pt x="356" y="748"/>
                    </a:lnTo>
                    <a:lnTo>
                      <a:pt x="336" y="747"/>
                    </a:lnTo>
                    <a:lnTo>
                      <a:pt x="317" y="745"/>
                    </a:lnTo>
                    <a:lnTo>
                      <a:pt x="299" y="741"/>
                    </a:lnTo>
                    <a:lnTo>
                      <a:pt x="281" y="736"/>
                    </a:lnTo>
                    <a:lnTo>
                      <a:pt x="263" y="732"/>
                    </a:lnTo>
                    <a:lnTo>
                      <a:pt x="245" y="726"/>
                    </a:lnTo>
                    <a:lnTo>
                      <a:pt x="228" y="720"/>
                    </a:lnTo>
                    <a:lnTo>
                      <a:pt x="212" y="711"/>
                    </a:lnTo>
                    <a:lnTo>
                      <a:pt x="196" y="704"/>
                    </a:lnTo>
                    <a:lnTo>
                      <a:pt x="180" y="694"/>
                    </a:lnTo>
                    <a:lnTo>
                      <a:pt x="165" y="685"/>
                    </a:lnTo>
                    <a:lnTo>
                      <a:pt x="150" y="674"/>
                    </a:lnTo>
                    <a:lnTo>
                      <a:pt x="136" y="663"/>
                    </a:lnTo>
                    <a:lnTo>
                      <a:pt x="123" y="651"/>
                    </a:lnTo>
                    <a:lnTo>
                      <a:pt x="110" y="639"/>
                    </a:lnTo>
                    <a:lnTo>
                      <a:pt x="98" y="626"/>
                    </a:lnTo>
                    <a:lnTo>
                      <a:pt x="86" y="613"/>
                    </a:lnTo>
                    <a:lnTo>
                      <a:pt x="75" y="598"/>
                    </a:lnTo>
                    <a:lnTo>
                      <a:pt x="64" y="584"/>
                    </a:lnTo>
                    <a:lnTo>
                      <a:pt x="54" y="568"/>
                    </a:lnTo>
                    <a:lnTo>
                      <a:pt x="45" y="553"/>
                    </a:lnTo>
                    <a:lnTo>
                      <a:pt x="36" y="536"/>
                    </a:lnTo>
                    <a:lnTo>
                      <a:pt x="29" y="519"/>
                    </a:lnTo>
                    <a:lnTo>
                      <a:pt x="22" y="502"/>
                    </a:lnTo>
                    <a:lnTo>
                      <a:pt x="17" y="486"/>
                    </a:lnTo>
                    <a:lnTo>
                      <a:pt x="11" y="468"/>
                    </a:lnTo>
                    <a:lnTo>
                      <a:pt x="8" y="450"/>
                    </a:lnTo>
                    <a:lnTo>
                      <a:pt x="4" y="432"/>
                    </a:lnTo>
                    <a:lnTo>
                      <a:pt x="2" y="413"/>
                    </a:lnTo>
                    <a:lnTo>
                      <a:pt x="0" y="393"/>
                    </a:lnTo>
                    <a:lnTo>
                      <a:pt x="0" y="374"/>
                    </a:lnTo>
                    <a:lnTo>
                      <a:pt x="0" y="355"/>
                    </a:lnTo>
                    <a:lnTo>
                      <a:pt x="2" y="336"/>
                    </a:lnTo>
                    <a:lnTo>
                      <a:pt x="4" y="318"/>
                    </a:lnTo>
                    <a:lnTo>
                      <a:pt x="8" y="299"/>
                    </a:lnTo>
                    <a:lnTo>
                      <a:pt x="11" y="281"/>
                    </a:lnTo>
                    <a:lnTo>
                      <a:pt x="17" y="264"/>
                    </a:lnTo>
                    <a:lnTo>
                      <a:pt x="22" y="246"/>
                    </a:lnTo>
                    <a:lnTo>
                      <a:pt x="29" y="229"/>
                    </a:lnTo>
                    <a:lnTo>
                      <a:pt x="36" y="212"/>
                    </a:lnTo>
                    <a:lnTo>
                      <a:pt x="45" y="197"/>
                    </a:lnTo>
                    <a:lnTo>
                      <a:pt x="54" y="181"/>
                    </a:lnTo>
                    <a:lnTo>
                      <a:pt x="64" y="165"/>
                    </a:lnTo>
                    <a:lnTo>
                      <a:pt x="75" y="151"/>
                    </a:lnTo>
                    <a:lnTo>
                      <a:pt x="86" y="137"/>
                    </a:lnTo>
                    <a:lnTo>
                      <a:pt x="98" y="123"/>
                    </a:lnTo>
                    <a:lnTo>
                      <a:pt x="110" y="110"/>
                    </a:lnTo>
                    <a:lnTo>
                      <a:pt x="123" y="97"/>
                    </a:lnTo>
                    <a:lnTo>
                      <a:pt x="136" y="86"/>
                    </a:lnTo>
                    <a:lnTo>
                      <a:pt x="150" y="74"/>
                    </a:lnTo>
                    <a:lnTo>
                      <a:pt x="165" y="65"/>
                    </a:lnTo>
                    <a:lnTo>
                      <a:pt x="180" y="54"/>
                    </a:lnTo>
                    <a:lnTo>
                      <a:pt x="196" y="45"/>
                    </a:lnTo>
                    <a:lnTo>
                      <a:pt x="212" y="37"/>
                    </a:lnTo>
                    <a:lnTo>
                      <a:pt x="228" y="30"/>
                    </a:lnTo>
                    <a:lnTo>
                      <a:pt x="245" y="23"/>
                    </a:lnTo>
                    <a:lnTo>
                      <a:pt x="263" y="17"/>
                    </a:lnTo>
                    <a:lnTo>
                      <a:pt x="281" y="12"/>
                    </a:lnTo>
                    <a:lnTo>
                      <a:pt x="299" y="8"/>
                    </a:lnTo>
                    <a:lnTo>
                      <a:pt x="317" y="5"/>
                    </a:lnTo>
                    <a:lnTo>
                      <a:pt x="336" y="2"/>
                    </a:lnTo>
                    <a:lnTo>
                      <a:pt x="356" y="1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79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273480" y="4530600"/>
                <a:ext cx="293400" cy="295560"/>
              </a:xfrm>
              <a:custGeom>
                <a:avLst/>
                <a:gdLst/>
                <a:ahLst/>
                <a:rect l="l" t="t" r="r" b="b"/>
                <a:pathLst>
                  <a:path w="742" h="741">
                    <a:moveTo>
                      <a:pt x="371" y="0"/>
                    </a:moveTo>
                    <a:lnTo>
                      <a:pt x="390" y="1"/>
                    </a:lnTo>
                    <a:lnTo>
                      <a:pt x="409" y="2"/>
                    </a:lnTo>
                    <a:lnTo>
                      <a:pt x="427" y="5"/>
                    </a:lnTo>
                    <a:lnTo>
                      <a:pt x="445" y="8"/>
                    </a:lnTo>
                    <a:lnTo>
                      <a:pt x="463" y="12"/>
                    </a:lnTo>
                    <a:lnTo>
                      <a:pt x="481" y="17"/>
                    </a:lnTo>
                    <a:lnTo>
                      <a:pt x="498" y="23"/>
                    </a:lnTo>
                    <a:lnTo>
                      <a:pt x="515" y="30"/>
                    </a:lnTo>
                    <a:lnTo>
                      <a:pt x="532" y="37"/>
                    </a:lnTo>
                    <a:lnTo>
                      <a:pt x="547" y="45"/>
                    </a:lnTo>
                    <a:lnTo>
                      <a:pt x="563" y="54"/>
                    </a:lnTo>
                    <a:lnTo>
                      <a:pt x="578" y="63"/>
                    </a:lnTo>
                    <a:lnTo>
                      <a:pt x="593" y="74"/>
                    </a:lnTo>
                    <a:lnTo>
                      <a:pt x="606" y="85"/>
                    </a:lnTo>
                    <a:lnTo>
                      <a:pt x="620" y="97"/>
                    </a:lnTo>
                    <a:lnTo>
                      <a:pt x="632" y="109"/>
                    </a:lnTo>
                    <a:lnTo>
                      <a:pt x="646" y="122"/>
                    </a:lnTo>
                    <a:lnTo>
                      <a:pt x="656" y="135"/>
                    </a:lnTo>
                    <a:lnTo>
                      <a:pt x="667" y="150"/>
                    </a:lnTo>
                    <a:lnTo>
                      <a:pt x="678" y="164"/>
                    </a:lnTo>
                    <a:lnTo>
                      <a:pt x="688" y="179"/>
                    </a:lnTo>
                    <a:lnTo>
                      <a:pt x="697" y="194"/>
                    </a:lnTo>
                    <a:lnTo>
                      <a:pt x="704" y="211"/>
                    </a:lnTo>
                    <a:lnTo>
                      <a:pt x="713" y="227"/>
                    </a:lnTo>
                    <a:lnTo>
                      <a:pt x="719" y="243"/>
                    </a:lnTo>
                    <a:lnTo>
                      <a:pt x="725" y="261"/>
                    </a:lnTo>
                    <a:lnTo>
                      <a:pt x="730" y="278"/>
                    </a:lnTo>
                    <a:lnTo>
                      <a:pt x="734" y="296"/>
                    </a:lnTo>
                    <a:lnTo>
                      <a:pt x="737" y="314"/>
                    </a:lnTo>
                    <a:lnTo>
                      <a:pt x="739" y="333"/>
                    </a:lnTo>
                    <a:lnTo>
                      <a:pt x="742" y="353"/>
                    </a:lnTo>
                    <a:lnTo>
                      <a:pt x="742" y="371"/>
                    </a:lnTo>
                    <a:lnTo>
                      <a:pt x="742" y="390"/>
                    </a:lnTo>
                    <a:lnTo>
                      <a:pt x="739" y="409"/>
                    </a:lnTo>
                    <a:lnTo>
                      <a:pt x="737" y="427"/>
                    </a:lnTo>
                    <a:lnTo>
                      <a:pt x="734" y="446"/>
                    </a:lnTo>
                    <a:lnTo>
                      <a:pt x="730" y="463"/>
                    </a:lnTo>
                    <a:lnTo>
                      <a:pt x="725" y="481"/>
                    </a:lnTo>
                    <a:lnTo>
                      <a:pt x="719" y="498"/>
                    </a:lnTo>
                    <a:lnTo>
                      <a:pt x="713" y="514"/>
                    </a:lnTo>
                    <a:lnTo>
                      <a:pt x="704" y="531"/>
                    </a:lnTo>
                    <a:lnTo>
                      <a:pt x="697" y="547"/>
                    </a:lnTo>
                    <a:lnTo>
                      <a:pt x="688" y="562"/>
                    </a:lnTo>
                    <a:lnTo>
                      <a:pt x="678" y="578"/>
                    </a:lnTo>
                    <a:lnTo>
                      <a:pt x="667" y="592"/>
                    </a:lnTo>
                    <a:lnTo>
                      <a:pt x="656" y="607"/>
                    </a:lnTo>
                    <a:lnTo>
                      <a:pt x="646" y="620"/>
                    </a:lnTo>
                    <a:lnTo>
                      <a:pt x="632" y="633"/>
                    </a:lnTo>
                    <a:lnTo>
                      <a:pt x="620" y="645"/>
                    </a:lnTo>
                    <a:lnTo>
                      <a:pt x="606" y="657"/>
                    </a:lnTo>
                    <a:lnTo>
                      <a:pt x="593" y="668"/>
                    </a:lnTo>
                    <a:lnTo>
                      <a:pt x="578" y="678"/>
                    </a:lnTo>
                    <a:lnTo>
                      <a:pt x="563" y="688"/>
                    </a:lnTo>
                    <a:lnTo>
                      <a:pt x="547" y="697"/>
                    </a:lnTo>
                    <a:lnTo>
                      <a:pt x="532" y="705"/>
                    </a:lnTo>
                    <a:lnTo>
                      <a:pt x="515" y="712"/>
                    </a:lnTo>
                    <a:lnTo>
                      <a:pt x="498" y="720"/>
                    </a:lnTo>
                    <a:lnTo>
                      <a:pt x="481" y="724"/>
                    </a:lnTo>
                    <a:lnTo>
                      <a:pt x="463" y="730"/>
                    </a:lnTo>
                    <a:lnTo>
                      <a:pt x="445" y="734"/>
                    </a:lnTo>
                    <a:lnTo>
                      <a:pt x="427" y="738"/>
                    </a:lnTo>
                    <a:lnTo>
                      <a:pt x="409" y="740"/>
                    </a:lnTo>
                    <a:lnTo>
                      <a:pt x="390" y="741"/>
                    </a:lnTo>
                    <a:lnTo>
                      <a:pt x="371" y="741"/>
                    </a:lnTo>
                    <a:lnTo>
                      <a:pt x="352" y="741"/>
                    </a:lnTo>
                    <a:lnTo>
                      <a:pt x="332" y="740"/>
                    </a:lnTo>
                    <a:lnTo>
                      <a:pt x="314" y="738"/>
                    </a:lnTo>
                    <a:lnTo>
                      <a:pt x="296" y="734"/>
                    </a:lnTo>
                    <a:lnTo>
                      <a:pt x="278" y="730"/>
                    </a:lnTo>
                    <a:lnTo>
                      <a:pt x="260" y="724"/>
                    </a:lnTo>
                    <a:lnTo>
                      <a:pt x="244" y="720"/>
                    </a:lnTo>
                    <a:lnTo>
                      <a:pt x="227" y="712"/>
                    </a:lnTo>
                    <a:lnTo>
                      <a:pt x="210" y="705"/>
                    </a:lnTo>
                    <a:lnTo>
                      <a:pt x="194" y="697"/>
                    </a:lnTo>
                    <a:lnTo>
                      <a:pt x="179" y="688"/>
                    </a:lnTo>
                    <a:lnTo>
                      <a:pt x="163" y="678"/>
                    </a:lnTo>
                    <a:lnTo>
                      <a:pt x="149" y="668"/>
                    </a:lnTo>
                    <a:lnTo>
                      <a:pt x="136" y="657"/>
                    </a:lnTo>
                    <a:lnTo>
                      <a:pt x="121" y="645"/>
                    </a:lnTo>
                    <a:lnTo>
                      <a:pt x="109" y="633"/>
                    </a:lnTo>
                    <a:lnTo>
                      <a:pt x="96" y="620"/>
                    </a:lnTo>
                    <a:lnTo>
                      <a:pt x="85" y="607"/>
                    </a:lnTo>
                    <a:lnTo>
                      <a:pt x="74" y="592"/>
                    </a:lnTo>
                    <a:lnTo>
                      <a:pt x="64" y="578"/>
                    </a:lnTo>
                    <a:lnTo>
                      <a:pt x="54" y="562"/>
                    </a:lnTo>
                    <a:lnTo>
                      <a:pt x="44" y="547"/>
                    </a:lnTo>
                    <a:lnTo>
                      <a:pt x="37" y="531"/>
                    </a:lnTo>
                    <a:lnTo>
                      <a:pt x="29" y="514"/>
                    </a:lnTo>
                    <a:lnTo>
                      <a:pt x="23" y="498"/>
                    </a:lnTo>
                    <a:lnTo>
                      <a:pt x="17" y="481"/>
                    </a:lnTo>
                    <a:lnTo>
                      <a:pt x="12" y="463"/>
                    </a:lnTo>
                    <a:lnTo>
                      <a:pt x="7" y="446"/>
                    </a:lnTo>
                    <a:lnTo>
                      <a:pt x="5" y="427"/>
                    </a:lnTo>
                    <a:lnTo>
                      <a:pt x="2" y="409"/>
                    </a:lnTo>
                    <a:lnTo>
                      <a:pt x="0" y="390"/>
                    </a:lnTo>
                    <a:lnTo>
                      <a:pt x="0" y="371"/>
                    </a:lnTo>
                    <a:lnTo>
                      <a:pt x="0" y="353"/>
                    </a:lnTo>
                    <a:lnTo>
                      <a:pt x="2" y="333"/>
                    </a:lnTo>
                    <a:lnTo>
                      <a:pt x="5" y="314"/>
                    </a:lnTo>
                    <a:lnTo>
                      <a:pt x="7" y="296"/>
                    </a:lnTo>
                    <a:lnTo>
                      <a:pt x="12" y="278"/>
                    </a:lnTo>
                    <a:lnTo>
                      <a:pt x="17" y="261"/>
                    </a:lnTo>
                    <a:lnTo>
                      <a:pt x="23" y="243"/>
                    </a:lnTo>
                    <a:lnTo>
                      <a:pt x="29" y="227"/>
                    </a:lnTo>
                    <a:lnTo>
                      <a:pt x="37" y="211"/>
                    </a:lnTo>
                    <a:lnTo>
                      <a:pt x="44" y="194"/>
                    </a:lnTo>
                    <a:lnTo>
                      <a:pt x="54" y="179"/>
                    </a:lnTo>
                    <a:lnTo>
                      <a:pt x="64" y="164"/>
                    </a:lnTo>
                    <a:lnTo>
                      <a:pt x="74" y="150"/>
                    </a:lnTo>
                    <a:lnTo>
                      <a:pt x="85" y="135"/>
                    </a:lnTo>
                    <a:lnTo>
                      <a:pt x="96" y="122"/>
                    </a:lnTo>
                    <a:lnTo>
                      <a:pt x="109" y="109"/>
                    </a:lnTo>
                    <a:lnTo>
                      <a:pt x="121" y="97"/>
                    </a:lnTo>
                    <a:lnTo>
                      <a:pt x="136" y="85"/>
                    </a:lnTo>
                    <a:lnTo>
                      <a:pt x="149" y="74"/>
                    </a:lnTo>
                    <a:lnTo>
                      <a:pt x="163" y="63"/>
                    </a:lnTo>
                    <a:lnTo>
                      <a:pt x="179" y="54"/>
                    </a:lnTo>
                    <a:lnTo>
                      <a:pt x="194" y="45"/>
                    </a:lnTo>
                    <a:lnTo>
                      <a:pt x="210" y="37"/>
                    </a:lnTo>
                    <a:lnTo>
                      <a:pt x="227" y="30"/>
                    </a:lnTo>
                    <a:lnTo>
                      <a:pt x="244" y="23"/>
                    </a:lnTo>
                    <a:lnTo>
                      <a:pt x="260" y="17"/>
                    </a:lnTo>
                    <a:lnTo>
                      <a:pt x="278" y="12"/>
                    </a:lnTo>
                    <a:lnTo>
                      <a:pt x="296" y="8"/>
                    </a:lnTo>
                    <a:lnTo>
                      <a:pt x="314" y="5"/>
                    </a:lnTo>
                    <a:lnTo>
                      <a:pt x="332" y="2"/>
                    </a:lnTo>
                    <a:lnTo>
                      <a:pt x="352" y="1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ec9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274920" y="453384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733" h="733">
                    <a:moveTo>
                      <a:pt x="366" y="0"/>
                    </a:moveTo>
                    <a:lnTo>
                      <a:pt x="385" y="0"/>
                    </a:lnTo>
                    <a:lnTo>
                      <a:pt x="404" y="1"/>
                    </a:lnTo>
                    <a:lnTo>
                      <a:pt x="422" y="4"/>
                    </a:lnTo>
                    <a:lnTo>
                      <a:pt x="440" y="7"/>
                    </a:lnTo>
                    <a:lnTo>
                      <a:pt x="458" y="11"/>
                    </a:lnTo>
                    <a:lnTo>
                      <a:pt x="475" y="16"/>
                    </a:lnTo>
                    <a:lnTo>
                      <a:pt x="492" y="22"/>
                    </a:lnTo>
                    <a:lnTo>
                      <a:pt x="509" y="29"/>
                    </a:lnTo>
                    <a:lnTo>
                      <a:pt x="525" y="36"/>
                    </a:lnTo>
                    <a:lnTo>
                      <a:pt x="541" y="44"/>
                    </a:lnTo>
                    <a:lnTo>
                      <a:pt x="557" y="53"/>
                    </a:lnTo>
                    <a:lnTo>
                      <a:pt x="571" y="62"/>
                    </a:lnTo>
                    <a:lnTo>
                      <a:pt x="585" y="73"/>
                    </a:lnTo>
                    <a:lnTo>
                      <a:pt x="600" y="84"/>
                    </a:lnTo>
                    <a:lnTo>
                      <a:pt x="613" y="95"/>
                    </a:lnTo>
                    <a:lnTo>
                      <a:pt x="626" y="107"/>
                    </a:lnTo>
                    <a:lnTo>
                      <a:pt x="638" y="120"/>
                    </a:lnTo>
                    <a:lnTo>
                      <a:pt x="649" y="133"/>
                    </a:lnTo>
                    <a:lnTo>
                      <a:pt x="660" y="148"/>
                    </a:lnTo>
                    <a:lnTo>
                      <a:pt x="671" y="162"/>
                    </a:lnTo>
                    <a:lnTo>
                      <a:pt x="680" y="176"/>
                    </a:lnTo>
                    <a:lnTo>
                      <a:pt x="689" y="192"/>
                    </a:lnTo>
                    <a:lnTo>
                      <a:pt x="697" y="208"/>
                    </a:lnTo>
                    <a:lnTo>
                      <a:pt x="704" y="224"/>
                    </a:lnTo>
                    <a:lnTo>
                      <a:pt x="711" y="241"/>
                    </a:lnTo>
                    <a:lnTo>
                      <a:pt x="717" y="258"/>
                    </a:lnTo>
                    <a:lnTo>
                      <a:pt x="722" y="275"/>
                    </a:lnTo>
                    <a:lnTo>
                      <a:pt x="726" y="293"/>
                    </a:lnTo>
                    <a:lnTo>
                      <a:pt x="729" y="311"/>
                    </a:lnTo>
                    <a:lnTo>
                      <a:pt x="732" y="329"/>
                    </a:lnTo>
                    <a:lnTo>
                      <a:pt x="733" y="348"/>
                    </a:lnTo>
                    <a:lnTo>
                      <a:pt x="733" y="367"/>
                    </a:lnTo>
                    <a:lnTo>
                      <a:pt x="733" y="385"/>
                    </a:lnTo>
                    <a:lnTo>
                      <a:pt x="732" y="404"/>
                    </a:lnTo>
                    <a:lnTo>
                      <a:pt x="729" y="422"/>
                    </a:lnTo>
                    <a:lnTo>
                      <a:pt x="726" y="440"/>
                    </a:lnTo>
                    <a:lnTo>
                      <a:pt x="722" y="458"/>
                    </a:lnTo>
                    <a:lnTo>
                      <a:pt x="717" y="475"/>
                    </a:lnTo>
                    <a:lnTo>
                      <a:pt x="711" y="493"/>
                    </a:lnTo>
                    <a:lnTo>
                      <a:pt x="704" y="509"/>
                    </a:lnTo>
                    <a:lnTo>
                      <a:pt x="697" y="525"/>
                    </a:lnTo>
                    <a:lnTo>
                      <a:pt x="689" y="541"/>
                    </a:lnTo>
                    <a:lnTo>
                      <a:pt x="680" y="557"/>
                    </a:lnTo>
                    <a:lnTo>
                      <a:pt x="671" y="571"/>
                    </a:lnTo>
                    <a:lnTo>
                      <a:pt x="660" y="585"/>
                    </a:lnTo>
                    <a:lnTo>
                      <a:pt x="649" y="600"/>
                    </a:lnTo>
                    <a:lnTo>
                      <a:pt x="638" y="613"/>
                    </a:lnTo>
                    <a:lnTo>
                      <a:pt x="626" y="626"/>
                    </a:lnTo>
                    <a:lnTo>
                      <a:pt x="613" y="638"/>
                    </a:lnTo>
                    <a:lnTo>
                      <a:pt x="600" y="649"/>
                    </a:lnTo>
                    <a:lnTo>
                      <a:pt x="585" y="661"/>
                    </a:lnTo>
                    <a:lnTo>
                      <a:pt x="571" y="671"/>
                    </a:lnTo>
                    <a:lnTo>
                      <a:pt x="557" y="680"/>
                    </a:lnTo>
                    <a:lnTo>
                      <a:pt x="541" y="689"/>
                    </a:lnTo>
                    <a:lnTo>
                      <a:pt x="525" y="697"/>
                    </a:lnTo>
                    <a:lnTo>
                      <a:pt x="509" y="704"/>
                    </a:lnTo>
                    <a:lnTo>
                      <a:pt x="492" y="711"/>
                    </a:lnTo>
                    <a:lnTo>
                      <a:pt x="475" y="717"/>
                    </a:lnTo>
                    <a:lnTo>
                      <a:pt x="458" y="722"/>
                    </a:lnTo>
                    <a:lnTo>
                      <a:pt x="440" y="726"/>
                    </a:lnTo>
                    <a:lnTo>
                      <a:pt x="422" y="729"/>
                    </a:lnTo>
                    <a:lnTo>
                      <a:pt x="404" y="732"/>
                    </a:lnTo>
                    <a:lnTo>
                      <a:pt x="385" y="733"/>
                    </a:lnTo>
                    <a:lnTo>
                      <a:pt x="366" y="733"/>
                    </a:lnTo>
                    <a:lnTo>
                      <a:pt x="348" y="733"/>
                    </a:lnTo>
                    <a:lnTo>
                      <a:pt x="329" y="732"/>
                    </a:lnTo>
                    <a:lnTo>
                      <a:pt x="311" y="729"/>
                    </a:lnTo>
                    <a:lnTo>
                      <a:pt x="293" y="726"/>
                    </a:lnTo>
                    <a:lnTo>
                      <a:pt x="275" y="722"/>
                    </a:lnTo>
                    <a:lnTo>
                      <a:pt x="258" y="717"/>
                    </a:lnTo>
                    <a:lnTo>
                      <a:pt x="240" y="711"/>
                    </a:lnTo>
                    <a:lnTo>
                      <a:pt x="224" y="704"/>
                    </a:lnTo>
                    <a:lnTo>
                      <a:pt x="207" y="697"/>
                    </a:lnTo>
                    <a:lnTo>
                      <a:pt x="192" y="689"/>
                    </a:lnTo>
                    <a:lnTo>
                      <a:pt x="176" y="680"/>
                    </a:lnTo>
                    <a:lnTo>
                      <a:pt x="162" y="671"/>
                    </a:lnTo>
                    <a:lnTo>
                      <a:pt x="147" y="661"/>
                    </a:lnTo>
                    <a:lnTo>
                      <a:pt x="133" y="649"/>
                    </a:lnTo>
                    <a:lnTo>
                      <a:pt x="120" y="638"/>
                    </a:lnTo>
                    <a:lnTo>
                      <a:pt x="107" y="626"/>
                    </a:lnTo>
                    <a:lnTo>
                      <a:pt x="95" y="613"/>
                    </a:lnTo>
                    <a:lnTo>
                      <a:pt x="84" y="600"/>
                    </a:lnTo>
                    <a:lnTo>
                      <a:pt x="72" y="585"/>
                    </a:lnTo>
                    <a:lnTo>
                      <a:pt x="62" y="571"/>
                    </a:lnTo>
                    <a:lnTo>
                      <a:pt x="53" y="557"/>
                    </a:lnTo>
                    <a:lnTo>
                      <a:pt x="44" y="541"/>
                    </a:lnTo>
                    <a:lnTo>
                      <a:pt x="36" y="525"/>
                    </a:lnTo>
                    <a:lnTo>
                      <a:pt x="29" y="509"/>
                    </a:lnTo>
                    <a:lnTo>
                      <a:pt x="21" y="493"/>
                    </a:lnTo>
                    <a:lnTo>
                      <a:pt x="15" y="475"/>
                    </a:lnTo>
                    <a:lnTo>
                      <a:pt x="11" y="458"/>
                    </a:lnTo>
                    <a:lnTo>
                      <a:pt x="7" y="440"/>
                    </a:lnTo>
                    <a:lnTo>
                      <a:pt x="3" y="422"/>
                    </a:lnTo>
                    <a:lnTo>
                      <a:pt x="1" y="404"/>
                    </a:lnTo>
                    <a:lnTo>
                      <a:pt x="0" y="385"/>
                    </a:lnTo>
                    <a:lnTo>
                      <a:pt x="0" y="367"/>
                    </a:lnTo>
                    <a:lnTo>
                      <a:pt x="0" y="348"/>
                    </a:lnTo>
                    <a:lnTo>
                      <a:pt x="1" y="329"/>
                    </a:lnTo>
                    <a:lnTo>
                      <a:pt x="3" y="311"/>
                    </a:lnTo>
                    <a:lnTo>
                      <a:pt x="7" y="293"/>
                    </a:lnTo>
                    <a:lnTo>
                      <a:pt x="11" y="275"/>
                    </a:lnTo>
                    <a:lnTo>
                      <a:pt x="15" y="258"/>
                    </a:lnTo>
                    <a:lnTo>
                      <a:pt x="21" y="241"/>
                    </a:lnTo>
                    <a:lnTo>
                      <a:pt x="29" y="224"/>
                    </a:lnTo>
                    <a:lnTo>
                      <a:pt x="36" y="208"/>
                    </a:lnTo>
                    <a:lnTo>
                      <a:pt x="44" y="192"/>
                    </a:lnTo>
                    <a:lnTo>
                      <a:pt x="53" y="176"/>
                    </a:lnTo>
                    <a:lnTo>
                      <a:pt x="62" y="162"/>
                    </a:lnTo>
                    <a:lnTo>
                      <a:pt x="72" y="148"/>
                    </a:lnTo>
                    <a:lnTo>
                      <a:pt x="84" y="133"/>
                    </a:lnTo>
                    <a:lnTo>
                      <a:pt x="95" y="120"/>
                    </a:lnTo>
                    <a:lnTo>
                      <a:pt x="107" y="107"/>
                    </a:lnTo>
                    <a:lnTo>
                      <a:pt x="120" y="95"/>
                    </a:lnTo>
                    <a:lnTo>
                      <a:pt x="133" y="84"/>
                    </a:lnTo>
                    <a:lnTo>
                      <a:pt x="147" y="73"/>
                    </a:lnTo>
                    <a:lnTo>
                      <a:pt x="162" y="62"/>
                    </a:lnTo>
                    <a:lnTo>
                      <a:pt x="176" y="53"/>
                    </a:lnTo>
                    <a:lnTo>
                      <a:pt x="192" y="44"/>
                    </a:lnTo>
                    <a:lnTo>
                      <a:pt x="207" y="36"/>
                    </a:lnTo>
                    <a:lnTo>
                      <a:pt x="224" y="29"/>
                    </a:lnTo>
                    <a:lnTo>
                      <a:pt x="240" y="22"/>
                    </a:lnTo>
                    <a:lnTo>
                      <a:pt x="258" y="16"/>
                    </a:lnTo>
                    <a:lnTo>
                      <a:pt x="275" y="11"/>
                    </a:lnTo>
                    <a:lnTo>
                      <a:pt x="293" y="7"/>
                    </a:lnTo>
                    <a:lnTo>
                      <a:pt x="311" y="4"/>
                    </a:lnTo>
                    <a:lnTo>
                      <a:pt x="329" y="1"/>
                    </a:lnTo>
                    <a:lnTo>
                      <a:pt x="348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f2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287520" y="4554360"/>
                <a:ext cx="258840" cy="257400"/>
              </a:xfrm>
              <a:custGeom>
                <a:avLst/>
                <a:gdLst/>
                <a:ahLst/>
                <a:rect l="l" t="t" r="r" b="b"/>
                <a:pathLst>
                  <a:path w="652" h="652">
                    <a:moveTo>
                      <a:pt x="325" y="0"/>
                    </a:moveTo>
                    <a:lnTo>
                      <a:pt x="342" y="1"/>
                    </a:lnTo>
                    <a:lnTo>
                      <a:pt x="359" y="3"/>
                    </a:lnTo>
                    <a:lnTo>
                      <a:pt x="376" y="4"/>
                    </a:lnTo>
                    <a:lnTo>
                      <a:pt x="391" y="7"/>
                    </a:lnTo>
                    <a:lnTo>
                      <a:pt x="407" y="11"/>
                    </a:lnTo>
                    <a:lnTo>
                      <a:pt x="423" y="15"/>
                    </a:lnTo>
                    <a:lnTo>
                      <a:pt x="438" y="21"/>
                    </a:lnTo>
                    <a:lnTo>
                      <a:pt x="453" y="27"/>
                    </a:lnTo>
                    <a:lnTo>
                      <a:pt x="467" y="33"/>
                    </a:lnTo>
                    <a:lnTo>
                      <a:pt x="481" y="40"/>
                    </a:lnTo>
                    <a:lnTo>
                      <a:pt x="495" y="48"/>
                    </a:lnTo>
                    <a:lnTo>
                      <a:pt x="508" y="57"/>
                    </a:lnTo>
                    <a:lnTo>
                      <a:pt x="521" y="65"/>
                    </a:lnTo>
                    <a:lnTo>
                      <a:pt x="533" y="75"/>
                    </a:lnTo>
                    <a:lnTo>
                      <a:pt x="545" y="85"/>
                    </a:lnTo>
                    <a:lnTo>
                      <a:pt x="556" y="96"/>
                    </a:lnTo>
                    <a:lnTo>
                      <a:pt x="567" y="107"/>
                    </a:lnTo>
                    <a:lnTo>
                      <a:pt x="577" y="119"/>
                    </a:lnTo>
                    <a:lnTo>
                      <a:pt x="587" y="131"/>
                    </a:lnTo>
                    <a:lnTo>
                      <a:pt x="595" y="144"/>
                    </a:lnTo>
                    <a:lnTo>
                      <a:pt x="604" y="157"/>
                    </a:lnTo>
                    <a:lnTo>
                      <a:pt x="612" y="171"/>
                    </a:lnTo>
                    <a:lnTo>
                      <a:pt x="619" y="185"/>
                    </a:lnTo>
                    <a:lnTo>
                      <a:pt x="625" y="199"/>
                    </a:lnTo>
                    <a:lnTo>
                      <a:pt x="631" y="214"/>
                    </a:lnTo>
                    <a:lnTo>
                      <a:pt x="637" y="229"/>
                    </a:lnTo>
                    <a:lnTo>
                      <a:pt x="641" y="245"/>
                    </a:lnTo>
                    <a:lnTo>
                      <a:pt x="645" y="261"/>
                    </a:lnTo>
                    <a:lnTo>
                      <a:pt x="648" y="276"/>
                    </a:lnTo>
                    <a:lnTo>
                      <a:pt x="649" y="293"/>
                    </a:lnTo>
                    <a:lnTo>
                      <a:pt x="651" y="310"/>
                    </a:lnTo>
                    <a:lnTo>
                      <a:pt x="652" y="327"/>
                    </a:lnTo>
                    <a:lnTo>
                      <a:pt x="651" y="343"/>
                    </a:lnTo>
                    <a:lnTo>
                      <a:pt x="649" y="359"/>
                    </a:lnTo>
                    <a:lnTo>
                      <a:pt x="648" y="376"/>
                    </a:lnTo>
                    <a:lnTo>
                      <a:pt x="645" y="391"/>
                    </a:lnTo>
                    <a:lnTo>
                      <a:pt x="641" y="407"/>
                    </a:lnTo>
                    <a:lnTo>
                      <a:pt x="637" y="423"/>
                    </a:lnTo>
                    <a:lnTo>
                      <a:pt x="631" y="438"/>
                    </a:lnTo>
                    <a:lnTo>
                      <a:pt x="625" y="452"/>
                    </a:lnTo>
                    <a:lnTo>
                      <a:pt x="619" y="467"/>
                    </a:lnTo>
                    <a:lnTo>
                      <a:pt x="612" y="481"/>
                    </a:lnTo>
                    <a:lnTo>
                      <a:pt x="604" y="494"/>
                    </a:lnTo>
                    <a:lnTo>
                      <a:pt x="595" y="508"/>
                    </a:lnTo>
                    <a:lnTo>
                      <a:pt x="587" y="521"/>
                    </a:lnTo>
                    <a:lnTo>
                      <a:pt x="577" y="533"/>
                    </a:lnTo>
                    <a:lnTo>
                      <a:pt x="567" y="545"/>
                    </a:lnTo>
                    <a:lnTo>
                      <a:pt x="556" y="556"/>
                    </a:lnTo>
                    <a:lnTo>
                      <a:pt x="545" y="566"/>
                    </a:lnTo>
                    <a:lnTo>
                      <a:pt x="533" y="577"/>
                    </a:lnTo>
                    <a:lnTo>
                      <a:pt x="521" y="587"/>
                    </a:lnTo>
                    <a:lnTo>
                      <a:pt x="508" y="596"/>
                    </a:lnTo>
                    <a:lnTo>
                      <a:pt x="495" y="605"/>
                    </a:lnTo>
                    <a:lnTo>
                      <a:pt x="481" y="612"/>
                    </a:lnTo>
                    <a:lnTo>
                      <a:pt x="467" y="619"/>
                    </a:lnTo>
                    <a:lnTo>
                      <a:pt x="453" y="626"/>
                    </a:lnTo>
                    <a:lnTo>
                      <a:pt x="438" y="632"/>
                    </a:lnTo>
                    <a:lnTo>
                      <a:pt x="423" y="637"/>
                    </a:lnTo>
                    <a:lnTo>
                      <a:pt x="407" y="641"/>
                    </a:lnTo>
                    <a:lnTo>
                      <a:pt x="391" y="644"/>
                    </a:lnTo>
                    <a:lnTo>
                      <a:pt x="376" y="648"/>
                    </a:lnTo>
                    <a:lnTo>
                      <a:pt x="359" y="650"/>
                    </a:lnTo>
                    <a:lnTo>
                      <a:pt x="342" y="652"/>
                    </a:lnTo>
                    <a:lnTo>
                      <a:pt x="325" y="652"/>
                    </a:lnTo>
                    <a:lnTo>
                      <a:pt x="309" y="652"/>
                    </a:lnTo>
                    <a:lnTo>
                      <a:pt x="293" y="650"/>
                    </a:lnTo>
                    <a:lnTo>
                      <a:pt x="276" y="648"/>
                    </a:lnTo>
                    <a:lnTo>
                      <a:pt x="261" y="644"/>
                    </a:lnTo>
                    <a:lnTo>
                      <a:pt x="245" y="641"/>
                    </a:lnTo>
                    <a:lnTo>
                      <a:pt x="229" y="637"/>
                    </a:lnTo>
                    <a:lnTo>
                      <a:pt x="214" y="632"/>
                    </a:lnTo>
                    <a:lnTo>
                      <a:pt x="199" y="626"/>
                    </a:lnTo>
                    <a:lnTo>
                      <a:pt x="185" y="619"/>
                    </a:lnTo>
                    <a:lnTo>
                      <a:pt x="171" y="612"/>
                    </a:lnTo>
                    <a:lnTo>
                      <a:pt x="157" y="605"/>
                    </a:lnTo>
                    <a:lnTo>
                      <a:pt x="144" y="596"/>
                    </a:lnTo>
                    <a:lnTo>
                      <a:pt x="131" y="587"/>
                    </a:lnTo>
                    <a:lnTo>
                      <a:pt x="119" y="577"/>
                    </a:lnTo>
                    <a:lnTo>
                      <a:pt x="107" y="566"/>
                    </a:lnTo>
                    <a:lnTo>
                      <a:pt x="96" y="556"/>
                    </a:lnTo>
                    <a:lnTo>
                      <a:pt x="85" y="545"/>
                    </a:lnTo>
                    <a:lnTo>
                      <a:pt x="75" y="533"/>
                    </a:lnTo>
                    <a:lnTo>
                      <a:pt x="65" y="521"/>
                    </a:lnTo>
                    <a:lnTo>
                      <a:pt x="55" y="508"/>
                    </a:lnTo>
                    <a:lnTo>
                      <a:pt x="47" y="494"/>
                    </a:lnTo>
                    <a:lnTo>
                      <a:pt x="40" y="481"/>
                    </a:lnTo>
                    <a:lnTo>
                      <a:pt x="33" y="467"/>
                    </a:lnTo>
                    <a:lnTo>
                      <a:pt x="25" y="452"/>
                    </a:lnTo>
                    <a:lnTo>
                      <a:pt x="19" y="438"/>
                    </a:lnTo>
                    <a:lnTo>
                      <a:pt x="15" y="423"/>
                    </a:lnTo>
                    <a:lnTo>
                      <a:pt x="10" y="407"/>
                    </a:lnTo>
                    <a:lnTo>
                      <a:pt x="6" y="391"/>
                    </a:lnTo>
                    <a:lnTo>
                      <a:pt x="4" y="376"/>
                    </a:lnTo>
                    <a:lnTo>
                      <a:pt x="1" y="359"/>
                    </a:lnTo>
                    <a:lnTo>
                      <a:pt x="0" y="343"/>
                    </a:lnTo>
                    <a:lnTo>
                      <a:pt x="0" y="327"/>
                    </a:lnTo>
                    <a:lnTo>
                      <a:pt x="0" y="310"/>
                    </a:lnTo>
                    <a:lnTo>
                      <a:pt x="1" y="293"/>
                    </a:lnTo>
                    <a:lnTo>
                      <a:pt x="4" y="276"/>
                    </a:lnTo>
                    <a:lnTo>
                      <a:pt x="6" y="261"/>
                    </a:lnTo>
                    <a:lnTo>
                      <a:pt x="10" y="245"/>
                    </a:lnTo>
                    <a:lnTo>
                      <a:pt x="15" y="229"/>
                    </a:lnTo>
                    <a:lnTo>
                      <a:pt x="19" y="214"/>
                    </a:lnTo>
                    <a:lnTo>
                      <a:pt x="25" y="199"/>
                    </a:lnTo>
                    <a:lnTo>
                      <a:pt x="33" y="185"/>
                    </a:lnTo>
                    <a:lnTo>
                      <a:pt x="40" y="171"/>
                    </a:lnTo>
                    <a:lnTo>
                      <a:pt x="47" y="157"/>
                    </a:lnTo>
                    <a:lnTo>
                      <a:pt x="55" y="144"/>
                    </a:lnTo>
                    <a:lnTo>
                      <a:pt x="65" y="131"/>
                    </a:lnTo>
                    <a:lnTo>
                      <a:pt x="75" y="119"/>
                    </a:lnTo>
                    <a:lnTo>
                      <a:pt x="85" y="107"/>
                    </a:lnTo>
                    <a:lnTo>
                      <a:pt x="96" y="96"/>
                    </a:lnTo>
                    <a:lnTo>
                      <a:pt x="107" y="85"/>
                    </a:lnTo>
                    <a:lnTo>
                      <a:pt x="119" y="75"/>
                    </a:lnTo>
                    <a:lnTo>
                      <a:pt x="131" y="65"/>
                    </a:lnTo>
                    <a:lnTo>
                      <a:pt x="144" y="57"/>
                    </a:lnTo>
                    <a:lnTo>
                      <a:pt x="157" y="48"/>
                    </a:lnTo>
                    <a:lnTo>
                      <a:pt x="171" y="40"/>
                    </a:lnTo>
                    <a:lnTo>
                      <a:pt x="185" y="33"/>
                    </a:lnTo>
                    <a:lnTo>
                      <a:pt x="199" y="27"/>
                    </a:lnTo>
                    <a:lnTo>
                      <a:pt x="214" y="21"/>
                    </a:lnTo>
                    <a:lnTo>
                      <a:pt x="229" y="15"/>
                    </a:lnTo>
                    <a:lnTo>
                      <a:pt x="245" y="11"/>
                    </a:lnTo>
                    <a:lnTo>
                      <a:pt x="261" y="7"/>
                    </a:lnTo>
                    <a:lnTo>
                      <a:pt x="276" y="4"/>
                    </a:lnTo>
                    <a:lnTo>
                      <a:pt x="293" y="3"/>
                    </a:lnTo>
                    <a:lnTo>
                      <a:pt x="309" y="1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26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16040" y="4546440"/>
                <a:ext cx="136800" cy="13680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344" y="344"/>
                    </a:moveTo>
                    <a:lnTo>
                      <a:pt x="344" y="344"/>
                    </a:lnTo>
                    <a:lnTo>
                      <a:pt x="344" y="326"/>
                    </a:lnTo>
                    <a:lnTo>
                      <a:pt x="342" y="308"/>
                    </a:lnTo>
                    <a:lnTo>
                      <a:pt x="340" y="291"/>
                    </a:lnTo>
                    <a:lnTo>
                      <a:pt x="336" y="274"/>
                    </a:lnTo>
                    <a:lnTo>
                      <a:pt x="333" y="257"/>
                    </a:lnTo>
                    <a:lnTo>
                      <a:pt x="328" y="242"/>
                    </a:lnTo>
                    <a:lnTo>
                      <a:pt x="323" y="225"/>
                    </a:lnTo>
                    <a:lnTo>
                      <a:pt x="317" y="210"/>
                    </a:lnTo>
                    <a:lnTo>
                      <a:pt x="310" y="195"/>
                    </a:lnTo>
                    <a:lnTo>
                      <a:pt x="303" y="179"/>
                    </a:lnTo>
                    <a:lnTo>
                      <a:pt x="294" y="165"/>
                    </a:lnTo>
                    <a:lnTo>
                      <a:pt x="285" y="152"/>
                    </a:lnTo>
                    <a:lnTo>
                      <a:pt x="275" y="138"/>
                    </a:lnTo>
                    <a:lnTo>
                      <a:pt x="266" y="125"/>
                    </a:lnTo>
                    <a:lnTo>
                      <a:pt x="255" y="113"/>
                    </a:lnTo>
                    <a:lnTo>
                      <a:pt x="243" y="101"/>
                    </a:lnTo>
                    <a:lnTo>
                      <a:pt x="231" y="89"/>
                    </a:lnTo>
                    <a:lnTo>
                      <a:pt x="219" y="78"/>
                    </a:lnTo>
                    <a:lnTo>
                      <a:pt x="206" y="69"/>
                    </a:lnTo>
                    <a:lnTo>
                      <a:pt x="192" y="59"/>
                    </a:lnTo>
                    <a:lnTo>
                      <a:pt x="178" y="50"/>
                    </a:lnTo>
                    <a:lnTo>
                      <a:pt x="164" y="41"/>
                    </a:lnTo>
                    <a:lnTo>
                      <a:pt x="149" y="34"/>
                    </a:lnTo>
                    <a:lnTo>
                      <a:pt x="134" y="27"/>
                    </a:lnTo>
                    <a:lnTo>
                      <a:pt x="118" y="21"/>
                    </a:lnTo>
                    <a:lnTo>
                      <a:pt x="102" y="16"/>
                    </a:lnTo>
                    <a:lnTo>
                      <a:pt x="87" y="11"/>
                    </a:lnTo>
                    <a:lnTo>
                      <a:pt x="70" y="8"/>
                    </a:lnTo>
                    <a:lnTo>
                      <a:pt x="53" y="4"/>
                    </a:lnTo>
                    <a:lnTo>
                      <a:pt x="35" y="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7" y="35"/>
                    </a:lnTo>
                    <a:lnTo>
                      <a:pt x="33" y="36"/>
                    </a:lnTo>
                    <a:lnTo>
                      <a:pt x="47" y="39"/>
                    </a:lnTo>
                    <a:lnTo>
                      <a:pt x="63" y="41"/>
                    </a:lnTo>
                    <a:lnTo>
                      <a:pt x="77" y="45"/>
                    </a:lnTo>
                    <a:lnTo>
                      <a:pt x="93" y="48"/>
                    </a:lnTo>
                    <a:lnTo>
                      <a:pt x="107" y="53"/>
                    </a:lnTo>
                    <a:lnTo>
                      <a:pt x="120" y="59"/>
                    </a:lnTo>
                    <a:lnTo>
                      <a:pt x="135" y="65"/>
                    </a:lnTo>
                    <a:lnTo>
                      <a:pt x="148" y="72"/>
                    </a:lnTo>
                    <a:lnTo>
                      <a:pt x="160" y="80"/>
                    </a:lnTo>
                    <a:lnTo>
                      <a:pt x="173" y="88"/>
                    </a:lnTo>
                    <a:lnTo>
                      <a:pt x="185" y="96"/>
                    </a:lnTo>
                    <a:lnTo>
                      <a:pt x="197" y="105"/>
                    </a:lnTo>
                    <a:lnTo>
                      <a:pt x="208" y="116"/>
                    </a:lnTo>
                    <a:lnTo>
                      <a:pt x="219" y="125"/>
                    </a:lnTo>
                    <a:lnTo>
                      <a:pt x="228" y="136"/>
                    </a:lnTo>
                    <a:lnTo>
                      <a:pt x="239" y="147"/>
                    </a:lnTo>
                    <a:lnTo>
                      <a:pt x="248" y="159"/>
                    </a:lnTo>
                    <a:lnTo>
                      <a:pt x="256" y="171"/>
                    </a:lnTo>
                    <a:lnTo>
                      <a:pt x="264" y="184"/>
                    </a:lnTo>
                    <a:lnTo>
                      <a:pt x="272" y="196"/>
                    </a:lnTo>
                    <a:lnTo>
                      <a:pt x="279" y="209"/>
                    </a:lnTo>
                    <a:lnTo>
                      <a:pt x="285" y="224"/>
                    </a:lnTo>
                    <a:lnTo>
                      <a:pt x="291" y="237"/>
                    </a:lnTo>
                    <a:lnTo>
                      <a:pt x="296" y="251"/>
                    </a:lnTo>
                    <a:lnTo>
                      <a:pt x="299" y="267"/>
                    </a:lnTo>
                    <a:lnTo>
                      <a:pt x="303" y="281"/>
                    </a:lnTo>
                    <a:lnTo>
                      <a:pt x="305" y="297"/>
                    </a:lnTo>
                    <a:lnTo>
                      <a:pt x="308" y="311"/>
                    </a:lnTo>
                    <a:lnTo>
                      <a:pt x="309" y="327"/>
                    </a:lnTo>
                    <a:lnTo>
                      <a:pt x="309" y="344"/>
                    </a:lnTo>
                    <a:lnTo>
                      <a:pt x="309" y="344"/>
                    </a:lnTo>
                    <a:lnTo>
                      <a:pt x="344" y="34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416040" y="4683240"/>
                <a:ext cx="136800" cy="136440"/>
              </a:xfrm>
              <a:custGeom>
                <a:avLst/>
                <a:gdLst/>
                <a:ahLst/>
                <a:rect l="l" t="t" r="r" b="b"/>
                <a:pathLst>
                  <a:path w="344" h="343">
                    <a:moveTo>
                      <a:pt x="0" y="343"/>
                    </a:moveTo>
                    <a:lnTo>
                      <a:pt x="0" y="343"/>
                    </a:lnTo>
                    <a:lnTo>
                      <a:pt x="18" y="341"/>
                    </a:lnTo>
                    <a:lnTo>
                      <a:pt x="35" y="340"/>
                    </a:lnTo>
                    <a:lnTo>
                      <a:pt x="53" y="338"/>
                    </a:lnTo>
                    <a:lnTo>
                      <a:pt x="70" y="335"/>
                    </a:lnTo>
                    <a:lnTo>
                      <a:pt x="87" y="331"/>
                    </a:lnTo>
                    <a:lnTo>
                      <a:pt x="102" y="327"/>
                    </a:lnTo>
                    <a:lnTo>
                      <a:pt x="118" y="321"/>
                    </a:lnTo>
                    <a:lnTo>
                      <a:pt x="134" y="315"/>
                    </a:lnTo>
                    <a:lnTo>
                      <a:pt x="149" y="308"/>
                    </a:lnTo>
                    <a:lnTo>
                      <a:pt x="164" y="301"/>
                    </a:lnTo>
                    <a:lnTo>
                      <a:pt x="178" y="292"/>
                    </a:lnTo>
                    <a:lnTo>
                      <a:pt x="192" y="284"/>
                    </a:lnTo>
                    <a:lnTo>
                      <a:pt x="206" y="274"/>
                    </a:lnTo>
                    <a:lnTo>
                      <a:pt x="219" y="263"/>
                    </a:lnTo>
                    <a:lnTo>
                      <a:pt x="231" y="253"/>
                    </a:lnTo>
                    <a:lnTo>
                      <a:pt x="243" y="242"/>
                    </a:lnTo>
                    <a:lnTo>
                      <a:pt x="255" y="230"/>
                    </a:lnTo>
                    <a:lnTo>
                      <a:pt x="266" y="217"/>
                    </a:lnTo>
                    <a:lnTo>
                      <a:pt x="275" y="203"/>
                    </a:lnTo>
                    <a:lnTo>
                      <a:pt x="285" y="190"/>
                    </a:lnTo>
                    <a:lnTo>
                      <a:pt x="294" y="177"/>
                    </a:lnTo>
                    <a:lnTo>
                      <a:pt x="303" y="163"/>
                    </a:lnTo>
                    <a:lnTo>
                      <a:pt x="310" y="147"/>
                    </a:lnTo>
                    <a:lnTo>
                      <a:pt x="317" y="133"/>
                    </a:lnTo>
                    <a:lnTo>
                      <a:pt x="323" y="117"/>
                    </a:lnTo>
                    <a:lnTo>
                      <a:pt x="328" y="100"/>
                    </a:lnTo>
                    <a:lnTo>
                      <a:pt x="333" y="85"/>
                    </a:lnTo>
                    <a:lnTo>
                      <a:pt x="336" y="68"/>
                    </a:lnTo>
                    <a:lnTo>
                      <a:pt x="340" y="51"/>
                    </a:lnTo>
                    <a:lnTo>
                      <a:pt x="342" y="34"/>
                    </a:lnTo>
                    <a:lnTo>
                      <a:pt x="344" y="16"/>
                    </a:lnTo>
                    <a:lnTo>
                      <a:pt x="344" y="0"/>
                    </a:lnTo>
                    <a:lnTo>
                      <a:pt x="309" y="0"/>
                    </a:lnTo>
                    <a:lnTo>
                      <a:pt x="309" y="15"/>
                    </a:lnTo>
                    <a:lnTo>
                      <a:pt x="308" y="31"/>
                    </a:lnTo>
                    <a:lnTo>
                      <a:pt x="305" y="46"/>
                    </a:lnTo>
                    <a:lnTo>
                      <a:pt x="303" y="61"/>
                    </a:lnTo>
                    <a:lnTo>
                      <a:pt x="299" y="76"/>
                    </a:lnTo>
                    <a:lnTo>
                      <a:pt x="296" y="91"/>
                    </a:lnTo>
                    <a:lnTo>
                      <a:pt x="291" y="105"/>
                    </a:lnTo>
                    <a:lnTo>
                      <a:pt x="285" y="118"/>
                    </a:lnTo>
                    <a:lnTo>
                      <a:pt x="279" y="133"/>
                    </a:lnTo>
                    <a:lnTo>
                      <a:pt x="272" y="146"/>
                    </a:lnTo>
                    <a:lnTo>
                      <a:pt x="264" y="159"/>
                    </a:lnTo>
                    <a:lnTo>
                      <a:pt x="256" y="171"/>
                    </a:lnTo>
                    <a:lnTo>
                      <a:pt x="248" y="183"/>
                    </a:lnTo>
                    <a:lnTo>
                      <a:pt x="239" y="195"/>
                    </a:lnTo>
                    <a:lnTo>
                      <a:pt x="228" y="206"/>
                    </a:lnTo>
                    <a:lnTo>
                      <a:pt x="219" y="217"/>
                    </a:lnTo>
                    <a:lnTo>
                      <a:pt x="208" y="227"/>
                    </a:lnTo>
                    <a:lnTo>
                      <a:pt x="197" y="237"/>
                    </a:lnTo>
                    <a:lnTo>
                      <a:pt x="185" y="245"/>
                    </a:lnTo>
                    <a:lnTo>
                      <a:pt x="173" y="255"/>
                    </a:lnTo>
                    <a:lnTo>
                      <a:pt x="160" y="262"/>
                    </a:lnTo>
                    <a:lnTo>
                      <a:pt x="148" y="269"/>
                    </a:lnTo>
                    <a:lnTo>
                      <a:pt x="135" y="277"/>
                    </a:lnTo>
                    <a:lnTo>
                      <a:pt x="120" y="283"/>
                    </a:lnTo>
                    <a:lnTo>
                      <a:pt x="107" y="289"/>
                    </a:lnTo>
                    <a:lnTo>
                      <a:pt x="93" y="293"/>
                    </a:lnTo>
                    <a:lnTo>
                      <a:pt x="77" y="297"/>
                    </a:lnTo>
                    <a:lnTo>
                      <a:pt x="63" y="301"/>
                    </a:lnTo>
                    <a:lnTo>
                      <a:pt x="47" y="304"/>
                    </a:lnTo>
                    <a:lnTo>
                      <a:pt x="33" y="305"/>
                    </a:lnTo>
                    <a:lnTo>
                      <a:pt x="17" y="307"/>
                    </a:lnTo>
                    <a:lnTo>
                      <a:pt x="0" y="308"/>
                    </a:lnTo>
                    <a:lnTo>
                      <a:pt x="0" y="308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279600" y="4683240"/>
                <a:ext cx="136440" cy="136440"/>
              </a:xfrm>
              <a:custGeom>
                <a:avLst/>
                <a:gdLst/>
                <a:ahLst/>
                <a:rect l="l" t="t" r="r" b="b"/>
                <a:pathLst>
                  <a:path w="343" h="343">
                    <a:moveTo>
                      <a:pt x="0" y="0"/>
                    </a:moveTo>
                    <a:lnTo>
                      <a:pt x="0" y="0"/>
                    </a:lnTo>
                    <a:lnTo>
                      <a:pt x="1" y="16"/>
                    </a:lnTo>
                    <a:lnTo>
                      <a:pt x="3" y="34"/>
                    </a:lnTo>
                    <a:lnTo>
                      <a:pt x="5" y="51"/>
                    </a:lnTo>
                    <a:lnTo>
                      <a:pt x="7" y="68"/>
                    </a:lnTo>
                    <a:lnTo>
                      <a:pt x="12" y="85"/>
                    </a:lnTo>
                    <a:lnTo>
                      <a:pt x="16" y="100"/>
                    </a:lnTo>
                    <a:lnTo>
                      <a:pt x="22" y="117"/>
                    </a:lnTo>
                    <a:lnTo>
                      <a:pt x="28" y="133"/>
                    </a:lnTo>
                    <a:lnTo>
                      <a:pt x="35" y="147"/>
                    </a:lnTo>
                    <a:lnTo>
                      <a:pt x="42" y="163"/>
                    </a:lnTo>
                    <a:lnTo>
                      <a:pt x="51" y="177"/>
                    </a:lnTo>
                    <a:lnTo>
                      <a:pt x="59" y="190"/>
                    </a:lnTo>
                    <a:lnTo>
                      <a:pt x="69" y="203"/>
                    </a:lnTo>
                    <a:lnTo>
                      <a:pt x="79" y="217"/>
                    </a:lnTo>
                    <a:lnTo>
                      <a:pt x="90" y="230"/>
                    </a:lnTo>
                    <a:lnTo>
                      <a:pt x="101" y="242"/>
                    </a:lnTo>
                    <a:lnTo>
                      <a:pt x="113" y="253"/>
                    </a:lnTo>
                    <a:lnTo>
                      <a:pt x="126" y="263"/>
                    </a:lnTo>
                    <a:lnTo>
                      <a:pt x="138" y="274"/>
                    </a:lnTo>
                    <a:lnTo>
                      <a:pt x="153" y="284"/>
                    </a:lnTo>
                    <a:lnTo>
                      <a:pt x="166" y="292"/>
                    </a:lnTo>
                    <a:lnTo>
                      <a:pt x="180" y="301"/>
                    </a:lnTo>
                    <a:lnTo>
                      <a:pt x="196" y="308"/>
                    </a:lnTo>
                    <a:lnTo>
                      <a:pt x="210" y="315"/>
                    </a:lnTo>
                    <a:lnTo>
                      <a:pt x="226" y="321"/>
                    </a:lnTo>
                    <a:lnTo>
                      <a:pt x="241" y="327"/>
                    </a:lnTo>
                    <a:lnTo>
                      <a:pt x="258" y="331"/>
                    </a:lnTo>
                    <a:lnTo>
                      <a:pt x="275" y="335"/>
                    </a:lnTo>
                    <a:lnTo>
                      <a:pt x="292" y="338"/>
                    </a:lnTo>
                    <a:lnTo>
                      <a:pt x="309" y="340"/>
                    </a:lnTo>
                    <a:lnTo>
                      <a:pt x="327" y="341"/>
                    </a:lnTo>
                    <a:lnTo>
                      <a:pt x="343" y="343"/>
                    </a:lnTo>
                    <a:lnTo>
                      <a:pt x="343" y="308"/>
                    </a:lnTo>
                    <a:lnTo>
                      <a:pt x="328" y="307"/>
                    </a:lnTo>
                    <a:lnTo>
                      <a:pt x="312" y="305"/>
                    </a:lnTo>
                    <a:lnTo>
                      <a:pt x="297" y="304"/>
                    </a:lnTo>
                    <a:lnTo>
                      <a:pt x="282" y="301"/>
                    </a:lnTo>
                    <a:lnTo>
                      <a:pt x="267" y="297"/>
                    </a:lnTo>
                    <a:lnTo>
                      <a:pt x="252" y="293"/>
                    </a:lnTo>
                    <a:lnTo>
                      <a:pt x="238" y="289"/>
                    </a:lnTo>
                    <a:lnTo>
                      <a:pt x="223" y="283"/>
                    </a:lnTo>
                    <a:lnTo>
                      <a:pt x="210" y="277"/>
                    </a:lnTo>
                    <a:lnTo>
                      <a:pt x="197" y="269"/>
                    </a:lnTo>
                    <a:lnTo>
                      <a:pt x="184" y="262"/>
                    </a:lnTo>
                    <a:lnTo>
                      <a:pt x="172" y="255"/>
                    </a:lnTo>
                    <a:lnTo>
                      <a:pt x="160" y="245"/>
                    </a:lnTo>
                    <a:lnTo>
                      <a:pt x="148" y="237"/>
                    </a:lnTo>
                    <a:lnTo>
                      <a:pt x="137" y="227"/>
                    </a:lnTo>
                    <a:lnTo>
                      <a:pt x="126" y="217"/>
                    </a:lnTo>
                    <a:lnTo>
                      <a:pt x="115" y="206"/>
                    </a:lnTo>
                    <a:lnTo>
                      <a:pt x="106" y="195"/>
                    </a:lnTo>
                    <a:lnTo>
                      <a:pt x="97" y="183"/>
                    </a:lnTo>
                    <a:lnTo>
                      <a:pt x="88" y="171"/>
                    </a:lnTo>
                    <a:lnTo>
                      <a:pt x="81" y="159"/>
                    </a:lnTo>
                    <a:lnTo>
                      <a:pt x="72" y="146"/>
                    </a:lnTo>
                    <a:lnTo>
                      <a:pt x="66" y="133"/>
                    </a:lnTo>
                    <a:lnTo>
                      <a:pt x="60" y="118"/>
                    </a:lnTo>
                    <a:lnTo>
                      <a:pt x="54" y="105"/>
                    </a:lnTo>
                    <a:lnTo>
                      <a:pt x="49" y="91"/>
                    </a:lnTo>
                    <a:lnTo>
                      <a:pt x="45" y="76"/>
                    </a:lnTo>
                    <a:lnTo>
                      <a:pt x="42" y="61"/>
                    </a:lnTo>
                    <a:lnTo>
                      <a:pt x="39" y="46"/>
                    </a:lnTo>
                    <a:lnTo>
                      <a:pt x="37" y="31"/>
                    </a:lnTo>
                    <a:lnTo>
                      <a:pt x="36" y="15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279600" y="4546440"/>
                <a:ext cx="136440" cy="136800"/>
              </a:xfrm>
              <a:custGeom>
                <a:avLst/>
                <a:gdLst/>
                <a:ahLst/>
                <a:rect l="l" t="t" r="r" b="b"/>
                <a:pathLst>
                  <a:path w="343" h="344">
                    <a:moveTo>
                      <a:pt x="343" y="0"/>
                    </a:moveTo>
                    <a:lnTo>
                      <a:pt x="343" y="0"/>
                    </a:lnTo>
                    <a:lnTo>
                      <a:pt x="327" y="0"/>
                    </a:lnTo>
                    <a:lnTo>
                      <a:pt x="309" y="2"/>
                    </a:lnTo>
                    <a:lnTo>
                      <a:pt x="292" y="4"/>
                    </a:lnTo>
                    <a:lnTo>
                      <a:pt x="275" y="8"/>
                    </a:lnTo>
                    <a:lnTo>
                      <a:pt x="258" y="11"/>
                    </a:lnTo>
                    <a:lnTo>
                      <a:pt x="241" y="16"/>
                    </a:lnTo>
                    <a:lnTo>
                      <a:pt x="226" y="21"/>
                    </a:lnTo>
                    <a:lnTo>
                      <a:pt x="210" y="27"/>
                    </a:lnTo>
                    <a:lnTo>
                      <a:pt x="196" y="34"/>
                    </a:lnTo>
                    <a:lnTo>
                      <a:pt x="180" y="41"/>
                    </a:lnTo>
                    <a:lnTo>
                      <a:pt x="166" y="50"/>
                    </a:lnTo>
                    <a:lnTo>
                      <a:pt x="153" y="59"/>
                    </a:lnTo>
                    <a:lnTo>
                      <a:pt x="138" y="69"/>
                    </a:lnTo>
                    <a:lnTo>
                      <a:pt x="126" y="78"/>
                    </a:lnTo>
                    <a:lnTo>
                      <a:pt x="113" y="89"/>
                    </a:lnTo>
                    <a:lnTo>
                      <a:pt x="101" y="101"/>
                    </a:lnTo>
                    <a:lnTo>
                      <a:pt x="90" y="113"/>
                    </a:lnTo>
                    <a:lnTo>
                      <a:pt x="79" y="125"/>
                    </a:lnTo>
                    <a:lnTo>
                      <a:pt x="69" y="138"/>
                    </a:lnTo>
                    <a:lnTo>
                      <a:pt x="59" y="152"/>
                    </a:lnTo>
                    <a:lnTo>
                      <a:pt x="51" y="165"/>
                    </a:lnTo>
                    <a:lnTo>
                      <a:pt x="42" y="179"/>
                    </a:lnTo>
                    <a:lnTo>
                      <a:pt x="35" y="195"/>
                    </a:lnTo>
                    <a:lnTo>
                      <a:pt x="28" y="210"/>
                    </a:lnTo>
                    <a:lnTo>
                      <a:pt x="22" y="225"/>
                    </a:lnTo>
                    <a:lnTo>
                      <a:pt x="16" y="242"/>
                    </a:lnTo>
                    <a:lnTo>
                      <a:pt x="12" y="257"/>
                    </a:lnTo>
                    <a:lnTo>
                      <a:pt x="7" y="274"/>
                    </a:lnTo>
                    <a:lnTo>
                      <a:pt x="5" y="291"/>
                    </a:lnTo>
                    <a:lnTo>
                      <a:pt x="3" y="308"/>
                    </a:lnTo>
                    <a:lnTo>
                      <a:pt x="1" y="326"/>
                    </a:lnTo>
                    <a:lnTo>
                      <a:pt x="0" y="344"/>
                    </a:lnTo>
                    <a:lnTo>
                      <a:pt x="35" y="344"/>
                    </a:lnTo>
                    <a:lnTo>
                      <a:pt x="36" y="327"/>
                    </a:lnTo>
                    <a:lnTo>
                      <a:pt x="37" y="311"/>
                    </a:lnTo>
                    <a:lnTo>
                      <a:pt x="39" y="297"/>
                    </a:lnTo>
                    <a:lnTo>
                      <a:pt x="42" y="281"/>
                    </a:lnTo>
                    <a:lnTo>
                      <a:pt x="45" y="266"/>
                    </a:lnTo>
                    <a:lnTo>
                      <a:pt x="49" y="251"/>
                    </a:lnTo>
                    <a:lnTo>
                      <a:pt x="54" y="237"/>
                    </a:lnTo>
                    <a:lnTo>
                      <a:pt x="60" y="224"/>
                    </a:lnTo>
                    <a:lnTo>
                      <a:pt x="66" y="209"/>
                    </a:lnTo>
                    <a:lnTo>
                      <a:pt x="72" y="196"/>
                    </a:lnTo>
                    <a:lnTo>
                      <a:pt x="81" y="184"/>
                    </a:lnTo>
                    <a:lnTo>
                      <a:pt x="88" y="171"/>
                    </a:lnTo>
                    <a:lnTo>
                      <a:pt x="97" y="159"/>
                    </a:lnTo>
                    <a:lnTo>
                      <a:pt x="106" y="147"/>
                    </a:lnTo>
                    <a:lnTo>
                      <a:pt x="115" y="136"/>
                    </a:lnTo>
                    <a:lnTo>
                      <a:pt x="126" y="125"/>
                    </a:lnTo>
                    <a:lnTo>
                      <a:pt x="137" y="116"/>
                    </a:lnTo>
                    <a:lnTo>
                      <a:pt x="148" y="105"/>
                    </a:lnTo>
                    <a:lnTo>
                      <a:pt x="160" y="96"/>
                    </a:lnTo>
                    <a:lnTo>
                      <a:pt x="172" y="88"/>
                    </a:lnTo>
                    <a:lnTo>
                      <a:pt x="184" y="80"/>
                    </a:lnTo>
                    <a:lnTo>
                      <a:pt x="197" y="72"/>
                    </a:lnTo>
                    <a:lnTo>
                      <a:pt x="210" y="65"/>
                    </a:lnTo>
                    <a:lnTo>
                      <a:pt x="223" y="59"/>
                    </a:lnTo>
                    <a:lnTo>
                      <a:pt x="238" y="53"/>
                    </a:lnTo>
                    <a:lnTo>
                      <a:pt x="252" y="48"/>
                    </a:lnTo>
                    <a:lnTo>
                      <a:pt x="267" y="45"/>
                    </a:lnTo>
                    <a:lnTo>
                      <a:pt x="282" y="41"/>
                    </a:lnTo>
                    <a:lnTo>
                      <a:pt x="297" y="39"/>
                    </a:lnTo>
                    <a:lnTo>
                      <a:pt x="312" y="36"/>
                    </a:lnTo>
                    <a:lnTo>
                      <a:pt x="328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95880" y="4906800"/>
                <a:ext cx="323640" cy="324000"/>
              </a:xfrm>
              <a:custGeom>
                <a:avLst/>
                <a:gdLst/>
                <a:ahLst/>
                <a:rect l="l" t="t" r="r" b="b"/>
                <a:pathLst>
                  <a:path w="816" h="816">
                    <a:moveTo>
                      <a:pt x="408" y="0"/>
                    </a:moveTo>
                    <a:lnTo>
                      <a:pt x="429" y="1"/>
                    </a:lnTo>
                    <a:lnTo>
                      <a:pt x="450" y="3"/>
                    </a:lnTo>
                    <a:lnTo>
                      <a:pt x="470" y="5"/>
                    </a:lnTo>
                    <a:lnTo>
                      <a:pt x="490" y="9"/>
                    </a:lnTo>
                    <a:lnTo>
                      <a:pt x="510" y="13"/>
                    </a:lnTo>
                    <a:lnTo>
                      <a:pt x="530" y="19"/>
                    </a:lnTo>
                    <a:lnTo>
                      <a:pt x="549" y="25"/>
                    </a:lnTo>
                    <a:lnTo>
                      <a:pt x="567" y="33"/>
                    </a:lnTo>
                    <a:lnTo>
                      <a:pt x="585" y="41"/>
                    </a:lnTo>
                    <a:lnTo>
                      <a:pt x="603" y="51"/>
                    </a:lnTo>
                    <a:lnTo>
                      <a:pt x="620" y="60"/>
                    </a:lnTo>
                    <a:lnTo>
                      <a:pt x="636" y="71"/>
                    </a:lnTo>
                    <a:lnTo>
                      <a:pt x="652" y="82"/>
                    </a:lnTo>
                    <a:lnTo>
                      <a:pt x="668" y="94"/>
                    </a:lnTo>
                    <a:lnTo>
                      <a:pt x="682" y="107"/>
                    </a:lnTo>
                    <a:lnTo>
                      <a:pt x="696" y="120"/>
                    </a:lnTo>
                    <a:lnTo>
                      <a:pt x="710" y="135"/>
                    </a:lnTo>
                    <a:lnTo>
                      <a:pt x="723" y="149"/>
                    </a:lnTo>
                    <a:lnTo>
                      <a:pt x="735" y="165"/>
                    </a:lnTo>
                    <a:lnTo>
                      <a:pt x="747" y="180"/>
                    </a:lnTo>
                    <a:lnTo>
                      <a:pt x="756" y="197"/>
                    </a:lnTo>
                    <a:lnTo>
                      <a:pt x="767" y="215"/>
                    </a:lnTo>
                    <a:lnTo>
                      <a:pt x="776" y="232"/>
                    </a:lnTo>
                    <a:lnTo>
                      <a:pt x="784" y="250"/>
                    </a:lnTo>
                    <a:lnTo>
                      <a:pt x="791" y="269"/>
                    </a:lnTo>
                    <a:lnTo>
                      <a:pt x="797" y="287"/>
                    </a:lnTo>
                    <a:lnTo>
                      <a:pt x="803" y="307"/>
                    </a:lnTo>
                    <a:lnTo>
                      <a:pt x="808" y="326"/>
                    </a:lnTo>
                    <a:lnTo>
                      <a:pt x="812" y="347"/>
                    </a:lnTo>
                    <a:lnTo>
                      <a:pt x="814" y="367"/>
                    </a:lnTo>
                    <a:lnTo>
                      <a:pt x="815" y="388"/>
                    </a:lnTo>
                    <a:lnTo>
                      <a:pt x="816" y="408"/>
                    </a:lnTo>
                    <a:lnTo>
                      <a:pt x="815" y="430"/>
                    </a:lnTo>
                    <a:lnTo>
                      <a:pt x="814" y="450"/>
                    </a:lnTo>
                    <a:lnTo>
                      <a:pt x="812" y="470"/>
                    </a:lnTo>
                    <a:lnTo>
                      <a:pt x="808" y="491"/>
                    </a:lnTo>
                    <a:lnTo>
                      <a:pt x="803" y="510"/>
                    </a:lnTo>
                    <a:lnTo>
                      <a:pt x="797" y="529"/>
                    </a:lnTo>
                    <a:lnTo>
                      <a:pt x="791" y="548"/>
                    </a:lnTo>
                    <a:lnTo>
                      <a:pt x="784" y="566"/>
                    </a:lnTo>
                    <a:lnTo>
                      <a:pt x="776" y="584"/>
                    </a:lnTo>
                    <a:lnTo>
                      <a:pt x="767" y="602"/>
                    </a:lnTo>
                    <a:lnTo>
                      <a:pt x="756" y="619"/>
                    </a:lnTo>
                    <a:lnTo>
                      <a:pt x="747" y="636"/>
                    </a:lnTo>
                    <a:lnTo>
                      <a:pt x="735" y="652"/>
                    </a:lnTo>
                    <a:lnTo>
                      <a:pt x="723" y="667"/>
                    </a:lnTo>
                    <a:lnTo>
                      <a:pt x="710" y="683"/>
                    </a:lnTo>
                    <a:lnTo>
                      <a:pt x="696" y="696"/>
                    </a:lnTo>
                    <a:lnTo>
                      <a:pt x="682" y="710"/>
                    </a:lnTo>
                    <a:lnTo>
                      <a:pt x="668" y="722"/>
                    </a:lnTo>
                    <a:lnTo>
                      <a:pt x="652" y="736"/>
                    </a:lnTo>
                    <a:lnTo>
                      <a:pt x="636" y="746"/>
                    </a:lnTo>
                    <a:lnTo>
                      <a:pt x="620" y="757"/>
                    </a:lnTo>
                    <a:lnTo>
                      <a:pt x="603" y="767"/>
                    </a:lnTo>
                    <a:lnTo>
                      <a:pt x="585" y="776"/>
                    </a:lnTo>
                    <a:lnTo>
                      <a:pt x="567" y="784"/>
                    </a:lnTo>
                    <a:lnTo>
                      <a:pt x="549" y="792"/>
                    </a:lnTo>
                    <a:lnTo>
                      <a:pt x="530" y="798"/>
                    </a:lnTo>
                    <a:lnTo>
                      <a:pt x="510" y="803"/>
                    </a:lnTo>
                    <a:lnTo>
                      <a:pt x="490" y="808"/>
                    </a:lnTo>
                    <a:lnTo>
                      <a:pt x="470" y="811"/>
                    </a:lnTo>
                    <a:lnTo>
                      <a:pt x="450" y="814"/>
                    </a:lnTo>
                    <a:lnTo>
                      <a:pt x="429" y="816"/>
                    </a:lnTo>
                    <a:lnTo>
                      <a:pt x="408" y="816"/>
                    </a:lnTo>
                    <a:lnTo>
                      <a:pt x="387" y="816"/>
                    </a:lnTo>
                    <a:lnTo>
                      <a:pt x="366" y="814"/>
                    </a:lnTo>
                    <a:lnTo>
                      <a:pt x="346" y="811"/>
                    </a:lnTo>
                    <a:lnTo>
                      <a:pt x="327" y="808"/>
                    </a:lnTo>
                    <a:lnTo>
                      <a:pt x="306" y="803"/>
                    </a:lnTo>
                    <a:lnTo>
                      <a:pt x="287" y="798"/>
                    </a:lnTo>
                    <a:lnTo>
                      <a:pt x="268" y="792"/>
                    </a:lnTo>
                    <a:lnTo>
                      <a:pt x="250" y="784"/>
                    </a:lnTo>
                    <a:lnTo>
                      <a:pt x="232" y="776"/>
                    </a:lnTo>
                    <a:lnTo>
                      <a:pt x="214" y="767"/>
                    </a:lnTo>
                    <a:lnTo>
                      <a:pt x="197" y="757"/>
                    </a:lnTo>
                    <a:lnTo>
                      <a:pt x="180" y="746"/>
                    </a:lnTo>
                    <a:lnTo>
                      <a:pt x="165" y="736"/>
                    </a:lnTo>
                    <a:lnTo>
                      <a:pt x="149" y="722"/>
                    </a:lnTo>
                    <a:lnTo>
                      <a:pt x="135" y="710"/>
                    </a:lnTo>
                    <a:lnTo>
                      <a:pt x="120" y="696"/>
                    </a:lnTo>
                    <a:lnTo>
                      <a:pt x="106" y="683"/>
                    </a:lnTo>
                    <a:lnTo>
                      <a:pt x="94" y="667"/>
                    </a:lnTo>
                    <a:lnTo>
                      <a:pt x="82" y="652"/>
                    </a:lnTo>
                    <a:lnTo>
                      <a:pt x="70" y="636"/>
                    </a:lnTo>
                    <a:lnTo>
                      <a:pt x="59" y="619"/>
                    </a:lnTo>
                    <a:lnTo>
                      <a:pt x="50" y="602"/>
                    </a:lnTo>
                    <a:lnTo>
                      <a:pt x="41" y="584"/>
                    </a:lnTo>
                    <a:lnTo>
                      <a:pt x="33" y="566"/>
                    </a:lnTo>
                    <a:lnTo>
                      <a:pt x="26" y="548"/>
                    </a:lnTo>
                    <a:lnTo>
                      <a:pt x="18" y="529"/>
                    </a:lnTo>
                    <a:lnTo>
                      <a:pt x="14" y="510"/>
                    </a:lnTo>
                    <a:lnTo>
                      <a:pt x="9" y="491"/>
                    </a:lnTo>
                    <a:lnTo>
                      <a:pt x="5" y="470"/>
                    </a:lnTo>
                    <a:lnTo>
                      <a:pt x="3" y="450"/>
                    </a:lnTo>
                    <a:lnTo>
                      <a:pt x="0" y="430"/>
                    </a:lnTo>
                    <a:lnTo>
                      <a:pt x="0" y="408"/>
                    </a:lnTo>
                    <a:lnTo>
                      <a:pt x="0" y="388"/>
                    </a:lnTo>
                    <a:lnTo>
                      <a:pt x="3" y="367"/>
                    </a:lnTo>
                    <a:lnTo>
                      <a:pt x="5" y="347"/>
                    </a:lnTo>
                    <a:lnTo>
                      <a:pt x="9" y="326"/>
                    </a:lnTo>
                    <a:lnTo>
                      <a:pt x="14" y="307"/>
                    </a:lnTo>
                    <a:lnTo>
                      <a:pt x="18" y="287"/>
                    </a:lnTo>
                    <a:lnTo>
                      <a:pt x="26" y="269"/>
                    </a:lnTo>
                    <a:lnTo>
                      <a:pt x="33" y="250"/>
                    </a:lnTo>
                    <a:lnTo>
                      <a:pt x="41" y="232"/>
                    </a:lnTo>
                    <a:lnTo>
                      <a:pt x="50" y="215"/>
                    </a:lnTo>
                    <a:lnTo>
                      <a:pt x="59" y="197"/>
                    </a:lnTo>
                    <a:lnTo>
                      <a:pt x="70" y="180"/>
                    </a:lnTo>
                    <a:lnTo>
                      <a:pt x="82" y="165"/>
                    </a:lnTo>
                    <a:lnTo>
                      <a:pt x="94" y="149"/>
                    </a:lnTo>
                    <a:lnTo>
                      <a:pt x="106" y="135"/>
                    </a:lnTo>
                    <a:lnTo>
                      <a:pt x="120" y="120"/>
                    </a:lnTo>
                    <a:lnTo>
                      <a:pt x="135" y="107"/>
                    </a:lnTo>
                    <a:lnTo>
                      <a:pt x="149" y="94"/>
                    </a:lnTo>
                    <a:lnTo>
                      <a:pt x="165" y="82"/>
                    </a:lnTo>
                    <a:lnTo>
                      <a:pt x="180" y="71"/>
                    </a:lnTo>
                    <a:lnTo>
                      <a:pt x="197" y="60"/>
                    </a:lnTo>
                    <a:lnTo>
                      <a:pt x="214" y="51"/>
                    </a:lnTo>
                    <a:lnTo>
                      <a:pt x="232" y="41"/>
                    </a:lnTo>
                    <a:lnTo>
                      <a:pt x="250" y="33"/>
                    </a:lnTo>
                    <a:lnTo>
                      <a:pt x="268" y="25"/>
                    </a:lnTo>
                    <a:lnTo>
                      <a:pt x="287" y="19"/>
                    </a:lnTo>
                    <a:lnTo>
                      <a:pt x="306" y="13"/>
                    </a:lnTo>
                    <a:lnTo>
                      <a:pt x="327" y="9"/>
                    </a:lnTo>
                    <a:lnTo>
                      <a:pt x="346" y="5"/>
                    </a:lnTo>
                    <a:lnTo>
                      <a:pt x="366" y="3"/>
                    </a:lnTo>
                    <a:lnTo>
                      <a:pt x="387" y="1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be8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357880" y="490068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425" h="425">
                    <a:moveTo>
                      <a:pt x="425" y="425"/>
                    </a:moveTo>
                    <a:lnTo>
                      <a:pt x="425" y="425"/>
                    </a:lnTo>
                    <a:lnTo>
                      <a:pt x="425" y="403"/>
                    </a:lnTo>
                    <a:lnTo>
                      <a:pt x="423" y="382"/>
                    </a:lnTo>
                    <a:lnTo>
                      <a:pt x="420" y="361"/>
                    </a:lnTo>
                    <a:lnTo>
                      <a:pt x="417" y="340"/>
                    </a:lnTo>
                    <a:lnTo>
                      <a:pt x="412" y="319"/>
                    </a:lnTo>
                    <a:lnTo>
                      <a:pt x="406" y="299"/>
                    </a:lnTo>
                    <a:lnTo>
                      <a:pt x="400" y="280"/>
                    </a:lnTo>
                    <a:lnTo>
                      <a:pt x="392" y="261"/>
                    </a:lnTo>
                    <a:lnTo>
                      <a:pt x="383" y="242"/>
                    </a:lnTo>
                    <a:lnTo>
                      <a:pt x="374" y="224"/>
                    </a:lnTo>
                    <a:lnTo>
                      <a:pt x="364" y="206"/>
                    </a:lnTo>
                    <a:lnTo>
                      <a:pt x="353" y="188"/>
                    </a:lnTo>
                    <a:lnTo>
                      <a:pt x="341" y="172"/>
                    </a:lnTo>
                    <a:lnTo>
                      <a:pt x="328" y="155"/>
                    </a:lnTo>
                    <a:lnTo>
                      <a:pt x="315" y="140"/>
                    </a:lnTo>
                    <a:lnTo>
                      <a:pt x="300" y="125"/>
                    </a:lnTo>
                    <a:lnTo>
                      <a:pt x="286" y="111"/>
                    </a:lnTo>
                    <a:lnTo>
                      <a:pt x="270" y="98"/>
                    </a:lnTo>
                    <a:lnTo>
                      <a:pt x="255" y="86"/>
                    </a:lnTo>
                    <a:lnTo>
                      <a:pt x="238" y="74"/>
                    </a:lnTo>
                    <a:lnTo>
                      <a:pt x="220" y="62"/>
                    </a:lnTo>
                    <a:lnTo>
                      <a:pt x="203" y="52"/>
                    </a:lnTo>
                    <a:lnTo>
                      <a:pt x="184" y="42"/>
                    </a:lnTo>
                    <a:lnTo>
                      <a:pt x="166" y="34"/>
                    </a:lnTo>
                    <a:lnTo>
                      <a:pt x="146" y="27"/>
                    </a:lnTo>
                    <a:lnTo>
                      <a:pt x="126" y="20"/>
                    </a:lnTo>
                    <a:lnTo>
                      <a:pt x="106" y="14"/>
                    </a:lnTo>
                    <a:lnTo>
                      <a:pt x="86" y="9"/>
                    </a:lnTo>
                    <a:lnTo>
                      <a:pt x="65" y="5"/>
                    </a:lnTo>
                    <a:lnTo>
                      <a:pt x="44" y="3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21" y="35"/>
                    </a:lnTo>
                    <a:lnTo>
                      <a:pt x="40" y="38"/>
                    </a:lnTo>
                    <a:lnTo>
                      <a:pt x="59" y="40"/>
                    </a:lnTo>
                    <a:lnTo>
                      <a:pt x="78" y="42"/>
                    </a:lnTo>
                    <a:lnTo>
                      <a:pt x="98" y="47"/>
                    </a:lnTo>
                    <a:lnTo>
                      <a:pt x="116" y="53"/>
                    </a:lnTo>
                    <a:lnTo>
                      <a:pt x="135" y="59"/>
                    </a:lnTo>
                    <a:lnTo>
                      <a:pt x="152" y="66"/>
                    </a:lnTo>
                    <a:lnTo>
                      <a:pt x="170" y="74"/>
                    </a:lnTo>
                    <a:lnTo>
                      <a:pt x="186" y="82"/>
                    </a:lnTo>
                    <a:lnTo>
                      <a:pt x="202" y="92"/>
                    </a:lnTo>
                    <a:lnTo>
                      <a:pt x="219" y="102"/>
                    </a:lnTo>
                    <a:lnTo>
                      <a:pt x="233" y="113"/>
                    </a:lnTo>
                    <a:lnTo>
                      <a:pt x="249" y="124"/>
                    </a:lnTo>
                    <a:lnTo>
                      <a:pt x="262" y="137"/>
                    </a:lnTo>
                    <a:lnTo>
                      <a:pt x="276" y="149"/>
                    </a:lnTo>
                    <a:lnTo>
                      <a:pt x="290" y="164"/>
                    </a:lnTo>
                    <a:lnTo>
                      <a:pt x="302" y="178"/>
                    </a:lnTo>
                    <a:lnTo>
                      <a:pt x="314" y="192"/>
                    </a:lnTo>
                    <a:lnTo>
                      <a:pt x="324" y="208"/>
                    </a:lnTo>
                    <a:lnTo>
                      <a:pt x="334" y="224"/>
                    </a:lnTo>
                    <a:lnTo>
                      <a:pt x="344" y="239"/>
                    </a:lnTo>
                    <a:lnTo>
                      <a:pt x="352" y="256"/>
                    </a:lnTo>
                    <a:lnTo>
                      <a:pt x="360" y="274"/>
                    </a:lnTo>
                    <a:lnTo>
                      <a:pt x="366" y="292"/>
                    </a:lnTo>
                    <a:lnTo>
                      <a:pt x="374" y="310"/>
                    </a:lnTo>
                    <a:lnTo>
                      <a:pt x="378" y="328"/>
                    </a:lnTo>
                    <a:lnTo>
                      <a:pt x="383" y="347"/>
                    </a:lnTo>
                    <a:lnTo>
                      <a:pt x="386" y="366"/>
                    </a:lnTo>
                    <a:lnTo>
                      <a:pt x="389" y="385"/>
                    </a:lnTo>
                    <a:lnTo>
                      <a:pt x="390" y="406"/>
                    </a:lnTo>
                    <a:lnTo>
                      <a:pt x="390" y="425"/>
                    </a:lnTo>
                    <a:lnTo>
                      <a:pt x="390" y="425"/>
                    </a:lnTo>
                    <a:lnTo>
                      <a:pt x="425" y="42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357880" y="5068800"/>
                <a:ext cx="168120" cy="168480"/>
              </a:xfrm>
              <a:custGeom>
                <a:avLst/>
                <a:gdLst/>
                <a:ahLst/>
                <a:rect l="l" t="t" r="r" b="b"/>
                <a:pathLst>
                  <a:path w="425" h="426">
                    <a:moveTo>
                      <a:pt x="0" y="426"/>
                    </a:moveTo>
                    <a:lnTo>
                      <a:pt x="0" y="426"/>
                    </a:lnTo>
                    <a:lnTo>
                      <a:pt x="22" y="425"/>
                    </a:lnTo>
                    <a:lnTo>
                      <a:pt x="44" y="424"/>
                    </a:lnTo>
                    <a:lnTo>
                      <a:pt x="65" y="421"/>
                    </a:lnTo>
                    <a:lnTo>
                      <a:pt x="86" y="416"/>
                    </a:lnTo>
                    <a:lnTo>
                      <a:pt x="106" y="412"/>
                    </a:lnTo>
                    <a:lnTo>
                      <a:pt x="126" y="407"/>
                    </a:lnTo>
                    <a:lnTo>
                      <a:pt x="146" y="400"/>
                    </a:lnTo>
                    <a:lnTo>
                      <a:pt x="166" y="392"/>
                    </a:lnTo>
                    <a:lnTo>
                      <a:pt x="184" y="384"/>
                    </a:lnTo>
                    <a:lnTo>
                      <a:pt x="203" y="374"/>
                    </a:lnTo>
                    <a:lnTo>
                      <a:pt x="220" y="364"/>
                    </a:lnTo>
                    <a:lnTo>
                      <a:pt x="238" y="353"/>
                    </a:lnTo>
                    <a:lnTo>
                      <a:pt x="255" y="341"/>
                    </a:lnTo>
                    <a:lnTo>
                      <a:pt x="270" y="329"/>
                    </a:lnTo>
                    <a:lnTo>
                      <a:pt x="286" y="314"/>
                    </a:lnTo>
                    <a:lnTo>
                      <a:pt x="300" y="301"/>
                    </a:lnTo>
                    <a:lnTo>
                      <a:pt x="315" y="286"/>
                    </a:lnTo>
                    <a:lnTo>
                      <a:pt x="328" y="271"/>
                    </a:lnTo>
                    <a:lnTo>
                      <a:pt x="341" y="254"/>
                    </a:lnTo>
                    <a:lnTo>
                      <a:pt x="353" y="238"/>
                    </a:lnTo>
                    <a:lnTo>
                      <a:pt x="364" y="221"/>
                    </a:lnTo>
                    <a:lnTo>
                      <a:pt x="374" y="203"/>
                    </a:lnTo>
                    <a:lnTo>
                      <a:pt x="383" y="185"/>
                    </a:lnTo>
                    <a:lnTo>
                      <a:pt x="392" y="166"/>
                    </a:lnTo>
                    <a:lnTo>
                      <a:pt x="400" y="146"/>
                    </a:lnTo>
                    <a:lnTo>
                      <a:pt x="406" y="126"/>
                    </a:lnTo>
                    <a:lnTo>
                      <a:pt x="412" y="107"/>
                    </a:lnTo>
                    <a:lnTo>
                      <a:pt x="417" y="86"/>
                    </a:lnTo>
                    <a:lnTo>
                      <a:pt x="420" y="65"/>
                    </a:lnTo>
                    <a:lnTo>
                      <a:pt x="423" y="43"/>
                    </a:lnTo>
                    <a:lnTo>
                      <a:pt x="425" y="22"/>
                    </a:lnTo>
                    <a:lnTo>
                      <a:pt x="425" y="0"/>
                    </a:lnTo>
                    <a:lnTo>
                      <a:pt x="390" y="0"/>
                    </a:lnTo>
                    <a:lnTo>
                      <a:pt x="390" y="20"/>
                    </a:lnTo>
                    <a:lnTo>
                      <a:pt x="389" y="41"/>
                    </a:lnTo>
                    <a:lnTo>
                      <a:pt x="386" y="60"/>
                    </a:lnTo>
                    <a:lnTo>
                      <a:pt x="383" y="79"/>
                    </a:lnTo>
                    <a:lnTo>
                      <a:pt x="378" y="97"/>
                    </a:lnTo>
                    <a:lnTo>
                      <a:pt x="374" y="116"/>
                    </a:lnTo>
                    <a:lnTo>
                      <a:pt x="366" y="134"/>
                    </a:lnTo>
                    <a:lnTo>
                      <a:pt x="360" y="152"/>
                    </a:lnTo>
                    <a:lnTo>
                      <a:pt x="352" y="169"/>
                    </a:lnTo>
                    <a:lnTo>
                      <a:pt x="344" y="186"/>
                    </a:lnTo>
                    <a:lnTo>
                      <a:pt x="334" y="203"/>
                    </a:lnTo>
                    <a:lnTo>
                      <a:pt x="324" y="218"/>
                    </a:lnTo>
                    <a:lnTo>
                      <a:pt x="314" y="234"/>
                    </a:lnTo>
                    <a:lnTo>
                      <a:pt x="302" y="248"/>
                    </a:lnTo>
                    <a:lnTo>
                      <a:pt x="290" y="263"/>
                    </a:lnTo>
                    <a:lnTo>
                      <a:pt x="276" y="276"/>
                    </a:lnTo>
                    <a:lnTo>
                      <a:pt x="262" y="289"/>
                    </a:lnTo>
                    <a:lnTo>
                      <a:pt x="249" y="301"/>
                    </a:lnTo>
                    <a:lnTo>
                      <a:pt x="233" y="313"/>
                    </a:lnTo>
                    <a:lnTo>
                      <a:pt x="219" y="324"/>
                    </a:lnTo>
                    <a:lnTo>
                      <a:pt x="202" y="335"/>
                    </a:lnTo>
                    <a:lnTo>
                      <a:pt x="186" y="343"/>
                    </a:lnTo>
                    <a:lnTo>
                      <a:pt x="170" y="353"/>
                    </a:lnTo>
                    <a:lnTo>
                      <a:pt x="152" y="360"/>
                    </a:lnTo>
                    <a:lnTo>
                      <a:pt x="135" y="367"/>
                    </a:lnTo>
                    <a:lnTo>
                      <a:pt x="116" y="373"/>
                    </a:lnTo>
                    <a:lnTo>
                      <a:pt x="98" y="378"/>
                    </a:lnTo>
                    <a:lnTo>
                      <a:pt x="78" y="383"/>
                    </a:lnTo>
                    <a:lnTo>
                      <a:pt x="59" y="386"/>
                    </a:lnTo>
                    <a:lnTo>
                      <a:pt x="40" y="389"/>
                    </a:lnTo>
                    <a:lnTo>
                      <a:pt x="21" y="390"/>
                    </a:lnTo>
                    <a:lnTo>
                      <a:pt x="0" y="391"/>
                    </a:lnTo>
                    <a:lnTo>
                      <a:pt x="0" y="391"/>
                    </a:lnTo>
                    <a:lnTo>
                      <a:pt x="0" y="42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187960" y="5068800"/>
                <a:ext cx="169920" cy="168480"/>
              </a:xfrm>
              <a:custGeom>
                <a:avLst/>
                <a:gdLst/>
                <a:ahLst/>
                <a:rect l="l" t="t" r="r" b="b"/>
                <a:pathLst>
                  <a:path w="424" h="426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" y="43"/>
                    </a:lnTo>
                    <a:lnTo>
                      <a:pt x="4" y="65"/>
                    </a:lnTo>
                    <a:lnTo>
                      <a:pt x="8" y="86"/>
                    </a:lnTo>
                    <a:lnTo>
                      <a:pt x="13" y="107"/>
                    </a:lnTo>
                    <a:lnTo>
                      <a:pt x="18" y="126"/>
                    </a:lnTo>
                    <a:lnTo>
                      <a:pt x="25" y="146"/>
                    </a:lnTo>
                    <a:lnTo>
                      <a:pt x="32" y="166"/>
                    </a:lnTo>
                    <a:lnTo>
                      <a:pt x="42" y="185"/>
                    </a:lnTo>
                    <a:lnTo>
                      <a:pt x="50" y="203"/>
                    </a:lnTo>
                    <a:lnTo>
                      <a:pt x="61" y="221"/>
                    </a:lnTo>
                    <a:lnTo>
                      <a:pt x="72" y="238"/>
                    </a:lnTo>
                    <a:lnTo>
                      <a:pt x="84" y="254"/>
                    </a:lnTo>
                    <a:lnTo>
                      <a:pt x="97" y="271"/>
                    </a:lnTo>
                    <a:lnTo>
                      <a:pt x="110" y="286"/>
                    </a:lnTo>
                    <a:lnTo>
                      <a:pt x="123" y="301"/>
                    </a:lnTo>
                    <a:lnTo>
                      <a:pt x="139" y="314"/>
                    </a:lnTo>
                    <a:lnTo>
                      <a:pt x="154" y="329"/>
                    </a:lnTo>
                    <a:lnTo>
                      <a:pt x="170" y="341"/>
                    </a:lnTo>
                    <a:lnTo>
                      <a:pt x="187" y="353"/>
                    </a:lnTo>
                    <a:lnTo>
                      <a:pt x="204" y="364"/>
                    </a:lnTo>
                    <a:lnTo>
                      <a:pt x="222" y="374"/>
                    </a:lnTo>
                    <a:lnTo>
                      <a:pt x="240" y="384"/>
                    </a:lnTo>
                    <a:lnTo>
                      <a:pt x="259" y="392"/>
                    </a:lnTo>
                    <a:lnTo>
                      <a:pt x="278" y="400"/>
                    </a:lnTo>
                    <a:lnTo>
                      <a:pt x="298" y="407"/>
                    </a:lnTo>
                    <a:lnTo>
                      <a:pt x="319" y="412"/>
                    </a:lnTo>
                    <a:lnTo>
                      <a:pt x="339" y="416"/>
                    </a:lnTo>
                    <a:lnTo>
                      <a:pt x="360" y="421"/>
                    </a:lnTo>
                    <a:lnTo>
                      <a:pt x="381" y="424"/>
                    </a:lnTo>
                    <a:lnTo>
                      <a:pt x="403" y="425"/>
                    </a:lnTo>
                    <a:lnTo>
                      <a:pt x="424" y="426"/>
                    </a:lnTo>
                    <a:lnTo>
                      <a:pt x="424" y="391"/>
                    </a:lnTo>
                    <a:lnTo>
                      <a:pt x="404" y="390"/>
                    </a:lnTo>
                    <a:lnTo>
                      <a:pt x="385" y="389"/>
                    </a:lnTo>
                    <a:lnTo>
                      <a:pt x="364" y="386"/>
                    </a:lnTo>
                    <a:lnTo>
                      <a:pt x="345" y="383"/>
                    </a:lnTo>
                    <a:lnTo>
                      <a:pt x="327" y="378"/>
                    </a:lnTo>
                    <a:lnTo>
                      <a:pt x="308" y="373"/>
                    </a:lnTo>
                    <a:lnTo>
                      <a:pt x="290" y="367"/>
                    </a:lnTo>
                    <a:lnTo>
                      <a:pt x="272" y="360"/>
                    </a:lnTo>
                    <a:lnTo>
                      <a:pt x="255" y="353"/>
                    </a:lnTo>
                    <a:lnTo>
                      <a:pt x="238" y="343"/>
                    </a:lnTo>
                    <a:lnTo>
                      <a:pt x="222" y="335"/>
                    </a:lnTo>
                    <a:lnTo>
                      <a:pt x="206" y="324"/>
                    </a:lnTo>
                    <a:lnTo>
                      <a:pt x="190" y="313"/>
                    </a:lnTo>
                    <a:lnTo>
                      <a:pt x="176" y="301"/>
                    </a:lnTo>
                    <a:lnTo>
                      <a:pt x="162" y="289"/>
                    </a:lnTo>
                    <a:lnTo>
                      <a:pt x="148" y="276"/>
                    </a:lnTo>
                    <a:lnTo>
                      <a:pt x="135" y="263"/>
                    </a:lnTo>
                    <a:lnTo>
                      <a:pt x="123" y="248"/>
                    </a:lnTo>
                    <a:lnTo>
                      <a:pt x="111" y="234"/>
                    </a:lnTo>
                    <a:lnTo>
                      <a:pt x="100" y="218"/>
                    </a:lnTo>
                    <a:lnTo>
                      <a:pt x="91" y="203"/>
                    </a:lnTo>
                    <a:lnTo>
                      <a:pt x="81" y="186"/>
                    </a:lnTo>
                    <a:lnTo>
                      <a:pt x="73" y="169"/>
                    </a:lnTo>
                    <a:lnTo>
                      <a:pt x="64" y="152"/>
                    </a:lnTo>
                    <a:lnTo>
                      <a:pt x="57" y="134"/>
                    </a:lnTo>
                    <a:lnTo>
                      <a:pt x="51" y="116"/>
                    </a:lnTo>
                    <a:lnTo>
                      <a:pt x="46" y="98"/>
                    </a:lnTo>
                    <a:lnTo>
                      <a:pt x="42" y="79"/>
                    </a:lnTo>
                    <a:lnTo>
                      <a:pt x="38" y="60"/>
                    </a:lnTo>
                    <a:lnTo>
                      <a:pt x="36" y="41"/>
                    </a:lnTo>
                    <a:lnTo>
                      <a:pt x="34" y="2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187960" y="4900680"/>
                <a:ext cx="169920" cy="168120"/>
              </a:xfrm>
              <a:custGeom>
                <a:avLst/>
                <a:gdLst/>
                <a:ahLst/>
                <a:rect l="l" t="t" r="r" b="b"/>
                <a:pathLst>
                  <a:path w="424" h="425">
                    <a:moveTo>
                      <a:pt x="424" y="0"/>
                    </a:moveTo>
                    <a:lnTo>
                      <a:pt x="424" y="0"/>
                    </a:lnTo>
                    <a:lnTo>
                      <a:pt x="403" y="0"/>
                    </a:lnTo>
                    <a:lnTo>
                      <a:pt x="381" y="3"/>
                    </a:lnTo>
                    <a:lnTo>
                      <a:pt x="360" y="5"/>
                    </a:lnTo>
                    <a:lnTo>
                      <a:pt x="339" y="9"/>
                    </a:lnTo>
                    <a:lnTo>
                      <a:pt x="318" y="14"/>
                    </a:lnTo>
                    <a:lnTo>
                      <a:pt x="298" y="20"/>
                    </a:lnTo>
                    <a:lnTo>
                      <a:pt x="278" y="27"/>
                    </a:lnTo>
                    <a:lnTo>
                      <a:pt x="259" y="34"/>
                    </a:lnTo>
                    <a:lnTo>
                      <a:pt x="240" y="42"/>
                    </a:lnTo>
                    <a:lnTo>
                      <a:pt x="222" y="52"/>
                    </a:lnTo>
                    <a:lnTo>
                      <a:pt x="204" y="62"/>
                    </a:lnTo>
                    <a:lnTo>
                      <a:pt x="187" y="74"/>
                    </a:lnTo>
                    <a:lnTo>
                      <a:pt x="170" y="86"/>
                    </a:lnTo>
                    <a:lnTo>
                      <a:pt x="154" y="98"/>
                    </a:lnTo>
                    <a:lnTo>
                      <a:pt x="139" y="111"/>
                    </a:lnTo>
                    <a:lnTo>
                      <a:pt x="123" y="125"/>
                    </a:lnTo>
                    <a:lnTo>
                      <a:pt x="110" y="140"/>
                    </a:lnTo>
                    <a:lnTo>
                      <a:pt x="97" y="155"/>
                    </a:lnTo>
                    <a:lnTo>
                      <a:pt x="84" y="172"/>
                    </a:lnTo>
                    <a:lnTo>
                      <a:pt x="72" y="188"/>
                    </a:lnTo>
                    <a:lnTo>
                      <a:pt x="61" y="206"/>
                    </a:lnTo>
                    <a:lnTo>
                      <a:pt x="50" y="224"/>
                    </a:lnTo>
                    <a:lnTo>
                      <a:pt x="42" y="242"/>
                    </a:lnTo>
                    <a:lnTo>
                      <a:pt x="32" y="261"/>
                    </a:lnTo>
                    <a:lnTo>
                      <a:pt x="25" y="280"/>
                    </a:lnTo>
                    <a:lnTo>
                      <a:pt x="18" y="299"/>
                    </a:lnTo>
                    <a:lnTo>
                      <a:pt x="13" y="319"/>
                    </a:lnTo>
                    <a:lnTo>
                      <a:pt x="8" y="340"/>
                    </a:lnTo>
                    <a:lnTo>
                      <a:pt x="4" y="361"/>
                    </a:lnTo>
                    <a:lnTo>
                      <a:pt x="1" y="382"/>
                    </a:lnTo>
                    <a:lnTo>
                      <a:pt x="0" y="403"/>
                    </a:lnTo>
                    <a:lnTo>
                      <a:pt x="0" y="425"/>
                    </a:lnTo>
                    <a:lnTo>
                      <a:pt x="33" y="425"/>
                    </a:lnTo>
                    <a:lnTo>
                      <a:pt x="34" y="406"/>
                    </a:lnTo>
                    <a:lnTo>
                      <a:pt x="36" y="385"/>
                    </a:lnTo>
                    <a:lnTo>
                      <a:pt x="38" y="366"/>
                    </a:lnTo>
                    <a:lnTo>
                      <a:pt x="42" y="347"/>
                    </a:lnTo>
                    <a:lnTo>
                      <a:pt x="46" y="328"/>
                    </a:lnTo>
                    <a:lnTo>
                      <a:pt x="51" y="310"/>
                    </a:lnTo>
                    <a:lnTo>
                      <a:pt x="57" y="292"/>
                    </a:lnTo>
                    <a:lnTo>
                      <a:pt x="64" y="274"/>
                    </a:lnTo>
                    <a:lnTo>
                      <a:pt x="73" y="256"/>
                    </a:lnTo>
                    <a:lnTo>
                      <a:pt x="81" y="239"/>
                    </a:lnTo>
                    <a:lnTo>
                      <a:pt x="91" y="224"/>
                    </a:lnTo>
                    <a:lnTo>
                      <a:pt x="100" y="208"/>
                    </a:lnTo>
                    <a:lnTo>
                      <a:pt x="111" y="192"/>
                    </a:lnTo>
                    <a:lnTo>
                      <a:pt x="123" y="178"/>
                    </a:lnTo>
                    <a:lnTo>
                      <a:pt x="135" y="164"/>
                    </a:lnTo>
                    <a:lnTo>
                      <a:pt x="148" y="149"/>
                    </a:lnTo>
                    <a:lnTo>
                      <a:pt x="162" y="137"/>
                    </a:lnTo>
                    <a:lnTo>
                      <a:pt x="176" y="124"/>
                    </a:lnTo>
                    <a:lnTo>
                      <a:pt x="190" y="113"/>
                    </a:lnTo>
                    <a:lnTo>
                      <a:pt x="206" y="102"/>
                    </a:lnTo>
                    <a:lnTo>
                      <a:pt x="222" y="92"/>
                    </a:lnTo>
                    <a:lnTo>
                      <a:pt x="238" y="82"/>
                    </a:lnTo>
                    <a:lnTo>
                      <a:pt x="255" y="74"/>
                    </a:lnTo>
                    <a:lnTo>
                      <a:pt x="272" y="66"/>
                    </a:lnTo>
                    <a:lnTo>
                      <a:pt x="290" y="59"/>
                    </a:lnTo>
                    <a:lnTo>
                      <a:pt x="308" y="53"/>
                    </a:lnTo>
                    <a:lnTo>
                      <a:pt x="327" y="47"/>
                    </a:lnTo>
                    <a:lnTo>
                      <a:pt x="345" y="42"/>
                    </a:lnTo>
                    <a:lnTo>
                      <a:pt x="364" y="40"/>
                    </a:lnTo>
                    <a:lnTo>
                      <a:pt x="385" y="38"/>
                    </a:lnTo>
                    <a:lnTo>
                      <a:pt x="404" y="35"/>
                    </a:lnTo>
                    <a:lnTo>
                      <a:pt x="424" y="35"/>
                    </a:lnTo>
                    <a:lnTo>
                      <a:pt x="424" y="35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197320" y="4910040"/>
                <a:ext cx="320760" cy="319320"/>
              </a:xfrm>
              <a:custGeom>
                <a:avLst/>
                <a:gdLst/>
                <a:ahLst/>
                <a:rect l="l" t="t" r="r" b="b"/>
                <a:pathLst>
                  <a:path w="808" h="808">
                    <a:moveTo>
                      <a:pt x="403" y="0"/>
                    </a:moveTo>
                    <a:lnTo>
                      <a:pt x="425" y="0"/>
                    </a:lnTo>
                    <a:lnTo>
                      <a:pt x="445" y="2"/>
                    </a:lnTo>
                    <a:lnTo>
                      <a:pt x="465" y="5"/>
                    </a:lnTo>
                    <a:lnTo>
                      <a:pt x="485" y="9"/>
                    </a:lnTo>
                    <a:lnTo>
                      <a:pt x="504" y="12"/>
                    </a:lnTo>
                    <a:lnTo>
                      <a:pt x="523" y="18"/>
                    </a:lnTo>
                    <a:lnTo>
                      <a:pt x="543" y="24"/>
                    </a:lnTo>
                    <a:lnTo>
                      <a:pt x="561" y="32"/>
                    </a:lnTo>
                    <a:lnTo>
                      <a:pt x="579" y="40"/>
                    </a:lnTo>
                    <a:lnTo>
                      <a:pt x="597" y="48"/>
                    </a:lnTo>
                    <a:lnTo>
                      <a:pt x="613" y="59"/>
                    </a:lnTo>
                    <a:lnTo>
                      <a:pt x="629" y="69"/>
                    </a:lnTo>
                    <a:lnTo>
                      <a:pt x="646" y="81"/>
                    </a:lnTo>
                    <a:lnTo>
                      <a:pt x="660" y="93"/>
                    </a:lnTo>
                    <a:lnTo>
                      <a:pt x="676" y="105"/>
                    </a:lnTo>
                    <a:lnTo>
                      <a:pt x="689" y="118"/>
                    </a:lnTo>
                    <a:lnTo>
                      <a:pt x="702" y="132"/>
                    </a:lnTo>
                    <a:lnTo>
                      <a:pt x="715" y="147"/>
                    </a:lnTo>
                    <a:lnTo>
                      <a:pt x="727" y="162"/>
                    </a:lnTo>
                    <a:lnTo>
                      <a:pt x="738" y="178"/>
                    </a:lnTo>
                    <a:lnTo>
                      <a:pt x="749" y="195"/>
                    </a:lnTo>
                    <a:lnTo>
                      <a:pt x="759" y="212"/>
                    </a:lnTo>
                    <a:lnTo>
                      <a:pt x="768" y="230"/>
                    </a:lnTo>
                    <a:lnTo>
                      <a:pt x="777" y="248"/>
                    </a:lnTo>
                    <a:lnTo>
                      <a:pt x="784" y="266"/>
                    </a:lnTo>
                    <a:lnTo>
                      <a:pt x="790" y="283"/>
                    </a:lnTo>
                    <a:lnTo>
                      <a:pt x="795" y="303"/>
                    </a:lnTo>
                    <a:lnTo>
                      <a:pt x="799" y="323"/>
                    </a:lnTo>
                    <a:lnTo>
                      <a:pt x="803" y="342"/>
                    </a:lnTo>
                    <a:lnTo>
                      <a:pt x="805" y="363"/>
                    </a:lnTo>
                    <a:lnTo>
                      <a:pt x="808" y="383"/>
                    </a:lnTo>
                    <a:lnTo>
                      <a:pt x="808" y="403"/>
                    </a:lnTo>
                    <a:lnTo>
                      <a:pt x="808" y="425"/>
                    </a:lnTo>
                    <a:lnTo>
                      <a:pt x="805" y="445"/>
                    </a:lnTo>
                    <a:lnTo>
                      <a:pt x="803" y="466"/>
                    </a:lnTo>
                    <a:lnTo>
                      <a:pt x="799" y="485"/>
                    </a:lnTo>
                    <a:lnTo>
                      <a:pt x="795" y="504"/>
                    </a:lnTo>
                    <a:lnTo>
                      <a:pt x="790" y="523"/>
                    </a:lnTo>
                    <a:lnTo>
                      <a:pt x="784" y="543"/>
                    </a:lnTo>
                    <a:lnTo>
                      <a:pt x="777" y="561"/>
                    </a:lnTo>
                    <a:lnTo>
                      <a:pt x="768" y="579"/>
                    </a:lnTo>
                    <a:lnTo>
                      <a:pt x="759" y="597"/>
                    </a:lnTo>
                    <a:lnTo>
                      <a:pt x="749" y="613"/>
                    </a:lnTo>
                    <a:lnTo>
                      <a:pt x="738" y="630"/>
                    </a:lnTo>
                    <a:lnTo>
                      <a:pt x="727" y="646"/>
                    </a:lnTo>
                    <a:lnTo>
                      <a:pt x="715" y="660"/>
                    </a:lnTo>
                    <a:lnTo>
                      <a:pt x="702" y="676"/>
                    </a:lnTo>
                    <a:lnTo>
                      <a:pt x="689" y="689"/>
                    </a:lnTo>
                    <a:lnTo>
                      <a:pt x="676" y="703"/>
                    </a:lnTo>
                    <a:lnTo>
                      <a:pt x="660" y="715"/>
                    </a:lnTo>
                    <a:lnTo>
                      <a:pt x="646" y="727"/>
                    </a:lnTo>
                    <a:lnTo>
                      <a:pt x="629" y="739"/>
                    </a:lnTo>
                    <a:lnTo>
                      <a:pt x="613" y="749"/>
                    </a:lnTo>
                    <a:lnTo>
                      <a:pt x="597" y="759"/>
                    </a:lnTo>
                    <a:lnTo>
                      <a:pt x="579" y="768"/>
                    </a:lnTo>
                    <a:lnTo>
                      <a:pt x="561" y="777"/>
                    </a:lnTo>
                    <a:lnTo>
                      <a:pt x="543" y="784"/>
                    </a:lnTo>
                    <a:lnTo>
                      <a:pt x="523" y="790"/>
                    </a:lnTo>
                    <a:lnTo>
                      <a:pt x="504" y="796"/>
                    </a:lnTo>
                    <a:lnTo>
                      <a:pt x="485" y="799"/>
                    </a:lnTo>
                    <a:lnTo>
                      <a:pt x="465" y="803"/>
                    </a:lnTo>
                    <a:lnTo>
                      <a:pt x="445" y="805"/>
                    </a:lnTo>
                    <a:lnTo>
                      <a:pt x="425" y="808"/>
                    </a:lnTo>
                    <a:lnTo>
                      <a:pt x="403" y="808"/>
                    </a:lnTo>
                    <a:lnTo>
                      <a:pt x="383" y="808"/>
                    </a:lnTo>
                    <a:lnTo>
                      <a:pt x="363" y="805"/>
                    </a:lnTo>
                    <a:lnTo>
                      <a:pt x="342" y="803"/>
                    </a:lnTo>
                    <a:lnTo>
                      <a:pt x="323" y="799"/>
                    </a:lnTo>
                    <a:lnTo>
                      <a:pt x="303" y="796"/>
                    </a:lnTo>
                    <a:lnTo>
                      <a:pt x="283" y="790"/>
                    </a:lnTo>
                    <a:lnTo>
                      <a:pt x="265" y="784"/>
                    </a:lnTo>
                    <a:lnTo>
                      <a:pt x="246" y="777"/>
                    </a:lnTo>
                    <a:lnTo>
                      <a:pt x="228" y="768"/>
                    </a:lnTo>
                    <a:lnTo>
                      <a:pt x="211" y="759"/>
                    </a:lnTo>
                    <a:lnTo>
                      <a:pt x="195" y="749"/>
                    </a:lnTo>
                    <a:lnTo>
                      <a:pt x="178" y="739"/>
                    </a:lnTo>
                    <a:lnTo>
                      <a:pt x="162" y="727"/>
                    </a:lnTo>
                    <a:lnTo>
                      <a:pt x="147" y="715"/>
                    </a:lnTo>
                    <a:lnTo>
                      <a:pt x="132" y="703"/>
                    </a:lnTo>
                    <a:lnTo>
                      <a:pt x="118" y="689"/>
                    </a:lnTo>
                    <a:lnTo>
                      <a:pt x="105" y="676"/>
                    </a:lnTo>
                    <a:lnTo>
                      <a:pt x="93" y="660"/>
                    </a:lnTo>
                    <a:lnTo>
                      <a:pt x="81" y="646"/>
                    </a:lnTo>
                    <a:lnTo>
                      <a:pt x="69" y="630"/>
                    </a:lnTo>
                    <a:lnTo>
                      <a:pt x="58" y="613"/>
                    </a:lnTo>
                    <a:lnTo>
                      <a:pt x="48" y="597"/>
                    </a:lnTo>
                    <a:lnTo>
                      <a:pt x="40" y="579"/>
                    </a:lnTo>
                    <a:lnTo>
                      <a:pt x="31" y="561"/>
                    </a:lnTo>
                    <a:lnTo>
                      <a:pt x="24" y="543"/>
                    </a:lnTo>
                    <a:lnTo>
                      <a:pt x="18" y="523"/>
                    </a:lnTo>
                    <a:lnTo>
                      <a:pt x="12" y="504"/>
                    </a:lnTo>
                    <a:lnTo>
                      <a:pt x="7" y="485"/>
                    </a:lnTo>
                    <a:lnTo>
                      <a:pt x="4" y="466"/>
                    </a:lnTo>
                    <a:lnTo>
                      <a:pt x="1" y="445"/>
                    </a:lnTo>
                    <a:lnTo>
                      <a:pt x="0" y="425"/>
                    </a:lnTo>
                    <a:lnTo>
                      <a:pt x="0" y="403"/>
                    </a:lnTo>
                    <a:lnTo>
                      <a:pt x="0" y="383"/>
                    </a:lnTo>
                    <a:lnTo>
                      <a:pt x="1" y="363"/>
                    </a:lnTo>
                    <a:lnTo>
                      <a:pt x="4" y="342"/>
                    </a:lnTo>
                    <a:lnTo>
                      <a:pt x="7" y="323"/>
                    </a:lnTo>
                    <a:lnTo>
                      <a:pt x="12" y="303"/>
                    </a:lnTo>
                    <a:lnTo>
                      <a:pt x="18" y="283"/>
                    </a:lnTo>
                    <a:lnTo>
                      <a:pt x="24" y="266"/>
                    </a:lnTo>
                    <a:lnTo>
                      <a:pt x="31" y="248"/>
                    </a:lnTo>
                    <a:lnTo>
                      <a:pt x="40" y="230"/>
                    </a:lnTo>
                    <a:lnTo>
                      <a:pt x="48" y="212"/>
                    </a:lnTo>
                    <a:lnTo>
                      <a:pt x="58" y="195"/>
                    </a:lnTo>
                    <a:lnTo>
                      <a:pt x="69" y="178"/>
                    </a:lnTo>
                    <a:lnTo>
                      <a:pt x="81" y="162"/>
                    </a:lnTo>
                    <a:lnTo>
                      <a:pt x="93" y="147"/>
                    </a:lnTo>
                    <a:lnTo>
                      <a:pt x="105" y="132"/>
                    </a:lnTo>
                    <a:lnTo>
                      <a:pt x="118" y="118"/>
                    </a:lnTo>
                    <a:lnTo>
                      <a:pt x="132" y="105"/>
                    </a:lnTo>
                    <a:lnTo>
                      <a:pt x="147" y="93"/>
                    </a:lnTo>
                    <a:lnTo>
                      <a:pt x="162" y="81"/>
                    </a:lnTo>
                    <a:lnTo>
                      <a:pt x="178" y="69"/>
                    </a:lnTo>
                    <a:lnTo>
                      <a:pt x="195" y="59"/>
                    </a:lnTo>
                    <a:lnTo>
                      <a:pt x="211" y="48"/>
                    </a:lnTo>
                    <a:lnTo>
                      <a:pt x="228" y="40"/>
                    </a:lnTo>
                    <a:lnTo>
                      <a:pt x="246" y="32"/>
                    </a:lnTo>
                    <a:lnTo>
                      <a:pt x="265" y="24"/>
                    </a:lnTo>
                    <a:lnTo>
                      <a:pt x="283" y="18"/>
                    </a:lnTo>
                    <a:lnTo>
                      <a:pt x="303" y="12"/>
                    </a:lnTo>
                    <a:lnTo>
                      <a:pt x="323" y="9"/>
                    </a:lnTo>
                    <a:lnTo>
                      <a:pt x="342" y="5"/>
                    </a:lnTo>
                    <a:lnTo>
                      <a:pt x="363" y="2"/>
                    </a:lnTo>
                    <a:lnTo>
                      <a:pt x="383" y="0"/>
                    </a:lnTo>
                    <a:lnTo>
                      <a:pt x="403" y="0"/>
                    </a:lnTo>
                    <a:close/>
                  </a:path>
                </a:pathLst>
              </a:custGeom>
              <a:solidFill>
                <a:srgbClr val="c08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199120" y="4911840"/>
                <a:ext cx="317520" cy="317520"/>
              </a:xfrm>
              <a:custGeom>
                <a:avLst/>
                <a:gdLst/>
                <a:ahLst/>
                <a:rect l="l" t="t" r="r" b="b"/>
                <a:pathLst>
                  <a:path w="800" h="801">
                    <a:moveTo>
                      <a:pt x="401" y="0"/>
                    </a:moveTo>
                    <a:lnTo>
                      <a:pt x="421" y="0"/>
                    </a:lnTo>
                    <a:lnTo>
                      <a:pt x="441" y="3"/>
                    </a:lnTo>
                    <a:lnTo>
                      <a:pt x="461" y="5"/>
                    </a:lnTo>
                    <a:lnTo>
                      <a:pt x="481" y="9"/>
                    </a:lnTo>
                    <a:lnTo>
                      <a:pt x="500" y="12"/>
                    </a:lnTo>
                    <a:lnTo>
                      <a:pt x="519" y="18"/>
                    </a:lnTo>
                    <a:lnTo>
                      <a:pt x="537" y="24"/>
                    </a:lnTo>
                    <a:lnTo>
                      <a:pt x="555" y="32"/>
                    </a:lnTo>
                    <a:lnTo>
                      <a:pt x="573" y="40"/>
                    </a:lnTo>
                    <a:lnTo>
                      <a:pt x="591" y="48"/>
                    </a:lnTo>
                    <a:lnTo>
                      <a:pt x="608" y="58"/>
                    </a:lnTo>
                    <a:lnTo>
                      <a:pt x="624" y="69"/>
                    </a:lnTo>
                    <a:lnTo>
                      <a:pt x="639" y="80"/>
                    </a:lnTo>
                    <a:lnTo>
                      <a:pt x="655" y="92"/>
                    </a:lnTo>
                    <a:lnTo>
                      <a:pt x="669" y="105"/>
                    </a:lnTo>
                    <a:lnTo>
                      <a:pt x="683" y="118"/>
                    </a:lnTo>
                    <a:lnTo>
                      <a:pt x="697" y="131"/>
                    </a:lnTo>
                    <a:lnTo>
                      <a:pt x="709" y="147"/>
                    </a:lnTo>
                    <a:lnTo>
                      <a:pt x="721" y="161"/>
                    </a:lnTo>
                    <a:lnTo>
                      <a:pt x="732" y="177"/>
                    </a:lnTo>
                    <a:lnTo>
                      <a:pt x="743" y="194"/>
                    </a:lnTo>
                    <a:lnTo>
                      <a:pt x="752" y="210"/>
                    </a:lnTo>
                    <a:lnTo>
                      <a:pt x="761" y="227"/>
                    </a:lnTo>
                    <a:lnTo>
                      <a:pt x="769" y="245"/>
                    </a:lnTo>
                    <a:lnTo>
                      <a:pt x="776" y="263"/>
                    </a:lnTo>
                    <a:lnTo>
                      <a:pt x="782" y="282"/>
                    </a:lnTo>
                    <a:lnTo>
                      <a:pt x="788" y="300"/>
                    </a:lnTo>
                    <a:lnTo>
                      <a:pt x="793" y="319"/>
                    </a:lnTo>
                    <a:lnTo>
                      <a:pt x="797" y="340"/>
                    </a:lnTo>
                    <a:lnTo>
                      <a:pt x="799" y="360"/>
                    </a:lnTo>
                    <a:lnTo>
                      <a:pt x="800" y="379"/>
                    </a:lnTo>
                    <a:lnTo>
                      <a:pt x="800" y="401"/>
                    </a:lnTo>
                    <a:lnTo>
                      <a:pt x="800" y="421"/>
                    </a:lnTo>
                    <a:lnTo>
                      <a:pt x="799" y="442"/>
                    </a:lnTo>
                    <a:lnTo>
                      <a:pt x="797" y="461"/>
                    </a:lnTo>
                    <a:lnTo>
                      <a:pt x="793" y="481"/>
                    </a:lnTo>
                    <a:lnTo>
                      <a:pt x="788" y="501"/>
                    </a:lnTo>
                    <a:lnTo>
                      <a:pt x="782" y="520"/>
                    </a:lnTo>
                    <a:lnTo>
                      <a:pt x="776" y="538"/>
                    </a:lnTo>
                    <a:lnTo>
                      <a:pt x="769" y="556"/>
                    </a:lnTo>
                    <a:lnTo>
                      <a:pt x="761" y="574"/>
                    </a:lnTo>
                    <a:lnTo>
                      <a:pt x="752" y="591"/>
                    </a:lnTo>
                    <a:lnTo>
                      <a:pt x="743" y="607"/>
                    </a:lnTo>
                    <a:lnTo>
                      <a:pt x="732" y="624"/>
                    </a:lnTo>
                    <a:lnTo>
                      <a:pt x="721" y="640"/>
                    </a:lnTo>
                    <a:lnTo>
                      <a:pt x="709" y="655"/>
                    </a:lnTo>
                    <a:lnTo>
                      <a:pt x="697" y="670"/>
                    </a:lnTo>
                    <a:lnTo>
                      <a:pt x="683" y="683"/>
                    </a:lnTo>
                    <a:lnTo>
                      <a:pt x="669" y="696"/>
                    </a:lnTo>
                    <a:lnTo>
                      <a:pt x="655" y="709"/>
                    </a:lnTo>
                    <a:lnTo>
                      <a:pt x="639" y="721"/>
                    </a:lnTo>
                    <a:lnTo>
                      <a:pt x="624" y="732"/>
                    </a:lnTo>
                    <a:lnTo>
                      <a:pt x="608" y="743"/>
                    </a:lnTo>
                    <a:lnTo>
                      <a:pt x="591" y="753"/>
                    </a:lnTo>
                    <a:lnTo>
                      <a:pt x="573" y="761"/>
                    </a:lnTo>
                    <a:lnTo>
                      <a:pt x="555" y="769"/>
                    </a:lnTo>
                    <a:lnTo>
                      <a:pt x="537" y="777"/>
                    </a:lnTo>
                    <a:lnTo>
                      <a:pt x="519" y="783"/>
                    </a:lnTo>
                    <a:lnTo>
                      <a:pt x="500" y="789"/>
                    </a:lnTo>
                    <a:lnTo>
                      <a:pt x="481" y="792"/>
                    </a:lnTo>
                    <a:lnTo>
                      <a:pt x="461" y="796"/>
                    </a:lnTo>
                    <a:lnTo>
                      <a:pt x="441" y="799"/>
                    </a:lnTo>
                    <a:lnTo>
                      <a:pt x="421" y="801"/>
                    </a:lnTo>
                    <a:lnTo>
                      <a:pt x="401" y="801"/>
                    </a:lnTo>
                    <a:lnTo>
                      <a:pt x="380" y="801"/>
                    </a:lnTo>
                    <a:lnTo>
                      <a:pt x="360" y="799"/>
                    </a:lnTo>
                    <a:lnTo>
                      <a:pt x="339" y="796"/>
                    </a:lnTo>
                    <a:lnTo>
                      <a:pt x="320" y="792"/>
                    </a:lnTo>
                    <a:lnTo>
                      <a:pt x="300" y="789"/>
                    </a:lnTo>
                    <a:lnTo>
                      <a:pt x="282" y="783"/>
                    </a:lnTo>
                    <a:lnTo>
                      <a:pt x="263" y="777"/>
                    </a:lnTo>
                    <a:lnTo>
                      <a:pt x="245" y="769"/>
                    </a:lnTo>
                    <a:lnTo>
                      <a:pt x="227" y="761"/>
                    </a:lnTo>
                    <a:lnTo>
                      <a:pt x="210" y="753"/>
                    </a:lnTo>
                    <a:lnTo>
                      <a:pt x="193" y="743"/>
                    </a:lnTo>
                    <a:lnTo>
                      <a:pt x="176" y="732"/>
                    </a:lnTo>
                    <a:lnTo>
                      <a:pt x="161" y="721"/>
                    </a:lnTo>
                    <a:lnTo>
                      <a:pt x="146" y="709"/>
                    </a:lnTo>
                    <a:lnTo>
                      <a:pt x="132" y="696"/>
                    </a:lnTo>
                    <a:lnTo>
                      <a:pt x="117" y="683"/>
                    </a:lnTo>
                    <a:lnTo>
                      <a:pt x="104" y="670"/>
                    </a:lnTo>
                    <a:lnTo>
                      <a:pt x="91" y="655"/>
                    </a:lnTo>
                    <a:lnTo>
                      <a:pt x="79" y="640"/>
                    </a:lnTo>
                    <a:lnTo>
                      <a:pt x="68" y="624"/>
                    </a:lnTo>
                    <a:lnTo>
                      <a:pt x="57" y="607"/>
                    </a:lnTo>
                    <a:lnTo>
                      <a:pt x="48" y="591"/>
                    </a:lnTo>
                    <a:lnTo>
                      <a:pt x="39" y="574"/>
                    </a:lnTo>
                    <a:lnTo>
                      <a:pt x="31" y="556"/>
                    </a:lnTo>
                    <a:lnTo>
                      <a:pt x="24" y="538"/>
                    </a:lnTo>
                    <a:lnTo>
                      <a:pt x="18" y="520"/>
                    </a:lnTo>
                    <a:lnTo>
                      <a:pt x="13" y="501"/>
                    </a:lnTo>
                    <a:lnTo>
                      <a:pt x="8" y="481"/>
                    </a:lnTo>
                    <a:lnTo>
                      <a:pt x="5" y="461"/>
                    </a:lnTo>
                    <a:lnTo>
                      <a:pt x="2" y="442"/>
                    </a:lnTo>
                    <a:lnTo>
                      <a:pt x="0" y="421"/>
                    </a:lnTo>
                    <a:lnTo>
                      <a:pt x="0" y="401"/>
                    </a:lnTo>
                    <a:lnTo>
                      <a:pt x="0" y="379"/>
                    </a:lnTo>
                    <a:lnTo>
                      <a:pt x="2" y="360"/>
                    </a:lnTo>
                    <a:lnTo>
                      <a:pt x="5" y="340"/>
                    </a:lnTo>
                    <a:lnTo>
                      <a:pt x="8" y="319"/>
                    </a:lnTo>
                    <a:lnTo>
                      <a:pt x="13" y="300"/>
                    </a:lnTo>
                    <a:lnTo>
                      <a:pt x="18" y="282"/>
                    </a:lnTo>
                    <a:lnTo>
                      <a:pt x="24" y="263"/>
                    </a:lnTo>
                    <a:lnTo>
                      <a:pt x="31" y="245"/>
                    </a:lnTo>
                    <a:lnTo>
                      <a:pt x="39" y="227"/>
                    </a:lnTo>
                    <a:lnTo>
                      <a:pt x="48" y="210"/>
                    </a:lnTo>
                    <a:lnTo>
                      <a:pt x="57" y="194"/>
                    </a:lnTo>
                    <a:lnTo>
                      <a:pt x="68" y="177"/>
                    </a:lnTo>
                    <a:lnTo>
                      <a:pt x="79" y="161"/>
                    </a:lnTo>
                    <a:lnTo>
                      <a:pt x="91" y="147"/>
                    </a:lnTo>
                    <a:lnTo>
                      <a:pt x="104" y="131"/>
                    </a:lnTo>
                    <a:lnTo>
                      <a:pt x="117" y="118"/>
                    </a:lnTo>
                    <a:lnTo>
                      <a:pt x="132" y="105"/>
                    </a:lnTo>
                    <a:lnTo>
                      <a:pt x="146" y="92"/>
                    </a:lnTo>
                    <a:lnTo>
                      <a:pt x="161" y="80"/>
                    </a:lnTo>
                    <a:lnTo>
                      <a:pt x="176" y="69"/>
                    </a:lnTo>
                    <a:lnTo>
                      <a:pt x="193" y="58"/>
                    </a:lnTo>
                    <a:lnTo>
                      <a:pt x="210" y="48"/>
                    </a:lnTo>
                    <a:lnTo>
                      <a:pt x="227" y="40"/>
                    </a:lnTo>
                    <a:lnTo>
                      <a:pt x="245" y="32"/>
                    </a:lnTo>
                    <a:lnTo>
                      <a:pt x="263" y="24"/>
                    </a:lnTo>
                    <a:lnTo>
                      <a:pt x="282" y="18"/>
                    </a:lnTo>
                    <a:lnTo>
                      <a:pt x="300" y="12"/>
                    </a:lnTo>
                    <a:lnTo>
                      <a:pt x="320" y="9"/>
                    </a:lnTo>
                    <a:lnTo>
                      <a:pt x="339" y="5"/>
                    </a:lnTo>
                    <a:lnTo>
                      <a:pt x="360" y="3"/>
                    </a:lnTo>
                    <a:lnTo>
                      <a:pt x="380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c48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200560" y="4915080"/>
                <a:ext cx="314280" cy="314280"/>
              </a:xfrm>
              <a:custGeom>
                <a:avLst/>
                <a:gdLst/>
                <a:ahLst/>
                <a:rect l="l" t="t" r="r" b="b"/>
                <a:pathLst>
                  <a:path w="793" h="793">
                    <a:moveTo>
                      <a:pt x="396" y="0"/>
                    </a:moveTo>
                    <a:lnTo>
                      <a:pt x="416" y="2"/>
                    </a:lnTo>
                    <a:lnTo>
                      <a:pt x="436" y="3"/>
                    </a:lnTo>
                    <a:lnTo>
                      <a:pt x="456" y="5"/>
                    </a:lnTo>
                    <a:lnTo>
                      <a:pt x="476" y="9"/>
                    </a:lnTo>
                    <a:lnTo>
                      <a:pt x="495" y="14"/>
                    </a:lnTo>
                    <a:lnTo>
                      <a:pt x="513" y="18"/>
                    </a:lnTo>
                    <a:lnTo>
                      <a:pt x="532" y="24"/>
                    </a:lnTo>
                    <a:lnTo>
                      <a:pt x="550" y="32"/>
                    </a:lnTo>
                    <a:lnTo>
                      <a:pt x="567" y="40"/>
                    </a:lnTo>
                    <a:lnTo>
                      <a:pt x="585" y="48"/>
                    </a:lnTo>
                    <a:lnTo>
                      <a:pt x="601" y="58"/>
                    </a:lnTo>
                    <a:lnTo>
                      <a:pt x="618" y="69"/>
                    </a:lnTo>
                    <a:lnTo>
                      <a:pt x="633" y="80"/>
                    </a:lnTo>
                    <a:lnTo>
                      <a:pt x="648" y="92"/>
                    </a:lnTo>
                    <a:lnTo>
                      <a:pt x="662" y="104"/>
                    </a:lnTo>
                    <a:lnTo>
                      <a:pt x="676" y="117"/>
                    </a:lnTo>
                    <a:lnTo>
                      <a:pt x="690" y="131"/>
                    </a:lnTo>
                    <a:lnTo>
                      <a:pt x="702" y="146"/>
                    </a:lnTo>
                    <a:lnTo>
                      <a:pt x="714" y="160"/>
                    </a:lnTo>
                    <a:lnTo>
                      <a:pt x="724" y="176"/>
                    </a:lnTo>
                    <a:lnTo>
                      <a:pt x="735" y="192"/>
                    </a:lnTo>
                    <a:lnTo>
                      <a:pt x="745" y="208"/>
                    </a:lnTo>
                    <a:lnTo>
                      <a:pt x="753" y="226"/>
                    </a:lnTo>
                    <a:lnTo>
                      <a:pt x="762" y="243"/>
                    </a:lnTo>
                    <a:lnTo>
                      <a:pt x="769" y="261"/>
                    </a:lnTo>
                    <a:lnTo>
                      <a:pt x="775" y="280"/>
                    </a:lnTo>
                    <a:lnTo>
                      <a:pt x="780" y="298"/>
                    </a:lnTo>
                    <a:lnTo>
                      <a:pt x="784" y="317"/>
                    </a:lnTo>
                    <a:lnTo>
                      <a:pt x="788" y="336"/>
                    </a:lnTo>
                    <a:lnTo>
                      <a:pt x="790" y="357"/>
                    </a:lnTo>
                    <a:lnTo>
                      <a:pt x="792" y="377"/>
                    </a:lnTo>
                    <a:lnTo>
                      <a:pt x="793" y="397"/>
                    </a:lnTo>
                    <a:lnTo>
                      <a:pt x="792" y="418"/>
                    </a:lnTo>
                    <a:lnTo>
                      <a:pt x="790" y="437"/>
                    </a:lnTo>
                    <a:lnTo>
                      <a:pt x="788" y="457"/>
                    </a:lnTo>
                    <a:lnTo>
                      <a:pt x="784" y="477"/>
                    </a:lnTo>
                    <a:lnTo>
                      <a:pt x="780" y="496"/>
                    </a:lnTo>
                    <a:lnTo>
                      <a:pt x="775" y="515"/>
                    </a:lnTo>
                    <a:lnTo>
                      <a:pt x="769" y="533"/>
                    </a:lnTo>
                    <a:lnTo>
                      <a:pt x="762" y="551"/>
                    </a:lnTo>
                    <a:lnTo>
                      <a:pt x="753" y="569"/>
                    </a:lnTo>
                    <a:lnTo>
                      <a:pt x="745" y="586"/>
                    </a:lnTo>
                    <a:lnTo>
                      <a:pt x="735" y="603"/>
                    </a:lnTo>
                    <a:lnTo>
                      <a:pt x="724" y="618"/>
                    </a:lnTo>
                    <a:lnTo>
                      <a:pt x="714" y="634"/>
                    </a:lnTo>
                    <a:lnTo>
                      <a:pt x="702" y="649"/>
                    </a:lnTo>
                    <a:lnTo>
                      <a:pt x="690" y="664"/>
                    </a:lnTo>
                    <a:lnTo>
                      <a:pt x="676" y="677"/>
                    </a:lnTo>
                    <a:lnTo>
                      <a:pt x="662" y="690"/>
                    </a:lnTo>
                    <a:lnTo>
                      <a:pt x="648" y="703"/>
                    </a:lnTo>
                    <a:lnTo>
                      <a:pt x="633" y="715"/>
                    </a:lnTo>
                    <a:lnTo>
                      <a:pt x="618" y="726"/>
                    </a:lnTo>
                    <a:lnTo>
                      <a:pt x="601" y="736"/>
                    </a:lnTo>
                    <a:lnTo>
                      <a:pt x="585" y="745"/>
                    </a:lnTo>
                    <a:lnTo>
                      <a:pt x="567" y="755"/>
                    </a:lnTo>
                    <a:lnTo>
                      <a:pt x="550" y="762"/>
                    </a:lnTo>
                    <a:lnTo>
                      <a:pt x="532" y="769"/>
                    </a:lnTo>
                    <a:lnTo>
                      <a:pt x="513" y="775"/>
                    </a:lnTo>
                    <a:lnTo>
                      <a:pt x="495" y="781"/>
                    </a:lnTo>
                    <a:lnTo>
                      <a:pt x="476" y="786"/>
                    </a:lnTo>
                    <a:lnTo>
                      <a:pt x="456" y="790"/>
                    </a:lnTo>
                    <a:lnTo>
                      <a:pt x="436" y="792"/>
                    </a:lnTo>
                    <a:lnTo>
                      <a:pt x="416" y="793"/>
                    </a:lnTo>
                    <a:lnTo>
                      <a:pt x="396" y="793"/>
                    </a:lnTo>
                    <a:lnTo>
                      <a:pt x="375" y="793"/>
                    </a:lnTo>
                    <a:lnTo>
                      <a:pt x="355" y="792"/>
                    </a:lnTo>
                    <a:lnTo>
                      <a:pt x="336" y="790"/>
                    </a:lnTo>
                    <a:lnTo>
                      <a:pt x="316" y="786"/>
                    </a:lnTo>
                    <a:lnTo>
                      <a:pt x="297" y="781"/>
                    </a:lnTo>
                    <a:lnTo>
                      <a:pt x="278" y="775"/>
                    </a:lnTo>
                    <a:lnTo>
                      <a:pt x="260" y="769"/>
                    </a:lnTo>
                    <a:lnTo>
                      <a:pt x="242" y="762"/>
                    </a:lnTo>
                    <a:lnTo>
                      <a:pt x="224" y="755"/>
                    </a:lnTo>
                    <a:lnTo>
                      <a:pt x="207" y="745"/>
                    </a:lnTo>
                    <a:lnTo>
                      <a:pt x="190" y="736"/>
                    </a:lnTo>
                    <a:lnTo>
                      <a:pt x="175" y="726"/>
                    </a:lnTo>
                    <a:lnTo>
                      <a:pt x="159" y="715"/>
                    </a:lnTo>
                    <a:lnTo>
                      <a:pt x="144" y="703"/>
                    </a:lnTo>
                    <a:lnTo>
                      <a:pt x="129" y="690"/>
                    </a:lnTo>
                    <a:lnTo>
                      <a:pt x="116" y="677"/>
                    </a:lnTo>
                    <a:lnTo>
                      <a:pt x="103" y="664"/>
                    </a:lnTo>
                    <a:lnTo>
                      <a:pt x="90" y="649"/>
                    </a:lnTo>
                    <a:lnTo>
                      <a:pt x="78" y="634"/>
                    </a:lnTo>
                    <a:lnTo>
                      <a:pt x="67" y="618"/>
                    </a:lnTo>
                    <a:lnTo>
                      <a:pt x="57" y="603"/>
                    </a:lnTo>
                    <a:lnTo>
                      <a:pt x="48" y="586"/>
                    </a:lnTo>
                    <a:lnTo>
                      <a:pt x="38" y="569"/>
                    </a:lnTo>
                    <a:lnTo>
                      <a:pt x="31" y="551"/>
                    </a:lnTo>
                    <a:lnTo>
                      <a:pt x="24" y="533"/>
                    </a:lnTo>
                    <a:lnTo>
                      <a:pt x="16" y="515"/>
                    </a:lnTo>
                    <a:lnTo>
                      <a:pt x="12" y="496"/>
                    </a:lnTo>
                    <a:lnTo>
                      <a:pt x="7" y="477"/>
                    </a:lnTo>
                    <a:lnTo>
                      <a:pt x="3" y="457"/>
                    </a:lnTo>
                    <a:lnTo>
                      <a:pt x="1" y="437"/>
                    </a:lnTo>
                    <a:lnTo>
                      <a:pt x="0" y="418"/>
                    </a:lnTo>
                    <a:lnTo>
                      <a:pt x="0" y="397"/>
                    </a:lnTo>
                    <a:lnTo>
                      <a:pt x="0" y="377"/>
                    </a:lnTo>
                    <a:lnTo>
                      <a:pt x="1" y="357"/>
                    </a:lnTo>
                    <a:lnTo>
                      <a:pt x="3" y="336"/>
                    </a:lnTo>
                    <a:lnTo>
                      <a:pt x="7" y="317"/>
                    </a:lnTo>
                    <a:lnTo>
                      <a:pt x="12" y="298"/>
                    </a:lnTo>
                    <a:lnTo>
                      <a:pt x="16" y="280"/>
                    </a:lnTo>
                    <a:lnTo>
                      <a:pt x="24" y="261"/>
                    </a:lnTo>
                    <a:lnTo>
                      <a:pt x="31" y="243"/>
                    </a:lnTo>
                    <a:lnTo>
                      <a:pt x="38" y="226"/>
                    </a:lnTo>
                    <a:lnTo>
                      <a:pt x="48" y="208"/>
                    </a:lnTo>
                    <a:lnTo>
                      <a:pt x="57" y="192"/>
                    </a:lnTo>
                    <a:lnTo>
                      <a:pt x="67" y="176"/>
                    </a:lnTo>
                    <a:lnTo>
                      <a:pt x="78" y="160"/>
                    </a:lnTo>
                    <a:lnTo>
                      <a:pt x="90" y="146"/>
                    </a:lnTo>
                    <a:lnTo>
                      <a:pt x="103" y="131"/>
                    </a:lnTo>
                    <a:lnTo>
                      <a:pt x="116" y="117"/>
                    </a:lnTo>
                    <a:lnTo>
                      <a:pt x="129" y="104"/>
                    </a:lnTo>
                    <a:lnTo>
                      <a:pt x="144" y="92"/>
                    </a:lnTo>
                    <a:lnTo>
                      <a:pt x="159" y="80"/>
                    </a:lnTo>
                    <a:lnTo>
                      <a:pt x="175" y="69"/>
                    </a:lnTo>
                    <a:lnTo>
                      <a:pt x="190" y="58"/>
                    </a:lnTo>
                    <a:lnTo>
                      <a:pt x="207" y="48"/>
                    </a:lnTo>
                    <a:lnTo>
                      <a:pt x="224" y="40"/>
                    </a:lnTo>
                    <a:lnTo>
                      <a:pt x="242" y="32"/>
                    </a:lnTo>
                    <a:lnTo>
                      <a:pt x="260" y="24"/>
                    </a:lnTo>
                    <a:lnTo>
                      <a:pt x="278" y="18"/>
                    </a:lnTo>
                    <a:lnTo>
                      <a:pt x="297" y="14"/>
                    </a:lnTo>
                    <a:lnTo>
                      <a:pt x="316" y="9"/>
                    </a:lnTo>
                    <a:lnTo>
                      <a:pt x="336" y="5"/>
                    </a:lnTo>
                    <a:lnTo>
                      <a:pt x="355" y="3"/>
                    </a:lnTo>
                    <a:lnTo>
                      <a:pt x="375" y="2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ca8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202000" y="4916520"/>
                <a:ext cx="311400" cy="312840"/>
              </a:xfrm>
              <a:custGeom>
                <a:avLst/>
                <a:gdLst/>
                <a:ahLst/>
                <a:rect l="l" t="t" r="r" b="b"/>
                <a:pathLst>
                  <a:path w="786" h="786">
                    <a:moveTo>
                      <a:pt x="394" y="0"/>
                    </a:moveTo>
                    <a:lnTo>
                      <a:pt x="413" y="2"/>
                    </a:lnTo>
                    <a:lnTo>
                      <a:pt x="433" y="3"/>
                    </a:lnTo>
                    <a:lnTo>
                      <a:pt x="453" y="5"/>
                    </a:lnTo>
                    <a:lnTo>
                      <a:pt x="472" y="9"/>
                    </a:lnTo>
                    <a:lnTo>
                      <a:pt x="491" y="14"/>
                    </a:lnTo>
                    <a:lnTo>
                      <a:pt x="510" y="18"/>
                    </a:lnTo>
                    <a:lnTo>
                      <a:pt x="528" y="24"/>
                    </a:lnTo>
                    <a:lnTo>
                      <a:pt x="546" y="32"/>
                    </a:lnTo>
                    <a:lnTo>
                      <a:pt x="563" y="40"/>
                    </a:lnTo>
                    <a:lnTo>
                      <a:pt x="580" y="48"/>
                    </a:lnTo>
                    <a:lnTo>
                      <a:pt x="597" y="58"/>
                    </a:lnTo>
                    <a:lnTo>
                      <a:pt x="612" y="68"/>
                    </a:lnTo>
                    <a:lnTo>
                      <a:pt x="628" y="80"/>
                    </a:lnTo>
                    <a:lnTo>
                      <a:pt x="643" y="90"/>
                    </a:lnTo>
                    <a:lnTo>
                      <a:pt x="658" y="104"/>
                    </a:lnTo>
                    <a:lnTo>
                      <a:pt x="671" y="116"/>
                    </a:lnTo>
                    <a:lnTo>
                      <a:pt x="684" y="130"/>
                    </a:lnTo>
                    <a:lnTo>
                      <a:pt x="696" y="144"/>
                    </a:lnTo>
                    <a:lnTo>
                      <a:pt x="708" y="159"/>
                    </a:lnTo>
                    <a:lnTo>
                      <a:pt x="719" y="174"/>
                    </a:lnTo>
                    <a:lnTo>
                      <a:pt x="730" y="190"/>
                    </a:lnTo>
                    <a:lnTo>
                      <a:pt x="738" y="207"/>
                    </a:lnTo>
                    <a:lnTo>
                      <a:pt x="748" y="224"/>
                    </a:lnTo>
                    <a:lnTo>
                      <a:pt x="755" y="242"/>
                    </a:lnTo>
                    <a:lnTo>
                      <a:pt x="762" y="258"/>
                    </a:lnTo>
                    <a:lnTo>
                      <a:pt x="768" y="277"/>
                    </a:lnTo>
                    <a:lnTo>
                      <a:pt x="774" y="295"/>
                    </a:lnTo>
                    <a:lnTo>
                      <a:pt x="778" y="315"/>
                    </a:lnTo>
                    <a:lnTo>
                      <a:pt x="781" y="334"/>
                    </a:lnTo>
                    <a:lnTo>
                      <a:pt x="784" y="353"/>
                    </a:lnTo>
                    <a:lnTo>
                      <a:pt x="786" y="373"/>
                    </a:lnTo>
                    <a:lnTo>
                      <a:pt x="786" y="394"/>
                    </a:lnTo>
                    <a:lnTo>
                      <a:pt x="786" y="414"/>
                    </a:lnTo>
                    <a:lnTo>
                      <a:pt x="784" y="433"/>
                    </a:lnTo>
                    <a:lnTo>
                      <a:pt x="781" y="454"/>
                    </a:lnTo>
                    <a:lnTo>
                      <a:pt x="778" y="473"/>
                    </a:lnTo>
                    <a:lnTo>
                      <a:pt x="774" y="492"/>
                    </a:lnTo>
                    <a:lnTo>
                      <a:pt x="768" y="510"/>
                    </a:lnTo>
                    <a:lnTo>
                      <a:pt x="762" y="528"/>
                    </a:lnTo>
                    <a:lnTo>
                      <a:pt x="755" y="546"/>
                    </a:lnTo>
                    <a:lnTo>
                      <a:pt x="748" y="564"/>
                    </a:lnTo>
                    <a:lnTo>
                      <a:pt x="738" y="581"/>
                    </a:lnTo>
                    <a:lnTo>
                      <a:pt x="730" y="597"/>
                    </a:lnTo>
                    <a:lnTo>
                      <a:pt x="719" y="613"/>
                    </a:lnTo>
                    <a:lnTo>
                      <a:pt x="708" y="629"/>
                    </a:lnTo>
                    <a:lnTo>
                      <a:pt x="696" y="643"/>
                    </a:lnTo>
                    <a:lnTo>
                      <a:pt x="684" y="658"/>
                    </a:lnTo>
                    <a:lnTo>
                      <a:pt x="671" y="671"/>
                    </a:lnTo>
                    <a:lnTo>
                      <a:pt x="658" y="684"/>
                    </a:lnTo>
                    <a:lnTo>
                      <a:pt x="643" y="696"/>
                    </a:lnTo>
                    <a:lnTo>
                      <a:pt x="628" y="708"/>
                    </a:lnTo>
                    <a:lnTo>
                      <a:pt x="612" y="719"/>
                    </a:lnTo>
                    <a:lnTo>
                      <a:pt x="597" y="730"/>
                    </a:lnTo>
                    <a:lnTo>
                      <a:pt x="580" y="739"/>
                    </a:lnTo>
                    <a:lnTo>
                      <a:pt x="563" y="748"/>
                    </a:lnTo>
                    <a:lnTo>
                      <a:pt x="546" y="756"/>
                    </a:lnTo>
                    <a:lnTo>
                      <a:pt x="528" y="762"/>
                    </a:lnTo>
                    <a:lnTo>
                      <a:pt x="510" y="769"/>
                    </a:lnTo>
                    <a:lnTo>
                      <a:pt x="491" y="774"/>
                    </a:lnTo>
                    <a:lnTo>
                      <a:pt x="472" y="779"/>
                    </a:lnTo>
                    <a:lnTo>
                      <a:pt x="453" y="783"/>
                    </a:lnTo>
                    <a:lnTo>
                      <a:pt x="433" y="785"/>
                    </a:lnTo>
                    <a:lnTo>
                      <a:pt x="413" y="786"/>
                    </a:lnTo>
                    <a:lnTo>
                      <a:pt x="394" y="786"/>
                    </a:lnTo>
                    <a:lnTo>
                      <a:pt x="373" y="786"/>
                    </a:lnTo>
                    <a:lnTo>
                      <a:pt x="353" y="785"/>
                    </a:lnTo>
                    <a:lnTo>
                      <a:pt x="334" y="783"/>
                    </a:lnTo>
                    <a:lnTo>
                      <a:pt x="315" y="779"/>
                    </a:lnTo>
                    <a:lnTo>
                      <a:pt x="295" y="774"/>
                    </a:lnTo>
                    <a:lnTo>
                      <a:pt x="276" y="769"/>
                    </a:lnTo>
                    <a:lnTo>
                      <a:pt x="258" y="762"/>
                    </a:lnTo>
                    <a:lnTo>
                      <a:pt x="240" y="756"/>
                    </a:lnTo>
                    <a:lnTo>
                      <a:pt x="223" y="748"/>
                    </a:lnTo>
                    <a:lnTo>
                      <a:pt x="207" y="739"/>
                    </a:lnTo>
                    <a:lnTo>
                      <a:pt x="190" y="730"/>
                    </a:lnTo>
                    <a:lnTo>
                      <a:pt x="174" y="719"/>
                    </a:lnTo>
                    <a:lnTo>
                      <a:pt x="159" y="708"/>
                    </a:lnTo>
                    <a:lnTo>
                      <a:pt x="143" y="696"/>
                    </a:lnTo>
                    <a:lnTo>
                      <a:pt x="130" y="684"/>
                    </a:lnTo>
                    <a:lnTo>
                      <a:pt x="115" y="671"/>
                    </a:lnTo>
                    <a:lnTo>
                      <a:pt x="102" y="658"/>
                    </a:lnTo>
                    <a:lnTo>
                      <a:pt x="90" y="643"/>
                    </a:lnTo>
                    <a:lnTo>
                      <a:pt x="78" y="629"/>
                    </a:lnTo>
                    <a:lnTo>
                      <a:pt x="67" y="613"/>
                    </a:lnTo>
                    <a:lnTo>
                      <a:pt x="58" y="597"/>
                    </a:lnTo>
                    <a:lnTo>
                      <a:pt x="48" y="581"/>
                    </a:lnTo>
                    <a:lnTo>
                      <a:pt x="39" y="564"/>
                    </a:lnTo>
                    <a:lnTo>
                      <a:pt x="31" y="546"/>
                    </a:lnTo>
                    <a:lnTo>
                      <a:pt x="24" y="528"/>
                    </a:lnTo>
                    <a:lnTo>
                      <a:pt x="18" y="510"/>
                    </a:lnTo>
                    <a:lnTo>
                      <a:pt x="12" y="492"/>
                    </a:lnTo>
                    <a:lnTo>
                      <a:pt x="9" y="473"/>
                    </a:lnTo>
                    <a:lnTo>
                      <a:pt x="5" y="454"/>
                    </a:lnTo>
                    <a:lnTo>
                      <a:pt x="3" y="433"/>
                    </a:lnTo>
                    <a:lnTo>
                      <a:pt x="0" y="414"/>
                    </a:lnTo>
                    <a:lnTo>
                      <a:pt x="0" y="394"/>
                    </a:lnTo>
                    <a:lnTo>
                      <a:pt x="0" y="373"/>
                    </a:lnTo>
                    <a:lnTo>
                      <a:pt x="3" y="353"/>
                    </a:lnTo>
                    <a:lnTo>
                      <a:pt x="5" y="334"/>
                    </a:lnTo>
                    <a:lnTo>
                      <a:pt x="9" y="315"/>
                    </a:lnTo>
                    <a:lnTo>
                      <a:pt x="12" y="295"/>
                    </a:lnTo>
                    <a:lnTo>
                      <a:pt x="18" y="277"/>
                    </a:lnTo>
                    <a:lnTo>
                      <a:pt x="24" y="258"/>
                    </a:lnTo>
                    <a:lnTo>
                      <a:pt x="31" y="242"/>
                    </a:lnTo>
                    <a:lnTo>
                      <a:pt x="39" y="224"/>
                    </a:lnTo>
                    <a:lnTo>
                      <a:pt x="48" y="207"/>
                    </a:lnTo>
                    <a:lnTo>
                      <a:pt x="58" y="190"/>
                    </a:lnTo>
                    <a:lnTo>
                      <a:pt x="67" y="174"/>
                    </a:lnTo>
                    <a:lnTo>
                      <a:pt x="78" y="159"/>
                    </a:lnTo>
                    <a:lnTo>
                      <a:pt x="90" y="144"/>
                    </a:lnTo>
                    <a:lnTo>
                      <a:pt x="102" y="130"/>
                    </a:lnTo>
                    <a:lnTo>
                      <a:pt x="115" y="116"/>
                    </a:lnTo>
                    <a:lnTo>
                      <a:pt x="130" y="104"/>
                    </a:lnTo>
                    <a:lnTo>
                      <a:pt x="143" y="90"/>
                    </a:lnTo>
                    <a:lnTo>
                      <a:pt x="159" y="80"/>
                    </a:lnTo>
                    <a:lnTo>
                      <a:pt x="174" y="68"/>
                    </a:lnTo>
                    <a:lnTo>
                      <a:pt x="190" y="58"/>
                    </a:lnTo>
                    <a:lnTo>
                      <a:pt x="207" y="48"/>
                    </a:lnTo>
                    <a:lnTo>
                      <a:pt x="223" y="40"/>
                    </a:lnTo>
                    <a:lnTo>
                      <a:pt x="240" y="32"/>
                    </a:lnTo>
                    <a:lnTo>
                      <a:pt x="258" y="24"/>
                    </a:lnTo>
                    <a:lnTo>
                      <a:pt x="276" y="18"/>
                    </a:lnTo>
                    <a:lnTo>
                      <a:pt x="295" y="14"/>
                    </a:lnTo>
                    <a:lnTo>
                      <a:pt x="315" y="9"/>
                    </a:lnTo>
                    <a:lnTo>
                      <a:pt x="334" y="5"/>
                    </a:lnTo>
                    <a:lnTo>
                      <a:pt x="353" y="3"/>
                    </a:lnTo>
                    <a:lnTo>
                      <a:pt x="373" y="2"/>
                    </a:lnTo>
                    <a:lnTo>
                      <a:pt x="394" y="0"/>
                    </a:lnTo>
                    <a:close/>
                  </a:path>
                </a:pathLst>
              </a:custGeom>
              <a:solidFill>
                <a:srgbClr val="cc8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203800" y="4919760"/>
                <a:ext cx="307800" cy="307800"/>
              </a:xfrm>
              <a:custGeom>
                <a:avLst/>
                <a:gdLst/>
                <a:ahLst/>
                <a:rect l="l" t="t" r="r" b="b"/>
                <a:pathLst>
                  <a:path w="778" h="777">
                    <a:moveTo>
                      <a:pt x="389" y="0"/>
                    </a:moveTo>
                    <a:lnTo>
                      <a:pt x="409" y="0"/>
                    </a:lnTo>
                    <a:lnTo>
                      <a:pt x="428" y="1"/>
                    </a:lnTo>
                    <a:lnTo>
                      <a:pt x="448" y="3"/>
                    </a:lnTo>
                    <a:lnTo>
                      <a:pt x="467" y="7"/>
                    </a:lnTo>
                    <a:lnTo>
                      <a:pt x="486" y="12"/>
                    </a:lnTo>
                    <a:lnTo>
                      <a:pt x="504" y="16"/>
                    </a:lnTo>
                    <a:lnTo>
                      <a:pt x="522" y="22"/>
                    </a:lnTo>
                    <a:lnTo>
                      <a:pt x="540" y="30"/>
                    </a:lnTo>
                    <a:lnTo>
                      <a:pt x="557" y="38"/>
                    </a:lnTo>
                    <a:lnTo>
                      <a:pt x="574" y="46"/>
                    </a:lnTo>
                    <a:lnTo>
                      <a:pt x="590" y="56"/>
                    </a:lnTo>
                    <a:lnTo>
                      <a:pt x="606" y="66"/>
                    </a:lnTo>
                    <a:lnTo>
                      <a:pt x="622" y="76"/>
                    </a:lnTo>
                    <a:lnTo>
                      <a:pt x="636" y="88"/>
                    </a:lnTo>
                    <a:lnTo>
                      <a:pt x="650" y="100"/>
                    </a:lnTo>
                    <a:lnTo>
                      <a:pt x="664" y="114"/>
                    </a:lnTo>
                    <a:lnTo>
                      <a:pt x="677" y="127"/>
                    </a:lnTo>
                    <a:lnTo>
                      <a:pt x="689" y="141"/>
                    </a:lnTo>
                    <a:lnTo>
                      <a:pt x="701" y="156"/>
                    </a:lnTo>
                    <a:lnTo>
                      <a:pt x="712" y="171"/>
                    </a:lnTo>
                    <a:lnTo>
                      <a:pt x="721" y="187"/>
                    </a:lnTo>
                    <a:lnTo>
                      <a:pt x="731" y="204"/>
                    </a:lnTo>
                    <a:lnTo>
                      <a:pt x="739" y="220"/>
                    </a:lnTo>
                    <a:lnTo>
                      <a:pt x="748" y="237"/>
                    </a:lnTo>
                    <a:lnTo>
                      <a:pt x="755" y="255"/>
                    </a:lnTo>
                    <a:lnTo>
                      <a:pt x="761" y="273"/>
                    </a:lnTo>
                    <a:lnTo>
                      <a:pt x="766" y="291"/>
                    </a:lnTo>
                    <a:lnTo>
                      <a:pt x="770" y="310"/>
                    </a:lnTo>
                    <a:lnTo>
                      <a:pt x="774" y="329"/>
                    </a:lnTo>
                    <a:lnTo>
                      <a:pt x="776" y="349"/>
                    </a:lnTo>
                    <a:lnTo>
                      <a:pt x="778" y="368"/>
                    </a:lnTo>
                    <a:lnTo>
                      <a:pt x="778" y="388"/>
                    </a:lnTo>
                    <a:lnTo>
                      <a:pt x="778" y="409"/>
                    </a:lnTo>
                    <a:lnTo>
                      <a:pt x="776" y="428"/>
                    </a:lnTo>
                    <a:lnTo>
                      <a:pt x="774" y="447"/>
                    </a:lnTo>
                    <a:lnTo>
                      <a:pt x="770" y="466"/>
                    </a:lnTo>
                    <a:lnTo>
                      <a:pt x="766" y="485"/>
                    </a:lnTo>
                    <a:lnTo>
                      <a:pt x="761" y="503"/>
                    </a:lnTo>
                    <a:lnTo>
                      <a:pt x="755" y="521"/>
                    </a:lnTo>
                    <a:lnTo>
                      <a:pt x="748" y="539"/>
                    </a:lnTo>
                    <a:lnTo>
                      <a:pt x="739" y="556"/>
                    </a:lnTo>
                    <a:lnTo>
                      <a:pt x="731" y="573"/>
                    </a:lnTo>
                    <a:lnTo>
                      <a:pt x="721" y="590"/>
                    </a:lnTo>
                    <a:lnTo>
                      <a:pt x="712" y="605"/>
                    </a:lnTo>
                    <a:lnTo>
                      <a:pt x="701" y="621"/>
                    </a:lnTo>
                    <a:lnTo>
                      <a:pt x="689" y="635"/>
                    </a:lnTo>
                    <a:lnTo>
                      <a:pt x="677" y="650"/>
                    </a:lnTo>
                    <a:lnTo>
                      <a:pt x="664" y="663"/>
                    </a:lnTo>
                    <a:lnTo>
                      <a:pt x="650" y="676"/>
                    </a:lnTo>
                    <a:lnTo>
                      <a:pt x="636" y="688"/>
                    </a:lnTo>
                    <a:lnTo>
                      <a:pt x="622" y="700"/>
                    </a:lnTo>
                    <a:lnTo>
                      <a:pt x="606" y="711"/>
                    </a:lnTo>
                    <a:lnTo>
                      <a:pt x="590" y="721"/>
                    </a:lnTo>
                    <a:lnTo>
                      <a:pt x="574" y="730"/>
                    </a:lnTo>
                    <a:lnTo>
                      <a:pt x="557" y="739"/>
                    </a:lnTo>
                    <a:lnTo>
                      <a:pt x="540" y="747"/>
                    </a:lnTo>
                    <a:lnTo>
                      <a:pt x="522" y="754"/>
                    </a:lnTo>
                    <a:lnTo>
                      <a:pt x="504" y="760"/>
                    </a:lnTo>
                    <a:lnTo>
                      <a:pt x="486" y="765"/>
                    </a:lnTo>
                    <a:lnTo>
                      <a:pt x="467" y="770"/>
                    </a:lnTo>
                    <a:lnTo>
                      <a:pt x="448" y="773"/>
                    </a:lnTo>
                    <a:lnTo>
                      <a:pt x="428" y="776"/>
                    </a:lnTo>
                    <a:lnTo>
                      <a:pt x="409" y="777"/>
                    </a:lnTo>
                    <a:lnTo>
                      <a:pt x="389" y="777"/>
                    </a:lnTo>
                    <a:lnTo>
                      <a:pt x="368" y="777"/>
                    </a:lnTo>
                    <a:lnTo>
                      <a:pt x="349" y="776"/>
                    </a:lnTo>
                    <a:lnTo>
                      <a:pt x="330" y="773"/>
                    </a:lnTo>
                    <a:lnTo>
                      <a:pt x="311" y="770"/>
                    </a:lnTo>
                    <a:lnTo>
                      <a:pt x="292" y="765"/>
                    </a:lnTo>
                    <a:lnTo>
                      <a:pt x="274" y="760"/>
                    </a:lnTo>
                    <a:lnTo>
                      <a:pt x="256" y="754"/>
                    </a:lnTo>
                    <a:lnTo>
                      <a:pt x="238" y="747"/>
                    </a:lnTo>
                    <a:lnTo>
                      <a:pt x="221" y="739"/>
                    </a:lnTo>
                    <a:lnTo>
                      <a:pt x="204" y="730"/>
                    </a:lnTo>
                    <a:lnTo>
                      <a:pt x="187" y="721"/>
                    </a:lnTo>
                    <a:lnTo>
                      <a:pt x="172" y="711"/>
                    </a:lnTo>
                    <a:lnTo>
                      <a:pt x="156" y="700"/>
                    </a:lnTo>
                    <a:lnTo>
                      <a:pt x="142" y="688"/>
                    </a:lnTo>
                    <a:lnTo>
                      <a:pt x="127" y="676"/>
                    </a:lnTo>
                    <a:lnTo>
                      <a:pt x="114" y="663"/>
                    </a:lnTo>
                    <a:lnTo>
                      <a:pt x="101" y="650"/>
                    </a:lnTo>
                    <a:lnTo>
                      <a:pt x="89" y="635"/>
                    </a:lnTo>
                    <a:lnTo>
                      <a:pt x="77" y="621"/>
                    </a:lnTo>
                    <a:lnTo>
                      <a:pt x="66" y="605"/>
                    </a:lnTo>
                    <a:lnTo>
                      <a:pt x="56" y="590"/>
                    </a:lnTo>
                    <a:lnTo>
                      <a:pt x="47" y="573"/>
                    </a:lnTo>
                    <a:lnTo>
                      <a:pt x="38" y="556"/>
                    </a:lnTo>
                    <a:lnTo>
                      <a:pt x="30" y="539"/>
                    </a:lnTo>
                    <a:lnTo>
                      <a:pt x="23" y="521"/>
                    </a:lnTo>
                    <a:lnTo>
                      <a:pt x="17" y="503"/>
                    </a:lnTo>
                    <a:lnTo>
                      <a:pt x="12" y="485"/>
                    </a:lnTo>
                    <a:lnTo>
                      <a:pt x="7" y="466"/>
                    </a:lnTo>
                    <a:lnTo>
                      <a:pt x="4" y="447"/>
                    </a:lnTo>
                    <a:lnTo>
                      <a:pt x="1" y="428"/>
                    </a:lnTo>
                    <a:lnTo>
                      <a:pt x="0" y="409"/>
                    </a:lnTo>
                    <a:lnTo>
                      <a:pt x="0" y="388"/>
                    </a:lnTo>
                    <a:lnTo>
                      <a:pt x="0" y="368"/>
                    </a:lnTo>
                    <a:lnTo>
                      <a:pt x="1" y="349"/>
                    </a:lnTo>
                    <a:lnTo>
                      <a:pt x="4" y="329"/>
                    </a:lnTo>
                    <a:lnTo>
                      <a:pt x="7" y="310"/>
                    </a:lnTo>
                    <a:lnTo>
                      <a:pt x="12" y="291"/>
                    </a:lnTo>
                    <a:lnTo>
                      <a:pt x="17" y="273"/>
                    </a:lnTo>
                    <a:lnTo>
                      <a:pt x="23" y="255"/>
                    </a:lnTo>
                    <a:lnTo>
                      <a:pt x="30" y="237"/>
                    </a:lnTo>
                    <a:lnTo>
                      <a:pt x="38" y="220"/>
                    </a:lnTo>
                    <a:lnTo>
                      <a:pt x="47" y="204"/>
                    </a:lnTo>
                    <a:lnTo>
                      <a:pt x="56" y="187"/>
                    </a:lnTo>
                    <a:lnTo>
                      <a:pt x="66" y="171"/>
                    </a:lnTo>
                    <a:lnTo>
                      <a:pt x="77" y="156"/>
                    </a:lnTo>
                    <a:lnTo>
                      <a:pt x="89" y="141"/>
                    </a:lnTo>
                    <a:lnTo>
                      <a:pt x="101" y="127"/>
                    </a:lnTo>
                    <a:lnTo>
                      <a:pt x="114" y="114"/>
                    </a:lnTo>
                    <a:lnTo>
                      <a:pt x="127" y="100"/>
                    </a:lnTo>
                    <a:lnTo>
                      <a:pt x="142" y="88"/>
                    </a:lnTo>
                    <a:lnTo>
                      <a:pt x="156" y="76"/>
                    </a:lnTo>
                    <a:lnTo>
                      <a:pt x="172" y="66"/>
                    </a:lnTo>
                    <a:lnTo>
                      <a:pt x="187" y="56"/>
                    </a:lnTo>
                    <a:lnTo>
                      <a:pt x="204" y="46"/>
                    </a:lnTo>
                    <a:lnTo>
                      <a:pt x="221" y="38"/>
                    </a:lnTo>
                    <a:lnTo>
                      <a:pt x="238" y="30"/>
                    </a:lnTo>
                    <a:lnTo>
                      <a:pt x="256" y="22"/>
                    </a:lnTo>
                    <a:lnTo>
                      <a:pt x="274" y="16"/>
                    </a:lnTo>
                    <a:lnTo>
                      <a:pt x="292" y="12"/>
                    </a:lnTo>
                    <a:lnTo>
                      <a:pt x="311" y="7"/>
                    </a:lnTo>
                    <a:lnTo>
                      <a:pt x="330" y="3"/>
                    </a:lnTo>
                    <a:lnTo>
                      <a:pt x="349" y="1"/>
                    </a:lnTo>
                    <a:lnTo>
                      <a:pt x="368" y="0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48e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05240" y="492120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771" h="771">
                    <a:moveTo>
                      <a:pt x="385" y="0"/>
                    </a:moveTo>
                    <a:lnTo>
                      <a:pt x="405" y="0"/>
                    </a:lnTo>
                    <a:lnTo>
                      <a:pt x="424" y="1"/>
                    </a:lnTo>
                    <a:lnTo>
                      <a:pt x="444" y="4"/>
                    </a:lnTo>
                    <a:lnTo>
                      <a:pt x="463" y="7"/>
                    </a:lnTo>
                    <a:lnTo>
                      <a:pt x="482" y="12"/>
                    </a:lnTo>
                    <a:lnTo>
                      <a:pt x="500" y="16"/>
                    </a:lnTo>
                    <a:lnTo>
                      <a:pt x="518" y="22"/>
                    </a:lnTo>
                    <a:lnTo>
                      <a:pt x="535" y="30"/>
                    </a:lnTo>
                    <a:lnTo>
                      <a:pt x="553" y="38"/>
                    </a:lnTo>
                    <a:lnTo>
                      <a:pt x="568" y="46"/>
                    </a:lnTo>
                    <a:lnTo>
                      <a:pt x="585" y="55"/>
                    </a:lnTo>
                    <a:lnTo>
                      <a:pt x="601" y="66"/>
                    </a:lnTo>
                    <a:lnTo>
                      <a:pt x="615" y="76"/>
                    </a:lnTo>
                    <a:lnTo>
                      <a:pt x="631" y="87"/>
                    </a:lnTo>
                    <a:lnTo>
                      <a:pt x="644" y="99"/>
                    </a:lnTo>
                    <a:lnTo>
                      <a:pt x="657" y="112"/>
                    </a:lnTo>
                    <a:lnTo>
                      <a:pt x="670" y="126"/>
                    </a:lnTo>
                    <a:lnTo>
                      <a:pt x="682" y="140"/>
                    </a:lnTo>
                    <a:lnTo>
                      <a:pt x="694" y="154"/>
                    </a:lnTo>
                    <a:lnTo>
                      <a:pt x="705" y="170"/>
                    </a:lnTo>
                    <a:lnTo>
                      <a:pt x="715" y="186"/>
                    </a:lnTo>
                    <a:lnTo>
                      <a:pt x="724" y="201"/>
                    </a:lnTo>
                    <a:lnTo>
                      <a:pt x="733" y="218"/>
                    </a:lnTo>
                    <a:lnTo>
                      <a:pt x="740" y="235"/>
                    </a:lnTo>
                    <a:lnTo>
                      <a:pt x="747" y="253"/>
                    </a:lnTo>
                    <a:lnTo>
                      <a:pt x="753" y="271"/>
                    </a:lnTo>
                    <a:lnTo>
                      <a:pt x="759" y="289"/>
                    </a:lnTo>
                    <a:lnTo>
                      <a:pt x="763" y="308"/>
                    </a:lnTo>
                    <a:lnTo>
                      <a:pt x="766" y="326"/>
                    </a:lnTo>
                    <a:lnTo>
                      <a:pt x="769" y="345"/>
                    </a:lnTo>
                    <a:lnTo>
                      <a:pt x="770" y="365"/>
                    </a:lnTo>
                    <a:lnTo>
                      <a:pt x="771" y="385"/>
                    </a:lnTo>
                    <a:lnTo>
                      <a:pt x="770" y="405"/>
                    </a:lnTo>
                    <a:lnTo>
                      <a:pt x="769" y="424"/>
                    </a:lnTo>
                    <a:lnTo>
                      <a:pt x="766" y="443"/>
                    </a:lnTo>
                    <a:lnTo>
                      <a:pt x="763" y="463"/>
                    </a:lnTo>
                    <a:lnTo>
                      <a:pt x="759" y="481"/>
                    </a:lnTo>
                    <a:lnTo>
                      <a:pt x="753" y="500"/>
                    </a:lnTo>
                    <a:lnTo>
                      <a:pt x="747" y="517"/>
                    </a:lnTo>
                    <a:lnTo>
                      <a:pt x="740" y="535"/>
                    </a:lnTo>
                    <a:lnTo>
                      <a:pt x="733" y="551"/>
                    </a:lnTo>
                    <a:lnTo>
                      <a:pt x="724" y="568"/>
                    </a:lnTo>
                    <a:lnTo>
                      <a:pt x="715" y="585"/>
                    </a:lnTo>
                    <a:lnTo>
                      <a:pt x="705" y="601"/>
                    </a:lnTo>
                    <a:lnTo>
                      <a:pt x="694" y="615"/>
                    </a:lnTo>
                    <a:lnTo>
                      <a:pt x="682" y="629"/>
                    </a:lnTo>
                    <a:lnTo>
                      <a:pt x="670" y="644"/>
                    </a:lnTo>
                    <a:lnTo>
                      <a:pt x="657" y="657"/>
                    </a:lnTo>
                    <a:lnTo>
                      <a:pt x="644" y="670"/>
                    </a:lnTo>
                    <a:lnTo>
                      <a:pt x="631" y="682"/>
                    </a:lnTo>
                    <a:lnTo>
                      <a:pt x="615" y="694"/>
                    </a:lnTo>
                    <a:lnTo>
                      <a:pt x="601" y="705"/>
                    </a:lnTo>
                    <a:lnTo>
                      <a:pt x="585" y="715"/>
                    </a:lnTo>
                    <a:lnTo>
                      <a:pt x="568" y="724"/>
                    </a:lnTo>
                    <a:lnTo>
                      <a:pt x="553" y="733"/>
                    </a:lnTo>
                    <a:lnTo>
                      <a:pt x="535" y="740"/>
                    </a:lnTo>
                    <a:lnTo>
                      <a:pt x="518" y="747"/>
                    </a:lnTo>
                    <a:lnTo>
                      <a:pt x="500" y="753"/>
                    </a:lnTo>
                    <a:lnTo>
                      <a:pt x="482" y="758"/>
                    </a:lnTo>
                    <a:lnTo>
                      <a:pt x="463" y="763"/>
                    </a:lnTo>
                    <a:lnTo>
                      <a:pt x="444" y="766"/>
                    </a:lnTo>
                    <a:lnTo>
                      <a:pt x="424" y="769"/>
                    </a:lnTo>
                    <a:lnTo>
                      <a:pt x="405" y="770"/>
                    </a:lnTo>
                    <a:lnTo>
                      <a:pt x="385" y="771"/>
                    </a:lnTo>
                    <a:lnTo>
                      <a:pt x="366" y="770"/>
                    </a:lnTo>
                    <a:lnTo>
                      <a:pt x="346" y="769"/>
                    </a:lnTo>
                    <a:lnTo>
                      <a:pt x="327" y="766"/>
                    </a:lnTo>
                    <a:lnTo>
                      <a:pt x="308" y="763"/>
                    </a:lnTo>
                    <a:lnTo>
                      <a:pt x="289" y="758"/>
                    </a:lnTo>
                    <a:lnTo>
                      <a:pt x="271" y="753"/>
                    </a:lnTo>
                    <a:lnTo>
                      <a:pt x="253" y="747"/>
                    </a:lnTo>
                    <a:lnTo>
                      <a:pt x="236" y="740"/>
                    </a:lnTo>
                    <a:lnTo>
                      <a:pt x="218" y="733"/>
                    </a:lnTo>
                    <a:lnTo>
                      <a:pt x="201" y="724"/>
                    </a:lnTo>
                    <a:lnTo>
                      <a:pt x="186" y="715"/>
                    </a:lnTo>
                    <a:lnTo>
                      <a:pt x="170" y="705"/>
                    </a:lnTo>
                    <a:lnTo>
                      <a:pt x="154" y="694"/>
                    </a:lnTo>
                    <a:lnTo>
                      <a:pt x="140" y="682"/>
                    </a:lnTo>
                    <a:lnTo>
                      <a:pt x="127" y="670"/>
                    </a:lnTo>
                    <a:lnTo>
                      <a:pt x="112" y="657"/>
                    </a:lnTo>
                    <a:lnTo>
                      <a:pt x="100" y="644"/>
                    </a:lnTo>
                    <a:lnTo>
                      <a:pt x="88" y="629"/>
                    </a:lnTo>
                    <a:lnTo>
                      <a:pt x="76" y="615"/>
                    </a:lnTo>
                    <a:lnTo>
                      <a:pt x="66" y="601"/>
                    </a:lnTo>
                    <a:lnTo>
                      <a:pt x="56" y="585"/>
                    </a:lnTo>
                    <a:lnTo>
                      <a:pt x="46" y="568"/>
                    </a:lnTo>
                    <a:lnTo>
                      <a:pt x="38" y="551"/>
                    </a:lnTo>
                    <a:lnTo>
                      <a:pt x="30" y="535"/>
                    </a:lnTo>
                    <a:lnTo>
                      <a:pt x="24" y="517"/>
                    </a:lnTo>
                    <a:lnTo>
                      <a:pt x="18" y="500"/>
                    </a:lnTo>
                    <a:lnTo>
                      <a:pt x="12" y="481"/>
                    </a:lnTo>
                    <a:lnTo>
                      <a:pt x="8" y="463"/>
                    </a:lnTo>
                    <a:lnTo>
                      <a:pt x="4" y="443"/>
                    </a:lnTo>
                    <a:lnTo>
                      <a:pt x="2" y="424"/>
                    </a:lnTo>
                    <a:lnTo>
                      <a:pt x="1" y="405"/>
                    </a:lnTo>
                    <a:lnTo>
                      <a:pt x="0" y="385"/>
                    </a:lnTo>
                    <a:lnTo>
                      <a:pt x="1" y="365"/>
                    </a:lnTo>
                    <a:lnTo>
                      <a:pt x="2" y="345"/>
                    </a:lnTo>
                    <a:lnTo>
                      <a:pt x="4" y="326"/>
                    </a:lnTo>
                    <a:lnTo>
                      <a:pt x="8" y="308"/>
                    </a:lnTo>
                    <a:lnTo>
                      <a:pt x="12" y="289"/>
                    </a:lnTo>
                    <a:lnTo>
                      <a:pt x="18" y="271"/>
                    </a:lnTo>
                    <a:lnTo>
                      <a:pt x="24" y="253"/>
                    </a:lnTo>
                    <a:lnTo>
                      <a:pt x="30" y="235"/>
                    </a:lnTo>
                    <a:lnTo>
                      <a:pt x="38" y="218"/>
                    </a:lnTo>
                    <a:lnTo>
                      <a:pt x="46" y="201"/>
                    </a:lnTo>
                    <a:lnTo>
                      <a:pt x="56" y="186"/>
                    </a:lnTo>
                    <a:lnTo>
                      <a:pt x="66" y="170"/>
                    </a:lnTo>
                    <a:lnTo>
                      <a:pt x="76" y="154"/>
                    </a:lnTo>
                    <a:lnTo>
                      <a:pt x="88" y="140"/>
                    </a:lnTo>
                    <a:lnTo>
                      <a:pt x="100" y="126"/>
                    </a:lnTo>
                    <a:lnTo>
                      <a:pt x="112" y="112"/>
                    </a:lnTo>
                    <a:lnTo>
                      <a:pt x="127" y="99"/>
                    </a:lnTo>
                    <a:lnTo>
                      <a:pt x="140" y="87"/>
                    </a:lnTo>
                    <a:lnTo>
                      <a:pt x="154" y="76"/>
                    </a:lnTo>
                    <a:lnTo>
                      <a:pt x="170" y="66"/>
                    </a:lnTo>
                    <a:lnTo>
                      <a:pt x="186" y="55"/>
                    </a:lnTo>
                    <a:lnTo>
                      <a:pt x="201" y="46"/>
                    </a:lnTo>
                    <a:lnTo>
                      <a:pt x="218" y="38"/>
                    </a:lnTo>
                    <a:lnTo>
                      <a:pt x="236" y="30"/>
                    </a:lnTo>
                    <a:lnTo>
                      <a:pt x="253" y="22"/>
                    </a:lnTo>
                    <a:lnTo>
                      <a:pt x="271" y="16"/>
                    </a:lnTo>
                    <a:lnTo>
                      <a:pt x="289" y="12"/>
                    </a:lnTo>
                    <a:lnTo>
                      <a:pt x="308" y="7"/>
                    </a:lnTo>
                    <a:lnTo>
                      <a:pt x="327" y="4"/>
                    </a:lnTo>
                    <a:lnTo>
                      <a:pt x="346" y="1"/>
                    </a:lnTo>
                    <a:lnTo>
                      <a:pt x="366" y="0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990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207040" y="4924440"/>
                <a:ext cx="303120" cy="303120"/>
              </a:xfrm>
              <a:custGeom>
                <a:avLst/>
                <a:gdLst/>
                <a:ahLst/>
                <a:rect l="l" t="t" r="r" b="b"/>
                <a:pathLst>
                  <a:path w="764" h="764">
                    <a:moveTo>
                      <a:pt x="382" y="0"/>
                    </a:moveTo>
                    <a:lnTo>
                      <a:pt x="401" y="0"/>
                    </a:lnTo>
                    <a:lnTo>
                      <a:pt x="420" y="2"/>
                    </a:lnTo>
                    <a:lnTo>
                      <a:pt x="440" y="4"/>
                    </a:lnTo>
                    <a:lnTo>
                      <a:pt x="459" y="8"/>
                    </a:lnTo>
                    <a:lnTo>
                      <a:pt x="477" y="12"/>
                    </a:lnTo>
                    <a:lnTo>
                      <a:pt x="495" y="16"/>
                    </a:lnTo>
                    <a:lnTo>
                      <a:pt x="513" y="22"/>
                    </a:lnTo>
                    <a:lnTo>
                      <a:pt x="531" y="30"/>
                    </a:lnTo>
                    <a:lnTo>
                      <a:pt x="548" y="38"/>
                    </a:lnTo>
                    <a:lnTo>
                      <a:pt x="563" y="46"/>
                    </a:lnTo>
                    <a:lnTo>
                      <a:pt x="580" y="55"/>
                    </a:lnTo>
                    <a:lnTo>
                      <a:pt x="596" y="66"/>
                    </a:lnTo>
                    <a:lnTo>
                      <a:pt x="610" y="75"/>
                    </a:lnTo>
                    <a:lnTo>
                      <a:pt x="624" y="87"/>
                    </a:lnTo>
                    <a:lnTo>
                      <a:pt x="639" y="99"/>
                    </a:lnTo>
                    <a:lnTo>
                      <a:pt x="652" y="111"/>
                    </a:lnTo>
                    <a:lnTo>
                      <a:pt x="664" y="126"/>
                    </a:lnTo>
                    <a:lnTo>
                      <a:pt x="676" y="139"/>
                    </a:lnTo>
                    <a:lnTo>
                      <a:pt x="688" y="153"/>
                    </a:lnTo>
                    <a:lnTo>
                      <a:pt x="699" y="169"/>
                    </a:lnTo>
                    <a:lnTo>
                      <a:pt x="708" y="184"/>
                    </a:lnTo>
                    <a:lnTo>
                      <a:pt x="718" y="200"/>
                    </a:lnTo>
                    <a:lnTo>
                      <a:pt x="726" y="217"/>
                    </a:lnTo>
                    <a:lnTo>
                      <a:pt x="734" y="233"/>
                    </a:lnTo>
                    <a:lnTo>
                      <a:pt x="741" y="250"/>
                    </a:lnTo>
                    <a:lnTo>
                      <a:pt x="747" y="268"/>
                    </a:lnTo>
                    <a:lnTo>
                      <a:pt x="752" y="286"/>
                    </a:lnTo>
                    <a:lnTo>
                      <a:pt x="756" y="304"/>
                    </a:lnTo>
                    <a:lnTo>
                      <a:pt x="759" y="323"/>
                    </a:lnTo>
                    <a:lnTo>
                      <a:pt x="761" y="343"/>
                    </a:lnTo>
                    <a:lnTo>
                      <a:pt x="764" y="362"/>
                    </a:lnTo>
                    <a:lnTo>
                      <a:pt x="764" y="381"/>
                    </a:lnTo>
                    <a:lnTo>
                      <a:pt x="764" y="401"/>
                    </a:lnTo>
                    <a:lnTo>
                      <a:pt x="761" y="421"/>
                    </a:lnTo>
                    <a:lnTo>
                      <a:pt x="759" y="440"/>
                    </a:lnTo>
                    <a:lnTo>
                      <a:pt x="756" y="458"/>
                    </a:lnTo>
                    <a:lnTo>
                      <a:pt x="752" y="477"/>
                    </a:lnTo>
                    <a:lnTo>
                      <a:pt x="747" y="495"/>
                    </a:lnTo>
                    <a:lnTo>
                      <a:pt x="741" y="513"/>
                    </a:lnTo>
                    <a:lnTo>
                      <a:pt x="734" y="530"/>
                    </a:lnTo>
                    <a:lnTo>
                      <a:pt x="726" y="547"/>
                    </a:lnTo>
                    <a:lnTo>
                      <a:pt x="718" y="563"/>
                    </a:lnTo>
                    <a:lnTo>
                      <a:pt x="708" y="579"/>
                    </a:lnTo>
                    <a:lnTo>
                      <a:pt x="699" y="595"/>
                    </a:lnTo>
                    <a:lnTo>
                      <a:pt x="688" y="610"/>
                    </a:lnTo>
                    <a:lnTo>
                      <a:pt x="676" y="625"/>
                    </a:lnTo>
                    <a:lnTo>
                      <a:pt x="664" y="638"/>
                    </a:lnTo>
                    <a:lnTo>
                      <a:pt x="652" y="651"/>
                    </a:lnTo>
                    <a:lnTo>
                      <a:pt x="639" y="664"/>
                    </a:lnTo>
                    <a:lnTo>
                      <a:pt x="624" y="676"/>
                    </a:lnTo>
                    <a:lnTo>
                      <a:pt x="610" y="687"/>
                    </a:lnTo>
                    <a:lnTo>
                      <a:pt x="596" y="698"/>
                    </a:lnTo>
                    <a:lnTo>
                      <a:pt x="580" y="707"/>
                    </a:lnTo>
                    <a:lnTo>
                      <a:pt x="563" y="717"/>
                    </a:lnTo>
                    <a:lnTo>
                      <a:pt x="548" y="725"/>
                    </a:lnTo>
                    <a:lnTo>
                      <a:pt x="531" y="733"/>
                    </a:lnTo>
                    <a:lnTo>
                      <a:pt x="513" y="740"/>
                    </a:lnTo>
                    <a:lnTo>
                      <a:pt x="495" y="746"/>
                    </a:lnTo>
                    <a:lnTo>
                      <a:pt x="477" y="752"/>
                    </a:lnTo>
                    <a:lnTo>
                      <a:pt x="459" y="755"/>
                    </a:lnTo>
                    <a:lnTo>
                      <a:pt x="440" y="759"/>
                    </a:lnTo>
                    <a:lnTo>
                      <a:pt x="420" y="761"/>
                    </a:lnTo>
                    <a:lnTo>
                      <a:pt x="401" y="763"/>
                    </a:lnTo>
                    <a:lnTo>
                      <a:pt x="382" y="764"/>
                    </a:lnTo>
                    <a:lnTo>
                      <a:pt x="363" y="763"/>
                    </a:lnTo>
                    <a:lnTo>
                      <a:pt x="342" y="761"/>
                    </a:lnTo>
                    <a:lnTo>
                      <a:pt x="324" y="759"/>
                    </a:lnTo>
                    <a:lnTo>
                      <a:pt x="305" y="755"/>
                    </a:lnTo>
                    <a:lnTo>
                      <a:pt x="286" y="752"/>
                    </a:lnTo>
                    <a:lnTo>
                      <a:pt x="268" y="746"/>
                    </a:lnTo>
                    <a:lnTo>
                      <a:pt x="251" y="740"/>
                    </a:lnTo>
                    <a:lnTo>
                      <a:pt x="233" y="733"/>
                    </a:lnTo>
                    <a:lnTo>
                      <a:pt x="216" y="725"/>
                    </a:lnTo>
                    <a:lnTo>
                      <a:pt x="200" y="717"/>
                    </a:lnTo>
                    <a:lnTo>
                      <a:pt x="184" y="707"/>
                    </a:lnTo>
                    <a:lnTo>
                      <a:pt x="168" y="698"/>
                    </a:lnTo>
                    <a:lnTo>
                      <a:pt x="154" y="687"/>
                    </a:lnTo>
                    <a:lnTo>
                      <a:pt x="140" y="676"/>
                    </a:lnTo>
                    <a:lnTo>
                      <a:pt x="125" y="664"/>
                    </a:lnTo>
                    <a:lnTo>
                      <a:pt x="112" y="651"/>
                    </a:lnTo>
                    <a:lnTo>
                      <a:pt x="99" y="638"/>
                    </a:lnTo>
                    <a:lnTo>
                      <a:pt x="87" y="625"/>
                    </a:lnTo>
                    <a:lnTo>
                      <a:pt x="76" y="610"/>
                    </a:lnTo>
                    <a:lnTo>
                      <a:pt x="65" y="595"/>
                    </a:lnTo>
                    <a:lnTo>
                      <a:pt x="56" y="579"/>
                    </a:lnTo>
                    <a:lnTo>
                      <a:pt x="46" y="563"/>
                    </a:lnTo>
                    <a:lnTo>
                      <a:pt x="38" y="547"/>
                    </a:lnTo>
                    <a:lnTo>
                      <a:pt x="30" y="530"/>
                    </a:lnTo>
                    <a:lnTo>
                      <a:pt x="23" y="513"/>
                    </a:lnTo>
                    <a:lnTo>
                      <a:pt x="17" y="495"/>
                    </a:lnTo>
                    <a:lnTo>
                      <a:pt x="12" y="477"/>
                    </a:lnTo>
                    <a:lnTo>
                      <a:pt x="8" y="458"/>
                    </a:lnTo>
                    <a:lnTo>
                      <a:pt x="4" y="440"/>
                    </a:lnTo>
                    <a:lnTo>
                      <a:pt x="2" y="421"/>
                    </a:lnTo>
                    <a:lnTo>
                      <a:pt x="0" y="401"/>
                    </a:lnTo>
                    <a:lnTo>
                      <a:pt x="0" y="381"/>
                    </a:lnTo>
                    <a:lnTo>
                      <a:pt x="0" y="362"/>
                    </a:lnTo>
                    <a:lnTo>
                      <a:pt x="2" y="343"/>
                    </a:lnTo>
                    <a:lnTo>
                      <a:pt x="4" y="323"/>
                    </a:lnTo>
                    <a:lnTo>
                      <a:pt x="8" y="304"/>
                    </a:lnTo>
                    <a:lnTo>
                      <a:pt x="12" y="286"/>
                    </a:lnTo>
                    <a:lnTo>
                      <a:pt x="17" y="268"/>
                    </a:lnTo>
                    <a:lnTo>
                      <a:pt x="23" y="250"/>
                    </a:lnTo>
                    <a:lnTo>
                      <a:pt x="30" y="233"/>
                    </a:lnTo>
                    <a:lnTo>
                      <a:pt x="38" y="217"/>
                    </a:lnTo>
                    <a:lnTo>
                      <a:pt x="46" y="200"/>
                    </a:lnTo>
                    <a:lnTo>
                      <a:pt x="56" y="184"/>
                    </a:lnTo>
                    <a:lnTo>
                      <a:pt x="65" y="169"/>
                    </a:lnTo>
                    <a:lnTo>
                      <a:pt x="76" y="153"/>
                    </a:lnTo>
                    <a:lnTo>
                      <a:pt x="87" y="139"/>
                    </a:lnTo>
                    <a:lnTo>
                      <a:pt x="99" y="126"/>
                    </a:lnTo>
                    <a:lnTo>
                      <a:pt x="112" y="111"/>
                    </a:lnTo>
                    <a:lnTo>
                      <a:pt x="125" y="99"/>
                    </a:lnTo>
                    <a:lnTo>
                      <a:pt x="140" y="87"/>
                    </a:lnTo>
                    <a:lnTo>
                      <a:pt x="154" y="75"/>
                    </a:lnTo>
                    <a:lnTo>
                      <a:pt x="168" y="66"/>
                    </a:lnTo>
                    <a:lnTo>
                      <a:pt x="184" y="55"/>
                    </a:lnTo>
                    <a:lnTo>
                      <a:pt x="200" y="46"/>
                    </a:lnTo>
                    <a:lnTo>
                      <a:pt x="216" y="38"/>
                    </a:lnTo>
                    <a:lnTo>
                      <a:pt x="233" y="30"/>
                    </a:lnTo>
                    <a:lnTo>
                      <a:pt x="251" y="22"/>
                    </a:lnTo>
                    <a:lnTo>
                      <a:pt x="268" y="16"/>
                    </a:lnTo>
                    <a:lnTo>
                      <a:pt x="286" y="12"/>
                    </a:lnTo>
                    <a:lnTo>
                      <a:pt x="305" y="8"/>
                    </a:lnTo>
                    <a:lnTo>
                      <a:pt x="324" y="4"/>
                    </a:lnTo>
                    <a:lnTo>
                      <a:pt x="342" y="2"/>
                    </a:lnTo>
                    <a:lnTo>
                      <a:pt x="363" y="0"/>
                    </a:lnTo>
                    <a:lnTo>
                      <a:pt x="382" y="0"/>
                    </a:lnTo>
                    <a:close/>
                  </a:path>
                </a:pathLst>
              </a:custGeom>
              <a:solidFill>
                <a:srgbClr val="df9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208480" y="4925880"/>
                <a:ext cx="299880" cy="301680"/>
              </a:xfrm>
              <a:custGeom>
                <a:avLst/>
                <a:gdLst/>
                <a:ahLst/>
                <a:rect l="l" t="t" r="r" b="b"/>
                <a:pathLst>
                  <a:path w="756" h="757">
                    <a:moveTo>
                      <a:pt x="378" y="0"/>
                    </a:moveTo>
                    <a:lnTo>
                      <a:pt x="397" y="1"/>
                    </a:lnTo>
                    <a:lnTo>
                      <a:pt x="416" y="2"/>
                    </a:lnTo>
                    <a:lnTo>
                      <a:pt x="436" y="4"/>
                    </a:lnTo>
                    <a:lnTo>
                      <a:pt x="455" y="8"/>
                    </a:lnTo>
                    <a:lnTo>
                      <a:pt x="473" y="12"/>
                    </a:lnTo>
                    <a:lnTo>
                      <a:pt x="491" y="18"/>
                    </a:lnTo>
                    <a:lnTo>
                      <a:pt x="508" y="22"/>
                    </a:lnTo>
                    <a:lnTo>
                      <a:pt x="526" y="30"/>
                    </a:lnTo>
                    <a:lnTo>
                      <a:pt x="542" y="37"/>
                    </a:lnTo>
                    <a:lnTo>
                      <a:pt x="558" y="45"/>
                    </a:lnTo>
                    <a:lnTo>
                      <a:pt x="574" y="55"/>
                    </a:lnTo>
                    <a:lnTo>
                      <a:pt x="589" y="64"/>
                    </a:lnTo>
                    <a:lnTo>
                      <a:pt x="605" y="75"/>
                    </a:lnTo>
                    <a:lnTo>
                      <a:pt x="619" y="86"/>
                    </a:lnTo>
                    <a:lnTo>
                      <a:pt x="632" y="98"/>
                    </a:lnTo>
                    <a:lnTo>
                      <a:pt x="646" y="111"/>
                    </a:lnTo>
                    <a:lnTo>
                      <a:pt x="658" y="124"/>
                    </a:lnTo>
                    <a:lnTo>
                      <a:pt x="670" y="138"/>
                    </a:lnTo>
                    <a:lnTo>
                      <a:pt x="682" y="152"/>
                    </a:lnTo>
                    <a:lnTo>
                      <a:pt x="692" y="166"/>
                    </a:lnTo>
                    <a:lnTo>
                      <a:pt x="702" y="182"/>
                    </a:lnTo>
                    <a:lnTo>
                      <a:pt x="710" y="198"/>
                    </a:lnTo>
                    <a:lnTo>
                      <a:pt x="719" y="214"/>
                    </a:lnTo>
                    <a:lnTo>
                      <a:pt x="727" y="231"/>
                    </a:lnTo>
                    <a:lnTo>
                      <a:pt x="733" y="248"/>
                    </a:lnTo>
                    <a:lnTo>
                      <a:pt x="739" y="266"/>
                    </a:lnTo>
                    <a:lnTo>
                      <a:pt x="744" y="284"/>
                    </a:lnTo>
                    <a:lnTo>
                      <a:pt x="749" y="302"/>
                    </a:lnTo>
                    <a:lnTo>
                      <a:pt x="752" y="321"/>
                    </a:lnTo>
                    <a:lnTo>
                      <a:pt x="755" y="339"/>
                    </a:lnTo>
                    <a:lnTo>
                      <a:pt x="756" y="358"/>
                    </a:lnTo>
                    <a:lnTo>
                      <a:pt x="756" y="377"/>
                    </a:lnTo>
                    <a:lnTo>
                      <a:pt x="756" y="398"/>
                    </a:lnTo>
                    <a:lnTo>
                      <a:pt x="755" y="417"/>
                    </a:lnTo>
                    <a:lnTo>
                      <a:pt x="752" y="435"/>
                    </a:lnTo>
                    <a:lnTo>
                      <a:pt x="749" y="454"/>
                    </a:lnTo>
                    <a:lnTo>
                      <a:pt x="744" y="472"/>
                    </a:lnTo>
                    <a:lnTo>
                      <a:pt x="739" y="490"/>
                    </a:lnTo>
                    <a:lnTo>
                      <a:pt x="733" y="508"/>
                    </a:lnTo>
                    <a:lnTo>
                      <a:pt x="727" y="525"/>
                    </a:lnTo>
                    <a:lnTo>
                      <a:pt x="719" y="542"/>
                    </a:lnTo>
                    <a:lnTo>
                      <a:pt x="710" y="557"/>
                    </a:lnTo>
                    <a:lnTo>
                      <a:pt x="702" y="574"/>
                    </a:lnTo>
                    <a:lnTo>
                      <a:pt x="692" y="589"/>
                    </a:lnTo>
                    <a:lnTo>
                      <a:pt x="682" y="604"/>
                    </a:lnTo>
                    <a:lnTo>
                      <a:pt x="670" y="619"/>
                    </a:lnTo>
                    <a:lnTo>
                      <a:pt x="658" y="632"/>
                    </a:lnTo>
                    <a:lnTo>
                      <a:pt x="646" y="645"/>
                    </a:lnTo>
                    <a:lnTo>
                      <a:pt x="632" y="658"/>
                    </a:lnTo>
                    <a:lnTo>
                      <a:pt x="619" y="670"/>
                    </a:lnTo>
                    <a:lnTo>
                      <a:pt x="605" y="681"/>
                    </a:lnTo>
                    <a:lnTo>
                      <a:pt x="589" y="692"/>
                    </a:lnTo>
                    <a:lnTo>
                      <a:pt x="574" y="701"/>
                    </a:lnTo>
                    <a:lnTo>
                      <a:pt x="558" y="710"/>
                    </a:lnTo>
                    <a:lnTo>
                      <a:pt x="542" y="718"/>
                    </a:lnTo>
                    <a:lnTo>
                      <a:pt x="526" y="727"/>
                    </a:lnTo>
                    <a:lnTo>
                      <a:pt x="508" y="733"/>
                    </a:lnTo>
                    <a:lnTo>
                      <a:pt x="491" y="739"/>
                    </a:lnTo>
                    <a:lnTo>
                      <a:pt x="473" y="745"/>
                    </a:lnTo>
                    <a:lnTo>
                      <a:pt x="455" y="748"/>
                    </a:lnTo>
                    <a:lnTo>
                      <a:pt x="436" y="752"/>
                    </a:lnTo>
                    <a:lnTo>
                      <a:pt x="416" y="754"/>
                    </a:lnTo>
                    <a:lnTo>
                      <a:pt x="397" y="755"/>
                    </a:lnTo>
                    <a:lnTo>
                      <a:pt x="378" y="757"/>
                    </a:lnTo>
                    <a:lnTo>
                      <a:pt x="359" y="755"/>
                    </a:lnTo>
                    <a:lnTo>
                      <a:pt x="340" y="754"/>
                    </a:lnTo>
                    <a:lnTo>
                      <a:pt x="320" y="752"/>
                    </a:lnTo>
                    <a:lnTo>
                      <a:pt x="302" y="748"/>
                    </a:lnTo>
                    <a:lnTo>
                      <a:pt x="284" y="745"/>
                    </a:lnTo>
                    <a:lnTo>
                      <a:pt x="266" y="739"/>
                    </a:lnTo>
                    <a:lnTo>
                      <a:pt x="248" y="733"/>
                    </a:lnTo>
                    <a:lnTo>
                      <a:pt x="232" y="727"/>
                    </a:lnTo>
                    <a:lnTo>
                      <a:pt x="215" y="718"/>
                    </a:lnTo>
                    <a:lnTo>
                      <a:pt x="198" y="710"/>
                    </a:lnTo>
                    <a:lnTo>
                      <a:pt x="182" y="701"/>
                    </a:lnTo>
                    <a:lnTo>
                      <a:pt x="167" y="692"/>
                    </a:lnTo>
                    <a:lnTo>
                      <a:pt x="152" y="681"/>
                    </a:lnTo>
                    <a:lnTo>
                      <a:pt x="138" y="670"/>
                    </a:lnTo>
                    <a:lnTo>
                      <a:pt x="125" y="658"/>
                    </a:lnTo>
                    <a:lnTo>
                      <a:pt x="112" y="645"/>
                    </a:lnTo>
                    <a:lnTo>
                      <a:pt x="98" y="632"/>
                    </a:lnTo>
                    <a:lnTo>
                      <a:pt x="86" y="619"/>
                    </a:lnTo>
                    <a:lnTo>
                      <a:pt x="76" y="604"/>
                    </a:lnTo>
                    <a:lnTo>
                      <a:pt x="65" y="589"/>
                    </a:lnTo>
                    <a:lnTo>
                      <a:pt x="55" y="574"/>
                    </a:lnTo>
                    <a:lnTo>
                      <a:pt x="46" y="557"/>
                    </a:lnTo>
                    <a:lnTo>
                      <a:pt x="37" y="542"/>
                    </a:lnTo>
                    <a:lnTo>
                      <a:pt x="30" y="525"/>
                    </a:lnTo>
                    <a:lnTo>
                      <a:pt x="23" y="508"/>
                    </a:lnTo>
                    <a:lnTo>
                      <a:pt x="17" y="490"/>
                    </a:lnTo>
                    <a:lnTo>
                      <a:pt x="12" y="472"/>
                    </a:lnTo>
                    <a:lnTo>
                      <a:pt x="8" y="454"/>
                    </a:lnTo>
                    <a:lnTo>
                      <a:pt x="5" y="435"/>
                    </a:lnTo>
                    <a:lnTo>
                      <a:pt x="2" y="417"/>
                    </a:lnTo>
                    <a:lnTo>
                      <a:pt x="1" y="398"/>
                    </a:lnTo>
                    <a:lnTo>
                      <a:pt x="0" y="377"/>
                    </a:lnTo>
                    <a:lnTo>
                      <a:pt x="1" y="358"/>
                    </a:lnTo>
                    <a:lnTo>
                      <a:pt x="2" y="339"/>
                    </a:lnTo>
                    <a:lnTo>
                      <a:pt x="5" y="321"/>
                    </a:lnTo>
                    <a:lnTo>
                      <a:pt x="8" y="302"/>
                    </a:lnTo>
                    <a:lnTo>
                      <a:pt x="12" y="284"/>
                    </a:lnTo>
                    <a:lnTo>
                      <a:pt x="17" y="266"/>
                    </a:lnTo>
                    <a:lnTo>
                      <a:pt x="23" y="248"/>
                    </a:lnTo>
                    <a:lnTo>
                      <a:pt x="30" y="231"/>
                    </a:lnTo>
                    <a:lnTo>
                      <a:pt x="37" y="214"/>
                    </a:lnTo>
                    <a:lnTo>
                      <a:pt x="46" y="198"/>
                    </a:lnTo>
                    <a:lnTo>
                      <a:pt x="55" y="182"/>
                    </a:lnTo>
                    <a:lnTo>
                      <a:pt x="65" y="166"/>
                    </a:lnTo>
                    <a:lnTo>
                      <a:pt x="76" y="152"/>
                    </a:lnTo>
                    <a:lnTo>
                      <a:pt x="86" y="138"/>
                    </a:lnTo>
                    <a:lnTo>
                      <a:pt x="98" y="124"/>
                    </a:lnTo>
                    <a:lnTo>
                      <a:pt x="112" y="111"/>
                    </a:lnTo>
                    <a:lnTo>
                      <a:pt x="125" y="98"/>
                    </a:lnTo>
                    <a:lnTo>
                      <a:pt x="138" y="86"/>
                    </a:lnTo>
                    <a:lnTo>
                      <a:pt x="152" y="75"/>
                    </a:lnTo>
                    <a:lnTo>
                      <a:pt x="167" y="64"/>
                    </a:lnTo>
                    <a:lnTo>
                      <a:pt x="182" y="55"/>
                    </a:lnTo>
                    <a:lnTo>
                      <a:pt x="198" y="45"/>
                    </a:lnTo>
                    <a:lnTo>
                      <a:pt x="215" y="37"/>
                    </a:lnTo>
                    <a:lnTo>
                      <a:pt x="232" y="30"/>
                    </a:lnTo>
                    <a:lnTo>
                      <a:pt x="248" y="22"/>
                    </a:lnTo>
                    <a:lnTo>
                      <a:pt x="266" y="18"/>
                    </a:lnTo>
                    <a:lnTo>
                      <a:pt x="284" y="12"/>
                    </a:lnTo>
                    <a:lnTo>
                      <a:pt x="302" y="8"/>
                    </a:lnTo>
                    <a:lnTo>
                      <a:pt x="320" y="4"/>
                    </a:lnTo>
                    <a:lnTo>
                      <a:pt x="340" y="2"/>
                    </a:lnTo>
                    <a:lnTo>
                      <a:pt x="359" y="1"/>
                    </a:lnTo>
                    <a:lnTo>
                      <a:pt x="378" y="0"/>
                    </a:lnTo>
                    <a:close/>
                  </a:path>
                </a:pathLst>
              </a:custGeom>
              <a:solidFill>
                <a:srgbClr val="e39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209920" y="4929120"/>
                <a:ext cx="297000" cy="297000"/>
              </a:xfrm>
              <a:custGeom>
                <a:avLst/>
                <a:gdLst/>
                <a:ahLst/>
                <a:rect l="l" t="t" r="r" b="b"/>
                <a:pathLst>
                  <a:path w="749" h="748">
                    <a:moveTo>
                      <a:pt x="374" y="0"/>
                    </a:moveTo>
                    <a:lnTo>
                      <a:pt x="393" y="0"/>
                    </a:lnTo>
                    <a:lnTo>
                      <a:pt x="413" y="1"/>
                    </a:lnTo>
                    <a:lnTo>
                      <a:pt x="431" y="3"/>
                    </a:lnTo>
                    <a:lnTo>
                      <a:pt x="449" y="7"/>
                    </a:lnTo>
                    <a:lnTo>
                      <a:pt x="468" y="11"/>
                    </a:lnTo>
                    <a:lnTo>
                      <a:pt x="485" y="17"/>
                    </a:lnTo>
                    <a:lnTo>
                      <a:pt x="503" y="23"/>
                    </a:lnTo>
                    <a:lnTo>
                      <a:pt x="519" y="29"/>
                    </a:lnTo>
                    <a:lnTo>
                      <a:pt x="536" y="36"/>
                    </a:lnTo>
                    <a:lnTo>
                      <a:pt x="552" y="44"/>
                    </a:lnTo>
                    <a:lnTo>
                      <a:pt x="567" y="54"/>
                    </a:lnTo>
                    <a:lnTo>
                      <a:pt x="583" y="63"/>
                    </a:lnTo>
                    <a:lnTo>
                      <a:pt x="597" y="74"/>
                    </a:lnTo>
                    <a:lnTo>
                      <a:pt x="612" y="85"/>
                    </a:lnTo>
                    <a:lnTo>
                      <a:pt x="625" y="97"/>
                    </a:lnTo>
                    <a:lnTo>
                      <a:pt x="638" y="109"/>
                    </a:lnTo>
                    <a:lnTo>
                      <a:pt x="651" y="122"/>
                    </a:lnTo>
                    <a:lnTo>
                      <a:pt x="662" y="135"/>
                    </a:lnTo>
                    <a:lnTo>
                      <a:pt x="674" y="150"/>
                    </a:lnTo>
                    <a:lnTo>
                      <a:pt x="684" y="164"/>
                    </a:lnTo>
                    <a:lnTo>
                      <a:pt x="693" y="180"/>
                    </a:lnTo>
                    <a:lnTo>
                      <a:pt x="703" y="195"/>
                    </a:lnTo>
                    <a:lnTo>
                      <a:pt x="711" y="212"/>
                    </a:lnTo>
                    <a:lnTo>
                      <a:pt x="719" y="228"/>
                    </a:lnTo>
                    <a:lnTo>
                      <a:pt x="726" y="244"/>
                    </a:lnTo>
                    <a:lnTo>
                      <a:pt x="732" y="262"/>
                    </a:lnTo>
                    <a:lnTo>
                      <a:pt x="737" y="280"/>
                    </a:lnTo>
                    <a:lnTo>
                      <a:pt x="740" y="298"/>
                    </a:lnTo>
                    <a:lnTo>
                      <a:pt x="744" y="316"/>
                    </a:lnTo>
                    <a:lnTo>
                      <a:pt x="746" y="336"/>
                    </a:lnTo>
                    <a:lnTo>
                      <a:pt x="747" y="355"/>
                    </a:lnTo>
                    <a:lnTo>
                      <a:pt x="749" y="374"/>
                    </a:lnTo>
                    <a:lnTo>
                      <a:pt x="747" y="393"/>
                    </a:lnTo>
                    <a:lnTo>
                      <a:pt x="746" y="411"/>
                    </a:lnTo>
                    <a:lnTo>
                      <a:pt x="744" y="430"/>
                    </a:lnTo>
                    <a:lnTo>
                      <a:pt x="740" y="448"/>
                    </a:lnTo>
                    <a:lnTo>
                      <a:pt x="737" y="466"/>
                    </a:lnTo>
                    <a:lnTo>
                      <a:pt x="732" y="484"/>
                    </a:lnTo>
                    <a:lnTo>
                      <a:pt x="726" y="502"/>
                    </a:lnTo>
                    <a:lnTo>
                      <a:pt x="719" y="519"/>
                    </a:lnTo>
                    <a:lnTo>
                      <a:pt x="711" y="536"/>
                    </a:lnTo>
                    <a:lnTo>
                      <a:pt x="703" y="552"/>
                    </a:lnTo>
                    <a:lnTo>
                      <a:pt x="693" y="567"/>
                    </a:lnTo>
                    <a:lnTo>
                      <a:pt x="684" y="583"/>
                    </a:lnTo>
                    <a:lnTo>
                      <a:pt x="674" y="597"/>
                    </a:lnTo>
                    <a:lnTo>
                      <a:pt x="662" y="612"/>
                    </a:lnTo>
                    <a:lnTo>
                      <a:pt x="651" y="625"/>
                    </a:lnTo>
                    <a:lnTo>
                      <a:pt x="638" y="638"/>
                    </a:lnTo>
                    <a:lnTo>
                      <a:pt x="625" y="650"/>
                    </a:lnTo>
                    <a:lnTo>
                      <a:pt x="612" y="662"/>
                    </a:lnTo>
                    <a:lnTo>
                      <a:pt x="597" y="674"/>
                    </a:lnTo>
                    <a:lnTo>
                      <a:pt x="583" y="684"/>
                    </a:lnTo>
                    <a:lnTo>
                      <a:pt x="567" y="693"/>
                    </a:lnTo>
                    <a:lnTo>
                      <a:pt x="552" y="703"/>
                    </a:lnTo>
                    <a:lnTo>
                      <a:pt x="536" y="711"/>
                    </a:lnTo>
                    <a:lnTo>
                      <a:pt x="519" y="718"/>
                    </a:lnTo>
                    <a:lnTo>
                      <a:pt x="503" y="726"/>
                    </a:lnTo>
                    <a:lnTo>
                      <a:pt x="485" y="732"/>
                    </a:lnTo>
                    <a:lnTo>
                      <a:pt x="468" y="736"/>
                    </a:lnTo>
                    <a:lnTo>
                      <a:pt x="449" y="740"/>
                    </a:lnTo>
                    <a:lnTo>
                      <a:pt x="431" y="744"/>
                    </a:lnTo>
                    <a:lnTo>
                      <a:pt x="413" y="746"/>
                    </a:lnTo>
                    <a:lnTo>
                      <a:pt x="393" y="747"/>
                    </a:lnTo>
                    <a:lnTo>
                      <a:pt x="374" y="748"/>
                    </a:lnTo>
                    <a:lnTo>
                      <a:pt x="355" y="747"/>
                    </a:lnTo>
                    <a:lnTo>
                      <a:pt x="336" y="746"/>
                    </a:lnTo>
                    <a:lnTo>
                      <a:pt x="317" y="744"/>
                    </a:lnTo>
                    <a:lnTo>
                      <a:pt x="299" y="740"/>
                    </a:lnTo>
                    <a:lnTo>
                      <a:pt x="281" y="736"/>
                    </a:lnTo>
                    <a:lnTo>
                      <a:pt x="263" y="732"/>
                    </a:lnTo>
                    <a:lnTo>
                      <a:pt x="246" y="726"/>
                    </a:lnTo>
                    <a:lnTo>
                      <a:pt x="228" y="718"/>
                    </a:lnTo>
                    <a:lnTo>
                      <a:pt x="212" y="711"/>
                    </a:lnTo>
                    <a:lnTo>
                      <a:pt x="195" y="703"/>
                    </a:lnTo>
                    <a:lnTo>
                      <a:pt x="180" y="693"/>
                    </a:lnTo>
                    <a:lnTo>
                      <a:pt x="164" y="684"/>
                    </a:lnTo>
                    <a:lnTo>
                      <a:pt x="150" y="674"/>
                    </a:lnTo>
                    <a:lnTo>
                      <a:pt x="135" y="662"/>
                    </a:lnTo>
                    <a:lnTo>
                      <a:pt x="122" y="650"/>
                    </a:lnTo>
                    <a:lnTo>
                      <a:pt x="109" y="638"/>
                    </a:lnTo>
                    <a:lnTo>
                      <a:pt x="97" y="625"/>
                    </a:lnTo>
                    <a:lnTo>
                      <a:pt x="85" y="612"/>
                    </a:lnTo>
                    <a:lnTo>
                      <a:pt x="74" y="597"/>
                    </a:lnTo>
                    <a:lnTo>
                      <a:pt x="63" y="583"/>
                    </a:lnTo>
                    <a:lnTo>
                      <a:pt x="54" y="567"/>
                    </a:lnTo>
                    <a:lnTo>
                      <a:pt x="44" y="552"/>
                    </a:lnTo>
                    <a:lnTo>
                      <a:pt x="37" y="536"/>
                    </a:lnTo>
                    <a:lnTo>
                      <a:pt x="29" y="519"/>
                    </a:lnTo>
                    <a:lnTo>
                      <a:pt x="23" y="502"/>
                    </a:lnTo>
                    <a:lnTo>
                      <a:pt x="17" y="484"/>
                    </a:lnTo>
                    <a:lnTo>
                      <a:pt x="12" y="466"/>
                    </a:lnTo>
                    <a:lnTo>
                      <a:pt x="7" y="448"/>
                    </a:lnTo>
                    <a:lnTo>
                      <a:pt x="3" y="430"/>
                    </a:lnTo>
                    <a:lnTo>
                      <a:pt x="1" y="411"/>
                    </a:lnTo>
                    <a:lnTo>
                      <a:pt x="0" y="393"/>
                    </a:lnTo>
                    <a:lnTo>
                      <a:pt x="0" y="374"/>
                    </a:lnTo>
                    <a:lnTo>
                      <a:pt x="0" y="355"/>
                    </a:lnTo>
                    <a:lnTo>
                      <a:pt x="1" y="336"/>
                    </a:lnTo>
                    <a:lnTo>
                      <a:pt x="3" y="316"/>
                    </a:lnTo>
                    <a:lnTo>
                      <a:pt x="7" y="298"/>
                    </a:lnTo>
                    <a:lnTo>
                      <a:pt x="12" y="280"/>
                    </a:lnTo>
                    <a:lnTo>
                      <a:pt x="17" y="262"/>
                    </a:lnTo>
                    <a:lnTo>
                      <a:pt x="23" y="244"/>
                    </a:lnTo>
                    <a:lnTo>
                      <a:pt x="29" y="228"/>
                    </a:lnTo>
                    <a:lnTo>
                      <a:pt x="37" y="212"/>
                    </a:lnTo>
                    <a:lnTo>
                      <a:pt x="44" y="195"/>
                    </a:lnTo>
                    <a:lnTo>
                      <a:pt x="54" y="180"/>
                    </a:lnTo>
                    <a:lnTo>
                      <a:pt x="63" y="164"/>
                    </a:lnTo>
                    <a:lnTo>
                      <a:pt x="74" y="150"/>
                    </a:lnTo>
                    <a:lnTo>
                      <a:pt x="85" y="135"/>
                    </a:lnTo>
                    <a:lnTo>
                      <a:pt x="97" y="122"/>
                    </a:lnTo>
                    <a:lnTo>
                      <a:pt x="109" y="109"/>
                    </a:lnTo>
                    <a:lnTo>
                      <a:pt x="122" y="97"/>
                    </a:lnTo>
                    <a:lnTo>
                      <a:pt x="135" y="85"/>
                    </a:lnTo>
                    <a:lnTo>
                      <a:pt x="150" y="74"/>
                    </a:lnTo>
                    <a:lnTo>
                      <a:pt x="164" y="63"/>
                    </a:lnTo>
                    <a:lnTo>
                      <a:pt x="180" y="54"/>
                    </a:lnTo>
                    <a:lnTo>
                      <a:pt x="195" y="44"/>
                    </a:lnTo>
                    <a:lnTo>
                      <a:pt x="212" y="36"/>
                    </a:lnTo>
                    <a:lnTo>
                      <a:pt x="228" y="29"/>
                    </a:lnTo>
                    <a:lnTo>
                      <a:pt x="246" y="23"/>
                    </a:lnTo>
                    <a:lnTo>
                      <a:pt x="263" y="17"/>
                    </a:lnTo>
                    <a:lnTo>
                      <a:pt x="281" y="11"/>
                    </a:lnTo>
                    <a:lnTo>
                      <a:pt x="299" y="7"/>
                    </a:lnTo>
                    <a:lnTo>
                      <a:pt x="317" y="3"/>
                    </a:lnTo>
                    <a:lnTo>
                      <a:pt x="336" y="1"/>
                    </a:lnTo>
                    <a:lnTo>
                      <a:pt x="355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e79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11720" y="4932360"/>
                <a:ext cx="295200" cy="293760"/>
              </a:xfrm>
              <a:custGeom>
                <a:avLst/>
                <a:gdLst/>
                <a:ahLst/>
                <a:rect l="l" t="t" r="r" b="b"/>
                <a:pathLst>
                  <a:path w="742" h="741">
                    <a:moveTo>
                      <a:pt x="371" y="0"/>
                    </a:moveTo>
                    <a:lnTo>
                      <a:pt x="390" y="0"/>
                    </a:lnTo>
                    <a:lnTo>
                      <a:pt x="410" y="1"/>
                    </a:lnTo>
                    <a:lnTo>
                      <a:pt x="428" y="3"/>
                    </a:lnTo>
                    <a:lnTo>
                      <a:pt x="446" y="7"/>
                    </a:lnTo>
                    <a:lnTo>
                      <a:pt x="464" y="12"/>
                    </a:lnTo>
                    <a:lnTo>
                      <a:pt x="482" y="17"/>
                    </a:lnTo>
                    <a:lnTo>
                      <a:pt x="498" y="23"/>
                    </a:lnTo>
                    <a:lnTo>
                      <a:pt x="515" y="29"/>
                    </a:lnTo>
                    <a:lnTo>
                      <a:pt x="532" y="36"/>
                    </a:lnTo>
                    <a:lnTo>
                      <a:pt x="548" y="44"/>
                    </a:lnTo>
                    <a:lnTo>
                      <a:pt x="563" y="54"/>
                    </a:lnTo>
                    <a:lnTo>
                      <a:pt x="579" y="63"/>
                    </a:lnTo>
                    <a:lnTo>
                      <a:pt x="593" y="73"/>
                    </a:lnTo>
                    <a:lnTo>
                      <a:pt x="606" y="84"/>
                    </a:lnTo>
                    <a:lnTo>
                      <a:pt x="621" y="96"/>
                    </a:lnTo>
                    <a:lnTo>
                      <a:pt x="633" y="108"/>
                    </a:lnTo>
                    <a:lnTo>
                      <a:pt x="646" y="121"/>
                    </a:lnTo>
                    <a:lnTo>
                      <a:pt x="657" y="134"/>
                    </a:lnTo>
                    <a:lnTo>
                      <a:pt x="669" y="149"/>
                    </a:lnTo>
                    <a:lnTo>
                      <a:pt x="678" y="163"/>
                    </a:lnTo>
                    <a:lnTo>
                      <a:pt x="688" y="179"/>
                    </a:lnTo>
                    <a:lnTo>
                      <a:pt x="698" y="194"/>
                    </a:lnTo>
                    <a:lnTo>
                      <a:pt x="706" y="210"/>
                    </a:lnTo>
                    <a:lnTo>
                      <a:pt x="713" y="226"/>
                    </a:lnTo>
                    <a:lnTo>
                      <a:pt x="719" y="243"/>
                    </a:lnTo>
                    <a:lnTo>
                      <a:pt x="725" y="260"/>
                    </a:lnTo>
                    <a:lnTo>
                      <a:pt x="730" y="278"/>
                    </a:lnTo>
                    <a:lnTo>
                      <a:pt x="735" y="296"/>
                    </a:lnTo>
                    <a:lnTo>
                      <a:pt x="738" y="314"/>
                    </a:lnTo>
                    <a:lnTo>
                      <a:pt x="741" y="332"/>
                    </a:lnTo>
                    <a:lnTo>
                      <a:pt x="742" y="351"/>
                    </a:lnTo>
                    <a:lnTo>
                      <a:pt x="742" y="370"/>
                    </a:lnTo>
                    <a:lnTo>
                      <a:pt x="742" y="390"/>
                    </a:lnTo>
                    <a:lnTo>
                      <a:pt x="741" y="408"/>
                    </a:lnTo>
                    <a:lnTo>
                      <a:pt x="738" y="427"/>
                    </a:lnTo>
                    <a:lnTo>
                      <a:pt x="735" y="445"/>
                    </a:lnTo>
                    <a:lnTo>
                      <a:pt x="730" y="463"/>
                    </a:lnTo>
                    <a:lnTo>
                      <a:pt x="725" y="480"/>
                    </a:lnTo>
                    <a:lnTo>
                      <a:pt x="719" y="498"/>
                    </a:lnTo>
                    <a:lnTo>
                      <a:pt x="713" y="514"/>
                    </a:lnTo>
                    <a:lnTo>
                      <a:pt x="706" y="531"/>
                    </a:lnTo>
                    <a:lnTo>
                      <a:pt x="698" y="547"/>
                    </a:lnTo>
                    <a:lnTo>
                      <a:pt x="688" y="562"/>
                    </a:lnTo>
                    <a:lnTo>
                      <a:pt x="678" y="577"/>
                    </a:lnTo>
                    <a:lnTo>
                      <a:pt x="669" y="591"/>
                    </a:lnTo>
                    <a:lnTo>
                      <a:pt x="657" y="606"/>
                    </a:lnTo>
                    <a:lnTo>
                      <a:pt x="646" y="619"/>
                    </a:lnTo>
                    <a:lnTo>
                      <a:pt x="633" y="632"/>
                    </a:lnTo>
                    <a:lnTo>
                      <a:pt x="621" y="644"/>
                    </a:lnTo>
                    <a:lnTo>
                      <a:pt x="606" y="656"/>
                    </a:lnTo>
                    <a:lnTo>
                      <a:pt x="593" y="667"/>
                    </a:lnTo>
                    <a:lnTo>
                      <a:pt x="579" y="678"/>
                    </a:lnTo>
                    <a:lnTo>
                      <a:pt x="563" y="687"/>
                    </a:lnTo>
                    <a:lnTo>
                      <a:pt x="548" y="696"/>
                    </a:lnTo>
                    <a:lnTo>
                      <a:pt x="532" y="704"/>
                    </a:lnTo>
                    <a:lnTo>
                      <a:pt x="515" y="711"/>
                    </a:lnTo>
                    <a:lnTo>
                      <a:pt x="498" y="718"/>
                    </a:lnTo>
                    <a:lnTo>
                      <a:pt x="482" y="724"/>
                    </a:lnTo>
                    <a:lnTo>
                      <a:pt x="464" y="729"/>
                    </a:lnTo>
                    <a:lnTo>
                      <a:pt x="446" y="733"/>
                    </a:lnTo>
                    <a:lnTo>
                      <a:pt x="428" y="736"/>
                    </a:lnTo>
                    <a:lnTo>
                      <a:pt x="410" y="739"/>
                    </a:lnTo>
                    <a:lnTo>
                      <a:pt x="390" y="740"/>
                    </a:lnTo>
                    <a:lnTo>
                      <a:pt x="371" y="741"/>
                    </a:lnTo>
                    <a:lnTo>
                      <a:pt x="352" y="740"/>
                    </a:lnTo>
                    <a:lnTo>
                      <a:pt x="334" y="739"/>
                    </a:lnTo>
                    <a:lnTo>
                      <a:pt x="315" y="736"/>
                    </a:lnTo>
                    <a:lnTo>
                      <a:pt x="297" y="733"/>
                    </a:lnTo>
                    <a:lnTo>
                      <a:pt x="279" y="729"/>
                    </a:lnTo>
                    <a:lnTo>
                      <a:pt x="261" y="724"/>
                    </a:lnTo>
                    <a:lnTo>
                      <a:pt x="244" y="718"/>
                    </a:lnTo>
                    <a:lnTo>
                      <a:pt x="227" y="711"/>
                    </a:lnTo>
                    <a:lnTo>
                      <a:pt x="210" y="704"/>
                    </a:lnTo>
                    <a:lnTo>
                      <a:pt x="195" y="696"/>
                    </a:lnTo>
                    <a:lnTo>
                      <a:pt x="179" y="687"/>
                    </a:lnTo>
                    <a:lnTo>
                      <a:pt x="165" y="678"/>
                    </a:lnTo>
                    <a:lnTo>
                      <a:pt x="149" y="667"/>
                    </a:lnTo>
                    <a:lnTo>
                      <a:pt x="136" y="656"/>
                    </a:lnTo>
                    <a:lnTo>
                      <a:pt x="123" y="644"/>
                    </a:lnTo>
                    <a:lnTo>
                      <a:pt x="110" y="632"/>
                    </a:lnTo>
                    <a:lnTo>
                      <a:pt x="98" y="619"/>
                    </a:lnTo>
                    <a:lnTo>
                      <a:pt x="86" y="606"/>
                    </a:lnTo>
                    <a:lnTo>
                      <a:pt x="75" y="591"/>
                    </a:lnTo>
                    <a:lnTo>
                      <a:pt x="64" y="577"/>
                    </a:lnTo>
                    <a:lnTo>
                      <a:pt x="54" y="562"/>
                    </a:lnTo>
                    <a:lnTo>
                      <a:pt x="46" y="547"/>
                    </a:lnTo>
                    <a:lnTo>
                      <a:pt x="38" y="531"/>
                    </a:lnTo>
                    <a:lnTo>
                      <a:pt x="30" y="514"/>
                    </a:lnTo>
                    <a:lnTo>
                      <a:pt x="23" y="498"/>
                    </a:lnTo>
                    <a:lnTo>
                      <a:pt x="17" y="480"/>
                    </a:lnTo>
                    <a:lnTo>
                      <a:pt x="12" y="463"/>
                    </a:lnTo>
                    <a:lnTo>
                      <a:pt x="8" y="445"/>
                    </a:lnTo>
                    <a:lnTo>
                      <a:pt x="5" y="427"/>
                    </a:lnTo>
                    <a:lnTo>
                      <a:pt x="3" y="408"/>
                    </a:lnTo>
                    <a:lnTo>
                      <a:pt x="2" y="390"/>
                    </a:lnTo>
                    <a:lnTo>
                      <a:pt x="0" y="370"/>
                    </a:lnTo>
                    <a:lnTo>
                      <a:pt x="2" y="351"/>
                    </a:lnTo>
                    <a:lnTo>
                      <a:pt x="3" y="332"/>
                    </a:lnTo>
                    <a:lnTo>
                      <a:pt x="5" y="314"/>
                    </a:lnTo>
                    <a:lnTo>
                      <a:pt x="8" y="296"/>
                    </a:lnTo>
                    <a:lnTo>
                      <a:pt x="12" y="278"/>
                    </a:lnTo>
                    <a:lnTo>
                      <a:pt x="17" y="260"/>
                    </a:lnTo>
                    <a:lnTo>
                      <a:pt x="23" y="243"/>
                    </a:lnTo>
                    <a:lnTo>
                      <a:pt x="30" y="226"/>
                    </a:lnTo>
                    <a:lnTo>
                      <a:pt x="38" y="210"/>
                    </a:lnTo>
                    <a:lnTo>
                      <a:pt x="46" y="194"/>
                    </a:lnTo>
                    <a:lnTo>
                      <a:pt x="54" y="179"/>
                    </a:lnTo>
                    <a:lnTo>
                      <a:pt x="64" y="163"/>
                    </a:lnTo>
                    <a:lnTo>
                      <a:pt x="75" y="149"/>
                    </a:lnTo>
                    <a:lnTo>
                      <a:pt x="86" y="134"/>
                    </a:lnTo>
                    <a:lnTo>
                      <a:pt x="98" y="121"/>
                    </a:lnTo>
                    <a:lnTo>
                      <a:pt x="110" y="108"/>
                    </a:lnTo>
                    <a:lnTo>
                      <a:pt x="123" y="96"/>
                    </a:lnTo>
                    <a:lnTo>
                      <a:pt x="136" y="84"/>
                    </a:lnTo>
                    <a:lnTo>
                      <a:pt x="149" y="73"/>
                    </a:lnTo>
                    <a:lnTo>
                      <a:pt x="165" y="63"/>
                    </a:lnTo>
                    <a:lnTo>
                      <a:pt x="179" y="54"/>
                    </a:lnTo>
                    <a:lnTo>
                      <a:pt x="195" y="44"/>
                    </a:lnTo>
                    <a:lnTo>
                      <a:pt x="210" y="36"/>
                    </a:lnTo>
                    <a:lnTo>
                      <a:pt x="227" y="29"/>
                    </a:lnTo>
                    <a:lnTo>
                      <a:pt x="244" y="23"/>
                    </a:lnTo>
                    <a:lnTo>
                      <a:pt x="261" y="17"/>
                    </a:lnTo>
                    <a:lnTo>
                      <a:pt x="279" y="12"/>
                    </a:lnTo>
                    <a:lnTo>
                      <a:pt x="297" y="7"/>
                    </a:lnTo>
                    <a:lnTo>
                      <a:pt x="315" y="3"/>
                    </a:lnTo>
                    <a:lnTo>
                      <a:pt x="334" y="1"/>
                    </a:lnTo>
                    <a:lnTo>
                      <a:pt x="352" y="0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ec9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213160" y="4933800"/>
                <a:ext cx="292320" cy="292320"/>
              </a:xfrm>
              <a:custGeom>
                <a:avLst/>
                <a:gdLst/>
                <a:ahLst/>
                <a:rect l="l" t="t" r="r" b="b"/>
                <a:pathLst>
                  <a:path w="733" h="734">
                    <a:moveTo>
                      <a:pt x="367" y="0"/>
                    </a:moveTo>
                    <a:lnTo>
                      <a:pt x="385" y="0"/>
                    </a:lnTo>
                    <a:lnTo>
                      <a:pt x="405" y="2"/>
                    </a:lnTo>
                    <a:lnTo>
                      <a:pt x="423" y="5"/>
                    </a:lnTo>
                    <a:lnTo>
                      <a:pt x="441" y="7"/>
                    </a:lnTo>
                    <a:lnTo>
                      <a:pt x="459" y="12"/>
                    </a:lnTo>
                    <a:lnTo>
                      <a:pt x="475" y="17"/>
                    </a:lnTo>
                    <a:lnTo>
                      <a:pt x="493" y="23"/>
                    </a:lnTo>
                    <a:lnTo>
                      <a:pt x="509" y="29"/>
                    </a:lnTo>
                    <a:lnTo>
                      <a:pt x="526" y="36"/>
                    </a:lnTo>
                    <a:lnTo>
                      <a:pt x="541" y="44"/>
                    </a:lnTo>
                    <a:lnTo>
                      <a:pt x="557" y="53"/>
                    </a:lnTo>
                    <a:lnTo>
                      <a:pt x="571" y="62"/>
                    </a:lnTo>
                    <a:lnTo>
                      <a:pt x="586" y="73"/>
                    </a:lnTo>
                    <a:lnTo>
                      <a:pt x="600" y="84"/>
                    </a:lnTo>
                    <a:lnTo>
                      <a:pt x="613" y="96"/>
                    </a:lnTo>
                    <a:lnTo>
                      <a:pt x="627" y="108"/>
                    </a:lnTo>
                    <a:lnTo>
                      <a:pt x="639" y="120"/>
                    </a:lnTo>
                    <a:lnTo>
                      <a:pt x="649" y="134"/>
                    </a:lnTo>
                    <a:lnTo>
                      <a:pt x="661" y="147"/>
                    </a:lnTo>
                    <a:lnTo>
                      <a:pt x="671" y="162"/>
                    </a:lnTo>
                    <a:lnTo>
                      <a:pt x="681" y="176"/>
                    </a:lnTo>
                    <a:lnTo>
                      <a:pt x="689" y="192"/>
                    </a:lnTo>
                    <a:lnTo>
                      <a:pt x="697" y="207"/>
                    </a:lnTo>
                    <a:lnTo>
                      <a:pt x="705" y="224"/>
                    </a:lnTo>
                    <a:lnTo>
                      <a:pt x="712" y="241"/>
                    </a:lnTo>
                    <a:lnTo>
                      <a:pt x="718" y="258"/>
                    </a:lnTo>
                    <a:lnTo>
                      <a:pt x="723" y="276"/>
                    </a:lnTo>
                    <a:lnTo>
                      <a:pt x="726" y="292"/>
                    </a:lnTo>
                    <a:lnTo>
                      <a:pt x="730" y="310"/>
                    </a:lnTo>
                    <a:lnTo>
                      <a:pt x="732" y="330"/>
                    </a:lnTo>
                    <a:lnTo>
                      <a:pt x="733" y="348"/>
                    </a:lnTo>
                    <a:lnTo>
                      <a:pt x="733" y="367"/>
                    </a:lnTo>
                    <a:lnTo>
                      <a:pt x="733" y="386"/>
                    </a:lnTo>
                    <a:lnTo>
                      <a:pt x="732" y="404"/>
                    </a:lnTo>
                    <a:lnTo>
                      <a:pt x="730" y="422"/>
                    </a:lnTo>
                    <a:lnTo>
                      <a:pt x="726" y="440"/>
                    </a:lnTo>
                    <a:lnTo>
                      <a:pt x="723" y="458"/>
                    </a:lnTo>
                    <a:lnTo>
                      <a:pt x="718" y="476"/>
                    </a:lnTo>
                    <a:lnTo>
                      <a:pt x="712" y="493"/>
                    </a:lnTo>
                    <a:lnTo>
                      <a:pt x="705" y="510"/>
                    </a:lnTo>
                    <a:lnTo>
                      <a:pt x="697" y="525"/>
                    </a:lnTo>
                    <a:lnTo>
                      <a:pt x="689" y="542"/>
                    </a:lnTo>
                    <a:lnTo>
                      <a:pt x="681" y="556"/>
                    </a:lnTo>
                    <a:lnTo>
                      <a:pt x="671" y="572"/>
                    </a:lnTo>
                    <a:lnTo>
                      <a:pt x="661" y="586"/>
                    </a:lnTo>
                    <a:lnTo>
                      <a:pt x="649" y="600"/>
                    </a:lnTo>
                    <a:lnTo>
                      <a:pt x="639" y="613"/>
                    </a:lnTo>
                    <a:lnTo>
                      <a:pt x="627" y="626"/>
                    </a:lnTo>
                    <a:lnTo>
                      <a:pt x="613" y="638"/>
                    </a:lnTo>
                    <a:lnTo>
                      <a:pt x="600" y="650"/>
                    </a:lnTo>
                    <a:lnTo>
                      <a:pt x="586" y="661"/>
                    </a:lnTo>
                    <a:lnTo>
                      <a:pt x="571" y="670"/>
                    </a:lnTo>
                    <a:lnTo>
                      <a:pt x="557" y="680"/>
                    </a:lnTo>
                    <a:lnTo>
                      <a:pt x="541" y="690"/>
                    </a:lnTo>
                    <a:lnTo>
                      <a:pt x="526" y="698"/>
                    </a:lnTo>
                    <a:lnTo>
                      <a:pt x="509" y="705"/>
                    </a:lnTo>
                    <a:lnTo>
                      <a:pt x="493" y="711"/>
                    </a:lnTo>
                    <a:lnTo>
                      <a:pt x="475" y="717"/>
                    </a:lnTo>
                    <a:lnTo>
                      <a:pt x="459" y="722"/>
                    </a:lnTo>
                    <a:lnTo>
                      <a:pt x="441" y="727"/>
                    </a:lnTo>
                    <a:lnTo>
                      <a:pt x="423" y="729"/>
                    </a:lnTo>
                    <a:lnTo>
                      <a:pt x="405" y="732"/>
                    </a:lnTo>
                    <a:lnTo>
                      <a:pt x="385" y="733"/>
                    </a:lnTo>
                    <a:lnTo>
                      <a:pt x="367" y="734"/>
                    </a:lnTo>
                    <a:lnTo>
                      <a:pt x="348" y="733"/>
                    </a:lnTo>
                    <a:lnTo>
                      <a:pt x="329" y="732"/>
                    </a:lnTo>
                    <a:lnTo>
                      <a:pt x="311" y="729"/>
                    </a:lnTo>
                    <a:lnTo>
                      <a:pt x="293" y="727"/>
                    </a:lnTo>
                    <a:lnTo>
                      <a:pt x="275" y="722"/>
                    </a:lnTo>
                    <a:lnTo>
                      <a:pt x="258" y="717"/>
                    </a:lnTo>
                    <a:lnTo>
                      <a:pt x="241" y="711"/>
                    </a:lnTo>
                    <a:lnTo>
                      <a:pt x="225" y="705"/>
                    </a:lnTo>
                    <a:lnTo>
                      <a:pt x="208" y="698"/>
                    </a:lnTo>
                    <a:lnTo>
                      <a:pt x="192" y="690"/>
                    </a:lnTo>
                    <a:lnTo>
                      <a:pt x="177" y="680"/>
                    </a:lnTo>
                    <a:lnTo>
                      <a:pt x="162" y="670"/>
                    </a:lnTo>
                    <a:lnTo>
                      <a:pt x="148" y="661"/>
                    </a:lnTo>
                    <a:lnTo>
                      <a:pt x="133" y="650"/>
                    </a:lnTo>
                    <a:lnTo>
                      <a:pt x="120" y="638"/>
                    </a:lnTo>
                    <a:lnTo>
                      <a:pt x="107" y="626"/>
                    </a:lnTo>
                    <a:lnTo>
                      <a:pt x="95" y="613"/>
                    </a:lnTo>
                    <a:lnTo>
                      <a:pt x="84" y="600"/>
                    </a:lnTo>
                    <a:lnTo>
                      <a:pt x="73" y="586"/>
                    </a:lnTo>
                    <a:lnTo>
                      <a:pt x="63" y="572"/>
                    </a:lnTo>
                    <a:lnTo>
                      <a:pt x="53" y="556"/>
                    </a:lnTo>
                    <a:lnTo>
                      <a:pt x="45" y="542"/>
                    </a:lnTo>
                    <a:lnTo>
                      <a:pt x="36" y="525"/>
                    </a:lnTo>
                    <a:lnTo>
                      <a:pt x="29" y="510"/>
                    </a:lnTo>
                    <a:lnTo>
                      <a:pt x="22" y="493"/>
                    </a:lnTo>
                    <a:lnTo>
                      <a:pt x="16" y="476"/>
                    </a:lnTo>
                    <a:lnTo>
                      <a:pt x="11" y="458"/>
                    </a:lnTo>
                    <a:lnTo>
                      <a:pt x="7" y="440"/>
                    </a:lnTo>
                    <a:lnTo>
                      <a:pt x="4" y="422"/>
                    </a:lnTo>
                    <a:lnTo>
                      <a:pt x="1" y="404"/>
                    </a:lnTo>
                    <a:lnTo>
                      <a:pt x="0" y="386"/>
                    </a:lnTo>
                    <a:lnTo>
                      <a:pt x="0" y="367"/>
                    </a:lnTo>
                    <a:lnTo>
                      <a:pt x="0" y="348"/>
                    </a:lnTo>
                    <a:lnTo>
                      <a:pt x="1" y="330"/>
                    </a:lnTo>
                    <a:lnTo>
                      <a:pt x="4" y="310"/>
                    </a:lnTo>
                    <a:lnTo>
                      <a:pt x="7" y="292"/>
                    </a:lnTo>
                    <a:lnTo>
                      <a:pt x="11" y="276"/>
                    </a:lnTo>
                    <a:lnTo>
                      <a:pt x="16" y="258"/>
                    </a:lnTo>
                    <a:lnTo>
                      <a:pt x="22" y="241"/>
                    </a:lnTo>
                    <a:lnTo>
                      <a:pt x="29" y="224"/>
                    </a:lnTo>
                    <a:lnTo>
                      <a:pt x="36" y="207"/>
                    </a:lnTo>
                    <a:lnTo>
                      <a:pt x="45" y="192"/>
                    </a:lnTo>
                    <a:lnTo>
                      <a:pt x="53" y="176"/>
                    </a:lnTo>
                    <a:lnTo>
                      <a:pt x="63" y="162"/>
                    </a:lnTo>
                    <a:lnTo>
                      <a:pt x="73" y="147"/>
                    </a:lnTo>
                    <a:lnTo>
                      <a:pt x="84" y="134"/>
                    </a:lnTo>
                    <a:lnTo>
                      <a:pt x="95" y="120"/>
                    </a:lnTo>
                    <a:lnTo>
                      <a:pt x="107" y="108"/>
                    </a:lnTo>
                    <a:lnTo>
                      <a:pt x="120" y="96"/>
                    </a:lnTo>
                    <a:lnTo>
                      <a:pt x="133" y="84"/>
                    </a:lnTo>
                    <a:lnTo>
                      <a:pt x="148" y="73"/>
                    </a:lnTo>
                    <a:lnTo>
                      <a:pt x="162" y="62"/>
                    </a:lnTo>
                    <a:lnTo>
                      <a:pt x="177" y="53"/>
                    </a:lnTo>
                    <a:lnTo>
                      <a:pt x="192" y="44"/>
                    </a:lnTo>
                    <a:lnTo>
                      <a:pt x="208" y="36"/>
                    </a:lnTo>
                    <a:lnTo>
                      <a:pt x="225" y="29"/>
                    </a:lnTo>
                    <a:lnTo>
                      <a:pt x="241" y="23"/>
                    </a:lnTo>
                    <a:lnTo>
                      <a:pt x="258" y="17"/>
                    </a:lnTo>
                    <a:lnTo>
                      <a:pt x="275" y="12"/>
                    </a:lnTo>
                    <a:lnTo>
                      <a:pt x="293" y="7"/>
                    </a:lnTo>
                    <a:lnTo>
                      <a:pt x="311" y="5"/>
                    </a:lnTo>
                    <a:lnTo>
                      <a:pt x="329" y="2"/>
                    </a:lnTo>
                    <a:lnTo>
                      <a:pt x="348" y="0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f2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226120" y="4954680"/>
                <a:ext cx="258480" cy="257040"/>
              </a:xfrm>
              <a:custGeom>
                <a:avLst/>
                <a:gdLst/>
                <a:ahLst/>
                <a:rect l="l" t="t" r="r" b="b"/>
                <a:pathLst>
                  <a:path w="651" h="650">
                    <a:moveTo>
                      <a:pt x="326" y="0"/>
                    </a:moveTo>
                    <a:lnTo>
                      <a:pt x="342" y="0"/>
                    </a:lnTo>
                    <a:lnTo>
                      <a:pt x="358" y="1"/>
                    </a:lnTo>
                    <a:lnTo>
                      <a:pt x="375" y="4"/>
                    </a:lnTo>
                    <a:lnTo>
                      <a:pt x="391" y="6"/>
                    </a:lnTo>
                    <a:lnTo>
                      <a:pt x="406" y="10"/>
                    </a:lnTo>
                    <a:lnTo>
                      <a:pt x="422" y="15"/>
                    </a:lnTo>
                    <a:lnTo>
                      <a:pt x="438" y="19"/>
                    </a:lnTo>
                    <a:lnTo>
                      <a:pt x="452" y="25"/>
                    </a:lnTo>
                    <a:lnTo>
                      <a:pt x="466" y="31"/>
                    </a:lnTo>
                    <a:lnTo>
                      <a:pt x="481" y="39"/>
                    </a:lnTo>
                    <a:lnTo>
                      <a:pt x="494" y="47"/>
                    </a:lnTo>
                    <a:lnTo>
                      <a:pt x="507" y="55"/>
                    </a:lnTo>
                    <a:lnTo>
                      <a:pt x="520" y="65"/>
                    </a:lnTo>
                    <a:lnTo>
                      <a:pt x="532" y="75"/>
                    </a:lnTo>
                    <a:lnTo>
                      <a:pt x="544" y="84"/>
                    </a:lnTo>
                    <a:lnTo>
                      <a:pt x="555" y="95"/>
                    </a:lnTo>
                    <a:lnTo>
                      <a:pt x="566" y="107"/>
                    </a:lnTo>
                    <a:lnTo>
                      <a:pt x="577" y="119"/>
                    </a:lnTo>
                    <a:lnTo>
                      <a:pt x="586" y="131"/>
                    </a:lnTo>
                    <a:lnTo>
                      <a:pt x="595" y="143"/>
                    </a:lnTo>
                    <a:lnTo>
                      <a:pt x="604" y="156"/>
                    </a:lnTo>
                    <a:lnTo>
                      <a:pt x="612" y="170"/>
                    </a:lnTo>
                    <a:lnTo>
                      <a:pt x="619" y="184"/>
                    </a:lnTo>
                    <a:lnTo>
                      <a:pt x="626" y="199"/>
                    </a:lnTo>
                    <a:lnTo>
                      <a:pt x="631" y="214"/>
                    </a:lnTo>
                    <a:lnTo>
                      <a:pt x="637" y="228"/>
                    </a:lnTo>
                    <a:lnTo>
                      <a:pt x="640" y="244"/>
                    </a:lnTo>
                    <a:lnTo>
                      <a:pt x="644" y="259"/>
                    </a:lnTo>
                    <a:lnTo>
                      <a:pt x="648" y="276"/>
                    </a:lnTo>
                    <a:lnTo>
                      <a:pt x="650" y="292"/>
                    </a:lnTo>
                    <a:lnTo>
                      <a:pt x="651" y="308"/>
                    </a:lnTo>
                    <a:lnTo>
                      <a:pt x="651" y="325"/>
                    </a:lnTo>
                    <a:lnTo>
                      <a:pt x="651" y="342"/>
                    </a:lnTo>
                    <a:lnTo>
                      <a:pt x="650" y="359"/>
                    </a:lnTo>
                    <a:lnTo>
                      <a:pt x="648" y="374"/>
                    </a:lnTo>
                    <a:lnTo>
                      <a:pt x="644" y="391"/>
                    </a:lnTo>
                    <a:lnTo>
                      <a:pt x="640" y="407"/>
                    </a:lnTo>
                    <a:lnTo>
                      <a:pt x="637" y="422"/>
                    </a:lnTo>
                    <a:lnTo>
                      <a:pt x="631" y="437"/>
                    </a:lnTo>
                    <a:lnTo>
                      <a:pt x="626" y="451"/>
                    </a:lnTo>
                    <a:lnTo>
                      <a:pt x="619" y="466"/>
                    </a:lnTo>
                    <a:lnTo>
                      <a:pt x="612" y="480"/>
                    </a:lnTo>
                    <a:lnTo>
                      <a:pt x="604" y="494"/>
                    </a:lnTo>
                    <a:lnTo>
                      <a:pt x="595" y="508"/>
                    </a:lnTo>
                    <a:lnTo>
                      <a:pt x="586" y="520"/>
                    </a:lnTo>
                    <a:lnTo>
                      <a:pt x="577" y="532"/>
                    </a:lnTo>
                    <a:lnTo>
                      <a:pt x="566" y="544"/>
                    </a:lnTo>
                    <a:lnTo>
                      <a:pt x="555" y="556"/>
                    </a:lnTo>
                    <a:lnTo>
                      <a:pt x="544" y="566"/>
                    </a:lnTo>
                    <a:lnTo>
                      <a:pt x="532" y="576"/>
                    </a:lnTo>
                    <a:lnTo>
                      <a:pt x="520" y="586"/>
                    </a:lnTo>
                    <a:lnTo>
                      <a:pt x="507" y="595"/>
                    </a:lnTo>
                    <a:lnTo>
                      <a:pt x="494" y="604"/>
                    </a:lnTo>
                    <a:lnTo>
                      <a:pt x="481" y="612"/>
                    </a:lnTo>
                    <a:lnTo>
                      <a:pt x="466" y="619"/>
                    </a:lnTo>
                    <a:lnTo>
                      <a:pt x="452" y="625"/>
                    </a:lnTo>
                    <a:lnTo>
                      <a:pt x="438" y="631"/>
                    </a:lnTo>
                    <a:lnTo>
                      <a:pt x="422" y="636"/>
                    </a:lnTo>
                    <a:lnTo>
                      <a:pt x="406" y="641"/>
                    </a:lnTo>
                    <a:lnTo>
                      <a:pt x="391" y="644"/>
                    </a:lnTo>
                    <a:lnTo>
                      <a:pt x="375" y="647"/>
                    </a:lnTo>
                    <a:lnTo>
                      <a:pt x="358" y="649"/>
                    </a:lnTo>
                    <a:lnTo>
                      <a:pt x="342" y="650"/>
                    </a:lnTo>
                    <a:lnTo>
                      <a:pt x="326" y="650"/>
                    </a:lnTo>
                    <a:lnTo>
                      <a:pt x="309" y="650"/>
                    </a:lnTo>
                    <a:lnTo>
                      <a:pt x="292" y="649"/>
                    </a:lnTo>
                    <a:lnTo>
                      <a:pt x="276" y="647"/>
                    </a:lnTo>
                    <a:lnTo>
                      <a:pt x="260" y="644"/>
                    </a:lnTo>
                    <a:lnTo>
                      <a:pt x="244" y="641"/>
                    </a:lnTo>
                    <a:lnTo>
                      <a:pt x="229" y="636"/>
                    </a:lnTo>
                    <a:lnTo>
                      <a:pt x="213" y="631"/>
                    </a:lnTo>
                    <a:lnTo>
                      <a:pt x="199" y="625"/>
                    </a:lnTo>
                    <a:lnTo>
                      <a:pt x="184" y="619"/>
                    </a:lnTo>
                    <a:lnTo>
                      <a:pt x="170" y="612"/>
                    </a:lnTo>
                    <a:lnTo>
                      <a:pt x="157" y="604"/>
                    </a:lnTo>
                    <a:lnTo>
                      <a:pt x="144" y="595"/>
                    </a:lnTo>
                    <a:lnTo>
                      <a:pt x="130" y="586"/>
                    </a:lnTo>
                    <a:lnTo>
                      <a:pt x="118" y="576"/>
                    </a:lnTo>
                    <a:lnTo>
                      <a:pt x="106" y="566"/>
                    </a:lnTo>
                    <a:lnTo>
                      <a:pt x="96" y="556"/>
                    </a:lnTo>
                    <a:lnTo>
                      <a:pt x="85" y="544"/>
                    </a:lnTo>
                    <a:lnTo>
                      <a:pt x="74" y="532"/>
                    </a:lnTo>
                    <a:lnTo>
                      <a:pt x="64" y="520"/>
                    </a:lnTo>
                    <a:lnTo>
                      <a:pt x="56" y="508"/>
                    </a:lnTo>
                    <a:lnTo>
                      <a:pt x="46" y="494"/>
                    </a:lnTo>
                    <a:lnTo>
                      <a:pt x="39" y="480"/>
                    </a:lnTo>
                    <a:lnTo>
                      <a:pt x="32" y="466"/>
                    </a:lnTo>
                    <a:lnTo>
                      <a:pt x="25" y="451"/>
                    </a:lnTo>
                    <a:lnTo>
                      <a:pt x="20" y="437"/>
                    </a:lnTo>
                    <a:lnTo>
                      <a:pt x="14" y="422"/>
                    </a:lnTo>
                    <a:lnTo>
                      <a:pt x="10" y="407"/>
                    </a:lnTo>
                    <a:lnTo>
                      <a:pt x="7" y="391"/>
                    </a:lnTo>
                    <a:lnTo>
                      <a:pt x="3" y="374"/>
                    </a:lnTo>
                    <a:lnTo>
                      <a:pt x="1" y="359"/>
                    </a:lnTo>
                    <a:lnTo>
                      <a:pt x="0" y="342"/>
                    </a:lnTo>
                    <a:lnTo>
                      <a:pt x="0" y="325"/>
                    </a:lnTo>
                    <a:lnTo>
                      <a:pt x="0" y="308"/>
                    </a:lnTo>
                    <a:lnTo>
                      <a:pt x="1" y="292"/>
                    </a:lnTo>
                    <a:lnTo>
                      <a:pt x="3" y="276"/>
                    </a:lnTo>
                    <a:lnTo>
                      <a:pt x="7" y="259"/>
                    </a:lnTo>
                    <a:lnTo>
                      <a:pt x="10" y="244"/>
                    </a:lnTo>
                    <a:lnTo>
                      <a:pt x="14" y="228"/>
                    </a:lnTo>
                    <a:lnTo>
                      <a:pt x="20" y="214"/>
                    </a:lnTo>
                    <a:lnTo>
                      <a:pt x="25" y="199"/>
                    </a:lnTo>
                    <a:lnTo>
                      <a:pt x="32" y="184"/>
                    </a:lnTo>
                    <a:lnTo>
                      <a:pt x="39" y="170"/>
                    </a:lnTo>
                    <a:lnTo>
                      <a:pt x="46" y="156"/>
                    </a:lnTo>
                    <a:lnTo>
                      <a:pt x="56" y="143"/>
                    </a:lnTo>
                    <a:lnTo>
                      <a:pt x="64" y="131"/>
                    </a:lnTo>
                    <a:lnTo>
                      <a:pt x="74" y="119"/>
                    </a:lnTo>
                    <a:lnTo>
                      <a:pt x="85" y="107"/>
                    </a:lnTo>
                    <a:lnTo>
                      <a:pt x="96" y="95"/>
                    </a:lnTo>
                    <a:lnTo>
                      <a:pt x="106" y="84"/>
                    </a:lnTo>
                    <a:lnTo>
                      <a:pt x="118" y="75"/>
                    </a:lnTo>
                    <a:lnTo>
                      <a:pt x="130" y="65"/>
                    </a:lnTo>
                    <a:lnTo>
                      <a:pt x="144" y="55"/>
                    </a:lnTo>
                    <a:lnTo>
                      <a:pt x="157" y="47"/>
                    </a:lnTo>
                    <a:lnTo>
                      <a:pt x="170" y="39"/>
                    </a:lnTo>
                    <a:lnTo>
                      <a:pt x="184" y="31"/>
                    </a:lnTo>
                    <a:lnTo>
                      <a:pt x="199" y="25"/>
                    </a:lnTo>
                    <a:lnTo>
                      <a:pt x="213" y="19"/>
                    </a:lnTo>
                    <a:lnTo>
                      <a:pt x="229" y="15"/>
                    </a:lnTo>
                    <a:lnTo>
                      <a:pt x="244" y="10"/>
                    </a:lnTo>
                    <a:lnTo>
                      <a:pt x="260" y="6"/>
                    </a:lnTo>
                    <a:lnTo>
                      <a:pt x="276" y="4"/>
                    </a:lnTo>
                    <a:lnTo>
                      <a:pt x="292" y="1"/>
                    </a:lnTo>
                    <a:lnTo>
                      <a:pt x="309" y="0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926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356080" y="4946760"/>
                <a:ext cx="136440" cy="136440"/>
              </a:xfrm>
              <a:custGeom>
                <a:avLst/>
                <a:gdLst/>
                <a:ahLst/>
                <a:rect l="l" t="t" r="r" b="b"/>
                <a:pathLst>
                  <a:path w="342" h="343">
                    <a:moveTo>
                      <a:pt x="342" y="343"/>
                    </a:moveTo>
                    <a:lnTo>
                      <a:pt x="342" y="343"/>
                    </a:lnTo>
                    <a:lnTo>
                      <a:pt x="342" y="325"/>
                    </a:lnTo>
                    <a:lnTo>
                      <a:pt x="341" y="308"/>
                    </a:lnTo>
                    <a:lnTo>
                      <a:pt x="338" y="292"/>
                    </a:lnTo>
                    <a:lnTo>
                      <a:pt x="336" y="275"/>
                    </a:lnTo>
                    <a:lnTo>
                      <a:pt x="331" y="258"/>
                    </a:lnTo>
                    <a:lnTo>
                      <a:pt x="326" y="241"/>
                    </a:lnTo>
                    <a:lnTo>
                      <a:pt x="322" y="226"/>
                    </a:lnTo>
                    <a:lnTo>
                      <a:pt x="316" y="210"/>
                    </a:lnTo>
                    <a:lnTo>
                      <a:pt x="308" y="194"/>
                    </a:lnTo>
                    <a:lnTo>
                      <a:pt x="301" y="180"/>
                    </a:lnTo>
                    <a:lnTo>
                      <a:pt x="293" y="166"/>
                    </a:lnTo>
                    <a:lnTo>
                      <a:pt x="283" y="151"/>
                    </a:lnTo>
                    <a:lnTo>
                      <a:pt x="274" y="138"/>
                    </a:lnTo>
                    <a:lnTo>
                      <a:pt x="264" y="125"/>
                    </a:lnTo>
                    <a:lnTo>
                      <a:pt x="253" y="113"/>
                    </a:lnTo>
                    <a:lnTo>
                      <a:pt x="242" y="101"/>
                    </a:lnTo>
                    <a:lnTo>
                      <a:pt x="230" y="90"/>
                    </a:lnTo>
                    <a:lnTo>
                      <a:pt x="217" y="79"/>
                    </a:lnTo>
                    <a:lnTo>
                      <a:pt x="204" y="69"/>
                    </a:lnTo>
                    <a:lnTo>
                      <a:pt x="191" y="59"/>
                    </a:lnTo>
                    <a:lnTo>
                      <a:pt x="178" y="51"/>
                    </a:lnTo>
                    <a:lnTo>
                      <a:pt x="163" y="42"/>
                    </a:lnTo>
                    <a:lnTo>
                      <a:pt x="148" y="34"/>
                    </a:lnTo>
                    <a:lnTo>
                      <a:pt x="133" y="28"/>
                    </a:lnTo>
                    <a:lnTo>
                      <a:pt x="118" y="21"/>
                    </a:lnTo>
                    <a:lnTo>
                      <a:pt x="101" y="16"/>
                    </a:lnTo>
                    <a:lnTo>
                      <a:pt x="85" y="11"/>
                    </a:lnTo>
                    <a:lnTo>
                      <a:pt x="68" y="7"/>
                    </a:lnTo>
                    <a:lnTo>
                      <a:pt x="52" y="4"/>
                    </a:lnTo>
                    <a:lnTo>
                      <a:pt x="35" y="3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6" y="35"/>
                    </a:lnTo>
                    <a:lnTo>
                      <a:pt x="31" y="36"/>
                    </a:lnTo>
                    <a:lnTo>
                      <a:pt x="47" y="39"/>
                    </a:lnTo>
                    <a:lnTo>
                      <a:pt x="61" y="41"/>
                    </a:lnTo>
                    <a:lnTo>
                      <a:pt x="77" y="45"/>
                    </a:lnTo>
                    <a:lnTo>
                      <a:pt x="91" y="49"/>
                    </a:lnTo>
                    <a:lnTo>
                      <a:pt x="106" y="54"/>
                    </a:lnTo>
                    <a:lnTo>
                      <a:pt x="119" y="59"/>
                    </a:lnTo>
                    <a:lnTo>
                      <a:pt x="133" y="65"/>
                    </a:lnTo>
                    <a:lnTo>
                      <a:pt x="146" y="72"/>
                    </a:lnTo>
                    <a:lnTo>
                      <a:pt x="160" y="79"/>
                    </a:lnTo>
                    <a:lnTo>
                      <a:pt x="172" y="88"/>
                    </a:lnTo>
                    <a:lnTo>
                      <a:pt x="184" y="96"/>
                    </a:lnTo>
                    <a:lnTo>
                      <a:pt x="196" y="106"/>
                    </a:lnTo>
                    <a:lnTo>
                      <a:pt x="206" y="115"/>
                    </a:lnTo>
                    <a:lnTo>
                      <a:pt x="217" y="125"/>
                    </a:lnTo>
                    <a:lnTo>
                      <a:pt x="228" y="136"/>
                    </a:lnTo>
                    <a:lnTo>
                      <a:pt x="238" y="148"/>
                    </a:lnTo>
                    <a:lnTo>
                      <a:pt x="246" y="159"/>
                    </a:lnTo>
                    <a:lnTo>
                      <a:pt x="254" y="171"/>
                    </a:lnTo>
                    <a:lnTo>
                      <a:pt x="263" y="184"/>
                    </a:lnTo>
                    <a:lnTo>
                      <a:pt x="270" y="197"/>
                    </a:lnTo>
                    <a:lnTo>
                      <a:pt x="277" y="210"/>
                    </a:lnTo>
                    <a:lnTo>
                      <a:pt x="283" y="223"/>
                    </a:lnTo>
                    <a:lnTo>
                      <a:pt x="289" y="238"/>
                    </a:lnTo>
                    <a:lnTo>
                      <a:pt x="294" y="252"/>
                    </a:lnTo>
                    <a:lnTo>
                      <a:pt x="298" y="266"/>
                    </a:lnTo>
                    <a:lnTo>
                      <a:pt x="301" y="281"/>
                    </a:lnTo>
                    <a:lnTo>
                      <a:pt x="304" y="296"/>
                    </a:lnTo>
                    <a:lnTo>
                      <a:pt x="306" y="312"/>
                    </a:lnTo>
                    <a:lnTo>
                      <a:pt x="307" y="328"/>
                    </a:lnTo>
                    <a:lnTo>
                      <a:pt x="307" y="343"/>
                    </a:lnTo>
                    <a:lnTo>
                      <a:pt x="307" y="343"/>
                    </a:lnTo>
                    <a:lnTo>
                      <a:pt x="342" y="34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356080" y="5083200"/>
                <a:ext cx="136440" cy="136440"/>
              </a:xfrm>
              <a:custGeom>
                <a:avLst/>
                <a:gdLst/>
                <a:ahLst/>
                <a:rect l="l" t="t" r="r" b="b"/>
                <a:pathLst>
                  <a:path w="342" h="343">
                    <a:moveTo>
                      <a:pt x="0" y="343"/>
                    </a:moveTo>
                    <a:lnTo>
                      <a:pt x="0" y="343"/>
                    </a:lnTo>
                    <a:lnTo>
                      <a:pt x="17" y="342"/>
                    </a:lnTo>
                    <a:lnTo>
                      <a:pt x="35" y="341"/>
                    </a:lnTo>
                    <a:lnTo>
                      <a:pt x="52" y="340"/>
                    </a:lnTo>
                    <a:lnTo>
                      <a:pt x="68" y="336"/>
                    </a:lnTo>
                    <a:lnTo>
                      <a:pt x="85" y="333"/>
                    </a:lnTo>
                    <a:lnTo>
                      <a:pt x="101" y="328"/>
                    </a:lnTo>
                    <a:lnTo>
                      <a:pt x="118" y="322"/>
                    </a:lnTo>
                    <a:lnTo>
                      <a:pt x="133" y="316"/>
                    </a:lnTo>
                    <a:lnTo>
                      <a:pt x="148" y="310"/>
                    </a:lnTo>
                    <a:lnTo>
                      <a:pt x="163" y="301"/>
                    </a:lnTo>
                    <a:lnTo>
                      <a:pt x="178" y="293"/>
                    </a:lnTo>
                    <a:lnTo>
                      <a:pt x="191" y="285"/>
                    </a:lnTo>
                    <a:lnTo>
                      <a:pt x="204" y="275"/>
                    </a:lnTo>
                    <a:lnTo>
                      <a:pt x="217" y="264"/>
                    </a:lnTo>
                    <a:lnTo>
                      <a:pt x="230" y="253"/>
                    </a:lnTo>
                    <a:lnTo>
                      <a:pt x="242" y="243"/>
                    </a:lnTo>
                    <a:lnTo>
                      <a:pt x="253" y="231"/>
                    </a:lnTo>
                    <a:lnTo>
                      <a:pt x="264" y="219"/>
                    </a:lnTo>
                    <a:lnTo>
                      <a:pt x="274" y="205"/>
                    </a:lnTo>
                    <a:lnTo>
                      <a:pt x="283" y="192"/>
                    </a:lnTo>
                    <a:lnTo>
                      <a:pt x="293" y="178"/>
                    </a:lnTo>
                    <a:lnTo>
                      <a:pt x="301" y="163"/>
                    </a:lnTo>
                    <a:lnTo>
                      <a:pt x="308" y="149"/>
                    </a:lnTo>
                    <a:lnTo>
                      <a:pt x="316" y="133"/>
                    </a:lnTo>
                    <a:lnTo>
                      <a:pt x="322" y="118"/>
                    </a:lnTo>
                    <a:lnTo>
                      <a:pt x="326" y="102"/>
                    </a:lnTo>
                    <a:lnTo>
                      <a:pt x="331" y="85"/>
                    </a:lnTo>
                    <a:lnTo>
                      <a:pt x="336" y="69"/>
                    </a:lnTo>
                    <a:lnTo>
                      <a:pt x="338" y="52"/>
                    </a:lnTo>
                    <a:lnTo>
                      <a:pt x="341" y="35"/>
                    </a:lnTo>
                    <a:lnTo>
                      <a:pt x="342" y="18"/>
                    </a:lnTo>
                    <a:lnTo>
                      <a:pt x="342" y="0"/>
                    </a:lnTo>
                    <a:lnTo>
                      <a:pt x="307" y="0"/>
                    </a:lnTo>
                    <a:lnTo>
                      <a:pt x="307" y="16"/>
                    </a:lnTo>
                    <a:lnTo>
                      <a:pt x="306" y="31"/>
                    </a:lnTo>
                    <a:lnTo>
                      <a:pt x="304" y="47"/>
                    </a:lnTo>
                    <a:lnTo>
                      <a:pt x="301" y="63"/>
                    </a:lnTo>
                    <a:lnTo>
                      <a:pt x="298" y="77"/>
                    </a:lnTo>
                    <a:lnTo>
                      <a:pt x="294" y="91"/>
                    </a:lnTo>
                    <a:lnTo>
                      <a:pt x="289" y="106"/>
                    </a:lnTo>
                    <a:lnTo>
                      <a:pt x="283" y="120"/>
                    </a:lnTo>
                    <a:lnTo>
                      <a:pt x="277" y="133"/>
                    </a:lnTo>
                    <a:lnTo>
                      <a:pt x="270" y="147"/>
                    </a:lnTo>
                    <a:lnTo>
                      <a:pt x="263" y="160"/>
                    </a:lnTo>
                    <a:lnTo>
                      <a:pt x="254" y="172"/>
                    </a:lnTo>
                    <a:lnTo>
                      <a:pt x="246" y="185"/>
                    </a:lnTo>
                    <a:lnTo>
                      <a:pt x="238" y="196"/>
                    </a:lnTo>
                    <a:lnTo>
                      <a:pt x="228" y="208"/>
                    </a:lnTo>
                    <a:lnTo>
                      <a:pt x="217" y="219"/>
                    </a:lnTo>
                    <a:lnTo>
                      <a:pt x="206" y="228"/>
                    </a:lnTo>
                    <a:lnTo>
                      <a:pt x="196" y="238"/>
                    </a:lnTo>
                    <a:lnTo>
                      <a:pt x="184" y="247"/>
                    </a:lnTo>
                    <a:lnTo>
                      <a:pt x="172" y="256"/>
                    </a:lnTo>
                    <a:lnTo>
                      <a:pt x="160" y="264"/>
                    </a:lnTo>
                    <a:lnTo>
                      <a:pt x="146" y="271"/>
                    </a:lnTo>
                    <a:lnTo>
                      <a:pt x="133" y="279"/>
                    </a:lnTo>
                    <a:lnTo>
                      <a:pt x="119" y="285"/>
                    </a:lnTo>
                    <a:lnTo>
                      <a:pt x="106" y="289"/>
                    </a:lnTo>
                    <a:lnTo>
                      <a:pt x="91" y="294"/>
                    </a:lnTo>
                    <a:lnTo>
                      <a:pt x="77" y="299"/>
                    </a:lnTo>
                    <a:lnTo>
                      <a:pt x="61" y="303"/>
                    </a:lnTo>
                    <a:lnTo>
                      <a:pt x="47" y="305"/>
                    </a:lnTo>
                    <a:lnTo>
                      <a:pt x="31" y="307"/>
                    </a:lnTo>
                    <a:lnTo>
                      <a:pt x="16" y="309"/>
                    </a:lnTo>
                    <a:lnTo>
                      <a:pt x="0" y="309"/>
                    </a:lnTo>
                    <a:lnTo>
                      <a:pt x="0" y="309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219640" y="5083200"/>
                <a:ext cx="136440" cy="136440"/>
              </a:xfrm>
              <a:custGeom>
                <a:avLst/>
                <a:gdLst/>
                <a:ahLst/>
                <a:rect l="l" t="t" r="r" b="b"/>
                <a:pathLst>
                  <a:path w="343" h="343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" y="35"/>
                    </a:lnTo>
                    <a:lnTo>
                      <a:pt x="3" y="52"/>
                    </a:lnTo>
                    <a:lnTo>
                      <a:pt x="6" y="69"/>
                    </a:lnTo>
                    <a:lnTo>
                      <a:pt x="11" y="85"/>
                    </a:lnTo>
                    <a:lnTo>
                      <a:pt x="14" y="102"/>
                    </a:lnTo>
                    <a:lnTo>
                      <a:pt x="20" y="118"/>
                    </a:lnTo>
                    <a:lnTo>
                      <a:pt x="26" y="133"/>
                    </a:lnTo>
                    <a:lnTo>
                      <a:pt x="33" y="149"/>
                    </a:lnTo>
                    <a:lnTo>
                      <a:pt x="41" y="163"/>
                    </a:lnTo>
                    <a:lnTo>
                      <a:pt x="49" y="178"/>
                    </a:lnTo>
                    <a:lnTo>
                      <a:pt x="59" y="192"/>
                    </a:lnTo>
                    <a:lnTo>
                      <a:pt x="68" y="205"/>
                    </a:lnTo>
                    <a:lnTo>
                      <a:pt x="78" y="219"/>
                    </a:lnTo>
                    <a:lnTo>
                      <a:pt x="89" y="231"/>
                    </a:lnTo>
                    <a:lnTo>
                      <a:pt x="99" y="243"/>
                    </a:lnTo>
                    <a:lnTo>
                      <a:pt x="111" y="253"/>
                    </a:lnTo>
                    <a:lnTo>
                      <a:pt x="125" y="264"/>
                    </a:lnTo>
                    <a:lnTo>
                      <a:pt x="138" y="275"/>
                    </a:lnTo>
                    <a:lnTo>
                      <a:pt x="151" y="285"/>
                    </a:lnTo>
                    <a:lnTo>
                      <a:pt x="164" y="293"/>
                    </a:lnTo>
                    <a:lnTo>
                      <a:pt x="179" y="301"/>
                    </a:lnTo>
                    <a:lnTo>
                      <a:pt x="194" y="310"/>
                    </a:lnTo>
                    <a:lnTo>
                      <a:pt x="209" y="316"/>
                    </a:lnTo>
                    <a:lnTo>
                      <a:pt x="224" y="322"/>
                    </a:lnTo>
                    <a:lnTo>
                      <a:pt x="241" y="328"/>
                    </a:lnTo>
                    <a:lnTo>
                      <a:pt x="257" y="333"/>
                    </a:lnTo>
                    <a:lnTo>
                      <a:pt x="273" y="336"/>
                    </a:lnTo>
                    <a:lnTo>
                      <a:pt x="290" y="340"/>
                    </a:lnTo>
                    <a:lnTo>
                      <a:pt x="307" y="341"/>
                    </a:lnTo>
                    <a:lnTo>
                      <a:pt x="325" y="342"/>
                    </a:lnTo>
                    <a:lnTo>
                      <a:pt x="343" y="343"/>
                    </a:lnTo>
                    <a:lnTo>
                      <a:pt x="343" y="309"/>
                    </a:lnTo>
                    <a:lnTo>
                      <a:pt x="326" y="309"/>
                    </a:lnTo>
                    <a:lnTo>
                      <a:pt x="311" y="307"/>
                    </a:lnTo>
                    <a:lnTo>
                      <a:pt x="295" y="305"/>
                    </a:lnTo>
                    <a:lnTo>
                      <a:pt x="281" y="303"/>
                    </a:lnTo>
                    <a:lnTo>
                      <a:pt x="265" y="299"/>
                    </a:lnTo>
                    <a:lnTo>
                      <a:pt x="251" y="294"/>
                    </a:lnTo>
                    <a:lnTo>
                      <a:pt x="236" y="289"/>
                    </a:lnTo>
                    <a:lnTo>
                      <a:pt x="223" y="285"/>
                    </a:lnTo>
                    <a:lnTo>
                      <a:pt x="209" y="279"/>
                    </a:lnTo>
                    <a:lnTo>
                      <a:pt x="195" y="271"/>
                    </a:lnTo>
                    <a:lnTo>
                      <a:pt x="182" y="264"/>
                    </a:lnTo>
                    <a:lnTo>
                      <a:pt x="170" y="256"/>
                    </a:lnTo>
                    <a:lnTo>
                      <a:pt x="158" y="247"/>
                    </a:lnTo>
                    <a:lnTo>
                      <a:pt x="146" y="238"/>
                    </a:lnTo>
                    <a:lnTo>
                      <a:pt x="135" y="228"/>
                    </a:lnTo>
                    <a:lnTo>
                      <a:pt x="125" y="219"/>
                    </a:lnTo>
                    <a:lnTo>
                      <a:pt x="114" y="208"/>
                    </a:lnTo>
                    <a:lnTo>
                      <a:pt x="104" y="196"/>
                    </a:lnTo>
                    <a:lnTo>
                      <a:pt x="96" y="185"/>
                    </a:lnTo>
                    <a:lnTo>
                      <a:pt x="87" y="172"/>
                    </a:lnTo>
                    <a:lnTo>
                      <a:pt x="79" y="160"/>
                    </a:lnTo>
                    <a:lnTo>
                      <a:pt x="72" y="147"/>
                    </a:lnTo>
                    <a:lnTo>
                      <a:pt x="65" y="133"/>
                    </a:lnTo>
                    <a:lnTo>
                      <a:pt x="59" y="120"/>
                    </a:lnTo>
                    <a:lnTo>
                      <a:pt x="53" y="106"/>
                    </a:lnTo>
                    <a:lnTo>
                      <a:pt x="48" y="91"/>
                    </a:lnTo>
                    <a:lnTo>
                      <a:pt x="44" y="77"/>
                    </a:lnTo>
                    <a:lnTo>
                      <a:pt x="41" y="63"/>
                    </a:lnTo>
                    <a:lnTo>
                      <a:pt x="38" y="47"/>
                    </a:lnTo>
                    <a:lnTo>
                      <a:pt x="36" y="31"/>
                    </a:lnTo>
                    <a:lnTo>
                      <a:pt x="35" y="16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219640" y="4946760"/>
                <a:ext cx="136440" cy="136440"/>
              </a:xfrm>
              <a:custGeom>
                <a:avLst/>
                <a:gdLst/>
                <a:ahLst/>
                <a:rect l="l" t="t" r="r" b="b"/>
                <a:pathLst>
                  <a:path w="343" h="343">
                    <a:moveTo>
                      <a:pt x="343" y="0"/>
                    </a:moveTo>
                    <a:lnTo>
                      <a:pt x="343" y="0"/>
                    </a:lnTo>
                    <a:lnTo>
                      <a:pt x="325" y="0"/>
                    </a:lnTo>
                    <a:lnTo>
                      <a:pt x="307" y="3"/>
                    </a:lnTo>
                    <a:lnTo>
                      <a:pt x="290" y="4"/>
                    </a:lnTo>
                    <a:lnTo>
                      <a:pt x="273" y="7"/>
                    </a:lnTo>
                    <a:lnTo>
                      <a:pt x="257" y="11"/>
                    </a:lnTo>
                    <a:lnTo>
                      <a:pt x="241" y="16"/>
                    </a:lnTo>
                    <a:lnTo>
                      <a:pt x="224" y="21"/>
                    </a:lnTo>
                    <a:lnTo>
                      <a:pt x="209" y="28"/>
                    </a:lnTo>
                    <a:lnTo>
                      <a:pt x="194" y="34"/>
                    </a:lnTo>
                    <a:lnTo>
                      <a:pt x="179" y="42"/>
                    </a:lnTo>
                    <a:lnTo>
                      <a:pt x="164" y="51"/>
                    </a:lnTo>
                    <a:lnTo>
                      <a:pt x="151" y="59"/>
                    </a:lnTo>
                    <a:lnTo>
                      <a:pt x="138" y="69"/>
                    </a:lnTo>
                    <a:lnTo>
                      <a:pt x="125" y="79"/>
                    </a:lnTo>
                    <a:lnTo>
                      <a:pt x="111" y="90"/>
                    </a:lnTo>
                    <a:lnTo>
                      <a:pt x="99" y="101"/>
                    </a:lnTo>
                    <a:lnTo>
                      <a:pt x="89" y="113"/>
                    </a:lnTo>
                    <a:lnTo>
                      <a:pt x="78" y="125"/>
                    </a:lnTo>
                    <a:lnTo>
                      <a:pt x="68" y="138"/>
                    </a:lnTo>
                    <a:lnTo>
                      <a:pt x="59" y="151"/>
                    </a:lnTo>
                    <a:lnTo>
                      <a:pt x="49" y="166"/>
                    </a:lnTo>
                    <a:lnTo>
                      <a:pt x="41" y="180"/>
                    </a:lnTo>
                    <a:lnTo>
                      <a:pt x="33" y="194"/>
                    </a:lnTo>
                    <a:lnTo>
                      <a:pt x="26" y="210"/>
                    </a:lnTo>
                    <a:lnTo>
                      <a:pt x="20" y="226"/>
                    </a:lnTo>
                    <a:lnTo>
                      <a:pt x="14" y="241"/>
                    </a:lnTo>
                    <a:lnTo>
                      <a:pt x="11" y="258"/>
                    </a:lnTo>
                    <a:lnTo>
                      <a:pt x="6" y="275"/>
                    </a:lnTo>
                    <a:lnTo>
                      <a:pt x="3" y="292"/>
                    </a:lnTo>
                    <a:lnTo>
                      <a:pt x="1" y="308"/>
                    </a:lnTo>
                    <a:lnTo>
                      <a:pt x="0" y="325"/>
                    </a:lnTo>
                    <a:lnTo>
                      <a:pt x="0" y="343"/>
                    </a:lnTo>
                    <a:lnTo>
                      <a:pt x="35" y="343"/>
                    </a:lnTo>
                    <a:lnTo>
                      <a:pt x="35" y="328"/>
                    </a:lnTo>
                    <a:lnTo>
                      <a:pt x="36" y="312"/>
                    </a:lnTo>
                    <a:lnTo>
                      <a:pt x="38" y="296"/>
                    </a:lnTo>
                    <a:lnTo>
                      <a:pt x="41" y="281"/>
                    </a:lnTo>
                    <a:lnTo>
                      <a:pt x="44" y="266"/>
                    </a:lnTo>
                    <a:lnTo>
                      <a:pt x="48" y="252"/>
                    </a:lnTo>
                    <a:lnTo>
                      <a:pt x="53" y="238"/>
                    </a:lnTo>
                    <a:lnTo>
                      <a:pt x="59" y="223"/>
                    </a:lnTo>
                    <a:lnTo>
                      <a:pt x="65" y="210"/>
                    </a:lnTo>
                    <a:lnTo>
                      <a:pt x="72" y="197"/>
                    </a:lnTo>
                    <a:lnTo>
                      <a:pt x="79" y="184"/>
                    </a:lnTo>
                    <a:lnTo>
                      <a:pt x="87" y="171"/>
                    </a:lnTo>
                    <a:lnTo>
                      <a:pt x="96" y="159"/>
                    </a:lnTo>
                    <a:lnTo>
                      <a:pt x="104" y="148"/>
                    </a:lnTo>
                    <a:lnTo>
                      <a:pt x="114" y="136"/>
                    </a:lnTo>
                    <a:lnTo>
                      <a:pt x="125" y="125"/>
                    </a:lnTo>
                    <a:lnTo>
                      <a:pt x="135" y="115"/>
                    </a:lnTo>
                    <a:lnTo>
                      <a:pt x="146" y="106"/>
                    </a:lnTo>
                    <a:lnTo>
                      <a:pt x="158" y="96"/>
                    </a:lnTo>
                    <a:lnTo>
                      <a:pt x="170" y="88"/>
                    </a:lnTo>
                    <a:lnTo>
                      <a:pt x="182" y="79"/>
                    </a:lnTo>
                    <a:lnTo>
                      <a:pt x="195" y="72"/>
                    </a:lnTo>
                    <a:lnTo>
                      <a:pt x="209" y="65"/>
                    </a:lnTo>
                    <a:lnTo>
                      <a:pt x="223" y="59"/>
                    </a:lnTo>
                    <a:lnTo>
                      <a:pt x="236" y="54"/>
                    </a:lnTo>
                    <a:lnTo>
                      <a:pt x="251" y="49"/>
                    </a:lnTo>
                    <a:lnTo>
                      <a:pt x="265" y="45"/>
                    </a:lnTo>
                    <a:lnTo>
                      <a:pt x="281" y="41"/>
                    </a:lnTo>
                    <a:lnTo>
                      <a:pt x="295" y="39"/>
                    </a:lnTo>
                    <a:lnTo>
                      <a:pt x="311" y="36"/>
                    </a:lnTo>
                    <a:lnTo>
                      <a:pt x="32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045120" y="4680000"/>
                <a:ext cx="324000" cy="323640"/>
              </a:xfrm>
              <a:custGeom>
                <a:avLst/>
                <a:gdLst/>
                <a:ahLst/>
                <a:rect l="l" t="t" r="r" b="b"/>
                <a:pathLst>
                  <a:path w="816" h="816">
                    <a:moveTo>
                      <a:pt x="408" y="0"/>
                    </a:moveTo>
                    <a:lnTo>
                      <a:pt x="429" y="2"/>
                    </a:lnTo>
                    <a:lnTo>
                      <a:pt x="450" y="3"/>
                    </a:lnTo>
                    <a:lnTo>
                      <a:pt x="471" y="5"/>
                    </a:lnTo>
                    <a:lnTo>
                      <a:pt x="490" y="9"/>
                    </a:lnTo>
                    <a:lnTo>
                      <a:pt x="510" y="14"/>
                    </a:lnTo>
                    <a:lnTo>
                      <a:pt x="529" y="18"/>
                    </a:lnTo>
                    <a:lnTo>
                      <a:pt x="549" y="26"/>
                    </a:lnTo>
                    <a:lnTo>
                      <a:pt x="567" y="33"/>
                    </a:lnTo>
                    <a:lnTo>
                      <a:pt x="585" y="41"/>
                    </a:lnTo>
                    <a:lnTo>
                      <a:pt x="603" y="50"/>
                    </a:lnTo>
                    <a:lnTo>
                      <a:pt x="619" y="59"/>
                    </a:lnTo>
                    <a:lnTo>
                      <a:pt x="636" y="70"/>
                    </a:lnTo>
                    <a:lnTo>
                      <a:pt x="652" y="82"/>
                    </a:lnTo>
                    <a:lnTo>
                      <a:pt x="667" y="94"/>
                    </a:lnTo>
                    <a:lnTo>
                      <a:pt x="682" y="107"/>
                    </a:lnTo>
                    <a:lnTo>
                      <a:pt x="696" y="120"/>
                    </a:lnTo>
                    <a:lnTo>
                      <a:pt x="709" y="135"/>
                    </a:lnTo>
                    <a:lnTo>
                      <a:pt x="723" y="149"/>
                    </a:lnTo>
                    <a:lnTo>
                      <a:pt x="735" y="165"/>
                    </a:lnTo>
                    <a:lnTo>
                      <a:pt x="747" y="180"/>
                    </a:lnTo>
                    <a:lnTo>
                      <a:pt x="756" y="197"/>
                    </a:lnTo>
                    <a:lnTo>
                      <a:pt x="767" y="214"/>
                    </a:lnTo>
                    <a:lnTo>
                      <a:pt x="775" y="232"/>
                    </a:lnTo>
                    <a:lnTo>
                      <a:pt x="784" y="250"/>
                    </a:lnTo>
                    <a:lnTo>
                      <a:pt x="791" y="268"/>
                    </a:lnTo>
                    <a:lnTo>
                      <a:pt x="797" y="287"/>
                    </a:lnTo>
                    <a:lnTo>
                      <a:pt x="803" y="306"/>
                    </a:lnTo>
                    <a:lnTo>
                      <a:pt x="808" y="327"/>
                    </a:lnTo>
                    <a:lnTo>
                      <a:pt x="811" y="346"/>
                    </a:lnTo>
                    <a:lnTo>
                      <a:pt x="814" y="366"/>
                    </a:lnTo>
                    <a:lnTo>
                      <a:pt x="815" y="388"/>
                    </a:lnTo>
                    <a:lnTo>
                      <a:pt x="816" y="408"/>
                    </a:lnTo>
                    <a:lnTo>
                      <a:pt x="815" y="429"/>
                    </a:lnTo>
                    <a:lnTo>
                      <a:pt x="814" y="450"/>
                    </a:lnTo>
                    <a:lnTo>
                      <a:pt x="811" y="471"/>
                    </a:lnTo>
                    <a:lnTo>
                      <a:pt x="808" y="490"/>
                    </a:lnTo>
                    <a:lnTo>
                      <a:pt x="803" y="510"/>
                    </a:lnTo>
                    <a:lnTo>
                      <a:pt x="797" y="529"/>
                    </a:lnTo>
                    <a:lnTo>
                      <a:pt x="791" y="549"/>
                    </a:lnTo>
                    <a:lnTo>
                      <a:pt x="784" y="567"/>
                    </a:lnTo>
                    <a:lnTo>
                      <a:pt x="775" y="585"/>
                    </a:lnTo>
                    <a:lnTo>
                      <a:pt x="767" y="603"/>
                    </a:lnTo>
                    <a:lnTo>
                      <a:pt x="756" y="619"/>
                    </a:lnTo>
                    <a:lnTo>
                      <a:pt x="747" y="636"/>
                    </a:lnTo>
                    <a:lnTo>
                      <a:pt x="735" y="652"/>
                    </a:lnTo>
                    <a:lnTo>
                      <a:pt x="723" y="667"/>
                    </a:lnTo>
                    <a:lnTo>
                      <a:pt x="709" y="682"/>
                    </a:lnTo>
                    <a:lnTo>
                      <a:pt x="696" y="696"/>
                    </a:lnTo>
                    <a:lnTo>
                      <a:pt x="682" y="709"/>
                    </a:lnTo>
                    <a:lnTo>
                      <a:pt x="667" y="723"/>
                    </a:lnTo>
                    <a:lnTo>
                      <a:pt x="652" y="735"/>
                    </a:lnTo>
                    <a:lnTo>
                      <a:pt x="636" y="747"/>
                    </a:lnTo>
                    <a:lnTo>
                      <a:pt x="619" y="757"/>
                    </a:lnTo>
                    <a:lnTo>
                      <a:pt x="603" y="767"/>
                    </a:lnTo>
                    <a:lnTo>
                      <a:pt x="585" y="775"/>
                    </a:lnTo>
                    <a:lnTo>
                      <a:pt x="567" y="784"/>
                    </a:lnTo>
                    <a:lnTo>
                      <a:pt x="549" y="791"/>
                    </a:lnTo>
                    <a:lnTo>
                      <a:pt x="529" y="798"/>
                    </a:lnTo>
                    <a:lnTo>
                      <a:pt x="510" y="803"/>
                    </a:lnTo>
                    <a:lnTo>
                      <a:pt x="490" y="808"/>
                    </a:lnTo>
                    <a:lnTo>
                      <a:pt x="471" y="811"/>
                    </a:lnTo>
                    <a:lnTo>
                      <a:pt x="450" y="814"/>
                    </a:lnTo>
                    <a:lnTo>
                      <a:pt x="429" y="815"/>
                    </a:lnTo>
                    <a:lnTo>
                      <a:pt x="408" y="816"/>
                    </a:lnTo>
                    <a:lnTo>
                      <a:pt x="387" y="815"/>
                    </a:lnTo>
                    <a:lnTo>
                      <a:pt x="366" y="814"/>
                    </a:lnTo>
                    <a:lnTo>
                      <a:pt x="346" y="811"/>
                    </a:lnTo>
                    <a:lnTo>
                      <a:pt x="327" y="808"/>
                    </a:lnTo>
                    <a:lnTo>
                      <a:pt x="306" y="803"/>
                    </a:lnTo>
                    <a:lnTo>
                      <a:pt x="287" y="798"/>
                    </a:lnTo>
                    <a:lnTo>
                      <a:pt x="268" y="791"/>
                    </a:lnTo>
                    <a:lnTo>
                      <a:pt x="250" y="784"/>
                    </a:lnTo>
                    <a:lnTo>
                      <a:pt x="232" y="775"/>
                    </a:lnTo>
                    <a:lnTo>
                      <a:pt x="214" y="767"/>
                    </a:lnTo>
                    <a:lnTo>
                      <a:pt x="197" y="757"/>
                    </a:lnTo>
                    <a:lnTo>
                      <a:pt x="180" y="747"/>
                    </a:lnTo>
                    <a:lnTo>
                      <a:pt x="165" y="735"/>
                    </a:lnTo>
                    <a:lnTo>
                      <a:pt x="149" y="723"/>
                    </a:lnTo>
                    <a:lnTo>
                      <a:pt x="135" y="709"/>
                    </a:lnTo>
                    <a:lnTo>
                      <a:pt x="120" y="696"/>
                    </a:lnTo>
                    <a:lnTo>
                      <a:pt x="107" y="682"/>
                    </a:lnTo>
                    <a:lnTo>
                      <a:pt x="94" y="667"/>
                    </a:lnTo>
                    <a:lnTo>
                      <a:pt x="82" y="652"/>
                    </a:lnTo>
                    <a:lnTo>
                      <a:pt x="70" y="636"/>
                    </a:lnTo>
                    <a:lnTo>
                      <a:pt x="59" y="619"/>
                    </a:lnTo>
                    <a:lnTo>
                      <a:pt x="49" y="603"/>
                    </a:lnTo>
                    <a:lnTo>
                      <a:pt x="41" y="585"/>
                    </a:lnTo>
                    <a:lnTo>
                      <a:pt x="33" y="567"/>
                    </a:lnTo>
                    <a:lnTo>
                      <a:pt x="25" y="549"/>
                    </a:lnTo>
                    <a:lnTo>
                      <a:pt x="18" y="529"/>
                    </a:lnTo>
                    <a:lnTo>
                      <a:pt x="13" y="510"/>
                    </a:lnTo>
                    <a:lnTo>
                      <a:pt x="9" y="490"/>
                    </a:lnTo>
                    <a:lnTo>
                      <a:pt x="5" y="471"/>
                    </a:lnTo>
                    <a:lnTo>
                      <a:pt x="3" y="450"/>
                    </a:lnTo>
                    <a:lnTo>
                      <a:pt x="1" y="429"/>
                    </a:lnTo>
                    <a:lnTo>
                      <a:pt x="0" y="408"/>
                    </a:lnTo>
                    <a:lnTo>
                      <a:pt x="1" y="388"/>
                    </a:lnTo>
                    <a:lnTo>
                      <a:pt x="3" y="366"/>
                    </a:lnTo>
                    <a:lnTo>
                      <a:pt x="5" y="346"/>
                    </a:lnTo>
                    <a:lnTo>
                      <a:pt x="9" y="327"/>
                    </a:lnTo>
                    <a:lnTo>
                      <a:pt x="13" y="306"/>
                    </a:lnTo>
                    <a:lnTo>
                      <a:pt x="18" y="287"/>
                    </a:lnTo>
                    <a:lnTo>
                      <a:pt x="25" y="268"/>
                    </a:lnTo>
                    <a:lnTo>
                      <a:pt x="33" y="250"/>
                    </a:lnTo>
                    <a:lnTo>
                      <a:pt x="41" y="232"/>
                    </a:lnTo>
                    <a:lnTo>
                      <a:pt x="49" y="214"/>
                    </a:lnTo>
                    <a:lnTo>
                      <a:pt x="59" y="197"/>
                    </a:lnTo>
                    <a:lnTo>
                      <a:pt x="70" y="180"/>
                    </a:lnTo>
                    <a:lnTo>
                      <a:pt x="82" y="165"/>
                    </a:lnTo>
                    <a:lnTo>
                      <a:pt x="94" y="149"/>
                    </a:lnTo>
                    <a:lnTo>
                      <a:pt x="107" y="135"/>
                    </a:lnTo>
                    <a:lnTo>
                      <a:pt x="120" y="120"/>
                    </a:lnTo>
                    <a:lnTo>
                      <a:pt x="135" y="107"/>
                    </a:lnTo>
                    <a:lnTo>
                      <a:pt x="149" y="94"/>
                    </a:lnTo>
                    <a:lnTo>
                      <a:pt x="165" y="82"/>
                    </a:lnTo>
                    <a:lnTo>
                      <a:pt x="180" y="70"/>
                    </a:lnTo>
                    <a:lnTo>
                      <a:pt x="197" y="59"/>
                    </a:lnTo>
                    <a:lnTo>
                      <a:pt x="214" y="50"/>
                    </a:lnTo>
                    <a:lnTo>
                      <a:pt x="232" y="41"/>
                    </a:lnTo>
                    <a:lnTo>
                      <a:pt x="250" y="33"/>
                    </a:lnTo>
                    <a:lnTo>
                      <a:pt x="268" y="26"/>
                    </a:lnTo>
                    <a:lnTo>
                      <a:pt x="287" y="18"/>
                    </a:lnTo>
                    <a:lnTo>
                      <a:pt x="306" y="14"/>
                    </a:lnTo>
                    <a:lnTo>
                      <a:pt x="327" y="9"/>
                    </a:lnTo>
                    <a:lnTo>
                      <a:pt x="346" y="5"/>
                    </a:lnTo>
                    <a:lnTo>
                      <a:pt x="366" y="3"/>
                    </a:lnTo>
                    <a:lnTo>
                      <a:pt x="387" y="2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be8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207120" y="4673520"/>
                <a:ext cx="168120" cy="168480"/>
              </a:xfrm>
              <a:custGeom>
                <a:avLst/>
                <a:gdLst/>
                <a:ahLst/>
                <a:rect l="l" t="t" r="r" b="b"/>
                <a:pathLst>
                  <a:path w="425" h="424">
                    <a:moveTo>
                      <a:pt x="425" y="424"/>
                    </a:moveTo>
                    <a:lnTo>
                      <a:pt x="425" y="424"/>
                    </a:lnTo>
                    <a:lnTo>
                      <a:pt x="425" y="403"/>
                    </a:lnTo>
                    <a:lnTo>
                      <a:pt x="423" y="381"/>
                    </a:lnTo>
                    <a:lnTo>
                      <a:pt x="420" y="359"/>
                    </a:lnTo>
                    <a:lnTo>
                      <a:pt x="417" y="339"/>
                    </a:lnTo>
                    <a:lnTo>
                      <a:pt x="412" y="319"/>
                    </a:lnTo>
                    <a:lnTo>
                      <a:pt x="406" y="298"/>
                    </a:lnTo>
                    <a:lnTo>
                      <a:pt x="400" y="278"/>
                    </a:lnTo>
                    <a:lnTo>
                      <a:pt x="391" y="259"/>
                    </a:lnTo>
                    <a:lnTo>
                      <a:pt x="383" y="241"/>
                    </a:lnTo>
                    <a:lnTo>
                      <a:pt x="373" y="221"/>
                    </a:lnTo>
                    <a:lnTo>
                      <a:pt x="364" y="203"/>
                    </a:lnTo>
                    <a:lnTo>
                      <a:pt x="353" y="187"/>
                    </a:lnTo>
                    <a:lnTo>
                      <a:pt x="341" y="170"/>
                    </a:lnTo>
                    <a:lnTo>
                      <a:pt x="328" y="154"/>
                    </a:lnTo>
                    <a:lnTo>
                      <a:pt x="315" y="139"/>
                    </a:lnTo>
                    <a:lnTo>
                      <a:pt x="300" y="124"/>
                    </a:lnTo>
                    <a:lnTo>
                      <a:pt x="286" y="110"/>
                    </a:lnTo>
                    <a:lnTo>
                      <a:pt x="270" y="97"/>
                    </a:lnTo>
                    <a:lnTo>
                      <a:pt x="255" y="84"/>
                    </a:lnTo>
                    <a:lnTo>
                      <a:pt x="238" y="72"/>
                    </a:lnTo>
                    <a:lnTo>
                      <a:pt x="220" y="61"/>
                    </a:lnTo>
                    <a:lnTo>
                      <a:pt x="203" y="51"/>
                    </a:lnTo>
                    <a:lnTo>
                      <a:pt x="184" y="42"/>
                    </a:lnTo>
                    <a:lnTo>
                      <a:pt x="166" y="33"/>
                    </a:lnTo>
                    <a:lnTo>
                      <a:pt x="147" y="25"/>
                    </a:lnTo>
                    <a:lnTo>
                      <a:pt x="126" y="19"/>
                    </a:lnTo>
                    <a:lnTo>
                      <a:pt x="106" y="13"/>
                    </a:lnTo>
                    <a:lnTo>
                      <a:pt x="85" y="8"/>
                    </a:lnTo>
                    <a:lnTo>
                      <a:pt x="65" y="4"/>
                    </a:lnTo>
                    <a:lnTo>
                      <a:pt x="43" y="2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21" y="34"/>
                    </a:lnTo>
                    <a:lnTo>
                      <a:pt x="40" y="36"/>
                    </a:lnTo>
                    <a:lnTo>
                      <a:pt x="59" y="38"/>
                    </a:lnTo>
                    <a:lnTo>
                      <a:pt x="78" y="42"/>
                    </a:lnTo>
                    <a:lnTo>
                      <a:pt x="97" y="46"/>
                    </a:lnTo>
                    <a:lnTo>
                      <a:pt x="115" y="51"/>
                    </a:lnTo>
                    <a:lnTo>
                      <a:pt x="135" y="57"/>
                    </a:lnTo>
                    <a:lnTo>
                      <a:pt x="151" y="64"/>
                    </a:lnTo>
                    <a:lnTo>
                      <a:pt x="169" y="73"/>
                    </a:lnTo>
                    <a:lnTo>
                      <a:pt x="186" y="81"/>
                    </a:lnTo>
                    <a:lnTo>
                      <a:pt x="202" y="91"/>
                    </a:lnTo>
                    <a:lnTo>
                      <a:pt x="219" y="100"/>
                    </a:lnTo>
                    <a:lnTo>
                      <a:pt x="233" y="111"/>
                    </a:lnTo>
                    <a:lnTo>
                      <a:pt x="249" y="123"/>
                    </a:lnTo>
                    <a:lnTo>
                      <a:pt x="263" y="135"/>
                    </a:lnTo>
                    <a:lnTo>
                      <a:pt x="276" y="148"/>
                    </a:lnTo>
                    <a:lnTo>
                      <a:pt x="289" y="161"/>
                    </a:lnTo>
                    <a:lnTo>
                      <a:pt x="301" y="176"/>
                    </a:lnTo>
                    <a:lnTo>
                      <a:pt x="313" y="191"/>
                    </a:lnTo>
                    <a:lnTo>
                      <a:pt x="324" y="206"/>
                    </a:lnTo>
                    <a:lnTo>
                      <a:pt x="334" y="223"/>
                    </a:lnTo>
                    <a:lnTo>
                      <a:pt x="343" y="238"/>
                    </a:lnTo>
                    <a:lnTo>
                      <a:pt x="352" y="255"/>
                    </a:lnTo>
                    <a:lnTo>
                      <a:pt x="360" y="273"/>
                    </a:lnTo>
                    <a:lnTo>
                      <a:pt x="367" y="290"/>
                    </a:lnTo>
                    <a:lnTo>
                      <a:pt x="373" y="308"/>
                    </a:lnTo>
                    <a:lnTo>
                      <a:pt x="378" y="327"/>
                    </a:lnTo>
                    <a:lnTo>
                      <a:pt x="383" y="346"/>
                    </a:lnTo>
                    <a:lnTo>
                      <a:pt x="387" y="365"/>
                    </a:lnTo>
                    <a:lnTo>
                      <a:pt x="389" y="385"/>
                    </a:lnTo>
                    <a:lnTo>
                      <a:pt x="390" y="404"/>
                    </a:lnTo>
                    <a:lnTo>
                      <a:pt x="390" y="424"/>
                    </a:lnTo>
                    <a:lnTo>
                      <a:pt x="390" y="424"/>
                    </a:lnTo>
                    <a:lnTo>
                      <a:pt x="425" y="42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207120" y="484200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425" h="425">
                    <a:moveTo>
                      <a:pt x="0" y="425"/>
                    </a:moveTo>
                    <a:lnTo>
                      <a:pt x="0" y="425"/>
                    </a:lnTo>
                    <a:lnTo>
                      <a:pt x="22" y="425"/>
                    </a:lnTo>
                    <a:lnTo>
                      <a:pt x="43" y="424"/>
                    </a:lnTo>
                    <a:lnTo>
                      <a:pt x="65" y="420"/>
                    </a:lnTo>
                    <a:lnTo>
                      <a:pt x="85" y="417"/>
                    </a:lnTo>
                    <a:lnTo>
                      <a:pt x="106" y="412"/>
                    </a:lnTo>
                    <a:lnTo>
                      <a:pt x="126" y="406"/>
                    </a:lnTo>
                    <a:lnTo>
                      <a:pt x="147" y="400"/>
                    </a:lnTo>
                    <a:lnTo>
                      <a:pt x="166" y="391"/>
                    </a:lnTo>
                    <a:lnTo>
                      <a:pt x="184" y="383"/>
                    </a:lnTo>
                    <a:lnTo>
                      <a:pt x="203" y="373"/>
                    </a:lnTo>
                    <a:lnTo>
                      <a:pt x="220" y="364"/>
                    </a:lnTo>
                    <a:lnTo>
                      <a:pt x="238" y="353"/>
                    </a:lnTo>
                    <a:lnTo>
                      <a:pt x="255" y="341"/>
                    </a:lnTo>
                    <a:lnTo>
                      <a:pt x="270" y="328"/>
                    </a:lnTo>
                    <a:lnTo>
                      <a:pt x="286" y="315"/>
                    </a:lnTo>
                    <a:lnTo>
                      <a:pt x="300" y="300"/>
                    </a:lnTo>
                    <a:lnTo>
                      <a:pt x="315" y="286"/>
                    </a:lnTo>
                    <a:lnTo>
                      <a:pt x="328" y="270"/>
                    </a:lnTo>
                    <a:lnTo>
                      <a:pt x="341" y="255"/>
                    </a:lnTo>
                    <a:lnTo>
                      <a:pt x="353" y="238"/>
                    </a:lnTo>
                    <a:lnTo>
                      <a:pt x="364" y="221"/>
                    </a:lnTo>
                    <a:lnTo>
                      <a:pt x="373" y="203"/>
                    </a:lnTo>
                    <a:lnTo>
                      <a:pt x="383" y="184"/>
                    </a:lnTo>
                    <a:lnTo>
                      <a:pt x="391" y="166"/>
                    </a:lnTo>
                    <a:lnTo>
                      <a:pt x="400" y="147"/>
                    </a:lnTo>
                    <a:lnTo>
                      <a:pt x="406" y="126"/>
                    </a:lnTo>
                    <a:lnTo>
                      <a:pt x="412" y="106"/>
                    </a:lnTo>
                    <a:lnTo>
                      <a:pt x="417" y="85"/>
                    </a:lnTo>
                    <a:lnTo>
                      <a:pt x="420" y="65"/>
                    </a:lnTo>
                    <a:lnTo>
                      <a:pt x="423" y="43"/>
                    </a:lnTo>
                    <a:lnTo>
                      <a:pt x="425" y="22"/>
                    </a:lnTo>
                    <a:lnTo>
                      <a:pt x="425" y="0"/>
                    </a:lnTo>
                    <a:lnTo>
                      <a:pt x="390" y="0"/>
                    </a:lnTo>
                    <a:lnTo>
                      <a:pt x="390" y="21"/>
                    </a:lnTo>
                    <a:lnTo>
                      <a:pt x="389" y="40"/>
                    </a:lnTo>
                    <a:lnTo>
                      <a:pt x="387" y="60"/>
                    </a:lnTo>
                    <a:lnTo>
                      <a:pt x="383" y="78"/>
                    </a:lnTo>
                    <a:lnTo>
                      <a:pt x="378" y="97"/>
                    </a:lnTo>
                    <a:lnTo>
                      <a:pt x="373" y="117"/>
                    </a:lnTo>
                    <a:lnTo>
                      <a:pt x="367" y="135"/>
                    </a:lnTo>
                    <a:lnTo>
                      <a:pt x="360" y="151"/>
                    </a:lnTo>
                    <a:lnTo>
                      <a:pt x="352" y="169"/>
                    </a:lnTo>
                    <a:lnTo>
                      <a:pt x="343" y="186"/>
                    </a:lnTo>
                    <a:lnTo>
                      <a:pt x="334" y="203"/>
                    </a:lnTo>
                    <a:lnTo>
                      <a:pt x="324" y="219"/>
                    </a:lnTo>
                    <a:lnTo>
                      <a:pt x="313" y="233"/>
                    </a:lnTo>
                    <a:lnTo>
                      <a:pt x="301" y="249"/>
                    </a:lnTo>
                    <a:lnTo>
                      <a:pt x="289" y="263"/>
                    </a:lnTo>
                    <a:lnTo>
                      <a:pt x="276" y="276"/>
                    </a:lnTo>
                    <a:lnTo>
                      <a:pt x="263" y="289"/>
                    </a:lnTo>
                    <a:lnTo>
                      <a:pt x="249" y="301"/>
                    </a:lnTo>
                    <a:lnTo>
                      <a:pt x="233" y="313"/>
                    </a:lnTo>
                    <a:lnTo>
                      <a:pt x="219" y="324"/>
                    </a:lnTo>
                    <a:lnTo>
                      <a:pt x="202" y="334"/>
                    </a:lnTo>
                    <a:lnTo>
                      <a:pt x="186" y="343"/>
                    </a:lnTo>
                    <a:lnTo>
                      <a:pt x="169" y="352"/>
                    </a:lnTo>
                    <a:lnTo>
                      <a:pt x="151" y="360"/>
                    </a:lnTo>
                    <a:lnTo>
                      <a:pt x="135" y="367"/>
                    </a:lnTo>
                    <a:lnTo>
                      <a:pt x="115" y="373"/>
                    </a:lnTo>
                    <a:lnTo>
                      <a:pt x="97" y="378"/>
                    </a:lnTo>
                    <a:lnTo>
                      <a:pt x="78" y="383"/>
                    </a:lnTo>
                    <a:lnTo>
                      <a:pt x="59" y="387"/>
                    </a:lnTo>
                    <a:lnTo>
                      <a:pt x="40" y="389"/>
                    </a:lnTo>
                    <a:lnTo>
                      <a:pt x="21" y="390"/>
                    </a:lnTo>
                    <a:lnTo>
                      <a:pt x="0" y="390"/>
                    </a:lnTo>
                    <a:lnTo>
                      <a:pt x="0" y="390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038640" y="4842000"/>
                <a:ext cx="168480" cy="168120"/>
              </a:xfrm>
              <a:custGeom>
                <a:avLst/>
                <a:gdLst/>
                <a:ahLst/>
                <a:rect l="l" t="t" r="r" b="b"/>
                <a:pathLst>
                  <a:path w="425" h="425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" y="43"/>
                    </a:lnTo>
                    <a:lnTo>
                      <a:pt x="5" y="65"/>
                    </a:lnTo>
                    <a:lnTo>
                      <a:pt x="9" y="85"/>
                    </a:lnTo>
                    <a:lnTo>
                      <a:pt x="14" y="106"/>
                    </a:lnTo>
                    <a:lnTo>
                      <a:pt x="20" y="126"/>
                    </a:lnTo>
                    <a:lnTo>
                      <a:pt x="26" y="147"/>
                    </a:lnTo>
                    <a:lnTo>
                      <a:pt x="34" y="166"/>
                    </a:lnTo>
                    <a:lnTo>
                      <a:pt x="42" y="184"/>
                    </a:lnTo>
                    <a:lnTo>
                      <a:pt x="51" y="203"/>
                    </a:lnTo>
                    <a:lnTo>
                      <a:pt x="62" y="221"/>
                    </a:lnTo>
                    <a:lnTo>
                      <a:pt x="72" y="238"/>
                    </a:lnTo>
                    <a:lnTo>
                      <a:pt x="84" y="255"/>
                    </a:lnTo>
                    <a:lnTo>
                      <a:pt x="98" y="270"/>
                    </a:lnTo>
                    <a:lnTo>
                      <a:pt x="111" y="286"/>
                    </a:lnTo>
                    <a:lnTo>
                      <a:pt x="125" y="300"/>
                    </a:lnTo>
                    <a:lnTo>
                      <a:pt x="140" y="315"/>
                    </a:lnTo>
                    <a:lnTo>
                      <a:pt x="155" y="328"/>
                    </a:lnTo>
                    <a:lnTo>
                      <a:pt x="171" y="341"/>
                    </a:lnTo>
                    <a:lnTo>
                      <a:pt x="188" y="353"/>
                    </a:lnTo>
                    <a:lnTo>
                      <a:pt x="204" y="364"/>
                    </a:lnTo>
                    <a:lnTo>
                      <a:pt x="222" y="373"/>
                    </a:lnTo>
                    <a:lnTo>
                      <a:pt x="242" y="383"/>
                    </a:lnTo>
                    <a:lnTo>
                      <a:pt x="260" y="391"/>
                    </a:lnTo>
                    <a:lnTo>
                      <a:pt x="279" y="400"/>
                    </a:lnTo>
                    <a:lnTo>
                      <a:pt x="299" y="406"/>
                    </a:lnTo>
                    <a:lnTo>
                      <a:pt x="320" y="412"/>
                    </a:lnTo>
                    <a:lnTo>
                      <a:pt x="340" y="417"/>
                    </a:lnTo>
                    <a:lnTo>
                      <a:pt x="360" y="420"/>
                    </a:lnTo>
                    <a:lnTo>
                      <a:pt x="382" y="424"/>
                    </a:lnTo>
                    <a:lnTo>
                      <a:pt x="404" y="425"/>
                    </a:lnTo>
                    <a:lnTo>
                      <a:pt x="425" y="425"/>
                    </a:lnTo>
                    <a:lnTo>
                      <a:pt x="425" y="390"/>
                    </a:lnTo>
                    <a:lnTo>
                      <a:pt x="405" y="390"/>
                    </a:lnTo>
                    <a:lnTo>
                      <a:pt x="386" y="389"/>
                    </a:lnTo>
                    <a:lnTo>
                      <a:pt x="365" y="387"/>
                    </a:lnTo>
                    <a:lnTo>
                      <a:pt x="346" y="383"/>
                    </a:lnTo>
                    <a:lnTo>
                      <a:pt x="328" y="378"/>
                    </a:lnTo>
                    <a:lnTo>
                      <a:pt x="309" y="373"/>
                    </a:lnTo>
                    <a:lnTo>
                      <a:pt x="291" y="367"/>
                    </a:lnTo>
                    <a:lnTo>
                      <a:pt x="273" y="360"/>
                    </a:lnTo>
                    <a:lnTo>
                      <a:pt x="256" y="352"/>
                    </a:lnTo>
                    <a:lnTo>
                      <a:pt x="239" y="343"/>
                    </a:lnTo>
                    <a:lnTo>
                      <a:pt x="222" y="334"/>
                    </a:lnTo>
                    <a:lnTo>
                      <a:pt x="207" y="324"/>
                    </a:lnTo>
                    <a:lnTo>
                      <a:pt x="191" y="313"/>
                    </a:lnTo>
                    <a:lnTo>
                      <a:pt x="177" y="301"/>
                    </a:lnTo>
                    <a:lnTo>
                      <a:pt x="162" y="289"/>
                    </a:lnTo>
                    <a:lnTo>
                      <a:pt x="149" y="276"/>
                    </a:lnTo>
                    <a:lnTo>
                      <a:pt x="136" y="263"/>
                    </a:lnTo>
                    <a:lnTo>
                      <a:pt x="124" y="249"/>
                    </a:lnTo>
                    <a:lnTo>
                      <a:pt x="112" y="233"/>
                    </a:lnTo>
                    <a:lnTo>
                      <a:pt x="101" y="219"/>
                    </a:lnTo>
                    <a:lnTo>
                      <a:pt x="92" y="203"/>
                    </a:lnTo>
                    <a:lnTo>
                      <a:pt x="82" y="186"/>
                    </a:lnTo>
                    <a:lnTo>
                      <a:pt x="74" y="169"/>
                    </a:lnTo>
                    <a:lnTo>
                      <a:pt x="65" y="151"/>
                    </a:lnTo>
                    <a:lnTo>
                      <a:pt x="58" y="135"/>
                    </a:lnTo>
                    <a:lnTo>
                      <a:pt x="52" y="117"/>
                    </a:lnTo>
                    <a:lnTo>
                      <a:pt x="47" y="97"/>
                    </a:lnTo>
                    <a:lnTo>
                      <a:pt x="42" y="78"/>
                    </a:lnTo>
                    <a:lnTo>
                      <a:pt x="39" y="60"/>
                    </a:lnTo>
                    <a:lnTo>
                      <a:pt x="36" y="40"/>
                    </a:lnTo>
                    <a:lnTo>
                      <a:pt x="35" y="2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038640" y="4673520"/>
                <a:ext cx="168480" cy="168480"/>
              </a:xfrm>
              <a:custGeom>
                <a:avLst/>
                <a:gdLst/>
                <a:ahLst/>
                <a:rect l="l" t="t" r="r" b="b"/>
                <a:pathLst>
                  <a:path w="425" h="424">
                    <a:moveTo>
                      <a:pt x="425" y="0"/>
                    </a:moveTo>
                    <a:lnTo>
                      <a:pt x="425" y="0"/>
                    </a:lnTo>
                    <a:lnTo>
                      <a:pt x="404" y="0"/>
                    </a:lnTo>
                    <a:lnTo>
                      <a:pt x="382" y="2"/>
                    </a:lnTo>
                    <a:lnTo>
                      <a:pt x="360" y="4"/>
                    </a:lnTo>
                    <a:lnTo>
                      <a:pt x="340" y="8"/>
                    </a:lnTo>
                    <a:lnTo>
                      <a:pt x="320" y="13"/>
                    </a:lnTo>
                    <a:lnTo>
                      <a:pt x="299" y="19"/>
                    </a:lnTo>
                    <a:lnTo>
                      <a:pt x="279" y="25"/>
                    </a:lnTo>
                    <a:lnTo>
                      <a:pt x="260" y="33"/>
                    </a:lnTo>
                    <a:lnTo>
                      <a:pt x="242" y="42"/>
                    </a:lnTo>
                    <a:lnTo>
                      <a:pt x="222" y="51"/>
                    </a:lnTo>
                    <a:lnTo>
                      <a:pt x="204" y="61"/>
                    </a:lnTo>
                    <a:lnTo>
                      <a:pt x="188" y="72"/>
                    </a:lnTo>
                    <a:lnTo>
                      <a:pt x="171" y="84"/>
                    </a:lnTo>
                    <a:lnTo>
                      <a:pt x="155" y="97"/>
                    </a:lnTo>
                    <a:lnTo>
                      <a:pt x="140" y="110"/>
                    </a:lnTo>
                    <a:lnTo>
                      <a:pt x="125" y="124"/>
                    </a:lnTo>
                    <a:lnTo>
                      <a:pt x="111" y="139"/>
                    </a:lnTo>
                    <a:lnTo>
                      <a:pt x="98" y="154"/>
                    </a:lnTo>
                    <a:lnTo>
                      <a:pt x="84" y="170"/>
                    </a:lnTo>
                    <a:lnTo>
                      <a:pt x="72" y="187"/>
                    </a:lnTo>
                    <a:lnTo>
                      <a:pt x="62" y="203"/>
                    </a:lnTo>
                    <a:lnTo>
                      <a:pt x="51" y="221"/>
                    </a:lnTo>
                    <a:lnTo>
                      <a:pt x="42" y="241"/>
                    </a:lnTo>
                    <a:lnTo>
                      <a:pt x="34" y="259"/>
                    </a:lnTo>
                    <a:lnTo>
                      <a:pt x="26" y="278"/>
                    </a:lnTo>
                    <a:lnTo>
                      <a:pt x="20" y="298"/>
                    </a:lnTo>
                    <a:lnTo>
                      <a:pt x="14" y="319"/>
                    </a:lnTo>
                    <a:lnTo>
                      <a:pt x="9" y="339"/>
                    </a:lnTo>
                    <a:lnTo>
                      <a:pt x="5" y="359"/>
                    </a:lnTo>
                    <a:lnTo>
                      <a:pt x="2" y="381"/>
                    </a:lnTo>
                    <a:lnTo>
                      <a:pt x="0" y="403"/>
                    </a:lnTo>
                    <a:lnTo>
                      <a:pt x="0" y="424"/>
                    </a:lnTo>
                    <a:lnTo>
                      <a:pt x="35" y="424"/>
                    </a:lnTo>
                    <a:lnTo>
                      <a:pt x="35" y="404"/>
                    </a:lnTo>
                    <a:lnTo>
                      <a:pt x="36" y="385"/>
                    </a:lnTo>
                    <a:lnTo>
                      <a:pt x="39" y="365"/>
                    </a:lnTo>
                    <a:lnTo>
                      <a:pt x="42" y="346"/>
                    </a:lnTo>
                    <a:lnTo>
                      <a:pt x="47" y="327"/>
                    </a:lnTo>
                    <a:lnTo>
                      <a:pt x="52" y="308"/>
                    </a:lnTo>
                    <a:lnTo>
                      <a:pt x="58" y="290"/>
                    </a:lnTo>
                    <a:lnTo>
                      <a:pt x="65" y="273"/>
                    </a:lnTo>
                    <a:lnTo>
                      <a:pt x="74" y="255"/>
                    </a:lnTo>
                    <a:lnTo>
                      <a:pt x="82" y="238"/>
                    </a:lnTo>
                    <a:lnTo>
                      <a:pt x="92" y="223"/>
                    </a:lnTo>
                    <a:lnTo>
                      <a:pt x="101" y="206"/>
                    </a:lnTo>
                    <a:lnTo>
                      <a:pt x="112" y="191"/>
                    </a:lnTo>
                    <a:lnTo>
                      <a:pt x="124" y="176"/>
                    </a:lnTo>
                    <a:lnTo>
                      <a:pt x="136" y="161"/>
                    </a:lnTo>
                    <a:lnTo>
                      <a:pt x="149" y="148"/>
                    </a:lnTo>
                    <a:lnTo>
                      <a:pt x="162" y="135"/>
                    </a:lnTo>
                    <a:lnTo>
                      <a:pt x="177" y="123"/>
                    </a:lnTo>
                    <a:lnTo>
                      <a:pt x="191" y="111"/>
                    </a:lnTo>
                    <a:lnTo>
                      <a:pt x="207" y="100"/>
                    </a:lnTo>
                    <a:lnTo>
                      <a:pt x="222" y="91"/>
                    </a:lnTo>
                    <a:lnTo>
                      <a:pt x="239" y="81"/>
                    </a:lnTo>
                    <a:lnTo>
                      <a:pt x="256" y="73"/>
                    </a:lnTo>
                    <a:lnTo>
                      <a:pt x="273" y="64"/>
                    </a:lnTo>
                    <a:lnTo>
                      <a:pt x="291" y="57"/>
                    </a:lnTo>
                    <a:lnTo>
                      <a:pt x="309" y="51"/>
                    </a:lnTo>
                    <a:lnTo>
                      <a:pt x="328" y="46"/>
                    </a:lnTo>
                    <a:lnTo>
                      <a:pt x="346" y="42"/>
                    </a:lnTo>
                    <a:lnTo>
                      <a:pt x="365" y="38"/>
                    </a:lnTo>
                    <a:lnTo>
                      <a:pt x="386" y="36"/>
                    </a:lnTo>
                    <a:lnTo>
                      <a:pt x="405" y="34"/>
                    </a:lnTo>
                    <a:lnTo>
                      <a:pt x="425" y="34"/>
                    </a:lnTo>
                    <a:lnTo>
                      <a:pt x="425" y="34"/>
                    </a:lnTo>
                    <a:lnTo>
                      <a:pt x="425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046560" y="4683240"/>
                <a:ext cx="320760" cy="320400"/>
              </a:xfrm>
              <a:custGeom>
                <a:avLst/>
                <a:gdLst/>
                <a:ahLst/>
                <a:rect l="l" t="t" r="r" b="b"/>
                <a:pathLst>
                  <a:path w="808" h="809">
                    <a:moveTo>
                      <a:pt x="403" y="0"/>
                    </a:moveTo>
                    <a:lnTo>
                      <a:pt x="425" y="2"/>
                    </a:lnTo>
                    <a:lnTo>
                      <a:pt x="445" y="3"/>
                    </a:lnTo>
                    <a:lnTo>
                      <a:pt x="466" y="5"/>
                    </a:lnTo>
                    <a:lnTo>
                      <a:pt x="485" y="9"/>
                    </a:lnTo>
                    <a:lnTo>
                      <a:pt x="504" y="14"/>
                    </a:lnTo>
                    <a:lnTo>
                      <a:pt x="523" y="20"/>
                    </a:lnTo>
                    <a:lnTo>
                      <a:pt x="542" y="26"/>
                    </a:lnTo>
                    <a:lnTo>
                      <a:pt x="560" y="33"/>
                    </a:lnTo>
                    <a:lnTo>
                      <a:pt x="578" y="41"/>
                    </a:lnTo>
                    <a:lnTo>
                      <a:pt x="596" y="50"/>
                    </a:lnTo>
                    <a:lnTo>
                      <a:pt x="613" y="59"/>
                    </a:lnTo>
                    <a:lnTo>
                      <a:pt x="629" y="70"/>
                    </a:lnTo>
                    <a:lnTo>
                      <a:pt x="646" y="81"/>
                    </a:lnTo>
                    <a:lnTo>
                      <a:pt x="660" y="93"/>
                    </a:lnTo>
                    <a:lnTo>
                      <a:pt x="676" y="106"/>
                    </a:lnTo>
                    <a:lnTo>
                      <a:pt x="689" y="119"/>
                    </a:lnTo>
                    <a:lnTo>
                      <a:pt x="702" y="133"/>
                    </a:lnTo>
                    <a:lnTo>
                      <a:pt x="715" y="148"/>
                    </a:lnTo>
                    <a:lnTo>
                      <a:pt x="727" y="163"/>
                    </a:lnTo>
                    <a:lnTo>
                      <a:pt x="738" y="179"/>
                    </a:lnTo>
                    <a:lnTo>
                      <a:pt x="749" y="196"/>
                    </a:lnTo>
                    <a:lnTo>
                      <a:pt x="758" y="213"/>
                    </a:lnTo>
                    <a:lnTo>
                      <a:pt x="768" y="229"/>
                    </a:lnTo>
                    <a:lnTo>
                      <a:pt x="776" y="247"/>
                    </a:lnTo>
                    <a:lnTo>
                      <a:pt x="784" y="267"/>
                    </a:lnTo>
                    <a:lnTo>
                      <a:pt x="790" y="285"/>
                    </a:lnTo>
                    <a:lnTo>
                      <a:pt x="796" y="304"/>
                    </a:lnTo>
                    <a:lnTo>
                      <a:pt x="799" y="323"/>
                    </a:lnTo>
                    <a:lnTo>
                      <a:pt x="803" y="343"/>
                    </a:lnTo>
                    <a:lnTo>
                      <a:pt x="805" y="364"/>
                    </a:lnTo>
                    <a:lnTo>
                      <a:pt x="808" y="384"/>
                    </a:lnTo>
                    <a:lnTo>
                      <a:pt x="808" y="405"/>
                    </a:lnTo>
                    <a:lnTo>
                      <a:pt x="808" y="425"/>
                    </a:lnTo>
                    <a:lnTo>
                      <a:pt x="805" y="447"/>
                    </a:lnTo>
                    <a:lnTo>
                      <a:pt x="803" y="466"/>
                    </a:lnTo>
                    <a:lnTo>
                      <a:pt x="799" y="486"/>
                    </a:lnTo>
                    <a:lnTo>
                      <a:pt x="796" y="505"/>
                    </a:lnTo>
                    <a:lnTo>
                      <a:pt x="790" y="525"/>
                    </a:lnTo>
                    <a:lnTo>
                      <a:pt x="784" y="544"/>
                    </a:lnTo>
                    <a:lnTo>
                      <a:pt x="776" y="562"/>
                    </a:lnTo>
                    <a:lnTo>
                      <a:pt x="768" y="580"/>
                    </a:lnTo>
                    <a:lnTo>
                      <a:pt x="758" y="597"/>
                    </a:lnTo>
                    <a:lnTo>
                      <a:pt x="749" y="615"/>
                    </a:lnTo>
                    <a:lnTo>
                      <a:pt x="738" y="630"/>
                    </a:lnTo>
                    <a:lnTo>
                      <a:pt x="727" y="646"/>
                    </a:lnTo>
                    <a:lnTo>
                      <a:pt x="715" y="661"/>
                    </a:lnTo>
                    <a:lnTo>
                      <a:pt x="702" y="676"/>
                    </a:lnTo>
                    <a:lnTo>
                      <a:pt x="689" y="690"/>
                    </a:lnTo>
                    <a:lnTo>
                      <a:pt x="676" y="703"/>
                    </a:lnTo>
                    <a:lnTo>
                      <a:pt x="660" y="717"/>
                    </a:lnTo>
                    <a:lnTo>
                      <a:pt x="646" y="729"/>
                    </a:lnTo>
                    <a:lnTo>
                      <a:pt x="629" y="739"/>
                    </a:lnTo>
                    <a:lnTo>
                      <a:pt x="613" y="750"/>
                    </a:lnTo>
                    <a:lnTo>
                      <a:pt x="596" y="760"/>
                    </a:lnTo>
                    <a:lnTo>
                      <a:pt x="578" y="769"/>
                    </a:lnTo>
                    <a:lnTo>
                      <a:pt x="560" y="777"/>
                    </a:lnTo>
                    <a:lnTo>
                      <a:pt x="542" y="784"/>
                    </a:lnTo>
                    <a:lnTo>
                      <a:pt x="523" y="791"/>
                    </a:lnTo>
                    <a:lnTo>
                      <a:pt x="504" y="796"/>
                    </a:lnTo>
                    <a:lnTo>
                      <a:pt x="485" y="801"/>
                    </a:lnTo>
                    <a:lnTo>
                      <a:pt x="466" y="804"/>
                    </a:lnTo>
                    <a:lnTo>
                      <a:pt x="445" y="807"/>
                    </a:lnTo>
                    <a:lnTo>
                      <a:pt x="425" y="809"/>
                    </a:lnTo>
                    <a:lnTo>
                      <a:pt x="403" y="809"/>
                    </a:lnTo>
                    <a:lnTo>
                      <a:pt x="383" y="809"/>
                    </a:lnTo>
                    <a:lnTo>
                      <a:pt x="362" y="807"/>
                    </a:lnTo>
                    <a:lnTo>
                      <a:pt x="342" y="804"/>
                    </a:lnTo>
                    <a:lnTo>
                      <a:pt x="323" y="801"/>
                    </a:lnTo>
                    <a:lnTo>
                      <a:pt x="302" y="796"/>
                    </a:lnTo>
                    <a:lnTo>
                      <a:pt x="283" y="791"/>
                    </a:lnTo>
                    <a:lnTo>
                      <a:pt x="265" y="784"/>
                    </a:lnTo>
                    <a:lnTo>
                      <a:pt x="246" y="777"/>
                    </a:lnTo>
                    <a:lnTo>
                      <a:pt x="229" y="769"/>
                    </a:lnTo>
                    <a:lnTo>
                      <a:pt x="211" y="760"/>
                    </a:lnTo>
                    <a:lnTo>
                      <a:pt x="194" y="750"/>
                    </a:lnTo>
                    <a:lnTo>
                      <a:pt x="178" y="739"/>
                    </a:lnTo>
                    <a:lnTo>
                      <a:pt x="162" y="729"/>
                    </a:lnTo>
                    <a:lnTo>
                      <a:pt x="146" y="717"/>
                    </a:lnTo>
                    <a:lnTo>
                      <a:pt x="132" y="703"/>
                    </a:lnTo>
                    <a:lnTo>
                      <a:pt x="118" y="690"/>
                    </a:lnTo>
                    <a:lnTo>
                      <a:pt x="104" y="676"/>
                    </a:lnTo>
                    <a:lnTo>
                      <a:pt x="92" y="661"/>
                    </a:lnTo>
                    <a:lnTo>
                      <a:pt x="80" y="646"/>
                    </a:lnTo>
                    <a:lnTo>
                      <a:pt x="68" y="630"/>
                    </a:lnTo>
                    <a:lnTo>
                      <a:pt x="58" y="615"/>
                    </a:lnTo>
                    <a:lnTo>
                      <a:pt x="48" y="597"/>
                    </a:lnTo>
                    <a:lnTo>
                      <a:pt x="40" y="580"/>
                    </a:lnTo>
                    <a:lnTo>
                      <a:pt x="31" y="562"/>
                    </a:lnTo>
                    <a:lnTo>
                      <a:pt x="24" y="544"/>
                    </a:lnTo>
                    <a:lnTo>
                      <a:pt x="18" y="525"/>
                    </a:lnTo>
                    <a:lnTo>
                      <a:pt x="12" y="505"/>
                    </a:lnTo>
                    <a:lnTo>
                      <a:pt x="7" y="486"/>
                    </a:lnTo>
                    <a:lnTo>
                      <a:pt x="4" y="466"/>
                    </a:lnTo>
                    <a:lnTo>
                      <a:pt x="1" y="447"/>
                    </a:lnTo>
                    <a:lnTo>
                      <a:pt x="0" y="425"/>
                    </a:lnTo>
                    <a:lnTo>
                      <a:pt x="0" y="405"/>
                    </a:lnTo>
                    <a:lnTo>
                      <a:pt x="0" y="384"/>
                    </a:lnTo>
                    <a:lnTo>
                      <a:pt x="1" y="364"/>
                    </a:lnTo>
                    <a:lnTo>
                      <a:pt x="4" y="343"/>
                    </a:lnTo>
                    <a:lnTo>
                      <a:pt x="7" y="323"/>
                    </a:lnTo>
                    <a:lnTo>
                      <a:pt x="12" y="304"/>
                    </a:lnTo>
                    <a:lnTo>
                      <a:pt x="18" y="285"/>
                    </a:lnTo>
                    <a:lnTo>
                      <a:pt x="24" y="267"/>
                    </a:lnTo>
                    <a:lnTo>
                      <a:pt x="31" y="247"/>
                    </a:lnTo>
                    <a:lnTo>
                      <a:pt x="40" y="229"/>
                    </a:lnTo>
                    <a:lnTo>
                      <a:pt x="48" y="213"/>
                    </a:lnTo>
                    <a:lnTo>
                      <a:pt x="58" y="196"/>
                    </a:lnTo>
                    <a:lnTo>
                      <a:pt x="68" y="179"/>
                    </a:lnTo>
                    <a:lnTo>
                      <a:pt x="80" y="163"/>
                    </a:lnTo>
                    <a:lnTo>
                      <a:pt x="92" y="148"/>
                    </a:lnTo>
                    <a:lnTo>
                      <a:pt x="104" y="133"/>
                    </a:lnTo>
                    <a:lnTo>
                      <a:pt x="118" y="119"/>
                    </a:lnTo>
                    <a:lnTo>
                      <a:pt x="132" y="106"/>
                    </a:lnTo>
                    <a:lnTo>
                      <a:pt x="146" y="93"/>
                    </a:lnTo>
                    <a:lnTo>
                      <a:pt x="162" y="81"/>
                    </a:lnTo>
                    <a:lnTo>
                      <a:pt x="178" y="70"/>
                    </a:lnTo>
                    <a:lnTo>
                      <a:pt x="194" y="59"/>
                    </a:lnTo>
                    <a:lnTo>
                      <a:pt x="211" y="50"/>
                    </a:lnTo>
                    <a:lnTo>
                      <a:pt x="229" y="41"/>
                    </a:lnTo>
                    <a:lnTo>
                      <a:pt x="246" y="33"/>
                    </a:lnTo>
                    <a:lnTo>
                      <a:pt x="265" y="26"/>
                    </a:lnTo>
                    <a:lnTo>
                      <a:pt x="283" y="20"/>
                    </a:lnTo>
                    <a:lnTo>
                      <a:pt x="302" y="14"/>
                    </a:lnTo>
                    <a:lnTo>
                      <a:pt x="323" y="9"/>
                    </a:lnTo>
                    <a:lnTo>
                      <a:pt x="342" y="5"/>
                    </a:lnTo>
                    <a:lnTo>
                      <a:pt x="362" y="3"/>
                    </a:lnTo>
                    <a:lnTo>
                      <a:pt x="383" y="2"/>
                    </a:lnTo>
                    <a:lnTo>
                      <a:pt x="403" y="0"/>
                    </a:lnTo>
                    <a:close/>
                  </a:path>
                </a:pathLst>
              </a:custGeom>
              <a:solidFill>
                <a:srgbClr val="c08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048360" y="4686480"/>
                <a:ext cx="317520" cy="317160"/>
              </a:xfrm>
              <a:custGeom>
                <a:avLst/>
                <a:gdLst/>
                <a:ahLst/>
                <a:rect l="l" t="t" r="r" b="b"/>
                <a:pathLst>
                  <a:path w="800" h="800">
                    <a:moveTo>
                      <a:pt x="400" y="0"/>
                    </a:moveTo>
                    <a:lnTo>
                      <a:pt x="421" y="0"/>
                    </a:lnTo>
                    <a:lnTo>
                      <a:pt x="441" y="1"/>
                    </a:lnTo>
                    <a:lnTo>
                      <a:pt x="460" y="3"/>
                    </a:lnTo>
                    <a:lnTo>
                      <a:pt x="481" y="7"/>
                    </a:lnTo>
                    <a:lnTo>
                      <a:pt x="500" y="12"/>
                    </a:lnTo>
                    <a:lnTo>
                      <a:pt x="519" y="18"/>
                    </a:lnTo>
                    <a:lnTo>
                      <a:pt x="537" y="24"/>
                    </a:lnTo>
                    <a:lnTo>
                      <a:pt x="555" y="31"/>
                    </a:lnTo>
                    <a:lnTo>
                      <a:pt x="573" y="39"/>
                    </a:lnTo>
                    <a:lnTo>
                      <a:pt x="591" y="48"/>
                    </a:lnTo>
                    <a:lnTo>
                      <a:pt x="608" y="57"/>
                    </a:lnTo>
                    <a:lnTo>
                      <a:pt x="624" y="68"/>
                    </a:lnTo>
                    <a:lnTo>
                      <a:pt x="639" y="79"/>
                    </a:lnTo>
                    <a:lnTo>
                      <a:pt x="655" y="91"/>
                    </a:lnTo>
                    <a:lnTo>
                      <a:pt x="669" y="103"/>
                    </a:lnTo>
                    <a:lnTo>
                      <a:pt x="684" y="117"/>
                    </a:lnTo>
                    <a:lnTo>
                      <a:pt x="697" y="130"/>
                    </a:lnTo>
                    <a:lnTo>
                      <a:pt x="709" y="145"/>
                    </a:lnTo>
                    <a:lnTo>
                      <a:pt x="721" y="160"/>
                    </a:lnTo>
                    <a:lnTo>
                      <a:pt x="732" y="176"/>
                    </a:lnTo>
                    <a:lnTo>
                      <a:pt x="742" y="193"/>
                    </a:lnTo>
                    <a:lnTo>
                      <a:pt x="752" y="208"/>
                    </a:lnTo>
                    <a:lnTo>
                      <a:pt x="760" y="226"/>
                    </a:lnTo>
                    <a:lnTo>
                      <a:pt x="769" y="244"/>
                    </a:lnTo>
                    <a:lnTo>
                      <a:pt x="776" y="262"/>
                    </a:lnTo>
                    <a:lnTo>
                      <a:pt x="782" y="280"/>
                    </a:lnTo>
                    <a:lnTo>
                      <a:pt x="788" y="299"/>
                    </a:lnTo>
                    <a:lnTo>
                      <a:pt x="793" y="319"/>
                    </a:lnTo>
                    <a:lnTo>
                      <a:pt x="796" y="339"/>
                    </a:lnTo>
                    <a:lnTo>
                      <a:pt x="799" y="358"/>
                    </a:lnTo>
                    <a:lnTo>
                      <a:pt x="800" y="379"/>
                    </a:lnTo>
                    <a:lnTo>
                      <a:pt x="800" y="399"/>
                    </a:lnTo>
                    <a:lnTo>
                      <a:pt x="800" y="419"/>
                    </a:lnTo>
                    <a:lnTo>
                      <a:pt x="799" y="440"/>
                    </a:lnTo>
                    <a:lnTo>
                      <a:pt x="796" y="460"/>
                    </a:lnTo>
                    <a:lnTo>
                      <a:pt x="793" y="479"/>
                    </a:lnTo>
                    <a:lnTo>
                      <a:pt x="788" y="500"/>
                    </a:lnTo>
                    <a:lnTo>
                      <a:pt x="782" y="518"/>
                    </a:lnTo>
                    <a:lnTo>
                      <a:pt x="776" y="537"/>
                    </a:lnTo>
                    <a:lnTo>
                      <a:pt x="769" y="555"/>
                    </a:lnTo>
                    <a:lnTo>
                      <a:pt x="760" y="573"/>
                    </a:lnTo>
                    <a:lnTo>
                      <a:pt x="752" y="590"/>
                    </a:lnTo>
                    <a:lnTo>
                      <a:pt x="742" y="607"/>
                    </a:lnTo>
                    <a:lnTo>
                      <a:pt x="732" y="623"/>
                    </a:lnTo>
                    <a:lnTo>
                      <a:pt x="721" y="639"/>
                    </a:lnTo>
                    <a:lnTo>
                      <a:pt x="709" y="653"/>
                    </a:lnTo>
                    <a:lnTo>
                      <a:pt x="697" y="668"/>
                    </a:lnTo>
                    <a:lnTo>
                      <a:pt x="684" y="682"/>
                    </a:lnTo>
                    <a:lnTo>
                      <a:pt x="669" y="695"/>
                    </a:lnTo>
                    <a:lnTo>
                      <a:pt x="655" y="709"/>
                    </a:lnTo>
                    <a:lnTo>
                      <a:pt x="639" y="721"/>
                    </a:lnTo>
                    <a:lnTo>
                      <a:pt x="624" y="731"/>
                    </a:lnTo>
                    <a:lnTo>
                      <a:pt x="608" y="742"/>
                    </a:lnTo>
                    <a:lnTo>
                      <a:pt x="591" y="752"/>
                    </a:lnTo>
                    <a:lnTo>
                      <a:pt x="573" y="760"/>
                    </a:lnTo>
                    <a:lnTo>
                      <a:pt x="555" y="769"/>
                    </a:lnTo>
                    <a:lnTo>
                      <a:pt x="537" y="776"/>
                    </a:lnTo>
                    <a:lnTo>
                      <a:pt x="519" y="782"/>
                    </a:lnTo>
                    <a:lnTo>
                      <a:pt x="500" y="787"/>
                    </a:lnTo>
                    <a:lnTo>
                      <a:pt x="481" y="791"/>
                    </a:lnTo>
                    <a:lnTo>
                      <a:pt x="460" y="795"/>
                    </a:lnTo>
                    <a:lnTo>
                      <a:pt x="441" y="797"/>
                    </a:lnTo>
                    <a:lnTo>
                      <a:pt x="421" y="800"/>
                    </a:lnTo>
                    <a:lnTo>
                      <a:pt x="400" y="800"/>
                    </a:lnTo>
                    <a:lnTo>
                      <a:pt x="380" y="800"/>
                    </a:lnTo>
                    <a:lnTo>
                      <a:pt x="360" y="797"/>
                    </a:lnTo>
                    <a:lnTo>
                      <a:pt x="339" y="795"/>
                    </a:lnTo>
                    <a:lnTo>
                      <a:pt x="320" y="791"/>
                    </a:lnTo>
                    <a:lnTo>
                      <a:pt x="301" y="787"/>
                    </a:lnTo>
                    <a:lnTo>
                      <a:pt x="282" y="782"/>
                    </a:lnTo>
                    <a:lnTo>
                      <a:pt x="262" y="776"/>
                    </a:lnTo>
                    <a:lnTo>
                      <a:pt x="244" y="769"/>
                    </a:lnTo>
                    <a:lnTo>
                      <a:pt x="226" y="760"/>
                    </a:lnTo>
                    <a:lnTo>
                      <a:pt x="210" y="752"/>
                    </a:lnTo>
                    <a:lnTo>
                      <a:pt x="193" y="742"/>
                    </a:lnTo>
                    <a:lnTo>
                      <a:pt x="176" y="731"/>
                    </a:lnTo>
                    <a:lnTo>
                      <a:pt x="160" y="721"/>
                    </a:lnTo>
                    <a:lnTo>
                      <a:pt x="146" y="709"/>
                    </a:lnTo>
                    <a:lnTo>
                      <a:pt x="132" y="695"/>
                    </a:lnTo>
                    <a:lnTo>
                      <a:pt x="117" y="682"/>
                    </a:lnTo>
                    <a:lnTo>
                      <a:pt x="104" y="668"/>
                    </a:lnTo>
                    <a:lnTo>
                      <a:pt x="91" y="653"/>
                    </a:lnTo>
                    <a:lnTo>
                      <a:pt x="80" y="639"/>
                    </a:lnTo>
                    <a:lnTo>
                      <a:pt x="68" y="623"/>
                    </a:lnTo>
                    <a:lnTo>
                      <a:pt x="58" y="607"/>
                    </a:lnTo>
                    <a:lnTo>
                      <a:pt x="48" y="590"/>
                    </a:lnTo>
                    <a:lnTo>
                      <a:pt x="39" y="573"/>
                    </a:lnTo>
                    <a:lnTo>
                      <a:pt x="31" y="555"/>
                    </a:lnTo>
                    <a:lnTo>
                      <a:pt x="24" y="537"/>
                    </a:lnTo>
                    <a:lnTo>
                      <a:pt x="18" y="518"/>
                    </a:lnTo>
                    <a:lnTo>
                      <a:pt x="13" y="500"/>
                    </a:lnTo>
                    <a:lnTo>
                      <a:pt x="8" y="479"/>
                    </a:lnTo>
                    <a:lnTo>
                      <a:pt x="4" y="460"/>
                    </a:lnTo>
                    <a:lnTo>
                      <a:pt x="2" y="440"/>
                    </a:lnTo>
                    <a:lnTo>
                      <a:pt x="1" y="419"/>
                    </a:lnTo>
                    <a:lnTo>
                      <a:pt x="0" y="399"/>
                    </a:lnTo>
                    <a:lnTo>
                      <a:pt x="1" y="379"/>
                    </a:lnTo>
                    <a:lnTo>
                      <a:pt x="2" y="358"/>
                    </a:lnTo>
                    <a:lnTo>
                      <a:pt x="4" y="339"/>
                    </a:lnTo>
                    <a:lnTo>
                      <a:pt x="8" y="319"/>
                    </a:lnTo>
                    <a:lnTo>
                      <a:pt x="13" y="299"/>
                    </a:lnTo>
                    <a:lnTo>
                      <a:pt x="18" y="280"/>
                    </a:lnTo>
                    <a:lnTo>
                      <a:pt x="24" y="262"/>
                    </a:lnTo>
                    <a:lnTo>
                      <a:pt x="31" y="244"/>
                    </a:lnTo>
                    <a:lnTo>
                      <a:pt x="39" y="226"/>
                    </a:lnTo>
                    <a:lnTo>
                      <a:pt x="48" y="208"/>
                    </a:lnTo>
                    <a:lnTo>
                      <a:pt x="58" y="193"/>
                    </a:lnTo>
                    <a:lnTo>
                      <a:pt x="68" y="176"/>
                    </a:lnTo>
                    <a:lnTo>
                      <a:pt x="80" y="160"/>
                    </a:lnTo>
                    <a:lnTo>
                      <a:pt x="91" y="145"/>
                    </a:lnTo>
                    <a:lnTo>
                      <a:pt x="104" y="130"/>
                    </a:lnTo>
                    <a:lnTo>
                      <a:pt x="117" y="117"/>
                    </a:lnTo>
                    <a:lnTo>
                      <a:pt x="132" y="103"/>
                    </a:lnTo>
                    <a:lnTo>
                      <a:pt x="146" y="91"/>
                    </a:lnTo>
                    <a:lnTo>
                      <a:pt x="160" y="79"/>
                    </a:lnTo>
                    <a:lnTo>
                      <a:pt x="176" y="68"/>
                    </a:lnTo>
                    <a:lnTo>
                      <a:pt x="193" y="57"/>
                    </a:lnTo>
                    <a:lnTo>
                      <a:pt x="210" y="48"/>
                    </a:lnTo>
                    <a:lnTo>
                      <a:pt x="226" y="39"/>
                    </a:lnTo>
                    <a:lnTo>
                      <a:pt x="244" y="31"/>
                    </a:lnTo>
                    <a:lnTo>
                      <a:pt x="262" y="24"/>
                    </a:lnTo>
                    <a:lnTo>
                      <a:pt x="282" y="18"/>
                    </a:lnTo>
                    <a:lnTo>
                      <a:pt x="301" y="12"/>
                    </a:lnTo>
                    <a:lnTo>
                      <a:pt x="320" y="7"/>
                    </a:lnTo>
                    <a:lnTo>
                      <a:pt x="339" y="3"/>
                    </a:lnTo>
                    <a:lnTo>
                      <a:pt x="360" y="1"/>
                    </a:lnTo>
                    <a:lnTo>
                      <a:pt x="380" y="0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c48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049800" y="4687920"/>
                <a:ext cx="314280" cy="314280"/>
              </a:xfrm>
              <a:custGeom>
                <a:avLst/>
                <a:gdLst/>
                <a:ahLst/>
                <a:rect l="l" t="t" r="r" b="b"/>
                <a:pathLst>
                  <a:path w="794" h="793">
                    <a:moveTo>
                      <a:pt x="396" y="0"/>
                    </a:moveTo>
                    <a:lnTo>
                      <a:pt x="417" y="0"/>
                    </a:lnTo>
                    <a:lnTo>
                      <a:pt x="437" y="2"/>
                    </a:lnTo>
                    <a:lnTo>
                      <a:pt x="456" y="4"/>
                    </a:lnTo>
                    <a:lnTo>
                      <a:pt x="477" y="8"/>
                    </a:lnTo>
                    <a:lnTo>
                      <a:pt x="496" y="12"/>
                    </a:lnTo>
                    <a:lnTo>
                      <a:pt x="514" y="18"/>
                    </a:lnTo>
                    <a:lnTo>
                      <a:pt x="533" y="24"/>
                    </a:lnTo>
                    <a:lnTo>
                      <a:pt x="551" y="31"/>
                    </a:lnTo>
                    <a:lnTo>
                      <a:pt x="568" y="39"/>
                    </a:lnTo>
                    <a:lnTo>
                      <a:pt x="586" y="48"/>
                    </a:lnTo>
                    <a:lnTo>
                      <a:pt x="602" y="57"/>
                    </a:lnTo>
                    <a:lnTo>
                      <a:pt x="618" y="67"/>
                    </a:lnTo>
                    <a:lnTo>
                      <a:pt x="634" y="79"/>
                    </a:lnTo>
                    <a:lnTo>
                      <a:pt x="648" y="91"/>
                    </a:lnTo>
                    <a:lnTo>
                      <a:pt x="663" y="103"/>
                    </a:lnTo>
                    <a:lnTo>
                      <a:pt x="677" y="116"/>
                    </a:lnTo>
                    <a:lnTo>
                      <a:pt x="690" y="129"/>
                    </a:lnTo>
                    <a:lnTo>
                      <a:pt x="702" y="143"/>
                    </a:lnTo>
                    <a:lnTo>
                      <a:pt x="714" y="159"/>
                    </a:lnTo>
                    <a:lnTo>
                      <a:pt x="725" y="175"/>
                    </a:lnTo>
                    <a:lnTo>
                      <a:pt x="736" y="190"/>
                    </a:lnTo>
                    <a:lnTo>
                      <a:pt x="746" y="207"/>
                    </a:lnTo>
                    <a:lnTo>
                      <a:pt x="754" y="224"/>
                    </a:lnTo>
                    <a:lnTo>
                      <a:pt x="762" y="242"/>
                    </a:lnTo>
                    <a:lnTo>
                      <a:pt x="770" y="260"/>
                    </a:lnTo>
                    <a:lnTo>
                      <a:pt x="776" y="278"/>
                    </a:lnTo>
                    <a:lnTo>
                      <a:pt x="780" y="297"/>
                    </a:lnTo>
                    <a:lnTo>
                      <a:pt x="785" y="316"/>
                    </a:lnTo>
                    <a:lnTo>
                      <a:pt x="789" y="335"/>
                    </a:lnTo>
                    <a:lnTo>
                      <a:pt x="791" y="356"/>
                    </a:lnTo>
                    <a:lnTo>
                      <a:pt x="792" y="375"/>
                    </a:lnTo>
                    <a:lnTo>
                      <a:pt x="794" y="395"/>
                    </a:lnTo>
                    <a:lnTo>
                      <a:pt x="792" y="416"/>
                    </a:lnTo>
                    <a:lnTo>
                      <a:pt x="791" y="436"/>
                    </a:lnTo>
                    <a:lnTo>
                      <a:pt x="789" y="457"/>
                    </a:lnTo>
                    <a:lnTo>
                      <a:pt x="785" y="476"/>
                    </a:lnTo>
                    <a:lnTo>
                      <a:pt x="780" y="495"/>
                    </a:lnTo>
                    <a:lnTo>
                      <a:pt x="776" y="514"/>
                    </a:lnTo>
                    <a:lnTo>
                      <a:pt x="770" y="532"/>
                    </a:lnTo>
                    <a:lnTo>
                      <a:pt x="762" y="550"/>
                    </a:lnTo>
                    <a:lnTo>
                      <a:pt x="754" y="568"/>
                    </a:lnTo>
                    <a:lnTo>
                      <a:pt x="746" y="585"/>
                    </a:lnTo>
                    <a:lnTo>
                      <a:pt x="736" y="602"/>
                    </a:lnTo>
                    <a:lnTo>
                      <a:pt x="725" y="617"/>
                    </a:lnTo>
                    <a:lnTo>
                      <a:pt x="714" y="633"/>
                    </a:lnTo>
                    <a:lnTo>
                      <a:pt x="702" y="649"/>
                    </a:lnTo>
                    <a:lnTo>
                      <a:pt x="690" y="663"/>
                    </a:lnTo>
                    <a:lnTo>
                      <a:pt x="677" y="676"/>
                    </a:lnTo>
                    <a:lnTo>
                      <a:pt x="663" y="689"/>
                    </a:lnTo>
                    <a:lnTo>
                      <a:pt x="648" y="701"/>
                    </a:lnTo>
                    <a:lnTo>
                      <a:pt x="634" y="713"/>
                    </a:lnTo>
                    <a:lnTo>
                      <a:pt x="618" y="724"/>
                    </a:lnTo>
                    <a:lnTo>
                      <a:pt x="602" y="735"/>
                    </a:lnTo>
                    <a:lnTo>
                      <a:pt x="586" y="745"/>
                    </a:lnTo>
                    <a:lnTo>
                      <a:pt x="568" y="753"/>
                    </a:lnTo>
                    <a:lnTo>
                      <a:pt x="551" y="761"/>
                    </a:lnTo>
                    <a:lnTo>
                      <a:pt x="533" y="769"/>
                    </a:lnTo>
                    <a:lnTo>
                      <a:pt x="514" y="775"/>
                    </a:lnTo>
                    <a:lnTo>
                      <a:pt x="496" y="781"/>
                    </a:lnTo>
                    <a:lnTo>
                      <a:pt x="477" y="784"/>
                    </a:lnTo>
                    <a:lnTo>
                      <a:pt x="456" y="788"/>
                    </a:lnTo>
                    <a:lnTo>
                      <a:pt x="437" y="790"/>
                    </a:lnTo>
                    <a:lnTo>
                      <a:pt x="417" y="793"/>
                    </a:lnTo>
                    <a:lnTo>
                      <a:pt x="396" y="793"/>
                    </a:lnTo>
                    <a:lnTo>
                      <a:pt x="376" y="793"/>
                    </a:lnTo>
                    <a:lnTo>
                      <a:pt x="356" y="790"/>
                    </a:lnTo>
                    <a:lnTo>
                      <a:pt x="336" y="788"/>
                    </a:lnTo>
                    <a:lnTo>
                      <a:pt x="317" y="784"/>
                    </a:lnTo>
                    <a:lnTo>
                      <a:pt x="298" y="781"/>
                    </a:lnTo>
                    <a:lnTo>
                      <a:pt x="279" y="775"/>
                    </a:lnTo>
                    <a:lnTo>
                      <a:pt x="261" y="769"/>
                    </a:lnTo>
                    <a:lnTo>
                      <a:pt x="243" y="761"/>
                    </a:lnTo>
                    <a:lnTo>
                      <a:pt x="225" y="753"/>
                    </a:lnTo>
                    <a:lnTo>
                      <a:pt x="208" y="745"/>
                    </a:lnTo>
                    <a:lnTo>
                      <a:pt x="191" y="735"/>
                    </a:lnTo>
                    <a:lnTo>
                      <a:pt x="176" y="724"/>
                    </a:lnTo>
                    <a:lnTo>
                      <a:pt x="160" y="713"/>
                    </a:lnTo>
                    <a:lnTo>
                      <a:pt x="144" y="701"/>
                    </a:lnTo>
                    <a:lnTo>
                      <a:pt x="130" y="689"/>
                    </a:lnTo>
                    <a:lnTo>
                      <a:pt x="117" y="676"/>
                    </a:lnTo>
                    <a:lnTo>
                      <a:pt x="104" y="663"/>
                    </a:lnTo>
                    <a:lnTo>
                      <a:pt x="90" y="649"/>
                    </a:lnTo>
                    <a:lnTo>
                      <a:pt x="78" y="633"/>
                    </a:lnTo>
                    <a:lnTo>
                      <a:pt x="68" y="617"/>
                    </a:lnTo>
                    <a:lnTo>
                      <a:pt x="58" y="602"/>
                    </a:lnTo>
                    <a:lnTo>
                      <a:pt x="48" y="585"/>
                    </a:lnTo>
                    <a:lnTo>
                      <a:pt x="39" y="568"/>
                    </a:lnTo>
                    <a:lnTo>
                      <a:pt x="32" y="550"/>
                    </a:lnTo>
                    <a:lnTo>
                      <a:pt x="24" y="532"/>
                    </a:lnTo>
                    <a:lnTo>
                      <a:pt x="18" y="514"/>
                    </a:lnTo>
                    <a:lnTo>
                      <a:pt x="12" y="495"/>
                    </a:lnTo>
                    <a:lnTo>
                      <a:pt x="8" y="476"/>
                    </a:lnTo>
                    <a:lnTo>
                      <a:pt x="4" y="457"/>
                    </a:lnTo>
                    <a:lnTo>
                      <a:pt x="2" y="436"/>
                    </a:lnTo>
                    <a:lnTo>
                      <a:pt x="0" y="416"/>
                    </a:lnTo>
                    <a:lnTo>
                      <a:pt x="0" y="395"/>
                    </a:lnTo>
                    <a:lnTo>
                      <a:pt x="0" y="375"/>
                    </a:lnTo>
                    <a:lnTo>
                      <a:pt x="2" y="356"/>
                    </a:lnTo>
                    <a:lnTo>
                      <a:pt x="4" y="335"/>
                    </a:lnTo>
                    <a:lnTo>
                      <a:pt x="8" y="316"/>
                    </a:lnTo>
                    <a:lnTo>
                      <a:pt x="12" y="297"/>
                    </a:lnTo>
                    <a:lnTo>
                      <a:pt x="18" y="278"/>
                    </a:lnTo>
                    <a:lnTo>
                      <a:pt x="24" y="260"/>
                    </a:lnTo>
                    <a:lnTo>
                      <a:pt x="32" y="242"/>
                    </a:lnTo>
                    <a:lnTo>
                      <a:pt x="39" y="224"/>
                    </a:lnTo>
                    <a:lnTo>
                      <a:pt x="48" y="207"/>
                    </a:lnTo>
                    <a:lnTo>
                      <a:pt x="58" y="190"/>
                    </a:lnTo>
                    <a:lnTo>
                      <a:pt x="68" y="175"/>
                    </a:lnTo>
                    <a:lnTo>
                      <a:pt x="78" y="159"/>
                    </a:lnTo>
                    <a:lnTo>
                      <a:pt x="90" y="143"/>
                    </a:lnTo>
                    <a:lnTo>
                      <a:pt x="104" y="129"/>
                    </a:lnTo>
                    <a:lnTo>
                      <a:pt x="117" y="116"/>
                    </a:lnTo>
                    <a:lnTo>
                      <a:pt x="130" y="103"/>
                    </a:lnTo>
                    <a:lnTo>
                      <a:pt x="144" y="91"/>
                    </a:lnTo>
                    <a:lnTo>
                      <a:pt x="160" y="79"/>
                    </a:lnTo>
                    <a:lnTo>
                      <a:pt x="176" y="67"/>
                    </a:lnTo>
                    <a:lnTo>
                      <a:pt x="191" y="57"/>
                    </a:lnTo>
                    <a:lnTo>
                      <a:pt x="208" y="48"/>
                    </a:lnTo>
                    <a:lnTo>
                      <a:pt x="225" y="39"/>
                    </a:lnTo>
                    <a:lnTo>
                      <a:pt x="243" y="31"/>
                    </a:lnTo>
                    <a:lnTo>
                      <a:pt x="261" y="24"/>
                    </a:lnTo>
                    <a:lnTo>
                      <a:pt x="279" y="18"/>
                    </a:lnTo>
                    <a:lnTo>
                      <a:pt x="298" y="12"/>
                    </a:lnTo>
                    <a:lnTo>
                      <a:pt x="317" y="8"/>
                    </a:lnTo>
                    <a:lnTo>
                      <a:pt x="336" y="4"/>
                    </a:lnTo>
                    <a:lnTo>
                      <a:pt x="356" y="2"/>
                    </a:lnTo>
                    <a:lnTo>
                      <a:pt x="376" y="0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ca8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051600" y="4691160"/>
                <a:ext cx="312480" cy="311040"/>
              </a:xfrm>
              <a:custGeom>
                <a:avLst/>
                <a:gdLst/>
                <a:ahLst/>
                <a:rect l="l" t="t" r="r" b="b"/>
                <a:pathLst>
                  <a:path w="786" h="785">
                    <a:moveTo>
                      <a:pt x="394" y="0"/>
                    </a:moveTo>
                    <a:lnTo>
                      <a:pt x="413" y="1"/>
                    </a:lnTo>
                    <a:lnTo>
                      <a:pt x="433" y="2"/>
                    </a:lnTo>
                    <a:lnTo>
                      <a:pt x="452" y="4"/>
                    </a:lnTo>
                    <a:lnTo>
                      <a:pt x="473" y="8"/>
                    </a:lnTo>
                    <a:lnTo>
                      <a:pt x="491" y="12"/>
                    </a:lnTo>
                    <a:lnTo>
                      <a:pt x="510" y="18"/>
                    </a:lnTo>
                    <a:lnTo>
                      <a:pt x="528" y="24"/>
                    </a:lnTo>
                    <a:lnTo>
                      <a:pt x="546" y="31"/>
                    </a:lnTo>
                    <a:lnTo>
                      <a:pt x="563" y="38"/>
                    </a:lnTo>
                    <a:lnTo>
                      <a:pt x="581" y="48"/>
                    </a:lnTo>
                    <a:lnTo>
                      <a:pt x="596" y="57"/>
                    </a:lnTo>
                    <a:lnTo>
                      <a:pt x="613" y="67"/>
                    </a:lnTo>
                    <a:lnTo>
                      <a:pt x="628" y="78"/>
                    </a:lnTo>
                    <a:lnTo>
                      <a:pt x="643" y="89"/>
                    </a:lnTo>
                    <a:lnTo>
                      <a:pt x="658" y="101"/>
                    </a:lnTo>
                    <a:lnTo>
                      <a:pt x="671" y="115"/>
                    </a:lnTo>
                    <a:lnTo>
                      <a:pt x="684" y="129"/>
                    </a:lnTo>
                    <a:lnTo>
                      <a:pt x="696" y="142"/>
                    </a:lnTo>
                    <a:lnTo>
                      <a:pt x="708" y="158"/>
                    </a:lnTo>
                    <a:lnTo>
                      <a:pt x="719" y="173"/>
                    </a:lnTo>
                    <a:lnTo>
                      <a:pt x="730" y="189"/>
                    </a:lnTo>
                    <a:lnTo>
                      <a:pt x="739" y="206"/>
                    </a:lnTo>
                    <a:lnTo>
                      <a:pt x="748" y="223"/>
                    </a:lnTo>
                    <a:lnTo>
                      <a:pt x="755" y="239"/>
                    </a:lnTo>
                    <a:lnTo>
                      <a:pt x="762" y="257"/>
                    </a:lnTo>
                    <a:lnTo>
                      <a:pt x="768" y="275"/>
                    </a:lnTo>
                    <a:lnTo>
                      <a:pt x="774" y="295"/>
                    </a:lnTo>
                    <a:lnTo>
                      <a:pt x="778" y="314"/>
                    </a:lnTo>
                    <a:lnTo>
                      <a:pt x="781" y="333"/>
                    </a:lnTo>
                    <a:lnTo>
                      <a:pt x="784" y="352"/>
                    </a:lnTo>
                    <a:lnTo>
                      <a:pt x="786" y="373"/>
                    </a:lnTo>
                    <a:lnTo>
                      <a:pt x="786" y="393"/>
                    </a:lnTo>
                    <a:lnTo>
                      <a:pt x="786" y="412"/>
                    </a:lnTo>
                    <a:lnTo>
                      <a:pt x="784" y="433"/>
                    </a:lnTo>
                    <a:lnTo>
                      <a:pt x="781" y="452"/>
                    </a:lnTo>
                    <a:lnTo>
                      <a:pt x="778" y="471"/>
                    </a:lnTo>
                    <a:lnTo>
                      <a:pt x="774" y="490"/>
                    </a:lnTo>
                    <a:lnTo>
                      <a:pt x="768" y="509"/>
                    </a:lnTo>
                    <a:lnTo>
                      <a:pt x="762" y="527"/>
                    </a:lnTo>
                    <a:lnTo>
                      <a:pt x="755" y="545"/>
                    </a:lnTo>
                    <a:lnTo>
                      <a:pt x="748" y="562"/>
                    </a:lnTo>
                    <a:lnTo>
                      <a:pt x="739" y="580"/>
                    </a:lnTo>
                    <a:lnTo>
                      <a:pt x="730" y="596"/>
                    </a:lnTo>
                    <a:lnTo>
                      <a:pt x="719" y="613"/>
                    </a:lnTo>
                    <a:lnTo>
                      <a:pt x="708" y="627"/>
                    </a:lnTo>
                    <a:lnTo>
                      <a:pt x="696" y="643"/>
                    </a:lnTo>
                    <a:lnTo>
                      <a:pt x="684" y="657"/>
                    </a:lnTo>
                    <a:lnTo>
                      <a:pt x="671" y="670"/>
                    </a:lnTo>
                    <a:lnTo>
                      <a:pt x="658" y="683"/>
                    </a:lnTo>
                    <a:lnTo>
                      <a:pt x="643" y="695"/>
                    </a:lnTo>
                    <a:lnTo>
                      <a:pt x="628" y="707"/>
                    </a:lnTo>
                    <a:lnTo>
                      <a:pt x="613" y="718"/>
                    </a:lnTo>
                    <a:lnTo>
                      <a:pt x="596" y="729"/>
                    </a:lnTo>
                    <a:lnTo>
                      <a:pt x="581" y="737"/>
                    </a:lnTo>
                    <a:lnTo>
                      <a:pt x="563" y="747"/>
                    </a:lnTo>
                    <a:lnTo>
                      <a:pt x="546" y="754"/>
                    </a:lnTo>
                    <a:lnTo>
                      <a:pt x="528" y="761"/>
                    </a:lnTo>
                    <a:lnTo>
                      <a:pt x="510" y="767"/>
                    </a:lnTo>
                    <a:lnTo>
                      <a:pt x="491" y="773"/>
                    </a:lnTo>
                    <a:lnTo>
                      <a:pt x="473" y="777"/>
                    </a:lnTo>
                    <a:lnTo>
                      <a:pt x="452" y="781"/>
                    </a:lnTo>
                    <a:lnTo>
                      <a:pt x="433" y="783"/>
                    </a:lnTo>
                    <a:lnTo>
                      <a:pt x="413" y="785"/>
                    </a:lnTo>
                    <a:lnTo>
                      <a:pt x="394" y="785"/>
                    </a:lnTo>
                    <a:lnTo>
                      <a:pt x="373" y="785"/>
                    </a:lnTo>
                    <a:lnTo>
                      <a:pt x="353" y="783"/>
                    </a:lnTo>
                    <a:lnTo>
                      <a:pt x="334" y="781"/>
                    </a:lnTo>
                    <a:lnTo>
                      <a:pt x="314" y="777"/>
                    </a:lnTo>
                    <a:lnTo>
                      <a:pt x="295" y="773"/>
                    </a:lnTo>
                    <a:lnTo>
                      <a:pt x="276" y="767"/>
                    </a:lnTo>
                    <a:lnTo>
                      <a:pt x="258" y="761"/>
                    </a:lnTo>
                    <a:lnTo>
                      <a:pt x="240" y="754"/>
                    </a:lnTo>
                    <a:lnTo>
                      <a:pt x="223" y="747"/>
                    </a:lnTo>
                    <a:lnTo>
                      <a:pt x="206" y="737"/>
                    </a:lnTo>
                    <a:lnTo>
                      <a:pt x="190" y="729"/>
                    </a:lnTo>
                    <a:lnTo>
                      <a:pt x="174" y="718"/>
                    </a:lnTo>
                    <a:lnTo>
                      <a:pt x="158" y="707"/>
                    </a:lnTo>
                    <a:lnTo>
                      <a:pt x="144" y="695"/>
                    </a:lnTo>
                    <a:lnTo>
                      <a:pt x="130" y="683"/>
                    </a:lnTo>
                    <a:lnTo>
                      <a:pt x="115" y="670"/>
                    </a:lnTo>
                    <a:lnTo>
                      <a:pt x="102" y="657"/>
                    </a:lnTo>
                    <a:lnTo>
                      <a:pt x="90" y="643"/>
                    </a:lnTo>
                    <a:lnTo>
                      <a:pt x="78" y="627"/>
                    </a:lnTo>
                    <a:lnTo>
                      <a:pt x="67" y="613"/>
                    </a:lnTo>
                    <a:lnTo>
                      <a:pt x="58" y="596"/>
                    </a:lnTo>
                    <a:lnTo>
                      <a:pt x="48" y="580"/>
                    </a:lnTo>
                    <a:lnTo>
                      <a:pt x="40" y="562"/>
                    </a:lnTo>
                    <a:lnTo>
                      <a:pt x="31" y="545"/>
                    </a:lnTo>
                    <a:lnTo>
                      <a:pt x="24" y="527"/>
                    </a:lnTo>
                    <a:lnTo>
                      <a:pt x="18" y="509"/>
                    </a:lnTo>
                    <a:lnTo>
                      <a:pt x="12" y="490"/>
                    </a:lnTo>
                    <a:lnTo>
                      <a:pt x="8" y="471"/>
                    </a:lnTo>
                    <a:lnTo>
                      <a:pt x="5" y="452"/>
                    </a:lnTo>
                    <a:lnTo>
                      <a:pt x="2" y="433"/>
                    </a:lnTo>
                    <a:lnTo>
                      <a:pt x="1" y="412"/>
                    </a:lnTo>
                    <a:lnTo>
                      <a:pt x="0" y="393"/>
                    </a:lnTo>
                    <a:lnTo>
                      <a:pt x="1" y="373"/>
                    </a:lnTo>
                    <a:lnTo>
                      <a:pt x="2" y="352"/>
                    </a:lnTo>
                    <a:lnTo>
                      <a:pt x="5" y="333"/>
                    </a:lnTo>
                    <a:lnTo>
                      <a:pt x="8" y="314"/>
                    </a:lnTo>
                    <a:lnTo>
                      <a:pt x="12" y="295"/>
                    </a:lnTo>
                    <a:lnTo>
                      <a:pt x="18" y="275"/>
                    </a:lnTo>
                    <a:lnTo>
                      <a:pt x="24" y="257"/>
                    </a:lnTo>
                    <a:lnTo>
                      <a:pt x="31" y="239"/>
                    </a:lnTo>
                    <a:lnTo>
                      <a:pt x="40" y="223"/>
                    </a:lnTo>
                    <a:lnTo>
                      <a:pt x="48" y="206"/>
                    </a:lnTo>
                    <a:lnTo>
                      <a:pt x="58" y="189"/>
                    </a:lnTo>
                    <a:lnTo>
                      <a:pt x="67" y="173"/>
                    </a:lnTo>
                    <a:lnTo>
                      <a:pt x="78" y="158"/>
                    </a:lnTo>
                    <a:lnTo>
                      <a:pt x="90" y="142"/>
                    </a:lnTo>
                    <a:lnTo>
                      <a:pt x="102" y="129"/>
                    </a:lnTo>
                    <a:lnTo>
                      <a:pt x="115" y="115"/>
                    </a:lnTo>
                    <a:lnTo>
                      <a:pt x="130" y="101"/>
                    </a:lnTo>
                    <a:lnTo>
                      <a:pt x="144" y="89"/>
                    </a:lnTo>
                    <a:lnTo>
                      <a:pt x="158" y="78"/>
                    </a:lnTo>
                    <a:lnTo>
                      <a:pt x="174" y="67"/>
                    </a:lnTo>
                    <a:lnTo>
                      <a:pt x="190" y="57"/>
                    </a:lnTo>
                    <a:lnTo>
                      <a:pt x="206" y="48"/>
                    </a:lnTo>
                    <a:lnTo>
                      <a:pt x="223" y="38"/>
                    </a:lnTo>
                    <a:lnTo>
                      <a:pt x="240" y="31"/>
                    </a:lnTo>
                    <a:lnTo>
                      <a:pt x="258" y="24"/>
                    </a:lnTo>
                    <a:lnTo>
                      <a:pt x="276" y="18"/>
                    </a:lnTo>
                    <a:lnTo>
                      <a:pt x="295" y="12"/>
                    </a:lnTo>
                    <a:lnTo>
                      <a:pt x="314" y="8"/>
                    </a:lnTo>
                    <a:lnTo>
                      <a:pt x="334" y="4"/>
                    </a:lnTo>
                    <a:lnTo>
                      <a:pt x="353" y="2"/>
                    </a:lnTo>
                    <a:lnTo>
                      <a:pt x="373" y="1"/>
                    </a:lnTo>
                    <a:lnTo>
                      <a:pt x="394" y="0"/>
                    </a:lnTo>
                    <a:close/>
                  </a:path>
                </a:pathLst>
              </a:custGeom>
              <a:solidFill>
                <a:srgbClr val="cc8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053040" y="4692600"/>
                <a:ext cx="309600" cy="309600"/>
              </a:xfrm>
              <a:custGeom>
                <a:avLst/>
                <a:gdLst/>
                <a:ahLst/>
                <a:rect l="l" t="t" r="r" b="b"/>
                <a:pathLst>
                  <a:path w="779" h="778">
                    <a:moveTo>
                      <a:pt x="389" y="0"/>
                    </a:moveTo>
                    <a:lnTo>
                      <a:pt x="409" y="1"/>
                    </a:lnTo>
                    <a:lnTo>
                      <a:pt x="428" y="2"/>
                    </a:lnTo>
                    <a:lnTo>
                      <a:pt x="447" y="4"/>
                    </a:lnTo>
                    <a:lnTo>
                      <a:pt x="467" y="8"/>
                    </a:lnTo>
                    <a:lnTo>
                      <a:pt x="486" y="13"/>
                    </a:lnTo>
                    <a:lnTo>
                      <a:pt x="504" y="18"/>
                    </a:lnTo>
                    <a:lnTo>
                      <a:pt x="522" y="24"/>
                    </a:lnTo>
                    <a:lnTo>
                      <a:pt x="540" y="31"/>
                    </a:lnTo>
                    <a:lnTo>
                      <a:pt x="558" y="38"/>
                    </a:lnTo>
                    <a:lnTo>
                      <a:pt x="575" y="48"/>
                    </a:lnTo>
                    <a:lnTo>
                      <a:pt x="590" y="56"/>
                    </a:lnTo>
                    <a:lnTo>
                      <a:pt x="606" y="67"/>
                    </a:lnTo>
                    <a:lnTo>
                      <a:pt x="621" y="77"/>
                    </a:lnTo>
                    <a:lnTo>
                      <a:pt x="636" y="89"/>
                    </a:lnTo>
                    <a:lnTo>
                      <a:pt x="650" y="101"/>
                    </a:lnTo>
                    <a:lnTo>
                      <a:pt x="663" y="115"/>
                    </a:lnTo>
                    <a:lnTo>
                      <a:pt x="677" y="128"/>
                    </a:lnTo>
                    <a:lnTo>
                      <a:pt x="689" y="142"/>
                    </a:lnTo>
                    <a:lnTo>
                      <a:pt x="701" y="157"/>
                    </a:lnTo>
                    <a:lnTo>
                      <a:pt x="711" y="172"/>
                    </a:lnTo>
                    <a:lnTo>
                      <a:pt x="721" y="188"/>
                    </a:lnTo>
                    <a:lnTo>
                      <a:pt x="731" y="203"/>
                    </a:lnTo>
                    <a:lnTo>
                      <a:pt x="739" y="220"/>
                    </a:lnTo>
                    <a:lnTo>
                      <a:pt x="747" y="238"/>
                    </a:lnTo>
                    <a:lnTo>
                      <a:pt x="755" y="255"/>
                    </a:lnTo>
                    <a:lnTo>
                      <a:pt x="761" y="273"/>
                    </a:lnTo>
                    <a:lnTo>
                      <a:pt x="765" y="292"/>
                    </a:lnTo>
                    <a:lnTo>
                      <a:pt x="770" y="311"/>
                    </a:lnTo>
                    <a:lnTo>
                      <a:pt x="774" y="329"/>
                    </a:lnTo>
                    <a:lnTo>
                      <a:pt x="776" y="350"/>
                    </a:lnTo>
                    <a:lnTo>
                      <a:pt x="777" y="369"/>
                    </a:lnTo>
                    <a:lnTo>
                      <a:pt x="779" y="389"/>
                    </a:lnTo>
                    <a:lnTo>
                      <a:pt x="777" y="409"/>
                    </a:lnTo>
                    <a:lnTo>
                      <a:pt x="776" y="429"/>
                    </a:lnTo>
                    <a:lnTo>
                      <a:pt x="774" y="448"/>
                    </a:lnTo>
                    <a:lnTo>
                      <a:pt x="770" y="467"/>
                    </a:lnTo>
                    <a:lnTo>
                      <a:pt x="765" y="487"/>
                    </a:lnTo>
                    <a:lnTo>
                      <a:pt x="761" y="505"/>
                    </a:lnTo>
                    <a:lnTo>
                      <a:pt x="755" y="523"/>
                    </a:lnTo>
                    <a:lnTo>
                      <a:pt x="747" y="541"/>
                    </a:lnTo>
                    <a:lnTo>
                      <a:pt x="739" y="557"/>
                    </a:lnTo>
                    <a:lnTo>
                      <a:pt x="731" y="574"/>
                    </a:lnTo>
                    <a:lnTo>
                      <a:pt x="721" y="591"/>
                    </a:lnTo>
                    <a:lnTo>
                      <a:pt x="711" y="607"/>
                    </a:lnTo>
                    <a:lnTo>
                      <a:pt x="701" y="622"/>
                    </a:lnTo>
                    <a:lnTo>
                      <a:pt x="689" y="637"/>
                    </a:lnTo>
                    <a:lnTo>
                      <a:pt x="677" y="651"/>
                    </a:lnTo>
                    <a:lnTo>
                      <a:pt x="663" y="664"/>
                    </a:lnTo>
                    <a:lnTo>
                      <a:pt x="650" y="677"/>
                    </a:lnTo>
                    <a:lnTo>
                      <a:pt x="636" y="689"/>
                    </a:lnTo>
                    <a:lnTo>
                      <a:pt x="621" y="701"/>
                    </a:lnTo>
                    <a:lnTo>
                      <a:pt x="606" y="712"/>
                    </a:lnTo>
                    <a:lnTo>
                      <a:pt x="590" y="722"/>
                    </a:lnTo>
                    <a:lnTo>
                      <a:pt x="575" y="731"/>
                    </a:lnTo>
                    <a:lnTo>
                      <a:pt x="558" y="740"/>
                    </a:lnTo>
                    <a:lnTo>
                      <a:pt x="540" y="748"/>
                    </a:lnTo>
                    <a:lnTo>
                      <a:pt x="522" y="754"/>
                    </a:lnTo>
                    <a:lnTo>
                      <a:pt x="504" y="761"/>
                    </a:lnTo>
                    <a:lnTo>
                      <a:pt x="486" y="766"/>
                    </a:lnTo>
                    <a:lnTo>
                      <a:pt x="467" y="771"/>
                    </a:lnTo>
                    <a:lnTo>
                      <a:pt x="447" y="773"/>
                    </a:lnTo>
                    <a:lnTo>
                      <a:pt x="428" y="777"/>
                    </a:lnTo>
                    <a:lnTo>
                      <a:pt x="409" y="778"/>
                    </a:lnTo>
                    <a:lnTo>
                      <a:pt x="389" y="778"/>
                    </a:lnTo>
                    <a:lnTo>
                      <a:pt x="368" y="778"/>
                    </a:lnTo>
                    <a:lnTo>
                      <a:pt x="349" y="777"/>
                    </a:lnTo>
                    <a:lnTo>
                      <a:pt x="330" y="773"/>
                    </a:lnTo>
                    <a:lnTo>
                      <a:pt x="311" y="771"/>
                    </a:lnTo>
                    <a:lnTo>
                      <a:pt x="291" y="766"/>
                    </a:lnTo>
                    <a:lnTo>
                      <a:pt x="273" y="761"/>
                    </a:lnTo>
                    <a:lnTo>
                      <a:pt x="255" y="754"/>
                    </a:lnTo>
                    <a:lnTo>
                      <a:pt x="237" y="748"/>
                    </a:lnTo>
                    <a:lnTo>
                      <a:pt x="221" y="740"/>
                    </a:lnTo>
                    <a:lnTo>
                      <a:pt x="204" y="731"/>
                    </a:lnTo>
                    <a:lnTo>
                      <a:pt x="187" y="722"/>
                    </a:lnTo>
                    <a:lnTo>
                      <a:pt x="171" y="712"/>
                    </a:lnTo>
                    <a:lnTo>
                      <a:pt x="156" y="701"/>
                    </a:lnTo>
                    <a:lnTo>
                      <a:pt x="141" y="689"/>
                    </a:lnTo>
                    <a:lnTo>
                      <a:pt x="127" y="677"/>
                    </a:lnTo>
                    <a:lnTo>
                      <a:pt x="114" y="664"/>
                    </a:lnTo>
                    <a:lnTo>
                      <a:pt x="101" y="651"/>
                    </a:lnTo>
                    <a:lnTo>
                      <a:pt x="89" y="637"/>
                    </a:lnTo>
                    <a:lnTo>
                      <a:pt x="77" y="622"/>
                    </a:lnTo>
                    <a:lnTo>
                      <a:pt x="66" y="607"/>
                    </a:lnTo>
                    <a:lnTo>
                      <a:pt x="56" y="591"/>
                    </a:lnTo>
                    <a:lnTo>
                      <a:pt x="47" y="574"/>
                    </a:lnTo>
                    <a:lnTo>
                      <a:pt x="38" y="557"/>
                    </a:lnTo>
                    <a:lnTo>
                      <a:pt x="30" y="541"/>
                    </a:lnTo>
                    <a:lnTo>
                      <a:pt x="23" y="523"/>
                    </a:lnTo>
                    <a:lnTo>
                      <a:pt x="17" y="505"/>
                    </a:lnTo>
                    <a:lnTo>
                      <a:pt x="12" y="487"/>
                    </a:lnTo>
                    <a:lnTo>
                      <a:pt x="7" y="467"/>
                    </a:lnTo>
                    <a:lnTo>
                      <a:pt x="3" y="448"/>
                    </a:lnTo>
                    <a:lnTo>
                      <a:pt x="1" y="429"/>
                    </a:lnTo>
                    <a:lnTo>
                      <a:pt x="0" y="409"/>
                    </a:lnTo>
                    <a:lnTo>
                      <a:pt x="0" y="389"/>
                    </a:lnTo>
                    <a:lnTo>
                      <a:pt x="0" y="369"/>
                    </a:lnTo>
                    <a:lnTo>
                      <a:pt x="1" y="350"/>
                    </a:lnTo>
                    <a:lnTo>
                      <a:pt x="3" y="329"/>
                    </a:lnTo>
                    <a:lnTo>
                      <a:pt x="7" y="311"/>
                    </a:lnTo>
                    <a:lnTo>
                      <a:pt x="12" y="292"/>
                    </a:lnTo>
                    <a:lnTo>
                      <a:pt x="17" y="273"/>
                    </a:lnTo>
                    <a:lnTo>
                      <a:pt x="23" y="255"/>
                    </a:lnTo>
                    <a:lnTo>
                      <a:pt x="30" y="238"/>
                    </a:lnTo>
                    <a:lnTo>
                      <a:pt x="38" y="220"/>
                    </a:lnTo>
                    <a:lnTo>
                      <a:pt x="47" y="203"/>
                    </a:lnTo>
                    <a:lnTo>
                      <a:pt x="56" y="188"/>
                    </a:lnTo>
                    <a:lnTo>
                      <a:pt x="66" y="172"/>
                    </a:lnTo>
                    <a:lnTo>
                      <a:pt x="77" y="157"/>
                    </a:lnTo>
                    <a:lnTo>
                      <a:pt x="89" y="142"/>
                    </a:lnTo>
                    <a:lnTo>
                      <a:pt x="101" y="128"/>
                    </a:lnTo>
                    <a:lnTo>
                      <a:pt x="114" y="115"/>
                    </a:lnTo>
                    <a:lnTo>
                      <a:pt x="127" y="101"/>
                    </a:lnTo>
                    <a:lnTo>
                      <a:pt x="141" y="89"/>
                    </a:lnTo>
                    <a:lnTo>
                      <a:pt x="156" y="77"/>
                    </a:lnTo>
                    <a:lnTo>
                      <a:pt x="171" y="67"/>
                    </a:lnTo>
                    <a:lnTo>
                      <a:pt x="187" y="56"/>
                    </a:lnTo>
                    <a:lnTo>
                      <a:pt x="204" y="48"/>
                    </a:lnTo>
                    <a:lnTo>
                      <a:pt x="221" y="38"/>
                    </a:lnTo>
                    <a:lnTo>
                      <a:pt x="237" y="31"/>
                    </a:lnTo>
                    <a:lnTo>
                      <a:pt x="255" y="24"/>
                    </a:lnTo>
                    <a:lnTo>
                      <a:pt x="273" y="18"/>
                    </a:lnTo>
                    <a:lnTo>
                      <a:pt x="291" y="13"/>
                    </a:lnTo>
                    <a:lnTo>
                      <a:pt x="311" y="8"/>
                    </a:lnTo>
                    <a:lnTo>
                      <a:pt x="330" y="4"/>
                    </a:lnTo>
                    <a:lnTo>
                      <a:pt x="349" y="2"/>
                    </a:lnTo>
                    <a:lnTo>
                      <a:pt x="368" y="1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48e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054480" y="4695840"/>
                <a:ext cx="306720" cy="304920"/>
              </a:xfrm>
              <a:custGeom>
                <a:avLst/>
                <a:gdLst/>
                <a:ahLst/>
                <a:rect l="l" t="t" r="r" b="b"/>
                <a:pathLst>
                  <a:path w="772" h="770">
                    <a:moveTo>
                      <a:pt x="387" y="0"/>
                    </a:moveTo>
                    <a:lnTo>
                      <a:pt x="406" y="0"/>
                    </a:lnTo>
                    <a:lnTo>
                      <a:pt x="425" y="1"/>
                    </a:lnTo>
                    <a:lnTo>
                      <a:pt x="444" y="3"/>
                    </a:lnTo>
                    <a:lnTo>
                      <a:pt x="464" y="7"/>
                    </a:lnTo>
                    <a:lnTo>
                      <a:pt x="483" y="12"/>
                    </a:lnTo>
                    <a:lnTo>
                      <a:pt x="501" y="17"/>
                    </a:lnTo>
                    <a:lnTo>
                      <a:pt x="519" y="23"/>
                    </a:lnTo>
                    <a:lnTo>
                      <a:pt x="536" y="30"/>
                    </a:lnTo>
                    <a:lnTo>
                      <a:pt x="554" y="37"/>
                    </a:lnTo>
                    <a:lnTo>
                      <a:pt x="569" y="45"/>
                    </a:lnTo>
                    <a:lnTo>
                      <a:pt x="586" y="55"/>
                    </a:lnTo>
                    <a:lnTo>
                      <a:pt x="602" y="66"/>
                    </a:lnTo>
                    <a:lnTo>
                      <a:pt x="617" y="76"/>
                    </a:lnTo>
                    <a:lnTo>
                      <a:pt x="632" y="87"/>
                    </a:lnTo>
                    <a:lnTo>
                      <a:pt x="645" y="99"/>
                    </a:lnTo>
                    <a:lnTo>
                      <a:pt x="659" y="112"/>
                    </a:lnTo>
                    <a:lnTo>
                      <a:pt x="671" y="126"/>
                    </a:lnTo>
                    <a:lnTo>
                      <a:pt x="683" y="140"/>
                    </a:lnTo>
                    <a:lnTo>
                      <a:pt x="695" y="154"/>
                    </a:lnTo>
                    <a:lnTo>
                      <a:pt x="706" y="169"/>
                    </a:lnTo>
                    <a:lnTo>
                      <a:pt x="716" y="184"/>
                    </a:lnTo>
                    <a:lnTo>
                      <a:pt x="725" y="201"/>
                    </a:lnTo>
                    <a:lnTo>
                      <a:pt x="734" y="218"/>
                    </a:lnTo>
                    <a:lnTo>
                      <a:pt x="742" y="235"/>
                    </a:lnTo>
                    <a:lnTo>
                      <a:pt x="748" y="253"/>
                    </a:lnTo>
                    <a:lnTo>
                      <a:pt x="754" y="271"/>
                    </a:lnTo>
                    <a:lnTo>
                      <a:pt x="760" y="289"/>
                    </a:lnTo>
                    <a:lnTo>
                      <a:pt x="764" y="307"/>
                    </a:lnTo>
                    <a:lnTo>
                      <a:pt x="767" y="326"/>
                    </a:lnTo>
                    <a:lnTo>
                      <a:pt x="770" y="345"/>
                    </a:lnTo>
                    <a:lnTo>
                      <a:pt x="771" y="364"/>
                    </a:lnTo>
                    <a:lnTo>
                      <a:pt x="772" y="385"/>
                    </a:lnTo>
                    <a:lnTo>
                      <a:pt x="771" y="404"/>
                    </a:lnTo>
                    <a:lnTo>
                      <a:pt x="770" y="424"/>
                    </a:lnTo>
                    <a:lnTo>
                      <a:pt x="767" y="444"/>
                    </a:lnTo>
                    <a:lnTo>
                      <a:pt x="764" y="463"/>
                    </a:lnTo>
                    <a:lnTo>
                      <a:pt x="760" y="481"/>
                    </a:lnTo>
                    <a:lnTo>
                      <a:pt x="754" y="499"/>
                    </a:lnTo>
                    <a:lnTo>
                      <a:pt x="748" y="517"/>
                    </a:lnTo>
                    <a:lnTo>
                      <a:pt x="742" y="535"/>
                    </a:lnTo>
                    <a:lnTo>
                      <a:pt x="734" y="552"/>
                    </a:lnTo>
                    <a:lnTo>
                      <a:pt x="725" y="568"/>
                    </a:lnTo>
                    <a:lnTo>
                      <a:pt x="716" y="584"/>
                    </a:lnTo>
                    <a:lnTo>
                      <a:pt x="706" y="600"/>
                    </a:lnTo>
                    <a:lnTo>
                      <a:pt x="695" y="615"/>
                    </a:lnTo>
                    <a:lnTo>
                      <a:pt x="683" y="630"/>
                    </a:lnTo>
                    <a:lnTo>
                      <a:pt x="671" y="644"/>
                    </a:lnTo>
                    <a:lnTo>
                      <a:pt x="659" y="657"/>
                    </a:lnTo>
                    <a:lnTo>
                      <a:pt x="645" y="670"/>
                    </a:lnTo>
                    <a:lnTo>
                      <a:pt x="632" y="682"/>
                    </a:lnTo>
                    <a:lnTo>
                      <a:pt x="617" y="693"/>
                    </a:lnTo>
                    <a:lnTo>
                      <a:pt x="602" y="704"/>
                    </a:lnTo>
                    <a:lnTo>
                      <a:pt x="586" y="715"/>
                    </a:lnTo>
                    <a:lnTo>
                      <a:pt x="569" y="723"/>
                    </a:lnTo>
                    <a:lnTo>
                      <a:pt x="554" y="732"/>
                    </a:lnTo>
                    <a:lnTo>
                      <a:pt x="536" y="740"/>
                    </a:lnTo>
                    <a:lnTo>
                      <a:pt x="519" y="747"/>
                    </a:lnTo>
                    <a:lnTo>
                      <a:pt x="501" y="753"/>
                    </a:lnTo>
                    <a:lnTo>
                      <a:pt x="483" y="758"/>
                    </a:lnTo>
                    <a:lnTo>
                      <a:pt x="464" y="763"/>
                    </a:lnTo>
                    <a:lnTo>
                      <a:pt x="444" y="766"/>
                    </a:lnTo>
                    <a:lnTo>
                      <a:pt x="425" y="769"/>
                    </a:lnTo>
                    <a:lnTo>
                      <a:pt x="406" y="770"/>
                    </a:lnTo>
                    <a:lnTo>
                      <a:pt x="387" y="770"/>
                    </a:lnTo>
                    <a:lnTo>
                      <a:pt x="366" y="770"/>
                    </a:lnTo>
                    <a:lnTo>
                      <a:pt x="347" y="769"/>
                    </a:lnTo>
                    <a:lnTo>
                      <a:pt x="328" y="766"/>
                    </a:lnTo>
                    <a:lnTo>
                      <a:pt x="309" y="763"/>
                    </a:lnTo>
                    <a:lnTo>
                      <a:pt x="290" y="758"/>
                    </a:lnTo>
                    <a:lnTo>
                      <a:pt x="272" y="753"/>
                    </a:lnTo>
                    <a:lnTo>
                      <a:pt x="254" y="747"/>
                    </a:lnTo>
                    <a:lnTo>
                      <a:pt x="237" y="740"/>
                    </a:lnTo>
                    <a:lnTo>
                      <a:pt x="219" y="732"/>
                    </a:lnTo>
                    <a:lnTo>
                      <a:pt x="203" y="723"/>
                    </a:lnTo>
                    <a:lnTo>
                      <a:pt x="186" y="715"/>
                    </a:lnTo>
                    <a:lnTo>
                      <a:pt x="171" y="704"/>
                    </a:lnTo>
                    <a:lnTo>
                      <a:pt x="155" y="693"/>
                    </a:lnTo>
                    <a:lnTo>
                      <a:pt x="141" y="682"/>
                    </a:lnTo>
                    <a:lnTo>
                      <a:pt x="128" y="670"/>
                    </a:lnTo>
                    <a:lnTo>
                      <a:pt x="113" y="657"/>
                    </a:lnTo>
                    <a:lnTo>
                      <a:pt x="101" y="644"/>
                    </a:lnTo>
                    <a:lnTo>
                      <a:pt x="89" y="630"/>
                    </a:lnTo>
                    <a:lnTo>
                      <a:pt x="77" y="615"/>
                    </a:lnTo>
                    <a:lnTo>
                      <a:pt x="66" y="600"/>
                    </a:lnTo>
                    <a:lnTo>
                      <a:pt x="57" y="584"/>
                    </a:lnTo>
                    <a:lnTo>
                      <a:pt x="47" y="568"/>
                    </a:lnTo>
                    <a:lnTo>
                      <a:pt x="39" y="552"/>
                    </a:lnTo>
                    <a:lnTo>
                      <a:pt x="30" y="535"/>
                    </a:lnTo>
                    <a:lnTo>
                      <a:pt x="24" y="517"/>
                    </a:lnTo>
                    <a:lnTo>
                      <a:pt x="18" y="499"/>
                    </a:lnTo>
                    <a:lnTo>
                      <a:pt x="12" y="481"/>
                    </a:lnTo>
                    <a:lnTo>
                      <a:pt x="9" y="463"/>
                    </a:lnTo>
                    <a:lnTo>
                      <a:pt x="5" y="444"/>
                    </a:lnTo>
                    <a:lnTo>
                      <a:pt x="3" y="424"/>
                    </a:lnTo>
                    <a:lnTo>
                      <a:pt x="2" y="404"/>
                    </a:lnTo>
                    <a:lnTo>
                      <a:pt x="0" y="385"/>
                    </a:lnTo>
                    <a:lnTo>
                      <a:pt x="2" y="364"/>
                    </a:lnTo>
                    <a:lnTo>
                      <a:pt x="3" y="345"/>
                    </a:lnTo>
                    <a:lnTo>
                      <a:pt x="5" y="326"/>
                    </a:lnTo>
                    <a:lnTo>
                      <a:pt x="9" y="307"/>
                    </a:lnTo>
                    <a:lnTo>
                      <a:pt x="12" y="289"/>
                    </a:lnTo>
                    <a:lnTo>
                      <a:pt x="18" y="271"/>
                    </a:lnTo>
                    <a:lnTo>
                      <a:pt x="24" y="253"/>
                    </a:lnTo>
                    <a:lnTo>
                      <a:pt x="30" y="235"/>
                    </a:lnTo>
                    <a:lnTo>
                      <a:pt x="39" y="218"/>
                    </a:lnTo>
                    <a:lnTo>
                      <a:pt x="47" y="201"/>
                    </a:lnTo>
                    <a:lnTo>
                      <a:pt x="57" y="184"/>
                    </a:lnTo>
                    <a:lnTo>
                      <a:pt x="66" y="169"/>
                    </a:lnTo>
                    <a:lnTo>
                      <a:pt x="77" y="154"/>
                    </a:lnTo>
                    <a:lnTo>
                      <a:pt x="89" y="140"/>
                    </a:lnTo>
                    <a:lnTo>
                      <a:pt x="101" y="126"/>
                    </a:lnTo>
                    <a:lnTo>
                      <a:pt x="113" y="112"/>
                    </a:lnTo>
                    <a:lnTo>
                      <a:pt x="128" y="99"/>
                    </a:lnTo>
                    <a:lnTo>
                      <a:pt x="141" y="87"/>
                    </a:lnTo>
                    <a:lnTo>
                      <a:pt x="155" y="76"/>
                    </a:lnTo>
                    <a:lnTo>
                      <a:pt x="171" y="66"/>
                    </a:lnTo>
                    <a:lnTo>
                      <a:pt x="186" y="55"/>
                    </a:lnTo>
                    <a:lnTo>
                      <a:pt x="203" y="45"/>
                    </a:lnTo>
                    <a:lnTo>
                      <a:pt x="219" y="37"/>
                    </a:lnTo>
                    <a:lnTo>
                      <a:pt x="237" y="30"/>
                    </a:lnTo>
                    <a:lnTo>
                      <a:pt x="254" y="23"/>
                    </a:lnTo>
                    <a:lnTo>
                      <a:pt x="272" y="17"/>
                    </a:lnTo>
                    <a:lnTo>
                      <a:pt x="290" y="12"/>
                    </a:lnTo>
                    <a:lnTo>
                      <a:pt x="309" y="7"/>
                    </a:lnTo>
                    <a:lnTo>
                      <a:pt x="328" y="3"/>
                    </a:lnTo>
                    <a:lnTo>
                      <a:pt x="347" y="1"/>
                    </a:lnTo>
                    <a:lnTo>
                      <a:pt x="366" y="0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990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056280" y="4697280"/>
                <a:ext cx="303120" cy="303480"/>
              </a:xfrm>
              <a:custGeom>
                <a:avLst/>
                <a:gdLst/>
                <a:ahLst/>
                <a:rect l="l" t="t" r="r" b="b"/>
                <a:pathLst>
                  <a:path w="763" h="763">
                    <a:moveTo>
                      <a:pt x="382" y="0"/>
                    </a:moveTo>
                    <a:lnTo>
                      <a:pt x="401" y="0"/>
                    </a:lnTo>
                    <a:lnTo>
                      <a:pt x="420" y="1"/>
                    </a:lnTo>
                    <a:lnTo>
                      <a:pt x="439" y="3"/>
                    </a:lnTo>
                    <a:lnTo>
                      <a:pt x="459" y="7"/>
                    </a:lnTo>
                    <a:lnTo>
                      <a:pt x="477" y="12"/>
                    </a:lnTo>
                    <a:lnTo>
                      <a:pt x="495" y="17"/>
                    </a:lnTo>
                    <a:lnTo>
                      <a:pt x="513" y="23"/>
                    </a:lnTo>
                    <a:lnTo>
                      <a:pt x="531" y="30"/>
                    </a:lnTo>
                    <a:lnTo>
                      <a:pt x="547" y="37"/>
                    </a:lnTo>
                    <a:lnTo>
                      <a:pt x="563" y="45"/>
                    </a:lnTo>
                    <a:lnTo>
                      <a:pt x="580" y="55"/>
                    </a:lnTo>
                    <a:lnTo>
                      <a:pt x="595" y="64"/>
                    </a:lnTo>
                    <a:lnTo>
                      <a:pt x="610" y="75"/>
                    </a:lnTo>
                    <a:lnTo>
                      <a:pt x="624" y="87"/>
                    </a:lnTo>
                    <a:lnTo>
                      <a:pt x="639" y="99"/>
                    </a:lnTo>
                    <a:lnTo>
                      <a:pt x="652" y="111"/>
                    </a:lnTo>
                    <a:lnTo>
                      <a:pt x="664" y="124"/>
                    </a:lnTo>
                    <a:lnTo>
                      <a:pt x="676" y="139"/>
                    </a:lnTo>
                    <a:lnTo>
                      <a:pt x="688" y="153"/>
                    </a:lnTo>
                    <a:lnTo>
                      <a:pt x="699" y="168"/>
                    </a:lnTo>
                    <a:lnTo>
                      <a:pt x="708" y="183"/>
                    </a:lnTo>
                    <a:lnTo>
                      <a:pt x="718" y="200"/>
                    </a:lnTo>
                    <a:lnTo>
                      <a:pt x="726" y="216"/>
                    </a:lnTo>
                    <a:lnTo>
                      <a:pt x="733" y="232"/>
                    </a:lnTo>
                    <a:lnTo>
                      <a:pt x="741" y="250"/>
                    </a:lnTo>
                    <a:lnTo>
                      <a:pt x="747" y="268"/>
                    </a:lnTo>
                    <a:lnTo>
                      <a:pt x="751" y="286"/>
                    </a:lnTo>
                    <a:lnTo>
                      <a:pt x="756" y="304"/>
                    </a:lnTo>
                    <a:lnTo>
                      <a:pt x="759" y="324"/>
                    </a:lnTo>
                    <a:lnTo>
                      <a:pt x="762" y="343"/>
                    </a:lnTo>
                    <a:lnTo>
                      <a:pt x="763" y="362"/>
                    </a:lnTo>
                    <a:lnTo>
                      <a:pt x="763" y="381"/>
                    </a:lnTo>
                    <a:lnTo>
                      <a:pt x="763" y="400"/>
                    </a:lnTo>
                    <a:lnTo>
                      <a:pt x="762" y="421"/>
                    </a:lnTo>
                    <a:lnTo>
                      <a:pt x="759" y="439"/>
                    </a:lnTo>
                    <a:lnTo>
                      <a:pt x="756" y="458"/>
                    </a:lnTo>
                    <a:lnTo>
                      <a:pt x="751" y="476"/>
                    </a:lnTo>
                    <a:lnTo>
                      <a:pt x="747" y="495"/>
                    </a:lnTo>
                    <a:lnTo>
                      <a:pt x="741" y="512"/>
                    </a:lnTo>
                    <a:lnTo>
                      <a:pt x="733" y="530"/>
                    </a:lnTo>
                    <a:lnTo>
                      <a:pt x="726" y="547"/>
                    </a:lnTo>
                    <a:lnTo>
                      <a:pt x="718" y="564"/>
                    </a:lnTo>
                    <a:lnTo>
                      <a:pt x="708" y="579"/>
                    </a:lnTo>
                    <a:lnTo>
                      <a:pt x="699" y="595"/>
                    </a:lnTo>
                    <a:lnTo>
                      <a:pt x="688" y="609"/>
                    </a:lnTo>
                    <a:lnTo>
                      <a:pt x="676" y="624"/>
                    </a:lnTo>
                    <a:lnTo>
                      <a:pt x="664" y="638"/>
                    </a:lnTo>
                    <a:lnTo>
                      <a:pt x="652" y="651"/>
                    </a:lnTo>
                    <a:lnTo>
                      <a:pt x="639" y="663"/>
                    </a:lnTo>
                    <a:lnTo>
                      <a:pt x="624" y="675"/>
                    </a:lnTo>
                    <a:lnTo>
                      <a:pt x="610" y="687"/>
                    </a:lnTo>
                    <a:lnTo>
                      <a:pt x="595" y="698"/>
                    </a:lnTo>
                    <a:lnTo>
                      <a:pt x="580" y="708"/>
                    </a:lnTo>
                    <a:lnTo>
                      <a:pt x="563" y="717"/>
                    </a:lnTo>
                    <a:lnTo>
                      <a:pt x="547" y="726"/>
                    </a:lnTo>
                    <a:lnTo>
                      <a:pt x="531" y="733"/>
                    </a:lnTo>
                    <a:lnTo>
                      <a:pt x="513" y="740"/>
                    </a:lnTo>
                    <a:lnTo>
                      <a:pt x="495" y="746"/>
                    </a:lnTo>
                    <a:lnTo>
                      <a:pt x="477" y="751"/>
                    </a:lnTo>
                    <a:lnTo>
                      <a:pt x="459" y="756"/>
                    </a:lnTo>
                    <a:lnTo>
                      <a:pt x="439" y="759"/>
                    </a:lnTo>
                    <a:lnTo>
                      <a:pt x="420" y="762"/>
                    </a:lnTo>
                    <a:lnTo>
                      <a:pt x="401" y="763"/>
                    </a:lnTo>
                    <a:lnTo>
                      <a:pt x="382" y="763"/>
                    </a:lnTo>
                    <a:lnTo>
                      <a:pt x="363" y="763"/>
                    </a:lnTo>
                    <a:lnTo>
                      <a:pt x="342" y="762"/>
                    </a:lnTo>
                    <a:lnTo>
                      <a:pt x="324" y="759"/>
                    </a:lnTo>
                    <a:lnTo>
                      <a:pt x="305" y="756"/>
                    </a:lnTo>
                    <a:lnTo>
                      <a:pt x="287" y="751"/>
                    </a:lnTo>
                    <a:lnTo>
                      <a:pt x="268" y="746"/>
                    </a:lnTo>
                    <a:lnTo>
                      <a:pt x="251" y="740"/>
                    </a:lnTo>
                    <a:lnTo>
                      <a:pt x="233" y="733"/>
                    </a:lnTo>
                    <a:lnTo>
                      <a:pt x="216" y="726"/>
                    </a:lnTo>
                    <a:lnTo>
                      <a:pt x="199" y="717"/>
                    </a:lnTo>
                    <a:lnTo>
                      <a:pt x="184" y="708"/>
                    </a:lnTo>
                    <a:lnTo>
                      <a:pt x="168" y="698"/>
                    </a:lnTo>
                    <a:lnTo>
                      <a:pt x="154" y="687"/>
                    </a:lnTo>
                    <a:lnTo>
                      <a:pt x="139" y="675"/>
                    </a:lnTo>
                    <a:lnTo>
                      <a:pt x="125" y="663"/>
                    </a:lnTo>
                    <a:lnTo>
                      <a:pt x="112" y="651"/>
                    </a:lnTo>
                    <a:lnTo>
                      <a:pt x="100" y="638"/>
                    </a:lnTo>
                    <a:lnTo>
                      <a:pt x="88" y="624"/>
                    </a:lnTo>
                    <a:lnTo>
                      <a:pt x="76" y="609"/>
                    </a:lnTo>
                    <a:lnTo>
                      <a:pt x="65" y="595"/>
                    </a:lnTo>
                    <a:lnTo>
                      <a:pt x="55" y="579"/>
                    </a:lnTo>
                    <a:lnTo>
                      <a:pt x="46" y="564"/>
                    </a:lnTo>
                    <a:lnTo>
                      <a:pt x="37" y="547"/>
                    </a:lnTo>
                    <a:lnTo>
                      <a:pt x="30" y="530"/>
                    </a:lnTo>
                    <a:lnTo>
                      <a:pt x="23" y="512"/>
                    </a:lnTo>
                    <a:lnTo>
                      <a:pt x="17" y="495"/>
                    </a:lnTo>
                    <a:lnTo>
                      <a:pt x="12" y="476"/>
                    </a:lnTo>
                    <a:lnTo>
                      <a:pt x="7" y="458"/>
                    </a:lnTo>
                    <a:lnTo>
                      <a:pt x="4" y="439"/>
                    </a:lnTo>
                    <a:lnTo>
                      <a:pt x="1" y="421"/>
                    </a:lnTo>
                    <a:lnTo>
                      <a:pt x="0" y="400"/>
                    </a:lnTo>
                    <a:lnTo>
                      <a:pt x="0" y="381"/>
                    </a:lnTo>
                    <a:lnTo>
                      <a:pt x="0" y="362"/>
                    </a:lnTo>
                    <a:lnTo>
                      <a:pt x="1" y="343"/>
                    </a:lnTo>
                    <a:lnTo>
                      <a:pt x="4" y="324"/>
                    </a:lnTo>
                    <a:lnTo>
                      <a:pt x="7" y="304"/>
                    </a:lnTo>
                    <a:lnTo>
                      <a:pt x="12" y="286"/>
                    </a:lnTo>
                    <a:lnTo>
                      <a:pt x="17" y="268"/>
                    </a:lnTo>
                    <a:lnTo>
                      <a:pt x="23" y="250"/>
                    </a:lnTo>
                    <a:lnTo>
                      <a:pt x="30" y="232"/>
                    </a:lnTo>
                    <a:lnTo>
                      <a:pt x="37" y="216"/>
                    </a:lnTo>
                    <a:lnTo>
                      <a:pt x="46" y="200"/>
                    </a:lnTo>
                    <a:lnTo>
                      <a:pt x="55" y="183"/>
                    </a:lnTo>
                    <a:lnTo>
                      <a:pt x="65" y="168"/>
                    </a:lnTo>
                    <a:lnTo>
                      <a:pt x="76" y="153"/>
                    </a:lnTo>
                    <a:lnTo>
                      <a:pt x="88" y="139"/>
                    </a:lnTo>
                    <a:lnTo>
                      <a:pt x="100" y="124"/>
                    </a:lnTo>
                    <a:lnTo>
                      <a:pt x="112" y="111"/>
                    </a:lnTo>
                    <a:lnTo>
                      <a:pt x="125" y="99"/>
                    </a:lnTo>
                    <a:lnTo>
                      <a:pt x="139" y="87"/>
                    </a:lnTo>
                    <a:lnTo>
                      <a:pt x="154" y="75"/>
                    </a:lnTo>
                    <a:lnTo>
                      <a:pt x="168" y="64"/>
                    </a:lnTo>
                    <a:lnTo>
                      <a:pt x="184" y="55"/>
                    </a:lnTo>
                    <a:lnTo>
                      <a:pt x="199" y="45"/>
                    </a:lnTo>
                    <a:lnTo>
                      <a:pt x="216" y="37"/>
                    </a:lnTo>
                    <a:lnTo>
                      <a:pt x="233" y="30"/>
                    </a:lnTo>
                    <a:lnTo>
                      <a:pt x="251" y="23"/>
                    </a:lnTo>
                    <a:lnTo>
                      <a:pt x="268" y="17"/>
                    </a:lnTo>
                    <a:lnTo>
                      <a:pt x="287" y="12"/>
                    </a:lnTo>
                    <a:lnTo>
                      <a:pt x="305" y="7"/>
                    </a:lnTo>
                    <a:lnTo>
                      <a:pt x="324" y="3"/>
                    </a:lnTo>
                    <a:lnTo>
                      <a:pt x="342" y="1"/>
                    </a:lnTo>
                    <a:lnTo>
                      <a:pt x="363" y="0"/>
                    </a:lnTo>
                    <a:lnTo>
                      <a:pt x="382" y="0"/>
                    </a:lnTo>
                    <a:close/>
                  </a:path>
                </a:pathLst>
              </a:custGeom>
              <a:solidFill>
                <a:srgbClr val="df9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057720" y="4700520"/>
                <a:ext cx="301680" cy="300240"/>
              </a:xfrm>
              <a:custGeom>
                <a:avLst/>
                <a:gdLst/>
                <a:ahLst/>
                <a:rect l="l" t="t" r="r" b="b"/>
                <a:pathLst>
                  <a:path w="757" h="756">
                    <a:moveTo>
                      <a:pt x="378" y="0"/>
                    </a:moveTo>
                    <a:lnTo>
                      <a:pt x="398" y="0"/>
                    </a:lnTo>
                    <a:lnTo>
                      <a:pt x="417" y="2"/>
                    </a:lnTo>
                    <a:lnTo>
                      <a:pt x="435" y="5"/>
                    </a:lnTo>
                    <a:lnTo>
                      <a:pt x="455" y="7"/>
                    </a:lnTo>
                    <a:lnTo>
                      <a:pt x="473" y="12"/>
                    </a:lnTo>
                    <a:lnTo>
                      <a:pt x="491" y="17"/>
                    </a:lnTo>
                    <a:lnTo>
                      <a:pt x="509" y="23"/>
                    </a:lnTo>
                    <a:lnTo>
                      <a:pt x="525" y="30"/>
                    </a:lnTo>
                    <a:lnTo>
                      <a:pt x="542" y="37"/>
                    </a:lnTo>
                    <a:lnTo>
                      <a:pt x="558" y="45"/>
                    </a:lnTo>
                    <a:lnTo>
                      <a:pt x="575" y="55"/>
                    </a:lnTo>
                    <a:lnTo>
                      <a:pt x="589" y="64"/>
                    </a:lnTo>
                    <a:lnTo>
                      <a:pt x="605" y="75"/>
                    </a:lnTo>
                    <a:lnTo>
                      <a:pt x="619" y="86"/>
                    </a:lnTo>
                    <a:lnTo>
                      <a:pt x="632" y="98"/>
                    </a:lnTo>
                    <a:lnTo>
                      <a:pt x="645" y="111"/>
                    </a:lnTo>
                    <a:lnTo>
                      <a:pt x="657" y="123"/>
                    </a:lnTo>
                    <a:lnTo>
                      <a:pt x="669" y="138"/>
                    </a:lnTo>
                    <a:lnTo>
                      <a:pt x="681" y="152"/>
                    </a:lnTo>
                    <a:lnTo>
                      <a:pt x="692" y="166"/>
                    </a:lnTo>
                    <a:lnTo>
                      <a:pt x="702" y="182"/>
                    </a:lnTo>
                    <a:lnTo>
                      <a:pt x="710" y="198"/>
                    </a:lnTo>
                    <a:lnTo>
                      <a:pt x="719" y="214"/>
                    </a:lnTo>
                    <a:lnTo>
                      <a:pt x="727" y="231"/>
                    </a:lnTo>
                    <a:lnTo>
                      <a:pt x="733" y="248"/>
                    </a:lnTo>
                    <a:lnTo>
                      <a:pt x="739" y="266"/>
                    </a:lnTo>
                    <a:lnTo>
                      <a:pt x="745" y="284"/>
                    </a:lnTo>
                    <a:lnTo>
                      <a:pt x="749" y="302"/>
                    </a:lnTo>
                    <a:lnTo>
                      <a:pt x="752" y="320"/>
                    </a:lnTo>
                    <a:lnTo>
                      <a:pt x="755" y="339"/>
                    </a:lnTo>
                    <a:lnTo>
                      <a:pt x="756" y="358"/>
                    </a:lnTo>
                    <a:lnTo>
                      <a:pt x="757" y="378"/>
                    </a:lnTo>
                    <a:lnTo>
                      <a:pt x="756" y="397"/>
                    </a:lnTo>
                    <a:lnTo>
                      <a:pt x="755" y="416"/>
                    </a:lnTo>
                    <a:lnTo>
                      <a:pt x="752" y="435"/>
                    </a:lnTo>
                    <a:lnTo>
                      <a:pt x="749" y="454"/>
                    </a:lnTo>
                    <a:lnTo>
                      <a:pt x="745" y="472"/>
                    </a:lnTo>
                    <a:lnTo>
                      <a:pt x="739" y="490"/>
                    </a:lnTo>
                    <a:lnTo>
                      <a:pt x="733" y="507"/>
                    </a:lnTo>
                    <a:lnTo>
                      <a:pt x="727" y="525"/>
                    </a:lnTo>
                    <a:lnTo>
                      <a:pt x="719" y="542"/>
                    </a:lnTo>
                    <a:lnTo>
                      <a:pt x="710" y="558"/>
                    </a:lnTo>
                    <a:lnTo>
                      <a:pt x="702" y="573"/>
                    </a:lnTo>
                    <a:lnTo>
                      <a:pt x="692" y="589"/>
                    </a:lnTo>
                    <a:lnTo>
                      <a:pt x="681" y="604"/>
                    </a:lnTo>
                    <a:lnTo>
                      <a:pt x="669" y="618"/>
                    </a:lnTo>
                    <a:lnTo>
                      <a:pt x="657" y="632"/>
                    </a:lnTo>
                    <a:lnTo>
                      <a:pt x="645" y="645"/>
                    </a:lnTo>
                    <a:lnTo>
                      <a:pt x="632" y="657"/>
                    </a:lnTo>
                    <a:lnTo>
                      <a:pt x="619" y="669"/>
                    </a:lnTo>
                    <a:lnTo>
                      <a:pt x="605" y="681"/>
                    </a:lnTo>
                    <a:lnTo>
                      <a:pt x="589" y="691"/>
                    </a:lnTo>
                    <a:lnTo>
                      <a:pt x="575" y="702"/>
                    </a:lnTo>
                    <a:lnTo>
                      <a:pt x="558" y="710"/>
                    </a:lnTo>
                    <a:lnTo>
                      <a:pt x="542" y="718"/>
                    </a:lnTo>
                    <a:lnTo>
                      <a:pt x="525" y="727"/>
                    </a:lnTo>
                    <a:lnTo>
                      <a:pt x="509" y="733"/>
                    </a:lnTo>
                    <a:lnTo>
                      <a:pt x="491" y="739"/>
                    </a:lnTo>
                    <a:lnTo>
                      <a:pt x="473" y="744"/>
                    </a:lnTo>
                    <a:lnTo>
                      <a:pt x="455" y="748"/>
                    </a:lnTo>
                    <a:lnTo>
                      <a:pt x="435" y="752"/>
                    </a:lnTo>
                    <a:lnTo>
                      <a:pt x="417" y="754"/>
                    </a:lnTo>
                    <a:lnTo>
                      <a:pt x="398" y="756"/>
                    </a:lnTo>
                    <a:lnTo>
                      <a:pt x="378" y="756"/>
                    </a:lnTo>
                    <a:lnTo>
                      <a:pt x="359" y="756"/>
                    </a:lnTo>
                    <a:lnTo>
                      <a:pt x="339" y="754"/>
                    </a:lnTo>
                    <a:lnTo>
                      <a:pt x="320" y="752"/>
                    </a:lnTo>
                    <a:lnTo>
                      <a:pt x="302" y="748"/>
                    </a:lnTo>
                    <a:lnTo>
                      <a:pt x="284" y="744"/>
                    </a:lnTo>
                    <a:lnTo>
                      <a:pt x="266" y="739"/>
                    </a:lnTo>
                    <a:lnTo>
                      <a:pt x="248" y="733"/>
                    </a:lnTo>
                    <a:lnTo>
                      <a:pt x="231" y="727"/>
                    </a:lnTo>
                    <a:lnTo>
                      <a:pt x="215" y="718"/>
                    </a:lnTo>
                    <a:lnTo>
                      <a:pt x="198" y="710"/>
                    </a:lnTo>
                    <a:lnTo>
                      <a:pt x="182" y="702"/>
                    </a:lnTo>
                    <a:lnTo>
                      <a:pt x="167" y="691"/>
                    </a:lnTo>
                    <a:lnTo>
                      <a:pt x="152" y="681"/>
                    </a:lnTo>
                    <a:lnTo>
                      <a:pt x="138" y="669"/>
                    </a:lnTo>
                    <a:lnTo>
                      <a:pt x="125" y="657"/>
                    </a:lnTo>
                    <a:lnTo>
                      <a:pt x="111" y="645"/>
                    </a:lnTo>
                    <a:lnTo>
                      <a:pt x="98" y="632"/>
                    </a:lnTo>
                    <a:lnTo>
                      <a:pt x="86" y="618"/>
                    </a:lnTo>
                    <a:lnTo>
                      <a:pt x="75" y="604"/>
                    </a:lnTo>
                    <a:lnTo>
                      <a:pt x="65" y="589"/>
                    </a:lnTo>
                    <a:lnTo>
                      <a:pt x="55" y="573"/>
                    </a:lnTo>
                    <a:lnTo>
                      <a:pt x="45" y="558"/>
                    </a:lnTo>
                    <a:lnTo>
                      <a:pt x="37" y="542"/>
                    </a:lnTo>
                    <a:lnTo>
                      <a:pt x="30" y="525"/>
                    </a:lnTo>
                    <a:lnTo>
                      <a:pt x="23" y="507"/>
                    </a:lnTo>
                    <a:lnTo>
                      <a:pt x="17" y="490"/>
                    </a:lnTo>
                    <a:lnTo>
                      <a:pt x="12" y="472"/>
                    </a:lnTo>
                    <a:lnTo>
                      <a:pt x="8" y="454"/>
                    </a:lnTo>
                    <a:lnTo>
                      <a:pt x="5" y="435"/>
                    </a:lnTo>
                    <a:lnTo>
                      <a:pt x="2" y="416"/>
                    </a:lnTo>
                    <a:lnTo>
                      <a:pt x="1" y="397"/>
                    </a:lnTo>
                    <a:lnTo>
                      <a:pt x="0" y="378"/>
                    </a:lnTo>
                    <a:lnTo>
                      <a:pt x="1" y="358"/>
                    </a:lnTo>
                    <a:lnTo>
                      <a:pt x="2" y="339"/>
                    </a:lnTo>
                    <a:lnTo>
                      <a:pt x="5" y="320"/>
                    </a:lnTo>
                    <a:lnTo>
                      <a:pt x="8" y="302"/>
                    </a:lnTo>
                    <a:lnTo>
                      <a:pt x="12" y="284"/>
                    </a:lnTo>
                    <a:lnTo>
                      <a:pt x="17" y="266"/>
                    </a:lnTo>
                    <a:lnTo>
                      <a:pt x="23" y="248"/>
                    </a:lnTo>
                    <a:lnTo>
                      <a:pt x="30" y="231"/>
                    </a:lnTo>
                    <a:lnTo>
                      <a:pt x="37" y="214"/>
                    </a:lnTo>
                    <a:lnTo>
                      <a:pt x="45" y="198"/>
                    </a:lnTo>
                    <a:lnTo>
                      <a:pt x="55" y="182"/>
                    </a:lnTo>
                    <a:lnTo>
                      <a:pt x="65" y="166"/>
                    </a:lnTo>
                    <a:lnTo>
                      <a:pt x="75" y="152"/>
                    </a:lnTo>
                    <a:lnTo>
                      <a:pt x="86" y="138"/>
                    </a:lnTo>
                    <a:lnTo>
                      <a:pt x="98" y="123"/>
                    </a:lnTo>
                    <a:lnTo>
                      <a:pt x="111" y="111"/>
                    </a:lnTo>
                    <a:lnTo>
                      <a:pt x="125" y="98"/>
                    </a:lnTo>
                    <a:lnTo>
                      <a:pt x="138" y="86"/>
                    </a:lnTo>
                    <a:lnTo>
                      <a:pt x="152" y="75"/>
                    </a:lnTo>
                    <a:lnTo>
                      <a:pt x="167" y="64"/>
                    </a:lnTo>
                    <a:lnTo>
                      <a:pt x="182" y="55"/>
                    </a:lnTo>
                    <a:lnTo>
                      <a:pt x="198" y="45"/>
                    </a:lnTo>
                    <a:lnTo>
                      <a:pt x="215" y="37"/>
                    </a:lnTo>
                    <a:lnTo>
                      <a:pt x="231" y="30"/>
                    </a:lnTo>
                    <a:lnTo>
                      <a:pt x="248" y="23"/>
                    </a:lnTo>
                    <a:lnTo>
                      <a:pt x="266" y="17"/>
                    </a:lnTo>
                    <a:lnTo>
                      <a:pt x="284" y="12"/>
                    </a:lnTo>
                    <a:lnTo>
                      <a:pt x="302" y="7"/>
                    </a:lnTo>
                    <a:lnTo>
                      <a:pt x="320" y="5"/>
                    </a:lnTo>
                    <a:lnTo>
                      <a:pt x="339" y="2"/>
                    </a:lnTo>
                    <a:lnTo>
                      <a:pt x="359" y="0"/>
                    </a:lnTo>
                    <a:lnTo>
                      <a:pt x="378" y="0"/>
                    </a:lnTo>
                    <a:close/>
                  </a:path>
                </a:pathLst>
              </a:custGeom>
              <a:solidFill>
                <a:srgbClr val="e39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059520" y="4702320"/>
                <a:ext cx="298440" cy="298440"/>
              </a:xfrm>
              <a:custGeom>
                <a:avLst/>
                <a:gdLst/>
                <a:ahLst/>
                <a:rect l="l" t="t" r="r" b="b"/>
                <a:pathLst>
                  <a:path w="748" h="748">
                    <a:moveTo>
                      <a:pt x="374" y="0"/>
                    </a:moveTo>
                    <a:lnTo>
                      <a:pt x="393" y="1"/>
                    </a:lnTo>
                    <a:lnTo>
                      <a:pt x="412" y="2"/>
                    </a:lnTo>
                    <a:lnTo>
                      <a:pt x="430" y="5"/>
                    </a:lnTo>
                    <a:lnTo>
                      <a:pt x="450" y="8"/>
                    </a:lnTo>
                    <a:lnTo>
                      <a:pt x="468" y="12"/>
                    </a:lnTo>
                    <a:lnTo>
                      <a:pt x="484" y="17"/>
                    </a:lnTo>
                    <a:lnTo>
                      <a:pt x="502" y="23"/>
                    </a:lnTo>
                    <a:lnTo>
                      <a:pt x="519" y="30"/>
                    </a:lnTo>
                    <a:lnTo>
                      <a:pt x="536" y="37"/>
                    </a:lnTo>
                    <a:lnTo>
                      <a:pt x="552" y="45"/>
                    </a:lnTo>
                    <a:lnTo>
                      <a:pt x="567" y="55"/>
                    </a:lnTo>
                    <a:lnTo>
                      <a:pt x="583" y="64"/>
                    </a:lnTo>
                    <a:lnTo>
                      <a:pt x="597" y="74"/>
                    </a:lnTo>
                    <a:lnTo>
                      <a:pt x="612" y="86"/>
                    </a:lnTo>
                    <a:lnTo>
                      <a:pt x="625" y="97"/>
                    </a:lnTo>
                    <a:lnTo>
                      <a:pt x="638" y="110"/>
                    </a:lnTo>
                    <a:lnTo>
                      <a:pt x="651" y="123"/>
                    </a:lnTo>
                    <a:lnTo>
                      <a:pt x="662" y="136"/>
                    </a:lnTo>
                    <a:lnTo>
                      <a:pt x="674" y="151"/>
                    </a:lnTo>
                    <a:lnTo>
                      <a:pt x="684" y="165"/>
                    </a:lnTo>
                    <a:lnTo>
                      <a:pt x="694" y="181"/>
                    </a:lnTo>
                    <a:lnTo>
                      <a:pt x="703" y="196"/>
                    </a:lnTo>
                    <a:lnTo>
                      <a:pt x="711" y="212"/>
                    </a:lnTo>
                    <a:lnTo>
                      <a:pt x="718" y="229"/>
                    </a:lnTo>
                    <a:lnTo>
                      <a:pt x="726" y="246"/>
                    </a:lnTo>
                    <a:lnTo>
                      <a:pt x="732" y="264"/>
                    </a:lnTo>
                    <a:lnTo>
                      <a:pt x="736" y="282"/>
                    </a:lnTo>
                    <a:lnTo>
                      <a:pt x="741" y="300"/>
                    </a:lnTo>
                    <a:lnTo>
                      <a:pt x="744" y="318"/>
                    </a:lnTo>
                    <a:lnTo>
                      <a:pt x="746" y="337"/>
                    </a:lnTo>
                    <a:lnTo>
                      <a:pt x="747" y="355"/>
                    </a:lnTo>
                    <a:lnTo>
                      <a:pt x="748" y="374"/>
                    </a:lnTo>
                    <a:lnTo>
                      <a:pt x="747" y="393"/>
                    </a:lnTo>
                    <a:lnTo>
                      <a:pt x="746" y="412"/>
                    </a:lnTo>
                    <a:lnTo>
                      <a:pt x="744" y="432"/>
                    </a:lnTo>
                    <a:lnTo>
                      <a:pt x="741" y="450"/>
                    </a:lnTo>
                    <a:lnTo>
                      <a:pt x="736" y="468"/>
                    </a:lnTo>
                    <a:lnTo>
                      <a:pt x="732" y="486"/>
                    </a:lnTo>
                    <a:lnTo>
                      <a:pt x="726" y="502"/>
                    </a:lnTo>
                    <a:lnTo>
                      <a:pt x="718" y="520"/>
                    </a:lnTo>
                    <a:lnTo>
                      <a:pt x="711" y="536"/>
                    </a:lnTo>
                    <a:lnTo>
                      <a:pt x="703" y="553"/>
                    </a:lnTo>
                    <a:lnTo>
                      <a:pt x="694" y="568"/>
                    </a:lnTo>
                    <a:lnTo>
                      <a:pt x="684" y="584"/>
                    </a:lnTo>
                    <a:lnTo>
                      <a:pt x="674" y="598"/>
                    </a:lnTo>
                    <a:lnTo>
                      <a:pt x="662" y="613"/>
                    </a:lnTo>
                    <a:lnTo>
                      <a:pt x="651" y="626"/>
                    </a:lnTo>
                    <a:lnTo>
                      <a:pt x="638" y="639"/>
                    </a:lnTo>
                    <a:lnTo>
                      <a:pt x="625" y="651"/>
                    </a:lnTo>
                    <a:lnTo>
                      <a:pt x="612" y="663"/>
                    </a:lnTo>
                    <a:lnTo>
                      <a:pt x="597" y="674"/>
                    </a:lnTo>
                    <a:lnTo>
                      <a:pt x="583" y="685"/>
                    </a:lnTo>
                    <a:lnTo>
                      <a:pt x="567" y="694"/>
                    </a:lnTo>
                    <a:lnTo>
                      <a:pt x="552" y="704"/>
                    </a:lnTo>
                    <a:lnTo>
                      <a:pt x="536" y="712"/>
                    </a:lnTo>
                    <a:lnTo>
                      <a:pt x="519" y="720"/>
                    </a:lnTo>
                    <a:lnTo>
                      <a:pt x="502" y="726"/>
                    </a:lnTo>
                    <a:lnTo>
                      <a:pt x="484" y="732"/>
                    </a:lnTo>
                    <a:lnTo>
                      <a:pt x="468" y="738"/>
                    </a:lnTo>
                    <a:lnTo>
                      <a:pt x="450" y="741"/>
                    </a:lnTo>
                    <a:lnTo>
                      <a:pt x="430" y="745"/>
                    </a:lnTo>
                    <a:lnTo>
                      <a:pt x="412" y="747"/>
                    </a:lnTo>
                    <a:lnTo>
                      <a:pt x="393" y="748"/>
                    </a:lnTo>
                    <a:lnTo>
                      <a:pt x="374" y="748"/>
                    </a:lnTo>
                    <a:lnTo>
                      <a:pt x="355" y="748"/>
                    </a:lnTo>
                    <a:lnTo>
                      <a:pt x="336" y="747"/>
                    </a:lnTo>
                    <a:lnTo>
                      <a:pt x="316" y="745"/>
                    </a:lnTo>
                    <a:lnTo>
                      <a:pt x="298" y="741"/>
                    </a:lnTo>
                    <a:lnTo>
                      <a:pt x="280" y="738"/>
                    </a:lnTo>
                    <a:lnTo>
                      <a:pt x="262" y="732"/>
                    </a:lnTo>
                    <a:lnTo>
                      <a:pt x="246" y="726"/>
                    </a:lnTo>
                    <a:lnTo>
                      <a:pt x="229" y="720"/>
                    </a:lnTo>
                    <a:lnTo>
                      <a:pt x="212" y="712"/>
                    </a:lnTo>
                    <a:lnTo>
                      <a:pt x="195" y="704"/>
                    </a:lnTo>
                    <a:lnTo>
                      <a:pt x="180" y="694"/>
                    </a:lnTo>
                    <a:lnTo>
                      <a:pt x="165" y="685"/>
                    </a:lnTo>
                    <a:lnTo>
                      <a:pt x="150" y="674"/>
                    </a:lnTo>
                    <a:lnTo>
                      <a:pt x="135" y="663"/>
                    </a:lnTo>
                    <a:lnTo>
                      <a:pt x="122" y="651"/>
                    </a:lnTo>
                    <a:lnTo>
                      <a:pt x="109" y="639"/>
                    </a:lnTo>
                    <a:lnTo>
                      <a:pt x="97" y="626"/>
                    </a:lnTo>
                    <a:lnTo>
                      <a:pt x="85" y="613"/>
                    </a:lnTo>
                    <a:lnTo>
                      <a:pt x="74" y="598"/>
                    </a:lnTo>
                    <a:lnTo>
                      <a:pt x="63" y="584"/>
                    </a:lnTo>
                    <a:lnTo>
                      <a:pt x="54" y="568"/>
                    </a:lnTo>
                    <a:lnTo>
                      <a:pt x="44" y="553"/>
                    </a:lnTo>
                    <a:lnTo>
                      <a:pt x="37" y="536"/>
                    </a:lnTo>
                    <a:lnTo>
                      <a:pt x="28" y="520"/>
                    </a:lnTo>
                    <a:lnTo>
                      <a:pt x="22" y="502"/>
                    </a:lnTo>
                    <a:lnTo>
                      <a:pt x="16" y="486"/>
                    </a:lnTo>
                    <a:lnTo>
                      <a:pt x="12" y="468"/>
                    </a:lnTo>
                    <a:lnTo>
                      <a:pt x="7" y="450"/>
                    </a:lnTo>
                    <a:lnTo>
                      <a:pt x="3" y="432"/>
                    </a:lnTo>
                    <a:lnTo>
                      <a:pt x="1" y="412"/>
                    </a:lnTo>
                    <a:lnTo>
                      <a:pt x="0" y="393"/>
                    </a:lnTo>
                    <a:lnTo>
                      <a:pt x="0" y="374"/>
                    </a:lnTo>
                    <a:lnTo>
                      <a:pt x="0" y="355"/>
                    </a:lnTo>
                    <a:lnTo>
                      <a:pt x="1" y="337"/>
                    </a:lnTo>
                    <a:lnTo>
                      <a:pt x="3" y="318"/>
                    </a:lnTo>
                    <a:lnTo>
                      <a:pt x="7" y="300"/>
                    </a:lnTo>
                    <a:lnTo>
                      <a:pt x="12" y="282"/>
                    </a:lnTo>
                    <a:lnTo>
                      <a:pt x="16" y="264"/>
                    </a:lnTo>
                    <a:lnTo>
                      <a:pt x="22" y="246"/>
                    </a:lnTo>
                    <a:lnTo>
                      <a:pt x="28" y="229"/>
                    </a:lnTo>
                    <a:lnTo>
                      <a:pt x="37" y="212"/>
                    </a:lnTo>
                    <a:lnTo>
                      <a:pt x="44" y="196"/>
                    </a:lnTo>
                    <a:lnTo>
                      <a:pt x="54" y="181"/>
                    </a:lnTo>
                    <a:lnTo>
                      <a:pt x="63" y="165"/>
                    </a:lnTo>
                    <a:lnTo>
                      <a:pt x="74" y="151"/>
                    </a:lnTo>
                    <a:lnTo>
                      <a:pt x="85" y="136"/>
                    </a:lnTo>
                    <a:lnTo>
                      <a:pt x="97" y="123"/>
                    </a:lnTo>
                    <a:lnTo>
                      <a:pt x="109" y="110"/>
                    </a:lnTo>
                    <a:lnTo>
                      <a:pt x="122" y="97"/>
                    </a:lnTo>
                    <a:lnTo>
                      <a:pt x="135" y="86"/>
                    </a:lnTo>
                    <a:lnTo>
                      <a:pt x="150" y="74"/>
                    </a:lnTo>
                    <a:lnTo>
                      <a:pt x="165" y="64"/>
                    </a:lnTo>
                    <a:lnTo>
                      <a:pt x="180" y="55"/>
                    </a:lnTo>
                    <a:lnTo>
                      <a:pt x="195" y="45"/>
                    </a:lnTo>
                    <a:lnTo>
                      <a:pt x="212" y="37"/>
                    </a:lnTo>
                    <a:lnTo>
                      <a:pt x="229" y="30"/>
                    </a:lnTo>
                    <a:lnTo>
                      <a:pt x="246" y="23"/>
                    </a:lnTo>
                    <a:lnTo>
                      <a:pt x="262" y="17"/>
                    </a:lnTo>
                    <a:lnTo>
                      <a:pt x="280" y="12"/>
                    </a:lnTo>
                    <a:lnTo>
                      <a:pt x="298" y="8"/>
                    </a:lnTo>
                    <a:lnTo>
                      <a:pt x="316" y="5"/>
                    </a:lnTo>
                    <a:lnTo>
                      <a:pt x="336" y="2"/>
                    </a:lnTo>
                    <a:lnTo>
                      <a:pt x="355" y="1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e79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060960" y="4705200"/>
                <a:ext cx="295200" cy="293760"/>
              </a:xfrm>
              <a:custGeom>
                <a:avLst/>
                <a:gdLst/>
                <a:ahLst/>
                <a:rect l="l" t="t" r="r" b="b"/>
                <a:pathLst>
                  <a:path w="742" h="741">
                    <a:moveTo>
                      <a:pt x="371" y="0"/>
                    </a:moveTo>
                    <a:lnTo>
                      <a:pt x="390" y="1"/>
                    </a:lnTo>
                    <a:lnTo>
                      <a:pt x="409" y="2"/>
                    </a:lnTo>
                    <a:lnTo>
                      <a:pt x="427" y="5"/>
                    </a:lnTo>
                    <a:lnTo>
                      <a:pt x="445" y="8"/>
                    </a:lnTo>
                    <a:lnTo>
                      <a:pt x="463" y="12"/>
                    </a:lnTo>
                    <a:lnTo>
                      <a:pt x="481" y="17"/>
                    </a:lnTo>
                    <a:lnTo>
                      <a:pt x="498" y="23"/>
                    </a:lnTo>
                    <a:lnTo>
                      <a:pt x="515" y="30"/>
                    </a:lnTo>
                    <a:lnTo>
                      <a:pt x="532" y="37"/>
                    </a:lnTo>
                    <a:lnTo>
                      <a:pt x="547" y="45"/>
                    </a:lnTo>
                    <a:lnTo>
                      <a:pt x="563" y="54"/>
                    </a:lnTo>
                    <a:lnTo>
                      <a:pt x="579" y="63"/>
                    </a:lnTo>
                    <a:lnTo>
                      <a:pt x="593" y="74"/>
                    </a:lnTo>
                    <a:lnTo>
                      <a:pt x="607" y="85"/>
                    </a:lnTo>
                    <a:lnTo>
                      <a:pt x="621" y="97"/>
                    </a:lnTo>
                    <a:lnTo>
                      <a:pt x="634" y="109"/>
                    </a:lnTo>
                    <a:lnTo>
                      <a:pt x="646" y="122"/>
                    </a:lnTo>
                    <a:lnTo>
                      <a:pt x="657" y="135"/>
                    </a:lnTo>
                    <a:lnTo>
                      <a:pt x="669" y="150"/>
                    </a:lnTo>
                    <a:lnTo>
                      <a:pt x="678" y="164"/>
                    </a:lnTo>
                    <a:lnTo>
                      <a:pt x="688" y="178"/>
                    </a:lnTo>
                    <a:lnTo>
                      <a:pt x="697" y="194"/>
                    </a:lnTo>
                    <a:lnTo>
                      <a:pt x="706" y="211"/>
                    </a:lnTo>
                    <a:lnTo>
                      <a:pt x="713" y="226"/>
                    </a:lnTo>
                    <a:lnTo>
                      <a:pt x="719" y="243"/>
                    </a:lnTo>
                    <a:lnTo>
                      <a:pt x="725" y="261"/>
                    </a:lnTo>
                    <a:lnTo>
                      <a:pt x="730" y="278"/>
                    </a:lnTo>
                    <a:lnTo>
                      <a:pt x="735" y="296"/>
                    </a:lnTo>
                    <a:lnTo>
                      <a:pt x="738" y="315"/>
                    </a:lnTo>
                    <a:lnTo>
                      <a:pt x="741" y="333"/>
                    </a:lnTo>
                    <a:lnTo>
                      <a:pt x="742" y="352"/>
                    </a:lnTo>
                    <a:lnTo>
                      <a:pt x="742" y="370"/>
                    </a:lnTo>
                    <a:lnTo>
                      <a:pt x="742" y="390"/>
                    </a:lnTo>
                    <a:lnTo>
                      <a:pt x="741" y="409"/>
                    </a:lnTo>
                    <a:lnTo>
                      <a:pt x="738" y="427"/>
                    </a:lnTo>
                    <a:lnTo>
                      <a:pt x="735" y="446"/>
                    </a:lnTo>
                    <a:lnTo>
                      <a:pt x="730" y="464"/>
                    </a:lnTo>
                    <a:lnTo>
                      <a:pt x="725" y="481"/>
                    </a:lnTo>
                    <a:lnTo>
                      <a:pt x="719" y="499"/>
                    </a:lnTo>
                    <a:lnTo>
                      <a:pt x="713" y="516"/>
                    </a:lnTo>
                    <a:lnTo>
                      <a:pt x="706" y="531"/>
                    </a:lnTo>
                    <a:lnTo>
                      <a:pt x="697" y="548"/>
                    </a:lnTo>
                    <a:lnTo>
                      <a:pt x="688" y="562"/>
                    </a:lnTo>
                    <a:lnTo>
                      <a:pt x="678" y="578"/>
                    </a:lnTo>
                    <a:lnTo>
                      <a:pt x="669" y="592"/>
                    </a:lnTo>
                    <a:lnTo>
                      <a:pt x="657" y="607"/>
                    </a:lnTo>
                    <a:lnTo>
                      <a:pt x="646" y="620"/>
                    </a:lnTo>
                    <a:lnTo>
                      <a:pt x="634" y="633"/>
                    </a:lnTo>
                    <a:lnTo>
                      <a:pt x="621" y="645"/>
                    </a:lnTo>
                    <a:lnTo>
                      <a:pt x="607" y="657"/>
                    </a:lnTo>
                    <a:lnTo>
                      <a:pt x="593" y="668"/>
                    </a:lnTo>
                    <a:lnTo>
                      <a:pt x="579" y="679"/>
                    </a:lnTo>
                    <a:lnTo>
                      <a:pt x="563" y="688"/>
                    </a:lnTo>
                    <a:lnTo>
                      <a:pt x="547" y="697"/>
                    </a:lnTo>
                    <a:lnTo>
                      <a:pt x="532" y="705"/>
                    </a:lnTo>
                    <a:lnTo>
                      <a:pt x="515" y="712"/>
                    </a:lnTo>
                    <a:lnTo>
                      <a:pt x="498" y="720"/>
                    </a:lnTo>
                    <a:lnTo>
                      <a:pt x="481" y="726"/>
                    </a:lnTo>
                    <a:lnTo>
                      <a:pt x="463" y="730"/>
                    </a:lnTo>
                    <a:lnTo>
                      <a:pt x="445" y="734"/>
                    </a:lnTo>
                    <a:lnTo>
                      <a:pt x="427" y="738"/>
                    </a:lnTo>
                    <a:lnTo>
                      <a:pt x="409" y="740"/>
                    </a:lnTo>
                    <a:lnTo>
                      <a:pt x="390" y="741"/>
                    </a:lnTo>
                    <a:lnTo>
                      <a:pt x="371" y="741"/>
                    </a:lnTo>
                    <a:lnTo>
                      <a:pt x="352" y="741"/>
                    </a:lnTo>
                    <a:lnTo>
                      <a:pt x="334" y="740"/>
                    </a:lnTo>
                    <a:lnTo>
                      <a:pt x="315" y="738"/>
                    </a:lnTo>
                    <a:lnTo>
                      <a:pt x="297" y="734"/>
                    </a:lnTo>
                    <a:lnTo>
                      <a:pt x="279" y="730"/>
                    </a:lnTo>
                    <a:lnTo>
                      <a:pt x="262" y="726"/>
                    </a:lnTo>
                    <a:lnTo>
                      <a:pt x="244" y="720"/>
                    </a:lnTo>
                    <a:lnTo>
                      <a:pt x="227" y="712"/>
                    </a:lnTo>
                    <a:lnTo>
                      <a:pt x="210" y="705"/>
                    </a:lnTo>
                    <a:lnTo>
                      <a:pt x="195" y="697"/>
                    </a:lnTo>
                    <a:lnTo>
                      <a:pt x="179" y="688"/>
                    </a:lnTo>
                    <a:lnTo>
                      <a:pt x="165" y="679"/>
                    </a:lnTo>
                    <a:lnTo>
                      <a:pt x="150" y="668"/>
                    </a:lnTo>
                    <a:lnTo>
                      <a:pt x="136" y="657"/>
                    </a:lnTo>
                    <a:lnTo>
                      <a:pt x="123" y="645"/>
                    </a:lnTo>
                    <a:lnTo>
                      <a:pt x="109" y="633"/>
                    </a:lnTo>
                    <a:lnTo>
                      <a:pt x="97" y="620"/>
                    </a:lnTo>
                    <a:lnTo>
                      <a:pt x="85" y="607"/>
                    </a:lnTo>
                    <a:lnTo>
                      <a:pt x="75" y="592"/>
                    </a:lnTo>
                    <a:lnTo>
                      <a:pt x="64" y="578"/>
                    </a:lnTo>
                    <a:lnTo>
                      <a:pt x="54" y="562"/>
                    </a:lnTo>
                    <a:lnTo>
                      <a:pt x="46" y="548"/>
                    </a:lnTo>
                    <a:lnTo>
                      <a:pt x="37" y="531"/>
                    </a:lnTo>
                    <a:lnTo>
                      <a:pt x="30" y="516"/>
                    </a:lnTo>
                    <a:lnTo>
                      <a:pt x="23" y="499"/>
                    </a:lnTo>
                    <a:lnTo>
                      <a:pt x="17" y="481"/>
                    </a:lnTo>
                    <a:lnTo>
                      <a:pt x="12" y="464"/>
                    </a:lnTo>
                    <a:lnTo>
                      <a:pt x="9" y="446"/>
                    </a:lnTo>
                    <a:lnTo>
                      <a:pt x="5" y="427"/>
                    </a:lnTo>
                    <a:lnTo>
                      <a:pt x="3" y="409"/>
                    </a:lnTo>
                    <a:lnTo>
                      <a:pt x="1" y="390"/>
                    </a:lnTo>
                    <a:lnTo>
                      <a:pt x="0" y="370"/>
                    </a:lnTo>
                    <a:lnTo>
                      <a:pt x="1" y="352"/>
                    </a:lnTo>
                    <a:lnTo>
                      <a:pt x="3" y="333"/>
                    </a:lnTo>
                    <a:lnTo>
                      <a:pt x="5" y="315"/>
                    </a:lnTo>
                    <a:lnTo>
                      <a:pt x="9" y="296"/>
                    </a:lnTo>
                    <a:lnTo>
                      <a:pt x="12" y="278"/>
                    </a:lnTo>
                    <a:lnTo>
                      <a:pt x="17" y="261"/>
                    </a:lnTo>
                    <a:lnTo>
                      <a:pt x="23" y="243"/>
                    </a:lnTo>
                    <a:lnTo>
                      <a:pt x="30" y="226"/>
                    </a:lnTo>
                    <a:lnTo>
                      <a:pt x="37" y="211"/>
                    </a:lnTo>
                    <a:lnTo>
                      <a:pt x="46" y="194"/>
                    </a:lnTo>
                    <a:lnTo>
                      <a:pt x="54" y="178"/>
                    </a:lnTo>
                    <a:lnTo>
                      <a:pt x="64" y="164"/>
                    </a:lnTo>
                    <a:lnTo>
                      <a:pt x="75" y="150"/>
                    </a:lnTo>
                    <a:lnTo>
                      <a:pt x="85" y="135"/>
                    </a:lnTo>
                    <a:lnTo>
                      <a:pt x="97" y="122"/>
                    </a:lnTo>
                    <a:lnTo>
                      <a:pt x="109" y="109"/>
                    </a:lnTo>
                    <a:lnTo>
                      <a:pt x="123" y="97"/>
                    </a:lnTo>
                    <a:lnTo>
                      <a:pt x="136" y="85"/>
                    </a:lnTo>
                    <a:lnTo>
                      <a:pt x="150" y="74"/>
                    </a:lnTo>
                    <a:lnTo>
                      <a:pt x="165" y="63"/>
                    </a:lnTo>
                    <a:lnTo>
                      <a:pt x="179" y="54"/>
                    </a:lnTo>
                    <a:lnTo>
                      <a:pt x="195" y="45"/>
                    </a:lnTo>
                    <a:lnTo>
                      <a:pt x="210" y="37"/>
                    </a:lnTo>
                    <a:lnTo>
                      <a:pt x="227" y="30"/>
                    </a:lnTo>
                    <a:lnTo>
                      <a:pt x="244" y="23"/>
                    </a:lnTo>
                    <a:lnTo>
                      <a:pt x="262" y="17"/>
                    </a:lnTo>
                    <a:lnTo>
                      <a:pt x="279" y="12"/>
                    </a:lnTo>
                    <a:lnTo>
                      <a:pt x="297" y="8"/>
                    </a:lnTo>
                    <a:lnTo>
                      <a:pt x="315" y="5"/>
                    </a:lnTo>
                    <a:lnTo>
                      <a:pt x="334" y="2"/>
                    </a:lnTo>
                    <a:lnTo>
                      <a:pt x="352" y="1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ec9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064200" y="47084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734" h="734">
                    <a:moveTo>
                      <a:pt x="367" y="0"/>
                    </a:moveTo>
                    <a:lnTo>
                      <a:pt x="385" y="0"/>
                    </a:lnTo>
                    <a:lnTo>
                      <a:pt x="404" y="1"/>
                    </a:lnTo>
                    <a:lnTo>
                      <a:pt x="422" y="4"/>
                    </a:lnTo>
                    <a:lnTo>
                      <a:pt x="440" y="7"/>
                    </a:lnTo>
                    <a:lnTo>
                      <a:pt x="458" y="11"/>
                    </a:lnTo>
                    <a:lnTo>
                      <a:pt x="475" y="17"/>
                    </a:lnTo>
                    <a:lnTo>
                      <a:pt x="493" y="22"/>
                    </a:lnTo>
                    <a:lnTo>
                      <a:pt x="510" y="29"/>
                    </a:lnTo>
                    <a:lnTo>
                      <a:pt x="526" y="36"/>
                    </a:lnTo>
                    <a:lnTo>
                      <a:pt x="541" y="44"/>
                    </a:lnTo>
                    <a:lnTo>
                      <a:pt x="557" y="53"/>
                    </a:lnTo>
                    <a:lnTo>
                      <a:pt x="571" y="62"/>
                    </a:lnTo>
                    <a:lnTo>
                      <a:pt x="586" y="73"/>
                    </a:lnTo>
                    <a:lnTo>
                      <a:pt x="600" y="84"/>
                    </a:lnTo>
                    <a:lnTo>
                      <a:pt x="613" y="95"/>
                    </a:lnTo>
                    <a:lnTo>
                      <a:pt x="626" y="107"/>
                    </a:lnTo>
                    <a:lnTo>
                      <a:pt x="638" y="120"/>
                    </a:lnTo>
                    <a:lnTo>
                      <a:pt x="650" y="133"/>
                    </a:lnTo>
                    <a:lnTo>
                      <a:pt x="661" y="147"/>
                    </a:lnTo>
                    <a:lnTo>
                      <a:pt x="671" y="162"/>
                    </a:lnTo>
                    <a:lnTo>
                      <a:pt x="680" y="176"/>
                    </a:lnTo>
                    <a:lnTo>
                      <a:pt x="690" y="192"/>
                    </a:lnTo>
                    <a:lnTo>
                      <a:pt x="697" y="207"/>
                    </a:lnTo>
                    <a:lnTo>
                      <a:pt x="704" y="224"/>
                    </a:lnTo>
                    <a:lnTo>
                      <a:pt x="712" y="241"/>
                    </a:lnTo>
                    <a:lnTo>
                      <a:pt x="718" y="258"/>
                    </a:lnTo>
                    <a:lnTo>
                      <a:pt x="722" y="275"/>
                    </a:lnTo>
                    <a:lnTo>
                      <a:pt x="726" y="293"/>
                    </a:lnTo>
                    <a:lnTo>
                      <a:pt x="730" y="311"/>
                    </a:lnTo>
                    <a:lnTo>
                      <a:pt x="732" y="329"/>
                    </a:lnTo>
                    <a:lnTo>
                      <a:pt x="733" y="348"/>
                    </a:lnTo>
                    <a:lnTo>
                      <a:pt x="734" y="367"/>
                    </a:lnTo>
                    <a:lnTo>
                      <a:pt x="733" y="385"/>
                    </a:lnTo>
                    <a:lnTo>
                      <a:pt x="732" y="404"/>
                    </a:lnTo>
                    <a:lnTo>
                      <a:pt x="730" y="422"/>
                    </a:lnTo>
                    <a:lnTo>
                      <a:pt x="726" y="440"/>
                    </a:lnTo>
                    <a:lnTo>
                      <a:pt x="722" y="458"/>
                    </a:lnTo>
                    <a:lnTo>
                      <a:pt x="718" y="475"/>
                    </a:lnTo>
                    <a:lnTo>
                      <a:pt x="712" y="493"/>
                    </a:lnTo>
                    <a:lnTo>
                      <a:pt x="704" y="509"/>
                    </a:lnTo>
                    <a:lnTo>
                      <a:pt x="697" y="525"/>
                    </a:lnTo>
                    <a:lnTo>
                      <a:pt x="690" y="541"/>
                    </a:lnTo>
                    <a:lnTo>
                      <a:pt x="680" y="557"/>
                    </a:lnTo>
                    <a:lnTo>
                      <a:pt x="671" y="571"/>
                    </a:lnTo>
                    <a:lnTo>
                      <a:pt x="661" y="585"/>
                    </a:lnTo>
                    <a:lnTo>
                      <a:pt x="650" y="600"/>
                    </a:lnTo>
                    <a:lnTo>
                      <a:pt x="638" y="613"/>
                    </a:lnTo>
                    <a:lnTo>
                      <a:pt x="626" y="626"/>
                    </a:lnTo>
                    <a:lnTo>
                      <a:pt x="613" y="638"/>
                    </a:lnTo>
                    <a:lnTo>
                      <a:pt x="600" y="650"/>
                    </a:lnTo>
                    <a:lnTo>
                      <a:pt x="586" y="661"/>
                    </a:lnTo>
                    <a:lnTo>
                      <a:pt x="571" y="671"/>
                    </a:lnTo>
                    <a:lnTo>
                      <a:pt x="557" y="680"/>
                    </a:lnTo>
                    <a:lnTo>
                      <a:pt x="541" y="690"/>
                    </a:lnTo>
                    <a:lnTo>
                      <a:pt x="526" y="697"/>
                    </a:lnTo>
                    <a:lnTo>
                      <a:pt x="510" y="704"/>
                    </a:lnTo>
                    <a:lnTo>
                      <a:pt x="493" y="711"/>
                    </a:lnTo>
                    <a:lnTo>
                      <a:pt x="475" y="717"/>
                    </a:lnTo>
                    <a:lnTo>
                      <a:pt x="458" y="722"/>
                    </a:lnTo>
                    <a:lnTo>
                      <a:pt x="440" y="726"/>
                    </a:lnTo>
                    <a:lnTo>
                      <a:pt x="422" y="729"/>
                    </a:lnTo>
                    <a:lnTo>
                      <a:pt x="404" y="732"/>
                    </a:lnTo>
                    <a:lnTo>
                      <a:pt x="385" y="733"/>
                    </a:lnTo>
                    <a:lnTo>
                      <a:pt x="367" y="734"/>
                    </a:lnTo>
                    <a:lnTo>
                      <a:pt x="348" y="733"/>
                    </a:lnTo>
                    <a:lnTo>
                      <a:pt x="329" y="732"/>
                    </a:lnTo>
                    <a:lnTo>
                      <a:pt x="311" y="729"/>
                    </a:lnTo>
                    <a:lnTo>
                      <a:pt x="293" y="726"/>
                    </a:lnTo>
                    <a:lnTo>
                      <a:pt x="275" y="722"/>
                    </a:lnTo>
                    <a:lnTo>
                      <a:pt x="258" y="717"/>
                    </a:lnTo>
                    <a:lnTo>
                      <a:pt x="241" y="711"/>
                    </a:lnTo>
                    <a:lnTo>
                      <a:pt x="224" y="704"/>
                    </a:lnTo>
                    <a:lnTo>
                      <a:pt x="208" y="697"/>
                    </a:lnTo>
                    <a:lnTo>
                      <a:pt x="192" y="690"/>
                    </a:lnTo>
                    <a:lnTo>
                      <a:pt x="176" y="680"/>
                    </a:lnTo>
                    <a:lnTo>
                      <a:pt x="162" y="671"/>
                    </a:lnTo>
                    <a:lnTo>
                      <a:pt x="148" y="661"/>
                    </a:lnTo>
                    <a:lnTo>
                      <a:pt x="133" y="650"/>
                    </a:lnTo>
                    <a:lnTo>
                      <a:pt x="120" y="638"/>
                    </a:lnTo>
                    <a:lnTo>
                      <a:pt x="108" y="626"/>
                    </a:lnTo>
                    <a:lnTo>
                      <a:pt x="95" y="613"/>
                    </a:lnTo>
                    <a:lnTo>
                      <a:pt x="84" y="600"/>
                    </a:lnTo>
                    <a:lnTo>
                      <a:pt x="73" y="585"/>
                    </a:lnTo>
                    <a:lnTo>
                      <a:pt x="62" y="571"/>
                    </a:lnTo>
                    <a:lnTo>
                      <a:pt x="53" y="557"/>
                    </a:lnTo>
                    <a:lnTo>
                      <a:pt x="44" y="541"/>
                    </a:lnTo>
                    <a:lnTo>
                      <a:pt x="36" y="525"/>
                    </a:lnTo>
                    <a:lnTo>
                      <a:pt x="29" y="509"/>
                    </a:lnTo>
                    <a:lnTo>
                      <a:pt x="22" y="493"/>
                    </a:lnTo>
                    <a:lnTo>
                      <a:pt x="17" y="475"/>
                    </a:lnTo>
                    <a:lnTo>
                      <a:pt x="11" y="458"/>
                    </a:lnTo>
                    <a:lnTo>
                      <a:pt x="7" y="440"/>
                    </a:lnTo>
                    <a:lnTo>
                      <a:pt x="4" y="422"/>
                    </a:lnTo>
                    <a:lnTo>
                      <a:pt x="1" y="404"/>
                    </a:lnTo>
                    <a:lnTo>
                      <a:pt x="0" y="385"/>
                    </a:lnTo>
                    <a:lnTo>
                      <a:pt x="0" y="367"/>
                    </a:lnTo>
                    <a:lnTo>
                      <a:pt x="0" y="348"/>
                    </a:lnTo>
                    <a:lnTo>
                      <a:pt x="1" y="329"/>
                    </a:lnTo>
                    <a:lnTo>
                      <a:pt x="4" y="311"/>
                    </a:lnTo>
                    <a:lnTo>
                      <a:pt x="7" y="293"/>
                    </a:lnTo>
                    <a:lnTo>
                      <a:pt x="11" y="275"/>
                    </a:lnTo>
                    <a:lnTo>
                      <a:pt x="17" y="258"/>
                    </a:lnTo>
                    <a:lnTo>
                      <a:pt x="22" y="241"/>
                    </a:lnTo>
                    <a:lnTo>
                      <a:pt x="29" y="224"/>
                    </a:lnTo>
                    <a:lnTo>
                      <a:pt x="36" y="207"/>
                    </a:lnTo>
                    <a:lnTo>
                      <a:pt x="44" y="192"/>
                    </a:lnTo>
                    <a:lnTo>
                      <a:pt x="53" y="176"/>
                    </a:lnTo>
                    <a:lnTo>
                      <a:pt x="62" y="162"/>
                    </a:lnTo>
                    <a:lnTo>
                      <a:pt x="73" y="147"/>
                    </a:lnTo>
                    <a:lnTo>
                      <a:pt x="84" y="133"/>
                    </a:lnTo>
                    <a:lnTo>
                      <a:pt x="95" y="120"/>
                    </a:lnTo>
                    <a:lnTo>
                      <a:pt x="108" y="107"/>
                    </a:lnTo>
                    <a:lnTo>
                      <a:pt x="120" y="95"/>
                    </a:lnTo>
                    <a:lnTo>
                      <a:pt x="133" y="84"/>
                    </a:lnTo>
                    <a:lnTo>
                      <a:pt x="148" y="73"/>
                    </a:lnTo>
                    <a:lnTo>
                      <a:pt x="162" y="62"/>
                    </a:lnTo>
                    <a:lnTo>
                      <a:pt x="176" y="53"/>
                    </a:lnTo>
                    <a:lnTo>
                      <a:pt x="192" y="44"/>
                    </a:lnTo>
                    <a:lnTo>
                      <a:pt x="208" y="36"/>
                    </a:lnTo>
                    <a:lnTo>
                      <a:pt x="224" y="29"/>
                    </a:lnTo>
                    <a:lnTo>
                      <a:pt x="241" y="22"/>
                    </a:lnTo>
                    <a:lnTo>
                      <a:pt x="258" y="17"/>
                    </a:lnTo>
                    <a:lnTo>
                      <a:pt x="275" y="11"/>
                    </a:lnTo>
                    <a:lnTo>
                      <a:pt x="293" y="7"/>
                    </a:lnTo>
                    <a:lnTo>
                      <a:pt x="311" y="4"/>
                    </a:lnTo>
                    <a:lnTo>
                      <a:pt x="329" y="1"/>
                    </a:lnTo>
                    <a:lnTo>
                      <a:pt x="348" y="0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f2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076800" y="4727520"/>
                <a:ext cx="258840" cy="258840"/>
              </a:xfrm>
              <a:custGeom>
                <a:avLst/>
                <a:gdLst/>
                <a:ahLst/>
                <a:rect l="l" t="t" r="r" b="b"/>
                <a:pathLst>
                  <a:path w="652" h="652">
                    <a:moveTo>
                      <a:pt x="327" y="0"/>
                    </a:moveTo>
                    <a:lnTo>
                      <a:pt x="344" y="1"/>
                    </a:lnTo>
                    <a:lnTo>
                      <a:pt x="359" y="2"/>
                    </a:lnTo>
                    <a:lnTo>
                      <a:pt x="376" y="4"/>
                    </a:lnTo>
                    <a:lnTo>
                      <a:pt x="392" y="7"/>
                    </a:lnTo>
                    <a:lnTo>
                      <a:pt x="407" y="11"/>
                    </a:lnTo>
                    <a:lnTo>
                      <a:pt x="423" y="16"/>
                    </a:lnTo>
                    <a:lnTo>
                      <a:pt x="438" y="20"/>
                    </a:lnTo>
                    <a:lnTo>
                      <a:pt x="453" y="26"/>
                    </a:lnTo>
                    <a:lnTo>
                      <a:pt x="467" y="32"/>
                    </a:lnTo>
                    <a:lnTo>
                      <a:pt x="482" y="40"/>
                    </a:lnTo>
                    <a:lnTo>
                      <a:pt x="495" y="48"/>
                    </a:lnTo>
                    <a:lnTo>
                      <a:pt x="508" y="56"/>
                    </a:lnTo>
                    <a:lnTo>
                      <a:pt x="521" y="65"/>
                    </a:lnTo>
                    <a:lnTo>
                      <a:pt x="533" y="74"/>
                    </a:lnTo>
                    <a:lnTo>
                      <a:pt x="545" y="85"/>
                    </a:lnTo>
                    <a:lnTo>
                      <a:pt x="556" y="96"/>
                    </a:lnTo>
                    <a:lnTo>
                      <a:pt x="567" y="107"/>
                    </a:lnTo>
                    <a:lnTo>
                      <a:pt x="578" y="119"/>
                    </a:lnTo>
                    <a:lnTo>
                      <a:pt x="587" y="131"/>
                    </a:lnTo>
                    <a:lnTo>
                      <a:pt x="597" y="144"/>
                    </a:lnTo>
                    <a:lnTo>
                      <a:pt x="605" y="157"/>
                    </a:lnTo>
                    <a:lnTo>
                      <a:pt x="612" y="172"/>
                    </a:lnTo>
                    <a:lnTo>
                      <a:pt x="620" y="185"/>
                    </a:lnTo>
                    <a:lnTo>
                      <a:pt x="627" y="199"/>
                    </a:lnTo>
                    <a:lnTo>
                      <a:pt x="632" y="215"/>
                    </a:lnTo>
                    <a:lnTo>
                      <a:pt x="638" y="229"/>
                    </a:lnTo>
                    <a:lnTo>
                      <a:pt x="641" y="245"/>
                    </a:lnTo>
                    <a:lnTo>
                      <a:pt x="645" y="260"/>
                    </a:lnTo>
                    <a:lnTo>
                      <a:pt x="648" y="276"/>
                    </a:lnTo>
                    <a:lnTo>
                      <a:pt x="651" y="293"/>
                    </a:lnTo>
                    <a:lnTo>
                      <a:pt x="652" y="310"/>
                    </a:lnTo>
                    <a:lnTo>
                      <a:pt x="652" y="326"/>
                    </a:lnTo>
                    <a:lnTo>
                      <a:pt x="652" y="343"/>
                    </a:lnTo>
                    <a:lnTo>
                      <a:pt x="651" y="359"/>
                    </a:lnTo>
                    <a:lnTo>
                      <a:pt x="648" y="376"/>
                    </a:lnTo>
                    <a:lnTo>
                      <a:pt x="645" y="391"/>
                    </a:lnTo>
                    <a:lnTo>
                      <a:pt x="641" y="407"/>
                    </a:lnTo>
                    <a:lnTo>
                      <a:pt x="638" y="422"/>
                    </a:lnTo>
                    <a:lnTo>
                      <a:pt x="632" y="438"/>
                    </a:lnTo>
                    <a:lnTo>
                      <a:pt x="627" y="452"/>
                    </a:lnTo>
                    <a:lnTo>
                      <a:pt x="620" y="467"/>
                    </a:lnTo>
                    <a:lnTo>
                      <a:pt x="612" y="481"/>
                    </a:lnTo>
                    <a:lnTo>
                      <a:pt x="605" y="494"/>
                    </a:lnTo>
                    <a:lnTo>
                      <a:pt x="597" y="508"/>
                    </a:lnTo>
                    <a:lnTo>
                      <a:pt x="587" y="521"/>
                    </a:lnTo>
                    <a:lnTo>
                      <a:pt x="578" y="533"/>
                    </a:lnTo>
                    <a:lnTo>
                      <a:pt x="567" y="545"/>
                    </a:lnTo>
                    <a:lnTo>
                      <a:pt x="556" y="556"/>
                    </a:lnTo>
                    <a:lnTo>
                      <a:pt x="545" y="566"/>
                    </a:lnTo>
                    <a:lnTo>
                      <a:pt x="533" y="577"/>
                    </a:lnTo>
                    <a:lnTo>
                      <a:pt x="521" y="587"/>
                    </a:lnTo>
                    <a:lnTo>
                      <a:pt x="508" y="596"/>
                    </a:lnTo>
                    <a:lnTo>
                      <a:pt x="495" y="605"/>
                    </a:lnTo>
                    <a:lnTo>
                      <a:pt x="482" y="612"/>
                    </a:lnTo>
                    <a:lnTo>
                      <a:pt x="467" y="619"/>
                    </a:lnTo>
                    <a:lnTo>
                      <a:pt x="453" y="626"/>
                    </a:lnTo>
                    <a:lnTo>
                      <a:pt x="438" y="632"/>
                    </a:lnTo>
                    <a:lnTo>
                      <a:pt x="423" y="637"/>
                    </a:lnTo>
                    <a:lnTo>
                      <a:pt x="407" y="642"/>
                    </a:lnTo>
                    <a:lnTo>
                      <a:pt x="392" y="646"/>
                    </a:lnTo>
                    <a:lnTo>
                      <a:pt x="376" y="648"/>
                    </a:lnTo>
                    <a:lnTo>
                      <a:pt x="359" y="650"/>
                    </a:lnTo>
                    <a:lnTo>
                      <a:pt x="344" y="652"/>
                    </a:lnTo>
                    <a:lnTo>
                      <a:pt x="327" y="652"/>
                    </a:lnTo>
                    <a:lnTo>
                      <a:pt x="310" y="652"/>
                    </a:lnTo>
                    <a:lnTo>
                      <a:pt x="293" y="650"/>
                    </a:lnTo>
                    <a:lnTo>
                      <a:pt x="276" y="648"/>
                    </a:lnTo>
                    <a:lnTo>
                      <a:pt x="261" y="646"/>
                    </a:lnTo>
                    <a:lnTo>
                      <a:pt x="245" y="642"/>
                    </a:lnTo>
                    <a:lnTo>
                      <a:pt x="230" y="637"/>
                    </a:lnTo>
                    <a:lnTo>
                      <a:pt x="214" y="632"/>
                    </a:lnTo>
                    <a:lnTo>
                      <a:pt x="200" y="626"/>
                    </a:lnTo>
                    <a:lnTo>
                      <a:pt x="185" y="619"/>
                    </a:lnTo>
                    <a:lnTo>
                      <a:pt x="171" y="612"/>
                    </a:lnTo>
                    <a:lnTo>
                      <a:pt x="158" y="605"/>
                    </a:lnTo>
                    <a:lnTo>
                      <a:pt x="144" y="596"/>
                    </a:lnTo>
                    <a:lnTo>
                      <a:pt x="131" y="587"/>
                    </a:lnTo>
                    <a:lnTo>
                      <a:pt x="119" y="577"/>
                    </a:lnTo>
                    <a:lnTo>
                      <a:pt x="107" y="566"/>
                    </a:lnTo>
                    <a:lnTo>
                      <a:pt x="96" y="556"/>
                    </a:lnTo>
                    <a:lnTo>
                      <a:pt x="86" y="545"/>
                    </a:lnTo>
                    <a:lnTo>
                      <a:pt x="75" y="533"/>
                    </a:lnTo>
                    <a:lnTo>
                      <a:pt x="65" y="521"/>
                    </a:lnTo>
                    <a:lnTo>
                      <a:pt x="57" y="508"/>
                    </a:lnTo>
                    <a:lnTo>
                      <a:pt x="48" y="494"/>
                    </a:lnTo>
                    <a:lnTo>
                      <a:pt x="40" y="481"/>
                    </a:lnTo>
                    <a:lnTo>
                      <a:pt x="33" y="467"/>
                    </a:lnTo>
                    <a:lnTo>
                      <a:pt x="27" y="452"/>
                    </a:lnTo>
                    <a:lnTo>
                      <a:pt x="21" y="438"/>
                    </a:lnTo>
                    <a:lnTo>
                      <a:pt x="15" y="422"/>
                    </a:lnTo>
                    <a:lnTo>
                      <a:pt x="11" y="407"/>
                    </a:lnTo>
                    <a:lnTo>
                      <a:pt x="8" y="391"/>
                    </a:lnTo>
                    <a:lnTo>
                      <a:pt x="4" y="376"/>
                    </a:lnTo>
                    <a:lnTo>
                      <a:pt x="3" y="359"/>
                    </a:lnTo>
                    <a:lnTo>
                      <a:pt x="0" y="343"/>
                    </a:lnTo>
                    <a:lnTo>
                      <a:pt x="0" y="326"/>
                    </a:lnTo>
                    <a:lnTo>
                      <a:pt x="0" y="310"/>
                    </a:lnTo>
                    <a:lnTo>
                      <a:pt x="3" y="293"/>
                    </a:lnTo>
                    <a:lnTo>
                      <a:pt x="4" y="276"/>
                    </a:lnTo>
                    <a:lnTo>
                      <a:pt x="8" y="260"/>
                    </a:lnTo>
                    <a:lnTo>
                      <a:pt x="11" y="245"/>
                    </a:lnTo>
                    <a:lnTo>
                      <a:pt x="15" y="229"/>
                    </a:lnTo>
                    <a:lnTo>
                      <a:pt x="21" y="215"/>
                    </a:lnTo>
                    <a:lnTo>
                      <a:pt x="27" y="199"/>
                    </a:lnTo>
                    <a:lnTo>
                      <a:pt x="33" y="185"/>
                    </a:lnTo>
                    <a:lnTo>
                      <a:pt x="40" y="172"/>
                    </a:lnTo>
                    <a:lnTo>
                      <a:pt x="48" y="157"/>
                    </a:lnTo>
                    <a:lnTo>
                      <a:pt x="57" y="144"/>
                    </a:lnTo>
                    <a:lnTo>
                      <a:pt x="65" y="131"/>
                    </a:lnTo>
                    <a:lnTo>
                      <a:pt x="75" y="119"/>
                    </a:lnTo>
                    <a:lnTo>
                      <a:pt x="86" y="107"/>
                    </a:lnTo>
                    <a:lnTo>
                      <a:pt x="96" y="96"/>
                    </a:lnTo>
                    <a:lnTo>
                      <a:pt x="107" y="85"/>
                    </a:lnTo>
                    <a:lnTo>
                      <a:pt x="119" y="74"/>
                    </a:lnTo>
                    <a:lnTo>
                      <a:pt x="131" y="65"/>
                    </a:lnTo>
                    <a:lnTo>
                      <a:pt x="144" y="56"/>
                    </a:lnTo>
                    <a:lnTo>
                      <a:pt x="158" y="48"/>
                    </a:lnTo>
                    <a:lnTo>
                      <a:pt x="171" y="40"/>
                    </a:lnTo>
                    <a:lnTo>
                      <a:pt x="185" y="32"/>
                    </a:lnTo>
                    <a:lnTo>
                      <a:pt x="200" y="26"/>
                    </a:lnTo>
                    <a:lnTo>
                      <a:pt x="214" y="20"/>
                    </a:lnTo>
                    <a:lnTo>
                      <a:pt x="230" y="16"/>
                    </a:lnTo>
                    <a:lnTo>
                      <a:pt x="245" y="11"/>
                    </a:lnTo>
                    <a:lnTo>
                      <a:pt x="261" y="7"/>
                    </a:lnTo>
                    <a:lnTo>
                      <a:pt x="276" y="4"/>
                    </a:lnTo>
                    <a:lnTo>
                      <a:pt x="293" y="2"/>
                    </a:lnTo>
                    <a:lnTo>
                      <a:pt x="310" y="1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926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205320" y="4721400"/>
                <a:ext cx="136800" cy="136440"/>
              </a:xfrm>
              <a:custGeom>
                <a:avLst/>
                <a:gdLst/>
                <a:ahLst/>
                <a:rect l="l" t="t" r="r" b="b"/>
                <a:pathLst>
                  <a:path w="342" h="343">
                    <a:moveTo>
                      <a:pt x="342" y="343"/>
                    </a:moveTo>
                    <a:lnTo>
                      <a:pt x="342" y="343"/>
                    </a:lnTo>
                    <a:lnTo>
                      <a:pt x="342" y="325"/>
                    </a:lnTo>
                    <a:lnTo>
                      <a:pt x="341" y="309"/>
                    </a:lnTo>
                    <a:lnTo>
                      <a:pt x="338" y="291"/>
                    </a:lnTo>
                    <a:lnTo>
                      <a:pt x="336" y="274"/>
                    </a:lnTo>
                    <a:lnTo>
                      <a:pt x="331" y="257"/>
                    </a:lnTo>
                    <a:lnTo>
                      <a:pt x="327" y="241"/>
                    </a:lnTo>
                    <a:lnTo>
                      <a:pt x="321" y="226"/>
                    </a:lnTo>
                    <a:lnTo>
                      <a:pt x="315" y="210"/>
                    </a:lnTo>
                    <a:lnTo>
                      <a:pt x="308" y="195"/>
                    </a:lnTo>
                    <a:lnTo>
                      <a:pt x="301" y="180"/>
                    </a:lnTo>
                    <a:lnTo>
                      <a:pt x="293" y="166"/>
                    </a:lnTo>
                    <a:lnTo>
                      <a:pt x="284" y="151"/>
                    </a:lnTo>
                    <a:lnTo>
                      <a:pt x="273" y="138"/>
                    </a:lnTo>
                    <a:lnTo>
                      <a:pt x="264" y="125"/>
                    </a:lnTo>
                    <a:lnTo>
                      <a:pt x="253" y="113"/>
                    </a:lnTo>
                    <a:lnTo>
                      <a:pt x="242" y="101"/>
                    </a:lnTo>
                    <a:lnTo>
                      <a:pt x="230" y="89"/>
                    </a:lnTo>
                    <a:lnTo>
                      <a:pt x="217" y="78"/>
                    </a:lnTo>
                    <a:lnTo>
                      <a:pt x="204" y="69"/>
                    </a:lnTo>
                    <a:lnTo>
                      <a:pt x="191" y="59"/>
                    </a:lnTo>
                    <a:lnTo>
                      <a:pt x="177" y="49"/>
                    </a:lnTo>
                    <a:lnTo>
                      <a:pt x="163" y="41"/>
                    </a:lnTo>
                    <a:lnTo>
                      <a:pt x="147" y="34"/>
                    </a:lnTo>
                    <a:lnTo>
                      <a:pt x="133" y="27"/>
                    </a:lnTo>
                    <a:lnTo>
                      <a:pt x="117" y="21"/>
                    </a:lnTo>
                    <a:lnTo>
                      <a:pt x="101" y="16"/>
                    </a:lnTo>
                    <a:lnTo>
                      <a:pt x="85" y="11"/>
                    </a:lnTo>
                    <a:lnTo>
                      <a:pt x="68" y="7"/>
                    </a:lnTo>
                    <a:lnTo>
                      <a:pt x="51" y="4"/>
                    </a:lnTo>
                    <a:lnTo>
                      <a:pt x="35" y="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5" y="35"/>
                    </a:lnTo>
                    <a:lnTo>
                      <a:pt x="31" y="36"/>
                    </a:lnTo>
                    <a:lnTo>
                      <a:pt x="47" y="39"/>
                    </a:lnTo>
                    <a:lnTo>
                      <a:pt x="61" y="41"/>
                    </a:lnTo>
                    <a:lnTo>
                      <a:pt x="77" y="45"/>
                    </a:lnTo>
                    <a:lnTo>
                      <a:pt x="91" y="48"/>
                    </a:lnTo>
                    <a:lnTo>
                      <a:pt x="105" y="53"/>
                    </a:lnTo>
                    <a:lnTo>
                      <a:pt x="119" y="59"/>
                    </a:lnTo>
                    <a:lnTo>
                      <a:pt x="133" y="65"/>
                    </a:lnTo>
                    <a:lnTo>
                      <a:pt x="146" y="72"/>
                    </a:lnTo>
                    <a:lnTo>
                      <a:pt x="159" y="79"/>
                    </a:lnTo>
                    <a:lnTo>
                      <a:pt x="171" y="88"/>
                    </a:lnTo>
                    <a:lnTo>
                      <a:pt x="183" y="96"/>
                    </a:lnTo>
                    <a:lnTo>
                      <a:pt x="195" y="106"/>
                    </a:lnTo>
                    <a:lnTo>
                      <a:pt x="206" y="115"/>
                    </a:lnTo>
                    <a:lnTo>
                      <a:pt x="217" y="125"/>
                    </a:lnTo>
                    <a:lnTo>
                      <a:pt x="228" y="136"/>
                    </a:lnTo>
                    <a:lnTo>
                      <a:pt x="237" y="147"/>
                    </a:lnTo>
                    <a:lnTo>
                      <a:pt x="246" y="159"/>
                    </a:lnTo>
                    <a:lnTo>
                      <a:pt x="255" y="171"/>
                    </a:lnTo>
                    <a:lnTo>
                      <a:pt x="263" y="184"/>
                    </a:lnTo>
                    <a:lnTo>
                      <a:pt x="270" y="196"/>
                    </a:lnTo>
                    <a:lnTo>
                      <a:pt x="277" y="209"/>
                    </a:lnTo>
                    <a:lnTo>
                      <a:pt x="283" y="223"/>
                    </a:lnTo>
                    <a:lnTo>
                      <a:pt x="289" y="238"/>
                    </a:lnTo>
                    <a:lnTo>
                      <a:pt x="294" y="251"/>
                    </a:lnTo>
                    <a:lnTo>
                      <a:pt x="297" y="267"/>
                    </a:lnTo>
                    <a:lnTo>
                      <a:pt x="301" y="281"/>
                    </a:lnTo>
                    <a:lnTo>
                      <a:pt x="305" y="297"/>
                    </a:lnTo>
                    <a:lnTo>
                      <a:pt x="306" y="311"/>
                    </a:lnTo>
                    <a:lnTo>
                      <a:pt x="307" y="328"/>
                    </a:lnTo>
                    <a:lnTo>
                      <a:pt x="308" y="343"/>
                    </a:lnTo>
                    <a:lnTo>
                      <a:pt x="308" y="343"/>
                    </a:lnTo>
                    <a:lnTo>
                      <a:pt x="342" y="34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205320" y="4857840"/>
                <a:ext cx="136800" cy="135000"/>
              </a:xfrm>
              <a:custGeom>
                <a:avLst/>
                <a:gdLst/>
                <a:ahLst/>
                <a:rect l="l" t="t" r="r" b="b"/>
                <a:pathLst>
                  <a:path w="342" h="344">
                    <a:moveTo>
                      <a:pt x="0" y="344"/>
                    </a:moveTo>
                    <a:lnTo>
                      <a:pt x="0" y="344"/>
                    </a:lnTo>
                    <a:lnTo>
                      <a:pt x="17" y="342"/>
                    </a:lnTo>
                    <a:lnTo>
                      <a:pt x="35" y="341"/>
                    </a:lnTo>
                    <a:lnTo>
                      <a:pt x="51" y="339"/>
                    </a:lnTo>
                    <a:lnTo>
                      <a:pt x="68" y="336"/>
                    </a:lnTo>
                    <a:lnTo>
                      <a:pt x="85" y="333"/>
                    </a:lnTo>
                    <a:lnTo>
                      <a:pt x="101" y="328"/>
                    </a:lnTo>
                    <a:lnTo>
                      <a:pt x="117" y="322"/>
                    </a:lnTo>
                    <a:lnTo>
                      <a:pt x="133" y="316"/>
                    </a:lnTo>
                    <a:lnTo>
                      <a:pt x="147" y="309"/>
                    </a:lnTo>
                    <a:lnTo>
                      <a:pt x="163" y="302"/>
                    </a:lnTo>
                    <a:lnTo>
                      <a:pt x="177" y="293"/>
                    </a:lnTo>
                    <a:lnTo>
                      <a:pt x="191" y="285"/>
                    </a:lnTo>
                    <a:lnTo>
                      <a:pt x="204" y="275"/>
                    </a:lnTo>
                    <a:lnTo>
                      <a:pt x="217" y="264"/>
                    </a:lnTo>
                    <a:lnTo>
                      <a:pt x="230" y="254"/>
                    </a:lnTo>
                    <a:lnTo>
                      <a:pt x="242" y="243"/>
                    </a:lnTo>
                    <a:lnTo>
                      <a:pt x="253" y="231"/>
                    </a:lnTo>
                    <a:lnTo>
                      <a:pt x="264" y="218"/>
                    </a:lnTo>
                    <a:lnTo>
                      <a:pt x="273" y="206"/>
                    </a:lnTo>
                    <a:lnTo>
                      <a:pt x="284" y="191"/>
                    </a:lnTo>
                    <a:lnTo>
                      <a:pt x="293" y="178"/>
                    </a:lnTo>
                    <a:lnTo>
                      <a:pt x="301" y="164"/>
                    </a:lnTo>
                    <a:lnTo>
                      <a:pt x="308" y="148"/>
                    </a:lnTo>
                    <a:lnTo>
                      <a:pt x="315" y="134"/>
                    </a:lnTo>
                    <a:lnTo>
                      <a:pt x="321" y="118"/>
                    </a:lnTo>
                    <a:lnTo>
                      <a:pt x="327" y="102"/>
                    </a:lnTo>
                    <a:lnTo>
                      <a:pt x="331" y="86"/>
                    </a:lnTo>
                    <a:lnTo>
                      <a:pt x="336" y="69"/>
                    </a:lnTo>
                    <a:lnTo>
                      <a:pt x="338" y="52"/>
                    </a:lnTo>
                    <a:lnTo>
                      <a:pt x="341" y="35"/>
                    </a:lnTo>
                    <a:lnTo>
                      <a:pt x="342" y="17"/>
                    </a:lnTo>
                    <a:lnTo>
                      <a:pt x="342" y="0"/>
                    </a:lnTo>
                    <a:lnTo>
                      <a:pt x="308" y="0"/>
                    </a:lnTo>
                    <a:lnTo>
                      <a:pt x="307" y="16"/>
                    </a:lnTo>
                    <a:lnTo>
                      <a:pt x="306" y="32"/>
                    </a:lnTo>
                    <a:lnTo>
                      <a:pt x="305" y="47"/>
                    </a:lnTo>
                    <a:lnTo>
                      <a:pt x="301" y="62"/>
                    </a:lnTo>
                    <a:lnTo>
                      <a:pt x="297" y="77"/>
                    </a:lnTo>
                    <a:lnTo>
                      <a:pt x="294" y="92"/>
                    </a:lnTo>
                    <a:lnTo>
                      <a:pt x="289" y="106"/>
                    </a:lnTo>
                    <a:lnTo>
                      <a:pt x="283" y="120"/>
                    </a:lnTo>
                    <a:lnTo>
                      <a:pt x="277" y="134"/>
                    </a:lnTo>
                    <a:lnTo>
                      <a:pt x="270" y="147"/>
                    </a:lnTo>
                    <a:lnTo>
                      <a:pt x="263" y="160"/>
                    </a:lnTo>
                    <a:lnTo>
                      <a:pt x="255" y="172"/>
                    </a:lnTo>
                    <a:lnTo>
                      <a:pt x="246" y="184"/>
                    </a:lnTo>
                    <a:lnTo>
                      <a:pt x="237" y="196"/>
                    </a:lnTo>
                    <a:lnTo>
                      <a:pt x="228" y="207"/>
                    </a:lnTo>
                    <a:lnTo>
                      <a:pt x="217" y="218"/>
                    </a:lnTo>
                    <a:lnTo>
                      <a:pt x="206" y="228"/>
                    </a:lnTo>
                    <a:lnTo>
                      <a:pt x="195" y="238"/>
                    </a:lnTo>
                    <a:lnTo>
                      <a:pt x="183" y="248"/>
                    </a:lnTo>
                    <a:lnTo>
                      <a:pt x="171" y="256"/>
                    </a:lnTo>
                    <a:lnTo>
                      <a:pt x="159" y="263"/>
                    </a:lnTo>
                    <a:lnTo>
                      <a:pt x="146" y="272"/>
                    </a:lnTo>
                    <a:lnTo>
                      <a:pt x="133" y="278"/>
                    </a:lnTo>
                    <a:lnTo>
                      <a:pt x="119" y="284"/>
                    </a:lnTo>
                    <a:lnTo>
                      <a:pt x="105" y="290"/>
                    </a:lnTo>
                    <a:lnTo>
                      <a:pt x="91" y="294"/>
                    </a:lnTo>
                    <a:lnTo>
                      <a:pt x="77" y="299"/>
                    </a:lnTo>
                    <a:lnTo>
                      <a:pt x="61" y="302"/>
                    </a:lnTo>
                    <a:lnTo>
                      <a:pt x="47" y="305"/>
                    </a:lnTo>
                    <a:lnTo>
                      <a:pt x="31" y="306"/>
                    </a:lnTo>
                    <a:lnTo>
                      <a:pt x="15" y="308"/>
                    </a:lnTo>
                    <a:lnTo>
                      <a:pt x="0" y="309"/>
                    </a:lnTo>
                    <a:lnTo>
                      <a:pt x="0" y="309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068880" y="4857840"/>
                <a:ext cx="136440" cy="135000"/>
              </a:xfrm>
              <a:custGeom>
                <a:avLst/>
                <a:gdLst/>
                <a:ahLst/>
                <a:rect l="l" t="t" r="r" b="b"/>
                <a:pathLst>
                  <a:path w="343" h="344">
                    <a:moveTo>
                      <a:pt x="0" y="0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1" y="35"/>
                    </a:lnTo>
                    <a:lnTo>
                      <a:pt x="3" y="52"/>
                    </a:lnTo>
                    <a:lnTo>
                      <a:pt x="7" y="69"/>
                    </a:lnTo>
                    <a:lnTo>
                      <a:pt x="10" y="86"/>
                    </a:lnTo>
                    <a:lnTo>
                      <a:pt x="15" y="102"/>
                    </a:lnTo>
                    <a:lnTo>
                      <a:pt x="20" y="118"/>
                    </a:lnTo>
                    <a:lnTo>
                      <a:pt x="26" y="134"/>
                    </a:lnTo>
                    <a:lnTo>
                      <a:pt x="33" y="148"/>
                    </a:lnTo>
                    <a:lnTo>
                      <a:pt x="40" y="164"/>
                    </a:lnTo>
                    <a:lnTo>
                      <a:pt x="49" y="178"/>
                    </a:lnTo>
                    <a:lnTo>
                      <a:pt x="58" y="191"/>
                    </a:lnTo>
                    <a:lnTo>
                      <a:pt x="68" y="206"/>
                    </a:lnTo>
                    <a:lnTo>
                      <a:pt x="78" y="218"/>
                    </a:lnTo>
                    <a:lnTo>
                      <a:pt x="88" y="231"/>
                    </a:lnTo>
                    <a:lnTo>
                      <a:pt x="100" y="243"/>
                    </a:lnTo>
                    <a:lnTo>
                      <a:pt x="111" y="254"/>
                    </a:lnTo>
                    <a:lnTo>
                      <a:pt x="124" y="264"/>
                    </a:lnTo>
                    <a:lnTo>
                      <a:pt x="138" y="275"/>
                    </a:lnTo>
                    <a:lnTo>
                      <a:pt x="151" y="285"/>
                    </a:lnTo>
                    <a:lnTo>
                      <a:pt x="164" y="293"/>
                    </a:lnTo>
                    <a:lnTo>
                      <a:pt x="178" y="302"/>
                    </a:lnTo>
                    <a:lnTo>
                      <a:pt x="194" y="309"/>
                    </a:lnTo>
                    <a:lnTo>
                      <a:pt x="208" y="316"/>
                    </a:lnTo>
                    <a:lnTo>
                      <a:pt x="224" y="322"/>
                    </a:lnTo>
                    <a:lnTo>
                      <a:pt x="241" y="328"/>
                    </a:lnTo>
                    <a:lnTo>
                      <a:pt x="256" y="333"/>
                    </a:lnTo>
                    <a:lnTo>
                      <a:pt x="273" y="336"/>
                    </a:lnTo>
                    <a:lnTo>
                      <a:pt x="290" y="339"/>
                    </a:lnTo>
                    <a:lnTo>
                      <a:pt x="307" y="341"/>
                    </a:lnTo>
                    <a:lnTo>
                      <a:pt x="325" y="342"/>
                    </a:lnTo>
                    <a:lnTo>
                      <a:pt x="343" y="344"/>
                    </a:lnTo>
                    <a:lnTo>
                      <a:pt x="343" y="309"/>
                    </a:lnTo>
                    <a:lnTo>
                      <a:pt x="326" y="308"/>
                    </a:lnTo>
                    <a:lnTo>
                      <a:pt x="310" y="306"/>
                    </a:lnTo>
                    <a:lnTo>
                      <a:pt x="295" y="305"/>
                    </a:lnTo>
                    <a:lnTo>
                      <a:pt x="280" y="302"/>
                    </a:lnTo>
                    <a:lnTo>
                      <a:pt x="265" y="299"/>
                    </a:lnTo>
                    <a:lnTo>
                      <a:pt x="250" y="294"/>
                    </a:lnTo>
                    <a:lnTo>
                      <a:pt x="236" y="290"/>
                    </a:lnTo>
                    <a:lnTo>
                      <a:pt x="223" y="284"/>
                    </a:lnTo>
                    <a:lnTo>
                      <a:pt x="208" y="278"/>
                    </a:lnTo>
                    <a:lnTo>
                      <a:pt x="195" y="272"/>
                    </a:lnTo>
                    <a:lnTo>
                      <a:pt x="183" y="263"/>
                    </a:lnTo>
                    <a:lnTo>
                      <a:pt x="170" y="256"/>
                    </a:lnTo>
                    <a:lnTo>
                      <a:pt x="158" y="248"/>
                    </a:lnTo>
                    <a:lnTo>
                      <a:pt x="146" y="238"/>
                    </a:lnTo>
                    <a:lnTo>
                      <a:pt x="135" y="228"/>
                    </a:lnTo>
                    <a:lnTo>
                      <a:pt x="124" y="218"/>
                    </a:lnTo>
                    <a:lnTo>
                      <a:pt x="114" y="207"/>
                    </a:lnTo>
                    <a:lnTo>
                      <a:pt x="104" y="196"/>
                    </a:lnTo>
                    <a:lnTo>
                      <a:pt x="96" y="184"/>
                    </a:lnTo>
                    <a:lnTo>
                      <a:pt x="87" y="172"/>
                    </a:lnTo>
                    <a:lnTo>
                      <a:pt x="79" y="160"/>
                    </a:lnTo>
                    <a:lnTo>
                      <a:pt x="72" y="147"/>
                    </a:lnTo>
                    <a:lnTo>
                      <a:pt x="64" y="134"/>
                    </a:lnTo>
                    <a:lnTo>
                      <a:pt x="58" y="120"/>
                    </a:lnTo>
                    <a:lnTo>
                      <a:pt x="52" y="106"/>
                    </a:lnTo>
                    <a:lnTo>
                      <a:pt x="48" y="92"/>
                    </a:lnTo>
                    <a:lnTo>
                      <a:pt x="44" y="77"/>
                    </a:lnTo>
                    <a:lnTo>
                      <a:pt x="40" y="62"/>
                    </a:lnTo>
                    <a:lnTo>
                      <a:pt x="38" y="47"/>
                    </a:lnTo>
                    <a:lnTo>
                      <a:pt x="36" y="32"/>
                    </a:lnTo>
                    <a:lnTo>
                      <a:pt x="34" y="1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68880" y="4721400"/>
                <a:ext cx="136440" cy="136440"/>
              </a:xfrm>
              <a:custGeom>
                <a:avLst/>
                <a:gdLst/>
                <a:ahLst/>
                <a:rect l="l" t="t" r="r" b="b"/>
                <a:pathLst>
                  <a:path w="343" h="343">
                    <a:moveTo>
                      <a:pt x="343" y="0"/>
                    </a:moveTo>
                    <a:lnTo>
                      <a:pt x="343" y="0"/>
                    </a:lnTo>
                    <a:lnTo>
                      <a:pt x="325" y="0"/>
                    </a:lnTo>
                    <a:lnTo>
                      <a:pt x="307" y="2"/>
                    </a:lnTo>
                    <a:lnTo>
                      <a:pt x="290" y="4"/>
                    </a:lnTo>
                    <a:lnTo>
                      <a:pt x="273" y="7"/>
                    </a:lnTo>
                    <a:lnTo>
                      <a:pt x="256" y="11"/>
                    </a:lnTo>
                    <a:lnTo>
                      <a:pt x="241" y="16"/>
                    </a:lnTo>
                    <a:lnTo>
                      <a:pt x="224" y="21"/>
                    </a:lnTo>
                    <a:lnTo>
                      <a:pt x="208" y="27"/>
                    </a:lnTo>
                    <a:lnTo>
                      <a:pt x="194" y="34"/>
                    </a:lnTo>
                    <a:lnTo>
                      <a:pt x="178" y="41"/>
                    </a:lnTo>
                    <a:lnTo>
                      <a:pt x="164" y="49"/>
                    </a:lnTo>
                    <a:lnTo>
                      <a:pt x="151" y="59"/>
                    </a:lnTo>
                    <a:lnTo>
                      <a:pt x="138" y="69"/>
                    </a:lnTo>
                    <a:lnTo>
                      <a:pt x="124" y="78"/>
                    </a:lnTo>
                    <a:lnTo>
                      <a:pt x="111" y="89"/>
                    </a:lnTo>
                    <a:lnTo>
                      <a:pt x="100" y="101"/>
                    </a:lnTo>
                    <a:lnTo>
                      <a:pt x="88" y="113"/>
                    </a:lnTo>
                    <a:lnTo>
                      <a:pt x="78" y="125"/>
                    </a:lnTo>
                    <a:lnTo>
                      <a:pt x="68" y="138"/>
                    </a:lnTo>
                    <a:lnTo>
                      <a:pt x="58" y="151"/>
                    </a:lnTo>
                    <a:lnTo>
                      <a:pt x="49" y="166"/>
                    </a:lnTo>
                    <a:lnTo>
                      <a:pt x="40" y="180"/>
                    </a:lnTo>
                    <a:lnTo>
                      <a:pt x="33" y="195"/>
                    </a:lnTo>
                    <a:lnTo>
                      <a:pt x="26" y="210"/>
                    </a:lnTo>
                    <a:lnTo>
                      <a:pt x="20" y="226"/>
                    </a:lnTo>
                    <a:lnTo>
                      <a:pt x="15" y="241"/>
                    </a:lnTo>
                    <a:lnTo>
                      <a:pt x="10" y="257"/>
                    </a:lnTo>
                    <a:lnTo>
                      <a:pt x="7" y="274"/>
                    </a:lnTo>
                    <a:lnTo>
                      <a:pt x="3" y="291"/>
                    </a:lnTo>
                    <a:lnTo>
                      <a:pt x="1" y="309"/>
                    </a:lnTo>
                    <a:lnTo>
                      <a:pt x="0" y="325"/>
                    </a:lnTo>
                    <a:lnTo>
                      <a:pt x="0" y="343"/>
                    </a:lnTo>
                    <a:lnTo>
                      <a:pt x="34" y="343"/>
                    </a:lnTo>
                    <a:lnTo>
                      <a:pt x="34" y="327"/>
                    </a:lnTo>
                    <a:lnTo>
                      <a:pt x="36" y="311"/>
                    </a:lnTo>
                    <a:lnTo>
                      <a:pt x="38" y="297"/>
                    </a:lnTo>
                    <a:lnTo>
                      <a:pt x="40" y="281"/>
                    </a:lnTo>
                    <a:lnTo>
                      <a:pt x="44" y="267"/>
                    </a:lnTo>
                    <a:lnTo>
                      <a:pt x="48" y="251"/>
                    </a:lnTo>
                    <a:lnTo>
                      <a:pt x="52" y="238"/>
                    </a:lnTo>
                    <a:lnTo>
                      <a:pt x="58" y="223"/>
                    </a:lnTo>
                    <a:lnTo>
                      <a:pt x="64" y="209"/>
                    </a:lnTo>
                    <a:lnTo>
                      <a:pt x="72" y="196"/>
                    </a:lnTo>
                    <a:lnTo>
                      <a:pt x="79" y="184"/>
                    </a:lnTo>
                    <a:lnTo>
                      <a:pt x="87" y="171"/>
                    </a:lnTo>
                    <a:lnTo>
                      <a:pt x="96" y="159"/>
                    </a:lnTo>
                    <a:lnTo>
                      <a:pt x="104" y="147"/>
                    </a:lnTo>
                    <a:lnTo>
                      <a:pt x="114" y="136"/>
                    </a:lnTo>
                    <a:lnTo>
                      <a:pt x="124" y="125"/>
                    </a:lnTo>
                    <a:lnTo>
                      <a:pt x="135" y="115"/>
                    </a:lnTo>
                    <a:lnTo>
                      <a:pt x="146" y="106"/>
                    </a:lnTo>
                    <a:lnTo>
                      <a:pt x="158" y="96"/>
                    </a:lnTo>
                    <a:lnTo>
                      <a:pt x="170" y="88"/>
                    </a:lnTo>
                    <a:lnTo>
                      <a:pt x="183" y="79"/>
                    </a:lnTo>
                    <a:lnTo>
                      <a:pt x="195" y="72"/>
                    </a:lnTo>
                    <a:lnTo>
                      <a:pt x="208" y="65"/>
                    </a:lnTo>
                    <a:lnTo>
                      <a:pt x="223" y="59"/>
                    </a:lnTo>
                    <a:lnTo>
                      <a:pt x="236" y="53"/>
                    </a:lnTo>
                    <a:lnTo>
                      <a:pt x="250" y="48"/>
                    </a:lnTo>
                    <a:lnTo>
                      <a:pt x="265" y="45"/>
                    </a:lnTo>
                    <a:lnTo>
                      <a:pt x="280" y="41"/>
                    </a:lnTo>
                    <a:lnTo>
                      <a:pt x="295" y="39"/>
                    </a:lnTo>
                    <a:lnTo>
                      <a:pt x="310" y="36"/>
                    </a:lnTo>
                    <a:lnTo>
                      <a:pt x="32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127240" y="4757760"/>
                <a:ext cx="322200" cy="322200"/>
              </a:xfrm>
              <a:custGeom>
                <a:avLst/>
                <a:gdLst/>
                <a:ahLst/>
                <a:rect l="l" t="t" r="r" b="b"/>
                <a:pathLst>
                  <a:path w="815" h="815">
                    <a:moveTo>
                      <a:pt x="110" y="129"/>
                    </a:moveTo>
                    <a:lnTo>
                      <a:pt x="125" y="114"/>
                    </a:lnTo>
                    <a:lnTo>
                      <a:pt x="140" y="100"/>
                    </a:lnTo>
                    <a:lnTo>
                      <a:pt x="156" y="87"/>
                    </a:lnTo>
                    <a:lnTo>
                      <a:pt x="173" y="75"/>
                    </a:lnTo>
                    <a:lnTo>
                      <a:pt x="189" y="64"/>
                    </a:lnTo>
                    <a:lnTo>
                      <a:pt x="206" y="53"/>
                    </a:lnTo>
                    <a:lnTo>
                      <a:pt x="224" y="44"/>
                    </a:lnTo>
                    <a:lnTo>
                      <a:pt x="242" y="35"/>
                    </a:lnTo>
                    <a:lnTo>
                      <a:pt x="260" y="28"/>
                    </a:lnTo>
                    <a:lnTo>
                      <a:pt x="279" y="21"/>
                    </a:lnTo>
                    <a:lnTo>
                      <a:pt x="297" y="16"/>
                    </a:lnTo>
                    <a:lnTo>
                      <a:pt x="317" y="11"/>
                    </a:lnTo>
                    <a:lnTo>
                      <a:pt x="336" y="6"/>
                    </a:lnTo>
                    <a:lnTo>
                      <a:pt x="355" y="4"/>
                    </a:lnTo>
                    <a:lnTo>
                      <a:pt x="375" y="2"/>
                    </a:lnTo>
                    <a:lnTo>
                      <a:pt x="395" y="0"/>
                    </a:lnTo>
                    <a:lnTo>
                      <a:pt x="414" y="0"/>
                    </a:lnTo>
                    <a:lnTo>
                      <a:pt x="434" y="2"/>
                    </a:lnTo>
                    <a:lnTo>
                      <a:pt x="453" y="3"/>
                    </a:lnTo>
                    <a:lnTo>
                      <a:pt x="473" y="6"/>
                    </a:lnTo>
                    <a:lnTo>
                      <a:pt x="492" y="10"/>
                    </a:lnTo>
                    <a:lnTo>
                      <a:pt x="511" y="14"/>
                    </a:lnTo>
                    <a:lnTo>
                      <a:pt x="530" y="20"/>
                    </a:lnTo>
                    <a:lnTo>
                      <a:pt x="549" y="26"/>
                    </a:lnTo>
                    <a:lnTo>
                      <a:pt x="567" y="33"/>
                    </a:lnTo>
                    <a:lnTo>
                      <a:pt x="585" y="41"/>
                    </a:lnTo>
                    <a:lnTo>
                      <a:pt x="603" y="51"/>
                    </a:lnTo>
                    <a:lnTo>
                      <a:pt x="621" y="62"/>
                    </a:lnTo>
                    <a:lnTo>
                      <a:pt x="638" y="72"/>
                    </a:lnTo>
                    <a:lnTo>
                      <a:pt x="655" y="84"/>
                    </a:lnTo>
                    <a:lnTo>
                      <a:pt x="671" y="98"/>
                    </a:lnTo>
                    <a:lnTo>
                      <a:pt x="686" y="111"/>
                    </a:lnTo>
                    <a:lnTo>
                      <a:pt x="702" y="126"/>
                    </a:lnTo>
                    <a:lnTo>
                      <a:pt x="715" y="141"/>
                    </a:lnTo>
                    <a:lnTo>
                      <a:pt x="728" y="158"/>
                    </a:lnTo>
                    <a:lnTo>
                      <a:pt x="740" y="173"/>
                    </a:lnTo>
                    <a:lnTo>
                      <a:pt x="752" y="190"/>
                    </a:lnTo>
                    <a:lnTo>
                      <a:pt x="762" y="208"/>
                    </a:lnTo>
                    <a:lnTo>
                      <a:pt x="771" y="225"/>
                    </a:lnTo>
                    <a:lnTo>
                      <a:pt x="780" y="243"/>
                    </a:lnTo>
                    <a:lnTo>
                      <a:pt x="787" y="262"/>
                    </a:lnTo>
                    <a:lnTo>
                      <a:pt x="794" y="280"/>
                    </a:lnTo>
                    <a:lnTo>
                      <a:pt x="800" y="299"/>
                    </a:lnTo>
                    <a:lnTo>
                      <a:pt x="805" y="318"/>
                    </a:lnTo>
                    <a:lnTo>
                      <a:pt x="809" y="338"/>
                    </a:lnTo>
                    <a:lnTo>
                      <a:pt x="811" y="357"/>
                    </a:lnTo>
                    <a:lnTo>
                      <a:pt x="813" y="376"/>
                    </a:lnTo>
                    <a:lnTo>
                      <a:pt x="815" y="396"/>
                    </a:lnTo>
                    <a:lnTo>
                      <a:pt x="815" y="416"/>
                    </a:lnTo>
                    <a:lnTo>
                      <a:pt x="813" y="435"/>
                    </a:lnTo>
                    <a:lnTo>
                      <a:pt x="812" y="454"/>
                    </a:lnTo>
                    <a:lnTo>
                      <a:pt x="810" y="474"/>
                    </a:lnTo>
                    <a:lnTo>
                      <a:pt x="806" y="494"/>
                    </a:lnTo>
                    <a:lnTo>
                      <a:pt x="801" y="513"/>
                    </a:lnTo>
                    <a:lnTo>
                      <a:pt x="795" y="532"/>
                    </a:lnTo>
                    <a:lnTo>
                      <a:pt x="789" y="550"/>
                    </a:lnTo>
                    <a:lnTo>
                      <a:pt x="782" y="569"/>
                    </a:lnTo>
                    <a:lnTo>
                      <a:pt x="774" y="587"/>
                    </a:lnTo>
                    <a:lnTo>
                      <a:pt x="764" y="605"/>
                    </a:lnTo>
                    <a:lnTo>
                      <a:pt x="755" y="622"/>
                    </a:lnTo>
                    <a:lnTo>
                      <a:pt x="743" y="639"/>
                    </a:lnTo>
                    <a:lnTo>
                      <a:pt x="731" y="655"/>
                    </a:lnTo>
                    <a:lnTo>
                      <a:pt x="719" y="672"/>
                    </a:lnTo>
                    <a:lnTo>
                      <a:pt x="704" y="688"/>
                    </a:lnTo>
                    <a:lnTo>
                      <a:pt x="690" y="702"/>
                    </a:lnTo>
                    <a:lnTo>
                      <a:pt x="674" y="717"/>
                    </a:lnTo>
                    <a:lnTo>
                      <a:pt x="659" y="730"/>
                    </a:lnTo>
                    <a:lnTo>
                      <a:pt x="642" y="742"/>
                    </a:lnTo>
                    <a:lnTo>
                      <a:pt x="625" y="753"/>
                    </a:lnTo>
                    <a:lnTo>
                      <a:pt x="608" y="763"/>
                    </a:lnTo>
                    <a:lnTo>
                      <a:pt x="590" y="773"/>
                    </a:lnTo>
                    <a:lnTo>
                      <a:pt x="572" y="781"/>
                    </a:lnTo>
                    <a:lnTo>
                      <a:pt x="554" y="789"/>
                    </a:lnTo>
                    <a:lnTo>
                      <a:pt x="535" y="795"/>
                    </a:lnTo>
                    <a:lnTo>
                      <a:pt x="516" y="801"/>
                    </a:lnTo>
                    <a:lnTo>
                      <a:pt x="498" y="805"/>
                    </a:lnTo>
                    <a:lnTo>
                      <a:pt x="477" y="809"/>
                    </a:lnTo>
                    <a:lnTo>
                      <a:pt x="458" y="813"/>
                    </a:lnTo>
                    <a:lnTo>
                      <a:pt x="439" y="814"/>
                    </a:lnTo>
                    <a:lnTo>
                      <a:pt x="420" y="815"/>
                    </a:lnTo>
                    <a:lnTo>
                      <a:pt x="399" y="815"/>
                    </a:lnTo>
                    <a:lnTo>
                      <a:pt x="380" y="815"/>
                    </a:lnTo>
                    <a:lnTo>
                      <a:pt x="361" y="813"/>
                    </a:lnTo>
                    <a:lnTo>
                      <a:pt x="342" y="810"/>
                    </a:lnTo>
                    <a:lnTo>
                      <a:pt x="323" y="807"/>
                    </a:lnTo>
                    <a:lnTo>
                      <a:pt x="303" y="802"/>
                    </a:lnTo>
                    <a:lnTo>
                      <a:pt x="284" y="797"/>
                    </a:lnTo>
                    <a:lnTo>
                      <a:pt x="265" y="790"/>
                    </a:lnTo>
                    <a:lnTo>
                      <a:pt x="247" y="783"/>
                    </a:lnTo>
                    <a:lnTo>
                      <a:pt x="228" y="774"/>
                    </a:lnTo>
                    <a:lnTo>
                      <a:pt x="211" y="766"/>
                    </a:lnTo>
                    <a:lnTo>
                      <a:pt x="193" y="755"/>
                    </a:lnTo>
                    <a:lnTo>
                      <a:pt x="176" y="744"/>
                    </a:lnTo>
                    <a:lnTo>
                      <a:pt x="159" y="732"/>
                    </a:lnTo>
                    <a:lnTo>
                      <a:pt x="144" y="719"/>
                    </a:lnTo>
                    <a:lnTo>
                      <a:pt x="128" y="705"/>
                    </a:lnTo>
                    <a:lnTo>
                      <a:pt x="113" y="690"/>
                    </a:lnTo>
                    <a:lnTo>
                      <a:pt x="98" y="675"/>
                    </a:lnTo>
                    <a:lnTo>
                      <a:pt x="86" y="659"/>
                    </a:lnTo>
                    <a:lnTo>
                      <a:pt x="73" y="644"/>
                    </a:lnTo>
                    <a:lnTo>
                      <a:pt x="62" y="627"/>
                    </a:lnTo>
                    <a:lnTo>
                      <a:pt x="53" y="609"/>
                    </a:lnTo>
                    <a:lnTo>
                      <a:pt x="43" y="592"/>
                    </a:lnTo>
                    <a:lnTo>
                      <a:pt x="35" y="573"/>
                    </a:lnTo>
                    <a:lnTo>
                      <a:pt x="26" y="555"/>
                    </a:lnTo>
                    <a:lnTo>
                      <a:pt x="20" y="537"/>
                    </a:lnTo>
                    <a:lnTo>
                      <a:pt x="14" y="518"/>
                    </a:lnTo>
                    <a:lnTo>
                      <a:pt x="9" y="498"/>
                    </a:lnTo>
                    <a:lnTo>
                      <a:pt x="6" y="479"/>
                    </a:lnTo>
                    <a:lnTo>
                      <a:pt x="2" y="460"/>
                    </a:lnTo>
                    <a:lnTo>
                      <a:pt x="1" y="441"/>
                    </a:lnTo>
                    <a:lnTo>
                      <a:pt x="0" y="420"/>
                    </a:lnTo>
                    <a:lnTo>
                      <a:pt x="0" y="401"/>
                    </a:lnTo>
                    <a:lnTo>
                      <a:pt x="0" y="382"/>
                    </a:lnTo>
                    <a:lnTo>
                      <a:pt x="2" y="362"/>
                    </a:lnTo>
                    <a:lnTo>
                      <a:pt x="5" y="342"/>
                    </a:lnTo>
                    <a:lnTo>
                      <a:pt x="8" y="323"/>
                    </a:lnTo>
                    <a:lnTo>
                      <a:pt x="13" y="304"/>
                    </a:lnTo>
                    <a:lnTo>
                      <a:pt x="18" y="285"/>
                    </a:lnTo>
                    <a:lnTo>
                      <a:pt x="25" y="267"/>
                    </a:lnTo>
                    <a:lnTo>
                      <a:pt x="32" y="248"/>
                    </a:lnTo>
                    <a:lnTo>
                      <a:pt x="41" y="230"/>
                    </a:lnTo>
                    <a:lnTo>
                      <a:pt x="50" y="212"/>
                    </a:lnTo>
                    <a:lnTo>
                      <a:pt x="60" y="195"/>
                    </a:lnTo>
                    <a:lnTo>
                      <a:pt x="71" y="177"/>
                    </a:lnTo>
                    <a:lnTo>
                      <a:pt x="83" y="161"/>
                    </a:lnTo>
                    <a:lnTo>
                      <a:pt x="96" y="144"/>
                    </a:lnTo>
                    <a:lnTo>
                      <a:pt x="110" y="129"/>
                    </a:lnTo>
                    <a:close/>
                  </a:path>
                </a:pathLst>
              </a:custGeom>
              <a:solidFill>
                <a:srgbClr val="be8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165400" y="4749840"/>
                <a:ext cx="237960" cy="63360"/>
              </a:xfrm>
              <a:custGeom>
                <a:avLst/>
                <a:gdLst/>
                <a:ahLst/>
                <a:rect l="l" t="t" r="r" b="b"/>
                <a:pathLst>
                  <a:path w="601" h="157">
                    <a:moveTo>
                      <a:pt x="601" y="115"/>
                    </a:moveTo>
                    <a:lnTo>
                      <a:pt x="601" y="115"/>
                    </a:lnTo>
                    <a:lnTo>
                      <a:pt x="586" y="100"/>
                    </a:lnTo>
                    <a:lnTo>
                      <a:pt x="569" y="86"/>
                    </a:lnTo>
                    <a:lnTo>
                      <a:pt x="551" y="74"/>
                    </a:lnTo>
                    <a:lnTo>
                      <a:pt x="533" y="62"/>
                    </a:lnTo>
                    <a:lnTo>
                      <a:pt x="515" y="51"/>
                    </a:lnTo>
                    <a:lnTo>
                      <a:pt x="497" y="42"/>
                    </a:lnTo>
                    <a:lnTo>
                      <a:pt x="478" y="33"/>
                    </a:lnTo>
                    <a:lnTo>
                      <a:pt x="458" y="26"/>
                    </a:lnTo>
                    <a:lnTo>
                      <a:pt x="438" y="19"/>
                    </a:lnTo>
                    <a:lnTo>
                      <a:pt x="419" y="13"/>
                    </a:lnTo>
                    <a:lnTo>
                      <a:pt x="398" y="9"/>
                    </a:lnTo>
                    <a:lnTo>
                      <a:pt x="378" y="4"/>
                    </a:lnTo>
                    <a:lnTo>
                      <a:pt x="358" y="2"/>
                    </a:lnTo>
                    <a:lnTo>
                      <a:pt x="338" y="1"/>
                    </a:lnTo>
                    <a:lnTo>
                      <a:pt x="318" y="0"/>
                    </a:lnTo>
                    <a:lnTo>
                      <a:pt x="298" y="0"/>
                    </a:lnTo>
                    <a:lnTo>
                      <a:pt x="277" y="1"/>
                    </a:lnTo>
                    <a:lnTo>
                      <a:pt x="257" y="3"/>
                    </a:lnTo>
                    <a:lnTo>
                      <a:pt x="236" y="6"/>
                    </a:lnTo>
                    <a:lnTo>
                      <a:pt x="216" y="10"/>
                    </a:lnTo>
                    <a:lnTo>
                      <a:pt x="196" y="15"/>
                    </a:lnTo>
                    <a:lnTo>
                      <a:pt x="176" y="21"/>
                    </a:lnTo>
                    <a:lnTo>
                      <a:pt x="157" y="27"/>
                    </a:lnTo>
                    <a:lnTo>
                      <a:pt x="138" y="36"/>
                    </a:lnTo>
                    <a:lnTo>
                      <a:pt x="119" y="44"/>
                    </a:lnTo>
                    <a:lnTo>
                      <a:pt x="101" y="54"/>
                    </a:lnTo>
                    <a:lnTo>
                      <a:pt x="83" y="64"/>
                    </a:lnTo>
                    <a:lnTo>
                      <a:pt x="65" y="76"/>
                    </a:lnTo>
                    <a:lnTo>
                      <a:pt x="48" y="90"/>
                    </a:lnTo>
                    <a:lnTo>
                      <a:pt x="31" y="103"/>
                    </a:lnTo>
                    <a:lnTo>
                      <a:pt x="16" y="117"/>
                    </a:lnTo>
                    <a:lnTo>
                      <a:pt x="0" y="133"/>
                    </a:lnTo>
                    <a:lnTo>
                      <a:pt x="25" y="157"/>
                    </a:lnTo>
                    <a:lnTo>
                      <a:pt x="40" y="142"/>
                    </a:lnTo>
                    <a:lnTo>
                      <a:pt x="54" y="129"/>
                    </a:lnTo>
                    <a:lnTo>
                      <a:pt x="70" y="117"/>
                    </a:lnTo>
                    <a:lnTo>
                      <a:pt x="85" y="105"/>
                    </a:lnTo>
                    <a:lnTo>
                      <a:pt x="101" y="94"/>
                    </a:lnTo>
                    <a:lnTo>
                      <a:pt x="118" y="85"/>
                    </a:lnTo>
                    <a:lnTo>
                      <a:pt x="134" y="75"/>
                    </a:lnTo>
                    <a:lnTo>
                      <a:pt x="152" y="67"/>
                    </a:lnTo>
                    <a:lnTo>
                      <a:pt x="169" y="60"/>
                    </a:lnTo>
                    <a:lnTo>
                      <a:pt x="187" y="54"/>
                    </a:lnTo>
                    <a:lnTo>
                      <a:pt x="205" y="49"/>
                    </a:lnTo>
                    <a:lnTo>
                      <a:pt x="223" y="44"/>
                    </a:lnTo>
                    <a:lnTo>
                      <a:pt x="242" y="40"/>
                    </a:lnTo>
                    <a:lnTo>
                      <a:pt x="260" y="37"/>
                    </a:lnTo>
                    <a:lnTo>
                      <a:pt x="280" y="36"/>
                    </a:lnTo>
                    <a:lnTo>
                      <a:pt x="298" y="34"/>
                    </a:lnTo>
                    <a:lnTo>
                      <a:pt x="317" y="34"/>
                    </a:lnTo>
                    <a:lnTo>
                      <a:pt x="336" y="34"/>
                    </a:lnTo>
                    <a:lnTo>
                      <a:pt x="354" y="37"/>
                    </a:lnTo>
                    <a:lnTo>
                      <a:pt x="373" y="39"/>
                    </a:lnTo>
                    <a:lnTo>
                      <a:pt x="391" y="43"/>
                    </a:lnTo>
                    <a:lnTo>
                      <a:pt x="410" y="46"/>
                    </a:lnTo>
                    <a:lnTo>
                      <a:pt x="428" y="52"/>
                    </a:lnTo>
                    <a:lnTo>
                      <a:pt x="446" y="58"/>
                    </a:lnTo>
                    <a:lnTo>
                      <a:pt x="463" y="66"/>
                    </a:lnTo>
                    <a:lnTo>
                      <a:pt x="481" y="73"/>
                    </a:lnTo>
                    <a:lnTo>
                      <a:pt x="498" y="82"/>
                    </a:lnTo>
                    <a:lnTo>
                      <a:pt x="515" y="92"/>
                    </a:lnTo>
                    <a:lnTo>
                      <a:pt x="532" y="103"/>
                    </a:lnTo>
                    <a:lnTo>
                      <a:pt x="547" y="114"/>
                    </a:lnTo>
                    <a:lnTo>
                      <a:pt x="563" y="127"/>
                    </a:lnTo>
                    <a:lnTo>
                      <a:pt x="577" y="140"/>
                    </a:lnTo>
                    <a:lnTo>
                      <a:pt x="577" y="140"/>
                    </a:lnTo>
                    <a:lnTo>
                      <a:pt x="601" y="11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394000" y="4795920"/>
                <a:ext cx="63360" cy="237960"/>
              </a:xfrm>
              <a:custGeom>
                <a:avLst/>
                <a:gdLst/>
                <a:ahLst/>
                <a:rect l="l" t="t" r="r" b="b"/>
                <a:pathLst>
                  <a:path w="157" h="601">
                    <a:moveTo>
                      <a:pt x="42" y="601"/>
                    </a:moveTo>
                    <a:lnTo>
                      <a:pt x="42" y="601"/>
                    </a:lnTo>
                    <a:lnTo>
                      <a:pt x="58" y="584"/>
                    </a:lnTo>
                    <a:lnTo>
                      <a:pt x="71" y="567"/>
                    </a:lnTo>
                    <a:lnTo>
                      <a:pt x="83" y="551"/>
                    </a:lnTo>
                    <a:lnTo>
                      <a:pt x="95" y="533"/>
                    </a:lnTo>
                    <a:lnTo>
                      <a:pt x="106" y="515"/>
                    </a:lnTo>
                    <a:lnTo>
                      <a:pt x="115" y="495"/>
                    </a:lnTo>
                    <a:lnTo>
                      <a:pt x="124" y="476"/>
                    </a:lnTo>
                    <a:lnTo>
                      <a:pt x="132" y="457"/>
                    </a:lnTo>
                    <a:lnTo>
                      <a:pt x="138" y="438"/>
                    </a:lnTo>
                    <a:lnTo>
                      <a:pt x="144" y="417"/>
                    </a:lnTo>
                    <a:lnTo>
                      <a:pt x="149" y="398"/>
                    </a:lnTo>
                    <a:lnTo>
                      <a:pt x="153" y="378"/>
                    </a:lnTo>
                    <a:lnTo>
                      <a:pt x="155" y="357"/>
                    </a:lnTo>
                    <a:lnTo>
                      <a:pt x="157" y="337"/>
                    </a:lnTo>
                    <a:lnTo>
                      <a:pt x="157" y="317"/>
                    </a:lnTo>
                    <a:lnTo>
                      <a:pt x="157" y="296"/>
                    </a:lnTo>
                    <a:lnTo>
                      <a:pt x="156" y="276"/>
                    </a:lnTo>
                    <a:lnTo>
                      <a:pt x="155" y="255"/>
                    </a:lnTo>
                    <a:lnTo>
                      <a:pt x="151" y="235"/>
                    </a:lnTo>
                    <a:lnTo>
                      <a:pt x="148" y="216"/>
                    </a:lnTo>
                    <a:lnTo>
                      <a:pt x="143" y="195"/>
                    </a:lnTo>
                    <a:lnTo>
                      <a:pt x="137" y="176"/>
                    </a:lnTo>
                    <a:lnTo>
                      <a:pt x="130" y="156"/>
                    </a:lnTo>
                    <a:lnTo>
                      <a:pt x="121" y="138"/>
                    </a:lnTo>
                    <a:lnTo>
                      <a:pt x="113" y="119"/>
                    </a:lnTo>
                    <a:lnTo>
                      <a:pt x="103" y="101"/>
                    </a:lnTo>
                    <a:lnTo>
                      <a:pt x="93" y="83"/>
                    </a:lnTo>
                    <a:lnTo>
                      <a:pt x="81" y="65"/>
                    </a:lnTo>
                    <a:lnTo>
                      <a:pt x="69" y="48"/>
                    </a:lnTo>
                    <a:lnTo>
                      <a:pt x="54" y="31"/>
                    </a:lnTo>
                    <a:lnTo>
                      <a:pt x="40" y="15"/>
                    </a:lnTo>
                    <a:lnTo>
                      <a:pt x="24" y="0"/>
                    </a:lnTo>
                    <a:lnTo>
                      <a:pt x="0" y="25"/>
                    </a:lnTo>
                    <a:lnTo>
                      <a:pt x="15" y="39"/>
                    </a:lnTo>
                    <a:lnTo>
                      <a:pt x="28" y="54"/>
                    </a:lnTo>
                    <a:lnTo>
                      <a:pt x="41" y="68"/>
                    </a:lnTo>
                    <a:lnTo>
                      <a:pt x="52" y="85"/>
                    </a:lnTo>
                    <a:lnTo>
                      <a:pt x="63" y="101"/>
                    </a:lnTo>
                    <a:lnTo>
                      <a:pt x="73" y="117"/>
                    </a:lnTo>
                    <a:lnTo>
                      <a:pt x="82" y="134"/>
                    </a:lnTo>
                    <a:lnTo>
                      <a:pt x="90" y="151"/>
                    </a:lnTo>
                    <a:lnTo>
                      <a:pt x="97" y="169"/>
                    </a:lnTo>
                    <a:lnTo>
                      <a:pt x="103" y="187"/>
                    </a:lnTo>
                    <a:lnTo>
                      <a:pt x="109" y="205"/>
                    </a:lnTo>
                    <a:lnTo>
                      <a:pt x="114" y="223"/>
                    </a:lnTo>
                    <a:lnTo>
                      <a:pt x="118" y="241"/>
                    </a:lnTo>
                    <a:lnTo>
                      <a:pt x="120" y="260"/>
                    </a:lnTo>
                    <a:lnTo>
                      <a:pt x="123" y="278"/>
                    </a:lnTo>
                    <a:lnTo>
                      <a:pt x="123" y="297"/>
                    </a:lnTo>
                    <a:lnTo>
                      <a:pt x="123" y="317"/>
                    </a:lnTo>
                    <a:lnTo>
                      <a:pt x="123" y="335"/>
                    </a:lnTo>
                    <a:lnTo>
                      <a:pt x="120" y="354"/>
                    </a:lnTo>
                    <a:lnTo>
                      <a:pt x="118" y="372"/>
                    </a:lnTo>
                    <a:lnTo>
                      <a:pt x="114" y="391"/>
                    </a:lnTo>
                    <a:lnTo>
                      <a:pt x="111" y="409"/>
                    </a:lnTo>
                    <a:lnTo>
                      <a:pt x="105" y="427"/>
                    </a:lnTo>
                    <a:lnTo>
                      <a:pt x="99" y="445"/>
                    </a:lnTo>
                    <a:lnTo>
                      <a:pt x="93" y="463"/>
                    </a:lnTo>
                    <a:lnTo>
                      <a:pt x="84" y="481"/>
                    </a:lnTo>
                    <a:lnTo>
                      <a:pt x="76" y="498"/>
                    </a:lnTo>
                    <a:lnTo>
                      <a:pt x="65" y="515"/>
                    </a:lnTo>
                    <a:lnTo>
                      <a:pt x="55" y="530"/>
                    </a:lnTo>
                    <a:lnTo>
                      <a:pt x="43" y="547"/>
                    </a:lnTo>
                    <a:lnTo>
                      <a:pt x="31" y="561"/>
                    </a:lnTo>
                    <a:lnTo>
                      <a:pt x="17" y="577"/>
                    </a:lnTo>
                    <a:lnTo>
                      <a:pt x="17" y="577"/>
                    </a:lnTo>
                    <a:lnTo>
                      <a:pt x="42" y="60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173320" y="5024520"/>
                <a:ext cx="237960" cy="63360"/>
              </a:xfrm>
              <a:custGeom>
                <a:avLst/>
                <a:gdLst/>
                <a:ahLst/>
                <a:rect l="l" t="t" r="r" b="b"/>
                <a:pathLst>
                  <a:path w="600" h="157">
                    <a:moveTo>
                      <a:pt x="0" y="42"/>
                    </a:moveTo>
                    <a:lnTo>
                      <a:pt x="0" y="42"/>
                    </a:lnTo>
                    <a:lnTo>
                      <a:pt x="16" y="56"/>
                    </a:lnTo>
                    <a:lnTo>
                      <a:pt x="33" y="69"/>
                    </a:lnTo>
                    <a:lnTo>
                      <a:pt x="51" y="83"/>
                    </a:lnTo>
                    <a:lnTo>
                      <a:pt x="67" y="95"/>
                    </a:lnTo>
                    <a:lnTo>
                      <a:pt x="87" y="104"/>
                    </a:lnTo>
                    <a:lnTo>
                      <a:pt x="105" y="114"/>
                    </a:lnTo>
                    <a:lnTo>
                      <a:pt x="124" y="123"/>
                    </a:lnTo>
                    <a:lnTo>
                      <a:pt x="143" y="131"/>
                    </a:lnTo>
                    <a:lnTo>
                      <a:pt x="162" y="138"/>
                    </a:lnTo>
                    <a:lnTo>
                      <a:pt x="183" y="143"/>
                    </a:lnTo>
                    <a:lnTo>
                      <a:pt x="203" y="147"/>
                    </a:lnTo>
                    <a:lnTo>
                      <a:pt x="222" y="151"/>
                    </a:lnTo>
                    <a:lnTo>
                      <a:pt x="243" y="155"/>
                    </a:lnTo>
                    <a:lnTo>
                      <a:pt x="263" y="156"/>
                    </a:lnTo>
                    <a:lnTo>
                      <a:pt x="283" y="157"/>
                    </a:lnTo>
                    <a:lnTo>
                      <a:pt x="304" y="157"/>
                    </a:lnTo>
                    <a:lnTo>
                      <a:pt x="324" y="156"/>
                    </a:lnTo>
                    <a:lnTo>
                      <a:pt x="345" y="153"/>
                    </a:lnTo>
                    <a:lnTo>
                      <a:pt x="365" y="151"/>
                    </a:lnTo>
                    <a:lnTo>
                      <a:pt x="385" y="146"/>
                    </a:lnTo>
                    <a:lnTo>
                      <a:pt x="405" y="141"/>
                    </a:lnTo>
                    <a:lnTo>
                      <a:pt x="425" y="135"/>
                    </a:lnTo>
                    <a:lnTo>
                      <a:pt x="444" y="128"/>
                    </a:lnTo>
                    <a:lnTo>
                      <a:pt x="463" y="121"/>
                    </a:lnTo>
                    <a:lnTo>
                      <a:pt x="481" y="113"/>
                    </a:lnTo>
                    <a:lnTo>
                      <a:pt x="501" y="102"/>
                    </a:lnTo>
                    <a:lnTo>
                      <a:pt x="519" y="91"/>
                    </a:lnTo>
                    <a:lnTo>
                      <a:pt x="535" y="80"/>
                    </a:lnTo>
                    <a:lnTo>
                      <a:pt x="553" y="67"/>
                    </a:lnTo>
                    <a:lnTo>
                      <a:pt x="569" y="54"/>
                    </a:lnTo>
                    <a:lnTo>
                      <a:pt x="586" y="39"/>
                    </a:lnTo>
                    <a:lnTo>
                      <a:pt x="600" y="24"/>
                    </a:lnTo>
                    <a:lnTo>
                      <a:pt x="575" y="0"/>
                    </a:lnTo>
                    <a:lnTo>
                      <a:pt x="562" y="14"/>
                    </a:lnTo>
                    <a:lnTo>
                      <a:pt x="546" y="27"/>
                    </a:lnTo>
                    <a:lnTo>
                      <a:pt x="532" y="39"/>
                    </a:lnTo>
                    <a:lnTo>
                      <a:pt x="516" y="51"/>
                    </a:lnTo>
                    <a:lnTo>
                      <a:pt x="499" y="62"/>
                    </a:lnTo>
                    <a:lnTo>
                      <a:pt x="484" y="72"/>
                    </a:lnTo>
                    <a:lnTo>
                      <a:pt x="467" y="81"/>
                    </a:lnTo>
                    <a:lnTo>
                      <a:pt x="449" y="89"/>
                    </a:lnTo>
                    <a:lnTo>
                      <a:pt x="432" y="96"/>
                    </a:lnTo>
                    <a:lnTo>
                      <a:pt x="414" y="103"/>
                    </a:lnTo>
                    <a:lnTo>
                      <a:pt x="396" y="108"/>
                    </a:lnTo>
                    <a:lnTo>
                      <a:pt x="377" y="113"/>
                    </a:lnTo>
                    <a:lnTo>
                      <a:pt x="359" y="116"/>
                    </a:lnTo>
                    <a:lnTo>
                      <a:pt x="341" y="120"/>
                    </a:lnTo>
                    <a:lnTo>
                      <a:pt x="322" y="121"/>
                    </a:lnTo>
                    <a:lnTo>
                      <a:pt x="303" y="122"/>
                    </a:lnTo>
                    <a:lnTo>
                      <a:pt x="285" y="122"/>
                    </a:lnTo>
                    <a:lnTo>
                      <a:pt x="265" y="121"/>
                    </a:lnTo>
                    <a:lnTo>
                      <a:pt x="246" y="120"/>
                    </a:lnTo>
                    <a:lnTo>
                      <a:pt x="228" y="117"/>
                    </a:lnTo>
                    <a:lnTo>
                      <a:pt x="209" y="114"/>
                    </a:lnTo>
                    <a:lnTo>
                      <a:pt x="191" y="109"/>
                    </a:lnTo>
                    <a:lnTo>
                      <a:pt x="173" y="104"/>
                    </a:lnTo>
                    <a:lnTo>
                      <a:pt x="155" y="98"/>
                    </a:lnTo>
                    <a:lnTo>
                      <a:pt x="137" y="91"/>
                    </a:lnTo>
                    <a:lnTo>
                      <a:pt x="120" y="83"/>
                    </a:lnTo>
                    <a:lnTo>
                      <a:pt x="103" y="74"/>
                    </a:lnTo>
                    <a:lnTo>
                      <a:pt x="87" y="65"/>
                    </a:lnTo>
                    <a:lnTo>
                      <a:pt x="70" y="54"/>
                    </a:lnTo>
                    <a:lnTo>
                      <a:pt x="54" y="42"/>
                    </a:lnTo>
                    <a:lnTo>
                      <a:pt x="39" y="30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119320" y="4803840"/>
                <a:ext cx="63360" cy="237960"/>
              </a:xfrm>
              <a:custGeom>
                <a:avLst/>
                <a:gdLst/>
                <a:ahLst/>
                <a:rect l="l" t="t" r="r" b="b"/>
                <a:pathLst>
                  <a:path w="157" h="601">
                    <a:moveTo>
                      <a:pt x="115" y="0"/>
                    </a:moveTo>
                    <a:lnTo>
                      <a:pt x="115" y="0"/>
                    </a:lnTo>
                    <a:lnTo>
                      <a:pt x="101" y="17"/>
                    </a:lnTo>
                    <a:lnTo>
                      <a:pt x="87" y="33"/>
                    </a:lnTo>
                    <a:lnTo>
                      <a:pt x="74" y="50"/>
                    </a:lnTo>
                    <a:lnTo>
                      <a:pt x="63" y="68"/>
                    </a:lnTo>
                    <a:lnTo>
                      <a:pt x="53" y="86"/>
                    </a:lnTo>
                    <a:lnTo>
                      <a:pt x="43" y="105"/>
                    </a:lnTo>
                    <a:lnTo>
                      <a:pt x="35" y="125"/>
                    </a:lnTo>
                    <a:lnTo>
                      <a:pt x="26" y="144"/>
                    </a:lnTo>
                    <a:lnTo>
                      <a:pt x="20" y="163"/>
                    </a:lnTo>
                    <a:lnTo>
                      <a:pt x="14" y="182"/>
                    </a:lnTo>
                    <a:lnTo>
                      <a:pt x="9" y="203"/>
                    </a:lnTo>
                    <a:lnTo>
                      <a:pt x="6" y="223"/>
                    </a:lnTo>
                    <a:lnTo>
                      <a:pt x="3" y="243"/>
                    </a:lnTo>
                    <a:lnTo>
                      <a:pt x="1" y="264"/>
                    </a:lnTo>
                    <a:lnTo>
                      <a:pt x="0" y="284"/>
                    </a:lnTo>
                    <a:lnTo>
                      <a:pt x="1" y="305"/>
                    </a:lnTo>
                    <a:lnTo>
                      <a:pt x="1" y="325"/>
                    </a:lnTo>
                    <a:lnTo>
                      <a:pt x="3" y="345"/>
                    </a:lnTo>
                    <a:lnTo>
                      <a:pt x="7" y="366"/>
                    </a:lnTo>
                    <a:lnTo>
                      <a:pt x="11" y="385"/>
                    </a:lnTo>
                    <a:lnTo>
                      <a:pt x="15" y="405"/>
                    </a:lnTo>
                    <a:lnTo>
                      <a:pt x="21" y="425"/>
                    </a:lnTo>
                    <a:lnTo>
                      <a:pt x="29" y="444"/>
                    </a:lnTo>
                    <a:lnTo>
                      <a:pt x="36" y="463"/>
                    </a:lnTo>
                    <a:lnTo>
                      <a:pt x="45" y="482"/>
                    </a:lnTo>
                    <a:lnTo>
                      <a:pt x="55" y="500"/>
                    </a:lnTo>
                    <a:lnTo>
                      <a:pt x="66" y="518"/>
                    </a:lnTo>
                    <a:lnTo>
                      <a:pt x="78" y="536"/>
                    </a:lnTo>
                    <a:lnTo>
                      <a:pt x="90" y="553"/>
                    </a:lnTo>
                    <a:lnTo>
                      <a:pt x="104" y="570"/>
                    </a:lnTo>
                    <a:lnTo>
                      <a:pt x="119" y="585"/>
                    </a:lnTo>
                    <a:lnTo>
                      <a:pt x="134" y="601"/>
                    </a:lnTo>
                    <a:lnTo>
                      <a:pt x="157" y="576"/>
                    </a:lnTo>
                    <a:lnTo>
                      <a:pt x="144" y="561"/>
                    </a:lnTo>
                    <a:lnTo>
                      <a:pt x="129" y="547"/>
                    </a:lnTo>
                    <a:lnTo>
                      <a:pt x="117" y="531"/>
                    </a:lnTo>
                    <a:lnTo>
                      <a:pt x="105" y="516"/>
                    </a:lnTo>
                    <a:lnTo>
                      <a:pt x="95" y="500"/>
                    </a:lnTo>
                    <a:lnTo>
                      <a:pt x="85" y="483"/>
                    </a:lnTo>
                    <a:lnTo>
                      <a:pt x="77" y="467"/>
                    </a:lnTo>
                    <a:lnTo>
                      <a:pt x="68" y="450"/>
                    </a:lnTo>
                    <a:lnTo>
                      <a:pt x="61" y="432"/>
                    </a:lnTo>
                    <a:lnTo>
                      <a:pt x="55" y="414"/>
                    </a:lnTo>
                    <a:lnTo>
                      <a:pt x="49" y="396"/>
                    </a:lnTo>
                    <a:lnTo>
                      <a:pt x="44" y="378"/>
                    </a:lnTo>
                    <a:lnTo>
                      <a:pt x="41" y="360"/>
                    </a:lnTo>
                    <a:lnTo>
                      <a:pt x="38" y="341"/>
                    </a:lnTo>
                    <a:lnTo>
                      <a:pt x="36" y="323"/>
                    </a:lnTo>
                    <a:lnTo>
                      <a:pt x="35" y="303"/>
                    </a:lnTo>
                    <a:lnTo>
                      <a:pt x="35" y="284"/>
                    </a:lnTo>
                    <a:lnTo>
                      <a:pt x="36" y="266"/>
                    </a:lnTo>
                    <a:lnTo>
                      <a:pt x="37" y="247"/>
                    </a:lnTo>
                    <a:lnTo>
                      <a:pt x="39" y="228"/>
                    </a:lnTo>
                    <a:lnTo>
                      <a:pt x="43" y="210"/>
                    </a:lnTo>
                    <a:lnTo>
                      <a:pt x="48" y="192"/>
                    </a:lnTo>
                    <a:lnTo>
                      <a:pt x="53" y="174"/>
                    </a:lnTo>
                    <a:lnTo>
                      <a:pt x="59" y="156"/>
                    </a:lnTo>
                    <a:lnTo>
                      <a:pt x="66" y="138"/>
                    </a:lnTo>
                    <a:lnTo>
                      <a:pt x="74" y="120"/>
                    </a:lnTo>
                    <a:lnTo>
                      <a:pt x="83" y="103"/>
                    </a:lnTo>
                    <a:lnTo>
                      <a:pt x="92" y="86"/>
                    </a:lnTo>
                    <a:lnTo>
                      <a:pt x="103" y="71"/>
                    </a:lnTo>
                    <a:lnTo>
                      <a:pt x="115" y="54"/>
                    </a:lnTo>
                    <a:lnTo>
                      <a:pt x="127" y="38"/>
                    </a:lnTo>
                    <a:lnTo>
                      <a:pt x="140" y="24"/>
                    </a:lnTo>
                    <a:lnTo>
                      <a:pt x="140" y="2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128680" y="4759200"/>
                <a:ext cx="320760" cy="320760"/>
              </a:xfrm>
              <a:custGeom>
                <a:avLst/>
                <a:gdLst/>
                <a:ahLst/>
                <a:rect l="l" t="t" r="r" b="b"/>
                <a:pathLst>
                  <a:path w="807" h="808">
                    <a:moveTo>
                      <a:pt x="109" y="126"/>
                    </a:moveTo>
                    <a:lnTo>
                      <a:pt x="123" y="112"/>
                    </a:lnTo>
                    <a:lnTo>
                      <a:pt x="139" y="98"/>
                    </a:lnTo>
                    <a:lnTo>
                      <a:pt x="155" y="86"/>
                    </a:lnTo>
                    <a:lnTo>
                      <a:pt x="170" y="74"/>
                    </a:lnTo>
                    <a:lnTo>
                      <a:pt x="187" y="62"/>
                    </a:lnTo>
                    <a:lnTo>
                      <a:pt x="204" y="52"/>
                    </a:lnTo>
                    <a:lnTo>
                      <a:pt x="222" y="42"/>
                    </a:lnTo>
                    <a:lnTo>
                      <a:pt x="240" y="34"/>
                    </a:lnTo>
                    <a:lnTo>
                      <a:pt x="258" y="27"/>
                    </a:lnTo>
                    <a:lnTo>
                      <a:pt x="276" y="20"/>
                    </a:lnTo>
                    <a:lnTo>
                      <a:pt x="295" y="15"/>
                    </a:lnTo>
                    <a:lnTo>
                      <a:pt x="314" y="10"/>
                    </a:lnTo>
                    <a:lnTo>
                      <a:pt x="333" y="6"/>
                    </a:lnTo>
                    <a:lnTo>
                      <a:pt x="353" y="3"/>
                    </a:lnTo>
                    <a:lnTo>
                      <a:pt x="372" y="2"/>
                    </a:lnTo>
                    <a:lnTo>
                      <a:pt x="391" y="0"/>
                    </a:lnTo>
                    <a:lnTo>
                      <a:pt x="410" y="0"/>
                    </a:lnTo>
                    <a:lnTo>
                      <a:pt x="429" y="0"/>
                    </a:lnTo>
                    <a:lnTo>
                      <a:pt x="449" y="3"/>
                    </a:lnTo>
                    <a:lnTo>
                      <a:pt x="468" y="5"/>
                    </a:lnTo>
                    <a:lnTo>
                      <a:pt x="487" y="9"/>
                    </a:lnTo>
                    <a:lnTo>
                      <a:pt x="506" y="14"/>
                    </a:lnTo>
                    <a:lnTo>
                      <a:pt x="525" y="18"/>
                    </a:lnTo>
                    <a:lnTo>
                      <a:pt x="543" y="24"/>
                    </a:lnTo>
                    <a:lnTo>
                      <a:pt x="563" y="32"/>
                    </a:lnTo>
                    <a:lnTo>
                      <a:pt x="581" y="40"/>
                    </a:lnTo>
                    <a:lnTo>
                      <a:pt x="599" y="50"/>
                    </a:lnTo>
                    <a:lnTo>
                      <a:pt x="615" y="59"/>
                    </a:lnTo>
                    <a:lnTo>
                      <a:pt x="632" y="71"/>
                    </a:lnTo>
                    <a:lnTo>
                      <a:pt x="649" y="82"/>
                    </a:lnTo>
                    <a:lnTo>
                      <a:pt x="665" y="95"/>
                    </a:lnTo>
                    <a:lnTo>
                      <a:pt x="680" y="110"/>
                    </a:lnTo>
                    <a:lnTo>
                      <a:pt x="695" y="124"/>
                    </a:lnTo>
                    <a:lnTo>
                      <a:pt x="709" y="140"/>
                    </a:lnTo>
                    <a:lnTo>
                      <a:pt x="722" y="155"/>
                    </a:lnTo>
                    <a:lnTo>
                      <a:pt x="734" y="171"/>
                    </a:lnTo>
                    <a:lnTo>
                      <a:pt x="745" y="188"/>
                    </a:lnTo>
                    <a:lnTo>
                      <a:pt x="755" y="204"/>
                    </a:lnTo>
                    <a:lnTo>
                      <a:pt x="764" y="222"/>
                    </a:lnTo>
                    <a:lnTo>
                      <a:pt x="773" y="240"/>
                    </a:lnTo>
                    <a:lnTo>
                      <a:pt x="780" y="258"/>
                    </a:lnTo>
                    <a:lnTo>
                      <a:pt x="787" y="276"/>
                    </a:lnTo>
                    <a:lnTo>
                      <a:pt x="793" y="296"/>
                    </a:lnTo>
                    <a:lnTo>
                      <a:pt x="797" y="315"/>
                    </a:lnTo>
                    <a:lnTo>
                      <a:pt x="801" y="334"/>
                    </a:lnTo>
                    <a:lnTo>
                      <a:pt x="804" y="353"/>
                    </a:lnTo>
                    <a:lnTo>
                      <a:pt x="806" y="372"/>
                    </a:lnTo>
                    <a:lnTo>
                      <a:pt x="807" y="392"/>
                    </a:lnTo>
                    <a:lnTo>
                      <a:pt x="807" y="411"/>
                    </a:lnTo>
                    <a:lnTo>
                      <a:pt x="806" y="430"/>
                    </a:lnTo>
                    <a:lnTo>
                      <a:pt x="805" y="449"/>
                    </a:lnTo>
                    <a:lnTo>
                      <a:pt x="801" y="468"/>
                    </a:lnTo>
                    <a:lnTo>
                      <a:pt x="798" y="488"/>
                    </a:lnTo>
                    <a:lnTo>
                      <a:pt x="794" y="507"/>
                    </a:lnTo>
                    <a:lnTo>
                      <a:pt x="788" y="526"/>
                    </a:lnTo>
                    <a:lnTo>
                      <a:pt x="782" y="544"/>
                    </a:lnTo>
                    <a:lnTo>
                      <a:pt x="775" y="563"/>
                    </a:lnTo>
                    <a:lnTo>
                      <a:pt x="767" y="581"/>
                    </a:lnTo>
                    <a:lnTo>
                      <a:pt x="757" y="598"/>
                    </a:lnTo>
                    <a:lnTo>
                      <a:pt x="747" y="616"/>
                    </a:lnTo>
                    <a:lnTo>
                      <a:pt x="737" y="633"/>
                    </a:lnTo>
                    <a:lnTo>
                      <a:pt x="725" y="649"/>
                    </a:lnTo>
                    <a:lnTo>
                      <a:pt x="711" y="665"/>
                    </a:lnTo>
                    <a:lnTo>
                      <a:pt x="698" y="681"/>
                    </a:lnTo>
                    <a:lnTo>
                      <a:pt x="683" y="695"/>
                    </a:lnTo>
                    <a:lnTo>
                      <a:pt x="668" y="709"/>
                    </a:lnTo>
                    <a:lnTo>
                      <a:pt x="653" y="721"/>
                    </a:lnTo>
                    <a:lnTo>
                      <a:pt x="636" y="733"/>
                    </a:lnTo>
                    <a:lnTo>
                      <a:pt x="619" y="745"/>
                    </a:lnTo>
                    <a:lnTo>
                      <a:pt x="602" y="755"/>
                    </a:lnTo>
                    <a:lnTo>
                      <a:pt x="584" y="765"/>
                    </a:lnTo>
                    <a:lnTo>
                      <a:pt x="567" y="773"/>
                    </a:lnTo>
                    <a:lnTo>
                      <a:pt x="548" y="780"/>
                    </a:lnTo>
                    <a:lnTo>
                      <a:pt x="530" y="787"/>
                    </a:lnTo>
                    <a:lnTo>
                      <a:pt x="511" y="792"/>
                    </a:lnTo>
                    <a:lnTo>
                      <a:pt x="493" y="797"/>
                    </a:lnTo>
                    <a:lnTo>
                      <a:pt x="474" y="802"/>
                    </a:lnTo>
                    <a:lnTo>
                      <a:pt x="455" y="804"/>
                    </a:lnTo>
                    <a:lnTo>
                      <a:pt x="435" y="807"/>
                    </a:lnTo>
                    <a:lnTo>
                      <a:pt x="416" y="807"/>
                    </a:lnTo>
                    <a:lnTo>
                      <a:pt x="396" y="808"/>
                    </a:lnTo>
                    <a:lnTo>
                      <a:pt x="377" y="807"/>
                    </a:lnTo>
                    <a:lnTo>
                      <a:pt x="357" y="804"/>
                    </a:lnTo>
                    <a:lnTo>
                      <a:pt x="338" y="802"/>
                    </a:lnTo>
                    <a:lnTo>
                      <a:pt x="319" y="798"/>
                    </a:lnTo>
                    <a:lnTo>
                      <a:pt x="300" y="795"/>
                    </a:lnTo>
                    <a:lnTo>
                      <a:pt x="281" y="789"/>
                    </a:lnTo>
                    <a:lnTo>
                      <a:pt x="263" y="783"/>
                    </a:lnTo>
                    <a:lnTo>
                      <a:pt x="245" y="775"/>
                    </a:lnTo>
                    <a:lnTo>
                      <a:pt x="227" y="767"/>
                    </a:lnTo>
                    <a:lnTo>
                      <a:pt x="209" y="757"/>
                    </a:lnTo>
                    <a:lnTo>
                      <a:pt x="192" y="748"/>
                    </a:lnTo>
                    <a:lnTo>
                      <a:pt x="174" y="737"/>
                    </a:lnTo>
                    <a:lnTo>
                      <a:pt x="158" y="725"/>
                    </a:lnTo>
                    <a:lnTo>
                      <a:pt x="141" y="712"/>
                    </a:lnTo>
                    <a:lnTo>
                      <a:pt x="126" y="697"/>
                    </a:lnTo>
                    <a:lnTo>
                      <a:pt x="111" y="683"/>
                    </a:lnTo>
                    <a:lnTo>
                      <a:pt x="98" y="669"/>
                    </a:lnTo>
                    <a:lnTo>
                      <a:pt x="85" y="652"/>
                    </a:lnTo>
                    <a:lnTo>
                      <a:pt x="73" y="636"/>
                    </a:lnTo>
                    <a:lnTo>
                      <a:pt x="62" y="620"/>
                    </a:lnTo>
                    <a:lnTo>
                      <a:pt x="51" y="603"/>
                    </a:lnTo>
                    <a:lnTo>
                      <a:pt x="42" y="585"/>
                    </a:lnTo>
                    <a:lnTo>
                      <a:pt x="33" y="567"/>
                    </a:lnTo>
                    <a:lnTo>
                      <a:pt x="26" y="549"/>
                    </a:lnTo>
                    <a:lnTo>
                      <a:pt x="20" y="531"/>
                    </a:lnTo>
                    <a:lnTo>
                      <a:pt x="14" y="512"/>
                    </a:lnTo>
                    <a:lnTo>
                      <a:pt x="9" y="494"/>
                    </a:lnTo>
                    <a:lnTo>
                      <a:pt x="6" y="474"/>
                    </a:lnTo>
                    <a:lnTo>
                      <a:pt x="2" y="455"/>
                    </a:lnTo>
                    <a:lnTo>
                      <a:pt x="1" y="436"/>
                    </a:lnTo>
                    <a:lnTo>
                      <a:pt x="0" y="416"/>
                    </a:lnTo>
                    <a:lnTo>
                      <a:pt x="0" y="396"/>
                    </a:lnTo>
                    <a:lnTo>
                      <a:pt x="0" y="377"/>
                    </a:lnTo>
                    <a:lnTo>
                      <a:pt x="2" y="358"/>
                    </a:lnTo>
                    <a:lnTo>
                      <a:pt x="5" y="339"/>
                    </a:lnTo>
                    <a:lnTo>
                      <a:pt x="8" y="320"/>
                    </a:lnTo>
                    <a:lnTo>
                      <a:pt x="13" y="300"/>
                    </a:lnTo>
                    <a:lnTo>
                      <a:pt x="18" y="281"/>
                    </a:lnTo>
                    <a:lnTo>
                      <a:pt x="25" y="263"/>
                    </a:lnTo>
                    <a:lnTo>
                      <a:pt x="32" y="245"/>
                    </a:lnTo>
                    <a:lnTo>
                      <a:pt x="39" y="227"/>
                    </a:lnTo>
                    <a:lnTo>
                      <a:pt x="49" y="209"/>
                    </a:lnTo>
                    <a:lnTo>
                      <a:pt x="60" y="191"/>
                    </a:lnTo>
                    <a:lnTo>
                      <a:pt x="71" y="174"/>
                    </a:lnTo>
                    <a:lnTo>
                      <a:pt x="83" y="159"/>
                    </a:lnTo>
                    <a:lnTo>
                      <a:pt x="95" y="142"/>
                    </a:lnTo>
                    <a:lnTo>
                      <a:pt x="109" y="126"/>
                    </a:lnTo>
                    <a:close/>
                  </a:path>
                </a:pathLst>
              </a:custGeom>
              <a:solidFill>
                <a:srgbClr val="c08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131920" y="4761000"/>
                <a:ext cx="317520" cy="317520"/>
              </a:xfrm>
              <a:custGeom>
                <a:avLst/>
                <a:gdLst/>
                <a:ahLst/>
                <a:rect l="l" t="t" r="r" b="b"/>
                <a:pathLst>
                  <a:path w="799" h="800">
                    <a:moveTo>
                      <a:pt x="108" y="126"/>
                    </a:moveTo>
                    <a:lnTo>
                      <a:pt x="122" y="111"/>
                    </a:lnTo>
                    <a:lnTo>
                      <a:pt x="138" y="97"/>
                    </a:lnTo>
                    <a:lnTo>
                      <a:pt x="153" y="84"/>
                    </a:lnTo>
                    <a:lnTo>
                      <a:pt x="169" y="72"/>
                    </a:lnTo>
                    <a:lnTo>
                      <a:pt x="186" y="61"/>
                    </a:lnTo>
                    <a:lnTo>
                      <a:pt x="203" y="52"/>
                    </a:lnTo>
                    <a:lnTo>
                      <a:pt x="219" y="42"/>
                    </a:lnTo>
                    <a:lnTo>
                      <a:pt x="237" y="34"/>
                    </a:lnTo>
                    <a:lnTo>
                      <a:pt x="255" y="27"/>
                    </a:lnTo>
                    <a:lnTo>
                      <a:pt x="273" y="21"/>
                    </a:lnTo>
                    <a:lnTo>
                      <a:pt x="293" y="15"/>
                    </a:lnTo>
                    <a:lnTo>
                      <a:pt x="311" y="10"/>
                    </a:lnTo>
                    <a:lnTo>
                      <a:pt x="330" y="6"/>
                    </a:lnTo>
                    <a:lnTo>
                      <a:pt x="349" y="3"/>
                    </a:lnTo>
                    <a:lnTo>
                      <a:pt x="368" y="1"/>
                    </a:lnTo>
                    <a:lnTo>
                      <a:pt x="387" y="0"/>
                    </a:lnTo>
                    <a:lnTo>
                      <a:pt x="407" y="0"/>
                    </a:lnTo>
                    <a:lnTo>
                      <a:pt x="426" y="1"/>
                    </a:lnTo>
                    <a:lnTo>
                      <a:pt x="445" y="3"/>
                    </a:lnTo>
                    <a:lnTo>
                      <a:pt x="464" y="5"/>
                    </a:lnTo>
                    <a:lnTo>
                      <a:pt x="483" y="9"/>
                    </a:lnTo>
                    <a:lnTo>
                      <a:pt x="501" y="13"/>
                    </a:lnTo>
                    <a:lnTo>
                      <a:pt x="521" y="18"/>
                    </a:lnTo>
                    <a:lnTo>
                      <a:pt x="539" y="24"/>
                    </a:lnTo>
                    <a:lnTo>
                      <a:pt x="557" y="31"/>
                    </a:lnTo>
                    <a:lnTo>
                      <a:pt x="575" y="40"/>
                    </a:lnTo>
                    <a:lnTo>
                      <a:pt x="593" y="49"/>
                    </a:lnTo>
                    <a:lnTo>
                      <a:pt x="609" y="59"/>
                    </a:lnTo>
                    <a:lnTo>
                      <a:pt x="626" y="70"/>
                    </a:lnTo>
                    <a:lnTo>
                      <a:pt x="643" y="82"/>
                    </a:lnTo>
                    <a:lnTo>
                      <a:pt x="659" y="95"/>
                    </a:lnTo>
                    <a:lnTo>
                      <a:pt x="674" y="108"/>
                    </a:lnTo>
                    <a:lnTo>
                      <a:pt x="689" y="123"/>
                    </a:lnTo>
                    <a:lnTo>
                      <a:pt x="702" y="138"/>
                    </a:lnTo>
                    <a:lnTo>
                      <a:pt x="715" y="154"/>
                    </a:lnTo>
                    <a:lnTo>
                      <a:pt x="727" y="169"/>
                    </a:lnTo>
                    <a:lnTo>
                      <a:pt x="738" y="186"/>
                    </a:lnTo>
                    <a:lnTo>
                      <a:pt x="749" y="203"/>
                    </a:lnTo>
                    <a:lnTo>
                      <a:pt x="757" y="220"/>
                    </a:lnTo>
                    <a:lnTo>
                      <a:pt x="765" y="238"/>
                    </a:lnTo>
                    <a:lnTo>
                      <a:pt x="773" y="256"/>
                    </a:lnTo>
                    <a:lnTo>
                      <a:pt x="780" y="274"/>
                    </a:lnTo>
                    <a:lnTo>
                      <a:pt x="785" y="293"/>
                    </a:lnTo>
                    <a:lnTo>
                      <a:pt x="789" y="311"/>
                    </a:lnTo>
                    <a:lnTo>
                      <a:pt x="793" y="330"/>
                    </a:lnTo>
                    <a:lnTo>
                      <a:pt x="797" y="349"/>
                    </a:lnTo>
                    <a:lnTo>
                      <a:pt x="798" y="369"/>
                    </a:lnTo>
                    <a:lnTo>
                      <a:pt x="799" y="388"/>
                    </a:lnTo>
                    <a:lnTo>
                      <a:pt x="799" y="407"/>
                    </a:lnTo>
                    <a:lnTo>
                      <a:pt x="799" y="426"/>
                    </a:lnTo>
                    <a:lnTo>
                      <a:pt x="797" y="445"/>
                    </a:lnTo>
                    <a:lnTo>
                      <a:pt x="794" y="465"/>
                    </a:lnTo>
                    <a:lnTo>
                      <a:pt x="791" y="484"/>
                    </a:lnTo>
                    <a:lnTo>
                      <a:pt x="787" y="503"/>
                    </a:lnTo>
                    <a:lnTo>
                      <a:pt x="781" y="521"/>
                    </a:lnTo>
                    <a:lnTo>
                      <a:pt x="775" y="539"/>
                    </a:lnTo>
                    <a:lnTo>
                      <a:pt x="768" y="558"/>
                    </a:lnTo>
                    <a:lnTo>
                      <a:pt x="759" y="575"/>
                    </a:lnTo>
                    <a:lnTo>
                      <a:pt x="751" y="593"/>
                    </a:lnTo>
                    <a:lnTo>
                      <a:pt x="740" y="610"/>
                    </a:lnTo>
                    <a:lnTo>
                      <a:pt x="729" y="627"/>
                    </a:lnTo>
                    <a:lnTo>
                      <a:pt x="717" y="643"/>
                    </a:lnTo>
                    <a:lnTo>
                      <a:pt x="705" y="659"/>
                    </a:lnTo>
                    <a:lnTo>
                      <a:pt x="691" y="674"/>
                    </a:lnTo>
                    <a:lnTo>
                      <a:pt x="677" y="689"/>
                    </a:lnTo>
                    <a:lnTo>
                      <a:pt x="662" y="702"/>
                    </a:lnTo>
                    <a:lnTo>
                      <a:pt x="647" y="715"/>
                    </a:lnTo>
                    <a:lnTo>
                      <a:pt x="630" y="727"/>
                    </a:lnTo>
                    <a:lnTo>
                      <a:pt x="613" y="738"/>
                    </a:lnTo>
                    <a:lnTo>
                      <a:pt x="596" y="749"/>
                    </a:lnTo>
                    <a:lnTo>
                      <a:pt x="579" y="757"/>
                    </a:lnTo>
                    <a:lnTo>
                      <a:pt x="561" y="766"/>
                    </a:lnTo>
                    <a:lnTo>
                      <a:pt x="543" y="773"/>
                    </a:lnTo>
                    <a:lnTo>
                      <a:pt x="525" y="780"/>
                    </a:lnTo>
                    <a:lnTo>
                      <a:pt x="506" y="786"/>
                    </a:lnTo>
                    <a:lnTo>
                      <a:pt x="488" y="790"/>
                    </a:lnTo>
                    <a:lnTo>
                      <a:pt x="469" y="794"/>
                    </a:lnTo>
                    <a:lnTo>
                      <a:pt x="450" y="797"/>
                    </a:lnTo>
                    <a:lnTo>
                      <a:pt x="431" y="799"/>
                    </a:lnTo>
                    <a:lnTo>
                      <a:pt x="411" y="800"/>
                    </a:lnTo>
                    <a:lnTo>
                      <a:pt x="392" y="800"/>
                    </a:lnTo>
                    <a:lnTo>
                      <a:pt x="373" y="799"/>
                    </a:lnTo>
                    <a:lnTo>
                      <a:pt x="354" y="798"/>
                    </a:lnTo>
                    <a:lnTo>
                      <a:pt x="335" y="794"/>
                    </a:lnTo>
                    <a:lnTo>
                      <a:pt x="317" y="791"/>
                    </a:lnTo>
                    <a:lnTo>
                      <a:pt x="297" y="787"/>
                    </a:lnTo>
                    <a:lnTo>
                      <a:pt x="278" y="781"/>
                    </a:lnTo>
                    <a:lnTo>
                      <a:pt x="260" y="775"/>
                    </a:lnTo>
                    <a:lnTo>
                      <a:pt x="242" y="768"/>
                    </a:lnTo>
                    <a:lnTo>
                      <a:pt x="224" y="760"/>
                    </a:lnTo>
                    <a:lnTo>
                      <a:pt x="206" y="751"/>
                    </a:lnTo>
                    <a:lnTo>
                      <a:pt x="189" y="740"/>
                    </a:lnTo>
                    <a:lnTo>
                      <a:pt x="173" y="730"/>
                    </a:lnTo>
                    <a:lnTo>
                      <a:pt x="156" y="718"/>
                    </a:lnTo>
                    <a:lnTo>
                      <a:pt x="140" y="706"/>
                    </a:lnTo>
                    <a:lnTo>
                      <a:pt x="125" y="691"/>
                    </a:lnTo>
                    <a:lnTo>
                      <a:pt x="110" y="677"/>
                    </a:lnTo>
                    <a:lnTo>
                      <a:pt x="97" y="662"/>
                    </a:lnTo>
                    <a:lnTo>
                      <a:pt x="84" y="647"/>
                    </a:lnTo>
                    <a:lnTo>
                      <a:pt x="72" y="630"/>
                    </a:lnTo>
                    <a:lnTo>
                      <a:pt x="61" y="615"/>
                    </a:lnTo>
                    <a:lnTo>
                      <a:pt x="51" y="597"/>
                    </a:lnTo>
                    <a:lnTo>
                      <a:pt x="42" y="580"/>
                    </a:lnTo>
                    <a:lnTo>
                      <a:pt x="33" y="562"/>
                    </a:lnTo>
                    <a:lnTo>
                      <a:pt x="26" y="544"/>
                    </a:lnTo>
                    <a:lnTo>
                      <a:pt x="19" y="526"/>
                    </a:lnTo>
                    <a:lnTo>
                      <a:pt x="14" y="508"/>
                    </a:lnTo>
                    <a:lnTo>
                      <a:pt x="9" y="489"/>
                    </a:lnTo>
                    <a:lnTo>
                      <a:pt x="6" y="469"/>
                    </a:lnTo>
                    <a:lnTo>
                      <a:pt x="2" y="450"/>
                    </a:lnTo>
                    <a:lnTo>
                      <a:pt x="1" y="431"/>
                    </a:lnTo>
                    <a:lnTo>
                      <a:pt x="0" y="412"/>
                    </a:lnTo>
                    <a:lnTo>
                      <a:pt x="0" y="393"/>
                    </a:lnTo>
                    <a:lnTo>
                      <a:pt x="0" y="373"/>
                    </a:lnTo>
                    <a:lnTo>
                      <a:pt x="2" y="354"/>
                    </a:lnTo>
                    <a:lnTo>
                      <a:pt x="5" y="335"/>
                    </a:lnTo>
                    <a:lnTo>
                      <a:pt x="8" y="317"/>
                    </a:lnTo>
                    <a:lnTo>
                      <a:pt x="13" y="298"/>
                    </a:lnTo>
                    <a:lnTo>
                      <a:pt x="18" y="279"/>
                    </a:lnTo>
                    <a:lnTo>
                      <a:pt x="24" y="261"/>
                    </a:lnTo>
                    <a:lnTo>
                      <a:pt x="31" y="243"/>
                    </a:lnTo>
                    <a:lnTo>
                      <a:pt x="39" y="225"/>
                    </a:lnTo>
                    <a:lnTo>
                      <a:pt x="49" y="207"/>
                    </a:lnTo>
                    <a:lnTo>
                      <a:pt x="59" y="190"/>
                    </a:lnTo>
                    <a:lnTo>
                      <a:pt x="69" y="173"/>
                    </a:lnTo>
                    <a:lnTo>
                      <a:pt x="81" y="157"/>
                    </a:lnTo>
                    <a:lnTo>
                      <a:pt x="95" y="141"/>
                    </a:lnTo>
                    <a:lnTo>
                      <a:pt x="108" y="126"/>
                    </a:lnTo>
                    <a:close/>
                  </a:path>
                </a:pathLst>
              </a:custGeom>
              <a:solidFill>
                <a:srgbClr val="c48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133360" y="4764240"/>
                <a:ext cx="314640" cy="314280"/>
              </a:xfrm>
              <a:custGeom>
                <a:avLst/>
                <a:gdLst/>
                <a:ahLst/>
                <a:rect l="l" t="t" r="r" b="b"/>
                <a:pathLst>
                  <a:path w="792" h="793">
                    <a:moveTo>
                      <a:pt x="107" y="125"/>
                    </a:moveTo>
                    <a:lnTo>
                      <a:pt x="121" y="110"/>
                    </a:lnTo>
                    <a:lnTo>
                      <a:pt x="135" y="96"/>
                    </a:lnTo>
                    <a:lnTo>
                      <a:pt x="151" y="84"/>
                    </a:lnTo>
                    <a:lnTo>
                      <a:pt x="168" y="72"/>
                    </a:lnTo>
                    <a:lnTo>
                      <a:pt x="183" y="61"/>
                    </a:lnTo>
                    <a:lnTo>
                      <a:pt x="200" y="52"/>
                    </a:lnTo>
                    <a:lnTo>
                      <a:pt x="218" y="42"/>
                    </a:lnTo>
                    <a:lnTo>
                      <a:pt x="235" y="34"/>
                    </a:lnTo>
                    <a:lnTo>
                      <a:pt x="253" y="26"/>
                    </a:lnTo>
                    <a:lnTo>
                      <a:pt x="271" y="20"/>
                    </a:lnTo>
                    <a:lnTo>
                      <a:pt x="289" y="14"/>
                    </a:lnTo>
                    <a:lnTo>
                      <a:pt x="308" y="10"/>
                    </a:lnTo>
                    <a:lnTo>
                      <a:pt x="326" y="6"/>
                    </a:lnTo>
                    <a:lnTo>
                      <a:pt x="345" y="4"/>
                    </a:lnTo>
                    <a:lnTo>
                      <a:pt x="365" y="1"/>
                    </a:lnTo>
                    <a:lnTo>
                      <a:pt x="384" y="0"/>
                    </a:lnTo>
                    <a:lnTo>
                      <a:pt x="403" y="0"/>
                    </a:lnTo>
                    <a:lnTo>
                      <a:pt x="422" y="1"/>
                    </a:lnTo>
                    <a:lnTo>
                      <a:pt x="440" y="2"/>
                    </a:lnTo>
                    <a:lnTo>
                      <a:pt x="459" y="5"/>
                    </a:lnTo>
                    <a:lnTo>
                      <a:pt x="479" y="8"/>
                    </a:lnTo>
                    <a:lnTo>
                      <a:pt x="497" y="13"/>
                    </a:lnTo>
                    <a:lnTo>
                      <a:pt x="516" y="18"/>
                    </a:lnTo>
                    <a:lnTo>
                      <a:pt x="534" y="25"/>
                    </a:lnTo>
                    <a:lnTo>
                      <a:pt x="552" y="31"/>
                    </a:lnTo>
                    <a:lnTo>
                      <a:pt x="570" y="40"/>
                    </a:lnTo>
                    <a:lnTo>
                      <a:pt x="587" y="49"/>
                    </a:lnTo>
                    <a:lnTo>
                      <a:pt x="603" y="59"/>
                    </a:lnTo>
                    <a:lnTo>
                      <a:pt x="620" y="70"/>
                    </a:lnTo>
                    <a:lnTo>
                      <a:pt x="637" y="82"/>
                    </a:lnTo>
                    <a:lnTo>
                      <a:pt x="653" y="94"/>
                    </a:lnTo>
                    <a:lnTo>
                      <a:pt x="667" y="108"/>
                    </a:lnTo>
                    <a:lnTo>
                      <a:pt x="683" y="122"/>
                    </a:lnTo>
                    <a:lnTo>
                      <a:pt x="696" y="137"/>
                    </a:lnTo>
                    <a:lnTo>
                      <a:pt x="708" y="152"/>
                    </a:lnTo>
                    <a:lnTo>
                      <a:pt x="720" y="168"/>
                    </a:lnTo>
                    <a:lnTo>
                      <a:pt x="731" y="185"/>
                    </a:lnTo>
                    <a:lnTo>
                      <a:pt x="741" y="202"/>
                    </a:lnTo>
                    <a:lnTo>
                      <a:pt x="750" y="218"/>
                    </a:lnTo>
                    <a:lnTo>
                      <a:pt x="758" y="236"/>
                    </a:lnTo>
                    <a:lnTo>
                      <a:pt x="765" y="253"/>
                    </a:lnTo>
                    <a:lnTo>
                      <a:pt x="773" y="272"/>
                    </a:lnTo>
                    <a:lnTo>
                      <a:pt x="777" y="290"/>
                    </a:lnTo>
                    <a:lnTo>
                      <a:pt x="782" y="308"/>
                    </a:lnTo>
                    <a:lnTo>
                      <a:pt x="786" y="328"/>
                    </a:lnTo>
                    <a:lnTo>
                      <a:pt x="789" y="347"/>
                    </a:lnTo>
                    <a:lnTo>
                      <a:pt x="791" y="365"/>
                    </a:lnTo>
                    <a:lnTo>
                      <a:pt x="792" y="384"/>
                    </a:lnTo>
                    <a:lnTo>
                      <a:pt x="792" y="403"/>
                    </a:lnTo>
                    <a:lnTo>
                      <a:pt x="792" y="422"/>
                    </a:lnTo>
                    <a:lnTo>
                      <a:pt x="789" y="442"/>
                    </a:lnTo>
                    <a:lnTo>
                      <a:pt x="787" y="461"/>
                    </a:lnTo>
                    <a:lnTo>
                      <a:pt x="783" y="479"/>
                    </a:lnTo>
                    <a:lnTo>
                      <a:pt x="779" y="498"/>
                    </a:lnTo>
                    <a:lnTo>
                      <a:pt x="774" y="516"/>
                    </a:lnTo>
                    <a:lnTo>
                      <a:pt x="768" y="534"/>
                    </a:lnTo>
                    <a:lnTo>
                      <a:pt x="761" y="552"/>
                    </a:lnTo>
                    <a:lnTo>
                      <a:pt x="752" y="570"/>
                    </a:lnTo>
                    <a:lnTo>
                      <a:pt x="744" y="588"/>
                    </a:lnTo>
                    <a:lnTo>
                      <a:pt x="733" y="605"/>
                    </a:lnTo>
                    <a:lnTo>
                      <a:pt x="722" y="622"/>
                    </a:lnTo>
                    <a:lnTo>
                      <a:pt x="711" y="637"/>
                    </a:lnTo>
                    <a:lnTo>
                      <a:pt x="698" y="653"/>
                    </a:lnTo>
                    <a:lnTo>
                      <a:pt x="685" y="668"/>
                    </a:lnTo>
                    <a:lnTo>
                      <a:pt x="671" y="683"/>
                    </a:lnTo>
                    <a:lnTo>
                      <a:pt x="655" y="696"/>
                    </a:lnTo>
                    <a:lnTo>
                      <a:pt x="641" y="709"/>
                    </a:lnTo>
                    <a:lnTo>
                      <a:pt x="624" y="721"/>
                    </a:lnTo>
                    <a:lnTo>
                      <a:pt x="608" y="732"/>
                    </a:lnTo>
                    <a:lnTo>
                      <a:pt x="591" y="741"/>
                    </a:lnTo>
                    <a:lnTo>
                      <a:pt x="573" y="751"/>
                    </a:lnTo>
                    <a:lnTo>
                      <a:pt x="557" y="759"/>
                    </a:lnTo>
                    <a:lnTo>
                      <a:pt x="539" y="767"/>
                    </a:lnTo>
                    <a:lnTo>
                      <a:pt x="521" y="773"/>
                    </a:lnTo>
                    <a:lnTo>
                      <a:pt x="503" y="779"/>
                    </a:lnTo>
                    <a:lnTo>
                      <a:pt x="483" y="783"/>
                    </a:lnTo>
                    <a:lnTo>
                      <a:pt x="464" y="787"/>
                    </a:lnTo>
                    <a:lnTo>
                      <a:pt x="446" y="789"/>
                    </a:lnTo>
                    <a:lnTo>
                      <a:pt x="427" y="792"/>
                    </a:lnTo>
                    <a:lnTo>
                      <a:pt x="408" y="793"/>
                    </a:lnTo>
                    <a:lnTo>
                      <a:pt x="389" y="793"/>
                    </a:lnTo>
                    <a:lnTo>
                      <a:pt x="369" y="792"/>
                    </a:lnTo>
                    <a:lnTo>
                      <a:pt x="350" y="791"/>
                    </a:lnTo>
                    <a:lnTo>
                      <a:pt x="332" y="787"/>
                    </a:lnTo>
                    <a:lnTo>
                      <a:pt x="313" y="785"/>
                    </a:lnTo>
                    <a:lnTo>
                      <a:pt x="294" y="780"/>
                    </a:lnTo>
                    <a:lnTo>
                      <a:pt x="276" y="774"/>
                    </a:lnTo>
                    <a:lnTo>
                      <a:pt x="258" y="768"/>
                    </a:lnTo>
                    <a:lnTo>
                      <a:pt x="240" y="761"/>
                    </a:lnTo>
                    <a:lnTo>
                      <a:pt x="222" y="753"/>
                    </a:lnTo>
                    <a:lnTo>
                      <a:pt x="205" y="744"/>
                    </a:lnTo>
                    <a:lnTo>
                      <a:pt x="187" y="734"/>
                    </a:lnTo>
                    <a:lnTo>
                      <a:pt x="171" y="723"/>
                    </a:lnTo>
                    <a:lnTo>
                      <a:pt x="155" y="711"/>
                    </a:lnTo>
                    <a:lnTo>
                      <a:pt x="139" y="699"/>
                    </a:lnTo>
                    <a:lnTo>
                      <a:pt x="123" y="685"/>
                    </a:lnTo>
                    <a:lnTo>
                      <a:pt x="109" y="671"/>
                    </a:lnTo>
                    <a:lnTo>
                      <a:pt x="96" y="656"/>
                    </a:lnTo>
                    <a:lnTo>
                      <a:pt x="83" y="641"/>
                    </a:lnTo>
                    <a:lnTo>
                      <a:pt x="72" y="625"/>
                    </a:lnTo>
                    <a:lnTo>
                      <a:pt x="61" y="608"/>
                    </a:lnTo>
                    <a:lnTo>
                      <a:pt x="50" y="592"/>
                    </a:lnTo>
                    <a:lnTo>
                      <a:pt x="42" y="575"/>
                    </a:lnTo>
                    <a:lnTo>
                      <a:pt x="33" y="557"/>
                    </a:lnTo>
                    <a:lnTo>
                      <a:pt x="26" y="539"/>
                    </a:lnTo>
                    <a:lnTo>
                      <a:pt x="19" y="521"/>
                    </a:lnTo>
                    <a:lnTo>
                      <a:pt x="14" y="503"/>
                    </a:lnTo>
                    <a:lnTo>
                      <a:pt x="9" y="484"/>
                    </a:lnTo>
                    <a:lnTo>
                      <a:pt x="6" y="466"/>
                    </a:lnTo>
                    <a:lnTo>
                      <a:pt x="2" y="446"/>
                    </a:lnTo>
                    <a:lnTo>
                      <a:pt x="1" y="427"/>
                    </a:lnTo>
                    <a:lnTo>
                      <a:pt x="0" y="408"/>
                    </a:lnTo>
                    <a:lnTo>
                      <a:pt x="0" y="390"/>
                    </a:lnTo>
                    <a:lnTo>
                      <a:pt x="0" y="371"/>
                    </a:lnTo>
                    <a:lnTo>
                      <a:pt x="2" y="352"/>
                    </a:lnTo>
                    <a:lnTo>
                      <a:pt x="5" y="332"/>
                    </a:lnTo>
                    <a:lnTo>
                      <a:pt x="8" y="313"/>
                    </a:lnTo>
                    <a:lnTo>
                      <a:pt x="12" y="295"/>
                    </a:lnTo>
                    <a:lnTo>
                      <a:pt x="18" y="277"/>
                    </a:lnTo>
                    <a:lnTo>
                      <a:pt x="24" y="258"/>
                    </a:lnTo>
                    <a:lnTo>
                      <a:pt x="31" y="240"/>
                    </a:lnTo>
                    <a:lnTo>
                      <a:pt x="39" y="223"/>
                    </a:lnTo>
                    <a:lnTo>
                      <a:pt x="48" y="205"/>
                    </a:lnTo>
                    <a:lnTo>
                      <a:pt x="57" y="188"/>
                    </a:lnTo>
                    <a:lnTo>
                      <a:pt x="69" y="172"/>
                    </a:lnTo>
                    <a:lnTo>
                      <a:pt x="80" y="156"/>
                    </a:lnTo>
                    <a:lnTo>
                      <a:pt x="93" y="140"/>
                    </a:lnTo>
                    <a:lnTo>
                      <a:pt x="107" y="125"/>
                    </a:lnTo>
                    <a:close/>
                  </a:path>
                </a:pathLst>
              </a:custGeom>
              <a:solidFill>
                <a:srgbClr val="ca8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136600" y="4765680"/>
                <a:ext cx="311400" cy="311040"/>
              </a:xfrm>
              <a:custGeom>
                <a:avLst/>
                <a:gdLst/>
                <a:ahLst/>
                <a:rect l="l" t="t" r="r" b="b"/>
                <a:pathLst>
                  <a:path w="785" h="786">
                    <a:moveTo>
                      <a:pt x="105" y="123"/>
                    </a:moveTo>
                    <a:lnTo>
                      <a:pt x="120" y="109"/>
                    </a:lnTo>
                    <a:lnTo>
                      <a:pt x="134" y="96"/>
                    </a:lnTo>
                    <a:lnTo>
                      <a:pt x="150" y="83"/>
                    </a:lnTo>
                    <a:lnTo>
                      <a:pt x="165" y="72"/>
                    </a:lnTo>
                    <a:lnTo>
                      <a:pt x="182" y="61"/>
                    </a:lnTo>
                    <a:lnTo>
                      <a:pt x="199" y="50"/>
                    </a:lnTo>
                    <a:lnTo>
                      <a:pt x="216" y="42"/>
                    </a:lnTo>
                    <a:lnTo>
                      <a:pt x="233" y="33"/>
                    </a:lnTo>
                    <a:lnTo>
                      <a:pt x="251" y="26"/>
                    </a:lnTo>
                    <a:lnTo>
                      <a:pt x="269" y="20"/>
                    </a:lnTo>
                    <a:lnTo>
                      <a:pt x="287" y="14"/>
                    </a:lnTo>
                    <a:lnTo>
                      <a:pt x="305" y="9"/>
                    </a:lnTo>
                    <a:lnTo>
                      <a:pt x="324" y="6"/>
                    </a:lnTo>
                    <a:lnTo>
                      <a:pt x="342" y="3"/>
                    </a:lnTo>
                    <a:lnTo>
                      <a:pt x="361" y="1"/>
                    </a:lnTo>
                    <a:lnTo>
                      <a:pt x="380" y="0"/>
                    </a:lnTo>
                    <a:lnTo>
                      <a:pt x="399" y="0"/>
                    </a:lnTo>
                    <a:lnTo>
                      <a:pt x="417" y="1"/>
                    </a:lnTo>
                    <a:lnTo>
                      <a:pt x="437" y="2"/>
                    </a:lnTo>
                    <a:lnTo>
                      <a:pt x="456" y="6"/>
                    </a:lnTo>
                    <a:lnTo>
                      <a:pt x="474" y="8"/>
                    </a:lnTo>
                    <a:lnTo>
                      <a:pt x="492" y="13"/>
                    </a:lnTo>
                    <a:lnTo>
                      <a:pt x="511" y="18"/>
                    </a:lnTo>
                    <a:lnTo>
                      <a:pt x="529" y="25"/>
                    </a:lnTo>
                    <a:lnTo>
                      <a:pt x="547" y="31"/>
                    </a:lnTo>
                    <a:lnTo>
                      <a:pt x="564" y="39"/>
                    </a:lnTo>
                    <a:lnTo>
                      <a:pt x="582" y="49"/>
                    </a:lnTo>
                    <a:lnTo>
                      <a:pt x="599" y="59"/>
                    </a:lnTo>
                    <a:lnTo>
                      <a:pt x="614" y="69"/>
                    </a:lnTo>
                    <a:lnTo>
                      <a:pt x="631" y="80"/>
                    </a:lnTo>
                    <a:lnTo>
                      <a:pt x="647" y="93"/>
                    </a:lnTo>
                    <a:lnTo>
                      <a:pt x="661" y="107"/>
                    </a:lnTo>
                    <a:lnTo>
                      <a:pt x="675" y="121"/>
                    </a:lnTo>
                    <a:lnTo>
                      <a:pt x="689" y="135"/>
                    </a:lnTo>
                    <a:lnTo>
                      <a:pt x="702" y="151"/>
                    </a:lnTo>
                    <a:lnTo>
                      <a:pt x="714" y="167"/>
                    </a:lnTo>
                    <a:lnTo>
                      <a:pt x="725" y="182"/>
                    </a:lnTo>
                    <a:lnTo>
                      <a:pt x="734" y="199"/>
                    </a:lnTo>
                    <a:lnTo>
                      <a:pt x="743" y="217"/>
                    </a:lnTo>
                    <a:lnTo>
                      <a:pt x="751" y="234"/>
                    </a:lnTo>
                    <a:lnTo>
                      <a:pt x="758" y="252"/>
                    </a:lnTo>
                    <a:lnTo>
                      <a:pt x="765" y="270"/>
                    </a:lnTo>
                    <a:lnTo>
                      <a:pt x="770" y="288"/>
                    </a:lnTo>
                    <a:lnTo>
                      <a:pt x="775" y="306"/>
                    </a:lnTo>
                    <a:lnTo>
                      <a:pt x="779" y="325"/>
                    </a:lnTo>
                    <a:lnTo>
                      <a:pt x="781" y="343"/>
                    </a:lnTo>
                    <a:lnTo>
                      <a:pt x="783" y="362"/>
                    </a:lnTo>
                    <a:lnTo>
                      <a:pt x="785" y="381"/>
                    </a:lnTo>
                    <a:lnTo>
                      <a:pt x="785" y="399"/>
                    </a:lnTo>
                    <a:lnTo>
                      <a:pt x="783" y="419"/>
                    </a:lnTo>
                    <a:lnTo>
                      <a:pt x="782" y="438"/>
                    </a:lnTo>
                    <a:lnTo>
                      <a:pt x="780" y="456"/>
                    </a:lnTo>
                    <a:lnTo>
                      <a:pt x="776" y="475"/>
                    </a:lnTo>
                    <a:lnTo>
                      <a:pt x="771" y="493"/>
                    </a:lnTo>
                    <a:lnTo>
                      <a:pt x="767" y="512"/>
                    </a:lnTo>
                    <a:lnTo>
                      <a:pt x="761" y="530"/>
                    </a:lnTo>
                    <a:lnTo>
                      <a:pt x="753" y="547"/>
                    </a:lnTo>
                    <a:lnTo>
                      <a:pt x="745" y="565"/>
                    </a:lnTo>
                    <a:lnTo>
                      <a:pt x="737" y="582"/>
                    </a:lnTo>
                    <a:lnTo>
                      <a:pt x="727" y="599"/>
                    </a:lnTo>
                    <a:lnTo>
                      <a:pt x="716" y="615"/>
                    </a:lnTo>
                    <a:lnTo>
                      <a:pt x="704" y="631"/>
                    </a:lnTo>
                    <a:lnTo>
                      <a:pt x="692" y="646"/>
                    </a:lnTo>
                    <a:lnTo>
                      <a:pt x="678" y="662"/>
                    </a:lnTo>
                    <a:lnTo>
                      <a:pt x="665" y="676"/>
                    </a:lnTo>
                    <a:lnTo>
                      <a:pt x="649" y="690"/>
                    </a:lnTo>
                    <a:lnTo>
                      <a:pt x="635" y="703"/>
                    </a:lnTo>
                    <a:lnTo>
                      <a:pt x="618" y="714"/>
                    </a:lnTo>
                    <a:lnTo>
                      <a:pt x="602" y="724"/>
                    </a:lnTo>
                    <a:lnTo>
                      <a:pt x="585" y="735"/>
                    </a:lnTo>
                    <a:lnTo>
                      <a:pt x="569" y="744"/>
                    </a:lnTo>
                    <a:lnTo>
                      <a:pt x="551" y="752"/>
                    </a:lnTo>
                    <a:lnTo>
                      <a:pt x="534" y="759"/>
                    </a:lnTo>
                    <a:lnTo>
                      <a:pt x="516" y="765"/>
                    </a:lnTo>
                    <a:lnTo>
                      <a:pt x="498" y="771"/>
                    </a:lnTo>
                    <a:lnTo>
                      <a:pt x="479" y="776"/>
                    </a:lnTo>
                    <a:lnTo>
                      <a:pt x="461" y="780"/>
                    </a:lnTo>
                    <a:lnTo>
                      <a:pt x="441" y="782"/>
                    </a:lnTo>
                    <a:lnTo>
                      <a:pt x="423" y="784"/>
                    </a:lnTo>
                    <a:lnTo>
                      <a:pt x="404" y="786"/>
                    </a:lnTo>
                    <a:lnTo>
                      <a:pt x="385" y="786"/>
                    </a:lnTo>
                    <a:lnTo>
                      <a:pt x="366" y="784"/>
                    </a:lnTo>
                    <a:lnTo>
                      <a:pt x="348" y="783"/>
                    </a:lnTo>
                    <a:lnTo>
                      <a:pt x="329" y="781"/>
                    </a:lnTo>
                    <a:lnTo>
                      <a:pt x="311" y="777"/>
                    </a:lnTo>
                    <a:lnTo>
                      <a:pt x="291" y="772"/>
                    </a:lnTo>
                    <a:lnTo>
                      <a:pt x="273" y="768"/>
                    </a:lnTo>
                    <a:lnTo>
                      <a:pt x="255" y="762"/>
                    </a:lnTo>
                    <a:lnTo>
                      <a:pt x="237" y="754"/>
                    </a:lnTo>
                    <a:lnTo>
                      <a:pt x="219" y="746"/>
                    </a:lnTo>
                    <a:lnTo>
                      <a:pt x="203" y="738"/>
                    </a:lnTo>
                    <a:lnTo>
                      <a:pt x="186" y="727"/>
                    </a:lnTo>
                    <a:lnTo>
                      <a:pt x="169" y="716"/>
                    </a:lnTo>
                    <a:lnTo>
                      <a:pt x="153" y="705"/>
                    </a:lnTo>
                    <a:lnTo>
                      <a:pt x="138" y="692"/>
                    </a:lnTo>
                    <a:lnTo>
                      <a:pt x="122" y="679"/>
                    </a:lnTo>
                    <a:lnTo>
                      <a:pt x="108" y="664"/>
                    </a:lnTo>
                    <a:lnTo>
                      <a:pt x="95" y="650"/>
                    </a:lnTo>
                    <a:lnTo>
                      <a:pt x="83" y="634"/>
                    </a:lnTo>
                    <a:lnTo>
                      <a:pt x="71" y="619"/>
                    </a:lnTo>
                    <a:lnTo>
                      <a:pt x="60" y="603"/>
                    </a:lnTo>
                    <a:lnTo>
                      <a:pt x="50" y="587"/>
                    </a:lnTo>
                    <a:lnTo>
                      <a:pt x="41" y="570"/>
                    </a:lnTo>
                    <a:lnTo>
                      <a:pt x="32" y="552"/>
                    </a:lnTo>
                    <a:lnTo>
                      <a:pt x="25" y="534"/>
                    </a:lnTo>
                    <a:lnTo>
                      <a:pt x="19" y="516"/>
                    </a:lnTo>
                    <a:lnTo>
                      <a:pt x="13" y="498"/>
                    </a:lnTo>
                    <a:lnTo>
                      <a:pt x="9" y="480"/>
                    </a:lnTo>
                    <a:lnTo>
                      <a:pt x="6" y="462"/>
                    </a:lnTo>
                    <a:lnTo>
                      <a:pt x="2" y="443"/>
                    </a:lnTo>
                    <a:lnTo>
                      <a:pt x="1" y="423"/>
                    </a:lnTo>
                    <a:lnTo>
                      <a:pt x="0" y="405"/>
                    </a:lnTo>
                    <a:lnTo>
                      <a:pt x="0" y="386"/>
                    </a:lnTo>
                    <a:lnTo>
                      <a:pt x="0" y="367"/>
                    </a:lnTo>
                    <a:lnTo>
                      <a:pt x="2" y="348"/>
                    </a:lnTo>
                    <a:lnTo>
                      <a:pt x="5" y="330"/>
                    </a:lnTo>
                    <a:lnTo>
                      <a:pt x="8" y="311"/>
                    </a:lnTo>
                    <a:lnTo>
                      <a:pt x="12" y="293"/>
                    </a:lnTo>
                    <a:lnTo>
                      <a:pt x="18" y="275"/>
                    </a:lnTo>
                    <a:lnTo>
                      <a:pt x="24" y="257"/>
                    </a:lnTo>
                    <a:lnTo>
                      <a:pt x="31" y="239"/>
                    </a:lnTo>
                    <a:lnTo>
                      <a:pt x="38" y="221"/>
                    </a:lnTo>
                    <a:lnTo>
                      <a:pt x="48" y="204"/>
                    </a:lnTo>
                    <a:lnTo>
                      <a:pt x="57" y="187"/>
                    </a:lnTo>
                    <a:lnTo>
                      <a:pt x="68" y="170"/>
                    </a:lnTo>
                    <a:lnTo>
                      <a:pt x="80" y="155"/>
                    </a:lnTo>
                    <a:lnTo>
                      <a:pt x="92" y="139"/>
                    </a:lnTo>
                    <a:lnTo>
                      <a:pt x="105" y="123"/>
                    </a:lnTo>
                    <a:close/>
                  </a:path>
                </a:pathLst>
              </a:custGeom>
              <a:solidFill>
                <a:srgbClr val="cc8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138400" y="4767120"/>
                <a:ext cx="309600" cy="309600"/>
              </a:xfrm>
              <a:custGeom>
                <a:avLst/>
                <a:gdLst/>
                <a:ahLst/>
                <a:rect l="l" t="t" r="r" b="b"/>
                <a:pathLst>
                  <a:path w="777" h="777">
                    <a:moveTo>
                      <a:pt x="104" y="121"/>
                    </a:moveTo>
                    <a:lnTo>
                      <a:pt x="119" y="108"/>
                    </a:lnTo>
                    <a:lnTo>
                      <a:pt x="133" y="93"/>
                    </a:lnTo>
                    <a:lnTo>
                      <a:pt x="149" y="81"/>
                    </a:lnTo>
                    <a:lnTo>
                      <a:pt x="164" y="69"/>
                    </a:lnTo>
                    <a:lnTo>
                      <a:pt x="180" y="60"/>
                    </a:lnTo>
                    <a:lnTo>
                      <a:pt x="197" y="49"/>
                    </a:lnTo>
                    <a:lnTo>
                      <a:pt x="213" y="41"/>
                    </a:lnTo>
                    <a:lnTo>
                      <a:pt x="230" y="32"/>
                    </a:lnTo>
                    <a:lnTo>
                      <a:pt x="248" y="25"/>
                    </a:lnTo>
                    <a:lnTo>
                      <a:pt x="266" y="19"/>
                    </a:lnTo>
                    <a:lnTo>
                      <a:pt x="284" y="13"/>
                    </a:lnTo>
                    <a:lnTo>
                      <a:pt x="302" y="9"/>
                    </a:lnTo>
                    <a:lnTo>
                      <a:pt x="320" y="5"/>
                    </a:lnTo>
                    <a:lnTo>
                      <a:pt x="339" y="2"/>
                    </a:lnTo>
                    <a:lnTo>
                      <a:pt x="357" y="1"/>
                    </a:lnTo>
                    <a:lnTo>
                      <a:pt x="377" y="0"/>
                    </a:lnTo>
                    <a:lnTo>
                      <a:pt x="395" y="0"/>
                    </a:lnTo>
                    <a:lnTo>
                      <a:pt x="414" y="0"/>
                    </a:lnTo>
                    <a:lnTo>
                      <a:pt x="432" y="2"/>
                    </a:lnTo>
                    <a:lnTo>
                      <a:pt x="451" y="5"/>
                    </a:lnTo>
                    <a:lnTo>
                      <a:pt x="469" y="8"/>
                    </a:lnTo>
                    <a:lnTo>
                      <a:pt x="488" y="12"/>
                    </a:lnTo>
                    <a:lnTo>
                      <a:pt x="506" y="18"/>
                    </a:lnTo>
                    <a:lnTo>
                      <a:pt x="524" y="24"/>
                    </a:lnTo>
                    <a:lnTo>
                      <a:pt x="541" y="30"/>
                    </a:lnTo>
                    <a:lnTo>
                      <a:pt x="559" y="38"/>
                    </a:lnTo>
                    <a:lnTo>
                      <a:pt x="576" y="47"/>
                    </a:lnTo>
                    <a:lnTo>
                      <a:pt x="593" y="57"/>
                    </a:lnTo>
                    <a:lnTo>
                      <a:pt x="608" y="67"/>
                    </a:lnTo>
                    <a:lnTo>
                      <a:pt x="625" y="79"/>
                    </a:lnTo>
                    <a:lnTo>
                      <a:pt x="641" y="91"/>
                    </a:lnTo>
                    <a:lnTo>
                      <a:pt x="655" y="104"/>
                    </a:lnTo>
                    <a:lnTo>
                      <a:pt x="669" y="119"/>
                    </a:lnTo>
                    <a:lnTo>
                      <a:pt x="683" y="133"/>
                    </a:lnTo>
                    <a:lnTo>
                      <a:pt x="695" y="149"/>
                    </a:lnTo>
                    <a:lnTo>
                      <a:pt x="707" y="164"/>
                    </a:lnTo>
                    <a:lnTo>
                      <a:pt x="717" y="180"/>
                    </a:lnTo>
                    <a:lnTo>
                      <a:pt x="727" y="197"/>
                    </a:lnTo>
                    <a:lnTo>
                      <a:pt x="737" y="213"/>
                    </a:lnTo>
                    <a:lnTo>
                      <a:pt x="744" y="230"/>
                    </a:lnTo>
                    <a:lnTo>
                      <a:pt x="751" y="248"/>
                    </a:lnTo>
                    <a:lnTo>
                      <a:pt x="758" y="266"/>
                    </a:lnTo>
                    <a:lnTo>
                      <a:pt x="763" y="284"/>
                    </a:lnTo>
                    <a:lnTo>
                      <a:pt x="768" y="302"/>
                    </a:lnTo>
                    <a:lnTo>
                      <a:pt x="771" y="320"/>
                    </a:lnTo>
                    <a:lnTo>
                      <a:pt x="774" y="339"/>
                    </a:lnTo>
                    <a:lnTo>
                      <a:pt x="776" y="357"/>
                    </a:lnTo>
                    <a:lnTo>
                      <a:pt x="777" y="377"/>
                    </a:lnTo>
                    <a:lnTo>
                      <a:pt x="777" y="395"/>
                    </a:lnTo>
                    <a:lnTo>
                      <a:pt x="776" y="414"/>
                    </a:lnTo>
                    <a:lnTo>
                      <a:pt x="775" y="433"/>
                    </a:lnTo>
                    <a:lnTo>
                      <a:pt x="773" y="451"/>
                    </a:lnTo>
                    <a:lnTo>
                      <a:pt x="769" y="469"/>
                    </a:lnTo>
                    <a:lnTo>
                      <a:pt x="764" y="488"/>
                    </a:lnTo>
                    <a:lnTo>
                      <a:pt x="759" y="506"/>
                    </a:lnTo>
                    <a:lnTo>
                      <a:pt x="753" y="524"/>
                    </a:lnTo>
                    <a:lnTo>
                      <a:pt x="746" y="541"/>
                    </a:lnTo>
                    <a:lnTo>
                      <a:pt x="738" y="559"/>
                    </a:lnTo>
                    <a:lnTo>
                      <a:pt x="729" y="576"/>
                    </a:lnTo>
                    <a:lnTo>
                      <a:pt x="720" y="593"/>
                    </a:lnTo>
                    <a:lnTo>
                      <a:pt x="709" y="609"/>
                    </a:lnTo>
                    <a:lnTo>
                      <a:pt x="697" y="625"/>
                    </a:lnTo>
                    <a:lnTo>
                      <a:pt x="685" y="640"/>
                    </a:lnTo>
                    <a:lnTo>
                      <a:pt x="672" y="655"/>
                    </a:lnTo>
                    <a:lnTo>
                      <a:pt x="657" y="669"/>
                    </a:lnTo>
                    <a:lnTo>
                      <a:pt x="643" y="682"/>
                    </a:lnTo>
                    <a:lnTo>
                      <a:pt x="627" y="694"/>
                    </a:lnTo>
                    <a:lnTo>
                      <a:pt x="612" y="706"/>
                    </a:lnTo>
                    <a:lnTo>
                      <a:pt x="596" y="717"/>
                    </a:lnTo>
                    <a:lnTo>
                      <a:pt x="579" y="727"/>
                    </a:lnTo>
                    <a:lnTo>
                      <a:pt x="563" y="736"/>
                    </a:lnTo>
                    <a:lnTo>
                      <a:pt x="546" y="744"/>
                    </a:lnTo>
                    <a:lnTo>
                      <a:pt x="528" y="751"/>
                    </a:lnTo>
                    <a:lnTo>
                      <a:pt x="511" y="758"/>
                    </a:lnTo>
                    <a:lnTo>
                      <a:pt x="493" y="763"/>
                    </a:lnTo>
                    <a:lnTo>
                      <a:pt x="474" y="768"/>
                    </a:lnTo>
                    <a:lnTo>
                      <a:pt x="456" y="771"/>
                    </a:lnTo>
                    <a:lnTo>
                      <a:pt x="438" y="774"/>
                    </a:lnTo>
                    <a:lnTo>
                      <a:pt x="419" y="776"/>
                    </a:lnTo>
                    <a:lnTo>
                      <a:pt x="401" y="777"/>
                    </a:lnTo>
                    <a:lnTo>
                      <a:pt x="381" y="777"/>
                    </a:lnTo>
                    <a:lnTo>
                      <a:pt x="362" y="776"/>
                    </a:lnTo>
                    <a:lnTo>
                      <a:pt x="344" y="775"/>
                    </a:lnTo>
                    <a:lnTo>
                      <a:pt x="325" y="772"/>
                    </a:lnTo>
                    <a:lnTo>
                      <a:pt x="307" y="769"/>
                    </a:lnTo>
                    <a:lnTo>
                      <a:pt x="289" y="764"/>
                    </a:lnTo>
                    <a:lnTo>
                      <a:pt x="271" y="759"/>
                    </a:lnTo>
                    <a:lnTo>
                      <a:pt x="253" y="753"/>
                    </a:lnTo>
                    <a:lnTo>
                      <a:pt x="235" y="746"/>
                    </a:lnTo>
                    <a:lnTo>
                      <a:pt x="218" y="738"/>
                    </a:lnTo>
                    <a:lnTo>
                      <a:pt x="200" y="729"/>
                    </a:lnTo>
                    <a:lnTo>
                      <a:pt x="183" y="720"/>
                    </a:lnTo>
                    <a:lnTo>
                      <a:pt x="168" y="709"/>
                    </a:lnTo>
                    <a:lnTo>
                      <a:pt x="152" y="697"/>
                    </a:lnTo>
                    <a:lnTo>
                      <a:pt x="137" y="685"/>
                    </a:lnTo>
                    <a:lnTo>
                      <a:pt x="121" y="672"/>
                    </a:lnTo>
                    <a:lnTo>
                      <a:pt x="108" y="657"/>
                    </a:lnTo>
                    <a:lnTo>
                      <a:pt x="93" y="643"/>
                    </a:lnTo>
                    <a:lnTo>
                      <a:pt x="81" y="628"/>
                    </a:lnTo>
                    <a:lnTo>
                      <a:pt x="69" y="613"/>
                    </a:lnTo>
                    <a:lnTo>
                      <a:pt x="59" y="596"/>
                    </a:lnTo>
                    <a:lnTo>
                      <a:pt x="49" y="579"/>
                    </a:lnTo>
                    <a:lnTo>
                      <a:pt x="41" y="563"/>
                    </a:lnTo>
                    <a:lnTo>
                      <a:pt x="32" y="546"/>
                    </a:lnTo>
                    <a:lnTo>
                      <a:pt x="25" y="528"/>
                    </a:lnTo>
                    <a:lnTo>
                      <a:pt x="19" y="511"/>
                    </a:lnTo>
                    <a:lnTo>
                      <a:pt x="13" y="493"/>
                    </a:lnTo>
                    <a:lnTo>
                      <a:pt x="8" y="474"/>
                    </a:lnTo>
                    <a:lnTo>
                      <a:pt x="5" y="456"/>
                    </a:lnTo>
                    <a:lnTo>
                      <a:pt x="2" y="438"/>
                    </a:lnTo>
                    <a:lnTo>
                      <a:pt x="0" y="419"/>
                    </a:lnTo>
                    <a:lnTo>
                      <a:pt x="0" y="401"/>
                    </a:lnTo>
                    <a:lnTo>
                      <a:pt x="0" y="381"/>
                    </a:lnTo>
                    <a:lnTo>
                      <a:pt x="0" y="362"/>
                    </a:lnTo>
                    <a:lnTo>
                      <a:pt x="2" y="344"/>
                    </a:lnTo>
                    <a:lnTo>
                      <a:pt x="5" y="325"/>
                    </a:lnTo>
                    <a:lnTo>
                      <a:pt x="8" y="307"/>
                    </a:lnTo>
                    <a:lnTo>
                      <a:pt x="12" y="289"/>
                    </a:lnTo>
                    <a:lnTo>
                      <a:pt x="17" y="271"/>
                    </a:lnTo>
                    <a:lnTo>
                      <a:pt x="24" y="253"/>
                    </a:lnTo>
                    <a:lnTo>
                      <a:pt x="30" y="235"/>
                    </a:lnTo>
                    <a:lnTo>
                      <a:pt x="38" y="218"/>
                    </a:lnTo>
                    <a:lnTo>
                      <a:pt x="47" y="200"/>
                    </a:lnTo>
                    <a:lnTo>
                      <a:pt x="56" y="183"/>
                    </a:lnTo>
                    <a:lnTo>
                      <a:pt x="67" y="168"/>
                    </a:lnTo>
                    <a:lnTo>
                      <a:pt x="79" y="152"/>
                    </a:lnTo>
                    <a:lnTo>
                      <a:pt x="91" y="137"/>
                    </a:lnTo>
                    <a:lnTo>
                      <a:pt x="104" y="121"/>
                    </a:lnTo>
                    <a:close/>
                  </a:path>
                </a:pathLst>
              </a:custGeom>
              <a:solidFill>
                <a:srgbClr val="d48e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139840" y="476892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771" h="770">
                    <a:moveTo>
                      <a:pt x="104" y="121"/>
                    </a:moveTo>
                    <a:lnTo>
                      <a:pt x="118" y="106"/>
                    </a:lnTo>
                    <a:lnTo>
                      <a:pt x="133" y="93"/>
                    </a:lnTo>
                    <a:lnTo>
                      <a:pt x="148" y="81"/>
                    </a:lnTo>
                    <a:lnTo>
                      <a:pt x="164" y="69"/>
                    </a:lnTo>
                    <a:lnTo>
                      <a:pt x="180" y="58"/>
                    </a:lnTo>
                    <a:lnTo>
                      <a:pt x="195" y="49"/>
                    </a:lnTo>
                    <a:lnTo>
                      <a:pt x="212" y="40"/>
                    </a:lnTo>
                    <a:lnTo>
                      <a:pt x="229" y="32"/>
                    </a:lnTo>
                    <a:lnTo>
                      <a:pt x="247" y="25"/>
                    </a:lnTo>
                    <a:lnTo>
                      <a:pt x="265" y="19"/>
                    </a:lnTo>
                    <a:lnTo>
                      <a:pt x="282" y="13"/>
                    </a:lnTo>
                    <a:lnTo>
                      <a:pt x="300" y="9"/>
                    </a:lnTo>
                    <a:lnTo>
                      <a:pt x="319" y="6"/>
                    </a:lnTo>
                    <a:lnTo>
                      <a:pt x="337" y="2"/>
                    </a:lnTo>
                    <a:lnTo>
                      <a:pt x="355" y="1"/>
                    </a:lnTo>
                    <a:lnTo>
                      <a:pt x="374" y="0"/>
                    </a:lnTo>
                    <a:lnTo>
                      <a:pt x="392" y="0"/>
                    </a:lnTo>
                    <a:lnTo>
                      <a:pt x="411" y="0"/>
                    </a:lnTo>
                    <a:lnTo>
                      <a:pt x="429" y="2"/>
                    </a:lnTo>
                    <a:lnTo>
                      <a:pt x="447" y="4"/>
                    </a:lnTo>
                    <a:lnTo>
                      <a:pt x="466" y="8"/>
                    </a:lnTo>
                    <a:lnTo>
                      <a:pt x="484" y="12"/>
                    </a:lnTo>
                    <a:lnTo>
                      <a:pt x="502" y="18"/>
                    </a:lnTo>
                    <a:lnTo>
                      <a:pt x="519" y="24"/>
                    </a:lnTo>
                    <a:lnTo>
                      <a:pt x="537" y="30"/>
                    </a:lnTo>
                    <a:lnTo>
                      <a:pt x="554" y="38"/>
                    </a:lnTo>
                    <a:lnTo>
                      <a:pt x="571" y="46"/>
                    </a:lnTo>
                    <a:lnTo>
                      <a:pt x="588" y="56"/>
                    </a:lnTo>
                    <a:lnTo>
                      <a:pt x="604" y="67"/>
                    </a:lnTo>
                    <a:lnTo>
                      <a:pt x="620" y="79"/>
                    </a:lnTo>
                    <a:lnTo>
                      <a:pt x="634" y="91"/>
                    </a:lnTo>
                    <a:lnTo>
                      <a:pt x="650" y="104"/>
                    </a:lnTo>
                    <a:lnTo>
                      <a:pt x="663" y="117"/>
                    </a:lnTo>
                    <a:lnTo>
                      <a:pt x="676" y="132"/>
                    </a:lnTo>
                    <a:lnTo>
                      <a:pt x="690" y="147"/>
                    </a:lnTo>
                    <a:lnTo>
                      <a:pt x="700" y="163"/>
                    </a:lnTo>
                    <a:lnTo>
                      <a:pt x="711" y="178"/>
                    </a:lnTo>
                    <a:lnTo>
                      <a:pt x="721" y="195"/>
                    </a:lnTo>
                    <a:lnTo>
                      <a:pt x="730" y="212"/>
                    </a:lnTo>
                    <a:lnTo>
                      <a:pt x="738" y="229"/>
                    </a:lnTo>
                    <a:lnTo>
                      <a:pt x="745" y="246"/>
                    </a:lnTo>
                    <a:lnTo>
                      <a:pt x="751" y="264"/>
                    </a:lnTo>
                    <a:lnTo>
                      <a:pt x="757" y="282"/>
                    </a:lnTo>
                    <a:lnTo>
                      <a:pt x="762" y="300"/>
                    </a:lnTo>
                    <a:lnTo>
                      <a:pt x="765" y="318"/>
                    </a:lnTo>
                    <a:lnTo>
                      <a:pt x="768" y="336"/>
                    </a:lnTo>
                    <a:lnTo>
                      <a:pt x="770" y="355"/>
                    </a:lnTo>
                    <a:lnTo>
                      <a:pt x="770" y="373"/>
                    </a:lnTo>
                    <a:lnTo>
                      <a:pt x="771" y="391"/>
                    </a:lnTo>
                    <a:lnTo>
                      <a:pt x="770" y="410"/>
                    </a:lnTo>
                    <a:lnTo>
                      <a:pt x="769" y="428"/>
                    </a:lnTo>
                    <a:lnTo>
                      <a:pt x="765" y="447"/>
                    </a:lnTo>
                    <a:lnTo>
                      <a:pt x="763" y="465"/>
                    </a:lnTo>
                    <a:lnTo>
                      <a:pt x="758" y="483"/>
                    </a:lnTo>
                    <a:lnTo>
                      <a:pt x="753" y="501"/>
                    </a:lnTo>
                    <a:lnTo>
                      <a:pt x="747" y="519"/>
                    </a:lnTo>
                    <a:lnTo>
                      <a:pt x="740" y="536"/>
                    </a:lnTo>
                    <a:lnTo>
                      <a:pt x="732" y="554"/>
                    </a:lnTo>
                    <a:lnTo>
                      <a:pt x="723" y="571"/>
                    </a:lnTo>
                    <a:lnTo>
                      <a:pt x="714" y="586"/>
                    </a:lnTo>
                    <a:lnTo>
                      <a:pt x="703" y="603"/>
                    </a:lnTo>
                    <a:lnTo>
                      <a:pt x="692" y="619"/>
                    </a:lnTo>
                    <a:lnTo>
                      <a:pt x="680" y="634"/>
                    </a:lnTo>
                    <a:lnTo>
                      <a:pt x="667" y="649"/>
                    </a:lnTo>
                    <a:lnTo>
                      <a:pt x="652" y="663"/>
                    </a:lnTo>
                    <a:lnTo>
                      <a:pt x="638" y="676"/>
                    </a:lnTo>
                    <a:lnTo>
                      <a:pt x="622" y="688"/>
                    </a:lnTo>
                    <a:lnTo>
                      <a:pt x="608" y="700"/>
                    </a:lnTo>
                    <a:lnTo>
                      <a:pt x="591" y="710"/>
                    </a:lnTo>
                    <a:lnTo>
                      <a:pt x="576" y="721"/>
                    </a:lnTo>
                    <a:lnTo>
                      <a:pt x="559" y="729"/>
                    </a:lnTo>
                    <a:lnTo>
                      <a:pt x="542" y="737"/>
                    </a:lnTo>
                    <a:lnTo>
                      <a:pt x="524" y="745"/>
                    </a:lnTo>
                    <a:lnTo>
                      <a:pt x="506" y="751"/>
                    </a:lnTo>
                    <a:lnTo>
                      <a:pt x="489" y="755"/>
                    </a:lnTo>
                    <a:lnTo>
                      <a:pt x="471" y="760"/>
                    </a:lnTo>
                    <a:lnTo>
                      <a:pt x="452" y="764"/>
                    </a:lnTo>
                    <a:lnTo>
                      <a:pt x="434" y="766"/>
                    </a:lnTo>
                    <a:lnTo>
                      <a:pt x="416" y="769"/>
                    </a:lnTo>
                    <a:lnTo>
                      <a:pt x="397" y="770"/>
                    </a:lnTo>
                    <a:lnTo>
                      <a:pt x="379" y="770"/>
                    </a:lnTo>
                    <a:lnTo>
                      <a:pt x="360" y="769"/>
                    </a:lnTo>
                    <a:lnTo>
                      <a:pt x="342" y="767"/>
                    </a:lnTo>
                    <a:lnTo>
                      <a:pt x="324" y="765"/>
                    </a:lnTo>
                    <a:lnTo>
                      <a:pt x="306" y="761"/>
                    </a:lnTo>
                    <a:lnTo>
                      <a:pt x="286" y="757"/>
                    </a:lnTo>
                    <a:lnTo>
                      <a:pt x="268" y="752"/>
                    </a:lnTo>
                    <a:lnTo>
                      <a:pt x="252" y="746"/>
                    </a:lnTo>
                    <a:lnTo>
                      <a:pt x="234" y="739"/>
                    </a:lnTo>
                    <a:lnTo>
                      <a:pt x="217" y="731"/>
                    </a:lnTo>
                    <a:lnTo>
                      <a:pt x="200" y="722"/>
                    </a:lnTo>
                    <a:lnTo>
                      <a:pt x="183" y="712"/>
                    </a:lnTo>
                    <a:lnTo>
                      <a:pt x="166" y="703"/>
                    </a:lnTo>
                    <a:lnTo>
                      <a:pt x="151" y="691"/>
                    </a:lnTo>
                    <a:lnTo>
                      <a:pt x="136" y="679"/>
                    </a:lnTo>
                    <a:lnTo>
                      <a:pt x="121" y="665"/>
                    </a:lnTo>
                    <a:lnTo>
                      <a:pt x="108" y="651"/>
                    </a:lnTo>
                    <a:lnTo>
                      <a:pt x="94" y="637"/>
                    </a:lnTo>
                    <a:lnTo>
                      <a:pt x="81" y="622"/>
                    </a:lnTo>
                    <a:lnTo>
                      <a:pt x="70" y="607"/>
                    </a:lnTo>
                    <a:lnTo>
                      <a:pt x="60" y="591"/>
                    </a:lnTo>
                    <a:lnTo>
                      <a:pt x="50" y="574"/>
                    </a:lnTo>
                    <a:lnTo>
                      <a:pt x="40" y="558"/>
                    </a:lnTo>
                    <a:lnTo>
                      <a:pt x="33" y="541"/>
                    </a:lnTo>
                    <a:lnTo>
                      <a:pt x="26" y="523"/>
                    </a:lnTo>
                    <a:lnTo>
                      <a:pt x="20" y="506"/>
                    </a:lnTo>
                    <a:lnTo>
                      <a:pt x="14" y="488"/>
                    </a:lnTo>
                    <a:lnTo>
                      <a:pt x="9" y="470"/>
                    </a:lnTo>
                    <a:lnTo>
                      <a:pt x="6" y="452"/>
                    </a:lnTo>
                    <a:lnTo>
                      <a:pt x="3" y="433"/>
                    </a:lnTo>
                    <a:lnTo>
                      <a:pt x="1" y="415"/>
                    </a:lnTo>
                    <a:lnTo>
                      <a:pt x="1" y="397"/>
                    </a:lnTo>
                    <a:lnTo>
                      <a:pt x="0" y="378"/>
                    </a:lnTo>
                    <a:lnTo>
                      <a:pt x="1" y="360"/>
                    </a:lnTo>
                    <a:lnTo>
                      <a:pt x="2" y="340"/>
                    </a:lnTo>
                    <a:lnTo>
                      <a:pt x="6" y="322"/>
                    </a:lnTo>
                    <a:lnTo>
                      <a:pt x="8" y="304"/>
                    </a:lnTo>
                    <a:lnTo>
                      <a:pt x="13" y="286"/>
                    </a:lnTo>
                    <a:lnTo>
                      <a:pt x="18" y="268"/>
                    </a:lnTo>
                    <a:lnTo>
                      <a:pt x="24" y="250"/>
                    </a:lnTo>
                    <a:lnTo>
                      <a:pt x="31" y="232"/>
                    </a:lnTo>
                    <a:lnTo>
                      <a:pt x="39" y="216"/>
                    </a:lnTo>
                    <a:lnTo>
                      <a:pt x="48" y="199"/>
                    </a:lnTo>
                    <a:lnTo>
                      <a:pt x="57" y="182"/>
                    </a:lnTo>
                    <a:lnTo>
                      <a:pt x="68" y="166"/>
                    </a:lnTo>
                    <a:lnTo>
                      <a:pt x="79" y="151"/>
                    </a:lnTo>
                    <a:lnTo>
                      <a:pt x="91" y="135"/>
                    </a:lnTo>
                    <a:lnTo>
                      <a:pt x="104" y="121"/>
                    </a:lnTo>
                    <a:close/>
                  </a:path>
                </a:pathLst>
              </a:custGeom>
              <a:solidFill>
                <a:srgbClr val="d990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143080" y="4772160"/>
                <a:ext cx="303120" cy="301320"/>
              </a:xfrm>
              <a:custGeom>
                <a:avLst/>
                <a:gdLst/>
                <a:ahLst/>
                <a:rect l="l" t="t" r="r" b="b"/>
                <a:pathLst>
                  <a:path w="763" h="763">
                    <a:moveTo>
                      <a:pt x="104" y="120"/>
                    </a:moveTo>
                    <a:lnTo>
                      <a:pt x="117" y="106"/>
                    </a:lnTo>
                    <a:lnTo>
                      <a:pt x="132" y="93"/>
                    </a:lnTo>
                    <a:lnTo>
                      <a:pt x="146" y="81"/>
                    </a:lnTo>
                    <a:lnTo>
                      <a:pt x="162" y="70"/>
                    </a:lnTo>
                    <a:lnTo>
                      <a:pt x="177" y="59"/>
                    </a:lnTo>
                    <a:lnTo>
                      <a:pt x="194" y="50"/>
                    </a:lnTo>
                    <a:lnTo>
                      <a:pt x="211" y="41"/>
                    </a:lnTo>
                    <a:lnTo>
                      <a:pt x="228" y="33"/>
                    </a:lnTo>
                    <a:lnTo>
                      <a:pt x="244" y="26"/>
                    </a:lnTo>
                    <a:lnTo>
                      <a:pt x="261" y="20"/>
                    </a:lnTo>
                    <a:lnTo>
                      <a:pt x="279" y="15"/>
                    </a:lnTo>
                    <a:lnTo>
                      <a:pt x="297" y="10"/>
                    </a:lnTo>
                    <a:lnTo>
                      <a:pt x="315" y="6"/>
                    </a:lnTo>
                    <a:lnTo>
                      <a:pt x="333" y="4"/>
                    </a:lnTo>
                    <a:lnTo>
                      <a:pt x="351" y="2"/>
                    </a:lnTo>
                    <a:lnTo>
                      <a:pt x="370" y="0"/>
                    </a:lnTo>
                    <a:lnTo>
                      <a:pt x="388" y="0"/>
                    </a:lnTo>
                    <a:lnTo>
                      <a:pt x="406" y="2"/>
                    </a:lnTo>
                    <a:lnTo>
                      <a:pt x="424" y="3"/>
                    </a:lnTo>
                    <a:lnTo>
                      <a:pt x="444" y="5"/>
                    </a:lnTo>
                    <a:lnTo>
                      <a:pt x="462" y="9"/>
                    </a:lnTo>
                    <a:lnTo>
                      <a:pt x="480" y="12"/>
                    </a:lnTo>
                    <a:lnTo>
                      <a:pt x="498" y="18"/>
                    </a:lnTo>
                    <a:lnTo>
                      <a:pt x="514" y="24"/>
                    </a:lnTo>
                    <a:lnTo>
                      <a:pt x="532" y="30"/>
                    </a:lnTo>
                    <a:lnTo>
                      <a:pt x="549" y="39"/>
                    </a:lnTo>
                    <a:lnTo>
                      <a:pt x="566" y="47"/>
                    </a:lnTo>
                    <a:lnTo>
                      <a:pt x="582" y="57"/>
                    </a:lnTo>
                    <a:lnTo>
                      <a:pt x="598" y="68"/>
                    </a:lnTo>
                    <a:lnTo>
                      <a:pt x="614" y="78"/>
                    </a:lnTo>
                    <a:lnTo>
                      <a:pt x="628" y="90"/>
                    </a:lnTo>
                    <a:lnTo>
                      <a:pt x="643" y="104"/>
                    </a:lnTo>
                    <a:lnTo>
                      <a:pt x="657" y="118"/>
                    </a:lnTo>
                    <a:lnTo>
                      <a:pt x="670" y="132"/>
                    </a:lnTo>
                    <a:lnTo>
                      <a:pt x="682" y="147"/>
                    </a:lnTo>
                    <a:lnTo>
                      <a:pt x="694" y="162"/>
                    </a:lnTo>
                    <a:lnTo>
                      <a:pt x="704" y="178"/>
                    </a:lnTo>
                    <a:lnTo>
                      <a:pt x="714" y="194"/>
                    </a:lnTo>
                    <a:lnTo>
                      <a:pt x="723" y="210"/>
                    </a:lnTo>
                    <a:lnTo>
                      <a:pt x="730" y="227"/>
                    </a:lnTo>
                    <a:lnTo>
                      <a:pt x="738" y="245"/>
                    </a:lnTo>
                    <a:lnTo>
                      <a:pt x="744" y="262"/>
                    </a:lnTo>
                    <a:lnTo>
                      <a:pt x="750" y="280"/>
                    </a:lnTo>
                    <a:lnTo>
                      <a:pt x="754" y="298"/>
                    </a:lnTo>
                    <a:lnTo>
                      <a:pt x="758" y="316"/>
                    </a:lnTo>
                    <a:lnTo>
                      <a:pt x="760" y="334"/>
                    </a:lnTo>
                    <a:lnTo>
                      <a:pt x="762" y="352"/>
                    </a:lnTo>
                    <a:lnTo>
                      <a:pt x="763" y="370"/>
                    </a:lnTo>
                    <a:lnTo>
                      <a:pt x="763" y="389"/>
                    </a:lnTo>
                    <a:lnTo>
                      <a:pt x="763" y="407"/>
                    </a:lnTo>
                    <a:lnTo>
                      <a:pt x="760" y="425"/>
                    </a:lnTo>
                    <a:lnTo>
                      <a:pt x="758" y="443"/>
                    </a:lnTo>
                    <a:lnTo>
                      <a:pt x="754" y="461"/>
                    </a:lnTo>
                    <a:lnTo>
                      <a:pt x="751" y="479"/>
                    </a:lnTo>
                    <a:lnTo>
                      <a:pt x="746" y="497"/>
                    </a:lnTo>
                    <a:lnTo>
                      <a:pt x="740" y="515"/>
                    </a:lnTo>
                    <a:lnTo>
                      <a:pt x="733" y="532"/>
                    </a:lnTo>
                    <a:lnTo>
                      <a:pt x="724" y="549"/>
                    </a:lnTo>
                    <a:lnTo>
                      <a:pt x="716" y="566"/>
                    </a:lnTo>
                    <a:lnTo>
                      <a:pt x="706" y="582"/>
                    </a:lnTo>
                    <a:lnTo>
                      <a:pt x="697" y="598"/>
                    </a:lnTo>
                    <a:lnTo>
                      <a:pt x="685" y="614"/>
                    </a:lnTo>
                    <a:lnTo>
                      <a:pt x="673" y="629"/>
                    </a:lnTo>
                    <a:lnTo>
                      <a:pt x="660" y="643"/>
                    </a:lnTo>
                    <a:lnTo>
                      <a:pt x="646" y="658"/>
                    </a:lnTo>
                    <a:lnTo>
                      <a:pt x="632" y="671"/>
                    </a:lnTo>
                    <a:lnTo>
                      <a:pt x="616" y="683"/>
                    </a:lnTo>
                    <a:lnTo>
                      <a:pt x="602" y="694"/>
                    </a:lnTo>
                    <a:lnTo>
                      <a:pt x="585" y="705"/>
                    </a:lnTo>
                    <a:lnTo>
                      <a:pt x="570" y="714"/>
                    </a:lnTo>
                    <a:lnTo>
                      <a:pt x="553" y="723"/>
                    </a:lnTo>
                    <a:lnTo>
                      <a:pt x="536" y="731"/>
                    </a:lnTo>
                    <a:lnTo>
                      <a:pt x="519" y="738"/>
                    </a:lnTo>
                    <a:lnTo>
                      <a:pt x="501" y="744"/>
                    </a:lnTo>
                    <a:lnTo>
                      <a:pt x="484" y="749"/>
                    </a:lnTo>
                    <a:lnTo>
                      <a:pt x="466" y="754"/>
                    </a:lnTo>
                    <a:lnTo>
                      <a:pt x="448" y="757"/>
                    </a:lnTo>
                    <a:lnTo>
                      <a:pt x="430" y="760"/>
                    </a:lnTo>
                    <a:lnTo>
                      <a:pt x="411" y="762"/>
                    </a:lnTo>
                    <a:lnTo>
                      <a:pt x="393" y="763"/>
                    </a:lnTo>
                    <a:lnTo>
                      <a:pt x="375" y="763"/>
                    </a:lnTo>
                    <a:lnTo>
                      <a:pt x="357" y="762"/>
                    </a:lnTo>
                    <a:lnTo>
                      <a:pt x="338" y="761"/>
                    </a:lnTo>
                    <a:lnTo>
                      <a:pt x="320" y="759"/>
                    </a:lnTo>
                    <a:lnTo>
                      <a:pt x="302" y="755"/>
                    </a:lnTo>
                    <a:lnTo>
                      <a:pt x="284" y="751"/>
                    </a:lnTo>
                    <a:lnTo>
                      <a:pt x="266" y="745"/>
                    </a:lnTo>
                    <a:lnTo>
                      <a:pt x="249" y="739"/>
                    </a:lnTo>
                    <a:lnTo>
                      <a:pt x="231" y="733"/>
                    </a:lnTo>
                    <a:lnTo>
                      <a:pt x="214" y="725"/>
                    </a:lnTo>
                    <a:lnTo>
                      <a:pt x="198" y="717"/>
                    </a:lnTo>
                    <a:lnTo>
                      <a:pt x="181" y="707"/>
                    </a:lnTo>
                    <a:lnTo>
                      <a:pt x="165" y="696"/>
                    </a:lnTo>
                    <a:lnTo>
                      <a:pt x="150" y="685"/>
                    </a:lnTo>
                    <a:lnTo>
                      <a:pt x="135" y="673"/>
                    </a:lnTo>
                    <a:lnTo>
                      <a:pt x="120" y="660"/>
                    </a:lnTo>
                    <a:lnTo>
                      <a:pt x="106" y="646"/>
                    </a:lnTo>
                    <a:lnTo>
                      <a:pt x="93" y="631"/>
                    </a:lnTo>
                    <a:lnTo>
                      <a:pt x="81" y="617"/>
                    </a:lnTo>
                    <a:lnTo>
                      <a:pt x="69" y="602"/>
                    </a:lnTo>
                    <a:lnTo>
                      <a:pt x="58" y="586"/>
                    </a:lnTo>
                    <a:lnTo>
                      <a:pt x="49" y="570"/>
                    </a:lnTo>
                    <a:lnTo>
                      <a:pt x="40" y="554"/>
                    </a:lnTo>
                    <a:lnTo>
                      <a:pt x="32" y="537"/>
                    </a:lnTo>
                    <a:lnTo>
                      <a:pt x="26" y="520"/>
                    </a:lnTo>
                    <a:lnTo>
                      <a:pt x="19" y="502"/>
                    </a:lnTo>
                    <a:lnTo>
                      <a:pt x="14" y="484"/>
                    </a:lnTo>
                    <a:lnTo>
                      <a:pt x="9" y="466"/>
                    </a:lnTo>
                    <a:lnTo>
                      <a:pt x="6" y="448"/>
                    </a:lnTo>
                    <a:lnTo>
                      <a:pt x="3" y="430"/>
                    </a:lnTo>
                    <a:lnTo>
                      <a:pt x="1" y="412"/>
                    </a:lnTo>
                    <a:lnTo>
                      <a:pt x="1" y="394"/>
                    </a:lnTo>
                    <a:lnTo>
                      <a:pt x="0" y="375"/>
                    </a:lnTo>
                    <a:lnTo>
                      <a:pt x="1" y="357"/>
                    </a:lnTo>
                    <a:lnTo>
                      <a:pt x="2" y="339"/>
                    </a:lnTo>
                    <a:lnTo>
                      <a:pt x="4" y="321"/>
                    </a:lnTo>
                    <a:lnTo>
                      <a:pt x="8" y="303"/>
                    </a:lnTo>
                    <a:lnTo>
                      <a:pt x="13" y="285"/>
                    </a:lnTo>
                    <a:lnTo>
                      <a:pt x="18" y="267"/>
                    </a:lnTo>
                    <a:lnTo>
                      <a:pt x="24" y="249"/>
                    </a:lnTo>
                    <a:lnTo>
                      <a:pt x="31" y="232"/>
                    </a:lnTo>
                    <a:lnTo>
                      <a:pt x="38" y="215"/>
                    </a:lnTo>
                    <a:lnTo>
                      <a:pt x="46" y="198"/>
                    </a:lnTo>
                    <a:lnTo>
                      <a:pt x="56" y="182"/>
                    </a:lnTo>
                    <a:lnTo>
                      <a:pt x="67" y="166"/>
                    </a:lnTo>
                    <a:lnTo>
                      <a:pt x="79" y="150"/>
                    </a:lnTo>
                    <a:lnTo>
                      <a:pt x="91" y="135"/>
                    </a:lnTo>
                    <a:lnTo>
                      <a:pt x="104" y="120"/>
                    </a:lnTo>
                    <a:close/>
                  </a:path>
                </a:pathLst>
              </a:custGeom>
              <a:solidFill>
                <a:srgbClr val="df9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144520" y="4773600"/>
                <a:ext cx="300240" cy="299880"/>
              </a:xfrm>
              <a:custGeom>
                <a:avLst/>
                <a:gdLst/>
                <a:ahLst/>
                <a:rect l="l" t="t" r="r" b="b"/>
                <a:pathLst>
                  <a:path w="756" h="756">
                    <a:moveTo>
                      <a:pt x="103" y="119"/>
                    </a:moveTo>
                    <a:lnTo>
                      <a:pt x="116" y="106"/>
                    </a:lnTo>
                    <a:lnTo>
                      <a:pt x="130" y="93"/>
                    </a:lnTo>
                    <a:lnTo>
                      <a:pt x="145" y="81"/>
                    </a:lnTo>
                    <a:lnTo>
                      <a:pt x="160" y="69"/>
                    </a:lnTo>
                    <a:lnTo>
                      <a:pt x="176" y="59"/>
                    </a:lnTo>
                    <a:lnTo>
                      <a:pt x="192" y="49"/>
                    </a:lnTo>
                    <a:lnTo>
                      <a:pt x="208" y="41"/>
                    </a:lnTo>
                    <a:lnTo>
                      <a:pt x="225" y="33"/>
                    </a:lnTo>
                    <a:lnTo>
                      <a:pt x="242" y="25"/>
                    </a:lnTo>
                    <a:lnTo>
                      <a:pt x="259" y="19"/>
                    </a:lnTo>
                    <a:lnTo>
                      <a:pt x="277" y="15"/>
                    </a:lnTo>
                    <a:lnTo>
                      <a:pt x="295" y="10"/>
                    </a:lnTo>
                    <a:lnTo>
                      <a:pt x="312" y="6"/>
                    </a:lnTo>
                    <a:lnTo>
                      <a:pt x="330" y="4"/>
                    </a:lnTo>
                    <a:lnTo>
                      <a:pt x="348" y="1"/>
                    </a:lnTo>
                    <a:lnTo>
                      <a:pt x="367" y="0"/>
                    </a:lnTo>
                    <a:lnTo>
                      <a:pt x="385" y="0"/>
                    </a:lnTo>
                    <a:lnTo>
                      <a:pt x="403" y="1"/>
                    </a:lnTo>
                    <a:lnTo>
                      <a:pt x="421" y="3"/>
                    </a:lnTo>
                    <a:lnTo>
                      <a:pt x="439" y="5"/>
                    </a:lnTo>
                    <a:lnTo>
                      <a:pt x="457" y="9"/>
                    </a:lnTo>
                    <a:lnTo>
                      <a:pt x="475" y="13"/>
                    </a:lnTo>
                    <a:lnTo>
                      <a:pt x="492" y="18"/>
                    </a:lnTo>
                    <a:lnTo>
                      <a:pt x="510" y="24"/>
                    </a:lnTo>
                    <a:lnTo>
                      <a:pt x="526" y="30"/>
                    </a:lnTo>
                    <a:lnTo>
                      <a:pt x="543" y="39"/>
                    </a:lnTo>
                    <a:lnTo>
                      <a:pt x="560" y="47"/>
                    </a:lnTo>
                    <a:lnTo>
                      <a:pt x="577" y="57"/>
                    </a:lnTo>
                    <a:lnTo>
                      <a:pt x="592" y="66"/>
                    </a:lnTo>
                    <a:lnTo>
                      <a:pt x="608" y="78"/>
                    </a:lnTo>
                    <a:lnTo>
                      <a:pt x="622" y="90"/>
                    </a:lnTo>
                    <a:lnTo>
                      <a:pt x="637" y="103"/>
                    </a:lnTo>
                    <a:lnTo>
                      <a:pt x="651" y="117"/>
                    </a:lnTo>
                    <a:lnTo>
                      <a:pt x="663" y="131"/>
                    </a:lnTo>
                    <a:lnTo>
                      <a:pt x="676" y="145"/>
                    </a:lnTo>
                    <a:lnTo>
                      <a:pt x="687" y="161"/>
                    </a:lnTo>
                    <a:lnTo>
                      <a:pt x="698" y="177"/>
                    </a:lnTo>
                    <a:lnTo>
                      <a:pt x="708" y="192"/>
                    </a:lnTo>
                    <a:lnTo>
                      <a:pt x="716" y="209"/>
                    </a:lnTo>
                    <a:lnTo>
                      <a:pt x="723" y="226"/>
                    </a:lnTo>
                    <a:lnTo>
                      <a:pt x="730" y="243"/>
                    </a:lnTo>
                    <a:lnTo>
                      <a:pt x="736" y="259"/>
                    </a:lnTo>
                    <a:lnTo>
                      <a:pt x="742" y="277"/>
                    </a:lnTo>
                    <a:lnTo>
                      <a:pt x="746" y="295"/>
                    </a:lnTo>
                    <a:lnTo>
                      <a:pt x="750" y="312"/>
                    </a:lnTo>
                    <a:lnTo>
                      <a:pt x="753" y="330"/>
                    </a:lnTo>
                    <a:lnTo>
                      <a:pt x="754" y="348"/>
                    </a:lnTo>
                    <a:lnTo>
                      <a:pt x="756" y="367"/>
                    </a:lnTo>
                    <a:lnTo>
                      <a:pt x="756" y="385"/>
                    </a:lnTo>
                    <a:lnTo>
                      <a:pt x="754" y="403"/>
                    </a:lnTo>
                    <a:lnTo>
                      <a:pt x="753" y="421"/>
                    </a:lnTo>
                    <a:lnTo>
                      <a:pt x="751" y="439"/>
                    </a:lnTo>
                    <a:lnTo>
                      <a:pt x="747" y="457"/>
                    </a:lnTo>
                    <a:lnTo>
                      <a:pt x="744" y="475"/>
                    </a:lnTo>
                    <a:lnTo>
                      <a:pt x="739" y="492"/>
                    </a:lnTo>
                    <a:lnTo>
                      <a:pt x="733" y="510"/>
                    </a:lnTo>
                    <a:lnTo>
                      <a:pt x="726" y="527"/>
                    </a:lnTo>
                    <a:lnTo>
                      <a:pt x="718" y="544"/>
                    </a:lnTo>
                    <a:lnTo>
                      <a:pt x="709" y="561"/>
                    </a:lnTo>
                    <a:lnTo>
                      <a:pt x="700" y="577"/>
                    </a:lnTo>
                    <a:lnTo>
                      <a:pt x="690" y="593"/>
                    </a:lnTo>
                    <a:lnTo>
                      <a:pt x="679" y="609"/>
                    </a:lnTo>
                    <a:lnTo>
                      <a:pt x="667" y="623"/>
                    </a:lnTo>
                    <a:lnTo>
                      <a:pt x="654" y="637"/>
                    </a:lnTo>
                    <a:lnTo>
                      <a:pt x="639" y="652"/>
                    </a:lnTo>
                    <a:lnTo>
                      <a:pt x="626" y="664"/>
                    </a:lnTo>
                    <a:lnTo>
                      <a:pt x="610" y="677"/>
                    </a:lnTo>
                    <a:lnTo>
                      <a:pt x="596" y="688"/>
                    </a:lnTo>
                    <a:lnTo>
                      <a:pt x="580" y="698"/>
                    </a:lnTo>
                    <a:lnTo>
                      <a:pt x="564" y="708"/>
                    </a:lnTo>
                    <a:lnTo>
                      <a:pt x="548" y="716"/>
                    </a:lnTo>
                    <a:lnTo>
                      <a:pt x="531" y="724"/>
                    </a:lnTo>
                    <a:lnTo>
                      <a:pt x="514" y="731"/>
                    </a:lnTo>
                    <a:lnTo>
                      <a:pt x="496" y="737"/>
                    </a:lnTo>
                    <a:lnTo>
                      <a:pt x="480" y="743"/>
                    </a:lnTo>
                    <a:lnTo>
                      <a:pt x="462" y="746"/>
                    </a:lnTo>
                    <a:lnTo>
                      <a:pt x="444" y="750"/>
                    </a:lnTo>
                    <a:lnTo>
                      <a:pt x="426" y="754"/>
                    </a:lnTo>
                    <a:lnTo>
                      <a:pt x="408" y="755"/>
                    </a:lnTo>
                    <a:lnTo>
                      <a:pt x="390" y="756"/>
                    </a:lnTo>
                    <a:lnTo>
                      <a:pt x="372" y="756"/>
                    </a:lnTo>
                    <a:lnTo>
                      <a:pt x="354" y="755"/>
                    </a:lnTo>
                    <a:lnTo>
                      <a:pt x="334" y="754"/>
                    </a:lnTo>
                    <a:lnTo>
                      <a:pt x="316" y="751"/>
                    </a:lnTo>
                    <a:lnTo>
                      <a:pt x="300" y="748"/>
                    </a:lnTo>
                    <a:lnTo>
                      <a:pt x="282" y="744"/>
                    </a:lnTo>
                    <a:lnTo>
                      <a:pt x="264" y="739"/>
                    </a:lnTo>
                    <a:lnTo>
                      <a:pt x="247" y="733"/>
                    </a:lnTo>
                    <a:lnTo>
                      <a:pt x="229" y="726"/>
                    </a:lnTo>
                    <a:lnTo>
                      <a:pt x="212" y="718"/>
                    </a:lnTo>
                    <a:lnTo>
                      <a:pt x="195" y="709"/>
                    </a:lnTo>
                    <a:lnTo>
                      <a:pt x="180" y="700"/>
                    </a:lnTo>
                    <a:lnTo>
                      <a:pt x="164" y="690"/>
                    </a:lnTo>
                    <a:lnTo>
                      <a:pt x="148" y="679"/>
                    </a:lnTo>
                    <a:lnTo>
                      <a:pt x="133" y="667"/>
                    </a:lnTo>
                    <a:lnTo>
                      <a:pt x="118" y="654"/>
                    </a:lnTo>
                    <a:lnTo>
                      <a:pt x="105" y="640"/>
                    </a:lnTo>
                    <a:lnTo>
                      <a:pt x="92" y="626"/>
                    </a:lnTo>
                    <a:lnTo>
                      <a:pt x="80" y="611"/>
                    </a:lnTo>
                    <a:lnTo>
                      <a:pt x="69" y="597"/>
                    </a:lnTo>
                    <a:lnTo>
                      <a:pt x="58" y="581"/>
                    </a:lnTo>
                    <a:lnTo>
                      <a:pt x="49" y="564"/>
                    </a:lnTo>
                    <a:lnTo>
                      <a:pt x="40" y="549"/>
                    </a:lnTo>
                    <a:lnTo>
                      <a:pt x="32" y="532"/>
                    </a:lnTo>
                    <a:lnTo>
                      <a:pt x="25" y="515"/>
                    </a:lnTo>
                    <a:lnTo>
                      <a:pt x="19" y="497"/>
                    </a:lnTo>
                    <a:lnTo>
                      <a:pt x="14" y="480"/>
                    </a:lnTo>
                    <a:lnTo>
                      <a:pt x="9" y="462"/>
                    </a:lnTo>
                    <a:lnTo>
                      <a:pt x="6" y="444"/>
                    </a:lnTo>
                    <a:lnTo>
                      <a:pt x="3" y="426"/>
                    </a:lnTo>
                    <a:lnTo>
                      <a:pt x="1" y="408"/>
                    </a:lnTo>
                    <a:lnTo>
                      <a:pt x="0" y="390"/>
                    </a:lnTo>
                    <a:lnTo>
                      <a:pt x="0" y="372"/>
                    </a:lnTo>
                    <a:lnTo>
                      <a:pt x="1" y="354"/>
                    </a:lnTo>
                    <a:lnTo>
                      <a:pt x="2" y="335"/>
                    </a:lnTo>
                    <a:lnTo>
                      <a:pt x="4" y="317"/>
                    </a:lnTo>
                    <a:lnTo>
                      <a:pt x="8" y="299"/>
                    </a:lnTo>
                    <a:lnTo>
                      <a:pt x="13" y="282"/>
                    </a:lnTo>
                    <a:lnTo>
                      <a:pt x="18" y="264"/>
                    </a:lnTo>
                    <a:lnTo>
                      <a:pt x="24" y="246"/>
                    </a:lnTo>
                    <a:lnTo>
                      <a:pt x="31" y="229"/>
                    </a:lnTo>
                    <a:lnTo>
                      <a:pt x="38" y="213"/>
                    </a:lnTo>
                    <a:lnTo>
                      <a:pt x="46" y="196"/>
                    </a:lnTo>
                    <a:lnTo>
                      <a:pt x="56" y="180"/>
                    </a:lnTo>
                    <a:lnTo>
                      <a:pt x="67" y="165"/>
                    </a:lnTo>
                    <a:lnTo>
                      <a:pt x="78" y="149"/>
                    </a:lnTo>
                    <a:lnTo>
                      <a:pt x="90" y="133"/>
                    </a:lnTo>
                    <a:lnTo>
                      <a:pt x="103" y="119"/>
                    </a:lnTo>
                    <a:close/>
                  </a:path>
                </a:pathLst>
              </a:custGeom>
              <a:solidFill>
                <a:srgbClr val="e39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147760" y="4775040"/>
                <a:ext cx="297000" cy="297000"/>
              </a:xfrm>
              <a:custGeom>
                <a:avLst/>
                <a:gdLst/>
                <a:ahLst/>
                <a:rect l="l" t="t" r="r" b="b"/>
                <a:pathLst>
                  <a:path w="748" h="748">
                    <a:moveTo>
                      <a:pt x="102" y="118"/>
                    </a:moveTo>
                    <a:lnTo>
                      <a:pt x="115" y="103"/>
                    </a:lnTo>
                    <a:lnTo>
                      <a:pt x="129" y="90"/>
                    </a:lnTo>
                    <a:lnTo>
                      <a:pt x="144" y="78"/>
                    </a:lnTo>
                    <a:lnTo>
                      <a:pt x="158" y="67"/>
                    </a:lnTo>
                    <a:lnTo>
                      <a:pt x="174" y="58"/>
                    </a:lnTo>
                    <a:lnTo>
                      <a:pt x="189" y="48"/>
                    </a:lnTo>
                    <a:lnTo>
                      <a:pt x="206" y="40"/>
                    </a:lnTo>
                    <a:lnTo>
                      <a:pt x="223" y="31"/>
                    </a:lnTo>
                    <a:lnTo>
                      <a:pt x="240" y="24"/>
                    </a:lnTo>
                    <a:lnTo>
                      <a:pt x="256" y="18"/>
                    </a:lnTo>
                    <a:lnTo>
                      <a:pt x="273" y="13"/>
                    </a:lnTo>
                    <a:lnTo>
                      <a:pt x="291" y="9"/>
                    </a:lnTo>
                    <a:lnTo>
                      <a:pt x="309" y="5"/>
                    </a:lnTo>
                    <a:lnTo>
                      <a:pt x="327" y="3"/>
                    </a:lnTo>
                    <a:lnTo>
                      <a:pt x="345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399" y="0"/>
                    </a:lnTo>
                    <a:lnTo>
                      <a:pt x="416" y="1"/>
                    </a:lnTo>
                    <a:lnTo>
                      <a:pt x="434" y="5"/>
                    </a:lnTo>
                    <a:lnTo>
                      <a:pt x="452" y="7"/>
                    </a:lnTo>
                    <a:lnTo>
                      <a:pt x="470" y="12"/>
                    </a:lnTo>
                    <a:lnTo>
                      <a:pt x="487" y="17"/>
                    </a:lnTo>
                    <a:lnTo>
                      <a:pt x="505" y="23"/>
                    </a:lnTo>
                    <a:lnTo>
                      <a:pt x="522" y="29"/>
                    </a:lnTo>
                    <a:lnTo>
                      <a:pt x="538" y="37"/>
                    </a:lnTo>
                    <a:lnTo>
                      <a:pt x="554" y="46"/>
                    </a:lnTo>
                    <a:lnTo>
                      <a:pt x="571" y="55"/>
                    </a:lnTo>
                    <a:lnTo>
                      <a:pt x="586" y="65"/>
                    </a:lnTo>
                    <a:lnTo>
                      <a:pt x="602" y="76"/>
                    </a:lnTo>
                    <a:lnTo>
                      <a:pt x="616" y="88"/>
                    </a:lnTo>
                    <a:lnTo>
                      <a:pt x="631" y="101"/>
                    </a:lnTo>
                    <a:lnTo>
                      <a:pt x="644" y="114"/>
                    </a:lnTo>
                    <a:lnTo>
                      <a:pt x="657" y="129"/>
                    </a:lnTo>
                    <a:lnTo>
                      <a:pt x="669" y="143"/>
                    </a:lnTo>
                    <a:lnTo>
                      <a:pt x="680" y="159"/>
                    </a:lnTo>
                    <a:lnTo>
                      <a:pt x="691" y="174"/>
                    </a:lnTo>
                    <a:lnTo>
                      <a:pt x="700" y="190"/>
                    </a:lnTo>
                    <a:lnTo>
                      <a:pt x="709" y="205"/>
                    </a:lnTo>
                    <a:lnTo>
                      <a:pt x="716" y="222"/>
                    </a:lnTo>
                    <a:lnTo>
                      <a:pt x="723" y="239"/>
                    </a:lnTo>
                    <a:lnTo>
                      <a:pt x="729" y="256"/>
                    </a:lnTo>
                    <a:lnTo>
                      <a:pt x="735" y="274"/>
                    </a:lnTo>
                    <a:lnTo>
                      <a:pt x="739" y="291"/>
                    </a:lnTo>
                    <a:lnTo>
                      <a:pt x="742" y="309"/>
                    </a:lnTo>
                    <a:lnTo>
                      <a:pt x="745" y="327"/>
                    </a:lnTo>
                    <a:lnTo>
                      <a:pt x="747" y="345"/>
                    </a:lnTo>
                    <a:lnTo>
                      <a:pt x="748" y="363"/>
                    </a:lnTo>
                    <a:lnTo>
                      <a:pt x="748" y="381"/>
                    </a:lnTo>
                    <a:lnTo>
                      <a:pt x="747" y="399"/>
                    </a:lnTo>
                    <a:lnTo>
                      <a:pt x="746" y="417"/>
                    </a:lnTo>
                    <a:lnTo>
                      <a:pt x="744" y="435"/>
                    </a:lnTo>
                    <a:lnTo>
                      <a:pt x="740" y="451"/>
                    </a:lnTo>
                    <a:lnTo>
                      <a:pt x="736" y="469"/>
                    </a:lnTo>
                    <a:lnTo>
                      <a:pt x="730" y="487"/>
                    </a:lnTo>
                    <a:lnTo>
                      <a:pt x="726" y="504"/>
                    </a:lnTo>
                    <a:lnTo>
                      <a:pt x="718" y="521"/>
                    </a:lnTo>
                    <a:lnTo>
                      <a:pt x="711" y="538"/>
                    </a:lnTo>
                    <a:lnTo>
                      <a:pt x="703" y="555"/>
                    </a:lnTo>
                    <a:lnTo>
                      <a:pt x="693" y="570"/>
                    </a:lnTo>
                    <a:lnTo>
                      <a:pt x="682" y="586"/>
                    </a:lnTo>
                    <a:lnTo>
                      <a:pt x="672" y="601"/>
                    </a:lnTo>
                    <a:lnTo>
                      <a:pt x="660" y="616"/>
                    </a:lnTo>
                    <a:lnTo>
                      <a:pt x="646" y="630"/>
                    </a:lnTo>
                    <a:lnTo>
                      <a:pt x="633" y="644"/>
                    </a:lnTo>
                    <a:lnTo>
                      <a:pt x="619" y="656"/>
                    </a:lnTo>
                    <a:lnTo>
                      <a:pt x="604" y="668"/>
                    </a:lnTo>
                    <a:lnTo>
                      <a:pt x="590" y="680"/>
                    </a:lnTo>
                    <a:lnTo>
                      <a:pt x="574" y="690"/>
                    </a:lnTo>
                    <a:lnTo>
                      <a:pt x="559" y="700"/>
                    </a:lnTo>
                    <a:lnTo>
                      <a:pt x="542" y="708"/>
                    </a:lnTo>
                    <a:lnTo>
                      <a:pt x="525" y="716"/>
                    </a:lnTo>
                    <a:lnTo>
                      <a:pt x="508" y="722"/>
                    </a:lnTo>
                    <a:lnTo>
                      <a:pt x="492" y="728"/>
                    </a:lnTo>
                    <a:lnTo>
                      <a:pt x="475" y="734"/>
                    </a:lnTo>
                    <a:lnTo>
                      <a:pt x="457" y="738"/>
                    </a:lnTo>
                    <a:lnTo>
                      <a:pt x="439" y="742"/>
                    </a:lnTo>
                    <a:lnTo>
                      <a:pt x="422" y="745"/>
                    </a:lnTo>
                    <a:lnTo>
                      <a:pt x="404" y="746"/>
                    </a:lnTo>
                    <a:lnTo>
                      <a:pt x="386" y="748"/>
                    </a:lnTo>
                    <a:lnTo>
                      <a:pt x="368" y="748"/>
                    </a:lnTo>
                    <a:lnTo>
                      <a:pt x="350" y="748"/>
                    </a:lnTo>
                    <a:lnTo>
                      <a:pt x="332" y="745"/>
                    </a:lnTo>
                    <a:lnTo>
                      <a:pt x="314" y="743"/>
                    </a:lnTo>
                    <a:lnTo>
                      <a:pt x="296" y="739"/>
                    </a:lnTo>
                    <a:lnTo>
                      <a:pt x="278" y="736"/>
                    </a:lnTo>
                    <a:lnTo>
                      <a:pt x="261" y="731"/>
                    </a:lnTo>
                    <a:lnTo>
                      <a:pt x="243" y="725"/>
                    </a:lnTo>
                    <a:lnTo>
                      <a:pt x="226" y="718"/>
                    </a:lnTo>
                    <a:lnTo>
                      <a:pt x="210" y="710"/>
                    </a:lnTo>
                    <a:lnTo>
                      <a:pt x="194" y="702"/>
                    </a:lnTo>
                    <a:lnTo>
                      <a:pt x="177" y="692"/>
                    </a:lnTo>
                    <a:lnTo>
                      <a:pt x="162" y="683"/>
                    </a:lnTo>
                    <a:lnTo>
                      <a:pt x="147" y="671"/>
                    </a:lnTo>
                    <a:lnTo>
                      <a:pt x="132" y="659"/>
                    </a:lnTo>
                    <a:lnTo>
                      <a:pt x="117" y="647"/>
                    </a:lnTo>
                    <a:lnTo>
                      <a:pt x="104" y="632"/>
                    </a:lnTo>
                    <a:lnTo>
                      <a:pt x="91" y="619"/>
                    </a:lnTo>
                    <a:lnTo>
                      <a:pt x="79" y="605"/>
                    </a:lnTo>
                    <a:lnTo>
                      <a:pt x="68" y="589"/>
                    </a:lnTo>
                    <a:lnTo>
                      <a:pt x="57" y="574"/>
                    </a:lnTo>
                    <a:lnTo>
                      <a:pt x="48" y="558"/>
                    </a:lnTo>
                    <a:lnTo>
                      <a:pt x="39" y="541"/>
                    </a:lnTo>
                    <a:lnTo>
                      <a:pt x="32" y="526"/>
                    </a:lnTo>
                    <a:lnTo>
                      <a:pt x="25" y="509"/>
                    </a:lnTo>
                    <a:lnTo>
                      <a:pt x="19" y="491"/>
                    </a:lnTo>
                    <a:lnTo>
                      <a:pt x="14" y="474"/>
                    </a:lnTo>
                    <a:lnTo>
                      <a:pt x="9" y="456"/>
                    </a:lnTo>
                    <a:lnTo>
                      <a:pt x="6" y="439"/>
                    </a:lnTo>
                    <a:lnTo>
                      <a:pt x="3" y="421"/>
                    </a:lnTo>
                    <a:lnTo>
                      <a:pt x="1" y="403"/>
                    </a:lnTo>
                    <a:lnTo>
                      <a:pt x="0" y="385"/>
                    </a:lnTo>
                    <a:lnTo>
                      <a:pt x="0" y="367"/>
                    </a:lnTo>
                    <a:lnTo>
                      <a:pt x="1" y="349"/>
                    </a:lnTo>
                    <a:lnTo>
                      <a:pt x="2" y="331"/>
                    </a:lnTo>
                    <a:lnTo>
                      <a:pt x="4" y="313"/>
                    </a:lnTo>
                    <a:lnTo>
                      <a:pt x="8" y="295"/>
                    </a:lnTo>
                    <a:lnTo>
                      <a:pt x="13" y="279"/>
                    </a:lnTo>
                    <a:lnTo>
                      <a:pt x="18" y="261"/>
                    </a:lnTo>
                    <a:lnTo>
                      <a:pt x="24" y="244"/>
                    </a:lnTo>
                    <a:lnTo>
                      <a:pt x="30" y="227"/>
                    </a:lnTo>
                    <a:lnTo>
                      <a:pt x="38" y="210"/>
                    </a:lnTo>
                    <a:lnTo>
                      <a:pt x="46" y="193"/>
                    </a:lnTo>
                    <a:lnTo>
                      <a:pt x="55" y="178"/>
                    </a:lnTo>
                    <a:lnTo>
                      <a:pt x="66" y="162"/>
                    </a:lnTo>
                    <a:lnTo>
                      <a:pt x="76" y="147"/>
                    </a:lnTo>
                    <a:lnTo>
                      <a:pt x="88" y="131"/>
                    </a:lnTo>
                    <a:lnTo>
                      <a:pt x="102" y="118"/>
                    </a:lnTo>
                    <a:close/>
                  </a:path>
                </a:pathLst>
              </a:custGeom>
              <a:solidFill>
                <a:srgbClr val="e79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149560" y="4778280"/>
                <a:ext cx="295200" cy="293760"/>
              </a:xfrm>
              <a:custGeom>
                <a:avLst/>
                <a:gdLst/>
                <a:ahLst/>
                <a:rect l="l" t="t" r="r" b="b"/>
                <a:pathLst>
                  <a:path w="741" h="740">
                    <a:moveTo>
                      <a:pt x="100" y="116"/>
                    </a:moveTo>
                    <a:lnTo>
                      <a:pt x="114" y="103"/>
                    </a:lnTo>
                    <a:lnTo>
                      <a:pt x="128" y="90"/>
                    </a:lnTo>
                    <a:lnTo>
                      <a:pt x="142" y="78"/>
                    </a:lnTo>
                    <a:lnTo>
                      <a:pt x="157" y="67"/>
                    </a:lnTo>
                    <a:lnTo>
                      <a:pt x="172" y="56"/>
                    </a:lnTo>
                    <a:lnTo>
                      <a:pt x="188" y="48"/>
                    </a:lnTo>
                    <a:lnTo>
                      <a:pt x="204" y="38"/>
                    </a:lnTo>
                    <a:lnTo>
                      <a:pt x="220" y="31"/>
                    </a:lnTo>
                    <a:lnTo>
                      <a:pt x="237" y="24"/>
                    </a:lnTo>
                    <a:lnTo>
                      <a:pt x="254" y="18"/>
                    </a:lnTo>
                    <a:lnTo>
                      <a:pt x="271" y="13"/>
                    </a:lnTo>
                    <a:lnTo>
                      <a:pt x="289" y="8"/>
                    </a:lnTo>
                    <a:lnTo>
                      <a:pt x="306" y="5"/>
                    </a:lnTo>
                    <a:lnTo>
                      <a:pt x="324" y="2"/>
                    </a:lnTo>
                    <a:lnTo>
                      <a:pt x="342" y="1"/>
                    </a:lnTo>
                    <a:lnTo>
                      <a:pt x="360" y="0"/>
                    </a:lnTo>
                    <a:lnTo>
                      <a:pt x="376" y="0"/>
                    </a:lnTo>
                    <a:lnTo>
                      <a:pt x="394" y="0"/>
                    </a:lnTo>
                    <a:lnTo>
                      <a:pt x="412" y="2"/>
                    </a:lnTo>
                    <a:lnTo>
                      <a:pt x="430" y="5"/>
                    </a:lnTo>
                    <a:lnTo>
                      <a:pt x="447" y="7"/>
                    </a:lnTo>
                    <a:lnTo>
                      <a:pt x="465" y="12"/>
                    </a:lnTo>
                    <a:lnTo>
                      <a:pt x="482" y="17"/>
                    </a:lnTo>
                    <a:lnTo>
                      <a:pt x="500" y="23"/>
                    </a:lnTo>
                    <a:lnTo>
                      <a:pt x="517" y="29"/>
                    </a:lnTo>
                    <a:lnTo>
                      <a:pt x="532" y="37"/>
                    </a:lnTo>
                    <a:lnTo>
                      <a:pt x="549" y="46"/>
                    </a:lnTo>
                    <a:lnTo>
                      <a:pt x="565" y="54"/>
                    </a:lnTo>
                    <a:lnTo>
                      <a:pt x="580" y="65"/>
                    </a:lnTo>
                    <a:lnTo>
                      <a:pt x="596" y="76"/>
                    </a:lnTo>
                    <a:lnTo>
                      <a:pt x="610" y="88"/>
                    </a:lnTo>
                    <a:lnTo>
                      <a:pt x="625" y="100"/>
                    </a:lnTo>
                    <a:lnTo>
                      <a:pt x="638" y="114"/>
                    </a:lnTo>
                    <a:lnTo>
                      <a:pt x="651" y="127"/>
                    </a:lnTo>
                    <a:lnTo>
                      <a:pt x="662" y="142"/>
                    </a:lnTo>
                    <a:lnTo>
                      <a:pt x="674" y="157"/>
                    </a:lnTo>
                    <a:lnTo>
                      <a:pt x="684" y="172"/>
                    </a:lnTo>
                    <a:lnTo>
                      <a:pt x="693" y="187"/>
                    </a:lnTo>
                    <a:lnTo>
                      <a:pt x="702" y="204"/>
                    </a:lnTo>
                    <a:lnTo>
                      <a:pt x="709" y="220"/>
                    </a:lnTo>
                    <a:lnTo>
                      <a:pt x="716" y="236"/>
                    </a:lnTo>
                    <a:lnTo>
                      <a:pt x="722" y="253"/>
                    </a:lnTo>
                    <a:lnTo>
                      <a:pt x="727" y="271"/>
                    </a:lnTo>
                    <a:lnTo>
                      <a:pt x="732" y="288"/>
                    </a:lnTo>
                    <a:lnTo>
                      <a:pt x="735" y="306"/>
                    </a:lnTo>
                    <a:lnTo>
                      <a:pt x="738" y="323"/>
                    </a:lnTo>
                    <a:lnTo>
                      <a:pt x="740" y="341"/>
                    </a:lnTo>
                    <a:lnTo>
                      <a:pt x="741" y="359"/>
                    </a:lnTo>
                    <a:lnTo>
                      <a:pt x="741" y="377"/>
                    </a:lnTo>
                    <a:lnTo>
                      <a:pt x="740" y="395"/>
                    </a:lnTo>
                    <a:lnTo>
                      <a:pt x="739" y="413"/>
                    </a:lnTo>
                    <a:lnTo>
                      <a:pt x="736" y="430"/>
                    </a:lnTo>
                    <a:lnTo>
                      <a:pt x="733" y="448"/>
                    </a:lnTo>
                    <a:lnTo>
                      <a:pt x="729" y="464"/>
                    </a:lnTo>
                    <a:lnTo>
                      <a:pt x="723" y="482"/>
                    </a:lnTo>
                    <a:lnTo>
                      <a:pt x="718" y="499"/>
                    </a:lnTo>
                    <a:lnTo>
                      <a:pt x="711" y="516"/>
                    </a:lnTo>
                    <a:lnTo>
                      <a:pt x="704" y="533"/>
                    </a:lnTo>
                    <a:lnTo>
                      <a:pt x="696" y="548"/>
                    </a:lnTo>
                    <a:lnTo>
                      <a:pt x="686" y="565"/>
                    </a:lnTo>
                    <a:lnTo>
                      <a:pt x="676" y="581"/>
                    </a:lnTo>
                    <a:lnTo>
                      <a:pt x="664" y="595"/>
                    </a:lnTo>
                    <a:lnTo>
                      <a:pt x="654" y="609"/>
                    </a:lnTo>
                    <a:lnTo>
                      <a:pt x="640" y="624"/>
                    </a:lnTo>
                    <a:lnTo>
                      <a:pt x="627" y="637"/>
                    </a:lnTo>
                    <a:lnTo>
                      <a:pt x="613" y="650"/>
                    </a:lnTo>
                    <a:lnTo>
                      <a:pt x="598" y="662"/>
                    </a:lnTo>
                    <a:lnTo>
                      <a:pt x="584" y="673"/>
                    </a:lnTo>
                    <a:lnTo>
                      <a:pt x="568" y="684"/>
                    </a:lnTo>
                    <a:lnTo>
                      <a:pt x="553" y="692"/>
                    </a:lnTo>
                    <a:lnTo>
                      <a:pt x="537" y="702"/>
                    </a:lnTo>
                    <a:lnTo>
                      <a:pt x="520" y="709"/>
                    </a:lnTo>
                    <a:lnTo>
                      <a:pt x="504" y="716"/>
                    </a:lnTo>
                    <a:lnTo>
                      <a:pt x="487" y="722"/>
                    </a:lnTo>
                    <a:lnTo>
                      <a:pt x="470" y="727"/>
                    </a:lnTo>
                    <a:lnTo>
                      <a:pt x="452" y="732"/>
                    </a:lnTo>
                    <a:lnTo>
                      <a:pt x="435" y="735"/>
                    </a:lnTo>
                    <a:lnTo>
                      <a:pt x="417" y="738"/>
                    </a:lnTo>
                    <a:lnTo>
                      <a:pt x="399" y="739"/>
                    </a:lnTo>
                    <a:lnTo>
                      <a:pt x="381" y="740"/>
                    </a:lnTo>
                    <a:lnTo>
                      <a:pt x="364" y="740"/>
                    </a:lnTo>
                    <a:lnTo>
                      <a:pt x="346" y="740"/>
                    </a:lnTo>
                    <a:lnTo>
                      <a:pt x="328" y="738"/>
                    </a:lnTo>
                    <a:lnTo>
                      <a:pt x="310" y="735"/>
                    </a:lnTo>
                    <a:lnTo>
                      <a:pt x="294" y="733"/>
                    </a:lnTo>
                    <a:lnTo>
                      <a:pt x="276" y="728"/>
                    </a:lnTo>
                    <a:lnTo>
                      <a:pt x="259" y="723"/>
                    </a:lnTo>
                    <a:lnTo>
                      <a:pt x="241" y="717"/>
                    </a:lnTo>
                    <a:lnTo>
                      <a:pt x="224" y="711"/>
                    </a:lnTo>
                    <a:lnTo>
                      <a:pt x="208" y="703"/>
                    </a:lnTo>
                    <a:lnTo>
                      <a:pt x="192" y="695"/>
                    </a:lnTo>
                    <a:lnTo>
                      <a:pt x="176" y="686"/>
                    </a:lnTo>
                    <a:lnTo>
                      <a:pt x="160" y="675"/>
                    </a:lnTo>
                    <a:lnTo>
                      <a:pt x="145" y="665"/>
                    </a:lnTo>
                    <a:lnTo>
                      <a:pt x="130" y="653"/>
                    </a:lnTo>
                    <a:lnTo>
                      <a:pt x="116" y="641"/>
                    </a:lnTo>
                    <a:lnTo>
                      <a:pt x="103" y="626"/>
                    </a:lnTo>
                    <a:lnTo>
                      <a:pt x="90" y="613"/>
                    </a:lnTo>
                    <a:lnTo>
                      <a:pt x="79" y="599"/>
                    </a:lnTo>
                    <a:lnTo>
                      <a:pt x="67" y="583"/>
                    </a:lnTo>
                    <a:lnTo>
                      <a:pt x="57" y="569"/>
                    </a:lnTo>
                    <a:lnTo>
                      <a:pt x="48" y="553"/>
                    </a:lnTo>
                    <a:lnTo>
                      <a:pt x="39" y="536"/>
                    </a:lnTo>
                    <a:lnTo>
                      <a:pt x="31" y="521"/>
                    </a:lnTo>
                    <a:lnTo>
                      <a:pt x="25" y="504"/>
                    </a:lnTo>
                    <a:lnTo>
                      <a:pt x="19" y="487"/>
                    </a:lnTo>
                    <a:lnTo>
                      <a:pt x="13" y="469"/>
                    </a:lnTo>
                    <a:lnTo>
                      <a:pt x="9" y="452"/>
                    </a:lnTo>
                    <a:lnTo>
                      <a:pt x="6" y="434"/>
                    </a:lnTo>
                    <a:lnTo>
                      <a:pt x="3" y="418"/>
                    </a:lnTo>
                    <a:lnTo>
                      <a:pt x="1" y="400"/>
                    </a:lnTo>
                    <a:lnTo>
                      <a:pt x="0" y="382"/>
                    </a:lnTo>
                    <a:lnTo>
                      <a:pt x="0" y="364"/>
                    </a:lnTo>
                    <a:lnTo>
                      <a:pt x="1" y="346"/>
                    </a:lnTo>
                    <a:lnTo>
                      <a:pt x="2" y="328"/>
                    </a:lnTo>
                    <a:lnTo>
                      <a:pt x="4" y="311"/>
                    </a:lnTo>
                    <a:lnTo>
                      <a:pt x="8" y="293"/>
                    </a:lnTo>
                    <a:lnTo>
                      <a:pt x="12" y="276"/>
                    </a:lnTo>
                    <a:lnTo>
                      <a:pt x="18" y="258"/>
                    </a:lnTo>
                    <a:lnTo>
                      <a:pt x="22" y="241"/>
                    </a:lnTo>
                    <a:lnTo>
                      <a:pt x="30" y="224"/>
                    </a:lnTo>
                    <a:lnTo>
                      <a:pt x="37" y="208"/>
                    </a:lnTo>
                    <a:lnTo>
                      <a:pt x="45" y="192"/>
                    </a:lnTo>
                    <a:lnTo>
                      <a:pt x="55" y="175"/>
                    </a:lnTo>
                    <a:lnTo>
                      <a:pt x="64" y="160"/>
                    </a:lnTo>
                    <a:lnTo>
                      <a:pt x="75" y="145"/>
                    </a:lnTo>
                    <a:lnTo>
                      <a:pt x="87" y="131"/>
                    </a:lnTo>
                    <a:lnTo>
                      <a:pt x="100" y="116"/>
                    </a:lnTo>
                    <a:close/>
                  </a:path>
                </a:pathLst>
              </a:custGeom>
              <a:solidFill>
                <a:srgbClr val="ec9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152440" y="478008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733" h="733">
                    <a:moveTo>
                      <a:pt x="99" y="115"/>
                    </a:moveTo>
                    <a:lnTo>
                      <a:pt x="112" y="102"/>
                    </a:lnTo>
                    <a:lnTo>
                      <a:pt x="127" y="89"/>
                    </a:lnTo>
                    <a:lnTo>
                      <a:pt x="140" y="78"/>
                    </a:lnTo>
                    <a:lnTo>
                      <a:pt x="156" y="67"/>
                    </a:lnTo>
                    <a:lnTo>
                      <a:pt x="170" y="56"/>
                    </a:lnTo>
                    <a:lnTo>
                      <a:pt x="186" y="47"/>
                    </a:lnTo>
                    <a:lnTo>
                      <a:pt x="201" y="38"/>
                    </a:lnTo>
                    <a:lnTo>
                      <a:pt x="218" y="31"/>
                    </a:lnTo>
                    <a:lnTo>
                      <a:pt x="235" y="24"/>
                    </a:lnTo>
                    <a:lnTo>
                      <a:pt x="252" y="18"/>
                    </a:lnTo>
                    <a:lnTo>
                      <a:pt x="268" y="13"/>
                    </a:lnTo>
                    <a:lnTo>
                      <a:pt x="285" y="9"/>
                    </a:lnTo>
                    <a:lnTo>
                      <a:pt x="303" y="6"/>
                    </a:lnTo>
                    <a:lnTo>
                      <a:pt x="320" y="2"/>
                    </a:lnTo>
                    <a:lnTo>
                      <a:pt x="338" y="1"/>
                    </a:lnTo>
                    <a:lnTo>
                      <a:pt x="355" y="0"/>
                    </a:lnTo>
                    <a:lnTo>
                      <a:pt x="373" y="0"/>
                    </a:lnTo>
                    <a:lnTo>
                      <a:pt x="391" y="1"/>
                    </a:lnTo>
                    <a:lnTo>
                      <a:pt x="408" y="2"/>
                    </a:lnTo>
                    <a:lnTo>
                      <a:pt x="426" y="5"/>
                    </a:lnTo>
                    <a:lnTo>
                      <a:pt x="444" y="8"/>
                    </a:lnTo>
                    <a:lnTo>
                      <a:pt x="460" y="12"/>
                    </a:lnTo>
                    <a:lnTo>
                      <a:pt x="477" y="17"/>
                    </a:lnTo>
                    <a:lnTo>
                      <a:pt x="494" y="23"/>
                    </a:lnTo>
                    <a:lnTo>
                      <a:pt x="511" y="29"/>
                    </a:lnTo>
                    <a:lnTo>
                      <a:pt x="528" y="37"/>
                    </a:lnTo>
                    <a:lnTo>
                      <a:pt x="543" y="45"/>
                    </a:lnTo>
                    <a:lnTo>
                      <a:pt x="559" y="54"/>
                    </a:lnTo>
                    <a:lnTo>
                      <a:pt x="574" y="65"/>
                    </a:lnTo>
                    <a:lnTo>
                      <a:pt x="590" y="75"/>
                    </a:lnTo>
                    <a:lnTo>
                      <a:pt x="604" y="86"/>
                    </a:lnTo>
                    <a:lnTo>
                      <a:pt x="618" y="99"/>
                    </a:lnTo>
                    <a:lnTo>
                      <a:pt x="632" y="113"/>
                    </a:lnTo>
                    <a:lnTo>
                      <a:pt x="644" y="126"/>
                    </a:lnTo>
                    <a:lnTo>
                      <a:pt x="656" y="140"/>
                    </a:lnTo>
                    <a:lnTo>
                      <a:pt x="667" y="156"/>
                    </a:lnTo>
                    <a:lnTo>
                      <a:pt x="676" y="170"/>
                    </a:lnTo>
                    <a:lnTo>
                      <a:pt x="686" y="186"/>
                    </a:lnTo>
                    <a:lnTo>
                      <a:pt x="694" y="201"/>
                    </a:lnTo>
                    <a:lnTo>
                      <a:pt x="702" y="218"/>
                    </a:lnTo>
                    <a:lnTo>
                      <a:pt x="709" y="235"/>
                    </a:lnTo>
                    <a:lnTo>
                      <a:pt x="715" y="252"/>
                    </a:lnTo>
                    <a:lnTo>
                      <a:pt x="720" y="269"/>
                    </a:lnTo>
                    <a:lnTo>
                      <a:pt x="724" y="285"/>
                    </a:lnTo>
                    <a:lnTo>
                      <a:pt x="728" y="302"/>
                    </a:lnTo>
                    <a:lnTo>
                      <a:pt x="730" y="320"/>
                    </a:lnTo>
                    <a:lnTo>
                      <a:pt x="733" y="338"/>
                    </a:lnTo>
                    <a:lnTo>
                      <a:pt x="733" y="355"/>
                    </a:lnTo>
                    <a:lnTo>
                      <a:pt x="733" y="373"/>
                    </a:lnTo>
                    <a:lnTo>
                      <a:pt x="733" y="391"/>
                    </a:lnTo>
                    <a:lnTo>
                      <a:pt x="732" y="408"/>
                    </a:lnTo>
                    <a:lnTo>
                      <a:pt x="729" y="426"/>
                    </a:lnTo>
                    <a:lnTo>
                      <a:pt x="726" y="443"/>
                    </a:lnTo>
                    <a:lnTo>
                      <a:pt x="721" y="461"/>
                    </a:lnTo>
                    <a:lnTo>
                      <a:pt x="716" y="477"/>
                    </a:lnTo>
                    <a:lnTo>
                      <a:pt x="711" y="494"/>
                    </a:lnTo>
                    <a:lnTo>
                      <a:pt x="704" y="511"/>
                    </a:lnTo>
                    <a:lnTo>
                      <a:pt x="697" y="528"/>
                    </a:lnTo>
                    <a:lnTo>
                      <a:pt x="688" y="543"/>
                    </a:lnTo>
                    <a:lnTo>
                      <a:pt x="679" y="559"/>
                    </a:lnTo>
                    <a:lnTo>
                      <a:pt x="669" y="575"/>
                    </a:lnTo>
                    <a:lnTo>
                      <a:pt x="658" y="589"/>
                    </a:lnTo>
                    <a:lnTo>
                      <a:pt x="646" y="604"/>
                    </a:lnTo>
                    <a:lnTo>
                      <a:pt x="634" y="618"/>
                    </a:lnTo>
                    <a:lnTo>
                      <a:pt x="621" y="631"/>
                    </a:lnTo>
                    <a:lnTo>
                      <a:pt x="607" y="644"/>
                    </a:lnTo>
                    <a:lnTo>
                      <a:pt x="592" y="656"/>
                    </a:lnTo>
                    <a:lnTo>
                      <a:pt x="578" y="667"/>
                    </a:lnTo>
                    <a:lnTo>
                      <a:pt x="562" y="676"/>
                    </a:lnTo>
                    <a:lnTo>
                      <a:pt x="547" y="686"/>
                    </a:lnTo>
                    <a:lnTo>
                      <a:pt x="531" y="694"/>
                    </a:lnTo>
                    <a:lnTo>
                      <a:pt x="516" y="702"/>
                    </a:lnTo>
                    <a:lnTo>
                      <a:pt x="499" y="709"/>
                    </a:lnTo>
                    <a:lnTo>
                      <a:pt x="482" y="715"/>
                    </a:lnTo>
                    <a:lnTo>
                      <a:pt x="465" y="720"/>
                    </a:lnTo>
                    <a:lnTo>
                      <a:pt x="447" y="724"/>
                    </a:lnTo>
                    <a:lnTo>
                      <a:pt x="430" y="728"/>
                    </a:lnTo>
                    <a:lnTo>
                      <a:pt x="412" y="730"/>
                    </a:lnTo>
                    <a:lnTo>
                      <a:pt x="396" y="732"/>
                    </a:lnTo>
                    <a:lnTo>
                      <a:pt x="378" y="733"/>
                    </a:lnTo>
                    <a:lnTo>
                      <a:pt x="360" y="733"/>
                    </a:lnTo>
                    <a:lnTo>
                      <a:pt x="343" y="733"/>
                    </a:lnTo>
                    <a:lnTo>
                      <a:pt x="325" y="730"/>
                    </a:lnTo>
                    <a:lnTo>
                      <a:pt x="308" y="728"/>
                    </a:lnTo>
                    <a:lnTo>
                      <a:pt x="290" y="726"/>
                    </a:lnTo>
                    <a:lnTo>
                      <a:pt x="273" y="721"/>
                    </a:lnTo>
                    <a:lnTo>
                      <a:pt x="255" y="716"/>
                    </a:lnTo>
                    <a:lnTo>
                      <a:pt x="238" y="710"/>
                    </a:lnTo>
                    <a:lnTo>
                      <a:pt x="222" y="704"/>
                    </a:lnTo>
                    <a:lnTo>
                      <a:pt x="206" y="697"/>
                    </a:lnTo>
                    <a:lnTo>
                      <a:pt x="189" y="688"/>
                    </a:lnTo>
                    <a:lnTo>
                      <a:pt x="174" y="679"/>
                    </a:lnTo>
                    <a:lnTo>
                      <a:pt x="159" y="669"/>
                    </a:lnTo>
                    <a:lnTo>
                      <a:pt x="144" y="658"/>
                    </a:lnTo>
                    <a:lnTo>
                      <a:pt x="129" y="646"/>
                    </a:lnTo>
                    <a:lnTo>
                      <a:pt x="115" y="633"/>
                    </a:lnTo>
                    <a:lnTo>
                      <a:pt x="102" y="620"/>
                    </a:lnTo>
                    <a:lnTo>
                      <a:pt x="90" y="607"/>
                    </a:lnTo>
                    <a:lnTo>
                      <a:pt x="78" y="593"/>
                    </a:lnTo>
                    <a:lnTo>
                      <a:pt x="67" y="578"/>
                    </a:lnTo>
                    <a:lnTo>
                      <a:pt x="56" y="563"/>
                    </a:lnTo>
                    <a:lnTo>
                      <a:pt x="48" y="547"/>
                    </a:lnTo>
                    <a:lnTo>
                      <a:pt x="39" y="531"/>
                    </a:lnTo>
                    <a:lnTo>
                      <a:pt x="31" y="515"/>
                    </a:lnTo>
                    <a:lnTo>
                      <a:pt x="24" y="499"/>
                    </a:lnTo>
                    <a:lnTo>
                      <a:pt x="19" y="482"/>
                    </a:lnTo>
                    <a:lnTo>
                      <a:pt x="13" y="465"/>
                    </a:lnTo>
                    <a:lnTo>
                      <a:pt x="9" y="447"/>
                    </a:lnTo>
                    <a:lnTo>
                      <a:pt x="6" y="431"/>
                    </a:lnTo>
                    <a:lnTo>
                      <a:pt x="3" y="413"/>
                    </a:lnTo>
                    <a:lnTo>
                      <a:pt x="1" y="396"/>
                    </a:lnTo>
                    <a:lnTo>
                      <a:pt x="0" y="378"/>
                    </a:lnTo>
                    <a:lnTo>
                      <a:pt x="0" y="360"/>
                    </a:lnTo>
                    <a:lnTo>
                      <a:pt x="1" y="343"/>
                    </a:lnTo>
                    <a:lnTo>
                      <a:pt x="2" y="325"/>
                    </a:lnTo>
                    <a:lnTo>
                      <a:pt x="4" y="307"/>
                    </a:lnTo>
                    <a:lnTo>
                      <a:pt x="8" y="290"/>
                    </a:lnTo>
                    <a:lnTo>
                      <a:pt x="12" y="272"/>
                    </a:lnTo>
                    <a:lnTo>
                      <a:pt x="16" y="255"/>
                    </a:lnTo>
                    <a:lnTo>
                      <a:pt x="22" y="239"/>
                    </a:lnTo>
                    <a:lnTo>
                      <a:pt x="30" y="222"/>
                    </a:lnTo>
                    <a:lnTo>
                      <a:pt x="37" y="206"/>
                    </a:lnTo>
                    <a:lnTo>
                      <a:pt x="45" y="189"/>
                    </a:lnTo>
                    <a:lnTo>
                      <a:pt x="54" y="174"/>
                    </a:lnTo>
                    <a:lnTo>
                      <a:pt x="64" y="158"/>
                    </a:lnTo>
                    <a:lnTo>
                      <a:pt x="75" y="144"/>
                    </a:lnTo>
                    <a:lnTo>
                      <a:pt x="87" y="129"/>
                    </a:lnTo>
                    <a:lnTo>
                      <a:pt x="99" y="115"/>
                    </a:lnTo>
                    <a:close/>
                  </a:path>
                </a:pathLst>
              </a:custGeom>
              <a:solidFill>
                <a:srgbClr val="f2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168280" y="4800600"/>
                <a:ext cx="258840" cy="258840"/>
              </a:xfrm>
              <a:custGeom>
                <a:avLst/>
                <a:gdLst/>
                <a:ahLst/>
                <a:rect l="l" t="t" r="r" b="b"/>
                <a:pathLst>
                  <a:path w="650" h="651">
                    <a:moveTo>
                      <a:pt x="87" y="103"/>
                    </a:moveTo>
                    <a:lnTo>
                      <a:pt x="99" y="91"/>
                    </a:lnTo>
                    <a:lnTo>
                      <a:pt x="111" y="79"/>
                    </a:lnTo>
                    <a:lnTo>
                      <a:pt x="124" y="69"/>
                    </a:lnTo>
                    <a:lnTo>
                      <a:pt x="138" y="60"/>
                    </a:lnTo>
                    <a:lnTo>
                      <a:pt x="151" y="50"/>
                    </a:lnTo>
                    <a:lnTo>
                      <a:pt x="165" y="42"/>
                    </a:lnTo>
                    <a:lnTo>
                      <a:pt x="178" y="34"/>
                    </a:lnTo>
                    <a:lnTo>
                      <a:pt x="193" y="28"/>
                    </a:lnTo>
                    <a:lnTo>
                      <a:pt x="207" y="21"/>
                    </a:lnTo>
                    <a:lnTo>
                      <a:pt x="223" y="16"/>
                    </a:lnTo>
                    <a:lnTo>
                      <a:pt x="237" y="12"/>
                    </a:lnTo>
                    <a:lnTo>
                      <a:pt x="253" y="8"/>
                    </a:lnTo>
                    <a:lnTo>
                      <a:pt x="268" y="6"/>
                    </a:lnTo>
                    <a:lnTo>
                      <a:pt x="284" y="3"/>
                    </a:lnTo>
                    <a:lnTo>
                      <a:pt x="300" y="1"/>
                    </a:lnTo>
                    <a:lnTo>
                      <a:pt x="315" y="1"/>
                    </a:lnTo>
                    <a:lnTo>
                      <a:pt x="331" y="0"/>
                    </a:lnTo>
                    <a:lnTo>
                      <a:pt x="346" y="1"/>
                    </a:lnTo>
                    <a:lnTo>
                      <a:pt x="362" y="2"/>
                    </a:lnTo>
                    <a:lnTo>
                      <a:pt x="378" y="4"/>
                    </a:lnTo>
                    <a:lnTo>
                      <a:pt x="393" y="7"/>
                    </a:lnTo>
                    <a:lnTo>
                      <a:pt x="408" y="10"/>
                    </a:lnTo>
                    <a:lnTo>
                      <a:pt x="423" y="15"/>
                    </a:lnTo>
                    <a:lnTo>
                      <a:pt x="439" y="20"/>
                    </a:lnTo>
                    <a:lnTo>
                      <a:pt x="453" y="26"/>
                    </a:lnTo>
                    <a:lnTo>
                      <a:pt x="468" y="33"/>
                    </a:lnTo>
                    <a:lnTo>
                      <a:pt x="482" y="40"/>
                    </a:lnTo>
                    <a:lnTo>
                      <a:pt x="496" y="49"/>
                    </a:lnTo>
                    <a:lnTo>
                      <a:pt x="510" y="57"/>
                    </a:lnTo>
                    <a:lnTo>
                      <a:pt x="523" y="67"/>
                    </a:lnTo>
                    <a:lnTo>
                      <a:pt x="536" y="78"/>
                    </a:lnTo>
                    <a:lnTo>
                      <a:pt x="548" y="88"/>
                    </a:lnTo>
                    <a:lnTo>
                      <a:pt x="560" y="100"/>
                    </a:lnTo>
                    <a:lnTo>
                      <a:pt x="571" y="112"/>
                    </a:lnTo>
                    <a:lnTo>
                      <a:pt x="582" y="124"/>
                    </a:lnTo>
                    <a:lnTo>
                      <a:pt x="591" y="138"/>
                    </a:lnTo>
                    <a:lnTo>
                      <a:pt x="601" y="152"/>
                    </a:lnTo>
                    <a:lnTo>
                      <a:pt x="608" y="165"/>
                    </a:lnTo>
                    <a:lnTo>
                      <a:pt x="616" y="180"/>
                    </a:lnTo>
                    <a:lnTo>
                      <a:pt x="622" y="194"/>
                    </a:lnTo>
                    <a:lnTo>
                      <a:pt x="628" y="208"/>
                    </a:lnTo>
                    <a:lnTo>
                      <a:pt x="634" y="223"/>
                    </a:lnTo>
                    <a:lnTo>
                      <a:pt x="638" y="238"/>
                    </a:lnTo>
                    <a:lnTo>
                      <a:pt x="643" y="254"/>
                    </a:lnTo>
                    <a:lnTo>
                      <a:pt x="645" y="268"/>
                    </a:lnTo>
                    <a:lnTo>
                      <a:pt x="648" y="284"/>
                    </a:lnTo>
                    <a:lnTo>
                      <a:pt x="649" y="300"/>
                    </a:lnTo>
                    <a:lnTo>
                      <a:pt x="650" y="315"/>
                    </a:lnTo>
                    <a:lnTo>
                      <a:pt x="650" y="331"/>
                    </a:lnTo>
                    <a:lnTo>
                      <a:pt x="650" y="346"/>
                    </a:lnTo>
                    <a:lnTo>
                      <a:pt x="649" y="362"/>
                    </a:lnTo>
                    <a:lnTo>
                      <a:pt x="646" y="378"/>
                    </a:lnTo>
                    <a:lnTo>
                      <a:pt x="643" y="393"/>
                    </a:lnTo>
                    <a:lnTo>
                      <a:pt x="639" y="409"/>
                    </a:lnTo>
                    <a:lnTo>
                      <a:pt x="636" y="424"/>
                    </a:lnTo>
                    <a:lnTo>
                      <a:pt x="631" y="439"/>
                    </a:lnTo>
                    <a:lnTo>
                      <a:pt x="625" y="453"/>
                    </a:lnTo>
                    <a:lnTo>
                      <a:pt x="618" y="469"/>
                    </a:lnTo>
                    <a:lnTo>
                      <a:pt x="610" y="482"/>
                    </a:lnTo>
                    <a:lnTo>
                      <a:pt x="602" y="496"/>
                    </a:lnTo>
                    <a:lnTo>
                      <a:pt x="594" y="510"/>
                    </a:lnTo>
                    <a:lnTo>
                      <a:pt x="584" y="524"/>
                    </a:lnTo>
                    <a:lnTo>
                      <a:pt x="573" y="536"/>
                    </a:lnTo>
                    <a:lnTo>
                      <a:pt x="562" y="549"/>
                    </a:lnTo>
                    <a:lnTo>
                      <a:pt x="550" y="561"/>
                    </a:lnTo>
                    <a:lnTo>
                      <a:pt x="538" y="572"/>
                    </a:lnTo>
                    <a:lnTo>
                      <a:pt x="525" y="583"/>
                    </a:lnTo>
                    <a:lnTo>
                      <a:pt x="512" y="592"/>
                    </a:lnTo>
                    <a:lnTo>
                      <a:pt x="499" y="601"/>
                    </a:lnTo>
                    <a:lnTo>
                      <a:pt x="486" y="609"/>
                    </a:lnTo>
                    <a:lnTo>
                      <a:pt x="471" y="616"/>
                    </a:lnTo>
                    <a:lnTo>
                      <a:pt x="457" y="623"/>
                    </a:lnTo>
                    <a:lnTo>
                      <a:pt x="442" y="629"/>
                    </a:lnTo>
                    <a:lnTo>
                      <a:pt x="427" y="634"/>
                    </a:lnTo>
                    <a:lnTo>
                      <a:pt x="412" y="639"/>
                    </a:lnTo>
                    <a:lnTo>
                      <a:pt x="397" y="643"/>
                    </a:lnTo>
                    <a:lnTo>
                      <a:pt x="381" y="646"/>
                    </a:lnTo>
                    <a:lnTo>
                      <a:pt x="366" y="649"/>
                    </a:lnTo>
                    <a:lnTo>
                      <a:pt x="350" y="650"/>
                    </a:lnTo>
                    <a:lnTo>
                      <a:pt x="334" y="651"/>
                    </a:lnTo>
                    <a:lnTo>
                      <a:pt x="319" y="651"/>
                    </a:lnTo>
                    <a:lnTo>
                      <a:pt x="303" y="650"/>
                    </a:lnTo>
                    <a:lnTo>
                      <a:pt x="288" y="649"/>
                    </a:lnTo>
                    <a:lnTo>
                      <a:pt x="272" y="646"/>
                    </a:lnTo>
                    <a:lnTo>
                      <a:pt x="258" y="644"/>
                    </a:lnTo>
                    <a:lnTo>
                      <a:pt x="242" y="640"/>
                    </a:lnTo>
                    <a:lnTo>
                      <a:pt x="226" y="635"/>
                    </a:lnTo>
                    <a:lnTo>
                      <a:pt x="212" y="631"/>
                    </a:lnTo>
                    <a:lnTo>
                      <a:pt x="196" y="625"/>
                    </a:lnTo>
                    <a:lnTo>
                      <a:pt x="182" y="619"/>
                    </a:lnTo>
                    <a:lnTo>
                      <a:pt x="168" y="611"/>
                    </a:lnTo>
                    <a:lnTo>
                      <a:pt x="154" y="603"/>
                    </a:lnTo>
                    <a:lnTo>
                      <a:pt x="140" y="593"/>
                    </a:lnTo>
                    <a:lnTo>
                      <a:pt x="127" y="584"/>
                    </a:lnTo>
                    <a:lnTo>
                      <a:pt x="115" y="574"/>
                    </a:lnTo>
                    <a:lnTo>
                      <a:pt x="102" y="562"/>
                    </a:lnTo>
                    <a:lnTo>
                      <a:pt x="90" y="551"/>
                    </a:lnTo>
                    <a:lnTo>
                      <a:pt x="79" y="538"/>
                    </a:lnTo>
                    <a:lnTo>
                      <a:pt x="68" y="526"/>
                    </a:lnTo>
                    <a:lnTo>
                      <a:pt x="58" y="513"/>
                    </a:lnTo>
                    <a:lnTo>
                      <a:pt x="50" y="500"/>
                    </a:lnTo>
                    <a:lnTo>
                      <a:pt x="42" y="486"/>
                    </a:lnTo>
                    <a:lnTo>
                      <a:pt x="34" y="472"/>
                    </a:lnTo>
                    <a:lnTo>
                      <a:pt x="27" y="458"/>
                    </a:lnTo>
                    <a:lnTo>
                      <a:pt x="21" y="442"/>
                    </a:lnTo>
                    <a:lnTo>
                      <a:pt x="16" y="428"/>
                    </a:lnTo>
                    <a:lnTo>
                      <a:pt x="12" y="412"/>
                    </a:lnTo>
                    <a:lnTo>
                      <a:pt x="8" y="398"/>
                    </a:lnTo>
                    <a:lnTo>
                      <a:pt x="4" y="382"/>
                    </a:lnTo>
                    <a:lnTo>
                      <a:pt x="2" y="367"/>
                    </a:lnTo>
                    <a:lnTo>
                      <a:pt x="1" y="351"/>
                    </a:lnTo>
                    <a:lnTo>
                      <a:pt x="0" y="336"/>
                    </a:lnTo>
                    <a:lnTo>
                      <a:pt x="0" y="320"/>
                    </a:lnTo>
                    <a:lnTo>
                      <a:pt x="0" y="304"/>
                    </a:lnTo>
                    <a:lnTo>
                      <a:pt x="2" y="289"/>
                    </a:lnTo>
                    <a:lnTo>
                      <a:pt x="3" y="273"/>
                    </a:lnTo>
                    <a:lnTo>
                      <a:pt x="7" y="258"/>
                    </a:lnTo>
                    <a:lnTo>
                      <a:pt x="10" y="242"/>
                    </a:lnTo>
                    <a:lnTo>
                      <a:pt x="14" y="228"/>
                    </a:lnTo>
                    <a:lnTo>
                      <a:pt x="20" y="212"/>
                    </a:lnTo>
                    <a:lnTo>
                      <a:pt x="26" y="198"/>
                    </a:lnTo>
                    <a:lnTo>
                      <a:pt x="32" y="183"/>
                    </a:lnTo>
                    <a:lnTo>
                      <a:pt x="39" y="169"/>
                    </a:lnTo>
                    <a:lnTo>
                      <a:pt x="48" y="154"/>
                    </a:lnTo>
                    <a:lnTo>
                      <a:pt x="56" y="141"/>
                    </a:lnTo>
                    <a:lnTo>
                      <a:pt x="66" y="128"/>
                    </a:lnTo>
                    <a:lnTo>
                      <a:pt x="76" y="115"/>
                    </a:lnTo>
                    <a:lnTo>
                      <a:pt x="87" y="103"/>
                    </a:lnTo>
                    <a:close/>
                  </a:path>
                </a:pathLst>
              </a:custGeom>
              <a:solidFill>
                <a:srgbClr val="926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198520" y="4794120"/>
                <a:ext cx="193680" cy="52560"/>
              </a:xfrm>
              <a:custGeom>
                <a:avLst/>
                <a:gdLst/>
                <a:ahLst/>
                <a:rect l="l" t="t" r="r" b="b"/>
                <a:pathLst>
                  <a:path w="485" h="132">
                    <a:moveTo>
                      <a:pt x="485" y="92"/>
                    </a:moveTo>
                    <a:lnTo>
                      <a:pt x="485" y="92"/>
                    </a:lnTo>
                    <a:lnTo>
                      <a:pt x="472" y="81"/>
                    </a:lnTo>
                    <a:lnTo>
                      <a:pt x="459" y="71"/>
                    </a:lnTo>
                    <a:lnTo>
                      <a:pt x="444" y="60"/>
                    </a:lnTo>
                    <a:lnTo>
                      <a:pt x="430" y="50"/>
                    </a:lnTo>
                    <a:lnTo>
                      <a:pt x="415" y="42"/>
                    </a:lnTo>
                    <a:lnTo>
                      <a:pt x="400" y="35"/>
                    </a:lnTo>
                    <a:lnTo>
                      <a:pt x="385" y="27"/>
                    </a:lnTo>
                    <a:lnTo>
                      <a:pt x="370" y="21"/>
                    </a:lnTo>
                    <a:lnTo>
                      <a:pt x="353" y="15"/>
                    </a:lnTo>
                    <a:lnTo>
                      <a:pt x="337" y="11"/>
                    </a:lnTo>
                    <a:lnTo>
                      <a:pt x="322" y="7"/>
                    </a:lnTo>
                    <a:lnTo>
                      <a:pt x="305" y="5"/>
                    </a:lnTo>
                    <a:lnTo>
                      <a:pt x="288" y="2"/>
                    </a:lnTo>
                    <a:lnTo>
                      <a:pt x="273" y="1"/>
                    </a:lnTo>
                    <a:lnTo>
                      <a:pt x="256" y="0"/>
                    </a:lnTo>
                    <a:lnTo>
                      <a:pt x="239" y="0"/>
                    </a:lnTo>
                    <a:lnTo>
                      <a:pt x="223" y="1"/>
                    </a:lnTo>
                    <a:lnTo>
                      <a:pt x="207" y="2"/>
                    </a:lnTo>
                    <a:lnTo>
                      <a:pt x="190" y="5"/>
                    </a:lnTo>
                    <a:lnTo>
                      <a:pt x="174" y="8"/>
                    </a:lnTo>
                    <a:lnTo>
                      <a:pt x="159" y="12"/>
                    </a:lnTo>
                    <a:lnTo>
                      <a:pt x="142" y="17"/>
                    </a:lnTo>
                    <a:lnTo>
                      <a:pt x="126" y="23"/>
                    </a:lnTo>
                    <a:lnTo>
                      <a:pt x="111" y="29"/>
                    </a:lnTo>
                    <a:lnTo>
                      <a:pt x="96" y="36"/>
                    </a:lnTo>
                    <a:lnTo>
                      <a:pt x="81" y="44"/>
                    </a:lnTo>
                    <a:lnTo>
                      <a:pt x="66" y="53"/>
                    </a:lnTo>
                    <a:lnTo>
                      <a:pt x="53" y="62"/>
                    </a:lnTo>
                    <a:lnTo>
                      <a:pt x="39" y="72"/>
                    </a:lnTo>
                    <a:lnTo>
                      <a:pt x="25" y="84"/>
                    </a:lnTo>
                    <a:lnTo>
                      <a:pt x="12" y="95"/>
                    </a:lnTo>
                    <a:lnTo>
                      <a:pt x="0" y="108"/>
                    </a:lnTo>
                    <a:lnTo>
                      <a:pt x="25" y="132"/>
                    </a:lnTo>
                    <a:lnTo>
                      <a:pt x="36" y="120"/>
                    </a:lnTo>
                    <a:lnTo>
                      <a:pt x="48" y="109"/>
                    </a:lnTo>
                    <a:lnTo>
                      <a:pt x="60" y="99"/>
                    </a:lnTo>
                    <a:lnTo>
                      <a:pt x="72" y="91"/>
                    </a:lnTo>
                    <a:lnTo>
                      <a:pt x="85" y="81"/>
                    </a:lnTo>
                    <a:lnTo>
                      <a:pt x="99" y="74"/>
                    </a:lnTo>
                    <a:lnTo>
                      <a:pt x="112" y="67"/>
                    </a:lnTo>
                    <a:lnTo>
                      <a:pt x="125" y="61"/>
                    </a:lnTo>
                    <a:lnTo>
                      <a:pt x="139" y="55"/>
                    </a:lnTo>
                    <a:lnTo>
                      <a:pt x="153" y="50"/>
                    </a:lnTo>
                    <a:lnTo>
                      <a:pt x="167" y="45"/>
                    </a:lnTo>
                    <a:lnTo>
                      <a:pt x="181" y="42"/>
                    </a:lnTo>
                    <a:lnTo>
                      <a:pt x="196" y="39"/>
                    </a:lnTo>
                    <a:lnTo>
                      <a:pt x="211" y="37"/>
                    </a:lnTo>
                    <a:lnTo>
                      <a:pt x="226" y="36"/>
                    </a:lnTo>
                    <a:lnTo>
                      <a:pt x="240" y="35"/>
                    </a:lnTo>
                    <a:lnTo>
                      <a:pt x="256" y="35"/>
                    </a:lnTo>
                    <a:lnTo>
                      <a:pt x="270" y="35"/>
                    </a:lnTo>
                    <a:lnTo>
                      <a:pt x="285" y="37"/>
                    </a:lnTo>
                    <a:lnTo>
                      <a:pt x="300" y="38"/>
                    </a:lnTo>
                    <a:lnTo>
                      <a:pt x="315" y="41"/>
                    </a:lnTo>
                    <a:lnTo>
                      <a:pt x="329" y="44"/>
                    </a:lnTo>
                    <a:lnTo>
                      <a:pt x="343" y="49"/>
                    </a:lnTo>
                    <a:lnTo>
                      <a:pt x="358" y="54"/>
                    </a:lnTo>
                    <a:lnTo>
                      <a:pt x="371" y="59"/>
                    </a:lnTo>
                    <a:lnTo>
                      <a:pt x="385" y="66"/>
                    </a:lnTo>
                    <a:lnTo>
                      <a:pt x="399" y="72"/>
                    </a:lnTo>
                    <a:lnTo>
                      <a:pt x="412" y="80"/>
                    </a:lnTo>
                    <a:lnTo>
                      <a:pt x="425" y="89"/>
                    </a:lnTo>
                    <a:lnTo>
                      <a:pt x="437" y="97"/>
                    </a:lnTo>
                    <a:lnTo>
                      <a:pt x="449" y="108"/>
                    </a:lnTo>
                    <a:lnTo>
                      <a:pt x="461" y="117"/>
                    </a:lnTo>
                    <a:lnTo>
                      <a:pt x="461" y="117"/>
                    </a:lnTo>
                    <a:lnTo>
                      <a:pt x="485" y="9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382840" y="4830840"/>
                <a:ext cx="52200" cy="191880"/>
              </a:xfrm>
              <a:custGeom>
                <a:avLst/>
                <a:gdLst/>
                <a:ahLst/>
                <a:rect l="l" t="t" r="r" b="b"/>
                <a:pathLst>
                  <a:path w="132" h="486">
                    <a:moveTo>
                      <a:pt x="38" y="486"/>
                    </a:moveTo>
                    <a:lnTo>
                      <a:pt x="38" y="486"/>
                    </a:lnTo>
                    <a:lnTo>
                      <a:pt x="50" y="473"/>
                    </a:lnTo>
                    <a:lnTo>
                      <a:pt x="61" y="459"/>
                    </a:lnTo>
                    <a:lnTo>
                      <a:pt x="72" y="445"/>
                    </a:lnTo>
                    <a:lnTo>
                      <a:pt x="80" y="431"/>
                    </a:lnTo>
                    <a:lnTo>
                      <a:pt x="90" y="415"/>
                    </a:lnTo>
                    <a:lnTo>
                      <a:pt x="97" y="401"/>
                    </a:lnTo>
                    <a:lnTo>
                      <a:pt x="104" y="385"/>
                    </a:lnTo>
                    <a:lnTo>
                      <a:pt x="110" y="370"/>
                    </a:lnTo>
                    <a:lnTo>
                      <a:pt x="116" y="354"/>
                    </a:lnTo>
                    <a:lnTo>
                      <a:pt x="120" y="339"/>
                    </a:lnTo>
                    <a:lnTo>
                      <a:pt x="125" y="322"/>
                    </a:lnTo>
                    <a:lnTo>
                      <a:pt x="127" y="306"/>
                    </a:lnTo>
                    <a:lnTo>
                      <a:pt x="130" y="289"/>
                    </a:lnTo>
                    <a:lnTo>
                      <a:pt x="131" y="273"/>
                    </a:lnTo>
                    <a:lnTo>
                      <a:pt x="132" y="257"/>
                    </a:lnTo>
                    <a:lnTo>
                      <a:pt x="132" y="240"/>
                    </a:lnTo>
                    <a:lnTo>
                      <a:pt x="131" y="223"/>
                    </a:lnTo>
                    <a:lnTo>
                      <a:pt x="128" y="208"/>
                    </a:lnTo>
                    <a:lnTo>
                      <a:pt x="126" y="191"/>
                    </a:lnTo>
                    <a:lnTo>
                      <a:pt x="124" y="174"/>
                    </a:lnTo>
                    <a:lnTo>
                      <a:pt x="119" y="159"/>
                    </a:lnTo>
                    <a:lnTo>
                      <a:pt x="114" y="143"/>
                    </a:lnTo>
                    <a:lnTo>
                      <a:pt x="109" y="127"/>
                    </a:lnTo>
                    <a:lnTo>
                      <a:pt x="103" y="112"/>
                    </a:lnTo>
                    <a:lnTo>
                      <a:pt x="96" y="96"/>
                    </a:lnTo>
                    <a:lnTo>
                      <a:pt x="88" y="82"/>
                    </a:lnTo>
                    <a:lnTo>
                      <a:pt x="79" y="67"/>
                    </a:lnTo>
                    <a:lnTo>
                      <a:pt x="70" y="53"/>
                    </a:lnTo>
                    <a:lnTo>
                      <a:pt x="59" y="40"/>
                    </a:lnTo>
                    <a:lnTo>
                      <a:pt x="48" y="25"/>
                    </a:lnTo>
                    <a:lnTo>
                      <a:pt x="36" y="13"/>
                    </a:lnTo>
                    <a:lnTo>
                      <a:pt x="24" y="0"/>
                    </a:lnTo>
                    <a:lnTo>
                      <a:pt x="0" y="25"/>
                    </a:lnTo>
                    <a:lnTo>
                      <a:pt x="12" y="37"/>
                    </a:lnTo>
                    <a:lnTo>
                      <a:pt x="22" y="48"/>
                    </a:lnTo>
                    <a:lnTo>
                      <a:pt x="32" y="60"/>
                    </a:lnTo>
                    <a:lnTo>
                      <a:pt x="41" y="73"/>
                    </a:lnTo>
                    <a:lnTo>
                      <a:pt x="49" y="85"/>
                    </a:lnTo>
                    <a:lnTo>
                      <a:pt x="58" y="99"/>
                    </a:lnTo>
                    <a:lnTo>
                      <a:pt x="65" y="112"/>
                    </a:lnTo>
                    <a:lnTo>
                      <a:pt x="71" y="126"/>
                    </a:lnTo>
                    <a:lnTo>
                      <a:pt x="77" y="139"/>
                    </a:lnTo>
                    <a:lnTo>
                      <a:pt x="82" y="154"/>
                    </a:lnTo>
                    <a:lnTo>
                      <a:pt x="86" y="168"/>
                    </a:lnTo>
                    <a:lnTo>
                      <a:pt x="90" y="183"/>
                    </a:lnTo>
                    <a:lnTo>
                      <a:pt x="92" y="197"/>
                    </a:lnTo>
                    <a:lnTo>
                      <a:pt x="95" y="211"/>
                    </a:lnTo>
                    <a:lnTo>
                      <a:pt x="96" y="226"/>
                    </a:lnTo>
                    <a:lnTo>
                      <a:pt x="97" y="241"/>
                    </a:lnTo>
                    <a:lnTo>
                      <a:pt x="97" y="256"/>
                    </a:lnTo>
                    <a:lnTo>
                      <a:pt x="96" y="271"/>
                    </a:lnTo>
                    <a:lnTo>
                      <a:pt x="95" y="286"/>
                    </a:lnTo>
                    <a:lnTo>
                      <a:pt x="94" y="300"/>
                    </a:lnTo>
                    <a:lnTo>
                      <a:pt x="90" y="315"/>
                    </a:lnTo>
                    <a:lnTo>
                      <a:pt x="86" y="329"/>
                    </a:lnTo>
                    <a:lnTo>
                      <a:pt x="83" y="343"/>
                    </a:lnTo>
                    <a:lnTo>
                      <a:pt x="78" y="358"/>
                    </a:lnTo>
                    <a:lnTo>
                      <a:pt x="72" y="372"/>
                    </a:lnTo>
                    <a:lnTo>
                      <a:pt x="66" y="385"/>
                    </a:lnTo>
                    <a:lnTo>
                      <a:pt x="59" y="399"/>
                    </a:lnTo>
                    <a:lnTo>
                      <a:pt x="52" y="412"/>
                    </a:lnTo>
                    <a:lnTo>
                      <a:pt x="43" y="425"/>
                    </a:lnTo>
                    <a:lnTo>
                      <a:pt x="34" y="438"/>
                    </a:lnTo>
                    <a:lnTo>
                      <a:pt x="24" y="450"/>
                    </a:lnTo>
                    <a:lnTo>
                      <a:pt x="13" y="462"/>
                    </a:lnTo>
                    <a:lnTo>
                      <a:pt x="13" y="462"/>
                    </a:lnTo>
                    <a:lnTo>
                      <a:pt x="38" y="486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205000" y="5013360"/>
                <a:ext cx="191880" cy="52200"/>
              </a:xfrm>
              <a:custGeom>
                <a:avLst/>
                <a:gdLst/>
                <a:ahLst/>
                <a:rect l="l" t="t" r="r" b="b"/>
                <a:pathLst>
                  <a:path w="484" h="131">
                    <a:moveTo>
                      <a:pt x="0" y="38"/>
                    </a:moveTo>
                    <a:lnTo>
                      <a:pt x="0" y="38"/>
                    </a:lnTo>
                    <a:lnTo>
                      <a:pt x="13" y="50"/>
                    </a:lnTo>
                    <a:lnTo>
                      <a:pt x="27" y="61"/>
                    </a:lnTo>
                    <a:lnTo>
                      <a:pt x="40" y="71"/>
                    </a:lnTo>
                    <a:lnTo>
                      <a:pt x="55" y="80"/>
                    </a:lnTo>
                    <a:lnTo>
                      <a:pt x="69" y="89"/>
                    </a:lnTo>
                    <a:lnTo>
                      <a:pt x="85" y="97"/>
                    </a:lnTo>
                    <a:lnTo>
                      <a:pt x="100" y="103"/>
                    </a:lnTo>
                    <a:lnTo>
                      <a:pt x="116" y="110"/>
                    </a:lnTo>
                    <a:lnTo>
                      <a:pt x="132" y="115"/>
                    </a:lnTo>
                    <a:lnTo>
                      <a:pt x="147" y="120"/>
                    </a:lnTo>
                    <a:lnTo>
                      <a:pt x="164" y="124"/>
                    </a:lnTo>
                    <a:lnTo>
                      <a:pt x="180" y="127"/>
                    </a:lnTo>
                    <a:lnTo>
                      <a:pt x="196" y="130"/>
                    </a:lnTo>
                    <a:lnTo>
                      <a:pt x="212" y="131"/>
                    </a:lnTo>
                    <a:lnTo>
                      <a:pt x="229" y="131"/>
                    </a:lnTo>
                    <a:lnTo>
                      <a:pt x="246" y="131"/>
                    </a:lnTo>
                    <a:lnTo>
                      <a:pt x="262" y="130"/>
                    </a:lnTo>
                    <a:lnTo>
                      <a:pt x="278" y="128"/>
                    </a:lnTo>
                    <a:lnTo>
                      <a:pt x="295" y="126"/>
                    </a:lnTo>
                    <a:lnTo>
                      <a:pt x="310" y="122"/>
                    </a:lnTo>
                    <a:lnTo>
                      <a:pt x="327" y="119"/>
                    </a:lnTo>
                    <a:lnTo>
                      <a:pt x="343" y="114"/>
                    </a:lnTo>
                    <a:lnTo>
                      <a:pt x="358" y="108"/>
                    </a:lnTo>
                    <a:lnTo>
                      <a:pt x="374" y="102"/>
                    </a:lnTo>
                    <a:lnTo>
                      <a:pt x="388" y="95"/>
                    </a:lnTo>
                    <a:lnTo>
                      <a:pt x="404" y="88"/>
                    </a:lnTo>
                    <a:lnTo>
                      <a:pt x="418" y="78"/>
                    </a:lnTo>
                    <a:lnTo>
                      <a:pt x="433" y="68"/>
                    </a:lnTo>
                    <a:lnTo>
                      <a:pt x="446" y="59"/>
                    </a:lnTo>
                    <a:lnTo>
                      <a:pt x="459" y="48"/>
                    </a:lnTo>
                    <a:lnTo>
                      <a:pt x="472" y="36"/>
                    </a:lnTo>
                    <a:lnTo>
                      <a:pt x="484" y="24"/>
                    </a:lnTo>
                    <a:lnTo>
                      <a:pt x="459" y="0"/>
                    </a:lnTo>
                    <a:lnTo>
                      <a:pt x="448" y="11"/>
                    </a:lnTo>
                    <a:lnTo>
                      <a:pt x="436" y="22"/>
                    </a:lnTo>
                    <a:lnTo>
                      <a:pt x="424" y="31"/>
                    </a:lnTo>
                    <a:lnTo>
                      <a:pt x="412" y="41"/>
                    </a:lnTo>
                    <a:lnTo>
                      <a:pt x="399" y="49"/>
                    </a:lnTo>
                    <a:lnTo>
                      <a:pt x="387" y="56"/>
                    </a:lnTo>
                    <a:lnTo>
                      <a:pt x="374" y="64"/>
                    </a:lnTo>
                    <a:lnTo>
                      <a:pt x="360" y="71"/>
                    </a:lnTo>
                    <a:lnTo>
                      <a:pt x="346" y="76"/>
                    </a:lnTo>
                    <a:lnTo>
                      <a:pt x="332" y="80"/>
                    </a:lnTo>
                    <a:lnTo>
                      <a:pt x="318" y="85"/>
                    </a:lnTo>
                    <a:lnTo>
                      <a:pt x="303" y="89"/>
                    </a:lnTo>
                    <a:lnTo>
                      <a:pt x="289" y="92"/>
                    </a:lnTo>
                    <a:lnTo>
                      <a:pt x="274" y="94"/>
                    </a:lnTo>
                    <a:lnTo>
                      <a:pt x="259" y="96"/>
                    </a:lnTo>
                    <a:lnTo>
                      <a:pt x="244" y="96"/>
                    </a:lnTo>
                    <a:lnTo>
                      <a:pt x="230" y="96"/>
                    </a:lnTo>
                    <a:lnTo>
                      <a:pt x="214" y="96"/>
                    </a:lnTo>
                    <a:lnTo>
                      <a:pt x="200" y="95"/>
                    </a:lnTo>
                    <a:lnTo>
                      <a:pt x="186" y="92"/>
                    </a:lnTo>
                    <a:lnTo>
                      <a:pt x="170" y="90"/>
                    </a:lnTo>
                    <a:lnTo>
                      <a:pt x="156" y="86"/>
                    </a:lnTo>
                    <a:lnTo>
                      <a:pt x="141" y="83"/>
                    </a:lnTo>
                    <a:lnTo>
                      <a:pt x="128" y="77"/>
                    </a:lnTo>
                    <a:lnTo>
                      <a:pt x="114" y="72"/>
                    </a:lnTo>
                    <a:lnTo>
                      <a:pt x="100" y="66"/>
                    </a:lnTo>
                    <a:lnTo>
                      <a:pt x="86" y="59"/>
                    </a:lnTo>
                    <a:lnTo>
                      <a:pt x="73" y="50"/>
                    </a:lnTo>
                    <a:lnTo>
                      <a:pt x="61" y="42"/>
                    </a:lnTo>
                    <a:lnTo>
                      <a:pt x="48" y="34"/>
                    </a:lnTo>
                    <a:lnTo>
                      <a:pt x="36" y="24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162160" y="4836960"/>
                <a:ext cx="52200" cy="192240"/>
              </a:xfrm>
              <a:custGeom>
                <a:avLst/>
                <a:gdLst/>
                <a:ahLst/>
                <a:rect l="l" t="t" r="r" b="b"/>
                <a:pathLst>
                  <a:path w="132" h="484">
                    <a:moveTo>
                      <a:pt x="93" y="0"/>
                    </a:moveTo>
                    <a:lnTo>
                      <a:pt x="93" y="0"/>
                    </a:lnTo>
                    <a:lnTo>
                      <a:pt x="81" y="13"/>
                    </a:lnTo>
                    <a:lnTo>
                      <a:pt x="70" y="26"/>
                    </a:lnTo>
                    <a:lnTo>
                      <a:pt x="61" y="41"/>
                    </a:lnTo>
                    <a:lnTo>
                      <a:pt x="51" y="55"/>
                    </a:lnTo>
                    <a:lnTo>
                      <a:pt x="43" y="69"/>
                    </a:lnTo>
                    <a:lnTo>
                      <a:pt x="34" y="84"/>
                    </a:lnTo>
                    <a:lnTo>
                      <a:pt x="27" y="99"/>
                    </a:lnTo>
                    <a:lnTo>
                      <a:pt x="21" y="115"/>
                    </a:lnTo>
                    <a:lnTo>
                      <a:pt x="16" y="131"/>
                    </a:lnTo>
                    <a:lnTo>
                      <a:pt x="12" y="147"/>
                    </a:lnTo>
                    <a:lnTo>
                      <a:pt x="8" y="163"/>
                    </a:lnTo>
                    <a:lnTo>
                      <a:pt x="4" y="180"/>
                    </a:lnTo>
                    <a:lnTo>
                      <a:pt x="2" y="195"/>
                    </a:lnTo>
                    <a:lnTo>
                      <a:pt x="1" y="212"/>
                    </a:lnTo>
                    <a:lnTo>
                      <a:pt x="0" y="229"/>
                    </a:lnTo>
                    <a:lnTo>
                      <a:pt x="1" y="245"/>
                    </a:lnTo>
                    <a:lnTo>
                      <a:pt x="1" y="261"/>
                    </a:lnTo>
                    <a:lnTo>
                      <a:pt x="3" y="278"/>
                    </a:lnTo>
                    <a:lnTo>
                      <a:pt x="6" y="294"/>
                    </a:lnTo>
                    <a:lnTo>
                      <a:pt x="8" y="311"/>
                    </a:lnTo>
                    <a:lnTo>
                      <a:pt x="13" y="326"/>
                    </a:lnTo>
                    <a:lnTo>
                      <a:pt x="18" y="342"/>
                    </a:lnTo>
                    <a:lnTo>
                      <a:pt x="22" y="357"/>
                    </a:lnTo>
                    <a:lnTo>
                      <a:pt x="30" y="373"/>
                    </a:lnTo>
                    <a:lnTo>
                      <a:pt x="37" y="389"/>
                    </a:lnTo>
                    <a:lnTo>
                      <a:pt x="44" y="403"/>
                    </a:lnTo>
                    <a:lnTo>
                      <a:pt x="52" y="417"/>
                    </a:lnTo>
                    <a:lnTo>
                      <a:pt x="62" y="432"/>
                    </a:lnTo>
                    <a:lnTo>
                      <a:pt x="73" y="446"/>
                    </a:lnTo>
                    <a:lnTo>
                      <a:pt x="84" y="459"/>
                    </a:lnTo>
                    <a:lnTo>
                      <a:pt x="96" y="472"/>
                    </a:lnTo>
                    <a:lnTo>
                      <a:pt x="108" y="484"/>
                    </a:lnTo>
                    <a:lnTo>
                      <a:pt x="132" y="459"/>
                    </a:lnTo>
                    <a:lnTo>
                      <a:pt x="121" y="449"/>
                    </a:lnTo>
                    <a:lnTo>
                      <a:pt x="110" y="437"/>
                    </a:lnTo>
                    <a:lnTo>
                      <a:pt x="100" y="425"/>
                    </a:lnTo>
                    <a:lnTo>
                      <a:pt x="91" y="413"/>
                    </a:lnTo>
                    <a:lnTo>
                      <a:pt x="82" y="399"/>
                    </a:lnTo>
                    <a:lnTo>
                      <a:pt x="74" y="386"/>
                    </a:lnTo>
                    <a:lnTo>
                      <a:pt x="68" y="373"/>
                    </a:lnTo>
                    <a:lnTo>
                      <a:pt x="61" y="360"/>
                    </a:lnTo>
                    <a:lnTo>
                      <a:pt x="55" y="345"/>
                    </a:lnTo>
                    <a:lnTo>
                      <a:pt x="50" y="331"/>
                    </a:lnTo>
                    <a:lnTo>
                      <a:pt x="46" y="318"/>
                    </a:lnTo>
                    <a:lnTo>
                      <a:pt x="43" y="303"/>
                    </a:lnTo>
                    <a:lnTo>
                      <a:pt x="39" y="288"/>
                    </a:lnTo>
                    <a:lnTo>
                      <a:pt x="37" y="273"/>
                    </a:lnTo>
                    <a:lnTo>
                      <a:pt x="36" y="259"/>
                    </a:lnTo>
                    <a:lnTo>
                      <a:pt x="34" y="245"/>
                    </a:lnTo>
                    <a:lnTo>
                      <a:pt x="34" y="229"/>
                    </a:lnTo>
                    <a:lnTo>
                      <a:pt x="36" y="215"/>
                    </a:lnTo>
                    <a:lnTo>
                      <a:pt x="37" y="199"/>
                    </a:lnTo>
                    <a:lnTo>
                      <a:pt x="39" y="185"/>
                    </a:lnTo>
                    <a:lnTo>
                      <a:pt x="42" y="170"/>
                    </a:lnTo>
                    <a:lnTo>
                      <a:pt x="45" y="156"/>
                    </a:lnTo>
                    <a:lnTo>
                      <a:pt x="49" y="141"/>
                    </a:lnTo>
                    <a:lnTo>
                      <a:pt x="54" y="127"/>
                    </a:lnTo>
                    <a:lnTo>
                      <a:pt x="60" y="114"/>
                    </a:lnTo>
                    <a:lnTo>
                      <a:pt x="66" y="99"/>
                    </a:lnTo>
                    <a:lnTo>
                      <a:pt x="73" y="86"/>
                    </a:lnTo>
                    <a:lnTo>
                      <a:pt x="80" y="73"/>
                    </a:lnTo>
                    <a:lnTo>
                      <a:pt x="88" y="60"/>
                    </a:lnTo>
                    <a:lnTo>
                      <a:pt x="98" y="48"/>
                    </a:lnTo>
                    <a:lnTo>
                      <a:pt x="108" y="35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708360" y="4570560"/>
                <a:ext cx="323640" cy="323640"/>
              </a:xfrm>
              <a:custGeom>
                <a:avLst/>
                <a:gdLst/>
                <a:ahLst/>
                <a:rect l="l" t="t" r="r" b="b"/>
                <a:pathLst>
                  <a:path w="816" h="816">
                    <a:moveTo>
                      <a:pt x="408" y="0"/>
                    </a:moveTo>
                    <a:lnTo>
                      <a:pt x="428" y="0"/>
                    </a:lnTo>
                    <a:lnTo>
                      <a:pt x="450" y="3"/>
                    </a:lnTo>
                    <a:lnTo>
                      <a:pt x="469" y="5"/>
                    </a:lnTo>
                    <a:lnTo>
                      <a:pt x="489" y="9"/>
                    </a:lnTo>
                    <a:lnTo>
                      <a:pt x="510" y="13"/>
                    </a:lnTo>
                    <a:lnTo>
                      <a:pt x="529" y="18"/>
                    </a:lnTo>
                    <a:lnTo>
                      <a:pt x="548" y="25"/>
                    </a:lnTo>
                    <a:lnTo>
                      <a:pt x="566" y="33"/>
                    </a:lnTo>
                    <a:lnTo>
                      <a:pt x="584" y="41"/>
                    </a:lnTo>
                    <a:lnTo>
                      <a:pt x="602" y="49"/>
                    </a:lnTo>
                    <a:lnTo>
                      <a:pt x="619" y="59"/>
                    </a:lnTo>
                    <a:lnTo>
                      <a:pt x="636" y="70"/>
                    </a:lnTo>
                    <a:lnTo>
                      <a:pt x="651" y="82"/>
                    </a:lnTo>
                    <a:lnTo>
                      <a:pt x="667" y="94"/>
                    </a:lnTo>
                    <a:lnTo>
                      <a:pt x="681" y="107"/>
                    </a:lnTo>
                    <a:lnTo>
                      <a:pt x="696" y="120"/>
                    </a:lnTo>
                    <a:lnTo>
                      <a:pt x="709" y="135"/>
                    </a:lnTo>
                    <a:lnTo>
                      <a:pt x="722" y="149"/>
                    </a:lnTo>
                    <a:lnTo>
                      <a:pt x="734" y="165"/>
                    </a:lnTo>
                    <a:lnTo>
                      <a:pt x="746" y="180"/>
                    </a:lnTo>
                    <a:lnTo>
                      <a:pt x="756" y="197"/>
                    </a:lnTo>
                    <a:lnTo>
                      <a:pt x="767" y="214"/>
                    </a:lnTo>
                    <a:lnTo>
                      <a:pt x="775" y="232"/>
                    </a:lnTo>
                    <a:lnTo>
                      <a:pt x="783" y="250"/>
                    </a:lnTo>
                    <a:lnTo>
                      <a:pt x="791" y="268"/>
                    </a:lnTo>
                    <a:lnTo>
                      <a:pt x="797" y="287"/>
                    </a:lnTo>
                    <a:lnTo>
                      <a:pt x="803" y="306"/>
                    </a:lnTo>
                    <a:lnTo>
                      <a:pt x="807" y="327"/>
                    </a:lnTo>
                    <a:lnTo>
                      <a:pt x="811" y="346"/>
                    </a:lnTo>
                    <a:lnTo>
                      <a:pt x="813" y="366"/>
                    </a:lnTo>
                    <a:lnTo>
                      <a:pt x="815" y="386"/>
                    </a:lnTo>
                    <a:lnTo>
                      <a:pt x="816" y="408"/>
                    </a:lnTo>
                    <a:lnTo>
                      <a:pt x="815" y="428"/>
                    </a:lnTo>
                    <a:lnTo>
                      <a:pt x="813" y="450"/>
                    </a:lnTo>
                    <a:lnTo>
                      <a:pt x="811" y="470"/>
                    </a:lnTo>
                    <a:lnTo>
                      <a:pt x="807" y="490"/>
                    </a:lnTo>
                    <a:lnTo>
                      <a:pt x="803" y="510"/>
                    </a:lnTo>
                    <a:lnTo>
                      <a:pt x="797" y="529"/>
                    </a:lnTo>
                    <a:lnTo>
                      <a:pt x="791" y="548"/>
                    </a:lnTo>
                    <a:lnTo>
                      <a:pt x="783" y="566"/>
                    </a:lnTo>
                    <a:lnTo>
                      <a:pt x="775" y="584"/>
                    </a:lnTo>
                    <a:lnTo>
                      <a:pt x="767" y="602"/>
                    </a:lnTo>
                    <a:lnTo>
                      <a:pt x="756" y="619"/>
                    </a:lnTo>
                    <a:lnTo>
                      <a:pt x="746" y="636"/>
                    </a:lnTo>
                    <a:lnTo>
                      <a:pt x="734" y="652"/>
                    </a:lnTo>
                    <a:lnTo>
                      <a:pt x="722" y="667"/>
                    </a:lnTo>
                    <a:lnTo>
                      <a:pt x="709" y="682"/>
                    </a:lnTo>
                    <a:lnTo>
                      <a:pt x="696" y="696"/>
                    </a:lnTo>
                    <a:lnTo>
                      <a:pt x="681" y="709"/>
                    </a:lnTo>
                    <a:lnTo>
                      <a:pt x="667" y="722"/>
                    </a:lnTo>
                    <a:lnTo>
                      <a:pt x="651" y="734"/>
                    </a:lnTo>
                    <a:lnTo>
                      <a:pt x="636" y="746"/>
                    </a:lnTo>
                    <a:lnTo>
                      <a:pt x="619" y="756"/>
                    </a:lnTo>
                    <a:lnTo>
                      <a:pt x="602" y="767"/>
                    </a:lnTo>
                    <a:lnTo>
                      <a:pt x="584" y="775"/>
                    </a:lnTo>
                    <a:lnTo>
                      <a:pt x="566" y="784"/>
                    </a:lnTo>
                    <a:lnTo>
                      <a:pt x="548" y="791"/>
                    </a:lnTo>
                    <a:lnTo>
                      <a:pt x="529" y="797"/>
                    </a:lnTo>
                    <a:lnTo>
                      <a:pt x="510" y="803"/>
                    </a:lnTo>
                    <a:lnTo>
                      <a:pt x="489" y="808"/>
                    </a:lnTo>
                    <a:lnTo>
                      <a:pt x="469" y="811"/>
                    </a:lnTo>
                    <a:lnTo>
                      <a:pt x="450" y="814"/>
                    </a:lnTo>
                    <a:lnTo>
                      <a:pt x="428" y="815"/>
                    </a:lnTo>
                    <a:lnTo>
                      <a:pt x="408" y="816"/>
                    </a:lnTo>
                    <a:lnTo>
                      <a:pt x="386" y="815"/>
                    </a:lnTo>
                    <a:lnTo>
                      <a:pt x="366" y="814"/>
                    </a:lnTo>
                    <a:lnTo>
                      <a:pt x="345" y="811"/>
                    </a:lnTo>
                    <a:lnTo>
                      <a:pt x="326" y="808"/>
                    </a:lnTo>
                    <a:lnTo>
                      <a:pt x="306" y="803"/>
                    </a:lnTo>
                    <a:lnTo>
                      <a:pt x="287" y="797"/>
                    </a:lnTo>
                    <a:lnTo>
                      <a:pt x="267" y="791"/>
                    </a:lnTo>
                    <a:lnTo>
                      <a:pt x="249" y="784"/>
                    </a:lnTo>
                    <a:lnTo>
                      <a:pt x="231" y="775"/>
                    </a:lnTo>
                    <a:lnTo>
                      <a:pt x="213" y="767"/>
                    </a:lnTo>
                    <a:lnTo>
                      <a:pt x="197" y="756"/>
                    </a:lnTo>
                    <a:lnTo>
                      <a:pt x="180" y="746"/>
                    </a:lnTo>
                    <a:lnTo>
                      <a:pt x="164" y="734"/>
                    </a:lnTo>
                    <a:lnTo>
                      <a:pt x="149" y="722"/>
                    </a:lnTo>
                    <a:lnTo>
                      <a:pt x="134" y="709"/>
                    </a:lnTo>
                    <a:lnTo>
                      <a:pt x="120" y="696"/>
                    </a:lnTo>
                    <a:lnTo>
                      <a:pt x="105" y="682"/>
                    </a:lnTo>
                    <a:lnTo>
                      <a:pt x="93" y="667"/>
                    </a:lnTo>
                    <a:lnTo>
                      <a:pt x="81" y="652"/>
                    </a:lnTo>
                    <a:lnTo>
                      <a:pt x="69" y="636"/>
                    </a:lnTo>
                    <a:lnTo>
                      <a:pt x="59" y="619"/>
                    </a:lnTo>
                    <a:lnTo>
                      <a:pt x="49" y="602"/>
                    </a:lnTo>
                    <a:lnTo>
                      <a:pt x="41" y="584"/>
                    </a:lnTo>
                    <a:lnTo>
                      <a:pt x="32" y="566"/>
                    </a:lnTo>
                    <a:lnTo>
                      <a:pt x="25" y="548"/>
                    </a:lnTo>
                    <a:lnTo>
                      <a:pt x="18" y="529"/>
                    </a:lnTo>
                    <a:lnTo>
                      <a:pt x="13" y="510"/>
                    </a:lnTo>
                    <a:lnTo>
                      <a:pt x="8" y="490"/>
                    </a:lnTo>
                    <a:lnTo>
                      <a:pt x="5" y="470"/>
                    </a:lnTo>
                    <a:lnTo>
                      <a:pt x="2" y="450"/>
                    </a:lnTo>
                    <a:lnTo>
                      <a:pt x="0" y="428"/>
                    </a:lnTo>
                    <a:lnTo>
                      <a:pt x="0" y="408"/>
                    </a:lnTo>
                    <a:lnTo>
                      <a:pt x="0" y="386"/>
                    </a:lnTo>
                    <a:lnTo>
                      <a:pt x="2" y="366"/>
                    </a:lnTo>
                    <a:lnTo>
                      <a:pt x="5" y="346"/>
                    </a:lnTo>
                    <a:lnTo>
                      <a:pt x="8" y="327"/>
                    </a:lnTo>
                    <a:lnTo>
                      <a:pt x="13" y="306"/>
                    </a:lnTo>
                    <a:lnTo>
                      <a:pt x="18" y="287"/>
                    </a:lnTo>
                    <a:lnTo>
                      <a:pt x="25" y="268"/>
                    </a:lnTo>
                    <a:lnTo>
                      <a:pt x="32" y="250"/>
                    </a:lnTo>
                    <a:lnTo>
                      <a:pt x="41" y="232"/>
                    </a:lnTo>
                    <a:lnTo>
                      <a:pt x="49" y="214"/>
                    </a:lnTo>
                    <a:lnTo>
                      <a:pt x="59" y="197"/>
                    </a:lnTo>
                    <a:lnTo>
                      <a:pt x="69" y="180"/>
                    </a:lnTo>
                    <a:lnTo>
                      <a:pt x="81" y="165"/>
                    </a:lnTo>
                    <a:lnTo>
                      <a:pt x="93" y="149"/>
                    </a:lnTo>
                    <a:lnTo>
                      <a:pt x="105" y="135"/>
                    </a:lnTo>
                    <a:lnTo>
                      <a:pt x="120" y="120"/>
                    </a:lnTo>
                    <a:lnTo>
                      <a:pt x="134" y="107"/>
                    </a:lnTo>
                    <a:lnTo>
                      <a:pt x="149" y="94"/>
                    </a:lnTo>
                    <a:lnTo>
                      <a:pt x="164" y="82"/>
                    </a:lnTo>
                    <a:lnTo>
                      <a:pt x="180" y="70"/>
                    </a:lnTo>
                    <a:lnTo>
                      <a:pt x="197" y="59"/>
                    </a:lnTo>
                    <a:lnTo>
                      <a:pt x="213" y="49"/>
                    </a:lnTo>
                    <a:lnTo>
                      <a:pt x="231" y="41"/>
                    </a:lnTo>
                    <a:lnTo>
                      <a:pt x="249" y="33"/>
                    </a:lnTo>
                    <a:lnTo>
                      <a:pt x="267" y="25"/>
                    </a:lnTo>
                    <a:lnTo>
                      <a:pt x="287" y="18"/>
                    </a:lnTo>
                    <a:lnTo>
                      <a:pt x="306" y="13"/>
                    </a:lnTo>
                    <a:lnTo>
                      <a:pt x="326" y="9"/>
                    </a:lnTo>
                    <a:lnTo>
                      <a:pt x="345" y="5"/>
                    </a:lnTo>
                    <a:lnTo>
                      <a:pt x="366" y="3"/>
                    </a:lnTo>
                    <a:lnTo>
                      <a:pt x="386" y="0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be8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870360" y="456408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425" h="425">
                    <a:moveTo>
                      <a:pt x="425" y="425"/>
                    </a:moveTo>
                    <a:lnTo>
                      <a:pt x="425" y="425"/>
                    </a:lnTo>
                    <a:lnTo>
                      <a:pt x="425" y="403"/>
                    </a:lnTo>
                    <a:lnTo>
                      <a:pt x="422" y="382"/>
                    </a:lnTo>
                    <a:lnTo>
                      <a:pt x="420" y="360"/>
                    </a:lnTo>
                    <a:lnTo>
                      <a:pt x="416" y="340"/>
                    </a:lnTo>
                    <a:lnTo>
                      <a:pt x="411" y="320"/>
                    </a:lnTo>
                    <a:lnTo>
                      <a:pt x="405" y="299"/>
                    </a:lnTo>
                    <a:lnTo>
                      <a:pt x="399" y="279"/>
                    </a:lnTo>
                    <a:lnTo>
                      <a:pt x="391" y="260"/>
                    </a:lnTo>
                    <a:lnTo>
                      <a:pt x="383" y="242"/>
                    </a:lnTo>
                    <a:lnTo>
                      <a:pt x="373" y="222"/>
                    </a:lnTo>
                    <a:lnTo>
                      <a:pt x="363" y="204"/>
                    </a:lnTo>
                    <a:lnTo>
                      <a:pt x="353" y="188"/>
                    </a:lnTo>
                    <a:lnTo>
                      <a:pt x="341" y="171"/>
                    </a:lnTo>
                    <a:lnTo>
                      <a:pt x="327" y="155"/>
                    </a:lnTo>
                    <a:lnTo>
                      <a:pt x="314" y="140"/>
                    </a:lnTo>
                    <a:lnTo>
                      <a:pt x="300" y="125"/>
                    </a:lnTo>
                    <a:lnTo>
                      <a:pt x="285" y="111"/>
                    </a:lnTo>
                    <a:lnTo>
                      <a:pt x="270" y="98"/>
                    </a:lnTo>
                    <a:lnTo>
                      <a:pt x="254" y="84"/>
                    </a:lnTo>
                    <a:lnTo>
                      <a:pt x="237" y="72"/>
                    </a:lnTo>
                    <a:lnTo>
                      <a:pt x="219" y="62"/>
                    </a:lnTo>
                    <a:lnTo>
                      <a:pt x="203" y="51"/>
                    </a:lnTo>
                    <a:lnTo>
                      <a:pt x="183" y="42"/>
                    </a:lnTo>
                    <a:lnTo>
                      <a:pt x="165" y="34"/>
                    </a:lnTo>
                    <a:lnTo>
                      <a:pt x="145" y="26"/>
                    </a:lnTo>
                    <a:lnTo>
                      <a:pt x="126" y="20"/>
                    </a:lnTo>
                    <a:lnTo>
                      <a:pt x="105" y="14"/>
                    </a:lnTo>
                    <a:lnTo>
                      <a:pt x="85" y="9"/>
                    </a:lnTo>
                    <a:lnTo>
                      <a:pt x="65" y="5"/>
                    </a:lnTo>
                    <a:lnTo>
                      <a:pt x="43" y="2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20" y="35"/>
                    </a:lnTo>
                    <a:lnTo>
                      <a:pt x="39" y="36"/>
                    </a:lnTo>
                    <a:lnTo>
                      <a:pt x="59" y="39"/>
                    </a:lnTo>
                    <a:lnTo>
                      <a:pt x="78" y="42"/>
                    </a:lnTo>
                    <a:lnTo>
                      <a:pt x="97" y="47"/>
                    </a:lnTo>
                    <a:lnTo>
                      <a:pt x="115" y="52"/>
                    </a:lnTo>
                    <a:lnTo>
                      <a:pt x="134" y="58"/>
                    </a:lnTo>
                    <a:lnTo>
                      <a:pt x="151" y="65"/>
                    </a:lnTo>
                    <a:lnTo>
                      <a:pt x="169" y="74"/>
                    </a:lnTo>
                    <a:lnTo>
                      <a:pt x="186" y="82"/>
                    </a:lnTo>
                    <a:lnTo>
                      <a:pt x="201" y="92"/>
                    </a:lnTo>
                    <a:lnTo>
                      <a:pt x="218" y="101"/>
                    </a:lnTo>
                    <a:lnTo>
                      <a:pt x="233" y="112"/>
                    </a:lnTo>
                    <a:lnTo>
                      <a:pt x="248" y="124"/>
                    </a:lnTo>
                    <a:lnTo>
                      <a:pt x="261" y="136"/>
                    </a:lnTo>
                    <a:lnTo>
                      <a:pt x="276" y="149"/>
                    </a:lnTo>
                    <a:lnTo>
                      <a:pt x="289" y="162"/>
                    </a:lnTo>
                    <a:lnTo>
                      <a:pt x="301" y="177"/>
                    </a:lnTo>
                    <a:lnTo>
                      <a:pt x="313" y="191"/>
                    </a:lnTo>
                    <a:lnTo>
                      <a:pt x="324" y="207"/>
                    </a:lnTo>
                    <a:lnTo>
                      <a:pt x="333" y="222"/>
                    </a:lnTo>
                    <a:lnTo>
                      <a:pt x="343" y="239"/>
                    </a:lnTo>
                    <a:lnTo>
                      <a:pt x="351" y="256"/>
                    </a:lnTo>
                    <a:lnTo>
                      <a:pt x="360" y="273"/>
                    </a:lnTo>
                    <a:lnTo>
                      <a:pt x="366" y="291"/>
                    </a:lnTo>
                    <a:lnTo>
                      <a:pt x="373" y="309"/>
                    </a:lnTo>
                    <a:lnTo>
                      <a:pt x="378" y="328"/>
                    </a:lnTo>
                    <a:lnTo>
                      <a:pt x="383" y="346"/>
                    </a:lnTo>
                    <a:lnTo>
                      <a:pt x="385" y="365"/>
                    </a:lnTo>
                    <a:lnTo>
                      <a:pt x="389" y="386"/>
                    </a:lnTo>
                    <a:lnTo>
                      <a:pt x="390" y="405"/>
                    </a:lnTo>
                    <a:lnTo>
                      <a:pt x="390" y="425"/>
                    </a:lnTo>
                    <a:lnTo>
                      <a:pt x="390" y="425"/>
                    </a:lnTo>
                    <a:lnTo>
                      <a:pt x="425" y="42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870360" y="4732200"/>
                <a:ext cx="168120" cy="168480"/>
              </a:xfrm>
              <a:custGeom>
                <a:avLst/>
                <a:gdLst/>
                <a:ahLst/>
                <a:rect l="l" t="t" r="r" b="b"/>
                <a:pathLst>
                  <a:path w="425" h="425">
                    <a:moveTo>
                      <a:pt x="0" y="425"/>
                    </a:moveTo>
                    <a:lnTo>
                      <a:pt x="0" y="425"/>
                    </a:lnTo>
                    <a:lnTo>
                      <a:pt x="21" y="425"/>
                    </a:lnTo>
                    <a:lnTo>
                      <a:pt x="43" y="422"/>
                    </a:lnTo>
                    <a:lnTo>
                      <a:pt x="65" y="420"/>
                    </a:lnTo>
                    <a:lnTo>
                      <a:pt x="85" y="416"/>
                    </a:lnTo>
                    <a:lnTo>
                      <a:pt x="105" y="412"/>
                    </a:lnTo>
                    <a:lnTo>
                      <a:pt x="126" y="406"/>
                    </a:lnTo>
                    <a:lnTo>
                      <a:pt x="145" y="400"/>
                    </a:lnTo>
                    <a:lnTo>
                      <a:pt x="165" y="391"/>
                    </a:lnTo>
                    <a:lnTo>
                      <a:pt x="183" y="383"/>
                    </a:lnTo>
                    <a:lnTo>
                      <a:pt x="203" y="373"/>
                    </a:lnTo>
                    <a:lnTo>
                      <a:pt x="219" y="364"/>
                    </a:lnTo>
                    <a:lnTo>
                      <a:pt x="237" y="353"/>
                    </a:lnTo>
                    <a:lnTo>
                      <a:pt x="254" y="341"/>
                    </a:lnTo>
                    <a:lnTo>
                      <a:pt x="270" y="328"/>
                    </a:lnTo>
                    <a:lnTo>
                      <a:pt x="285" y="314"/>
                    </a:lnTo>
                    <a:lnTo>
                      <a:pt x="300" y="300"/>
                    </a:lnTo>
                    <a:lnTo>
                      <a:pt x="314" y="286"/>
                    </a:lnTo>
                    <a:lnTo>
                      <a:pt x="327" y="270"/>
                    </a:lnTo>
                    <a:lnTo>
                      <a:pt x="341" y="254"/>
                    </a:lnTo>
                    <a:lnTo>
                      <a:pt x="353" y="238"/>
                    </a:lnTo>
                    <a:lnTo>
                      <a:pt x="363" y="220"/>
                    </a:lnTo>
                    <a:lnTo>
                      <a:pt x="373" y="203"/>
                    </a:lnTo>
                    <a:lnTo>
                      <a:pt x="383" y="184"/>
                    </a:lnTo>
                    <a:lnTo>
                      <a:pt x="391" y="166"/>
                    </a:lnTo>
                    <a:lnTo>
                      <a:pt x="399" y="146"/>
                    </a:lnTo>
                    <a:lnTo>
                      <a:pt x="405" y="126"/>
                    </a:lnTo>
                    <a:lnTo>
                      <a:pt x="411" y="106"/>
                    </a:lnTo>
                    <a:lnTo>
                      <a:pt x="416" y="85"/>
                    </a:lnTo>
                    <a:lnTo>
                      <a:pt x="420" y="65"/>
                    </a:lnTo>
                    <a:lnTo>
                      <a:pt x="422" y="43"/>
                    </a:lnTo>
                    <a:lnTo>
                      <a:pt x="425" y="22"/>
                    </a:lnTo>
                    <a:lnTo>
                      <a:pt x="425" y="0"/>
                    </a:lnTo>
                    <a:lnTo>
                      <a:pt x="390" y="0"/>
                    </a:lnTo>
                    <a:lnTo>
                      <a:pt x="390" y="20"/>
                    </a:lnTo>
                    <a:lnTo>
                      <a:pt x="389" y="40"/>
                    </a:lnTo>
                    <a:lnTo>
                      <a:pt x="385" y="59"/>
                    </a:lnTo>
                    <a:lnTo>
                      <a:pt x="383" y="78"/>
                    </a:lnTo>
                    <a:lnTo>
                      <a:pt x="378" y="97"/>
                    </a:lnTo>
                    <a:lnTo>
                      <a:pt x="373" y="116"/>
                    </a:lnTo>
                    <a:lnTo>
                      <a:pt x="366" y="134"/>
                    </a:lnTo>
                    <a:lnTo>
                      <a:pt x="360" y="151"/>
                    </a:lnTo>
                    <a:lnTo>
                      <a:pt x="351" y="169"/>
                    </a:lnTo>
                    <a:lnTo>
                      <a:pt x="343" y="186"/>
                    </a:lnTo>
                    <a:lnTo>
                      <a:pt x="333" y="202"/>
                    </a:lnTo>
                    <a:lnTo>
                      <a:pt x="324" y="218"/>
                    </a:lnTo>
                    <a:lnTo>
                      <a:pt x="313" y="233"/>
                    </a:lnTo>
                    <a:lnTo>
                      <a:pt x="301" y="248"/>
                    </a:lnTo>
                    <a:lnTo>
                      <a:pt x="289" y="263"/>
                    </a:lnTo>
                    <a:lnTo>
                      <a:pt x="276" y="276"/>
                    </a:lnTo>
                    <a:lnTo>
                      <a:pt x="261" y="289"/>
                    </a:lnTo>
                    <a:lnTo>
                      <a:pt x="248" y="301"/>
                    </a:lnTo>
                    <a:lnTo>
                      <a:pt x="233" y="313"/>
                    </a:lnTo>
                    <a:lnTo>
                      <a:pt x="218" y="324"/>
                    </a:lnTo>
                    <a:lnTo>
                      <a:pt x="201" y="334"/>
                    </a:lnTo>
                    <a:lnTo>
                      <a:pt x="186" y="343"/>
                    </a:lnTo>
                    <a:lnTo>
                      <a:pt x="169" y="352"/>
                    </a:lnTo>
                    <a:lnTo>
                      <a:pt x="151" y="360"/>
                    </a:lnTo>
                    <a:lnTo>
                      <a:pt x="134" y="367"/>
                    </a:lnTo>
                    <a:lnTo>
                      <a:pt x="115" y="373"/>
                    </a:lnTo>
                    <a:lnTo>
                      <a:pt x="97" y="378"/>
                    </a:lnTo>
                    <a:lnTo>
                      <a:pt x="78" y="383"/>
                    </a:lnTo>
                    <a:lnTo>
                      <a:pt x="59" y="386"/>
                    </a:lnTo>
                    <a:lnTo>
                      <a:pt x="39" y="389"/>
                    </a:lnTo>
                    <a:lnTo>
                      <a:pt x="20" y="390"/>
                    </a:lnTo>
                    <a:lnTo>
                      <a:pt x="0" y="390"/>
                    </a:lnTo>
                    <a:lnTo>
                      <a:pt x="0" y="390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701880" y="4732200"/>
                <a:ext cx="168480" cy="168480"/>
              </a:xfrm>
              <a:custGeom>
                <a:avLst/>
                <a:gdLst/>
                <a:ahLst/>
                <a:rect l="l" t="t" r="r" b="b"/>
                <a:pathLst>
                  <a:path w="425" h="425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" y="43"/>
                    </a:lnTo>
                    <a:lnTo>
                      <a:pt x="5" y="65"/>
                    </a:lnTo>
                    <a:lnTo>
                      <a:pt x="8" y="85"/>
                    </a:lnTo>
                    <a:lnTo>
                      <a:pt x="13" y="106"/>
                    </a:lnTo>
                    <a:lnTo>
                      <a:pt x="18" y="126"/>
                    </a:lnTo>
                    <a:lnTo>
                      <a:pt x="25" y="146"/>
                    </a:lnTo>
                    <a:lnTo>
                      <a:pt x="32" y="166"/>
                    </a:lnTo>
                    <a:lnTo>
                      <a:pt x="42" y="184"/>
                    </a:lnTo>
                    <a:lnTo>
                      <a:pt x="50" y="203"/>
                    </a:lnTo>
                    <a:lnTo>
                      <a:pt x="61" y="220"/>
                    </a:lnTo>
                    <a:lnTo>
                      <a:pt x="72" y="238"/>
                    </a:lnTo>
                    <a:lnTo>
                      <a:pt x="84" y="254"/>
                    </a:lnTo>
                    <a:lnTo>
                      <a:pt x="97" y="270"/>
                    </a:lnTo>
                    <a:lnTo>
                      <a:pt x="110" y="286"/>
                    </a:lnTo>
                    <a:lnTo>
                      <a:pt x="124" y="300"/>
                    </a:lnTo>
                    <a:lnTo>
                      <a:pt x="139" y="314"/>
                    </a:lnTo>
                    <a:lnTo>
                      <a:pt x="155" y="328"/>
                    </a:lnTo>
                    <a:lnTo>
                      <a:pt x="170" y="341"/>
                    </a:lnTo>
                    <a:lnTo>
                      <a:pt x="187" y="353"/>
                    </a:lnTo>
                    <a:lnTo>
                      <a:pt x="204" y="364"/>
                    </a:lnTo>
                    <a:lnTo>
                      <a:pt x="222" y="373"/>
                    </a:lnTo>
                    <a:lnTo>
                      <a:pt x="240" y="383"/>
                    </a:lnTo>
                    <a:lnTo>
                      <a:pt x="259" y="391"/>
                    </a:lnTo>
                    <a:lnTo>
                      <a:pt x="278" y="400"/>
                    </a:lnTo>
                    <a:lnTo>
                      <a:pt x="299" y="406"/>
                    </a:lnTo>
                    <a:lnTo>
                      <a:pt x="319" y="412"/>
                    </a:lnTo>
                    <a:lnTo>
                      <a:pt x="340" y="416"/>
                    </a:lnTo>
                    <a:lnTo>
                      <a:pt x="360" y="420"/>
                    </a:lnTo>
                    <a:lnTo>
                      <a:pt x="382" y="422"/>
                    </a:lnTo>
                    <a:lnTo>
                      <a:pt x="403" y="425"/>
                    </a:lnTo>
                    <a:lnTo>
                      <a:pt x="425" y="425"/>
                    </a:lnTo>
                    <a:lnTo>
                      <a:pt x="425" y="390"/>
                    </a:lnTo>
                    <a:lnTo>
                      <a:pt x="404" y="390"/>
                    </a:lnTo>
                    <a:lnTo>
                      <a:pt x="385" y="389"/>
                    </a:lnTo>
                    <a:lnTo>
                      <a:pt x="365" y="386"/>
                    </a:lnTo>
                    <a:lnTo>
                      <a:pt x="346" y="383"/>
                    </a:lnTo>
                    <a:lnTo>
                      <a:pt x="328" y="378"/>
                    </a:lnTo>
                    <a:lnTo>
                      <a:pt x="308" y="373"/>
                    </a:lnTo>
                    <a:lnTo>
                      <a:pt x="290" y="367"/>
                    </a:lnTo>
                    <a:lnTo>
                      <a:pt x="272" y="360"/>
                    </a:lnTo>
                    <a:lnTo>
                      <a:pt x="256" y="352"/>
                    </a:lnTo>
                    <a:lnTo>
                      <a:pt x="239" y="343"/>
                    </a:lnTo>
                    <a:lnTo>
                      <a:pt x="222" y="334"/>
                    </a:lnTo>
                    <a:lnTo>
                      <a:pt x="206" y="324"/>
                    </a:lnTo>
                    <a:lnTo>
                      <a:pt x="191" y="313"/>
                    </a:lnTo>
                    <a:lnTo>
                      <a:pt x="176" y="301"/>
                    </a:lnTo>
                    <a:lnTo>
                      <a:pt x="162" y="289"/>
                    </a:lnTo>
                    <a:lnTo>
                      <a:pt x="149" y="276"/>
                    </a:lnTo>
                    <a:lnTo>
                      <a:pt x="136" y="263"/>
                    </a:lnTo>
                    <a:lnTo>
                      <a:pt x="124" y="248"/>
                    </a:lnTo>
                    <a:lnTo>
                      <a:pt x="112" y="233"/>
                    </a:lnTo>
                    <a:lnTo>
                      <a:pt x="101" y="218"/>
                    </a:lnTo>
                    <a:lnTo>
                      <a:pt x="91" y="202"/>
                    </a:lnTo>
                    <a:lnTo>
                      <a:pt x="82" y="186"/>
                    </a:lnTo>
                    <a:lnTo>
                      <a:pt x="73" y="169"/>
                    </a:lnTo>
                    <a:lnTo>
                      <a:pt x="65" y="151"/>
                    </a:lnTo>
                    <a:lnTo>
                      <a:pt x="58" y="134"/>
                    </a:lnTo>
                    <a:lnTo>
                      <a:pt x="52" y="116"/>
                    </a:lnTo>
                    <a:lnTo>
                      <a:pt x="47" y="97"/>
                    </a:lnTo>
                    <a:lnTo>
                      <a:pt x="42" y="78"/>
                    </a:lnTo>
                    <a:lnTo>
                      <a:pt x="38" y="59"/>
                    </a:lnTo>
                    <a:lnTo>
                      <a:pt x="36" y="40"/>
                    </a:lnTo>
                    <a:lnTo>
                      <a:pt x="35" y="2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701880" y="4564080"/>
                <a:ext cx="168480" cy="168120"/>
              </a:xfrm>
              <a:custGeom>
                <a:avLst/>
                <a:gdLst/>
                <a:ahLst/>
                <a:rect l="l" t="t" r="r" b="b"/>
                <a:pathLst>
                  <a:path w="425" h="425">
                    <a:moveTo>
                      <a:pt x="425" y="0"/>
                    </a:moveTo>
                    <a:lnTo>
                      <a:pt x="425" y="0"/>
                    </a:lnTo>
                    <a:lnTo>
                      <a:pt x="403" y="0"/>
                    </a:lnTo>
                    <a:lnTo>
                      <a:pt x="382" y="2"/>
                    </a:lnTo>
                    <a:lnTo>
                      <a:pt x="360" y="5"/>
                    </a:lnTo>
                    <a:lnTo>
                      <a:pt x="340" y="9"/>
                    </a:lnTo>
                    <a:lnTo>
                      <a:pt x="318" y="14"/>
                    </a:lnTo>
                    <a:lnTo>
                      <a:pt x="299" y="20"/>
                    </a:lnTo>
                    <a:lnTo>
                      <a:pt x="278" y="26"/>
                    </a:lnTo>
                    <a:lnTo>
                      <a:pt x="259" y="34"/>
                    </a:lnTo>
                    <a:lnTo>
                      <a:pt x="240" y="42"/>
                    </a:lnTo>
                    <a:lnTo>
                      <a:pt x="222" y="51"/>
                    </a:lnTo>
                    <a:lnTo>
                      <a:pt x="204" y="62"/>
                    </a:lnTo>
                    <a:lnTo>
                      <a:pt x="187" y="72"/>
                    </a:lnTo>
                    <a:lnTo>
                      <a:pt x="170" y="84"/>
                    </a:lnTo>
                    <a:lnTo>
                      <a:pt x="155" y="98"/>
                    </a:lnTo>
                    <a:lnTo>
                      <a:pt x="139" y="111"/>
                    </a:lnTo>
                    <a:lnTo>
                      <a:pt x="124" y="125"/>
                    </a:lnTo>
                    <a:lnTo>
                      <a:pt x="110" y="140"/>
                    </a:lnTo>
                    <a:lnTo>
                      <a:pt x="97" y="155"/>
                    </a:lnTo>
                    <a:lnTo>
                      <a:pt x="84" y="171"/>
                    </a:lnTo>
                    <a:lnTo>
                      <a:pt x="72" y="188"/>
                    </a:lnTo>
                    <a:lnTo>
                      <a:pt x="61" y="204"/>
                    </a:lnTo>
                    <a:lnTo>
                      <a:pt x="50" y="222"/>
                    </a:lnTo>
                    <a:lnTo>
                      <a:pt x="42" y="242"/>
                    </a:lnTo>
                    <a:lnTo>
                      <a:pt x="32" y="260"/>
                    </a:lnTo>
                    <a:lnTo>
                      <a:pt x="25" y="279"/>
                    </a:lnTo>
                    <a:lnTo>
                      <a:pt x="18" y="299"/>
                    </a:lnTo>
                    <a:lnTo>
                      <a:pt x="13" y="320"/>
                    </a:lnTo>
                    <a:lnTo>
                      <a:pt x="8" y="340"/>
                    </a:lnTo>
                    <a:lnTo>
                      <a:pt x="5" y="360"/>
                    </a:lnTo>
                    <a:lnTo>
                      <a:pt x="1" y="382"/>
                    </a:lnTo>
                    <a:lnTo>
                      <a:pt x="0" y="403"/>
                    </a:lnTo>
                    <a:lnTo>
                      <a:pt x="0" y="425"/>
                    </a:lnTo>
                    <a:lnTo>
                      <a:pt x="34" y="425"/>
                    </a:lnTo>
                    <a:lnTo>
                      <a:pt x="35" y="405"/>
                    </a:lnTo>
                    <a:lnTo>
                      <a:pt x="36" y="386"/>
                    </a:lnTo>
                    <a:lnTo>
                      <a:pt x="38" y="365"/>
                    </a:lnTo>
                    <a:lnTo>
                      <a:pt x="42" y="346"/>
                    </a:lnTo>
                    <a:lnTo>
                      <a:pt x="47" y="328"/>
                    </a:lnTo>
                    <a:lnTo>
                      <a:pt x="52" y="309"/>
                    </a:lnTo>
                    <a:lnTo>
                      <a:pt x="58" y="291"/>
                    </a:lnTo>
                    <a:lnTo>
                      <a:pt x="65" y="273"/>
                    </a:lnTo>
                    <a:lnTo>
                      <a:pt x="73" y="256"/>
                    </a:lnTo>
                    <a:lnTo>
                      <a:pt x="82" y="239"/>
                    </a:lnTo>
                    <a:lnTo>
                      <a:pt x="91" y="222"/>
                    </a:lnTo>
                    <a:lnTo>
                      <a:pt x="101" y="207"/>
                    </a:lnTo>
                    <a:lnTo>
                      <a:pt x="112" y="191"/>
                    </a:lnTo>
                    <a:lnTo>
                      <a:pt x="124" y="177"/>
                    </a:lnTo>
                    <a:lnTo>
                      <a:pt x="136" y="162"/>
                    </a:lnTo>
                    <a:lnTo>
                      <a:pt x="149" y="149"/>
                    </a:lnTo>
                    <a:lnTo>
                      <a:pt x="162" y="136"/>
                    </a:lnTo>
                    <a:lnTo>
                      <a:pt x="176" y="124"/>
                    </a:lnTo>
                    <a:lnTo>
                      <a:pt x="191" y="112"/>
                    </a:lnTo>
                    <a:lnTo>
                      <a:pt x="206" y="101"/>
                    </a:lnTo>
                    <a:lnTo>
                      <a:pt x="222" y="92"/>
                    </a:lnTo>
                    <a:lnTo>
                      <a:pt x="239" y="82"/>
                    </a:lnTo>
                    <a:lnTo>
                      <a:pt x="256" y="74"/>
                    </a:lnTo>
                    <a:lnTo>
                      <a:pt x="272" y="65"/>
                    </a:lnTo>
                    <a:lnTo>
                      <a:pt x="290" y="58"/>
                    </a:lnTo>
                    <a:lnTo>
                      <a:pt x="308" y="52"/>
                    </a:lnTo>
                    <a:lnTo>
                      <a:pt x="328" y="47"/>
                    </a:lnTo>
                    <a:lnTo>
                      <a:pt x="346" y="42"/>
                    </a:lnTo>
                    <a:lnTo>
                      <a:pt x="365" y="39"/>
                    </a:lnTo>
                    <a:lnTo>
                      <a:pt x="385" y="36"/>
                    </a:lnTo>
                    <a:lnTo>
                      <a:pt x="404" y="35"/>
                    </a:lnTo>
                    <a:lnTo>
                      <a:pt x="425" y="35"/>
                    </a:lnTo>
                    <a:lnTo>
                      <a:pt x="425" y="35"/>
                    </a:lnTo>
                    <a:lnTo>
                      <a:pt x="425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709800" y="4573440"/>
                <a:ext cx="320760" cy="320760"/>
              </a:xfrm>
              <a:custGeom>
                <a:avLst/>
                <a:gdLst/>
                <a:ahLst/>
                <a:rect l="l" t="t" r="r" b="b"/>
                <a:pathLst>
                  <a:path w="807" h="809">
                    <a:moveTo>
                      <a:pt x="403" y="0"/>
                    </a:moveTo>
                    <a:lnTo>
                      <a:pt x="424" y="1"/>
                    </a:lnTo>
                    <a:lnTo>
                      <a:pt x="445" y="3"/>
                    </a:lnTo>
                    <a:lnTo>
                      <a:pt x="464" y="5"/>
                    </a:lnTo>
                    <a:lnTo>
                      <a:pt x="484" y="9"/>
                    </a:lnTo>
                    <a:lnTo>
                      <a:pt x="504" y="13"/>
                    </a:lnTo>
                    <a:lnTo>
                      <a:pt x="523" y="18"/>
                    </a:lnTo>
                    <a:lnTo>
                      <a:pt x="542" y="25"/>
                    </a:lnTo>
                    <a:lnTo>
                      <a:pt x="560" y="33"/>
                    </a:lnTo>
                    <a:lnTo>
                      <a:pt x="578" y="41"/>
                    </a:lnTo>
                    <a:lnTo>
                      <a:pt x="596" y="49"/>
                    </a:lnTo>
                    <a:lnTo>
                      <a:pt x="613" y="59"/>
                    </a:lnTo>
                    <a:lnTo>
                      <a:pt x="628" y="70"/>
                    </a:lnTo>
                    <a:lnTo>
                      <a:pt x="645" y="81"/>
                    </a:lnTo>
                    <a:lnTo>
                      <a:pt x="660" y="93"/>
                    </a:lnTo>
                    <a:lnTo>
                      <a:pt x="675" y="106"/>
                    </a:lnTo>
                    <a:lnTo>
                      <a:pt x="688" y="119"/>
                    </a:lnTo>
                    <a:lnTo>
                      <a:pt x="702" y="133"/>
                    </a:lnTo>
                    <a:lnTo>
                      <a:pt x="715" y="148"/>
                    </a:lnTo>
                    <a:lnTo>
                      <a:pt x="727" y="163"/>
                    </a:lnTo>
                    <a:lnTo>
                      <a:pt x="738" y="179"/>
                    </a:lnTo>
                    <a:lnTo>
                      <a:pt x="748" y="196"/>
                    </a:lnTo>
                    <a:lnTo>
                      <a:pt x="758" y="213"/>
                    </a:lnTo>
                    <a:lnTo>
                      <a:pt x="768" y="229"/>
                    </a:lnTo>
                    <a:lnTo>
                      <a:pt x="776" y="247"/>
                    </a:lnTo>
                    <a:lnTo>
                      <a:pt x="783" y="265"/>
                    </a:lnTo>
                    <a:lnTo>
                      <a:pt x="789" y="285"/>
                    </a:lnTo>
                    <a:lnTo>
                      <a:pt x="794" y="304"/>
                    </a:lnTo>
                    <a:lnTo>
                      <a:pt x="799" y="323"/>
                    </a:lnTo>
                    <a:lnTo>
                      <a:pt x="802" y="343"/>
                    </a:lnTo>
                    <a:lnTo>
                      <a:pt x="805" y="364"/>
                    </a:lnTo>
                    <a:lnTo>
                      <a:pt x="807" y="384"/>
                    </a:lnTo>
                    <a:lnTo>
                      <a:pt x="807" y="404"/>
                    </a:lnTo>
                    <a:lnTo>
                      <a:pt x="807" y="425"/>
                    </a:lnTo>
                    <a:lnTo>
                      <a:pt x="805" y="445"/>
                    </a:lnTo>
                    <a:lnTo>
                      <a:pt x="802" y="466"/>
                    </a:lnTo>
                    <a:lnTo>
                      <a:pt x="799" y="486"/>
                    </a:lnTo>
                    <a:lnTo>
                      <a:pt x="794" y="505"/>
                    </a:lnTo>
                    <a:lnTo>
                      <a:pt x="789" y="524"/>
                    </a:lnTo>
                    <a:lnTo>
                      <a:pt x="783" y="544"/>
                    </a:lnTo>
                    <a:lnTo>
                      <a:pt x="776" y="562"/>
                    </a:lnTo>
                    <a:lnTo>
                      <a:pt x="768" y="580"/>
                    </a:lnTo>
                    <a:lnTo>
                      <a:pt x="758" y="596"/>
                    </a:lnTo>
                    <a:lnTo>
                      <a:pt x="748" y="613"/>
                    </a:lnTo>
                    <a:lnTo>
                      <a:pt x="738" y="630"/>
                    </a:lnTo>
                    <a:lnTo>
                      <a:pt x="727" y="646"/>
                    </a:lnTo>
                    <a:lnTo>
                      <a:pt x="715" y="661"/>
                    </a:lnTo>
                    <a:lnTo>
                      <a:pt x="702" y="676"/>
                    </a:lnTo>
                    <a:lnTo>
                      <a:pt x="688" y="690"/>
                    </a:lnTo>
                    <a:lnTo>
                      <a:pt x="675" y="703"/>
                    </a:lnTo>
                    <a:lnTo>
                      <a:pt x="660" y="716"/>
                    </a:lnTo>
                    <a:lnTo>
                      <a:pt x="645" y="728"/>
                    </a:lnTo>
                    <a:lnTo>
                      <a:pt x="628" y="739"/>
                    </a:lnTo>
                    <a:lnTo>
                      <a:pt x="613" y="750"/>
                    </a:lnTo>
                    <a:lnTo>
                      <a:pt x="596" y="760"/>
                    </a:lnTo>
                    <a:lnTo>
                      <a:pt x="578" y="769"/>
                    </a:lnTo>
                    <a:lnTo>
                      <a:pt x="560" y="776"/>
                    </a:lnTo>
                    <a:lnTo>
                      <a:pt x="542" y="784"/>
                    </a:lnTo>
                    <a:lnTo>
                      <a:pt x="523" y="791"/>
                    </a:lnTo>
                    <a:lnTo>
                      <a:pt x="504" y="796"/>
                    </a:lnTo>
                    <a:lnTo>
                      <a:pt x="484" y="800"/>
                    </a:lnTo>
                    <a:lnTo>
                      <a:pt x="464" y="804"/>
                    </a:lnTo>
                    <a:lnTo>
                      <a:pt x="445" y="806"/>
                    </a:lnTo>
                    <a:lnTo>
                      <a:pt x="424" y="808"/>
                    </a:lnTo>
                    <a:lnTo>
                      <a:pt x="403" y="809"/>
                    </a:lnTo>
                    <a:lnTo>
                      <a:pt x="382" y="808"/>
                    </a:lnTo>
                    <a:lnTo>
                      <a:pt x="362" y="806"/>
                    </a:lnTo>
                    <a:lnTo>
                      <a:pt x="342" y="804"/>
                    </a:lnTo>
                    <a:lnTo>
                      <a:pt x="322" y="800"/>
                    </a:lnTo>
                    <a:lnTo>
                      <a:pt x="302" y="796"/>
                    </a:lnTo>
                    <a:lnTo>
                      <a:pt x="283" y="791"/>
                    </a:lnTo>
                    <a:lnTo>
                      <a:pt x="265" y="784"/>
                    </a:lnTo>
                    <a:lnTo>
                      <a:pt x="246" y="776"/>
                    </a:lnTo>
                    <a:lnTo>
                      <a:pt x="228" y="769"/>
                    </a:lnTo>
                    <a:lnTo>
                      <a:pt x="211" y="760"/>
                    </a:lnTo>
                    <a:lnTo>
                      <a:pt x="194" y="750"/>
                    </a:lnTo>
                    <a:lnTo>
                      <a:pt x="177" y="739"/>
                    </a:lnTo>
                    <a:lnTo>
                      <a:pt x="162" y="728"/>
                    </a:lnTo>
                    <a:lnTo>
                      <a:pt x="146" y="716"/>
                    </a:lnTo>
                    <a:lnTo>
                      <a:pt x="132" y="703"/>
                    </a:lnTo>
                    <a:lnTo>
                      <a:pt x="117" y="690"/>
                    </a:lnTo>
                    <a:lnTo>
                      <a:pt x="104" y="676"/>
                    </a:lnTo>
                    <a:lnTo>
                      <a:pt x="92" y="661"/>
                    </a:lnTo>
                    <a:lnTo>
                      <a:pt x="80" y="646"/>
                    </a:lnTo>
                    <a:lnTo>
                      <a:pt x="68" y="630"/>
                    </a:lnTo>
                    <a:lnTo>
                      <a:pt x="57" y="613"/>
                    </a:lnTo>
                    <a:lnTo>
                      <a:pt x="48" y="596"/>
                    </a:lnTo>
                    <a:lnTo>
                      <a:pt x="39" y="580"/>
                    </a:lnTo>
                    <a:lnTo>
                      <a:pt x="31" y="562"/>
                    </a:lnTo>
                    <a:lnTo>
                      <a:pt x="24" y="544"/>
                    </a:lnTo>
                    <a:lnTo>
                      <a:pt x="18" y="524"/>
                    </a:lnTo>
                    <a:lnTo>
                      <a:pt x="12" y="505"/>
                    </a:lnTo>
                    <a:lnTo>
                      <a:pt x="7" y="486"/>
                    </a:lnTo>
                    <a:lnTo>
                      <a:pt x="3" y="466"/>
                    </a:lnTo>
                    <a:lnTo>
                      <a:pt x="1" y="445"/>
                    </a:lnTo>
                    <a:lnTo>
                      <a:pt x="0" y="425"/>
                    </a:lnTo>
                    <a:lnTo>
                      <a:pt x="0" y="404"/>
                    </a:lnTo>
                    <a:lnTo>
                      <a:pt x="0" y="384"/>
                    </a:lnTo>
                    <a:lnTo>
                      <a:pt x="1" y="364"/>
                    </a:lnTo>
                    <a:lnTo>
                      <a:pt x="3" y="343"/>
                    </a:lnTo>
                    <a:lnTo>
                      <a:pt x="7" y="323"/>
                    </a:lnTo>
                    <a:lnTo>
                      <a:pt x="12" y="304"/>
                    </a:lnTo>
                    <a:lnTo>
                      <a:pt x="18" y="285"/>
                    </a:lnTo>
                    <a:lnTo>
                      <a:pt x="24" y="265"/>
                    </a:lnTo>
                    <a:lnTo>
                      <a:pt x="31" y="247"/>
                    </a:lnTo>
                    <a:lnTo>
                      <a:pt x="39" y="229"/>
                    </a:lnTo>
                    <a:lnTo>
                      <a:pt x="48" y="213"/>
                    </a:lnTo>
                    <a:lnTo>
                      <a:pt x="57" y="196"/>
                    </a:lnTo>
                    <a:lnTo>
                      <a:pt x="68" y="179"/>
                    </a:lnTo>
                    <a:lnTo>
                      <a:pt x="80" y="163"/>
                    </a:lnTo>
                    <a:lnTo>
                      <a:pt x="92" y="148"/>
                    </a:lnTo>
                    <a:lnTo>
                      <a:pt x="104" y="133"/>
                    </a:lnTo>
                    <a:lnTo>
                      <a:pt x="117" y="119"/>
                    </a:lnTo>
                    <a:lnTo>
                      <a:pt x="132" y="106"/>
                    </a:lnTo>
                    <a:lnTo>
                      <a:pt x="146" y="93"/>
                    </a:lnTo>
                    <a:lnTo>
                      <a:pt x="162" y="81"/>
                    </a:lnTo>
                    <a:lnTo>
                      <a:pt x="177" y="70"/>
                    </a:lnTo>
                    <a:lnTo>
                      <a:pt x="194" y="59"/>
                    </a:lnTo>
                    <a:lnTo>
                      <a:pt x="211" y="49"/>
                    </a:lnTo>
                    <a:lnTo>
                      <a:pt x="228" y="41"/>
                    </a:lnTo>
                    <a:lnTo>
                      <a:pt x="246" y="33"/>
                    </a:lnTo>
                    <a:lnTo>
                      <a:pt x="265" y="25"/>
                    </a:lnTo>
                    <a:lnTo>
                      <a:pt x="283" y="18"/>
                    </a:lnTo>
                    <a:lnTo>
                      <a:pt x="302" y="13"/>
                    </a:lnTo>
                    <a:lnTo>
                      <a:pt x="322" y="9"/>
                    </a:lnTo>
                    <a:lnTo>
                      <a:pt x="342" y="5"/>
                    </a:lnTo>
                    <a:lnTo>
                      <a:pt x="362" y="3"/>
                    </a:lnTo>
                    <a:lnTo>
                      <a:pt x="382" y="1"/>
                    </a:lnTo>
                    <a:lnTo>
                      <a:pt x="403" y="0"/>
                    </a:lnTo>
                    <a:close/>
                  </a:path>
                </a:pathLst>
              </a:custGeom>
              <a:solidFill>
                <a:srgbClr val="c08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11600" y="4575240"/>
                <a:ext cx="317520" cy="317520"/>
              </a:xfrm>
              <a:custGeom>
                <a:avLst/>
                <a:gdLst/>
                <a:ahLst/>
                <a:rect l="l" t="t" r="r" b="b"/>
                <a:pathLst>
                  <a:path w="801" h="802">
                    <a:moveTo>
                      <a:pt x="401" y="0"/>
                    </a:moveTo>
                    <a:lnTo>
                      <a:pt x="421" y="1"/>
                    </a:lnTo>
                    <a:lnTo>
                      <a:pt x="442" y="3"/>
                    </a:lnTo>
                    <a:lnTo>
                      <a:pt x="461" y="5"/>
                    </a:lnTo>
                    <a:lnTo>
                      <a:pt x="481" y="9"/>
                    </a:lnTo>
                    <a:lnTo>
                      <a:pt x="501" y="13"/>
                    </a:lnTo>
                    <a:lnTo>
                      <a:pt x="520" y="19"/>
                    </a:lnTo>
                    <a:lnTo>
                      <a:pt x="538" y="25"/>
                    </a:lnTo>
                    <a:lnTo>
                      <a:pt x="556" y="33"/>
                    </a:lnTo>
                    <a:lnTo>
                      <a:pt x="574" y="41"/>
                    </a:lnTo>
                    <a:lnTo>
                      <a:pt x="592" y="49"/>
                    </a:lnTo>
                    <a:lnTo>
                      <a:pt x="609" y="59"/>
                    </a:lnTo>
                    <a:lnTo>
                      <a:pt x="624" y="70"/>
                    </a:lnTo>
                    <a:lnTo>
                      <a:pt x="640" y="81"/>
                    </a:lnTo>
                    <a:lnTo>
                      <a:pt x="655" y="93"/>
                    </a:lnTo>
                    <a:lnTo>
                      <a:pt x="670" y="105"/>
                    </a:lnTo>
                    <a:lnTo>
                      <a:pt x="683" y="118"/>
                    </a:lnTo>
                    <a:lnTo>
                      <a:pt x="697" y="132"/>
                    </a:lnTo>
                    <a:lnTo>
                      <a:pt x="709" y="147"/>
                    </a:lnTo>
                    <a:lnTo>
                      <a:pt x="721" y="162"/>
                    </a:lnTo>
                    <a:lnTo>
                      <a:pt x="732" y="178"/>
                    </a:lnTo>
                    <a:lnTo>
                      <a:pt x="743" y="193"/>
                    </a:lnTo>
                    <a:lnTo>
                      <a:pt x="753" y="210"/>
                    </a:lnTo>
                    <a:lnTo>
                      <a:pt x="761" y="228"/>
                    </a:lnTo>
                    <a:lnTo>
                      <a:pt x="769" y="246"/>
                    </a:lnTo>
                    <a:lnTo>
                      <a:pt x="777" y="264"/>
                    </a:lnTo>
                    <a:lnTo>
                      <a:pt x="783" y="282"/>
                    </a:lnTo>
                    <a:lnTo>
                      <a:pt x="789" y="301"/>
                    </a:lnTo>
                    <a:lnTo>
                      <a:pt x="793" y="321"/>
                    </a:lnTo>
                    <a:lnTo>
                      <a:pt x="797" y="341"/>
                    </a:lnTo>
                    <a:lnTo>
                      <a:pt x="799" y="360"/>
                    </a:lnTo>
                    <a:lnTo>
                      <a:pt x="801" y="380"/>
                    </a:lnTo>
                    <a:lnTo>
                      <a:pt x="801" y="401"/>
                    </a:lnTo>
                    <a:lnTo>
                      <a:pt x="801" y="421"/>
                    </a:lnTo>
                    <a:lnTo>
                      <a:pt x="799" y="442"/>
                    </a:lnTo>
                    <a:lnTo>
                      <a:pt x="797" y="462"/>
                    </a:lnTo>
                    <a:lnTo>
                      <a:pt x="793" y="481"/>
                    </a:lnTo>
                    <a:lnTo>
                      <a:pt x="789" y="500"/>
                    </a:lnTo>
                    <a:lnTo>
                      <a:pt x="783" y="520"/>
                    </a:lnTo>
                    <a:lnTo>
                      <a:pt x="777" y="539"/>
                    </a:lnTo>
                    <a:lnTo>
                      <a:pt x="769" y="557"/>
                    </a:lnTo>
                    <a:lnTo>
                      <a:pt x="761" y="575"/>
                    </a:lnTo>
                    <a:lnTo>
                      <a:pt x="753" y="592"/>
                    </a:lnTo>
                    <a:lnTo>
                      <a:pt x="743" y="608"/>
                    </a:lnTo>
                    <a:lnTo>
                      <a:pt x="732" y="625"/>
                    </a:lnTo>
                    <a:lnTo>
                      <a:pt x="721" y="641"/>
                    </a:lnTo>
                    <a:lnTo>
                      <a:pt x="709" y="655"/>
                    </a:lnTo>
                    <a:lnTo>
                      <a:pt x="697" y="670"/>
                    </a:lnTo>
                    <a:lnTo>
                      <a:pt x="683" y="684"/>
                    </a:lnTo>
                    <a:lnTo>
                      <a:pt x="670" y="697"/>
                    </a:lnTo>
                    <a:lnTo>
                      <a:pt x="655" y="710"/>
                    </a:lnTo>
                    <a:lnTo>
                      <a:pt x="640" y="721"/>
                    </a:lnTo>
                    <a:lnTo>
                      <a:pt x="624" y="733"/>
                    </a:lnTo>
                    <a:lnTo>
                      <a:pt x="609" y="743"/>
                    </a:lnTo>
                    <a:lnTo>
                      <a:pt x="592" y="754"/>
                    </a:lnTo>
                    <a:lnTo>
                      <a:pt x="574" y="762"/>
                    </a:lnTo>
                    <a:lnTo>
                      <a:pt x="556" y="770"/>
                    </a:lnTo>
                    <a:lnTo>
                      <a:pt x="538" y="778"/>
                    </a:lnTo>
                    <a:lnTo>
                      <a:pt x="520" y="784"/>
                    </a:lnTo>
                    <a:lnTo>
                      <a:pt x="501" y="788"/>
                    </a:lnTo>
                    <a:lnTo>
                      <a:pt x="481" y="793"/>
                    </a:lnTo>
                    <a:lnTo>
                      <a:pt x="461" y="797"/>
                    </a:lnTo>
                    <a:lnTo>
                      <a:pt x="442" y="799"/>
                    </a:lnTo>
                    <a:lnTo>
                      <a:pt x="421" y="800"/>
                    </a:lnTo>
                    <a:lnTo>
                      <a:pt x="401" y="802"/>
                    </a:lnTo>
                    <a:lnTo>
                      <a:pt x="381" y="800"/>
                    </a:lnTo>
                    <a:lnTo>
                      <a:pt x="360" y="799"/>
                    </a:lnTo>
                    <a:lnTo>
                      <a:pt x="340" y="797"/>
                    </a:lnTo>
                    <a:lnTo>
                      <a:pt x="321" y="793"/>
                    </a:lnTo>
                    <a:lnTo>
                      <a:pt x="300" y="788"/>
                    </a:lnTo>
                    <a:lnTo>
                      <a:pt x="282" y="784"/>
                    </a:lnTo>
                    <a:lnTo>
                      <a:pt x="263" y="778"/>
                    </a:lnTo>
                    <a:lnTo>
                      <a:pt x="245" y="770"/>
                    </a:lnTo>
                    <a:lnTo>
                      <a:pt x="227" y="762"/>
                    </a:lnTo>
                    <a:lnTo>
                      <a:pt x="210" y="754"/>
                    </a:lnTo>
                    <a:lnTo>
                      <a:pt x="193" y="743"/>
                    </a:lnTo>
                    <a:lnTo>
                      <a:pt x="177" y="733"/>
                    </a:lnTo>
                    <a:lnTo>
                      <a:pt x="161" y="721"/>
                    </a:lnTo>
                    <a:lnTo>
                      <a:pt x="147" y="710"/>
                    </a:lnTo>
                    <a:lnTo>
                      <a:pt x="132" y="697"/>
                    </a:lnTo>
                    <a:lnTo>
                      <a:pt x="118" y="684"/>
                    </a:lnTo>
                    <a:lnTo>
                      <a:pt x="105" y="670"/>
                    </a:lnTo>
                    <a:lnTo>
                      <a:pt x="91" y="655"/>
                    </a:lnTo>
                    <a:lnTo>
                      <a:pt x="79" y="641"/>
                    </a:lnTo>
                    <a:lnTo>
                      <a:pt x="69" y="625"/>
                    </a:lnTo>
                    <a:lnTo>
                      <a:pt x="58" y="608"/>
                    </a:lnTo>
                    <a:lnTo>
                      <a:pt x="48" y="592"/>
                    </a:lnTo>
                    <a:lnTo>
                      <a:pt x="40" y="575"/>
                    </a:lnTo>
                    <a:lnTo>
                      <a:pt x="31" y="557"/>
                    </a:lnTo>
                    <a:lnTo>
                      <a:pt x="24" y="539"/>
                    </a:lnTo>
                    <a:lnTo>
                      <a:pt x="18" y="520"/>
                    </a:lnTo>
                    <a:lnTo>
                      <a:pt x="13" y="500"/>
                    </a:lnTo>
                    <a:lnTo>
                      <a:pt x="9" y="481"/>
                    </a:lnTo>
                    <a:lnTo>
                      <a:pt x="5" y="462"/>
                    </a:lnTo>
                    <a:lnTo>
                      <a:pt x="3" y="442"/>
                    </a:lnTo>
                    <a:lnTo>
                      <a:pt x="0" y="421"/>
                    </a:lnTo>
                    <a:lnTo>
                      <a:pt x="0" y="401"/>
                    </a:lnTo>
                    <a:lnTo>
                      <a:pt x="0" y="380"/>
                    </a:lnTo>
                    <a:lnTo>
                      <a:pt x="3" y="360"/>
                    </a:lnTo>
                    <a:lnTo>
                      <a:pt x="5" y="341"/>
                    </a:lnTo>
                    <a:lnTo>
                      <a:pt x="9" y="321"/>
                    </a:lnTo>
                    <a:lnTo>
                      <a:pt x="13" y="301"/>
                    </a:lnTo>
                    <a:lnTo>
                      <a:pt x="18" y="282"/>
                    </a:lnTo>
                    <a:lnTo>
                      <a:pt x="24" y="264"/>
                    </a:lnTo>
                    <a:lnTo>
                      <a:pt x="31" y="246"/>
                    </a:lnTo>
                    <a:lnTo>
                      <a:pt x="40" y="228"/>
                    </a:lnTo>
                    <a:lnTo>
                      <a:pt x="48" y="210"/>
                    </a:lnTo>
                    <a:lnTo>
                      <a:pt x="58" y="193"/>
                    </a:lnTo>
                    <a:lnTo>
                      <a:pt x="69" y="178"/>
                    </a:lnTo>
                    <a:lnTo>
                      <a:pt x="79" y="162"/>
                    </a:lnTo>
                    <a:lnTo>
                      <a:pt x="91" y="147"/>
                    </a:lnTo>
                    <a:lnTo>
                      <a:pt x="105" y="132"/>
                    </a:lnTo>
                    <a:lnTo>
                      <a:pt x="118" y="118"/>
                    </a:lnTo>
                    <a:lnTo>
                      <a:pt x="132" y="105"/>
                    </a:lnTo>
                    <a:lnTo>
                      <a:pt x="147" y="93"/>
                    </a:lnTo>
                    <a:lnTo>
                      <a:pt x="161" y="81"/>
                    </a:lnTo>
                    <a:lnTo>
                      <a:pt x="177" y="70"/>
                    </a:lnTo>
                    <a:lnTo>
                      <a:pt x="193" y="59"/>
                    </a:lnTo>
                    <a:lnTo>
                      <a:pt x="210" y="49"/>
                    </a:lnTo>
                    <a:lnTo>
                      <a:pt x="227" y="41"/>
                    </a:lnTo>
                    <a:lnTo>
                      <a:pt x="245" y="33"/>
                    </a:lnTo>
                    <a:lnTo>
                      <a:pt x="263" y="25"/>
                    </a:lnTo>
                    <a:lnTo>
                      <a:pt x="282" y="19"/>
                    </a:lnTo>
                    <a:lnTo>
                      <a:pt x="300" y="13"/>
                    </a:lnTo>
                    <a:lnTo>
                      <a:pt x="321" y="9"/>
                    </a:lnTo>
                    <a:lnTo>
                      <a:pt x="340" y="5"/>
                    </a:lnTo>
                    <a:lnTo>
                      <a:pt x="360" y="3"/>
                    </a:lnTo>
                    <a:lnTo>
                      <a:pt x="381" y="1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c48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713040" y="4578480"/>
                <a:ext cx="314280" cy="314280"/>
              </a:xfrm>
              <a:custGeom>
                <a:avLst/>
                <a:gdLst/>
                <a:ahLst/>
                <a:rect l="l" t="t" r="r" b="b"/>
                <a:pathLst>
                  <a:path w="793" h="793">
                    <a:moveTo>
                      <a:pt x="396" y="0"/>
                    </a:moveTo>
                    <a:lnTo>
                      <a:pt x="416" y="0"/>
                    </a:lnTo>
                    <a:lnTo>
                      <a:pt x="437" y="2"/>
                    </a:lnTo>
                    <a:lnTo>
                      <a:pt x="456" y="5"/>
                    </a:lnTo>
                    <a:lnTo>
                      <a:pt x="476" y="8"/>
                    </a:lnTo>
                    <a:lnTo>
                      <a:pt x="496" y="12"/>
                    </a:lnTo>
                    <a:lnTo>
                      <a:pt x="514" y="18"/>
                    </a:lnTo>
                    <a:lnTo>
                      <a:pt x="533" y="24"/>
                    </a:lnTo>
                    <a:lnTo>
                      <a:pt x="551" y="32"/>
                    </a:lnTo>
                    <a:lnTo>
                      <a:pt x="568" y="39"/>
                    </a:lnTo>
                    <a:lnTo>
                      <a:pt x="586" y="48"/>
                    </a:lnTo>
                    <a:lnTo>
                      <a:pt x="601" y="58"/>
                    </a:lnTo>
                    <a:lnTo>
                      <a:pt x="618" y="68"/>
                    </a:lnTo>
                    <a:lnTo>
                      <a:pt x="634" y="80"/>
                    </a:lnTo>
                    <a:lnTo>
                      <a:pt x="648" y="90"/>
                    </a:lnTo>
                    <a:lnTo>
                      <a:pt x="662" y="104"/>
                    </a:lnTo>
                    <a:lnTo>
                      <a:pt x="677" y="117"/>
                    </a:lnTo>
                    <a:lnTo>
                      <a:pt x="690" y="130"/>
                    </a:lnTo>
                    <a:lnTo>
                      <a:pt x="702" y="144"/>
                    </a:lnTo>
                    <a:lnTo>
                      <a:pt x="714" y="160"/>
                    </a:lnTo>
                    <a:lnTo>
                      <a:pt x="725" y="176"/>
                    </a:lnTo>
                    <a:lnTo>
                      <a:pt x="736" y="191"/>
                    </a:lnTo>
                    <a:lnTo>
                      <a:pt x="745" y="208"/>
                    </a:lnTo>
                    <a:lnTo>
                      <a:pt x="754" y="225"/>
                    </a:lnTo>
                    <a:lnTo>
                      <a:pt x="762" y="243"/>
                    </a:lnTo>
                    <a:lnTo>
                      <a:pt x="769" y="261"/>
                    </a:lnTo>
                    <a:lnTo>
                      <a:pt x="775" y="279"/>
                    </a:lnTo>
                    <a:lnTo>
                      <a:pt x="780" y="298"/>
                    </a:lnTo>
                    <a:lnTo>
                      <a:pt x="785" y="317"/>
                    </a:lnTo>
                    <a:lnTo>
                      <a:pt x="788" y="336"/>
                    </a:lnTo>
                    <a:lnTo>
                      <a:pt x="791" y="357"/>
                    </a:lnTo>
                    <a:lnTo>
                      <a:pt x="792" y="376"/>
                    </a:lnTo>
                    <a:lnTo>
                      <a:pt x="793" y="396"/>
                    </a:lnTo>
                    <a:lnTo>
                      <a:pt x="792" y="417"/>
                    </a:lnTo>
                    <a:lnTo>
                      <a:pt x="791" y="437"/>
                    </a:lnTo>
                    <a:lnTo>
                      <a:pt x="788" y="457"/>
                    </a:lnTo>
                    <a:lnTo>
                      <a:pt x="785" y="477"/>
                    </a:lnTo>
                    <a:lnTo>
                      <a:pt x="780" y="496"/>
                    </a:lnTo>
                    <a:lnTo>
                      <a:pt x="775" y="514"/>
                    </a:lnTo>
                    <a:lnTo>
                      <a:pt x="769" y="533"/>
                    </a:lnTo>
                    <a:lnTo>
                      <a:pt x="762" y="551"/>
                    </a:lnTo>
                    <a:lnTo>
                      <a:pt x="754" y="568"/>
                    </a:lnTo>
                    <a:lnTo>
                      <a:pt x="745" y="586"/>
                    </a:lnTo>
                    <a:lnTo>
                      <a:pt x="736" y="603"/>
                    </a:lnTo>
                    <a:lnTo>
                      <a:pt x="725" y="618"/>
                    </a:lnTo>
                    <a:lnTo>
                      <a:pt x="714" y="634"/>
                    </a:lnTo>
                    <a:lnTo>
                      <a:pt x="702" y="648"/>
                    </a:lnTo>
                    <a:lnTo>
                      <a:pt x="690" y="663"/>
                    </a:lnTo>
                    <a:lnTo>
                      <a:pt x="677" y="677"/>
                    </a:lnTo>
                    <a:lnTo>
                      <a:pt x="662" y="690"/>
                    </a:lnTo>
                    <a:lnTo>
                      <a:pt x="648" y="702"/>
                    </a:lnTo>
                    <a:lnTo>
                      <a:pt x="634" y="714"/>
                    </a:lnTo>
                    <a:lnTo>
                      <a:pt x="618" y="725"/>
                    </a:lnTo>
                    <a:lnTo>
                      <a:pt x="601" y="736"/>
                    </a:lnTo>
                    <a:lnTo>
                      <a:pt x="586" y="745"/>
                    </a:lnTo>
                    <a:lnTo>
                      <a:pt x="568" y="754"/>
                    </a:lnTo>
                    <a:lnTo>
                      <a:pt x="551" y="762"/>
                    </a:lnTo>
                    <a:lnTo>
                      <a:pt x="533" y="769"/>
                    </a:lnTo>
                    <a:lnTo>
                      <a:pt x="514" y="775"/>
                    </a:lnTo>
                    <a:lnTo>
                      <a:pt x="496" y="781"/>
                    </a:lnTo>
                    <a:lnTo>
                      <a:pt x="476" y="785"/>
                    </a:lnTo>
                    <a:lnTo>
                      <a:pt x="456" y="789"/>
                    </a:lnTo>
                    <a:lnTo>
                      <a:pt x="437" y="791"/>
                    </a:lnTo>
                    <a:lnTo>
                      <a:pt x="416" y="793"/>
                    </a:lnTo>
                    <a:lnTo>
                      <a:pt x="396" y="793"/>
                    </a:lnTo>
                    <a:lnTo>
                      <a:pt x="376" y="793"/>
                    </a:lnTo>
                    <a:lnTo>
                      <a:pt x="355" y="791"/>
                    </a:lnTo>
                    <a:lnTo>
                      <a:pt x="336" y="789"/>
                    </a:lnTo>
                    <a:lnTo>
                      <a:pt x="317" y="785"/>
                    </a:lnTo>
                    <a:lnTo>
                      <a:pt x="298" y="781"/>
                    </a:lnTo>
                    <a:lnTo>
                      <a:pt x="278" y="775"/>
                    </a:lnTo>
                    <a:lnTo>
                      <a:pt x="260" y="769"/>
                    </a:lnTo>
                    <a:lnTo>
                      <a:pt x="242" y="762"/>
                    </a:lnTo>
                    <a:lnTo>
                      <a:pt x="224" y="754"/>
                    </a:lnTo>
                    <a:lnTo>
                      <a:pt x="208" y="745"/>
                    </a:lnTo>
                    <a:lnTo>
                      <a:pt x="191" y="736"/>
                    </a:lnTo>
                    <a:lnTo>
                      <a:pt x="175" y="725"/>
                    </a:lnTo>
                    <a:lnTo>
                      <a:pt x="160" y="714"/>
                    </a:lnTo>
                    <a:lnTo>
                      <a:pt x="144" y="702"/>
                    </a:lnTo>
                    <a:lnTo>
                      <a:pt x="130" y="690"/>
                    </a:lnTo>
                    <a:lnTo>
                      <a:pt x="116" y="677"/>
                    </a:lnTo>
                    <a:lnTo>
                      <a:pt x="103" y="663"/>
                    </a:lnTo>
                    <a:lnTo>
                      <a:pt x="90" y="648"/>
                    </a:lnTo>
                    <a:lnTo>
                      <a:pt x="78" y="634"/>
                    </a:lnTo>
                    <a:lnTo>
                      <a:pt x="67" y="618"/>
                    </a:lnTo>
                    <a:lnTo>
                      <a:pt x="58" y="603"/>
                    </a:lnTo>
                    <a:lnTo>
                      <a:pt x="48" y="586"/>
                    </a:lnTo>
                    <a:lnTo>
                      <a:pt x="38" y="568"/>
                    </a:lnTo>
                    <a:lnTo>
                      <a:pt x="31" y="551"/>
                    </a:lnTo>
                    <a:lnTo>
                      <a:pt x="24" y="533"/>
                    </a:lnTo>
                    <a:lnTo>
                      <a:pt x="17" y="514"/>
                    </a:lnTo>
                    <a:lnTo>
                      <a:pt x="12" y="496"/>
                    </a:lnTo>
                    <a:lnTo>
                      <a:pt x="7" y="477"/>
                    </a:lnTo>
                    <a:lnTo>
                      <a:pt x="4" y="457"/>
                    </a:lnTo>
                    <a:lnTo>
                      <a:pt x="1" y="437"/>
                    </a:lnTo>
                    <a:lnTo>
                      <a:pt x="0" y="417"/>
                    </a:lnTo>
                    <a:lnTo>
                      <a:pt x="0" y="396"/>
                    </a:lnTo>
                    <a:lnTo>
                      <a:pt x="0" y="376"/>
                    </a:lnTo>
                    <a:lnTo>
                      <a:pt x="1" y="357"/>
                    </a:lnTo>
                    <a:lnTo>
                      <a:pt x="4" y="336"/>
                    </a:lnTo>
                    <a:lnTo>
                      <a:pt x="7" y="317"/>
                    </a:lnTo>
                    <a:lnTo>
                      <a:pt x="12" y="298"/>
                    </a:lnTo>
                    <a:lnTo>
                      <a:pt x="17" y="279"/>
                    </a:lnTo>
                    <a:lnTo>
                      <a:pt x="24" y="261"/>
                    </a:lnTo>
                    <a:lnTo>
                      <a:pt x="31" y="243"/>
                    </a:lnTo>
                    <a:lnTo>
                      <a:pt x="38" y="225"/>
                    </a:lnTo>
                    <a:lnTo>
                      <a:pt x="48" y="208"/>
                    </a:lnTo>
                    <a:lnTo>
                      <a:pt x="58" y="191"/>
                    </a:lnTo>
                    <a:lnTo>
                      <a:pt x="67" y="176"/>
                    </a:lnTo>
                    <a:lnTo>
                      <a:pt x="78" y="160"/>
                    </a:lnTo>
                    <a:lnTo>
                      <a:pt x="90" y="144"/>
                    </a:lnTo>
                    <a:lnTo>
                      <a:pt x="103" y="130"/>
                    </a:lnTo>
                    <a:lnTo>
                      <a:pt x="116" y="117"/>
                    </a:lnTo>
                    <a:lnTo>
                      <a:pt x="130" y="104"/>
                    </a:lnTo>
                    <a:lnTo>
                      <a:pt x="144" y="90"/>
                    </a:lnTo>
                    <a:lnTo>
                      <a:pt x="160" y="80"/>
                    </a:lnTo>
                    <a:lnTo>
                      <a:pt x="175" y="68"/>
                    </a:lnTo>
                    <a:lnTo>
                      <a:pt x="191" y="58"/>
                    </a:lnTo>
                    <a:lnTo>
                      <a:pt x="208" y="48"/>
                    </a:lnTo>
                    <a:lnTo>
                      <a:pt x="224" y="39"/>
                    </a:lnTo>
                    <a:lnTo>
                      <a:pt x="242" y="32"/>
                    </a:lnTo>
                    <a:lnTo>
                      <a:pt x="260" y="24"/>
                    </a:lnTo>
                    <a:lnTo>
                      <a:pt x="278" y="18"/>
                    </a:lnTo>
                    <a:lnTo>
                      <a:pt x="298" y="12"/>
                    </a:lnTo>
                    <a:lnTo>
                      <a:pt x="317" y="8"/>
                    </a:lnTo>
                    <a:lnTo>
                      <a:pt x="336" y="5"/>
                    </a:lnTo>
                    <a:lnTo>
                      <a:pt x="355" y="2"/>
                    </a:lnTo>
                    <a:lnTo>
                      <a:pt x="376" y="0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ca8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714480" y="4579920"/>
                <a:ext cx="311400" cy="312840"/>
              </a:xfrm>
              <a:custGeom>
                <a:avLst/>
                <a:gdLst/>
                <a:ahLst/>
                <a:rect l="l" t="t" r="r" b="b"/>
                <a:pathLst>
                  <a:path w="786" h="786">
                    <a:moveTo>
                      <a:pt x="393" y="0"/>
                    </a:moveTo>
                    <a:lnTo>
                      <a:pt x="412" y="0"/>
                    </a:lnTo>
                    <a:lnTo>
                      <a:pt x="433" y="3"/>
                    </a:lnTo>
                    <a:lnTo>
                      <a:pt x="452" y="5"/>
                    </a:lnTo>
                    <a:lnTo>
                      <a:pt x="471" y="9"/>
                    </a:lnTo>
                    <a:lnTo>
                      <a:pt x="490" y="12"/>
                    </a:lnTo>
                    <a:lnTo>
                      <a:pt x="510" y="18"/>
                    </a:lnTo>
                    <a:lnTo>
                      <a:pt x="528" y="24"/>
                    </a:lnTo>
                    <a:lnTo>
                      <a:pt x="546" y="32"/>
                    </a:lnTo>
                    <a:lnTo>
                      <a:pt x="562" y="39"/>
                    </a:lnTo>
                    <a:lnTo>
                      <a:pt x="579" y="48"/>
                    </a:lnTo>
                    <a:lnTo>
                      <a:pt x="596" y="58"/>
                    </a:lnTo>
                    <a:lnTo>
                      <a:pt x="612" y="68"/>
                    </a:lnTo>
                    <a:lnTo>
                      <a:pt x="627" y="78"/>
                    </a:lnTo>
                    <a:lnTo>
                      <a:pt x="643" y="90"/>
                    </a:lnTo>
                    <a:lnTo>
                      <a:pt x="657" y="102"/>
                    </a:lnTo>
                    <a:lnTo>
                      <a:pt x="670" y="116"/>
                    </a:lnTo>
                    <a:lnTo>
                      <a:pt x="684" y="129"/>
                    </a:lnTo>
                    <a:lnTo>
                      <a:pt x="696" y="143"/>
                    </a:lnTo>
                    <a:lnTo>
                      <a:pt x="708" y="159"/>
                    </a:lnTo>
                    <a:lnTo>
                      <a:pt x="718" y="174"/>
                    </a:lnTo>
                    <a:lnTo>
                      <a:pt x="729" y="190"/>
                    </a:lnTo>
                    <a:lnTo>
                      <a:pt x="738" y="207"/>
                    </a:lnTo>
                    <a:lnTo>
                      <a:pt x="747" y="224"/>
                    </a:lnTo>
                    <a:lnTo>
                      <a:pt x="754" y="240"/>
                    </a:lnTo>
                    <a:lnTo>
                      <a:pt x="762" y="258"/>
                    </a:lnTo>
                    <a:lnTo>
                      <a:pt x="768" y="276"/>
                    </a:lnTo>
                    <a:lnTo>
                      <a:pt x="774" y="296"/>
                    </a:lnTo>
                    <a:lnTo>
                      <a:pt x="777" y="315"/>
                    </a:lnTo>
                    <a:lnTo>
                      <a:pt x="781" y="334"/>
                    </a:lnTo>
                    <a:lnTo>
                      <a:pt x="783" y="353"/>
                    </a:lnTo>
                    <a:lnTo>
                      <a:pt x="786" y="373"/>
                    </a:lnTo>
                    <a:lnTo>
                      <a:pt x="786" y="393"/>
                    </a:lnTo>
                    <a:lnTo>
                      <a:pt x="786" y="413"/>
                    </a:lnTo>
                    <a:lnTo>
                      <a:pt x="783" y="433"/>
                    </a:lnTo>
                    <a:lnTo>
                      <a:pt x="781" y="453"/>
                    </a:lnTo>
                    <a:lnTo>
                      <a:pt x="777" y="472"/>
                    </a:lnTo>
                    <a:lnTo>
                      <a:pt x="774" y="491"/>
                    </a:lnTo>
                    <a:lnTo>
                      <a:pt x="768" y="510"/>
                    </a:lnTo>
                    <a:lnTo>
                      <a:pt x="762" y="528"/>
                    </a:lnTo>
                    <a:lnTo>
                      <a:pt x="754" y="546"/>
                    </a:lnTo>
                    <a:lnTo>
                      <a:pt x="747" y="563"/>
                    </a:lnTo>
                    <a:lnTo>
                      <a:pt x="738" y="580"/>
                    </a:lnTo>
                    <a:lnTo>
                      <a:pt x="729" y="597"/>
                    </a:lnTo>
                    <a:lnTo>
                      <a:pt x="718" y="612"/>
                    </a:lnTo>
                    <a:lnTo>
                      <a:pt x="708" y="628"/>
                    </a:lnTo>
                    <a:lnTo>
                      <a:pt x="696" y="643"/>
                    </a:lnTo>
                    <a:lnTo>
                      <a:pt x="684" y="658"/>
                    </a:lnTo>
                    <a:lnTo>
                      <a:pt x="670" y="671"/>
                    </a:lnTo>
                    <a:lnTo>
                      <a:pt x="657" y="684"/>
                    </a:lnTo>
                    <a:lnTo>
                      <a:pt x="643" y="696"/>
                    </a:lnTo>
                    <a:lnTo>
                      <a:pt x="627" y="708"/>
                    </a:lnTo>
                    <a:lnTo>
                      <a:pt x="612" y="719"/>
                    </a:lnTo>
                    <a:lnTo>
                      <a:pt x="596" y="729"/>
                    </a:lnTo>
                    <a:lnTo>
                      <a:pt x="579" y="738"/>
                    </a:lnTo>
                    <a:lnTo>
                      <a:pt x="562" y="748"/>
                    </a:lnTo>
                    <a:lnTo>
                      <a:pt x="546" y="755"/>
                    </a:lnTo>
                    <a:lnTo>
                      <a:pt x="528" y="762"/>
                    </a:lnTo>
                    <a:lnTo>
                      <a:pt x="510" y="768"/>
                    </a:lnTo>
                    <a:lnTo>
                      <a:pt x="490" y="774"/>
                    </a:lnTo>
                    <a:lnTo>
                      <a:pt x="471" y="778"/>
                    </a:lnTo>
                    <a:lnTo>
                      <a:pt x="452" y="781"/>
                    </a:lnTo>
                    <a:lnTo>
                      <a:pt x="433" y="784"/>
                    </a:lnTo>
                    <a:lnTo>
                      <a:pt x="412" y="786"/>
                    </a:lnTo>
                    <a:lnTo>
                      <a:pt x="393" y="786"/>
                    </a:lnTo>
                    <a:lnTo>
                      <a:pt x="373" y="786"/>
                    </a:lnTo>
                    <a:lnTo>
                      <a:pt x="352" y="784"/>
                    </a:lnTo>
                    <a:lnTo>
                      <a:pt x="333" y="781"/>
                    </a:lnTo>
                    <a:lnTo>
                      <a:pt x="314" y="778"/>
                    </a:lnTo>
                    <a:lnTo>
                      <a:pt x="295" y="774"/>
                    </a:lnTo>
                    <a:lnTo>
                      <a:pt x="276" y="768"/>
                    </a:lnTo>
                    <a:lnTo>
                      <a:pt x="258" y="762"/>
                    </a:lnTo>
                    <a:lnTo>
                      <a:pt x="240" y="755"/>
                    </a:lnTo>
                    <a:lnTo>
                      <a:pt x="223" y="748"/>
                    </a:lnTo>
                    <a:lnTo>
                      <a:pt x="206" y="738"/>
                    </a:lnTo>
                    <a:lnTo>
                      <a:pt x="189" y="729"/>
                    </a:lnTo>
                    <a:lnTo>
                      <a:pt x="174" y="719"/>
                    </a:lnTo>
                    <a:lnTo>
                      <a:pt x="158" y="708"/>
                    </a:lnTo>
                    <a:lnTo>
                      <a:pt x="142" y="696"/>
                    </a:lnTo>
                    <a:lnTo>
                      <a:pt x="129" y="684"/>
                    </a:lnTo>
                    <a:lnTo>
                      <a:pt x="115" y="671"/>
                    </a:lnTo>
                    <a:lnTo>
                      <a:pt x="102" y="658"/>
                    </a:lnTo>
                    <a:lnTo>
                      <a:pt x="90" y="643"/>
                    </a:lnTo>
                    <a:lnTo>
                      <a:pt x="78" y="628"/>
                    </a:lnTo>
                    <a:lnTo>
                      <a:pt x="67" y="612"/>
                    </a:lnTo>
                    <a:lnTo>
                      <a:pt x="57" y="597"/>
                    </a:lnTo>
                    <a:lnTo>
                      <a:pt x="48" y="580"/>
                    </a:lnTo>
                    <a:lnTo>
                      <a:pt x="38" y="563"/>
                    </a:lnTo>
                    <a:lnTo>
                      <a:pt x="31" y="546"/>
                    </a:lnTo>
                    <a:lnTo>
                      <a:pt x="24" y="528"/>
                    </a:lnTo>
                    <a:lnTo>
                      <a:pt x="18" y="510"/>
                    </a:lnTo>
                    <a:lnTo>
                      <a:pt x="12" y="491"/>
                    </a:lnTo>
                    <a:lnTo>
                      <a:pt x="8" y="472"/>
                    </a:lnTo>
                    <a:lnTo>
                      <a:pt x="4" y="453"/>
                    </a:lnTo>
                    <a:lnTo>
                      <a:pt x="2" y="43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0" y="373"/>
                    </a:lnTo>
                    <a:lnTo>
                      <a:pt x="2" y="353"/>
                    </a:lnTo>
                    <a:lnTo>
                      <a:pt x="4" y="334"/>
                    </a:lnTo>
                    <a:lnTo>
                      <a:pt x="8" y="315"/>
                    </a:lnTo>
                    <a:lnTo>
                      <a:pt x="12" y="296"/>
                    </a:lnTo>
                    <a:lnTo>
                      <a:pt x="18" y="276"/>
                    </a:lnTo>
                    <a:lnTo>
                      <a:pt x="24" y="258"/>
                    </a:lnTo>
                    <a:lnTo>
                      <a:pt x="31" y="240"/>
                    </a:lnTo>
                    <a:lnTo>
                      <a:pt x="38" y="224"/>
                    </a:lnTo>
                    <a:lnTo>
                      <a:pt x="48" y="207"/>
                    </a:lnTo>
                    <a:lnTo>
                      <a:pt x="57" y="190"/>
                    </a:lnTo>
                    <a:lnTo>
                      <a:pt x="67" y="174"/>
                    </a:lnTo>
                    <a:lnTo>
                      <a:pt x="78" y="159"/>
                    </a:lnTo>
                    <a:lnTo>
                      <a:pt x="90" y="143"/>
                    </a:lnTo>
                    <a:lnTo>
                      <a:pt x="102" y="129"/>
                    </a:lnTo>
                    <a:lnTo>
                      <a:pt x="115" y="116"/>
                    </a:lnTo>
                    <a:lnTo>
                      <a:pt x="129" y="102"/>
                    </a:lnTo>
                    <a:lnTo>
                      <a:pt x="142" y="90"/>
                    </a:lnTo>
                    <a:lnTo>
                      <a:pt x="158" y="78"/>
                    </a:lnTo>
                    <a:lnTo>
                      <a:pt x="174" y="68"/>
                    </a:lnTo>
                    <a:lnTo>
                      <a:pt x="189" y="58"/>
                    </a:lnTo>
                    <a:lnTo>
                      <a:pt x="206" y="48"/>
                    </a:lnTo>
                    <a:lnTo>
                      <a:pt x="223" y="39"/>
                    </a:lnTo>
                    <a:lnTo>
                      <a:pt x="240" y="32"/>
                    </a:lnTo>
                    <a:lnTo>
                      <a:pt x="258" y="24"/>
                    </a:lnTo>
                    <a:lnTo>
                      <a:pt x="276" y="18"/>
                    </a:lnTo>
                    <a:lnTo>
                      <a:pt x="295" y="12"/>
                    </a:lnTo>
                    <a:lnTo>
                      <a:pt x="314" y="9"/>
                    </a:lnTo>
                    <a:lnTo>
                      <a:pt x="333" y="5"/>
                    </a:lnTo>
                    <a:lnTo>
                      <a:pt x="352" y="3"/>
                    </a:lnTo>
                    <a:lnTo>
                      <a:pt x="373" y="0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cc8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16280" y="4583160"/>
                <a:ext cx="309600" cy="307800"/>
              </a:xfrm>
              <a:custGeom>
                <a:avLst/>
                <a:gdLst/>
                <a:ahLst/>
                <a:rect l="l" t="t" r="r" b="b"/>
                <a:pathLst>
                  <a:path w="778" h="779">
                    <a:moveTo>
                      <a:pt x="389" y="0"/>
                    </a:moveTo>
                    <a:lnTo>
                      <a:pt x="410" y="2"/>
                    </a:lnTo>
                    <a:lnTo>
                      <a:pt x="429" y="3"/>
                    </a:lnTo>
                    <a:lnTo>
                      <a:pt x="448" y="5"/>
                    </a:lnTo>
                    <a:lnTo>
                      <a:pt x="467" y="9"/>
                    </a:lnTo>
                    <a:lnTo>
                      <a:pt x="486" y="12"/>
                    </a:lnTo>
                    <a:lnTo>
                      <a:pt x="504" y="18"/>
                    </a:lnTo>
                    <a:lnTo>
                      <a:pt x="522" y="24"/>
                    </a:lnTo>
                    <a:lnTo>
                      <a:pt x="540" y="32"/>
                    </a:lnTo>
                    <a:lnTo>
                      <a:pt x="557" y="39"/>
                    </a:lnTo>
                    <a:lnTo>
                      <a:pt x="574" y="47"/>
                    </a:lnTo>
                    <a:lnTo>
                      <a:pt x="591" y="57"/>
                    </a:lnTo>
                    <a:lnTo>
                      <a:pt x="606" y="68"/>
                    </a:lnTo>
                    <a:lnTo>
                      <a:pt x="622" y="78"/>
                    </a:lnTo>
                    <a:lnTo>
                      <a:pt x="636" y="89"/>
                    </a:lnTo>
                    <a:lnTo>
                      <a:pt x="651" y="102"/>
                    </a:lnTo>
                    <a:lnTo>
                      <a:pt x="664" y="114"/>
                    </a:lnTo>
                    <a:lnTo>
                      <a:pt x="677" y="129"/>
                    </a:lnTo>
                    <a:lnTo>
                      <a:pt x="689" y="142"/>
                    </a:lnTo>
                    <a:lnTo>
                      <a:pt x="701" y="158"/>
                    </a:lnTo>
                    <a:lnTo>
                      <a:pt x="712" y="172"/>
                    </a:lnTo>
                    <a:lnTo>
                      <a:pt x="722" y="189"/>
                    </a:lnTo>
                    <a:lnTo>
                      <a:pt x="731" y="204"/>
                    </a:lnTo>
                    <a:lnTo>
                      <a:pt x="740" y="221"/>
                    </a:lnTo>
                    <a:lnTo>
                      <a:pt x="748" y="239"/>
                    </a:lnTo>
                    <a:lnTo>
                      <a:pt x="755" y="256"/>
                    </a:lnTo>
                    <a:lnTo>
                      <a:pt x="761" y="274"/>
                    </a:lnTo>
                    <a:lnTo>
                      <a:pt x="766" y="293"/>
                    </a:lnTo>
                    <a:lnTo>
                      <a:pt x="771" y="311"/>
                    </a:lnTo>
                    <a:lnTo>
                      <a:pt x="774" y="330"/>
                    </a:lnTo>
                    <a:lnTo>
                      <a:pt x="777" y="351"/>
                    </a:lnTo>
                    <a:lnTo>
                      <a:pt x="778" y="370"/>
                    </a:lnTo>
                    <a:lnTo>
                      <a:pt x="778" y="390"/>
                    </a:lnTo>
                    <a:lnTo>
                      <a:pt x="778" y="409"/>
                    </a:lnTo>
                    <a:lnTo>
                      <a:pt x="777" y="430"/>
                    </a:lnTo>
                    <a:lnTo>
                      <a:pt x="774" y="449"/>
                    </a:lnTo>
                    <a:lnTo>
                      <a:pt x="771" y="468"/>
                    </a:lnTo>
                    <a:lnTo>
                      <a:pt x="766" y="487"/>
                    </a:lnTo>
                    <a:lnTo>
                      <a:pt x="761" y="505"/>
                    </a:lnTo>
                    <a:lnTo>
                      <a:pt x="755" y="523"/>
                    </a:lnTo>
                    <a:lnTo>
                      <a:pt x="748" y="541"/>
                    </a:lnTo>
                    <a:lnTo>
                      <a:pt x="740" y="558"/>
                    </a:lnTo>
                    <a:lnTo>
                      <a:pt x="731" y="575"/>
                    </a:lnTo>
                    <a:lnTo>
                      <a:pt x="722" y="592"/>
                    </a:lnTo>
                    <a:lnTo>
                      <a:pt x="712" y="607"/>
                    </a:lnTo>
                    <a:lnTo>
                      <a:pt x="701" y="623"/>
                    </a:lnTo>
                    <a:lnTo>
                      <a:pt x="689" y="637"/>
                    </a:lnTo>
                    <a:lnTo>
                      <a:pt x="677" y="652"/>
                    </a:lnTo>
                    <a:lnTo>
                      <a:pt x="664" y="665"/>
                    </a:lnTo>
                    <a:lnTo>
                      <a:pt x="651" y="678"/>
                    </a:lnTo>
                    <a:lnTo>
                      <a:pt x="636" y="690"/>
                    </a:lnTo>
                    <a:lnTo>
                      <a:pt x="622" y="701"/>
                    </a:lnTo>
                    <a:lnTo>
                      <a:pt x="606" y="713"/>
                    </a:lnTo>
                    <a:lnTo>
                      <a:pt x="591" y="723"/>
                    </a:lnTo>
                    <a:lnTo>
                      <a:pt x="574" y="732"/>
                    </a:lnTo>
                    <a:lnTo>
                      <a:pt x="557" y="741"/>
                    </a:lnTo>
                    <a:lnTo>
                      <a:pt x="540" y="749"/>
                    </a:lnTo>
                    <a:lnTo>
                      <a:pt x="522" y="755"/>
                    </a:lnTo>
                    <a:lnTo>
                      <a:pt x="504" y="761"/>
                    </a:lnTo>
                    <a:lnTo>
                      <a:pt x="486" y="767"/>
                    </a:lnTo>
                    <a:lnTo>
                      <a:pt x="467" y="771"/>
                    </a:lnTo>
                    <a:lnTo>
                      <a:pt x="448" y="774"/>
                    </a:lnTo>
                    <a:lnTo>
                      <a:pt x="429" y="777"/>
                    </a:lnTo>
                    <a:lnTo>
                      <a:pt x="410" y="779"/>
                    </a:lnTo>
                    <a:lnTo>
                      <a:pt x="389" y="779"/>
                    </a:lnTo>
                    <a:lnTo>
                      <a:pt x="369" y="779"/>
                    </a:lnTo>
                    <a:lnTo>
                      <a:pt x="350" y="777"/>
                    </a:lnTo>
                    <a:lnTo>
                      <a:pt x="330" y="774"/>
                    </a:lnTo>
                    <a:lnTo>
                      <a:pt x="311" y="771"/>
                    </a:lnTo>
                    <a:lnTo>
                      <a:pt x="292" y="767"/>
                    </a:lnTo>
                    <a:lnTo>
                      <a:pt x="274" y="761"/>
                    </a:lnTo>
                    <a:lnTo>
                      <a:pt x="256" y="755"/>
                    </a:lnTo>
                    <a:lnTo>
                      <a:pt x="238" y="749"/>
                    </a:lnTo>
                    <a:lnTo>
                      <a:pt x="221" y="741"/>
                    </a:lnTo>
                    <a:lnTo>
                      <a:pt x="204" y="732"/>
                    </a:lnTo>
                    <a:lnTo>
                      <a:pt x="188" y="723"/>
                    </a:lnTo>
                    <a:lnTo>
                      <a:pt x="172" y="713"/>
                    </a:lnTo>
                    <a:lnTo>
                      <a:pt x="156" y="701"/>
                    </a:lnTo>
                    <a:lnTo>
                      <a:pt x="142" y="690"/>
                    </a:lnTo>
                    <a:lnTo>
                      <a:pt x="128" y="678"/>
                    </a:lnTo>
                    <a:lnTo>
                      <a:pt x="114" y="665"/>
                    </a:lnTo>
                    <a:lnTo>
                      <a:pt x="101" y="652"/>
                    </a:lnTo>
                    <a:lnTo>
                      <a:pt x="89" y="637"/>
                    </a:lnTo>
                    <a:lnTo>
                      <a:pt x="77" y="623"/>
                    </a:lnTo>
                    <a:lnTo>
                      <a:pt x="66" y="607"/>
                    </a:lnTo>
                    <a:lnTo>
                      <a:pt x="57" y="592"/>
                    </a:lnTo>
                    <a:lnTo>
                      <a:pt x="47" y="575"/>
                    </a:lnTo>
                    <a:lnTo>
                      <a:pt x="39" y="558"/>
                    </a:lnTo>
                    <a:lnTo>
                      <a:pt x="30" y="541"/>
                    </a:lnTo>
                    <a:lnTo>
                      <a:pt x="23" y="523"/>
                    </a:lnTo>
                    <a:lnTo>
                      <a:pt x="17" y="505"/>
                    </a:lnTo>
                    <a:lnTo>
                      <a:pt x="12" y="487"/>
                    </a:lnTo>
                    <a:lnTo>
                      <a:pt x="8" y="468"/>
                    </a:lnTo>
                    <a:lnTo>
                      <a:pt x="4" y="449"/>
                    </a:lnTo>
                    <a:lnTo>
                      <a:pt x="2" y="430"/>
                    </a:lnTo>
                    <a:lnTo>
                      <a:pt x="0" y="409"/>
                    </a:lnTo>
                    <a:lnTo>
                      <a:pt x="0" y="390"/>
                    </a:lnTo>
                    <a:lnTo>
                      <a:pt x="0" y="370"/>
                    </a:lnTo>
                    <a:lnTo>
                      <a:pt x="2" y="351"/>
                    </a:lnTo>
                    <a:lnTo>
                      <a:pt x="4" y="330"/>
                    </a:lnTo>
                    <a:lnTo>
                      <a:pt x="8" y="311"/>
                    </a:lnTo>
                    <a:lnTo>
                      <a:pt x="12" y="293"/>
                    </a:lnTo>
                    <a:lnTo>
                      <a:pt x="17" y="274"/>
                    </a:lnTo>
                    <a:lnTo>
                      <a:pt x="23" y="256"/>
                    </a:lnTo>
                    <a:lnTo>
                      <a:pt x="30" y="239"/>
                    </a:lnTo>
                    <a:lnTo>
                      <a:pt x="39" y="221"/>
                    </a:lnTo>
                    <a:lnTo>
                      <a:pt x="47" y="204"/>
                    </a:lnTo>
                    <a:lnTo>
                      <a:pt x="57" y="189"/>
                    </a:lnTo>
                    <a:lnTo>
                      <a:pt x="66" y="172"/>
                    </a:lnTo>
                    <a:lnTo>
                      <a:pt x="77" y="158"/>
                    </a:lnTo>
                    <a:lnTo>
                      <a:pt x="89" y="142"/>
                    </a:lnTo>
                    <a:lnTo>
                      <a:pt x="101" y="129"/>
                    </a:lnTo>
                    <a:lnTo>
                      <a:pt x="114" y="114"/>
                    </a:lnTo>
                    <a:lnTo>
                      <a:pt x="128" y="102"/>
                    </a:lnTo>
                    <a:lnTo>
                      <a:pt x="142" y="89"/>
                    </a:lnTo>
                    <a:lnTo>
                      <a:pt x="156" y="78"/>
                    </a:lnTo>
                    <a:lnTo>
                      <a:pt x="172" y="68"/>
                    </a:lnTo>
                    <a:lnTo>
                      <a:pt x="188" y="57"/>
                    </a:lnTo>
                    <a:lnTo>
                      <a:pt x="204" y="47"/>
                    </a:lnTo>
                    <a:lnTo>
                      <a:pt x="221" y="39"/>
                    </a:lnTo>
                    <a:lnTo>
                      <a:pt x="238" y="32"/>
                    </a:lnTo>
                    <a:lnTo>
                      <a:pt x="256" y="24"/>
                    </a:lnTo>
                    <a:lnTo>
                      <a:pt x="274" y="18"/>
                    </a:lnTo>
                    <a:lnTo>
                      <a:pt x="292" y="12"/>
                    </a:lnTo>
                    <a:lnTo>
                      <a:pt x="311" y="9"/>
                    </a:lnTo>
                    <a:lnTo>
                      <a:pt x="330" y="5"/>
                    </a:lnTo>
                    <a:lnTo>
                      <a:pt x="350" y="3"/>
                    </a:lnTo>
                    <a:lnTo>
                      <a:pt x="369" y="2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48e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717720" y="458460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772" h="772">
                    <a:moveTo>
                      <a:pt x="385" y="0"/>
                    </a:moveTo>
                    <a:lnTo>
                      <a:pt x="406" y="2"/>
                    </a:lnTo>
                    <a:lnTo>
                      <a:pt x="425" y="3"/>
                    </a:lnTo>
                    <a:lnTo>
                      <a:pt x="444" y="5"/>
                    </a:lnTo>
                    <a:lnTo>
                      <a:pt x="463" y="9"/>
                    </a:lnTo>
                    <a:lnTo>
                      <a:pt x="482" y="14"/>
                    </a:lnTo>
                    <a:lnTo>
                      <a:pt x="500" y="18"/>
                    </a:lnTo>
                    <a:lnTo>
                      <a:pt x="518" y="24"/>
                    </a:lnTo>
                    <a:lnTo>
                      <a:pt x="535" y="32"/>
                    </a:lnTo>
                    <a:lnTo>
                      <a:pt x="553" y="39"/>
                    </a:lnTo>
                    <a:lnTo>
                      <a:pt x="569" y="47"/>
                    </a:lnTo>
                    <a:lnTo>
                      <a:pt x="586" y="57"/>
                    </a:lnTo>
                    <a:lnTo>
                      <a:pt x="601" y="66"/>
                    </a:lnTo>
                    <a:lnTo>
                      <a:pt x="616" y="77"/>
                    </a:lnTo>
                    <a:lnTo>
                      <a:pt x="631" y="89"/>
                    </a:lnTo>
                    <a:lnTo>
                      <a:pt x="644" y="101"/>
                    </a:lnTo>
                    <a:lnTo>
                      <a:pt x="658" y="114"/>
                    </a:lnTo>
                    <a:lnTo>
                      <a:pt x="671" y="128"/>
                    </a:lnTo>
                    <a:lnTo>
                      <a:pt x="683" y="142"/>
                    </a:lnTo>
                    <a:lnTo>
                      <a:pt x="695" y="156"/>
                    </a:lnTo>
                    <a:lnTo>
                      <a:pt x="706" y="171"/>
                    </a:lnTo>
                    <a:lnTo>
                      <a:pt x="715" y="186"/>
                    </a:lnTo>
                    <a:lnTo>
                      <a:pt x="725" y="203"/>
                    </a:lnTo>
                    <a:lnTo>
                      <a:pt x="733" y="220"/>
                    </a:lnTo>
                    <a:lnTo>
                      <a:pt x="740" y="237"/>
                    </a:lnTo>
                    <a:lnTo>
                      <a:pt x="748" y="254"/>
                    </a:lnTo>
                    <a:lnTo>
                      <a:pt x="754" y="272"/>
                    </a:lnTo>
                    <a:lnTo>
                      <a:pt x="760" y="291"/>
                    </a:lnTo>
                    <a:lnTo>
                      <a:pt x="763" y="309"/>
                    </a:lnTo>
                    <a:lnTo>
                      <a:pt x="767" y="328"/>
                    </a:lnTo>
                    <a:lnTo>
                      <a:pt x="769" y="347"/>
                    </a:lnTo>
                    <a:lnTo>
                      <a:pt x="770" y="366"/>
                    </a:lnTo>
                    <a:lnTo>
                      <a:pt x="772" y="387"/>
                    </a:lnTo>
                    <a:lnTo>
                      <a:pt x="770" y="406"/>
                    </a:lnTo>
                    <a:lnTo>
                      <a:pt x="769" y="426"/>
                    </a:lnTo>
                    <a:lnTo>
                      <a:pt x="767" y="445"/>
                    </a:lnTo>
                    <a:lnTo>
                      <a:pt x="763" y="463"/>
                    </a:lnTo>
                    <a:lnTo>
                      <a:pt x="760" y="483"/>
                    </a:lnTo>
                    <a:lnTo>
                      <a:pt x="754" y="501"/>
                    </a:lnTo>
                    <a:lnTo>
                      <a:pt x="748" y="519"/>
                    </a:lnTo>
                    <a:lnTo>
                      <a:pt x="740" y="537"/>
                    </a:lnTo>
                    <a:lnTo>
                      <a:pt x="733" y="553"/>
                    </a:lnTo>
                    <a:lnTo>
                      <a:pt x="725" y="570"/>
                    </a:lnTo>
                    <a:lnTo>
                      <a:pt x="715" y="586"/>
                    </a:lnTo>
                    <a:lnTo>
                      <a:pt x="706" y="601"/>
                    </a:lnTo>
                    <a:lnTo>
                      <a:pt x="695" y="617"/>
                    </a:lnTo>
                    <a:lnTo>
                      <a:pt x="683" y="631"/>
                    </a:lnTo>
                    <a:lnTo>
                      <a:pt x="671" y="646"/>
                    </a:lnTo>
                    <a:lnTo>
                      <a:pt x="658" y="659"/>
                    </a:lnTo>
                    <a:lnTo>
                      <a:pt x="644" y="671"/>
                    </a:lnTo>
                    <a:lnTo>
                      <a:pt x="631" y="684"/>
                    </a:lnTo>
                    <a:lnTo>
                      <a:pt x="616" y="695"/>
                    </a:lnTo>
                    <a:lnTo>
                      <a:pt x="601" y="706"/>
                    </a:lnTo>
                    <a:lnTo>
                      <a:pt x="586" y="717"/>
                    </a:lnTo>
                    <a:lnTo>
                      <a:pt x="569" y="725"/>
                    </a:lnTo>
                    <a:lnTo>
                      <a:pt x="553" y="733"/>
                    </a:lnTo>
                    <a:lnTo>
                      <a:pt x="535" y="742"/>
                    </a:lnTo>
                    <a:lnTo>
                      <a:pt x="518" y="749"/>
                    </a:lnTo>
                    <a:lnTo>
                      <a:pt x="500" y="755"/>
                    </a:lnTo>
                    <a:lnTo>
                      <a:pt x="482" y="760"/>
                    </a:lnTo>
                    <a:lnTo>
                      <a:pt x="463" y="765"/>
                    </a:lnTo>
                    <a:lnTo>
                      <a:pt x="444" y="767"/>
                    </a:lnTo>
                    <a:lnTo>
                      <a:pt x="425" y="769"/>
                    </a:lnTo>
                    <a:lnTo>
                      <a:pt x="406" y="772"/>
                    </a:lnTo>
                    <a:lnTo>
                      <a:pt x="385" y="772"/>
                    </a:lnTo>
                    <a:lnTo>
                      <a:pt x="366" y="772"/>
                    </a:lnTo>
                    <a:lnTo>
                      <a:pt x="347" y="769"/>
                    </a:lnTo>
                    <a:lnTo>
                      <a:pt x="328" y="767"/>
                    </a:lnTo>
                    <a:lnTo>
                      <a:pt x="308" y="765"/>
                    </a:lnTo>
                    <a:lnTo>
                      <a:pt x="289" y="760"/>
                    </a:lnTo>
                    <a:lnTo>
                      <a:pt x="271" y="755"/>
                    </a:lnTo>
                    <a:lnTo>
                      <a:pt x="253" y="749"/>
                    </a:lnTo>
                    <a:lnTo>
                      <a:pt x="236" y="742"/>
                    </a:lnTo>
                    <a:lnTo>
                      <a:pt x="218" y="733"/>
                    </a:lnTo>
                    <a:lnTo>
                      <a:pt x="202" y="725"/>
                    </a:lnTo>
                    <a:lnTo>
                      <a:pt x="186" y="717"/>
                    </a:lnTo>
                    <a:lnTo>
                      <a:pt x="170" y="706"/>
                    </a:lnTo>
                    <a:lnTo>
                      <a:pt x="155" y="695"/>
                    </a:lnTo>
                    <a:lnTo>
                      <a:pt x="140" y="684"/>
                    </a:lnTo>
                    <a:lnTo>
                      <a:pt x="127" y="671"/>
                    </a:lnTo>
                    <a:lnTo>
                      <a:pt x="113" y="659"/>
                    </a:lnTo>
                    <a:lnTo>
                      <a:pt x="101" y="646"/>
                    </a:lnTo>
                    <a:lnTo>
                      <a:pt x="89" y="631"/>
                    </a:lnTo>
                    <a:lnTo>
                      <a:pt x="77" y="617"/>
                    </a:lnTo>
                    <a:lnTo>
                      <a:pt x="66" y="601"/>
                    </a:lnTo>
                    <a:lnTo>
                      <a:pt x="56" y="586"/>
                    </a:lnTo>
                    <a:lnTo>
                      <a:pt x="47" y="570"/>
                    </a:lnTo>
                    <a:lnTo>
                      <a:pt x="38" y="553"/>
                    </a:lnTo>
                    <a:lnTo>
                      <a:pt x="30" y="537"/>
                    </a:lnTo>
                    <a:lnTo>
                      <a:pt x="24" y="519"/>
                    </a:lnTo>
                    <a:lnTo>
                      <a:pt x="18" y="501"/>
                    </a:lnTo>
                    <a:lnTo>
                      <a:pt x="12" y="483"/>
                    </a:lnTo>
                    <a:lnTo>
                      <a:pt x="8" y="463"/>
                    </a:lnTo>
                    <a:lnTo>
                      <a:pt x="5" y="445"/>
                    </a:lnTo>
                    <a:lnTo>
                      <a:pt x="2" y="426"/>
                    </a:lnTo>
                    <a:lnTo>
                      <a:pt x="1" y="406"/>
                    </a:lnTo>
                    <a:lnTo>
                      <a:pt x="0" y="387"/>
                    </a:lnTo>
                    <a:lnTo>
                      <a:pt x="1" y="366"/>
                    </a:lnTo>
                    <a:lnTo>
                      <a:pt x="2" y="347"/>
                    </a:lnTo>
                    <a:lnTo>
                      <a:pt x="5" y="328"/>
                    </a:lnTo>
                    <a:lnTo>
                      <a:pt x="8" y="309"/>
                    </a:lnTo>
                    <a:lnTo>
                      <a:pt x="12" y="291"/>
                    </a:lnTo>
                    <a:lnTo>
                      <a:pt x="18" y="272"/>
                    </a:lnTo>
                    <a:lnTo>
                      <a:pt x="24" y="254"/>
                    </a:lnTo>
                    <a:lnTo>
                      <a:pt x="30" y="237"/>
                    </a:lnTo>
                    <a:lnTo>
                      <a:pt x="38" y="220"/>
                    </a:lnTo>
                    <a:lnTo>
                      <a:pt x="47" y="203"/>
                    </a:lnTo>
                    <a:lnTo>
                      <a:pt x="56" y="186"/>
                    </a:lnTo>
                    <a:lnTo>
                      <a:pt x="66" y="171"/>
                    </a:lnTo>
                    <a:lnTo>
                      <a:pt x="77" y="156"/>
                    </a:lnTo>
                    <a:lnTo>
                      <a:pt x="89" y="142"/>
                    </a:lnTo>
                    <a:lnTo>
                      <a:pt x="101" y="128"/>
                    </a:lnTo>
                    <a:lnTo>
                      <a:pt x="113" y="114"/>
                    </a:lnTo>
                    <a:lnTo>
                      <a:pt x="127" y="101"/>
                    </a:lnTo>
                    <a:lnTo>
                      <a:pt x="140" y="89"/>
                    </a:lnTo>
                    <a:lnTo>
                      <a:pt x="155" y="77"/>
                    </a:lnTo>
                    <a:lnTo>
                      <a:pt x="170" y="66"/>
                    </a:lnTo>
                    <a:lnTo>
                      <a:pt x="186" y="57"/>
                    </a:lnTo>
                    <a:lnTo>
                      <a:pt x="202" y="47"/>
                    </a:lnTo>
                    <a:lnTo>
                      <a:pt x="218" y="39"/>
                    </a:lnTo>
                    <a:lnTo>
                      <a:pt x="236" y="32"/>
                    </a:lnTo>
                    <a:lnTo>
                      <a:pt x="253" y="24"/>
                    </a:lnTo>
                    <a:lnTo>
                      <a:pt x="271" y="18"/>
                    </a:lnTo>
                    <a:lnTo>
                      <a:pt x="289" y="14"/>
                    </a:lnTo>
                    <a:lnTo>
                      <a:pt x="308" y="9"/>
                    </a:lnTo>
                    <a:lnTo>
                      <a:pt x="328" y="5"/>
                    </a:lnTo>
                    <a:lnTo>
                      <a:pt x="347" y="3"/>
                    </a:lnTo>
                    <a:lnTo>
                      <a:pt x="366" y="2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990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719520" y="4587840"/>
                <a:ext cx="303120" cy="303120"/>
              </a:xfrm>
              <a:custGeom>
                <a:avLst/>
                <a:gdLst/>
                <a:ahLst/>
                <a:rect l="l" t="t" r="r" b="b"/>
                <a:pathLst>
                  <a:path w="763" h="763">
                    <a:moveTo>
                      <a:pt x="381" y="0"/>
                    </a:moveTo>
                    <a:lnTo>
                      <a:pt x="401" y="0"/>
                    </a:lnTo>
                    <a:lnTo>
                      <a:pt x="420" y="1"/>
                    </a:lnTo>
                    <a:lnTo>
                      <a:pt x="439" y="3"/>
                    </a:lnTo>
                    <a:lnTo>
                      <a:pt x="458" y="7"/>
                    </a:lnTo>
                    <a:lnTo>
                      <a:pt x="476" y="12"/>
                    </a:lnTo>
                    <a:lnTo>
                      <a:pt x="494" y="16"/>
                    </a:lnTo>
                    <a:lnTo>
                      <a:pt x="512" y="22"/>
                    </a:lnTo>
                    <a:lnTo>
                      <a:pt x="530" y="30"/>
                    </a:lnTo>
                    <a:lnTo>
                      <a:pt x="547" y="37"/>
                    </a:lnTo>
                    <a:lnTo>
                      <a:pt x="563" y="45"/>
                    </a:lnTo>
                    <a:lnTo>
                      <a:pt x="579" y="55"/>
                    </a:lnTo>
                    <a:lnTo>
                      <a:pt x="595" y="64"/>
                    </a:lnTo>
                    <a:lnTo>
                      <a:pt x="609" y="75"/>
                    </a:lnTo>
                    <a:lnTo>
                      <a:pt x="624" y="87"/>
                    </a:lnTo>
                    <a:lnTo>
                      <a:pt x="638" y="99"/>
                    </a:lnTo>
                    <a:lnTo>
                      <a:pt x="651" y="111"/>
                    </a:lnTo>
                    <a:lnTo>
                      <a:pt x="663" y="124"/>
                    </a:lnTo>
                    <a:lnTo>
                      <a:pt x="675" y="139"/>
                    </a:lnTo>
                    <a:lnTo>
                      <a:pt x="687" y="153"/>
                    </a:lnTo>
                    <a:lnTo>
                      <a:pt x="698" y="168"/>
                    </a:lnTo>
                    <a:lnTo>
                      <a:pt x="708" y="183"/>
                    </a:lnTo>
                    <a:lnTo>
                      <a:pt x="717" y="199"/>
                    </a:lnTo>
                    <a:lnTo>
                      <a:pt x="726" y="216"/>
                    </a:lnTo>
                    <a:lnTo>
                      <a:pt x="733" y="232"/>
                    </a:lnTo>
                    <a:lnTo>
                      <a:pt x="740" y="250"/>
                    </a:lnTo>
                    <a:lnTo>
                      <a:pt x="746" y="267"/>
                    </a:lnTo>
                    <a:lnTo>
                      <a:pt x="751" y="286"/>
                    </a:lnTo>
                    <a:lnTo>
                      <a:pt x="756" y="304"/>
                    </a:lnTo>
                    <a:lnTo>
                      <a:pt x="758" y="324"/>
                    </a:lnTo>
                    <a:lnTo>
                      <a:pt x="761" y="341"/>
                    </a:lnTo>
                    <a:lnTo>
                      <a:pt x="763" y="362"/>
                    </a:lnTo>
                    <a:lnTo>
                      <a:pt x="763" y="381"/>
                    </a:lnTo>
                    <a:lnTo>
                      <a:pt x="763" y="400"/>
                    </a:lnTo>
                    <a:lnTo>
                      <a:pt x="761" y="419"/>
                    </a:lnTo>
                    <a:lnTo>
                      <a:pt x="758" y="439"/>
                    </a:lnTo>
                    <a:lnTo>
                      <a:pt x="756" y="458"/>
                    </a:lnTo>
                    <a:lnTo>
                      <a:pt x="751" y="476"/>
                    </a:lnTo>
                    <a:lnTo>
                      <a:pt x="746" y="494"/>
                    </a:lnTo>
                    <a:lnTo>
                      <a:pt x="740" y="512"/>
                    </a:lnTo>
                    <a:lnTo>
                      <a:pt x="733" y="530"/>
                    </a:lnTo>
                    <a:lnTo>
                      <a:pt x="726" y="547"/>
                    </a:lnTo>
                    <a:lnTo>
                      <a:pt x="717" y="562"/>
                    </a:lnTo>
                    <a:lnTo>
                      <a:pt x="708" y="579"/>
                    </a:lnTo>
                    <a:lnTo>
                      <a:pt x="698" y="595"/>
                    </a:lnTo>
                    <a:lnTo>
                      <a:pt x="687" y="609"/>
                    </a:lnTo>
                    <a:lnTo>
                      <a:pt x="675" y="623"/>
                    </a:lnTo>
                    <a:lnTo>
                      <a:pt x="663" y="638"/>
                    </a:lnTo>
                    <a:lnTo>
                      <a:pt x="651" y="651"/>
                    </a:lnTo>
                    <a:lnTo>
                      <a:pt x="638" y="663"/>
                    </a:lnTo>
                    <a:lnTo>
                      <a:pt x="624" y="675"/>
                    </a:lnTo>
                    <a:lnTo>
                      <a:pt x="609" y="687"/>
                    </a:lnTo>
                    <a:lnTo>
                      <a:pt x="595" y="698"/>
                    </a:lnTo>
                    <a:lnTo>
                      <a:pt x="579" y="707"/>
                    </a:lnTo>
                    <a:lnTo>
                      <a:pt x="563" y="717"/>
                    </a:lnTo>
                    <a:lnTo>
                      <a:pt x="547" y="725"/>
                    </a:lnTo>
                    <a:lnTo>
                      <a:pt x="530" y="733"/>
                    </a:lnTo>
                    <a:lnTo>
                      <a:pt x="512" y="740"/>
                    </a:lnTo>
                    <a:lnTo>
                      <a:pt x="494" y="746"/>
                    </a:lnTo>
                    <a:lnTo>
                      <a:pt x="476" y="751"/>
                    </a:lnTo>
                    <a:lnTo>
                      <a:pt x="458" y="755"/>
                    </a:lnTo>
                    <a:lnTo>
                      <a:pt x="439" y="759"/>
                    </a:lnTo>
                    <a:lnTo>
                      <a:pt x="420" y="761"/>
                    </a:lnTo>
                    <a:lnTo>
                      <a:pt x="401" y="763"/>
                    </a:lnTo>
                    <a:lnTo>
                      <a:pt x="381" y="763"/>
                    </a:lnTo>
                    <a:lnTo>
                      <a:pt x="362" y="763"/>
                    </a:lnTo>
                    <a:lnTo>
                      <a:pt x="342" y="761"/>
                    </a:lnTo>
                    <a:lnTo>
                      <a:pt x="324" y="759"/>
                    </a:lnTo>
                    <a:lnTo>
                      <a:pt x="305" y="755"/>
                    </a:lnTo>
                    <a:lnTo>
                      <a:pt x="285" y="751"/>
                    </a:lnTo>
                    <a:lnTo>
                      <a:pt x="267" y="746"/>
                    </a:lnTo>
                    <a:lnTo>
                      <a:pt x="251" y="740"/>
                    </a:lnTo>
                    <a:lnTo>
                      <a:pt x="233" y="733"/>
                    </a:lnTo>
                    <a:lnTo>
                      <a:pt x="216" y="725"/>
                    </a:lnTo>
                    <a:lnTo>
                      <a:pt x="199" y="717"/>
                    </a:lnTo>
                    <a:lnTo>
                      <a:pt x="183" y="707"/>
                    </a:lnTo>
                    <a:lnTo>
                      <a:pt x="168" y="698"/>
                    </a:lnTo>
                    <a:lnTo>
                      <a:pt x="153" y="687"/>
                    </a:lnTo>
                    <a:lnTo>
                      <a:pt x="139" y="675"/>
                    </a:lnTo>
                    <a:lnTo>
                      <a:pt x="125" y="663"/>
                    </a:lnTo>
                    <a:lnTo>
                      <a:pt x="111" y="651"/>
                    </a:lnTo>
                    <a:lnTo>
                      <a:pt x="98" y="638"/>
                    </a:lnTo>
                    <a:lnTo>
                      <a:pt x="86" y="623"/>
                    </a:lnTo>
                    <a:lnTo>
                      <a:pt x="75" y="609"/>
                    </a:lnTo>
                    <a:lnTo>
                      <a:pt x="65" y="595"/>
                    </a:lnTo>
                    <a:lnTo>
                      <a:pt x="55" y="579"/>
                    </a:lnTo>
                    <a:lnTo>
                      <a:pt x="45" y="562"/>
                    </a:lnTo>
                    <a:lnTo>
                      <a:pt x="37" y="547"/>
                    </a:lnTo>
                    <a:lnTo>
                      <a:pt x="30" y="530"/>
                    </a:lnTo>
                    <a:lnTo>
                      <a:pt x="23" y="512"/>
                    </a:lnTo>
                    <a:lnTo>
                      <a:pt x="17" y="494"/>
                    </a:lnTo>
                    <a:lnTo>
                      <a:pt x="12" y="476"/>
                    </a:lnTo>
                    <a:lnTo>
                      <a:pt x="7" y="458"/>
                    </a:lnTo>
                    <a:lnTo>
                      <a:pt x="3" y="439"/>
                    </a:lnTo>
                    <a:lnTo>
                      <a:pt x="1" y="419"/>
                    </a:lnTo>
                    <a:lnTo>
                      <a:pt x="0" y="400"/>
                    </a:lnTo>
                    <a:lnTo>
                      <a:pt x="0" y="381"/>
                    </a:lnTo>
                    <a:lnTo>
                      <a:pt x="0" y="362"/>
                    </a:lnTo>
                    <a:lnTo>
                      <a:pt x="1" y="341"/>
                    </a:lnTo>
                    <a:lnTo>
                      <a:pt x="3" y="324"/>
                    </a:lnTo>
                    <a:lnTo>
                      <a:pt x="7" y="304"/>
                    </a:lnTo>
                    <a:lnTo>
                      <a:pt x="12" y="286"/>
                    </a:lnTo>
                    <a:lnTo>
                      <a:pt x="17" y="267"/>
                    </a:lnTo>
                    <a:lnTo>
                      <a:pt x="23" y="250"/>
                    </a:lnTo>
                    <a:lnTo>
                      <a:pt x="30" y="232"/>
                    </a:lnTo>
                    <a:lnTo>
                      <a:pt x="37" y="216"/>
                    </a:lnTo>
                    <a:lnTo>
                      <a:pt x="45" y="199"/>
                    </a:lnTo>
                    <a:lnTo>
                      <a:pt x="55" y="183"/>
                    </a:lnTo>
                    <a:lnTo>
                      <a:pt x="65" y="168"/>
                    </a:lnTo>
                    <a:lnTo>
                      <a:pt x="75" y="153"/>
                    </a:lnTo>
                    <a:lnTo>
                      <a:pt x="86" y="139"/>
                    </a:lnTo>
                    <a:lnTo>
                      <a:pt x="98" y="124"/>
                    </a:lnTo>
                    <a:lnTo>
                      <a:pt x="111" y="111"/>
                    </a:lnTo>
                    <a:lnTo>
                      <a:pt x="125" y="99"/>
                    </a:lnTo>
                    <a:lnTo>
                      <a:pt x="139" y="87"/>
                    </a:lnTo>
                    <a:lnTo>
                      <a:pt x="153" y="75"/>
                    </a:lnTo>
                    <a:lnTo>
                      <a:pt x="168" y="64"/>
                    </a:lnTo>
                    <a:lnTo>
                      <a:pt x="183" y="55"/>
                    </a:lnTo>
                    <a:lnTo>
                      <a:pt x="199" y="45"/>
                    </a:lnTo>
                    <a:lnTo>
                      <a:pt x="216" y="37"/>
                    </a:lnTo>
                    <a:lnTo>
                      <a:pt x="233" y="30"/>
                    </a:lnTo>
                    <a:lnTo>
                      <a:pt x="251" y="22"/>
                    </a:lnTo>
                    <a:lnTo>
                      <a:pt x="267" y="16"/>
                    </a:lnTo>
                    <a:lnTo>
                      <a:pt x="285" y="12"/>
                    </a:lnTo>
                    <a:lnTo>
                      <a:pt x="305" y="7"/>
                    </a:lnTo>
                    <a:lnTo>
                      <a:pt x="324" y="3"/>
                    </a:lnTo>
                    <a:lnTo>
                      <a:pt x="342" y="1"/>
                    </a:lnTo>
                    <a:lnTo>
                      <a:pt x="362" y="0"/>
                    </a:lnTo>
                    <a:lnTo>
                      <a:pt x="381" y="0"/>
                    </a:lnTo>
                    <a:close/>
                  </a:path>
                </a:pathLst>
              </a:custGeom>
              <a:solidFill>
                <a:srgbClr val="df9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720960" y="4591080"/>
                <a:ext cx="300240" cy="299880"/>
              </a:xfrm>
              <a:custGeom>
                <a:avLst/>
                <a:gdLst/>
                <a:ahLst/>
                <a:rect l="l" t="t" r="r" b="b"/>
                <a:pathLst>
                  <a:path w="756" h="755">
                    <a:moveTo>
                      <a:pt x="378" y="0"/>
                    </a:moveTo>
                    <a:lnTo>
                      <a:pt x="398" y="0"/>
                    </a:lnTo>
                    <a:lnTo>
                      <a:pt x="417" y="2"/>
                    </a:lnTo>
                    <a:lnTo>
                      <a:pt x="436" y="4"/>
                    </a:lnTo>
                    <a:lnTo>
                      <a:pt x="455" y="7"/>
                    </a:lnTo>
                    <a:lnTo>
                      <a:pt x="473" y="12"/>
                    </a:lnTo>
                    <a:lnTo>
                      <a:pt x="491" y="16"/>
                    </a:lnTo>
                    <a:lnTo>
                      <a:pt x="508" y="22"/>
                    </a:lnTo>
                    <a:lnTo>
                      <a:pt x="526" y="30"/>
                    </a:lnTo>
                    <a:lnTo>
                      <a:pt x="543" y="37"/>
                    </a:lnTo>
                    <a:lnTo>
                      <a:pt x="558" y="45"/>
                    </a:lnTo>
                    <a:lnTo>
                      <a:pt x="574" y="55"/>
                    </a:lnTo>
                    <a:lnTo>
                      <a:pt x="590" y="64"/>
                    </a:lnTo>
                    <a:lnTo>
                      <a:pt x="605" y="75"/>
                    </a:lnTo>
                    <a:lnTo>
                      <a:pt x="620" y="86"/>
                    </a:lnTo>
                    <a:lnTo>
                      <a:pt x="633" y="98"/>
                    </a:lnTo>
                    <a:lnTo>
                      <a:pt x="646" y="110"/>
                    </a:lnTo>
                    <a:lnTo>
                      <a:pt x="658" y="123"/>
                    </a:lnTo>
                    <a:lnTo>
                      <a:pt x="670" y="138"/>
                    </a:lnTo>
                    <a:lnTo>
                      <a:pt x="682" y="152"/>
                    </a:lnTo>
                    <a:lnTo>
                      <a:pt x="693" y="166"/>
                    </a:lnTo>
                    <a:lnTo>
                      <a:pt x="702" y="182"/>
                    </a:lnTo>
                    <a:lnTo>
                      <a:pt x="711" y="198"/>
                    </a:lnTo>
                    <a:lnTo>
                      <a:pt x="719" y="214"/>
                    </a:lnTo>
                    <a:lnTo>
                      <a:pt x="728" y="231"/>
                    </a:lnTo>
                    <a:lnTo>
                      <a:pt x="734" y="248"/>
                    </a:lnTo>
                    <a:lnTo>
                      <a:pt x="740" y="266"/>
                    </a:lnTo>
                    <a:lnTo>
                      <a:pt x="744" y="283"/>
                    </a:lnTo>
                    <a:lnTo>
                      <a:pt x="749" y="302"/>
                    </a:lnTo>
                    <a:lnTo>
                      <a:pt x="753" y="320"/>
                    </a:lnTo>
                    <a:lnTo>
                      <a:pt x="755" y="339"/>
                    </a:lnTo>
                    <a:lnTo>
                      <a:pt x="756" y="358"/>
                    </a:lnTo>
                    <a:lnTo>
                      <a:pt x="756" y="377"/>
                    </a:lnTo>
                    <a:lnTo>
                      <a:pt x="756" y="397"/>
                    </a:lnTo>
                    <a:lnTo>
                      <a:pt x="755" y="416"/>
                    </a:lnTo>
                    <a:lnTo>
                      <a:pt x="753" y="435"/>
                    </a:lnTo>
                    <a:lnTo>
                      <a:pt x="749" y="453"/>
                    </a:lnTo>
                    <a:lnTo>
                      <a:pt x="744" y="472"/>
                    </a:lnTo>
                    <a:lnTo>
                      <a:pt x="740" y="490"/>
                    </a:lnTo>
                    <a:lnTo>
                      <a:pt x="734" y="507"/>
                    </a:lnTo>
                    <a:lnTo>
                      <a:pt x="728" y="525"/>
                    </a:lnTo>
                    <a:lnTo>
                      <a:pt x="719" y="542"/>
                    </a:lnTo>
                    <a:lnTo>
                      <a:pt x="711" y="557"/>
                    </a:lnTo>
                    <a:lnTo>
                      <a:pt x="702" y="573"/>
                    </a:lnTo>
                    <a:lnTo>
                      <a:pt x="693" y="589"/>
                    </a:lnTo>
                    <a:lnTo>
                      <a:pt x="682" y="603"/>
                    </a:lnTo>
                    <a:lnTo>
                      <a:pt x="670" y="617"/>
                    </a:lnTo>
                    <a:lnTo>
                      <a:pt x="658" y="632"/>
                    </a:lnTo>
                    <a:lnTo>
                      <a:pt x="646" y="645"/>
                    </a:lnTo>
                    <a:lnTo>
                      <a:pt x="633" y="657"/>
                    </a:lnTo>
                    <a:lnTo>
                      <a:pt x="620" y="669"/>
                    </a:lnTo>
                    <a:lnTo>
                      <a:pt x="605" y="680"/>
                    </a:lnTo>
                    <a:lnTo>
                      <a:pt x="590" y="691"/>
                    </a:lnTo>
                    <a:lnTo>
                      <a:pt x="574" y="701"/>
                    </a:lnTo>
                    <a:lnTo>
                      <a:pt x="558" y="710"/>
                    </a:lnTo>
                    <a:lnTo>
                      <a:pt x="543" y="718"/>
                    </a:lnTo>
                    <a:lnTo>
                      <a:pt x="526" y="725"/>
                    </a:lnTo>
                    <a:lnTo>
                      <a:pt x="508" y="733"/>
                    </a:lnTo>
                    <a:lnTo>
                      <a:pt x="491" y="739"/>
                    </a:lnTo>
                    <a:lnTo>
                      <a:pt x="473" y="743"/>
                    </a:lnTo>
                    <a:lnTo>
                      <a:pt x="455" y="748"/>
                    </a:lnTo>
                    <a:lnTo>
                      <a:pt x="436" y="752"/>
                    </a:lnTo>
                    <a:lnTo>
                      <a:pt x="417" y="754"/>
                    </a:lnTo>
                    <a:lnTo>
                      <a:pt x="398" y="755"/>
                    </a:lnTo>
                    <a:lnTo>
                      <a:pt x="378" y="755"/>
                    </a:lnTo>
                    <a:lnTo>
                      <a:pt x="359" y="755"/>
                    </a:lnTo>
                    <a:lnTo>
                      <a:pt x="340" y="754"/>
                    </a:lnTo>
                    <a:lnTo>
                      <a:pt x="321" y="752"/>
                    </a:lnTo>
                    <a:lnTo>
                      <a:pt x="303" y="748"/>
                    </a:lnTo>
                    <a:lnTo>
                      <a:pt x="285" y="743"/>
                    </a:lnTo>
                    <a:lnTo>
                      <a:pt x="267" y="739"/>
                    </a:lnTo>
                    <a:lnTo>
                      <a:pt x="249" y="733"/>
                    </a:lnTo>
                    <a:lnTo>
                      <a:pt x="232" y="725"/>
                    </a:lnTo>
                    <a:lnTo>
                      <a:pt x="215" y="718"/>
                    </a:lnTo>
                    <a:lnTo>
                      <a:pt x="198" y="710"/>
                    </a:lnTo>
                    <a:lnTo>
                      <a:pt x="183" y="701"/>
                    </a:lnTo>
                    <a:lnTo>
                      <a:pt x="167" y="691"/>
                    </a:lnTo>
                    <a:lnTo>
                      <a:pt x="153" y="680"/>
                    </a:lnTo>
                    <a:lnTo>
                      <a:pt x="138" y="669"/>
                    </a:lnTo>
                    <a:lnTo>
                      <a:pt x="125" y="657"/>
                    </a:lnTo>
                    <a:lnTo>
                      <a:pt x="112" y="645"/>
                    </a:lnTo>
                    <a:lnTo>
                      <a:pt x="99" y="632"/>
                    </a:lnTo>
                    <a:lnTo>
                      <a:pt x="87" y="617"/>
                    </a:lnTo>
                    <a:lnTo>
                      <a:pt x="76" y="603"/>
                    </a:lnTo>
                    <a:lnTo>
                      <a:pt x="65" y="589"/>
                    </a:lnTo>
                    <a:lnTo>
                      <a:pt x="56" y="573"/>
                    </a:lnTo>
                    <a:lnTo>
                      <a:pt x="46" y="557"/>
                    </a:lnTo>
                    <a:lnTo>
                      <a:pt x="38" y="542"/>
                    </a:lnTo>
                    <a:lnTo>
                      <a:pt x="30" y="525"/>
                    </a:lnTo>
                    <a:lnTo>
                      <a:pt x="23" y="507"/>
                    </a:lnTo>
                    <a:lnTo>
                      <a:pt x="17" y="490"/>
                    </a:lnTo>
                    <a:lnTo>
                      <a:pt x="12" y="472"/>
                    </a:lnTo>
                    <a:lnTo>
                      <a:pt x="9" y="453"/>
                    </a:lnTo>
                    <a:lnTo>
                      <a:pt x="5" y="435"/>
                    </a:lnTo>
                    <a:lnTo>
                      <a:pt x="3" y="416"/>
                    </a:lnTo>
                    <a:lnTo>
                      <a:pt x="2" y="397"/>
                    </a:lnTo>
                    <a:lnTo>
                      <a:pt x="0" y="377"/>
                    </a:lnTo>
                    <a:lnTo>
                      <a:pt x="2" y="358"/>
                    </a:lnTo>
                    <a:lnTo>
                      <a:pt x="3" y="339"/>
                    </a:lnTo>
                    <a:lnTo>
                      <a:pt x="5" y="320"/>
                    </a:lnTo>
                    <a:lnTo>
                      <a:pt x="9" y="302"/>
                    </a:lnTo>
                    <a:lnTo>
                      <a:pt x="12" y="283"/>
                    </a:lnTo>
                    <a:lnTo>
                      <a:pt x="17" y="266"/>
                    </a:lnTo>
                    <a:lnTo>
                      <a:pt x="23" y="248"/>
                    </a:lnTo>
                    <a:lnTo>
                      <a:pt x="30" y="231"/>
                    </a:lnTo>
                    <a:lnTo>
                      <a:pt x="38" y="214"/>
                    </a:lnTo>
                    <a:lnTo>
                      <a:pt x="46" y="198"/>
                    </a:lnTo>
                    <a:lnTo>
                      <a:pt x="56" y="182"/>
                    </a:lnTo>
                    <a:lnTo>
                      <a:pt x="65" y="166"/>
                    </a:lnTo>
                    <a:lnTo>
                      <a:pt x="76" y="152"/>
                    </a:lnTo>
                    <a:lnTo>
                      <a:pt x="87" y="138"/>
                    </a:lnTo>
                    <a:lnTo>
                      <a:pt x="99" y="123"/>
                    </a:lnTo>
                    <a:lnTo>
                      <a:pt x="112" y="110"/>
                    </a:lnTo>
                    <a:lnTo>
                      <a:pt x="125" y="98"/>
                    </a:lnTo>
                    <a:lnTo>
                      <a:pt x="138" y="86"/>
                    </a:lnTo>
                    <a:lnTo>
                      <a:pt x="153" y="75"/>
                    </a:lnTo>
                    <a:lnTo>
                      <a:pt x="167" y="64"/>
                    </a:lnTo>
                    <a:lnTo>
                      <a:pt x="183" y="55"/>
                    </a:lnTo>
                    <a:lnTo>
                      <a:pt x="198" y="45"/>
                    </a:lnTo>
                    <a:lnTo>
                      <a:pt x="215" y="37"/>
                    </a:lnTo>
                    <a:lnTo>
                      <a:pt x="232" y="30"/>
                    </a:lnTo>
                    <a:lnTo>
                      <a:pt x="249" y="22"/>
                    </a:lnTo>
                    <a:lnTo>
                      <a:pt x="267" y="16"/>
                    </a:lnTo>
                    <a:lnTo>
                      <a:pt x="285" y="12"/>
                    </a:lnTo>
                    <a:lnTo>
                      <a:pt x="303" y="7"/>
                    </a:lnTo>
                    <a:lnTo>
                      <a:pt x="321" y="4"/>
                    </a:lnTo>
                    <a:lnTo>
                      <a:pt x="340" y="2"/>
                    </a:lnTo>
                    <a:lnTo>
                      <a:pt x="359" y="0"/>
                    </a:lnTo>
                    <a:lnTo>
                      <a:pt x="378" y="0"/>
                    </a:lnTo>
                    <a:close/>
                  </a:path>
                </a:pathLst>
              </a:custGeom>
              <a:solidFill>
                <a:srgbClr val="e39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722760" y="4592520"/>
                <a:ext cx="298440" cy="297000"/>
              </a:xfrm>
              <a:custGeom>
                <a:avLst/>
                <a:gdLst/>
                <a:ahLst/>
                <a:rect l="l" t="t" r="r" b="b"/>
                <a:pathLst>
                  <a:path w="749" h="748">
                    <a:moveTo>
                      <a:pt x="375" y="0"/>
                    </a:moveTo>
                    <a:lnTo>
                      <a:pt x="394" y="1"/>
                    </a:lnTo>
                    <a:lnTo>
                      <a:pt x="413" y="2"/>
                    </a:lnTo>
                    <a:lnTo>
                      <a:pt x="431" y="4"/>
                    </a:lnTo>
                    <a:lnTo>
                      <a:pt x="449" y="8"/>
                    </a:lnTo>
                    <a:lnTo>
                      <a:pt x="468" y="12"/>
                    </a:lnTo>
                    <a:lnTo>
                      <a:pt x="485" y="16"/>
                    </a:lnTo>
                    <a:lnTo>
                      <a:pt x="503" y="22"/>
                    </a:lnTo>
                    <a:lnTo>
                      <a:pt x="520" y="30"/>
                    </a:lnTo>
                    <a:lnTo>
                      <a:pt x="537" y="37"/>
                    </a:lnTo>
                    <a:lnTo>
                      <a:pt x="552" y="45"/>
                    </a:lnTo>
                    <a:lnTo>
                      <a:pt x="568" y="54"/>
                    </a:lnTo>
                    <a:lnTo>
                      <a:pt x="583" y="64"/>
                    </a:lnTo>
                    <a:lnTo>
                      <a:pt x="598" y="74"/>
                    </a:lnTo>
                    <a:lnTo>
                      <a:pt x="612" y="86"/>
                    </a:lnTo>
                    <a:lnTo>
                      <a:pt x="625" y="97"/>
                    </a:lnTo>
                    <a:lnTo>
                      <a:pt x="639" y="110"/>
                    </a:lnTo>
                    <a:lnTo>
                      <a:pt x="652" y="123"/>
                    </a:lnTo>
                    <a:lnTo>
                      <a:pt x="663" y="136"/>
                    </a:lnTo>
                    <a:lnTo>
                      <a:pt x="675" y="151"/>
                    </a:lnTo>
                    <a:lnTo>
                      <a:pt x="684" y="165"/>
                    </a:lnTo>
                    <a:lnTo>
                      <a:pt x="694" y="181"/>
                    </a:lnTo>
                    <a:lnTo>
                      <a:pt x="703" y="196"/>
                    </a:lnTo>
                    <a:lnTo>
                      <a:pt x="712" y="212"/>
                    </a:lnTo>
                    <a:lnTo>
                      <a:pt x="719" y="229"/>
                    </a:lnTo>
                    <a:lnTo>
                      <a:pt x="726" y="246"/>
                    </a:lnTo>
                    <a:lnTo>
                      <a:pt x="732" y="264"/>
                    </a:lnTo>
                    <a:lnTo>
                      <a:pt x="737" y="280"/>
                    </a:lnTo>
                    <a:lnTo>
                      <a:pt x="741" y="298"/>
                    </a:lnTo>
                    <a:lnTo>
                      <a:pt x="744" y="318"/>
                    </a:lnTo>
                    <a:lnTo>
                      <a:pt x="747" y="335"/>
                    </a:lnTo>
                    <a:lnTo>
                      <a:pt x="748" y="355"/>
                    </a:lnTo>
                    <a:lnTo>
                      <a:pt x="749" y="374"/>
                    </a:lnTo>
                    <a:lnTo>
                      <a:pt x="748" y="393"/>
                    </a:lnTo>
                    <a:lnTo>
                      <a:pt x="747" y="412"/>
                    </a:lnTo>
                    <a:lnTo>
                      <a:pt x="744" y="431"/>
                    </a:lnTo>
                    <a:lnTo>
                      <a:pt x="741" y="449"/>
                    </a:lnTo>
                    <a:lnTo>
                      <a:pt x="737" y="467"/>
                    </a:lnTo>
                    <a:lnTo>
                      <a:pt x="732" y="485"/>
                    </a:lnTo>
                    <a:lnTo>
                      <a:pt x="726" y="502"/>
                    </a:lnTo>
                    <a:lnTo>
                      <a:pt x="719" y="520"/>
                    </a:lnTo>
                    <a:lnTo>
                      <a:pt x="712" y="536"/>
                    </a:lnTo>
                    <a:lnTo>
                      <a:pt x="703" y="553"/>
                    </a:lnTo>
                    <a:lnTo>
                      <a:pt x="694" y="568"/>
                    </a:lnTo>
                    <a:lnTo>
                      <a:pt x="684" y="584"/>
                    </a:lnTo>
                    <a:lnTo>
                      <a:pt x="675" y="598"/>
                    </a:lnTo>
                    <a:lnTo>
                      <a:pt x="663" y="613"/>
                    </a:lnTo>
                    <a:lnTo>
                      <a:pt x="652" y="626"/>
                    </a:lnTo>
                    <a:lnTo>
                      <a:pt x="639" y="639"/>
                    </a:lnTo>
                    <a:lnTo>
                      <a:pt x="625" y="651"/>
                    </a:lnTo>
                    <a:lnTo>
                      <a:pt x="612" y="663"/>
                    </a:lnTo>
                    <a:lnTo>
                      <a:pt x="598" y="674"/>
                    </a:lnTo>
                    <a:lnTo>
                      <a:pt x="583" y="685"/>
                    </a:lnTo>
                    <a:lnTo>
                      <a:pt x="568" y="694"/>
                    </a:lnTo>
                    <a:lnTo>
                      <a:pt x="552" y="704"/>
                    </a:lnTo>
                    <a:lnTo>
                      <a:pt x="537" y="711"/>
                    </a:lnTo>
                    <a:lnTo>
                      <a:pt x="520" y="719"/>
                    </a:lnTo>
                    <a:lnTo>
                      <a:pt x="503" y="725"/>
                    </a:lnTo>
                    <a:lnTo>
                      <a:pt x="485" y="731"/>
                    </a:lnTo>
                    <a:lnTo>
                      <a:pt x="468" y="736"/>
                    </a:lnTo>
                    <a:lnTo>
                      <a:pt x="449" y="741"/>
                    </a:lnTo>
                    <a:lnTo>
                      <a:pt x="431" y="745"/>
                    </a:lnTo>
                    <a:lnTo>
                      <a:pt x="413" y="747"/>
                    </a:lnTo>
                    <a:lnTo>
                      <a:pt x="394" y="748"/>
                    </a:lnTo>
                    <a:lnTo>
                      <a:pt x="375" y="748"/>
                    </a:lnTo>
                    <a:lnTo>
                      <a:pt x="355" y="748"/>
                    </a:lnTo>
                    <a:lnTo>
                      <a:pt x="336" y="747"/>
                    </a:lnTo>
                    <a:lnTo>
                      <a:pt x="317" y="745"/>
                    </a:lnTo>
                    <a:lnTo>
                      <a:pt x="299" y="741"/>
                    </a:lnTo>
                    <a:lnTo>
                      <a:pt x="281" y="736"/>
                    </a:lnTo>
                    <a:lnTo>
                      <a:pt x="263" y="731"/>
                    </a:lnTo>
                    <a:lnTo>
                      <a:pt x="246" y="725"/>
                    </a:lnTo>
                    <a:lnTo>
                      <a:pt x="228" y="719"/>
                    </a:lnTo>
                    <a:lnTo>
                      <a:pt x="213" y="711"/>
                    </a:lnTo>
                    <a:lnTo>
                      <a:pt x="196" y="704"/>
                    </a:lnTo>
                    <a:lnTo>
                      <a:pt x="180" y="694"/>
                    </a:lnTo>
                    <a:lnTo>
                      <a:pt x="165" y="685"/>
                    </a:lnTo>
                    <a:lnTo>
                      <a:pt x="150" y="674"/>
                    </a:lnTo>
                    <a:lnTo>
                      <a:pt x="136" y="663"/>
                    </a:lnTo>
                    <a:lnTo>
                      <a:pt x="123" y="651"/>
                    </a:lnTo>
                    <a:lnTo>
                      <a:pt x="109" y="639"/>
                    </a:lnTo>
                    <a:lnTo>
                      <a:pt x="97" y="626"/>
                    </a:lnTo>
                    <a:lnTo>
                      <a:pt x="85" y="613"/>
                    </a:lnTo>
                    <a:lnTo>
                      <a:pt x="75" y="598"/>
                    </a:lnTo>
                    <a:lnTo>
                      <a:pt x="64" y="584"/>
                    </a:lnTo>
                    <a:lnTo>
                      <a:pt x="54" y="568"/>
                    </a:lnTo>
                    <a:lnTo>
                      <a:pt x="45" y="553"/>
                    </a:lnTo>
                    <a:lnTo>
                      <a:pt x="37" y="536"/>
                    </a:lnTo>
                    <a:lnTo>
                      <a:pt x="29" y="520"/>
                    </a:lnTo>
                    <a:lnTo>
                      <a:pt x="23" y="502"/>
                    </a:lnTo>
                    <a:lnTo>
                      <a:pt x="17" y="485"/>
                    </a:lnTo>
                    <a:lnTo>
                      <a:pt x="12" y="467"/>
                    </a:lnTo>
                    <a:lnTo>
                      <a:pt x="7" y="449"/>
                    </a:lnTo>
                    <a:lnTo>
                      <a:pt x="4" y="431"/>
                    </a:lnTo>
                    <a:lnTo>
                      <a:pt x="1" y="412"/>
                    </a:lnTo>
                    <a:lnTo>
                      <a:pt x="0" y="393"/>
                    </a:lnTo>
                    <a:lnTo>
                      <a:pt x="0" y="374"/>
                    </a:lnTo>
                    <a:lnTo>
                      <a:pt x="0" y="355"/>
                    </a:lnTo>
                    <a:lnTo>
                      <a:pt x="1" y="335"/>
                    </a:lnTo>
                    <a:lnTo>
                      <a:pt x="4" y="318"/>
                    </a:lnTo>
                    <a:lnTo>
                      <a:pt x="7" y="298"/>
                    </a:lnTo>
                    <a:lnTo>
                      <a:pt x="12" y="280"/>
                    </a:lnTo>
                    <a:lnTo>
                      <a:pt x="17" y="264"/>
                    </a:lnTo>
                    <a:lnTo>
                      <a:pt x="23" y="246"/>
                    </a:lnTo>
                    <a:lnTo>
                      <a:pt x="29" y="229"/>
                    </a:lnTo>
                    <a:lnTo>
                      <a:pt x="37" y="212"/>
                    </a:lnTo>
                    <a:lnTo>
                      <a:pt x="45" y="196"/>
                    </a:lnTo>
                    <a:lnTo>
                      <a:pt x="54" y="181"/>
                    </a:lnTo>
                    <a:lnTo>
                      <a:pt x="64" y="165"/>
                    </a:lnTo>
                    <a:lnTo>
                      <a:pt x="75" y="151"/>
                    </a:lnTo>
                    <a:lnTo>
                      <a:pt x="85" y="136"/>
                    </a:lnTo>
                    <a:lnTo>
                      <a:pt x="97" y="123"/>
                    </a:lnTo>
                    <a:lnTo>
                      <a:pt x="109" y="110"/>
                    </a:lnTo>
                    <a:lnTo>
                      <a:pt x="123" y="97"/>
                    </a:lnTo>
                    <a:lnTo>
                      <a:pt x="136" y="86"/>
                    </a:lnTo>
                    <a:lnTo>
                      <a:pt x="150" y="74"/>
                    </a:lnTo>
                    <a:lnTo>
                      <a:pt x="165" y="64"/>
                    </a:lnTo>
                    <a:lnTo>
                      <a:pt x="180" y="54"/>
                    </a:lnTo>
                    <a:lnTo>
                      <a:pt x="196" y="45"/>
                    </a:lnTo>
                    <a:lnTo>
                      <a:pt x="213" y="37"/>
                    </a:lnTo>
                    <a:lnTo>
                      <a:pt x="228" y="30"/>
                    </a:lnTo>
                    <a:lnTo>
                      <a:pt x="246" y="22"/>
                    </a:lnTo>
                    <a:lnTo>
                      <a:pt x="263" y="16"/>
                    </a:lnTo>
                    <a:lnTo>
                      <a:pt x="281" y="12"/>
                    </a:lnTo>
                    <a:lnTo>
                      <a:pt x="299" y="8"/>
                    </a:lnTo>
                    <a:lnTo>
                      <a:pt x="317" y="4"/>
                    </a:lnTo>
                    <a:lnTo>
                      <a:pt x="336" y="2"/>
                    </a:lnTo>
                    <a:lnTo>
                      <a:pt x="355" y="1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79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724200" y="4595760"/>
                <a:ext cx="295200" cy="293760"/>
              </a:xfrm>
              <a:custGeom>
                <a:avLst/>
                <a:gdLst/>
                <a:ahLst/>
                <a:rect l="l" t="t" r="r" b="b"/>
                <a:pathLst>
                  <a:path w="741" h="741">
                    <a:moveTo>
                      <a:pt x="371" y="0"/>
                    </a:moveTo>
                    <a:lnTo>
                      <a:pt x="390" y="1"/>
                    </a:lnTo>
                    <a:lnTo>
                      <a:pt x="409" y="2"/>
                    </a:lnTo>
                    <a:lnTo>
                      <a:pt x="427" y="4"/>
                    </a:lnTo>
                    <a:lnTo>
                      <a:pt x="445" y="8"/>
                    </a:lnTo>
                    <a:lnTo>
                      <a:pt x="463" y="12"/>
                    </a:lnTo>
                    <a:lnTo>
                      <a:pt x="481" y="16"/>
                    </a:lnTo>
                    <a:lnTo>
                      <a:pt x="498" y="22"/>
                    </a:lnTo>
                    <a:lnTo>
                      <a:pt x="515" y="30"/>
                    </a:lnTo>
                    <a:lnTo>
                      <a:pt x="531" y="37"/>
                    </a:lnTo>
                    <a:lnTo>
                      <a:pt x="547" y="45"/>
                    </a:lnTo>
                    <a:lnTo>
                      <a:pt x="563" y="54"/>
                    </a:lnTo>
                    <a:lnTo>
                      <a:pt x="578" y="63"/>
                    </a:lnTo>
                    <a:lnTo>
                      <a:pt x="593" y="74"/>
                    </a:lnTo>
                    <a:lnTo>
                      <a:pt x="606" y="85"/>
                    </a:lnTo>
                    <a:lnTo>
                      <a:pt x="620" y="97"/>
                    </a:lnTo>
                    <a:lnTo>
                      <a:pt x="632" y="109"/>
                    </a:lnTo>
                    <a:lnTo>
                      <a:pt x="645" y="122"/>
                    </a:lnTo>
                    <a:lnTo>
                      <a:pt x="656" y="135"/>
                    </a:lnTo>
                    <a:lnTo>
                      <a:pt x="668" y="150"/>
                    </a:lnTo>
                    <a:lnTo>
                      <a:pt x="678" y="164"/>
                    </a:lnTo>
                    <a:lnTo>
                      <a:pt x="687" y="178"/>
                    </a:lnTo>
                    <a:lnTo>
                      <a:pt x="697" y="194"/>
                    </a:lnTo>
                    <a:lnTo>
                      <a:pt x="705" y="211"/>
                    </a:lnTo>
                    <a:lnTo>
                      <a:pt x="713" y="226"/>
                    </a:lnTo>
                    <a:lnTo>
                      <a:pt x="719" y="243"/>
                    </a:lnTo>
                    <a:lnTo>
                      <a:pt x="725" y="261"/>
                    </a:lnTo>
                    <a:lnTo>
                      <a:pt x="729" y="278"/>
                    </a:lnTo>
                    <a:lnTo>
                      <a:pt x="734" y="296"/>
                    </a:lnTo>
                    <a:lnTo>
                      <a:pt x="738" y="314"/>
                    </a:lnTo>
                    <a:lnTo>
                      <a:pt x="740" y="333"/>
                    </a:lnTo>
                    <a:lnTo>
                      <a:pt x="741" y="352"/>
                    </a:lnTo>
                    <a:lnTo>
                      <a:pt x="741" y="370"/>
                    </a:lnTo>
                    <a:lnTo>
                      <a:pt x="741" y="389"/>
                    </a:lnTo>
                    <a:lnTo>
                      <a:pt x="740" y="409"/>
                    </a:lnTo>
                    <a:lnTo>
                      <a:pt x="738" y="427"/>
                    </a:lnTo>
                    <a:lnTo>
                      <a:pt x="734" y="446"/>
                    </a:lnTo>
                    <a:lnTo>
                      <a:pt x="729" y="463"/>
                    </a:lnTo>
                    <a:lnTo>
                      <a:pt x="725" y="481"/>
                    </a:lnTo>
                    <a:lnTo>
                      <a:pt x="719" y="497"/>
                    </a:lnTo>
                    <a:lnTo>
                      <a:pt x="713" y="514"/>
                    </a:lnTo>
                    <a:lnTo>
                      <a:pt x="705" y="531"/>
                    </a:lnTo>
                    <a:lnTo>
                      <a:pt x="697" y="547"/>
                    </a:lnTo>
                    <a:lnTo>
                      <a:pt x="687" y="562"/>
                    </a:lnTo>
                    <a:lnTo>
                      <a:pt x="678" y="578"/>
                    </a:lnTo>
                    <a:lnTo>
                      <a:pt x="668" y="592"/>
                    </a:lnTo>
                    <a:lnTo>
                      <a:pt x="656" y="607"/>
                    </a:lnTo>
                    <a:lnTo>
                      <a:pt x="645" y="620"/>
                    </a:lnTo>
                    <a:lnTo>
                      <a:pt x="632" y="633"/>
                    </a:lnTo>
                    <a:lnTo>
                      <a:pt x="620" y="645"/>
                    </a:lnTo>
                    <a:lnTo>
                      <a:pt x="606" y="657"/>
                    </a:lnTo>
                    <a:lnTo>
                      <a:pt x="593" y="668"/>
                    </a:lnTo>
                    <a:lnTo>
                      <a:pt x="578" y="677"/>
                    </a:lnTo>
                    <a:lnTo>
                      <a:pt x="563" y="688"/>
                    </a:lnTo>
                    <a:lnTo>
                      <a:pt x="547" y="697"/>
                    </a:lnTo>
                    <a:lnTo>
                      <a:pt x="531" y="705"/>
                    </a:lnTo>
                    <a:lnTo>
                      <a:pt x="515" y="712"/>
                    </a:lnTo>
                    <a:lnTo>
                      <a:pt x="498" y="719"/>
                    </a:lnTo>
                    <a:lnTo>
                      <a:pt x="481" y="724"/>
                    </a:lnTo>
                    <a:lnTo>
                      <a:pt x="463" y="730"/>
                    </a:lnTo>
                    <a:lnTo>
                      <a:pt x="445" y="734"/>
                    </a:lnTo>
                    <a:lnTo>
                      <a:pt x="427" y="737"/>
                    </a:lnTo>
                    <a:lnTo>
                      <a:pt x="409" y="740"/>
                    </a:lnTo>
                    <a:lnTo>
                      <a:pt x="390" y="741"/>
                    </a:lnTo>
                    <a:lnTo>
                      <a:pt x="371" y="741"/>
                    </a:lnTo>
                    <a:lnTo>
                      <a:pt x="351" y="741"/>
                    </a:lnTo>
                    <a:lnTo>
                      <a:pt x="333" y="740"/>
                    </a:lnTo>
                    <a:lnTo>
                      <a:pt x="314" y="737"/>
                    </a:lnTo>
                    <a:lnTo>
                      <a:pt x="296" y="734"/>
                    </a:lnTo>
                    <a:lnTo>
                      <a:pt x="278" y="730"/>
                    </a:lnTo>
                    <a:lnTo>
                      <a:pt x="260" y="724"/>
                    </a:lnTo>
                    <a:lnTo>
                      <a:pt x="243" y="719"/>
                    </a:lnTo>
                    <a:lnTo>
                      <a:pt x="227" y="712"/>
                    </a:lnTo>
                    <a:lnTo>
                      <a:pt x="210" y="705"/>
                    </a:lnTo>
                    <a:lnTo>
                      <a:pt x="194" y="697"/>
                    </a:lnTo>
                    <a:lnTo>
                      <a:pt x="179" y="688"/>
                    </a:lnTo>
                    <a:lnTo>
                      <a:pt x="164" y="677"/>
                    </a:lnTo>
                    <a:lnTo>
                      <a:pt x="149" y="668"/>
                    </a:lnTo>
                    <a:lnTo>
                      <a:pt x="135" y="657"/>
                    </a:lnTo>
                    <a:lnTo>
                      <a:pt x="122" y="645"/>
                    </a:lnTo>
                    <a:lnTo>
                      <a:pt x="109" y="633"/>
                    </a:lnTo>
                    <a:lnTo>
                      <a:pt x="97" y="620"/>
                    </a:lnTo>
                    <a:lnTo>
                      <a:pt x="85" y="607"/>
                    </a:lnTo>
                    <a:lnTo>
                      <a:pt x="74" y="592"/>
                    </a:lnTo>
                    <a:lnTo>
                      <a:pt x="63" y="578"/>
                    </a:lnTo>
                    <a:lnTo>
                      <a:pt x="54" y="562"/>
                    </a:lnTo>
                    <a:lnTo>
                      <a:pt x="45" y="547"/>
                    </a:lnTo>
                    <a:lnTo>
                      <a:pt x="37" y="531"/>
                    </a:lnTo>
                    <a:lnTo>
                      <a:pt x="30" y="514"/>
                    </a:lnTo>
                    <a:lnTo>
                      <a:pt x="23" y="497"/>
                    </a:lnTo>
                    <a:lnTo>
                      <a:pt x="17" y="481"/>
                    </a:lnTo>
                    <a:lnTo>
                      <a:pt x="12" y="463"/>
                    </a:lnTo>
                    <a:lnTo>
                      <a:pt x="7" y="446"/>
                    </a:lnTo>
                    <a:lnTo>
                      <a:pt x="5" y="427"/>
                    </a:lnTo>
                    <a:lnTo>
                      <a:pt x="2" y="409"/>
                    </a:lnTo>
                    <a:lnTo>
                      <a:pt x="1" y="389"/>
                    </a:lnTo>
                    <a:lnTo>
                      <a:pt x="0" y="370"/>
                    </a:lnTo>
                    <a:lnTo>
                      <a:pt x="1" y="352"/>
                    </a:lnTo>
                    <a:lnTo>
                      <a:pt x="2" y="333"/>
                    </a:lnTo>
                    <a:lnTo>
                      <a:pt x="5" y="314"/>
                    </a:lnTo>
                    <a:lnTo>
                      <a:pt x="7" y="296"/>
                    </a:lnTo>
                    <a:lnTo>
                      <a:pt x="12" y="278"/>
                    </a:lnTo>
                    <a:lnTo>
                      <a:pt x="17" y="261"/>
                    </a:lnTo>
                    <a:lnTo>
                      <a:pt x="23" y="243"/>
                    </a:lnTo>
                    <a:lnTo>
                      <a:pt x="30" y="226"/>
                    </a:lnTo>
                    <a:lnTo>
                      <a:pt x="37" y="211"/>
                    </a:lnTo>
                    <a:lnTo>
                      <a:pt x="45" y="194"/>
                    </a:lnTo>
                    <a:lnTo>
                      <a:pt x="54" y="178"/>
                    </a:lnTo>
                    <a:lnTo>
                      <a:pt x="63" y="164"/>
                    </a:lnTo>
                    <a:lnTo>
                      <a:pt x="74" y="150"/>
                    </a:lnTo>
                    <a:lnTo>
                      <a:pt x="85" y="135"/>
                    </a:lnTo>
                    <a:lnTo>
                      <a:pt x="97" y="122"/>
                    </a:lnTo>
                    <a:lnTo>
                      <a:pt x="109" y="109"/>
                    </a:lnTo>
                    <a:lnTo>
                      <a:pt x="122" y="97"/>
                    </a:lnTo>
                    <a:lnTo>
                      <a:pt x="135" y="85"/>
                    </a:lnTo>
                    <a:lnTo>
                      <a:pt x="149" y="74"/>
                    </a:lnTo>
                    <a:lnTo>
                      <a:pt x="164" y="63"/>
                    </a:lnTo>
                    <a:lnTo>
                      <a:pt x="179" y="54"/>
                    </a:lnTo>
                    <a:lnTo>
                      <a:pt x="194" y="45"/>
                    </a:lnTo>
                    <a:lnTo>
                      <a:pt x="210" y="37"/>
                    </a:lnTo>
                    <a:lnTo>
                      <a:pt x="227" y="30"/>
                    </a:lnTo>
                    <a:lnTo>
                      <a:pt x="243" y="22"/>
                    </a:lnTo>
                    <a:lnTo>
                      <a:pt x="260" y="16"/>
                    </a:lnTo>
                    <a:lnTo>
                      <a:pt x="278" y="12"/>
                    </a:lnTo>
                    <a:lnTo>
                      <a:pt x="296" y="8"/>
                    </a:lnTo>
                    <a:lnTo>
                      <a:pt x="314" y="4"/>
                    </a:lnTo>
                    <a:lnTo>
                      <a:pt x="333" y="2"/>
                    </a:lnTo>
                    <a:lnTo>
                      <a:pt x="351" y="1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ec9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725640" y="4597560"/>
                <a:ext cx="292320" cy="291960"/>
              </a:xfrm>
              <a:custGeom>
                <a:avLst/>
                <a:gdLst/>
                <a:ahLst/>
                <a:rect l="l" t="t" r="r" b="b"/>
                <a:pathLst>
                  <a:path w="733" h="733">
                    <a:moveTo>
                      <a:pt x="367" y="0"/>
                    </a:moveTo>
                    <a:lnTo>
                      <a:pt x="385" y="0"/>
                    </a:lnTo>
                    <a:lnTo>
                      <a:pt x="404" y="1"/>
                    </a:lnTo>
                    <a:lnTo>
                      <a:pt x="422" y="3"/>
                    </a:lnTo>
                    <a:lnTo>
                      <a:pt x="440" y="7"/>
                    </a:lnTo>
                    <a:lnTo>
                      <a:pt x="458" y="11"/>
                    </a:lnTo>
                    <a:lnTo>
                      <a:pt x="475" y="15"/>
                    </a:lnTo>
                    <a:lnTo>
                      <a:pt x="493" y="21"/>
                    </a:lnTo>
                    <a:lnTo>
                      <a:pt x="508" y="29"/>
                    </a:lnTo>
                    <a:lnTo>
                      <a:pt x="525" y="36"/>
                    </a:lnTo>
                    <a:lnTo>
                      <a:pt x="541" y="44"/>
                    </a:lnTo>
                    <a:lnTo>
                      <a:pt x="556" y="53"/>
                    </a:lnTo>
                    <a:lnTo>
                      <a:pt x="571" y="62"/>
                    </a:lnTo>
                    <a:lnTo>
                      <a:pt x="585" y="73"/>
                    </a:lnTo>
                    <a:lnTo>
                      <a:pt x="600" y="84"/>
                    </a:lnTo>
                    <a:lnTo>
                      <a:pt x="613" y="95"/>
                    </a:lnTo>
                    <a:lnTo>
                      <a:pt x="626" y="107"/>
                    </a:lnTo>
                    <a:lnTo>
                      <a:pt x="638" y="120"/>
                    </a:lnTo>
                    <a:lnTo>
                      <a:pt x="649" y="133"/>
                    </a:lnTo>
                    <a:lnTo>
                      <a:pt x="661" y="147"/>
                    </a:lnTo>
                    <a:lnTo>
                      <a:pt x="670" y="162"/>
                    </a:lnTo>
                    <a:lnTo>
                      <a:pt x="680" y="176"/>
                    </a:lnTo>
                    <a:lnTo>
                      <a:pt x="688" y="192"/>
                    </a:lnTo>
                    <a:lnTo>
                      <a:pt x="697" y="207"/>
                    </a:lnTo>
                    <a:lnTo>
                      <a:pt x="704" y="224"/>
                    </a:lnTo>
                    <a:lnTo>
                      <a:pt x="711" y="241"/>
                    </a:lnTo>
                    <a:lnTo>
                      <a:pt x="717" y="258"/>
                    </a:lnTo>
                    <a:lnTo>
                      <a:pt x="722" y="275"/>
                    </a:lnTo>
                    <a:lnTo>
                      <a:pt x="726" y="293"/>
                    </a:lnTo>
                    <a:lnTo>
                      <a:pt x="729" y="311"/>
                    </a:lnTo>
                    <a:lnTo>
                      <a:pt x="732" y="328"/>
                    </a:lnTo>
                    <a:lnTo>
                      <a:pt x="733" y="348"/>
                    </a:lnTo>
                    <a:lnTo>
                      <a:pt x="733" y="367"/>
                    </a:lnTo>
                    <a:lnTo>
                      <a:pt x="733" y="385"/>
                    </a:lnTo>
                    <a:lnTo>
                      <a:pt x="732" y="404"/>
                    </a:lnTo>
                    <a:lnTo>
                      <a:pt x="729" y="422"/>
                    </a:lnTo>
                    <a:lnTo>
                      <a:pt x="726" y="440"/>
                    </a:lnTo>
                    <a:lnTo>
                      <a:pt x="722" y="458"/>
                    </a:lnTo>
                    <a:lnTo>
                      <a:pt x="717" y="475"/>
                    </a:lnTo>
                    <a:lnTo>
                      <a:pt x="711" y="493"/>
                    </a:lnTo>
                    <a:lnTo>
                      <a:pt x="704" y="508"/>
                    </a:lnTo>
                    <a:lnTo>
                      <a:pt x="697" y="525"/>
                    </a:lnTo>
                    <a:lnTo>
                      <a:pt x="688" y="541"/>
                    </a:lnTo>
                    <a:lnTo>
                      <a:pt x="680" y="556"/>
                    </a:lnTo>
                    <a:lnTo>
                      <a:pt x="670" y="571"/>
                    </a:lnTo>
                    <a:lnTo>
                      <a:pt x="661" y="585"/>
                    </a:lnTo>
                    <a:lnTo>
                      <a:pt x="649" y="600"/>
                    </a:lnTo>
                    <a:lnTo>
                      <a:pt x="638" y="613"/>
                    </a:lnTo>
                    <a:lnTo>
                      <a:pt x="626" y="626"/>
                    </a:lnTo>
                    <a:lnTo>
                      <a:pt x="613" y="638"/>
                    </a:lnTo>
                    <a:lnTo>
                      <a:pt x="600" y="649"/>
                    </a:lnTo>
                    <a:lnTo>
                      <a:pt x="585" y="661"/>
                    </a:lnTo>
                    <a:lnTo>
                      <a:pt x="571" y="670"/>
                    </a:lnTo>
                    <a:lnTo>
                      <a:pt x="556" y="680"/>
                    </a:lnTo>
                    <a:lnTo>
                      <a:pt x="541" y="688"/>
                    </a:lnTo>
                    <a:lnTo>
                      <a:pt x="525" y="697"/>
                    </a:lnTo>
                    <a:lnTo>
                      <a:pt x="508" y="704"/>
                    </a:lnTo>
                    <a:lnTo>
                      <a:pt x="493" y="711"/>
                    </a:lnTo>
                    <a:lnTo>
                      <a:pt x="475" y="717"/>
                    </a:lnTo>
                    <a:lnTo>
                      <a:pt x="458" y="722"/>
                    </a:lnTo>
                    <a:lnTo>
                      <a:pt x="440" y="726"/>
                    </a:lnTo>
                    <a:lnTo>
                      <a:pt x="422" y="729"/>
                    </a:lnTo>
                    <a:lnTo>
                      <a:pt x="404" y="732"/>
                    </a:lnTo>
                    <a:lnTo>
                      <a:pt x="385" y="733"/>
                    </a:lnTo>
                    <a:lnTo>
                      <a:pt x="367" y="733"/>
                    </a:lnTo>
                    <a:lnTo>
                      <a:pt x="348" y="733"/>
                    </a:lnTo>
                    <a:lnTo>
                      <a:pt x="328" y="732"/>
                    </a:lnTo>
                    <a:lnTo>
                      <a:pt x="310" y="729"/>
                    </a:lnTo>
                    <a:lnTo>
                      <a:pt x="292" y="726"/>
                    </a:lnTo>
                    <a:lnTo>
                      <a:pt x="274" y="722"/>
                    </a:lnTo>
                    <a:lnTo>
                      <a:pt x="258" y="717"/>
                    </a:lnTo>
                    <a:lnTo>
                      <a:pt x="241" y="711"/>
                    </a:lnTo>
                    <a:lnTo>
                      <a:pt x="224" y="704"/>
                    </a:lnTo>
                    <a:lnTo>
                      <a:pt x="207" y="697"/>
                    </a:lnTo>
                    <a:lnTo>
                      <a:pt x="192" y="688"/>
                    </a:lnTo>
                    <a:lnTo>
                      <a:pt x="176" y="680"/>
                    </a:lnTo>
                    <a:lnTo>
                      <a:pt x="162" y="670"/>
                    </a:lnTo>
                    <a:lnTo>
                      <a:pt x="147" y="661"/>
                    </a:lnTo>
                    <a:lnTo>
                      <a:pt x="133" y="649"/>
                    </a:lnTo>
                    <a:lnTo>
                      <a:pt x="120" y="638"/>
                    </a:lnTo>
                    <a:lnTo>
                      <a:pt x="106" y="626"/>
                    </a:lnTo>
                    <a:lnTo>
                      <a:pt x="94" y="613"/>
                    </a:lnTo>
                    <a:lnTo>
                      <a:pt x="84" y="600"/>
                    </a:lnTo>
                    <a:lnTo>
                      <a:pt x="73" y="585"/>
                    </a:lnTo>
                    <a:lnTo>
                      <a:pt x="62" y="571"/>
                    </a:lnTo>
                    <a:lnTo>
                      <a:pt x="52" y="556"/>
                    </a:lnTo>
                    <a:lnTo>
                      <a:pt x="44" y="541"/>
                    </a:lnTo>
                    <a:lnTo>
                      <a:pt x="36" y="525"/>
                    </a:lnTo>
                    <a:lnTo>
                      <a:pt x="28" y="508"/>
                    </a:lnTo>
                    <a:lnTo>
                      <a:pt x="21" y="493"/>
                    </a:lnTo>
                    <a:lnTo>
                      <a:pt x="15" y="475"/>
                    </a:lnTo>
                    <a:lnTo>
                      <a:pt x="10" y="458"/>
                    </a:lnTo>
                    <a:lnTo>
                      <a:pt x="7" y="440"/>
                    </a:lnTo>
                    <a:lnTo>
                      <a:pt x="3" y="422"/>
                    </a:lnTo>
                    <a:lnTo>
                      <a:pt x="1" y="404"/>
                    </a:lnTo>
                    <a:lnTo>
                      <a:pt x="0" y="385"/>
                    </a:lnTo>
                    <a:lnTo>
                      <a:pt x="0" y="367"/>
                    </a:lnTo>
                    <a:lnTo>
                      <a:pt x="0" y="348"/>
                    </a:lnTo>
                    <a:lnTo>
                      <a:pt x="1" y="328"/>
                    </a:lnTo>
                    <a:lnTo>
                      <a:pt x="3" y="311"/>
                    </a:lnTo>
                    <a:lnTo>
                      <a:pt x="7" y="293"/>
                    </a:lnTo>
                    <a:lnTo>
                      <a:pt x="10" y="275"/>
                    </a:lnTo>
                    <a:lnTo>
                      <a:pt x="15" y="258"/>
                    </a:lnTo>
                    <a:lnTo>
                      <a:pt x="21" y="241"/>
                    </a:lnTo>
                    <a:lnTo>
                      <a:pt x="28" y="224"/>
                    </a:lnTo>
                    <a:lnTo>
                      <a:pt x="36" y="207"/>
                    </a:lnTo>
                    <a:lnTo>
                      <a:pt x="44" y="192"/>
                    </a:lnTo>
                    <a:lnTo>
                      <a:pt x="52" y="176"/>
                    </a:lnTo>
                    <a:lnTo>
                      <a:pt x="62" y="162"/>
                    </a:lnTo>
                    <a:lnTo>
                      <a:pt x="73" y="147"/>
                    </a:lnTo>
                    <a:lnTo>
                      <a:pt x="84" y="133"/>
                    </a:lnTo>
                    <a:lnTo>
                      <a:pt x="94" y="120"/>
                    </a:lnTo>
                    <a:lnTo>
                      <a:pt x="106" y="107"/>
                    </a:lnTo>
                    <a:lnTo>
                      <a:pt x="120" y="95"/>
                    </a:lnTo>
                    <a:lnTo>
                      <a:pt x="133" y="84"/>
                    </a:lnTo>
                    <a:lnTo>
                      <a:pt x="147" y="73"/>
                    </a:lnTo>
                    <a:lnTo>
                      <a:pt x="162" y="62"/>
                    </a:lnTo>
                    <a:lnTo>
                      <a:pt x="176" y="53"/>
                    </a:lnTo>
                    <a:lnTo>
                      <a:pt x="192" y="44"/>
                    </a:lnTo>
                    <a:lnTo>
                      <a:pt x="207" y="36"/>
                    </a:lnTo>
                    <a:lnTo>
                      <a:pt x="224" y="29"/>
                    </a:lnTo>
                    <a:lnTo>
                      <a:pt x="241" y="21"/>
                    </a:lnTo>
                    <a:lnTo>
                      <a:pt x="258" y="15"/>
                    </a:lnTo>
                    <a:lnTo>
                      <a:pt x="274" y="11"/>
                    </a:lnTo>
                    <a:lnTo>
                      <a:pt x="292" y="7"/>
                    </a:lnTo>
                    <a:lnTo>
                      <a:pt x="310" y="3"/>
                    </a:lnTo>
                    <a:lnTo>
                      <a:pt x="328" y="1"/>
                    </a:lnTo>
                    <a:lnTo>
                      <a:pt x="348" y="0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f2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740040" y="4618080"/>
                <a:ext cx="257040" cy="258840"/>
              </a:xfrm>
              <a:custGeom>
                <a:avLst/>
                <a:gdLst/>
                <a:ahLst/>
                <a:rect l="l" t="t" r="r" b="b"/>
                <a:pathLst>
                  <a:path w="652" h="651">
                    <a:moveTo>
                      <a:pt x="326" y="0"/>
                    </a:moveTo>
                    <a:lnTo>
                      <a:pt x="342" y="1"/>
                    </a:lnTo>
                    <a:lnTo>
                      <a:pt x="359" y="2"/>
                    </a:lnTo>
                    <a:lnTo>
                      <a:pt x="376" y="4"/>
                    </a:lnTo>
                    <a:lnTo>
                      <a:pt x="391" y="7"/>
                    </a:lnTo>
                    <a:lnTo>
                      <a:pt x="407" y="11"/>
                    </a:lnTo>
                    <a:lnTo>
                      <a:pt x="422" y="14"/>
                    </a:lnTo>
                    <a:lnTo>
                      <a:pt x="438" y="20"/>
                    </a:lnTo>
                    <a:lnTo>
                      <a:pt x="452" y="26"/>
                    </a:lnTo>
                    <a:lnTo>
                      <a:pt x="467" y="32"/>
                    </a:lnTo>
                    <a:lnTo>
                      <a:pt x="481" y="40"/>
                    </a:lnTo>
                    <a:lnTo>
                      <a:pt x="494" y="48"/>
                    </a:lnTo>
                    <a:lnTo>
                      <a:pt x="508" y="56"/>
                    </a:lnTo>
                    <a:lnTo>
                      <a:pt x="521" y="65"/>
                    </a:lnTo>
                    <a:lnTo>
                      <a:pt x="533" y="74"/>
                    </a:lnTo>
                    <a:lnTo>
                      <a:pt x="545" y="85"/>
                    </a:lnTo>
                    <a:lnTo>
                      <a:pt x="556" y="96"/>
                    </a:lnTo>
                    <a:lnTo>
                      <a:pt x="566" y="107"/>
                    </a:lnTo>
                    <a:lnTo>
                      <a:pt x="577" y="119"/>
                    </a:lnTo>
                    <a:lnTo>
                      <a:pt x="587" y="131"/>
                    </a:lnTo>
                    <a:lnTo>
                      <a:pt x="595" y="144"/>
                    </a:lnTo>
                    <a:lnTo>
                      <a:pt x="605" y="157"/>
                    </a:lnTo>
                    <a:lnTo>
                      <a:pt x="612" y="170"/>
                    </a:lnTo>
                    <a:lnTo>
                      <a:pt x="619" y="185"/>
                    </a:lnTo>
                    <a:lnTo>
                      <a:pt x="626" y="199"/>
                    </a:lnTo>
                    <a:lnTo>
                      <a:pt x="631" y="214"/>
                    </a:lnTo>
                    <a:lnTo>
                      <a:pt x="637" y="229"/>
                    </a:lnTo>
                    <a:lnTo>
                      <a:pt x="641" y="245"/>
                    </a:lnTo>
                    <a:lnTo>
                      <a:pt x="644" y="260"/>
                    </a:lnTo>
                    <a:lnTo>
                      <a:pt x="648" y="276"/>
                    </a:lnTo>
                    <a:lnTo>
                      <a:pt x="650" y="293"/>
                    </a:lnTo>
                    <a:lnTo>
                      <a:pt x="652" y="309"/>
                    </a:lnTo>
                    <a:lnTo>
                      <a:pt x="652" y="326"/>
                    </a:lnTo>
                    <a:lnTo>
                      <a:pt x="652" y="343"/>
                    </a:lnTo>
                    <a:lnTo>
                      <a:pt x="650" y="359"/>
                    </a:lnTo>
                    <a:lnTo>
                      <a:pt x="648" y="375"/>
                    </a:lnTo>
                    <a:lnTo>
                      <a:pt x="644" y="391"/>
                    </a:lnTo>
                    <a:lnTo>
                      <a:pt x="641" y="407"/>
                    </a:lnTo>
                    <a:lnTo>
                      <a:pt x="637" y="422"/>
                    </a:lnTo>
                    <a:lnTo>
                      <a:pt x="631" y="438"/>
                    </a:lnTo>
                    <a:lnTo>
                      <a:pt x="626" y="452"/>
                    </a:lnTo>
                    <a:lnTo>
                      <a:pt x="619" y="467"/>
                    </a:lnTo>
                    <a:lnTo>
                      <a:pt x="612" y="481"/>
                    </a:lnTo>
                    <a:lnTo>
                      <a:pt x="605" y="494"/>
                    </a:lnTo>
                    <a:lnTo>
                      <a:pt x="595" y="507"/>
                    </a:lnTo>
                    <a:lnTo>
                      <a:pt x="587" y="521"/>
                    </a:lnTo>
                    <a:lnTo>
                      <a:pt x="577" y="533"/>
                    </a:lnTo>
                    <a:lnTo>
                      <a:pt x="566" y="545"/>
                    </a:lnTo>
                    <a:lnTo>
                      <a:pt x="556" y="555"/>
                    </a:lnTo>
                    <a:lnTo>
                      <a:pt x="545" y="566"/>
                    </a:lnTo>
                    <a:lnTo>
                      <a:pt x="533" y="577"/>
                    </a:lnTo>
                    <a:lnTo>
                      <a:pt x="521" y="587"/>
                    </a:lnTo>
                    <a:lnTo>
                      <a:pt x="508" y="596"/>
                    </a:lnTo>
                    <a:lnTo>
                      <a:pt x="494" y="605"/>
                    </a:lnTo>
                    <a:lnTo>
                      <a:pt x="481" y="612"/>
                    </a:lnTo>
                    <a:lnTo>
                      <a:pt x="467" y="619"/>
                    </a:lnTo>
                    <a:lnTo>
                      <a:pt x="452" y="626"/>
                    </a:lnTo>
                    <a:lnTo>
                      <a:pt x="438" y="632"/>
                    </a:lnTo>
                    <a:lnTo>
                      <a:pt x="422" y="637"/>
                    </a:lnTo>
                    <a:lnTo>
                      <a:pt x="407" y="641"/>
                    </a:lnTo>
                    <a:lnTo>
                      <a:pt x="391" y="645"/>
                    </a:lnTo>
                    <a:lnTo>
                      <a:pt x="376" y="648"/>
                    </a:lnTo>
                    <a:lnTo>
                      <a:pt x="359" y="650"/>
                    </a:lnTo>
                    <a:lnTo>
                      <a:pt x="342" y="651"/>
                    </a:lnTo>
                    <a:lnTo>
                      <a:pt x="326" y="651"/>
                    </a:lnTo>
                    <a:lnTo>
                      <a:pt x="310" y="651"/>
                    </a:lnTo>
                    <a:lnTo>
                      <a:pt x="293" y="650"/>
                    </a:lnTo>
                    <a:lnTo>
                      <a:pt x="276" y="648"/>
                    </a:lnTo>
                    <a:lnTo>
                      <a:pt x="260" y="645"/>
                    </a:lnTo>
                    <a:lnTo>
                      <a:pt x="245" y="641"/>
                    </a:lnTo>
                    <a:lnTo>
                      <a:pt x="229" y="637"/>
                    </a:lnTo>
                    <a:lnTo>
                      <a:pt x="214" y="632"/>
                    </a:lnTo>
                    <a:lnTo>
                      <a:pt x="199" y="626"/>
                    </a:lnTo>
                    <a:lnTo>
                      <a:pt x="185" y="619"/>
                    </a:lnTo>
                    <a:lnTo>
                      <a:pt x="170" y="612"/>
                    </a:lnTo>
                    <a:lnTo>
                      <a:pt x="157" y="605"/>
                    </a:lnTo>
                    <a:lnTo>
                      <a:pt x="144" y="596"/>
                    </a:lnTo>
                    <a:lnTo>
                      <a:pt x="131" y="587"/>
                    </a:lnTo>
                    <a:lnTo>
                      <a:pt x="119" y="577"/>
                    </a:lnTo>
                    <a:lnTo>
                      <a:pt x="107" y="566"/>
                    </a:lnTo>
                    <a:lnTo>
                      <a:pt x="96" y="555"/>
                    </a:lnTo>
                    <a:lnTo>
                      <a:pt x="85" y="545"/>
                    </a:lnTo>
                    <a:lnTo>
                      <a:pt x="74" y="533"/>
                    </a:lnTo>
                    <a:lnTo>
                      <a:pt x="65" y="521"/>
                    </a:lnTo>
                    <a:lnTo>
                      <a:pt x="56" y="507"/>
                    </a:lnTo>
                    <a:lnTo>
                      <a:pt x="47" y="494"/>
                    </a:lnTo>
                    <a:lnTo>
                      <a:pt x="40" y="481"/>
                    </a:lnTo>
                    <a:lnTo>
                      <a:pt x="32" y="467"/>
                    </a:lnTo>
                    <a:lnTo>
                      <a:pt x="25" y="452"/>
                    </a:lnTo>
                    <a:lnTo>
                      <a:pt x="20" y="438"/>
                    </a:lnTo>
                    <a:lnTo>
                      <a:pt x="14" y="422"/>
                    </a:lnTo>
                    <a:lnTo>
                      <a:pt x="11" y="407"/>
                    </a:lnTo>
                    <a:lnTo>
                      <a:pt x="7" y="391"/>
                    </a:lnTo>
                    <a:lnTo>
                      <a:pt x="4" y="375"/>
                    </a:lnTo>
                    <a:lnTo>
                      <a:pt x="1" y="359"/>
                    </a:lnTo>
                    <a:lnTo>
                      <a:pt x="0" y="343"/>
                    </a:lnTo>
                    <a:lnTo>
                      <a:pt x="0" y="326"/>
                    </a:lnTo>
                    <a:lnTo>
                      <a:pt x="0" y="309"/>
                    </a:lnTo>
                    <a:lnTo>
                      <a:pt x="1" y="293"/>
                    </a:lnTo>
                    <a:lnTo>
                      <a:pt x="4" y="276"/>
                    </a:lnTo>
                    <a:lnTo>
                      <a:pt x="7" y="260"/>
                    </a:lnTo>
                    <a:lnTo>
                      <a:pt x="11" y="245"/>
                    </a:lnTo>
                    <a:lnTo>
                      <a:pt x="14" y="229"/>
                    </a:lnTo>
                    <a:lnTo>
                      <a:pt x="20" y="214"/>
                    </a:lnTo>
                    <a:lnTo>
                      <a:pt x="25" y="199"/>
                    </a:lnTo>
                    <a:lnTo>
                      <a:pt x="32" y="185"/>
                    </a:lnTo>
                    <a:lnTo>
                      <a:pt x="40" y="170"/>
                    </a:lnTo>
                    <a:lnTo>
                      <a:pt x="47" y="157"/>
                    </a:lnTo>
                    <a:lnTo>
                      <a:pt x="56" y="144"/>
                    </a:lnTo>
                    <a:lnTo>
                      <a:pt x="65" y="131"/>
                    </a:lnTo>
                    <a:lnTo>
                      <a:pt x="74" y="119"/>
                    </a:lnTo>
                    <a:lnTo>
                      <a:pt x="85" y="107"/>
                    </a:lnTo>
                    <a:lnTo>
                      <a:pt x="96" y="96"/>
                    </a:lnTo>
                    <a:lnTo>
                      <a:pt x="107" y="85"/>
                    </a:lnTo>
                    <a:lnTo>
                      <a:pt x="119" y="74"/>
                    </a:lnTo>
                    <a:lnTo>
                      <a:pt x="131" y="65"/>
                    </a:lnTo>
                    <a:lnTo>
                      <a:pt x="144" y="56"/>
                    </a:lnTo>
                    <a:lnTo>
                      <a:pt x="157" y="48"/>
                    </a:lnTo>
                    <a:lnTo>
                      <a:pt x="170" y="40"/>
                    </a:lnTo>
                    <a:lnTo>
                      <a:pt x="185" y="32"/>
                    </a:lnTo>
                    <a:lnTo>
                      <a:pt x="199" y="26"/>
                    </a:lnTo>
                    <a:lnTo>
                      <a:pt x="214" y="20"/>
                    </a:lnTo>
                    <a:lnTo>
                      <a:pt x="229" y="14"/>
                    </a:lnTo>
                    <a:lnTo>
                      <a:pt x="245" y="11"/>
                    </a:lnTo>
                    <a:lnTo>
                      <a:pt x="260" y="7"/>
                    </a:lnTo>
                    <a:lnTo>
                      <a:pt x="276" y="4"/>
                    </a:lnTo>
                    <a:lnTo>
                      <a:pt x="293" y="2"/>
                    </a:lnTo>
                    <a:lnTo>
                      <a:pt x="310" y="1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926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868560" y="4611600"/>
                <a:ext cx="136440" cy="135000"/>
              </a:xfrm>
              <a:custGeom>
                <a:avLst/>
                <a:gdLst/>
                <a:ahLst/>
                <a:rect l="l" t="t" r="r" b="b"/>
                <a:pathLst>
                  <a:path w="342" h="343">
                    <a:moveTo>
                      <a:pt x="342" y="343"/>
                    </a:moveTo>
                    <a:lnTo>
                      <a:pt x="342" y="343"/>
                    </a:lnTo>
                    <a:lnTo>
                      <a:pt x="342" y="325"/>
                    </a:lnTo>
                    <a:lnTo>
                      <a:pt x="341" y="307"/>
                    </a:lnTo>
                    <a:lnTo>
                      <a:pt x="339" y="290"/>
                    </a:lnTo>
                    <a:lnTo>
                      <a:pt x="336" y="274"/>
                    </a:lnTo>
                    <a:lnTo>
                      <a:pt x="332" y="257"/>
                    </a:lnTo>
                    <a:lnTo>
                      <a:pt x="327" y="241"/>
                    </a:lnTo>
                    <a:lnTo>
                      <a:pt x="322" y="225"/>
                    </a:lnTo>
                    <a:lnTo>
                      <a:pt x="316" y="210"/>
                    </a:lnTo>
                    <a:lnTo>
                      <a:pt x="309" y="195"/>
                    </a:lnTo>
                    <a:lnTo>
                      <a:pt x="302" y="180"/>
                    </a:lnTo>
                    <a:lnTo>
                      <a:pt x="293" y="166"/>
                    </a:lnTo>
                    <a:lnTo>
                      <a:pt x="284" y="151"/>
                    </a:lnTo>
                    <a:lnTo>
                      <a:pt x="274" y="138"/>
                    </a:lnTo>
                    <a:lnTo>
                      <a:pt x="264" y="125"/>
                    </a:lnTo>
                    <a:lnTo>
                      <a:pt x="254" y="113"/>
                    </a:lnTo>
                    <a:lnTo>
                      <a:pt x="243" y="101"/>
                    </a:lnTo>
                    <a:lnTo>
                      <a:pt x="231" y="89"/>
                    </a:lnTo>
                    <a:lnTo>
                      <a:pt x="218" y="78"/>
                    </a:lnTo>
                    <a:lnTo>
                      <a:pt x="204" y="69"/>
                    </a:lnTo>
                    <a:lnTo>
                      <a:pt x="191" y="59"/>
                    </a:lnTo>
                    <a:lnTo>
                      <a:pt x="178" y="49"/>
                    </a:lnTo>
                    <a:lnTo>
                      <a:pt x="164" y="41"/>
                    </a:lnTo>
                    <a:lnTo>
                      <a:pt x="148" y="34"/>
                    </a:lnTo>
                    <a:lnTo>
                      <a:pt x="134" y="27"/>
                    </a:lnTo>
                    <a:lnTo>
                      <a:pt x="118" y="21"/>
                    </a:lnTo>
                    <a:lnTo>
                      <a:pt x="101" y="16"/>
                    </a:lnTo>
                    <a:lnTo>
                      <a:pt x="86" y="11"/>
                    </a:lnTo>
                    <a:lnTo>
                      <a:pt x="69" y="7"/>
                    </a:lnTo>
                    <a:lnTo>
                      <a:pt x="52" y="4"/>
                    </a:lnTo>
                    <a:lnTo>
                      <a:pt x="35" y="1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6" y="35"/>
                    </a:lnTo>
                    <a:lnTo>
                      <a:pt x="32" y="36"/>
                    </a:lnTo>
                    <a:lnTo>
                      <a:pt x="47" y="39"/>
                    </a:lnTo>
                    <a:lnTo>
                      <a:pt x="62" y="41"/>
                    </a:lnTo>
                    <a:lnTo>
                      <a:pt x="77" y="45"/>
                    </a:lnTo>
                    <a:lnTo>
                      <a:pt x="92" y="48"/>
                    </a:lnTo>
                    <a:lnTo>
                      <a:pt x="106" y="53"/>
                    </a:lnTo>
                    <a:lnTo>
                      <a:pt x="119" y="59"/>
                    </a:lnTo>
                    <a:lnTo>
                      <a:pt x="134" y="65"/>
                    </a:lnTo>
                    <a:lnTo>
                      <a:pt x="147" y="72"/>
                    </a:lnTo>
                    <a:lnTo>
                      <a:pt x="160" y="79"/>
                    </a:lnTo>
                    <a:lnTo>
                      <a:pt x="172" y="88"/>
                    </a:lnTo>
                    <a:lnTo>
                      <a:pt x="184" y="96"/>
                    </a:lnTo>
                    <a:lnTo>
                      <a:pt x="196" y="105"/>
                    </a:lnTo>
                    <a:lnTo>
                      <a:pt x="207" y="115"/>
                    </a:lnTo>
                    <a:lnTo>
                      <a:pt x="218" y="125"/>
                    </a:lnTo>
                    <a:lnTo>
                      <a:pt x="228" y="136"/>
                    </a:lnTo>
                    <a:lnTo>
                      <a:pt x="238" y="147"/>
                    </a:lnTo>
                    <a:lnTo>
                      <a:pt x="246" y="159"/>
                    </a:lnTo>
                    <a:lnTo>
                      <a:pt x="255" y="171"/>
                    </a:lnTo>
                    <a:lnTo>
                      <a:pt x="263" y="184"/>
                    </a:lnTo>
                    <a:lnTo>
                      <a:pt x="270" y="196"/>
                    </a:lnTo>
                    <a:lnTo>
                      <a:pt x="278" y="209"/>
                    </a:lnTo>
                    <a:lnTo>
                      <a:pt x="284" y="223"/>
                    </a:lnTo>
                    <a:lnTo>
                      <a:pt x="290" y="237"/>
                    </a:lnTo>
                    <a:lnTo>
                      <a:pt x="294" y="251"/>
                    </a:lnTo>
                    <a:lnTo>
                      <a:pt x="298" y="267"/>
                    </a:lnTo>
                    <a:lnTo>
                      <a:pt x="302" y="281"/>
                    </a:lnTo>
                    <a:lnTo>
                      <a:pt x="304" y="296"/>
                    </a:lnTo>
                    <a:lnTo>
                      <a:pt x="306" y="311"/>
                    </a:lnTo>
                    <a:lnTo>
                      <a:pt x="308" y="326"/>
                    </a:lnTo>
                    <a:lnTo>
                      <a:pt x="308" y="343"/>
                    </a:lnTo>
                    <a:lnTo>
                      <a:pt x="308" y="343"/>
                    </a:lnTo>
                    <a:lnTo>
                      <a:pt x="342" y="34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868560" y="4746600"/>
                <a:ext cx="136440" cy="136440"/>
              </a:xfrm>
              <a:custGeom>
                <a:avLst/>
                <a:gdLst/>
                <a:ahLst/>
                <a:rect l="l" t="t" r="r" b="b"/>
                <a:pathLst>
                  <a:path w="342" h="343">
                    <a:moveTo>
                      <a:pt x="0" y="343"/>
                    </a:moveTo>
                    <a:lnTo>
                      <a:pt x="0" y="343"/>
                    </a:lnTo>
                    <a:lnTo>
                      <a:pt x="17" y="342"/>
                    </a:lnTo>
                    <a:lnTo>
                      <a:pt x="35" y="341"/>
                    </a:lnTo>
                    <a:lnTo>
                      <a:pt x="52" y="339"/>
                    </a:lnTo>
                    <a:lnTo>
                      <a:pt x="69" y="336"/>
                    </a:lnTo>
                    <a:lnTo>
                      <a:pt x="86" y="331"/>
                    </a:lnTo>
                    <a:lnTo>
                      <a:pt x="101" y="328"/>
                    </a:lnTo>
                    <a:lnTo>
                      <a:pt x="118" y="322"/>
                    </a:lnTo>
                    <a:lnTo>
                      <a:pt x="134" y="316"/>
                    </a:lnTo>
                    <a:lnTo>
                      <a:pt x="148" y="309"/>
                    </a:lnTo>
                    <a:lnTo>
                      <a:pt x="164" y="301"/>
                    </a:lnTo>
                    <a:lnTo>
                      <a:pt x="178" y="293"/>
                    </a:lnTo>
                    <a:lnTo>
                      <a:pt x="191" y="285"/>
                    </a:lnTo>
                    <a:lnTo>
                      <a:pt x="204" y="275"/>
                    </a:lnTo>
                    <a:lnTo>
                      <a:pt x="218" y="264"/>
                    </a:lnTo>
                    <a:lnTo>
                      <a:pt x="231" y="253"/>
                    </a:lnTo>
                    <a:lnTo>
                      <a:pt x="243" y="243"/>
                    </a:lnTo>
                    <a:lnTo>
                      <a:pt x="254" y="231"/>
                    </a:lnTo>
                    <a:lnTo>
                      <a:pt x="264" y="217"/>
                    </a:lnTo>
                    <a:lnTo>
                      <a:pt x="274" y="204"/>
                    </a:lnTo>
                    <a:lnTo>
                      <a:pt x="284" y="191"/>
                    </a:lnTo>
                    <a:lnTo>
                      <a:pt x="293" y="178"/>
                    </a:lnTo>
                    <a:lnTo>
                      <a:pt x="302" y="163"/>
                    </a:lnTo>
                    <a:lnTo>
                      <a:pt x="309" y="148"/>
                    </a:lnTo>
                    <a:lnTo>
                      <a:pt x="316" y="133"/>
                    </a:lnTo>
                    <a:lnTo>
                      <a:pt x="322" y="118"/>
                    </a:lnTo>
                    <a:lnTo>
                      <a:pt x="327" y="101"/>
                    </a:lnTo>
                    <a:lnTo>
                      <a:pt x="332" y="85"/>
                    </a:lnTo>
                    <a:lnTo>
                      <a:pt x="336" y="69"/>
                    </a:lnTo>
                    <a:lnTo>
                      <a:pt x="339" y="52"/>
                    </a:lnTo>
                    <a:lnTo>
                      <a:pt x="341" y="35"/>
                    </a:lnTo>
                    <a:lnTo>
                      <a:pt x="342" y="17"/>
                    </a:lnTo>
                    <a:lnTo>
                      <a:pt x="342" y="0"/>
                    </a:lnTo>
                    <a:lnTo>
                      <a:pt x="308" y="0"/>
                    </a:lnTo>
                    <a:lnTo>
                      <a:pt x="308" y="16"/>
                    </a:lnTo>
                    <a:lnTo>
                      <a:pt x="306" y="31"/>
                    </a:lnTo>
                    <a:lnTo>
                      <a:pt x="304" y="47"/>
                    </a:lnTo>
                    <a:lnTo>
                      <a:pt x="302" y="61"/>
                    </a:lnTo>
                    <a:lnTo>
                      <a:pt x="298" y="77"/>
                    </a:lnTo>
                    <a:lnTo>
                      <a:pt x="294" y="91"/>
                    </a:lnTo>
                    <a:lnTo>
                      <a:pt x="290" y="106"/>
                    </a:lnTo>
                    <a:lnTo>
                      <a:pt x="284" y="119"/>
                    </a:lnTo>
                    <a:lnTo>
                      <a:pt x="278" y="133"/>
                    </a:lnTo>
                    <a:lnTo>
                      <a:pt x="270" y="147"/>
                    </a:lnTo>
                    <a:lnTo>
                      <a:pt x="263" y="160"/>
                    </a:lnTo>
                    <a:lnTo>
                      <a:pt x="255" y="172"/>
                    </a:lnTo>
                    <a:lnTo>
                      <a:pt x="246" y="184"/>
                    </a:lnTo>
                    <a:lnTo>
                      <a:pt x="238" y="196"/>
                    </a:lnTo>
                    <a:lnTo>
                      <a:pt x="228" y="207"/>
                    </a:lnTo>
                    <a:lnTo>
                      <a:pt x="218" y="217"/>
                    </a:lnTo>
                    <a:lnTo>
                      <a:pt x="207" y="228"/>
                    </a:lnTo>
                    <a:lnTo>
                      <a:pt x="196" y="238"/>
                    </a:lnTo>
                    <a:lnTo>
                      <a:pt x="184" y="246"/>
                    </a:lnTo>
                    <a:lnTo>
                      <a:pt x="172" y="256"/>
                    </a:lnTo>
                    <a:lnTo>
                      <a:pt x="160" y="263"/>
                    </a:lnTo>
                    <a:lnTo>
                      <a:pt x="147" y="271"/>
                    </a:lnTo>
                    <a:lnTo>
                      <a:pt x="134" y="277"/>
                    </a:lnTo>
                    <a:lnTo>
                      <a:pt x="119" y="283"/>
                    </a:lnTo>
                    <a:lnTo>
                      <a:pt x="106" y="289"/>
                    </a:lnTo>
                    <a:lnTo>
                      <a:pt x="92" y="294"/>
                    </a:lnTo>
                    <a:lnTo>
                      <a:pt x="77" y="298"/>
                    </a:lnTo>
                    <a:lnTo>
                      <a:pt x="62" y="301"/>
                    </a:lnTo>
                    <a:lnTo>
                      <a:pt x="47" y="305"/>
                    </a:lnTo>
                    <a:lnTo>
                      <a:pt x="32" y="306"/>
                    </a:lnTo>
                    <a:lnTo>
                      <a:pt x="16" y="307"/>
                    </a:lnTo>
                    <a:lnTo>
                      <a:pt x="0" y="309"/>
                    </a:lnTo>
                    <a:lnTo>
                      <a:pt x="0" y="309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732120" y="4746600"/>
                <a:ext cx="136440" cy="136440"/>
              </a:xfrm>
              <a:custGeom>
                <a:avLst/>
                <a:gdLst/>
                <a:ahLst/>
                <a:rect l="l" t="t" r="r" b="b"/>
                <a:pathLst>
                  <a:path w="343" h="343">
                    <a:moveTo>
                      <a:pt x="0" y="0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1" y="35"/>
                    </a:lnTo>
                    <a:lnTo>
                      <a:pt x="4" y="52"/>
                    </a:lnTo>
                    <a:lnTo>
                      <a:pt x="6" y="69"/>
                    </a:lnTo>
                    <a:lnTo>
                      <a:pt x="11" y="85"/>
                    </a:lnTo>
                    <a:lnTo>
                      <a:pt x="15" y="101"/>
                    </a:lnTo>
                    <a:lnTo>
                      <a:pt x="21" y="118"/>
                    </a:lnTo>
                    <a:lnTo>
                      <a:pt x="27" y="133"/>
                    </a:lnTo>
                    <a:lnTo>
                      <a:pt x="34" y="148"/>
                    </a:lnTo>
                    <a:lnTo>
                      <a:pt x="41" y="163"/>
                    </a:lnTo>
                    <a:lnTo>
                      <a:pt x="49" y="178"/>
                    </a:lnTo>
                    <a:lnTo>
                      <a:pt x="59" y="191"/>
                    </a:lnTo>
                    <a:lnTo>
                      <a:pt x="69" y="204"/>
                    </a:lnTo>
                    <a:lnTo>
                      <a:pt x="78" y="217"/>
                    </a:lnTo>
                    <a:lnTo>
                      <a:pt x="89" y="231"/>
                    </a:lnTo>
                    <a:lnTo>
                      <a:pt x="100" y="243"/>
                    </a:lnTo>
                    <a:lnTo>
                      <a:pt x="112" y="253"/>
                    </a:lnTo>
                    <a:lnTo>
                      <a:pt x="125" y="264"/>
                    </a:lnTo>
                    <a:lnTo>
                      <a:pt x="138" y="275"/>
                    </a:lnTo>
                    <a:lnTo>
                      <a:pt x="151" y="285"/>
                    </a:lnTo>
                    <a:lnTo>
                      <a:pt x="165" y="293"/>
                    </a:lnTo>
                    <a:lnTo>
                      <a:pt x="179" y="301"/>
                    </a:lnTo>
                    <a:lnTo>
                      <a:pt x="195" y="309"/>
                    </a:lnTo>
                    <a:lnTo>
                      <a:pt x="209" y="316"/>
                    </a:lnTo>
                    <a:lnTo>
                      <a:pt x="225" y="322"/>
                    </a:lnTo>
                    <a:lnTo>
                      <a:pt x="241" y="328"/>
                    </a:lnTo>
                    <a:lnTo>
                      <a:pt x="257" y="331"/>
                    </a:lnTo>
                    <a:lnTo>
                      <a:pt x="274" y="336"/>
                    </a:lnTo>
                    <a:lnTo>
                      <a:pt x="291" y="339"/>
                    </a:lnTo>
                    <a:lnTo>
                      <a:pt x="307" y="341"/>
                    </a:lnTo>
                    <a:lnTo>
                      <a:pt x="325" y="342"/>
                    </a:lnTo>
                    <a:lnTo>
                      <a:pt x="343" y="343"/>
                    </a:lnTo>
                    <a:lnTo>
                      <a:pt x="343" y="309"/>
                    </a:lnTo>
                    <a:lnTo>
                      <a:pt x="327" y="307"/>
                    </a:lnTo>
                    <a:lnTo>
                      <a:pt x="311" y="306"/>
                    </a:lnTo>
                    <a:lnTo>
                      <a:pt x="295" y="305"/>
                    </a:lnTo>
                    <a:lnTo>
                      <a:pt x="281" y="301"/>
                    </a:lnTo>
                    <a:lnTo>
                      <a:pt x="265" y="298"/>
                    </a:lnTo>
                    <a:lnTo>
                      <a:pt x="251" y="294"/>
                    </a:lnTo>
                    <a:lnTo>
                      <a:pt x="237" y="289"/>
                    </a:lnTo>
                    <a:lnTo>
                      <a:pt x="223" y="283"/>
                    </a:lnTo>
                    <a:lnTo>
                      <a:pt x="209" y="277"/>
                    </a:lnTo>
                    <a:lnTo>
                      <a:pt x="196" y="271"/>
                    </a:lnTo>
                    <a:lnTo>
                      <a:pt x="183" y="263"/>
                    </a:lnTo>
                    <a:lnTo>
                      <a:pt x="171" y="256"/>
                    </a:lnTo>
                    <a:lnTo>
                      <a:pt x="159" y="246"/>
                    </a:lnTo>
                    <a:lnTo>
                      <a:pt x="147" y="238"/>
                    </a:lnTo>
                    <a:lnTo>
                      <a:pt x="136" y="228"/>
                    </a:lnTo>
                    <a:lnTo>
                      <a:pt x="125" y="217"/>
                    </a:lnTo>
                    <a:lnTo>
                      <a:pt x="114" y="207"/>
                    </a:lnTo>
                    <a:lnTo>
                      <a:pt x="105" y="196"/>
                    </a:lnTo>
                    <a:lnTo>
                      <a:pt x="96" y="184"/>
                    </a:lnTo>
                    <a:lnTo>
                      <a:pt x="88" y="172"/>
                    </a:lnTo>
                    <a:lnTo>
                      <a:pt x="79" y="160"/>
                    </a:lnTo>
                    <a:lnTo>
                      <a:pt x="72" y="147"/>
                    </a:lnTo>
                    <a:lnTo>
                      <a:pt x="65" y="133"/>
                    </a:lnTo>
                    <a:lnTo>
                      <a:pt x="59" y="119"/>
                    </a:lnTo>
                    <a:lnTo>
                      <a:pt x="53" y="106"/>
                    </a:lnTo>
                    <a:lnTo>
                      <a:pt x="48" y="91"/>
                    </a:lnTo>
                    <a:lnTo>
                      <a:pt x="45" y="77"/>
                    </a:lnTo>
                    <a:lnTo>
                      <a:pt x="41" y="61"/>
                    </a:lnTo>
                    <a:lnTo>
                      <a:pt x="39" y="47"/>
                    </a:lnTo>
                    <a:lnTo>
                      <a:pt x="36" y="31"/>
                    </a:lnTo>
                    <a:lnTo>
                      <a:pt x="35" y="16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732120" y="4611600"/>
                <a:ext cx="136440" cy="135000"/>
              </a:xfrm>
              <a:custGeom>
                <a:avLst/>
                <a:gdLst/>
                <a:ahLst/>
                <a:rect l="l" t="t" r="r" b="b"/>
                <a:pathLst>
                  <a:path w="343" h="343">
                    <a:moveTo>
                      <a:pt x="343" y="0"/>
                    </a:moveTo>
                    <a:lnTo>
                      <a:pt x="343" y="0"/>
                    </a:lnTo>
                    <a:lnTo>
                      <a:pt x="325" y="0"/>
                    </a:lnTo>
                    <a:lnTo>
                      <a:pt x="307" y="1"/>
                    </a:lnTo>
                    <a:lnTo>
                      <a:pt x="291" y="4"/>
                    </a:lnTo>
                    <a:lnTo>
                      <a:pt x="274" y="7"/>
                    </a:lnTo>
                    <a:lnTo>
                      <a:pt x="257" y="11"/>
                    </a:lnTo>
                    <a:lnTo>
                      <a:pt x="241" y="16"/>
                    </a:lnTo>
                    <a:lnTo>
                      <a:pt x="225" y="21"/>
                    </a:lnTo>
                    <a:lnTo>
                      <a:pt x="209" y="27"/>
                    </a:lnTo>
                    <a:lnTo>
                      <a:pt x="195" y="34"/>
                    </a:lnTo>
                    <a:lnTo>
                      <a:pt x="179" y="41"/>
                    </a:lnTo>
                    <a:lnTo>
                      <a:pt x="165" y="49"/>
                    </a:lnTo>
                    <a:lnTo>
                      <a:pt x="151" y="59"/>
                    </a:lnTo>
                    <a:lnTo>
                      <a:pt x="138" y="69"/>
                    </a:lnTo>
                    <a:lnTo>
                      <a:pt x="125" y="78"/>
                    </a:lnTo>
                    <a:lnTo>
                      <a:pt x="112" y="89"/>
                    </a:lnTo>
                    <a:lnTo>
                      <a:pt x="100" y="101"/>
                    </a:lnTo>
                    <a:lnTo>
                      <a:pt x="89" y="113"/>
                    </a:lnTo>
                    <a:lnTo>
                      <a:pt x="78" y="125"/>
                    </a:lnTo>
                    <a:lnTo>
                      <a:pt x="69" y="138"/>
                    </a:lnTo>
                    <a:lnTo>
                      <a:pt x="59" y="151"/>
                    </a:lnTo>
                    <a:lnTo>
                      <a:pt x="49" y="166"/>
                    </a:lnTo>
                    <a:lnTo>
                      <a:pt x="41" y="180"/>
                    </a:lnTo>
                    <a:lnTo>
                      <a:pt x="34" y="195"/>
                    </a:lnTo>
                    <a:lnTo>
                      <a:pt x="27" y="210"/>
                    </a:lnTo>
                    <a:lnTo>
                      <a:pt x="21" y="225"/>
                    </a:lnTo>
                    <a:lnTo>
                      <a:pt x="15" y="241"/>
                    </a:lnTo>
                    <a:lnTo>
                      <a:pt x="11" y="257"/>
                    </a:lnTo>
                    <a:lnTo>
                      <a:pt x="6" y="274"/>
                    </a:lnTo>
                    <a:lnTo>
                      <a:pt x="4" y="290"/>
                    </a:lnTo>
                    <a:lnTo>
                      <a:pt x="1" y="307"/>
                    </a:lnTo>
                    <a:lnTo>
                      <a:pt x="0" y="325"/>
                    </a:lnTo>
                    <a:lnTo>
                      <a:pt x="0" y="343"/>
                    </a:lnTo>
                    <a:lnTo>
                      <a:pt x="35" y="343"/>
                    </a:lnTo>
                    <a:lnTo>
                      <a:pt x="35" y="326"/>
                    </a:lnTo>
                    <a:lnTo>
                      <a:pt x="36" y="311"/>
                    </a:lnTo>
                    <a:lnTo>
                      <a:pt x="39" y="296"/>
                    </a:lnTo>
                    <a:lnTo>
                      <a:pt x="41" y="281"/>
                    </a:lnTo>
                    <a:lnTo>
                      <a:pt x="45" y="265"/>
                    </a:lnTo>
                    <a:lnTo>
                      <a:pt x="48" y="251"/>
                    </a:lnTo>
                    <a:lnTo>
                      <a:pt x="53" y="237"/>
                    </a:lnTo>
                    <a:lnTo>
                      <a:pt x="59" y="223"/>
                    </a:lnTo>
                    <a:lnTo>
                      <a:pt x="65" y="209"/>
                    </a:lnTo>
                    <a:lnTo>
                      <a:pt x="72" y="196"/>
                    </a:lnTo>
                    <a:lnTo>
                      <a:pt x="79" y="184"/>
                    </a:lnTo>
                    <a:lnTo>
                      <a:pt x="88" y="171"/>
                    </a:lnTo>
                    <a:lnTo>
                      <a:pt x="96" y="159"/>
                    </a:lnTo>
                    <a:lnTo>
                      <a:pt x="105" y="147"/>
                    </a:lnTo>
                    <a:lnTo>
                      <a:pt x="114" y="136"/>
                    </a:lnTo>
                    <a:lnTo>
                      <a:pt x="125" y="125"/>
                    </a:lnTo>
                    <a:lnTo>
                      <a:pt x="136" y="115"/>
                    </a:lnTo>
                    <a:lnTo>
                      <a:pt x="147" y="105"/>
                    </a:lnTo>
                    <a:lnTo>
                      <a:pt x="159" y="96"/>
                    </a:lnTo>
                    <a:lnTo>
                      <a:pt x="171" y="88"/>
                    </a:lnTo>
                    <a:lnTo>
                      <a:pt x="183" y="79"/>
                    </a:lnTo>
                    <a:lnTo>
                      <a:pt x="196" y="72"/>
                    </a:lnTo>
                    <a:lnTo>
                      <a:pt x="209" y="65"/>
                    </a:lnTo>
                    <a:lnTo>
                      <a:pt x="223" y="59"/>
                    </a:lnTo>
                    <a:lnTo>
                      <a:pt x="237" y="53"/>
                    </a:lnTo>
                    <a:lnTo>
                      <a:pt x="251" y="48"/>
                    </a:lnTo>
                    <a:lnTo>
                      <a:pt x="265" y="45"/>
                    </a:lnTo>
                    <a:lnTo>
                      <a:pt x="281" y="41"/>
                    </a:lnTo>
                    <a:lnTo>
                      <a:pt x="295" y="39"/>
                    </a:lnTo>
                    <a:lnTo>
                      <a:pt x="311" y="36"/>
                    </a:lnTo>
                    <a:lnTo>
                      <a:pt x="327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389560" y="5497560"/>
                <a:ext cx="323640" cy="323640"/>
              </a:xfrm>
              <a:custGeom>
                <a:avLst/>
                <a:gdLst/>
                <a:ahLst/>
                <a:rect l="l" t="t" r="r" b="b"/>
                <a:pathLst>
                  <a:path w="815" h="816">
                    <a:moveTo>
                      <a:pt x="407" y="0"/>
                    </a:moveTo>
                    <a:lnTo>
                      <a:pt x="428" y="1"/>
                    </a:lnTo>
                    <a:lnTo>
                      <a:pt x="449" y="2"/>
                    </a:lnTo>
                    <a:lnTo>
                      <a:pt x="469" y="5"/>
                    </a:lnTo>
                    <a:lnTo>
                      <a:pt x="490" y="8"/>
                    </a:lnTo>
                    <a:lnTo>
                      <a:pt x="509" y="13"/>
                    </a:lnTo>
                    <a:lnTo>
                      <a:pt x="528" y="18"/>
                    </a:lnTo>
                    <a:lnTo>
                      <a:pt x="547" y="25"/>
                    </a:lnTo>
                    <a:lnTo>
                      <a:pt x="566" y="32"/>
                    </a:lnTo>
                    <a:lnTo>
                      <a:pt x="584" y="41"/>
                    </a:lnTo>
                    <a:lnTo>
                      <a:pt x="601" y="49"/>
                    </a:lnTo>
                    <a:lnTo>
                      <a:pt x="618" y="59"/>
                    </a:lnTo>
                    <a:lnTo>
                      <a:pt x="635" y="69"/>
                    </a:lnTo>
                    <a:lnTo>
                      <a:pt x="652" y="81"/>
                    </a:lnTo>
                    <a:lnTo>
                      <a:pt x="666" y="93"/>
                    </a:lnTo>
                    <a:lnTo>
                      <a:pt x="682" y="107"/>
                    </a:lnTo>
                    <a:lnTo>
                      <a:pt x="696" y="120"/>
                    </a:lnTo>
                    <a:lnTo>
                      <a:pt x="709" y="134"/>
                    </a:lnTo>
                    <a:lnTo>
                      <a:pt x="722" y="149"/>
                    </a:lnTo>
                    <a:lnTo>
                      <a:pt x="734" y="164"/>
                    </a:lnTo>
                    <a:lnTo>
                      <a:pt x="745" y="180"/>
                    </a:lnTo>
                    <a:lnTo>
                      <a:pt x="756" y="197"/>
                    </a:lnTo>
                    <a:lnTo>
                      <a:pt x="766" y="213"/>
                    </a:lnTo>
                    <a:lnTo>
                      <a:pt x="775" y="231"/>
                    </a:lnTo>
                    <a:lnTo>
                      <a:pt x="784" y="249"/>
                    </a:lnTo>
                    <a:lnTo>
                      <a:pt x="791" y="267"/>
                    </a:lnTo>
                    <a:lnTo>
                      <a:pt x="797" y="286"/>
                    </a:lnTo>
                    <a:lnTo>
                      <a:pt x="803" y="306"/>
                    </a:lnTo>
                    <a:lnTo>
                      <a:pt x="806" y="326"/>
                    </a:lnTo>
                    <a:lnTo>
                      <a:pt x="810" y="345"/>
                    </a:lnTo>
                    <a:lnTo>
                      <a:pt x="814" y="366"/>
                    </a:lnTo>
                    <a:lnTo>
                      <a:pt x="815" y="387"/>
                    </a:lnTo>
                    <a:lnTo>
                      <a:pt x="815" y="408"/>
                    </a:lnTo>
                    <a:lnTo>
                      <a:pt x="815" y="428"/>
                    </a:lnTo>
                    <a:lnTo>
                      <a:pt x="814" y="450"/>
                    </a:lnTo>
                    <a:lnTo>
                      <a:pt x="810" y="470"/>
                    </a:lnTo>
                    <a:lnTo>
                      <a:pt x="806" y="489"/>
                    </a:lnTo>
                    <a:lnTo>
                      <a:pt x="803" y="510"/>
                    </a:lnTo>
                    <a:lnTo>
                      <a:pt x="797" y="529"/>
                    </a:lnTo>
                    <a:lnTo>
                      <a:pt x="791" y="548"/>
                    </a:lnTo>
                    <a:lnTo>
                      <a:pt x="784" y="566"/>
                    </a:lnTo>
                    <a:lnTo>
                      <a:pt x="775" y="584"/>
                    </a:lnTo>
                    <a:lnTo>
                      <a:pt x="766" y="602"/>
                    </a:lnTo>
                    <a:lnTo>
                      <a:pt x="756" y="619"/>
                    </a:lnTo>
                    <a:lnTo>
                      <a:pt x="745" y="636"/>
                    </a:lnTo>
                    <a:lnTo>
                      <a:pt x="734" y="651"/>
                    </a:lnTo>
                    <a:lnTo>
                      <a:pt x="722" y="667"/>
                    </a:lnTo>
                    <a:lnTo>
                      <a:pt x="709" y="681"/>
                    </a:lnTo>
                    <a:lnTo>
                      <a:pt x="696" y="696"/>
                    </a:lnTo>
                    <a:lnTo>
                      <a:pt x="682" y="709"/>
                    </a:lnTo>
                    <a:lnTo>
                      <a:pt x="666" y="722"/>
                    </a:lnTo>
                    <a:lnTo>
                      <a:pt x="652" y="734"/>
                    </a:lnTo>
                    <a:lnTo>
                      <a:pt x="635" y="746"/>
                    </a:lnTo>
                    <a:lnTo>
                      <a:pt x="618" y="757"/>
                    </a:lnTo>
                    <a:lnTo>
                      <a:pt x="601" y="766"/>
                    </a:lnTo>
                    <a:lnTo>
                      <a:pt x="584" y="775"/>
                    </a:lnTo>
                    <a:lnTo>
                      <a:pt x="566" y="783"/>
                    </a:lnTo>
                    <a:lnTo>
                      <a:pt x="547" y="790"/>
                    </a:lnTo>
                    <a:lnTo>
                      <a:pt x="528" y="798"/>
                    </a:lnTo>
                    <a:lnTo>
                      <a:pt x="509" y="802"/>
                    </a:lnTo>
                    <a:lnTo>
                      <a:pt x="490" y="807"/>
                    </a:lnTo>
                    <a:lnTo>
                      <a:pt x="469" y="811"/>
                    </a:lnTo>
                    <a:lnTo>
                      <a:pt x="449" y="813"/>
                    </a:lnTo>
                    <a:lnTo>
                      <a:pt x="428" y="814"/>
                    </a:lnTo>
                    <a:lnTo>
                      <a:pt x="407" y="816"/>
                    </a:lnTo>
                    <a:lnTo>
                      <a:pt x="386" y="814"/>
                    </a:lnTo>
                    <a:lnTo>
                      <a:pt x="366" y="813"/>
                    </a:lnTo>
                    <a:lnTo>
                      <a:pt x="346" y="811"/>
                    </a:lnTo>
                    <a:lnTo>
                      <a:pt x="325" y="807"/>
                    </a:lnTo>
                    <a:lnTo>
                      <a:pt x="306" y="802"/>
                    </a:lnTo>
                    <a:lnTo>
                      <a:pt x="287" y="798"/>
                    </a:lnTo>
                    <a:lnTo>
                      <a:pt x="268" y="790"/>
                    </a:lnTo>
                    <a:lnTo>
                      <a:pt x="248" y="783"/>
                    </a:lnTo>
                    <a:lnTo>
                      <a:pt x="230" y="775"/>
                    </a:lnTo>
                    <a:lnTo>
                      <a:pt x="214" y="766"/>
                    </a:lnTo>
                    <a:lnTo>
                      <a:pt x="196" y="757"/>
                    </a:lnTo>
                    <a:lnTo>
                      <a:pt x="180" y="746"/>
                    </a:lnTo>
                    <a:lnTo>
                      <a:pt x="163" y="734"/>
                    </a:lnTo>
                    <a:lnTo>
                      <a:pt x="148" y="722"/>
                    </a:lnTo>
                    <a:lnTo>
                      <a:pt x="133" y="709"/>
                    </a:lnTo>
                    <a:lnTo>
                      <a:pt x="119" y="696"/>
                    </a:lnTo>
                    <a:lnTo>
                      <a:pt x="106" y="681"/>
                    </a:lnTo>
                    <a:lnTo>
                      <a:pt x="92" y="667"/>
                    </a:lnTo>
                    <a:lnTo>
                      <a:pt x="80" y="651"/>
                    </a:lnTo>
                    <a:lnTo>
                      <a:pt x="70" y="636"/>
                    </a:lnTo>
                    <a:lnTo>
                      <a:pt x="59" y="619"/>
                    </a:lnTo>
                    <a:lnTo>
                      <a:pt x="49" y="602"/>
                    </a:lnTo>
                    <a:lnTo>
                      <a:pt x="40" y="584"/>
                    </a:lnTo>
                    <a:lnTo>
                      <a:pt x="31" y="566"/>
                    </a:lnTo>
                    <a:lnTo>
                      <a:pt x="24" y="548"/>
                    </a:lnTo>
                    <a:lnTo>
                      <a:pt x="18" y="529"/>
                    </a:lnTo>
                    <a:lnTo>
                      <a:pt x="12" y="510"/>
                    </a:lnTo>
                    <a:lnTo>
                      <a:pt x="7" y="489"/>
                    </a:lnTo>
                    <a:lnTo>
                      <a:pt x="4" y="470"/>
                    </a:lnTo>
                    <a:lnTo>
                      <a:pt x="1" y="450"/>
                    </a:lnTo>
                    <a:lnTo>
                      <a:pt x="0" y="428"/>
                    </a:lnTo>
                    <a:lnTo>
                      <a:pt x="0" y="408"/>
                    </a:lnTo>
                    <a:lnTo>
                      <a:pt x="0" y="387"/>
                    </a:lnTo>
                    <a:lnTo>
                      <a:pt x="1" y="366"/>
                    </a:lnTo>
                    <a:lnTo>
                      <a:pt x="4" y="345"/>
                    </a:lnTo>
                    <a:lnTo>
                      <a:pt x="7" y="326"/>
                    </a:lnTo>
                    <a:lnTo>
                      <a:pt x="12" y="306"/>
                    </a:lnTo>
                    <a:lnTo>
                      <a:pt x="18" y="286"/>
                    </a:lnTo>
                    <a:lnTo>
                      <a:pt x="24" y="267"/>
                    </a:lnTo>
                    <a:lnTo>
                      <a:pt x="31" y="249"/>
                    </a:lnTo>
                    <a:lnTo>
                      <a:pt x="40" y="231"/>
                    </a:lnTo>
                    <a:lnTo>
                      <a:pt x="49" y="213"/>
                    </a:lnTo>
                    <a:lnTo>
                      <a:pt x="59" y="197"/>
                    </a:lnTo>
                    <a:lnTo>
                      <a:pt x="70" y="180"/>
                    </a:lnTo>
                    <a:lnTo>
                      <a:pt x="80" y="164"/>
                    </a:lnTo>
                    <a:lnTo>
                      <a:pt x="92" y="149"/>
                    </a:lnTo>
                    <a:lnTo>
                      <a:pt x="106" y="134"/>
                    </a:lnTo>
                    <a:lnTo>
                      <a:pt x="119" y="120"/>
                    </a:lnTo>
                    <a:lnTo>
                      <a:pt x="133" y="107"/>
                    </a:lnTo>
                    <a:lnTo>
                      <a:pt x="148" y="93"/>
                    </a:lnTo>
                    <a:lnTo>
                      <a:pt x="163" y="81"/>
                    </a:lnTo>
                    <a:lnTo>
                      <a:pt x="180" y="69"/>
                    </a:lnTo>
                    <a:lnTo>
                      <a:pt x="196" y="59"/>
                    </a:lnTo>
                    <a:lnTo>
                      <a:pt x="214" y="49"/>
                    </a:lnTo>
                    <a:lnTo>
                      <a:pt x="230" y="41"/>
                    </a:lnTo>
                    <a:lnTo>
                      <a:pt x="248" y="32"/>
                    </a:lnTo>
                    <a:lnTo>
                      <a:pt x="268" y="25"/>
                    </a:lnTo>
                    <a:lnTo>
                      <a:pt x="287" y="18"/>
                    </a:lnTo>
                    <a:lnTo>
                      <a:pt x="306" y="13"/>
                    </a:lnTo>
                    <a:lnTo>
                      <a:pt x="325" y="8"/>
                    </a:lnTo>
                    <a:lnTo>
                      <a:pt x="346" y="5"/>
                    </a:lnTo>
                    <a:lnTo>
                      <a:pt x="366" y="2"/>
                    </a:lnTo>
                    <a:lnTo>
                      <a:pt x="386" y="1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be8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1560" y="5489640"/>
                <a:ext cx="168120" cy="169920"/>
              </a:xfrm>
              <a:custGeom>
                <a:avLst/>
                <a:gdLst/>
                <a:ahLst/>
                <a:rect l="l" t="t" r="r" b="b"/>
                <a:pathLst>
                  <a:path w="426" h="425">
                    <a:moveTo>
                      <a:pt x="426" y="425"/>
                    </a:moveTo>
                    <a:lnTo>
                      <a:pt x="426" y="425"/>
                    </a:lnTo>
                    <a:lnTo>
                      <a:pt x="425" y="403"/>
                    </a:lnTo>
                    <a:lnTo>
                      <a:pt x="423" y="381"/>
                    </a:lnTo>
                    <a:lnTo>
                      <a:pt x="421" y="360"/>
                    </a:lnTo>
                    <a:lnTo>
                      <a:pt x="417" y="339"/>
                    </a:lnTo>
                    <a:lnTo>
                      <a:pt x="413" y="319"/>
                    </a:lnTo>
                    <a:lnTo>
                      <a:pt x="407" y="299"/>
                    </a:lnTo>
                    <a:lnTo>
                      <a:pt x="399" y="278"/>
                    </a:lnTo>
                    <a:lnTo>
                      <a:pt x="392" y="259"/>
                    </a:lnTo>
                    <a:lnTo>
                      <a:pt x="384" y="241"/>
                    </a:lnTo>
                    <a:lnTo>
                      <a:pt x="374" y="222"/>
                    </a:lnTo>
                    <a:lnTo>
                      <a:pt x="363" y="204"/>
                    </a:lnTo>
                    <a:lnTo>
                      <a:pt x="353" y="187"/>
                    </a:lnTo>
                    <a:lnTo>
                      <a:pt x="341" y="170"/>
                    </a:lnTo>
                    <a:lnTo>
                      <a:pt x="329" y="155"/>
                    </a:lnTo>
                    <a:lnTo>
                      <a:pt x="315" y="139"/>
                    </a:lnTo>
                    <a:lnTo>
                      <a:pt x="301" y="125"/>
                    </a:lnTo>
                    <a:lnTo>
                      <a:pt x="285" y="110"/>
                    </a:lnTo>
                    <a:lnTo>
                      <a:pt x="271" y="97"/>
                    </a:lnTo>
                    <a:lnTo>
                      <a:pt x="254" y="84"/>
                    </a:lnTo>
                    <a:lnTo>
                      <a:pt x="237" y="72"/>
                    </a:lnTo>
                    <a:lnTo>
                      <a:pt x="221" y="61"/>
                    </a:lnTo>
                    <a:lnTo>
                      <a:pt x="203" y="52"/>
                    </a:lnTo>
                    <a:lnTo>
                      <a:pt x="185" y="42"/>
                    </a:lnTo>
                    <a:lnTo>
                      <a:pt x="165" y="34"/>
                    </a:lnTo>
                    <a:lnTo>
                      <a:pt x="146" y="25"/>
                    </a:lnTo>
                    <a:lnTo>
                      <a:pt x="127" y="19"/>
                    </a:lnTo>
                    <a:lnTo>
                      <a:pt x="107" y="13"/>
                    </a:lnTo>
                    <a:lnTo>
                      <a:pt x="86" y="8"/>
                    </a:lnTo>
                    <a:lnTo>
                      <a:pt x="65" y="5"/>
                    </a:lnTo>
                    <a:lnTo>
                      <a:pt x="44" y="2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20" y="35"/>
                    </a:lnTo>
                    <a:lnTo>
                      <a:pt x="41" y="36"/>
                    </a:lnTo>
                    <a:lnTo>
                      <a:pt x="60" y="38"/>
                    </a:lnTo>
                    <a:lnTo>
                      <a:pt x="79" y="42"/>
                    </a:lnTo>
                    <a:lnTo>
                      <a:pt x="98" y="47"/>
                    </a:lnTo>
                    <a:lnTo>
                      <a:pt x="116" y="52"/>
                    </a:lnTo>
                    <a:lnTo>
                      <a:pt x="134" y="58"/>
                    </a:lnTo>
                    <a:lnTo>
                      <a:pt x="152" y="65"/>
                    </a:lnTo>
                    <a:lnTo>
                      <a:pt x="169" y="73"/>
                    </a:lnTo>
                    <a:lnTo>
                      <a:pt x="186" y="82"/>
                    </a:lnTo>
                    <a:lnTo>
                      <a:pt x="203" y="91"/>
                    </a:lnTo>
                    <a:lnTo>
                      <a:pt x="218" y="101"/>
                    </a:lnTo>
                    <a:lnTo>
                      <a:pt x="234" y="112"/>
                    </a:lnTo>
                    <a:lnTo>
                      <a:pt x="248" y="124"/>
                    </a:lnTo>
                    <a:lnTo>
                      <a:pt x="263" y="136"/>
                    </a:lnTo>
                    <a:lnTo>
                      <a:pt x="276" y="149"/>
                    </a:lnTo>
                    <a:lnTo>
                      <a:pt x="289" y="162"/>
                    </a:lnTo>
                    <a:lnTo>
                      <a:pt x="301" y="176"/>
                    </a:lnTo>
                    <a:lnTo>
                      <a:pt x="313" y="192"/>
                    </a:lnTo>
                    <a:lnTo>
                      <a:pt x="324" y="206"/>
                    </a:lnTo>
                    <a:lnTo>
                      <a:pt x="335" y="223"/>
                    </a:lnTo>
                    <a:lnTo>
                      <a:pt x="343" y="239"/>
                    </a:lnTo>
                    <a:lnTo>
                      <a:pt x="353" y="256"/>
                    </a:lnTo>
                    <a:lnTo>
                      <a:pt x="360" y="274"/>
                    </a:lnTo>
                    <a:lnTo>
                      <a:pt x="367" y="290"/>
                    </a:lnTo>
                    <a:lnTo>
                      <a:pt x="373" y="308"/>
                    </a:lnTo>
                    <a:lnTo>
                      <a:pt x="379" y="327"/>
                    </a:lnTo>
                    <a:lnTo>
                      <a:pt x="383" y="347"/>
                    </a:lnTo>
                    <a:lnTo>
                      <a:pt x="386" y="366"/>
                    </a:lnTo>
                    <a:lnTo>
                      <a:pt x="389" y="385"/>
                    </a:lnTo>
                    <a:lnTo>
                      <a:pt x="390" y="404"/>
                    </a:lnTo>
                    <a:lnTo>
                      <a:pt x="391" y="425"/>
                    </a:lnTo>
                    <a:lnTo>
                      <a:pt x="391" y="425"/>
                    </a:lnTo>
                    <a:lnTo>
                      <a:pt x="426" y="42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51560" y="565956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426" h="424">
                    <a:moveTo>
                      <a:pt x="0" y="424"/>
                    </a:moveTo>
                    <a:lnTo>
                      <a:pt x="0" y="424"/>
                    </a:lnTo>
                    <a:lnTo>
                      <a:pt x="23" y="424"/>
                    </a:lnTo>
                    <a:lnTo>
                      <a:pt x="44" y="423"/>
                    </a:lnTo>
                    <a:lnTo>
                      <a:pt x="65" y="420"/>
                    </a:lnTo>
                    <a:lnTo>
                      <a:pt x="86" y="416"/>
                    </a:lnTo>
                    <a:lnTo>
                      <a:pt x="107" y="411"/>
                    </a:lnTo>
                    <a:lnTo>
                      <a:pt x="127" y="405"/>
                    </a:lnTo>
                    <a:lnTo>
                      <a:pt x="146" y="399"/>
                    </a:lnTo>
                    <a:lnTo>
                      <a:pt x="165" y="391"/>
                    </a:lnTo>
                    <a:lnTo>
                      <a:pt x="185" y="382"/>
                    </a:lnTo>
                    <a:lnTo>
                      <a:pt x="203" y="373"/>
                    </a:lnTo>
                    <a:lnTo>
                      <a:pt x="221" y="363"/>
                    </a:lnTo>
                    <a:lnTo>
                      <a:pt x="237" y="352"/>
                    </a:lnTo>
                    <a:lnTo>
                      <a:pt x="254" y="340"/>
                    </a:lnTo>
                    <a:lnTo>
                      <a:pt x="271" y="327"/>
                    </a:lnTo>
                    <a:lnTo>
                      <a:pt x="285" y="314"/>
                    </a:lnTo>
                    <a:lnTo>
                      <a:pt x="301" y="300"/>
                    </a:lnTo>
                    <a:lnTo>
                      <a:pt x="315" y="285"/>
                    </a:lnTo>
                    <a:lnTo>
                      <a:pt x="329" y="270"/>
                    </a:lnTo>
                    <a:lnTo>
                      <a:pt x="341" y="254"/>
                    </a:lnTo>
                    <a:lnTo>
                      <a:pt x="353" y="237"/>
                    </a:lnTo>
                    <a:lnTo>
                      <a:pt x="363" y="220"/>
                    </a:lnTo>
                    <a:lnTo>
                      <a:pt x="374" y="202"/>
                    </a:lnTo>
                    <a:lnTo>
                      <a:pt x="384" y="183"/>
                    </a:lnTo>
                    <a:lnTo>
                      <a:pt x="392" y="165"/>
                    </a:lnTo>
                    <a:lnTo>
                      <a:pt x="399" y="146"/>
                    </a:lnTo>
                    <a:lnTo>
                      <a:pt x="407" y="126"/>
                    </a:lnTo>
                    <a:lnTo>
                      <a:pt x="413" y="105"/>
                    </a:lnTo>
                    <a:lnTo>
                      <a:pt x="417" y="85"/>
                    </a:lnTo>
                    <a:lnTo>
                      <a:pt x="421" y="64"/>
                    </a:lnTo>
                    <a:lnTo>
                      <a:pt x="423" y="43"/>
                    </a:lnTo>
                    <a:lnTo>
                      <a:pt x="425" y="21"/>
                    </a:lnTo>
                    <a:lnTo>
                      <a:pt x="426" y="0"/>
                    </a:lnTo>
                    <a:lnTo>
                      <a:pt x="391" y="0"/>
                    </a:lnTo>
                    <a:lnTo>
                      <a:pt x="390" y="20"/>
                    </a:lnTo>
                    <a:lnTo>
                      <a:pt x="389" y="39"/>
                    </a:lnTo>
                    <a:lnTo>
                      <a:pt x="386" y="60"/>
                    </a:lnTo>
                    <a:lnTo>
                      <a:pt x="383" y="78"/>
                    </a:lnTo>
                    <a:lnTo>
                      <a:pt x="379" y="97"/>
                    </a:lnTo>
                    <a:lnTo>
                      <a:pt x="373" y="116"/>
                    </a:lnTo>
                    <a:lnTo>
                      <a:pt x="367" y="134"/>
                    </a:lnTo>
                    <a:lnTo>
                      <a:pt x="360" y="152"/>
                    </a:lnTo>
                    <a:lnTo>
                      <a:pt x="353" y="169"/>
                    </a:lnTo>
                    <a:lnTo>
                      <a:pt x="343" y="186"/>
                    </a:lnTo>
                    <a:lnTo>
                      <a:pt x="335" y="202"/>
                    </a:lnTo>
                    <a:lnTo>
                      <a:pt x="324" y="218"/>
                    </a:lnTo>
                    <a:lnTo>
                      <a:pt x="313" y="234"/>
                    </a:lnTo>
                    <a:lnTo>
                      <a:pt x="301" y="248"/>
                    </a:lnTo>
                    <a:lnTo>
                      <a:pt x="289" y="262"/>
                    </a:lnTo>
                    <a:lnTo>
                      <a:pt x="276" y="276"/>
                    </a:lnTo>
                    <a:lnTo>
                      <a:pt x="263" y="289"/>
                    </a:lnTo>
                    <a:lnTo>
                      <a:pt x="248" y="301"/>
                    </a:lnTo>
                    <a:lnTo>
                      <a:pt x="234" y="313"/>
                    </a:lnTo>
                    <a:lnTo>
                      <a:pt x="218" y="324"/>
                    </a:lnTo>
                    <a:lnTo>
                      <a:pt x="203" y="333"/>
                    </a:lnTo>
                    <a:lnTo>
                      <a:pt x="186" y="343"/>
                    </a:lnTo>
                    <a:lnTo>
                      <a:pt x="169" y="351"/>
                    </a:lnTo>
                    <a:lnTo>
                      <a:pt x="152" y="360"/>
                    </a:lnTo>
                    <a:lnTo>
                      <a:pt x="134" y="367"/>
                    </a:lnTo>
                    <a:lnTo>
                      <a:pt x="116" y="373"/>
                    </a:lnTo>
                    <a:lnTo>
                      <a:pt x="98" y="378"/>
                    </a:lnTo>
                    <a:lnTo>
                      <a:pt x="79" y="382"/>
                    </a:lnTo>
                    <a:lnTo>
                      <a:pt x="60" y="386"/>
                    </a:lnTo>
                    <a:lnTo>
                      <a:pt x="41" y="388"/>
                    </a:lnTo>
                    <a:lnTo>
                      <a:pt x="20" y="390"/>
                    </a:lnTo>
                    <a:lnTo>
                      <a:pt x="0" y="390"/>
                    </a:lnTo>
                    <a:lnTo>
                      <a:pt x="0" y="39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383080" y="5659560"/>
                <a:ext cx="168480" cy="168120"/>
              </a:xfrm>
              <a:custGeom>
                <a:avLst/>
                <a:gdLst/>
                <a:ahLst/>
                <a:rect l="l" t="t" r="r" b="b"/>
                <a:pathLst>
                  <a:path w="425" h="424">
                    <a:moveTo>
                      <a:pt x="0" y="0"/>
                    </a:moveTo>
                    <a:lnTo>
                      <a:pt x="0" y="0"/>
                    </a:lnTo>
                    <a:lnTo>
                      <a:pt x="1" y="21"/>
                    </a:lnTo>
                    <a:lnTo>
                      <a:pt x="2" y="43"/>
                    </a:lnTo>
                    <a:lnTo>
                      <a:pt x="5" y="64"/>
                    </a:lnTo>
                    <a:lnTo>
                      <a:pt x="8" y="85"/>
                    </a:lnTo>
                    <a:lnTo>
                      <a:pt x="13" y="105"/>
                    </a:lnTo>
                    <a:lnTo>
                      <a:pt x="19" y="126"/>
                    </a:lnTo>
                    <a:lnTo>
                      <a:pt x="26" y="146"/>
                    </a:lnTo>
                    <a:lnTo>
                      <a:pt x="34" y="165"/>
                    </a:lnTo>
                    <a:lnTo>
                      <a:pt x="42" y="183"/>
                    </a:lnTo>
                    <a:lnTo>
                      <a:pt x="52" y="202"/>
                    </a:lnTo>
                    <a:lnTo>
                      <a:pt x="62" y="220"/>
                    </a:lnTo>
                    <a:lnTo>
                      <a:pt x="73" y="237"/>
                    </a:lnTo>
                    <a:lnTo>
                      <a:pt x="85" y="254"/>
                    </a:lnTo>
                    <a:lnTo>
                      <a:pt x="97" y="270"/>
                    </a:lnTo>
                    <a:lnTo>
                      <a:pt x="110" y="285"/>
                    </a:lnTo>
                    <a:lnTo>
                      <a:pt x="125" y="300"/>
                    </a:lnTo>
                    <a:lnTo>
                      <a:pt x="139" y="314"/>
                    </a:lnTo>
                    <a:lnTo>
                      <a:pt x="155" y="327"/>
                    </a:lnTo>
                    <a:lnTo>
                      <a:pt x="172" y="340"/>
                    </a:lnTo>
                    <a:lnTo>
                      <a:pt x="188" y="352"/>
                    </a:lnTo>
                    <a:lnTo>
                      <a:pt x="205" y="363"/>
                    </a:lnTo>
                    <a:lnTo>
                      <a:pt x="223" y="373"/>
                    </a:lnTo>
                    <a:lnTo>
                      <a:pt x="241" y="382"/>
                    </a:lnTo>
                    <a:lnTo>
                      <a:pt x="260" y="391"/>
                    </a:lnTo>
                    <a:lnTo>
                      <a:pt x="280" y="399"/>
                    </a:lnTo>
                    <a:lnTo>
                      <a:pt x="299" y="405"/>
                    </a:lnTo>
                    <a:lnTo>
                      <a:pt x="319" y="411"/>
                    </a:lnTo>
                    <a:lnTo>
                      <a:pt x="340" y="416"/>
                    </a:lnTo>
                    <a:lnTo>
                      <a:pt x="361" y="420"/>
                    </a:lnTo>
                    <a:lnTo>
                      <a:pt x="382" y="423"/>
                    </a:lnTo>
                    <a:lnTo>
                      <a:pt x="403" y="424"/>
                    </a:lnTo>
                    <a:lnTo>
                      <a:pt x="425" y="424"/>
                    </a:lnTo>
                    <a:lnTo>
                      <a:pt x="425" y="390"/>
                    </a:lnTo>
                    <a:lnTo>
                      <a:pt x="406" y="390"/>
                    </a:lnTo>
                    <a:lnTo>
                      <a:pt x="385" y="388"/>
                    </a:lnTo>
                    <a:lnTo>
                      <a:pt x="366" y="386"/>
                    </a:lnTo>
                    <a:lnTo>
                      <a:pt x="347" y="382"/>
                    </a:lnTo>
                    <a:lnTo>
                      <a:pt x="328" y="378"/>
                    </a:lnTo>
                    <a:lnTo>
                      <a:pt x="310" y="373"/>
                    </a:lnTo>
                    <a:lnTo>
                      <a:pt x="292" y="367"/>
                    </a:lnTo>
                    <a:lnTo>
                      <a:pt x="274" y="360"/>
                    </a:lnTo>
                    <a:lnTo>
                      <a:pt x="257" y="351"/>
                    </a:lnTo>
                    <a:lnTo>
                      <a:pt x="240" y="343"/>
                    </a:lnTo>
                    <a:lnTo>
                      <a:pt x="223" y="333"/>
                    </a:lnTo>
                    <a:lnTo>
                      <a:pt x="208" y="324"/>
                    </a:lnTo>
                    <a:lnTo>
                      <a:pt x="192" y="313"/>
                    </a:lnTo>
                    <a:lnTo>
                      <a:pt x="178" y="301"/>
                    </a:lnTo>
                    <a:lnTo>
                      <a:pt x="163" y="289"/>
                    </a:lnTo>
                    <a:lnTo>
                      <a:pt x="150" y="276"/>
                    </a:lnTo>
                    <a:lnTo>
                      <a:pt x="137" y="262"/>
                    </a:lnTo>
                    <a:lnTo>
                      <a:pt x="124" y="248"/>
                    </a:lnTo>
                    <a:lnTo>
                      <a:pt x="113" y="234"/>
                    </a:lnTo>
                    <a:lnTo>
                      <a:pt x="102" y="218"/>
                    </a:lnTo>
                    <a:lnTo>
                      <a:pt x="91" y="202"/>
                    </a:lnTo>
                    <a:lnTo>
                      <a:pt x="82" y="186"/>
                    </a:lnTo>
                    <a:lnTo>
                      <a:pt x="73" y="169"/>
                    </a:lnTo>
                    <a:lnTo>
                      <a:pt x="66" y="152"/>
                    </a:lnTo>
                    <a:lnTo>
                      <a:pt x="59" y="134"/>
                    </a:lnTo>
                    <a:lnTo>
                      <a:pt x="53" y="116"/>
                    </a:lnTo>
                    <a:lnTo>
                      <a:pt x="47" y="97"/>
                    </a:lnTo>
                    <a:lnTo>
                      <a:pt x="43" y="78"/>
                    </a:lnTo>
                    <a:lnTo>
                      <a:pt x="40" y="60"/>
                    </a:lnTo>
                    <a:lnTo>
                      <a:pt x="37" y="39"/>
                    </a:lnTo>
                    <a:lnTo>
                      <a:pt x="35" y="2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83080" y="5489640"/>
                <a:ext cx="168480" cy="169920"/>
              </a:xfrm>
              <a:custGeom>
                <a:avLst/>
                <a:gdLst/>
                <a:ahLst/>
                <a:rect l="l" t="t" r="r" b="b"/>
                <a:pathLst>
                  <a:path w="425" h="425">
                    <a:moveTo>
                      <a:pt x="425" y="0"/>
                    </a:moveTo>
                    <a:lnTo>
                      <a:pt x="425" y="0"/>
                    </a:lnTo>
                    <a:lnTo>
                      <a:pt x="403" y="0"/>
                    </a:lnTo>
                    <a:lnTo>
                      <a:pt x="382" y="2"/>
                    </a:lnTo>
                    <a:lnTo>
                      <a:pt x="361" y="5"/>
                    </a:lnTo>
                    <a:lnTo>
                      <a:pt x="340" y="8"/>
                    </a:lnTo>
                    <a:lnTo>
                      <a:pt x="319" y="13"/>
                    </a:lnTo>
                    <a:lnTo>
                      <a:pt x="299" y="19"/>
                    </a:lnTo>
                    <a:lnTo>
                      <a:pt x="280" y="25"/>
                    </a:lnTo>
                    <a:lnTo>
                      <a:pt x="260" y="34"/>
                    </a:lnTo>
                    <a:lnTo>
                      <a:pt x="241" y="42"/>
                    </a:lnTo>
                    <a:lnTo>
                      <a:pt x="223" y="52"/>
                    </a:lnTo>
                    <a:lnTo>
                      <a:pt x="205" y="61"/>
                    </a:lnTo>
                    <a:lnTo>
                      <a:pt x="188" y="72"/>
                    </a:lnTo>
                    <a:lnTo>
                      <a:pt x="172" y="84"/>
                    </a:lnTo>
                    <a:lnTo>
                      <a:pt x="155" y="97"/>
                    </a:lnTo>
                    <a:lnTo>
                      <a:pt x="139" y="110"/>
                    </a:lnTo>
                    <a:lnTo>
                      <a:pt x="125" y="125"/>
                    </a:lnTo>
                    <a:lnTo>
                      <a:pt x="110" y="139"/>
                    </a:lnTo>
                    <a:lnTo>
                      <a:pt x="97" y="155"/>
                    </a:lnTo>
                    <a:lnTo>
                      <a:pt x="85" y="170"/>
                    </a:lnTo>
                    <a:lnTo>
                      <a:pt x="73" y="187"/>
                    </a:lnTo>
                    <a:lnTo>
                      <a:pt x="62" y="204"/>
                    </a:lnTo>
                    <a:lnTo>
                      <a:pt x="52" y="222"/>
                    </a:lnTo>
                    <a:lnTo>
                      <a:pt x="42" y="241"/>
                    </a:lnTo>
                    <a:lnTo>
                      <a:pt x="34" y="259"/>
                    </a:lnTo>
                    <a:lnTo>
                      <a:pt x="26" y="278"/>
                    </a:lnTo>
                    <a:lnTo>
                      <a:pt x="19" y="299"/>
                    </a:lnTo>
                    <a:lnTo>
                      <a:pt x="13" y="319"/>
                    </a:lnTo>
                    <a:lnTo>
                      <a:pt x="8" y="339"/>
                    </a:lnTo>
                    <a:lnTo>
                      <a:pt x="5" y="360"/>
                    </a:lnTo>
                    <a:lnTo>
                      <a:pt x="2" y="381"/>
                    </a:lnTo>
                    <a:lnTo>
                      <a:pt x="1" y="403"/>
                    </a:lnTo>
                    <a:lnTo>
                      <a:pt x="0" y="425"/>
                    </a:lnTo>
                    <a:lnTo>
                      <a:pt x="35" y="425"/>
                    </a:lnTo>
                    <a:lnTo>
                      <a:pt x="35" y="404"/>
                    </a:lnTo>
                    <a:lnTo>
                      <a:pt x="37" y="385"/>
                    </a:lnTo>
                    <a:lnTo>
                      <a:pt x="40" y="366"/>
                    </a:lnTo>
                    <a:lnTo>
                      <a:pt x="43" y="347"/>
                    </a:lnTo>
                    <a:lnTo>
                      <a:pt x="47" y="327"/>
                    </a:lnTo>
                    <a:lnTo>
                      <a:pt x="53" y="308"/>
                    </a:lnTo>
                    <a:lnTo>
                      <a:pt x="59" y="290"/>
                    </a:lnTo>
                    <a:lnTo>
                      <a:pt x="66" y="274"/>
                    </a:lnTo>
                    <a:lnTo>
                      <a:pt x="73" y="256"/>
                    </a:lnTo>
                    <a:lnTo>
                      <a:pt x="82" y="239"/>
                    </a:lnTo>
                    <a:lnTo>
                      <a:pt x="91" y="223"/>
                    </a:lnTo>
                    <a:lnTo>
                      <a:pt x="102" y="206"/>
                    </a:lnTo>
                    <a:lnTo>
                      <a:pt x="113" y="192"/>
                    </a:lnTo>
                    <a:lnTo>
                      <a:pt x="124" y="176"/>
                    </a:lnTo>
                    <a:lnTo>
                      <a:pt x="137" y="162"/>
                    </a:lnTo>
                    <a:lnTo>
                      <a:pt x="150" y="149"/>
                    </a:lnTo>
                    <a:lnTo>
                      <a:pt x="163" y="136"/>
                    </a:lnTo>
                    <a:lnTo>
                      <a:pt x="178" y="124"/>
                    </a:lnTo>
                    <a:lnTo>
                      <a:pt x="192" y="112"/>
                    </a:lnTo>
                    <a:lnTo>
                      <a:pt x="208" y="101"/>
                    </a:lnTo>
                    <a:lnTo>
                      <a:pt x="223" y="91"/>
                    </a:lnTo>
                    <a:lnTo>
                      <a:pt x="240" y="82"/>
                    </a:lnTo>
                    <a:lnTo>
                      <a:pt x="257" y="73"/>
                    </a:lnTo>
                    <a:lnTo>
                      <a:pt x="274" y="65"/>
                    </a:lnTo>
                    <a:lnTo>
                      <a:pt x="292" y="58"/>
                    </a:lnTo>
                    <a:lnTo>
                      <a:pt x="310" y="52"/>
                    </a:lnTo>
                    <a:lnTo>
                      <a:pt x="328" y="47"/>
                    </a:lnTo>
                    <a:lnTo>
                      <a:pt x="347" y="42"/>
                    </a:lnTo>
                    <a:lnTo>
                      <a:pt x="366" y="38"/>
                    </a:lnTo>
                    <a:lnTo>
                      <a:pt x="385" y="36"/>
                    </a:lnTo>
                    <a:lnTo>
                      <a:pt x="406" y="35"/>
                    </a:lnTo>
                    <a:lnTo>
                      <a:pt x="425" y="35"/>
                    </a:lnTo>
                    <a:lnTo>
                      <a:pt x="425" y="35"/>
                    </a:lnTo>
                    <a:lnTo>
                      <a:pt x="425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391000" y="5499000"/>
                <a:ext cx="320760" cy="320760"/>
              </a:xfrm>
              <a:custGeom>
                <a:avLst/>
                <a:gdLst/>
                <a:ahLst/>
                <a:rect l="l" t="t" r="r" b="b"/>
                <a:pathLst>
                  <a:path w="808" h="808">
                    <a:moveTo>
                      <a:pt x="404" y="0"/>
                    </a:moveTo>
                    <a:lnTo>
                      <a:pt x="424" y="1"/>
                    </a:lnTo>
                    <a:lnTo>
                      <a:pt x="445" y="2"/>
                    </a:lnTo>
                    <a:lnTo>
                      <a:pt x="465" y="5"/>
                    </a:lnTo>
                    <a:lnTo>
                      <a:pt x="486" y="8"/>
                    </a:lnTo>
                    <a:lnTo>
                      <a:pt x="505" y="13"/>
                    </a:lnTo>
                    <a:lnTo>
                      <a:pt x="524" y="19"/>
                    </a:lnTo>
                    <a:lnTo>
                      <a:pt x="542" y="25"/>
                    </a:lnTo>
                    <a:lnTo>
                      <a:pt x="561" y="32"/>
                    </a:lnTo>
                    <a:lnTo>
                      <a:pt x="579" y="41"/>
                    </a:lnTo>
                    <a:lnTo>
                      <a:pt x="596" y="49"/>
                    </a:lnTo>
                    <a:lnTo>
                      <a:pt x="613" y="59"/>
                    </a:lnTo>
                    <a:lnTo>
                      <a:pt x="630" y="69"/>
                    </a:lnTo>
                    <a:lnTo>
                      <a:pt x="645" y="80"/>
                    </a:lnTo>
                    <a:lnTo>
                      <a:pt x="661" y="92"/>
                    </a:lnTo>
                    <a:lnTo>
                      <a:pt x="675" y="105"/>
                    </a:lnTo>
                    <a:lnTo>
                      <a:pt x="690" y="119"/>
                    </a:lnTo>
                    <a:lnTo>
                      <a:pt x="703" y="133"/>
                    </a:lnTo>
                    <a:lnTo>
                      <a:pt x="716" y="147"/>
                    </a:lnTo>
                    <a:lnTo>
                      <a:pt x="728" y="163"/>
                    </a:lnTo>
                    <a:lnTo>
                      <a:pt x="739" y="179"/>
                    </a:lnTo>
                    <a:lnTo>
                      <a:pt x="750" y="195"/>
                    </a:lnTo>
                    <a:lnTo>
                      <a:pt x="759" y="212"/>
                    </a:lnTo>
                    <a:lnTo>
                      <a:pt x="768" y="229"/>
                    </a:lnTo>
                    <a:lnTo>
                      <a:pt x="776" y="247"/>
                    </a:lnTo>
                    <a:lnTo>
                      <a:pt x="783" y="266"/>
                    </a:lnTo>
                    <a:lnTo>
                      <a:pt x="789" y="284"/>
                    </a:lnTo>
                    <a:lnTo>
                      <a:pt x="795" y="303"/>
                    </a:lnTo>
                    <a:lnTo>
                      <a:pt x="800" y="322"/>
                    </a:lnTo>
                    <a:lnTo>
                      <a:pt x="804" y="343"/>
                    </a:lnTo>
                    <a:lnTo>
                      <a:pt x="806" y="363"/>
                    </a:lnTo>
                    <a:lnTo>
                      <a:pt x="807" y="384"/>
                    </a:lnTo>
                    <a:lnTo>
                      <a:pt x="808" y="404"/>
                    </a:lnTo>
                    <a:lnTo>
                      <a:pt x="807" y="424"/>
                    </a:lnTo>
                    <a:lnTo>
                      <a:pt x="806" y="446"/>
                    </a:lnTo>
                    <a:lnTo>
                      <a:pt x="804" y="465"/>
                    </a:lnTo>
                    <a:lnTo>
                      <a:pt x="800" y="486"/>
                    </a:lnTo>
                    <a:lnTo>
                      <a:pt x="795" y="505"/>
                    </a:lnTo>
                    <a:lnTo>
                      <a:pt x="789" y="524"/>
                    </a:lnTo>
                    <a:lnTo>
                      <a:pt x="783" y="543"/>
                    </a:lnTo>
                    <a:lnTo>
                      <a:pt x="776" y="561"/>
                    </a:lnTo>
                    <a:lnTo>
                      <a:pt x="768" y="579"/>
                    </a:lnTo>
                    <a:lnTo>
                      <a:pt x="759" y="596"/>
                    </a:lnTo>
                    <a:lnTo>
                      <a:pt x="750" y="614"/>
                    </a:lnTo>
                    <a:lnTo>
                      <a:pt x="739" y="630"/>
                    </a:lnTo>
                    <a:lnTo>
                      <a:pt x="728" y="645"/>
                    </a:lnTo>
                    <a:lnTo>
                      <a:pt x="716" y="661"/>
                    </a:lnTo>
                    <a:lnTo>
                      <a:pt x="703" y="675"/>
                    </a:lnTo>
                    <a:lnTo>
                      <a:pt x="690" y="690"/>
                    </a:lnTo>
                    <a:lnTo>
                      <a:pt x="675" y="703"/>
                    </a:lnTo>
                    <a:lnTo>
                      <a:pt x="661" y="716"/>
                    </a:lnTo>
                    <a:lnTo>
                      <a:pt x="645" y="728"/>
                    </a:lnTo>
                    <a:lnTo>
                      <a:pt x="630" y="739"/>
                    </a:lnTo>
                    <a:lnTo>
                      <a:pt x="613" y="750"/>
                    </a:lnTo>
                    <a:lnTo>
                      <a:pt x="596" y="759"/>
                    </a:lnTo>
                    <a:lnTo>
                      <a:pt x="579" y="769"/>
                    </a:lnTo>
                    <a:lnTo>
                      <a:pt x="561" y="776"/>
                    </a:lnTo>
                    <a:lnTo>
                      <a:pt x="542" y="783"/>
                    </a:lnTo>
                    <a:lnTo>
                      <a:pt x="524" y="790"/>
                    </a:lnTo>
                    <a:lnTo>
                      <a:pt x="505" y="795"/>
                    </a:lnTo>
                    <a:lnTo>
                      <a:pt x="486" y="800"/>
                    </a:lnTo>
                    <a:lnTo>
                      <a:pt x="465" y="804"/>
                    </a:lnTo>
                    <a:lnTo>
                      <a:pt x="445" y="806"/>
                    </a:lnTo>
                    <a:lnTo>
                      <a:pt x="424" y="808"/>
                    </a:lnTo>
                    <a:lnTo>
                      <a:pt x="404" y="808"/>
                    </a:lnTo>
                    <a:lnTo>
                      <a:pt x="384" y="808"/>
                    </a:lnTo>
                    <a:lnTo>
                      <a:pt x="363" y="806"/>
                    </a:lnTo>
                    <a:lnTo>
                      <a:pt x="343" y="804"/>
                    </a:lnTo>
                    <a:lnTo>
                      <a:pt x="322" y="800"/>
                    </a:lnTo>
                    <a:lnTo>
                      <a:pt x="303" y="795"/>
                    </a:lnTo>
                    <a:lnTo>
                      <a:pt x="284" y="790"/>
                    </a:lnTo>
                    <a:lnTo>
                      <a:pt x="265" y="783"/>
                    </a:lnTo>
                    <a:lnTo>
                      <a:pt x="247" y="776"/>
                    </a:lnTo>
                    <a:lnTo>
                      <a:pt x="229" y="769"/>
                    </a:lnTo>
                    <a:lnTo>
                      <a:pt x="212" y="759"/>
                    </a:lnTo>
                    <a:lnTo>
                      <a:pt x="194" y="750"/>
                    </a:lnTo>
                    <a:lnTo>
                      <a:pt x="178" y="739"/>
                    </a:lnTo>
                    <a:lnTo>
                      <a:pt x="163" y="728"/>
                    </a:lnTo>
                    <a:lnTo>
                      <a:pt x="147" y="716"/>
                    </a:lnTo>
                    <a:lnTo>
                      <a:pt x="133" y="703"/>
                    </a:lnTo>
                    <a:lnTo>
                      <a:pt x="118" y="690"/>
                    </a:lnTo>
                    <a:lnTo>
                      <a:pt x="105" y="675"/>
                    </a:lnTo>
                    <a:lnTo>
                      <a:pt x="92" y="661"/>
                    </a:lnTo>
                    <a:lnTo>
                      <a:pt x="80" y="645"/>
                    </a:lnTo>
                    <a:lnTo>
                      <a:pt x="69" y="630"/>
                    </a:lnTo>
                    <a:lnTo>
                      <a:pt x="58" y="614"/>
                    </a:lnTo>
                    <a:lnTo>
                      <a:pt x="49" y="596"/>
                    </a:lnTo>
                    <a:lnTo>
                      <a:pt x="39" y="579"/>
                    </a:lnTo>
                    <a:lnTo>
                      <a:pt x="32" y="561"/>
                    </a:lnTo>
                    <a:lnTo>
                      <a:pt x="25" y="543"/>
                    </a:lnTo>
                    <a:lnTo>
                      <a:pt x="18" y="524"/>
                    </a:lnTo>
                    <a:lnTo>
                      <a:pt x="13" y="505"/>
                    </a:lnTo>
                    <a:lnTo>
                      <a:pt x="8" y="486"/>
                    </a:lnTo>
                    <a:lnTo>
                      <a:pt x="4" y="465"/>
                    </a:lnTo>
                    <a:lnTo>
                      <a:pt x="2" y="446"/>
                    </a:lnTo>
                    <a:lnTo>
                      <a:pt x="1" y="424"/>
                    </a:lnTo>
                    <a:lnTo>
                      <a:pt x="0" y="404"/>
                    </a:lnTo>
                    <a:lnTo>
                      <a:pt x="1" y="384"/>
                    </a:lnTo>
                    <a:lnTo>
                      <a:pt x="2" y="363"/>
                    </a:lnTo>
                    <a:lnTo>
                      <a:pt x="4" y="343"/>
                    </a:lnTo>
                    <a:lnTo>
                      <a:pt x="8" y="322"/>
                    </a:lnTo>
                    <a:lnTo>
                      <a:pt x="13" y="303"/>
                    </a:lnTo>
                    <a:lnTo>
                      <a:pt x="18" y="284"/>
                    </a:lnTo>
                    <a:lnTo>
                      <a:pt x="25" y="266"/>
                    </a:lnTo>
                    <a:lnTo>
                      <a:pt x="32" y="247"/>
                    </a:lnTo>
                    <a:lnTo>
                      <a:pt x="39" y="229"/>
                    </a:lnTo>
                    <a:lnTo>
                      <a:pt x="49" y="212"/>
                    </a:lnTo>
                    <a:lnTo>
                      <a:pt x="58" y="195"/>
                    </a:lnTo>
                    <a:lnTo>
                      <a:pt x="69" y="179"/>
                    </a:lnTo>
                    <a:lnTo>
                      <a:pt x="80" y="163"/>
                    </a:lnTo>
                    <a:lnTo>
                      <a:pt x="92" y="147"/>
                    </a:lnTo>
                    <a:lnTo>
                      <a:pt x="105" y="133"/>
                    </a:lnTo>
                    <a:lnTo>
                      <a:pt x="118" y="119"/>
                    </a:lnTo>
                    <a:lnTo>
                      <a:pt x="133" y="105"/>
                    </a:lnTo>
                    <a:lnTo>
                      <a:pt x="147" y="92"/>
                    </a:lnTo>
                    <a:lnTo>
                      <a:pt x="163" y="80"/>
                    </a:lnTo>
                    <a:lnTo>
                      <a:pt x="178" y="69"/>
                    </a:lnTo>
                    <a:lnTo>
                      <a:pt x="194" y="59"/>
                    </a:lnTo>
                    <a:lnTo>
                      <a:pt x="212" y="49"/>
                    </a:lnTo>
                    <a:lnTo>
                      <a:pt x="229" y="41"/>
                    </a:lnTo>
                    <a:lnTo>
                      <a:pt x="247" y="32"/>
                    </a:lnTo>
                    <a:lnTo>
                      <a:pt x="265" y="25"/>
                    </a:lnTo>
                    <a:lnTo>
                      <a:pt x="284" y="19"/>
                    </a:lnTo>
                    <a:lnTo>
                      <a:pt x="303" y="13"/>
                    </a:lnTo>
                    <a:lnTo>
                      <a:pt x="322" y="8"/>
                    </a:lnTo>
                    <a:lnTo>
                      <a:pt x="343" y="5"/>
                    </a:lnTo>
                    <a:lnTo>
                      <a:pt x="363" y="2"/>
                    </a:lnTo>
                    <a:lnTo>
                      <a:pt x="384" y="1"/>
                    </a:lnTo>
                    <a:lnTo>
                      <a:pt x="404" y="0"/>
                    </a:lnTo>
                    <a:close/>
                  </a:path>
                </a:pathLst>
              </a:custGeom>
              <a:solidFill>
                <a:srgbClr val="c08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92800" y="5502240"/>
                <a:ext cx="317520" cy="317520"/>
              </a:xfrm>
              <a:custGeom>
                <a:avLst/>
                <a:gdLst/>
                <a:ahLst/>
                <a:rect l="l" t="t" r="r" b="b"/>
                <a:pathLst>
                  <a:path w="801" h="800">
                    <a:moveTo>
                      <a:pt x="400" y="0"/>
                    </a:moveTo>
                    <a:lnTo>
                      <a:pt x="420" y="0"/>
                    </a:lnTo>
                    <a:lnTo>
                      <a:pt x="441" y="1"/>
                    </a:lnTo>
                    <a:lnTo>
                      <a:pt x="461" y="4"/>
                    </a:lnTo>
                    <a:lnTo>
                      <a:pt x="480" y="7"/>
                    </a:lnTo>
                    <a:lnTo>
                      <a:pt x="501" y="12"/>
                    </a:lnTo>
                    <a:lnTo>
                      <a:pt x="519" y="18"/>
                    </a:lnTo>
                    <a:lnTo>
                      <a:pt x="538" y="24"/>
                    </a:lnTo>
                    <a:lnTo>
                      <a:pt x="556" y="31"/>
                    </a:lnTo>
                    <a:lnTo>
                      <a:pt x="574" y="40"/>
                    </a:lnTo>
                    <a:lnTo>
                      <a:pt x="591" y="48"/>
                    </a:lnTo>
                    <a:lnTo>
                      <a:pt x="608" y="58"/>
                    </a:lnTo>
                    <a:lnTo>
                      <a:pt x="624" y="68"/>
                    </a:lnTo>
                    <a:lnTo>
                      <a:pt x="640" y="79"/>
                    </a:lnTo>
                    <a:lnTo>
                      <a:pt x="654" y="91"/>
                    </a:lnTo>
                    <a:lnTo>
                      <a:pt x="669" y="103"/>
                    </a:lnTo>
                    <a:lnTo>
                      <a:pt x="683" y="118"/>
                    </a:lnTo>
                    <a:lnTo>
                      <a:pt x="696" y="131"/>
                    </a:lnTo>
                    <a:lnTo>
                      <a:pt x="710" y="145"/>
                    </a:lnTo>
                    <a:lnTo>
                      <a:pt x="722" y="161"/>
                    </a:lnTo>
                    <a:lnTo>
                      <a:pt x="732" y="176"/>
                    </a:lnTo>
                    <a:lnTo>
                      <a:pt x="743" y="193"/>
                    </a:lnTo>
                    <a:lnTo>
                      <a:pt x="753" y="209"/>
                    </a:lnTo>
                    <a:lnTo>
                      <a:pt x="761" y="227"/>
                    </a:lnTo>
                    <a:lnTo>
                      <a:pt x="770" y="245"/>
                    </a:lnTo>
                    <a:lnTo>
                      <a:pt x="777" y="263"/>
                    </a:lnTo>
                    <a:lnTo>
                      <a:pt x="783" y="281"/>
                    </a:lnTo>
                    <a:lnTo>
                      <a:pt x="788" y="300"/>
                    </a:lnTo>
                    <a:lnTo>
                      <a:pt x="792" y="319"/>
                    </a:lnTo>
                    <a:lnTo>
                      <a:pt x="796" y="339"/>
                    </a:lnTo>
                    <a:lnTo>
                      <a:pt x="798" y="359"/>
                    </a:lnTo>
                    <a:lnTo>
                      <a:pt x="801" y="379"/>
                    </a:lnTo>
                    <a:lnTo>
                      <a:pt x="801" y="399"/>
                    </a:lnTo>
                    <a:lnTo>
                      <a:pt x="801" y="420"/>
                    </a:lnTo>
                    <a:lnTo>
                      <a:pt x="798" y="440"/>
                    </a:lnTo>
                    <a:lnTo>
                      <a:pt x="796" y="461"/>
                    </a:lnTo>
                    <a:lnTo>
                      <a:pt x="792" y="480"/>
                    </a:lnTo>
                    <a:lnTo>
                      <a:pt x="788" y="500"/>
                    </a:lnTo>
                    <a:lnTo>
                      <a:pt x="783" y="518"/>
                    </a:lnTo>
                    <a:lnTo>
                      <a:pt x="777" y="537"/>
                    </a:lnTo>
                    <a:lnTo>
                      <a:pt x="770" y="555"/>
                    </a:lnTo>
                    <a:lnTo>
                      <a:pt x="761" y="573"/>
                    </a:lnTo>
                    <a:lnTo>
                      <a:pt x="753" y="590"/>
                    </a:lnTo>
                    <a:lnTo>
                      <a:pt x="743" y="607"/>
                    </a:lnTo>
                    <a:lnTo>
                      <a:pt x="732" y="624"/>
                    </a:lnTo>
                    <a:lnTo>
                      <a:pt x="722" y="639"/>
                    </a:lnTo>
                    <a:lnTo>
                      <a:pt x="710" y="654"/>
                    </a:lnTo>
                    <a:lnTo>
                      <a:pt x="696" y="669"/>
                    </a:lnTo>
                    <a:lnTo>
                      <a:pt x="683" y="683"/>
                    </a:lnTo>
                    <a:lnTo>
                      <a:pt x="669" y="696"/>
                    </a:lnTo>
                    <a:lnTo>
                      <a:pt x="654" y="709"/>
                    </a:lnTo>
                    <a:lnTo>
                      <a:pt x="640" y="721"/>
                    </a:lnTo>
                    <a:lnTo>
                      <a:pt x="624" y="732"/>
                    </a:lnTo>
                    <a:lnTo>
                      <a:pt x="608" y="743"/>
                    </a:lnTo>
                    <a:lnTo>
                      <a:pt x="591" y="752"/>
                    </a:lnTo>
                    <a:lnTo>
                      <a:pt x="574" y="761"/>
                    </a:lnTo>
                    <a:lnTo>
                      <a:pt x="556" y="769"/>
                    </a:lnTo>
                    <a:lnTo>
                      <a:pt x="538" y="776"/>
                    </a:lnTo>
                    <a:lnTo>
                      <a:pt x="519" y="782"/>
                    </a:lnTo>
                    <a:lnTo>
                      <a:pt x="501" y="787"/>
                    </a:lnTo>
                    <a:lnTo>
                      <a:pt x="480" y="792"/>
                    </a:lnTo>
                    <a:lnTo>
                      <a:pt x="461" y="795"/>
                    </a:lnTo>
                    <a:lnTo>
                      <a:pt x="441" y="798"/>
                    </a:lnTo>
                    <a:lnTo>
                      <a:pt x="420" y="800"/>
                    </a:lnTo>
                    <a:lnTo>
                      <a:pt x="400" y="800"/>
                    </a:lnTo>
                    <a:lnTo>
                      <a:pt x="380" y="800"/>
                    </a:lnTo>
                    <a:lnTo>
                      <a:pt x="359" y="798"/>
                    </a:lnTo>
                    <a:lnTo>
                      <a:pt x="340" y="795"/>
                    </a:lnTo>
                    <a:lnTo>
                      <a:pt x="320" y="792"/>
                    </a:lnTo>
                    <a:lnTo>
                      <a:pt x="300" y="787"/>
                    </a:lnTo>
                    <a:lnTo>
                      <a:pt x="281" y="782"/>
                    </a:lnTo>
                    <a:lnTo>
                      <a:pt x="263" y="776"/>
                    </a:lnTo>
                    <a:lnTo>
                      <a:pt x="245" y="769"/>
                    </a:lnTo>
                    <a:lnTo>
                      <a:pt x="227" y="761"/>
                    </a:lnTo>
                    <a:lnTo>
                      <a:pt x="209" y="752"/>
                    </a:lnTo>
                    <a:lnTo>
                      <a:pt x="192" y="743"/>
                    </a:lnTo>
                    <a:lnTo>
                      <a:pt x="177" y="732"/>
                    </a:lnTo>
                    <a:lnTo>
                      <a:pt x="161" y="721"/>
                    </a:lnTo>
                    <a:lnTo>
                      <a:pt x="146" y="709"/>
                    </a:lnTo>
                    <a:lnTo>
                      <a:pt x="131" y="696"/>
                    </a:lnTo>
                    <a:lnTo>
                      <a:pt x="118" y="683"/>
                    </a:lnTo>
                    <a:lnTo>
                      <a:pt x="104" y="669"/>
                    </a:lnTo>
                    <a:lnTo>
                      <a:pt x="92" y="654"/>
                    </a:lnTo>
                    <a:lnTo>
                      <a:pt x="80" y="639"/>
                    </a:lnTo>
                    <a:lnTo>
                      <a:pt x="69" y="624"/>
                    </a:lnTo>
                    <a:lnTo>
                      <a:pt x="58" y="607"/>
                    </a:lnTo>
                    <a:lnTo>
                      <a:pt x="48" y="590"/>
                    </a:lnTo>
                    <a:lnTo>
                      <a:pt x="40" y="573"/>
                    </a:lnTo>
                    <a:lnTo>
                      <a:pt x="32" y="555"/>
                    </a:lnTo>
                    <a:lnTo>
                      <a:pt x="24" y="537"/>
                    </a:lnTo>
                    <a:lnTo>
                      <a:pt x="18" y="518"/>
                    </a:lnTo>
                    <a:lnTo>
                      <a:pt x="12" y="500"/>
                    </a:lnTo>
                    <a:lnTo>
                      <a:pt x="8" y="480"/>
                    </a:lnTo>
                    <a:lnTo>
                      <a:pt x="4" y="461"/>
                    </a:lnTo>
                    <a:lnTo>
                      <a:pt x="2" y="440"/>
                    </a:lnTo>
                    <a:lnTo>
                      <a:pt x="0" y="420"/>
                    </a:lnTo>
                    <a:lnTo>
                      <a:pt x="0" y="399"/>
                    </a:lnTo>
                    <a:lnTo>
                      <a:pt x="0" y="379"/>
                    </a:lnTo>
                    <a:lnTo>
                      <a:pt x="2" y="359"/>
                    </a:lnTo>
                    <a:lnTo>
                      <a:pt x="4" y="339"/>
                    </a:lnTo>
                    <a:lnTo>
                      <a:pt x="8" y="319"/>
                    </a:lnTo>
                    <a:lnTo>
                      <a:pt x="12" y="300"/>
                    </a:lnTo>
                    <a:lnTo>
                      <a:pt x="18" y="281"/>
                    </a:lnTo>
                    <a:lnTo>
                      <a:pt x="24" y="263"/>
                    </a:lnTo>
                    <a:lnTo>
                      <a:pt x="32" y="245"/>
                    </a:lnTo>
                    <a:lnTo>
                      <a:pt x="40" y="227"/>
                    </a:lnTo>
                    <a:lnTo>
                      <a:pt x="48" y="209"/>
                    </a:lnTo>
                    <a:lnTo>
                      <a:pt x="58" y="193"/>
                    </a:lnTo>
                    <a:lnTo>
                      <a:pt x="69" y="176"/>
                    </a:lnTo>
                    <a:lnTo>
                      <a:pt x="80" y="161"/>
                    </a:lnTo>
                    <a:lnTo>
                      <a:pt x="92" y="145"/>
                    </a:lnTo>
                    <a:lnTo>
                      <a:pt x="104" y="131"/>
                    </a:lnTo>
                    <a:lnTo>
                      <a:pt x="118" y="118"/>
                    </a:lnTo>
                    <a:lnTo>
                      <a:pt x="131" y="103"/>
                    </a:lnTo>
                    <a:lnTo>
                      <a:pt x="146" y="91"/>
                    </a:lnTo>
                    <a:lnTo>
                      <a:pt x="161" y="79"/>
                    </a:lnTo>
                    <a:lnTo>
                      <a:pt x="177" y="68"/>
                    </a:lnTo>
                    <a:lnTo>
                      <a:pt x="192" y="58"/>
                    </a:lnTo>
                    <a:lnTo>
                      <a:pt x="209" y="48"/>
                    </a:lnTo>
                    <a:lnTo>
                      <a:pt x="227" y="40"/>
                    </a:lnTo>
                    <a:lnTo>
                      <a:pt x="245" y="31"/>
                    </a:lnTo>
                    <a:lnTo>
                      <a:pt x="263" y="24"/>
                    </a:lnTo>
                    <a:lnTo>
                      <a:pt x="281" y="18"/>
                    </a:lnTo>
                    <a:lnTo>
                      <a:pt x="300" y="12"/>
                    </a:lnTo>
                    <a:lnTo>
                      <a:pt x="320" y="7"/>
                    </a:lnTo>
                    <a:lnTo>
                      <a:pt x="340" y="4"/>
                    </a:lnTo>
                    <a:lnTo>
                      <a:pt x="359" y="1"/>
                    </a:lnTo>
                    <a:lnTo>
                      <a:pt x="380" y="0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c48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94240" y="5504040"/>
                <a:ext cx="314280" cy="315720"/>
              </a:xfrm>
              <a:custGeom>
                <a:avLst/>
                <a:gdLst/>
                <a:ahLst/>
                <a:rect l="l" t="t" r="r" b="b"/>
                <a:pathLst>
                  <a:path w="793" h="793">
                    <a:moveTo>
                      <a:pt x="397" y="0"/>
                    </a:moveTo>
                    <a:lnTo>
                      <a:pt x="418" y="0"/>
                    </a:lnTo>
                    <a:lnTo>
                      <a:pt x="437" y="2"/>
                    </a:lnTo>
                    <a:lnTo>
                      <a:pt x="457" y="5"/>
                    </a:lnTo>
                    <a:lnTo>
                      <a:pt x="476" y="8"/>
                    </a:lnTo>
                    <a:lnTo>
                      <a:pt x="496" y="12"/>
                    </a:lnTo>
                    <a:lnTo>
                      <a:pt x="515" y="18"/>
                    </a:lnTo>
                    <a:lnTo>
                      <a:pt x="533" y="24"/>
                    </a:lnTo>
                    <a:lnTo>
                      <a:pt x="551" y="31"/>
                    </a:lnTo>
                    <a:lnTo>
                      <a:pt x="569" y="40"/>
                    </a:lnTo>
                    <a:lnTo>
                      <a:pt x="586" y="48"/>
                    </a:lnTo>
                    <a:lnTo>
                      <a:pt x="602" y="58"/>
                    </a:lnTo>
                    <a:lnTo>
                      <a:pt x="618" y="67"/>
                    </a:lnTo>
                    <a:lnTo>
                      <a:pt x="634" y="79"/>
                    </a:lnTo>
                    <a:lnTo>
                      <a:pt x="649" y="91"/>
                    </a:lnTo>
                    <a:lnTo>
                      <a:pt x="664" y="103"/>
                    </a:lnTo>
                    <a:lnTo>
                      <a:pt x="677" y="116"/>
                    </a:lnTo>
                    <a:lnTo>
                      <a:pt x="690" y="130"/>
                    </a:lnTo>
                    <a:lnTo>
                      <a:pt x="703" y="144"/>
                    </a:lnTo>
                    <a:lnTo>
                      <a:pt x="714" y="160"/>
                    </a:lnTo>
                    <a:lnTo>
                      <a:pt x="726" y="175"/>
                    </a:lnTo>
                    <a:lnTo>
                      <a:pt x="736" y="191"/>
                    </a:lnTo>
                    <a:lnTo>
                      <a:pt x="745" y="208"/>
                    </a:lnTo>
                    <a:lnTo>
                      <a:pt x="755" y="224"/>
                    </a:lnTo>
                    <a:lnTo>
                      <a:pt x="762" y="242"/>
                    </a:lnTo>
                    <a:lnTo>
                      <a:pt x="769" y="260"/>
                    </a:lnTo>
                    <a:lnTo>
                      <a:pt x="775" y="278"/>
                    </a:lnTo>
                    <a:lnTo>
                      <a:pt x="781" y="297"/>
                    </a:lnTo>
                    <a:lnTo>
                      <a:pt x="786" y="317"/>
                    </a:lnTo>
                    <a:lnTo>
                      <a:pt x="788" y="336"/>
                    </a:lnTo>
                    <a:lnTo>
                      <a:pt x="792" y="356"/>
                    </a:lnTo>
                    <a:lnTo>
                      <a:pt x="793" y="375"/>
                    </a:lnTo>
                    <a:lnTo>
                      <a:pt x="793" y="396"/>
                    </a:lnTo>
                    <a:lnTo>
                      <a:pt x="793" y="416"/>
                    </a:lnTo>
                    <a:lnTo>
                      <a:pt x="792" y="437"/>
                    </a:lnTo>
                    <a:lnTo>
                      <a:pt x="788" y="457"/>
                    </a:lnTo>
                    <a:lnTo>
                      <a:pt x="786" y="476"/>
                    </a:lnTo>
                    <a:lnTo>
                      <a:pt x="781" y="495"/>
                    </a:lnTo>
                    <a:lnTo>
                      <a:pt x="775" y="515"/>
                    </a:lnTo>
                    <a:lnTo>
                      <a:pt x="769" y="533"/>
                    </a:lnTo>
                    <a:lnTo>
                      <a:pt x="762" y="551"/>
                    </a:lnTo>
                    <a:lnTo>
                      <a:pt x="755" y="569"/>
                    </a:lnTo>
                    <a:lnTo>
                      <a:pt x="745" y="585"/>
                    </a:lnTo>
                    <a:lnTo>
                      <a:pt x="736" y="602"/>
                    </a:lnTo>
                    <a:lnTo>
                      <a:pt x="726" y="618"/>
                    </a:lnTo>
                    <a:lnTo>
                      <a:pt x="714" y="633"/>
                    </a:lnTo>
                    <a:lnTo>
                      <a:pt x="703" y="649"/>
                    </a:lnTo>
                    <a:lnTo>
                      <a:pt x="690" y="663"/>
                    </a:lnTo>
                    <a:lnTo>
                      <a:pt x="677" y="677"/>
                    </a:lnTo>
                    <a:lnTo>
                      <a:pt x="664" y="690"/>
                    </a:lnTo>
                    <a:lnTo>
                      <a:pt x="649" y="702"/>
                    </a:lnTo>
                    <a:lnTo>
                      <a:pt x="634" y="714"/>
                    </a:lnTo>
                    <a:lnTo>
                      <a:pt x="618" y="725"/>
                    </a:lnTo>
                    <a:lnTo>
                      <a:pt x="602" y="735"/>
                    </a:lnTo>
                    <a:lnTo>
                      <a:pt x="586" y="745"/>
                    </a:lnTo>
                    <a:lnTo>
                      <a:pt x="569" y="753"/>
                    </a:lnTo>
                    <a:lnTo>
                      <a:pt x="551" y="762"/>
                    </a:lnTo>
                    <a:lnTo>
                      <a:pt x="533" y="769"/>
                    </a:lnTo>
                    <a:lnTo>
                      <a:pt x="515" y="775"/>
                    </a:lnTo>
                    <a:lnTo>
                      <a:pt x="496" y="781"/>
                    </a:lnTo>
                    <a:lnTo>
                      <a:pt x="476" y="785"/>
                    </a:lnTo>
                    <a:lnTo>
                      <a:pt x="457" y="788"/>
                    </a:lnTo>
                    <a:lnTo>
                      <a:pt x="437" y="791"/>
                    </a:lnTo>
                    <a:lnTo>
                      <a:pt x="418" y="793"/>
                    </a:lnTo>
                    <a:lnTo>
                      <a:pt x="397" y="793"/>
                    </a:lnTo>
                    <a:lnTo>
                      <a:pt x="377" y="793"/>
                    </a:lnTo>
                    <a:lnTo>
                      <a:pt x="356" y="791"/>
                    </a:lnTo>
                    <a:lnTo>
                      <a:pt x="336" y="788"/>
                    </a:lnTo>
                    <a:lnTo>
                      <a:pt x="317" y="785"/>
                    </a:lnTo>
                    <a:lnTo>
                      <a:pt x="298" y="781"/>
                    </a:lnTo>
                    <a:lnTo>
                      <a:pt x="280" y="775"/>
                    </a:lnTo>
                    <a:lnTo>
                      <a:pt x="260" y="769"/>
                    </a:lnTo>
                    <a:lnTo>
                      <a:pt x="242" y="762"/>
                    </a:lnTo>
                    <a:lnTo>
                      <a:pt x="226" y="753"/>
                    </a:lnTo>
                    <a:lnTo>
                      <a:pt x="208" y="745"/>
                    </a:lnTo>
                    <a:lnTo>
                      <a:pt x="192" y="735"/>
                    </a:lnTo>
                    <a:lnTo>
                      <a:pt x="175" y="725"/>
                    </a:lnTo>
                    <a:lnTo>
                      <a:pt x="160" y="714"/>
                    </a:lnTo>
                    <a:lnTo>
                      <a:pt x="145" y="702"/>
                    </a:lnTo>
                    <a:lnTo>
                      <a:pt x="131" y="690"/>
                    </a:lnTo>
                    <a:lnTo>
                      <a:pt x="116" y="677"/>
                    </a:lnTo>
                    <a:lnTo>
                      <a:pt x="103" y="663"/>
                    </a:lnTo>
                    <a:lnTo>
                      <a:pt x="91" y="649"/>
                    </a:lnTo>
                    <a:lnTo>
                      <a:pt x="79" y="633"/>
                    </a:lnTo>
                    <a:lnTo>
                      <a:pt x="68" y="618"/>
                    </a:lnTo>
                    <a:lnTo>
                      <a:pt x="58" y="602"/>
                    </a:lnTo>
                    <a:lnTo>
                      <a:pt x="48" y="585"/>
                    </a:lnTo>
                    <a:lnTo>
                      <a:pt x="40" y="569"/>
                    </a:lnTo>
                    <a:lnTo>
                      <a:pt x="31" y="551"/>
                    </a:lnTo>
                    <a:lnTo>
                      <a:pt x="24" y="533"/>
                    </a:lnTo>
                    <a:lnTo>
                      <a:pt x="18" y="515"/>
                    </a:lnTo>
                    <a:lnTo>
                      <a:pt x="13" y="495"/>
                    </a:lnTo>
                    <a:lnTo>
                      <a:pt x="8" y="476"/>
                    </a:lnTo>
                    <a:lnTo>
                      <a:pt x="5" y="457"/>
                    </a:lnTo>
                    <a:lnTo>
                      <a:pt x="2" y="437"/>
                    </a:lnTo>
                    <a:lnTo>
                      <a:pt x="1" y="416"/>
                    </a:lnTo>
                    <a:lnTo>
                      <a:pt x="0" y="396"/>
                    </a:lnTo>
                    <a:lnTo>
                      <a:pt x="1" y="375"/>
                    </a:lnTo>
                    <a:lnTo>
                      <a:pt x="2" y="356"/>
                    </a:lnTo>
                    <a:lnTo>
                      <a:pt x="5" y="336"/>
                    </a:lnTo>
                    <a:lnTo>
                      <a:pt x="8" y="317"/>
                    </a:lnTo>
                    <a:lnTo>
                      <a:pt x="13" y="297"/>
                    </a:lnTo>
                    <a:lnTo>
                      <a:pt x="18" y="278"/>
                    </a:lnTo>
                    <a:lnTo>
                      <a:pt x="24" y="260"/>
                    </a:lnTo>
                    <a:lnTo>
                      <a:pt x="31" y="242"/>
                    </a:lnTo>
                    <a:lnTo>
                      <a:pt x="40" y="224"/>
                    </a:lnTo>
                    <a:lnTo>
                      <a:pt x="48" y="208"/>
                    </a:lnTo>
                    <a:lnTo>
                      <a:pt x="58" y="191"/>
                    </a:lnTo>
                    <a:lnTo>
                      <a:pt x="68" y="175"/>
                    </a:lnTo>
                    <a:lnTo>
                      <a:pt x="79" y="160"/>
                    </a:lnTo>
                    <a:lnTo>
                      <a:pt x="91" y="144"/>
                    </a:lnTo>
                    <a:lnTo>
                      <a:pt x="103" y="130"/>
                    </a:lnTo>
                    <a:lnTo>
                      <a:pt x="116" y="116"/>
                    </a:lnTo>
                    <a:lnTo>
                      <a:pt x="131" y="103"/>
                    </a:lnTo>
                    <a:lnTo>
                      <a:pt x="145" y="91"/>
                    </a:lnTo>
                    <a:lnTo>
                      <a:pt x="160" y="79"/>
                    </a:lnTo>
                    <a:lnTo>
                      <a:pt x="175" y="67"/>
                    </a:lnTo>
                    <a:lnTo>
                      <a:pt x="192" y="58"/>
                    </a:lnTo>
                    <a:lnTo>
                      <a:pt x="208" y="48"/>
                    </a:lnTo>
                    <a:lnTo>
                      <a:pt x="226" y="40"/>
                    </a:lnTo>
                    <a:lnTo>
                      <a:pt x="242" y="31"/>
                    </a:lnTo>
                    <a:lnTo>
                      <a:pt x="260" y="24"/>
                    </a:lnTo>
                    <a:lnTo>
                      <a:pt x="280" y="18"/>
                    </a:lnTo>
                    <a:lnTo>
                      <a:pt x="298" y="12"/>
                    </a:lnTo>
                    <a:lnTo>
                      <a:pt x="317" y="8"/>
                    </a:lnTo>
                    <a:lnTo>
                      <a:pt x="336" y="5"/>
                    </a:lnTo>
                    <a:lnTo>
                      <a:pt x="356" y="2"/>
                    </a:lnTo>
                    <a:lnTo>
                      <a:pt x="377" y="0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ca8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5680" y="5506920"/>
                <a:ext cx="312840" cy="311400"/>
              </a:xfrm>
              <a:custGeom>
                <a:avLst/>
                <a:gdLst/>
                <a:ahLst/>
                <a:rect l="l" t="t" r="r" b="b"/>
                <a:pathLst>
                  <a:path w="786" h="786">
                    <a:moveTo>
                      <a:pt x="392" y="0"/>
                    </a:moveTo>
                    <a:lnTo>
                      <a:pt x="413" y="1"/>
                    </a:lnTo>
                    <a:lnTo>
                      <a:pt x="433" y="2"/>
                    </a:lnTo>
                    <a:lnTo>
                      <a:pt x="452" y="5"/>
                    </a:lnTo>
                    <a:lnTo>
                      <a:pt x="471" y="8"/>
                    </a:lnTo>
                    <a:lnTo>
                      <a:pt x="491" y="12"/>
                    </a:lnTo>
                    <a:lnTo>
                      <a:pt x="509" y="18"/>
                    </a:lnTo>
                    <a:lnTo>
                      <a:pt x="528" y="24"/>
                    </a:lnTo>
                    <a:lnTo>
                      <a:pt x="545" y="31"/>
                    </a:lnTo>
                    <a:lnTo>
                      <a:pt x="563" y="38"/>
                    </a:lnTo>
                    <a:lnTo>
                      <a:pt x="579" y="48"/>
                    </a:lnTo>
                    <a:lnTo>
                      <a:pt x="596" y="58"/>
                    </a:lnTo>
                    <a:lnTo>
                      <a:pt x="612" y="67"/>
                    </a:lnTo>
                    <a:lnTo>
                      <a:pt x="627" y="78"/>
                    </a:lnTo>
                    <a:lnTo>
                      <a:pt x="642" y="90"/>
                    </a:lnTo>
                    <a:lnTo>
                      <a:pt x="656" y="102"/>
                    </a:lnTo>
                    <a:lnTo>
                      <a:pt x="671" y="115"/>
                    </a:lnTo>
                    <a:lnTo>
                      <a:pt x="683" y="130"/>
                    </a:lnTo>
                    <a:lnTo>
                      <a:pt x="696" y="143"/>
                    </a:lnTo>
                    <a:lnTo>
                      <a:pt x="707" y="158"/>
                    </a:lnTo>
                    <a:lnTo>
                      <a:pt x="719" y="174"/>
                    </a:lnTo>
                    <a:lnTo>
                      <a:pt x="728" y="190"/>
                    </a:lnTo>
                    <a:lnTo>
                      <a:pt x="738" y="206"/>
                    </a:lnTo>
                    <a:lnTo>
                      <a:pt x="746" y="223"/>
                    </a:lnTo>
                    <a:lnTo>
                      <a:pt x="755" y="240"/>
                    </a:lnTo>
                    <a:lnTo>
                      <a:pt x="762" y="258"/>
                    </a:lnTo>
                    <a:lnTo>
                      <a:pt x="768" y="276"/>
                    </a:lnTo>
                    <a:lnTo>
                      <a:pt x="773" y="295"/>
                    </a:lnTo>
                    <a:lnTo>
                      <a:pt x="777" y="314"/>
                    </a:lnTo>
                    <a:lnTo>
                      <a:pt x="781" y="333"/>
                    </a:lnTo>
                    <a:lnTo>
                      <a:pt x="783" y="353"/>
                    </a:lnTo>
                    <a:lnTo>
                      <a:pt x="785" y="373"/>
                    </a:lnTo>
                    <a:lnTo>
                      <a:pt x="786" y="393"/>
                    </a:lnTo>
                    <a:lnTo>
                      <a:pt x="785" y="413"/>
                    </a:lnTo>
                    <a:lnTo>
                      <a:pt x="783" y="433"/>
                    </a:lnTo>
                    <a:lnTo>
                      <a:pt x="781" y="452"/>
                    </a:lnTo>
                    <a:lnTo>
                      <a:pt x="777" y="471"/>
                    </a:lnTo>
                    <a:lnTo>
                      <a:pt x="773" y="491"/>
                    </a:lnTo>
                    <a:lnTo>
                      <a:pt x="768" y="510"/>
                    </a:lnTo>
                    <a:lnTo>
                      <a:pt x="762" y="528"/>
                    </a:lnTo>
                    <a:lnTo>
                      <a:pt x="755" y="546"/>
                    </a:lnTo>
                    <a:lnTo>
                      <a:pt x="746" y="563"/>
                    </a:lnTo>
                    <a:lnTo>
                      <a:pt x="738" y="581"/>
                    </a:lnTo>
                    <a:lnTo>
                      <a:pt x="728" y="596"/>
                    </a:lnTo>
                    <a:lnTo>
                      <a:pt x="719" y="613"/>
                    </a:lnTo>
                    <a:lnTo>
                      <a:pt x="707" y="627"/>
                    </a:lnTo>
                    <a:lnTo>
                      <a:pt x="696" y="643"/>
                    </a:lnTo>
                    <a:lnTo>
                      <a:pt x="683" y="657"/>
                    </a:lnTo>
                    <a:lnTo>
                      <a:pt x="671" y="671"/>
                    </a:lnTo>
                    <a:lnTo>
                      <a:pt x="656" y="684"/>
                    </a:lnTo>
                    <a:lnTo>
                      <a:pt x="642" y="696"/>
                    </a:lnTo>
                    <a:lnTo>
                      <a:pt x="627" y="708"/>
                    </a:lnTo>
                    <a:lnTo>
                      <a:pt x="612" y="719"/>
                    </a:lnTo>
                    <a:lnTo>
                      <a:pt x="596" y="729"/>
                    </a:lnTo>
                    <a:lnTo>
                      <a:pt x="579" y="739"/>
                    </a:lnTo>
                    <a:lnTo>
                      <a:pt x="563" y="747"/>
                    </a:lnTo>
                    <a:lnTo>
                      <a:pt x="545" y="755"/>
                    </a:lnTo>
                    <a:lnTo>
                      <a:pt x="528" y="762"/>
                    </a:lnTo>
                    <a:lnTo>
                      <a:pt x="509" y="768"/>
                    </a:lnTo>
                    <a:lnTo>
                      <a:pt x="491" y="774"/>
                    </a:lnTo>
                    <a:lnTo>
                      <a:pt x="471" y="777"/>
                    </a:lnTo>
                    <a:lnTo>
                      <a:pt x="452" y="781"/>
                    </a:lnTo>
                    <a:lnTo>
                      <a:pt x="433" y="783"/>
                    </a:lnTo>
                    <a:lnTo>
                      <a:pt x="413" y="786"/>
                    </a:lnTo>
                    <a:lnTo>
                      <a:pt x="392" y="786"/>
                    </a:lnTo>
                    <a:lnTo>
                      <a:pt x="372" y="786"/>
                    </a:lnTo>
                    <a:lnTo>
                      <a:pt x="353" y="783"/>
                    </a:lnTo>
                    <a:lnTo>
                      <a:pt x="332" y="781"/>
                    </a:lnTo>
                    <a:lnTo>
                      <a:pt x="313" y="777"/>
                    </a:lnTo>
                    <a:lnTo>
                      <a:pt x="294" y="774"/>
                    </a:lnTo>
                    <a:lnTo>
                      <a:pt x="276" y="768"/>
                    </a:lnTo>
                    <a:lnTo>
                      <a:pt x="258" y="762"/>
                    </a:lnTo>
                    <a:lnTo>
                      <a:pt x="240" y="755"/>
                    </a:lnTo>
                    <a:lnTo>
                      <a:pt x="222" y="747"/>
                    </a:lnTo>
                    <a:lnTo>
                      <a:pt x="205" y="739"/>
                    </a:lnTo>
                    <a:lnTo>
                      <a:pt x="189" y="729"/>
                    </a:lnTo>
                    <a:lnTo>
                      <a:pt x="173" y="719"/>
                    </a:lnTo>
                    <a:lnTo>
                      <a:pt x="157" y="708"/>
                    </a:lnTo>
                    <a:lnTo>
                      <a:pt x="143" y="696"/>
                    </a:lnTo>
                    <a:lnTo>
                      <a:pt x="128" y="684"/>
                    </a:lnTo>
                    <a:lnTo>
                      <a:pt x="115" y="671"/>
                    </a:lnTo>
                    <a:lnTo>
                      <a:pt x="102" y="657"/>
                    </a:lnTo>
                    <a:lnTo>
                      <a:pt x="90" y="643"/>
                    </a:lnTo>
                    <a:lnTo>
                      <a:pt x="78" y="627"/>
                    </a:lnTo>
                    <a:lnTo>
                      <a:pt x="67" y="613"/>
                    </a:lnTo>
                    <a:lnTo>
                      <a:pt x="56" y="596"/>
                    </a:lnTo>
                    <a:lnTo>
                      <a:pt x="47" y="581"/>
                    </a:lnTo>
                    <a:lnTo>
                      <a:pt x="38" y="563"/>
                    </a:lnTo>
                    <a:lnTo>
                      <a:pt x="30" y="546"/>
                    </a:lnTo>
                    <a:lnTo>
                      <a:pt x="24" y="528"/>
                    </a:lnTo>
                    <a:lnTo>
                      <a:pt x="17" y="510"/>
                    </a:lnTo>
                    <a:lnTo>
                      <a:pt x="12" y="491"/>
                    </a:lnTo>
                    <a:lnTo>
                      <a:pt x="7" y="471"/>
                    </a:lnTo>
                    <a:lnTo>
                      <a:pt x="3" y="452"/>
                    </a:lnTo>
                    <a:lnTo>
                      <a:pt x="1" y="43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0" y="373"/>
                    </a:lnTo>
                    <a:lnTo>
                      <a:pt x="1" y="353"/>
                    </a:lnTo>
                    <a:lnTo>
                      <a:pt x="3" y="333"/>
                    </a:lnTo>
                    <a:lnTo>
                      <a:pt x="7" y="314"/>
                    </a:lnTo>
                    <a:lnTo>
                      <a:pt x="12" y="295"/>
                    </a:lnTo>
                    <a:lnTo>
                      <a:pt x="17" y="276"/>
                    </a:lnTo>
                    <a:lnTo>
                      <a:pt x="24" y="258"/>
                    </a:lnTo>
                    <a:lnTo>
                      <a:pt x="30" y="240"/>
                    </a:lnTo>
                    <a:lnTo>
                      <a:pt x="38" y="223"/>
                    </a:lnTo>
                    <a:lnTo>
                      <a:pt x="47" y="206"/>
                    </a:lnTo>
                    <a:lnTo>
                      <a:pt x="56" y="190"/>
                    </a:lnTo>
                    <a:lnTo>
                      <a:pt x="67" y="174"/>
                    </a:lnTo>
                    <a:lnTo>
                      <a:pt x="78" y="158"/>
                    </a:lnTo>
                    <a:lnTo>
                      <a:pt x="90" y="143"/>
                    </a:lnTo>
                    <a:lnTo>
                      <a:pt x="102" y="130"/>
                    </a:lnTo>
                    <a:lnTo>
                      <a:pt x="115" y="115"/>
                    </a:lnTo>
                    <a:lnTo>
                      <a:pt x="128" y="102"/>
                    </a:lnTo>
                    <a:lnTo>
                      <a:pt x="143" y="90"/>
                    </a:lnTo>
                    <a:lnTo>
                      <a:pt x="157" y="78"/>
                    </a:lnTo>
                    <a:lnTo>
                      <a:pt x="173" y="67"/>
                    </a:lnTo>
                    <a:lnTo>
                      <a:pt x="189" y="58"/>
                    </a:lnTo>
                    <a:lnTo>
                      <a:pt x="205" y="48"/>
                    </a:lnTo>
                    <a:lnTo>
                      <a:pt x="222" y="38"/>
                    </a:lnTo>
                    <a:lnTo>
                      <a:pt x="240" y="31"/>
                    </a:lnTo>
                    <a:lnTo>
                      <a:pt x="258" y="24"/>
                    </a:lnTo>
                    <a:lnTo>
                      <a:pt x="276" y="18"/>
                    </a:lnTo>
                    <a:lnTo>
                      <a:pt x="294" y="12"/>
                    </a:lnTo>
                    <a:lnTo>
                      <a:pt x="313" y="8"/>
                    </a:lnTo>
                    <a:lnTo>
                      <a:pt x="332" y="5"/>
                    </a:lnTo>
                    <a:lnTo>
                      <a:pt x="353" y="2"/>
                    </a:lnTo>
                    <a:lnTo>
                      <a:pt x="372" y="1"/>
                    </a:lnTo>
                    <a:lnTo>
                      <a:pt x="392" y="0"/>
                    </a:lnTo>
                    <a:close/>
                  </a:path>
                </a:pathLst>
              </a:custGeom>
              <a:solidFill>
                <a:srgbClr val="cc8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397480" y="5508720"/>
                <a:ext cx="309600" cy="309600"/>
              </a:xfrm>
              <a:custGeom>
                <a:avLst/>
                <a:gdLst/>
                <a:ahLst/>
                <a:rect l="l" t="t" r="r" b="b"/>
                <a:pathLst>
                  <a:path w="779" h="779">
                    <a:moveTo>
                      <a:pt x="390" y="0"/>
                    </a:moveTo>
                    <a:lnTo>
                      <a:pt x="410" y="1"/>
                    </a:lnTo>
                    <a:lnTo>
                      <a:pt x="430" y="2"/>
                    </a:lnTo>
                    <a:lnTo>
                      <a:pt x="449" y="5"/>
                    </a:lnTo>
                    <a:lnTo>
                      <a:pt x="468" y="8"/>
                    </a:lnTo>
                    <a:lnTo>
                      <a:pt x="486" y="13"/>
                    </a:lnTo>
                    <a:lnTo>
                      <a:pt x="506" y="18"/>
                    </a:lnTo>
                    <a:lnTo>
                      <a:pt x="524" y="24"/>
                    </a:lnTo>
                    <a:lnTo>
                      <a:pt x="542" y="31"/>
                    </a:lnTo>
                    <a:lnTo>
                      <a:pt x="558" y="38"/>
                    </a:lnTo>
                    <a:lnTo>
                      <a:pt x="575" y="48"/>
                    </a:lnTo>
                    <a:lnTo>
                      <a:pt x="592" y="56"/>
                    </a:lnTo>
                    <a:lnTo>
                      <a:pt x="608" y="67"/>
                    </a:lnTo>
                    <a:lnTo>
                      <a:pt x="622" y="78"/>
                    </a:lnTo>
                    <a:lnTo>
                      <a:pt x="638" y="90"/>
                    </a:lnTo>
                    <a:lnTo>
                      <a:pt x="652" y="102"/>
                    </a:lnTo>
                    <a:lnTo>
                      <a:pt x="665" y="115"/>
                    </a:lnTo>
                    <a:lnTo>
                      <a:pt x="678" y="128"/>
                    </a:lnTo>
                    <a:lnTo>
                      <a:pt x="690" y="143"/>
                    </a:lnTo>
                    <a:lnTo>
                      <a:pt x="701" y="157"/>
                    </a:lnTo>
                    <a:lnTo>
                      <a:pt x="712" y="173"/>
                    </a:lnTo>
                    <a:lnTo>
                      <a:pt x="723" y="188"/>
                    </a:lnTo>
                    <a:lnTo>
                      <a:pt x="732" y="204"/>
                    </a:lnTo>
                    <a:lnTo>
                      <a:pt x="741" y="221"/>
                    </a:lnTo>
                    <a:lnTo>
                      <a:pt x="748" y="239"/>
                    </a:lnTo>
                    <a:lnTo>
                      <a:pt x="755" y="255"/>
                    </a:lnTo>
                    <a:lnTo>
                      <a:pt x="761" y="273"/>
                    </a:lnTo>
                    <a:lnTo>
                      <a:pt x="767" y="293"/>
                    </a:lnTo>
                    <a:lnTo>
                      <a:pt x="771" y="312"/>
                    </a:lnTo>
                    <a:lnTo>
                      <a:pt x="774" y="330"/>
                    </a:lnTo>
                    <a:lnTo>
                      <a:pt x="777" y="350"/>
                    </a:lnTo>
                    <a:lnTo>
                      <a:pt x="779" y="369"/>
                    </a:lnTo>
                    <a:lnTo>
                      <a:pt x="779" y="390"/>
                    </a:lnTo>
                    <a:lnTo>
                      <a:pt x="779" y="409"/>
                    </a:lnTo>
                    <a:lnTo>
                      <a:pt x="777" y="429"/>
                    </a:lnTo>
                    <a:lnTo>
                      <a:pt x="774" y="449"/>
                    </a:lnTo>
                    <a:lnTo>
                      <a:pt x="771" y="468"/>
                    </a:lnTo>
                    <a:lnTo>
                      <a:pt x="767" y="487"/>
                    </a:lnTo>
                    <a:lnTo>
                      <a:pt x="761" y="505"/>
                    </a:lnTo>
                    <a:lnTo>
                      <a:pt x="755" y="523"/>
                    </a:lnTo>
                    <a:lnTo>
                      <a:pt x="748" y="541"/>
                    </a:lnTo>
                    <a:lnTo>
                      <a:pt x="741" y="558"/>
                    </a:lnTo>
                    <a:lnTo>
                      <a:pt x="732" y="575"/>
                    </a:lnTo>
                    <a:lnTo>
                      <a:pt x="723" y="591"/>
                    </a:lnTo>
                    <a:lnTo>
                      <a:pt x="712" y="607"/>
                    </a:lnTo>
                    <a:lnTo>
                      <a:pt x="701" y="623"/>
                    </a:lnTo>
                    <a:lnTo>
                      <a:pt x="690" y="637"/>
                    </a:lnTo>
                    <a:lnTo>
                      <a:pt x="678" y="651"/>
                    </a:lnTo>
                    <a:lnTo>
                      <a:pt x="665" y="665"/>
                    </a:lnTo>
                    <a:lnTo>
                      <a:pt x="652" y="678"/>
                    </a:lnTo>
                    <a:lnTo>
                      <a:pt x="638" y="690"/>
                    </a:lnTo>
                    <a:lnTo>
                      <a:pt x="622" y="702"/>
                    </a:lnTo>
                    <a:lnTo>
                      <a:pt x="608" y="713"/>
                    </a:lnTo>
                    <a:lnTo>
                      <a:pt x="592" y="722"/>
                    </a:lnTo>
                    <a:lnTo>
                      <a:pt x="575" y="732"/>
                    </a:lnTo>
                    <a:lnTo>
                      <a:pt x="558" y="740"/>
                    </a:lnTo>
                    <a:lnTo>
                      <a:pt x="542" y="749"/>
                    </a:lnTo>
                    <a:lnTo>
                      <a:pt x="524" y="755"/>
                    </a:lnTo>
                    <a:lnTo>
                      <a:pt x="506" y="762"/>
                    </a:lnTo>
                    <a:lnTo>
                      <a:pt x="486" y="767"/>
                    </a:lnTo>
                    <a:lnTo>
                      <a:pt x="468" y="771"/>
                    </a:lnTo>
                    <a:lnTo>
                      <a:pt x="449" y="774"/>
                    </a:lnTo>
                    <a:lnTo>
                      <a:pt x="430" y="777"/>
                    </a:lnTo>
                    <a:lnTo>
                      <a:pt x="410" y="779"/>
                    </a:lnTo>
                    <a:lnTo>
                      <a:pt x="390" y="779"/>
                    </a:lnTo>
                    <a:lnTo>
                      <a:pt x="370" y="779"/>
                    </a:lnTo>
                    <a:lnTo>
                      <a:pt x="350" y="777"/>
                    </a:lnTo>
                    <a:lnTo>
                      <a:pt x="330" y="774"/>
                    </a:lnTo>
                    <a:lnTo>
                      <a:pt x="311" y="771"/>
                    </a:lnTo>
                    <a:lnTo>
                      <a:pt x="293" y="767"/>
                    </a:lnTo>
                    <a:lnTo>
                      <a:pt x="274" y="762"/>
                    </a:lnTo>
                    <a:lnTo>
                      <a:pt x="256" y="755"/>
                    </a:lnTo>
                    <a:lnTo>
                      <a:pt x="239" y="749"/>
                    </a:lnTo>
                    <a:lnTo>
                      <a:pt x="221" y="740"/>
                    </a:lnTo>
                    <a:lnTo>
                      <a:pt x="204" y="732"/>
                    </a:lnTo>
                    <a:lnTo>
                      <a:pt x="189" y="722"/>
                    </a:lnTo>
                    <a:lnTo>
                      <a:pt x="172" y="713"/>
                    </a:lnTo>
                    <a:lnTo>
                      <a:pt x="158" y="702"/>
                    </a:lnTo>
                    <a:lnTo>
                      <a:pt x="142" y="690"/>
                    </a:lnTo>
                    <a:lnTo>
                      <a:pt x="129" y="678"/>
                    </a:lnTo>
                    <a:lnTo>
                      <a:pt x="114" y="665"/>
                    </a:lnTo>
                    <a:lnTo>
                      <a:pt x="102" y="651"/>
                    </a:lnTo>
                    <a:lnTo>
                      <a:pt x="89" y="637"/>
                    </a:lnTo>
                    <a:lnTo>
                      <a:pt x="78" y="623"/>
                    </a:lnTo>
                    <a:lnTo>
                      <a:pt x="68" y="607"/>
                    </a:lnTo>
                    <a:lnTo>
                      <a:pt x="57" y="591"/>
                    </a:lnTo>
                    <a:lnTo>
                      <a:pt x="47" y="575"/>
                    </a:lnTo>
                    <a:lnTo>
                      <a:pt x="39" y="558"/>
                    </a:lnTo>
                    <a:lnTo>
                      <a:pt x="32" y="541"/>
                    </a:lnTo>
                    <a:lnTo>
                      <a:pt x="24" y="523"/>
                    </a:lnTo>
                    <a:lnTo>
                      <a:pt x="18" y="505"/>
                    </a:lnTo>
                    <a:lnTo>
                      <a:pt x="12" y="487"/>
                    </a:lnTo>
                    <a:lnTo>
                      <a:pt x="9" y="468"/>
                    </a:lnTo>
                    <a:lnTo>
                      <a:pt x="5" y="449"/>
                    </a:lnTo>
                    <a:lnTo>
                      <a:pt x="3" y="429"/>
                    </a:lnTo>
                    <a:lnTo>
                      <a:pt x="2" y="409"/>
                    </a:lnTo>
                    <a:lnTo>
                      <a:pt x="0" y="390"/>
                    </a:lnTo>
                    <a:lnTo>
                      <a:pt x="2" y="369"/>
                    </a:lnTo>
                    <a:lnTo>
                      <a:pt x="3" y="350"/>
                    </a:lnTo>
                    <a:lnTo>
                      <a:pt x="5" y="330"/>
                    </a:lnTo>
                    <a:lnTo>
                      <a:pt x="9" y="312"/>
                    </a:lnTo>
                    <a:lnTo>
                      <a:pt x="12" y="293"/>
                    </a:lnTo>
                    <a:lnTo>
                      <a:pt x="18" y="273"/>
                    </a:lnTo>
                    <a:lnTo>
                      <a:pt x="24" y="255"/>
                    </a:lnTo>
                    <a:lnTo>
                      <a:pt x="32" y="239"/>
                    </a:lnTo>
                    <a:lnTo>
                      <a:pt x="39" y="221"/>
                    </a:lnTo>
                    <a:lnTo>
                      <a:pt x="47" y="204"/>
                    </a:lnTo>
                    <a:lnTo>
                      <a:pt x="57" y="188"/>
                    </a:lnTo>
                    <a:lnTo>
                      <a:pt x="68" y="173"/>
                    </a:lnTo>
                    <a:lnTo>
                      <a:pt x="78" y="157"/>
                    </a:lnTo>
                    <a:lnTo>
                      <a:pt x="89" y="143"/>
                    </a:lnTo>
                    <a:lnTo>
                      <a:pt x="102" y="128"/>
                    </a:lnTo>
                    <a:lnTo>
                      <a:pt x="114" y="115"/>
                    </a:lnTo>
                    <a:lnTo>
                      <a:pt x="129" y="102"/>
                    </a:lnTo>
                    <a:lnTo>
                      <a:pt x="142" y="90"/>
                    </a:lnTo>
                    <a:lnTo>
                      <a:pt x="158" y="78"/>
                    </a:lnTo>
                    <a:lnTo>
                      <a:pt x="172" y="67"/>
                    </a:lnTo>
                    <a:lnTo>
                      <a:pt x="189" y="56"/>
                    </a:lnTo>
                    <a:lnTo>
                      <a:pt x="204" y="48"/>
                    </a:lnTo>
                    <a:lnTo>
                      <a:pt x="221" y="38"/>
                    </a:lnTo>
                    <a:lnTo>
                      <a:pt x="239" y="31"/>
                    </a:lnTo>
                    <a:lnTo>
                      <a:pt x="256" y="24"/>
                    </a:lnTo>
                    <a:lnTo>
                      <a:pt x="274" y="18"/>
                    </a:lnTo>
                    <a:lnTo>
                      <a:pt x="293" y="13"/>
                    </a:lnTo>
                    <a:lnTo>
                      <a:pt x="311" y="8"/>
                    </a:lnTo>
                    <a:lnTo>
                      <a:pt x="330" y="5"/>
                    </a:lnTo>
                    <a:lnTo>
                      <a:pt x="350" y="2"/>
                    </a:lnTo>
                    <a:lnTo>
                      <a:pt x="370" y="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d48e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398920" y="551196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771" h="770">
                    <a:moveTo>
                      <a:pt x="385" y="0"/>
                    </a:moveTo>
                    <a:lnTo>
                      <a:pt x="405" y="0"/>
                    </a:lnTo>
                    <a:lnTo>
                      <a:pt x="425" y="1"/>
                    </a:lnTo>
                    <a:lnTo>
                      <a:pt x="444" y="4"/>
                    </a:lnTo>
                    <a:lnTo>
                      <a:pt x="463" y="7"/>
                    </a:lnTo>
                    <a:lnTo>
                      <a:pt x="481" y="12"/>
                    </a:lnTo>
                    <a:lnTo>
                      <a:pt x="499" y="17"/>
                    </a:lnTo>
                    <a:lnTo>
                      <a:pt x="517" y="23"/>
                    </a:lnTo>
                    <a:lnTo>
                      <a:pt x="535" y="30"/>
                    </a:lnTo>
                    <a:lnTo>
                      <a:pt x="552" y="37"/>
                    </a:lnTo>
                    <a:lnTo>
                      <a:pt x="569" y="46"/>
                    </a:lnTo>
                    <a:lnTo>
                      <a:pt x="585" y="55"/>
                    </a:lnTo>
                    <a:lnTo>
                      <a:pt x="600" y="66"/>
                    </a:lnTo>
                    <a:lnTo>
                      <a:pt x="616" y="77"/>
                    </a:lnTo>
                    <a:lnTo>
                      <a:pt x="630" y="88"/>
                    </a:lnTo>
                    <a:lnTo>
                      <a:pt x="645" y="100"/>
                    </a:lnTo>
                    <a:lnTo>
                      <a:pt x="658" y="113"/>
                    </a:lnTo>
                    <a:lnTo>
                      <a:pt x="671" y="126"/>
                    </a:lnTo>
                    <a:lnTo>
                      <a:pt x="683" y="141"/>
                    </a:lnTo>
                    <a:lnTo>
                      <a:pt x="694" y="155"/>
                    </a:lnTo>
                    <a:lnTo>
                      <a:pt x="705" y="169"/>
                    </a:lnTo>
                    <a:lnTo>
                      <a:pt x="715" y="186"/>
                    </a:lnTo>
                    <a:lnTo>
                      <a:pt x="724" y="202"/>
                    </a:lnTo>
                    <a:lnTo>
                      <a:pt x="733" y="219"/>
                    </a:lnTo>
                    <a:lnTo>
                      <a:pt x="741" y="235"/>
                    </a:lnTo>
                    <a:lnTo>
                      <a:pt x="748" y="253"/>
                    </a:lnTo>
                    <a:lnTo>
                      <a:pt x="754" y="271"/>
                    </a:lnTo>
                    <a:lnTo>
                      <a:pt x="759" y="289"/>
                    </a:lnTo>
                    <a:lnTo>
                      <a:pt x="763" y="307"/>
                    </a:lnTo>
                    <a:lnTo>
                      <a:pt x="767" y="326"/>
                    </a:lnTo>
                    <a:lnTo>
                      <a:pt x="769" y="346"/>
                    </a:lnTo>
                    <a:lnTo>
                      <a:pt x="771" y="365"/>
                    </a:lnTo>
                    <a:lnTo>
                      <a:pt x="771" y="385"/>
                    </a:lnTo>
                    <a:lnTo>
                      <a:pt x="771" y="404"/>
                    </a:lnTo>
                    <a:lnTo>
                      <a:pt x="769" y="425"/>
                    </a:lnTo>
                    <a:lnTo>
                      <a:pt x="767" y="444"/>
                    </a:lnTo>
                    <a:lnTo>
                      <a:pt x="763" y="463"/>
                    </a:lnTo>
                    <a:lnTo>
                      <a:pt x="759" y="481"/>
                    </a:lnTo>
                    <a:lnTo>
                      <a:pt x="754" y="499"/>
                    </a:lnTo>
                    <a:lnTo>
                      <a:pt x="748" y="517"/>
                    </a:lnTo>
                    <a:lnTo>
                      <a:pt x="741" y="535"/>
                    </a:lnTo>
                    <a:lnTo>
                      <a:pt x="733" y="552"/>
                    </a:lnTo>
                    <a:lnTo>
                      <a:pt x="724" y="569"/>
                    </a:lnTo>
                    <a:lnTo>
                      <a:pt x="715" y="584"/>
                    </a:lnTo>
                    <a:lnTo>
                      <a:pt x="705" y="600"/>
                    </a:lnTo>
                    <a:lnTo>
                      <a:pt x="694" y="616"/>
                    </a:lnTo>
                    <a:lnTo>
                      <a:pt x="683" y="630"/>
                    </a:lnTo>
                    <a:lnTo>
                      <a:pt x="671" y="644"/>
                    </a:lnTo>
                    <a:lnTo>
                      <a:pt x="658" y="658"/>
                    </a:lnTo>
                    <a:lnTo>
                      <a:pt x="645" y="671"/>
                    </a:lnTo>
                    <a:lnTo>
                      <a:pt x="630" y="683"/>
                    </a:lnTo>
                    <a:lnTo>
                      <a:pt x="616" y="694"/>
                    </a:lnTo>
                    <a:lnTo>
                      <a:pt x="600" y="704"/>
                    </a:lnTo>
                    <a:lnTo>
                      <a:pt x="585" y="715"/>
                    </a:lnTo>
                    <a:lnTo>
                      <a:pt x="569" y="724"/>
                    </a:lnTo>
                    <a:lnTo>
                      <a:pt x="552" y="732"/>
                    </a:lnTo>
                    <a:lnTo>
                      <a:pt x="535" y="740"/>
                    </a:lnTo>
                    <a:lnTo>
                      <a:pt x="517" y="748"/>
                    </a:lnTo>
                    <a:lnTo>
                      <a:pt x="499" y="754"/>
                    </a:lnTo>
                    <a:lnTo>
                      <a:pt x="481" y="758"/>
                    </a:lnTo>
                    <a:lnTo>
                      <a:pt x="463" y="763"/>
                    </a:lnTo>
                    <a:lnTo>
                      <a:pt x="444" y="767"/>
                    </a:lnTo>
                    <a:lnTo>
                      <a:pt x="425" y="769"/>
                    </a:lnTo>
                    <a:lnTo>
                      <a:pt x="405" y="770"/>
                    </a:lnTo>
                    <a:lnTo>
                      <a:pt x="385" y="770"/>
                    </a:lnTo>
                    <a:lnTo>
                      <a:pt x="366" y="770"/>
                    </a:lnTo>
                    <a:lnTo>
                      <a:pt x="346" y="769"/>
                    </a:lnTo>
                    <a:lnTo>
                      <a:pt x="327" y="767"/>
                    </a:lnTo>
                    <a:lnTo>
                      <a:pt x="307" y="763"/>
                    </a:lnTo>
                    <a:lnTo>
                      <a:pt x="289" y="758"/>
                    </a:lnTo>
                    <a:lnTo>
                      <a:pt x="271" y="754"/>
                    </a:lnTo>
                    <a:lnTo>
                      <a:pt x="253" y="748"/>
                    </a:lnTo>
                    <a:lnTo>
                      <a:pt x="235" y="740"/>
                    </a:lnTo>
                    <a:lnTo>
                      <a:pt x="219" y="732"/>
                    </a:lnTo>
                    <a:lnTo>
                      <a:pt x="202" y="724"/>
                    </a:lnTo>
                    <a:lnTo>
                      <a:pt x="186" y="715"/>
                    </a:lnTo>
                    <a:lnTo>
                      <a:pt x="171" y="704"/>
                    </a:lnTo>
                    <a:lnTo>
                      <a:pt x="155" y="694"/>
                    </a:lnTo>
                    <a:lnTo>
                      <a:pt x="141" y="683"/>
                    </a:lnTo>
                    <a:lnTo>
                      <a:pt x="126" y="671"/>
                    </a:lnTo>
                    <a:lnTo>
                      <a:pt x="113" y="658"/>
                    </a:lnTo>
                    <a:lnTo>
                      <a:pt x="100" y="644"/>
                    </a:lnTo>
                    <a:lnTo>
                      <a:pt x="88" y="630"/>
                    </a:lnTo>
                    <a:lnTo>
                      <a:pt x="77" y="616"/>
                    </a:lnTo>
                    <a:lnTo>
                      <a:pt x="66" y="600"/>
                    </a:lnTo>
                    <a:lnTo>
                      <a:pt x="55" y="584"/>
                    </a:lnTo>
                    <a:lnTo>
                      <a:pt x="47" y="569"/>
                    </a:lnTo>
                    <a:lnTo>
                      <a:pt x="37" y="552"/>
                    </a:lnTo>
                    <a:lnTo>
                      <a:pt x="30" y="535"/>
                    </a:lnTo>
                    <a:lnTo>
                      <a:pt x="23" y="517"/>
                    </a:lnTo>
                    <a:lnTo>
                      <a:pt x="17" y="499"/>
                    </a:lnTo>
                    <a:lnTo>
                      <a:pt x="12" y="481"/>
                    </a:lnTo>
                    <a:lnTo>
                      <a:pt x="7" y="463"/>
                    </a:lnTo>
                    <a:lnTo>
                      <a:pt x="4" y="444"/>
                    </a:lnTo>
                    <a:lnTo>
                      <a:pt x="1" y="425"/>
                    </a:lnTo>
                    <a:lnTo>
                      <a:pt x="0" y="404"/>
                    </a:lnTo>
                    <a:lnTo>
                      <a:pt x="0" y="385"/>
                    </a:lnTo>
                    <a:lnTo>
                      <a:pt x="0" y="365"/>
                    </a:lnTo>
                    <a:lnTo>
                      <a:pt x="1" y="346"/>
                    </a:lnTo>
                    <a:lnTo>
                      <a:pt x="4" y="326"/>
                    </a:lnTo>
                    <a:lnTo>
                      <a:pt x="7" y="307"/>
                    </a:lnTo>
                    <a:lnTo>
                      <a:pt x="12" y="289"/>
                    </a:lnTo>
                    <a:lnTo>
                      <a:pt x="17" y="271"/>
                    </a:lnTo>
                    <a:lnTo>
                      <a:pt x="23" y="253"/>
                    </a:lnTo>
                    <a:lnTo>
                      <a:pt x="30" y="235"/>
                    </a:lnTo>
                    <a:lnTo>
                      <a:pt x="37" y="219"/>
                    </a:lnTo>
                    <a:lnTo>
                      <a:pt x="47" y="202"/>
                    </a:lnTo>
                    <a:lnTo>
                      <a:pt x="55" y="186"/>
                    </a:lnTo>
                    <a:lnTo>
                      <a:pt x="66" y="169"/>
                    </a:lnTo>
                    <a:lnTo>
                      <a:pt x="77" y="155"/>
                    </a:lnTo>
                    <a:lnTo>
                      <a:pt x="88" y="141"/>
                    </a:lnTo>
                    <a:lnTo>
                      <a:pt x="100" y="126"/>
                    </a:lnTo>
                    <a:lnTo>
                      <a:pt x="113" y="113"/>
                    </a:lnTo>
                    <a:lnTo>
                      <a:pt x="126" y="100"/>
                    </a:lnTo>
                    <a:lnTo>
                      <a:pt x="141" y="88"/>
                    </a:lnTo>
                    <a:lnTo>
                      <a:pt x="155" y="77"/>
                    </a:lnTo>
                    <a:lnTo>
                      <a:pt x="171" y="66"/>
                    </a:lnTo>
                    <a:lnTo>
                      <a:pt x="186" y="55"/>
                    </a:lnTo>
                    <a:lnTo>
                      <a:pt x="202" y="46"/>
                    </a:lnTo>
                    <a:lnTo>
                      <a:pt x="219" y="37"/>
                    </a:lnTo>
                    <a:lnTo>
                      <a:pt x="235" y="30"/>
                    </a:lnTo>
                    <a:lnTo>
                      <a:pt x="253" y="23"/>
                    </a:lnTo>
                    <a:lnTo>
                      <a:pt x="271" y="17"/>
                    </a:lnTo>
                    <a:lnTo>
                      <a:pt x="289" y="12"/>
                    </a:lnTo>
                    <a:lnTo>
                      <a:pt x="307" y="7"/>
                    </a:lnTo>
                    <a:lnTo>
                      <a:pt x="327" y="4"/>
                    </a:lnTo>
                    <a:lnTo>
                      <a:pt x="346" y="1"/>
                    </a:lnTo>
                    <a:lnTo>
                      <a:pt x="366" y="0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990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00720" y="5514840"/>
                <a:ext cx="303120" cy="303480"/>
              </a:xfrm>
              <a:custGeom>
                <a:avLst/>
                <a:gdLst/>
                <a:ahLst/>
                <a:rect l="l" t="t" r="r" b="b"/>
                <a:pathLst>
                  <a:path w="764" h="763">
                    <a:moveTo>
                      <a:pt x="381" y="0"/>
                    </a:moveTo>
                    <a:lnTo>
                      <a:pt x="402" y="0"/>
                    </a:lnTo>
                    <a:lnTo>
                      <a:pt x="421" y="1"/>
                    </a:lnTo>
                    <a:lnTo>
                      <a:pt x="440" y="4"/>
                    </a:lnTo>
                    <a:lnTo>
                      <a:pt x="458" y="7"/>
                    </a:lnTo>
                    <a:lnTo>
                      <a:pt x="477" y="12"/>
                    </a:lnTo>
                    <a:lnTo>
                      <a:pt x="495" y="17"/>
                    </a:lnTo>
                    <a:lnTo>
                      <a:pt x="513" y="23"/>
                    </a:lnTo>
                    <a:lnTo>
                      <a:pt x="530" y="30"/>
                    </a:lnTo>
                    <a:lnTo>
                      <a:pt x="547" y="37"/>
                    </a:lnTo>
                    <a:lnTo>
                      <a:pt x="564" y="46"/>
                    </a:lnTo>
                    <a:lnTo>
                      <a:pt x="579" y="55"/>
                    </a:lnTo>
                    <a:lnTo>
                      <a:pt x="595" y="65"/>
                    </a:lnTo>
                    <a:lnTo>
                      <a:pt x="611" y="76"/>
                    </a:lnTo>
                    <a:lnTo>
                      <a:pt x="625" y="88"/>
                    </a:lnTo>
                    <a:lnTo>
                      <a:pt x="638" y="100"/>
                    </a:lnTo>
                    <a:lnTo>
                      <a:pt x="651" y="112"/>
                    </a:lnTo>
                    <a:lnTo>
                      <a:pt x="665" y="125"/>
                    </a:lnTo>
                    <a:lnTo>
                      <a:pt x="677" y="139"/>
                    </a:lnTo>
                    <a:lnTo>
                      <a:pt x="687" y="154"/>
                    </a:lnTo>
                    <a:lnTo>
                      <a:pt x="698" y="168"/>
                    </a:lnTo>
                    <a:lnTo>
                      <a:pt x="708" y="184"/>
                    </a:lnTo>
                    <a:lnTo>
                      <a:pt x="717" y="201"/>
                    </a:lnTo>
                    <a:lnTo>
                      <a:pt x="726" y="216"/>
                    </a:lnTo>
                    <a:lnTo>
                      <a:pt x="734" y="233"/>
                    </a:lnTo>
                    <a:lnTo>
                      <a:pt x="740" y="251"/>
                    </a:lnTo>
                    <a:lnTo>
                      <a:pt x="746" y="269"/>
                    </a:lnTo>
                    <a:lnTo>
                      <a:pt x="752" y="287"/>
                    </a:lnTo>
                    <a:lnTo>
                      <a:pt x="756" y="305"/>
                    </a:lnTo>
                    <a:lnTo>
                      <a:pt x="759" y="324"/>
                    </a:lnTo>
                    <a:lnTo>
                      <a:pt x="762" y="343"/>
                    </a:lnTo>
                    <a:lnTo>
                      <a:pt x="763" y="362"/>
                    </a:lnTo>
                    <a:lnTo>
                      <a:pt x="764" y="382"/>
                    </a:lnTo>
                    <a:lnTo>
                      <a:pt x="763" y="401"/>
                    </a:lnTo>
                    <a:lnTo>
                      <a:pt x="762" y="421"/>
                    </a:lnTo>
                    <a:lnTo>
                      <a:pt x="759" y="439"/>
                    </a:lnTo>
                    <a:lnTo>
                      <a:pt x="756" y="458"/>
                    </a:lnTo>
                    <a:lnTo>
                      <a:pt x="752" y="476"/>
                    </a:lnTo>
                    <a:lnTo>
                      <a:pt x="746" y="496"/>
                    </a:lnTo>
                    <a:lnTo>
                      <a:pt x="740" y="512"/>
                    </a:lnTo>
                    <a:lnTo>
                      <a:pt x="734" y="530"/>
                    </a:lnTo>
                    <a:lnTo>
                      <a:pt x="726" y="547"/>
                    </a:lnTo>
                    <a:lnTo>
                      <a:pt x="717" y="564"/>
                    </a:lnTo>
                    <a:lnTo>
                      <a:pt x="708" y="580"/>
                    </a:lnTo>
                    <a:lnTo>
                      <a:pt x="698" y="595"/>
                    </a:lnTo>
                    <a:lnTo>
                      <a:pt x="687" y="610"/>
                    </a:lnTo>
                    <a:lnTo>
                      <a:pt x="677" y="624"/>
                    </a:lnTo>
                    <a:lnTo>
                      <a:pt x="665" y="638"/>
                    </a:lnTo>
                    <a:lnTo>
                      <a:pt x="651" y="652"/>
                    </a:lnTo>
                    <a:lnTo>
                      <a:pt x="638" y="664"/>
                    </a:lnTo>
                    <a:lnTo>
                      <a:pt x="625" y="676"/>
                    </a:lnTo>
                    <a:lnTo>
                      <a:pt x="611" y="688"/>
                    </a:lnTo>
                    <a:lnTo>
                      <a:pt x="595" y="698"/>
                    </a:lnTo>
                    <a:lnTo>
                      <a:pt x="579" y="708"/>
                    </a:lnTo>
                    <a:lnTo>
                      <a:pt x="564" y="718"/>
                    </a:lnTo>
                    <a:lnTo>
                      <a:pt x="547" y="726"/>
                    </a:lnTo>
                    <a:lnTo>
                      <a:pt x="530" y="733"/>
                    </a:lnTo>
                    <a:lnTo>
                      <a:pt x="513" y="740"/>
                    </a:lnTo>
                    <a:lnTo>
                      <a:pt x="495" y="746"/>
                    </a:lnTo>
                    <a:lnTo>
                      <a:pt x="477" y="751"/>
                    </a:lnTo>
                    <a:lnTo>
                      <a:pt x="458" y="756"/>
                    </a:lnTo>
                    <a:lnTo>
                      <a:pt x="440" y="760"/>
                    </a:lnTo>
                    <a:lnTo>
                      <a:pt x="421" y="762"/>
                    </a:lnTo>
                    <a:lnTo>
                      <a:pt x="402" y="763"/>
                    </a:lnTo>
                    <a:lnTo>
                      <a:pt x="381" y="763"/>
                    </a:lnTo>
                    <a:lnTo>
                      <a:pt x="362" y="763"/>
                    </a:lnTo>
                    <a:lnTo>
                      <a:pt x="343" y="762"/>
                    </a:lnTo>
                    <a:lnTo>
                      <a:pt x="324" y="760"/>
                    </a:lnTo>
                    <a:lnTo>
                      <a:pt x="305" y="756"/>
                    </a:lnTo>
                    <a:lnTo>
                      <a:pt x="287" y="751"/>
                    </a:lnTo>
                    <a:lnTo>
                      <a:pt x="269" y="746"/>
                    </a:lnTo>
                    <a:lnTo>
                      <a:pt x="251" y="740"/>
                    </a:lnTo>
                    <a:lnTo>
                      <a:pt x="234" y="733"/>
                    </a:lnTo>
                    <a:lnTo>
                      <a:pt x="217" y="726"/>
                    </a:lnTo>
                    <a:lnTo>
                      <a:pt x="200" y="718"/>
                    </a:lnTo>
                    <a:lnTo>
                      <a:pt x="185" y="708"/>
                    </a:lnTo>
                    <a:lnTo>
                      <a:pt x="169" y="698"/>
                    </a:lnTo>
                    <a:lnTo>
                      <a:pt x="153" y="688"/>
                    </a:lnTo>
                    <a:lnTo>
                      <a:pt x="139" y="676"/>
                    </a:lnTo>
                    <a:lnTo>
                      <a:pt x="126" y="664"/>
                    </a:lnTo>
                    <a:lnTo>
                      <a:pt x="113" y="652"/>
                    </a:lnTo>
                    <a:lnTo>
                      <a:pt x="99" y="638"/>
                    </a:lnTo>
                    <a:lnTo>
                      <a:pt x="87" y="624"/>
                    </a:lnTo>
                    <a:lnTo>
                      <a:pt x="77" y="610"/>
                    </a:lnTo>
                    <a:lnTo>
                      <a:pt x="66" y="595"/>
                    </a:lnTo>
                    <a:lnTo>
                      <a:pt x="55" y="580"/>
                    </a:lnTo>
                    <a:lnTo>
                      <a:pt x="47" y="564"/>
                    </a:lnTo>
                    <a:lnTo>
                      <a:pt x="38" y="547"/>
                    </a:lnTo>
                    <a:lnTo>
                      <a:pt x="30" y="530"/>
                    </a:lnTo>
                    <a:lnTo>
                      <a:pt x="24" y="512"/>
                    </a:lnTo>
                    <a:lnTo>
                      <a:pt x="18" y="496"/>
                    </a:lnTo>
                    <a:lnTo>
                      <a:pt x="12" y="476"/>
                    </a:lnTo>
                    <a:lnTo>
                      <a:pt x="8" y="458"/>
                    </a:lnTo>
                    <a:lnTo>
                      <a:pt x="5" y="439"/>
                    </a:lnTo>
                    <a:lnTo>
                      <a:pt x="2" y="421"/>
                    </a:lnTo>
                    <a:lnTo>
                      <a:pt x="1" y="401"/>
                    </a:lnTo>
                    <a:lnTo>
                      <a:pt x="0" y="382"/>
                    </a:lnTo>
                    <a:lnTo>
                      <a:pt x="1" y="362"/>
                    </a:lnTo>
                    <a:lnTo>
                      <a:pt x="2" y="343"/>
                    </a:lnTo>
                    <a:lnTo>
                      <a:pt x="5" y="324"/>
                    </a:lnTo>
                    <a:lnTo>
                      <a:pt x="8" y="305"/>
                    </a:lnTo>
                    <a:lnTo>
                      <a:pt x="12" y="287"/>
                    </a:lnTo>
                    <a:lnTo>
                      <a:pt x="18" y="269"/>
                    </a:lnTo>
                    <a:lnTo>
                      <a:pt x="24" y="251"/>
                    </a:lnTo>
                    <a:lnTo>
                      <a:pt x="30" y="233"/>
                    </a:lnTo>
                    <a:lnTo>
                      <a:pt x="38" y="216"/>
                    </a:lnTo>
                    <a:lnTo>
                      <a:pt x="47" y="201"/>
                    </a:lnTo>
                    <a:lnTo>
                      <a:pt x="55" y="184"/>
                    </a:lnTo>
                    <a:lnTo>
                      <a:pt x="66" y="168"/>
                    </a:lnTo>
                    <a:lnTo>
                      <a:pt x="77" y="154"/>
                    </a:lnTo>
                    <a:lnTo>
                      <a:pt x="87" y="139"/>
                    </a:lnTo>
                    <a:lnTo>
                      <a:pt x="99" y="125"/>
                    </a:lnTo>
                    <a:lnTo>
                      <a:pt x="113" y="112"/>
                    </a:lnTo>
                    <a:lnTo>
                      <a:pt x="126" y="100"/>
                    </a:lnTo>
                    <a:lnTo>
                      <a:pt x="139" y="88"/>
                    </a:lnTo>
                    <a:lnTo>
                      <a:pt x="153" y="76"/>
                    </a:lnTo>
                    <a:lnTo>
                      <a:pt x="169" y="65"/>
                    </a:lnTo>
                    <a:lnTo>
                      <a:pt x="185" y="55"/>
                    </a:lnTo>
                    <a:lnTo>
                      <a:pt x="200" y="46"/>
                    </a:lnTo>
                    <a:lnTo>
                      <a:pt x="217" y="37"/>
                    </a:lnTo>
                    <a:lnTo>
                      <a:pt x="234" y="30"/>
                    </a:lnTo>
                    <a:lnTo>
                      <a:pt x="251" y="23"/>
                    </a:lnTo>
                    <a:lnTo>
                      <a:pt x="269" y="17"/>
                    </a:lnTo>
                    <a:lnTo>
                      <a:pt x="287" y="12"/>
                    </a:lnTo>
                    <a:lnTo>
                      <a:pt x="305" y="7"/>
                    </a:lnTo>
                    <a:lnTo>
                      <a:pt x="324" y="4"/>
                    </a:lnTo>
                    <a:lnTo>
                      <a:pt x="343" y="1"/>
                    </a:lnTo>
                    <a:lnTo>
                      <a:pt x="362" y="0"/>
                    </a:lnTo>
                    <a:lnTo>
                      <a:pt x="381" y="0"/>
                    </a:lnTo>
                    <a:close/>
                  </a:path>
                </a:pathLst>
              </a:custGeom>
              <a:solidFill>
                <a:srgbClr val="df9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02160" y="551664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756" h="756">
                    <a:moveTo>
                      <a:pt x="378" y="0"/>
                    </a:moveTo>
                    <a:lnTo>
                      <a:pt x="397" y="0"/>
                    </a:lnTo>
                    <a:lnTo>
                      <a:pt x="416" y="3"/>
                    </a:lnTo>
                    <a:lnTo>
                      <a:pt x="435" y="5"/>
                    </a:lnTo>
                    <a:lnTo>
                      <a:pt x="453" y="7"/>
                    </a:lnTo>
                    <a:lnTo>
                      <a:pt x="471" y="12"/>
                    </a:lnTo>
                    <a:lnTo>
                      <a:pt x="489" y="17"/>
                    </a:lnTo>
                    <a:lnTo>
                      <a:pt x="507" y="23"/>
                    </a:lnTo>
                    <a:lnTo>
                      <a:pt x="524" y="30"/>
                    </a:lnTo>
                    <a:lnTo>
                      <a:pt x="541" y="37"/>
                    </a:lnTo>
                    <a:lnTo>
                      <a:pt x="558" y="46"/>
                    </a:lnTo>
                    <a:lnTo>
                      <a:pt x="573" y="55"/>
                    </a:lnTo>
                    <a:lnTo>
                      <a:pt x="589" y="65"/>
                    </a:lnTo>
                    <a:lnTo>
                      <a:pt x="603" y="76"/>
                    </a:lnTo>
                    <a:lnTo>
                      <a:pt x="618" y="87"/>
                    </a:lnTo>
                    <a:lnTo>
                      <a:pt x="632" y="99"/>
                    </a:lnTo>
                    <a:lnTo>
                      <a:pt x="645" y="112"/>
                    </a:lnTo>
                    <a:lnTo>
                      <a:pt x="657" y="124"/>
                    </a:lnTo>
                    <a:lnTo>
                      <a:pt x="669" y="138"/>
                    </a:lnTo>
                    <a:lnTo>
                      <a:pt x="680" y="153"/>
                    </a:lnTo>
                    <a:lnTo>
                      <a:pt x="691" y="167"/>
                    </a:lnTo>
                    <a:lnTo>
                      <a:pt x="700" y="183"/>
                    </a:lnTo>
                    <a:lnTo>
                      <a:pt x="710" y="198"/>
                    </a:lnTo>
                    <a:lnTo>
                      <a:pt x="718" y="215"/>
                    </a:lnTo>
                    <a:lnTo>
                      <a:pt x="726" y="232"/>
                    </a:lnTo>
                    <a:lnTo>
                      <a:pt x="733" y="248"/>
                    </a:lnTo>
                    <a:lnTo>
                      <a:pt x="739" y="266"/>
                    </a:lnTo>
                    <a:lnTo>
                      <a:pt x="744" y="284"/>
                    </a:lnTo>
                    <a:lnTo>
                      <a:pt x="748" y="302"/>
                    </a:lnTo>
                    <a:lnTo>
                      <a:pt x="751" y="320"/>
                    </a:lnTo>
                    <a:lnTo>
                      <a:pt x="753" y="340"/>
                    </a:lnTo>
                    <a:lnTo>
                      <a:pt x="756" y="359"/>
                    </a:lnTo>
                    <a:lnTo>
                      <a:pt x="756" y="378"/>
                    </a:lnTo>
                    <a:lnTo>
                      <a:pt x="756" y="397"/>
                    </a:lnTo>
                    <a:lnTo>
                      <a:pt x="753" y="416"/>
                    </a:lnTo>
                    <a:lnTo>
                      <a:pt x="751" y="436"/>
                    </a:lnTo>
                    <a:lnTo>
                      <a:pt x="748" y="455"/>
                    </a:lnTo>
                    <a:lnTo>
                      <a:pt x="744" y="473"/>
                    </a:lnTo>
                    <a:lnTo>
                      <a:pt x="739" y="491"/>
                    </a:lnTo>
                    <a:lnTo>
                      <a:pt x="733" y="508"/>
                    </a:lnTo>
                    <a:lnTo>
                      <a:pt x="726" y="526"/>
                    </a:lnTo>
                    <a:lnTo>
                      <a:pt x="718" y="542"/>
                    </a:lnTo>
                    <a:lnTo>
                      <a:pt x="710" y="558"/>
                    </a:lnTo>
                    <a:lnTo>
                      <a:pt x="700" y="574"/>
                    </a:lnTo>
                    <a:lnTo>
                      <a:pt x="691" y="589"/>
                    </a:lnTo>
                    <a:lnTo>
                      <a:pt x="680" y="605"/>
                    </a:lnTo>
                    <a:lnTo>
                      <a:pt x="669" y="618"/>
                    </a:lnTo>
                    <a:lnTo>
                      <a:pt x="657" y="632"/>
                    </a:lnTo>
                    <a:lnTo>
                      <a:pt x="645" y="646"/>
                    </a:lnTo>
                    <a:lnTo>
                      <a:pt x="632" y="658"/>
                    </a:lnTo>
                    <a:lnTo>
                      <a:pt x="618" y="670"/>
                    </a:lnTo>
                    <a:lnTo>
                      <a:pt x="603" y="682"/>
                    </a:lnTo>
                    <a:lnTo>
                      <a:pt x="589" y="691"/>
                    </a:lnTo>
                    <a:lnTo>
                      <a:pt x="573" y="702"/>
                    </a:lnTo>
                    <a:lnTo>
                      <a:pt x="558" y="710"/>
                    </a:lnTo>
                    <a:lnTo>
                      <a:pt x="541" y="719"/>
                    </a:lnTo>
                    <a:lnTo>
                      <a:pt x="524" y="727"/>
                    </a:lnTo>
                    <a:lnTo>
                      <a:pt x="507" y="733"/>
                    </a:lnTo>
                    <a:lnTo>
                      <a:pt x="489" y="739"/>
                    </a:lnTo>
                    <a:lnTo>
                      <a:pt x="471" y="744"/>
                    </a:lnTo>
                    <a:lnTo>
                      <a:pt x="453" y="749"/>
                    </a:lnTo>
                    <a:lnTo>
                      <a:pt x="435" y="752"/>
                    </a:lnTo>
                    <a:lnTo>
                      <a:pt x="416" y="755"/>
                    </a:lnTo>
                    <a:lnTo>
                      <a:pt x="397" y="756"/>
                    </a:lnTo>
                    <a:lnTo>
                      <a:pt x="378" y="756"/>
                    </a:lnTo>
                    <a:lnTo>
                      <a:pt x="358" y="756"/>
                    </a:lnTo>
                    <a:lnTo>
                      <a:pt x="339" y="755"/>
                    </a:lnTo>
                    <a:lnTo>
                      <a:pt x="320" y="752"/>
                    </a:lnTo>
                    <a:lnTo>
                      <a:pt x="301" y="749"/>
                    </a:lnTo>
                    <a:lnTo>
                      <a:pt x="283" y="744"/>
                    </a:lnTo>
                    <a:lnTo>
                      <a:pt x="265" y="739"/>
                    </a:lnTo>
                    <a:lnTo>
                      <a:pt x="248" y="733"/>
                    </a:lnTo>
                    <a:lnTo>
                      <a:pt x="230" y="727"/>
                    </a:lnTo>
                    <a:lnTo>
                      <a:pt x="213" y="719"/>
                    </a:lnTo>
                    <a:lnTo>
                      <a:pt x="198" y="710"/>
                    </a:lnTo>
                    <a:lnTo>
                      <a:pt x="182" y="702"/>
                    </a:lnTo>
                    <a:lnTo>
                      <a:pt x="166" y="691"/>
                    </a:lnTo>
                    <a:lnTo>
                      <a:pt x="151" y="682"/>
                    </a:lnTo>
                    <a:lnTo>
                      <a:pt x="138" y="670"/>
                    </a:lnTo>
                    <a:lnTo>
                      <a:pt x="123" y="658"/>
                    </a:lnTo>
                    <a:lnTo>
                      <a:pt x="110" y="646"/>
                    </a:lnTo>
                    <a:lnTo>
                      <a:pt x="98" y="632"/>
                    </a:lnTo>
                    <a:lnTo>
                      <a:pt x="86" y="618"/>
                    </a:lnTo>
                    <a:lnTo>
                      <a:pt x="74" y="605"/>
                    </a:lnTo>
                    <a:lnTo>
                      <a:pt x="64" y="589"/>
                    </a:lnTo>
                    <a:lnTo>
                      <a:pt x="54" y="574"/>
                    </a:lnTo>
                    <a:lnTo>
                      <a:pt x="45" y="558"/>
                    </a:lnTo>
                    <a:lnTo>
                      <a:pt x="37" y="542"/>
                    </a:lnTo>
                    <a:lnTo>
                      <a:pt x="30" y="526"/>
                    </a:lnTo>
                    <a:lnTo>
                      <a:pt x="22" y="508"/>
                    </a:lnTo>
                    <a:lnTo>
                      <a:pt x="16" y="491"/>
                    </a:lnTo>
                    <a:lnTo>
                      <a:pt x="12" y="473"/>
                    </a:lnTo>
                    <a:lnTo>
                      <a:pt x="7" y="455"/>
                    </a:lnTo>
                    <a:lnTo>
                      <a:pt x="3" y="436"/>
                    </a:lnTo>
                    <a:lnTo>
                      <a:pt x="1" y="416"/>
                    </a:lnTo>
                    <a:lnTo>
                      <a:pt x="0" y="397"/>
                    </a:lnTo>
                    <a:lnTo>
                      <a:pt x="0" y="378"/>
                    </a:lnTo>
                    <a:lnTo>
                      <a:pt x="0" y="359"/>
                    </a:lnTo>
                    <a:lnTo>
                      <a:pt x="1" y="340"/>
                    </a:lnTo>
                    <a:lnTo>
                      <a:pt x="3" y="320"/>
                    </a:lnTo>
                    <a:lnTo>
                      <a:pt x="7" y="302"/>
                    </a:lnTo>
                    <a:lnTo>
                      <a:pt x="12" y="284"/>
                    </a:lnTo>
                    <a:lnTo>
                      <a:pt x="16" y="266"/>
                    </a:lnTo>
                    <a:lnTo>
                      <a:pt x="22" y="248"/>
                    </a:lnTo>
                    <a:lnTo>
                      <a:pt x="30" y="232"/>
                    </a:lnTo>
                    <a:lnTo>
                      <a:pt x="37" y="215"/>
                    </a:lnTo>
                    <a:lnTo>
                      <a:pt x="45" y="198"/>
                    </a:lnTo>
                    <a:lnTo>
                      <a:pt x="54" y="183"/>
                    </a:lnTo>
                    <a:lnTo>
                      <a:pt x="64" y="167"/>
                    </a:lnTo>
                    <a:lnTo>
                      <a:pt x="74" y="153"/>
                    </a:lnTo>
                    <a:lnTo>
                      <a:pt x="86" y="138"/>
                    </a:lnTo>
                    <a:lnTo>
                      <a:pt x="98" y="124"/>
                    </a:lnTo>
                    <a:lnTo>
                      <a:pt x="110" y="112"/>
                    </a:lnTo>
                    <a:lnTo>
                      <a:pt x="123" y="99"/>
                    </a:lnTo>
                    <a:lnTo>
                      <a:pt x="138" y="87"/>
                    </a:lnTo>
                    <a:lnTo>
                      <a:pt x="151" y="76"/>
                    </a:lnTo>
                    <a:lnTo>
                      <a:pt x="166" y="65"/>
                    </a:lnTo>
                    <a:lnTo>
                      <a:pt x="182" y="55"/>
                    </a:lnTo>
                    <a:lnTo>
                      <a:pt x="198" y="46"/>
                    </a:lnTo>
                    <a:lnTo>
                      <a:pt x="213" y="37"/>
                    </a:lnTo>
                    <a:lnTo>
                      <a:pt x="230" y="30"/>
                    </a:lnTo>
                    <a:lnTo>
                      <a:pt x="248" y="23"/>
                    </a:lnTo>
                    <a:lnTo>
                      <a:pt x="265" y="17"/>
                    </a:lnTo>
                    <a:lnTo>
                      <a:pt x="283" y="12"/>
                    </a:lnTo>
                    <a:lnTo>
                      <a:pt x="301" y="7"/>
                    </a:lnTo>
                    <a:lnTo>
                      <a:pt x="320" y="5"/>
                    </a:lnTo>
                    <a:lnTo>
                      <a:pt x="339" y="3"/>
                    </a:lnTo>
                    <a:lnTo>
                      <a:pt x="358" y="0"/>
                    </a:lnTo>
                    <a:lnTo>
                      <a:pt x="378" y="0"/>
                    </a:lnTo>
                    <a:close/>
                  </a:path>
                </a:pathLst>
              </a:custGeom>
              <a:solidFill>
                <a:srgbClr val="e39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403600" y="5519880"/>
                <a:ext cx="298440" cy="296640"/>
              </a:xfrm>
              <a:custGeom>
                <a:avLst/>
                <a:gdLst/>
                <a:ahLst/>
                <a:rect l="l" t="t" r="r" b="b"/>
                <a:pathLst>
                  <a:path w="749" h="749">
                    <a:moveTo>
                      <a:pt x="375" y="0"/>
                    </a:moveTo>
                    <a:lnTo>
                      <a:pt x="394" y="1"/>
                    </a:lnTo>
                    <a:lnTo>
                      <a:pt x="413" y="3"/>
                    </a:lnTo>
                    <a:lnTo>
                      <a:pt x="432" y="5"/>
                    </a:lnTo>
                    <a:lnTo>
                      <a:pt x="450" y="9"/>
                    </a:lnTo>
                    <a:lnTo>
                      <a:pt x="468" y="12"/>
                    </a:lnTo>
                    <a:lnTo>
                      <a:pt x="486" y="17"/>
                    </a:lnTo>
                    <a:lnTo>
                      <a:pt x="503" y="23"/>
                    </a:lnTo>
                    <a:lnTo>
                      <a:pt x="521" y="30"/>
                    </a:lnTo>
                    <a:lnTo>
                      <a:pt x="537" y="37"/>
                    </a:lnTo>
                    <a:lnTo>
                      <a:pt x="553" y="46"/>
                    </a:lnTo>
                    <a:lnTo>
                      <a:pt x="569" y="55"/>
                    </a:lnTo>
                    <a:lnTo>
                      <a:pt x="585" y="65"/>
                    </a:lnTo>
                    <a:lnTo>
                      <a:pt x="599" y="75"/>
                    </a:lnTo>
                    <a:lnTo>
                      <a:pt x="613" y="87"/>
                    </a:lnTo>
                    <a:lnTo>
                      <a:pt x="627" y="99"/>
                    </a:lnTo>
                    <a:lnTo>
                      <a:pt x="640" y="111"/>
                    </a:lnTo>
                    <a:lnTo>
                      <a:pt x="652" y="124"/>
                    </a:lnTo>
                    <a:lnTo>
                      <a:pt x="664" y="137"/>
                    </a:lnTo>
                    <a:lnTo>
                      <a:pt x="675" y="151"/>
                    </a:lnTo>
                    <a:lnTo>
                      <a:pt x="685" y="166"/>
                    </a:lnTo>
                    <a:lnTo>
                      <a:pt x="695" y="181"/>
                    </a:lnTo>
                    <a:lnTo>
                      <a:pt x="705" y="197"/>
                    </a:lnTo>
                    <a:lnTo>
                      <a:pt x="713" y="212"/>
                    </a:lnTo>
                    <a:lnTo>
                      <a:pt x="720" y="229"/>
                    </a:lnTo>
                    <a:lnTo>
                      <a:pt x="726" y="246"/>
                    </a:lnTo>
                    <a:lnTo>
                      <a:pt x="732" y="264"/>
                    </a:lnTo>
                    <a:lnTo>
                      <a:pt x="738" y="282"/>
                    </a:lnTo>
                    <a:lnTo>
                      <a:pt x="742" y="300"/>
                    </a:lnTo>
                    <a:lnTo>
                      <a:pt x="745" y="318"/>
                    </a:lnTo>
                    <a:lnTo>
                      <a:pt x="748" y="337"/>
                    </a:lnTo>
                    <a:lnTo>
                      <a:pt x="749" y="355"/>
                    </a:lnTo>
                    <a:lnTo>
                      <a:pt x="749" y="374"/>
                    </a:lnTo>
                    <a:lnTo>
                      <a:pt x="749" y="394"/>
                    </a:lnTo>
                    <a:lnTo>
                      <a:pt x="748" y="413"/>
                    </a:lnTo>
                    <a:lnTo>
                      <a:pt x="745" y="432"/>
                    </a:lnTo>
                    <a:lnTo>
                      <a:pt x="742" y="450"/>
                    </a:lnTo>
                    <a:lnTo>
                      <a:pt x="738" y="468"/>
                    </a:lnTo>
                    <a:lnTo>
                      <a:pt x="732" y="486"/>
                    </a:lnTo>
                    <a:lnTo>
                      <a:pt x="726" y="503"/>
                    </a:lnTo>
                    <a:lnTo>
                      <a:pt x="720" y="521"/>
                    </a:lnTo>
                    <a:lnTo>
                      <a:pt x="713" y="536"/>
                    </a:lnTo>
                    <a:lnTo>
                      <a:pt x="705" y="553"/>
                    </a:lnTo>
                    <a:lnTo>
                      <a:pt x="695" y="569"/>
                    </a:lnTo>
                    <a:lnTo>
                      <a:pt x="685" y="584"/>
                    </a:lnTo>
                    <a:lnTo>
                      <a:pt x="675" y="599"/>
                    </a:lnTo>
                    <a:lnTo>
                      <a:pt x="664" y="613"/>
                    </a:lnTo>
                    <a:lnTo>
                      <a:pt x="652" y="626"/>
                    </a:lnTo>
                    <a:lnTo>
                      <a:pt x="640" y="640"/>
                    </a:lnTo>
                    <a:lnTo>
                      <a:pt x="627" y="652"/>
                    </a:lnTo>
                    <a:lnTo>
                      <a:pt x="613" y="664"/>
                    </a:lnTo>
                    <a:lnTo>
                      <a:pt x="599" y="674"/>
                    </a:lnTo>
                    <a:lnTo>
                      <a:pt x="585" y="685"/>
                    </a:lnTo>
                    <a:lnTo>
                      <a:pt x="569" y="695"/>
                    </a:lnTo>
                    <a:lnTo>
                      <a:pt x="553" y="704"/>
                    </a:lnTo>
                    <a:lnTo>
                      <a:pt x="537" y="713"/>
                    </a:lnTo>
                    <a:lnTo>
                      <a:pt x="521" y="720"/>
                    </a:lnTo>
                    <a:lnTo>
                      <a:pt x="503" y="726"/>
                    </a:lnTo>
                    <a:lnTo>
                      <a:pt x="486" y="732"/>
                    </a:lnTo>
                    <a:lnTo>
                      <a:pt x="468" y="738"/>
                    </a:lnTo>
                    <a:lnTo>
                      <a:pt x="450" y="742"/>
                    </a:lnTo>
                    <a:lnTo>
                      <a:pt x="432" y="745"/>
                    </a:lnTo>
                    <a:lnTo>
                      <a:pt x="413" y="748"/>
                    </a:lnTo>
                    <a:lnTo>
                      <a:pt x="394" y="749"/>
                    </a:lnTo>
                    <a:lnTo>
                      <a:pt x="375" y="749"/>
                    </a:lnTo>
                    <a:lnTo>
                      <a:pt x="355" y="749"/>
                    </a:lnTo>
                    <a:lnTo>
                      <a:pt x="336" y="748"/>
                    </a:lnTo>
                    <a:lnTo>
                      <a:pt x="318" y="745"/>
                    </a:lnTo>
                    <a:lnTo>
                      <a:pt x="300" y="742"/>
                    </a:lnTo>
                    <a:lnTo>
                      <a:pt x="281" y="738"/>
                    </a:lnTo>
                    <a:lnTo>
                      <a:pt x="264" y="732"/>
                    </a:lnTo>
                    <a:lnTo>
                      <a:pt x="246" y="726"/>
                    </a:lnTo>
                    <a:lnTo>
                      <a:pt x="229" y="720"/>
                    </a:lnTo>
                    <a:lnTo>
                      <a:pt x="213" y="713"/>
                    </a:lnTo>
                    <a:lnTo>
                      <a:pt x="197" y="704"/>
                    </a:lnTo>
                    <a:lnTo>
                      <a:pt x="181" y="695"/>
                    </a:lnTo>
                    <a:lnTo>
                      <a:pt x="166" y="685"/>
                    </a:lnTo>
                    <a:lnTo>
                      <a:pt x="151" y="674"/>
                    </a:lnTo>
                    <a:lnTo>
                      <a:pt x="137" y="664"/>
                    </a:lnTo>
                    <a:lnTo>
                      <a:pt x="124" y="652"/>
                    </a:lnTo>
                    <a:lnTo>
                      <a:pt x="111" y="640"/>
                    </a:lnTo>
                    <a:lnTo>
                      <a:pt x="97" y="626"/>
                    </a:lnTo>
                    <a:lnTo>
                      <a:pt x="87" y="613"/>
                    </a:lnTo>
                    <a:lnTo>
                      <a:pt x="75" y="599"/>
                    </a:lnTo>
                    <a:lnTo>
                      <a:pt x="65" y="584"/>
                    </a:lnTo>
                    <a:lnTo>
                      <a:pt x="55" y="569"/>
                    </a:lnTo>
                    <a:lnTo>
                      <a:pt x="46" y="553"/>
                    </a:lnTo>
                    <a:lnTo>
                      <a:pt x="37" y="536"/>
                    </a:lnTo>
                    <a:lnTo>
                      <a:pt x="30" y="521"/>
                    </a:lnTo>
                    <a:lnTo>
                      <a:pt x="23" y="503"/>
                    </a:lnTo>
                    <a:lnTo>
                      <a:pt x="17" y="486"/>
                    </a:lnTo>
                    <a:lnTo>
                      <a:pt x="12" y="468"/>
                    </a:lnTo>
                    <a:lnTo>
                      <a:pt x="9" y="450"/>
                    </a:lnTo>
                    <a:lnTo>
                      <a:pt x="5" y="432"/>
                    </a:lnTo>
                    <a:lnTo>
                      <a:pt x="3" y="413"/>
                    </a:lnTo>
                    <a:lnTo>
                      <a:pt x="1" y="394"/>
                    </a:lnTo>
                    <a:lnTo>
                      <a:pt x="0" y="374"/>
                    </a:lnTo>
                    <a:lnTo>
                      <a:pt x="1" y="355"/>
                    </a:lnTo>
                    <a:lnTo>
                      <a:pt x="3" y="337"/>
                    </a:lnTo>
                    <a:lnTo>
                      <a:pt x="5" y="318"/>
                    </a:lnTo>
                    <a:lnTo>
                      <a:pt x="9" y="300"/>
                    </a:lnTo>
                    <a:lnTo>
                      <a:pt x="12" y="282"/>
                    </a:lnTo>
                    <a:lnTo>
                      <a:pt x="17" y="264"/>
                    </a:lnTo>
                    <a:lnTo>
                      <a:pt x="23" y="246"/>
                    </a:lnTo>
                    <a:lnTo>
                      <a:pt x="30" y="229"/>
                    </a:lnTo>
                    <a:lnTo>
                      <a:pt x="37" y="212"/>
                    </a:lnTo>
                    <a:lnTo>
                      <a:pt x="46" y="197"/>
                    </a:lnTo>
                    <a:lnTo>
                      <a:pt x="55" y="181"/>
                    </a:lnTo>
                    <a:lnTo>
                      <a:pt x="65" y="166"/>
                    </a:lnTo>
                    <a:lnTo>
                      <a:pt x="75" y="151"/>
                    </a:lnTo>
                    <a:lnTo>
                      <a:pt x="87" y="137"/>
                    </a:lnTo>
                    <a:lnTo>
                      <a:pt x="97" y="124"/>
                    </a:lnTo>
                    <a:lnTo>
                      <a:pt x="111" y="111"/>
                    </a:lnTo>
                    <a:lnTo>
                      <a:pt x="124" y="99"/>
                    </a:lnTo>
                    <a:lnTo>
                      <a:pt x="137" y="87"/>
                    </a:lnTo>
                    <a:lnTo>
                      <a:pt x="151" y="75"/>
                    </a:lnTo>
                    <a:lnTo>
                      <a:pt x="166" y="65"/>
                    </a:lnTo>
                    <a:lnTo>
                      <a:pt x="181" y="55"/>
                    </a:lnTo>
                    <a:lnTo>
                      <a:pt x="197" y="46"/>
                    </a:lnTo>
                    <a:lnTo>
                      <a:pt x="213" y="37"/>
                    </a:lnTo>
                    <a:lnTo>
                      <a:pt x="229" y="30"/>
                    </a:lnTo>
                    <a:lnTo>
                      <a:pt x="246" y="23"/>
                    </a:lnTo>
                    <a:lnTo>
                      <a:pt x="264" y="17"/>
                    </a:lnTo>
                    <a:lnTo>
                      <a:pt x="281" y="12"/>
                    </a:lnTo>
                    <a:lnTo>
                      <a:pt x="300" y="9"/>
                    </a:lnTo>
                    <a:lnTo>
                      <a:pt x="318" y="5"/>
                    </a:lnTo>
                    <a:lnTo>
                      <a:pt x="336" y="3"/>
                    </a:lnTo>
                    <a:lnTo>
                      <a:pt x="355" y="1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79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406840" y="5521320"/>
                <a:ext cx="293760" cy="295200"/>
              </a:xfrm>
              <a:custGeom>
                <a:avLst/>
                <a:gdLst/>
                <a:ahLst/>
                <a:rect l="l" t="t" r="r" b="b"/>
                <a:pathLst>
                  <a:path w="742" h="742">
                    <a:moveTo>
                      <a:pt x="371" y="0"/>
                    </a:moveTo>
                    <a:lnTo>
                      <a:pt x="390" y="1"/>
                    </a:lnTo>
                    <a:lnTo>
                      <a:pt x="408" y="3"/>
                    </a:lnTo>
                    <a:lnTo>
                      <a:pt x="427" y="5"/>
                    </a:lnTo>
                    <a:lnTo>
                      <a:pt x="445" y="9"/>
                    </a:lnTo>
                    <a:lnTo>
                      <a:pt x="463" y="12"/>
                    </a:lnTo>
                    <a:lnTo>
                      <a:pt x="480" y="17"/>
                    </a:lnTo>
                    <a:lnTo>
                      <a:pt x="498" y="23"/>
                    </a:lnTo>
                    <a:lnTo>
                      <a:pt x="515" y="30"/>
                    </a:lnTo>
                    <a:lnTo>
                      <a:pt x="530" y="37"/>
                    </a:lnTo>
                    <a:lnTo>
                      <a:pt x="547" y="46"/>
                    </a:lnTo>
                    <a:lnTo>
                      <a:pt x="563" y="54"/>
                    </a:lnTo>
                    <a:lnTo>
                      <a:pt x="577" y="64"/>
                    </a:lnTo>
                    <a:lnTo>
                      <a:pt x="592" y="75"/>
                    </a:lnTo>
                    <a:lnTo>
                      <a:pt x="606" y="85"/>
                    </a:lnTo>
                    <a:lnTo>
                      <a:pt x="619" y="97"/>
                    </a:lnTo>
                    <a:lnTo>
                      <a:pt x="632" y="109"/>
                    </a:lnTo>
                    <a:lnTo>
                      <a:pt x="644" y="123"/>
                    </a:lnTo>
                    <a:lnTo>
                      <a:pt x="656" y="136"/>
                    </a:lnTo>
                    <a:lnTo>
                      <a:pt x="667" y="150"/>
                    </a:lnTo>
                    <a:lnTo>
                      <a:pt x="678" y="165"/>
                    </a:lnTo>
                    <a:lnTo>
                      <a:pt x="688" y="179"/>
                    </a:lnTo>
                    <a:lnTo>
                      <a:pt x="696" y="195"/>
                    </a:lnTo>
                    <a:lnTo>
                      <a:pt x="704" y="211"/>
                    </a:lnTo>
                    <a:lnTo>
                      <a:pt x="712" y="227"/>
                    </a:lnTo>
                    <a:lnTo>
                      <a:pt x="719" y="244"/>
                    </a:lnTo>
                    <a:lnTo>
                      <a:pt x="725" y="262"/>
                    </a:lnTo>
                    <a:lnTo>
                      <a:pt x="730" y="278"/>
                    </a:lnTo>
                    <a:lnTo>
                      <a:pt x="733" y="296"/>
                    </a:lnTo>
                    <a:lnTo>
                      <a:pt x="737" y="316"/>
                    </a:lnTo>
                    <a:lnTo>
                      <a:pt x="739" y="334"/>
                    </a:lnTo>
                    <a:lnTo>
                      <a:pt x="740" y="353"/>
                    </a:lnTo>
                    <a:lnTo>
                      <a:pt x="742" y="371"/>
                    </a:lnTo>
                    <a:lnTo>
                      <a:pt x="740" y="390"/>
                    </a:lnTo>
                    <a:lnTo>
                      <a:pt x="739" y="409"/>
                    </a:lnTo>
                    <a:lnTo>
                      <a:pt x="737" y="427"/>
                    </a:lnTo>
                    <a:lnTo>
                      <a:pt x="733" y="446"/>
                    </a:lnTo>
                    <a:lnTo>
                      <a:pt x="730" y="464"/>
                    </a:lnTo>
                    <a:lnTo>
                      <a:pt x="725" y="481"/>
                    </a:lnTo>
                    <a:lnTo>
                      <a:pt x="719" y="499"/>
                    </a:lnTo>
                    <a:lnTo>
                      <a:pt x="712" y="516"/>
                    </a:lnTo>
                    <a:lnTo>
                      <a:pt x="704" y="532"/>
                    </a:lnTo>
                    <a:lnTo>
                      <a:pt x="696" y="548"/>
                    </a:lnTo>
                    <a:lnTo>
                      <a:pt x="688" y="564"/>
                    </a:lnTo>
                    <a:lnTo>
                      <a:pt x="678" y="578"/>
                    </a:lnTo>
                    <a:lnTo>
                      <a:pt x="667" y="593"/>
                    </a:lnTo>
                    <a:lnTo>
                      <a:pt x="656" y="607"/>
                    </a:lnTo>
                    <a:lnTo>
                      <a:pt x="644" y="620"/>
                    </a:lnTo>
                    <a:lnTo>
                      <a:pt x="632" y="634"/>
                    </a:lnTo>
                    <a:lnTo>
                      <a:pt x="619" y="646"/>
                    </a:lnTo>
                    <a:lnTo>
                      <a:pt x="606" y="658"/>
                    </a:lnTo>
                    <a:lnTo>
                      <a:pt x="592" y="668"/>
                    </a:lnTo>
                    <a:lnTo>
                      <a:pt x="577" y="679"/>
                    </a:lnTo>
                    <a:lnTo>
                      <a:pt x="563" y="689"/>
                    </a:lnTo>
                    <a:lnTo>
                      <a:pt x="547" y="697"/>
                    </a:lnTo>
                    <a:lnTo>
                      <a:pt x="530" y="706"/>
                    </a:lnTo>
                    <a:lnTo>
                      <a:pt x="515" y="713"/>
                    </a:lnTo>
                    <a:lnTo>
                      <a:pt x="498" y="720"/>
                    </a:lnTo>
                    <a:lnTo>
                      <a:pt x="480" y="726"/>
                    </a:lnTo>
                    <a:lnTo>
                      <a:pt x="463" y="731"/>
                    </a:lnTo>
                    <a:lnTo>
                      <a:pt x="445" y="734"/>
                    </a:lnTo>
                    <a:lnTo>
                      <a:pt x="427" y="738"/>
                    </a:lnTo>
                    <a:lnTo>
                      <a:pt x="408" y="740"/>
                    </a:lnTo>
                    <a:lnTo>
                      <a:pt x="390" y="742"/>
                    </a:lnTo>
                    <a:lnTo>
                      <a:pt x="371" y="742"/>
                    </a:lnTo>
                    <a:lnTo>
                      <a:pt x="352" y="742"/>
                    </a:lnTo>
                    <a:lnTo>
                      <a:pt x="332" y="740"/>
                    </a:lnTo>
                    <a:lnTo>
                      <a:pt x="314" y="738"/>
                    </a:lnTo>
                    <a:lnTo>
                      <a:pt x="296" y="734"/>
                    </a:lnTo>
                    <a:lnTo>
                      <a:pt x="278" y="731"/>
                    </a:lnTo>
                    <a:lnTo>
                      <a:pt x="260" y="726"/>
                    </a:lnTo>
                    <a:lnTo>
                      <a:pt x="244" y="720"/>
                    </a:lnTo>
                    <a:lnTo>
                      <a:pt x="227" y="713"/>
                    </a:lnTo>
                    <a:lnTo>
                      <a:pt x="210" y="706"/>
                    </a:lnTo>
                    <a:lnTo>
                      <a:pt x="194" y="697"/>
                    </a:lnTo>
                    <a:lnTo>
                      <a:pt x="179" y="689"/>
                    </a:lnTo>
                    <a:lnTo>
                      <a:pt x="163" y="679"/>
                    </a:lnTo>
                    <a:lnTo>
                      <a:pt x="149" y="668"/>
                    </a:lnTo>
                    <a:lnTo>
                      <a:pt x="134" y="658"/>
                    </a:lnTo>
                    <a:lnTo>
                      <a:pt x="121" y="646"/>
                    </a:lnTo>
                    <a:lnTo>
                      <a:pt x="108" y="634"/>
                    </a:lnTo>
                    <a:lnTo>
                      <a:pt x="96" y="620"/>
                    </a:lnTo>
                    <a:lnTo>
                      <a:pt x="84" y="607"/>
                    </a:lnTo>
                    <a:lnTo>
                      <a:pt x="73" y="593"/>
                    </a:lnTo>
                    <a:lnTo>
                      <a:pt x="64" y="578"/>
                    </a:lnTo>
                    <a:lnTo>
                      <a:pt x="54" y="564"/>
                    </a:lnTo>
                    <a:lnTo>
                      <a:pt x="44" y="548"/>
                    </a:lnTo>
                    <a:lnTo>
                      <a:pt x="36" y="532"/>
                    </a:lnTo>
                    <a:lnTo>
                      <a:pt x="29" y="516"/>
                    </a:lnTo>
                    <a:lnTo>
                      <a:pt x="23" y="499"/>
                    </a:lnTo>
                    <a:lnTo>
                      <a:pt x="17" y="481"/>
                    </a:lnTo>
                    <a:lnTo>
                      <a:pt x="12" y="464"/>
                    </a:lnTo>
                    <a:lnTo>
                      <a:pt x="7" y="446"/>
                    </a:lnTo>
                    <a:lnTo>
                      <a:pt x="4" y="427"/>
                    </a:lnTo>
                    <a:lnTo>
                      <a:pt x="1" y="409"/>
                    </a:lnTo>
                    <a:lnTo>
                      <a:pt x="0" y="390"/>
                    </a:lnTo>
                    <a:lnTo>
                      <a:pt x="0" y="371"/>
                    </a:lnTo>
                    <a:lnTo>
                      <a:pt x="0" y="353"/>
                    </a:lnTo>
                    <a:lnTo>
                      <a:pt x="1" y="334"/>
                    </a:lnTo>
                    <a:lnTo>
                      <a:pt x="4" y="316"/>
                    </a:lnTo>
                    <a:lnTo>
                      <a:pt x="7" y="296"/>
                    </a:lnTo>
                    <a:lnTo>
                      <a:pt x="12" y="278"/>
                    </a:lnTo>
                    <a:lnTo>
                      <a:pt x="17" y="262"/>
                    </a:lnTo>
                    <a:lnTo>
                      <a:pt x="23" y="244"/>
                    </a:lnTo>
                    <a:lnTo>
                      <a:pt x="29" y="227"/>
                    </a:lnTo>
                    <a:lnTo>
                      <a:pt x="36" y="211"/>
                    </a:lnTo>
                    <a:lnTo>
                      <a:pt x="44" y="195"/>
                    </a:lnTo>
                    <a:lnTo>
                      <a:pt x="54" y="179"/>
                    </a:lnTo>
                    <a:lnTo>
                      <a:pt x="64" y="165"/>
                    </a:lnTo>
                    <a:lnTo>
                      <a:pt x="73" y="150"/>
                    </a:lnTo>
                    <a:lnTo>
                      <a:pt x="84" y="136"/>
                    </a:lnTo>
                    <a:lnTo>
                      <a:pt x="96" y="123"/>
                    </a:lnTo>
                    <a:lnTo>
                      <a:pt x="108" y="109"/>
                    </a:lnTo>
                    <a:lnTo>
                      <a:pt x="121" y="97"/>
                    </a:lnTo>
                    <a:lnTo>
                      <a:pt x="134" y="85"/>
                    </a:lnTo>
                    <a:lnTo>
                      <a:pt x="149" y="75"/>
                    </a:lnTo>
                    <a:lnTo>
                      <a:pt x="163" y="64"/>
                    </a:lnTo>
                    <a:lnTo>
                      <a:pt x="179" y="54"/>
                    </a:lnTo>
                    <a:lnTo>
                      <a:pt x="194" y="46"/>
                    </a:lnTo>
                    <a:lnTo>
                      <a:pt x="210" y="37"/>
                    </a:lnTo>
                    <a:lnTo>
                      <a:pt x="227" y="30"/>
                    </a:lnTo>
                    <a:lnTo>
                      <a:pt x="244" y="23"/>
                    </a:lnTo>
                    <a:lnTo>
                      <a:pt x="260" y="17"/>
                    </a:lnTo>
                    <a:lnTo>
                      <a:pt x="278" y="12"/>
                    </a:lnTo>
                    <a:lnTo>
                      <a:pt x="296" y="9"/>
                    </a:lnTo>
                    <a:lnTo>
                      <a:pt x="314" y="5"/>
                    </a:lnTo>
                    <a:lnTo>
                      <a:pt x="332" y="3"/>
                    </a:lnTo>
                    <a:lnTo>
                      <a:pt x="352" y="1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ec9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406840" y="5524560"/>
                <a:ext cx="292320" cy="291960"/>
              </a:xfrm>
              <a:custGeom>
                <a:avLst/>
                <a:gdLst/>
                <a:ahLst/>
                <a:rect l="l" t="t" r="r" b="b"/>
                <a:pathLst>
                  <a:path w="734" h="735">
                    <a:moveTo>
                      <a:pt x="367" y="0"/>
                    </a:moveTo>
                    <a:lnTo>
                      <a:pt x="386" y="0"/>
                    </a:lnTo>
                    <a:lnTo>
                      <a:pt x="404" y="2"/>
                    </a:lnTo>
                    <a:lnTo>
                      <a:pt x="423" y="4"/>
                    </a:lnTo>
                    <a:lnTo>
                      <a:pt x="441" y="8"/>
                    </a:lnTo>
                    <a:lnTo>
                      <a:pt x="458" y="11"/>
                    </a:lnTo>
                    <a:lnTo>
                      <a:pt x="476" y="17"/>
                    </a:lnTo>
                    <a:lnTo>
                      <a:pt x="493" y="22"/>
                    </a:lnTo>
                    <a:lnTo>
                      <a:pt x="510" y="29"/>
                    </a:lnTo>
                    <a:lnTo>
                      <a:pt x="526" y="36"/>
                    </a:lnTo>
                    <a:lnTo>
                      <a:pt x="542" y="45"/>
                    </a:lnTo>
                    <a:lnTo>
                      <a:pt x="558" y="53"/>
                    </a:lnTo>
                    <a:lnTo>
                      <a:pt x="572" y="63"/>
                    </a:lnTo>
                    <a:lnTo>
                      <a:pt x="586" y="74"/>
                    </a:lnTo>
                    <a:lnTo>
                      <a:pt x="601" y="84"/>
                    </a:lnTo>
                    <a:lnTo>
                      <a:pt x="614" y="95"/>
                    </a:lnTo>
                    <a:lnTo>
                      <a:pt x="626" y="108"/>
                    </a:lnTo>
                    <a:lnTo>
                      <a:pt x="638" y="120"/>
                    </a:lnTo>
                    <a:lnTo>
                      <a:pt x="650" y="134"/>
                    </a:lnTo>
                    <a:lnTo>
                      <a:pt x="661" y="148"/>
                    </a:lnTo>
                    <a:lnTo>
                      <a:pt x="672" y="162"/>
                    </a:lnTo>
                    <a:lnTo>
                      <a:pt x="681" y="177"/>
                    </a:lnTo>
                    <a:lnTo>
                      <a:pt x="690" y="192"/>
                    </a:lnTo>
                    <a:lnTo>
                      <a:pt x="698" y="208"/>
                    </a:lnTo>
                    <a:lnTo>
                      <a:pt x="705" y="225"/>
                    </a:lnTo>
                    <a:lnTo>
                      <a:pt x="711" y="241"/>
                    </a:lnTo>
                    <a:lnTo>
                      <a:pt x="717" y="258"/>
                    </a:lnTo>
                    <a:lnTo>
                      <a:pt x="722" y="275"/>
                    </a:lnTo>
                    <a:lnTo>
                      <a:pt x="727" y="293"/>
                    </a:lnTo>
                    <a:lnTo>
                      <a:pt x="729" y="311"/>
                    </a:lnTo>
                    <a:lnTo>
                      <a:pt x="732" y="329"/>
                    </a:lnTo>
                    <a:lnTo>
                      <a:pt x="734" y="348"/>
                    </a:lnTo>
                    <a:lnTo>
                      <a:pt x="734" y="367"/>
                    </a:lnTo>
                    <a:lnTo>
                      <a:pt x="734" y="385"/>
                    </a:lnTo>
                    <a:lnTo>
                      <a:pt x="732" y="405"/>
                    </a:lnTo>
                    <a:lnTo>
                      <a:pt x="729" y="423"/>
                    </a:lnTo>
                    <a:lnTo>
                      <a:pt x="727" y="441"/>
                    </a:lnTo>
                    <a:lnTo>
                      <a:pt x="722" y="459"/>
                    </a:lnTo>
                    <a:lnTo>
                      <a:pt x="717" y="475"/>
                    </a:lnTo>
                    <a:lnTo>
                      <a:pt x="711" y="493"/>
                    </a:lnTo>
                    <a:lnTo>
                      <a:pt x="705" y="510"/>
                    </a:lnTo>
                    <a:lnTo>
                      <a:pt x="698" y="526"/>
                    </a:lnTo>
                    <a:lnTo>
                      <a:pt x="690" y="541"/>
                    </a:lnTo>
                    <a:lnTo>
                      <a:pt x="681" y="557"/>
                    </a:lnTo>
                    <a:lnTo>
                      <a:pt x="672" y="571"/>
                    </a:lnTo>
                    <a:lnTo>
                      <a:pt x="661" y="586"/>
                    </a:lnTo>
                    <a:lnTo>
                      <a:pt x="650" y="600"/>
                    </a:lnTo>
                    <a:lnTo>
                      <a:pt x="638" y="613"/>
                    </a:lnTo>
                    <a:lnTo>
                      <a:pt x="626" y="627"/>
                    </a:lnTo>
                    <a:lnTo>
                      <a:pt x="614" y="639"/>
                    </a:lnTo>
                    <a:lnTo>
                      <a:pt x="601" y="651"/>
                    </a:lnTo>
                    <a:lnTo>
                      <a:pt x="586" y="661"/>
                    </a:lnTo>
                    <a:lnTo>
                      <a:pt x="572" y="671"/>
                    </a:lnTo>
                    <a:lnTo>
                      <a:pt x="558" y="681"/>
                    </a:lnTo>
                    <a:lnTo>
                      <a:pt x="542" y="690"/>
                    </a:lnTo>
                    <a:lnTo>
                      <a:pt x="526" y="697"/>
                    </a:lnTo>
                    <a:lnTo>
                      <a:pt x="510" y="705"/>
                    </a:lnTo>
                    <a:lnTo>
                      <a:pt x="493" y="712"/>
                    </a:lnTo>
                    <a:lnTo>
                      <a:pt x="476" y="718"/>
                    </a:lnTo>
                    <a:lnTo>
                      <a:pt x="458" y="723"/>
                    </a:lnTo>
                    <a:lnTo>
                      <a:pt x="441" y="726"/>
                    </a:lnTo>
                    <a:lnTo>
                      <a:pt x="423" y="730"/>
                    </a:lnTo>
                    <a:lnTo>
                      <a:pt x="404" y="732"/>
                    </a:lnTo>
                    <a:lnTo>
                      <a:pt x="386" y="733"/>
                    </a:lnTo>
                    <a:lnTo>
                      <a:pt x="367" y="735"/>
                    </a:lnTo>
                    <a:lnTo>
                      <a:pt x="348" y="733"/>
                    </a:lnTo>
                    <a:lnTo>
                      <a:pt x="330" y="732"/>
                    </a:lnTo>
                    <a:lnTo>
                      <a:pt x="312" y="730"/>
                    </a:lnTo>
                    <a:lnTo>
                      <a:pt x="294" y="726"/>
                    </a:lnTo>
                    <a:lnTo>
                      <a:pt x="276" y="723"/>
                    </a:lnTo>
                    <a:lnTo>
                      <a:pt x="258" y="718"/>
                    </a:lnTo>
                    <a:lnTo>
                      <a:pt x="241" y="712"/>
                    </a:lnTo>
                    <a:lnTo>
                      <a:pt x="224" y="705"/>
                    </a:lnTo>
                    <a:lnTo>
                      <a:pt x="208" y="697"/>
                    </a:lnTo>
                    <a:lnTo>
                      <a:pt x="193" y="690"/>
                    </a:lnTo>
                    <a:lnTo>
                      <a:pt x="177" y="681"/>
                    </a:lnTo>
                    <a:lnTo>
                      <a:pt x="162" y="671"/>
                    </a:lnTo>
                    <a:lnTo>
                      <a:pt x="147" y="661"/>
                    </a:lnTo>
                    <a:lnTo>
                      <a:pt x="134" y="651"/>
                    </a:lnTo>
                    <a:lnTo>
                      <a:pt x="121" y="639"/>
                    </a:lnTo>
                    <a:lnTo>
                      <a:pt x="108" y="627"/>
                    </a:lnTo>
                    <a:lnTo>
                      <a:pt x="96" y="613"/>
                    </a:lnTo>
                    <a:lnTo>
                      <a:pt x="84" y="600"/>
                    </a:lnTo>
                    <a:lnTo>
                      <a:pt x="73" y="586"/>
                    </a:lnTo>
                    <a:lnTo>
                      <a:pt x="63" y="571"/>
                    </a:lnTo>
                    <a:lnTo>
                      <a:pt x="54" y="557"/>
                    </a:lnTo>
                    <a:lnTo>
                      <a:pt x="44" y="541"/>
                    </a:lnTo>
                    <a:lnTo>
                      <a:pt x="36" y="526"/>
                    </a:lnTo>
                    <a:lnTo>
                      <a:pt x="28" y="510"/>
                    </a:lnTo>
                    <a:lnTo>
                      <a:pt x="22" y="493"/>
                    </a:lnTo>
                    <a:lnTo>
                      <a:pt x="16" y="475"/>
                    </a:lnTo>
                    <a:lnTo>
                      <a:pt x="12" y="459"/>
                    </a:lnTo>
                    <a:lnTo>
                      <a:pt x="8" y="441"/>
                    </a:lnTo>
                    <a:lnTo>
                      <a:pt x="4" y="423"/>
                    </a:lnTo>
                    <a:lnTo>
                      <a:pt x="2" y="405"/>
                    </a:lnTo>
                    <a:lnTo>
                      <a:pt x="1" y="385"/>
                    </a:lnTo>
                    <a:lnTo>
                      <a:pt x="0" y="367"/>
                    </a:lnTo>
                    <a:lnTo>
                      <a:pt x="1" y="348"/>
                    </a:lnTo>
                    <a:lnTo>
                      <a:pt x="2" y="329"/>
                    </a:lnTo>
                    <a:lnTo>
                      <a:pt x="4" y="311"/>
                    </a:lnTo>
                    <a:lnTo>
                      <a:pt x="8" y="293"/>
                    </a:lnTo>
                    <a:lnTo>
                      <a:pt x="12" y="275"/>
                    </a:lnTo>
                    <a:lnTo>
                      <a:pt x="16" y="258"/>
                    </a:lnTo>
                    <a:lnTo>
                      <a:pt x="22" y="241"/>
                    </a:lnTo>
                    <a:lnTo>
                      <a:pt x="28" y="225"/>
                    </a:lnTo>
                    <a:lnTo>
                      <a:pt x="36" y="208"/>
                    </a:lnTo>
                    <a:lnTo>
                      <a:pt x="44" y="192"/>
                    </a:lnTo>
                    <a:lnTo>
                      <a:pt x="54" y="177"/>
                    </a:lnTo>
                    <a:lnTo>
                      <a:pt x="63" y="162"/>
                    </a:lnTo>
                    <a:lnTo>
                      <a:pt x="73" y="148"/>
                    </a:lnTo>
                    <a:lnTo>
                      <a:pt x="84" y="134"/>
                    </a:lnTo>
                    <a:lnTo>
                      <a:pt x="96" y="120"/>
                    </a:lnTo>
                    <a:lnTo>
                      <a:pt x="108" y="108"/>
                    </a:lnTo>
                    <a:lnTo>
                      <a:pt x="121" y="95"/>
                    </a:lnTo>
                    <a:lnTo>
                      <a:pt x="134" y="84"/>
                    </a:lnTo>
                    <a:lnTo>
                      <a:pt x="147" y="74"/>
                    </a:lnTo>
                    <a:lnTo>
                      <a:pt x="162" y="63"/>
                    </a:lnTo>
                    <a:lnTo>
                      <a:pt x="177" y="53"/>
                    </a:lnTo>
                    <a:lnTo>
                      <a:pt x="193" y="45"/>
                    </a:lnTo>
                    <a:lnTo>
                      <a:pt x="208" y="36"/>
                    </a:lnTo>
                    <a:lnTo>
                      <a:pt x="224" y="29"/>
                    </a:lnTo>
                    <a:lnTo>
                      <a:pt x="241" y="22"/>
                    </a:lnTo>
                    <a:lnTo>
                      <a:pt x="258" y="17"/>
                    </a:lnTo>
                    <a:lnTo>
                      <a:pt x="276" y="11"/>
                    </a:lnTo>
                    <a:lnTo>
                      <a:pt x="294" y="8"/>
                    </a:lnTo>
                    <a:lnTo>
                      <a:pt x="312" y="4"/>
                    </a:lnTo>
                    <a:lnTo>
                      <a:pt x="330" y="2"/>
                    </a:lnTo>
                    <a:lnTo>
                      <a:pt x="348" y="0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f2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421240" y="5543640"/>
                <a:ext cx="258840" cy="258840"/>
              </a:xfrm>
              <a:custGeom>
                <a:avLst/>
                <a:gdLst/>
                <a:ahLst/>
                <a:rect l="l" t="t" r="r" b="b"/>
                <a:pathLst>
                  <a:path w="652" h="651">
                    <a:moveTo>
                      <a:pt x="325" y="0"/>
                    </a:moveTo>
                    <a:lnTo>
                      <a:pt x="342" y="1"/>
                    </a:lnTo>
                    <a:lnTo>
                      <a:pt x="359" y="2"/>
                    </a:lnTo>
                    <a:lnTo>
                      <a:pt x="375" y="3"/>
                    </a:lnTo>
                    <a:lnTo>
                      <a:pt x="391" y="7"/>
                    </a:lnTo>
                    <a:lnTo>
                      <a:pt x="407" y="10"/>
                    </a:lnTo>
                    <a:lnTo>
                      <a:pt x="423" y="15"/>
                    </a:lnTo>
                    <a:lnTo>
                      <a:pt x="437" y="20"/>
                    </a:lnTo>
                    <a:lnTo>
                      <a:pt x="453" y="26"/>
                    </a:lnTo>
                    <a:lnTo>
                      <a:pt x="467" y="32"/>
                    </a:lnTo>
                    <a:lnTo>
                      <a:pt x="480" y="39"/>
                    </a:lnTo>
                    <a:lnTo>
                      <a:pt x="495" y="48"/>
                    </a:lnTo>
                    <a:lnTo>
                      <a:pt x="508" y="56"/>
                    </a:lnTo>
                    <a:lnTo>
                      <a:pt x="520" y="64"/>
                    </a:lnTo>
                    <a:lnTo>
                      <a:pt x="533" y="74"/>
                    </a:lnTo>
                    <a:lnTo>
                      <a:pt x="544" y="85"/>
                    </a:lnTo>
                    <a:lnTo>
                      <a:pt x="556" y="96"/>
                    </a:lnTo>
                    <a:lnTo>
                      <a:pt x="567" y="106"/>
                    </a:lnTo>
                    <a:lnTo>
                      <a:pt x="576" y="118"/>
                    </a:lnTo>
                    <a:lnTo>
                      <a:pt x="586" y="130"/>
                    </a:lnTo>
                    <a:lnTo>
                      <a:pt x="595" y="144"/>
                    </a:lnTo>
                    <a:lnTo>
                      <a:pt x="604" y="157"/>
                    </a:lnTo>
                    <a:lnTo>
                      <a:pt x="612" y="171"/>
                    </a:lnTo>
                    <a:lnTo>
                      <a:pt x="619" y="184"/>
                    </a:lnTo>
                    <a:lnTo>
                      <a:pt x="625" y="199"/>
                    </a:lnTo>
                    <a:lnTo>
                      <a:pt x="631" y="214"/>
                    </a:lnTo>
                    <a:lnTo>
                      <a:pt x="636" y="229"/>
                    </a:lnTo>
                    <a:lnTo>
                      <a:pt x="641" y="244"/>
                    </a:lnTo>
                    <a:lnTo>
                      <a:pt x="645" y="260"/>
                    </a:lnTo>
                    <a:lnTo>
                      <a:pt x="647" y="275"/>
                    </a:lnTo>
                    <a:lnTo>
                      <a:pt x="649" y="292"/>
                    </a:lnTo>
                    <a:lnTo>
                      <a:pt x="651" y="309"/>
                    </a:lnTo>
                    <a:lnTo>
                      <a:pt x="652" y="326"/>
                    </a:lnTo>
                    <a:lnTo>
                      <a:pt x="651" y="343"/>
                    </a:lnTo>
                    <a:lnTo>
                      <a:pt x="649" y="358"/>
                    </a:lnTo>
                    <a:lnTo>
                      <a:pt x="647" y="375"/>
                    </a:lnTo>
                    <a:lnTo>
                      <a:pt x="645" y="391"/>
                    </a:lnTo>
                    <a:lnTo>
                      <a:pt x="641" y="406"/>
                    </a:lnTo>
                    <a:lnTo>
                      <a:pt x="636" y="422"/>
                    </a:lnTo>
                    <a:lnTo>
                      <a:pt x="631" y="437"/>
                    </a:lnTo>
                    <a:lnTo>
                      <a:pt x="625" y="452"/>
                    </a:lnTo>
                    <a:lnTo>
                      <a:pt x="619" y="466"/>
                    </a:lnTo>
                    <a:lnTo>
                      <a:pt x="612" y="481"/>
                    </a:lnTo>
                    <a:lnTo>
                      <a:pt x="604" y="494"/>
                    </a:lnTo>
                    <a:lnTo>
                      <a:pt x="595" y="507"/>
                    </a:lnTo>
                    <a:lnTo>
                      <a:pt x="586" y="520"/>
                    </a:lnTo>
                    <a:lnTo>
                      <a:pt x="576" y="532"/>
                    </a:lnTo>
                    <a:lnTo>
                      <a:pt x="567" y="544"/>
                    </a:lnTo>
                    <a:lnTo>
                      <a:pt x="556" y="555"/>
                    </a:lnTo>
                    <a:lnTo>
                      <a:pt x="544" y="566"/>
                    </a:lnTo>
                    <a:lnTo>
                      <a:pt x="533" y="577"/>
                    </a:lnTo>
                    <a:lnTo>
                      <a:pt x="520" y="586"/>
                    </a:lnTo>
                    <a:lnTo>
                      <a:pt x="508" y="596"/>
                    </a:lnTo>
                    <a:lnTo>
                      <a:pt x="495" y="604"/>
                    </a:lnTo>
                    <a:lnTo>
                      <a:pt x="480" y="611"/>
                    </a:lnTo>
                    <a:lnTo>
                      <a:pt x="467" y="619"/>
                    </a:lnTo>
                    <a:lnTo>
                      <a:pt x="453" y="626"/>
                    </a:lnTo>
                    <a:lnTo>
                      <a:pt x="437" y="632"/>
                    </a:lnTo>
                    <a:lnTo>
                      <a:pt x="423" y="637"/>
                    </a:lnTo>
                    <a:lnTo>
                      <a:pt x="407" y="641"/>
                    </a:lnTo>
                    <a:lnTo>
                      <a:pt x="391" y="645"/>
                    </a:lnTo>
                    <a:lnTo>
                      <a:pt x="375" y="647"/>
                    </a:lnTo>
                    <a:lnTo>
                      <a:pt x="359" y="650"/>
                    </a:lnTo>
                    <a:lnTo>
                      <a:pt x="342" y="651"/>
                    </a:lnTo>
                    <a:lnTo>
                      <a:pt x="325" y="651"/>
                    </a:lnTo>
                    <a:lnTo>
                      <a:pt x="309" y="651"/>
                    </a:lnTo>
                    <a:lnTo>
                      <a:pt x="292" y="650"/>
                    </a:lnTo>
                    <a:lnTo>
                      <a:pt x="276" y="647"/>
                    </a:lnTo>
                    <a:lnTo>
                      <a:pt x="259" y="645"/>
                    </a:lnTo>
                    <a:lnTo>
                      <a:pt x="244" y="641"/>
                    </a:lnTo>
                    <a:lnTo>
                      <a:pt x="229" y="637"/>
                    </a:lnTo>
                    <a:lnTo>
                      <a:pt x="214" y="632"/>
                    </a:lnTo>
                    <a:lnTo>
                      <a:pt x="199" y="626"/>
                    </a:lnTo>
                    <a:lnTo>
                      <a:pt x="185" y="619"/>
                    </a:lnTo>
                    <a:lnTo>
                      <a:pt x="171" y="611"/>
                    </a:lnTo>
                    <a:lnTo>
                      <a:pt x="157" y="604"/>
                    </a:lnTo>
                    <a:lnTo>
                      <a:pt x="143" y="596"/>
                    </a:lnTo>
                    <a:lnTo>
                      <a:pt x="131" y="586"/>
                    </a:lnTo>
                    <a:lnTo>
                      <a:pt x="119" y="577"/>
                    </a:lnTo>
                    <a:lnTo>
                      <a:pt x="107" y="566"/>
                    </a:lnTo>
                    <a:lnTo>
                      <a:pt x="95" y="555"/>
                    </a:lnTo>
                    <a:lnTo>
                      <a:pt x="84" y="544"/>
                    </a:lnTo>
                    <a:lnTo>
                      <a:pt x="75" y="532"/>
                    </a:lnTo>
                    <a:lnTo>
                      <a:pt x="65" y="520"/>
                    </a:lnTo>
                    <a:lnTo>
                      <a:pt x="55" y="507"/>
                    </a:lnTo>
                    <a:lnTo>
                      <a:pt x="47" y="494"/>
                    </a:lnTo>
                    <a:lnTo>
                      <a:pt x="39" y="481"/>
                    </a:lnTo>
                    <a:lnTo>
                      <a:pt x="31" y="466"/>
                    </a:lnTo>
                    <a:lnTo>
                      <a:pt x="25" y="452"/>
                    </a:lnTo>
                    <a:lnTo>
                      <a:pt x="19" y="437"/>
                    </a:lnTo>
                    <a:lnTo>
                      <a:pt x="15" y="422"/>
                    </a:lnTo>
                    <a:lnTo>
                      <a:pt x="10" y="406"/>
                    </a:lnTo>
                    <a:lnTo>
                      <a:pt x="6" y="391"/>
                    </a:lnTo>
                    <a:lnTo>
                      <a:pt x="4" y="375"/>
                    </a:lnTo>
                    <a:lnTo>
                      <a:pt x="1" y="358"/>
                    </a:lnTo>
                    <a:lnTo>
                      <a:pt x="0" y="343"/>
                    </a:lnTo>
                    <a:lnTo>
                      <a:pt x="0" y="326"/>
                    </a:lnTo>
                    <a:lnTo>
                      <a:pt x="0" y="309"/>
                    </a:lnTo>
                    <a:lnTo>
                      <a:pt x="1" y="292"/>
                    </a:lnTo>
                    <a:lnTo>
                      <a:pt x="4" y="275"/>
                    </a:lnTo>
                    <a:lnTo>
                      <a:pt x="6" y="260"/>
                    </a:lnTo>
                    <a:lnTo>
                      <a:pt x="10" y="244"/>
                    </a:lnTo>
                    <a:lnTo>
                      <a:pt x="15" y="229"/>
                    </a:lnTo>
                    <a:lnTo>
                      <a:pt x="19" y="214"/>
                    </a:lnTo>
                    <a:lnTo>
                      <a:pt x="25" y="199"/>
                    </a:lnTo>
                    <a:lnTo>
                      <a:pt x="31" y="184"/>
                    </a:lnTo>
                    <a:lnTo>
                      <a:pt x="39" y="171"/>
                    </a:lnTo>
                    <a:lnTo>
                      <a:pt x="47" y="157"/>
                    </a:lnTo>
                    <a:lnTo>
                      <a:pt x="55" y="144"/>
                    </a:lnTo>
                    <a:lnTo>
                      <a:pt x="65" y="130"/>
                    </a:lnTo>
                    <a:lnTo>
                      <a:pt x="75" y="118"/>
                    </a:lnTo>
                    <a:lnTo>
                      <a:pt x="84" y="106"/>
                    </a:lnTo>
                    <a:lnTo>
                      <a:pt x="95" y="96"/>
                    </a:lnTo>
                    <a:lnTo>
                      <a:pt x="107" y="85"/>
                    </a:lnTo>
                    <a:lnTo>
                      <a:pt x="119" y="74"/>
                    </a:lnTo>
                    <a:lnTo>
                      <a:pt x="131" y="64"/>
                    </a:lnTo>
                    <a:lnTo>
                      <a:pt x="143" y="56"/>
                    </a:lnTo>
                    <a:lnTo>
                      <a:pt x="157" y="48"/>
                    </a:lnTo>
                    <a:lnTo>
                      <a:pt x="171" y="39"/>
                    </a:lnTo>
                    <a:lnTo>
                      <a:pt x="185" y="32"/>
                    </a:lnTo>
                    <a:lnTo>
                      <a:pt x="199" y="26"/>
                    </a:lnTo>
                    <a:lnTo>
                      <a:pt x="214" y="20"/>
                    </a:lnTo>
                    <a:lnTo>
                      <a:pt x="229" y="15"/>
                    </a:lnTo>
                    <a:lnTo>
                      <a:pt x="244" y="10"/>
                    </a:lnTo>
                    <a:lnTo>
                      <a:pt x="259" y="7"/>
                    </a:lnTo>
                    <a:lnTo>
                      <a:pt x="276" y="3"/>
                    </a:lnTo>
                    <a:lnTo>
                      <a:pt x="292" y="2"/>
                    </a:lnTo>
                    <a:lnTo>
                      <a:pt x="309" y="1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26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549760" y="5537160"/>
                <a:ext cx="136440" cy="136440"/>
              </a:xfrm>
              <a:custGeom>
                <a:avLst/>
                <a:gdLst/>
                <a:ahLst/>
                <a:rect l="l" t="t" r="r" b="b"/>
                <a:pathLst>
                  <a:path w="344" h="343">
                    <a:moveTo>
                      <a:pt x="344" y="343"/>
                    </a:moveTo>
                    <a:lnTo>
                      <a:pt x="344" y="343"/>
                    </a:lnTo>
                    <a:lnTo>
                      <a:pt x="344" y="325"/>
                    </a:lnTo>
                    <a:lnTo>
                      <a:pt x="341" y="308"/>
                    </a:lnTo>
                    <a:lnTo>
                      <a:pt x="340" y="290"/>
                    </a:lnTo>
                    <a:lnTo>
                      <a:pt x="336" y="273"/>
                    </a:lnTo>
                    <a:lnTo>
                      <a:pt x="333" y="256"/>
                    </a:lnTo>
                    <a:lnTo>
                      <a:pt x="328" y="241"/>
                    </a:lnTo>
                    <a:lnTo>
                      <a:pt x="323" y="225"/>
                    </a:lnTo>
                    <a:lnTo>
                      <a:pt x="316" y="210"/>
                    </a:lnTo>
                    <a:lnTo>
                      <a:pt x="310" y="194"/>
                    </a:lnTo>
                    <a:lnTo>
                      <a:pt x="302" y="180"/>
                    </a:lnTo>
                    <a:lnTo>
                      <a:pt x="293" y="165"/>
                    </a:lnTo>
                    <a:lnTo>
                      <a:pt x="285" y="151"/>
                    </a:lnTo>
                    <a:lnTo>
                      <a:pt x="275" y="138"/>
                    </a:lnTo>
                    <a:lnTo>
                      <a:pt x="266" y="125"/>
                    </a:lnTo>
                    <a:lnTo>
                      <a:pt x="255" y="113"/>
                    </a:lnTo>
                    <a:lnTo>
                      <a:pt x="243" y="101"/>
                    </a:lnTo>
                    <a:lnTo>
                      <a:pt x="231" y="89"/>
                    </a:lnTo>
                    <a:lnTo>
                      <a:pt x="219" y="78"/>
                    </a:lnTo>
                    <a:lnTo>
                      <a:pt x="206" y="68"/>
                    </a:lnTo>
                    <a:lnTo>
                      <a:pt x="192" y="59"/>
                    </a:lnTo>
                    <a:lnTo>
                      <a:pt x="178" y="49"/>
                    </a:lnTo>
                    <a:lnTo>
                      <a:pt x="164" y="41"/>
                    </a:lnTo>
                    <a:lnTo>
                      <a:pt x="149" y="33"/>
                    </a:lnTo>
                    <a:lnTo>
                      <a:pt x="134" y="26"/>
                    </a:lnTo>
                    <a:lnTo>
                      <a:pt x="118" y="20"/>
                    </a:lnTo>
                    <a:lnTo>
                      <a:pt x="102" y="15"/>
                    </a:lnTo>
                    <a:lnTo>
                      <a:pt x="86" y="11"/>
                    </a:lnTo>
                    <a:lnTo>
                      <a:pt x="70" y="7"/>
                    </a:lnTo>
                    <a:lnTo>
                      <a:pt x="52" y="3"/>
                    </a:lnTo>
                    <a:lnTo>
                      <a:pt x="35" y="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6" y="35"/>
                    </a:lnTo>
                    <a:lnTo>
                      <a:pt x="32" y="36"/>
                    </a:lnTo>
                    <a:lnTo>
                      <a:pt x="47" y="38"/>
                    </a:lnTo>
                    <a:lnTo>
                      <a:pt x="63" y="41"/>
                    </a:lnTo>
                    <a:lnTo>
                      <a:pt x="77" y="44"/>
                    </a:lnTo>
                    <a:lnTo>
                      <a:pt x="92" y="48"/>
                    </a:lnTo>
                    <a:lnTo>
                      <a:pt x="106" y="53"/>
                    </a:lnTo>
                    <a:lnTo>
                      <a:pt x="120" y="59"/>
                    </a:lnTo>
                    <a:lnTo>
                      <a:pt x="134" y="65"/>
                    </a:lnTo>
                    <a:lnTo>
                      <a:pt x="147" y="72"/>
                    </a:lnTo>
                    <a:lnTo>
                      <a:pt x="160" y="79"/>
                    </a:lnTo>
                    <a:lnTo>
                      <a:pt x="173" y="87"/>
                    </a:lnTo>
                    <a:lnTo>
                      <a:pt x="185" y="96"/>
                    </a:lnTo>
                    <a:lnTo>
                      <a:pt x="196" y="105"/>
                    </a:lnTo>
                    <a:lnTo>
                      <a:pt x="208" y="115"/>
                    </a:lnTo>
                    <a:lnTo>
                      <a:pt x="219" y="125"/>
                    </a:lnTo>
                    <a:lnTo>
                      <a:pt x="228" y="135"/>
                    </a:lnTo>
                    <a:lnTo>
                      <a:pt x="238" y="146"/>
                    </a:lnTo>
                    <a:lnTo>
                      <a:pt x="248" y="158"/>
                    </a:lnTo>
                    <a:lnTo>
                      <a:pt x="256" y="170"/>
                    </a:lnTo>
                    <a:lnTo>
                      <a:pt x="264" y="183"/>
                    </a:lnTo>
                    <a:lnTo>
                      <a:pt x="272" y="195"/>
                    </a:lnTo>
                    <a:lnTo>
                      <a:pt x="279" y="210"/>
                    </a:lnTo>
                    <a:lnTo>
                      <a:pt x="285" y="223"/>
                    </a:lnTo>
                    <a:lnTo>
                      <a:pt x="290" y="237"/>
                    </a:lnTo>
                    <a:lnTo>
                      <a:pt x="294" y="250"/>
                    </a:lnTo>
                    <a:lnTo>
                      <a:pt x="299" y="266"/>
                    </a:lnTo>
                    <a:lnTo>
                      <a:pt x="303" y="280"/>
                    </a:lnTo>
                    <a:lnTo>
                      <a:pt x="305" y="296"/>
                    </a:lnTo>
                    <a:lnTo>
                      <a:pt x="308" y="310"/>
                    </a:lnTo>
                    <a:lnTo>
                      <a:pt x="309" y="327"/>
                    </a:lnTo>
                    <a:lnTo>
                      <a:pt x="309" y="343"/>
                    </a:lnTo>
                    <a:lnTo>
                      <a:pt x="309" y="343"/>
                    </a:lnTo>
                    <a:lnTo>
                      <a:pt x="344" y="34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549760" y="5673600"/>
                <a:ext cx="136440" cy="136800"/>
              </a:xfrm>
              <a:custGeom>
                <a:avLst/>
                <a:gdLst/>
                <a:ahLst/>
                <a:rect l="l" t="t" r="r" b="b"/>
                <a:pathLst>
                  <a:path w="344" h="343">
                    <a:moveTo>
                      <a:pt x="0" y="343"/>
                    </a:moveTo>
                    <a:lnTo>
                      <a:pt x="0" y="343"/>
                    </a:lnTo>
                    <a:lnTo>
                      <a:pt x="18" y="342"/>
                    </a:lnTo>
                    <a:lnTo>
                      <a:pt x="35" y="341"/>
                    </a:lnTo>
                    <a:lnTo>
                      <a:pt x="52" y="338"/>
                    </a:lnTo>
                    <a:lnTo>
                      <a:pt x="70" y="336"/>
                    </a:lnTo>
                    <a:lnTo>
                      <a:pt x="86" y="332"/>
                    </a:lnTo>
                    <a:lnTo>
                      <a:pt x="102" y="327"/>
                    </a:lnTo>
                    <a:lnTo>
                      <a:pt x="118" y="321"/>
                    </a:lnTo>
                    <a:lnTo>
                      <a:pt x="134" y="315"/>
                    </a:lnTo>
                    <a:lnTo>
                      <a:pt x="149" y="308"/>
                    </a:lnTo>
                    <a:lnTo>
                      <a:pt x="164" y="301"/>
                    </a:lnTo>
                    <a:lnTo>
                      <a:pt x="178" y="293"/>
                    </a:lnTo>
                    <a:lnTo>
                      <a:pt x="192" y="284"/>
                    </a:lnTo>
                    <a:lnTo>
                      <a:pt x="206" y="275"/>
                    </a:lnTo>
                    <a:lnTo>
                      <a:pt x="219" y="264"/>
                    </a:lnTo>
                    <a:lnTo>
                      <a:pt x="231" y="253"/>
                    </a:lnTo>
                    <a:lnTo>
                      <a:pt x="243" y="242"/>
                    </a:lnTo>
                    <a:lnTo>
                      <a:pt x="255" y="230"/>
                    </a:lnTo>
                    <a:lnTo>
                      <a:pt x="266" y="217"/>
                    </a:lnTo>
                    <a:lnTo>
                      <a:pt x="275" y="205"/>
                    </a:lnTo>
                    <a:lnTo>
                      <a:pt x="285" y="191"/>
                    </a:lnTo>
                    <a:lnTo>
                      <a:pt x="293" y="177"/>
                    </a:lnTo>
                    <a:lnTo>
                      <a:pt x="302" y="163"/>
                    </a:lnTo>
                    <a:lnTo>
                      <a:pt x="310" y="147"/>
                    </a:lnTo>
                    <a:lnTo>
                      <a:pt x="316" y="133"/>
                    </a:lnTo>
                    <a:lnTo>
                      <a:pt x="323" y="117"/>
                    </a:lnTo>
                    <a:lnTo>
                      <a:pt x="328" y="102"/>
                    </a:lnTo>
                    <a:lnTo>
                      <a:pt x="333" y="85"/>
                    </a:lnTo>
                    <a:lnTo>
                      <a:pt x="336" y="68"/>
                    </a:lnTo>
                    <a:lnTo>
                      <a:pt x="340" y="51"/>
                    </a:lnTo>
                    <a:lnTo>
                      <a:pt x="341" y="35"/>
                    </a:lnTo>
                    <a:lnTo>
                      <a:pt x="344" y="17"/>
                    </a:lnTo>
                    <a:lnTo>
                      <a:pt x="344" y="0"/>
                    </a:lnTo>
                    <a:lnTo>
                      <a:pt x="309" y="0"/>
                    </a:lnTo>
                    <a:lnTo>
                      <a:pt x="309" y="15"/>
                    </a:lnTo>
                    <a:lnTo>
                      <a:pt x="308" y="31"/>
                    </a:lnTo>
                    <a:lnTo>
                      <a:pt x="305" y="47"/>
                    </a:lnTo>
                    <a:lnTo>
                      <a:pt x="303" y="61"/>
                    </a:lnTo>
                    <a:lnTo>
                      <a:pt x="299" y="77"/>
                    </a:lnTo>
                    <a:lnTo>
                      <a:pt x="294" y="91"/>
                    </a:lnTo>
                    <a:lnTo>
                      <a:pt x="290" y="105"/>
                    </a:lnTo>
                    <a:lnTo>
                      <a:pt x="285" y="120"/>
                    </a:lnTo>
                    <a:lnTo>
                      <a:pt x="279" y="133"/>
                    </a:lnTo>
                    <a:lnTo>
                      <a:pt x="272" y="146"/>
                    </a:lnTo>
                    <a:lnTo>
                      <a:pt x="264" y="159"/>
                    </a:lnTo>
                    <a:lnTo>
                      <a:pt x="256" y="171"/>
                    </a:lnTo>
                    <a:lnTo>
                      <a:pt x="248" y="183"/>
                    </a:lnTo>
                    <a:lnTo>
                      <a:pt x="238" y="195"/>
                    </a:lnTo>
                    <a:lnTo>
                      <a:pt x="228" y="206"/>
                    </a:lnTo>
                    <a:lnTo>
                      <a:pt x="219" y="217"/>
                    </a:lnTo>
                    <a:lnTo>
                      <a:pt x="208" y="228"/>
                    </a:lnTo>
                    <a:lnTo>
                      <a:pt x="196" y="237"/>
                    </a:lnTo>
                    <a:lnTo>
                      <a:pt x="185" y="247"/>
                    </a:lnTo>
                    <a:lnTo>
                      <a:pt x="173" y="255"/>
                    </a:lnTo>
                    <a:lnTo>
                      <a:pt x="160" y="263"/>
                    </a:lnTo>
                    <a:lnTo>
                      <a:pt x="147" y="271"/>
                    </a:lnTo>
                    <a:lnTo>
                      <a:pt x="134" y="277"/>
                    </a:lnTo>
                    <a:lnTo>
                      <a:pt x="120" y="283"/>
                    </a:lnTo>
                    <a:lnTo>
                      <a:pt x="106" y="289"/>
                    </a:lnTo>
                    <a:lnTo>
                      <a:pt x="92" y="294"/>
                    </a:lnTo>
                    <a:lnTo>
                      <a:pt x="77" y="299"/>
                    </a:lnTo>
                    <a:lnTo>
                      <a:pt x="63" y="301"/>
                    </a:lnTo>
                    <a:lnTo>
                      <a:pt x="47" y="305"/>
                    </a:lnTo>
                    <a:lnTo>
                      <a:pt x="32" y="306"/>
                    </a:lnTo>
                    <a:lnTo>
                      <a:pt x="16" y="307"/>
                    </a:lnTo>
                    <a:lnTo>
                      <a:pt x="0" y="308"/>
                    </a:lnTo>
                    <a:lnTo>
                      <a:pt x="0" y="308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413320" y="5673600"/>
                <a:ext cx="136440" cy="136800"/>
              </a:xfrm>
              <a:custGeom>
                <a:avLst/>
                <a:gdLst/>
                <a:ahLst/>
                <a:rect l="l" t="t" r="r" b="b"/>
                <a:pathLst>
                  <a:path w="343" h="343">
                    <a:moveTo>
                      <a:pt x="0" y="0"/>
                    </a:moveTo>
                    <a:lnTo>
                      <a:pt x="0" y="0"/>
                    </a:lnTo>
                    <a:lnTo>
                      <a:pt x="1" y="17"/>
                    </a:lnTo>
                    <a:lnTo>
                      <a:pt x="3" y="35"/>
                    </a:lnTo>
                    <a:lnTo>
                      <a:pt x="4" y="51"/>
                    </a:lnTo>
                    <a:lnTo>
                      <a:pt x="7" y="68"/>
                    </a:lnTo>
                    <a:lnTo>
                      <a:pt x="11" y="85"/>
                    </a:lnTo>
                    <a:lnTo>
                      <a:pt x="16" y="102"/>
                    </a:lnTo>
                    <a:lnTo>
                      <a:pt x="22" y="117"/>
                    </a:lnTo>
                    <a:lnTo>
                      <a:pt x="28" y="133"/>
                    </a:lnTo>
                    <a:lnTo>
                      <a:pt x="34" y="147"/>
                    </a:lnTo>
                    <a:lnTo>
                      <a:pt x="42" y="163"/>
                    </a:lnTo>
                    <a:lnTo>
                      <a:pt x="51" y="177"/>
                    </a:lnTo>
                    <a:lnTo>
                      <a:pt x="59" y="191"/>
                    </a:lnTo>
                    <a:lnTo>
                      <a:pt x="69" y="205"/>
                    </a:lnTo>
                    <a:lnTo>
                      <a:pt x="79" y="217"/>
                    </a:lnTo>
                    <a:lnTo>
                      <a:pt x="90" y="230"/>
                    </a:lnTo>
                    <a:lnTo>
                      <a:pt x="101" y="242"/>
                    </a:lnTo>
                    <a:lnTo>
                      <a:pt x="113" y="253"/>
                    </a:lnTo>
                    <a:lnTo>
                      <a:pt x="125" y="264"/>
                    </a:lnTo>
                    <a:lnTo>
                      <a:pt x="138" y="275"/>
                    </a:lnTo>
                    <a:lnTo>
                      <a:pt x="151" y="284"/>
                    </a:lnTo>
                    <a:lnTo>
                      <a:pt x="166" y="293"/>
                    </a:lnTo>
                    <a:lnTo>
                      <a:pt x="180" y="301"/>
                    </a:lnTo>
                    <a:lnTo>
                      <a:pt x="195" y="308"/>
                    </a:lnTo>
                    <a:lnTo>
                      <a:pt x="210" y="315"/>
                    </a:lnTo>
                    <a:lnTo>
                      <a:pt x="226" y="321"/>
                    </a:lnTo>
                    <a:lnTo>
                      <a:pt x="241" y="327"/>
                    </a:lnTo>
                    <a:lnTo>
                      <a:pt x="258" y="332"/>
                    </a:lnTo>
                    <a:lnTo>
                      <a:pt x="275" y="336"/>
                    </a:lnTo>
                    <a:lnTo>
                      <a:pt x="292" y="338"/>
                    </a:lnTo>
                    <a:lnTo>
                      <a:pt x="309" y="341"/>
                    </a:lnTo>
                    <a:lnTo>
                      <a:pt x="325" y="342"/>
                    </a:lnTo>
                    <a:lnTo>
                      <a:pt x="343" y="343"/>
                    </a:lnTo>
                    <a:lnTo>
                      <a:pt x="343" y="308"/>
                    </a:lnTo>
                    <a:lnTo>
                      <a:pt x="328" y="307"/>
                    </a:lnTo>
                    <a:lnTo>
                      <a:pt x="312" y="306"/>
                    </a:lnTo>
                    <a:lnTo>
                      <a:pt x="297" y="305"/>
                    </a:lnTo>
                    <a:lnTo>
                      <a:pt x="281" y="301"/>
                    </a:lnTo>
                    <a:lnTo>
                      <a:pt x="267" y="299"/>
                    </a:lnTo>
                    <a:lnTo>
                      <a:pt x="252" y="294"/>
                    </a:lnTo>
                    <a:lnTo>
                      <a:pt x="238" y="289"/>
                    </a:lnTo>
                    <a:lnTo>
                      <a:pt x="223" y="283"/>
                    </a:lnTo>
                    <a:lnTo>
                      <a:pt x="210" y="277"/>
                    </a:lnTo>
                    <a:lnTo>
                      <a:pt x="197" y="271"/>
                    </a:lnTo>
                    <a:lnTo>
                      <a:pt x="184" y="263"/>
                    </a:lnTo>
                    <a:lnTo>
                      <a:pt x="172" y="255"/>
                    </a:lnTo>
                    <a:lnTo>
                      <a:pt x="159" y="247"/>
                    </a:lnTo>
                    <a:lnTo>
                      <a:pt x="148" y="237"/>
                    </a:lnTo>
                    <a:lnTo>
                      <a:pt x="136" y="228"/>
                    </a:lnTo>
                    <a:lnTo>
                      <a:pt x="126" y="217"/>
                    </a:lnTo>
                    <a:lnTo>
                      <a:pt x="115" y="206"/>
                    </a:lnTo>
                    <a:lnTo>
                      <a:pt x="106" y="195"/>
                    </a:lnTo>
                    <a:lnTo>
                      <a:pt x="96" y="183"/>
                    </a:lnTo>
                    <a:lnTo>
                      <a:pt x="88" y="171"/>
                    </a:lnTo>
                    <a:lnTo>
                      <a:pt x="79" y="159"/>
                    </a:lnTo>
                    <a:lnTo>
                      <a:pt x="72" y="146"/>
                    </a:lnTo>
                    <a:lnTo>
                      <a:pt x="65" y="133"/>
                    </a:lnTo>
                    <a:lnTo>
                      <a:pt x="59" y="120"/>
                    </a:lnTo>
                    <a:lnTo>
                      <a:pt x="54" y="105"/>
                    </a:lnTo>
                    <a:lnTo>
                      <a:pt x="49" y="91"/>
                    </a:lnTo>
                    <a:lnTo>
                      <a:pt x="45" y="77"/>
                    </a:lnTo>
                    <a:lnTo>
                      <a:pt x="41" y="61"/>
                    </a:lnTo>
                    <a:lnTo>
                      <a:pt x="39" y="47"/>
                    </a:lnTo>
                    <a:lnTo>
                      <a:pt x="36" y="31"/>
                    </a:lnTo>
                    <a:lnTo>
                      <a:pt x="35" y="15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413320" y="5537160"/>
                <a:ext cx="136440" cy="136440"/>
              </a:xfrm>
              <a:custGeom>
                <a:avLst/>
                <a:gdLst/>
                <a:ahLst/>
                <a:rect l="l" t="t" r="r" b="b"/>
                <a:pathLst>
                  <a:path w="343" h="343">
                    <a:moveTo>
                      <a:pt x="343" y="0"/>
                    </a:moveTo>
                    <a:lnTo>
                      <a:pt x="343" y="0"/>
                    </a:lnTo>
                    <a:lnTo>
                      <a:pt x="325" y="0"/>
                    </a:lnTo>
                    <a:lnTo>
                      <a:pt x="309" y="1"/>
                    </a:lnTo>
                    <a:lnTo>
                      <a:pt x="292" y="3"/>
                    </a:lnTo>
                    <a:lnTo>
                      <a:pt x="275" y="7"/>
                    </a:lnTo>
                    <a:lnTo>
                      <a:pt x="258" y="11"/>
                    </a:lnTo>
                    <a:lnTo>
                      <a:pt x="241" y="15"/>
                    </a:lnTo>
                    <a:lnTo>
                      <a:pt x="226" y="20"/>
                    </a:lnTo>
                    <a:lnTo>
                      <a:pt x="210" y="26"/>
                    </a:lnTo>
                    <a:lnTo>
                      <a:pt x="195" y="33"/>
                    </a:lnTo>
                    <a:lnTo>
                      <a:pt x="180" y="41"/>
                    </a:lnTo>
                    <a:lnTo>
                      <a:pt x="166" y="49"/>
                    </a:lnTo>
                    <a:lnTo>
                      <a:pt x="151" y="59"/>
                    </a:lnTo>
                    <a:lnTo>
                      <a:pt x="138" y="68"/>
                    </a:lnTo>
                    <a:lnTo>
                      <a:pt x="125" y="78"/>
                    </a:lnTo>
                    <a:lnTo>
                      <a:pt x="113" y="89"/>
                    </a:lnTo>
                    <a:lnTo>
                      <a:pt x="101" y="101"/>
                    </a:lnTo>
                    <a:lnTo>
                      <a:pt x="90" y="113"/>
                    </a:lnTo>
                    <a:lnTo>
                      <a:pt x="79" y="125"/>
                    </a:lnTo>
                    <a:lnTo>
                      <a:pt x="69" y="138"/>
                    </a:lnTo>
                    <a:lnTo>
                      <a:pt x="59" y="151"/>
                    </a:lnTo>
                    <a:lnTo>
                      <a:pt x="51" y="165"/>
                    </a:lnTo>
                    <a:lnTo>
                      <a:pt x="42" y="180"/>
                    </a:lnTo>
                    <a:lnTo>
                      <a:pt x="34" y="194"/>
                    </a:lnTo>
                    <a:lnTo>
                      <a:pt x="28" y="210"/>
                    </a:lnTo>
                    <a:lnTo>
                      <a:pt x="22" y="225"/>
                    </a:lnTo>
                    <a:lnTo>
                      <a:pt x="16" y="241"/>
                    </a:lnTo>
                    <a:lnTo>
                      <a:pt x="11" y="256"/>
                    </a:lnTo>
                    <a:lnTo>
                      <a:pt x="7" y="273"/>
                    </a:lnTo>
                    <a:lnTo>
                      <a:pt x="4" y="290"/>
                    </a:lnTo>
                    <a:lnTo>
                      <a:pt x="3" y="308"/>
                    </a:lnTo>
                    <a:lnTo>
                      <a:pt x="1" y="325"/>
                    </a:lnTo>
                    <a:lnTo>
                      <a:pt x="0" y="343"/>
                    </a:lnTo>
                    <a:lnTo>
                      <a:pt x="35" y="343"/>
                    </a:lnTo>
                    <a:lnTo>
                      <a:pt x="35" y="326"/>
                    </a:lnTo>
                    <a:lnTo>
                      <a:pt x="36" y="310"/>
                    </a:lnTo>
                    <a:lnTo>
                      <a:pt x="39" y="296"/>
                    </a:lnTo>
                    <a:lnTo>
                      <a:pt x="41" y="280"/>
                    </a:lnTo>
                    <a:lnTo>
                      <a:pt x="45" y="266"/>
                    </a:lnTo>
                    <a:lnTo>
                      <a:pt x="49" y="250"/>
                    </a:lnTo>
                    <a:lnTo>
                      <a:pt x="54" y="237"/>
                    </a:lnTo>
                    <a:lnTo>
                      <a:pt x="59" y="223"/>
                    </a:lnTo>
                    <a:lnTo>
                      <a:pt x="65" y="210"/>
                    </a:lnTo>
                    <a:lnTo>
                      <a:pt x="72" y="195"/>
                    </a:lnTo>
                    <a:lnTo>
                      <a:pt x="79" y="183"/>
                    </a:lnTo>
                    <a:lnTo>
                      <a:pt x="88" y="170"/>
                    </a:lnTo>
                    <a:lnTo>
                      <a:pt x="96" y="158"/>
                    </a:lnTo>
                    <a:lnTo>
                      <a:pt x="106" y="146"/>
                    </a:lnTo>
                    <a:lnTo>
                      <a:pt x="115" y="135"/>
                    </a:lnTo>
                    <a:lnTo>
                      <a:pt x="126" y="125"/>
                    </a:lnTo>
                    <a:lnTo>
                      <a:pt x="136" y="115"/>
                    </a:lnTo>
                    <a:lnTo>
                      <a:pt x="148" y="105"/>
                    </a:lnTo>
                    <a:lnTo>
                      <a:pt x="159" y="96"/>
                    </a:lnTo>
                    <a:lnTo>
                      <a:pt x="172" y="87"/>
                    </a:lnTo>
                    <a:lnTo>
                      <a:pt x="184" y="79"/>
                    </a:lnTo>
                    <a:lnTo>
                      <a:pt x="197" y="72"/>
                    </a:lnTo>
                    <a:lnTo>
                      <a:pt x="210" y="65"/>
                    </a:lnTo>
                    <a:lnTo>
                      <a:pt x="223" y="59"/>
                    </a:lnTo>
                    <a:lnTo>
                      <a:pt x="238" y="53"/>
                    </a:lnTo>
                    <a:lnTo>
                      <a:pt x="252" y="48"/>
                    </a:lnTo>
                    <a:lnTo>
                      <a:pt x="267" y="44"/>
                    </a:lnTo>
                    <a:lnTo>
                      <a:pt x="281" y="41"/>
                    </a:lnTo>
                    <a:lnTo>
                      <a:pt x="297" y="38"/>
                    </a:lnTo>
                    <a:lnTo>
                      <a:pt x="312" y="36"/>
                    </a:lnTo>
                    <a:lnTo>
                      <a:pt x="328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482920" y="4471920"/>
                <a:ext cx="323640" cy="324000"/>
              </a:xfrm>
              <a:custGeom>
                <a:avLst/>
                <a:gdLst/>
                <a:ahLst/>
                <a:rect l="l" t="t" r="r" b="b"/>
                <a:pathLst>
                  <a:path w="815" h="814">
                    <a:moveTo>
                      <a:pt x="111" y="127"/>
                    </a:moveTo>
                    <a:lnTo>
                      <a:pt x="125" y="113"/>
                    </a:lnTo>
                    <a:lnTo>
                      <a:pt x="141" y="98"/>
                    </a:lnTo>
                    <a:lnTo>
                      <a:pt x="156" y="86"/>
                    </a:lnTo>
                    <a:lnTo>
                      <a:pt x="173" y="73"/>
                    </a:lnTo>
                    <a:lnTo>
                      <a:pt x="190" y="62"/>
                    </a:lnTo>
                    <a:lnTo>
                      <a:pt x="207" y="53"/>
                    </a:lnTo>
                    <a:lnTo>
                      <a:pt x="225" y="43"/>
                    </a:lnTo>
                    <a:lnTo>
                      <a:pt x="243" y="35"/>
                    </a:lnTo>
                    <a:lnTo>
                      <a:pt x="261" y="26"/>
                    </a:lnTo>
                    <a:lnTo>
                      <a:pt x="280" y="20"/>
                    </a:lnTo>
                    <a:lnTo>
                      <a:pt x="298" y="14"/>
                    </a:lnTo>
                    <a:lnTo>
                      <a:pt x="317" y="9"/>
                    </a:lnTo>
                    <a:lnTo>
                      <a:pt x="336" y="6"/>
                    </a:lnTo>
                    <a:lnTo>
                      <a:pt x="356" y="2"/>
                    </a:lnTo>
                    <a:lnTo>
                      <a:pt x="376" y="1"/>
                    </a:lnTo>
                    <a:lnTo>
                      <a:pt x="395" y="0"/>
                    </a:lnTo>
                    <a:lnTo>
                      <a:pt x="414" y="0"/>
                    </a:lnTo>
                    <a:lnTo>
                      <a:pt x="435" y="0"/>
                    </a:lnTo>
                    <a:lnTo>
                      <a:pt x="454" y="2"/>
                    </a:lnTo>
                    <a:lnTo>
                      <a:pt x="473" y="5"/>
                    </a:lnTo>
                    <a:lnTo>
                      <a:pt x="492" y="8"/>
                    </a:lnTo>
                    <a:lnTo>
                      <a:pt x="512" y="13"/>
                    </a:lnTo>
                    <a:lnTo>
                      <a:pt x="531" y="18"/>
                    </a:lnTo>
                    <a:lnTo>
                      <a:pt x="550" y="25"/>
                    </a:lnTo>
                    <a:lnTo>
                      <a:pt x="568" y="32"/>
                    </a:lnTo>
                    <a:lnTo>
                      <a:pt x="586" y="41"/>
                    </a:lnTo>
                    <a:lnTo>
                      <a:pt x="604" y="50"/>
                    </a:lnTo>
                    <a:lnTo>
                      <a:pt x="622" y="60"/>
                    </a:lnTo>
                    <a:lnTo>
                      <a:pt x="639" y="71"/>
                    </a:lnTo>
                    <a:lnTo>
                      <a:pt x="656" y="83"/>
                    </a:lnTo>
                    <a:lnTo>
                      <a:pt x="671" y="96"/>
                    </a:lnTo>
                    <a:lnTo>
                      <a:pt x="687" y="110"/>
                    </a:lnTo>
                    <a:lnTo>
                      <a:pt x="702" y="125"/>
                    </a:lnTo>
                    <a:lnTo>
                      <a:pt x="716" y="140"/>
                    </a:lnTo>
                    <a:lnTo>
                      <a:pt x="729" y="156"/>
                    </a:lnTo>
                    <a:lnTo>
                      <a:pt x="741" y="173"/>
                    </a:lnTo>
                    <a:lnTo>
                      <a:pt x="753" y="189"/>
                    </a:lnTo>
                    <a:lnTo>
                      <a:pt x="762" y="206"/>
                    </a:lnTo>
                    <a:lnTo>
                      <a:pt x="772" y="224"/>
                    </a:lnTo>
                    <a:lnTo>
                      <a:pt x="780" y="242"/>
                    </a:lnTo>
                    <a:lnTo>
                      <a:pt x="788" y="260"/>
                    </a:lnTo>
                    <a:lnTo>
                      <a:pt x="795" y="279"/>
                    </a:lnTo>
                    <a:lnTo>
                      <a:pt x="801" y="297"/>
                    </a:lnTo>
                    <a:lnTo>
                      <a:pt x="806" y="317"/>
                    </a:lnTo>
                    <a:lnTo>
                      <a:pt x="809" y="336"/>
                    </a:lnTo>
                    <a:lnTo>
                      <a:pt x="812" y="355"/>
                    </a:lnTo>
                    <a:lnTo>
                      <a:pt x="814" y="375"/>
                    </a:lnTo>
                    <a:lnTo>
                      <a:pt x="815" y="395"/>
                    </a:lnTo>
                    <a:lnTo>
                      <a:pt x="815" y="414"/>
                    </a:lnTo>
                    <a:lnTo>
                      <a:pt x="814" y="434"/>
                    </a:lnTo>
                    <a:lnTo>
                      <a:pt x="813" y="453"/>
                    </a:lnTo>
                    <a:lnTo>
                      <a:pt x="810" y="473"/>
                    </a:lnTo>
                    <a:lnTo>
                      <a:pt x="807" y="492"/>
                    </a:lnTo>
                    <a:lnTo>
                      <a:pt x="802" y="511"/>
                    </a:lnTo>
                    <a:lnTo>
                      <a:pt x="796" y="530"/>
                    </a:lnTo>
                    <a:lnTo>
                      <a:pt x="790" y="549"/>
                    </a:lnTo>
                    <a:lnTo>
                      <a:pt x="783" y="567"/>
                    </a:lnTo>
                    <a:lnTo>
                      <a:pt x="774" y="585"/>
                    </a:lnTo>
                    <a:lnTo>
                      <a:pt x="765" y="603"/>
                    </a:lnTo>
                    <a:lnTo>
                      <a:pt x="755" y="621"/>
                    </a:lnTo>
                    <a:lnTo>
                      <a:pt x="743" y="638"/>
                    </a:lnTo>
                    <a:lnTo>
                      <a:pt x="731" y="655"/>
                    </a:lnTo>
                    <a:lnTo>
                      <a:pt x="718" y="670"/>
                    </a:lnTo>
                    <a:lnTo>
                      <a:pt x="705" y="686"/>
                    </a:lnTo>
                    <a:lnTo>
                      <a:pt x="690" y="702"/>
                    </a:lnTo>
                    <a:lnTo>
                      <a:pt x="675" y="715"/>
                    </a:lnTo>
                    <a:lnTo>
                      <a:pt x="659" y="728"/>
                    </a:lnTo>
                    <a:lnTo>
                      <a:pt x="642" y="740"/>
                    </a:lnTo>
                    <a:lnTo>
                      <a:pt x="626" y="752"/>
                    </a:lnTo>
                    <a:lnTo>
                      <a:pt x="609" y="762"/>
                    </a:lnTo>
                    <a:lnTo>
                      <a:pt x="591" y="771"/>
                    </a:lnTo>
                    <a:lnTo>
                      <a:pt x="573" y="780"/>
                    </a:lnTo>
                    <a:lnTo>
                      <a:pt x="555" y="787"/>
                    </a:lnTo>
                    <a:lnTo>
                      <a:pt x="536" y="794"/>
                    </a:lnTo>
                    <a:lnTo>
                      <a:pt x="516" y="800"/>
                    </a:lnTo>
                    <a:lnTo>
                      <a:pt x="497" y="805"/>
                    </a:lnTo>
                    <a:lnTo>
                      <a:pt x="478" y="808"/>
                    </a:lnTo>
                    <a:lnTo>
                      <a:pt x="459" y="811"/>
                    </a:lnTo>
                    <a:lnTo>
                      <a:pt x="440" y="813"/>
                    </a:lnTo>
                    <a:lnTo>
                      <a:pt x="420" y="814"/>
                    </a:lnTo>
                    <a:lnTo>
                      <a:pt x="400" y="814"/>
                    </a:lnTo>
                    <a:lnTo>
                      <a:pt x="381" y="813"/>
                    </a:lnTo>
                    <a:lnTo>
                      <a:pt x="362" y="812"/>
                    </a:lnTo>
                    <a:lnTo>
                      <a:pt x="342" y="810"/>
                    </a:lnTo>
                    <a:lnTo>
                      <a:pt x="322" y="806"/>
                    </a:lnTo>
                    <a:lnTo>
                      <a:pt x="303" y="801"/>
                    </a:lnTo>
                    <a:lnTo>
                      <a:pt x="285" y="795"/>
                    </a:lnTo>
                    <a:lnTo>
                      <a:pt x="266" y="789"/>
                    </a:lnTo>
                    <a:lnTo>
                      <a:pt x="248" y="782"/>
                    </a:lnTo>
                    <a:lnTo>
                      <a:pt x="228" y="774"/>
                    </a:lnTo>
                    <a:lnTo>
                      <a:pt x="212" y="764"/>
                    </a:lnTo>
                    <a:lnTo>
                      <a:pt x="194" y="754"/>
                    </a:lnTo>
                    <a:lnTo>
                      <a:pt x="177" y="742"/>
                    </a:lnTo>
                    <a:lnTo>
                      <a:pt x="160" y="730"/>
                    </a:lnTo>
                    <a:lnTo>
                      <a:pt x="143" y="718"/>
                    </a:lnTo>
                    <a:lnTo>
                      <a:pt x="128" y="704"/>
                    </a:lnTo>
                    <a:lnTo>
                      <a:pt x="113" y="690"/>
                    </a:lnTo>
                    <a:lnTo>
                      <a:pt x="99" y="674"/>
                    </a:lnTo>
                    <a:lnTo>
                      <a:pt x="87" y="658"/>
                    </a:lnTo>
                    <a:lnTo>
                      <a:pt x="74" y="642"/>
                    </a:lnTo>
                    <a:lnTo>
                      <a:pt x="63" y="625"/>
                    </a:lnTo>
                    <a:lnTo>
                      <a:pt x="52" y="608"/>
                    </a:lnTo>
                    <a:lnTo>
                      <a:pt x="44" y="590"/>
                    </a:lnTo>
                    <a:lnTo>
                      <a:pt x="35" y="572"/>
                    </a:lnTo>
                    <a:lnTo>
                      <a:pt x="27" y="554"/>
                    </a:lnTo>
                    <a:lnTo>
                      <a:pt x="21" y="535"/>
                    </a:lnTo>
                    <a:lnTo>
                      <a:pt x="15" y="516"/>
                    </a:lnTo>
                    <a:lnTo>
                      <a:pt x="10" y="498"/>
                    </a:lnTo>
                    <a:lnTo>
                      <a:pt x="6" y="477"/>
                    </a:lnTo>
                    <a:lnTo>
                      <a:pt x="3" y="458"/>
                    </a:lnTo>
                    <a:lnTo>
                      <a:pt x="2" y="439"/>
                    </a:lnTo>
                    <a:lnTo>
                      <a:pt x="0" y="420"/>
                    </a:lnTo>
                    <a:lnTo>
                      <a:pt x="0" y="399"/>
                    </a:lnTo>
                    <a:lnTo>
                      <a:pt x="0" y="380"/>
                    </a:lnTo>
                    <a:lnTo>
                      <a:pt x="3" y="361"/>
                    </a:lnTo>
                    <a:lnTo>
                      <a:pt x="5" y="342"/>
                    </a:lnTo>
                    <a:lnTo>
                      <a:pt x="9" y="323"/>
                    </a:lnTo>
                    <a:lnTo>
                      <a:pt x="14" y="303"/>
                    </a:lnTo>
                    <a:lnTo>
                      <a:pt x="18" y="284"/>
                    </a:lnTo>
                    <a:lnTo>
                      <a:pt x="26" y="265"/>
                    </a:lnTo>
                    <a:lnTo>
                      <a:pt x="33" y="247"/>
                    </a:lnTo>
                    <a:lnTo>
                      <a:pt x="41" y="228"/>
                    </a:lnTo>
                    <a:lnTo>
                      <a:pt x="50" y="211"/>
                    </a:lnTo>
                    <a:lnTo>
                      <a:pt x="60" y="193"/>
                    </a:lnTo>
                    <a:lnTo>
                      <a:pt x="71" y="176"/>
                    </a:lnTo>
                    <a:lnTo>
                      <a:pt x="83" y="159"/>
                    </a:lnTo>
                    <a:lnTo>
                      <a:pt x="96" y="144"/>
                    </a:lnTo>
                    <a:lnTo>
                      <a:pt x="111" y="127"/>
                    </a:lnTo>
                    <a:close/>
                  </a:path>
                </a:pathLst>
              </a:custGeom>
              <a:solidFill>
                <a:srgbClr val="be8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520720" y="4464000"/>
                <a:ext cx="239760" cy="63720"/>
              </a:xfrm>
              <a:custGeom>
                <a:avLst/>
                <a:gdLst/>
                <a:ahLst/>
                <a:rect l="l" t="t" r="r" b="b"/>
                <a:pathLst>
                  <a:path w="601" h="157">
                    <a:moveTo>
                      <a:pt x="601" y="115"/>
                    </a:moveTo>
                    <a:lnTo>
                      <a:pt x="601" y="115"/>
                    </a:lnTo>
                    <a:lnTo>
                      <a:pt x="584" y="101"/>
                    </a:lnTo>
                    <a:lnTo>
                      <a:pt x="567" y="87"/>
                    </a:lnTo>
                    <a:lnTo>
                      <a:pt x="550" y="74"/>
                    </a:lnTo>
                    <a:lnTo>
                      <a:pt x="532" y="63"/>
                    </a:lnTo>
                    <a:lnTo>
                      <a:pt x="514" y="53"/>
                    </a:lnTo>
                    <a:lnTo>
                      <a:pt x="495" y="43"/>
                    </a:lnTo>
                    <a:lnTo>
                      <a:pt x="477" y="35"/>
                    </a:lnTo>
                    <a:lnTo>
                      <a:pt x="458" y="26"/>
                    </a:lnTo>
                    <a:lnTo>
                      <a:pt x="438" y="20"/>
                    </a:lnTo>
                    <a:lnTo>
                      <a:pt x="418" y="14"/>
                    </a:lnTo>
                    <a:lnTo>
                      <a:pt x="398" y="9"/>
                    </a:lnTo>
                    <a:lnTo>
                      <a:pt x="378" y="6"/>
                    </a:lnTo>
                    <a:lnTo>
                      <a:pt x="357" y="3"/>
                    </a:lnTo>
                    <a:lnTo>
                      <a:pt x="337" y="1"/>
                    </a:lnTo>
                    <a:lnTo>
                      <a:pt x="316" y="0"/>
                    </a:lnTo>
                    <a:lnTo>
                      <a:pt x="297" y="0"/>
                    </a:lnTo>
                    <a:lnTo>
                      <a:pt x="276" y="1"/>
                    </a:lnTo>
                    <a:lnTo>
                      <a:pt x="256" y="3"/>
                    </a:lnTo>
                    <a:lnTo>
                      <a:pt x="236" y="7"/>
                    </a:lnTo>
                    <a:lnTo>
                      <a:pt x="216" y="11"/>
                    </a:lnTo>
                    <a:lnTo>
                      <a:pt x="195" y="15"/>
                    </a:lnTo>
                    <a:lnTo>
                      <a:pt x="176" y="21"/>
                    </a:lnTo>
                    <a:lnTo>
                      <a:pt x="157" y="29"/>
                    </a:lnTo>
                    <a:lnTo>
                      <a:pt x="138" y="36"/>
                    </a:lnTo>
                    <a:lnTo>
                      <a:pt x="118" y="45"/>
                    </a:lnTo>
                    <a:lnTo>
                      <a:pt x="100" y="55"/>
                    </a:lnTo>
                    <a:lnTo>
                      <a:pt x="82" y="66"/>
                    </a:lnTo>
                    <a:lnTo>
                      <a:pt x="64" y="78"/>
                    </a:lnTo>
                    <a:lnTo>
                      <a:pt x="48" y="90"/>
                    </a:lnTo>
                    <a:lnTo>
                      <a:pt x="31" y="104"/>
                    </a:lnTo>
                    <a:lnTo>
                      <a:pt x="15" y="119"/>
                    </a:lnTo>
                    <a:lnTo>
                      <a:pt x="0" y="134"/>
                    </a:lnTo>
                    <a:lnTo>
                      <a:pt x="25" y="157"/>
                    </a:lnTo>
                    <a:lnTo>
                      <a:pt x="39" y="144"/>
                    </a:lnTo>
                    <a:lnTo>
                      <a:pt x="54" y="129"/>
                    </a:lnTo>
                    <a:lnTo>
                      <a:pt x="69" y="117"/>
                    </a:lnTo>
                    <a:lnTo>
                      <a:pt x="85" y="105"/>
                    </a:lnTo>
                    <a:lnTo>
                      <a:pt x="100" y="95"/>
                    </a:lnTo>
                    <a:lnTo>
                      <a:pt x="117" y="85"/>
                    </a:lnTo>
                    <a:lnTo>
                      <a:pt x="134" y="77"/>
                    </a:lnTo>
                    <a:lnTo>
                      <a:pt x="152" y="68"/>
                    </a:lnTo>
                    <a:lnTo>
                      <a:pt x="169" y="61"/>
                    </a:lnTo>
                    <a:lnTo>
                      <a:pt x="187" y="55"/>
                    </a:lnTo>
                    <a:lnTo>
                      <a:pt x="205" y="49"/>
                    </a:lnTo>
                    <a:lnTo>
                      <a:pt x="223" y="44"/>
                    </a:lnTo>
                    <a:lnTo>
                      <a:pt x="242" y="41"/>
                    </a:lnTo>
                    <a:lnTo>
                      <a:pt x="260" y="38"/>
                    </a:lnTo>
                    <a:lnTo>
                      <a:pt x="279" y="36"/>
                    </a:lnTo>
                    <a:lnTo>
                      <a:pt x="297" y="35"/>
                    </a:lnTo>
                    <a:lnTo>
                      <a:pt x="316" y="35"/>
                    </a:lnTo>
                    <a:lnTo>
                      <a:pt x="336" y="36"/>
                    </a:lnTo>
                    <a:lnTo>
                      <a:pt x="354" y="37"/>
                    </a:lnTo>
                    <a:lnTo>
                      <a:pt x="373" y="39"/>
                    </a:lnTo>
                    <a:lnTo>
                      <a:pt x="391" y="43"/>
                    </a:lnTo>
                    <a:lnTo>
                      <a:pt x="410" y="48"/>
                    </a:lnTo>
                    <a:lnTo>
                      <a:pt x="428" y="53"/>
                    </a:lnTo>
                    <a:lnTo>
                      <a:pt x="446" y="59"/>
                    </a:lnTo>
                    <a:lnTo>
                      <a:pt x="463" y="66"/>
                    </a:lnTo>
                    <a:lnTo>
                      <a:pt x="481" y="74"/>
                    </a:lnTo>
                    <a:lnTo>
                      <a:pt x="498" y="83"/>
                    </a:lnTo>
                    <a:lnTo>
                      <a:pt x="514" y="92"/>
                    </a:lnTo>
                    <a:lnTo>
                      <a:pt x="531" y="103"/>
                    </a:lnTo>
                    <a:lnTo>
                      <a:pt x="547" y="115"/>
                    </a:lnTo>
                    <a:lnTo>
                      <a:pt x="562" y="127"/>
                    </a:lnTo>
                    <a:lnTo>
                      <a:pt x="577" y="140"/>
                    </a:lnTo>
                    <a:lnTo>
                      <a:pt x="577" y="140"/>
                    </a:lnTo>
                    <a:lnTo>
                      <a:pt x="601" y="115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751120" y="4510080"/>
                <a:ext cx="61920" cy="239760"/>
              </a:xfrm>
              <a:custGeom>
                <a:avLst/>
                <a:gdLst/>
                <a:ahLst/>
                <a:rect l="l" t="t" r="r" b="b"/>
                <a:pathLst>
                  <a:path w="157" h="601">
                    <a:moveTo>
                      <a:pt x="42" y="601"/>
                    </a:moveTo>
                    <a:lnTo>
                      <a:pt x="42" y="601"/>
                    </a:lnTo>
                    <a:lnTo>
                      <a:pt x="57" y="585"/>
                    </a:lnTo>
                    <a:lnTo>
                      <a:pt x="71" y="569"/>
                    </a:lnTo>
                    <a:lnTo>
                      <a:pt x="83" y="551"/>
                    </a:lnTo>
                    <a:lnTo>
                      <a:pt x="95" y="533"/>
                    </a:lnTo>
                    <a:lnTo>
                      <a:pt x="105" y="515"/>
                    </a:lnTo>
                    <a:lnTo>
                      <a:pt x="115" y="497"/>
                    </a:lnTo>
                    <a:lnTo>
                      <a:pt x="123" y="478"/>
                    </a:lnTo>
                    <a:lnTo>
                      <a:pt x="131" y="458"/>
                    </a:lnTo>
                    <a:lnTo>
                      <a:pt x="138" y="438"/>
                    </a:lnTo>
                    <a:lnTo>
                      <a:pt x="144" y="419"/>
                    </a:lnTo>
                    <a:lnTo>
                      <a:pt x="149" y="398"/>
                    </a:lnTo>
                    <a:lnTo>
                      <a:pt x="152" y="378"/>
                    </a:lnTo>
                    <a:lnTo>
                      <a:pt x="155" y="358"/>
                    </a:lnTo>
                    <a:lnTo>
                      <a:pt x="157" y="338"/>
                    </a:lnTo>
                    <a:lnTo>
                      <a:pt x="157" y="318"/>
                    </a:lnTo>
                    <a:lnTo>
                      <a:pt x="157" y="298"/>
                    </a:lnTo>
                    <a:lnTo>
                      <a:pt x="156" y="277"/>
                    </a:lnTo>
                    <a:lnTo>
                      <a:pt x="155" y="257"/>
                    </a:lnTo>
                    <a:lnTo>
                      <a:pt x="151" y="236"/>
                    </a:lnTo>
                    <a:lnTo>
                      <a:pt x="147" y="216"/>
                    </a:lnTo>
                    <a:lnTo>
                      <a:pt x="141" y="196"/>
                    </a:lnTo>
                    <a:lnTo>
                      <a:pt x="137" y="176"/>
                    </a:lnTo>
                    <a:lnTo>
                      <a:pt x="129" y="157"/>
                    </a:lnTo>
                    <a:lnTo>
                      <a:pt x="121" y="138"/>
                    </a:lnTo>
                    <a:lnTo>
                      <a:pt x="113" y="119"/>
                    </a:lnTo>
                    <a:lnTo>
                      <a:pt x="103" y="101"/>
                    </a:lnTo>
                    <a:lnTo>
                      <a:pt x="92" y="83"/>
                    </a:lnTo>
                    <a:lnTo>
                      <a:pt x="80" y="65"/>
                    </a:lnTo>
                    <a:lnTo>
                      <a:pt x="67" y="48"/>
                    </a:lnTo>
                    <a:lnTo>
                      <a:pt x="54" y="31"/>
                    </a:lnTo>
                    <a:lnTo>
                      <a:pt x="39" y="16"/>
                    </a:lnTo>
                    <a:lnTo>
                      <a:pt x="24" y="0"/>
                    </a:lnTo>
                    <a:lnTo>
                      <a:pt x="0" y="25"/>
                    </a:lnTo>
                    <a:lnTo>
                      <a:pt x="14" y="40"/>
                    </a:lnTo>
                    <a:lnTo>
                      <a:pt x="27" y="54"/>
                    </a:lnTo>
                    <a:lnTo>
                      <a:pt x="41" y="70"/>
                    </a:lnTo>
                    <a:lnTo>
                      <a:pt x="51" y="85"/>
                    </a:lnTo>
                    <a:lnTo>
                      <a:pt x="62" y="101"/>
                    </a:lnTo>
                    <a:lnTo>
                      <a:pt x="73" y="118"/>
                    </a:lnTo>
                    <a:lnTo>
                      <a:pt x="81" y="134"/>
                    </a:lnTo>
                    <a:lnTo>
                      <a:pt x="90" y="152"/>
                    </a:lnTo>
                    <a:lnTo>
                      <a:pt x="97" y="169"/>
                    </a:lnTo>
                    <a:lnTo>
                      <a:pt x="103" y="187"/>
                    </a:lnTo>
                    <a:lnTo>
                      <a:pt x="109" y="205"/>
                    </a:lnTo>
                    <a:lnTo>
                      <a:pt x="113" y="223"/>
                    </a:lnTo>
                    <a:lnTo>
                      <a:pt x="116" y="242"/>
                    </a:lnTo>
                    <a:lnTo>
                      <a:pt x="120" y="260"/>
                    </a:lnTo>
                    <a:lnTo>
                      <a:pt x="121" y="280"/>
                    </a:lnTo>
                    <a:lnTo>
                      <a:pt x="122" y="298"/>
                    </a:lnTo>
                    <a:lnTo>
                      <a:pt x="122" y="317"/>
                    </a:lnTo>
                    <a:lnTo>
                      <a:pt x="122" y="336"/>
                    </a:lnTo>
                    <a:lnTo>
                      <a:pt x="120" y="354"/>
                    </a:lnTo>
                    <a:lnTo>
                      <a:pt x="117" y="373"/>
                    </a:lnTo>
                    <a:lnTo>
                      <a:pt x="114" y="391"/>
                    </a:lnTo>
                    <a:lnTo>
                      <a:pt x="110" y="410"/>
                    </a:lnTo>
                    <a:lnTo>
                      <a:pt x="104" y="428"/>
                    </a:lnTo>
                    <a:lnTo>
                      <a:pt x="98" y="446"/>
                    </a:lnTo>
                    <a:lnTo>
                      <a:pt x="91" y="463"/>
                    </a:lnTo>
                    <a:lnTo>
                      <a:pt x="84" y="481"/>
                    </a:lnTo>
                    <a:lnTo>
                      <a:pt x="74" y="498"/>
                    </a:lnTo>
                    <a:lnTo>
                      <a:pt x="65" y="515"/>
                    </a:lnTo>
                    <a:lnTo>
                      <a:pt x="54" y="532"/>
                    </a:lnTo>
                    <a:lnTo>
                      <a:pt x="43" y="547"/>
                    </a:lnTo>
                    <a:lnTo>
                      <a:pt x="30" y="563"/>
                    </a:lnTo>
                    <a:lnTo>
                      <a:pt x="17" y="577"/>
                    </a:lnTo>
                    <a:lnTo>
                      <a:pt x="17" y="577"/>
                    </a:lnTo>
                    <a:lnTo>
                      <a:pt x="42" y="60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528640" y="474012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600" h="157">
                    <a:moveTo>
                      <a:pt x="0" y="42"/>
                    </a:moveTo>
                    <a:lnTo>
                      <a:pt x="0" y="42"/>
                    </a:lnTo>
                    <a:lnTo>
                      <a:pt x="15" y="58"/>
                    </a:lnTo>
                    <a:lnTo>
                      <a:pt x="32" y="71"/>
                    </a:lnTo>
                    <a:lnTo>
                      <a:pt x="50" y="83"/>
                    </a:lnTo>
                    <a:lnTo>
                      <a:pt x="67" y="95"/>
                    </a:lnTo>
                    <a:lnTo>
                      <a:pt x="86" y="106"/>
                    </a:lnTo>
                    <a:lnTo>
                      <a:pt x="104" y="115"/>
                    </a:lnTo>
                    <a:lnTo>
                      <a:pt x="123" y="124"/>
                    </a:lnTo>
                    <a:lnTo>
                      <a:pt x="143" y="132"/>
                    </a:lnTo>
                    <a:lnTo>
                      <a:pt x="162" y="138"/>
                    </a:lnTo>
                    <a:lnTo>
                      <a:pt x="182" y="144"/>
                    </a:lnTo>
                    <a:lnTo>
                      <a:pt x="201" y="149"/>
                    </a:lnTo>
                    <a:lnTo>
                      <a:pt x="222" y="152"/>
                    </a:lnTo>
                    <a:lnTo>
                      <a:pt x="242" y="155"/>
                    </a:lnTo>
                    <a:lnTo>
                      <a:pt x="263" y="157"/>
                    </a:lnTo>
                    <a:lnTo>
                      <a:pt x="283" y="157"/>
                    </a:lnTo>
                    <a:lnTo>
                      <a:pt x="303" y="157"/>
                    </a:lnTo>
                    <a:lnTo>
                      <a:pt x="324" y="156"/>
                    </a:lnTo>
                    <a:lnTo>
                      <a:pt x="344" y="155"/>
                    </a:lnTo>
                    <a:lnTo>
                      <a:pt x="365" y="151"/>
                    </a:lnTo>
                    <a:lnTo>
                      <a:pt x="385" y="148"/>
                    </a:lnTo>
                    <a:lnTo>
                      <a:pt x="404" y="143"/>
                    </a:lnTo>
                    <a:lnTo>
                      <a:pt x="425" y="137"/>
                    </a:lnTo>
                    <a:lnTo>
                      <a:pt x="444" y="130"/>
                    </a:lnTo>
                    <a:lnTo>
                      <a:pt x="463" y="121"/>
                    </a:lnTo>
                    <a:lnTo>
                      <a:pt x="481" y="113"/>
                    </a:lnTo>
                    <a:lnTo>
                      <a:pt x="500" y="103"/>
                    </a:lnTo>
                    <a:lnTo>
                      <a:pt x="518" y="92"/>
                    </a:lnTo>
                    <a:lnTo>
                      <a:pt x="535" y="80"/>
                    </a:lnTo>
                    <a:lnTo>
                      <a:pt x="552" y="68"/>
                    </a:lnTo>
                    <a:lnTo>
                      <a:pt x="569" y="54"/>
                    </a:lnTo>
                    <a:lnTo>
                      <a:pt x="585" y="40"/>
                    </a:lnTo>
                    <a:lnTo>
                      <a:pt x="600" y="24"/>
                    </a:lnTo>
                    <a:lnTo>
                      <a:pt x="575" y="0"/>
                    </a:lnTo>
                    <a:lnTo>
                      <a:pt x="561" y="14"/>
                    </a:lnTo>
                    <a:lnTo>
                      <a:pt x="546" y="28"/>
                    </a:lnTo>
                    <a:lnTo>
                      <a:pt x="531" y="41"/>
                    </a:lnTo>
                    <a:lnTo>
                      <a:pt x="516" y="52"/>
                    </a:lnTo>
                    <a:lnTo>
                      <a:pt x="499" y="62"/>
                    </a:lnTo>
                    <a:lnTo>
                      <a:pt x="482" y="73"/>
                    </a:lnTo>
                    <a:lnTo>
                      <a:pt x="465" y="82"/>
                    </a:lnTo>
                    <a:lnTo>
                      <a:pt x="449" y="90"/>
                    </a:lnTo>
                    <a:lnTo>
                      <a:pt x="431" y="97"/>
                    </a:lnTo>
                    <a:lnTo>
                      <a:pt x="414" y="103"/>
                    </a:lnTo>
                    <a:lnTo>
                      <a:pt x="395" y="109"/>
                    </a:lnTo>
                    <a:lnTo>
                      <a:pt x="377" y="114"/>
                    </a:lnTo>
                    <a:lnTo>
                      <a:pt x="359" y="118"/>
                    </a:lnTo>
                    <a:lnTo>
                      <a:pt x="339" y="120"/>
                    </a:lnTo>
                    <a:lnTo>
                      <a:pt x="321" y="121"/>
                    </a:lnTo>
                    <a:lnTo>
                      <a:pt x="302" y="122"/>
                    </a:lnTo>
                    <a:lnTo>
                      <a:pt x="284" y="122"/>
                    </a:lnTo>
                    <a:lnTo>
                      <a:pt x="265" y="122"/>
                    </a:lnTo>
                    <a:lnTo>
                      <a:pt x="246" y="120"/>
                    </a:lnTo>
                    <a:lnTo>
                      <a:pt x="228" y="118"/>
                    </a:lnTo>
                    <a:lnTo>
                      <a:pt x="209" y="114"/>
                    </a:lnTo>
                    <a:lnTo>
                      <a:pt x="191" y="110"/>
                    </a:lnTo>
                    <a:lnTo>
                      <a:pt x="173" y="104"/>
                    </a:lnTo>
                    <a:lnTo>
                      <a:pt x="155" y="98"/>
                    </a:lnTo>
                    <a:lnTo>
                      <a:pt x="137" y="91"/>
                    </a:lnTo>
                    <a:lnTo>
                      <a:pt x="120" y="84"/>
                    </a:lnTo>
                    <a:lnTo>
                      <a:pt x="102" y="76"/>
                    </a:lnTo>
                    <a:lnTo>
                      <a:pt x="86" y="65"/>
                    </a:lnTo>
                    <a:lnTo>
                      <a:pt x="69" y="55"/>
                    </a:lnTo>
                    <a:lnTo>
                      <a:pt x="54" y="43"/>
                    </a:lnTo>
                    <a:lnTo>
                      <a:pt x="38" y="31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476440" y="4518000"/>
                <a:ext cx="61920" cy="238320"/>
              </a:xfrm>
              <a:custGeom>
                <a:avLst/>
                <a:gdLst/>
                <a:ahLst/>
                <a:rect l="l" t="t" r="r" b="b"/>
                <a:pathLst>
                  <a:path w="158" h="600">
                    <a:moveTo>
                      <a:pt x="116" y="0"/>
                    </a:moveTo>
                    <a:lnTo>
                      <a:pt x="116" y="0"/>
                    </a:lnTo>
                    <a:lnTo>
                      <a:pt x="101" y="16"/>
                    </a:lnTo>
                    <a:lnTo>
                      <a:pt x="88" y="33"/>
                    </a:lnTo>
                    <a:lnTo>
                      <a:pt x="75" y="51"/>
                    </a:lnTo>
                    <a:lnTo>
                      <a:pt x="64" y="67"/>
                    </a:lnTo>
                    <a:lnTo>
                      <a:pt x="53" y="87"/>
                    </a:lnTo>
                    <a:lnTo>
                      <a:pt x="44" y="105"/>
                    </a:lnTo>
                    <a:lnTo>
                      <a:pt x="35" y="124"/>
                    </a:lnTo>
                    <a:lnTo>
                      <a:pt x="27" y="143"/>
                    </a:lnTo>
                    <a:lnTo>
                      <a:pt x="21" y="162"/>
                    </a:lnTo>
                    <a:lnTo>
                      <a:pt x="15" y="183"/>
                    </a:lnTo>
                    <a:lnTo>
                      <a:pt x="10" y="203"/>
                    </a:lnTo>
                    <a:lnTo>
                      <a:pt x="6" y="222"/>
                    </a:lnTo>
                    <a:lnTo>
                      <a:pt x="3" y="243"/>
                    </a:lnTo>
                    <a:lnTo>
                      <a:pt x="2" y="263"/>
                    </a:lnTo>
                    <a:lnTo>
                      <a:pt x="0" y="283"/>
                    </a:lnTo>
                    <a:lnTo>
                      <a:pt x="0" y="304"/>
                    </a:lnTo>
                    <a:lnTo>
                      <a:pt x="2" y="324"/>
                    </a:lnTo>
                    <a:lnTo>
                      <a:pt x="4" y="345"/>
                    </a:lnTo>
                    <a:lnTo>
                      <a:pt x="8" y="365"/>
                    </a:lnTo>
                    <a:lnTo>
                      <a:pt x="11" y="385"/>
                    </a:lnTo>
                    <a:lnTo>
                      <a:pt x="16" y="405"/>
                    </a:lnTo>
                    <a:lnTo>
                      <a:pt x="22" y="425"/>
                    </a:lnTo>
                    <a:lnTo>
                      <a:pt x="29" y="444"/>
                    </a:lnTo>
                    <a:lnTo>
                      <a:pt x="36" y="463"/>
                    </a:lnTo>
                    <a:lnTo>
                      <a:pt x="46" y="481"/>
                    </a:lnTo>
                    <a:lnTo>
                      <a:pt x="56" y="501"/>
                    </a:lnTo>
                    <a:lnTo>
                      <a:pt x="66" y="518"/>
                    </a:lnTo>
                    <a:lnTo>
                      <a:pt x="78" y="535"/>
                    </a:lnTo>
                    <a:lnTo>
                      <a:pt x="90" y="553"/>
                    </a:lnTo>
                    <a:lnTo>
                      <a:pt x="104" y="569"/>
                    </a:lnTo>
                    <a:lnTo>
                      <a:pt x="119" y="586"/>
                    </a:lnTo>
                    <a:lnTo>
                      <a:pt x="135" y="600"/>
                    </a:lnTo>
                    <a:lnTo>
                      <a:pt x="158" y="575"/>
                    </a:lnTo>
                    <a:lnTo>
                      <a:pt x="143" y="562"/>
                    </a:lnTo>
                    <a:lnTo>
                      <a:pt x="130" y="546"/>
                    </a:lnTo>
                    <a:lnTo>
                      <a:pt x="118" y="532"/>
                    </a:lnTo>
                    <a:lnTo>
                      <a:pt x="106" y="516"/>
                    </a:lnTo>
                    <a:lnTo>
                      <a:pt x="95" y="499"/>
                    </a:lnTo>
                    <a:lnTo>
                      <a:pt x="86" y="484"/>
                    </a:lnTo>
                    <a:lnTo>
                      <a:pt x="77" y="466"/>
                    </a:lnTo>
                    <a:lnTo>
                      <a:pt x="69" y="449"/>
                    </a:lnTo>
                    <a:lnTo>
                      <a:pt x="62" y="431"/>
                    </a:lnTo>
                    <a:lnTo>
                      <a:pt x="56" y="414"/>
                    </a:lnTo>
                    <a:lnTo>
                      <a:pt x="50" y="396"/>
                    </a:lnTo>
                    <a:lnTo>
                      <a:pt x="45" y="377"/>
                    </a:lnTo>
                    <a:lnTo>
                      <a:pt x="41" y="359"/>
                    </a:lnTo>
                    <a:lnTo>
                      <a:pt x="39" y="340"/>
                    </a:lnTo>
                    <a:lnTo>
                      <a:pt x="36" y="322"/>
                    </a:lnTo>
                    <a:lnTo>
                      <a:pt x="35" y="303"/>
                    </a:lnTo>
                    <a:lnTo>
                      <a:pt x="35" y="285"/>
                    </a:lnTo>
                    <a:lnTo>
                      <a:pt x="36" y="265"/>
                    </a:lnTo>
                    <a:lnTo>
                      <a:pt x="38" y="246"/>
                    </a:lnTo>
                    <a:lnTo>
                      <a:pt x="40" y="228"/>
                    </a:lnTo>
                    <a:lnTo>
                      <a:pt x="44" y="209"/>
                    </a:lnTo>
                    <a:lnTo>
                      <a:pt x="48" y="191"/>
                    </a:lnTo>
                    <a:lnTo>
                      <a:pt x="53" y="173"/>
                    </a:lnTo>
                    <a:lnTo>
                      <a:pt x="59" y="155"/>
                    </a:lnTo>
                    <a:lnTo>
                      <a:pt x="66" y="137"/>
                    </a:lnTo>
                    <a:lnTo>
                      <a:pt x="75" y="120"/>
                    </a:lnTo>
                    <a:lnTo>
                      <a:pt x="83" y="103"/>
                    </a:lnTo>
                    <a:lnTo>
                      <a:pt x="93" y="87"/>
                    </a:lnTo>
                    <a:lnTo>
                      <a:pt x="104" y="70"/>
                    </a:lnTo>
                    <a:lnTo>
                      <a:pt x="116" y="54"/>
                    </a:lnTo>
                    <a:lnTo>
                      <a:pt x="128" y="39"/>
                    </a:lnTo>
                    <a:lnTo>
                      <a:pt x="141" y="23"/>
                    </a:lnTo>
                    <a:lnTo>
                      <a:pt x="141" y="23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485800" y="4473720"/>
                <a:ext cx="320760" cy="320400"/>
              </a:xfrm>
              <a:custGeom>
                <a:avLst/>
                <a:gdLst/>
                <a:ahLst/>
                <a:rect l="l" t="t" r="r" b="b"/>
                <a:pathLst>
                  <a:path w="808" h="807">
                    <a:moveTo>
                      <a:pt x="110" y="127"/>
                    </a:moveTo>
                    <a:lnTo>
                      <a:pt x="124" y="111"/>
                    </a:lnTo>
                    <a:lnTo>
                      <a:pt x="140" y="98"/>
                    </a:lnTo>
                    <a:lnTo>
                      <a:pt x="155" y="85"/>
                    </a:lnTo>
                    <a:lnTo>
                      <a:pt x="171" y="73"/>
                    </a:lnTo>
                    <a:lnTo>
                      <a:pt x="188" y="62"/>
                    </a:lnTo>
                    <a:lnTo>
                      <a:pt x="204" y="51"/>
                    </a:lnTo>
                    <a:lnTo>
                      <a:pt x="222" y="43"/>
                    </a:lnTo>
                    <a:lnTo>
                      <a:pt x="240" y="34"/>
                    </a:lnTo>
                    <a:lnTo>
                      <a:pt x="258" y="26"/>
                    </a:lnTo>
                    <a:lnTo>
                      <a:pt x="276" y="20"/>
                    </a:lnTo>
                    <a:lnTo>
                      <a:pt x="296" y="14"/>
                    </a:lnTo>
                    <a:lnTo>
                      <a:pt x="315" y="9"/>
                    </a:lnTo>
                    <a:lnTo>
                      <a:pt x="334" y="6"/>
                    </a:lnTo>
                    <a:lnTo>
                      <a:pt x="353" y="3"/>
                    </a:lnTo>
                    <a:lnTo>
                      <a:pt x="372" y="1"/>
                    </a:lnTo>
                    <a:lnTo>
                      <a:pt x="392" y="0"/>
                    </a:lnTo>
                    <a:lnTo>
                      <a:pt x="411" y="0"/>
                    </a:lnTo>
                    <a:lnTo>
                      <a:pt x="430" y="1"/>
                    </a:lnTo>
                    <a:lnTo>
                      <a:pt x="449" y="2"/>
                    </a:lnTo>
                    <a:lnTo>
                      <a:pt x="468" y="4"/>
                    </a:lnTo>
                    <a:lnTo>
                      <a:pt x="488" y="8"/>
                    </a:lnTo>
                    <a:lnTo>
                      <a:pt x="507" y="13"/>
                    </a:lnTo>
                    <a:lnTo>
                      <a:pt x="526" y="19"/>
                    </a:lnTo>
                    <a:lnTo>
                      <a:pt x="544" y="25"/>
                    </a:lnTo>
                    <a:lnTo>
                      <a:pt x="563" y="32"/>
                    </a:lnTo>
                    <a:lnTo>
                      <a:pt x="581" y="40"/>
                    </a:lnTo>
                    <a:lnTo>
                      <a:pt x="598" y="49"/>
                    </a:lnTo>
                    <a:lnTo>
                      <a:pt x="616" y="60"/>
                    </a:lnTo>
                    <a:lnTo>
                      <a:pt x="633" y="70"/>
                    </a:lnTo>
                    <a:lnTo>
                      <a:pt x="650" y="82"/>
                    </a:lnTo>
                    <a:lnTo>
                      <a:pt x="665" y="96"/>
                    </a:lnTo>
                    <a:lnTo>
                      <a:pt x="681" y="109"/>
                    </a:lnTo>
                    <a:lnTo>
                      <a:pt x="695" y="123"/>
                    </a:lnTo>
                    <a:lnTo>
                      <a:pt x="710" y="139"/>
                    </a:lnTo>
                    <a:lnTo>
                      <a:pt x="723" y="154"/>
                    </a:lnTo>
                    <a:lnTo>
                      <a:pt x="735" y="171"/>
                    </a:lnTo>
                    <a:lnTo>
                      <a:pt x="746" y="188"/>
                    </a:lnTo>
                    <a:lnTo>
                      <a:pt x="755" y="205"/>
                    </a:lnTo>
                    <a:lnTo>
                      <a:pt x="765" y="222"/>
                    </a:lnTo>
                    <a:lnTo>
                      <a:pt x="773" y="240"/>
                    </a:lnTo>
                    <a:lnTo>
                      <a:pt x="780" y="258"/>
                    </a:lnTo>
                    <a:lnTo>
                      <a:pt x="788" y="277"/>
                    </a:lnTo>
                    <a:lnTo>
                      <a:pt x="792" y="295"/>
                    </a:lnTo>
                    <a:lnTo>
                      <a:pt x="797" y="314"/>
                    </a:lnTo>
                    <a:lnTo>
                      <a:pt x="802" y="333"/>
                    </a:lnTo>
                    <a:lnTo>
                      <a:pt x="804" y="352"/>
                    </a:lnTo>
                    <a:lnTo>
                      <a:pt x="807" y="372"/>
                    </a:lnTo>
                    <a:lnTo>
                      <a:pt x="808" y="391"/>
                    </a:lnTo>
                    <a:lnTo>
                      <a:pt x="808" y="410"/>
                    </a:lnTo>
                    <a:lnTo>
                      <a:pt x="807" y="430"/>
                    </a:lnTo>
                    <a:lnTo>
                      <a:pt x="806" y="450"/>
                    </a:lnTo>
                    <a:lnTo>
                      <a:pt x="802" y="469"/>
                    </a:lnTo>
                    <a:lnTo>
                      <a:pt x="798" y="488"/>
                    </a:lnTo>
                    <a:lnTo>
                      <a:pt x="795" y="507"/>
                    </a:lnTo>
                    <a:lnTo>
                      <a:pt x="789" y="525"/>
                    </a:lnTo>
                    <a:lnTo>
                      <a:pt x="783" y="544"/>
                    </a:lnTo>
                    <a:lnTo>
                      <a:pt x="776" y="562"/>
                    </a:lnTo>
                    <a:lnTo>
                      <a:pt x="767" y="580"/>
                    </a:lnTo>
                    <a:lnTo>
                      <a:pt x="758" y="598"/>
                    </a:lnTo>
                    <a:lnTo>
                      <a:pt x="748" y="615"/>
                    </a:lnTo>
                    <a:lnTo>
                      <a:pt x="737" y="632"/>
                    </a:lnTo>
                    <a:lnTo>
                      <a:pt x="725" y="649"/>
                    </a:lnTo>
                    <a:lnTo>
                      <a:pt x="712" y="664"/>
                    </a:lnTo>
                    <a:lnTo>
                      <a:pt x="698" y="680"/>
                    </a:lnTo>
                    <a:lnTo>
                      <a:pt x="683" y="695"/>
                    </a:lnTo>
                    <a:lnTo>
                      <a:pt x="669" y="709"/>
                    </a:lnTo>
                    <a:lnTo>
                      <a:pt x="653" y="722"/>
                    </a:lnTo>
                    <a:lnTo>
                      <a:pt x="636" y="734"/>
                    </a:lnTo>
                    <a:lnTo>
                      <a:pt x="620" y="745"/>
                    </a:lnTo>
                    <a:lnTo>
                      <a:pt x="603" y="755"/>
                    </a:lnTo>
                    <a:lnTo>
                      <a:pt x="585" y="764"/>
                    </a:lnTo>
                    <a:lnTo>
                      <a:pt x="567" y="772"/>
                    </a:lnTo>
                    <a:lnTo>
                      <a:pt x="549" y="781"/>
                    </a:lnTo>
                    <a:lnTo>
                      <a:pt x="531" y="787"/>
                    </a:lnTo>
                    <a:lnTo>
                      <a:pt x="512" y="793"/>
                    </a:lnTo>
                    <a:lnTo>
                      <a:pt x="494" y="797"/>
                    </a:lnTo>
                    <a:lnTo>
                      <a:pt x="474" y="801"/>
                    </a:lnTo>
                    <a:lnTo>
                      <a:pt x="455" y="803"/>
                    </a:lnTo>
                    <a:lnTo>
                      <a:pt x="436" y="806"/>
                    </a:lnTo>
                    <a:lnTo>
                      <a:pt x="416" y="807"/>
                    </a:lnTo>
                    <a:lnTo>
                      <a:pt x="396" y="807"/>
                    </a:lnTo>
                    <a:lnTo>
                      <a:pt x="377" y="806"/>
                    </a:lnTo>
                    <a:lnTo>
                      <a:pt x="358" y="805"/>
                    </a:lnTo>
                    <a:lnTo>
                      <a:pt x="339" y="802"/>
                    </a:lnTo>
                    <a:lnTo>
                      <a:pt x="320" y="799"/>
                    </a:lnTo>
                    <a:lnTo>
                      <a:pt x="300" y="794"/>
                    </a:lnTo>
                    <a:lnTo>
                      <a:pt x="281" y="788"/>
                    </a:lnTo>
                    <a:lnTo>
                      <a:pt x="263" y="782"/>
                    </a:lnTo>
                    <a:lnTo>
                      <a:pt x="245" y="775"/>
                    </a:lnTo>
                    <a:lnTo>
                      <a:pt x="227" y="766"/>
                    </a:lnTo>
                    <a:lnTo>
                      <a:pt x="209" y="758"/>
                    </a:lnTo>
                    <a:lnTo>
                      <a:pt x="191" y="747"/>
                    </a:lnTo>
                    <a:lnTo>
                      <a:pt x="174" y="736"/>
                    </a:lnTo>
                    <a:lnTo>
                      <a:pt x="159" y="724"/>
                    </a:lnTo>
                    <a:lnTo>
                      <a:pt x="142" y="711"/>
                    </a:lnTo>
                    <a:lnTo>
                      <a:pt x="126" y="698"/>
                    </a:lnTo>
                    <a:lnTo>
                      <a:pt x="112" y="683"/>
                    </a:lnTo>
                    <a:lnTo>
                      <a:pt x="99" y="668"/>
                    </a:lnTo>
                    <a:lnTo>
                      <a:pt x="86" y="652"/>
                    </a:lnTo>
                    <a:lnTo>
                      <a:pt x="74" y="635"/>
                    </a:lnTo>
                    <a:lnTo>
                      <a:pt x="62" y="620"/>
                    </a:lnTo>
                    <a:lnTo>
                      <a:pt x="52" y="602"/>
                    </a:lnTo>
                    <a:lnTo>
                      <a:pt x="42" y="585"/>
                    </a:lnTo>
                    <a:lnTo>
                      <a:pt x="34" y="567"/>
                    </a:lnTo>
                    <a:lnTo>
                      <a:pt x="27" y="549"/>
                    </a:lnTo>
                    <a:lnTo>
                      <a:pt x="21" y="530"/>
                    </a:lnTo>
                    <a:lnTo>
                      <a:pt x="15" y="512"/>
                    </a:lnTo>
                    <a:lnTo>
                      <a:pt x="10" y="493"/>
                    </a:lnTo>
                    <a:lnTo>
                      <a:pt x="6" y="474"/>
                    </a:lnTo>
                    <a:lnTo>
                      <a:pt x="3" y="454"/>
                    </a:lnTo>
                    <a:lnTo>
                      <a:pt x="2" y="435"/>
                    </a:lnTo>
                    <a:lnTo>
                      <a:pt x="0" y="416"/>
                    </a:lnTo>
                    <a:lnTo>
                      <a:pt x="0" y="397"/>
                    </a:lnTo>
                    <a:lnTo>
                      <a:pt x="0" y="376"/>
                    </a:lnTo>
                    <a:lnTo>
                      <a:pt x="3" y="357"/>
                    </a:lnTo>
                    <a:lnTo>
                      <a:pt x="5" y="338"/>
                    </a:lnTo>
                    <a:lnTo>
                      <a:pt x="9" y="319"/>
                    </a:lnTo>
                    <a:lnTo>
                      <a:pt x="14" y="300"/>
                    </a:lnTo>
                    <a:lnTo>
                      <a:pt x="18" y="282"/>
                    </a:lnTo>
                    <a:lnTo>
                      <a:pt x="24" y="262"/>
                    </a:lnTo>
                    <a:lnTo>
                      <a:pt x="33" y="244"/>
                    </a:lnTo>
                    <a:lnTo>
                      <a:pt x="40" y="226"/>
                    </a:lnTo>
                    <a:lnTo>
                      <a:pt x="50" y="208"/>
                    </a:lnTo>
                    <a:lnTo>
                      <a:pt x="59" y="192"/>
                    </a:lnTo>
                    <a:lnTo>
                      <a:pt x="71" y="175"/>
                    </a:lnTo>
                    <a:lnTo>
                      <a:pt x="83" y="158"/>
                    </a:lnTo>
                    <a:lnTo>
                      <a:pt x="95" y="142"/>
                    </a:lnTo>
                    <a:lnTo>
                      <a:pt x="110" y="127"/>
                    </a:lnTo>
                    <a:close/>
                  </a:path>
                </a:pathLst>
              </a:custGeom>
              <a:solidFill>
                <a:srgbClr val="c08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487600" y="4475160"/>
                <a:ext cx="317520" cy="317520"/>
              </a:xfrm>
              <a:custGeom>
                <a:avLst/>
                <a:gdLst/>
                <a:ahLst/>
                <a:rect l="l" t="t" r="r" b="b"/>
                <a:pathLst>
                  <a:path w="800" h="801">
                    <a:moveTo>
                      <a:pt x="108" y="126"/>
                    </a:moveTo>
                    <a:lnTo>
                      <a:pt x="123" y="112"/>
                    </a:lnTo>
                    <a:lnTo>
                      <a:pt x="138" y="98"/>
                    </a:lnTo>
                    <a:lnTo>
                      <a:pt x="153" y="86"/>
                    </a:lnTo>
                    <a:lnTo>
                      <a:pt x="170" y="74"/>
                    </a:lnTo>
                    <a:lnTo>
                      <a:pt x="186" y="63"/>
                    </a:lnTo>
                    <a:lnTo>
                      <a:pt x="203" y="52"/>
                    </a:lnTo>
                    <a:lnTo>
                      <a:pt x="220" y="44"/>
                    </a:lnTo>
                    <a:lnTo>
                      <a:pt x="238" y="35"/>
                    </a:lnTo>
                    <a:lnTo>
                      <a:pt x="256" y="27"/>
                    </a:lnTo>
                    <a:lnTo>
                      <a:pt x="274" y="21"/>
                    </a:lnTo>
                    <a:lnTo>
                      <a:pt x="293" y="15"/>
                    </a:lnTo>
                    <a:lnTo>
                      <a:pt x="311" y="10"/>
                    </a:lnTo>
                    <a:lnTo>
                      <a:pt x="330" y="6"/>
                    </a:lnTo>
                    <a:lnTo>
                      <a:pt x="350" y="4"/>
                    </a:lnTo>
                    <a:lnTo>
                      <a:pt x="369" y="2"/>
                    </a:lnTo>
                    <a:lnTo>
                      <a:pt x="388" y="0"/>
                    </a:lnTo>
                    <a:lnTo>
                      <a:pt x="407" y="0"/>
                    </a:lnTo>
                    <a:lnTo>
                      <a:pt x="426" y="2"/>
                    </a:lnTo>
                    <a:lnTo>
                      <a:pt x="446" y="3"/>
                    </a:lnTo>
                    <a:lnTo>
                      <a:pt x="465" y="6"/>
                    </a:lnTo>
                    <a:lnTo>
                      <a:pt x="484" y="9"/>
                    </a:lnTo>
                    <a:lnTo>
                      <a:pt x="502" y="14"/>
                    </a:lnTo>
                    <a:lnTo>
                      <a:pt x="521" y="20"/>
                    </a:lnTo>
                    <a:lnTo>
                      <a:pt x="539" y="26"/>
                    </a:lnTo>
                    <a:lnTo>
                      <a:pt x="557" y="33"/>
                    </a:lnTo>
                    <a:lnTo>
                      <a:pt x="575" y="41"/>
                    </a:lnTo>
                    <a:lnTo>
                      <a:pt x="593" y="50"/>
                    </a:lnTo>
                    <a:lnTo>
                      <a:pt x="610" y="60"/>
                    </a:lnTo>
                    <a:lnTo>
                      <a:pt x="627" y="71"/>
                    </a:lnTo>
                    <a:lnTo>
                      <a:pt x="644" y="83"/>
                    </a:lnTo>
                    <a:lnTo>
                      <a:pt x="659" y="95"/>
                    </a:lnTo>
                    <a:lnTo>
                      <a:pt x="675" y="110"/>
                    </a:lnTo>
                    <a:lnTo>
                      <a:pt x="689" y="124"/>
                    </a:lnTo>
                    <a:lnTo>
                      <a:pt x="702" y="138"/>
                    </a:lnTo>
                    <a:lnTo>
                      <a:pt x="716" y="154"/>
                    </a:lnTo>
                    <a:lnTo>
                      <a:pt x="728" y="171"/>
                    </a:lnTo>
                    <a:lnTo>
                      <a:pt x="738" y="186"/>
                    </a:lnTo>
                    <a:lnTo>
                      <a:pt x="748" y="203"/>
                    </a:lnTo>
                    <a:lnTo>
                      <a:pt x="758" y="221"/>
                    </a:lnTo>
                    <a:lnTo>
                      <a:pt x="766" y="239"/>
                    </a:lnTo>
                    <a:lnTo>
                      <a:pt x="773" y="257"/>
                    </a:lnTo>
                    <a:lnTo>
                      <a:pt x="780" y="275"/>
                    </a:lnTo>
                    <a:lnTo>
                      <a:pt x="785" y="293"/>
                    </a:lnTo>
                    <a:lnTo>
                      <a:pt x="790" y="312"/>
                    </a:lnTo>
                    <a:lnTo>
                      <a:pt x="794" y="332"/>
                    </a:lnTo>
                    <a:lnTo>
                      <a:pt x="797" y="351"/>
                    </a:lnTo>
                    <a:lnTo>
                      <a:pt x="798" y="369"/>
                    </a:lnTo>
                    <a:lnTo>
                      <a:pt x="800" y="388"/>
                    </a:lnTo>
                    <a:lnTo>
                      <a:pt x="800" y="408"/>
                    </a:lnTo>
                    <a:lnTo>
                      <a:pt x="800" y="428"/>
                    </a:lnTo>
                    <a:lnTo>
                      <a:pt x="797" y="447"/>
                    </a:lnTo>
                    <a:lnTo>
                      <a:pt x="795" y="465"/>
                    </a:lnTo>
                    <a:lnTo>
                      <a:pt x="791" y="484"/>
                    </a:lnTo>
                    <a:lnTo>
                      <a:pt x="786" y="503"/>
                    </a:lnTo>
                    <a:lnTo>
                      <a:pt x="782" y="521"/>
                    </a:lnTo>
                    <a:lnTo>
                      <a:pt x="776" y="540"/>
                    </a:lnTo>
                    <a:lnTo>
                      <a:pt x="768" y="558"/>
                    </a:lnTo>
                    <a:lnTo>
                      <a:pt x="760" y="576"/>
                    </a:lnTo>
                    <a:lnTo>
                      <a:pt x="750" y="593"/>
                    </a:lnTo>
                    <a:lnTo>
                      <a:pt x="741" y="611"/>
                    </a:lnTo>
                    <a:lnTo>
                      <a:pt x="730" y="628"/>
                    </a:lnTo>
                    <a:lnTo>
                      <a:pt x="718" y="643"/>
                    </a:lnTo>
                    <a:lnTo>
                      <a:pt x="705" y="660"/>
                    </a:lnTo>
                    <a:lnTo>
                      <a:pt x="692" y="675"/>
                    </a:lnTo>
                    <a:lnTo>
                      <a:pt x="677" y="689"/>
                    </a:lnTo>
                    <a:lnTo>
                      <a:pt x="662" y="703"/>
                    </a:lnTo>
                    <a:lnTo>
                      <a:pt x="647" y="717"/>
                    </a:lnTo>
                    <a:lnTo>
                      <a:pt x="630" y="729"/>
                    </a:lnTo>
                    <a:lnTo>
                      <a:pt x="614" y="739"/>
                    </a:lnTo>
                    <a:lnTo>
                      <a:pt x="597" y="749"/>
                    </a:lnTo>
                    <a:lnTo>
                      <a:pt x="580" y="759"/>
                    </a:lnTo>
                    <a:lnTo>
                      <a:pt x="562" y="767"/>
                    </a:lnTo>
                    <a:lnTo>
                      <a:pt x="544" y="774"/>
                    </a:lnTo>
                    <a:lnTo>
                      <a:pt x="526" y="780"/>
                    </a:lnTo>
                    <a:lnTo>
                      <a:pt x="507" y="786"/>
                    </a:lnTo>
                    <a:lnTo>
                      <a:pt x="489" y="791"/>
                    </a:lnTo>
                    <a:lnTo>
                      <a:pt x="470" y="795"/>
                    </a:lnTo>
                    <a:lnTo>
                      <a:pt x="450" y="797"/>
                    </a:lnTo>
                    <a:lnTo>
                      <a:pt x="431" y="799"/>
                    </a:lnTo>
                    <a:lnTo>
                      <a:pt x="412" y="801"/>
                    </a:lnTo>
                    <a:lnTo>
                      <a:pt x="393" y="801"/>
                    </a:lnTo>
                    <a:lnTo>
                      <a:pt x="374" y="799"/>
                    </a:lnTo>
                    <a:lnTo>
                      <a:pt x="354" y="798"/>
                    </a:lnTo>
                    <a:lnTo>
                      <a:pt x="335" y="796"/>
                    </a:lnTo>
                    <a:lnTo>
                      <a:pt x="316" y="792"/>
                    </a:lnTo>
                    <a:lnTo>
                      <a:pt x="298" y="787"/>
                    </a:lnTo>
                    <a:lnTo>
                      <a:pt x="279" y="783"/>
                    </a:lnTo>
                    <a:lnTo>
                      <a:pt x="261" y="775"/>
                    </a:lnTo>
                    <a:lnTo>
                      <a:pt x="243" y="768"/>
                    </a:lnTo>
                    <a:lnTo>
                      <a:pt x="225" y="761"/>
                    </a:lnTo>
                    <a:lnTo>
                      <a:pt x="207" y="751"/>
                    </a:lnTo>
                    <a:lnTo>
                      <a:pt x="190" y="742"/>
                    </a:lnTo>
                    <a:lnTo>
                      <a:pt x="173" y="731"/>
                    </a:lnTo>
                    <a:lnTo>
                      <a:pt x="156" y="719"/>
                    </a:lnTo>
                    <a:lnTo>
                      <a:pt x="141" y="706"/>
                    </a:lnTo>
                    <a:lnTo>
                      <a:pt x="125" y="693"/>
                    </a:lnTo>
                    <a:lnTo>
                      <a:pt x="111" y="678"/>
                    </a:lnTo>
                    <a:lnTo>
                      <a:pt x="98" y="663"/>
                    </a:lnTo>
                    <a:lnTo>
                      <a:pt x="84" y="647"/>
                    </a:lnTo>
                    <a:lnTo>
                      <a:pt x="72" y="631"/>
                    </a:lnTo>
                    <a:lnTo>
                      <a:pt x="62" y="615"/>
                    </a:lnTo>
                    <a:lnTo>
                      <a:pt x="52" y="598"/>
                    </a:lnTo>
                    <a:lnTo>
                      <a:pt x="42" y="580"/>
                    </a:lnTo>
                    <a:lnTo>
                      <a:pt x="34" y="563"/>
                    </a:lnTo>
                    <a:lnTo>
                      <a:pt x="27" y="545"/>
                    </a:lnTo>
                    <a:lnTo>
                      <a:pt x="20" y="527"/>
                    </a:lnTo>
                    <a:lnTo>
                      <a:pt x="15" y="508"/>
                    </a:lnTo>
                    <a:lnTo>
                      <a:pt x="10" y="489"/>
                    </a:lnTo>
                    <a:lnTo>
                      <a:pt x="6" y="471"/>
                    </a:lnTo>
                    <a:lnTo>
                      <a:pt x="3" y="452"/>
                    </a:lnTo>
                    <a:lnTo>
                      <a:pt x="2" y="432"/>
                    </a:lnTo>
                    <a:lnTo>
                      <a:pt x="0" y="413"/>
                    </a:lnTo>
                    <a:lnTo>
                      <a:pt x="0" y="394"/>
                    </a:lnTo>
                    <a:lnTo>
                      <a:pt x="0" y="375"/>
                    </a:lnTo>
                    <a:lnTo>
                      <a:pt x="3" y="356"/>
                    </a:lnTo>
                    <a:lnTo>
                      <a:pt x="5" y="336"/>
                    </a:lnTo>
                    <a:lnTo>
                      <a:pt x="9" y="317"/>
                    </a:lnTo>
                    <a:lnTo>
                      <a:pt x="14" y="298"/>
                    </a:lnTo>
                    <a:lnTo>
                      <a:pt x="18" y="280"/>
                    </a:lnTo>
                    <a:lnTo>
                      <a:pt x="24" y="262"/>
                    </a:lnTo>
                    <a:lnTo>
                      <a:pt x="32" y="243"/>
                    </a:lnTo>
                    <a:lnTo>
                      <a:pt x="40" y="225"/>
                    </a:lnTo>
                    <a:lnTo>
                      <a:pt x="50" y="208"/>
                    </a:lnTo>
                    <a:lnTo>
                      <a:pt x="59" y="191"/>
                    </a:lnTo>
                    <a:lnTo>
                      <a:pt x="70" y="174"/>
                    </a:lnTo>
                    <a:lnTo>
                      <a:pt x="82" y="158"/>
                    </a:lnTo>
                    <a:lnTo>
                      <a:pt x="95" y="142"/>
                    </a:lnTo>
                    <a:lnTo>
                      <a:pt x="108" y="126"/>
                    </a:lnTo>
                    <a:close/>
                  </a:path>
                </a:pathLst>
              </a:custGeom>
              <a:solidFill>
                <a:srgbClr val="c48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490840" y="4478400"/>
                <a:ext cx="314280" cy="314280"/>
              </a:xfrm>
              <a:custGeom>
                <a:avLst/>
                <a:gdLst/>
                <a:ahLst/>
                <a:rect l="l" t="t" r="r" b="b"/>
                <a:pathLst>
                  <a:path w="792" h="792">
                    <a:moveTo>
                      <a:pt x="107" y="124"/>
                    </a:moveTo>
                    <a:lnTo>
                      <a:pt x="122" y="110"/>
                    </a:lnTo>
                    <a:lnTo>
                      <a:pt x="136" y="96"/>
                    </a:lnTo>
                    <a:lnTo>
                      <a:pt x="152" y="83"/>
                    </a:lnTo>
                    <a:lnTo>
                      <a:pt x="168" y="72"/>
                    </a:lnTo>
                    <a:lnTo>
                      <a:pt x="184" y="60"/>
                    </a:lnTo>
                    <a:lnTo>
                      <a:pt x="201" y="51"/>
                    </a:lnTo>
                    <a:lnTo>
                      <a:pt x="218" y="41"/>
                    </a:lnTo>
                    <a:lnTo>
                      <a:pt x="236" y="34"/>
                    </a:lnTo>
                    <a:lnTo>
                      <a:pt x="254" y="26"/>
                    </a:lnTo>
                    <a:lnTo>
                      <a:pt x="272" y="20"/>
                    </a:lnTo>
                    <a:lnTo>
                      <a:pt x="290" y="14"/>
                    </a:lnTo>
                    <a:lnTo>
                      <a:pt x="309" y="10"/>
                    </a:lnTo>
                    <a:lnTo>
                      <a:pt x="327" y="5"/>
                    </a:lnTo>
                    <a:lnTo>
                      <a:pt x="346" y="3"/>
                    </a:lnTo>
                    <a:lnTo>
                      <a:pt x="365" y="2"/>
                    </a:lnTo>
                    <a:lnTo>
                      <a:pt x="384" y="0"/>
                    </a:lnTo>
                    <a:lnTo>
                      <a:pt x="404" y="0"/>
                    </a:lnTo>
                    <a:lnTo>
                      <a:pt x="423" y="0"/>
                    </a:lnTo>
                    <a:lnTo>
                      <a:pt x="441" y="3"/>
                    </a:lnTo>
                    <a:lnTo>
                      <a:pt x="460" y="5"/>
                    </a:lnTo>
                    <a:lnTo>
                      <a:pt x="479" y="9"/>
                    </a:lnTo>
                    <a:lnTo>
                      <a:pt x="497" y="12"/>
                    </a:lnTo>
                    <a:lnTo>
                      <a:pt x="516" y="18"/>
                    </a:lnTo>
                    <a:lnTo>
                      <a:pt x="534" y="24"/>
                    </a:lnTo>
                    <a:lnTo>
                      <a:pt x="552" y="32"/>
                    </a:lnTo>
                    <a:lnTo>
                      <a:pt x="570" y="40"/>
                    </a:lnTo>
                    <a:lnTo>
                      <a:pt x="587" y="48"/>
                    </a:lnTo>
                    <a:lnTo>
                      <a:pt x="604" y="58"/>
                    </a:lnTo>
                    <a:lnTo>
                      <a:pt x="621" y="69"/>
                    </a:lnTo>
                    <a:lnTo>
                      <a:pt x="638" y="81"/>
                    </a:lnTo>
                    <a:lnTo>
                      <a:pt x="653" y="94"/>
                    </a:lnTo>
                    <a:lnTo>
                      <a:pt x="668" y="107"/>
                    </a:lnTo>
                    <a:lnTo>
                      <a:pt x="682" y="122"/>
                    </a:lnTo>
                    <a:lnTo>
                      <a:pt x="696" y="136"/>
                    </a:lnTo>
                    <a:lnTo>
                      <a:pt x="708" y="152"/>
                    </a:lnTo>
                    <a:lnTo>
                      <a:pt x="720" y="167"/>
                    </a:lnTo>
                    <a:lnTo>
                      <a:pt x="731" y="184"/>
                    </a:lnTo>
                    <a:lnTo>
                      <a:pt x="742" y="201"/>
                    </a:lnTo>
                    <a:lnTo>
                      <a:pt x="750" y="218"/>
                    </a:lnTo>
                    <a:lnTo>
                      <a:pt x="759" y="236"/>
                    </a:lnTo>
                    <a:lnTo>
                      <a:pt x="766" y="254"/>
                    </a:lnTo>
                    <a:lnTo>
                      <a:pt x="773" y="272"/>
                    </a:lnTo>
                    <a:lnTo>
                      <a:pt x="778" y="290"/>
                    </a:lnTo>
                    <a:lnTo>
                      <a:pt x="783" y="309"/>
                    </a:lnTo>
                    <a:lnTo>
                      <a:pt x="786" y="327"/>
                    </a:lnTo>
                    <a:lnTo>
                      <a:pt x="790" y="346"/>
                    </a:lnTo>
                    <a:lnTo>
                      <a:pt x="791" y="365"/>
                    </a:lnTo>
                    <a:lnTo>
                      <a:pt x="792" y="384"/>
                    </a:lnTo>
                    <a:lnTo>
                      <a:pt x="792" y="404"/>
                    </a:lnTo>
                    <a:lnTo>
                      <a:pt x="792" y="422"/>
                    </a:lnTo>
                    <a:lnTo>
                      <a:pt x="790" y="441"/>
                    </a:lnTo>
                    <a:lnTo>
                      <a:pt x="788" y="460"/>
                    </a:lnTo>
                    <a:lnTo>
                      <a:pt x="784" y="479"/>
                    </a:lnTo>
                    <a:lnTo>
                      <a:pt x="779" y="497"/>
                    </a:lnTo>
                    <a:lnTo>
                      <a:pt x="774" y="516"/>
                    </a:lnTo>
                    <a:lnTo>
                      <a:pt x="768" y="534"/>
                    </a:lnTo>
                    <a:lnTo>
                      <a:pt x="761" y="552"/>
                    </a:lnTo>
                    <a:lnTo>
                      <a:pt x="753" y="570"/>
                    </a:lnTo>
                    <a:lnTo>
                      <a:pt x="744" y="587"/>
                    </a:lnTo>
                    <a:lnTo>
                      <a:pt x="734" y="604"/>
                    </a:lnTo>
                    <a:lnTo>
                      <a:pt x="723" y="621"/>
                    </a:lnTo>
                    <a:lnTo>
                      <a:pt x="712" y="637"/>
                    </a:lnTo>
                    <a:lnTo>
                      <a:pt x="699" y="653"/>
                    </a:lnTo>
                    <a:lnTo>
                      <a:pt x="686" y="667"/>
                    </a:lnTo>
                    <a:lnTo>
                      <a:pt x="671" y="682"/>
                    </a:lnTo>
                    <a:lnTo>
                      <a:pt x="656" y="696"/>
                    </a:lnTo>
                    <a:lnTo>
                      <a:pt x="640" y="708"/>
                    </a:lnTo>
                    <a:lnTo>
                      <a:pt x="624" y="720"/>
                    </a:lnTo>
                    <a:lnTo>
                      <a:pt x="609" y="731"/>
                    </a:lnTo>
                    <a:lnTo>
                      <a:pt x="592" y="742"/>
                    </a:lnTo>
                    <a:lnTo>
                      <a:pt x="574" y="750"/>
                    </a:lnTo>
                    <a:lnTo>
                      <a:pt x="557" y="759"/>
                    </a:lnTo>
                    <a:lnTo>
                      <a:pt x="539" y="766"/>
                    </a:lnTo>
                    <a:lnTo>
                      <a:pt x="521" y="773"/>
                    </a:lnTo>
                    <a:lnTo>
                      <a:pt x="502" y="778"/>
                    </a:lnTo>
                    <a:lnTo>
                      <a:pt x="484" y="783"/>
                    </a:lnTo>
                    <a:lnTo>
                      <a:pt x="465" y="786"/>
                    </a:lnTo>
                    <a:lnTo>
                      <a:pt x="447" y="790"/>
                    </a:lnTo>
                    <a:lnTo>
                      <a:pt x="428" y="791"/>
                    </a:lnTo>
                    <a:lnTo>
                      <a:pt x="408" y="792"/>
                    </a:lnTo>
                    <a:lnTo>
                      <a:pt x="389" y="792"/>
                    </a:lnTo>
                    <a:lnTo>
                      <a:pt x="370" y="791"/>
                    </a:lnTo>
                    <a:lnTo>
                      <a:pt x="351" y="790"/>
                    </a:lnTo>
                    <a:lnTo>
                      <a:pt x="333" y="787"/>
                    </a:lnTo>
                    <a:lnTo>
                      <a:pt x="314" y="784"/>
                    </a:lnTo>
                    <a:lnTo>
                      <a:pt x="294" y="779"/>
                    </a:lnTo>
                    <a:lnTo>
                      <a:pt x="276" y="774"/>
                    </a:lnTo>
                    <a:lnTo>
                      <a:pt x="258" y="768"/>
                    </a:lnTo>
                    <a:lnTo>
                      <a:pt x="240" y="761"/>
                    </a:lnTo>
                    <a:lnTo>
                      <a:pt x="222" y="753"/>
                    </a:lnTo>
                    <a:lnTo>
                      <a:pt x="206" y="744"/>
                    </a:lnTo>
                    <a:lnTo>
                      <a:pt x="188" y="733"/>
                    </a:lnTo>
                    <a:lnTo>
                      <a:pt x="172" y="723"/>
                    </a:lnTo>
                    <a:lnTo>
                      <a:pt x="155" y="712"/>
                    </a:lnTo>
                    <a:lnTo>
                      <a:pt x="140" y="699"/>
                    </a:lnTo>
                    <a:lnTo>
                      <a:pt x="124" y="685"/>
                    </a:lnTo>
                    <a:lnTo>
                      <a:pt x="110" y="671"/>
                    </a:lnTo>
                    <a:lnTo>
                      <a:pt x="96" y="655"/>
                    </a:lnTo>
                    <a:lnTo>
                      <a:pt x="83" y="640"/>
                    </a:lnTo>
                    <a:lnTo>
                      <a:pt x="72" y="624"/>
                    </a:lnTo>
                    <a:lnTo>
                      <a:pt x="60" y="609"/>
                    </a:lnTo>
                    <a:lnTo>
                      <a:pt x="51" y="592"/>
                    </a:lnTo>
                    <a:lnTo>
                      <a:pt x="41" y="574"/>
                    </a:lnTo>
                    <a:lnTo>
                      <a:pt x="34" y="557"/>
                    </a:lnTo>
                    <a:lnTo>
                      <a:pt x="26" y="539"/>
                    </a:lnTo>
                    <a:lnTo>
                      <a:pt x="20" y="521"/>
                    </a:lnTo>
                    <a:lnTo>
                      <a:pt x="15" y="502"/>
                    </a:lnTo>
                    <a:lnTo>
                      <a:pt x="10" y="484"/>
                    </a:lnTo>
                    <a:lnTo>
                      <a:pt x="6" y="465"/>
                    </a:lnTo>
                    <a:lnTo>
                      <a:pt x="3" y="447"/>
                    </a:lnTo>
                    <a:lnTo>
                      <a:pt x="2" y="428"/>
                    </a:lnTo>
                    <a:lnTo>
                      <a:pt x="0" y="408"/>
                    </a:lnTo>
                    <a:lnTo>
                      <a:pt x="0" y="389"/>
                    </a:lnTo>
                    <a:lnTo>
                      <a:pt x="0" y="370"/>
                    </a:lnTo>
                    <a:lnTo>
                      <a:pt x="3" y="351"/>
                    </a:lnTo>
                    <a:lnTo>
                      <a:pt x="5" y="333"/>
                    </a:lnTo>
                    <a:lnTo>
                      <a:pt x="9" y="314"/>
                    </a:lnTo>
                    <a:lnTo>
                      <a:pt x="12" y="294"/>
                    </a:lnTo>
                    <a:lnTo>
                      <a:pt x="18" y="276"/>
                    </a:lnTo>
                    <a:lnTo>
                      <a:pt x="24" y="258"/>
                    </a:lnTo>
                    <a:lnTo>
                      <a:pt x="32" y="240"/>
                    </a:lnTo>
                    <a:lnTo>
                      <a:pt x="40" y="222"/>
                    </a:lnTo>
                    <a:lnTo>
                      <a:pt x="48" y="206"/>
                    </a:lnTo>
                    <a:lnTo>
                      <a:pt x="58" y="188"/>
                    </a:lnTo>
                    <a:lnTo>
                      <a:pt x="69" y="172"/>
                    </a:lnTo>
                    <a:lnTo>
                      <a:pt x="81" y="155"/>
                    </a:lnTo>
                    <a:lnTo>
                      <a:pt x="94" y="140"/>
                    </a:lnTo>
                    <a:lnTo>
                      <a:pt x="107" y="124"/>
                    </a:lnTo>
                    <a:close/>
                  </a:path>
                </a:pathLst>
              </a:custGeom>
              <a:solidFill>
                <a:srgbClr val="ca8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492280" y="4479840"/>
                <a:ext cx="311040" cy="311400"/>
              </a:xfrm>
              <a:custGeom>
                <a:avLst/>
                <a:gdLst/>
                <a:ahLst/>
                <a:rect l="l" t="t" r="r" b="b"/>
                <a:pathLst>
                  <a:path w="785" h="785">
                    <a:moveTo>
                      <a:pt x="106" y="124"/>
                    </a:moveTo>
                    <a:lnTo>
                      <a:pt x="120" y="109"/>
                    </a:lnTo>
                    <a:lnTo>
                      <a:pt x="135" y="95"/>
                    </a:lnTo>
                    <a:lnTo>
                      <a:pt x="150" y="83"/>
                    </a:lnTo>
                    <a:lnTo>
                      <a:pt x="166" y="71"/>
                    </a:lnTo>
                    <a:lnTo>
                      <a:pt x="183" y="60"/>
                    </a:lnTo>
                    <a:lnTo>
                      <a:pt x="200" y="51"/>
                    </a:lnTo>
                    <a:lnTo>
                      <a:pt x="216" y="41"/>
                    </a:lnTo>
                    <a:lnTo>
                      <a:pt x="233" y="34"/>
                    </a:lnTo>
                    <a:lnTo>
                      <a:pt x="251" y="27"/>
                    </a:lnTo>
                    <a:lnTo>
                      <a:pt x="269" y="19"/>
                    </a:lnTo>
                    <a:lnTo>
                      <a:pt x="287" y="15"/>
                    </a:lnTo>
                    <a:lnTo>
                      <a:pt x="305" y="10"/>
                    </a:lnTo>
                    <a:lnTo>
                      <a:pt x="324" y="6"/>
                    </a:lnTo>
                    <a:lnTo>
                      <a:pt x="342" y="3"/>
                    </a:lnTo>
                    <a:lnTo>
                      <a:pt x="362" y="1"/>
                    </a:lnTo>
                    <a:lnTo>
                      <a:pt x="381" y="0"/>
                    </a:lnTo>
                    <a:lnTo>
                      <a:pt x="399" y="0"/>
                    </a:lnTo>
                    <a:lnTo>
                      <a:pt x="418" y="0"/>
                    </a:lnTo>
                    <a:lnTo>
                      <a:pt x="437" y="3"/>
                    </a:lnTo>
                    <a:lnTo>
                      <a:pt x="455" y="5"/>
                    </a:lnTo>
                    <a:lnTo>
                      <a:pt x="474" y="9"/>
                    </a:lnTo>
                    <a:lnTo>
                      <a:pt x="492" y="12"/>
                    </a:lnTo>
                    <a:lnTo>
                      <a:pt x="512" y="18"/>
                    </a:lnTo>
                    <a:lnTo>
                      <a:pt x="530" y="24"/>
                    </a:lnTo>
                    <a:lnTo>
                      <a:pt x="548" y="31"/>
                    </a:lnTo>
                    <a:lnTo>
                      <a:pt x="564" y="40"/>
                    </a:lnTo>
                    <a:lnTo>
                      <a:pt x="582" y="48"/>
                    </a:lnTo>
                    <a:lnTo>
                      <a:pt x="599" y="58"/>
                    </a:lnTo>
                    <a:lnTo>
                      <a:pt x="615" y="69"/>
                    </a:lnTo>
                    <a:lnTo>
                      <a:pt x="632" y="81"/>
                    </a:lnTo>
                    <a:lnTo>
                      <a:pt x="647" y="93"/>
                    </a:lnTo>
                    <a:lnTo>
                      <a:pt x="662" y="106"/>
                    </a:lnTo>
                    <a:lnTo>
                      <a:pt x="676" y="120"/>
                    </a:lnTo>
                    <a:lnTo>
                      <a:pt x="689" y="136"/>
                    </a:lnTo>
                    <a:lnTo>
                      <a:pt x="702" y="150"/>
                    </a:lnTo>
                    <a:lnTo>
                      <a:pt x="714" y="166"/>
                    </a:lnTo>
                    <a:lnTo>
                      <a:pt x="725" y="183"/>
                    </a:lnTo>
                    <a:lnTo>
                      <a:pt x="735" y="199"/>
                    </a:lnTo>
                    <a:lnTo>
                      <a:pt x="743" y="216"/>
                    </a:lnTo>
                    <a:lnTo>
                      <a:pt x="752" y="233"/>
                    </a:lnTo>
                    <a:lnTo>
                      <a:pt x="759" y="251"/>
                    </a:lnTo>
                    <a:lnTo>
                      <a:pt x="766" y="269"/>
                    </a:lnTo>
                    <a:lnTo>
                      <a:pt x="771" y="287"/>
                    </a:lnTo>
                    <a:lnTo>
                      <a:pt x="776" y="306"/>
                    </a:lnTo>
                    <a:lnTo>
                      <a:pt x="779" y="324"/>
                    </a:lnTo>
                    <a:lnTo>
                      <a:pt x="782" y="343"/>
                    </a:lnTo>
                    <a:lnTo>
                      <a:pt x="784" y="361"/>
                    </a:lnTo>
                    <a:lnTo>
                      <a:pt x="785" y="381"/>
                    </a:lnTo>
                    <a:lnTo>
                      <a:pt x="785" y="400"/>
                    </a:lnTo>
                    <a:lnTo>
                      <a:pt x="784" y="418"/>
                    </a:lnTo>
                    <a:lnTo>
                      <a:pt x="783" y="437"/>
                    </a:lnTo>
                    <a:lnTo>
                      <a:pt x="780" y="456"/>
                    </a:lnTo>
                    <a:lnTo>
                      <a:pt x="777" y="474"/>
                    </a:lnTo>
                    <a:lnTo>
                      <a:pt x="772" y="493"/>
                    </a:lnTo>
                    <a:lnTo>
                      <a:pt x="767" y="511"/>
                    </a:lnTo>
                    <a:lnTo>
                      <a:pt x="761" y="529"/>
                    </a:lnTo>
                    <a:lnTo>
                      <a:pt x="754" y="547"/>
                    </a:lnTo>
                    <a:lnTo>
                      <a:pt x="746" y="564"/>
                    </a:lnTo>
                    <a:lnTo>
                      <a:pt x="737" y="582"/>
                    </a:lnTo>
                    <a:lnTo>
                      <a:pt x="728" y="599"/>
                    </a:lnTo>
                    <a:lnTo>
                      <a:pt x="717" y="616"/>
                    </a:lnTo>
                    <a:lnTo>
                      <a:pt x="705" y="631"/>
                    </a:lnTo>
                    <a:lnTo>
                      <a:pt x="692" y="647"/>
                    </a:lnTo>
                    <a:lnTo>
                      <a:pt x="678" y="661"/>
                    </a:lnTo>
                    <a:lnTo>
                      <a:pt x="664" y="676"/>
                    </a:lnTo>
                    <a:lnTo>
                      <a:pt x="650" y="690"/>
                    </a:lnTo>
                    <a:lnTo>
                      <a:pt x="634" y="702"/>
                    </a:lnTo>
                    <a:lnTo>
                      <a:pt x="618" y="714"/>
                    </a:lnTo>
                    <a:lnTo>
                      <a:pt x="603" y="725"/>
                    </a:lnTo>
                    <a:lnTo>
                      <a:pt x="586" y="734"/>
                    </a:lnTo>
                    <a:lnTo>
                      <a:pt x="569" y="744"/>
                    </a:lnTo>
                    <a:lnTo>
                      <a:pt x="551" y="751"/>
                    </a:lnTo>
                    <a:lnTo>
                      <a:pt x="534" y="758"/>
                    </a:lnTo>
                    <a:lnTo>
                      <a:pt x="516" y="766"/>
                    </a:lnTo>
                    <a:lnTo>
                      <a:pt x="497" y="770"/>
                    </a:lnTo>
                    <a:lnTo>
                      <a:pt x="479" y="775"/>
                    </a:lnTo>
                    <a:lnTo>
                      <a:pt x="461" y="779"/>
                    </a:lnTo>
                    <a:lnTo>
                      <a:pt x="442" y="782"/>
                    </a:lnTo>
                    <a:lnTo>
                      <a:pt x="423" y="784"/>
                    </a:lnTo>
                    <a:lnTo>
                      <a:pt x="405" y="785"/>
                    </a:lnTo>
                    <a:lnTo>
                      <a:pt x="386" y="785"/>
                    </a:lnTo>
                    <a:lnTo>
                      <a:pt x="366" y="785"/>
                    </a:lnTo>
                    <a:lnTo>
                      <a:pt x="348" y="782"/>
                    </a:lnTo>
                    <a:lnTo>
                      <a:pt x="329" y="780"/>
                    </a:lnTo>
                    <a:lnTo>
                      <a:pt x="310" y="776"/>
                    </a:lnTo>
                    <a:lnTo>
                      <a:pt x="292" y="773"/>
                    </a:lnTo>
                    <a:lnTo>
                      <a:pt x="274" y="767"/>
                    </a:lnTo>
                    <a:lnTo>
                      <a:pt x="256" y="761"/>
                    </a:lnTo>
                    <a:lnTo>
                      <a:pt x="238" y="754"/>
                    </a:lnTo>
                    <a:lnTo>
                      <a:pt x="220" y="745"/>
                    </a:lnTo>
                    <a:lnTo>
                      <a:pt x="203" y="737"/>
                    </a:lnTo>
                    <a:lnTo>
                      <a:pt x="186" y="727"/>
                    </a:lnTo>
                    <a:lnTo>
                      <a:pt x="170" y="716"/>
                    </a:lnTo>
                    <a:lnTo>
                      <a:pt x="154" y="704"/>
                    </a:lnTo>
                    <a:lnTo>
                      <a:pt x="138" y="692"/>
                    </a:lnTo>
                    <a:lnTo>
                      <a:pt x="123" y="679"/>
                    </a:lnTo>
                    <a:lnTo>
                      <a:pt x="108" y="665"/>
                    </a:lnTo>
                    <a:lnTo>
                      <a:pt x="95" y="649"/>
                    </a:lnTo>
                    <a:lnTo>
                      <a:pt x="83" y="635"/>
                    </a:lnTo>
                    <a:lnTo>
                      <a:pt x="71" y="619"/>
                    </a:lnTo>
                    <a:lnTo>
                      <a:pt x="60" y="603"/>
                    </a:lnTo>
                    <a:lnTo>
                      <a:pt x="51" y="586"/>
                    </a:lnTo>
                    <a:lnTo>
                      <a:pt x="41" y="569"/>
                    </a:lnTo>
                    <a:lnTo>
                      <a:pt x="33" y="552"/>
                    </a:lnTo>
                    <a:lnTo>
                      <a:pt x="26" y="534"/>
                    </a:lnTo>
                    <a:lnTo>
                      <a:pt x="20" y="516"/>
                    </a:lnTo>
                    <a:lnTo>
                      <a:pt x="14" y="498"/>
                    </a:lnTo>
                    <a:lnTo>
                      <a:pt x="10" y="479"/>
                    </a:lnTo>
                    <a:lnTo>
                      <a:pt x="5" y="461"/>
                    </a:lnTo>
                    <a:lnTo>
                      <a:pt x="3" y="442"/>
                    </a:lnTo>
                    <a:lnTo>
                      <a:pt x="0" y="424"/>
                    </a:lnTo>
                    <a:lnTo>
                      <a:pt x="0" y="405"/>
                    </a:lnTo>
                    <a:lnTo>
                      <a:pt x="0" y="385"/>
                    </a:lnTo>
                    <a:lnTo>
                      <a:pt x="0" y="367"/>
                    </a:lnTo>
                    <a:lnTo>
                      <a:pt x="3" y="348"/>
                    </a:lnTo>
                    <a:lnTo>
                      <a:pt x="5" y="329"/>
                    </a:lnTo>
                    <a:lnTo>
                      <a:pt x="9" y="311"/>
                    </a:lnTo>
                    <a:lnTo>
                      <a:pt x="12" y="292"/>
                    </a:lnTo>
                    <a:lnTo>
                      <a:pt x="18" y="274"/>
                    </a:lnTo>
                    <a:lnTo>
                      <a:pt x="24" y="256"/>
                    </a:lnTo>
                    <a:lnTo>
                      <a:pt x="32" y="238"/>
                    </a:lnTo>
                    <a:lnTo>
                      <a:pt x="39" y="221"/>
                    </a:lnTo>
                    <a:lnTo>
                      <a:pt x="48" y="203"/>
                    </a:lnTo>
                    <a:lnTo>
                      <a:pt x="58" y="186"/>
                    </a:lnTo>
                    <a:lnTo>
                      <a:pt x="69" y="169"/>
                    </a:lnTo>
                    <a:lnTo>
                      <a:pt x="81" y="154"/>
                    </a:lnTo>
                    <a:lnTo>
                      <a:pt x="93" y="138"/>
                    </a:lnTo>
                    <a:lnTo>
                      <a:pt x="106" y="124"/>
                    </a:lnTo>
                    <a:close/>
                  </a:path>
                </a:pathLst>
              </a:custGeom>
              <a:solidFill>
                <a:srgbClr val="cc8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493720" y="4481640"/>
                <a:ext cx="309600" cy="309600"/>
              </a:xfrm>
              <a:custGeom>
                <a:avLst/>
                <a:gdLst/>
                <a:ahLst/>
                <a:rect l="l" t="t" r="r" b="b"/>
                <a:pathLst>
                  <a:path w="779" h="777">
                    <a:moveTo>
                      <a:pt x="106" y="122"/>
                    </a:moveTo>
                    <a:lnTo>
                      <a:pt x="120" y="108"/>
                    </a:lnTo>
                    <a:lnTo>
                      <a:pt x="135" y="95"/>
                    </a:lnTo>
                    <a:lnTo>
                      <a:pt x="150" y="83"/>
                    </a:lnTo>
                    <a:lnTo>
                      <a:pt x="166" y="71"/>
                    </a:lnTo>
                    <a:lnTo>
                      <a:pt x="181" y="60"/>
                    </a:lnTo>
                    <a:lnTo>
                      <a:pt x="198" y="50"/>
                    </a:lnTo>
                    <a:lnTo>
                      <a:pt x="215" y="41"/>
                    </a:lnTo>
                    <a:lnTo>
                      <a:pt x="232" y="34"/>
                    </a:lnTo>
                    <a:lnTo>
                      <a:pt x="250" y="26"/>
                    </a:lnTo>
                    <a:lnTo>
                      <a:pt x="268" y="19"/>
                    </a:lnTo>
                    <a:lnTo>
                      <a:pt x="286" y="14"/>
                    </a:lnTo>
                    <a:lnTo>
                      <a:pt x="304" y="10"/>
                    </a:lnTo>
                    <a:lnTo>
                      <a:pt x="322" y="6"/>
                    </a:lnTo>
                    <a:lnTo>
                      <a:pt x="341" y="4"/>
                    </a:lnTo>
                    <a:lnTo>
                      <a:pt x="359" y="1"/>
                    </a:lnTo>
                    <a:lnTo>
                      <a:pt x="378" y="0"/>
                    </a:lnTo>
                    <a:lnTo>
                      <a:pt x="396" y="0"/>
                    </a:lnTo>
                    <a:lnTo>
                      <a:pt x="415" y="1"/>
                    </a:lnTo>
                    <a:lnTo>
                      <a:pt x="433" y="2"/>
                    </a:lnTo>
                    <a:lnTo>
                      <a:pt x="453" y="5"/>
                    </a:lnTo>
                    <a:lnTo>
                      <a:pt x="471" y="8"/>
                    </a:lnTo>
                    <a:lnTo>
                      <a:pt x="489" y="13"/>
                    </a:lnTo>
                    <a:lnTo>
                      <a:pt x="508" y="18"/>
                    </a:lnTo>
                    <a:lnTo>
                      <a:pt x="526" y="24"/>
                    </a:lnTo>
                    <a:lnTo>
                      <a:pt x="543" y="31"/>
                    </a:lnTo>
                    <a:lnTo>
                      <a:pt x="561" y="40"/>
                    </a:lnTo>
                    <a:lnTo>
                      <a:pt x="577" y="48"/>
                    </a:lnTo>
                    <a:lnTo>
                      <a:pt x="594" y="58"/>
                    </a:lnTo>
                    <a:lnTo>
                      <a:pt x="610" y="68"/>
                    </a:lnTo>
                    <a:lnTo>
                      <a:pt x="627" y="79"/>
                    </a:lnTo>
                    <a:lnTo>
                      <a:pt x="641" y="92"/>
                    </a:lnTo>
                    <a:lnTo>
                      <a:pt x="657" y="106"/>
                    </a:lnTo>
                    <a:lnTo>
                      <a:pt x="671" y="120"/>
                    </a:lnTo>
                    <a:lnTo>
                      <a:pt x="684" y="134"/>
                    </a:lnTo>
                    <a:lnTo>
                      <a:pt x="696" y="149"/>
                    </a:lnTo>
                    <a:lnTo>
                      <a:pt x="708" y="164"/>
                    </a:lnTo>
                    <a:lnTo>
                      <a:pt x="719" y="181"/>
                    </a:lnTo>
                    <a:lnTo>
                      <a:pt x="729" y="197"/>
                    </a:lnTo>
                    <a:lnTo>
                      <a:pt x="737" y="215"/>
                    </a:lnTo>
                    <a:lnTo>
                      <a:pt x="745" y="232"/>
                    </a:lnTo>
                    <a:lnTo>
                      <a:pt x="753" y="248"/>
                    </a:lnTo>
                    <a:lnTo>
                      <a:pt x="759" y="266"/>
                    </a:lnTo>
                    <a:lnTo>
                      <a:pt x="765" y="284"/>
                    </a:lnTo>
                    <a:lnTo>
                      <a:pt x="769" y="302"/>
                    </a:lnTo>
                    <a:lnTo>
                      <a:pt x="773" y="322"/>
                    </a:lnTo>
                    <a:lnTo>
                      <a:pt x="775" y="340"/>
                    </a:lnTo>
                    <a:lnTo>
                      <a:pt x="778" y="359"/>
                    </a:lnTo>
                    <a:lnTo>
                      <a:pt x="779" y="377"/>
                    </a:lnTo>
                    <a:lnTo>
                      <a:pt x="779" y="396"/>
                    </a:lnTo>
                    <a:lnTo>
                      <a:pt x="778" y="414"/>
                    </a:lnTo>
                    <a:lnTo>
                      <a:pt x="777" y="433"/>
                    </a:lnTo>
                    <a:lnTo>
                      <a:pt x="774" y="451"/>
                    </a:lnTo>
                    <a:lnTo>
                      <a:pt x="771" y="470"/>
                    </a:lnTo>
                    <a:lnTo>
                      <a:pt x="766" y="488"/>
                    </a:lnTo>
                    <a:lnTo>
                      <a:pt x="761" y="506"/>
                    </a:lnTo>
                    <a:lnTo>
                      <a:pt x="755" y="524"/>
                    </a:lnTo>
                    <a:lnTo>
                      <a:pt x="748" y="542"/>
                    </a:lnTo>
                    <a:lnTo>
                      <a:pt x="739" y="559"/>
                    </a:lnTo>
                    <a:lnTo>
                      <a:pt x="731" y="576"/>
                    </a:lnTo>
                    <a:lnTo>
                      <a:pt x="721" y="593"/>
                    </a:lnTo>
                    <a:lnTo>
                      <a:pt x="711" y="609"/>
                    </a:lnTo>
                    <a:lnTo>
                      <a:pt x="699" y="625"/>
                    </a:lnTo>
                    <a:lnTo>
                      <a:pt x="687" y="641"/>
                    </a:lnTo>
                    <a:lnTo>
                      <a:pt x="673" y="655"/>
                    </a:lnTo>
                    <a:lnTo>
                      <a:pt x="659" y="669"/>
                    </a:lnTo>
                    <a:lnTo>
                      <a:pt x="645" y="683"/>
                    </a:lnTo>
                    <a:lnTo>
                      <a:pt x="629" y="696"/>
                    </a:lnTo>
                    <a:lnTo>
                      <a:pt x="613" y="707"/>
                    </a:lnTo>
                    <a:lnTo>
                      <a:pt x="598" y="717"/>
                    </a:lnTo>
                    <a:lnTo>
                      <a:pt x="581" y="728"/>
                    </a:lnTo>
                    <a:lnTo>
                      <a:pt x="564" y="737"/>
                    </a:lnTo>
                    <a:lnTo>
                      <a:pt x="547" y="745"/>
                    </a:lnTo>
                    <a:lnTo>
                      <a:pt x="529" y="752"/>
                    </a:lnTo>
                    <a:lnTo>
                      <a:pt x="511" y="758"/>
                    </a:lnTo>
                    <a:lnTo>
                      <a:pt x="493" y="764"/>
                    </a:lnTo>
                    <a:lnTo>
                      <a:pt x="475" y="768"/>
                    </a:lnTo>
                    <a:lnTo>
                      <a:pt x="457" y="771"/>
                    </a:lnTo>
                    <a:lnTo>
                      <a:pt x="439" y="775"/>
                    </a:lnTo>
                    <a:lnTo>
                      <a:pt x="420" y="776"/>
                    </a:lnTo>
                    <a:lnTo>
                      <a:pt x="401" y="777"/>
                    </a:lnTo>
                    <a:lnTo>
                      <a:pt x="383" y="777"/>
                    </a:lnTo>
                    <a:lnTo>
                      <a:pt x="364" y="777"/>
                    </a:lnTo>
                    <a:lnTo>
                      <a:pt x="346" y="775"/>
                    </a:lnTo>
                    <a:lnTo>
                      <a:pt x="327" y="773"/>
                    </a:lnTo>
                    <a:lnTo>
                      <a:pt x="309" y="769"/>
                    </a:lnTo>
                    <a:lnTo>
                      <a:pt x="291" y="765"/>
                    </a:lnTo>
                    <a:lnTo>
                      <a:pt x="273" y="759"/>
                    </a:lnTo>
                    <a:lnTo>
                      <a:pt x="255" y="753"/>
                    </a:lnTo>
                    <a:lnTo>
                      <a:pt x="237" y="746"/>
                    </a:lnTo>
                    <a:lnTo>
                      <a:pt x="219" y="739"/>
                    </a:lnTo>
                    <a:lnTo>
                      <a:pt x="202" y="729"/>
                    </a:lnTo>
                    <a:lnTo>
                      <a:pt x="185" y="720"/>
                    </a:lnTo>
                    <a:lnTo>
                      <a:pt x="169" y="710"/>
                    </a:lnTo>
                    <a:lnTo>
                      <a:pt x="154" y="698"/>
                    </a:lnTo>
                    <a:lnTo>
                      <a:pt x="138" y="686"/>
                    </a:lnTo>
                    <a:lnTo>
                      <a:pt x="123" y="672"/>
                    </a:lnTo>
                    <a:lnTo>
                      <a:pt x="108" y="659"/>
                    </a:lnTo>
                    <a:lnTo>
                      <a:pt x="95" y="644"/>
                    </a:lnTo>
                    <a:lnTo>
                      <a:pt x="83" y="629"/>
                    </a:lnTo>
                    <a:lnTo>
                      <a:pt x="71" y="613"/>
                    </a:lnTo>
                    <a:lnTo>
                      <a:pt x="60" y="598"/>
                    </a:lnTo>
                    <a:lnTo>
                      <a:pt x="51" y="581"/>
                    </a:lnTo>
                    <a:lnTo>
                      <a:pt x="42" y="564"/>
                    </a:lnTo>
                    <a:lnTo>
                      <a:pt x="34" y="546"/>
                    </a:lnTo>
                    <a:lnTo>
                      <a:pt x="27" y="529"/>
                    </a:lnTo>
                    <a:lnTo>
                      <a:pt x="21" y="511"/>
                    </a:lnTo>
                    <a:lnTo>
                      <a:pt x="15" y="493"/>
                    </a:lnTo>
                    <a:lnTo>
                      <a:pt x="10" y="475"/>
                    </a:lnTo>
                    <a:lnTo>
                      <a:pt x="6" y="457"/>
                    </a:lnTo>
                    <a:lnTo>
                      <a:pt x="4" y="438"/>
                    </a:lnTo>
                    <a:lnTo>
                      <a:pt x="1" y="420"/>
                    </a:lnTo>
                    <a:lnTo>
                      <a:pt x="1" y="401"/>
                    </a:lnTo>
                    <a:lnTo>
                      <a:pt x="0" y="382"/>
                    </a:lnTo>
                    <a:lnTo>
                      <a:pt x="1" y="364"/>
                    </a:lnTo>
                    <a:lnTo>
                      <a:pt x="3" y="344"/>
                    </a:lnTo>
                    <a:lnTo>
                      <a:pt x="6" y="326"/>
                    </a:lnTo>
                    <a:lnTo>
                      <a:pt x="9" y="308"/>
                    </a:lnTo>
                    <a:lnTo>
                      <a:pt x="13" y="289"/>
                    </a:lnTo>
                    <a:lnTo>
                      <a:pt x="18" y="271"/>
                    </a:lnTo>
                    <a:lnTo>
                      <a:pt x="25" y="253"/>
                    </a:lnTo>
                    <a:lnTo>
                      <a:pt x="31" y="236"/>
                    </a:lnTo>
                    <a:lnTo>
                      <a:pt x="40" y="218"/>
                    </a:lnTo>
                    <a:lnTo>
                      <a:pt x="48" y="202"/>
                    </a:lnTo>
                    <a:lnTo>
                      <a:pt x="58" y="185"/>
                    </a:lnTo>
                    <a:lnTo>
                      <a:pt x="69" y="168"/>
                    </a:lnTo>
                    <a:lnTo>
                      <a:pt x="81" y="152"/>
                    </a:lnTo>
                    <a:lnTo>
                      <a:pt x="93" y="137"/>
                    </a:lnTo>
                    <a:lnTo>
                      <a:pt x="106" y="122"/>
                    </a:lnTo>
                    <a:close/>
                  </a:path>
                </a:pathLst>
              </a:custGeom>
              <a:solidFill>
                <a:srgbClr val="d48e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496960" y="4483080"/>
                <a:ext cx="304920" cy="306360"/>
              </a:xfrm>
              <a:custGeom>
                <a:avLst/>
                <a:gdLst/>
                <a:ahLst/>
                <a:rect l="l" t="t" r="r" b="b"/>
                <a:pathLst>
                  <a:path w="771" h="770">
                    <a:moveTo>
                      <a:pt x="105" y="121"/>
                    </a:moveTo>
                    <a:lnTo>
                      <a:pt x="119" y="107"/>
                    </a:lnTo>
                    <a:lnTo>
                      <a:pt x="133" y="93"/>
                    </a:lnTo>
                    <a:lnTo>
                      <a:pt x="149" y="81"/>
                    </a:lnTo>
                    <a:lnTo>
                      <a:pt x="163" y="71"/>
                    </a:lnTo>
                    <a:lnTo>
                      <a:pt x="180" y="60"/>
                    </a:lnTo>
                    <a:lnTo>
                      <a:pt x="196" y="50"/>
                    </a:lnTo>
                    <a:lnTo>
                      <a:pt x="213" y="41"/>
                    </a:lnTo>
                    <a:lnTo>
                      <a:pt x="229" y="33"/>
                    </a:lnTo>
                    <a:lnTo>
                      <a:pt x="247" y="26"/>
                    </a:lnTo>
                    <a:lnTo>
                      <a:pt x="264" y="19"/>
                    </a:lnTo>
                    <a:lnTo>
                      <a:pt x="282" y="14"/>
                    </a:lnTo>
                    <a:lnTo>
                      <a:pt x="300" y="9"/>
                    </a:lnTo>
                    <a:lnTo>
                      <a:pt x="319" y="6"/>
                    </a:lnTo>
                    <a:lnTo>
                      <a:pt x="337" y="3"/>
                    </a:lnTo>
                    <a:lnTo>
                      <a:pt x="355" y="1"/>
                    </a:lnTo>
                    <a:lnTo>
                      <a:pt x="375" y="0"/>
                    </a:lnTo>
                    <a:lnTo>
                      <a:pt x="393" y="0"/>
                    </a:lnTo>
                    <a:lnTo>
                      <a:pt x="411" y="1"/>
                    </a:lnTo>
                    <a:lnTo>
                      <a:pt x="430" y="2"/>
                    </a:lnTo>
                    <a:lnTo>
                      <a:pt x="448" y="5"/>
                    </a:lnTo>
                    <a:lnTo>
                      <a:pt x="466" y="8"/>
                    </a:lnTo>
                    <a:lnTo>
                      <a:pt x="485" y="13"/>
                    </a:lnTo>
                    <a:lnTo>
                      <a:pt x="503" y="18"/>
                    </a:lnTo>
                    <a:lnTo>
                      <a:pt x="520" y="24"/>
                    </a:lnTo>
                    <a:lnTo>
                      <a:pt x="538" y="31"/>
                    </a:lnTo>
                    <a:lnTo>
                      <a:pt x="555" y="38"/>
                    </a:lnTo>
                    <a:lnTo>
                      <a:pt x="571" y="48"/>
                    </a:lnTo>
                    <a:lnTo>
                      <a:pt x="588" y="57"/>
                    </a:lnTo>
                    <a:lnTo>
                      <a:pt x="604" y="67"/>
                    </a:lnTo>
                    <a:lnTo>
                      <a:pt x="621" y="79"/>
                    </a:lnTo>
                    <a:lnTo>
                      <a:pt x="635" y="91"/>
                    </a:lnTo>
                    <a:lnTo>
                      <a:pt x="651" y="104"/>
                    </a:lnTo>
                    <a:lnTo>
                      <a:pt x="664" y="119"/>
                    </a:lnTo>
                    <a:lnTo>
                      <a:pt x="677" y="133"/>
                    </a:lnTo>
                    <a:lnTo>
                      <a:pt x="690" y="147"/>
                    </a:lnTo>
                    <a:lnTo>
                      <a:pt x="701" y="163"/>
                    </a:lnTo>
                    <a:lnTo>
                      <a:pt x="712" y="180"/>
                    </a:lnTo>
                    <a:lnTo>
                      <a:pt x="721" y="195"/>
                    </a:lnTo>
                    <a:lnTo>
                      <a:pt x="731" y="212"/>
                    </a:lnTo>
                    <a:lnTo>
                      <a:pt x="738" y="229"/>
                    </a:lnTo>
                    <a:lnTo>
                      <a:pt x="745" y="247"/>
                    </a:lnTo>
                    <a:lnTo>
                      <a:pt x="751" y="264"/>
                    </a:lnTo>
                    <a:lnTo>
                      <a:pt x="757" y="282"/>
                    </a:lnTo>
                    <a:lnTo>
                      <a:pt x="762" y="300"/>
                    </a:lnTo>
                    <a:lnTo>
                      <a:pt x="766" y="318"/>
                    </a:lnTo>
                    <a:lnTo>
                      <a:pt x="768" y="337"/>
                    </a:lnTo>
                    <a:lnTo>
                      <a:pt x="771" y="355"/>
                    </a:lnTo>
                    <a:lnTo>
                      <a:pt x="771" y="373"/>
                    </a:lnTo>
                    <a:lnTo>
                      <a:pt x="771" y="392"/>
                    </a:lnTo>
                    <a:lnTo>
                      <a:pt x="771" y="410"/>
                    </a:lnTo>
                    <a:lnTo>
                      <a:pt x="768" y="429"/>
                    </a:lnTo>
                    <a:lnTo>
                      <a:pt x="766" y="447"/>
                    </a:lnTo>
                    <a:lnTo>
                      <a:pt x="763" y="465"/>
                    </a:lnTo>
                    <a:lnTo>
                      <a:pt x="759" y="483"/>
                    </a:lnTo>
                    <a:lnTo>
                      <a:pt x="754" y="501"/>
                    </a:lnTo>
                    <a:lnTo>
                      <a:pt x="748" y="519"/>
                    </a:lnTo>
                    <a:lnTo>
                      <a:pt x="741" y="537"/>
                    </a:lnTo>
                    <a:lnTo>
                      <a:pt x="732" y="554"/>
                    </a:lnTo>
                    <a:lnTo>
                      <a:pt x="724" y="571"/>
                    </a:lnTo>
                    <a:lnTo>
                      <a:pt x="714" y="588"/>
                    </a:lnTo>
                    <a:lnTo>
                      <a:pt x="703" y="603"/>
                    </a:lnTo>
                    <a:lnTo>
                      <a:pt x="693" y="619"/>
                    </a:lnTo>
                    <a:lnTo>
                      <a:pt x="679" y="634"/>
                    </a:lnTo>
                    <a:lnTo>
                      <a:pt x="667" y="649"/>
                    </a:lnTo>
                    <a:lnTo>
                      <a:pt x="653" y="663"/>
                    </a:lnTo>
                    <a:lnTo>
                      <a:pt x="639" y="676"/>
                    </a:lnTo>
                    <a:lnTo>
                      <a:pt x="623" y="688"/>
                    </a:lnTo>
                    <a:lnTo>
                      <a:pt x="607" y="700"/>
                    </a:lnTo>
                    <a:lnTo>
                      <a:pt x="592" y="711"/>
                    </a:lnTo>
                    <a:lnTo>
                      <a:pt x="576" y="721"/>
                    </a:lnTo>
                    <a:lnTo>
                      <a:pt x="559" y="729"/>
                    </a:lnTo>
                    <a:lnTo>
                      <a:pt x="543" y="738"/>
                    </a:lnTo>
                    <a:lnTo>
                      <a:pt x="525" y="745"/>
                    </a:lnTo>
                    <a:lnTo>
                      <a:pt x="507" y="751"/>
                    </a:lnTo>
                    <a:lnTo>
                      <a:pt x="490" y="757"/>
                    </a:lnTo>
                    <a:lnTo>
                      <a:pt x="471" y="760"/>
                    </a:lnTo>
                    <a:lnTo>
                      <a:pt x="453" y="765"/>
                    </a:lnTo>
                    <a:lnTo>
                      <a:pt x="435" y="768"/>
                    </a:lnTo>
                    <a:lnTo>
                      <a:pt x="417" y="769"/>
                    </a:lnTo>
                    <a:lnTo>
                      <a:pt x="397" y="770"/>
                    </a:lnTo>
                    <a:lnTo>
                      <a:pt x="379" y="770"/>
                    </a:lnTo>
                    <a:lnTo>
                      <a:pt x="360" y="770"/>
                    </a:lnTo>
                    <a:lnTo>
                      <a:pt x="342" y="768"/>
                    </a:lnTo>
                    <a:lnTo>
                      <a:pt x="324" y="765"/>
                    </a:lnTo>
                    <a:lnTo>
                      <a:pt x="305" y="762"/>
                    </a:lnTo>
                    <a:lnTo>
                      <a:pt x="287" y="758"/>
                    </a:lnTo>
                    <a:lnTo>
                      <a:pt x="269" y="753"/>
                    </a:lnTo>
                    <a:lnTo>
                      <a:pt x="252" y="746"/>
                    </a:lnTo>
                    <a:lnTo>
                      <a:pt x="234" y="740"/>
                    </a:lnTo>
                    <a:lnTo>
                      <a:pt x="217" y="732"/>
                    </a:lnTo>
                    <a:lnTo>
                      <a:pt x="201" y="723"/>
                    </a:lnTo>
                    <a:lnTo>
                      <a:pt x="184" y="714"/>
                    </a:lnTo>
                    <a:lnTo>
                      <a:pt x="167" y="703"/>
                    </a:lnTo>
                    <a:lnTo>
                      <a:pt x="151" y="692"/>
                    </a:lnTo>
                    <a:lnTo>
                      <a:pt x="137" y="679"/>
                    </a:lnTo>
                    <a:lnTo>
                      <a:pt x="121" y="666"/>
                    </a:lnTo>
                    <a:lnTo>
                      <a:pt x="108" y="652"/>
                    </a:lnTo>
                    <a:lnTo>
                      <a:pt x="95" y="638"/>
                    </a:lnTo>
                    <a:lnTo>
                      <a:pt x="82" y="622"/>
                    </a:lnTo>
                    <a:lnTo>
                      <a:pt x="71" y="607"/>
                    </a:lnTo>
                    <a:lnTo>
                      <a:pt x="60" y="591"/>
                    </a:lnTo>
                    <a:lnTo>
                      <a:pt x="51" y="575"/>
                    </a:lnTo>
                    <a:lnTo>
                      <a:pt x="41" y="559"/>
                    </a:lnTo>
                    <a:lnTo>
                      <a:pt x="34" y="541"/>
                    </a:lnTo>
                    <a:lnTo>
                      <a:pt x="27" y="524"/>
                    </a:lnTo>
                    <a:lnTo>
                      <a:pt x="19" y="506"/>
                    </a:lnTo>
                    <a:lnTo>
                      <a:pt x="15" y="488"/>
                    </a:lnTo>
                    <a:lnTo>
                      <a:pt x="10" y="470"/>
                    </a:lnTo>
                    <a:lnTo>
                      <a:pt x="6" y="452"/>
                    </a:lnTo>
                    <a:lnTo>
                      <a:pt x="4" y="434"/>
                    </a:lnTo>
                    <a:lnTo>
                      <a:pt x="1" y="416"/>
                    </a:lnTo>
                    <a:lnTo>
                      <a:pt x="1" y="397"/>
                    </a:lnTo>
                    <a:lnTo>
                      <a:pt x="0" y="379"/>
                    </a:lnTo>
                    <a:lnTo>
                      <a:pt x="1" y="360"/>
                    </a:lnTo>
                    <a:lnTo>
                      <a:pt x="3" y="342"/>
                    </a:lnTo>
                    <a:lnTo>
                      <a:pt x="5" y="324"/>
                    </a:lnTo>
                    <a:lnTo>
                      <a:pt x="9" y="305"/>
                    </a:lnTo>
                    <a:lnTo>
                      <a:pt x="13" y="287"/>
                    </a:lnTo>
                    <a:lnTo>
                      <a:pt x="18" y="269"/>
                    </a:lnTo>
                    <a:lnTo>
                      <a:pt x="24" y="251"/>
                    </a:lnTo>
                    <a:lnTo>
                      <a:pt x="31" y="234"/>
                    </a:lnTo>
                    <a:lnTo>
                      <a:pt x="40" y="217"/>
                    </a:lnTo>
                    <a:lnTo>
                      <a:pt x="48" y="199"/>
                    </a:lnTo>
                    <a:lnTo>
                      <a:pt x="58" y="183"/>
                    </a:lnTo>
                    <a:lnTo>
                      <a:pt x="69" y="167"/>
                    </a:lnTo>
                    <a:lnTo>
                      <a:pt x="79" y="151"/>
                    </a:lnTo>
                    <a:lnTo>
                      <a:pt x="91" y="135"/>
                    </a:lnTo>
                    <a:lnTo>
                      <a:pt x="105" y="121"/>
                    </a:lnTo>
                    <a:close/>
                  </a:path>
                </a:pathLst>
              </a:custGeom>
              <a:solidFill>
                <a:srgbClr val="d990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98760" y="4486320"/>
                <a:ext cx="303120" cy="301680"/>
              </a:xfrm>
              <a:custGeom>
                <a:avLst/>
                <a:gdLst/>
                <a:ahLst/>
                <a:rect l="l" t="t" r="r" b="b"/>
                <a:pathLst>
                  <a:path w="763" h="762">
                    <a:moveTo>
                      <a:pt x="103" y="119"/>
                    </a:moveTo>
                    <a:lnTo>
                      <a:pt x="118" y="105"/>
                    </a:lnTo>
                    <a:lnTo>
                      <a:pt x="132" y="92"/>
                    </a:lnTo>
                    <a:lnTo>
                      <a:pt x="147" y="80"/>
                    </a:lnTo>
                    <a:lnTo>
                      <a:pt x="162" y="68"/>
                    </a:lnTo>
                    <a:lnTo>
                      <a:pt x="178" y="57"/>
                    </a:lnTo>
                    <a:lnTo>
                      <a:pt x="195" y="48"/>
                    </a:lnTo>
                    <a:lnTo>
                      <a:pt x="210" y="39"/>
                    </a:lnTo>
                    <a:lnTo>
                      <a:pt x="227" y="32"/>
                    </a:lnTo>
                    <a:lnTo>
                      <a:pt x="245" y="25"/>
                    </a:lnTo>
                    <a:lnTo>
                      <a:pt x="262" y="18"/>
                    </a:lnTo>
                    <a:lnTo>
                      <a:pt x="280" y="13"/>
                    </a:lnTo>
                    <a:lnTo>
                      <a:pt x="298" y="8"/>
                    </a:lnTo>
                    <a:lnTo>
                      <a:pt x="316" y="5"/>
                    </a:lnTo>
                    <a:lnTo>
                      <a:pt x="334" y="2"/>
                    </a:lnTo>
                    <a:lnTo>
                      <a:pt x="352" y="0"/>
                    </a:lnTo>
                    <a:lnTo>
                      <a:pt x="371" y="0"/>
                    </a:lnTo>
                    <a:lnTo>
                      <a:pt x="389" y="0"/>
                    </a:lnTo>
                    <a:lnTo>
                      <a:pt x="407" y="0"/>
                    </a:lnTo>
                    <a:lnTo>
                      <a:pt x="425" y="1"/>
                    </a:lnTo>
                    <a:lnTo>
                      <a:pt x="444" y="5"/>
                    </a:lnTo>
                    <a:lnTo>
                      <a:pt x="462" y="7"/>
                    </a:lnTo>
                    <a:lnTo>
                      <a:pt x="480" y="12"/>
                    </a:lnTo>
                    <a:lnTo>
                      <a:pt x="497" y="17"/>
                    </a:lnTo>
                    <a:lnTo>
                      <a:pt x="515" y="23"/>
                    </a:lnTo>
                    <a:lnTo>
                      <a:pt x="533" y="30"/>
                    </a:lnTo>
                    <a:lnTo>
                      <a:pt x="550" y="37"/>
                    </a:lnTo>
                    <a:lnTo>
                      <a:pt x="567" y="47"/>
                    </a:lnTo>
                    <a:lnTo>
                      <a:pt x="582" y="56"/>
                    </a:lnTo>
                    <a:lnTo>
                      <a:pt x="599" y="66"/>
                    </a:lnTo>
                    <a:lnTo>
                      <a:pt x="615" y="78"/>
                    </a:lnTo>
                    <a:lnTo>
                      <a:pt x="629" y="90"/>
                    </a:lnTo>
                    <a:lnTo>
                      <a:pt x="643" y="103"/>
                    </a:lnTo>
                    <a:lnTo>
                      <a:pt x="658" y="116"/>
                    </a:lnTo>
                    <a:lnTo>
                      <a:pt x="671" y="131"/>
                    </a:lnTo>
                    <a:lnTo>
                      <a:pt x="683" y="145"/>
                    </a:lnTo>
                    <a:lnTo>
                      <a:pt x="695" y="161"/>
                    </a:lnTo>
                    <a:lnTo>
                      <a:pt x="705" y="176"/>
                    </a:lnTo>
                    <a:lnTo>
                      <a:pt x="714" y="193"/>
                    </a:lnTo>
                    <a:lnTo>
                      <a:pt x="724" y="210"/>
                    </a:lnTo>
                    <a:lnTo>
                      <a:pt x="731" y="227"/>
                    </a:lnTo>
                    <a:lnTo>
                      <a:pt x="738" y="243"/>
                    </a:lnTo>
                    <a:lnTo>
                      <a:pt x="744" y="260"/>
                    </a:lnTo>
                    <a:lnTo>
                      <a:pt x="750" y="278"/>
                    </a:lnTo>
                    <a:lnTo>
                      <a:pt x="754" y="296"/>
                    </a:lnTo>
                    <a:lnTo>
                      <a:pt x="757" y="314"/>
                    </a:lnTo>
                    <a:lnTo>
                      <a:pt x="761" y="332"/>
                    </a:lnTo>
                    <a:lnTo>
                      <a:pt x="762" y="350"/>
                    </a:lnTo>
                    <a:lnTo>
                      <a:pt x="763" y="369"/>
                    </a:lnTo>
                    <a:lnTo>
                      <a:pt x="763" y="387"/>
                    </a:lnTo>
                    <a:lnTo>
                      <a:pt x="763" y="405"/>
                    </a:lnTo>
                    <a:lnTo>
                      <a:pt x="761" y="425"/>
                    </a:lnTo>
                    <a:lnTo>
                      <a:pt x="759" y="443"/>
                    </a:lnTo>
                    <a:lnTo>
                      <a:pt x="755" y="461"/>
                    </a:lnTo>
                    <a:lnTo>
                      <a:pt x="751" y="479"/>
                    </a:lnTo>
                    <a:lnTo>
                      <a:pt x="747" y="497"/>
                    </a:lnTo>
                    <a:lnTo>
                      <a:pt x="741" y="513"/>
                    </a:lnTo>
                    <a:lnTo>
                      <a:pt x="733" y="531"/>
                    </a:lnTo>
                    <a:lnTo>
                      <a:pt x="725" y="548"/>
                    </a:lnTo>
                    <a:lnTo>
                      <a:pt x="717" y="565"/>
                    </a:lnTo>
                    <a:lnTo>
                      <a:pt x="707" y="581"/>
                    </a:lnTo>
                    <a:lnTo>
                      <a:pt x="697" y="597"/>
                    </a:lnTo>
                    <a:lnTo>
                      <a:pt x="685" y="613"/>
                    </a:lnTo>
                    <a:lnTo>
                      <a:pt x="673" y="627"/>
                    </a:lnTo>
                    <a:lnTo>
                      <a:pt x="660" y="643"/>
                    </a:lnTo>
                    <a:lnTo>
                      <a:pt x="647" y="656"/>
                    </a:lnTo>
                    <a:lnTo>
                      <a:pt x="633" y="669"/>
                    </a:lnTo>
                    <a:lnTo>
                      <a:pt x="617" y="681"/>
                    </a:lnTo>
                    <a:lnTo>
                      <a:pt x="603" y="693"/>
                    </a:lnTo>
                    <a:lnTo>
                      <a:pt x="586" y="703"/>
                    </a:lnTo>
                    <a:lnTo>
                      <a:pt x="570" y="712"/>
                    </a:lnTo>
                    <a:lnTo>
                      <a:pt x="553" y="722"/>
                    </a:lnTo>
                    <a:lnTo>
                      <a:pt x="537" y="729"/>
                    </a:lnTo>
                    <a:lnTo>
                      <a:pt x="520" y="736"/>
                    </a:lnTo>
                    <a:lnTo>
                      <a:pt x="502" y="742"/>
                    </a:lnTo>
                    <a:lnTo>
                      <a:pt x="485" y="748"/>
                    </a:lnTo>
                    <a:lnTo>
                      <a:pt x="467" y="753"/>
                    </a:lnTo>
                    <a:lnTo>
                      <a:pt x="449" y="757"/>
                    </a:lnTo>
                    <a:lnTo>
                      <a:pt x="430" y="759"/>
                    </a:lnTo>
                    <a:lnTo>
                      <a:pt x="412" y="760"/>
                    </a:lnTo>
                    <a:lnTo>
                      <a:pt x="394" y="762"/>
                    </a:lnTo>
                    <a:lnTo>
                      <a:pt x="376" y="762"/>
                    </a:lnTo>
                    <a:lnTo>
                      <a:pt x="357" y="762"/>
                    </a:lnTo>
                    <a:lnTo>
                      <a:pt x="339" y="759"/>
                    </a:lnTo>
                    <a:lnTo>
                      <a:pt x="321" y="757"/>
                    </a:lnTo>
                    <a:lnTo>
                      <a:pt x="303" y="754"/>
                    </a:lnTo>
                    <a:lnTo>
                      <a:pt x="285" y="750"/>
                    </a:lnTo>
                    <a:lnTo>
                      <a:pt x="267" y="745"/>
                    </a:lnTo>
                    <a:lnTo>
                      <a:pt x="250" y="739"/>
                    </a:lnTo>
                    <a:lnTo>
                      <a:pt x="232" y="732"/>
                    </a:lnTo>
                    <a:lnTo>
                      <a:pt x="215" y="724"/>
                    </a:lnTo>
                    <a:lnTo>
                      <a:pt x="198" y="715"/>
                    </a:lnTo>
                    <a:lnTo>
                      <a:pt x="181" y="705"/>
                    </a:lnTo>
                    <a:lnTo>
                      <a:pt x="166" y="696"/>
                    </a:lnTo>
                    <a:lnTo>
                      <a:pt x="150" y="684"/>
                    </a:lnTo>
                    <a:lnTo>
                      <a:pt x="135" y="672"/>
                    </a:lnTo>
                    <a:lnTo>
                      <a:pt x="120" y="658"/>
                    </a:lnTo>
                    <a:lnTo>
                      <a:pt x="107" y="645"/>
                    </a:lnTo>
                    <a:lnTo>
                      <a:pt x="94" y="631"/>
                    </a:lnTo>
                    <a:lnTo>
                      <a:pt x="82" y="615"/>
                    </a:lnTo>
                    <a:lnTo>
                      <a:pt x="70" y="601"/>
                    </a:lnTo>
                    <a:lnTo>
                      <a:pt x="59" y="585"/>
                    </a:lnTo>
                    <a:lnTo>
                      <a:pt x="49" y="569"/>
                    </a:lnTo>
                    <a:lnTo>
                      <a:pt x="41" y="552"/>
                    </a:lnTo>
                    <a:lnTo>
                      <a:pt x="33" y="535"/>
                    </a:lnTo>
                    <a:lnTo>
                      <a:pt x="25" y="518"/>
                    </a:lnTo>
                    <a:lnTo>
                      <a:pt x="19" y="500"/>
                    </a:lnTo>
                    <a:lnTo>
                      <a:pt x="15" y="483"/>
                    </a:lnTo>
                    <a:lnTo>
                      <a:pt x="10" y="465"/>
                    </a:lnTo>
                    <a:lnTo>
                      <a:pt x="6" y="447"/>
                    </a:lnTo>
                    <a:lnTo>
                      <a:pt x="4" y="429"/>
                    </a:lnTo>
                    <a:lnTo>
                      <a:pt x="1" y="410"/>
                    </a:lnTo>
                    <a:lnTo>
                      <a:pt x="0" y="392"/>
                    </a:lnTo>
                    <a:lnTo>
                      <a:pt x="0" y="374"/>
                    </a:lnTo>
                    <a:lnTo>
                      <a:pt x="1" y="356"/>
                    </a:lnTo>
                    <a:lnTo>
                      <a:pt x="3" y="337"/>
                    </a:lnTo>
                    <a:lnTo>
                      <a:pt x="5" y="319"/>
                    </a:lnTo>
                    <a:lnTo>
                      <a:pt x="9" y="301"/>
                    </a:lnTo>
                    <a:lnTo>
                      <a:pt x="13" y="283"/>
                    </a:lnTo>
                    <a:lnTo>
                      <a:pt x="18" y="265"/>
                    </a:lnTo>
                    <a:lnTo>
                      <a:pt x="24" y="248"/>
                    </a:lnTo>
                    <a:lnTo>
                      <a:pt x="31" y="230"/>
                    </a:lnTo>
                    <a:lnTo>
                      <a:pt x="39" y="213"/>
                    </a:lnTo>
                    <a:lnTo>
                      <a:pt x="47" y="197"/>
                    </a:lnTo>
                    <a:lnTo>
                      <a:pt x="57" y="180"/>
                    </a:lnTo>
                    <a:lnTo>
                      <a:pt x="67" y="164"/>
                    </a:lnTo>
                    <a:lnTo>
                      <a:pt x="78" y="149"/>
                    </a:lnTo>
                    <a:lnTo>
                      <a:pt x="91" y="134"/>
                    </a:lnTo>
                    <a:lnTo>
                      <a:pt x="103" y="119"/>
                    </a:lnTo>
                    <a:close/>
                  </a:path>
                </a:pathLst>
              </a:custGeom>
              <a:solidFill>
                <a:srgbClr val="df9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01640" y="44877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756" h="754">
                    <a:moveTo>
                      <a:pt x="103" y="118"/>
                    </a:moveTo>
                    <a:lnTo>
                      <a:pt x="117" y="104"/>
                    </a:lnTo>
                    <a:lnTo>
                      <a:pt x="131" y="91"/>
                    </a:lnTo>
                    <a:lnTo>
                      <a:pt x="145" y="79"/>
                    </a:lnTo>
                    <a:lnTo>
                      <a:pt x="161" y="68"/>
                    </a:lnTo>
                    <a:lnTo>
                      <a:pt x="177" y="57"/>
                    </a:lnTo>
                    <a:lnTo>
                      <a:pt x="192" y="48"/>
                    </a:lnTo>
                    <a:lnTo>
                      <a:pt x="209" y="39"/>
                    </a:lnTo>
                    <a:lnTo>
                      <a:pt x="226" y="31"/>
                    </a:lnTo>
                    <a:lnTo>
                      <a:pt x="243" y="25"/>
                    </a:lnTo>
                    <a:lnTo>
                      <a:pt x="259" y="19"/>
                    </a:lnTo>
                    <a:lnTo>
                      <a:pt x="277" y="13"/>
                    </a:lnTo>
                    <a:lnTo>
                      <a:pt x="294" y="8"/>
                    </a:lnTo>
                    <a:lnTo>
                      <a:pt x="312" y="4"/>
                    </a:lnTo>
                    <a:lnTo>
                      <a:pt x="330" y="2"/>
                    </a:lnTo>
                    <a:lnTo>
                      <a:pt x="348" y="1"/>
                    </a:lnTo>
                    <a:lnTo>
                      <a:pt x="367" y="0"/>
                    </a:lnTo>
                    <a:lnTo>
                      <a:pt x="385" y="0"/>
                    </a:lnTo>
                    <a:lnTo>
                      <a:pt x="403" y="0"/>
                    </a:lnTo>
                    <a:lnTo>
                      <a:pt x="421" y="2"/>
                    </a:lnTo>
                    <a:lnTo>
                      <a:pt x="439" y="4"/>
                    </a:lnTo>
                    <a:lnTo>
                      <a:pt x="457" y="8"/>
                    </a:lnTo>
                    <a:lnTo>
                      <a:pt x="475" y="12"/>
                    </a:lnTo>
                    <a:lnTo>
                      <a:pt x="492" y="16"/>
                    </a:lnTo>
                    <a:lnTo>
                      <a:pt x="510" y="22"/>
                    </a:lnTo>
                    <a:lnTo>
                      <a:pt x="527" y="30"/>
                    </a:lnTo>
                    <a:lnTo>
                      <a:pt x="544" y="37"/>
                    </a:lnTo>
                    <a:lnTo>
                      <a:pt x="561" y="45"/>
                    </a:lnTo>
                    <a:lnTo>
                      <a:pt x="577" y="55"/>
                    </a:lnTo>
                    <a:lnTo>
                      <a:pt x="593" y="66"/>
                    </a:lnTo>
                    <a:lnTo>
                      <a:pt x="609" y="76"/>
                    </a:lnTo>
                    <a:lnTo>
                      <a:pt x="623" y="88"/>
                    </a:lnTo>
                    <a:lnTo>
                      <a:pt x="637" y="102"/>
                    </a:lnTo>
                    <a:lnTo>
                      <a:pt x="652" y="115"/>
                    </a:lnTo>
                    <a:lnTo>
                      <a:pt x="664" y="129"/>
                    </a:lnTo>
                    <a:lnTo>
                      <a:pt x="676" y="145"/>
                    </a:lnTo>
                    <a:lnTo>
                      <a:pt x="688" y="159"/>
                    </a:lnTo>
                    <a:lnTo>
                      <a:pt x="699" y="175"/>
                    </a:lnTo>
                    <a:lnTo>
                      <a:pt x="707" y="192"/>
                    </a:lnTo>
                    <a:lnTo>
                      <a:pt x="717" y="207"/>
                    </a:lnTo>
                    <a:lnTo>
                      <a:pt x="724" y="224"/>
                    </a:lnTo>
                    <a:lnTo>
                      <a:pt x="731" y="241"/>
                    </a:lnTo>
                    <a:lnTo>
                      <a:pt x="737" y="259"/>
                    </a:lnTo>
                    <a:lnTo>
                      <a:pt x="743" y="276"/>
                    </a:lnTo>
                    <a:lnTo>
                      <a:pt x="747" y="294"/>
                    </a:lnTo>
                    <a:lnTo>
                      <a:pt x="750" y="312"/>
                    </a:lnTo>
                    <a:lnTo>
                      <a:pt x="754" y="330"/>
                    </a:lnTo>
                    <a:lnTo>
                      <a:pt x="755" y="348"/>
                    </a:lnTo>
                    <a:lnTo>
                      <a:pt x="756" y="366"/>
                    </a:lnTo>
                    <a:lnTo>
                      <a:pt x="756" y="384"/>
                    </a:lnTo>
                    <a:lnTo>
                      <a:pt x="755" y="402"/>
                    </a:lnTo>
                    <a:lnTo>
                      <a:pt x="754" y="420"/>
                    </a:lnTo>
                    <a:lnTo>
                      <a:pt x="751" y="438"/>
                    </a:lnTo>
                    <a:lnTo>
                      <a:pt x="748" y="456"/>
                    </a:lnTo>
                    <a:lnTo>
                      <a:pt x="744" y="474"/>
                    </a:lnTo>
                    <a:lnTo>
                      <a:pt x="738" y="492"/>
                    </a:lnTo>
                    <a:lnTo>
                      <a:pt x="733" y="508"/>
                    </a:lnTo>
                    <a:lnTo>
                      <a:pt x="726" y="526"/>
                    </a:lnTo>
                    <a:lnTo>
                      <a:pt x="718" y="543"/>
                    </a:lnTo>
                    <a:lnTo>
                      <a:pt x="709" y="559"/>
                    </a:lnTo>
                    <a:lnTo>
                      <a:pt x="700" y="576"/>
                    </a:lnTo>
                    <a:lnTo>
                      <a:pt x="690" y="591"/>
                    </a:lnTo>
                    <a:lnTo>
                      <a:pt x="679" y="607"/>
                    </a:lnTo>
                    <a:lnTo>
                      <a:pt x="666" y="621"/>
                    </a:lnTo>
                    <a:lnTo>
                      <a:pt x="654" y="637"/>
                    </a:lnTo>
                    <a:lnTo>
                      <a:pt x="640" y="650"/>
                    </a:lnTo>
                    <a:lnTo>
                      <a:pt x="627" y="663"/>
                    </a:lnTo>
                    <a:lnTo>
                      <a:pt x="611" y="675"/>
                    </a:lnTo>
                    <a:lnTo>
                      <a:pt x="597" y="686"/>
                    </a:lnTo>
                    <a:lnTo>
                      <a:pt x="581" y="697"/>
                    </a:lnTo>
                    <a:lnTo>
                      <a:pt x="564" y="706"/>
                    </a:lnTo>
                    <a:lnTo>
                      <a:pt x="549" y="715"/>
                    </a:lnTo>
                    <a:lnTo>
                      <a:pt x="532" y="723"/>
                    </a:lnTo>
                    <a:lnTo>
                      <a:pt x="515" y="730"/>
                    </a:lnTo>
                    <a:lnTo>
                      <a:pt x="497" y="736"/>
                    </a:lnTo>
                    <a:lnTo>
                      <a:pt x="480" y="741"/>
                    </a:lnTo>
                    <a:lnTo>
                      <a:pt x="462" y="746"/>
                    </a:lnTo>
                    <a:lnTo>
                      <a:pt x="444" y="749"/>
                    </a:lnTo>
                    <a:lnTo>
                      <a:pt x="426" y="752"/>
                    </a:lnTo>
                    <a:lnTo>
                      <a:pt x="408" y="754"/>
                    </a:lnTo>
                    <a:lnTo>
                      <a:pt x="390" y="754"/>
                    </a:lnTo>
                    <a:lnTo>
                      <a:pt x="372" y="754"/>
                    </a:lnTo>
                    <a:lnTo>
                      <a:pt x="354" y="754"/>
                    </a:lnTo>
                    <a:lnTo>
                      <a:pt x="335" y="753"/>
                    </a:lnTo>
                    <a:lnTo>
                      <a:pt x="317" y="749"/>
                    </a:lnTo>
                    <a:lnTo>
                      <a:pt x="299" y="747"/>
                    </a:lnTo>
                    <a:lnTo>
                      <a:pt x="282" y="742"/>
                    </a:lnTo>
                    <a:lnTo>
                      <a:pt x="264" y="737"/>
                    </a:lnTo>
                    <a:lnTo>
                      <a:pt x="246" y="731"/>
                    </a:lnTo>
                    <a:lnTo>
                      <a:pt x="229" y="724"/>
                    </a:lnTo>
                    <a:lnTo>
                      <a:pt x="213" y="717"/>
                    </a:lnTo>
                    <a:lnTo>
                      <a:pt x="196" y="709"/>
                    </a:lnTo>
                    <a:lnTo>
                      <a:pt x="180" y="699"/>
                    </a:lnTo>
                    <a:lnTo>
                      <a:pt x="165" y="688"/>
                    </a:lnTo>
                    <a:lnTo>
                      <a:pt x="149" y="677"/>
                    </a:lnTo>
                    <a:lnTo>
                      <a:pt x="133" y="665"/>
                    </a:lnTo>
                    <a:lnTo>
                      <a:pt x="119" y="652"/>
                    </a:lnTo>
                    <a:lnTo>
                      <a:pt x="106" y="639"/>
                    </a:lnTo>
                    <a:lnTo>
                      <a:pt x="93" y="625"/>
                    </a:lnTo>
                    <a:lnTo>
                      <a:pt x="81" y="610"/>
                    </a:lnTo>
                    <a:lnTo>
                      <a:pt x="69" y="595"/>
                    </a:lnTo>
                    <a:lnTo>
                      <a:pt x="59" y="579"/>
                    </a:lnTo>
                    <a:lnTo>
                      <a:pt x="49" y="564"/>
                    </a:lnTo>
                    <a:lnTo>
                      <a:pt x="41" y="547"/>
                    </a:lnTo>
                    <a:lnTo>
                      <a:pt x="33" y="530"/>
                    </a:lnTo>
                    <a:lnTo>
                      <a:pt x="25" y="513"/>
                    </a:lnTo>
                    <a:lnTo>
                      <a:pt x="19" y="496"/>
                    </a:lnTo>
                    <a:lnTo>
                      <a:pt x="15" y="478"/>
                    </a:lnTo>
                    <a:lnTo>
                      <a:pt x="10" y="460"/>
                    </a:lnTo>
                    <a:lnTo>
                      <a:pt x="6" y="442"/>
                    </a:lnTo>
                    <a:lnTo>
                      <a:pt x="4" y="424"/>
                    </a:lnTo>
                    <a:lnTo>
                      <a:pt x="1" y="406"/>
                    </a:lnTo>
                    <a:lnTo>
                      <a:pt x="0" y="388"/>
                    </a:lnTo>
                    <a:lnTo>
                      <a:pt x="0" y="370"/>
                    </a:lnTo>
                    <a:lnTo>
                      <a:pt x="1" y="352"/>
                    </a:lnTo>
                    <a:lnTo>
                      <a:pt x="3" y="334"/>
                    </a:lnTo>
                    <a:lnTo>
                      <a:pt x="5" y="316"/>
                    </a:lnTo>
                    <a:lnTo>
                      <a:pt x="9" y="298"/>
                    </a:lnTo>
                    <a:lnTo>
                      <a:pt x="13" y="280"/>
                    </a:lnTo>
                    <a:lnTo>
                      <a:pt x="18" y="262"/>
                    </a:lnTo>
                    <a:lnTo>
                      <a:pt x="24" y="246"/>
                    </a:lnTo>
                    <a:lnTo>
                      <a:pt x="30" y="229"/>
                    </a:lnTo>
                    <a:lnTo>
                      <a:pt x="39" y="212"/>
                    </a:lnTo>
                    <a:lnTo>
                      <a:pt x="47" y="195"/>
                    </a:lnTo>
                    <a:lnTo>
                      <a:pt x="57" y="178"/>
                    </a:lnTo>
                    <a:lnTo>
                      <a:pt x="66" y="163"/>
                    </a:lnTo>
                    <a:lnTo>
                      <a:pt x="78" y="147"/>
                    </a:lnTo>
                    <a:lnTo>
                      <a:pt x="90" y="133"/>
                    </a:lnTo>
                    <a:lnTo>
                      <a:pt x="103" y="118"/>
                    </a:lnTo>
                    <a:close/>
                  </a:path>
                </a:pathLst>
              </a:custGeom>
              <a:solidFill>
                <a:srgbClr val="e39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03440" y="4489560"/>
                <a:ext cx="298440" cy="298440"/>
              </a:xfrm>
              <a:custGeom>
                <a:avLst/>
                <a:gdLst/>
                <a:ahLst/>
                <a:rect l="l" t="t" r="r" b="b"/>
                <a:pathLst>
                  <a:path w="749" h="749">
                    <a:moveTo>
                      <a:pt x="102" y="118"/>
                    </a:moveTo>
                    <a:lnTo>
                      <a:pt x="115" y="105"/>
                    </a:lnTo>
                    <a:lnTo>
                      <a:pt x="130" y="92"/>
                    </a:lnTo>
                    <a:lnTo>
                      <a:pt x="144" y="80"/>
                    </a:lnTo>
                    <a:lnTo>
                      <a:pt x="159" y="69"/>
                    </a:lnTo>
                    <a:lnTo>
                      <a:pt x="174" y="58"/>
                    </a:lnTo>
                    <a:lnTo>
                      <a:pt x="190" y="48"/>
                    </a:lnTo>
                    <a:lnTo>
                      <a:pt x="207" y="40"/>
                    </a:lnTo>
                    <a:lnTo>
                      <a:pt x="223" y="32"/>
                    </a:lnTo>
                    <a:lnTo>
                      <a:pt x="240" y="26"/>
                    </a:lnTo>
                    <a:lnTo>
                      <a:pt x="257" y="20"/>
                    </a:lnTo>
                    <a:lnTo>
                      <a:pt x="274" y="14"/>
                    </a:lnTo>
                    <a:lnTo>
                      <a:pt x="292" y="10"/>
                    </a:lnTo>
                    <a:lnTo>
                      <a:pt x="310" y="6"/>
                    </a:lnTo>
                    <a:lnTo>
                      <a:pt x="328" y="3"/>
                    </a:lnTo>
                    <a:lnTo>
                      <a:pt x="345" y="2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399" y="2"/>
                    </a:lnTo>
                    <a:lnTo>
                      <a:pt x="417" y="3"/>
                    </a:lnTo>
                    <a:lnTo>
                      <a:pt x="435" y="5"/>
                    </a:lnTo>
                    <a:lnTo>
                      <a:pt x="453" y="9"/>
                    </a:lnTo>
                    <a:lnTo>
                      <a:pt x="471" y="12"/>
                    </a:lnTo>
                    <a:lnTo>
                      <a:pt x="487" y="17"/>
                    </a:lnTo>
                    <a:lnTo>
                      <a:pt x="505" y="23"/>
                    </a:lnTo>
                    <a:lnTo>
                      <a:pt x="522" y="30"/>
                    </a:lnTo>
                    <a:lnTo>
                      <a:pt x="539" y="38"/>
                    </a:lnTo>
                    <a:lnTo>
                      <a:pt x="555" y="46"/>
                    </a:lnTo>
                    <a:lnTo>
                      <a:pt x="571" y="56"/>
                    </a:lnTo>
                    <a:lnTo>
                      <a:pt x="587" y="66"/>
                    </a:lnTo>
                    <a:lnTo>
                      <a:pt x="603" y="77"/>
                    </a:lnTo>
                    <a:lnTo>
                      <a:pt x="617" y="89"/>
                    </a:lnTo>
                    <a:lnTo>
                      <a:pt x="631" y="101"/>
                    </a:lnTo>
                    <a:lnTo>
                      <a:pt x="645" y="116"/>
                    </a:lnTo>
                    <a:lnTo>
                      <a:pt x="658" y="129"/>
                    </a:lnTo>
                    <a:lnTo>
                      <a:pt x="670" y="144"/>
                    </a:lnTo>
                    <a:lnTo>
                      <a:pt x="681" y="159"/>
                    </a:lnTo>
                    <a:lnTo>
                      <a:pt x="691" y="174"/>
                    </a:lnTo>
                    <a:lnTo>
                      <a:pt x="701" y="190"/>
                    </a:lnTo>
                    <a:lnTo>
                      <a:pt x="709" y="207"/>
                    </a:lnTo>
                    <a:lnTo>
                      <a:pt x="717" y="222"/>
                    </a:lnTo>
                    <a:lnTo>
                      <a:pt x="724" y="239"/>
                    </a:lnTo>
                    <a:lnTo>
                      <a:pt x="730" y="257"/>
                    </a:lnTo>
                    <a:lnTo>
                      <a:pt x="736" y="274"/>
                    </a:lnTo>
                    <a:lnTo>
                      <a:pt x="739" y="292"/>
                    </a:lnTo>
                    <a:lnTo>
                      <a:pt x="743" y="310"/>
                    </a:lnTo>
                    <a:lnTo>
                      <a:pt x="745" y="327"/>
                    </a:lnTo>
                    <a:lnTo>
                      <a:pt x="748" y="345"/>
                    </a:lnTo>
                    <a:lnTo>
                      <a:pt x="749" y="363"/>
                    </a:lnTo>
                    <a:lnTo>
                      <a:pt x="749" y="381"/>
                    </a:lnTo>
                    <a:lnTo>
                      <a:pt x="748" y="399"/>
                    </a:lnTo>
                    <a:lnTo>
                      <a:pt x="747" y="417"/>
                    </a:lnTo>
                    <a:lnTo>
                      <a:pt x="744" y="435"/>
                    </a:lnTo>
                    <a:lnTo>
                      <a:pt x="741" y="453"/>
                    </a:lnTo>
                    <a:lnTo>
                      <a:pt x="737" y="471"/>
                    </a:lnTo>
                    <a:lnTo>
                      <a:pt x="731" y="488"/>
                    </a:lnTo>
                    <a:lnTo>
                      <a:pt x="725" y="504"/>
                    </a:lnTo>
                    <a:lnTo>
                      <a:pt x="719" y="522"/>
                    </a:lnTo>
                    <a:lnTo>
                      <a:pt x="712" y="538"/>
                    </a:lnTo>
                    <a:lnTo>
                      <a:pt x="702" y="555"/>
                    </a:lnTo>
                    <a:lnTo>
                      <a:pt x="694" y="572"/>
                    </a:lnTo>
                    <a:lnTo>
                      <a:pt x="683" y="587"/>
                    </a:lnTo>
                    <a:lnTo>
                      <a:pt x="672" y="601"/>
                    </a:lnTo>
                    <a:lnTo>
                      <a:pt x="660" y="617"/>
                    </a:lnTo>
                    <a:lnTo>
                      <a:pt x="647" y="631"/>
                    </a:lnTo>
                    <a:lnTo>
                      <a:pt x="634" y="645"/>
                    </a:lnTo>
                    <a:lnTo>
                      <a:pt x="619" y="658"/>
                    </a:lnTo>
                    <a:lnTo>
                      <a:pt x="605" y="670"/>
                    </a:lnTo>
                    <a:lnTo>
                      <a:pt x="591" y="681"/>
                    </a:lnTo>
                    <a:lnTo>
                      <a:pt x="575" y="691"/>
                    </a:lnTo>
                    <a:lnTo>
                      <a:pt x="559" y="700"/>
                    </a:lnTo>
                    <a:lnTo>
                      <a:pt x="543" y="709"/>
                    </a:lnTo>
                    <a:lnTo>
                      <a:pt x="526" y="717"/>
                    </a:lnTo>
                    <a:lnTo>
                      <a:pt x="509" y="724"/>
                    </a:lnTo>
                    <a:lnTo>
                      <a:pt x="492" y="730"/>
                    </a:lnTo>
                    <a:lnTo>
                      <a:pt x="475" y="735"/>
                    </a:lnTo>
                    <a:lnTo>
                      <a:pt x="457" y="739"/>
                    </a:lnTo>
                    <a:lnTo>
                      <a:pt x="439" y="743"/>
                    </a:lnTo>
                    <a:lnTo>
                      <a:pt x="421" y="745"/>
                    </a:lnTo>
                    <a:lnTo>
                      <a:pt x="405" y="748"/>
                    </a:lnTo>
                    <a:lnTo>
                      <a:pt x="387" y="748"/>
                    </a:lnTo>
                    <a:lnTo>
                      <a:pt x="369" y="749"/>
                    </a:lnTo>
                    <a:lnTo>
                      <a:pt x="351" y="748"/>
                    </a:lnTo>
                    <a:lnTo>
                      <a:pt x="333" y="747"/>
                    </a:lnTo>
                    <a:lnTo>
                      <a:pt x="315" y="744"/>
                    </a:lnTo>
                    <a:lnTo>
                      <a:pt x="297" y="741"/>
                    </a:lnTo>
                    <a:lnTo>
                      <a:pt x="279" y="736"/>
                    </a:lnTo>
                    <a:lnTo>
                      <a:pt x="262" y="731"/>
                    </a:lnTo>
                    <a:lnTo>
                      <a:pt x="244" y="725"/>
                    </a:lnTo>
                    <a:lnTo>
                      <a:pt x="227" y="719"/>
                    </a:lnTo>
                    <a:lnTo>
                      <a:pt x="210" y="711"/>
                    </a:lnTo>
                    <a:lnTo>
                      <a:pt x="195" y="702"/>
                    </a:lnTo>
                    <a:lnTo>
                      <a:pt x="178" y="693"/>
                    </a:lnTo>
                    <a:lnTo>
                      <a:pt x="162" y="683"/>
                    </a:lnTo>
                    <a:lnTo>
                      <a:pt x="147" y="672"/>
                    </a:lnTo>
                    <a:lnTo>
                      <a:pt x="132" y="660"/>
                    </a:lnTo>
                    <a:lnTo>
                      <a:pt x="118" y="647"/>
                    </a:lnTo>
                    <a:lnTo>
                      <a:pt x="105" y="634"/>
                    </a:lnTo>
                    <a:lnTo>
                      <a:pt x="91" y="619"/>
                    </a:lnTo>
                    <a:lnTo>
                      <a:pt x="79" y="605"/>
                    </a:lnTo>
                    <a:lnTo>
                      <a:pt x="69" y="589"/>
                    </a:lnTo>
                    <a:lnTo>
                      <a:pt x="58" y="575"/>
                    </a:lnTo>
                    <a:lnTo>
                      <a:pt x="48" y="558"/>
                    </a:lnTo>
                    <a:lnTo>
                      <a:pt x="40" y="543"/>
                    </a:lnTo>
                    <a:lnTo>
                      <a:pt x="33" y="526"/>
                    </a:lnTo>
                    <a:lnTo>
                      <a:pt x="25" y="509"/>
                    </a:lnTo>
                    <a:lnTo>
                      <a:pt x="19" y="492"/>
                    </a:lnTo>
                    <a:lnTo>
                      <a:pt x="15" y="474"/>
                    </a:lnTo>
                    <a:lnTo>
                      <a:pt x="10" y="458"/>
                    </a:lnTo>
                    <a:lnTo>
                      <a:pt x="6" y="440"/>
                    </a:lnTo>
                    <a:lnTo>
                      <a:pt x="4" y="422"/>
                    </a:lnTo>
                    <a:lnTo>
                      <a:pt x="1" y="404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1" y="350"/>
                    </a:lnTo>
                    <a:lnTo>
                      <a:pt x="3" y="332"/>
                    </a:lnTo>
                    <a:lnTo>
                      <a:pt x="5" y="315"/>
                    </a:lnTo>
                    <a:lnTo>
                      <a:pt x="9" y="297"/>
                    </a:lnTo>
                    <a:lnTo>
                      <a:pt x="12" y="279"/>
                    </a:lnTo>
                    <a:lnTo>
                      <a:pt x="18" y="262"/>
                    </a:lnTo>
                    <a:lnTo>
                      <a:pt x="24" y="244"/>
                    </a:lnTo>
                    <a:lnTo>
                      <a:pt x="30" y="227"/>
                    </a:lnTo>
                    <a:lnTo>
                      <a:pt x="37" y="210"/>
                    </a:lnTo>
                    <a:lnTo>
                      <a:pt x="47" y="194"/>
                    </a:lnTo>
                    <a:lnTo>
                      <a:pt x="55" y="178"/>
                    </a:lnTo>
                    <a:lnTo>
                      <a:pt x="66" y="162"/>
                    </a:lnTo>
                    <a:lnTo>
                      <a:pt x="77" y="147"/>
                    </a:lnTo>
                    <a:lnTo>
                      <a:pt x="89" y="132"/>
                    </a:lnTo>
                    <a:lnTo>
                      <a:pt x="102" y="118"/>
                    </a:lnTo>
                    <a:close/>
                  </a:path>
                </a:pathLst>
              </a:custGeom>
              <a:solidFill>
                <a:srgbClr val="e79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06680" y="4492800"/>
                <a:ext cx="293400" cy="293400"/>
              </a:xfrm>
              <a:custGeom>
                <a:avLst/>
                <a:gdLst/>
                <a:ahLst/>
                <a:rect l="l" t="t" r="r" b="b"/>
                <a:pathLst>
                  <a:path w="742" h="742">
                    <a:moveTo>
                      <a:pt x="101" y="117"/>
                    </a:moveTo>
                    <a:lnTo>
                      <a:pt x="114" y="103"/>
                    </a:lnTo>
                    <a:lnTo>
                      <a:pt x="129" y="90"/>
                    </a:lnTo>
                    <a:lnTo>
                      <a:pt x="143" y="78"/>
                    </a:lnTo>
                    <a:lnTo>
                      <a:pt x="157" y="67"/>
                    </a:lnTo>
                    <a:lnTo>
                      <a:pt x="173" y="58"/>
                    </a:lnTo>
                    <a:lnTo>
                      <a:pt x="189" y="48"/>
                    </a:lnTo>
                    <a:lnTo>
                      <a:pt x="204" y="40"/>
                    </a:lnTo>
                    <a:lnTo>
                      <a:pt x="221" y="31"/>
                    </a:lnTo>
                    <a:lnTo>
                      <a:pt x="238" y="25"/>
                    </a:lnTo>
                    <a:lnTo>
                      <a:pt x="255" y="19"/>
                    </a:lnTo>
                    <a:lnTo>
                      <a:pt x="271" y="13"/>
                    </a:lnTo>
                    <a:lnTo>
                      <a:pt x="289" y="10"/>
                    </a:lnTo>
                    <a:lnTo>
                      <a:pt x="306" y="6"/>
                    </a:lnTo>
                    <a:lnTo>
                      <a:pt x="324" y="4"/>
                    </a:lnTo>
                    <a:lnTo>
                      <a:pt x="342" y="1"/>
                    </a:lnTo>
                    <a:lnTo>
                      <a:pt x="359" y="0"/>
                    </a:lnTo>
                    <a:lnTo>
                      <a:pt x="377" y="0"/>
                    </a:lnTo>
                    <a:lnTo>
                      <a:pt x="395" y="1"/>
                    </a:lnTo>
                    <a:lnTo>
                      <a:pt x="413" y="3"/>
                    </a:lnTo>
                    <a:lnTo>
                      <a:pt x="431" y="5"/>
                    </a:lnTo>
                    <a:lnTo>
                      <a:pt x="448" y="9"/>
                    </a:lnTo>
                    <a:lnTo>
                      <a:pt x="466" y="12"/>
                    </a:lnTo>
                    <a:lnTo>
                      <a:pt x="483" y="17"/>
                    </a:lnTo>
                    <a:lnTo>
                      <a:pt x="499" y="23"/>
                    </a:lnTo>
                    <a:lnTo>
                      <a:pt x="516" y="30"/>
                    </a:lnTo>
                    <a:lnTo>
                      <a:pt x="533" y="37"/>
                    </a:lnTo>
                    <a:lnTo>
                      <a:pt x="550" y="46"/>
                    </a:lnTo>
                    <a:lnTo>
                      <a:pt x="565" y="55"/>
                    </a:lnTo>
                    <a:lnTo>
                      <a:pt x="581" y="65"/>
                    </a:lnTo>
                    <a:lnTo>
                      <a:pt x="597" y="76"/>
                    </a:lnTo>
                    <a:lnTo>
                      <a:pt x="611" y="88"/>
                    </a:lnTo>
                    <a:lnTo>
                      <a:pt x="625" y="101"/>
                    </a:lnTo>
                    <a:lnTo>
                      <a:pt x="639" y="114"/>
                    </a:lnTo>
                    <a:lnTo>
                      <a:pt x="651" y="129"/>
                    </a:lnTo>
                    <a:lnTo>
                      <a:pt x="663" y="143"/>
                    </a:lnTo>
                    <a:lnTo>
                      <a:pt x="675" y="157"/>
                    </a:lnTo>
                    <a:lnTo>
                      <a:pt x="684" y="173"/>
                    </a:lnTo>
                    <a:lnTo>
                      <a:pt x="694" y="189"/>
                    </a:lnTo>
                    <a:lnTo>
                      <a:pt x="702" y="204"/>
                    </a:lnTo>
                    <a:lnTo>
                      <a:pt x="709" y="221"/>
                    </a:lnTo>
                    <a:lnTo>
                      <a:pt x="717" y="238"/>
                    </a:lnTo>
                    <a:lnTo>
                      <a:pt x="723" y="255"/>
                    </a:lnTo>
                    <a:lnTo>
                      <a:pt x="727" y="271"/>
                    </a:lnTo>
                    <a:lnTo>
                      <a:pt x="732" y="289"/>
                    </a:lnTo>
                    <a:lnTo>
                      <a:pt x="736" y="306"/>
                    </a:lnTo>
                    <a:lnTo>
                      <a:pt x="738" y="324"/>
                    </a:lnTo>
                    <a:lnTo>
                      <a:pt x="741" y="342"/>
                    </a:lnTo>
                    <a:lnTo>
                      <a:pt x="741" y="359"/>
                    </a:lnTo>
                    <a:lnTo>
                      <a:pt x="742" y="377"/>
                    </a:lnTo>
                    <a:lnTo>
                      <a:pt x="741" y="395"/>
                    </a:lnTo>
                    <a:lnTo>
                      <a:pt x="739" y="413"/>
                    </a:lnTo>
                    <a:lnTo>
                      <a:pt x="737" y="431"/>
                    </a:lnTo>
                    <a:lnTo>
                      <a:pt x="733" y="448"/>
                    </a:lnTo>
                    <a:lnTo>
                      <a:pt x="729" y="466"/>
                    </a:lnTo>
                    <a:lnTo>
                      <a:pt x="724" y="483"/>
                    </a:lnTo>
                    <a:lnTo>
                      <a:pt x="718" y="499"/>
                    </a:lnTo>
                    <a:lnTo>
                      <a:pt x="712" y="517"/>
                    </a:lnTo>
                    <a:lnTo>
                      <a:pt x="705" y="533"/>
                    </a:lnTo>
                    <a:lnTo>
                      <a:pt x="696" y="550"/>
                    </a:lnTo>
                    <a:lnTo>
                      <a:pt x="687" y="565"/>
                    </a:lnTo>
                    <a:lnTo>
                      <a:pt x="676" y="581"/>
                    </a:lnTo>
                    <a:lnTo>
                      <a:pt x="665" y="596"/>
                    </a:lnTo>
                    <a:lnTo>
                      <a:pt x="653" y="611"/>
                    </a:lnTo>
                    <a:lnTo>
                      <a:pt x="641" y="625"/>
                    </a:lnTo>
                    <a:lnTo>
                      <a:pt x="628" y="638"/>
                    </a:lnTo>
                    <a:lnTo>
                      <a:pt x="613" y="650"/>
                    </a:lnTo>
                    <a:lnTo>
                      <a:pt x="599" y="662"/>
                    </a:lnTo>
                    <a:lnTo>
                      <a:pt x="585" y="674"/>
                    </a:lnTo>
                    <a:lnTo>
                      <a:pt x="569" y="684"/>
                    </a:lnTo>
                    <a:lnTo>
                      <a:pt x="553" y="694"/>
                    </a:lnTo>
                    <a:lnTo>
                      <a:pt x="538" y="702"/>
                    </a:lnTo>
                    <a:lnTo>
                      <a:pt x="521" y="709"/>
                    </a:lnTo>
                    <a:lnTo>
                      <a:pt x="504" y="716"/>
                    </a:lnTo>
                    <a:lnTo>
                      <a:pt x="487" y="722"/>
                    </a:lnTo>
                    <a:lnTo>
                      <a:pt x="471" y="727"/>
                    </a:lnTo>
                    <a:lnTo>
                      <a:pt x="453" y="732"/>
                    </a:lnTo>
                    <a:lnTo>
                      <a:pt x="436" y="736"/>
                    </a:lnTo>
                    <a:lnTo>
                      <a:pt x="418" y="738"/>
                    </a:lnTo>
                    <a:lnTo>
                      <a:pt x="400" y="740"/>
                    </a:lnTo>
                    <a:lnTo>
                      <a:pt x="382" y="742"/>
                    </a:lnTo>
                    <a:lnTo>
                      <a:pt x="364" y="742"/>
                    </a:lnTo>
                    <a:lnTo>
                      <a:pt x="347" y="740"/>
                    </a:lnTo>
                    <a:lnTo>
                      <a:pt x="329" y="739"/>
                    </a:lnTo>
                    <a:lnTo>
                      <a:pt x="311" y="737"/>
                    </a:lnTo>
                    <a:lnTo>
                      <a:pt x="293" y="733"/>
                    </a:lnTo>
                    <a:lnTo>
                      <a:pt x="276" y="730"/>
                    </a:lnTo>
                    <a:lnTo>
                      <a:pt x="259" y="724"/>
                    </a:lnTo>
                    <a:lnTo>
                      <a:pt x="241" y="719"/>
                    </a:lnTo>
                    <a:lnTo>
                      <a:pt x="225" y="712"/>
                    </a:lnTo>
                    <a:lnTo>
                      <a:pt x="209" y="704"/>
                    </a:lnTo>
                    <a:lnTo>
                      <a:pt x="192" y="696"/>
                    </a:lnTo>
                    <a:lnTo>
                      <a:pt x="177" y="686"/>
                    </a:lnTo>
                    <a:lnTo>
                      <a:pt x="161" y="677"/>
                    </a:lnTo>
                    <a:lnTo>
                      <a:pt x="145" y="665"/>
                    </a:lnTo>
                    <a:lnTo>
                      <a:pt x="131" y="654"/>
                    </a:lnTo>
                    <a:lnTo>
                      <a:pt x="117" y="641"/>
                    </a:lnTo>
                    <a:lnTo>
                      <a:pt x="103" y="628"/>
                    </a:lnTo>
                    <a:lnTo>
                      <a:pt x="90" y="613"/>
                    </a:lnTo>
                    <a:lnTo>
                      <a:pt x="78" y="599"/>
                    </a:lnTo>
                    <a:lnTo>
                      <a:pt x="67" y="584"/>
                    </a:lnTo>
                    <a:lnTo>
                      <a:pt x="58" y="569"/>
                    </a:lnTo>
                    <a:lnTo>
                      <a:pt x="48" y="553"/>
                    </a:lnTo>
                    <a:lnTo>
                      <a:pt x="40" y="538"/>
                    </a:lnTo>
                    <a:lnTo>
                      <a:pt x="31" y="521"/>
                    </a:lnTo>
                    <a:lnTo>
                      <a:pt x="25" y="504"/>
                    </a:lnTo>
                    <a:lnTo>
                      <a:pt x="19" y="487"/>
                    </a:lnTo>
                    <a:lnTo>
                      <a:pt x="13" y="471"/>
                    </a:lnTo>
                    <a:lnTo>
                      <a:pt x="10" y="453"/>
                    </a:lnTo>
                    <a:lnTo>
                      <a:pt x="6" y="436"/>
                    </a:lnTo>
                    <a:lnTo>
                      <a:pt x="4" y="418"/>
                    </a:lnTo>
                    <a:lnTo>
                      <a:pt x="1" y="400"/>
                    </a:lnTo>
                    <a:lnTo>
                      <a:pt x="0" y="382"/>
                    </a:lnTo>
                    <a:lnTo>
                      <a:pt x="0" y="365"/>
                    </a:lnTo>
                    <a:lnTo>
                      <a:pt x="1" y="347"/>
                    </a:lnTo>
                    <a:lnTo>
                      <a:pt x="3" y="329"/>
                    </a:lnTo>
                    <a:lnTo>
                      <a:pt x="5" y="311"/>
                    </a:lnTo>
                    <a:lnTo>
                      <a:pt x="9" y="294"/>
                    </a:lnTo>
                    <a:lnTo>
                      <a:pt x="12" y="276"/>
                    </a:lnTo>
                    <a:lnTo>
                      <a:pt x="17" y="259"/>
                    </a:lnTo>
                    <a:lnTo>
                      <a:pt x="23" y="241"/>
                    </a:lnTo>
                    <a:lnTo>
                      <a:pt x="30" y="225"/>
                    </a:lnTo>
                    <a:lnTo>
                      <a:pt x="37" y="209"/>
                    </a:lnTo>
                    <a:lnTo>
                      <a:pt x="46" y="192"/>
                    </a:lnTo>
                    <a:lnTo>
                      <a:pt x="55" y="177"/>
                    </a:lnTo>
                    <a:lnTo>
                      <a:pt x="65" y="161"/>
                    </a:lnTo>
                    <a:lnTo>
                      <a:pt x="76" y="145"/>
                    </a:lnTo>
                    <a:lnTo>
                      <a:pt x="88" y="131"/>
                    </a:lnTo>
                    <a:lnTo>
                      <a:pt x="101" y="117"/>
                    </a:lnTo>
                    <a:close/>
                  </a:path>
                </a:pathLst>
              </a:custGeom>
              <a:solidFill>
                <a:srgbClr val="ec9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508120" y="4494240"/>
                <a:ext cx="291960" cy="290520"/>
              </a:xfrm>
              <a:custGeom>
                <a:avLst/>
                <a:gdLst/>
                <a:ahLst/>
                <a:rect l="l" t="t" r="r" b="b"/>
                <a:pathLst>
                  <a:path w="733" h="734">
                    <a:moveTo>
                      <a:pt x="100" y="116"/>
                    </a:moveTo>
                    <a:lnTo>
                      <a:pt x="113" y="102"/>
                    </a:lnTo>
                    <a:lnTo>
                      <a:pt x="126" y="90"/>
                    </a:lnTo>
                    <a:lnTo>
                      <a:pt x="141" y="78"/>
                    </a:lnTo>
                    <a:lnTo>
                      <a:pt x="156" y="67"/>
                    </a:lnTo>
                    <a:lnTo>
                      <a:pt x="171" y="58"/>
                    </a:lnTo>
                    <a:lnTo>
                      <a:pt x="186" y="48"/>
                    </a:lnTo>
                    <a:lnTo>
                      <a:pt x="202" y="40"/>
                    </a:lnTo>
                    <a:lnTo>
                      <a:pt x="219" y="31"/>
                    </a:lnTo>
                    <a:lnTo>
                      <a:pt x="235" y="25"/>
                    </a:lnTo>
                    <a:lnTo>
                      <a:pt x="252" y="19"/>
                    </a:lnTo>
                    <a:lnTo>
                      <a:pt x="269" y="14"/>
                    </a:lnTo>
                    <a:lnTo>
                      <a:pt x="286" y="10"/>
                    </a:lnTo>
                    <a:lnTo>
                      <a:pt x="304" y="6"/>
                    </a:lnTo>
                    <a:lnTo>
                      <a:pt x="321" y="4"/>
                    </a:lnTo>
                    <a:lnTo>
                      <a:pt x="339" y="1"/>
                    </a:lnTo>
                    <a:lnTo>
                      <a:pt x="355" y="1"/>
                    </a:lnTo>
                    <a:lnTo>
                      <a:pt x="373" y="0"/>
                    </a:lnTo>
                    <a:lnTo>
                      <a:pt x="391" y="1"/>
                    </a:lnTo>
                    <a:lnTo>
                      <a:pt x="408" y="2"/>
                    </a:lnTo>
                    <a:lnTo>
                      <a:pt x="426" y="5"/>
                    </a:lnTo>
                    <a:lnTo>
                      <a:pt x="443" y="8"/>
                    </a:lnTo>
                    <a:lnTo>
                      <a:pt x="461" y="12"/>
                    </a:lnTo>
                    <a:lnTo>
                      <a:pt x="478" y="18"/>
                    </a:lnTo>
                    <a:lnTo>
                      <a:pt x="495" y="23"/>
                    </a:lnTo>
                    <a:lnTo>
                      <a:pt x="511" y="30"/>
                    </a:lnTo>
                    <a:lnTo>
                      <a:pt x="528" y="37"/>
                    </a:lnTo>
                    <a:lnTo>
                      <a:pt x="544" y="46"/>
                    </a:lnTo>
                    <a:lnTo>
                      <a:pt x="559" y="55"/>
                    </a:lnTo>
                    <a:lnTo>
                      <a:pt x="575" y="65"/>
                    </a:lnTo>
                    <a:lnTo>
                      <a:pt x="589" y="76"/>
                    </a:lnTo>
                    <a:lnTo>
                      <a:pt x="605" y="88"/>
                    </a:lnTo>
                    <a:lnTo>
                      <a:pt x="618" y="100"/>
                    </a:lnTo>
                    <a:lnTo>
                      <a:pt x="631" y="113"/>
                    </a:lnTo>
                    <a:lnTo>
                      <a:pt x="645" y="127"/>
                    </a:lnTo>
                    <a:lnTo>
                      <a:pt x="657" y="142"/>
                    </a:lnTo>
                    <a:lnTo>
                      <a:pt x="667" y="156"/>
                    </a:lnTo>
                    <a:lnTo>
                      <a:pt x="677" y="172"/>
                    </a:lnTo>
                    <a:lnTo>
                      <a:pt x="687" y="187"/>
                    </a:lnTo>
                    <a:lnTo>
                      <a:pt x="695" y="203"/>
                    </a:lnTo>
                    <a:lnTo>
                      <a:pt x="702" y="218"/>
                    </a:lnTo>
                    <a:lnTo>
                      <a:pt x="709" y="235"/>
                    </a:lnTo>
                    <a:lnTo>
                      <a:pt x="715" y="252"/>
                    </a:lnTo>
                    <a:lnTo>
                      <a:pt x="720" y="269"/>
                    </a:lnTo>
                    <a:lnTo>
                      <a:pt x="725" y="286"/>
                    </a:lnTo>
                    <a:lnTo>
                      <a:pt x="729" y="304"/>
                    </a:lnTo>
                    <a:lnTo>
                      <a:pt x="731" y="320"/>
                    </a:lnTo>
                    <a:lnTo>
                      <a:pt x="732" y="338"/>
                    </a:lnTo>
                    <a:lnTo>
                      <a:pt x="733" y="356"/>
                    </a:lnTo>
                    <a:lnTo>
                      <a:pt x="733" y="373"/>
                    </a:lnTo>
                    <a:lnTo>
                      <a:pt x="733" y="391"/>
                    </a:lnTo>
                    <a:lnTo>
                      <a:pt x="731" y="409"/>
                    </a:lnTo>
                    <a:lnTo>
                      <a:pt x="729" y="426"/>
                    </a:lnTo>
                    <a:lnTo>
                      <a:pt x="726" y="444"/>
                    </a:lnTo>
                    <a:lnTo>
                      <a:pt x="721" y="461"/>
                    </a:lnTo>
                    <a:lnTo>
                      <a:pt x="717" y="479"/>
                    </a:lnTo>
                    <a:lnTo>
                      <a:pt x="711" y="496"/>
                    </a:lnTo>
                    <a:lnTo>
                      <a:pt x="705" y="511"/>
                    </a:lnTo>
                    <a:lnTo>
                      <a:pt x="697" y="528"/>
                    </a:lnTo>
                    <a:lnTo>
                      <a:pt x="689" y="544"/>
                    </a:lnTo>
                    <a:lnTo>
                      <a:pt x="679" y="560"/>
                    </a:lnTo>
                    <a:lnTo>
                      <a:pt x="670" y="575"/>
                    </a:lnTo>
                    <a:lnTo>
                      <a:pt x="659" y="590"/>
                    </a:lnTo>
                    <a:lnTo>
                      <a:pt x="647" y="605"/>
                    </a:lnTo>
                    <a:lnTo>
                      <a:pt x="635" y="619"/>
                    </a:lnTo>
                    <a:lnTo>
                      <a:pt x="621" y="632"/>
                    </a:lnTo>
                    <a:lnTo>
                      <a:pt x="607" y="644"/>
                    </a:lnTo>
                    <a:lnTo>
                      <a:pt x="593" y="656"/>
                    </a:lnTo>
                    <a:lnTo>
                      <a:pt x="579" y="667"/>
                    </a:lnTo>
                    <a:lnTo>
                      <a:pt x="563" y="678"/>
                    </a:lnTo>
                    <a:lnTo>
                      <a:pt x="547" y="686"/>
                    </a:lnTo>
                    <a:lnTo>
                      <a:pt x="532" y="695"/>
                    </a:lnTo>
                    <a:lnTo>
                      <a:pt x="516" y="703"/>
                    </a:lnTo>
                    <a:lnTo>
                      <a:pt x="499" y="709"/>
                    </a:lnTo>
                    <a:lnTo>
                      <a:pt x="483" y="715"/>
                    </a:lnTo>
                    <a:lnTo>
                      <a:pt x="466" y="721"/>
                    </a:lnTo>
                    <a:lnTo>
                      <a:pt x="448" y="725"/>
                    </a:lnTo>
                    <a:lnTo>
                      <a:pt x="431" y="728"/>
                    </a:lnTo>
                    <a:lnTo>
                      <a:pt x="413" y="731"/>
                    </a:lnTo>
                    <a:lnTo>
                      <a:pt x="396" y="733"/>
                    </a:lnTo>
                    <a:lnTo>
                      <a:pt x="378" y="734"/>
                    </a:lnTo>
                    <a:lnTo>
                      <a:pt x="360" y="734"/>
                    </a:lnTo>
                    <a:lnTo>
                      <a:pt x="343" y="733"/>
                    </a:lnTo>
                    <a:lnTo>
                      <a:pt x="325" y="732"/>
                    </a:lnTo>
                    <a:lnTo>
                      <a:pt x="307" y="729"/>
                    </a:lnTo>
                    <a:lnTo>
                      <a:pt x="291" y="726"/>
                    </a:lnTo>
                    <a:lnTo>
                      <a:pt x="274" y="722"/>
                    </a:lnTo>
                    <a:lnTo>
                      <a:pt x="256" y="717"/>
                    </a:lnTo>
                    <a:lnTo>
                      <a:pt x="239" y="711"/>
                    </a:lnTo>
                    <a:lnTo>
                      <a:pt x="222" y="704"/>
                    </a:lnTo>
                    <a:lnTo>
                      <a:pt x="207" y="697"/>
                    </a:lnTo>
                    <a:lnTo>
                      <a:pt x="190" y="689"/>
                    </a:lnTo>
                    <a:lnTo>
                      <a:pt x="174" y="680"/>
                    </a:lnTo>
                    <a:lnTo>
                      <a:pt x="159" y="669"/>
                    </a:lnTo>
                    <a:lnTo>
                      <a:pt x="144" y="659"/>
                    </a:lnTo>
                    <a:lnTo>
                      <a:pt x="130" y="647"/>
                    </a:lnTo>
                    <a:lnTo>
                      <a:pt x="115" y="635"/>
                    </a:lnTo>
                    <a:lnTo>
                      <a:pt x="102" y="621"/>
                    </a:lnTo>
                    <a:lnTo>
                      <a:pt x="90" y="607"/>
                    </a:lnTo>
                    <a:lnTo>
                      <a:pt x="78" y="593"/>
                    </a:lnTo>
                    <a:lnTo>
                      <a:pt x="67" y="578"/>
                    </a:lnTo>
                    <a:lnTo>
                      <a:pt x="57" y="564"/>
                    </a:lnTo>
                    <a:lnTo>
                      <a:pt x="47" y="548"/>
                    </a:lnTo>
                    <a:lnTo>
                      <a:pt x="39" y="532"/>
                    </a:lnTo>
                    <a:lnTo>
                      <a:pt x="31" y="516"/>
                    </a:lnTo>
                    <a:lnTo>
                      <a:pt x="24" y="499"/>
                    </a:lnTo>
                    <a:lnTo>
                      <a:pt x="18" y="482"/>
                    </a:lnTo>
                    <a:lnTo>
                      <a:pt x="13" y="466"/>
                    </a:lnTo>
                    <a:lnTo>
                      <a:pt x="10" y="449"/>
                    </a:lnTo>
                    <a:lnTo>
                      <a:pt x="6" y="431"/>
                    </a:lnTo>
                    <a:lnTo>
                      <a:pt x="4" y="414"/>
                    </a:lnTo>
                    <a:lnTo>
                      <a:pt x="1" y="396"/>
                    </a:lnTo>
                    <a:lnTo>
                      <a:pt x="0" y="378"/>
                    </a:lnTo>
                    <a:lnTo>
                      <a:pt x="0" y="361"/>
                    </a:lnTo>
                    <a:lnTo>
                      <a:pt x="1" y="343"/>
                    </a:lnTo>
                    <a:lnTo>
                      <a:pt x="3" y="325"/>
                    </a:lnTo>
                    <a:lnTo>
                      <a:pt x="5" y="308"/>
                    </a:lnTo>
                    <a:lnTo>
                      <a:pt x="9" y="290"/>
                    </a:lnTo>
                    <a:lnTo>
                      <a:pt x="12" y="274"/>
                    </a:lnTo>
                    <a:lnTo>
                      <a:pt x="17" y="257"/>
                    </a:lnTo>
                    <a:lnTo>
                      <a:pt x="23" y="240"/>
                    </a:lnTo>
                    <a:lnTo>
                      <a:pt x="30" y="223"/>
                    </a:lnTo>
                    <a:lnTo>
                      <a:pt x="37" y="206"/>
                    </a:lnTo>
                    <a:lnTo>
                      <a:pt x="46" y="191"/>
                    </a:lnTo>
                    <a:lnTo>
                      <a:pt x="54" y="175"/>
                    </a:lnTo>
                    <a:lnTo>
                      <a:pt x="65" y="160"/>
                    </a:lnTo>
                    <a:lnTo>
                      <a:pt x="76" y="144"/>
                    </a:lnTo>
                    <a:lnTo>
                      <a:pt x="87" y="130"/>
                    </a:lnTo>
                    <a:lnTo>
                      <a:pt x="100" y="116"/>
                    </a:lnTo>
                    <a:close/>
                  </a:path>
                </a:pathLst>
              </a:custGeom>
              <a:solidFill>
                <a:srgbClr val="f2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525760" y="4514760"/>
                <a:ext cx="257040" cy="258840"/>
              </a:xfrm>
              <a:custGeom>
                <a:avLst/>
                <a:gdLst/>
                <a:ahLst/>
                <a:rect l="l" t="t" r="r" b="b"/>
                <a:pathLst>
                  <a:path w="651" h="650">
                    <a:moveTo>
                      <a:pt x="88" y="102"/>
                    </a:moveTo>
                    <a:lnTo>
                      <a:pt x="100" y="90"/>
                    </a:lnTo>
                    <a:lnTo>
                      <a:pt x="112" y="79"/>
                    </a:lnTo>
                    <a:lnTo>
                      <a:pt x="125" y="68"/>
                    </a:lnTo>
                    <a:lnTo>
                      <a:pt x="138" y="59"/>
                    </a:lnTo>
                    <a:lnTo>
                      <a:pt x="151" y="50"/>
                    </a:lnTo>
                    <a:lnTo>
                      <a:pt x="165" y="42"/>
                    </a:lnTo>
                    <a:lnTo>
                      <a:pt x="179" y="35"/>
                    </a:lnTo>
                    <a:lnTo>
                      <a:pt x="193" y="28"/>
                    </a:lnTo>
                    <a:lnTo>
                      <a:pt x="208" y="22"/>
                    </a:lnTo>
                    <a:lnTo>
                      <a:pt x="223" y="17"/>
                    </a:lnTo>
                    <a:lnTo>
                      <a:pt x="238" y="12"/>
                    </a:lnTo>
                    <a:lnTo>
                      <a:pt x="253" y="8"/>
                    </a:lnTo>
                    <a:lnTo>
                      <a:pt x="269" y="5"/>
                    </a:lnTo>
                    <a:lnTo>
                      <a:pt x="285" y="2"/>
                    </a:lnTo>
                    <a:lnTo>
                      <a:pt x="300" y="1"/>
                    </a:lnTo>
                    <a:lnTo>
                      <a:pt x="316" y="0"/>
                    </a:lnTo>
                    <a:lnTo>
                      <a:pt x="331" y="0"/>
                    </a:lnTo>
                    <a:lnTo>
                      <a:pt x="347" y="0"/>
                    </a:lnTo>
                    <a:lnTo>
                      <a:pt x="363" y="2"/>
                    </a:lnTo>
                    <a:lnTo>
                      <a:pt x="378" y="4"/>
                    </a:lnTo>
                    <a:lnTo>
                      <a:pt x="394" y="7"/>
                    </a:lnTo>
                    <a:lnTo>
                      <a:pt x="408" y="11"/>
                    </a:lnTo>
                    <a:lnTo>
                      <a:pt x="424" y="14"/>
                    </a:lnTo>
                    <a:lnTo>
                      <a:pt x="439" y="20"/>
                    </a:lnTo>
                    <a:lnTo>
                      <a:pt x="454" y="26"/>
                    </a:lnTo>
                    <a:lnTo>
                      <a:pt x="468" y="32"/>
                    </a:lnTo>
                    <a:lnTo>
                      <a:pt x="483" y="40"/>
                    </a:lnTo>
                    <a:lnTo>
                      <a:pt x="496" y="48"/>
                    </a:lnTo>
                    <a:lnTo>
                      <a:pt x="510" y="56"/>
                    </a:lnTo>
                    <a:lnTo>
                      <a:pt x="523" y="66"/>
                    </a:lnTo>
                    <a:lnTo>
                      <a:pt x="537" y="77"/>
                    </a:lnTo>
                    <a:lnTo>
                      <a:pt x="549" y="88"/>
                    </a:lnTo>
                    <a:lnTo>
                      <a:pt x="561" y="100"/>
                    </a:lnTo>
                    <a:lnTo>
                      <a:pt x="571" y="112"/>
                    </a:lnTo>
                    <a:lnTo>
                      <a:pt x="582" y="125"/>
                    </a:lnTo>
                    <a:lnTo>
                      <a:pt x="592" y="138"/>
                    </a:lnTo>
                    <a:lnTo>
                      <a:pt x="600" y="151"/>
                    </a:lnTo>
                    <a:lnTo>
                      <a:pt x="609" y="166"/>
                    </a:lnTo>
                    <a:lnTo>
                      <a:pt x="617" y="179"/>
                    </a:lnTo>
                    <a:lnTo>
                      <a:pt x="623" y="193"/>
                    </a:lnTo>
                    <a:lnTo>
                      <a:pt x="629" y="208"/>
                    </a:lnTo>
                    <a:lnTo>
                      <a:pt x="635" y="223"/>
                    </a:lnTo>
                    <a:lnTo>
                      <a:pt x="639" y="238"/>
                    </a:lnTo>
                    <a:lnTo>
                      <a:pt x="643" y="253"/>
                    </a:lnTo>
                    <a:lnTo>
                      <a:pt x="646" y="269"/>
                    </a:lnTo>
                    <a:lnTo>
                      <a:pt x="648" y="284"/>
                    </a:lnTo>
                    <a:lnTo>
                      <a:pt x="649" y="300"/>
                    </a:lnTo>
                    <a:lnTo>
                      <a:pt x="651" y="316"/>
                    </a:lnTo>
                    <a:lnTo>
                      <a:pt x="651" y="331"/>
                    </a:lnTo>
                    <a:lnTo>
                      <a:pt x="651" y="347"/>
                    </a:lnTo>
                    <a:lnTo>
                      <a:pt x="649" y="362"/>
                    </a:lnTo>
                    <a:lnTo>
                      <a:pt x="647" y="378"/>
                    </a:lnTo>
                    <a:lnTo>
                      <a:pt x="643" y="394"/>
                    </a:lnTo>
                    <a:lnTo>
                      <a:pt x="640" y="408"/>
                    </a:lnTo>
                    <a:lnTo>
                      <a:pt x="636" y="424"/>
                    </a:lnTo>
                    <a:lnTo>
                      <a:pt x="630" y="439"/>
                    </a:lnTo>
                    <a:lnTo>
                      <a:pt x="625" y="454"/>
                    </a:lnTo>
                    <a:lnTo>
                      <a:pt x="618" y="468"/>
                    </a:lnTo>
                    <a:lnTo>
                      <a:pt x="611" y="482"/>
                    </a:lnTo>
                    <a:lnTo>
                      <a:pt x="603" y="497"/>
                    </a:lnTo>
                    <a:lnTo>
                      <a:pt x="594" y="510"/>
                    </a:lnTo>
                    <a:lnTo>
                      <a:pt x="585" y="523"/>
                    </a:lnTo>
                    <a:lnTo>
                      <a:pt x="574" y="536"/>
                    </a:lnTo>
                    <a:lnTo>
                      <a:pt x="563" y="548"/>
                    </a:lnTo>
                    <a:lnTo>
                      <a:pt x="551" y="560"/>
                    </a:lnTo>
                    <a:lnTo>
                      <a:pt x="539" y="571"/>
                    </a:lnTo>
                    <a:lnTo>
                      <a:pt x="526" y="582"/>
                    </a:lnTo>
                    <a:lnTo>
                      <a:pt x="513" y="591"/>
                    </a:lnTo>
                    <a:lnTo>
                      <a:pt x="499" y="601"/>
                    </a:lnTo>
                    <a:lnTo>
                      <a:pt x="486" y="608"/>
                    </a:lnTo>
                    <a:lnTo>
                      <a:pt x="472" y="617"/>
                    </a:lnTo>
                    <a:lnTo>
                      <a:pt x="457" y="623"/>
                    </a:lnTo>
                    <a:lnTo>
                      <a:pt x="443" y="629"/>
                    </a:lnTo>
                    <a:lnTo>
                      <a:pt x="427" y="635"/>
                    </a:lnTo>
                    <a:lnTo>
                      <a:pt x="413" y="638"/>
                    </a:lnTo>
                    <a:lnTo>
                      <a:pt x="397" y="643"/>
                    </a:lnTo>
                    <a:lnTo>
                      <a:pt x="382" y="645"/>
                    </a:lnTo>
                    <a:lnTo>
                      <a:pt x="366" y="648"/>
                    </a:lnTo>
                    <a:lnTo>
                      <a:pt x="351" y="649"/>
                    </a:lnTo>
                    <a:lnTo>
                      <a:pt x="335" y="650"/>
                    </a:lnTo>
                    <a:lnTo>
                      <a:pt x="319" y="650"/>
                    </a:lnTo>
                    <a:lnTo>
                      <a:pt x="304" y="650"/>
                    </a:lnTo>
                    <a:lnTo>
                      <a:pt x="288" y="649"/>
                    </a:lnTo>
                    <a:lnTo>
                      <a:pt x="273" y="647"/>
                    </a:lnTo>
                    <a:lnTo>
                      <a:pt x="257" y="643"/>
                    </a:lnTo>
                    <a:lnTo>
                      <a:pt x="243" y="639"/>
                    </a:lnTo>
                    <a:lnTo>
                      <a:pt x="227" y="636"/>
                    </a:lnTo>
                    <a:lnTo>
                      <a:pt x="213" y="631"/>
                    </a:lnTo>
                    <a:lnTo>
                      <a:pt x="197" y="625"/>
                    </a:lnTo>
                    <a:lnTo>
                      <a:pt x="183" y="618"/>
                    </a:lnTo>
                    <a:lnTo>
                      <a:pt x="168" y="611"/>
                    </a:lnTo>
                    <a:lnTo>
                      <a:pt x="155" y="602"/>
                    </a:lnTo>
                    <a:lnTo>
                      <a:pt x="141" y="594"/>
                    </a:lnTo>
                    <a:lnTo>
                      <a:pt x="127" y="584"/>
                    </a:lnTo>
                    <a:lnTo>
                      <a:pt x="114" y="573"/>
                    </a:lnTo>
                    <a:lnTo>
                      <a:pt x="102" y="563"/>
                    </a:lnTo>
                    <a:lnTo>
                      <a:pt x="90" y="551"/>
                    </a:lnTo>
                    <a:lnTo>
                      <a:pt x="79" y="539"/>
                    </a:lnTo>
                    <a:lnTo>
                      <a:pt x="69" y="525"/>
                    </a:lnTo>
                    <a:lnTo>
                      <a:pt x="59" y="512"/>
                    </a:lnTo>
                    <a:lnTo>
                      <a:pt x="51" y="499"/>
                    </a:lnTo>
                    <a:lnTo>
                      <a:pt x="42" y="486"/>
                    </a:lnTo>
                    <a:lnTo>
                      <a:pt x="35" y="472"/>
                    </a:lnTo>
                    <a:lnTo>
                      <a:pt x="28" y="457"/>
                    </a:lnTo>
                    <a:lnTo>
                      <a:pt x="22" y="443"/>
                    </a:lnTo>
                    <a:lnTo>
                      <a:pt x="16" y="427"/>
                    </a:lnTo>
                    <a:lnTo>
                      <a:pt x="12" y="413"/>
                    </a:lnTo>
                    <a:lnTo>
                      <a:pt x="7" y="397"/>
                    </a:lnTo>
                    <a:lnTo>
                      <a:pt x="5" y="382"/>
                    </a:lnTo>
                    <a:lnTo>
                      <a:pt x="3" y="366"/>
                    </a:lnTo>
                    <a:lnTo>
                      <a:pt x="1" y="350"/>
                    </a:lnTo>
                    <a:lnTo>
                      <a:pt x="0" y="335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3" y="288"/>
                    </a:lnTo>
                    <a:lnTo>
                      <a:pt x="4" y="272"/>
                    </a:lnTo>
                    <a:lnTo>
                      <a:pt x="7" y="258"/>
                    </a:lnTo>
                    <a:lnTo>
                      <a:pt x="11" y="242"/>
                    </a:lnTo>
                    <a:lnTo>
                      <a:pt x="15" y="227"/>
                    </a:lnTo>
                    <a:lnTo>
                      <a:pt x="21" y="212"/>
                    </a:lnTo>
                    <a:lnTo>
                      <a:pt x="27" y="197"/>
                    </a:lnTo>
                    <a:lnTo>
                      <a:pt x="33" y="182"/>
                    </a:lnTo>
                    <a:lnTo>
                      <a:pt x="40" y="168"/>
                    </a:lnTo>
                    <a:lnTo>
                      <a:pt x="48" y="155"/>
                    </a:lnTo>
                    <a:lnTo>
                      <a:pt x="57" y="140"/>
                    </a:lnTo>
                    <a:lnTo>
                      <a:pt x="66" y="127"/>
                    </a:lnTo>
                    <a:lnTo>
                      <a:pt x="77" y="115"/>
                    </a:lnTo>
                    <a:lnTo>
                      <a:pt x="88" y="102"/>
                    </a:lnTo>
                    <a:close/>
                  </a:path>
                </a:pathLst>
              </a:custGeom>
              <a:solidFill>
                <a:srgbClr val="926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55640" y="4508640"/>
                <a:ext cx="192240" cy="52200"/>
              </a:xfrm>
              <a:custGeom>
                <a:avLst/>
                <a:gdLst/>
                <a:ahLst/>
                <a:rect l="l" t="t" r="r" b="b"/>
                <a:pathLst>
                  <a:path w="485" h="132">
                    <a:moveTo>
                      <a:pt x="485" y="94"/>
                    </a:moveTo>
                    <a:lnTo>
                      <a:pt x="485" y="94"/>
                    </a:lnTo>
                    <a:lnTo>
                      <a:pt x="471" y="82"/>
                    </a:lnTo>
                    <a:lnTo>
                      <a:pt x="458" y="71"/>
                    </a:lnTo>
                    <a:lnTo>
                      <a:pt x="444" y="61"/>
                    </a:lnTo>
                    <a:lnTo>
                      <a:pt x="429" y="52"/>
                    </a:lnTo>
                    <a:lnTo>
                      <a:pt x="415" y="43"/>
                    </a:lnTo>
                    <a:lnTo>
                      <a:pt x="399" y="35"/>
                    </a:lnTo>
                    <a:lnTo>
                      <a:pt x="384" y="28"/>
                    </a:lnTo>
                    <a:lnTo>
                      <a:pt x="368" y="22"/>
                    </a:lnTo>
                    <a:lnTo>
                      <a:pt x="353" y="17"/>
                    </a:lnTo>
                    <a:lnTo>
                      <a:pt x="337" y="12"/>
                    </a:lnTo>
                    <a:lnTo>
                      <a:pt x="321" y="8"/>
                    </a:lnTo>
                    <a:lnTo>
                      <a:pt x="305" y="5"/>
                    </a:lnTo>
                    <a:lnTo>
                      <a:pt x="288" y="2"/>
                    </a:lnTo>
                    <a:lnTo>
                      <a:pt x="272" y="1"/>
                    </a:lnTo>
                    <a:lnTo>
                      <a:pt x="255" y="0"/>
                    </a:lnTo>
                    <a:lnTo>
                      <a:pt x="239" y="1"/>
                    </a:lnTo>
                    <a:lnTo>
                      <a:pt x="223" y="1"/>
                    </a:lnTo>
                    <a:lnTo>
                      <a:pt x="206" y="4"/>
                    </a:lnTo>
                    <a:lnTo>
                      <a:pt x="189" y="6"/>
                    </a:lnTo>
                    <a:lnTo>
                      <a:pt x="174" y="8"/>
                    </a:lnTo>
                    <a:lnTo>
                      <a:pt x="157" y="13"/>
                    </a:lnTo>
                    <a:lnTo>
                      <a:pt x="141" y="18"/>
                    </a:lnTo>
                    <a:lnTo>
                      <a:pt x="126" y="23"/>
                    </a:lnTo>
                    <a:lnTo>
                      <a:pt x="110" y="30"/>
                    </a:lnTo>
                    <a:lnTo>
                      <a:pt x="96" y="37"/>
                    </a:lnTo>
                    <a:lnTo>
                      <a:pt x="80" y="44"/>
                    </a:lnTo>
                    <a:lnTo>
                      <a:pt x="66" y="53"/>
                    </a:lnTo>
                    <a:lnTo>
                      <a:pt x="51" y="62"/>
                    </a:lnTo>
                    <a:lnTo>
                      <a:pt x="38" y="73"/>
                    </a:lnTo>
                    <a:lnTo>
                      <a:pt x="25" y="84"/>
                    </a:lnTo>
                    <a:lnTo>
                      <a:pt x="12" y="96"/>
                    </a:lnTo>
                    <a:lnTo>
                      <a:pt x="0" y="108"/>
                    </a:lnTo>
                    <a:lnTo>
                      <a:pt x="25" y="132"/>
                    </a:lnTo>
                    <a:lnTo>
                      <a:pt x="36" y="121"/>
                    </a:lnTo>
                    <a:lnTo>
                      <a:pt x="48" y="110"/>
                    </a:lnTo>
                    <a:lnTo>
                      <a:pt x="60" y="101"/>
                    </a:lnTo>
                    <a:lnTo>
                      <a:pt x="72" y="91"/>
                    </a:lnTo>
                    <a:lnTo>
                      <a:pt x="85" y="83"/>
                    </a:lnTo>
                    <a:lnTo>
                      <a:pt x="98" y="74"/>
                    </a:lnTo>
                    <a:lnTo>
                      <a:pt x="111" y="67"/>
                    </a:lnTo>
                    <a:lnTo>
                      <a:pt x="125" y="61"/>
                    </a:lnTo>
                    <a:lnTo>
                      <a:pt x="139" y="55"/>
                    </a:lnTo>
                    <a:lnTo>
                      <a:pt x="152" y="50"/>
                    </a:lnTo>
                    <a:lnTo>
                      <a:pt x="167" y="47"/>
                    </a:lnTo>
                    <a:lnTo>
                      <a:pt x="181" y="43"/>
                    </a:lnTo>
                    <a:lnTo>
                      <a:pt x="195" y="40"/>
                    </a:lnTo>
                    <a:lnTo>
                      <a:pt x="211" y="37"/>
                    </a:lnTo>
                    <a:lnTo>
                      <a:pt x="225" y="36"/>
                    </a:lnTo>
                    <a:lnTo>
                      <a:pt x="240" y="35"/>
                    </a:lnTo>
                    <a:lnTo>
                      <a:pt x="255" y="35"/>
                    </a:lnTo>
                    <a:lnTo>
                      <a:pt x="270" y="36"/>
                    </a:lnTo>
                    <a:lnTo>
                      <a:pt x="284" y="37"/>
                    </a:lnTo>
                    <a:lnTo>
                      <a:pt x="299" y="40"/>
                    </a:lnTo>
                    <a:lnTo>
                      <a:pt x="314" y="42"/>
                    </a:lnTo>
                    <a:lnTo>
                      <a:pt x="329" y="46"/>
                    </a:lnTo>
                    <a:lnTo>
                      <a:pt x="343" y="49"/>
                    </a:lnTo>
                    <a:lnTo>
                      <a:pt x="357" y="54"/>
                    </a:lnTo>
                    <a:lnTo>
                      <a:pt x="371" y="60"/>
                    </a:lnTo>
                    <a:lnTo>
                      <a:pt x="385" y="66"/>
                    </a:lnTo>
                    <a:lnTo>
                      <a:pt x="398" y="73"/>
                    </a:lnTo>
                    <a:lnTo>
                      <a:pt x="411" y="80"/>
                    </a:lnTo>
                    <a:lnTo>
                      <a:pt x="425" y="89"/>
                    </a:lnTo>
                    <a:lnTo>
                      <a:pt x="437" y="98"/>
                    </a:lnTo>
                    <a:lnTo>
                      <a:pt x="449" y="108"/>
                    </a:lnTo>
                    <a:lnTo>
                      <a:pt x="461" y="119"/>
                    </a:lnTo>
                    <a:lnTo>
                      <a:pt x="461" y="119"/>
                    </a:lnTo>
                    <a:lnTo>
                      <a:pt x="485" y="9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738520" y="4545000"/>
                <a:ext cx="52200" cy="192240"/>
              </a:xfrm>
              <a:custGeom>
                <a:avLst/>
                <a:gdLst/>
                <a:ahLst/>
                <a:rect l="l" t="t" r="r" b="b"/>
                <a:pathLst>
                  <a:path w="132" h="484">
                    <a:moveTo>
                      <a:pt x="38" y="484"/>
                    </a:moveTo>
                    <a:lnTo>
                      <a:pt x="38" y="484"/>
                    </a:lnTo>
                    <a:lnTo>
                      <a:pt x="50" y="471"/>
                    </a:lnTo>
                    <a:lnTo>
                      <a:pt x="61" y="458"/>
                    </a:lnTo>
                    <a:lnTo>
                      <a:pt x="72" y="444"/>
                    </a:lnTo>
                    <a:lnTo>
                      <a:pt x="80" y="429"/>
                    </a:lnTo>
                    <a:lnTo>
                      <a:pt x="90" y="415"/>
                    </a:lnTo>
                    <a:lnTo>
                      <a:pt x="97" y="399"/>
                    </a:lnTo>
                    <a:lnTo>
                      <a:pt x="104" y="385"/>
                    </a:lnTo>
                    <a:lnTo>
                      <a:pt x="110" y="369"/>
                    </a:lnTo>
                    <a:lnTo>
                      <a:pt x="115" y="352"/>
                    </a:lnTo>
                    <a:lnTo>
                      <a:pt x="120" y="337"/>
                    </a:lnTo>
                    <a:lnTo>
                      <a:pt x="123" y="321"/>
                    </a:lnTo>
                    <a:lnTo>
                      <a:pt x="127" y="304"/>
                    </a:lnTo>
                    <a:lnTo>
                      <a:pt x="129" y="288"/>
                    </a:lnTo>
                    <a:lnTo>
                      <a:pt x="130" y="272"/>
                    </a:lnTo>
                    <a:lnTo>
                      <a:pt x="132" y="255"/>
                    </a:lnTo>
                    <a:lnTo>
                      <a:pt x="132" y="238"/>
                    </a:lnTo>
                    <a:lnTo>
                      <a:pt x="130" y="223"/>
                    </a:lnTo>
                    <a:lnTo>
                      <a:pt x="128" y="206"/>
                    </a:lnTo>
                    <a:lnTo>
                      <a:pt x="126" y="189"/>
                    </a:lnTo>
                    <a:lnTo>
                      <a:pt x="123" y="174"/>
                    </a:lnTo>
                    <a:lnTo>
                      <a:pt x="118" y="158"/>
                    </a:lnTo>
                    <a:lnTo>
                      <a:pt x="114" y="141"/>
                    </a:lnTo>
                    <a:lnTo>
                      <a:pt x="109" y="126"/>
                    </a:lnTo>
                    <a:lnTo>
                      <a:pt x="102" y="110"/>
                    </a:lnTo>
                    <a:lnTo>
                      <a:pt x="94" y="96"/>
                    </a:lnTo>
                    <a:lnTo>
                      <a:pt x="87" y="80"/>
                    </a:lnTo>
                    <a:lnTo>
                      <a:pt x="79" y="66"/>
                    </a:lnTo>
                    <a:lnTo>
                      <a:pt x="69" y="51"/>
                    </a:lnTo>
                    <a:lnTo>
                      <a:pt x="58" y="38"/>
                    </a:lnTo>
                    <a:lnTo>
                      <a:pt x="48" y="25"/>
                    </a:lnTo>
                    <a:lnTo>
                      <a:pt x="36" y="12"/>
                    </a:lnTo>
                    <a:lnTo>
                      <a:pt x="24" y="0"/>
                    </a:lnTo>
                    <a:lnTo>
                      <a:pt x="0" y="25"/>
                    </a:lnTo>
                    <a:lnTo>
                      <a:pt x="10" y="36"/>
                    </a:lnTo>
                    <a:lnTo>
                      <a:pt x="21" y="48"/>
                    </a:lnTo>
                    <a:lnTo>
                      <a:pt x="32" y="60"/>
                    </a:lnTo>
                    <a:lnTo>
                      <a:pt x="40" y="72"/>
                    </a:lnTo>
                    <a:lnTo>
                      <a:pt x="49" y="85"/>
                    </a:lnTo>
                    <a:lnTo>
                      <a:pt x="57" y="98"/>
                    </a:lnTo>
                    <a:lnTo>
                      <a:pt x="64" y="111"/>
                    </a:lnTo>
                    <a:lnTo>
                      <a:pt x="70" y="124"/>
                    </a:lnTo>
                    <a:lnTo>
                      <a:pt x="76" y="139"/>
                    </a:lnTo>
                    <a:lnTo>
                      <a:pt x="81" y="152"/>
                    </a:lnTo>
                    <a:lnTo>
                      <a:pt x="85" y="166"/>
                    </a:lnTo>
                    <a:lnTo>
                      <a:pt x="88" y="181"/>
                    </a:lnTo>
                    <a:lnTo>
                      <a:pt x="92" y="195"/>
                    </a:lnTo>
                    <a:lnTo>
                      <a:pt x="94" y="211"/>
                    </a:lnTo>
                    <a:lnTo>
                      <a:pt x="96" y="225"/>
                    </a:lnTo>
                    <a:lnTo>
                      <a:pt x="97" y="240"/>
                    </a:lnTo>
                    <a:lnTo>
                      <a:pt x="97" y="255"/>
                    </a:lnTo>
                    <a:lnTo>
                      <a:pt x="96" y="270"/>
                    </a:lnTo>
                    <a:lnTo>
                      <a:pt x="94" y="284"/>
                    </a:lnTo>
                    <a:lnTo>
                      <a:pt x="92" y="300"/>
                    </a:lnTo>
                    <a:lnTo>
                      <a:pt x="90" y="314"/>
                    </a:lnTo>
                    <a:lnTo>
                      <a:pt x="86" y="328"/>
                    </a:lnTo>
                    <a:lnTo>
                      <a:pt x="82" y="343"/>
                    </a:lnTo>
                    <a:lnTo>
                      <a:pt x="78" y="357"/>
                    </a:lnTo>
                    <a:lnTo>
                      <a:pt x="72" y="370"/>
                    </a:lnTo>
                    <a:lnTo>
                      <a:pt x="66" y="385"/>
                    </a:lnTo>
                    <a:lnTo>
                      <a:pt x="58" y="398"/>
                    </a:lnTo>
                    <a:lnTo>
                      <a:pt x="51" y="411"/>
                    </a:lnTo>
                    <a:lnTo>
                      <a:pt x="43" y="424"/>
                    </a:lnTo>
                    <a:lnTo>
                      <a:pt x="33" y="436"/>
                    </a:lnTo>
                    <a:lnTo>
                      <a:pt x="24" y="448"/>
                    </a:lnTo>
                    <a:lnTo>
                      <a:pt x="13" y="460"/>
                    </a:lnTo>
                    <a:lnTo>
                      <a:pt x="13" y="460"/>
                    </a:lnTo>
                    <a:lnTo>
                      <a:pt x="38" y="48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560680" y="4727520"/>
                <a:ext cx="193680" cy="52560"/>
              </a:xfrm>
              <a:custGeom>
                <a:avLst/>
                <a:gdLst/>
                <a:ahLst/>
                <a:rect l="l" t="t" r="r" b="b"/>
                <a:pathLst>
                  <a:path w="485" h="132">
                    <a:moveTo>
                      <a:pt x="0" y="39"/>
                    </a:moveTo>
                    <a:lnTo>
                      <a:pt x="0" y="39"/>
                    </a:lnTo>
                    <a:lnTo>
                      <a:pt x="13" y="51"/>
                    </a:lnTo>
                    <a:lnTo>
                      <a:pt x="27" y="61"/>
                    </a:lnTo>
                    <a:lnTo>
                      <a:pt x="41" y="72"/>
                    </a:lnTo>
                    <a:lnTo>
                      <a:pt x="55" y="81"/>
                    </a:lnTo>
                    <a:lnTo>
                      <a:pt x="70" y="90"/>
                    </a:lnTo>
                    <a:lnTo>
                      <a:pt x="85" y="97"/>
                    </a:lnTo>
                    <a:lnTo>
                      <a:pt x="101" y="105"/>
                    </a:lnTo>
                    <a:lnTo>
                      <a:pt x="117" y="111"/>
                    </a:lnTo>
                    <a:lnTo>
                      <a:pt x="132" y="117"/>
                    </a:lnTo>
                    <a:lnTo>
                      <a:pt x="148" y="120"/>
                    </a:lnTo>
                    <a:lnTo>
                      <a:pt x="163" y="125"/>
                    </a:lnTo>
                    <a:lnTo>
                      <a:pt x="180" y="127"/>
                    </a:lnTo>
                    <a:lnTo>
                      <a:pt x="197" y="130"/>
                    </a:lnTo>
                    <a:lnTo>
                      <a:pt x="213" y="131"/>
                    </a:lnTo>
                    <a:lnTo>
                      <a:pt x="229" y="132"/>
                    </a:lnTo>
                    <a:lnTo>
                      <a:pt x="246" y="132"/>
                    </a:lnTo>
                    <a:lnTo>
                      <a:pt x="262" y="131"/>
                    </a:lnTo>
                    <a:lnTo>
                      <a:pt x="279" y="130"/>
                    </a:lnTo>
                    <a:lnTo>
                      <a:pt x="295" y="126"/>
                    </a:lnTo>
                    <a:lnTo>
                      <a:pt x="311" y="124"/>
                    </a:lnTo>
                    <a:lnTo>
                      <a:pt x="328" y="119"/>
                    </a:lnTo>
                    <a:lnTo>
                      <a:pt x="343" y="114"/>
                    </a:lnTo>
                    <a:lnTo>
                      <a:pt x="359" y="109"/>
                    </a:lnTo>
                    <a:lnTo>
                      <a:pt x="375" y="103"/>
                    </a:lnTo>
                    <a:lnTo>
                      <a:pt x="389" y="96"/>
                    </a:lnTo>
                    <a:lnTo>
                      <a:pt x="405" y="88"/>
                    </a:lnTo>
                    <a:lnTo>
                      <a:pt x="419" y="79"/>
                    </a:lnTo>
                    <a:lnTo>
                      <a:pt x="433" y="70"/>
                    </a:lnTo>
                    <a:lnTo>
                      <a:pt x="447" y="59"/>
                    </a:lnTo>
                    <a:lnTo>
                      <a:pt x="460" y="48"/>
                    </a:lnTo>
                    <a:lnTo>
                      <a:pt x="473" y="36"/>
                    </a:lnTo>
                    <a:lnTo>
                      <a:pt x="485" y="24"/>
                    </a:lnTo>
                    <a:lnTo>
                      <a:pt x="460" y="0"/>
                    </a:lnTo>
                    <a:lnTo>
                      <a:pt x="449" y="12"/>
                    </a:lnTo>
                    <a:lnTo>
                      <a:pt x="437" y="22"/>
                    </a:lnTo>
                    <a:lnTo>
                      <a:pt x="425" y="33"/>
                    </a:lnTo>
                    <a:lnTo>
                      <a:pt x="413" y="41"/>
                    </a:lnTo>
                    <a:lnTo>
                      <a:pt x="400" y="49"/>
                    </a:lnTo>
                    <a:lnTo>
                      <a:pt x="388" y="58"/>
                    </a:lnTo>
                    <a:lnTo>
                      <a:pt x="373" y="65"/>
                    </a:lnTo>
                    <a:lnTo>
                      <a:pt x="360" y="71"/>
                    </a:lnTo>
                    <a:lnTo>
                      <a:pt x="347" y="77"/>
                    </a:lnTo>
                    <a:lnTo>
                      <a:pt x="333" y="82"/>
                    </a:lnTo>
                    <a:lnTo>
                      <a:pt x="318" y="87"/>
                    </a:lnTo>
                    <a:lnTo>
                      <a:pt x="304" y="90"/>
                    </a:lnTo>
                    <a:lnTo>
                      <a:pt x="289" y="93"/>
                    </a:lnTo>
                    <a:lnTo>
                      <a:pt x="274" y="95"/>
                    </a:lnTo>
                    <a:lnTo>
                      <a:pt x="259" y="96"/>
                    </a:lnTo>
                    <a:lnTo>
                      <a:pt x="245" y="97"/>
                    </a:lnTo>
                    <a:lnTo>
                      <a:pt x="231" y="97"/>
                    </a:lnTo>
                    <a:lnTo>
                      <a:pt x="215" y="96"/>
                    </a:lnTo>
                    <a:lnTo>
                      <a:pt x="201" y="95"/>
                    </a:lnTo>
                    <a:lnTo>
                      <a:pt x="186" y="94"/>
                    </a:lnTo>
                    <a:lnTo>
                      <a:pt x="171" y="90"/>
                    </a:lnTo>
                    <a:lnTo>
                      <a:pt x="156" y="87"/>
                    </a:lnTo>
                    <a:lnTo>
                      <a:pt x="142" y="83"/>
                    </a:lnTo>
                    <a:lnTo>
                      <a:pt x="129" y="78"/>
                    </a:lnTo>
                    <a:lnTo>
                      <a:pt x="114" y="72"/>
                    </a:lnTo>
                    <a:lnTo>
                      <a:pt x="100" y="66"/>
                    </a:lnTo>
                    <a:lnTo>
                      <a:pt x="87" y="59"/>
                    </a:lnTo>
                    <a:lnTo>
                      <a:pt x="73" y="52"/>
                    </a:lnTo>
                    <a:lnTo>
                      <a:pt x="60" y="43"/>
                    </a:lnTo>
                    <a:lnTo>
                      <a:pt x="48" y="34"/>
                    </a:lnTo>
                    <a:lnTo>
                      <a:pt x="36" y="24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517840" y="4551480"/>
                <a:ext cx="52200" cy="191880"/>
              </a:xfrm>
              <a:custGeom>
                <a:avLst/>
                <a:gdLst/>
                <a:ahLst/>
                <a:rect l="l" t="t" r="r" b="b"/>
                <a:pathLst>
                  <a:path w="132" h="485">
                    <a:moveTo>
                      <a:pt x="94" y="0"/>
                    </a:moveTo>
                    <a:lnTo>
                      <a:pt x="94" y="0"/>
                    </a:lnTo>
                    <a:lnTo>
                      <a:pt x="82" y="13"/>
                    </a:lnTo>
                    <a:lnTo>
                      <a:pt x="71" y="26"/>
                    </a:lnTo>
                    <a:lnTo>
                      <a:pt x="60" y="41"/>
                    </a:lnTo>
                    <a:lnTo>
                      <a:pt x="52" y="55"/>
                    </a:lnTo>
                    <a:lnTo>
                      <a:pt x="42" y="70"/>
                    </a:lnTo>
                    <a:lnTo>
                      <a:pt x="35" y="85"/>
                    </a:lnTo>
                    <a:lnTo>
                      <a:pt x="28" y="101"/>
                    </a:lnTo>
                    <a:lnTo>
                      <a:pt x="22" y="116"/>
                    </a:lnTo>
                    <a:lnTo>
                      <a:pt x="17" y="132"/>
                    </a:lnTo>
                    <a:lnTo>
                      <a:pt x="12" y="148"/>
                    </a:lnTo>
                    <a:lnTo>
                      <a:pt x="9" y="164"/>
                    </a:lnTo>
                    <a:lnTo>
                      <a:pt x="5" y="180"/>
                    </a:lnTo>
                    <a:lnTo>
                      <a:pt x="3" y="197"/>
                    </a:lnTo>
                    <a:lnTo>
                      <a:pt x="1" y="212"/>
                    </a:lnTo>
                    <a:lnTo>
                      <a:pt x="0" y="229"/>
                    </a:lnTo>
                    <a:lnTo>
                      <a:pt x="1" y="246"/>
                    </a:lnTo>
                    <a:lnTo>
                      <a:pt x="1" y="262"/>
                    </a:lnTo>
                    <a:lnTo>
                      <a:pt x="4" y="278"/>
                    </a:lnTo>
                    <a:lnTo>
                      <a:pt x="6" y="295"/>
                    </a:lnTo>
                    <a:lnTo>
                      <a:pt x="9" y="311"/>
                    </a:lnTo>
                    <a:lnTo>
                      <a:pt x="13" y="328"/>
                    </a:lnTo>
                    <a:lnTo>
                      <a:pt x="18" y="343"/>
                    </a:lnTo>
                    <a:lnTo>
                      <a:pt x="23" y="359"/>
                    </a:lnTo>
                    <a:lnTo>
                      <a:pt x="30" y="374"/>
                    </a:lnTo>
                    <a:lnTo>
                      <a:pt x="37" y="389"/>
                    </a:lnTo>
                    <a:lnTo>
                      <a:pt x="45" y="404"/>
                    </a:lnTo>
                    <a:lnTo>
                      <a:pt x="53" y="419"/>
                    </a:lnTo>
                    <a:lnTo>
                      <a:pt x="63" y="433"/>
                    </a:lnTo>
                    <a:lnTo>
                      <a:pt x="73" y="446"/>
                    </a:lnTo>
                    <a:lnTo>
                      <a:pt x="84" y="459"/>
                    </a:lnTo>
                    <a:lnTo>
                      <a:pt x="96" y="473"/>
                    </a:lnTo>
                    <a:lnTo>
                      <a:pt x="108" y="485"/>
                    </a:lnTo>
                    <a:lnTo>
                      <a:pt x="132" y="459"/>
                    </a:lnTo>
                    <a:lnTo>
                      <a:pt x="121" y="449"/>
                    </a:lnTo>
                    <a:lnTo>
                      <a:pt x="111" y="437"/>
                    </a:lnTo>
                    <a:lnTo>
                      <a:pt x="101" y="425"/>
                    </a:lnTo>
                    <a:lnTo>
                      <a:pt x="91" y="413"/>
                    </a:lnTo>
                    <a:lnTo>
                      <a:pt x="83" y="400"/>
                    </a:lnTo>
                    <a:lnTo>
                      <a:pt x="75" y="388"/>
                    </a:lnTo>
                    <a:lnTo>
                      <a:pt x="67" y="374"/>
                    </a:lnTo>
                    <a:lnTo>
                      <a:pt x="61" y="360"/>
                    </a:lnTo>
                    <a:lnTo>
                      <a:pt x="55" y="347"/>
                    </a:lnTo>
                    <a:lnTo>
                      <a:pt x="51" y="332"/>
                    </a:lnTo>
                    <a:lnTo>
                      <a:pt x="47" y="318"/>
                    </a:lnTo>
                    <a:lnTo>
                      <a:pt x="43" y="304"/>
                    </a:lnTo>
                    <a:lnTo>
                      <a:pt x="40" y="289"/>
                    </a:lnTo>
                    <a:lnTo>
                      <a:pt x="37" y="275"/>
                    </a:lnTo>
                    <a:lnTo>
                      <a:pt x="36" y="259"/>
                    </a:lnTo>
                    <a:lnTo>
                      <a:pt x="35" y="245"/>
                    </a:lnTo>
                    <a:lnTo>
                      <a:pt x="35" y="230"/>
                    </a:lnTo>
                    <a:lnTo>
                      <a:pt x="36" y="215"/>
                    </a:lnTo>
                    <a:lnTo>
                      <a:pt x="37" y="200"/>
                    </a:lnTo>
                    <a:lnTo>
                      <a:pt x="40" y="186"/>
                    </a:lnTo>
                    <a:lnTo>
                      <a:pt x="42" y="170"/>
                    </a:lnTo>
                    <a:lnTo>
                      <a:pt x="46" y="156"/>
                    </a:lnTo>
                    <a:lnTo>
                      <a:pt x="49" y="142"/>
                    </a:lnTo>
                    <a:lnTo>
                      <a:pt x="54" y="128"/>
                    </a:lnTo>
                    <a:lnTo>
                      <a:pt x="60" y="114"/>
                    </a:lnTo>
                    <a:lnTo>
                      <a:pt x="66" y="100"/>
                    </a:lnTo>
                    <a:lnTo>
                      <a:pt x="73" y="86"/>
                    </a:lnTo>
                    <a:lnTo>
                      <a:pt x="81" y="73"/>
                    </a:lnTo>
                    <a:lnTo>
                      <a:pt x="89" y="61"/>
                    </a:lnTo>
                    <a:lnTo>
                      <a:pt x="99" y="48"/>
                    </a:lnTo>
                    <a:lnTo>
                      <a:pt x="108" y="36"/>
                    </a:lnTo>
                    <a:lnTo>
                      <a:pt x="119" y="24"/>
                    </a:lnTo>
                    <a:lnTo>
                      <a:pt x="119" y="24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544840" y="3173400"/>
                <a:ext cx="485640" cy="485640"/>
              </a:xfrm>
              <a:custGeom>
                <a:avLst/>
                <a:gdLst/>
                <a:ahLst/>
                <a:rect l="l" t="t" r="r" b="b"/>
                <a:pathLst>
                  <a:path w="1224" h="1224">
                    <a:moveTo>
                      <a:pt x="612" y="0"/>
                    </a:moveTo>
                    <a:lnTo>
                      <a:pt x="643" y="1"/>
                    </a:lnTo>
                    <a:lnTo>
                      <a:pt x="674" y="4"/>
                    </a:lnTo>
                    <a:lnTo>
                      <a:pt x="704" y="7"/>
                    </a:lnTo>
                    <a:lnTo>
                      <a:pt x="734" y="13"/>
                    </a:lnTo>
                    <a:lnTo>
                      <a:pt x="764" y="21"/>
                    </a:lnTo>
                    <a:lnTo>
                      <a:pt x="793" y="28"/>
                    </a:lnTo>
                    <a:lnTo>
                      <a:pt x="822" y="37"/>
                    </a:lnTo>
                    <a:lnTo>
                      <a:pt x="850" y="49"/>
                    </a:lnTo>
                    <a:lnTo>
                      <a:pt x="877" y="61"/>
                    </a:lnTo>
                    <a:lnTo>
                      <a:pt x="904" y="75"/>
                    </a:lnTo>
                    <a:lnTo>
                      <a:pt x="929" y="89"/>
                    </a:lnTo>
                    <a:lnTo>
                      <a:pt x="954" y="106"/>
                    </a:lnTo>
                    <a:lnTo>
                      <a:pt x="978" y="123"/>
                    </a:lnTo>
                    <a:lnTo>
                      <a:pt x="1001" y="141"/>
                    </a:lnTo>
                    <a:lnTo>
                      <a:pt x="1022" y="160"/>
                    </a:lnTo>
                    <a:lnTo>
                      <a:pt x="1044" y="180"/>
                    </a:lnTo>
                    <a:lnTo>
                      <a:pt x="1064" y="202"/>
                    </a:lnTo>
                    <a:lnTo>
                      <a:pt x="1084" y="223"/>
                    </a:lnTo>
                    <a:lnTo>
                      <a:pt x="1102" y="247"/>
                    </a:lnTo>
                    <a:lnTo>
                      <a:pt x="1118" y="271"/>
                    </a:lnTo>
                    <a:lnTo>
                      <a:pt x="1135" y="295"/>
                    </a:lnTo>
                    <a:lnTo>
                      <a:pt x="1150" y="322"/>
                    </a:lnTo>
                    <a:lnTo>
                      <a:pt x="1163" y="348"/>
                    </a:lnTo>
                    <a:lnTo>
                      <a:pt x="1176" y="374"/>
                    </a:lnTo>
                    <a:lnTo>
                      <a:pt x="1187" y="402"/>
                    </a:lnTo>
                    <a:lnTo>
                      <a:pt x="1196" y="431"/>
                    </a:lnTo>
                    <a:lnTo>
                      <a:pt x="1205" y="460"/>
                    </a:lnTo>
                    <a:lnTo>
                      <a:pt x="1211" y="490"/>
                    </a:lnTo>
                    <a:lnTo>
                      <a:pt x="1217" y="520"/>
                    </a:lnTo>
                    <a:lnTo>
                      <a:pt x="1220" y="550"/>
                    </a:lnTo>
                    <a:lnTo>
                      <a:pt x="1223" y="581"/>
                    </a:lnTo>
                    <a:lnTo>
                      <a:pt x="1224" y="612"/>
                    </a:lnTo>
                    <a:lnTo>
                      <a:pt x="1223" y="643"/>
                    </a:lnTo>
                    <a:lnTo>
                      <a:pt x="1220" y="674"/>
                    </a:lnTo>
                    <a:lnTo>
                      <a:pt x="1217" y="706"/>
                    </a:lnTo>
                    <a:lnTo>
                      <a:pt x="1211" y="736"/>
                    </a:lnTo>
                    <a:lnTo>
                      <a:pt x="1205" y="764"/>
                    </a:lnTo>
                    <a:lnTo>
                      <a:pt x="1196" y="794"/>
                    </a:lnTo>
                    <a:lnTo>
                      <a:pt x="1187" y="822"/>
                    </a:lnTo>
                    <a:lnTo>
                      <a:pt x="1176" y="850"/>
                    </a:lnTo>
                    <a:lnTo>
                      <a:pt x="1163" y="877"/>
                    </a:lnTo>
                    <a:lnTo>
                      <a:pt x="1150" y="904"/>
                    </a:lnTo>
                    <a:lnTo>
                      <a:pt x="1135" y="929"/>
                    </a:lnTo>
                    <a:lnTo>
                      <a:pt x="1118" y="954"/>
                    </a:lnTo>
                    <a:lnTo>
                      <a:pt x="1102" y="978"/>
                    </a:lnTo>
                    <a:lnTo>
                      <a:pt x="1084" y="1001"/>
                    </a:lnTo>
                    <a:lnTo>
                      <a:pt x="1064" y="1023"/>
                    </a:lnTo>
                    <a:lnTo>
                      <a:pt x="1044" y="1044"/>
                    </a:lnTo>
                    <a:lnTo>
                      <a:pt x="1022" y="1064"/>
                    </a:lnTo>
                    <a:lnTo>
                      <a:pt x="1001" y="1083"/>
                    </a:lnTo>
                    <a:lnTo>
                      <a:pt x="978" y="1103"/>
                    </a:lnTo>
                    <a:lnTo>
                      <a:pt x="954" y="1119"/>
                    </a:lnTo>
                    <a:lnTo>
                      <a:pt x="929" y="1135"/>
                    </a:lnTo>
                    <a:lnTo>
                      <a:pt x="904" y="1149"/>
                    </a:lnTo>
                    <a:lnTo>
                      <a:pt x="877" y="1164"/>
                    </a:lnTo>
                    <a:lnTo>
                      <a:pt x="850" y="1176"/>
                    </a:lnTo>
                    <a:lnTo>
                      <a:pt x="822" y="1187"/>
                    </a:lnTo>
                    <a:lnTo>
                      <a:pt x="793" y="1196"/>
                    </a:lnTo>
                    <a:lnTo>
                      <a:pt x="764" y="1205"/>
                    </a:lnTo>
                    <a:lnTo>
                      <a:pt x="734" y="1212"/>
                    </a:lnTo>
                    <a:lnTo>
                      <a:pt x="704" y="1217"/>
                    </a:lnTo>
                    <a:lnTo>
                      <a:pt x="674" y="1220"/>
                    </a:lnTo>
                    <a:lnTo>
                      <a:pt x="643" y="1223"/>
                    </a:lnTo>
                    <a:lnTo>
                      <a:pt x="612" y="1224"/>
                    </a:lnTo>
                    <a:lnTo>
                      <a:pt x="581" y="1223"/>
                    </a:lnTo>
                    <a:lnTo>
                      <a:pt x="550" y="1220"/>
                    </a:lnTo>
                    <a:lnTo>
                      <a:pt x="518" y="1217"/>
                    </a:lnTo>
                    <a:lnTo>
                      <a:pt x="488" y="1212"/>
                    </a:lnTo>
                    <a:lnTo>
                      <a:pt x="460" y="1205"/>
                    </a:lnTo>
                    <a:lnTo>
                      <a:pt x="431" y="1196"/>
                    </a:lnTo>
                    <a:lnTo>
                      <a:pt x="402" y="1187"/>
                    </a:lnTo>
                    <a:lnTo>
                      <a:pt x="374" y="1176"/>
                    </a:lnTo>
                    <a:lnTo>
                      <a:pt x="347" y="1164"/>
                    </a:lnTo>
                    <a:lnTo>
                      <a:pt x="320" y="1149"/>
                    </a:lnTo>
                    <a:lnTo>
                      <a:pt x="295" y="1135"/>
                    </a:lnTo>
                    <a:lnTo>
                      <a:pt x="270" y="1119"/>
                    </a:lnTo>
                    <a:lnTo>
                      <a:pt x="246" y="1103"/>
                    </a:lnTo>
                    <a:lnTo>
                      <a:pt x="223" y="1083"/>
                    </a:lnTo>
                    <a:lnTo>
                      <a:pt x="200" y="1064"/>
                    </a:lnTo>
                    <a:lnTo>
                      <a:pt x="180" y="1044"/>
                    </a:lnTo>
                    <a:lnTo>
                      <a:pt x="160" y="1023"/>
                    </a:lnTo>
                    <a:lnTo>
                      <a:pt x="140" y="1001"/>
                    </a:lnTo>
                    <a:lnTo>
                      <a:pt x="122" y="978"/>
                    </a:lnTo>
                    <a:lnTo>
                      <a:pt x="104" y="954"/>
                    </a:lnTo>
                    <a:lnTo>
                      <a:pt x="89" y="929"/>
                    </a:lnTo>
                    <a:lnTo>
                      <a:pt x="74" y="904"/>
                    </a:lnTo>
                    <a:lnTo>
                      <a:pt x="61" y="877"/>
                    </a:lnTo>
                    <a:lnTo>
                      <a:pt x="48" y="850"/>
                    </a:lnTo>
                    <a:lnTo>
                      <a:pt x="37" y="822"/>
                    </a:lnTo>
                    <a:lnTo>
                      <a:pt x="28" y="794"/>
                    </a:lnTo>
                    <a:lnTo>
                      <a:pt x="19" y="764"/>
                    </a:lnTo>
                    <a:lnTo>
                      <a:pt x="13" y="736"/>
                    </a:lnTo>
                    <a:lnTo>
                      <a:pt x="7" y="706"/>
                    </a:lnTo>
                    <a:lnTo>
                      <a:pt x="4" y="674"/>
                    </a:lnTo>
                    <a:lnTo>
                      <a:pt x="1" y="643"/>
                    </a:lnTo>
                    <a:lnTo>
                      <a:pt x="0" y="612"/>
                    </a:lnTo>
                    <a:lnTo>
                      <a:pt x="1" y="581"/>
                    </a:lnTo>
                    <a:lnTo>
                      <a:pt x="4" y="550"/>
                    </a:lnTo>
                    <a:lnTo>
                      <a:pt x="7" y="520"/>
                    </a:lnTo>
                    <a:lnTo>
                      <a:pt x="13" y="490"/>
                    </a:lnTo>
                    <a:lnTo>
                      <a:pt x="19" y="460"/>
                    </a:lnTo>
                    <a:lnTo>
                      <a:pt x="28" y="431"/>
                    </a:lnTo>
                    <a:lnTo>
                      <a:pt x="37" y="402"/>
                    </a:lnTo>
                    <a:lnTo>
                      <a:pt x="48" y="374"/>
                    </a:lnTo>
                    <a:lnTo>
                      <a:pt x="61" y="348"/>
                    </a:lnTo>
                    <a:lnTo>
                      <a:pt x="74" y="322"/>
                    </a:lnTo>
                    <a:lnTo>
                      <a:pt x="89" y="295"/>
                    </a:lnTo>
                    <a:lnTo>
                      <a:pt x="104" y="271"/>
                    </a:lnTo>
                    <a:lnTo>
                      <a:pt x="122" y="247"/>
                    </a:lnTo>
                    <a:lnTo>
                      <a:pt x="140" y="223"/>
                    </a:lnTo>
                    <a:lnTo>
                      <a:pt x="160" y="202"/>
                    </a:lnTo>
                    <a:lnTo>
                      <a:pt x="180" y="180"/>
                    </a:lnTo>
                    <a:lnTo>
                      <a:pt x="200" y="160"/>
                    </a:lnTo>
                    <a:lnTo>
                      <a:pt x="223" y="141"/>
                    </a:lnTo>
                    <a:lnTo>
                      <a:pt x="246" y="123"/>
                    </a:lnTo>
                    <a:lnTo>
                      <a:pt x="270" y="106"/>
                    </a:lnTo>
                    <a:lnTo>
                      <a:pt x="295" y="89"/>
                    </a:lnTo>
                    <a:lnTo>
                      <a:pt x="320" y="75"/>
                    </a:lnTo>
                    <a:lnTo>
                      <a:pt x="347" y="61"/>
                    </a:lnTo>
                    <a:lnTo>
                      <a:pt x="374" y="49"/>
                    </a:lnTo>
                    <a:lnTo>
                      <a:pt x="402" y="37"/>
                    </a:lnTo>
                    <a:lnTo>
                      <a:pt x="431" y="28"/>
                    </a:lnTo>
                    <a:lnTo>
                      <a:pt x="460" y="21"/>
                    </a:lnTo>
                    <a:lnTo>
                      <a:pt x="488" y="13"/>
                    </a:lnTo>
                    <a:lnTo>
                      <a:pt x="518" y="7"/>
                    </a:lnTo>
                    <a:lnTo>
                      <a:pt x="550" y="4"/>
                    </a:lnTo>
                    <a:lnTo>
                      <a:pt x="581" y="1"/>
                    </a:lnTo>
                    <a:lnTo>
                      <a:pt x="612" y="0"/>
                    </a:lnTo>
                    <a:close/>
                  </a:path>
                </a:pathLst>
              </a:custGeom>
              <a:solidFill>
                <a:srgbClr val="be8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787480" y="3166920"/>
                <a:ext cx="249480" cy="249480"/>
              </a:xfrm>
              <a:custGeom>
                <a:avLst/>
                <a:gdLst/>
                <a:ahLst/>
                <a:rect l="l" t="t" r="r" b="b"/>
                <a:pathLst>
                  <a:path w="629" h="629">
                    <a:moveTo>
                      <a:pt x="629" y="629"/>
                    </a:moveTo>
                    <a:lnTo>
                      <a:pt x="629" y="629"/>
                    </a:lnTo>
                    <a:lnTo>
                      <a:pt x="629" y="597"/>
                    </a:lnTo>
                    <a:lnTo>
                      <a:pt x="625" y="565"/>
                    </a:lnTo>
                    <a:lnTo>
                      <a:pt x="622" y="534"/>
                    </a:lnTo>
                    <a:lnTo>
                      <a:pt x="617" y="503"/>
                    </a:lnTo>
                    <a:lnTo>
                      <a:pt x="610" y="472"/>
                    </a:lnTo>
                    <a:lnTo>
                      <a:pt x="601" y="443"/>
                    </a:lnTo>
                    <a:lnTo>
                      <a:pt x="590" y="413"/>
                    </a:lnTo>
                    <a:lnTo>
                      <a:pt x="580" y="385"/>
                    </a:lnTo>
                    <a:lnTo>
                      <a:pt x="566" y="357"/>
                    </a:lnTo>
                    <a:lnTo>
                      <a:pt x="553" y="330"/>
                    </a:lnTo>
                    <a:lnTo>
                      <a:pt x="538" y="304"/>
                    </a:lnTo>
                    <a:lnTo>
                      <a:pt x="521" y="277"/>
                    </a:lnTo>
                    <a:lnTo>
                      <a:pt x="504" y="253"/>
                    </a:lnTo>
                    <a:lnTo>
                      <a:pt x="485" y="229"/>
                    </a:lnTo>
                    <a:lnTo>
                      <a:pt x="466" y="207"/>
                    </a:lnTo>
                    <a:lnTo>
                      <a:pt x="444" y="185"/>
                    </a:lnTo>
                    <a:lnTo>
                      <a:pt x="422" y="164"/>
                    </a:lnTo>
                    <a:lnTo>
                      <a:pt x="400" y="144"/>
                    </a:lnTo>
                    <a:lnTo>
                      <a:pt x="376" y="125"/>
                    </a:lnTo>
                    <a:lnTo>
                      <a:pt x="352" y="108"/>
                    </a:lnTo>
                    <a:lnTo>
                      <a:pt x="325" y="92"/>
                    </a:lnTo>
                    <a:lnTo>
                      <a:pt x="300" y="76"/>
                    </a:lnTo>
                    <a:lnTo>
                      <a:pt x="272" y="63"/>
                    </a:lnTo>
                    <a:lnTo>
                      <a:pt x="245" y="50"/>
                    </a:lnTo>
                    <a:lnTo>
                      <a:pt x="216" y="39"/>
                    </a:lnTo>
                    <a:lnTo>
                      <a:pt x="187" y="29"/>
                    </a:lnTo>
                    <a:lnTo>
                      <a:pt x="157" y="21"/>
                    </a:lnTo>
                    <a:lnTo>
                      <a:pt x="126" y="14"/>
                    </a:lnTo>
                    <a:lnTo>
                      <a:pt x="96" y="8"/>
                    </a:lnTo>
                    <a:lnTo>
                      <a:pt x="64" y="4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0" y="36"/>
                    </a:lnTo>
                    <a:lnTo>
                      <a:pt x="61" y="38"/>
                    </a:lnTo>
                    <a:lnTo>
                      <a:pt x="90" y="42"/>
                    </a:lnTo>
                    <a:lnTo>
                      <a:pt x="120" y="47"/>
                    </a:lnTo>
                    <a:lnTo>
                      <a:pt x="148" y="54"/>
                    </a:lnTo>
                    <a:lnTo>
                      <a:pt x="176" y="62"/>
                    </a:lnTo>
                    <a:lnTo>
                      <a:pt x="204" y="71"/>
                    </a:lnTo>
                    <a:lnTo>
                      <a:pt x="230" y="82"/>
                    </a:lnTo>
                    <a:lnTo>
                      <a:pt x="257" y="94"/>
                    </a:lnTo>
                    <a:lnTo>
                      <a:pt x="283" y="107"/>
                    </a:lnTo>
                    <a:lnTo>
                      <a:pt x="307" y="122"/>
                    </a:lnTo>
                    <a:lnTo>
                      <a:pt x="332" y="137"/>
                    </a:lnTo>
                    <a:lnTo>
                      <a:pt x="355" y="153"/>
                    </a:lnTo>
                    <a:lnTo>
                      <a:pt x="378" y="171"/>
                    </a:lnTo>
                    <a:lnTo>
                      <a:pt x="400" y="190"/>
                    </a:lnTo>
                    <a:lnTo>
                      <a:pt x="420" y="209"/>
                    </a:lnTo>
                    <a:lnTo>
                      <a:pt x="439" y="229"/>
                    </a:lnTo>
                    <a:lnTo>
                      <a:pt x="458" y="251"/>
                    </a:lnTo>
                    <a:lnTo>
                      <a:pt x="476" y="274"/>
                    </a:lnTo>
                    <a:lnTo>
                      <a:pt x="492" y="298"/>
                    </a:lnTo>
                    <a:lnTo>
                      <a:pt x="508" y="322"/>
                    </a:lnTo>
                    <a:lnTo>
                      <a:pt x="522" y="346"/>
                    </a:lnTo>
                    <a:lnTo>
                      <a:pt x="535" y="372"/>
                    </a:lnTo>
                    <a:lnTo>
                      <a:pt x="547" y="399"/>
                    </a:lnTo>
                    <a:lnTo>
                      <a:pt x="558" y="425"/>
                    </a:lnTo>
                    <a:lnTo>
                      <a:pt x="568" y="453"/>
                    </a:lnTo>
                    <a:lnTo>
                      <a:pt x="576" y="481"/>
                    </a:lnTo>
                    <a:lnTo>
                      <a:pt x="582" y="510"/>
                    </a:lnTo>
                    <a:lnTo>
                      <a:pt x="588" y="539"/>
                    </a:lnTo>
                    <a:lnTo>
                      <a:pt x="592" y="569"/>
                    </a:lnTo>
                    <a:lnTo>
                      <a:pt x="594" y="599"/>
                    </a:lnTo>
                    <a:lnTo>
                      <a:pt x="594" y="629"/>
                    </a:lnTo>
                    <a:lnTo>
                      <a:pt x="594" y="629"/>
                    </a:lnTo>
                    <a:lnTo>
                      <a:pt x="629" y="62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787480" y="3416400"/>
                <a:ext cx="249480" cy="249120"/>
              </a:xfrm>
              <a:custGeom>
                <a:avLst/>
                <a:gdLst/>
                <a:ahLst/>
                <a:rect l="l" t="t" r="r" b="b"/>
                <a:pathLst>
                  <a:path w="629" h="630">
                    <a:moveTo>
                      <a:pt x="0" y="630"/>
                    </a:moveTo>
                    <a:lnTo>
                      <a:pt x="0" y="630"/>
                    </a:lnTo>
                    <a:lnTo>
                      <a:pt x="32" y="629"/>
                    </a:lnTo>
                    <a:lnTo>
                      <a:pt x="64" y="626"/>
                    </a:lnTo>
                    <a:lnTo>
                      <a:pt x="96" y="621"/>
                    </a:lnTo>
                    <a:lnTo>
                      <a:pt x="126" y="617"/>
                    </a:lnTo>
                    <a:lnTo>
                      <a:pt x="157" y="609"/>
                    </a:lnTo>
                    <a:lnTo>
                      <a:pt x="187" y="601"/>
                    </a:lnTo>
                    <a:lnTo>
                      <a:pt x="216" y="591"/>
                    </a:lnTo>
                    <a:lnTo>
                      <a:pt x="245" y="579"/>
                    </a:lnTo>
                    <a:lnTo>
                      <a:pt x="272" y="567"/>
                    </a:lnTo>
                    <a:lnTo>
                      <a:pt x="300" y="553"/>
                    </a:lnTo>
                    <a:lnTo>
                      <a:pt x="325" y="537"/>
                    </a:lnTo>
                    <a:lnTo>
                      <a:pt x="352" y="522"/>
                    </a:lnTo>
                    <a:lnTo>
                      <a:pt x="376" y="504"/>
                    </a:lnTo>
                    <a:lnTo>
                      <a:pt x="400" y="486"/>
                    </a:lnTo>
                    <a:lnTo>
                      <a:pt x="422" y="465"/>
                    </a:lnTo>
                    <a:lnTo>
                      <a:pt x="444" y="445"/>
                    </a:lnTo>
                    <a:lnTo>
                      <a:pt x="466" y="422"/>
                    </a:lnTo>
                    <a:lnTo>
                      <a:pt x="485" y="399"/>
                    </a:lnTo>
                    <a:lnTo>
                      <a:pt x="504" y="377"/>
                    </a:lnTo>
                    <a:lnTo>
                      <a:pt x="521" y="351"/>
                    </a:lnTo>
                    <a:lnTo>
                      <a:pt x="538" y="326"/>
                    </a:lnTo>
                    <a:lnTo>
                      <a:pt x="553" y="300"/>
                    </a:lnTo>
                    <a:lnTo>
                      <a:pt x="566" y="272"/>
                    </a:lnTo>
                    <a:lnTo>
                      <a:pt x="580" y="245"/>
                    </a:lnTo>
                    <a:lnTo>
                      <a:pt x="590" y="216"/>
                    </a:lnTo>
                    <a:lnTo>
                      <a:pt x="601" y="187"/>
                    </a:lnTo>
                    <a:lnTo>
                      <a:pt x="610" y="157"/>
                    </a:lnTo>
                    <a:lnTo>
                      <a:pt x="617" y="127"/>
                    </a:lnTo>
                    <a:lnTo>
                      <a:pt x="622" y="96"/>
                    </a:lnTo>
                    <a:lnTo>
                      <a:pt x="625" y="65"/>
                    </a:lnTo>
                    <a:lnTo>
                      <a:pt x="629" y="32"/>
                    </a:lnTo>
                    <a:lnTo>
                      <a:pt x="629" y="0"/>
                    </a:lnTo>
                    <a:lnTo>
                      <a:pt x="594" y="0"/>
                    </a:lnTo>
                    <a:lnTo>
                      <a:pt x="594" y="31"/>
                    </a:lnTo>
                    <a:lnTo>
                      <a:pt x="592" y="61"/>
                    </a:lnTo>
                    <a:lnTo>
                      <a:pt x="588" y="91"/>
                    </a:lnTo>
                    <a:lnTo>
                      <a:pt x="582" y="120"/>
                    </a:lnTo>
                    <a:lnTo>
                      <a:pt x="576" y="149"/>
                    </a:lnTo>
                    <a:lnTo>
                      <a:pt x="568" y="176"/>
                    </a:lnTo>
                    <a:lnTo>
                      <a:pt x="558" y="204"/>
                    </a:lnTo>
                    <a:lnTo>
                      <a:pt x="547" y="232"/>
                    </a:lnTo>
                    <a:lnTo>
                      <a:pt x="535" y="258"/>
                    </a:lnTo>
                    <a:lnTo>
                      <a:pt x="522" y="283"/>
                    </a:lnTo>
                    <a:lnTo>
                      <a:pt x="508" y="308"/>
                    </a:lnTo>
                    <a:lnTo>
                      <a:pt x="492" y="332"/>
                    </a:lnTo>
                    <a:lnTo>
                      <a:pt x="476" y="355"/>
                    </a:lnTo>
                    <a:lnTo>
                      <a:pt x="458" y="378"/>
                    </a:lnTo>
                    <a:lnTo>
                      <a:pt x="439" y="399"/>
                    </a:lnTo>
                    <a:lnTo>
                      <a:pt x="420" y="420"/>
                    </a:lnTo>
                    <a:lnTo>
                      <a:pt x="400" y="440"/>
                    </a:lnTo>
                    <a:lnTo>
                      <a:pt x="378" y="458"/>
                    </a:lnTo>
                    <a:lnTo>
                      <a:pt x="355" y="476"/>
                    </a:lnTo>
                    <a:lnTo>
                      <a:pt x="332" y="493"/>
                    </a:lnTo>
                    <a:lnTo>
                      <a:pt x="307" y="509"/>
                    </a:lnTo>
                    <a:lnTo>
                      <a:pt x="283" y="523"/>
                    </a:lnTo>
                    <a:lnTo>
                      <a:pt x="257" y="536"/>
                    </a:lnTo>
                    <a:lnTo>
                      <a:pt x="230" y="548"/>
                    </a:lnTo>
                    <a:lnTo>
                      <a:pt x="204" y="558"/>
                    </a:lnTo>
                    <a:lnTo>
                      <a:pt x="176" y="567"/>
                    </a:lnTo>
                    <a:lnTo>
                      <a:pt x="149" y="576"/>
                    </a:lnTo>
                    <a:lnTo>
                      <a:pt x="120" y="583"/>
                    </a:lnTo>
                    <a:lnTo>
                      <a:pt x="90" y="588"/>
                    </a:lnTo>
                    <a:lnTo>
                      <a:pt x="61" y="591"/>
                    </a:lnTo>
                    <a:lnTo>
                      <a:pt x="30" y="594"/>
                    </a:lnTo>
                    <a:lnTo>
                      <a:pt x="0" y="595"/>
                    </a:lnTo>
                    <a:lnTo>
                      <a:pt x="0" y="595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536560" y="3416400"/>
                <a:ext cx="250920" cy="249120"/>
              </a:xfrm>
              <a:custGeom>
                <a:avLst/>
                <a:gdLst/>
                <a:ahLst/>
                <a:rect l="l" t="t" r="r" b="b"/>
                <a:pathLst>
                  <a:path w="629" h="630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3" y="65"/>
                    </a:lnTo>
                    <a:lnTo>
                      <a:pt x="7" y="96"/>
                    </a:lnTo>
                    <a:lnTo>
                      <a:pt x="12" y="127"/>
                    </a:lnTo>
                    <a:lnTo>
                      <a:pt x="19" y="157"/>
                    </a:lnTo>
                    <a:lnTo>
                      <a:pt x="28" y="187"/>
                    </a:lnTo>
                    <a:lnTo>
                      <a:pt x="39" y="216"/>
                    </a:lnTo>
                    <a:lnTo>
                      <a:pt x="49" y="245"/>
                    </a:lnTo>
                    <a:lnTo>
                      <a:pt x="63" y="272"/>
                    </a:lnTo>
                    <a:lnTo>
                      <a:pt x="76" y="300"/>
                    </a:lnTo>
                    <a:lnTo>
                      <a:pt x="91" y="326"/>
                    </a:lnTo>
                    <a:lnTo>
                      <a:pt x="107" y="351"/>
                    </a:lnTo>
                    <a:lnTo>
                      <a:pt x="125" y="377"/>
                    </a:lnTo>
                    <a:lnTo>
                      <a:pt x="144" y="399"/>
                    </a:lnTo>
                    <a:lnTo>
                      <a:pt x="163" y="422"/>
                    </a:lnTo>
                    <a:lnTo>
                      <a:pt x="184" y="445"/>
                    </a:lnTo>
                    <a:lnTo>
                      <a:pt x="207" y="465"/>
                    </a:lnTo>
                    <a:lnTo>
                      <a:pt x="229" y="486"/>
                    </a:lnTo>
                    <a:lnTo>
                      <a:pt x="253" y="504"/>
                    </a:lnTo>
                    <a:lnTo>
                      <a:pt x="277" y="522"/>
                    </a:lnTo>
                    <a:lnTo>
                      <a:pt x="303" y="537"/>
                    </a:lnTo>
                    <a:lnTo>
                      <a:pt x="329" y="553"/>
                    </a:lnTo>
                    <a:lnTo>
                      <a:pt x="357" y="567"/>
                    </a:lnTo>
                    <a:lnTo>
                      <a:pt x="384" y="579"/>
                    </a:lnTo>
                    <a:lnTo>
                      <a:pt x="413" y="591"/>
                    </a:lnTo>
                    <a:lnTo>
                      <a:pt x="442" y="601"/>
                    </a:lnTo>
                    <a:lnTo>
                      <a:pt x="472" y="609"/>
                    </a:lnTo>
                    <a:lnTo>
                      <a:pt x="503" y="617"/>
                    </a:lnTo>
                    <a:lnTo>
                      <a:pt x="533" y="621"/>
                    </a:lnTo>
                    <a:lnTo>
                      <a:pt x="565" y="626"/>
                    </a:lnTo>
                    <a:lnTo>
                      <a:pt x="597" y="629"/>
                    </a:lnTo>
                    <a:lnTo>
                      <a:pt x="629" y="630"/>
                    </a:lnTo>
                    <a:lnTo>
                      <a:pt x="629" y="595"/>
                    </a:lnTo>
                    <a:lnTo>
                      <a:pt x="598" y="594"/>
                    </a:lnTo>
                    <a:lnTo>
                      <a:pt x="568" y="591"/>
                    </a:lnTo>
                    <a:lnTo>
                      <a:pt x="539" y="588"/>
                    </a:lnTo>
                    <a:lnTo>
                      <a:pt x="509" y="583"/>
                    </a:lnTo>
                    <a:lnTo>
                      <a:pt x="480" y="576"/>
                    </a:lnTo>
                    <a:lnTo>
                      <a:pt x="453" y="567"/>
                    </a:lnTo>
                    <a:lnTo>
                      <a:pt x="425" y="558"/>
                    </a:lnTo>
                    <a:lnTo>
                      <a:pt x="397" y="548"/>
                    </a:lnTo>
                    <a:lnTo>
                      <a:pt x="372" y="536"/>
                    </a:lnTo>
                    <a:lnTo>
                      <a:pt x="346" y="523"/>
                    </a:lnTo>
                    <a:lnTo>
                      <a:pt x="321" y="509"/>
                    </a:lnTo>
                    <a:lnTo>
                      <a:pt x="297" y="493"/>
                    </a:lnTo>
                    <a:lnTo>
                      <a:pt x="274" y="476"/>
                    </a:lnTo>
                    <a:lnTo>
                      <a:pt x="251" y="458"/>
                    </a:lnTo>
                    <a:lnTo>
                      <a:pt x="229" y="440"/>
                    </a:lnTo>
                    <a:lnTo>
                      <a:pt x="209" y="420"/>
                    </a:lnTo>
                    <a:lnTo>
                      <a:pt x="190" y="399"/>
                    </a:lnTo>
                    <a:lnTo>
                      <a:pt x="171" y="378"/>
                    </a:lnTo>
                    <a:lnTo>
                      <a:pt x="153" y="355"/>
                    </a:lnTo>
                    <a:lnTo>
                      <a:pt x="136" y="332"/>
                    </a:lnTo>
                    <a:lnTo>
                      <a:pt x="120" y="308"/>
                    </a:lnTo>
                    <a:lnTo>
                      <a:pt x="106" y="283"/>
                    </a:lnTo>
                    <a:lnTo>
                      <a:pt x="94" y="258"/>
                    </a:lnTo>
                    <a:lnTo>
                      <a:pt x="82" y="232"/>
                    </a:lnTo>
                    <a:lnTo>
                      <a:pt x="71" y="204"/>
                    </a:lnTo>
                    <a:lnTo>
                      <a:pt x="61" y="176"/>
                    </a:lnTo>
                    <a:lnTo>
                      <a:pt x="53" y="149"/>
                    </a:lnTo>
                    <a:lnTo>
                      <a:pt x="47" y="120"/>
                    </a:lnTo>
                    <a:lnTo>
                      <a:pt x="41" y="91"/>
                    </a:lnTo>
                    <a:lnTo>
                      <a:pt x="37" y="61"/>
                    </a:lnTo>
                    <a:lnTo>
                      <a:pt x="35" y="3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536560" y="3166920"/>
                <a:ext cx="250920" cy="249480"/>
              </a:xfrm>
              <a:custGeom>
                <a:avLst/>
                <a:gdLst/>
                <a:ahLst/>
                <a:rect l="l" t="t" r="r" b="b"/>
                <a:pathLst>
                  <a:path w="629" h="629">
                    <a:moveTo>
                      <a:pt x="629" y="0"/>
                    </a:moveTo>
                    <a:lnTo>
                      <a:pt x="629" y="0"/>
                    </a:lnTo>
                    <a:lnTo>
                      <a:pt x="597" y="2"/>
                    </a:lnTo>
                    <a:lnTo>
                      <a:pt x="565" y="4"/>
                    </a:lnTo>
                    <a:lnTo>
                      <a:pt x="533" y="8"/>
                    </a:lnTo>
                    <a:lnTo>
                      <a:pt x="503" y="14"/>
                    </a:lnTo>
                    <a:lnTo>
                      <a:pt x="472" y="21"/>
                    </a:lnTo>
                    <a:lnTo>
                      <a:pt x="442" y="29"/>
                    </a:lnTo>
                    <a:lnTo>
                      <a:pt x="413" y="39"/>
                    </a:lnTo>
                    <a:lnTo>
                      <a:pt x="384" y="50"/>
                    </a:lnTo>
                    <a:lnTo>
                      <a:pt x="357" y="63"/>
                    </a:lnTo>
                    <a:lnTo>
                      <a:pt x="329" y="76"/>
                    </a:lnTo>
                    <a:lnTo>
                      <a:pt x="303" y="92"/>
                    </a:lnTo>
                    <a:lnTo>
                      <a:pt x="277" y="108"/>
                    </a:lnTo>
                    <a:lnTo>
                      <a:pt x="253" y="125"/>
                    </a:lnTo>
                    <a:lnTo>
                      <a:pt x="229" y="144"/>
                    </a:lnTo>
                    <a:lnTo>
                      <a:pt x="207" y="164"/>
                    </a:lnTo>
                    <a:lnTo>
                      <a:pt x="184" y="185"/>
                    </a:lnTo>
                    <a:lnTo>
                      <a:pt x="163" y="207"/>
                    </a:lnTo>
                    <a:lnTo>
                      <a:pt x="144" y="229"/>
                    </a:lnTo>
                    <a:lnTo>
                      <a:pt x="125" y="253"/>
                    </a:lnTo>
                    <a:lnTo>
                      <a:pt x="107" y="277"/>
                    </a:lnTo>
                    <a:lnTo>
                      <a:pt x="91" y="304"/>
                    </a:lnTo>
                    <a:lnTo>
                      <a:pt x="76" y="330"/>
                    </a:lnTo>
                    <a:lnTo>
                      <a:pt x="63" y="357"/>
                    </a:lnTo>
                    <a:lnTo>
                      <a:pt x="49" y="385"/>
                    </a:lnTo>
                    <a:lnTo>
                      <a:pt x="39" y="413"/>
                    </a:lnTo>
                    <a:lnTo>
                      <a:pt x="28" y="443"/>
                    </a:lnTo>
                    <a:lnTo>
                      <a:pt x="19" y="473"/>
                    </a:lnTo>
                    <a:lnTo>
                      <a:pt x="12" y="503"/>
                    </a:lnTo>
                    <a:lnTo>
                      <a:pt x="7" y="534"/>
                    </a:lnTo>
                    <a:lnTo>
                      <a:pt x="3" y="565"/>
                    </a:lnTo>
                    <a:lnTo>
                      <a:pt x="0" y="597"/>
                    </a:lnTo>
                    <a:lnTo>
                      <a:pt x="0" y="629"/>
                    </a:lnTo>
                    <a:lnTo>
                      <a:pt x="35" y="629"/>
                    </a:lnTo>
                    <a:lnTo>
                      <a:pt x="35" y="599"/>
                    </a:lnTo>
                    <a:lnTo>
                      <a:pt x="37" y="569"/>
                    </a:lnTo>
                    <a:lnTo>
                      <a:pt x="41" y="539"/>
                    </a:lnTo>
                    <a:lnTo>
                      <a:pt x="47" y="510"/>
                    </a:lnTo>
                    <a:lnTo>
                      <a:pt x="53" y="481"/>
                    </a:lnTo>
                    <a:lnTo>
                      <a:pt x="61" y="453"/>
                    </a:lnTo>
                    <a:lnTo>
                      <a:pt x="71" y="425"/>
                    </a:lnTo>
                    <a:lnTo>
                      <a:pt x="82" y="399"/>
                    </a:lnTo>
                    <a:lnTo>
                      <a:pt x="94" y="372"/>
                    </a:lnTo>
                    <a:lnTo>
                      <a:pt x="106" y="346"/>
                    </a:lnTo>
                    <a:lnTo>
                      <a:pt x="120" y="322"/>
                    </a:lnTo>
                    <a:lnTo>
                      <a:pt x="136" y="298"/>
                    </a:lnTo>
                    <a:lnTo>
                      <a:pt x="153" y="274"/>
                    </a:lnTo>
                    <a:lnTo>
                      <a:pt x="171" y="251"/>
                    </a:lnTo>
                    <a:lnTo>
                      <a:pt x="190" y="229"/>
                    </a:lnTo>
                    <a:lnTo>
                      <a:pt x="209" y="209"/>
                    </a:lnTo>
                    <a:lnTo>
                      <a:pt x="229" y="190"/>
                    </a:lnTo>
                    <a:lnTo>
                      <a:pt x="251" y="171"/>
                    </a:lnTo>
                    <a:lnTo>
                      <a:pt x="274" y="153"/>
                    </a:lnTo>
                    <a:lnTo>
                      <a:pt x="297" y="137"/>
                    </a:lnTo>
                    <a:lnTo>
                      <a:pt x="321" y="122"/>
                    </a:lnTo>
                    <a:lnTo>
                      <a:pt x="346" y="107"/>
                    </a:lnTo>
                    <a:lnTo>
                      <a:pt x="372" y="94"/>
                    </a:lnTo>
                    <a:lnTo>
                      <a:pt x="397" y="82"/>
                    </a:lnTo>
                    <a:lnTo>
                      <a:pt x="425" y="71"/>
                    </a:lnTo>
                    <a:lnTo>
                      <a:pt x="453" y="62"/>
                    </a:lnTo>
                    <a:lnTo>
                      <a:pt x="480" y="54"/>
                    </a:lnTo>
                    <a:lnTo>
                      <a:pt x="509" y="47"/>
                    </a:lnTo>
                    <a:lnTo>
                      <a:pt x="539" y="42"/>
                    </a:lnTo>
                    <a:lnTo>
                      <a:pt x="568" y="38"/>
                    </a:lnTo>
                    <a:lnTo>
                      <a:pt x="599" y="36"/>
                    </a:lnTo>
                    <a:lnTo>
                      <a:pt x="629" y="35"/>
                    </a:lnTo>
                    <a:lnTo>
                      <a:pt x="629" y="35"/>
                    </a:lnTo>
                    <a:lnTo>
                      <a:pt x="629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546280" y="3176640"/>
                <a:ext cx="480960" cy="480960"/>
              </a:xfrm>
              <a:custGeom>
                <a:avLst/>
                <a:gdLst/>
                <a:ahLst/>
                <a:rect l="l" t="t" r="r" b="b"/>
                <a:pathLst>
                  <a:path w="1212" h="1213">
                    <a:moveTo>
                      <a:pt x="606" y="0"/>
                    </a:moveTo>
                    <a:lnTo>
                      <a:pt x="637" y="1"/>
                    </a:lnTo>
                    <a:lnTo>
                      <a:pt x="667" y="3"/>
                    </a:lnTo>
                    <a:lnTo>
                      <a:pt x="698" y="7"/>
                    </a:lnTo>
                    <a:lnTo>
                      <a:pt x="728" y="12"/>
                    </a:lnTo>
                    <a:lnTo>
                      <a:pt x="757" y="19"/>
                    </a:lnTo>
                    <a:lnTo>
                      <a:pt x="786" y="27"/>
                    </a:lnTo>
                    <a:lnTo>
                      <a:pt x="814" y="37"/>
                    </a:lnTo>
                    <a:lnTo>
                      <a:pt x="841" y="48"/>
                    </a:lnTo>
                    <a:lnTo>
                      <a:pt x="869" y="60"/>
                    </a:lnTo>
                    <a:lnTo>
                      <a:pt x="894" y="73"/>
                    </a:lnTo>
                    <a:lnTo>
                      <a:pt x="920" y="87"/>
                    </a:lnTo>
                    <a:lnTo>
                      <a:pt x="944" y="104"/>
                    </a:lnTo>
                    <a:lnTo>
                      <a:pt x="968" y="121"/>
                    </a:lnTo>
                    <a:lnTo>
                      <a:pt x="991" y="139"/>
                    </a:lnTo>
                    <a:lnTo>
                      <a:pt x="1013" y="158"/>
                    </a:lnTo>
                    <a:lnTo>
                      <a:pt x="1034" y="177"/>
                    </a:lnTo>
                    <a:lnTo>
                      <a:pt x="1055" y="199"/>
                    </a:lnTo>
                    <a:lnTo>
                      <a:pt x="1074" y="220"/>
                    </a:lnTo>
                    <a:lnTo>
                      <a:pt x="1092" y="243"/>
                    </a:lnTo>
                    <a:lnTo>
                      <a:pt x="1109" y="267"/>
                    </a:lnTo>
                    <a:lnTo>
                      <a:pt x="1124" y="292"/>
                    </a:lnTo>
                    <a:lnTo>
                      <a:pt x="1139" y="318"/>
                    </a:lnTo>
                    <a:lnTo>
                      <a:pt x="1152" y="344"/>
                    </a:lnTo>
                    <a:lnTo>
                      <a:pt x="1164" y="370"/>
                    </a:lnTo>
                    <a:lnTo>
                      <a:pt x="1175" y="398"/>
                    </a:lnTo>
                    <a:lnTo>
                      <a:pt x="1184" y="426"/>
                    </a:lnTo>
                    <a:lnTo>
                      <a:pt x="1193" y="454"/>
                    </a:lnTo>
                    <a:lnTo>
                      <a:pt x="1200" y="484"/>
                    </a:lnTo>
                    <a:lnTo>
                      <a:pt x="1205" y="514"/>
                    </a:lnTo>
                    <a:lnTo>
                      <a:pt x="1208" y="544"/>
                    </a:lnTo>
                    <a:lnTo>
                      <a:pt x="1211" y="574"/>
                    </a:lnTo>
                    <a:lnTo>
                      <a:pt x="1212" y="606"/>
                    </a:lnTo>
                    <a:lnTo>
                      <a:pt x="1211" y="637"/>
                    </a:lnTo>
                    <a:lnTo>
                      <a:pt x="1208" y="668"/>
                    </a:lnTo>
                    <a:lnTo>
                      <a:pt x="1205" y="698"/>
                    </a:lnTo>
                    <a:lnTo>
                      <a:pt x="1200" y="728"/>
                    </a:lnTo>
                    <a:lnTo>
                      <a:pt x="1193" y="757"/>
                    </a:lnTo>
                    <a:lnTo>
                      <a:pt x="1184" y="786"/>
                    </a:lnTo>
                    <a:lnTo>
                      <a:pt x="1175" y="814"/>
                    </a:lnTo>
                    <a:lnTo>
                      <a:pt x="1164" y="842"/>
                    </a:lnTo>
                    <a:lnTo>
                      <a:pt x="1152" y="868"/>
                    </a:lnTo>
                    <a:lnTo>
                      <a:pt x="1139" y="895"/>
                    </a:lnTo>
                    <a:lnTo>
                      <a:pt x="1124" y="920"/>
                    </a:lnTo>
                    <a:lnTo>
                      <a:pt x="1109" y="944"/>
                    </a:lnTo>
                    <a:lnTo>
                      <a:pt x="1092" y="968"/>
                    </a:lnTo>
                    <a:lnTo>
                      <a:pt x="1074" y="991"/>
                    </a:lnTo>
                    <a:lnTo>
                      <a:pt x="1055" y="1013"/>
                    </a:lnTo>
                    <a:lnTo>
                      <a:pt x="1034" y="1034"/>
                    </a:lnTo>
                    <a:lnTo>
                      <a:pt x="1013" y="1054"/>
                    </a:lnTo>
                    <a:lnTo>
                      <a:pt x="991" y="1073"/>
                    </a:lnTo>
                    <a:lnTo>
                      <a:pt x="968" y="1091"/>
                    </a:lnTo>
                    <a:lnTo>
                      <a:pt x="944" y="1108"/>
                    </a:lnTo>
                    <a:lnTo>
                      <a:pt x="920" y="1124"/>
                    </a:lnTo>
                    <a:lnTo>
                      <a:pt x="894" y="1138"/>
                    </a:lnTo>
                    <a:lnTo>
                      <a:pt x="869" y="1153"/>
                    </a:lnTo>
                    <a:lnTo>
                      <a:pt x="841" y="1165"/>
                    </a:lnTo>
                    <a:lnTo>
                      <a:pt x="814" y="1175"/>
                    </a:lnTo>
                    <a:lnTo>
                      <a:pt x="786" y="1185"/>
                    </a:lnTo>
                    <a:lnTo>
                      <a:pt x="757" y="1193"/>
                    </a:lnTo>
                    <a:lnTo>
                      <a:pt x="728" y="1199"/>
                    </a:lnTo>
                    <a:lnTo>
                      <a:pt x="698" y="1205"/>
                    </a:lnTo>
                    <a:lnTo>
                      <a:pt x="667" y="1209"/>
                    </a:lnTo>
                    <a:lnTo>
                      <a:pt x="637" y="1211"/>
                    </a:lnTo>
                    <a:lnTo>
                      <a:pt x="606" y="1213"/>
                    </a:lnTo>
                    <a:lnTo>
                      <a:pt x="575" y="1211"/>
                    </a:lnTo>
                    <a:lnTo>
                      <a:pt x="544" y="1209"/>
                    </a:lnTo>
                    <a:lnTo>
                      <a:pt x="514" y="1205"/>
                    </a:lnTo>
                    <a:lnTo>
                      <a:pt x="484" y="1199"/>
                    </a:lnTo>
                    <a:lnTo>
                      <a:pt x="455" y="1193"/>
                    </a:lnTo>
                    <a:lnTo>
                      <a:pt x="426" y="1185"/>
                    </a:lnTo>
                    <a:lnTo>
                      <a:pt x="398" y="1175"/>
                    </a:lnTo>
                    <a:lnTo>
                      <a:pt x="371" y="1165"/>
                    </a:lnTo>
                    <a:lnTo>
                      <a:pt x="343" y="1153"/>
                    </a:lnTo>
                    <a:lnTo>
                      <a:pt x="317" y="1138"/>
                    </a:lnTo>
                    <a:lnTo>
                      <a:pt x="292" y="1124"/>
                    </a:lnTo>
                    <a:lnTo>
                      <a:pt x="268" y="1108"/>
                    </a:lnTo>
                    <a:lnTo>
                      <a:pt x="244" y="1091"/>
                    </a:lnTo>
                    <a:lnTo>
                      <a:pt x="221" y="1073"/>
                    </a:lnTo>
                    <a:lnTo>
                      <a:pt x="199" y="1054"/>
                    </a:lnTo>
                    <a:lnTo>
                      <a:pt x="178" y="1034"/>
                    </a:lnTo>
                    <a:lnTo>
                      <a:pt x="157" y="1013"/>
                    </a:lnTo>
                    <a:lnTo>
                      <a:pt x="138" y="991"/>
                    </a:lnTo>
                    <a:lnTo>
                      <a:pt x="120" y="968"/>
                    </a:lnTo>
                    <a:lnTo>
                      <a:pt x="103" y="944"/>
                    </a:lnTo>
                    <a:lnTo>
                      <a:pt x="88" y="920"/>
                    </a:lnTo>
                    <a:lnTo>
                      <a:pt x="73" y="895"/>
                    </a:lnTo>
                    <a:lnTo>
                      <a:pt x="60" y="868"/>
                    </a:lnTo>
                    <a:lnTo>
                      <a:pt x="48" y="842"/>
                    </a:lnTo>
                    <a:lnTo>
                      <a:pt x="37" y="814"/>
                    </a:lnTo>
                    <a:lnTo>
                      <a:pt x="28" y="786"/>
                    </a:lnTo>
                    <a:lnTo>
                      <a:pt x="19" y="757"/>
                    </a:lnTo>
                    <a:lnTo>
                      <a:pt x="12" y="728"/>
                    </a:lnTo>
                    <a:lnTo>
                      <a:pt x="7" y="698"/>
                    </a:lnTo>
                    <a:lnTo>
                      <a:pt x="2" y="668"/>
                    </a:lnTo>
                    <a:lnTo>
                      <a:pt x="0" y="637"/>
                    </a:lnTo>
                    <a:lnTo>
                      <a:pt x="0" y="606"/>
                    </a:lnTo>
                    <a:lnTo>
                      <a:pt x="0" y="574"/>
                    </a:lnTo>
                    <a:lnTo>
                      <a:pt x="2" y="544"/>
                    </a:lnTo>
                    <a:lnTo>
                      <a:pt x="7" y="514"/>
                    </a:lnTo>
                    <a:lnTo>
                      <a:pt x="12" y="484"/>
                    </a:lnTo>
                    <a:lnTo>
                      <a:pt x="19" y="454"/>
                    </a:lnTo>
                    <a:lnTo>
                      <a:pt x="28" y="426"/>
                    </a:lnTo>
                    <a:lnTo>
                      <a:pt x="37" y="398"/>
                    </a:lnTo>
                    <a:lnTo>
                      <a:pt x="48" y="370"/>
                    </a:lnTo>
                    <a:lnTo>
                      <a:pt x="60" y="344"/>
                    </a:lnTo>
                    <a:lnTo>
                      <a:pt x="73" y="318"/>
                    </a:lnTo>
                    <a:lnTo>
                      <a:pt x="88" y="292"/>
                    </a:lnTo>
                    <a:lnTo>
                      <a:pt x="103" y="267"/>
                    </a:lnTo>
                    <a:lnTo>
                      <a:pt x="120" y="243"/>
                    </a:lnTo>
                    <a:lnTo>
                      <a:pt x="138" y="220"/>
                    </a:lnTo>
                    <a:lnTo>
                      <a:pt x="157" y="199"/>
                    </a:lnTo>
                    <a:lnTo>
                      <a:pt x="178" y="177"/>
                    </a:lnTo>
                    <a:lnTo>
                      <a:pt x="199" y="158"/>
                    </a:lnTo>
                    <a:lnTo>
                      <a:pt x="221" y="139"/>
                    </a:lnTo>
                    <a:lnTo>
                      <a:pt x="244" y="121"/>
                    </a:lnTo>
                    <a:lnTo>
                      <a:pt x="268" y="104"/>
                    </a:lnTo>
                    <a:lnTo>
                      <a:pt x="292" y="87"/>
                    </a:lnTo>
                    <a:lnTo>
                      <a:pt x="317" y="73"/>
                    </a:lnTo>
                    <a:lnTo>
                      <a:pt x="343" y="60"/>
                    </a:lnTo>
                    <a:lnTo>
                      <a:pt x="371" y="48"/>
                    </a:lnTo>
                    <a:lnTo>
                      <a:pt x="398" y="37"/>
                    </a:lnTo>
                    <a:lnTo>
                      <a:pt x="426" y="27"/>
                    </a:lnTo>
                    <a:lnTo>
                      <a:pt x="455" y="19"/>
                    </a:lnTo>
                    <a:lnTo>
                      <a:pt x="484" y="12"/>
                    </a:lnTo>
                    <a:lnTo>
                      <a:pt x="514" y="7"/>
                    </a:lnTo>
                    <a:lnTo>
                      <a:pt x="544" y="3"/>
                    </a:lnTo>
                    <a:lnTo>
                      <a:pt x="575" y="1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08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547720" y="3181320"/>
                <a:ext cx="478080" cy="476280"/>
              </a:xfrm>
              <a:custGeom>
                <a:avLst/>
                <a:gdLst/>
                <a:ahLst/>
                <a:rect l="l" t="t" r="r" b="b"/>
                <a:pathLst>
                  <a:path w="1201" h="1201">
                    <a:moveTo>
                      <a:pt x="601" y="0"/>
                    </a:moveTo>
                    <a:lnTo>
                      <a:pt x="632" y="2"/>
                    </a:lnTo>
                    <a:lnTo>
                      <a:pt x="662" y="4"/>
                    </a:lnTo>
                    <a:lnTo>
                      <a:pt x="692" y="8"/>
                    </a:lnTo>
                    <a:lnTo>
                      <a:pt x="722" y="12"/>
                    </a:lnTo>
                    <a:lnTo>
                      <a:pt x="751" y="20"/>
                    </a:lnTo>
                    <a:lnTo>
                      <a:pt x="780" y="28"/>
                    </a:lnTo>
                    <a:lnTo>
                      <a:pt x="807" y="36"/>
                    </a:lnTo>
                    <a:lnTo>
                      <a:pt x="834" y="47"/>
                    </a:lnTo>
                    <a:lnTo>
                      <a:pt x="861" y="59"/>
                    </a:lnTo>
                    <a:lnTo>
                      <a:pt x="887" y="74"/>
                    </a:lnTo>
                    <a:lnTo>
                      <a:pt x="912" y="88"/>
                    </a:lnTo>
                    <a:lnTo>
                      <a:pt x="936" y="104"/>
                    </a:lnTo>
                    <a:lnTo>
                      <a:pt x="960" y="120"/>
                    </a:lnTo>
                    <a:lnTo>
                      <a:pt x="983" y="137"/>
                    </a:lnTo>
                    <a:lnTo>
                      <a:pt x="1004" y="156"/>
                    </a:lnTo>
                    <a:lnTo>
                      <a:pt x="1026" y="177"/>
                    </a:lnTo>
                    <a:lnTo>
                      <a:pt x="1045" y="197"/>
                    </a:lnTo>
                    <a:lnTo>
                      <a:pt x="1064" y="219"/>
                    </a:lnTo>
                    <a:lnTo>
                      <a:pt x="1082" y="241"/>
                    </a:lnTo>
                    <a:lnTo>
                      <a:pt x="1099" y="265"/>
                    </a:lnTo>
                    <a:lnTo>
                      <a:pt x="1115" y="289"/>
                    </a:lnTo>
                    <a:lnTo>
                      <a:pt x="1129" y="315"/>
                    </a:lnTo>
                    <a:lnTo>
                      <a:pt x="1142" y="341"/>
                    </a:lnTo>
                    <a:lnTo>
                      <a:pt x="1154" y="367"/>
                    </a:lnTo>
                    <a:lnTo>
                      <a:pt x="1165" y="395"/>
                    </a:lnTo>
                    <a:lnTo>
                      <a:pt x="1175" y="423"/>
                    </a:lnTo>
                    <a:lnTo>
                      <a:pt x="1183" y="451"/>
                    </a:lnTo>
                    <a:lnTo>
                      <a:pt x="1189" y="480"/>
                    </a:lnTo>
                    <a:lnTo>
                      <a:pt x="1195" y="509"/>
                    </a:lnTo>
                    <a:lnTo>
                      <a:pt x="1199" y="539"/>
                    </a:lnTo>
                    <a:lnTo>
                      <a:pt x="1201" y="570"/>
                    </a:lnTo>
                    <a:lnTo>
                      <a:pt x="1201" y="600"/>
                    </a:lnTo>
                    <a:lnTo>
                      <a:pt x="1201" y="631"/>
                    </a:lnTo>
                    <a:lnTo>
                      <a:pt x="1199" y="663"/>
                    </a:lnTo>
                    <a:lnTo>
                      <a:pt x="1195" y="693"/>
                    </a:lnTo>
                    <a:lnTo>
                      <a:pt x="1189" y="721"/>
                    </a:lnTo>
                    <a:lnTo>
                      <a:pt x="1183" y="750"/>
                    </a:lnTo>
                    <a:lnTo>
                      <a:pt x="1175" y="779"/>
                    </a:lnTo>
                    <a:lnTo>
                      <a:pt x="1165" y="807"/>
                    </a:lnTo>
                    <a:lnTo>
                      <a:pt x="1154" y="834"/>
                    </a:lnTo>
                    <a:lnTo>
                      <a:pt x="1142" y="861"/>
                    </a:lnTo>
                    <a:lnTo>
                      <a:pt x="1129" y="887"/>
                    </a:lnTo>
                    <a:lnTo>
                      <a:pt x="1115" y="912"/>
                    </a:lnTo>
                    <a:lnTo>
                      <a:pt x="1099" y="936"/>
                    </a:lnTo>
                    <a:lnTo>
                      <a:pt x="1082" y="960"/>
                    </a:lnTo>
                    <a:lnTo>
                      <a:pt x="1064" y="983"/>
                    </a:lnTo>
                    <a:lnTo>
                      <a:pt x="1045" y="1004"/>
                    </a:lnTo>
                    <a:lnTo>
                      <a:pt x="1026" y="1025"/>
                    </a:lnTo>
                    <a:lnTo>
                      <a:pt x="1004" y="1045"/>
                    </a:lnTo>
                    <a:lnTo>
                      <a:pt x="983" y="1063"/>
                    </a:lnTo>
                    <a:lnTo>
                      <a:pt x="960" y="1081"/>
                    </a:lnTo>
                    <a:lnTo>
                      <a:pt x="936" y="1098"/>
                    </a:lnTo>
                    <a:lnTo>
                      <a:pt x="912" y="1114"/>
                    </a:lnTo>
                    <a:lnTo>
                      <a:pt x="887" y="1128"/>
                    </a:lnTo>
                    <a:lnTo>
                      <a:pt x="861" y="1142"/>
                    </a:lnTo>
                    <a:lnTo>
                      <a:pt x="834" y="1154"/>
                    </a:lnTo>
                    <a:lnTo>
                      <a:pt x="807" y="1165"/>
                    </a:lnTo>
                    <a:lnTo>
                      <a:pt x="780" y="1174"/>
                    </a:lnTo>
                    <a:lnTo>
                      <a:pt x="751" y="1182"/>
                    </a:lnTo>
                    <a:lnTo>
                      <a:pt x="722" y="1189"/>
                    </a:lnTo>
                    <a:lnTo>
                      <a:pt x="692" y="1194"/>
                    </a:lnTo>
                    <a:lnTo>
                      <a:pt x="662" y="1198"/>
                    </a:lnTo>
                    <a:lnTo>
                      <a:pt x="632" y="1200"/>
                    </a:lnTo>
                    <a:lnTo>
                      <a:pt x="601" y="1201"/>
                    </a:lnTo>
                    <a:lnTo>
                      <a:pt x="570" y="1200"/>
                    </a:lnTo>
                    <a:lnTo>
                      <a:pt x="540" y="1198"/>
                    </a:lnTo>
                    <a:lnTo>
                      <a:pt x="510" y="1194"/>
                    </a:lnTo>
                    <a:lnTo>
                      <a:pt x="480" y="1189"/>
                    </a:lnTo>
                    <a:lnTo>
                      <a:pt x="451" y="1182"/>
                    </a:lnTo>
                    <a:lnTo>
                      <a:pt x="422" y="1174"/>
                    </a:lnTo>
                    <a:lnTo>
                      <a:pt x="395" y="1165"/>
                    </a:lnTo>
                    <a:lnTo>
                      <a:pt x="367" y="1154"/>
                    </a:lnTo>
                    <a:lnTo>
                      <a:pt x="341" y="1142"/>
                    </a:lnTo>
                    <a:lnTo>
                      <a:pt x="315" y="1128"/>
                    </a:lnTo>
                    <a:lnTo>
                      <a:pt x="290" y="1114"/>
                    </a:lnTo>
                    <a:lnTo>
                      <a:pt x="265" y="1098"/>
                    </a:lnTo>
                    <a:lnTo>
                      <a:pt x="242" y="1081"/>
                    </a:lnTo>
                    <a:lnTo>
                      <a:pt x="219" y="1063"/>
                    </a:lnTo>
                    <a:lnTo>
                      <a:pt x="198" y="1045"/>
                    </a:lnTo>
                    <a:lnTo>
                      <a:pt x="176" y="1025"/>
                    </a:lnTo>
                    <a:lnTo>
                      <a:pt x="157" y="1004"/>
                    </a:lnTo>
                    <a:lnTo>
                      <a:pt x="138" y="983"/>
                    </a:lnTo>
                    <a:lnTo>
                      <a:pt x="120" y="960"/>
                    </a:lnTo>
                    <a:lnTo>
                      <a:pt x="103" y="936"/>
                    </a:lnTo>
                    <a:lnTo>
                      <a:pt x="87" y="912"/>
                    </a:lnTo>
                    <a:lnTo>
                      <a:pt x="73" y="887"/>
                    </a:lnTo>
                    <a:lnTo>
                      <a:pt x="60" y="861"/>
                    </a:lnTo>
                    <a:lnTo>
                      <a:pt x="48" y="834"/>
                    </a:lnTo>
                    <a:lnTo>
                      <a:pt x="37" y="807"/>
                    </a:lnTo>
                    <a:lnTo>
                      <a:pt x="27" y="779"/>
                    </a:lnTo>
                    <a:lnTo>
                      <a:pt x="19" y="750"/>
                    </a:lnTo>
                    <a:lnTo>
                      <a:pt x="13" y="721"/>
                    </a:lnTo>
                    <a:lnTo>
                      <a:pt x="7" y="693"/>
                    </a:lnTo>
                    <a:lnTo>
                      <a:pt x="3" y="663"/>
                    </a:lnTo>
                    <a:lnTo>
                      <a:pt x="1" y="631"/>
                    </a:lnTo>
                    <a:lnTo>
                      <a:pt x="0" y="600"/>
                    </a:lnTo>
                    <a:lnTo>
                      <a:pt x="1" y="570"/>
                    </a:lnTo>
                    <a:lnTo>
                      <a:pt x="3" y="539"/>
                    </a:lnTo>
                    <a:lnTo>
                      <a:pt x="7" y="509"/>
                    </a:lnTo>
                    <a:lnTo>
                      <a:pt x="13" y="480"/>
                    </a:lnTo>
                    <a:lnTo>
                      <a:pt x="19" y="451"/>
                    </a:lnTo>
                    <a:lnTo>
                      <a:pt x="27" y="423"/>
                    </a:lnTo>
                    <a:lnTo>
                      <a:pt x="37" y="395"/>
                    </a:lnTo>
                    <a:lnTo>
                      <a:pt x="48" y="367"/>
                    </a:lnTo>
                    <a:lnTo>
                      <a:pt x="60" y="341"/>
                    </a:lnTo>
                    <a:lnTo>
                      <a:pt x="73" y="315"/>
                    </a:lnTo>
                    <a:lnTo>
                      <a:pt x="87" y="289"/>
                    </a:lnTo>
                    <a:lnTo>
                      <a:pt x="103" y="265"/>
                    </a:lnTo>
                    <a:lnTo>
                      <a:pt x="120" y="241"/>
                    </a:lnTo>
                    <a:lnTo>
                      <a:pt x="138" y="219"/>
                    </a:lnTo>
                    <a:lnTo>
                      <a:pt x="157" y="197"/>
                    </a:lnTo>
                    <a:lnTo>
                      <a:pt x="176" y="177"/>
                    </a:lnTo>
                    <a:lnTo>
                      <a:pt x="198" y="156"/>
                    </a:lnTo>
                    <a:lnTo>
                      <a:pt x="219" y="137"/>
                    </a:lnTo>
                    <a:lnTo>
                      <a:pt x="242" y="120"/>
                    </a:lnTo>
                    <a:lnTo>
                      <a:pt x="265" y="104"/>
                    </a:lnTo>
                    <a:lnTo>
                      <a:pt x="290" y="88"/>
                    </a:lnTo>
                    <a:lnTo>
                      <a:pt x="315" y="74"/>
                    </a:lnTo>
                    <a:lnTo>
                      <a:pt x="341" y="59"/>
                    </a:lnTo>
                    <a:lnTo>
                      <a:pt x="367" y="47"/>
                    </a:lnTo>
                    <a:lnTo>
                      <a:pt x="395" y="36"/>
                    </a:lnTo>
                    <a:lnTo>
                      <a:pt x="422" y="28"/>
                    </a:lnTo>
                    <a:lnTo>
                      <a:pt x="451" y="20"/>
                    </a:lnTo>
                    <a:lnTo>
                      <a:pt x="480" y="12"/>
                    </a:lnTo>
                    <a:lnTo>
                      <a:pt x="510" y="8"/>
                    </a:lnTo>
                    <a:lnTo>
                      <a:pt x="540" y="4"/>
                    </a:lnTo>
                    <a:lnTo>
                      <a:pt x="570" y="2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c48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550960" y="3184560"/>
                <a:ext cx="471600" cy="473040"/>
              </a:xfrm>
              <a:custGeom>
                <a:avLst/>
                <a:gdLst/>
                <a:ahLst/>
                <a:rect l="l" t="t" r="r" b="b"/>
                <a:pathLst>
                  <a:path w="1190" h="1190">
                    <a:moveTo>
                      <a:pt x="595" y="0"/>
                    </a:moveTo>
                    <a:lnTo>
                      <a:pt x="625" y="0"/>
                    </a:lnTo>
                    <a:lnTo>
                      <a:pt x="656" y="2"/>
                    </a:lnTo>
                    <a:lnTo>
                      <a:pt x="685" y="6"/>
                    </a:lnTo>
                    <a:lnTo>
                      <a:pt x="715" y="12"/>
                    </a:lnTo>
                    <a:lnTo>
                      <a:pt x="744" y="18"/>
                    </a:lnTo>
                    <a:lnTo>
                      <a:pt x="771" y="26"/>
                    </a:lnTo>
                    <a:lnTo>
                      <a:pt x="799" y="36"/>
                    </a:lnTo>
                    <a:lnTo>
                      <a:pt x="827" y="47"/>
                    </a:lnTo>
                    <a:lnTo>
                      <a:pt x="853" y="59"/>
                    </a:lnTo>
                    <a:lnTo>
                      <a:pt x="878" y="72"/>
                    </a:lnTo>
                    <a:lnTo>
                      <a:pt x="903" y="86"/>
                    </a:lnTo>
                    <a:lnTo>
                      <a:pt x="927" y="102"/>
                    </a:lnTo>
                    <a:lnTo>
                      <a:pt x="950" y="118"/>
                    </a:lnTo>
                    <a:lnTo>
                      <a:pt x="973" y="136"/>
                    </a:lnTo>
                    <a:lnTo>
                      <a:pt x="995" y="155"/>
                    </a:lnTo>
                    <a:lnTo>
                      <a:pt x="1015" y="174"/>
                    </a:lnTo>
                    <a:lnTo>
                      <a:pt x="1035" y="194"/>
                    </a:lnTo>
                    <a:lnTo>
                      <a:pt x="1053" y="216"/>
                    </a:lnTo>
                    <a:lnTo>
                      <a:pt x="1071" y="239"/>
                    </a:lnTo>
                    <a:lnTo>
                      <a:pt x="1088" y="263"/>
                    </a:lnTo>
                    <a:lnTo>
                      <a:pt x="1104" y="287"/>
                    </a:lnTo>
                    <a:lnTo>
                      <a:pt x="1118" y="312"/>
                    </a:lnTo>
                    <a:lnTo>
                      <a:pt x="1131" y="337"/>
                    </a:lnTo>
                    <a:lnTo>
                      <a:pt x="1143" y="363"/>
                    </a:lnTo>
                    <a:lnTo>
                      <a:pt x="1154" y="390"/>
                    </a:lnTo>
                    <a:lnTo>
                      <a:pt x="1163" y="417"/>
                    </a:lnTo>
                    <a:lnTo>
                      <a:pt x="1171" y="446"/>
                    </a:lnTo>
                    <a:lnTo>
                      <a:pt x="1178" y="475"/>
                    </a:lnTo>
                    <a:lnTo>
                      <a:pt x="1183" y="504"/>
                    </a:lnTo>
                    <a:lnTo>
                      <a:pt x="1187" y="534"/>
                    </a:lnTo>
                    <a:lnTo>
                      <a:pt x="1189" y="564"/>
                    </a:lnTo>
                    <a:lnTo>
                      <a:pt x="1190" y="595"/>
                    </a:lnTo>
                    <a:lnTo>
                      <a:pt x="1189" y="625"/>
                    </a:lnTo>
                    <a:lnTo>
                      <a:pt x="1187" y="655"/>
                    </a:lnTo>
                    <a:lnTo>
                      <a:pt x="1183" y="685"/>
                    </a:lnTo>
                    <a:lnTo>
                      <a:pt x="1178" y="714"/>
                    </a:lnTo>
                    <a:lnTo>
                      <a:pt x="1171" y="743"/>
                    </a:lnTo>
                    <a:lnTo>
                      <a:pt x="1163" y="771"/>
                    </a:lnTo>
                    <a:lnTo>
                      <a:pt x="1154" y="799"/>
                    </a:lnTo>
                    <a:lnTo>
                      <a:pt x="1143" y="825"/>
                    </a:lnTo>
                    <a:lnTo>
                      <a:pt x="1131" y="852"/>
                    </a:lnTo>
                    <a:lnTo>
                      <a:pt x="1118" y="878"/>
                    </a:lnTo>
                    <a:lnTo>
                      <a:pt x="1104" y="902"/>
                    </a:lnTo>
                    <a:lnTo>
                      <a:pt x="1088" y="927"/>
                    </a:lnTo>
                    <a:lnTo>
                      <a:pt x="1071" y="950"/>
                    </a:lnTo>
                    <a:lnTo>
                      <a:pt x="1053" y="973"/>
                    </a:lnTo>
                    <a:lnTo>
                      <a:pt x="1035" y="994"/>
                    </a:lnTo>
                    <a:lnTo>
                      <a:pt x="1015" y="1015"/>
                    </a:lnTo>
                    <a:lnTo>
                      <a:pt x="995" y="1034"/>
                    </a:lnTo>
                    <a:lnTo>
                      <a:pt x="973" y="1053"/>
                    </a:lnTo>
                    <a:lnTo>
                      <a:pt x="950" y="1071"/>
                    </a:lnTo>
                    <a:lnTo>
                      <a:pt x="927" y="1088"/>
                    </a:lnTo>
                    <a:lnTo>
                      <a:pt x="903" y="1104"/>
                    </a:lnTo>
                    <a:lnTo>
                      <a:pt x="878" y="1118"/>
                    </a:lnTo>
                    <a:lnTo>
                      <a:pt x="853" y="1131"/>
                    </a:lnTo>
                    <a:lnTo>
                      <a:pt x="827" y="1142"/>
                    </a:lnTo>
                    <a:lnTo>
                      <a:pt x="799" y="1153"/>
                    </a:lnTo>
                    <a:lnTo>
                      <a:pt x="771" y="1162"/>
                    </a:lnTo>
                    <a:lnTo>
                      <a:pt x="744" y="1171"/>
                    </a:lnTo>
                    <a:lnTo>
                      <a:pt x="715" y="1177"/>
                    </a:lnTo>
                    <a:lnTo>
                      <a:pt x="685" y="1183"/>
                    </a:lnTo>
                    <a:lnTo>
                      <a:pt x="656" y="1186"/>
                    </a:lnTo>
                    <a:lnTo>
                      <a:pt x="625" y="1189"/>
                    </a:lnTo>
                    <a:lnTo>
                      <a:pt x="595" y="1190"/>
                    </a:lnTo>
                    <a:lnTo>
                      <a:pt x="564" y="1189"/>
                    </a:lnTo>
                    <a:lnTo>
                      <a:pt x="534" y="1186"/>
                    </a:lnTo>
                    <a:lnTo>
                      <a:pt x="505" y="1183"/>
                    </a:lnTo>
                    <a:lnTo>
                      <a:pt x="475" y="1177"/>
                    </a:lnTo>
                    <a:lnTo>
                      <a:pt x="446" y="1171"/>
                    </a:lnTo>
                    <a:lnTo>
                      <a:pt x="419" y="1162"/>
                    </a:lnTo>
                    <a:lnTo>
                      <a:pt x="391" y="1153"/>
                    </a:lnTo>
                    <a:lnTo>
                      <a:pt x="363" y="1142"/>
                    </a:lnTo>
                    <a:lnTo>
                      <a:pt x="337" y="1131"/>
                    </a:lnTo>
                    <a:lnTo>
                      <a:pt x="312" y="1118"/>
                    </a:lnTo>
                    <a:lnTo>
                      <a:pt x="287" y="1104"/>
                    </a:lnTo>
                    <a:lnTo>
                      <a:pt x="263" y="1088"/>
                    </a:lnTo>
                    <a:lnTo>
                      <a:pt x="240" y="1071"/>
                    </a:lnTo>
                    <a:lnTo>
                      <a:pt x="217" y="1053"/>
                    </a:lnTo>
                    <a:lnTo>
                      <a:pt x="195" y="1034"/>
                    </a:lnTo>
                    <a:lnTo>
                      <a:pt x="175" y="1015"/>
                    </a:lnTo>
                    <a:lnTo>
                      <a:pt x="155" y="994"/>
                    </a:lnTo>
                    <a:lnTo>
                      <a:pt x="137" y="973"/>
                    </a:lnTo>
                    <a:lnTo>
                      <a:pt x="119" y="950"/>
                    </a:lnTo>
                    <a:lnTo>
                      <a:pt x="102" y="927"/>
                    </a:lnTo>
                    <a:lnTo>
                      <a:pt x="86" y="902"/>
                    </a:lnTo>
                    <a:lnTo>
                      <a:pt x="72" y="878"/>
                    </a:lnTo>
                    <a:lnTo>
                      <a:pt x="59" y="852"/>
                    </a:lnTo>
                    <a:lnTo>
                      <a:pt x="47" y="825"/>
                    </a:lnTo>
                    <a:lnTo>
                      <a:pt x="36" y="799"/>
                    </a:lnTo>
                    <a:lnTo>
                      <a:pt x="26" y="771"/>
                    </a:lnTo>
                    <a:lnTo>
                      <a:pt x="19" y="743"/>
                    </a:lnTo>
                    <a:lnTo>
                      <a:pt x="12" y="714"/>
                    </a:lnTo>
                    <a:lnTo>
                      <a:pt x="7" y="685"/>
                    </a:lnTo>
                    <a:lnTo>
                      <a:pt x="3" y="655"/>
                    </a:lnTo>
                    <a:lnTo>
                      <a:pt x="1" y="625"/>
                    </a:lnTo>
                    <a:lnTo>
                      <a:pt x="0" y="595"/>
                    </a:lnTo>
                    <a:lnTo>
                      <a:pt x="1" y="564"/>
                    </a:lnTo>
                    <a:lnTo>
                      <a:pt x="3" y="534"/>
                    </a:lnTo>
                    <a:lnTo>
                      <a:pt x="7" y="504"/>
                    </a:lnTo>
                    <a:lnTo>
                      <a:pt x="12" y="475"/>
                    </a:lnTo>
                    <a:lnTo>
                      <a:pt x="19" y="446"/>
                    </a:lnTo>
                    <a:lnTo>
                      <a:pt x="26" y="417"/>
                    </a:lnTo>
                    <a:lnTo>
                      <a:pt x="36" y="390"/>
                    </a:lnTo>
                    <a:lnTo>
                      <a:pt x="47" y="363"/>
                    </a:lnTo>
                    <a:lnTo>
                      <a:pt x="59" y="337"/>
                    </a:lnTo>
                    <a:lnTo>
                      <a:pt x="72" y="312"/>
                    </a:lnTo>
                    <a:lnTo>
                      <a:pt x="86" y="287"/>
                    </a:lnTo>
                    <a:lnTo>
                      <a:pt x="102" y="263"/>
                    </a:lnTo>
                    <a:lnTo>
                      <a:pt x="119" y="239"/>
                    </a:lnTo>
                    <a:lnTo>
                      <a:pt x="137" y="216"/>
                    </a:lnTo>
                    <a:lnTo>
                      <a:pt x="155" y="194"/>
                    </a:lnTo>
                    <a:lnTo>
                      <a:pt x="175" y="174"/>
                    </a:lnTo>
                    <a:lnTo>
                      <a:pt x="195" y="155"/>
                    </a:lnTo>
                    <a:lnTo>
                      <a:pt x="217" y="136"/>
                    </a:lnTo>
                    <a:lnTo>
                      <a:pt x="240" y="118"/>
                    </a:lnTo>
                    <a:lnTo>
                      <a:pt x="263" y="102"/>
                    </a:lnTo>
                    <a:lnTo>
                      <a:pt x="287" y="86"/>
                    </a:lnTo>
                    <a:lnTo>
                      <a:pt x="312" y="72"/>
                    </a:lnTo>
                    <a:lnTo>
                      <a:pt x="337" y="59"/>
                    </a:lnTo>
                    <a:lnTo>
                      <a:pt x="363" y="47"/>
                    </a:lnTo>
                    <a:lnTo>
                      <a:pt x="391" y="36"/>
                    </a:lnTo>
                    <a:lnTo>
                      <a:pt x="419" y="26"/>
                    </a:lnTo>
                    <a:lnTo>
                      <a:pt x="446" y="18"/>
                    </a:lnTo>
                    <a:lnTo>
                      <a:pt x="475" y="12"/>
                    </a:lnTo>
                    <a:lnTo>
                      <a:pt x="505" y="6"/>
                    </a:lnTo>
                    <a:lnTo>
                      <a:pt x="534" y="2"/>
                    </a:lnTo>
                    <a:lnTo>
                      <a:pt x="564" y="0"/>
                    </a:lnTo>
                    <a:lnTo>
                      <a:pt x="595" y="0"/>
                    </a:lnTo>
                    <a:close/>
                  </a:path>
                </a:pathLst>
              </a:custGeom>
              <a:solidFill>
                <a:srgbClr val="ca8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552760" y="3187800"/>
                <a:ext cx="468000" cy="468360"/>
              </a:xfrm>
              <a:custGeom>
                <a:avLst/>
                <a:gdLst/>
                <a:ahLst/>
                <a:rect l="l" t="t" r="r" b="b"/>
                <a:pathLst>
                  <a:path w="1178" h="1180">
                    <a:moveTo>
                      <a:pt x="589" y="0"/>
                    </a:moveTo>
                    <a:lnTo>
                      <a:pt x="619" y="2"/>
                    </a:lnTo>
                    <a:lnTo>
                      <a:pt x="649" y="4"/>
                    </a:lnTo>
                    <a:lnTo>
                      <a:pt x="679" y="8"/>
                    </a:lnTo>
                    <a:lnTo>
                      <a:pt x="708" y="12"/>
                    </a:lnTo>
                    <a:lnTo>
                      <a:pt x="735" y="20"/>
                    </a:lnTo>
                    <a:lnTo>
                      <a:pt x="764" y="28"/>
                    </a:lnTo>
                    <a:lnTo>
                      <a:pt x="792" y="36"/>
                    </a:lnTo>
                    <a:lnTo>
                      <a:pt x="818" y="47"/>
                    </a:lnTo>
                    <a:lnTo>
                      <a:pt x="845" y="59"/>
                    </a:lnTo>
                    <a:lnTo>
                      <a:pt x="870" y="72"/>
                    </a:lnTo>
                    <a:lnTo>
                      <a:pt x="894" y="87"/>
                    </a:lnTo>
                    <a:lnTo>
                      <a:pt x="918" y="102"/>
                    </a:lnTo>
                    <a:lnTo>
                      <a:pt x="942" y="118"/>
                    </a:lnTo>
                    <a:lnTo>
                      <a:pt x="963" y="136"/>
                    </a:lnTo>
                    <a:lnTo>
                      <a:pt x="985" y="154"/>
                    </a:lnTo>
                    <a:lnTo>
                      <a:pt x="1005" y="174"/>
                    </a:lnTo>
                    <a:lnTo>
                      <a:pt x="1025" y="195"/>
                    </a:lnTo>
                    <a:lnTo>
                      <a:pt x="1044" y="216"/>
                    </a:lnTo>
                    <a:lnTo>
                      <a:pt x="1061" y="238"/>
                    </a:lnTo>
                    <a:lnTo>
                      <a:pt x="1077" y="261"/>
                    </a:lnTo>
                    <a:lnTo>
                      <a:pt x="1093" y="285"/>
                    </a:lnTo>
                    <a:lnTo>
                      <a:pt x="1107" y="310"/>
                    </a:lnTo>
                    <a:lnTo>
                      <a:pt x="1121" y="335"/>
                    </a:lnTo>
                    <a:lnTo>
                      <a:pt x="1133" y="361"/>
                    </a:lnTo>
                    <a:lnTo>
                      <a:pt x="1142" y="388"/>
                    </a:lnTo>
                    <a:lnTo>
                      <a:pt x="1152" y="415"/>
                    </a:lnTo>
                    <a:lnTo>
                      <a:pt x="1160" y="443"/>
                    </a:lnTo>
                    <a:lnTo>
                      <a:pt x="1166" y="472"/>
                    </a:lnTo>
                    <a:lnTo>
                      <a:pt x="1172" y="501"/>
                    </a:lnTo>
                    <a:lnTo>
                      <a:pt x="1176" y="531"/>
                    </a:lnTo>
                    <a:lnTo>
                      <a:pt x="1178" y="561"/>
                    </a:lnTo>
                    <a:lnTo>
                      <a:pt x="1178" y="591"/>
                    </a:lnTo>
                    <a:lnTo>
                      <a:pt x="1178" y="621"/>
                    </a:lnTo>
                    <a:lnTo>
                      <a:pt x="1176" y="651"/>
                    </a:lnTo>
                    <a:lnTo>
                      <a:pt x="1172" y="679"/>
                    </a:lnTo>
                    <a:lnTo>
                      <a:pt x="1166" y="709"/>
                    </a:lnTo>
                    <a:lnTo>
                      <a:pt x="1160" y="737"/>
                    </a:lnTo>
                    <a:lnTo>
                      <a:pt x="1152" y="766"/>
                    </a:lnTo>
                    <a:lnTo>
                      <a:pt x="1142" y="792"/>
                    </a:lnTo>
                    <a:lnTo>
                      <a:pt x="1133" y="820"/>
                    </a:lnTo>
                    <a:lnTo>
                      <a:pt x="1121" y="845"/>
                    </a:lnTo>
                    <a:lnTo>
                      <a:pt x="1107" y="871"/>
                    </a:lnTo>
                    <a:lnTo>
                      <a:pt x="1093" y="895"/>
                    </a:lnTo>
                    <a:lnTo>
                      <a:pt x="1077" y="919"/>
                    </a:lnTo>
                    <a:lnTo>
                      <a:pt x="1061" y="942"/>
                    </a:lnTo>
                    <a:lnTo>
                      <a:pt x="1044" y="965"/>
                    </a:lnTo>
                    <a:lnTo>
                      <a:pt x="1025" y="986"/>
                    </a:lnTo>
                    <a:lnTo>
                      <a:pt x="1005" y="1007"/>
                    </a:lnTo>
                    <a:lnTo>
                      <a:pt x="985" y="1026"/>
                    </a:lnTo>
                    <a:lnTo>
                      <a:pt x="963" y="1045"/>
                    </a:lnTo>
                    <a:lnTo>
                      <a:pt x="942" y="1062"/>
                    </a:lnTo>
                    <a:lnTo>
                      <a:pt x="918" y="1079"/>
                    </a:lnTo>
                    <a:lnTo>
                      <a:pt x="894" y="1094"/>
                    </a:lnTo>
                    <a:lnTo>
                      <a:pt x="870" y="1109"/>
                    </a:lnTo>
                    <a:lnTo>
                      <a:pt x="845" y="1121"/>
                    </a:lnTo>
                    <a:lnTo>
                      <a:pt x="818" y="1133"/>
                    </a:lnTo>
                    <a:lnTo>
                      <a:pt x="792" y="1144"/>
                    </a:lnTo>
                    <a:lnTo>
                      <a:pt x="764" y="1153"/>
                    </a:lnTo>
                    <a:lnTo>
                      <a:pt x="735" y="1162"/>
                    </a:lnTo>
                    <a:lnTo>
                      <a:pt x="708" y="1168"/>
                    </a:lnTo>
                    <a:lnTo>
                      <a:pt x="679" y="1172"/>
                    </a:lnTo>
                    <a:lnTo>
                      <a:pt x="649" y="1176"/>
                    </a:lnTo>
                    <a:lnTo>
                      <a:pt x="619" y="1178"/>
                    </a:lnTo>
                    <a:lnTo>
                      <a:pt x="589" y="1180"/>
                    </a:lnTo>
                    <a:lnTo>
                      <a:pt x="559" y="1178"/>
                    </a:lnTo>
                    <a:lnTo>
                      <a:pt x="529" y="1176"/>
                    </a:lnTo>
                    <a:lnTo>
                      <a:pt x="499" y="1172"/>
                    </a:lnTo>
                    <a:lnTo>
                      <a:pt x="470" y="1168"/>
                    </a:lnTo>
                    <a:lnTo>
                      <a:pt x="441" y="1162"/>
                    </a:lnTo>
                    <a:lnTo>
                      <a:pt x="414" y="1153"/>
                    </a:lnTo>
                    <a:lnTo>
                      <a:pt x="386" y="1144"/>
                    </a:lnTo>
                    <a:lnTo>
                      <a:pt x="360" y="1133"/>
                    </a:lnTo>
                    <a:lnTo>
                      <a:pt x="333" y="1121"/>
                    </a:lnTo>
                    <a:lnTo>
                      <a:pt x="308" y="1109"/>
                    </a:lnTo>
                    <a:lnTo>
                      <a:pt x="284" y="1094"/>
                    </a:lnTo>
                    <a:lnTo>
                      <a:pt x="260" y="1079"/>
                    </a:lnTo>
                    <a:lnTo>
                      <a:pt x="236" y="1062"/>
                    </a:lnTo>
                    <a:lnTo>
                      <a:pt x="215" y="1045"/>
                    </a:lnTo>
                    <a:lnTo>
                      <a:pt x="193" y="1026"/>
                    </a:lnTo>
                    <a:lnTo>
                      <a:pt x="173" y="1007"/>
                    </a:lnTo>
                    <a:lnTo>
                      <a:pt x="153" y="986"/>
                    </a:lnTo>
                    <a:lnTo>
                      <a:pt x="134" y="965"/>
                    </a:lnTo>
                    <a:lnTo>
                      <a:pt x="116" y="942"/>
                    </a:lnTo>
                    <a:lnTo>
                      <a:pt x="101" y="919"/>
                    </a:lnTo>
                    <a:lnTo>
                      <a:pt x="85" y="895"/>
                    </a:lnTo>
                    <a:lnTo>
                      <a:pt x="71" y="871"/>
                    </a:lnTo>
                    <a:lnTo>
                      <a:pt x="57" y="845"/>
                    </a:lnTo>
                    <a:lnTo>
                      <a:pt x="45" y="820"/>
                    </a:lnTo>
                    <a:lnTo>
                      <a:pt x="36" y="792"/>
                    </a:lnTo>
                    <a:lnTo>
                      <a:pt x="26" y="766"/>
                    </a:lnTo>
                    <a:lnTo>
                      <a:pt x="18" y="737"/>
                    </a:lnTo>
                    <a:lnTo>
                      <a:pt x="12" y="709"/>
                    </a:lnTo>
                    <a:lnTo>
                      <a:pt x="6" y="679"/>
                    </a:lnTo>
                    <a:lnTo>
                      <a:pt x="2" y="651"/>
                    </a:lnTo>
                    <a:lnTo>
                      <a:pt x="0" y="621"/>
                    </a:lnTo>
                    <a:lnTo>
                      <a:pt x="0" y="591"/>
                    </a:lnTo>
                    <a:lnTo>
                      <a:pt x="0" y="561"/>
                    </a:lnTo>
                    <a:lnTo>
                      <a:pt x="2" y="531"/>
                    </a:lnTo>
                    <a:lnTo>
                      <a:pt x="6" y="501"/>
                    </a:lnTo>
                    <a:lnTo>
                      <a:pt x="12" y="472"/>
                    </a:lnTo>
                    <a:lnTo>
                      <a:pt x="18" y="443"/>
                    </a:lnTo>
                    <a:lnTo>
                      <a:pt x="26" y="415"/>
                    </a:lnTo>
                    <a:lnTo>
                      <a:pt x="36" y="388"/>
                    </a:lnTo>
                    <a:lnTo>
                      <a:pt x="45" y="361"/>
                    </a:lnTo>
                    <a:lnTo>
                      <a:pt x="57" y="335"/>
                    </a:lnTo>
                    <a:lnTo>
                      <a:pt x="71" y="310"/>
                    </a:lnTo>
                    <a:lnTo>
                      <a:pt x="85" y="285"/>
                    </a:lnTo>
                    <a:lnTo>
                      <a:pt x="101" y="261"/>
                    </a:lnTo>
                    <a:lnTo>
                      <a:pt x="116" y="238"/>
                    </a:lnTo>
                    <a:lnTo>
                      <a:pt x="134" y="216"/>
                    </a:lnTo>
                    <a:lnTo>
                      <a:pt x="153" y="195"/>
                    </a:lnTo>
                    <a:lnTo>
                      <a:pt x="173" y="174"/>
                    </a:lnTo>
                    <a:lnTo>
                      <a:pt x="193" y="154"/>
                    </a:lnTo>
                    <a:lnTo>
                      <a:pt x="215" y="136"/>
                    </a:lnTo>
                    <a:lnTo>
                      <a:pt x="236" y="118"/>
                    </a:lnTo>
                    <a:lnTo>
                      <a:pt x="260" y="102"/>
                    </a:lnTo>
                    <a:lnTo>
                      <a:pt x="284" y="87"/>
                    </a:lnTo>
                    <a:lnTo>
                      <a:pt x="308" y="72"/>
                    </a:lnTo>
                    <a:lnTo>
                      <a:pt x="333" y="59"/>
                    </a:lnTo>
                    <a:lnTo>
                      <a:pt x="360" y="47"/>
                    </a:lnTo>
                    <a:lnTo>
                      <a:pt x="386" y="36"/>
                    </a:lnTo>
                    <a:lnTo>
                      <a:pt x="414" y="28"/>
                    </a:lnTo>
                    <a:lnTo>
                      <a:pt x="441" y="20"/>
                    </a:lnTo>
                    <a:lnTo>
                      <a:pt x="470" y="12"/>
                    </a:lnTo>
                    <a:lnTo>
                      <a:pt x="499" y="8"/>
                    </a:lnTo>
                    <a:lnTo>
                      <a:pt x="529" y="4"/>
                    </a:lnTo>
                    <a:lnTo>
                      <a:pt x="559" y="2"/>
                    </a:lnTo>
                    <a:lnTo>
                      <a:pt x="589" y="0"/>
                    </a:lnTo>
                    <a:close/>
                  </a:path>
                </a:pathLst>
              </a:custGeom>
              <a:solidFill>
                <a:srgbClr val="cc8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554200" y="3191040"/>
                <a:ext cx="465120" cy="463320"/>
              </a:xfrm>
              <a:custGeom>
                <a:avLst/>
                <a:gdLst/>
                <a:ahLst/>
                <a:rect l="l" t="t" r="r" b="b"/>
                <a:pathLst>
                  <a:path w="1168" h="1167">
                    <a:moveTo>
                      <a:pt x="584" y="0"/>
                    </a:moveTo>
                    <a:lnTo>
                      <a:pt x="614" y="1"/>
                    </a:lnTo>
                    <a:lnTo>
                      <a:pt x="644" y="4"/>
                    </a:lnTo>
                    <a:lnTo>
                      <a:pt x="673" y="7"/>
                    </a:lnTo>
                    <a:lnTo>
                      <a:pt x="702" y="12"/>
                    </a:lnTo>
                    <a:lnTo>
                      <a:pt x="729" y="19"/>
                    </a:lnTo>
                    <a:lnTo>
                      <a:pt x="757" y="26"/>
                    </a:lnTo>
                    <a:lnTo>
                      <a:pt x="784" y="36"/>
                    </a:lnTo>
                    <a:lnTo>
                      <a:pt x="811" y="47"/>
                    </a:lnTo>
                    <a:lnTo>
                      <a:pt x="837" y="58"/>
                    </a:lnTo>
                    <a:lnTo>
                      <a:pt x="862" y="71"/>
                    </a:lnTo>
                    <a:lnTo>
                      <a:pt x="886" y="85"/>
                    </a:lnTo>
                    <a:lnTo>
                      <a:pt x="910" y="101"/>
                    </a:lnTo>
                    <a:lnTo>
                      <a:pt x="933" y="116"/>
                    </a:lnTo>
                    <a:lnTo>
                      <a:pt x="955" y="134"/>
                    </a:lnTo>
                    <a:lnTo>
                      <a:pt x="976" y="152"/>
                    </a:lnTo>
                    <a:lnTo>
                      <a:pt x="997" y="171"/>
                    </a:lnTo>
                    <a:lnTo>
                      <a:pt x="1016" y="192"/>
                    </a:lnTo>
                    <a:lnTo>
                      <a:pt x="1034" y="213"/>
                    </a:lnTo>
                    <a:lnTo>
                      <a:pt x="1052" y="235"/>
                    </a:lnTo>
                    <a:lnTo>
                      <a:pt x="1068" y="258"/>
                    </a:lnTo>
                    <a:lnTo>
                      <a:pt x="1083" y="282"/>
                    </a:lnTo>
                    <a:lnTo>
                      <a:pt x="1098" y="306"/>
                    </a:lnTo>
                    <a:lnTo>
                      <a:pt x="1110" y="331"/>
                    </a:lnTo>
                    <a:lnTo>
                      <a:pt x="1122" y="357"/>
                    </a:lnTo>
                    <a:lnTo>
                      <a:pt x="1132" y="384"/>
                    </a:lnTo>
                    <a:lnTo>
                      <a:pt x="1142" y="410"/>
                    </a:lnTo>
                    <a:lnTo>
                      <a:pt x="1149" y="438"/>
                    </a:lnTo>
                    <a:lnTo>
                      <a:pt x="1156" y="467"/>
                    </a:lnTo>
                    <a:lnTo>
                      <a:pt x="1161" y="495"/>
                    </a:lnTo>
                    <a:lnTo>
                      <a:pt x="1165" y="524"/>
                    </a:lnTo>
                    <a:lnTo>
                      <a:pt x="1167" y="554"/>
                    </a:lnTo>
                    <a:lnTo>
                      <a:pt x="1168" y="584"/>
                    </a:lnTo>
                    <a:lnTo>
                      <a:pt x="1167" y="614"/>
                    </a:lnTo>
                    <a:lnTo>
                      <a:pt x="1165" y="643"/>
                    </a:lnTo>
                    <a:lnTo>
                      <a:pt x="1161" y="673"/>
                    </a:lnTo>
                    <a:lnTo>
                      <a:pt x="1156" y="702"/>
                    </a:lnTo>
                    <a:lnTo>
                      <a:pt x="1149" y="729"/>
                    </a:lnTo>
                    <a:lnTo>
                      <a:pt x="1142" y="757"/>
                    </a:lnTo>
                    <a:lnTo>
                      <a:pt x="1132" y="785"/>
                    </a:lnTo>
                    <a:lnTo>
                      <a:pt x="1122" y="811"/>
                    </a:lnTo>
                    <a:lnTo>
                      <a:pt x="1110" y="837"/>
                    </a:lnTo>
                    <a:lnTo>
                      <a:pt x="1098" y="863"/>
                    </a:lnTo>
                    <a:lnTo>
                      <a:pt x="1083" y="887"/>
                    </a:lnTo>
                    <a:lnTo>
                      <a:pt x="1068" y="910"/>
                    </a:lnTo>
                    <a:lnTo>
                      <a:pt x="1052" y="933"/>
                    </a:lnTo>
                    <a:lnTo>
                      <a:pt x="1034" y="955"/>
                    </a:lnTo>
                    <a:lnTo>
                      <a:pt x="1016" y="976"/>
                    </a:lnTo>
                    <a:lnTo>
                      <a:pt x="997" y="997"/>
                    </a:lnTo>
                    <a:lnTo>
                      <a:pt x="976" y="1016"/>
                    </a:lnTo>
                    <a:lnTo>
                      <a:pt x="955" y="1034"/>
                    </a:lnTo>
                    <a:lnTo>
                      <a:pt x="933" y="1052"/>
                    </a:lnTo>
                    <a:lnTo>
                      <a:pt x="910" y="1068"/>
                    </a:lnTo>
                    <a:lnTo>
                      <a:pt x="886" y="1083"/>
                    </a:lnTo>
                    <a:lnTo>
                      <a:pt x="862" y="1098"/>
                    </a:lnTo>
                    <a:lnTo>
                      <a:pt x="837" y="1110"/>
                    </a:lnTo>
                    <a:lnTo>
                      <a:pt x="811" y="1122"/>
                    </a:lnTo>
                    <a:lnTo>
                      <a:pt x="784" y="1132"/>
                    </a:lnTo>
                    <a:lnTo>
                      <a:pt x="757" y="1142"/>
                    </a:lnTo>
                    <a:lnTo>
                      <a:pt x="729" y="1149"/>
                    </a:lnTo>
                    <a:lnTo>
                      <a:pt x="702" y="1156"/>
                    </a:lnTo>
                    <a:lnTo>
                      <a:pt x="673" y="1161"/>
                    </a:lnTo>
                    <a:lnTo>
                      <a:pt x="644" y="1165"/>
                    </a:lnTo>
                    <a:lnTo>
                      <a:pt x="614" y="1167"/>
                    </a:lnTo>
                    <a:lnTo>
                      <a:pt x="584" y="1167"/>
                    </a:lnTo>
                    <a:lnTo>
                      <a:pt x="554" y="1167"/>
                    </a:lnTo>
                    <a:lnTo>
                      <a:pt x="524" y="1165"/>
                    </a:lnTo>
                    <a:lnTo>
                      <a:pt x="495" y="1161"/>
                    </a:lnTo>
                    <a:lnTo>
                      <a:pt x="466" y="1156"/>
                    </a:lnTo>
                    <a:lnTo>
                      <a:pt x="439" y="1149"/>
                    </a:lnTo>
                    <a:lnTo>
                      <a:pt x="410" y="1142"/>
                    </a:lnTo>
                    <a:lnTo>
                      <a:pt x="384" y="1132"/>
                    </a:lnTo>
                    <a:lnTo>
                      <a:pt x="357" y="1122"/>
                    </a:lnTo>
                    <a:lnTo>
                      <a:pt x="331" y="1110"/>
                    </a:lnTo>
                    <a:lnTo>
                      <a:pt x="306" y="1098"/>
                    </a:lnTo>
                    <a:lnTo>
                      <a:pt x="282" y="1083"/>
                    </a:lnTo>
                    <a:lnTo>
                      <a:pt x="258" y="1068"/>
                    </a:lnTo>
                    <a:lnTo>
                      <a:pt x="235" y="1052"/>
                    </a:lnTo>
                    <a:lnTo>
                      <a:pt x="213" y="1034"/>
                    </a:lnTo>
                    <a:lnTo>
                      <a:pt x="192" y="1016"/>
                    </a:lnTo>
                    <a:lnTo>
                      <a:pt x="171" y="997"/>
                    </a:lnTo>
                    <a:lnTo>
                      <a:pt x="152" y="976"/>
                    </a:lnTo>
                    <a:lnTo>
                      <a:pt x="134" y="955"/>
                    </a:lnTo>
                    <a:lnTo>
                      <a:pt x="116" y="933"/>
                    </a:lnTo>
                    <a:lnTo>
                      <a:pt x="100" y="910"/>
                    </a:lnTo>
                    <a:lnTo>
                      <a:pt x="85" y="887"/>
                    </a:lnTo>
                    <a:lnTo>
                      <a:pt x="70" y="863"/>
                    </a:lnTo>
                    <a:lnTo>
                      <a:pt x="57" y="837"/>
                    </a:lnTo>
                    <a:lnTo>
                      <a:pt x="46" y="811"/>
                    </a:lnTo>
                    <a:lnTo>
                      <a:pt x="36" y="785"/>
                    </a:lnTo>
                    <a:lnTo>
                      <a:pt x="26" y="757"/>
                    </a:lnTo>
                    <a:lnTo>
                      <a:pt x="19" y="729"/>
                    </a:lnTo>
                    <a:lnTo>
                      <a:pt x="12" y="702"/>
                    </a:lnTo>
                    <a:lnTo>
                      <a:pt x="7" y="673"/>
                    </a:lnTo>
                    <a:lnTo>
                      <a:pt x="3" y="643"/>
                    </a:lnTo>
                    <a:lnTo>
                      <a:pt x="1" y="614"/>
                    </a:lnTo>
                    <a:lnTo>
                      <a:pt x="0" y="584"/>
                    </a:lnTo>
                    <a:lnTo>
                      <a:pt x="1" y="554"/>
                    </a:lnTo>
                    <a:lnTo>
                      <a:pt x="3" y="524"/>
                    </a:lnTo>
                    <a:lnTo>
                      <a:pt x="7" y="495"/>
                    </a:lnTo>
                    <a:lnTo>
                      <a:pt x="12" y="467"/>
                    </a:lnTo>
                    <a:lnTo>
                      <a:pt x="19" y="438"/>
                    </a:lnTo>
                    <a:lnTo>
                      <a:pt x="26" y="410"/>
                    </a:lnTo>
                    <a:lnTo>
                      <a:pt x="36" y="384"/>
                    </a:lnTo>
                    <a:lnTo>
                      <a:pt x="46" y="357"/>
                    </a:lnTo>
                    <a:lnTo>
                      <a:pt x="57" y="331"/>
                    </a:lnTo>
                    <a:lnTo>
                      <a:pt x="70" y="306"/>
                    </a:lnTo>
                    <a:lnTo>
                      <a:pt x="85" y="282"/>
                    </a:lnTo>
                    <a:lnTo>
                      <a:pt x="100" y="258"/>
                    </a:lnTo>
                    <a:lnTo>
                      <a:pt x="116" y="235"/>
                    </a:lnTo>
                    <a:lnTo>
                      <a:pt x="134" y="213"/>
                    </a:lnTo>
                    <a:lnTo>
                      <a:pt x="152" y="192"/>
                    </a:lnTo>
                    <a:lnTo>
                      <a:pt x="171" y="171"/>
                    </a:lnTo>
                    <a:lnTo>
                      <a:pt x="192" y="152"/>
                    </a:lnTo>
                    <a:lnTo>
                      <a:pt x="213" y="134"/>
                    </a:lnTo>
                    <a:lnTo>
                      <a:pt x="235" y="116"/>
                    </a:lnTo>
                    <a:lnTo>
                      <a:pt x="258" y="101"/>
                    </a:lnTo>
                    <a:lnTo>
                      <a:pt x="282" y="85"/>
                    </a:lnTo>
                    <a:lnTo>
                      <a:pt x="306" y="71"/>
                    </a:lnTo>
                    <a:lnTo>
                      <a:pt x="331" y="58"/>
                    </a:lnTo>
                    <a:lnTo>
                      <a:pt x="357" y="47"/>
                    </a:lnTo>
                    <a:lnTo>
                      <a:pt x="384" y="36"/>
                    </a:lnTo>
                    <a:lnTo>
                      <a:pt x="410" y="26"/>
                    </a:lnTo>
                    <a:lnTo>
                      <a:pt x="439" y="19"/>
                    </a:lnTo>
                    <a:lnTo>
                      <a:pt x="466" y="12"/>
                    </a:lnTo>
                    <a:lnTo>
                      <a:pt x="495" y="7"/>
                    </a:lnTo>
                    <a:lnTo>
                      <a:pt x="524" y="4"/>
                    </a:lnTo>
                    <a:lnTo>
                      <a:pt x="554" y="1"/>
                    </a:lnTo>
                    <a:lnTo>
                      <a:pt x="584" y="0"/>
                    </a:lnTo>
                    <a:close/>
                  </a:path>
                </a:pathLst>
              </a:custGeom>
              <a:solidFill>
                <a:srgbClr val="d48e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57440" y="3195720"/>
                <a:ext cx="458640" cy="458640"/>
              </a:xfrm>
              <a:custGeom>
                <a:avLst/>
                <a:gdLst/>
                <a:ahLst/>
                <a:rect l="l" t="t" r="r" b="b"/>
                <a:pathLst>
                  <a:path w="1156" h="1156">
                    <a:moveTo>
                      <a:pt x="578" y="0"/>
                    </a:moveTo>
                    <a:lnTo>
                      <a:pt x="608" y="1"/>
                    </a:lnTo>
                    <a:lnTo>
                      <a:pt x="637" y="2"/>
                    </a:lnTo>
                    <a:lnTo>
                      <a:pt x="666" y="7"/>
                    </a:lnTo>
                    <a:lnTo>
                      <a:pt x="694" y="12"/>
                    </a:lnTo>
                    <a:lnTo>
                      <a:pt x="722" y="18"/>
                    </a:lnTo>
                    <a:lnTo>
                      <a:pt x="750" y="26"/>
                    </a:lnTo>
                    <a:lnTo>
                      <a:pt x="776" y="34"/>
                    </a:lnTo>
                    <a:lnTo>
                      <a:pt x="802" y="45"/>
                    </a:lnTo>
                    <a:lnTo>
                      <a:pt x="829" y="57"/>
                    </a:lnTo>
                    <a:lnTo>
                      <a:pt x="853" y="69"/>
                    </a:lnTo>
                    <a:lnTo>
                      <a:pt x="878" y="84"/>
                    </a:lnTo>
                    <a:lnTo>
                      <a:pt x="901" y="98"/>
                    </a:lnTo>
                    <a:lnTo>
                      <a:pt x="924" y="115"/>
                    </a:lnTo>
                    <a:lnTo>
                      <a:pt x="945" y="132"/>
                    </a:lnTo>
                    <a:lnTo>
                      <a:pt x="967" y="150"/>
                    </a:lnTo>
                    <a:lnTo>
                      <a:pt x="987" y="169"/>
                    </a:lnTo>
                    <a:lnTo>
                      <a:pt x="1005" y="189"/>
                    </a:lnTo>
                    <a:lnTo>
                      <a:pt x="1024" y="211"/>
                    </a:lnTo>
                    <a:lnTo>
                      <a:pt x="1041" y="232"/>
                    </a:lnTo>
                    <a:lnTo>
                      <a:pt x="1057" y="255"/>
                    </a:lnTo>
                    <a:lnTo>
                      <a:pt x="1072" y="278"/>
                    </a:lnTo>
                    <a:lnTo>
                      <a:pt x="1087" y="303"/>
                    </a:lnTo>
                    <a:lnTo>
                      <a:pt x="1099" y="327"/>
                    </a:lnTo>
                    <a:lnTo>
                      <a:pt x="1111" y="353"/>
                    </a:lnTo>
                    <a:lnTo>
                      <a:pt x="1122" y="380"/>
                    </a:lnTo>
                    <a:lnTo>
                      <a:pt x="1130" y="406"/>
                    </a:lnTo>
                    <a:lnTo>
                      <a:pt x="1138" y="434"/>
                    </a:lnTo>
                    <a:lnTo>
                      <a:pt x="1144" y="461"/>
                    </a:lnTo>
                    <a:lnTo>
                      <a:pt x="1149" y="490"/>
                    </a:lnTo>
                    <a:lnTo>
                      <a:pt x="1153" y="519"/>
                    </a:lnTo>
                    <a:lnTo>
                      <a:pt x="1155" y="548"/>
                    </a:lnTo>
                    <a:lnTo>
                      <a:pt x="1156" y="578"/>
                    </a:lnTo>
                    <a:lnTo>
                      <a:pt x="1155" y="608"/>
                    </a:lnTo>
                    <a:lnTo>
                      <a:pt x="1153" y="637"/>
                    </a:lnTo>
                    <a:lnTo>
                      <a:pt x="1149" y="665"/>
                    </a:lnTo>
                    <a:lnTo>
                      <a:pt x="1144" y="694"/>
                    </a:lnTo>
                    <a:lnTo>
                      <a:pt x="1138" y="722"/>
                    </a:lnTo>
                    <a:lnTo>
                      <a:pt x="1130" y="749"/>
                    </a:lnTo>
                    <a:lnTo>
                      <a:pt x="1122" y="776"/>
                    </a:lnTo>
                    <a:lnTo>
                      <a:pt x="1111" y="802"/>
                    </a:lnTo>
                    <a:lnTo>
                      <a:pt x="1099" y="829"/>
                    </a:lnTo>
                    <a:lnTo>
                      <a:pt x="1087" y="853"/>
                    </a:lnTo>
                    <a:lnTo>
                      <a:pt x="1072" y="878"/>
                    </a:lnTo>
                    <a:lnTo>
                      <a:pt x="1057" y="900"/>
                    </a:lnTo>
                    <a:lnTo>
                      <a:pt x="1041" y="923"/>
                    </a:lnTo>
                    <a:lnTo>
                      <a:pt x="1024" y="945"/>
                    </a:lnTo>
                    <a:lnTo>
                      <a:pt x="1005" y="966"/>
                    </a:lnTo>
                    <a:lnTo>
                      <a:pt x="987" y="987"/>
                    </a:lnTo>
                    <a:lnTo>
                      <a:pt x="967" y="1006"/>
                    </a:lnTo>
                    <a:lnTo>
                      <a:pt x="945" y="1024"/>
                    </a:lnTo>
                    <a:lnTo>
                      <a:pt x="924" y="1041"/>
                    </a:lnTo>
                    <a:lnTo>
                      <a:pt x="901" y="1056"/>
                    </a:lnTo>
                    <a:lnTo>
                      <a:pt x="878" y="1072"/>
                    </a:lnTo>
                    <a:lnTo>
                      <a:pt x="853" y="1086"/>
                    </a:lnTo>
                    <a:lnTo>
                      <a:pt x="829" y="1098"/>
                    </a:lnTo>
                    <a:lnTo>
                      <a:pt x="802" y="1110"/>
                    </a:lnTo>
                    <a:lnTo>
                      <a:pt x="776" y="1121"/>
                    </a:lnTo>
                    <a:lnTo>
                      <a:pt x="750" y="1130"/>
                    </a:lnTo>
                    <a:lnTo>
                      <a:pt x="722" y="1138"/>
                    </a:lnTo>
                    <a:lnTo>
                      <a:pt x="694" y="1144"/>
                    </a:lnTo>
                    <a:lnTo>
                      <a:pt x="666" y="1149"/>
                    </a:lnTo>
                    <a:lnTo>
                      <a:pt x="637" y="1152"/>
                    </a:lnTo>
                    <a:lnTo>
                      <a:pt x="608" y="1155"/>
                    </a:lnTo>
                    <a:lnTo>
                      <a:pt x="578" y="1156"/>
                    </a:lnTo>
                    <a:lnTo>
                      <a:pt x="548" y="1155"/>
                    </a:lnTo>
                    <a:lnTo>
                      <a:pt x="519" y="1152"/>
                    </a:lnTo>
                    <a:lnTo>
                      <a:pt x="490" y="1149"/>
                    </a:lnTo>
                    <a:lnTo>
                      <a:pt x="462" y="1144"/>
                    </a:lnTo>
                    <a:lnTo>
                      <a:pt x="434" y="1138"/>
                    </a:lnTo>
                    <a:lnTo>
                      <a:pt x="406" y="1130"/>
                    </a:lnTo>
                    <a:lnTo>
                      <a:pt x="379" y="1121"/>
                    </a:lnTo>
                    <a:lnTo>
                      <a:pt x="354" y="1110"/>
                    </a:lnTo>
                    <a:lnTo>
                      <a:pt x="327" y="1098"/>
                    </a:lnTo>
                    <a:lnTo>
                      <a:pt x="303" y="1086"/>
                    </a:lnTo>
                    <a:lnTo>
                      <a:pt x="278" y="1072"/>
                    </a:lnTo>
                    <a:lnTo>
                      <a:pt x="255" y="1056"/>
                    </a:lnTo>
                    <a:lnTo>
                      <a:pt x="232" y="1041"/>
                    </a:lnTo>
                    <a:lnTo>
                      <a:pt x="211" y="1024"/>
                    </a:lnTo>
                    <a:lnTo>
                      <a:pt x="189" y="1006"/>
                    </a:lnTo>
                    <a:lnTo>
                      <a:pt x="169" y="987"/>
                    </a:lnTo>
                    <a:lnTo>
                      <a:pt x="150" y="966"/>
                    </a:lnTo>
                    <a:lnTo>
                      <a:pt x="132" y="945"/>
                    </a:lnTo>
                    <a:lnTo>
                      <a:pt x="115" y="923"/>
                    </a:lnTo>
                    <a:lnTo>
                      <a:pt x="98" y="900"/>
                    </a:lnTo>
                    <a:lnTo>
                      <a:pt x="84" y="878"/>
                    </a:lnTo>
                    <a:lnTo>
                      <a:pt x="69" y="853"/>
                    </a:lnTo>
                    <a:lnTo>
                      <a:pt x="57" y="829"/>
                    </a:lnTo>
                    <a:lnTo>
                      <a:pt x="45" y="802"/>
                    </a:lnTo>
                    <a:lnTo>
                      <a:pt x="34" y="776"/>
                    </a:lnTo>
                    <a:lnTo>
                      <a:pt x="26" y="749"/>
                    </a:lnTo>
                    <a:lnTo>
                      <a:pt x="18" y="722"/>
                    </a:lnTo>
                    <a:lnTo>
                      <a:pt x="12" y="694"/>
                    </a:lnTo>
                    <a:lnTo>
                      <a:pt x="7" y="665"/>
                    </a:lnTo>
                    <a:lnTo>
                      <a:pt x="2" y="637"/>
                    </a:lnTo>
                    <a:lnTo>
                      <a:pt x="1" y="608"/>
                    </a:lnTo>
                    <a:lnTo>
                      <a:pt x="0" y="578"/>
                    </a:lnTo>
                    <a:lnTo>
                      <a:pt x="1" y="548"/>
                    </a:lnTo>
                    <a:lnTo>
                      <a:pt x="2" y="519"/>
                    </a:lnTo>
                    <a:lnTo>
                      <a:pt x="7" y="490"/>
                    </a:lnTo>
                    <a:lnTo>
                      <a:pt x="12" y="461"/>
                    </a:lnTo>
                    <a:lnTo>
                      <a:pt x="18" y="434"/>
                    </a:lnTo>
                    <a:lnTo>
                      <a:pt x="26" y="406"/>
                    </a:lnTo>
                    <a:lnTo>
                      <a:pt x="34" y="380"/>
                    </a:lnTo>
                    <a:lnTo>
                      <a:pt x="45" y="353"/>
                    </a:lnTo>
                    <a:lnTo>
                      <a:pt x="57" y="327"/>
                    </a:lnTo>
                    <a:lnTo>
                      <a:pt x="69" y="303"/>
                    </a:lnTo>
                    <a:lnTo>
                      <a:pt x="84" y="278"/>
                    </a:lnTo>
                    <a:lnTo>
                      <a:pt x="98" y="255"/>
                    </a:lnTo>
                    <a:lnTo>
                      <a:pt x="115" y="232"/>
                    </a:lnTo>
                    <a:lnTo>
                      <a:pt x="132" y="211"/>
                    </a:lnTo>
                    <a:lnTo>
                      <a:pt x="150" y="189"/>
                    </a:lnTo>
                    <a:lnTo>
                      <a:pt x="169" y="169"/>
                    </a:lnTo>
                    <a:lnTo>
                      <a:pt x="189" y="150"/>
                    </a:lnTo>
                    <a:lnTo>
                      <a:pt x="211" y="132"/>
                    </a:lnTo>
                    <a:lnTo>
                      <a:pt x="232" y="115"/>
                    </a:lnTo>
                    <a:lnTo>
                      <a:pt x="255" y="98"/>
                    </a:lnTo>
                    <a:lnTo>
                      <a:pt x="278" y="84"/>
                    </a:lnTo>
                    <a:lnTo>
                      <a:pt x="303" y="69"/>
                    </a:lnTo>
                    <a:lnTo>
                      <a:pt x="327" y="57"/>
                    </a:lnTo>
                    <a:lnTo>
                      <a:pt x="354" y="45"/>
                    </a:lnTo>
                    <a:lnTo>
                      <a:pt x="379" y="34"/>
                    </a:lnTo>
                    <a:lnTo>
                      <a:pt x="406" y="26"/>
                    </a:lnTo>
                    <a:lnTo>
                      <a:pt x="434" y="18"/>
                    </a:lnTo>
                    <a:lnTo>
                      <a:pt x="462" y="12"/>
                    </a:lnTo>
                    <a:lnTo>
                      <a:pt x="490" y="7"/>
                    </a:lnTo>
                    <a:lnTo>
                      <a:pt x="519" y="2"/>
                    </a:lnTo>
                    <a:lnTo>
                      <a:pt x="548" y="1"/>
                    </a:lnTo>
                    <a:lnTo>
                      <a:pt x="578" y="0"/>
                    </a:lnTo>
                    <a:close/>
                  </a:path>
                </a:pathLst>
              </a:custGeom>
              <a:solidFill>
                <a:srgbClr val="d990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558880" y="3198960"/>
                <a:ext cx="455760" cy="453960"/>
              </a:xfrm>
              <a:custGeom>
                <a:avLst/>
                <a:gdLst/>
                <a:ahLst/>
                <a:rect l="l" t="t" r="r" b="b"/>
                <a:pathLst>
                  <a:path w="1144" h="1145">
                    <a:moveTo>
                      <a:pt x="572" y="0"/>
                    </a:moveTo>
                    <a:lnTo>
                      <a:pt x="601" y="0"/>
                    </a:lnTo>
                    <a:lnTo>
                      <a:pt x="631" y="3"/>
                    </a:lnTo>
                    <a:lnTo>
                      <a:pt x="658" y="6"/>
                    </a:lnTo>
                    <a:lnTo>
                      <a:pt x="687" y="11"/>
                    </a:lnTo>
                    <a:lnTo>
                      <a:pt x="715" y="18"/>
                    </a:lnTo>
                    <a:lnTo>
                      <a:pt x="742" y="25"/>
                    </a:lnTo>
                    <a:lnTo>
                      <a:pt x="769" y="35"/>
                    </a:lnTo>
                    <a:lnTo>
                      <a:pt x="794" y="45"/>
                    </a:lnTo>
                    <a:lnTo>
                      <a:pt x="820" y="57"/>
                    </a:lnTo>
                    <a:lnTo>
                      <a:pt x="844" y="69"/>
                    </a:lnTo>
                    <a:lnTo>
                      <a:pt x="868" y="83"/>
                    </a:lnTo>
                    <a:lnTo>
                      <a:pt x="892" y="97"/>
                    </a:lnTo>
                    <a:lnTo>
                      <a:pt x="914" y="114"/>
                    </a:lnTo>
                    <a:lnTo>
                      <a:pt x="936" y="131"/>
                    </a:lnTo>
                    <a:lnTo>
                      <a:pt x="957" y="149"/>
                    </a:lnTo>
                    <a:lnTo>
                      <a:pt x="976" y="168"/>
                    </a:lnTo>
                    <a:lnTo>
                      <a:pt x="996" y="187"/>
                    </a:lnTo>
                    <a:lnTo>
                      <a:pt x="1014" y="209"/>
                    </a:lnTo>
                    <a:lnTo>
                      <a:pt x="1030" y="230"/>
                    </a:lnTo>
                    <a:lnTo>
                      <a:pt x="1047" y="253"/>
                    </a:lnTo>
                    <a:lnTo>
                      <a:pt x="1062" y="276"/>
                    </a:lnTo>
                    <a:lnTo>
                      <a:pt x="1076" y="300"/>
                    </a:lnTo>
                    <a:lnTo>
                      <a:pt x="1088" y="324"/>
                    </a:lnTo>
                    <a:lnTo>
                      <a:pt x="1100" y="350"/>
                    </a:lnTo>
                    <a:lnTo>
                      <a:pt x="1110" y="376"/>
                    </a:lnTo>
                    <a:lnTo>
                      <a:pt x="1119" y="402"/>
                    </a:lnTo>
                    <a:lnTo>
                      <a:pt x="1126" y="430"/>
                    </a:lnTo>
                    <a:lnTo>
                      <a:pt x="1134" y="457"/>
                    </a:lnTo>
                    <a:lnTo>
                      <a:pt x="1138" y="486"/>
                    </a:lnTo>
                    <a:lnTo>
                      <a:pt x="1142" y="514"/>
                    </a:lnTo>
                    <a:lnTo>
                      <a:pt x="1144" y="544"/>
                    </a:lnTo>
                    <a:lnTo>
                      <a:pt x="1144" y="572"/>
                    </a:lnTo>
                    <a:lnTo>
                      <a:pt x="1144" y="602"/>
                    </a:lnTo>
                    <a:lnTo>
                      <a:pt x="1142" y="631"/>
                    </a:lnTo>
                    <a:lnTo>
                      <a:pt x="1138" y="660"/>
                    </a:lnTo>
                    <a:lnTo>
                      <a:pt x="1134" y="688"/>
                    </a:lnTo>
                    <a:lnTo>
                      <a:pt x="1126" y="715"/>
                    </a:lnTo>
                    <a:lnTo>
                      <a:pt x="1119" y="743"/>
                    </a:lnTo>
                    <a:lnTo>
                      <a:pt x="1110" y="769"/>
                    </a:lnTo>
                    <a:lnTo>
                      <a:pt x="1100" y="796"/>
                    </a:lnTo>
                    <a:lnTo>
                      <a:pt x="1088" y="821"/>
                    </a:lnTo>
                    <a:lnTo>
                      <a:pt x="1076" y="845"/>
                    </a:lnTo>
                    <a:lnTo>
                      <a:pt x="1062" y="869"/>
                    </a:lnTo>
                    <a:lnTo>
                      <a:pt x="1047" y="893"/>
                    </a:lnTo>
                    <a:lnTo>
                      <a:pt x="1030" y="914"/>
                    </a:lnTo>
                    <a:lnTo>
                      <a:pt x="1014" y="936"/>
                    </a:lnTo>
                    <a:lnTo>
                      <a:pt x="996" y="957"/>
                    </a:lnTo>
                    <a:lnTo>
                      <a:pt x="976" y="977"/>
                    </a:lnTo>
                    <a:lnTo>
                      <a:pt x="957" y="996"/>
                    </a:lnTo>
                    <a:lnTo>
                      <a:pt x="936" y="1014"/>
                    </a:lnTo>
                    <a:lnTo>
                      <a:pt x="914" y="1031"/>
                    </a:lnTo>
                    <a:lnTo>
                      <a:pt x="892" y="1047"/>
                    </a:lnTo>
                    <a:lnTo>
                      <a:pt x="868" y="1062"/>
                    </a:lnTo>
                    <a:lnTo>
                      <a:pt x="844" y="1076"/>
                    </a:lnTo>
                    <a:lnTo>
                      <a:pt x="820" y="1088"/>
                    </a:lnTo>
                    <a:lnTo>
                      <a:pt x="794" y="1100"/>
                    </a:lnTo>
                    <a:lnTo>
                      <a:pt x="769" y="1110"/>
                    </a:lnTo>
                    <a:lnTo>
                      <a:pt x="742" y="1119"/>
                    </a:lnTo>
                    <a:lnTo>
                      <a:pt x="715" y="1127"/>
                    </a:lnTo>
                    <a:lnTo>
                      <a:pt x="687" y="1134"/>
                    </a:lnTo>
                    <a:lnTo>
                      <a:pt x="658" y="1139"/>
                    </a:lnTo>
                    <a:lnTo>
                      <a:pt x="631" y="1142"/>
                    </a:lnTo>
                    <a:lnTo>
                      <a:pt x="601" y="1145"/>
                    </a:lnTo>
                    <a:lnTo>
                      <a:pt x="572" y="1145"/>
                    </a:lnTo>
                    <a:lnTo>
                      <a:pt x="542" y="1145"/>
                    </a:lnTo>
                    <a:lnTo>
                      <a:pt x="513" y="1142"/>
                    </a:lnTo>
                    <a:lnTo>
                      <a:pt x="484" y="1139"/>
                    </a:lnTo>
                    <a:lnTo>
                      <a:pt x="457" y="1134"/>
                    </a:lnTo>
                    <a:lnTo>
                      <a:pt x="429" y="1127"/>
                    </a:lnTo>
                    <a:lnTo>
                      <a:pt x="402" y="1119"/>
                    </a:lnTo>
                    <a:lnTo>
                      <a:pt x="375" y="1110"/>
                    </a:lnTo>
                    <a:lnTo>
                      <a:pt x="349" y="1100"/>
                    </a:lnTo>
                    <a:lnTo>
                      <a:pt x="324" y="1088"/>
                    </a:lnTo>
                    <a:lnTo>
                      <a:pt x="300" y="1076"/>
                    </a:lnTo>
                    <a:lnTo>
                      <a:pt x="276" y="1062"/>
                    </a:lnTo>
                    <a:lnTo>
                      <a:pt x="252" y="1047"/>
                    </a:lnTo>
                    <a:lnTo>
                      <a:pt x="230" y="1031"/>
                    </a:lnTo>
                    <a:lnTo>
                      <a:pt x="208" y="1014"/>
                    </a:lnTo>
                    <a:lnTo>
                      <a:pt x="187" y="996"/>
                    </a:lnTo>
                    <a:lnTo>
                      <a:pt x="168" y="977"/>
                    </a:lnTo>
                    <a:lnTo>
                      <a:pt x="148" y="957"/>
                    </a:lnTo>
                    <a:lnTo>
                      <a:pt x="130" y="936"/>
                    </a:lnTo>
                    <a:lnTo>
                      <a:pt x="114" y="914"/>
                    </a:lnTo>
                    <a:lnTo>
                      <a:pt x="97" y="893"/>
                    </a:lnTo>
                    <a:lnTo>
                      <a:pt x="82" y="869"/>
                    </a:lnTo>
                    <a:lnTo>
                      <a:pt x="68" y="845"/>
                    </a:lnTo>
                    <a:lnTo>
                      <a:pt x="56" y="821"/>
                    </a:lnTo>
                    <a:lnTo>
                      <a:pt x="44" y="796"/>
                    </a:lnTo>
                    <a:lnTo>
                      <a:pt x="34" y="769"/>
                    </a:lnTo>
                    <a:lnTo>
                      <a:pt x="25" y="743"/>
                    </a:lnTo>
                    <a:lnTo>
                      <a:pt x="18" y="715"/>
                    </a:lnTo>
                    <a:lnTo>
                      <a:pt x="10" y="688"/>
                    </a:lnTo>
                    <a:lnTo>
                      <a:pt x="6" y="660"/>
                    </a:lnTo>
                    <a:lnTo>
                      <a:pt x="2" y="631"/>
                    </a:lnTo>
                    <a:lnTo>
                      <a:pt x="0" y="602"/>
                    </a:lnTo>
                    <a:lnTo>
                      <a:pt x="0" y="572"/>
                    </a:lnTo>
                    <a:lnTo>
                      <a:pt x="0" y="544"/>
                    </a:lnTo>
                    <a:lnTo>
                      <a:pt x="2" y="514"/>
                    </a:lnTo>
                    <a:lnTo>
                      <a:pt x="6" y="486"/>
                    </a:lnTo>
                    <a:lnTo>
                      <a:pt x="10" y="457"/>
                    </a:lnTo>
                    <a:lnTo>
                      <a:pt x="18" y="430"/>
                    </a:lnTo>
                    <a:lnTo>
                      <a:pt x="25" y="402"/>
                    </a:lnTo>
                    <a:lnTo>
                      <a:pt x="34" y="376"/>
                    </a:lnTo>
                    <a:lnTo>
                      <a:pt x="44" y="350"/>
                    </a:lnTo>
                    <a:lnTo>
                      <a:pt x="56" y="324"/>
                    </a:lnTo>
                    <a:lnTo>
                      <a:pt x="68" y="300"/>
                    </a:lnTo>
                    <a:lnTo>
                      <a:pt x="82" y="276"/>
                    </a:lnTo>
                    <a:lnTo>
                      <a:pt x="97" y="253"/>
                    </a:lnTo>
                    <a:lnTo>
                      <a:pt x="114" y="230"/>
                    </a:lnTo>
                    <a:lnTo>
                      <a:pt x="130" y="209"/>
                    </a:lnTo>
                    <a:lnTo>
                      <a:pt x="148" y="187"/>
                    </a:lnTo>
                    <a:lnTo>
                      <a:pt x="168" y="168"/>
                    </a:lnTo>
                    <a:lnTo>
                      <a:pt x="187" y="149"/>
                    </a:lnTo>
                    <a:lnTo>
                      <a:pt x="208" y="131"/>
                    </a:lnTo>
                    <a:lnTo>
                      <a:pt x="230" y="114"/>
                    </a:lnTo>
                    <a:lnTo>
                      <a:pt x="252" y="97"/>
                    </a:lnTo>
                    <a:lnTo>
                      <a:pt x="276" y="83"/>
                    </a:lnTo>
                    <a:lnTo>
                      <a:pt x="300" y="69"/>
                    </a:lnTo>
                    <a:lnTo>
                      <a:pt x="324" y="57"/>
                    </a:lnTo>
                    <a:lnTo>
                      <a:pt x="349" y="45"/>
                    </a:lnTo>
                    <a:lnTo>
                      <a:pt x="375" y="35"/>
                    </a:lnTo>
                    <a:lnTo>
                      <a:pt x="402" y="25"/>
                    </a:lnTo>
                    <a:lnTo>
                      <a:pt x="429" y="18"/>
                    </a:lnTo>
                    <a:lnTo>
                      <a:pt x="457" y="11"/>
                    </a:lnTo>
                    <a:lnTo>
                      <a:pt x="484" y="6"/>
                    </a:lnTo>
                    <a:lnTo>
                      <a:pt x="513" y="3"/>
                    </a:lnTo>
                    <a:lnTo>
                      <a:pt x="542" y="0"/>
                    </a:lnTo>
                    <a:lnTo>
                      <a:pt x="572" y="0"/>
                    </a:lnTo>
                    <a:close/>
                  </a:path>
                </a:pathLst>
              </a:custGeom>
              <a:solidFill>
                <a:srgbClr val="df9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562120" y="3201840"/>
                <a:ext cx="449280" cy="451080"/>
              </a:xfrm>
              <a:custGeom>
                <a:avLst/>
                <a:gdLst/>
                <a:ahLst/>
                <a:rect l="l" t="t" r="r" b="b"/>
                <a:pathLst>
                  <a:path w="1136" h="1134">
                    <a:moveTo>
                      <a:pt x="568" y="0"/>
                    </a:moveTo>
                    <a:lnTo>
                      <a:pt x="597" y="1"/>
                    </a:lnTo>
                    <a:lnTo>
                      <a:pt x="626" y="3"/>
                    </a:lnTo>
                    <a:lnTo>
                      <a:pt x="654" y="7"/>
                    </a:lnTo>
                    <a:lnTo>
                      <a:pt x="682" y="12"/>
                    </a:lnTo>
                    <a:lnTo>
                      <a:pt x="710" y="18"/>
                    </a:lnTo>
                    <a:lnTo>
                      <a:pt x="736" y="26"/>
                    </a:lnTo>
                    <a:lnTo>
                      <a:pt x="762" y="34"/>
                    </a:lnTo>
                    <a:lnTo>
                      <a:pt x="789" y="45"/>
                    </a:lnTo>
                    <a:lnTo>
                      <a:pt x="814" y="56"/>
                    </a:lnTo>
                    <a:lnTo>
                      <a:pt x="838" y="69"/>
                    </a:lnTo>
                    <a:lnTo>
                      <a:pt x="862" y="82"/>
                    </a:lnTo>
                    <a:lnTo>
                      <a:pt x="885" y="97"/>
                    </a:lnTo>
                    <a:lnTo>
                      <a:pt x="906" y="114"/>
                    </a:lnTo>
                    <a:lnTo>
                      <a:pt x="928" y="130"/>
                    </a:lnTo>
                    <a:lnTo>
                      <a:pt x="950" y="148"/>
                    </a:lnTo>
                    <a:lnTo>
                      <a:pt x="969" y="166"/>
                    </a:lnTo>
                    <a:lnTo>
                      <a:pt x="988" y="187"/>
                    </a:lnTo>
                    <a:lnTo>
                      <a:pt x="1005" y="207"/>
                    </a:lnTo>
                    <a:lnTo>
                      <a:pt x="1023" y="229"/>
                    </a:lnTo>
                    <a:lnTo>
                      <a:pt x="1038" y="250"/>
                    </a:lnTo>
                    <a:lnTo>
                      <a:pt x="1053" y="273"/>
                    </a:lnTo>
                    <a:lnTo>
                      <a:pt x="1066" y="297"/>
                    </a:lnTo>
                    <a:lnTo>
                      <a:pt x="1079" y="322"/>
                    </a:lnTo>
                    <a:lnTo>
                      <a:pt x="1090" y="347"/>
                    </a:lnTo>
                    <a:lnTo>
                      <a:pt x="1101" y="373"/>
                    </a:lnTo>
                    <a:lnTo>
                      <a:pt x="1109" y="399"/>
                    </a:lnTo>
                    <a:lnTo>
                      <a:pt x="1118" y="425"/>
                    </a:lnTo>
                    <a:lnTo>
                      <a:pt x="1124" y="453"/>
                    </a:lnTo>
                    <a:lnTo>
                      <a:pt x="1128" y="481"/>
                    </a:lnTo>
                    <a:lnTo>
                      <a:pt x="1132" y="509"/>
                    </a:lnTo>
                    <a:lnTo>
                      <a:pt x="1134" y="538"/>
                    </a:lnTo>
                    <a:lnTo>
                      <a:pt x="1136" y="567"/>
                    </a:lnTo>
                    <a:lnTo>
                      <a:pt x="1134" y="596"/>
                    </a:lnTo>
                    <a:lnTo>
                      <a:pt x="1132" y="625"/>
                    </a:lnTo>
                    <a:lnTo>
                      <a:pt x="1128" y="653"/>
                    </a:lnTo>
                    <a:lnTo>
                      <a:pt x="1124" y="681"/>
                    </a:lnTo>
                    <a:lnTo>
                      <a:pt x="1118" y="709"/>
                    </a:lnTo>
                    <a:lnTo>
                      <a:pt x="1109" y="736"/>
                    </a:lnTo>
                    <a:lnTo>
                      <a:pt x="1101" y="761"/>
                    </a:lnTo>
                    <a:lnTo>
                      <a:pt x="1090" y="788"/>
                    </a:lnTo>
                    <a:lnTo>
                      <a:pt x="1079" y="813"/>
                    </a:lnTo>
                    <a:lnTo>
                      <a:pt x="1066" y="837"/>
                    </a:lnTo>
                    <a:lnTo>
                      <a:pt x="1053" y="861"/>
                    </a:lnTo>
                    <a:lnTo>
                      <a:pt x="1038" y="884"/>
                    </a:lnTo>
                    <a:lnTo>
                      <a:pt x="1023" y="906"/>
                    </a:lnTo>
                    <a:lnTo>
                      <a:pt x="1005" y="928"/>
                    </a:lnTo>
                    <a:lnTo>
                      <a:pt x="988" y="948"/>
                    </a:lnTo>
                    <a:lnTo>
                      <a:pt x="969" y="968"/>
                    </a:lnTo>
                    <a:lnTo>
                      <a:pt x="950" y="987"/>
                    </a:lnTo>
                    <a:lnTo>
                      <a:pt x="928" y="1005"/>
                    </a:lnTo>
                    <a:lnTo>
                      <a:pt x="906" y="1022"/>
                    </a:lnTo>
                    <a:lnTo>
                      <a:pt x="885" y="1037"/>
                    </a:lnTo>
                    <a:lnTo>
                      <a:pt x="862" y="1052"/>
                    </a:lnTo>
                    <a:lnTo>
                      <a:pt x="838" y="1066"/>
                    </a:lnTo>
                    <a:lnTo>
                      <a:pt x="814" y="1078"/>
                    </a:lnTo>
                    <a:lnTo>
                      <a:pt x="789" y="1090"/>
                    </a:lnTo>
                    <a:lnTo>
                      <a:pt x="762" y="1100"/>
                    </a:lnTo>
                    <a:lnTo>
                      <a:pt x="736" y="1109"/>
                    </a:lnTo>
                    <a:lnTo>
                      <a:pt x="710" y="1116"/>
                    </a:lnTo>
                    <a:lnTo>
                      <a:pt x="682" y="1122"/>
                    </a:lnTo>
                    <a:lnTo>
                      <a:pt x="654" y="1128"/>
                    </a:lnTo>
                    <a:lnTo>
                      <a:pt x="626" y="1132"/>
                    </a:lnTo>
                    <a:lnTo>
                      <a:pt x="597" y="1133"/>
                    </a:lnTo>
                    <a:lnTo>
                      <a:pt x="568" y="1134"/>
                    </a:lnTo>
                    <a:lnTo>
                      <a:pt x="539" y="1133"/>
                    </a:lnTo>
                    <a:lnTo>
                      <a:pt x="510" y="1132"/>
                    </a:lnTo>
                    <a:lnTo>
                      <a:pt x="482" y="1128"/>
                    </a:lnTo>
                    <a:lnTo>
                      <a:pt x="454" y="1122"/>
                    </a:lnTo>
                    <a:lnTo>
                      <a:pt x="426" y="1116"/>
                    </a:lnTo>
                    <a:lnTo>
                      <a:pt x="400" y="1109"/>
                    </a:lnTo>
                    <a:lnTo>
                      <a:pt x="374" y="1100"/>
                    </a:lnTo>
                    <a:lnTo>
                      <a:pt x="347" y="1090"/>
                    </a:lnTo>
                    <a:lnTo>
                      <a:pt x="322" y="1078"/>
                    </a:lnTo>
                    <a:lnTo>
                      <a:pt x="298" y="1066"/>
                    </a:lnTo>
                    <a:lnTo>
                      <a:pt x="274" y="1052"/>
                    </a:lnTo>
                    <a:lnTo>
                      <a:pt x="251" y="1037"/>
                    </a:lnTo>
                    <a:lnTo>
                      <a:pt x="228" y="1022"/>
                    </a:lnTo>
                    <a:lnTo>
                      <a:pt x="208" y="1005"/>
                    </a:lnTo>
                    <a:lnTo>
                      <a:pt x="186" y="987"/>
                    </a:lnTo>
                    <a:lnTo>
                      <a:pt x="167" y="968"/>
                    </a:lnTo>
                    <a:lnTo>
                      <a:pt x="148" y="948"/>
                    </a:lnTo>
                    <a:lnTo>
                      <a:pt x="130" y="928"/>
                    </a:lnTo>
                    <a:lnTo>
                      <a:pt x="113" y="906"/>
                    </a:lnTo>
                    <a:lnTo>
                      <a:pt x="98" y="884"/>
                    </a:lnTo>
                    <a:lnTo>
                      <a:pt x="83" y="861"/>
                    </a:lnTo>
                    <a:lnTo>
                      <a:pt x="69" y="837"/>
                    </a:lnTo>
                    <a:lnTo>
                      <a:pt x="57" y="813"/>
                    </a:lnTo>
                    <a:lnTo>
                      <a:pt x="45" y="788"/>
                    </a:lnTo>
                    <a:lnTo>
                      <a:pt x="35" y="761"/>
                    </a:lnTo>
                    <a:lnTo>
                      <a:pt x="27" y="736"/>
                    </a:lnTo>
                    <a:lnTo>
                      <a:pt x="18" y="709"/>
                    </a:lnTo>
                    <a:lnTo>
                      <a:pt x="12" y="681"/>
                    </a:lnTo>
                    <a:lnTo>
                      <a:pt x="8" y="653"/>
                    </a:lnTo>
                    <a:lnTo>
                      <a:pt x="4" y="625"/>
                    </a:lnTo>
                    <a:lnTo>
                      <a:pt x="2" y="596"/>
                    </a:lnTo>
                    <a:lnTo>
                      <a:pt x="0" y="567"/>
                    </a:lnTo>
                    <a:lnTo>
                      <a:pt x="2" y="538"/>
                    </a:lnTo>
                    <a:lnTo>
                      <a:pt x="4" y="509"/>
                    </a:lnTo>
                    <a:lnTo>
                      <a:pt x="8" y="481"/>
                    </a:lnTo>
                    <a:lnTo>
                      <a:pt x="12" y="453"/>
                    </a:lnTo>
                    <a:lnTo>
                      <a:pt x="18" y="425"/>
                    </a:lnTo>
                    <a:lnTo>
                      <a:pt x="27" y="399"/>
                    </a:lnTo>
                    <a:lnTo>
                      <a:pt x="35" y="373"/>
                    </a:lnTo>
                    <a:lnTo>
                      <a:pt x="45" y="347"/>
                    </a:lnTo>
                    <a:lnTo>
                      <a:pt x="57" y="322"/>
                    </a:lnTo>
                    <a:lnTo>
                      <a:pt x="69" y="297"/>
                    </a:lnTo>
                    <a:lnTo>
                      <a:pt x="83" y="273"/>
                    </a:lnTo>
                    <a:lnTo>
                      <a:pt x="98" y="250"/>
                    </a:lnTo>
                    <a:lnTo>
                      <a:pt x="113" y="229"/>
                    </a:lnTo>
                    <a:lnTo>
                      <a:pt x="130" y="207"/>
                    </a:lnTo>
                    <a:lnTo>
                      <a:pt x="148" y="187"/>
                    </a:lnTo>
                    <a:lnTo>
                      <a:pt x="167" y="166"/>
                    </a:lnTo>
                    <a:lnTo>
                      <a:pt x="186" y="148"/>
                    </a:lnTo>
                    <a:lnTo>
                      <a:pt x="208" y="130"/>
                    </a:lnTo>
                    <a:lnTo>
                      <a:pt x="228" y="114"/>
                    </a:lnTo>
                    <a:lnTo>
                      <a:pt x="251" y="97"/>
                    </a:lnTo>
                    <a:lnTo>
                      <a:pt x="274" y="82"/>
                    </a:lnTo>
                    <a:lnTo>
                      <a:pt x="298" y="69"/>
                    </a:lnTo>
                    <a:lnTo>
                      <a:pt x="322" y="56"/>
                    </a:lnTo>
                    <a:lnTo>
                      <a:pt x="347" y="45"/>
                    </a:lnTo>
                    <a:lnTo>
                      <a:pt x="374" y="34"/>
                    </a:lnTo>
                    <a:lnTo>
                      <a:pt x="400" y="26"/>
                    </a:lnTo>
                    <a:lnTo>
                      <a:pt x="426" y="18"/>
                    </a:lnTo>
                    <a:lnTo>
                      <a:pt x="454" y="12"/>
                    </a:lnTo>
                    <a:lnTo>
                      <a:pt x="482" y="7"/>
                    </a:lnTo>
                    <a:lnTo>
                      <a:pt x="510" y="3"/>
                    </a:lnTo>
                    <a:lnTo>
                      <a:pt x="539" y="1"/>
                    </a:lnTo>
                    <a:lnTo>
                      <a:pt x="568" y="0"/>
                    </a:lnTo>
                    <a:close/>
                  </a:path>
                </a:pathLst>
              </a:custGeom>
              <a:solidFill>
                <a:srgbClr val="e39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563560" y="3206880"/>
                <a:ext cx="446400" cy="446040"/>
              </a:xfrm>
              <a:custGeom>
                <a:avLst/>
                <a:gdLst/>
                <a:ahLst/>
                <a:rect l="l" t="t" r="r" b="b"/>
                <a:pathLst>
                  <a:path w="1124" h="1123">
                    <a:moveTo>
                      <a:pt x="562" y="0"/>
                    </a:moveTo>
                    <a:lnTo>
                      <a:pt x="591" y="1"/>
                    </a:lnTo>
                    <a:lnTo>
                      <a:pt x="620" y="4"/>
                    </a:lnTo>
                    <a:lnTo>
                      <a:pt x="647" y="7"/>
                    </a:lnTo>
                    <a:lnTo>
                      <a:pt x="675" y="12"/>
                    </a:lnTo>
                    <a:lnTo>
                      <a:pt x="702" y="18"/>
                    </a:lnTo>
                    <a:lnTo>
                      <a:pt x="729" y="25"/>
                    </a:lnTo>
                    <a:lnTo>
                      <a:pt x="755" y="35"/>
                    </a:lnTo>
                    <a:lnTo>
                      <a:pt x="780" y="45"/>
                    </a:lnTo>
                    <a:lnTo>
                      <a:pt x="806" y="57"/>
                    </a:lnTo>
                    <a:lnTo>
                      <a:pt x="830" y="69"/>
                    </a:lnTo>
                    <a:lnTo>
                      <a:pt x="852" y="82"/>
                    </a:lnTo>
                    <a:lnTo>
                      <a:pt x="875" y="96"/>
                    </a:lnTo>
                    <a:lnTo>
                      <a:pt x="898" y="112"/>
                    </a:lnTo>
                    <a:lnTo>
                      <a:pt x="918" y="128"/>
                    </a:lnTo>
                    <a:lnTo>
                      <a:pt x="939" y="146"/>
                    </a:lnTo>
                    <a:lnTo>
                      <a:pt x="959" y="166"/>
                    </a:lnTo>
                    <a:lnTo>
                      <a:pt x="977" y="185"/>
                    </a:lnTo>
                    <a:lnTo>
                      <a:pt x="995" y="205"/>
                    </a:lnTo>
                    <a:lnTo>
                      <a:pt x="1012" y="227"/>
                    </a:lnTo>
                    <a:lnTo>
                      <a:pt x="1028" y="248"/>
                    </a:lnTo>
                    <a:lnTo>
                      <a:pt x="1042" y="271"/>
                    </a:lnTo>
                    <a:lnTo>
                      <a:pt x="1055" y="295"/>
                    </a:lnTo>
                    <a:lnTo>
                      <a:pt x="1068" y="319"/>
                    </a:lnTo>
                    <a:lnTo>
                      <a:pt x="1079" y="343"/>
                    </a:lnTo>
                    <a:lnTo>
                      <a:pt x="1090" y="370"/>
                    </a:lnTo>
                    <a:lnTo>
                      <a:pt x="1098" y="395"/>
                    </a:lnTo>
                    <a:lnTo>
                      <a:pt x="1106" y="422"/>
                    </a:lnTo>
                    <a:lnTo>
                      <a:pt x="1112" y="449"/>
                    </a:lnTo>
                    <a:lnTo>
                      <a:pt x="1118" y="476"/>
                    </a:lnTo>
                    <a:lnTo>
                      <a:pt x="1121" y="505"/>
                    </a:lnTo>
                    <a:lnTo>
                      <a:pt x="1122" y="533"/>
                    </a:lnTo>
                    <a:lnTo>
                      <a:pt x="1124" y="562"/>
                    </a:lnTo>
                    <a:lnTo>
                      <a:pt x="1122" y="590"/>
                    </a:lnTo>
                    <a:lnTo>
                      <a:pt x="1121" y="619"/>
                    </a:lnTo>
                    <a:lnTo>
                      <a:pt x="1118" y="647"/>
                    </a:lnTo>
                    <a:lnTo>
                      <a:pt x="1112" y="674"/>
                    </a:lnTo>
                    <a:lnTo>
                      <a:pt x="1106" y="702"/>
                    </a:lnTo>
                    <a:lnTo>
                      <a:pt x="1098" y="728"/>
                    </a:lnTo>
                    <a:lnTo>
                      <a:pt x="1090" y="755"/>
                    </a:lnTo>
                    <a:lnTo>
                      <a:pt x="1079" y="780"/>
                    </a:lnTo>
                    <a:lnTo>
                      <a:pt x="1068" y="805"/>
                    </a:lnTo>
                    <a:lnTo>
                      <a:pt x="1055" y="829"/>
                    </a:lnTo>
                    <a:lnTo>
                      <a:pt x="1042" y="853"/>
                    </a:lnTo>
                    <a:lnTo>
                      <a:pt x="1028" y="876"/>
                    </a:lnTo>
                    <a:lnTo>
                      <a:pt x="1012" y="897"/>
                    </a:lnTo>
                    <a:lnTo>
                      <a:pt x="995" y="919"/>
                    </a:lnTo>
                    <a:lnTo>
                      <a:pt x="977" y="939"/>
                    </a:lnTo>
                    <a:lnTo>
                      <a:pt x="959" y="959"/>
                    </a:lnTo>
                    <a:lnTo>
                      <a:pt x="939" y="978"/>
                    </a:lnTo>
                    <a:lnTo>
                      <a:pt x="918" y="995"/>
                    </a:lnTo>
                    <a:lnTo>
                      <a:pt x="898" y="1011"/>
                    </a:lnTo>
                    <a:lnTo>
                      <a:pt x="875" y="1027"/>
                    </a:lnTo>
                    <a:lnTo>
                      <a:pt x="852" y="1043"/>
                    </a:lnTo>
                    <a:lnTo>
                      <a:pt x="830" y="1056"/>
                    </a:lnTo>
                    <a:lnTo>
                      <a:pt x="806" y="1068"/>
                    </a:lnTo>
                    <a:lnTo>
                      <a:pt x="780" y="1080"/>
                    </a:lnTo>
                    <a:lnTo>
                      <a:pt x="755" y="1089"/>
                    </a:lnTo>
                    <a:lnTo>
                      <a:pt x="729" y="1098"/>
                    </a:lnTo>
                    <a:lnTo>
                      <a:pt x="702" y="1106"/>
                    </a:lnTo>
                    <a:lnTo>
                      <a:pt x="675" y="1112"/>
                    </a:lnTo>
                    <a:lnTo>
                      <a:pt x="647" y="1117"/>
                    </a:lnTo>
                    <a:lnTo>
                      <a:pt x="620" y="1121"/>
                    </a:lnTo>
                    <a:lnTo>
                      <a:pt x="591" y="1123"/>
                    </a:lnTo>
                    <a:lnTo>
                      <a:pt x="562" y="1123"/>
                    </a:lnTo>
                    <a:lnTo>
                      <a:pt x="533" y="1123"/>
                    </a:lnTo>
                    <a:lnTo>
                      <a:pt x="504" y="1121"/>
                    </a:lnTo>
                    <a:lnTo>
                      <a:pt x="477" y="1117"/>
                    </a:lnTo>
                    <a:lnTo>
                      <a:pt x="449" y="1112"/>
                    </a:lnTo>
                    <a:lnTo>
                      <a:pt x="422" y="1106"/>
                    </a:lnTo>
                    <a:lnTo>
                      <a:pt x="395" y="1098"/>
                    </a:lnTo>
                    <a:lnTo>
                      <a:pt x="369" y="1089"/>
                    </a:lnTo>
                    <a:lnTo>
                      <a:pt x="344" y="1080"/>
                    </a:lnTo>
                    <a:lnTo>
                      <a:pt x="318" y="1068"/>
                    </a:lnTo>
                    <a:lnTo>
                      <a:pt x="294" y="1056"/>
                    </a:lnTo>
                    <a:lnTo>
                      <a:pt x="272" y="1043"/>
                    </a:lnTo>
                    <a:lnTo>
                      <a:pt x="249" y="1027"/>
                    </a:lnTo>
                    <a:lnTo>
                      <a:pt x="226" y="1011"/>
                    </a:lnTo>
                    <a:lnTo>
                      <a:pt x="204" y="995"/>
                    </a:lnTo>
                    <a:lnTo>
                      <a:pt x="184" y="978"/>
                    </a:lnTo>
                    <a:lnTo>
                      <a:pt x="165" y="959"/>
                    </a:lnTo>
                    <a:lnTo>
                      <a:pt x="147" y="939"/>
                    </a:lnTo>
                    <a:lnTo>
                      <a:pt x="129" y="919"/>
                    </a:lnTo>
                    <a:lnTo>
                      <a:pt x="112" y="897"/>
                    </a:lnTo>
                    <a:lnTo>
                      <a:pt x="96" y="876"/>
                    </a:lnTo>
                    <a:lnTo>
                      <a:pt x="82" y="853"/>
                    </a:lnTo>
                    <a:lnTo>
                      <a:pt x="68" y="829"/>
                    </a:lnTo>
                    <a:lnTo>
                      <a:pt x="56" y="805"/>
                    </a:lnTo>
                    <a:lnTo>
                      <a:pt x="45" y="780"/>
                    </a:lnTo>
                    <a:lnTo>
                      <a:pt x="34" y="755"/>
                    </a:lnTo>
                    <a:lnTo>
                      <a:pt x="26" y="728"/>
                    </a:lnTo>
                    <a:lnTo>
                      <a:pt x="18" y="702"/>
                    </a:lnTo>
                    <a:lnTo>
                      <a:pt x="11" y="674"/>
                    </a:lnTo>
                    <a:lnTo>
                      <a:pt x="6" y="647"/>
                    </a:lnTo>
                    <a:lnTo>
                      <a:pt x="3" y="619"/>
                    </a:lnTo>
                    <a:lnTo>
                      <a:pt x="0" y="590"/>
                    </a:lnTo>
                    <a:lnTo>
                      <a:pt x="0" y="562"/>
                    </a:lnTo>
                    <a:lnTo>
                      <a:pt x="0" y="533"/>
                    </a:lnTo>
                    <a:lnTo>
                      <a:pt x="3" y="505"/>
                    </a:lnTo>
                    <a:lnTo>
                      <a:pt x="6" y="476"/>
                    </a:lnTo>
                    <a:lnTo>
                      <a:pt x="11" y="449"/>
                    </a:lnTo>
                    <a:lnTo>
                      <a:pt x="18" y="422"/>
                    </a:lnTo>
                    <a:lnTo>
                      <a:pt x="26" y="395"/>
                    </a:lnTo>
                    <a:lnTo>
                      <a:pt x="34" y="370"/>
                    </a:lnTo>
                    <a:lnTo>
                      <a:pt x="45" y="343"/>
                    </a:lnTo>
                    <a:lnTo>
                      <a:pt x="56" y="319"/>
                    </a:lnTo>
                    <a:lnTo>
                      <a:pt x="68" y="295"/>
                    </a:lnTo>
                    <a:lnTo>
                      <a:pt x="82" y="271"/>
                    </a:lnTo>
                    <a:lnTo>
                      <a:pt x="96" y="248"/>
                    </a:lnTo>
                    <a:lnTo>
                      <a:pt x="112" y="227"/>
                    </a:lnTo>
                    <a:lnTo>
                      <a:pt x="129" y="205"/>
                    </a:lnTo>
                    <a:lnTo>
                      <a:pt x="147" y="185"/>
                    </a:lnTo>
                    <a:lnTo>
                      <a:pt x="165" y="166"/>
                    </a:lnTo>
                    <a:lnTo>
                      <a:pt x="184" y="146"/>
                    </a:lnTo>
                    <a:lnTo>
                      <a:pt x="204" y="128"/>
                    </a:lnTo>
                    <a:lnTo>
                      <a:pt x="226" y="112"/>
                    </a:lnTo>
                    <a:lnTo>
                      <a:pt x="249" y="96"/>
                    </a:lnTo>
                    <a:lnTo>
                      <a:pt x="272" y="82"/>
                    </a:lnTo>
                    <a:lnTo>
                      <a:pt x="294" y="69"/>
                    </a:lnTo>
                    <a:lnTo>
                      <a:pt x="318" y="57"/>
                    </a:lnTo>
                    <a:lnTo>
                      <a:pt x="344" y="45"/>
                    </a:lnTo>
                    <a:lnTo>
                      <a:pt x="369" y="35"/>
                    </a:lnTo>
                    <a:lnTo>
                      <a:pt x="395" y="25"/>
                    </a:lnTo>
                    <a:lnTo>
                      <a:pt x="422" y="18"/>
                    </a:lnTo>
                    <a:lnTo>
                      <a:pt x="449" y="12"/>
                    </a:lnTo>
                    <a:lnTo>
                      <a:pt x="477" y="7"/>
                    </a:lnTo>
                    <a:lnTo>
                      <a:pt x="504" y="4"/>
                    </a:lnTo>
                    <a:lnTo>
                      <a:pt x="533" y="1"/>
                    </a:lnTo>
                    <a:lnTo>
                      <a:pt x="562" y="0"/>
                    </a:lnTo>
                    <a:close/>
                  </a:path>
                </a:pathLst>
              </a:custGeom>
              <a:solidFill>
                <a:srgbClr val="e79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565360" y="3209760"/>
                <a:ext cx="441360" cy="441360"/>
              </a:xfrm>
              <a:custGeom>
                <a:avLst/>
                <a:gdLst/>
                <a:ahLst/>
                <a:rect l="l" t="t" r="r" b="b"/>
                <a:pathLst>
                  <a:path w="1113" h="1112">
                    <a:moveTo>
                      <a:pt x="557" y="0"/>
                    </a:moveTo>
                    <a:lnTo>
                      <a:pt x="586" y="1"/>
                    </a:lnTo>
                    <a:lnTo>
                      <a:pt x="613" y="2"/>
                    </a:lnTo>
                    <a:lnTo>
                      <a:pt x="641" y="6"/>
                    </a:lnTo>
                    <a:lnTo>
                      <a:pt x="669" y="11"/>
                    </a:lnTo>
                    <a:lnTo>
                      <a:pt x="696" y="18"/>
                    </a:lnTo>
                    <a:lnTo>
                      <a:pt x="723" y="25"/>
                    </a:lnTo>
                    <a:lnTo>
                      <a:pt x="748" y="33"/>
                    </a:lnTo>
                    <a:lnTo>
                      <a:pt x="773" y="44"/>
                    </a:lnTo>
                    <a:lnTo>
                      <a:pt x="798" y="55"/>
                    </a:lnTo>
                    <a:lnTo>
                      <a:pt x="822" y="67"/>
                    </a:lnTo>
                    <a:lnTo>
                      <a:pt x="845" y="80"/>
                    </a:lnTo>
                    <a:lnTo>
                      <a:pt x="868" y="95"/>
                    </a:lnTo>
                    <a:lnTo>
                      <a:pt x="889" y="110"/>
                    </a:lnTo>
                    <a:lnTo>
                      <a:pt x="910" y="127"/>
                    </a:lnTo>
                    <a:lnTo>
                      <a:pt x="930" y="145"/>
                    </a:lnTo>
                    <a:lnTo>
                      <a:pt x="949" y="163"/>
                    </a:lnTo>
                    <a:lnTo>
                      <a:pt x="969" y="182"/>
                    </a:lnTo>
                    <a:lnTo>
                      <a:pt x="985" y="202"/>
                    </a:lnTo>
                    <a:lnTo>
                      <a:pt x="1002" y="223"/>
                    </a:lnTo>
                    <a:lnTo>
                      <a:pt x="1018" y="246"/>
                    </a:lnTo>
                    <a:lnTo>
                      <a:pt x="1032" y="267"/>
                    </a:lnTo>
                    <a:lnTo>
                      <a:pt x="1045" y="291"/>
                    </a:lnTo>
                    <a:lnTo>
                      <a:pt x="1059" y="315"/>
                    </a:lnTo>
                    <a:lnTo>
                      <a:pt x="1069" y="339"/>
                    </a:lnTo>
                    <a:lnTo>
                      <a:pt x="1079" y="364"/>
                    </a:lnTo>
                    <a:lnTo>
                      <a:pt x="1089" y="391"/>
                    </a:lnTo>
                    <a:lnTo>
                      <a:pt x="1096" y="417"/>
                    </a:lnTo>
                    <a:lnTo>
                      <a:pt x="1102" y="444"/>
                    </a:lnTo>
                    <a:lnTo>
                      <a:pt x="1107" y="471"/>
                    </a:lnTo>
                    <a:lnTo>
                      <a:pt x="1110" y="499"/>
                    </a:lnTo>
                    <a:lnTo>
                      <a:pt x="1113" y="528"/>
                    </a:lnTo>
                    <a:lnTo>
                      <a:pt x="1113" y="555"/>
                    </a:lnTo>
                    <a:lnTo>
                      <a:pt x="1113" y="584"/>
                    </a:lnTo>
                    <a:lnTo>
                      <a:pt x="1110" y="613"/>
                    </a:lnTo>
                    <a:lnTo>
                      <a:pt x="1107" y="640"/>
                    </a:lnTo>
                    <a:lnTo>
                      <a:pt x="1102" y="668"/>
                    </a:lnTo>
                    <a:lnTo>
                      <a:pt x="1096" y="694"/>
                    </a:lnTo>
                    <a:lnTo>
                      <a:pt x="1089" y="721"/>
                    </a:lnTo>
                    <a:lnTo>
                      <a:pt x="1079" y="747"/>
                    </a:lnTo>
                    <a:lnTo>
                      <a:pt x="1069" y="772"/>
                    </a:lnTo>
                    <a:lnTo>
                      <a:pt x="1059" y="796"/>
                    </a:lnTo>
                    <a:lnTo>
                      <a:pt x="1045" y="820"/>
                    </a:lnTo>
                    <a:lnTo>
                      <a:pt x="1032" y="844"/>
                    </a:lnTo>
                    <a:lnTo>
                      <a:pt x="1018" y="866"/>
                    </a:lnTo>
                    <a:lnTo>
                      <a:pt x="1002" y="887"/>
                    </a:lnTo>
                    <a:lnTo>
                      <a:pt x="985" y="909"/>
                    </a:lnTo>
                    <a:lnTo>
                      <a:pt x="969" y="929"/>
                    </a:lnTo>
                    <a:lnTo>
                      <a:pt x="949" y="949"/>
                    </a:lnTo>
                    <a:lnTo>
                      <a:pt x="930" y="967"/>
                    </a:lnTo>
                    <a:lnTo>
                      <a:pt x="910" y="985"/>
                    </a:lnTo>
                    <a:lnTo>
                      <a:pt x="889" y="1001"/>
                    </a:lnTo>
                    <a:lnTo>
                      <a:pt x="868" y="1017"/>
                    </a:lnTo>
                    <a:lnTo>
                      <a:pt x="845" y="1031"/>
                    </a:lnTo>
                    <a:lnTo>
                      <a:pt x="822" y="1045"/>
                    </a:lnTo>
                    <a:lnTo>
                      <a:pt x="798" y="1057"/>
                    </a:lnTo>
                    <a:lnTo>
                      <a:pt x="773" y="1067"/>
                    </a:lnTo>
                    <a:lnTo>
                      <a:pt x="748" y="1078"/>
                    </a:lnTo>
                    <a:lnTo>
                      <a:pt x="723" y="1087"/>
                    </a:lnTo>
                    <a:lnTo>
                      <a:pt x="696" y="1094"/>
                    </a:lnTo>
                    <a:lnTo>
                      <a:pt x="669" y="1101"/>
                    </a:lnTo>
                    <a:lnTo>
                      <a:pt x="641" y="1106"/>
                    </a:lnTo>
                    <a:lnTo>
                      <a:pt x="613" y="1109"/>
                    </a:lnTo>
                    <a:lnTo>
                      <a:pt x="586" y="1111"/>
                    </a:lnTo>
                    <a:lnTo>
                      <a:pt x="557" y="1112"/>
                    </a:lnTo>
                    <a:lnTo>
                      <a:pt x="528" y="1111"/>
                    </a:lnTo>
                    <a:lnTo>
                      <a:pt x="501" y="1109"/>
                    </a:lnTo>
                    <a:lnTo>
                      <a:pt x="473" y="1106"/>
                    </a:lnTo>
                    <a:lnTo>
                      <a:pt x="445" y="1101"/>
                    </a:lnTo>
                    <a:lnTo>
                      <a:pt x="418" y="1094"/>
                    </a:lnTo>
                    <a:lnTo>
                      <a:pt x="391" y="1087"/>
                    </a:lnTo>
                    <a:lnTo>
                      <a:pt x="366" y="1078"/>
                    </a:lnTo>
                    <a:lnTo>
                      <a:pt x="341" y="1067"/>
                    </a:lnTo>
                    <a:lnTo>
                      <a:pt x="316" y="1057"/>
                    </a:lnTo>
                    <a:lnTo>
                      <a:pt x="292" y="1045"/>
                    </a:lnTo>
                    <a:lnTo>
                      <a:pt x="269" y="1031"/>
                    </a:lnTo>
                    <a:lnTo>
                      <a:pt x="246" y="1017"/>
                    </a:lnTo>
                    <a:lnTo>
                      <a:pt x="225" y="1001"/>
                    </a:lnTo>
                    <a:lnTo>
                      <a:pt x="203" y="985"/>
                    </a:lnTo>
                    <a:lnTo>
                      <a:pt x="184" y="967"/>
                    </a:lnTo>
                    <a:lnTo>
                      <a:pt x="163" y="949"/>
                    </a:lnTo>
                    <a:lnTo>
                      <a:pt x="145" y="929"/>
                    </a:lnTo>
                    <a:lnTo>
                      <a:pt x="129" y="909"/>
                    </a:lnTo>
                    <a:lnTo>
                      <a:pt x="112" y="887"/>
                    </a:lnTo>
                    <a:lnTo>
                      <a:pt x="96" y="866"/>
                    </a:lnTo>
                    <a:lnTo>
                      <a:pt x="82" y="844"/>
                    </a:lnTo>
                    <a:lnTo>
                      <a:pt x="69" y="820"/>
                    </a:lnTo>
                    <a:lnTo>
                      <a:pt x="55" y="796"/>
                    </a:lnTo>
                    <a:lnTo>
                      <a:pt x="45" y="772"/>
                    </a:lnTo>
                    <a:lnTo>
                      <a:pt x="35" y="747"/>
                    </a:lnTo>
                    <a:lnTo>
                      <a:pt x="25" y="721"/>
                    </a:lnTo>
                    <a:lnTo>
                      <a:pt x="18" y="694"/>
                    </a:lnTo>
                    <a:lnTo>
                      <a:pt x="12" y="668"/>
                    </a:lnTo>
                    <a:lnTo>
                      <a:pt x="7" y="640"/>
                    </a:lnTo>
                    <a:lnTo>
                      <a:pt x="4" y="613"/>
                    </a:lnTo>
                    <a:lnTo>
                      <a:pt x="1" y="584"/>
                    </a:lnTo>
                    <a:lnTo>
                      <a:pt x="0" y="555"/>
                    </a:lnTo>
                    <a:lnTo>
                      <a:pt x="1" y="528"/>
                    </a:lnTo>
                    <a:lnTo>
                      <a:pt x="4" y="499"/>
                    </a:lnTo>
                    <a:lnTo>
                      <a:pt x="7" y="471"/>
                    </a:lnTo>
                    <a:lnTo>
                      <a:pt x="12" y="444"/>
                    </a:lnTo>
                    <a:lnTo>
                      <a:pt x="18" y="417"/>
                    </a:lnTo>
                    <a:lnTo>
                      <a:pt x="25" y="391"/>
                    </a:lnTo>
                    <a:lnTo>
                      <a:pt x="35" y="364"/>
                    </a:lnTo>
                    <a:lnTo>
                      <a:pt x="45" y="339"/>
                    </a:lnTo>
                    <a:lnTo>
                      <a:pt x="55" y="315"/>
                    </a:lnTo>
                    <a:lnTo>
                      <a:pt x="69" y="291"/>
                    </a:lnTo>
                    <a:lnTo>
                      <a:pt x="82" y="267"/>
                    </a:lnTo>
                    <a:lnTo>
                      <a:pt x="96" y="246"/>
                    </a:lnTo>
                    <a:lnTo>
                      <a:pt x="112" y="223"/>
                    </a:lnTo>
                    <a:lnTo>
                      <a:pt x="129" y="202"/>
                    </a:lnTo>
                    <a:lnTo>
                      <a:pt x="145" y="182"/>
                    </a:lnTo>
                    <a:lnTo>
                      <a:pt x="163" y="163"/>
                    </a:lnTo>
                    <a:lnTo>
                      <a:pt x="184" y="145"/>
                    </a:lnTo>
                    <a:lnTo>
                      <a:pt x="203" y="127"/>
                    </a:lnTo>
                    <a:lnTo>
                      <a:pt x="225" y="110"/>
                    </a:lnTo>
                    <a:lnTo>
                      <a:pt x="246" y="95"/>
                    </a:lnTo>
                    <a:lnTo>
                      <a:pt x="269" y="80"/>
                    </a:lnTo>
                    <a:lnTo>
                      <a:pt x="292" y="67"/>
                    </a:lnTo>
                    <a:lnTo>
                      <a:pt x="316" y="55"/>
                    </a:lnTo>
                    <a:lnTo>
                      <a:pt x="341" y="44"/>
                    </a:lnTo>
                    <a:lnTo>
                      <a:pt x="366" y="33"/>
                    </a:lnTo>
                    <a:lnTo>
                      <a:pt x="391" y="25"/>
                    </a:lnTo>
                    <a:lnTo>
                      <a:pt x="418" y="18"/>
                    </a:lnTo>
                    <a:lnTo>
                      <a:pt x="445" y="11"/>
                    </a:lnTo>
                    <a:lnTo>
                      <a:pt x="473" y="6"/>
                    </a:lnTo>
                    <a:lnTo>
                      <a:pt x="501" y="2"/>
                    </a:lnTo>
                    <a:lnTo>
                      <a:pt x="528" y="1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ec9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568600" y="3214800"/>
                <a:ext cx="436320" cy="436320"/>
              </a:xfrm>
              <a:custGeom>
                <a:avLst/>
                <a:gdLst/>
                <a:ahLst/>
                <a:rect l="l" t="t" r="r" b="b"/>
                <a:pathLst>
                  <a:path w="1102" h="1100">
                    <a:moveTo>
                      <a:pt x="551" y="0"/>
                    </a:moveTo>
                    <a:lnTo>
                      <a:pt x="579" y="0"/>
                    </a:lnTo>
                    <a:lnTo>
                      <a:pt x="607" y="3"/>
                    </a:lnTo>
                    <a:lnTo>
                      <a:pt x="635" y="6"/>
                    </a:lnTo>
                    <a:lnTo>
                      <a:pt x="661" y="11"/>
                    </a:lnTo>
                    <a:lnTo>
                      <a:pt x="688" y="17"/>
                    </a:lnTo>
                    <a:lnTo>
                      <a:pt x="714" y="24"/>
                    </a:lnTo>
                    <a:lnTo>
                      <a:pt x="739" y="34"/>
                    </a:lnTo>
                    <a:lnTo>
                      <a:pt x="765" y="44"/>
                    </a:lnTo>
                    <a:lnTo>
                      <a:pt x="790" y="54"/>
                    </a:lnTo>
                    <a:lnTo>
                      <a:pt x="813" y="66"/>
                    </a:lnTo>
                    <a:lnTo>
                      <a:pt x="837" y="80"/>
                    </a:lnTo>
                    <a:lnTo>
                      <a:pt x="858" y="94"/>
                    </a:lnTo>
                    <a:lnTo>
                      <a:pt x="880" y="109"/>
                    </a:lnTo>
                    <a:lnTo>
                      <a:pt x="901" y="126"/>
                    </a:lnTo>
                    <a:lnTo>
                      <a:pt x="921" y="143"/>
                    </a:lnTo>
                    <a:lnTo>
                      <a:pt x="940" y="161"/>
                    </a:lnTo>
                    <a:lnTo>
                      <a:pt x="958" y="180"/>
                    </a:lnTo>
                    <a:lnTo>
                      <a:pt x="976" y="201"/>
                    </a:lnTo>
                    <a:lnTo>
                      <a:pt x="991" y="221"/>
                    </a:lnTo>
                    <a:lnTo>
                      <a:pt x="1007" y="243"/>
                    </a:lnTo>
                    <a:lnTo>
                      <a:pt x="1021" y="265"/>
                    </a:lnTo>
                    <a:lnTo>
                      <a:pt x="1035" y="288"/>
                    </a:lnTo>
                    <a:lnTo>
                      <a:pt x="1047" y="312"/>
                    </a:lnTo>
                    <a:lnTo>
                      <a:pt x="1059" y="336"/>
                    </a:lnTo>
                    <a:lnTo>
                      <a:pt x="1068" y="361"/>
                    </a:lnTo>
                    <a:lnTo>
                      <a:pt x="1077" y="387"/>
                    </a:lnTo>
                    <a:lnTo>
                      <a:pt x="1084" y="413"/>
                    </a:lnTo>
                    <a:lnTo>
                      <a:pt x="1090" y="439"/>
                    </a:lnTo>
                    <a:lnTo>
                      <a:pt x="1095" y="467"/>
                    </a:lnTo>
                    <a:lnTo>
                      <a:pt x="1098" y="495"/>
                    </a:lnTo>
                    <a:lnTo>
                      <a:pt x="1101" y="522"/>
                    </a:lnTo>
                    <a:lnTo>
                      <a:pt x="1102" y="551"/>
                    </a:lnTo>
                    <a:lnTo>
                      <a:pt x="1101" y="579"/>
                    </a:lnTo>
                    <a:lnTo>
                      <a:pt x="1098" y="606"/>
                    </a:lnTo>
                    <a:lnTo>
                      <a:pt x="1095" y="634"/>
                    </a:lnTo>
                    <a:lnTo>
                      <a:pt x="1090" y="661"/>
                    </a:lnTo>
                    <a:lnTo>
                      <a:pt x="1084" y="688"/>
                    </a:lnTo>
                    <a:lnTo>
                      <a:pt x="1077" y="714"/>
                    </a:lnTo>
                    <a:lnTo>
                      <a:pt x="1068" y="739"/>
                    </a:lnTo>
                    <a:lnTo>
                      <a:pt x="1059" y="765"/>
                    </a:lnTo>
                    <a:lnTo>
                      <a:pt x="1047" y="789"/>
                    </a:lnTo>
                    <a:lnTo>
                      <a:pt x="1035" y="813"/>
                    </a:lnTo>
                    <a:lnTo>
                      <a:pt x="1021" y="835"/>
                    </a:lnTo>
                    <a:lnTo>
                      <a:pt x="1007" y="858"/>
                    </a:lnTo>
                    <a:lnTo>
                      <a:pt x="991" y="880"/>
                    </a:lnTo>
                    <a:lnTo>
                      <a:pt x="976" y="900"/>
                    </a:lnTo>
                    <a:lnTo>
                      <a:pt x="958" y="920"/>
                    </a:lnTo>
                    <a:lnTo>
                      <a:pt x="940" y="940"/>
                    </a:lnTo>
                    <a:lnTo>
                      <a:pt x="921" y="958"/>
                    </a:lnTo>
                    <a:lnTo>
                      <a:pt x="901" y="974"/>
                    </a:lnTo>
                    <a:lnTo>
                      <a:pt x="880" y="991"/>
                    </a:lnTo>
                    <a:lnTo>
                      <a:pt x="858" y="1007"/>
                    </a:lnTo>
                    <a:lnTo>
                      <a:pt x="837" y="1021"/>
                    </a:lnTo>
                    <a:lnTo>
                      <a:pt x="813" y="1034"/>
                    </a:lnTo>
                    <a:lnTo>
                      <a:pt x="790" y="1046"/>
                    </a:lnTo>
                    <a:lnTo>
                      <a:pt x="765" y="1057"/>
                    </a:lnTo>
                    <a:lnTo>
                      <a:pt x="739" y="1068"/>
                    </a:lnTo>
                    <a:lnTo>
                      <a:pt x="714" y="1076"/>
                    </a:lnTo>
                    <a:lnTo>
                      <a:pt x="688" y="1084"/>
                    </a:lnTo>
                    <a:lnTo>
                      <a:pt x="661" y="1090"/>
                    </a:lnTo>
                    <a:lnTo>
                      <a:pt x="635" y="1094"/>
                    </a:lnTo>
                    <a:lnTo>
                      <a:pt x="607" y="1098"/>
                    </a:lnTo>
                    <a:lnTo>
                      <a:pt x="579" y="1100"/>
                    </a:lnTo>
                    <a:lnTo>
                      <a:pt x="551" y="1100"/>
                    </a:lnTo>
                    <a:lnTo>
                      <a:pt x="522" y="1100"/>
                    </a:lnTo>
                    <a:lnTo>
                      <a:pt x="495" y="1098"/>
                    </a:lnTo>
                    <a:lnTo>
                      <a:pt x="467" y="1094"/>
                    </a:lnTo>
                    <a:lnTo>
                      <a:pt x="441" y="1090"/>
                    </a:lnTo>
                    <a:lnTo>
                      <a:pt x="413" y="1084"/>
                    </a:lnTo>
                    <a:lnTo>
                      <a:pt x="388" y="1076"/>
                    </a:lnTo>
                    <a:lnTo>
                      <a:pt x="361" y="1068"/>
                    </a:lnTo>
                    <a:lnTo>
                      <a:pt x="337" y="1057"/>
                    </a:lnTo>
                    <a:lnTo>
                      <a:pt x="312" y="1046"/>
                    </a:lnTo>
                    <a:lnTo>
                      <a:pt x="289" y="1034"/>
                    </a:lnTo>
                    <a:lnTo>
                      <a:pt x="265" y="1021"/>
                    </a:lnTo>
                    <a:lnTo>
                      <a:pt x="244" y="1007"/>
                    </a:lnTo>
                    <a:lnTo>
                      <a:pt x="222" y="991"/>
                    </a:lnTo>
                    <a:lnTo>
                      <a:pt x="201" y="974"/>
                    </a:lnTo>
                    <a:lnTo>
                      <a:pt x="181" y="958"/>
                    </a:lnTo>
                    <a:lnTo>
                      <a:pt x="162" y="940"/>
                    </a:lnTo>
                    <a:lnTo>
                      <a:pt x="144" y="920"/>
                    </a:lnTo>
                    <a:lnTo>
                      <a:pt x="126" y="900"/>
                    </a:lnTo>
                    <a:lnTo>
                      <a:pt x="109" y="880"/>
                    </a:lnTo>
                    <a:lnTo>
                      <a:pt x="95" y="858"/>
                    </a:lnTo>
                    <a:lnTo>
                      <a:pt x="81" y="835"/>
                    </a:lnTo>
                    <a:lnTo>
                      <a:pt x="67" y="813"/>
                    </a:lnTo>
                    <a:lnTo>
                      <a:pt x="54" y="789"/>
                    </a:lnTo>
                    <a:lnTo>
                      <a:pt x="43" y="765"/>
                    </a:lnTo>
                    <a:lnTo>
                      <a:pt x="34" y="739"/>
                    </a:lnTo>
                    <a:lnTo>
                      <a:pt x="25" y="714"/>
                    </a:lnTo>
                    <a:lnTo>
                      <a:pt x="18" y="688"/>
                    </a:lnTo>
                    <a:lnTo>
                      <a:pt x="11" y="661"/>
                    </a:lnTo>
                    <a:lnTo>
                      <a:pt x="6" y="634"/>
                    </a:lnTo>
                    <a:lnTo>
                      <a:pt x="3" y="606"/>
                    </a:lnTo>
                    <a:lnTo>
                      <a:pt x="1" y="579"/>
                    </a:lnTo>
                    <a:lnTo>
                      <a:pt x="0" y="551"/>
                    </a:lnTo>
                    <a:lnTo>
                      <a:pt x="1" y="522"/>
                    </a:lnTo>
                    <a:lnTo>
                      <a:pt x="3" y="495"/>
                    </a:lnTo>
                    <a:lnTo>
                      <a:pt x="6" y="467"/>
                    </a:lnTo>
                    <a:lnTo>
                      <a:pt x="11" y="439"/>
                    </a:lnTo>
                    <a:lnTo>
                      <a:pt x="18" y="413"/>
                    </a:lnTo>
                    <a:lnTo>
                      <a:pt x="25" y="387"/>
                    </a:lnTo>
                    <a:lnTo>
                      <a:pt x="34" y="361"/>
                    </a:lnTo>
                    <a:lnTo>
                      <a:pt x="43" y="336"/>
                    </a:lnTo>
                    <a:lnTo>
                      <a:pt x="54" y="312"/>
                    </a:lnTo>
                    <a:lnTo>
                      <a:pt x="67" y="288"/>
                    </a:lnTo>
                    <a:lnTo>
                      <a:pt x="81" y="265"/>
                    </a:lnTo>
                    <a:lnTo>
                      <a:pt x="95" y="243"/>
                    </a:lnTo>
                    <a:lnTo>
                      <a:pt x="109" y="221"/>
                    </a:lnTo>
                    <a:lnTo>
                      <a:pt x="126" y="201"/>
                    </a:lnTo>
                    <a:lnTo>
                      <a:pt x="144" y="180"/>
                    </a:lnTo>
                    <a:lnTo>
                      <a:pt x="162" y="161"/>
                    </a:lnTo>
                    <a:lnTo>
                      <a:pt x="181" y="143"/>
                    </a:lnTo>
                    <a:lnTo>
                      <a:pt x="201" y="126"/>
                    </a:lnTo>
                    <a:lnTo>
                      <a:pt x="222" y="109"/>
                    </a:lnTo>
                    <a:lnTo>
                      <a:pt x="244" y="94"/>
                    </a:lnTo>
                    <a:lnTo>
                      <a:pt x="265" y="80"/>
                    </a:lnTo>
                    <a:lnTo>
                      <a:pt x="289" y="66"/>
                    </a:lnTo>
                    <a:lnTo>
                      <a:pt x="312" y="54"/>
                    </a:lnTo>
                    <a:lnTo>
                      <a:pt x="337" y="44"/>
                    </a:lnTo>
                    <a:lnTo>
                      <a:pt x="361" y="34"/>
                    </a:lnTo>
                    <a:lnTo>
                      <a:pt x="388" y="24"/>
                    </a:lnTo>
                    <a:lnTo>
                      <a:pt x="413" y="17"/>
                    </a:lnTo>
                    <a:lnTo>
                      <a:pt x="441" y="11"/>
                    </a:lnTo>
                    <a:lnTo>
                      <a:pt x="467" y="6"/>
                    </a:lnTo>
                    <a:lnTo>
                      <a:pt x="495" y="3"/>
                    </a:lnTo>
                    <a:lnTo>
                      <a:pt x="522" y="0"/>
                    </a:lnTo>
                    <a:lnTo>
                      <a:pt x="551" y="0"/>
                    </a:lnTo>
                    <a:close/>
                  </a:path>
                </a:pathLst>
              </a:custGeom>
              <a:solidFill>
                <a:srgbClr val="f2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663640" y="3322800"/>
                <a:ext cx="292320" cy="303120"/>
              </a:xfrm>
              <a:custGeom>
                <a:avLst/>
                <a:gdLst/>
                <a:ahLst/>
                <a:rect l="l" t="t" r="r" b="b"/>
                <a:pathLst>
                  <a:path w="736" h="763">
                    <a:moveTo>
                      <a:pt x="369" y="0"/>
                    </a:moveTo>
                    <a:lnTo>
                      <a:pt x="387" y="1"/>
                    </a:lnTo>
                    <a:lnTo>
                      <a:pt x="406" y="2"/>
                    </a:lnTo>
                    <a:lnTo>
                      <a:pt x="424" y="5"/>
                    </a:lnTo>
                    <a:lnTo>
                      <a:pt x="442" y="8"/>
                    </a:lnTo>
                    <a:lnTo>
                      <a:pt x="460" y="13"/>
                    </a:lnTo>
                    <a:lnTo>
                      <a:pt x="478" y="18"/>
                    </a:lnTo>
                    <a:lnTo>
                      <a:pt x="495" y="24"/>
                    </a:lnTo>
                    <a:lnTo>
                      <a:pt x="512" y="31"/>
                    </a:lnTo>
                    <a:lnTo>
                      <a:pt x="527" y="38"/>
                    </a:lnTo>
                    <a:lnTo>
                      <a:pt x="544" y="47"/>
                    </a:lnTo>
                    <a:lnTo>
                      <a:pt x="558" y="56"/>
                    </a:lnTo>
                    <a:lnTo>
                      <a:pt x="574" y="66"/>
                    </a:lnTo>
                    <a:lnTo>
                      <a:pt x="588" y="77"/>
                    </a:lnTo>
                    <a:lnTo>
                      <a:pt x="602" y="88"/>
                    </a:lnTo>
                    <a:lnTo>
                      <a:pt x="615" y="100"/>
                    </a:lnTo>
                    <a:lnTo>
                      <a:pt x="628" y="113"/>
                    </a:lnTo>
                    <a:lnTo>
                      <a:pt x="640" y="126"/>
                    </a:lnTo>
                    <a:lnTo>
                      <a:pt x="652" y="139"/>
                    </a:lnTo>
                    <a:lnTo>
                      <a:pt x="663" y="154"/>
                    </a:lnTo>
                    <a:lnTo>
                      <a:pt x="674" y="169"/>
                    </a:lnTo>
                    <a:lnTo>
                      <a:pt x="683" y="185"/>
                    </a:lnTo>
                    <a:lnTo>
                      <a:pt x="692" y="200"/>
                    </a:lnTo>
                    <a:lnTo>
                      <a:pt x="700" y="217"/>
                    </a:lnTo>
                    <a:lnTo>
                      <a:pt x="707" y="234"/>
                    </a:lnTo>
                    <a:lnTo>
                      <a:pt x="713" y="251"/>
                    </a:lnTo>
                    <a:lnTo>
                      <a:pt x="719" y="269"/>
                    </a:lnTo>
                    <a:lnTo>
                      <a:pt x="724" y="287"/>
                    </a:lnTo>
                    <a:lnTo>
                      <a:pt x="729" y="305"/>
                    </a:lnTo>
                    <a:lnTo>
                      <a:pt x="732" y="324"/>
                    </a:lnTo>
                    <a:lnTo>
                      <a:pt x="735" y="343"/>
                    </a:lnTo>
                    <a:lnTo>
                      <a:pt x="736" y="362"/>
                    </a:lnTo>
                    <a:lnTo>
                      <a:pt x="736" y="382"/>
                    </a:lnTo>
                    <a:lnTo>
                      <a:pt x="736" y="402"/>
                    </a:lnTo>
                    <a:lnTo>
                      <a:pt x="735" y="421"/>
                    </a:lnTo>
                    <a:lnTo>
                      <a:pt x="732" y="440"/>
                    </a:lnTo>
                    <a:lnTo>
                      <a:pt x="729" y="458"/>
                    </a:lnTo>
                    <a:lnTo>
                      <a:pt x="724" y="478"/>
                    </a:lnTo>
                    <a:lnTo>
                      <a:pt x="719" y="496"/>
                    </a:lnTo>
                    <a:lnTo>
                      <a:pt x="713" y="514"/>
                    </a:lnTo>
                    <a:lnTo>
                      <a:pt x="707" y="530"/>
                    </a:lnTo>
                    <a:lnTo>
                      <a:pt x="700" y="547"/>
                    </a:lnTo>
                    <a:lnTo>
                      <a:pt x="692" y="564"/>
                    </a:lnTo>
                    <a:lnTo>
                      <a:pt x="683" y="579"/>
                    </a:lnTo>
                    <a:lnTo>
                      <a:pt x="674" y="595"/>
                    </a:lnTo>
                    <a:lnTo>
                      <a:pt x="663" y="609"/>
                    </a:lnTo>
                    <a:lnTo>
                      <a:pt x="652" y="624"/>
                    </a:lnTo>
                    <a:lnTo>
                      <a:pt x="640" y="638"/>
                    </a:lnTo>
                    <a:lnTo>
                      <a:pt x="628" y="651"/>
                    </a:lnTo>
                    <a:lnTo>
                      <a:pt x="615" y="665"/>
                    </a:lnTo>
                    <a:lnTo>
                      <a:pt x="602" y="677"/>
                    </a:lnTo>
                    <a:lnTo>
                      <a:pt x="588" y="687"/>
                    </a:lnTo>
                    <a:lnTo>
                      <a:pt x="574" y="698"/>
                    </a:lnTo>
                    <a:lnTo>
                      <a:pt x="558" y="708"/>
                    </a:lnTo>
                    <a:lnTo>
                      <a:pt x="544" y="717"/>
                    </a:lnTo>
                    <a:lnTo>
                      <a:pt x="527" y="726"/>
                    </a:lnTo>
                    <a:lnTo>
                      <a:pt x="512" y="733"/>
                    </a:lnTo>
                    <a:lnTo>
                      <a:pt x="495" y="740"/>
                    </a:lnTo>
                    <a:lnTo>
                      <a:pt x="478" y="746"/>
                    </a:lnTo>
                    <a:lnTo>
                      <a:pt x="460" y="751"/>
                    </a:lnTo>
                    <a:lnTo>
                      <a:pt x="442" y="756"/>
                    </a:lnTo>
                    <a:lnTo>
                      <a:pt x="424" y="759"/>
                    </a:lnTo>
                    <a:lnTo>
                      <a:pt x="406" y="762"/>
                    </a:lnTo>
                    <a:lnTo>
                      <a:pt x="387" y="763"/>
                    </a:lnTo>
                    <a:lnTo>
                      <a:pt x="369" y="763"/>
                    </a:lnTo>
                    <a:lnTo>
                      <a:pt x="350" y="763"/>
                    </a:lnTo>
                    <a:lnTo>
                      <a:pt x="330" y="762"/>
                    </a:lnTo>
                    <a:lnTo>
                      <a:pt x="312" y="759"/>
                    </a:lnTo>
                    <a:lnTo>
                      <a:pt x="294" y="756"/>
                    </a:lnTo>
                    <a:lnTo>
                      <a:pt x="276" y="751"/>
                    </a:lnTo>
                    <a:lnTo>
                      <a:pt x="260" y="746"/>
                    </a:lnTo>
                    <a:lnTo>
                      <a:pt x="242" y="740"/>
                    </a:lnTo>
                    <a:lnTo>
                      <a:pt x="226" y="733"/>
                    </a:lnTo>
                    <a:lnTo>
                      <a:pt x="209" y="726"/>
                    </a:lnTo>
                    <a:lnTo>
                      <a:pt x="194" y="717"/>
                    </a:lnTo>
                    <a:lnTo>
                      <a:pt x="178" y="708"/>
                    </a:lnTo>
                    <a:lnTo>
                      <a:pt x="162" y="698"/>
                    </a:lnTo>
                    <a:lnTo>
                      <a:pt x="148" y="687"/>
                    </a:lnTo>
                    <a:lnTo>
                      <a:pt x="135" y="677"/>
                    </a:lnTo>
                    <a:lnTo>
                      <a:pt x="122" y="665"/>
                    </a:lnTo>
                    <a:lnTo>
                      <a:pt x="108" y="651"/>
                    </a:lnTo>
                    <a:lnTo>
                      <a:pt x="96" y="638"/>
                    </a:lnTo>
                    <a:lnTo>
                      <a:pt x="84" y="624"/>
                    </a:lnTo>
                    <a:lnTo>
                      <a:pt x="74" y="609"/>
                    </a:lnTo>
                    <a:lnTo>
                      <a:pt x="64" y="595"/>
                    </a:lnTo>
                    <a:lnTo>
                      <a:pt x="54" y="579"/>
                    </a:lnTo>
                    <a:lnTo>
                      <a:pt x="45" y="564"/>
                    </a:lnTo>
                    <a:lnTo>
                      <a:pt x="36" y="547"/>
                    </a:lnTo>
                    <a:lnTo>
                      <a:pt x="29" y="530"/>
                    </a:lnTo>
                    <a:lnTo>
                      <a:pt x="23" y="514"/>
                    </a:lnTo>
                    <a:lnTo>
                      <a:pt x="17" y="496"/>
                    </a:lnTo>
                    <a:lnTo>
                      <a:pt x="12" y="478"/>
                    </a:lnTo>
                    <a:lnTo>
                      <a:pt x="8" y="458"/>
                    </a:lnTo>
                    <a:lnTo>
                      <a:pt x="5" y="440"/>
                    </a:lnTo>
                    <a:lnTo>
                      <a:pt x="3" y="421"/>
                    </a:lnTo>
                    <a:lnTo>
                      <a:pt x="2" y="402"/>
                    </a:lnTo>
                    <a:lnTo>
                      <a:pt x="0" y="382"/>
                    </a:lnTo>
                    <a:lnTo>
                      <a:pt x="2" y="362"/>
                    </a:lnTo>
                    <a:lnTo>
                      <a:pt x="3" y="343"/>
                    </a:lnTo>
                    <a:lnTo>
                      <a:pt x="5" y="324"/>
                    </a:lnTo>
                    <a:lnTo>
                      <a:pt x="8" y="305"/>
                    </a:lnTo>
                    <a:lnTo>
                      <a:pt x="12" y="287"/>
                    </a:lnTo>
                    <a:lnTo>
                      <a:pt x="17" y="269"/>
                    </a:lnTo>
                    <a:lnTo>
                      <a:pt x="23" y="251"/>
                    </a:lnTo>
                    <a:lnTo>
                      <a:pt x="29" y="234"/>
                    </a:lnTo>
                    <a:lnTo>
                      <a:pt x="36" y="217"/>
                    </a:lnTo>
                    <a:lnTo>
                      <a:pt x="45" y="200"/>
                    </a:lnTo>
                    <a:lnTo>
                      <a:pt x="54" y="185"/>
                    </a:lnTo>
                    <a:lnTo>
                      <a:pt x="64" y="169"/>
                    </a:lnTo>
                    <a:lnTo>
                      <a:pt x="74" y="154"/>
                    </a:lnTo>
                    <a:lnTo>
                      <a:pt x="84" y="139"/>
                    </a:lnTo>
                    <a:lnTo>
                      <a:pt x="96" y="126"/>
                    </a:lnTo>
                    <a:lnTo>
                      <a:pt x="108" y="113"/>
                    </a:lnTo>
                    <a:lnTo>
                      <a:pt x="122" y="100"/>
                    </a:lnTo>
                    <a:lnTo>
                      <a:pt x="135" y="88"/>
                    </a:lnTo>
                    <a:lnTo>
                      <a:pt x="148" y="77"/>
                    </a:lnTo>
                    <a:lnTo>
                      <a:pt x="162" y="66"/>
                    </a:lnTo>
                    <a:lnTo>
                      <a:pt x="178" y="56"/>
                    </a:lnTo>
                    <a:lnTo>
                      <a:pt x="194" y="47"/>
                    </a:lnTo>
                    <a:lnTo>
                      <a:pt x="209" y="38"/>
                    </a:lnTo>
                    <a:lnTo>
                      <a:pt x="226" y="31"/>
                    </a:lnTo>
                    <a:lnTo>
                      <a:pt x="242" y="24"/>
                    </a:lnTo>
                    <a:lnTo>
                      <a:pt x="260" y="18"/>
                    </a:lnTo>
                    <a:lnTo>
                      <a:pt x="276" y="13"/>
                    </a:lnTo>
                    <a:lnTo>
                      <a:pt x="294" y="8"/>
                    </a:lnTo>
                    <a:lnTo>
                      <a:pt x="312" y="5"/>
                    </a:lnTo>
                    <a:lnTo>
                      <a:pt x="330" y="2"/>
                    </a:lnTo>
                    <a:lnTo>
                      <a:pt x="350" y="1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926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09800" y="3316320"/>
                <a:ext cx="154080" cy="158760"/>
              </a:xfrm>
              <a:custGeom>
                <a:avLst/>
                <a:gdLst/>
                <a:ahLst/>
                <a:rect l="l" t="t" r="r" b="b"/>
                <a:pathLst>
                  <a:path w="385" h="399">
                    <a:moveTo>
                      <a:pt x="385" y="399"/>
                    </a:moveTo>
                    <a:lnTo>
                      <a:pt x="385" y="399"/>
                    </a:lnTo>
                    <a:lnTo>
                      <a:pt x="384" y="378"/>
                    </a:lnTo>
                    <a:lnTo>
                      <a:pt x="383" y="359"/>
                    </a:lnTo>
                    <a:lnTo>
                      <a:pt x="380" y="339"/>
                    </a:lnTo>
                    <a:lnTo>
                      <a:pt x="377" y="319"/>
                    </a:lnTo>
                    <a:lnTo>
                      <a:pt x="372" y="300"/>
                    </a:lnTo>
                    <a:lnTo>
                      <a:pt x="367" y="281"/>
                    </a:lnTo>
                    <a:lnTo>
                      <a:pt x="361" y="262"/>
                    </a:lnTo>
                    <a:lnTo>
                      <a:pt x="354" y="244"/>
                    </a:lnTo>
                    <a:lnTo>
                      <a:pt x="347" y="227"/>
                    </a:lnTo>
                    <a:lnTo>
                      <a:pt x="338" y="209"/>
                    </a:lnTo>
                    <a:lnTo>
                      <a:pt x="329" y="192"/>
                    </a:lnTo>
                    <a:lnTo>
                      <a:pt x="319" y="177"/>
                    </a:lnTo>
                    <a:lnTo>
                      <a:pt x="308" y="161"/>
                    </a:lnTo>
                    <a:lnTo>
                      <a:pt x="296" y="145"/>
                    </a:lnTo>
                    <a:lnTo>
                      <a:pt x="284" y="131"/>
                    </a:lnTo>
                    <a:lnTo>
                      <a:pt x="272" y="118"/>
                    </a:lnTo>
                    <a:lnTo>
                      <a:pt x="258" y="105"/>
                    </a:lnTo>
                    <a:lnTo>
                      <a:pt x="245" y="91"/>
                    </a:lnTo>
                    <a:lnTo>
                      <a:pt x="230" y="79"/>
                    </a:lnTo>
                    <a:lnTo>
                      <a:pt x="215" y="69"/>
                    </a:lnTo>
                    <a:lnTo>
                      <a:pt x="199" y="58"/>
                    </a:lnTo>
                    <a:lnTo>
                      <a:pt x="183" y="48"/>
                    </a:lnTo>
                    <a:lnTo>
                      <a:pt x="167" y="40"/>
                    </a:lnTo>
                    <a:lnTo>
                      <a:pt x="150" y="31"/>
                    </a:lnTo>
                    <a:lnTo>
                      <a:pt x="132" y="24"/>
                    </a:lnTo>
                    <a:lnTo>
                      <a:pt x="114" y="18"/>
                    </a:lnTo>
                    <a:lnTo>
                      <a:pt x="96" y="13"/>
                    </a:lnTo>
                    <a:lnTo>
                      <a:pt x="77" y="9"/>
                    </a:lnTo>
                    <a:lnTo>
                      <a:pt x="57" y="5"/>
                    </a:lnTo>
                    <a:lnTo>
                      <a:pt x="38" y="3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8" y="35"/>
                    </a:lnTo>
                    <a:lnTo>
                      <a:pt x="35" y="36"/>
                    </a:lnTo>
                    <a:lnTo>
                      <a:pt x="53" y="39"/>
                    </a:lnTo>
                    <a:lnTo>
                      <a:pt x="69" y="42"/>
                    </a:lnTo>
                    <a:lnTo>
                      <a:pt x="86" y="47"/>
                    </a:lnTo>
                    <a:lnTo>
                      <a:pt x="103" y="52"/>
                    </a:lnTo>
                    <a:lnTo>
                      <a:pt x="120" y="57"/>
                    </a:lnTo>
                    <a:lnTo>
                      <a:pt x="135" y="64"/>
                    </a:lnTo>
                    <a:lnTo>
                      <a:pt x="151" y="71"/>
                    </a:lnTo>
                    <a:lnTo>
                      <a:pt x="165" y="79"/>
                    </a:lnTo>
                    <a:lnTo>
                      <a:pt x="181" y="88"/>
                    </a:lnTo>
                    <a:lnTo>
                      <a:pt x="194" y="97"/>
                    </a:lnTo>
                    <a:lnTo>
                      <a:pt x="209" y="107"/>
                    </a:lnTo>
                    <a:lnTo>
                      <a:pt x="222" y="118"/>
                    </a:lnTo>
                    <a:lnTo>
                      <a:pt x="235" y="130"/>
                    </a:lnTo>
                    <a:lnTo>
                      <a:pt x="247" y="142"/>
                    </a:lnTo>
                    <a:lnTo>
                      <a:pt x="258" y="154"/>
                    </a:lnTo>
                    <a:lnTo>
                      <a:pt x="270" y="167"/>
                    </a:lnTo>
                    <a:lnTo>
                      <a:pt x="279" y="181"/>
                    </a:lnTo>
                    <a:lnTo>
                      <a:pt x="290" y="196"/>
                    </a:lnTo>
                    <a:lnTo>
                      <a:pt x="299" y="210"/>
                    </a:lnTo>
                    <a:lnTo>
                      <a:pt x="307" y="226"/>
                    </a:lnTo>
                    <a:lnTo>
                      <a:pt x="315" y="241"/>
                    </a:lnTo>
                    <a:lnTo>
                      <a:pt x="323" y="257"/>
                    </a:lnTo>
                    <a:lnTo>
                      <a:pt x="329" y="274"/>
                    </a:lnTo>
                    <a:lnTo>
                      <a:pt x="333" y="291"/>
                    </a:lnTo>
                    <a:lnTo>
                      <a:pt x="338" y="309"/>
                    </a:lnTo>
                    <a:lnTo>
                      <a:pt x="343" y="325"/>
                    </a:lnTo>
                    <a:lnTo>
                      <a:pt x="345" y="343"/>
                    </a:lnTo>
                    <a:lnTo>
                      <a:pt x="348" y="361"/>
                    </a:lnTo>
                    <a:lnTo>
                      <a:pt x="349" y="381"/>
                    </a:lnTo>
                    <a:lnTo>
                      <a:pt x="350" y="399"/>
                    </a:lnTo>
                    <a:lnTo>
                      <a:pt x="350" y="399"/>
                    </a:lnTo>
                    <a:lnTo>
                      <a:pt x="385" y="39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809800" y="3475080"/>
                <a:ext cx="154080" cy="158760"/>
              </a:xfrm>
              <a:custGeom>
                <a:avLst/>
                <a:gdLst/>
                <a:ahLst/>
                <a:rect l="l" t="t" r="r" b="b"/>
                <a:pathLst>
                  <a:path w="385" h="399">
                    <a:moveTo>
                      <a:pt x="0" y="399"/>
                    </a:moveTo>
                    <a:lnTo>
                      <a:pt x="0" y="399"/>
                    </a:lnTo>
                    <a:lnTo>
                      <a:pt x="19" y="398"/>
                    </a:lnTo>
                    <a:lnTo>
                      <a:pt x="38" y="397"/>
                    </a:lnTo>
                    <a:lnTo>
                      <a:pt x="57" y="394"/>
                    </a:lnTo>
                    <a:lnTo>
                      <a:pt x="77" y="391"/>
                    </a:lnTo>
                    <a:lnTo>
                      <a:pt x="96" y="386"/>
                    </a:lnTo>
                    <a:lnTo>
                      <a:pt x="114" y="381"/>
                    </a:lnTo>
                    <a:lnTo>
                      <a:pt x="132" y="375"/>
                    </a:lnTo>
                    <a:lnTo>
                      <a:pt x="150" y="368"/>
                    </a:lnTo>
                    <a:lnTo>
                      <a:pt x="167" y="359"/>
                    </a:lnTo>
                    <a:lnTo>
                      <a:pt x="183" y="350"/>
                    </a:lnTo>
                    <a:lnTo>
                      <a:pt x="199" y="340"/>
                    </a:lnTo>
                    <a:lnTo>
                      <a:pt x="215" y="331"/>
                    </a:lnTo>
                    <a:lnTo>
                      <a:pt x="230" y="319"/>
                    </a:lnTo>
                    <a:lnTo>
                      <a:pt x="245" y="308"/>
                    </a:lnTo>
                    <a:lnTo>
                      <a:pt x="258" y="295"/>
                    </a:lnTo>
                    <a:lnTo>
                      <a:pt x="272" y="281"/>
                    </a:lnTo>
                    <a:lnTo>
                      <a:pt x="284" y="267"/>
                    </a:lnTo>
                    <a:lnTo>
                      <a:pt x="296" y="253"/>
                    </a:lnTo>
                    <a:lnTo>
                      <a:pt x="308" y="238"/>
                    </a:lnTo>
                    <a:lnTo>
                      <a:pt x="319" y="223"/>
                    </a:lnTo>
                    <a:lnTo>
                      <a:pt x="329" y="206"/>
                    </a:lnTo>
                    <a:lnTo>
                      <a:pt x="338" y="189"/>
                    </a:lnTo>
                    <a:lnTo>
                      <a:pt x="347" y="172"/>
                    </a:lnTo>
                    <a:lnTo>
                      <a:pt x="354" y="154"/>
                    </a:lnTo>
                    <a:lnTo>
                      <a:pt x="361" y="136"/>
                    </a:lnTo>
                    <a:lnTo>
                      <a:pt x="367" y="118"/>
                    </a:lnTo>
                    <a:lnTo>
                      <a:pt x="372" y="99"/>
                    </a:lnTo>
                    <a:lnTo>
                      <a:pt x="377" y="80"/>
                    </a:lnTo>
                    <a:lnTo>
                      <a:pt x="380" y="61"/>
                    </a:lnTo>
                    <a:lnTo>
                      <a:pt x="383" y="40"/>
                    </a:lnTo>
                    <a:lnTo>
                      <a:pt x="384" y="20"/>
                    </a:lnTo>
                    <a:lnTo>
                      <a:pt x="385" y="0"/>
                    </a:lnTo>
                    <a:lnTo>
                      <a:pt x="350" y="0"/>
                    </a:lnTo>
                    <a:lnTo>
                      <a:pt x="349" y="19"/>
                    </a:lnTo>
                    <a:lnTo>
                      <a:pt x="348" y="37"/>
                    </a:lnTo>
                    <a:lnTo>
                      <a:pt x="345" y="56"/>
                    </a:lnTo>
                    <a:lnTo>
                      <a:pt x="343" y="74"/>
                    </a:lnTo>
                    <a:lnTo>
                      <a:pt x="338" y="91"/>
                    </a:lnTo>
                    <a:lnTo>
                      <a:pt x="333" y="109"/>
                    </a:lnTo>
                    <a:lnTo>
                      <a:pt x="329" y="126"/>
                    </a:lnTo>
                    <a:lnTo>
                      <a:pt x="323" y="142"/>
                    </a:lnTo>
                    <a:lnTo>
                      <a:pt x="315" y="158"/>
                    </a:lnTo>
                    <a:lnTo>
                      <a:pt x="307" y="174"/>
                    </a:lnTo>
                    <a:lnTo>
                      <a:pt x="299" y="189"/>
                    </a:lnTo>
                    <a:lnTo>
                      <a:pt x="290" y="203"/>
                    </a:lnTo>
                    <a:lnTo>
                      <a:pt x="279" y="218"/>
                    </a:lnTo>
                    <a:lnTo>
                      <a:pt x="270" y="231"/>
                    </a:lnTo>
                    <a:lnTo>
                      <a:pt x="258" y="244"/>
                    </a:lnTo>
                    <a:lnTo>
                      <a:pt x="247" y="257"/>
                    </a:lnTo>
                    <a:lnTo>
                      <a:pt x="235" y="269"/>
                    </a:lnTo>
                    <a:lnTo>
                      <a:pt x="222" y="281"/>
                    </a:lnTo>
                    <a:lnTo>
                      <a:pt x="209" y="292"/>
                    </a:lnTo>
                    <a:lnTo>
                      <a:pt x="194" y="302"/>
                    </a:lnTo>
                    <a:lnTo>
                      <a:pt x="181" y="311"/>
                    </a:lnTo>
                    <a:lnTo>
                      <a:pt x="165" y="320"/>
                    </a:lnTo>
                    <a:lnTo>
                      <a:pt x="151" y="328"/>
                    </a:lnTo>
                    <a:lnTo>
                      <a:pt x="135" y="335"/>
                    </a:lnTo>
                    <a:lnTo>
                      <a:pt x="120" y="341"/>
                    </a:lnTo>
                    <a:lnTo>
                      <a:pt x="103" y="347"/>
                    </a:lnTo>
                    <a:lnTo>
                      <a:pt x="86" y="352"/>
                    </a:lnTo>
                    <a:lnTo>
                      <a:pt x="69" y="357"/>
                    </a:lnTo>
                    <a:lnTo>
                      <a:pt x="53" y="359"/>
                    </a:lnTo>
                    <a:lnTo>
                      <a:pt x="35" y="362"/>
                    </a:lnTo>
                    <a:lnTo>
                      <a:pt x="18" y="363"/>
                    </a:lnTo>
                    <a:lnTo>
                      <a:pt x="0" y="364"/>
                    </a:lnTo>
                    <a:lnTo>
                      <a:pt x="0" y="364"/>
                    </a:lnTo>
                    <a:lnTo>
                      <a:pt x="0" y="39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657520" y="3475080"/>
                <a:ext cx="152280" cy="158760"/>
              </a:xfrm>
              <a:custGeom>
                <a:avLst/>
                <a:gdLst/>
                <a:ahLst/>
                <a:rect l="l" t="t" r="r" b="b"/>
                <a:pathLst>
                  <a:path w="385" h="399">
                    <a:moveTo>
                      <a:pt x="0" y="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1" y="40"/>
                    </a:lnTo>
                    <a:lnTo>
                      <a:pt x="3" y="61"/>
                    </a:lnTo>
                    <a:lnTo>
                      <a:pt x="7" y="80"/>
                    </a:lnTo>
                    <a:lnTo>
                      <a:pt x="12" y="99"/>
                    </a:lnTo>
                    <a:lnTo>
                      <a:pt x="16" y="118"/>
                    </a:lnTo>
                    <a:lnTo>
                      <a:pt x="22" y="136"/>
                    </a:lnTo>
                    <a:lnTo>
                      <a:pt x="30" y="154"/>
                    </a:lnTo>
                    <a:lnTo>
                      <a:pt x="37" y="172"/>
                    </a:lnTo>
                    <a:lnTo>
                      <a:pt x="45" y="189"/>
                    </a:lnTo>
                    <a:lnTo>
                      <a:pt x="55" y="206"/>
                    </a:lnTo>
                    <a:lnTo>
                      <a:pt x="66" y="223"/>
                    </a:lnTo>
                    <a:lnTo>
                      <a:pt x="75" y="238"/>
                    </a:lnTo>
                    <a:lnTo>
                      <a:pt x="87" y="253"/>
                    </a:lnTo>
                    <a:lnTo>
                      <a:pt x="99" y="267"/>
                    </a:lnTo>
                    <a:lnTo>
                      <a:pt x="112" y="281"/>
                    </a:lnTo>
                    <a:lnTo>
                      <a:pt x="126" y="295"/>
                    </a:lnTo>
                    <a:lnTo>
                      <a:pt x="139" y="308"/>
                    </a:lnTo>
                    <a:lnTo>
                      <a:pt x="154" y="319"/>
                    </a:lnTo>
                    <a:lnTo>
                      <a:pt x="169" y="331"/>
                    </a:lnTo>
                    <a:lnTo>
                      <a:pt x="184" y="340"/>
                    </a:lnTo>
                    <a:lnTo>
                      <a:pt x="201" y="350"/>
                    </a:lnTo>
                    <a:lnTo>
                      <a:pt x="218" y="359"/>
                    </a:lnTo>
                    <a:lnTo>
                      <a:pt x="235" y="368"/>
                    </a:lnTo>
                    <a:lnTo>
                      <a:pt x="252" y="375"/>
                    </a:lnTo>
                    <a:lnTo>
                      <a:pt x="270" y="381"/>
                    </a:lnTo>
                    <a:lnTo>
                      <a:pt x="288" y="386"/>
                    </a:lnTo>
                    <a:lnTo>
                      <a:pt x="307" y="391"/>
                    </a:lnTo>
                    <a:lnTo>
                      <a:pt x="326" y="394"/>
                    </a:lnTo>
                    <a:lnTo>
                      <a:pt x="345" y="397"/>
                    </a:lnTo>
                    <a:lnTo>
                      <a:pt x="364" y="398"/>
                    </a:lnTo>
                    <a:lnTo>
                      <a:pt x="385" y="399"/>
                    </a:lnTo>
                    <a:lnTo>
                      <a:pt x="385" y="364"/>
                    </a:lnTo>
                    <a:lnTo>
                      <a:pt x="367" y="363"/>
                    </a:lnTo>
                    <a:lnTo>
                      <a:pt x="349" y="362"/>
                    </a:lnTo>
                    <a:lnTo>
                      <a:pt x="331" y="359"/>
                    </a:lnTo>
                    <a:lnTo>
                      <a:pt x="314" y="357"/>
                    </a:lnTo>
                    <a:lnTo>
                      <a:pt x="297" y="352"/>
                    </a:lnTo>
                    <a:lnTo>
                      <a:pt x="280" y="347"/>
                    </a:lnTo>
                    <a:lnTo>
                      <a:pt x="265" y="341"/>
                    </a:lnTo>
                    <a:lnTo>
                      <a:pt x="248" y="335"/>
                    </a:lnTo>
                    <a:lnTo>
                      <a:pt x="232" y="328"/>
                    </a:lnTo>
                    <a:lnTo>
                      <a:pt x="218" y="320"/>
                    </a:lnTo>
                    <a:lnTo>
                      <a:pt x="204" y="311"/>
                    </a:lnTo>
                    <a:lnTo>
                      <a:pt x="189" y="302"/>
                    </a:lnTo>
                    <a:lnTo>
                      <a:pt x="175" y="292"/>
                    </a:lnTo>
                    <a:lnTo>
                      <a:pt x="162" y="281"/>
                    </a:lnTo>
                    <a:lnTo>
                      <a:pt x="150" y="269"/>
                    </a:lnTo>
                    <a:lnTo>
                      <a:pt x="138" y="257"/>
                    </a:lnTo>
                    <a:lnTo>
                      <a:pt x="126" y="244"/>
                    </a:lnTo>
                    <a:lnTo>
                      <a:pt x="115" y="231"/>
                    </a:lnTo>
                    <a:lnTo>
                      <a:pt x="104" y="218"/>
                    </a:lnTo>
                    <a:lnTo>
                      <a:pt x="94" y="203"/>
                    </a:lnTo>
                    <a:lnTo>
                      <a:pt x="85" y="189"/>
                    </a:lnTo>
                    <a:lnTo>
                      <a:pt x="76" y="174"/>
                    </a:lnTo>
                    <a:lnTo>
                      <a:pt x="69" y="158"/>
                    </a:lnTo>
                    <a:lnTo>
                      <a:pt x="62" y="142"/>
                    </a:lnTo>
                    <a:lnTo>
                      <a:pt x="55" y="126"/>
                    </a:lnTo>
                    <a:lnTo>
                      <a:pt x="50" y="109"/>
                    </a:lnTo>
                    <a:lnTo>
                      <a:pt x="45" y="91"/>
                    </a:lnTo>
                    <a:lnTo>
                      <a:pt x="42" y="74"/>
                    </a:lnTo>
                    <a:lnTo>
                      <a:pt x="38" y="56"/>
                    </a:lnTo>
                    <a:lnTo>
                      <a:pt x="36" y="37"/>
                    </a:lnTo>
                    <a:lnTo>
                      <a:pt x="34" y="19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657520" y="3316320"/>
                <a:ext cx="152280" cy="158760"/>
              </a:xfrm>
              <a:custGeom>
                <a:avLst/>
                <a:gdLst/>
                <a:ahLst/>
                <a:rect l="l" t="t" r="r" b="b"/>
                <a:pathLst>
                  <a:path w="385" h="399">
                    <a:moveTo>
                      <a:pt x="385" y="0"/>
                    </a:moveTo>
                    <a:lnTo>
                      <a:pt x="385" y="0"/>
                    </a:lnTo>
                    <a:lnTo>
                      <a:pt x="364" y="0"/>
                    </a:lnTo>
                    <a:lnTo>
                      <a:pt x="345" y="3"/>
                    </a:lnTo>
                    <a:lnTo>
                      <a:pt x="326" y="5"/>
                    </a:lnTo>
                    <a:lnTo>
                      <a:pt x="307" y="9"/>
                    </a:lnTo>
                    <a:lnTo>
                      <a:pt x="288" y="13"/>
                    </a:lnTo>
                    <a:lnTo>
                      <a:pt x="270" y="18"/>
                    </a:lnTo>
                    <a:lnTo>
                      <a:pt x="252" y="24"/>
                    </a:lnTo>
                    <a:lnTo>
                      <a:pt x="235" y="31"/>
                    </a:lnTo>
                    <a:lnTo>
                      <a:pt x="218" y="40"/>
                    </a:lnTo>
                    <a:lnTo>
                      <a:pt x="201" y="48"/>
                    </a:lnTo>
                    <a:lnTo>
                      <a:pt x="184" y="58"/>
                    </a:lnTo>
                    <a:lnTo>
                      <a:pt x="169" y="69"/>
                    </a:lnTo>
                    <a:lnTo>
                      <a:pt x="154" y="79"/>
                    </a:lnTo>
                    <a:lnTo>
                      <a:pt x="139" y="91"/>
                    </a:lnTo>
                    <a:lnTo>
                      <a:pt x="126" y="105"/>
                    </a:lnTo>
                    <a:lnTo>
                      <a:pt x="112" y="118"/>
                    </a:lnTo>
                    <a:lnTo>
                      <a:pt x="99" y="131"/>
                    </a:lnTo>
                    <a:lnTo>
                      <a:pt x="87" y="145"/>
                    </a:lnTo>
                    <a:lnTo>
                      <a:pt x="75" y="161"/>
                    </a:lnTo>
                    <a:lnTo>
                      <a:pt x="66" y="177"/>
                    </a:lnTo>
                    <a:lnTo>
                      <a:pt x="55" y="192"/>
                    </a:lnTo>
                    <a:lnTo>
                      <a:pt x="45" y="209"/>
                    </a:lnTo>
                    <a:lnTo>
                      <a:pt x="37" y="227"/>
                    </a:lnTo>
                    <a:lnTo>
                      <a:pt x="30" y="244"/>
                    </a:lnTo>
                    <a:lnTo>
                      <a:pt x="22" y="262"/>
                    </a:lnTo>
                    <a:lnTo>
                      <a:pt x="16" y="281"/>
                    </a:lnTo>
                    <a:lnTo>
                      <a:pt x="12" y="300"/>
                    </a:lnTo>
                    <a:lnTo>
                      <a:pt x="7" y="319"/>
                    </a:lnTo>
                    <a:lnTo>
                      <a:pt x="3" y="339"/>
                    </a:lnTo>
                    <a:lnTo>
                      <a:pt x="1" y="359"/>
                    </a:lnTo>
                    <a:lnTo>
                      <a:pt x="0" y="378"/>
                    </a:lnTo>
                    <a:lnTo>
                      <a:pt x="0" y="399"/>
                    </a:lnTo>
                    <a:lnTo>
                      <a:pt x="34" y="399"/>
                    </a:lnTo>
                    <a:lnTo>
                      <a:pt x="34" y="381"/>
                    </a:lnTo>
                    <a:lnTo>
                      <a:pt x="36" y="361"/>
                    </a:lnTo>
                    <a:lnTo>
                      <a:pt x="38" y="343"/>
                    </a:lnTo>
                    <a:lnTo>
                      <a:pt x="42" y="325"/>
                    </a:lnTo>
                    <a:lnTo>
                      <a:pt x="45" y="309"/>
                    </a:lnTo>
                    <a:lnTo>
                      <a:pt x="50" y="291"/>
                    </a:lnTo>
                    <a:lnTo>
                      <a:pt x="55" y="274"/>
                    </a:lnTo>
                    <a:lnTo>
                      <a:pt x="62" y="257"/>
                    </a:lnTo>
                    <a:lnTo>
                      <a:pt x="69" y="241"/>
                    </a:lnTo>
                    <a:lnTo>
                      <a:pt x="76" y="226"/>
                    </a:lnTo>
                    <a:lnTo>
                      <a:pt x="85" y="210"/>
                    </a:lnTo>
                    <a:lnTo>
                      <a:pt x="94" y="196"/>
                    </a:lnTo>
                    <a:lnTo>
                      <a:pt x="104" y="181"/>
                    </a:lnTo>
                    <a:lnTo>
                      <a:pt x="115" y="167"/>
                    </a:lnTo>
                    <a:lnTo>
                      <a:pt x="126" y="154"/>
                    </a:lnTo>
                    <a:lnTo>
                      <a:pt x="138" y="142"/>
                    </a:lnTo>
                    <a:lnTo>
                      <a:pt x="150" y="130"/>
                    </a:lnTo>
                    <a:lnTo>
                      <a:pt x="162" y="118"/>
                    </a:lnTo>
                    <a:lnTo>
                      <a:pt x="175" y="107"/>
                    </a:lnTo>
                    <a:lnTo>
                      <a:pt x="189" y="97"/>
                    </a:lnTo>
                    <a:lnTo>
                      <a:pt x="204" y="88"/>
                    </a:lnTo>
                    <a:lnTo>
                      <a:pt x="218" y="79"/>
                    </a:lnTo>
                    <a:lnTo>
                      <a:pt x="232" y="71"/>
                    </a:lnTo>
                    <a:lnTo>
                      <a:pt x="248" y="64"/>
                    </a:lnTo>
                    <a:lnTo>
                      <a:pt x="265" y="57"/>
                    </a:lnTo>
                    <a:lnTo>
                      <a:pt x="280" y="52"/>
                    </a:lnTo>
                    <a:lnTo>
                      <a:pt x="297" y="47"/>
                    </a:lnTo>
                    <a:lnTo>
                      <a:pt x="314" y="42"/>
                    </a:lnTo>
                    <a:lnTo>
                      <a:pt x="331" y="39"/>
                    </a:lnTo>
                    <a:lnTo>
                      <a:pt x="349" y="36"/>
                    </a:lnTo>
                    <a:lnTo>
                      <a:pt x="367" y="35"/>
                    </a:lnTo>
                    <a:lnTo>
                      <a:pt x="385" y="35"/>
                    </a:lnTo>
                    <a:lnTo>
                      <a:pt x="385" y="35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638440" y="35179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1" y="51"/>
                    </a:moveTo>
                    <a:lnTo>
                      <a:pt x="51" y="51"/>
                    </a:lnTo>
                    <a:lnTo>
                      <a:pt x="50" y="41"/>
                    </a:lnTo>
                    <a:lnTo>
                      <a:pt x="47" y="31"/>
                    </a:lnTo>
                    <a:lnTo>
                      <a:pt x="42" y="23"/>
                    </a:lnTo>
                    <a:lnTo>
                      <a:pt x="36" y="15"/>
                    </a:lnTo>
                    <a:lnTo>
                      <a:pt x="29" y="9"/>
                    </a:lnTo>
                    <a:lnTo>
                      <a:pt x="20" y="5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6" y="36"/>
                    </a:lnTo>
                    <a:lnTo>
                      <a:pt x="9" y="38"/>
                    </a:lnTo>
                    <a:lnTo>
                      <a:pt x="12" y="39"/>
                    </a:lnTo>
                    <a:lnTo>
                      <a:pt x="13" y="42"/>
                    </a:lnTo>
                    <a:lnTo>
                      <a:pt x="15" y="45"/>
                    </a:lnTo>
                    <a:lnTo>
                      <a:pt x="17" y="48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51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638440" y="353844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52"/>
                    </a:moveTo>
                    <a:lnTo>
                      <a:pt x="0" y="52"/>
                    </a:lnTo>
                    <a:lnTo>
                      <a:pt x="9" y="51"/>
                    </a:lnTo>
                    <a:lnTo>
                      <a:pt x="20" y="47"/>
                    </a:lnTo>
                    <a:lnTo>
                      <a:pt x="29" y="43"/>
                    </a:lnTo>
                    <a:lnTo>
                      <a:pt x="36" y="36"/>
                    </a:lnTo>
                    <a:lnTo>
                      <a:pt x="42" y="29"/>
                    </a:lnTo>
                    <a:lnTo>
                      <a:pt x="47" y="21"/>
                    </a:lnTo>
                    <a:lnTo>
                      <a:pt x="50" y="11"/>
                    </a:lnTo>
                    <a:lnTo>
                      <a:pt x="51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3" y="10"/>
                    </a:lnTo>
                    <a:lnTo>
                      <a:pt x="12" y="12"/>
                    </a:lnTo>
                    <a:lnTo>
                      <a:pt x="9" y="15"/>
                    </a:lnTo>
                    <a:lnTo>
                      <a:pt x="6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617560" y="353844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4" y="21"/>
                    </a:lnTo>
                    <a:lnTo>
                      <a:pt x="9" y="29"/>
                    </a:lnTo>
                    <a:lnTo>
                      <a:pt x="16" y="36"/>
                    </a:lnTo>
                    <a:lnTo>
                      <a:pt x="23" y="43"/>
                    </a:lnTo>
                    <a:lnTo>
                      <a:pt x="31" y="47"/>
                    </a:lnTo>
                    <a:lnTo>
                      <a:pt x="41" y="51"/>
                    </a:lnTo>
                    <a:lnTo>
                      <a:pt x="52" y="52"/>
                    </a:lnTo>
                    <a:lnTo>
                      <a:pt x="52" y="17"/>
                    </a:lnTo>
                    <a:lnTo>
                      <a:pt x="48" y="17"/>
                    </a:lnTo>
                    <a:lnTo>
                      <a:pt x="45" y="16"/>
                    </a:lnTo>
                    <a:lnTo>
                      <a:pt x="42" y="15"/>
                    </a:lnTo>
                    <a:lnTo>
                      <a:pt x="40" y="12"/>
                    </a:lnTo>
                    <a:lnTo>
                      <a:pt x="37" y="10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617560" y="35179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0"/>
                    </a:moveTo>
                    <a:lnTo>
                      <a:pt x="52" y="0"/>
                    </a:lnTo>
                    <a:lnTo>
                      <a:pt x="41" y="1"/>
                    </a:lnTo>
                    <a:lnTo>
                      <a:pt x="31" y="5"/>
                    </a:lnTo>
                    <a:lnTo>
                      <a:pt x="23" y="9"/>
                    </a:lnTo>
                    <a:lnTo>
                      <a:pt x="16" y="15"/>
                    </a:lnTo>
                    <a:lnTo>
                      <a:pt x="9" y="23"/>
                    </a:lnTo>
                    <a:lnTo>
                      <a:pt x="4" y="31"/>
                    </a:lnTo>
                    <a:lnTo>
                      <a:pt x="1" y="42"/>
                    </a:lnTo>
                    <a:lnTo>
                      <a:pt x="0" y="51"/>
                    </a:lnTo>
                    <a:lnTo>
                      <a:pt x="35" y="51"/>
                    </a:lnTo>
                    <a:lnTo>
                      <a:pt x="35" y="48"/>
                    </a:lnTo>
                    <a:lnTo>
                      <a:pt x="36" y="45"/>
                    </a:lnTo>
                    <a:lnTo>
                      <a:pt x="37" y="42"/>
                    </a:lnTo>
                    <a:lnTo>
                      <a:pt x="40" y="39"/>
                    </a:lnTo>
                    <a:lnTo>
                      <a:pt x="42" y="38"/>
                    </a:lnTo>
                    <a:lnTo>
                      <a:pt x="45" y="36"/>
                    </a:lnTo>
                    <a:lnTo>
                      <a:pt x="48" y="35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611440" y="34783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2"/>
                    </a:moveTo>
                    <a:lnTo>
                      <a:pt x="52" y="52"/>
                    </a:lnTo>
                    <a:lnTo>
                      <a:pt x="51" y="41"/>
                    </a:lnTo>
                    <a:lnTo>
                      <a:pt x="47" y="31"/>
                    </a:lnTo>
                    <a:lnTo>
                      <a:pt x="43" y="23"/>
                    </a:lnTo>
                    <a:lnTo>
                      <a:pt x="36" y="15"/>
                    </a:lnTo>
                    <a:lnTo>
                      <a:pt x="29" y="9"/>
                    </a:lnTo>
                    <a:lnTo>
                      <a:pt x="21" y="4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5"/>
                    </a:lnTo>
                    <a:lnTo>
                      <a:pt x="6" y="36"/>
                    </a:lnTo>
                    <a:lnTo>
                      <a:pt x="10" y="37"/>
                    </a:lnTo>
                    <a:lnTo>
                      <a:pt x="12" y="40"/>
                    </a:lnTo>
                    <a:lnTo>
                      <a:pt x="15" y="42"/>
                    </a:lnTo>
                    <a:lnTo>
                      <a:pt x="16" y="45"/>
                    </a:lnTo>
                    <a:lnTo>
                      <a:pt x="17" y="48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2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11440" y="34988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51"/>
                    </a:moveTo>
                    <a:lnTo>
                      <a:pt x="0" y="51"/>
                    </a:lnTo>
                    <a:lnTo>
                      <a:pt x="11" y="50"/>
                    </a:lnTo>
                    <a:lnTo>
                      <a:pt x="21" y="47"/>
                    </a:lnTo>
                    <a:lnTo>
                      <a:pt x="29" y="42"/>
                    </a:lnTo>
                    <a:lnTo>
                      <a:pt x="36" y="36"/>
                    </a:lnTo>
                    <a:lnTo>
                      <a:pt x="43" y="29"/>
                    </a:lnTo>
                    <a:lnTo>
                      <a:pt x="47" y="19"/>
                    </a:lnTo>
                    <a:lnTo>
                      <a:pt x="51" y="9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2" y="11"/>
                    </a:lnTo>
                    <a:lnTo>
                      <a:pt x="10" y="13"/>
                    </a:lnTo>
                    <a:lnTo>
                      <a:pt x="6" y="14"/>
                    </a:lnTo>
                    <a:lnTo>
                      <a:pt x="4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590560" y="349884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4" y="19"/>
                    </a:lnTo>
                    <a:lnTo>
                      <a:pt x="9" y="29"/>
                    </a:lnTo>
                    <a:lnTo>
                      <a:pt x="15" y="36"/>
                    </a:lnTo>
                    <a:lnTo>
                      <a:pt x="22" y="42"/>
                    </a:lnTo>
                    <a:lnTo>
                      <a:pt x="31" y="47"/>
                    </a:lnTo>
                    <a:lnTo>
                      <a:pt x="40" y="50"/>
                    </a:lnTo>
                    <a:lnTo>
                      <a:pt x="51" y="51"/>
                    </a:lnTo>
                    <a:lnTo>
                      <a:pt x="51" y="17"/>
                    </a:lnTo>
                    <a:lnTo>
                      <a:pt x="48" y="15"/>
                    </a:lnTo>
                    <a:lnTo>
                      <a:pt x="45" y="14"/>
                    </a:lnTo>
                    <a:lnTo>
                      <a:pt x="42" y="13"/>
                    </a:lnTo>
                    <a:lnTo>
                      <a:pt x="39" y="11"/>
                    </a:lnTo>
                    <a:lnTo>
                      <a:pt x="38" y="8"/>
                    </a:lnTo>
                    <a:lnTo>
                      <a:pt x="36" y="6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590560" y="34783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0"/>
                    </a:moveTo>
                    <a:lnTo>
                      <a:pt x="51" y="0"/>
                    </a:lnTo>
                    <a:lnTo>
                      <a:pt x="40" y="1"/>
                    </a:lnTo>
                    <a:lnTo>
                      <a:pt x="31" y="4"/>
                    </a:lnTo>
                    <a:lnTo>
                      <a:pt x="22" y="9"/>
                    </a:lnTo>
                    <a:lnTo>
                      <a:pt x="15" y="15"/>
                    </a:lnTo>
                    <a:lnTo>
                      <a:pt x="9" y="23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34" y="52"/>
                    </a:lnTo>
                    <a:lnTo>
                      <a:pt x="34" y="48"/>
                    </a:lnTo>
                    <a:lnTo>
                      <a:pt x="36" y="45"/>
                    </a:lnTo>
                    <a:lnTo>
                      <a:pt x="38" y="42"/>
                    </a:lnTo>
                    <a:lnTo>
                      <a:pt x="39" y="40"/>
                    </a:lnTo>
                    <a:lnTo>
                      <a:pt x="42" y="37"/>
                    </a:lnTo>
                    <a:lnTo>
                      <a:pt x="45" y="36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38440" y="34354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50" y="52"/>
                    </a:moveTo>
                    <a:lnTo>
                      <a:pt x="50" y="52"/>
                    </a:lnTo>
                    <a:lnTo>
                      <a:pt x="49" y="41"/>
                    </a:lnTo>
                    <a:lnTo>
                      <a:pt x="46" y="31"/>
                    </a:lnTo>
                    <a:lnTo>
                      <a:pt x="42" y="23"/>
                    </a:lnTo>
                    <a:lnTo>
                      <a:pt x="36" y="15"/>
                    </a:lnTo>
                    <a:lnTo>
                      <a:pt x="27" y="9"/>
                    </a:lnTo>
                    <a:lnTo>
                      <a:pt x="19" y="4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6" y="36"/>
                    </a:lnTo>
                    <a:lnTo>
                      <a:pt x="8" y="37"/>
                    </a:lnTo>
                    <a:lnTo>
                      <a:pt x="10" y="40"/>
                    </a:lnTo>
                    <a:lnTo>
                      <a:pt x="13" y="42"/>
                    </a:lnTo>
                    <a:lnTo>
                      <a:pt x="14" y="45"/>
                    </a:lnTo>
                    <a:lnTo>
                      <a:pt x="15" y="48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38440" y="34560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0" y="50"/>
                    </a:lnTo>
                    <a:lnTo>
                      <a:pt x="9" y="49"/>
                    </a:lnTo>
                    <a:lnTo>
                      <a:pt x="19" y="47"/>
                    </a:lnTo>
                    <a:lnTo>
                      <a:pt x="27" y="42"/>
                    </a:lnTo>
                    <a:lnTo>
                      <a:pt x="36" y="36"/>
                    </a:lnTo>
                    <a:lnTo>
                      <a:pt x="42" y="27"/>
                    </a:lnTo>
                    <a:lnTo>
                      <a:pt x="46" y="19"/>
                    </a:lnTo>
                    <a:lnTo>
                      <a:pt x="49" y="9"/>
                    </a:lnTo>
                    <a:lnTo>
                      <a:pt x="50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4" y="6"/>
                    </a:lnTo>
                    <a:lnTo>
                      <a:pt x="13" y="8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17560" y="34560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0" y="0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4" y="19"/>
                    </a:lnTo>
                    <a:lnTo>
                      <a:pt x="8" y="27"/>
                    </a:lnTo>
                    <a:lnTo>
                      <a:pt x="14" y="36"/>
                    </a:lnTo>
                    <a:lnTo>
                      <a:pt x="23" y="42"/>
                    </a:lnTo>
                    <a:lnTo>
                      <a:pt x="31" y="47"/>
                    </a:lnTo>
                    <a:lnTo>
                      <a:pt x="41" y="49"/>
                    </a:lnTo>
                    <a:lnTo>
                      <a:pt x="52" y="50"/>
                    </a:lnTo>
                    <a:lnTo>
                      <a:pt x="52" y="15"/>
                    </a:lnTo>
                    <a:lnTo>
                      <a:pt x="48" y="15"/>
                    </a:lnTo>
                    <a:lnTo>
                      <a:pt x="44" y="14"/>
                    </a:lnTo>
                    <a:lnTo>
                      <a:pt x="42" y="13"/>
                    </a:lnTo>
                    <a:lnTo>
                      <a:pt x="40" y="11"/>
                    </a:lnTo>
                    <a:lnTo>
                      <a:pt x="37" y="8"/>
                    </a:lnTo>
                    <a:lnTo>
                      <a:pt x="36" y="6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17560" y="34354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52" y="0"/>
                    </a:lnTo>
                    <a:lnTo>
                      <a:pt x="41" y="1"/>
                    </a:lnTo>
                    <a:lnTo>
                      <a:pt x="31" y="4"/>
                    </a:lnTo>
                    <a:lnTo>
                      <a:pt x="23" y="9"/>
                    </a:lnTo>
                    <a:lnTo>
                      <a:pt x="14" y="15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5"/>
                    </a:lnTo>
                    <a:lnTo>
                      <a:pt x="37" y="42"/>
                    </a:lnTo>
                    <a:lnTo>
                      <a:pt x="40" y="40"/>
                    </a:lnTo>
                    <a:lnTo>
                      <a:pt x="42" y="37"/>
                    </a:lnTo>
                    <a:lnTo>
                      <a:pt x="44" y="36"/>
                    </a:lnTo>
                    <a:lnTo>
                      <a:pt x="48" y="35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600280" y="34164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2"/>
                    </a:moveTo>
                    <a:lnTo>
                      <a:pt x="52" y="52"/>
                    </a:lnTo>
                    <a:lnTo>
                      <a:pt x="51" y="41"/>
                    </a:lnTo>
                    <a:lnTo>
                      <a:pt x="48" y="32"/>
                    </a:lnTo>
                    <a:lnTo>
                      <a:pt x="44" y="23"/>
                    </a:lnTo>
                    <a:lnTo>
                      <a:pt x="38" y="16"/>
                    </a:lnTo>
                    <a:lnTo>
                      <a:pt x="29" y="9"/>
                    </a:lnTo>
                    <a:lnTo>
                      <a:pt x="21" y="5"/>
                    </a:lnTo>
                    <a:lnTo>
                      <a:pt x="11" y="2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2" y="40"/>
                    </a:lnTo>
                    <a:lnTo>
                      <a:pt x="15" y="42"/>
                    </a:lnTo>
                    <a:lnTo>
                      <a:pt x="16" y="46"/>
                    </a:lnTo>
                    <a:lnTo>
                      <a:pt x="17" y="48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2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600280" y="34369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52"/>
                    </a:moveTo>
                    <a:lnTo>
                      <a:pt x="0" y="52"/>
                    </a:lnTo>
                    <a:lnTo>
                      <a:pt x="11" y="50"/>
                    </a:lnTo>
                    <a:lnTo>
                      <a:pt x="21" y="47"/>
                    </a:lnTo>
                    <a:lnTo>
                      <a:pt x="29" y="43"/>
                    </a:lnTo>
                    <a:lnTo>
                      <a:pt x="36" y="36"/>
                    </a:lnTo>
                    <a:lnTo>
                      <a:pt x="44" y="29"/>
                    </a:lnTo>
                    <a:lnTo>
                      <a:pt x="48" y="20"/>
                    </a:lnTo>
                    <a:lnTo>
                      <a:pt x="51" y="11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6" y="6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579760" y="34369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5" y="20"/>
                    </a:lnTo>
                    <a:lnTo>
                      <a:pt x="9" y="29"/>
                    </a:lnTo>
                    <a:lnTo>
                      <a:pt x="15" y="36"/>
                    </a:lnTo>
                    <a:lnTo>
                      <a:pt x="23" y="43"/>
                    </a:lnTo>
                    <a:lnTo>
                      <a:pt x="32" y="47"/>
                    </a:lnTo>
                    <a:lnTo>
                      <a:pt x="42" y="50"/>
                    </a:lnTo>
                    <a:lnTo>
                      <a:pt x="51" y="52"/>
                    </a:lnTo>
                    <a:lnTo>
                      <a:pt x="51" y="17"/>
                    </a:lnTo>
                    <a:lnTo>
                      <a:pt x="48" y="17"/>
                    </a:lnTo>
                    <a:lnTo>
                      <a:pt x="45" y="16"/>
                    </a:lnTo>
                    <a:lnTo>
                      <a:pt x="42" y="14"/>
                    </a:lnTo>
                    <a:lnTo>
                      <a:pt x="39" y="12"/>
                    </a:lnTo>
                    <a:lnTo>
                      <a:pt x="38" y="10"/>
                    </a:lnTo>
                    <a:lnTo>
                      <a:pt x="36" y="6"/>
                    </a:lnTo>
                    <a:lnTo>
                      <a:pt x="36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579760" y="34164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0"/>
                    </a:moveTo>
                    <a:lnTo>
                      <a:pt x="51" y="0"/>
                    </a:lnTo>
                    <a:lnTo>
                      <a:pt x="42" y="2"/>
                    </a:lnTo>
                    <a:lnTo>
                      <a:pt x="32" y="5"/>
                    </a:lnTo>
                    <a:lnTo>
                      <a:pt x="23" y="9"/>
                    </a:lnTo>
                    <a:lnTo>
                      <a:pt x="15" y="16"/>
                    </a:lnTo>
                    <a:lnTo>
                      <a:pt x="9" y="23"/>
                    </a:lnTo>
                    <a:lnTo>
                      <a:pt x="5" y="32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6" y="48"/>
                    </a:lnTo>
                    <a:lnTo>
                      <a:pt x="36" y="46"/>
                    </a:lnTo>
                    <a:lnTo>
                      <a:pt x="38" y="42"/>
                    </a:lnTo>
                    <a:lnTo>
                      <a:pt x="39" y="40"/>
                    </a:lnTo>
                    <a:lnTo>
                      <a:pt x="42" y="38"/>
                    </a:lnTo>
                    <a:lnTo>
                      <a:pt x="45" y="36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11440" y="33606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2"/>
                    </a:moveTo>
                    <a:lnTo>
                      <a:pt x="52" y="52"/>
                    </a:lnTo>
                    <a:lnTo>
                      <a:pt x="51" y="41"/>
                    </a:lnTo>
                    <a:lnTo>
                      <a:pt x="48" y="31"/>
                    </a:lnTo>
                    <a:lnTo>
                      <a:pt x="44" y="23"/>
                    </a:lnTo>
                    <a:lnTo>
                      <a:pt x="38" y="16"/>
                    </a:lnTo>
                    <a:lnTo>
                      <a:pt x="29" y="8"/>
                    </a:lnTo>
                    <a:lnTo>
                      <a:pt x="21" y="5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5"/>
                    </a:lnTo>
                    <a:lnTo>
                      <a:pt x="8" y="36"/>
                    </a:lnTo>
                    <a:lnTo>
                      <a:pt x="10" y="37"/>
                    </a:lnTo>
                    <a:lnTo>
                      <a:pt x="12" y="40"/>
                    </a:lnTo>
                    <a:lnTo>
                      <a:pt x="15" y="42"/>
                    </a:lnTo>
                    <a:lnTo>
                      <a:pt x="16" y="46"/>
                    </a:lnTo>
                    <a:lnTo>
                      <a:pt x="17" y="48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2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611440" y="33814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51"/>
                    </a:moveTo>
                    <a:lnTo>
                      <a:pt x="0" y="51"/>
                    </a:lnTo>
                    <a:lnTo>
                      <a:pt x="11" y="50"/>
                    </a:lnTo>
                    <a:lnTo>
                      <a:pt x="21" y="46"/>
                    </a:lnTo>
                    <a:lnTo>
                      <a:pt x="29" y="42"/>
                    </a:lnTo>
                    <a:lnTo>
                      <a:pt x="38" y="36"/>
                    </a:lnTo>
                    <a:lnTo>
                      <a:pt x="44" y="28"/>
                    </a:lnTo>
                    <a:lnTo>
                      <a:pt x="48" y="20"/>
                    </a:lnTo>
                    <a:lnTo>
                      <a:pt x="51" y="10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6" y="6"/>
                    </a:lnTo>
                    <a:lnTo>
                      <a:pt x="15" y="9"/>
                    </a:lnTo>
                    <a:lnTo>
                      <a:pt x="12" y="12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590560" y="33814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10"/>
                    </a:lnTo>
                    <a:lnTo>
                      <a:pt x="5" y="20"/>
                    </a:lnTo>
                    <a:lnTo>
                      <a:pt x="9" y="28"/>
                    </a:lnTo>
                    <a:lnTo>
                      <a:pt x="15" y="36"/>
                    </a:lnTo>
                    <a:lnTo>
                      <a:pt x="23" y="42"/>
                    </a:lnTo>
                    <a:lnTo>
                      <a:pt x="32" y="46"/>
                    </a:lnTo>
                    <a:lnTo>
                      <a:pt x="42" y="50"/>
                    </a:lnTo>
                    <a:lnTo>
                      <a:pt x="51" y="51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6" y="6"/>
                    </a:lnTo>
                    <a:lnTo>
                      <a:pt x="36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590560" y="33606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0"/>
                    </a:moveTo>
                    <a:lnTo>
                      <a:pt x="51" y="0"/>
                    </a:lnTo>
                    <a:lnTo>
                      <a:pt x="42" y="1"/>
                    </a:lnTo>
                    <a:lnTo>
                      <a:pt x="32" y="5"/>
                    </a:lnTo>
                    <a:lnTo>
                      <a:pt x="23" y="8"/>
                    </a:lnTo>
                    <a:lnTo>
                      <a:pt x="15" y="16"/>
                    </a:lnTo>
                    <a:lnTo>
                      <a:pt x="9" y="23"/>
                    </a:lnTo>
                    <a:lnTo>
                      <a:pt x="5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6" y="48"/>
                    </a:lnTo>
                    <a:lnTo>
                      <a:pt x="36" y="46"/>
                    </a:lnTo>
                    <a:lnTo>
                      <a:pt x="38" y="42"/>
                    </a:lnTo>
                    <a:lnTo>
                      <a:pt x="41" y="40"/>
                    </a:lnTo>
                    <a:lnTo>
                      <a:pt x="43" y="37"/>
                    </a:lnTo>
                    <a:lnTo>
                      <a:pt x="45" y="36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647800" y="33796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52"/>
                    </a:moveTo>
                    <a:lnTo>
                      <a:pt x="51" y="52"/>
                    </a:lnTo>
                    <a:lnTo>
                      <a:pt x="50" y="41"/>
                    </a:lnTo>
                    <a:lnTo>
                      <a:pt x="47" y="31"/>
                    </a:lnTo>
                    <a:lnTo>
                      <a:pt x="43" y="23"/>
                    </a:lnTo>
                    <a:lnTo>
                      <a:pt x="36" y="16"/>
                    </a:lnTo>
                    <a:lnTo>
                      <a:pt x="29" y="8"/>
                    </a:lnTo>
                    <a:lnTo>
                      <a:pt x="20" y="4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6" y="36"/>
                    </a:lnTo>
                    <a:lnTo>
                      <a:pt x="9" y="37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5" y="44"/>
                    </a:lnTo>
                    <a:lnTo>
                      <a:pt x="17" y="48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1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647800" y="34005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51"/>
                    </a:moveTo>
                    <a:lnTo>
                      <a:pt x="0" y="51"/>
                    </a:lnTo>
                    <a:lnTo>
                      <a:pt x="11" y="50"/>
                    </a:lnTo>
                    <a:lnTo>
                      <a:pt x="20" y="46"/>
                    </a:lnTo>
                    <a:lnTo>
                      <a:pt x="29" y="42"/>
                    </a:lnTo>
                    <a:lnTo>
                      <a:pt x="36" y="36"/>
                    </a:lnTo>
                    <a:lnTo>
                      <a:pt x="43" y="28"/>
                    </a:lnTo>
                    <a:lnTo>
                      <a:pt x="47" y="20"/>
                    </a:lnTo>
                    <a:lnTo>
                      <a:pt x="50" y="9"/>
                    </a:lnTo>
                    <a:lnTo>
                      <a:pt x="51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5" y="6"/>
                    </a:lnTo>
                    <a:lnTo>
                      <a:pt x="14" y="9"/>
                    </a:lnTo>
                    <a:lnTo>
                      <a:pt x="12" y="12"/>
                    </a:lnTo>
                    <a:lnTo>
                      <a:pt x="9" y="13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627280" y="34005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5" y="20"/>
                    </a:lnTo>
                    <a:lnTo>
                      <a:pt x="9" y="28"/>
                    </a:lnTo>
                    <a:lnTo>
                      <a:pt x="16" y="36"/>
                    </a:lnTo>
                    <a:lnTo>
                      <a:pt x="23" y="42"/>
                    </a:lnTo>
                    <a:lnTo>
                      <a:pt x="31" y="46"/>
                    </a:lnTo>
                    <a:lnTo>
                      <a:pt x="41" y="50"/>
                    </a:lnTo>
                    <a:lnTo>
                      <a:pt x="52" y="51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2" y="13"/>
                    </a:lnTo>
                    <a:lnTo>
                      <a:pt x="40" y="12"/>
                    </a:lnTo>
                    <a:lnTo>
                      <a:pt x="37" y="9"/>
                    </a:lnTo>
                    <a:lnTo>
                      <a:pt x="36" y="6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2097000" y="2809800"/>
              <a:ext cx="4172400" cy="2921040"/>
              <a:chOff x="2097000" y="2809800"/>
              <a:chExt cx="4172400" cy="2921040"/>
            </a:xfrm>
          </p:grpSpPr>
          <p:sp>
            <p:nvSpPr>
              <p:cNvPr id="1096" name=""/>
              <p:cNvSpPr/>
              <p:nvPr/>
            </p:nvSpPr>
            <p:spPr>
              <a:xfrm>
                <a:off x="2627280" y="33796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52" y="0"/>
                    </a:lnTo>
                    <a:lnTo>
                      <a:pt x="41" y="1"/>
                    </a:lnTo>
                    <a:lnTo>
                      <a:pt x="31" y="4"/>
                    </a:lnTo>
                    <a:lnTo>
                      <a:pt x="23" y="8"/>
                    </a:lnTo>
                    <a:lnTo>
                      <a:pt x="16" y="16"/>
                    </a:lnTo>
                    <a:lnTo>
                      <a:pt x="9" y="23"/>
                    </a:lnTo>
                    <a:lnTo>
                      <a:pt x="5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4"/>
                    </a:lnTo>
                    <a:lnTo>
                      <a:pt x="37" y="42"/>
                    </a:lnTo>
                    <a:lnTo>
                      <a:pt x="40" y="40"/>
                    </a:lnTo>
                    <a:lnTo>
                      <a:pt x="42" y="37"/>
                    </a:lnTo>
                    <a:lnTo>
                      <a:pt x="46" y="36"/>
                    </a:lnTo>
                    <a:lnTo>
                      <a:pt x="48" y="35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641680" y="33242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2"/>
                    </a:moveTo>
                    <a:lnTo>
                      <a:pt x="52" y="52"/>
                    </a:lnTo>
                    <a:lnTo>
                      <a:pt x="51" y="41"/>
                    </a:lnTo>
                    <a:lnTo>
                      <a:pt x="47" y="31"/>
                    </a:lnTo>
                    <a:lnTo>
                      <a:pt x="42" y="23"/>
                    </a:lnTo>
                    <a:lnTo>
                      <a:pt x="36" y="15"/>
                    </a:lnTo>
                    <a:lnTo>
                      <a:pt x="29" y="9"/>
                    </a:lnTo>
                    <a:lnTo>
                      <a:pt x="21" y="4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5"/>
                    </a:lnTo>
                    <a:lnTo>
                      <a:pt x="6" y="36"/>
                    </a:lnTo>
                    <a:lnTo>
                      <a:pt x="10" y="37"/>
                    </a:lnTo>
                    <a:lnTo>
                      <a:pt x="12" y="40"/>
                    </a:lnTo>
                    <a:lnTo>
                      <a:pt x="13" y="42"/>
                    </a:lnTo>
                    <a:lnTo>
                      <a:pt x="16" y="45"/>
                    </a:lnTo>
                    <a:lnTo>
                      <a:pt x="17" y="48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2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641680" y="33433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0" y="50"/>
                    </a:moveTo>
                    <a:lnTo>
                      <a:pt x="0" y="50"/>
                    </a:lnTo>
                    <a:lnTo>
                      <a:pt x="11" y="50"/>
                    </a:lnTo>
                    <a:lnTo>
                      <a:pt x="21" y="47"/>
                    </a:lnTo>
                    <a:lnTo>
                      <a:pt x="29" y="42"/>
                    </a:lnTo>
                    <a:lnTo>
                      <a:pt x="36" y="36"/>
                    </a:lnTo>
                    <a:lnTo>
                      <a:pt x="42" y="29"/>
                    </a:lnTo>
                    <a:lnTo>
                      <a:pt x="47" y="19"/>
                    </a:lnTo>
                    <a:lnTo>
                      <a:pt x="51" y="9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12" y="11"/>
                    </a:lnTo>
                    <a:lnTo>
                      <a:pt x="10" y="13"/>
                    </a:lnTo>
                    <a:lnTo>
                      <a:pt x="6" y="14"/>
                    </a:lnTo>
                    <a:lnTo>
                      <a:pt x="4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620800" y="33433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0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4" y="19"/>
                    </a:lnTo>
                    <a:lnTo>
                      <a:pt x="8" y="29"/>
                    </a:lnTo>
                    <a:lnTo>
                      <a:pt x="15" y="36"/>
                    </a:lnTo>
                    <a:lnTo>
                      <a:pt x="22" y="42"/>
                    </a:lnTo>
                    <a:lnTo>
                      <a:pt x="31" y="47"/>
                    </a:lnTo>
                    <a:lnTo>
                      <a:pt x="40" y="50"/>
                    </a:lnTo>
                    <a:lnTo>
                      <a:pt x="51" y="50"/>
                    </a:lnTo>
                    <a:lnTo>
                      <a:pt x="51" y="17"/>
                    </a:lnTo>
                    <a:lnTo>
                      <a:pt x="48" y="15"/>
                    </a:lnTo>
                    <a:lnTo>
                      <a:pt x="45" y="14"/>
                    </a:lnTo>
                    <a:lnTo>
                      <a:pt x="42" y="13"/>
                    </a:lnTo>
                    <a:lnTo>
                      <a:pt x="39" y="11"/>
                    </a:lnTo>
                    <a:lnTo>
                      <a:pt x="37" y="8"/>
                    </a:lnTo>
                    <a:lnTo>
                      <a:pt x="36" y="6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620800" y="332424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0"/>
                    </a:moveTo>
                    <a:lnTo>
                      <a:pt x="51" y="0"/>
                    </a:lnTo>
                    <a:lnTo>
                      <a:pt x="40" y="1"/>
                    </a:lnTo>
                    <a:lnTo>
                      <a:pt x="31" y="4"/>
                    </a:lnTo>
                    <a:lnTo>
                      <a:pt x="22" y="9"/>
                    </a:lnTo>
                    <a:lnTo>
                      <a:pt x="15" y="15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34" y="52"/>
                    </a:lnTo>
                    <a:lnTo>
                      <a:pt x="34" y="48"/>
                    </a:lnTo>
                    <a:lnTo>
                      <a:pt x="36" y="45"/>
                    </a:lnTo>
                    <a:lnTo>
                      <a:pt x="37" y="42"/>
                    </a:lnTo>
                    <a:lnTo>
                      <a:pt x="39" y="40"/>
                    </a:lnTo>
                    <a:lnTo>
                      <a:pt x="42" y="37"/>
                    </a:lnTo>
                    <a:lnTo>
                      <a:pt x="45" y="36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684520" y="33336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51"/>
                    </a:moveTo>
                    <a:lnTo>
                      <a:pt x="52" y="51"/>
                    </a:lnTo>
                    <a:lnTo>
                      <a:pt x="51" y="40"/>
                    </a:lnTo>
                    <a:lnTo>
                      <a:pt x="48" y="31"/>
                    </a:lnTo>
                    <a:lnTo>
                      <a:pt x="43" y="22"/>
                    </a:lnTo>
                    <a:lnTo>
                      <a:pt x="36" y="14"/>
                    </a:lnTo>
                    <a:lnTo>
                      <a:pt x="29" y="8"/>
                    </a:lnTo>
                    <a:lnTo>
                      <a:pt x="21" y="3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4" y="34"/>
                    </a:lnTo>
                    <a:lnTo>
                      <a:pt x="7" y="36"/>
                    </a:lnTo>
                    <a:lnTo>
                      <a:pt x="10" y="37"/>
                    </a:lnTo>
                    <a:lnTo>
                      <a:pt x="12" y="39"/>
                    </a:lnTo>
                    <a:lnTo>
                      <a:pt x="15" y="42"/>
                    </a:lnTo>
                    <a:lnTo>
                      <a:pt x="16" y="44"/>
                    </a:lnTo>
                    <a:lnTo>
                      <a:pt x="17" y="48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52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684520" y="33544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51"/>
                    </a:moveTo>
                    <a:lnTo>
                      <a:pt x="0" y="51"/>
                    </a:lnTo>
                    <a:lnTo>
                      <a:pt x="11" y="51"/>
                    </a:lnTo>
                    <a:lnTo>
                      <a:pt x="21" y="47"/>
                    </a:lnTo>
                    <a:lnTo>
                      <a:pt x="29" y="42"/>
                    </a:lnTo>
                    <a:lnTo>
                      <a:pt x="36" y="36"/>
                    </a:lnTo>
                    <a:lnTo>
                      <a:pt x="43" y="29"/>
                    </a:lnTo>
                    <a:lnTo>
                      <a:pt x="48" y="19"/>
                    </a:lnTo>
                    <a:lnTo>
                      <a:pt x="51" y="10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6" y="6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10" y="13"/>
                    </a:lnTo>
                    <a:lnTo>
                      <a:pt x="7" y="15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663640" y="33544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10"/>
                    </a:lnTo>
                    <a:lnTo>
                      <a:pt x="4" y="19"/>
                    </a:lnTo>
                    <a:lnTo>
                      <a:pt x="9" y="29"/>
                    </a:lnTo>
                    <a:lnTo>
                      <a:pt x="15" y="36"/>
                    </a:lnTo>
                    <a:lnTo>
                      <a:pt x="22" y="42"/>
                    </a:lnTo>
                    <a:lnTo>
                      <a:pt x="31" y="47"/>
                    </a:lnTo>
                    <a:lnTo>
                      <a:pt x="42" y="51"/>
                    </a:lnTo>
                    <a:lnTo>
                      <a:pt x="51" y="51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5" y="15"/>
                    </a:lnTo>
                    <a:lnTo>
                      <a:pt x="42" y="13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6" y="6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663640" y="33336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1" y="0"/>
                    </a:moveTo>
                    <a:lnTo>
                      <a:pt x="51" y="0"/>
                    </a:lnTo>
                    <a:lnTo>
                      <a:pt x="42" y="1"/>
                    </a:lnTo>
                    <a:lnTo>
                      <a:pt x="31" y="3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0"/>
                    </a:lnTo>
                    <a:lnTo>
                      <a:pt x="0" y="51"/>
                    </a:lnTo>
                    <a:lnTo>
                      <a:pt x="34" y="51"/>
                    </a:lnTo>
                    <a:lnTo>
                      <a:pt x="34" y="48"/>
                    </a:lnTo>
                    <a:lnTo>
                      <a:pt x="36" y="44"/>
                    </a:lnTo>
                    <a:lnTo>
                      <a:pt x="38" y="42"/>
                    </a:lnTo>
                    <a:lnTo>
                      <a:pt x="39" y="39"/>
                    </a:lnTo>
                    <a:lnTo>
                      <a:pt x="42" y="37"/>
                    </a:lnTo>
                    <a:lnTo>
                      <a:pt x="45" y="36"/>
                    </a:lnTo>
                    <a:lnTo>
                      <a:pt x="48" y="34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720880" y="33037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50"/>
                    </a:moveTo>
                    <a:lnTo>
                      <a:pt x="51" y="50"/>
                    </a:lnTo>
                    <a:lnTo>
                      <a:pt x="49" y="41"/>
                    </a:lnTo>
                    <a:lnTo>
                      <a:pt x="47" y="31"/>
                    </a:lnTo>
                    <a:lnTo>
                      <a:pt x="42" y="22"/>
                    </a:lnTo>
                    <a:lnTo>
                      <a:pt x="36" y="14"/>
                    </a:lnTo>
                    <a:lnTo>
                      <a:pt x="28" y="8"/>
                    </a:lnTo>
                    <a:lnTo>
                      <a:pt x="19" y="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6" y="36"/>
                    </a:lnTo>
                    <a:lnTo>
                      <a:pt x="9" y="37"/>
                    </a:lnTo>
                    <a:lnTo>
                      <a:pt x="11" y="40"/>
                    </a:lnTo>
                    <a:lnTo>
                      <a:pt x="13" y="42"/>
                    </a:lnTo>
                    <a:lnTo>
                      <a:pt x="15" y="44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51" y="5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720880" y="33242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52"/>
                    </a:moveTo>
                    <a:lnTo>
                      <a:pt x="0" y="52"/>
                    </a:lnTo>
                    <a:lnTo>
                      <a:pt x="10" y="51"/>
                    </a:lnTo>
                    <a:lnTo>
                      <a:pt x="19" y="48"/>
                    </a:lnTo>
                    <a:lnTo>
                      <a:pt x="28" y="44"/>
                    </a:lnTo>
                    <a:lnTo>
                      <a:pt x="36" y="38"/>
                    </a:lnTo>
                    <a:lnTo>
                      <a:pt x="42" y="29"/>
                    </a:lnTo>
                    <a:lnTo>
                      <a:pt x="47" y="21"/>
                    </a:lnTo>
                    <a:lnTo>
                      <a:pt x="49" y="11"/>
                    </a:lnTo>
                    <a:lnTo>
                      <a:pt x="51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5" y="8"/>
                    </a:lnTo>
                    <a:lnTo>
                      <a:pt x="13" y="10"/>
                    </a:lnTo>
                    <a:lnTo>
                      <a:pt x="11" y="12"/>
                    </a:lnTo>
                    <a:lnTo>
                      <a:pt x="9" y="15"/>
                    </a:lnTo>
                    <a:lnTo>
                      <a:pt x="6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700360" y="33242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3" y="21"/>
                    </a:lnTo>
                    <a:lnTo>
                      <a:pt x="8" y="29"/>
                    </a:lnTo>
                    <a:lnTo>
                      <a:pt x="14" y="38"/>
                    </a:lnTo>
                    <a:lnTo>
                      <a:pt x="22" y="44"/>
                    </a:lnTo>
                    <a:lnTo>
                      <a:pt x="31" y="48"/>
                    </a:lnTo>
                    <a:lnTo>
                      <a:pt x="40" y="51"/>
                    </a:lnTo>
                    <a:lnTo>
                      <a:pt x="51" y="52"/>
                    </a:lnTo>
                    <a:lnTo>
                      <a:pt x="51" y="17"/>
                    </a:lnTo>
                    <a:lnTo>
                      <a:pt x="48" y="17"/>
                    </a:lnTo>
                    <a:lnTo>
                      <a:pt x="44" y="16"/>
                    </a:lnTo>
                    <a:lnTo>
                      <a:pt x="42" y="15"/>
                    </a:lnTo>
                    <a:lnTo>
                      <a:pt x="39" y="12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700360" y="33037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0"/>
                    </a:moveTo>
                    <a:lnTo>
                      <a:pt x="51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4" y="14"/>
                    </a:lnTo>
                    <a:lnTo>
                      <a:pt x="8" y="22"/>
                    </a:lnTo>
                    <a:lnTo>
                      <a:pt x="3" y="31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34" y="50"/>
                    </a:lnTo>
                    <a:lnTo>
                      <a:pt x="34" y="48"/>
                    </a:lnTo>
                    <a:lnTo>
                      <a:pt x="36" y="44"/>
                    </a:lnTo>
                    <a:lnTo>
                      <a:pt x="37" y="42"/>
                    </a:lnTo>
                    <a:lnTo>
                      <a:pt x="39" y="40"/>
                    </a:lnTo>
                    <a:lnTo>
                      <a:pt x="42" y="37"/>
                    </a:lnTo>
                    <a:lnTo>
                      <a:pt x="44" y="36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670120" y="32749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50"/>
                    </a:moveTo>
                    <a:lnTo>
                      <a:pt x="51" y="50"/>
                    </a:lnTo>
                    <a:lnTo>
                      <a:pt x="51" y="41"/>
                    </a:lnTo>
                    <a:lnTo>
                      <a:pt x="47" y="31"/>
                    </a:lnTo>
                    <a:lnTo>
                      <a:pt x="42" y="21"/>
                    </a:lnTo>
                    <a:lnTo>
                      <a:pt x="36" y="14"/>
                    </a:lnTo>
                    <a:lnTo>
                      <a:pt x="29" y="8"/>
                    </a:lnTo>
                    <a:lnTo>
                      <a:pt x="19" y="3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6" y="36"/>
                    </a:lnTo>
                    <a:lnTo>
                      <a:pt x="9" y="37"/>
                    </a:lnTo>
                    <a:lnTo>
                      <a:pt x="11" y="39"/>
                    </a:lnTo>
                    <a:lnTo>
                      <a:pt x="13" y="42"/>
                    </a:lnTo>
                    <a:lnTo>
                      <a:pt x="15" y="44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51" y="5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670120" y="32958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52"/>
                    </a:moveTo>
                    <a:lnTo>
                      <a:pt x="0" y="52"/>
                    </a:lnTo>
                    <a:lnTo>
                      <a:pt x="10" y="51"/>
                    </a:lnTo>
                    <a:lnTo>
                      <a:pt x="19" y="48"/>
                    </a:lnTo>
                    <a:lnTo>
                      <a:pt x="29" y="43"/>
                    </a:lnTo>
                    <a:lnTo>
                      <a:pt x="36" y="37"/>
                    </a:lnTo>
                    <a:lnTo>
                      <a:pt x="42" y="29"/>
                    </a:lnTo>
                    <a:lnTo>
                      <a:pt x="47" y="21"/>
                    </a:lnTo>
                    <a:lnTo>
                      <a:pt x="51" y="11"/>
                    </a:lnTo>
                    <a:lnTo>
                      <a:pt x="51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1" y="12"/>
                    </a:lnTo>
                    <a:lnTo>
                      <a:pt x="9" y="15"/>
                    </a:lnTo>
                    <a:lnTo>
                      <a:pt x="6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649600" y="32958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3" y="21"/>
                    </a:lnTo>
                    <a:lnTo>
                      <a:pt x="8" y="29"/>
                    </a:lnTo>
                    <a:lnTo>
                      <a:pt x="14" y="37"/>
                    </a:lnTo>
                    <a:lnTo>
                      <a:pt x="22" y="43"/>
                    </a:lnTo>
                    <a:lnTo>
                      <a:pt x="31" y="48"/>
                    </a:lnTo>
                    <a:lnTo>
                      <a:pt x="40" y="51"/>
                    </a:lnTo>
                    <a:lnTo>
                      <a:pt x="51" y="52"/>
                    </a:lnTo>
                    <a:lnTo>
                      <a:pt x="51" y="17"/>
                    </a:lnTo>
                    <a:lnTo>
                      <a:pt x="48" y="17"/>
                    </a:lnTo>
                    <a:lnTo>
                      <a:pt x="44" y="16"/>
                    </a:lnTo>
                    <a:lnTo>
                      <a:pt x="42" y="15"/>
                    </a:lnTo>
                    <a:lnTo>
                      <a:pt x="39" y="12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649600" y="32749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0"/>
                    </a:moveTo>
                    <a:lnTo>
                      <a:pt x="51" y="0"/>
                    </a:lnTo>
                    <a:lnTo>
                      <a:pt x="40" y="0"/>
                    </a:lnTo>
                    <a:lnTo>
                      <a:pt x="31" y="3"/>
                    </a:lnTo>
                    <a:lnTo>
                      <a:pt x="22" y="8"/>
                    </a:lnTo>
                    <a:lnTo>
                      <a:pt x="14" y="14"/>
                    </a:lnTo>
                    <a:lnTo>
                      <a:pt x="8" y="21"/>
                    </a:lnTo>
                    <a:lnTo>
                      <a:pt x="3" y="31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34" y="50"/>
                    </a:lnTo>
                    <a:lnTo>
                      <a:pt x="34" y="48"/>
                    </a:lnTo>
                    <a:lnTo>
                      <a:pt x="36" y="44"/>
                    </a:lnTo>
                    <a:lnTo>
                      <a:pt x="37" y="42"/>
                    </a:lnTo>
                    <a:lnTo>
                      <a:pt x="39" y="39"/>
                    </a:lnTo>
                    <a:lnTo>
                      <a:pt x="42" y="37"/>
                    </a:lnTo>
                    <a:lnTo>
                      <a:pt x="44" y="36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725560" y="325296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50" y="52"/>
                    </a:moveTo>
                    <a:lnTo>
                      <a:pt x="50" y="52"/>
                    </a:lnTo>
                    <a:lnTo>
                      <a:pt x="50" y="41"/>
                    </a:lnTo>
                    <a:lnTo>
                      <a:pt x="46" y="31"/>
                    </a:lnTo>
                    <a:lnTo>
                      <a:pt x="42" y="23"/>
                    </a:lnTo>
                    <a:lnTo>
                      <a:pt x="36" y="16"/>
                    </a:lnTo>
                    <a:lnTo>
                      <a:pt x="28" y="9"/>
                    </a:lnTo>
                    <a:lnTo>
                      <a:pt x="19" y="4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6" y="36"/>
                    </a:lnTo>
                    <a:lnTo>
                      <a:pt x="8" y="37"/>
                    </a:lnTo>
                    <a:lnTo>
                      <a:pt x="10" y="40"/>
                    </a:lnTo>
                    <a:lnTo>
                      <a:pt x="13" y="42"/>
                    </a:lnTo>
                    <a:lnTo>
                      <a:pt x="14" y="45"/>
                    </a:lnTo>
                    <a:lnTo>
                      <a:pt x="15" y="48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725560" y="32716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51"/>
                    </a:moveTo>
                    <a:lnTo>
                      <a:pt x="0" y="51"/>
                    </a:lnTo>
                    <a:lnTo>
                      <a:pt x="9" y="50"/>
                    </a:lnTo>
                    <a:lnTo>
                      <a:pt x="19" y="47"/>
                    </a:lnTo>
                    <a:lnTo>
                      <a:pt x="28" y="42"/>
                    </a:lnTo>
                    <a:lnTo>
                      <a:pt x="36" y="36"/>
                    </a:lnTo>
                    <a:lnTo>
                      <a:pt x="42" y="29"/>
                    </a:lnTo>
                    <a:lnTo>
                      <a:pt x="46" y="20"/>
                    </a:lnTo>
                    <a:lnTo>
                      <a:pt x="50" y="9"/>
                    </a:lnTo>
                    <a:lnTo>
                      <a:pt x="50" y="0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5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706480" y="327168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4" y="20"/>
                    </a:lnTo>
                    <a:lnTo>
                      <a:pt x="8" y="29"/>
                    </a:lnTo>
                    <a:lnTo>
                      <a:pt x="14" y="36"/>
                    </a:lnTo>
                    <a:lnTo>
                      <a:pt x="23" y="42"/>
                    </a:lnTo>
                    <a:lnTo>
                      <a:pt x="31" y="47"/>
                    </a:lnTo>
                    <a:lnTo>
                      <a:pt x="41" y="50"/>
                    </a:lnTo>
                    <a:lnTo>
                      <a:pt x="52" y="51"/>
                    </a:lnTo>
                    <a:lnTo>
                      <a:pt x="52" y="17"/>
                    </a:lnTo>
                    <a:lnTo>
                      <a:pt x="48" y="17"/>
                    </a:lnTo>
                    <a:lnTo>
                      <a:pt x="44" y="15"/>
                    </a:lnTo>
                    <a:lnTo>
                      <a:pt x="42" y="13"/>
                    </a:lnTo>
                    <a:lnTo>
                      <a:pt x="40" y="12"/>
                    </a:lnTo>
                    <a:lnTo>
                      <a:pt x="37" y="9"/>
                    </a:lnTo>
                    <a:lnTo>
                      <a:pt x="36" y="6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706480" y="325296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52" y="0"/>
                    </a:lnTo>
                    <a:lnTo>
                      <a:pt x="41" y="2"/>
                    </a:lnTo>
                    <a:lnTo>
                      <a:pt x="31" y="4"/>
                    </a:lnTo>
                    <a:lnTo>
                      <a:pt x="23" y="9"/>
                    </a:lnTo>
                    <a:lnTo>
                      <a:pt x="14" y="16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5"/>
                    </a:lnTo>
                    <a:lnTo>
                      <a:pt x="37" y="42"/>
                    </a:lnTo>
                    <a:lnTo>
                      <a:pt x="40" y="40"/>
                    </a:lnTo>
                    <a:lnTo>
                      <a:pt x="42" y="37"/>
                    </a:lnTo>
                    <a:lnTo>
                      <a:pt x="44" y="36"/>
                    </a:lnTo>
                    <a:lnTo>
                      <a:pt x="48" y="35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768400" y="32274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52"/>
                    </a:moveTo>
                    <a:lnTo>
                      <a:pt x="51" y="52"/>
                    </a:lnTo>
                    <a:lnTo>
                      <a:pt x="50" y="41"/>
                    </a:lnTo>
                    <a:lnTo>
                      <a:pt x="46" y="31"/>
                    </a:lnTo>
                    <a:lnTo>
                      <a:pt x="42" y="23"/>
                    </a:lnTo>
                    <a:lnTo>
                      <a:pt x="36" y="16"/>
                    </a:lnTo>
                    <a:lnTo>
                      <a:pt x="28" y="8"/>
                    </a:lnTo>
                    <a:lnTo>
                      <a:pt x="19" y="4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6" y="36"/>
                    </a:lnTo>
                    <a:lnTo>
                      <a:pt x="8" y="37"/>
                    </a:lnTo>
                    <a:lnTo>
                      <a:pt x="12" y="40"/>
                    </a:lnTo>
                    <a:lnTo>
                      <a:pt x="13" y="42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51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768400" y="32479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51"/>
                    </a:moveTo>
                    <a:lnTo>
                      <a:pt x="0" y="51"/>
                    </a:lnTo>
                    <a:lnTo>
                      <a:pt x="9" y="50"/>
                    </a:lnTo>
                    <a:lnTo>
                      <a:pt x="19" y="46"/>
                    </a:lnTo>
                    <a:lnTo>
                      <a:pt x="28" y="41"/>
                    </a:lnTo>
                    <a:lnTo>
                      <a:pt x="36" y="35"/>
                    </a:lnTo>
                    <a:lnTo>
                      <a:pt x="42" y="28"/>
                    </a:lnTo>
                    <a:lnTo>
                      <a:pt x="46" y="20"/>
                    </a:lnTo>
                    <a:lnTo>
                      <a:pt x="50" y="9"/>
                    </a:lnTo>
                    <a:lnTo>
                      <a:pt x="51" y="0"/>
                    </a:lnTo>
                    <a:lnTo>
                      <a:pt x="16" y="0"/>
                    </a:lnTo>
                    <a:lnTo>
                      <a:pt x="15" y="3"/>
                    </a:lnTo>
                    <a:lnTo>
                      <a:pt x="15" y="6"/>
                    </a:lnTo>
                    <a:lnTo>
                      <a:pt x="13" y="9"/>
                    </a:lnTo>
                    <a:lnTo>
                      <a:pt x="12" y="12"/>
                    </a:lnTo>
                    <a:lnTo>
                      <a:pt x="8" y="13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749320" y="324792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4" y="20"/>
                    </a:lnTo>
                    <a:lnTo>
                      <a:pt x="8" y="28"/>
                    </a:lnTo>
                    <a:lnTo>
                      <a:pt x="14" y="35"/>
                    </a:lnTo>
                    <a:lnTo>
                      <a:pt x="23" y="41"/>
                    </a:lnTo>
                    <a:lnTo>
                      <a:pt x="31" y="46"/>
                    </a:lnTo>
                    <a:lnTo>
                      <a:pt x="41" y="50"/>
                    </a:lnTo>
                    <a:lnTo>
                      <a:pt x="52" y="51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4" y="15"/>
                    </a:lnTo>
                    <a:lnTo>
                      <a:pt x="42" y="13"/>
                    </a:lnTo>
                    <a:lnTo>
                      <a:pt x="40" y="12"/>
                    </a:lnTo>
                    <a:lnTo>
                      <a:pt x="37" y="9"/>
                    </a:lnTo>
                    <a:lnTo>
                      <a:pt x="36" y="6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749320" y="32274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52" y="0"/>
                    </a:lnTo>
                    <a:lnTo>
                      <a:pt x="41" y="1"/>
                    </a:lnTo>
                    <a:lnTo>
                      <a:pt x="31" y="4"/>
                    </a:lnTo>
                    <a:lnTo>
                      <a:pt x="23" y="8"/>
                    </a:lnTo>
                    <a:lnTo>
                      <a:pt x="14" y="16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4"/>
                    </a:lnTo>
                    <a:lnTo>
                      <a:pt x="37" y="42"/>
                    </a:lnTo>
                    <a:lnTo>
                      <a:pt x="40" y="40"/>
                    </a:lnTo>
                    <a:lnTo>
                      <a:pt x="42" y="37"/>
                    </a:lnTo>
                    <a:lnTo>
                      <a:pt x="44" y="36"/>
                    </a:lnTo>
                    <a:lnTo>
                      <a:pt x="48" y="35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765160" y="32749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51"/>
                    </a:moveTo>
                    <a:lnTo>
                      <a:pt x="52" y="51"/>
                    </a:lnTo>
                    <a:lnTo>
                      <a:pt x="51" y="42"/>
                    </a:lnTo>
                    <a:lnTo>
                      <a:pt x="48" y="32"/>
                    </a:lnTo>
                    <a:lnTo>
                      <a:pt x="43" y="23"/>
                    </a:lnTo>
                    <a:lnTo>
                      <a:pt x="37" y="15"/>
                    </a:lnTo>
                    <a:lnTo>
                      <a:pt x="29" y="9"/>
                    </a:lnTo>
                    <a:lnTo>
                      <a:pt x="21" y="5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6"/>
                    </a:lnTo>
                    <a:lnTo>
                      <a:pt x="7" y="37"/>
                    </a:lnTo>
                    <a:lnTo>
                      <a:pt x="10" y="38"/>
                    </a:lnTo>
                    <a:lnTo>
                      <a:pt x="12" y="41"/>
                    </a:lnTo>
                    <a:lnTo>
                      <a:pt x="15" y="43"/>
                    </a:lnTo>
                    <a:lnTo>
                      <a:pt x="16" y="45"/>
                    </a:lnTo>
                    <a:lnTo>
                      <a:pt x="17" y="49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52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765160" y="32958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52"/>
                    </a:moveTo>
                    <a:lnTo>
                      <a:pt x="0" y="52"/>
                    </a:lnTo>
                    <a:lnTo>
                      <a:pt x="11" y="51"/>
                    </a:lnTo>
                    <a:lnTo>
                      <a:pt x="21" y="48"/>
                    </a:lnTo>
                    <a:lnTo>
                      <a:pt x="29" y="44"/>
                    </a:lnTo>
                    <a:lnTo>
                      <a:pt x="37" y="38"/>
                    </a:lnTo>
                    <a:lnTo>
                      <a:pt x="43" y="29"/>
                    </a:lnTo>
                    <a:lnTo>
                      <a:pt x="48" y="21"/>
                    </a:lnTo>
                    <a:lnTo>
                      <a:pt x="51" y="11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6" y="8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0" y="15"/>
                    </a:lnTo>
                    <a:lnTo>
                      <a:pt x="7" y="16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746440" y="329580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3" y="21"/>
                    </a:lnTo>
                    <a:lnTo>
                      <a:pt x="8" y="29"/>
                    </a:lnTo>
                    <a:lnTo>
                      <a:pt x="14" y="38"/>
                    </a:lnTo>
                    <a:lnTo>
                      <a:pt x="21" y="44"/>
                    </a:lnTo>
                    <a:lnTo>
                      <a:pt x="31" y="48"/>
                    </a:lnTo>
                    <a:lnTo>
                      <a:pt x="41" y="51"/>
                    </a:lnTo>
                    <a:lnTo>
                      <a:pt x="50" y="52"/>
                    </a:lnTo>
                    <a:lnTo>
                      <a:pt x="50" y="17"/>
                    </a:lnTo>
                    <a:lnTo>
                      <a:pt x="48" y="17"/>
                    </a:lnTo>
                    <a:lnTo>
                      <a:pt x="44" y="16"/>
                    </a:lnTo>
                    <a:lnTo>
                      <a:pt x="42" y="15"/>
                    </a:lnTo>
                    <a:lnTo>
                      <a:pt x="39" y="12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746440" y="3274920"/>
                <a:ext cx="18720" cy="208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50" y="0"/>
                    </a:lnTo>
                    <a:lnTo>
                      <a:pt x="41" y="1"/>
                    </a:lnTo>
                    <a:lnTo>
                      <a:pt x="31" y="5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3"/>
                    </a:lnTo>
                    <a:lnTo>
                      <a:pt x="3" y="32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35" y="51"/>
                    </a:lnTo>
                    <a:lnTo>
                      <a:pt x="35" y="48"/>
                    </a:lnTo>
                    <a:lnTo>
                      <a:pt x="36" y="45"/>
                    </a:lnTo>
                    <a:lnTo>
                      <a:pt x="37" y="43"/>
                    </a:lnTo>
                    <a:lnTo>
                      <a:pt x="39" y="41"/>
                    </a:lnTo>
                    <a:lnTo>
                      <a:pt x="42" y="38"/>
                    </a:lnTo>
                    <a:lnTo>
                      <a:pt x="44" y="37"/>
                    </a:lnTo>
                    <a:lnTo>
                      <a:pt x="48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809800" y="32716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52"/>
                    </a:moveTo>
                    <a:lnTo>
                      <a:pt x="51" y="52"/>
                    </a:lnTo>
                    <a:lnTo>
                      <a:pt x="50" y="42"/>
                    </a:lnTo>
                    <a:lnTo>
                      <a:pt x="47" y="33"/>
                    </a:lnTo>
                    <a:lnTo>
                      <a:pt x="42" y="23"/>
                    </a:lnTo>
                    <a:lnTo>
                      <a:pt x="36" y="16"/>
                    </a:lnTo>
                    <a:lnTo>
                      <a:pt x="29" y="10"/>
                    </a:lnTo>
                    <a:lnTo>
                      <a:pt x="19" y="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" y="36"/>
                    </a:lnTo>
                    <a:lnTo>
                      <a:pt x="6" y="36"/>
                    </a:lnTo>
                    <a:lnTo>
                      <a:pt x="9" y="39"/>
                    </a:lnTo>
                    <a:lnTo>
                      <a:pt x="12" y="40"/>
                    </a:lnTo>
                    <a:lnTo>
                      <a:pt x="13" y="42"/>
                    </a:lnTo>
                    <a:lnTo>
                      <a:pt x="15" y="46"/>
                    </a:lnTo>
                    <a:lnTo>
                      <a:pt x="15" y="48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1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809800" y="32925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52"/>
                    </a:moveTo>
                    <a:lnTo>
                      <a:pt x="0" y="52"/>
                    </a:lnTo>
                    <a:lnTo>
                      <a:pt x="9" y="50"/>
                    </a:lnTo>
                    <a:lnTo>
                      <a:pt x="19" y="48"/>
                    </a:lnTo>
                    <a:lnTo>
                      <a:pt x="29" y="43"/>
                    </a:lnTo>
                    <a:lnTo>
                      <a:pt x="36" y="37"/>
                    </a:lnTo>
                    <a:lnTo>
                      <a:pt x="42" y="29"/>
                    </a:lnTo>
                    <a:lnTo>
                      <a:pt x="47" y="20"/>
                    </a:lnTo>
                    <a:lnTo>
                      <a:pt x="50" y="11"/>
                    </a:lnTo>
                    <a:lnTo>
                      <a:pt x="51" y="0"/>
                    </a:lnTo>
                    <a:lnTo>
                      <a:pt x="17" y="0"/>
                    </a:lnTo>
                    <a:lnTo>
                      <a:pt x="15" y="4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789280" y="32925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4" y="20"/>
                    </a:lnTo>
                    <a:lnTo>
                      <a:pt x="9" y="29"/>
                    </a:lnTo>
                    <a:lnTo>
                      <a:pt x="15" y="37"/>
                    </a:lnTo>
                    <a:lnTo>
                      <a:pt x="23" y="43"/>
                    </a:lnTo>
                    <a:lnTo>
                      <a:pt x="31" y="48"/>
                    </a:lnTo>
                    <a:lnTo>
                      <a:pt x="41" y="50"/>
                    </a:lnTo>
                    <a:lnTo>
                      <a:pt x="52" y="52"/>
                    </a:lnTo>
                    <a:lnTo>
                      <a:pt x="52" y="17"/>
                    </a:lnTo>
                    <a:lnTo>
                      <a:pt x="48" y="17"/>
                    </a:lnTo>
                    <a:lnTo>
                      <a:pt x="45" y="16"/>
                    </a:lnTo>
                    <a:lnTo>
                      <a:pt x="42" y="14"/>
                    </a:lnTo>
                    <a:lnTo>
                      <a:pt x="40" y="12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789280" y="32716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52" y="0"/>
                    </a:lnTo>
                    <a:lnTo>
                      <a:pt x="41" y="2"/>
                    </a:lnTo>
                    <a:lnTo>
                      <a:pt x="31" y="5"/>
                    </a:lnTo>
                    <a:lnTo>
                      <a:pt x="23" y="10"/>
                    </a:lnTo>
                    <a:lnTo>
                      <a:pt x="15" y="16"/>
                    </a:lnTo>
                    <a:lnTo>
                      <a:pt x="9" y="23"/>
                    </a:lnTo>
                    <a:lnTo>
                      <a:pt x="4" y="33"/>
                    </a:lnTo>
                    <a:lnTo>
                      <a:pt x="1" y="42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7" y="42"/>
                    </a:lnTo>
                    <a:lnTo>
                      <a:pt x="40" y="40"/>
                    </a:lnTo>
                    <a:lnTo>
                      <a:pt x="42" y="39"/>
                    </a:lnTo>
                    <a:lnTo>
                      <a:pt x="45" y="36"/>
                    </a:lnTo>
                    <a:lnTo>
                      <a:pt x="48" y="36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830320" y="32367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51"/>
                    </a:moveTo>
                    <a:lnTo>
                      <a:pt x="52" y="51"/>
                    </a:lnTo>
                    <a:lnTo>
                      <a:pt x="51" y="41"/>
                    </a:lnTo>
                    <a:lnTo>
                      <a:pt x="47" y="31"/>
                    </a:lnTo>
                    <a:lnTo>
                      <a:pt x="42" y="23"/>
                    </a:lnTo>
                    <a:lnTo>
                      <a:pt x="36" y="14"/>
                    </a:lnTo>
                    <a:lnTo>
                      <a:pt x="29" y="8"/>
                    </a:lnTo>
                    <a:lnTo>
                      <a:pt x="20" y="3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5"/>
                    </a:lnTo>
                    <a:lnTo>
                      <a:pt x="6" y="36"/>
                    </a:lnTo>
                    <a:lnTo>
                      <a:pt x="10" y="37"/>
                    </a:lnTo>
                    <a:lnTo>
                      <a:pt x="12" y="39"/>
                    </a:lnTo>
                    <a:lnTo>
                      <a:pt x="14" y="42"/>
                    </a:lnTo>
                    <a:lnTo>
                      <a:pt x="16" y="44"/>
                    </a:lnTo>
                    <a:lnTo>
                      <a:pt x="16" y="48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52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830320" y="325764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52"/>
                    </a:moveTo>
                    <a:lnTo>
                      <a:pt x="0" y="52"/>
                    </a:lnTo>
                    <a:lnTo>
                      <a:pt x="10" y="51"/>
                    </a:lnTo>
                    <a:lnTo>
                      <a:pt x="20" y="47"/>
                    </a:lnTo>
                    <a:lnTo>
                      <a:pt x="29" y="42"/>
                    </a:lnTo>
                    <a:lnTo>
                      <a:pt x="36" y="36"/>
                    </a:lnTo>
                    <a:lnTo>
                      <a:pt x="42" y="29"/>
                    </a:lnTo>
                    <a:lnTo>
                      <a:pt x="47" y="19"/>
                    </a:lnTo>
                    <a:lnTo>
                      <a:pt x="51" y="10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3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809800" y="32576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0"/>
                    </a:lnTo>
                    <a:lnTo>
                      <a:pt x="3" y="19"/>
                    </a:lnTo>
                    <a:lnTo>
                      <a:pt x="8" y="29"/>
                    </a:lnTo>
                    <a:lnTo>
                      <a:pt x="15" y="36"/>
                    </a:lnTo>
                    <a:lnTo>
                      <a:pt x="23" y="42"/>
                    </a:lnTo>
                    <a:lnTo>
                      <a:pt x="31" y="47"/>
                    </a:lnTo>
                    <a:lnTo>
                      <a:pt x="41" y="51"/>
                    </a:lnTo>
                    <a:lnTo>
                      <a:pt x="51" y="52"/>
                    </a:lnTo>
                    <a:lnTo>
                      <a:pt x="51" y="17"/>
                    </a:lnTo>
                    <a:lnTo>
                      <a:pt x="48" y="16"/>
                    </a:lnTo>
                    <a:lnTo>
                      <a:pt x="44" y="16"/>
                    </a:lnTo>
                    <a:lnTo>
                      <a:pt x="42" y="13"/>
                    </a:lnTo>
                    <a:lnTo>
                      <a:pt x="39" y="12"/>
                    </a:lnTo>
                    <a:lnTo>
                      <a:pt x="37" y="10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809800" y="323676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1" y="0"/>
                    </a:moveTo>
                    <a:lnTo>
                      <a:pt x="51" y="0"/>
                    </a:lnTo>
                    <a:lnTo>
                      <a:pt x="41" y="1"/>
                    </a:lnTo>
                    <a:lnTo>
                      <a:pt x="31" y="3"/>
                    </a:lnTo>
                    <a:lnTo>
                      <a:pt x="23" y="8"/>
                    </a:lnTo>
                    <a:lnTo>
                      <a:pt x="15" y="15"/>
                    </a:lnTo>
                    <a:lnTo>
                      <a:pt x="8" y="23"/>
                    </a:lnTo>
                    <a:lnTo>
                      <a:pt x="3" y="31"/>
                    </a:lnTo>
                    <a:lnTo>
                      <a:pt x="1" y="41"/>
                    </a:lnTo>
                    <a:lnTo>
                      <a:pt x="0" y="51"/>
                    </a:lnTo>
                    <a:lnTo>
                      <a:pt x="35" y="51"/>
                    </a:lnTo>
                    <a:lnTo>
                      <a:pt x="35" y="48"/>
                    </a:lnTo>
                    <a:lnTo>
                      <a:pt x="36" y="44"/>
                    </a:lnTo>
                    <a:lnTo>
                      <a:pt x="37" y="42"/>
                    </a:lnTo>
                    <a:lnTo>
                      <a:pt x="39" y="39"/>
                    </a:lnTo>
                    <a:lnTo>
                      <a:pt x="42" y="37"/>
                    </a:lnTo>
                    <a:lnTo>
                      <a:pt x="44" y="36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860560" y="32814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2"/>
                    </a:moveTo>
                    <a:lnTo>
                      <a:pt x="52" y="52"/>
                    </a:lnTo>
                    <a:lnTo>
                      <a:pt x="50" y="41"/>
                    </a:lnTo>
                    <a:lnTo>
                      <a:pt x="47" y="32"/>
                    </a:lnTo>
                    <a:lnTo>
                      <a:pt x="43" y="23"/>
                    </a:lnTo>
                    <a:lnTo>
                      <a:pt x="36" y="15"/>
                    </a:lnTo>
                    <a:lnTo>
                      <a:pt x="29" y="9"/>
                    </a:lnTo>
                    <a:lnTo>
                      <a:pt x="20" y="4"/>
                    </a:lnTo>
                    <a:lnTo>
                      <a:pt x="11" y="2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5"/>
                    </a:lnTo>
                    <a:lnTo>
                      <a:pt x="6" y="36"/>
                    </a:lnTo>
                    <a:lnTo>
                      <a:pt x="10" y="38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6" y="45"/>
                    </a:lnTo>
                    <a:lnTo>
                      <a:pt x="17" y="48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2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860560" y="33019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0" y="50"/>
                    </a:moveTo>
                    <a:lnTo>
                      <a:pt x="0" y="50"/>
                    </a:lnTo>
                    <a:lnTo>
                      <a:pt x="11" y="49"/>
                    </a:lnTo>
                    <a:lnTo>
                      <a:pt x="20" y="47"/>
                    </a:lnTo>
                    <a:lnTo>
                      <a:pt x="29" y="42"/>
                    </a:lnTo>
                    <a:lnTo>
                      <a:pt x="36" y="36"/>
                    </a:lnTo>
                    <a:lnTo>
                      <a:pt x="43" y="28"/>
                    </a:lnTo>
                    <a:lnTo>
                      <a:pt x="47" y="19"/>
                    </a:lnTo>
                    <a:lnTo>
                      <a:pt x="50" y="10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2" y="11"/>
                    </a:lnTo>
                    <a:lnTo>
                      <a:pt x="10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840040" y="33019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0" y="0"/>
                    </a:moveTo>
                    <a:lnTo>
                      <a:pt x="0" y="0"/>
                    </a:lnTo>
                    <a:lnTo>
                      <a:pt x="2" y="10"/>
                    </a:lnTo>
                    <a:lnTo>
                      <a:pt x="5" y="19"/>
                    </a:lnTo>
                    <a:lnTo>
                      <a:pt x="9" y="28"/>
                    </a:lnTo>
                    <a:lnTo>
                      <a:pt x="16" y="36"/>
                    </a:lnTo>
                    <a:lnTo>
                      <a:pt x="23" y="42"/>
                    </a:lnTo>
                    <a:lnTo>
                      <a:pt x="32" y="47"/>
                    </a:lnTo>
                    <a:lnTo>
                      <a:pt x="41" y="49"/>
                    </a:lnTo>
                    <a:lnTo>
                      <a:pt x="52" y="50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6" y="14"/>
                    </a:lnTo>
                    <a:lnTo>
                      <a:pt x="42" y="13"/>
                    </a:lnTo>
                    <a:lnTo>
                      <a:pt x="40" y="11"/>
                    </a:lnTo>
                    <a:lnTo>
                      <a:pt x="38" y="8"/>
                    </a:lnTo>
                    <a:lnTo>
                      <a:pt x="36" y="6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840040" y="32814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52" y="0"/>
                    </a:lnTo>
                    <a:lnTo>
                      <a:pt x="41" y="2"/>
                    </a:lnTo>
                    <a:lnTo>
                      <a:pt x="32" y="4"/>
                    </a:lnTo>
                    <a:lnTo>
                      <a:pt x="23" y="9"/>
                    </a:lnTo>
                    <a:lnTo>
                      <a:pt x="16" y="15"/>
                    </a:lnTo>
                    <a:lnTo>
                      <a:pt x="9" y="23"/>
                    </a:lnTo>
                    <a:lnTo>
                      <a:pt x="5" y="32"/>
                    </a:lnTo>
                    <a:lnTo>
                      <a:pt x="2" y="41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5"/>
                    </a:lnTo>
                    <a:lnTo>
                      <a:pt x="38" y="42"/>
                    </a:lnTo>
                    <a:lnTo>
                      <a:pt x="40" y="40"/>
                    </a:lnTo>
                    <a:lnTo>
                      <a:pt x="42" y="38"/>
                    </a:lnTo>
                    <a:lnTo>
                      <a:pt x="46" y="36"/>
                    </a:lnTo>
                    <a:lnTo>
                      <a:pt x="48" y="35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898720" y="33051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1" y="51"/>
                    </a:moveTo>
                    <a:lnTo>
                      <a:pt x="51" y="51"/>
                    </a:lnTo>
                    <a:lnTo>
                      <a:pt x="50" y="41"/>
                    </a:lnTo>
                    <a:lnTo>
                      <a:pt x="47" y="31"/>
                    </a:lnTo>
                    <a:lnTo>
                      <a:pt x="42" y="22"/>
                    </a:lnTo>
                    <a:lnTo>
                      <a:pt x="36" y="15"/>
                    </a:lnTo>
                    <a:lnTo>
                      <a:pt x="29" y="9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6" y="36"/>
                    </a:lnTo>
                    <a:lnTo>
                      <a:pt x="9" y="37"/>
                    </a:lnTo>
                    <a:lnTo>
                      <a:pt x="12" y="40"/>
                    </a:lnTo>
                    <a:lnTo>
                      <a:pt x="13" y="42"/>
                    </a:lnTo>
                    <a:lnTo>
                      <a:pt x="15" y="45"/>
                    </a:lnTo>
                    <a:lnTo>
                      <a:pt x="17" y="48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51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898720" y="33242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51"/>
                    </a:moveTo>
                    <a:lnTo>
                      <a:pt x="0" y="51"/>
                    </a:lnTo>
                    <a:lnTo>
                      <a:pt x="9" y="50"/>
                    </a:lnTo>
                    <a:lnTo>
                      <a:pt x="20" y="48"/>
                    </a:lnTo>
                    <a:lnTo>
                      <a:pt x="29" y="43"/>
                    </a:lnTo>
                    <a:lnTo>
                      <a:pt x="36" y="37"/>
                    </a:lnTo>
                    <a:lnTo>
                      <a:pt x="42" y="28"/>
                    </a:lnTo>
                    <a:lnTo>
                      <a:pt x="47" y="20"/>
                    </a:lnTo>
                    <a:lnTo>
                      <a:pt x="50" y="10"/>
                    </a:lnTo>
                    <a:lnTo>
                      <a:pt x="51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878200" y="33242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10"/>
                    </a:lnTo>
                    <a:lnTo>
                      <a:pt x="4" y="20"/>
                    </a:lnTo>
                    <a:lnTo>
                      <a:pt x="9" y="28"/>
                    </a:lnTo>
                    <a:lnTo>
                      <a:pt x="16" y="37"/>
                    </a:lnTo>
                    <a:lnTo>
                      <a:pt x="23" y="43"/>
                    </a:lnTo>
                    <a:lnTo>
                      <a:pt x="31" y="48"/>
                    </a:lnTo>
                    <a:lnTo>
                      <a:pt x="41" y="50"/>
                    </a:lnTo>
                    <a:lnTo>
                      <a:pt x="52" y="51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5" y="15"/>
                    </a:lnTo>
                    <a:lnTo>
                      <a:pt x="42" y="14"/>
                    </a:lnTo>
                    <a:lnTo>
                      <a:pt x="40" y="12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878200" y="33051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0"/>
                    </a:moveTo>
                    <a:lnTo>
                      <a:pt x="52" y="0"/>
                    </a:lnTo>
                    <a:lnTo>
                      <a:pt x="41" y="0"/>
                    </a:lnTo>
                    <a:lnTo>
                      <a:pt x="31" y="4"/>
                    </a:lnTo>
                    <a:lnTo>
                      <a:pt x="23" y="9"/>
                    </a:lnTo>
                    <a:lnTo>
                      <a:pt x="16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1"/>
                    </a:lnTo>
                    <a:lnTo>
                      <a:pt x="35" y="51"/>
                    </a:lnTo>
                    <a:lnTo>
                      <a:pt x="35" y="48"/>
                    </a:lnTo>
                    <a:lnTo>
                      <a:pt x="36" y="45"/>
                    </a:lnTo>
                    <a:lnTo>
                      <a:pt x="37" y="42"/>
                    </a:lnTo>
                    <a:lnTo>
                      <a:pt x="40" y="40"/>
                    </a:lnTo>
                    <a:lnTo>
                      <a:pt x="42" y="37"/>
                    </a:lnTo>
                    <a:lnTo>
                      <a:pt x="45" y="36"/>
                    </a:lnTo>
                    <a:lnTo>
                      <a:pt x="48" y="35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895480" y="32608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52"/>
                    </a:moveTo>
                    <a:lnTo>
                      <a:pt x="51" y="52"/>
                    </a:lnTo>
                    <a:lnTo>
                      <a:pt x="50" y="42"/>
                    </a:lnTo>
                    <a:lnTo>
                      <a:pt x="46" y="32"/>
                    </a:lnTo>
                    <a:lnTo>
                      <a:pt x="42" y="23"/>
                    </a:lnTo>
                    <a:lnTo>
                      <a:pt x="36" y="16"/>
                    </a:lnTo>
                    <a:lnTo>
                      <a:pt x="28" y="10"/>
                    </a:lnTo>
                    <a:lnTo>
                      <a:pt x="19" y="5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2" y="36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41"/>
                    </a:lnTo>
                    <a:lnTo>
                      <a:pt x="13" y="43"/>
                    </a:lnTo>
                    <a:lnTo>
                      <a:pt x="14" y="46"/>
                    </a:lnTo>
                    <a:lnTo>
                      <a:pt x="15" y="48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51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895480" y="32814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51"/>
                    </a:moveTo>
                    <a:lnTo>
                      <a:pt x="0" y="51"/>
                    </a:lnTo>
                    <a:lnTo>
                      <a:pt x="9" y="50"/>
                    </a:lnTo>
                    <a:lnTo>
                      <a:pt x="19" y="48"/>
                    </a:lnTo>
                    <a:lnTo>
                      <a:pt x="28" y="43"/>
                    </a:lnTo>
                    <a:lnTo>
                      <a:pt x="36" y="37"/>
                    </a:lnTo>
                    <a:lnTo>
                      <a:pt x="42" y="28"/>
                    </a:lnTo>
                    <a:lnTo>
                      <a:pt x="46" y="20"/>
                    </a:lnTo>
                    <a:lnTo>
                      <a:pt x="50" y="10"/>
                    </a:lnTo>
                    <a:lnTo>
                      <a:pt x="51" y="0"/>
                    </a:lnTo>
                    <a:lnTo>
                      <a:pt x="16" y="0"/>
                    </a:lnTo>
                    <a:lnTo>
                      <a:pt x="15" y="3"/>
                    </a:lnTo>
                    <a:lnTo>
                      <a:pt x="14" y="7"/>
                    </a:lnTo>
                    <a:lnTo>
                      <a:pt x="13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874960" y="32814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10"/>
                    </a:lnTo>
                    <a:lnTo>
                      <a:pt x="4" y="20"/>
                    </a:lnTo>
                    <a:lnTo>
                      <a:pt x="8" y="28"/>
                    </a:lnTo>
                    <a:lnTo>
                      <a:pt x="14" y="37"/>
                    </a:lnTo>
                    <a:lnTo>
                      <a:pt x="23" y="43"/>
                    </a:lnTo>
                    <a:lnTo>
                      <a:pt x="31" y="48"/>
                    </a:lnTo>
                    <a:lnTo>
                      <a:pt x="41" y="50"/>
                    </a:lnTo>
                    <a:lnTo>
                      <a:pt x="52" y="51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4" y="15"/>
                    </a:lnTo>
                    <a:lnTo>
                      <a:pt x="42" y="14"/>
                    </a:lnTo>
                    <a:lnTo>
                      <a:pt x="40" y="12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874960" y="32608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52" y="0"/>
                    </a:lnTo>
                    <a:lnTo>
                      <a:pt x="41" y="1"/>
                    </a:lnTo>
                    <a:lnTo>
                      <a:pt x="31" y="5"/>
                    </a:lnTo>
                    <a:lnTo>
                      <a:pt x="23" y="10"/>
                    </a:lnTo>
                    <a:lnTo>
                      <a:pt x="14" y="16"/>
                    </a:lnTo>
                    <a:lnTo>
                      <a:pt x="8" y="23"/>
                    </a:lnTo>
                    <a:lnTo>
                      <a:pt x="4" y="32"/>
                    </a:lnTo>
                    <a:lnTo>
                      <a:pt x="1" y="42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7" y="43"/>
                    </a:lnTo>
                    <a:lnTo>
                      <a:pt x="40" y="40"/>
                    </a:lnTo>
                    <a:lnTo>
                      <a:pt x="42" y="38"/>
                    </a:lnTo>
                    <a:lnTo>
                      <a:pt x="44" y="36"/>
                    </a:lnTo>
                    <a:lnTo>
                      <a:pt x="48" y="36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940120" y="33019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2"/>
                    </a:moveTo>
                    <a:lnTo>
                      <a:pt x="52" y="52"/>
                    </a:lnTo>
                    <a:lnTo>
                      <a:pt x="51" y="42"/>
                    </a:lnTo>
                    <a:lnTo>
                      <a:pt x="48" y="33"/>
                    </a:lnTo>
                    <a:lnTo>
                      <a:pt x="44" y="23"/>
                    </a:lnTo>
                    <a:lnTo>
                      <a:pt x="38" y="16"/>
                    </a:lnTo>
                    <a:lnTo>
                      <a:pt x="29" y="10"/>
                    </a:lnTo>
                    <a:lnTo>
                      <a:pt x="21" y="5"/>
                    </a:lnTo>
                    <a:lnTo>
                      <a:pt x="11" y="2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6"/>
                    </a:lnTo>
                    <a:lnTo>
                      <a:pt x="8" y="36"/>
                    </a:lnTo>
                    <a:lnTo>
                      <a:pt x="10" y="39"/>
                    </a:lnTo>
                    <a:lnTo>
                      <a:pt x="12" y="41"/>
                    </a:lnTo>
                    <a:lnTo>
                      <a:pt x="15" y="44"/>
                    </a:lnTo>
                    <a:lnTo>
                      <a:pt x="16" y="46"/>
                    </a:lnTo>
                    <a:lnTo>
                      <a:pt x="17" y="50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2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940120" y="33228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52"/>
                    </a:moveTo>
                    <a:lnTo>
                      <a:pt x="0" y="52"/>
                    </a:lnTo>
                    <a:lnTo>
                      <a:pt x="11" y="50"/>
                    </a:lnTo>
                    <a:lnTo>
                      <a:pt x="21" y="48"/>
                    </a:lnTo>
                    <a:lnTo>
                      <a:pt x="29" y="43"/>
                    </a:lnTo>
                    <a:lnTo>
                      <a:pt x="36" y="37"/>
                    </a:lnTo>
                    <a:lnTo>
                      <a:pt x="44" y="29"/>
                    </a:lnTo>
                    <a:lnTo>
                      <a:pt x="48" y="20"/>
                    </a:lnTo>
                    <a:lnTo>
                      <a:pt x="51" y="11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6" y="7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919240" y="33228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5" y="20"/>
                    </a:lnTo>
                    <a:lnTo>
                      <a:pt x="9" y="29"/>
                    </a:lnTo>
                    <a:lnTo>
                      <a:pt x="15" y="37"/>
                    </a:lnTo>
                    <a:lnTo>
                      <a:pt x="23" y="43"/>
                    </a:lnTo>
                    <a:lnTo>
                      <a:pt x="32" y="48"/>
                    </a:lnTo>
                    <a:lnTo>
                      <a:pt x="42" y="50"/>
                    </a:lnTo>
                    <a:lnTo>
                      <a:pt x="51" y="52"/>
                    </a:lnTo>
                    <a:lnTo>
                      <a:pt x="51" y="17"/>
                    </a:lnTo>
                    <a:lnTo>
                      <a:pt x="48" y="17"/>
                    </a:lnTo>
                    <a:lnTo>
                      <a:pt x="45" y="16"/>
                    </a:lnTo>
                    <a:lnTo>
                      <a:pt x="42" y="14"/>
                    </a:lnTo>
                    <a:lnTo>
                      <a:pt x="39" y="12"/>
                    </a:lnTo>
                    <a:lnTo>
                      <a:pt x="38" y="10"/>
                    </a:lnTo>
                    <a:lnTo>
                      <a:pt x="36" y="7"/>
                    </a:lnTo>
                    <a:lnTo>
                      <a:pt x="36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919240" y="33019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0"/>
                    </a:moveTo>
                    <a:lnTo>
                      <a:pt x="51" y="0"/>
                    </a:lnTo>
                    <a:lnTo>
                      <a:pt x="42" y="2"/>
                    </a:lnTo>
                    <a:lnTo>
                      <a:pt x="32" y="5"/>
                    </a:lnTo>
                    <a:lnTo>
                      <a:pt x="23" y="10"/>
                    </a:lnTo>
                    <a:lnTo>
                      <a:pt x="15" y="16"/>
                    </a:lnTo>
                    <a:lnTo>
                      <a:pt x="9" y="23"/>
                    </a:lnTo>
                    <a:lnTo>
                      <a:pt x="5" y="33"/>
                    </a:lnTo>
                    <a:lnTo>
                      <a:pt x="1" y="42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6" y="48"/>
                    </a:lnTo>
                    <a:lnTo>
                      <a:pt x="36" y="46"/>
                    </a:lnTo>
                    <a:lnTo>
                      <a:pt x="38" y="44"/>
                    </a:lnTo>
                    <a:lnTo>
                      <a:pt x="39" y="40"/>
                    </a:lnTo>
                    <a:lnTo>
                      <a:pt x="42" y="39"/>
                    </a:lnTo>
                    <a:lnTo>
                      <a:pt x="45" y="36"/>
                    </a:lnTo>
                    <a:lnTo>
                      <a:pt x="48" y="36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950920" y="33480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51"/>
                    </a:moveTo>
                    <a:lnTo>
                      <a:pt x="52" y="51"/>
                    </a:lnTo>
                    <a:lnTo>
                      <a:pt x="50" y="42"/>
                    </a:lnTo>
                    <a:lnTo>
                      <a:pt x="48" y="32"/>
                    </a:lnTo>
                    <a:lnTo>
                      <a:pt x="43" y="22"/>
                    </a:lnTo>
                    <a:lnTo>
                      <a:pt x="36" y="15"/>
                    </a:lnTo>
                    <a:lnTo>
                      <a:pt x="29" y="9"/>
                    </a:lnTo>
                    <a:lnTo>
                      <a:pt x="20" y="4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4" y="36"/>
                    </a:lnTo>
                    <a:lnTo>
                      <a:pt x="7" y="36"/>
                    </a:lnTo>
                    <a:lnTo>
                      <a:pt x="10" y="38"/>
                    </a:lnTo>
                    <a:lnTo>
                      <a:pt x="12" y="39"/>
                    </a:lnTo>
                    <a:lnTo>
                      <a:pt x="14" y="43"/>
                    </a:lnTo>
                    <a:lnTo>
                      <a:pt x="16" y="45"/>
                    </a:lnTo>
                    <a:lnTo>
                      <a:pt x="17" y="48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52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950920" y="33685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52"/>
                    </a:moveTo>
                    <a:lnTo>
                      <a:pt x="0" y="52"/>
                    </a:lnTo>
                    <a:lnTo>
                      <a:pt x="11" y="51"/>
                    </a:lnTo>
                    <a:lnTo>
                      <a:pt x="20" y="48"/>
                    </a:lnTo>
                    <a:lnTo>
                      <a:pt x="29" y="43"/>
                    </a:lnTo>
                    <a:lnTo>
                      <a:pt x="36" y="37"/>
                    </a:lnTo>
                    <a:lnTo>
                      <a:pt x="43" y="29"/>
                    </a:lnTo>
                    <a:lnTo>
                      <a:pt x="48" y="21"/>
                    </a:lnTo>
                    <a:lnTo>
                      <a:pt x="50" y="11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6" y="7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5"/>
                    </a:lnTo>
                    <a:lnTo>
                      <a:pt x="7" y="16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930400" y="33685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5" y="21"/>
                    </a:lnTo>
                    <a:lnTo>
                      <a:pt x="10" y="29"/>
                    </a:lnTo>
                    <a:lnTo>
                      <a:pt x="16" y="37"/>
                    </a:lnTo>
                    <a:lnTo>
                      <a:pt x="23" y="43"/>
                    </a:lnTo>
                    <a:lnTo>
                      <a:pt x="32" y="48"/>
                    </a:lnTo>
                    <a:lnTo>
                      <a:pt x="42" y="51"/>
                    </a:lnTo>
                    <a:lnTo>
                      <a:pt x="52" y="52"/>
                    </a:lnTo>
                    <a:lnTo>
                      <a:pt x="52" y="17"/>
                    </a:lnTo>
                    <a:lnTo>
                      <a:pt x="48" y="17"/>
                    </a:lnTo>
                    <a:lnTo>
                      <a:pt x="46" y="16"/>
                    </a:lnTo>
                    <a:lnTo>
                      <a:pt x="42" y="15"/>
                    </a:lnTo>
                    <a:lnTo>
                      <a:pt x="40" y="12"/>
                    </a:lnTo>
                    <a:lnTo>
                      <a:pt x="39" y="10"/>
                    </a:lnTo>
                    <a:lnTo>
                      <a:pt x="36" y="7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930400" y="33480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0"/>
                    </a:moveTo>
                    <a:lnTo>
                      <a:pt x="52" y="0"/>
                    </a:lnTo>
                    <a:lnTo>
                      <a:pt x="42" y="1"/>
                    </a:lnTo>
                    <a:lnTo>
                      <a:pt x="32" y="4"/>
                    </a:lnTo>
                    <a:lnTo>
                      <a:pt x="23" y="9"/>
                    </a:lnTo>
                    <a:lnTo>
                      <a:pt x="16" y="15"/>
                    </a:lnTo>
                    <a:lnTo>
                      <a:pt x="10" y="22"/>
                    </a:lnTo>
                    <a:lnTo>
                      <a:pt x="5" y="32"/>
                    </a:lnTo>
                    <a:lnTo>
                      <a:pt x="2" y="42"/>
                    </a:lnTo>
                    <a:lnTo>
                      <a:pt x="0" y="51"/>
                    </a:lnTo>
                    <a:lnTo>
                      <a:pt x="35" y="51"/>
                    </a:lnTo>
                    <a:lnTo>
                      <a:pt x="35" y="48"/>
                    </a:lnTo>
                    <a:lnTo>
                      <a:pt x="36" y="45"/>
                    </a:lnTo>
                    <a:lnTo>
                      <a:pt x="39" y="43"/>
                    </a:lnTo>
                    <a:lnTo>
                      <a:pt x="40" y="39"/>
                    </a:lnTo>
                    <a:lnTo>
                      <a:pt x="42" y="38"/>
                    </a:lnTo>
                    <a:lnTo>
                      <a:pt x="46" y="36"/>
                    </a:lnTo>
                    <a:lnTo>
                      <a:pt x="48" y="36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973240" y="33861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51"/>
                    </a:moveTo>
                    <a:lnTo>
                      <a:pt x="52" y="51"/>
                    </a:lnTo>
                    <a:lnTo>
                      <a:pt x="50" y="41"/>
                    </a:lnTo>
                    <a:lnTo>
                      <a:pt x="48" y="31"/>
                    </a:lnTo>
                    <a:lnTo>
                      <a:pt x="43" y="23"/>
                    </a:lnTo>
                    <a:lnTo>
                      <a:pt x="37" y="14"/>
                    </a:lnTo>
                    <a:lnTo>
                      <a:pt x="29" y="8"/>
                    </a:lnTo>
                    <a:lnTo>
                      <a:pt x="20" y="3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5"/>
                    </a:lnTo>
                    <a:lnTo>
                      <a:pt x="7" y="36"/>
                    </a:lnTo>
                    <a:lnTo>
                      <a:pt x="10" y="37"/>
                    </a:lnTo>
                    <a:lnTo>
                      <a:pt x="12" y="39"/>
                    </a:lnTo>
                    <a:lnTo>
                      <a:pt x="14" y="42"/>
                    </a:lnTo>
                    <a:lnTo>
                      <a:pt x="16" y="44"/>
                    </a:lnTo>
                    <a:lnTo>
                      <a:pt x="17" y="48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52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973240" y="340668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51"/>
                    </a:moveTo>
                    <a:lnTo>
                      <a:pt x="0" y="51"/>
                    </a:lnTo>
                    <a:lnTo>
                      <a:pt x="11" y="51"/>
                    </a:lnTo>
                    <a:lnTo>
                      <a:pt x="20" y="47"/>
                    </a:lnTo>
                    <a:lnTo>
                      <a:pt x="29" y="42"/>
                    </a:lnTo>
                    <a:lnTo>
                      <a:pt x="37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50" y="10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2" y="11"/>
                    </a:lnTo>
                    <a:lnTo>
                      <a:pt x="10" y="14"/>
                    </a:lnTo>
                    <a:lnTo>
                      <a:pt x="7" y="15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952720" y="34066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0"/>
                    </a:moveTo>
                    <a:lnTo>
                      <a:pt x="0" y="0"/>
                    </a:lnTo>
                    <a:lnTo>
                      <a:pt x="2" y="10"/>
                    </a:lnTo>
                    <a:lnTo>
                      <a:pt x="5" y="20"/>
                    </a:lnTo>
                    <a:lnTo>
                      <a:pt x="10" y="29"/>
                    </a:lnTo>
                    <a:lnTo>
                      <a:pt x="16" y="36"/>
                    </a:lnTo>
                    <a:lnTo>
                      <a:pt x="23" y="42"/>
                    </a:lnTo>
                    <a:lnTo>
                      <a:pt x="33" y="47"/>
                    </a:lnTo>
                    <a:lnTo>
                      <a:pt x="42" y="51"/>
                    </a:lnTo>
                    <a:lnTo>
                      <a:pt x="52" y="51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4" y="14"/>
                    </a:lnTo>
                    <a:lnTo>
                      <a:pt x="41" y="11"/>
                    </a:lnTo>
                    <a:lnTo>
                      <a:pt x="39" y="9"/>
                    </a:lnTo>
                    <a:lnTo>
                      <a:pt x="38" y="6"/>
                    </a:lnTo>
                    <a:lnTo>
                      <a:pt x="36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952720" y="33861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0"/>
                    </a:moveTo>
                    <a:lnTo>
                      <a:pt x="52" y="0"/>
                    </a:lnTo>
                    <a:lnTo>
                      <a:pt x="42" y="1"/>
                    </a:lnTo>
                    <a:lnTo>
                      <a:pt x="33" y="3"/>
                    </a:lnTo>
                    <a:lnTo>
                      <a:pt x="23" y="8"/>
                    </a:lnTo>
                    <a:lnTo>
                      <a:pt x="16" y="14"/>
                    </a:lnTo>
                    <a:lnTo>
                      <a:pt x="10" y="23"/>
                    </a:lnTo>
                    <a:lnTo>
                      <a:pt x="5" y="31"/>
                    </a:lnTo>
                    <a:lnTo>
                      <a:pt x="2" y="41"/>
                    </a:lnTo>
                    <a:lnTo>
                      <a:pt x="0" y="51"/>
                    </a:lnTo>
                    <a:lnTo>
                      <a:pt x="35" y="51"/>
                    </a:lnTo>
                    <a:lnTo>
                      <a:pt x="36" y="48"/>
                    </a:lnTo>
                    <a:lnTo>
                      <a:pt x="38" y="44"/>
                    </a:lnTo>
                    <a:lnTo>
                      <a:pt x="39" y="42"/>
                    </a:lnTo>
                    <a:lnTo>
                      <a:pt x="41" y="39"/>
                    </a:lnTo>
                    <a:lnTo>
                      <a:pt x="44" y="37"/>
                    </a:lnTo>
                    <a:lnTo>
                      <a:pt x="46" y="36"/>
                    </a:lnTo>
                    <a:lnTo>
                      <a:pt x="48" y="35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725200" y="3371760"/>
                <a:ext cx="20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 Black"/>
                  </a:rPr>
                  <a:t>Killer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715840" y="3484440"/>
                <a:ext cx="1317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 Black"/>
                  </a:rPr>
                  <a:t>Cel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388680" y="4610160"/>
                <a:ext cx="67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Black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712320" y="4254480"/>
                <a:ext cx="67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Black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246040" y="438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Black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619360" y="4578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Black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530680" y="5608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Black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261880" y="48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Black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852360" y="4672080"/>
                <a:ext cx="67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Black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201720" y="4786200"/>
                <a:ext cx="67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Black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331600" y="5025960"/>
                <a:ext cx="67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Black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104920" y="2889360"/>
                <a:ext cx="485640" cy="485640"/>
              </a:xfrm>
              <a:custGeom>
                <a:avLst/>
                <a:gdLst/>
                <a:ahLst/>
                <a:rect l="l" t="t" r="r" b="b"/>
                <a:pathLst>
                  <a:path w="1224" h="1223">
                    <a:moveTo>
                      <a:pt x="612" y="0"/>
                    </a:moveTo>
                    <a:lnTo>
                      <a:pt x="644" y="0"/>
                    </a:lnTo>
                    <a:lnTo>
                      <a:pt x="675" y="3"/>
                    </a:lnTo>
                    <a:lnTo>
                      <a:pt x="705" y="8"/>
                    </a:lnTo>
                    <a:lnTo>
                      <a:pt x="735" y="12"/>
                    </a:lnTo>
                    <a:lnTo>
                      <a:pt x="765" y="20"/>
                    </a:lnTo>
                    <a:lnTo>
                      <a:pt x="794" y="28"/>
                    </a:lnTo>
                    <a:lnTo>
                      <a:pt x="822" y="38"/>
                    </a:lnTo>
                    <a:lnTo>
                      <a:pt x="850" y="48"/>
                    </a:lnTo>
                    <a:lnTo>
                      <a:pt x="878" y="60"/>
                    </a:lnTo>
                    <a:lnTo>
                      <a:pt x="904" y="75"/>
                    </a:lnTo>
                    <a:lnTo>
                      <a:pt x="929" y="89"/>
                    </a:lnTo>
                    <a:lnTo>
                      <a:pt x="954" y="105"/>
                    </a:lnTo>
                    <a:lnTo>
                      <a:pt x="978" y="122"/>
                    </a:lnTo>
                    <a:lnTo>
                      <a:pt x="1001" y="140"/>
                    </a:lnTo>
                    <a:lnTo>
                      <a:pt x="1023" y="160"/>
                    </a:lnTo>
                    <a:lnTo>
                      <a:pt x="1044" y="179"/>
                    </a:lnTo>
                    <a:lnTo>
                      <a:pt x="1065" y="201"/>
                    </a:lnTo>
                    <a:lnTo>
                      <a:pt x="1084" y="223"/>
                    </a:lnTo>
                    <a:lnTo>
                      <a:pt x="1102" y="246"/>
                    </a:lnTo>
                    <a:lnTo>
                      <a:pt x="1119" y="270"/>
                    </a:lnTo>
                    <a:lnTo>
                      <a:pt x="1136" y="295"/>
                    </a:lnTo>
                    <a:lnTo>
                      <a:pt x="1150" y="321"/>
                    </a:lnTo>
                    <a:lnTo>
                      <a:pt x="1163" y="347"/>
                    </a:lnTo>
                    <a:lnTo>
                      <a:pt x="1176" y="375"/>
                    </a:lnTo>
                    <a:lnTo>
                      <a:pt x="1187" y="402"/>
                    </a:lnTo>
                    <a:lnTo>
                      <a:pt x="1197" y="430"/>
                    </a:lnTo>
                    <a:lnTo>
                      <a:pt x="1205" y="459"/>
                    </a:lnTo>
                    <a:lnTo>
                      <a:pt x="1211" y="489"/>
                    </a:lnTo>
                    <a:lnTo>
                      <a:pt x="1217" y="519"/>
                    </a:lnTo>
                    <a:lnTo>
                      <a:pt x="1221" y="550"/>
                    </a:lnTo>
                    <a:lnTo>
                      <a:pt x="1223" y="580"/>
                    </a:lnTo>
                    <a:lnTo>
                      <a:pt x="1224" y="612"/>
                    </a:lnTo>
                    <a:lnTo>
                      <a:pt x="1223" y="643"/>
                    </a:lnTo>
                    <a:lnTo>
                      <a:pt x="1221" y="675"/>
                    </a:lnTo>
                    <a:lnTo>
                      <a:pt x="1217" y="705"/>
                    </a:lnTo>
                    <a:lnTo>
                      <a:pt x="1211" y="735"/>
                    </a:lnTo>
                    <a:lnTo>
                      <a:pt x="1205" y="765"/>
                    </a:lnTo>
                    <a:lnTo>
                      <a:pt x="1197" y="793"/>
                    </a:lnTo>
                    <a:lnTo>
                      <a:pt x="1187" y="822"/>
                    </a:lnTo>
                    <a:lnTo>
                      <a:pt x="1176" y="850"/>
                    </a:lnTo>
                    <a:lnTo>
                      <a:pt x="1163" y="876"/>
                    </a:lnTo>
                    <a:lnTo>
                      <a:pt x="1150" y="903"/>
                    </a:lnTo>
                    <a:lnTo>
                      <a:pt x="1136" y="929"/>
                    </a:lnTo>
                    <a:lnTo>
                      <a:pt x="1119" y="953"/>
                    </a:lnTo>
                    <a:lnTo>
                      <a:pt x="1102" y="977"/>
                    </a:lnTo>
                    <a:lnTo>
                      <a:pt x="1084" y="1001"/>
                    </a:lnTo>
                    <a:lnTo>
                      <a:pt x="1065" y="1022"/>
                    </a:lnTo>
                    <a:lnTo>
                      <a:pt x="1044" y="1044"/>
                    </a:lnTo>
                    <a:lnTo>
                      <a:pt x="1023" y="1064"/>
                    </a:lnTo>
                    <a:lnTo>
                      <a:pt x="1001" y="1084"/>
                    </a:lnTo>
                    <a:lnTo>
                      <a:pt x="978" y="1102"/>
                    </a:lnTo>
                    <a:lnTo>
                      <a:pt x="954" y="1118"/>
                    </a:lnTo>
                    <a:lnTo>
                      <a:pt x="929" y="1134"/>
                    </a:lnTo>
                    <a:lnTo>
                      <a:pt x="904" y="1150"/>
                    </a:lnTo>
                    <a:lnTo>
                      <a:pt x="878" y="1163"/>
                    </a:lnTo>
                    <a:lnTo>
                      <a:pt x="850" y="1175"/>
                    </a:lnTo>
                    <a:lnTo>
                      <a:pt x="822" y="1186"/>
                    </a:lnTo>
                    <a:lnTo>
                      <a:pt x="794" y="1195"/>
                    </a:lnTo>
                    <a:lnTo>
                      <a:pt x="765" y="1204"/>
                    </a:lnTo>
                    <a:lnTo>
                      <a:pt x="735" y="1211"/>
                    </a:lnTo>
                    <a:lnTo>
                      <a:pt x="705" y="1217"/>
                    </a:lnTo>
                    <a:lnTo>
                      <a:pt x="675" y="1220"/>
                    </a:lnTo>
                    <a:lnTo>
                      <a:pt x="644" y="1223"/>
                    </a:lnTo>
                    <a:lnTo>
                      <a:pt x="612" y="1223"/>
                    </a:lnTo>
                    <a:lnTo>
                      <a:pt x="581" y="1223"/>
                    </a:lnTo>
                    <a:lnTo>
                      <a:pt x="550" y="1220"/>
                    </a:lnTo>
                    <a:lnTo>
                      <a:pt x="519" y="1217"/>
                    </a:lnTo>
                    <a:lnTo>
                      <a:pt x="489" y="1211"/>
                    </a:lnTo>
                    <a:lnTo>
                      <a:pt x="460" y="1204"/>
                    </a:lnTo>
                    <a:lnTo>
                      <a:pt x="431" y="1195"/>
                    </a:lnTo>
                    <a:lnTo>
                      <a:pt x="402" y="1186"/>
                    </a:lnTo>
                    <a:lnTo>
                      <a:pt x="375" y="1175"/>
                    </a:lnTo>
                    <a:lnTo>
                      <a:pt x="347" y="1163"/>
                    </a:lnTo>
                    <a:lnTo>
                      <a:pt x="321" y="1150"/>
                    </a:lnTo>
                    <a:lnTo>
                      <a:pt x="296" y="1134"/>
                    </a:lnTo>
                    <a:lnTo>
                      <a:pt x="270" y="1118"/>
                    </a:lnTo>
                    <a:lnTo>
                      <a:pt x="246" y="1102"/>
                    </a:lnTo>
                    <a:lnTo>
                      <a:pt x="224" y="1084"/>
                    </a:lnTo>
                    <a:lnTo>
                      <a:pt x="201" y="1064"/>
                    </a:lnTo>
                    <a:lnTo>
                      <a:pt x="180" y="1044"/>
                    </a:lnTo>
                    <a:lnTo>
                      <a:pt x="160" y="1022"/>
                    </a:lnTo>
                    <a:lnTo>
                      <a:pt x="141" y="1001"/>
                    </a:lnTo>
                    <a:lnTo>
                      <a:pt x="123" y="977"/>
                    </a:lnTo>
                    <a:lnTo>
                      <a:pt x="105" y="953"/>
                    </a:lnTo>
                    <a:lnTo>
                      <a:pt x="89" y="929"/>
                    </a:lnTo>
                    <a:lnTo>
                      <a:pt x="75" y="903"/>
                    </a:lnTo>
                    <a:lnTo>
                      <a:pt x="60" y="876"/>
                    </a:lnTo>
                    <a:lnTo>
                      <a:pt x="48" y="850"/>
                    </a:lnTo>
                    <a:lnTo>
                      <a:pt x="38" y="822"/>
                    </a:lnTo>
                    <a:lnTo>
                      <a:pt x="28" y="793"/>
                    </a:lnTo>
                    <a:lnTo>
                      <a:pt x="20" y="765"/>
                    </a:lnTo>
                    <a:lnTo>
                      <a:pt x="12" y="735"/>
                    </a:lnTo>
                    <a:lnTo>
                      <a:pt x="8" y="705"/>
                    </a:lnTo>
                    <a:lnTo>
                      <a:pt x="4" y="675"/>
                    </a:lnTo>
                    <a:lnTo>
                      <a:pt x="2" y="643"/>
                    </a:lnTo>
                    <a:lnTo>
                      <a:pt x="0" y="612"/>
                    </a:lnTo>
                    <a:lnTo>
                      <a:pt x="2" y="580"/>
                    </a:lnTo>
                    <a:lnTo>
                      <a:pt x="4" y="550"/>
                    </a:lnTo>
                    <a:lnTo>
                      <a:pt x="8" y="519"/>
                    </a:lnTo>
                    <a:lnTo>
                      <a:pt x="12" y="489"/>
                    </a:lnTo>
                    <a:lnTo>
                      <a:pt x="20" y="459"/>
                    </a:lnTo>
                    <a:lnTo>
                      <a:pt x="28" y="430"/>
                    </a:lnTo>
                    <a:lnTo>
                      <a:pt x="38" y="402"/>
                    </a:lnTo>
                    <a:lnTo>
                      <a:pt x="48" y="375"/>
                    </a:lnTo>
                    <a:lnTo>
                      <a:pt x="60" y="347"/>
                    </a:lnTo>
                    <a:lnTo>
                      <a:pt x="75" y="321"/>
                    </a:lnTo>
                    <a:lnTo>
                      <a:pt x="89" y="295"/>
                    </a:lnTo>
                    <a:lnTo>
                      <a:pt x="105" y="270"/>
                    </a:lnTo>
                    <a:lnTo>
                      <a:pt x="123" y="246"/>
                    </a:lnTo>
                    <a:lnTo>
                      <a:pt x="141" y="223"/>
                    </a:lnTo>
                    <a:lnTo>
                      <a:pt x="160" y="201"/>
                    </a:lnTo>
                    <a:lnTo>
                      <a:pt x="180" y="179"/>
                    </a:lnTo>
                    <a:lnTo>
                      <a:pt x="201" y="160"/>
                    </a:lnTo>
                    <a:lnTo>
                      <a:pt x="224" y="140"/>
                    </a:lnTo>
                    <a:lnTo>
                      <a:pt x="246" y="122"/>
                    </a:lnTo>
                    <a:lnTo>
                      <a:pt x="270" y="105"/>
                    </a:lnTo>
                    <a:lnTo>
                      <a:pt x="296" y="89"/>
                    </a:lnTo>
                    <a:lnTo>
                      <a:pt x="321" y="75"/>
                    </a:lnTo>
                    <a:lnTo>
                      <a:pt x="347" y="60"/>
                    </a:lnTo>
                    <a:lnTo>
                      <a:pt x="375" y="48"/>
                    </a:lnTo>
                    <a:lnTo>
                      <a:pt x="402" y="38"/>
                    </a:lnTo>
                    <a:lnTo>
                      <a:pt x="431" y="28"/>
                    </a:lnTo>
                    <a:lnTo>
                      <a:pt x="460" y="20"/>
                    </a:lnTo>
                    <a:lnTo>
                      <a:pt x="489" y="12"/>
                    </a:lnTo>
                    <a:lnTo>
                      <a:pt x="519" y="8"/>
                    </a:lnTo>
                    <a:lnTo>
                      <a:pt x="550" y="3"/>
                    </a:lnTo>
                    <a:lnTo>
                      <a:pt x="581" y="0"/>
                    </a:lnTo>
                    <a:lnTo>
                      <a:pt x="612" y="0"/>
                    </a:lnTo>
                    <a:close/>
                  </a:path>
                </a:pathLst>
              </a:custGeom>
              <a:solidFill>
                <a:srgbClr val="be8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347920" y="2882880"/>
                <a:ext cx="249120" cy="249120"/>
              </a:xfrm>
              <a:custGeom>
                <a:avLst/>
                <a:gdLst/>
                <a:ahLst/>
                <a:rect l="l" t="t" r="r" b="b"/>
                <a:pathLst>
                  <a:path w="629" h="630">
                    <a:moveTo>
                      <a:pt x="629" y="630"/>
                    </a:moveTo>
                    <a:lnTo>
                      <a:pt x="629" y="630"/>
                    </a:lnTo>
                    <a:lnTo>
                      <a:pt x="628" y="598"/>
                    </a:lnTo>
                    <a:lnTo>
                      <a:pt x="626" y="565"/>
                    </a:lnTo>
                    <a:lnTo>
                      <a:pt x="622" y="534"/>
                    </a:lnTo>
                    <a:lnTo>
                      <a:pt x="616" y="503"/>
                    </a:lnTo>
                    <a:lnTo>
                      <a:pt x="610" y="473"/>
                    </a:lnTo>
                    <a:lnTo>
                      <a:pt x="602" y="443"/>
                    </a:lnTo>
                    <a:lnTo>
                      <a:pt x="591" y="414"/>
                    </a:lnTo>
                    <a:lnTo>
                      <a:pt x="580" y="385"/>
                    </a:lnTo>
                    <a:lnTo>
                      <a:pt x="567" y="358"/>
                    </a:lnTo>
                    <a:lnTo>
                      <a:pt x="554" y="330"/>
                    </a:lnTo>
                    <a:lnTo>
                      <a:pt x="538" y="304"/>
                    </a:lnTo>
                    <a:lnTo>
                      <a:pt x="521" y="279"/>
                    </a:lnTo>
                    <a:lnTo>
                      <a:pt x="504" y="253"/>
                    </a:lnTo>
                    <a:lnTo>
                      <a:pt x="485" y="229"/>
                    </a:lnTo>
                    <a:lnTo>
                      <a:pt x="466" y="207"/>
                    </a:lnTo>
                    <a:lnTo>
                      <a:pt x="444" y="185"/>
                    </a:lnTo>
                    <a:lnTo>
                      <a:pt x="423" y="165"/>
                    </a:lnTo>
                    <a:lnTo>
                      <a:pt x="400" y="144"/>
                    </a:lnTo>
                    <a:lnTo>
                      <a:pt x="376" y="126"/>
                    </a:lnTo>
                    <a:lnTo>
                      <a:pt x="352" y="108"/>
                    </a:lnTo>
                    <a:lnTo>
                      <a:pt x="326" y="92"/>
                    </a:lnTo>
                    <a:lnTo>
                      <a:pt x="299" y="77"/>
                    </a:lnTo>
                    <a:lnTo>
                      <a:pt x="273" y="63"/>
                    </a:lnTo>
                    <a:lnTo>
                      <a:pt x="245" y="51"/>
                    </a:lnTo>
                    <a:lnTo>
                      <a:pt x="216" y="39"/>
                    </a:lnTo>
                    <a:lnTo>
                      <a:pt x="188" y="29"/>
                    </a:lnTo>
                    <a:lnTo>
                      <a:pt x="158" y="21"/>
                    </a:lnTo>
                    <a:lnTo>
                      <a:pt x="126" y="14"/>
                    </a:lnTo>
                    <a:lnTo>
                      <a:pt x="96" y="8"/>
                    </a:lnTo>
                    <a:lnTo>
                      <a:pt x="64" y="4"/>
                    </a:lnTo>
                    <a:lnTo>
                      <a:pt x="33" y="2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0" y="36"/>
                    </a:lnTo>
                    <a:lnTo>
                      <a:pt x="60" y="39"/>
                    </a:lnTo>
                    <a:lnTo>
                      <a:pt x="90" y="42"/>
                    </a:lnTo>
                    <a:lnTo>
                      <a:pt x="120" y="47"/>
                    </a:lnTo>
                    <a:lnTo>
                      <a:pt x="148" y="54"/>
                    </a:lnTo>
                    <a:lnTo>
                      <a:pt x="177" y="63"/>
                    </a:lnTo>
                    <a:lnTo>
                      <a:pt x="204" y="71"/>
                    </a:lnTo>
                    <a:lnTo>
                      <a:pt x="231" y="82"/>
                    </a:lnTo>
                    <a:lnTo>
                      <a:pt x="257" y="94"/>
                    </a:lnTo>
                    <a:lnTo>
                      <a:pt x="284" y="107"/>
                    </a:lnTo>
                    <a:lnTo>
                      <a:pt x="308" y="122"/>
                    </a:lnTo>
                    <a:lnTo>
                      <a:pt x="332" y="137"/>
                    </a:lnTo>
                    <a:lnTo>
                      <a:pt x="356" y="154"/>
                    </a:lnTo>
                    <a:lnTo>
                      <a:pt x="378" y="172"/>
                    </a:lnTo>
                    <a:lnTo>
                      <a:pt x="400" y="190"/>
                    </a:lnTo>
                    <a:lnTo>
                      <a:pt x="420" y="210"/>
                    </a:lnTo>
                    <a:lnTo>
                      <a:pt x="440" y="231"/>
                    </a:lnTo>
                    <a:lnTo>
                      <a:pt x="459" y="252"/>
                    </a:lnTo>
                    <a:lnTo>
                      <a:pt x="477" y="275"/>
                    </a:lnTo>
                    <a:lnTo>
                      <a:pt x="492" y="298"/>
                    </a:lnTo>
                    <a:lnTo>
                      <a:pt x="508" y="322"/>
                    </a:lnTo>
                    <a:lnTo>
                      <a:pt x="522" y="347"/>
                    </a:lnTo>
                    <a:lnTo>
                      <a:pt x="536" y="372"/>
                    </a:lnTo>
                    <a:lnTo>
                      <a:pt x="548" y="399"/>
                    </a:lnTo>
                    <a:lnTo>
                      <a:pt x="558" y="426"/>
                    </a:lnTo>
                    <a:lnTo>
                      <a:pt x="568" y="454"/>
                    </a:lnTo>
                    <a:lnTo>
                      <a:pt x="576" y="481"/>
                    </a:lnTo>
                    <a:lnTo>
                      <a:pt x="582" y="510"/>
                    </a:lnTo>
                    <a:lnTo>
                      <a:pt x="587" y="539"/>
                    </a:lnTo>
                    <a:lnTo>
                      <a:pt x="592" y="569"/>
                    </a:lnTo>
                    <a:lnTo>
                      <a:pt x="594" y="599"/>
                    </a:lnTo>
                    <a:lnTo>
                      <a:pt x="594" y="630"/>
                    </a:lnTo>
                    <a:lnTo>
                      <a:pt x="594" y="630"/>
                    </a:lnTo>
                    <a:lnTo>
                      <a:pt x="629" y="63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347920" y="3132000"/>
                <a:ext cx="249120" cy="249480"/>
              </a:xfrm>
              <a:custGeom>
                <a:avLst/>
                <a:gdLst/>
                <a:ahLst/>
                <a:rect l="l" t="t" r="r" b="b"/>
                <a:pathLst>
                  <a:path w="629" h="629">
                    <a:moveTo>
                      <a:pt x="0" y="629"/>
                    </a:moveTo>
                    <a:lnTo>
                      <a:pt x="0" y="629"/>
                    </a:lnTo>
                    <a:lnTo>
                      <a:pt x="33" y="628"/>
                    </a:lnTo>
                    <a:lnTo>
                      <a:pt x="64" y="625"/>
                    </a:lnTo>
                    <a:lnTo>
                      <a:pt x="96" y="622"/>
                    </a:lnTo>
                    <a:lnTo>
                      <a:pt x="126" y="616"/>
                    </a:lnTo>
                    <a:lnTo>
                      <a:pt x="158" y="608"/>
                    </a:lnTo>
                    <a:lnTo>
                      <a:pt x="188" y="600"/>
                    </a:lnTo>
                    <a:lnTo>
                      <a:pt x="216" y="590"/>
                    </a:lnTo>
                    <a:lnTo>
                      <a:pt x="245" y="580"/>
                    </a:lnTo>
                    <a:lnTo>
                      <a:pt x="273" y="566"/>
                    </a:lnTo>
                    <a:lnTo>
                      <a:pt x="299" y="552"/>
                    </a:lnTo>
                    <a:lnTo>
                      <a:pt x="326" y="538"/>
                    </a:lnTo>
                    <a:lnTo>
                      <a:pt x="352" y="521"/>
                    </a:lnTo>
                    <a:lnTo>
                      <a:pt x="376" y="504"/>
                    </a:lnTo>
                    <a:lnTo>
                      <a:pt x="400" y="485"/>
                    </a:lnTo>
                    <a:lnTo>
                      <a:pt x="423" y="464"/>
                    </a:lnTo>
                    <a:lnTo>
                      <a:pt x="444" y="444"/>
                    </a:lnTo>
                    <a:lnTo>
                      <a:pt x="466" y="422"/>
                    </a:lnTo>
                    <a:lnTo>
                      <a:pt x="485" y="400"/>
                    </a:lnTo>
                    <a:lnTo>
                      <a:pt x="504" y="376"/>
                    </a:lnTo>
                    <a:lnTo>
                      <a:pt x="521" y="350"/>
                    </a:lnTo>
                    <a:lnTo>
                      <a:pt x="538" y="325"/>
                    </a:lnTo>
                    <a:lnTo>
                      <a:pt x="554" y="299"/>
                    </a:lnTo>
                    <a:lnTo>
                      <a:pt x="567" y="273"/>
                    </a:lnTo>
                    <a:lnTo>
                      <a:pt x="580" y="244"/>
                    </a:lnTo>
                    <a:lnTo>
                      <a:pt x="591" y="216"/>
                    </a:lnTo>
                    <a:lnTo>
                      <a:pt x="602" y="186"/>
                    </a:lnTo>
                    <a:lnTo>
                      <a:pt x="610" y="156"/>
                    </a:lnTo>
                    <a:lnTo>
                      <a:pt x="616" y="126"/>
                    </a:lnTo>
                    <a:lnTo>
                      <a:pt x="622" y="95"/>
                    </a:lnTo>
                    <a:lnTo>
                      <a:pt x="626" y="64"/>
                    </a:lnTo>
                    <a:lnTo>
                      <a:pt x="628" y="33"/>
                    </a:lnTo>
                    <a:lnTo>
                      <a:pt x="629" y="0"/>
                    </a:lnTo>
                    <a:lnTo>
                      <a:pt x="594" y="0"/>
                    </a:lnTo>
                    <a:lnTo>
                      <a:pt x="594" y="30"/>
                    </a:lnTo>
                    <a:lnTo>
                      <a:pt x="592" y="60"/>
                    </a:lnTo>
                    <a:lnTo>
                      <a:pt x="587" y="90"/>
                    </a:lnTo>
                    <a:lnTo>
                      <a:pt x="582" y="119"/>
                    </a:lnTo>
                    <a:lnTo>
                      <a:pt x="576" y="148"/>
                    </a:lnTo>
                    <a:lnTo>
                      <a:pt x="568" y="177"/>
                    </a:lnTo>
                    <a:lnTo>
                      <a:pt x="558" y="204"/>
                    </a:lnTo>
                    <a:lnTo>
                      <a:pt x="548" y="231"/>
                    </a:lnTo>
                    <a:lnTo>
                      <a:pt x="536" y="257"/>
                    </a:lnTo>
                    <a:lnTo>
                      <a:pt x="522" y="282"/>
                    </a:lnTo>
                    <a:lnTo>
                      <a:pt x="508" y="307"/>
                    </a:lnTo>
                    <a:lnTo>
                      <a:pt x="492" y="331"/>
                    </a:lnTo>
                    <a:lnTo>
                      <a:pt x="477" y="355"/>
                    </a:lnTo>
                    <a:lnTo>
                      <a:pt x="459" y="377"/>
                    </a:lnTo>
                    <a:lnTo>
                      <a:pt x="440" y="398"/>
                    </a:lnTo>
                    <a:lnTo>
                      <a:pt x="420" y="420"/>
                    </a:lnTo>
                    <a:lnTo>
                      <a:pt x="400" y="439"/>
                    </a:lnTo>
                    <a:lnTo>
                      <a:pt x="378" y="458"/>
                    </a:lnTo>
                    <a:lnTo>
                      <a:pt x="356" y="475"/>
                    </a:lnTo>
                    <a:lnTo>
                      <a:pt x="332" y="492"/>
                    </a:lnTo>
                    <a:lnTo>
                      <a:pt x="308" y="508"/>
                    </a:lnTo>
                    <a:lnTo>
                      <a:pt x="284" y="522"/>
                    </a:lnTo>
                    <a:lnTo>
                      <a:pt x="257" y="535"/>
                    </a:lnTo>
                    <a:lnTo>
                      <a:pt x="231" y="547"/>
                    </a:lnTo>
                    <a:lnTo>
                      <a:pt x="204" y="558"/>
                    </a:lnTo>
                    <a:lnTo>
                      <a:pt x="177" y="568"/>
                    </a:lnTo>
                    <a:lnTo>
                      <a:pt x="148" y="575"/>
                    </a:lnTo>
                    <a:lnTo>
                      <a:pt x="120" y="582"/>
                    </a:lnTo>
                    <a:lnTo>
                      <a:pt x="90" y="587"/>
                    </a:lnTo>
                    <a:lnTo>
                      <a:pt x="60" y="590"/>
                    </a:lnTo>
                    <a:lnTo>
                      <a:pt x="30" y="593"/>
                    </a:lnTo>
                    <a:lnTo>
                      <a:pt x="0" y="594"/>
                    </a:lnTo>
                    <a:lnTo>
                      <a:pt x="0" y="594"/>
                    </a:lnTo>
                    <a:lnTo>
                      <a:pt x="0" y="62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097000" y="3132000"/>
                <a:ext cx="250920" cy="249480"/>
              </a:xfrm>
              <a:custGeom>
                <a:avLst/>
                <a:gdLst/>
                <a:ahLst/>
                <a:rect l="l" t="t" r="r" b="b"/>
                <a:pathLst>
                  <a:path w="628" h="629">
                    <a:moveTo>
                      <a:pt x="0" y="0"/>
                    </a:moveTo>
                    <a:lnTo>
                      <a:pt x="0" y="0"/>
                    </a:lnTo>
                    <a:lnTo>
                      <a:pt x="0" y="31"/>
                    </a:lnTo>
                    <a:lnTo>
                      <a:pt x="2" y="64"/>
                    </a:lnTo>
                    <a:lnTo>
                      <a:pt x="7" y="95"/>
                    </a:lnTo>
                    <a:lnTo>
                      <a:pt x="12" y="126"/>
                    </a:lnTo>
                    <a:lnTo>
                      <a:pt x="19" y="156"/>
                    </a:lnTo>
                    <a:lnTo>
                      <a:pt x="27" y="186"/>
                    </a:lnTo>
                    <a:lnTo>
                      <a:pt x="38" y="216"/>
                    </a:lnTo>
                    <a:lnTo>
                      <a:pt x="49" y="244"/>
                    </a:lnTo>
                    <a:lnTo>
                      <a:pt x="61" y="273"/>
                    </a:lnTo>
                    <a:lnTo>
                      <a:pt x="75" y="299"/>
                    </a:lnTo>
                    <a:lnTo>
                      <a:pt x="91" y="325"/>
                    </a:lnTo>
                    <a:lnTo>
                      <a:pt x="106" y="350"/>
                    </a:lnTo>
                    <a:lnTo>
                      <a:pt x="124" y="376"/>
                    </a:lnTo>
                    <a:lnTo>
                      <a:pt x="144" y="400"/>
                    </a:lnTo>
                    <a:lnTo>
                      <a:pt x="163" y="422"/>
                    </a:lnTo>
                    <a:lnTo>
                      <a:pt x="183" y="444"/>
                    </a:lnTo>
                    <a:lnTo>
                      <a:pt x="206" y="464"/>
                    </a:lnTo>
                    <a:lnTo>
                      <a:pt x="229" y="485"/>
                    </a:lnTo>
                    <a:lnTo>
                      <a:pt x="253" y="504"/>
                    </a:lnTo>
                    <a:lnTo>
                      <a:pt x="277" y="521"/>
                    </a:lnTo>
                    <a:lnTo>
                      <a:pt x="302" y="538"/>
                    </a:lnTo>
                    <a:lnTo>
                      <a:pt x="328" y="552"/>
                    </a:lnTo>
                    <a:lnTo>
                      <a:pt x="356" y="566"/>
                    </a:lnTo>
                    <a:lnTo>
                      <a:pt x="384" y="580"/>
                    </a:lnTo>
                    <a:lnTo>
                      <a:pt x="412" y="590"/>
                    </a:lnTo>
                    <a:lnTo>
                      <a:pt x="441" y="600"/>
                    </a:lnTo>
                    <a:lnTo>
                      <a:pt x="471" y="608"/>
                    </a:lnTo>
                    <a:lnTo>
                      <a:pt x="501" y="616"/>
                    </a:lnTo>
                    <a:lnTo>
                      <a:pt x="532" y="622"/>
                    </a:lnTo>
                    <a:lnTo>
                      <a:pt x="564" y="625"/>
                    </a:lnTo>
                    <a:lnTo>
                      <a:pt x="596" y="628"/>
                    </a:lnTo>
                    <a:lnTo>
                      <a:pt x="628" y="629"/>
                    </a:lnTo>
                    <a:lnTo>
                      <a:pt x="628" y="594"/>
                    </a:lnTo>
                    <a:lnTo>
                      <a:pt x="597" y="593"/>
                    </a:lnTo>
                    <a:lnTo>
                      <a:pt x="567" y="590"/>
                    </a:lnTo>
                    <a:lnTo>
                      <a:pt x="538" y="587"/>
                    </a:lnTo>
                    <a:lnTo>
                      <a:pt x="508" y="582"/>
                    </a:lnTo>
                    <a:lnTo>
                      <a:pt x="480" y="575"/>
                    </a:lnTo>
                    <a:lnTo>
                      <a:pt x="452" y="568"/>
                    </a:lnTo>
                    <a:lnTo>
                      <a:pt x="424" y="558"/>
                    </a:lnTo>
                    <a:lnTo>
                      <a:pt x="397" y="547"/>
                    </a:lnTo>
                    <a:lnTo>
                      <a:pt x="370" y="535"/>
                    </a:lnTo>
                    <a:lnTo>
                      <a:pt x="345" y="522"/>
                    </a:lnTo>
                    <a:lnTo>
                      <a:pt x="320" y="508"/>
                    </a:lnTo>
                    <a:lnTo>
                      <a:pt x="296" y="492"/>
                    </a:lnTo>
                    <a:lnTo>
                      <a:pt x="273" y="475"/>
                    </a:lnTo>
                    <a:lnTo>
                      <a:pt x="250" y="458"/>
                    </a:lnTo>
                    <a:lnTo>
                      <a:pt x="229" y="439"/>
                    </a:lnTo>
                    <a:lnTo>
                      <a:pt x="208" y="420"/>
                    </a:lnTo>
                    <a:lnTo>
                      <a:pt x="188" y="398"/>
                    </a:lnTo>
                    <a:lnTo>
                      <a:pt x="170" y="377"/>
                    </a:lnTo>
                    <a:lnTo>
                      <a:pt x="152" y="355"/>
                    </a:lnTo>
                    <a:lnTo>
                      <a:pt x="135" y="331"/>
                    </a:lnTo>
                    <a:lnTo>
                      <a:pt x="120" y="307"/>
                    </a:lnTo>
                    <a:lnTo>
                      <a:pt x="105" y="282"/>
                    </a:lnTo>
                    <a:lnTo>
                      <a:pt x="92" y="257"/>
                    </a:lnTo>
                    <a:lnTo>
                      <a:pt x="81" y="231"/>
                    </a:lnTo>
                    <a:lnTo>
                      <a:pt x="70" y="204"/>
                    </a:lnTo>
                    <a:lnTo>
                      <a:pt x="61" y="177"/>
                    </a:lnTo>
                    <a:lnTo>
                      <a:pt x="52" y="148"/>
                    </a:lnTo>
                    <a:lnTo>
                      <a:pt x="46" y="119"/>
                    </a:lnTo>
                    <a:lnTo>
                      <a:pt x="40" y="90"/>
                    </a:lnTo>
                    <a:lnTo>
                      <a:pt x="37" y="60"/>
                    </a:lnTo>
                    <a:lnTo>
                      <a:pt x="34" y="3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097000" y="2882880"/>
                <a:ext cx="250920" cy="249120"/>
              </a:xfrm>
              <a:custGeom>
                <a:avLst/>
                <a:gdLst/>
                <a:ahLst/>
                <a:rect l="l" t="t" r="r" b="b"/>
                <a:pathLst>
                  <a:path w="628" h="630">
                    <a:moveTo>
                      <a:pt x="628" y="0"/>
                    </a:moveTo>
                    <a:lnTo>
                      <a:pt x="628" y="0"/>
                    </a:lnTo>
                    <a:lnTo>
                      <a:pt x="596" y="2"/>
                    </a:lnTo>
                    <a:lnTo>
                      <a:pt x="564" y="4"/>
                    </a:lnTo>
                    <a:lnTo>
                      <a:pt x="532" y="8"/>
                    </a:lnTo>
                    <a:lnTo>
                      <a:pt x="501" y="14"/>
                    </a:lnTo>
                    <a:lnTo>
                      <a:pt x="471" y="21"/>
                    </a:lnTo>
                    <a:lnTo>
                      <a:pt x="441" y="29"/>
                    </a:lnTo>
                    <a:lnTo>
                      <a:pt x="412" y="39"/>
                    </a:lnTo>
                    <a:lnTo>
                      <a:pt x="384" y="51"/>
                    </a:lnTo>
                    <a:lnTo>
                      <a:pt x="356" y="63"/>
                    </a:lnTo>
                    <a:lnTo>
                      <a:pt x="328" y="77"/>
                    </a:lnTo>
                    <a:lnTo>
                      <a:pt x="302" y="92"/>
                    </a:lnTo>
                    <a:lnTo>
                      <a:pt x="277" y="108"/>
                    </a:lnTo>
                    <a:lnTo>
                      <a:pt x="253" y="126"/>
                    </a:lnTo>
                    <a:lnTo>
                      <a:pt x="229" y="144"/>
                    </a:lnTo>
                    <a:lnTo>
                      <a:pt x="206" y="165"/>
                    </a:lnTo>
                    <a:lnTo>
                      <a:pt x="183" y="185"/>
                    </a:lnTo>
                    <a:lnTo>
                      <a:pt x="163" y="207"/>
                    </a:lnTo>
                    <a:lnTo>
                      <a:pt x="144" y="229"/>
                    </a:lnTo>
                    <a:lnTo>
                      <a:pt x="124" y="253"/>
                    </a:lnTo>
                    <a:lnTo>
                      <a:pt x="106" y="279"/>
                    </a:lnTo>
                    <a:lnTo>
                      <a:pt x="91" y="304"/>
                    </a:lnTo>
                    <a:lnTo>
                      <a:pt x="75" y="330"/>
                    </a:lnTo>
                    <a:lnTo>
                      <a:pt x="61" y="358"/>
                    </a:lnTo>
                    <a:lnTo>
                      <a:pt x="49" y="385"/>
                    </a:lnTo>
                    <a:lnTo>
                      <a:pt x="38" y="414"/>
                    </a:lnTo>
                    <a:lnTo>
                      <a:pt x="27" y="443"/>
                    </a:lnTo>
                    <a:lnTo>
                      <a:pt x="19" y="473"/>
                    </a:lnTo>
                    <a:lnTo>
                      <a:pt x="12" y="503"/>
                    </a:lnTo>
                    <a:lnTo>
                      <a:pt x="7" y="534"/>
                    </a:lnTo>
                    <a:lnTo>
                      <a:pt x="2" y="565"/>
                    </a:lnTo>
                    <a:lnTo>
                      <a:pt x="0" y="598"/>
                    </a:lnTo>
                    <a:lnTo>
                      <a:pt x="0" y="630"/>
                    </a:lnTo>
                    <a:lnTo>
                      <a:pt x="34" y="630"/>
                    </a:lnTo>
                    <a:lnTo>
                      <a:pt x="34" y="599"/>
                    </a:lnTo>
                    <a:lnTo>
                      <a:pt x="37" y="569"/>
                    </a:lnTo>
                    <a:lnTo>
                      <a:pt x="40" y="539"/>
                    </a:lnTo>
                    <a:lnTo>
                      <a:pt x="46" y="510"/>
                    </a:lnTo>
                    <a:lnTo>
                      <a:pt x="52" y="481"/>
                    </a:lnTo>
                    <a:lnTo>
                      <a:pt x="61" y="454"/>
                    </a:lnTo>
                    <a:lnTo>
                      <a:pt x="70" y="426"/>
                    </a:lnTo>
                    <a:lnTo>
                      <a:pt x="81" y="399"/>
                    </a:lnTo>
                    <a:lnTo>
                      <a:pt x="92" y="372"/>
                    </a:lnTo>
                    <a:lnTo>
                      <a:pt x="105" y="347"/>
                    </a:lnTo>
                    <a:lnTo>
                      <a:pt x="120" y="322"/>
                    </a:lnTo>
                    <a:lnTo>
                      <a:pt x="135" y="298"/>
                    </a:lnTo>
                    <a:lnTo>
                      <a:pt x="152" y="275"/>
                    </a:lnTo>
                    <a:lnTo>
                      <a:pt x="170" y="252"/>
                    </a:lnTo>
                    <a:lnTo>
                      <a:pt x="188" y="231"/>
                    </a:lnTo>
                    <a:lnTo>
                      <a:pt x="208" y="210"/>
                    </a:lnTo>
                    <a:lnTo>
                      <a:pt x="229" y="190"/>
                    </a:lnTo>
                    <a:lnTo>
                      <a:pt x="250" y="172"/>
                    </a:lnTo>
                    <a:lnTo>
                      <a:pt x="273" y="154"/>
                    </a:lnTo>
                    <a:lnTo>
                      <a:pt x="296" y="137"/>
                    </a:lnTo>
                    <a:lnTo>
                      <a:pt x="320" y="122"/>
                    </a:lnTo>
                    <a:lnTo>
                      <a:pt x="345" y="107"/>
                    </a:lnTo>
                    <a:lnTo>
                      <a:pt x="370" y="94"/>
                    </a:lnTo>
                    <a:lnTo>
                      <a:pt x="397" y="82"/>
                    </a:lnTo>
                    <a:lnTo>
                      <a:pt x="424" y="71"/>
                    </a:lnTo>
                    <a:lnTo>
                      <a:pt x="452" y="63"/>
                    </a:lnTo>
                    <a:lnTo>
                      <a:pt x="480" y="54"/>
                    </a:lnTo>
                    <a:lnTo>
                      <a:pt x="508" y="47"/>
                    </a:lnTo>
                    <a:lnTo>
                      <a:pt x="538" y="42"/>
                    </a:lnTo>
                    <a:lnTo>
                      <a:pt x="567" y="39"/>
                    </a:lnTo>
                    <a:lnTo>
                      <a:pt x="597" y="36"/>
                    </a:lnTo>
                    <a:lnTo>
                      <a:pt x="628" y="35"/>
                    </a:lnTo>
                    <a:lnTo>
                      <a:pt x="628" y="35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106360" y="2894040"/>
                <a:ext cx="481320" cy="480960"/>
              </a:xfrm>
              <a:custGeom>
                <a:avLst/>
                <a:gdLst/>
                <a:ahLst/>
                <a:rect l="l" t="t" r="r" b="b"/>
                <a:pathLst>
                  <a:path w="1212" h="1212">
                    <a:moveTo>
                      <a:pt x="606" y="0"/>
                    </a:moveTo>
                    <a:lnTo>
                      <a:pt x="638" y="0"/>
                    </a:lnTo>
                    <a:lnTo>
                      <a:pt x="668" y="2"/>
                    </a:lnTo>
                    <a:lnTo>
                      <a:pt x="699" y="6"/>
                    </a:lnTo>
                    <a:lnTo>
                      <a:pt x="728" y="12"/>
                    </a:lnTo>
                    <a:lnTo>
                      <a:pt x="758" y="19"/>
                    </a:lnTo>
                    <a:lnTo>
                      <a:pt x="786" y="26"/>
                    </a:lnTo>
                    <a:lnTo>
                      <a:pt x="814" y="36"/>
                    </a:lnTo>
                    <a:lnTo>
                      <a:pt x="842" y="47"/>
                    </a:lnTo>
                    <a:lnTo>
                      <a:pt x="869" y="60"/>
                    </a:lnTo>
                    <a:lnTo>
                      <a:pt x="894" y="73"/>
                    </a:lnTo>
                    <a:lnTo>
                      <a:pt x="921" y="88"/>
                    </a:lnTo>
                    <a:lnTo>
                      <a:pt x="945" y="103"/>
                    </a:lnTo>
                    <a:lnTo>
                      <a:pt x="969" y="120"/>
                    </a:lnTo>
                    <a:lnTo>
                      <a:pt x="992" y="138"/>
                    </a:lnTo>
                    <a:lnTo>
                      <a:pt x="1013" y="157"/>
                    </a:lnTo>
                    <a:lnTo>
                      <a:pt x="1035" y="177"/>
                    </a:lnTo>
                    <a:lnTo>
                      <a:pt x="1055" y="198"/>
                    </a:lnTo>
                    <a:lnTo>
                      <a:pt x="1073" y="221"/>
                    </a:lnTo>
                    <a:lnTo>
                      <a:pt x="1091" y="243"/>
                    </a:lnTo>
                    <a:lnTo>
                      <a:pt x="1109" y="267"/>
                    </a:lnTo>
                    <a:lnTo>
                      <a:pt x="1125" y="291"/>
                    </a:lnTo>
                    <a:lnTo>
                      <a:pt x="1139" y="317"/>
                    </a:lnTo>
                    <a:lnTo>
                      <a:pt x="1152" y="343"/>
                    </a:lnTo>
                    <a:lnTo>
                      <a:pt x="1164" y="369"/>
                    </a:lnTo>
                    <a:lnTo>
                      <a:pt x="1175" y="397"/>
                    </a:lnTo>
                    <a:lnTo>
                      <a:pt x="1185" y="426"/>
                    </a:lnTo>
                    <a:lnTo>
                      <a:pt x="1193" y="455"/>
                    </a:lnTo>
                    <a:lnTo>
                      <a:pt x="1200" y="483"/>
                    </a:lnTo>
                    <a:lnTo>
                      <a:pt x="1205" y="513"/>
                    </a:lnTo>
                    <a:lnTo>
                      <a:pt x="1209" y="543"/>
                    </a:lnTo>
                    <a:lnTo>
                      <a:pt x="1211" y="575"/>
                    </a:lnTo>
                    <a:lnTo>
                      <a:pt x="1212" y="606"/>
                    </a:lnTo>
                    <a:lnTo>
                      <a:pt x="1211" y="637"/>
                    </a:lnTo>
                    <a:lnTo>
                      <a:pt x="1209" y="667"/>
                    </a:lnTo>
                    <a:lnTo>
                      <a:pt x="1205" y="698"/>
                    </a:lnTo>
                    <a:lnTo>
                      <a:pt x="1200" y="727"/>
                    </a:lnTo>
                    <a:lnTo>
                      <a:pt x="1193" y="757"/>
                    </a:lnTo>
                    <a:lnTo>
                      <a:pt x="1185" y="786"/>
                    </a:lnTo>
                    <a:lnTo>
                      <a:pt x="1175" y="813"/>
                    </a:lnTo>
                    <a:lnTo>
                      <a:pt x="1164" y="841"/>
                    </a:lnTo>
                    <a:lnTo>
                      <a:pt x="1152" y="867"/>
                    </a:lnTo>
                    <a:lnTo>
                      <a:pt x="1139" y="894"/>
                    </a:lnTo>
                    <a:lnTo>
                      <a:pt x="1125" y="919"/>
                    </a:lnTo>
                    <a:lnTo>
                      <a:pt x="1109" y="944"/>
                    </a:lnTo>
                    <a:lnTo>
                      <a:pt x="1091" y="968"/>
                    </a:lnTo>
                    <a:lnTo>
                      <a:pt x="1073" y="991"/>
                    </a:lnTo>
                    <a:lnTo>
                      <a:pt x="1055" y="1012"/>
                    </a:lnTo>
                    <a:lnTo>
                      <a:pt x="1035" y="1034"/>
                    </a:lnTo>
                    <a:lnTo>
                      <a:pt x="1013" y="1053"/>
                    </a:lnTo>
                    <a:lnTo>
                      <a:pt x="992" y="1072"/>
                    </a:lnTo>
                    <a:lnTo>
                      <a:pt x="969" y="1090"/>
                    </a:lnTo>
                    <a:lnTo>
                      <a:pt x="945" y="1107"/>
                    </a:lnTo>
                    <a:lnTo>
                      <a:pt x="921" y="1124"/>
                    </a:lnTo>
                    <a:lnTo>
                      <a:pt x="894" y="1138"/>
                    </a:lnTo>
                    <a:lnTo>
                      <a:pt x="869" y="1152"/>
                    </a:lnTo>
                    <a:lnTo>
                      <a:pt x="842" y="1164"/>
                    </a:lnTo>
                    <a:lnTo>
                      <a:pt x="814" y="1174"/>
                    </a:lnTo>
                    <a:lnTo>
                      <a:pt x="786" y="1184"/>
                    </a:lnTo>
                    <a:lnTo>
                      <a:pt x="758" y="1192"/>
                    </a:lnTo>
                    <a:lnTo>
                      <a:pt x="728" y="1200"/>
                    </a:lnTo>
                    <a:lnTo>
                      <a:pt x="699" y="1204"/>
                    </a:lnTo>
                    <a:lnTo>
                      <a:pt x="668" y="1208"/>
                    </a:lnTo>
                    <a:lnTo>
                      <a:pt x="638" y="1210"/>
                    </a:lnTo>
                    <a:lnTo>
                      <a:pt x="606" y="1212"/>
                    </a:lnTo>
                    <a:lnTo>
                      <a:pt x="575" y="1210"/>
                    </a:lnTo>
                    <a:lnTo>
                      <a:pt x="544" y="1208"/>
                    </a:lnTo>
                    <a:lnTo>
                      <a:pt x="514" y="1204"/>
                    </a:lnTo>
                    <a:lnTo>
                      <a:pt x="484" y="1200"/>
                    </a:lnTo>
                    <a:lnTo>
                      <a:pt x="455" y="1192"/>
                    </a:lnTo>
                    <a:lnTo>
                      <a:pt x="426" y="1184"/>
                    </a:lnTo>
                    <a:lnTo>
                      <a:pt x="398" y="1174"/>
                    </a:lnTo>
                    <a:lnTo>
                      <a:pt x="371" y="1164"/>
                    </a:lnTo>
                    <a:lnTo>
                      <a:pt x="344" y="1152"/>
                    </a:lnTo>
                    <a:lnTo>
                      <a:pt x="317" y="1138"/>
                    </a:lnTo>
                    <a:lnTo>
                      <a:pt x="292" y="1124"/>
                    </a:lnTo>
                    <a:lnTo>
                      <a:pt x="268" y="1107"/>
                    </a:lnTo>
                    <a:lnTo>
                      <a:pt x="244" y="1090"/>
                    </a:lnTo>
                    <a:lnTo>
                      <a:pt x="221" y="1072"/>
                    </a:lnTo>
                    <a:lnTo>
                      <a:pt x="200" y="1053"/>
                    </a:lnTo>
                    <a:lnTo>
                      <a:pt x="178" y="1034"/>
                    </a:lnTo>
                    <a:lnTo>
                      <a:pt x="158" y="1012"/>
                    </a:lnTo>
                    <a:lnTo>
                      <a:pt x="138" y="991"/>
                    </a:lnTo>
                    <a:lnTo>
                      <a:pt x="120" y="968"/>
                    </a:lnTo>
                    <a:lnTo>
                      <a:pt x="104" y="944"/>
                    </a:lnTo>
                    <a:lnTo>
                      <a:pt x="88" y="919"/>
                    </a:lnTo>
                    <a:lnTo>
                      <a:pt x="74" y="894"/>
                    </a:lnTo>
                    <a:lnTo>
                      <a:pt x="60" y="867"/>
                    </a:lnTo>
                    <a:lnTo>
                      <a:pt x="48" y="841"/>
                    </a:lnTo>
                    <a:lnTo>
                      <a:pt x="36" y="813"/>
                    </a:lnTo>
                    <a:lnTo>
                      <a:pt x="27" y="786"/>
                    </a:lnTo>
                    <a:lnTo>
                      <a:pt x="20" y="757"/>
                    </a:lnTo>
                    <a:lnTo>
                      <a:pt x="12" y="727"/>
                    </a:lnTo>
                    <a:lnTo>
                      <a:pt x="8" y="698"/>
                    </a:lnTo>
                    <a:lnTo>
                      <a:pt x="3" y="667"/>
                    </a:lnTo>
                    <a:lnTo>
                      <a:pt x="0" y="637"/>
                    </a:lnTo>
                    <a:lnTo>
                      <a:pt x="0" y="606"/>
                    </a:lnTo>
                    <a:lnTo>
                      <a:pt x="0" y="575"/>
                    </a:lnTo>
                    <a:lnTo>
                      <a:pt x="3" y="543"/>
                    </a:lnTo>
                    <a:lnTo>
                      <a:pt x="8" y="513"/>
                    </a:lnTo>
                    <a:lnTo>
                      <a:pt x="12" y="483"/>
                    </a:lnTo>
                    <a:lnTo>
                      <a:pt x="20" y="455"/>
                    </a:lnTo>
                    <a:lnTo>
                      <a:pt x="27" y="426"/>
                    </a:lnTo>
                    <a:lnTo>
                      <a:pt x="36" y="397"/>
                    </a:lnTo>
                    <a:lnTo>
                      <a:pt x="48" y="369"/>
                    </a:lnTo>
                    <a:lnTo>
                      <a:pt x="60" y="343"/>
                    </a:lnTo>
                    <a:lnTo>
                      <a:pt x="74" y="317"/>
                    </a:lnTo>
                    <a:lnTo>
                      <a:pt x="88" y="291"/>
                    </a:lnTo>
                    <a:lnTo>
                      <a:pt x="104" y="267"/>
                    </a:lnTo>
                    <a:lnTo>
                      <a:pt x="120" y="243"/>
                    </a:lnTo>
                    <a:lnTo>
                      <a:pt x="138" y="221"/>
                    </a:lnTo>
                    <a:lnTo>
                      <a:pt x="158" y="198"/>
                    </a:lnTo>
                    <a:lnTo>
                      <a:pt x="178" y="177"/>
                    </a:lnTo>
                    <a:lnTo>
                      <a:pt x="200" y="157"/>
                    </a:lnTo>
                    <a:lnTo>
                      <a:pt x="221" y="138"/>
                    </a:lnTo>
                    <a:lnTo>
                      <a:pt x="244" y="120"/>
                    </a:lnTo>
                    <a:lnTo>
                      <a:pt x="268" y="103"/>
                    </a:lnTo>
                    <a:lnTo>
                      <a:pt x="292" y="88"/>
                    </a:lnTo>
                    <a:lnTo>
                      <a:pt x="317" y="73"/>
                    </a:lnTo>
                    <a:lnTo>
                      <a:pt x="344" y="60"/>
                    </a:lnTo>
                    <a:lnTo>
                      <a:pt x="371" y="47"/>
                    </a:lnTo>
                    <a:lnTo>
                      <a:pt x="398" y="36"/>
                    </a:lnTo>
                    <a:lnTo>
                      <a:pt x="426" y="26"/>
                    </a:lnTo>
                    <a:lnTo>
                      <a:pt x="455" y="19"/>
                    </a:lnTo>
                    <a:lnTo>
                      <a:pt x="484" y="12"/>
                    </a:lnTo>
                    <a:lnTo>
                      <a:pt x="514" y="6"/>
                    </a:lnTo>
                    <a:lnTo>
                      <a:pt x="544" y="2"/>
                    </a:lnTo>
                    <a:lnTo>
                      <a:pt x="575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08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108160" y="2897280"/>
                <a:ext cx="477720" cy="476280"/>
              </a:xfrm>
              <a:custGeom>
                <a:avLst/>
                <a:gdLst/>
                <a:ahLst/>
                <a:rect l="l" t="t" r="r" b="b"/>
                <a:pathLst>
                  <a:path w="1201" h="1201">
                    <a:moveTo>
                      <a:pt x="601" y="0"/>
                    </a:moveTo>
                    <a:lnTo>
                      <a:pt x="633" y="2"/>
                    </a:lnTo>
                    <a:lnTo>
                      <a:pt x="663" y="4"/>
                    </a:lnTo>
                    <a:lnTo>
                      <a:pt x="693" y="8"/>
                    </a:lnTo>
                    <a:lnTo>
                      <a:pt x="723" y="14"/>
                    </a:lnTo>
                    <a:lnTo>
                      <a:pt x="751" y="20"/>
                    </a:lnTo>
                    <a:lnTo>
                      <a:pt x="779" y="28"/>
                    </a:lnTo>
                    <a:lnTo>
                      <a:pt x="808" y="38"/>
                    </a:lnTo>
                    <a:lnTo>
                      <a:pt x="834" y="48"/>
                    </a:lnTo>
                    <a:lnTo>
                      <a:pt x="862" y="60"/>
                    </a:lnTo>
                    <a:lnTo>
                      <a:pt x="887" y="74"/>
                    </a:lnTo>
                    <a:lnTo>
                      <a:pt x="912" y="88"/>
                    </a:lnTo>
                    <a:lnTo>
                      <a:pt x="936" y="104"/>
                    </a:lnTo>
                    <a:lnTo>
                      <a:pt x="960" y="120"/>
                    </a:lnTo>
                    <a:lnTo>
                      <a:pt x="983" y="138"/>
                    </a:lnTo>
                    <a:lnTo>
                      <a:pt x="1005" y="158"/>
                    </a:lnTo>
                    <a:lnTo>
                      <a:pt x="1026" y="177"/>
                    </a:lnTo>
                    <a:lnTo>
                      <a:pt x="1045" y="198"/>
                    </a:lnTo>
                    <a:lnTo>
                      <a:pt x="1065" y="220"/>
                    </a:lnTo>
                    <a:lnTo>
                      <a:pt x="1083" y="243"/>
                    </a:lnTo>
                    <a:lnTo>
                      <a:pt x="1099" y="265"/>
                    </a:lnTo>
                    <a:lnTo>
                      <a:pt x="1115" y="291"/>
                    </a:lnTo>
                    <a:lnTo>
                      <a:pt x="1129" y="316"/>
                    </a:lnTo>
                    <a:lnTo>
                      <a:pt x="1143" y="341"/>
                    </a:lnTo>
                    <a:lnTo>
                      <a:pt x="1155" y="367"/>
                    </a:lnTo>
                    <a:lnTo>
                      <a:pt x="1165" y="395"/>
                    </a:lnTo>
                    <a:lnTo>
                      <a:pt x="1175" y="423"/>
                    </a:lnTo>
                    <a:lnTo>
                      <a:pt x="1183" y="451"/>
                    </a:lnTo>
                    <a:lnTo>
                      <a:pt x="1189" y="480"/>
                    </a:lnTo>
                    <a:lnTo>
                      <a:pt x="1195" y="510"/>
                    </a:lnTo>
                    <a:lnTo>
                      <a:pt x="1199" y="540"/>
                    </a:lnTo>
                    <a:lnTo>
                      <a:pt x="1201" y="570"/>
                    </a:lnTo>
                    <a:lnTo>
                      <a:pt x="1201" y="601"/>
                    </a:lnTo>
                    <a:lnTo>
                      <a:pt x="1201" y="633"/>
                    </a:lnTo>
                    <a:lnTo>
                      <a:pt x="1199" y="663"/>
                    </a:lnTo>
                    <a:lnTo>
                      <a:pt x="1195" y="693"/>
                    </a:lnTo>
                    <a:lnTo>
                      <a:pt x="1189" y="723"/>
                    </a:lnTo>
                    <a:lnTo>
                      <a:pt x="1183" y="751"/>
                    </a:lnTo>
                    <a:lnTo>
                      <a:pt x="1175" y="779"/>
                    </a:lnTo>
                    <a:lnTo>
                      <a:pt x="1165" y="808"/>
                    </a:lnTo>
                    <a:lnTo>
                      <a:pt x="1155" y="834"/>
                    </a:lnTo>
                    <a:lnTo>
                      <a:pt x="1143" y="862"/>
                    </a:lnTo>
                    <a:lnTo>
                      <a:pt x="1129" y="887"/>
                    </a:lnTo>
                    <a:lnTo>
                      <a:pt x="1115" y="912"/>
                    </a:lnTo>
                    <a:lnTo>
                      <a:pt x="1099" y="936"/>
                    </a:lnTo>
                    <a:lnTo>
                      <a:pt x="1083" y="960"/>
                    </a:lnTo>
                    <a:lnTo>
                      <a:pt x="1065" y="983"/>
                    </a:lnTo>
                    <a:lnTo>
                      <a:pt x="1045" y="1004"/>
                    </a:lnTo>
                    <a:lnTo>
                      <a:pt x="1026" y="1026"/>
                    </a:lnTo>
                    <a:lnTo>
                      <a:pt x="1005" y="1045"/>
                    </a:lnTo>
                    <a:lnTo>
                      <a:pt x="983" y="1064"/>
                    </a:lnTo>
                    <a:lnTo>
                      <a:pt x="960" y="1082"/>
                    </a:lnTo>
                    <a:lnTo>
                      <a:pt x="936" y="1099"/>
                    </a:lnTo>
                    <a:lnTo>
                      <a:pt x="912" y="1115"/>
                    </a:lnTo>
                    <a:lnTo>
                      <a:pt x="887" y="1129"/>
                    </a:lnTo>
                    <a:lnTo>
                      <a:pt x="862" y="1142"/>
                    </a:lnTo>
                    <a:lnTo>
                      <a:pt x="834" y="1154"/>
                    </a:lnTo>
                    <a:lnTo>
                      <a:pt x="808" y="1165"/>
                    </a:lnTo>
                    <a:lnTo>
                      <a:pt x="779" y="1175"/>
                    </a:lnTo>
                    <a:lnTo>
                      <a:pt x="751" y="1183"/>
                    </a:lnTo>
                    <a:lnTo>
                      <a:pt x="723" y="1189"/>
                    </a:lnTo>
                    <a:lnTo>
                      <a:pt x="693" y="1195"/>
                    </a:lnTo>
                    <a:lnTo>
                      <a:pt x="663" y="1199"/>
                    </a:lnTo>
                    <a:lnTo>
                      <a:pt x="633" y="1201"/>
                    </a:lnTo>
                    <a:lnTo>
                      <a:pt x="601" y="1201"/>
                    </a:lnTo>
                    <a:lnTo>
                      <a:pt x="570" y="1201"/>
                    </a:lnTo>
                    <a:lnTo>
                      <a:pt x="540" y="1199"/>
                    </a:lnTo>
                    <a:lnTo>
                      <a:pt x="510" y="1195"/>
                    </a:lnTo>
                    <a:lnTo>
                      <a:pt x="480" y="1189"/>
                    </a:lnTo>
                    <a:lnTo>
                      <a:pt x="451" y="1183"/>
                    </a:lnTo>
                    <a:lnTo>
                      <a:pt x="423" y="1175"/>
                    </a:lnTo>
                    <a:lnTo>
                      <a:pt x="395" y="1165"/>
                    </a:lnTo>
                    <a:lnTo>
                      <a:pt x="367" y="1154"/>
                    </a:lnTo>
                    <a:lnTo>
                      <a:pt x="341" y="1142"/>
                    </a:lnTo>
                    <a:lnTo>
                      <a:pt x="316" y="1129"/>
                    </a:lnTo>
                    <a:lnTo>
                      <a:pt x="291" y="1115"/>
                    </a:lnTo>
                    <a:lnTo>
                      <a:pt x="265" y="1099"/>
                    </a:lnTo>
                    <a:lnTo>
                      <a:pt x="243" y="1082"/>
                    </a:lnTo>
                    <a:lnTo>
                      <a:pt x="220" y="1064"/>
                    </a:lnTo>
                    <a:lnTo>
                      <a:pt x="198" y="1045"/>
                    </a:lnTo>
                    <a:lnTo>
                      <a:pt x="177" y="1026"/>
                    </a:lnTo>
                    <a:lnTo>
                      <a:pt x="157" y="1004"/>
                    </a:lnTo>
                    <a:lnTo>
                      <a:pt x="138" y="983"/>
                    </a:lnTo>
                    <a:lnTo>
                      <a:pt x="120" y="960"/>
                    </a:lnTo>
                    <a:lnTo>
                      <a:pt x="103" y="936"/>
                    </a:lnTo>
                    <a:lnTo>
                      <a:pt x="88" y="912"/>
                    </a:lnTo>
                    <a:lnTo>
                      <a:pt x="73" y="887"/>
                    </a:lnTo>
                    <a:lnTo>
                      <a:pt x="60" y="862"/>
                    </a:lnTo>
                    <a:lnTo>
                      <a:pt x="48" y="834"/>
                    </a:lnTo>
                    <a:lnTo>
                      <a:pt x="37" y="808"/>
                    </a:lnTo>
                    <a:lnTo>
                      <a:pt x="28" y="779"/>
                    </a:lnTo>
                    <a:lnTo>
                      <a:pt x="19" y="751"/>
                    </a:lnTo>
                    <a:lnTo>
                      <a:pt x="13" y="723"/>
                    </a:lnTo>
                    <a:lnTo>
                      <a:pt x="7" y="693"/>
                    </a:lnTo>
                    <a:lnTo>
                      <a:pt x="4" y="663"/>
                    </a:lnTo>
                    <a:lnTo>
                      <a:pt x="1" y="633"/>
                    </a:lnTo>
                    <a:lnTo>
                      <a:pt x="0" y="601"/>
                    </a:lnTo>
                    <a:lnTo>
                      <a:pt x="1" y="570"/>
                    </a:lnTo>
                    <a:lnTo>
                      <a:pt x="4" y="540"/>
                    </a:lnTo>
                    <a:lnTo>
                      <a:pt x="7" y="510"/>
                    </a:lnTo>
                    <a:lnTo>
                      <a:pt x="13" y="480"/>
                    </a:lnTo>
                    <a:lnTo>
                      <a:pt x="19" y="451"/>
                    </a:lnTo>
                    <a:lnTo>
                      <a:pt x="28" y="423"/>
                    </a:lnTo>
                    <a:lnTo>
                      <a:pt x="37" y="395"/>
                    </a:lnTo>
                    <a:lnTo>
                      <a:pt x="48" y="367"/>
                    </a:lnTo>
                    <a:lnTo>
                      <a:pt x="60" y="341"/>
                    </a:lnTo>
                    <a:lnTo>
                      <a:pt x="73" y="316"/>
                    </a:lnTo>
                    <a:lnTo>
                      <a:pt x="88" y="291"/>
                    </a:lnTo>
                    <a:lnTo>
                      <a:pt x="103" y="265"/>
                    </a:lnTo>
                    <a:lnTo>
                      <a:pt x="120" y="243"/>
                    </a:lnTo>
                    <a:lnTo>
                      <a:pt x="138" y="220"/>
                    </a:lnTo>
                    <a:lnTo>
                      <a:pt x="157" y="198"/>
                    </a:lnTo>
                    <a:lnTo>
                      <a:pt x="177" y="177"/>
                    </a:lnTo>
                    <a:lnTo>
                      <a:pt x="198" y="158"/>
                    </a:lnTo>
                    <a:lnTo>
                      <a:pt x="220" y="138"/>
                    </a:lnTo>
                    <a:lnTo>
                      <a:pt x="243" y="120"/>
                    </a:lnTo>
                    <a:lnTo>
                      <a:pt x="265" y="104"/>
                    </a:lnTo>
                    <a:lnTo>
                      <a:pt x="291" y="88"/>
                    </a:lnTo>
                    <a:lnTo>
                      <a:pt x="316" y="74"/>
                    </a:lnTo>
                    <a:lnTo>
                      <a:pt x="341" y="60"/>
                    </a:lnTo>
                    <a:lnTo>
                      <a:pt x="367" y="48"/>
                    </a:lnTo>
                    <a:lnTo>
                      <a:pt x="395" y="38"/>
                    </a:lnTo>
                    <a:lnTo>
                      <a:pt x="423" y="28"/>
                    </a:lnTo>
                    <a:lnTo>
                      <a:pt x="451" y="20"/>
                    </a:lnTo>
                    <a:lnTo>
                      <a:pt x="480" y="14"/>
                    </a:lnTo>
                    <a:lnTo>
                      <a:pt x="510" y="8"/>
                    </a:lnTo>
                    <a:lnTo>
                      <a:pt x="540" y="4"/>
                    </a:lnTo>
                    <a:lnTo>
                      <a:pt x="570" y="2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c48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111400" y="2900520"/>
                <a:ext cx="471240" cy="473040"/>
              </a:xfrm>
              <a:custGeom>
                <a:avLst/>
                <a:gdLst/>
                <a:ahLst/>
                <a:rect l="l" t="t" r="r" b="b"/>
                <a:pathLst>
                  <a:path w="1191" h="1190">
                    <a:moveTo>
                      <a:pt x="595" y="0"/>
                    </a:moveTo>
                    <a:lnTo>
                      <a:pt x="625" y="1"/>
                    </a:lnTo>
                    <a:lnTo>
                      <a:pt x="655" y="4"/>
                    </a:lnTo>
                    <a:lnTo>
                      <a:pt x="685" y="7"/>
                    </a:lnTo>
                    <a:lnTo>
                      <a:pt x="715" y="12"/>
                    </a:lnTo>
                    <a:lnTo>
                      <a:pt x="744" y="19"/>
                    </a:lnTo>
                    <a:lnTo>
                      <a:pt x="772" y="26"/>
                    </a:lnTo>
                    <a:lnTo>
                      <a:pt x="799" y="36"/>
                    </a:lnTo>
                    <a:lnTo>
                      <a:pt x="827" y="47"/>
                    </a:lnTo>
                    <a:lnTo>
                      <a:pt x="853" y="59"/>
                    </a:lnTo>
                    <a:lnTo>
                      <a:pt x="879" y="72"/>
                    </a:lnTo>
                    <a:lnTo>
                      <a:pt x="904" y="86"/>
                    </a:lnTo>
                    <a:lnTo>
                      <a:pt x="928" y="102"/>
                    </a:lnTo>
                    <a:lnTo>
                      <a:pt x="951" y="119"/>
                    </a:lnTo>
                    <a:lnTo>
                      <a:pt x="973" y="137"/>
                    </a:lnTo>
                    <a:lnTo>
                      <a:pt x="995" y="155"/>
                    </a:lnTo>
                    <a:lnTo>
                      <a:pt x="1015" y="175"/>
                    </a:lnTo>
                    <a:lnTo>
                      <a:pt x="1036" y="195"/>
                    </a:lnTo>
                    <a:lnTo>
                      <a:pt x="1054" y="217"/>
                    </a:lnTo>
                    <a:lnTo>
                      <a:pt x="1072" y="240"/>
                    </a:lnTo>
                    <a:lnTo>
                      <a:pt x="1089" y="263"/>
                    </a:lnTo>
                    <a:lnTo>
                      <a:pt x="1104" y="287"/>
                    </a:lnTo>
                    <a:lnTo>
                      <a:pt x="1119" y="312"/>
                    </a:lnTo>
                    <a:lnTo>
                      <a:pt x="1132" y="337"/>
                    </a:lnTo>
                    <a:lnTo>
                      <a:pt x="1144" y="363"/>
                    </a:lnTo>
                    <a:lnTo>
                      <a:pt x="1155" y="391"/>
                    </a:lnTo>
                    <a:lnTo>
                      <a:pt x="1163" y="419"/>
                    </a:lnTo>
                    <a:lnTo>
                      <a:pt x="1171" y="446"/>
                    </a:lnTo>
                    <a:lnTo>
                      <a:pt x="1179" y="475"/>
                    </a:lnTo>
                    <a:lnTo>
                      <a:pt x="1183" y="505"/>
                    </a:lnTo>
                    <a:lnTo>
                      <a:pt x="1187" y="534"/>
                    </a:lnTo>
                    <a:lnTo>
                      <a:pt x="1189" y="565"/>
                    </a:lnTo>
                    <a:lnTo>
                      <a:pt x="1191" y="595"/>
                    </a:lnTo>
                    <a:lnTo>
                      <a:pt x="1189" y="625"/>
                    </a:lnTo>
                    <a:lnTo>
                      <a:pt x="1187" y="656"/>
                    </a:lnTo>
                    <a:lnTo>
                      <a:pt x="1183" y="685"/>
                    </a:lnTo>
                    <a:lnTo>
                      <a:pt x="1179" y="715"/>
                    </a:lnTo>
                    <a:lnTo>
                      <a:pt x="1171" y="744"/>
                    </a:lnTo>
                    <a:lnTo>
                      <a:pt x="1163" y="771"/>
                    </a:lnTo>
                    <a:lnTo>
                      <a:pt x="1155" y="799"/>
                    </a:lnTo>
                    <a:lnTo>
                      <a:pt x="1144" y="827"/>
                    </a:lnTo>
                    <a:lnTo>
                      <a:pt x="1132" y="853"/>
                    </a:lnTo>
                    <a:lnTo>
                      <a:pt x="1119" y="878"/>
                    </a:lnTo>
                    <a:lnTo>
                      <a:pt x="1104" y="903"/>
                    </a:lnTo>
                    <a:lnTo>
                      <a:pt x="1089" y="927"/>
                    </a:lnTo>
                    <a:lnTo>
                      <a:pt x="1072" y="950"/>
                    </a:lnTo>
                    <a:lnTo>
                      <a:pt x="1054" y="973"/>
                    </a:lnTo>
                    <a:lnTo>
                      <a:pt x="1036" y="994"/>
                    </a:lnTo>
                    <a:lnTo>
                      <a:pt x="1015" y="1015"/>
                    </a:lnTo>
                    <a:lnTo>
                      <a:pt x="995" y="1035"/>
                    </a:lnTo>
                    <a:lnTo>
                      <a:pt x="973" y="1053"/>
                    </a:lnTo>
                    <a:lnTo>
                      <a:pt x="951" y="1071"/>
                    </a:lnTo>
                    <a:lnTo>
                      <a:pt x="928" y="1088"/>
                    </a:lnTo>
                    <a:lnTo>
                      <a:pt x="904" y="1104"/>
                    </a:lnTo>
                    <a:lnTo>
                      <a:pt x="879" y="1118"/>
                    </a:lnTo>
                    <a:lnTo>
                      <a:pt x="853" y="1131"/>
                    </a:lnTo>
                    <a:lnTo>
                      <a:pt x="827" y="1143"/>
                    </a:lnTo>
                    <a:lnTo>
                      <a:pt x="799" y="1154"/>
                    </a:lnTo>
                    <a:lnTo>
                      <a:pt x="772" y="1164"/>
                    </a:lnTo>
                    <a:lnTo>
                      <a:pt x="744" y="1171"/>
                    </a:lnTo>
                    <a:lnTo>
                      <a:pt x="715" y="1178"/>
                    </a:lnTo>
                    <a:lnTo>
                      <a:pt x="685" y="1183"/>
                    </a:lnTo>
                    <a:lnTo>
                      <a:pt x="655" y="1186"/>
                    </a:lnTo>
                    <a:lnTo>
                      <a:pt x="625" y="1189"/>
                    </a:lnTo>
                    <a:lnTo>
                      <a:pt x="595" y="1190"/>
                    </a:lnTo>
                    <a:lnTo>
                      <a:pt x="564" y="1189"/>
                    </a:lnTo>
                    <a:lnTo>
                      <a:pt x="534" y="1186"/>
                    </a:lnTo>
                    <a:lnTo>
                      <a:pt x="505" y="1183"/>
                    </a:lnTo>
                    <a:lnTo>
                      <a:pt x="475" y="1178"/>
                    </a:lnTo>
                    <a:lnTo>
                      <a:pt x="447" y="1171"/>
                    </a:lnTo>
                    <a:lnTo>
                      <a:pt x="419" y="1164"/>
                    </a:lnTo>
                    <a:lnTo>
                      <a:pt x="391" y="1154"/>
                    </a:lnTo>
                    <a:lnTo>
                      <a:pt x="364" y="1143"/>
                    </a:lnTo>
                    <a:lnTo>
                      <a:pt x="337" y="1131"/>
                    </a:lnTo>
                    <a:lnTo>
                      <a:pt x="312" y="1118"/>
                    </a:lnTo>
                    <a:lnTo>
                      <a:pt x="287" y="1104"/>
                    </a:lnTo>
                    <a:lnTo>
                      <a:pt x="263" y="1088"/>
                    </a:lnTo>
                    <a:lnTo>
                      <a:pt x="239" y="1071"/>
                    </a:lnTo>
                    <a:lnTo>
                      <a:pt x="217" y="1053"/>
                    </a:lnTo>
                    <a:lnTo>
                      <a:pt x="196" y="1035"/>
                    </a:lnTo>
                    <a:lnTo>
                      <a:pt x="175" y="1015"/>
                    </a:lnTo>
                    <a:lnTo>
                      <a:pt x="155" y="994"/>
                    </a:lnTo>
                    <a:lnTo>
                      <a:pt x="136" y="973"/>
                    </a:lnTo>
                    <a:lnTo>
                      <a:pt x="119" y="950"/>
                    </a:lnTo>
                    <a:lnTo>
                      <a:pt x="102" y="927"/>
                    </a:lnTo>
                    <a:lnTo>
                      <a:pt x="87" y="903"/>
                    </a:lnTo>
                    <a:lnTo>
                      <a:pt x="72" y="878"/>
                    </a:lnTo>
                    <a:lnTo>
                      <a:pt x="59" y="853"/>
                    </a:lnTo>
                    <a:lnTo>
                      <a:pt x="47" y="827"/>
                    </a:lnTo>
                    <a:lnTo>
                      <a:pt x="36" y="799"/>
                    </a:lnTo>
                    <a:lnTo>
                      <a:pt x="27" y="771"/>
                    </a:lnTo>
                    <a:lnTo>
                      <a:pt x="19" y="744"/>
                    </a:lnTo>
                    <a:lnTo>
                      <a:pt x="12" y="715"/>
                    </a:lnTo>
                    <a:lnTo>
                      <a:pt x="7" y="685"/>
                    </a:lnTo>
                    <a:lnTo>
                      <a:pt x="4" y="656"/>
                    </a:lnTo>
                    <a:lnTo>
                      <a:pt x="1" y="625"/>
                    </a:lnTo>
                    <a:lnTo>
                      <a:pt x="0" y="595"/>
                    </a:lnTo>
                    <a:lnTo>
                      <a:pt x="1" y="565"/>
                    </a:lnTo>
                    <a:lnTo>
                      <a:pt x="4" y="534"/>
                    </a:lnTo>
                    <a:lnTo>
                      <a:pt x="7" y="505"/>
                    </a:lnTo>
                    <a:lnTo>
                      <a:pt x="12" y="475"/>
                    </a:lnTo>
                    <a:lnTo>
                      <a:pt x="19" y="446"/>
                    </a:lnTo>
                    <a:lnTo>
                      <a:pt x="27" y="419"/>
                    </a:lnTo>
                    <a:lnTo>
                      <a:pt x="36" y="391"/>
                    </a:lnTo>
                    <a:lnTo>
                      <a:pt x="47" y="363"/>
                    </a:lnTo>
                    <a:lnTo>
                      <a:pt x="59" y="337"/>
                    </a:lnTo>
                    <a:lnTo>
                      <a:pt x="72" y="312"/>
                    </a:lnTo>
                    <a:lnTo>
                      <a:pt x="87" y="287"/>
                    </a:lnTo>
                    <a:lnTo>
                      <a:pt x="102" y="263"/>
                    </a:lnTo>
                    <a:lnTo>
                      <a:pt x="119" y="240"/>
                    </a:lnTo>
                    <a:lnTo>
                      <a:pt x="136" y="217"/>
                    </a:lnTo>
                    <a:lnTo>
                      <a:pt x="155" y="195"/>
                    </a:lnTo>
                    <a:lnTo>
                      <a:pt x="175" y="175"/>
                    </a:lnTo>
                    <a:lnTo>
                      <a:pt x="196" y="155"/>
                    </a:lnTo>
                    <a:lnTo>
                      <a:pt x="217" y="137"/>
                    </a:lnTo>
                    <a:lnTo>
                      <a:pt x="239" y="119"/>
                    </a:lnTo>
                    <a:lnTo>
                      <a:pt x="263" y="102"/>
                    </a:lnTo>
                    <a:lnTo>
                      <a:pt x="287" y="86"/>
                    </a:lnTo>
                    <a:lnTo>
                      <a:pt x="312" y="72"/>
                    </a:lnTo>
                    <a:lnTo>
                      <a:pt x="337" y="59"/>
                    </a:lnTo>
                    <a:lnTo>
                      <a:pt x="364" y="47"/>
                    </a:lnTo>
                    <a:lnTo>
                      <a:pt x="391" y="36"/>
                    </a:lnTo>
                    <a:lnTo>
                      <a:pt x="419" y="26"/>
                    </a:lnTo>
                    <a:lnTo>
                      <a:pt x="447" y="19"/>
                    </a:lnTo>
                    <a:lnTo>
                      <a:pt x="475" y="12"/>
                    </a:lnTo>
                    <a:lnTo>
                      <a:pt x="505" y="7"/>
                    </a:lnTo>
                    <a:lnTo>
                      <a:pt x="534" y="4"/>
                    </a:lnTo>
                    <a:lnTo>
                      <a:pt x="564" y="1"/>
                    </a:lnTo>
                    <a:lnTo>
                      <a:pt x="595" y="0"/>
                    </a:lnTo>
                    <a:close/>
                  </a:path>
                </a:pathLst>
              </a:custGeom>
              <a:solidFill>
                <a:srgbClr val="ca8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112840" y="290520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1179" h="1178">
                    <a:moveTo>
                      <a:pt x="589" y="0"/>
                    </a:moveTo>
                    <a:lnTo>
                      <a:pt x="619" y="0"/>
                    </a:lnTo>
                    <a:lnTo>
                      <a:pt x="649" y="2"/>
                    </a:lnTo>
                    <a:lnTo>
                      <a:pt x="679" y="7"/>
                    </a:lnTo>
                    <a:lnTo>
                      <a:pt x="708" y="12"/>
                    </a:lnTo>
                    <a:lnTo>
                      <a:pt x="736" y="18"/>
                    </a:lnTo>
                    <a:lnTo>
                      <a:pt x="765" y="26"/>
                    </a:lnTo>
                    <a:lnTo>
                      <a:pt x="792" y="36"/>
                    </a:lnTo>
                    <a:lnTo>
                      <a:pt x="819" y="46"/>
                    </a:lnTo>
                    <a:lnTo>
                      <a:pt x="845" y="57"/>
                    </a:lnTo>
                    <a:lnTo>
                      <a:pt x="870" y="70"/>
                    </a:lnTo>
                    <a:lnTo>
                      <a:pt x="894" y="85"/>
                    </a:lnTo>
                    <a:lnTo>
                      <a:pt x="918" y="100"/>
                    </a:lnTo>
                    <a:lnTo>
                      <a:pt x="942" y="117"/>
                    </a:lnTo>
                    <a:lnTo>
                      <a:pt x="964" y="134"/>
                    </a:lnTo>
                    <a:lnTo>
                      <a:pt x="985" y="153"/>
                    </a:lnTo>
                    <a:lnTo>
                      <a:pt x="1006" y="172"/>
                    </a:lnTo>
                    <a:lnTo>
                      <a:pt x="1025" y="193"/>
                    </a:lnTo>
                    <a:lnTo>
                      <a:pt x="1044" y="214"/>
                    </a:lnTo>
                    <a:lnTo>
                      <a:pt x="1061" y="237"/>
                    </a:lnTo>
                    <a:lnTo>
                      <a:pt x="1078" y="260"/>
                    </a:lnTo>
                    <a:lnTo>
                      <a:pt x="1093" y="284"/>
                    </a:lnTo>
                    <a:lnTo>
                      <a:pt x="1108" y="308"/>
                    </a:lnTo>
                    <a:lnTo>
                      <a:pt x="1121" y="333"/>
                    </a:lnTo>
                    <a:lnTo>
                      <a:pt x="1132" y="359"/>
                    </a:lnTo>
                    <a:lnTo>
                      <a:pt x="1143" y="387"/>
                    </a:lnTo>
                    <a:lnTo>
                      <a:pt x="1152" y="413"/>
                    </a:lnTo>
                    <a:lnTo>
                      <a:pt x="1161" y="442"/>
                    </a:lnTo>
                    <a:lnTo>
                      <a:pt x="1167" y="470"/>
                    </a:lnTo>
                    <a:lnTo>
                      <a:pt x="1171" y="499"/>
                    </a:lnTo>
                    <a:lnTo>
                      <a:pt x="1176" y="529"/>
                    </a:lnTo>
                    <a:lnTo>
                      <a:pt x="1179" y="559"/>
                    </a:lnTo>
                    <a:lnTo>
                      <a:pt x="1179" y="589"/>
                    </a:lnTo>
                    <a:lnTo>
                      <a:pt x="1179" y="619"/>
                    </a:lnTo>
                    <a:lnTo>
                      <a:pt x="1176" y="649"/>
                    </a:lnTo>
                    <a:lnTo>
                      <a:pt x="1171" y="679"/>
                    </a:lnTo>
                    <a:lnTo>
                      <a:pt x="1167" y="707"/>
                    </a:lnTo>
                    <a:lnTo>
                      <a:pt x="1161" y="736"/>
                    </a:lnTo>
                    <a:lnTo>
                      <a:pt x="1152" y="764"/>
                    </a:lnTo>
                    <a:lnTo>
                      <a:pt x="1143" y="791"/>
                    </a:lnTo>
                    <a:lnTo>
                      <a:pt x="1132" y="818"/>
                    </a:lnTo>
                    <a:lnTo>
                      <a:pt x="1121" y="844"/>
                    </a:lnTo>
                    <a:lnTo>
                      <a:pt x="1108" y="869"/>
                    </a:lnTo>
                    <a:lnTo>
                      <a:pt x="1093" y="894"/>
                    </a:lnTo>
                    <a:lnTo>
                      <a:pt x="1078" y="917"/>
                    </a:lnTo>
                    <a:lnTo>
                      <a:pt x="1061" y="941"/>
                    </a:lnTo>
                    <a:lnTo>
                      <a:pt x="1044" y="963"/>
                    </a:lnTo>
                    <a:lnTo>
                      <a:pt x="1025" y="984"/>
                    </a:lnTo>
                    <a:lnTo>
                      <a:pt x="1006" y="1005"/>
                    </a:lnTo>
                    <a:lnTo>
                      <a:pt x="985" y="1025"/>
                    </a:lnTo>
                    <a:lnTo>
                      <a:pt x="964" y="1043"/>
                    </a:lnTo>
                    <a:lnTo>
                      <a:pt x="942" y="1061"/>
                    </a:lnTo>
                    <a:lnTo>
                      <a:pt x="918" y="1077"/>
                    </a:lnTo>
                    <a:lnTo>
                      <a:pt x="894" y="1092"/>
                    </a:lnTo>
                    <a:lnTo>
                      <a:pt x="870" y="1107"/>
                    </a:lnTo>
                    <a:lnTo>
                      <a:pt x="845" y="1120"/>
                    </a:lnTo>
                    <a:lnTo>
                      <a:pt x="819" y="1132"/>
                    </a:lnTo>
                    <a:lnTo>
                      <a:pt x="792" y="1143"/>
                    </a:lnTo>
                    <a:lnTo>
                      <a:pt x="765" y="1151"/>
                    </a:lnTo>
                    <a:lnTo>
                      <a:pt x="736" y="1160"/>
                    </a:lnTo>
                    <a:lnTo>
                      <a:pt x="708" y="1166"/>
                    </a:lnTo>
                    <a:lnTo>
                      <a:pt x="679" y="1172"/>
                    </a:lnTo>
                    <a:lnTo>
                      <a:pt x="649" y="1175"/>
                    </a:lnTo>
                    <a:lnTo>
                      <a:pt x="619" y="1178"/>
                    </a:lnTo>
                    <a:lnTo>
                      <a:pt x="589" y="1178"/>
                    </a:lnTo>
                    <a:lnTo>
                      <a:pt x="559" y="1178"/>
                    </a:lnTo>
                    <a:lnTo>
                      <a:pt x="529" y="1175"/>
                    </a:lnTo>
                    <a:lnTo>
                      <a:pt x="499" y="1172"/>
                    </a:lnTo>
                    <a:lnTo>
                      <a:pt x="471" y="1166"/>
                    </a:lnTo>
                    <a:lnTo>
                      <a:pt x="442" y="1160"/>
                    </a:lnTo>
                    <a:lnTo>
                      <a:pt x="414" y="1151"/>
                    </a:lnTo>
                    <a:lnTo>
                      <a:pt x="387" y="1143"/>
                    </a:lnTo>
                    <a:lnTo>
                      <a:pt x="360" y="1132"/>
                    </a:lnTo>
                    <a:lnTo>
                      <a:pt x="334" y="1120"/>
                    </a:lnTo>
                    <a:lnTo>
                      <a:pt x="309" y="1107"/>
                    </a:lnTo>
                    <a:lnTo>
                      <a:pt x="283" y="1092"/>
                    </a:lnTo>
                    <a:lnTo>
                      <a:pt x="261" y="1077"/>
                    </a:lnTo>
                    <a:lnTo>
                      <a:pt x="237" y="1061"/>
                    </a:lnTo>
                    <a:lnTo>
                      <a:pt x="215" y="1043"/>
                    </a:lnTo>
                    <a:lnTo>
                      <a:pt x="193" y="1025"/>
                    </a:lnTo>
                    <a:lnTo>
                      <a:pt x="173" y="1005"/>
                    </a:lnTo>
                    <a:lnTo>
                      <a:pt x="154" y="984"/>
                    </a:lnTo>
                    <a:lnTo>
                      <a:pt x="135" y="963"/>
                    </a:lnTo>
                    <a:lnTo>
                      <a:pt x="117" y="941"/>
                    </a:lnTo>
                    <a:lnTo>
                      <a:pt x="101" y="917"/>
                    </a:lnTo>
                    <a:lnTo>
                      <a:pt x="85" y="894"/>
                    </a:lnTo>
                    <a:lnTo>
                      <a:pt x="71" y="869"/>
                    </a:lnTo>
                    <a:lnTo>
                      <a:pt x="58" y="844"/>
                    </a:lnTo>
                    <a:lnTo>
                      <a:pt x="46" y="818"/>
                    </a:lnTo>
                    <a:lnTo>
                      <a:pt x="36" y="791"/>
                    </a:lnTo>
                    <a:lnTo>
                      <a:pt x="27" y="764"/>
                    </a:lnTo>
                    <a:lnTo>
                      <a:pt x="18" y="736"/>
                    </a:lnTo>
                    <a:lnTo>
                      <a:pt x="12" y="707"/>
                    </a:lnTo>
                    <a:lnTo>
                      <a:pt x="6" y="679"/>
                    </a:lnTo>
                    <a:lnTo>
                      <a:pt x="3" y="649"/>
                    </a:lnTo>
                    <a:lnTo>
                      <a:pt x="0" y="619"/>
                    </a:lnTo>
                    <a:lnTo>
                      <a:pt x="0" y="589"/>
                    </a:lnTo>
                    <a:lnTo>
                      <a:pt x="0" y="559"/>
                    </a:lnTo>
                    <a:lnTo>
                      <a:pt x="3" y="529"/>
                    </a:lnTo>
                    <a:lnTo>
                      <a:pt x="6" y="499"/>
                    </a:lnTo>
                    <a:lnTo>
                      <a:pt x="12" y="470"/>
                    </a:lnTo>
                    <a:lnTo>
                      <a:pt x="18" y="442"/>
                    </a:lnTo>
                    <a:lnTo>
                      <a:pt x="27" y="413"/>
                    </a:lnTo>
                    <a:lnTo>
                      <a:pt x="36" y="387"/>
                    </a:lnTo>
                    <a:lnTo>
                      <a:pt x="46" y="359"/>
                    </a:lnTo>
                    <a:lnTo>
                      <a:pt x="58" y="333"/>
                    </a:lnTo>
                    <a:lnTo>
                      <a:pt x="71" y="308"/>
                    </a:lnTo>
                    <a:lnTo>
                      <a:pt x="85" y="284"/>
                    </a:lnTo>
                    <a:lnTo>
                      <a:pt x="101" y="260"/>
                    </a:lnTo>
                    <a:lnTo>
                      <a:pt x="117" y="237"/>
                    </a:lnTo>
                    <a:lnTo>
                      <a:pt x="135" y="214"/>
                    </a:lnTo>
                    <a:lnTo>
                      <a:pt x="154" y="193"/>
                    </a:lnTo>
                    <a:lnTo>
                      <a:pt x="173" y="172"/>
                    </a:lnTo>
                    <a:lnTo>
                      <a:pt x="193" y="153"/>
                    </a:lnTo>
                    <a:lnTo>
                      <a:pt x="215" y="134"/>
                    </a:lnTo>
                    <a:lnTo>
                      <a:pt x="237" y="117"/>
                    </a:lnTo>
                    <a:lnTo>
                      <a:pt x="261" y="100"/>
                    </a:lnTo>
                    <a:lnTo>
                      <a:pt x="283" y="85"/>
                    </a:lnTo>
                    <a:lnTo>
                      <a:pt x="309" y="70"/>
                    </a:lnTo>
                    <a:lnTo>
                      <a:pt x="334" y="57"/>
                    </a:lnTo>
                    <a:lnTo>
                      <a:pt x="360" y="46"/>
                    </a:lnTo>
                    <a:lnTo>
                      <a:pt x="387" y="36"/>
                    </a:lnTo>
                    <a:lnTo>
                      <a:pt x="414" y="26"/>
                    </a:lnTo>
                    <a:lnTo>
                      <a:pt x="442" y="18"/>
                    </a:lnTo>
                    <a:lnTo>
                      <a:pt x="471" y="12"/>
                    </a:lnTo>
                    <a:lnTo>
                      <a:pt x="499" y="7"/>
                    </a:lnTo>
                    <a:lnTo>
                      <a:pt x="529" y="2"/>
                    </a:lnTo>
                    <a:lnTo>
                      <a:pt x="559" y="0"/>
                    </a:lnTo>
                    <a:lnTo>
                      <a:pt x="589" y="0"/>
                    </a:lnTo>
                    <a:close/>
                  </a:path>
                </a:pathLst>
              </a:custGeom>
              <a:solidFill>
                <a:srgbClr val="cc8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116080" y="2908440"/>
                <a:ext cx="463680" cy="463320"/>
              </a:xfrm>
              <a:custGeom>
                <a:avLst/>
                <a:gdLst/>
                <a:ahLst/>
                <a:rect l="l" t="t" r="r" b="b"/>
                <a:pathLst>
                  <a:path w="1169" h="1167">
                    <a:moveTo>
                      <a:pt x="584" y="0"/>
                    </a:moveTo>
                    <a:lnTo>
                      <a:pt x="614" y="0"/>
                    </a:lnTo>
                    <a:lnTo>
                      <a:pt x="644" y="3"/>
                    </a:lnTo>
                    <a:lnTo>
                      <a:pt x="673" y="6"/>
                    </a:lnTo>
                    <a:lnTo>
                      <a:pt x="702" y="12"/>
                    </a:lnTo>
                    <a:lnTo>
                      <a:pt x="730" y="18"/>
                    </a:lnTo>
                    <a:lnTo>
                      <a:pt x="757" y="27"/>
                    </a:lnTo>
                    <a:lnTo>
                      <a:pt x="785" y="35"/>
                    </a:lnTo>
                    <a:lnTo>
                      <a:pt x="811" y="46"/>
                    </a:lnTo>
                    <a:lnTo>
                      <a:pt x="838" y="58"/>
                    </a:lnTo>
                    <a:lnTo>
                      <a:pt x="863" y="70"/>
                    </a:lnTo>
                    <a:lnTo>
                      <a:pt x="887" y="84"/>
                    </a:lnTo>
                    <a:lnTo>
                      <a:pt x="911" y="100"/>
                    </a:lnTo>
                    <a:lnTo>
                      <a:pt x="934" y="117"/>
                    </a:lnTo>
                    <a:lnTo>
                      <a:pt x="955" y="133"/>
                    </a:lnTo>
                    <a:lnTo>
                      <a:pt x="977" y="151"/>
                    </a:lnTo>
                    <a:lnTo>
                      <a:pt x="997" y="170"/>
                    </a:lnTo>
                    <a:lnTo>
                      <a:pt x="1016" y="191"/>
                    </a:lnTo>
                    <a:lnTo>
                      <a:pt x="1034" y="212"/>
                    </a:lnTo>
                    <a:lnTo>
                      <a:pt x="1052" y="234"/>
                    </a:lnTo>
                    <a:lnTo>
                      <a:pt x="1068" y="257"/>
                    </a:lnTo>
                    <a:lnTo>
                      <a:pt x="1084" y="281"/>
                    </a:lnTo>
                    <a:lnTo>
                      <a:pt x="1098" y="306"/>
                    </a:lnTo>
                    <a:lnTo>
                      <a:pt x="1110" y="331"/>
                    </a:lnTo>
                    <a:lnTo>
                      <a:pt x="1122" y="356"/>
                    </a:lnTo>
                    <a:lnTo>
                      <a:pt x="1133" y="383"/>
                    </a:lnTo>
                    <a:lnTo>
                      <a:pt x="1142" y="410"/>
                    </a:lnTo>
                    <a:lnTo>
                      <a:pt x="1150" y="438"/>
                    </a:lnTo>
                    <a:lnTo>
                      <a:pt x="1157" y="466"/>
                    </a:lnTo>
                    <a:lnTo>
                      <a:pt x="1162" y="494"/>
                    </a:lnTo>
                    <a:lnTo>
                      <a:pt x="1165" y="524"/>
                    </a:lnTo>
                    <a:lnTo>
                      <a:pt x="1168" y="553"/>
                    </a:lnTo>
                    <a:lnTo>
                      <a:pt x="1169" y="583"/>
                    </a:lnTo>
                    <a:lnTo>
                      <a:pt x="1168" y="613"/>
                    </a:lnTo>
                    <a:lnTo>
                      <a:pt x="1165" y="643"/>
                    </a:lnTo>
                    <a:lnTo>
                      <a:pt x="1162" y="672"/>
                    </a:lnTo>
                    <a:lnTo>
                      <a:pt x="1157" y="701"/>
                    </a:lnTo>
                    <a:lnTo>
                      <a:pt x="1150" y="730"/>
                    </a:lnTo>
                    <a:lnTo>
                      <a:pt x="1142" y="757"/>
                    </a:lnTo>
                    <a:lnTo>
                      <a:pt x="1133" y="784"/>
                    </a:lnTo>
                    <a:lnTo>
                      <a:pt x="1122" y="810"/>
                    </a:lnTo>
                    <a:lnTo>
                      <a:pt x="1110" y="836"/>
                    </a:lnTo>
                    <a:lnTo>
                      <a:pt x="1098" y="862"/>
                    </a:lnTo>
                    <a:lnTo>
                      <a:pt x="1084" y="885"/>
                    </a:lnTo>
                    <a:lnTo>
                      <a:pt x="1068" y="909"/>
                    </a:lnTo>
                    <a:lnTo>
                      <a:pt x="1052" y="932"/>
                    </a:lnTo>
                    <a:lnTo>
                      <a:pt x="1034" y="955"/>
                    </a:lnTo>
                    <a:lnTo>
                      <a:pt x="1016" y="975"/>
                    </a:lnTo>
                    <a:lnTo>
                      <a:pt x="997" y="996"/>
                    </a:lnTo>
                    <a:lnTo>
                      <a:pt x="977" y="1015"/>
                    </a:lnTo>
                    <a:lnTo>
                      <a:pt x="955" y="1034"/>
                    </a:lnTo>
                    <a:lnTo>
                      <a:pt x="934" y="1051"/>
                    </a:lnTo>
                    <a:lnTo>
                      <a:pt x="911" y="1068"/>
                    </a:lnTo>
                    <a:lnTo>
                      <a:pt x="887" y="1082"/>
                    </a:lnTo>
                    <a:lnTo>
                      <a:pt x="863" y="1097"/>
                    </a:lnTo>
                    <a:lnTo>
                      <a:pt x="838" y="1110"/>
                    </a:lnTo>
                    <a:lnTo>
                      <a:pt x="811" y="1122"/>
                    </a:lnTo>
                    <a:lnTo>
                      <a:pt x="785" y="1131"/>
                    </a:lnTo>
                    <a:lnTo>
                      <a:pt x="757" y="1141"/>
                    </a:lnTo>
                    <a:lnTo>
                      <a:pt x="730" y="1149"/>
                    </a:lnTo>
                    <a:lnTo>
                      <a:pt x="702" y="1155"/>
                    </a:lnTo>
                    <a:lnTo>
                      <a:pt x="673" y="1160"/>
                    </a:lnTo>
                    <a:lnTo>
                      <a:pt x="644" y="1164"/>
                    </a:lnTo>
                    <a:lnTo>
                      <a:pt x="614" y="1166"/>
                    </a:lnTo>
                    <a:lnTo>
                      <a:pt x="584" y="1167"/>
                    </a:lnTo>
                    <a:lnTo>
                      <a:pt x="554" y="1166"/>
                    </a:lnTo>
                    <a:lnTo>
                      <a:pt x="524" y="1164"/>
                    </a:lnTo>
                    <a:lnTo>
                      <a:pt x="496" y="1160"/>
                    </a:lnTo>
                    <a:lnTo>
                      <a:pt x="467" y="1155"/>
                    </a:lnTo>
                    <a:lnTo>
                      <a:pt x="439" y="1149"/>
                    </a:lnTo>
                    <a:lnTo>
                      <a:pt x="410" y="1141"/>
                    </a:lnTo>
                    <a:lnTo>
                      <a:pt x="384" y="1131"/>
                    </a:lnTo>
                    <a:lnTo>
                      <a:pt x="358" y="1122"/>
                    </a:lnTo>
                    <a:lnTo>
                      <a:pt x="331" y="1110"/>
                    </a:lnTo>
                    <a:lnTo>
                      <a:pt x="306" y="1097"/>
                    </a:lnTo>
                    <a:lnTo>
                      <a:pt x="282" y="1082"/>
                    </a:lnTo>
                    <a:lnTo>
                      <a:pt x="258" y="1068"/>
                    </a:lnTo>
                    <a:lnTo>
                      <a:pt x="235" y="1051"/>
                    </a:lnTo>
                    <a:lnTo>
                      <a:pt x="214" y="1034"/>
                    </a:lnTo>
                    <a:lnTo>
                      <a:pt x="192" y="1015"/>
                    </a:lnTo>
                    <a:lnTo>
                      <a:pt x="172" y="996"/>
                    </a:lnTo>
                    <a:lnTo>
                      <a:pt x="152" y="975"/>
                    </a:lnTo>
                    <a:lnTo>
                      <a:pt x="134" y="955"/>
                    </a:lnTo>
                    <a:lnTo>
                      <a:pt x="116" y="932"/>
                    </a:lnTo>
                    <a:lnTo>
                      <a:pt x="101" y="909"/>
                    </a:lnTo>
                    <a:lnTo>
                      <a:pt x="85" y="885"/>
                    </a:lnTo>
                    <a:lnTo>
                      <a:pt x="71" y="862"/>
                    </a:lnTo>
                    <a:lnTo>
                      <a:pt x="58" y="836"/>
                    </a:lnTo>
                    <a:lnTo>
                      <a:pt x="47" y="810"/>
                    </a:lnTo>
                    <a:lnTo>
                      <a:pt x="36" y="784"/>
                    </a:lnTo>
                    <a:lnTo>
                      <a:pt x="26" y="757"/>
                    </a:lnTo>
                    <a:lnTo>
                      <a:pt x="19" y="730"/>
                    </a:lnTo>
                    <a:lnTo>
                      <a:pt x="12" y="701"/>
                    </a:lnTo>
                    <a:lnTo>
                      <a:pt x="7" y="672"/>
                    </a:lnTo>
                    <a:lnTo>
                      <a:pt x="4" y="643"/>
                    </a:lnTo>
                    <a:lnTo>
                      <a:pt x="1" y="613"/>
                    </a:lnTo>
                    <a:lnTo>
                      <a:pt x="0" y="583"/>
                    </a:lnTo>
                    <a:lnTo>
                      <a:pt x="1" y="553"/>
                    </a:lnTo>
                    <a:lnTo>
                      <a:pt x="4" y="524"/>
                    </a:lnTo>
                    <a:lnTo>
                      <a:pt x="7" y="494"/>
                    </a:lnTo>
                    <a:lnTo>
                      <a:pt x="12" y="466"/>
                    </a:lnTo>
                    <a:lnTo>
                      <a:pt x="19" y="438"/>
                    </a:lnTo>
                    <a:lnTo>
                      <a:pt x="26" y="410"/>
                    </a:lnTo>
                    <a:lnTo>
                      <a:pt x="36" y="383"/>
                    </a:lnTo>
                    <a:lnTo>
                      <a:pt x="47" y="356"/>
                    </a:lnTo>
                    <a:lnTo>
                      <a:pt x="58" y="331"/>
                    </a:lnTo>
                    <a:lnTo>
                      <a:pt x="71" y="306"/>
                    </a:lnTo>
                    <a:lnTo>
                      <a:pt x="85" y="281"/>
                    </a:lnTo>
                    <a:lnTo>
                      <a:pt x="101" y="257"/>
                    </a:lnTo>
                    <a:lnTo>
                      <a:pt x="116" y="234"/>
                    </a:lnTo>
                    <a:lnTo>
                      <a:pt x="134" y="212"/>
                    </a:lnTo>
                    <a:lnTo>
                      <a:pt x="152" y="191"/>
                    </a:lnTo>
                    <a:lnTo>
                      <a:pt x="172" y="170"/>
                    </a:lnTo>
                    <a:lnTo>
                      <a:pt x="192" y="151"/>
                    </a:lnTo>
                    <a:lnTo>
                      <a:pt x="214" y="133"/>
                    </a:lnTo>
                    <a:lnTo>
                      <a:pt x="235" y="117"/>
                    </a:lnTo>
                    <a:lnTo>
                      <a:pt x="258" y="100"/>
                    </a:lnTo>
                    <a:lnTo>
                      <a:pt x="282" y="84"/>
                    </a:lnTo>
                    <a:lnTo>
                      <a:pt x="306" y="70"/>
                    </a:lnTo>
                    <a:lnTo>
                      <a:pt x="331" y="58"/>
                    </a:lnTo>
                    <a:lnTo>
                      <a:pt x="358" y="46"/>
                    </a:lnTo>
                    <a:lnTo>
                      <a:pt x="384" y="35"/>
                    </a:lnTo>
                    <a:lnTo>
                      <a:pt x="410" y="27"/>
                    </a:lnTo>
                    <a:lnTo>
                      <a:pt x="439" y="18"/>
                    </a:lnTo>
                    <a:lnTo>
                      <a:pt x="467" y="12"/>
                    </a:lnTo>
                    <a:lnTo>
                      <a:pt x="496" y="6"/>
                    </a:lnTo>
                    <a:lnTo>
                      <a:pt x="524" y="3"/>
                    </a:lnTo>
                    <a:lnTo>
                      <a:pt x="554" y="0"/>
                    </a:lnTo>
                    <a:lnTo>
                      <a:pt x="584" y="0"/>
                    </a:lnTo>
                    <a:close/>
                  </a:path>
                </a:pathLst>
              </a:custGeom>
              <a:solidFill>
                <a:srgbClr val="d48e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117520" y="2911320"/>
                <a:ext cx="459000" cy="459000"/>
              </a:xfrm>
              <a:custGeom>
                <a:avLst/>
                <a:gdLst/>
                <a:ahLst/>
                <a:rect l="l" t="t" r="r" b="b"/>
                <a:pathLst>
                  <a:path w="1157" h="1156">
                    <a:moveTo>
                      <a:pt x="578" y="0"/>
                    </a:moveTo>
                    <a:lnTo>
                      <a:pt x="608" y="1"/>
                    </a:lnTo>
                    <a:lnTo>
                      <a:pt x="637" y="3"/>
                    </a:lnTo>
                    <a:lnTo>
                      <a:pt x="666" y="7"/>
                    </a:lnTo>
                    <a:lnTo>
                      <a:pt x="695" y="12"/>
                    </a:lnTo>
                    <a:lnTo>
                      <a:pt x="722" y="19"/>
                    </a:lnTo>
                    <a:lnTo>
                      <a:pt x="750" y="26"/>
                    </a:lnTo>
                    <a:lnTo>
                      <a:pt x="776" y="36"/>
                    </a:lnTo>
                    <a:lnTo>
                      <a:pt x="803" y="45"/>
                    </a:lnTo>
                    <a:lnTo>
                      <a:pt x="829" y="57"/>
                    </a:lnTo>
                    <a:lnTo>
                      <a:pt x="853" y="70"/>
                    </a:lnTo>
                    <a:lnTo>
                      <a:pt x="878" y="84"/>
                    </a:lnTo>
                    <a:lnTo>
                      <a:pt x="901" y="99"/>
                    </a:lnTo>
                    <a:lnTo>
                      <a:pt x="924" y="115"/>
                    </a:lnTo>
                    <a:lnTo>
                      <a:pt x="946" y="133"/>
                    </a:lnTo>
                    <a:lnTo>
                      <a:pt x="967" y="151"/>
                    </a:lnTo>
                    <a:lnTo>
                      <a:pt x="986" y="170"/>
                    </a:lnTo>
                    <a:lnTo>
                      <a:pt x="1006" y="190"/>
                    </a:lnTo>
                    <a:lnTo>
                      <a:pt x="1025" y="211"/>
                    </a:lnTo>
                    <a:lnTo>
                      <a:pt x="1042" y="232"/>
                    </a:lnTo>
                    <a:lnTo>
                      <a:pt x="1057" y="255"/>
                    </a:lnTo>
                    <a:lnTo>
                      <a:pt x="1073" y="279"/>
                    </a:lnTo>
                    <a:lnTo>
                      <a:pt x="1087" y="303"/>
                    </a:lnTo>
                    <a:lnTo>
                      <a:pt x="1099" y="328"/>
                    </a:lnTo>
                    <a:lnTo>
                      <a:pt x="1111" y="353"/>
                    </a:lnTo>
                    <a:lnTo>
                      <a:pt x="1122" y="380"/>
                    </a:lnTo>
                    <a:lnTo>
                      <a:pt x="1130" y="406"/>
                    </a:lnTo>
                    <a:lnTo>
                      <a:pt x="1139" y="434"/>
                    </a:lnTo>
                    <a:lnTo>
                      <a:pt x="1145" y="461"/>
                    </a:lnTo>
                    <a:lnTo>
                      <a:pt x="1150" y="490"/>
                    </a:lnTo>
                    <a:lnTo>
                      <a:pt x="1153" y="519"/>
                    </a:lnTo>
                    <a:lnTo>
                      <a:pt x="1156" y="549"/>
                    </a:lnTo>
                    <a:lnTo>
                      <a:pt x="1157" y="578"/>
                    </a:lnTo>
                    <a:lnTo>
                      <a:pt x="1156" y="608"/>
                    </a:lnTo>
                    <a:lnTo>
                      <a:pt x="1153" y="638"/>
                    </a:lnTo>
                    <a:lnTo>
                      <a:pt x="1150" y="667"/>
                    </a:lnTo>
                    <a:lnTo>
                      <a:pt x="1145" y="694"/>
                    </a:lnTo>
                    <a:lnTo>
                      <a:pt x="1139" y="723"/>
                    </a:lnTo>
                    <a:lnTo>
                      <a:pt x="1130" y="749"/>
                    </a:lnTo>
                    <a:lnTo>
                      <a:pt x="1122" y="777"/>
                    </a:lnTo>
                    <a:lnTo>
                      <a:pt x="1111" y="803"/>
                    </a:lnTo>
                    <a:lnTo>
                      <a:pt x="1099" y="829"/>
                    </a:lnTo>
                    <a:lnTo>
                      <a:pt x="1087" y="854"/>
                    </a:lnTo>
                    <a:lnTo>
                      <a:pt x="1073" y="878"/>
                    </a:lnTo>
                    <a:lnTo>
                      <a:pt x="1057" y="902"/>
                    </a:lnTo>
                    <a:lnTo>
                      <a:pt x="1042" y="923"/>
                    </a:lnTo>
                    <a:lnTo>
                      <a:pt x="1025" y="946"/>
                    </a:lnTo>
                    <a:lnTo>
                      <a:pt x="1006" y="966"/>
                    </a:lnTo>
                    <a:lnTo>
                      <a:pt x="986" y="987"/>
                    </a:lnTo>
                    <a:lnTo>
                      <a:pt x="967" y="1006"/>
                    </a:lnTo>
                    <a:lnTo>
                      <a:pt x="946" y="1024"/>
                    </a:lnTo>
                    <a:lnTo>
                      <a:pt x="924" y="1041"/>
                    </a:lnTo>
                    <a:lnTo>
                      <a:pt x="901" y="1058"/>
                    </a:lnTo>
                    <a:lnTo>
                      <a:pt x="878" y="1072"/>
                    </a:lnTo>
                    <a:lnTo>
                      <a:pt x="853" y="1086"/>
                    </a:lnTo>
                    <a:lnTo>
                      <a:pt x="829" y="1100"/>
                    </a:lnTo>
                    <a:lnTo>
                      <a:pt x="803" y="1110"/>
                    </a:lnTo>
                    <a:lnTo>
                      <a:pt x="776" y="1121"/>
                    </a:lnTo>
                    <a:lnTo>
                      <a:pt x="750" y="1131"/>
                    </a:lnTo>
                    <a:lnTo>
                      <a:pt x="722" y="1138"/>
                    </a:lnTo>
                    <a:lnTo>
                      <a:pt x="695" y="1145"/>
                    </a:lnTo>
                    <a:lnTo>
                      <a:pt x="666" y="1150"/>
                    </a:lnTo>
                    <a:lnTo>
                      <a:pt x="637" y="1154"/>
                    </a:lnTo>
                    <a:lnTo>
                      <a:pt x="608" y="1156"/>
                    </a:lnTo>
                    <a:lnTo>
                      <a:pt x="578" y="1156"/>
                    </a:lnTo>
                    <a:lnTo>
                      <a:pt x="548" y="1156"/>
                    </a:lnTo>
                    <a:lnTo>
                      <a:pt x="520" y="1154"/>
                    </a:lnTo>
                    <a:lnTo>
                      <a:pt x="491" y="1150"/>
                    </a:lnTo>
                    <a:lnTo>
                      <a:pt x="462" y="1145"/>
                    </a:lnTo>
                    <a:lnTo>
                      <a:pt x="434" y="1138"/>
                    </a:lnTo>
                    <a:lnTo>
                      <a:pt x="407" y="1131"/>
                    </a:lnTo>
                    <a:lnTo>
                      <a:pt x="379" y="1121"/>
                    </a:lnTo>
                    <a:lnTo>
                      <a:pt x="354" y="1110"/>
                    </a:lnTo>
                    <a:lnTo>
                      <a:pt x="328" y="1100"/>
                    </a:lnTo>
                    <a:lnTo>
                      <a:pt x="302" y="1086"/>
                    </a:lnTo>
                    <a:lnTo>
                      <a:pt x="278" y="1072"/>
                    </a:lnTo>
                    <a:lnTo>
                      <a:pt x="256" y="1058"/>
                    </a:lnTo>
                    <a:lnTo>
                      <a:pt x="233" y="1041"/>
                    </a:lnTo>
                    <a:lnTo>
                      <a:pt x="211" y="1024"/>
                    </a:lnTo>
                    <a:lnTo>
                      <a:pt x="190" y="1006"/>
                    </a:lnTo>
                    <a:lnTo>
                      <a:pt x="169" y="987"/>
                    </a:lnTo>
                    <a:lnTo>
                      <a:pt x="150" y="966"/>
                    </a:lnTo>
                    <a:lnTo>
                      <a:pt x="132" y="946"/>
                    </a:lnTo>
                    <a:lnTo>
                      <a:pt x="115" y="923"/>
                    </a:lnTo>
                    <a:lnTo>
                      <a:pt x="98" y="902"/>
                    </a:lnTo>
                    <a:lnTo>
                      <a:pt x="84" y="878"/>
                    </a:lnTo>
                    <a:lnTo>
                      <a:pt x="70" y="854"/>
                    </a:lnTo>
                    <a:lnTo>
                      <a:pt x="58" y="829"/>
                    </a:lnTo>
                    <a:lnTo>
                      <a:pt x="46" y="803"/>
                    </a:lnTo>
                    <a:lnTo>
                      <a:pt x="35" y="777"/>
                    </a:lnTo>
                    <a:lnTo>
                      <a:pt x="26" y="749"/>
                    </a:lnTo>
                    <a:lnTo>
                      <a:pt x="18" y="723"/>
                    </a:lnTo>
                    <a:lnTo>
                      <a:pt x="12" y="694"/>
                    </a:lnTo>
                    <a:lnTo>
                      <a:pt x="6" y="667"/>
                    </a:lnTo>
                    <a:lnTo>
                      <a:pt x="2" y="638"/>
                    </a:lnTo>
                    <a:lnTo>
                      <a:pt x="1" y="608"/>
                    </a:lnTo>
                    <a:lnTo>
                      <a:pt x="0" y="578"/>
                    </a:lnTo>
                    <a:lnTo>
                      <a:pt x="1" y="549"/>
                    </a:lnTo>
                    <a:lnTo>
                      <a:pt x="2" y="519"/>
                    </a:lnTo>
                    <a:lnTo>
                      <a:pt x="6" y="490"/>
                    </a:lnTo>
                    <a:lnTo>
                      <a:pt x="12" y="461"/>
                    </a:lnTo>
                    <a:lnTo>
                      <a:pt x="18" y="434"/>
                    </a:lnTo>
                    <a:lnTo>
                      <a:pt x="26" y="406"/>
                    </a:lnTo>
                    <a:lnTo>
                      <a:pt x="35" y="380"/>
                    </a:lnTo>
                    <a:lnTo>
                      <a:pt x="46" y="353"/>
                    </a:lnTo>
                    <a:lnTo>
                      <a:pt x="58" y="328"/>
                    </a:lnTo>
                    <a:lnTo>
                      <a:pt x="70" y="303"/>
                    </a:lnTo>
                    <a:lnTo>
                      <a:pt x="84" y="279"/>
                    </a:lnTo>
                    <a:lnTo>
                      <a:pt x="98" y="255"/>
                    </a:lnTo>
                    <a:lnTo>
                      <a:pt x="115" y="232"/>
                    </a:lnTo>
                    <a:lnTo>
                      <a:pt x="132" y="211"/>
                    </a:lnTo>
                    <a:lnTo>
                      <a:pt x="150" y="190"/>
                    </a:lnTo>
                    <a:lnTo>
                      <a:pt x="169" y="170"/>
                    </a:lnTo>
                    <a:lnTo>
                      <a:pt x="190" y="151"/>
                    </a:lnTo>
                    <a:lnTo>
                      <a:pt x="211" y="133"/>
                    </a:lnTo>
                    <a:lnTo>
                      <a:pt x="233" y="115"/>
                    </a:lnTo>
                    <a:lnTo>
                      <a:pt x="256" y="99"/>
                    </a:lnTo>
                    <a:lnTo>
                      <a:pt x="278" y="84"/>
                    </a:lnTo>
                    <a:lnTo>
                      <a:pt x="302" y="70"/>
                    </a:lnTo>
                    <a:lnTo>
                      <a:pt x="328" y="57"/>
                    </a:lnTo>
                    <a:lnTo>
                      <a:pt x="354" y="45"/>
                    </a:lnTo>
                    <a:lnTo>
                      <a:pt x="379" y="36"/>
                    </a:lnTo>
                    <a:lnTo>
                      <a:pt x="407" y="26"/>
                    </a:lnTo>
                    <a:lnTo>
                      <a:pt x="434" y="19"/>
                    </a:lnTo>
                    <a:lnTo>
                      <a:pt x="462" y="12"/>
                    </a:lnTo>
                    <a:lnTo>
                      <a:pt x="491" y="7"/>
                    </a:lnTo>
                    <a:lnTo>
                      <a:pt x="520" y="3"/>
                    </a:lnTo>
                    <a:lnTo>
                      <a:pt x="548" y="1"/>
                    </a:lnTo>
                    <a:lnTo>
                      <a:pt x="578" y="0"/>
                    </a:lnTo>
                    <a:close/>
                  </a:path>
                </a:pathLst>
              </a:custGeom>
              <a:solidFill>
                <a:srgbClr val="d990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120760" y="2916360"/>
                <a:ext cx="453960" cy="453960"/>
              </a:xfrm>
              <a:custGeom>
                <a:avLst/>
                <a:gdLst/>
                <a:ahLst/>
                <a:rect l="l" t="t" r="r" b="b"/>
                <a:pathLst>
                  <a:path w="1145" h="1146">
                    <a:moveTo>
                      <a:pt x="572" y="0"/>
                    </a:moveTo>
                    <a:lnTo>
                      <a:pt x="601" y="1"/>
                    </a:lnTo>
                    <a:lnTo>
                      <a:pt x="631" y="4"/>
                    </a:lnTo>
                    <a:lnTo>
                      <a:pt x="659" y="7"/>
                    </a:lnTo>
                    <a:lnTo>
                      <a:pt x="688" y="12"/>
                    </a:lnTo>
                    <a:lnTo>
                      <a:pt x="715" y="18"/>
                    </a:lnTo>
                    <a:lnTo>
                      <a:pt x="743" y="27"/>
                    </a:lnTo>
                    <a:lnTo>
                      <a:pt x="769" y="35"/>
                    </a:lnTo>
                    <a:lnTo>
                      <a:pt x="794" y="46"/>
                    </a:lnTo>
                    <a:lnTo>
                      <a:pt x="821" y="57"/>
                    </a:lnTo>
                    <a:lnTo>
                      <a:pt x="845" y="70"/>
                    </a:lnTo>
                    <a:lnTo>
                      <a:pt x="869" y="83"/>
                    </a:lnTo>
                    <a:lnTo>
                      <a:pt x="892" y="99"/>
                    </a:lnTo>
                    <a:lnTo>
                      <a:pt x="914" y="114"/>
                    </a:lnTo>
                    <a:lnTo>
                      <a:pt x="936" y="131"/>
                    </a:lnTo>
                    <a:lnTo>
                      <a:pt x="958" y="149"/>
                    </a:lnTo>
                    <a:lnTo>
                      <a:pt x="977" y="168"/>
                    </a:lnTo>
                    <a:lnTo>
                      <a:pt x="996" y="188"/>
                    </a:lnTo>
                    <a:lnTo>
                      <a:pt x="1014" y="209"/>
                    </a:lnTo>
                    <a:lnTo>
                      <a:pt x="1031" y="230"/>
                    </a:lnTo>
                    <a:lnTo>
                      <a:pt x="1048" y="253"/>
                    </a:lnTo>
                    <a:lnTo>
                      <a:pt x="1062" y="276"/>
                    </a:lnTo>
                    <a:lnTo>
                      <a:pt x="1075" y="300"/>
                    </a:lnTo>
                    <a:lnTo>
                      <a:pt x="1088" y="325"/>
                    </a:lnTo>
                    <a:lnTo>
                      <a:pt x="1100" y="350"/>
                    </a:lnTo>
                    <a:lnTo>
                      <a:pt x="1110" y="377"/>
                    </a:lnTo>
                    <a:lnTo>
                      <a:pt x="1120" y="403"/>
                    </a:lnTo>
                    <a:lnTo>
                      <a:pt x="1127" y="430"/>
                    </a:lnTo>
                    <a:lnTo>
                      <a:pt x="1134" y="458"/>
                    </a:lnTo>
                    <a:lnTo>
                      <a:pt x="1139" y="486"/>
                    </a:lnTo>
                    <a:lnTo>
                      <a:pt x="1142" y="515"/>
                    </a:lnTo>
                    <a:lnTo>
                      <a:pt x="1145" y="544"/>
                    </a:lnTo>
                    <a:lnTo>
                      <a:pt x="1145" y="574"/>
                    </a:lnTo>
                    <a:lnTo>
                      <a:pt x="1145" y="602"/>
                    </a:lnTo>
                    <a:lnTo>
                      <a:pt x="1142" y="631"/>
                    </a:lnTo>
                    <a:lnTo>
                      <a:pt x="1139" y="660"/>
                    </a:lnTo>
                    <a:lnTo>
                      <a:pt x="1134" y="689"/>
                    </a:lnTo>
                    <a:lnTo>
                      <a:pt x="1127" y="716"/>
                    </a:lnTo>
                    <a:lnTo>
                      <a:pt x="1120" y="743"/>
                    </a:lnTo>
                    <a:lnTo>
                      <a:pt x="1110" y="769"/>
                    </a:lnTo>
                    <a:lnTo>
                      <a:pt x="1100" y="796"/>
                    </a:lnTo>
                    <a:lnTo>
                      <a:pt x="1088" y="821"/>
                    </a:lnTo>
                    <a:lnTo>
                      <a:pt x="1075" y="846"/>
                    </a:lnTo>
                    <a:lnTo>
                      <a:pt x="1062" y="870"/>
                    </a:lnTo>
                    <a:lnTo>
                      <a:pt x="1048" y="893"/>
                    </a:lnTo>
                    <a:lnTo>
                      <a:pt x="1031" y="915"/>
                    </a:lnTo>
                    <a:lnTo>
                      <a:pt x="1014" y="937"/>
                    </a:lnTo>
                    <a:lnTo>
                      <a:pt x="996" y="957"/>
                    </a:lnTo>
                    <a:lnTo>
                      <a:pt x="977" y="978"/>
                    </a:lnTo>
                    <a:lnTo>
                      <a:pt x="958" y="997"/>
                    </a:lnTo>
                    <a:lnTo>
                      <a:pt x="936" y="1015"/>
                    </a:lnTo>
                    <a:lnTo>
                      <a:pt x="914" y="1032"/>
                    </a:lnTo>
                    <a:lnTo>
                      <a:pt x="892" y="1047"/>
                    </a:lnTo>
                    <a:lnTo>
                      <a:pt x="869" y="1063"/>
                    </a:lnTo>
                    <a:lnTo>
                      <a:pt x="845" y="1076"/>
                    </a:lnTo>
                    <a:lnTo>
                      <a:pt x="821" y="1089"/>
                    </a:lnTo>
                    <a:lnTo>
                      <a:pt x="794" y="1100"/>
                    </a:lnTo>
                    <a:lnTo>
                      <a:pt x="769" y="1111"/>
                    </a:lnTo>
                    <a:lnTo>
                      <a:pt x="743" y="1119"/>
                    </a:lnTo>
                    <a:lnTo>
                      <a:pt x="715" y="1128"/>
                    </a:lnTo>
                    <a:lnTo>
                      <a:pt x="688" y="1134"/>
                    </a:lnTo>
                    <a:lnTo>
                      <a:pt x="659" y="1139"/>
                    </a:lnTo>
                    <a:lnTo>
                      <a:pt x="631" y="1142"/>
                    </a:lnTo>
                    <a:lnTo>
                      <a:pt x="601" y="1145"/>
                    </a:lnTo>
                    <a:lnTo>
                      <a:pt x="572" y="1146"/>
                    </a:lnTo>
                    <a:lnTo>
                      <a:pt x="542" y="1145"/>
                    </a:lnTo>
                    <a:lnTo>
                      <a:pt x="514" y="1142"/>
                    </a:lnTo>
                    <a:lnTo>
                      <a:pt x="485" y="1139"/>
                    </a:lnTo>
                    <a:lnTo>
                      <a:pt x="457" y="1134"/>
                    </a:lnTo>
                    <a:lnTo>
                      <a:pt x="430" y="1128"/>
                    </a:lnTo>
                    <a:lnTo>
                      <a:pt x="402" y="1119"/>
                    </a:lnTo>
                    <a:lnTo>
                      <a:pt x="376" y="1111"/>
                    </a:lnTo>
                    <a:lnTo>
                      <a:pt x="349" y="1100"/>
                    </a:lnTo>
                    <a:lnTo>
                      <a:pt x="324" y="1089"/>
                    </a:lnTo>
                    <a:lnTo>
                      <a:pt x="300" y="1076"/>
                    </a:lnTo>
                    <a:lnTo>
                      <a:pt x="276" y="1063"/>
                    </a:lnTo>
                    <a:lnTo>
                      <a:pt x="252" y="1047"/>
                    </a:lnTo>
                    <a:lnTo>
                      <a:pt x="230" y="1032"/>
                    </a:lnTo>
                    <a:lnTo>
                      <a:pt x="209" y="1015"/>
                    </a:lnTo>
                    <a:lnTo>
                      <a:pt x="187" y="997"/>
                    </a:lnTo>
                    <a:lnTo>
                      <a:pt x="168" y="978"/>
                    </a:lnTo>
                    <a:lnTo>
                      <a:pt x="149" y="957"/>
                    </a:lnTo>
                    <a:lnTo>
                      <a:pt x="131" y="937"/>
                    </a:lnTo>
                    <a:lnTo>
                      <a:pt x="114" y="915"/>
                    </a:lnTo>
                    <a:lnTo>
                      <a:pt x="97" y="893"/>
                    </a:lnTo>
                    <a:lnTo>
                      <a:pt x="83" y="870"/>
                    </a:lnTo>
                    <a:lnTo>
                      <a:pt x="68" y="846"/>
                    </a:lnTo>
                    <a:lnTo>
                      <a:pt x="56" y="821"/>
                    </a:lnTo>
                    <a:lnTo>
                      <a:pt x="44" y="796"/>
                    </a:lnTo>
                    <a:lnTo>
                      <a:pt x="35" y="769"/>
                    </a:lnTo>
                    <a:lnTo>
                      <a:pt x="25" y="743"/>
                    </a:lnTo>
                    <a:lnTo>
                      <a:pt x="18" y="716"/>
                    </a:lnTo>
                    <a:lnTo>
                      <a:pt x="11" y="689"/>
                    </a:lnTo>
                    <a:lnTo>
                      <a:pt x="6" y="660"/>
                    </a:lnTo>
                    <a:lnTo>
                      <a:pt x="2" y="631"/>
                    </a:lnTo>
                    <a:lnTo>
                      <a:pt x="0" y="602"/>
                    </a:lnTo>
                    <a:lnTo>
                      <a:pt x="0" y="574"/>
                    </a:lnTo>
                    <a:lnTo>
                      <a:pt x="0" y="544"/>
                    </a:lnTo>
                    <a:lnTo>
                      <a:pt x="2" y="515"/>
                    </a:lnTo>
                    <a:lnTo>
                      <a:pt x="6" y="486"/>
                    </a:lnTo>
                    <a:lnTo>
                      <a:pt x="11" y="458"/>
                    </a:lnTo>
                    <a:lnTo>
                      <a:pt x="18" y="430"/>
                    </a:lnTo>
                    <a:lnTo>
                      <a:pt x="25" y="403"/>
                    </a:lnTo>
                    <a:lnTo>
                      <a:pt x="35" y="377"/>
                    </a:lnTo>
                    <a:lnTo>
                      <a:pt x="44" y="350"/>
                    </a:lnTo>
                    <a:lnTo>
                      <a:pt x="56" y="325"/>
                    </a:lnTo>
                    <a:lnTo>
                      <a:pt x="68" y="300"/>
                    </a:lnTo>
                    <a:lnTo>
                      <a:pt x="83" y="276"/>
                    </a:lnTo>
                    <a:lnTo>
                      <a:pt x="97" y="253"/>
                    </a:lnTo>
                    <a:lnTo>
                      <a:pt x="114" y="230"/>
                    </a:lnTo>
                    <a:lnTo>
                      <a:pt x="131" y="209"/>
                    </a:lnTo>
                    <a:lnTo>
                      <a:pt x="149" y="188"/>
                    </a:lnTo>
                    <a:lnTo>
                      <a:pt x="168" y="168"/>
                    </a:lnTo>
                    <a:lnTo>
                      <a:pt x="187" y="149"/>
                    </a:lnTo>
                    <a:lnTo>
                      <a:pt x="209" y="131"/>
                    </a:lnTo>
                    <a:lnTo>
                      <a:pt x="230" y="114"/>
                    </a:lnTo>
                    <a:lnTo>
                      <a:pt x="252" y="99"/>
                    </a:lnTo>
                    <a:lnTo>
                      <a:pt x="276" y="83"/>
                    </a:lnTo>
                    <a:lnTo>
                      <a:pt x="300" y="70"/>
                    </a:lnTo>
                    <a:lnTo>
                      <a:pt x="324" y="57"/>
                    </a:lnTo>
                    <a:lnTo>
                      <a:pt x="349" y="46"/>
                    </a:lnTo>
                    <a:lnTo>
                      <a:pt x="376" y="35"/>
                    </a:lnTo>
                    <a:lnTo>
                      <a:pt x="402" y="27"/>
                    </a:lnTo>
                    <a:lnTo>
                      <a:pt x="430" y="18"/>
                    </a:lnTo>
                    <a:lnTo>
                      <a:pt x="457" y="12"/>
                    </a:lnTo>
                    <a:lnTo>
                      <a:pt x="485" y="7"/>
                    </a:lnTo>
                    <a:lnTo>
                      <a:pt x="514" y="4"/>
                    </a:lnTo>
                    <a:lnTo>
                      <a:pt x="542" y="1"/>
                    </a:lnTo>
                    <a:lnTo>
                      <a:pt x="572" y="0"/>
                    </a:lnTo>
                    <a:close/>
                  </a:path>
                </a:pathLst>
              </a:custGeom>
              <a:solidFill>
                <a:srgbClr val="df9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122560" y="2919240"/>
                <a:ext cx="450720" cy="449280"/>
              </a:xfrm>
              <a:custGeom>
                <a:avLst/>
                <a:gdLst/>
                <a:ahLst/>
                <a:rect l="l" t="t" r="r" b="b"/>
                <a:pathLst>
                  <a:path w="1135" h="1133">
                    <a:moveTo>
                      <a:pt x="567" y="0"/>
                    </a:moveTo>
                    <a:lnTo>
                      <a:pt x="596" y="1"/>
                    </a:lnTo>
                    <a:lnTo>
                      <a:pt x="625" y="2"/>
                    </a:lnTo>
                    <a:lnTo>
                      <a:pt x="654" y="6"/>
                    </a:lnTo>
                    <a:lnTo>
                      <a:pt x="681" y="12"/>
                    </a:lnTo>
                    <a:lnTo>
                      <a:pt x="709" y="18"/>
                    </a:lnTo>
                    <a:lnTo>
                      <a:pt x="735" y="25"/>
                    </a:lnTo>
                    <a:lnTo>
                      <a:pt x="762" y="35"/>
                    </a:lnTo>
                    <a:lnTo>
                      <a:pt x="788" y="44"/>
                    </a:lnTo>
                    <a:lnTo>
                      <a:pt x="813" y="56"/>
                    </a:lnTo>
                    <a:lnTo>
                      <a:pt x="837" y="68"/>
                    </a:lnTo>
                    <a:lnTo>
                      <a:pt x="861" y="83"/>
                    </a:lnTo>
                    <a:lnTo>
                      <a:pt x="884" y="97"/>
                    </a:lnTo>
                    <a:lnTo>
                      <a:pt x="906" y="112"/>
                    </a:lnTo>
                    <a:lnTo>
                      <a:pt x="927" y="129"/>
                    </a:lnTo>
                    <a:lnTo>
                      <a:pt x="948" y="147"/>
                    </a:lnTo>
                    <a:lnTo>
                      <a:pt x="968" y="166"/>
                    </a:lnTo>
                    <a:lnTo>
                      <a:pt x="987" y="186"/>
                    </a:lnTo>
                    <a:lnTo>
                      <a:pt x="1004" y="206"/>
                    </a:lnTo>
                    <a:lnTo>
                      <a:pt x="1021" y="228"/>
                    </a:lnTo>
                    <a:lnTo>
                      <a:pt x="1038" y="250"/>
                    </a:lnTo>
                    <a:lnTo>
                      <a:pt x="1052" y="273"/>
                    </a:lnTo>
                    <a:lnTo>
                      <a:pt x="1065" y="297"/>
                    </a:lnTo>
                    <a:lnTo>
                      <a:pt x="1079" y="321"/>
                    </a:lnTo>
                    <a:lnTo>
                      <a:pt x="1089" y="346"/>
                    </a:lnTo>
                    <a:lnTo>
                      <a:pt x="1100" y="372"/>
                    </a:lnTo>
                    <a:lnTo>
                      <a:pt x="1109" y="398"/>
                    </a:lnTo>
                    <a:lnTo>
                      <a:pt x="1117" y="426"/>
                    </a:lnTo>
                    <a:lnTo>
                      <a:pt x="1123" y="453"/>
                    </a:lnTo>
                    <a:lnTo>
                      <a:pt x="1128" y="481"/>
                    </a:lnTo>
                    <a:lnTo>
                      <a:pt x="1131" y="508"/>
                    </a:lnTo>
                    <a:lnTo>
                      <a:pt x="1134" y="537"/>
                    </a:lnTo>
                    <a:lnTo>
                      <a:pt x="1135" y="567"/>
                    </a:lnTo>
                    <a:lnTo>
                      <a:pt x="1134" y="596"/>
                    </a:lnTo>
                    <a:lnTo>
                      <a:pt x="1131" y="625"/>
                    </a:lnTo>
                    <a:lnTo>
                      <a:pt x="1128" y="652"/>
                    </a:lnTo>
                    <a:lnTo>
                      <a:pt x="1123" y="681"/>
                    </a:lnTo>
                    <a:lnTo>
                      <a:pt x="1117" y="709"/>
                    </a:lnTo>
                    <a:lnTo>
                      <a:pt x="1109" y="735"/>
                    </a:lnTo>
                    <a:lnTo>
                      <a:pt x="1100" y="762"/>
                    </a:lnTo>
                    <a:lnTo>
                      <a:pt x="1089" y="787"/>
                    </a:lnTo>
                    <a:lnTo>
                      <a:pt x="1079" y="812"/>
                    </a:lnTo>
                    <a:lnTo>
                      <a:pt x="1065" y="837"/>
                    </a:lnTo>
                    <a:lnTo>
                      <a:pt x="1052" y="860"/>
                    </a:lnTo>
                    <a:lnTo>
                      <a:pt x="1038" y="884"/>
                    </a:lnTo>
                    <a:lnTo>
                      <a:pt x="1021" y="905"/>
                    </a:lnTo>
                    <a:lnTo>
                      <a:pt x="1004" y="927"/>
                    </a:lnTo>
                    <a:lnTo>
                      <a:pt x="987" y="947"/>
                    </a:lnTo>
                    <a:lnTo>
                      <a:pt x="968" y="968"/>
                    </a:lnTo>
                    <a:lnTo>
                      <a:pt x="948" y="986"/>
                    </a:lnTo>
                    <a:lnTo>
                      <a:pt x="927" y="1004"/>
                    </a:lnTo>
                    <a:lnTo>
                      <a:pt x="906" y="1021"/>
                    </a:lnTo>
                    <a:lnTo>
                      <a:pt x="884" y="1036"/>
                    </a:lnTo>
                    <a:lnTo>
                      <a:pt x="861" y="1052"/>
                    </a:lnTo>
                    <a:lnTo>
                      <a:pt x="837" y="1065"/>
                    </a:lnTo>
                    <a:lnTo>
                      <a:pt x="813" y="1078"/>
                    </a:lnTo>
                    <a:lnTo>
                      <a:pt x="788" y="1089"/>
                    </a:lnTo>
                    <a:lnTo>
                      <a:pt x="762" y="1100"/>
                    </a:lnTo>
                    <a:lnTo>
                      <a:pt x="735" y="1108"/>
                    </a:lnTo>
                    <a:lnTo>
                      <a:pt x="709" y="1115"/>
                    </a:lnTo>
                    <a:lnTo>
                      <a:pt x="681" y="1123"/>
                    </a:lnTo>
                    <a:lnTo>
                      <a:pt x="654" y="1127"/>
                    </a:lnTo>
                    <a:lnTo>
                      <a:pt x="625" y="1131"/>
                    </a:lnTo>
                    <a:lnTo>
                      <a:pt x="596" y="1133"/>
                    </a:lnTo>
                    <a:lnTo>
                      <a:pt x="567" y="1133"/>
                    </a:lnTo>
                    <a:lnTo>
                      <a:pt x="539" y="1133"/>
                    </a:lnTo>
                    <a:lnTo>
                      <a:pt x="510" y="1131"/>
                    </a:lnTo>
                    <a:lnTo>
                      <a:pt x="481" y="1127"/>
                    </a:lnTo>
                    <a:lnTo>
                      <a:pt x="453" y="1123"/>
                    </a:lnTo>
                    <a:lnTo>
                      <a:pt x="426" y="1115"/>
                    </a:lnTo>
                    <a:lnTo>
                      <a:pt x="399" y="1108"/>
                    </a:lnTo>
                    <a:lnTo>
                      <a:pt x="373" y="1100"/>
                    </a:lnTo>
                    <a:lnTo>
                      <a:pt x="347" y="1089"/>
                    </a:lnTo>
                    <a:lnTo>
                      <a:pt x="321" y="1078"/>
                    </a:lnTo>
                    <a:lnTo>
                      <a:pt x="297" y="1065"/>
                    </a:lnTo>
                    <a:lnTo>
                      <a:pt x="273" y="1052"/>
                    </a:lnTo>
                    <a:lnTo>
                      <a:pt x="251" y="1036"/>
                    </a:lnTo>
                    <a:lnTo>
                      <a:pt x="228" y="1021"/>
                    </a:lnTo>
                    <a:lnTo>
                      <a:pt x="206" y="1004"/>
                    </a:lnTo>
                    <a:lnTo>
                      <a:pt x="186" y="986"/>
                    </a:lnTo>
                    <a:lnTo>
                      <a:pt x="167" y="968"/>
                    </a:lnTo>
                    <a:lnTo>
                      <a:pt x="147" y="947"/>
                    </a:lnTo>
                    <a:lnTo>
                      <a:pt x="129" y="927"/>
                    </a:lnTo>
                    <a:lnTo>
                      <a:pt x="113" y="905"/>
                    </a:lnTo>
                    <a:lnTo>
                      <a:pt x="97" y="884"/>
                    </a:lnTo>
                    <a:lnTo>
                      <a:pt x="83" y="860"/>
                    </a:lnTo>
                    <a:lnTo>
                      <a:pt x="68" y="837"/>
                    </a:lnTo>
                    <a:lnTo>
                      <a:pt x="56" y="812"/>
                    </a:lnTo>
                    <a:lnTo>
                      <a:pt x="44" y="787"/>
                    </a:lnTo>
                    <a:lnTo>
                      <a:pt x="35" y="762"/>
                    </a:lnTo>
                    <a:lnTo>
                      <a:pt x="25" y="735"/>
                    </a:lnTo>
                    <a:lnTo>
                      <a:pt x="18" y="709"/>
                    </a:lnTo>
                    <a:lnTo>
                      <a:pt x="12" y="681"/>
                    </a:lnTo>
                    <a:lnTo>
                      <a:pt x="7" y="652"/>
                    </a:lnTo>
                    <a:lnTo>
                      <a:pt x="3" y="625"/>
                    </a:lnTo>
                    <a:lnTo>
                      <a:pt x="1" y="596"/>
                    </a:lnTo>
                    <a:lnTo>
                      <a:pt x="0" y="567"/>
                    </a:lnTo>
                    <a:lnTo>
                      <a:pt x="1" y="537"/>
                    </a:lnTo>
                    <a:lnTo>
                      <a:pt x="3" y="508"/>
                    </a:lnTo>
                    <a:lnTo>
                      <a:pt x="7" y="481"/>
                    </a:lnTo>
                    <a:lnTo>
                      <a:pt x="12" y="453"/>
                    </a:lnTo>
                    <a:lnTo>
                      <a:pt x="18" y="426"/>
                    </a:lnTo>
                    <a:lnTo>
                      <a:pt x="25" y="398"/>
                    </a:lnTo>
                    <a:lnTo>
                      <a:pt x="35" y="372"/>
                    </a:lnTo>
                    <a:lnTo>
                      <a:pt x="44" y="346"/>
                    </a:lnTo>
                    <a:lnTo>
                      <a:pt x="56" y="321"/>
                    </a:lnTo>
                    <a:lnTo>
                      <a:pt x="68" y="297"/>
                    </a:lnTo>
                    <a:lnTo>
                      <a:pt x="83" y="273"/>
                    </a:lnTo>
                    <a:lnTo>
                      <a:pt x="97" y="250"/>
                    </a:lnTo>
                    <a:lnTo>
                      <a:pt x="113" y="228"/>
                    </a:lnTo>
                    <a:lnTo>
                      <a:pt x="129" y="206"/>
                    </a:lnTo>
                    <a:lnTo>
                      <a:pt x="147" y="186"/>
                    </a:lnTo>
                    <a:lnTo>
                      <a:pt x="167" y="166"/>
                    </a:lnTo>
                    <a:lnTo>
                      <a:pt x="186" y="147"/>
                    </a:lnTo>
                    <a:lnTo>
                      <a:pt x="206" y="129"/>
                    </a:lnTo>
                    <a:lnTo>
                      <a:pt x="228" y="112"/>
                    </a:lnTo>
                    <a:lnTo>
                      <a:pt x="251" y="97"/>
                    </a:lnTo>
                    <a:lnTo>
                      <a:pt x="273" y="83"/>
                    </a:lnTo>
                    <a:lnTo>
                      <a:pt x="297" y="68"/>
                    </a:lnTo>
                    <a:lnTo>
                      <a:pt x="321" y="56"/>
                    </a:lnTo>
                    <a:lnTo>
                      <a:pt x="347" y="44"/>
                    </a:lnTo>
                    <a:lnTo>
                      <a:pt x="373" y="35"/>
                    </a:lnTo>
                    <a:lnTo>
                      <a:pt x="399" y="25"/>
                    </a:lnTo>
                    <a:lnTo>
                      <a:pt x="426" y="18"/>
                    </a:lnTo>
                    <a:lnTo>
                      <a:pt x="453" y="12"/>
                    </a:lnTo>
                    <a:lnTo>
                      <a:pt x="481" y="6"/>
                    </a:lnTo>
                    <a:lnTo>
                      <a:pt x="510" y="2"/>
                    </a:lnTo>
                    <a:lnTo>
                      <a:pt x="539" y="1"/>
                    </a:lnTo>
                    <a:lnTo>
                      <a:pt x="567" y="0"/>
                    </a:lnTo>
                    <a:close/>
                  </a:path>
                </a:pathLst>
              </a:custGeom>
              <a:solidFill>
                <a:srgbClr val="e39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124000" y="2922480"/>
                <a:ext cx="446040" cy="446040"/>
              </a:xfrm>
              <a:custGeom>
                <a:avLst/>
                <a:gdLst/>
                <a:ahLst/>
                <a:rect l="l" t="t" r="r" b="b"/>
                <a:pathLst>
                  <a:path w="1123" h="1123">
                    <a:moveTo>
                      <a:pt x="561" y="0"/>
                    </a:moveTo>
                    <a:lnTo>
                      <a:pt x="590" y="0"/>
                    </a:lnTo>
                    <a:lnTo>
                      <a:pt x="619" y="3"/>
                    </a:lnTo>
                    <a:lnTo>
                      <a:pt x="647" y="6"/>
                    </a:lnTo>
                    <a:lnTo>
                      <a:pt x="674" y="11"/>
                    </a:lnTo>
                    <a:lnTo>
                      <a:pt x="702" y="17"/>
                    </a:lnTo>
                    <a:lnTo>
                      <a:pt x="728" y="26"/>
                    </a:lnTo>
                    <a:lnTo>
                      <a:pt x="755" y="34"/>
                    </a:lnTo>
                    <a:lnTo>
                      <a:pt x="780" y="45"/>
                    </a:lnTo>
                    <a:lnTo>
                      <a:pt x="805" y="56"/>
                    </a:lnTo>
                    <a:lnTo>
                      <a:pt x="829" y="68"/>
                    </a:lnTo>
                    <a:lnTo>
                      <a:pt x="852" y="82"/>
                    </a:lnTo>
                    <a:lnTo>
                      <a:pt x="875" y="96"/>
                    </a:lnTo>
                    <a:lnTo>
                      <a:pt x="897" y="112"/>
                    </a:lnTo>
                    <a:lnTo>
                      <a:pt x="918" y="129"/>
                    </a:lnTo>
                    <a:lnTo>
                      <a:pt x="938" y="147"/>
                    </a:lnTo>
                    <a:lnTo>
                      <a:pt x="959" y="165"/>
                    </a:lnTo>
                    <a:lnTo>
                      <a:pt x="977" y="184"/>
                    </a:lnTo>
                    <a:lnTo>
                      <a:pt x="995" y="204"/>
                    </a:lnTo>
                    <a:lnTo>
                      <a:pt x="1011" y="226"/>
                    </a:lnTo>
                    <a:lnTo>
                      <a:pt x="1027" y="247"/>
                    </a:lnTo>
                    <a:lnTo>
                      <a:pt x="1041" y="270"/>
                    </a:lnTo>
                    <a:lnTo>
                      <a:pt x="1055" y="294"/>
                    </a:lnTo>
                    <a:lnTo>
                      <a:pt x="1068" y="318"/>
                    </a:lnTo>
                    <a:lnTo>
                      <a:pt x="1079" y="343"/>
                    </a:lnTo>
                    <a:lnTo>
                      <a:pt x="1089" y="369"/>
                    </a:lnTo>
                    <a:lnTo>
                      <a:pt x="1098" y="395"/>
                    </a:lnTo>
                    <a:lnTo>
                      <a:pt x="1105" y="421"/>
                    </a:lnTo>
                    <a:lnTo>
                      <a:pt x="1111" y="449"/>
                    </a:lnTo>
                    <a:lnTo>
                      <a:pt x="1117" y="477"/>
                    </a:lnTo>
                    <a:lnTo>
                      <a:pt x="1121" y="504"/>
                    </a:lnTo>
                    <a:lnTo>
                      <a:pt x="1122" y="533"/>
                    </a:lnTo>
                    <a:lnTo>
                      <a:pt x="1123" y="562"/>
                    </a:lnTo>
                    <a:lnTo>
                      <a:pt x="1122" y="591"/>
                    </a:lnTo>
                    <a:lnTo>
                      <a:pt x="1121" y="619"/>
                    </a:lnTo>
                    <a:lnTo>
                      <a:pt x="1117" y="647"/>
                    </a:lnTo>
                    <a:lnTo>
                      <a:pt x="1111" y="675"/>
                    </a:lnTo>
                    <a:lnTo>
                      <a:pt x="1105" y="702"/>
                    </a:lnTo>
                    <a:lnTo>
                      <a:pt x="1098" y="729"/>
                    </a:lnTo>
                    <a:lnTo>
                      <a:pt x="1089" y="754"/>
                    </a:lnTo>
                    <a:lnTo>
                      <a:pt x="1079" y="780"/>
                    </a:lnTo>
                    <a:lnTo>
                      <a:pt x="1068" y="804"/>
                    </a:lnTo>
                    <a:lnTo>
                      <a:pt x="1055" y="829"/>
                    </a:lnTo>
                    <a:lnTo>
                      <a:pt x="1041" y="852"/>
                    </a:lnTo>
                    <a:lnTo>
                      <a:pt x="1027" y="875"/>
                    </a:lnTo>
                    <a:lnTo>
                      <a:pt x="1011" y="898"/>
                    </a:lnTo>
                    <a:lnTo>
                      <a:pt x="995" y="918"/>
                    </a:lnTo>
                    <a:lnTo>
                      <a:pt x="977" y="938"/>
                    </a:lnTo>
                    <a:lnTo>
                      <a:pt x="959" y="958"/>
                    </a:lnTo>
                    <a:lnTo>
                      <a:pt x="938" y="977"/>
                    </a:lnTo>
                    <a:lnTo>
                      <a:pt x="918" y="995"/>
                    </a:lnTo>
                    <a:lnTo>
                      <a:pt x="897" y="1012"/>
                    </a:lnTo>
                    <a:lnTo>
                      <a:pt x="875" y="1027"/>
                    </a:lnTo>
                    <a:lnTo>
                      <a:pt x="852" y="1042"/>
                    </a:lnTo>
                    <a:lnTo>
                      <a:pt x="829" y="1055"/>
                    </a:lnTo>
                    <a:lnTo>
                      <a:pt x="805" y="1068"/>
                    </a:lnTo>
                    <a:lnTo>
                      <a:pt x="780" y="1079"/>
                    </a:lnTo>
                    <a:lnTo>
                      <a:pt x="755" y="1088"/>
                    </a:lnTo>
                    <a:lnTo>
                      <a:pt x="728" y="1098"/>
                    </a:lnTo>
                    <a:lnTo>
                      <a:pt x="702" y="1105"/>
                    </a:lnTo>
                    <a:lnTo>
                      <a:pt x="674" y="1111"/>
                    </a:lnTo>
                    <a:lnTo>
                      <a:pt x="647" y="1116"/>
                    </a:lnTo>
                    <a:lnTo>
                      <a:pt x="619" y="1120"/>
                    </a:lnTo>
                    <a:lnTo>
                      <a:pt x="590" y="1122"/>
                    </a:lnTo>
                    <a:lnTo>
                      <a:pt x="561" y="1123"/>
                    </a:lnTo>
                    <a:lnTo>
                      <a:pt x="533" y="1122"/>
                    </a:lnTo>
                    <a:lnTo>
                      <a:pt x="504" y="1120"/>
                    </a:lnTo>
                    <a:lnTo>
                      <a:pt x="476" y="1116"/>
                    </a:lnTo>
                    <a:lnTo>
                      <a:pt x="449" y="1111"/>
                    </a:lnTo>
                    <a:lnTo>
                      <a:pt x="421" y="1105"/>
                    </a:lnTo>
                    <a:lnTo>
                      <a:pt x="395" y="1098"/>
                    </a:lnTo>
                    <a:lnTo>
                      <a:pt x="368" y="1088"/>
                    </a:lnTo>
                    <a:lnTo>
                      <a:pt x="343" y="1079"/>
                    </a:lnTo>
                    <a:lnTo>
                      <a:pt x="318" y="1068"/>
                    </a:lnTo>
                    <a:lnTo>
                      <a:pt x="294" y="1055"/>
                    </a:lnTo>
                    <a:lnTo>
                      <a:pt x="270" y="1042"/>
                    </a:lnTo>
                    <a:lnTo>
                      <a:pt x="247" y="1027"/>
                    </a:lnTo>
                    <a:lnTo>
                      <a:pt x="225" y="1012"/>
                    </a:lnTo>
                    <a:lnTo>
                      <a:pt x="204" y="995"/>
                    </a:lnTo>
                    <a:lnTo>
                      <a:pt x="183" y="977"/>
                    </a:lnTo>
                    <a:lnTo>
                      <a:pt x="164" y="958"/>
                    </a:lnTo>
                    <a:lnTo>
                      <a:pt x="146" y="938"/>
                    </a:lnTo>
                    <a:lnTo>
                      <a:pt x="128" y="918"/>
                    </a:lnTo>
                    <a:lnTo>
                      <a:pt x="111" y="898"/>
                    </a:lnTo>
                    <a:lnTo>
                      <a:pt x="96" y="875"/>
                    </a:lnTo>
                    <a:lnTo>
                      <a:pt x="81" y="852"/>
                    </a:lnTo>
                    <a:lnTo>
                      <a:pt x="67" y="829"/>
                    </a:lnTo>
                    <a:lnTo>
                      <a:pt x="55" y="804"/>
                    </a:lnTo>
                    <a:lnTo>
                      <a:pt x="44" y="780"/>
                    </a:lnTo>
                    <a:lnTo>
                      <a:pt x="33" y="754"/>
                    </a:lnTo>
                    <a:lnTo>
                      <a:pt x="25" y="729"/>
                    </a:lnTo>
                    <a:lnTo>
                      <a:pt x="18" y="702"/>
                    </a:lnTo>
                    <a:lnTo>
                      <a:pt x="11" y="675"/>
                    </a:lnTo>
                    <a:lnTo>
                      <a:pt x="6" y="647"/>
                    </a:lnTo>
                    <a:lnTo>
                      <a:pt x="2" y="619"/>
                    </a:lnTo>
                    <a:lnTo>
                      <a:pt x="0" y="591"/>
                    </a:lnTo>
                    <a:lnTo>
                      <a:pt x="0" y="562"/>
                    </a:lnTo>
                    <a:lnTo>
                      <a:pt x="0" y="533"/>
                    </a:lnTo>
                    <a:lnTo>
                      <a:pt x="2" y="504"/>
                    </a:lnTo>
                    <a:lnTo>
                      <a:pt x="6" y="477"/>
                    </a:lnTo>
                    <a:lnTo>
                      <a:pt x="11" y="449"/>
                    </a:lnTo>
                    <a:lnTo>
                      <a:pt x="18" y="421"/>
                    </a:lnTo>
                    <a:lnTo>
                      <a:pt x="25" y="395"/>
                    </a:lnTo>
                    <a:lnTo>
                      <a:pt x="33" y="369"/>
                    </a:lnTo>
                    <a:lnTo>
                      <a:pt x="44" y="343"/>
                    </a:lnTo>
                    <a:lnTo>
                      <a:pt x="55" y="318"/>
                    </a:lnTo>
                    <a:lnTo>
                      <a:pt x="67" y="294"/>
                    </a:lnTo>
                    <a:lnTo>
                      <a:pt x="81" y="270"/>
                    </a:lnTo>
                    <a:lnTo>
                      <a:pt x="96" y="247"/>
                    </a:lnTo>
                    <a:lnTo>
                      <a:pt x="111" y="226"/>
                    </a:lnTo>
                    <a:lnTo>
                      <a:pt x="128" y="204"/>
                    </a:lnTo>
                    <a:lnTo>
                      <a:pt x="146" y="184"/>
                    </a:lnTo>
                    <a:lnTo>
                      <a:pt x="164" y="165"/>
                    </a:lnTo>
                    <a:lnTo>
                      <a:pt x="183" y="147"/>
                    </a:lnTo>
                    <a:lnTo>
                      <a:pt x="204" y="129"/>
                    </a:lnTo>
                    <a:lnTo>
                      <a:pt x="225" y="112"/>
                    </a:lnTo>
                    <a:lnTo>
                      <a:pt x="247" y="96"/>
                    </a:lnTo>
                    <a:lnTo>
                      <a:pt x="270" y="82"/>
                    </a:lnTo>
                    <a:lnTo>
                      <a:pt x="294" y="68"/>
                    </a:lnTo>
                    <a:lnTo>
                      <a:pt x="318" y="56"/>
                    </a:lnTo>
                    <a:lnTo>
                      <a:pt x="343" y="45"/>
                    </a:lnTo>
                    <a:lnTo>
                      <a:pt x="368" y="34"/>
                    </a:lnTo>
                    <a:lnTo>
                      <a:pt x="395" y="26"/>
                    </a:lnTo>
                    <a:lnTo>
                      <a:pt x="421" y="17"/>
                    </a:lnTo>
                    <a:lnTo>
                      <a:pt x="449" y="11"/>
                    </a:lnTo>
                    <a:lnTo>
                      <a:pt x="476" y="6"/>
                    </a:lnTo>
                    <a:lnTo>
                      <a:pt x="504" y="3"/>
                    </a:lnTo>
                    <a:lnTo>
                      <a:pt x="533" y="0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e79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125440" y="2925720"/>
                <a:ext cx="443160" cy="441360"/>
              </a:xfrm>
              <a:custGeom>
                <a:avLst/>
                <a:gdLst/>
                <a:ahLst/>
                <a:rect l="l" t="t" r="r" b="b"/>
                <a:pathLst>
                  <a:path w="1112" h="1112">
                    <a:moveTo>
                      <a:pt x="556" y="0"/>
                    </a:moveTo>
                    <a:lnTo>
                      <a:pt x="585" y="1"/>
                    </a:lnTo>
                    <a:lnTo>
                      <a:pt x="613" y="3"/>
                    </a:lnTo>
                    <a:lnTo>
                      <a:pt x="640" y="7"/>
                    </a:lnTo>
                    <a:lnTo>
                      <a:pt x="668" y="12"/>
                    </a:lnTo>
                    <a:lnTo>
                      <a:pt x="694" y="18"/>
                    </a:lnTo>
                    <a:lnTo>
                      <a:pt x="721" y="25"/>
                    </a:lnTo>
                    <a:lnTo>
                      <a:pt x="747" y="35"/>
                    </a:lnTo>
                    <a:lnTo>
                      <a:pt x="772" y="44"/>
                    </a:lnTo>
                    <a:lnTo>
                      <a:pt x="798" y="55"/>
                    </a:lnTo>
                    <a:lnTo>
                      <a:pt x="820" y="67"/>
                    </a:lnTo>
                    <a:lnTo>
                      <a:pt x="844" y="81"/>
                    </a:lnTo>
                    <a:lnTo>
                      <a:pt x="867" y="96"/>
                    </a:lnTo>
                    <a:lnTo>
                      <a:pt x="889" y="111"/>
                    </a:lnTo>
                    <a:lnTo>
                      <a:pt x="909" y="127"/>
                    </a:lnTo>
                    <a:lnTo>
                      <a:pt x="930" y="145"/>
                    </a:lnTo>
                    <a:lnTo>
                      <a:pt x="949" y="163"/>
                    </a:lnTo>
                    <a:lnTo>
                      <a:pt x="968" y="183"/>
                    </a:lnTo>
                    <a:lnTo>
                      <a:pt x="985" y="202"/>
                    </a:lnTo>
                    <a:lnTo>
                      <a:pt x="1002" y="224"/>
                    </a:lnTo>
                    <a:lnTo>
                      <a:pt x="1017" y="246"/>
                    </a:lnTo>
                    <a:lnTo>
                      <a:pt x="1032" y="268"/>
                    </a:lnTo>
                    <a:lnTo>
                      <a:pt x="1045" y="291"/>
                    </a:lnTo>
                    <a:lnTo>
                      <a:pt x="1058" y="315"/>
                    </a:lnTo>
                    <a:lnTo>
                      <a:pt x="1069" y="340"/>
                    </a:lnTo>
                    <a:lnTo>
                      <a:pt x="1078" y="366"/>
                    </a:lnTo>
                    <a:lnTo>
                      <a:pt x="1087" y="391"/>
                    </a:lnTo>
                    <a:lnTo>
                      <a:pt x="1095" y="417"/>
                    </a:lnTo>
                    <a:lnTo>
                      <a:pt x="1101" y="445"/>
                    </a:lnTo>
                    <a:lnTo>
                      <a:pt x="1106" y="471"/>
                    </a:lnTo>
                    <a:lnTo>
                      <a:pt x="1110" y="500"/>
                    </a:lnTo>
                    <a:lnTo>
                      <a:pt x="1112" y="528"/>
                    </a:lnTo>
                    <a:lnTo>
                      <a:pt x="1112" y="556"/>
                    </a:lnTo>
                    <a:lnTo>
                      <a:pt x="1112" y="585"/>
                    </a:lnTo>
                    <a:lnTo>
                      <a:pt x="1110" y="613"/>
                    </a:lnTo>
                    <a:lnTo>
                      <a:pt x="1106" y="640"/>
                    </a:lnTo>
                    <a:lnTo>
                      <a:pt x="1101" y="668"/>
                    </a:lnTo>
                    <a:lnTo>
                      <a:pt x="1095" y="694"/>
                    </a:lnTo>
                    <a:lnTo>
                      <a:pt x="1087" y="721"/>
                    </a:lnTo>
                    <a:lnTo>
                      <a:pt x="1078" y="747"/>
                    </a:lnTo>
                    <a:lnTo>
                      <a:pt x="1069" y="772"/>
                    </a:lnTo>
                    <a:lnTo>
                      <a:pt x="1058" y="798"/>
                    </a:lnTo>
                    <a:lnTo>
                      <a:pt x="1045" y="820"/>
                    </a:lnTo>
                    <a:lnTo>
                      <a:pt x="1032" y="844"/>
                    </a:lnTo>
                    <a:lnTo>
                      <a:pt x="1017" y="867"/>
                    </a:lnTo>
                    <a:lnTo>
                      <a:pt x="1002" y="889"/>
                    </a:lnTo>
                    <a:lnTo>
                      <a:pt x="985" y="909"/>
                    </a:lnTo>
                    <a:lnTo>
                      <a:pt x="968" y="929"/>
                    </a:lnTo>
                    <a:lnTo>
                      <a:pt x="949" y="949"/>
                    </a:lnTo>
                    <a:lnTo>
                      <a:pt x="930" y="968"/>
                    </a:lnTo>
                    <a:lnTo>
                      <a:pt x="909" y="985"/>
                    </a:lnTo>
                    <a:lnTo>
                      <a:pt x="889" y="1001"/>
                    </a:lnTo>
                    <a:lnTo>
                      <a:pt x="867" y="1017"/>
                    </a:lnTo>
                    <a:lnTo>
                      <a:pt x="844" y="1031"/>
                    </a:lnTo>
                    <a:lnTo>
                      <a:pt x="820" y="1045"/>
                    </a:lnTo>
                    <a:lnTo>
                      <a:pt x="798" y="1058"/>
                    </a:lnTo>
                    <a:lnTo>
                      <a:pt x="772" y="1069"/>
                    </a:lnTo>
                    <a:lnTo>
                      <a:pt x="747" y="1078"/>
                    </a:lnTo>
                    <a:lnTo>
                      <a:pt x="721" y="1087"/>
                    </a:lnTo>
                    <a:lnTo>
                      <a:pt x="694" y="1095"/>
                    </a:lnTo>
                    <a:lnTo>
                      <a:pt x="668" y="1101"/>
                    </a:lnTo>
                    <a:lnTo>
                      <a:pt x="640" y="1106"/>
                    </a:lnTo>
                    <a:lnTo>
                      <a:pt x="613" y="1109"/>
                    </a:lnTo>
                    <a:lnTo>
                      <a:pt x="585" y="1112"/>
                    </a:lnTo>
                    <a:lnTo>
                      <a:pt x="556" y="1112"/>
                    </a:lnTo>
                    <a:lnTo>
                      <a:pt x="528" y="1112"/>
                    </a:lnTo>
                    <a:lnTo>
                      <a:pt x="500" y="1109"/>
                    </a:lnTo>
                    <a:lnTo>
                      <a:pt x="471" y="1106"/>
                    </a:lnTo>
                    <a:lnTo>
                      <a:pt x="445" y="1101"/>
                    </a:lnTo>
                    <a:lnTo>
                      <a:pt x="417" y="1095"/>
                    </a:lnTo>
                    <a:lnTo>
                      <a:pt x="391" y="1087"/>
                    </a:lnTo>
                    <a:lnTo>
                      <a:pt x="366" y="1078"/>
                    </a:lnTo>
                    <a:lnTo>
                      <a:pt x="340" y="1069"/>
                    </a:lnTo>
                    <a:lnTo>
                      <a:pt x="315" y="1058"/>
                    </a:lnTo>
                    <a:lnTo>
                      <a:pt x="291" y="1045"/>
                    </a:lnTo>
                    <a:lnTo>
                      <a:pt x="268" y="1031"/>
                    </a:lnTo>
                    <a:lnTo>
                      <a:pt x="246" y="1017"/>
                    </a:lnTo>
                    <a:lnTo>
                      <a:pt x="224" y="1001"/>
                    </a:lnTo>
                    <a:lnTo>
                      <a:pt x="202" y="985"/>
                    </a:lnTo>
                    <a:lnTo>
                      <a:pt x="183" y="968"/>
                    </a:lnTo>
                    <a:lnTo>
                      <a:pt x="163" y="949"/>
                    </a:lnTo>
                    <a:lnTo>
                      <a:pt x="145" y="929"/>
                    </a:lnTo>
                    <a:lnTo>
                      <a:pt x="127" y="909"/>
                    </a:lnTo>
                    <a:lnTo>
                      <a:pt x="111" y="889"/>
                    </a:lnTo>
                    <a:lnTo>
                      <a:pt x="96" y="867"/>
                    </a:lnTo>
                    <a:lnTo>
                      <a:pt x="81" y="844"/>
                    </a:lnTo>
                    <a:lnTo>
                      <a:pt x="68" y="820"/>
                    </a:lnTo>
                    <a:lnTo>
                      <a:pt x="55" y="798"/>
                    </a:lnTo>
                    <a:lnTo>
                      <a:pt x="44" y="772"/>
                    </a:lnTo>
                    <a:lnTo>
                      <a:pt x="34" y="747"/>
                    </a:lnTo>
                    <a:lnTo>
                      <a:pt x="25" y="721"/>
                    </a:lnTo>
                    <a:lnTo>
                      <a:pt x="18" y="694"/>
                    </a:lnTo>
                    <a:lnTo>
                      <a:pt x="12" y="668"/>
                    </a:lnTo>
                    <a:lnTo>
                      <a:pt x="7" y="640"/>
                    </a:lnTo>
                    <a:lnTo>
                      <a:pt x="3" y="613"/>
                    </a:lnTo>
                    <a:lnTo>
                      <a:pt x="1" y="585"/>
                    </a:lnTo>
                    <a:lnTo>
                      <a:pt x="0" y="556"/>
                    </a:lnTo>
                    <a:lnTo>
                      <a:pt x="1" y="528"/>
                    </a:lnTo>
                    <a:lnTo>
                      <a:pt x="3" y="500"/>
                    </a:lnTo>
                    <a:lnTo>
                      <a:pt x="7" y="471"/>
                    </a:lnTo>
                    <a:lnTo>
                      <a:pt x="12" y="445"/>
                    </a:lnTo>
                    <a:lnTo>
                      <a:pt x="18" y="417"/>
                    </a:lnTo>
                    <a:lnTo>
                      <a:pt x="25" y="391"/>
                    </a:lnTo>
                    <a:lnTo>
                      <a:pt x="34" y="366"/>
                    </a:lnTo>
                    <a:lnTo>
                      <a:pt x="44" y="340"/>
                    </a:lnTo>
                    <a:lnTo>
                      <a:pt x="55" y="315"/>
                    </a:lnTo>
                    <a:lnTo>
                      <a:pt x="68" y="291"/>
                    </a:lnTo>
                    <a:lnTo>
                      <a:pt x="81" y="268"/>
                    </a:lnTo>
                    <a:lnTo>
                      <a:pt x="96" y="246"/>
                    </a:lnTo>
                    <a:lnTo>
                      <a:pt x="111" y="224"/>
                    </a:lnTo>
                    <a:lnTo>
                      <a:pt x="127" y="202"/>
                    </a:lnTo>
                    <a:lnTo>
                      <a:pt x="145" y="183"/>
                    </a:lnTo>
                    <a:lnTo>
                      <a:pt x="163" y="163"/>
                    </a:lnTo>
                    <a:lnTo>
                      <a:pt x="183" y="145"/>
                    </a:lnTo>
                    <a:lnTo>
                      <a:pt x="202" y="127"/>
                    </a:lnTo>
                    <a:lnTo>
                      <a:pt x="224" y="111"/>
                    </a:lnTo>
                    <a:lnTo>
                      <a:pt x="246" y="96"/>
                    </a:lnTo>
                    <a:lnTo>
                      <a:pt x="268" y="81"/>
                    </a:lnTo>
                    <a:lnTo>
                      <a:pt x="291" y="67"/>
                    </a:lnTo>
                    <a:lnTo>
                      <a:pt x="315" y="55"/>
                    </a:lnTo>
                    <a:lnTo>
                      <a:pt x="340" y="44"/>
                    </a:lnTo>
                    <a:lnTo>
                      <a:pt x="366" y="35"/>
                    </a:lnTo>
                    <a:lnTo>
                      <a:pt x="391" y="25"/>
                    </a:lnTo>
                    <a:lnTo>
                      <a:pt x="417" y="18"/>
                    </a:lnTo>
                    <a:lnTo>
                      <a:pt x="445" y="12"/>
                    </a:lnTo>
                    <a:lnTo>
                      <a:pt x="471" y="7"/>
                    </a:lnTo>
                    <a:lnTo>
                      <a:pt x="500" y="3"/>
                    </a:lnTo>
                    <a:lnTo>
                      <a:pt x="528" y="1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ec9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128680" y="2930400"/>
                <a:ext cx="436680" cy="436680"/>
              </a:xfrm>
              <a:custGeom>
                <a:avLst/>
                <a:gdLst/>
                <a:ahLst/>
                <a:rect l="l" t="t" r="r" b="b"/>
                <a:pathLst>
                  <a:path w="1101" h="1102">
                    <a:moveTo>
                      <a:pt x="550" y="0"/>
                    </a:moveTo>
                    <a:lnTo>
                      <a:pt x="578" y="2"/>
                    </a:lnTo>
                    <a:lnTo>
                      <a:pt x="607" y="4"/>
                    </a:lnTo>
                    <a:lnTo>
                      <a:pt x="634" y="6"/>
                    </a:lnTo>
                    <a:lnTo>
                      <a:pt x="661" y="12"/>
                    </a:lnTo>
                    <a:lnTo>
                      <a:pt x="687" y="18"/>
                    </a:lnTo>
                    <a:lnTo>
                      <a:pt x="714" y="26"/>
                    </a:lnTo>
                    <a:lnTo>
                      <a:pt x="739" y="34"/>
                    </a:lnTo>
                    <a:lnTo>
                      <a:pt x="764" y="44"/>
                    </a:lnTo>
                    <a:lnTo>
                      <a:pt x="789" y="56"/>
                    </a:lnTo>
                    <a:lnTo>
                      <a:pt x="812" y="68"/>
                    </a:lnTo>
                    <a:lnTo>
                      <a:pt x="835" y="81"/>
                    </a:lnTo>
                    <a:lnTo>
                      <a:pt x="858" y="95"/>
                    </a:lnTo>
                    <a:lnTo>
                      <a:pt x="879" y="111"/>
                    </a:lnTo>
                    <a:lnTo>
                      <a:pt x="900" y="126"/>
                    </a:lnTo>
                    <a:lnTo>
                      <a:pt x="920" y="144"/>
                    </a:lnTo>
                    <a:lnTo>
                      <a:pt x="939" y="162"/>
                    </a:lnTo>
                    <a:lnTo>
                      <a:pt x="957" y="181"/>
                    </a:lnTo>
                    <a:lnTo>
                      <a:pt x="975" y="201"/>
                    </a:lnTo>
                    <a:lnTo>
                      <a:pt x="991" y="222"/>
                    </a:lnTo>
                    <a:lnTo>
                      <a:pt x="1006" y="244"/>
                    </a:lnTo>
                    <a:lnTo>
                      <a:pt x="1021" y="265"/>
                    </a:lnTo>
                    <a:lnTo>
                      <a:pt x="1034" y="289"/>
                    </a:lnTo>
                    <a:lnTo>
                      <a:pt x="1046" y="312"/>
                    </a:lnTo>
                    <a:lnTo>
                      <a:pt x="1058" y="337"/>
                    </a:lnTo>
                    <a:lnTo>
                      <a:pt x="1068" y="363"/>
                    </a:lnTo>
                    <a:lnTo>
                      <a:pt x="1076" y="388"/>
                    </a:lnTo>
                    <a:lnTo>
                      <a:pt x="1083" y="414"/>
                    </a:lnTo>
                    <a:lnTo>
                      <a:pt x="1089" y="441"/>
                    </a:lnTo>
                    <a:lnTo>
                      <a:pt x="1094" y="467"/>
                    </a:lnTo>
                    <a:lnTo>
                      <a:pt x="1098" y="495"/>
                    </a:lnTo>
                    <a:lnTo>
                      <a:pt x="1100" y="522"/>
                    </a:lnTo>
                    <a:lnTo>
                      <a:pt x="1101" y="551"/>
                    </a:lnTo>
                    <a:lnTo>
                      <a:pt x="1100" y="580"/>
                    </a:lnTo>
                    <a:lnTo>
                      <a:pt x="1098" y="607"/>
                    </a:lnTo>
                    <a:lnTo>
                      <a:pt x="1094" y="635"/>
                    </a:lnTo>
                    <a:lnTo>
                      <a:pt x="1089" y="661"/>
                    </a:lnTo>
                    <a:lnTo>
                      <a:pt x="1083" y="688"/>
                    </a:lnTo>
                    <a:lnTo>
                      <a:pt x="1076" y="714"/>
                    </a:lnTo>
                    <a:lnTo>
                      <a:pt x="1068" y="741"/>
                    </a:lnTo>
                    <a:lnTo>
                      <a:pt x="1058" y="765"/>
                    </a:lnTo>
                    <a:lnTo>
                      <a:pt x="1046" y="790"/>
                    </a:lnTo>
                    <a:lnTo>
                      <a:pt x="1034" y="813"/>
                    </a:lnTo>
                    <a:lnTo>
                      <a:pt x="1021" y="836"/>
                    </a:lnTo>
                    <a:lnTo>
                      <a:pt x="1006" y="858"/>
                    </a:lnTo>
                    <a:lnTo>
                      <a:pt x="991" y="880"/>
                    </a:lnTo>
                    <a:lnTo>
                      <a:pt x="975" y="901"/>
                    </a:lnTo>
                    <a:lnTo>
                      <a:pt x="957" y="920"/>
                    </a:lnTo>
                    <a:lnTo>
                      <a:pt x="939" y="940"/>
                    </a:lnTo>
                    <a:lnTo>
                      <a:pt x="920" y="958"/>
                    </a:lnTo>
                    <a:lnTo>
                      <a:pt x="900" y="976"/>
                    </a:lnTo>
                    <a:lnTo>
                      <a:pt x="879" y="991"/>
                    </a:lnTo>
                    <a:lnTo>
                      <a:pt x="858" y="1007"/>
                    </a:lnTo>
                    <a:lnTo>
                      <a:pt x="835" y="1021"/>
                    </a:lnTo>
                    <a:lnTo>
                      <a:pt x="812" y="1034"/>
                    </a:lnTo>
                    <a:lnTo>
                      <a:pt x="789" y="1046"/>
                    </a:lnTo>
                    <a:lnTo>
                      <a:pt x="764" y="1058"/>
                    </a:lnTo>
                    <a:lnTo>
                      <a:pt x="739" y="1068"/>
                    </a:lnTo>
                    <a:lnTo>
                      <a:pt x="714" y="1076"/>
                    </a:lnTo>
                    <a:lnTo>
                      <a:pt x="687" y="1084"/>
                    </a:lnTo>
                    <a:lnTo>
                      <a:pt x="661" y="1090"/>
                    </a:lnTo>
                    <a:lnTo>
                      <a:pt x="634" y="1096"/>
                    </a:lnTo>
                    <a:lnTo>
                      <a:pt x="607" y="1098"/>
                    </a:lnTo>
                    <a:lnTo>
                      <a:pt x="578" y="1100"/>
                    </a:lnTo>
                    <a:lnTo>
                      <a:pt x="550" y="1102"/>
                    </a:lnTo>
                    <a:lnTo>
                      <a:pt x="522" y="1100"/>
                    </a:lnTo>
                    <a:lnTo>
                      <a:pt x="494" y="1098"/>
                    </a:lnTo>
                    <a:lnTo>
                      <a:pt x="466" y="1096"/>
                    </a:lnTo>
                    <a:lnTo>
                      <a:pt x="440" y="1090"/>
                    </a:lnTo>
                    <a:lnTo>
                      <a:pt x="412" y="1084"/>
                    </a:lnTo>
                    <a:lnTo>
                      <a:pt x="387" y="1076"/>
                    </a:lnTo>
                    <a:lnTo>
                      <a:pt x="361" y="1068"/>
                    </a:lnTo>
                    <a:lnTo>
                      <a:pt x="337" y="1058"/>
                    </a:lnTo>
                    <a:lnTo>
                      <a:pt x="312" y="1046"/>
                    </a:lnTo>
                    <a:lnTo>
                      <a:pt x="288" y="1034"/>
                    </a:lnTo>
                    <a:lnTo>
                      <a:pt x="265" y="1021"/>
                    </a:lnTo>
                    <a:lnTo>
                      <a:pt x="243" y="1007"/>
                    </a:lnTo>
                    <a:lnTo>
                      <a:pt x="222" y="991"/>
                    </a:lnTo>
                    <a:lnTo>
                      <a:pt x="200" y="976"/>
                    </a:lnTo>
                    <a:lnTo>
                      <a:pt x="181" y="958"/>
                    </a:lnTo>
                    <a:lnTo>
                      <a:pt x="162" y="940"/>
                    </a:lnTo>
                    <a:lnTo>
                      <a:pt x="142" y="920"/>
                    </a:lnTo>
                    <a:lnTo>
                      <a:pt x="126" y="901"/>
                    </a:lnTo>
                    <a:lnTo>
                      <a:pt x="109" y="880"/>
                    </a:lnTo>
                    <a:lnTo>
                      <a:pt x="94" y="858"/>
                    </a:lnTo>
                    <a:lnTo>
                      <a:pt x="80" y="836"/>
                    </a:lnTo>
                    <a:lnTo>
                      <a:pt x="67" y="813"/>
                    </a:lnTo>
                    <a:lnTo>
                      <a:pt x="54" y="790"/>
                    </a:lnTo>
                    <a:lnTo>
                      <a:pt x="43" y="765"/>
                    </a:lnTo>
                    <a:lnTo>
                      <a:pt x="33" y="741"/>
                    </a:lnTo>
                    <a:lnTo>
                      <a:pt x="25" y="714"/>
                    </a:lnTo>
                    <a:lnTo>
                      <a:pt x="18" y="688"/>
                    </a:lnTo>
                    <a:lnTo>
                      <a:pt x="10" y="661"/>
                    </a:lnTo>
                    <a:lnTo>
                      <a:pt x="6" y="635"/>
                    </a:lnTo>
                    <a:lnTo>
                      <a:pt x="2" y="607"/>
                    </a:lnTo>
                    <a:lnTo>
                      <a:pt x="1" y="580"/>
                    </a:lnTo>
                    <a:lnTo>
                      <a:pt x="0" y="551"/>
                    </a:lnTo>
                    <a:lnTo>
                      <a:pt x="1" y="522"/>
                    </a:lnTo>
                    <a:lnTo>
                      <a:pt x="2" y="495"/>
                    </a:lnTo>
                    <a:lnTo>
                      <a:pt x="6" y="467"/>
                    </a:lnTo>
                    <a:lnTo>
                      <a:pt x="10" y="441"/>
                    </a:lnTo>
                    <a:lnTo>
                      <a:pt x="18" y="414"/>
                    </a:lnTo>
                    <a:lnTo>
                      <a:pt x="25" y="388"/>
                    </a:lnTo>
                    <a:lnTo>
                      <a:pt x="33" y="363"/>
                    </a:lnTo>
                    <a:lnTo>
                      <a:pt x="43" y="337"/>
                    </a:lnTo>
                    <a:lnTo>
                      <a:pt x="54" y="312"/>
                    </a:lnTo>
                    <a:lnTo>
                      <a:pt x="67" y="289"/>
                    </a:lnTo>
                    <a:lnTo>
                      <a:pt x="80" y="265"/>
                    </a:lnTo>
                    <a:lnTo>
                      <a:pt x="94" y="244"/>
                    </a:lnTo>
                    <a:lnTo>
                      <a:pt x="109" y="222"/>
                    </a:lnTo>
                    <a:lnTo>
                      <a:pt x="126" y="201"/>
                    </a:lnTo>
                    <a:lnTo>
                      <a:pt x="142" y="181"/>
                    </a:lnTo>
                    <a:lnTo>
                      <a:pt x="162" y="162"/>
                    </a:lnTo>
                    <a:lnTo>
                      <a:pt x="181" y="144"/>
                    </a:lnTo>
                    <a:lnTo>
                      <a:pt x="200" y="126"/>
                    </a:lnTo>
                    <a:lnTo>
                      <a:pt x="222" y="111"/>
                    </a:lnTo>
                    <a:lnTo>
                      <a:pt x="243" y="95"/>
                    </a:lnTo>
                    <a:lnTo>
                      <a:pt x="265" y="81"/>
                    </a:lnTo>
                    <a:lnTo>
                      <a:pt x="288" y="68"/>
                    </a:lnTo>
                    <a:lnTo>
                      <a:pt x="312" y="56"/>
                    </a:lnTo>
                    <a:lnTo>
                      <a:pt x="337" y="44"/>
                    </a:lnTo>
                    <a:lnTo>
                      <a:pt x="361" y="34"/>
                    </a:lnTo>
                    <a:lnTo>
                      <a:pt x="387" y="26"/>
                    </a:lnTo>
                    <a:lnTo>
                      <a:pt x="412" y="18"/>
                    </a:lnTo>
                    <a:lnTo>
                      <a:pt x="440" y="12"/>
                    </a:lnTo>
                    <a:lnTo>
                      <a:pt x="466" y="6"/>
                    </a:lnTo>
                    <a:lnTo>
                      <a:pt x="494" y="4"/>
                    </a:lnTo>
                    <a:lnTo>
                      <a:pt x="522" y="2"/>
                    </a:lnTo>
                    <a:lnTo>
                      <a:pt x="550" y="0"/>
                    </a:lnTo>
                    <a:close/>
                  </a:path>
                </a:pathLst>
              </a:custGeom>
              <a:solidFill>
                <a:srgbClr val="f2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224080" y="3040200"/>
                <a:ext cx="291960" cy="303120"/>
              </a:xfrm>
              <a:custGeom>
                <a:avLst/>
                <a:gdLst/>
                <a:ahLst/>
                <a:rect l="l" t="t" r="r" b="b"/>
                <a:pathLst>
                  <a:path w="735" h="763">
                    <a:moveTo>
                      <a:pt x="368" y="0"/>
                    </a:moveTo>
                    <a:lnTo>
                      <a:pt x="386" y="0"/>
                    </a:lnTo>
                    <a:lnTo>
                      <a:pt x="405" y="3"/>
                    </a:lnTo>
                    <a:lnTo>
                      <a:pt x="423" y="5"/>
                    </a:lnTo>
                    <a:lnTo>
                      <a:pt x="441" y="7"/>
                    </a:lnTo>
                    <a:lnTo>
                      <a:pt x="459" y="12"/>
                    </a:lnTo>
                    <a:lnTo>
                      <a:pt x="477" y="17"/>
                    </a:lnTo>
                    <a:lnTo>
                      <a:pt x="494" y="23"/>
                    </a:lnTo>
                    <a:lnTo>
                      <a:pt x="511" y="30"/>
                    </a:lnTo>
                    <a:lnTo>
                      <a:pt x="527" y="37"/>
                    </a:lnTo>
                    <a:lnTo>
                      <a:pt x="542" y="46"/>
                    </a:lnTo>
                    <a:lnTo>
                      <a:pt x="558" y="55"/>
                    </a:lnTo>
                    <a:lnTo>
                      <a:pt x="573" y="65"/>
                    </a:lnTo>
                    <a:lnTo>
                      <a:pt x="588" y="76"/>
                    </a:lnTo>
                    <a:lnTo>
                      <a:pt x="601" y="88"/>
                    </a:lnTo>
                    <a:lnTo>
                      <a:pt x="614" y="100"/>
                    </a:lnTo>
                    <a:lnTo>
                      <a:pt x="627" y="112"/>
                    </a:lnTo>
                    <a:lnTo>
                      <a:pt x="639" y="125"/>
                    </a:lnTo>
                    <a:lnTo>
                      <a:pt x="651" y="139"/>
                    </a:lnTo>
                    <a:lnTo>
                      <a:pt x="662" y="154"/>
                    </a:lnTo>
                    <a:lnTo>
                      <a:pt x="673" y="168"/>
                    </a:lnTo>
                    <a:lnTo>
                      <a:pt x="683" y="184"/>
                    </a:lnTo>
                    <a:lnTo>
                      <a:pt x="691" y="199"/>
                    </a:lnTo>
                    <a:lnTo>
                      <a:pt x="699" y="216"/>
                    </a:lnTo>
                    <a:lnTo>
                      <a:pt x="707" y="233"/>
                    </a:lnTo>
                    <a:lnTo>
                      <a:pt x="713" y="251"/>
                    </a:lnTo>
                    <a:lnTo>
                      <a:pt x="719" y="268"/>
                    </a:lnTo>
                    <a:lnTo>
                      <a:pt x="723" y="287"/>
                    </a:lnTo>
                    <a:lnTo>
                      <a:pt x="728" y="305"/>
                    </a:lnTo>
                    <a:lnTo>
                      <a:pt x="731" y="323"/>
                    </a:lnTo>
                    <a:lnTo>
                      <a:pt x="733" y="342"/>
                    </a:lnTo>
                    <a:lnTo>
                      <a:pt x="735" y="361"/>
                    </a:lnTo>
                    <a:lnTo>
                      <a:pt x="735" y="382"/>
                    </a:lnTo>
                    <a:lnTo>
                      <a:pt x="735" y="401"/>
                    </a:lnTo>
                    <a:lnTo>
                      <a:pt x="733" y="420"/>
                    </a:lnTo>
                    <a:lnTo>
                      <a:pt x="731" y="439"/>
                    </a:lnTo>
                    <a:lnTo>
                      <a:pt x="728" y="459"/>
                    </a:lnTo>
                    <a:lnTo>
                      <a:pt x="723" y="477"/>
                    </a:lnTo>
                    <a:lnTo>
                      <a:pt x="719" y="495"/>
                    </a:lnTo>
                    <a:lnTo>
                      <a:pt x="713" y="513"/>
                    </a:lnTo>
                    <a:lnTo>
                      <a:pt x="707" y="529"/>
                    </a:lnTo>
                    <a:lnTo>
                      <a:pt x="699" y="546"/>
                    </a:lnTo>
                    <a:lnTo>
                      <a:pt x="691" y="563"/>
                    </a:lnTo>
                    <a:lnTo>
                      <a:pt x="683" y="578"/>
                    </a:lnTo>
                    <a:lnTo>
                      <a:pt x="673" y="594"/>
                    </a:lnTo>
                    <a:lnTo>
                      <a:pt x="662" y="610"/>
                    </a:lnTo>
                    <a:lnTo>
                      <a:pt x="651" y="624"/>
                    </a:lnTo>
                    <a:lnTo>
                      <a:pt x="639" y="637"/>
                    </a:lnTo>
                    <a:lnTo>
                      <a:pt x="627" y="650"/>
                    </a:lnTo>
                    <a:lnTo>
                      <a:pt x="614" y="664"/>
                    </a:lnTo>
                    <a:lnTo>
                      <a:pt x="601" y="676"/>
                    </a:lnTo>
                    <a:lnTo>
                      <a:pt x="588" y="686"/>
                    </a:lnTo>
                    <a:lnTo>
                      <a:pt x="573" y="697"/>
                    </a:lnTo>
                    <a:lnTo>
                      <a:pt x="558" y="708"/>
                    </a:lnTo>
                    <a:lnTo>
                      <a:pt x="542" y="716"/>
                    </a:lnTo>
                    <a:lnTo>
                      <a:pt x="527" y="725"/>
                    </a:lnTo>
                    <a:lnTo>
                      <a:pt x="511" y="733"/>
                    </a:lnTo>
                    <a:lnTo>
                      <a:pt x="494" y="739"/>
                    </a:lnTo>
                    <a:lnTo>
                      <a:pt x="477" y="745"/>
                    </a:lnTo>
                    <a:lnTo>
                      <a:pt x="459" y="751"/>
                    </a:lnTo>
                    <a:lnTo>
                      <a:pt x="441" y="755"/>
                    </a:lnTo>
                    <a:lnTo>
                      <a:pt x="423" y="758"/>
                    </a:lnTo>
                    <a:lnTo>
                      <a:pt x="405" y="761"/>
                    </a:lnTo>
                    <a:lnTo>
                      <a:pt x="386" y="762"/>
                    </a:lnTo>
                    <a:lnTo>
                      <a:pt x="368" y="763"/>
                    </a:lnTo>
                    <a:lnTo>
                      <a:pt x="349" y="762"/>
                    </a:lnTo>
                    <a:lnTo>
                      <a:pt x="330" y="761"/>
                    </a:lnTo>
                    <a:lnTo>
                      <a:pt x="312" y="758"/>
                    </a:lnTo>
                    <a:lnTo>
                      <a:pt x="294" y="755"/>
                    </a:lnTo>
                    <a:lnTo>
                      <a:pt x="276" y="751"/>
                    </a:lnTo>
                    <a:lnTo>
                      <a:pt x="259" y="745"/>
                    </a:lnTo>
                    <a:lnTo>
                      <a:pt x="241" y="739"/>
                    </a:lnTo>
                    <a:lnTo>
                      <a:pt x="224" y="733"/>
                    </a:lnTo>
                    <a:lnTo>
                      <a:pt x="209" y="725"/>
                    </a:lnTo>
                    <a:lnTo>
                      <a:pt x="193" y="716"/>
                    </a:lnTo>
                    <a:lnTo>
                      <a:pt x="177" y="708"/>
                    </a:lnTo>
                    <a:lnTo>
                      <a:pt x="162" y="697"/>
                    </a:lnTo>
                    <a:lnTo>
                      <a:pt x="147" y="686"/>
                    </a:lnTo>
                    <a:lnTo>
                      <a:pt x="134" y="676"/>
                    </a:lnTo>
                    <a:lnTo>
                      <a:pt x="121" y="664"/>
                    </a:lnTo>
                    <a:lnTo>
                      <a:pt x="108" y="650"/>
                    </a:lnTo>
                    <a:lnTo>
                      <a:pt x="96" y="637"/>
                    </a:lnTo>
                    <a:lnTo>
                      <a:pt x="84" y="624"/>
                    </a:lnTo>
                    <a:lnTo>
                      <a:pt x="73" y="610"/>
                    </a:lnTo>
                    <a:lnTo>
                      <a:pt x="63" y="594"/>
                    </a:lnTo>
                    <a:lnTo>
                      <a:pt x="54" y="578"/>
                    </a:lnTo>
                    <a:lnTo>
                      <a:pt x="44" y="563"/>
                    </a:lnTo>
                    <a:lnTo>
                      <a:pt x="36" y="546"/>
                    </a:lnTo>
                    <a:lnTo>
                      <a:pt x="29" y="529"/>
                    </a:lnTo>
                    <a:lnTo>
                      <a:pt x="23" y="513"/>
                    </a:lnTo>
                    <a:lnTo>
                      <a:pt x="17" y="495"/>
                    </a:lnTo>
                    <a:lnTo>
                      <a:pt x="12" y="477"/>
                    </a:lnTo>
                    <a:lnTo>
                      <a:pt x="7" y="459"/>
                    </a:lnTo>
                    <a:lnTo>
                      <a:pt x="5" y="439"/>
                    </a:lnTo>
                    <a:lnTo>
                      <a:pt x="2" y="420"/>
                    </a:lnTo>
                    <a:lnTo>
                      <a:pt x="1" y="401"/>
                    </a:lnTo>
                    <a:lnTo>
                      <a:pt x="0" y="382"/>
                    </a:lnTo>
                    <a:lnTo>
                      <a:pt x="1" y="361"/>
                    </a:lnTo>
                    <a:lnTo>
                      <a:pt x="2" y="342"/>
                    </a:lnTo>
                    <a:lnTo>
                      <a:pt x="5" y="323"/>
                    </a:lnTo>
                    <a:lnTo>
                      <a:pt x="7" y="305"/>
                    </a:lnTo>
                    <a:lnTo>
                      <a:pt x="12" y="287"/>
                    </a:lnTo>
                    <a:lnTo>
                      <a:pt x="17" y="268"/>
                    </a:lnTo>
                    <a:lnTo>
                      <a:pt x="23" y="251"/>
                    </a:lnTo>
                    <a:lnTo>
                      <a:pt x="29" y="233"/>
                    </a:lnTo>
                    <a:lnTo>
                      <a:pt x="36" y="216"/>
                    </a:lnTo>
                    <a:lnTo>
                      <a:pt x="44" y="199"/>
                    </a:lnTo>
                    <a:lnTo>
                      <a:pt x="54" y="184"/>
                    </a:lnTo>
                    <a:lnTo>
                      <a:pt x="63" y="168"/>
                    </a:lnTo>
                    <a:lnTo>
                      <a:pt x="73" y="154"/>
                    </a:lnTo>
                    <a:lnTo>
                      <a:pt x="84" y="139"/>
                    </a:lnTo>
                    <a:lnTo>
                      <a:pt x="96" y="125"/>
                    </a:lnTo>
                    <a:lnTo>
                      <a:pt x="108" y="112"/>
                    </a:lnTo>
                    <a:lnTo>
                      <a:pt x="121" y="100"/>
                    </a:lnTo>
                    <a:lnTo>
                      <a:pt x="134" y="88"/>
                    </a:lnTo>
                    <a:lnTo>
                      <a:pt x="147" y="76"/>
                    </a:lnTo>
                    <a:lnTo>
                      <a:pt x="162" y="65"/>
                    </a:lnTo>
                    <a:lnTo>
                      <a:pt x="177" y="55"/>
                    </a:lnTo>
                    <a:lnTo>
                      <a:pt x="193" y="46"/>
                    </a:lnTo>
                    <a:lnTo>
                      <a:pt x="209" y="37"/>
                    </a:lnTo>
                    <a:lnTo>
                      <a:pt x="224" y="30"/>
                    </a:lnTo>
                    <a:lnTo>
                      <a:pt x="241" y="23"/>
                    </a:lnTo>
                    <a:lnTo>
                      <a:pt x="259" y="17"/>
                    </a:lnTo>
                    <a:lnTo>
                      <a:pt x="276" y="12"/>
                    </a:lnTo>
                    <a:lnTo>
                      <a:pt x="294" y="7"/>
                    </a:lnTo>
                    <a:lnTo>
                      <a:pt x="312" y="5"/>
                    </a:lnTo>
                    <a:lnTo>
                      <a:pt x="330" y="3"/>
                    </a:lnTo>
                    <a:lnTo>
                      <a:pt x="349" y="0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9267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369880" y="3032280"/>
                <a:ext cx="154080" cy="158760"/>
              </a:xfrm>
              <a:custGeom>
                <a:avLst/>
                <a:gdLst/>
                <a:ahLst/>
                <a:rect l="l" t="t" r="r" b="b"/>
                <a:pathLst>
                  <a:path w="385" h="400">
                    <a:moveTo>
                      <a:pt x="385" y="400"/>
                    </a:moveTo>
                    <a:lnTo>
                      <a:pt x="385" y="400"/>
                    </a:lnTo>
                    <a:lnTo>
                      <a:pt x="384" y="379"/>
                    </a:lnTo>
                    <a:lnTo>
                      <a:pt x="383" y="359"/>
                    </a:lnTo>
                    <a:lnTo>
                      <a:pt x="381" y="339"/>
                    </a:lnTo>
                    <a:lnTo>
                      <a:pt x="377" y="319"/>
                    </a:lnTo>
                    <a:lnTo>
                      <a:pt x="372" y="300"/>
                    </a:lnTo>
                    <a:lnTo>
                      <a:pt x="367" y="281"/>
                    </a:lnTo>
                    <a:lnTo>
                      <a:pt x="361" y="263"/>
                    </a:lnTo>
                    <a:lnTo>
                      <a:pt x="354" y="245"/>
                    </a:lnTo>
                    <a:lnTo>
                      <a:pt x="347" y="227"/>
                    </a:lnTo>
                    <a:lnTo>
                      <a:pt x="339" y="210"/>
                    </a:lnTo>
                    <a:lnTo>
                      <a:pt x="329" y="193"/>
                    </a:lnTo>
                    <a:lnTo>
                      <a:pt x="319" y="177"/>
                    </a:lnTo>
                    <a:lnTo>
                      <a:pt x="309" y="161"/>
                    </a:lnTo>
                    <a:lnTo>
                      <a:pt x="297" y="147"/>
                    </a:lnTo>
                    <a:lnTo>
                      <a:pt x="285" y="132"/>
                    </a:lnTo>
                    <a:lnTo>
                      <a:pt x="273" y="118"/>
                    </a:lnTo>
                    <a:lnTo>
                      <a:pt x="258" y="105"/>
                    </a:lnTo>
                    <a:lnTo>
                      <a:pt x="245" y="93"/>
                    </a:lnTo>
                    <a:lnTo>
                      <a:pt x="231" y="81"/>
                    </a:lnTo>
                    <a:lnTo>
                      <a:pt x="215" y="69"/>
                    </a:lnTo>
                    <a:lnTo>
                      <a:pt x="199" y="59"/>
                    </a:lnTo>
                    <a:lnTo>
                      <a:pt x="184" y="49"/>
                    </a:lnTo>
                    <a:lnTo>
                      <a:pt x="167" y="40"/>
                    </a:lnTo>
                    <a:lnTo>
                      <a:pt x="150" y="33"/>
                    </a:lnTo>
                    <a:lnTo>
                      <a:pt x="132" y="25"/>
                    </a:lnTo>
                    <a:lnTo>
                      <a:pt x="114" y="18"/>
                    </a:lnTo>
                    <a:lnTo>
                      <a:pt x="96" y="13"/>
                    </a:lnTo>
                    <a:lnTo>
                      <a:pt x="77" y="9"/>
                    </a:lnTo>
                    <a:lnTo>
                      <a:pt x="58" y="5"/>
                    </a:lnTo>
                    <a:lnTo>
                      <a:pt x="39" y="3"/>
                    </a:lnTo>
                    <a:lnTo>
                      <a:pt x="19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8" y="36"/>
                    </a:lnTo>
                    <a:lnTo>
                      <a:pt x="35" y="37"/>
                    </a:lnTo>
                    <a:lnTo>
                      <a:pt x="53" y="40"/>
                    </a:lnTo>
                    <a:lnTo>
                      <a:pt x="70" y="43"/>
                    </a:lnTo>
                    <a:lnTo>
                      <a:pt x="87" y="47"/>
                    </a:lnTo>
                    <a:lnTo>
                      <a:pt x="103" y="52"/>
                    </a:lnTo>
                    <a:lnTo>
                      <a:pt x="120" y="58"/>
                    </a:lnTo>
                    <a:lnTo>
                      <a:pt x="136" y="64"/>
                    </a:lnTo>
                    <a:lnTo>
                      <a:pt x="151" y="71"/>
                    </a:lnTo>
                    <a:lnTo>
                      <a:pt x="166" y="79"/>
                    </a:lnTo>
                    <a:lnTo>
                      <a:pt x="181" y="88"/>
                    </a:lnTo>
                    <a:lnTo>
                      <a:pt x="195" y="97"/>
                    </a:lnTo>
                    <a:lnTo>
                      <a:pt x="209" y="108"/>
                    </a:lnTo>
                    <a:lnTo>
                      <a:pt x="222" y="119"/>
                    </a:lnTo>
                    <a:lnTo>
                      <a:pt x="235" y="130"/>
                    </a:lnTo>
                    <a:lnTo>
                      <a:pt x="247" y="142"/>
                    </a:lnTo>
                    <a:lnTo>
                      <a:pt x="258" y="155"/>
                    </a:lnTo>
                    <a:lnTo>
                      <a:pt x="270" y="168"/>
                    </a:lnTo>
                    <a:lnTo>
                      <a:pt x="280" y="181"/>
                    </a:lnTo>
                    <a:lnTo>
                      <a:pt x="289" y="196"/>
                    </a:lnTo>
                    <a:lnTo>
                      <a:pt x="299" y="210"/>
                    </a:lnTo>
                    <a:lnTo>
                      <a:pt x="307" y="226"/>
                    </a:lnTo>
                    <a:lnTo>
                      <a:pt x="316" y="241"/>
                    </a:lnTo>
                    <a:lnTo>
                      <a:pt x="323" y="258"/>
                    </a:lnTo>
                    <a:lnTo>
                      <a:pt x="329" y="274"/>
                    </a:lnTo>
                    <a:lnTo>
                      <a:pt x="334" y="292"/>
                    </a:lnTo>
                    <a:lnTo>
                      <a:pt x="339" y="309"/>
                    </a:lnTo>
                    <a:lnTo>
                      <a:pt x="343" y="327"/>
                    </a:lnTo>
                    <a:lnTo>
                      <a:pt x="346" y="345"/>
                    </a:lnTo>
                    <a:lnTo>
                      <a:pt x="348" y="363"/>
                    </a:lnTo>
                    <a:lnTo>
                      <a:pt x="349" y="381"/>
                    </a:lnTo>
                    <a:lnTo>
                      <a:pt x="351" y="400"/>
                    </a:lnTo>
                    <a:lnTo>
                      <a:pt x="351" y="400"/>
                    </a:lnTo>
                    <a:lnTo>
                      <a:pt x="385" y="40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369880" y="3191040"/>
                <a:ext cx="154080" cy="158760"/>
              </a:xfrm>
              <a:custGeom>
                <a:avLst/>
                <a:gdLst/>
                <a:ahLst/>
                <a:rect l="l" t="t" r="r" b="b"/>
                <a:pathLst>
                  <a:path w="385" h="398">
                    <a:moveTo>
                      <a:pt x="0" y="398"/>
                    </a:moveTo>
                    <a:lnTo>
                      <a:pt x="0" y="398"/>
                    </a:lnTo>
                    <a:lnTo>
                      <a:pt x="19" y="398"/>
                    </a:lnTo>
                    <a:lnTo>
                      <a:pt x="39" y="396"/>
                    </a:lnTo>
                    <a:lnTo>
                      <a:pt x="58" y="393"/>
                    </a:lnTo>
                    <a:lnTo>
                      <a:pt x="77" y="390"/>
                    </a:lnTo>
                    <a:lnTo>
                      <a:pt x="96" y="386"/>
                    </a:lnTo>
                    <a:lnTo>
                      <a:pt x="114" y="380"/>
                    </a:lnTo>
                    <a:lnTo>
                      <a:pt x="132" y="374"/>
                    </a:lnTo>
                    <a:lnTo>
                      <a:pt x="150" y="367"/>
                    </a:lnTo>
                    <a:lnTo>
                      <a:pt x="167" y="358"/>
                    </a:lnTo>
                    <a:lnTo>
                      <a:pt x="184" y="350"/>
                    </a:lnTo>
                    <a:lnTo>
                      <a:pt x="199" y="340"/>
                    </a:lnTo>
                    <a:lnTo>
                      <a:pt x="215" y="330"/>
                    </a:lnTo>
                    <a:lnTo>
                      <a:pt x="231" y="319"/>
                    </a:lnTo>
                    <a:lnTo>
                      <a:pt x="245" y="307"/>
                    </a:lnTo>
                    <a:lnTo>
                      <a:pt x="258" y="294"/>
                    </a:lnTo>
                    <a:lnTo>
                      <a:pt x="273" y="280"/>
                    </a:lnTo>
                    <a:lnTo>
                      <a:pt x="285" y="267"/>
                    </a:lnTo>
                    <a:lnTo>
                      <a:pt x="297" y="253"/>
                    </a:lnTo>
                    <a:lnTo>
                      <a:pt x="309" y="237"/>
                    </a:lnTo>
                    <a:lnTo>
                      <a:pt x="319" y="222"/>
                    </a:lnTo>
                    <a:lnTo>
                      <a:pt x="329" y="206"/>
                    </a:lnTo>
                    <a:lnTo>
                      <a:pt x="339" y="189"/>
                    </a:lnTo>
                    <a:lnTo>
                      <a:pt x="347" y="172"/>
                    </a:lnTo>
                    <a:lnTo>
                      <a:pt x="354" y="155"/>
                    </a:lnTo>
                    <a:lnTo>
                      <a:pt x="361" y="137"/>
                    </a:lnTo>
                    <a:lnTo>
                      <a:pt x="367" y="117"/>
                    </a:lnTo>
                    <a:lnTo>
                      <a:pt x="372" y="99"/>
                    </a:lnTo>
                    <a:lnTo>
                      <a:pt x="377" y="80"/>
                    </a:lnTo>
                    <a:lnTo>
                      <a:pt x="381" y="60"/>
                    </a:lnTo>
                    <a:lnTo>
                      <a:pt x="383" y="41"/>
                    </a:lnTo>
                    <a:lnTo>
                      <a:pt x="384" y="20"/>
                    </a:lnTo>
                    <a:lnTo>
                      <a:pt x="385" y="0"/>
                    </a:lnTo>
                    <a:lnTo>
                      <a:pt x="351" y="0"/>
                    </a:lnTo>
                    <a:lnTo>
                      <a:pt x="349" y="18"/>
                    </a:lnTo>
                    <a:lnTo>
                      <a:pt x="348" y="37"/>
                    </a:lnTo>
                    <a:lnTo>
                      <a:pt x="346" y="55"/>
                    </a:lnTo>
                    <a:lnTo>
                      <a:pt x="343" y="73"/>
                    </a:lnTo>
                    <a:lnTo>
                      <a:pt x="339" y="91"/>
                    </a:lnTo>
                    <a:lnTo>
                      <a:pt x="334" y="108"/>
                    </a:lnTo>
                    <a:lnTo>
                      <a:pt x="329" y="125"/>
                    </a:lnTo>
                    <a:lnTo>
                      <a:pt x="323" y="141"/>
                    </a:lnTo>
                    <a:lnTo>
                      <a:pt x="316" y="157"/>
                    </a:lnTo>
                    <a:lnTo>
                      <a:pt x="307" y="172"/>
                    </a:lnTo>
                    <a:lnTo>
                      <a:pt x="299" y="188"/>
                    </a:lnTo>
                    <a:lnTo>
                      <a:pt x="289" y="202"/>
                    </a:lnTo>
                    <a:lnTo>
                      <a:pt x="280" y="217"/>
                    </a:lnTo>
                    <a:lnTo>
                      <a:pt x="270" y="231"/>
                    </a:lnTo>
                    <a:lnTo>
                      <a:pt x="258" y="244"/>
                    </a:lnTo>
                    <a:lnTo>
                      <a:pt x="247" y="256"/>
                    </a:lnTo>
                    <a:lnTo>
                      <a:pt x="235" y="268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95" y="301"/>
                    </a:lnTo>
                    <a:lnTo>
                      <a:pt x="181" y="310"/>
                    </a:lnTo>
                    <a:lnTo>
                      <a:pt x="166" y="320"/>
                    </a:lnTo>
                    <a:lnTo>
                      <a:pt x="151" y="327"/>
                    </a:lnTo>
                    <a:lnTo>
                      <a:pt x="136" y="334"/>
                    </a:lnTo>
                    <a:lnTo>
                      <a:pt x="120" y="342"/>
                    </a:lnTo>
                    <a:lnTo>
                      <a:pt x="103" y="348"/>
                    </a:lnTo>
                    <a:lnTo>
                      <a:pt x="87" y="352"/>
                    </a:lnTo>
                    <a:lnTo>
                      <a:pt x="70" y="356"/>
                    </a:lnTo>
                    <a:lnTo>
                      <a:pt x="53" y="360"/>
                    </a:lnTo>
                    <a:lnTo>
                      <a:pt x="35" y="362"/>
                    </a:lnTo>
                    <a:lnTo>
                      <a:pt x="18" y="363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9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217600" y="3191040"/>
                <a:ext cx="152280" cy="158760"/>
              </a:xfrm>
              <a:custGeom>
                <a:avLst/>
                <a:gdLst/>
                <a:ahLst/>
                <a:rect l="l" t="t" r="r" b="b"/>
                <a:pathLst>
                  <a:path w="385" h="398">
                    <a:moveTo>
                      <a:pt x="0" y="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1" y="41"/>
                    </a:lnTo>
                    <a:lnTo>
                      <a:pt x="4" y="60"/>
                    </a:lnTo>
                    <a:lnTo>
                      <a:pt x="7" y="80"/>
                    </a:lnTo>
                    <a:lnTo>
                      <a:pt x="12" y="99"/>
                    </a:lnTo>
                    <a:lnTo>
                      <a:pt x="17" y="117"/>
                    </a:lnTo>
                    <a:lnTo>
                      <a:pt x="23" y="137"/>
                    </a:lnTo>
                    <a:lnTo>
                      <a:pt x="30" y="155"/>
                    </a:lnTo>
                    <a:lnTo>
                      <a:pt x="37" y="172"/>
                    </a:lnTo>
                    <a:lnTo>
                      <a:pt x="46" y="189"/>
                    </a:lnTo>
                    <a:lnTo>
                      <a:pt x="55" y="206"/>
                    </a:lnTo>
                    <a:lnTo>
                      <a:pt x="65" y="222"/>
                    </a:lnTo>
                    <a:lnTo>
                      <a:pt x="76" y="237"/>
                    </a:lnTo>
                    <a:lnTo>
                      <a:pt x="88" y="253"/>
                    </a:lnTo>
                    <a:lnTo>
                      <a:pt x="100" y="267"/>
                    </a:lnTo>
                    <a:lnTo>
                      <a:pt x="113" y="280"/>
                    </a:lnTo>
                    <a:lnTo>
                      <a:pt x="126" y="294"/>
                    </a:lnTo>
                    <a:lnTo>
                      <a:pt x="139" y="307"/>
                    </a:lnTo>
                    <a:lnTo>
                      <a:pt x="155" y="319"/>
                    </a:lnTo>
                    <a:lnTo>
                      <a:pt x="169" y="330"/>
                    </a:lnTo>
                    <a:lnTo>
                      <a:pt x="185" y="340"/>
                    </a:lnTo>
                    <a:lnTo>
                      <a:pt x="202" y="350"/>
                    </a:lnTo>
                    <a:lnTo>
                      <a:pt x="217" y="358"/>
                    </a:lnTo>
                    <a:lnTo>
                      <a:pt x="235" y="367"/>
                    </a:lnTo>
                    <a:lnTo>
                      <a:pt x="252" y="374"/>
                    </a:lnTo>
                    <a:lnTo>
                      <a:pt x="270" y="380"/>
                    </a:lnTo>
                    <a:lnTo>
                      <a:pt x="288" y="386"/>
                    </a:lnTo>
                    <a:lnTo>
                      <a:pt x="307" y="390"/>
                    </a:lnTo>
                    <a:lnTo>
                      <a:pt x="326" y="393"/>
                    </a:lnTo>
                    <a:lnTo>
                      <a:pt x="346" y="396"/>
                    </a:lnTo>
                    <a:lnTo>
                      <a:pt x="365" y="398"/>
                    </a:lnTo>
                    <a:lnTo>
                      <a:pt x="385" y="398"/>
                    </a:lnTo>
                    <a:lnTo>
                      <a:pt x="385" y="363"/>
                    </a:lnTo>
                    <a:lnTo>
                      <a:pt x="367" y="363"/>
                    </a:lnTo>
                    <a:lnTo>
                      <a:pt x="349" y="362"/>
                    </a:lnTo>
                    <a:lnTo>
                      <a:pt x="331" y="360"/>
                    </a:lnTo>
                    <a:lnTo>
                      <a:pt x="314" y="356"/>
                    </a:lnTo>
                    <a:lnTo>
                      <a:pt x="298" y="352"/>
                    </a:lnTo>
                    <a:lnTo>
                      <a:pt x="281" y="348"/>
                    </a:lnTo>
                    <a:lnTo>
                      <a:pt x="265" y="342"/>
                    </a:lnTo>
                    <a:lnTo>
                      <a:pt x="248" y="334"/>
                    </a:lnTo>
                    <a:lnTo>
                      <a:pt x="233" y="327"/>
                    </a:lnTo>
                    <a:lnTo>
                      <a:pt x="218" y="320"/>
                    </a:lnTo>
                    <a:lnTo>
                      <a:pt x="204" y="310"/>
                    </a:lnTo>
                    <a:lnTo>
                      <a:pt x="190" y="301"/>
                    </a:lnTo>
                    <a:lnTo>
                      <a:pt x="175" y="291"/>
                    </a:lnTo>
                    <a:lnTo>
                      <a:pt x="162" y="280"/>
                    </a:lnTo>
                    <a:lnTo>
                      <a:pt x="150" y="268"/>
                    </a:lnTo>
                    <a:lnTo>
                      <a:pt x="137" y="256"/>
                    </a:lnTo>
                    <a:lnTo>
                      <a:pt x="126" y="244"/>
                    </a:lnTo>
                    <a:lnTo>
                      <a:pt x="115" y="231"/>
                    </a:lnTo>
                    <a:lnTo>
                      <a:pt x="104" y="217"/>
                    </a:lnTo>
                    <a:lnTo>
                      <a:pt x="95" y="202"/>
                    </a:lnTo>
                    <a:lnTo>
                      <a:pt x="85" y="188"/>
                    </a:lnTo>
                    <a:lnTo>
                      <a:pt x="77" y="172"/>
                    </a:lnTo>
                    <a:lnTo>
                      <a:pt x="70" y="157"/>
                    </a:lnTo>
                    <a:lnTo>
                      <a:pt x="62" y="141"/>
                    </a:lnTo>
                    <a:lnTo>
                      <a:pt x="55" y="125"/>
                    </a:lnTo>
                    <a:lnTo>
                      <a:pt x="50" y="108"/>
                    </a:lnTo>
                    <a:lnTo>
                      <a:pt x="46" y="91"/>
                    </a:lnTo>
                    <a:lnTo>
                      <a:pt x="42" y="73"/>
                    </a:lnTo>
                    <a:lnTo>
                      <a:pt x="38" y="55"/>
                    </a:lnTo>
                    <a:lnTo>
                      <a:pt x="36" y="37"/>
                    </a:lnTo>
                    <a:lnTo>
                      <a:pt x="35" y="18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217600" y="3032280"/>
                <a:ext cx="152280" cy="158760"/>
              </a:xfrm>
              <a:custGeom>
                <a:avLst/>
                <a:gdLst/>
                <a:ahLst/>
                <a:rect l="l" t="t" r="r" b="b"/>
                <a:pathLst>
                  <a:path w="385" h="400">
                    <a:moveTo>
                      <a:pt x="385" y="0"/>
                    </a:moveTo>
                    <a:lnTo>
                      <a:pt x="385" y="0"/>
                    </a:lnTo>
                    <a:lnTo>
                      <a:pt x="365" y="1"/>
                    </a:lnTo>
                    <a:lnTo>
                      <a:pt x="346" y="3"/>
                    </a:lnTo>
                    <a:lnTo>
                      <a:pt x="326" y="5"/>
                    </a:lnTo>
                    <a:lnTo>
                      <a:pt x="307" y="9"/>
                    </a:lnTo>
                    <a:lnTo>
                      <a:pt x="288" y="13"/>
                    </a:lnTo>
                    <a:lnTo>
                      <a:pt x="270" y="18"/>
                    </a:lnTo>
                    <a:lnTo>
                      <a:pt x="252" y="25"/>
                    </a:lnTo>
                    <a:lnTo>
                      <a:pt x="235" y="33"/>
                    </a:lnTo>
                    <a:lnTo>
                      <a:pt x="217" y="40"/>
                    </a:lnTo>
                    <a:lnTo>
                      <a:pt x="202" y="49"/>
                    </a:lnTo>
                    <a:lnTo>
                      <a:pt x="185" y="59"/>
                    </a:lnTo>
                    <a:lnTo>
                      <a:pt x="169" y="69"/>
                    </a:lnTo>
                    <a:lnTo>
                      <a:pt x="155" y="81"/>
                    </a:lnTo>
                    <a:lnTo>
                      <a:pt x="139" y="93"/>
                    </a:lnTo>
                    <a:lnTo>
                      <a:pt x="126" y="105"/>
                    </a:lnTo>
                    <a:lnTo>
                      <a:pt x="113" y="118"/>
                    </a:lnTo>
                    <a:lnTo>
                      <a:pt x="100" y="132"/>
                    </a:lnTo>
                    <a:lnTo>
                      <a:pt x="88" y="147"/>
                    </a:lnTo>
                    <a:lnTo>
                      <a:pt x="76" y="161"/>
                    </a:lnTo>
                    <a:lnTo>
                      <a:pt x="65" y="177"/>
                    </a:lnTo>
                    <a:lnTo>
                      <a:pt x="55" y="193"/>
                    </a:lnTo>
                    <a:lnTo>
                      <a:pt x="46" y="210"/>
                    </a:lnTo>
                    <a:lnTo>
                      <a:pt x="37" y="227"/>
                    </a:lnTo>
                    <a:lnTo>
                      <a:pt x="30" y="245"/>
                    </a:lnTo>
                    <a:lnTo>
                      <a:pt x="23" y="263"/>
                    </a:lnTo>
                    <a:lnTo>
                      <a:pt x="17" y="281"/>
                    </a:lnTo>
                    <a:lnTo>
                      <a:pt x="12" y="300"/>
                    </a:lnTo>
                    <a:lnTo>
                      <a:pt x="7" y="319"/>
                    </a:lnTo>
                    <a:lnTo>
                      <a:pt x="4" y="339"/>
                    </a:lnTo>
                    <a:lnTo>
                      <a:pt x="1" y="359"/>
                    </a:lnTo>
                    <a:lnTo>
                      <a:pt x="0" y="379"/>
                    </a:lnTo>
                    <a:lnTo>
                      <a:pt x="0" y="400"/>
                    </a:lnTo>
                    <a:lnTo>
                      <a:pt x="35" y="400"/>
                    </a:lnTo>
                    <a:lnTo>
                      <a:pt x="35" y="381"/>
                    </a:lnTo>
                    <a:lnTo>
                      <a:pt x="36" y="363"/>
                    </a:lnTo>
                    <a:lnTo>
                      <a:pt x="38" y="345"/>
                    </a:lnTo>
                    <a:lnTo>
                      <a:pt x="42" y="327"/>
                    </a:lnTo>
                    <a:lnTo>
                      <a:pt x="46" y="309"/>
                    </a:lnTo>
                    <a:lnTo>
                      <a:pt x="50" y="292"/>
                    </a:lnTo>
                    <a:lnTo>
                      <a:pt x="55" y="274"/>
                    </a:lnTo>
                    <a:lnTo>
                      <a:pt x="62" y="258"/>
                    </a:lnTo>
                    <a:lnTo>
                      <a:pt x="70" y="241"/>
                    </a:lnTo>
                    <a:lnTo>
                      <a:pt x="77" y="226"/>
                    </a:lnTo>
                    <a:lnTo>
                      <a:pt x="85" y="210"/>
                    </a:lnTo>
                    <a:lnTo>
                      <a:pt x="95" y="196"/>
                    </a:lnTo>
                    <a:lnTo>
                      <a:pt x="104" y="181"/>
                    </a:lnTo>
                    <a:lnTo>
                      <a:pt x="115" y="168"/>
                    </a:lnTo>
                    <a:lnTo>
                      <a:pt x="126" y="155"/>
                    </a:lnTo>
                    <a:lnTo>
                      <a:pt x="137" y="142"/>
                    </a:lnTo>
                    <a:lnTo>
                      <a:pt x="150" y="130"/>
                    </a:lnTo>
                    <a:lnTo>
                      <a:pt x="162" y="119"/>
                    </a:lnTo>
                    <a:lnTo>
                      <a:pt x="175" y="108"/>
                    </a:lnTo>
                    <a:lnTo>
                      <a:pt x="190" y="97"/>
                    </a:lnTo>
                    <a:lnTo>
                      <a:pt x="204" y="88"/>
                    </a:lnTo>
                    <a:lnTo>
                      <a:pt x="218" y="79"/>
                    </a:lnTo>
                    <a:lnTo>
                      <a:pt x="233" y="71"/>
                    </a:lnTo>
                    <a:lnTo>
                      <a:pt x="248" y="64"/>
                    </a:lnTo>
                    <a:lnTo>
                      <a:pt x="265" y="58"/>
                    </a:lnTo>
                    <a:lnTo>
                      <a:pt x="281" y="52"/>
                    </a:lnTo>
                    <a:lnTo>
                      <a:pt x="298" y="47"/>
                    </a:lnTo>
                    <a:lnTo>
                      <a:pt x="314" y="43"/>
                    </a:lnTo>
                    <a:lnTo>
                      <a:pt x="331" y="40"/>
                    </a:lnTo>
                    <a:lnTo>
                      <a:pt x="349" y="37"/>
                    </a:lnTo>
                    <a:lnTo>
                      <a:pt x="367" y="36"/>
                    </a:lnTo>
                    <a:lnTo>
                      <a:pt x="385" y="35"/>
                    </a:lnTo>
                    <a:lnTo>
                      <a:pt x="385" y="35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198520" y="32338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52" y="50"/>
                    </a:moveTo>
                    <a:lnTo>
                      <a:pt x="52" y="50"/>
                    </a:lnTo>
                    <a:lnTo>
                      <a:pt x="51" y="41"/>
                    </a:lnTo>
                    <a:lnTo>
                      <a:pt x="47" y="31"/>
                    </a:lnTo>
                    <a:lnTo>
                      <a:pt x="42" y="23"/>
                    </a:lnTo>
                    <a:lnTo>
                      <a:pt x="36" y="14"/>
                    </a:lnTo>
                    <a:lnTo>
                      <a:pt x="29" y="8"/>
                    </a:lnTo>
                    <a:lnTo>
                      <a:pt x="19" y="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5"/>
                    </a:lnTo>
                    <a:lnTo>
                      <a:pt x="6" y="36"/>
                    </a:lnTo>
                    <a:lnTo>
                      <a:pt x="10" y="37"/>
                    </a:lnTo>
                    <a:lnTo>
                      <a:pt x="12" y="40"/>
                    </a:lnTo>
                    <a:lnTo>
                      <a:pt x="13" y="42"/>
                    </a:lnTo>
                    <a:lnTo>
                      <a:pt x="16" y="44"/>
                    </a:lnTo>
                    <a:lnTo>
                      <a:pt x="17" y="48"/>
                    </a:lnTo>
                    <a:lnTo>
                      <a:pt x="17" y="50"/>
                    </a:lnTo>
                    <a:lnTo>
                      <a:pt x="17" y="50"/>
                    </a:lnTo>
                    <a:lnTo>
                      <a:pt x="52" y="5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198520" y="32544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52"/>
                    </a:moveTo>
                    <a:lnTo>
                      <a:pt x="0" y="52"/>
                    </a:lnTo>
                    <a:lnTo>
                      <a:pt x="10" y="51"/>
                    </a:lnTo>
                    <a:lnTo>
                      <a:pt x="19" y="48"/>
                    </a:lnTo>
                    <a:lnTo>
                      <a:pt x="29" y="43"/>
                    </a:lnTo>
                    <a:lnTo>
                      <a:pt x="36" y="37"/>
                    </a:lnTo>
                    <a:lnTo>
                      <a:pt x="42" y="29"/>
                    </a:lnTo>
                    <a:lnTo>
                      <a:pt x="47" y="21"/>
                    </a:lnTo>
                    <a:lnTo>
                      <a:pt x="51" y="11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6" y="7"/>
                    </a:lnTo>
                    <a:lnTo>
                      <a:pt x="13" y="10"/>
                    </a:lnTo>
                    <a:lnTo>
                      <a:pt x="12" y="12"/>
                    </a:lnTo>
                    <a:lnTo>
                      <a:pt x="10" y="15"/>
                    </a:lnTo>
                    <a:lnTo>
                      <a:pt x="6" y="16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178000" y="32544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3" y="21"/>
                    </a:lnTo>
                    <a:lnTo>
                      <a:pt x="8" y="29"/>
                    </a:lnTo>
                    <a:lnTo>
                      <a:pt x="15" y="37"/>
                    </a:lnTo>
                    <a:lnTo>
                      <a:pt x="22" y="43"/>
                    </a:lnTo>
                    <a:lnTo>
                      <a:pt x="31" y="48"/>
                    </a:lnTo>
                    <a:lnTo>
                      <a:pt x="40" y="51"/>
                    </a:lnTo>
                    <a:lnTo>
                      <a:pt x="51" y="52"/>
                    </a:lnTo>
                    <a:lnTo>
                      <a:pt x="51" y="17"/>
                    </a:lnTo>
                    <a:lnTo>
                      <a:pt x="48" y="17"/>
                    </a:lnTo>
                    <a:lnTo>
                      <a:pt x="44" y="16"/>
                    </a:lnTo>
                    <a:lnTo>
                      <a:pt x="42" y="15"/>
                    </a:lnTo>
                    <a:lnTo>
                      <a:pt x="39" y="12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178000" y="32338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0"/>
                    </a:moveTo>
                    <a:lnTo>
                      <a:pt x="51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8" y="23"/>
                    </a:lnTo>
                    <a:lnTo>
                      <a:pt x="3" y="31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34" y="50"/>
                    </a:lnTo>
                    <a:lnTo>
                      <a:pt x="34" y="48"/>
                    </a:lnTo>
                    <a:lnTo>
                      <a:pt x="36" y="44"/>
                    </a:lnTo>
                    <a:lnTo>
                      <a:pt x="37" y="42"/>
                    </a:lnTo>
                    <a:lnTo>
                      <a:pt x="39" y="40"/>
                    </a:lnTo>
                    <a:lnTo>
                      <a:pt x="42" y="37"/>
                    </a:lnTo>
                    <a:lnTo>
                      <a:pt x="44" y="36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171520" y="31939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52"/>
                    </a:moveTo>
                    <a:lnTo>
                      <a:pt x="51" y="52"/>
                    </a:lnTo>
                    <a:lnTo>
                      <a:pt x="50" y="41"/>
                    </a:lnTo>
                    <a:lnTo>
                      <a:pt x="46" y="31"/>
                    </a:lnTo>
                    <a:lnTo>
                      <a:pt x="43" y="23"/>
                    </a:lnTo>
                    <a:lnTo>
                      <a:pt x="36" y="16"/>
                    </a:lnTo>
                    <a:lnTo>
                      <a:pt x="28" y="10"/>
                    </a:lnTo>
                    <a:lnTo>
                      <a:pt x="20" y="5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6" y="36"/>
                    </a:lnTo>
                    <a:lnTo>
                      <a:pt x="9" y="39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5" y="46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51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171520" y="32148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51"/>
                    </a:moveTo>
                    <a:lnTo>
                      <a:pt x="0" y="51"/>
                    </a:lnTo>
                    <a:lnTo>
                      <a:pt x="10" y="50"/>
                    </a:lnTo>
                    <a:lnTo>
                      <a:pt x="20" y="48"/>
                    </a:lnTo>
                    <a:lnTo>
                      <a:pt x="28" y="43"/>
                    </a:lnTo>
                    <a:lnTo>
                      <a:pt x="36" y="36"/>
                    </a:lnTo>
                    <a:lnTo>
                      <a:pt x="43" y="29"/>
                    </a:lnTo>
                    <a:lnTo>
                      <a:pt x="46" y="20"/>
                    </a:lnTo>
                    <a:lnTo>
                      <a:pt x="50" y="11"/>
                    </a:lnTo>
                    <a:lnTo>
                      <a:pt x="51" y="0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5" y="6"/>
                    </a:lnTo>
                    <a:lnTo>
                      <a:pt x="14" y="9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151000" y="32148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5" y="20"/>
                    </a:lnTo>
                    <a:lnTo>
                      <a:pt x="8" y="29"/>
                    </a:lnTo>
                    <a:lnTo>
                      <a:pt x="16" y="36"/>
                    </a:lnTo>
                    <a:lnTo>
                      <a:pt x="23" y="43"/>
                    </a:lnTo>
                    <a:lnTo>
                      <a:pt x="31" y="48"/>
                    </a:lnTo>
                    <a:lnTo>
                      <a:pt x="41" y="50"/>
                    </a:lnTo>
                    <a:lnTo>
                      <a:pt x="52" y="51"/>
                    </a:lnTo>
                    <a:lnTo>
                      <a:pt x="52" y="17"/>
                    </a:lnTo>
                    <a:lnTo>
                      <a:pt x="48" y="17"/>
                    </a:lnTo>
                    <a:lnTo>
                      <a:pt x="46" y="15"/>
                    </a:lnTo>
                    <a:lnTo>
                      <a:pt x="42" y="14"/>
                    </a:lnTo>
                    <a:lnTo>
                      <a:pt x="40" y="12"/>
                    </a:lnTo>
                    <a:lnTo>
                      <a:pt x="37" y="9"/>
                    </a:lnTo>
                    <a:lnTo>
                      <a:pt x="36" y="6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151000" y="31939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52" y="0"/>
                    </a:lnTo>
                    <a:lnTo>
                      <a:pt x="41" y="1"/>
                    </a:lnTo>
                    <a:lnTo>
                      <a:pt x="31" y="5"/>
                    </a:lnTo>
                    <a:lnTo>
                      <a:pt x="23" y="10"/>
                    </a:lnTo>
                    <a:lnTo>
                      <a:pt x="16" y="16"/>
                    </a:lnTo>
                    <a:lnTo>
                      <a:pt x="8" y="23"/>
                    </a:lnTo>
                    <a:lnTo>
                      <a:pt x="5" y="31"/>
                    </a:lnTo>
                    <a:lnTo>
                      <a:pt x="1" y="42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7" y="42"/>
                    </a:lnTo>
                    <a:lnTo>
                      <a:pt x="40" y="40"/>
                    </a:lnTo>
                    <a:lnTo>
                      <a:pt x="42" y="39"/>
                    </a:lnTo>
                    <a:lnTo>
                      <a:pt x="46" y="36"/>
                    </a:lnTo>
                    <a:lnTo>
                      <a:pt x="48" y="35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198520" y="31510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52"/>
                    </a:moveTo>
                    <a:lnTo>
                      <a:pt x="51" y="52"/>
                    </a:lnTo>
                    <a:lnTo>
                      <a:pt x="50" y="41"/>
                    </a:lnTo>
                    <a:lnTo>
                      <a:pt x="48" y="31"/>
                    </a:lnTo>
                    <a:lnTo>
                      <a:pt x="43" y="23"/>
                    </a:lnTo>
                    <a:lnTo>
                      <a:pt x="37" y="16"/>
                    </a:lnTo>
                    <a:lnTo>
                      <a:pt x="29" y="9"/>
                    </a:lnTo>
                    <a:lnTo>
                      <a:pt x="20" y="4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7" y="36"/>
                    </a:lnTo>
                    <a:lnTo>
                      <a:pt x="9" y="37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5" y="46"/>
                    </a:lnTo>
                    <a:lnTo>
                      <a:pt x="17" y="48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1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198520" y="31719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51"/>
                    </a:moveTo>
                    <a:lnTo>
                      <a:pt x="0" y="51"/>
                    </a:lnTo>
                    <a:lnTo>
                      <a:pt x="11" y="50"/>
                    </a:lnTo>
                    <a:lnTo>
                      <a:pt x="20" y="47"/>
                    </a:lnTo>
                    <a:lnTo>
                      <a:pt x="29" y="42"/>
                    </a:lnTo>
                    <a:lnTo>
                      <a:pt x="37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50" y="9"/>
                    </a:lnTo>
                    <a:lnTo>
                      <a:pt x="51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5" y="6"/>
                    </a:lnTo>
                    <a:lnTo>
                      <a:pt x="14" y="9"/>
                    </a:lnTo>
                    <a:lnTo>
                      <a:pt x="12" y="12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178000" y="31719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0" y="0"/>
                    </a:lnTo>
                    <a:lnTo>
                      <a:pt x="2" y="9"/>
                    </a:lnTo>
                    <a:lnTo>
                      <a:pt x="4" y="20"/>
                    </a:lnTo>
                    <a:lnTo>
                      <a:pt x="9" y="29"/>
                    </a:lnTo>
                    <a:lnTo>
                      <a:pt x="15" y="36"/>
                    </a:lnTo>
                    <a:lnTo>
                      <a:pt x="23" y="42"/>
                    </a:lnTo>
                    <a:lnTo>
                      <a:pt x="32" y="47"/>
                    </a:lnTo>
                    <a:lnTo>
                      <a:pt x="41" y="50"/>
                    </a:lnTo>
                    <a:lnTo>
                      <a:pt x="51" y="51"/>
                    </a:lnTo>
                    <a:lnTo>
                      <a:pt x="51" y="17"/>
                    </a:lnTo>
                    <a:lnTo>
                      <a:pt x="48" y="17"/>
                    </a:lnTo>
                    <a:lnTo>
                      <a:pt x="45" y="15"/>
                    </a:lnTo>
                    <a:lnTo>
                      <a:pt x="42" y="13"/>
                    </a:lnTo>
                    <a:lnTo>
                      <a:pt x="40" y="12"/>
                    </a:lnTo>
                    <a:lnTo>
                      <a:pt x="38" y="9"/>
                    </a:lnTo>
                    <a:lnTo>
                      <a:pt x="36" y="6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178000" y="31510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0"/>
                    </a:moveTo>
                    <a:lnTo>
                      <a:pt x="51" y="0"/>
                    </a:lnTo>
                    <a:lnTo>
                      <a:pt x="41" y="1"/>
                    </a:lnTo>
                    <a:lnTo>
                      <a:pt x="32" y="4"/>
                    </a:lnTo>
                    <a:lnTo>
                      <a:pt x="23" y="9"/>
                    </a:lnTo>
                    <a:lnTo>
                      <a:pt x="15" y="16"/>
                    </a:lnTo>
                    <a:lnTo>
                      <a:pt x="9" y="23"/>
                    </a:lnTo>
                    <a:lnTo>
                      <a:pt x="4" y="31"/>
                    </a:lnTo>
                    <a:lnTo>
                      <a:pt x="2" y="41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8" y="42"/>
                    </a:lnTo>
                    <a:lnTo>
                      <a:pt x="40" y="40"/>
                    </a:lnTo>
                    <a:lnTo>
                      <a:pt x="42" y="37"/>
                    </a:lnTo>
                    <a:lnTo>
                      <a:pt x="45" y="36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160360" y="31338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50"/>
                    </a:moveTo>
                    <a:lnTo>
                      <a:pt x="51" y="50"/>
                    </a:lnTo>
                    <a:lnTo>
                      <a:pt x="50" y="40"/>
                    </a:lnTo>
                    <a:lnTo>
                      <a:pt x="48" y="31"/>
                    </a:lnTo>
                    <a:lnTo>
                      <a:pt x="43" y="21"/>
                    </a:lnTo>
                    <a:lnTo>
                      <a:pt x="36" y="14"/>
                    </a:lnTo>
                    <a:lnTo>
                      <a:pt x="29" y="8"/>
                    </a:lnTo>
                    <a:lnTo>
                      <a:pt x="20" y="3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3" y="34"/>
                    </a:lnTo>
                    <a:lnTo>
                      <a:pt x="7" y="36"/>
                    </a:lnTo>
                    <a:lnTo>
                      <a:pt x="9" y="37"/>
                    </a:lnTo>
                    <a:lnTo>
                      <a:pt x="12" y="39"/>
                    </a:lnTo>
                    <a:lnTo>
                      <a:pt x="14" y="42"/>
                    </a:lnTo>
                    <a:lnTo>
                      <a:pt x="15" y="44"/>
                    </a:lnTo>
                    <a:lnTo>
                      <a:pt x="17" y="48"/>
                    </a:lnTo>
                    <a:lnTo>
                      <a:pt x="17" y="50"/>
                    </a:lnTo>
                    <a:lnTo>
                      <a:pt x="17" y="50"/>
                    </a:lnTo>
                    <a:lnTo>
                      <a:pt x="51" y="5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160360" y="31528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52"/>
                    </a:moveTo>
                    <a:lnTo>
                      <a:pt x="0" y="52"/>
                    </a:lnTo>
                    <a:lnTo>
                      <a:pt x="11" y="50"/>
                    </a:lnTo>
                    <a:lnTo>
                      <a:pt x="20" y="48"/>
                    </a:lnTo>
                    <a:lnTo>
                      <a:pt x="29" y="43"/>
                    </a:lnTo>
                    <a:lnTo>
                      <a:pt x="36" y="37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50" y="11"/>
                    </a:lnTo>
                    <a:lnTo>
                      <a:pt x="51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5" y="7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139840" y="31528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5" y="20"/>
                    </a:lnTo>
                    <a:lnTo>
                      <a:pt x="10" y="29"/>
                    </a:lnTo>
                    <a:lnTo>
                      <a:pt x="16" y="37"/>
                    </a:lnTo>
                    <a:lnTo>
                      <a:pt x="23" y="43"/>
                    </a:lnTo>
                    <a:lnTo>
                      <a:pt x="33" y="48"/>
                    </a:lnTo>
                    <a:lnTo>
                      <a:pt x="42" y="50"/>
                    </a:lnTo>
                    <a:lnTo>
                      <a:pt x="52" y="52"/>
                    </a:lnTo>
                    <a:lnTo>
                      <a:pt x="52" y="17"/>
                    </a:lnTo>
                    <a:lnTo>
                      <a:pt x="48" y="17"/>
                    </a:lnTo>
                    <a:lnTo>
                      <a:pt x="46" y="16"/>
                    </a:lnTo>
                    <a:lnTo>
                      <a:pt x="42" y="14"/>
                    </a:lnTo>
                    <a:lnTo>
                      <a:pt x="40" y="12"/>
                    </a:lnTo>
                    <a:lnTo>
                      <a:pt x="39" y="10"/>
                    </a:lnTo>
                    <a:lnTo>
                      <a:pt x="36" y="7"/>
                    </a:lnTo>
                    <a:lnTo>
                      <a:pt x="36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139840" y="31338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52" y="0"/>
                    </a:moveTo>
                    <a:lnTo>
                      <a:pt x="52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23" y="8"/>
                    </a:lnTo>
                    <a:lnTo>
                      <a:pt x="16" y="14"/>
                    </a:lnTo>
                    <a:lnTo>
                      <a:pt x="10" y="21"/>
                    </a:lnTo>
                    <a:lnTo>
                      <a:pt x="5" y="31"/>
                    </a:lnTo>
                    <a:lnTo>
                      <a:pt x="1" y="40"/>
                    </a:lnTo>
                    <a:lnTo>
                      <a:pt x="0" y="50"/>
                    </a:lnTo>
                    <a:lnTo>
                      <a:pt x="35" y="50"/>
                    </a:lnTo>
                    <a:lnTo>
                      <a:pt x="36" y="48"/>
                    </a:lnTo>
                    <a:lnTo>
                      <a:pt x="36" y="44"/>
                    </a:lnTo>
                    <a:lnTo>
                      <a:pt x="39" y="42"/>
                    </a:lnTo>
                    <a:lnTo>
                      <a:pt x="40" y="39"/>
                    </a:lnTo>
                    <a:lnTo>
                      <a:pt x="42" y="37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171520" y="30780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52"/>
                    </a:moveTo>
                    <a:lnTo>
                      <a:pt x="51" y="52"/>
                    </a:lnTo>
                    <a:lnTo>
                      <a:pt x="50" y="42"/>
                    </a:lnTo>
                    <a:lnTo>
                      <a:pt x="48" y="32"/>
                    </a:lnTo>
                    <a:lnTo>
                      <a:pt x="43" y="23"/>
                    </a:lnTo>
                    <a:lnTo>
                      <a:pt x="37" y="16"/>
                    </a:lnTo>
                    <a:lnTo>
                      <a:pt x="29" y="10"/>
                    </a:lnTo>
                    <a:lnTo>
                      <a:pt x="20" y="5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" y="36"/>
                    </a:lnTo>
                    <a:lnTo>
                      <a:pt x="7" y="37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3"/>
                    </a:lnTo>
                    <a:lnTo>
                      <a:pt x="15" y="46"/>
                    </a:lnTo>
                    <a:lnTo>
                      <a:pt x="17" y="49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1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171520" y="30970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51"/>
                    </a:moveTo>
                    <a:lnTo>
                      <a:pt x="0" y="51"/>
                    </a:lnTo>
                    <a:lnTo>
                      <a:pt x="11" y="50"/>
                    </a:lnTo>
                    <a:lnTo>
                      <a:pt x="20" y="48"/>
                    </a:lnTo>
                    <a:lnTo>
                      <a:pt x="29" y="43"/>
                    </a:lnTo>
                    <a:lnTo>
                      <a:pt x="37" y="37"/>
                    </a:lnTo>
                    <a:lnTo>
                      <a:pt x="43" y="28"/>
                    </a:lnTo>
                    <a:lnTo>
                      <a:pt x="48" y="20"/>
                    </a:lnTo>
                    <a:lnTo>
                      <a:pt x="50" y="10"/>
                    </a:lnTo>
                    <a:lnTo>
                      <a:pt x="51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5" y="7"/>
                    </a:lnTo>
                    <a:lnTo>
                      <a:pt x="14" y="9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151000" y="30970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10"/>
                    </a:lnTo>
                    <a:lnTo>
                      <a:pt x="5" y="20"/>
                    </a:lnTo>
                    <a:lnTo>
                      <a:pt x="10" y="28"/>
                    </a:lnTo>
                    <a:lnTo>
                      <a:pt x="16" y="37"/>
                    </a:lnTo>
                    <a:lnTo>
                      <a:pt x="23" y="43"/>
                    </a:lnTo>
                    <a:lnTo>
                      <a:pt x="33" y="48"/>
                    </a:lnTo>
                    <a:lnTo>
                      <a:pt x="42" y="50"/>
                    </a:lnTo>
                    <a:lnTo>
                      <a:pt x="52" y="51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3" y="14"/>
                    </a:lnTo>
                    <a:lnTo>
                      <a:pt x="40" y="12"/>
                    </a:lnTo>
                    <a:lnTo>
                      <a:pt x="39" y="9"/>
                    </a:lnTo>
                    <a:lnTo>
                      <a:pt x="36" y="7"/>
                    </a:lnTo>
                    <a:lnTo>
                      <a:pt x="36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151000" y="30780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52" y="0"/>
                    </a:lnTo>
                    <a:lnTo>
                      <a:pt x="42" y="1"/>
                    </a:lnTo>
                    <a:lnTo>
                      <a:pt x="33" y="5"/>
                    </a:lnTo>
                    <a:lnTo>
                      <a:pt x="23" y="10"/>
                    </a:lnTo>
                    <a:lnTo>
                      <a:pt x="16" y="16"/>
                    </a:lnTo>
                    <a:lnTo>
                      <a:pt x="10" y="23"/>
                    </a:lnTo>
                    <a:lnTo>
                      <a:pt x="5" y="32"/>
                    </a:lnTo>
                    <a:lnTo>
                      <a:pt x="1" y="42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6" y="48"/>
                    </a:lnTo>
                    <a:lnTo>
                      <a:pt x="36" y="46"/>
                    </a:lnTo>
                    <a:lnTo>
                      <a:pt x="39" y="43"/>
                    </a:lnTo>
                    <a:lnTo>
                      <a:pt x="40" y="41"/>
                    </a:lnTo>
                    <a:lnTo>
                      <a:pt x="43" y="38"/>
                    </a:lnTo>
                    <a:lnTo>
                      <a:pt x="46" y="37"/>
                    </a:lnTo>
                    <a:lnTo>
                      <a:pt x="48" y="36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208240" y="30970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2"/>
                    </a:moveTo>
                    <a:lnTo>
                      <a:pt x="52" y="52"/>
                    </a:lnTo>
                    <a:lnTo>
                      <a:pt x="51" y="42"/>
                    </a:lnTo>
                    <a:lnTo>
                      <a:pt x="47" y="32"/>
                    </a:lnTo>
                    <a:lnTo>
                      <a:pt x="42" y="23"/>
                    </a:lnTo>
                    <a:lnTo>
                      <a:pt x="36" y="16"/>
                    </a:lnTo>
                    <a:lnTo>
                      <a:pt x="29" y="10"/>
                    </a:lnTo>
                    <a:lnTo>
                      <a:pt x="21" y="5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6"/>
                    </a:lnTo>
                    <a:lnTo>
                      <a:pt x="6" y="36"/>
                    </a:lnTo>
                    <a:lnTo>
                      <a:pt x="10" y="38"/>
                    </a:lnTo>
                    <a:lnTo>
                      <a:pt x="12" y="40"/>
                    </a:lnTo>
                    <a:lnTo>
                      <a:pt x="13" y="43"/>
                    </a:lnTo>
                    <a:lnTo>
                      <a:pt x="16" y="46"/>
                    </a:lnTo>
                    <a:lnTo>
                      <a:pt x="17" y="48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2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208240" y="311616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51"/>
                    </a:moveTo>
                    <a:lnTo>
                      <a:pt x="0" y="51"/>
                    </a:lnTo>
                    <a:lnTo>
                      <a:pt x="10" y="50"/>
                    </a:lnTo>
                    <a:lnTo>
                      <a:pt x="21" y="48"/>
                    </a:lnTo>
                    <a:lnTo>
                      <a:pt x="29" y="43"/>
                    </a:lnTo>
                    <a:lnTo>
                      <a:pt x="36" y="37"/>
                    </a:lnTo>
                    <a:lnTo>
                      <a:pt x="42" y="28"/>
                    </a:lnTo>
                    <a:lnTo>
                      <a:pt x="47" y="20"/>
                    </a:lnTo>
                    <a:lnTo>
                      <a:pt x="51" y="10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187360" y="31161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10"/>
                    </a:lnTo>
                    <a:lnTo>
                      <a:pt x="4" y="20"/>
                    </a:lnTo>
                    <a:lnTo>
                      <a:pt x="8" y="28"/>
                    </a:lnTo>
                    <a:lnTo>
                      <a:pt x="15" y="37"/>
                    </a:lnTo>
                    <a:lnTo>
                      <a:pt x="22" y="43"/>
                    </a:lnTo>
                    <a:lnTo>
                      <a:pt x="31" y="48"/>
                    </a:lnTo>
                    <a:lnTo>
                      <a:pt x="40" y="50"/>
                    </a:lnTo>
                    <a:lnTo>
                      <a:pt x="51" y="51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5" y="15"/>
                    </a:lnTo>
                    <a:lnTo>
                      <a:pt x="42" y="14"/>
                    </a:lnTo>
                    <a:lnTo>
                      <a:pt x="39" y="12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187360" y="30970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0"/>
                    </a:moveTo>
                    <a:lnTo>
                      <a:pt x="51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0"/>
                    </a:lnTo>
                    <a:lnTo>
                      <a:pt x="15" y="16"/>
                    </a:lnTo>
                    <a:lnTo>
                      <a:pt x="8" y="23"/>
                    </a:lnTo>
                    <a:lnTo>
                      <a:pt x="4" y="32"/>
                    </a:lnTo>
                    <a:lnTo>
                      <a:pt x="1" y="42"/>
                    </a:lnTo>
                    <a:lnTo>
                      <a:pt x="0" y="52"/>
                    </a:lnTo>
                    <a:lnTo>
                      <a:pt x="34" y="52"/>
                    </a:lnTo>
                    <a:lnTo>
                      <a:pt x="34" y="48"/>
                    </a:lnTo>
                    <a:lnTo>
                      <a:pt x="36" y="46"/>
                    </a:lnTo>
                    <a:lnTo>
                      <a:pt x="37" y="43"/>
                    </a:lnTo>
                    <a:lnTo>
                      <a:pt x="39" y="40"/>
                    </a:lnTo>
                    <a:lnTo>
                      <a:pt x="42" y="38"/>
                    </a:lnTo>
                    <a:lnTo>
                      <a:pt x="45" y="36"/>
                    </a:lnTo>
                    <a:lnTo>
                      <a:pt x="48" y="36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201760" y="30402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52"/>
                    </a:moveTo>
                    <a:lnTo>
                      <a:pt x="51" y="52"/>
                    </a:lnTo>
                    <a:lnTo>
                      <a:pt x="50" y="41"/>
                    </a:lnTo>
                    <a:lnTo>
                      <a:pt x="46" y="31"/>
                    </a:lnTo>
                    <a:lnTo>
                      <a:pt x="42" y="23"/>
                    </a:lnTo>
                    <a:lnTo>
                      <a:pt x="36" y="16"/>
                    </a:lnTo>
                    <a:lnTo>
                      <a:pt x="28" y="10"/>
                    </a:lnTo>
                    <a:lnTo>
                      <a:pt x="20" y="5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6" y="36"/>
                    </a:lnTo>
                    <a:lnTo>
                      <a:pt x="9" y="39"/>
                    </a:lnTo>
                    <a:lnTo>
                      <a:pt x="12" y="40"/>
                    </a:lnTo>
                    <a:lnTo>
                      <a:pt x="13" y="42"/>
                    </a:lnTo>
                    <a:lnTo>
                      <a:pt x="15" y="46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51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201760" y="30607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51"/>
                    </a:moveTo>
                    <a:lnTo>
                      <a:pt x="0" y="51"/>
                    </a:lnTo>
                    <a:lnTo>
                      <a:pt x="9" y="50"/>
                    </a:lnTo>
                    <a:lnTo>
                      <a:pt x="20" y="47"/>
                    </a:lnTo>
                    <a:lnTo>
                      <a:pt x="28" y="43"/>
                    </a:lnTo>
                    <a:lnTo>
                      <a:pt x="36" y="36"/>
                    </a:lnTo>
                    <a:lnTo>
                      <a:pt x="42" y="29"/>
                    </a:lnTo>
                    <a:lnTo>
                      <a:pt x="46" y="20"/>
                    </a:lnTo>
                    <a:lnTo>
                      <a:pt x="50" y="11"/>
                    </a:lnTo>
                    <a:lnTo>
                      <a:pt x="51" y="0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5" y="6"/>
                    </a:lnTo>
                    <a:lnTo>
                      <a:pt x="13" y="9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182680" y="30607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4" y="20"/>
                    </a:lnTo>
                    <a:lnTo>
                      <a:pt x="8" y="29"/>
                    </a:lnTo>
                    <a:lnTo>
                      <a:pt x="16" y="36"/>
                    </a:lnTo>
                    <a:lnTo>
                      <a:pt x="23" y="43"/>
                    </a:lnTo>
                    <a:lnTo>
                      <a:pt x="31" y="47"/>
                    </a:lnTo>
                    <a:lnTo>
                      <a:pt x="41" y="50"/>
                    </a:lnTo>
                    <a:lnTo>
                      <a:pt x="52" y="51"/>
                    </a:lnTo>
                    <a:lnTo>
                      <a:pt x="52" y="17"/>
                    </a:lnTo>
                    <a:lnTo>
                      <a:pt x="48" y="17"/>
                    </a:lnTo>
                    <a:lnTo>
                      <a:pt x="46" y="15"/>
                    </a:lnTo>
                    <a:lnTo>
                      <a:pt x="42" y="14"/>
                    </a:lnTo>
                    <a:lnTo>
                      <a:pt x="40" y="12"/>
                    </a:lnTo>
                    <a:lnTo>
                      <a:pt x="37" y="9"/>
                    </a:lnTo>
                    <a:lnTo>
                      <a:pt x="36" y="6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182680" y="30402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52" y="0"/>
                    </a:lnTo>
                    <a:lnTo>
                      <a:pt x="41" y="1"/>
                    </a:lnTo>
                    <a:lnTo>
                      <a:pt x="31" y="5"/>
                    </a:lnTo>
                    <a:lnTo>
                      <a:pt x="23" y="10"/>
                    </a:lnTo>
                    <a:lnTo>
                      <a:pt x="16" y="16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7" y="42"/>
                    </a:lnTo>
                    <a:lnTo>
                      <a:pt x="40" y="40"/>
                    </a:lnTo>
                    <a:lnTo>
                      <a:pt x="42" y="39"/>
                    </a:lnTo>
                    <a:lnTo>
                      <a:pt x="46" y="36"/>
                    </a:lnTo>
                    <a:lnTo>
                      <a:pt x="48" y="35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244600" y="30495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1" y="51"/>
                    </a:moveTo>
                    <a:lnTo>
                      <a:pt x="51" y="51"/>
                    </a:lnTo>
                    <a:lnTo>
                      <a:pt x="50" y="40"/>
                    </a:lnTo>
                    <a:lnTo>
                      <a:pt x="46" y="31"/>
                    </a:lnTo>
                    <a:lnTo>
                      <a:pt x="43" y="22"/>
                    </a:lnTo>
                    <a:lnTo>
                      <a:pt x="36" y="15"/>
                    </a:lnTo>
                    <a:lnTo>
                      <a:pt x="28" y="8"/>
                    </a:lnTo>
                    <a:lnTo>
                      <a:pt x="20" y="4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6" y="36"/>
                    </a:lnTo>
                    <a:lnTo>
                      <a:pt x="9" y="37"/>
                    </a:lnTo>
                    <a:lnTo>
                      <a:pt x="12" y="39"/>
                    </a:lnTo>
                    <a:lnTo>
                      <a:pt x="14" y="42"/>
                    </a:lnTo>
                    <a:lnTo>
                      <a:pt x="15" y="45"/>
                    </a:lnTo>
                    <a:lnTo>
                      <a:pt x="16" y="48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51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244600" y="30700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52"/>
                    </a:moveTo>
                    <a:lnTo>
                      <a:pt x="0" y="52"/>
                    </a:lnTo>
                    <a:lnTo>
                      <a:pt x="10" y="51"/>
                    </a:lnTo>
                    <a:lnTo>
                      <a:pt x="20" y="47"/>
                    </a:lnTo>
                    <a:lnTo>
                      <a:pt x="28" y="43"/>
                    </a:lnTo>
                    <a:lnTo>
                      <a:pt x="36" y="36"/>
                    </a:lnTo>
                    <a:lnTo>
                      <a:pt x="43" y="29"/>
                    </a:lnTo>
                    <a:lnTo>
                      <a:pt x="46" y="21"/>
                    </a:lnTo>
                    <a:lnTo>
                      <a:pt x="50" y="11"/>
                    </a:lnTo>
                    <a:lnTo>
                      <a:pt x="51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5" y="6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9" y="15"/>
                    </a:lnTo>
                    <a:lnTo>
                      <a:pt x="6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225520" y="307008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5" y="21"/>
                    </a:lnTo>
                    <a:lnTo>
                      <a:pt x="10" y="29"/>
                    </a:lnTo>
                    <a:lnTo>
                      <a:pt x="16" y="36"/>
                    </a:lnTo>
                    <a:lnTo>
                      <a:pt x="23" y="43"/>
                    </a:lnTo>
                    <a:lnTo>
                      <a:pt x="31" y="47"/>
                    </a:lnTo>
                    <a:lnTo>
                      <a:pt x="42" y="51"/>
                    </a:lnTo>
                    <a:lnTo>
                      <a:pt x="52" y="52"/>
                    </a:lnTo>
                    <a:lnTo>
                      <a:pt x="52" y="17"/>
                    </a:lnTo>
                    <a:lnTo>
                      <a:pt x="48" y="17"/>
                    </a:lnTo>
                    <a:lnTo>
                      <a:pt x="46" y="16"/>
                    </a:lnTo>
                    <a:lnTo>
                      <a:pt x="42" y="15"/>
                    </a:lnTo>
                    <a:lnTo>
                      <a:pt x="40" y="12"/>
                    </a:lnTo>
                    <a:lnTo>
                      <a:pt x="38" y="10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225520" y="30495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0"/>
                    </a:moveTo>
                    <a:lnTo>
                      <a:pt x="52" y="0"/>
                    </a:lnTo>
                    <a:lnTo>
                      <a:pt x="42" y="1"/>
                    </a:lnTo>
                    <a:lnTo>
                      <a:pt x="31" y="4"/>
                    </a:lnTo>
                    <a:lnTo>
                      <a:pt x="23" y="8"/>
                    </a:lnTo>
                    <a:lnTo>
                      <a:pt x="16" y="15"/>
                    </a:lnTo>
                    <a:lnTo>
                      <a:pt x="10" y="22"/>
                    </a:lnTo>
                    <a:lnTo>
                      <a:pt x="5" y="31"/>
                    </a:lnTo>
                    <a:lnTo>
                      <a:pt x="1" y="40"/>
                    </a:lnTo>
                    <a:lnTo>
                      <a:pt x="0" y="51"/>
                    </a:lnTo>
                    <a:lnTo>
                      <a:pt x="35" y="51"/>
                    </a:lnTo>
                    <a:lnTo>
                      <a:pt x="35" y="48"/>
                    </a:lnTo>
                    <a:lnTo>
                      <a:pt x="36" y="45"/>
                    </a:lnTo>
                    <a:lnTo>
                      <a:pt x="38" y="42"/>
                    </a:lnTo>
                    <a:lnTo>
                      <a:pt x="40" y="39"/>
                    </a:lnTo>
                    <a:lnTo>
                      <a:pt x="42" y="37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281320" y="30211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2"/>
                    </a:moveTo>
                    <a:lnTo>
                      <a:pt x="52" y="52"/>
                    </a:lnTo>
                    <a:lnTo>
                      <a:pt x="51" y="41"/>
                    </a:lnTo>
                    <a:lnTo>
                      <a:pt x="48" y="31"/>
                    </a:lnTo>
                    <a:lnTo>
                      <a:pt x="44" y="23"/>
                    </a:lnTo>
                    <a:lnTo>
                      <a:pt x="38" y="14"/>
                    </a:lnTo>
                    <a:lnTo>
                      <a:pt x="29" y="8"/>
                    </a:lnTo>
                    <a:lnTo>
                      <a:pt x="21" y="4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5"/>
                    </a:lnTo>
                    <a:lnTo>
                      <a:pt x="8" y="36"/>
                    </a:lnTo>
                    <a:lnTo>
                      <a:pt x="10" y="37"/>
                    </a:lnTo>
                    <a:lnTo>
                      <a:pt x="12" y="40"/>
                    </a:lnTo>
                    <a:lnTo>
                      <a:pt x="15" y="42"/>
                    </a:lnTo>
                    <a:lnTo>
                      <a:pt x="16" y="44"/>
                    </a:lnTo>
                    <a:lnTo>
                      <a:pt x="17" y="48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2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281320" y="30402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51"/>
                    </a:moveTo>
                    <a:lnTo>
                      <a:pt x="0" y="51"/>
                    </a:lnTo>
                    <a:lnTo>
                      <a:pt x="11" y="50"/>
                    </a:lnTo>
                    <a:lnTo>
                      <a:pt x="21" y="46"/>
                    </a:lnTo>
                    <a:lnTo>
                      <a:pt x="29" y="42"/>
                    </a:lnTo>
                    <a:lnTo>
                      <a:pt x="38" y="36"/>
                    </a:lnTo>
                    <a:lnTo>
                      <a:pt x="44" y="28"/>
                    </a:lnTo>
                    <a:lnTo>
                      <a:pt x="48" y="19"/>
                    </a:lnTo>
                    <a:lnTo>
                      <a:pt x="51" y="9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6" y="6"/>
                    </a:lnTo>
                    <a:lnTo>
                      <a:pt x="15" y="9"/>
                    </a:lnTo>
                    <a:lnTo>
                      <a:pt x="12" y="12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4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260440" y="30402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4" y="19"/>
                    </a:lnTo>
                    <a:lnTo>
                      <a:pt x="8" y="28"/>
                    </a:lnTo>
                    <a:lnTo>
                      <a:pt x="14" y="36"/>
                    </a:lnTo>
                    <a:lnTo>
                      <a:pt x="23" y="42"/>
                    </a:lnTo>
                    <a:lnTo>
                      <a:pt x="31" y="46"/>
                    </a:lnTo>
                    <a:lnTo>
                      <a:pt x="41" y="50"/>
                    </a:lnTo>
                    <a:lnTo>
                      <a:pt x="50" y="51"/>
                    </a:lnTo>
                    <a:lnTo>
                      <a:pt x="50" y="16"/>
                    </a:lnTo>
                    <a:lnTo>
                      <a:pt x="48" y="15"/>
                    </a:lnTo>
                    <a:lnTo>
                      <a:pt x="44" y="15"/>
                    </a:lnTo>
                    <a:lnTo>
                      <a:pt x="42" y="13"/>
                    </a:lnTo>
                    <a:lnTo>
                      <a:pt x="40" y="12"/>
                    </a:lnTo>
                    <a:lnTo>
                      <a:pt x="37" y="9"/>
                    </a:lnTo>
                    <a:lnTo>
                      <a:pt x="36" y="6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260440" y="30211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50" y="0"/>
                    </a:moveTo>
                    <a:lnTo>
                      <a:pt x="50" y="0"/>
                    </a:lnTo>
                    <a:lnTo>
                      <a:pt x="41" y="1"/>
                    </a:lnTo>
                    <a:lnTo>
                      <a:pt x="31" y="4"/>
                    </a:lnTo>
                    <a:lnTo>
                      <a:pt x="23" y="8"/>
                    </a:lnTo>
                    <a:lnTo>
                      <a:pt x="14" y="16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4"/>
                    </a:lnTo>
                    <a:lnTo>
                      <a:pt x="37" y="42"/>
                    </a:lnTo>
                    <a:lnTo>
                      <a:pt x="40" y="40"/>
                    </a:lnTo>
                    <a:lnTo>
                      <a:pt x="42" y="37"/>
                    </a:lnTo>
                    <a:lnTo>
                      <a:pt x="44" y="36"/>
                    </a:lnTo>
                    <a:lnTo>
                      <a:pt x="48" y="35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230200" y="29908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50" y="51"/>
                    </a:lnTo>
                    <a:lnTo>
                      <a:pt x="49" y="41"/>
                    </a:lnTo>
                    <a:lnTo>
                      <a:pt x="46" y="31"/>
                    </a:lnTo>
                    <a:lnTo>
                      <a:pt x="42" y="23"/>
                    </a:lnTo>
                    <a:lnTo>
                      <a:pt x="36" y="15"/>
                    </a:lnTo>
                    <a:lnTo>
                      <a:pt x="27" y="8"/>
                    </a:lnTo>
                    <a:lnTo>
                      <a:pt x="19" y="3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6" y="36"/>
                    </a:lnTo>
                    <a:lnTo>
                      <a:pt x="8" y="37"/>
                    </a:lnTo>
                    <a:lnTo>
                      <a:pt x="10" y="39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5" y="48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5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230200" y="30114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0" y="52"/>
                    </a:moveTo>
                    <a:lnTo>
                      <a:pt x="0" y="52"/>
                    </a:lnTo>
                    <a:lnTo>
                      <a:pt x="9" y="51"/>
                    </a:lnTo>
                    <a:lnTo>
                      <a:pt x="19" y="47"/>
                    </a:lnTo>
                    <a:lnTo>
                      <a:pt x="27" y="42"/>
                    </a:lnTo>
                    <a:lnTo>
                      <a:pt x="36" y="36"/>
                    </a:lnTo>
                    <a:lnTo>
                      <a:pt x="42" y="29"/>
                    </a:lnTo>
                    <a:lnTo>
                      <a:pt x="46" y="20"/>
                    </a:lnTo>
                    <a:lnTo>
                      <a:pt x="49" y="10"/>
                    </a:lnTo>
                    <a:lnTo>
                      <a:pt x="50" y="0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211120" y="30114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0"/>
                    </a:lnTo>
                    <a:lnTo>
                      <a:pt x="4" y="20"/>
                    </a:lnTo>
                    <a:lnTo>
                      <a:pt x="8" y="29"/>
                    </a:lnTo>
                    <a:lnTo>
                      <a:pt x="14" y="36"/>
                    </a:lnTo>
                    <a:lnTo>
                      <a:pt x="23" y="42"/>
                    </a:lnTo>
                    <a:lnTo>
                      <a:pt x="31" y="47"/>
                    </a:lnTo>
                    <a:lnTo>
                      <a:pt x="41" y="51"/>
                    </a:lnTo>
                    <a:lnTo>
                      <a:pt x="52" y="52"/>
                    </a:lnTo>
                    <a:lnTo>
                      <a:pt x="52" y="17"/>
                    </a:lnTo>
                    <a:lnTo>
                      <a:pt x="48" y="16"/>
                    </a:lnTo>
                    <a:lnTo>
                      <a:pt x="44" y="16"/>
                    </a:lnTo>
                    <a:lnTo>
                      <a:pt x="42" y="14"/>
                    </a:lnTo>
                    <a:lnTo>
                      <a:pt x="40" y="12"/>
                    </a:lnTo>
                    <a:lnTo>
                      <a:pt x="37" y="10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211120" y="29908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0"/>
                    </a:moveTo>
                    <a:lnTo>
                      <a:pt x="52" y="0"/>
                    </a:lnTo>
                    <a:lnTo>
                      <a:pt x="41" y="1"/>
                    </a:lnTo>
                    <a:lnTo>
                      <a:pt x="31" y="3"/>
                    </a:lnTo>
                    <a:lnTo>
                      <a:pt x="23" y="8"/>
                    </a:lnTo>
                    <a:lnTo>
                      <a:pt x="14" y="15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1"/>
                    </a:lnTo>
                    <a:lnTo>
                      <a:pt x="35" y="51"/>
                    </a:lnTo>
                    <a:lnTo>
                      <a:pt x="35" y="48"/>
                    </a:lnTo>
                    <a:lnTo>
                      <a:pt x="36" y="44"/>
                    </a:lnTo>
                    <a:lnTo>
                      <a:pt x="37" y="42"/>
                    </a:lnTo>
                    <a:lnTo>
                      <a:pt x="40" y="39"/>
                    </a:lnTo>
                    <a:lnTo>
                      <a:pt x="42" y="37"/>
                    </a:lnTo>
                    <a:lnTo>
                      <a:pt x="44" y="36"/>
                    </a:lnTo>
                    <a:lnTo>
                      <a:pt x="48" y="35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287440" y="296856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50" y="52"/>
                    </a:moveTo>
                    <a:lnTo>
                      <a:pt x="50" y="52"/>
                    </a:lnTo>
                    <a:lnTo>
                      <a:pt x="49" y="42"/>
                    </a:lnTo>
                    <a:lnTo>
                      <a:pt x="47" y="33"/>
                    </a:lnTo>
                    <a:lnTo>
                      <a:pt x="42" y="23"/>
                    </a:lnTo>
                    <a:lnTo>
                      <a:pt x="36" y="16"/>
                    </a:lnTo>
                    <a:lnTo>
                      <a:pt x="28" y="10"/>
                    </a:lnTo>
                    <a:lnTo>
                      <a:pt x="19" y="5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2" y="36"/>
                    </a:lnTo>
                    <a:lnTo>
                      <a:pt x="6" y="36"/>
                    </a:lnTo>
                    <a:lnTo>
                      <a:pt x="8" y="39"/>
                    </a:lnTo>
                    <a:lnTo>
                      <a:pt x="11" y="41"/>
                    </a:lnTo>
                    <a:lnTo>
                      <a:pt x="13" y="43"/>
                    </a:lnTo>
                    <a:lnTo>
                      <a:pt x="14" y="46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287440" y="29894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51"/>
                    </a:moveTo>
                    <a:lnTo>
                      <a:pt x="0" y="51"/>
                    </a:lnTo>
                    <a:lnTo>
                      <a:pt x="10" y="50"/>
                    </a:lnTo>
                    <a:lnTo>
                      <a:pt x="19" y="48"/>
                    </a:lnTo>
                    <a:lnTo>
                      <a:pt x="28" y="43"/>
                    </a:lnTo>
                    <a:lnTo>
                      <a:pt x="36" y="37"/>
                    </a:lnTo>
                    <a:lnTo>
                      <a:pt x="42" y="29"/>
                    </a:lnTo>
                    <a:lnTo>
                      <a:pt x="47" y="20"/>
                    </a:lnTo>
                    <a:lnTo>
                      <a:pt x="49" y="11"/>
                    </a:lnTo>
                    <a:lnTo>
                      <a:pt x="50" y="0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4" y="7"/>
                    </a:lnTo>
                    <a:lnTo>
                      <a:pt x="13" y="9"/>
                    </a:lnTo>
                    <a:lnTo>
                      <a:pt x="11" y="12"/>
                    </a:lnTo>
                    <a:lnTo>
                      <a:pt x="8" y="14"/>
                    </a:lnTo>
                    <a:lnTo>
                      <a:pt x="6" y="15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266920" y="29894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4" y="20"/>
                    </a:lnTo>
                    <a:lnTo>
                      <a:pt x="9" y="29"/>
                    </a:lnTo>
                    <a:lnTo>
                      <a:pt x="15" y="37"/>
                    </a:lnTo>
                    <a:lnTo>
                      <a:pt x="23" y="43"/>
                    </a:lnTo>
                    <a:lnTo>
                      <a:pt x="32" y="48"/>
                    </a:lnTo>
                    <a:lnTo>
                      <a:pt x="41" y="50"/>
                    </a:lnTo>
                    <a:lnTo>
                      <a:pt x="52" y="51"/>
                    </a:lnTo>
                    <a:lnTo>
                      <a:pt x="52" y="17"/>
                    </a:lnTo>
                    <a:lnTo>
                      <a:pt x="48" y="17"/>
                    </a:lnTo>
                    <a:lnTo>
                      <a:pt x="45" y="15"/>
                    </a:lnTo>
                    <a:lnTo>
                      <a:pt x="42" y="14"/>
                    </a:lnTo>
                    <a:lnTo>
                      <a:pt x="40" y="12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266920" y="296856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52" y="0"/>
                    </a:lnTo>
                    <a:lnTo>
                      <a:pt x="41" y="1"/>
                    </a:lnTo>
                    <a:lnTo>
                      <a:pt x="32" y="5"/>
                    </a:lnTo>
                    <a:lnTo>
                      <a:pt x="23" y="10"/>
                    </a:lnTo>
                    <a:lnTo>
                      <a:pt x="15" y="16"/>
                    </a:lnTo>
                    <a:lnTo>
                      <a:pt x="9" y="23"/>
                    </a:lnTo>
                    <a:lnTo>
                      <a:pt x="4" y="33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8" y="43"/>
                    </a:lnTo>
                    <a:lnTo>
                      <a:pt x="40" y="40"/>
                    </a:lnTo>
                    <a:lnTo>
                      <a:pt x="42" y="39"/>
                    </a:lnTo>
                    <a:lnTo>
                      <a:pt x="45" y="36"/>
                    </a:lnTo>
                    <a:lnTo>
                      <a:pt x="48" y="36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330280" y="29433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51"/>
                    </a:moveTo>
                    <a:lnTo>
                      <a:pt x="52" y="51"/>
                    </a:lnTo>
                    <a:lnTo>
                      <a:pt x="50" y="42"/>
                    </a:lnTo>
                    <a:lnTo>
                      <a:pt x="47" y="32"/>
                    </a:lnTo>
                    <a:lnTo>
                      <a:pt x="42" y="23"/>
                    </a:lnTo>
                    <a:lnTo>
                      <a:pt x="36" y="16"/>
                    </a:lnTo>
                    <a:lnTo>
                      <a:pt x="29" y="10"/>
                    </a:lnTo>
                    <a:lnTo>
                      <a:pt x="19" y="5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2" y="36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1" y="41"/>
                    </a:lnTo>
                    <a:lnTo>
                      <a:pt x="13" y="43"/>
                    </a:lnTo>
                    <a:lnTo>
                      <a:pt x="14" y="46"/>
                    </a:lnTo>
                    <a:lnTo>
                      <a:pt x="16" y="48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52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330280" y="29638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52"/>
                    </a:moveTo>
                    <a:lnTo>
                      <a:pt x="0" y="52"/>
                    </a:lnTo>
                    <a:lnTo>
                      <a:pt x="10" y="51"/>
                    </a:lnTo>
                    <a:lnTo>
                      <a:pt x="19" y="48"/>
                    </a:lnTo>
                    <a:lnTo>
                      <a:pt x="29" y="44"/>
                    </a:lnTo>
                    <a:lnTo>
                      <a:pt x="36" y="38"/>
                    </a:lnTo>
                    <a:lnTo>
                      <a:pt x="42" y="29"/>
                    </a:lnTo>
                    <a:lnTo>
                      <a:pt x="47" y="21"/>
                    </a:lnTo>
                    <a:lnTo>
                      <a:pt x="50" y="11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6" y="4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2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309760" y="29638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4" y="21"/>
                    </a:lnTo>
                    <a:lnTo>
                      <a:pt x="9" y="29"/>
                    </a:lnTo>
                    <a:lnTo>
                      <a:pt x="15" y="38"/>
                    </a:lnTo>
                    <a:lnTo>
                      <a:pt x="23" y="44"/>
                    </a:lnTo>
                    <a:lnTo>
                      <a:pt x="32" y="48"/>
                    </a:lnTo>
                    <a:lnTo>
                      <a:pt x="41" y="51"/>
                    </a:lnTo>
                    <a:lnTo>
                      <a:pt x="52" y="52"/>
                    </a:lnTo>
                    <a:lnTo>
                      <a:pt x="52" y="17"/>
                    </a:lnTo>
                    <a:lnTo>
                      <a:pt x="48" y="17"/>
                    </a:lnTo>
                    <a:lnTo>
                      <a:pt x="45" y="16"/>
                    </a:lnTo>
                    <a:lnTo>
                      <a:pt x="42" y="15"/>
                    </a:lnTo>
                    <a:lnTo>
                      <a:pt x="40" y="12"/>
                    </a:lnTo>
                    <a:lnTo>
                      <a:pt x="38" y="10"/>
                    </a:lnTo>
                    <a:lnTo>
                      <a:pt x="36" y="8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309760" y="29433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0"/>
                    </a:moveTo>
                    <a:lnTo>
                      <a:pt x="52" y="0"/>
                    </a:lnTo>
                    <a:lnTo>
                      <a:pt x="41" y="1"/>
                    </a:lnTo>
                    <a:lnTo>
                      <a:pt x="32" y="5"/>
                    </a:lnTo>
                    <a:lnTo>
                      <a:pt x="23" y="10"/>
                    </a:lnTo>
                    <a:lnTo>
                      <a:pt x="15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2" y="42"/>
                    </a:lnTo>
                    <a:lnTo>
                      <a:pt x="0" y="51"/>
                    </a:lnTo>
                    <a:lnTo>
                      <a:pt x="35" y="51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8" y="43"/>
                    </a:lnTo>
                    <a:lnTo>
                      <a:pt x="40" y="40"/>
                    </a:lnTo>
                    <a:lnTo>
                      <a:pt x="42" y="38"/>
                    </a:lnTo>
                    <a:lnTo>
                      <a:pt x="45" y="36"/>
                    </a:lnTo>
                    <a:lnTo>
                      <a:pt x="48" y="36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325600" y="29923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52"/>
                    </a:moveTo>
                    <a:lnTo>
                      <a:pt x="51" y="52"/>
                    </a:lnTo>
                    <a:lnTo>
                      <a:pt x="50" y="41"/>
                    </a:lnTo>
                    <a:lnTo>
                      <a:pt x="48" y="31"/>
                    </a:lnTo>
                    <a:lnTo>
                      <a:pt x="43" y="23"/>
                    </a:lnTo>
                    <a:lnTo>
                      <a:pt x="37" y="14"/>
                    </a:lnTo>
                    <a:lnTo>
                      <a:pt x="28" y="8"/>
                    </a:lnTo>
                    <a:lnTo>
                      <a:pt x="20" y="4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7" y="36"/>
                    </a:lnTo>
                    <a:lnTo>
                      <a:pt x="9" y="37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5" y="44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51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325600" y="30114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51"/>
                    </a:moveTo>
                    <a:lnTo>
                      <a:pt x="0" y="51"/>
                    </a:lnTo>
                    <a:lnTo>
                      <a:pt x="10" y="50"/>
                    </a:lnTo>
                    <a:lnTo>
                      <a:pt x="20" y="46"/>
                    </a:lnTo>
                    <a:lnTo>
                      <a:pt x="28" y="42"/>
                    </a:lnTo>
                    <a:lnTo>
                      <a:pt x="37" y="36"/>
                    </a:lnTo>
                    <a:lnTo>
                      <a:pt x="43" y="28"/>
                    </a:lnTo>
                    <a:lnTo>
                      <a:pt x="48" y="19"/>
                    </a:lnTo>
                    <a:lnTo>
                      <a:pt x="50" y="9"/>
                    </a:lnTo>
                    <a:lnTo>
                      <a:pt x="51" y="0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5" y="6"/>
                    </a:lnTo>
                    <a:lnTo>
                      <a:pt x="14" y="9"/>
                    </a:lnTo>
                    <a:lnTo>
                      <a:pt x="12" y="12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306520" y="30114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4" y="19"/>
                    </a:lnTo>
                    <a:lnTo>
                      <a:pt x="9" y="28"/>
                    </a:lnTo>
                    <a:lnTo>
                      <a:pt x="15" y="36"/>
                    </a:lnTo>
                    <a:lnTo>
                      <a:pt x="22" y="42"/>
                    </a:lnTo>
                    <a:lnTo>
                      <a:pt x="31" y="46"/>
                    </a:lnTo>
                    <a:lnTo>
                      <a:pt x="41" y="50"/>
                    </a:lnTo>
                    <a:lnTo>
                      <a:pt x="51" y="51"/>
                    </a:lnTo>
                    <a:lnTo>
                      <a:pt x="51" y="16"/>
                    </a:lnTo>
                    <a:lnTo>
                      <a:pt x="47" y="15"/>
                    </a:lnTo>
                    <a:lnTo>
                      <a:pt x="45" y="15"/>
                    </a:lnTo>
                    <a:lnTo>
                      <a:pt x="42" y="13"/>
                    </a:lnTo>
                    <a:lnTo>
                      <a:pt x="40" y="12"/>
                    </a:lnTo>
                    <a:lnTo>
                      <a:pt x="37" y="9"/>
                    </a:lnTo>
                    <a:lnTo>
                      <a:pt x="36" y="6"/>
                    </a:lnTo>
                    <a:lnTo>
                      <a:pt x="35" y="3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306520" y="29923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0"/>
                    </a:moveTo>
                    <a:lnTo>
                      <a:pt x="51" y="0"/>
                    </a:lnTo>
                    <a:lnTo>
                      <a:pt x="41" y="1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5" y="16"/>
                    </a:lnTo>
                    <a:lnTo>
                      <a:pt x="9" y="23"/>
                    </a:lnTo>
                    <a:lnTo>
                      <a:pt x="4" y="31"/>
                    </a:lnTo>
                    <a:lnTo>
                      <a:pt x="0" y="41"/>
                    </a:lnTo>
                    <a:lnTo>
                      <a:pt x="0" y="52"/>
                    </a:lnTo>
                    <a:lnTo>
                      <a:pt x="34" y="52"/>
                    </a:lnTo>
                    <a:lnTo>
                      <a:pt x="35" y="48"/>
                    </a:lnTo>
                    <a:lnTo>
                      <a:pt x="36" y="44"/>
                    </a:lnTo>
                    <a:lnTo>
                      <a:pt x="37" y="42"/>
                    </a:lnTo>
                    <a:lnTo>
                      <a:pt x="40" y="40"/>
                    </a:lnTo>
                    <a:lnTo>
                      <a:pt x="42" y="37"/>
                    </a:lnTo>
                    <a:lnTo>
                      <a:pt x="45" y="36"/>
                    </a:lnTo>
                    <a:lnTo>
                      <a:pt x="47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369880" y="298764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51"/>
                    </a:moveTo>
                    <a:lnTo>
                      <a:pt x="52" y="51"/>
                    </a:lnTo>
                    <a:lnTo>
                      <a:pt x="51" y="40"/>
                    </a:lnTo>
                    <a:lnTo>
                      <a:pt x="47" y="31"/>
                    </a:lnTo>
                    <a:lnTo>
                      <a:pt x="42" y="22"/>
                    </a:lnTo>
                    <a:lnTo>
                      <a:pt x="36" y="14"/>
                    </a:lnTo>
                    <a:lnTo>
                      <a:pt x="29" y="8"/>
                    </a:lnTo>
                    <a:lnTo>
                      <a:pt x="19" y="3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4" y="34"/>
                    </a:lnTo>
                    <a:lnTo>
                      <a:pt x="6" y="36"/>
                    </a:lnTo>
                    <a:lnTo>
                      <a:pt x="9" y="37"/>
                    </a:lnTo>
                    <a:lnTo>
                      <a:pt x="12" y="39"/>
                    </a:lnTo>
                    <a:lnTo>
                      <a:pt x="13" y="42"/>
                    </a:lnTo>
                    <a:lnTo>
                      <a:pt x="16" y="44"/>
                    </a:lnTo>
                    <a:lnTo>
                      <a:pt x="16" y="48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52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369880" y="30081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51"/>
                    </a:moveTo>
                    <a:lnTo>
                      <a:pt x="0" y="51"/>
                    </a:lnTo>
                    <a:lnTo>
                      <a:pt x="10" y="51"/>
                    </a:lnTo>
                    <a:lnTo>
                      <a:pt x="19" y="47"/>
                    </a:lnTo>
                    <a:lnTo>
                      <a:pt x="29" y="42"/>
                    </a:lnTo>
                    <a:lnTo>
                      <a:pt x="36" y="36"/>
                    </a:lnTo>
                    <a:lnTo>
                      <a:pt x="42" y="29"/>
                    </a:lnTo>
                    <a:lnTo>
                      <a:pt x="47" y="19"/>
                    </a:lnTo>
                    <a:lnTo>
                      <a:pt x="51" y="10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349360" y="300816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10"/>
                    </a:lnTo>
                    <a:lnTo>
                      <a:pt x="3" y="19"/>
                    </a:lnTo>
                    <a:lnTo>
                      <a:pt x="8" y="29"/>
                    </a:lnTo>
                    <a:lnTo>
                      <a:pt x="14" y="36"/>
                    </a:lnTo>
                    <a:lnTo>
                      <a:pt x="22" y="42"/>
                    </a:lnTo>
                    <a:lnTo>
                      <a:pt x="31" y="47"/>
                    </a:lnTo>
                    <a:lnTo>
                      <a:pt x="40" y="51"/>
                    </a:lnTo>
                    <a:lnTo>
                      <a:pt x="51" y="51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4" y="15"/>
                    </a:lnTo>
                    <a:lnTo>
                      <a:pt x="42" y="13"/>
                    </a:lnTo>
                    <a:lnTo>
                      <a:pt x="39" y="11"/>
                    </a:lnTo>
                    <a:lnTo>
                      <a:pt x="37" y="9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349360" y="29876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1" y="0"/>
                    </a:moveTo>
                    <a:lnTo>
                      <a:pt x="51" y="0"/>
                    </a:lnTo>
                    <a:lnTo>
                      <a:pt x="40" y="1"/>
                    </a:lnTo>
                    <a:lnTo>
                      <a:pt x="31" y="3"/>
                    </a:lnTo>
                    <a:lnTo>
                      <a:pt x="22" y="8"/>
                    </a:lnTo>
                    <a:lnTo>
                      <a:pt x="14" y="14"/>
                    </a:lnTo>
                    <a:lnTo>
                      <a:pt x="8" y="22"/>
                    </a:lnTo>
                    <a:lnTo>
                      <a:pt x="3" y="31"/>
                    </a:lnTo>
                    <a:lnTo>
                      <a:pt x="1" y="40"/>
                    </a:lnTo>
                    <a:lnTo>
                      <a:pt x="0" y="51"/>
                    </a:lnTo>
                    <a:lnTo>
                      <a:pt x="34" y="51"/>
                    </a:lnTo>
                    <a:lnTo>
                      <a:pt x="34" y="48"/>
                    </a:lnTo>
                    <a:lnTo>
                      <a:pt x="36" y="44"/>
                    </a:lnTo>
                    <a:lnTo>
                      <a:pt x="37" y="42"/>
                    </a:lnTo>
                    <a:lnTo>
                      <a:pt x="39" y="39"/>
                    </a:lnTo>
                    <a:lnTo>
                      <a:pt x="42" y="37"/>
                    </a:lnTo>
                    <a:lnTo>
                      <a:pt x="44" y="36"/>
                    </a:lnTo>
                    <a:lnTo>
                      <a:pt x="48" y="34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390760" y="29527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1" y="51"/>
                    </a:moveTo>
                    <a:lnTo>
                      <a:pt x="51" y="51"/>
                    </a:lnTo>
                    <a:lnTo>
                      <a:pt x="50" y="42"/>
                    </a:lnTo>
                    <a:lnTo>
                      <a:pt x="47" y="32"/>
                    </a:lnTo>
                    <a:lnTo>
                      <a:pt x="42" y="23"/>
                    </a:lnTo>
                    <a:lnTo>
                      <a:pt x="36" y="15"/>
                    </a:lnTo>
                    <a:lnTo>
                      <a:pt x="29" y="9"/>
                    </a:lnTo>
                    <a:lnTo>
                      <a:pt x="19" y="5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3" y="36"/>
                    </a:lnTo>
                    <a:lnTo>
                      <a:pt x="6" y="36"/>
                    </a:lnTo>
                    <a:lnTo>
                      <a:pt x="9" y="38"/>
                    </a:lnTo>
                    <a:lnTo>
                      <a:pt x="12" y="39"/>
                    </a:lnTo>
                    <a:lnTo>
                      <a:pt x="13" y="42"/>
                    </a:lnTo>
                    <a:lnTo>
                      <a:pt x="15" y="45"/>
                    </a:lnTo>
                    <a:lnTo>
                      <a:pt x="15" y="48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51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390760" y="297324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52"/>
                    </a:moveTo>
                    <a:lnTo>
                      <a:pt x="0" y="52"/>
                    </a:lnTo>
                    <a:lnTo>
                      <a:pt x="9" y="51"/>
                    </a:lnTo>
                    <a:lnTo>
                      <a:pt x="19" y="48"/>
                    </a:lnTo>
                    <a:lnTo>
                      <a:pt x="29" y="43"/>
                    </a:lnTo>
                    <a:lnTo>
                      <a:pt x="36" y="36"/>
                    </a:lnTo>
                    <a:lnTo>
                      <a:pt x="42" y="29"/>
                    </a:lnTo>
                    <a:lnTo>
                      <a:pt x="47" y="21"/>
                    </a:lnTo>
                    <a:lnTo>
                      <a:pt x="50" y="11"/>
                    </a:lnTo>
                    <a:lnTo>
                      <a:pt x="51" y="0"/>
                    </a:lnTo>
                    <a:lnTo>
                      <a:pt x="17" y="0"/>
                    </a:lnTo>
                    <a:lnTo>
                      <a:pt x="15" y="4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2"/>
                    </a:lnTo>
                    <a:lnTo>
                      <a:pt x="9" y="15"/>
                    </a:lnTo>
                    <a:lnTo>
                      <a:pt x="6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369880" y="297324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4" y="21"/>
                    </a:lnTo>
                    <a:lnTo>
                      <a:pt x="9" y="29"/>
                    </a:lnTo>
                    <a:lnTo>
                      <a:pt x="15" y="36"/>
                    </a:lnTo>
                    <a:lnTo>
                      <a:pt x="23" y="43"/>
                    </a:lnTo>
                    <a:lnTo>
                      <a:pt x="31" y="48"/>
                    </a:lnTo>
                    <a:lnTo>
                      <a:pt x="41" y="51"/>
                    </a:lnTo>
                    <a:lnTo>
                      <a:pt x="52" y="52"/>
                    </a:lnTo>
                    <a:lnTo>
                      <a:pt x="52" y="17"/>
                    </a:lnTo>
                    <a:lnTo>
                      <a:pt x="48" y="17"/>
                    </a:lnTo>
                    <a:lnTo>
                      <a:pt x="45" y="16"/>
                    </a:lnTo>
                    <a:lnTo>
                      <a:pt x="42" y="15"/>
                    </a:lnTo>
                    <a:lnTo>
                      <a:pt x="40" y="12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369880" y="29527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0"/>
                    </a:moveTo>
                    <a:lnTo>
                      <a:pt x="52" y="0"/>
                    </a:lnTo>
                    <a:lnTo>
                      <a:pt x="41" y="1"/>
                    </a:lnTo>
                    <a:lnTo>
                      <a:pt x="31" y="5"/>
                    </a:lnTo>
                    <a:lnTo>
                      <a:pt x="23" y="9"/>
                    </a:lnTo>
                    <a:lnTo>
                      <a:pt x="15" y="15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2"/>
                    </a:lnTo>
                    <a:lnTo>
                      <a:pt x="0" y="51"/>
                    </a:lnTo>
                    <a:lnTo>
                      <a:pt x="35" y="51"/>
                    </a:lnTo>
                    <a:lnTo>
                      <a:pt x="35" y="48"/>
                    </a:lnTo>
                    <a:lnTo>
                      <a:pt x="36" y="45"/>
                    </a:lnTo>
                    <a:lnTo>
                      <a:pt x="37" y="42"/>
                    </a:lnTo>
                    <a:lnTo>
                      <a:pt x="40" y="39"/>
                    </a:lnTo>
                    <a:lnTo>
                      <a:pt x="42" y="38"/>
                    </a:lnTo>
                    <a:lnTo>
                      <a:pt x="45" y="36"/>
                    </a:lnTo>
                    <a:lnTo>
                      <a:pt x="48" y="36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421000" y="29973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2"/>
                    </a:moveTo>
                    <a:lnTo>
                      <a:pt x="52" y="52"/>
                    </a:lnTo>
                    <a:lnTo>
                      <a:pt x="51" y="41"/>
                    </a:lnTo>
                    <a:lnTo>
                      <a:pt x="47" y="32"/>
                    </a:lnTo>
                    <a:lnTo>
                      <a:pt x="42" y="23"/>
                    </a:lnTo>
                    <a:lnTo>
                      <a:pt x="36" y="16"/>
                    </a:lnTo>
                    <a:lnTo>
                      <a:pt x="29" y="9"/>
                    </a:lnTo>
                    <a:lnTo>
                      <a:pt x="21" y="4"/>
                    </a:lnTo>
                    <a:lnTo>
                      <a:pt x="11" y="2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5"/>
                    </a:lnTo>
                    <a:lnTo>
                      <a:pt x="6" y="36"/>
                    </a:lnTo>
                    <a:lnTo>
                      <a:pt x="10" y="38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6" y="46"/>
                    </a:lnTo>
                    <a:lnTo>
                      <a:pt x="17" y="48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2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421000" y="30178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52"/>
                    </a:moveTo>
                    <a:lnTo>
                      <a:pt x="0" y="52"/>
                    </a:lnTo>
                    <a:lnTo>
                      <a:pt x="11" y="50"/>
                    </a:lnTo>
                    <a:lnTo>
                      <a:pt x="21" y="47"/>
                    </a:lnTo>
                    <a:lnTo>
                      <a:pt x="29" y="42"/>
                    </a:lnTo>
                    <a:lnTo>
                      <a:pt x="36" y="36"/>
                    </a:lnTo>
                    <a:lnTo>
                      <a:pt x="42" y="29"/>
                    </a:lnTo>
                    <a:lnTo>
                      <a:pt x="47" y="20"/>
                    </a:lnTo>
                    <a:lnTo>
                      <a:pt x="51" y="10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6" y="6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3"/>
                    </a:lnTo>
                    <a:lnTo>
                      <a:pt x="6" y="16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400120" y="30178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0"/>
                    </a:lnTo>
                    <a:lnTo>
                      <a:pt x="5" y="20"/>
                    </a:lnTo>
                    <a:lnTo>
                      <a:pt x="8" y="29"/>
                    </a:lnTo>
                    <a:lnTo>
                      <a:pt x="15" y="36"/>
                    </a:lnTo>
                    <a:lnTo>
                      <a:pt x="23" y="42"/>
                    </a:lnTo>
                    <a:lnTo>
                      <a:pt x="31" y="47"/>
                    </a:lnTo>
                    <a:lnTo>
                      <a:pt x="41" y="50"/>
                    </a:lnTo>
                    <a:lnTo>
                      <a:pt x="51" y="52"/>
                    </a:lnTo>
                    <a:lnTo>
                      <a:pt x="51" y="17"/>
                    </a:lnTo>
                    <a:lnTo>
                      <a:pt x="48" y="17"/>
                    </a:lnTo>
                    <a:lnTo>
                      <a:pt x="45" y="16"/>
                    </a:lnTo>
                    <a:lnTo>
                      <a:pt x="42" y="13"/>
                    </a:lnTo>
                    <a:lnTo>
                      <a:pt x="39" y="12"/>
                    </a:lnTo>
                    <a:lnTo>
                      <a:pt x="37" y="10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400120" y="29973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0"/>
                    </a:moveTo>
                    <a:lnTo>
                      <a:pt x="51" y="0"/>
                    </a:lnTo>
                    <a:lnTo>
                      <a:pt x="41" y="2"/>
                    </a:lnTo>
                    <a:lnTo>
                      <a:pt x="31" y="4"/>
                    </a:lnTo>
                    <a:lnTo>
                      <a:pt x="23" y="9"/>
                    </a:lnTo>
                    <a:lnTo>
                      <a:pt x="15" y="16"/>
                    </a:lnTo>
                    <a:lnTo>
                      <a:pt x="8" y="23"/>
                    </a:lnTo>
                    <a:lnTo>
                      <a:pt x="5" y="32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7" y="42"/>
                    </a:lnTo>
                    <a:lnTo>
                      <a:pt x="39" y="40"/>
                    </a:lnTo>
                    <a:lnTo>
                      <a:pt x="42" y="38"/>
                    </a:lnTo>
                    <a:lnTo>
                      <a:pt x="45" y="36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458800" y="30211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2"/>
                    </a:moveTo>
                    <a:lnTo>
                      <a:pt x="52" y="52"/>
                    </a:lnTo>
                    <a:lnTo>
                      <a:pt x="51" y="41"/>
                    </a:lnTo>
                    <a:lnTo>
                      <a:pt x="47" y="31"/>
                    </a:lnTo>
                    <a:lnTo>
                      <a:pt x="42" y="23"/>
                    </a:lnTo>
                    <a:lnTo>
                      <a:pt x="36" y="16"/>
                    </a:lnTo>
                    <a:lnTo>
                      <a:pt x="29" y="9"/>
                    </a:lnTo>
                    <a:lnTo>
                      <a:pt x="21" y="4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5"/>
                    </a:lnTo>
                    <a:lnTo>
                      <a:pt x="6" y="36"/>
                    </a:lnTo>
                    <a:lnTo>
                      <a:pt x="10" y="37"/>
                    </a:lnTo>
                    <a:lnTo>
                      <a:pt x="12" y="40"/>
                    </a:lnTo>
                    <a:lnTo>
                      <a:pt x="13" y="42"/>
                    </a:lnTo>
                    <a:lnTo>
                      <a:pt x="16" y="45"/>
                    </a:lnTo>
                    <a:lnTo>
                      <a:pt x="17" y="48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52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458800" y="304164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51"/>
                    </a:moveTo>
                    <a:lnTo>
                      <a:pt x="0" y="51"/>
                    </a:lnTo>
                    <a:lnTo>
                      <a:pt x="10" y="50"/>
                    </a:lnTo>
                    <a:lnTo>
                      <a:pt x="21" y="47"/>
                    </a:lnTo>
                    <a:lnTo>
                      <a:pt x="29" y="42"/>
                    </a:lnTo>
                    <a:lnTo>
                      <a:pt x="36" y="36"/>
                    </a:lnTo>
                    <a:lnTo>
                      <a:pt x="42" y="29"/>
                    </a:lnTo>
                    <a:lnTo>
                      <a:pt x="47" y="19"/>
                    </a:lnTo>
                    <a:lnTo>
                      <a:pt x="51" y="9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2" y="12"/>
                    </a:lnTo>
                    <a:lnTo>
                      <a:pt x="10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438280" y="30416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3" y="19"/>
                    </a:lnTo>
                    <a:lnTo>
                      <a:pt x="8" y="29"/>
                    </a:lnTo>
                    <a:lnTo>
                      <a:pt x="15" y="36"/>
                    </a:lnTo>
                    <a:lnTo>
                      <a:pt x="22" y="42"/>
                    </a:lnTo>
                    <a:lnTo>
                      <a:pt x="31" y="47"/>
                    </a:lnTo>
                    <a:lnTo>
                      <a:pt x="40" y="50"/>
                    </a:lnTo>
                    <a:lnTo>
                      <a:pt x="51" y="51"/>
                    </a:lnTo>
                    <a:lnTo>
                      <a:pt x="51" y="17"/>
                    </a:lnTo>
                    <a:lnTo>
                      <a:pt x="48" y="15"/>
                    </a:lnTo>
                    <a:lnTo>
                      <a:pt x="44" y="15"/>
                    </a:lnTo>
                    <a:lnTo>
                      <a:pt x="42" y="13"/>
                    </a:lnTo>
                    <a:lnTo>
                      <a:pt x="39" y="12"/>
                    </a:lnTo>
                    <a:lnTo>
                      <a:pt x="37" y="9"/>
                    </a:lnTo>
                    <a:lnTo>
                      <a:pt x="36" y="6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438280" y="30211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51" y="0"/>
                    </a:moveTo>
                    <a:lnTo>
                      <a:pt x="51" y="0"/>
                    </a:lnTo>
                    <a:lnTo>
                      <a:pt x="40" y="1"/>
                    </a:lnTo>
                    <a:lnTo>
                      <a:pt x="31" y="4"/>
                    </a:lnTo>
                    <a:lnTo>
                      <a:pt x="22" y="9"/>
                    </a:lnTo>
                    <a:lnTo>
                      <a:pt x="15" y="16"/>
                    </a:lnTo>
                    <a:lnTo>
                      <a:pt x="8" y="23"/>
                    </a:lnTo>
                    <a:lnTo>
                      <a:pt x="3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34" y="52"/>
                    </a:lnTo>
                    <a:lnTo>
                      <a:pt x="34" y="48"/>
                    </a:lnTo>
                    <a:lnTo>
                      <a:pt x="36" y="45"/>
                    </a:lnTo>
                    <a:lnTo>
                      <a:pt x="37" y="42"/>
                    </a:lnTo>
                    <a:lnTo>
                      <a:pt x="39" y="40"/>
                    </a:lnTo>
                    <a:lnTo>
                      <a:pt x="42" y="37"/>
                    </a:lnTo>
                    <a:lnTo>
                      <a:pt x="44" y="36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455920" y="29782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50" y="52"/>
                    </a:moveTo>
                    <a:lnTo>
                      <a:pt x="50" y="52"/>
                    </a:lnTo>
                    <a:lnTo>
                      <a:pt x="50" y="41"/>
                    </a:lnTo>
                    <a:lnTo>
                      <a:pt x="47" y="31"/>
                    </a:lnTo>
                    <a:lnTo>
                      <a:pt x="42" y="23"/>
                    </a:lnTo>
                    <a:lnTo>
                      <a:pt x="36" y="15"/>
                    </a:lnTo>
                    <a:lnTo>
                      <a:pt x="29" y="9"/>
                    </a:lnTo>
                    <a:lnTo>
                      <a:pt x="19" y="4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6" y="36"/>
                    </a:lnTo>
                    <a:lnTo>
                      <a:pt x="8" y="37"/>
                    </a:lnTo>
                    <a:lnTo>
                      <a:pt x="11" y="40"/>
                    </a:lnTo>
                    <a:lnTo>
                      <a:pt x="13" y="42"/>
                    </a:lnTo>
                    <a:lnTo>
                      <a:pt x="14" y="45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455920" y="29988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51"/>
                    </a:moveTo>
                    <a:lnTo>
                      <a:pt x="0" y="51"/>
                    </a:lnTo>
                    <a:lnTo>
                      <a:pt x="10" y="50"/>
                    </a:lnTo>
                    <a:lnTo>
                      <a:pt x="19" y="47"/>
                    </a:lnTo>
                    <a:lnTo>
                      <a:pt x="29" y="42"/>
                    </a:lnTo>
                    <a:lnTo>
                      <a:pt x="36" y="36"/>
                    </a:lnTo>
                    <a:lnTo>
                      <a:pt x="42" y="29"/>
                    </a:lnTo>
                    <a:lnTo>
                      <a:pt x="47" y="19"/>
                    </a:lnTo>
                    <a:lnTo>
                      <a:pt x="50" y="9"/>
                    </a:lnTo>
                    <a:lnTo>
                      <a:pt x="50" y="0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4" y="6"/>
                    </a:lnTo>
                    <a:lnTo>
                      <a:pt x="13" y="8"/>
                    </a:lnTo>
                    <a:lnTo>
                      <a:pt x="11" y="12"/>
                    </a:lnTo>
                    <a:lnTo>
                      <a:pt x="8" y="13"/>
                    </a:lnTo>
                    <a:lnTo>
                      <a:pt x="6" y="15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435040" y="299880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0" y="0"/>
                    </a:moveTo>
                    <a:lnTo>
                      <a:pt x="0" y="0"/>
                    </a:lnTo>
                    <a:lnTo>
                      <a:pt x="2" y="9"/>
                    </a:lnTo>
                    <a:lnTo>
                      <a:pt x="4" y="19"/>
                    </a:lnTo>
                    <a:lnTo>
                      <a:pt x="9" y="29"/>
                    </a:lnTo>
                    <a:lnTo>
                      <a:pt x="15" y="36"/>
                    </a:lnTo>
                    <a:lnTo>
                      <a:pt x="23" y="42"/>
                    </a:lnTo>
                    <a:lnTo>
                      <a:pt x="32" y="47"/>
                    </a:lnTo>
                    <a:lnTo>
                      <a:pt x="41" y="50"/>
                    </a:lnTo>
                    <a:lnTo>
                      <a:pt x="52" y="51"/>
                    </a:lnTo>
                    <a:lnTo>
                      <a:pt x="52" y="17"/>
                    </a:lnTo>
                    <a:lnTo>
                      <a:pt x="48" y="15"/>
                    </a:lnTo>
                    <a:lnTo>
                      <a:pt x="45" y="15"/>
                    </a:lnTo>
                    <a:lnTo>
                      <a:pt x="42" y="13"/>
                    </a:lnTo>
                    <a:lnTo>
                      <a:pt x="40" y="12"/>
                    </a:lnTo>
                    <a:lnTo>
                      <a:pt x="38" y="8"/>
                    </a:lnTo>
                    <a:lnTo>
                      <a:pt x="36" y="6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435040" y="29782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52" y="0"/>
                    </a:lnTo>
                    <a:lnTo>
                      <a:pt x="41" y="1"/>
                    </a:lnTo>
                    <a:lnTo>
                      <a:pt x="32" y="4"/>
                    </a:lnTo>
                    <a:lnTo>
                      <a:pt x="23" y="9"/>
                    </a:lnTo>
                    <a:lnTo>
                      <a:pt x="15" y="15"/>
                    </a:lnTo>
                    <a:lnTo>
                      <a:pt x="9" y="23"/>
                    </a:lnTo>
                    <a:lnTo>
                      <a:pt x="4" y="31"/>
                    </a:lnTo>
                    <a:lnTo>
                      <a:pt x="2" y="41"/>
                    </a:lnTo>
                    <a:lnTo>
                      <a:pt x="0" y="52"/>
                    </a:lnTo>
                    <a:lnTo>
                      <a:pt x="35" y="52"/>
                    </a:lnTo>
                    <a:lnTo>
                      <a:pt x="35" y="48"/>
                    </a:lnTo>
                    <a:lnTo>
                      <a:pt x="36" y="45"/>
                    </a:lnTo>
                    <a:lnTo>
                      <a:pt x="38" y="42"/>
                    </a:lnTo>
                    <a:lnTo>
                      <a:pt x="40" y="40"/>
                    </a:lnTo>
                    <a:lnTo>
                      <a:pt x="42" y="37"/>
                    </a:lnTo>
                    <a:lnTo>
                      <a:pt x="45" y="36"/>
                    </a:lnTo>
                    <a:lnTo>
                      <a:pt x="48" y="35"/>
                    </a:lnTo>
                    <a:lnTo>
                      <a:pt x="52" y="35"/>
                    </a:lnTo>
                    <a:lnTo>
                      <a:pt x="52" y="3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500200" y="30193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1" y="51"/>
                    </a:moveTo>
                    <a:lnTo>
                      <a:pt x="51" y="51"/>
                    </a:lnTo>
                    <a:lnTo>
                      <a:pt x="50" y="40"/>
                    </a:lnTo>
                    <a:lnTo>
                      <a:pt x="48" y="31"/>
                    </a:lnTo>
                    <a:lnTo>
                      <a:pt x="43" y="22"/>
                    </a:lnTo>
                    <a:lnTo>
                      <a:pt x="36" y="14"/>
                    </a:lnTo>
                    <a:lnTo>
                      <a:pt x="29" y="8"/>
                    </a:lnTo>
                    <a:lnTo>
                      <a:pt x="20" y="3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7" y="36"/>
                    </a:lnTo>
                    <a:lnTo>
                      <a:pt x="9" y="37"/>
                    </a:lnTo>
                    <a:lnTo>
                      <a:pt x="12" y="39"/>
                    </a:lnTo>
                    <a:lnTo>
                      <a:pt x="14" y="42"/>
                    </a:lnTo>
                    <a:lnTo>
                      <a:pt x="15" y="44"/>
                    </a:lnTo>
                    <a:lnTo>
                      <a:pt x="17" y="48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51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500200" y="30402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52"/>
                    </a:moveTo>
                    <a:lnTo>
                      <a:pt x="0" y="52"/>
                    </a:lnTo>
                    <a:lnTo>
                      <a:pt x="11" y="51"/>
                    </a:lnTo>
                    <a:lnTo>
                      <a:pt x="20" y="47"/>
                    </a:lnTo>
                    <a:lnTo>
                      <a:pt x="29" y="42"/>
                    </a:lnTo>
                    <a:lnTo>
                      <a:pt x="36" y="36"/>
                    </a:lnTo>
                    <a:lnTo>
                      <a:pt x="43" y="29"/>
                    </a:lnTo>
                    <a:lnTo>
                      <a:pt x="48" y="19"/>
                    </a:lnTo>
                    <a:lnTo>
                      <a:pt x="50" y="10"/>
                    </a:lnTo>
                    <a:lnTo>
                      <a:pt x="51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4" y="9"/>
                    </a:lnTo>
                    <a:lnTo>
                      <a:pt x="12" y="12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3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479680" y="304020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0"/>
                    </a:lnTo>
                    <a:lnTo>
                      <a:pt x="5" y="19"/>
                    </a:lnTo>
                    <a:lnTo>
                      <a:pt x="10" y="29"/>
                    </a:lnTo>
                    <a:lnTo>
                      <a:pt x="16" y="36"/>
                    </a:lnTo>
                    <a:lnTo>
                      <a:pt x="23" y="42"/>
                    </a:lnTo>
                    <a:lnTo>
                      <a:pt x="33" y="47"/>
                    </a:lnTo>
                    <a:lnTo>
                      <a:pt x="42" y="51"/>
                    </a:lnTo>
                    <a:lnTo>
                      <a:pt x="52" y="52"/>
                    </a:lnTo>
                    <a:lnTo>
                      <a:pt x="52" y="17"/>
                    </a:lnTo>
                    <a:lnTo>
                      <a:pt x="48" y="16"/>
                    </a:lnTo>
                    <a:lnTo>
                      <a:pt x="46" y="16"/>
                    </a:lnTo>
                    <a:lnTo>
                      <a:pt x="42" y="13"/>
                    </a:lnTo>
                    <a:lnTo>
                      <a:pt x="40" y="12"/>
                    </a:lnTo>
                    <a:lnTo>
                      <a:pt x="39" y="9"/>
                    </a:lnTo>
                    <a:lnTo>
                      <a:pt x="36" y="6"/>
                    </a:lnTo>
                    <a:lnTo>
                      <a:pt x="36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479680" y="30193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0"/>
                    </a:moveTo>
                    <a:lnTo>
                      <a:pt x="52" y="0"/>
                    </a:lnTo>
                    <a:lnTo>
                      <a:pt x="42" y="1"/>
                    </a:lnTo>
                    <a:lnTo>
                      <a:pt x="33" y="3"/>
                    </a:lnTo>
                    <a:lnTo>
                      <a:pt x="23" y="8"/>
                    </a:lnTo>
                    <a:lnTo>
                      <a:pt x="16" y="14"/>
                    </a:lnTo>
                    <a:lnTo>
                      <a:pt x="10" y="22"/>
                    </a:lnTo>
                    <a:lnTo>
                      <a:pt x="5" y="31"/>
                    </a:lnTo>
                    <a:lnTo>
                      <a:pt x="1" y="40"/>
                    </a:lnTo>
                    <a:lnTo>
                      <a:pt x="0" y="51"/>
                    </a:lnTo>
                    <a:lnTo>
                      <a:pt x="35" y="51"/>
                    </a:lnTo>
                    <a:lnTo>
                      <a:pt x="36" y="48"/>
                    </a:lnTo>
                    <a:lnTo>
                      <a:pt x="36" y="44"/>
                    </a:lnTo>
                    <a:lnTo>
                      <a:pt x="39" y="42"/>
                    </a:lnTo>
                    <a:lnTo>
                      <a:pt x="40" y="39"/>
                    </a:lnTo>
                    <a:lnTo>
                      <a:pt x="42" y="37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511360" y="30654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51"/>
                    </a:moveTo>
                    <a:lnTo>
                      <a:pt x="52" y="51"/>
                    </a:lnTo>
                    <a:lnTo>
                      <a:pt x="51" y="41"/>
                    </a:lnTo>
                    <a:lnTo>
                      <a:pt x="47" y="31"/>
                    </a:lnTo>
                    <a:lnTo>
                      <a:pt x="44" y="23"/>
                    </a:lnTo>
                    <a:lnTo>
                      <a:pt x="36" y="14"/>
                    </a:lnTo>
                    <a:lnTo>
                      <a:pt x="29" y="8"/>
                    </a:lnTo>
                    <a:lnTo>
                      <a:pt x="21" y="3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5"/>
                    </a:lnTo>
                    <a:lnTo>
                      <a:pt x="6" y="36"/>
                    </a:lnTo>
                    <a:lnTo>
                      <a:pt x="10" y="37"/>
                    </a:lnTo>
                    <a:lnTo>
                      <a:pt x="12" y="39"/>
                    </a:lnTo>
                    <a:lnTo>
                      <a:pt x="15" y="42"/>
                    </a:lnTo>
                    <a:lnTo>
                      <a:pt x="16" y="44"/>
                    </a:lnTo>
                    <a:lnTo>
                      <a:pt x="17" y="48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52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511360" y="30862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52"/>
                    </a:moveTo>
                    <a:lnTo>
                      <a:pt x="0" y="52"/>
                    </a:lnTo>
                    <a:lnTo>
                      <a:pt x="11" y="51"/>
                    </a:lnTo>
                    <a:lnTo>
                      <a:pt x="21" y="47"/>
                    </a:lnTo>
                    <a:lnTo>
                      <a:pt x="29" y="42"/>
                    </a:lnTo>
                    <a:lnTo>
                      <a:pt x="36" y="36"/>
                    </a:lnTo>
                    <a:lnTo>
                      <a:pt x="44" y="29"/>
                    </a:lnTo>
                    <a:lnTo>
                      <a:pt x="47" y="20"/>
                    </a:lnTo>
                    <a:lnTo>
                      <a:pt x="51" y="10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6" y="6"/>
                    </a:lnTo>
                    <a:lnTo>
                      <a:pt x="15" y="9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90840" y="30862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0"/>
                    </a:lnTo>
                    <a:lnTo>
                      <a:pt x="5" y="20"/>
                    </a:lnTo>
                    <a:lnTo>
                      <a:pt x="9" y="29"/>
                    </a:lnTo>
                    <a:lnTo>
                      <a:pt x="15" y="36"/>
                    </a:lnTo>
                    <a:lnTo>
                      <a:pt x="23" y="42"/>
                    </a:lnTo>
                    <a:lnTo>
                      <a:pt x="31" y="47"/>
                    </a:lnTo>
                    <a:lnTo>
                      <a:pt x="41" y="51"/>
                    </a:lnTo>
                    <a:lnTo>
                      <a:pt x="51" y="52"/>
                    </a:lnTo>
                    <a:lnTo>
                      <a:pt x="51" y="17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2" y="14"/>
                    </a:lnTo>
                    <a:lnTo>
                      <a:pt x="39" y="12"/>
                    </a:lnTo>
                    <a:lnTo>
                      <a:pt x="38" y="9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90840" y="30654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1" y="0"/>
                    </a:moveTo>
                    <a:lnTo>
                      <a:pt x="51" y="0"/>
                    </a:lnTo>
                    <a:lnTo>
                      <a:pt x="41" y="1"/>
                    </a:lnTo>
                    <a:lnTo>
                      <a:pt x="31" y="3"/>
                    </a:lnTo>
                    <a:lnTo>
                      <a:pt x="23" y="8"/>
                    </a:lnTo>
                    <a:lnTo>
                      <a:pt x="15" y="14"/>
                    </a:lnTo>
                    <a:lnTo>
                      <a:pt x="9" y="23"/>
                    </a:lnTo>
                    <a:lnTo>
                      <a:pt x="5" y="31"/>
                    </a:lnTo>
                    <a:lnTo>
                      <a:pt x="1" y="41"/>
                    </a:lnTo>
                    <a:lnTo>
                      <a:pt x="0" y="51"/>
                    </a:lnTo>
                    <a:lnTo>
                      <a:pt x="35" y="51"/>
                    </a:lnTo>
                    <a:lnTo>
                      <a:pt x="35" y="48"/>
                    </a:lnTo>
                    <a:lnTo>
                      <a:pt x="36" y="44"/>
                    </a:lnTo>
                    <a:lnTo>
                      <a:pt x="38" y="42"/>
                    </a:lnTo>
                    <a:lnTo>
                      <a:pt x="39" y="39"/>
                    </a:lnTo>
                    <a:lnTo>
                      <a:pt x="42" y="37"/>
                    </a:lnTo>
                    <a:lnTo>
                      <a:pt x="45" y="36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533680" y="31035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52" y="51"/>
                    </a:moveTo>
                    <a:lnTo>
                      <a:pt x="52" y="51"/>
                    </a:lnTo>
                    <a:lnTo>
                      <a:pt x="51" y="41"/>
                    </a:lnTo>
                    <a:lnTo>
                      <a:pt x="48" y="31"/>
                    </a:lnTo>
                    <a:lnTo>
                      <a:pt x="44" y="23"/>
                    </a:lnTo>
                    <a:lnTo>
                      <a:pt x="38" y="15"/>
                    </a:lnTo>
                    <a:lnTo>
                      <a:pt x="29" y="8"/>
                    </a:lnTo>
                    <a:lnTo>
                      <a:pt x="21" y="5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" y="35"/>
                    </a:lnTo>
                    <a:lnTo>
                      <a:pt x="8" y="36"/>
                    </a:lnTo>
                    <a:lnTo>
                      <a:pt x="10" y="37"/>
                    </a:lnTo>
                    <a:lnTo>
                      <a:pt x="12" y="39"/>
                    </a:lnTo>
                    <a:lnTo>
                      <a:pt x="15" y="42"/>
                    </a:lnTo>
                    <a:lnTo>
                      <a:pt x="16" y="45"/>
                    </a:lnTo>
                    <a:lnTo>
                      <a:pt x="17" y="48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52" y="5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533680" y="31240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52"/>
                    </a:moveTo>
                    <a:lnTo>
                      <a:pt x="0" y="52"/>
                    </a:lnTo>
                    <a:lnTo>
                      <a:pt x="11" y="51"/>
                    </a:lnTo>
                    <a:lnTo>
                      <a:pt x="21" y="47"/>
                    </a:lnTo>
                    <a:lnTo>
                      <a:pt x="29" y="44"/>
                    </a:lnTo>
                    <a:lnTo>
                      <a:pt x="38" y="36"/>
                    </a:lnTo>
                    <a:lnTo>
                      <a:pt x="44" y="29"/>
                    </a:lnTo>
                    <a:lnTo>
                      <a:pt x="48" y="21"/>
                    </a:lnTo>
                    <a:lnTo>
                      <a:pt x="51" y="11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6" y="6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512800" y="31240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5" y="21"/>
                    </a:lnTo>
                    <a:lnTo>
                      <a:pt x="9" y="29"/>
                    </a:lnTo>
                    <a:lnTo>
                      <a:pt x="15" y="36"/>
                    </a:lnTo>
                    <a:lnTo>
                      <a:pt x="23" y="44"/>
                    </a:lnTo>
                    <a:lnTo>
                      <a:pt x="32" y="47"/>
                    </a:lnTo>
                    <a:lnTo>
                      <a:pt x="42" y="51"/>
                    </a:lnTo>
                    <a:lnTo>
                      <a:pt x="51" y="52"/>
                    </a:lnTo>
                    <a:lnTo>
                      <a:pt x="51" y="17"/>
                    </a:lnTo>
                    <a:lnTo>
                      <a:pt x="48" y="17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1" y="12"/>
                    </a:lnTo>
                    <a:lnTo>
                      <a:pt x="38" y="10"/>
                    </a:lnTo>
                    <a:lnTo>
                      <a:pt x="36" y="6"/>
                    </a:lnTo>
                    <a:lnTo>
                      <a:pt x="36" y="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512800" y="31035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1" y="0"/>
                    </a:moveTo>
                    <a:lnTo>
                      <a:pt x="51" y="0"/>
                    </a:lnTo>
                    <a:lnTo>
                      <a:pt x="42" y="1"/>
                    </a:lnTo>
                    <a:lnTo>
                      <a:pt x="32" y="5"/>
                    </a:lnTo>
                    <a:lnTo>
                      <a:pt x="23" y="8"/>
                    </a:lnTo>
                    <a:lnTo>
                      <a:pt x="15" y="15"/>
                    </a:lnTo>
                    <a:lnTo>
                      <a:pt x="9" y="23"/>
                    </a:lnTo>
                    <a:lnTo>
                      <a:pt x="5" y="31"/>
                    </a:lnTo>
                    <a:lnTo>
                      <a:pt x="1" y="41"/>
                    </a:lnTo>
                    <a:lnTo>
                      <a:pt x="0" y="51"/>
                    </a:lnTo>
                    <a:lnTo>
                      <a:pt x="35" y="51"/>
                    </a:lnTo>
                    <a:lnTo>
                      <a:pt x="36" y="48"/>
                    </a:lnTo>
                    <a:lnTo>
                      <a:pt x="36" y="45"/>
                    </a:lnTo>
                    <a:lnTo>
                      <a:pt x="38" y="42"/>
                    </a:lnTo>
                    <a:lnTo>
                      <a:pt x="41" y="39"/>
                    </a:lnTo>
                    <a:lnTo>
                      <a:pt x="43" y="37"/>
                    </a:lnTo>
                    <a:lnTo>
                      <a:pt x="45" y="36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304360" y="3092400"/>
                <a:ext cx="115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Black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035160" y="2816280"/>
                <a:ext cx="486000" cy="485640"/>
              </a:xfrm>
              <a:custGeom>
                <a:avLst/>
                <a:gdLst/>
                <a:ahLst/>
                <a:rect l="l" t="t" r="r" b="b"/>
                <a:pathLst>
                  <a:path w="1224" h="1223">
                    <a:moveTo>
                      <a:pt x="612" y="0"/>
                    </a:moveTo>
                    <a:lnTo>
                      <a:pt x="643" y="1"/>
                    </a:lnTo>
                    <a:lnTo>
                      <a:pt x="675" y="3"/>
                    </a:lnTo>
                    <a:lnTo>
                      <a:pt x="705" y="7"/>
                    </a:lnTo>
                    <a:lnTo>
                      <a:pt x="736" y="12"/>
                    </a:lnTo>
                    <a:lnTo>
                      <a:pt x="765" y="19"/>
                    </a:lnTo>
                    <a:lnTo>
                      <a:pt x="793" y="27"/>
                    </a:lnTo>
                    <a:lnTo>
                      <a:pt x="822" y="37"/>
                    </a:lnTo>
                    <a:lnTo>
                      <a:pt x="850" y="48"/>
                    </a:lnTo>
                    <a:lnTo>
                      <a:pt x="877" y="60"/>
                    </a:lnTo>
                    <a:lnTo>
                      <a:pt x="904" y="74"/>
                    </a:lnTo>
                    <a:lnTo>
                      <a:pt x="929" y="88"/>
                    </a:lnTo>
                    <a:lnTo>
                      <a:pt x="954" y="104"/>
                    </a:lnTo>
                    <a:lnTo>
                      <a:pt x="978" y="121"/>
                    </a:lnTo>
                    <a:lnTo>
                      <a:pt x="1001" y="140"/>
                    </a:lnTo>
                    <a:lnTo>
                      <a:pt x="1023" y="159"/>
                    </a:lnTo>
                    <a:lnTo>
                      <a:pt x="1044" y="180"/>
                    </a:lnTo>
                    <a:lnTo>
                      <a:pt x="1065" y="200"/>
                    </a:lnTo>
                    <a:lnTo>
                      <a:pt x="1084" y="223"/>
                    </a:lnTo>
                    <a:lnTo>
                      <a:pt x="1102" y="246"/>
                    </a:lnTo>
                    <a:lnTo>
                      <a:pt x="1120" y="270"/>
                    </a:lnTo>
                    <a:lnTo>
                      <a:pt x="1135" y="295"/>
                    </a:lnTo>
                    <a:lnTo>
                      <a:pt x="1150" y="320"/>
                    </a:lnTo>
                    <a:lnTo>
                      <a:pt x="1163" y="346"/>
                    </a:lnTo>
                    <a:lnTo>
                      <a:pt x="1176" y="374"/>
                    </a:lnTo>
                    <a:lnTo>
                      <a:pt x="1187" y="401"/>
                    </a:lnTo>
                    <a:lnTo>
                      <a:pt x="1197" y="429"/>
                    </a:lnTo>
                    <a:lnTo>
                      <a:pt x="1205" y="459"/>
                    </a:lnTo>
                    <a:lnTo>
                      <a:pt x="1211" y="488"/>
                    </a:lnTo>
                    <a:lnTo>
                      <a:pt x="1217" y="518"/>
                    </a:lnTo>
                    <a:lnTo>
                      <a:pt x="1221" y="549"/>
                    </a:lnTo>
                    <a:lnTo>
                      <a:pt x="1223" y="580"/>
                    </a:lnTo>
                    <a:lnTo>
                      <a:pt x="1224" y="611"/>
                    </a:lnTo>
                    <a:lnTo>
                      <a:pt x="1223" y="643"/>
                    </a:lnTo>
                    <a:lnTo>
                      <a:pt x="1221" y="674"/>
                    </a:lnTo>
                    <a:lnTo>
                      <a:pt x="1217" y="704"/>
                    </a:lnTo>
                    <a:lnTo>
                      <a:pt x="1211" y="734"/>
                    </a:lnTo>
                    <a:lnTo>
                      <a:pt x="1205" y="764"/>
                    </a:lnTo>
                    <a:lnTo>
                      <a:pt x="1197" y="793"/>
                    </a:lnTo>
                    <a:lnTo>
                      <a:pt x="1187" y="821"/>
                    </a:lnTo>
                    <a:lnTo>
                      <a:pt x="1176" y="849"/>
                    </a:lnTo>
                    <a:lnTo>
                      <a:pt x="1163" y="875"/>
                    </a:lnTo>
                    <a:lnTo>
                      <a:pt x="1150" y="902"/>
                    </a:lnTo>
                    <a:lnTo>
                      <a:pt x="1135" y="928"/>
                    </a:lnTo>
                    <a:lnTo>
                      <a:pt x="1120" y="953"/>
                    </a:lnTo>
                    <a:lnTo>
                      <a:pt x="1102" y="977"/>
                    </a:lnTo>
                    <a:lnTo>
                      <a:pt x="1084" y="1000"/>
                    </a:lnTo>
                    <a:lnTo>
                      <a:pt x="1065" y="1022"/>
                    </a:lnTo>
                    <a:lnTo>
                      <a:pt x="1044" y="1043"/>
                    </a:lnTo>
                    <a:lnTo>
                      <a:pt x="1023" y="1064"/>
                    </a:lnTo>
                    <a:lnTo>
                      <a:pt x="1001" y="1083"/>
                    </a:lnTo>
                    <a:lnTo>
                      <a:pt x="978" y="1101"/>
                    </a:lnTo>
                    <a:lnTo>
                      <a:pt x="954" y="1118"/>
                    </a:lnTo>
                    <a:lnTo>
                      <a:pt x="929" y="1134"/>
                    </a:lnTo>
                    <a:lnTo>
                      <a:pt x="904" y="1149"/>
                    </a:lnTo>
                    <a:lnTo>
                      <a:pt x="877" y="1162"/>
                    </a:lnTo>
                    <a:lnTo>
                      <a:pt x="850" y="1174"/>
                    </a:lnTo>
                    <a:lnTo>
                      <a:pt x="822" y="1186"/>
                    </a:lnTo>
                    <a:lnTo>
                      <a:pt x="793" y="1196"/>
                    </a:lnTo>
                    <a:lnTo>
                      <a:pt x="765" y="1204"/>
                    </a:lnTo>
                    <a:lnTo>
                      <a:pt x="736" y="1210"/>
                    </a:lnTo>
                    <a:lnTo>
                      <a:pt x="705" y="1216"/>
                    </a:lnTo>
                    <a:lnTo>
                      <a:pt x="675" y="1220"/>
                    </a:lnTo>
                    <a:lnTo>
                      <a:pt x="643" y="1222"/>
                    </a:lnTo>
                    <a:lnTo>
                      <a:pt x="612" y="1223"/>
                    </a:lnTo>
                    <a:lnTo>
                      <a:pt x="581" y="1222"/>
                    </a:lnTo>
                    <a:lnTo>
                      <a:pt x="550" y="1220"/>
                    </a:lnTo>
                    <a:lnTo>
                      <a:pt x="520" y="1216"/>
                    </a:lnTo>
                    <a:lnTo>
                      <a:pt x="489" y="1210"/>
                    </a:lnTo>
                    <a:lnTo>
                      <a:pt x="460" y="1204"/>
                    </a:lnTo>
                    <a:lnTo>
                      <a:pt x="431" y="1196"/>
                    </a:lnTo>
                    <a:lnTo>
                      <a:pt x="402" y="1186"/>
                    </a:lnTo>
                    <a:lnTo>
                      <a:pt x="375" y="1174"/>
                    </a:lnTo>
                    <a:lnTo>
                      <a:pt x="347" y="1162"/>
                    </a:lnTo>
                    <a:lnTo>
                      <a:pt x="321" y="1149"/>
                    </a:lnTo>
                    <a:lnTo>
                      <a:pt x="295" y="1134"/>
                    </a:lnTo>
                    <a:lnTo>
                      <a:pt x="270" y="1118"/>
                    </a:lnTo>
                    <a:lnTo>
                      <a:pt x="246" y="1101"/>
                    </a:lnTo>
                    <a:lnTo>
                      <a:pt x="223" y="1083"/>
                    </a:lnTo>
                    <a:lnTo>
                      <a:pt x="202" y="1064"/>
                    </a:lnTo>
                    <a:lnTo>
                      <a:pt x="180" y="1043"/>
                    </a:lnTo>
                    <a:lnTo>
                      <a:pt x="160" y="1022"/>
                    </a:lnTo>
                    <a:lnTo>
                      <a:pt x="141" y="1000"/>
                    </a:lnTo>
                    <a:lnTo>
                      <a:pt x="123" y="977"/>
                    </a:lnTo>
                    <a:lnTo>
                      <a:pt x="105" y="953"/>
                    </a:lnTo>
                    <a:lnTo>
                      <a:pt x="89" y="928"/>
                    </a:lnTo>
                    <a:lnTo>
                      <a:pt x="75" y="902"/>
                    </a:lnTo>
                    <a:lnTo>
                      <a:pt x="61" y="875"/>
                    </a:lnTo>
                    <a:lnTo>
                      <a:pt x="48" y="849"/>
                    </a:lnTo>
                    <a:lnTo>
                      <a:pt x="37" y="821"/>
                    </a:lnTo>
                    <a:lnTo>
                      <a:pt x="28" y="793"/>
                    </a:lnTo>
                    <a:lnTo>
                      <a:pt x="19" y="764"/>
                    </a:lnTo>
                    <a:lnTo>
                      <a:pt x="13" y="734"/>
                    </a:lnTo>
                    <a:lnTo>
                      <a:pt x="7" y="704"/>
                    </a:lnTo>
                    <a:lnTo>
                      <a:pt x="4" y="674"/>
                    </a:lnTo>
                    <a:lnTo>
                      <a:pt x="1" y="643"/>
                    </a:lnTo>
                    <a:lnTo>
                      <a:pt x="0" y="611"/>
                    </a:lnTo>
                    <a:lnTo>
                      <a:pt x="1" y="580"/>
                    </a:lnTo>
                    <a:lnTo>
                      <a:pt x="4" y="549"/>
                    </a:lnTo>
                    <a:lnTo>
                      <a:pt x="7" y="518"/>
                    </a:lnTo>
                    <a:lnTo>
                      <a:pt x="13" y="488"/>
                    </a:lnTo>
                    <a:lnTo>
                      <a:pt x="19" y="459"/>
                    </a:lnTo>
                    <a:lnTo>
                      <a:pt x="28" y="429"/>
                    </a:lnTo>
                    <a:lnTo>
                      <a:pt x="37" y="401"/>
                    </a:lnTo>
                    <a:lnTo>
                      <a:pt x="48" y="374"/>
                    </a:lnTo>
                    <a:lnTo>
                      <a:pt x="61" y="346"/>
                    </a:lnTo>
                    <a:lnTo>
                      <a:pt x="75" y="320"/>
                    </a:lnTo>
                    <a:lnTo>
                      <a:pt x="89" y="295"/>
                    </a:lnTo>
                    <a:lnTo>
                      <a:pt x="105" y="270"/>
                    </a:lnTo>
                    <a:lnTo>
                      <a:pt x="123" y="246"/>
                    </a:lnTo>
                    <a:lnTo>
                      <a:pt x="141" y="223"/>
                    </a:lnTo>
                    <a:lnTo>
                      <a:pt x="160" y="200"/>
                    </a:lnTo>
                    <a:lnTo>
                      <a:pt x="180" y="180"/>
                    </a:lnTo>
                    <a:lnTo>
                      <a:pt x="202" y="159"/>
                    </a:lnTo>
                    <a:lnTo>
                      <a:pt x="223" y="140"/>
                    </a:lnTo>
                    <a:lnTo>
                      <a:pt x="246" y="121"/>
                    </a:lnTo>
                    <a:lnTo>
                      <a:pt x="270" y="104"/>
                    </a:lnTo>
                    <a:lnTo>
                      <a:pt x="295" y="88"/>
                    </a:lnTo>
                    <a:lnTo>
                      <a:pt x="321" y="74"/>
                    </a:lnTo>
                    <a:lnTo>
                      <a:pt x="347" y="60"/>
                    </a:lnTo>
                    <a:lnTo>
                      <a:pt x="375" y="48"/>
                    </a:lnTo>
                    <a:lnTo>
                      <a:pt x="402" y="37"/>
                    </a:lnTo>
                    <a:lnTo>
                      <a:pt x="431" y="27"/>
                    </a:lnTo>
                    <a:lnTo>
                      <a:pt x="460" y="19"/>
                    </a:lnTo>
                    <a:lnTo>
                      <a:pt x="489" y="12"/>
                    </a:lnTo>
                    <a:lnTo>
                      <a:pt x="520" y="7"/>
                    </a:lnTo>
                    <a:lnTo>
                      <a:pt x="550" y="3"/>
                    </a:lnTo>
                    <a:lnTo>
                      <a:pt x="581" y="1"/>
                    </a:lnTo>
                    <a:lnTo>
                      <a:pt x="612" y="0"/>
                    </a:lnTo>
                    <a:close/>
                  </a:path>
                </a:pathLst>
              </a:custGeom>
              <a:solidFill>
                <a:srgbClr val="be8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278160" y="2809800"/>
                <a:ext cx="249120" cy="249480"/>
              </a:xfrm>
              <a:custGeom>
                <a:avLst/>
                <a:gdLst/>
                <a:ahLst/>
                <a:rect l="l" t="t" r="r" b="b"/>
                <a:pathLst>
                  <a:path w="629" h="629">
                    <a:moveTo>
                      <a:pt x="629" y="629"/>
                    </a:moveTo>
                    <a:lnTo>
                      <a:pt x="629" y="629"/>
                    </a:lnTo>
                    <a:lnTo>
                      <a:pt x="629" y="597"/>
                    </a:lnTo>
                    <a:lnTo>
                      <a:pt x="627" y="565"/>
                    </a:lnTo>
                    <a:lnTo>
                      <a:pt x="622" y="533"/>
                    </a:lnTo>
                    <a:lnTo>
                      <a:pt x="617" y="502"/>
                    </a:lnTo>
                    <a:lnTo>
                      <a:pt x="610" y="472"/>
                    </a:lnTo>
                    <a:lnTo>
                      <a:pt x="601" y="442"/>
                    </a:lnTo>
                    <a:lnTo>
                      <a:pt x="591" y="413"/>
                    </a:lnTo>
                    <a:lnTo>
                      <a:pt x="580" y="385"/>
                    </a:lnTo>
                    <a:lnTo>
                      <a:pt x="567" y="357"/>
                    </a:lnTo>
                    <a:lnTo>
                      <a:pt x="553" y="330"/>
                    </a:lnTo>
                    <a:lnTo>
                      <a:pt x="538" y="303"/>
                    </a:lnTo>
                    <a:lnTo>
                      <a:pt x="522" y="278"/>
                    </a:lnTo>
                    <a:lnTo>
                      <a:pt x="504" y="253"/>
                    </a:lnTo>
                    <a:lnTo>
                      <a:pt x="485" y="230"/>
                    </a:lnTo>
                    <a:lnTo>
                      <a:pt x="466" y="207"/>
                    </a:lnTo>
                    <a:lnTo>
                      <a:pt x="444" y="184"/>
                    </a:lnTo>
                    <a:lnTo>
                      <a:pt x="423" y="164"/>
                    </a:lnTo>
                    <a:lnTo>
                      <a:pt x="400" y="144"/>
                    </a:lnTo>
                    <a:lnTo>
                      <a:pt x="376" y="126"/>
                    </a:lnTo>
                    <a:lnTo>
                      <a:pt x="352" y="108"/>
                    </a:lnTo>
                    <a:lnTo>
                      <a:pt x="327" y="92"/>
                    </a:lnTo>
                    <a:lnTo>
                      <a:pt x="300" y="76"/>
                    </a:lnTo>
                    <a:lnTo>
                      <a:pt x="273" y="62"/>
                    </a:lnTo>
                    <a:lnTo>
                      <a:pt x="245" y="50"/>
                    </a:lnTo>
                    <a:lnTo>
                      <a:pt x="216" y="38"/>
                    </a:lnTo>
                    <a:lnTo>
                      <a:pt x="187" y="28"/>
                    </a:lnTo>
                    <a:lnTo>
                      <a:pt x="157" y="20"/>
                    </a:lnTo>
                    <a:lnTo>
                      <a:pt x="126" y="13"/>
                    </a:lnTo>
                    <a:lnTo>
                      <a:pt x="96" y="8"/>
                    </a:lnTo>
                    <a:lnTo>
                      <a:pt x="64" y="3"/>
                    </a:lnTo>
                    <a:lnTo>
                      <a:pt x="33" y="1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30" y="36"/>
                    </a:lnTo>
                    <a:lnTo>
                      <a:pt x="61" y="38"/>
                    </a:lnTo>
                    <a:lnTo>
                      <a:pt x="90" y="42"/>
                    </a:lnTo>
                    <a:lnTo>
                      <a:pt x="120" y="48"/>
                    </a:lnTo>
                    <a:lnTo>
                      <a:pt x="149" y="54"/>
                    </a:lnTo>
                    <a:lnTo>
                      <a:pt x="177" y="62"/>
                    </a:lnTo>
                    <a:lnTo>
                      <a:pt x="204" y="72"/>
                    </a:lnTo>
                    <a:lnTo>
                      <a:pt x="232" y="81"/>
                    </a:lnTo>
                    <a:lnTo>
                      <a:pt x="257" y="93"/>
                    </a:lnTo>
                    <a:lnTo>
                      <a:pt x="283" y="106"/>
                    </a:lnTo>
                    <a:lnTo>
                      <a:pt x="307" y="121"/>
                    </a:lnTo>
                    <a:lnTo>
                      <a:pt x="333" y="136"/>
                    </a:lnTo>
                    <a:lnTo>
                      <a:pt x="355" y="153"/>
                    </a:lnTo>
                    <a:lnTo>
                      <a:pt x="378" y="171"/>
                    </a:lnTo>
                    <a:lnTo>
                      <a:pt x="400" y="189"/>
                    </a:lnTo>
                    <a:lnTo>
                      <a:pt x="420" y="210"/>
                    </a:lnTo>
                    <a:lnTo>
                      <a:pt x="439" y="230"/>
                    </a:lnTo>
                    <a:lnTo>
                      <a:pt x="459" y="252"/>
                    </a:lnTo>
                    <a:lnTo>
                      <a:pt x="477" y="274"/>
                    </a:lnTo>
                    <a:lnTo>
                      <a:pt x="493" y="297"/>
                    </a:lnTo>
                    <a:lnTo>
                      <a:pt x="508" y="321"/>
                    </a:lnTo>
                    <a:lnTo>
                      <a:pt x="522" y="346"/>
                    </a:lnTo>
                    <a:lnTo>
                      <a:pt x="535" y="372"/>
                    </a:lnTo>
                    <a:lnTo>
                      <a:pt x="547" y="398"/>
                    </a:lnTo>
                    <a:lnTo>
                      <a:pt x="558" y="425"/>
                    </a:lnTo>
                    <a:lnTo>
                      <a:pt x="568" y="453"/>
                    </a:lnTo>
                    <a:lnTo>
                      <a:pt x="576" y="481"/>
                    </a:lnTo>
                    <a:lnTo>
                      <a:pt x="582" y="509"/>
                    </a:lnTo>
                    <a:lnTo>
                      <a:pt x="588" y="538"/>
                    </a:lnTo>
                    <a:lnTo>
                      <a:pt x="592" y="568"/>
                    </a:lnTo>
                    <a:lnTo>
                      <a:pt x="594" y="598"/>
                    </a:lnTo>
                    <a:lnTo>
                      <a:pt x="594" y="629"/>
                    </a:lnTo>
                    <a:lnTo>
                      <a:pt x="594" y="629"/>
                    </a:lnTo>
                    <a:lnTo>
                      <a:pt x="629" y="62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278160" y="3059280"/>
                <a:ext cx="249120" cy="249120"/>
              </a:xfrm>
              <a:custGeom>
                <a:avLst/>
                <a:gdLst/>
                <a:ahLst/>
                <a:rect l="l" t="t" r="r" b="b"/>
                <a:pathLst>
                  <a:path w="629" h="629">
                    <a:moveTo>
                      <a:pt x="0" y="629"/>
                    </a:moveTo>
                    <a:lnTo>
                      <a:pt x="0" y="629"/>
                    </a:lnTo>
                    <a:lnTo>
                      <a:pt x="33" y="628"/>
                    </a:lnTo>
                    <a:lnTo>
                      <a:pt x="64" y="625"/>
                    </a:lnTo>
                    <a:lnTo>
                      <a:pt x="96" y="622"/>
                    </a:lnTo>
                    <a:lnTo>
                      <a:pt x="126" y="616"/>
                    </a:lnTo>
                    <a:lnTo>
                      <a:pt x="157" y="610"/>
                    </a:lnTo>
                    <a:lnTo>
                      <a:pt x="187" y="600"/>
                    </a:lnTo>
                    <a:lnTo>
                      <a:pt x="216" y="591"/>
                    </a:lnTo>
                    <a:lnTo>
                      <a:pt x="245" y="580"/>
                    </a:lnTo>
                    <a:lnTo>
                      <a:pt x="273" y="567"/>
                    </a:lnTo>
                    <a:lnTo>
                      <a:pt x="300" y="553"/>
                    </a:lnTo>
                    <a:lnTo>
                      <a:pt x="327" y="538"/>
                    </a:lnTo>
                    <a:lnTo>
                      <a:pt x="352" y="521"/>
                    </a:lnTo>
                    <a:lnTo>
                      <a:pt x="376" y="504"/>
                    </a:lnTo>
                    <a:lnTo>
                      <a:pt x="400" y="485"/>
                    </a:lnTo>
                    <a:lnTo>
                      <a:pt x="423" y="466"/>
                    </a:lnTo>
                    <a:lnTo>
                      <a:pt x="444" y="444"/>
                    </a:lnTo>
                    <a:lnTo>
                      <a:pt x="466" y="423"/>
                    </a:lnTo>
                    <a:lnTo>
                      <a:pt x="485" y="400"/>
                    </a:lnTo>
                    <a:lnTo>
                      <a:pt x="504" y="376"/>
                    </a:lnTo>
                    <a:lnTo>
                      <a:pt x="522" y="352"/>
                    </a:lnTo>
                    <a:lnTo>
                      <a:pt x="538" y="326"/>
                    </a:lnTo>
                    <a:lnTo>
                      <a:pt x="553" y="299"/>
                    </a:lnTo>
                    <a:lnTo>
                      <a:pt x="567" y="273"/>
                    </a:lnTo>
                    <a:lnTo>
                      <a:pt x="580" y="245"/>
                    </a:lnTo>
                    <a:lnTo>
                      <a:pt x="591" y="216"/>
                    </a:lnTo>
                    <a:lnTo>
                      <a:pt x="601" y="186"/>
                    </a:lnTo>
                    <a:lnTo>
                      <a:pt x="610" y="158"/>
                    </a:lnTo>
                    <a:lnTo>
                      <a:pt x="617" y="126"/>
                    </a:lnTo>
                    <a:lnTo>
                      <a:pt x="622" y="95"/>
                    </a:lnTo>
                    <a:lnTo>
                      <a:pt x="627" y="64"/>
                    </a:lnTo>
                    <a:lnTo>
                      <a:pt x="629" y="33"/>
                    </a:lnTo>
                    <a:lnTo>
                      <a:pt x="629" y="0"/>
                    </a:lnTo>
                    <a:lnTo>
                      <a:pt x="594" y="0"/>
                    </a:lnTo>
                    <a:lnTo>
                      <a:pt x="594" y="30"/>
                    </a:lnTo>
                    <a:lnTo>
                      <a:pt x="592" y="60"/>
                    </a:lnTo>
                    <a:lnTo>
                      <a:pt x="588" y="90"/>
                    </a:lnTo>
                    <a:lnTo>
                      <a:pt x="582" y="119"/>
                    </a:lnTo>
                    <a:lnTo>
                      <a:pt x="576" y="148"/>
                    </a:lnTo>
                    <a:lnTo>
                      <a:pt x="568" y="177"/>
                    </a:lnTo>
                    <a:lnTo>
                      <a:pt x="558" y="204"/>
                    </a:lnTo>
                    <a:lnTo>
                      <a:pt x="547" y="231"/>
                    </a:lnTo>
                    <a:lnTo>
                      <a:pt x="535" y="257"/>
                    </a:lnTo>
                    <a:lnTo>
                      <a:pt x="522" y="284"/>
                    </a:lnTo>
                    <a:lnTo>
                      <a:pt x="508" y="308"/>
                    </a:lnTo>
                    <a:lnTo>
                      <a:pt x="493" y="332"/>
                    </a:lnTo>
                    <a:lnTo>
                      <a:pt x="477" y="356"/>
                    </a:lnTo>
                    <a:lnTo>
                      <a:pt x="459" y="378"/>
                    </a:lnTo>
                    <a:lnTo>
                      <a:pt x="439" y="400"/>
                    </a:lnTo>
                    <a:lnTo>
                      <a:pt x="420" y="420"/>
                    </a:lnTo>
                    <a:lnTo>
                      <a:pt x="400" y="440"/>
                    </a:lnTo>
                    <a:lnTo>
                      <a:pt x="378" y="459"/>
                    </a:lnTo>
                    <a:lnTo>
                      <a:pt x="355" y="477"/>
                    </a:lnTo>
                    <a:lnTo>
                      <a:pt x="333" y="492"/>
                    </a:lnTo>
                    <a:lnTo>
                      <a:pt x="307" y="508"/>
                    </a:lnTo>
                    <a:lnTo>
                      <a:pt x="283" y="522"/>
                    </a:lnTo>
                    <a:lnTo>
                      <a:pt x="257" y="535"/>
                    </a:lnTo>
                    <a:lnTo>
                      <a:pt x="232" y="547"/>
                    </a:lnTo>
                    <a:lnTo>
                      <a:pt x="204" y="558"/>
                    </a:lnTo>
                    <a:lnTo>
                      <a:pt x="177" y="568"/>
                    </a:lnTo>
                    <a:lnTo>
                      <a:pt x="149" y="576"/>
                    </a:lnTo>
                    <a:lnTo>
                      <a:pt x="120" y="582"/>
                    </a:lnTo>
                    <a:lnTo>
                      <a:pt x="90" y="587"/>
                    </a:lnTo>
                    <a:lnTo>
                      <a:pt x="61" y="592"/>
                    </a:lnTo>
                    <a:lnTo>
                      <a:pt x="31" y="594"/>
                    </a:lnTo>
                    <a:lnTo>
                      <a:pt x="0" y="594"/>
                    </a:lnTo>
                    <a:lnTo>
                      <a:pt x="0" y="594"/>
                    </a:lnTo>
                    <a:lnTo>
                      <a:pt x="0" y="62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028680" y="3059280"/>
                <a:ext cx="249480" cy="249120"/>
              </a:xfrm>
              <a:custGeom>
                <a:avLst/>
                <a:gdLst/>
                <a:ahLst/>
                <a:rect l="l" t="t" r="r" b="b"/>
                <a:pathLst>
                  <a:path w="629" h="629">
                    <a:moveTo>
                      <a:pt x="0" y="0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3" y="64"/>
                    </a:lnTo>
                    <a:lnTo>
                      <a:pt x="8" y="95"/>
                    </a:lnTo>
                    <a:lnTo>
                      <a:pt x="12" y="126"/>
                    </a:lnTo>
                    <a:lnTo>
                      <a:pt x="20" y="158"/>
                    </a:lnTo>
                    <a:lnTo>
                      <a:pt x="28" y="186"/>
                    </a:lnTo>
                    <a:lnTo>
                      <a:pt x="39" y="216"/>
                    </a:lnTo>
                    <a:lnTo>
                      <a:pt x="50" y="245"/>
                    </a:lnTo>
                    <a:lnTo>
                      <a:pt x="63" y="273"/>
                    </a:lnTo>
                    <a:lnTo>
                      <a:pt x="76" y="299"/>
                    </a:lnTo>
                    <a:lnTo>
                      <a:pt x="92" y="326"/>
                    </a:lnTo>
                    <a:lnTo>
                      <a:pt x="107" y="352"/>
                    </a:lnTo>
                    <a:lnTo>
                      <a:pt x="125" y="376"/>
                    </a:lnTo>
                    <a:lnTo>
                      <a:pt x="144" y="400"/>
                    </a:lnTo>
                    <a:lnTo>
                      <a:pt x="164" y="423"/>
                    </a:lnTo>
                    <a:lnTo>
                      <a:pt x="185" y="444"/>
                    </a:lnTo>
                    <a:lnTo>
                      <a:pt x="207" y="466"/>
                    </a:lnTo>
                    <a:lnTo>
                      <a:pt x="230" y="485"/>
                    </a:lnTo>
                    <a:lnTo>
                      <a:pt x="254" y="504"/>
                    </a:lnTo>
                    <a:lnTo>
                      <a:pt x="278" y="521"/>
                    </a:lnTo>
                    <a:lnTo>
                      <a:pt x="303" y="538"/>
                    </a:lnTo>
                    <a:lnTo>
                      <a:pt x="329" y="553"/>
                    </a:lnTo>
                    <a:lnTo>
                      <a:pt x="357" y="567"/>
                    </a:lnTo>
                    <a:lnTo>
                      <a:pt x="384" y="580"/>
                    </a:lnTo>
                    <a:lnTo>
                      <a:pt x="413" y="591"/>
                    </a:lnTo>
                    <a:lnTo>
                      <a:pt x="442" y="600"/>
                    </a:lnTo>
                    <a:lnTo>
                      <a:pt x="472" y="610"/>
                    </a:lnTo>
                    <a:lnTo>
                      <a:pt x="503" y="616"/>
                    </a:lnTo>
                    <a:lnTo>
                      <a:pt x="533" y="622"/>
                    </a:lnTo>
                    <a:lnTo>
                      <a:pt x="566" y="625"/>
                    </a:lnTo>
                    <a:lnTo>
                      <a:pt x="597" y="628"/>
                    </a:lnTo>
                    <a:lnTo>
                      <a:pt x="629" y="629"/>
                    </a:lnTo>
                    <a:lnTo>
                      <a:pt x="629" y="594"/>
                    </a:lnTo>
                    <a:lnTo>
                      <a:pt x="599" y="594"/>
                    </a:lnTo>
                    <a:lnTo>
                      <a:pt x="568" y="592"/>
                    </a:lnTo>
                    <a:lnTo>
                      <a:pt x="539" y="587"/>
                    </a:lnTo>
                    <a:lnTo>
                      <a:pt x="509" y="582"/>
                    </a:lnTo>
                    <a:lnTo>
                      <a:pt x="480" y="576"/>
                    </a:lnTo>
                    <a:lnTo>
                      <a:pt x="453" y="568"/>
                    </a:lnTo>
                    <a:lnTo>
                      <a:pt x="425" y="558"/>
                    </a:lnTo>
                    <a:lnTo>
                      <a:pt x="398" y="547"/>
                    </a:lnTo>
                    <a:lnTo>
                      <a:pt x="372" y="535"/>
                    </a:lnTo>
                    <a:lnTo>
                      <a:pt x="346" y="522"/>
                    </a:lnTo>
                    <a:lnTo>
                      <a:pt x="322" y="508"/>
                    </a:lnTo>
                    <a:lnTo>
                      <a:pt x="297" y="492"/>
                    </a:lnTo>
                    <a:lnTo>
                      <a:pt x="274" y="477"/>
                    </a:lnTo>
                    <a:lnTo>
                      <a:pt x="251" y="459"/>
                    </a:lnTo>
                    <a:lnTo>
                      <a:pt x="230" y="440"/>
                    </a:lnTo>
                    <a:lnTo>
                      <a:pt x="209" y="420"/>
                    </a:lnTo>
                    <a:lnTo>
                      <a:pt x="190" y="400"/>
                    </a:lnTo>
                    <a:lnTo>
                      <a:pt x="171" y="378"/>
                    </a:lnTo>
                    <a:lnTo>
                      <a:pt x="153" y="356"/>
                    </a:lnTo>
                    <a:lnTo>
                      <a:pt x="136" y="332"/>
                    </a:lnTo>
                    <a:lnTo>
                      <a:pt x="122" y="308"/>
                    </a:lnTo>
                    <a:lnTo>
                      <a:pt x="107" y="284"/>
                    </a:lnTo>
                    <a:lnTo>
                      <a:pt x="94" y="257"/>
                    </a:lnTo>
                    <a:lnTo>
                      <a:pt x="82" y="231"/>
                    </a:lnTo>
                    <a:lnTo>
                      <a:pt x="71" y="204"/>
                    </a:lnTo>
                    <a:lnTo>
                      <a:pt x="62" y="177"/>
                    </a:lnTo>
                    <a:lnTo>
                      <a:pt x="53" y="148"/>
                    </a:lnTo>
                    <a:lnTo>
                      <a:pt x="47" y="119"/>
                    </a:lnTo>
                    <a:lnTo>
                      <a:pt x="41" y="90"/>
                    </a:lnTo>
                    <a:lnTo>
                      <a:pt x="38" y="60"/>
                    </a:lnTo>
                    <a:lnTo>
                      <a:pt x="35" y="3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028680" y="2809800"/>
                <a:ext cx="249480" cy="249480"/>
              </a:xfrm>
              <a:custGeom>
                <a:avLst/>
                <a:gdLst/>
                <a:ahLst/>
                <a:rect l="l" t="t" r="r" b="b"/>
                <a:pathLst>
                  <a:path w="629" h="629">
                    <a:moveTo>
                      <a:pt x="629" y="0"/>
                    </a:moveTo>
                    <a:lnTo>
                      <a:pt x="629" y="0"/>
                    </a:lnTo>
                    <a:lnTo>
                      <a:pt x="597" y="1"/>
                    </a:lnTo>
                    <a:lnTo>
                      <a:pt x="566" y="3"/>
                    </a:lnTo>
                    <a:lnTo>
                      <a:pt x="533" y="8"/>
                    </a:lnTo>
                    <a:lnTo>
                      <a:pt x="503" y="13"/>
                    </a:lnTo>
                    <a:lnTo>
                      <a:pt x="472" y="20"/>
                    </a:lnTo>
                    <a:lnTo>
                      <a:pt x="442" y="28"/>
                    </a:lnTo>
                    <a:lnTo>
                      <a:pt x="413" y="38"/>
                    </a:lnTo>
                    <a:lnTo>
                      <a:pt x="384" y="50"/>
                    </a:lnTo>
                    <a:lnTo>
                      <a:pt x="357" y="62"/>
                    </a:lnTo>
                    <a:lnTo>
                      <a:pt x="329" y="76"/>
                    </a:lnTo>
                    <a:lnTo>
                      <a:pt x="303" y="92"/>
                    </a:lnTo>
                    <a:lnTo>
                      <a:pt x="278" y="108"/>
                    </a:lnTo>
                    <a:lnTo>
                      <a:pt x="254" y="126"/>
                    </a:lnTo>
                    <a:lnTo>
                      <a:pt x="230" y="144"/>
                    </a:lnTo>
                    <a:lnTo>
                      <a:pt x="207" y="164"/>
                    </a:lnTo>
                    <a:lnTo>
                      <a:pt x="185" y="184"/>
                    </a:lnTo>
                    <a:lnTo>
                      <a:pt x="164" y="207"/>
                    </a:lnTo>
                    <a:lnTo>
                      <a:pt x="144" y="230"/>
                    </a:lnTo>
                    <a:lnTo>
                      <a:pt x="125" y="253"/>
                    </a:lnTo>
                    <a:lnTo>
                      <a:pt x="107" y="278"/>
                    </a:lnTo>
                    <a:lnTo>
                      <a:pt x="92" y="303"/>
                    </a:lnTo>
                    <a:lnTo>
                      <a:pt x="76" y="330"/>
                    </a:lnTo>
                    <a:lnTo>
                      <a:pt x="63" y="357"/>
                    </a:lnTo>
                    <a:lnTo>
                      <a:pt x="50" y="385"/>
                    </a:lnTo>
                    <a:lnTo>
                      <a:pt x="39" y="413"/>
                    </a:lnTo>
                    <a:lnTo>
                      <a:pt x="28" y="442"/>
                    </a:lnTo>
                    <a:lnTo>
                      <a:pt x="20" y="472"/>
                    </a:lnTo>
                    <a:lnTo>
                      <a:pt x="12" y="502"/>
                    </a:lnTo>
                    <a:lnTo>
                      <a:pt x="8" y="533"/>
                    </a:lnTo>
                    <a:lnTo>
                      <a:pt x="3" y="565"/>
                    </a:lnTo>
                    <a:lnTo>
                      <a:pt x="0" y="597"/>
                    </a:lnTo>
                    <a:lnTo>
                      <a:pt x="0" y="629"/>
                    </a:lnTo>
                    <a:lnTo>
                      <a:pt x="35" y="629"/>
                    </a:lnTo>
                    <a:lnTo>
                      <a:pt x="35" y="598"/>
                    </a:lnTo>
                    <a:lnTo>
                      <a:pt x="38" y="568"/>
                    </a:lnTo>
                    <a:lnTo>
                      <a:pt x="41" y="538"/>
                    </a:lnTo>
                    <a:lnTo>
                      <a:pt x="47" y="509"/>
                    </a:lnTo>
                    <a:lnTo>
                      <a:pt x="53" y="481"/>
                    </a:lnTo>
                    <a:lnTo>
                      <a:pt x="62" y="453"/>
                    </a:lnTo>
                    <a:lnTo>
                      <a:pt x="71" y="425"/>
                    </a:lnTo>
                    <a:lnTo>
                      <a:pt x="82" y="398"/>
                    </a:lnTo>
                    <a:lnTo>
                      <a:pt x="94" y="372"/>
                    </a:lnTo>
                    <a:lnTo>
                      <a:pt x="107" y="346"/>
                    </a:lnTo>
                    <a:lnTo>
                      <a:pt x="122" y="321"/>
                    </a:lnTo>
                    <a:lnTo>
                      <a:pt x="136" y="297"/>
                    </a:lnTo>
                    <a:lnTo>
                      <a:pt x="153" y="274"/>
                    </a:lnTo>
                    <a:lnTo>
                      <a:pt x="171" y="252"/>
                    </a:lnTo>
                    <a:lnTo>
                      <a:pt x="190" y="230"/>
                    </a:lnTo>
                    <a:lnTo>
                      <a:pt x="209" y="210"/>
                    </a:lnTo>
                    <a:lnTo>
                      <a:pt x="230" y="189"/>
                    </a:lnTo>
                    <a:lnTo>
                      <a:pt x="251" y="171"/>
                    </a:lnTo>
                    <a:lnTo>
                      <a:pt x="274" y="153"/>
                    </a:lnTo>
                    <a:lnTo>
                      <a:pt x="297" y="136"/>
                    </a:lnTo>
                    <a:lnTo>
                      <a:pt x="322" y="121"/>
                    </a:lnTo>
                    <a:lnTo>
                      <a:pt x="346" y="106"/>
                    </a:lnTo>
                    <a:lnTo>
                      <a:pt x="372" y="93"/>
                    </a:lnTo>
                    <a:lnTo>
                      <a:pt x="398" y="81"/>
                    </a:lnTo>
                    <a:lnTo>
                      <a:pt x="425" y="72"/>
                    </a:lnTo>
                    <a:lnTo>
                      <a:pt x="453" y="62"/>
                    </a:lnTo>
                    <a:lnTo>
                      <a:pt x="480" y="54"/>
                    </a:lnTo>
                    <a:lnTo>
                      <a:pt x="509" y="48"/>
                    </a:lnTo>
                    <a:lnTo>
                      <a:pt x="539" y="42"/>
                    </a:lnTo>
                    <a:lnTo>
                      <a:pt x="568" y="38"/>
                    </a:lnTo>
                    <a:lnTo>
                      <a:pt x="599" y="36"/>
                    </a:lnTo>
                    <a:lnTo>
                      <a:pt x="629" y="34"/>
                    </a:lnTo>
                    <a:lnTo>
                      <a:pt x="629" y="34"/>
                    </a:lnTo>
                    <a:lnTo>
                      <a:pt x="629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036960" y="2819520"/>
                <a:ext cx="480960" cy="480960"/>
              </a:xfrm>
              <a:custGeom>
                <a:avLst/>
                <a:gdLst/>
                <a:ahLst/>
                <a:rect l="l" t="t" r="r" b="b"/>
                <a:pathLst>
                  <a:path w="1212" h="1213">
                    <a:moveTo>
                      <a:pt x="606" y="0"/>
                    </a:moveTo>
                    <a:lnTo>
                      <a:pt x="637" y="1"/>
                    </a:lnTo>
                    <a:lnTo>
                      <a:pt x="667" y="4"/>
                    </a:lnTo>
                    <a:lnTo>
                      <a:pt x="699" y="7"/>
                    </a:lnTo>
                    <a:lnTo>
                      <a:pt x="727" y="13"/>
                    </a:lnTo>
                    <a:lnTo>
                      <a:pt x="757" y="19"/>
                    </a:lnTo>
                    <a:lnTo>
                      <a:pt x="786" y="28"/>
                    </a:lnTo>
                    <a:lnTo>
                      <a:pt x="814" y="37"/>
                    </a:lnTo>
                    <a:lnTo>
                      <a:pt x="841" y="48"/>
                    </a:lnTo>
                    <a:lnTo>
                      <a:pt x="868" y="60"/>
                    </a:lnTo>
                    <a:lnTo>
                      <a:pt x="894" y="73"/>
                    </a:lnTo>
                    <a:lnTo>
                      <a:pt x="919" y="89"/>
                    </a:lnTo>
                    <a:lnTo>
                      <a:pt x="945" y="104"/>
                    </a:lnTo>
                    <a:lnTo>
                      <a:pt x="969" y="121"/>
                    </a:lnTo>
                    <a:lnTo>
                      <a:pt x="991" y="139"/>
                    </a:lnTo>
                    <a:lnTo>
                      <a:pt x="1013" y="158"/>
                    </a:lnTo>
                    <a:lnTo>
                      <a:pt x="1035" y="179"/>
                    </a:lnTo>
                    <a:lnTo>
                      <a:pt x="1054" y="199"/>
                    </a:lnTo>
                    <a:lnTo>
                      <a:pt x="1073" y="221"/>
                    </a:lnTo>
                    <a:lnTo>
                      <a:pt x="1091" y="245"/>
                    </a:lnTo>
                    <a:lnTo>
                      <a:pt x="1108" y="268"/>
                    </a:lnTo>
                    <a:lnTo>
                      <a:pt x="1125" y="293"/>
                    </a:lnTo>
                    <a:lnTo>
                      <a:pt x="1139" y="318"/>
                    </a:lnTo>
                    <a:lnTo>
                      <a:pt x="1152" y="344"/>
                    </a:lnTo>
                    <a:lnTo>
                      <a:pt x="1164" y="371"/>
                    </a:lnTo>
                    <a:lnTo>
                      <a:pt x="1175" y="398"/>
                    </a:lnTo>
                    <a:lnTo>
                      <a:pt x="1185" y="427"/>
                    </a:lnTo>
                    <a:lnTo>
                      <a:pt x="1193" y="455"/>
                    </a:lnTo>
                    <a:lnTo>
                      <a:pt x="1200" y="485"/>
                    </a:lnTo>
                    <a:lnTo>
                      <a:pt x="1205" y="515"/>
                    </a:lnTo>
                    <a:lnTo>
                      <a:pt x="1209" y="545"/>
                    </a:lnTo>
                    <a:lnTo>
                      <a:pt x="1211" y="576"/>
                    </a:lnTo>
                    <a:lnTo>
                      <a:pt x="1212" y="606"/>
                    </a:lnTo>
                    <a:lnTo>
                      <a:pt x="1211" y="637"/>
                    </a:lnTo>
                    <a:lnTo>
                      <a:pt x="1209" y="668"/>
                    </a:lnTo>
                    <a:lnTo>
                      <a:pt x="1205" y="698"/>
                    </a:lnTo>
                    <a:lnTo>
                      <a:pt x="1200" y="728"/>
                    </a:lnTo>
                    <a:lnTo>
                      <a:pt x="1193" y="757"/>
                    </a:lnTo>
                    <a:lnTo>
                      <a:pt x="1185" y="786"/>
                    </a:lnTo>
                    <a:lnTo>
                      <a:pt x="1175" y="815"/>
                    </a:lnTo>
                    <a:lnTo>
                      <a:pt x="1164" y="842"/>
                    </a:lnTo>
                    <a:lnTo>
                      <a:pt x="1152" y="869"/>
                    </a:lnTo>
                    <a:lnTo>
                      <a:pt x="1139" y="895"/>
                    </a:lnTo>
                    <a:lnTo>
                      <a:pt x="1125" y="920"/>
                    </a:lnTo>
                    <a:lnTo>
                      <a:pt x="1108" y="945"/>
                    </a:lnTo>
                    <a:lnTo>
                      <a:pt x="1091" y="968"/>
                    </a:lnTo>
                    <a:lnTo>
                      <a:pt x="1073" y="992"/>
                    </a:lnTo>
                    <a:lnTo>
                      <a:pt x="1054" y="1014"/>
                    </a:lnTo>
                    <a:lnTo>
                      <a:pt x="1035" y="1034"/>
                    </a:lnTo>
                    <a:lnTo>
                      <a:pt x="1013" y="1055"/>
                    </a:lnTo>
                    <a:lnTo>
                      <a:pt x="991" y="1074"/>
                    </a:lnTo>
                    <a:lnTo>
                      <a:pt x="969" y="1092"/>
                    </a:lnTo>
                    <a:lnTo>
                      <a:pt x="945" y="1108"/>
                    </a:lnTo>
                    <a:lnTo>
                      <a:pt x="919" y="1124"/>
                    </a:lnTo>
                    <a:lnTo>
                      <a:pt x="894" y="1140"/>
                    </a:lnTo>
                    <a:lnTo>
                      <a:pt x="868" y="1153"/>
                    </a:lnTo>
                    <a:lnTo>
                      <a:pt x="841" y="1165"/>
                    </a:lnTo>
                    <a:lnTo>
                      <a:pt x="814" y="1176"/>
                    </a:lnTo>
                    <a:lnTo>
                      <a:pt x="786" y="1185"/>
                    </a:lnTo>
                    <a:lnTo>
                      <a:pt x="757" y="1194"/>
                    </a:lnTo>
                    <a:lnTo>
                      <a:pt x="727" y="1200"/>
                    </a:lnTo>
                    <a:lnTo>
                      <a:pt x="699" y="1206"/>
                    </a:lnTo>
                    <a:lnTo>
                      <a:pt x="667" y="1209"/>
                    </a:lnTo>
                    <a:lnTo>
                      <a:pt x="637" y="1212"/>
                    </a:lnTo>
                    <a:lnTo>
                      <a:pt x="606" y="1213"/>
                    </a:lnTo>
                    <a:lnTo>
                      <a:pt x="575" y="1212"/>
                    </a:lnTo>
                    <a:lnTo>
                      <a:pt x="544" y="1209"/>
                    </a:lnTo>
                    <a:lnTo>
                      <a:pt x="514" y="1206"/>
                    </a:lnTo>
                    <a:lnTo>
                      <a:pt x="484" y="1200"/>
                    </a:lnTo>
                    <a:lnTo>
                      <a:pt x="455" y="1194"/>
                    </a:lnTo>
                    <a:lnTo>
                      <a:pt x="426" y="1185"/>
                    </a:lnTo>
                    <a:lnTo>
                      <a:pt x="397" y="1176"/>
                    </a:lnTo>
                    <a:lnTo>
                      <a:pt x="370" y="1165"/>
                    </a:lnTo>
                    <a:lnTo>
                      <a:pt x="343" y="1153"/>
                    </a:lnTo>
                    <a:lnTo>
                      <a:pt x="317" y="1140"/>
                    </a:lnTo>
                    <a:lnTo>
                      <a:pt x="292" y="1124"/>
                    </a:lnTo>
                    <a:lnTo>
                      <a:pt x="268" y="1108"/>
                    </a:lnTo>
                    <a:lnTo>
                      <a:pt x="244" y="1092"/>
                    </a:lnTo>
                    <a:lnTo>
                      <a:pt x="221" y="1074"/>
                    </a:lnTo>
                    <a:lnTo>
                      <a:pt x="198" y="1055"/>
                    </a:lnTo>
                    <a:lnTo>
                      <a:pt x="178" y="1034"/>
                    </a:lnTo>
                    <a:lnTo>
                      <a:pt x="157" y="1014"/>
                    </a:lnTo>
                    <a:lnTo>
                      <a:pt x="138" y="992"/>
                    </a:lnTo>
                    <a:lnTo>
                      <a:pt x="120" y="968"/>
                    </a:lnTo>
                    <a:lnTo>
                      <a:pt x="103" y="945"/>
                    </a:lnTo>
                    <a:lnTo>
                      <a:pt x="88" y="920"/>
                    </a:lnTo>
                    <a:lnTo>
                      <a:pt x="73" y="895"/>
                    </a:lnTo>
                    <a:lnTo>
                      <a:pt x="60" y="869"/>
                    </a:lnTo>
                    <a:lnTo>
                      <a:pt x="47" y="842"/>
                    </a:lnTo>
                    <a:lnTo>
                      <a:pt x="36" y="815"/>
                    </a:lnTo>
                    <a:lnTo>
                      <a:pt x="27" y="786"/>
                    </a:lnTo>
                    <a:lnTo>
                      <a:pt x="19" y="757"/>
                    </a:lnTo>
                    <a:lnTo>
                      <a:pt x="12" y="728"/>
                    </a:lnTo>
                    <a:lnTo>
                      <a:pt x="6" y="698"/>
                    </a:lnTo>
                    <a:lnTo>
                      <a:pt x="3" y="668"/>
                    </a:lnTo>
                    <a:lnTo>
                      <a:pt x="0" y="637"/>
                    </a:lnTo>
                    <a:lnTo>
                      <a:pt x="0" y="606"/>
                    </a:lnTo>
                    <a:lnTo>
                      <a:pt x="0" y="576"/>
                    </a:lnTo>
                    <a:lnTo>
                      <a:pt x="3" y="545"/>
                    </a:lnTo>
                    <a:lnTo>
                      <a:pt x="6" y="515"/>
                    </a:lnTo>
                    <a:lnTo>
                      <a:pt x="12" y="485"/>
                    </a:lnTo>
                    <a:lnTo>
                      <a:pt x="19" y="455"/>
                    </a:lnTo>
                    <a:lnTo>
                      <a:pt x="27" y="427"/>
                    </a:lnTo>
                    <a:lnTo>
                      <a:pt x="36" y="398"/>
                    </a:lnTo>
                    <a:lnTo>
                      <a:pt x="47" y="371"/>
                    </a:lnTo>
                    <a:lnTo>
                      <a:pt x="60" y="344"/>
                    </a:lnTo>
                    <a:lnTo>
                      <a:pt x="73" y="318"/>
                    </a:lnTo>
                    <a:lnTo>
                      <a:pt x="88" y="293"/>
                    </a:lnTo>
                    <a:lnTo>
                      <a:pt x="103" y="268"/>
                    </a:lnTo>
                    <a:lnTo>
                      <a:pt x="120" y="245"/>
                    </a:lnTo>
                    <a:lnTo>
                      <a:pt x="138" y="221"/>
                    </a:lnTo>
                    <a:lnTo>
                      <a:pt x="157" y="199"/>
                    </a:lnTo>
                    <a:lnTo>
                      <a:pt x="178" y="179"/>
                    </a:lnTo>
                    <a:lnTo>
                      <a:pt x="198" y="158"/>
                    </a:lnTo>
                    <a:lnTo>
                      <a:pt x="221" y="139"/>
                    </a:lnTo>
                    <a:lnTo>
                      <a:pt x="244" y="121"/>
                    </a:lnTo>
                    <a:lnTo>
                      <a:pt x="268" y="104"/>
                    </a:lnTo>
                    <a:lnTo>
                      <a:pt x="292" y="89"/>
                    </a:lnTo>
                    <a:lnTo>
                      <a:pt x="317" y="73"/>
                    </a:lnTo>
                    <a:lnTo>
                      <a:pt x="343" y="60"/>
                    </a:lnTo>
                    <a:lnTo>
                      <a:pt x="370" y="48"/>
                    </a:lnTo>
                    <a:lnTo>
                      <a:pt x="397" y="37"/>
                    </a:lnTo>
                    <a:lnTo>
                      <a:pt x="426" y="28"/>
                    </a:lnTo>
                    <a:lnTo>
                      <a:pt x="455" y="19"/>
                    </a:lnTo>
                    <a:lnTo>
                      <a:pt x="484" y="13"/>
                    </a:lnTo>
                    <a:lnTo>
                      <a:pt x="514" y="7"/>
                    </a:lnTo>
                    <a:lnTo>
                      <a:pt x="544" y="4"/>
                    </a:lnTo>
                    <a:lnTo>
                      <a:pt x="575" y="1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084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039840" y="2824200"/>
                <a:ext cx="476280" cy="476280"/>
              </a:xfrm>
              <a:custGeom>
                <a:avLst/>
                <a:gdLst/>
                <a:ahLst/>
                <a:rect l="l" t="t" r="r" b="b"/>
                <a:pathLst>
                  <a:path w="1201" h="1200">
                    <a:moveTo>
                      <a:pt x="601" y="0"/>
                    </a:moveTo>
                    <a:lnTo>
                      <a:pt x="631" y="0"/>
                    </a:lnTo>
                    <a:lnTo>
                      <a:pt x="662" y="2"/>
                    </a:lnTo>
                    <a:lnTo>
                      <a:pt x="692" y="6"/>
                    </a:lnTo>
                    <a:lnTo>
                      <a:pt x="721" y="12"/>
                    </a:lnTo>
                    <a:lnTo>
                      <a:pt x="750" y="18"/>
                    </a:lnTo>
                    <a:lnTo>
                      <a:pt x="779" y="26"/>
                    </a:lnTo>
                    <a:lnTo>
                      <a:pt x="806" y="36"/>
                    </a:lnTo>
                    <a:lnTo>
                      <a:pt x="834" y="46"/>
                    </a:lnTo>
                    <a:lnTo>
                      <a:pt x="860" y="58"/>
                    </a:lnTo>
                    <a:lnTo>
                      <a:pt x="887" y="72"/>
                    </a:lnTo>
                    <a:lnTo>
                      <a:pt x="912" y="86"/>
                    </a:lnTo>
                    <a:lnTo>
                      <a:pt x="936" y="102"/>
                    </a:lnTo>
                    <a:lnTo>
                      <a:pt x="960" y="118"/>
                    </a:lnTo>
                    <a:lnTo>
                      <a:pt x="983" y="136"/>
                    </a:lnTo>
                    <a:lnTo>
                      <a:pt x="1004" y="156"/>
                    </a:lnTo>
                    <a:lnTo>
                      <a:pt x="1025" y="175"/>
                    </a:lnTo>
                    <a:lnTo>
                      <a:pt x="1045" y="196"/>
                    </a:lnTo>
                    <a:lnTo>
                      <a:pt x="1064" y="218"/>
                    </a:lnTo>
                    <a:lnTo>
                      <a:pt x="1081" y="241"/>
                    </a:lnTo>
                    <a:lnTo>
                      <a:pt x="1098" y="265"/>
                    </a:lnTo>
                    <a:lnTo>
                      <a:pt x="1114" y="289"/>
                    </a:lnTo>
                    <a:lnTo>
                      <a:pt x="1129" y="314"/>
                    </a:lnTo>
                    <a:lnTo>
                      <a:pt x="1142" y="339"/>
                    </a:lnTo>
                    <a:lnTo>
                      <a:pt x="1154" y="367"/>
                    </a:lnTo>
                    <a:lnTo>
                      <a:pt x="1165" y="393"/>
                    </a:lnTo>
                    <a:lnTo>
                      <a:pt x="1175" y="422"/>
                    </a:lnTo>
                    <a:lnTo>
                      <a:pt x="1182" y="449"/>
                    </a:lnTo>
                    <a:lnTo>
                      <a:pt x="1189" y="478"/>
                    </a:lnTo>
                    <a:lnTo>
                      <a:pt x="1194" y="508"/>
                    </a:lnTo>
                    <a:lnTo>
                      <a:pt x="1198" y="538"/>
                    </a:lnTo>
                    <a:lnTo>
                      <a:pt x="1200" y="568"/>
                    </a:lnTo>
                    <a:lnTo>
                      <a:pt x="1201" y="599"/>
                    </a:lnTo>
                    <a:lnTo>
                      <a:pt x="1200" y="631"/>
                    </a:lnTo>
                    <a:lnTo>
                      <a:pt x="1198" y="661"/>
                    </a:lnTo>
                    <a:lnTo>
                      <a:pt x="1194" y="691"/>
                    </a:lnTo>
                    <a:lnTo>
                      <a:pt x="1189" y="721"/>
                    </a:lnTo>
                    <a:lnTo>
                      <a:pt x="1182" y="749"/>
                    </a:lnTo>
                    <a:lnTo>
                      <a:pt x="1175" y="778"/>
                    </a:lnTo>
                    <a:lnTo>
                      <a:pt x="1165" y="806"/>
                    </a:lnTo>
                    <a:lnTo>
                      <a:pt x="1154" y="833"/>
                    </a:lnTo>
                    <a:lnTo>
                      <a:pt x="1142" y="860"/>
                    </a:lnTo>
                    <a:lnTo>
                      <a:pt x="1129" y="885"/>
                    </a:lnTo>
                    <a:lnTo>
                      <a:pt x="1114" y="910"/>
                    </a:lnTo>
                    <a:lnTo>
                      <a:pt x="1098" y="935"/>
                    </a:lnTo>
                    <a:lnTo>
                      <a:pt x="1081" y="958"/>
                    </a:lnTo>
                    <a:lnTo>
                      <a:pt x="1064" y="981"/>
                    </a:lnTo>
                    <a:lnTo>
                      <a:pt x="1045" y="1003"/>
                    </a:lnTo>
                    <a:lnTo>
                      <a:pt x="1025" y="1024"/>
                    </a:lnTo>
                    <a:lnTo>
                      <a:pt x="1004" y="1043"/>
                    </a:lnTo>
                    <a:lnTo>
                      <a:pt x="983" y="1063"/>
                    </a:lnTo>
                    <a:lnTo>
                      <a:pt x="960" y="1081"/>
                    </a:lnTo>
                    <a:lnTo>
                      <a:pt x="936" y="1097"/>
                    </a:lnTo>
                    <a:lnTo>
                      <a:pt x="912" y="1113"/>
                    </a:lnTo>
                    <a:lnTo>
                      <a:pt x="887" y="1127"/>
                    </a:lnTo>
                    <a:lnTo>
                      <a:pt x="860" y="1140"/>
                    </a:lnTo>
                    <a:lnTo>
                      <a:pt x="834" y="1152"/>
                    </a:lnTo>
                    <a:lnTo>
                      <a:pt x="806" y="1163"/>
                    </a:lnTo>
                    <a:lnTo>
                      <a:pt x="779" y="1173"/>
                    </a:lnTo>
                    <a:lnTo>
                      <a:pt x="750" y="1181"/>
                    </a:lnTo>
                    <a:lnTo>
                      <a:pt x="721" y="1187"/>
                    </a:lnTo>
                    <a:lnTo>
                      <a:pt x="692" y="1193"/>
                    </a:lnTo>
                    <a:lnTo>
                      <a:pt x="662" y="1197"/>
                    </a:lnTo>
                    <a:lnTo>
                      <a:pt x="631" y="1199"/>
                    </a:lnTo>
                    <a:lnTo>
                      <a:pt x="601" y="1200"/>
                    </a:lnTo>
                    <a:lnTo>
                      <a:pt x="570" y="1199"/>
                    </a:lnTo>
                    <a:lnTo>
                      <a:pt x="539" y="1197"/>
                    </a:lnTo>
                    <a:lnTo>
                      <a:pt x="509" y="1193"/>
                    </a:lnTo>
                    <a:lnTo>
                      <a:pt x="480" y="1187"/>
                    </a:lnTo>
                    <a:lnTo>
                      <a:pt x="451" y="1181"/>
                    </a:lnTo>
                    <a:lnTo>
                      <a:pt x="422" y="1173"/>
                    </a:lnTo>
                    <a:lnTo>
                      <a:pt x="395" y="1163"/>
                    </a:lnTo>
                    <a:lnTo>
                      <a:pt x="367" y="1152"/>
                    </a:lnTo>
                    <a:lnTo>
                      <a:pt x="341" y="1140"/>
                    </a:lnTo>
                    <a:lnTo>
                      <a:pt x="314" y="1127"/>
                    </a:lnTo>
                    <a:lnTo>
                      <a:pt x="289" y="1113"/>
                    </a:lnTo>
                    <a:lnTo>
                      <a:pt x="265" y="1097"/>
                    </a:lnTo>
                    <a:lnTo>
                      <a:pt x="241" y="1081"/>
                    </a:lnTo>
                    <a:lnTo>
                      <a:pt x="218" y="1063"/>
                    </a:lnTo>
                    <a:lnTo>
                      <a:pt x="197" y="1043"/>
                    </a:lnTo>
                    <a:lnTo>
                      <a:pt x="176" y="1024"/>
                    </a:lnTo>
                    <a:lnTo>
                      <a:pt x="156" y="1003"/>
                    </a:lnTo>
                    <a:lnTo>
                      <a:pt x="138" y="981"/>
                    </a:lnTo>
                    <a:lnTo>
                      <a:pt x="120" y="958"/>
                    </a:lnTo>
                    <a:lnTo>
                      <a:pt x="103" y="935"/>
                    </a:lnTo>
                    <a:lnTo>
                      <a:pt x="88" y="910"/>
                    </a:lnTo>
                    <a:lnTo>
                      <a:pt x="73" y="885"/>
                    </a:lnTo>
                    <a:lnTo>
                      <a:pt x="59" y="860"/>
                    </a:lnTo>
                    <a:lnTo>
                      <a:pt x="47" y="833"/>
                    </a:lnTo>
                    <a:lnTo>
                      <a:pt x="36" y="806"/>
                    </a:lnTo>
                    <a:lnTo>
                      <a:pt x="28" y="778"/>
                    </a:lnTo>
                    <a:lnTo>
                      <a:pt x="19" y="749"/>
                    </a:lnTo>
                    <a:lnTo>
                      <a:pt x="12" y="721"/>
                    </a:lnTo>
                    <a:lnTo>
                      <a:pt x="7" y="691"/>
                    </a:lnTo>
                    <a:lnTo>
                      <a:pt x="4" y="661"/>
                    </a:lnTo>
                    <a:lnTo>
                      <a:pt x="1" y="631"/>
                    </a:lnTo>
                    <a:lnTo>
                      <a:pt x="0" y="599"/>
                    </a:lnTo>
                    <a:lnTo>
                      <a:pt x="1" y="568"/>
                    </a:lnTo>
                    <a:lnTo>
                      <a:pt x="4" y="538"/>
                    </a:lnTo>
                    <a:lnTo>
                      <a:pt x="7" y="508"/>
                    </a:lnTo>
                    <a:lnTo>
                      <a:pt x="12" y="478"/>
                    </a:lnTo>
                    <a:lnTo>
                      <a:pt x="19" y="449"/>
                    </a:lnTo>
                    <a:lnTo>
                      <a:pt x="28" y="422"/>
                    </a:lnTo>
                    <a:lnTo>
                      <a:pt x="36" y="393"/>
                    </a:lnTo>
                    <a:lnTo>
                      <a:pt x="47" y="367"/>
                    </a:lnTo>
                    <a:lnTo>
                      <a:pt x="59" y="339"/>
                    </a:lnTo>
                    <a:lnTo>
                      <a:pt x="73" y="314"/>
                    </a:lnTo>
                    <a:lnTo>
                      <a:pt x="88" y="289"/>
                    </a:lnTo>
                    <a:lnTo>
                      <a:pt x="103" y="265"/>
                    </a:lnTo>
                    <a:lnTo>
                      <a:pt x="120" y="241"/>
                    </a:lnTo>
                    <a:lnTo>
                      <a:pt x="138" y="218"/>
                    </a:lnTo>
                    <a:lnTo>
                      <a:pt x="156" y="196"/>
                    </a:lnTo>
                    <a:lnTo>
                      <a:pt x="176" y="175"/>
                    </a:lnTo>
                    <a:lnTo>
                      <a:pt x="197" y="156"/>
                    </a:lnTo>
                    <a:lnTo>
                      <a:pt x="218" y="136"/>
                    </a:lnTo>
                    <a:lnTo>
                      <a:pt x="241" y="118"/>
                    </a:lnTo>
                    <a:lnTo>
                      <a:pt x="265" y="102"/>
                    </a:lnTo>
                    <a:lnTo>
                      <a:pt x="289" y="86"/>
                    </a:lnTo>
                    <a:lnTo>
                      <a:pt x="314" y="72"/>
                    </a:lnTo>
                    <a:lnTo>
                      <a:pt x="341" y="58"/>
                    </a:lnTo>
                    <a:lnTo>
                      <a:pt x="367" y="46"/>
                    </a:lnTo>
                    <a:lnTo>
                      <a:pt x="395" y="36"/>
                    </a:lnTo>
                    <a:lnTo>
                      <a:pt x="422" y="26"/>
                    </a:lnTo>
                    <a:lnTo>
                      <a:pt x="451" y="18"/>
                    </a:lnTo>
                    <a:lnTo>
                      <a:pt x="480" y="12"/>
                    </a:lnTo>
                    <a:lnTo>
                      <a:pt x="509" y="6"/>
                    </a:lnTo>
                    <a:lnTo>
                      <a:pt x="539" y="2"/>
                    </a:lnTo>
                    <a:lnTo>
                      <a:pt x="570" y="0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c48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041640" y="2827440"/>
                <a:ext cx="471240" cy="471240"/>
              </a:xfrm>
              <a:custGeom>
                <a:avLst/>
                <a:gdLst/>
                <a:ahLst/>
                <a:rect l="l" t="t" r="r" b="b"/>
                <a:pathLst>
                  <a:path w="1190" h="1190">
                    <a:moveTo>
                      <a:pt x="595" y="0"/>
                    </a:moveTo>
                    <a:lnTo>
                      <a:pt x="626" y="1"/>
                    </a:lnTo>
                    <a:lnTo>
                      <a:pt x="656" y="2"/>
                    </a:lnTo>
                    <a:lnTo>
                      <a:pt x="686" y="7"/>
                    </a:lnTo>
                    <a:lnTo>
                      <a:pt x="715" y="12"/>
                    </a:lnTo>
                    <a:lnTo>
                      <a:pt x="744" y="19"/>
                    </a:lnTo>
                    <a:lnTo>
                      <a:pt x="771" y="26"/>
                    </a:lnTo>
                    <a:lnTo>
                      <a:pt x="799" y="36"/>
                    </a:lnTo>
                    <a:lnTo>
                      <a:pt x="827" y="47"/>
                    </a:lnTo>
                    <a:lnTo>
                      <a:pt x="853" y="59"/>
                    </a:lnTo>
                    <a:lnTo>
                      <a:pt x="878" y="72"/>
                    </a:lnTo>
                    <a:lnTo>
                      <a:pt x="903" y="86"/>
                    </a:lnTo>
                    <a:lnTo>
                      <a:pt x="927" y="102"/>
                    </a:lnTo>
                    <a:lnTo>
                      <a:pt x="951" y="119"/>
                    </a:lnTo>
                    <a:lnTo>
                      <a:pt x="973" y="136"/>
                    </a:lnTo>
                    <a:lnTo>
                      <a:pt x="995" y="155"/>
                    </a:lnTo>
                    <a:lnTo>
                      <a:pt x="1016" y="174"/>
                    </a:lnTo>
                    <a:lnTo>
                      <a:pt x="1035" y="196"/>
                    </a:lnTo>
                    <a:lnTo>
                      <a:pt x="1055" y="217"/>
                    </a:lnTo>
                    <a:lnTo>
                      <a:pt x="1071" y="239"/>
                    </a:lnTo>
                    <a:lnTo>
                      <a:pt x="1088" y="263"/>
                    </a:lnTo>
                    <a:lnTo>
                      <a:pt x="1104" y="287"/>
                    </a:lnTo>
                    <a:lnTo>
                      <a:pt x="1118" y="312"/>
                    </a:lnTo>
                    <a:lnTo>
                      <a:pt x="1131" y="337"/>
                    </a:lnTo>
                    <a:lnTo>
                      <a:pt x="1143" y="363"/>
                    </a:lnTo>
                    <a:lnTo>
                      <a:pt x="1154" y="391"/>
                    </a:lnTo>
                    <a:lnTo>
                      <a:pt x="1164" y="419"/>
                    </a:lnTo>
                    <a:lnTo>
                      <a:pt x="1172" y="446"/>
                    </a:lnTo>
                    <a:lnTo>
                      <a:pt x="1178" y="475"/>
                    </a:lnTo>
                    <a:lnTo>
                      <a:pt x="1183" y="504"/>
                    </a:lnTo>
                    <a:lnTo>
                      <a:pt x="1188" y="534"/>
                    </a:lnTo>
                    <a:lnTo>
                      <a:pt x="1190" y="564"/>
                    </a:lnTo>
                    <a:lnTo>
                      <a:pt x="1190" y="595"/>
                    </a:lnTo>
                    <a:lnTo>
                      <a:pt x="1190" y="625"/>
                    </a:lnTo>
                    <a:lnTo>
                      <a:pt x="1188" y="655"/>
                    </a:lnTo>
                    <a:lnTo>
                      <a:pt x="1183" y="685"/>
                    </a:lnTo>
                    <a:lnTo>
                      <a:pt x="1178" y="715"/>
                    </a:lnTo>
                    <a:lnTo>
                      <a:pt x="1172" y="744"/>
                    </a:lnTo>
                    <a:lnTo>
                      <a:pt x="1164" y="771"/>
                    </a:lnTo>
                    <a:lnTo>
                      <a:pt x="1154" y="799"/>
                    </a:lnTo>
                    <a:lnTo>
                      <a:pt x="1143" y="827"/>
                    </a:lnTo>
                    <a:lnTo>
                      <a:pt x="1131" y="853"/>
                    </a:lnTo>
                    <a:lnTo>
                      <a:pt x="1118" y="878"/>
                    </a:lnTo>
                    <a:lnTo>
                      <a:pt x="1104" y="903"/>
                    </a:lnTo>
                    <a:lnTo>
                      <a:pt x="1088" y="927"/>
                    </a:lnTo>
                    <a:lnTo>
                      <a:pt x="1071" y="950"/>
                    </a:lnTo>
                    <a:lnTo>
                      <a:pt x="1055" y="973"/>
                    </a:lnTo>
                    <a:lnTo>
                      <a:pt x="1035" y="995"/>
                    </a:lnTo>
                    <a:lnTo>
                      <a:pt x="1016" y="1015"/>
                    </a:lnTo>
                    <a:lnTo>
                      <a:pt x="995" y="1035"/>
                    </a:lnTo>
                    <a:lnTo>
                      <a:pt x="973" y="1053"/>
                    </a:lnTo>
                    <a:lnTo>
                      <a:pt x="951" y="1071"/>
                    </a:lnTo>
                    <a:lnTo>
                      <a:pt x="927" y="1088"/>
                    </a:lnTo>
                    <a:lnTo>
                      <a:pt x="903" y="1104"/>
                    </a:lnTo>
                    <a:lnTo>
                      <a:pt x="878" y="1118"/>
                    </a:lnTo>
                    <a:lnTo>
                      <a:pt x="853" y="1131"/>
                    </a:lnTo>
                    <a:lnTo>
                      <a:pt x="827" y="1143"/>
                    </a:lnTo>
                    <a:lnTo>
                      <a:pt x="799" y="1154"/>
                    </a:lnTo>
                    <a:lnTo>
                      <a:pt x="771" y="1162"/>
                    </a:lnTo>
                    <a:lnTo>
                      <a:pt x="744" y="1171"/>
                    </a:lnTo>
                    <a:lnTo>
                      <a:pt x="715" y="1178"/>
                    </a:lnTo>
                    <a:lnTo>
                      <a:pt x="686" y="1183"/>
                    </a:lnTo>
                    <a:lnTo>
                      <a:pt x="656" y="1186"/>
                    </a:lnTo>
                    <a:lnTo>
                      <a:pt x="626" y="1189"/>
                    </a:lnTo>
                    <a:lnTo>
                      <a:pt x="595" y="1190"/>
                    </a:lnTo>
                    <a:lnTo>
                      <a:pt x="565" y="1189"/>
                    </a:lnTo>
                    <a:lnTo>
                      <a:pt x="535" y="1186"/>
                    </a:lnTo>
                    <a:lnTo>
                      <a:pt x="505" y="1183"/>
                    </a:lnTo>
                    <a:lnTo>
                      <a:pt x="476" y="1178"/>
                    </a:lnTo>
                    <a:lnTo>
                      <a:pt x="447" y="1171"/>
                    </a:lnTo>
                    <a:lnTo>
                      <a:pt x="419" y="1162"/>
                    </a:lnTo>
                    <a:lnTo>
                      <a:pt x="391" y="1154"/>
                    </a:lnTo>
                    <a:lnTo>
                      <a:pt x="365" y="1143"/>
                    </a:lnTo>
                    <a:lnTo>
                      <a:pt x="338" y="1131"/>
                    </a:lnTo>
                    <a:lnTo>
                      <a:pt x="312" y="1118"/>
                    </a:lnTo>
                    <a:lnTo>
                      <a:pt x="287" y="1104"/>
                    </a:lnTo>
                    <a:lnTo>
                      <a:pt x="263" y="1088"/>
                    </a:lnTo>
                    <a:lnTo>
                      <a:pt x="240" y="1071"/>
                    </a:lnTo>
                    <a:lnTo>
                      <a:pt x="217" y="1053"/>
                    </a:lnTo>
                    <a:lnTo>
                      <a:pt x="195" y="1035"/>
                    </a:lnTo>
                    <a:lnTo>
                      <a:pt x="175" y="1015"/>
                    </a:lnTo>
                    <a:lnTo>
                      <a:pt x="155" y="995"/>
                    </a:lnTo>
                    <a:lnTo>
                      <a:pt x="137" y="973"/>
                    </a:lnTo>
                    <a:lnTo>
                      <a:pt x="119" y="950"/>
                    </a:lnTo>
                    <a:lnTo>
                      <a:pt x="102" y="927"/>
                    </a:lnTo>
                    <a:lnTo>
                      <a:pt x="86" y="903"/>
                    </a:lnTo>
                    <a:lnTo>
                      <a:pt x="72" y="878"/>
                    </a:lnTo>
                    <a:lnTo>
                      <a:pt x="59" y="853"/>
                    </a:lnTo>
                    <a:lnTo>
                      <a:pt x="47" y="827"/>
                    </a:lnTo>
                    <a:lnTo>
                      <a:pt x="37" y="799"/>
                    </a:lnTo>
                    <a:lnTo>
                      <a:pt x="27" y="771"/>
                    </a:lnTo>
                    <a:lnTo>
                      <a:pt x="19" y="744"/>
                    </a:lnTo>
                    <a:lnTo>
                      <a:pt x="13" y="715"/>
                    </a:lnTo>
                    <a:lnTo>
                      <a:pt x="7" y="685"/>
                    </a:lnTo>
                    <a:lnTo>
                      <a:pt x="3" y="655"/>
                    </a:lnTo>
                    <a:lnTo>
                      <a:pt x="1" y="625"/>
                    </a:lnTo>
                    <a:lnTo>
                      <a:pt x="0" y="595"/>
                    </a:lnTo>
                    <a:lnTo>
                      <a:pt x="1" y="564"/>
                    </a:lnTo>
                    <a:lnTo>
                      <a:pt x="3" y="534"/>
                    </a:lnTo>
                    <a:lnTo>
                      <a:pt x="7" y="504"/>
                    </a:lnTo>
                    <a:lnTo>
                      <a:pt x="13" y="475"/>
                    </a:lnTo>
                    <a:lnTo>
                      <a:pt x="19" y="446"/>
                    </a:lnTo>
                    <a:lnTo>
                      <a:pt x="27" y="419"/>
                    </a:lnTo>
                    <a:lnTo>
                      <a:pt x="37" y="391"/>
                    </a:lnTo>
                    <a:lnTo>
                      <a:pt x="47" y="363"/>
                    </a:lnTo>
                    <a:lnTo>
                      <a:pt x="59" y="337"/>
                    </a:lnTo>
                    <a:lnTo>
                      <a:pt x="72" y="312"/>
                    </a:lnTo>
                    <a:lnTo>
                      <a:pt x="86" y="287"/>
                    </a:lnTo>
                    <a:lnTo>
                      <a:pt x="102" y="263"/>
                    </a:lnTo>
                    <a:lnTo>
                      <a:pt x="119" y="239"/>
                    </a:lnTo>
                    <a:lnTo>
                      <a:pt x="137" y="217"/>
                    </a:lnTo>
                    <a:lnTo>
                      <a:pt x="155" y="196"/>
                    </a:lnTo>
                    <a:lnTo>
                      <a:pt x="175" y="174"/>
                    </a:lnTo>
                    <a:lnTo>
                      <a:pt x="195" y="155"/>
                    </a:lnTo>
                    <a:lnTo>
                      <a:pt x="217" y="136"/>
                    </a:lnTo>
                    <a:lnTo>
                      <a:pt x="240" y="119"/>
                    </a:lnTo>
                    <a:lnTo>
                      <a:pt x="263" y="102"/>
                    </a:lnTo>
                    <a:lnTo>
                      <a:pt x="287" y="86"/>
                    </a:lnTo>
                    <a:lnTo>
                      <a:pt x="312" y="72"/>
                    </a:lnTo>
                    <a:lnTo>
                      <a:pt x="338" y="59"/>
                    </a:lnTo>
                    <a:lnTo>
                      <a:pt x="365" y="47"/>
                    </a:lnTo>
                    <a:lnTo>
                      <a:pt x="391" y="36"/>
                    </a:lnTo>
                    <a:lnTo>
                      <a:pt x="419" y="26"/>
                    </a:lnTo>
                    <a:lnTo>
                      <a:pt x="447" y="19"/>
                    </a:lnTo>
                    <a:lnTo>
                      <a:pt x="476" y="12"/>
                    </a:lnTo>
                    <a:lnTo>
                      <a:pt x="505" y="7"/>
                    </a:lnTo>
                    <a:lnTo>
                      <a:pt x="535" y="2"/>
                    </a:lnTo>
                    <a:lnTo>
                      <a:pt x="565" y="1"/>
                    </a:lnTo>
                    <a:lnTo>
                      <a:pt x="595" y="0"/>
                    </a:lnTo>
                    <a:close/>
                  </a:path>
                </a:pathLst>
              </a:custGeom>
              <a:solidFill>
                <a:srgbClr val="ca8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043080" y="2830680"/>
                <a:ext cx="468360" cy="468000"/>
              </a:xfrm>
              <a:custGeom>
                <a:avLst/>
                <a:gdLst/>
                <a:ahLst/>
                <a:rect l="l" t="t" r="r" b="b"/>
                <a:pathLst>
                  <a:path w="1178" h="1180">
                    <a:moveTo>
                      <a:pt x="589" y="0"/>
                    </a:moveTo>
                    <a:lnTo>
                      <a:pt x="619" y="2"/>
                    </a:lnTo>
                    <a:lnTo>
                      <a:pt x="649" y="4"/>
                    </a:lnTo>
                    <a:lnTo>
                      <a:pt x="679" y="8"/>
                    </a:lnTo>
                    <a:lnTo>
                      <a:pt x="708" y="12"/>
                    </a:lnTo>
                    <a:lnTo>
                      <a:pt x="737" y="20"/>
                    </a:lnTo>
                    <a:lnTo>
                      <a:pt x="764" y="27"/>
                    </a:lnTo>
                    <a:lnTo>
                      <a:pt x="792" y="36"/>
                    </a:lnTo>
                    <a:lnTo>
                      <a:pt x="818" y="47"/>
                    </a:lnTo>
                    <a:lnTo>
                      <a:pt x="845" y="59"/>
                    </a:lnTo>
                    <a:lnTo>
                      <a:pt x="870" y="72"/>
                    </a:lnTo>
                    <a:lnTo>
                      <a:pt x="894" y="87"/>
                    </a:lnTo>
                    <a:lnTo>
                      <a:pt x="918" y="101"/>
                    </a:lnTo>
                    <a:lnTo>
                      <a:pt x="942" y="118"/>
                    </a:lnTo>
                    <a:lnTo>
                      <a:pt x="963" y="136"/>
                    </a:lnTo>
                    <a:lnTo>
                      <a:pt x="985" y="154"/>
                    </a:lnTo>
                    <a:lnTo>
                      <a:pt x="1005" y="173"/>
                    </a:lnTo>
                    <a:lnTo>
                      <a:pt x="1025" y="194"/>
                    </a:lnTo>
                    <a:lnTo>
                      <a:pt x="1044" y="215"/>
                    </a:lnTo>
                    <a:lnTo>
                      <a:pt x="1062" y="238"/>
                    </a:lnTo>
                    <a:lnTo>
                      <a:pt x="1077" y="261"/>
                    </a:lnTo>
                    <a:lnTo>
                      <a:pt x="1093" y="285"/>
                    </a:lnTo>
                    <a:lnTo>
                      <a:pt x="1107" y="310"/>
                    </a:lnTo>
                    <a:lnTo>
                      <a:pt x="1121" y="335"/>
                    </a:lnTo>
                    <a:lnTo>
                      <a:pt x="1133" y="361"/>
                    </a:lnTo>
                    <a:lnTo>
                      <a:pt x="1142" y="388"/>
                    </a:lnTo>
                    <a:lnTo>
                      <a:pt x="1152" y="415"/>
                    </a:lnTo>
                    <a:lnTo>
                      <a:pt x="1160" y="443"/>
                    </a:lnTo>
                    <a:lnTo>
                      <a:pt x="1166" y="472"/>
                    </a:lnTo>
                    <a:lnTo>
                      <a:pt x="1172" y="501"/>
                    </a:lnTo>
                    <a:lnTo>
                      <a:pt x="1176" y="529"/>
                    </a:lnTo>
                    <a:lnTo>
                      <a:pt x="1178" y="559"/>
                    </a:lnTo>
                    <a:lnTo>
                      <a:pt x="1178" y="589"/>
                    </a:lnTo>
                    <a:lnTo>
                      <a:pt x="1178" y="621"/>
                    </a:lnTo>
                    <a:lnTo>
                      <a:pt x="1176" y="651"/>
                    </a:lnTo>
                    <a:lnTo>
                      <a:pt x="1172" y="679"/>
                    </a:lnTo>
                    <a:lnTo>
                      <a:pt x="1166" y="708"/>
                    </a:lnTo>
                    <a:lnTo>
                      <a:pt x="1160" y="737"/>
                    </a:lnTo>
                    <a:lnTo>
                      <a:pt x="1152" y="765"/>
                    </a:lnTo>
                    <a:lnTo>
                      <a:pt x="1142" y="792"/>
                    </a:lnTo>
                    <a:lnTo>
                      <a:pt x="1133" y="819"/>
                    </a:lnTo>
                    <a:lnTo>
                      <a:pt x="1121" y="845"/>
                    </a:lnTo>
                    <a:lnTo>
                      <a:pt x="1107" y="870"/>
                    </a:lnTo>
                    <a:lnTo>
                      <a:pt x="1093" y="895"/>
                    </a:lnTo>
                    <a:lnTo>
                      <a:pt x="1077" y="919"/>
                    </a:lnTo>
                    <a:lnTo>
                      <a:pt x="1062" y="942"/>
                    </a:lnTo>
                    <a:lnTo>
                      <a:pt x="1044" y="965"/>
                    </a:lnTo>
                    <a:lnTo>
                      <a:pt x="1025" y="987"/>
                    </a:lnTo>
                    <a:lnTo>
                      <a:pt x="1005" y="1007"/>
                    </a:lnTo>
                    <a:lnTo>
                      <a:pt x="985" y="1026"/>
                    </a:lnTo>
                    <a:lnTo>
                      <a:pt x="963" y="1044"/>
                    </a:lnTo>
                    <a:lnTo>
                      <a:pt x="942" y="1062"/>
                    </a:lnTo>
                    <a:lnTo>
                      <a:pt x="918" y="1079"/>
                    </a:lnTo>
                    <a:lnTo>
                      <a:pt x="894" y="1093"/>
                    </a:lnTo>
                    <a:lnTo>
                      <a:pt x="870" y="1108"/>
                    </a:lnTo>
                    <a:lnTo>
                      <a:pt x="845" y="1121"/>
                    </a:lnTo>
                    <a:lnTo>
                      <a:pt x="818" y="1133"/>
                    </a:lnTo>
                    <a:lnTo>
                      <a:pt x="792" y="1144"/>
                    </a:lnTo>
                    <a:lnTo>
                      <a:pt x="764" y="1153"/>
                    </a:lnTo>
                    <a:lnTo>
                      <a:pt x="737" y="1160"/>
                    </a:lnTo>
                    <a:lnTo>
                      <a:pt x="708" y="1168"/>
                    </a:lnTo>
                    <a:lnTo>
                      <a:pt x="679" y="1172"/>
                    </a:lnTo>
                    <a:lnTo>
                      <a:pt x="649" y="1176"/>
                    </a:lnTo>
                    <a:lnTo>
                      <a:pt x="619" y="1178"/>
                    </a:lnTo>
                    <a:lnTo>
                      <a:pt x="589" y="1180"/>
                    </a:lnTo>
                    <a:lnTo>
                      <a:pt x="559" y="1178"/>
                    </a:lnTo>
                    <a:lnTo>
                      <a:pt x="529" y="1176"/>
                    </a:lnTo>
                    <a:lnTo>
                      <a:pt x="499" y="1172"/>
                    </a:lnTo>
                    <a:lnTo>
                      <a:pt x="470" y="1168"/>
                    </a:lnTo>
                    <a:lnTo>
                      <a:pt x="443" y="1160"/>
                    </a:lnTo>
                    <a:lnTo>
                      <a:pt x="414" y="1153"/>
                    </a:lnTo>
                    <a:lnTo>
                      <a:pt x="386" y="1144"/>
                    </a:lnTo>
                    <a:lnTo>
                      <a:pt x="360" y="1133"/>
                    </a:lnTo>
                    <a:lnTo>
                      <a:pt x="333" y="1121"/>
                    </a:lnTo>
                    <a:lnTo>
                      <a:pt x="308" y="1108"/>
                    </a:lnTo>
                    <a:lnTo>
                      <a:pt x="284" y="1093"/>
                    </a:lnTo>
                    <a:lnTo>
                      <a:pt x="260" y="1079"/>
                    </a:lnTo>
                    <a:lnTo>
                      <a:pt x="236" y="1062"/>
                    </a:lnTo>
                    <a:lnTo>
                      <a:pt x="215" y="1044"/>
                    </a:lnTo>
                    <a:lnTo>
                      <a:pt x="193" y="1026"/>
                    </a:lnTo>
                    <a:lnTo>
                      <a:pt x="173" y="1007"/>
                    </a:lnTo>
                    <a:lnTo>
                      <a:pt x="153" y="987"/>
                    </a:lnTo>
                    <a:lnTo>
                      <a:pt x="134" y="965"/>
                    </a:lnTo>
                    <a:lnTo>
                      <a:pt x="117" y="942"/>
                    </a:lnTo>
                    <a:lnTo>
                      <a:pt x="101" y="919"/>
                    </a:lnTo>
                    <a:lnTo>
                      <a:pt x="85" y="895"/>
                    </a:lnTo>
                    <a:lnTo>
                      <a:pt x="71" y="870"/>
                    </a:lnTo>
                    <a:lnTo>
                      <a:pt x="57" y="845"/>
                    </a:lnTo>
                    <a:lnTo>
                      <a:pt x="45" y="819"/>
                    </a:lnTo>
                    <a:lnTo>
                      <a:pt x="36" y="792"/>
                    </a:lnTo>
                    <a:lnTo>
                      <a:pt x="26" y="765"/>
                    </a:lnTo>
                    <a:lnTo>
                      <a:pt x="18" y="737"/>
                    </a:lnTo>
                    <a:lnTo>
                      <a:pt x="12" y="708"/>
                    </a:lnTo>
                    <a:lnTo>
                      <a:pt x="6" y="679"/>
                    </a:lnTo>
                    <a:lnTo>
                      <a:pt x="2" y="651"/>
                    </a:lnTo>
                    <a:lnTo>
                      <a:pt x="0" y="621"/>
                    </a:lnTo>
                    <a:lnTo>
                      <a:pt x="0" y="589"/>
                    </a:lnTo>
                    <a:lnTo>
                      <a:pt x="0" y="559"/>
                    </a:lnTo>
                    <a:lnTo>
                      <a:pt x="2" y="529"/>
                    </a:lnTo>
                    <a:lnTo>
                      <a:pt x="6" y="501"/>
                    </a:lnTo>
                    <a:lnTo>
                      <a:pt x="12" y="472"/>
                    </a:lnTo>
                    <a:lnTo>
                      <a:pt x="18" y="443"/>
                    </a:lnTo>
                    <a:lnTo>
                      <a:pt x="26" y="415"/>
                    </a:lnTo>
                    <a:lnTo>
                      <a:pt x="36" y="388"/>
                    </a:lnTo>
                    <a:lnTo>
                      <a:pt x="45" y="361"/>
                    </a:lnTo>
                    <a:lnTo>
                      <a:pt x="57" y="335"/>
                    </a:lnTo>
                    <a:lnTo>
                      <a:pt x="71" y="310"/>
                    </a:lnTo>
                    <a:lnTo>
                      <a:pt x="85" y="285"/>
                    </a:lnTo>
                    <a:lnTo>
                      <a:pt x="101" y="261"/>
                    </a:lnTo>
                    <a:lnTo>
                      <a:pt x="117" y="238"/>
                    </a:lnTo>
                    <a:lnTo>
                      <a:pt x="134" y="215"/>
                    </a:lnTo>
                    <a:lnTo>
                      <a:pt x="153" y="194"/>
                    </a:lnTo>
                    <a:lnTo>
                      <a:pt x="173" y="173"/>
                    </a:lnTo>
                    <a:lnTo>
                      <a:pt x="193" y="154"/>
                    </a:lnTo>
                    <a:lnTo>
                      <a:pt x="215" y="136"/>
                    </a:lnTo>
                    <a:lnTo>
                      <a:pt x="236" y="118"/>
                    </a:lnTo>
                    <a:lnTo>
                      <a:pt x="260" y="101"/>
                    </a:lnTo>
                    <a:lnTo>
                      <a:pt x="284" y="87"/>
                    </a:lnTo>
                    <a:lnTo>
                      <a:pt x="308" y="72"/>
                    </a:lnTo>
                    <a:lnTo>
                      <a:pt x="333" y="59"/>
                    </a:lnTo>
                    <a:lnTo>
                      <a:pt x="360" y="47"/>
                    </a:lnTo>
                    <a:lnTo>
                      <a:pt x="386" y="36"/>
                    </a:lnTo>
                    <a:lnTo>
                      <a:pt x="414" y="27"/>
                    </a:lnTo>
                    <a:lnTo>
                      <a:pt x="443" y="20"/>
                    </a:lnTo>
                    <a:lnTo>
                      <a:pt x="470" y="12"/>
                    </a:lnTo>
                    <a:lnTo>
                      <a:pt x="499" y="8"/>
                    </a:lnTo>
                    <a:lnTo>
                      <a:pt x="529" y="4"/>
                    </a:lnTo>
                    <a:lnTo>
                      <a:pt x="559" y="2"/>
                    </a:lnTo>
                    <a:lnTo>
                      <a:pt x="589" y="0"/>
                    </a:lnTo>
                    <a:close/>
                  </a:path>
                </a:pathLst>
              </a:custGeom>
              <a:solidFill>
                <a:srgbClr val="cc8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044880" y="2833560"/>
                <a:ext cx="463320" cy="463680"/>
              </a:xfrm>
              <a:custGeom>
                <a:avLst/>
                <a:gdLst/>
                <a:ahLst/>
                <a:rect l="l" t="t" r="r" b="b"/>
                <a:pathLst>
                  <a:path w="1167" h="1167">
                    <a:moveTo>
                      <a:pt x="584" y="0"/>
                    </a:moveTo>
                    <a:lnTo>
                      <a:pt x="614" y="0"/>
                    </a:lnTo>
                    <a:lnTo>
                      <a:pt x="643" y="2"/>
                    </a:lnTo>
                    <a:lnTo>
                      <a:pt x="673" y="6"/>
                    </a:lnTo>
                    <a:lnTo>
                      <a:pt x="702" y="11"/>
                    </a:lnTo>
                    <a:lnTo>
                      <a:pt x="729" y="18"/>
                    </a:lnTo>
                    <a:lnTo>
                      <a:pt x="757" y="25"/>
                    </a:lnTo>
                    <a:lnTo>
                      <a:pt x="784" y="35"/>
                    </a:lnTo>
                    <a:lnTo>
                      <a:pt x="811" y="46"/>
                    </a:lnTo>
                    <a:lnTo>
                      <a:pt x="836" y="58"/>
                    </a:lnTo>
                    <a:lnTo>
                      <a:pt x="861" y="70"/>
                    </a:lnTo>
                    <a:lnTo>
                      <a:pt x="886" y="84"/>
                    </a:lnTo>
                    <a:lnTo>
                      <a:pt x="910" y="100"/>
                    </a:lnTo>
                    <a:lnTo>
                      <a:pt x="933" y="115"/>
                    </a:lnTo>
                    <a:lnTo>
                      <a:pt x="955" y="133"/>
                    </a:lnTo>
                    <a:lnTo>
                      <a:pt x="976" y="151"/>
                    </a:lnTo>
                    <a:lnTo>
                      <a:pt x="997" y="170"/>
                    </a:lnTo>
                    <a:lnTo>
                      <a:pt x="1016" y="191"/>
                    </a:lnTo>
                    <a:lnTo>
                      <a:pt x="1034" y="212"/>
                    </a:lnTo>
                    <a:lnTo>
                      <a:pt x="1052" y="234"/>
                    </a:lnTo>
                    <a:lnTo>
                      <a:pt x="1068" y="257"/>
                    </a:lnTo>
                    <a:lnTo>
                      <a:pt x="1083" y="281"/>
                    </a:lnTo>
                    <a:lnTo>
                      <a:pt x="1098" y="306"/>
                    </a:lnTo>
                    <a:lnTo>
                      <a:pt x="1110" y="331"/>
                    </a:lnTo>
                    <a:lnTo>
                      <a:pt x="1122" y="356"/>
                    </a:lnTo>
                    <a:lnTo>
                      <a:pt x="1132" y="383"/>
                    </a:lnTo>
                    <a:lnTo>
                      <a:pt x="1142" y="410"/>
                    </a:lnTo>
                    <a:lnTo>
                      <a:pt x="1149" y="438"/>
                    </a:lnTo>
                    <a:lnTo>
                      <a:pt x="1156" y="465"/>
                    </a:lnTo>
                    <a:lnTo>
                      <a:pt x="1161" y="494"/>
                    </a:lnTo>
                    <a:lnTo>
                      <a:pt x="1165" y="524"/>
                    </a:lnTo>
                    <a:lnTo>
                      <a:pt x="1167" y="553"/>
                    </a:lnTo>
                    <a:lnTo>
                      <a:pt x="1167" y="583"/>
                    </a:lnTo>
                    <a:lnTo>
                      <a:pt x="1167" y="613"/>
                    </a:lnTo>
                    <a:lnTo>
                      <a:pt x="1165" y="643"/>
                    </a:lnTo>
                    <a:lnTo>
                      <a:pt x="1161" y="672"/>
                    </a:lnTo>
                    <a:lnTo>
                      <a:pt x="1156" y="701"/>
                    </a:lnTo>
                    <a:lnTo>
                      <a:pt x="1149" y="729"/>
                    </a:lnTo>
                    <a:lnTo>
                      <a:pt x="1142" y="757"/>
                    </a:lnTo>
                    <a:lnTo>
                      <a:pt x="1132" y="783"/>
                    </a:lnTo>
                    <a:lnTo>
                      <a:pt x="1122" y="810"/>
                    </a:lnTo>
                    <a:lnTo>
                      <a:pt x="1110" y="836"/>
                    </a:lnTo>
                    <a:lnTo>
                      <a:pt x="1098" y="861"/>
                    </a:lnTo>
                    <a:lnTo>
                      <a:pt x="1083" y="885"/>
                    </a:lnTo>
                    <a:lnTo>
                      <a:pt x="1068" y="909"/>
                    </a:lnTo>
                    <a:lnTo>
                      <a:pt x="1052" y="932"/>
                    </a:lnTo>
                    <a:lnTo>
                      <a:pt x="1034" y="954"/>
                    </a:lnTo>
                    <a:lnTo>
                      <a:pt x="1016" y="975"/>
                    </a:lnTo>
                    <a:lnTo>
                      <a:pt x="997" y="996"/>
                    </a:lnTo>
                    <a:lnTo>
                      <a:pt x="976" y="1015"/>
                    </a:lnTo>
                    <a:lnTo>
                      <a:pt x="955" y="1033"/>
                    </a:lnTo>
                    <a:lnTo>
                      <a:pt x="933" y="1051"/>
                    </a:lnTo>
                    <a:lnTo>
                      <a:pt x="910" y="1068"/>
                    </a:lnTo>
                    <a:lnTo>
                      <a:pt x="886" y="1082"/>
                    </a:lnTo>
                    <a:lnTo>
                      <a:pt x="861" y="1096"/>
                    </a:lnTo>
                    <a:lnTo>
                      <a:pt x="836" y="1110"/>
                    </a:lnTo>
                    <a:lnTo>
                      <a:pt x="811" y="1120"/>
                    </a:lnTo>
                    <a:lnTo>
                      <a:pt x="784" y="1131"/>
                    </a:lnTo>
                    <a:lnTo>
                      <a:pt x="757" y="1141"/>
                    </a:lnTo>
                    <a:lnTo>
                      <a:pt x="729" y="1148"/>
                    </a:lnTo>
                    <a:lnTo>
                      <a:pt x="702" y="1155"/>
                    </a:lnTo>
                    <a:lnTo>
                      <a:pt x="673" y="1160"/>
                    </a:lnTo>
                    <a:lnTo>
                      <a:pt x="643" y="1164"/>
                    </a:lnTo>
                    <a:lnTo>
                      <a:pt x="614" y="1166"/>
                    </a:lnTo>
                    <a:lnTo>
                      <a:pt x="584" y="1167"/>
                    </a:lnTo>
                    <a:lnTo>
                      <a:pt x="554" y="1166"/>
                    </a:lnTo>
                    <a:lnTo>
                      <a:pt x="524" y="1164"/>
                    </a:lnTo>
                    <a:lnTo>
                      <a:pt x="495" y="1160"/>
                    </a:lnTo>
                    <a:lnTo>
                      <a:pt x="466" y="1155"/>
                    </a:lnTo>
                    <a:lnTo>
                      <a:pt x="438" y="1148"/>
                    </a:lnTo>
                    <a:lnTo>
                      <a:pt x="410" y="1141"/>
                    </a:lnTo>
                    <a:lnTo>
                      <a:pt x="384" y="1131"/>
                    </a:lnTo>
                    <a:lnTo>
                      <a:pt x="357" y="1120"/>
                    </a:lnTo>
                    <a:lnTo>
                      <a:pt x="331" y="1110"/>
                    </a:lnTo>
                    <a:lnTo>
                      <a:pt x="306" y="1096"/>
                    </a:lnTo>
                    <a:lnTo>
                      <a:pt x="282" y="1082"/>
                    </a:lnTo>
                    <a:lnTo>
                      <a:pt x="258" y="1068"/>
                    </a:lnTo>
                    <a:lnTo>
                      <a:pt x="235" y="1051"/>
                    </a:lnTo>
                    <a:lnTo>
                      <a:pt x="213" y="1033"/>
                    </a:lnTo>
                    <a:lnTo>
                      <a:pt x="192" y="1015"/>
                    </a:lnTo>
                    <a:lnTo>
                      <a:pt x="171" y="996"/>
                    </a:lnTo>
                    <a:lnTo>
                      <a:pt x="152" y="975"/>
                    </a:lnTo>
                    <a:lnTo>
                      <a:pt x="134" y="954"/>
                    </a:lnTo>
                    <a:lnTo>
                      <a:pt x="116" y="932"/>
                    </a:lnTo>
                    <a:lnTo>
                      <a:pt x="99" y="909"/>
                    </a:lnTo>
                    <a:lnTo>
                      <a:pt x="85" y="885"/>
                    </a:lnTo>
                    <a:lnTo>
                      <a:pt x="70" y="861"/>
                    </a:lnTo>
                    <a:lnTo>
                      <a:pt x="57" y="836"/>
                    </a:lnTo>
                    <a:lnTo>
                      <a:pt x="46" y="810"/>
                    </a:lnTo>
                    <a:lnTo>
                      <a:pt x="36" y="783"/>
                    </a:lnTo>
                    <a:lnTo>
                      <a:pt x="26" y="757"/>
                    </a:lnTo>
                    <a:lnTo>
                      <a:pt x="19" y="729"/>
                    </a:lnTo>
                    <a:lnTo>
                      <a:pt x="12" y="701"/>
                    </a:lnTo>
                    <a:lnTo>
                      <a:pt x="7" y="672"/>
                    </a:lnTo>
                    <a:lnTo>
                      <a:pt x="3" y="643"/>
                    </a:lnTo>
                    <a:lnTo>
                      <a:pt x="1" y="613"/>
                    </a:lnTo>
                    <a:lnTo>
                      <a:pt x="0" y="583"/>
                    </a:lnTo>
                    <a:lnTo>
                      <a:pt x="1" y="553"/>
                    </a:lnTo>
                    <a:lnTo>
                      <a:pt x="3" y="524"/>
                    </a:lnTo>
                    <a:lnTo>
                      <a:pt x="7" y="494"/>
                    </a:lnTo>
                    <a:lnTo>
                      <a:pt x="12" y="465"/>
                    </a:lnTo>
                    <a:lnTo>
                      <a:pt x="19" y="438"/>
                    </a:lnTo>
                    <a:lnTo>
                      <a:pt x="26" y="410"/>
                    </a:lnTo>
                    <a:lnTo>
                      <a:pt x="36" y="383"/>
                    </a:lnTo>
                    <a:lnTo>
                      <a:pt x="46" y="356"/>
                    </a:lnTo>
                    <a:lnTo>
                      <a:pt x="57" y="331"/>
                    </a:lnTo>
                    <a:lnTo>
                      <a:pt x="70" y="306"/>
                    </a:lnTo>
                    <a:lnTo>
                      <a:pt x="85" y="281"/>
                    </a:lnTo>
                    <a:lnTo>
                      <a:pt x="99" y="257"/>
                    </a:lnTo>
                    <a:lnTo>
                      <a:pt x="116" y="234"/>
                    </a:lnTo>
                    <a:lnTo>
                      <a:pt x="134" y="212"/>
                    </a:lnTo>
                    <a:lnTo>
                      <a:pt x="152" y="191"/>
                    </a:lnTo>
                    <a:lnTo>
                      <a:pt x="171" y="170"/>
                    </a:lnTo>
                    <a:lnTo>
                      <a:pt x="192" y="151"/>
                    </a:lnTo>
                    <a:lnTo>
                      <a:pt x="213" y="133"/>
                    </a:lnTo>
                    <a:lnTo>
                      <a:pt x="235" y="115"/>
                    </a:lnTo>
                    <a:lnTo>
                      <a:pt x="258" y="100"/>
                    </a:lnTo>
                    <a:lnTo>
                      <a:pt x="282" y="84"/>
                    </a:lnTo>
                    <a:lnTo>
                      <a:pt x="306" y="70"/>
                    </a:lnTo>
                    <a:lnTo>
                      <a:pt x="331" y="58"/>
                    </a:lnTo>
                    <a:lnTo>
                      <a:pt x="357" y="46"/>
                    </a:lnTo>
                    <a:lnTo>
                      <a:pt x="384" y="35"/>
                    </a:lnTo>
                    <a:lnTo>
                      <a:pt x="410" y="25"/>
                    </a:lnTo>
                    <a:lnTo>
                      <a:pt x="438" y="18"/>
                    </a:lnTo>
                    <a:lnTo>
                      <a:pt x="466" y="11"/>
                    </a:lnTo>
                    <a:lnTo>
                      <a:pt x="495" y="6"/>
                    </a:lnTo>
                    <a:lnTo>
                      <a:pt x="524" y="2"/>
                    </a:lnTo>
                    <a:lnTo>
                      <a:pt x="554" y="0"/>
                    </a:lnTo>
                    <a:lnTo>
                      <a:pt x="584" y="0"/>
                    </a:lnTo>
                    <a:close/>
                  </a:path>
                </a:pathLst>
              </a:custGeom>
              <a:solidFill>
                <a:srgbClr val="d48e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047760" y="2836800"/>
                <a:ext cx="459000" cy="459000"/>
              </a:xfrm>
              <a:custGeom>
                <a:avLst/>
                <a:gdLst/>
                <a:ahLst/>
                <a:rect l="l" t="t" r="r" b="b"/>
                <a:pathLst>
                  <a:path w="1156" h="1157">
                    <a:moveTo>
                      <a:pt x="578" y="0"/>
                    </a:moveTo>
                    <a:lnTo>
                      <a:pt x="607" y="0"/>
                    </a:lnTo>
                    <a:lnTo>
                      <a:pt x="637" y="3"/>
                    </a:lnTo>
                    <a:lnTo>
                      <a:pt x="666" y="6"/>
                    </a:lnTo>
                    <a:lnTo>
                      <a:pt x="694" y="12"/>
                    </a:lnTo>
                    <a:lnTo>
                      <a:pt x="722" y="18"/>
                    </a:lnTo>
                    <a:lnTo>
                      <a:pt x="750" y="27"/>
                    </a:lnTo>
                    <a:lnTo>
                      <a:pt x="776" y="35"/>
                    </a:lnTo>
                    <a:lnTo>
                      <a:pt x="802" y="46"/>
                    </a:lnTo>
                    <a:lnTo>
                      <a:pt x="828" y="58"/>
                    </a:lnTo>
                    <a:lnTo>
                      <a:pt x="853" y="70"/>
                    </a:lnTo>
                    <a:lnTo>
                      <a:pt x="877" y="84"/>
                    </a:lnTo>
                    <a:lnTo>
                      <a:pt x="901" y="99"/>
                    </a:lnTo>
                    <a:lnTo>
                      <a:pt x="924" y="116"/>
                    </a:lnTo>
                    <a:lnTo>
                      <a:pt x="945" y="132"/>
                    </a:lnTo>
                    <a:lnTo>
                      <a:pt x="966" y="150"/>
                    </a:lnTo>
                    <a:lnTo>
                      <a:pt x="986" y="170"/>
                    </a:lnTo>
                    <a:lnTo>
                      <a:pt x="1005" y="190"/>
                    </a:lnTo>
                    <a:lnTo>
                      <a:pt x="1023" y="212"/>
                    </a:lnTo>
                    <a:lnTo>
                      <a:pt x="1041" y="233"/>
                    </a:lnTo>
                    <a:lnTo>
                      <a:pt x="1057" y="256"/>
                    </a:lnTo>
                    <a:lnTo>
                      <a:pt x="1072" y="279"/>
                    </a:lnTo>
                    <a:lnTo>
                      <a:pt x="1086" y="303"/>
                    </a:lnTo>
                    <a:lnTo>
                      <a:pt x="1099" y="328"/>
                    </a:lnTo>
                    <a:lnTo>
                      <a:pt x="1111" y="354"/>
                    </a:lnTo>
                    <a:lnTo>
                      <a:pt x="1120" y="379"/>
                    </a:lnTo>
                    <a:lnTo>
                      <a:pt x="1130" y="407"/>
                    </a:lnTo>
                    <a:lnTo>
                      <a:pt x="1137" y="435"/>
                    </a:lnTo>
                    <a:lnTo>
                      <a:pt x="1144" y="462"/>
                    </a:lnTo>
                    <a:lnTo>
                      <a:pt x="1149" y="491"/>
                    </a:lnTo>
                    <a:lnTo>
                      <a:pt x="1153" y="520"/>
                    </a:lnTo>
                    <a:lnTo>
                      <a:pt x="1155" y="549"/>
                    </a:lnTo>
                    <a:lnTo>
                      <a:pt x="1156" y="579"/>
                    </a:lnTo>
                    <a:lnTo>
                      <a:pt x="1155" y="609"/>
                    </a:lnTo>
                    <a:lnTo>
                      <a:pt x="1153" y="637"/>
                    </a:lnTo>
                    <a:lnTo>
                      <a:pt x="1149" y="666"/>
                    </a:lnTo>
                    <a:lnTo>
                      <a:pt x="1144" y="695"/>
                    </a:lnTo>
                    <a:lnTo>
                      <a:pt x="1137" y="723"/>
                    </a:lnTo>
                    <a:lnTo>
                      <a:pt x="1130" y="750"/>
                    </a:lnTo>
                    <a:lnTo>
                      <a:pt x="1120" y="777"/>
                    </a:lnTo>
                    <a:lnTo>
                      <a:pt x="1111" y="803"/>
                    </a:lnTo>
                    <a:lnTo>
                      <a:pt x="1099" y="829"/>
                    </a:lnTo>
                    <a:lnTo>
                      <a:pt x="1086" y="853"/>
                    </a:lnTo>
                    <a:lnTo>
                      <a:pt x="1072" y="877"/>
                    </a:lnTo>
                    <a:lnTo>
                      <a:pt x="1057" y="901"/>
                    </a:lnTo>
                    <a:lnTo>
                      <a:pt x="1041" y="924"/>
                    </a:lnTo>
                    <a:lnTo>
                      <a:pt x="1023" y="946"/>
                    </a:lnTo>
                    <a:lnTo>
                      <a:pt x="1005" y="967"/>
                    </a:lnTo>
                    <a:lnTo>
                      <a:pt x="986" y="987"/>
                    </a:lnTo>
                    <a:lnTo>
                      <a:pt x="966" y="1006"/>
                    </a:lnTo>
                    <a:lnTo>
                      <a:pt x="945" y="1025"/>
                    </a:lnTo>
                    <a:lnTo>
                      <a:pt x="924" y="1042"/>
                    </a:lnTo>
                    <a:lnTo>
                      <a:pt x="901" y="1057"/>
                    </a:lnTo>
                    <a:lnTo>
                      <a:pt x="877" y="1073"/>
                    </a:lnTo>
                    <a:lnTo>
                      <a:pt x="853" y="1087"/>
                    </a:lnTo>
                    <a:lnTo>
                      <a:pt x="828" y="1099"/>
                    </a:lnTo>
                    <a:lnTo>
                      <a:pt x="802" y="1111"/>
                    </a:lnTo>
                    <a:lnTo>
                      <a:pt x="776" y="1122"/>
                    </a:lnTo>
                    <a:lnTo>
                      <a:pt x="750" y="1130"/>
                    </a:lnTo>
                    <a:lnTo>
                      <a:pt x="722" y="1139"/>
                    </a:lnTo>
                    <a:lnTo>
                      <a:pt x="694" y="1145"/>
                    </a:lnTo>
                    <a:lnTo>
                      <a:pt x="666" y="1150"/>
                    </a:lnTo>
                    <a:lnTo>
                      <a:pt x="637" y="1153"/>
                    </a:lnTo>
                    <a:lnTo>
                      <a:pt x="607" y="1156"/>
                    </a:lnTo>
                    <a:lnTo>
                      <a:pt x="578" y="1157"/>
                    </a:lnTo>
                    <a:lnTo>
                      <a:pt x="548" y="1156"/>
                    </a:lnTo>
                    <a:lnTo>
                      <a:pt x="518" y="1153"/>
                    </a:lnTo>
                    <a:lnTo>
                      <a:pt x="489" y="1150"/>
                    </a:lnTo>
                    <a:lnTo>
                      <a:pt x="462" y="1145"/>
                    </a:lnTo>
                    <a:lnTo>
                      <a:pt x="433" y="1139"/>
                    </a:lnTo>
                    <a:lnTo>
                      <a:pt x="406" y="1130"/>
                    </a:lnTo>
                    <a:lnTo>
                      <a:pt x="379" y="1122"/>
                    </a:lnTo>
                    <a:lnTo>
                      <a:pt x="352" y="1111"/>
                    </a:lnTo>
                    <a:lnTo>
                      <a:pt x="327" y="1099"/>
                    </a:lnTo>
                    <a:lnTo>
                      <a:pt x="302" y="1087"/>
                    </a:lnTo>
                    <a:lnTo>
                      <a:pt x="278" y="1073"/>
                    </a:lnTo>
                    <a:lnTo>
                      <a:pt x="254" y="1057"/>
                    </a:lnTo>
                    <a:lnTo>
                      <a:pt x="232" y="1042"/>
                    </a:lnTo>
                    <a:lnTo>
                      <a:pt x="210" y="1025"/>
                    </a:lnTo>
                    <a:lnTo>
                      <a:pt x="189" y="1006"/>
                    </a:lnTo>
                    <a:lnTo>
                      <a:pt x="169" y="987"/>
                    </a:lnTo>
                    <a:lnTo>
                      <a:pt x="150" y="967"/>
                    </a:lnTo>
                    <a:lnTo>
                      <a:pt x="132" y="946"/>
                    </a:lnTo>
                    <a:lnTo>
                      <a:pt x="115" y="924"/>
                    </a:lnTo>
                    <a:lnTo>
                      <a:pt x="98" y="901"/>
                    </a:lnTo>
                    <a:lnTo>
                      <a:pt x="84" y="877"/>
                    </a:lnTo>
                    <a:lnTo>
                      <a:pt x="69" y="853"/>
                    </a:lnTo>
                    <a:lnTo>
                      <a:pt x="56" y="829"/>
                    </a:lnTo>
                    <a:lnTo>
                      <a:pt x="45" y="803"/>
                    </a:lnTo>
                    <a:lnTo>
                      <a:pt x="34" y="777"/>
                    </a:lnTo>
                    <a:lnTo>
                      <a:pt x="25" y="750"/>
                    </a:lnTo>
                    <a:lnTo>
                      <a:pt x="18" y="723"/>
                    </a:lnTo>
                    <a:lnTo>
                      <a:pt x="10" y="695"/>
                    </a:lnTo>
                    <a:lnTo>
                      <a:pt x="6" y="666"/>
                    </a:lnTo>
                    <a:lnTo>
                      <a:pt x="2" y="637"/>
                    </a:lnTo>
                    <a:lnTo>
                      <a:pt x="0" y="609"/>
                    </a:lnTo>
                    <a:lnTo>
                      <a:pt x="0" y="579"/>
                    </a:lnTo>
                    <a:lnTo>
                      <a:pt x="0" y="549"/>
                    </a:lnTo>
                    <a:lnTo>
                      <a:pt x="2" y="520"/>
                    </a:lnTo>
                    <a:lnTo>
                      <a:pt x="6" y="491"/>
                    </a:lnTo>
                    <a:lnTo>
                      <a:pt x="10" y="462"/>
                    </a:lnTo>
                    <a:lnTo>
                      <a:pt x="18" y="435"/>
                    </a:lnTo>
                    <a:lnTo>
                      <a:pt x="25" y="407"/>
                    </a:lnTo>
                    <a:lnTo>
                      <a:pt x="34" y="379"/>
                    </a:lnTo>
                    <a:lnTo>
                      <a:pt x="45" y="354"/>
                    </a:lnTo>
                    <a:lnTo>
                      <a:pt x="56" y="328"/>
                    </a:lnTo>
                    <a:lnTo>
                      <a:pt x="69" y="303"/>
                    </a:lnTo>
                    <a:lnTo>
                      <a:pt x="84" y="279"/>
                    </a:lnTo>
                    <a:lnTo>
                      <a:pt x="98" y="256"/>
                    </a:lnTo>
                    <a:lnTo>
                      <a:pt x="115" y="233"/>
                    </a:lnTo>
                    <a:lnTo>
                      <a:pt x="132" y="212"/>
                    </a:lnTo>
                    <a:lnTo>
                      <a:pt x="150" y="190"/>
                    </a:lnTo>
                    <a:lnTo>
                      <a:pt x="169" y="170"/>
                    </a:lnTo>
                    <a:lnTo>
                      <a:pt x="189" y="150"/>
                    </a:lnTo>
                    <a:lnTo>
                      <a:pt x="210" y="132"/>
                    </a:lnTo>
                    <a:lnTo>
                      <a:pt x="232" y="116"/>
                    </a:lnTo>
                    <a:lnTo>
                      <a:pt x="254" y="99"/>
                    </a:lnTo>
                    <a:lnTo>
                      <a:pt x="278" y="84"/>
                    </a:lnTo>
                    <a:lnTo>
                      <a:pt x="302" y="70"/>
                    </a:lnTo>
                    <a:lnTo>
                      <a:pt x="327" y="58"/>
                    </a:lnTo>
                    <a:lnTo>
                      <a:pt x="352" y="46"/>
                    </a:lnTo>
                    <a:lnTo>
                      <a:pt x="379" y="35"/>
                    </a:lnTo>
                    <a:lnTo>
                      <a:pt x="406" y="27"/>
                    </a:lnTo>
                    <a:lnTo>
                      <a:pt x="433" y="18"/>
                    </a:lnTo>
                    <a:lnTo>
                      <a:pt x="462" y="12"/>
                    </a:lnTo>
                    <a:lnTo>
                      <a:pt x="489" y="6"/>
                    </a:lnTo>
                    <a:lnTo>
                      <a:pt x="518" y="3"/>
                    </a:lnTo>
                    <a:lnTo>
                      <a:pt x="548" y="0"/>
                    </a:lnTo>
                    <a:lnTo>
                      <a:pt x="578" y="0"/>
                    </a:lnTo>
                    <a:close/>
                  </a:path>
                </a:pathLst>
              </a:custGeom>
              <a:solidFill>
                <a:srgbClr val="d990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049560" y="2840040"/>
                <a:ext cx="455400" cy="455760"/>
              </a:xfrm>
              <a:custGeom>
                <a:avLst/>
                <a:gdLst/>
                <a:ahLst/>
                <a:rect l="l" t="t" r="r" b="b"/>
                <a:pathLst>
                  <a:path w="1146" h="1145">
                    <a:moveTo>
                      <a:pt x="573" y="0"/>
                    </a:moveTo>
                    <a:lnTo>
                      <a:pt x="603" y="1"/>
                    </a:lnTo>
                    <a:lnTo>
                      <a:pt x="632" y="3"/>
                    </a:lnTo>
                    <a:lnTo>
                      <a:pt x="660" y="7"/>
                    </a:lnTo>
                    <a:lnTo>
                      <a:pt x="688" y="12"/>
                    </a:lnTo>
                    <a:lnTo>
                      <a:pt x="716" y="18"/>
                    </a:lnTo>
                    <a:lnTo>
                      <a:pt x="743" y="26"/>
                    </a:lnTo>
                    <a:lnTo>
                      <a:pt x="770" y="35"/>
                    </a:lnTo>
                    <a:lnTo>
                      <a:pt x="796" y="45"/>
                    </a:lnTo>
                    <a:lnTo>
                      <a:pt x="821" y="56"/>
                    </a:lnTo>
                    <a:lnTo>
                      <a:pt x="846" y="69"/>
                    </a:lnTo>
                    <a:lnTo>
                      <a:pt x="870" y="83"/>
                    </a:lnTo>
                    <a:lnTo>
                      <a:pt x="893" y="98"/>
                    </a:lnTo>
                    <a:lnTo>
                      <a:pt x="916" y="114"/>
                    </a:lnTo>
                    <a:lnTo>
                      <a:pt x="938" y="131"/>
                    </a:lnTo>
                    <a:lnTo>
                      <a:pt x="958" y="149"/>
                    </a:lnTo>
                    <a:lnTo>
                      <a:pt x="978" y="168"/>
                    </a:lnTo>
                    <a:lnTo>
                      <a:pt x="996" y="188"/>
                    </a:lnTo>
                    <a:lnTo>
                      <a:pt x="1014" y="209"/>
                    </a:lnTo>
                    <a:lnTo>
                      <a:pt x="1032" y="230"/>
                    </a:lnTo>
                    <a:lnTo>
                      <a:pt x="1048" y="253"/>
                    </a:lnTo>
                    <a:lnTo>
                      <a:pt x="1062" y="276"/>
                    </a:lnTo>
                    <a:lnTo>
                      <a:pt x="1077" y="300"/>
                    </a:lnTo>
                    <a:lnTo>
                      <a:pt x="1090" y="325"/>
                    </a:lnTo>
                    <a:lnTo>
                      <a:pt x="1101" y="350"/>
                    </a:lnTo>
                    <a:lnTo>
                      <a:pt x="1112" y="376"/>
                    </a:lnTo>
                    <a:lnTo>
                      <a:pt x="1120" y="403"/>
                    </a:lnTo>
                    <a:lnTo>
                      <a:pt x="1128" y="429"/>
                    </a:lnTo>
                    <a:lnTo>
                      <a:pt x="1134" y="458"/>
                    </a:lnTo>
                    <a:lnTo>
                      <a:pt x="1139" y="486"/>
                    </a:lnTo>
                    <a:lnTo>
                      <a:pt x="1143" y="514"/>
                    </a:lnTo>
                    <a:lnTo>
                      <a:pt x="1145" y="543"/>
                    </a:lnTo>
                    <a:lnTo>
                      <a:pt x="1146" y="573"/>
                    </a:lnTo>
                    <a:lnTo>
                      <a:pt x="1145" y="602"/>
                    </a:lnTo>
                    <a:lnTo>
                      <a:pt x="1143" y="631"/>
                    </a:lnTo>
                    <a:lnTo>
                      <a:pt x="1139" y="660"/>
                    </a:lnTo>
                    <a:lnTo>
                      <a:pt x="1134" y="688"/>
                    </a:lnTo>
                    <a:lnTo>
                      <a:pt x="1128" y="716"/>
                    </a:lnTo>
                    <a:lnTo>
                      <a:pt x="1120" y="742"/>
                    </a:lnTo>
                    <a:lnTo>
                      <a:pt x="1112" y="769"/>
                    </a:lnTo>
                    <a:lnTo>
                      <a:pt x="1101" y="795"/>
                    </a:lnTo>
                    <a:lnTo>
                      <a:pt x="1090" y="820"/>
                    </a:lnTo>
                    <a:lnTo>
                      <a:pt x="1077" y="846"/>
                    </a:lnTo>
                    <a:lnTo>
                      <a:pt x="1062" y="870"/>
                    </a:lnTo>
                    <a:lnTo>
                      <a:pt x="1048" y="892"/>
                    </a:lnTo>
                    <a:lnTo>
                      <a:pt x="1032" y="915"/>
                    </a:lnTo>
                    <a:lnTo>
                      <a:pt x="1014" y="937"/>
                    </a:lnTo>
                    <a:lnTo>
                      <a:pt x="996" y="957"/>
                    </a:lnTo>
                    <a:lnTo>
                      <a:pt x="978" y="978"/>
                    </a:lnTo>
                    <a:lnTo>
                      <a:pt x="958" y="997"/>
                    </a:lnTo>
                    <a:lnTo>
                      <a:pt x="938" y="1015"/>
                    </a:lnTo>
                    <a:lnTo>
                      <a:pt x="916" y="1032"/>
                    </a:lnTo>
                    <a:lnTo>
                      <a:pt x="893" y="1047"/>
                    </a:lnTo>
                    <a:lnTo>
                      <a:pt x="870" y="1063"/>
                    </a:lnTo>
                    <a:lnTo>
                      <a:pt x="846" y="1076"/>
                    </a:lnTo>
                    <a:lnTo>
                      <a:pt x="821" y="1089"/>
                    </a:lnTo>
                    <a:lnTo>
                      <a:pt x="796" y="1100"/>
                    </a:lnTo>
                    <a:lnTo>
                      <a:pt x="770" y="1111"/>
                    </a:lnTo>
                    <a:lnTo>
                      <a:pt x="743" y="1119"/>
                    </a:lnTo>
                    <a:lnTo>
                      <a:pt x="716" y="1127"/>
                    </a:lnTo>
                    <a:lnTo>
                      <a:pt x="688" y="1133"/>
                    </a:lnTo>
                    <a:lnTo>
                      <a:pt x="660" y="1138"/>
                    </a:lnTo>
                    <a:lnTo>
                      <a:pt x="632" y="1142"/>
                    </a:lnTo>
                    <a:lnTo>
                      <a:pt x="603" y="1144"/>
                    </a:lnTo>
                    <a:lnTo>
                      <a:pt x="573" y="1145"/>
                    </a:lnTo>
                    <a:lnTo>
                      <a:pt x="544" y="1144"/>
                    </a:lnTo>
                    <a:lnTo>
                      <a:pt x="515" y="1142"/>
                    </a:lnTo>
                    <a:lnTo>
                      <a:pt x="486" y="1138"/>
                    </a:lnTo>
                    <a:lnTo>
                      <a:pt x="458" y="1133"/>
                    </a:lnTo>
                    <a:lnTo>
                      <a:pt x="430" y="1127"/>
                    </a:lnTo>
                    <a:lnTo>
                      <a:pt x="404" y="1119"/>
                    </a:lnTo>
                    <a:lnTo>
                      <a:pt x="376" y="1111"/>
                    </a:lnTo>
                    <a:lnTo>
                      <a:pt x="351" y="1100"/>
                    </a:lnTo>
                    <a:lnTo>
                      <a:pt x="326" y="1089"/>
                    </a:lnTo>
                    <a:lnTo>
                      <a:pt x="300" y="1076"/>
                    </a:lnTo>
                    <a:lnTo>
                      <a:pt x="276" y="1063"/>
                    </a:lnTo>
                    <a:lnTo>
                      <a:pt x="254" y="1047"/>
                    </a:lnTo>
                    <a:lnTo>
                      <a:pt x="231" y="1032"/>
                    </a:lnTo>
                    <a:lnTo>
                      <a:pt x="209" y="1015"/>
                    </a:lnTo>
                    <a:lnTo>
                      <a:pt x="189" y="997"/>
                    </a:lnTo>
                    <a:lnTo>
                      <a:pt x="168" y="978"/>
                    </a:lnTo>
                    <a:lnTo>
                      <a:pt x="149" y="957"/>
                    </a:lnTo>
                    <a:lnTo>
                      <a:pt x="131" y="937"/>
                    </a:lnTo>
                    <a:lnTo>
                      <a:pt x="114" y="915"/>
                    </a:lnTo>
                    <a:lnTo>
                      <a:pt x="99" y="892"/>
                    </a:lnTo>
                    <a:lnTo>
                      <a:pt x="83" y="870"/>
                    </a:lnTo>
                    <a:lnTo>
                      <a:pt x="70" y="846"/>
                    </a:lnTo>
                    <a:lnTo>
                      <a:pt x="57" y="820"/>
                    </a:lnTo>
                    <a:lnTo>
                      <a:pt x="46" y="795"/>
                    </a:lnTo>
                    <a:lnTo>
                      <a:pt x="35" y="769"/>
                    </a:lnTo>
                    <a:lnTo>
                      <a:pt x="27" y="742"/>
                    </a:lnTo>
                    <a:lnTo>
                      <a:pt x="18" y="716"/>
                    </a:lnTo>
                    <a:lnTo>
                      <a:pt x="12" y="688"/>
                    </a:lnTo>
                    <a:lnTo>
                      <a:pt x="6" y="660"/>
                    </a:lnTo>
                    <a:lnTo>
                      <a:pt x="3" y="631"/>
                    </a:lnTo>
                    <a:lnTo>
                      <a:pt x="2" y="602"/>
                    </a:lnTo>
                    <a:lnTo>
                      <a:pt x="0" y="573"/>
                    </a:lnTo>
                    <a:lnTo>
                      <a:pt x="2" y="543"/>
                    </a:lnTo>
                    <a:lnTo>
                      <a:pt x="3" y="514"/>
                    </a:lnTo>
                    <a:lnTo>
                      <a:pt x="6" y="486"/>
                    </a:lnTo>
                    <a:lnTo>
                      <a:pt x="12" y="458"/>
                    </a:lnTo>
                    <a:lnTo>
                      <a:pt x="18" y="429"/>
                    </a:lnTo>
                    <a:lnTo>
                      <a:pt x="27" y="403"/>
                    </a:lnTo>
                    <a:lnTo>
                      <a:pt x="35" y="376"/>
                    </a:lnTo>
                    <a:lnTo>
                      <a:pt x="46" y="350"/>
                    </a:lnTo>
                    <a:lnTo>
                      <a:pt x="57" y="325"/>
                    </a:lnTo>
                    <a:lnTo>
                      <a:pt x="70" y="300"/>
                    </a:lnTo>
                    <a:lnTo>
                      <a:pt x="83" y="276"/>
                    </a:lnTo>
                    <a:lnTo>
                      <a:pt x="99" y="253"/>
                    </a:lnTo>
                    <a:lnTo>
                      <a:pt x="114" y="230"/>
                    </a:lnTo>
                    <a:lnTo>
                      <a:pt x="131" y="209"/>
                    </a:lnTo>
                    <a:lnTo>
                      <a:pt x="149" y="188"/>
                    </a:lnTo>
                    <a:lnTo>
                      <a:pt x="168" y="168"/>
                    </a:lnTo>
                    <a:lnTo>
                      <a:pt x="189" y="149"/>
                    </a:lnTo>
                    <a:lnTo>
                      <a:pt x="209" y="131"/>
                    </a:lnTo>
                    <a:lnTo>
                      <a:pt x="231" y="114"/>
                    </a:lnTo>
                    <a:lnTo>
                      <a:pt x="254" y="98"/>
                    </a:lnTo>
                    <a:lnTo>
                      <a:pt x="276" y="83"/>
                    </a:lnTo>
                    <a:lnTo>
                      <a:pt x="300" y="69"/>
                    </a:lnTo>
                    <a:lnTo>
                      <a:pt x="326" y="56"/>
                    </a:lnTo>
                    <a:lnTo>
                      <a:pt x="351" y="45"/>
                    </a:lnTo>
                    <a:lnTo>
                      <a:pt x="376" y="35"/>
                    </a:lnTo>
                    <a:lnTo>
                      <a:pt x="404" y="26"/>
                    </a:lnTo>
                    <a:lnTo>
                      <a:pt x="430" y="18"/>
                    </a:lnTo>
                    <a:lnTo>
                      <a:pt x="458" y="12"/>
                    </a:lnTo>
                    <a:lnTo>
                      <a:pt x="486" y="7"/>
                    </a:lnTo>
                    <a:lnTo>
                      <a:pt x="515" y="3"/>
                    </a:lnTo>
                    <a:lnTo>
                      <a:pt x="544" y="1"/>
                    </a:lnTo>
                    <a:lnTo>
                      <a:pt x="573" y="0"/>
                    </a:lnTo>
                    <a:close/>
                  </a:path>
                </a:pathLst>
              </a:custGeom>
              <a:solidFill>
                <a:srgbClr val="df9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51000" y="2844720"/>
                <a:ext cx="451080" cy="449280"/>
              </a:xfrm>
              <a:custGeom>
                <a:avLst/>
                <a:gdLst/>
                <a:ahLst/>
                <a:rect l="l" t="t" r="r" b="b"/>
                <a:pathLst>
                  <a:path w="1135" h="1135">
                    <a:moveTo>
                      <a:pt x="568" y="0"/>
                    </a:moveTo>
                    <a:lnTo>
                      <a:pt x="597" y="1"/>
                    </a:lnTo>
                    <a:lnTo>
                      <a:pt x="625" y="4"/>
                    </a:lnTo>
                    <a:lnTo>
                      <a:pt x="654" y="7"/>
                    </a:lnTo>
                    <a:lnTo>
                      <a:pt x="682" y="12"/>
                    </a:lnTo>
                    <a:lnTo>
                      <a:pt x="709" y="18"/>
                    </a:lnTo>
                    <a:lnTo>
                      <a:pt x="736" y="27"/>
                    </a:lnTo>
                    <a:lnTo>
                      <a:pt x="762" y="35"/>
                    </a:lnTo>
                    <a:lnTo>
                      <a:pt x="789" y="46"/>
                    </a:lnTo>
                    <a:lnTo>
                      <a:pt x="814" y="57"/>
                    </a:lnTo>
                    <a:lnTo>
                      <a:pt x="838" y="70"/>
                    </a:lnTo>
                    <a:lnTo>
                      <a:pt x="862" y="83"/>
                    </a:lnTo>
                    <a:lnTo>
                      <a:pt x="885" y="97"/>
                    </a:lnTo>
                    <a:lnTo>
                      <a:pt x="907" y="114"/>
                    </a:lnTo>
                    <a:lnTo>
                      <a:pt x="929" y="131"/>
                    </a:lnTo>
                    <a:lnTo>
                      <a:pt x="949" y="149"/>
                    </a:lnTo>
                    <a:lnTo>
                      <a:pt x="969" y="167"/>
                    </a:lnTo>
                    <a:lnTo>
                      <a:pt x="988" y="187"/>
                    </a:lnTo>
                    <a:lnTo>
                      <a:pt x="1006" y="208"/>
                    </a:lnTo>
                    <a:lnTo>
                      <a:pt x="1023" y="229"/>
                    </a:lnTo>
                    <a:lnTo>
                      <a:pt x="1038" y="251"/>
                    </a:lnTo>
                    <a:lnTo>
                      <a:pt x="1053" y="274"/>
                    </a:lnTo>
                    <a:lnTo>
                      <a:pt x="1067" y="298"/>
                    </a:lnTo>
                    <a:lnTo>
                      <a:pt x="1079" y="323"/>
                    </a:lnTo>
                    <a:lnTo>
                      <a:pt x="1091" y="347"/>
                    </a:lnTo>
                    <a:lnTo>
                      <a:pt x="1101" y="373"/>
                    </a:lnTo>
                    <a:lnTo>
                      <a:pt x="1110" y="400"/>
                    </a:lnTo>
                    <a:lnTo>
                      <a:pt x="1117" y="426"/>
                    </a:lnTo>
                    <a:lnTo>
                      <a:pt x="1123" y="454"/>
                    </a:lnTo>
                    <a:lnTo>
                      <a:pt x="1128" y="481"/>
                    </a:lnTo>
                    <a:lnTo>
                      <a:pt x="1132" y="510"/>
                    </a:lnTo>
                    <a:lnTo>
                      <a:pt x="1134" y="539"/>
                    </a:lnTo>
                    <a:lnTo>
                      <a:pt x="1135" y="568"/>
                    </a:lnTo>
                    <a:lnTo>
                      <a:pt x="1134" y="596"/>
                    </a:lnTo>
                    <a:lnTo>
                      <a:pt x="1132" y="625"/>
                    </a:lnTo>
                    <a:lnTo>
                      <a:pt x="1128" y="654"/>
                    </a:lnTo>
                    <a:lnTo>
                      <a:pt x="1123" y="682"/>
                    </a:lnTo>
                    <a:lnTo>
                      <a:pt x="1117" y="709"/>
                    </a:lnTo>
                    <a:lnTo>
                      <a:pt x="1110" y="737"/>
                    </a:lnTo>
                    <a:lnTo>
                      <a:pt x="1101" y="762"/>
                    </a:lnTo>
                    <a:lnTo>
                      <a:pt x="1091" y="788"/>
                    </a:lnTo>
                    <a:lnTo>
                      <a:pt x="1079" y="814"/>
                    </a:lnTo>
                    <a:lnTo>
                      <a:pt x="1067" y="838"/>
                    </a:lnTo>
                    <a:lnTo>
                      <a:pt x="1053" y="862"/>
                    </a:lnTo>
                    <a:lnTo>
                      <a:pt x="1038" y="884"/>
                    </a:lnTo>
                    <a:lnTo>
                      <a:pt x="1023" y="907"/>
                    </a:lnTo>
                    <a:lnTo>
                      <a:pt x="1006" y="929"/>
                    </a:lnTo>
                    <a:lnTo>
                      <a:pt x="988" y="949"/>
                    </a:lnTo>
                    <a:lnTo>
                      <a:pt x="969" y="968"/>
                    </a:lnTo>
                    <a:lnTo>
                      <a:pt x="949" y="988"/>
                    </a:lnTo>
                    <a:lnTo>
                      <a:pt x="929" y="1006"/>
                    </a:lnTo>
                    <a:lnTo>
                      <a:pt x="907" y="1022"/>
                    </a:lnTo>
                    <a:lnTo>
                      <a:pt x="885" y="1038"/>
                    </a:lnTo>
                    <a:lnTo>
                      <a:pt x="862" y="1052"/>
                    </a:lnTo>
                    <a:lnTo>
                      <a:pt x="838" y="1067"/>
                    </a:lnTo>
                    <a:lnTo>
                      <a:pt x="814" y="1079"/>
                    </a:lnTo>
                    <a:lnTo>
                      <a:pt x="789" y="1091"/>
                    </a:lnTo>
                    <a:lnTo>
                      <a:pt x="762" y="1100"/>
                    </a:lnTo>
                    <a:lnTo>
                      <a:pt x="736" y="1110"/>
                    </a:lnTo>
                    <a:lnTo>
                      <a:pt x="709" y="1117"/>
                    </a:lnTo>
                    <a:lnTo>
                      <a:pt x="682" y="1123"/>
                    </a:lnTo>
                    <a:lnTo>
                      <a:pt x="654" y="1128"/>
                    </a:lnTo>
                    <a:lnTo>
                      <a:pt x="625" y="1131"/>
                    </a:lnTo>
                    <a:lnTo>
                      <a:pt x="597" y="1134"/>
                    </a:lnTo>
                    <a:lnTo>
                      <a:pt x="568" y="1135"/>
                    </a:lnTo>
                    <a:lnTo>
                      <a:pt x="539" y="1134"/>
                    </a:lnTo>
                    <a:lnTo>
                      <a:pt x="510" y="1131"/>
                    </a:lnTo>
                    <a:lnTo>
                      <a:pt x="481" y="1128"/>
                    </a:lnTo>
                    <a:lnTo>
                      <a:pt x="454" y="1123"/>
                    </a:lnTo>
                    <a:lnTo>
                      <a:pt x="426" y="1117"/>
                    </a:lnTo>
                    <a:lnTo>
                      <a:pt x="400" y="1110"/>
                    </a:lnTo>
                    <a:lnTo>
                      <a:pt x="373" y="1100"/>
                    </a:lnTo>
                    <a:lnTo>
                      <a:pt x="347" y="1091"/>
                    </a:lnTo>
                    <a:lnTo>
                      <a:pt x="322" y="1079"/>
                    </a:lnTo>
                    <a:lnTo>
                      <a:pt x="298" y="1067"/>
                    </a:lnTo>
                    <a:lnTo>
                      <a:pt x="274" y="1052"/>
                    </a:lnTo>
                    <a:lnTo>
                      <a:pt x="251" y="1038"/>
                    </a:lnTo>
                    <a:lnTo>
                      <a:pt x="229" y="1022"/>
                    </a:lnTo>
                    <a:lnTo>
                      <a:pt x="208" y="1006"/>
                    </a:lnTo>
                    <a:lnTo>
                      <a:pt x="187" y="988"/>
                    </a:lnTo>
                    <a:lnTo>
                      <a:pt x="167" y="968"/>
                    </a:lnTo>
                    <a:lnTo>
                      <a:pt x="148" y="949"/>
                    </a:lnTo>
                    <a:lnTo>
                      <a:pt x="131" y="929"/>
                    </a:lnTo>
                    <a:lnTo>
                      <a:pt x="113" y="907"/>
                    </a:lnTo>
                    <a:lnTo>
                      <a:pt x="97" y="884"/>
                    </a:lnTo>
                    <a:lnTo>
                      <a:pt x="83" y="862"/>
                    </a:lnTo>
                    <a:lnTo>
                      <a:pt x="70" y="838"/>
                    </a:lnTo>
                    <a:lnTo>
                      <a:pt x="57" y="814"/>
                    </a:lnTo>
                    <a:lnTo>
                      <a:pt x="46" y="788"/>
                    </a:lnTo>
                    <a:lnTo>
                      <a:pt x="35" y="762"/>
                    </a:lnTo>
                    <a:lnTo>
                      <a:pt x="27" y="737"/>
                    </a:lnTo>
                    <a:lnTo>
                      <a:pt x="18" y="709"/>
                    </a:lnTo>
                    <a:lnTo>
                      <a:pt x="12" y="682"/>
                    </a:lnTo>
                    <a:lnTo>
                      <a:pt x="7" y="654"/>
                    </a:lnTo>
                    <a:lnTo>
                      <a:pt x="4" y="625"/>
                    </a:lnTo>
                    <a:lnTo>
                      <a:pt x="1" y="596"/>
                    </a:lnTo>
                    <a:lnTo>
                      <a:pt x="0" y="568"/>
                    </a:lnTo>
                    <a:lnTo>
                      <a:pt x="1" y="539"/>
                    </a:lnTo>
                    <a:lnTo>
                      <a:pt x="4" y="510"/>
                    </a:lnTo>
                    <a:lnTo>
                      <a:pt x="7" y="481"/>
                    </a:lnTo>
                    <a:lnTo>
                      <a:pt x="12" y="454"/>
                    </a:lnTo>
                    <a:lnTo>
                      <a:pt x="18" y="426"/>
                    </a:lnTo>
                    <a:lnTo>
                      <a:pt x="27" y="400"/>
                    </a:lnTo>
                    <a:lnTo>
                      <a:pt x="35" y="373"/>
                    </a:lnTo>
                    <a:lnTo>
                      <a:pt x="46" y="347"/>
                    </a:lnTo>
                    <a:lnTo>
                      <a:pt x="57" y="323"/>
                    </a:lnTo>
                    <a:lnTo>
                      <a:pt x="70" y="298"/>
                    </a:lnTo>
                    <a:lnTo>
                      <a:pt x="83" y="274"/>
                    </a:lnTo>
                    <a:lnTo>
                      <a:pt x="97" y="251"/>
                    </a:lnTo>
                    <a:lnTo>
                      <a:pt x="113" y="229"/>
                    </a:lnTo>
                    <a:lnTo>
                      <a:pt x="131" y="208"/>
                    </a:lnTo>
                    <a:lnTo>
                      <a:pt x="148" y="187"/>
                    </a:lnTo>
                    <a:lnTo>
                      <a:pt x="167" y="167"/>
                    </a:lnTo>
                    <a:lnTo>
                      <a:pt x="187" y="149"/>
                    </a:lnTo>
                    <a:lnTo>
                      <a:pt x="208" y="131"/>
                    </a:lnTo>
                    <a:lnTo>
                      <a:pt x="229" y="114"/>
                    </a:lnTo>
                    <a:lnTo>
                      <a:pt x="251" y="97"/>
                    </a:lnTo>
                    <a:lnTo>
                      <a:pt x="274" y="83"/>
                    </a:lnTo>
                    <a:lnTo>
                      <a:pt x="298" y="70"/>
                    </a:lnTo>
                    <a:lnTo>
                      <a:pt x="322" y="57"/>
                    </a:lnTo>
                    <a:lnTo>
                      <a:pt x="347" y="46"/>
                    </a:lnTo>
                    <a:lnTo>
                      <a:pt x="373" y="35"/>
                    </a:lnTo>
                    <a:lnTo>
                      <a:pt x="400" y="27"/>
                    </a:lnTo>
                    <a:lnTo>
                      <a:pt x="426" y="18"/>
                    </a:lnTo>
                    <a:lnTo>
                      <a:pt x="454" y="12"/>
                    </a:lnTo>
                    <a:lnTo>
                      <a:pt x="481" y="7"/>
                    </a:lnTo>
                    <a:lnTo>
                      <a:pt x="510" y="4"/>
                    </a:lnTo>
                    <a:lnTo>
                      <a:pt x="539" y="1"/>
                    </a:lnTo>
                    <a:lnTo>
                      <a:pt x="568" y="0"/>
                    </a:lnTo>
                    <a:close/>
                  </a:path>
                </a:pathLst>
              </a:custGeom>
              <a:solidFill>
                <a:srgbClr val="e39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054240" y="2847960"/>
                <a:ext cx="446040" cy="446040"/>
              </a:xfrm>
              <a:custGeom>
                <a:avLst/>
                <a:gdLst/>
                <a:ahLst/>
                <a:rect l="l" t="t" r="r" b="b"/>
                <a:pathLst>
                  <a:path w="1123" h="1123">
                    <a:moveTo>
                      <a:pt x="562" y="0"/>
                    </a:moveTo>
                    <a:lnTo>
                      <a:pt x="591" y="0"/>
                    </a:lnTo>
                    <a:lnTo>
                      <a:pt x="619" y="2"/>
                    </a:lnTo>
                    <a:lnTo>
                      <a:pt x="647" y="6"/>
                    </a:lnTo>
                    <a:lnTo>
                      <a:pt x="675" y="11"/>
                    </a:lnTo>
                    <a:lnTo>
                      <a:pt x="702" y="18"/>
                    </a:lnTo>
                    <a:lnTo>
                      <a:pt x="729" y="25"/>
                    </a:lnTo>
                    <a:lnTo>
                      <a:pt x="755" y="33"/>
                    </a:lnTo>
                    <a:lnTo>
                      <a:pt x="780" y="44"/>
                    </a:lnTo>
                    <a:lnTo>
                      <a:pt x="805" y="55"/>
                    </a:lnTo>
                    <a:lnTo>
                      <a:pt x="829" y="67"/>
                    </a:lnTo>
                    <a:lnTo>
                      <a:pt x="852" y="81"/>
                    </a:lnTo>
                    <a:lnTo>
                      <a:pt x="875" y="96"/>
                    </a:lnTo>
                    <a:lnTo>
                      <a:pt x="898" y="111"/>
                    </a:lnTo>
                    <a:lnTo>
                      <a:pt x="918" y="128"/>
                    </a:lnTo>
                    <a:lnTo>
                      <a:pt x="939" y="146"/>
                    </a:lnTo>
                    <a:lnTo>
                      <a:pt x="959" y="164"/>
                    </a:lnTo>
                    <a:lnTo>
                      <a:pt x="977" y="183"/>
                    </a:lnTo>
                    <a:lnTo>
                      <a:pt x="995" y="204"/>
                    </a:lnTo>
                    <a:lnTo>
                      <a:pt x="1012" y="225"/>
                    </a:lnTo>
                    <a:lnTo>
                      <a:pt x="1027" y="247"/>
                    </a:lnTo>
                    <a:lnTo>
                      <a:pt x="1042" y="270"/>
                    </a:lnTo>
                    <a:lnTo>
                      <a:pt x="1055" y="294"/>
                    </a:lnTo>
                    <a:lnTo>
                      <a:pt x="1068" y="318"/>
                    </a:lnTo>
                    <a:lnTo>
                      <a:pt x="1079" y="343"/>
                    </a:lnTo>
                    <a:lnTo>
                      <a:pt x="1089" y="368"/>
                    </a:lnTo>
                    <a:lnTo>
                      <a:pt x="1098" y="394"/>
                    </a:lnTo>
                    <a:lnTo>
                      <a:pt x="1105" y="421"/>
                    </a:lnTo>
                    <a:lnTo>
                      <a:pt x="1111" y="448"/>
                    </a:lnTo>
                    <a:lnTo>
                      <a:pt x="1117" y="476"/>
                    </a:lnTo>
                    <a:lnTo>
                      <a:pt x="1121" y="504"/>
                    </a:lnTo>
                    <a:lnTo>
                      <a:pt x="1122" y="532"/>
                    </a:lnTo>
                    <a:lnTo>
                      <a:pt x="1123" y="561"/>
                    </a:lnTo>
                    <a:lnTo>
                      <a:pt x="1122" y="590"/>
                    </a:lnTo>
                    <a:lnTo>
                      <a:pt x="1121" y="619"/>
                    </a:lnTo>
                    <a:lnTo>
                      <a:pt x="1117" y="646"/>
                    </a:lnTo>
                    <a:lnTo>
                      <a:pt x="1111" y="674"/>
                    </a:lnTo>
                    <a:lnTo>
                      <a:pt x="1105" y="702"/>
                    </a:lnTo>
                    <a:lnTo>
                      <a:pt x="1098" y="728"/>
                    </a:lnTo>
                    <a:lnTo>
                      <a:pt x="1089" y="754"/>
                    </a:lnTo>
                    <a:lnTo>
                      <a:pt x="1079" y="780"/>
                    </a:lnTo>
                    <a:lnTo>
                      <a:pt x="1068" y="805"/>
                    </a:lnTo>
                    <a:lnTo>
                      <a:pt x="1055" y="829"/>
                    </a:lnTo>
                    <a:lnTo>
                      <a:pt x="1042" y="852"/>
                    </a:lnTo>
                    <a:lnTo>
                      <a:pt x="1027" y="874"/>
                    </a:lnTo>
                    <a:lnTo>
                      <a:pt x="1012" y="897"/>
                    </a:lnTo>
                    <a:lnTo>
                      <a:pt x="995" y="918"/>
                    </a:lnTo>
                    <a:lnTo>
                      <a:pt x="977" y="938"/>
                    </a:lnTo>
                    <a:lnTo>
                      <a:pt x="959" y="958"/>
                    </a:lnTo>
                    <a:lnTo>
                      <a:pt x="939" y="976"/>
                    </a:lnTo>
                    <a:lnTo>
                      <a:pt x="918" y="994"/>
                    </a:lnTo>
                    <a:lnTo>
                      <a:pt x="898" y="1011"/>
                    </a:lnTo>
                    <a:lnTo>
                      <a:pt x="875" y="1027"/>
                    </a:lnTo>
                    <a:lnTo>
                      <a:pt x="852" y="1041"/>
                    </a:lnTo>
                    <a:lnTo>
                      <a:pt x="829" y="1054"/>
                    </a:lnTo>
                    <a:lnTo>
                      <a:pt x="805" y="1067"/>
                    </a:lnTo>
                    <a:lnTo>
                      <a:pt x="780" y="1078"/>
                    </a:lnTo>
                    <a:lnTo>
                      <a:pt x="755" y="1089"/>
                    </a:lnTo>
                    <a:lnTo>
                      <a:pt x="729" y="1097"/>
                    </a:lnTo>
                    <a:lnTo>
                      <a:pt x="702" y="1105"/>
                    </a:lnTo>
                    <a:lnTo>
                      <a:pt x="675" y="1111"/>
                    </a:lnTo>
                    <a:lnTo>
                      <a:pt x="647" y="1117"/>
                    </a:lnTo>
                    <a:lnTo>
                      <a:pt x="619" y="1120"/>
                    </a:lnTo>
                    <a:lnTo>
                      <a:pt x="591" y="1121"/>
                    </a:lnTo>
                    <a:lnTo>
                      <a:pt x="562" y="1123"/>
                    </a:lnTo>
                    <a:lnTo>
                      <a:pt x="533" y="1121"/>
                    </a:lnTo>
                    <a:lnTo>
                      <a:pt x="504" y="1120"/>
                    </a:lnTo>
                    <a:lnTo>
                      <a:pt x="477" y="1117"/>
                    </a:lnTo>
                    <a:lnTo>
                      <a:pt x="449" y="1111"/>
                    </a:lnTo>
                    <a:lnTo>
                      <a:pt x="421" y="1105"/>
                    </a:lnTo>
                    <a:lnTo>
                      <a:pt x="395" y="1097"/>
                    </a:lnTo>
                    <a:lnTo>
                      <a:pt x="369" y="1089"/>
                    </a:lnTo>
                    <a:lnTo>
                      <a:pt x="343" y="1078"/>
                    </a:lnTo>
                    <a:lnTo>
                      <a:pt x="318" y="1067"/>
                    </a:lnTo>
                    <a:lnTo>
                      <a:pt x="294" y="1054"/>
                    </a:lnTo>
                    <a:lnTo>
                      <a:pt x="270" y="1041"/>
                    </a:lnTo>
                    <a:lnTo>
                      <a:pt x="247" y="1027"/>
                    </a:lnTo>
                    <a:lnTo>
                      <a:pt x="226" y="1011"/>
                    </a:lnTo>
                    <a:lnTo>
                      <a:pt x="204" y="994"/>
                    </a:lnTo>
                    <a:lnTo>
                      <a:pt x="184" y="976"/>
                    </a:lnTo>
                    <a:lnTo>
                      <a:pt x="165" y="958"/>
                    </a:lnTo>
                    <a:lnTo>
                      <a:pt x="147" y="938"/>
                    </a:lnTo>
                    <a:lnTo>
                      <a:pt x="129" y="918"/>
                    </a:lnTo>
                    <a:lnTo>
                      <a:pt x="112" y="897"/>
                    </a:lnTo>
                    <a:lnTo>
                      <a:pt x="96" y="874"/>
                    </a:lnTo>
                    <a:lnTo>
                      <a:pt x="82" y="852"/>
                    </a:lnTo>
                    <a:lnTo>
                      <a:pt x="67" y="829"/>
                    </a:lnTo>
                    <a:lnTo>
                      <a:pt x="55" y="805"/>
                    </a:lnTo>
                    <a:lnTo>
                      <a:pt x="45" y="780"/>
                    </a:lnTo>
                    <a:lnTo>
                      <a:pt x="34" y="754"/>
                    </a:lnTo>
                    <a:lnTo>
                      <a:pt x="25" y="728"/>
                    </a:lnTo>
                    <a:lnTo>
                      <a:pt x="18" y="702"/>
                    </a:lnTo>
                    <a:lnTo>
                      <a:pt x="11" y="674"/>
                    </a:lnTo>
                    <a:lnTo>
                      <a:pt x="6" y="646"/>
                    </a:lnTo>
                    <a:lnTo>
                      <a:pt x="3" y="619"/>
                    </a:lnTo>
                    <a:lnTo>
                      <a:pt x="0" y="590"/>
                    </a:lnTo>
                    <a:lnTo>
                      <a:pt x="0" y="561"/>
                    </a:lnTo>
                    <a:lnTo>
                      <a:pt x="0" y="532"/>
                    </a:lnTo>
                    <a:lnTo>
                      <a:pt x="3" y="504"/>
                    </a:lnTo>
                    <a:lnTo>
                      <a:pt x="6" y="476"/>
                    </a:lnTo>
                    <a:lnTo>
                      <a:pt x="11" y="448"/>
                    </a:lnTo>
                    <a:lnTo>
                      <a:pt x="18" y="421"/>
                    </a:lnTo>
                    <a:lnTo>
                      <a:pt x="25" y="394"/>
                    </a:lnTo>
                    <a:lnTo>
                      <a:pt x="34" y="368"/>
                    </a:lnTo>
                    <a:lnTo>
                      <a:pt x="45" y="343"/>
                    </a:lnTo>
                    <a:lnTo>
                      <a:pt x="55" y="318"/>
                    </a:lnTo>
                    <a:lnTo>
                      <a:pt x="67" y="294"/>
                    </a:lnTo>
                    <a:lnTo>
                      <a:pt x="82" y="270"/>
                    </a:lnTo>
                    <a:lnTo>
                      <a:pt x="96" y="247"/>
                    </a:lnTo>
                    <a:lnTo>
                      <a:pt x="112" y="225"/>
                    </a:lnTo>
                    <a:lnTo>
                      <a:pt x="129" y="204"/>
                    </a:lnTo>
                    <a:lnTo>
                      <a:pt x="147" y="183"/>
                    </a:lnTo>
                    <a:lnTo>
                      <a:pt x="165" y="164"/>
                    </a:lnTo>
                    <a:lnTo>
                      <a:pt x="184" y="146"/>
                    </a:lnTo>
                    <a:lnTo>
                      <a:pt x="204" y="128"/>
                    </a:lnTo>
                    <a:lnTo>
                      <a:pt x="226" y="111"/>
                    </a:lnTo>
                    <a:lnTo>
                      <a:pt x="247" y="96"/>
                    </a:lnTo>
                    <a:lnTo>
                      <a:pt x="270" y="81"/>
                    </a:lnTo>
                    <a:lnTo>
                      <a:pt x="294" y="67"/>
                    </a:lnTo>
                    <a:lnTo>
                      <a:pt x="318" y="55"/>
                    </a:lnTo>
                    <a:lnTo>
                      <a:pt x="343" y="44"/>
                    </a:lnTo>
                    <a:lnTo>
                      <a:pt x="369" y="33"/>
                    </a:lnTo>
                    <a:lnTo>
                      <a:pt x="395" y="25"/>
                    </a:lnTo>
                    <a:lnTo>
                      <a:pt x="421" y="18"/>
                    </a:lnTo>
                    <a:lnTo>
                      <a:pt x="449" y="11"/>
                    </a:lnTo>
                    <a:lnTo>
                      <a:pt x="477" y="6"/>
                    </a:lnTo>
                    <a:lnTo>
                      <a:pt x="504" y="2"/>
                    </a:lnTo>
                    <a:lnTo>
                      <a:pt x="533" y="0"/>
                    </a:lnTo>
                    <a:lnTo>
                      <a:pt x="562" y="0"/>
                    </a:lnTo>
                    <a:close/>
                  </a:path>
                </a:pathLst>
              </a:custGeom>
              <a:solidFill>
                <a:srgbClr val="e79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055680" y="2851200"/>
                <a:ext cx="441360" cy="441360"/>
              </a:xfrm>
              <a:custGeom>
                <a:avLst/>
                <a:gdLst/>
                <a:ahLst/>
                <a:rect l="l" t="t" r="r" b="b"/>
                <a:pathLst>
                  <a:path w="1112" h="1112">
                    <a:moveTo>
                      <a:pt x="557" y="0"/>
                    </a:moveTo>
                    <a:lnTo>
                      <a:pt x="584" y="1"/>
                    </a:lnTo>
                    <a:lnTo>
                      <a:pt x="613" y="3"/>
                    </a:lnTo>
                    <a:lnTo>
                      <a:pt x="641" y="6"/>
                    </a:lnTo>
                    <a:lnTo>
                      <a:pt x="668" y="12"/>
                    </a:lnTo>
                    <a:lnTo>
                      <a:pt x="695" y="18"/>
                    </a:lnTo>
                    <a:lnTo>
                      <a:pt x="721" y="25"/>
                    </a:lnTo>
                    <a:lnTo>
                      <a:pt x="748" y="34"/>
                    </a:lnTo>
                    <a:lnTo>
                      <a:pt x="773" y="45"/>
                    </a:lnTo>
                    <a:lnTo>
                      <a:pt x="797" y="55"/>
                    </a:lnTo>
                    <a:lnTo>
                      <a:pt x="821" y="67"/>
                    </a:lnTo>
                    <a:lnTo>
                      <a:pt x="845" y="81"/>
                    </a:lnTo>
                    <a:lnTo>
                      <a:pt x="866" y="95"/>
                    </a:lnTo>
                    <a:lnTo>
                      <a:pt x="889" y="111"/>
                    </a:lnTo>
                    <a:lnTo>
                      <a:pt x="910" y="127"/>
                    </a:lnTo>
                    <a:lnTo>
                      <a:pt x="930" y="145"/>
                    </a:lnTo>
                    <a:lnTo>
                      <a:pt x="949" y="163"/>
                    </a:lnTo>
                    <a:lnTo>
                      <a:pt x="967" y="183"/>
                    </a:lnTo>
                    <a:lnTo>
                      <a:pt x="985" y="203"/>
                    </a:lnTo>
                    <a:lnTo>
                      <a:pt x="1002" y="225"/>
                    </a:lnTo>
                    <a:lnTo>
                      <a:pt x="1018" y="246"/>
                    </a:lnTo>
                    <a:lnTo>
                      <a:pt x="1032" y="269"/>
                    </a:lnTo>
                    <a:lnTo>
                      <a:pt x="1045" y="292"/>
                    </a:lnTo>
                    <a:lnTo>
                      <a:pt x="1057" y="316"/>
                    </a:lnTo>
                    <a:lnTo>
                      <a:pt x="1069" y="340"/>
                    </a:lnTo>
                    <a:lnTo>
                      <a:pt x="1079" y="365"/>
                    </a:lnTo>
                    <a:lnTo>
                      <a:pt x="1087" y="391"/>
                    </a:lnTo>
                    <a:lnTo>
                      <a:pt x="1094" y="418"/>
                    </a:lnTo>
                    <a:lnTo>
                      <a:pt x="1102" y="444"/>
                    </a:lnTo>
                    <a:lnTo>
                      <a:pt x="1106" y="472"/>
                    </a:lnTo>
                    <a:lnTo>
                      <a:pt x="1110" y="499"/>
                    </a:lnTo>
                    <a:lnTo>
                      <a:pt x="1112" y="528"/>
                    </a:lnTo>
                    <a:lnTo>
                      <a:pt x="1112" y="557"/>
                    </a:lnTo>
                    <a:lnTo>
                      <a:pt x="1112" y="584"/>
                    </a:lnTo>
                    <a:lnTo>
                      <a:pt x="1110" y="613"/>
                    </a:lnTo>
                    <a:lnTo>
                      <a:pt x="1106" y="641"/>
                    </a:lnTo>
                    <a:lnTo>
                      <a:pt x="1102" y="668"/>
                    </a:lnTo>
                    <a:lnTo>
                      <a:pt x="1094" y="695"/>
                    </a:lnTo>
                    <a:lnTo>
                      <a:pt x="1087" y="721"/>
                    </a:lnTo>
                    <a:lnTo>
                      <a:pt x="1079" y="748"/>
                    </a:lnTo>
                    <a:lnTo>
                      <a:pt x="1069" y="773"/>
                    </a:lnTo>
                    <a:lnTo>
                      <a:pt x="1057" y="797"/>
                    </a:lnTo>
                    <a:lnTo>
                      <a:pt x="1045" y="821"/>
                    </a:lnTo>
                    <a:lnTo>
                      <a:pt x="1032" y="845"/>
                    </a:lnTo>
                    <a:lnTo>
                      <a:pt x="1018" y="866"/>
                    </a:lnTo>
                    <a:lnTo>
                      <a:pt x="1002" y="889"/>
                    </a:lnTo>
                    <a:lnTo>
                      <a:pt x="985" y="910"/>
                    </a:lnTo>
                    <a:lnTo>
                      <a:pt x="967" y="930"/>
                    </a:lnTo>
                    <a:lnTo>
                      <a:pt x="949" y="949"/>
                    </a:lnTo>
                    <a:lnTo>
                      <a:pt x="930" y="967"/>
                    </a:lnTo>
                    <a:lnTo>
                      <a:pt x="910" y="985"/>
                    </a:lnTo>
                    <a:lnTo>
                      <a:pt x="889" y="1002"/>
                    </a:lnTo>
                    <a:lnTo>
                      <a:pt x="866" y="1018"/>
                    </a:lnTo>
                    <a:lnTo>
                      <a:pt x="845" y="1032"/>
                    </a:lnTo>
                    <a:lnTo>
                      <a:pt x="821" y="1045"/>
                    </a:lnTo>
                    <a:lnTo>
                      <a:pt x="797" y="1057"/>
                    </a:lnTo>
                    <a:lnTo>
                      <a:pt x="773" y="1069"/>
                    </a:lnTo>
                    <a:lnTo>
                      <a:pt x="748" y="1079"/>
                    </a:lnTo>
                    <a:lnTo>
                      <a:pt x="721" y="1087"/>
                    </a:lnTo>
                    <a:lnTo>
                      <a:pt x="695" y="1094"/>
                    </a:lnTo>
                    <a:lnTo>
                      <a:pt x="668" y="1101"/>
                    </a:lnTo>
                    <a:lnTo>
                      <a:pt x="641" y="1106"/>
                    </a:lnTo>
                    <a:lnTo>
                      <a:pt x="613" y="1110"/>
                    </a:lnTo>
                    <a:lnTo>
                      <a:pt x="584" y="1111"/>
                    </a:lnTo>
                    <a:lnTo>
                      <a:pt x="557" y="1112"/>
                    </a:lnTo>
                    <a:lnTo>
                      <a:pt x="528" y="1111"/>
                    </a:lnTo>
                    <a:lnTo>
                      <a:pt x="499" y="1110"/>
                    </a:lnTo>
                    <a:lnTo>
                      <a:pt x="472" y="1106"/>
                    </a:lnTo>
                    <a:lnTo>
                      <a:pt x="444" y="1101"/>
                    </a:lnTo>
                    <a:lnTo>
                      <a:pt x="418" y="1094"/>
                    </a:lnTo>
                    <a:lnTo>
                      <a:pt x="391" y="1087"/>
                    </a:lnTo>
                    <a:lnTo>
                      <a:pt x="366" y="1079"/>
                    </a:lnTo>
                    <a:lnTo>
                      <a:pt x="341" y="1069"/>
                    </a:lnTo>
                    <a:lnTo>
                      <a:pt x="316" y="1057"/>
                    </a:lnTo>
                    <a:lnTo>
                      <a:pt x="292" y="1045"/>
                    </a:lnTo>
                    <a:lnTo>
                      <a:pt x="269" y="1032"/>
                    </a:lnTo>
                    <a:lnTo>
                      <a:pt x="246" y="1018"/>
                    </a:lnTo>
                    <a:lnTo>
                      <a:pt x="224" y="1002"/>
                    </a:lnTo>
                    <a:lnTo>
                      <a:pt x="203" y="985"/>
                    </a:lnTo>
                    <a:lnTo>
                      <a:pt x="182" y="967"/>
                    </a:lnTo>
                    <a:lnTo>
                      <a:pt x="163" y="949"/>
                    </a:lnTo>
                    <a:lnTo>
                      <a:pt x="145" y="930"/>
                    </a:lnTo>
                    <a:lnTo>
                      <a:pt x="127" y="910"/>
                    </a:lnTo>
                    <a:lnTo>
                      <a:pt x="110" y="889"/>
                    </a:lnTo>
                    <a:lnTo>
                      <a:pt x="96" y="866"/>
                    </a:lnTo>
                    <a:lnTo>
                      <a:pt x="80" y="845"/>
                    </a:lnTo>
                    <a:lnTo>
                      <a:pt x="67" y="821"/>
                    </a:lnTo>
                    <a:lnTo>
                      <a:pt x="55" y="797"/>
                    </a:lnTo>
                    <a:lnTo>
                      <a:pt x="44" y="773"/>
                    </a:lnTo>
                    <a:lnTo>
                      <a:pt x="34" y="748"/>
                    </a:lnTo>
                    <a:lnTo>
                      <a:pt x="25" y="721"/>
                    </a:lnTo>
                    <a:lnTo>
                      <a:pt x="18" y="695"/>
                    </a:lnTo>
                    <a:lnTo>
                      <a:pt x="12" y="668"/>
                    </a:lnTo>
                    <a:lnTo>
                      <a:pt x="7" y="641"/>
                    </a:lnTo>
                    <a:lnTo>
                      <a:pt x="4" y="613"/>
                    </a:lnTo>
                    <a:lnTo>
                      <a:pt x="1" y="584"/>
                    </a:lnTo>
                    <a:lnTo>
                      <a:pt x="0" y="557"/>
                    </a:lnTo>
                    <a:lnTo>
                      <a:pt x="1" y="528"/>
                    </a:lnTo>
                    <a:lnTo>
                      <a:pt x="4" y="499"/>
                    </a:lnTo>
                    <a:lnTo>
                      <a:pt x="7" y="472"/>
                    </a:lnTo>
                    <a:lnTo>
                      <a:pt x="12" y="444"/>
                    </a:lnTo>
                    <a:lnTo>
                      <a:pt x="18" y="418"/>
                    </a:lnTo>
                    <a:lnTo>
                      <a:pt x="25" y="391"/>
                    </a:lnTo>
                    <a:lnTo>
                      <a:pt x="34" y="365"/>
                    </a:lnTo>
                    <a:lnTo>
                      <a:pt x="44" y="340"/>
                    </a:lnTo>
                    <a:lnTo>
                      <a:pt x="55" y="316"/>
                    </a:lnTo>
                    <a:lnTo>
                      <a:pt x="67" y="292"/>
                    </a:lnTo>
                    <a:lnTo>
                      <a:pt x="80" y="269"/>
                    </a:lnTo>
                    <a:lnTo>
                      <a:pt x="96" y="246"/>
                    </a:lnTo>
                    <a:lnTo>
                      <a:pt x="110" y="225"/>
                    </a:lnTo>
                    <a:lnTo>
                      <a:pt x="127" y="203"/>
                    </a:lnTo>
                    <a:lnTo>
                      <a:pt x="145" y="183"/>
                    </a:lnTo>
                    <a:lnTo>
                      <a:pt x="163" y="163"/>
                    </a:lnTo>
                    <a:lnTo>
                      <a:pt x="182" y="145"/>
                    </a:lnTo>
                    <a:lnTo>
                      <a:pt x="203" y="127"/>
                    </a:lnTo>
                    <a:lnTo>
                      <a:pt x="224" y="111"/>
                    </a:lnTo>
                    <a:lnTo>
                      <a:pt x="246" y="95"/>
                    </a:lnTo>
                    <a:lnTo>
                      <a:pt x="269" y="81"/>
                    </a:lnTo>
                    <a:lnTo>
                      <a:pt x="292" y="67"/>
                    </a:lnTo>
                    <a:lnTo>
                      <a:pt x="316" y="55"/>
                    </a:lnTo>
                    <a:lnTo>
                      <a:pt x="341" y="45"/>
                    </a:lnTo>
                    <a:lnTo>
                      <a:pt x="366" y="34"/>
                    </a:lnTo>
                    <a:lnTo>
                      <a:pt x="391" y="25"/>
                    </a:lnTo>
                    <a:lnTo>
                      <a:pt x="418" y="18"/>
                    </a:lnTo>
                    <a:lnTo>
                      <a:pt x="444" y="12"/>
                    </a:lnTo>
                    <a:lnTo>
                      <a:pt x="472" y="6"/>
                    </a:lnTo>
                    <a:lnTo>
                      <a:pt x="499" y="3"/>
                    </a:lnTo>
                    <a:lnTo>
                      <a:pt x="528" y="1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ec9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058920" y="2854440"/>
                <a:ext cx="436680" cy="436320"/>
              </a:xfrm>
              <a:custGeom>
                <a:avLst/>
                <a:gdLst/>
                <a:ahLst/>
                <a:rect l="l" t="t" r="r" b="b"/>
                <a:pathLst>
                  <a:path w="1100" h="1101">
                    <a:moveTo>
                      <a:pt x="550" y="0"/>
                    </a:moveTo>
                    <a:lnTo>
                      <a:pt x="578" y="1"/>
                    </a:lnTo>
                    <a:lnTo>
                      <a:pt x="606" y="3"/>
                    </a:lnTo>
                    <a:lnTo>
                      <a:pt x="634" y="7"/>
                    </a:lnTo>
                    <a:lnTo>
                      <a:pt x="661" y="12"/>
                    </a:lnTo>
                    <a:lnTo>
                      <a:pt x="688" y="18"/>
                    </a:lnTo>
                    <a:lnTo>
                      <a:pt x="714" y="25"/>
                    </a:lnTo>
                    <a:lnTo>
                      <a:pt x="739" y="33"/>
                    </a:lnTo>
                    <a:lnTo>
                      <a:pt x="764" y="44"/>
                    </a:lnTo>
                    <a:lnTo>
                      <a:pt x="788" y="55"/>
                    </a:lnTo>
                    <a:lnTo>
                      <a:pt x="812" y="67"/>
                    </a:lnTo>
                    <a:lnTo>
                      <a:pt x="835" y="80"/>
                    </a:lnTo>
                    <a:lnTo>
                      <a:pt x="858" y="94"/>
                    </a:lnTo>
                    <a:lnTo>
                      <a:pt x="880" y="110"/>
                    </a:lnTo>
                    <a:lnTo>
                      <a:pt x="900" y="126"/>
                    </a:lnTo>
                    <a:lnTo>
                      <a:pt x="920" y="144"/>
                    </a:lnTo>
                    <a:lnTo>
                      <a:pt x="940" y="162"/>
                    </a:lnTo>
                    <a:lnTo>
                      <a:pt x="958" y="181"/>
                    </a:lnTo>
                    <a:lnTo>
                      <a:pt x="974" y="201"/>
                    </a:lnTo>
                    <a:lnTo>
                      <a:pt x="991" y="222"/>
                    </a:lnTo>
                    <a:lnTo>
                      <a:pt x="1007" y="243"/>
                    </a:lnTo>
                    <a:lnTo>
                      <a:pt x="1021" y="266"/>
                    </a:lnTo>
                    <a:lnTo>
                      <a:pt x="1034" y="289"/>
                    </a:lnTo>
                    <a:lnTo>
                      <a:pt x="1046" y="313"/>
                    </a:lnTo>
                    <a:lnTo>
                      <a:pt x="1057" y="337"/>
                    </a:lnTo>
                    <a:lnTo>
                      <a:pt x="1067" y="362"/>
                    </a:lnTo>
                    <a:lnTo>
                      <a:pt x="1076" y="387"/>
                    </a:lnTo>
                    <a:lnTo>
                      <a:pt x="1084" y="413"/>
                    </a:lnTo>
                    <a:lnTo>
                      <a:pt x="1090" y="440"/>
                    </a:lnTo>
                    <a:lnTo>
                      <a:pt x="1094" y="467"/>
                    </a:lnTo>
                    <a:lnTo>
                      <a:pt x="1098" y="494"/>
                    </a:lnTo>
                    <a:lnTo>
                      <a:pt x="1100" y="523"/>
                    </a:lnTo>
                    <a:lnTo>
                      <a:pt x="1100" y="550"/>
                    </a:lnTo>
                    <a:lnTo>
                      <a:pt x="1100" y="579"/>
                    </a:lnTo>
                    <a:lnTo>
                      <a:pt x="1098" y="607"/>
                    </a:lnTo>
                    <a:lnTo>
                      <a:pt x="1094" y="634"/>
                    </a:lnTo>
                    <a:lnTo>
                      <a:pt x="1090" y="662"/>
                    </a:lnTo>
                    <a:lnTo>
                      <a:pt x="1084" y="688"/>
                    </a:lnTo>
                    <a:lnTo>
                      <a:pt x="1076" y="713"/>
                    </a:lnTo>
                    <a:lnTo>
                      <a:pt x="1067" y="740"/>
                    </a:lnTo>
                    <a:lnTo>
                      <a:pt x="1057" y="765"/>
                    </a:lnTo>
                    <a:lnTo>
                      <a:pt x="1046" y="789"/>
                    </a:lnTo>
                    <a:lnTo>
                      <a:pt x="1034" y="813"/>
                    </a:lnTo>
                    <a:lnTo>
                      <a:pt x="1021" y="836"/>
                    </a:lnTo>
                    <a:lnTo>
                      <a:pt x="1007" y="857"/>
                    </a:lnTo>
                    <a:lnTo>
                      <a:pt x="991" y="879"/>
                    </a:lnTo>
                    <a:lnTo>
                      <a:pt x="974" y="901"/>
                    </a:lnTo>
                    <a:lnTo>
                      <a:pt x="958" y="920"/>
                    </a:lnTo>
                    <a:lnTo>
                      <a:pt x="940" y="939"/>
                    </a:lnTo>
                    <a:lnTo>
                      <a:pt x="920" y="958"/>
                    </a:lnTo>
                    <a:lnTo>
                      <a:pt x="900" y="975"/>
                    </a:lnTo>
                    <a:lnTo>
                      <a:pt x="880" y="992"/>
                    </a:lnTo>
                    <a:lnTo>
                      <a:pt x="858" y="1007"/>
                    </a:lnTo>
                    <a:lnTo>
                      <a:pt x="835" y="1020"/>
                    </a:lnTo>
                    <a:lnTo>
                      <a:pt x="812" y="1035"/>
                    </a:lnTo>
                    <a:lnTo>
                      <a:pt x="788" y="1047"/>
                    </a:lnTo>
                    <a:lnTo>
                      <a:pt x="764" y="1058"/>
                    </a:lnTo>
                    <a:lnTo>
                      <a:pt x="739" y="1067"/>
                    </a:lnTo>
                    <a:lnTo>
                      <a:pt x="714" y="1076"/>
                    </a:lnTo>
                    <a:lnTo>
                      <a:pt x="688" y="1084"/>
                    </a:lnTo>
                    <a:lnTo>
                      <a:pt x="661" y="1090"/>
                    </a:lnTo>
                    <a:lnTo>
                      <a:pt x="634" y="1095"/>
                    </a:lnTo>
                    <a:lnTo>
                      <a:pt x="606" y="1098"/>
                    </a:lnTo>
                    <a:lnTo>
                      <a:pt x="578" y="1100"/>
                    </a:lnTo>
                    <a:lnTo>
                      <a:pt x="550" y="1101"/>
                    </a:lnTo>
                    <a:lnTo>
                      <a:pt x="522" y="1100"/>
                    </a:lnTo>
                    <a:lnTo>
                      <a:pt x="494" y="1098"/>
                    </a:lnTo>
                    <a:lnTo>
                      <a:pt x="467" y="1095"/>
                    </a:lnTo>
                    <a:lnTo>
                      <a:pt x="439" y="1090"/>
                    </a:lnTo>
                    <a:lnTo>
                      <a:pt x="413" y="1084"/>
                    </a:lnTo>
                    <a:lnTo>
                      <a:pt x="386" y="1076"/>
                    </a:lnTo>
                    <a:lnTo>
                      <a:pt x="361" y="1067"/>
                    </a:lnTo>
                    <a:lnTo>
                      <a:pt x="336" y="1058"/>
                    </a:lnTo>
                    <a:lnTo>
                      <a:pt x="312" y="1047"/>
                    </a:lnTo>
                    <a:lnTo>
                      <a:pt x="288" y="1035"/>
                    </a:lnTo>
                    <a:lnTo>
                      <a:pt x="265" y="1020"/>
                    </a:lnTo>
                    <a:lnTo>
                      <a:pt x="242" y="1007"/>
                    </a:lnTo>
                    <a:lnTo>
                      <a:pt x="221" y="992"/>
                    </a:lnTo>
                    <a:lnTo>
                      <a:pt x="200" y="975"/>
                    </a:lnTo>
                    <a:lnTo>
                      <a:pt x="180" y="958"/>
                    </a:lnTo>
                    <a:lnTo>
                      <a:pt x="161" y="939"/>
                    </a:lnTo>
                    <a:lnTo>
                      <a:pt x="143" y="920"/>
                    </a:lnTo>
                    <a:lnTo>
                      <a:pt x="126" y="901"/>
                    </a:lnTo>
                    <a:lnTo>
                      <a:pt x="109" y="879"/>
                    </a:lnTo>
                    <a:lnTo>
                      <a:pt x="94" y="857"/>
                    </a:lnTo>
                    <a:lnTo>
                      <a:pt x="79" y="836"/>
                    </a:lnTo>
                    <a:lnTo>
                      <a:pt x="66" y="813"/>
                    </a:lnTo>
                    <a:lnTo>
                      <a:pt x="54" y="789"/>
                    </a:lnTo>
                    <a:lnTo>
                      <a:pt x="43" y="765"/>
                    </a:lnTo>
                    <a:lnTo>
                      <a:pt x="32" y="740"/>
                    </a:lnTo>
                    <a:lnTo>
                      <a:pt x="24" y="713"/>
                    </a:lnTo>
                    <a:lnTo>
                      <a:pt x="17" y="688"/>
                    </a:lnTo>
                    <a:lnTo>
                      <a:pt x="11" y="662"/>
                    </a:lnTo>
                    <a:lnTo>
                      <a:pt x="6" y="634"/>
                    </a:lnTo>
                    <a:lnTo>
                      <a:pt x="2" y="607"/>
                    </a:lnTo>
                    <a:lnTo>
                      <a:pt x="0" y="579"/>
                    </a:lnTo>
                    <a:lnTo>
                      <a:pt x="0" y="550"/>
                    </a:lnTo>
                    <a:lnTo>
                      <a:pt x="0" y="523"/>
                    </a:lnTo>
                    <a:lnTo>
                      <a:pt x="2" y="494"/>
                    </a:lnTo>
                    <a:lnTo>
                      <a:pt x="6" y="467"/>
                    </a:lnTo>
                    <a:lnTo>
                      <a:pt x="11" y="440"/>
                    </a:lnTo>
                    <a:lnTo>
                      <a:pt x="17" y="413"/>
                    </a:lnTo>
                    <a:lnTo>
                      <a:pt x="24" y="387"/>
                    </a:lnTo>
                    <a:lnTo>
                      <a:pt x="32" y="362"/>
                    </a:lnTo>
                    <a:lnTo>
                      <a:pt x="43" y="337"/>
                    </a:lnTo>
                    <a:lnTo>
                      <a:pt x="54" y="313"/>
                    </a:lnTo>
                    <a:lnTo>
                      <a:pt x="66" y="289"/>
                    </a:lnTo>
                    <a:lnTo>
                      <a:pt x="79" y="266"/>
                    </a:lnTo>
                    <a:lnTo>
                      <a:pt x="94" y="243"/>
                    </a:lnTo>
                    <a:lnTo>
                      <a:pt x="109" y="222"/>
                    </a:lnTo>
                    <a:lnTo>
                      <a:pt x="126" y="201"/>
                    </a:lnTo>
                    <a:lnTo>
                      <a:pt x="143" y="181"/>
                    </a:lnTo>
                    <a:lnTo>
                      <a:pt x="161" y="162"/>
                    </a:lnTo>
                    <a:lnTo>
                      <a:pt x="180" y="144"/>
                    </a:lnTo>
                    <a:lnTo>
                      <a:pt x="200" y="126"/>
                    </a:lnTo>
                    <a:lnTo>
                      <a:pt x="221" y="110"/>
                    </a:lnTo>
                    <a:lnTo>
                      <a:pt x="242" y="94"/>
                    </a:lnTo>
                    <a:lnTo>
                      <a:pt x="265" y="80"/>
                    </a:lnTo>
                    <a:lnTo>
                      <a:pt x="288" y="67"/>
                    </a:lnTo>
                    <a:lnTo>
                      <a:pt x="312" y="55"/>
                    </a:lnTo>
                    <a:lnTo>
                      <a:pt x="336" y="44"/>
                    </a:lnTo>
                    <a:lnTo>
                      <a:pt x="361" y="33"/>
                    </a:lnTo>
                    <a:lnTo>
                      <a:pt x="386" y="25"/>
                    </a:lnTo>
                    <a:lnTo>
                      <a:pt x="413" y="18"/>
                    </a:lnTo>
                    <a:lnTo>
                      <a:pt x="439" y="12"/>
                    </a:lnTo>
                    <a:lnTo>
                      <a:pt x="467" y="7"/>
                    </a:lnTo>
                    <a:lnTo>
                      <a:pt x="494" y="3"/>
                    </a:lnTo>
                    <a:lnTo>
                      <a:pt x="522" y="1"/>
                    </a:lnTo>
                    <a:lnTo>
                      <a:pt x="550" y="0"/>
                    </a:lnTo>
                    <a:close/>
                  </a:path>
                </a:pathLst>
              </a:custGeom>
              <a:solidFill>
                <a:srgbClr val="f2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127320" y="314784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43" y="0"/>
                    </a:moveTo>
                    <a:lnTo>
                      <a:pt x="52" y="2"/>
                    </a:lnTo>
                    <a:lnTo>
                      <a:pt x="60" y="4"/>
                    </a:lnTo>
                    <a:lnTo>
                      <a:pt x="67" y="8"/>
                    </a:lnTo>
                    <a:lnTo>
                      <a:pt x="73" y="14"/>
                    </a:lnTo>
                    <a:lnTo>
                      <a:pt x="79" y="20"/>
                    </a:lnTo>
                    <a:lnTo>
                      <a:pt x="83" y="27"/>
                    </a:lnTo>
                    <a:lnTo>
                      <a:pt x="85" y="35"/>
                    </a:lnTo>
                    <a:lnTo>
                      <a:pt x="87" y="44"/>
                    </a:lnTo>
                    <a:lnTo>
                      <a:pt x="85" y="52"/>
                    </a:lnTo>
                    <a:lnTo>
                      <a:pt x="83" y="60"/>
                    </a:lnTo>
                    <a:lnTo>
                      <a:pt x="79" y="68"/>
                    </a:lnTo>
                    <a:lnTo>
                      <a:pt x="73" y="74"/>
                    </a:lnTo>
                    <a:lnTo>
                      <a:pt x="67" y="80"/>
                    </a:lnTo>
                    <a:lnTo>
                      <a:pt x="60" y="83"/>
                    </a:lnTo>
                    <a:lnTo>
                      <a:pt x="52" y="86"/>
                    </a:lnTo>
                    <a:lnTo>
                      <a:pt x="43" y="87"/>
                    </a:lnTo>
                    <a:lnTo>
                      <a:pt x="35" y="86"/>
                    </a:lnTo>
                    <a:lnTo>
                      <a:pt x="27" y="83"/>
                    </a:lnTo>
                    <a:lnTo>
                      <a:pt x="19" y="80"/>
                    </a:lnTo>
                    <a:lnTo>
                      <a:pt x="13" y="74"/>
                    </a:lnTo>
                    <a:lnTo>
                      <a:pt x="7" y="68"/>
                    </a:lnTo>
                    <a:lnTo>
                      <a:pt x="4" y="60"/>
                    </a:lnTo>
                    <a:lnTo>
                      <a:pt x="1" y="52"/>
                    </a:lnTo>
                    <a:lnTo>
                      <a:pt x="0" y="44"/>
                    </a:lnTo>
                    <a:lnTo>
                      <a:pt x="1" y="35"/>
                    </a:lnTo>
                    <a:lnTo>
                      <a:pt x="4" y="27"/>
                    </a:lnTo>
                    <a:lnTo>
                      <a:pt x="7" y="20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7" y="4"/>
                    </a:lnTo>
                    <a:lnTo>
                      <a:pt x="35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127320" y="314784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43" y="0"/>
                    </a:moveTo>
                    <a:lnTo>
                      <a:pt x="52" y="2"/>
                    </a:lnTo>
                    <a:lnTo>
                      <a:pt x="60" y="4"/>
                    </a:lnTo>
                    <a:lnTo>
                      <a:pt x="67" y="8"/>
                    </a:lnTo>
                    <a:lnTo>
                      <a:pt x="73" y="14"/>
                    </a:lnTo>
                    <a:lnTo>
                      <a:pt x="79" y="20"/>
                    </a:lnTo>
                    <a:lnTo>
                      <a:pt x="83" y="27"/>
                    </a:lnTo>
                    <a:lnTo>
                      <a:pt x="85" y="35"/>
                    </a:lnTo>
                    <a:lnTo>
                      <a:pt x="87" y="44"/>
                    </a:lnTo>
                    <a:lnTo>
                      <a:pt x="85" y="52"/>
                    </a:lnTo>
                    <a:lnTo>
                      <a:pt x="83" y="60"/>
                    </a:lnTo>
                    <a:lnTo>
                      <a:pt x="79" y="68"/>
                    </a:lnTo>
                    <a:lnTo>
                      <a:pt x="73" y="74"/>
                    </a:lnTo>
                    <a:lnTo>
                      <a:pt x="67" y="80"/>
                    </a:lnTo>
                    <a:lnTo>
                      <a:pt x="60" y="83"/>
                    </a:lnTo>
                    <a:lnTo>
                      <a:pt x="52" y="86"/>
                    </a:lnTo>
                    <a:lnTo>
                      <a:pt x="43" y="87"/>
                    </a:lnTo>
                    <a:lnTo>
                      <a:pt x="35" y="86"/>
                    </a:lnTo>
                    <a:lnTo>
                      <a:pt x="27" y="83"/>
                    </a:lnTo>
                    <a:lnTo>
                      <a:pt x="19" y="80"/>
                    </a:lnTo>
                    <a:lnTo>
                      <a:pt x="13" y="74"/>
                    </a:lnTo>
                    <a:lnTo>
                      <a:pt x="7" y="68"/>
                    </a:lnTo>
                    <a:lnTo>
                      <a:pt x="4" y="60"/>
                    </a:lnTo>
                    <a:lnTo>
                      <a:pt x="1" y="52"/>
                    </a:lnTo>
                    <a:lnTo>
                      <a:pt x="0" y="44"/>
                    </a:lnTo>
                    <a:lnTo>
                      <a:pt x="1" y="35"/>
                    </a:lnTo>
                    <a:lnTo>
                      <a:pt x="4" y="27"/>
                    </a:lnTo>
                    <a:lnTo>
                      <a:pt x="7" y="20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7" y="4"/>
                    </a:lnTo>
                    <a:lnTo>
                      <a:pt x="35" y="2"/>
                    </a:lnTo>
                    <a:lnTo>
                      <a:pt x="43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100320" y="3092400"/>
                <a:ext cx="33480" cy="3348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44" y="0"/>
                    </a:moveTo>
                    <a:lnTo>
                      <a:pt x="52" y="0"/>
                    </a:lnTo>
                    <a:lnTo>
                      <a:pt x="60" y="3"/>
                    </a:lnTo>
                    <a:lnTo>
                      <a:pt x="68" y="7"/>
                    </a:lnTo>
                    <a:lnTo>
                      <a:pt x="74" y="12"/>
                    </a:lnTo>
                    <a:lnTo>
                      <a:pt x="80" y="18"/>
                    </a:lnTo>
                    <a:lnTo>
                      <a:pt x="83" y="27"/>
                    </a:lnTo>
                    <a:lnTo>
                      <a:pt x="86" y="34"/>
                    </a:lnTo>
                    <a:lnTo>
                      <a:pt x="87" y="42"/>
                    </a:lnTo>
                    <a:lnTo>
                      <a:pt x="86" y="52"/>
                    </a:lnTo>
                    <a:lnTo>
                      <a:pt x="83" y="59"/>
                    </a:lnTo>
                    <a:lnTo>
                      <a:pt x="80" y="67"/>
                    </a:lnTo>
                    <a:lnTo>
                      <a:pt x="74" y="73"/>
                    </a:lnTo>
                    <a:lnTo>
                      <a:pt x="68" y="78"/>
                    </a:lnTo>
                    <a:lnTo>
                      <a:pt x="60" y="83"/>
                    </a:lnTo>
                    <a:lnTo>
                      <a:pt x="52" y="85"/>
                    </a:lnTo>
                    <a:lnTo>
                      <a:pt x="44" y="85"/>
                    </a:lnTo>
                    <a:lnTo>
                      <a:pt x="35" y="85"/>
                    </a:lnTo>
                    <a:lnTo>
                      <a:pt x="27" y="83"/>
                    </a:lnTo>
                    <a:lnTo>
                      <a:pt x="20" y="78"/>
                    </a:lnTo>
                    <a:lnTo>
                      <a:pt x="14" y="73"/>
                    </a:lnTo>
                    <a:lnTo>
                      <a:pt x="8" y="67"/>
                    </a:lnTo>
                    <a:lnTo>
                      <a:pt x="4" y="59"/>
                    </a:lnTo>
                    <a:lnTo>
                      <a:pt x="2" y="52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4" y="27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7"/>
                    </a:lnTo>
                    <a:lnTo>
                      <a:pt x="27" y="3"/>
                    </a:lnTo>
                    <a:lnTo>
                      <a:pt x="35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100320" y="3092400"/>
                <a:ext cx="33480" cy="3348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44" y="0"/>
                    </a:moveTo>
                    <a:lnTo>
                      <a:pt x="52" y="0"/>
                    </a:lnTo>
                    <a:lnTo>
                      <a:pt x="60" y="3"/>
                    </a:lnTo>
                    <a:lnTo>
                      <a:pt x="68" y="7"/>
                    </a:lnTo>
                    <a:lnTo>
                      <a:pt x="74" y="12"/>
                    </a:lnTo>
                    <a:lnTo>
                      <a:pt x="80" y="18"/>
                    </a:lnTo>
                    <a:lnTo>
                      <a:pt x="83" y="27"/>
                    </a:lnTo>
                    <a:lnTo>
                      <a:pt x="86" y="34"/>
                    </a:lnTo>
                    <a:lnTo>
                      <a:pt x="87" y="42"/>
                    </a:lnTo>
                    <a:lnTo>
                      <a:pt x="86" y="52"/>
                    </a:lnTo>
                    <a:lnTo>
                      <a:pt x="83" y="59"/>
                    </a:lnTo>
                    <a:lnTo>
                      <a:pt x="80" y="67"/>
                    </a:lnTo>
                    <a:lnTo>
                      <a:pt x="74" y="73"/>
                    </a:lnTo>
                    <a:lnTo>
                      <a:pt x="68" y="78"/>
                    </a:lnTo>
                    <a:lnTo>
                      <a:pt x="60" y="83"/>
                    </a:lnTo>
                    <a:lnTo>
                      <a:pt x="52" y="85"/>
                    </a:lnTo>
                    <a:lnTo>
                      <a:pt x="44" y="85"/>
                    </a:lnTo>
                    <a:lnTo>
                      <a:pt x="35" y="85"/>
                    </a:lnTo>
                    <a:lnTo>
                      <a:pt x="27" y="83"/>
                    </a:lnTo>
                    <a:lnTo>
                      <a:pt x="20" y="78"/>
                    </a:lnTo>
                    <a:lnTo>
                      <a:pt x="14" y="73"/>
                    </a:lnTo>
                    <a:lnTo>
                      <a:pt x="8" y="67"/>
                    </a:lnTo>
                    <a:lnTo>
                      <a:pt x="4" y="59"/>
                    </a:lnTo>
                    <a:lnTo>
                      <a:pt x="2" y="52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4" y="27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7"/>
                    </a:lnTo>
                    <a:lnTo>
                      <a:pt x="27" y="3"/>
                    </a:lnTo>
                    <a:lnTo>
                      <a:pt x="35" y="0"/>
                    </a:lnTo>
                    <a:lnTo>
                      <a:pt x="44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105000" y="303048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43" y="0"/>
                    </a:moveTo>
                    <a:lnTo>
                      <a:pt x="51" y="1"/>
                    </a:lnTo>
                    <a:lnTo>
                      <a:pt x="60" y="4"/>
                    </a:lnTo>
                    <a:lnTo>
                      <a:pt x="67" y="7"/>
                    </a:lnTo>
                    <a:lnTo>
                      <a:pt x="73" y="13"/>
                    </a:lnTo>
                    <a:lnTo>
                      <a:pt x="78" y="19"/>
                    </a:lnTo>
                    <a:lnTo>
                      <a:pt x="82" y="26"/>
                    </a:lnTo>
                    <a:lnTo>
                      <a:pt x="85" y="35"/>
                    </a:lnTo>
                    <a:lnTo>
                      <a:pt x="86" y="43"/>
                    </a:lnTo>
                    <a:lnTo>
                      <a:pt x="85" y="52"/>
                    </a:lnTo>
                    <a:lnTo>
                      <a:pt x="82" y="60"/>
                    </a:lnTo>
                    <a:lnTo>
                      <a:pt x="78" y="67"/>
                    </a:lnTo>
                    <a:lnTo>
                      <a:pt x="73" y="73"/>
                    </a:lnTo>
                    <a:lnTo>
                      <a:pt x="67" y="79"/>
                    </a:lnTo>
                    <a:lnTo>
                      <a:pt x="60" y="83"/>
                    </a:lnTo>
                    <a:lnTo>
                      <a:pt x="51" y="85"/>
                    </a:lnTo>
                    <a:lnTo>
                      <a:pt x="43" y="86"/>
                    </a:lnTo>
                    <a:lnTo>
                      <a:pt x="33" y="85"/>
                    </a:lnTo>
                    <a:lnTo>
                      <a:pt x="26" y="83"/>
                    </a:lnTo>
                    <a:lnTo>
                      <a:pt x="19" y="79"/>
                    </a:lnTo>
                    <a:lnTo>
                      <a:pt x="12" y="73"/>
                    </a:lnTo>
                    <a:lnTo>
                      <a:pt x="7" y="67"/>
                    </a:lnTo>
                    <a:lnTo>
                      <a:pt x="3" y="60"/>
                    </a:lnTo>
                    <a:lnTo>
                      <a:pt x="1" y="52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2" y="13"/>
                    </a:lnTo>
                    <a:lnTo>
                      <a:pt x="19" y="7"/>
                    </a:lnTo>
                    <a:lnTo>
                      <a:pt x="26" y="4"/>
                    </a:lnTo>
                    <a:lnTo>
                      <a:pt x="33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105000" y="303048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43" y="0"/>
                    </a:moveTo>
                    <a:lnTo>
                      <a:pt x="51" y="1"/>
                    </a:lnTo>
                    <a:lnTo>
                      <a:pt x="60" y="4"/>
                    </a:lnTo>
                    <a:lnTo>
                      <a:pt x="67" y="7"/>
                    </a:lnTo>
                    <a:lnTo>
                      <a:pt x="73" y="13"/>
                    </a:lnTo>
                    <a:lnTo>
                      <a:pt x="78" y="19"/>
                    </a:lnTo>
                    <a:lnTo>
                      <a:pt x="82" y="26"/>
                    </a:lnTo>
                    <a:lnTo>
                      <a:pt x="85" y="35"/>
                    </a:lnTo>
                    <a:lnTo>
                      <a:pt x="86" y="43"/>
                    </a:lnTo>
                    <a:lnTo>
                      <a:pt x="85" y="52"/>
                    </a:lnTo>
                    <a:lnTo>
                      <a:pt x="82" y="60"/>
                    </a:lnTo>
                    <a:lnTo>
                      <a:pt x="78" y="67"/>
                    </a:lnTo>
                    <a:lnTo>
                      <a:pt x="73" y="73"/>
                    </a:lnTo>
                    <a:lnTo>
                      <a:pt x="67" y="79"/>
                    </a:lnTo>
                    <a:lnTo>
                      <a:pt x="60" y="83"/>
                    </a:lnTo>
                    <a:lnTo>
                      <a:pt x="51" y="85"/>
                    </a:lnTo>
                    <a:lnTo>
                      <a:pt x="43" y="86"/>
                    </a:lnTo>
                    <a:lnTo>
                      <a:pt x="33" y="85"/>
                    </a:lnTo>
                    <a:lnTo>
                      <a:pt x="26" y="83"/>
                    </a:lnTo>
                    <a:lnTo>
                      <a:pt x="19" y="79"/>
                    </a:lnTo>
                    <a:lnTo>
                      <a:pt x="12" y="73"/>
                    </a:lnTo>
                    <a:lnTo>
                      <a:pt x="7" y="67"/>
                    </a:lnTo>
                    <a:lnTo>
                      <a:pt x="3" y="60"/>
                    </a:lnTo>
                    <a:lnTo>
                      <a:pt x="1" y="52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2" y="13"/>
                    </a:lnTo>
                    <a:lnTo>
                      <a:pt x="19" y="7"/>
                    </a:lnTo>
                    <a:lnTo>
                      <a:pt x="26" y="4"/>
                    </a:lnTo>
                    <a:lnTo>
                      <a:pt x="33" y="1"/>
                    </a:lnTo>
                    <a:lnTo>
                      <a:pt x="43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3139920" y="2981160"/>
              <a:ext cx="33480" cy="334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43" y="0"/>
                  </a:moveTo>
                  <a:lnTo>
                    <a:pt x="53" y="2"/>
                  </a:lnTo>
                  <a:lnTo>
                    <a:pt x="60" y="4"/>
                  </a:lnTo>
                  <a:lnTo>
                    <a:pt x="67" y="9"/>
                  </a:lnTo>
                  <a:lnTo>
                    <a:pt x="74" y="14"/>
                  </a:lnTo>
                  <a:lnTo>
                    <a:pt x="79" y="20"/>
                  </a:lnTo>
                  <a:lnTo>
                    <a:pt x="83" y="27"/>
                  </a:lnTo>
                  <a:lnTo>
                    <a:pt x="86" y="35"/>
                  </a:lnTo>
                  <a:lnTo>
                    <a:pt x="86" y="44"/>
                  </a:lnTo>
                  <a:lnTo>
                    <a:pt x="86" y="53"/>
                  </a:lnTo>
                  <a:lnTo>
                    <a:pt x="83" y="60"/>
                  </a:lnTo>
                  <a:lnTo>
                    <a:pt x="79" y="68"/>
                  </a:lnTo>
                  <a:lnTo>
                    <a:pt x="74" y="75"/>
                  </a:lnTo>
                  <a:lnTo>
                    <a:pt x="67" y="80"/>
                  </a:lnTo>
                  <a:lnTo>
                    <a:pt x="60" y="83"/>
                  </a:lnTo>
                  <a:lnTo>
                    <a:pt x="53" y="87"/>
                  </a:lnTo>
                  <a:lnTo>
                    <a:pt x="43" y="87"/>
                  </a:lnTo>
                  <a:lnTo>
                    <a:pt x="35" y="87"/>
                  </a:lnTo>
                  <a:lnTo>
                    <a:pt x="26" y="83"/>
                  </a:lnTo>
                  <a:lnTo>
                    <a:pt x="19" y="80"/>
                  </a:lnTo>
                  <a:lnTo>
                    <a:pt x="13" y="75"/>
                  </a:lnTo>
                  <a:lnTo>
                    <a:pt x="8" y="68"/>
                  </a:lnTo>
                  <a:lnTo>
                    <a:pt x="4" y="60"/>
                  </a:lnTo>
                  <a:lnTo>
                    <a:pt x="1" y="53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20"/>
                  </a:lnTo>
                  <a:lnTo>
                    <a:pt x="13" y="14"/>
                  </a:lnTo>
                  <a:lnTo>
                    <a:pt x="19" y="9"/>
                  </a:lnTo>
                  <a:lnTo>
                    <a:pt x="26" y="4"/>
                  </a:lnTo>
                  <a:lnTo>
                    <a:pt x="35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139920" y="2981160"/>
              <a:ext cx="33480" cy="334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43" y="0"/>
                  </a:moveTo>
                  <a:lnTo>
                    <a:pt x="53" y="2"/>
                  </a:lnTo>
                  <a:lnTo>
                    <a:pt x="60" y="4"/>
                  </a:lnTo>
                  <a:lnTo>
                    <a:pt x="67" y="9"/>
                  </a:lnTo>
                  <a:lnTo>
                    <a:pt x="74" y="14"/>
                  </a:lnTo>
                  <a:lnTo>
                    <a:pt x="79" y="20"/>
                  </a:lnTo>
                  <a:lnTo>
                    <a:pt x="83" y="27"/>
                  </a:lnTo>
                  <a:lnTo>
                    <a:pt x="86" y="35"/>
                  </a:lnTo>
                  <a:lnTo>
                    <a:pt x="86" y="44"/>
                  </a:lnTo>
                  <a:lnTo>
                    <a:pt x="86" y="53"/>
                  </a:lnTo>
                  <a:lnTo>
                    <a:pt x="83" y="60"/>
                  </a:lnTo>
                  <a:lnTo>
                    <a:pt x="79" y="68"/>
                  </a:lnTo>
                  <a:lnTo>
                    <a:pt x="74" y="75"/>
                  </a:lnTo>
                  <a:lnTo>
                    <a:pt x="67" y="80"/>
                  </a:lnTo>
                  <a:lnTo>
                    <a:pt x="60" y="83"/>
                  </a:lnTo>
                  <a:lnTo>
                    <a:pt x="53" y="87"/>
                  </a:lnTo>
                  <a:lnTo>
                    <a:pt x="43" y="87"/>
                  </a:lnTo>
                  <a:lnTo>
                    <a:pt x="35" y="87"/>
                  </a:lnTo>
                  <a:lnTo>
                    <a:pt x="26" y="83"/>
                  </a:lnTo>
                  <a:lnTo>
                    <a:pt x="19" y="80"/>
                  </a:lnTo>
                  <a:lnTo>
                    <a:pt x="13" y="75"/>
                  </a:lnTo>
                  <a:lnTo>
                    <a:pt x="8" y="68"/>
                  </a:lnTo>
                  <a:lnTo>
                    <a:pt x="4" y="60"/>
                  </a:lnTo>
                  <a:lnTo>
                    <a:pt x="1" y="53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20"/>
                  </a:lnTo>
                  <a:lnTo>
                    <a:pt x="13" y="14"/>
                  </a:lnTo>
                  <a:lnTo>
                    <a:pt x="19" y="9"/>
                  </a:lnTo>
                  <a:lnTo>
                    <a:pt x="26" y="4"/>
                  </a:lnTo>
                  <a:lnTo>
                    <a:pt x="35" y="2"/>
                  </a:lnTo>
                  <a:lnTo>
                    <a:pt x="4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135240" y="2933640"/>
              <a:ext cx="30240" cy="302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0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6" y="12"/>
                  </a:lnTo>
                  <a:lnTo>
                    <a:pt x="71" y="17"/>
                  </a:lnTo>
                  <a:lnTo>
                    <a:pt x="75" y="24"/>
                  </a:lnTo>
                  <a:lnTo>
                    <a:pt x="77" y="31"/>
                  </a:lnTo>
                  <a:lnTo>
                    <a:pt x="78" y="38"/>
                  </a:lnTo>
                  <a:lnTo>
                    <a:pt x="77" y="47"/>
                  </a:lnTo>
                  <a:lnTo>
                    <a:pt x="75" y="54"/>
                  </a:lnTo>
                  <a:lnTo>
                    <a:pt x="71" y="60"/>
                  </a:lnTo>
                  <a:lnTo>
                    <a:pt x="66" y="66"/>
                  </a:lnTo>
                  <a:lnTo>
                    <a:pt x="61" y="71"/>
                  </a:lnTo>
                  <a:lnTo>
                    <a:pt x="54" y="74"/>
                  </a:lnTo>
                  <a:lnTo>
                    <a:pt x="47" y="76"/>
                  </a:lnTo>
                  <a:lnTo>
                    <a:pt x="40" y="78"/>
                  </a:lnTo>
                  <a:lnTo>
                    <a:pt x="31" y="76"/>
                  </a:lnTo>
                  <a:lnTo>
                    <a:pt x="24" y="74"/>
                  </a:lnTo>
                  <a:lnTo>
                    <a:pt x="18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4" y="54"/>
                  </a:lnTo>
                  <a:lnTo>
                    <a:pt x="1" y="47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4" y="24"/>
                  </a:lnTo>
                  <a:lnTo>
                    <a:pt x="7" y="17"/>
                  </a:lnTo>
                  <a:lnTo>
                    <a:pt x="12" y="12"/>
                  </a:lnTo>
                  <a:lnTo>
                    <a:pt x="18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135240" y="2933640"/>
              <a:ext cx="30240" cy="302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0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6" y="12"/>
                  </a:lnTo>
                  <a:lnTo>
                    <a:pt x="71" y="17"/>
                  </a:lnTo>
                  <a:lnTo>
                    <a:pt x="75" y="24"/>
                  </a:lnTo>
                  <a:lnTo>
                    <a:pt x="77" y="31"/>
                  </a:lnTo>
                  <a:lnTo>
                    <a:pt x="78" y="38"/>
                  </a:lnTo>
                  <a:lnTo>
                    <a:pt x="77" y="47"/>
                  </a:lnTo>
                  <a:lnTo>
                    <a:pt x="75" y="54"/>
                  </a:lnTo>
                  <a:lnTo>
                    <a:pt x="71" y="60"/>
                  </a:lnTo>
                  <a:lnTo>
                    <a:pt x="66" y="66"/>
                  </a:lnTo>
                  <a:lnTo>
                    <a:pt x="61" y="71"/>
                  </a:lnTo>
                  <a:lnTo>
                    <a:pt x="54" y="74"/>
                  </a:lnTo>
                  <a:lnTo>
                    <a:pt x="47" y="76"/>
                  </a:lnTo>
                  <a:lnTo>
                    <a:pt x="40" y="78"/>
                  </a:lnTo>
                  <a:lnTo>
                    <a:pt x="31" y="76"/>
                  </a:lnTo>
                  <a:lnTo>
                    <a:pt x="24" y="74"/>
                  </a:lnTo>
                  <a:lnTo>
                    <a:pt x="18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4" y="54"/>
                  </a:lnTo>
                  <a:lnTo>
                    <a:pt x="1" y="47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4" y="24"/>
                  </a:lnTo>
                  <a:lnTo>
                    <a:pt x="7" y="17"/>
                  </a:lnTo>
                  <a:lnTo>
                    <a:pt x="12" y="12"/>
                  </a:lnTo>
                  <a:lnTo>
                    <a:pt x="18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4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84560" y="2927520"/>
              <a:ext cx="27000" cy="266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35" y="0"/>
                  </a:moveTo>
                  <a:lnTo>
                    <a:pt x="41" y="0"/>
                  </a:lnTo>
                  <a:lnTo>
                    <a:pt x="48" y="3"/>
                  </a:lnTo>
                  <a:lnTo>
                    <a:pt x="54" y="5"/>
                  </a:lnTo>
                  <a:lnTo>
                    <a:pt x="59" y="10"/>
                  </a:lnTo>
                  <a:lnTo>
                    <a:pt x="62" y="15"/>
                  </a:lnTo>
                  <a:lnTo>
                    <a:pt x="66" y="21"/>
                  </a:lnTo>
                  <a:lnTo>
                    <a:pt x="68" y="27"/>
                  </a:lnTo>
                  <a:lnTo>
                    <a:pt x="68" y="34"/>
                  </a:lnTo>
                  <a:lnTo>
                    <a:pt x="68" y="41"/>
                  </a:lnTo>
                  <a:lnTo>
                    <a:pt x="66" y="47"/>
                  </a:lnTo>
                  <a:lnTo>
                    <a:pt x="62" y="53"/>
                  </a:lnTo>
                  <a:lnTo>
                    <a:pt x="59" y="58"/>
                  </a:lnTo>
                  <a:lnTo>
                    <a:pt x="54" y="63"/>
                  </a:lnTo>
                  <a:lnTo>
                    <a:pt x="48" y="66"/>
                  </a:lnTo>
                  <a:lnTo>
                    <a:pt x="41" y="67"/>
                  </a:lnTo>
                  <a:lnTo>
                    <a:pt x="35" y="69"/>
                  </a:lnTo>
                  <a:lnTo>
                    <a:pt x="27" y="67"/>
                  </a:lnTo>
                  <a:lnTo>
                    <a:pt x="20" y="66"/>
                  </a:lnTo>
                  <a:lnTo>
                    <a:pt x="15" y="63"/>
                  </a:lnTo>
                  <a:lnTo>
                    <a:pt x="9" y="58"/>
                  </a:lnTo>
                  <a:lnTo>
                    <a:pt x="6" y="53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6" y="15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7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184560" y="2927520"/>
              <a:ext cx="27000" cy="266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35" y="0"/>
                  </a:moveTo>
                  <a:lnTo>
                    <a:pt x="41" y="0"/>
                  </a:lnTo>
                  <a:lnTo>
                    <a:pt x="48" y="3"/>
                  </a:lnTo>
                  <a:lnTo>
                    <a:pt x="54" y="5"/>
                  </a:lnTo>
                  <a:lnTo>
                    <a:pt x="59" y="10"/>
                  </a:lnTo>
                  <a:lnTo>
                    <a:pt x="62" y="15"/>
                  </a:lnTo>
                  <a:lnTo>
                    <a:pt x="66" y="21"/>
                  </a:lnTo>
                  <a:lnTo>
                    <a:pt x="68" y="27"/>
                  </a:lnTo>
                  <a:lnTo>
                    <a:pt x="68" y="34"/>
                  </a:lnTo>
                  <a:lnTo>
                    <a:pt x="68" y="41"/>
                  </a:lnTo>
                  <a:lnTo>
                    <a:pt x="66" y="47"/>
                  </a:lnTo>
                  <a:lnTo>
                    <a:pt x="62" y="53"/>
                  </a:lnTo>
                  <a:lnTo>
                    <a:pt x="59" y="58"/>
                  </a:lnTo>
                  <a:lnTo>
                    <a:pt x="54" y="63"/>
                  </a:lnTo>
                  <a:lnTo>
                    <a:pt x="48" y="66"/>
                  </a:lnTo>
                  <a:lnTo>
                    <a:pt x="41" y="67"/>
                  </a:lnTo>
                  <a:lnTo>
                    <a:pt x="35" y="69"/>
                  </a:lnTo>
                  <a:lnTo>
                    <a:pt x="27" y="67"/>
                  </a:lnTo>
                  <a:lnTo>
                    <a:pt x="20" y="66"/>
                  </a:lnTo>
                  <a:lnTo>
                    <a:pt x="15" y="63"/>
                  </a:lnTo>
                  <a:lnTo>
                    <a:pt x="9" y="58"/>
                  </a:lnTo>
                  <a:lnTo>
                    <a:pt x="6" y="53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6" y="15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7" y="0"/>
                  </a:lnTo>
                  <a:lnTo>
                    <a:pt x="35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230640" y="2894040"/>
              <a:ext cx="23760" cy="2376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37" y="1"/>
                  </a:lnTo>
                  <a:lnTo>
                    <a:pt x="42" y="3"/>
                  </a:lnTo>
                  <a:lnTo>
                    <a:pt x="48" y="5"/>
                  </a:lnTo>
                  <a:lnTo>
                    <a:pt x="52" y="9"/>
                  </a:lnTo>
                  <a:lnTo>
                    <a:pt x="55" y="13"/>
                  </a:lnTo>
                  <a:lnTo>
                    <a:pt x="59" y="18"/>
                  </a:lnTo>
                  <a:lnTo>
                    <a:pt x="60" y="24"/>
                  </a:lnTo>
                  <a:lnTo>
                    <a:pt x="61" y="30"/>
                  </a:lnTo>
                  <a:lnTo>
                    <a:pt x="60" y="36"/>
                  </a:lnTo>
                  <a:lnTo>
                    <a:pt x="59" y="42"/>
                  </a:lnTo>
                  <a:lnTo>
                    <a:pt x="55" y="47"/>
                  </a:lnTo>
                  <a:lnTo>
                    <a:pt x="52" y="52"/>
                  </a:lnTo>
                  <a:lnTo>
                    <a:pt x="48" y="55"/>
                  </a:lnTo>
                  <a:lnTo>
                    <a:pt x="42" y="58"/>
                  </a:lnTo>
                  <a:lnTo>
                    <a:pt x="37" y="60"/>
                  </a:lnTo>
                  <a:lnTo>
                    <a:pt x="31" y="60"/>
                  </a:lnTo>
                  <a:lnTo>
                    <a:pt x="25" y="60"/>
                  </a:lnTo>
                  <a:lnTo>
                    <a:pt x="19" y="58"/>
                  </a:lnTo>
                  <a:lnTo>
                    <a:pt x="14" y="55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2" y="42"/>
                  </a:lnTo>
                  <a:lnTo>
                    <a:pt x="1" y="36"/>
                  </a:lnTo>
                  <a:lnTo>
                    <a:pt x="0" y="30"/>
                  </a:lnTo>
                  <a:lnTo>
                    <a:pt x="1" y="24"/>
                  </a:lnTo>
                  <a:lnTo>
                    <a:pt x="2" y="18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230640" y="2894040"/>
              <a:ext cx="23760" cy="2376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37" y="1"/>
                  </a:lnTo>
                  <a:lnTo>
                    <a:pt x="42" y="3"/>
                  </a:lnTo>
                  <a:lnTo>
                    <a:pt x="48" y="5"/>
                  </a:lnTo>
                  <a:lnTo>
                    <a:pt x="52" y="9"/>
                  </a:lnTo>
                  <a:lnTo>
                    <a:pt x="55" y="13"/>
                  </a:lnTo>
                  <a:lnTo>
                    <a:pt x="59" y="18"/>
                  </a:lnTo>
                  <a:lnTo>
                    <a:pt x="60" y="24"/>
                  </a:lnTo>
                  <a:lnTo>
                    <a:pt x="61" y="30"/>
                  </a:lnTo>
                  <a:lnTo>
                    <a:pt x="60" y="36"/>
                  </a:lnTo>
                  <a:lnTo>
                    <a:pt x="59" y="42"/>
                  </a:lnTo>
                  <a:lnTo>
                    <a:pt x="55" y="47"/>
                  </a:lnTo>
                  <a:lnTo>
                    <a:pt x="52" y="52"/>
                  </a:lnTo>
                  <a:lnTo>
                    <a:pt x="48" y="55"/>
                  </a:lnTo>
                  <a:lnTo>
                    <a:pt x="42" y="58"/>
                  </a:lnTo>
                  <a:lnTo>
                    <a:pt x="37" y="60"/>
                  </a:lnTo>
                  <a:lnTo>
                    <a:pt x="31" y="60"/>
                  </a:lnTo>
                  <a:lnTo>
                    <a:pt x="25" y="60"/>
                  </a:lnTo>
                  <a:lnTo>
                    <a:pt x="19" y="58"/>
                  </a:lnTo>
                  <a:lnTo>
                    <a:pt x="14" y="55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2" y="42"/>
                  </a:lnTo>
                  <a:lnTo>
                    <a:pt x="1" y="36"/>
                  </a:lnTo>
                  <a:lnTo>
                    <a:pt x="0" y="30"/>
                  </a:lnTo>
                  <a:lnTo>
                    <a:pt x="1" y="24"/>
                  </a:lnTo>
                  <a:lnTo>
                    <a:pt x="2" y="18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287880" y="2889360"/>
              <a:ext cx="29880" cy="316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9" y="0"/>
                  </a:moveTo>
                  <a:lnTo>
                    <a:pt x="47" y="2"/>
                  </a:lnTo>
                  <a:lnTo>
                    <a:pt x="54" y="4"/>
                  </a:lnTo>
                  <a:lnTo>
                    <a:pt x="60" y="8"/>
                  </a:lnTo>
                  <a:lnTo>
                    <a:pt x="66" y="12"/>
                  </a:lnTo>
                  <a:lnTo>
                    <a:pt x="71" y="17"/>
                  </a:lnTo>
                  <a:lnTo>
                    <a:pt x="75" y="24"/>
                  </a:lnTo>
                  <a:lnTo>
                    <a:pt x="77" y="32"/>
                  </a:lnTo>
                  <a:lnTo>
                    <a:pt x="77" y="39"/>
                  </a:lnTo>
                  <a:lnTo>
                    <a:pt x="77" y="47"/>
                  </a:lnTo>
                  <a:lnTo>
                    <a:pt x="75" y="54"/>
                  </a:lnTo>
                  <a:lnTo>
                    <a:pt x="71" y="60"/>
                  </a:lnTo>
                  <a:lnTo>
                    <a:pt x="66" y="66"/>
                  </a:lnTo>
                  <a:lnTo>
                    <a:pt x="60" y="71"/>
                  </a:lnTo>
                  <a:lnTo>
                    <a:pt x="54" y="75"/>
                  </a:lnTo>
                  <a:lnTo>
                    <a:pt x="47" y="76"/>
                  </a:lnTo>
                  <a:lnTo>
                    <a:pt x="39" y="77"/>
                  </a:lnTo>
                  <a:lnTo>
                    <a:pt x="31" y="76"/>
                  </a:lnTo>
                  <a:lnTo>
                    <a:pt x="24" y="75"/>
                  </a:ln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4" y="54"/>
                  </a:lnTo>
                  <a:lnTo>
                    <a:pt x="1" y="47"/>
                  </a:lnTo>
                  <a:lnTo>
                    <a:pt x="0" y="39"/>
                  </a:lnTo>
                  <a:lnTo>
                    <a:pt x="1" y="32"/>
                  </a:lnTo>
                  <a:lnTo>
                    <a:pt x="4" y="24"/>
                  </a:lnTo>
                  <a:lnTo>
                    <a:pt x="7" y="17"/>
                  </a:lnTo>
                  <a:lnTo>
                    <a:pt x="12" y="12"/>
                  </a:lnTo>
                  <a:lnTo>
                    <a:pt x="17" y="8"/>
                  </a:lnTo>
                  <a:lnTo>
                    <a:pt x="24" y="4"/>
                  </a:lnTo>
                  <a:lnTo>
                    <a:pt x="31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287880" y="2889360"/>
              <a:ext cx="29880" cy="316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9" y="0"/>
                  </a:moveTo>
                  <a:lnTo>
                    <a:pt x="47" y="2"/>
                  </a:lnTo>
                  <a:lnTo>
                    <a:pt x="54" y="4"/>
                  </a:lnTo>
                  <a:lnTo>
                    <a:pt x="60" y="8"/>
                  </a:lnTo>
                  <a:lnTo>
                    <a:pt x="66" y="12"/>
                  </a:lnTo>
                  <a:lnTo>
                    <a:pt x="71" y="17"/>
                  </a:lnTo>
                  <a:lnTo>
                    <a:pt x="75" y="24"/>
                  </a:lnTo>
                  <a:lnTo>
                    <a:pt x="77" y="32"/>
                  </a:lnTo>
                  <a:lnTo>
                    <a:pt x="77" y="39"/>
                  </a:lnTo>
                  <a:lnTo>
                    <a:pt x="77" y="47"/>
                  </a:lnTo>
                  <a:lnTo>
                    <a:pt x="75" y="54"/>
                  </a:lnTo>
                  <a:lnTo>
                    <a:pt x="71" y="60"/>
                  </a:lnTo>
                  <a:lnTo>
                    <a:pt x="66" y="66"/>
                  </a:lnTo>
                  <a:lnTo>
                    <a:pt x="60" y="71"/>
                  </a:lnTo>
                  <a:lnTo>
                    <a:pt x="54" y="75"/>
                  </a:lnTo>
                  <a:lnTo>
                    <a:pt x="47" y="76"/>
                  </a:lnTo>
                  <a:lnTo>
                    <a:pt x="39" y="77"/>
                  </a:lnTo>
                  <a:lnTo>
                    <a:pt x="31" y="76"/>
                  </a:lnTo>
                  <a:lnTo>
                    <a:pt x="24" y="75"/>
                  </a:ln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4" y="54"/>
                  </a:lnTo>
                  <a:lnTo>
                    <a:pt x="1" y="47"/>
                  </a:lnTo>
                  <a:lnTo>
                    <a:pt x="0" y="39"/>
                  </a:lnTo>
                  <a:lnTo>
                    <a:pt x="1" y="32"/>
                  </a:lnTo>
                  <a:lnTo>
                    <a:pt x="4" y="24"/>
                  </a:lnTo>
                  <a:lnTo>
                    <a:pt x="7" y="17"/>
                  </a:lnTo>
                  <a:lnTo>
                    <a:pt x="12" y="12"/>
                  </a:lnTo>
                  <a:lnTo>
                    <a:pt x="17" y="8"/>
                  </a:lnTo>
                  <a:lnTo>
                    <a:pt x="24" y="4"/>
                  </a:lnTo>
                  <a:lnTo>
                    <a:pt x="31" y="2"/>
                  </a:lnTo>
                  <a:lnTo>
                    <a:pt x="39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335400" y="290988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8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70" y="17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7"/>
                  </a:lnTo>
                  <a:lnTo>
                    <a:pt x="73" y="54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71"/>
                  </a:lnTo>
                  <a:lnTo>
                    <a:pt x="53" y="74"/>
                  </a:lnTo>
                  <a:lnTo>
                    <a:pt x="46" y="77"/>
                  </a:lnTo>
                  <a:lnTo>
                    <a:pt x="38" y="77"/>
                  </a:lnTo>
                  <a:lnTo>
                    <a:pt x="30" y="77"/>
                  </a:lnTo>
                  <a:lnTo>
                    <a:pt x="23" y="74"/>
                  </a:lnTo>
                  <a:lnTo>
                    <a:pt x="17" y="71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2" y="54"/>
                  </a:lnTo>
                  <a:lnTo>
                    <a:pt x="1" y="47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335400" y="290988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8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70" y="17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7"/>
                  </a:lnTo>
                  <a:lnTo>
                    <a:pt x="73" y="54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71"/>
                  </a:lnTo>
                  <a:lnTo>
                    <a:pt x="53" y="74"/>
                  </a:lnTo>
                  <a:lnTo>
                    <a:pt x="46" y="77"/>
                  </a:lnTo>
                  <a:lnTo>
                    <a:pt x="38" y="77"/>
                  </a:lnTo>
                  <a:lnTo>
                    <a:pt x="30" y="77"/>
                  </a:lnTo>
                  <a:lnTo>
                    <a:pt x="23" y="74"/>
                  </a:lnTo>
                  <a:lnTo>
                    <a:pt x="17" y="71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2" y="54"/>
                  </a:lnTo>
                  <a:lnTo>
                    <a:pt x="1" y="47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8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386160" y="2924280"/>
              <a:ext cx="30240" cy="29880"/>
            </a:xfrm>
            <a:custGeom>
              <a:avLst/>
              <a:gdLst/>
              <a:ahLst/>
              <a:rect l="l" t="t" r="r" b="b"/>
              <a:pathLst>
                <a:path w="75" h="77">
                  <a:moveTo>
                    <a:pt x="37" y="0"/>
                  </a:moveTo>
                  <a:lnTo>
                    <a:pt x="45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5" y="12"/>
                  </a:lnTo>
                  <a:lnTo>
                    <a:pt x="69" y="18"/>
                  </a:lnTo>
                  <a:lnTo>
                    <a:pt x="73" y="24"/>
                  </a:lnTo>
                  <a:lnTo>
                    <a:pt x="75" y="31"/>
                  </a:lnTo>
                  <a:lnTo>
                    <a:pt x="75" y="38"/>
                  </a:lnTo>
                  <a:lnTo>
                    <a:pt x="75" y="47"/>
                  </a:lnTo>
                  <a:lnTo>
                    <a:pt x="73" y="54"/>
                  </a:lnTo>
                  <a:lnTo>
                    <a:pt x="69" y="60"/>
                  </a:lnTo>
                  <a:lnTo>
                    <a:pt x="65" y="66"/>
                  </a:lnTo>
                  <a:lnTo>
                    <a:pt x="59" y="71"/>
                  </a:lnTo>
                  <a:lnTo>
                    <a:pt x="53" y="74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0" y="77"/>
                  </a:lnTo>
                  <a:lnTo>
                    <a:pt x="23" y="74"/>
                  </a:lnTo>
                  <a:lnTo>
                    <a:pt x="17" y="71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386160" y="2924280"/>
              <a:ext cx="30240" cy="29880"/>
            </a:xfrm>
            <a:custGeom>
              <a:avLst/>
              <a:gdLst/>
              <a:ahLst/>
              <a:rect l="l" t="t" r="r" b="b"/>
              <a:pathLst>
                <a:path w="75" h="77">
                  <a:moveTo>
                    <a:pt x="37" y="0"/>
                  </a:moveTo>
                  <a:lnTo>
                    <a:pt x="45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5" y="12"/>
                  </a:lnTo>
                  <a:lnTo>
                    <a:pt x="69" y="18"/>
                  </a:lnTo>
                  <a:lnTo>
                    <a:pt x="73" y="24"/>
                  </a:lnTo>
                  <a:lnTo>
                    <a:pt x="75" y="31"/>
                  </a:lnTo>
                  <a:lnTo>
                    <a:pt x="75" y="38"/>
                  </a:lnTo>
                  <a:lnTo>
                    <a:pt x="75" y="47"/>
                  </a:lnTo>
                  <a:lnTo>
                    <a:pt x="73" y="54"/>
                  </a:lnTo>
                  <a:lnTo>
                    <a:pt x="69" y="60"/>
                  </a:lnTo>
                  <a:lnTo>
                    <a:pt x="65" y="66"/>
                  </a:lnTo>
                  <a:lnTo>
                    <a:pt x="59" y="71"/>
                  </a:lnTo>
                  <a:lnTo>
                    <a:pt x="53" y="74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0" y="77"/>
                  </a:lnTo>
                  <a:lnTo>
                    <a:pt x="23" y="74"/>
                  </a:lnTo>
                  <a:lnTo>
                    <a:pt x="17" y="71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449520" y="3062160"/>
              <a:ext cx="32040" cy="3024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38" y="0"/>
                  </a:moveTo>
                  <a:lnTo>
                    <a:pt x="45" y="2"/>
                  </a:lnTo>
                  <a:lnTo>
                    <a:pt x="52" y="4"/>
                  </a:lnTo>
                  <a:lnTo>
                    <a:pt x="60" y="8"/>
                  </a:lnTo>
                  <a:lnTo>
                    <a:pt x="66" y="11"/>
                  </a:lnTo>
                  <a:lnTo>
                    <a:pt x="69" y="17"/>
                  </a:lnTo>
                  <a:lnTo>
                    <a:pt x="73" y="24"/>
                  </a:lnTo>
                  <a:lnTo>
                    <a:pt x="75" y="32"/>
                  </a:lnTo>
                  <a:lnTo>
                    <a:pt x="76" y="39"/>
                  </a:lnTo>
                  <a:lnTo>
                    <a:pt x="75" y="46"/>
                  </a:lnTo>
                  <a:lnTo>
                    <a:pt x="73" y="53"/>
                  </a:lnTo>
                  <a:lnTo>
                    <a:pt x="69" y="60"/>
                  </a:lnTo>
                  <a:lnTo>
                    <a:pt x="66" y="66"/>
                  </a:lnTo>
                  <a:lnTo>
                    <a:pt x="60" y="70"/>
                  </a:lnTo>
                  <a:lnTo>
                    <a:pt x="52" y="74"/>
                  </a:lnTo>
                  <a:lnTo>
                    <a:pt x="45" y="76"/>
                  </a:lnTo>
                  <a:lnTo>
                    <a:pt x="38" y="77"/>
                  </a:lnTo>
                  <a:lnTo>
                    <a:pt x="31" y="76"/>
                  </a:lnTo>
                  <a:lnTo>
                    <a:pt x="24" y="74"/>
                  </a:lnTo>
                  <a:lnTo>
                    <a:pt x="16" y="70"/>
                  </a:lnTo>
                  <a:lnTo>
                    <a:pt x="10" y="66"/>
                  </a:lnTo>
                  <a:lnTo>
                    <a:pt x="7" y="60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1" y="32"/>
                  </a:lnTo>
                  <a:lnTo>
                    <a:pt x="3" y="24"/>
                  </a:lnTo>
                  <a:lnTo>
                    <a:pt x="7" y="17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31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449520" y="3062160"/>
              <a:ext cx="32040" cy="3024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38" y="0"/>
                  </a:moveTo>
                  <a:lnTo>
                    <a:pt x="45" y="2"/>
                  </a:lnTo>
                  <a:lnTo>
                    <a:pt x="52" y="4"/>
                  </a:lnTo>
                  <a:lnTo>
                    <a:pt x="60" y="8"/>
                  </a:lnTo>
                  <a:lnTo>
                    <a:pt x="66" y="11"/>
                  </a:lnTo>
                  <a:lnTo>
                    <a:pt x="69" y="17"/>
                  </a:lnTo>
                  <a:lnTo>
                    <a:pt x="73" y="24"/>
                  </a:lnTo>
                  <a:lnTo>
                    <a:pt x="75" y="32"/>
                  </a:lnTo>
                  <a:lnTo>
                    <a:pt x="76" y="39"/>
                  </a:lnTo>
                  <a:lnTo>
                    <a:pt x="75" y="46"/>
                  </a:lnTo>
                  <a:lnTo>
                    <a:pt x="73" y="53"/>
                  </a:lnTo>
                  <a:lnTo>
                    <a:pt x="69" y="60"/>
                  </a:lnTo>
                  <a:lnTo>
                    <a:pt x="66" y="66"/>
                  </a:lnTo>
                  <a:lnTo>
                    <a:pt x="60" y="70"/>
                  </a:lnTo>
                  <a:lnTo>
                    <a:pt x="52" y="74"/>
                  </a:lnTo>
                  <a:lnTo>
                    <a:pt x="45" y="76"/>
                  </a:lnTo>
                  <a:lnTo>
                    <a:pt x="38" y="77"/>
                  </a:lnTo>
                  <a:lnTo>
                    <a:pt x="31" y="76"/>
                  </a:lnTo>
                  <a:lnTo>
                    <a:pt x="24" y="74"/>
                  </a:lnTo>
                  <a:lnTo>
                    <a:pt x="16" y="70"/>
                  </a:lnTo>
                  <a:lnTo>
                    <a:pt x="10" y="66"/>
                  </a:lnTo>
                  <a:lnTo>
                    <a:pt x="7" y="60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1" y="32"/>
                  </a:lnTo>
                  <a:lnTo>
                    <a:pt x="3" y="24"/>
                  </a:lnTo>
                  <a:lnTo>
                    <a:pt x="7" y="17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31" y="2"/>
                  </a:lnTo>
                  <a:lnTo>
                    <a:pt x="38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406680" y="3094200"/>
              <a:ext cx="30240" cy="298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9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6" y="11"/>
                  </a:lnTo>
                  <a:lnTo>
                    <a:pt x="70" y="17"/>
                  </a:lnTo>
                  <a:lnTo>
                    <a:pt x="74" y="24"/>
                  </a:lnTo>
                  <a:lnTo>
                    <a:pt x="76" y="31"/>
                  </a:lnTo>
                  <a:lnTo>
                    <a:pt x="77" y="39"/>
                  </a:lnTo>
                  <a:lnTo>
                    <a:pt x="76" y="46"/>
                  </a:lnTo>
                  <a:lnTo>
                    <a:pt x="74" y="53"/>
                  </a:lnTo>
                  <a:lnTo>
                    <a:pt x="70" y="60"/>
                  </a:lnTo>
                  <a:lnTo>
                    <a:pt x="66" y="66"/>
                  </a:lnTo>
                  <a:lnTo>
                    <a:pt x="60" y="71"/>
                  </a:lnTo>
                  <a:lnTo>
                    <a:pt x="53" y="73"/>
                  </a:lnTo>
                  <a:lnTo>
                    <a:pt x="46" y="76"/>
                  </a:lnTo>
                  <a:lnTo>
                    <a:pt x="39" y="77"/>
                  </a:lnTo>
                  <a:lnTo>
                    <a:pt x="32" y="76"/>
                  </a:lnTo>
                  <a:lnTo>
                    <a:pt x="24" y="73"/>
                  </a:lnTo>
                  <a:lnTo>
                    <a:pt x="17" y="71"/>
                  </a:lnTo>
                  <a:lnTo>
                    <a:pt x="11" y="66"/>
                  </a:lnTo>
                  <a:lnTo>
                    <a:pt x="8" y="60"/>
                  </a:lnTo>
                  <a:lnTo>
                    <a:pt x="4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406680" y="3094200"/>
              <a:ext cx="30240" cy="298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9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6" y="11"/>
                  </a:lnTo>
                  <a:lnTo>
                    <a:pt x="70" y="17"/>
                  </a:lnTo>
                  <a:lnTo>
                    <a:pt x="74" y="24"/>
                  </a:lnTo>
                  <a:lnTo>
                    <a:pt x="76" y="31"/>
                  </a:lnTo>
                  <a:lnTo>
                    <a:pt x="77" y="39"/>
                  </a:lnTo>
                  <a:lnTo>
                    <a:pt x="76" y="46"/>
                  </a:lnTo>
                  <a:lnTo>
                    <a:pt x="74" y="53"/>
                  </a:lnTo>
                  <a:lnTo>
                    <a:pt x="70" y="60"/>
                  </a:lnTo>
                  <a:lnTo>
                    <a:pt x="66" y="66"/>
                  </a:lnTo>
                  <a:lnTo>
                    <a:pt x="60" y="71"/>
                  </a:lnTo>
                  <a:lnTo>
                    <a:pt x="53" y="73"/>
                  </a:lnTo>
                  <a:lnTo>
                    <a:pt x="46" y="76"/>
                  </a:lnTo>
                  <a:lnTo>
                    <a:pt x="39" y="77"/>
                  </a:lnTo>
                  <a:lnTo>
                    <a:pt x="32" y="76"/>
                  </a:lnTo>
                  <a:lnTo>
                    <a:pt x="24" y="73"/>
                  </a:lnTo>
                  <a:lnTo>
                    <a:pt x="17" y="71"/>
                  </a:lnTo>
                  <a:lnTo>
                    <a:pt x="11" y="66"/>
                  </a:lnTo>
                  <a:lnTo>
                    <a:pt x="8" y="60"/>
                  </a:lnTo>
                  <a:lnTo>
                    <a:pt x="4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1"/>
                  </a:lnTo>
                  <a:lnTo>
                    <a:pt x="39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411360" y="314640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9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1"/>
                  </a:lnTo>
                  <a:lnTo>
                    <a:pt x="70" y="17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6"/>
                  </a:lnTo>
                  <a:lnTo>
                    <a:pt x="73" y="53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70"/>
                  </a:lnTo>
                  <a:lnTo>
                    <a:pt x="53" y="73"/>
                  </a:lnTo>
                  <a:lnTo>
                    <a:pt x="46" y="76"/>
                  </a:lnTo>
                  <a:lnTo>
                    <a:pt x="39" y="77"/>
                  </a:lnTo>
                  <a:lnTo>
                    <a:pt x="30" y="76"/>
                  </a:lnTo>
                  <a:lnTo>
                    <a:pt x="23" y="73"/>
                  </a:lnTo>
                  <a:lnTo>
                    <a:pt x="17" y="70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411360" y="314640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9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1"/>
                  </a:lnTo>
                  <a:lnTo>
                    <a:pt x="70" y="17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6"/>
                  </a:lnTo>
                  <a:lnTo>
                    <a:pt x="73" y="53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70"/>
                  </a:lnTo>
                  <a:lnTo>
                    <a:pt x="53" y="73"/>
                  </a:lnTo>
                  <a:lnTo>
                    <a:pt x="46" y="76"/>
                  </a:lnTo>
                  <a:lnTo>
                    <a:pt x="39" y="77"/>
                  </a:lnTo>
                  <a:lnTo>
                    <a:pt x="30" y="76"/>
                  </a:lnTo>
                  <a:lnTo>
                    <a:pt x="23" y="73"/>
                  </a:lnTo>
                  <a:lnTo>
                    <a:pt x="17" y="70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9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344760" y="308916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9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70" y="18"/>
                  </a:lnTo>
                  <a:lnTo>
                    <a:pt x="74" y="24"/>
                  </a:lnTo>
                  <a:lnTo>
                    <a:pt x="76" y="31"/>
                  </a:lnTo>
                  <a:lnTo>
                    <a:pt x="77" y="39"/>
                  </a:lnTo>
                  <a:lnTo>
                    <a:pt x="76" y="47"/>
                  </a:lnTo>
                  <a:lnTo>
                    <a:pt x="74" y="54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71"/>
                  </a:lnTo>
                  <a:lnTo>
                    <a:pt x="53" y="75"/>
                  </a:lnTo>
                  <a:lnTo>
                    <a:pt x="46" y="77"/>
                  </a:lnTo>
                  <a:lnTo>
                    <a:pt x="39" y="77"/>
                  </a:lnTo>
                  <a:lnTo>
                    <a:pt x="30" y="77"/>
                  </a:lnTo>
                  <a:lnTo>
                    <a:pt x="24" y="75"/>
                  </a:lnTo>
                  <a:lnTo>
                    <a:pt x="17" y="71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3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3" y="24"/>
                  </a:lnTo>
                  <a:lnTo>
                    <a:pt x="6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344760" y="308916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9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70" y="18"/>
                  </a:lnTo>
                  <a:lnTo>
                    <a:pt x="74" y="24"/>
                  </a:lnTo>
                  <a:lnTo>
                    <a:pt x="76" y="31"/>
                  </a:lnTo>
                  <a:lnTo>
                    <a:pt x="77" y="39"/>
                  </a:lnTo>
                  <a:lnTo>
                    <a:pt x="76" y="47"/>
                  </a:lnTo>
                  <a:lnTo>
                    <a:pt x="74" y="54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71"/>
                  </a:lnTo>
                  <a:lnTo>
                    <a:pt x="53" y="75"/>
                  </a:lnTo>
                  <a:lnTo>
                    <a:pt x="46" y="77"/>
                  </a:lnTo>
                  <a:lnTo>
                    <a:pt x="39" y="77"/>
                  </a:lnTo>
                  <a:lnTo>
                    <a:pt x="30" y="77"/>
                  </a:lnTo>
                  <a:lnTo>
                    <a:pt x="24" y="75"/>
                  </a:lnTo>
                  <a:lnTo>
                    <a:pt x="17" y="71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3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3" y="24"/>
                  </a:lnTo>
                  <a:lnTo>
                    <a:pt x="6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0" y="1"/>
                  </a:lnTo>
                  <a:lnTo>
                    <a:pt x="39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95800" y="3059280"/>
              <a:ext cx="29880" cy="298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8" y="0"/>
                  </a:moveTo>
                  <a:lnTo>
                    <a:pt x="45" y="0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66" y="11"/>
                  </a:lnTo>
                  <a:lnTo>
                    <a:pt x="69" y="17"/>
                  </a:lnTo>
                  <a:lnTo>
                    <a:pt x="73" y="23"/>
                  </a:lnTo>
                  <a:lnTo>
                    <a:pt x="75" y="30"/>
                  </a:lnTo>
                  <a:lnTo>
                    <a:pt x="77" y="39"/>
                  </a:lnTo>
                  <a:lnTo>
                    <a:pt x="75" y="46"/>
                  </a:lnTo>
                  <a:lnTo>
                    <a:pt x="73" y="53"/>
                  </a:lnTo>
                  <a:lnTo>
                    <a:pt x="69" y="60"/>
                  </a:lnTo>
                  <a:lnTo>
                    <a:pt x="66" y="65"/>
                  </a:lnTo>
                  <a:lnTo>
                    <a:pt x="60" y="70"/>
                  </a:lnTo>
                  <a:lnTo>
                    <a:pt x="53" y="74"/>
                  </a:lnTo>
                  <a:lnTo>
                    <a:pt x="45" y="76"/>
                  </a:lnTo>
                  <a:lnTo>
                    <a:pt x="38" y="77"/>
                  </a:lnTo>
                  <a:lnTo>
                    <a:pt x="31" y="76"/>
                  </a:lnTo>
                  <a:lnTo>
                    <a:pt x="24" y="74"/>
                  </a:lnTo>
                  <a:lnTo>
                    <a:pt x="17" y="70"/>
                  </a:lnTo>
                  <a:lnTo>
                    <a:pt x="11" y="65"/>
                  </a:lnTo>
                  <a:lnTo>
                    <a:pt x="6" y="60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3" y="23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17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95800" y="3059280"/>
              <a:ext cx="29880" cy="298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8" y="0"/>
                  </a:moveTo>
                  <a:lnTo>
                    <a:pt x="45" y="0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66" y="11"/>
                  </a:lnTo>
                  <a:lnTo>
                    <a:pt x="69" y="17"/>
                  </a:lnTo>
                  <a:lnTo>
                    <a:pt x="73" y="23"/>
                  </a:lnTo>
                  <a:lnTo>
                    <a:pt x="75" y="30"/>
                  </a:lnTo>
                  <a:lnTo>
                    <a:pt x="77" y="39"/>
                  </a:lnTo>
                  <a:lnTo>
                    <a:pt x="75" y="46"/>
                  </a:lnTo>
                  <a:lnTo>
                    <a:pt x="73" y="53"/>
                  </a:lnTo>
                  <a:lnTo>
                    <a:pt x="69" y="60"/>
                  </a:lnTo>
                  <a:lnTo>
                    <a:pt x="66" y="65"/>
                  </a:lnTo>
                  <a:lnTo>
                    <a:pt x="60" y="70"/>
                  </a:lnTo>
                  <a:lnTo>
                    <a:pt x="53" y="74"/>
                  </a:lnTo>
                  <a:lnTo>
                    <a:pt x="45" y="76"/>
                  </a:lnTo>
                  <a:lnTo>
                    <a:pt x="38" y="77"/>
                  </a:lnTo>
                  <a:lnTo>
                    <a:pt x="31" y="76"/>
                  </a:lnTo>
                  <a:lnTo>
                    <a:pt x="24" y="74"/>
                  </a:lnTo>
                  <a:lnTo>
                    <a:pt x="17" y="70"/>
                  </a:lnTo>
                  <a:lnTo>
                    <a:pt x="11" y="65"/>
                  </a:lnTo>
                  <a:lnTo>
                    <a:pt x="6" y="60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3" y="23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17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8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36760" y="304632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8" y="0"/>
                  </a:moveTo>
                  <a:lnTo>
                    <a:pt x="45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6" y="11"/>
                  </a:lnTo>
                  <a:lnTo>
                    <a:pt x="69" y="17"/>
                  </a:lnTo>
                  <a:lnTo>
                    <a:pt x="73" y="24"/>
                  </a:lnTo>
                  <a:lnTo>
                    <a:pt x="75" y="31"/>
                  </a:lnTo>
                  <a:lnTo>
                    <a:pt x="77" y="38"/>
                  </a:lnTo>
                  <a:lnTo>
                    <a:pt x="75" y="46"/>
                  </a:lnTo>
                  <a:lnTo>
                    <a:pt x="73" y="53"/>
                  </a:lnTo>
                  <a:lnTo>
                    <a:pt x="69" y="60"/>
                  </a:lnTo>
                  <a:lnTo>
                    <a:pt x="66" y="66"/>
                  </a:lnTo>
                  <a:lnTo>
                    <a:pt x="60" y="70"/>
                  </a:lnTo>
                  <a:lnTo>
                    <a:pt x="53" y="73"/>
                  </a:lnTo>
                  <a:lnTo>
                    <a:pt x="45" y="76"/>
                  </a:lnTo>
                  <a:lnTo>
                    <a:pt x="38" y="77"/>
                  </a:lnTo>
                  <a:lnTo>
                    <a:pt x="31" y="76"/>
                  </a:lnTo>
                  <a:lnTo>
                    <a:pt x="24" y="73"/>
                  </a:lnTo>
                  <a:lnTo>
                    <a:pt x="17" y="70"/>
                  </a:lnTo>
                  <a:lnTo>
                    <a:pt x="11" y="66"/>
                  </a:lnTo>
                  <a:lnTo>
                    <a:pt x="7" y="60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3" y="24"/>
                  </a:lnTo>
                  <a:lnTo>
                    <a:pt x="7" y="17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1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36760" y="304632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8" y="0"/>
                  </a:moveTo>
                  <a:lnTo>
                    <a:pt x="45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6" y="11"/>
                  </a:lnTo>
                  <a:lnTo>
                    <a:pt x="69" y="17"/>
                  </a:lnTo>
                  <a:lnTo>
                    <a:pt x="73" y="24"/>
                  </a:lnTo>
                  <a:lnTo>
                    <a:pt x="75" y="31"/>
                  </a:lnTo>
                  <a:lnTo>
                    <a:pt x="77" y="38"/>
                  </a:lnTo>
                  <a:lnTo>
                    <a:pt x="75" y="46"/>
                  </a:lnTo>
                  <a:lnTo>
                    <a:pt x="73" y="53"/>
                  </a:lnTo>
                  <a:lnTo>
                    <a:pt x="69" y="60"/>
                  </a:lnTo>
                  <a:lnTo>
                    <a:pt x="66" y="66"/>
                  </a:lnTo>
                  <a:lnTo>
                    <a:pt x="60" y="70"/>
                  </a:lnTo>
                  <a:lnTo>
                    <a:pt x="53" y="73"/>
                  </a:lnTo>
                  <a:lnTo>
                    <a:pt x="45" y="76"/>
                  </a:lnTo>
                  <a:lnTo>
                    <a:pt x="38" y="77"/>
                  </a:lnTo>
                  <a:lnTo>
                    <a:pt x="31" y="76"/>
                  </a:lnTo>
                  <a:lnTo>
                    <a:pt x="24" y="73"/>
                  </a:lnTo>
                  <a:lnTo>
                    <a:pt x="17" y="70"/>
                  </a:lnTo>
                  <a:lnTo>
                    <a:pt x="11" y="66"/>
                  </a:lnTo>
                  <a:lnTo>
                    <a:pt x="7" y="60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3" y="24"/>
                  </a:lnTo>
                  <a:lnTo>
                    <a:pt x="7" y="17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1" y="1"/>
                  </a:lnTo>
                  <a:lnTo>
                    <a:pt x="38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67000" y="310032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39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65" y="10"/>
                  </a:lnTo>
                  <a:lnTo>
                    <a:pt x="70" y="16"/>
                  </a:lnTo>
                  <a:lnTo>
                    <a:pt x="74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5"/>
                  </a:lnTo>
                  <a:lnTo>
                    <a:pt x="74" y="52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69"/>
                  </a:lnTo>
                  <a:lnTo>
                    <a:pt x="53" y="73"/>
                  </a:lnTo>
                  <a:lnTo>
                    <a:pt x="46" y="75"/>
                  </a:lnTo>
                  <a:lnTo>
                    <a:pt x="39" y="76"/>
                  </a:lnTo>
                  <a:lnTo>
                    <a:pt x="30" y="75"/>
                  </a:lnTo>
                  <a:lnTo>
                    <a:pt x="23" y="73"/>
                  </a:lnTo>
                  <a:lnTo>
                    <a:pt x="17" y="69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3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67000" y="310032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39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65" y="10"/>
                  </a:lnTo>
                  <a:lnTo>
                    <a:pt x="70" y="16"/>
                  </a:lnTo>
                  <a:lnTo>
                    <a:pt x="74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5"/>
                  </a:lnTo>
                  <a:lnTo>
                    <a:pt x="74" y="52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69"/>
                  </a:lnTo>
                  <a:lnTo>
                    <a:pt x="53" y="73"/>
                  </a:lnTo>
                  <a:lnTo>
                    <a:pt x="46" y="75"/>
                  </a:lnTo>
                  <a:lnTo>
                    <a:pt x="39" y="76"/>
                  </a:lnTo>
                  <a:lnTo>
                    <a:pt x="30" y="75"/>
                  </a:lnTo>
                  <a:lnTo>
                    <a:pt x="23" y="73"/>
                  </a:lnTo>
                  <a:lnTo>
                    <a:pt x="17" y="69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3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9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97240" y="316548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9" y="0"/>
                  </a:moveTo>
                  <a:lnTo>
                    <a:pt x="47" y="1"/>
                  </a:lnTo>
                  <a:lnTo>
                    <a:pt x="54" y="2"/>
                  </a:lnTo>
                  <a:lnTo>
                    <a:pt x="60" y="6"/>
                  </a:lnTo>
                  <a:lnTo>
                    <a:pt x="66" y="11"/>
                  </a:lnTo>
                  <a:lnTo>
                    <a:pt x="71" y="17"/>
                  </a:lnTo>
                  <a:lnTo>
                    <a:pt x="75" y="23"/>
                  </a:lnTo>
                  <a:lnTo>
                    <a:pt x="77" y="30"/>
                  </a:lnTo>
                  <a:lnTo>
                    <a:pt x="77" y="38"/>
                  </a:lnTo>
                  <a:lnTo>
                    <a:pt x="77" y="46"/>
                  </a:lnTo>
                  <a:lnTo>
                    <a:pt x="75" y="53"/>
                  </a:lnTo>
                  <a:lnTo>
                    <a:pt x="71" y="60"/>
                  </a:lnTo>
                  <a:lnTo>
                    <a:pt x="66" y="65"/>
                  </a:lnTo>
                  <a:lnTo>
                    <a:pt x="60" y="70"/>
                  </a:lnTo>
                  <a:lnTo>
                    <a:pt x="54" y="73"/>
                  </a:lnTo>
                  <a:lnTo>
                    <a:pt x="47" y="76"/>
                  </a:lnTo>
                  <a:lnTo>
                    <a:pt x="39" y="77"/>
                  </a:lnTo>
                  <a:lnTo>
                    <a:pt x="31" y="76"/>
                  </a:lnTo>
                  <a:lnTo>
                    <a:pt x="24" y="73"/>
                  </a:lnTo>
                  <a:lnTo>
                    <a:pt x="18" y="70"/>
                  </a:lnTo>
                  <a:lnTo>
                    <a:pt x="12" y="65"/>
                  </a:lnTo>
                  <a:lnTo>
                    <a:pt x="7" y="60"/>
                  </a:lnTo>
                  <a:lnTo>
                    <a:pt x="4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4" y="23"/>
                  </a:lnTo>
                  <a:lnTo>
                    <a:pt x="7" y="17"/>
                  </a:lnTo>
                  <a:lnTo>
                    <a:pt x="12" y="11"/>
                  </a:lnTo>
                  <a:lnTo>
                    <a:pt x="18" y="6"/>
                  </a:lnTo>
                  <a:lnTo>
                    <a:pt x="24" y="2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297240" y="316548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9" y="0"/>
                  </a:moveTo>
                  <a:lnTo>
                    <a:pt x="47" y="1"/>
                  </a:lnTo>
                  <a:lnTo>
                    <a:pt x="54" y="2"/>
                  </a:lnTo>
                  <a:lnTo>
                    <a:pt x="60" y="6"/>
                  </a:lnTo>
                  <a:lnTo>
                    <a:pt x="66" y="11"/>
                  </a:lnTo>
                  <a:lnTo>
                    <a:pt x="71" y="17"/>
                  </a:lnTo>
                  <a:lnTo>
                    <a:pt x="75" y="23"/>
                  </a:lnTo>
                  <a:lnTo>
                    <a:pt x="77" y="30"/>
                  </a:lnTo>
                  <a:lnTo>
                    <a:pt x="77" y="38"/>
                  </a:lnTo>
                  <a:lnTo>
                    <a:pt x="77" y="46"/>
                  </a:lnTo>
                  <a:lnTo>
                    <a:pt x="75" y="53"/>
                  </a:lnTo>
                  <a:lnTo>
                    <a:pt x="71" y="60"/>
                  </a:lnTo>
                  <a:lnTo>
                    <a:pt x="66" y="65"/>
                  </a:lnTo>
                  <a:lnTo>
                    <a:pt x="60" y="70"/>
                  </a:lnTo>
                  <a:lnTo>
                    <a:pt x="54" y="73"/>
                  </a:lnTo>
                  <a:lnTo>
                    <a:pt x="47" y="76"/>
                  </a:lnTo>
                  <a:lnTo>
                    <a:pt x="39" y="77"/>
                  </a:lnTo>
                  <a:lnTo>
                    <a:pt x="31" y="76"/>
                  </a:lnTo>
                  <a:lnTo>
                    <a:pt x="24" y="73"/>
                  </a:lnTo>
                  <a:lnTo>
                    <a:pt x="18" y="70"/>
                  </a:lnTo>
                  <a:lnTo>
                    <a:pt x="12" y="65"/>
                  </a:lnTo>
                  <a:lnTo>
                    <a:pt x="7" y="60"/>
                  </a:lnTo>
                  <a:lnTo>
                    <a:pt x="4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4" y="23"/>
                  </a:lnTo>
                  <a:lnTo>
                    <a:pt x="7" y="17"/>
                  </a:lnTo>
                  <a:lnTo>
                    <a:pt x="12" y="11"/>
                  </a:lnTo>
                  <a:lnTo>
                    <a:pt x="18" y="6"/>
                  </a:lnTo>
                  <a:lnTo>
                    <a:pt x="24" y="2"/>
                  </a:lnTo>
                  <a:lnTo>
                    <a:pt x="31" y="1"/>
                  </a:lnTo>
                  <a:lnTo>
                    <a:pt x="39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346560" y="3143160"/>
              <a:ext cx="31680" cy="3024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39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60" y="7"/>
                  </a:lnTo>
                  <a:lnTo>
                    <a:pt x="66" y="12"/>
                  </a:lnTo>
                  <a:lnTo>
                    <a:pt x="70" y="16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6"/>
                  </a:lnTo>
                  <a:lnTo>
                    <a:pt x="73" y="54"/>
                  </a:lnTo>
                  <a:lnTo>
                    <a:pt x="70" y="60"/>
                  </a:lnTo>
                  <a:lnTo>
                    <a:pt x="66" y="66"/>
                  </a:lnTo>
                  <a:lnTo>
                    <a:pt x="60" y="70"/>
                  </a:lnTo>
                  <a:lnTo>
                    <a:pt x="53" y="74"/>
                  </a:lnTo>
                  <a:lnTo>
                    <a:pt x="46" y="75"/>
                  </a:lnTo>
                  <a:lnTo>
                    <a:pt x="39" y="76"/>
                  </a:lnTo>
                  <a:lnTo>
                    <a:pt x="31" y="75"/>
                  </a:lnTo>
                  <a:lnTo>
                    <a:pt x="24" y="74"/>
                  </a:lnTo>
                  <a:lnTo>
                    <a:pt x="17" y="70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4" y="24"/>
                  </a:lnTo>
                  <a:lnTo>
                    <a:pt x="6" y="16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346560" y="3143160"/>
              <a:ext cx="31680" cy="3024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39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60" y="7"/>
                  </a:lnTo>
                  <a:lnTo>
                    <a:pt x="66" y="12"/>
                  </a:lnTo>
                  <a:lnTo>
                    <a:pt x="70" y="16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6"/>
                  </a:lnTo>
                  <a:lnTo>
                    <a:pt x="73" y="54"/>
                  </a:lnTo>
                  <a:lnTo>
                    <a:pt x="70" y="60"/>
                  </a:lnTo>
                  <a:lnTo>
                    <a:pt x="66" y="66"/>
                  </a:lnTo>
                  <a:lnTo>
                    <a:pt x="60" y="70"/>
                  </a:lnTo>
                  <a:lnTo>
                    <a:pt x="53" y="74"/>
                  </a:lnTo>
                  <a:lnTo>
                    <a:pt x="46" y="75"/>
                  </a:lnTo>
                  <a:lnTo>
                    <a:pt x="39" y="76"/>
                  </a:lnTo>
                  <a:lnTo>
                    <a:pt x="31" y="75"/>
                  </a:lnTo>
                  <a:lnTo>
                    <a:pt x="24" y="74"/>
                  </a:lnTo>
                  <a:lnTo>
                    <a:pt x="17" y="70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4" y="24"/>
                  </a:lnTo>
                  <a:lnTo>
                    <a:pt x="6" y="16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351240" y="320364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8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70" y="17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6"/>
                  </a:lnTo>
                  <a:lnTo>
                    <a:pt x="73" y="53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71"/>
                  </a:lnTo>
                  <a:lnTo>
                    <a:pt x="53" y="73"/>
                  </a:lnTo>
                  <a:lnTo>
                    <a:pt x="46" y="76"/>
                  </a:lnTo>
                  <a:lnTo>
                    <a:pt x="38" y="77"/>
                  </a:lnTo>
                  <a:lnTo>
                    <a:pt x="30" y="76"/>
                  </a:lnTo>
                  <a:lnTo>
                    <a:pt x="23" y="73"/>
                  </a:lnTo>
                  <a:lnTo>
                    <a:pt x="17" y="71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351240" y="3203640"/>
              <a:ext cx="30240" cy="302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8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70" y="17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6"/>
                  </a:lnTo>
                  <a:lnTo>
                    <a:pt x="73" y="53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71"/>
                  </a:lnTo>
                  <a:lnTo>
                    <a:pt x="53" y="73"/>
                  </a:lnTo>
                  <a:lnTo>
                    <a:pt x="46" y="76"/>
                  </a:lnTo>
                  <a:lnTo>
                    <a:pt x="38" y="77"/>
                  </a:lnTo>
                  <a:lnTo>
                    <a:pt x="30" y="76"/>
                  </a:lnTo>
                  <a:lnTo>
                    <a:pt x="23" y="73"/>
                  </a:lnTo>
                  <a:lnTo>
                    <a:pt x="17" y="71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8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298680" y="3224160"/>
              <a:ext cx="32040" cy="316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9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70" y="17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7"/>
                  </a:lnTo>
                  <a:lnTo>
                    <a:pt x="73" y="54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71"/>
                  </a:lnTo>
                  <a:lnTo>
                    <a:pt x="53" y="74"/>
                  </a:lnTo>
                  <a:lnTo>
                    <a:pt x="46" y="76"/>
                  </a:lnTo>
                  <a:lnTo>
                    <a:pt x="39" y="77"/>
                  </a:lnTo>
                  <a:lnTo>
                    <a:pt x="30" y="76"/>
                  </a:lnTo>
                  <a:lnTo>
                    <a:pt x="23" y="74"/>
                  </a:lnTo>
                  <a:lnTo>
                    <a:pt x="17" y="71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3" y="54"/>
                  </a:lnTo>
                  <a:lnTo>
                    <a:pt x="1" y="47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298680" y="3224160"/>
              <a:ext cx="32040" cy="316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9" y="0"/>
                  </a:moveTo>
                  <a:lnTo>
                    <a:pt x="46" y="1"/>
                  </a:lnTo>
                  <a:lnTo>
                    <a:pt x="53" y="4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70" y="17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7"/>
                  </a:lnTo>
                  <a:lnTo>
                    <a:pt x="73" y="54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71"/>
                  </a:lnTo>
                  <a:lnTo>
                    <a:pt x="53" y="74"/>
                  </a:lnTo>
                  <a:lnTo>
                    <a:pt x="46" y="76"/>
                  </a:lnTo>
                  <a:lnTo>
                    <a:pt x="39" y="77"/>
                  </a:lnTo>
                  <a:lnTo>
                    <a:pt x="30" y="76"/>
                  </a:lnTo>
                  <a:lnTo>
                    <a:pt x="23" y="74"/>
                  </a:lnTo>
                  <a:lnTo>
                    <a:pt x="17" y="71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3" y="54"/>
                  </a:lnTo>
                  <a:lnTo>
                    <a:pt x="1" y="47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1"/>
                  </a:lnTo>
                  <a:lnTo>
                    <a:pt x="39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227400" y="3225960"/>
              <a:ext cx="30240" cy="3168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70" y="18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6"/>
                  </a:lnTo>
                  <a:lnTo>
                    <a:pt x="73" y="54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70"/>
                  </a:lnTo>
                  <a:lnTo>
                    <a:pt x="53" y="74"/>
                  </a:lnTo>
                  <a:lnTo>
                    <a:pt x="46" y="76"/>
                  </a:lnTo>
                  <a:lnTo>
                    <a:pt x="38" y="76"/>
                  </a:lnTo>
                  <a:lnTo>
                    <a:pt x="30" y="76"/>
                  </a:lnTo>
                  <a:lnTo>
                    <a:pt x="24" y="74"/>
                  </a:lnTo>
                  <a:lnTo>
                    <a:pt x="17" y="70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2" y="54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227400" y="3225960"/>
              <a:ext cx="30240" cy="3168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70" y="18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76" y="46"/>
                  </a:lnTo>
                  <a:lnTo>
                    <a:pt x="73" y="54"/>
                  </a:lnTo>
                  <a:lnTo>
                    <a:pt x="70" y="60"/>
                  </a:lnTo>
                  <a:lnTo>
                    <a:pt x="65" y="66"/>
                  </a:lnTo>
                  <a:lnTo>
                    <a:pt x="60" y="70"/>
                  </a:lnTo>
                  <a:lnTo>
                    <a:pt x="53" y="74"/>
                  </a:lnTo>
                  <a:lnTo>
                    <a:pt x="46" y="76"/>
                  </a:lnTo>
                  <a:lnTo>
                    <a:pt x="38" y="76"/>
                  </a:lnTo>
                  <a:lnTo>
                    <a:pt x="30" y="76"/>
                  </a:lnTo>
                  <a:lnTo>
                    <a:pt x="24" y="74"/>
                  </a:lnTo>
                  <a:lnTo>
                    <a:pt x="17" y="70"/>
                  </a:lnTo>
                  <a:lnTo>
                    <a:pt x="11" y="66"/>
                  </a:lnTo>
                  <a:lnTo>
                    <a:pt x="6" y="60"/>
                  </a:lnTo>
                  <a:lnTo>
                    <a:pt x="2" y="54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8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81320" y="3192480"/>
              <a:ext cx="30240" cy="3024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38" y="0"/>
                  </a:moveTo>
                  <a:lnTo>
                    <a:pt x="45" y="0"/>
                  </a:lnTo>
                  <a:lnTo>
                    <a:pt x="52" y="3"/>
                  </a:lnTo>
                  <a:lnTo>
                    <a:pt x="60" y="6"/>
                  </a:lnTo>
                  <a:lnTo>
                    <a:pt x="64" y="11"/>
                  </a:lnTo>
                  <a:lnTo>
                    <a:pt x="69" y="17"/>
                  </a:lnTo>
                  <a:lnTo>
                    <a:pt x="73" y="23"/>
                  </a:lnTo>
                  <a:lnTo>
                    <a:pt x="75" y="30"/>
                  </a:lnTo>
                  <a:lnTo>
                    <a:pt x="76" y="39"/>
                  </a:lnTo>
                  <a:lnTo>
                    <a:pt x="75" y="46"/>
                  </a:lnTo>
                  <a:lnTo>
                    <a:pt x="73" y="53"/>
                  </a:lnTo>
                  <a:lnTo>
                    <a:pt x="69" y="60"/>
                  </a:lnTo>
                  <a:lnTo>
                    <a:pt x="64" y="65"/>
                  </a:lnTo>
                  <a:lnTo>
                    <a:pt x="60" y="70"/>
                  </a:lnTo>
                  <a:lnTo>
                    <a:pt x="52" y="73"/>
                  </a:lnTo>
                  <a:lnTo>
                    <a:pt x="45" y="76"/>
                  </a:lnTo>
                  <a:lnTo>
                    <a:pt x="38" y="77"/>
                  </a:lnTo>
                  <a:lnTo>
                    <a:pt x="31" y="76"/>
                  </a:lnTo>
                  <a:lnTo>
                    <a:pt x="24" y="73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3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81320" y="3192480"/>
              <a:ext cx="30240" cy="3024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38" y="0"/>
                  </a:moveTo>
                  <a:lnTo>
                    <a:pt x="45" y="0"/>
                  </a:lnTo>
                  <a:lnTo>
                    <a:pt x="52" y="3"/>
                  </a:lnTo>
                  <a:lnTo>
                    <a:pt x="60" y="6"/>
                  </a:lnTo>
                  <a:lnTo>
                    <a:pt x="64" y="11"/>
                  </a:lnTo>
                  <a:lnTo>
                    <a:pt x="69" y="17"/>
                  </a:lnTo>
                  <a:lnTo>
                    <a:pt x="73" y="23"/>
                  </a:lnTo>
                  <a:lnTo>
                    <a:pt x="75" y="30"/>
                  </a:lnTo>
                  <a:lnTo>
                    <a:pt x="76" y="39"/>
                  </a:lnTo>
                  <a:lnTo>
                    <a:pt x="75" y="46"/>
                  </a:lnTo>
                  <a:lnTo>
                    <a:pt x="73" y="53"/>
                  </a:lnTo>
                  <a:lnTo>
                    <a:pt x="69" y="60"/>
                  </a:lnTo>
                  <a:lnTo>
                    <a:pt x="64" y="65"/>
                  </a:lnTo>
                  <a:lnTo>
                    <a:pt x="60" y="70"/>
                  </a:lnTo>
                  <a:lnTo>
                    <a:pt x="52" y="73"/>
                  </a:lnTo>
                  <a:lnTo>
                    <a:pt x="45" y="76"/>
                  </a:lnTo>
                  <a:lnTo>
                    <a:pt x="38" y="77"/>
                  </a:lnTo>
                  <a:lnTo>
                    <a:pt x="31" y="76"/>
                  </a:lnTo>
                  <a:lnTo>
                    <a:pt x="24" y="73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3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8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162240" y="2940120"/>
              <a:ext cx="300240" cy="258840"/>
            </a:xfrm>
            <a:custGeom>
              <a:avLst/>
              <a:gdLst/>
              <a:ahLst/>
              <a:rect l="l" t="t" r="r" b="b"/>
              <a:pathLst>
                <a:path w="756" h="654">
                  <a:moveTo>
                    <a:pt x="4" y="461"/>
                  </a:moveTo>
                  <a:lnTo>
                    <a:pt x="7" y="457"/>
                  </a:lnTo>
                  <a:lnTo>
                    <a:pt x="10" y="455"/>
                  </a:lnTo>
                  <a:lnTo>
                    <a:pt x="14" y="453"/>
                  </a:lnTo>
                  <a:lnTo>
                    <a:pt x="18" y="450"/>
                  </a:lnTo>
                  <a:lnTo>
                    <a:pt x="22" y="449"/>
                  </a:lnTo>
                  <a:lnTo>
                    <a:pt x="27" y="448"/>
                  </a:lnTo>
                  <a:lnTo>
                    <a:pt x="31" y="447"/>
                  </a:lnTo>
                  <a:lnTo>
                    <a:pt x="36" y="447"/>
                  </a:lnTo>
                  <a:lnTo>
                    <a:pt x="39" y="448"/>
                  </a:lnTo>
                  <a:lnTo>
                    <a:pt x="43" y="449"/>
                  </a:lnTo>
                  <a:lnTo>
                    <a:pt x="45" y="450"/>
                  </a:lnTo>
                  <a:lnTo>
                    <a:pt x="49" y="453"/>
                  </a:lnTo>
                  <a:lnTo>
                    <a:pt x="52" y="455"/>
                  </a:lnTo>
                  <a:lnTo>
                    <a:pt x="55" y="457"/>
                  </a:lnTo>
                  <a:lnTo>
                    <a:pt x="58" y="460"/>
                  </a:lnTo>
                  <a:lnTo>
                    <a:pt x="62" y="461"/>
                  </a:lnTo>
                  <a:lnTo>
                    <a:pt x="66" y="463"/>
                  </a:lnTo>
                  <a:lnTo>
                    <a:pt x="69" y="465"/>
                  </a:lnTo>
                  <a:lnTo>
                    <a:pt x="74" y="466"/>
                  </a:lnTo>
                  <a:lnTo>
                    <a:pt x="78" y="468"/>
                  </a:lnTo>
                  <a:lnTo>
                    <a:pt x="81" y="469"/>
                  </a:lnTo>
                  <a:lnTo>
                    <a:pt x="85" y="469"/>
                  </a:lnTo>
                  <a:lnTo>
                    <a:pt x="90" y="469"/>
                  </a:lnTo>
                  <a:lnTo>
                    <a:pt x="93" y="468"/>
                  </a:lnTo>
                  <a:lnTo>
                    <a:pt x="97" y="466"/>
                  </a:lnTo>
                  <a:lnTo>
                    <a:pt x="99" y="463"/>
                  </a:lnTo>
                  <a:lnTo>
                    <a:pt x="103" y="460"/>
                  </a:lnTo>
                  <a:lnTo>
                    <a:pt x="105" y="456"/>
                  </a:lnTo>
                  <a:lnTo>
                    <a:pt x="106" y="453"/>
                  </a:lnTo>
                  <a:lnTo>
                    <a:pt x="109" y="448"/>
                  </a:lnTo>
                  <a:lnTo>
                    <a:pt x="109" y="444"/>
                  </a:lnTo>
                  <a:lnTo>
                    <a:pt x="110" y="439"/>
                  </a:lnTo>
                  <a:lnTo>
                    <a:pt x="110" y="437"/>
                  </a:lnTo>
                  <a:lnTo>
                    <a:pt x="109" y="433"/>
                  </a:lnTo>
                  <a:lnTo>
                    <a:pt x="108" y="431"/>
                  </a:lnTo>
                  <a:lnTo>
                    <a:pt x="105" y="429"/>
                  </a:lnTo>
                  <a:lnTo>
                    <a:pt x="103" y="426"/>
                  </a:lnTo>
                  <a:lnTo>
                    <a:pt x="100" y="424"/>
                  </a:lnTo>
                  <a:lnTo>
                    <a:pt x="98" y="423"/>
                  </a:lnTo>
                  <a:lnTo>
                    <a:pt x="96" y="420"/>
                  </a:lnTo>
                  <a:lnTo>
                    <a:pt x="91" y="419"/>
                  </a:lnTo>
                  <a:lnTo>
                    <a:pt x="87" y="418"/>
                  </a:lnTo>
                  <a:lnTo>
                    <a:pt x="82" y="417"/>
                  </a:lnTo>
                  <a:lnTo>
                    <a:pt x="78" y="415"/>
                  </a:lnTo>
                  <a:lnTo>
                    <a:pt x="73" y="415"/>
                  </a:lnTo>
                  <a:lnTo>
                    <a:pt x="68" y="414"/>
                  </a:lnTo>
                  <a:lnTo>
                    <a:pt x="64" y="414"/>
                  </a:lnTo>
                  <a:lnTo>
                    <a:pt x="60" y="413"/>
                  </a:lnTo>
                  <a:lnTo>
                    <a:pt x="55" y="413"/>
                  </a:lnTo>
                  <a:lnTo>
                    <a:pt x="51" y="413"/>
                  </a:lnTo>
                  <a:lnTo>
                    <a:pt x="46" y="412"/>
                  </a:lnTo>
                  <a:lnTo>
                    <a:pt x="43" y="412"/>
                  </a:lnTo>
                  <a:lnTo>
                    <a:pt x="38" y="412"/>
                  </a:lnTo>
                  <a:lnTo>
                    <a:pt x="33" y="411"/>
                  </a:lnTo>
                  <a:lnTo>
                    <a:pt x="30" y="411"/>
                  </a:lnTo>
                  <a:lnTo>
                    <a:pt x="26" y="408"/>
                  </a:lnTo>
                  <a:lnTo>
                    <a:pt x="22" y="407"/>
                  </a:lnTo>
                  <a:lnTo>
                    <a:pt x="19" y="405"/>
                  </a:lnTo>
                  <a:lnTo>
                    <a:pt x="16" y="402"/>
                  </a:lnTo>
                  <a:lnTo>
                    <a:pt x="13" y="400"/>
                  </a:lnTo>
                  <a:lnTo>
                    <a:pt x="10" y="397"/>
                  </a:lnTo>
                  <a:lnTo>
                    <a:pt x="9" y="394"/>
                  </a:lnTo>
                  <a:lnTo>
                    <a:pt x="7" y="390"/>
                  </a:lnTo>
                  <a:lnTo>
                    <a:pt x="7" y="387"/>
                  </a:lnTo>
                  <a:lnTo>
                    <a:pt x="7" y="383"/>
                  </a:lnTo>
                  <a:lnTo>
                    <a:pt x="8" y="381"/>
                  </a:lnTo>
                  <a:lnTo>
                    <a:pt x="10" y="377"/>
                  </a:lnTo>
                  <a:lnTo>
                    <a:pt x="13" y="375"/>
                  </a:lnTo>
                  <a:lnTo>
                    <a:pt x="15" y="372"/>
                  </a:lnTo>
                  <a:lnTo>
                    <a:pt x="19" y="369"/>
                  </a:lnTo>
                  <a:lnTo>
                    <a:pt x="21" y="366"/>
                  </a:lnTo>
                  <a:lnTo>
                    <a:pt x="24" y="363"/>
                  </a:lnTo>
                  <a:lnTo>
                    <a:pt x="26" y="358"/>
                  </a:lnTo>
                  <a:lnTo>
                    <a:pt x="30" y="354"/>
                  </a:lnTo>
                  <a:lnTo>
                    <a:pt x="33" y="349"/>
                  </a:lnTo>
                  <a:lnTo>
                    <a:pt x="37" y="345"/>
                  </a:lnTo>
                  <a:lnTo>
                    <a:pt x="39" y="340"/>
                  </a:lnTo>
                  <a:lnTo>
                    <a:pt x="43" y="335"/>
                  </a:lnTo>
                  <a:lnTo>
                    <a:pt x="45" y="330"/>
                  </a:lnTo>
                  <a:lnTo>
                    <a:pt x="48" y="324"/>
                  </a:lnTo>
                  <a:lnTo>
                    <a:pt x="49" y="321"/>
                  </a:lnTo>
                  <a:lnTo>
                    <a:pt x="51" y="316"/>
                  </a:lnTo>
                  <a:lnTo>
                    <a:pt x="52" y="312"/>
                  </a:lnTo>
                  <a:lnTo>
                    <a:pt x="54" y="307"/>
                  </a:lnTo>
                  <a:lnTo>
                    <a:pt x="55" y="303"/>
                  </a:lnTo>
                  <a:lnTo>
                    <a:pt x="55" y="298"/>
                  </a:lnTo>
                  <a:lnTo>
                    <a:pt x="55" y="293"/>
                  </a:lnTo>
                  <a:lnTo>
                    <a:pt x="55" y="289"/>
                  </a:lnTo>
                  <a:lnTo>
                    <a:pt x="54" y="283"/>
                  </a:lnTo>
                  <a:lnTo>
                    <a:pt x="51" y="277"/>
                  </a:lnTo>
                  <a:lnTo>
                    <a:pt x="49" y="271"/>
                  </a:lnTo>
                  <a:lnTo>
                    <a:pt x="46" y="265"/>
                  </a:lnTo>
                  <a:lnTo>
                    <a:pt x="44" y="261"/>
                  </a:lnTo>
                  <a:lnTo>
                    <a:pt x="40" y="255"/>
                  </a:lnTo>
                  <a:lnTo>
                    <a:pt x="38" y="249"/>
                  </a:lnTo>
                  <a:lnTo>
                    <a:pt x="36" y="244"/>
                  </a:lnTo>
                  <a:lnTo>
                    <a:pt x="33" y="240"/>
                  </a:lnTo>
                  <a:lnTo>
                    <a:pt x="32" y="237"/>
                  </a:lnTo>
                  <a:lnTo>
                    <a:pt x="30" y="233"/>
                  </a:lnTo>
                  <a:lnTo>
                    <a:pt x="28" y="229"/>
                  </a:lnTo>
                  <a:lnTo>
                    <a:pt x="26" y="226"/>
                  </a:lnTo>
                  <a:lnTo>
                    <a:pt x="25" y="222"/>
                  </a:lnTo>
                  <a:lnTo>
                    <a:pt x="24" y="219"/>
                  </a:lnTo>
                  <a:lnTo>
                    <a:pt x="24" y="215"/>
                  </a:lnTo>
                  <a:lnTo>
                    <a:pt x="24" y="211"/>
                  </a:lnTo>
                  <a:lnTo>
                    <a:pt x="24" y="208"/>
                  </a:lnTo>
                  <a:lnTo>
                    <a:pt x="24" y="204"/>
                  </a:lnTo>
                  <a:lnTo>
                    <a:pt x="25" y="202"/>
                  </a:lnTo>
                  <a:lnTo>
                    <a:pt x="25" y="198"/>
                  </a:lnTo>
                  <a:lnTo>
                    <a:pt x="27" y="196"/>
                  </a:lnTo>
                  <a:lnTo>
                    <a:pt x="28" y="192"/>
                  </a:lnTo>
                  <a:lnTo>
                    <a:pt x="31" y="191"/>
                  </a:lnTo>
                  <a:lnTo>
                    <a:pt x="34" y="189"/>
                  </a:lnTo>
                  <a:lnTo>
                    <a:pt x="38" y="187"/>
                  </a:lnTo>
                  <a:lnTo>
                    <a:pt x="43" y="187"/>
                  </a:lnTo>
                  <a:lnTo>
                    <a:pt x="48" y="186"/>
                  </a:lnTo>
                  <a:lnTo>
                    <a:pt x="51" y="186"/>
                  </a:lnTo>
                  <a:lnTo>
                    <a:pt x="56" y="186"/>
                  </a:lnTo>
                  <a:lnTo>
                    <a:pt x="61" y="185"/>
                  </a:lnTo>
                  <a:lnTo>
                    <a:pt x="64" y="184"/>
                  </a:lnTo>
                  <a:lnTo>
                    <a:pt x="69" y="180"/>
                  </a:lnTo>
                  <a:lnTo>
                    <a:pt x="75" y="175"/>
                  </a:lnTo>
                  <a:lnTo>
                    <a:pt x="80" y="171"/>
                  </a:lnTo>
                  <a:lnTo>
                    <a:pt x="85" y="166"/>
                  </a:lnTo>
                  <a:lnTo>
                    <a:pt x="90" y="161"/>
                  </a:lnTo>
                  <a:lnTo>
                    <a:pt x="94" y="156"/>
                  </a:lnTo>
                  <a:lnTo>
                    <a:pt x="98" y="150"/>
                  </a:lnTo>
                  <a:lnTo>
                    <a:pt x="103" y="145"/>
                  </a:lnTo>
                  <a:lnTo>
                    <a:pt x="106" y="139"/>
                  </a:lnTo>
                  <a:lnTo>
                    <a:pt x="110" y="132"/>
                  </a:lnTo>
                  <a:lnTo>
                    <a:pt x="114" y="126"/>
                  </a:lnTo>
                  <a:lnTo>
                    <a:pt x="116" y="119"/>
                  </a:lnTo>
                  <a:lnTo>
                    <a:pt x="120" y="112"/>
                  </a:lnTo>
                  <a:lnTo>
                    <a:pt x="122" y="106"/>
                  </a:lnTo>
                  <a:lnTo>
                    <a:pt x="126" y="99"/>
                  </a:lnTo>
                  <a:lnTo>
                    <a:pt x="129" y="93"/>
                  </a:lnTo>
                  <a:lnTo>
                    <a:pt x="133" y="85"/>
                  </a:lnTo>
                  <a:lnTo>
                    <a:pt x="138" y="77"/>
                  </a:lnTo>
                  <a:lnTo>
                    <a:pt x="141" y="70"/>
                  </a:lnTo>
                  <a:lnTo>
                    <a:pt x="146" y="61"/>
                  </a:lnTo>
                  <a:lnTo>
                    <a:pt x="151" y="54"/>
                  </a:lnTo>
                  <a:lnTo>
                    <a:pt x="156" y="47"/>
                  </a:lnTo>
                  <a:lnTo>
                    <a:pt x="160" y="41"/>
                  </a:lnTo>
                  <a:lnTo>
                    <a:pt x="168" y="35"/>
                  </a:lnTo>
                  <a:lnTo>
                    <a:pt x="174" y="29"/>
                  </a:lnTo>
                  <a:lnTo>
                    <a:pt x="182" y="24"/>
                  </a:lnTo>
                  <a:lnTo>
                    <a:pt x="189" y="20"/>
                  </a:lnTo>
                  <a:lnTo>
                    <a:pt x="198" y="16"/>
                  </a:lnTo>
                  <a:lnTo>
                    <a:pt x="206" y="12"/>
                  </a:lnTo>
                  <a:lnTo>
                    <a:pt x="214" y="9"/>
                  </a:lnTo>
                  <a:lnTo>
                    <a:pt x="223" y="6"/>
                  </a:lnTo>
                  <a:lnTo>
                    <a:pt x="232" y="4"/>
                  </a:lnTo>
                  <a:lnTo>
                    <a:pt x="240" y="3"/>
                  </a:lnTo>
                  <a:lnTo>
                    <a:pt x="248" y="2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80" y="2"/>
                  </a:lnTo>
                  <a:lnTo>
                    <a:pt x="289" y="3"/>
                  </a:lnTo>
                  <a:lnTo>
                    <a:pt x="296" y="4"/>
                  </a:lnTo>
                  <a:lnTo>
                    <a:pt x="302" y="6"/>
                  </a:lnTo>
                  <a:lnTo>
                    <a:pt x="307" y="9"/>
                  </a:lnTo>
                  <a:lnTo>
                    <a:pt x="310" y="11"/>
                  </a:lnTo>
                  <a:lnTo>
                    <a:pt x="315" y="15"/>
                  </a:lnTo>
                  <a:lnTo>
                    <a:pt x="320" y="20"/>
                  </a:lnTo>
                  <a:lnTo>
                    <a:pt x="324" y="23"/>
                  </a:lnTo>
                  <a:lnTo>
                    <a:pt x="328" y="27"/>
                  </a:lnTo>
                  <a:lnTo>
                    <a:pt x="332" y="30"/>
                  </a:lnTo>
                  <a:lnTo>
                    <a:pt x="337" y="34"/>
                  </a:lnTo>
                  <a:lnTo>
                    <a:pt x="342" y="38"/>
                  </a:lnTo>
                  <a:lnTo>
                    <a:pt x="345" y="41"/>
                  </a:lnTo>
                  <a:lnTo>
                    <a:pt x="350" y="45"/>
                  </a:lnTo>
                  <a:lnTo>
                    <a:pt x="354" y="48"/>
                  </a:lnTo>
                  <a:lnTo>
                    <a:pt x="358" y="52"/>
                  </a:lnTo>
                  <a:lnTo>
                    <a:pt x="363" y="54"/>
                  </a:lnTo>
                  <a:lnTo>
                    <a:pt x="368" y="57"/>
                  </a:lnTo>
                  <a:lnTo>
                    <a:pt x="375" y="59"/>
                  </a:lnTo>
                  <a:lnTo>
                    <a:pt x="381" y="60"/>
                  </a:lnTo>
                  <a:lnTo>
                    <a:pt x="388" y="61"/>
                  </a:lnTo>
                  <a:lnTo>
                    <a:pt x="396" y="61"/>
                  </a:lnTo>
                  <a:lnTo>
                    <a:pt x="403" y="61"/>
                  </a:lnTo>
                  <a:lnTo>
                    <a:pt x="410" y="61"/>
                  </a:lnTo>
                  <a:lnTo>
                    <a:pt x="416" y="61"/>
                  </a:lnTo>
                  <a:lnTo>
                    <a:pt x="423" y="61"/>
                  </a:lnTo>
                  <a:lnTo>
                    <a:pt x="430" y="60"/>
                  </a:lnTo>
                  <a:lnTo>
                    <a:pt x="436" y="59"/>
                  </a:lnTo>
                  <a:lnTo>
                    <a:pt x="442" y="58"/>
                  </a:lnTo>
                  <a:lnTo>
                    <a:pt x="448" y="56"/>
                  </a:lnTo>
                  <a:lnTo>
                    <a:pt x="454" y="53"/>
                  </a:lnTo>
                  <a:lnTo>
                    <a:pt x="462" y="52"/>
                  </a:lnTo>
                  <a:lnTo>
                    <a:pt x="468" y="51"/>
                  </a:lnTo>
                  <a:lnTo>
                    <a:pt x="474" y="50"/>
                  </a:lnTo>
                  <a:lnTo>
                    <a:pt x="480" y="48"/>
                  </a:lnTo>
                  <a:lnTo>
                    <a:pt x="486" y="48"/>
                  </a:lnTo>
                  <a:lnTo>
                    <a:pt x="492" y="47"/>
                  </a:lnTo>
                  <a:lnTo>
                    <a:pt x="496" y="46"/>
                  </a:lnTo>
                  <a:lnTo>
                    <a:pt x="502" y="46"/>
                  </a:lnTo>
                  <a:lnTo>
                    <a:pt x="508" y="47"/>
                  </a:lnTo>
                  <a:lnTo>
                    <a:pt x="513" y="48"/>
                  </a:lnTo>
                  <a:lnTo>
                    <a:pt x="517" y="52"/>
                  </a:lnTo>
                  <a:lnTo>
                    <a:pt x="519" y="56"/>
                  </a:lnTo>
                  <a:lnTo>
                    <a:pt x="520" y="60"/>
                  </a:lnTo>
                  <a:lnTo>
                    <a:pt x="519" y="65"/>
                  </a:lnTo>
                  <a:lnTo>
                    <a:pt x="518" y="70"/>
                  </a:lnTo>
                  <a:lnTo>
                    <a:pt x="517" y="75"/>
                  </a:lnTo>
                  <a:lnTo>
                    <a:pt x="514" y="79"/>
                  </a:lnTo>
                  <a:lnTo>
                    <a:pt x="513" y="85"/>
                  </a:lnTo>
                  <a:lnTo>
                    <a:pt x="512" y="90"/>
                  </a:lnTo>
                  <a:lnTo>
                    <a:pt x="511" y="95"/>
                  </a:lnTo>
                  <a:lnTo>
                    <a:pt x="510" y="100"/>
                  </a:lnTo>
                  <a:lnTo>
                    <a:pt x="508" y="106"/>
                  </a:lnTo>
                  <a:lnTo>
                    <a:pt x="507" y="111"/>
                  </a:lnTo>
                  <a:lnTo>
                    <a:pt x="507" y="115"/>
                  </a:lnTo>
                  <a:lnTo>
                    <a:pt x="506" y="120"/>
                  </a:lnTo>
                  <a:lnTo>
                    <a:pt x="506" y="126"/>
                  </a:lnTo>
                  <a:lnTo>
                    <a:pt x="507" y="131"/>
                  </a:lnTo>
                  <a:lnTo>
                    <a:pt x="508" y="133"/>
                  </a:lnTo>
                  <a:lnTo>
                    <a:pt x="510" y="137"/>
                  </a:lnTo>
                  <a:lnTo>
                    <a:pt x="512" y="139"/>
                  </a:lnTo>
                  <a:lnTo>
                    <a:pt x="514" y="142"/>
                  </a:lnTo>
                  <a:lnTo>
                    <a:pt x="517" y="144"/>
                  </a:lnTo>
                  <a:lnTo>
                    <a:pt x="520" y="145"/>
                  </a:lnTo>
                  <a:lnTo>
                    <a:pt x="523" y="147"/>
                  </a:lnTo>
                  <a:lnTo>
                    <a:pt x="526" y="148"/>
                  </a:lnTo>
                  <a:lnTo>
                    <a:pt x="532" y="148"/>
                  </a:lnTo>
                  <a:lnTo>
                    <a:pt x="538" y="148"/>
                  </a:lnTo>
                  <a:lnTo>
                    <a:pt x="544" y="147"/>
                  </a:lnTo>
                  <a:lnTo>
                    <a:pt x="549" y="145"/>
                  </a:lnTo>
                  <a:lnTo>
                    <a:pt x="555" y="144"/>
                  </a:lnTo>
                  <a:lnTo>
                    <a:pt x="561" y="143"/>
                  </a:lnTo>
                  <a:lnTo>
                    <a:pt x="566" y="141"/>
                  </a:lnTo>
                  <a:lnTo>
                    <a:pt x="572" y="138"/>
                  </a:lnTo>
                  <a:lnTo>
                    <a:pt x="579" y="135"/>
                  </a:lnTo>
                  <a:lnTo>
                    <a:pt x="585" y="130"/>
                  </a:lnTo>
                  <a:lnTo>
                    <a:pt x="591" y="126"/>
                  </a:lnTo>
                  <a:lnTo>
                    <a:pt x="597" y="121"/>
                  </a:lnTo>
                  <a:lnTo>
                    <a:pt x="603" y="115"/>
                  </a:lnTo>
                  <a:lnTo>
                    <a:pt x="609" y="111"/>
                  </a:lnTo>
                  <a:lnTo>
                    <a:pt x="616" y="107"/>
                  </a:lnTo>
                  <a:lnTo>
                    <a:pt x="622" y="102"/>
                  </a:lnTo>
                  <a:lnTo>
                    <a:pt x="627" y="99"/>
                  </a:lnTo>
                  <a:lnTo>
                    <a:pt x="633" y="94"/>
                  </a:lnTo>
                  <a:lnTo>
                    <a:pt x="638" y="90"/>
                  </a:lnTo>
                  <a:lnTo>
                    <a:pt x="644" y="87"/>
                  </a:lnTo>
                  <a:lnTo>
                    <a:pt x="650" y="83"/>
                  </a:lnTo>
                  <a:lnTo>
                    <a:pt x="655" y="79"/>
                  </a:lnTo>
                  <a:lnTo>
                    <a:pt x="661" y="77"/>
                  </a:lnTo>
                  <a:lnTo>
                    <a:pt x="668" y="76"/>
                  </a:lnTo>
                  <a:lnTo>
                    <a:pt x="674" y="76"/>
                  </a:lnTo>
                  <a:lnTo>
                    <a:pt x="681" y="76"/>
                  </a:lnTo>
                  <a:lnTo>
                    <a:pt x="688" y="77"/>
                  </a:lnTo>
                  <a:lnTo>
                    <a:pt x="696" y="78"/>
                  </a:lnTo>
                  <a:lnTo>
                    <a:pt x="702" y="81"/>
                  </a:lnTo>
                  <a:lnTo>
                    <a:pt x="709" y="83"/>
                  </a:lnTo>
                  <a:lnTo>
                    <a:pt x="715" y="87"/>
                  </a:lnTo>
                  <a:lnTo>
                    <a:pt x="721" y="90"/>
                  </a:lnTo>
                  <a:lnTo>
                    <a:pt x="726" y="94"/>
                  </a:lnTo>
                  <a:lnTo>
                    <a:pt x="730" y="100"/>
                  </a:lnTo>
                  <a:lnTo>
                    <a:pt x="735" y="105"/>
                  </a:lnTo>
                  <a:lnTo>
                    <a:pt x="739" y="111"/>
                  </a:lnTo>
                  <a:lnTo>
                    <a:pt x="742" y="117"/>
                  </a:lnTo>
                  <a:lnTo>
                    <a:pt x="746" y="123"/>
                  </a:lnTo>
                  <a:lnTo>
                    <a:pt x="750" y="129"/>
                  </a:lnTo>
                  <a:lnTo>
                    <a:pt x="752" y="136"/>
                  </a:lnTo>
                  <a:lnTo>
                    <a:pt x="753" y="142"/>
                  </a:lnTo>
                  <a:lnTo>
                    <a:pt x="754" y="148"/>
                  </a:lnTo>
                  <a:lnTo>
                    <a:pt x="756" y="154"/>
                  </a:lnTo>
                  <a:lnTo>
                    <a:pt x="756" y="161"/>
                  </a:lnTo>
                  <a:lnTo>
                    <a:pt x="756" y="167"/>
                  </a:lnTo>
                  <a:lnTo>
                    <a:pt x="756" y="173"/>
                  </a:lnTo>
                  <a:lnTo>
                    <a:pt x="754" y="179"/>
                  </a:lnTo>
                  <a:lnTo>
                    <a:pt x="754" y="186"/>
                  </a:lnTo>
                  <a:lnTo>
                    <a:pt x="752" y="195"/>
                  </a:lnTo>
                  <a:lnTo>
                    <a:pt x="751" y="203"/>
                  </a:lnTo>
                  <a:lnTo>
                    <a:pt x="750" y="211"/>
                  </a:lnTo>
                  <a:lnTo>
                    <a:pt x="747" y="220"/>
                  </a:lnTo>
                  <a:lnTo>
                    <a:pt x="745" y="228"/>
                  </a:lnTo>
                  <a:lnTo>
                    <a:pt x="741" y="235"/>
                  </a:lnTo>
                  <a:lnTo>
                    <a:pt x="738" y="244"/>
                  </a:lnTo>
                  <a:lnTo>
                    <a:pt x="733" y="251"/>
                  </a:lnTo>
                  <a:lnTo>
                    <a:pt x="726" y="258"/>
                  </a:lnTo>
                  <a:lnTo>
                    <a:pt x="717" y="267"/>
                  </a:lnTo>
                  <a:lnTo>
                    <a:pt x="709" y="274"/>
                  </a:lnTo>
                  <a:lnTo>
                    <a:pt x="700" y="280"/>
                  </a:lnTo>
                  <a:lnTo>
                    <a:pt x="691" y="286"/>
                  </a:lnTo>
                  <a:lnTo>
                    <a:pt x="682" y="292"/>
                  </a:lnTo>
                  <a:lnTo>
                    <a:pt x="673" y="298"/>
                  </a:lnTo>
                  <a:lnTo>
                    <a:pt x="663" y="303"/>
                  </a:lnTo>
                  <a:lnTo>
                    <a:pt x="656" y="306"/>
                  </a:lnTo>
                  <a:lnTo>
                    <a:pt x="649" y="310"/>
                  </a:lnTo>
                  <a:lnTo>
                    <a:pt x="643" y="313"/>
                  </a:lnTo>
                  <a:lnTo>
                    <a:pt x="636" y="316"/>
                  </a:lnTo>
                  <a:lnTo>
                    <a:pt x="628" y="318"/>
                  </a:lnTo>
                  <a:lnTo>
                    <a:pt x="620" y="319"/>
                  </a:lnTo>
                  <a:lnTo>
                    <a:pt x="613" y="322"/>
                  </a:lnTo>
                  <a:lnTo>
                    <a:pt x="606" y="322"/>
                  </a:lnTo>
                  <a:lnTo>
                    <a:pt x="601" y="323"/>
                  </a:lnTo>
                  <a:lnTo>
                    <a:pt x="595" y="323"/>
                  </a:lnTo>
                  <a:lnTo>
                    <a:pt x="590" y="322"/>
                  </a:lnTo>
                  <a:lnTo>
                    <a:pt x="585" y="322"/>
                  </a:lnTo>
                  <a:lnTo>
                    <a:pt x="580" y="319"/>
                  </a:lnTo>
                  <a:lnTo>
                    <a:pt x="576" y="318"/>
                  </a:lnTo>
                  <a:lnTo>
                    <a:pt x="571" y="316"/>
                  </a:lnTo>
                  <a:lnTo>
                    <a:pt x="567" y="312"/>
                  </a:lnTo>
                  <a:lnTo>
                    <a:pt x="565" y="310"/>
                  </a:lnTo>
                  <a:lnTo>
                    <a:pt x="564" y="307"/>
                  </a:lnTo>
                  <a:lnTo>
                    <a:pt x="562" y="304"/>
                  </a:lnTo>
                  <a:lnTo>
                    <a:pt x="561" y="300"/>
                  </a:lnTo>
                  <a:lnTo>
                    <a:pt x="561" y="295"/>
                  </a:lnTo>
                  <a:lnTo>
                    <a:pt x="561" y="292"/>
                  </a:lnTo>
                  <a:lnTo>
                    <a:pt x="560" y="288"/>
                  </a:lnTo>
                  <a:lnTo>
                    <a:pt x="560" y="285"/>
                  </a:lnTo>
                  <a:lnTo>
                    <a:pt x="559" y="279"/>
                  </a:lnTo>
                  <a:lnTo>
                    <a:pt x="559" y="274"/>
                  </a:lnTo>
                  <a:lnTo>
                    <a:pt x="559" y="268"/>
                  </a:lnTo>
                  <a:lnTo>
                    <a:pt x="559" y="262"/>
                  </a:lnTo>
                  <a:lnTo>
                    <a:pt x="559" y="257"/>
                  </a:lnTo>
                  <a:lnTo>
                    <a:pt x="558" y="252"/>
                  </a:lnTo>
                  <a:lnTo>
                    <a:pt x="555" y="247"/>
                  </a:lnTo>
                  <a:lnTo>
                    <a:pt x="553" y="244"/>
                  </a:lnTo>
                  <a:lnTo>
                    <a:pt x="550" y="241"/>
                  </a:lnTo>
                  <a:lnTo>
                    <a:pt x="547" y="240"/>
                  </a:lnTo>
                  <a:lnTo>
                    <a:pt x="543" y="240"/>
                  </a:lnTo>
                  <a:lnTo>
                    <a:pt x="540" y="241"/>
                  </a:lnTo>
                  <a:lnTo>
                    <a:pt x="536" y="243"/>
                  </a:lnTo>
                  <a:lnTo>
                    <a:pt x="532" y="244"/>
                  </a:lnTo>
                  <a:lnTo>
                    <a:pt x="529" y="246"/>
                  </a:lnTo>
                  <a:lnTo>
                    <a:pt x="526" y="249"/>
                  </a:lnTo>
                  <a:lnTo>
                    <a:pt x="524" y="251"/>
                  </a:lnTo>
                  <a:lnTo>
                    <a:pt x="522" y="255"/>
                  </a:lnTo>
                  <a:lnTo>
                    <a:pt x="519" y="258"/>
                  </a:lnTo>
                  <a:lnTo>
                    <a:pt x="518" y="262"/>
                  </a:lnTo>
                  <a:lnTo>
                    <a:pt x="517" y="265"/>
                  </a:lnTo>
                  <a:lnTo>
                    <a:pt x="516" y="269"/>
                  </a:lnTo>
                  <a:lnTo>
                    <a:pt x="514" y="274"/>
                  </a:lnTo>
                  <a:lnTo>
                    <a:pt x="512" y="277"/>
                  </a:lnTo>
                  <a:lnTo>
                    <a:pt x="510" y="281"/>
                  </a:lnTo>
                  <a:lnTo>
                    <a:pt x="508" y="286"/>
                  </a:lnTo>
                  <a:lnTo>
                    <a:pt x="506" y="289"/>
                  </a:lnTo>
                  <a:lnTo>
                    <a:pt x="505" y="294"/>
                  </a:lnTo>
                  <a:lnTo>
                    <a:pt x="502" y="298"/>
                  </a:lnTo>
                  <a:lnTo>
                    <a:pt x="500" y="303"/>
                  </a:lnTo>
                  <a:lnTo>
                    <a:pt x="496" y="305"/>
                  </a:lnTo>
                  <a:lnTo>
                    <a:pt x="493" y="307"/>
                  </a:lnTo>
                  <a:lnTo>
                    <a:pt x="488" y="310"/>
                  </a:lnTo>
                  <a:lnTo>
                    <a:pt x="483" y="311"/>
                  </a:lnTo>
                  <a:lnTo>
                    <a:pt x="478" y="312"/>
                  </a:lnTo>
                  <a:lnTo>
                    <a:pt x="474" y="312"/>
                  </a:lnTo>
                  <a:lnTo>
                    <a:pt x="469" y="312"/>
                  </a:lnTo>
                  <a:lnTo>
                    <a:pt x="464" y="311"/>
                  </a:lnTo>
                  <a:lnTo>
                    <a:pt x="459" y="310"/>
                  </a:lnTo>
                  <a:lnTo>
                    <a:pt x="454" y="307"/>
                  </a:lnTo>
                  <a:lnTo>
                    <a:pt x="447" y="305"/>
                  </a:lnTo>
                  <a:lnTo>
                    <a:pt x="440" y="301"/>
                  </a:lnTo>
                  <a:lnTo>
                    <a:pt x="432" y="297"/>
                  </a:lnTo>
                  <a:lnTo>
                    <a:pt x="424" y="293"/>
                  </a:lnTo>
                  <a:lnTo>
                    <a:pt x="418" y="288"/>
                  </a:lnTo>
                  <a:lnTo>
                    <a:pt x="412" y="282"/>
                  </a:lnTo>
                  <a:lnTo>
                    <a:pt x="406" y="276"/>
                  </a:lnTo>
                  <a:lnTo>
                    <a:pt x="402" y="270"/>
                  </a:lnTo>
                  <a:lnTo>
                    <a:pt x="399" y="264"/>
                  </a:lnTo>
                  <a:lnTo>
                    <a:pt x="398" y="257"/>
                  </a:lnTo>
                  <a:lnTo>
                    <a:pt x="397" y="251"/>
                  </a:lnTo>
                  <a:lnTo>
                    <a:pt x="397" y="244"/>
                  </a:lnTo>
                  <a:lnTo>
                    <a:pt x="398" y="238"/>
                  </a:lnTo>
                  <a:lnTo>
                    <a:pt x="398" y="231"/>
                  </a:lnTo>
                  <a:lnTo>
                    <a:pt x="399" y="223"/>
                  </a:lnTo>
                  <a:lnTo>
                    <a:pt x="399" y="217"/>
                  </a:lnTo>
                  <a:lnTo>
                    <a:pt x="399" y="210"/>
                  </a:lnTo>
                  <a:lnTo>
                    <a:pt x="400" y="203"/>
                  </a:lnTo>
                  <a:lnTo>
                    <a:pt x="402" y="196"/>
                  </a:lnTo>
                  <a:lnTo>
                    <a:pt x="402" y="189"/>
                  </a:lnTo>
                  <a:lnTo>
                    <a:pt x="403" y="181"/>
                  </a:lnTo>
                  <a:lnTo>
                    <a:pt x="403" y="174"/>
                  </a:lnTo>
                  <a:lnTo>
                    <a:pt x="403" y="167"/>
                  </a:lnTo>
                  <a:lnTo>
                    <a:pt x="402" y="160"/>
                  </a:lnTo>
                  <a:lnTo>
                    <a:pt x="400" y="156"/>
                  </a:lnTo>
                  <a:lnTo>
                    <a:pt x="399" y="153"/>
                  </a:lnTo>
                  <a:lnTo>
                    <a:pt x="397" y="149"/>
                  </a:lnTo>
                  <a:lnTo>
                    <a:pt x="394" y="147"/>
                  </a:lnTo>
                  <a:lnTo>
                    <a:pt x="392" y="144"/>
                  </a:lnTo>
                  <a:lnTo>
                    <a:pt x="390" y="142"/>
                  </a:lnTo>
                  <a:lnTo>
                    <a:pt x="386" y="141"/>
                  </a:lnTo>
                  <a:lnTo>
                    <a:pt x="382" y="141"/>
                  </a:lnTo>
                  <a:lnTo>
                    <a:pt x="379" y="141"/>
                  </a:lnTo>
                  <a:lnTo>
                    <a:pt x="375" y="142"/>
                  </a:lnTo>
                  <a:lnTo>
                    <a:pt x="372" y="144"/>
                  </a:lnTo>
                  <a:lnTo>
                    <a:pt x="369" y="147"/>
                  </a:lnTo>
                  <a:lnTo>
                    <a:pt x="366" y="149"/>
                  </a:lnTo>
                  <a:lnTo>
                    <a:pt x="363" y="153"/>
                  </a:lnTo>
                  <a:lnTo>
                    <a:pt x="361" y="156"/>
                  </a:lnTo>
                  <a:lnTo>
                    <a:pt x="358" y="160"/>
                  </a:lnTo>
                  <a:lnTo>
                    <a:pt x="356" y="165"/>
                  </a:lnTo>
                  <a:lnTo>
                    <a:pt x="354" y="171"/>
                  </a:lnTo>
                  <a:lnTo>
                    <a:pt x="351" y="177"/>
                  </a:lnTo>
                  <a:lnTo>
                    <a:pt x="350" y="183"/>
                  </a:lnTo>
                  <a:lnTo>
                    <a:pt x="348" y="190"/>
                  </a:lnTo>
                  <a:lnTo>
                    <a:pt x="346" y="196"/>
                  </a:lnTo>
                  <a:lnTo>
                    <a:pt x="344" y="202"/>
                  </a:lnTo>
                  <a:lnTo>
                    <a:pt x="342" y="208"/>
                  </a:lnTo>
                  <a:lnTo>
                    <a:pt x="340" y="213"/>
                  </a:lnTo>
                  <a:lnTo>
                    <a:pt x="338" y="217"/>
                  </a:lnTo>
                  <a:lnTo>
                    <a:pt x="337" y="222"/>
                  </a:lnTo>
                  <a:lnTo>
                    <a:pt x="334" y="227"/>
                  </a:lnTo>
                  <a:lnTo>
                    <a:pt x="333" y="232"/>
                  </a:lnTo>
                  <a:lnTo>
                    <a:pt x="330" y="237"/>
                  </a:lnTo>
                  <a:lnTo>
                    <a:pt x="327" y="240"/>
                  </a:lnTo>
                  <a:lnTo>
                    <a:pt x="322" y="244"/>
                  </a:lnTo>
                  <a:lnTo>
                    <a:pt x="318" y="246"/>
                  </a:lnTo>
                  <a:lnTo>
                    <a:pt x="312" y="247"/>
                  </a:lnTo>
                  <a:lnTo>
                    <a:pt x="304" y="249"/>
                  </a:lnTo>
                  <a:lnTo>
                    <a:pt x="298" y="249"/>
                  </a:lnTo>
                  <a:lnTo>
                    <a:pt x="291" y="249"/>
                  </a:lnTo>
                  <a:lnTo>
                    <a:pt x="285" y="249"/>
                  </a:lnTo>
                  <a:lnTo>
                    <a:pt x="279" y="247"/>
                  </a:lnTo>
                  <a:lnTo>
                    <a:pt x="272" y="246"/>
                  </a:lnTo>
                  <a:lnTo>
                    <a:pt x="266" y="244"/>
                  </a:lnTo>
                  <a:lnTo>
                    <a:pt x="259" y="240"/>
                  </a:lnTo>
                  <a:lnTo>
                    <a:pt x="253" y="238"/>
                  </a:lnTo>
                  <a:lnTo>
                    <a:pt x="247" y="233"/>
                  </a:lnTo>
                  <a:lnTo>
                    <a:pt x="241" y="229"/>
                  </a:lnTo>
                  <a:lnTo>
                    <a:pt x="235" y="226"/>
                  </a:lnTo>
                  <a:lnTo>
                    <a:pt x="229" y="222"/>
                  </a:lnTo>
                  <a:lnTo>
                    <a:pt x="223" y="220"/>
                  </a:lnTo>
                  <a:lnTo>
                    <a:pt x="217" y="217"/>
                  </a:lnTo>
                  <a:lnTo>
                    <a:pt x="211" y="215"/>
                  </a:lnTo>
                  <a:lnTo>
                    <a:pt x="206" y="213"/>
                  </a:lnTo>
                  <a:lnTo>
                    <a:pt x="200" y="211"/>
                  </a:lnTo>
                  <a:lnTo>
                    <a:pt x="194" y="210"/>
                  </a:lnTo>
                  <a:lnTo>
                    <a:pt x="188" y="209"/>
                  </a:lnTo>
                  <a:lnTo>
                    <a:pt x="182" y="208"/>
                  </a:lnTo>
                  <a:lnTo>
                    <a:pt x="177" y="208"/>
                  </a:lnTo>
                  <a:lnTo>
                    <a:pt x="170" y="208"/>
                  </a:lnTo>
                  <a:lnTo>
                    <a:pt x="163" y="208"/>
                  </a:lnTo>
                  <a:lnTo>
                    <a:pt x="156" y="209"/>
                  </a:lnTo>
                  <a:lnTo>
                    <a:pt x="148" y="209"/>
                  </a:lnTo>
                  <a:lnTo>
                    <a:pt x="141" y="211"/>
                  </a:lnTo>
                  <a:lnTo>
                    <a:pt x="135" y="213"/>
                  </a:lnTo>
                  <a:lnTo>
                    <a:pt x="128" y="215"/>
                  </a:lnTo>
                  <a:lnTo>
                    <a:pt x="122" y="217"/>
                  </a:lnTo>
                  <a:lnTo>
                    <a:pt x="118" y="219"/>
                  </a:lnTo>
                  <a:lnTo>
                    <a:pt x="115" y="221"/>
                  </a:lnTo>
                  <a:lnTo>
                    <a:pt x="111" y="223"/>
                  </a:lnTo>
                  <a:lnTo>
                    <a:pt x="108" y="226"/>
                  </a:lnTo>
                  <a:lnTo>
                    <a:pt x="104" y="228"/>
                  </a:lnTo>
                  <a:lnTo>
                    <a:pt x="102" y="232"/>
                  </a:lnTo>
                  <a:lnTo>
                    <a:pt x="99" y="235"/>
                  </a:lnTo>
                  <a:lnTo>
                    <a:pt x="98" y="239"/>
                  </a:lnTo>
                  <a:lnTo>
                    <a:pt x="97" y="243"/>
                  </a:lnTo>
                  <a:lnTo>
                    <a:pt x="96" y="247"/>
                  </a:lnTo>
                  <a:lnTo>
                    <a:pt x="96" y="252"/>
                  </a:lnTo>
                  <a:lnTo>
                    <a:pt x="96" y="257"/>
                  </a:lnTo>
                  <a:lnTo>
                    <a:pt x="96" y="262"/>
                  </a:lnTo>
                  <a:lnTo>
                    <a:pt x="97" y="268"/>
                  </a:lnTo>
                  <a:lnTo>
                    <a:pt x="97" y="273"/>
                  </a:lnTo>
                  <a:lnTo>
                    <a:pt x="98" y="277"/>
                  </a:lnTo>
                  <a:lnTo>
                    <a:pt x="98" y="282"/>
                  </a:lnTo>
                  <a:lnTo>
                    <a:pt x="99" y="288"/>
                  </a:lnTo>
                  <a:lnTo>
                    <a:pt x="100" y="294"/>
                  </a:lnTo>
                  <a:lnTo>
                    <a:pt x="100" y="300"/>
                  </a:lnTo>
                  <a:lnTo>
                    <a:pt x="102" y="305"/>
                  </a:lnTo>
                  <a:lnTo>
                    <a:pt x="104" y="311"/>
                  </a:lnTo>
                  <a:lnTo>
                    <a:pt x="106" y="316"/>
                  </a:lnTo>
                  <a:lnTo>
                    <a:pt x="110" y="319"/>
                  </a:lnTo>
                  <a:lnTo>
                    <a:pt x="115" y="324"/>
                  </a:lnTo>
                  <a:lnTo>
                    <a:pt x="120" y="328"/>
                  </a:lnTo>
                  <a:lnTo>
                    <a:pt x="126" y="330"/>
                  </a:lnTo>
                  <a:lnTo>
                    <a:pt x="132" y="331"/>
                  </a:lnTo>
                  <a:lnTo>
                    <a:pt x="138" y="334"/>
                  </a:lnTo>
                  <a:lnTo>
                    <a:pt x="144" y="336"/>
                  </a:lnTo>
                  <a:lnTo>
                    <a:pt x="150" y="339"/>
                  </a:lnTo>
                  <a:lnTo>
                    <a:pt x="156" y="341"/>
                  </a:lnTo>
                  <a:lnTo>
                    <a:pt x="159" y="345"/>
                  </a:lnTo>
                  <a:lnTo>
                    <a:pt x="163" y="347"/>
                  </a:lnTo>
                  <a:lnTo>
                    <a:pt x="166" y="351"/>
                  </a:lnTo>
                  <a:lnTo>
                    <a:pt x="170" y="354"/>
                  </a:lnTo>
                  <a:lnTo>
                    <a:pt x="174" y="358"/>
                  </a:lnTo>
                  <a:lnTo>
                    <a:pt x="176" y="361"/>
                  </a:lnTo>
                  <a:lnTo>
                    <a:pt x="180" y="366"/>
                  </a:lnTo>
                  <a:lnTo>
                    <a:pt x="182" y="370"/>
                  </a:lnTo>
                  <a:lnTo>
                    <a:pt x="184" y="376"/>
                  </a:lnTo>
                  <a:lnTo>
                    <a:pt x="186" y="381"/>
                  </a:lnTo>
                  <a:lnTo>
                    <a:pt x="187" y="387"/>
                  </a:lnTo>
                  <a:lnTo>
                    <a:pt x="188" y="393"/>
                  </a:lnTo>
                  <a:lnTo>
                    <a:pt x="189" y="399"/>
                  </a:lnTo>
                  <a:lnTo>
                    <a:pt x="190" y="405"/>
                  </a:lnTo>
                  <a:lnTo>
                    <a:pt x="190" y="409"/>
                  </a:lnTo>
                  <a:lnTo>
                    <a:pt x="192" y="415"/>
                  </a:lnTo>
                  <a:lnTo>
                    <a:pt x="190" y="420"/>
                  </a:lnTo>
                  <a:lnTo>
                    <a:pt x="190" y="425"/>
                  </a:lnTo>
                  <a:lnTo>
                    <a:pt x="189" y="430"/>
                  </a:lnTo>
                  <a:lnTo>
                    <a:pt x="188" y="433"/>
                  </a:lnTo>
                  <a:lnTo>
                    <a:pt x="187" y="438"/>
                  </a:lnTo>
                  <a:lnTo>
                    <a:pt x="186" y="443"/>
                  </a:lnTo>
                  <a:lnTo>
                    <a:pt x="186" y="448"/>
                  </a:lnTo>
                  <a:lnTo>
                    <a:pt x="187" y="451"/>
                  </a:lnTo>
                  <a:lnTo>
                    <a:pt x="188" y="459"/>
                  </a:lnTo>
                  <a:lnTo>
                    <a:pt x="189" y="465"/>
                  </a:lnTo>
                  <a:lnTo>
                    <a:pt x="192" y="472"/>
                  </a:lnTo>
                  <a:lnTo>
                    <a:pt x="194" y="478"/>
                  </a:lnTo>
                  <a:lnTo>
                    <a:pt x="196" y="484"/>
                  </a:lnTo>
                  <a:lnTo>
                    <a:pt x="200" y="490"/>
                  </a:lnTo>
                  <a:lnTo>
                    <a:pt x="204" y="495"/>
                  </a:lnTo>
                  <a:lnTo>
                    <a:pt x="208" y="499"/>
                  </a:lnTo>
                  <a:lnTo>
                    <a:pt x="212" y="503"/>
                  </a:lnTo>
                  <a:lnTo>
                    <a:pt x="216" y="504"/>
                  </a:lnTo>
                  <a:lnTo>
                    <a:pt x="220" y="507"/>
                  </a:lnTo>
                  <a:lnTo>
                    <a:pt x="225" y="508"/>
                  </a:lnTo>
                  <a:lnTo>
                    <a:pt x="231" y="508"/>
                  </a:lnTo>
                  <a:lnTo>
                    <a:pt x="236" y="509"/>
                  </a:lnTo>
                  <a:lnTo>
                    <a:pt x="241" y="509"/>
                  </a:lnTo>
                  <a:lnTo>
                    <a:pt x="246" y="509"/>
                  </a:lnTo>
                  <a:lnTo>
                    <a:pt x="252" y="509"/>
                  </a:lnTo>
                  <a:lnTo>
                    <a:pt x="256" y="508"/>
                  </a:lnTo>
                  <a:lnTo>
                    <a:pt x="262" y="507"/>
                  </a:lnTo>
                  <a:lnTo>
                    <a:pt x="267" y="505"/>
                  </a:lnTo>
                  <a:lnTo>
                    <a:pt x="272" y="504"/>
                  </a:lnTo>
                  <a:lnTo>
                    <a:pt x="278" y="504"/>
                  </a:lnTo>
                  <a:lnTo>
                    <a:pt x="283" y="505"/>
                  </a:lnTo>
                  <a:lnTo>
                    <a:pt x="286" y="507"/>
                  </a:lnTo>
                  <a:lnTo>
                    <a:pt x="290" y="509"/>
                  </a:lnTo>
                  <a:lnTo>
                    <a:pt x="292" y="513"/>
                  </a:lnTo>
                  <a:lnTo>
                    <a:pt x="295" y="517"/>
                  </a:lnTo>
                  <a:lnTo>
                    <a:pt x="296" y="521"/>
                  </a:lnTo>
                  <a:lnTo>
                    <a:pt x="297" y="526"/>
                  </a:lnTo>
                  <a:lnTo>
                    <a:pt x="297" y="531"/>
                  </a:lnTo>
                  <a:lnTo>
                    <a:pt x="297" y="535"/>
                  </a:lnTo>
                  <a:lnTo>
                    <a:pt x="296" y="540"/>
                  </a:lnTo>
                  <a:lnTo>
                    <a:pt x="295" y="550"/>
                  </a:lnTo>
                  <a:lnTo>
                    <a:pt x="294" y="559"/>
                  </a:lnTo>
                  <a:lnTo>
                    <a:pt x="292" y="569"/>
                  </a:lnTo>
                  <a:lnTo>
                    <a:pt x="290" y="580"/>
                  </a:lnTo>
                  <a:lnTo>
                    <a:pt x="288" y="588"/>
                  </a:lnTo>
                  <a:lnTo>
                    <a:pt x="284" y="598"/>
                  </a:lnTo>
                  <a:lnTo>
                    <a:pt x="280" y="606"/>
                  </a:lnTo>
                  <a:lnTo>
                    <a:pt x="274" y="615"/>
                  </a:lnTo>
                  <a:lnTo>
                    <a:pt x="270" y="622"/>
                  </a:lnTo>
                  <a:lnTo>
                    <a:pt x="262" y="628"/>
                  </a:lnTo>
                  <a:lnTo>
                    <a:pt x="256" y="634"/>
                  </a:lnTo>
                  <a:lnTo>
                    <a:pt x="248" y="639"/>
                  </a:lnTo>
                  <a:lnTo>
                    <a:pt x="241" y="643"/>
                  </a:lnTo>
                  <a:lnTo>
                    <a:pt x="232" y="647"/>
                  </a:lnTo>
                  <a:lnTo>
                    <a:pt x="224" y="651"/>
                  </a:lnTo>
                  <a:lnTo>
                    <a:pt x="216" y="653"/>
                  </a:lnTo>
                  <a:lnTo>
                    <a:pt x="206" y="654"/>
                  </a:lnTo>
                  <a:lnTo>
                    <a:pt x="198" y="654"/>
                  </a:lnTo>
                  <a:lnTo>
                    <a:pt x="189" y="653"/>
                  </a:lnTo>
                  <a:lnTo>
                    <a:pt x="180" y="652"/>
                  </a:lnTo>
                  <a:lnTo>
                    <a:pt x="171" y="649"/>
                  </a:lnTo>
                  <a:lnTo>
                    <a:pt x="163" y="647"/>
                  </a:lnTo>
                  <a:lnTo>
                    <a:pt x="154" y="645"/>
                  </a:lnTo>
                  <a:lnTo>
                    <a:pt x="146" y="641"/>
                  </a:lnTo>
                  <a:lnTo>
                    <a:pt x="136" y="636"/>
                  </a:lnTo>
                  <a:lnTo>
                    <a:pt x="128" y="631"/>
                  </a:lnTo>
                  <a:lnTo>
                    <a:pt x="120" y="627"/>
                  </a:lnTo>
                  <a:lnTo>
                    <a:pt x="111" y="621"/>
                  </a:lnTo>
                  <a:lnTo>
                    <a:pt x="104" y="615"/>
                  </a:lnTo>
                  <a:lnTo>
                    <a:pt x="96" y="609"/>
                  </a:lnTo>
                  <a:lnTo>
                    <a:pt x="88" y="601"/>
                  </a:lnTo>
                  <a:lnTo>
                    <a:pt x="81" y="595"/>
                  </a:lnTo>
                  <a:lnTo>
                    <a:pt x="73" y="588"/>
                  </a:lnTo>
                  <a:lnTo>
                    <a:pt x="66" y="582"/>
                  </a:lnTo>
                  <a:lnTo>
                    <a:pt x="58" y="575"/>
                  </a:lnTo>
                  <a:lnTo>
                    <a:pt x="51" y="568"/>
                  </a:lnTo>
                  <a:lnTo>
                    <a:pt x="44" y="561"/>
                  </a:lnTo>
                  <a:lnTo>
                    <a:pt x="37" y="553"/>
                  </a:lnTo>
                  <a:lnTo>
                    <a:pt x="30" y="546"/>
                  </a:lnTo>
                  <a:lnTo>
                    <a:pt x="24" y="538"/>
                  </a:lnTo>
                  <a:lnTo>
                    <a:pt x="20" y="533"/>
                  </a:lnTo>
                  <a:lnTo>
                    <a:pt x="16" y="528"/>
                  </a:lnTo>
                  <a:lnTo>
                    <a:pt x="13" y="523"/>
                  </a:lnTo>
                  <a:lnTo>
                    <a:pt x="10" y="517"/>
                  </a:lnTo>
                  <a:lnTo>
                    <a:pt x="8" y="511"/>
                  </a:lnTo>
                  <a:lnTo>
                    <a:pt x="6" y="507"/>
                  </a:lnTo>
                  <a:lnTo>
                    <a:pt x="3" y="501"/>
                  </a:lnTo>
                  <a:lnTo>
                    <a:pt x="2" y="495"/>
                  </a:lnTo>
                  <a:lnTo>
                    <a:pt x="1" y="491"/>
                  </a:lnTo>
                  <a:lnTo>
                    <a:pt x="1" y="486"/>
                  </a:lnTo>
                  <a:lnTo>
                    <a:pt x="0" y="481"/>
                  </a:lnTo>
                  <a:lnTo>
                    <a:pt x="0" y="478"/>
                  </a:lnTo>
                  <a:lnTo>
                    <a:pt x="0" y="473"/>
                  </a:lnTo>
                  <a:lnTo>
                    <a:pt x="1" y="469"/>
                  </a:lnTo>
                  <a:lnTo>
                    <a:pt x="2" y="465"/>
                  </a:lnTo>
                  <a:lnTo>
                    <a:pt x="4" y="461"/>
                  </a:lnTo>
                  <a:close/>
                </a:path>
              </a:pathLst>
            </a:custGeom>
            <a:solidFill>
              <a:srgbClr val="92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159000" y="3110040"/>
              <a:ext cx="17640" cy="158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0"/>
                  </a:moveTo>
                  <a:lnTo>
                    <a:pt x="46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2" y="5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5" y="15"/>
                  </a:lnTo>
                  <a:lnTo>
                    <a:pt x="0" y="2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1" y="39"/>
                  </a:lnTo>
                  <a:lnTo>
                    <a:pt x="32" y="38"/>
                  </a:lnTo>
                  <a:lnTo>
                    <a:pt x="35" y="37"/>
                  </a:lnTo>
                  <a:lnTo>
                    <a:pt x="37" y="36"/>
                  </a:lnTo>
                  <a:lnTo>
                    <a:pt x="40" y="35"/>
                  </a:lnTo>
                  <a:lnTo>
                    <a:pt x="43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176640" y="3110040"/>
              <a:ext cx="12600" cy="1908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4" y="15"/>
                  </a:move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28" y="12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16" y="3"/>
                  </a:lnTo>
                  <a:lnTo>
                    <a:pt x="9" y="1"/>
                  </a:lnTo>
                  <a:lnTo>
                    <a:pt x="2" y="0"/>
                  </a:lnTo>
                  <a:lnTo>
                    <a:pt x="2" y="35"/>
                  </a:lnTo>
                  <a:lnTo>
                    <a:pt x="0" y="35"/>
                  </a:lnTo>
                  <a:lnTo>
                    <a:pt x="2" y="35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8" y="39"/>
                  </a:lnTo>
                  <a:lnTo>
                    <a:pt x="11" y="42"/>
                  </a:lnTo>
                  <a:lnTo>
                    <a:pt x="16" y="45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84560" y="3116160"/>
              <a:ext cx="17280" cy="1764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30" y="8"/>
                  </a:move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6" y="35"/>
                  </a:lnTo>
                  <a:lnTo>
                    <a:pt x="11" y="38"/>
                  </a:lnTo>
                  <a:lnTo>
                    <a:pt x="16" y="39"/>
                  </a:lnTo>
                  <a:lnTo>
                    <a:pt x="22" y="41"/>
                  </a:lnTo>
                  <a:lnTo>
                    <a:pt x="29" y="42"/>
                  </a:lnTo>
                  <a:lnTo>
                    <a:pt x="36" y="41"/>
                  </a:lnTo>
                  <a:lnTo>
                    <a:pt x="44" y="39"/>
                  </a:lnTo>
                  <a:lnTo>
                    <a:pt x="44" y="39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197160" y="3114720"/>
              <a:ext cx="15840" cy="17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6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45"/>
                  </a:lnTo>
                  <a:lnTo>
                    <a:pt x="20" y="41"/>
                  </a:lnTo>
                  <a:lnTo>
                    <a:pt x="26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7" y="20"/>
                  </a:lnTo>
                  <a:lnTo>
                    <a:pt x="38" y="14"/>
                  </a:lnTo>
                  <a:lnTo>
                    <a:pt x="41" y="8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197160" y="3100320"/>
              <a:ext cx="15840" cy="1440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30"/>
                  </a:moveTo>
                  <a:lnTo>
                    <a:pt x="0" y="30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40" y="35"/>
                  </a:lnTo>
                  <a:lnTo>
                    <a:pt x="40" y="27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1" y="12"/>
                  </a:lnTo>
                  <a:lnTo>
                    <a:pt x="28" y="8"/>
                  </a:lnTo>
                  <a:lnTo>
                    <a:pt x="24" y="5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184560" y="3097080"/>
              <a:ext cx="19080" cy="1584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0" y="35"/>
                  </a:moveTo>
                  <a:lnTo>
                    <a:pt x="0" y="35"/>
                  </a:lnTo>
                  <a:lnTo>
                    <a:pt x="6" y="35"/>
                  </a:lnTo>
                  <a:lnTo>
                    <a:pt x="11" y="36"/>
                  </a:lnTo>
                  <a:lnTo>
                    <a:pt x="16" y="36"/>
                  </a:lnTo>
                  <a:lnTo>
                    <a:pt x="19" y="37"/>
                  </a:lnTo>
                  <a:lnTo>
                    <a:pt x="23" y="37"/>
                  </a:lnTo>
                  <a:lnTo>
                    <a:pt x="26" y="39"/>
                  </a:lnTo>
                  <a:lnTo>
                    <a:pt x="29" y="39"/>
                  </a:lnTo>
                  <a:lnTo>
                    <a:pt x="31" y="40"/>
                  </a:lnTo>
                  <a:lnTo>
                    <a:pt x="47" y="10"/>
                  </a:lnTo>
                  <a:lnTo>
                    <a:pt x="41" y="6"/>
                  </a:lnTo>
                  <a:lnTo>
                    <a:pt x="35" y="5"/>
                  </a:lnTo>
                  <a:lnTo>
                    <a:pt x="30" y="4"/>
                  </a:lnTo>
                  <a:lnTo>
                    <a:pt x="24" y="3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168720" y="3095640"/>
              <a:ext cx="19080" cy="1440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0" y="31"/>
                  </a:moveTo>
                  <a:lnTo>
                    <a:pt x="0" y="31"/>
                  </a:lnTo>
                  <a:lnTo>
                    <a:pt x="7" y="33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2" y="37"/>
                  </a:lnTo>
                  <a:lnTo>
                    <a:pt x="36" y="37"/>
                  </a:lnTo>
                  <a:lnTo>
                    <a:pt x="38" y="38"/>
                  </a:lnTo>
                  <a:lnTo>
                    <a:pt x="44" y="3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57560" y="3092400"/>
              <a:ext cx="17280" cy="1584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0" y="3"/>
                  </a:moveTo>
                  <a:lnTo>
                    <a:pt x="0" y="3"/>
                  </a:lnTo>
                  <a:lnTo>
                    <a:pt x="2" y="10"/>
                  </a:lnTo>
                  <a:lnTo>
                    <a:pt x="5" y="17"/>
                  </a:lnTo>
                  <a:lnTo>
                    <a:pt x="8" y="22"/>
                  </a:lnTo>
                  <a:lnTo>
                    <a:pt x="12" y="27"/>
                  </a:lnTo>
                  <a:lnTo>
                    <a:pt x="17" y="30"/>
                  </a:lnTo>
                  <a:lnTo>
                    <a:pt x="20" y="34"/>
                  </a:lnTo>
                  <a:lnTo>
                    <a:pt x="25" y="36"/>
                  </a:lnTo>
                  <a:lnTo>
                    <a:pt x="29" y="39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1" y="5"/>
                  </a:lnTo>
                  <a:lnTo>
                    <a:pt x="38" y="4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157560" y="3079800"/>
              <a:ext cx="20520" cy="144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20" y="0"/>
                  </a:moveTo>
                  <a:lnTo>
                    <a:pt x="20" y="0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8" y="13"/>
                  </a:lnTo>
                  <a:lnTo>
                    <a:pt x="3" y="19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35" y="34"/>
                  </a:lnTo>
                  <a:lnTo>
                    <a:pt x="35" y="35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7" y="34"/>
                  </a:lnTo>
                  <a:lnTo>
                    <a:pt x="39" y="31"/>
                  </a:lnTo>
                  <a:lnTo>
                    <a:pt x="42" y="28"/>
                  </a:lnTo>
                  <a:lnTo>
                    <a:pt x="45" y="24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165480" y="3065400"/>
              <a:ext cx="22320" cy="223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2" y="0"/>
                  </a:moveTo>
                  <a:lnTo>
                    <a:pt x="22" y="0"/>
                  </a:lnTo>
                  <a:lnTo>
                    <a:pt x="21" y="4"/>
                  </a:lnTo>
                  <a:lnTo>
                    <a:pt x="18" y="9"/>
                  </a:lnTo>
                  <a:lnTo>
                    <a:pt x="16" y="12"/>
                  </a:lnTo>
                  <a:lnTo>
                    <a:pt x="13" y="17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0"/>
                  </a:lnTo>
                  <a:lnTo>
                    <a:pt x="0" y="35"/>
                  </a:lnTo>
                  <a:lnTo>
                    <a:pt x="29" y="54"/>
                  </a:lnTo>
                  <a:lnTo>
                    <a:pt x="31" y="51"/>
                  </a:lnTo>
                  <a:lnTo>
                    <a:pt x="35" y="46"/>
                  </a:lnTo>
                  <a:lnTo>
                    <a:pt x="39" y="41"/>
                  </a:lnTo>
                  <a:lnTo>
                    <a:pt x="42" y="36"/>
                  </a:lnTo>
                  <a:lnTo>
                    <a:pt x="45" y="31"/>
                  </a:lnTo>
                  <a:lnTo>
                    <a:pt x="48" y="25"/>
                  </a:lnTo>
                  <a:lnTo>
                    <a:pt x="52" y="19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174840" y="3052800"/>
              <a:ext cx="16200" cy="190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7" y="6"/>
                  </a:moveTo>
                  <a:lnTo>
                    <a:pt x="7" y="6"/>
                  </a:lnTo>
                  <a:lnTo>
                    <a:pt x="7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5" y="20"/>
                  </a:lnTo>
                  <a:lnTo>
                    <a:pt x="3" y="24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32" y="45"/>
                  </a:lnTo>
                  <a:lnTo>
                    <a:pt x="35" y="41"/>
                  </a:lnTo>
                  <a:lnTo>
                    <a:pt x="36" y="36"/>
                  </a:lnTo>
                  <a:lnTo>
                    <a:pt x="38" y="31"/>
                  </a:lnTo>
                  <a:lnTo>
                    <a:pt x="39" y="25"/>
                  </a:lnTo>
                  <a:lnTo>
                    <a:pt x="41" y="19"/>
                  </a:lnTo>
                  <a:lnTo>
                    <a:pt x="41" y="13"/>
                  </a:lnTo>
                  <a:lnTo>
                    <a:pt x="42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170160" y="3033720"/>
              <a:ext cx="20880" cy="2232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0" y="13"/>
                  </a:moveTo>
                  <a:lnTo>
                    <a:pt x="0" y="13"/>
                  </a:lnTo>
                  <a:lnTo>
                    <a:pt x="3" y="19"/>
                  </a:lnTo>
                  <a:lnTo>
                    <a:pt x="6" y="26"/>
                  </a:lnTo>
                  <a:lnTo>
                    <a:pt x="9" y="31"/>
                  </a:lnTo>
                  <a:lnTo>
                    <a:pt x="12" y="37"/>
                  </a:lnTo>
                  <a:lnTo>
                    <a:pt x="14" y="42"/>
                  </a:lnTo>
                  <a:lnTo>
                    <a:pt x="17" y="46"/>
                  </a:lnTo>
                  <a:lnTo>
                    <a:pt x="18" y="50"/>
                  </a:lnTo>
                  <a:lnTo>
                    <a:pt x="19" y="55"/>
                  </a:lnTo>
                  <a:lnTo>
                    <a:pt x="53" y="49"/>
                  </a:lnTo>
                  <a:lnTo>
                    <a:pt x="51" y="42"/>
                  </a:lnTo>
                  <a:lnTo>
                    <a:pt x="49" y="34"/>
                  </a:lnTo>
                  <a:lnTo>
                    <a:pt x="47" y="27"/>
                  </a:lnTo>
                  <a:lnTo>
                    <a:pt x="43" y="21"/>
                  </a:lnTo>
                  <a:lnTo>
                    <a:pt x="41" y="15"/>
                  </a:lnTo>
                  <a:lnTo>
                    <a:pt x="37" y="9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164040" y="3024360"/>
              <a:ext cx="18720" cy="1404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0" y="3"/>
                  </a:moveTo>
                  <a:lnTo>
                    <a:pt x="0" y="3"/>
                  </a:lnTo>
                  <a:lnTo>
                    <a:pt x="1" y="9"/>
                  </a:lnTo>
                  <a:lnTo>
                    <a:pt x="3" y="15"/>
                  </a:lnTo>
                  <a:lnTo>
                    <a:pt x="4" y="20"/>
                  </a:lnTo>
                  <a:lnTo>
                    <a:pt x="7" y="24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4"/>
                  </a:lnTo>
                  <a:lnTo>
                    <a:pt x="13" y="37"/>
                  </a:lnTo>
                  <a:lnTo>
                    <a:pt x="45" y="24"/>
                  </a:lnTo>
                  <a:lnTo>
                    <a:pt x="44" y="19"/>
                  </a:lnTo>
                  <a:lnTo>
                    <a:pt x="42" y="15"/>
                  </a:lnTo>
                  <a:lnTo>
                    <a:pt x="39" y="12"/>
                  </a:lnTo>
                  <a:lnTo>
                    <a:pt x="38" y="8"/>
                  </a:lnTo>
                  <a:lnTo>
                    <a:pt x="37" y="6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164040" y="3009960"/>
              <a:ext cx="14040" cy="158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0"/>
                  </a:moveTo>
                  <a:lnTo>
                    <a:pt x="14" y="0"/>
                  </a:lnTo>
                  <a:lnTo>
                    <a:pt x="9" y="4"/>
                  </a:lnTo>
                  <a:lnTo>
                    <a:pt x="6" y="9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4" y="36"/>
                  </a:lnTo>
                  <a:lnTo>
                    <a:pt x="34" y="34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170160" y="3006720"/>
              <a:ext cx="22320" cy="1440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35" y="0"/>
                  </a:moveTo>
                  <a:lnTo>
                    <a:pt x="35" y="0"/>
                  </a:lnTo>
                  <a:lnTo>
                    <a:pt x="35" y="0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6" y="3"/>
                  </a:lnTo>
                  <a:lnTo>
                    <a:pt x="7" y="5"/>
                  </a:lnTo>
                  <a:lnTo>
                    <a:pt x="0" y="9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6" y="3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184560" y="2992320"/>
              <a:ext cx="23760" cy="2556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3" y="0"/>
                  </a:moveTo>
                  <a:lnTo>
                    <a:pt x="33" y="0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1" y="15"/>
                  </a:lnTo>
                  <a:lnTo>
                    <a:pt x="18" y="19"/>
                  </a:lnTo>
                  <a:lnTo>
                    <a:pt x="13" y="24"/>
                  </a:lnTo>
                  <a:lnTo>
                    <a:pt x="9" y="27"/>
                  </a:lnTo>
                  <a:lnTo>
                    <a:pt x="5" y="31"/>
                  </a:lnTo>
                  <a:lnTo>
                    <a:pt x="0" y="33"/>
                  </a:lnTo>
                  <a:lnTo>
                    <a:pt x="19" y="63"/>
                  </a:lnTo>
                  <a:lnTo>
                    <a:pt x="25" y="58"/>
                  </a:lnTo>
                  <a:lnTo>
                    <a:pt x="31" y="54"/>
                  </a:lnTo>
                  <a:lnTo>
                    <a:pt x="37" y="49"/>
                  </a:lnTo>
                  <a:lnTo>
                    <a:pt x="43" y="43"/>
                  </a:lnTo>
                  <a:lnTo>
                    <a:pt x="48" y="38"/>
                  </a:lnTo>
                  <a:lnTo>
                    <a:pt x="53" y="32"/>
                  </a:lnTo>
                  <a:lnTo>
                    <a:pt x="57" y="26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197160" y="2973240"/>
              <a:ext cx="22320" cy="28800"/>
            </a:xfrm>
            <a:custGeom>
              <a:avLst/>
              <a:gdLst/>
              <a:ahLst/>
              <a:rect l="l" t="t" r="r" b="b"/>
              <a:pathLst>
                <a:path w="56" h="71">
                  <a:moveTo>
                    <a:pt x="26" y="0"/>
                  </a:moveTo>
                  <a:lnTo>
                    <a:pt x="26" y="0"/>
                  </a:lnTo>
                  <a:lnTo>
                    <a:pt x="22" y="7"/>
                  </a:lnTo>
                  <a:lnTo>
                    <a:pt x="18" y="15"/>
                  </a:lnTo>
                  <a:lnTo>
                    <a:pt x="15" y="22"/>
                  </a:lnTo>
                  <a:lnTo>
                    <a:pt x="12" y="28"/>
                  </a:lnTo>
                  <a:lnTo>
                    <a:pt x="10" y="35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0" y="51"/>
                  </a:lnTo>
                  <a:lnTo>
                    <a:pt x="29" y="71"/>
                  </a:lnTo>
                  <a:lnTo>
                    <a:pt x="33" y="64"/>
                  </a:lnTo>
                  <a:lnTo>
                    <a:pt x="38" y="57"/>
                  </a:lnTo>
                  <a:lnTo>
                    <a:pt x="41" y="49"/>
                  </a:lnTo>
                  <a:lnTo>
                    <a:pt x="44" y="42"/>
                  </a:lnTo>
                  <a:lnTo>
                    <a:pt x="47" y="35"/>
                  </a:lnTo>
                  <a:lnTo>
                    <a:pt x="50" y="29"/>
                  </a:lnTo>
                  <a:lnTo>
                    <a:pt x="53" y="23"/>
                  </a:lnTo>
                  <a:lnTo>
                    <a:pt x="56" y="17"/>
                  </a:lnTo>
                  <a:lnTo>
                    <a:pt x="56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206880" y="2948040"/>
              <a:ext cx="27000" cy="3168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42" y="0"/>
                  </a:moveTo>
                  <a:lnTo>
                    <a:pt x="42" y="0"/>
                  </a:lnTo>
                  <a:lnTo>
                    <a:pt x="34" y="7"/>
                  </a:lnTo>
                  <a:lnTo>
                    <a:pt x="27" y="16"/>
                  </a:lnTo>
                  <a:lnTo>
                    <a:pt x="22" y="23"/>
                  </a:lnTo>
                  <a:lnTo>
                    <a:pt x="16" y="31"/>
                  </a:lnTo>
                  <a:lnTo>
                    <a:pt x="13" y="39"/>
                  </a:lnTo>
                  <a:lnTo>
                    <a:pt x="8" y="47"/>
                  </a:lnTo>
                  <a:lnTo>
                    <a:pt x="4" y="55"/>
                  </a:lnTo>
                  <a:lnTo>
                    <a:pt x="0" y="62"/>
                  </a:lnTo>
                  <a:lnTo>
                    <a:pt x="30" y="79"/>
                  </a:lnTo>
                  <a:lnTo>
                    <a:pt x="34" y="72"/>
                  </a:lnTo>
                  <a:lnTo>
                    <a:pt x="38" y="63"/>
                  </a:lnTo>
                  <a:lnTo>
                    <a:pt x="43" y="56"/>
                  </a:lnTo>
                  <a:lnTo>
                    <a:pt x="46" y="49"/>
                  </a:lnTo>
                  <a:lnTo>
                    <a:pt x="51" y="42"/>
                  </a:lnTo>
                  <a:lnTo>
                    <a:pt x="55" y="36"/>
                  </a:lnTo>
                  <a:lnTo>
                    <a:pt x="60" y="31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224160" y="2935440"/>
              <a:ext cx="31680" cy="23760"/>
            </a:xfrm>
            <a:custGeom>
              <a:avLst/>
              <a:gdLst/>
              <a:ahLst/>
              <a:rect l="l" t="t" r="r" b="b"/>
              <a:pathLst>
                <a:path w="80" h="61">
                  <a:moveTo>
                    <a:pt x="72" y="0"/>
                  </a:moveTo>
                  <a:lnTo>
                    <a:pt x="72" y="0"/>
                  </a:lnTo>
                  <a:lnTo>
                    <a:pt x="62" y="3"/>
                  </a:lnTo>
                  <a:lnTo>
                    <a:pt x="52" y="6"/>
                  </a:lnTo>
                  <a:lnTo>
                    <a:pt x="44" y="9"/>
                  </a:lnTo>
                  <a:lnTo>
                    <a:pt x="34" y="13"/>
                  </a:lnTo>
                  <a:lnTo>
                    <a:pt x="25" y="18"/>
                  </a:lnTo>
                  <a:lnTo>
                    <a:pt x="16" y="23"/>
                  </a:lnTo>
                  <a:lnTo>
                    <a:pt x="8" y="29"/>
                  </a:lnTo>
                  <a:lnTo>
                    <a:pt x="0" y="35"/>
                  </a:lnTo>
                  <a:lnTo>
                    <a:pt x="22" y="61"/>
                  </a:lnTo>
                  <a:lnTo>
                    <a:pt x="28" y="57"/>
                  </a:lnTo>
                  <a:lnTo>
                    <a:pt x="34" y="52"/>
                  </a:lnTo>
                  <a:lnTo>
                    <a:pt x="42" y="48"/>
                  </a:lnTo>
                  <a:lnTo>
                    <a:pt x="49" y="45"/>
                  </a:lnTo>
                  <a:lnTo>
                    <a:pt x="56" y="41"/>
                  </a:lnTo>
                  <a:lnTo>
                    <a:pt x="64" y="39"/>
                  </a:lnTo>
                  <a:lnTo>
                    <a:pt x="72" y="36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252960" y="2932200"/>
              <a:ext cx="28440" cy="158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5"/>
                  </a:moveTo>
                  <a:lnTo>
                    <a:pt x="73" y="5"/>
                  </a:lnTo>
                  <a:lnTo>
                    <a:pt x="63" y="3"/>
                  </a:lnTo>
                  <a:lnTo>
                    <a:pt x="55" y="2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7" y="2"/>
                  </a:lnTo>
                  <a:lnTo>
                    <a:pt x="18" y="2"/>
                  </a:lnTo>
                  <a:lnTo>
                    <a:pt x="9" y="3"/>
                  </a:lnTo>
                  <a:lnTo>
                    <a:pt x="0" y="5"/>
                  </a:lnTo>
                  <a:lnTo>
                    <a:pt x="8" y="39"/>
                  </a:lnTo>
                  <a:lnTo>
                    <a:pt x="15" y="38"/>
                  </a:lnTo>
                  <a:lnTo>
                    <a:pt x="22" y="36"/>
                  </a:lnTo>
                  <a:lnTo>
                    <a:pt x="30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57" y="38"/>
                  </a:lnTo>
                  <a:lnTo>
                    <a:pt x="64" y="39"/>
                  </a:lnTo>
                  <a:lnTo>
                    <a:pt x="64" y="39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278160" y="2935440"/>
              <a:ext cx="20520" cy="219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29"/>
                  </a:moveTo>
                  <a:lnTo>
                    <a:pt x="51" y="29"/>
                  </a:lnTo>
                  <a:lnTo>
                    <a:pt x="47" y="27"/>
                  </a:lnTo>
                  <a:lnTo>
                    <a:pt x="44" y="23"/>
                  </a:lnTo>
                  <a:lnTo>
                    <a:pt x="39" y="19"/>
                  </a:lnTo>
                  <a:lnTo>
                    <a:pt x="35" y="16"/>
                  </a:lnTo>
                  <a:lnTo>
                    <a:pt x="29" y="11"/>
                  </a:lnTo>
                  <a:lnTo>
                    <a:pt x="23" y="6"/>
                  </a:lnTo>
                  <a:lnTo>
                    <a:pt x="17" y="3"/>
                  </a:lnTo>
                  <a:lnTo>
                    <a:pt x="9" y="0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5" y="36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16" y="45"/>
                  </a:lnTo>
                  <a:lnTo>
                    <a:pt x="20" y="49"/>
                  </a:lnTo>
                  <a:lnTo>
                    <a:pt x="24" y="53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90760" y="2946240"/>
              <a:ext cx="20880" cy="2232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24"/>
                  </a:moveTo>
                  <a:lnTo>
                    <a:pt x="52" y="24"/>
                  </a:lnTo>
                  <a:lnTo>
                    <a:pt x="48" y="23"/>
                  </a:lnTo>
                  <a:lnTo>
                    <a:pt x="46" y="22"/>
                  </a:lnTo>
                  <a:lnTo>
                    <a:pt x="42" y="19"/>
                  </a:lnTo>
                  <a:lnTo>
                    <a:pt x="39" y="16"/>
                  </a:lnTo>
                  <a:lnTo>
                    <a:pt x="35" y="12"/>
                  </a:lnTo>
                  <a:lnTo>
                    <a:pt x="30" y="8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0" y="29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8"/>
                  </a:lnTo>
                  <a:lnTo>
                    <a:pt x="16" y="42"/>
                  </a:lnTo>
                  <a:lnTo>
                    <a:pt x="22" y="47"/>
                  </a:lnTo>
                  <a:lnTo>
                    <a:pt x="27" y="50"/>
                  </a:lnTo>
                  <a:lnTo>
                    <a:pt x="34" y="54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306600" y="2955960"/>
              <a:ext cx="24120" cy="1584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59" y="4"/>
                  </a:moveTo>
                  <a:lnTo>
                    <a:pt x="59" y="4"/>
                  </a:lnTo>
                  <a:lnTo>
                    <a:pt x="53" y="5"/>
                  </a:lnTo>
                  <a:lnTo>
                    <a:pt x="46" y="5"/>
                  </a:lnTo>
                  <a:lnTo>
                    <a:pt x="40" y="5"/>
                  </a:lnTo>
                  <a:lnTo>
                    <a:pt x="34" y="5"/>
                  </a:lnTo>
                  <a:lnTo>
                    <a:pt x="28" y="4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33"/>
                  </a:lnTo>
                  <a:lnTo>
                    <a:pt x="7" y="36"/>
                  </a:lnTo>
                  <a:lnTo>
                    <a:pt x="16" y="37"/>
                  </a:lnTo>
                  <a:lnTo>
                    <a:pt x="23" y="38"/>
                  </a:lnTo>
                  <a:lnTo>
                    <a:pt x="31" y="39"/>
                  </a:lnTo>
                  <a:lnTo>
                    <a:pt x="39" y="39"/>
                  </a:lnTo>
                  <a:lnTo>
                    <a:pt x="47" y="39"/>
                  </a:lnTo>
                  <a:lnTo>
                    <a:pt x="54" y="39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330720" y="2952720"/>
              <a:ext cx="20520" cy="176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0" y="0"/>
                  </a:moveTo>
                  <a:lnTo>
                    <a:pt x="50" y="0"/>
                  </a:lnTo>
                  <a:lnTo>
                    <a:pt x="42" y="1"/>
                  </a:lnTo>
                  <a:lnTo>
                    <a:pt x="35" y="2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2" y="45"/>
                  </a:lnTo>
                  <a:lnTo>
                    <a:pt x="11" y="45"/>
                  </a:lnTo>
                  <a:lnTo>
                    <a:pt x="18" y="43"/>
                  </a:lnTo>
                  <a:lnTo>
                    <a:pt x="25" y="42"/>
                  </a:lnTo>
                  <a:lnTo>
                    <a:pt x="31" y="39"/>
                  </a:lnTo>
                  <a:lnTo>
                    <a:pt x="37" y="37"/>
                  </a:lnTo>
                  <a:lnTo>
                    <a:pt x="43" y="36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54" y="3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49800" y="2951280"/>
              <a:ext cx="23760" cy="1404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58" y="11"/>
                  </a:moveTo>
                  <a:lnTo>
                    <a:pt x="58" y="11"/>
                  </a:lnTo>
                  <a:lnTo>
                    <a:pt x="50" y="5"/>
                  </a:lnTo>
                  <a:lnTo>
                    <a:pt x="40" y="1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0" y="4"/>
                  </a:lnTo>
                  <a:lnTo>
                    <a:pt x="4" y="37"/>
                  </a:lnTo>
                  <a:lnTo>
                    <a:pt x="10" y="37"/>
                  </a:lnTo>
                  <a:lnTo>
                    <a:pt x="16" y="36"/>
                  </a:lnTo>
                  <a:lnTo>
                    <a:pt x="21" y="35"/>
                  </a:lnTo>
                  <a:lnTo>
                    <a:pt x="26" y="35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3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58" y="1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359160" y="2955960"/>
              <a:ext cx="15840" cy="2052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34" y="53"/>
                  </a:moveTo>
                  <a:lnTo>
                    <a:pt x="34" y="53"/>
                  </a:lnTo>
                  <a:lnTo>
                    <a:pt x="35" y="49"/>
                  </a:lnTo>
                  <a:lnTo>
                    <a:pt x="36" y="45"/>
                  </a:lnTo>
                  <a:lnTo>
                    <a:pt x="37" y="41"/>
                  </a:lnTo>
                  <a:lnTo>
                    <a:pt x="40" y="35"/>
                  </a:lnTo>
                  <a:lnTo>
                    <a:pt x="42" y="27"/>
                  </a:lnTo>
                  <a:lnTo>
                    <a:pt x="42" y="19"/>
                  </a:lnTo>
                  <a:lnTo>
                    <a:pt x="40" y="10"/>
                  </a:lnTo>
                  <a:lnTo>
                    <a:pt x="35" y="0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5"/>
                  </a:lnTo>
                  <a:lnTo>
                    <a:pt x="5" y="29"/>
                  </a:lnTo>
                  <a:lnTo>
                    <a:pt x="4" y="35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34" y="5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355920" y="2975040"/>
              <a:ext cx="15840" cy="172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35" y="38"/>
                  </a:moveTo>
                  <a:lnTo>
                    <a:pt x="35" y="38"/>
                  </a:lnTo>
                  <a:lnTo>
                    <a:pt x="35" y="36"/>
                  </a:lnTo>
                  <a:lnTo>
                    <a:pt x="35" y="33"/>
                  </a:lnTo>
                  <a:lnTo>
                    <a:pt x="35" y="30"/>
                  </a:lnTo>
                  <a:lnTo>
                    <a:pt x="36" y="26"/>
                  </a:lnTo>
                  <a:lnTo>
                    <a:pt x="37" y="21"/>
                  </a:lnTo>
                  <a:lnTo>
                    <a:pt x="39" y="17"/>
                  </a:lnTo>
                  <a:lnTo>
                    <a:pt x="40" y="11"/>
                  </a:lnTo>
                  <a:lnTo>
                    <a:pt x="40" y="5"/>
                  </a:lnTo>
                  <a:lnTo>
                    <a:pt x="6" y="0"/>
                  </a:lnTo>
                  <a:lnTo>
                    <a:pt x="5" y="3"/>
                  </a:lnTo>
                  <a:lnTo>
                    <a:pt x="4" y="8"/>
                  </a:lnTo>
                  <a:lnTo>
                    <a:pt x="3" y="13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1" y="47"/>
                  </a:lnTo>
                  <a:lnTo>
                    <a:pt x="1" y="47"/>
                  </a:lnTo>
                  <a:lnTo>
                    <a:pt x="35" y="3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357720" y="2989440"/>
              <a:ext cx="14040" cy="15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4"/>
                  </a:moveTo>
                  <a:lnTo>
                    <a:pt x="39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9"/>
                  </a:lnTo>
                  <a:lnTo>
                    <a:pt x="3" y="15"/>
                  </a:lnTo>
                  <a:lnTo>
                    <a:pt x="5" y="21"/>
                  </a:lnTo>
                  <a:lnTo>
                    <a:pt x="9" y="25"/>
                  </a:lnTo>
                  <a:lnTo>
                    <a:pt x="14" y="29"/>
                  </a:lnTo>
                  <a:lnTo>
                    <a:pt x="17" y="33"/>
                  </a:lnTo>
                  <a:lnTo>
                    <a:pt x="23" y="35"/>
                  </a:lnTo>
                  <a:lnTo>
                    <a:pt x="28" y="37"/>
                  </a:lnTo>
                  <a:lnTo>
                    <a:pt x="34" y="39"/>
                  </a:lnTo>
                  <a:lnTo>
                    <a:pt x="34" y="39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370320" y="2987640"/>
              <a:ext cx="22320" cy="1764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41" y="0"/>
                  </a:moveTo>
                  <a:lnTo>
                    <a:pt x="41" y="0"/>
                  </a:lnTo>
                  <a:lnTo>
                    <a:pt x="36" y="1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8" y="8"/>
                  </a:lnTo>
                  <a:lnTo>
                    <a:pt x="5" y="7"/>
                  </a:lnTo>
                  <a:lnTo>
                    <a:pt x="0" y="42"/>
                  </a:lnTo>
                  <a:lnTo>
                    <a:pt x="8" y="43"/>
                  </a:lnTo>
                  <a:lnTo>
                    <a:pt x="16" y="42"/>
                  </a:lnTo>
                  <a:lnTo>
                    <a:pt x="23" y="42"/>
                  </a:lnTo>
                  <a:lnTo>
                    <a:pt x="30" y="39"/>
                  </a:lnTo>
                  <a:lnTo>
                    <a:pt x="36" y="38"/>
                  </a:lnTo>
                  <a:lnTo>
                    <a:pt x="43" y="36"/>
                  </a:lnTo>
                  <a:lnTo>
                    <a:pt x="49" y="33"/>
                  </a:lnTo>
                  <a:lnTo>
                    <a:pt x="55" y="31"/>
                  </a:lnTo>
                  <a:lnTo>
                    <a:pt x="55" y="3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386160" y="2975040"/>
              <a:ext cx="27000" cy="2520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48" y="0"/>
                  </a:moveTo>
                  <a:lnTo>
                    <a:pt x="48" y="0"/>
                  </a:lnTo>
                  <a:lnTo>
                    <a:pt x="41" y="5"/>
                  </a:lnTo>
                  <a:lnTo>
                    <a:pt x="35" y="9"/>
                  </a:lnTo>
                  <a:lnTo>
                    <a:pt x="27" y="14"/>
                  </a:lnTo>
                  <a:lnTo>
                    <a:pt x="21" y="19"/>
                  </a:lnTo>
                  <a:lnTo>
                    <a:pt x="17" y="24"/>
                  </a:lnTo>
                  <a:lnTo>
                    <a:pt x="11" y="27"/>
                  </a:lnTo>
                  <a:lnTo>
                    <a:pt x="5" y="31"/>
                  </a:lnTo>
                  <a:lnTo>
                    <a:pt x="0" y="35"/>
                  </a:lnTo>
                  <a:lnTo>
                    <a:pt x="14" y="66"/>
                  </a:lnTo>
                  <a:lnTo>
                    <a:pt x="23" y="61"/>
                  </a:lnTo>
                  <a:lnTo>
                    <a:pt x="30" y="56"/>
                  </a:lnTo>
                  <a:lnTo>
                    <a:pt x="37" y="51"/>
                  </a:lnTo>
                  <a:lnTo>
                    <a:pt x="43" y="47"/>
                  </a:lnTo>
                  <a:lnTo>
                    <a:pt x="49" y="42"/>
                  </a:lnTo>
                  <a:lnTo>
                    <a:pt x="55" y="37"/>
                  </a:lnTo>
                  <a:lnTo>
                    <a:pt x="61" y="32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405240" y="2963880"/>
              <a:ext cx="23760" cy="2232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3" y="0"/>
                  </a:moveTo>
                  <a:lnTo>
                    <a:pt x="53" y="0"/>
                  </a:lnTo>
                  <a:lnTo>
                    <a:pt x="43" y="1"/>
                  </a:lnTo>
                  <a:lnTo>
                    <a:pt x="35" y="5"/>
                  </a:lnTo>
                  <a:lnTo>
                    <a:pt x="27" y="8"/>
                  </a:lnTo>
                  <a:lnTo>
                    <a:pt x="21" y="13"/>
                  </a:lnTo>
                  <a:lnTo>
                    <a:pt x="15" y="17"/>
                  </a:lnTo>
                  <a:lnTo>
                    <a:pt x="9" y="22"/>
                  </a:lnTo>
                  <a:lnTo>
                    <a:pt x="5" y="25"/>
                  </a:lnTo>
                  <a:lnTo>
                    <a:pt x="0" y="29"/>
                  </a:lnTo>
                  <a:lnTo>
                    <a:pt x="19" y="58"/>
                  </a:lnTo>
                  <a:lnTo>
                    <a:pt x="25" y="53"/>
                  </a:lnTo>
                  <a:lnTo>
                    <a:pt x="31" y="49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49" y="36"/>
                  </a:lnTo>
                  <a:lnTo>
                    <a:pt x="54" y="35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425760" y="2962440"/>
              <a:ext cx="27000" cy="18720"/>
            </a:xfrm>
            <a:custGeom>
              <a:avLst/>
              <a:gdLst/>
              <a:ahLst/>
              <a:rect l="l" t="t" r="r" b="b"/>
              <a:pathLst>
                <a:path w="64" h="47">
                  <a:moveTo>
                    <a:pt x="64" y="18"/>
                  </a:moveTo>
                  <a:lnTo>
                    <a:pt x="64" y="18"/>
                  </a:lnTo>
                  <a:lnTo>
                    <a:pt x="57" y="13"/>
                  </a:lnTo>
                  <a:lnTo>
                    <a:pt x="50" y="9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"/>
                  </a:lnTo>
                  <a:lnTo>
                    <a:pt x="4" y="35"/>
                  </a:lnTo>
                  <a:lnTo>
                    <a:pt x="9" y="35"/>
                  </a:lnTo>
                  <a:lnTo>
                    <a:pt x="14" y="35"/>
                  </a:lnTo>
                  <a:lnTo>
                    <a:pt x="19" y="36"/>
                  </a:lnTo>
                  <a:lnTo>
                    <a:pt x="25" y="37"/>
                  </a:lnTo>
                  <a:lnTo>
                    <a:pt x="30" y="38"/>
                  </a:lnTo>
                  <a:lnTo>
                    <a:pt x="34" y="41"/>
                  </a:lnTo>
                  <a:lnTo>
                    <a:pt x="40" y="43"/>
                  </a:lnTo>
                  <a:lnTo>
                    <a:pt x="44" y="47"/>
                  </a:lnTo>
                  <a:lnTo>
                    <a:pt x="44" y="47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444840" y="2970360"/>
              <a:ext cx="22320" cy="2520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58" y="54"/>
                  </a:moveTo>
                  <a:lnTo>
                    <a:pt x="58" y="54"/>
                  </a:lnTo>
                  <a:lnTo>
                    <a:pt x="55" y="47"/>
                  </a:lnTo>
                  <a:lnTo>
                    <a:pt x="52" y="39"/>
                  </a:lnTo>
                  <a:lnTo>
                    <a:pt x="48" y="32"/>
                  </a:lnTo>
                  <a:lnTo>
                    <a:pt x="43" y="25"/>
                  </a:lnTo>
                  <a:lnTo>
                    <a:pt x="38" y="18"/>
                  </a:lnTo>
                  <a:lnTo>
                    <a:pt x="34" y="12"/>
                  </a:lnTo>
                  <a:lnTo>
                    <a:pt x="28" y="6"/>
                  </a:lnTo>
                  <a:lnTo>
                    <a:pt x="20" y="0"/>
                  </a:lnTo>
                  <a:lnTo>
                    <a:pt x="0" y="29"/>
                  </a:lnTo>
                  <a:lnTo>
                    <a:pt x="5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4" y="44"/>
                  </a:lnTo>
                  <a:lnTo>
                    <a:pt x="18" y="49"/>
                  </a:lnTo>
                  <a:lnTo>
                    <a:pt x="20" y="54"/>
                  </a:lnTo>
                  <a:lnTo>
                    <a:pt x="23" y="60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58" y="5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454560" y="2990880"/>
              <a:ext cx="14040" cy="2376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36" y="59"/>
                  </a:moveTo>
                  <a:lnTo>
                    <a:pt x="36" y="59"/>
                  </a:lnTo>
                  <a:lnTo>
                    <a:pt x="37" y="51"/>
                  </a:lnTo>
                  <a:lnTo>
                    <a:pt x="37" y="44"/>
                  </a:lnTo>
                  <a:lnTo>
                    <a:pt x="39" y="37"/>
                  </a:lnTo>
                  <a:lnTo>
                    <a:pt x="39" y="30"/>
                  </a:lnTo>
                  <a:lnTo>
                    <a:pt x="37" y="23"/>
                  </a:lnTo>
                  <a:lnTo>
                    <a:pt x="36" y="15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7"/>
                  </a:lnTo>
                  <a:lnTo>
                    <a:pt x="3" y="42"/>
                  </a:lnTo>
                  <a:lnTo>
                    <a:pt x="3" y="48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448080" y="3011400"/>
              <a:ext cx="20520" cy="31680"/>
            </a:xfrm>
            <a:custGeom>
              <a:avLst/>
              <a:gdLst/>
              <a:ahLst/>
              <a:rect l="l" t="t" r="r" b="b"/>
              <a:pathLst>
                <a:path w="53" h="78">
                  <a:moveTo>
                    <a:pt x="28" y="78"/>
                  </a:moveTo>
                  <a:lnTo>
                    <a:pt x="28" y="78"/>
                  </a:lnTo>
                  <a:lnTo>
                    <a:pt x="34" y="69"/>
                  </a:lnTo>
                  <a:lnTo>
                    <a:pt x="39" y="61"/>
                  </a:lnTo>
                  <a:lnTo>
                    <a:pt x="42" y="51"/>
                  </a:lnTo>
                  <a:lnTo>
                    <a:pt x="46" y="42"/>
                  </a:lnTo>
                  <a:lnTo>
                    <a:pt x="48" y="32"/>
                  </a:lnTo>
                  <a:lnTo>
                    <a:pt x="50" y="24"/>
                  </a:lnTo>
                  <a:lnTo>
                    <a:pt x="52" y="14"/>
                  </a:lnTo>
                  <a:lnTo>
                    <a:pt x="53" y="6"/>
                  </a:lnTo>
                  <a:lnTo>
                    <a:pt x="18" y="0"/>
                  </a:lnTo>
                  <a:lnTo>
                    <a:pt x="17" y="8"/>
                  </a:lnTo>
                  <a:lnTo>
                    <a:pt x="16" y="16"/>
                  </a:lnTo>
                  <a:lnTo>
                    <a:pt x="15" y="25"/>
                  </a:lnTo>
                  <a:lnTo>
                    <a:pt x="12" y="32"/>
                  </a:lnTo>
                  <a:lnTo>
                    <a:pt x="10" y="39"/>
                  </a:lnTo>
                  <a:lnTo>
                    <a:pt x="8" y="45"/>
                  </a:lnTo>
                  <a:lnTo>
                    <a:pt x="4" y="5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28" y="7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422520" y="3035160"/>
              <a:ext cx="36720" cy="3024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17" y="78"/>
                  </a:moveTo>
                  <a:lnTo>
                    <a:pt x="17" y="78"/>
                  </a:lnTo>
                  <a:lnTo>
                    <a:pt x="26" y="72"/>
                  </a:lnTo>
                  <a:lnTo>
                    <a:pt x="36" y="67"/>
                  </a:lnTo>
                  <a:lnTo>
                    <a:pt x="45" y="61"/>
                  </a:lnTo>
                  <a:lnTo>
                    <a:pt x="55" y="54"/>
                  </a:lnTo>
                  <a:lnTo>
                    <a:pt x="65" y="47"/>
                  </a:lnTo>
                  <a:lnTo>
                    <a:pt x="74" y="39"/>
                  </a:lnTo>
                  <a:lnTo>
                    <a:pt x="83" y="30"/>
                  </a:lnTo>
                  <a:lnTo>
                    <a:pt x="91" y="21"/>
                  </a:lnTo>
                  <a:lnTo>
                    <a:pt x="63" y="0"/>
                  </a:lnTo>
                  <a:lnTo>
                    <a:pt x="57" y="7"/>
                  </a:lnTo>
                  <a:lnTo>
                    <a:pt x="51" y="13"/>
                  </a:lnTo>
                  <a:lnTo>
                    <a:pt x="43" y="19"/>
                  </a:lnTo>
                  <a:lnTo>
                    <a:pt x="36" y="25"/>
                  </a:lnTo>
                  <a:lnTo>
                    <a:pt x="27" y="31"/>
                  </a:lnTo>
                  <a:lnTo>
                    <a:pt x="18" y="37"/>
                  </a:lnTo>
                  <a:lnTo>
                    <a:pt x="8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402000" y="3054240"/>
              <a:ext cx="27000" cy="2088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4" y="52"/>
                  </a:moveTo>
                  <a:lnTo>
                    <a:pt x="4" y="52"/>
                  </a:lnTo>
                  <a:lnTo>
                    <a:pt x="12" y="51"/>
                  </a:lnTo>
                  <a:lnTo>
                    <a:pt x="21" y="49"/>
                  </a:lnTo>
                  <a:lnTo>
                    <a:pt x="29" y="47"/>
                  </a:lnTo>
                  <a:lnTo>
                    <a:pt x="37" y="45"/>
                  </a:lnTo>
                  <a:lnTo>
                    <a:pt x="46" y="41"/>
                  </a:lnTo>
                  <a:lnTo>
                    <a:pt x="53" y="37"/>
                  </a:lnTo>
                  <a:lnTo>
                    <a:pt x="61" y="34"/>
                  </a:lnTo>
                  <a:lnTo>
                    <a:pt x="69" y="30"/>
                  </a:lnTo>
                  <a:lnTo>
                    <a:pt x="52" y="0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3" y="9"/>
                  </a:lnTo>
                  <a:lnTo>
                    <a:pt x="27" y="11"/>
                  </a:lnTo>
                  <a:lnTo>
                    <a:pt x="21" y="13"/>
                  </a:lnTo>
                  <a:lnTo>
                    <a:pt x="13" y="15"/>
                  </a:lnTo>
                  <a:lnTo>
                    <a:pt x="7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382920" y="3059280"/>
              <a:ext cx="20520" cy="1584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8"/>
                  </a:moveTo>
                  <a:lnTo>
                    <a:pt x="0" y="28"/>
                  </a:lnTo>
                  <a:lnTo>
                    <a:pt x="6" y="31"/>
                  </a:lnTo>
                  <a:lnTo>
                    <a:pt x="12" y="35"/>
                  </a:lnTo>
                  <a:lnTo>
                    <a:pt x="18" y="37"/>
                  </a:lnTo>
                  <a:lnTo>
                    <a:pt x="26" y="40"/>
                  </a:lnTo>
                  <a:lnTo>
                    <a:pt x="32" y="41"/>
                  </a:lnTo>
                  <a:lnTo>
                    <a:pt x="39" y="41"/>
                  </a:lnTo>
                  <a:lnTo>
                    <a:pt x="45" y="41"/>
                  </a:lnTo>
                  <a:lnTo>
                    <a:pt x="51" y="41"/>
                  </a:lnTo>
                  <a:lnTo>
                    <a:pt x="47" y="6"/>
                  </a:lnTo>
                  <a:lnTo>
                    <a:pt x="44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3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378240" y="3051000"/>
              <a:ext cx="14400" cy="1764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3" y="26"/>
                  </a:lnTo>
                  <a:lnTo>
                    <a:pt x="4" y="32"/>
                  </a:lnTo>
                  <a:lnTo>
                    <a:pt x="7" y="40"/>
                  </a:lnTo>
                  <a:lnTo>
                    <a:pt x="13" y="46"/>
                  </a:lnTo>
                  <a:lnTo>
                    <a:pt x="35" y="18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5" y="13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76440" y="3032280"/>
              <a:ext cx="14400" cy="2196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0" y="23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37" y="49"/>
                  </a:lnTo>
                  <a:lnTo>
                    <a:pt x="37" y="45"/>
                  </a:lnTo>
                  <a:lnTo>
                    <a:pt x="37" y="41"/>
                  </a:lnTo>
                  <a:lnTo>
                    <a:pt x="37" y="36"/>
                  </a:lnTo>
                  <a:lnTo>
                    <a:pt x="36" y="30"/>
                  </a:lnTo>
                  <a:lnTo>
                    <a:pt x="36" y="23"/>
                  </a:lnTo>
                  <a:lnTo>
                    <a:pt x="34" y="15"/>
                  </a:lnTo>
                  <a:lnTo>
                    <a:pt x="31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367080" y="3029040"/>
              <a:ext cx="20520" cy="1404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21" y="39"/>
                  </a:moveTo>
                  <a:lnTo>
                    <a:pt x="21" y="39"/>
                  </a:lnTo>
                  <a:lnTo>
                    <a:pt x="22" y="38"/>
                  </a:lnTo>
                  <a:lnTo>
                    <a:pt x="25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2"/>
                  </a:lnTo>
                  <a:lnTo>
                    <a:pt x="50" y="9"/>
                  </a:lnTo>
                  <a:lnTo>
                    <a:pt x="42" y="3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3"/>
                  </a:lnTo>
                  <a:lnTo>
                    <a:pt x="8" y="5"/>
                  </a:lnTo>
                  <a:lnTo>
                    <a:pt x="3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1" y="3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359160" y="3032280"/>
              <a:ext cx="15840" cy="20520"/>
            </a:xfrm>
            <a:custGeom>
              <a:avLst/>
              <a:gdLst/>
              <a:ahLst/>
              <a:rect l="l" t="t" r="r" b="b"/>
              <a:pathLst>
                <a:path w="41" h="52">
                  <a:moveTo>
                    <a:pt x="32" y="52"/>
                  </a:moveTo>
                  <a:lnTo>
                    <a:pt x="32" y="52"/>
                  </a:lnTo>
                  <a:lnTo>
                    <a:pt x="34" y="46"/>
                  </a:lnTo>
                  <a:lnTo>
                    <a:pt x="35" y="41"/>
                  </a:lnTo>
                  <a:lnTo>
                    <a:pt x="38" y="37"/>
                  </a:lnTo>
                  <a:lnTo>
                    <a:pt x="39" y="34"/>
                  </a:lnTo>
                  <a:lnTo>
                    <a:pt x="40" y="31"/>
                  </a:lnTo>
                  <a:lnTo>
                    <a:pt x="40" y="29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8" y="17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354480" y="3046320"/>
              <a:ext cx="17280" cy="223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17" y="55"/>
                  </a:moveTo>
                  <a:lnTo>
                    <a:pt x="17" y="55"/>
                  </a:lnTo>
                  <a:lnTo>
                    <a:pt x="24" y="50"/>
                  </a:lnTo>
                  <a:lnTo>
                    <a:pt x="29" y="45"/>
                  </a:lnTo>
                  <a:lnTo>
                    <a:pt x="33" y="39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40" y="24"/>
                  </a:lnTo>
                  <a:lnTo>
                    <a:pt x="41" y="20"/>
                  </a:lnTo>
                  <a:lnTo>
                    <a:pt x="44" y="18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7" y="5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340080" y="3056040"/>
              <a:ext cx="20520" cy="1404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32"/>
                  </a:moveTo>
                  <a:lnTo>
                    <a:pt x="0" y="32"/>
                  </a:lnTo>
                  <a:lnTo>
                    <a:pt x="6" y="35"/>
                  </a:lnTo>
                  <a:lnTo>
                    <a:pt x="12" y="36"/>
                  </a:lnTo>
                  <a:lnTo>
                    <a:pt x="18" y="37"/>
                  </a:lnTo>
                  <a:lnTo>
                    <a:pt x="26" y="37"/>
                  </a:lnTo>
                  <a:lnTo>
                    <a:pt x="33" y="37"/>
                  </a:lnTo>
                  <a:lnTo>
                    <a:pt x="39" y="36"/>
                  </a:lnTo>
                  <a:lnTo>
                    <a:pt x="46" y="35"/>
                  </a:lnTo>
                  <a:lnTo>
                    <a:pt x="53" y="31"/>
                  </a:lnTo>
                  <a:lnTo>
                    <a:pt x="36" y="1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316320" y="3043080"/>
              <a:ext cx="28440" cy="2556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18"/>
                  </a:moveTo>
                  <a:lnTo>
                    <a:pt x="0" y="18"/>
                  </a:lnTo>
                  <a:lnTo>
                    <a:pt x="6" y="26"/>
                  </a:lnTo>
                  <a:lnTo>
                    <a:pt x="13" y="33"/>
                  </a:lnTo>
                  <a:lnTo>
                    <a:pt x="21" y="40"/>
                  </a:lnTo>
                  <a:lnTo>
                    <a:pt x="28" y="46"/>
                  </a:lnTo>
                  <a:lnTo>
                    <a:pt x="36" y="51"/>
                  </a:lnTo>
                  <a:lnTo>
                    <a:pt x="45" y="56"/>
                  </a:lnTo>
                  <a:lnTo>
                    <a:pt x="53" y="60"/>
                  </a:lnTo>
                  <a:lnTo>
                    <a:pt x="61" y="63"/>
                  </a:lnTo>
                  <a:lnTo>
                    <a:pt x="75" y="31"/>
                  </a:lnTo>
                  <a:lnTo>
                    <a:pt x="67" y="28"/>
                  </a:lnTo>
                  <a:lnTo>
                    <a:pt x="60" y="25"/>
                  </a:lnTo>
                  <a:lnTo>
                    <a:pt x="54" y="21"/>
                  </a:lnTo>
                  <a:lnTo>
                    <a:pt x="47" y="18"/>
                  </a:lnTo>
                  <a:lnTo>
                    <a:pt x="42" y="13"/>
                  </a:lnTo>
                  <a:lnTo>
                    <a:pt x="37" y="9"/>
                  </a:lnTo>
                  <a:lnTo>
                    <a:pt x="33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313080" y="3025800"/>
              <a:ext cx="14400" cy="2376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2" y="0"/>
                  </a:moveTo>
                  <a:lnTo>
                    <a:pt x="2" y="0"/>
                  </a:lnTo>
                  <a:lnTo>
                    <a:pt x="2" y="5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7" y="62"/>
                  </a:lnTo>
                  <a:lnTo>
                    <a:pt x="37" y="44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35" y="34"/>
                  </a:lnTo>
                  <a:lnTo>
                    <a:pt x="35" y="28"/>
                  </a:lnTo>
                  <a:lnTo>
                    <a:pt x="35" y="22"/>
                  </a:lnTo>
                  <a:lnTo>
                    <a:pt x="36" y="15"/>
                  </a:lnTo>
                  <a:lnTo>
                    <a:pt x="36" y="8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314880" y="3002040"/>
              <a:ext cx="14040" cy="2376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3" y="7"/>
                  </a:moveTo>
                  <a:lnTo>
                    <a:pt x="3" y="7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35" y="61"/>
                  </a:lnTo>
                  <a:lnTo>
                    <a:pt x="35" y="55"/>
                  </a:lnTo>
                  <a:lnTo>
                    <a:pt x="35" y="48"/>
                  </a:lnTo>
                  <a:lnTo>
                    <a:pt x="36" y="41"/>
                  </a:lnTo>
                  <a:lnTo>
                    <a:pt x="38" y="34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8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13080" y="2987640"/>
              <a:ext cx="15840" cy="1764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" y="34"/>
                  </a:moveTo>
                  <a:lnTo>
                    <a:pt x="1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7" y="33"/>
                  </a:lnTo>
                  <a:lnTo>
                    <a:pt x="36" y="27"/>
                  </a:lnTo>
                  <a:lnTo>
                    <a:pt x="34" y="21"/>
                  </a:lnTo>
                  <a:lnTo>
                    <a:pt x="30" y="16"/>
                  </a:lnTo>
                  <a:lnTo>
                    <a:pt x="27" y="12"/>
                  </a:lnTo>
                  <a:lnTo>
                    <a:pt x="22" y="8"/>
                  </a:lnTo>
                  <a:lnTo>
                    <a:pt x="16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98680" y="2987640"/>
              <a:ext cx="16200" cy="190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0" y="45"/>
                  </a:moveTo>
                  <a:lnTo>
                    <a:pt x="30" y="45"/>
                  </a:lnTo>
                  <a:lnTo>
                    <a:pt x="31" y="43"/>
                  </a:lnTo>
                  <a:lnTo>
                    <a:pt x="34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38" y="34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4" y="3"/>
                  </a:lnTo>
                  <a:lnTo>
                    <a:pt x="18" y="7"/>
                  </a:lnTo>
                  <a:lnTo>
                    <a:pt x="13" y="10"/>
                  </a:lnTo>
                  <a:lnTo>
                    <a:pt x="10" y="15"/>
                  </a:lnTo>
                  <a:lnTo>
                    <a:pt x="6" y="19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30" y="4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292560" y="2998800"/>
              <a:ext cx="19080" cy="2556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32" y="64"/>
                  </a:moveTo>
                  <a:lnTo>
                    <a:pt x="32" y="64"/>
                  </a:lnTo>
                  <a:lnTo>
                    <a:pt x="35" y="57"/>
                  </a:lnTo>
                  <a:lnTo>
                    <a:pt x="37" y="51"/>
                  </a:lnTo>
                  <a:lnTo>
                    <a:pt x="38" y="43"/>
                  </a:lnTo>
                  <a:lnTo>
                    <a:pt x="41" y="37"/>
                  </a:lnTo>
                  <a:lnTo>
                    <a:pt x="42" y="33"/>
                  </a:lnTo>
                  <a:lnTo>
                    <a:pt x="43" y="27"/>
                  </a:lnTo>
                  <a:lnTo>
                    <a:pt x="46" y="23"/>
                  </a:lnTo>
                  <a:lnTo>
                    <a:pt x="48" y="18"/>
                  </a:lnTo>
                  <a:lnTo>
                    <a:pt x="18" y="0"/>
                  </a:lnTo>
                  <a:lnTo>
                    <a:pt x="14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7" y="29"/>
                  </a:lnTo>
                  <a:lnTo>
                    <a:pt x="5" y="35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87880" y="3019320"/>
              <a:ext cx="17280" cy="2232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17" y="57"/>
                  </a:moveTo>
                  <a:lnTo>
                    <a:pt x="17" y="57"/>
                  </a:lnTo>
                  <a:lnTo>
                    <a:pt x="24" y="52"/>
                  </a:lnTo>
                  <a:lnTo>
                    <a:pt x="30" y="46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40" y="27"/>
                  </a:lnTo>
                  <a:lnTo>
                    <a:pt x="41" y="21"/>
                  </a:lnTo>
                  <a:lnTo>
                    <a:pt x="42" y="18"/>
                  </a:lnTo>
                  <a:lnTo>
                    <a:pt x="44" y="13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6" y="16"/>
                  </a:lnTo>
                  <a:lnTo>
                    <a:pt x="5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7" y="5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68800" y="3030480"/>
              <a:ext cx="25200" cy="1440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0" y="35"/>
                  </a:moveTo>
                  <a:lnTo>
                    <a:pt x="0" y="35"/>
                  </a:lnTo>
                  <a:lnTo>
                    <a:pt x="8" y="36"/>
                  </a:lnTo>
                  <a:lnTo>
                    <a:pt x="15" y="37"/>
                  </a:lnTo>
                  <a:lnTo>
                    <a:pt x="22" y="39"/>
                  </a:lnTo>
                  <a:lnTo>
                    <a:pt x="30" y="39"/>
                  </a:lnTo>
                  <a:lnTo>
                    <a:pt x="39" y="37"/>
                  </a:lnTo>
                  <a:lnTo>
                    <a:pt x="47" y="36"/>
                  </a:lnTo>
                  <a:lnTo>
                    <a:pt x="56" y="34"/>
                  </a:lnTo>
                  <a:lnTo>
                    <a:pt x="63" y="30"/>
                  </a:lnTo>
                  <a:lnTo>
                    <a:pt x="46" y="0"/>
                  </a:lnTo>
                  <a:lnTo>
                    <a:pt x="44" y="1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0" y="4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4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247920" y="3021120"/>
              <a:ext cx="23760" cy="2376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0" y="32"/>
                  </a:moveTo>
                  <a:lnTo>
                    <a:pt x="0" y="32"/>
                  </a:lnTo>
                  <a:lnTo>
                    <a:pt x="4" y="35"/>
                  </a:lnTo>
                  <a:lnTo>
                    <a:pt x="10" y="37"/>
                  </a:lnTo>
                  <a:lnTo>
                    <a:pt x="15" y="41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6" y="53"/>
                  </a:lnTo>
                  <a:lnTo>
                    <a:pt x="44" y="56"/>
                  </a:lnTo>
                  <a:lnTo>
                    <a:pt x="52" y="60"/>
                  </a:lnTo>
                  <a:lnTo>
                    <a:pt x="61" y="25"/>
                  </a:lnTo>
                  <a:lnTo>
                    <a:pt x="56" y="24"/>
                  </a:lnTo>
                  <a:lnTo>
                    <a:pt x="51" y="22"/>
                  </a:lnTo>
                  <a:lnTo>
                    <a:pt x="46" y="19"/>
                  </a:lnTo>
                  <a:lnTo>
                    <a:pt x="40" y="16"/>
                  </a:lnTo>
                  <a:lnTo>
                    <a:pt x="34" y="12"/>
                  </a:lnTo>
                  <a:lnTo>
                    <a:pt x="27" y="8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232080" y="3014640"/>
              <a:ext cx="20880" cy="190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0" y="35"/>
                  </a:moveTo>
                  <a:lnTo>
                    <a:pt x="0" y="35"/>
                  </a:lnTo>
                  <a:lnTo>
                    <a:pt x="5" y="35"/>
                  </a:lnTo>
                  <a:lnTo>
                    <a:pt x="10" y="36"/>
                  </a:lnTo>
                  <a:lnTo>
                    <a:pt x="14" y="37"/>
                  </a:lnTo>
                  <a:lnTo>
                    <a:pt x="19" y="38"/>
                  </a:lnTo>
                  <a:lnTo>
                    <a:pt x="24" y="39"/>
                  </a:lnTo>
                  <a:lnTo>
                    <a:pt x="29" y="42"/>
                  </a:lnTo>
                  <a:lnTo>
                    <a:pt x="35" y="43"/>
                  </a:lnTo>
                  <a:lnTo>
                    <a:pt x="40" y="45"/>
                  </a:lnTo>
                  <a:lnTo>
                    <a:pt x="53" y="13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5" y="7"/>
                  </a:lnTo>
                  <a:lnTo>
                    <a:pt x="29" y="5"/>
                  </a:lnTo>
                  <a:lnTo>
                    <a:pt x="22" y="3"/>
                  </a:lnTo>
                  <a:lnTo>
                    <a:pt x="16" y="1"/>
                  </a:lnTo>
                  <a:lnTo>
                    <a:pt x="8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08320" y="3014640"/>
              <a:ext cx="23760" cy="1764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13" y="43"/>
                  </a:moveTo>
                  <a:lnTo>
                    <a:pt x="13" y="43"/>
                  </a:lnTo>
                  <a:lnTo>
                    <a:pt x="19" y="41"/>
                  </a:lnTo>
                  <a:lnTo>
                    <a:pt x="25" y="39"/>
                  </a:lnTo>
                  <a:lnTo>
                    <a:pt x="31" y="38"/>
                  </a:lnTo>
                  <a:lnTo>
                    <a:pt x="37" y="37"/>
                  </a:lnTo>
                  <a:lnTo>
                    <a:pt x="43" y="36"/>
                  </a:lnTo>
                  <a:lnTo>
                    <a:pt x="49" y="35"/>
                  </a:lnTo>
                  <a:lnTo>
                    <a:pt x="55" y="35"/>
                  </a:lnTo>
                  <a:lnTo>
                    <a:pt x="61" y="35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7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3" y="3"/>
                  </a:lnTo>
                  <a:lnTo>
                    <a:pt x="15" y="6"/>
                  </a:lnTo>
                  <a:lnTo>
                    <a:pt x="8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3" y="4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193920" y="3019320"/>
              <a:ext cx="19080" cy="1764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33" y="44"/>
                  </a:moveTo>
                  <a:lnTo>
                    <a:pt x="33" y="44"/>
                  </a:lnTo>
                  <a:lnTo>
                    <a:pt x="34" y="43"/>
                  </a:lnTo>
                  <a:lnTo>
                    <a:pt x="35" y="40"/>
                  </a:lnTo>
                  <a:lnTo>
                    <a:pt x="36" y="39"/>
                  </a:lnTo>
                  <a:lnTo>
                    <a:pt x="37" y="38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5" y="33"/>
                  </a:lnTo>
                  <a:lnTo>
                    <a:pt x="47" y="32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5" y="12"/>
                  </a:lnTo>
                  <a:lnTo>
                    <a:pt x="11" y="15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33" y="4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192480" y="3032280"/>
              <a:ext cx="15840" cy="1872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42"/>
                  </a:moveTo>
                  <a:lnTo>
                    <a:pt x="37" y="42"/>
                  </a:lnTo>
                  <a:lnTo>
                    <a:pt x="36" y="37"/>
                  </a:lnTo>
                  <a:lnTo>
                    <a:pt x="36" y="33"/>
                  </a:lnTo>
                  <a:lnTo>
                    <a:pt x="34" y="29"/>
                  </a:lnTo>
                  <a:lnTo>
                    <a:pt x="34" y="25"/>
                  </a:lnTo>
                  <a:lnTo>
                    <a:pt x="34" y="21"/>
                  </a:lnTo>
                  <a:lnTo>
                    <a:pt x="34" y="18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" y="0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2" y="43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37" y="4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193920" y="3048120"/>
              <a:ext cx="17640" cy="2376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3" y="35"/>
                  </a:moveTo>
                  <a:lnTo>
                    <a:pt x="43" y="35"/>
                  </a:lnTo>
                  <a:lnTo>
                    <a:pt x="41" y="32"/>
                  </a:lnTo>
                  <a:lnTo>
                    <a:pt x="40" y="30"/>
                  </a:lnTo>
                  <a:lnTo>
                    <a:pt x="38" y="26"/>
                  </a:lnTo>
                  <a:lnTo>
                    <a:pt x="37" y="23"/>
                  </a:lnTo>
                  <a:lnTo>
                    <a:pt x="37" y="18"/>
                  </a:lnTo>
                  <a:lnTo>
                    <a:pt x="36" y="12"/>
                  </a:lnTo>
                  <a:lnTo>
                    <a:pt x="36" y="7"/>
                  </a:lnTo>
                  <a:lnTo>
                    <a:pt x="35" y="0"/>
                  </a:lnTo>
                  <a:lnTo>
                    <a:pt x="0" y="6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2" y="23"/>
                  </a:lnTo>
                  <a:lnTo>
                    <a:pt x="4" y="29"/>
                  </a:lnTo>
                  <a:lnTo>
                    <a:pt x="6" y="36"/>
                  </a:lnTo>
                  <a:lnTo>
                    <a:pt x="8" y="43"/>
                  </a:lnTo>
                  <a:lnTo>
                    <a:pt x="12" y="50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00400" y="3062160"/>
              <a:ext cx="27000" cy="190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68" y="19"/>
                  </a:moveTo>
                  <a:lnTo>
                    <a:pt x="68" y="19"/>
                  </a:lnTo>
                  <a:lnTo>
                    <a:pt x="61" y="14"/>
                  </a:lnTo>
                  <a:lnTo>
                    <a:pt x="53" y="10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7" y="30"/>
                  </a:lnTo>
                  <a:lnTo>
                    <a:pt x="14" y="33"/>
                  </a:lnTo>
                  <a:lnTo>
                    <a:pt x="23" y="37"/>
                  </a:lnTo>
                  <a:lnTo>
                    <a:pt x="29" y="39"/>
                  </a:lnTo>
                  <a:lnTo>
                    <a:pt x="36" y="42"/>
                  </a:lnTo>
                  <a:lnTo>
                    <a:pt x="41" y="43"/>
                  </a:lnTo>
                  <a:lnTo>
                    <a:pt x="45" y="45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219480" y="3070080"/>
              <a:ext cx="20520" cy="1908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53" y="35"/>
                  </a:moveTo>
                  <a:lnTo>
                    <a:pt x="53" y="35"/>
                  </a:lnTo>
                  <a:lnTo>
                    <a:pt x="49" y="29"/>
                  </a:lnTo>
                  <a:lnTo>
                    <a:pt x="45" y="24"/>
                  </a:lnTo>
                  <a:lnTo>
                    <a:pt x="42" y="19"/>
                  </a:lnTo>
                  <a:lnTo>
                    <a:pt x="38" y="14"/>
                  </a:lnTo>
                  <a:lnTo>
                    <a:pt x="33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7" y="32"/>
                  </a:lnTo>
                  <a:lnTo>
                    <a:pt x="9" y="36"/>
                  </a:lnTo>
                  <a:lnTo>
                    <a:pt x="13" y="38"/>
                  </a:lnTo>
                  <a:lnTo>
                    <a:pt x="15" y="41"/>
                  </a:lnTo>
                  <a:lnTo>
                    <a:pt x="18" y="44"/>
                  </a:lnTo>
                  <a:lnTo>
                    <a:pt x="19" y="47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53" y="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228840" y="3083040"/>
              <a:ext cx="15840" cy="2196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42" y="52"/>
                  </a:moveTo>
                  <a:lnTo>
                    <a:pt x="42" y="51"/>
                  </a:lnTo>
                  <a:lnTo>
                    <a:pt x="42" y="45"/>
                  </a:lnTo>
                  <a:lnTo>
                    <a:pt x="41" y="39"/>
                  </a:lnTo>
                  <a:lnTo>
                    <a:pt x="41" y="33"/>
                  </a:lnTo>
                  <a:lnTo>
                    <a:pt x="40" y="26"/>
                  </a:lnTo>
                  <a:lnTo>
                    <a:pt x="38" y="20"/>
                  </a:lnTo>
                  <a:lnTo>
                    <a:pt x="36" y="13"/>
                  </a:lnTo>
                  <a:lnTo>
                    <a:pt x="34" y="7"/>
                  </a:lnTo>
                  <a:lnTo>
                    <a:pt x="32" y="0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6" y="38"/>
                  </a:lnTo>
                  <a:lnTo>
                    <a:pt x="6" y="43"/>
                  </a:lnTo>
                  <a:lnTo>
                    <a:pt x="8" y="49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42" y="5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228840" y="3105000"/>
              <a:ext cx="15840" cy="1440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35" y="33"/>
                  </a:moveTo>
                  <a:lnTo>
                    <a:pt x="35" y="33"/>
                  </a:lnTo>
                  <a:lnTo>
                    <a:pt x="35" y="32"/>
                  </a:lnTo>
                  <a:lnTo>
                    <a:pt x="35" y="30"/>
                  </a:lnTo>
                  <a:lnTo>
                    <a:pt x="35" y="27"/>
                  </a:lnTo>
                  <a:lnTo>
                    <a:pt x="36" y="23"/>
                  </a:lnTo>
                  <a:lnTo>
                    <a:pt x="37" y="18"/>
                  </a:lnTo>
                  <a:lnTo>
                    <a:pt x="38" y="14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5" y="3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228840" y="3117960"/>
              <a:ext cx="20880" cy="2520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51" y="39"/>
                  </a:moveTo>
                  <a:lnTo>
                    <a:pt x="51" y="39"/>
                  </a:lnTo>
                  <a:lnTo>
                    <a:pt x="48" y="36"/>
                  </a:lnTo>
                  <a:lnTo>
                    <a:pt x="45" y="32"/>
                  </a:lnTo>
                  <a:lnTo>
                    <a:pt x="43" y="27"/>
                  </a:lnTo>
                  <a:lnTo>
                    <a:pt x="41" y="23"/>
                  </a:lnTo>
                  <a:lnTo>
                    <a:pt x="38" y="18"/>
                  </a:lnTo>
                  <a:lnTo>
                    <a:pt x="37" y="12"/>
                  </a:lnTo>
                  <a:lnTo>
                    <a:pt x="36" y="6"/>
                  </a:lnTo>
                  <a:lnTo>
                    <a:pt x="35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3" y="21"/>
                  </a:lnTo>
                  <a:lnTo>
                    <a:pt x="6" y="29"/>
                  </a:lnTo>
                  <a:lnTo>
                    <a:pt x="8" y="36"/>
                  </a:lnTo>
                  <a:lnTo>
                    <a:pt x="12" y="43"/>
                  </a:lnTo>
                  <a:lnTo>
                    <a:pt x="15" y="50"/>
                  </a:lnTo>
                  <a:lnTo>
                    <a:pt x="21" y="57"/>
                  </a:lnTo>
                  <a:lnTo>
                    <a:pt x="27" y="65"/>
                  </a:lnTo>
                  <a:lnTo>
                    <a:pt x="27" y="65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40000" y="3133800"/>
              <a:ext cx="20880" cy="14040"/>
            </a:xfrm>
            <a:custGeom>
              <a:avLst/>
              <a:gdLst/>
              <a:ahLst/>
              <a:rect l="l" t="t" r="r" b="b"/>
              <a:pathLst>
                <a:path w="52" h="40">
                  <a:moveTo>
                    <a:pt x="52" y="5"/>
                  </a:moveTo>
                  <a:lnTo>
                    <a:pt x="52" y="5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6" y="30"/>
                  </a:lnTo>
                  <a:lnTo>
                    <a:pt x="14" y="34"/>
                  </a:lnTo>
                  <a:lnTo>
                    <a:pt x="21" y="36"/>
                  </a:lnTo>
                  <a:lnTo>
                    <a:pt x="27" y="38"/>
                  </a:lnTo>
                  <a:lnTo>
                    <a:pt x="33" y="39"/>
                  </a:lnTo>
                  <a:lnTo>
                    <a:pt x="39" y="39"/>
                  </a:lnTo>
                  <a:lnTo>
                    <a:pt x="44" y="39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52" y="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259080" y="3133800"/>
              <a:ext cx="20520" cy="14040"/>
            </a:xfrm>
            <a:custGeom>
              <a:avLst/>
              <a:gdLst/>
              <a:ahLst/>
              <a:rect l="l" t="t" r="r" b="b"/>
              <a:pathLst>
                <a:path w="52" h="40">
                  <a:moveTo>
                    <a:pt x="52" y="5"/>
                  </a:moveTo>
                  <a:lnTo>
                    <a:pt x="52" y="5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3"/>
                  </a:lnTo>
                  <a:lnTo>
                    <a:pt x="9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0" y="40"/>
                  </a:lnTo>
                  <a:lnTo>
                    <a:pt x="9" y="40"/>
                  </a:lnTo>
                  <a:lnTo>
                    <a:pt x="16" y="39"/>
                  </a:lnTo>
                  <a:lnTo>
                    <a:pt x="22" y="36"/>
                  </a:lnTo>
                  <a:lnTo>
                    <a:pt x="27" y="35"/>
                  </a:lnTo>
                  <a:lnTo>
                    <a:pt x="30" y="35"/>
                  </a:lnTo>
                  <a:lnTo>
                    <a:pt x="33" y="35"/>
                  </a:lnTo>
                  <a:lnTo>
                    <a:pt x="34" y="35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52" y="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273480" y="3135240"/>
              <a:ext cx="14400" cy="1908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36" y="51"/>
                  </a:moveTo>
                  <a:lnTo>
                    <a:pt x="36" y="51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36" y="33"/>
                  </a:lnTo>
                  <a:lnTo>
                    <a:pt x="35" y="25"/>
                  </a:lnTo>
                  <a:lnTo>
                    <a:pt x="32" y="19"/>
                  </a:lnTo>
                  <a:lnTo>
                    <a:pt x="30" y="12"/>
                  </a:lnTo>
                  <a:lnTo>
                    <a:pt x="25" y="6"/>
                  </a:lnTo>
                  <a:lnTo>
                    <a:pt x="18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1" y="47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265560" y="3152880"/>
              <a:ext cx="22320" cy="3492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28" y="85"/>
                  </a:moveTo>
                  <a:lnTo>
                    <a:pt x="28" y="85"/>
                  </a:lnTo>
                  <a:lnTo>
                    <a:pt x="34" y="76"/>
                  </a:lnTo>
                  <a:lnTo>
                    <a:pt x="40" y="66"/>
                  </a:lnTo>
                  <a:lnTo>
                    <a:pt x="43" y="55"/>
                  </a:lnTo>
                  <a:lnTo>
                    <a:pt x="46" y="44"/>
                  </a:lnTo>
                  <a:lnTo>
                    <a:pt x="48" y="34"/>
                  </a:lnTo>
                  <a:lnTo>
                    <a:pt x="51" y="23"/>
                  </a:lnTo>
                  <a:lnTo>
                    <a:pt x="52" y="13"/>
                  </a:lnTo>
                  <a:lnTo>
                    <a:pt x="53" y="4"/>
                  </a:lnTo>
                  <a:lnTo>
                    <a:pt x="18" y="0"/>
                  </a:lnTo>
                  <a:lnTo>
                    <a:pt x="17" y="8"/>
                  </a:lnTo>
                  <a:lnTo>
                    <a:pt x="16" y="18"/>
                  </a:lnTo>
                  <a:lnTo>
                    <a:pt x="15" y="28"/>
                  </a:lnTo>
                  <a:lnTo>
                    <a:pt x="12" y="36"/>
                  </a:lnTo>
                  <a:lnTo>
                    <a:pt x="10" y="44"/>
                  </a:lnTo>
                  <a:lnTo>
                    <a:pt x="7" y="52"/>
                  </a:lnTo>
                  <a:lnTo>
                    <a:pt x="4" y="59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246480" y="3179880"/>
              <a:ext cx="30240" cy="25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6" y="66"/>
                  </a:moveTo>
                  <a:lnTo>
                    <a:pt x="6" y="66"/>
                  </a:lnTo>
                  <a:lnTo>
                    <a:pt x="17" y="63"/>
                  </a:lnTo>
                  <a:lnTo>
                    <a:pt x="26" y="60"/>
                  </a:lnTo>
                  <a:lnTo>
                    <a:pt x="36" y="55"/>
                  </a:lnTo>
                  <a:lnTo>
                    <a:pt x="46" y="50"/>
                  </a:lnTo>
                  <a:lnTo>
                    <a:pt x="54" y="43"/>
                  </a:lnTo>
                  <a:lnTo>
                    <a:pt x="62" y="37"/>
                  </a:lnTo>
                  <a:lnTo>
                    <a:pt x="71" y="29"/>
                  </a:lnTo>
                  <a:lnTo>
                    <a:pt x="77" y="20"/>
                  </a:lnTo>
                  <a:lnTo>
                    <a:pt x="49" y="0"/>
                  </a:lnTo>
                  <a:lnTo>
                    <a:pt x="44" y="6"/>
                  </a:lnTo>
                  <a:lnTo>
                    <a:pt x="40" y="12"/>
                  </a:lnTo>
                  <a:lnTo>
                    <a:pt x="34" y="17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27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218040" y="3187800"/>
              <a:ext cx="31680" cy="1908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32"/>
                  </a:moveTo>
                  <a:lnTo>
                    <a:pt x="0" y="32"/>
                  </a:lnTo>
                  <a:lnTo>
                    <a:pt x="8" y="35"/>
                  </a:lnTo>
                  <a:lnTo>
                    <a:pt x="18" y="39"/>
                  </a:lnTo>
                  <a:lnTo>
                    <a:pt x="27" y="41"/>
                  </a:lnTo>
                  <a:lnTo>
                    <a:pt x="37" y="44"/>
                  </a:lnTo>
                  <a:lnTo>
                    <a:pt x="48" y="46"/>
                  </a:lnTo>
                  <a:lnTo>
                    <a:pt x="59" y="47"/>
                  </a:lnTo>
                  <a:lnTo>
                    <a:pt x="68" y="46"/>
                  </a:lnTo>
                  <a:lnTo>
                    <a:pt x="79" y="45"/>
                  </a:lnTo>
                  <a:lnTo>
                    <a:pt x="73" y="11"/>
                  </a:lnTo>
                  <a:lnTo>
                    <a:pt x="66" y="11"/>
                  </a:lnTo>
                  <a:lnTo>
                    <a:pt x="59" y="12"/>
                  </a:lnTo>
                  <a:lnTo>
                    <a:pt x="51" y="11"/>
                  </a:lnTo>
                  <a:lnTo>
                    <a:pt x="44" y="10"/>
                  </a:lnTo>
                  <a:lnTo>
                    <a:pt x="37" y="9"/>
                  </a:lnTo>
                  <a:lnTo>
                    <a:pt x="29" y="6"/>
                  </a:lnTo>
                  <a:lnTo>
                    <a:pt x="21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189240" y="3170160"/>
              <a:ext cx="33480" cy="3024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0" y="27"/>
                  </a:moveTo>
                  <a:lnTo>
                    <a:pt x="0" y="27"/>
                  </a:lnTo>
                  <a:lnTo>
                    <a:pt x="9" y="33"/>
                  </a:lnTo>
                  <a:lnTo>
                    <a:pt x="16" y="40"/>
                  </a:lnTo>
                  <a:lnTo>
                    <a:pt x="24" y="46"/>
                  </a:lnTo>
                  <a:lnTo>
                    <a:pt x="33" y="53"/>
                  </a:lnTo>
                  <a:lnTo>
                    <a:pt x="41" y="59"/>
                  </a:lnTo>
                  <a:lnTo>
                    <a:pt x="51" y="65"/>
                  </a:lnTo>
                  <a:lnTo>
                    <a:pt x="60" y="70"/>
                  </a:lnTo>
                  <a:lnTo>
                    <a:pt x="70" y="75"/>
                  </a:lnTo>
                  <a:lnTo>
                    <a:pt x="83" y="43"/>
                  </a:lnTo>
                  <a:lnTo>
                    <a:pt x="76" y="40"/>
                  </a:lnTo>
                  <a:lnTo>
                    <a:pt x="69" y="35"/>
                  </a:lnTo>
                  <a:lnTo>
                    <a:pt x="60" y="30"/>
                  </a:lnTo>
                  <a:lnTo>
                    <a:pt x="53" y="24"/>
                  </a:lnTo>
                  <a:lnTo>
                    <a:pt x="46" y="19"/>
                  </a:lnTo>
                  <a:lnTo>
                    <a:pt x="39" y="13"/>
                  </a:lnTo>
                  <a:lnTo>
                    <a:pt x="30" y="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165480" y="3147840"/>
              <a:ext cx="33480" cy="3348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0" y="22"/>
                  </a:moveTo>
                  <a:lnTo>
                    <a:pt x="0" y="22"/>
                  </a:lnTo>
                  <a:lnTo>
                    <a:pt x="7" y="30"/>
                  </a:lnTo>
                  <a:lnTo>
                    <a:pt x="15" y="38"/>
                  </a:lnTo>
                  <a:lnTo>
                    <a:pt x="22" y="46"/>
                  </a:lnTo>
                  <a:lnTo>
                    <a:pt x="29" y="54"/>
                  </a:lnTo>
                  <a:lnTo>
                    <a:pt x="37" y="61"/>
                  </a:lnTo>
                  <a:lnTo>
                    <a:pt x="45" y="68"/>
                  </a:lnTo>
                  <a:lnTo>
                    <a:pt x="53" y="74"/>
                  </a:lnTo>
                  <a:lnTo>
                    <a:pt x="60" y="82"/>
                  </a:lnTo>
                  <a:lnTo>
                    <a:pt x="83" y="55"/>
                  </a:lnTo>
                  <a:lnTo>
                    <a:pt x="76" y="49"/>
                  </a:lnTo>
                  <a:lnTo>
                    <a:pt x="69" y="42"/>
                  </a:lnTo>
                  <a:lnTo>
                    <a:pt x="61" y="36"/>
                  </a:lnTo>
                  <a:lnTo>
                    <a:pt x="54" y="29"/>
                  </a:lnTo>
                  <a:lnTo>
                    <a:pt x="47" y="22"/>
                  </a:lnTo>
                  <a:lnTo>
                    <a:pt x="41" y="14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156120" y="3133800"/>
              <a:ext cx="20520" cy="2376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8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4" y="22"/>
                  </a:lnTo>
                  <a:lnTo>
                    <a:pt x="7" y="28"/>
                  </a:lnTo>
                  <a:lnTo>
                    <a:pt x="10" y="35"/>
                  </a:lnTo>
                  <a:lnTo>
                    <a:pt x="13" y="41"/>
                  </a:lnTo>
                  <a:lnTo>
                    <a:pt x="17" y="47"/>
                  </a:lnTo>
                  <a:lnTo>
                    <a:pt x="21" y="52"/>
                  </a:lnTo>
                  <a:lnTo>
                    <a:pt x="24" y="58"/>
                  </a:lnTo>
                  <a:lnTo>
                    <a:pt x="52" y="36"/>
                  </a:lnTo>
                  <a:lnTo>
                    <a:pt x="49" y="32"/>
                  </a:lnTo>
                  <a:lnTo>
                    <a:pt x="46" y="28"/>
                  </a:lnTo>
                  <a:lnTo>
                    <a:pt x="43" y="23"/>
                  </a:lnTo>
                  <a:lnTo>
                    <a:pt x="41" y="19"/>
                  </a:lnTo>
                  <a:lnTo>
                    <a:pt x="39" y="14"/>
                  </a:lnTo>
                  <a:lnTo>
                    <a:pt x="36" y="10"/>
                  </a:lnTo>
                  <a:lnTo>
                    <a:pt x="35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156120" y="3119400"/>
              <a:ext cx="14040" cy="1908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7" y="0"/>
                  </a:moveTo>
                  <a:lnTo>
                    <a:pt x="7" y="0"/>
                  </a:lnTo>
                  <a:lnTo>
                    <a:pt x="3" y="6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36" y="40"/>
                  </a:lnTo>
                  <a:lnTo>
                    <a:pt x="35" y="36"/>
                  </a:lnTo>
                  <a:lnTo>
                    <a:pt x="35" y="33"/>
                  </a:lnTo>
                  <a:lnTo>
                    <a:pt x="35" y="30"/>
                  </a:lnTo>
                  <a:lnTo>
                    <a:pt x="35" y="27"/>
                  </a:lnTo>
                  <a:lnTo>
                    <a:pt x="35" y="24"/>
                  </a:lnTo>
                  <a:lnTo>
                    <a:pt x="35" y="22"/>
                  </a:lnTo>
                  <a:lnTo>
                    <a:pt x="35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433600" y="2060640"/>
              <a:ext cx="155520" cy="93600"/>
            </a:xfrm>
            <a:custGeom>
              <a:avLst/>
              <a:gdLst/>
              <a:ahLst/>
              <a:rect l="l" t="t" r="r" b="b"/>
              <a:pathLst>
                <a:path w="392" h="234">
                  <a:moveTo>
                    <a:pt x="84" y="0"/>
                  </a:moveTo>
                  <a:lnTo>
                    <a:pt x="0" y="114"/>
                  </a:lnTo>
                  <a:lnTo>
                    <a:pt x="87" y="233"/>
                  </a:lnTo>
                  <a:lnTo>
                    <a:pt x="314" y="234"/>
                  </a:lnTo>
                  <a:lnTo>
                    <a:pt x="392" y="117"/>
                  </a:lnTo>
                  <a:lnTo>
                    <a:pt x="313" y="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425680" y="2057400"/>
              <a:ext cx="47520" cy="52560"/>
            </a:xfrm>
            <a:custGeom>
              <a:avLst/>
              <a:gdLst/>
              <a:ahLst/>
              <a:rect l="l" t="t" r="r" b="b"/>
              <a:pathLst>
                <a:path w="120" h="134">
                  <a:moveTo>
                    <a:pt x="7" y="134"/>
                  </a:moveTo>
                  <a:lnTo>
                    <a:pt x="36" y="134"/>
                  </a:lnTo>
                  <a:lnTo>
                    <a:pt x="120" y="21"/>
                  </a:lnTo>
                  <a:lnTo>
                    <a:pt x="93" y="0"/>
                  </a:lnTo>
                  <a:lnTo>
                    <a:pt x="7" y="114"/>
                  </a:lnTo>
                  <a:lnTo>
                    <a:pt x="7" y="134"/>
                  </a:lnTo>
                  <a:lnTo>
                    <a:pt x="7" y="114"/>
                  </a:lnTo>
                  <a:lnTo>
                    <a:pt x="0" y="125"/>
                  </a:lnTo>
                  <a:lnTo>
                    <a:pt x="7" y="13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28920" y="2101680"/>
              <a:ext cx="44280" cy="59040"/>
            </a:xfrm>
            <a:custGeom>
              <a:avLst/>
              <a:gdLst/>
              <a:ahLst/>
              <a:rect l="l" t="t" r="r" b="b"/>
              <a:pathLst>
                <a:path w="116" h="148">
                  <a:moveTo>
                    <a:pt x="102" y="148"/>
                  </a:moveTo>
                  <a:lnTo>
                    <a:pt x="116" y="120"/>
                  </a:lnTo>
                  <a:lnTo>
                    <a:pt x="29" y="0"/>
                  </a:lnTo>
                  <a:lnTo>
                    <a:pt x="0" y="20"/>
                  </a:lnTo>
                  <a:lnTo>
                    <a:pt x="88" y="140"/>
                  </a:lnTo>
                  <a:lnTo>
                    <a:pt x="102" y="148"/>
                  </a:lnTo>
                  <a:lnTo>
                    <a:pt x="88" y="140"/>
                  </a:lnTo>
                  <a:lnTo>
                    <a:pt x="93" y="148"/>
                  </a:lnTo>
                  <a:lnTo>
                    <a:pt x="102" y="14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68520" y="2146320"/>
              <a:ext cx="95400" cy="14400"/>
            </a:xfrm>
            <a:custGeom>
              <a:avLst/>
              <a:gdLst/>
              <a:ahLst/>
              <a:rect l="l" t="t" r="r" b="b"/>
              <a:pathLst>
                <a:path w="242" h="36">
                  <a:moveTo>
                    <a:pt x="242" y="27"/>
                  </a:moveTo>
                  <a:lnTo>
                    <a:pt x="227" y="1"/>
                  </a:lnTo>
                  <a:lnTo>
                    <a:pt x="0" y="0"/>
                  </a:lnTo>
                  <a:lnTo>
                    <a:pt x="0" y="35"/>
                  </a:lnTo>
                  <a:lnTo>
                    <a:pt x="227" y="36"/>
                  </a:lnTo>
                  <a:lnTo>
                    <a:pt x="242" y="27"/>
                  </a:lnTo>
                  <a:lnTo>
                    <a:pt x="227" y="36"/>
                  </a:lnTo>
                  <a:lnTo>
                    <a:pt x="236" y="36"/>
                  </a:lnTo>
                  <a:lnTo>
                    <a:pt x="242" y="2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552760" y="2103480"/>
              <a:ext cx="44280" cy="54000"/>
            </a:xfrm>
            <a:custGeom>
              <a:avLst/>
              <a:gdLst/>
              <a:ahLst/>
              <a:rect l="l" t="t" r="r" b="b"/>
              <a:pathLst>
                <a:path w="113" h="135">
                  <a:moveTo>
                    <a:pt x="107" y="0"/>
                  </a:moveTo>
                  <a:lnTo>
                    <a:pt x="78" y="0"/>
                  </a:lnTo>
                  <a:lnTo>
                    <a:pt x="0" y="116"/>
                  </a:lnTo>
                  <a:lnTo>
                    <a:pt x="29" y="135"/>
                  </a:lnTo>
                  <a:lnTo>
                    <a:pt x="107" y="19"/>
                  </a:lnTo>
                  <a:lnTo>
                    <a:pt x="107" y="0"/>
                  </a:lnTo>
                  <a:lnTo>
                    <a:pt x="107" y="19"/>
                  </a:lnTo>
                  <a:lnTo>
                    <a:pt x="113" y="9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52760" y="2054160"/>
              <a:ext cx="42840" cy="5724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14" y="0"/>
                  </a:moveTo>
                  <a:lnTo>
                    <a:pt x="0" y="28"/>
                  </a:lnTo>
                  <a:lnTo>
                    <a:pt x="79" y="144"/>
                  </a:lnTo>
                  <a:lnTo>
                    <a:pt x="108" y="125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28" y="9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462040" y="2054160"/>
              <a:ext cx="96840" cy="14400"/>
            </a:xfrm>
            <a:custGeom>
              <a:avLst/>
              <a:gdLst/>
              <a:ahLst/>
              <a:rect l="l" t="t" r="r" b="b"/>
              <a:pathLst>
                <a:path w="242" h="36">
                  <a:moveTo>
                    <a:pt x="0" y="7"/>
                  </a:moveTo>
                  <a:lnTo>
                    <a:pt x="13" y="35"/>
                  </a:lnTo>
                  <a:lnTo>
                    <a:pt x="242" y="36"/>
                  </a:lnTo>
                  <a:lnTo>
                    <a:pt x="242" y="1"/>
                  </a:lnTo>
                  <a:lnTo>
                    <a:pt x="14" y="0"/>
                  </a:lnTo>
                  <a:lnTo>
                    <a:pt x="0" y="7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478240" y="1712880"/>
              <a:ext cx="156960" cy="92160"/>
            </a:xfrm>
            <a:custGeom>
              <a:avLst/>
              <a:gdLst/>
              <a:ahLst/>
              <a:rect l="l" t="t" r="r" b="b"/>
              <a:pathLst>
                <a:path w="392" h="235">
                  <a:moveTo>
                    <a:pt x="85" y="0"/>
                  </a:moveTo>
                  <a:lnTo>
                    <a:pt x="0" y="114"/>
                  </a:lnTo>
                  <a:lnTo>
                    <a:pt x="87" y="232"/>
                  </a:lnTo>
                  <a:lnTo>
                    <a:pt x="314" y="235"/>
                  </a:lnTo>
                  <a:lnTo>
                    <a:pt x="392" y="117"/>
                  </a:lnTo>
                  <a:lnTo>
                    <a:pt x="313" y="1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70320" y="1708200"/>
              <a:ext cx="47520" cy="54000"/>
            </a:xfrm>
            <a:custGeom>
              <a:avLst/>
              <a:gdLst/>
              <a:ahLst/>
              <a:rect l="l" t="t" r="r" b="b"/>
              <a:pathLst>
                <a:path w="120" h="135">
                  <a:moveTo>
                    <a:pt x="8" y="134"/>
                  </a:moveTo>
                  <a:lnTo>
                    <a:pt x="36" y="135"/>
                  </a:lnTo>
                  <a:lnTo>
                    <a:pt x="120" y="21"/>
                  </a:lnTo>
                  <a:lnTo>
                    <a:pt x="92" y="0"/>
                  </a:lnTo>
                  <a:lnTo>
                    <a:pt x="8" y="114"/>
                  </a:lnTo>
                  <a:lnTo>
                    <a:pt x="8" y="134"/>
                  </a:lnTo>
                  <a:lnTo>
                    <a:pt x="8" y="114"/>
                  </a:lnTo>
                  <a:lnTo>
                    <a:pt x="0" y="125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473200" y="1752480"/>
              <a:ext cx="46080" cy="58680"/>
            </a:xfrm>
            <a:custGeom>
              <a:avLst/>
              <a:gdLst/>
              <a:ahLst/>
              <a:rect l="l" t="t" r="r" b="b"/>
              <a:pathLst>
                <a:path w="116" h="147">
                  <a:moveTo>
                    <a:pt x="101" y="147"/>
                  </a:moveTo>
                  <a:lnTo>
                    <a:pt x="116" y="120"/>
                  </a:lnTo>
                  <a:lnTo>
                    <a:pt x="28" y="0"/>
                  </a:lnTo>
                  <a:lnTo>
                    <a:pt x="0" y="20"/>
                  </a:lnTo>
                  <a:lnTo>
                    <a:pt x="87" y="140"/>
                  </a:lnTo>
                  <a:lnTo>
                    <a:pt x="101" y="147"/>
                  </a:lnTo>
                  <a:lnTo>
                    <a:pt x="87" y="140"/>
                  </a:lnTo>
                  <a:lnTo>
                    <a:pt x="93" y="147"/>
                  </a:lnTo>
                  <a:lnTo>
                    <a:pt x="101" y="14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513160" y="1798560"/>
              <a:ext cx="96840" cy="14400"/>
            </a:xfrm>
            <a:custGeom>
              <a:avLst/>
              <a:gdLst/>
              <a:ahLst/>
              <a:rect l="l" t="t" r="r" b="b"/>
              <a:pathLst>
                <a:path w="241" h="36">
                  <a:moveTo>
                    <a:pt x="241" y="29"/>
                  </a:moveTo>
                  <a:lnTo>
                    <a:pt x="227" y="2"/>
                  </a:lnTo>
                  <a:lnTo>
                    <a:pt x="0" y="0"/>
                  </a:lnTo>
                  <a:lnTo>
                    <a:pt x="0" y="35"/>
                  </a:lnTo>
                  <a:lnTo>
                    <a:pt x="227" y="36"/>
                  </a:lnTo>
                  <a:lnTo>
                    <a:pt x="241" y="29"/>
                  </a:lnTo>
                  <a:lnTo>
                    <a:pt x="227" y="36"/>
                  </a:lnTo>
                  <a:lnTo>
                    <a:pt x="237" y="36"/>
                  </a:lnTo>
                  <a:lnTo>
                    <a:pt x="241" y="2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97040" y="1755720"/>
              <a:ext cx="46080" cy="5400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6" y="0"/>
                  </a:moveTo>
                  <a:lnTo>
                    <a:pt x="78" y="0"/>
                  </a:lnTo>
                  <a:lnTo>
                    <a:pt x="0" y="117"/>
                  </a:lnTo>
                  <a:lnTo>
                    <a:pt x="28" y="136"/>
                  </a:lnTo>
                  <a:lnTo>
                    <a:pt x="106" y="19"/>
                  </a:lnTo>
                  <a:lnTo>
                    <a:pt x="106" y="0"/>
                  </a:lnTo>
                  <a:lnTo>
                    <a:pt x="106" y="19"/>
                  </a:lnTo>
                  <a:lnTo>
                    <a:pt x="112" y="9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597040" y="1706400"/>
              <a:ext cx="42840" cy="5580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15" y="0"/>
                  </a:moveTo>
                  <a:lnTo>
                    <a:pt x="0" y="26"/>
                  </a:lnTo>
                  <a:lnTo>
                    <a:pt x="80" y="143"/>
                  </a:lnTo>
                  <a:lnTo>
                    <a:pt x="108" y="124"/>
                  </a:lnTo>
                  <a:lnTo>
                    <a:pt x="29" y="7"/>
                  </a:lnTo>
                  <a:lnTo>
                    <a:pt x="15" y="0"/>
                  </a:lnTo>
                  <a:lnTo>
                    <a:pt x="29" y="7"/>
                  </a:lnTo>
                  <a:lnTo>
                    <a:pt x="2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06680" y="1704960"/>
              <a:ext cx="96840" cy="14400"/>
            </a:xfrm>
            <a:custGeom>
              <a:avLst/>
              <a:gdLst/>
              <a:ahLst/>
              <a:rect l="l" t="t" r="r" b="b"/>
              <a:pathLst>
                <a:path w="243" h="37">
                  <a:moveTo>
                    <a:pt x="0" y="7"/>
                  </a:moveTo>
                  <a:lnTo>
                    <a:pt x="15" y="34"/>
                  </a:lnTo>
                  <a:lnTo>
                    <a:pt x="243" y="37"/>
                  </a:lnTo>
                  <a:lnTo>
                    <a:pt x="243" y="2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349800" y="1414440"/>
              <a:ext cx="156960" cy="92160"/>
            </a:xfrm>
            <a:custGeom>
              <a:avLst/>
              <a:gdLst/>
              <a:ahLst/>
              <a:rect l="l" t="t" r="r" b="b"/>
              <a:pathLst>
                <a:path w="392" h="235">
                  <a:moveTo>
                    <a:pt x="84" y="0"/>
                  </a:moveTo>
                  <a:lnTo>
                    <a:pt x="0" y="114"/>
                  </a:lnTo>
                  <a:lnTo>
                    <a:pt x="87" y="234"/>
                  </a:lnTo>
                  <a:lnTo>
                    <a:pt x="314" y="235"/>
                  </a:lnTo>
                  <a:lnTo>
                    <a:pt x="392" y="118"/>
                  </a:lnTo>
                  <a:lnTo>
                    <a:pt x="313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341520" y="1409760"/>
              <a:ext cx="47880" cy="54000"/>
            </a:xfrm>
            <a:custGeom>
              <a:avLst/>
              <a:gdLst/>
              <a:ahLst/>
              <a:rect l="l" t="t" r="r" b="b"/>
              <a:pathLst>
                <a:path w="120" h="135">
                  <a:moveTo>
                    <a:pt x="7" y="135"/>
                  </a:moveTo>
                  <a:lnTo>
                    <a:pt x="36" y="135"/>
                  </a:lnTo>
                  <a:lnTo>
                    <a:pt x="120" y="21"/>
                  </a:lnTo>
                  <a:lnTo>
                    <a:pt x="92" y="0"/>
                  </a:lnTo>
                  <a:lnTo>
                    <a:pt x="7" y="114"/>
                  </a:lnTo>
                  <a:lnTo>
                    <a:pt x="7" y="135"/>
                  </a:lnTo>
                  <a:lnTo>
                    <a:pt x="7" y="114"/>
                  </a:lnTo>
                  <a:lnTo>
                    <a:pt x="0" y="124"/>
                  </a:lnTo>
                  <a:lnTo>
                    <a:pt x="7" y="1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344760" y="1455840"/>
              <a:ext cx="46080" cy="5688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102" y="146"/>
                  </a:moveTo>
                  <a:lnTo>
                    <a:pt x="115" y="118"/>
                  </a:lnTo>
                  <a:lnTo>
                    <a:pt x="29" y="0"/>
                  </a:lnTo>
                  <a:lnTo>
                    <a:pt x="0" y="20"/>
                  </a:lnTo>
                  <a:lnTo>
                    <a:pt x="88" y="139"/>
                  </a:lnTo>
                  <a:lnTo>
                    <a:pt x="102" y="146"/>
                  </a:lnTo>
                  <a:lnTo>
                    <a:pt x="88" y="139"/>
                  </a:lnTo>
                  <a:lnTo>
                    <a:pt x="93" y="146"/>
                  </a:lnTo>
                  <a:lnTo>
                    <a:pt x="102" y="14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384720" y="1500120"/>
              <a:ext cx="96840" cy="14400"/>
            </a:xfrm>
            <a:custGeom>
              <a:avLst/>
              <a:gdLst/>
              <a:ahLst/>
              <a:rect l="l" t="t" r="r" b="b"/>
              <a:pathLst>
                <a:path w="241" h="36">
                  <a:moveTo>
                    <a:pt x="241" y="29"/>
                  </a:moveTo>
                  <a:lnTo>
                    <a:pt x="227" y="1"/>
                  </a:lnTo>
                  <a:lnTo>
                    <a:pt x="0" y="0"/>
                  </a:lnTo>
                  <a:lnTo>
                    <a:pt x="0" y="35"/>
                  </a:lnTo>
                  <a:lnTo>
                    <a:pt x="227" y="36"/>
                  </a:lnTo>
                  <a:lnTo>
                    <a:pt x="241" y="29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41" y="2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468600" y="1457280"/>
              <a:ext cx="46080" cy="54000"/>
            </a:xfrm>
            <a:custGeom>
              <a:avLst/>
              <a:gdLst/>
              <a:ahLst/>
              <a:rect l="l" t="t" r="r" b="b"/>
              <a:pathLst>
                <a:path w="112" h="137">
                  <a:moveTo>
                    <a:pt x="106" y="0"/>
                  </a:moveTo>
                  <a:lnTo>
                    <a:pt x="78" y="0"/>
                  </a:lnTo>
                  <a:lnTo>
                    <a:pt x="0" y="118"/>
                  </a:lnTo>
                  <a:lnTo>
                    <a:pt x="28" y="137"/>
                  </a:lnTo>
                  <a:lnTo>
                    <a:pt x="106" y="20"/>
                  </a:lnTo>
                  <a:lnTo>
                    <a:pt x="106" y="0"/>
                  </a:lnTo>
                  <a:lnTo>
                    <a:pt x="106" y="20"/>
                  </a:lnTo>
                  <a:lnTo>
                    <a:pt x="112" y="1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468600" y="1407960"/>
              <a:ext cx="42840" cy="5724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15" y="0"/>
                  </a:moveTo>
                  <a:lnTo>
                    <a:pt x="0" y="26"/>
                  </a:lnTo>
                  <a:lnTo>
                    <a:pt x="80" y="144"/>
                  </a:lnTo>
                  <a:lnTo>
                    <a:pt x="108" y="123"/>
                  </a:lnTo>
                  <a:lnTo>
                    <a:pt x="29" y="7"/>
                  </a:lnTo>
                  <a:lnTo>
                    <a:pt x="15" y="0"/>
                  </a:lnTo>
                  <a:lnTo>
                    <a:pt x="29" y="7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378240" y="1406520"/>
              <a:ext cx="96840" cy="14400"/>
            </a:xfrm>
            <a:custGeom>
              <a:avLst/>
              <a:gdLst/>
              <a:ahLst/>
              <a:rect l="l" t="t" r="r" b="b"/>
              <a:pathLst>
                <a:path w="243" h="36">
                  <a:moveTo>
                    <a:pt x="0" y="6"/>
                  </a:moveTo>
                  <a:lnTo>
                    <a:pt x="14" y="34"/>
                  </a:lnTo>
                  <a:lnTo>
                    <a:pt x="243" y="36"/>
                  </a:lnTo>
                  <a:lnTo>
                    <a:pt x="243" y="1"/>
                  </a:lnTo>
                  <a:lnTo>
                    <a:pt x="14" y="0"/>
                  </a:lnTo>
                  <a:lnTo>
                    <a:pt x="0" y="6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68680" y="2057400"/>
              <a:ext cx="155520" cy="95400"/>
            </a:xfrm>
            <a:custGeom>
              <a:avLst/>
              <a:gdLst/>
              <a:ahLst/>
              <a:rect l="l" t="t" r="r" b="b"/>
              <a:pathLst>
                <a:path w="392" h="239">
                  <a:moveTo>
                    <a:pt x="0" y="112"/>
                  </a:moveTo>
                  <a:lnTo>
                    <a:pt x="86" y="2"/>
                  </a:lnTo>
                  <a:lnTo>
                    <a:pt x="310" y="0"/>
                  </a:lnTo>
                  <a:lnTo>
                    <a:pt x="392" y="113"/>
                  </a:lnTo>
                  <a:lnTo>
                    <a:pt x="319" y="232"/>
                  </a:lnTo>
                  <a:lnTo>
                    <a:pt x="95" y="23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662200" y="2050920"/>
              <a:ext cx="44640" cy="55800"/>
            </a:xfrm>
            <a:custGeom>
              <a:avLst/>
              <a:gdLst/>
              <a:ahLst/>
              <a:rect l="l" t="t" r="r" b="b"/>
              <a:pathLst>
                <a:path w="113" h="138">
                  <a:moveTo>
                    <a:pt x="99" y="0"/>
                  </a:moveTo>
                  <a:lnTo>
                    <a:pt x="85" y="7"/>
                  </a:lnTo>
                  <a:lnTo>
                    <a:pt x="0" y="116"/>
                  </a:lnTo>
                  <a:lnTo>
                    <a:pt x="26" y="138"/>
                  </a:lnTo>
                  <a:lnTo>
                    <a:pt x="113" y="27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5" y="7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701800" y="2050920"/>
              <a:ext cx="95400" cy="14400"/>
            </a:xfrm>
            <a:custGeom>
              <a:avLst/>
              <a:gdLst/>
              <a:ahLst/>
              <a:rect l="l" t="t" r="r" b="b"/>
              <a:pathLst>
                <a:path w="238" h="36">
                  <a:moveTo>
                    <a:pt x="238" y="7"/>
                  </a:moveTo>
                  <a:lnTo>
                    <a:pt x="224" y="0"/>
                  </a:lnTo>
                  <a:lnTo>
                    <a:pt x="0" y="1"/>
                  </a:lnTo>
                  <a:lnTo>
                    <a:pt x="0" y="36"/>
                  </a:lnTo>
                  <a:lnTo>
                    <a:pt x="225" y="34"/>
                  </a:lnTo>
                  <a:lnTo>
                    <a:pt x="238" y="7"/>
                  </a:lnTo>
                  <a:lnTo>
                    <a:pt x="238" y="7"/>
                  </a:lnTo>
                  <a:lnTo>
                    <a:pt x="233" y="0"/>
                  </a:lnTo>
                  <a:lnTo>
                    <a:pt x="224" y="0"/>
                  </a:lnTo>
                  <a:lnTo>
                    <a:pt x="238" y="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786040" y="2054160"/>
              <a:ext cx="46080" cy="52560"/>
            </a:xfrm>
            <a:custGeom>
              <a:avLst/>
              <a:gdLst/>
              <a:ahLst/>
              <a:rect l="l" t="t" r="r" b="b"/>
              <a:pathLst>
                <a:path w="117" h="133">
                  <a:moveTo>
                    <a:pt x="111" y="132"/>
                  </a:moveTo>
                  <a:lnTo>
                    <a:pt x="110" y="112"/>
                  </a:lnTo>
                  <a:lnTo>
                    <a:pt x="28" y="0"/>
                  </a:lnTo>
                  <a:lnTo>
                    <a:pt x="0" y="20"/>
                  </a:lnTo>
                  <a:lnTo>
                    <a:pt x="82" y="133"/>
                  </a:lnTo>
                  <a:lnTo>
                    <a:pt x="111" y="132"/>
                  </a:lnTo>
                  <a:lnTo>
                    <a:pt x="111" y="132"/>
                  </a:lnTo>
                  <a:lnTo>
                    <a:pt x="117" y="122"/>
                  </a:lnTo>
                  <a:lnTo>
                    <a:pt x="110" y="112"/>
                  </a:lnTo>
                  <a:lnTo>
                    <a:pt x="111" y="13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789280" y="2098800"/>
              <a:ext cx="39600" cy="56880"/>
            </a:xfrm>
            <a:custGeom>
              <a:avLst/>
              <a:gdLst/>
              <a:ahLst/>
              <a:rect l="l" t="t" r="r" b="b"/>
              <a:pathLst>
                <a:path w="102" h="144">
                  <a:moveTo>
                    <a:pt x="15" y="144"/>
                  </a:moveTo>
                  <a:lnTo>
                    <a:pt x="30" y="135"/>
                  </a:lnTo>
                  <a:lnTo>
                    <a:pt x="102" y="18"/>
                  </a:lnTo>
                  <a:lnTo>
                    <a:pt x="72" y="0"/>
                  </a:lnTo>
                  <a:lnTo>
                    <a:pt x="0" y="117"/>
                  </a:lnTo>
                  <a:lnTo>
                    <a:pt x="15" y="144"/>
                  </a:lnTo>
                  <a:lnTo>
                    <a:pt x="15" y="144"/>
                  </a:lnTo>
                  <a:lnTo>
                    <a:pt x="25" y="144"/>
                  </a:lnTo>
                  <a:lnTo>
                    <a:pt x="30" y="135"/>
                  </a:lnTo>
                  <a:lnTo>
                    <a:pt x="15" y="14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700360" y="2141640"/>
              <a:ext cx="95400" cy="17280"/>
            </a:xfrm>
            <a:custGeom>
              <a:avLst/>
              <a:gdLst/>
              <a:ahLst/>
              <a:rect l="l" t="t" r="r" b="b"/>
              <a:pathLst>
                <a:path w="238" h="43">
                  <a:moveTo>
                    <a:pt x="0" y="36"/>
                  </a:moveTo>
                  <a:lnTo>
                    <a:pt x="14" y="43"/>
                  </a:lnTo>
                  <a:lnTo>
                    <a:pt x="238" y="35"/>
                  </a:lnTo>
                  <a:lnTo>
                    <a:pt x="237" y="0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4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658960" y="2097000"/>
              <a:ext cx="52560" cy="5868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9" y="0"/>
                  </a:moveTo>
                  <a:lnTo>
                    <a:pt x="8" y="22"/>
                  </a:lnTo>
                  <a:lnTo>
                    <a:pt x="104" y="149"/>
                  </a:lnTo>
                  <a:lnTo>
                    <a:pt x="131" y="128"/>
                  </a:lnTo>
                  <a:lnTo>
                    <a:pt x="3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1"/>
                  </a:lnTo>
                  <a:lnTo>
                    <a:pt x="8" y="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712960" y="1709640"/>
              <a:ext cx="155520" cy="93600"/>
            </a:xfrm>
            <a:custGeom>
              <a:avLst/>
              <a:gdLst/>
              <a:ahLst/>
              <a:rect l="l" t="t" r="r" b="b"/>
              <a:pathLst>
                <a:path w="392" h="239">
                  <a:moveTo>
                    <a:pt x="0" y="111"/>
                  </a:moveTo>
                  <a:lnTo>
                    <a:pt x="86" y="1"/>
                  </a:lnTo>
                  <a:lnTo>
                    <a:pt x="311" y="0"/>
                  </a:lnTo>
                  <a:lnTo>
                    <a:pt x="392" y="112"/>
                  </a:lnTo>
                  <a:lnTo>
                    <a:pt x="320" y="230"/>
                  </a:lnTo>
                  <a:lnTo>
                    <a:pt x="96" y="239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706840" y="1701720"/>
              <a:ext cx="45720" cy="55800"/>
            </a:xfrm>
            <a:custGeom>
              <a:avLst/>
              <a:gdLst/>
              <a:ahLst/>
              <a:rect l="l" t="t" r="r" b="b"/>
              <a:pathLst>
                <a:path w="112" h="138">
                  <a:moveTo>
                    <a:pt x="99" y="0"/>
                  </a:moveTo>
                  <a:lnTo>
                    <a:pt x="86" y="8"/>
                  </a:lnTo>
                  <a:lnTo>
                    <a:pt x="0" y="117"/>
                  </a:lnTo>
                  <a:lnTo>
                    <a:pt x="27" y="138"/>
                  </a:lnTo>
                  <a:lnTo>
                    <a:pt x="112" y="29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6" y="8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746440" y="1701720"/>
              <a:ext cx="95040" cy="14400"/>
            </a:xfrm>
            <a:custGeom>
              <a:avLst/>
              <a:gdLst/>
              <a:ahLst/>
              <a:rect l="l" t="t" r="r" b="b"/>
              <a:pathLst>
                <a:path w="239" h="36">
                  <a:moveTo>
                    <a:pt x="239" y="7"/>
                  </a:moveTo>
                  <a:lnTo>
                    <a:pt x="225" y="0"/>
                  </a:lnTo>
                  <a:lnTo>
                    <a:pt x="0" y="1"/>
                  </a:lnTo>
                  <a:lnTo>
                    <a:pt x="0" y="36"/>
                  </a:lnTo>
                  <a:lnTo>
                    <a:pt x="225" y="35"/>
                  </a:lnTo>
                  <a:lnTo>
                    <a:pt x="239" y="7"/>
                  </a:lnTo>
                  <a:lnTo>
                    <a:pt x="239" y="7"/>
                  </a:lnTo>
                  <a:lnTo>
                    <a:pt x="233" y="0"/>
                  </a:lnTo>
                  <a:lnTo>
                    <a:pt x="225" y="0"/>
                  </a:lnTo>
                  <a:lnTo>
                    <a:pt x="239" y="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830680" y="1704960"/>
              <a:ext cx="45720" cy="52560"/>
            </a:xfrm>
            <a:custGeom>
              <a:avLst/>
              <a:gdLst/>
              <a:ahLst/>
              <a:rect l="l" t="t" r="r" b="b"/>
              <a:pathLst>
                <a:path w="117" h="134">
                  <a:moveTo>
                    <a:pt x="111" y="132"/>
                  </a:moveTo>
                  <a:lnTo>
                    <a:pt x="111" y="113"/>
                  </a:lnTo>
                  <a:lnTo>
                    <a:pt x="29" y="0"/>
                  </a:lnTo>
                  <a:lnTo>
                    <a:pt x="0" y="21"/>
                  </a:lnTo>
                  <a:lnTo>
                    <a:pt x="82" y="134"/>
                  </a:lnTo>
                  <a:lnTo>
                    <a:pt x="111" y="132"/>
                  </a:lnTo>
                  <a:lnTo>
                    <a:pt x="111" y="132"/>
                  </a:lnTo>
                  <a:lnTo>
                    <a:pt x="117" y="123"/>
                  </a:lnTo>
                  <a:lnTo>
                    <a:pt x="111" y="113"/>
                  </a:lnTo>
                  <a:lnTo>
                    <a:pt x="111" y="13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833560" y="1749600"/>
              <a:ext cx="39960" cy="56880"/>
            </a:xfrm>
            <a:custGeom>
              <a:avLst/>
              <a:gdLst/>
              <a:ahLst/>
              <a:rect l="l" t="t" r="r" b="b"/>
              <a:pathLst>
                <a:path w="102" h="144">
                  <a:moveTo>
                    <a:pt x="15" y="144"/>
                  </a:moveTo>
                  <a:lnTo>
                    <a:pt x="30" y="136"/>
                  </a:lnTo>
                  <a:lnTo>
                    <a:pt x="102" y="18"/>
                  </a:lnTo>
                  <a:lnTo>
                    <a:pt x="73" y="0"/>
                  </a:lnTo>
                  <a:lnTo>
                    <a:pt x="0" y="118"/>
                  </a:lnTo>
                  <a:lnTo>
                    <a:pt x="15" y="144"/>
                  </a:lnTo>
                  <a:lnTo>
                    <a:pt x="15" y="144"/>
                  </a:lnTo>
                  <a:lnTo>
                    <a:pt x="25" y="144"/>
                  </a:lnTo>
                  <a:lnTo>
                    <a:pt x="30" y="136"/>
                  </a:lnTo>
                  <a:lnTo>
                    <a:pt x="15" y="14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744640" y="1793880"/>
              <a:ext cx="95400" cy="15840"/>
            </a:xfrm>
            <a:custGeom>
              <a:avLst/>
              <a:gdLst/>
              <a:ahLst/>
              <a:rect l="l" t="t" r="r" b="b"/>
              <a:pathLst>
                <a:path w="239" h="44">
                  <a:moveTo>
                    <a:pt x="0" y="36"/>
                  </a:moveTo>
                  <a:lnTo>
                    <a:pt x="15" y="44"/>
                  </a:lnTo>
                  <a:lnTo>
                    <a:pt x="239" y="35"/>
                  </a:lnTo>
                  <a:lnTo>
                    <a:pt x="238" y="0"/>
                  </a:lnTo>
                  <a:lnTo>
                    <a:pt x="14" y="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44"/>
                  </a:lnTo>
                  <a:lnTo>
                    <a:pt x="15" y="44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703600" y="1747800"/>
              <a:ext cx="52200" cy="6048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9" y="0"/>
                  </a:moveTo>
                  <a:lnTo>
                    <a:pt x="9" y="21"/>
                  </a:lnTo>
                  <a:lnTo>
                    <a:pt x="103" y="148"/>
                  </a:lnTo>
                  <a:lnTo>
                    <a:pt x="131" y="128"/>
                  </a:lnTo>
                  <a:lnTo>
                    <a:pt x="36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1"/>
                  </a:lnTo>
                  <a:lnTo>
                    <a:pt x="9" y="2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584520" y="1409760"/>
              <a:ext cx="155520" cy="95040"/>
            </a:xfrm>
            <a:custGeom>
              <a:avLst/>
              <a:gdLst/>
              <a:ahLst/>
              <a:rect l="l" t="t" r="r" b="b"/>
              <a:pathLst>
                <a:path w="392" h="239">
                  <a:moveTo>
                    <a:pt x="0" y="110"/>
                  </a:moveTo>
                  <a:lnTo>
                    <a:pt x="86" y="1"/>
                  </a:lnTo>
                  <a:lnTo>
                    <a:pt x="309" y="0"/>
                  </a:lnTo>
                  <a:lnTo>
                    <a:pt x="392" y="113"/>
                  </a:lnTo>
                  <a:lnTo>
                    <a:pt x="319" y="230"/>
                  </a:lnTo>
                  <a:lnTo>
                    <a:pt x="95" y="239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578400" y="1403280"/>
              <a:ext cx="45720" cy="55800"/>
            </a:xfrm>
            <a:custGeom>
              <a:avLst/>
              <a:gdLst/>
              <a:ahLst/>
              <a:rect l="l" t="t" r="r" b="b"/>
              <a:pathLst>
                <a:path w="112" h="138">
                  <a:moveTo>
                    <a:pt x="99" y="0"/>
                  </a:moveTo>
                  <a:lnTo>
                    <a:pt x="85" y="7"/>
                  </a:lnTo>
                  <a:lnTo>
                    <a:pt x="0" y="118"/>
                  </a:lnTo>
                  <a:lnTo>
                    <a:pt x="26" y="138"/>
                  </a:lnTo>
                  <a:lnTo>
                    <a:pt x="112" y="29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5" y="7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618000" y="1403280"/>
              <a:ext cx="95040" cy="14400"/>
            </a:xfrm>
            <a:custGeom>
              <a:avLst/>
              <a:gdLst/>
              <a:ahLst/>
              <a:rect l="l" t="t" r="r" b="b"/>
              <a:pathLst>
                <a:path w="238" h="36">
                  <a:moveTo>
                    <a:pt x="238" y="7"/>
                  </a:moveTo>
                  <a:lnTo>
                    <a:pt x="223" y="0"/>
                  </a:lnTo>
                  <a:lnTo>
                    <a:pt x="0" y="1"/>
                  </a:lnTo>
                  <a:lnTo>
                    <a:pt x="0" y="36"/>
                  </a:lnTo>
                  <a:lnTo>
                    <a:pt x="223" y="35"/>
                  </a:lnTo>
                  <a:lnTo>
                    <a:pt x="238" y="7"/>
                  </a:lnTo>
                  <a:lnTo>
                    <a:pt x="238" y="7"/>
                  </a:lnTo>
                  <a:lnTo>
                    <a:pt x="233" y="0"/>
                  </a:lnTo>
                  <a:lnTo>
                    <a:pt x="223" y="0"/>
                  </a:lnTo>
                  <a:lnTo>
                    <a:pt x="238" y="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701880" y="1406520"/>
              <a:ext cx="46080" cy="52560"/>
            </a:xfrm>
            <a:custGeom>
              <a:avLst/>
              <a:gdLst/>
              <a:ahLst/>
              <a:rect l="l" t="t" r="r" b="b"/>
              <a:pathLst>
                <a:path w="117" h="133">
                  <a:moveTo>
                    <a:pt x="111" y="132"/>
                  </a:moveTo>
                  <a:lnTo>
                    <a:pt x="109" y="113"/>
                  </a:lnTo>
                  <a:lnTo>
                    <a:pt x="28" y="0"/>
                  </a:lnTo>
                  <a:lnTo>
                    <a:pt x="0" y="21"/>
                  </a:lnTo>
                  <a:lnTo>
                    <a:pt x="82" y="133"/>
                  </a:lnTo>
                  <a:lnTo>
                    <a:pt x="111" y="132"/>
                  </a:lnTo>
                  <a:lnTo>
                    <a:pt x="111" y="132"/>
                  </a:lnTo>
                  <a:lnTo>
                    <a:pt x="117" y="123"/>
                  </a:lnTo>
                  <a:lnTo>
                    <a:pt x="109" y="113"/>
                  </a:lnTo>
                  <a:lnTo>
                    <a:pt x="111" y="13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705120" y="1450800"/>
              <a:ext cx="39960" cy="57240"/>
            </a:xfrm>
            <a:custGeom>
              <a:avLst/>
              <a:gdLst/>
              <a:ahLst/>
              <a:rect l="l" t="t" r="r" b="b"/>
              <a:pathLst>
                <a:path w="102" h="144">
                  <a:moveTo>
                    <a:pt x="15" y="144"/>
                  </a:moveTo>
                  <a:lnTo>
                    <a:pt x="30" y="136"/>
                  </a:lnTo>
                  <a:lnTo>
                    <a:pt x="102" y="18"/>
                  </a:lnTo>
                  <a:lnTo>
                    <a:pt x="72" y="0"/>
                  </a:lnTo>
                  <a:lnTo>
                    <a:pt x="0" y="118"/>
                  </a:lnTo>
                  <a:lnTo>
                    <a:pt x="15" y="144"/>
                  </a:lnTo>
                  <a:lnTo>
                    <a:pt x="15" y="144"/>
                  </a:lnTo>
                  <a:lnTo>
                    <a:pt x="25" y="144"/>
                  </a:lnTo>
                  <a:lnTo>
                    <a:pt x="30" y="136"/>
                  </a:lnTo>
                  <a:lnTo>
                    <a:pt x="15" y="14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16200" y="1495440"/>
              <a:ext cx="95400" cy="15840"/>
            </a:xfrm>
            <a:custGeom>
              <a:avLst/>
              <a:gdLst/>
              <a:ahLst/>
              <a:rect l="l" t="t" r="r" b="b"/>
              <a:pathLst>
                <a:path w="239" h="41">
                  <a:moveTo>
                    <a:pt x="0" y="34"/>
                  </a:moveTo>
                  <a:lnTo>
                    <a:pt x="15" y="41"/>
                  </a:lnTo>
                  <a:lnTo>
                    <a:pt x="239" y="33"/>
                  </a:lnTo>
                  <a:lnTo>
                    <a:pt x="238" y="0"/>
                  </a:lnTo>
                  <a:lnTo>
                    <a:pt x="14" y="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15" y="4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575160" y="1450800"/>
              <a:ext cx="52200" cy="59040"/>
            </a:xfrm>
            <a:custGeom>
              <a:avLst/>
              <a:gdLst/>
              <a:ahLst/>
              <a:rect l="l" t="t" r="r" b="b"/>
              <a:pathLst>
                <a:path w="131" h="147">
                  <a:moveTo>
                    <a:pt x="9" y="0"/>
                  </a:moveTo>
                  <a:lnTo>
                    <a:pt x="7" y="20"/>
                  </a:lnTo>
                  <a:lnTo>
                    <a:pt x="103" y="147"/>
                  </a:lnTo>
                  <a:lnTo>
                    <a:pt x="131" y="127"/>
                  </a:lnTo>
                  <a:lnTo>
                    <a:pt x="3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9"/>
                  </a:lnTo>
                  <a:lnTo>
                    <a:pt x="7" y="2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68680" y="2176560"/>
              <a:ext cx="156960" cy="96840"/>
            </a:xfrm>
            <a:custGeom>
              <a:avLst/>
              <a:gdLst/>
              <a:ahLst/>
              <a:rect l="l" t="t" r="r" b="b"/>
              <a:pathLst>
                <a:path w="396" h="244">
                  <a:moveTo>
                    <a:pt x="0" y="118"/>
                  </a:moveTo>
                  <a:lnTo>
                    <a:pt x="90" y="0"/>
                  </a:lnTo>
                  <a:lnTo>
                    <a:pt x="315" y="1"/>
                  </a:lnTo>
                  <a:lnTo>
                    <a:pt x="396" y="117"/>
                  </a:lnTo>
                  <a:lnTo>
                    <a:pt x="325" y="233"/>
                  </a:lnTo>
                  <a:lnTo>
                    <a:pt x="100" y="244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64000" y="2170080"/>
              <a:ext cx="47520" cy="5724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104" y="0"/>
                  </a:moveTo>
                  <a:lnTo>
                    <a:pt x="90" y="7"/>
                  </a:lnTo>
                  <a:lnTo>
                    <a:pt x="0" y="125"/>
                  </a:lnTo>
                  <a:lnTo>
                    <a:pt x="28" y="147"/>
                  </a:lnTo>
                  <a:lnTo>
                    <a:pt x="118" y="28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90" y="7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705040" y="2170080"/>
              <a:ext cx="95400" cy="14400"/>
            </a:xfrm>
            <a:custGeom>
              <a:avLst/>
              <a:gdLst/>
              <a:ahLst/>
              <a:rect l="l" t="t" r="r" b="b"/>
              <a:pathLst>
                <a:path w="240" h="36">
                  <a:moveTo>
                    <a:pt x="240" y="10"/>
                  </a:moveTo>
                  <a:lnTo>
                    <a:pt x="225" y="1"/>
                  </a:lnTo>
                  <a:lnTo>
                    <a:pt x="0" y="0"/>
                  </a:lnTo>
                  <a:lnTo>
                    <a:pt x="0" y="35"/>
                  </a:lnTo>
                  <a:lnTo>
                    <a:pt x="225" y="36"/>
                  </a:lnTo>
                  <a:lnTo>
                    <a:pt x="240" y="10"/>
                  </a:lnTo>
                  <a:lnTo>
                    <a:pt x="240" y="10"/>
                  </a:lnTo>
                  <a:lnTo>
                    <a:pt x="235" y="1"/>
                  </a:lnTo>
                  <a:lnTo>
                    <a:pt x="225" y="1"/>
                  </a:lnTo>
                  <a:lnTo>
                    <a:pt x="240" y="1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89280" y="2173320"/>
              <a:ext cx="46080" cy="54000"/>
            </a:xfrm>
            <a:custGeom>
              <a:avLst/>
              <a:gdLst/>
              <a:ahLst/>
              <a:rect l="l" t="t" r="r" b="b"/>
              <a:pathLst>
                <a:path w="116" h="134">
                  <a:moveTo>
                    <a:pt x="110" y="133"/>
                  </a:moveTo>
                  <a:lnTo>
                    <a:pt x="109" y="115"/>
                  </a:lnTo>
                  <a:lnTo>
                    <a:pt x="29" y="0"/>
                  </a:lnTo>
                  <a:lnTo>
                    <a:pt x="0" y="19"/>
                  </a:lnTo>
                  <a:lnTo>
                    <a:pt x="81" y="134"/>
                  </a:lnTo>
                  <a:lnTo>
                    <a:pt x="110" y="133"/>
                  </a:lnTo>
                  <a:lnTo>
                    <a:pt x="110" y="133"/>
                  </a:lnTo>
                  <a:lnTo>
                    <a:pt x="116" y="123"/>
                  </a:lnTo>
                  <a:lnTo>
                    <a:pt x="109" y="115"/>
                  </a:lnTo>
                  <a:lnTo>
                    <a:pt x="110" y="13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92520" y="2219400"/>
              <a:ext cx="39600" cy="57240"/>
            </a:xfrm>
            <a:custGeom>
              <a:avLst/>
              <a:gdLst/>
              <a:ahLst/>
              <a:rect l="l" t="t" r="r" b="b"/>
              <a:pathLst>
                <a:path w="101" h="144">
                  <a:moveTo>
                    <a:pt x="16" y="144"/>
                  </a:moveTo>
                  <a:lnTo>
                    <a:pt x="29" y="136"/>
                  </a:lnTo>
                  <a:lnTo>
                    <a:pt x="101" y="18"/>
                  </a:lnTo>
                  <a:lnTo>
                    <a:pt x="71" y="0"/>
                  </a:lnTo>
                  <a:lnTo>
                    <a:pt x="0" y="118"/>
                  </a:lnTo>
                  <a:lnTo>
                    <a:pt x="16" y="144"/>
                  </a:lnTo>
                  <a:lnTo>
                    <a:pt x="16" y="144"/>
                  </a:lnTo>
                  <a:lnTo>
                    <a:pt x="24" y="143"/>
                  </a:lnTo>
                  <a:lnTo>
                    <a:pt x="29" y="136"/>
                  </a:lnTo>
                  <a:lnTo>
                    <a:pt x="16" y="14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703600" y="2262240"/>
              <a:ext cx="95040" cy="172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0" y="39"/>
                  </a:moveTo>
                  <a:lnTo>
                    <a:pt x="15" y="46"/>
                  </a:lnTo>
                  <a:lnTo>
                    <a:pt x="239" y="35"/>
                  </a:lnTo>
                  <a:lnTo>
                    <a:pt x="237" y="0"/>
                  </a:lnTo>
                  <a:lnTo>
                    <a:pt x="13" y="11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6" y="46"/>
                  </a:lnTo>
                  <a:lnTo>
                    <a:pt x="15" y="46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660760" y="2219400"/>
              <a:ext cx="54000" cy="58680"/>
            </a:xfrm>
            <a:custGeom>
              <a:avLst/>
              <a:gdLst/>
              <a:ahLst/>
              <a:rect l="l" t="t" r="r" b="b"/>
              <a:pathLst>
                <a:path w="137" h="148">
                  <a:moveTo>
                    <a:pt x="8" y="0"/>
                  </a:moveTo>
                  <a:lnTo>
                    <a:pt x="8" y="22"/>
                  </a:lnTo>
                  <a:lnTo>
                    <a:pt x="109" y="148"/>
                  </a:lnTo>
                  <a:lnTo>
                    <a:pt x="137" y="126"/>
                  </a:lnTo>
                  <a:lnTo>
                    <a:pt x="3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lnTo>
                    <a:pt x="8" y="2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714760" y="1827360"/>
              <a:ext cx="156960" cy="96840"/>
            </a:xfrm>
            <a:custGeom>
              <a:avLst/>
              <a:gdLst/>
              <a:ahLst/>
              <a:rect l="l" t="t" r="r" b="b"/>
              <a:pathLst>
                <a:path w="396" h="243">
                  <a:moveTo>
                    <a:pt x="0" y="117"/>
                  </a:moveTo>
                  <a:lnTo>
                    <a:pt x="90" y="0"/>
                  </a:lnTo>
                  <a:lnTo>
                    <a:pt x="315" y="1"/>
                  </a:lnTo>
                  <a:lnTo>
                    <a:pt x="396" y="116"/>
                  </a:lnTo>
                  <a:lnTo>
                    <a:pt x="325" y="233"/>
                  </a:lnTo>
                  <a:lnTo>
                    <a:pt x="100" y="243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708280" y="1820880"/>
              <a:ext cx="47520" cy="57240"/>
            </a:xfrm>
            <a:custGeom>
              <a:avLst/>
              <a:gdLst/>
              <a:ahLst/>
              <a:rect l="l" t="t" r="r" b="b"/>
              <a:pathLst>
                <a:path w="118" h="146">
                  <a:moveTo>
                    <a:pt x="105" y="0"/>
                  </a:moveTo>
                  <a:lnTo>
                    <a:pt x="90" y="7"/>
                  </a:lnTo>
                  <a:lnTo>
                    <a:pt x="0" y="125"/>
                  </a:lnTo>
                  <a:lnTo>
                    <a:pt x="28" y="146"/>
                  </a:lnTo>
                  <a:lnTo>
                    <a:pt x="118" y="2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90" y="7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749680" y="1820880"/>
              <a:ext cx="95040" cy="14400"/>
            </a:xfrm>
            <a:custGeom>
              <a:avLst/>
              <a:gdLst/>
              <a:ahLst/>
              <a:rect l="l" t="t" r="r" b="b"/>
              <a:pathLst>
                <a:path w="240" h="36">
                  <a:moveTo>
                    <a:pt x="240" y="9"/>
                  </a:moveTo>
                  <a:lnTo>
                    <a:pt x="225" y="2"/>
                  </a:lnTo>
                  <a:lnTo>
                    <a:pt x="0" y="0"/>
                  </a:lnTo>
                  <a:lnTo>
                    <a:pt x="0" y="35"/>
                  </a:lnTo>
                  <a:lnTo>
                    <a:pt x="225" y="36"/>
                  </a:lnTo>
                  <a:lnTo>
                    <a:pt x="240" y="9"/>
                  </a:lnTo>
                  <a:lnTo>
                    <a:pt x="240" y="9"/>
                  </a:lnTo>
                  <a:lnTo>
                    <a:pt x="234" y="2"/>
                  </a:lnTo>
                  <a:lnTo>
                    <a:pt x="225" y="2"/>
                  </a:lnTo>
                  <a:lnTo>
                    <a:pt x="240" y="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833560" y="1824120"/>
              <a:ext cx="46080" cy="54000"/>
            </a:xfrm>
            <a:custGeom>
              <a:avLst/>
              <a:gdLst/>
              <a:ahLst/>
              <a:rect l="l" t="t" r="r" b="b"/>
              <a:pathLst>
                <a:path w="115" h="135">
                  <a:moveTo>
                    <a:pt x="109" y="135"/>
                  </a:moveTo>
                  <a:lnTo>
                    <a:pt x="109" y="116"/>
                  </a:lnTo>
                  <a:lnTo>
                    <a:pt x="29" y="0"/>
                  </a:lnTo>
                  <a:lnTo>
                    <a:pt x="0" y="20"/>
                  </a:lnTo>
                  <a:lnTo>
                    <a:pt x="80" y="135"/>
                  </a:lnTo>
                  <a:lnTo>
                    <a:pt x="109" y="135"/>
                  </a:lnTo>
                  <a:lnTo>
                    <a:pt x="109" y="135"/>
                  </a:lnTo>
                  <a:lnTo>
                    <a:pt x="115" y="125"/>
                  </a:lnTo>
                  <a:lnTo>
                    <a:pt x="109" y="116"/>
                  </a:lnTo>
                  <a:lnTo>
                    <a:pt x="109" y="1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836800" y="1870200"/>
              <a:ext cx="41400" cy="56880"/>
            </a:xfrm>
            <a:custGeom>
              <a:avLst/>
              <a:gdLst/>
              <a:ahLst/>
              <a:rect l="l" t="t" r="r" b="b"/>
              <a:pathLst>
                <a:path w="101" h="143">
                  <a:moveTo>
                    <a:pt x="16" y="143"/>
                  </a:moveTo>
                  <a:lnTo>
                    <a:pt x="30" y="134"/>
                  </a:lnTo>
                  <a:lnTo>
                    <a:pt x="101" y="18"/>
                  </a:lnTo>
                  <a:lnTo>
                    <a:pt x="71" y="0"/>
                  </a:lnTo>
                  <a:lnTo>
                    <a:pt x="0" y="116"/>
                  </a:lnTo>
                  <a:lnTo>
                    <a:pt x="16" y="143"/>
                  </a:lnTo>
                  <a:lnTo>
                    <a:pt x="16" y="143"/>
                  </a:lnTo>
                  <a:lnTo>
                    <a:pt x="25" y="143"/>
                  </a:lnTo>
                  <a:lnTo>
                    <a:pt x="30" y="134"/>
                  </a:lnTo>
                  <a:lnTo>
                    <a:pt x="16" y="14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749680" y="1913040"/>
              <a:ext cx="93600" cy="19080"/>
            </a:xfrm>
            <a:custGeom>
              <a:avLst/>
              <a:gdLst/>
              <a:ahLst/>
              <a:rect l="l" t="t" r="r" b="b"/>
              <a:pathLst>
                <a:path w="239" h="45">
                  <a:moveTo>
                    <a:pt x="0" y="38"/>
                  </a:moveTo>
                  <a:lnTo>
                    <a:pt x="14" y="45"/>
                  </a:lnTo>
                  <a:lnTo>
                    <a:pt x="239" y="35"/>
                  </a:lnTo>
                  <a:lnTo>
                    <a:pt x="238" y="0"/>
                  </a:lnTo>
                  <a:lnTo>
                    <a:pt x="13" y="11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5"/>
                  </a:lnTo>
                  <a:lnTo>
                    <a:pt x="14" y="4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705040" y="1870200"/>
              <a:ext cx="54000" cy="58680"/>
            </a:xfrm>
            <a:custGeom>
              <a:avLst/>
              <a:gdLst/>
              <a:ahLst/>
              <a:rect l="l" t="t" r="r" b="b"/>
              <a:pathLst>
                <a:path w="137" h="147">
                  <a:moveTo>
                    <a:pt x="8" y="0"/>
                  </a:moveTo>
                  <a:lnTo>
                    <a:pt x="8" y="21"/>
                  </a:lnTo>
                  <a:lnTo>
                    <a:pt x="109" y="147"/>
                  </a:lnTo>
                  <a:lnTo>
                    <a:pt x="137" y="126"/>
                  </a:lnTo>
                  <a:lnTo>
                    <a:pt x="3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0"/>
                  </a:lnTo>
                  <a:lnTo>
                    <a:pt x="8" y="2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243240" y="2104920"/>
              <a:ext cx="155520" cy="93600"/>
            </a:xfrm>
            <a:custGeom>
              <a:avLst/>
              <a:gdLst/>
              <a:ahLst/>
              <a:rect l="l" t="t" r="r" b="b"/>
              <a:pathLst>
                <a:path w="393" h="235">
                  <a:moveTo>
                    <a:pt x="86" y="0"/>
                  </a:moveTo>
                  <a:lnTo>
                    <a:pt x="0" y="114"/>
                  </a:lnTo>
                  <a:lnTo>
                    <a:pt x="88" y="234"/>
                  </a:lnTo>
                  <a:lnTo>
                    <a:pt x="315" y="235"/>
                  </a:lnTo>
                  <a:lnTo>
                    <a:pt x="393" y="119"/>
                  </a:lnTo>
                  <a:lnTo>
                    <a:pt x="314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233880" y="2101680"/>
              <a:ext cx="47520" cy="52560"/>
            </a:xfrm>
            <a:custGeom>
              <a:avLst/>
              <a:gdLst/>
              <a:ahLst/>
              <a:rect l="l" t="t" r="r" b="b"/>
              <a:pathLst>
                <a:path w="120" h="134">
                  <a:moveTo>
                    <a:pt x="8" y="134"/>
                  </a:moveTo>
                  <a:lnTo>
                    <a:pt x="36" y="134"/>
                  </a:lnTo>
                  <a:lnTo>
                    <a:pt x="120" y="20"/>
                  </a:lnTo>
                  <a:lnTo>
                    <a:pt x="92" y="0"/>
                  </a:lnTo>
                  <a:lnTo>
                    <a:pt x="8" y="114"/>
                  </a:lnTo>
                  <a:lnTo>
                    <a:pt x="8" y="134"/>
                  </a:lnTo>
                  <a:lnTo>
                    <a:pt x="8" y="114"/>
                  </a:lnTo>
                  <a:lnTo>
                    <a:pt x="0" y="123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236760" y="2146320"/>
              <a:ext cx="46080" cy="5868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101" y="146"/>
                  </a:moveTo>
                  <a:lnTo>
                    <a:pt x="115" y="118"/>
                  </a:lnTo>
                  <a:lnTo>
                    <a:pt x="28" y="0"/>
                  </a:lnTo>
                  <a:lnTo>
                    <a:pt x="0" y="20"/>
                  </a:lnTo>
                  <a:lnTo>
                    <a:pt x="87" y="139"/>
                  </a:lnTo>
                  <a:lnTo>
                    <a:pt x="101" y="146"/>
                  </a:lnTo>
                  <a:lnTo>
                    <a:pt x="87" y="139"/>
                  </a:lnTo>
                  <a:lnTo>
                    <a:pt x="93" y="146"/>
                  </a:lnTo>
                  <a:lnTo>
                    <a:pt x="101" y="14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278160" y="2190600"/>
              <a:ext cx="95400" cy="14400"/>
            </a:xfrm>
            <a:custGeom>
              <a:avLst/>
              <a:gdLst/>
              <a:ahLst/>
              <a:rect l="l" t="t" r="r" b="b"/>
              <a:pathLst>
                <a:path w="241" h="36">
                  <a:moveTo>
                    <a:pt x="241" y="29"/>
                  </a:moveTo>
                  <a:lnTo>
                    <a:pt x="227" y="1"/>
                  </a:lnTo>
                  <a:lnTo>
                    <a:pt x="0" y="0"/>
                  </a:lnTo>
                  <a:lnTo>
                    <a:pt x="0" y="35"/>
                  </a:lnTo>
                  <a:lnTo>
                    <a:pt x="227" y="36"/>
                  </a:lnTo>
                  <a:lnTo>
                    <a:pt x="241" y="29"/>
                  </a:lnTo>
                  <a:lnTo>
                    <a:pt x="227" y="36"/>
                  </a:lnTo>
                  <a:lnTo>
                    <a:pt x="236" y="36"/>
                  </a:lnTo>
                  <a:lnTo>
                    <a:pt x="241" y="2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362400" y="2147760"/>
              <a:ext cx="44280" cy="54000"/>
            </a:xfrm>
            <a:custGeom>
              <a:avLst/>
              <a:gdLst/>
              <a:ahLst/>
              <a:rect l="l" t="t" r="r" b="b"/>
              <a:pathLst>
                <a:path w="113" h="137">
                  <a:moveTo>
                    <a:pt x="107" y="0"/>
                  </a:moveTo>
                  <a:lnTo>
                    <a:pt x="78" y="1"/>
                  </a:lnTo>
                  <a:lnTo>
                    <a:pt x="0" y="118"/>
                  </a:lnTo>
                  <a:lnTo>
                    <a:pt x="29" y="137"/>
                  </a:lnTo>
                  <a:lnTo>
                    <a:pt x="107" y="21"/>
                  </a:lnTo>
                  <a:lnTo>
                    <a:pt x="107" y="0"/>
                  </a:lnTo>
                  <a:lnTo>
                    <a:pt x="107" y="21"/>
                  </a:lnTo>
                  <a:lnTo>
                    <a:pt x="113" y="11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360600" y="2098800"/>
              <a:ext cx="42840" cy="5688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15" y="0"/>
                  </a:moveTo>
                  <a:lnTo>
                    <a:pt x="0" y="26"/>
                  </a:lnTo>
                  <a:lnTo>
                    <a:pt x="79" y="144"/>
                  </a:lnTo>
                  <a:lnTo>
                    <a:pt x="108" y="123"/>
                  </a:lnTo>
                  <a:lnTo>
                    <a:pt x="29" y="7"/>
                  </a:lnTo>
                  <a:lnTo>
                    <a:pt x="15" y="0"/>
                  </a:lnTo>
                  <a:lnTo>
                    <a:pt x="29" y="7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270240" y="2098800"/>
              <a:ext cx="96840" cy="14040"/>
            </a:xfrm>
            <a:custGeom>
              <a:avLst/>
              <a:gdLst/>
              <a:ahLst/>
              <a:rect l="l" t="t" r="r" b="b"/>
              <a:pathLst>
                <a:path w="243" h="36">
                  <a:moveTo>
                    <a:pt x="0" y="8"/>
                  </a:moveTo>
                  <a:lnTo>
                    <a:pt x="15" y="35"/>
                  </a:lnTo>
                  <a:lnTo>
                    <a:pt x="243" y="36"/>
                  </a:lnTo>
                  <a:lnTo>
                    <a:pt x="243" y="2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0"/>
                  </a:lnTo>
                  <a:lnTo>
                    <a:pt x="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287880" y="1755720"/>
              <a:ext cx="155520" cy="93600"/>
            </a:xfrm>
            <a:custGeom>
              <a:avLst/>
              <a:gdLst/>
              <a:ahLst/>
              <a:rect l="l" t="t" r="r" b="b"/>
              <a:pathLst>
                <a:path w="392" h="235">
                  <a:moveTo>
                    <a:pt x="84" y="0"/>
                  </a:moveTo>
                  <a:lnTo>
                    <a:pt x="0" y="114"/>
                  </a:lnTo>
                  <a:lnTo>
                    <a:pt x="87" y="234"/>
                  </a:lnTo>
                  <a:lnTo>
                    <a:pt x="314" y="235"/>
                  </a:lnTo>
                  <a:lnTo>
                    <a:pt x="392" y="119"/>
                  </a:lnTo>
                  <a:lnTo>
                    <a:pt x="312" y="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279600" y="1752480"/>
              <a:ext cx="47880" cy="52560"/>
            </a:xfrm>
            <a:custGeom>
              <a:avLst/>
              <a:gdLst/>
              <a:ahLst/>
              <a:rect l="l" t="t" r="r" b="b"/>
              <a:pathLst>
                <a:path w="120" h="135">
                  <a:moveTo>
                    <a:pt x="7" y="135"/>
                  </a:moveTo>
                  <a:lnTo>
                    <a:pt x="35" y="135"/>
                  </a:lnTo>
                  <a:lnTo>
                    <a:pt x="120" y="21"/>
                  </a:lnTo>
                  <a:lnTo>
                    <a:pt x="91" y="0"/>
                  </a:lnTo>
                  <a:lnTo>
                    <a:pt x="7" y="114"/>
                  </a:lnTo>
                  <a:lnTo>
                    <a:pt x="7" y="135"/>
                  </a:lnTo>
                  <a:lnTo>
                    <a:pt x="7" y="114"/>
                  </a:lnTo>
                  <a:lnTo>
                    <a:pt x="0" y="124"/>
                  </a:lnTo>
                  <a:lnTo>
                    <a:pt x="7" y="1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282840" y="1797120"/>
              <a:ext cx="44640" cy="58680"/>
            </a:xfrm>
            <a:custGeom>
              <a:avLst/>
              <a:gdLst/>
              <a:ahLst/>
              <a:rect l="l" t="t" r="r" b="b"/>
              <a:pathLst>
                <a:path w="115" h="147">
                  <a:moveTo>
                    <a:pt x="101" y="147"/>
                  </a:moveTo>
                  <a:lnTo>
                    <a:pt x="115" y="119"/>
                  </a:lnTo>
                  <a:lnTo>
                    <a:pt x="28" y="0"/>
                  </a:lnTo>
                  <a:lnTo>
                    <a:pt x="0" y="21"/>
                  </a:lnTo>
                  <a:lnTo>
                    <a:pt x="88" y="139"/>
                  </a:lnTo>
                  <a:lnTo>
                    <a:pt x="101" y="147"/>
                  </a:lnTo>
                  <a:lnTo>
                    <a:pt x="88" y="139"/>
                  </a:lnTo>
                  <a:lnTo>
                    <a:pt x="92" y="147"/>
                  </a:lnTo>
                  <a:lnTo>
                    <a:pt x="101" y="14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322800" y="1841400"/>
              <a:ext cx="95040" cy="15840"/>
            </a:xfrm>
            <a:custGeom>
              <a:avLst/>
              <a:gdLst/>
              <a:ahLst/>
              <a:rect l="l" t="t" r="r" b="b"/>
              <a:pathLst>
                <a:path w="241" h="37">
                  <a:moveTo>
                    <a:pt x="241" y="29"/>
                  </a:moveTo>
                  <a:lnTo>
                    <a:pt x="227" y="2"/>
                  </a:lnTo>
                  <a:lnTo>
                    <a:pt x="0" y="0"/>
                  </a:lnTo>
                  <a:lnTo>
                    <a:pt x="0" y="35"/>
                  </a:lnTo>
                  <a:lnTo>
                    <a:pt x="227" y="37"/>
                  </a:lnTo>
                  <a:lnTo>
                    <a:pt x="241" y="29"/>
                  </a:lnTo>
                  <a:lnTo>
                    <a:pt x="227" y="37"/>
                  </a:lnTo>
                  <a:lnTo>
                    <a:pt x="236" y="37"/>
                  </a:lnTo>
                  <a:lnTo>
                    <a:pt x="241" y="2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406680" y="1800360"/>
              <a:ext cx="44640" cy="5220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107" y="0"/>
                  </a:moveTo>
                  <a:lnTo>
                    <a:pt x="78" y="0"/>
                  </a:lnTo>
                  <a:lnTo>
                    <a:pt x="0" y="116"/>
                  </a:lnTo>
                  <a:lnTo>
                    <a:pt x="29" y="136"/>
                  </a:lnTo>
                  <a:lnTo>
                    <a:pt x="107" y="19"/>
                  </a:lnTo>
                  <a:lnTo>
                    <a:pt x="107" y="0"/>
                  </a:lnTo>
                  <a:lnTo>
                    <a:pt x="107" y="19"/>
                  </a:lnTo>
                  <a:lnTo>
                    <a:pt x="114" y="1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406680" y="1749600"/>
              <a:ext cx="42840" cy="5688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14" y="0"/>
                  </a:moveTo>
                  <a:lnTo>
                    <a:pt x="0" y="28"/>
                  </a:lnTo>
                  <a:lnTo>
                    <a:pt x="79" y="144"/>
                  </a:lnTo>
                  <a:lnTo>
                    <a:pt x="108" y="125"/>
                  </a:lnTo>
                  <a:lnTo>
                    <a:pt x="29" y="8"/>
                  </a:lnTo>
                  <a:lnTo>
                    <a:pt x="14" y="0"/>
                  </a:lnTo>
                  <a:lnTo>
                    <a:pt x="29" y="8"/>
                  </a:lnTo>
                  <a:lnTo>
                    <a:pt x="2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16320" y="1749600"/>
              <a:ext cx="95040" cy="14040"/>
            </a:xfrm>
            <a:custGeom>
              <a:avLst/>
              <a:gdLst/>
              <a:ahLst/>
              <a:rect l="l" t="t" r="r" b="b"/>
              <a:pathLst>
                <a:path w="242" h="36">
                  <a:moveTo>
                    <a:pt x="0" y="7"/>
                  </a:moveTo>
                  <a:lnTo>
                    <a:pt x="14" y="35"/>
                  </a:lnTo>
                  <a:lnTo>
                    <a:pt x="242" y="36"/>
                  </a:lnTo>
                  <a:lnTo>
                    <a:pt x="242" y="1"/>
                  </a:lnTo>
                  <a:lnTo>
                    <a:pt x="14" y="0"/>
                  </a:lnTo>
                  <a:lnTo>
                    <a:pt x="0" y="7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159080" y="1457280"/>
              <a:ext cx="155880" cy="93600"/>
            </a:xfrm>
            <a:custGeom>
              <a:avLst/>
              <a:gdLst/>
              <a:ahLst/>
              <a:rect l="l" t="t" r="r" b="b"/>
              <a:pathLst>
                <a:path w="393" h="235">
                  <a:moveTo>
                    <a:pt x="85" y="0"/>
                  </a:moveTo>
                  <a:lnTo>
                    <a:pt x="0" y="115"/>
                  </a:lnTo>
                  <a:lnTo>
                    <a:pt x="88" y="234"/>
                  </a:lnTo>
                  <a:lnTo>
                    <a:pt x="315" y="235"/>
                  </a:lnTo>
                  <a:lnTo>
                    <a:pt x="393" y="118"/>
                  </a:lnTo>
                  <a:lnTo>
                    <a:pt x="313" y="2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149720" y="1454040"/>
              <a:ext cx="47520" cy="52560"/>
            </a:xfrm>
            <a:custGeom>
              <a:avLst/>
              <a:gdLst/>
              <a:ahLst/>
              <a:rect l="l" t="t" r="r" b="b"/>
              <a:pathLst>
                <a:path w="120" h="134">
                  <a:moveTo>
                    <a:pt x="7" y="134"/>
                  </a:moveTo>
                  <a:lnTo>
                    <a:pt x="36" y="134"/>
                  </a:lnTo>
                  <a:lnTo>
                    <a:pt x="120" y="21"/>
                  </a:lnTo>
                  <a:lnTo>
                    <a:pt x="92" y="0"/>
                  </a:lnTo>
                  <a:lnTo>
                    <a:pt x="8" y="114"/>
                  </a:lnTo>
                  <a:lnTo>
                    <a:pt x="7" y="134"/>
                  </a:lnTo>
                  <a:lnTo>
                    <a:pt x="8" y="114"/>
                  </a:lnTo>
                  <a:lnTo>
                    <a:pt x="0" y="125"/>
                  </a:lnTo>
                  <a:lnTo>
                    <a:pt x="7" y="13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52960" y="1498680"/>
              <a:ext cx="46080" cy="58680"/>
            </a:xfrm>
            <a:custGeom>
              <a:avLst/>
              <a:gdLst/>
              <a:ahLst/>
              <a:rect l="l" t="t" r="r" b="b"/>
              <a:pathLst>
                <a:path w="115" h="148">
                  <a:moveTo>
                    <a:pt x="102" y="148"/>
                  </a:moveTo>
                  <a:lnTo>
                    <a:pt x="115" y="119"/>
                  </a:lnTo>
                  <a:lnTo>
                    <a:pt x="29" y="0"/>
                  </a:lnTo>
                  <a:lnTo>
                    <a:pt x="0" y="20"/>
                  </a:lnTo>
                  <a:lnTo>
                    <a:pt x="87" y="140"/>
                  </a:lnTo>
                  <a:lnTo>
                    <a:pt x="102" y="148"/>
                  </a:lnTo>
                  <a:lnTo>
                    <a:pt x="87" y="140"/>
                  </a:lnTo>
                  <a:lnTo>
                    <a:pt x="93" y="146"/>
                  </a:lnTo>
                  <a:lnTo>
                    <a:pt x="102" y="148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4000" y="1542960"/>
              <a:ext cx="95400" cy="14400"/>
            </a:xfrm>
            <a:custGeom>
              <a:avLst/>
              <a:gdLst/>
              <a:ahLst/>
              <a:rect l="l" t="t" r="r" b="b"/>
              <a:pathLst>
                <a:path w="241" h="36">
                  <a:moveTo>
                    <a:pt x="241" y="27"/>
                  </a:moveTo>
                  <a:lnTo>
                    <a:pt x="227" y="1"/>
                  </a:lnTo>
                  <a:lnTo>
                    <a:pt x="0" y="0"/>
                  </a:lnTo>
                  <a:lnTo>
                    <a:pt x="0" y="35"/>
                  </a:lnTo>
                  <a:lnTo>
                    <a:pt x="227" y="36"/>
                  </a:lnTo>
                  <a:lnTo>
                    <a:pt x="241" y="27"/>
                  </a:lnTo>
                  <a:lnTo>
                    <a:pt x="227" y="36"/>
                  </a:lnTo>
                  <a:lnTo>
                    <a:pt x="236" y="36"/>
                  </a:lnTo>
                  <a:lnTo>
                    <a:pt x="241" y="2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78240" y="1500120"/>
              <a:ext cx="44640" cy="54000"/>
            </a:xfrm>
            <a:custGeom>
              <a:avLst/>
              <a:gdLst/>
              <a:ahLst/>
              <a:rect l="l" t="t" r="r" b="b"/>
              <a:pathLst>
                <a:path w="113" h="135">
                  <a:moveTo>
                    <a:pt x="107" y="0"/>
                  </a:moveTo>
                  <a:lnTo>
                    <a:pt x="78" y="0"/>
                  </a:lnTo>
                  <a:lnTo>
                    <a:pt x="0" y="116"/>
                  </a:lnTo>
                  <a:lnTo>
                    <a:pt x="29" y="135"/>
                  </a:lnTo>
                  <a:lnTo>
                    <a:pt x="107" y="19"/>
                  </a:lnTo>
                  <a:lnTo>
                    <a:pt x="107" y="0"/>
                  </a:lnTo>
                  <a:lnTo>
                    <a:pt x="107" y="19"/>
                  </a:lnTo>
                  <a:lnTo>
                    <a:pt x="113" y="9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278240" y="1450800"/>
              <a:ext cx="42840" cy="5724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14" y="0"/>
                  </a:moveTo>
                  <a:lnTo>
                    <a:pt x="0" y="28"/>
                  </a:lnTo>
                  <a:lnTo>
                    <a:pt x="79" y="144"/>
                  </a:lnTo>
                  <a:lnTo>
                    <a:pt x="108" y="125"/>
                  </a:lnTo>
                  <a:lnTo>
                    <a:pt x="29" y="9"/>
                  </a:lnTo>
                  <a:lnTo>
                    <a:pt x="14" y="0"/>
                  </a:lnTo>
                  <a:lnTo>
                    <a:pt x="29" y="9"/>
                  </a:lnTo>
                  <a:lnTo>
                    <a:pt x="2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187880" y="1450800"/>
              <a:ext cx="95040" cy="14400"/>
            </a:xfrm>
            <a:custGeom>
              <a:avLst/>
              <a:gdLst/>
              <a:ahLst/>
              <a:rect l="l" t="t" r="r" b="b"/>
              <a:pathLst>
                <a:path w="242" h="36">
                  <a:moveTo>
                    <a:pt x="0" y="7"/>
                  </a:moveTo>
                  <a:lnTo>
                    <a:pt x="14" y="35"/>
                  </a:lnTo>
                  <a:lnTo>
                    <a:pt x="242" y="36"/>
                  </a:lnTo>
                  <a:lnTo>
                    <a:pt x="242" y="1"/>
                  </a:lnTo>
                  <a:lnTo>
                    <a:pt x="14" y="0"/>
                  </a:lnTo>
                  <a:lnTo>
                    <a:pt x="0" y="7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521160" y="2124000"/>
              <a:ext cx="155520" cy="95400"/>
            </a:xfrm>
            <a:custGeom>
              <a:avLst/>
              <a:gdLst/>
              <a:ahLst/>
              <a:rect l="l" t="t" r="r" b="b"/>
              <a:pathLst>
                <a:path w="392" h="239">
                  <a:moveTo>
                    <a:pt x="0" y="111"/>
                  </a:moveTo>
                  <a:lnTo>
                    <a:pt x="86" y="1"/>
                  </a:lnTo>
                  <a:lnTo>
                    <a:pt x="310" y="0"/>
                  </a:lnTo>
                  <a:lnTo>
                    <a:pt x="392" y="112"/>
                  </a:lnTo>
                  <a:lnTo>
                    <a:pt x="320" y="231"/>
                  </a:lnTo>
                  <a:lnTo>
                    <a:pt x="95" y="239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516480" y="2117880"/>
              <a:ext cx="44280" cy="54000"/>
            </a:xfrm>
            <a:custGeom>
              <a:avLst/>
              <a:gdLst/>
              <a:ahLst/>
              <a:rect l="l" t="t" r="r" b="b"/>
              <a:pathLst>
                <a:path w="114" h="138">
                  <a:moveTo>
                    <a:pt x="100" y="0"/>
                  </a:moveTo>
                  <a:lnTo>
                    <a:pt x="86" y="8"/>
                  </a:lnTo>
                  <a:lnTo>
                    <a:pt x="0" y="117"/>
                  </a:lnTo>
                  <a:lnTo>
                    <a:pt x="28" y="138"/>
                  </a:lnTo>
                  <a:lnTo>
                    <a:pt x="114" y="29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6" y="8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554280" y="2117880"/>
              <a:ext cx="95400" cy="14040"/>
            </a:xfrm>
            <a:custGeom>
              <a:avLst/>
              <a:gdLst/>
              <a:ahLst/>
              <a:rect l="l" t="t" r="r" b="b"/>
              <a:pathLst>
                <a:path w="238" h="36">
                  <a:moveTo>
                    <a:pt x="238" y="7"/>
                  </a:moveTo>
                  <a:lnTo>
                    <a:pt x="224" y="0"/>
                  </a:lnTo>
                  <a:lnTo>
                    <a:pt x="0" y="1"/>
                  </a:lnTo>
                  <a:lnTo>
                    <a:pt x="0" y="36"/>
                  </a:lnTo>
                  <a:lnTo>
                    <a:pt x="224" y="35"/>
                  </a:lnTo>
                  <a:lnTo>
                    <a:pt x="238" y="7"/>
                  </a:lnTo>
                  <a:lnTo>
                    <a:pt x="238" y="7"/>
                  </a:lnTo>
                  <a:lnTo>
                    <a:pt x="232" y="0"/>
                  </a:lnTo>
                  <a:lnTo>
                    <a:pt x="224" y="0"/>
                  </a:lnTo>
                  <a:lnTo>
                    <a:pt x="238" y="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638520" y="2119320"/>
              <a:ext cx="46080" cy="54000"/>
            </a:xfrm>
            <a:custGeom>
              <a:avLst/>
              <a:gdLst/>
              <a:ahLst/>
              <a:rect l="l" t="t" r="r" b="b"/>
              <a:pathLst>
                <a:path w="117" h="134">
                  <a:moveTo>
                    <a:pt x="111" y="132"/>
                  </a:moveTo>
                  <a:lnTo>
                    <a:pt x="110" y="113"/>
                  </a:lnTo>
                  <a:lnTo>
                    <a:pt x="28" y="0"/>
                  </a:lnTo>
                  <a:lnTo>
                    <a:pt x="0" y="21"/>
                  </a:lnTo>
                  <a:lnTo>
                    <a:pt x="82" y="134"/>
                  </a:lnTo>
                  <a:lnTo>
                    <a:pt x="111" y="132"/>
                  </a:lnTo>
                  <a:lnTo>
                    <a:pt x="111" y="132"/>
                  </a:lnTo>
                  <a:lnTo>
                    <a:pt x="117" y="123"/>
                  </a:lnTo>
                  <a:lnTo>
                    <a:pt x="110" y="113"/>
                  </a:lnTo>
                  <a:lnTo>
                    <a:pt x="111" y="13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641760" y="2165400"/>
              <a:ext cx="41400" cy="57240"/>
            </a:xfrm>
            <a:custGeom>
              <a:avLst/>
              <a:gdLst/>
              <a:ahLst/>
              <a:rect l="l" t="t" r="r" b="b"/>
              <a:pathLst>
                <a:path w="102" h="144">
                  <a:moveTo>
                    <a:pt x="15" y="144"/>
                  </a:moveTo>
                  <a:lnTo>
                    <a:pt x="29" y="136"/>
                  </a:lnTo>
                  <a:lnTo>
                    <a:pt x="102" y="18"/>
                  </a:lnTo>
                  <a:lnTo>
                    <a:pt x="72" y="0"/>
                  </a:lnTo>
                  <a:lnTo>
                    <a:pt x="0" y="118"/>
                  </a:lnTo>
                  <a:lnTo>
                    <a:pt x="15" y="144"/>
                  </a:lnTo>
                  <a:lnTo>
                    <a:pt x="15" y="144"/>
                  </a:lnTo>
                  <a:lnTo>
                    <a:pt x="24" y="144"/>
                  </a:lnTo>
                  <a:lnTo>
                    <a:pt x="29" y="136"/>
                  </a:lnTo>
                  <a:lnTo>
                    <a:pt x="15" y="144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552840" y="2208240"/>
              <a:ext cx="95400" cy="17280"/>
            </a:xfrm>
            <a:custGeom>
              <a:avLst/>
              <a:gdLst/>
              <a:ahLst/>
              <a:rect l="l" t="t" r="r" b="b"/>
              <a:pathLst>
                <a:path w="239" h="43">
                  <a:moveTo>
                    <a:pt x="0" y="36"/>
                  </a:moveTo>
                  <a:lnTo>
                    <a:pt x="15" y="43"/>
                  </a:lnTo>
                  <a:lnTo>
                    <a:pt x="239" y="34"/>
                  </a:lnTo>
                  <a:lnTo>
                    <a:pt x="237" y="0"/>
                  </a:lnTo>
                  <a:lnTo>
                    <a:pt x="14" y="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43"/>
                  </a:lnTo>
                  <a:lnTo>
                    <a:pt x="15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511440" y="2163600"/>
              <a:ext cx="52560" cy="59040"/>
            </a:xfrm>
            <a:custGeom>
              <a:avLst/>
              <a:gdLst/>
              <a:ahLst/>
              <a:rect l="l" t="t" r="r" b="b"/>
              <a:pathLst>
                <a:path w="132" h="149">
                  <a:moveTo>
                    <a:pt x="8" y="0"/>
                  </a:moveTo>
                  <a:lnTo>
                    <a:pt x="8" y="21"/>
                  </a:lnTo>
                  <a:lnTo>
                    <a:pt x="103" y="149"/>
                  </a:lnTo>
                  <a:lnTo>
                    <a:pt x="132" y="128"/>
                  </a:lnTo>
                  <a:lnTo>
                    <a:pt x="36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lnTo>
                    <a:pt x="8" y="2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930480" y="3967200"/>
              <a:ext cx="157320" cy="181080"/>
            </a:xfrm>
            <a:custGeom>
              <a:avLst/>
              <a:gdLst/>
              <a:ahLst/>
              <a:rect l="l" t="t" r="r" b="b"/>
              <a:pathLst>
                <a:path w="393" h="457">
                  <a:moveTo>
                    <a:pt x="150" y="1"/>
                  </a:moveTo>
                  <a:lnTo>
                    <a:pt x="153" y="232"/>
                  </a:lnTo>
                  <a:lnTo>
                    <a:pt x="116" y="209"/>
                  </a:lnTo>
                  <a:lnTo>
                    <a:pt x="0" y="417"/>
                  </a:lnTo>
                  <a:lnTo>
                    <a:pt x="55" y="457"/>
                  </a:lnTo>
                  <a:lnTo>
                    <a:pt x="178" y="253"/>
                  </a:lnTo>
                  <a:lnTo>
                    <a:pt x="202" y="256"/>
                  </a:lnTo>
                  <a:lnTo>
                    <a:pt x="328" y="452"/>
                  </a:lnTo>
                  <a:lnTo>
                    <a:pt x="393" y="419"/>
                  </a:lnTo>
                  <a:lnTo>
                    <a:pt x="268" y="211"/>
                  </a:lnTo>
                  <a:lnTo>
                    <a:pt x="232" y="233"/>
                  </a:lnTo>
                  <a:lnTo>
                    <a:pt x="235" y="0"/>
                  </a:lnTo>
                  <a:lnTo>
                    <a:pt x="150" y="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930480" y="3967200"/>
              <a:ext cx="157320" cy="181080"/>
            </a:xfrm>
            <a:custGeom>
              <a:avLst/>
              <a:gdLst/>
              <a:ahLst/>
              <a:rect l="l" t="t" r="r" b="b"/>
              <a:pathLst>
                <a:path w="393" h="457">
                  <a:moveTo>
                    <a:pt x="150" y="1"/>
                  </a:moveTo>
                  <a:lnTo>
                    <a:pt x="153" y="232"/>
                  </a:lnTo>
                  <a:lnTo>
                    <a:pt x="116" y="209"/>
                  </a:lnTo>
                  <a:lnTo>
                    <a:pt x="0" y="417"/>
                  </a:lnTo>
                  <a:lnTo>
                    <a:pt x="55" y="457"/>
                  </a:lnTo>
                  <a:lnTo>
                    <a:pt x="178" y="253"/>
                  </a:lnTo>
                  <a:lnTo>
                    <a:pt x="202" y="256"/>
                  </a:lnTo>
                  <a:lnTo>
                    <a:pt x="328" y="452"/>
                  </a:lnTo>
                  <a:lnTo>
                    <a:pt x="393" y="419"/>
                  </a:lnTo>
                  <a:lnTo>
                    <a:pt x="268" y="211"/>
                  </a:lnTo>
                  <a:lnTo>
                    <a:pt x="232" y="233"/>
                  </a:lnTo>
                  <a:lnTo>
                    <a:pt x="235" y="0"/>
                  </a:lnTo>
                  <a:lnTo>
                    <a:pt x="150" y="1"/>
                  </a:lnTo>
                </a:path>
              </a:pathLst>
            </a:custGeom>
            <a:noFill/>
            <a:ln w="1440">
              <a:solidFill>
                <a:srgbClr val="9234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145040" y="3965400"/>
              <a:ext cx="187200" cy="192240"/>
            </a:xfrm>
            <a:custGeom>
              <a:avLst/>
              <a:gdLst/>
              <a:ahLst/>
              <a:rect l="l" t="t" r="r" b="b"/>
              <a:pathLst>
                <a:path w="473" h="486">
                  <a:moveTo>
                    <a:pt x="419" y="0"/>
                  </a:moveTo>
                  <a:lnTo>
                    <a:pt x="256" y="166"/>
                  </a:lnTo>
                  <a:lnTo>
                    <a:pt x="234" y="125"/>
                  </a:lnTo>
                  <a:lnTo>
                    <a:pt x="0" y="190"/>
                  </a:lnTo>
                  <a:lnTo>
                    <a:pt x="48" y="215"/>
                  </a:lnTo>
                  <a:lnTo>
                    <a:pt x="20" y="259"/>
                  </a:lnTo>
                  <a:lnTo>
                    <a:pt x="250" y="197"/>
                  </a:lnTo>
                  <a:lnTo>
                    <a:pt x="274" y="223"/>
                  </a:lnTo>
                  <a:lnTo>
                    <a:pt x="216" y="450"/>
                  </a:lnTo>
                  <a:lnTo>
                    <a:pt x="253" y="434"/>
                  </a:lnTo>
                  <a:lnTo>
                    <a:pt x="283" y="486"/>
                  </a:lnTo>
                  <a:lnTo>
                    <a:pt x="352" y="239"/>
                  </a:lnTo>
                  <a:lnTo>
                    <a:pt x="305" y="223"/>
                  </a:lnTo>
                  <a:lnTo>
                    <a:pt x="473" y="58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145040" y="3965400"/>
              <a:ext cx="187200" cy="192240"/>
            </a:xfrm>
            <a:custGeom>
              <a:avLst/>
              <a:gdLst/>
              <a:ahLst/>
              <a:rect l="l" t="t" r="r" b="b"/>
              <a:pathLst>
                <a:path w="473" h="486">
                  <a:moveTo>
                    <a:pt x="419" y="0"/>
                  </a:moveTo>
                  <a:lnTo>
                    <a:pt x="256" y="166"/>
                  </a:lnTo>
                  <a:lnTo>
                    <a:pt x="234" y="125"/>
                  </a:lnTo>
                  <a:lnTo>
                    <a:pt x="0" y="190"/>
                  </a:lnTo>
                  <a:lnTo>
                    <a:pt x="48" y="215"/>
                  </a:lnTo>
                  <a:lnTo>
                    <a:pt x="20" y="259"/>
                  </a:lnTo>
                  <a:lnTo>
                    <a:pt x="250" y="197"/>
                  </a:lnTo>
                  <a:lnTo>
                    <a:pt x="274" y="223"/>
                  </a:lnTo>
                  <a:lnTo>
                    <a:pt x="216" y="450"/>
                  </a:lnTo>
                  <a:lnTo>
                    <a:pt x="253" y="434"/>
                  </a:lnTo>
                  <a:lnTo>
                    <a:pt x="283" y="486"/>
                  </a:lnTo>
                  <a:lnTo>
                    <a:pt x="352" y="239"/>
                  </a:lnTo>
                  <a:lnTo>
                    <a:pt x="305" y="223"/>
                  </a:lnTo>
                  <a:lnTo>
                    <a:pt x="473" y="58"/>
                  </a:lnTo>
                  <a:lnTo>
                    <a:pt x="419" y="0"/>
                  </a:lnTo>
                </a:path>
              </a:pathLst>
            </a:custGeom>
            <a:noFill/>
            <a:ln w="1440">
              <a:solidFill>
                <a:srgbClr val="9234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030560" y="4154400"/>
              <a:ext cx="176400" cy="182520"/>
            </a:xfrm>
            <a:custGeom>
              <a:avLst/>
              <a:gdLst/>
              <a:ahLst/>
              <a:rect l="l" t="t" r="r" b="b"/>
              <a:pathLst>
                <a:path w="448" h="459">
                  <a:moveTo>
                    <a:pt x="176" y="0"/>
                  </a:moveTo>
                  <a:lnTo>
                    <a:pt x="176" y="233"/>
                  </a:lnTo>
                  <a:lnTo>
                    <a:pt x="138" y="212"/>
                  </a:lnTo>
                  <a:lnTo>
                    <a:pt x="0" y="455"/>
                  </a:lnTo>
                  <a:lnTo>
                    <a:pt x="78" y="457"/>
                  </a:lnTo>
                  <a:lnTo>
                    <a:pt x="202" y="253"/>
                  </a:lnTo>
                  <a:lnTo>
                    <a:pt x="230" y="253"/>
                  </a:lnTo>
                  <a:lnTo>
                    <a:pt x="360" y="457"/>
                  </a:lnTo>
                  <a:lnTo>
                    <a:pt x="448" y="459"/>
                  </a:lnTo>
                  <a:lnTo>
                    <a:pt x="295" y="217"/>
                  </a:lnTo>
                  <a:lnTo>
                    <a:pt x="266" y="237"/>
                  </a:lnTo>
                  <a:lnTo>
                    <a:pt x="259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030560" y="4154400"/>
              <a:ext cx="176400" cy="182520"/>
            </a:xfrm>
            <a:custGeom>
              <a:avLst/>
              <a:gdLst/>
              <a:ahLst/>
              <a:rect l="l" t="t" r="r" b="b"/>
              <a:pathLst>
                <a:path w="448" h="459">
                  <a:moveTo>
                    <a:pt x="176" y="0"/>
                  </a:moveTo>
                  <a:lnTo>
                    <a:pt x="176" y="233"/>
                  </a:lnTo>
                  <a:lnTo>
                    <a:pt x="138" y="212"/>
                  </a:lnTo>
                  <a:lnTo>
                    <a:pt x="0" y="455"/>
                  </a:lnTo>
                  <a:lnTo>
                    <a:pt x="78" y="457"/>
                  </a:lnTo>
                  <a:lnTo>
                    <a:pt x="202" y="253"/>
                  </a:lnTo>
                  <a:lnTo>
                    <a:pt x="230" y="253"/>
                  </a:lnTo>
                  <a:lnTo>
                    <a:pt x="360" y="457"/>
                  </a:lnTo>
                  <a:lnTo>
                    <a:pt x="448" y="459"/>
                  </a:lnTo>
                  <a:lnTo>
                    <a:pt x="295" y="217"/>
                  </a:lnTo>
                  <a:lnTo>
                    <a:pt x="266" y="237"/>
                  </a:lnTo>
                  <a:lnTo>
                    <a:pt x="259" y="0"/>
                  </a:lnTo>
                  <a:lnTo>
                    <a:pt x="176" y="0"/>
                  </a:lnTo>
                </a:path>
              </a:pathLst>
            </a:custGeom>
            <a:noFill/>
            <a:ln w="1440">
              <a:solidFill>
                <a:srgbClr val="9234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114880" y="1606680"/>
              <a:ext cx="1900440" cy="1209600"/>
            </a:xfrm>
            <a:custGeom>
              <a:avLst/>
              <a:gdLst/>
              <a:ahLst/>
              <a:rect l="l" t="t" r="r" b="b"/>
              <a:pathLst>
                <a:path w="4789" h="3048">
                  <a:moveTo>
                    <a:pt x="4680" y="2818"/>
                  </a:moveTo>
                  <a:lnTo>
                    <a:pt x="4686" y="2824"/>
                  </a:lnTo>
                  <a:lnTo>
                    <a:pt x="4700" y="2827"/>
                  </a:lnTo>
                  <a:lnTo>
                    <a:pt x="4738" y="2818"/>
                  </a:lnTo>
                  <a:lnTo>
                    <a:pt x="4789" y="2805"/>
                  </a:lnTo>
                  <a:lnTo>
                    <a:pt x="4623" y="3048"/>
                  </a:lnTo>
                  <a:lnTo>
                    <a:pt x="4366" y="2854"/>
                  </a:lnTo>
                  <a:lnTo>
                    <a:pt x="4484" y="2841"/>
                  </a:lnTo>
                  <a:lnTo>
                    <a:pt x="4404" y="2586"/>
                  </a:lnTo>
                  <a:lnTo>
                    <a:pt x="4305" y="2343"/>
                  </a:lnTo>
                  <a:lnTo>
                    <a:pt x="4197" y="2119"/>
                  </a:lnTo>
                  <a:lnTo>
                    <a:pt x="4071" y="1908"/>
                  </a:lnTo>
                  <a:lnTo>
                    <a:pt x="3934" y="1712"/>
                  </a:lnTo>
                  <a:lnTo>
                    <a:pt x="3788" y="1532"/>
                  </a:lnTo>
                  <a:lnTo>
                    <a:pt x="3627" y="1360"/>
                  </a:lnTo>
                  <a:lnTo>
                    <a:pt x="3462" y="1207"/>
                  </a:lnTo>
                  <a:lnTo>
                    <a:pt x="3288" y="1060"/>
                  </a:lnTo>
                  <a:lnTo>
                    <a:pt x="3103" y="931"/>
                  </a:lnTo>
                  <a:lnTo>
                    <a:pt x="2919" y="810"/>
                  </a:lnTo>
                  <a:lnTo>
                    <a:pt x="2730" y="702"/>
                  </a:lnTo>
                  <a:lnTo>
                    <a:pt x="2535" y="600"/>
                  </a:lnTo>
                  <a:lnTo>
                    <a:pt x="2340" y="514"/>
                  </a:lnTo>
                  <a:lnTo>
                    <a:pt x="2146" y="435"/>
                  </a:lnTo>
                  <a:lnTo>
                    <a:pt x="1954" y="362"/>
                  </a:lnTo>
                  <a:lnTo>
                    <a:pt x="1765" y="299"/>
                  </a:lnTo>
                  <a:lnTo>
                    <a:pt x="1576" y="243"/>
                  </a:lnTo>
                  <a:lnTo>
                    <a:pt x="1396" y="197"/>
                  </a:lnTo>
                  <a:lnTo>
                    <a:pt x="1215" y="154"/>
                  </a:lnTo>
                  <a:lnTo>
                    <a:pt x="884" y="90"/>
                  </a:lnTo>
                  <a:lnTo>
                    <a:pt x="591" y="47"/>
                  </a:lnTo>
                  <a:lnTo>
                    <a:pt x="346" y="22"/>
                  </a:lnTo>
                  <a:lnTo>
                    <a:pt x="162" y="9"/>
                  </a:lnTo>
                  <a:lnTo>
                    <a:pt x="0" y="0"/>
                  </a:lnTo>
                  <a:lnTo>
                    <a:pt x="168" y="8"/>
                  </a:lnTo>
                  <a:lnTo>
                    <a:pt x="366" y="23"/>
                  </a:lnTo>
                  <a:lnTo>
                    <a:pt x="626" y="53"/>
                  </a:lnTo>
                  <a:lnTo>
                    <a:pt x="934" y="99"/>
                  </a:lnTo>
                  <a:lnTo>
                    <a:pt x="1281" y="165"/>
                  </a:lnTo>
                  <a:lnTo>
                    <a:pt x="1471" y="207"/>
                  </a:lnTo>
                  <a:lnTo>
                    <a:pt x="1663" y="255"/>
                  </a:lnTo>
                  <a:lnTo>
                    <a:pt x="1861" y="312"/>
                  </a:lnTo>
                  <a:lnTo>
                    <a:pt x="2060" y="374"/>
                  </a:lnTo>
                  <a:lnTo>
                    <a:pt x="2262" y="446"/>
                  </a:lnTo>
                  <a:lnTo>
                    <a:pt x="2466" y="528"/>
                  </a:lnTo>
                  <a:lnTo>
                    <a:pt x="2671" y="617"/>
                  </a:lnTo>
                  <a:lnTo>
                    <a:pt x="2869" y="714"/>
                  </a:lnTo>
                  <a:lnTo>
                    <a:pt x="3068" y="825"/>
                  </a:lnTo>
                  <a:lnTo>
                    <a:pt x="3261" y="945"/>
                  </a:lnTo>
                  <a:lnTo>
                    <a:pt x="3452" y="1074"/>
                  </a:lnTo>
                  <a:lnTo>
                    <a:pt x="3634" y="1214"/>
                  </a:lnTo>
                  <a:lnTo>
                    <a:pt x="3806" y="1367"/>
                  </a:lnTo>
                  <a:lnTo>
                    <a:pt x="3969" y="1535"/>
                  </a:lnTo>
                  <a:lnTo>
                    <a:pt x="4126" y="1715"/>
                  </a:lnTo>
                  <a:lnTo>
                    <a:pt x="4267" y="1907"/>
                  </a:lnTo>
                  <a:lnTo>
                    <a:pt x="4390" y="2112"/>
                  </a:lnTo>
                  <a:lnTo>
                    <a:pt x="4508" y="2334"/>
                  </a:lnTo>
                  <a:lnTo>
                    <a:pt x="4605" y="2570"/>
                  </a:lnTo>
                  <a:lnTo>
                    <a:pt x="4647" y="2692"/>
                  </a:lnTo>
                  <a:lnTo>
                    <a:pt x="4680" y="2818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114880" y="1606680"/>
              <a:ext cx="1900440" cy="1209600"/>
            </a:xfrm>
            <a:custGeom>
              <a:avLst/>
              <a:gdLst/>
              <a:ahLst/>
              <a:rect l="l" t="t" r="r" b="b"/>
              <a:pathLst>
                <a:path w="4789" h="3048">
                  <a:moveTo>
                    <a:pt x="4680" y="2818"/>
                  </a:moveTo>
                  <a:lnTo>
                    <a:pt x="4686" y="2824"/>
                  </a:lnTo>
                  <a:lnTo>
                    <a:pt x="4700" y="2827"/>
                  </a:lnTo>
                  <a:lnTo>
                    <a:pt x="4738" y="2818"/>
                  </a:lnTo>
                  <a:lnTo>
                    <a:pt x="4789" y="2805"/>
                  </a:lnTo>
                  <a:lnTo>
                    <a:pt x="4623" y="3048"/>
                  </a:lnTo>
                  <a:lnTo>
                    <a:pt x="4366" y="2854"/>
                  </a:lnTo>
                  <a:lnTo>
                    <a:pt x="4484" y="2841"/>
                  </a:lnTo>
                  <a:lnTo>
                    <a:pt x="4404" y="2586"/>
                  </a:lnTo>
                  <a:lnTo>
                    <a:pt x="4305" y="2343"/>
                  </a:lnTo>
                  <a:lnTo>
                    <a:pt x="4197" y="2119"/>
                  </a:lnTo>
                  <a:lnTo>
                    <a:pt x="4071" y="1908"/>
                  </a:lnTo>
                  <a:lnTo>
                    <a:pt x="3934" y="1712"/>
                  </a:lnTo>
                  <a:lnTo>
                    <a:pt x="3788" y="1532"/>
                  </a:lnTo>
                  <a:lnTo>
                    <a:pt x="3627" y="1360"/>
                  </a:lnTo>
                  <a:lnTo>
                    <a:pt x="3462" y="1207"/>
                  </a:lnTo>
                  <a:lnTo>
                    <a:pt x="3288" y="1060"/>
                  </a:lnTo>
                  <a:lnTo>
                    <a:pt x="3103" y="931"/>
                  </a:lnTo>
                  <a:lnTo>
                    <a:pt x="2919" y="810"/>
                  </a:lnTo>
                  <a:lnTo>
                    <a:pt x="2730" y="702"/>
                  </a:lnTo>
                  <a:lnTo>
                    <a:pt x="2535" y="600"/>
                  </a:lnTo>
                  <a:lnTo>
                    <a:pt x="2340" y="514"/>
                  </a:lnTo>
                  <a:lnTo>
                    <a:pt x="2146" y="435"/>
                  </a:lnTo>
                  <a:lnTo>
                    <a:pt x="1954" y="362"/>
                  </a:lnTo>
                  <a:lnTo>
                    <a:pt x="1765" y="299"/>
                  </a:lnTo>
                  <a:lnTo>
                    <a:pt x="1576" y="243"/>
                  </a:lnTo>
                  <a:lnTo>
                    <a:pt x="1396" y="197"/>
                  </a:lnTo>
                  <a:lnTo>
                    <a:pt x="1215" y="154"/>
                  </a:lnTo>
                  <a:lnTo>
                    <a:pt x="884" y="90"/>
                  </a:lnTo>
                  <a:lnTo>
                    <a:pt x="591" y="47"/>
                  </a:lnTo>
                  <a:lnTo>
                    <a:pt x="346" y="22"/>
                  </a:lnTo>
                  <a:lnTo>
                    <a:pt x="162" y="9"/>
                  </a:lnTo>
                  <a:lnTo>
                    <a:pt x="0" y="0"/>
                  </a:lnTo>
                  <a:lnTo>
                    <a:pt x="168" y="8"/>
                  </a:lnTo>
                  <a:lnTo>
                    <a:pt x="366" y="23"/>
                  </a:lnTo>
                  <a:lnTo>
                    <a:pt x="626" y="53"/>
                  </a:lnTo>
                  <a:lnTo>
                    <a:pt x="934" y="99"/>
                  </a:lnTo>
                  <a:lnTo>
                    <a:pt x="1281" y="165"/>
                  </a:lnTo>
                  <a:lnTo>
                    <a:pt x="1471" y="207"/>
                  </a:lnTo>
                  <a:lnTo>
                    <a:pt x="1663" y="255"/>
                  </a:lnTo>
                  <a:lnTo>
                    <a:pt x="1861" y="312"/>
                  </a:lnTo>
                  <a:lnTo>
                    <a:pt x="2060" y="374"/>
                  </a:lnTo>
                  <a:lnTo>
                    <a:pt x="2262" y="446"/>
                  </a:lnTo>
                  <a:lnTo>
                    <a:pt x="2466" y="528"/>
                  </a:lnTo>
                  <a:lnTo>
                    <a:pt x="2671" y="617"/>
                  </a:lnTo>
                  <a:lnTo>
                    <a:pt x="2869" y="714"/>
                  </a:lnTo>
                  <a:lnTo>
                    <a:pt x="3068" y="825"/>
                  </a:lnTo>
                  <a:lnTo>
                    <a:pt x="3261" y="945"/>
                  </a:lnTo>
                  <a:lnTo>
                    <a:pt x="3452" y="1074"/>
                  </a:lnTo>
                  <a:lnTo>
                    <a:pt x="3634" y="1214"/>
                  </a:lnTo>
                  <a:lnTo>
                    <a:pt x="3806" y="1367"/>
                  </a:lnTo>
                  <a:lnTo>
                    <a:pt x="3969" y="1535"/>
                  </a:lnTo>
                  <a:lnTo>
                    <a:pt x="4126" y="1715"/>
                  </a:lnTo>
                  <a:lnTo>
                    <a:pt x="4267" y="1907"/>
                  </a:lnTo>
                  <a:lnTo>
                    <a:pt x="4390" y="2112"/>
                  </a:lnTo>
                  <a:lnTo>
                    <a:pt x="4508" y="2334"/>
                  </a:lnTo>
                  <a:lnTo>
                    <a:pt x="4605" y="2570"/>
                  </a:lnTo>
                  <a:lnTo>
                    <a:pt x="4647" y="2692"/>
                  </a:lnTo>
                  <a:lnTo>
                    <a:pt x="4680" y="2818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972480" y="2719440"/>
              <a:ext cx="44280" cy="9360"/>
            </a:xfrm>
            <a:custGeom>
              <a:avLst/>
              <a:gdLst/>
              <a:ahLst/>
              <a:rect l="l" t="t" r="r" b="b"/>
              <a:pathLst>
                <a:path w="112" h="22">
                  <a:moveTo>
                    <a:pt x="0" y="14"/>
                  </a:moveTo>
                  <a:lnTo>
                    <a:pt x="0" y="16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5" y="22"/>
                  </a:lnTo>
                  <a:lnTo>
                    <a:pt x="21" y="22"/>
                  </a:lnTo>
                  <a:lnTo>
                    <a:pt x="33" y="20"/>
                  </a:lnTo>
                  <a:lnTo>
                    <a:pt x="38" y="20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53" y="17"/>
                  </a:lnTo>
                  <a:lnTo>
                    <a:pt x="58" y="17"/>
                  </a:lnTo>
                  <a:lnTo>
                    <a:pt x="62" y="16"/>
                  </a:lnTo>
                  <a:lnTo>
                    <a:pt x="72" y="13"/>
                  </a:lnTo>
                  <a:lnTo>
                    <a:pt x="77" y="11"/>
                  </a:lnTo>
                  <a:lnTo>
                    <a:pt x="87" y="10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101" y="5"/>
                  </a:lnTo>
                  <a:lnTo>
                    <a:pt x="105" y="4"/>
                  </a:lnTo>
                  <a:lnTo>
                    <a:pt x="107" y="2"/>
                  </a:lnTo>
                  <a:lnTo>
                    <a:pt x="108" y="2"/>
                  </a:lnTo>
                  <a:lnTo>
                    <a:pt x="112" y="2"/>
                  </a:lnTo>
                  <a:lnTo>
                    <a:pt x="112" y="0"/>
                  </a:lnTo>
                  <a:lnTo>
                    <a:pt x="111" y="0"/>
                  </a:lnTo>
                  <a:lnTo>
                    <a:pt x="108" y="1"/>
                  </a:lnTo>
                  <a:lnTo>
                    <a:pt x="106" y="2"/>
                  </a:lnTo>
                  <a:lnTo>
                    <a:pt x="105" y="4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6" y="7"/>
                  </a:lnTo>
                  <a:lnTo>
                    <a:pt x="77" y="11"/>
                  </a:lnTo>
                  <a:lnTo>
                    <a:pt x="72" y="11"/>
                  </a:lnTo>
                  <a:lnTo>
                    <a:pt x="62" y="14"/>
                  </a:lnTo>
                  <a:lnTo>
                    <a:pt x="58" y="14"/>
                  </a:lnTo>
                  <a:lnTo>
                    <a:pt x="52" y="16"/>
                  </a:lnTo>
                  <a:lnTo>
                    <a:pt x="47" y="17"/>
                  </a:lnTo>
                  <a:lnTo>
                    <a:pt x="44" y="17"/>
                  </a:lnTo>
                  <a:lnTo>
                    <a:pt x="38" y="19"/>
                  </a:lnTo>
                  <a:lnTo>
                    <a:pt x="33" y="18"/>
                  </a:lnTo>
                  <a:lnTo>
                    <a:pt x="21" y="20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972480" y="2719440"/>
              <a:ext cx="44280" cy="9360"/>
            </a:xfrm>
            <a:custGeom>
              <a:avLst/>
              <a:gdLst/>
              <a:ahLst/>
              <a:rect l="l" t="t" r="r" b="b"/>
              <a:pathLst>
                <a:path w="112" h="22">
                  <a:moveTo>
                    <a:pt x="0" y="14"/>
                  </a:moveTo>
                  <a:lnTo>
                    <a:pt x="0" y="16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5" y="22"/>
                  </a:lnTo>
                  <a:lnTo>
                    <a:pt x="21" y="22"/>
                  </a:lnTo>
                  <a:lnTo>
                    <a:pt x="33" y="20"/>
                  </a:lnTo>
                  <a:lnTo>
                    <a:pt x="38" y="20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53" y="17"/>
                  </a:lnTo>
                  <a:lnTo>
                    <a:pt x="58" y="17"/>
                  </a:lnTo>
                  <a:lnTo>
                    <a:pt x="62" y="16"/>
                  </a:lnTo>
                  <a:lnTo>
                    <a:pt x="72" y="13"/>
                  </a:lnTo>
                  <a:lnTo>
                    <a:pt x="77" y="11"/>
                  </a:lnTo>
                  <a:lnTo>
                    <a:pt x="87" y="10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101" y="5"/>
                  </a:lnTo>
                  <a:lnTo>
                    <a:pt x="105" y="4"/>
                  </a:lnTo>
                  <a:lnTo>
                    <a:pt x="107" y="2"/>
                  </a:lnTo>
                  <a:lnTo>
                    <a:pt x="108" y="2"/>
                  </a:lnTo>
                  <a:lnTo>
                    <a:pt x="112" y="2"/>
                  </a:lnTo>
                  <a:lnTo>
                    <a:pt x="112" y="0"/>
                  </a:lnTo>
                  <a:lnTo>
                    <a:pt x="111" y="0"/>
                  </a:lnTo>
                  <a:lnTo>
                    <a:pt x="108" y="1"/>
                  </a:lnTo>
                  <a:lnTo>
                    <a:pt x="106" y="2"/>
                  </a:lnTo>
                  <a:lnTo>
                    <a:pt x="105" y="4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6" y="7"/>
                  </a:lnTo>
                  <a:lnTo>
                    <a:pt x="77" y="11"/>
                  </a:lnTo>
                  <a:lnTo>
                    <a:pt x="72" y="11"/>
                  </a:lnTo>
                  <a:lnTo>
                    <a:pt x="62" y="14"/>
                  </a:lnTo>
                  <a:lnTo>
                    <a:pt x="58" y="14"/>
                  </a:lnTo>
                  <a:lnTo>
                    <a:pt x="52" y="16"/>
                  </a:lnTo>
                  <a:lnTo>
                    <a:pt x="47" y="17"/>
                  </a:lnTo>
                  <a:lnTo>
                    <a:pt x="44" y="17"/>
                  </a:lnTo>
                  <a:lnTo>
                    <a:pt x="38" y="19"/>
                  </a:lnTo>
                  <a:lnTo>
                    <a:pt x="33" y="18"/>
                  </a:lnTo>
                  <a:lnTo>
                    <a:pt x="21" y="20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46840" y="2720880"/>
              <a:ext cx="169920" cy="95400"/>
            </a:xfrm>
            <a:custGeom>
              <a:avLst/>
              <a:gdLst/>
              <a:ahLst/>
              <a:rect l="l" t="t" r="r" b="b"/>
              <a:pathLst>
                <a:path w="427" h="243">
                  <a:moveTo>
                    <a:pt x="425" y="0"/>
                  </a:moveTo>
                  <a:lnTo>
                    <a:pt x="259" y="243"/>
                  </a:lnTo>
                  <a:lnTo>
                    <a:pt x="261" y="241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121" y="37"/>
                  </a:lnTo>
                  <a:lnTo>
                    <a:pt x="121" y="35"/>
                  </a:lnTo>
                  <a:lnTo>
                    <a:pt x="0" y="49"/>
                  </a:lnTo>
                  <a:lnTo>
                    <a:pt x="260" y="243"/>
                  </a:lnTo>
                  <a:lnTo>
                    <a:pt x="427" y="1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846840" y="2720880"/>
              <a:ext cx="169920" cy="95400"/>
            </a:xfrm>
            <a:custGeom>
              <a:avLst/>
              <a:gdLst/>
              <a:ahLst/>
              <a:rect l="l" t="t" r="r" b="b"/>
              <a:pathLst>
                <a:path w="427" h="243">
                  <a:moveTo>
                    <a:pt x="425" y="0"/>
                  </a:moveTo>
                  <a:lnTo>
                    <a:pt x="259" y="243"/>
                  </a:lnTo>
                  <a:lnTo>
                    <a:pt x="261" y="241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121" y="37"/>
                  </a:lnTo>
                  <a:lnTo>
                    <a:pt x="121" y="35"/>
                  </a:lnTo>
                  <a:lnTo>
                    <a:pt x="0" y="49"/>
                  </a:lnTo>
                  <a:lnTo>
                    <a:pt x="260" y="243"/>
                  </a:lnTo>
                  <a:lnTo>
                    <a:pt x="427" y="1"/>
                  </a:lnTo>
                  <a:lnTo>
                    <a:pt x="425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114880" y="1606680"/>
              <a:ext cx="1779480" cy="1128600"/>
            </a:xfrm>
            <a:custGeom>
              <a:avLst/>
              <a:gdLst/>
              <a:ahLst/>
              <a:rect l="l" t="t" r="r" b="b"/>
              <a:pathLst>
                <a:path w="4485" h="2842">
                  <a:moveTo>
                    <a:pt x="4485" y="2842"/>
                  </a:moveTo>
                  <a:lnTo>
                    <a:pt x="4405" y="2586"/>
                  </a:lnTo>
                  <a:lnTo>
                    <a:pt x="4309" y="2344"/>
                  </a:lnTo>
                  <a:lnTo>
                    <a:pt x="4196" y="2119"/>
                  </a:lnTo>
                  <a:lnTo>
                    <a:pt x="4072" y="1908"/>
                  </a:lnTo>
                  <a:lnTo>
                    <a:pt x="3934" y="1712"/>
                  </a:lnTo>
                  <a:lnTo>
                    <a:pt x="3787" y="1530"/>
                  </a:lnTo>
                  <a:lnTo>
                    <a:pt x="3628" y="1361"/>
                  </a:lnTo>
                  <a:lnTo>
                    <a:pt x="3460" y="1205"/>
                  </a:lnTo>
                  <a:lnTo>
                    <a:pt x="3285" y="1062"/>
                  </a:lnTo>
                  <a:lnTo>
                    <a:pt x="3105" y="930"/>
                  </a:lnTo>
                  <a:lnTo>
                    <a:pt x="2919" y="809"/>
                  </a:lnTo>
                  <a:lnTo>
                    <a:pt x="2728" y="701"/>
                  </a:lnTo>
                  <a:lnTo>
                    <a:pt x="2536" y="601"/>
                  </a:lnTo>
                  <a:lnTo>
                    <a:pt x="2342" y="512"/>
                  </a:lnTo>
                  <a:lnTo>
                    <a:pt x="2148" y="432"/>
                  </a:lnTo>
                  <a:lnTo>
                    <a:pt x="1954" y="361"/>
                  </a:lnTo>
                  <a:lnTo>
                    <a:pt x="1764" y="298"/>
                  </a:lnTo>
                  <a:lnTo>
                    <a:pt x="1576" y="243"/>
                  </a:lnTo>
                  <a:lnTo>
                    <a:pt x="1393" y="195"/>
                  </a:lnTo>
                  <a:lnTo>
                    <a:pt x="1216" y="154"/>
                  </a:lnTo>
                  <a:lnTo>
                    <a:pt x="1046" y="119"/>
                  </a:lnTo>
                  <a:lnTo>
                    <a:pt x="884" y="90"/>
                  </a:lnTo>
                  <a:lnTo>
                    <a:pt x="733" y="65"/>
                  </a:lnTo>
                  <a:lnTo>
                    <a:pt x="591" y="46"/>
                  </a:lnTo>
                  <a:lnTo>
                    <a:pt x="464" y="31"/>
                  </a:lnTo>
                  <a:lnTo>
                    <a:pt x="346" y="19"/>
                  </a:lnTo>
                  <a:lnTo>
                    <a:pt x="246" y="11"/>
                  </a:lnTo>
                  <a:lnTo>
                    <a:pt x="159" y="6"/>
                  </a:lnTo>
                  <a:lnTo>
                    <a:pt x="92" y="3"/>
                  </a:lnTo>
                  <a:lnTo>
                    <a:pt x="40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9" y="0"/>
                  </a:lnTo>
                  <a:lnTo>
                    <a:pt x="40" y="1"/>
                  </a:lnTo>
                  <a:lnTo>
                    <a:pt x="92" y="4"/>
                  </a:lnTo>
                  <a:lnTo>
                    <a:pt x="160" y="7"/>
                  </a:lnTo>
                  <a:lnTo>
                    <a:pt x="246" y="13"/>
                  </a:lnTo>
                  <a:lnTo>
                    <a:pt x="345" y="21"/>
                  </a:lnTo>
                  <a:lnTo>
                    <a:pt x="463" y="33"/>
                  </a:lnTo>
                  <a:lnTo>
                    <a:pt x="592" y="48"/>
                  </a:lnTo>
                  <a:lnTo>
                    <a:pt x="733" y="67"/>
                  </a:lnTo>
                  <a:lnTo>
                    <a:pt x="884" y="90"/>
                  </a:lnTo>
                  <a:lnTo>
                    <a:pt x="1046" y="120"/>
                  </a:lnTo>
                  <a:lnTo>
                    <a:pt x="1215" y="155"/>
                  </a:lnTo>
                  <a:lnTo>
                    <a:pt x="1392" y="197"/>
                  </a:lnTo>
                  <a:lnTo>
                    <a:pt x="1575" y="244"/>
                  </a:lnTo>
                  <a:lnTo>
                    <a:pt x="1762" y="299"/>
                  </a:lnTo>
                  <a:lnTo>
                    <a:pt x="1954" y="363"/>
                  </a:lnTo>
                  <a:lnTo>
                    <a:pt x="2148" y="433"/>
                  </a:lnTo>
                  <a:lnTo>
                    <a:pt x="2341" y="514"/>
                  </a:lnTo>
                  <a:lnTo>
                    <a:pt x="2535" y="602"/>
                  </a:lnTo>
                  <a:lnTo>
                    <a:pt x="2727" y="702"/>
                  </a:lnTo>
                  <a:lnTo>
                    <a:pt x="2917" y="810"/>
                  </a:lnTo>
                  <a:lnTo>
                    <a:pt x="3103" y="932"/>
                  </a:lnTo>
                  <a:lnTo>
                    <a:pt x="3284" y="1063"/>
                  </a:lnTo>
                  <a:lnTo>
                    <a:pt x="3459" y="1206"/>
                  </a:lnTo>
                  <a:lnTo>
                    <a:pt x="3626" y="1362"/>
                  </a:lnTo>
                  <a:lnTo>
                    <a:pt x="3784" y="1531"/>
                  </a:lnTo>
                  <a:lnTo>
                    <a:pt x="3933" y="1713"/>
                  </a:lnTo>
                  <a:lnTo>
                    <a:pt x="4070" y="1909"/>
                  </a:lnTo>
                  <a:lnTo>
                    <a:pt x="4195" y="2119"/>
                  </a:lnTo>
                  <a:lnTo>
                    <a:pt x="4305" y="2344"/>
                  </a:lnTo>
                  <a:lnTo>
                    <a:pt x="4402" y="2586"/>
                  </a:lnTo>
                  <a:lnTo>
                    <a:pt x="4484" y="2842"/>
                  </a:lnTo>
                  <a:lnTo>
                    <a:pt x="4485" y="2842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114880" y="1606680"/>
              <a:ext cx="1779480" cy="1128600"/>
            </a:xfrm>
            <a:custGeom>
              <a:avLst/>
              <a:gdLst/>
              <a:ahLst/>
              <a:rect l="l" t="t" r="r" b="b"/>
              <a:pathLst>
                <a:path w="4485" h="2842">
                  <a:moveTo>
                    <a:pt x="4485" y="2842"/>
                  </a:moveTo>
                  <a:lnTo>
                    <a:pt x="4405" y="2586"/>
                  </a:lnTo>
                  <a:lnTo>
                    <a:pt x="4309" y="2344"/>
                  </a:lnTo>
                  <a:lnTo>
                    <a:pt x="4196" y="2119"/>
                  </a:lnTo>
                  <a:lnTo>
                    <a:pt x="4072" y="1908"/>
                  </a:lnTo>
                  <a:lnTo>
                    <a:pt x="3934" y="1712"/>
                  </a:lnTo>
                  <a:lnTo>
                    <a:pt x="3787" y="1530"/>
                  </a:lnTo>
                  <a:lnTo>
                    <a:pt x="3628" y="1361"/>
                  </a:lnTo>
                  <a:lnTo>
                    <a:pt x="3460" y="1205"/>
                  </a:lnTo>
                  <a:lnTo>
                    <a:pt x="3285" y="1062"/>
                  </a:lnTo>
                  <a:lnTo>
                    <a:pt x="3105" y="930"/>
                  </a:lnTo>
                  <a:lnTo>
                    <a:pt x="2919" y="809"/>
                  </a:lnTo>
                  <a:lnTo>
                    <a:pt x="2728" y="701"/>
                  </a:lnTo>
                  <a:lnTo>
                    <a:pt x="2536" y="601"/>
                  </a:lnTo>
                  <a:lnTo>
                    <a:pt x="2342" y="512"/>
                  </a:lnTo>
                  <a:lnTo>
                    <a:pt x="2148" y="432"/>
                  </a:lnTo>
                  <a:lnTo>
                    <a:pt x="1954" y="361"/>
                  </a:lnTo>
                  <a:lnTo>
                    <a:pt x="1764" y="298"/>
                  </a:lnTo>
                  <a:lnTo>
                    <a:pt x="1576" y="243"/>
                  </a:lnTo>
                  <a:lnTo>
                    <a:pt x="1393" y="195"/>
                  </a:lnTo>
                  <a:lnTo>
                    <a:pt x="1216" y="154"/>
                  </a:lnTo>
                  <a:lnTo>
                    <a:pt x="1046" y="119"/>
                  </a:lnTo>
                  <a:lnTo>
                    <a:pt x="884" y="90"/>
                  </a:lnTo>
                  <a:lnTo>
                    <a:pt x="733" y="65"/>
                  </a:lnTo>
                  <a:lnTo>
                    <a:pt x="591" y="46"/>
                  </a:lnTo>
                  <a:lnTo>
                    <a:pt x="464" y="31"/>
                  </a:lnTo>
                  <a:lnTo>
                    <a:pt x="346" y="19"/>
                  </a:lnTo>
                  <a:lnTo>
                    <a:pt x="246" y="11"/>
                  </a:lnTo>
                  <a:lnTo>
                    <a:pt x="159" y="6"/>
                  </a:lnTo>
                  <a:lnTo>
                    <a:pt x="92" y="3"/>
                  </a:lnTo>
                  <a:lnTo>
                    <a:pt x="40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9" y="0"/>
                  </a:lnTo>
                  <a:lnTo>
                    <a:pt x="40" y="1"/>
                  </a:lnTo>
                  <a:lnTo>
                    <a:pt x="92" y="4"/>
                  </a:lnTo>
                  <a:lnTo>
                    <a:pt x="160" y="7"/>
                  </a:lnTo>
                  <a:lnTo>
                    <a:pt x="246" y="13"/>
                  </a:lnTo>
                  <a:lnTo>
                    <a:pt x="345" y="21"/>
                  </a:lnTo>
                  <a:lnTo>
                    <a:pt x="463" y="33"/>
                  </a:lnTo>
                  <a:lnTo>
                    <a:pt x="592" y="48"/>
                  </a:lnTo>
                  <a:lnTo>
                    <a:pt x="733" y="67"/>
                  </a:lnTo>
                  <a:lnTo>
                    <a:pt x="884" y="90"/>
                  </a:lnTo>
                  <a:lnTo>
                    <a:pt x="1046" y="120"/>
                  </a:lnTo>
                  <a:lnTo>
                    <a:pt x="1215" y="155"/>
                  </a:lnTo>
                  <a:lnTo>
                    <a:pt x="1392" y="197"/>
                  </a:lnTo>
                  <a:lnTo>
                    <a:pt x="1575" y="244"/>
                  </a:lnTo>
                  <a:lnTo>
                    <a:pt x="1762" y="299"/>
                  </a:lnTo>
                  <a:lnTo>
                    <a:pt x="1954" y="363"/>
                  </a:lnTo>
                  <a:lnTo>
                    <a:pt x="2148" y="433"/>
                  </a:lnTo>
                  <a:lnTo>
                    <a:pt x="2341" y="514"/>
                  </a:lnTo>
                  <a:lnTo>
                    <a:pt x="2535" y="602"/>
                  </a:lnTo>
                  <a:lnTo>
                    <a:pt x="2727" y="702"/>
                  </a:lnTo>
                  <a:lnTo>
                    <a:pt x="2917" y="810"/>
                  </a:lnTo>
                  <a:lnTo>
                    <a:pt x="3103" y="932"/>
                  </a:lnTo>
                  <a:lnTo>
                    <a:pt x="3284" y="1063"/>
                  </a:lnTo>
                  <a:lnTo>
                    <a:pt x="3459" y="1206"/>
                  </a:lnTo>
                  <a:lnTo>
                    <a:pt x="3626" y="1362"/>
                  </a:lnTo>
                  <a:lnTo>
                    <a:pt x="3784" y="1531"/>
                  </a:lnTo>
                  <a:lnTo>
                    <a:pt x="3933" y="1713"/>
                  </a:lnTo>
                  <a:lnTo>
                    <a:pt x="4070" y="1909"/>
                  </a:lnTo>
                  <a:lnTo>
                    <a:pt x="4195" y="2119"/>
                  </a:lnTo>
                  <a:lnTo>
                    <a:pt x="4305" y="2344"/>
                  </a:lnTo>
                  <a:lnTo>
                    <a:pt x="4402" y="2586"/>
                  </a:lnTo>
                  <a:lnTo>
                    <a:pt x="4484" y="2842"/>
                  </a:lnTo>
                  <a:lnTo>
                    <a:pt x="4485" y="2842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114880" y="1606680"/>
              <a:ext cx="1857600" cy="1118880"/>
            </a:xfrm>
            <a:custGeom>
              <a:avLst/>
              <a:gdLst/>
              <a:ahLst/>
              <a:rect l="l" t="t" r="r" b="b"/>
              <a:pathLst>
                <a:path w="4681" h="2820">
                  <a:moveTo>
                    <a:pt x="0" y="2"/>
                  </a:moveTo>
                  <a:lnTo>
                    <a:pt x="10" y="1"/>
                  </a:lnTo>
                  <a:lnTo>
                    <a:pt x="42" y="2"/>
                  </a:lnTo>
                  <a:lnTo>
                    <a:pt x="97" y="6"/>
                  </a:lnTo>
                  <a:lnTo>
                    <a:pt x="169" y="10"/>
                  </a:lnTo>
                  <a:lnTo>
                    <a:pt x="259" y="17"/>
                  </a:lnTo>
                  <a:lnTo>
                    <a:pt x="366" y="25"/>
                  </a:lnTo>
                  <a:lnTo>
                    <a:pt x="488" y="37"/>
                  </a:lnTo>
                  <a:lnTo>
                    <a:pt x="624" y="54"/>
                  </a:lnTo>
                  <a:lnTo>
                    <a:pt x="774" y="74"/>
                  </a:lnTo>
                  <a:lnTo>
                    <a:pt x="933" y="100"/>
                  </a:lnTo>
                  <a:lnTo>
                    <a:pt x="1104" y="130"/>
                  </a:lnTo>
                  <a:lnTo>
                    <a:pt x="1282" y="166"/>
                  </a:lnTo>
                  <a:lnTo>
                    <a:pt x="1468" y="208"/>
                  </a:lnTo>
                  <a:lnTo>
                    <a:pt x="1662" y="257"/>
                  </a:lnTo>
                  <a:lnTo>
                    <a:pt x="1858" y="312"/>
                  </a:lnTo>
                  <a:lnTo>
                    <a:pt x="2059" y="376"/>
                  </a:lnTo>
                  <a:lnTo>
                    <a:pt x="2262" y="448"/>
                  </a:lnTo>
                  <a:lnTo>
                    <a:pt x="2464" y="528"/>
                  </a:lnTo>
                  <a:lnTo>
                    <a:pt x="2667" y="617"/>
                  </a:lnTo>
                  <a:lnTo>
                    <a:pt x="2869" y="716"/>
                  </a:lnTo>
                  <a:lnTo>
                    <a:pt x="3068" y="824"/>
                  </a:lnTo>
                  <a:lnTo>
                    <a:pt x="3262" y="943"/>
                  </a:lnTo>
                  <a:lnTo>
                    <a:pt x="3451" y="1074"/>
                  </a:lnTo>
                  <a:lnTo>
                    <a:pt x="3632" y="1215"/>
                  </a:lnTo>
                  <a:lnTo>
                    <a:pt x="3806" y="1369"/>
                  </a:lnTo>
                  <a:lnTo>
                    <a:pt x="3969" y="1534"/>
                  </a:lnTo>
                  <a:lnTo>
                    <a:pt x="4122" y="1714"/>
                  </a:lnTo>
                  <a:lnTo>
                    <a:pt x="4263" y="1906"/>
                  </a:lnTo>
                  <a:lnTo>
                    <a:pt x="4390" y="2113"/>
                  </a:lnTo>
                  <a:lnTo>
                    <a:pt x="4502" y="2333"/>
                  </a:lnTo>
                  <a:lnTo>
                    <a:pt x="4598" y="2569"/>
                  </a:lnTo>
                  <a:lnTo>
                    <a:pt x="4678" y="2820"/>
                  </a:lnTo>
                  <a:lnTo>
                    <a:pt x="4681" y="2820"/>
                  </a:lnTo>
                  <a:lnTo>
                    <a:pt x="4602" y="2569"/>
                  </a:lnTo>
                  <a:lnTo>
                    <a:pt x="4504" y="2333"/>
                  </a:lnTo>
                  <a:lnTo>
                    <a:pt x="4392" y="2113"/>
                  </a:lnTo>
                  <a:lnTo>
                    <a:pt x="4264" y="1905"/>
                  </a:lnTo>
                  <a:lnTo>
                    <a:pt x="4124" y="1713"/>
                  </a:lnTo>
                  <a:lnTo>
                    <a:pt x="3970" y="1534"/>
                  </a:lnTo>
                  <a:lnTo>
                    <a:pt x="3807" y="1368"/>
                  </a:lnTo>
                  <a:lnTo>
                    <a:pt x="3634" y="1214"/>
                  </a:lnTo>
                  <a:lnTo>
                    <a:pt x="3453" y="1073"/>
                  </a:lnTo>
                  <a:lnTo>
                    <a:pt x="3265" y="943"/>
                  </a:lnTo>
                  <a:lnTo>
                    <a:pt x="3069" y="823"/>
                  </a:lnTo>
                  <a:lnTo>
                    <a:pt x="2870" y="715"/>
                  </a:lnTo>
                  <a:lnTo>
                    <a:pt x="2668" y="615"/>
                  </a:lnTo>
                  <a:lnTo>
                    <a:pt x="2466" y="527"/>
                  </a:lnTo>
                  <a:lnTo>
                    <a:pt x="2263" y="446"/>
                  </a:lnTo>
                  <a:lnTo>
                    <a:pt x="2060" y="376"/>
                  </a:lnTo>
                  <a:lnTo>
                    <a:pt x="1860" y="311"/>
                  </a:lnTo>
                  <a:lnTo>
                    <a:pt x="1662" y="256"/>
                  </a:lnTo>
                  <a:lnTo>
                    <a:pt x="1470" y="206"/>
                  </a:lnTo>
                  <a:lnTo>
                    <a:pt x="1282" y="164"/>
                  </a:lnTo>
                  <a:lnTo>
                    <a:pt x="1105" y="128"/>
                  </a:lnTo>
                  <a:lnTo>
                    <a:pt x="934" y="98"/>
                  </a:lnTo>
                  <a:lnTo>
                    <a:pt x="775" y="73"/>
                  </a:lnTo>
                  <a:lnTo>
                    <a:pt x="625" y="53"/>
                  </a:lnTo>
                  <a:lnTo>
                    <a:pt x="489" y="36"/>
                  </a:lnTo>
                  <a:lnTo>
                    <a:pt x="367" y="24"/>
                  </a:lnTo>
                  <a:lnTo>
                    <a:pt x="259" y="14"/>
                  </a:lnTo>
                  <a:lnTo>
                    <a:pt x="169" y="8"/>
                  </a:lnTo>
                  <a:lnTo>
                    <a:pt x="96" y="4"/>
                  </a:lnTo>
                  <a:lnTo>
                    <a:pt x="42" y="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114880" y="1606680"/>
              <a:ext cx="1857600" cy="1118880"/>
            </a:xfrm>
            <a:custGeom>
              <a:avLst/>
              <a:gdLst/>
              <a:ahLst/>
              <a:rect l="l" t="t" r="r" b="b"/>
              <a:pathLst>
                <a:path w="4681" h="2820">
                  <a:moveTo>
                    <a:pt x="0" y="2"/>
                  </a:moveTo>
                  <a:lnTo>
                    <a:pt x="10" y="1"/>
                  </a:lnTo>
                  <a:lnTo>
                    <a:pt x="42" y="2"/>
                  </a:lnTo>
                  <a:lnTo>
                    <a:pt x="97" y="6"/>
                  </a:lnTo>
                  <a:lnTo>
                    <a:pt x="169" y="10"/>
                  </a:lnTo>
                  <a:lnTo>
                    <a:pt x="259" y="17"/>
                  </a:lnTo>
                  <a:lnTo>
                    <a:pt x="366" y="25"/>
                  </a:lnTo>
                  <a:lnTo>
                    <a:pt x="488" y="37"/>
                  </a:lnTo>
                  <a:lnTo>
                    <a:pt x="624" y="54"/>
                  </a:lnTo>
                  <a:lnTo>
                    <a:pt x="774" y="74"/>
                  </a:lnTo>
                  <a:lnTo>
                    <a:pt x="933" y="100"/>
                  </a:lnTo>
                  <a:lnTo>
                    <a:pt x="1104" y="130"/>
                  </a:lnTo>
                  <a:lnTo>
                    <a:pt x="1282" y="166"/>
                  </a:lnTo>
                  <a:lnTo>
                    <a:pt x="1468" y="208"/>
                  </a:lnTo>
                  <a:lnTo>
                    <a:pt x="1662" y="257"/>
                  </a:lnTo>
                  <a:lnTo>
                    <a:pt x="1858" y="312"/>
                  </a:lnTo>
                  <a:lnTo>
                    <a:pt x="2059" y="376"/>
                  </a:lnTo>
                  <a:lnTo>
                    <a:pt x="2262" y="448"/>
                  </a:lnTo>
                  <a:lnTo>
                    <a:pt x="2464" y="528"/>
                  </a:lnTo>
                  <a:lnTo>
                    <a:pt x="2667" y="617"/>
                  </a:lnTo>
                  <a:lnTo>
                    <a:pt x="2869" y="716"/>
                  </a:lnTo>
                  <a:lnTo>
                    <a:pt x="3068" y="824"/>
                  </a:lnTo>
                  <a:lnTo>
                    <a:pt x="3262" y="943"/>
                  </a:lnTo>
                  <a:lnTo>
                    <a:pt x="3451" y="1074"/>
                  </a:lnTo>
                  <a:lnTo>
                    <a:pt x="3632" y="1215"/>
                  </a:lnTo>
                  <a:lnTo>
                    <a:pt x="3806" y="1369"/>
                  </a:lnTo>
                  <a:lnTo>
                    <a:pt x="3969" y="1534"/>
                  </a:lnTo>
                  <a:lnTo>
                    <a:pt x="4122" y="1714"/>
                  </a:lnTo>
                  <a:lnTo>
                    <a:pt x="4263" y="1906"/>
                  </a:lnTo>
                  <a:lnTo>
                    <a:pt x="4390" y="2113"/>
                  </a:lnTo>
                  <a:lnTo>
                    <a:pt x="4502" y="2333"/>
                  </a:lnTo>
                  <a:lnTo>
                    <a:pt x="4598" y="2569"/>
                  </a:lnTo>
                  <a:lnTo>
                    <a:pt x="4678" y="2820"/>
                  </a:lnTo>
                  <a:lnTo>
                    <a:pt x="4681" y="2820"/>
                  </a:lnTo>
                  <a:lnTo>
                    <a:pt x="4602" y="2569"/>
                  </a:lnTo>
                  <a:lnTo>
                    <a:pt x="4504" y="2333"/>
                  </a:lnTo>
                  <a:lnTo>
                    <a:pt x="4392" y="2113"/>
                  </a:lnTo>
                  <a:lnTo>
                    <a:pt x="4264" y="1905"/>
                  </a:lnTo>
                  <a:lnTo>
                    <a:pt x="4124" y="1713"/>
                  </a:lnTo>
                  <a:lnTo>
                    <a:pt x="3970" y="1534"/>
                  </a:lnTo>
                  <a:lnTo>
                    <a:pt x="3807" y="1368"/>
                  </a:lnTo>
                  <a:lnTo>
                    <a:pt x="3634" y="1214"/>
                  </a:lnTo>
                  <a:lnTo>
                    <a:pt x="3453" y="1073"/>
                  </a:lnTo>
                  <a:lnTo>
                    <a:pt x="3265" y="943"/>
                  </a:lnTo>
                  <a:lnTo>
                    <a:pt x="3069" y="823"/>
                  </a:lnTo>
                  <a:lnTo>
                    <a:pt x="2870" y="715"/>
                  </a:lnTo>
                  <a:lnTo>
                    <a:pt x="2668" y="615"/>
                  </a:lnTo>
                  <a:lnTo>
                    <a:pt x="2466" y="527"/>
                  </a:lnTo>
                  <a:lnTo>
                    <a:pt x="2263" y="446"/>
                  </a:lnTo>
                  <a:lnTo>
                    <a:pt x="2060" y="376"/>
                  </a:lnTo>
                  <a:lnTo>
                    <a:pt x="1860" y="311"/>
                  </a:lnTo>
                  <a:lnTo>
                    <a:pt x="1662" y="256"/>
                  </a:lnTo>
                  <a:lnTo>
                    <a:pt x="1470" y="206"/>
                  </a:lnTo>
                  <a:lnTo>
                    <a:pt x="1282" y="164"/>
                  </a:lnTo>
                  <a:lnTo>
                    <a:pt x="1105" y="128"/>
                  </a:lnTo>
                  <a:lnTo>
                    <a:pt x="934" y="98"/>
                  </a:lnTo>
                  <a:lnTo>
                    <a:pt x="775" y="73"/>
                  </a:lnTo>
                  <a:lnTo>
                    <a:pt x="625" y="53"/>
                  </a:lnTo>
                  <a:lnTo>
                    <a:pt x="489" y="36"/>
                  </a:lnTo>
                  <a:lnTo>
                    <a:pt x="367" y="24"/>
                  </a:lnTo>
                  <a:lnTo>
                    <a:pt x="259" y="14"/>
                  </a:lnTo>
                  <a:lnTo>
                    <a:pt x="169" y="8"/>
                  </a:lnTo>
                  <a:lnTo>
                    <a:pt x="96" y="4"/>
                  </a:lnTo>
                  <a:lnTo>
                    <a:pt x="42" y="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814480" y="3774960"/>
              <a:ext cx="478080" cy="1054080"/>
            </a:xfrm>
            <a:custGeom>
              <a:avLst/>
              <a:gdLst/>
              <a:ahLst/>
              <a:rect l="l" t="t" r="r" b="b"/>
              <a:pathLst>
                <a:path w="1206" h="2656">
                  <a:moveTo>
                    <a:pt x="1048" y="95"/>
                  </a:moveTo>
                  <a:lnTo>
                    <a:pt x="1050" y="90"/>
                  </a:lnTo>
                  <a:lnTo>
                    <a:pt x="1054" y="86"/>
                  </a:lnTo>
                  <a:lnTo>
                    <a:pt x="1075" y="80"/>
                  </a:lnTo>
                  <a:lnTo>
                    <a:pt x="1102" y="72"/>
                  </a:lnTo>
                  <a:lnTo>
                    <a:pt x="940" y="0"/>
                  </a:lnTo>
                  <a:lnTo>
                    <a:pt x="896" y="160"/>
                  </a:lnTo>
                  <a:lnTo>
                    <a:pt x="954" y="135"/>
                  </a:lnTo>
                  <a:lnTo>
                    <a:pt x="1011" y="277"/>
                  </a:lnTo>
                  <a:lnTo>
                    <a:pt x="1056" y="418"/>
                  </a:lnTo>
                  <a:lnTo>
                    <a:pt x="1089" y="553"/>
                  </a:lnTo>
                  <a:lnTo>
                    <a:pt x="1111" y="687"/>
                  </a:lnTo>
                  <a:lnTo>
                    <a:pt x="1122" y="815"/>
                  </a:lnTo>
                  <a:lnTo>
                    <a:pt x="1122" y="940"/>
                  </a:lnTo>
                  <a:lnTo>
                    <a:pt x="1113" y="1063"/>
                  </a:lnTo>
                  <a:lnTo>
                    <a:pt x="1095" y="1180"/>
                  </a:lnTo>
                  <a:lnTo>
                    <a:pt x="1071" y="1295"/>
                  </a:lnTo>
                  <a:lnTo>
                    <a:pt x="1038" y="1404"/>
                  </a:lnTo>
                  <a:lnTo>
                    <a:pt x="1000" y="1510"/>
                  </a:lnTo>
                  <a:lnTo>
                    <a:pt x="955" y="1610"/>
                  </a:lnTo>
                  <a:lnTo>
                    <a:pt x="906" y="1710"/>
                  </a:lnTo>
                  <a:lnTo>
                    <a:pt x="850" y="1801"/>
                  </a:lnTo>
                  <a:lnTo>
                    <a:pt x="794" y="1890"/>
                  </a:lnTo>
                  <a:lnTo>
                    <a:pt x="735" y="1975"/>
                  </a:lnTo>
                  <a:lnTo>
                    <a:pt x="674" y="2054"/>
                  </a:lnTo>
                  <a:lnTo>
                    <a:pt x="612" y="2130"/>
                  </a:lnTo>
                  <a:lnTo>
                    <a:pt x="548" y="2198"/>
                  </a:lnTo>
                  <a:lnTo>
                    <a:pt x="483" y="2267"/>
                  </a:lnTo>
                  <a:lnTo>
                    <a:pt x="358" y="2383"/>
                  </a:lnTo>
                  <a:lnTo>
                    <a:pt x="244" y="2480"/>
                  </a:lnTo>
                  <a:lnTo>
                    <a:pt x="146" y="2556"/>
                  </a:lnTo>
                  <a:lnTo>
                    <a:pt x="69" y="2610"/>
                  </a:lnTo>
                  <a:lnTo>
                    <a:pt x="0" y="2656"/>
                  </a:lnTo>
                  <a:lnTo>
                    <a:pt x="72" y="2608"/>
                  </a:lnTo>
                  <a:lnTo>
                    <a:pt x="153" y="2550"/>
                  </a:lnTo>
                  <a:lnTo>
                    <a:pt x="259" y="2468"/>
                  </a:lnTo>
                  <a:lnTo>
                    <a:pt x="379" y="2366"/>
                  </a:lnTo>
                  <a:lnTo>
                    <a:pt x="508" y="2244"/>
                  </a:lnTo>
                  <a:lnTo>
                    <a:pt x="578" y="2175"/>
                  </a:lnTo>
                  <a:lnTo>
                    <a:pt x="645" y="2102"/>
                  </a:lnTo>
                  <a:lnTo>
                    <a:pt x="711" y="2022"/>
                  </a:lnTo>
                  <a:lnTo>
                    <a:pt x="777" y="1941"/>
                  </a:lnTo>
                  <a:lnTo>
                    <a:pt x="841" y="1855"/>
                  </a:lnTo>
                  <a:lnTo>
                    <a:pt x="901" y="1763"/>
                  </a:lnTo>
                  <a:lnTo>
                    <a:pt x="960" y="1667"/>
                  </a:lnTo>
                  <a:lnTo>
                    <a:pt x="1012" y="1568"/>
                  </a:lnTo>
                  <a:lnTo>
                    <a:pt x="1060" y="1464"/>
                  </a:lnTo>
                  <a:lnTo>
                    <a:pt x="1102" y="1357"/>
                  </a:lnTo>
                  <a:lnTo>
                    <a:pt x="1140" y="1246"/>
                  </a:lnTo>
                  <a:lnTo>
                    <a:pt x="1170" y="1130"/>
                  </a:lnTo>
                  <a:lnTo>
                    <a:pt x="1190" y="1013"/>
                  </a:lnTo>
                  <a:lnTo>
                    <a:pt x="1201" y="891"/>
                  </a:lnTo>
                  <a:lnTo>
                    <a:pt x="1206" y="765"/>
                  </a:lnTo>
                  <a:lnTo>
                    <a:pt x="1197" y="636"/>
                  </a:lnTo>
                  <a:lnTo>
                    <a:pt x="1178" y="507"/>
                  </a:lnTo>
                  <a:lnTo>
                    <a:pt x="1149" y="370"/>
                  </a:lnTo>
                  <a:lnTo>
                    <a:pt x="1106" y="233"/>
                  </a:lnTo>
                  <a:lnTo>
                    <a:pt x="1081" y="164"/>
                  </a:lnTo>
                  <a:lnTo>
                    <a:pt x="1048" y="95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814480" y="3774960"/>
              <a:ext cx="478080" cy="1054080"/>
            </a:xfrm>
            <a:custGeom>
              <a:avLst/>
              <a:gdLst/>
              <a:ahLst/>
              <a:rect l="l" t="t" r="r" b="b"/>
              <a:pathLst>
                <a:path w="1206" h="2656">
                  <a:moveTo>
                    <a:pt x="1048" y="95"/>
                  </a:moveTo>
                  <a:lnTo>
                    <a:pt x="1050" y="90"/>
                  </a:lnTo>
                  <a:lnTo>
                    <a:pt x="1054" y="86"/>
                  </a:lnTo>
                  <a:lnTo>
                    <a:pt x="1075" y="80"/>
                  </a:lnTo>
                  <a:lnTo>
                    <a:pt x="1102" y="72"/>
                  </a:lnTo>
                  <a:lnTo>
                    <a:pt x="940" y="0"/>
                  </a:lnTo>
                  <a:lnTo>
                    <a:pt x="896" y="160"/>
                  </a:lnTo>
                  <a:lnTo>
                    <a:pt x="954" y="135"/>
                  </a:lnTo>
                  <a:lnTo>
                    <a:pt x="1011" y="277"/>
                  </a:lnTo>
                  <a:lnTo>
                    <a:pt x="1056" y="418"/>
                  </a:lnTo>
                  <a:lnTo>
                    <a:pt x="1089" y="553"/>
                  </a:lnTo>
                  <a:lnTo>
                    <a:pt x="1111" y="687"/>
                  </a:lnTo>
                  <a:lnTo>
                    <a:pt x="1122" y="815"/>
                  </a:lnTo>
                  <a:lnTo>
                    <a:pt x="1122" y="940"/>
                  </a:lnTo>
                  <a:lnTo>
                    <a:pt x="1113" y="1063"/>
                  </a:lnTo>
                  <a:lnTo>
                    <a:pt x="1095" y="1180"/>
                  </a:lnTo>
                  <a:lnTo>
                    <a:pt x="1071" y="1295"/>
                  </a:lnTo>
                  <a:lnTo>
                    <a:pt x="1038" y="1404"/>
                  </a:lnTo>
                  <a:lnTo>
                    <a:pt x="1000" y="1510"/>
                  </a:lnTo>
                  <a:lnTo>
                    <a:pt x="955" y="1610"/>
                  </a:lnTo>
                  <a:lnTo>
                    <a:pt x="906" y="1710"/>
                  </a:lnTo>
                  <a:lnTo>
                    <a:pt x="850" y="1801"/>
                  </a:lnTo>
                  <a:lnTo>
                    <a:pt x="794" y="1890"/>
                  </a:lnTo>
                  <a:lnTo>
                    <a:pt x="735" y="1975"/>
                  </a:lnTo>
                  <a:lnTo>
                    <a:pt x="674" y="2054"/>
                  </a:lnTo>
                  <a:lnTo>
                    <a:pt x="612" y="2130"/>
                  </a:lnTo>
                  <a:lnTo>
                    <a:pt x="548" y="2198"/>
                  </a:lnTo>
                  <a:lnTo>
                    <a:pt x="483" y="2267"/>
                  </a:lnTo>
                  <a:lnTo>
                    <a:pt x="358" y="2383"/>
                  </a:lnTo>
                  <a:lnTo>
                    <a:pt x="244" y="2480"/>
                  </a:lnTo>
                  <a:lnTo>
                    <a:pt x="146" y="2556"/>
                  </a:lnTo>
                  <a:lnTo>
                    <a:pt x="69" y="2610"/>
                  </a:lnTo>
                  <a:lnTo>
                    <a:pt x="0" y="2656"/>
                  </a:lnTo>
                  <a:lnTo>
                    <a:pt x="72" y="2608"/>
                  </a:lnTo>
                  <a:lnTo>
                    <a:pt x="153" y="2550"/>
                  </a:lnTo>
                  <a:lnTo>
                    <a:pt x="259" y="2468"/>
                  </a:lnTo>
                  <a:lnTo>
                    <a:pt x="379" y="2366"/>
                  </a:lnTo>
                  <a:lnTo>
                    <a:pt x="508" y="2244"/>
                  </a:lnTo>
                  <a:lnTo>
                    <a:pt x="578" y="2175"/>
                  </a:lnTo>
                  <a:lnTo>
                    <a:pt x="645" y="2102"/>
                  </a:lnTo>
                  <a:lnTo>
                    <a:pt x="711" y="2022"/>
                  </a:lnTo>
                  <a:lnTo>
                    <a:pt x="777" y="1941"/>
                  </a:lnTo>
                  <a:lnTo>
                    <a:pt x="841" y="1855"/>
                  </a:lnTo>
                  <a:lnTo>
                    <a:pt x="901" y="1763"/>
                  </a:lnTo>
                  <a:lnTo>
                    <a:pt x="960" y="1667"/>
                  </a:lnTo>
                  <a:lnTo>
                    <a:pt x="1012" y="1568"/>
                  </a:lnTo>
                  <a:lnTo>
                    <a:pt x="1060" y="1464"/>
                  </a:lnTo>
                  <a:lnTo>
                    <a:pt x="1102" y="1357"/>
                  </a:lnTo>
                  <a:lnTo>
                    <a:pt x="1140" y="1246"/>
                  </a:lnTo>
                  <a:lnTo>
                    <a:pt x="1170" y="1130"/>
                  </a:lnTo>
                  <a:lnTo>
                    <a:pt x="1190" y="1013"/>
                  </a:lnTo>
                  <a:lnTo>
                    <a:pt x="1201" y="891"/>
                  </a:lnTo>
                  <a:lnTo>
                    <a:pt x="1206" y="765"/>
                  </a:lnTo>
                  <a:lnTo>
                    <a:pt x="1197" y="636"/>
                  </a:lnTo>
                  <a:lnTo>
                    <a:pt x="1178" y="507"/>
                  </a:lnTo>
                  <a:lnTo>
                    <a:pt x="1149" y="370"/>
                  </a:lnTo>
                  <a:lnTo>
                    <a:pt x="1106" y="233"/>
                  </a:lnTo>
                  <a:lnTo>
                    <a:pt x="1081" y="164"/>
                  </a:lnTo>
                  <a:lnTo>
                    <a:pt x="1048" y="95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230640" y="3801960"/>
              <a:ext cx="22320" cy="972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1" y="24"/>
                  </a:moveTo>
                  <a:lnTo>
                    <a:pt x="0" y="24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13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8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41" y="4"/>
                  </a:lnTo>
                  <a:lnTo>
                    <a:pt x="43" y="4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28" y="9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3" y="13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230640" y="3801960"/>
              <a:ext cx="22320" cy="972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1" y="24"/>
                  </a:moveTo>
                  <a:lnTo>
                    <a:pt x="0" y="24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13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8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41" y="4"/>
                  </a:lnTo>
                  <a:lnTo>
                    <a:pt x="43" y="4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28" y="9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3" y="13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1" y="24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170160" y="3774960"/>
              <a:ext cx="82800" cy="6192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206" y="72"/>
                  </a:moveTo>
                  <a:lnTo>
                    <a:pt x="44" y="2"/>
                  </a:lnTo>
                  <a:lnTo>
                    <a:pt x="45" y="0"/>
                  </a:lnTo>
                  <a:lnTo>
                    <a:pt x="1" y="160"/>
                  </a:lnTo>
                  <a:lnTo>
                    <a:pt x="1" y="159"/>
                  </a:lnTo>
                  <a:lnTo>
                    <a:pt x="59" y="135"/>
                  </a:lnTo>
                  <a:lnTo>
                    <a:pt x="59" y="136"/>
                  </a:lnTo>
                  <a:lnTo>
                    <a:pt x="0" y="160"/>
                  </a:lnTo>
                  <a:lnTo>
                    <a:pt x="45" y="0"/>
                  </a:lnTo>
                  <a:lnTo>
                    <a:pt x="207" y="71"/>
                  </a:lnTo>
                  <a:lnTo>
                    <a:pt x="206" y="72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170160" y="3774960"/>
              <a:ext cx="82800" cy="6192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206" y="72"/>
                  </a:moveTo>
                  <a:lnTo>
                    <a:pt x="44" y="2"/>
                  </a:lnTo>
                  <a:lnTo>
                    <a:pt x="45" y="0"/>
                  </a:lnTo>
                  <a:lnTo>
                    <a:pt x="1" y="160"/>
                  </a:lnTo>
                  <a:lnTo>
                    <a:pt x="1" y="159"/>
                  </a:lnTo>
                  <a:lnTo>
                    <a:pt x="59" y="135"/>
                  </a:lnTo>
                  <a:lnTo>
                    <a:pt x="59" y="136"/>
                  </a:lnTo>
                  <a:lnTo>
                    <a:pt x="0" y="160"/>
                  </a:lnTo>
                  <a:lnTo>
                    <a:pt x="45" y="0"/>
                  </a:lnTo>
                  <a:lnTo>
                    <a:pt x="207" y="71"/>
                  </a:lnTo>
                  <a:lnTo>
                    <a:pt x="206" y="72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814480" y="3827520"/>
              <a:ext cx="446400" cy="1001520"/>
            </a:xfrm>
            <a:custGeom>
              <a:avLst/>
              <a:gdLst/>
              <a:ahLst/>
              <a:rect l="l" t="t" r="r" b="b"/>
              <a:pathLst>
                <a:path w="1123" h="2523">
                  <a:moveTo>
                    <a:pt x="954" y="0"/>
                  </a:moveTo>
                  <a:lnTo>
                    <a:pt x="1012" y="142"/>
                  </a:lnTo>
                  <a:lnTo>
                    <a:pt x="1057" y="283"/>
                  </a:lnTo>
                  <a:lnTo>
                    <a:pt x="1089" y="420"/>
                  </a:lnTo>
                  <a:lnTo>
                    <a:pt x="1112" y="552"/>
                  </a:lnTo>
                  <a:lnTo>
                    <a:pt x="1122" y="681"/>
                  </a:lnTo>
                  <a:lnTo>
                    <a:pt x="1123" y="807"/>
                  </a:lnTo>
                  <a:lnTo>
                    <a:pt x="1114" y="928"/>
                  </a:lnTo>
                  <a:lnTo>
                    <a:pt x="1096" y="1046"/>
                  </a:lnTo>
                  <a:lnTo>
                    <a:pt x="1071" y="1160"/>
                  </a:lnTo>
                  <a:lnTo>
                    <a:pt x="1039" y="1269"/>
                  </a:lnTo>
                  <a:lnTo>
                    <a:pt x="1000" y="1376"/>
                  </a:lnTo>
                  <a:lnTo>
                    <a:pt x="956" y="1478"/>
                  </a:lnTo>
                  <a:lnTo>
                    <a:pt x="907" y="1574"/>
                  </a:lnTo>
                  <a:lnTo>
                    <a:pt x="853" y="1667"/>
                  </a:lnTo>
                  <a:lnTo>
                    <a:pt x="795" y="1756"/>
                  </a:lnTo>
                  <a:lnTo>
                    <a:pt x="735" y="1840"/>
                  </a:lnTo>
                  <a:lnTo>
                    <a:pt x="674" y="1920"/>
                  </a:lnTo>
                  <a:lnTo>
                    <a:pt x="612" y="1996"/>
                  </a:lnTo>
                  <a:lnTo>
                    <a:pt x="547" y="2067"/>
                  </a:lnTo>
                  <a:lnTo>
                    <a:pt x="484" y="2132"/>
                  </a:lnTo>
                  <a:lnTo>
                    <a:pt x="421" y="2193"/>
                  </a:lnTo>
                  <a:lnTo>
                    <a:pt x="360" y="2249"/>
                  </a:lnTo>
                  <a:lnTo>
                    <a:pt x="302" y="2299"/>
                  </a:lnTo>
                  <a:lnTo>
                    <a:pt x="246" y="2345"/>
                  </a:lnTo>
                  <a:lnTo>
                    <a:pt x="195" y="2386"/>
                  </a:lnTo>
                  <a:lnTo>
                    <a:pt x="147" y="2422"/>
                  </a:lnTo>
                  <a:lnTo>
                    <a:pt x="105" y="2453"/>
                  </a:lnTo>
                  <a:lnTo>
                    <a:pt x="69" y="2477"/>
                  </a:lnTo>
                  <a:lnTo>
                    <a:pt x="40" y="2497"/>
                  </a:lnTo>
                  <a:lnTo>
                    <a:pt x="19" y="2512"/>
                  </a:lnTo>
                  <a:lnTo>
                    <a:pt x="4" y="2520"/>
                  </a:lnTo>
                  <a:lnTo>
                    <a:pt x="0" y="2523"/>
                  </a:lnTo>
                  <a:lnTo>
                    <a:pt x="0" y="2521"/>
                  </a:lnTo>
                  <a:lnTo>
                    <a:pt x="0" y="2523"/>
                  </a:lnTo>
                  <a:lnTo>
                    <a:pt x="0" y="2521"/>
                  </a:lnTo>
                  <a:lnTo>
                    <a:pt x="4" y="2519"/>
                  </a:lnTo>
                  <a:lnTo>
                    <a:pt x="18" y="2511"/>
                  </a:lnTo>
                  <a:lnTo>
                    <a:pt x="40" y="2496"/>
                  </a:lnTo>
                  <a:lnTo>
                    <a:pt x="69" y="2477"/>
                  </a:lnTo>
                  <a:lnTo>
                    <a:pt x="104" y="2452"/>
                  </a:lnTo>
                  <a:lnTo>
                    <a:pt x="146" y="2422"/>
                  </a:lnTo>
                  <a:lnTo>
                    <a:pt x="194" y="2386"/>
                  </a:lnTo>
                  <a:lnTo>
                    <a:pt x="246" y="2345"/>
                  </a:lnTo>
                  <a:lnTo>
                    <a:pt x="301" y="2298"/>
                  </a:lnTo>
                  <a:lnTo>
                    <a:pt x="360" y="2248"/>
                  </a:lnTo>
                  <a:lnTo>
                    <a:pt x="421" y="2192"/>
                  </a:lnTo>
                  <a:lnTo>
                    <a:pt x="483" y="2132"/>
                  </a:lnTo>
                  <a:lnTo>
                    <a:pt x="546" y="2066"/>
                  </a:lnTo>
                  <a:lnTo>
                    <a:pt x="610" y="1995"/>
                  </a:lnTo>
                  <a:lnTo>
                    <a:pt x="673" y="1920"/>
                  </a:lnTo>
                  <a:lnTo>
                    <a:pt x="735" y="1840"/>
                  </a:lnTo>
                  <a:lnTo>
                    <a:pt x="795" y="1756"/>
                  </a:lnTo>
                  <a:lnTo>
                    <a:pt x="852" y="1667"/>
                  </a:lnTo>
                  <a:lnTo>
                    <a:pt x="906" y="1574"/>
                  </a:lnTo>
                  <a:lnTo>
                    <a:pt x="955" y="1477"/>
                  </a:lnTo>
                  <a:lnTo>
                    <a:pt x="999" y="1376"/>
                  </a:lnTo>
                  <a:lnTo>
                    <a:pt x="1038" y="1269"/>
                  </a:lnTo>
                  <a:lnTo>
                    <a:pt x="1070" y="1160"/>
                  </a:lnTo>
                  <a:lnTo>
                    <a:pt x="1095" y="1046"/>
                  </a:lnTo>
                  <a:lnTo>
                    <a:pt x="1112" y="928"/>
                  </a:lnTo>
                  <a:lnTo>
                    <a:pt x="1122" y="807"/>
                  </a:lnTo>
                  <a:lnTo>
                    <a:pt x="1120" y="681"/>
                  </a:lnTo>
                  <a:lnTo>
                    <a:pt x="1110" y="552"/>
                  </a:lnTo>
                  <a:lnTo>
                    <a:pt x="1089" y="420"/>
                  </a:lnTo>
                  <a:lnTo>
                    <a:pt x="1056" y="283"/>
                  </a:lnTo>
                  <a:lnTo>
                    <a:pt x="1011" y="144"/>
                  </a:lnTo>
                  <a:lnTo>
                    <a:pt x="954" y="0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814480" y="3827520"/>
              <a:ext cx="446400" cy="1001520"/>
            </a:xfrm>
            <a:custGeom>
              <a:avLst/>
              <a:gdLst/>
              <a:ahLst/>
              <a:rect l="l" t="t" r="r" b="b"/>
              <a:pathLst>
                <a:path w="1123" h="2523">
                  <a:moveTo>
                    <a:pt x="954" y="0"/>
                  </a:moveTo>
                  <a:lnTo>
                    <a:pt x="1012" y="142"/>
                  </a:lnTo>
                  <a:lnTo>
                    <a:pt x="1057" y="283"/>
                  </a:lnTo>
                  <a:lnTo>
                    <a:pt x="1089" y="420"/>
                  </a:lnTo>
                  <a:lnTo>
                    <a:pt x="1112" y="552"/>
                  </a:lnTo>
                  <a:lnTo>
                    <a:pt x="1122" y="681"/>
                  </a:lnTo>
                  <a:lnTo>
                    <a:pt x="1123" y="807"/>
                  </a:lnTo>
                  <a:lnTo>
                    <a:pt x="1114" y="928"/>
                  </a:lnTo>
                  <a:lnTo>
                    <a:pt x="1096" y="1046"/>
                  </a:lnTo>
                  <a:lnTo>
                    <a:pt x="1071" y="1160"/>
                  </a:lnTo>
                  <a:lnTo>
                    <a:pt x="1039" y="1269"/>
                  </a:lnTo>
                  <a:lnTo>
                    <a:pt x="1000" y="1376"/>
                  </a:lnTo>
                  <a:lnTo>
                    <a:pt x="956" y="1478"/>
                  </a:lnTo>
                  <a:lnTo>
                    <a:pt x="907" y="1574"/>
                  </a:lnTo>
                  <a:lnTo>
                    <a:pt x="853" y="1667"/>
                  </a:lnTo>
                  <a:lnTo>
                    <a:pt x="795" y="1756"/>
                  </a:lnTo>
                  <a:lnTo>
                    <a:pt x="735" y="1840"/>
                  </a:lnTo>
                  <a:lnTo>
                    <a:pt x="674" y="1920"/>
                  </a:lnTo>
                  <a:lnTo>
                    <a:pt x="612" y="1996"/>
                  </a:lnTo>
                  <a:lnTo>
                    <a:pt x="547" y="2067"/>
                  </a:lnTo>
                  <a:lnTo>
                    <a:pt x="484" y="2132"/>
                  </a:lnTo>
                  <a:lnTo>
                    <a:pt x="421" y="2193"/>
                  </a:lnTo>
                  <a:lnTo>
                    <a:pt x="360" y="2249"/>
                  </a:lnTo>
                  <a:lnTo>
                    <a:pt x="302" y="2299"/>
                  </a:lnTo>
                  <a:lnTo>
                    <a:pt x="246" y="2345"/>
                  </a:lnTo>
                  <a:lnTo>
                    <a:pt x="195" y="2386"/>
                  </a:lnTo>
                  <a:lnTo>
                    <a:pt x="147" y="2422"/>
                  </a:lnTo>
                  <a:lnTo>
                    <a:pt x="105" y="2453"/>
                  </a:lnTo>
                  <a:lnTo>
                    <a:pt x="69" y="2477"/>
                  </a:lnTo>
                  <a:lnTo>
                    <a:pt x="40" y="2497"/>
                  </a:lnTo>
                  <a:lnTo>
                    <a:pt x="19" y="2512"/>
                  </a:lnTo>
                  <a:lnTo>
                    <a:pt x="4" y="2520"/>
                  </a:lnTo>
                  <a:lnTo>
                    <a:pt x="0" y="2523"/>
                  </a:lnTo>
                  <a:lnTo>
                    <a:pt x="0" y="2521"/>
                  </a:lnTo>
                  <a:lnTo>
                    <a:pt x="0" y="2523"/>
                  </a:lnTo>
                  <a:lnTo>
                    <a:pt x="0" y="2521"/>
                  </a:lnTo>
                  <a:lnTo>
                    <a:pt x="4" y="2519"/>
                  </a:lnTo>
                  <a:lnTo>
                    <a:pt x="18" y="2511"/>
                  </a:lnTo>
                  <a:lnTo>
                    <a:pt x="40" y="2496"/>
                  </a:lnTo>
                  <a:lnTo>
                    <a:pt x="69" y="2477"/>
                  </a:lnTo>
                  <a:lnTo>
                    <a:pt x="104" y="2452"/>
                  </a:lnTo>
                  <a:lnTo>
                    <a:pt x="146" y="2422"/>
                  </a:lnTo>
                  <a:lnTo>
                    <a:pt x="194" y="2386"/>
                  </a:lnTo>
                  <a:lnTo>
                    <a:pt x="246" y="2345"/>
                  </a:lnTo>
                  <a:lnTo>
                    <a:pt x="301" y="2298"/>
                  </a:lnTo>
                  <a:lnTo>
                    <a:pt x="360" y="2248"/>
                  </a:lnTo>
                  <a:lnTo>
                    <a:pt x="421" y="2192"/>
                  </a:lnTo>
                  <a:lnTo>
                    <a:pt x="483" y="2132"/>
                  </a:lnTo>
                  <a:lnTo>
                    <a:pt x="546" y="2066"/>
                  </a:lnTo>
                  <a:lnTo>
                    <a:pt x="610" y="1995"/>
                  </a:lnTo>
                  <a:lnTo>
                    <a:pt x="673" y="1920"/>
                  </a:lnTo>
                  <a:lnTo>
                    <a:pt x="735" y="1840"/>
                  </a:lnTo>
                  <a:lnTo>
                    <a:pt x="795" y="1756"/>
                  </a:lnTo>
                  <a:lnTo>
                    <a:pt x="852" y="1667"/>
                  </a:lnTo>
                  <a:lnTo>
                    <a:pt x="906" y="1574"/>
                  </a:lnTo>
                  <a:lnTo>
                    <a:pt x="955" y="1477"/>
                  </a:lnTo>
                  <a:lnTo>
                    <a:pt x="999" y="1376"/>
                  </a:lnTo>
                  <a:lnTo>
                    <a:pt x="1038" y="1269"/>
                  </a:lnTo>
                  <a:lnTo>
                    <a:pt x="1070" y="1160"/>
                  </a:lnTo>
                  <a:lnTo>
                    <a:pt x="1095" y="1046"/>
                  </a:lnTo>
                  <a:lnTo>
                    <a:pt x="1112" y="928"/>
                  </a:lnTo>
                  <a:lnTo>
                    <a:pt x="1122" y="807"/>
                  </a:lnTo>
                  <a:lnTo>
                    <a:pt x="1120" y="681"/>
                  </a:lnTo>
                  <a:lnTo>
                    <a:pt x="1110" y="552"/>
                  </a:lnTo>
                  <a:lnTo>
                    <a:pt x="1089" y="420"/>
                  </a:lnTo>
                  <a:lnTo>
                    <a:pt x="1056" y="283"/>
                  </a:lnTo>
                  <a:lnTo>
                    <a:pt x="1011" y="144"/>
                  </a:lnTo>
                  <a:lnTo>
                    <a:pt x="954" y="0"/>
                  </a:lnTo>
                  <a:lnTo>
                    <a:pt x="954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814480" y="3811680"/>
              <a:ext cx="478080" cy="1017360"/>
            </a:xfrm>
            <a:custGeom>
              <a:avLst/>
              <a:gdLst/>
              <a:ahLst/>
              <a:rect l="l" t="t" r="r" b="b"/>
              <a:pathLst>
                <a:path w="1206" h="2563">
                  <a:moveTo>
                    <a:pt x="0" y="2561"/>
                  </a:moveTo>
                  <a:lnTo>
                    <a:pt x="4" y="2559"/>
                  </a:lnTo>
                  <a:lnTo>
                    <a:pt x="19" y="2549"/>
                  </a:lnTo>
                  <a:lnTo>
                    <a:pt x="42" y="2535"/>
                  </a:lnTo>
                  <a:lnTo>
                    <a:pt x="72" y="2513"/>
                  </a:lnTo>
                  <a:lnTo>
                    <a:pt x="110" y="2487"/>
                  </a:lnTo>
                  <a:lnTo>
                    <a:pt x="153" y="2455"/>
                  </a:lnTo>
                  <a:lnTo>
                    <a:pt x="204" y="2417"/>
                  </a:lnTo>
                  <a:lnTo>
                    <a:pt x="258" y="2374"/>
                  </a:lnTo>
                  <a:lnTo>
                    <a:pt x="316" y="2325"/>
                  </a:lnTo>
                  <a:lnTo>
                    <a:pt x="379" y="2271"/>
                  </a:lnTo>
                  <a:lnTo>
                    <a:pt x="442" y="2214"/>
                  </a:lnTo>
                  <a:lnTo>
                    <a:pt x="510" y="2149"/>
                  </a:lnTo>
                  <a:lnTo>
                    <a:pt x="577" y="2080"/>
                  </a:lnTo>
                  <a:lnTo>
                    <a:pt x="644" y="2007"/>
                  </a:lnTo>
                  <a:lnTo>
                    <a:pt x="711" y="1929"/>
                  </a:lnTo>
                  <a:lnTo>
                    <a:pt x="777" y="1846"/>
                  </a:lnTo>
                  <a:lnTo>
                    <a:pt x="841" y="1760"/>
                  </a:lnTo>
                  <a:lnTo>
                    <a:pt x="902" y="1669"/>
                  </a:lnTo>
                  <a:lnTo>
                    <a:pt x="960" y="1573"/>
                  </a:lnTo>
                  <a:lnTo>
                    <a:pt x="1012" y="1473"/>
                  </a:lnTo>
                  <a:lnTo>
                    <a:pt x="1062" y="1370"/>
                  </a:lnTo>
                  <a:lnTo>
                    <a:pt x="1104" y="1263"/>
                  </a:lnTo>
                  <a:lnTo>
                    <a:pt x="1140" y="1152"/>
                  </a:lnTo>
                  <a:lnTo>
                    <a:pt x="1168" y="1037"/>
                  </a:lnTo>
                  <a:lnTo>
                    <a:pt x="1190" y="918"/>
                  </a:lnTo>
                  <a:lnTo>
                    <a:pt x="1202" y="797"/>
                  </a:lnTo>
                  <a:lnTo>
                    <a:pt x="1204" y="672"/>
                  </a:lnTo>
                  <a:lnTo>
                    <a:pt x="1197" y="544"/>
                  </a:lnTo>
                  <a:lnTo>
                    <a:pt x="1178" y="413"/>
                  </a:lnTo>
                  <a:lnTo>
                    <a:pt x="1148" y="277"/>
                  </a:lnTo>
                  <a:lnTo>
                    <a:pt x="1105" y="140"/>
                  </a:lnTo>
                  <a:lnTo>
                    <a:pt x="1048" y="0"/>
                  </a:lnTo>
                  <a:lnTo>
                    <a:pt x="1050" y="0"/>
                  </a:lnTo>
                  <a:lnTo>
                    <a:pt x="1106" y="140"/>
                  </a:lnTo>
                  <a:lnTo>
                    <a:pt x="1149" y="277"/>
                  </a:lnTo>
                  <a:lnTo>
                    <a:pt x="1179" y="412"/>
                  </a:lnTo>
                  <a:lnTo>
                    <a:pt x="1198" y="544"/>
                  </a:lnTo>
                  <a:lnTo>
                    <a:pt x="1206" y="672"/>
                  </a:lnTo>
                  <a:lnTo>
                    <a:pt x="1203" y="797"/>
                  </a:lnTo>
                  <a:lnTo>
                    <a:pt x="1191" y="919"/>
                  </a:lnTo>
                  <a:lnTo>
                    <a:pt x="1170" y="1037"/>
                  </a:lnTo>
                  <a:lnTo>
                    <a:pt x="1141" y="1152"/>
                  </a:lnTo>
                  <a:lnTo>
                    <a:pt x="1105" y="1262"/>
                  </a:lnTo>
                  <a:lnTo>
                    <a:pt x="1062" y="1370"/>
                  </a:lnTo>
                  <a:lnTo>
                    <a:pt x="1014" y="1473"/>
                  </a:lnTo>
                  <a:lnTo>
                    <a:pt x="960" y="1573"/>
                  </a:lnTo>
                  <a:lnTo>
                    <a:pt x="903" y="1669"/>
                  </a:lnTo>
                  <a:lnTo>
                    <a:pt x="842" y="1760"/>
                  </a:lnTo>
                  <a:lnTo>
                    <a:pt x="778" y="1846"/>
                  </a:lnTo>
                  <a:lnTo>
                    <a:pt x="712" y="1929"/>
                  </a:lnTo>
                  <a:lnTo>
                    <a:pt x="645" y="2007"/>
                  </a:lnTo>
                  <a:lnTo>
                    <a:pt x="577" y="2082"/>
                  </a:lnTo>
                  <a:lnTo>
                    <a:pt x="510" y="2150"/>
                  </a:lnTo>
                  <a:lnTo>
                    <a:pt x="444" y="2214"/>
                  </a:lnTo>
                  <a:lnTo>
                    <a:pt x="380" y="2272"/>
                  </a:lnTo>
                  <a:lnTo>
                    <a:pt x="318" y="2326"/>
                  </a:lnTo>
                  <a:lnTo>
                    <a:pt x="259" y="2374"/>
                  </a:lnTo>
                  <a:lnTo>
                    <a:pt x="205" y="2417"/>
                  </a:lnTo>
                  <a:lnTo>
                    <a:pt x="154" y="2456"/>
                  </a:lnTo>
                  <a:lnTo>
                    <a:pt x="110" y="2488"/>
                  </a:lnTo>
                  <a:lnTo>
                    <a:pt x="73" y="2515"/>
                  </a:lnTo>
                  <a:lnTo>
                    <a:pt x="42" y="2535"/>
                  </a:lnTo>
                  <a:lnTo>
                    <a:pt x="19" y="2551"/>
                  </a:lnTo>
                  <a:lnTo>
                    <a:pt x="6" y="2559"/>
                  </a:lnTo>
                  <a:lnTo>
                    <a:pt x="0" y="2563"/>
                  </a:lnTo>
                  <a:lnTo>
                    <a:pt x="0" y="2561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814480" y="3811680"/>
              <a:ext cx="478080" cy="1017360"/>
            </a:xfrm>
            <a:custGeom>
              <a:avLst/>
              <a:gdLst/>
              <a:ahLst/>
              <a:rect l="l" t="t" r="r" b="b"/>
              <a:pathLst>
                <a:path w="1206" h="2563">
                  <a:moveTo>
                    <a:pt x="0" y="2561"/>
                  </a:moveTo>
                  <a:lnTo>
                    <a:pt x="4" y="2559"/>
                  </a:lnTo>
                  <a:lnTo>
                    <a:pt x="19" y="2549"/>
                  </a:lnTo>
                  <a:lnTo>
                    <a:pt x="42" y="2535"/>
                  </a:lnTo>
                  <a:lnTo>
                    <a:pt x="72" y="2513"/>
                  </a:lnTo>
                  <a:lnTo>
                    <a:pt x="110" y="2487"/>
                  </a:lnTo>
                  <a:lnTo>
                    <a:pt x="153" y="2455"/>
                  </a:lnTo>
                  <a:lnTo>
                    <a:pt x="204" y="2417"/>
                  </a:lnTo>
                  <a:lnTo>
                    <a:pt x="258" y="2374"/>
                  </a:lnTo>
                  <a:lnTo>
                    <a:pt x="316" y="2325"/>
                  </a:lnTo>
                  <a:lnTo>
                    <a:pt x="379" y="2271"/>
                  </a:lnTo>
                  <a:lnTo>
                    <a:pt x="442" y="2214"/>
                  </a:lnTo>
                  <a:lnTo>
                    <a:pt x="510" y="2149"/>
                  </a:lnTo>
                  <a:lnTo>
                    <a:pt x="577" y="2080"/>
                  </a:lnTo>
                  <a:lnTo>
                    <a:pt x="644" y="2007"/>
                  </a:lnTo>
                  <a:lnTo>
                    <a:pt x="711" y="1929"/>
                  </a:lnTo>
                  <a:lnTo>
                    <a:pt x="777" y="1846"/>
                  </a:lnTo>
                  <a:lnTo>
                    <a:pt x="841" y="1760"/>
                  </a:lnTo>
                  <a:lnTo>
                    <a:pt x="902" y="1669"/>
                  </a:lnTo>
                  <a:lnTo>
                    <a:pt x="960" y="1573"/>
                  </a:lnTo>
                  <a:lnTo>
                    <a:pt x="1012" y="1473"/>
                  </a:lnTo>
                  <a:lnTo>
                    <a:pt x="1062" y="1370"/>
                  </a:lnTo>
                  <a:lnTo>
                    <a:pt x="1104" y="1263"/>
                  </a:lnTo>
                  <a:lnTo>
                    <a:pt x="1140" y="1152"/>
                  </a:lnTo>
                  <a:lnTo>
                    <a:pt x="1168" y="1037"/>
                  </a:lnTo>
                  <a:lnTo>
                    <a:pt x="1190" y="918"/>
                  </a:lnTo>
                  <a:lnTo>
                    <a:pt x="1202" y="797"/>
                  </a:lnTo>
                  <a:lnTo>
                    <a:pt x="1204" y="672"/>
                  </a:lnTo>
                  <a:lnTo>
                    <a:pt x="1197" y="544"/>
                  </a:lnTo>
                  <a:lnTo>
                    <a:pt x="1178" y="413"/>
                  </a:lnTo>
                  <a:lnTo>
                    <a:pt x="1148" y="277"/>
                  </a:lnTo>
                  <a:lnTo>
                    <a:pt x="1105" y="140"/>
                  </a:lnTo>
                  <a:lnTo>
                    <a:pt x="1048" y="0"/>
                  </a:lnTo>
                  <a:lnTo>
                    <a:pt x="1050" y="0"/>
                  </a:lnTo>
                  <a:lnTo>
                    <a:pt x="1106" y="140"/>
                  </a:lnTo>
                  <a:lnTo>
                    <a:pt x="1149" y="277"/>
                  </a:lnTo>
                  <a:lnTo>
                    <a:pt x="1179" y="412"/>
                  </a:lnTo>
                  <a:lnTo>
                    <a:pt x="1198" y="544"/>
                  </a:lnTo>
                  <a:lnTo>
                    <a:pt x="1206" y="672"/>
                  </a:lnTo>
                  <a:lnTo>
                    <a:pt x="1203" y="797"/>
                  </a:lnTo>
                  <a:lnTo>
                    <a:pt x="1191" y="919"/>
                  </a:lnTo>
                  <a:lnTo>
                    <a:pt x="1170" y="1037"/>
                  </a:lnTo>
                  <a:lnTo>
                    <a:pt x="1141" y="1152"/>
                  </a:lnTo>
                  <a:lnTo>
                    <a:pt x="1105" y="1262"/>
                  </a:lnTo>
                  <a:lnTo>
                    <a:pt x="1062" y="1370"/>
                  </a:lnTo>
                  <a:lnTo>
                    <a:pt x="1014" y="1473"/>
                  </a:lnTo>
                  <a:lnTo>
                    <a:pt x="960" y="1573"/>
                  </a:lnTo>
                  <a:lnTo>
                    <a:pt x="903" y="1669"/>
                  </a:lnTo>
                  <a:lnTo>
                    <a:pt x="842" y="1760"/>
                  </a:lnTo>
                  <a:lnTo>
                    <a:pt x="778" y="1846"/>
                  </a:lnTo>
                  <a:lnTo>
                    <a:pt x="712" y="1929"/>
                  </a:lnTo>
                  <a:lnTo>
                    <a:pt x="645" y="2007"/>
                  </a:lnTo>
                  <a:lnTo>
                    <a:pt x="577" y="2082"/>
                  </a:lnTo>
                  <a:lnTo>
                    <a:pt x="510" y="2150"/>
                  </a:lnTo>
                  <a:lnTo>
                    <a:pt x="444" y="2214"/>
                  </a:lnTo>
                  <a:lnTo>
                    <a:pt x="380" y="2272"/>
                  </a:lnTo>
                  <a:lnTo>
                    <a:pt x="318" y="2326"/>
                  </a:lnTo>
                  <a:lnTo>
                    <a:pt x="259" y="2374"/>
                  </a:lnTo>
                  <a:lnTo>
                    <a:pt x="205" y="2417"/>
                  </a:lnTo>
                  <a:lnTo>
                    <a:pt x="154" y="2456"/>
                  </a:lnTo>
                  <a:lnTo>
                    <a:pt x="110" y="2488"/>
                  </a:lnTo>
                  <a:lnTo>
                    <a:pt x="73" y="2515"/>
                  </a:lnTo>
                  <a:lnTo>
                    <a:pt x="42" y="2535"/>
                  </a:lnTo>
                  <a:lnTo>
                    <a:pt x="19" y="2551"/>
                  </a:lnTo>
                  <a:lnTo>
                    <a:pt x="6" y="2559"/>
                  </a:lnTo>
                  <a:lnTo>
                    <a:pt x="0" y="2563"/>
                  </a:lnTo>
                  <a:lnTo>
                    <a:pt x="0" y="2561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679400" y="2262240"/>
              <a:ext cx="433440" cy="2055600"/>
            </a:xfrm>
            <a:custGeom>
              <a:avLst/>
              <a:gdLst/>
              <a:ahLst/>
              <a:rect l="l" t="t" r="r" b="b"/>
              <a:pathLst>
                <a:path w="1093" h="5182">
                  <a:moveTo>
                    <a:pt x="877" y="101"/>
                  </a:moveTo>
                  <a:lnTo>
                    <a:pt x="879" y="93"/>
                  </a:lnTo>
                  <a:lnTo>
                    <a:pt x="875" y="81"/>
                  </a:lnTo>
                  <a:lnTo>
                    <a:pt x="849" y="59"/>
                  </a:lnTo>
                  <a:lnTo>
                    <a:pt x="815" y="30"/>
                  </a:lnTo>
                  <a:lnTo>
                    <a:pt x="1093" y="0"/>
                  </a:lnTo>
                  <a:lnTo>
                    <a:pt x="1056" y="302"/>
                  </a:lnTo>
                  <a:lnTo>
                    <a:pt x="989" y="226"/>
                  </a:lnTo>
                  <a:lnTo>
                    <a:pt x="817" y="440"/>
                  </a:lnTo>
                  <a:lnTo>
                    <a:pt x="663" y="660"/>
                  </a:lnTo>
                  <a:lnTo>
                    <a:pt x="530" y="877"/>
                  </a:lnTo>
                  <a:lnTo>
                    <a:pt x="416" y="1097"/>
                  </a:lnTo>
                  <a:lnTo>
                    <a:pt x="320" y="1315"/>
                  </a:lnTo>
                  <a:lnTo>
                    <a:pt x="241" y="1531"/>
                  </a:lnTo>
                  <a:lnTo>
                    <a:pt x="175" y="1753"/>
                  </a:lnTo>
                  <a:lnTo>
                    <a:pt x="128" y="1965"/>
                  </a:lnTo>
                  <a:lnTo>
                    <a:pt x="90" y="2180"/>
                  </a:lnTo>
                  <a:lnTo>
                    <a:pt x="71" y="2391"/>
                  </a:lnTo>
                  <a:lnTo>
                    <a:pt x="59" y="2596"/>
                  </a:lnTo>
                  <a:lnTo>
                    <a:pt x="60" y="2799"/>
                  </a:lnTo>
                  <a:lnTo>
                    <a:pt x="68" y="3001"/>
                  </a:lnTo>
                  <a:lnTo>
                    <a:pt x="90" y="3193"/>
                  </a:lnTo>
                  <a:lnTo>
                    <a:pt x="116" y="3380"/>
                  </a:lnTo>
                  <a:lnTo>
                    <a:pt x="147" y="3562"/>
                  </a:lnTo>
                  <a:lnTo>
                    <a:pt x="186" y="3736"/>
                  </a:lnTo>
                  <a:lnTo>
                    <a:pt x="228" y="3905"/>
                  </a:lnTo>
                  <a:lnTo>
                    <a:pt x="277" y="4062"/>
                  </a:lnTo>
                  <a:lnTo>
                    <a:pt x="327" y="4218"/>
                  </a:lnTo>
                  <a:lnTo>
                    <a:pt x="432" y="4494"/>
                  </a:lnTo>
                  <a:lnTo>
                    <a:pt x="535" y="4729"/>
                  </a:lnTo>
                  <a:lnTo>
                    <a:pt x="631" y="4920"/>
                  </a:lnTo>
                  <a:lnTo>
                    <a:pt x="708" y="5059"/>
                  </a:lnTo>
                  <a:lnTo>
                    <a:pt x="777" y="5182"/>
                  </a:lnTo>
                  <a:lnTo>
                    <a:pt x="704" y="5056"/>
                  </a:lnTo>
                  <a:lnTo>
                    <a:pt x="623" y="4904"/>
                  </a:lnTo>
                  <a:lnTo>
                    <a:pt x="523" y="4701"/>
                  </a:lnTo>
                  <a:lnTo>
                    <a:pt x="415" y="4452"/>
                  </a:lnTo>
                  <a:lnTo>
                    <a:pt x="305" y="4164"/>
                  </a:lnTo>
                  <a:lnTo>
                    <a:pt x="248" y="4003"/>
                  </a:lnTo>
                  <a:lnTo>
                    <a:pt x="197" y="3837"/>
                  </a:lnTo>
                  <a:lnTo>
                    <a:pt x="151" y="3659"/>
                  </a:lnTo>
                  <a:lnTo>
                    <a:pt x="107" y="3479"/>
                  </a:lnTo>
                  <a:lnTo>
                    <a:pt x="71" y="3291"/>
                  </a:lnTo>
                  <a:lnTo>
                    <a:pt x="42" y="3094"/>
                  </a:lnTo>
                  <a:lnTo>
                    <a:pt x="18" y="2894"/>
                  </a:lnTo>
                  <a:lnTo>
                    <a:pt x="3" y="2691"/>
                  </a:lnTo>
                  <a:lnTo>
                    <a:pt x="0" y="2481"/>
                  </a:lnTo>
                  <a:lnTo>
                    <a:pt x="7" y="2270"/>
                  </a:lnTo>
                  <a:lnTo>
                    <a:pt x="23" y="2053"/>
                  </a:lnTo>
                  <a:lnTo>
                    <a:pt x="53" y="1837"/>
                  </a:lnTo>
                  <a:lnTo>
                    <a:pt x="97" y="1620"/>
                  </a:lnTo>
                  <a:lnTo>
                    <a:pt x="157" y="1399"/>
                  </a:lnTo>
                  <a:lnTo>
                    <a:pt x="231" y="1176"/>
                  </a:lnTo>
                  <a:lnTo>
                    <a:pt x="323" y="959"/>
                  </a:lnTo>
                  <a:lnTo>
                    <a:pt x="432" y="743"/>
                  </a:lnTo>
                  <a:lnTo>
                    <a:pt x="560" y="522"/>
                  </a:lnTo>
                  <a:lnTo>
                    <a:pt x="708" y="307"/>
                  </a:lnTo>
                  <a:lnTo>
                    <a:pt x="789" y="202"/>
                  </a:lnTo>
                  <a:lnTo>
                    <a:pt x="877" y="101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679400" y="2262240"/>
              <a:ext cx="433440" cy="2055600"/>
            </a:xfrm>
            <a:custGeom>
              <a:avLst/>
              <a:gdLst/>
              <a:ahLst/>
              <a:rect l="l" t="t" r="r" b="b"/>
              <a:pathLst>
                <a:path w="1093" h="5182">
                  <a:moveTo>
                    <a:pt x="877" y="101"/>
                  </a:moveTo>
                  <a:lnTo>
                    <a:pt x="879" y="93"/>
                  </a:lnTo>
                  <a:lnTo>
                    <a:pt x="875" y="81"/>
                  </a:lnTo>
                  <a:lnTo>
                    <a:pt x="849" y="59"/>
                  </a:lnTo>
                  <a:lnTo>
                    <a:pt x="815" y="30"/>
                  </a:lnTo>
                  <a:lnTo>
                    <a:pt x="1093" y="0"/>
                  </a:lnTo>
                  <a:lnTo>
                    <a:pt x="1056" y="302"/>
                  </a:lnTo>
                  <a:lnTo>
                    <a:pt x="989" y="226"/>
                  </a:lnTo>
                  <a:lnTo>
                    <a:pt x="817" y="440"/>
                  </a:lnTo>
                  <a:lnTo>
                    <a:pt x="663" y="660"/>
                  </a:lnTo>
                  <a:lnTo>
                    <a:pt x="530" y="877"/>
                  </a:lnTo>
                  <a:lnTo>
                    <a:pt x="416" y="1097"/>
                  </a:lnTo>
                  <a:lnTo>
                    <a:pt x="320" y="1315"/>
                  </a:lnTo>
                  <a:lnTo>
                    <a:pt x="241" y="1531"/>
                  </a:lnTo>
                  <a:lnTo>
                    <a:pt x="175" y="1753"/>
                  </a:lnTo>
                  <a:lnTo>
                    <a:pt x="128" y="1965"/>
                  </a:lnTo>
                  <a:lnTo>
                    <a:pt x="90" y="2180"/>
                  </a:lnTo>
                  <a:lnTo>
                    <a:pt x="71" y="2391"/>
                  </a:lnTo>
                  <a:lnTo>
                    <a:pt x="59" y="2596"/>
                  </a:lnTo>
                  <a:lnTo>
                    <a:pt x="60" y="2799"/>
                  </a:lnTo>
                  <a:lnTo>
                    <a:pt x="68" y="3001"/>
                  </a:lnTo>
                  <a:lnTo>
                    <a:pt x="90" y="3193"/>
                  </a:lnTo>
                  <a:lnTo>
                    <a:pt x="116" y="3380"/>
                  </a:lnTo>
                  <a:lnTo>
                    <a:pt x="147" y="3562"/>
                  </a:lnTo>
                  <a:lnTo>
                    <a:pt x="186" y="3736"/>
                  </a:lnTo>
                  <a:lnTo>
                    <a:pt x="228" y="3905"/>
                  </a:lnTo>
                  <a:lnTo>
                    <a:pt x="277" y="4062"/>
                  </a:lnTo>
                  <a:lnTo>
                    <a:pt x="327" y="4218"/>
                  </a:lnTo>
                  <a:lnTo>
                    <a:pt x="432" y="4494"/>
                  </a:lnTo>
                  <a:lnTo>
                    <a:pt x="535" y="4729"/>
                  </a:lnTo>
                  <a:lnTo>
                    <a:pt x="631" y="4920"/>
                  </a:lnTo>
                  <a:lnTo>
                    <a:pt x="708" y="5059"/>
                  </a:lnTo>
                  <a:lnTo>
                    <a:pt x="777" y="5182"/>
                  </a:lnTo>
                  <a:lnTo>
                    <a:pt x="704" y="5056"/>
                  </a:lnTo>
                  <a:lnTo>
                    <a:pt x="623" y="4904"/>
                  </a:lnTo>
                  <a:lnTo>
                    <a:pt x="523" y="4701"/>
                  </a:lnTo>
                  <a:lnTo>
                    <a:pt x="415" y="4452"/>
                  </a:lnTo>
                  <a:lnTo>
                    <a:pt x="305" y="4164"/>
                  </a:lnTo>
                  <a:lnTo>
                    <a:pt x="248" y="4003"/>
                  </a:lnTo>
                  <a:lnTo>
                    <a:pt x="197" y="3837"/>
                  </a:lnTo>
                  <a:lnTo>
                    <a:pt x="151" y="3659"/>
                  </a:lnTo>
                  <a:lnTo>
                    <a:pt x="107" y="3479"/>
                  </a:lnTo>
                  <a:lnTo>
                    <a:pt x="71" y="3291"/>
                  </a:lnTo>
                  <a:lnTo>
                    <a:pt x="42" y="3094"/>
                  </a:lnTo>
                  <a:lnTo>
                    <a:pt x="18" y="2894"/>
                  </a:lnTo>
                  <a:lnTo>
                    <a:pt x="3" y="2691"/>
                  </a:lnTo>
                  <a:lnTo>
                    <a:pt x="0" y="2481"/>
                  </a:lnTo>
                  <a:lnTo>
                    <a:pt x="7" y="2270"/>
                  </a:lnTo>
                  <a:lnTo>
                    <a:pt x="23" y="2053"/>
                  </a:lnTo>
                  <a:lnTo>
                    <a:pt x="53" y="1837"/>
                  </a:lnTo>
                  <a:lnTo>
                    <a:pt x="97" y="1620"/>
                  </a:lnTo>
                  <a:lnTo>
                    <a:pt x="157" y="1399"/>
                  </a:lnTo>
                  <a:lnTo>
                    <a:pt x="231" y="1176"/>
                  </a:lnTo>
                  <a:lnTo>
                    <a:pt x="323" y="959"/>
                  </a:lnTo>
                  <a:lnTo>
                    <a:pt x="432" y="743"/>
                  </a:lnTo>
                  <a:lnTo>
                    <a:pt x="560" y="522"/>
                  </a:lnTo>
                  <a:lnTo>
                    <a:pt x="708" y="307"/>
                  </a:lnTo>
                  <a:lnTo>
                    <a:pt x="789" y="202"/>
                  </a:lnTo>
                  <a:lnTo>
                    <a:pt x="877" y="101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001960" y="2273400"/>
              <a:ext cx="27000" cy="3024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65" y="73"/>
                  </a:moveTo>
                  <a:lnTo>
                    <a:pt x="66" y="72"/>
                  </a:lnTo>
                  <a:lnTo>
                    <a:pt x="68" y="68"/>
                  </a:lnTo>
                  <a:lnTo>
                    <a:pt x="68" y="64"/>
                  </a:lnTo>
                  <a:lnTo>
                    <a:pt x="65" y="62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4" y="46"/>
                  </a:lnTo>
                  <a:lnTo>
                    <a:pt x="52" y="42"/>
                  </a:lnTo>
                  <a:lnTo>
                    <a:pt x="48" y="38"/>
                  </a:lnTo>
                  <a:lnTo>
                    <a:pt x="46" y="37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6" y="28"/>
                  </a:lnTo>
                  <a:lnTo>
                    <a:pt x="29" y="22"/>
                  </a:lnTo>
                  <a:lnTo>
                    <a:pt x="26" y="19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5" y="10"/>
                  </a:lnTo>
                  <a:lnTo>
                    <a:pt x="10" y="7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9" y="7"/>
                  </a:lnTo>
                  <a:lnTo>
                    <a:pt x="14" y="11"/>
                  </a:lnTo>
                  <a:lnTo>
                    <a:pt x="16" y="13"/>
                  </a:lnTo>
                  <a:lnTo>
                    <a:pt x="18" y="16"/>
                  </a:lnTo>
                  <a:lnTo>
                    <a:pt x="26" y="20"/>
                  </a:lnTo>
                  <a:lnTo>
                    <a:pt x="28" y="23"/>
                  </a:lnTo>
                  <a:lnTo>
                    <a:pt x="36" y="29"/>
                  </a:lnTo>
                  <a:lnTo>
                    <a:pt x="38" y="31"/>
                  </a:lnTo>
                  <a:lnTo>
                    <a:pt x="41" y="35"/>
                  </a:lnTo>
                  <a:lnTo>
                    <a:pt x="45" y="37"/>
                  </a:lnTo>
                  <a:lnTo>
                    <a:pt x="47" y="40"/>
                  </a:lnTo>
                  <a:lnTo>
                    <a:pt x="51" y="43"/>
                  </a:lnTo>
                  <a:lnTo>
                    <a:pt x="53" y="47"/>
                  </a:lnTo>
                  <a:lnTo>
                    <a:pt x="60" y="54"/>
                  </a:lnTo>
                  <a:lnTo>
                    <a:pt x="62" y="58"/>
                  </a:lnTo>
                  <a:lnTo>
                    <a:pt x="64" y="62"/>
                  </a:lnTo>
                  <a:lnTo>
                    <a:pt x="65" y="65"/>
                  </a:lnTo>
                  <a:lnTo>
                    <a:pt x="66" y="67"/>
                  </a:lnTo>
                  <a:lnTo>
                    <a:pt x="66" y="68"/>
                  </a:lnTo>
                  <a:lnTo>
                    <a:pt x="64" y="70"/>
                  </a:lnTo>
                  <a:lnTo>
                    <a:pt x="64" y="71"/>
                  </a:lnTo>
                  <a:lnTo>
                    <a:pt x="65" y="73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001960" y="2273400"/>
              <a:ext cx="27000" cy="3024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65" y="73"/>
                  </a:moveTo>
                  <a:lnTo>
                    <a:pt x="66" y="72"/>
                  </a:lnTo>
                  <a:lnTo>
                    <a:pt x="68" y="68"/>
                  </a:lnTo>
                  <a:lnTo>
                    <a:pt x="68" y="64"/>
                  </a:lnTo>
                  <a:lnTo>
                    <a:pt x="65" y="62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4" y="46"/>
                  </a:lnTo>
                  <a:lnTo>
                    <a:pt x="52" y="42"/>
                  </a:lnTo>
                  <a:lnTo>
                    <a:pt x="48" y="38"/>
                  </a:lnTo>
                  <a:lnTo>
                    <a:pt x="46" y="37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6" y="28"/>
                  </a:lnTo>
                  <a:lnTo>
                    <a:pt x="29" y="22"/>
                  </a:lnTo>
                  <a:lnTo>
                    <a:pt x="26" y="19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5" y="10"/>
                  </a:lnTo>
                  <a:lnTo>
                    <a:pt x="10" y="7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9" y="7"/>
                  </a:lnTo>
                  <a:lnTo>
                    <a:pt x="14" y="11"/>
                  </a:lnTo>
                  <a:lnTo>
                    <a:pt x="16" y="13"/>
                  </a:lnTo>
                  <a:lnTo>
                    <a:pt x="18" y="16"/>
                  </a:lnTo>
                  <a:lnTo>
                    <a:pt x="26" y="20"/>
                  </a:lnTo>
                  <a:lnTo>
                    <a:pt x="28" y="23"/>
                  </a:lnTo>
                  <a:lnTo>
                    <a:pt x="36" y="29"/>
                  </a:lnTo>
                  <a:lnTo>
                    <a:pt x="38" y="31"/>
                  </a:lnTo>
                  <a:lnTo>
                    <a:pt x="41" y="35"/>
                  </a:lnTo>
                  <a:lnTo>
                    <a:pt x="45" y="37"/>
                  </a:lnTo>
                  <a:lnTo>
                    <a:pt x="47" y="40"/>
                  </a:lnTo>
                  <a:lnTo>
                    <a:pt x="51" y="43"/>
                  </a:lnTo>
                  <a:lnTo>
                    <a:pt x="53" y="47"/>
                  </a:lnTo>
                  <a:lnTo>
                    <a:pt x="60" y="54"/>
                  </a:lnTo>
                  <a:lnTo>
                    <a:pt x="62" y="58"/>
                  </a:lnTo>
                  <a:lnTo>
                    <a:pt x="64" y="62"/>
                  </a:lnTo>
                  <a:lnTo>
                    <a:pt x="65" y="65"/>
                  </a:lnTo>
                  <a:lnTo>
                    <a:pt x="66" y="67"/>
                  </a:lnTo>
                  <a:lnTo>
                    <a:pt x="66" y="68"/>
                  </a:lnTo>
                  <a:lnTo>
                    <a:pt x="64" y="70"/>
                  </a:lnTo>
                  <a:lnTo>
                    <a:pt x="64" y="71"/>
                  </a:lnTo>
                  <a:lnTo>
                    <a:pt x="65" y="73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001960" y="2262240"/>
              <a:ext cx="110880" cy="120600"/>
            </a:xfrm>
            <a:custGeom>
              <a:avLst/>
              <a:gdLst/>
              <a:ahLst/>
              <a:rect l="l" t="t" r="r" b="b"/>
              <a:pathLst>
                <a:path w="279" h="306">
                  <a:moveTo>
                    <a:pt x="1" y="32"/>
                  </a:moveTo>
                  <a:lnTo>
                    <a:pt x="279" y="1"/>
                  </a:lnTo>
                  <a:lnTo>
                    <a:pt x="277" y="0"/>
                  </a:lnTo>
                  <a:lnTo>
                    <a:pt x="241" y="303"/>
                  </a:lnTo>
                  <a:lnTo>
                    <a:pt x="242" y="302"/>
                  </a:lnTo>
                  <a:lnTo>
                    <a:pt x="175" y="227"/>
                  </a:lnTo>
                  <a:lnTo>
                    <a:pt x="174" y="228"/>
                  </a:lnTo>
                  <a:lnTo>
                    <a:pt x="242" y="306"/>
                  </a:lnTo>
                  <a:lnTo>
                    <a:pt x="278" y="0"/>
                  </a:lnTo>
                  <a:lnTo>
                    <a:pt x="0" y="30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01960" y="2262240"/>
              <a:ext cx="110880" cy="120600"/>
            </a:xfrm>
            <a:custGeom>
              <a:avLst/>
              <a:gdLst/>
              <a:ahLst/>
              <a:rect l="l" t="t" r="r" b="b"/>
              <a:pathLst>
                <a:path w="279" h="306">
                  <a:moveTo>
                    <a:pt x="1" y="32"/>
                  </a:moveTo>
                  <a:lnTo>
                    <a:pt x="279" y="1"/>
                  </a:lnTo>
                  <a:lnTo>
                    <a:pt x="277" y="0"/>
                  </a:lnTo>
                  <a:lnTo>
                    <a:pt x="241" y="303"/>
                  </a:lnTo>
                  <a:lnTo>
                    <a:pt x="242" y="302"/>
                  </a:lnTo>
                  <a:lnTo>
                    <a:pt x="175" y="227"/>
                  </a:lnTo>
                  <a:lnTo>
                    <a:pt x="174" y="228"/>
                  </a:lnTo>
                  <a:lnTo>
                    <a:pt x="242" y="306"/>
                  </a:lnTo>
                  <a:lnTo>
                    <a:pt x="278" y="0"/>
                  </a:lnTo>
                  <a:lnTo>
                    <a:pt x="0" y="30"/>
                  </a:lnTo>
                  <a:lnTo>
                    <a:pt x="1" y="32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701720" y="2351160"/>
              <a:ext cx="370080" cy="1966680"/>
            </a:xfrm>
            <a:custGeom>
              <a:avLst/>
              <a:gdLst/>
              <a:ahLst/>
              <a:rect l="l" t="t" r="r" b="b"/>
              <a:pathLst>
                <a:path w="932" h="4956">
                  <a:moveTo>
                    <a:pt x="932" y="0"/>
                  </a:moveTo>
                  <a:lnTo>
                    <a:pt x="758" y="216"/>
                  </a:lnTo>
                  <a:lnTo>
                    <a:pt x="605" y="433"/>
                  </a:lnTo>
                  <a:lnTo>
                    <a:pt x="473" y="651"/>
                  </a:lnTo>
                  <a:lnTo>
                    <a:pt x="358" y="869"/>
                  </a:lnTo>
                  <a:lnTo>
                    <a:pt x="262" y="1090"/>
                  </a:lnTo>
                  <a:lnTo>
                    <a:pt x="182" y="1309"/>
                  </a:lnTo>
                  <a:lnTo>
                    <a:pt x="118" y="1525"/>
                  </a:lnTo>
                  <a:lnTo>
                    <a:pt x="69" y="1742"/>
                  </a:lnTo>
                  <a:lnTo>
                    <a:pt x="34" y="1954"/>
                  </a:lnTo>
                  <a:lnTo>
                    <a:pt x="11" y="2164"/>
                  </a:lnTo>
                  <a:lnTo>
                    <a:pt x="0" y="2371"/>
                  </a:lnTo>
                  <a:lnTo>
                    <a:pt x="0" y="2575"/>
                  </a:lnTo>
                  <a:lnTo>
                    <a:pt x="10" y="2773"/>
                  </a:lnTo>
                  <a:lnTo>
                    <a:pt x="29" y="2968"/>
                  </a:lnTo>
                  <a:lnTo>
                    <a:pt x="56" y="3155"/>
                  </a:lnTo>
                  <a:lnTo>
                    <a:pt x="89" y="3337"/>
                  </a:lnTo>
                  <a:lnTo>
                    <a:pt x="128" y="3512"/>
                  </a:lnTo>
                  <a:lnTo>
                    <a:pt x="171" y="3680"/>
                  </a:lnTo>
                  <a:lnTo>
                    <a:pt x="219" y="3841"/>
                  </a:lnTo>
                  <a:lnTo>
                    <a:pt x="268" y="3992"/>
                  </a:lnTo>
                  <a:lnTo>
                    <a:pt x="321" y="4135"/>
                  </a:lnTo>
                  <a:lnTo>
                    <a:pt x="374" y="4268"/>
                  </a:lnTo>
                  <a:lnTo>
                    <a:pt x="425" y="4392"/>
                  </a:lnTo>
                  <a:lnTo>
                    <a:pt x="477" y="4504"/>
                  </a:lnTo>
                  <a:lnTo>
                    <a:pt x="525" y="4605"/>
                  </a:lnTo>
                  <a:lnTo>
                    <a:pt x="570" y="4696"/>
                  </a:lnTo>
                  <a:lnTo>
                    <a:pt x="611" y="4773"/>
                  </a:lnTo>
                  <a:lnTo>
                    <a:pt x="648" y="4837"/>
                  </a:lnTo>
                  <a:lnTo>
                    <a:pt x="677" y="4888"/>
                  </a:lnTo>
                  <a:lnTo>
                    <a:pt x="700" y="4927"/>
                  </a:lnTo>
                  <a:lnTo>
                    <a:pt x="714" y="4950"/>
                  </a:lnTo>
                  <a:lnTo>
                    <a:pt x="719" y="4956"/>
                  </a:lnTo>
                  <a:lnTo>
                    <a:pt x="720" y="4956"/>
                  </a:lnTo>
                  <a:lnTo>
                    <a:pt x="719" y="4956"/>
                  </a:lnTo>
                  <a:lnTo>
                    <a:pt x="720" y="4956"/>
                  </a:lnTo>
                  <a:lnTo>
                    <a:pt x="716" y="4948"/>
                  </a:lnTo>
                  <a:lnTo>
                    <a:pt x="701" y="4924"/>
                  </a:lnTo>
                  <a:lnTo>
                    <a:pt x="678" y="4887"/>
                  </a:lnTo>
                  <a:lnTo>
                    <a:pt x="648" y="4837"/>
                  </a:lnTo>
                  <a:lnTo>
                    <a:pt x="614" y="4772"/>
                  </a:lnTo>
                  <a:lnTo>
                    <a:pt x="573" y="4695"/>
                  </a:lnTo>
                  <a:lnTo>
                    <a:pt x="526" y="4605"/>
                  </a:lnTo>
                  <a:lnTo>
                    <a:pt x="478" y="4502"/>
                  </a:lnTo>
                  <a:lnTo>
                    <a:pt x="428" y="4391"/>
                  </a:lnTo>
                  <a:lnTo>
                    <a:pt x="374" y="4268"/>
                  </a:lnTo>
                  <a:lnTo>
                    <a:pt x="322" y="4134"/>
                  </a:lnTo>
                  <a:lnTo>
                    <a:pt x="269" y="3992"/>
                  </a:lnTo>
                  <a:lnTo>
                    <a:pt x="220" y="3840"/>
                  </a:lnTo>
                  <a:lnTo>
                    <a:pt x="172" y="3680"/>
                  </a:lnTo>
                  <a:lnTo>
                    <a:pt x="129" y="3512"/>
                  </a:lnTo>
                  <a:lnTo>
                    <a:pt x="90" y="3336"/>
                  </a:lnTo>
                  <a:lnTo>
                    <a:pt x="57" y="3155"/>
                  </a:lnTo>
                  <a:lnTo>
                    <a:pt x="32" y="2967"/>
                  </a:lnTo>
                  <a:lnTo>
                    <a:pt x="12" y="2773"/>
                  </a:lnTo>
                  <a:lnTo>
                    <a:pt x="2" y="2575"/>
                  </a:lnTo>
                  <a:lnTo>
                    <a:pt x="3" y="2373"/>
                  </a:lnTo>
                  <a:lnTo>
                    <a:pt x="14" y="2165"/>
                  </a:lnTo>
                  <a:lnTo>
                    <a:pt x="35" y="1954"/>
                  </a:lnTo>
                  <a:lnTo>
                    <a:pt x="70" y="1742"/>
                  </a:lnTo>
                  <a:lnTo>
                    <a:pt x="120" y="1526"/>
                  </a:lnTo>
                  <a:lnTo>
                    <a:pt x="184" y="1309"/>
                  </a:lnTo>
                  <a:lnTo>
                    <a:pt x="263" y="1090"/>
                  </a:lnTo>
                  <a:lnTo>
                    <a:pt x="360" y="871"/>
                  </a:lnTo>
                  <a:lnTo>
                    <a:pt x="473" y="652"/>
                  </a:lnTo>
                  <a:lnTo>
                    <a:pt x="606" y="434"/>
                  </a:lnTo>
                  <a:lnTo>
                    <a:pt x="760" y="217"/>
                  </a:lnTo>
                  <a:lnTo>
                    <a:pt x="932" y="0"/>
                  </a:lnTo>
                  <a:lnTo>
                    <a:pt x="932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701720" y="2351160"/>
              <a:ext cx="370080" cy="1966680"/>
            </a:xfrm>
            <a:custGeom>
              <a:avLst/>
              <a:gdLst/>
              <a:ahLst/>
              <a:rect l="l" t="t" r="r" b="b"/>
              <a:pathLst>
                <a:path w="932" h="4956">
                  <a:moveTo>
                    <a:pt x="932" y="0"/>
                  </a:moveTo>
                  <a:lnTo>
                    <a:pt x="758" y="216"/>
                  </a:lnTo>
                  <a:lnTo>
                    <a:pt x="605" y="433"/>
                  </a:lnTo>
                  <a:lnTo>
                    <a:pt x="473" y="651"/>
                  </a:lnTo>
                  <a:lnTo>
                    <a:pt x="358" y="869"/>
                  </a:lnTo>
                  <a:lnTo>
                    <a:pt x="262" y="1090"/>
                  </a:lnTo>
                  <a:lnTo>
                    <a:pt x="182" y="1309"/>
                  </a:lnTo>
                  <a:lnTo>
                    <a:pt x="118" y="1525"/>
                  </a:lnTo>
                  <a:lnTo>
                    <a:pt x="69" y="1742"/>
                  </a:lnTo>
                  <a:lnTo>
                    <a:pt x="34" y="1954"/>
                  </a:lnTo>
                  <a:lnTo>
                    <a:pt x="11" y="2164"/>
                  </a:lnTo>
                  <a:lnTo>
                    <a:pt x="0" y="2371"/>
                  </a:lnTo>
                  <a:lnTo>
                    <a:pt x="0" y="2575"/>
                  </a:lnTo>
                  <a:lnTo>
                    <a:pt x="10" y="2773"/>
                  </a:lnTo>
                  <a:lnTo>
                    <a:pt x="29" y="2968"/>
                  </a:lnTo>
                  <a:lnTo>
                    <a:pt x="56" y="3155"/>
                  </a:lnTo>
                  <a:lnTo>
                    <a:pt x="89" y="3337"/>
                  </a:lnTo>
                  <a:lnTo>
                    <a:pt x="128" y="3512"/>
                  </a:lnTo>
                  <a:lnTo>
                    <a:pt x="171" y="3680"/>
                  </a:lnTo>
                  <a:lnTo>
                    <a:pt x="219" y="3841"/>
                  </a:lnTo>
                  <a:lnTo>
                    <a:pt x="268" y="3992"/>
                  </a:lnTo>
                  <a:lnTo>
                    <a:pt x="321" y="4135"/>
                  </a:lnTo>
                  <a:lnTo>
                    <a:pt x="374" y="4268"/>
                  </a:lnTo>
                  <a:lnTo>
                    <a:pt x="425" y="4392"/>
                  </a:lnTo>
                  <a:lnTo>
                    <a:pt x="477" y="4504"/>
                  </a:lnTo>
                  <a:lnTo>
                    <a:pt x="525" y="4605"/>
                  </a:lnTo>
                  <a:lnTo>
                    <a:pt x="570" y="4696"/>
                  </a:lnTo>
                  <a:lnTo>
                    <a:pt x="611" y="4773"/>
                  </a:lnTo>
                  <a:lnTo>
                    <a:pt x="648" y="4837"/>
                  </a:lnTo>
                  <a:lnTo>
                    <a:pt x="677" y="4888"/>
                  </a:lnTo>
                  <a:lnTo>
                    <a:pt x="700" y="4927"/>
                  </a:lnTo>
                  <a:lnTo>
                    <a:pt x="714" y="4950"/>
                  </a:lnTo>
                  <a:lnTo>
                    <a:pt x="719" y="4956"/>
                  </a:lnTo>
                  <a:lnTo>
                    <a:pt x="720" y="4956"/>
                  </a:lnTo>
                  <a:lnTo>
                    <a:pt x="719" y="4956"/>
                  </a:lnTo>
                  <a:lnTo>
                    <a:pt x="720" y="4956"/>
                  </a:lnTo>
                  <a:lnTo>
                    <a:pt x="716" y="4948"/>
                  </a:lnTo>
                  <a:lnTo>
                    <a:pt x="701" y="4924"/>
                  </a:lnTo>
                  <a:lnTo>
                    <a:pt x="678" y="4887"/>
                  </a:lnTo>
                  <a:lnTo>
                    <a:pt x="648" y="4837"/>
                  </a:lnTo>
                  <a:lnTo>
                    <a:pt x="614" y="4772"/>
                  </a:lnTo>
                  <a:lnTo>
                    <a:pt x="573" y="4695"/>
                  </a:lnTo>
                  <a:lnTo>
                    <a:pt x="526" y="4605"/>
                  </a:lnTo>
                  <a:lnTo>
                    <a:pt x="478" y="4502"/>
                  </a:lnTo>
                  <a:lnTo>
                    <a:pt x="428" y="4391"/>
                  </a:lnTo>
                  <a:lnTo>
                    <a:pt x="374" y="4268"/>
                  </a:lnTo>
                  <a:lnTo>
                    <a:pt x="322" y="4134"/>
                  </a:lnTo>
                  <a:lnTo>
                    <a:pt x="269" y="3992"/>
                  </a:lnTo>
                  <a:lnTo>
                    <a:pt x="220" y="3840"/>
                  </a:lnTo>
                  <a:lnTo>
                    <a:pt x="172" y="3680"/>
                  </a:lnTo>
                  <a:lnTo>
                    <a:pt x="129" y="3512"/>
                  </a:lnTo>
                  <a:lnTo>
                    <a:pt x="90" y="3336"/>
                  </a:lnTo>
                  <a:lnTo>
                    <a:pt x="57" y="3155"/>
                  </a:lnTo>
                  <a:lnTo>
                    <a:pt x="32" y="2967"/>
                  </a:lnTo>
                  <a:lnTo>
                    <a:pt x="12" y="2773"/>
                  </a:lnTo>
                  <a:lnTo>
                    <a:pt x="2" y="2575"/>
                  </a:lnTo>
                  <a:lnTo>
                    <a:pt x="3" y="2373"/>
                  </a:lnTo>
                  <a:lnTo>
                    <a:pt x="14" y="2165"/>
                  </a:lnTo>
                  <a:lnTo>
                    <a:pt x="35" y="1954"/>
                  </a:lnTo>
                  <a:lnTo>
                    <a:pt x="70" y="1742"/>
                  </a:lnTo>
                  <a:lnTo>
                    <a:pt x="120" y="1526"/>
                  </a:lnTo>
                  <a:lnTo>
                    <a:pt x="184" y="1309"/>
                  </a:lnTo>
                  <a:lnTo>
                    <a:pt x="263" y="1090"/>
                  </a:lnTo>
                  <a:lnTo>
                    <a:pt x="360" y="871"/>
                  </a:lnTo>
                  <a:lnTo>
                    <a:pt x="473" y="652"/>
                  </a:lnTo>
                  <a:lnTo>
                    <a:pt x="606" y="434"/>
                  </a:lnTo>
                  <a:lnTo>
                    <a:pt x="760" y="217"/>
                  </a:lnTo>
                  <a:lnTo>
                    <a:pt x="932" y="0"/>
                  </a:lnTo>
                  <a:lnTo>
                    <a:pt x="932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77960" y="2301840"/>
              <a:ext cx="349200" cy="2016000"/>
            </a:xfrm>
            <a:custGeom>
              <a:avLst/>
              <a:gdLst/>
              <a:ahLst/>
              <a:rect l="l" t="t" r="r" b="b"/>
              <a:pathLst>
                <a:path w="882" h="5082">
                  <a:moveTo>
                    <a:pt x="781" y="5082"/>
                  </a:moveTo>
                  <a:lnTo>
                    <a:pt x="775" y="5073"/>
                  </a:lnTo>
                  <a:lnTo>
                    <a:pt x="762" y="5050"/>
                  </a:lnTo>
                  <a:lnTo>
                    <a:pt x="738" y="5010"/>
                  </a:lnTo>
                  <a:lnTo>
                    <a:pt x="707" y="4956"/>
                  </a:lnTo>
                  <a:lnTo>
                    <a:pt x="670" y="4886"/>
                  </a:lnTo>
                  <a:lnTo>
                    <a:pt x="627" y="4804"/>
                  </a:lnTo>
                  <a:lnTo>
                    <a:pt x="579" y="4711"/>
                  </a:lnTo>
                  <a:lnTo>
                    <a:pt x="528" y="4603"/>
                  </a:lnTo>
                  <a:lnTo>
                    <a:pt x="473" y="4483"/>
                  </a:lnTo>
                  <a:lnTo>
                    <a:pt x="419" y="4355"/>
                  </a:lnTo>
                  <a:lnTo>
                    <a:pt x="363" y="4214"/>
                  </a:lnTo>
                  <a:lnTo>
                    <a:pt x="306" y="4064"/>
                  </a:lnTo>
                  <a:lnTo>
                    <a:pt x="253" y="3906"/>
                  </a:lnTo>
                  <a:lnTo>
                    <a:pt x="202" y="3737"/>
                  </a:lnTo>
                  <a:lnTo>
                    <a:pt x="154" y="3563"/>
                  </a:lnTo>
                  <a:lnTo>
                    <a:pt x="112" y="3379"/>
                  </a:lnTo>
                  <a:lnTo>
                    <a:pt x="75" y="3191"/>
                  </a:lnTo>
                  <a:lnTo>
                    <a:pt x="43" y="2997"/>
                  </a:lnTo>
                  <a:lnTo>
                    <a:pt x="22" y="2796"/>
                  </a:lnTo>
                  <a:lnTo>
                    <a:pt x="7" y="2591"/>
                  </a:lnTo>
                  <a:lnTo>
                    <a:pt x="1" y="2384"/>
                  </a:lnTo>
                  <a:lnTo>
                    <a:pt x="7" y="2171"/>
                  </a:lnTo>
                  <a:lnTo>
                    <a:pt x="27" y="1955"/>
                  </a:lnTo>
                  <a:lnTo>
                    <a:pt x="57" y="1739"/>
                  </a:lnTo>
                  <a:lnTo>
                    <a:pt x="101" y="1520"/>
                  </a:lnTo>
                  <a:lnTo>
                    <a:pt x="160" y="1301"/>
                  </a:lnTo>
                  <a:lnTo>
                    <a:pt x="235" y="1081"/>
                  </a:lnTo>
                  <a:lnTo>
                    <a:pt x="327" y="861"/>
                  </a:lnTo>
                  <a:lnTo>
                    <a:pt x="436" y="644"/>
                  </a:lnTo>
                  <a:lnTo>
                    <a:pt x="564" y="427"/>
                  </a:lnTo>
                  <a:lnTo>
                    <a:pt x="713" y="213"/>
                  </a:lnTo>
                  <a:lnTo>
                    <a:pt x="882" y="2"/>
                  </a:lnTo>
                  <a:lnTo>
                    <a:pt x="881" y="0"/>
                  </a:lnTo>
                  <a:lnTo>
                    <a:pt x="711" y="212"/>
                  </a:lnTo>
                  <a:lnTo>
                    <a:pt x="563" y="426"/>
                  </a:lnTo>
                  <a:lnTo>
                    <a:pt x="435" y="643"/>
                  </a:lnTo>
                  <a:lnTo>
                    <a:pt x="325" y="861"/>
                  </a:lnTo>
                  <a:lnTo>
                    <a:pt x="233" y="1081"/>
                  </a:lnTo>
                  <a:lnTo>
                    <a:pt x="159" y="1301"/>
                  </a:lnTo>
                  <a:lnTo>
                    <a:pt x="100" y="1520"/>
                  </a:lnTo>
                  <a:lnTo>
                    <a:pt x="54" y="1738"/>
                  </a:lnTo>
                  <a:lnTo>
                    <a:pt x="24" y="1955"/>
                  </a:lnTo>
                  <a:lnTo>
                    <a:pt x="6" y="2169"/>
                  </a:lnTo>
                  <a:lnTo>
                    <a:pt x="0" y="2382"/>
                  </a:lnTo>
                  <a:lnTo>
                    <a:pt x="5" y="2591"/>
                  </a:lnTo>
                  <a:lnTo>
                    <a:pt x="19" y="2796"/>
                  </a:lnTo>
                  <a:lnTo>
                    <a:pt x="42" y="2997"/>
                  </a:lnTo>
                  <a:lnTo>
                    <a:pt x="72" y="3191"/>
                  </a:lnTo>
                  <a:lnTo>
                    <a:pt x="111" y="3379"/>
                  </a:lnTo>
                  <a:lnTo>
                    <a:pt x="153" y="3563"/>
                  </a:lnTo>
                  <a:lnTo>
                    <a:pt x="201" y="3738"/>
                  </a:lnTo>
                  <a:lnTo>
                    <a:pt x="252" y="3906"/>
                  </a:lnTo>
                  <a:lnTo>
                    <a:pt x="306" y="4064"/>
                  </a:lnTo>
                  <a:lnTo>
                    <a:pt x="361" y="4214"/>
                  </a:lnTo>
                  <a:lnTo>
                    <a:pt x="417" y="4355"/>
                  </a:lnTo>
                  <a:lnTo>
                    <a:pt x="472" y="4484"/>
                  </a:lnTo>
                  <a:lnTo>
                    <a:pt x="527" y="4603"/>
                  </a:lnTo>
                  <a:lnTo>
                    <a:pt x="577" y="4710"/>
                  </a:lnTo>
                  <a:lnTo>
                    <a:pt x="624" y="4806"/>
                  </a:lnTo>
                  <a:lnTo>
                    <a:pt x="669" y="4888"/>
                  </a:lnTo>
                  <a:lnTo>
                    <a:pt x="706" y="4957"/>
                  </a:lnTo>
                  <a:lnTo>
                    <a:pt x="737" y="5011"/>
                  </a:lnTo>
                  <a:lnTo>
                    <a:pt x="761" y="5050"/>
                  </a:lnTo>
                  <a:lnTo>
                    <a:pt x="775" y="5074"/>
                  </a:lnTo>
                  <a:lnTo>
                    <a:pt x="780" y="5082"/>
                  </a:lnTo>
                  <a:lnTo>
                    <a:pt x="781" y="5082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77960" y="2301840"/>
              <a:ext cx="349200" cy="2016000"/>
            </a:xfrm>
            <a:custGeom>
              <a:avLst/>
              <a:gdLst/>
              <a:ahLst/>
              <a:rect l="l" t="t" r="r" b="b"/>
              <a:pathLst>
                <a:path w="882" h="5082">
                  <a:moveTo>
                    <a:pt x="781" y="5082"/>
                  </a:moveTo>
                  <a:lnTo>
                    <a:pt x="775" y="5073"/>
                  </a:lnTo>
                  <a:lnTo>
                    <a:pt x="762" y="5050"/>
                  </a:lnTo>
                  <a:lnTo>
                    <a:pt x="738" y="5010"/>
                  </a:lnTo>
                  <a:lnTo>
                    <a:pt x="707" y="4956"/>
                  </a:lnTo>
                  <a:lnTo>
                    <a:pt x="670" y="4886"/>
                  </a:lnTo>
                  <a:lnTo>
                    <a:pt x="627" y="4804"/>
                  </a:lnTo>
                  <a:lnTo>
                    <a:pt x="579" y="4711"/>
                  </a:lnTo>
                  <a:lnTo>
                    <a:pt x="528" y="4603"/>
                  </a:lnTo>
                  <a:lnTo>
                    <a:pt x="473" y="4483"/>
                  </a:lnTo>
                  <a:lnTo>
                    <a:pt x="419" y="4355"/>
                  </a:lnTo>
                  <a:lnTo>
                    <a:pt x="363" y="4214"/>
                  </a:lnTo>
                  <a:lnTo>
                    <a:pt x="306" y="4064"/>
                  </a:lnTo>
                  <a:lnTo>
                    <a:pt x="253" y="3906"/>
                  </a:lnTo>
                  <a:lnTo>
                    <a:pt x="202" y="3737"/>
                  </a:lnTo>
                  <a:lnTo>
                    <a:pt x="154" y="3563"/>
                  </a:lnTo>
                  <a:lnTo>
                    <a:pt x="112" y="3379"/>
                  </a:lnTo>
                  <a:lnTo>
                    <a:pt x="75" y="3191"/>
                  </a:lnTo>
                  <a:lnTo>
                    <a:pt x="43" y="2997"/>
                  </a:lnTo>
                  <a:lnTo>
                    <a:pt x="22" y="2796"/>
                  </a:lnTo>
                  <a:lnTo>
                    <a:pt x="7" y="2591"/>
                  </a:lnTo>
                  <a:lnTo>
                    <a:pt x="1" y="2384"/>
                  </a:lnTo>
                  <a:lnTo>
                    <a:pt x="7" y="2171"/>
                  </a:lnTo>
                  <a:lnTo>
                    <a:pt x="27" y="1955"/>
                  </a:lnTo>
                  <a:lnTo>
                    <a:pt x="57" y="1739"/>
                  </a:lnTo>
                  <a:lnTo>
                    <a:pt x="101" y="1520"/>
                  </a:lnTo>
                  <a:lnTo>
                    <a:pt x="160" y="1301"/>
                  </a:lnTo>
                  <a:lnTo>
                    <a:pt x="235" y="1081"/>
                  </a:lnTo>
                  <a:lnTo>
                    <a:pt x="327" y="861"/>
                  </a:lnTo>
                  <a:lnTo>
                    <a:pt x="436" y="644"/>
                  </a:lnTo>
                  <a:lnTo>
                    <a:pt x="564" y="427"/>
                  </a:lnTo>
                  <a:lnTo>
                    <a:pt x="713" y="213"/>
                  </a:lnTo>
                  <a:lnTo>
                    <a:pt x="882" y="2"/>
                  </a:lnTo>
                  <a:lnTo>
                    <a:pt x="881" y="0"/>
                  </a:lnTo>
                  <a:lnTo>
                    <a:pt x="711" y="212"/>
                  </a:lnTo>
                  <a:lnTo>
                    <a:pt x="563" y="426"/>
                  </a:lnTo>
                  <a:lnTo>
                    <a:pt x="435" y="643"/>
                  </a:lnTo>
                  <a:lnTo>
                    <a:pt x="325" y="861"/>
                  </a:lnTo>
                  <a:lnTo>
                    <a:pt x="233" y="1081"/>
                  </a:lnTo>
                  <a:lnTo>
                    <a:pt x="159" y="1301"/>
                  </a:lnTo>
                  <a:lnTo>
                    <a:pt x="100" y="1520"/>
                  </a:lnTo>
                  <a:lnTo>
                    <a:pt x="54" y="1738"/>
                  </a:lnTo>
                  <a:lnTo>
                    <a:pt x="24" y="1955"/>
                  </a:lnTo>
                  <a:lnTo>
                    <a:pt x="6" y="2169"/>
                  </a:lnTo>
                  <a:lnTo>
                    <a:pt x="0" y="2382"/>
                  </a:lnTo>
                  <a:lnTo>
                    <a:pt x="5" y="2591"/>
                  </a:lnTo>
                  <a:lnTo>
                    <a:pt x="19" y="2796"/>
                  </a:lnTo>
                  <a:lnTo>
                    <a:pt x="42" y="2997"/>
                  </a:lnTo>
                  <a:lnTo>
                    <a:pt x="72" y="3191"/>
                  </a:lnTo>
                  <a:lnTo>
                    <a:pt x="111" y="3379"/>
                  </a:lnTo>
                  <a:lnTo>
                    <a:pt x="153" y="3563"/>
                  </a:lnTo>
                  <a:lnTo>
                    <a:pt x="201" y="3738"/>
                  </a:lnTo>
                  <a:lnTo>
                    <a:pt x="252" y="3906"/>
                  </a:lnTo>
                  <a:lnTo>
                    <a:pt x="306" y="4064"/>
                  </a:lnTo>
                  <a:lnTo>
                    <a:pt x="361" y="4214"/>
                  </a:lnTo>
                  <a:lnTo>
                    <a:pt x="417" y="4355"/>
                  </a:lnTo>
                  <a:lnTo>
                    <a:pt x="472" y="4484"/>
                  </a:lnTo>
                  <a:lnTo>
                    <a:pt x="527" y="4603"/>
                  </a:lnTo>
                  <a:lnTo>
                    <a:pt x="577" y="4710"/>
                  </a:lnTo>
                  <a:lnTo>
                    <a:pt x="624" y="4806"/>
                  </a:lnTo>
                  <a:lnTo>
                    <a:pt x="669" y="4888"/>
                  </a:lnTo>
                  <a:lnTo>
                    <a:pt x="706" y="4957"/>
                  </a:lnTo>
                  <a:lnTo>
                    <a:pt x="737" y="5011"/>
                  </a:lnTo>
                  <a:lnTo>
                    <a:pt x="761" y="5050"/>
                  </a:lnTo>
                  <a:lnTo>
                    <a:pt x="775" y="5074"/>
                  </a:lnTo>
                  <a:lnTo>
                    <a:pt x="780" y="5082"/>
                  </a:lnTo>
                  <a:lnTo>
                    <a:pt x="781" y="5082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824480" y="5027760"/>
              <a:ext cx="27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CT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822680" y="5178600"/>
              <a:ext cx="70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helper 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19440" y="5327640"/>
              <a:ext cx="1163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regulatory T cel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344760" y="486900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B cel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646160" y="2727360"/>
              <a:ext cx="980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DC Precurso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489920" y="2063880"/>
              <a:ext cx="87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Immature D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052520" y="3583080"/>
              <a:ext cx="66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Cytoki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777400" y="1920960"/>
              <a:ext cx="52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Anti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096000" y="3311640"/>
              <a:ext cx="79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Eosinophi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486160" y="366552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NK cel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22080" y="3413160"/>
              <a:ext cx="90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Macrophag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20476200">
              <a:off x="1522080" y="1136160"/>
              <a:ext cx="124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Epithelial bord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446120" y="12924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13560" y="450540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Mature D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263480" y="5578560"/>
              <a:ext cx="104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1a17"/>
                  </a:solidFill>
                  <a:latin typeface="Arial"/>
                </a:rPr>
                <a:t>Lymphocy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421520" y="5807160"/>
              <a:ext cx="86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1a17"/>
                  </a:solidFill>
                  <a:latin typeface="Arial"/>
                </a:rPr>
                <a:t>Activ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069520" y="4162320"/>
              <a:ext cx="119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Lymphoid org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244200" y="1600200"/>
              <a:ext cx="80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1a17"/>
                  </a:solidFill>
                  <a:latin typeface="Arial"/>
                </a:rPr>
                <a:t>Mig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558480" y="1844640"/>
              <a:ext cx="91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1a17"/>
                  </a:solidFill>
                  <a:latin typeface="Arial"/>
                </a:rPr>
                <a:t>Matu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032160" y="2913120"/>
              <a:ext cx="179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1a17"/>
                  </a:solidFill>
                  <a:latin typeface="Arial"/>
                </a:rPr>
                <a:t>Antigen Pres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646520" y="1143000"/>
              <a:ext cx="14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1a17"/>
                  </a:solidFill>
                  <a:latin typeface="Arial"/>
                </a:rPr>
                <a:t>Antigen Capture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851200" y="5153040"/>
              <a:ext cx="1299960" cy="317520"/>
            </a:xfrm>
            <a:custGeom>
              <a:avLst/>
              <a:gdLst/>
              <a:ahLst/>
              <a:rect l="l" t="t" r="r" b="b"/>
              <a:pathLst>
                <a:path w="3275" h="797">
                  <a:moveTo>
                    <a:pt x="164" y="279"/>
                  </a:moveTo>
                  <a:lnTo>
                    <a:pt x="137" y="376"/>
                  </a:lnTo>
                  <a:lnTo>
                    <a:pt x="0" y="120"/>
                  </a:lnTo>
                  <a:lnTo>
                    <a:pt x="259" y="0"/>
                  </a:lnTo>
                  <a:lnTo>
                    <a:pt x="236" y="51"/>
                  </a:lnTo>
                  <a:lnTo>
                    <a:pt x="222" y="86"/>
                  </a:lnTo>
                  <a:lnTo>
                    <a:pt x="221" y="99"/>
                  </a:lnTo>
                  <a:lnTo>
                    <a:pt x="226" y="105"/>
                  </a:lnTo>
                  <a:lnTo>
                    <a:pt x="416" y="195"/>
                  </a:lnTo>
                  <a:lnTo>
                    <a:pt x="601" y="274"/>
                  </a:lnTo>
                  <a:lnTo>
                    <a:pt x="781" y="351"/>
                  </a:lnTo>
                  <a:lnTo>
                    <a:pt x="954" y="416"/>
                  </a:lnTo>
                  <a:lnTo>
                    <a:pt x="1118" y="476"/>
                  </a:lnTo>
                  <a:lnTo>
                    <a:pt x="1278" y="529"/>
                  </a:lnTo>
                  <a:lnTo>
                    <a:pt x="1430" y="575"/>
                  </a:lnTo>
                  <a:lnTo>
                    <a:pt x="1578" y="617"/>
                  </a:lnTo>
                  <a:lnTo>
                    <a:pt x="1720" y="653"/>
                  </a:lnTo>
                  <a:lnTo>
                    <a:pt x="1854" y="682"/>
                  </a:lnTo>
                  <a:lnTo>
                    <a:pt x="2102" y="730"/>
                  </a:lnTo>
                  <a:lnTo>
                    <a:pt x="2328" y="759"/>
                  </a:lnTo>
                  <a:lnTo>
                    <a:pt x="2528" y="773"/>
                  </a:lnTo>
                  <a:lnTo>
                    <a:pt x="2705" y="777"/>
                  </a:lnTo>
                  <a:lnTo>
                    <a:pt x="2857" y="772"/>
                  </a:lnTo>
                  <a:lnTo>
                    <a:pt x="2987" y="759"/>
                  </a:lnTo>
                  <a:lnTo>
                    <a:pt x="3090" y="743"/>
                  </a:lnTo>
                  <a:lnTo>
                    <a:pt x="3172" y="727"/>
                  </a:lnTo>
                  <a:lnTo>
                    <a:pt x="3230" y="711"/>
                  </a:lnTo>
                  <a:lnTo>
                    <a:pt x="3275" y="695"/>
                  </a:lnTo>
                  <a:lnTo>
                    <a:pt x="3227" y="711"/>
                  </a:lnTo>
                  <a:lnTo>
                    <a:pt x="3169" y="728"/>
                  </a:lnTo>
                  <a:lnTo>
                    <a:pt x="3086" y="747"/>
                  </a:lnTo>
                  <a:lnTo>
                    <a:pt x="2977" y="765"/>
                  </a:lnTo>
                  <a:lnTo>
                    <a:pt x="2848" y="782"/>
                  </a:lnTo>
                  <a:lnTo>
                    <a:pt x="2690" y="791"/>
                  </a:lnTo>
                  <a:lnTo>
                    <a:pt x="2512" y="797"/>
                  </a:lnTo>
                  <a:lnTo>
                    <a:pt x="2308" y="791"/>
                  </a:lnTo>
                  <a:lnTo>
                    <a:pt x="2076" y="773"/>
                  </a:lnTo>
                  <a:lnTo>
                    <a:pt x="1951" y="758"/>
                  </a:lnTo>
                  <a:lnTo>
                    <a:pt x="1820" y="741"/>
                  </a:lnTo>
                  <a:lnTo>
                    <a:pt x="1684" y="719"/>
                  </a:lnTo>
                  <a:lnTo>
                    <a:pt x="1542" y="693"/>
                  </a:lnTo>
                  <a:lnTo>
                    <a:pt x="1392" y="661"/>
                  </a:lnTo>
                  <a:lnTo>
                    <a:pt x="1236" y="625"/>
                  </a:lnTo>
                  <a:lnTo>
                    <a:pt x="1074" y="584"/>
                  </a:lnTo>
                  <a:lnTo>
                    <a:pt x="905" y="535"/>
                  </a:lnTo>
                  <a:lnTo>
                    <a:pt x="728" y="479"/>
                  </a:lnTo>
                  <a:lnTo>
                    <a:pt x="547" y="419"/>
                  </a:lnTo>
                  <a:lnTo>
                    <a:pt x="360" y="355"/>
                  </a:lnTo>
                  <a:lnTo>
                    <a:pt x="164" y="279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851200" y="5153040"/>
              <a:ext cx="1299960" cy="317520"/>
            </a:xfrm>
            <a:custGeom>
              <a:avLst/>
              <a:gdLst/>
              <a:ahLst/>
              <a:rect l="l" t="t" r="r" b="b"/>
              <a:pathLst>
                <a:path w="3275" h="797">
                  <a:moveTo>
                    <a:pt x="164" y="279"/>
                  </a:moveTo>
                  <a:lnTo>
                    <a:pt x="137" y="376"/>
                  </a:lnTo>
                  <a:lnTo>
                    <a:pt x="0" y="120"/>
                  </a:lnTo>
                  <a:lnTo>
                    <a:pt x="259" y="0"/>
                  </a:lnTo>
                  <a:lnTo>
                    <a:pt x="236" y="51"/>
                  </a:lnTo>
                  <a:lnTo>
                    <a:pt x="222" y="86"/>
                  </a:lnTo>
                  <a:lnTo>
                    <a:pt x="221" y="99"/>
                  </a:lnTo>
                  <a:lnTo>
                    <a:pt x="226" y="105"/>
                  </a:lnTo>
                  <a:lnTo>
                    <a:pt x="416" y="195"/>
                  </a:lnTo>
                  <a:lnTo>
                    <a:pt x="601" y="274"/>
                  </a:lnTo>
                  <a:lnTo>
                    <a:pt x="781" y="351"/>
                  </a:lnTo>
                  <a:lnTo>
                    <a:pt x="954" y="416"/>
                  </a:lnTo>
                  <a:lnTo>
                    <a:pt x="1118" y="476"/>
                  </a:lnTo>
                  <a:lnTo>
                    <a:pt x="1278" y="529"/>
                  </a:lnTo>
                  <a:lnTo>
                    <a:pt x="1430" y="575"/>
                  </a:lnTo>
                  <a:lnTo>
                    <a:pt x="1578" y="617"/>
                  </a:lnTo>
                  <a:lnTo>
                    <a:pt x="1720" y="653"/>
                  </a:lnTo>
                  <a:lnTo>
                    <a:pt x="1854" y="682"/>
                  </a:lnTo>
                  <a:lnTo>
                    <a:pt x="2102" y="730"/>
                  </a:lnTo>
                  <a:lnTo>
                    <a:pt x="2328" y="759"/>
                  </a:lnTo>
                  <a:lnTo>
                    <a:pt x="2528" y="773"/>
                  </a:lnTo>
                  <a:lnTo>
                    <a:pt x="2705" y="777"/>
                  </a:lnTo>
                  <a:lnTo>
                    <a:pt x="2857" y="772"/>
                  </a:lnTo>
                  <a:lnTo>
                    <a:pt x="2987" y="759"/>
                  </a:lnTo>
                  <a:lnTo>
                    <a:pt x="3090" y="743"/>
                  </a:lnTo>
                  <a:lnTo>
                    <a:pt x="3172" y="727"/>
                  </a:lnTo>
                  <a:lnTo>
                    <a:pt x="3230" y="711"/>
                  </a:lnTo>
                  <a:lnTo>
                    <a:pt x="3275" y="695"/>
                  </a:lnTo>
                  <a:lnTo>
                    <a:pt x="3227" y="711"/>
                  </a:lnTo>
                  <a:lnTo>
                    <a:pt x="3169" y="728"/>
                  </a:lnTo>
                  <a:lnTo>
                    <a:pt x="3086" y="747"/>
                  </a:lnTo>
                  <a:lnTo>
                    <a:pt x="2977" y="765"/>
                  </a:lnTo>
                  <a:lnTo>
                    <a:pt x="2848" y="782"/>
                  </a:lnTo>
                  <a:lnTo>
                    <a:pt x="2690" y="791"/>
                  </a:lnTo>
                  <a:lnTo>
                    <a:pt x="2512" y="797"/>
                  </a:lnTo>
                  <a:lnTo>
                    <a:pt x="2308" y="791"/>
                  </a:lnTo>
                  <a:lnTo>
                    <a:pt x="2076" y="773"/>
                  </a:lnTo>
                  <a:lnTo>
                    <a:pt x="1951" y="758"/>
                  </a:lnTo>
                  <a:lnTo>
                    <a:pt x="1820" y="741"/>
                  </a:lnTo>
                  <a:lnTo>
                    <a:pt x="1684" y="719"/>
                  </a:lnTo>
                  <a:lnTo>
                    <a:pt x="1542" y="693"/>
                  </a:lnTo>
                  <a:lnTo>
                    <a:pt x="1392" y="661"/>
                  </a:lnTo>
                  <a:lnTo>
                    <a:pt x="1236" y="625"/>
                  </a:lnTo>
                  <a:lnTo>
                    <a:pt x="1074" y="584"/>
                  </a:lnTo>
                  <a:lnTo>
                    <a:pt x="905" y="535"/>
                  </a:lnTo>
                  <a:lnTo>
                    <a:pt x="728" y="479"/>
                  </a:lnTo>
                  <a:lnTo>
                    <a:pt x="547" y="419"/>
                  </a:lnTo>
                  <a:lnTo>
                    <a:pt x="360" y="355"/>
                  </a:lnTo>
                  <a:lnTo>
                    <a:pt x="164" y="279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851200" y="5153040"/>
              <a:ext cx="102960" cy="150840"/>
            </a:xfrm>
            <a:custGeom>
              <a:avLst/>
              <a:gdLst/>
              <a:ahLst/>
              <a:rect l="l" t="t" r="r" b="b"/>
              <a:pathLst>
                <a:path w="260" h="381">
                  <a:moveTo>
                    <a:pt x="164" y="282"/>
                  </a:moveTo>
                  <a:lnTo>
                    <a:pt x="138" y="381"/>
                  </a:lnTo>
                  <a:lnTo>
                    <a:pt x="0" y="122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1" y="123"/>
                  </a:lnTo>
                  <a:lnTo>
                    <a:pt x="1" y="122"/>
                  </a:lnTo>
                  <a:lnTo>
                    <a:pt x="138" y="378"/>
                  </a:lnTo>
                  <a:lnTo>
                    <a:pt x="136" y="377"/>
                  </a:lnTo>
                  <a:lnTo>
                    <a:pt x="163" y="281"/>
                  </a:lnTo>
                  <a:lnTo>
                    <a:pt x="164" y="282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851200" y="5153040"/>
              <a:ext cx="102960" cy="150840"/>
            </a:xfrm>
            <a:custGeom>
              <a:avLst/>
              <a:gdLst/>
              <a:ahLst/>
              <a:rect l="l" t="t" r="r" b="b"/>
              <a:pathLst>
                <a:path w="260" h="381">
                  <a:moveTo>
                    <a:pt x="164" y="282"/>
                  </a:moveTo>
                  <a:lnTo>
                    <a:pt x="138" y="381"/>
                  </a:lnTo>
                  <a:lnTo>
                    <a:pt x="0" y="122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1" y="123"/>
                  </a:lnTo>
                  <a:lnTo>
                    <a:pt x="1" y="122"/>
                  </a:lnTo>
                  <a:lnTo>
                    <a:pt x="138" y="378"/>
                  </a:lnTo>
                  <a:lnTo>
                    <a:pt x="136" y="377"/>
                  </a:lnTo>
                  <a:lnTo>
                    <a:pt x="163" y="281"/>
                  </a:lnTo>
                  <a:lnTo>
                    <a:pt x="164" y="282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938320" y="5153040"/>
              <a:ext cx="15840" cy="42840"/>
            </a:xfrm>
            <a:custGeom>
              <a:avLst/>
              <a:gdLst/>
              <a:ahLst/>
              <a:rect l="l" t="t" r="r" b="b"/>
              <a:pathLst>
                <a:path w="40" h="108">
                  <a:moveTo>
                    <a:pt x="40" y="0"/>
                  </a:moveTo>
                  <a:lnTo>
                    <a:pt x="40" y="2"/>
                  </a:lnTo>
                  <a:lnTo>
                    <a:pt x="39" y="3"/>
                  </a:lnTo>
                  <a:lnTo>
                    <a:pt x="39" y="5"/>
                  </a:lnTo>
                  <a:lnTo>
                    <a:pt x="37" y="8"/>
                  </a:lnTo>
                  <a:lnTo>
                    <a:pt x="36" y="11"/>
                  </a:lnTo>
                  <a:lnTo>
                    <a:pt x="33" y="14"/>
                  </a:lnTo>
                  <a:lnTo>
                    <a:pt x="32" y="18"/>
                  </a:lnTo>
                  <a:lnTo>
                    <a:pt x="30" y="21"/>
                  </a:lnTo>
                  <a:lnTo>
                    <a:pt x="28" y="26"/>
                  </a:lnTo>
                  <a:lnTo>
                    <a:pt x="26" y="29"/>
                  </a:lnTo>
                  <a:lnTo>
                    <a:pt x="25" y="34"/>
                  </a:lnTo>
                  <a:lnTo>
                    <a:pt x="22" y="39"/>
                  </a:lnTo>
                  <a:lnTo>
                    <a:pt x="20" y="42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4" y="57"/>
                  </a:lnTo>
                  <a:lnTo>
                    <a:pt x="12" y="62"/>
                  </a:lnTo>
                  <a:lnTo>
                    <a:pt x="8" y="71"/>
                  </a:lnTo>
                  <a:lnTo>
                    <a:pt x="7" y="75"/>
                  </a:lnTo>
                  <a:lnTo>
                    <a:pt x="4" y="81"/>
                  </a:lnTo>
                  <a:lnTo>
                    <a:pt x="2" y="88"/>
                  </a:lnTo>
                  <a:lnTo>
                    <a:pt x="2" y="92"/>
                  </a:lnTo>
                  <a:lnTo>
                    <a:pt x="2" y="98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3" y="104"/>
                  </a:lnTo>
                  <a:lnTo>
                    <a:pt x="3" y="106"/>
                  </a:lnTo>
                  <a:lnTo>
                    <a:pt x="6" y="106"/>
                  </a:lnTo>
                  <a:lnTo>
                    <a:pt x="4" y="108"/>
                  </a:lnTo>
                  <a:lnTo>
                    <a:pt x="3" y="107"/>
                  </a:lnTo>
                  <a:lnTo>
                    <a:pt x="1" y="106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1" y="99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2" y="88"/>
                  </a:lnTo>
                  <a:lnTo>
                    <a:pt x="4" y="81"/>
                  </a:lnTo>
                  <a:lnTo>
                    <a:pt x="4" y="75"/>
                  </a:lnTo>
                  <a:lnTo>
                    <a:pt x="7" y="70"/>
                  </a:lnTo>
                  <a:lnTo>
                    <a:pt x="10" y="60"/>
                  </a:lnTo>
                  <a:lnTo>
                    <a:pt x="12" y="57"/>
                  </a:lnTo>
                  <a:lnTo>
                    <a:pt x="14" y="52"/>
                  </a:lnTo>
                  <a:lnTo>
                    <a:pt x="15" y="47"/>
                  </a:lnTo>
                  <a:lnTo>
                    <a:pt x="19" y="42"/>
                  </a:lnTo>
                  <a:lnTo>
                    <a:pt x="20" y="38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6" y="24"/>
                  </a:lnTo>
                  <a:lnTo>
                    <a:pt x="30" y="21"/>
                  </a:lnTo>
                  <a:lnTo>
                    <a:pt x="30" y="17"/>
                  </a:lnTo>
                  <a:lnTo>
                    <a:pt x="32" y="14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4"/>
                  </a:lnTo>
                  <a:lnTo>
                    <a:pt x="39" y="2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938320" y="5153040"/>
              <a:ext cx="15840" cy="42840"/>
            </a:xfrm>
            <a:custGeom>
              <a:avLst/>
              <a:gdLst/>
              <a:ahLst/>
              <a:rect l="l" t="t" r="r" b="b"/>
              <a:pathLst>
                <a:path w="40" h="108">
                  <a:moveTo>
                    <a:pt x="40" y="0"/>
                  </a:moveTo>
                  <a:lnTo>
                    <a:pt x="40" y="2"/>
                  </a:lnTo>
                  <a:lnTo>
                    <a:pt x="39" y="3"/>
                  </a:lnTo>
                  <a:lnTo>
                    <a:pt x="39" y="5"/>
                  </a:lnTo>
                  <a:lnTo>
                    <a:pt x="37" y="8"/>
                  </a:lnTo>
                  <a:lnTo>
                    <a:pt x="36" y="11"/>
                  </a:lnTo>
                  <a:lnTo>
                    <a:pt x="33" y="14"/>
                  </a:lnTo>
                  <a:lnTo>
                    <a:pt x="32" y="18"/>
                  </a:lnTo>
                  <a:lnTo>
                    <a:pt x="30" y="21"/>
                  </a:lnTo>
                  <a:lnTo>
                    <a:pt x="28" y="26"/>
                  </a:lnTo>
                  <a:lnTo>
                    <a:pt x="26" y="29"/>
                  </a:lnTo>
                  <a:lnTo>
                    <a:pt x="25" y="34"/>
                  </a:lnTo>
                  <a:lnTo>
                    <a:pt x="22" y="39"/>
                  </a:lnTo>
                  <a:lnTo>
                    <a:pt x="20" y="42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4" y="57"/>
                  </a:lnTo>
                  <a:lnTo>
                    <a:pt x="12" y="62"/>
                  </a:lnTo>
                  <a:lnTo>
                    <a:pt x="8" y="71"/>
                  </a:lnTo>
                  <a:lnTo>
                    <a:pt x="7" y="75"/>
                  </a:lnTo>
                  <a:lnTo>
                    <a:pt x="4" y="81"/>
                  </a:lnTo>
                  <a:lnTo>
                    <a:pt x="2" y="88"/>
                  </a:lnTo>
                  <a:lnTo>
                    <a:pt x="2" y="92"/>
                  </a:lnTo>
                  <a:lnTo>
                    <a:pt x="2" y="98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3" y="104"/>
                  </a:lnTo>
                  <a:lnTo>
                    <a:pt x="3" y="106"/>
                  </a:lnTo>
                  <a:lnTo>
                    <a:pt x="6" y="106"/>
                  </a:lnTo>
                  <a:lnTo>
                    <a:pt x="4" y="108"/>
                  </a:lnTo>
                  <a:lnTo>
                    <a:pt x="3" y="107"/>
                  </a:lnTo>
                  <a:lnTo>
                    <a:pt x="1" y="106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1" y="99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2" y="88"/>
                  </a:lnTo>
                  <a:lnTo>
                    <a:pt x="4" y="81"/>
                  </a:lnTo>
                  <a:lnTo>
                    <a:pt x="4" y="75"/>
                  </a:lnTo>
                  <a:lnTo>
                    <a:pt x="7" y="70"/>
                  </a:lnTo>
                  <a:lnTo>
                    <a:pt x="10" y="60"/>
                  </a:lnTo>
                  <a:lnTo>
                    <a:pt x="12" y="57"/>
                  </a:lnTo>
                  <a:lnTo>
                    <a:pt x="14" y="52"/>
                  </a:lnTo>
                  <a:lnTo>
                    <a:pt x="15" y="47"/>
                  </a:lnTo>
                  <a:lnTo>
                    <a:pt x="19" y="42"/>
                  </a:lnTo>
                  <a:lnTo>
                    <a:pt x="20" y="38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6" y="24"/>
                  </a:lnTo>
                  <a:lnTo>
                    <a:pt x="30" y="21"/>
                  </a:lnTo>
                  <a:lnTo>
                    <a:pt x="30" y="17"/>
                  </a:lnTo>
                  <a:lnTo>
                    <a:pt x="32" y="14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4"/>
                  </a:lnTo>
                  <a:lnTo>
                    <a:pt x="39" y="2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40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940120" y="5194440"/>
              <a:ext cx="1211040" cy="268200"/>
            </a:xfrm>
            <a:custGeom>
              <a:avLst/>
              <a:gdLst/>
              <a:ahLst/>
              <a:rect l="l" t="t" r="r" b="b"/>
              <a:pathLst>
                <a:path w="3052" h="675">
                  <a:moveTo>
                    <a:pt x="2" y="0"/>
                  </a:moveTo>
                  <a:lnTo>
                    <a:pt x="192" y="90"/>
                  </a:lnTo>
                  <a:lnTo>
                    <a:pt x="377" y="172"/>
                  </a:lnTo>
                  <a:lnTo>
                    <a:pt x="556" y="246"/>
                  </a:lnTo>
                  <a:lnTo>
                    <a:pt x="729" y="312"/>
                  </a:lnTo>
                  <a:lnTo>
                    <a:pt x="896" y="372"/>
                  </a:lnTo>
                  <a:lnTo>
                    <a:pt x="1054" y="425"/>
                  </a:lnTo>
                  <a:lnTo>
                    <a:pt x="1208" y="473"/>
                  </a:lnTo>
                  <a:lnTo>
                    <a:pt x="1355" y="513"/>
                  </a:lnTo>
                  <a:lnTo>
                    <a:pt x="1496" y="548"/>
                  </a:lnTo>
                  <a:lnTo>
                    <a:pt x="1630" y="578"/>
                  </a:lnTo>
                  <a:lnTo>
                    <a:pt x="1758" y="605"/>
                  </a:lnTo>
                  <a:lnTo>
                    <a:pt x="1881" y="625"/>
                  </a:lnTo>
                  <a:lnTo>
                    <a:pt x="1996" y="642"/>
                  </a:lnTo>
                  <a:lnTo>
                    <a:pt x="2105" y="654"/>
                  </a:lnTo>
                  <a:lnTo>
                    <a:pt x="2208" y="663"/>
                  </a:lnTo>
                  <a:lnTo>
                    <a:pt x="2306" y="669"/>
                  </a:lnTo>
                  <a:lnTo>
                    <a:pt x="2397" y="673"/>
                  </a:lnTo>
                  <a:lnTo>
                    <a:pt x="2481" y="673"/>
                  </a:lnTo>
                  <a:lnTo>
                    <a:pt x="2560" y="672"/>
                  </a:lnTo>
                  <a:lnTo>
                    <a:pt x="2634" y="667"/>
                  </a:lnTo>
                  <a:lnTo>
                    <a:pt x="2700" y="662"/>
                  </a:lnTo>
                  <a:lnTo>
                    <a:pt x="2762" y="655"/>
                  </a:lnTo>
                  <a:lnTo>
                    <a:pt x="2817" y="648"/>
                  </a:lnTo>
                  <a:lnTo>
                    <a:pt x="2867" y="639"/>
                  </a:lnTo>
                  <a:lnTo>
                    <a:pt x="2910" y="631"/>
                  </a:lnTo>
                  <a:lnTo>
                    <a:pt x="2948" y="623"/>
                  </a:lnTo>
                  <a:lnTo>
                    <a:pt x="2979" y="614"/>
                  </a:lnTo>
                  <a:lnTo>
                    <a:pt x="3005" y="607"/>
                  </a:lnTo>
                  <a:lnTo>
                    <a:pt x="3026" y="601"/>
                  </a:lnTo>
                  <a:lnTo>
                    <a:pt x="3040" y="596"/>
                  </a:lnTo>
                  <a:lnTo>
                    <a:pt x="3048" y="594"/>
                  </a:lnTo>
                  <a:lnTo>
                    <a:pt x="3051" y="591"/>
                  </a:lnTo>
                  <a:lnTo>
                    <a:pt x="3052" y="591"/>
                  </a:lnTo>
                  <a:lnTo>
                    <a:pt x="3052" y="594"/>
                  </a:lnTo>
                  <a:lnTo>
                    <a:pt x="3052" y="593"/>
                  </a:lnTo>
                  <a:lnTo>
                    <a:pt x="3050" y="595"/>
                  </a:lnTo>
                  <a:lnTo>
                    <a:pt x="3040" y="597"/>
                  </a:lnTo>
                  <a:lnTo>
                    <a:pt x="3024" y="602"/>
                  </a:lnTo>
                  <a:lnTo>
                    <a:pt x="3005" y="609"/>
                  </a:lnTo>
                  <a:lnTo>
                    <a:pt x="2979" y="617"/>
                  </a:lnTo>
                  <a:lnTo>
                    <a:pt x="2948" y="624"/>
                  </a:lnTo>
                  <a:lnTo>
                    <a:pt x="2910" y="632"/>
                  </a:lnTo>
                  <a:lnTo>
                    <a:pt x="2867" y="641"/>
                  </a:lnTo>
                  <a:lnTo>
                    <a:pt x="2818" y="649"/>
                  </a:lnTo>
                  <a:lnTo>
                    <a:pt x="2762" y="656"/>
                  </a:lnTo>
                  <a:lnTo>
                    <a:pt x="2702" y="663"/>
                  </a:lnTo>
                  <a:lnTo>
                    <a:pt x="2634" y="669"/>
                  </a:lnTo>
                  <a:lnTo>
                    <a:pt x="2561" y="673"/>
                  </a:lnTo>
                  <a:lnTo>
                    <a:pt x="2482" y="675"/>
                  </a:lnTo>
                  <a:lnTo>
                    <a:pt x="2397" y="674"/>
                  </a:lnTo>
                  <a:lnTo>
                    <a:pt x="2306" y="672"/>
                  </a:lnTo>
                  <a:lnTo>
                    <a:pt x="2208" y="666"/>
                  </a:lnTo>
                  <a:lnTo>
                    <a:pt x="2104" y="656"/>
                  </a:lnTo>
                  <a:lnTo>
                    <a:pt x="1995" y="644"/>
                  </a:lnTo>
                  <a:lnTo>
                    <a:pt x="1880" y="627"/>
                  </a:lnTo>
                  <a:lnTo>
                    <a:pt x="1757" y="606"/>
                  </a:lnTo>
                  <a:lnTo>
                    <a:pt x="1629" y="581"/>
                  </a:lnTo>
                  <a:lnTo>
                    <a:pt x="1494" y="551"/>
                  </a:lnTo>
                  <a:lnTo>
                    <a:pt x="1354" y="515"/>
                  </a:lnTo>
                  <a:lnTo>
                    <a:pt x="1208" y="474"/>
                  </a:lnTo>
                  <a:lnTo>
                    <a:pt x="1053" y="427"/>
                  </a:lnTo>
                  <a:lnTo>
                    <a:pt x="896" y="373"/>
                  </a:lnTo>
                  <a:lnTo>
                    <a:pt x="729" y="314"/>
                  </a:lnTo>
                  <a:lnTo>
                    <a:pt x="556" y="247"/>
                  </a:lnTo>
                  <a:lnTo>
                    <a:pt x="377" y="173"/>
                  </a:lnTo>
                  <a:lnTo>
                    <a:pt x="192" y="9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940120" y="5194440"/>
              <a:ext cx="1211040" cy="268200"/>
            </a:xfrm>
            <a:custGeom>
              <a:avLst/>
              <a:gdLst/>
              <a:ahLst/>
              <a:rect l="l" t="t" r="r" b="b"/>
              <a:pathLst>
                <a:path w="3052" h="675">
                  <a:moveTo>
                    <a:pt x="2" y="0"/>
                  </a:moveTo>
                  <a:lnTo>
                    <a:pt x="192" y="90"/>
                  </a:lnTo>
                  <a:lnTo>
                    <a:pt x="377" y="172"/>
                  </a:lnTo>
                  <a:lnTo>
                    <a:pt x="556" y="246"/>
                  </a:lnTo>
                  <a:lnTo>
                    <a:pt x="729" y="312"/>
                  </a:lnTo>
                  <a:lnTo>
                    <a:pt x="896" y="372"/>
                  </a:lnTo>
                  <a:lnTo>
                    <a:pt x="1054" y="425"/>
                  </a:lnTo>
                  <a:lnTo>
                    <a:pt x="1208" y="473"/>
                  </a:lnTo>
                  <a:lnTo>
                    <a:pt x="1355" y="513"/>
                  </a:lnTo>
                  <a:lnTo>
                    <a:pt x="1496" y="548"/>
                  </a:lnTo>
                  <a:lnTo>
                    <a:pt x="1630" y="578"/>
                  </a:lnTo>
                  <a:lnTo>
                    <a:pt x="1758" y="605"/>
                  </a:lnTo>
                  <a:lnTo>
                    <a:pt x="1881" y="625"/>
                  </a:lnTo>
                  <a:lnTo>
                    <a:pt x="1996" y="642"/>
                  </a:lnTo>
                  <a:lnTo>
                    <a:pt x="2105" y="654"/>
                  </a:lnTo>
                  <a:lnTo>
                    <a:pt x="2208" y="663"/>
                  </a:lnTo>
                  <a:lnTo>
                    <a:pt x="2306" y="669"/>
                  </a:lnTo>
                  <a:lnTo>
                    <a:pt x="2397" y="673"/>
                  </a:lnTo>
                  <a:lnTo>
                    <a:pt x="2481" y="673"/>
                  </a:lnTo>
                  <a:lnTo>
                    <a:pt x="2560" y="672"/>
                  </a:lnTo>
                  <a:lnTo>
                    <a:pt x="2634" y="667"/>
                  </a:lnTo>
                  <a:lnTo>
                    <a:pt x="2700" y="662"/>
                  </a:lnTo>
                  <a:lnTo>
                    <a:pt x="2762" y="655"/>
                  </a:lnTo>
                  <a:lnTo>
                    <a:pt x="2817" y="648"/>
                  </a:lnTo>
                  <a:lnTo>
                    <a:pt x="2867" y="639"/>
                  </a:lnTo>
                  <a:lnTo>
                    <a:pt x="2910" y="631"/>
                  </a:lnTo>
                  <a:lnTo>
                    <a:pt x="2948" y="623"/>
                  </a:lnTo>
                  <a:lnTo>
                    <a:pt x="2979" y="614"/>
                  </a:lnTo>
                  <a:lnTo>
                    <a:pt x="3005" y="607"/>
                  </a:lnTo>
                  <a:lnTo>
                    <a:pt x="3026" y="601"/>
                  </a:lnTo>
                  <a:lnTo>
                    <a:pt x="3040" y="596"/>
                  </a:lnTo>
                  <a:lnTo>
                    <a:pt x="3048" y="594"/>
                  </a:lnTo>
                  <a:lnTo>
                    <a:pt x="3051" y="591"/>
                  </a:lnTo>
                  <a:lnTo>
                    <a:pt x="3052" y="591"/>
                  </a:lnTo>
                  <a:lnTo>
                    <a:pt x="3052" y="594"/>
                  </a:lnTo>
                  <a:lnTo>
                    <a:pt x="3052" y="593"/>
                  </a:lnTo>
                  <a:lnTo>
                    <a:pt x="3050" y="595"/>
                  </a:lnTo>
                  <a:lnTo>
                    <a:pt x="3040" y="597"/>
                  </a:lnTo>
                  <a:lnTo>
                    <a:pt x="3024" y="602"/>
                  </a:lnTo>
                  <a:lnTo>
                    <a:pt x="3005" y="609"/>
                  </a:lnTo>
                  <a:lnTo>
                    <a:pt x="2979" y="617"/>
                  </a:lnTo>
                  <a:lnTo>
                    <a:pt x="2948" y="624"/>
                  </a:lnTo>
                  <a:lnTo>
                    <a:pt x="2910" y="632"/>
                  </a:lnTo>
                  <a:lnTo>
                    <a:pt x="2867" y="641"/>
                  </a:lnTo>
                  <a:lnTo>
                    <a:pt x="2818" y="649"/>
                  </a:lnTo>
                  <a:lnTo>
                    <a:pt x="2762" y="656"/>
                  </a:lnTo>
                  <a:lnTo>
                    <a:pt x="2702" y="663"/>
                  </a:lnTo>
                  <a:lnTo>
                    <a:pt x="2634" y="669"/>
                  </a:lnTo>
                  <a:lnTo>
                    <a:pt x="2561" y="673"/>
                  </a:lnTo>
                  <a:lnTo>
                    <a:pt x="2482" y="675"/>
                  </a:lnTo>
                  <a:lnTo>
                    <a:pt x="2397" y="674"/>
                  </a:lnTo>
                  <a:lnTo>
                    <a:pt x="2306" y="672"/>
                  </a:lnTo>
                  <a:lnTo>
                    <a:pt x="2208" y="666"/>
                  </a:lnTo>
                  <a:lnTo>
                    <a:pt x="2104" y="656"/>
                  </a:lnTo>
                  <a:lnTo>
                    <a:pt x="1995" y="644"/>
                  </a:lnTo>
                  <a:lnTo>
                    <a:pt x="1880" y="627"/>
                  </a:lnTo>
                  <a:lnTo>
                    <a:pt x="1757" y="606"/>
                  </a:lnTo>
                  <a:lnTo>
                    <a:pt x="1629" y="581"/>
                  </a:lnTo>
                  <a:lnTo>
                    <a:pt x="1494" y="551"/>
                  </a:lnTo>
                  <a:lnTo>
                    <a:pt x="1354" y="515"/>
                  </a:lnTo>
                  <a:lnTo>
                    <a:pt x="1208" y="474"/>
                  </a:lnTo>
                  <a:lnTo>
                    <a:pt x="1053" y="427"/>
                  </a:lnTo>
                  <a:lnTo>
                    <a:pt x="896" y="373"/>
                  </a:lnTo>
                  <a:lnTo>
                    <a:pt x="729" y="314"/>
                  </a:lnTo>
                  <a:lnTo>
                    <a:pt x="556" y="247"/>
                  </a:lnTo>
                  <a:lnTo>
                    <a:pt x="377" y="173"/>
                  </a:lnTo>
                  <a:lnTo>
                    <a:pt x="192" y="92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916360" y="5264280"/>
              <a:ext cx="1234800" cy="206280"/>
            </a:xfrm>
            <a:custGeom>
              <a:avLst/>
              <a:gdLst/>
              <a:ahLst/>
              <a:rect l="l" t="t" r="r" b="b"/>
              <a:pathLst>
                <a:path w="3113" h="518">
                  <a:moveTo>
                    <a:pt x="3113" y="415"/>
                  </a:moveTo>
                  <a:lnTo>
                    <a:pt x="3113" y="418"/>
                  </a:lnTo>
                  <a:lnTo>
                    <a:pt x="3111" y="420"/>
                  </a:lnTo>
                  <a:lnTo>
                    <a:pt x="3100" y="422"/>
                  </a:lnTo>
                  <a:lnTo>
                    <a:pt x="3085" y="427"/>
                  </a:lnTo>
                  <a:lnTo>
                    <a:pt x="3065" y="434"/>
                  </a:lnTo>
                  <a:lnTo>
                    <a:pt x="3039" y="442"/>
                  </a:lnTo>
                  <a:lnTo>
                    <a:pt x="3005" y="450"/>
                  </a:lnTo>
                  <a:lnTo>
                    <a:pt x="2967" y="460"/>
                  </a:lnTo>
                  <a:lnTo>
                    <a:pt x="2922" y="469"/>
                  </a:lnTo>
                  <a:lnTo>
                    <a:pt x="2872" y="479"/>
                  </a:lnTo>
                  <a:lnTo>
                    <a:pt x="2815" y="487"/>
                  </a:lnTo>
                  <a:lnTo>
                    <a:pt x="2753" y="496"/>
                  </a:lnTo>
                  <a:lnTo>
                    <a:pt x="2685" y="504"/>
                  </a:lnTo>
                  <a:lnTo>
                    <a:pt x="2609" y="510"/>
                  </a:lnTo>
                  <a:lnTo>
                    <a:pt x="2529" y="516"/>
                  </a:lnTo>
                  <a:lnTo>
                    <a:pt x="2441" y="518"/>
                  </a:lnTo>
                  <a:lnTo>
                    <a:pt x="2349" y="518"/>
                  </a:lnTo>
                  <a:lnTo>
                    <a:pt x="2248" y="517"/>
                  </a:lnTo>
                  <a:lnTo>
                    <a:pt x="2142" y="514"/>
                  </a:lnTo>
                  <a:lnTo>
                    <a:pt x="2031" y="505"/>
                  </a:lnTo>
                  <a:lnTo>
                    <a:pt x="1913" y="496"/>
                  </a:lnTo>
                  <a:lnTo>
                    <a:pt x="1787" y="481"/>
                  </a:lnTo>
                  <a:lnTo>
                    <a:pt x="1657" y="464"/>
                  </a:lnTo>
                  <a:lnTo>
                    <a:pt x="1519" y="440"/>
                  </a:lnTo>
                  <a:lnTo>
                    <a:pt x="1377" y="414"/>
                  </a:lnTo>
                  <a:lnTo>
                    <a:pt x="1227" y="384"/>
                  </a:lnTo>
                  <a:lnTo>
                    <a:pt x="1071" y="346"/>
                  </a:lnTo>
                  <a:lnTo>
                    <a:pt x="907" y="304"/>
                  </a:lnTo>
                  <a:lnTo>
                    <a:pt x="739" y="256"/>
                  </a:lnTo>
                  <a:lnTo>
                    <a:pt x="564" y="203"/>
                  </a:lnTo>
                  <a:lnTo>
                    <a:pt x="383" y="143"/>
                  </a:lnTo>
                  <a:lnTo>
                    <a:pt x="195" y="76"/>
                  </a:lnTo>
                  <a:lnTo>
                    <a:pt x="0" y="1"/>
                  </a:lnTo>
                  <a:lnTo>
                    <a:pt x="1" y="0"/>
                  </a:lnTo>
                  <a:lnTo>
                    <a:pt x="195" y="75"/>
                  </a:lnTo>
                  <a:lnTo>
                    <a:pt x="383" y="140"/>
                  </a:lnTo>
                  <a:lnTo>
                    <a:pt x="564" y="200"/>
                  </a:lnTo>
                  <a:lnTo>
                    <a:pt x="741" y="254"/>
                  </a:lnTo>
                  <a:lnTo>
                    <a:pt x="909" y="302"/>
                  </a:lnTo>
                  <a:lnTo>
                    <a:pt x="1072" y="344"/>
                  </a:lnTo>
                  <a:lnTo>
                    <a:pt x="1228" y="382"/>
                  </a:lnTo>
                  <a:lnTo>
                    <a:pt x="1377" y="413"/>
                  </a:lnTo>
                  <a:lnTo>
                    <a:pt x="1521" y="439"/>
                  </a:lnTo>
                  <a:lnTo>
                    <a:pt x="1657" y="462"/>
                  </a:lnTo>
                  <a:lnTo>
                    <a:pt x="1788" y="480"/>
                  </a:lnTo>
                  <a:lnTo>
                    <a:pt x="1913" y="494"/>
                  </a:lnTo>
                  <a:lnTo>
                    <a:pt x="2031" y="505"/>
                  </a:lnTo>
                  <a:lnTo>
                    <a:pt x="2142" y="511"/>
                  </a:lnTo>
                  <a:lnTo>
                    <a:pt x="2248" y="516"/>
                  </a:lnTo>
                  <a:lnTo>
                    <a:pt x="2347" y="516"/>
                  </a:lnTo>
                  <a:lnTo>
                    <a:pt x="2441" y="516"/>
                  </a:lnTo>
                  <a:lnTo>
                    <a:pt x="2529" y="514"/>
                  </a:lnTo>
                  <a:lnTo>
                    <a:pt x="2609" y="509"/>
                  </a:lnTo>
                  <a:lnTo>
                    <a:pt x="2683" y="502"/>
                  </a:lnTo>
                  <a:lnTo>
                    <a:pt x="2752" y="494"/>
                  </a:lnTo>
                  <a:lnTo>
                    <a:pt x="2815" y="486"/>
                  </a:lnTo>
                  <a:lnTo>
                    <a:pt x="2872" y="476"/>
                  </a:lnTo>
                  <a:lnTo>
                    <a:pt x="2922" y="467"/>
                  </a:lnTo>
                  <a:lnTo>
                    <a:pt x="2968" y="457"/>
                  </a:lnTo>
                  <a:lnTo>
                    <a:pt x="3006" y="449"/>
                  </a:lnTo>
                  <a:lnTo>
                    <a:pt x="3039" y="440"/>
                  </a:lnTo>
                  <a:lnTo>
                    <a:pt x="3065" y="432"/>
                  </a:lnTo>
                  <a:lnTo>
                    <a:pt x="3085" y="425"/>
                  </a:lnTo>
                  <a:lnTo>
                    <a:pt x="3101" y="421"/>
                  </a:lnTo>
                  <a:lnTo>
                    <a:pt x="3109" y="419"/>
                  </a:lnTo>
                  <a:lnTo>
                    <a:pt x="3112" y="416"/>
                  </a:lnTo>
                  <a:lnTo>
                    <a:pt x="3112" y="418"/>
                  </a:lnTo>
                  <a:lnTo>
                    <a:pt x="3113" y="415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916360" y="5264280"/>
              <a:ext cx="1234800" cy="206280"/>
            </a:xfrm>
            <a:custGeom>
              <a:avLst/>
              <a:gdLst/>
              <a:ahLst/>
              <a:rect l="l" t="t" r="r" b="b"/>
              <a:pathLst>
                <a:path w="3113" h="518">
                  <a:moveTo>
                    <a:pt x="3113" y="415"/>
                  </a:moveTo>
                  <a:lnTo>
                    <a:pt x="3113" y="418"/>
                  </a:lnTo>
                  <a:lnTo>
                    <a:pt x="3111" y="420"/>
                  </a:lnTo>
                  <a:lnTo>
                    <a:pt x="3100" y="422"/>
                  </a:lnTo>
                  <a:lnTo>
                    <a:pt x="3085" y="427"/>
                  </a:lnTo>
                  <a:lnTo>
                    <a:pt x="3065" y="434"/>
                  </a:lnTo>
                  <a:lnTo>
                    <a:pt x="3039" y="442"/>
                  </a:lnTo>
                  <a:lnTo>
                    <a:pt x="3005" y="450"/>
                  </a:lnTo>
                  <a:lnTo>
                    <a:pt x="2967" y="460"/>
                  </a:lnTo>
                  <a:lnTo>
                    <a:pt x="2922" y="469"/>
                  </a:lnTo>
                  <a:lnTo>
                    <a:pt x="2872" y="479"/>
                  </a:lnTo>
                  <a:lnTo>
                    <a:pt x="2815" y="487"/>
                  </a:lnTo>
                  <a:lnTo>
                    <a:pt x="2753" y="496"/>
                  </a:lnTo>
                  <a:lnTo>
                    <a:pt x="2685" y="504"/>
                  </a:lnTo>
                  <a:lnTo>
                    <a:pt x="2609" y="510"/>
                  </a:lnTo>
                  <a:lnTo>
                    <a:pt x="2529" y="516"/>
                  </a:lnTo>
                  <a:lnTo>
                    <a:pt x="2441" y="518"/>
                  </a:lnTo>
                  <a:lnTo>
                    <a:pt x="2349" y="518"/>
                  </a:lnTo>
                  <a:lnTo>
                    <a:pt x="2248" y="517"/>
                  </a:lnTo>
                  <a:lnTo>
                    <a:pt x="2142" y="514"/>
                  </a:lnTo>
                  <a:lnTo>
                    <a:pt x="2031" y="505"/>
                  </a:lnTo>
                  <a:lnTo>
                    <a:pt x="1913" y="496"/>
                  </a:lnTo>
                  <a:lnTo>
                    <a:pt x="1787" y="481"/>
                  </a:lnTo>
                  <a:lnTo>
                    <a:pt x="1657" y="464"/>
                  </a:lnTo>
                  <a:lnTo>
                    <a:pt x="1519" y="440"/>
                  </a:lnTo>
                  <a:lnTo>
                    <a:pt x="1377" y="414"/>
                  </a:lnTo>
                  <a:lnTo>
                    <a:pt x="1227" y="384"/>
                  </a:lnTo>
                  <a:lnTo>
                    <a:pt x="1071" y="346"/>
                  </a:lnTo>
                  <a:lnTo>
                    <a:pt x="907" y="304"/>
                  </a:lnTo>
                  <a:lnTo>
                    <a:pt x="739" y="256"/>
                  </a:lnTo>
                  <a:lnTo>
                    <a:pt x="564" y="203"/>
                  </a:lnTo>
                  <a:lnTo>
                    <a:pt x="383" y="143"/>
                  </a:lnTo>
                  <a:lnTo>
                    <a:pt x="195" y="76"/>
                  </a:lnTo>
                  <a:lnTo>
                    <a:pt x="0" y="1"/>
                  </a:lnTo>
                  <a:lnTo>
                    <a:pt x="1" y="0"/>
                  </a:lnTo>
                  <a:lnTo>
                    <a:pt x="195" y="75"/>
                  </a:lnTo>
                  <a:lnTo>
                    <a:pt x="383" y="140"/>
                  </a:lnTo>
                  <a:lnTo>
                    <a:pt x="564" y="200"/>
                  </a:lnTo>
                  <a:lnTo>
                    <a:pt x="741" y="254"/>
                  </a:lnTo>
                  <a:lnTo>
                    <a:pt x="909" y="302"/>
                  </a:lnTo>
                  <a:lnTo>
                    <a:pt x="1072" y="344"/>
                  </a:lnTo>
                  <a:lnTo>
                    <a:pt x="1228" y="382"/>
                  </a:lnTo>
                  <a:lnTo>
                    <a:pt x="1377" y="413"/>
                  </a:lnTo>
                  <a:lnTo>
                    <a:pt x="1521" y="439"/>
                  </a:lnTo>
                  <a:lnTo>
                    <a:pt x="1657" y="462"/>
                  </a:lnTo>
                  <a:lnTo>
                    <a:pt x="1788" y="480"/>
                  </a:lnTo>
                  <a:lnTo>
                    <a:pt x="1913" y="494"/>
                  </a:lnTo>
                  <a:lnTo>
                    <a:pt x="2031" y="505"/>
                  </a:lnTo>
                  <a:lnTo>
                    <a:pt x="2142" y="511"/>
                  </a:lnTo>
                  <a:lnTo>
                    <a:pt x="2248" y="516"/>
                  </a:lnTo>
                  <a:lnTo>
                    <a:pt x="2347" y="516"/>
                  </a:lnTo>
                  <a:lnTo>
                    <a:pt x="2441" y="516"/>
                  </a:lnTo>
                  <a:lnTo>
                    <a:pt x="2529" y="514"/>
                  </a:lnTo>
                  <a:lnTo>
                    <a:pt x="2609" y="509"/>
                  </a:lnTo>
                  <a:lnTo>
                    <a:pt x="2683" y="502"/>
                  </a:lnTo>
                  <a:lnTo>
                    <a:pt x="2752" y="494"/>
                  </a:lnTo>
                  <a:lnTo>
                    <a:pt x="2815" y="486"/>
                  </a:lnTo>
                  <a:lnTo>
                    <a:pt x="2872" y="476"/>
                  </a:lnTo>
                  <a:lnTo>
                    <a:pt x="2922" y="467"/>
                  </a:lnTo>
                  <a:lnTo>
                    <a:pt x="2968" y="457"/>
                  </a:lnTo>
                  <a:lnTo>
                    <a:pt x="3006" y="449"/>
                  </a:lnTo>
                  <a:lnTo>
                    <a:pt x="3039" y="440"/>
                  </a:lnTo>
                  <a:lnTo>
                    <a:pt x="3065" y="432"/>
                  </a:lnTo>
                  <a:lnTo>
                    <a:pt x="3085" y="425"/>
                  </a:lnTo>
                  <a:lnTo>
                    <a:pt x="3101" y="421"/>
                  </a:lnTo>
                  <a:lnTo>
                    <a:pt x="3109" y="419"/>
                  </a:lnTo>
                  <a:lnTo>
                    <a:pt x="3112" y="416"/>
                  </a:lnTo>
                  <a:lnTo>
                    <a:pt x="3112" y="418"/>
                  </a:lnTo>
                  <a:lnTo>
                    <a:pt x="3113" y="415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421320" y="4843440"/>
              <a:ext cx="482760" cy="660600"/>
            </a:xfrm>
            <a:custGeom>
              <a:avLst/>
              <a:gdLst/>
              <a:ahLst/>
              <a:rect l="l" t="t" r="r" b="b"/>
              <a:pathLst>
                <a:path w="1218" h="1668">
                  <a:moveTo>
                    <a:pt x="110" y="1618"/>
                  </a:moveTo>
                  <a:lnTo>
                    <a:pt x="138" y="1657"/>
                  </a:lnTo>
                  <a:lnTo>
                    <a:pt x="0" y="1668"/>
                  </a:lnTo>
                  <a:lnTo>
                    <a:pt x="34" y="1493"/>
                  </a:lnTo>
                  <a:lnTo>
                    <a:pt x="46" y="1519"/>
                  </a:lnTo>
                  <a:lnTo>
                    <a:pt x="55" y="1536"/>
                  </a:lnTo>
                  <a:lnTo>
                    <a:pt x="59" y="1540"/>
                  </a:lnTo>
                  <a:lnTo>
                    <a:pt x="62" y="1538"/>
                  </a:lnTo>
                  <a:lnTo>
                    <a:pt x="155" y="1456"/>
                  </a:lnTo>
                  <a:lnTo>
                    <a:pt x="242" y="1374"/>
                  </a:lnTo>
                  <a:lnTo>
                    <a:pt x="325" y="1294"/>
                  </a:lnTo>
                  <a:lnTo>
                    <a:pt x="403" y="1216"/>
                  </a:lnTo>
                  <a:lnTo>
                    <a:pt x="475" y="1139"/>
                  </a:lnTo>
                  <a:lnTo>
                    <a:pt x="545" y="1065"/>
                  </a:lnTo>
                  <a:lnTo>
                    <a:pt x="608" y="993"/>
                  </a:lnTo>
                  <a:lnTo>
                    <a:pt x="670" y="922"/>
                  </a:lnTo>
                  <a:lnTo>
                    <a:pt x="726" y="852"/>
                  </a:lnTo>
                  <a:lnTo>
                    <a:pt x="778" y="785"/>
                  </a:lnTo>
                  <a:lnTo>
                    <a:pt x="872" y="660"/>
                  </a:lnTo>
                  <a:lnTo>
                    <a:pt x="952" y="543"/>
                  </a:lnTo>
                  <a:lnTo>
                    <a:pt x="1019" y="435"/>
                  </a:lnTo>
                  <a:lnTo>
                    <a:pt x="1074" y="338"/>
                  </a:lnTo>
                  <a:lnTo>
                    <a:pt x="1118" y="251"/>
                  </a:lnTo>
                  <a:lnTo>
                    <a:pt x="1153" y="177"/>
                  </a:lnTo>
                  <a:lnTo>
                    <a:pt x="1178" y="116"/>
                  </a:lnTo>
                  <a:lnTo>
                    <a:pt x="1198" y="66"/>
                  </a:lnTo>
                  <a:lnTo>
                    <a:pt x="1210" y="29"/>
                  </a:lnTo>
                  <a:lnTo>
                    <a:pt x="1218" y="0"/>
                  </a:lnTo>
                  <a:lnTo>
                    <a:pt x="1208" y="32"/>
                  </a:lnTo>
                  <a:lnTo>
                    <a:pt x="1198" y="68"/>
                  </a:lnTo>
                  <a:lnTo>
                    <a:pt x="1180" y="118"/>
                  </a:lnTo>
                  <a:lnTo>
                    <a:pt x="1153" y="183"/>
                  </a:lnTo>
                  <a:lnTo>
                    <a:pt x="1120" y="260"/>
                  </a:lnTo>
                  <a:lnTo>
                    <a:pt x="1075" y="350"/>
                  </a:lnTo>
                  <a:lnTo>
                    <a:pt x="1022" y="450"/>
                  </a:lnTo>
                  <a:lnTo>
                    <a:pt x="959" y="562"/>
                  </a:lnTo>
                  <a:lnTo>
                    <a:pt x="881" y="685"/>
                  </a:lnTo>
                  <a:lnTo>
                    <a:pt x="836" y="750"/>
                  </a:lnTo>
                  <a:lnTo>
                    <a:pt x="791" y="819"/>
                  </a:lnTo>
                  <a:lnTo>
                    <a:pt x="740" y="888"/>
                  </a:lnTo>
                  <a:lnTo>
                    <a:pt x="686" y="960"/>
                  </a:lnTo>
                  <a:lnTo>
                    <a:pt x="629" y="1036"/>
                  </a:lnTo>
                  <a:lnTo>
                    <a:pt x="568" y="1113"/>
                  </a:lnTo>
                  <a:lnTo>
                    <a:pt x="503" y="1192"/>
                  </a:lnTo>
                  <a:lnTo>
                    <a:pt x="432" y="1273"/>
                  </a:lnTo>
                  <a:lnTo>
                    <a:pt x="358" y="1356"/>
                  </a:lnTo>
                  <a:lnTo>
                    <a:pt x="280" y="1441"/>
                  </a:lnTo>
                  <a:lnTo>
                    <a:pt x="198" y="1529"/>
                  </a:lnTo>
                  <a:lnTo>
                    <a:pt x="110" y="1618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421320" y="4843440"/>
              <a:ext cx="482760" cy="660600"/>
            </a:xfrm>
            <a:custGeom>
              <a:avLst/>
              <a:gdLst/>
              <a:ahLst/>
              <a:rect l="l" t="t" r="r" b="b"/>
              <a:pathLst>
                <a:path w="1218" h="1668">
                  <a:moveTo>
                    <a:pt x="110" y="1618"/>
                  </a:moveTo>
                  <a:lnTo>
                    <a:pt x="138" y="1657"/>
                  </a:lnTo>
                  <a:lnTo>
                    <a:pt x="0" y="1668"/>
                  </a:lnTo>
                  <a:lnTo>
                    <a:pt x="34" y="1493"/>
                  </a:lnTo>
                  <a:lnTo>
                    <a:pt x="46" y="1519"/>
                  </a:lnTo>
                  <a:lnTo>
                    <a:pt x="55" y="1536"/>
                  </a:lnTo>
                  <a:lnTo>
                    <a:pt x="59" y="1540"/>
                  </a:lnTo>
                  <a:lnTo>
                    <a:pt x="62" y="1538"/>
                  </a:lnTo>
                  <a:lnTo>
                    <a:pt x="155" y="1456"/>
                  </a:lnTo>
                  <a:lnTo>
                    <a:pt x="242" y="1374"/>
                  </a:lnTo>
                  <a:lnTo>
                    <a:pt x="325" y="1294"/>
                  </a:lnTo>
                  <a:lnTo>
                    <a:pt x="403" y="1216"/>
                  </a:lnTo>
                  <a:lnTo>
                    <a:pt x="475" y="1139"/>
                  </a:lnTo>
                  <a:lnTo>
                    <a:pt x="545" y="1065"/>
                  </a:lnTo>
                  <a:lnTo>
                    <a:pt x="608" y="993"/>
                  </a:lnTo>
                  <a:lnTo>
                    <a:pt x="670" y="922"/>
                  </a:lnTo>
                  <a:lnTo>
                    <a:pt x="726" y="852"/>
                  </a:lnTo>
                  <a:lnTo>
                    <a:pt x="778" y="785"/>
                  </a:lnTo>
                  <a:lnTo>
                    <a:pt x="872" y="660"/>
                  </a:lnTo>
                  <a:lnTo>
                    <a:pt x="952" y="543"/>
                  </a:lnTo>
                  <a:lnTo>
                    <a:pt x="1019" y="435"/>
                  </a:lnTo>
                  <a:lnTo>
                    <a:pt x="1074" y="338"/>
                  </a:lnTo>
                  <a:lnTo>
                    <a:pt x="1118" y="251"/>
                  </a:lnTo>
                  <a:lnTo>
                    <a:pt x="1153" y="177"/>
                  </a:lnTo>
                  <a:lnTo>
                    <a:pt x="1178" y="116"/>
                  </a:lnTo>
                  <a:lnTo>
                    <a:pt x="1198" y="66"/>
                  </a:lnTo>
                  <a:lnTo>
                    <a:pt x="1210" y="29"/>
                  </a:lnTo>
                  <a:lnTo>
                    <a:pt x="1218" y="0"/>
                  </a:lnTo>
                  <a:lnTo>
                    <a:pt x="1208" y="32"/>
                  </a:lnTo>
                  <a:lnTo>
                    <a:pt x="1198" y="68"/>
                  </a:lnTo>
                  <a:lnTo>
                    <a:pt x="1180" y="118"/>
                  </a:lnTo>
                  <a:lnTo>
                    <a:pt x="1153" y="183"/>
                  </a:lnTo>
                  <a:lnTo>
                    <a:pt x="1120" y="260"/>
                  </a:lnTo>
                  <a:lnTo>
                    <a:pt x="1075" y="350"/>
                  </a:lnTo>
                  <a:lnTo>
                    <a:pt x="1022" y="450"/>
                  </a:lnTo>
                  <a:lnTo>
                    <a:pt x="959" y="562"/>
                  </a:lnTo>
                  <a:lnTo>
                    <a:pt x="881" y="685"/>
                  </a:lnTo>
                  <a:lnTo>
                    <a:pt x="836" y="750"/>
                  </a:lnTo>
                  <a:lnTo>
                    <a:pt x="791" y="819"/>
                  </a:lnTo>
                  <a:lnTo>
                    <a:pt x="740" y="888"/>
                  </a:lnTo>
                  <a:lnTo>
                    <a:pt x="686" y="960"/>
                  </a:lnTo>
                  <a:lnTo>
                    <a:pt x="629" y="1036"/>
                  </a:lnTo>
                  <a:lnTo>
                    <a:pt x="568" y="1113"/>
                  </a:lnTo>
                  <a:lnTo>
                    <a:pt x="503" y="1192"/>
                  </a:lnTo>
                  <a:lnTo>
                    <a:pt x="432" y="1273"/>
                  </a:lnTo>
                  <a:lnTo>
                    <a:pt x="358" y="1356"/>
                  </a:lnTo>
                  <a:lnTo>
                    <a:pt x="280" y="1441"/>
                  </a:lnTo>
                  <a:lnTo>
                    <a:pt x="198" y="1529"/>
                  </a:lnTo>
                  <a:lnTo>
                    <a:pt x="110" y="1618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421320" y="5433840"/>
              <a:ext cx="54000" cy="7020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110" y="126"/>
                  </a:moveTo>
                  <a:lnTo>
                    <a:pt x="139" y="166"/>
                  </a:lnTo>
                  <a:lnTo>
                    <a:pt x="0" y="17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138" y="165"/>
                  </a:lnTo>
                  <a:lnTo>
                    <a:pt x="138" y="166"/>
                  </a:lnTo>
                  <a:lnTo>
                    <a:pt x="109" y="127"/>
                  </a:lnTo>
                  <a:lnTo>
                    <a:pt x="110" y="126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21320" y="5433840"/>
              <a:ext cx="54000" cy="7020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110" y="126"/>
                  </a:moveTo>
                  <a:lnTo>
                    <a:pt x="139" y="166"/>
                  </a:lnTo>
                  <a:lnTo>
                    <a:pt x="0" y="17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138" y="165"/>
                  </a:lnTo>
                  <a:lnTo>
                    <a:pt x="138" y="166"/>
                  </a:lnTo>
                  <a:lnTo>
                    <a:pt x="109" y="127"/>
                  </a:lnTo>
                  <a:lnTo>
                    <a:pt x="110" y="126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434280" y="5433840"/>
              <a:ext cx="10800" cy="2088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2"/>
                  </a:lnTo>
                  <a:lnTo>
                    <a:pt x="10" y="25"/>
                  </a:lnTo>
                  <a:lnTo>
                    <a:pt x="12" y="26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6" y="36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2" y="44"/>
                  </a:lnTo>
                  <a:lnTo>
                    <a:pt x="24" y="46"/>
                  </a:lnTo>
                  <a:lnTo>
                    <a:pt x="25" y="46"/>
                  </a:lnTo>
                  <a:lnTo>
                    <a:pt x="26" y="48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0" y="48"/>
                  </a:lnTo>
                  <a:lnTo>
                    <a:pt x="28" y="49"/>
                  </a:lnTo>
                  <a:lnTo>
                    <a:pt x="27" y="49"/>
                  </a:lnTo>
                  <a:lnTo>
                    <a:pt x="26" y="49"/>
                  </a:lnTo>
                  <a:lnTo>
                    <a:pt x="25" y="49"/>
                  </a:lnTo>
                  <a:lnTo>
                    <a:pt x="24" y="48"/>
                  </a:lnTo>
                  <a:lnTo>
                    <a:pt x="22" y="46"/>
                  </a:lnTo>
                  <a:lnTo>
                    <a:pt x="21" y="45"/>
                  </a:lnTo>
                  <a:lnTo>
                    <a:pt x="20" y="44"/>
                  </a:lnTo>
                  <a:lnTo>
                    <a:pt x="19" y="40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3" y="32"/>
                  </a:lnTo>
                  <a:lnTo>
                    <a:pt x="12" y="31"/>
                  </a:lnTo>
                  <a:lnTo>
                    <a:pt x="10" y="27"/>
                  </a:lnTo>
                  <a:lnTo>
                    <a:pt x="9" y="26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34280" y="5433840"/>
              <a:ext cx="10800" cy="2088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2"/>
                  </a:lnTo>
                  <a:lnTo>
                    <a:pt x="10" y="25"/>
                  </a:lnTo>
                  <a:lnTo>
                    <a:pt x="12" y="26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6" y="36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2" y="44"/>
                  </a:lnTo>
                  <a:lnTo>
                    <a:pt x="24" y="46"/>
                  </a:lnTo>
                  <a:lnTo>
                    <a:pt x="25" y="46"/>
                  </a:lnTo>
                  <a:lnTo>
                    <a:pt x="26" y="48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0" y="48"/>
                  </a:lnTo>
                  <a:lnTo>
                    <a:pt x="28" y="49"/>
                  </a:lnTo>
                  <a:lnTo>
                    <a:pt x="27" y="49"/>
                  </a:lnTo>
                  <a:lnTo>
                    <a:pt x="26" y="49"/>
                  </a:lnTo>
                  <a:lnTo>
                    <a:pt x="25" y="49"/>
                  </a:lnTo>
                  <a:lnTo>
                    <a:pt x="24" y="48"/>
                  </a:lnTo>
                  <a:lnTo>
                    <a:pt x="22" y="46"/>
                  </a:lnTo>
                  <a:lnTo>
                    <a:pt x="21" y="45"/>
                  </a:lnTo>
                  <a:lnTo>
                    <a:pt x="20" y="44"/>
                  </a:lnTo>
                  <a:lnTo>
                    <a:pt x="19" y="40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3" y="32"/>
                  </a:lnTo>
                  <a:lnTo>
                    <a:pt x="12" y="31"/>
                  </a:lnTo>
                  <a:lnTo>
                    <a:pt x="10" y="27"/>
                  </a:lnTo>
                  <a:lnTo>
                    <a:pt x="9" y="26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45080" y="4842000"/>
              <a:ext cx="459000" cy="610920"/>
            </a:xfrm>
            <a:custGeom>
              <a:avLst/>
              <a:gdLst/>
              <a:ahLst/>
              <a:rect l="l" t="t" r="r" b="b"/>
              <a:pathLst>
                <a:path w="1157" h="1541">
                  <a:moveTo>
                    <a:pt x="0" y="1539"/>
                  </a:moveTo>
                  <a:lnTo>
                    <a:pt x="93" y="1457"/>
                  </a:lnTo>
                  <a:lnTo>
                    <a:pt x="180" y="1375"/>
                  </a:lnTo>
                  <a:lnTo>
                    <a:pt x="263" y="1295"/>
                  </a:lnTo>
                  <a:lnTo>
                    <a:pt x="340" y="1217"/>
                  </a:lnTo>
                  <a:lnTo>
                    <a:pt x="414" y="1140"/>
                  </a:lnTo>
                  <a:lnTo>
                    <a:pt x="483" y="1066"/>
                  </a:lnTo>
                  <a:lnTo>
                    <a:pt x="548" y="992"/>
                  </a:lnTo>
                  <a:lnTo>
                    <a:pt x="608" y="922"/>
                  </a:lnTo>
                  <a:lnTo>
                    <a:pt x="664" y="853"/>
                  </a:lnTo>
                  <a:lnTo>
                    <a:pt x="717" y="786"/>
                  </a:lnTo>
                  <a:lnTo>
                    <a:pt x="766" y="722"/>
                  </a:lnTo>
                  <a:lnTo>
                    <a:pt x="810" y="659"/>
                  </a:lnTo>
                  <a:lnTo>
                    <a:pt x="852" y="600"/>
                  </a:lnTo>
                  <a:lnTo>
                    <a:pt x="890" y="542"/>
                  </a:lnTo>
                  <a:lnTo>
                    <a:pt x="926" y="487"/>
                  </a:lnTo>
                  <a:lnTo>
                    <a:pt x="957" y="435"/>
                  </a:lnTo>
                  <a:lnTo>
                    <a:pt x="987" y="385"/>
                  </a:lnTo>
                  <a:lnTo>
                    <a:pt x="1012" y="339"/>
                  </a:lnTo>
                  <a:lnTo>
                    <a:pt x="1036" y="294"/>
                  </a:lnTo>
                  <a:lnTo>
                    <a:pt x="1056" y="252"/>
                  </a:lnTo>
                  <a:lnTo>
                    <a:pt x="1076" y="214"/>
                  </a:lnTo>
                  <a:lnTo>
                    <a:pt x="1091" y="178"/>
                  </a:lnTo>
                  <a:lnTo>
                    <a:pt x="1106" y="145"/>
                  </a:lnTo>
                  <a:lnTo>
                    <a:pt x="1118" y="117"/>
                  </a:lnTo>
                  <a:lnTo>
                    <a:pt x="1127" y="90"/>
                  </a:lnTo>
                  <a:lnTo>
                    <a:pt x="1136" y="67"/>
                  </a:lnTo>
                  <a:lnTo>
                    <a:pt x="1142" y="47"/>
                  </a:lnTo>
                  <a:lnTo>
                    <a:pt x="1148" y="30"/>
                  </a:lnTo>
                  <a:lnTo>
                    <a:pt x="1151" y="18"/>
                  </a:lnTo>
                  <a:lnTo>
                    <a:pt x="1154" y="9"/>
                  </a:lnTo>
                  <a:lnTo>
                    <a:pt x="1156" y="4"/>
                  </a:lnTo>
                  <a:lnTo>
                    <a:pt x="1156" y="1"/>
                  </a:lnTo>
                  <a:lnTo>
                    <a:pt x="1156" y="0"/>
                  </a:lnTo>
                  <a:lnTo>
                    <a:pt x="1157" y="1"/>
                  </a:lnTo>
                  <a:lnTo>
                    <a:pt x="1156" y="1"/>
                  </a:lnTo>
                  <a:lnTo>
                    <a:pt x="1156" y="4"/>
                  </a:lnTo>
                  <a:lnTo>
                    <a:pt x="1155" y="9"/>
                  </a:lnTo>
                  <a:lnTo>
                    <a:pt x="1152" y="19"/>
                  </a:lnTo>
                  <a:lnTo>
                    <a:pt x="1149" y="31"/>
                  </a:lnTo>
                  <a:lnTo>
                    <a:pt x="1143" y="48"/>
                  </a:lnTo>
                  <a:lnTo>
                    <a:pt x="1137" y="67"/>
                  </a:lnTo>
                  <a:lnTo>
                    <a:pt x="1128" y="90"/>
                  </a:lnTo>
                  <a:lnTo>
                    <a:pt x="1118" y="117"/>
                  </a:lnTo>
                  <a:lnTo>
                    <a:pt x="1107" y="145"/>
                  </a:lnTo>
                  <a:lnTo>
                    <a:pt x="1092" y="179"/>
                  </a:lnTo>
                  <a:lnTo>
                    <a:pt x="1076" y="214"/>
                  </a:lnTo>
                  <a:lnTo>
                    <a:pt x="1058" y="252"/>
                  </a:lnTo>
                  <a:lnTo>
                    <a:pt x="1037" y="294"/>
                  </a:lnTo>
                  <a:lnTo>
                    <a:pt x="1013" y="339"/>
                  </a:lnTo>
                  <a:lnTo>
                    <a:pt x="987" y="385"/>
                  </a:lnTo>
                  <a:lnTo>
                    <a:pt x="958" y="436"/>
                  </a:lnTo>
                  <a:lnTo>
                    <a:pt x="927" y="488"/>
                  </a:lnTo>
                  <a:lnTo>
                    <a:pt x="891" y="544"/>
                  </a:lnTo>
                  <a:lnTo>
                    <a:pt x="852" y="600"/>
                  </a:lnTo>
                  <a:lnTo>
                    <a:pt x="812" y="660"/>
                  </a:lnTo>
                  <a:lnTo>
                    <a:pt x="766" y="722"/>
                  </a:lnTo>
                  <a:lnTo>
                    <a:pt x="717" y="787"/>
                  </a:lnTo>
                  <a:lnTo>
                    <a:pt x="664" y="853"/>
                  </a:lnTo>
                  <a:lnTo>
                    <a:pt x="609" y="923"/>
                  </a:lnTo>
                  <a:lnTo>
                    <a:pt x="548" y="994"/>
                  </a:lnTo>
                  <a:lnTo>
                    <a:pt x="483" y="1067"/>
                  </a:lnTo>
                  <a:lnTo>
                    <a:pt x="414" y="1140"/>
                  </a:lnTo>
                  <a:lnTo>
                    <a:pt x="341" y="1218"/>
                  </a:lnTo>
                  <a:lnTo>
                    <a:pt x="263" y="1296"/>
                  </a:lnTo>
                  <a:lnTo>
                    <a:pt x="180" y="1376"/>
                  </a:lnTo>
                  <a:lnTo>
                    <a:pt x="94" y="1458"/>
                  </a:lnTo>
                  <a:lnTo>
                    <a:pt x="2" y="1541"/>
                  </a:lnTo>
                  <a:lnTo>
                    <a:pt x="0" y="1539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45080" y="4842000"/>
              <a:ext cx="459000" cy="610920"/>
            </a:xfrm>
            <a:custGeom>
              <a:avLst/>
              <a:gdLst/>
              <a:ahLst/>
              <a:rect l="l" t="t" r="r" b="b"/>
              <a:pathLst>
                <a:path w="1157" h="1541">
                  <a:moveTo>
                    <a:pt x="0" y="1539"/>
                  </a:moveTo>
                  <a:lnTo>
                    <a:pt x="93" y="1457"/>
                  </a:lnTo>
                  <a:lnTo>
                    <a:pt x="180" y="1375"/>
                  </a:lnTo>
                  <a:lnTo>
                    <a:pt x="263" y="1295"/>
                  </a:lnTo>
                  <a:lnTo>
                    <a:pt x="340" y="1217"/>
                  </a:lnTo>
                  <a:lnTo>
                    <a:pt x="414" y="1140"/>
                  </a:lnTo>
                  <a:lnTo>
                    <a:pt x="483" y="1066"/>
                  </a:lnTo>
                  <a:lnTo>
                    <a:pt x="548" y="992"/>
                  </a:lnTo>
                  <a:lnTo>
                    <a:pt x="608" y="922"/>
                  </a:lnTo>
                  <a:lnTo>
                    <a:pt x="664" y="853"/>
                  </a:lnTo>
                  <a:lnTo>
                    <a:pt x="717" y="786"/>
                  </a:lnTo>
                  <a:lnTo>
                    <a:pt x="766" y="722"/>
                  </a:lnTo>
                  <a:lnTo>
                    <a:pt x="810" y="659"/>
                  </a:lnTo>
                  <a:lnTo>
                    <a:pt x="852" y="600"/>
                  </a:lnTo>
                  <a:lnTo>
                    <a:pt x="890" y="542"/>
                  </a:lnTo>
                  <a:lnTo>
                    <a:pt x="926" y="487"/>
                  </a:lnTo>
                  <a:lnTo>
                    <a:pt x="957" y="435"/>
                  </a:lnTo>
                  <a:lnTo>
                    <a:pt x="987" y="385"/>
                  </a:lnTo>
                  <a:lnTo>
                    <a:pt x="1012" y="339"/>
                  </a:lnTo>
                  <a:lnTo>
                    <a:pt x="1036" y="294"/>
                  </a:lnTo>
                  <a:lnTo>
                    <a:pt x="1056" y="252"/>
                  </a:lnTo>
                  <a:lnTo>
                    <a:pt x="1076" y="214"/>
                  </a:lnTo>
                  <a:lnTo>
                    <a:pt x="1091" y="178"/>
                  </a:lnTo>
                  <a:lnTo>
                    <a:pt x="1106" y="145"/>
                  </a:lnTo>
                  <a:lnTo>
                    <a:pt x="1118" y="117"/>
                  </a:lnTo>
                  <a:lnTo>
                    <a:pt x="1127" y="90"/>
                  </a:lnTo>
                  <a:lnTo>
                    <a:pt x="1136" y="67"/>
                  </a:lnTo>
                  <a:lnTo>
                    <a:pt x="1142" y="47"/>
                  </a:lnTo>
                  <a:lnTo>
                    <a:pt x="1148" y="30"/>
                  </a:lnTo>
                  <a:lnTo>
                    <a:pt x="1151" y="18"/>
                  </a:lnTo>
                  <a:lnTo>
                    <a:pt x="1154" y="9"/>
                  </a:lnTo>
                  <a:lnTo>
                    <a:pt x="1156" y="4"/>
                  </a:lnTo>
                  <a:lnTo>
                    <a:pt x="1156" y="1"/>
                  </a:lnTo>
                  <a:lnTo>
                    <a:pt x="1156" y="0"/>
                  </a:lnTo>
                  <a:lnTo>
                    <a:pt x="1157" y="1"/>
                  </a:lnTo>
                  <a:lnTo>
                    <a:pt x="1156" y="1"/>
                  </a:lnTo>
                  <a:lnTo>
                    <a:pt x="1156" y="4"/>
                  </a:lnTo>
                  <a:lnTo>
                    <a:pt x="1155" y="9"/>
                  </a:lnTo>
                  <a:lnTo>
                    <a:pt x="1152" y="19"/>
                  </a:lnTo>
                  <a:lnTo>
                    <a:pt x="1149" y="31"/>
                  </a:lnTo>
                  <a:lnTo>
                    <a:pt x="1143" y="48"/>
                  </a:lnTo>
                  <a:lnTo>
                    <a:pt x="1137" y="67"/>
                  </a:lnTo>
                  <a:lnTo>
                    <a:pt x="1128" y="90"/>
                  </a:lnTo>
                  <a:lnTo>
                    <a:pt x="1118" y="117"/>
                  </a:lnTo>
                  <a:lnTo>
                    <a:pt x="1107" y="145"/>
                  </a:lnTo>
                  <a:lnTo>
                    <a:pt x="1092" y="179"/>
                  </a:lnTo>
                  <a:lnTo>
                    <a:pt x="1076" y="214"/>
                  </a:lnTo>
                  <a:lnTo>
                    <a:pt x="1058" y="252"/>
                  </a:lnTo>
                  <a:lnTo>
                    <a:pt x="1037" y="294"/>
                  </a:lnTo>
                  <a:lnTo>
                    <a:pt x="1013" y="339"/>
                  </a:lnTo>
                  <a:lnTo>
                    <a:pt x="987" y="385"/>
                  </a:lnTo>
                  <a:lnTo>
                    <a:pt x="958" y="436"/>
                  </a:lnTo>
                  <a:lnTo>
                    <a:pt x="927" y="488"/>
                  </a:lnTo>
                  <a:lnTo>
                    <a:pt x="891" y="544"/>
                  </a:lnTo>
                  <a:lnTo>
                    <a:pt x="852" y="600"/>
                  </a:lnTo>
                  <a:lnTo>
                    <a:pt x="812" y="660"/>
                  </a:lnTo>
                  <a:lnTo>
                    <a:pt x="766" y="722"/>
                  </a:lnTo>
                  <a:lnTo>
                    <a:pt x="717" y="787"/>
                  </a:lnTo>
                  <a:lnTo>
                    <a:pt x="664" y="853"/>
                  </a:lnTo>
                  <a:lnTo>
                    <a:pt x="609" y="923"/>
                  </a:lnTo>
                  <a:lnTo>
                    <a:pt x="548" y="994"/>
                  </a:lnTo>
                  <a:lnTo>
                    <a:pt x="483" y="1067"/>
                  </a:lnTo>
                  <a:lnTo>
                    <a:pt x="414" y="1140"/>
                  </a:lnTo>
                  <a:lnTo>
                    <a:pt x="341" y="1218"/>
                  </a:lnTo>
                  <a:lnTo>
                    <a:pt x="263" y="1296"/>
                  </a:lnTo>
                  <a:lnTo>
                    <a:pt x="180" y="1376"/>
                  </a:lnTo>
                  <a:lnTo>
                    <a:pt x="94" y="1458"/>
                  </a:lnTo>
                  <a:lnTo>
                    <a:pt x="2" y="1541"/>
                  </a:lnTo>
                  <a:lnTo>
                    <a:pt x="0" y="1539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464160" y="4843440"/>
              <a:ext cx="439920" cy="641520"/>
            </a:xfrm>
            <a:custGeom>
              <a:avLst/>
              <a:gdLst/>
              <a:ahLst/>
              <a:rect l="l" t="t" r="r" b="b"/>
              <a:pathLst>
                <a:path w="1108" h="1619">
                  <a:moveTo>
                    <a:pt x="1108" y="0"/>
                  </a:moveTo>
                  <a:lnTo>
                    <a:pt x="1108" y="0"/>
                  </a:lnTo>
                  <a:lnTo>
                    <a:pt x="1108" y="3"/>
                  </a:lnTo>
                  <a:lnTo>
                    <a:pt x="1107" y="9"/>
                  </a:lnTo>
                  <a:lnTo>
                    <a:pt x="1104" y="18"/>
                  </a:lnTo>
                  <a:lnTo>
                    <a:pt x="1101" y="32"/>
                  </a:lnTo>
                  <a:lnTo>
                    <a:pt x="1095" y="47"/>
                  </a:lnTo>
                  <a:lnTo>
                    <a:pt x="1088" y="69"/>
                  </a:lnTo>
                  <a:lnTo>
                    <a:pt x="1079" y="92"/>
                  </a:lnTo>
                  <a:lnTo>
                    <a:pt x="1070" y="119"/>
                  </a:lnTo>
                  <a:lnTo>
                    <a:pt x="1058" y="150"/>
                  </a:lnTo>
                  <a:lnTo>
                    <a:pt x="1043" y="183"/>
                  </a:lnTo>
                  <a:lnTo>
                    <a:pt x="1028" y="220"/>
                  </a:lnTo>
                  <a:lnTo>
                    <a:pt x="1010" y="260"/>
                  </a:lnTo>
                  <a:lnTo>
                    <a:pt x="989" y="304"/>
                  </a:lnTo>
                  <a:lnTo>
                    <a:pt x="966" y="350"/>
                  </a:lnTo>
                  <a:lnTo>
                    <a:pt x="941" y="399"/>
                  </a:lnTo>
                  <a:lnTo>
                    <a:pt x="912" y="450"/>
                  </a:lnTo>
                  <a:lnTo>
                    <a:pt x="881" y="505"/>
                  </a:lnTo>
                  <a:lnTo>
                    <a:pt x="848" y="563"/>
                  </a:lnTo>
                  <a:lnTo>
                    <a:pt x="810" y="623"/>
                  </a:lnTo>
                  <a:lnTo>
                    <a:pt x="771" y="685"/>
                  </a:lnTo>
                  <a:lnTo>
                    <a:pt x="728" y="751"/>
                  </a:lnTo>
                  <a:lnTo>
                    <a:pt x="681" y="820"/>
                  </a:lnTo>
                  <a:lnTo>
                    <a:pt x="630" y="889"/>
                  </a:lnTo>
                  <a:lnTo>
                    <a:pt x="576" y="961"/>
                  </a:lnTo>
                  <a:lnTo>
                    <a:pt x="519" y="1037"/>
                  </a:lnTo>
                  <a:lnTo>
                    <a:pt x="458" y="1114"/>
                  </a:lnTo>
                  <a:lnTo>
                    <a:pt x="392" y="1193"/>
                  </a:lnTo>
                  <a:lnTo>
                    <a:pt x="322" y="1274"/>
                  </a:lnTo>
                  <a:lnTo>
                    <a:pt x="249" y="1358"/>
                  </a:lnTo>
                  <a:lnTo>
                    <a:pt x="170" y="1442"/>
                  </a:lnTo>
                  <a:lnTo>
                    <a:pt x="87" y="1530"/>
                  </a:lnTo>
                  <a:lnTo>
                    <a:pt x="0" y="1619"/>
                  </a:lnTo>
                  <a:lnTo>
                    <a:pt x="0" y="1618"/>
                  </a:lnTo>
                  <a:lnTo>
                    <a:pt x="87" y="1530"/>
                  </a:lnTo>
                  <a:lnTo>
                    <a:pt x="170" y="1442"/>
                  </a:lnTo>
                  <a:lnTo>
                    <a:pt x="248" y="1357"/>
                  </a:lnTo>
                  <a:lnTo>
                    <a:pt x="322" y="1273"/>
                  </a:lnTo>
                  <a:lnTo>
                    <a:pt x="392" y="1193"/>
                  </a:lnTo>
                  <a:lnTo>
                    <a:pt x="456" y="1113"/>
                  </a:lnTo>
                  <a:lnTo>
                    <a:pt x="519" y="1036"/>
                  </a:lnTo>
                  <a:lnTo>
                    <a:pt x="576" y="961"/>
                  </a:lnTo>
                  <a:lnTo>
                    <a:pt x="629" y="889"/>
                  </a:lnTo>
                  <a:lnTo>
                    <a:pt x="681" y="819"/>
                  </a:lnTo>
                  <a:lnTo>
                    <a:pt x="726" y="751"/>
                  </a:lnTo>
                  <a:lnTo>
                    <a:pt x="771" y="685"/>
                  </a:lnTo>
                  <a:lnTo>
                    <a:pt x="810" y="623"/>
                  </a:lnTo>
                  <a:lnTo>
                    <a:pt x="846" y="563"/>
                  </a:lnTo>
                  <a:lnTo>
                    <a:pt x="881" y="505"/>
                  </a:lnTo>
                  <a:lnTo>
                    <a:pt x="911" y="450"/>
                  </a:lnTo>
                  <a:lnTo>
                    <a:pt x="940" y="398"/>
                  </a:lnTo>
                  <a:lnTo>
                    <a:pt x="965" y="350"/>
                  </a:lnTo>
                  <a:lnTo>
                    <a:pt x="988" y="304"/>
                  </a:lnTo>
                  <a:lnTo>
                    <a:pt x="1010" y="260"/>
                  </a:lnTo>
                  <a:lnTo>
                    <a:pt x="1028" y="220"/>
                  </a:lnTo>
                  <a:lnTo>
                    <a:pt x="1043" y="183"/>
                  </a:lnTo>
                  <a:lnTo>
                    <a:pt x="1058" y="149"/>
                  </a:lnTo>
                  <a:lnTo>
                    <a:pt x="1068" y="119"/>
                  </a:lnTo>
                  <a:lnTo>
                    <a:pt x="1079" y="92"/>
                  </a:lnTo>
                  <a:lnTo>
                    <a:pt x="1088" y="68"/>
                  </a:lnTo>
                  <a:lnTo>
                    <a:pt x="1095" y="47"/>
                  </a:lnTo>
                  <a:lnTo>
                    <a:pt x="1100" y="30"/>
                  </a:lnTo>
                  <a:lnTo>
                    <a:pt x="1103" y="17"/>
                  </a:lnTo>
                  <a:lnTo>
                    <a:pt x="1106" y="8"/>
                  </a:lnTo>
                  <a:lnTo>
                    <a:pt x="1108" y="3"/>
                  </a:lnTo>
                  <a:lnTo>
                    <a:pt x="1108" y="0"/>
                  </a:lnTo>
                  <a:lnTo>
                    <a:pt x="1108" y="2"/>
                  </a:lnTo>
                  <a:lnTo>
                    <a:pt x="1108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464160" y="4843440"/>
              <a:ext cx="439920" cy="641520"/>
            </a:xfrm>
            <a:custGeom>
              <a:avLst/>
              <a:gdLst/>
              <a:ahLst/>
              <a:rect l="l" t="t" r="r" b="b"/>
              <a:pathLst>
                <a:path w="1108" h="1619">
                  <a:moveTo>
                    <a:pt x="1108" y="0"/>
                  </a:moveTo>
                  <a:lnTo>
                    <a:pt x="1108" y="0"/>
                  </a:lnTo>
                  <a:lnTo>
                    <a:pt x="1108" y="3"/>
                  </a:lnTo>
                  <a:lnTo>
                    <a:pt x="1107" y="9"/>
                  </a:lnTo>
                  <a:lnTo>
                    <a:pt x="1104" y="18"/>
                  </a:lnTo>
                  <a:lnTo>
                    <a:pt x="1101" y="32"/>
                  </a:lnTo>
                  <a:lnTo>
                    <a:pt x="1095" y="47"/>
                  </a:lnTo>
                  <a:lnTo>
                    <a:pt x="1088" y="69"/>
                  </a:lnTo>
                  <a:lnTo>
                    <a:pt x="1079" y="92"/>
                  </a:lnTo>
                  <a:lnTo>
                    <a:pt x="1070" y="119"/>
                  </a:lnTo>
                  <a:lnTo>
                    <a:pt x="1058" y="150"/>
                  </a:lnTo>
                  <a:lnTo>
                    <a:pt x="1043" y="183"/>
                  </a:lnTo>
                  <a:lnTo>
                    <a:pt x="1028" y="220"/>
                  </a:lnTo>
                  <a:lnTo>
                    <a:pt x="1010" y="260"/>
                  </a:lnTo>
                  <a:lnTo>
                    <a:pt x="989" y="304"/>
                  </a:lnTo>
                  <a:lnTo>
                    <a:pt x="966" y="350"/>
                  </a:lnTo>
                  <a:lnTo>
                    <a:pt x="941" y="399"/>
                  </a:lnTo>
                  <a:lnTo>
                    <a:pt x="912" y="450"/>
                  </a:lnTo>
                  <a:lnTo>
                    <a:pt x="881" y="505"/>
                  </a:lnTo>
                  <a:lnTo>
                    <a:pt x="848" y="563"/>
                  </a:lnTo>
                  <a:lnTo>
                    <a:pt x="810" y="623"/>
                  </a:lnTo>
                  <a:lnTo>
                    <a:pt x="771" y="685"/>
                  </a:lnTo>
                  <a:lnTo>
                    <a:pt x="728" y="751"/>
                  </a:lnTo>
                  <a:lnTo>
                    <a:pt x="681" y="820"/>
                  </a:lnTo>
                  <a:lnTo>
                    <a:pt x="630" y="889"/>
                  </a:lnTo>
                  <a:lnTo>
                    <a:pt x="576" y="961"/>
                  </a:lnTo>
                  <a:lnTo>
                    <a:pt x="519" y="1037"/>
                  </a:lnTo>
                  <a:lnTo>
                    <a:pt x="458" y="1114"/>
                  </a:lnTo>
                  <a:lnTo>
                    <a:pt x="392" y="1193"/>
                  </a:lnTo>
                  <a:lnTo>
                    <a:pt x="322" y="1274"/>
                  </a:lnTo>
                  <a:lnTo>
                    <a:pt x="249" y="1358"/>
                  </a:lnTo>
                  <a:lnTo>
                    <a:pt x="170" y="1442"/>
                  </a:lnTo>
                  <a:lnTo>
                    <a:pt x="87" y="1530"/>
                  </a:lnTo>
                  <a:lnTo>
                    <a:pt x="0" y="1619"/>
                  </a:lnTo>
                  <a:lnTo>
                    <a:pt x="0" y="1618"/>
                  </a:lnTo>
                  <a:lnTo>
                    <a:pt x="87" y="1530"/>
                  </a:lnTo>
                  <a:lnTo>
                    <a:pt x="170" y="1442"/>
                  </a:lnTo>
                  <a:lnTo>
                    <a:pt x="248" y="1357"/>
                  </a:lnTo>
                  <a:lnTo>
                    <a:pt x="322" y="1273"/>
                  </a:lnTo>
                  <a:lnTo>
                    <a:pt x="392" y="1193"/>
                  </a:lnTo>
                  <a:lnTo>
                    <a:pt x="456" y="1113"/>
                  </a:lnTo>
                  <a:lnTo>
                    <a:pt x="519" y="1036"/>
                  </a:lnTo>
                  <a:lnTo>
                    <a:pt x="576" y="961"/>
                  </a:lnTo>
                  <a:lnTo>
                    <a:pt x="629" y="889"/>
                  </a:lnTo>
                  <a:lnTo>
                    <a:pt x="681" y="819"/>
                  </a:lnTo>
                  <a:lnTo>
                    <a:pt x="726" y="751"/>
                  </a:lnTo>
                  <a:lnTo>
                    <a:pt x="771" y="685"/>
                  </a:lnTo>
                  <a:lnTo>
                    <a:pt x="810" y="623"/>
                  </a:lnTo>
                  <a:lnTo>
                    <a:pt x="846" y="563"/>
                  </a:lnTo>
                  <a:lnTo>
                    <a:pt x="881" y="505"/>
                  </a:lnTo>
                  <a:lnTo>
                    <a:pt x="911" y="450"/>
                  </a:lnTo>
                  <a:lnTo>
                    <a:pt x="940" y="398"/>
                  </a:lnTo>
                  <a:lnTo>
                    <a:pt x="965" y="350"/>
                  </a:lnTo>
                  <a:lnTo>
                    <a:pt x="988" y="304"/>
                  </a:lnTo>
                  <a:lnTo>
                    <a:pt x="1010" y="260"/>
                  </a:lnTo>
                  <a:lnTo>
                    <a:pt x="1028" y="220"/>
                  </a:lnTo>
                  <a:lnTo>
                    <a:pt x="1043" y="183"/>
                  </a:lnTo>
                  <a:lnTo>
                    <a:pt x="1058" y="149"/>
                  </a:lnTo>
                  <a:lnTo>
                    <a:pt x="1068" y="119"/>
                  </a:lnTo>
                  <a:lnTo>
                    <a:pt x="1079" y="92"/>
                  </a:lnTo>
                  <a:lnTo>
                    <a:pt x="1088" y="68"/>
                  </a:lnTo>
                  <a:lnTo>
                    <a:pt x="1095" y="47"/>
                  </a:lnTo>
                  <a:lnTo>
                    <a:pt x="1100" y="30"/>
                  </a:lnTo>
                  <a:lnTo>
                    <a:pt x="1103" y="17"/>
                  </a:lnTo>
                  <a:lnTo>
                    <a:pt x="1106" y="8"/>
                  </a:lnTo>
                  <a:lnTo>
                    <a:pt x="1108" y="3"/>
                  </a:lnTo>
                  <a:lnTo>
                    <a:pt x="1108" y="0"/>
                  </a:lnTo>
                  <a:lnTo>
                    <a:pt x="1108" y="2"/>
                  </a:lnTo>
                  <a:lnTo>
                    <a:pt x="1108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005360" y="4876920"/>
              <a:ext cx="739800" cy="542880"/>
            </a:xfrm>
            <a:custGeom>
              <a:avLst/>
              <a:gdLst/>
              <a:ahLst/>
              <a:rect l="l" t="t" r="r" b="b"/>
              <a:pathLst>
                <a:path w="1863" h="1369">
                  <a:moveTo>
                    <a:pt x="61" y="125"/>
                  </a:moveTo>
                  <a:lnTo>
                    <a:pt x="0" y="157"/>
                  </a:lnTo>
                  <a:lnTo>
                    <a:pt x="28" y="0"/>
                  </a:lnTo>
                  <a:lnTo>
                    <a:pt x="249" y="37"/>
                  </a:lnTo>
                  <a:lnTo>
                    <a:pt x="211" y="51"/>
                  </a:lnTo>
                  <a:lnTo>
                    <a:pt x="186" y="61"/>
                  </a:lnTo>
                  <a:lnTo>
                    <a:pt x="180" y="66"/>
                  </a:lnTo>
                  <a:lnTo>
                    <a:pt x="180" y="71"/>
                  </a:lnTo>
                  <a:lnTo>
                    <a:pt x="260" y="175"/>
                  </a:lnTo>
                  <a:lnTo>
                    <a:pt x="343" y="272"/>
                  </a:lnTo>
                  <a:lnTo>
                    <a:pt x="423" y="367"/>
                  </a:lnTo>
                  <a:lnTo>
                    <a:pt x="505" y="454"/>
                  </a:lnTo>
                  <a:lnTo>
                    <a:pt x="583" y="536"/>
                  </a:lnTo>
                  <a:lnTo>
                    <a:pt x="661" y="614"/>
                  </a:lnTo>
                  <a:lnTo>
                    <a:pt x="736" y="686"/>
                  </a:lnTo>
                  <a:lnTo>
                    <a:pt x="812" y="754"/>
                  </a:lnTo>
                  <a:lnTo>
                    <a:pt x="886" y="818"/>
                  </a:lnTo>
                  <a:lnTo>
                    <a:pt x="960" y="877"/>
                  </a:lnTo>
                  <a:lnTo>
                    <a:pt x="1096" y="982"/>
                  </a:lnTo>
                  <a:lnTo>
                    <a:pt x="1228" y="1071"/>
                  </a:lnTo>
                  <a:lnTo>
                    <a:pt x="1350" y="1147"/>
                  </a:lnTo>
                  <a:lnTo>
                    <a:pt x="1461" y="1208"/>
                  </a:lnTo>
                  <a:lnTo>
                    <a:pt x="1561" y="1258"/>
                  </a:lnTo>
                  <a:lnTo>
                    <a:pt x="1650" y="1297"/>
                  </a:lnTo>
                  <a:lnTo>
                    <a:pt x="1723" y="1325"/>
                  </a:lnTo>
                  <a:lnTo>
                    <a:pt x="1783" y="1346"/>
                  </a:lnTo>
                  <a:lnTo>
                    <a:pt x="1827" y="1359"/>
                  </a:lnTo>
                  <a:lnTo>
                    <a:pt x="1863" y="1369"/>
                  </a:lnTo>
                  <a:lnTo>
                    <a:pt x="1825" y="1358"/>
                  </a:lnTo>
                  <a:lnTo>
                    <a:pt x="1780" y="1346"/>
                  </a:lnTo>
                  <a:lnTo>
                    <a:pt x="1719" y="1325"/>
                  </a:lnTo>
                  <a:lnTo>
                    <a:pt x="1641" y="1297"/>
                  </a:lnTo>
                  <a:lnTo>
                    <a:pt x="1550" y="1259"/>
                  </a:lnTo>
                  <a:lnTo>
                    <a:pt x="1444" y="1210"/>
                  </a:lnTo>
                  <a:lnTo>
                    <a:pt x="1328" y="1151"/>
                  </a:lnTo>
                  <a:lnTo>
                    <a:pt x="1201" y="1078"/>
                  </a:lnTo>
                  <a:lnTo>
                    <a:pt x="1060" y="992"/>
                  </a:lnTo>
                  <a:lnTo>
                    <a:pt x="987" y="943"/>
                  </a:lnTo>
                  <a:lnTo>
                    <a:pt x="912" y="891"/>
                  </a:lnTo>
                  <a:lnTo>
                    <a:pt x="834" y="835"/>
                  </a:lnTo>
                  <a:lnTo>
                    <a:pt x="756" y="775"/>
                  </a:lnTo>
                  <a:lnTo>
                    <a:pt x="673" y="709"/>
                  </a:lnTo>
                  <a:lnTo>
                    <a:pt x="590" y="640"/>
                  </a:lnTo>
                  <a:lnTo>
                    <a:pt x="505" y="567"/>
                  </a:lnTo>
                  <a:lnTo>
                    <a:pt x="420" y="488"/>
                  </a:lnTo>
                  <a:lnTo>
                    <a:pt x="331" y="404"/>
                  </a:lnTo>
                  <a:lnTo>
                    <a:pt x="243" y="317"/>
                  </a:lnTo>
                  <a:lnTo>
                    <a:pt x="152" y="224"/>
                  </a:lnTo>
                  <a:lnTo>
                    <a:pt x="61" y="125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005360" y="4876920"/>
              <a:ext cx="739800" cy="542880"/>
            </a:xfrm>
            <a:custGeom>
              <a:avLst/>
              <a:gdLst/>
              <a:ahLst/>
              <a:rect l="l" t="t" r="r" b="b"/>
              <a:pathLst>
                <a:path w="1863" h="1369">
                  <a:moveTo>
                    <a:pt x="61" y="125"/>
                  </a:moveTo>
                  <a:lnTo>
                    <a:pt x="0" y="157"/>
                  </a:lnTo>
                  <a:lnTo>
                    <a:pt x="28" y="0"/>
                  </a:lnTo>
                  <a:lnTo>
                    <a:pt x="249" y="37"/>
                  </a:lnTo>
                  <a:lnTo>
                    <a:pt x="211" y="51"/>
                  </a:lnTo>
                  <a:lnTo>
                    <a:pt x="186" y="61"/>
                  </a:lnTo>
                  <a:lnTo>
                    <a:pt x="180" y="66"/>
                  </a:lnTo>
                  <a:lnTo>
                    <a:pt x="180" y="71"/>
                  </a:lnTo>
                  <a:lnTo>
                    <a:pt x="260" y="175"/>
                  </a:lnTo>
                  <a:lnTo>
                    <a:pt x="343" y="272"/>
                  </a:lnTo>
                  <a:lnTo>
                    <a:pt x="423" y="367"/>
                  </a:lnTo>
                  <a:lnTo>
                    <a:pt x="505" y="454"/>
                  </a:lnTo>
                  <a:lnTo>
                    <a:pt x="583" y="536"/>
                  </a:lnTo>
                  <a:lnTo>
                    <a:pt x="661" y="614"/>
                  </a:lnTo>
                  <a:lnTo>
                    <a:pt x="736" y="686"/>
                  </a:lnTo>
                  <a:lnTo>
                    <a:pt x="812" y="754"/>
                  </a:lnTo>
                  <a:lnTo>
                    <a:pt x="886" y="818"/>
                  </a:lnTo>
                  <a:lnTo>
                    <a:pt x="960" y="877"/>
                  </a:lnTo>
                  <a:lnTo>
                    <a:pt x="1096" y="982"/>
                  </a:lnTo>
                  <a:lnTo>
                    <a:pt x="1228" y="1071"/>
                  </a:lnTo>
                  <a:lnTo>
                    <a:pt x="1350" y="1147"/>
                  </a:lnTo>
                  <a:lnTo>
                    <a:pt x="1461" y="1208"/>
                  </a:lnTo>
                  <a:lnTo>
                    <a:pt x="1561" y="1258"/>
                  </a:lnTo>
                  <a:lnTo>
                    <a:pt x="1650" y="1297"/>
                  </a:lnTo>
                  <a:lnTo>
                    <a:pt x="1723" y="1325"/>
                  </a:lnTo>
                  <a:lnTo>
                    <a:pt x="1783" y="1346"/>
                  </a:lnTo>
                  <a:lnTo>
                    <a:pt x="1827" y="1359"/>
                  </a:lnTo>
                  <a:lnTo>
                    <a:pt x="1863" y="1369"/>
                  </a:lnTo>
                  <a:lnTo>
                    <a:pt x="1825" y="1358"/>
                  </a:lnTo>
                  <a:lnTo>
                    <a:pt x="1780" y="1346"/>
                  </a:lnTo>
                  <a:lnTo>
                    <a:pt x="1719" y="1325"/>
                  </a:lnTo>
                  <a:lnTo>
                    <a:pt x="1641" y="1297"/>
                  </a:lnTo>
                  <a:lnTo>
                    <a:pt x="1550" y="1259"/>
                  </a:lnTo>
                  <a:lnTo>
                    <a:pt x="1444" y="1210"/>
                  </a:lnTo>
                  <a:lnTo>
                    <a:pt x="1328" y="1151"/>
                  </a:lnTo>
                  <a:lnTo>
                    <a:pt x="1201" y="1078"/>
                  </a:lnTo>
                  <a:lnTo>
                    <a:pt x="1060" y="992"/>
                  </a:lnTo>
                  <a:lnTo>
                    <a:pt x="987" y="943"/>
                  </a:lnTo>
                  <a:lnTo>
                    <a:pt x="912" y="891"/>
                  </a:lnTo>
                  <a:lnTo>
                    <a:pt x="834" y="835"/>
                  </a:lnTo>
                  <a:lnTo>
                    <a:pt x="756" y="775"/>
                  </a:lnTo>
                  <a:lnTo>
                    <a:pt x="673" y="709"/>
                  </a:lnTo>
                  <a:lnTo>
                    <a:pt x="590" y="640"/>
                  </a:lnTo>
                  <a:lnTo>
                    <a:pt x="505" y="567"/>
                  </a:lnTo>
                  <a:lnTo>
                    <a:pt x="420" y="488"/>
                  </a:lnTo>
                  <a:lnTo>
                    <a:pt x="331" y="404"/>
                  </a:lnTo>
                  <a:lnTo>
                    <a:pt x="243" y="317"/>
                  </a:lnTo>
                  <a:lnTo>
                    <a:pt x="152" y="224"/>
                  </a:lnTo>
                  <a:lnTo>
                    <a:pt x="61" y="125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005360" y="4876920"/>
              <a:ext cx="100080" cy="63360"/>
            </a:xfrm>
            <a:custGeom>
              <a:avLst/>
              <a:gdLst/>
              <a:ahLst/>
              <a:rect l="l" t="t" r="r" b="b"/>
              <a:pathLst>
                <a:path w="252" h="158">
                  <a:moveTo>
                    <a:pt x="63" y="126"/>
                  </a:moveTo>
                  <a:lnTo>
                    <a:pt x="0" y="158"/>
                  </a:lnTo>
                  <a:lnTo>
                    <a:pt x="30" y="0"/>
                  </a:lnTo>
                  <a:lnTo>
                    <a:pt x="252" y="37"/>
                  </a:lnTo>
                  <a:lnTo>
                    <a:pt x="251" y="37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2" y="158"/>
                  </a:lnTo>
                  <a:lnTo>
                    <a:pt x="2" y="157"/>
                  </a:lnTo>
                  <a:lnTo>
                    <a:pt x="62" y="125"/>
                  </a:lnTo>
                  <a:lnTo>
                    <a:pt x="63" y="126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005360" y="4876920"/>
              <a:ext cx="100080" cy="63360"/>
            </a:xfrm>
            <a:custGeom>
              <a:avLst/>
              <a:gdLst/>
              <a:ahLst/>
              <a:rect l="l" t="t" r="r" b="b"/>
              <a:pathLst>
                <a:path w="252" h="158">
                  <a:moveTo>
                    <a:pt x="63" y="126"/>
                  </a:moveTo>
                  <a:lnTo>
                    <a:pt x="0" y="158"/>
                  </a:lnTo>
                  <a:lnTo>
                    <a:pt x="30" y="0"/>
                  </a:lnTo>
                  <a:lnTo>
                    <a:pt x="252" y="37"/>
                  </a:lnTo>
                  <a:lnTo>
                    <a:pt x="251" y="37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2" y="158"/>
                  </a:lnTo>
                  <a:lnTo>
                    <a:pt x="2" y="157"/>
                  </a:lnTo>
                  <a:lnTo>
                    <a:pt x="62" y="125"/>
                  </a:lnTo>
                  <a:lnTo>
                    <a:pt x="63" y="126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075200" y="4890960"/>
              <a:ext cx="30240" cy="14400"/>
            </a:xfrm>
            <a:custGeom>
              <a:avLst/>
              <a:gdLst/>
              <a:ahLst/>
              <a:rect l="l" t="t" r="r" b="b"/>
              <a:pathLst>
                <a:path w="73" h="35">
                  <a:moveTo>
                    <a:pt x="73" y="1"/>
                  </a:moveTo>
                  <a:lnTo>
                    <a:pt x="72" y="1"/>
                  </a:lnTo>
                  <a:lnTo>
                    <a:pt x="71" y="1"/>
                  </a:lnTo>
                  <a:lnTo>
                    <a:pt x="70" y="2"/>
                  </a:lnTo>
                  <a:lnTo>
                    <a:pt x="67" y="2"/>
                  </a:lnTo>
                  <a:lnTo>
                    <a:pt x="65" y="3"/>
                  </a:lnTo>
                  <a:lnTo>
                    <a:pt x="63" y="5"/>
                  </a:lnTo>
                  <a:lnTo>
                    <a:pt x="60" y="6"/>
                  </a:lnTo>
                  <a:lnTo>
                    <a:pt x="57" y="6"/>
                  </a:lnTo>
                  <a:lnTo>
                    <a:pt x="54" y="7"/>
                  </a:lnTo>
                  <a:lnTo>
                    <a:pt x="51" y="8"/>
                  </a:lnTo>
                  <a:lnTo>
                    <a:pt x="48" y="9"/>
                  </a:lnTo>
                  <a:lnTo>
                    <a:pt x="45" y="11"/>
                  </a:lnTo>
                  <a:lnTo>
                    <a:pt x="41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1" y="20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4" y="30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1" y="33"/>
                  </a:lnTo>
                  <a:lnTo>
                    <a:pt x="3" y="35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3" y="29"/>
                  </a:lnTo>
                  <a:lnTo>
                    <a:pt x="4" y="27"/>
                  </a:lnTo>
                  <a:lnTo>
                    <a:pt x="6" y="26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40" y="11"/>
                  </a:lnTo>
                  <a:lnTo>
                    <a:pt x="43" y="9"/>
                  </a:lnTo>
                  <a:lnTo>
                    <a:pt x="47" y="8"/>
                  </a:lnTo>
                  <a:lnTo>
                    <a:pt x="49" y="7"/>
                  </a:lnTo>
                  <a:lnTo>
                    <a:pt x="53" y="6"/>
                  </a:lnTo>
                  <a:lnTo>
                    <a:pt x="57" y="6"/>
                  </a:lnTo>
                  <a:lnTo>
                    <a:pt x="59" y="5"/>
                  </a:lnTo>
                  <a:lnTo>
                    <a:pt x="63" y="3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075200" y="4890960"/>
              <a:ext cx="30240" cy="14400"/>
            </a:xfrm>
            <a:custGeom>
              <a:avLst/>
              <a:gdLst/>
              <a:ahLst/>
              <a:rect l="l" t="t" r="r" b="b"/>
              <a:pathLst>
                <a:path w="73" h="35">
                  <a:moveTo>
                    <a:pt x="73" y="1"/>
                  </a:moveTo>
                  <a:lnTo>
                    <a:pt x="72" y="1"/>
                  </a:lnTo>
                  <a:lnTo>
                    <a:pt x="71" y="1"/>
                  </a:lnTo>
                  <a:lnTo>
                    <a:pt x="70" y="2"/>
                  </a:lnTo>
                  <a:lnTo>
                    <a:pt x="67" y="2"/>
                  </a:lnTo>
                  <a:lnTo>
                    <a:pt x="65" y="3"/>
                  </a:lnTo>
                  <a:lnTo>
                    <a:pt x="63" y="5"/>
                  </a:lnTo>
                  <a:lnTo>
                    <a:pt x="60" y="6"/>
                  </a:lnTo>
                  <a:lnTo>
                    <a:pt x="57" y="6"/>
                  </a:lnTo>
                  <a:lnTo>
                    <a:pt x="54" y="7"/>
                  </a:lnTo>
                  <a:lnTo>
                    <a:pt x="51" y="8"/>
                  </a:lnTo>
                  <a:lnTo>
                    <a:pt x="48" y="9"/>
                  </a:lnTo>
                  <a:lnTo>
                    <a:pt x="45" y="11"/>
                  </a:lnTo>
                  <a:lnTo>
                    <a:pt x="41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1" y="20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4" y="30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1" y="33"/>
                  </a:lnTo>
                  <a:lnTo>
                    <a:pt x="3" y="35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3" y="29"/>
                  </a:lnTo>
                  <a:lnTo>
                    <a:pt x="4" y="27"/>
                  </a:lnTo>
                  <a:lnTo>
                    <a:pt x="6" y="26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40" y="11"/>
                  </a:lnTo>
                  <a:lnTo>
                    <a:pt x="43" y="9"/>
                  </a:lnTo>
                  <a:lnTo>
                    <a:pt x="47" y="8"/>
                  </a:lnTo>
                  <a:lnTo>
                    <a:pt x="49" y="7"/>
                  </a:lnTo>
                  <a:lnTo>
                    <a:pt x="53" y="6"/>
                  </a:lnTo>
                  <a:lnTo>
                    <a:pt x="57" y="6"/>
                  </a:lnTo>
                  <a:lnTo>
                    <a:pt x="59" y="5"/>
                  </a:lnTo>
                  <a:lnTo>
                    <a:pt x="63" y="3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3" y="1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076640" y="4905360"/>
              <a:ext cx="668520" cy="514440"/>
            </a:xfrm>
            <a:custGeom>
              <a:avLst/>
              <a:gdLst/>
              <a:ahLst/>
              <a:rect l="l" t="t" r="r" b="b"/>
              <a:pathLst>
                <a:path w="1686" h="1298">
                  <a:moveTo>
                    <a:pt x="2" y="0"/>
                  </a:moveTo>
                  <a:lnTo>
                    <a:pt x="83" y="104"/>
                  </a:lnTo>
                  <a:lnTo>
                    <a:pt x="165" y="202"/>
                  </a:lnTo>
                  <a:lnTo>
                    <a:pt x="245" y="295"/>
                  </a:lnTo>
                  <a:lnTo>
                    <a:pt x="326" y="382"/>
                  </a:lnTo>
                  <a:lnTo>
                    <a:pt x="405" y="465"/>
                  </a:lnTo>
                  <a:lnTo>
                    <a:pt x="483" y="543"/>
                  </a:lnTo>
                  <a:lnTo>
                    <a:pt x="560" y="615"/>
                  </a:lnTo>
                  <a:lnTo>
                    <a:pt x="634" y="683"/>
                  </a:lnTo>
                  <a:lnTo>
                    <a:pt x="710" y="747"/>
                  </a:lnTo>
                  <a:lnTo>
                    <a:pt x="780" y="806"/>
                  </a:lnTo>
                  <a:lnTo>
                    <a:pt x="851" y="861"/>
                  </a:lnTo>
                  <a:lnTo>
                    <a:pt x="921" y="911"/>
                  </a:lnTo>
                  <a:lnTo>
                    <a:pt x="987" y="958"/>
                  </a:lnTo>
                  <a:lnTo>
                    <a:pt x="1052" y="1000"/>
                  </a:lnTo>
                  <a:lnTo>
                    <a:pt x="1113" y="1040"/>
                  </a:lnTo>
                  <a:lnTo>
                    <a:pt x="1173" y="1076"/>
                  </a:lnTo>
                  <a:lnTo>
                    <a:pt x="1229" y="1109"/>
                  </a:lnTo>
                  <a:lnTo>
                    <a:pt x="1283" y="1137"/>
                  </a:lnTo>
                  <a:lnTo>
                    <a:pt x="1335" y="1164"/>
                  </a:lnTo>
                  <a:lnTo>
                    <a:pt x="1384" y="1187"/>
                  </a:lnTo>
                  <a:lnTo>
                    <a:pt x="1428" y="1208"/>
                  </a:lnTo>
                  <a:lnTo>
                    <a:pt x="1472" y="1226"/>
                  </a:lnTo>
                  <a:lnTo>
                    <a:pt x="1510" y="1241"/>
                  </a:lnTo>
                  <a:lnTo>
                    <a:pt x="1546" y="1254"/>
                  </a:lnTo>
                  <a:lnTo>
                    <a:pt x="1577" y="1266"/>
                  </a:lnTo>
                  <a:lnTo>
                    <a:pt x="1605" y="1275"/>
                  </a:lnTo>
                  <a:lnTo>
                    <a:pt x="1629" y="1282"/>
                  </a:lnTo>
                  <a:lnTo>
                    <a:pt x="1649" y="1288"/>
                  </a:lnTo>
                  <a:lnTo>
                    <a:pt x="1665" y="1293"/>
                  </a:lnTo>
                  <a:lnTo>
                    <a:pt x="1676" y="1295"/>
                  </a:lnTo>
                  <a:lnTo>
                    <a:pt x="1683" y="1296"/>
                  </a:lnTo>
                  <a:lnTo>
                    <a:pt x="1685" y="1298"/>
                  </a:lnTo>
                  <a:lnTo>
                    <a:pt x="1686" y="1298"/>
                  </a:lnTo>
                  <a:lnTo>
                    <a:pt x="1685" y="1298"/>
                  </a:lnTo>
                  <a:lnTo>
                    <a:pt x="1685" y="1298"/>
                  </a:lnTo>
                  <a:lnTo>
                    <a:pt x="1683" y="1298"/>
                  </a:lnTo>
                  <a:lnTo>
                    <a:pt x="1676" y="1296"/>
                  </a:lnTo>
                  <a:lnTo>
                    <a:pt x="1664" y="1293"/>
                  </a:lnTo>
                  <a:lnTo>
                    <a:pt x="1648" y="1289"/>
                  </a:lnTo>
                  <a:lnTo>
                    <a:pt x="1628" y="1283"/>
                  </a:lnTo>
                  <a:lnTo>
                    <a:pt x="1605" y="1276"/>
                  </a:lnTo>
                  <a:lnTo>
                    <a:pt x="1576" y="1266"/>
                  </a:lnTo>
                  <a:lnTo>
                    <a:pt x="1545" y="1256"/>
                  </a:lnTo>
                  <a:lnTo>
                    <a:pt x="1510" y="1242"/>
                  </a:lnTo>
                  <a:lnTo>
                    <a:pt x="1470" y="1227"/>
                  </a:lnTo>
                  <a:lnTo>
                    <a:pt x="1428" y="1209"/>
                  </a:lnTo>
                  <a:lnTo>
                    <a:pt x="1383" y="1188"/>
                  </a:lnTo>
                  <a:lnTo>
                    <a:pt x="1335" y="1164"/>
                  </a:lnTo>
                  <a:lnTo>
                    <a:pt x="1282" y="1138"/>
                  </a:lnTo>
                  <a:lnTo>
                    <a:pt x="1229" y="1109"/>
                  </a:lnTo>
                  <a:lnTo>
                    <a:pt x="1172" y="1077"/>
                  </a:lnTo>
                  <a:lnTo>
                    <a:pt x="1112" y="1041"/>
                  </a:lnTo>
                  <a:lnTo>
                    <a:pt x="1049" y="1001"/>
                  </a:lnTo>
                  <a:lnTo>
                    <a:pt x="986" y="959"/>
                  </a:lnTo>
                  <a:lnTo>
                    <a:pt x="918" y="913"/>
                  </a:lnTo>
                  <a:lnTo>
                    <a:pt x="850" y="861"/>
                  </a:lnTo>
                  <a:lnTo>
                    <a:pt x="779" y="806"/>
                  </a:lnTo>
                  <a:lnTo>
                    <a:pt x="707" y="747"/>
                  </a:lnTo>
                  <a:lnTo>
                    <a:pt x="634" y="685"/>
                  </a:lnTo>
                  <a:lnTo>
                    <a:pt x="558" y="616"/>
                  </a:lnTo>
                  <a:lnTo>
                    <a:pt x="480" y="543"/>
                  </a:lnTo>
                  <a:lnTo>
                    <a:pt x="404" y="466"/>
                  </a:lnTo>
                  <a:lnTo>
                    <a:pt x="324" y="383"/>
                  </a:lnTo>
                  <a:lnTo>
                    <a:pt x="244" y="296"/>
                  </a:lnTo>
                  <a:lnTo>
                    <a:pt x="164" y="202"/>
                  </a:lnTo>
                  <a:lnTo>
                    <a:pt x="82" y="104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076640" y="4905360"/>
              <a:ext cx="668520" cy="514440"/>
            </a:xfrm>
            <a:custGeom>
              <a:avLst/>
              <a:gdLst/>
              <a:ahLst/>
              <a:rect l="l" t="t" r="r" b="b"/>
              <a:pathLst>
                <a:path w="1686" h="1298">
                  <a:moveTo>
                    <a:pt x="2" y="0"/>
                  </a:moveTo>
                  <a:lnTo>
                    <a:pt x="83" y="104"/>
                  </a:lnTo>
                  <a:lnTo>
                    <a:pt x="165" y="202"/>
                  </a:lnTo>
                  <a:lnTo>
                    <a:pt x="245" y="295"/>
                  </a:lnTo>
                  <a:lnTo>
                    <a:pt x="326" y="382"/>
                  </a:lnTo>
                  <a:lnTo>
                    <a:pt x="405" y="465"/>
                  </a:lnTo>
                  <a:lnTo>
                    <a:pt x="483" y="543"/>
                  </a:lnTo>
                  <a:lnTo>
                    <a:pt x="560" y="615"/>
                  </a:lnTo>
                  <a:lnTo>
                    <a:pt x="634" y="683"/>
                  </a:lnTo>
                  <a:lnTo>
                    <a:pt x="710" y="747"/>
                  </a:lnTo>
                  <a:lnTo>
                    <a:pt x="780" y="806"/>
                  </a:lnTo>
                  <a:lnTo>
                    <a:pt x="851" y="861"/>
                  </a:lnTo>
                  <a:lnTo>
                    <a:pt x="921" y="911"/>
                  </a:lnTo>
                  <a:lnTo>
                    <a:pt x="987" y="958"/>
                  </a:lnTo>
                  <a:lnTo>
                    <a:pt x="1052" y="1000"/>
                  </a:lnTo>
                  <a:lnTo>
                    <a:pt x="1113" y="1040"/>
                  </a:lnTo>
                  <a:lnTo>
                    <a:pt x="1173" y="1076"/>
                  </a:lnTo>
                  <a:lnTo>
                    <a:pt x="1229" y="1109"/>
                  </a:lnTo>
                  <a:lnTo>
                    <a:pt x="1283" y="1137"/>
                  </a:lnTo>
                  <a:lnTo>
                    <a:pt x="1335" y="1164"/>
                  </a:lnTo>
                  <a:lnTo>
                    <a:pt x="1384" y="1187"/>
                  </a:lnTo>
                  <a:lnTo>
                    <a:pt x="1428" y="1208"/>
                  </a:lnTo>
                  <a:lnTo>
                    <a:pt x="1472" y="1226"/>
                  </a:lnTo>
                  <a:lnTo>
                    <a:pt x="1510" y="1241"/>
                  </a:lnTo>
                  <a:lnTo>
                    <a:pt x="1546" y="1254"/>
                  </a:lnTo>
                  <a:lnTo>
                    <a:pt x="1577" y="1266"/>
                  </a:lnTo>
                  <a:lnTo>
                    <a:pt x="1605" y="1275"/>
                  </a:lnTo>
                  <a:lnTo>
                    <a:pt x="1629" y="1282"/>
                  </a:lnTo>
                  <a:lnTo>
                    <a:pt x="1649" y="1288"/>
                  </a:lnTo>
                  <a:lnTo>
                    <a:pt x="1665" y="1293"/>
                  </a:lnTo>
                  <a:lnTo>
                    <a:pt x="1676" y="1295"/>
                  </a:lnTo>
                  <a:lnTo>
                    <a:pt x="1683" y="1296"/>
                  </a:lnTo>
                  <a:lnTo>
                    <a:pt x="1685" y="1298"/>
                  </a:lnTo>
                  <a:lnTo>
                    <a:pt x="1686" y="1298"/>
                  </a:lnTo>
                  <a:lnTo>
                    <a:pt x="1685" y="1298"/>
                  </a:lnTo>
                  <a:lnTo>
                    <a:pt x="1685" y="1298"/>
                  </a:lnTo>
                  <a:lnTo>
                    <a:pt x="1683" y="1298"/>
                  </a:lnTo>
                  <a:lnTo>
                    <a:pt x="1676" y="1296"/>
                  </a:lnTo>
                  <a:lnTo>
                    <a:pt x="1664" y="1293"/>
                  </a:lnTo>
                  <a:lnTo>
                    <a:pt x="1648" y="1289"/>
                  </a:lnTo>
                  <a:lnTo>
                    <a:pt x="1628" y="1283"/>
                  </a:lnTo>
                  <a:lnTo>
                    <a:pt x="1605" y="1276"/>
                  </a:lnTo>
                  <a:lnTo>
                    <a:pt x="1576" y="1266"/>
                  </a:lnTo>
                  <a:lnTo>
                    <a:pt x="1545" y="1256"/>
                  </a:lnTo>
                  <a:lnTo>
                    <a:pt x="1510" y="1242"/>
                  </a:lnTo>
                  <a:lnTo>
                    <a:pt x="1470" y="1227"/>
                  </a:lnTo>
                  <a:lnTo>
                    <a:pt x="1428" y="1209"/>
                  </a:lnTo>
                  <a:lnTo>
                    <a:pt x="1383" y="1188"/>
                  </a:lnTo>
                  <a:lnTo>
                    <a:pt x="1335" y="1164"/>
                  </a:lnTo>
                  <a:lnTo>
                    <a:pt x="1282" y="1138"/>
                  </a:lnTo>
                  <a:lnTo>
                    <a:pt x="1229" y="1109"/>
                  </a:lnTo>
                  <a:lnTo>
                    <a:pt x="1172" y="1077"/>
                  </a:lnTo>
                  <a:lnTo>
                    <a:pt x="1112" y="1041"/>
                  </a:lnTo>
                  <a:lnTo>
                    <a:pt x="1049" y="1001"/>
                  </a:lnTo>
                  <a:lnTo>
                    <a:pt x="986" y="959"/>
                  </a:lnTo>
                  <a:lnTo>
                    <a:pt x="918" y="913"/>
                  </a:lnTo>
                  <a:lnTo>
                    <a:pt x="850" y="861"/>
                  </a:lnTo>
                  <a:lnTo>
                    <a:pt x="779" y="806"/>
                  </a:lnTo>
                  <a:lnTo>
                    <a:pt x="707" y="747"/>
                  </a:lnTo>
                  <a:lnTo>
                    <a:pt x="634" y="685"/>
                  </a:lnTo>
                  <a:lnTo>
                    <a:pt x="558" y="616"/>
                  </a:lnTo>
                  <a:lnTo>
                    <a:pt x="480" y="543"/>
                  </a:lnTo>
                  <a:lnTo>
                    <a:pt x="404" y="466"/>
                  </a:lnTo>
                  <a:lnTo>
                    <a:pt x="324" y="383"/>
                  </a:lnTo>
                  <a:lnTo>
                    <a:pt x="244" y="296"/>
                  </a:lnTo>
                  <a:lnTo>
                    <a:pt x="164" y="202"/>
                  </a:lnTo>
                  <a:lnTo>
                    <a:pt x="82" y="104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029120" y="4925880"/>
              <a:ext cx="716040" cy="493920"/>
            </a:xfrm>
            <a:custGeom>
              <a:avLst/>
              <a:gdLst/>
              <a:ahLst/>
              <a:rect l="l" t="t" r="r" b="b"/>
              <a:pathLst>
                <a:path w="1803" h="1244">
                  <a:moveTo>
                    <a:pt x="1803" y="1242"/>
                  </a:moveTo>
                  <a:lnTo>
                    <a:pt x="1803" y="1244"/>
                  </a:lnTo>
                  <a:lnTo>
                    <a:pt x="1801" y="1244"/>
                  </a:lnTo>
                  <a:lnTo>
                    <a:pt x="1792" y="1241"/>
                  </a:lnTo>
                  <a:lnTo>
                    <a:pt x="1782" y="1239"/>
                  </a:lnTo>
                  <a:lnTo>
                    <a:pt x="1765" y="1235"/>
                  </a:lnTo>
                  <a:lnTo>
                    <a:pt x="1744" y="1229"/>
                  </a:lnTo>
                  <a:lnTo>
                    <a:pt x="1719" y="1221"/>
                  </a:lnTo>
                  <a:lnTo>
                    <a:pt x="1690" y="1212"/>
                  </a:lnTo>
                  <a:lnTo>
                    <a:pt x="1658" y="1202"/>
                  </a:lnTo>
                  <a:lnTo>
                    <a:pt x="1621" y="1187"/>
                  </a:lnTo>
                  <a:lnTo>
                    <a:pt x="1581" y="1172"/>
                  </a:lnTo>
                  <a:lnTo>
                    <a:pt x="1537" y="1155"/>
                  </a:lnTo>
                  <a:lnTo>
                    <a:pt x="1490" y="1134"/>
                  </a:lnTo>
                  <a:lnTo>
                    <a:pt x="1438" y="1112"/>
                  </a:lnTo>
                  <a:lnTo>
                    <a:pt x="1384" y="1086"/>
                  </a:lnTo>
                  <a:lnTo>
                    <a:pt x="1327" y="1058"/>
                  </a:lnTo>
                  <a:lnTo>
                    <a:pt x="1268" y="1026"/>
                  </a:lnTo>
                  <a:lnTo>
                    <a:pt x="1204" y="992"/>
                  </a:lnTo>
                  <a:lnTo>
                    <a:pt x="1138" y="953"/>
                  </a:lnTo>
                  <a:lnTo>
                    <a:pt x="1070" y="913"/>
                  </a:lnTo>
                  <a:lnTo>
                    <a:pt x="999" y="867"/>
                  </a:lnTo>
                  <a:lnTo>
                    <a:pt x="926" y="818"/>
                  </a:lnTo>
                  <a:lnTo>
                    <a:pt x="850" y="766"/>
                  </a:lnTo>
                  <a:lnTo>
                    <a:pt x="772" y="710"/>
                  </a:lnTo>
                  <a:lnTo>
                    <a:pt x="693" y="649"/>
                  </a:lnTo>
                  <a:lnTo>
                    <a:pt x="612" y="584"/>
                  </a:lnTo>
                  <a:lnTo>
                    <a:pt x="529" y="515"/>
                  </a:lnTo>
                  <a:lnTo>
                    <a:pt x="444" y="441"/>
                  </a:lnTo>
                  <a:lnTo>
                    <a:pt x="357" y="363"/>
                  </a:lnTo>
                  <a:lnTo>
                    <a:pt x="270" y="280"/>
                  </a:lnTo>
                  <a:lnTo>
                    <a:pt x="181" y="192"/>
                  </a:lnTo>
                  <a:lnTo>
                    <a:pt x="91" y="99"/>
                  </a:lnTo>
                  <a:lnTo>
                    <a:pt x="0" y="1"/>
                  </a:lnTo>
                  <a:lnTo>
                    <a:pt x="1" y="0"/>
                  </a:lnTo>
                  <a:lnTo>
                    <a:pt x="91" y="98"/>
                  </a:lnTo>
                  <a:lnTo>
                    <a:pt x="182" y="192"/>
                  </a:lnTo>
                  <a:lnTo>
                    <a:pt x="271" y="279"/>
                  </a:lnTo>
                  <a:lnTo>
                    <a:pt x="358" y="362"/>
                  </a:lnTo>
                  <a:lnTo>
                    <a:pt x="444" y="441"/>
                  </a:lnTo>
                  <a:lnTo>
                    <a:pt x="530" y="514"/>
                  </a:lnTo>
                  <a:lnTo>
                    <a:pt x="613" y="584"/>
                  </a:lnTo>
                  <a:lnTo>
                    <a:pt x="694" y="649"/>
                  </a:lnTo>
                  <a:lnTo>
                    <a:pt x="774" y="709"/>
                  </a:lnTo>
                  <a:lnTo>
                    <a:pt x="852" y="766"/>
                  </a:lnTo>
                  <a:lnTo>
                    <a:pt x="926" y="818"/>
                  </a:lnTo>
                  <a:lnTo>
                    <a:pt x="1000" y="867"/>
                  </a:lnTo>
                  <a:lnTo>
                    <a:pt x="1071" y="911"/>
                  </a:lnTo>
                  <a:lnTo>
                    <a:pt x="1138" y="952"/>
                  </a:lnTo>
                  <a:lnTo>
                    <a:pt x="1204" y="990"/>
                  </a:lnTo>
                  <a:lnTo>
                    <a:pt x="1269" y="1025"/>
                  </a:lnTo>
                  <a:lnTo>
                    <a:pt x="1328" y="1056"/>
                  </a:lnTo>
                  <a:lnTo>
                    <a:pt x="1386" y="1085"/>
                  </a:lnTo>
                  <a:lnTo>
                    <a:pt x="1438" y="1110"/>
                  </a:lnTo>
                  <a:lnTo>
                    <a:pt x="1490" y="1133"/>
                  </a:lnTo>
                  <a:lnTo>
                    <a:pt x="1537" y="1154"/>
                  </a:lnTo>
                  <a:lnTo>
                    <a:pt x="1581" y="1172"/>
                  </a:lnTo>
                  <a:lnTo>
                    <a:pt x="1622" y="1187"/>
                  </a:lnTo>
                  <a:lnTo>
                    <a:pt x="1659" y="1200"/>
                  </a:lnTo>
                  <a:lnTo>
                    <a:pt x="1693" y="1211"/>
                  </a:lnTo>
                  <a:lnTo>
                    <a:pt x="1720" y="1221"/>
                  </a:lnTo>
                  <a:lnTo>
                    <a:pt x="1744" y="1228"/>
                  </a:lnTo>
                  <a:lnTo>
                    <a:pt x="1766" y="1234"/>
                  </a:lnTo>
                  <a:lnTo>
                    <a:pt x="1782" y="1238"/>
                  </a:lnTo>
                  <a:lnTo>
                    <a:pt x="1794" y="1241"/>
                  </a:lnTo>
                  <a:lnTo>
                    <a:pt x="1801" y="1242"/>
                  </a:lnTo>
                  <a:lnTo>
                    <a:pt x="1803" y="1244"/>
                  </a:lnTo>
                  <a:lnTo>
                    <a:pt x="1802" y="1244"/>
                  </a:lnTo>
                  <a:lnTo>
                    <a:pt x="1803" y="1242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029120" y="4925880"/>
              <a:ext cx="716040" cy="493920"/>
            </a:xfrm>
            <a:custGeom>
              <a:avLst/>
              <a:gdLst/>
              <a:ahLst/>
              <a:rect l="l" t="t" r="r" b="b"/>
              <a:pathLst>
                <a:path w="1803" h="1244">
                  <a:moveTo>
                    <a:pt x="1803" y="1242"/>
                  </a:moveTo>
                  <a:lnTo>
                    <a:pt x="1803" y="1244"/>
                  </a:lnTo>
                  <a:lnTo>
                    <a:pt x="1801" y="1244"/>
                  </a:lnTo>
                  <a:lnTo>
                    <a:pt x="1792" y="1241"/>
                  </a:lnTo>
                  <a:lnTo>
                    <a:pt x="1782" y="1239"/>
                  </a:lnTo>
                  <a:lnTo>
                    <a:pt x="1765" y="1235"/>
                  </a:lnTo>
                  <a:lnTo>
                    <a:pt x="1744" y="1229"/>
                  </a:lnTo>
                  <a:lnTo>
                    <a:pt x="1719" y="1221"/>
                  </a:lnTo>
                  <a:lnTo>
                    <a:pt x="1690" y="1212"/>
                  </a:lnTo>
                  <a:lnTo>
                    <a:pt x="1658" y="1202"/>
                  </a:lnTo>
                  <a:lnTo>
                    <a:pt x="1621" y="1187"/>
                  </a:lnTo>
                  <a:lnTo>
                    <a:pt x="1581" y="1172"/>
                  </a:lnTo>
                  <a:lnTo>
                    <a:pt x="1537" y="1155"/>
                  </a:lnTo>
                  <a:lnTo>
                    <a:pt x="1490" y="1134"/>
                  </a:lnTo>
                  <a:lnTo>
                    <a:pt x="1438" y="1112"/>
                  </a:lnTo>
                  <a:lnTo>
                    <a:pt x="1384" y="1086"/>
                  </a:lnTo>
                  <a:lnTo>
                    <a:pt x="1327" y="1058"/>
                  </a:lnTo>
                  <a:lnTo>
                    <a:pt x="1268" y="1026"/>
                  </a:lnTo>
                  <a:lnTo>
                    <a:pt x="1204" y="992"/>
                  </a:lnTo>
                  <a:lnTo>
                    <a:pt x="1138" y="953"/>
                  </a:lnTo>
                  <a:lnTo>
                    <a:pt x="1070" y="913"/>
                  </a:lnTo>
                  <a:lnTo>
                    <a:pt x="999" y="867"/>
                  </a:lnTo>
                  <a:lnTo>
                    <a:pt x="926" y="818"/>
                  </a:lnTo>
                  <a:lnTo>
                    <a:pt x="850" y="766"/>
                  </a:lnTo>
                  <a:lnTo>
                    <a:pt x="772" y="710"/>
                  </a:lnTo>
                  <a:lnTo>
                    <a:pt x="693" y="649"/>
                  </a:lnTo>
                  <a:lnTo>
                    <a:pt x="612" y="584"/>
                  </a:lnTo>
                  <a:lnTo>
                    <a:pt x="529" y="515"/>
                  </a:lnTo>
                  <a:lnTo>
                    <a:pt x="444" y="441"/>
                  </a:lnTo>
                  <a:lnTo>
                    <a:pt x="357" y="363"/>
                  </a:lnTo>
                  <a:lnTo>
                    <a:pt x="270" y="280"/>
                  </a:lnTo>
                  <a:lnTo>
                    <a:pt x="181" y="192"/>
                  </a:lnTo>
                  <a:lnTo>
                    <a:pt x="91" y="99"/>
                  </a:lnTo>
                  <a:lnTo>
                    <a:pt x="0" y="1"/>
                  </a:lnTo>
                  <a:lnTo>
                    <a:pt x="1" y="0"/>
                  </a:lnTo>
                  <a:lnTo>
                    <a:pt x="91" y="98"/>
                  </a:lnTo>
                  <a:lnTo>
                    <a:pt x="182" y="192"/>
                  </a:lnTo>
                  <a:lnTo>
                    <a:pt x="271" y="279"/>
                  </a:lnTo>
                  <a:lnTo>
                    <a:pt x="358" y="362"/>
                  </a:lnTo>
                  <a:lnTo>
                    <a:pt x="444" y="441"/>
                  </a:lnTo>
                  <a:lnTo>
                    <a:pt x="530" y="514"/>
                  </a:lnTo>
                  <a:lnTo>
                    <a:pt x="613" y="584"/>
                  </a:lnTo>
                  <a:lnTo>
                    <a:pt x="694" y="649"/>
                  </a:lnTo>
                  <a:lnTo>
                    <a:pt x="774" y="709"/>
                  </a:lnTo>
                  <a:lnTo>
                    <a:pt x="852" y="766"/>
                  </a:lnTo>
                  <a:lnTo>
                    <a:pt x="926" y="818"/>
                  </a:lnTo>
                  <a:lnTo>
                    <a:pt x="1000" y="867"/>
                  </a:lnTo>
                  <a:lnTo>
                    <a:pt x="1071" y="911"/>
                  </a:lnTo>
                  <a:lnTo>
                    <a:pt x="1138" y="952"/>
                  </a:lnTo>
                  <a:lnTo>
                    <a:pt x="1204" y="990"/>
                  </a:lnTo>
                  <a:lnTo>
                    <a:pt x="1269" y="1025"/>
                  </a:lnTo>
                  <a:lnTo>
                    <a:pt x="1328" y="1056"/>
                  </a:lnTo>
                  <a:lnTo>
                    <a:pt x="1386" y="1085"/>
                  </a:lnTo>
                  <a:lnTo>
                    <a:pt x="1438" y="1110"/>
                  </a:lnTo>
                  <a:lnTo>
                    <a:pt x="1490" y="1133"/>
                  </a:lnTo>
                  <a:lnTo>
                    <a:pt x="1537" y="1154"/>
                  </a:lnTo>
                  <a:lnTo>
                    <a:pt x="1581" y="1172"/>
                  </a:lnTo>
                  <a:lnTo>
                    <a:pt x="1622" y="1187"/>
                  </a:lnTo>
                  <a:lnTo>
                    <a:pt x="1659" y="1200"/>
                  </a:lnTo>
                  <a:lnTo>
                    <a:pt x="1693" y="1211"/>
                  </a:lnTo>
                  <a:lnTo>
                    <a:pt x="1720" y="1221"/>
                  </a:lnTo>
                  <a:lnTo>
                    <a:pt x="1744" y="1228"/>
                  </a:lnTo>
                  <a:lnTo>
                    <a:pt x="1766" y="1234"/>
                  </a:lnTo>
                  <a:lnTo>
                    <a:pt x="1782" y="1238"/>
                  </a:lnTo>
                  <a:lnTo>
                    <a:pt x="1794" y="1241"/>
                  </a:lnTo>
                  <a:lnTo>
                    <a:pt x="1801" y="1242"/>
                  </a:lnTo>
                  <a:lnTo>
                    <a:pt x="1803" y="1244"/>
                  </a:lnTo>
                  <a:lnTo>
                    <a:pt x="1802" y="1244"/>
                  </a:lnTo>
                  <a:lnTo>
                    <a:pt x="1803" y="1242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419640" y="3397320"/>
              <a:ext cx="826920" cy="549360"/>
            </a:xfrm>
            <a:custGeom>
              <a:avLst/>
              <a:gdLst/>
              <a:ahLst/>
              <a:rect l="l" t="t" r="r" b="b"/>
              <a:pathLst>
                <a:path w="2083" h="1382">
                  <a:moveTo>
                    <a:pt x="124" y="1291"/>
                  </a:moveTo>
                  <a:lnTo>
                    <a:pt x="123" y="1382"/>
                  </a:lnTo>
                  <a:lnTo>
                    <a:pt x="0" y="1248"/>
                  </a:lnTo>
                  <a:lnTo>
                    <a:pt x="138" y="1017"/>
                  </a:lnTo>
                  <a:lnTo>
                    <a:pt x="132" y="1071"/>
                  </a:lnTo>
                  <a:lnTo>
                    <a:pt x="129" y="1105"/>
                  </a:lnTo>
                  <a:lnTo>
                    <a:pt x="130" y="1116"/>
                  </a:lnTo>
                  <a:lnTo>
                    <a:pt x="134" y="1120"/>
                  </a:lnTo>
                  <a:lnTo>
                    <a:pt x="265" y="1092"/>
                  </a:lnTo>
                  <a:lnTo>
                    <a:pt x="390" y="1059"/>
                  </a:lnTo>
                  <a:lnTo>
                    <a:pt x="511" y="1026"/>
                  </a:lnTo>
                  <a:lnTo>
                    <a:pt x="626" y="988"/>
                  </a:lnTo>
                  <a:lnTo>
                    <a:pt x="736" y="949"/>
                  </a:lnTo>
                  <a:lnTo>
                    <a:pt x="842" y="909"/>
                  </a:lnTo>
                  <a:lnTo>
                    <a:pt x="942" y="867"/>
                  </a:lnTo>
                  <a:lnTo>
                    <a:pt x="1038" y="823"/>
                  </a:lnTo>
                  <a:lnTo>
                    <a:pt x="1130" y="778"/>
                  </a:lnTo>
                  <a:lnTo>
                    <a:pt x="1216" y="731"/>
                  </a:lnTo>
                  <a:lnTo>
                    <a:pt x="1375" y="640"/>
                  </a:lnTo>
                  <a:lnTo>
                    <a:pt x="1516" y="545"/>
                  </a:lnTo>
                  <a:lnTo>
                    <a:pt x="1641" y="453"/>
                  </a:lnTo>
                  <a:lnTo>
                    <a:pt x="1749" y="363"/>
                  </a:lnTo>
                  <a:lnTo>
                    <a:pt x="1842" y="279"/>
                  </a:lnTo>
                  <a:lnTo>
                    <a:pt x="1917" y="201"/>
                  </a:lnTo>
                  <a:lnTo>
                    <a:pt x="1978" y="135"/>
                  </a:lnTo>
                  <a:lnTo>
                    <a:pt x="2025" y="78"/>
                  </a:lnTo>
                  <a:lnTo>
                    <a:pt x="2059" y="35"/>
                  </a:lnTo>
                  <a:lnTo>
                    <a:pt x="2083" y="0"/>
                  </a:lnTo>
                  <a:lnTo>
                    <a:pt x="2056" y="38"/>
                  </a:lnTo>
                  <a:lnTo>
                    <a:pt x="2024" y="82"/>
                  </a:lnTo>
                  <a:lnTo>
                    <a:pt x="1976" y="140"/>
                  </a:lnTo>
                  <a:lnTo>
                    <a:pt x="1914" y="210"/>
                  </a:lnTo>
                  <a:lnTo>
                    <a:pt x="1837" y="292"/>
                  </a:lnTo>
                  <a:lnTo>
                    <a:pt x="1742" y="382"/>
                  </a:lnTo>
                  <a:lnTo>
                    <a:pt x="1635" y="480"/>
                  </a:lnTo>
                  <a:lnTo>
                    <a:pt x="1510" y="581"/>
                  </a:lnTo>
                  <a:lnTo>
                    <a:pt x="1366" y="688"/>
                  </a:lnTo>
                  <a:lnTo>
                    <a:pt x="1287" y="741"/>
                  </a:lnTo>
                  <a:lnTo>
                    <a:pt x="1206" y="796"/>
                  </a:lnTo>
                  <a:lnTo>
                    <a:pt x="1119" y="849"/>
                  </a:lnTo>
                  <a:lnTo>
                    <a:pt x="1028" y="903"/>
                  </a:lnTo>
                  <a:lnTo>
                    <a:pt x="932" y="955"/>
                  </a:lnTo>
                  <a:lnTo>
                    <a:pt x="831" y="1008"/>
                  </a:lnTo>
                  <a:lnTo>
                    <a:pt x="726" y="1060"/>
                  </a:lnTo>
                  <a:lnTo>
                    <a:pt x="615" y="1108"/>
                  </a:lnTo>
                  <a:lnTo>
                    <a:pt x="500" y="1157"/>
                  </a:lnTo>
                  <a:lnTo>
                    <a:pt x="380" y="1202"/>
                  </a:lnTo>
                  <a:lnTo>
                    <a:pt x="255" y="1248"/>
                  </a:lnTo>
                  <a:lnTo>
                    <a:pt x="124" y="1291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419640" y="3397320"/>
              <a:ext cx="826920" cy="549360"/>
            </a:xfrm>
            <a:custGeom>
              <a:avLst/>
              <a:gdLst/>
              <a:ahLst/>
              <a:rect l="l" t="t" r="r" b="b"/>
              <a:pathLst>
                <a:path w="2083" h="1382">
                  <a:moveTo>
                    <a:pt x="124" y="1291"/>
                  </a:moveTo>
                  <a:lnTo>
                    <a:pt x="123" y="1382"/>
                  </a:lnTo>
                  <a:lnTo>
                    <a:pt x="0" y="1248"/>
                  </a:lnTo>
                  <a:lnTo>
                    <a:pt x="138" y="1017"/>
                  </a:lnTo>
                  <a:lnTo>
                    <a:pt x="132" y="1071"/>
                  </a:lnTo>
                  <a:lnTo>
                    <a:pt x="129" y="1105"/>
                  </a:lnTo>
                  <a:lnTo>
                    <a:pt x="130" y="1116"/>
                  </a:lnTo>
                  <a:lnTo>
                    <a:pt x="134" y="1120"/>
                  </a:lnTo>
                  <a:lnTo>
                    <a:pt x="265" y="1092"/>
                  </a:lnTo>
                  <a:lnTo>
                    <a:pt x="390" y="1059"/>
                  </a:lnTo>
                  <a:lnTo>
                    <a:pt x="511" y="1026"/>
                  </a:lnTo>
                  <a:lnTo>
                    <a:pt x="626" y="988"/>
                  </a:lnTo>
                  <a:lnTo>
                    <a:pt x="736" y="949"/>
                  </a:lnTo>
                  <a:lnTo>
                    <a:pt x="842" y="909"/>
                  </a:lnTo>
                  <a:lnTo>
                    <a:pt x="942" y="867"/>
                  </a:lnTo>
                  <a:lnTo>
                    <a:pt x="1038" y="823"/>
                  </a:lnTo>
                  <a:lnTo>
                    <a:pt x="1130" y="778"/>
                  </a:lnTo>
                  <a:lnTo>
                    <a:pt x="1216" y="731"/>
                  </a:lnTo>
                  <a:lnTo>
                    <a:pt x="1375" y="640"/>
                  </a:lnTo>
                  <a:lnTo>
                    <a:pt x="1516" y="545"/>
                  </a:lnTo>
                  <a:lnTo>
                    <a:pt x="1641" y="453"/>
                  </a:lnTo>
                  <a:lnTo>
                    <a:pt x="1749" y="363"/>
                  </a:lnTo>
                  <a:lnTo>
                    <a:pt x="1842" y="279"/>
                  </a:lnTo>
                  <a:lnTo>
                    <a:pt x="1917" y="201"/>
                  </a:lnTo>
                  <a:lnTo>
                    <a:pt x="1978" y="135"/>
                  </a:lnTo>
                  <a:lnTo>
                    <a:pt x="2025" y="78"/>
                  </a:lnTo>
                  <a:lnTo>
                    <a:pt x="2059" y="35"/>
                  </a:lnTo>
                  <a:lnTo>
                    <a:pt x="2083" y="0"/>
                  </a:lnTo>
                  <a:lnTo>
                    <a:pt x="2056" y="38"/>
                  </a:lnTo>
                  <a:lnTo>
                    <a:pt x="2024" y="82"/>
                  </a:lnTo>
                  <a:lnTo>
                    <a:pt x="1976" y="140"/>
                  </a:lnTo>
                  <a:lnTo>
                    <a:pt x="1914" y="210"/>
                  </a:lnTo>
                  <a:lnTo>
                    <a:pt x="1837" y="292"/>
                  </a:lnTo>
                  <a:lnTo>
                    <a:pt x="1742" y="382"/>
                  </a:lnTo>
                  <a:lnTo>
                    <a:pt x="1635" y="480"/>
                  </a:lnTo>
                  <a:lnTo>
                    <a:pt x="1510" y="581"/>
                  </a:lnTo>
                  <a:lnTo>
                    <a:pt x="1366" y="688"/>
                  </a:lnTo>
                  <a:lnTo>
                    <a:pt x="1287" y="741"/>
                  </a:lnTo>
                  <a:lnTo>
                    <a:pt x="1206" y="796"/>
                  </a:lnTo>
                  <a:lnTo>
                    <a:pt x="1119" y="849"/>
                  </a:lnTo>
                  <a:lnTo>
                    <a:pt x="1028" y="903"/>
                  </a:lnTo>
                  <a:lnTo>
                    <a:pt x="932" y="955"/>
                  </a:lnTo>
                  <a:lnTo>
                    <a:pt x="831" y="1008"/>
                  </a:lnTo>
                  <a:lnTo>
                    <a:pt x="726" y="1060"/>
                  </a:lnTo>
                  <a:lnTo>
                    <a:pt x="615" y="1108"/>
                  </a:lnTo>
                  <a:lnTo>
                    <a:pt x="500" y="1157"/>
                  </a:lnTo>
                  <a:lnTo>
                    <a:pt x="380" y="1202"/>
                  </a:lnTo>
                  <a:lnTo>
                    <a:pt x="255" y="1248"/>
                  </a:lnTo>
                  <a:lnTo>
                    <a:pt x="124" y="1291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419640" y="3800520"/>
              <a:ext cx="55440" cy="146160"/>
            </a:xfrm>
            <a:custGeom>
              <a:avLst/>
              <a:gdLst/>
              <a:ahLst/>
              <a:rect l="l" t="t" r="r" b="b"/>
              <a:pathLst>
                <a:path w="139" h="369">
                  <a:moveTo>
                    <a:pt x="124" y="275"/>
                  </a:moveTo>
                  <a:lnTo>
                    <a:pt x="123" y="369"/>
                  </a:lnTo>
                  <a:lnTo>
                    <a:pt x="0" y="233"/>
                  </a:lnTo>
                  <a:lnTo>
                    <a:pt x="138" y="0"/>
                  </a:lnTo>
                  <a:lnTo>
                    <a:pt x="139" y="2"/>
                  </a:lnTo>
                  <a:lnTo>
                    <a:pt x="0" y="233"/>
                  </a:lnTo>
                  <a:lnTo>
                    <a:pt x="0" y="232"/>
                  </a:lnTo>
                  <a:lnTo>
                    <a:pt x="124" y="366"/>
                  </a:lnTo>
                  <a:lnTo>
                    <a:pt x="122" y="367"/>
                  </a:lnTo>
                  <a:lnTo>
                    <a:pt x="123" y="276"/>
                  </a:lnTo>
                  <a:lnTo>
                    <a:pt x="124" y="275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419640" y="3800520"/>
              <a:ext cx="55440" cy="146160"/>
            </a:xfrm>
            <a:custGeom>
              <a:avLst/>
              <a:gdLst/>
              <a:ahLst/>
              <a:rect l="l" t="t" r="r" b="b"/>
              <a:pathLst>
                <a:path w="139" h="369">
                  <a:moveTo>
                    <a:pt x="124" y="275"/>
                  </a:moveTo>
                  <a:lnTo>
                    <a:pt x="123" y="369"/>
                  </a:lnTo>
                  <a:lnTo>
                    <a:pt x="0" y="233"/>
                  </a:lnTo>
                  <a:lnTo>
                    <a:pt x="138" y="0"/>
                  </a:lnTo>
                  <a:lnTo>
                    <a:pt x="139" y="2"/>
                  </a:lnTo>
                  <a:lnTo>
                    <a:pt x="0" y="233"/>
                  </a:lnTo>
                  <a:lnTo>
                    <a:pt x="0" y="232"/>
                  </a:lnTo>
                  <a:lnTo>
                    <a:pt x="124" y="366"/>
                  </a:lnTo>
                  <a:lnTo>
                    <a:pt x="122" y="367"/>
                  </a:lnTo>
                  <a:lnTo>
                    <a:pt x="123" y="276"/>
                  </a:lnTo>
                  <a:lnTo>
                    <a:pt x="124" y="275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470400" y="3800520"/>
              <a:ext cx="4680" cy="414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0" y="0"/>
                  </a:moveTo>
                  <a:lnTo>
                    <a:pt x="11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4" y="51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1" y="74"/>
                  </a:lnTo>
                  <a:lnTo>
                    <a:pt x="1" y="78"/>
                  </a:lnTo>
                  <a:lnTo>
                    <a:pt x="1" y="83"/>
                  </a:lnTo>
                  <a:lnTo>
                    <a:pt x="1" y="90"/>
                  </a:lnTo>
                  <a:lnTo>
                    <a:pt x="1" y="94"/>
                  </a:lnTo>
                  <a:lnTo>
                    <a:pt x="2" y="99"/>
                  </a:lnTo>
                  <a:lnTo>
                    <a:pt x="2" y="100"/>
                  </a:lnTo>
                  <a:lnTo>
                    <a:pt x="4" y="102"/>
                  </a:lnTo>
                  <a:lnTo>
                    <a:pt x="4" y="104"/>
                  </a:lnTo>
                  <a:lnTo>
                    <a:pt x="5" y="104"/>
                  </a:lnTo>
                  <a:lnTo>
                    <a:pt x="6" y="104"/>
                  </a:lnTo>
                  <a:lnTo>
                    <a:pt x="6" y="106"/>
                  </a:lnTo>
                  <a:lnTo>
                    <a:pt x="5" y="106"/>
                  </a:lnTo>
                  <a:lnTo>
                    <a:pt x="4" y="106"/>
                  </a:lnTo>
                  <a:lnTo>
                    <a:pt x="2" y="104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0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1" y="75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2" y="56"/>
                  </a:lnTo>
                  <a:lnTo>
                    <a:pt x="2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5" y="36"/>
                  </a:lnTo>
                  <a:lnTo>
                    <a:pt x="5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7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470400" y="3800520"/>
              <a:ext cx="4680" cy="414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0" y="0"/>
                  </a:moveTo>
                  <a:lnTo>
                    <a:pt x="11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4" y="51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1" y="74"/>
                  </a:lnTo>
                  <a:lnTo>
                    <a:pt x="1" y="78"/>
                  </a:lnTo>
                  <a:lnTo>
                    <a:pt x="1" y="83"/>
                  </a:lnTo>
                  <a:lnTo>
                    <a:pt x="1" y="90"/>
                  </a:lnTo>
                  <a:lnTo>
                    <a:pt x="1" y="94"/>
                  </a:lnTo>
                  <a:lnTo>
                    <a:pt x="2" y="99"/>
                  </a:lnTo>
                  <a:lnTo>
                    <a:pt x="2" y="100"/>
                  </a:lnTo>
                  <a:lnTo>
                    <a:pt x="4" y="102"/>
                  </a:lnTo>
                  <a:lnTo>
                    <a:pt x="4" y="104"/>
                  </a:lnTo>
                  <a:lnTo>
                    <a:pt x="5" y="104"/>
                  </a:lnTo>
                  <a:lnTo>
                    <a:pt x="6" y="104"/>
                  </a:lnTo>
                  <a:lnTo>
                    <a:pt x="6" y="106"/>
                  </a:lnTo>
                  <a:lnTo>
                    <a:pt x="5" y="106"/>
                  </a:lnTo>
                  <a:lnTo>
                    <a:pt x="4" y="106"/>
                  </a:lnTo>
                  <a:lnTo>
                    <a:pt x="2" y="104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0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1" y="75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2" y="56"/>
                  </a:lnTo>
                  <a:lnTo>
                    <a:pt x="2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5" y="36"/>
                  </a:lnTo>
                  <a:lnTo>
                    <a:pt x="5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7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473280" y="3397320"/>
              <a:ext cx="773280" cy="444600"/>
            </a:xfrm>
            <a:custGeom>
              <a:avLst/>
              <a:gdLst/>
              <a:ahLst/>
              <a:rect l="l" t="t" r="r" b="b"/>
              <a:pathLst>
                <a:path w="1950" h="1122">
                  <a:moveTo>
                    <a:pt x="0" y="1120"/>
                  </a:moveTo>
                  <a:lnTo>
                    <a:pt x="131" y="1092"/>
                  </a:lnTo>
                  <a:lnTo>
                    <a:pt x="256" y="1061"/>
                  </a:lnTo>
                  <a:lnTo>
                    <a:pt x="377" y="1026"/>
                  </a:lnTo>
                  <a:lnTo>
                    <a:pt x="492" y="989"/>
                  </a:lnTo>
                  <a:lnTo>
                    <a:pt x="602" y="950"/>
                  </a:lnTo>
                  <a:lnTo>
                    <a:pt x="708" y="910"/>
                  </a:lnTo>
                  <a:lnTo>
                    <a:pt x="809" y="868"/>
                  </a:lnTo>
                  <a:lnTo>
                    <a:pt x="905" y="824"/>
                  </a:lnTo>
                  <a:lnTo>
                    <a:pt x="996" y="778"/>
                  </a:lnTo>
                  <a:lnTo>
                    <a:pt x="1082" y="733"/>
                  </a:lnTo>
                  <a:lnTo>
                    <a:pt x="1164" y="686"/>
                  </a:lnTo>
                  <a:lnTo>
                    <a:pt x="1242" y="640"/>
                  </a:lnTo>
                  <a:lnTo>
                    <a:pt x="1315" y="592"/>
                  </a:lnTo>
                  <a:lnTo>
                    <a:pt x="1384" y="545"/>
                  </a:lnTo>
                  <a:lnTo>
                    <a:pt x="1447" y="499"/>
                  </a:lnTo>
                  <a:lnTo>
                    <a:pt x="1508" y="452"/>
                  </a:lnTo>
                  <a:lnTo>
                    <a:pt x="1564" y="408"/>
                  </a:lnTo>
                  <a:lnTo>
                    <a:pt x="1615" y="364"/>
                  </a:lnTo>
                  <a:lnTo>
                    <a:pt x="1663" y="321"/>
                  </a:lnTo>
                  <a:lnTo>
                    <a:pt x="1708" y="279"/>
                  </a:lnTo>
                  <a:lnTo>
                    <a:pt x="1747" y="240"/>
                  </a:lnTo>
                  <a:lnTo>
                    <a:pt x="1783" y="203"/>
                  </a:lnTo>
                  <a:lnTo>
                    <a:pt x="1816" y="168"/>
                  </a:lnTo>
                  <a:lnTo>
                    <a:pt x="1844" y="136"/>
                  </a:lnTo>
                  <a:lnTo>
                    <a:pt x="1870" y="106"/>
                  </a:lnTo>
                  <a:lnTo>
                    <a:pt x="1891" y="79"/>
                  </a:lnTo>
                  <a:lnTo>
                    <a:pt x="1909" y="57"/>
                  </a:lnTo>
                  <a:lnTo>
                    <a:pt x="1924" y="36"/>
                  </a:lnTo>
                  <a:lnTo>
                    <a:pt x="1936" y="22"/>
                  </a:lnTo>
                  <a:lnTo>
                    <a:pt x="1943" y="11"/>
                  </a:lnTo>
                  <a:lnTo>
                    <a:pt x="1948" y="4"/>
                  </a:lnTo>
                  <a:lnTo>
                    <a:pt x="1949" y="1"/>
                  </a:lnTo>
                  <a:lnTo>
                    <a:pt x="1950" y="0"/>
                  </a:lnTo>
                  <a:lnTo>
                    <a:pt x="1950" y="1"/>
                  </a:lnTo>
                  <a:lnTo>
                    <a:pt x="1950" y="0"/>
                  </a:lnTo>
                  <a:lnTo>
                    <a:pt x="1949" y="4"/>
                  </a:lnTo>
                  <a:lnTo>
                    <a:pt x="1944" y="11"/>
                  </a:lnTo>
                  <a:lnTo>
                    <a:pt x="1934" y="23"/>
                  </a:lnTo>
                  <a:lnTo>
                    <a:pt x="1925" y="39"/>
                  </a:lnTo>
                  <a:lnTo>
                    <a:pt x="1909" y="58"/>
                  </a:lnTo>
                  <a:lnTo>
                    <a:pt x="1891" y="81"/>
                  </a:lnTo>
                  <a:lnTo>
                    <a:pt x="1870" y="107"/>
                  </a:lnTo>
                  <a:lnTo>
                    <a:pt x="1846" y="136"/>
                  </a:lnTo>
                  <a:lnTo>
                    <a:pt x="1817" y="169"/>
                  </a:lnTo>
                  <a:lnTo>
                    <a:pt x="1783" y="204"/>
                  </a:lnTo>
                  <a:lnTo>
                    <a:pt x="1747" y="241"/>
                  </a:lnTo>
                  <a:lnTo>
                    <a:pt x="1708" y="281"/>
                  </a:lnTo>
                  <a:lnTo>
                    <a:pt x="1664" y="322"/>
                  </a:lnTo>
                  <a:lnTo>
                    <a:pt x="1616" y="365"/>
                  </a:lnTo>
                  <a:lnTo>
                    <a:pt x="1565" y="409"/>
                  </a:lnTo>
                  <a:lnTo>
                    <a:pt x="1508" y="454"/>
                  </a:lnTo>
                  <a:lnTo>
                    <a:pt x="1448" y="500"/>
                  </a:lnTo>
                  <a:lnTo>
                    <a:pt x="1384" y="547"/>
                  </a:lnTo>
                  <a:lnTo>
                    <a:pt x="1315" y="594"/>
                  </a:lnTo>
                  <a:lnTo>
                    <a:pt x="1242" y="641"/>
                  </a:lnTo>
                  <a:lnTo>
                    <a:pt x="1164" y="688"/>
                  </a:lnTo>
                  <a:lnTo>
                    <a:pt x="1082" y="734"/>
                  </a:lnTo>
                  <a:lnTo>
                    <a:pt x="996" y="780"/>
                  </a:lnTo>
                  <a:lnTo>
                    <a:pt x="905" y="826"/>
                  </a:lnTo>
                  <a:lnTo>
                    <a:pt x="809" y="869"/>
                  </a:lnTo>
                  <a:lnTo>
                    <a:pt x="708" y="912"/>
                  </a:lnTo>
                  <a:lnTo>
                    <a:pt x="602" y="952"/>
                  </a:lnTo>
                  <a:lnTo>
                    <a:pt x="492" y="991"/>
                  </a:lnTo>
                  <a:lnTo>
                    <a:pt x="377" y="1028"/>
                  </a:lnTo>
                  <a:lnTo>
                    <a:pt x="256" y="1062"/>
                  </a:lnTo>
                  <a:lnTo>
                    <a:pt x="131" y="1094"/>
                  </a:lnTo>
                  <a:lnTo>
                    <a:pt x="0" y="1122"/>
                  </a:lnTo>
                  <a:lnTo>
                    <a:pt x="0" y="112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473280" y="3397320"/>
              <a:ext cx="773280" cy="444600"/>
            </a:xfrm>
            <a:custGeom>
              <a:avLst/>
              <a:gdLst/>
              <a:ahLst/>
              <a:rect l="l" t="t" r="r" b="b"/>
              <a:pathLst>
                <a:path w="1950" h="1122">
                  <a:moveTo>
                    <a:pt x="0" y="1120"/>
                  </a:moveTo>
                  <a:lnTo>
                    <a:pt x="131" y="1092"/>
                  </a:lnTo>
                  <a:lnTo>
                    <a:pt x="256" y="1061"/>
                  </a:lnTo>
                  <a:lnTo>
                    <a:pt x="377" y="1026"/>
                  </a:lnTo>
                  <a:lnTo>
                    <a:pt x="492" y="989"/>
                  </a:lnTo>
                  <a:lnTo>
                    <a:pt x="602" y="950"/>
                  </a:lnTo>
                  <a:lnTo>
                    <a:pt x="708" y="910"/>
                  </a:lnTo>
                  <a:lnTo>
                    <a:pt x="809" y="868"/>
                  </a:lnTo>
                  <a:lnTo>
                    <a:pt x="905" y="824"/>
                  </a:lnTo>
                  <a:lnTo>
                    <a:pt x="996" y="778"/>
                  </a:lnTo>
                  <a:lnTo>
                    <a:pt x="1082" y="733"/>
                  </a:lnTo>
                  <a:lnTo>
                    <a:pt x="1164" y="686"/>
                  </a:lnTo>
                  <a:lnTo>
                    <a:pt x="1242" y="640"/>
                  </a:lnTo>
                  <a:lnTo>
                    <a:pt x="1315" y="592"/>
                  </a:lnTo>
                  <a:lnTo>
                    <a:pt x="1384" y="545"/>
                  </a:lnTo>
                  <a:lnTo>
                    <a:pt x="1447" y="499"/>
                  </a:lnTo>
                  <a:lnTo>
                    <a:pt x="1508" y="452"/>
                  </a:lnTo>
                  <a:lnTo>
                    <a:pt x="1564" y="408"/>
                  </a:lnTo>
                  <a:lnTo>
                    <a:pt x="1615" y="364"/>
                  </a:lnTo>
                  <a:lnTo>
                    <a:pt x="1663" y="321"/>
                  </a:lnTo>
                  <a:lnTo>
                    <a:pt x="1708" y="279"/>
                  </a:lnTo>
                  <a:lnTo>
                    <a:pt x="1747" y="240"/>
                  </a:lnTo>
                  <a:lnTo>
                    <a:pt x="1783" y="203"/>
                  </a:lnTo>
                  <a:lnTo>
                    <a:pt x="1816" y="168"/>
                  </a:lnTo>
                  <a:lnTo>
                    <a:pt x="1844" y="136"/>
                  </a:lnTo>
                  <a:lnTo>
                    <a:pt x="1870" y="106"/>
                  </a:lnTo>
                  <a:lnTo>
                    <a:pt x="1891" y="79"/>
                  </a:lnTo>
                  <a:lnTo>
                    <a:pt x="1909" y="57"/>
                  </a:lnTo>
                  <a:lnTo>
                    <a:pt x="1924" y="36"/>
                  </a:lnTo>
                  <a:lnTo>
                    <a:pt x="1936" y="22"/>
                  </a:lnTo>
                  <a:lnTo>
                    <a:pt x="1943" y="11"/>
                  </a:lnTo>
                  <a:lnTo>
                    <a:pt x="1948" y="4"/>
                  </a:lnTo>
                  <a:lnTo>
                    <a:pt x="1949" y="1"/>
                  </a:lnTo>
                  <a:lnTo>
                    <a:pt x="1950" y="0"/>
                  </a:lnTo>
                  <a:lnTo>
                    <a:pt x="1950" y="1"/>
                  </a:lnTo>
                  <a:lnTo>
                    <a:pt x="1950" y="0"/>
                  </a:lnTo>
                  <a:lnTo>
                    <a:pt x="1949" y="4"/>
                  </a:lnTo>
                  <a:lnTo>
                    <a:pt x="1944" y="11"/>
                  </a:lnTo>
                  <a:lnTo>
                    <a:pt x="1934" y="23"/>
                  </a:lnTo>
                  <a:lnTo>
                    <a:pt x="1925" y="39"/>
                  </a:lnTo>
                  <a:lnTo>
                    <a:pt x="1909" y="58"/>
                  </a:lnTo>
                  <a:lnTo>
                    <a:pt x="1891" y="81"/>
                  </a:lnTo>
                  <a:lnTo>
                    <a:pt x="1870" y="107"/>
                  </a:lnTo>
                  <a:lnTo>
                    <a:pt x="1846" y="136"/>
                  </a:lnTo>
                  <a:lnTo>
                    <a:pt x="1817" y="169"/>
                  </a:lnTo>
                  <a:lnTo>
                    <a:pt x="1783" y="204"/>
                  </a:lnTo>
                  <a:lnTo>
                    <a:pt x="1747" y="241"/>
                  </a:lnTo>
                  <a:lnTo>
                    <a:pt x="1708" y="281"/>
                  </a:lnTo>
                  <a:lnTo>
                    <a:pt x="1664" y="322"/>
                  </a:lnTo>
                  <a:lnTo>
                    <a:pt x="1616" y="365"/>
                  </a:lnTo>
                  <a:lnTo>
                    <a:pt x="1565" y="409"/>
                  </a:lnTo>
                  <a:lnTo>
                    <a:pt x="1508" y="454"/>
                  </a:lnTo>
                  <a:lnTo>
                    <a:pt x="1448" y="500"/>
                  </a:lnTo>
                  <a:lnTo>
                    <a:pt x="1384" y="547"/>
                  </a:lnTo>
                  <a:lnTo>
                    <a:pt x="1315" y="594"/>
                  </a:lnTo>
                  <a:lnTo>
                    <a:pt x="1242" y="641"/>
                  </a:lnTo>
                  <a:lnTo>
                    <a:pt x="1164" y="688"/>
                  </a:lnTo>
                  <a:lnTo>
                    <a:pt x="1082" y="734"/>
                  </a:lnTo>
                  <a:lnTo>
                    <a:pt x="996" y="780"/>
                  </a:lnTo>
                  <a:lnTo>
                    <a:pt x="905" y="826"/>
                  </a:lnTo>
                  <a:lnTo>
                    <a:pt x="809" y="869"/>
                  </a:lnTo>
                  <a:lnTo>
                    <a:pt x="708" y="912"/>
                  </a:lnTo>
                  <a:lnTo>
                    <a:pt x="602" y="952"/>
                  </a:lnTo>
                  <a:lnTo>
                    <a:pt x="492" y="991"/>
                  </a:lnTo>
                  <a:lnTo>
                    <a:pt x="377" y="1028"/>
                  </a:lnTo>
                  <a:lnTo>
                    <a:pt x="256" y="1062"/>
                  </a:lnTo>
                  <a:lnTo>
                    <a:pt x="131" y="1094"/>
                  </a:lnTo>
                  <a:lnTo>
                    <a:pt x="0" y="1122"/>
                  </a:lnTo>
                  <a:lnTo>
                    <a:pt x="0" y="112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468600" y="3397320"/>
              <a:ext cx="777960" cy="512640"/>
            </a:xfrm>
            <a:custGeom>
              <a:avLst/>
              <a:gdLst/>
              <a:ahLst/>
              <a:rect l="l" t="t" r="r" b="b"/>
              <a:pathLst>
                <a:path w="1960" h="1293">
                  <a:moveTo>
                    <a:pt x="1959" y="0"/>
                  </a:moveTo>
                  <a:lnTo>
                    <a:pt x="1960" y="0"/>
                  </a:lnTo>
                  <a:lnTo>
                    <a:pt x="1959" y="4"/>
                  </a:lnTo>
                  <a:lnTo>
                    <a:pt x="1953" y="11"/>
                  </a:lnTo>
                  <a:lnTo>
                    <a:pt x="1944" y="23"/>
                  </a:lnTo>
                  <a:lnTo>
                    <a:pt x="1934" y="40"/>
                  </a:lnTo>
                  <a:lnTo>
                    <a:pt x="1919" y="59"/>
                  </a:lnTo>
                  <a:lnTo>
                    <a:pt x="1900" y="83"/>
                  </a:lnTo>
                  <a:lnTo>
                    <a:pt x="1877" y="111"/>
                  </a:lnTo>
                  <a:lnTo>
                    <a:pt x="1852" y="142"/>
                  </a:lnTo>
                  <a:lnTo>
                    <a:pt x="1823" y="177"/>
                  </a:lnTo>
                  <a:lnTo>
                    <a:pt x="1790" y="213"/>
                  </a:lnTo>
                  <a:lnTo>
                    <a:pt x="1754" y="252"/>
                  </a:lnTo>
                  <a:lnTo>
                    <a:pt x="1713" y="294"/>
                  </a:lnTo>
                  <a:lnTo>
                    <a:pt x="1668" y="339"/>
                  </a:lnTo>
                  <a:lnTo>
                    <a:pt x="1620" y="385"/>
                  </a:lnTo>
                  <a:lnTo>
                    <a:pt x="1566" y="433"/>
                  </a:lnTo>
                  <a:lnTo>
                    <a:pt x="1511" y="481"/>
                  </a:lnTo>
                  <a:lnTo>
                    <a:pt x="1450" y="533"/>
                  </a:lnTo>
                  <a:lnTo>
                    <a:pt x="1384" y="584"/>
                  </a:lnTo>
                  <a:lnTo>
                    <a:pt x="1316" y="637"/>
                  </a:lnTo>
                  <a:lnTo>
                    <a:pt x="1242" y="690"/>
                  </a:lnTo>
                  <a:lnTo>
                    <a:pt x="1163" y="744"/>
                  </a:lnTo>
                  <a:lnTo>
                    <a:pt x="1082" y="798"/>
                  </a:lnTo>
                  <a:lnTo>
                    <a:pt x="994" y="851"/>
                  </a:lnTo>
                  <a:lnTo>
                    <a:pt x="903" y="905"/>
                  </a:lnTo>
                  <a:lnTo>
                    <a:pt x="807" y="959"/>
                  </a:lnTo>
                  <a:lnTo>
                    <a:pt x="706" y="1010"/>
                  </a:lnTo>
                  <a:lnTo>
                    <a:pt x="600" y="1061"/>
                  </a:lnTo>
                  <a:lnTo>
                    <a:pt x="490" y="1111"/>
                  </a:lnTo>
                  <a:lnTo>
                    <a:pt x="375" y="1160"/>
                  </a:lnTo>
                  <a:lnTo>
                    <a:pt x="255" y="1207"/>
                  </a:lnTo>
                  <a:lnTo>
                    <a:pt x="130" y="1251"/>
                  </a:lnTo>
                  <a:lnTo>
                    <a:pt x="0" y="1293"/>
                  </a:lnTo>
                  <a:lnTo>
                    <a:pt x="0" y="1292"/>
                  </a:lnTo>
                  <a:lnTo>
                    <a:pt x="130" y="1250"/>
                  </a:lnTo>
                  <a:lnTo>
                    <a:pt x="255" y="1205"/>
                  </a:lnTo>
                  <a:lnTo>
                    <a:pt x="375" y="1158"/>
                  </a:lnTo>
                  <a:lnTo>
                    <a:pt x="490" y="1110"/>
                  </a:lnTo>
                  <a:lnTo>
                    <a:pt x="600" y="1060"/>
                  </a:lnTo>
                  <a:lnTo>
                    <a:pt x="706" y="1008"/>
                  </a:lnTo>
                  <a:lnTo>
                    <a:pt x="807" y="956"/>
                  </a:lnTo>
                  <a:lnTo>
                    <a:pt x="903" y="904"/>
                  </a:lnTo>
                  <a:lnTo>
                    <a:pt x="994" y="851"/>
                  </a:lnTo>
                  <a:lnTo>
                    <a:pt x="1082" y="797"/>
                  </a:lnTo>
                  <a:lnTo>
                    <a:pt x="1163" y="743"/>
                  </a:lnTo>
                  <a:lnTo>
                    <a:pt x="1242" y="689"/>
                  </a:lnTo>
                  <a:lnTo>
                    <a:pt x="1316" y="636"/>
                  </a:lnTo>
                  <a:lnTo>
                    <a:pt x="1384" y="583"/>
                  </a:lnTo>
                  <a:lnTo>
                    <a:pt x="1449" y="532"/>
                  </a:lnTo>
                  <a:lnTo>
                    <a:pt x="1510" y="480"/>
                  </a:lnTo>
                  <a:lnTo>
                    <a:pt x="1568" y="431"/>
                  </a:lnTo>
                  <a:lnTo>
                    <a:pt x="1619" y="383"/>
                  </a:lnTo>
                  <a:lnTo>
                    <a:pt x="1667" y="337"/>
                  </a:lnTo>
                  <a:lnTo>
                    <a:pt x="1712" y="293"/>
                  </a:lnTo>
                  <a:lnTo>
                    <a:pt x="1752" y="251"/>
                  </a:lnTo>
                  <a:lnTo>
                    <a:pt x="1790" y="211"/>
                  </a:lnTo>
                  <a:lnTo>
                    <a:pt x="1823" y="174"/>
                  </a:lnTo>
                  <a:lnTo>
                    <a:pt x="1852" y="141"/>
                  </a:lnTo>
                  <a:lnTo>
                    <a:pt x="1878" y="108"/>
                  </a:lnTo>
                  <a:lnTo>
                    <a:pt x="1900" y="83"/>
                  </a:lnTo>
                  <a:lnTo>
                    <a:pt x="1918" y="59"/>
                  </a:lnTo>
                  <a:lnTo>
                    <a:pt x="1932" y="37"/>
                  </a:lnTo>
                  <a:lnTo>
                    <a:pt x="1944" y="22"/>
                  </a:lnTo>
                  <a:lnTo>
                    <a:pt x="1953" y="11"/>
                  </a:lnTo>
                  <a:lnTo>
                    <a:pt x="1958" y="4"/>
                  </a:lnTo>
                  <a:lnTo>
                    <a:pt x="1959" y="1"/>
                  </a:lnTo>
                  <a:lnTo>
                    <a:pt x="1959" y="3"/>
                  </a:lnTo>
                  <a:lnTo>
                    <a:pt x="1959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468600" y="3397320"/>
              <a:ext cx="777960" cy="512640"/>
            </a:xfrm>
            <a:custGeom>
              <a:avLst/>
              <a:gdLst/>
              <a:ahLst/>
              <a:rect l="l" t="t" r="r" b="b"/>
              <a:pathLst>
                <a:path w="1960" h="1293">
                  <a:moveTo>
                    <a:pt x="1959" y="0"/>
                  </a:moveTo>
                  <a:lnTo>
                    <a:pt x="1960" y="0"/>
                  </a:lnTo>
                  <a:lnTo>
                    <a:pt x="1959" y="4"/>
                  </a:lnTo>
                  <a:lnTo>
                    <a:pt x="1953" y="11"/>
                  </a:lnTo>
                  <a:lnTo>
                    <a:pt x="1944" y="23"/>
                  </a:lnTo>
                  <a:lnTo>
                    <a:pt x="1934" y="40"/>
                  </a:lnTo>
                  <a:lnTo>
                    <a:pt x="1919" y="59"/>
                  </a:lnTo>
                  <a:lnTo>
                    <a:pt x="1900" y="83"/>
                  </a:lnTo>
                  <a:lnTo>
                    <a:pt x="1877" y="111"/>
                  </a:lnTo>
                  <a:lnTo>
                    <a:pt x="1852" y="142"/>
                  </a:lnTo>
                  <a:lnTo>
                    <a:pt x="1823" y="177"/>
                  </a:lnTo>
                  <a:lnTo>
                    <a:pt x="1790" y="213"/>
                  </a:lnTo>
                  <a:lnTo>
                    <a:pt x="1754" y="252"/>
                  </a:lnTo>
                  <a:lnTo>
                    <a:pt x="1713" y="294"/>
                  </a:lnTo>
                  <a:lnTo>
                    <a:pt x="1668" y="339"/>
                  </a:lnTo>
                  <a:lnTo>
                    <a:pt x="1620" y="385"/>
                  </a:lnTo>
                  <a:lnTo>
                    <a:pt x="1566" y="433"/>
                  </a:lnTo>
                  <a:lnTo>
                    <a:pt x="1511" y="481"/>
                  </a:lnTo>
                  <a:lnTo>
                    <a:pt x="1450" y="533"/>
                  </a:lnTo>
                  <a:lnTo>
                    <a:pt x="1384" y="584"/>
                  </a:lnTo>
                  <a:lnTo>
                    <a:pt x="1316" y="637"/>
                  </a:lnTo>
                  <a:lnTo>
                    <a:pt x="1242" y="690"/>
                  </a:lnTo>
                  <a:lnTo>
                    <a:pt x="1163" y="744"/>
                  </a:lnTo>
                  <a:lnTo>
                    <a:pt x="1082" y="798"/>
                  </a:lnTo>
                  <a:lnTo>
                    <a:pt x="994" y="851"/>
                  </a:lnTo>
                  <a:lnTo>
                    <a:pt x="903" y="905"/>
                  </a:lnTo>
                  <a:lnTo>
                    <a:pt x="807" y="959"/>
                  </a:lnTo>
                  <a:lnTo>
                    <a:pt x="706" y="1010"/>
                  </a:lnTo>
                  <a:lnTo>
                    <a:pt x="600" y="1061"/>
                  </a:lnTo>
                  <a:lnTo>
                    <a:pt x="490" y="1111"/>
                  </a:lnTo>
                  <a:lnTo>
                    <a:pt x="375" y="1160"/>
                  </a:lnTo>
                  <a:lnTo>
                    <a:pt x="255" y="1207"/>
                  </a:lnTo>
                  <a:lnTo>
                    <a:pt x="130" y="1251"/>
                  </a:lnTo>
                  <a:lnTo>
                    <a:pt x="0" y="1293"/>
                  </a:lnTo>
                  <a:lnTo>
                    <a:pt x="0" y="1292"/>
                  </a:lnTo>
                  <a:lnTo>
                    <a:pt x="130" y="1250"/>
                  </a:lnTo>
                  <a:lnTo>
                    <a:pt x="255" y="1205"/>
                  </a:lnTo>
                  <a:lnTo>
                    <a:pt x="375" y="1158"/>
                  </a:lnTo>
                  <a:lnTo>
                    <a:pt x="490" y="1110"/>
                  </a:lnTo>
                  <a:lnTo>
                    <a:pt x="600" y="1060"/>
                  </a:lnTo>
                  <a:lnTo>
                    <a:pt x="706" y="1008"/>
                  </a:lnTo>
                  <a:lnTo>
                    <a:pt x="807" y="956"/>
                  </a:lnTo>
                  <a:lnTo>
                    <a:pt x="903" y="904"/>
                  </a:lnTo>
                  <a:lnTo>
                    <a:pt x="994" y="851"/>
                  </a:lnTo>
                  <a:lnTo>
                    <a:pt x="1082" y="797"/>
                  </a:lnTo>
                  <a:lnTo>
                    <a:pt x="1163" y="743"/>
                  </a:lnTo>
                  <a:lnTo>
                    <a:pt x="1242" y="689"/>
                  </a:lnTo>
                  <a:lnTo>
                    <a:pt x="1316" y="636"/>
                  </a:lnTo>
                  <a:lnTo>
                    <a:pt x="1384" y="583"/>
                  </a:lnTo>
                  <a:lnTo>
                    <a:pt x="1449" y="532"/>
                  </a:lnTo>
                  <a:lnTo>
                    <a:pt x="1510" y="480"/>
                  </a:lnTo>
                  <a:lnTo>
                    <a:pt x="1568" y="431"/>
                  </a:lnTo>
                  <a:lnTo>
                    <a:pt x="1619" y="383"/>
                  </a:lnTo>
                  <a:lnTo>
                    <a:pt x="1667" y="337"/>
                  </a:lnTo>
                  <a:lnTo>
                    <a:pt x="1712" y="293"/>
                  </a:lnTo>
                  <a:lnTo>
                    <a:pt x="1752" y="251"/>
                  </a:lnTo>
                  <a:lnTo>
                    <a:pt x="1790" y="211"/>
                  </a:lnTo>
                  <a:lnTo>
                    <a:pt x="1823" y="174"/>
                  </a:lnTo>
                  <a:lnTo>
                    <a:pt x="1852" y="141"/>
                  </a:lnTo>
                  <a:lnTo>
                    <a:pt x="1878" y="108"/>
                  </a:lnTo>
                  <a:lnTo>
                    <a:pt x="1900" y="83"/>
                  </a:lnTo>
                  <a:lnTo>
                    <a:pt x="1918" y="59"/>
                  </a:lnTo>
                  <a:lnTo>
                    <a:pt x="1932" y="37"/>
                  </a:lnTo>
                  <a:lnTo>
                    <a:pt x="1944" y="22"/>
                  </a:lnTo>
                  <a:lnTo>
                    <a:pt x="1953" y="11"/>
                  </a:lnTo>
                  <a:lnTo>
                    <a:pt x="1958" y="4"/>
                  </a:lnTo>
                  <a:lnTo>
                    <a:pt x="1959" y="1"/>
                  </a:lnTo>
                  <a:lnTo>
                    <a:pt x="1959" y="3"/>
                  </a:lnTo>
                  <a:lnTo>
                    <a:pt x="1959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303800" y="2095560"/>
              <a:ext cx="147600" cy="636480"/>
            </a:xfrm>
            <a:custGeom>
              <a:avLst/>
              <a:gdLst/>
              <a:ahLst/>
              <a:rect l="l" t="t" r="r" b="b"/>
              <a:pathLst>
                <a:path w="374" h="1604">
                  <a:moveTo>
                    <a:pt x="204" y="54"/>
                  </a:moveTo>
                  <a:lnTo>
                    <a:pt x="145" y="22"/>
                  </a:lnTo>
                  <a:lnTo>
                    <a:pt x="290" y="0"/>
                  </a:lnTo>
                  <a:lnTo>
                    <a:pt x="374" y="161"/>
                  </a:lnTo>
                  <a:lnTo>
                    <a:pt x="343" y="138"/>
                  </a:lnTo>
                  <a:lnTo>
                    <a:pt x="321" y="124"/>
                  </a:lnTo>
                  <a:lnTo>
                    <a:pt x="313" y="120"/>
                  </a:lnTo>
                  <a:lnTo>
                    <a:pt x="309" y="121"/>
                  </a:lnTo>
                  <a:lnTo>
                    <a:pt x="265" y="204"/>
                  </a:lnTo>
                  <a:lnTo>
                    <a:pt x="227" y="286"/>
                  </a:lnTo>
                  <a:lnTo>
                    <a:pt x="191" y="364"/>
                  </a:lnTo>
                  <a:lnTo>
                    <a:pt x="159" y="442"/>
                  </a:lnTo>
                  <a:lnTo>
                    <a:pt x="132" y="516"/>
                  </a:lnTo>
                  <a:lnTo>
                    <a:pt x="108" y="589"/>
                  </a:lnTo>
                  <a:lnTo>
                    <a:pt x="86" y="660"/>
                  </a:lnTo>
                  <a:lnTo>
                    <a:pt x="69" y="730"/>
                  </a:lnTo>
                  <a:lnTo>
                    <a:pt x="54" y="797"/>
                  </a:lnTo>
                  <a:lnTo>
                    <a:pt x="44" y="862"/>
                  </a:lnTo>
                  <a:lnTo>
                    <a:pt x="27" y="982"/>
                  </a:lnTo>
                  <a:lnTo>
                    <a:pt x="20" y="1094"/>
                  </a:lnTo>
                  <a:lnTo>
                    <a:pt x="20" y="1196"/>
                  </a:lnTo>
                  <a:lnTo>
                    <a:pt x="27" y="1289"/>
                  </a:lnTo>
                  <a:lnTo>
                    <a:pt x="37" y="1370"/>
                  </a:lnTo>
                  <a:lnTo>
                    <a:pt x="51" y="1440"/>
                  </a:lnTo>
                  <a:lnTo>
                    <a:pt x="66" y="1497"/>
                  </a:lnTo>
                  <a:lnTo>
                    <a:pt x="79" y="1543"/>
                  </a:lnTo>
                  <a:lnTo>
                    <a:pt x="91" y="1578"/>
                  </a:lnTo>
                  <a:lnTo>
                    <a:pt x="102" y="1604"/>
                  </a:lnTo>
                  <a:lnTo>
                    <a:pt x="91" y="1575"/>
                  </a:lnTo>
                  <a:lnTo>
                    <a:pt x="78" y="1542"/>
                  </a:lnTo>
                  <a:lnTo>
                    <a:pt x="63" y="1495"/>
                  </a:lnTo>
                  <a:lnTo>
                    <a:pt x="47" y="1434"/>
                  </a:lnTo>
                  <a:lnTo>
                    <a:pt x="31" y="1363"/>
                  </a:lnTo>
                  <a:lnTo>
                    <a:pt x="18" y="1278"/>
                  </a:lnTo>
                  <a:lnTo>
                    <a:pt x="6" y="1183"/>
                  </a:lnTo>
                  <a:lnTo>
                    <a:pt x="0" y="1078"/>
                  </a:lnTo>
                  <a:lnTo>
                    <a:pt x="0" y="960"/>
                  </a:lnTo>
                  <a:lnTo>
                    <a:pt x="3" y="898"/>
                  </a:lnTo>
                  <a:lnTo>
                    <a:pt x="7" y="833"/>
                  </a:lnTo>
                  <a:lnTo>
                    <a:pt x="14" y="764"/>
                  </a:lnTo>
                  <a:lnTo>
                    <a:pt x="23" y="696"/>
                  </a:lnTo>
                  <a:lnTo>
                    <a:pt x="35" y="623"/>
                  </a:lnTo>
                  <a:lnTo>
                    <a:pt x="49" y="549"/>
                  </a:lnTo>
                  <a:lnTo>
                    <a:pt x="66" y="472"/>
                  </a:lnTo>
                  <a:lnTo>
                    <a:pt x="86" y="393"/>
                  </a:lnTo>
                  <a:lnTo>
                    <a:pt x="111" y="311"/>
                  </a:lnTo>
                  <a:lnTo>
                    <a:pt x="139" y="228"/>
                  </a:lnTo>
                  <a:lnTo>
                    <a:pt x="168" y="143"/>
                  </a:lnTo>
                  <a:lnTo>
                    <a:pt x="204" y="54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303800" y="2095560"/>
              <a:ext cx="147600" cy="636480"/>
            </a:xfrm>
            <a:custGeom>
              <a:avLst/>
              <a:gdLst/>
              <a:ahLst/>
              <a:rect l="l" t="t" r="r" b="b"/>
              <a:pathLst>
                <a:path w="374" h="1604">
                  <a:moveTo>
                    <a:pt x="204" y="54"/>
                  </a:moveTo>
                  <a:lnTo>
                    <a:pt x="145" y="22"/>
                  </a:lnTo>
                  <a:lnTo>
                    <a:pt x="290" y="0"/>
                  </a:lnTo>
                  <a:lnTo>
                    <a:pt x="374" y="161"/>
                  </a:lnTo>
                  <a:lnTo>
                    <a:pt x="343" y="138"/>
                  </a:lnTo>
                  <a:lnTo>
                    <a:pt x="321" y="124"/>
                  </a:lnTo>
                  <a:lnTo>
                    <a:pt x="313" y="120"/>
                  </a:lnTo>
                  <a:lnTo>
                    <a:pt x="309" y="121"/>
                  </a:lnTo>
                  <a:lnTo>
                    <a:pt x="265" y="204"/>
                  </a:lnTo>
                  <a:lnTo>
                    <a:pt x="227" y="286"/>
                  </a:lnTo>
                  <a:lnTo>
                    <a:pt x="191" y="364"/>
                  </a:lnTo>
                  <a:lnTo>
                    <a:pt x="159" y="442"/>
                  </a:lnTo>
                  <a:lnTo>
                    <a:pt x="132" y="516"/>
                  </a:lnTo>
                  <a:lnTo>
                    <a:pt x="108" y="589"/>
                  </a:lnTo>
                  <a:lnTo>
                    <a:pt x="86" y="660"/>
                  </a:lnTo>
                  <a:lnTo>
                    <a:pt x="69" y="730"/>
                  </a:lnTo>
                  <a:lnTo>
                    <a:pt x="54" y="797"/>
                  </a:lnTo>
                  <a:lnTo>
                    <a:pt x="44" y="862"/>
                  </a:lnTo>
                  <a:lnTo>
                    <a:pt x="27" y="982"/>
                  </a:lnTo>
                  <a:lnTo>
                    <a:pt x="20" y="1094"/>
                  </a:lnTo>
                  <a:lnTo>
                    <a:pt x="20" y="1196"/>
                  </a:lnTo>
                  <a:lnTo>
                    <a:pt x="27" y="1289"/>
                  </a:lnTo>
                  <a:lnTo>
                    <a:pt x="37" y="1370"/>
                  </a:lnTo>
                  <a:lnTo>
                    <a:pt x="51" y="1440"/>
                  </a:lnTo>
                  <a:lnTo>
                    <a:pt x="66" y="1497"/>
                  </a:lnTo>
                  <a:lnTo>
                    <a:pt x="79" y="1543"/>
                  </a:lnTo>
                  <a:lnTo>
                    <a:pt x="91" y="1578"/>
                  </a:lnTo>
                  <a:lnTo>
                    <a:pt x="102" y="1604"/>
                  </a:lnTo>
                  <a:lnTo>
                    <a:pt x="91" y="1575"/>
                  </a:lnTo>
                  <a:lnTo>
                    <a:pt x="78" y="1542"/>
                  </a:lnTo>
                  <a:lnTo>
                    <a:pt x="63" y="1495"/>
                  </a:lnTo>
                  <a:lnTo>
                    <a:pt x="47" y="1434"/>
                  </a:lnTo>
                  <a:lnTo>
                    <a:pt x="31" y="1363"/>
                  </a:lnTo>
                  <a:lnTo>
                    <a:pt x="18" y="1278"/>
                  </a:lnTo>
                  <a:lnTo>
                    <a:pt x="6" y="1183"/>
                  </a:lnTo>
                  <a:lnTo>
                    <a:pt x="0" y="1078"/>
                  </a:lnTo>
                  <a:lnTo>
                    <a:pt x="0" y="960"/>
                  </a:lnTo>
                  <a:lnTo>
                    <a:pt x="3" y="898"/>
                  </a:lnTo>
                  <a:lnTo>
                    <a:pt x="7" y="833"/>
                  </a:lnTo>
                  <a:lnTo>
                    <a:pt x="14" y="764"/>
                  </a:lnTo>
                  <a:lnTo>
                    <a:pt x="23" y="696"/>
                  </a:lnTo>
                  <a:lnTo>
                    <a:pt x="35" y="623"/>
                  </a:lnTo>
                  <a:lnTo>
                    <a:pt x="49" y="549"/>
                  </a:lnTo>
                  <a:lnTo>
                    <a:pt x="66" y="472"/>
                  </a:lnTo>
                  <a:lnTo>
                    <a:pt x="86" y="393"/>
                  </a:lnTo>
                  <a:lnTo>
                    <a:pt x="111" y="311"/>
                  </a:lnTo>
                  <a:lnTo>
                    <a:pt x="139" y="228"/>
                  </a:lnTo>
                  <a:lnTo>
                    <a:pt x="168" y="143"/>
                  </a:lnTo>
                  <a:lnTo>
                    <a:pt x="204" y="54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361040" y="2095560"/>
              <a:ext cx="91800" cy="63360"/>
            </a:xfrm>
            <a:custGeom>
              <a:avLst/>
              <a:gdLst/>
              <a:ahLst/>
              <a:rect l="l" t="t" r="r" b="b"/>
              <a:pathLst>
                <a:path w="231" h="161">
                  <a:moveTo>
                    <a:pt x="60" y="55"/>
                  </a:moveTo>
                  <a:lnTo>
                    <a:pt x="0" y="21"/>
                  </a:lnTo>
                  <a:lnTo>
                    <a:pt x="146" y="0"/>
                  </a:lnTo>
                  <a:lnTo>
                    <a:pt x="231" y="161"/>
                  </a:lnTo>
                  <a:lnTo>
                    <a:pt x="230" y="161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60" y="54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361040" y="2095560"/>
              <a:ext cx="91800" cy="63360"/>
            </a:xfrm>
            <a:custGeom>
              <a:avLst/>
              <a:gdLst/>
              <a:ahLst/>
              <a:rect l="l" t="t" r="r" b="b"/>
              <a:pathLst>
                <a:path w="231" h="161">
                  <a:moveTo>
                    <a:pt x="60" y="55"/>
                  </a:moveTo>
                  <a:lnTo>
                    <a:pt x="0" y="21"/>
                  </a:lnTo>
                  <a:lnTo>
                    <a:pt x="146" y="0"/>
                  </a:lnTo>
                  <a:lnTo>
                    <a:pt x="231" y="161"/>
                  </a:lnTo>
                  <a:lnTo>
                    <a:pt x="230" y="161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60" y="54"/>
                  </a:lnTo>
                  <a:lnTo>
                    <a:pt x="60" y="55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425840" y="2143080"/>
              <a:ext cx="27000" cy="1584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66" y="42"/>
                  </a:moveTo>
                  <a:lnTo>
                    <a:pt x="65" y="42"/>
                  </a:lnTo>
                  <a:lnTo>
                    <a:pt x="65" y="41"/>
                  </a:lnTo>
                  <a:lnTo>
                    <a:pt x="63" y="41"/>
                  </a:lnTo>
                  <a:lnTo>
                    <a:pt x="62" y="38"/>
                  </a:lnTo>
                  <a:lnTo>
                    <a:pt x="59" y="37"/>
                  </a:lnTo>
                  <a:lnTo>
                    <a:pt x="58" y="36"/>
                  </a:lnTo>
                  <a:lnTo>
                    <a:pt x="56" y="35"/>
                  </a:lnTo>
                  <a:lnTo>
                    <a:pt x="53" y="32"/>
                  </a:lnTo>
                  <a:lnTo>
                    <a:pt x="51" y="31"/>
                  </a:lnTo>
                  <a:lnTo>
                    <a:pt x="48" y="29"/>
                  </a:lnTo>
                  <a:lnTo>
                    <a:pt x="46" y="28"/>
                  </a:lnTo>
                  <a:lnTo>
                    <a:pt x="42" y="25"/>
                  </a:lnTo>
                  <a:lnTo>
                    <a:pt x="40" y="23"/>
                  </a:lnTo>
                  <a:lnTo>
                    <a:pt x="36" y="20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28" y="14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7"/>
                  </a:lnTo>
                  <a:lnTo>
                    <a:pt x="12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8"/>
                  </a:lnTo>
                  <a:lnTo>
                    <a:pt x="23" y="11"/>
                  </a:lnTo>
                  <a:lnTo>
                    <a:pt x="29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8" y="20"/>
                  </a:lnTo>
                  <a:lnTo>
                    <a:pt x="40" y="23"/>
                  </a:lnTo>
                  <a:lnTo>
                    <a:pt x="42" y="24"/>
                  </a:lnTo>
                  <a:lnTo>
                    <a:pt x="46" y="26"/>
                  </a:lnTo>
                  <a:lnTo>
                    <a:pt x="48" y="28"/>
                  </a:lnTo>
                  <a:lnTo>
                    <a:pt x="51" y="30"/>
                  </a:lnTo>
                  <a:lnTo>
                    <a:pt x="53" y="32"/>
                  </a:lnTo>
                  <a:lnTo>
                    <a:pt x="56" y="34"/>
                  </a:lnTo>
                  <a:lnTo>
                    <a:pt x="58" y="35"/>
                  </a:lnTo>
                  <a:lnTo>
                    <a:pt x="59" y="37"/>
                  </a:lnTo>
                  <a:lnTo>
                    <a:pt x="62" y="38"/>
                  </a:lnTo>
                  <a:lnTo>
                    <a:pt x="64" y="40"/>
                  </a:lnTo>
                  <a:lnTo>
                    <a:pt x="65" y="41"/>
                  </a:lnTo>
                  <a:lnTo>
                    <a:pt x="66" y="42"/>
                  </a:lnTo>
                  <a:lnTo>
                    <a:pt x="65" y="42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425840" y="2143080"/>
              <a:ext cx="27000" cy="1584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66" y="42"/>
                  </a:moveTo>
                  <a:lnTo>
                    <a:pt x="65" y="42"/>
                  </a:lnTo>
                  <a:lnTo>
                    <a:pt x="65" y="41"/>
                  </a:lnTo>
                  <a:lnTo>
                    <a:pt x="63" y="41"/>
                  </a:lnTo>
                  <a:lnTo>
                    <a:pt x="62" y="38"/>
                  </a:lnTo>
                  <a:lnTo>
                    <a:pt x="59" y="37"/>
                  </a:lnTo>
                  <a:lnTo>
                    <a:pt x="58" y="36"/>
                  </a:lnTo>
                  <a:lnTo>
                    <a:pt x="56" y="35"/>
                  </a:lnTo>
                  <a:lnTo>
                    <a:pt x="53" y="32"/>
                  </a:lnTo>
                  <a:lnTo>
                    <a:pt x="51" y="31"/>
                  </a:lnTo>
                  <a:lnTo>
                    <a:pt x="48" y="29"/>
                  </a:lnTo>
                  <a:lnTo>
                    <a:pt x="46" y="28"/>
                  </a:lnTo>
                  <a:lnTo>
                    <a:pt x="42" y="25"/>
                  </a:lnTo>
                  <a:lnTo>
                    <a:pt x="40" y="23"/>
                  </a:lnTo>
                  <a:lnTo>
                    <a:pt x="36" y="20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28" y="14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7"/>
                  </a:lnTo>
                  <a:lnTo>
                    <a:pt x="12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8"/>
                  </a:lnTo>
                  <a:lnTo>
                    <a:pt x="23" y="11"/>
                  </a:lnTo>
                  <a:lnTo>
                    <a:pt x="29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8" y="20"/>
                  </a:lnTo>
                  <a:lnTo>
                    <a:pt x="40" y="23"/>
                  </a:lnTo>
                  <a:lnTo>
                    <a:pt x="42" y="24"/>
                  </a:lnTo>
                  <a:lnTo>
                    <a:pt x="46" y="26"/>
                  </a:lnTo>
                  <a:lnTo>
                    <a:pt x="48" y="28"/>
                  </a:lnTo>
                  <a:lnTo>
                    <a:pt x="51" y="30"/>
                  </a:lnTo>
                  <a:lnTo>
                    <a:pt x="53" y="32"/>
                  </a:lnTo>
                  <a:lnTo>
                    <a:pt x="56" y="34"/>
                  </a:lnTo>
                  <a:lnTo>
                    <a:pt x="58" y="35"/>
                  </a:lnTo>
                  <a:lnTo>
                    <a:pt x="59" y="37"/>
                  </a:lnTo>
                  <a:lnTo>
                    <a:pt x="62" y="38"/>
                  </a:lnTo>
                  <a:lnTo>
                    <a:pt x="64" y="40"/>
                  </a:lnTo>
                  <a:lnTo>
                    <a:pt x="65" y="41"/>
                  </a:lnTo>
                  <a:lnTo>
                    <a:pt x="66" y="42"/>
                  </a:lnTo>
                  <a:lnTo>
                    <a:pt x="65" y="42"/>
                  </a:lnTo>
                  <a:lnTo>
                    <a:pt x="66" y="42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309920" y="2143080"/>
              <a:ext cx="115920" cy="588960"/>
            </a:xfrm>
            <a:custGeom>
              <a:avLst/>
              <a:gdLst/>
              <a:ahLst/>
              <a:rect l="l" t="t" r="r" b="b"/>
              <a:pathLst>
                <a:path w="293" h="1484">
                  <a:moveTo>
                    <a:pt x="293" y="0"/>
                  </a:moveTo>
                  <a:lnTo>
                    <a:pt x="248" y="83"/>
                  </a:lnTo>
                  <a:lnTo>
                    <a:pt x="209" y="164"/>
                  </a:lnTo>
                  <a:lnTo>
                    <a:pt x="173" y="243"/>
                  </a:lnTo>
                  <a:lnTo>
                    <a:pt x="141" y="321"/>
                  </a:lnTo>
                  <a:lnTo>
                    <a:pt x="114" y="396"/>
                  </a:lnTo>
                  <a:lnTo>
                    <a:pt x="90" y="468"/>
                  </a:lnTo>
                  <a:lnTo>
                    <a:pt x="68" y="539"/>
                  </a:lnTo>
                  <a:lnTo>
                    <a:pt x="50" y="609"/>
                  </a:lnTo>
                  <a:lnTo>
                    <a:pt x="37" y="676"/>
                  </a:lnTo>
                  <a:lnTo>
                    <a:pt x="25" y="739"/>
                  </a:lnTo>
                  <a:lnTo>
                    <a:pt x="15" y="802"/>
                  </a:lnTo>
                  <a:lnTo>
                    <a:pt x="9" y="862"/>
                  </a:lnTo>
                  <a:lnTo>
                    <a:pt x="5" y="919"/>
                  </a:lnTo>
                  <a:lnTo>
                    <a:pt x="2" y="975"/>
                  </a:lnTo>
                  <a:lnTo>
                    <a:pt x="2" y="1026"/>
                  </a:lnTo>
                  <a:lnTo>
                    <a:pt x="3" y="1077"/>
                  </a:lnTo>
                  <a:lnTo>
                    <a:pt x="5" y="1123"/>
                  </a:lnTo>
                  <a:lnTo>
                    <a:pt x="9" y="1168"/>
                  </a:lnTo>
                  <a:lnTo>
                    <a:pt x="14" y="1210"/>
                  </a:lnTo>
                  <a:lnTo>
                    <a:pt x="20" y="1249"/>
                  </a:lnTo>
                  <a:lnTo>
                    <a:pt x="26" y="1285"/>
                  </a:lnTo>
                  <a:lnTo>
                    <a:pt x="32" y="1319"/>
                  </a:lnTo>
                  <a:lnTo>
                    <a:pt x="39" y="1349"/>
                  </a:lnTo>
                  <a:lnTo>
                    <a:pt x="48" y="1376"/>
                  </a:lnTo>
                  <a:lnTo>
                    <a:pt x="54" y="1402"/>
                  </a:lnTo>
                  <a:lnTo>
                    <a:pt x="61" y="1422"/>
                  </a:lnTo>
                  <a:lnTo>
                    <a:pt x="68" y="1441"/>
                  </a:lnTo>
                  <a:lnTo>
                    <a:pt x="73" y="1456"/>
                  </a:lnTo>
                  <a:lnTo>
                    <a:pt x="78" y="1468"/>
                  </a:lnTo>
                  <a:lnTo>
                    <a:pt x="81" y="1476"/>
                  </a:lnTo>
                  <a:lnTo>
                    <a:pt x="83" y="1481"/>
                  </a:lnTo>
                  <a:lnTo>
                    <a:pt x="84" y="1483"/>
                  </a:lnTo>
                  <a:lnTo>
                    <a:pt x="85" y="1484"/>
                  </a:lnTo>
                  <a:lnTo>
                    <a:pt x="84" y="1483"/>
                  </a:lnTo>
                  <a:lnTo>
                    <a:pt x="84" y="1483"/>
                  </a:lnTo>
                  <a:lnTo>
                    <a:pt x="83" y="1482"/>
                  </a:lnTo>
                  <a:lnTo>
                    <a:pt x="80" y="1476"/>
                  </a:lnTo>
                  <a:lnTo>
                    <a:pt x="77" y="1468"/>
                  </a:lnTo>
                  <a:lnTo>
                    <a:pt x="72" y="1456"/>
                  </a:lnTo>
                  <a:lnTo>
                    <a:pt x="66" y="1440"/>
                  </a:lnTo>
                  <a:lnTo>
                    <a:pt x="60" y="1422"/>
                  </a:lnTo>
                  <a:lnTo>
                    <a:pt x="54" y="1402"/>
                  </a:lnTo>
                  <a:lnTo>
                    <a:pt x="47" y="1376"/>
                  </a:lnTo>
                  <a:lnTo>
                    <a:pt x="39" y="1349"/>
                  </a:lnTo>
                  <a:lnTo>
                    <a:pt x="32" y="1319"/>
                  </a:lnTo>
                  <a:lnTo>
                    <a:pt x="25" y="1285"/>
                  </a:lnTo>
                  <a:lnTo>
                    <a:pt x="19" y="1249"/>
                  </a:lnTo>
                  <a:lnTo>
                    <a:pt x="13" y="1210"/>
                  </a:lnTo>
                  <a:lnTo>
                    <a:pt x="8" y="1168"/>
                  </a:lnTo>
                  <a:lnTo>
                    <a:pt x="5" y="1123"/>
                  </a:lnTo>
                  <a:lnTo>
                    <a:pt x="2" y="1077"/>
                  </a:lnTo>
                  <a:lnTo>
                    <a:pt x="0" y="1026"/>
                  </a:lnTo>
                  <a:lnTo>
                    <a:pt x="1" y="973"/>
                  </a:lnTo>
                  <a:lnTo>
                    <a:pt x="3" y="918"/>
                  </a:lnTo>
                  <a:lnTo>
                    <a:pt x="8" y="862"/>
                  </a:lnTo>
                  <a:lnTo>
                    <a:pt x="15" y="802"/>
                  </a:lnTo>
                  <a:lnTo>
                    <a:pt x="24" y="739"/>
                  </a:lnTo>
                  <a:lnTo>
                    <a:pt x="36" y="675"/>
                  </a:lnTo>
                  <a:lnTo>
                    <a:pt x="50" y="609"/>
                  </a:lnTo>
                  <a:lnTo>
                    <a:pt x="68" y="539"/>
                  </a:lnTo>
                  <a:lnTo>
                    <a:pt x="89" y="468"/>
                  </a:lnTo>
                  <a:lnTo>
                    <a:pt x="113" y="395"/>
                  </a:lnTo>
                  <a:lnTo>
                    <a:pt x="140" y="320"/>
                  </a:lnTo>
                  <a:lnTo>
                    <a:pt x="171" y="243"/>
                  </a:lnTo>
                  <a:lnTo>
                    <a:pt x="207" y="164"/>
                  </a:lnTo>
                  <a:lnTo>
                    <a:pt x="247" y="82"/>
                  </a:lnTo>
                  <a:lnTo>
                    <a:pt x="291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309920" y="2143080"/>
              <a:ext cx="115920" cy="588960"/>
            </a:xfrm>
            <a:custGeom>
              <a:avLst/>
              <a:gdLst/>
              <a:ahLst/>
              <a:rect l="l" t="t" r="r" b="b"/>
              <a:pathLst>
                <a:path w="293" h="1484">
                  <a:moveTo>
                    <a:pt x="293" y="0"/>
                  </a:moveTo>
                  <a:lnTo>
                    <a:pt x="248" y="83"/>
                  </a:lnTo>
                  <a:lnTo>
                    <a:pt x="209" y="164"/>
                  </a:lnTo>
                  <a:lnTo>
                    <a:pt x="173" y="243"/>
                  </a:lnTo>
                  <a:lnTo>
                    <a:pt x="141" y="321"/>
                  </a:lnTo>
                  <a:lnTo>
                    <a:pt x="114" y="396"/>
                  </a:lnTo>
                  <a:lnTo>
                    <a:pt x="90" y="468"/>
                  </a:lnTo>
                  <a:lnTo>
                    <a:pt x="68" y="539"/>
                  </a:lnTo>
                  <a:lnTo>
                    <a:pt x="50" y="609"/>
                  </a:lnTo>
                  <a:lnTo>
                    <a:pt x="37" y="676"/>
                  </a:lnTo>
                  <a:lnTo>
                    <a:pt x="25" y="739"/>
                  </a:lnTo>
                  <a:lnTo>
                    <a:pt x="15" y="802"/>
                  </a:lnTo>
                  <a:lnTo>
                    <a:pt x="9" y="862"/>
                  </a:lnTo>
                  <a:lnTo>
                    <a:pt x="5" y="919"/>
                  </a:lnTo>
                  <a:lnTo>
                    <a:pt x="2" y="975"/>
                  </a:lnTo>
                  <a:lnTo>
                    <a:pt x="2" y="1026"/>
                  </a:lnTo>
                  <a:lnTo>
                    <a:pt x="3" y="1077"/>
                  </a:lnTo>
                  <a:lnTo>
                    <a:pt x="5" y="1123"/>
                  </a:lnTo>
                  <a:lnTo>
                    <a:pt x="9" y="1168"/>
                  </a:lnTo>
                  <a:lnTo>
                    <a:pt x="14" y="1210"/>
                  </a:lnTo>
                  <a:lnTo>
                    <a:pt x="20" y="1249"/>
                  </a:lnTo>
                  <a:lnTo>
                    <a:pt x="26" y="1285"/>
                  </a:lnTo>
                  <a:lnTo>
                    <a:pt x="32" y="1319"/>
                  </a:lnTo>
                  <a:lnTo>
                    <a:pt x="39" y="1349"/>
                  </a:lnTo>
                  <a:lnTo>
                    <a:pt x="48" y="1376"/>
                  </a:lnTo>
                  <a:lnTo>
                    <a:pt x="54" y="1402"/>
                  </a:lnTo>
                  <a:lnTo>
                    <a:pt x="61" y="1422"/>
                  </a:lnTo>
                  <a:lnTo>
                    <a:pt x="68" y="1441"/>
                  </a:lnTo>
                  <a:lnTo>
                    <a:pt x="73" y="1456"/>
                  </a:lnTo>
                  <a:lnTo>
                    <a:pt x="78" y="1468"/>
                  </a:lnTo>
                  <a:lnTo>
                    <a:pt x="81" y="1476"/>
                  </a:lnTo>
                  <a:lnTo>
                    <a:pt x="83" y="1481"/>
                  </a:lnTo>
                  <a:lnTo>
                    <a:pt x="84" y="1483"/>
                  </a:lnTo>
                  <a:lnTo>
                    <a:pt x="85" y="1484"/>
                  </a:lnTo>
                  <a:lnTo>
                    <a:pt x="84" y="1483"/>
                  </a:lnTo>
                  <a:lnTo>
                    <a:pt x="84" y="1483"/>
                  </a:lnTo>
                  <a:lnTo>
                    <a:pt x="83" y="1482"/>
                  </a:lnTo>
                  <a:lnTo>
                    <a:pt x="80" y="1476"/>
                  </a:lnTo>
                  <a:lnTo>
                    <a:pt x="77" y="1468"/>
                  </a:lnTo>
                  <a:lnTo>
                    <a:pt x="72" y="1456"/>
                  </a:lnTo>
                  <a:lnTo>
                    <a:pt x="66" y="1440"/>
                  </a:lnTo>
                  <a:lnTo>
                    <a:pt x="60" y="1422"/>
                  </a:lnTo>
                  <a:lnTo>
                    <a:pt x="54" y="1402"/>
                  </a:lnTo>
                  <a:lnTo>
                    <a:pt x="47" y="1376"/>
                  </a:lnTo>
                  <a:lnTo>
                    <a:pt x="39" y="1349"/>
                  </a:lnTo>
                  <a:lnTo>
                    <a:pt x="32" y="1319"/>
                  </a:lnTo>
                  <a:lnTo>
                    <a:pt x="25" y="1285"/>
                  </a:lnTo>
                  <a:lnTo>
                    <a:pt x="19" y="1249"/>
                  </a:lnTo>
                  <a:lnTo>
                    <a:pt x="13" y="1210"/>
                  </a:lnTo>
                  <a:lnTo>
                    <a:pt x="8" y="1168"/>
                  </a:lnTo>
                  <a:lnTo>
                    <a:pt x="5" y="1123"/>
                  </a:lnTo>
                  <a:lnTo>
                    <a:pt x="2" y="1077"/>
                  </a:lnTo>
                  <a:lnTo>
                    <a:pt x="0" y="1026"/>
                  </a:lnTo>
                  <a:lnTo>
                    <a:pt x="1" y="973"/>
                  </a:lnTo>
                  <a:lnTo>
                    <a:pt x="3" y="918"/>
                  </a:lnTo>
                  <a:lnTo>
                    <a:pt x="8" y="862"/>
                  </a:lnTo>
                  <a:lnTo>
                    <a:pt x="15" y="802"/>
                  </a:lnTo>
                  <a:lnTo>
                    <a:pt x="24" y="739"/>
                  </a:lnTo>
                  <a:lnTo>
                    <a:pt x="36" y="675"/>
                  </a:lnTo>
                  <a:lnTo>
                    <a:pt x="50" y="609"/>
                  </a:lnTo>
                  <a:lnTo>
                    <a:pt x="68" y="539"/>
                  </a:lnTo>
                  <a:lnTo>
                    <a:pt x="89" y="468"/>
                  </a:lnTo>
                  <a:lnTo>
                    <a:pt x="113" y="395"/>
                  </a:lnTo>
                  <a:lnTo>
                    <a:pt x="140" y="320"/>
                  </a:lnTo>
                  <a:lnTo>
                    <a:pt x="171" y="243"/>
                  </a:lnTo>
                  <a:lnTo>
                    <a:pt x="207" y="164"/>
                  </a:lnTo>
                  <a:lnTo>
                    <a:pt x="247" y="82"/>
                  </a:lnTo>
                  <a:lnTo>
                    <a:pt x="291" y="0"/>
                  </a:lnTo>
                  <a:lnTo>
                    <a:pt x="293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302000" y="2117880"/>
              <a:ext cx="82800" cy="614160"/>
            </a:xfrm>
            <a:custGeom>
              <a:avLst/>
              <a:gdLst/>
              <a:ahLst/>
              <a:rect l="l" t="t" r="r" b="b"/>
              <a:pathLst>
                <a:path w="205" h="1550">
                  <a:moveTo>
                    <a:pt x="104" y="1550"/>
                  </a:moveTo>
                  <a:lnTo>
                    <a:pt x="103" y="1550"/>
                  </a:lnTo>
                  <a:lnTo>
                    <a:pt x="102" y="1549"/>
                  </a:lnTo>
                  <a:lnTo>
                    <a:pt x="99" y="1543"/>
                  </a:lnTo>
                  <a:lnTo>
                    <a:pt x="96" y="1535"/>
                  </a:lnTo>
                  <a:lnTo>
                    <a:pt x="91" y="1521"/>
                  </a:lnTo>
                  <a:lnTo>
                    <a:pt x="85" y="1507"/>
                  </a:lnTo>
                  <a:lnTo>
                    <a:pt x="79" y="1488"/>
                  </a:lnTo>
                  <a:lnTo>
                    <a:pt x="72" y="1465"/>
                  </a:lnTo>
                  <a:lnTo>
                    <a:pt x="63" y="1440"/>
                  </a:lnTo>
                  <a:lnTo>
                    <a:pt x="55" y="1411"/>
                  </a:lnTo>
                  <a:lnTo>
                    <a:pt x="48" y="1380"/>
                  </a:lnTo>
                  <a:lnTo>
                    <a:pt x="39" y="1346"/>
                  </a:lnTo>
                  <a:lnTo>
                    <a:pt x="32" y="1308"/>
                  </a:lnTo>
                  <a:lnTo>
                    <a:pt x="24" y="1268"/>
                  </a:lnTo>
                  <a:lnTo>
                    <a:pt x="16" y="1224"/>
                  </a:lnTo>
                  <a:lnTo>
                    <a:pt x="12" y="1177"/>
                  </a:lnTo>
                  <a:lnTo>
                    <a:pt x="7" y="1129"/>
                  </a:lnTo>
                  <a:lnTo>
                    <a:pt x="3" y="1076"/>
                  </a:lnTo>
                  <a:lnTo>
                    <a:pt x="0" y="1022"/>
                  </a:lnTo>
                  <a:lnTo>
                    <a:pt x="0" y="965"/>
                  </a:lnTo>
                  <a:lnTo>
                    <a:pt x="0" y="905"/>
                  </a:lnTo>
                  <a:lnTo>
                    <a:pt x="3" y="842"/>
                  </a:lnTo>
                  <a:lnTo>
                    <a:pt x="7" y="778"/>
                  </a:lnTo>
                  <a:lnTo>
                    <a:pt x="14" y="710"/>
                  </a:lnTo>
                  <a:lnTo>
                    <a:pt x="24" y="641"/>
                  </a:lnTo>
                  <a:lnTo>
                    <a:pt x="34" y="568"/>
                  </a:lnTo>
                  <a:lnTo>
                    <a:pt x="49" y="493"/>
                  </a:lnTo>
                  <a:lnTo>
                    <a:pt x="67" y="417"/>
                  </a:lnTo>
                  <a:lnTo>
                    <a:pt x="87" y="337"/>
                  </a:lnTo>
                  <a:lnTo>
                    <a:pt x="111" y="256"/>
                  </a:lnTo>
                  <a:lnTo>
                    <a:pt x="138" y="173"/>
                  </a:lnTo>
                  <a:lnTo>
                    <a:pt x="169" y="88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170" y="88"/>
                  </a:lnTo>
                  <a:lnTo>
                    <a:pt x="139" y="173"/>
                  </a:lnTo>
                  <a:lnTo>
                    <a:pt x="112" y="257"/>
                  </a:lnTo>
                  <a:lnTo>
                    <a:pt x="88" y="337"/>
                  </a:lnTo>
                  <a:lnTo>
                    <a:pt x="68" y="417"/>
                  </a:lnTo>
                  <a:lnTo>
                    <a:pt x="51" y="495"/>
                  </a:lnTo>
                  <a:lnTo>
                    <a:pt x="36" y="569"/>
                  </a:lnTo>
                  <a:lnTo>
                    <a:pt x="24" y="641"/>
                  </a:lnTo>
                  <a:lnTo>
                    <a:pt x="15" y="710"/>
                  </a:lnTo>
                  <a:lnTo>
                    <a:pt x="8" y="779"/>
                  </a:lnTo>
                  <a:lnTo>
                    <a:pt x="3" y="842"/>
                  </a:lnTo>
                  <a:lnTo>
                    <a:pt x="1" y="906"/>
                  </a:lnTo>
                  <a:lnTo>
                    <a:pt x="0" y="966"/>
                  </a:lnTo>
                  <a:lnTo>
                    <a:pt x="2" y="1022"/>
                  </a:lnTo>
                  <a:lnTo>
                    <a:pt x="3" y="1076"/>
                  </a:lnTo>
                  <a:lnTo>
                    <a:pt x="8" y="1129"/>
                  </a:lnTo>
                  <a:lnTo>
                    <a:pt x="13" y="1178"/>
                  </a:lnTo>
                  <a:lnTo>
                    <a:pt x="19" y="1225"/>
                  </a:lnTo>
                  <a:lnTo>
                    <a:pt x="25" y="1267"/>
                  </a:lnTo>
                  <a:lnTo>
                    <a:pt x="32" y="1308"/>
                  </a:lnTo>
                  <a:lnTo>
                    <a:pt x="40" y="1346"/>
                  </a:lnTo>
                  <a:lnTo>
                    <a:pt x="48" y="1381"/>
                  </a:lnTo>
                  <a:lnTo>
                    <a:pt x="56" y="1412"/>
                  </a:lnTo>
                  <a:lnTo>
                    <a:pt x="64" y="1441"/>
                  </a:lnTo>
                  <a:lnTo>
                    <a:pt x="73" y="1466"/>
                  </a:lnTo>
                  <a:lnTo>
                    <a:pt x="79" y="1488"/>
                  </a:lnTo>
                  <a:lnTo>
                    <a:pt x="86" y="1507"/>
                  </a:lnTo>
                  <a:lnTo>
                    <a:pt x="92" y="1523"/>
                  </a:lnTo>
                  <a:lnTo>
                    <a:pt x="97" y="1535"/>
                  </a:lnTo>
                  <a:lnTo>
                    <a:pt x="100" y="1543"/>
                  </a:lnTo>
                  <a:lnTo>
                    <a:pt x="102" y="1548"/>
                  </a:lnTo>
                  <a:lnTo>
                    <a:pt x="103" y="1550"/>
                  </a:lnTo>
                  <a:lnTo>
                    <a:pt x="103" y="1550"/>
                  </a:lnTo>
                  <a:lnTo>
                    <a:pt x="104" y="155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02000" y="2117880"/>
              <a:ext cx="82800" cy="614160"/>
            </a:xfrm>
            <a:custGeom>
              <a:avLst/>
              <a:gdLst/>
              <a:ahLst/>
              <a:rect l="l" t="t" r="r" b="b"/>
              <a:pathLst>
                <a:path w="205" h="1550">
                  <a:moveTo>
                    <a:pt x="104" y="1550"/>
                  </a:moveTo>
                  <a:lnTo>
                    <a:pt x="103" y="1550"/>
                  </a:lnTo>
                  <a:lnTo>
                    <a:pt x="102" y="1549"/>
                  </a:lnTo>
                  <a:lnTo>
                    <a:pt x="99" y="1543"/>
                  </a:lnTo>
                  <a:lnTo>
                    <a:pt x="96" y="1535"/>
                  </a:lnTo>
                  <a:lnTo>
                    <a:pt x="91" y="1521"/>
                  </a:lnTo>
                  <a:lnTo>
                    <a:pt x="85" y="1507"/>
                  </a:lnTo>
                  <a:lnTo>
                    <a:pt x="79" y="1488"/>
                  </a:lnTo>
                  <a:lnTo>
                    <a:pt x="72" y="1465"/>
                  </a:lnTo>
                  <a:lnTo>
                    <a:pt x="63" y="1440"/>
                  </a:lnTo>
                  <a:lnTo>
                    <a:pt x="55" y="1411"/>
                  </a:lnTo>
                  <a:lnTo>
                    <a:pt x="48" y="1380"/>
                  </a:lnTo>
                  <a:lnTo>
                    <a:pt x="39" y="1346"/>
                  </a:lnTo>
                  <a:lnTo>
                    <a:pt x="32" y="1308"/>
                  </a:lnTo>
                  <a:lnTo>
                    <a:pt x="24" y="1268"/>
                  </a:lnTo>
                  <a:lnTo>
                    <a:pt x="16" y="1224"/>
                  </a:lnTo>
                  <a:lnTo>
                    <a:pt x="12" y="1177"/>
                  </a:lnTo>
                  <a:lnTo>
                    <a:pt x="7" y="1129"/>
                  </a:lnTo>
                  <a:lnTo>
                    <a:pt x="3" y="1076"/>
                  </a:lnTo>
                  <a:lnTo>
                    <a:pt x="0" y="1022"/>
                  </a:lnTo>
                  <a:lnTo>
                    <a:pt x="0" y="965"/>
                  </a:lnTo>
                  <a:lnTo>
                    <a:pt x="0" y="905"/>
                  </a:lnTo>
                  <a:lnTo>
                    <a:pt x="3" y="842"/>
                  </a:lnTo>
                  <a:lnTo>
                    <a:pt x="7" y="778"/>
                  </a:lnTo>
                  <a:lnTo>
                    <a:pt x="14" y="710"/>
                  </a:lnTo>
                  <a:lnTo>
                    <a:pt x="24" y="641"/>
                  </a:lnTo>
                  <a:lnTo>
                    <a:pt x="34" y="568"/>
                  </a:lnTo>
                  <a:lnTo>
                    <a:pt x="49" y="493"/>
                  </a:lnTo>
                  <a:lnTo>
                    <a:pt x="67" y="417"/>
                  </a:lnTo>
                  <a:lnTo>
                    <a:pt x="87" y="337"/>
                  </a:lnTo>
                  <a:lnTo>
                    <a:pt x="111" y="256"/>
                  </a:lnTo>
                  <a:lnTo>
                    <a:pt x="138" y="173"/>
                  </a:lnTo>
                  <a:lnTo>
                    <a:pt x="169" y="88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170" y="88"/>
                  </a:lnTo>
                  <a:lnTo>
                    <a:pt x="139" y="173"/>
                  </a:lnTo>
                  <a:lnTo>
                    <a:pt x="112" y="257"/>
                  </a:lnTo>
                  <a:lnTo>
                    <a:pt x="88" y="337"/>
                  </a:lnTo>
                  <a:lnTo>
                    <a:pt x="68" y="417"/>
                  </a:lnTo>
                  <a:lnTo>
                    <a:pt x="51" y="495"/>
                  </a:lnTo>
                  <a:lnTo>
                    <a:pt x="36" y="569"/>
                  </a:lnTo>
                  <a:lnTo>
                    <a:pt x="24" y="641"/>
                  </a:lnTo>
                  <a:lnTo>
                    <a:pt x="15" y="710"/>
                  </a:lnTo>
                  <a:lnTo>
                    <a:pt x="8" y="779"/>
                  </a:lnTo>
                  <a:lnTo>
                    <a:pt x="3" y="842"/>
                  </a:lnTo>
                  <a:lnTo>
                    <a:pt x="1" y="906"/>
                  </a:lnTo>
                  <a:lnTo>
                    <a:pt x="0" y="966"/>
                  </a:lnTo>
                  <a:lnTo>
                    <a:pt x="2" y="1022"/>
                  </a:lnTo>
                  <a:lnTo>
                    <a:pt x="3" y="1076"/>
                  </a:lnTo>
                  <a:lnTo>
                    <a:pt x="8" y="1129"/>
                  </a:lnTo>
                  <a:lnTo>
                    <a:pt x="13" y="1178"/>
                  </a:lnTo>
                  <a:lnTo>
                    <a:pt x="19" y="1225"/>
                  </a:lnTo>
                  <a:lnTo>
                    <a:pt x="25" y="1267"/>
                  </a:lnTo>
                  <a:lnTo>
                    <a:pt x="32" y="1308"/>
                  </a:lnTo>
                  <a:lnTo>
                    <a:pt x="40" y="1346"/>
                  </a:lnTo>
                  <a:lnTo>
                    <a:pt x="48" y="1381"/>
                  </a:lnTo>
                  <a:lnTo>
                    <a:pt x="56" y="1412"/>
                  </a:lnTo>
                  <a:lnTo>
                    <a:pt x="64" y="1441"/>
                  </a:lnTo>
                  <a:lnTo>
                    <a:pt x="73" y="1466"/>
                  </a:lnTo>
                  <a:lnTo>
                    <a:pt x="79" y="1488"/>
                  </a:lnTo>
                  <a:lnTo>
                    <a:pt x="86" y="1507"/>
                  </a:lnTo>
                  <a:lnTo>
                    <a:pt x="92" y="1523"/>
                  </a:lnTo>
                  <a:lnTo>
                    <a:pt x="97" y="1535"/>
                  </a:lnTo>
                  <a:lnTo>
                    <a:pt x="100" y="1543"/>
                  </a:lnTo>
                  <a:lnTo>
                    <a:pt x="102" y="1548"/>
                  </a:lnTo>
                  <a:lnTo>
                    <a:pt x="103" y="1550"/>
                  </a:lnTo>
                  <a:lnTo>
                    <a:pt x="103" y="1550"/>
                  </a:lnTo>
                  <a:lnTo>
                    <a:pt x="104" y="155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94000" y="2241720"/>
              <a:ext cx="235080" cy="636480"/>
            </a:xfrm>
            <a:custGeom>
              <a:avLst/>
              <a:gdLst/>
              <a:ahLst/>
              <a:rect l="l" t="t" r="r" b="b"/>
              <a:pathLst>
                <a:path w="591" h="1604">
                  <a:moveTo>
                    <a:pt x="321" y="54"/>
                  </a:moveTo>
                  <a:lnTo>
                    <a:pt x="229" y="22"/>
                  </a:lnTo>
                  <a:lnTo>
                    <a:pt x="459" y="0"/>
                  </a:lnTo>
                  <a:lnTo>
                    <a:pt x="591" y="161"/>
                  </a:lnTo>
                  <a:lnTo>
                    <a:pt x="541" y="138"/>
                  </a:lnTo>
                  <a:lnTo>
                    <a:pt x="507" y="124"/>
                  </a:lnTo>
                  <a:lnTo>
                    <a:pt x="495" y="120"/>
                  </a:lnTo>
                  <a:lnTo>
                    <a:pt x="489" y="122"/>
                  </a:lnTo>
                  <a:lnTo>
                    <a:pt x="420" y="204"/>
                  </a:lnTo>
                  <a:lnTo>
                    <a:pt x="359" y="286"/>
                  </a:lnTo>
                  <a:lnTo>
                    <a:pt x="301" y="365"/>
                  </a:lnTo>
                  <a:lnTo>
                    <a:pt x="252" y="442"/>
                  </a:lnTo>
                  <a:lnTo>
                    <a:pt x="209" y="516"/>
                  </a:lnTo>
                  <a:lnTo>
                    <a:pt x="170" y="589"/>
                  </a:lnTo>
                  <a:lnTo>
                    <a:pt x="137" y="660"/>
                  </a:lnTo>
                  <a:lnTo>
                    <a:pt x="109" y="730"/>
                  </a:lnTo>
                  <a:lnTo>
                    <a:pt x="86" y="797"/>
                  </a:lnTo>
                  <a:lnTo>
                    <a:pt x="69" y="862"/>
                  </a:lnTo>
                  <a:lnTo>
                    <a:pt x="43" y="982"/>
                  </a:lnTo>
                  <a:lnTo>
                    <a:pt x="32" y="1094"/>
                  </a:lnTo>
                  <a:lnTo>
                    <a:pt x="33" y="1196"/>
                  </a:lnTo>
                  <a:lnTo>
                    <a:pt x="43" y="1289"/>
                  </a:lnTo>
                  <a:lnTo>
                    <a:pt x="59" y="1370"/>
                  </a:lnTo>
                  <a:lnTo>
                    <a:pt x="81" y="1440"/>
                  </a:lnTo>
                  <a:lnTo>
                    <a:pt x="103" y="1498"/>
                  </a:lnTo>
                  <a:lnTo>
                    <a:pt x="125" y="1544"/>
                  </a:lnTo>
                  <a:lnTo>
                    <a:pt x="144" y="1578"/>
                  </a:lnTo>
                  <a:lnTo>
                    <a:pt x="162" y="1604"/>
                  </a:lnTo>
                  <a:lnTo>
                    <a:pt x="144" y="1576"/>
                  </a:lnTo>
                  <a:lnTo>
                    <a:pt x="123" y="1542"/>
                  </a:lnTo>
                  <a:lnTo>
                    <a:pt x="99" y="1495"/>
                  </a:lnTo>
                  <a:lnTo>
                    <a:pt x="74" y="1434"/>
                  </a:lnTo>
                  <a:lnTo>
                    <a:pt x="49" y="1363"/>
                  </a:lnTo>
                  <a:lnTo>
                    <a:pt x="29" y="1278"/>
                  </a:lnTo>
                  <a:lnTo>
                    <a:pt x="9" y="1183"/>
                  </a:lnTo>
                  <a:lnTo>
                    <a:pt x="0" y="1078"/>
                  </a:lnTo>
                  <a:lnTo>
                    <a:pt x="0" y="960"/>
                  </a:lnTo>
                  <a:lnTo>
                    <a:pt x="5" y="898"/>
                  </a:lnTo>
                  <a:lnTo>
                    <a:pt x="12" y="833"/>
                  </a:lnTo>
                  <a:lnTo>
                    <a:pt x="21" y="765"/>
                  </a:lnTo>
                  <a:lnTo>
                    <a:pt x="36" y="696"/>
                  </a:lnTo>
                  <a:lnTo>
                    <a:pt x="55" y="623"/>
                  </a:lnTo>
                  <a:lnTo>
                    <a:pt x="77" y="549"/>
                  </a:lnTo>
                  <a:lnTo>
                    <a:pt x="103" y="472"/>
                  </a:lnTo>
                  <a:lnTo>
                    <a:pt x="137" y="393"/>
                  </a:lnTo>
                  <a:lnTo>
                    <a:pt x="175" y="311"/>
                  </a:lnTo>
                  <a:lnTo>
                    <a:pt x="219" y="228"/>
                  </a:lnTo>
                  <a:lnTo>
                    <a:pt x="266" y="143"/>
                  </a:lnTo>
                  <a:lnTo>
                    <a:pt x="321" y="54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394000" y="2241720"/>
              <a:ext cx="235080" cy="636480"/>
            </a:xfrm>
            <a:custGeom>
              <a:avLst/>
              <a:gdLst/>
              <a:ahLst/>
              <a:rect l="l" t="t" r="r" b="b"/>
              <a:pathLst>
                <a:path w="591" h="1604">
                  <a:moveTo>
                    <a:pt x="321" y="54"/>
                  </a:moveTo>
                  <a:lnTo>
                    <a:pt x="229" y="22"/>
                  </a:lnTo>
                  <a:lnTo>
                    <a:pt x="459" y="0"/>
                  </a:lnTo>
                  <a:lnTo>
                    <a:pt x="591" y="161"/>
                  </a:lnTo>
                  <a:lnTo>
                    <a:pt x="541" y="138"/>
                  </a:lnTo>
                  <a:lnTo>
                    <a:pt x="507" y="124"/>
                  </a:lnTo>
                  <a:lnTo>
                    <a:pt x="495" y="120"/>
                  </a:lnTo>
                  <a:lnTo>
                    <a:pt x="489" y="122"/>
                  </a:lnTo>
                  <a:lnTo>
                    <a:pt x="420" y="204"/>
                  </a:lnTo>
                  <a:lnTo>
                    <a:pt x="359" y="286"/>
                  </a:lnTo>
                  <a:lnTo>
                    <a:pt x="301" y="365"/>
                  </a:lnTo>
                  <a:lnTo>
                    <a:pt x="252" y="442"/>
                  </a:lnTo>
                  <a:lnTo>
                    <a:pt x="209" y="516"/>
                  </a:lnTo>
                  <a:lnTo>
                    <a:pt x="170" y="589"/>
                  </a:lnTo>
                  <a:lnTo>
                    <a:pt x="137" y="660"/>
                  </a:lnTo>
                  <a:lnTo>
                    <a:pt x="109" y="730"/>
                  </a:lnTo>
                  <a:lnTo>
                    <a:pt x="86" y="797"/>
                  </a:lnTo>
                  <a:lnTo>
                    <a:pt x="69" y="862"/>
                  </a:lnTo>
                  <a:lnTo>
                    <a:pt x="43" y="982"/>
                  </a:lnTo>
                  <a:lnTo>
                    <a:pt x="32" y="1094"/>
                  </a:lnTo>
                  <a:lnTo>
                    <a:pt x="33" y="1196"/>
                  </a:lnTo>
                  <a:lnTo>
                    <a:pt x="43" y="1289"/>
                  </a:lnTo>
                  <a:lnTo>
                    <a:pt x="59" y="1370"/>
                  </a:lnTo>
                  <a:lnTo>
                    <a:pt x="81" y="1440"/>
                  </a:lnTo>
                  <a:lnTo>
                    <a:pt x="103" y="1498"/>
                  </a:lnTo>
                  <a:lnTo>
                    <a:pt x="125" y="1544"/>
                  </a:lnTo>
                  <a:lnTo>
                    <a:pt x="144" y="1578"/>
                  </a:lnTo>
                  <a:lnTo>
                    <a:pt x="162" y="1604"/>
                  </a:lnTo>
                  <a:lnTo>
                    <a:pt x="144" y="1576"/>
                  </a:lnTo>
                  <a:lnTo>
                    <a:pt x="123" y="1542"/>
                  </a:lnTo>
                  <a:lnTo>
                    <a:pt x="99" y="1495"/>
                  </a:lnTo>
                  <a:lnTo>
                    <a:pt x="74" y="1434"/>
                  </a:lnTo>
                  <a:lnTo>
                    <a:pt x="49" y="1363"/>
                  </a:lnTo>
                  <a:lnTo>
                    <a:pt x="29" y="1278"/>
                  </a:lnTo>
                  <a:lnTo>
                    <a:pt x="9" y="1183"/>
                  </a:lnTo>
                  <a:lnTo>
                    <a:pt x="0" y="1078"/>
                  </a:lnTo>
                  <a:lnTo>
                    <a:pt x="0" y="960"/>
                  </a:lnTo>
                  <a:lnTo>
                    <a:pt x="5" y="898"/>
                  </a:lnTo>
                  <a:lnTo>
                    <a:pt x="12" y="833"/>
                  </a:lnTo>
                  <a:lnTo>
                    <a:pt x="21" y="765"/>
                  </a:lnTo>
                  <a:lnTo>
                    <a:pt x="36" y="696"/>
                  </a:lnTo>
                  <a:lnTo>
                    <a:pt x="55" y="623"/>
                  </a:lnTo>
                  <a:lnTo>
                    <a:pt x="77" y="549"/>
                  </a:lnTo>
                  <a:lnTo>
                    <a:pt x="103" y="472"/>
                  </a:lnTo>
                  <a:lnTo>
                    <a:pt x="137" y="393"/>
                  </a:lnTo>
                  <a:lnTo>
                    <a:pt x="175" y="311"/>
                  </a:lnTo>
                  <a:lnTo>
                    <a:pt x="219" y="228"/>
                  </a:lnTo>
                  <a:lnTo>
                    <a:pt x="266" y="143"/>
                  </a:lnTo>
                  <a:lnTo>
                    <a:pt x="321" y="54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82920" y="2241720"/>
              <a:ext cx="146160" cy="63360"/>
            </a:xfrm>
            <a:custGeom>
              <a:avLst/>
              <a:gdLst/>
              <a:ahLst/>
              <a:rect l="l" t="t" r="r" b="b"/>
              <a:pathLst>
                <a:path w="366" h="161">
                  <a:moveTo>
                    <a:pt x="94" y="56"/>
                  </a:moveTo>
                  <a:lnTo>
                    <a:pt x="0" y="21"/>
                  </a:lnTo>
                  <a:lnTo>
                    <a:pt x="232" y="0"/>
                  </a:lnTo>
                  <a:lnTo>
                    <a:pt x="366" y="161"/>
                  </a:lnTo>
                  <a:lnTo>
                    <a:pt x="364" y="161"/>
                  </a:lnTo>
                  <a:lnTo>
                    <a:pt x="232" y="2"/>
                  </a:lnTo>
                  <a:lnTo>
                    <a:pt x="234" y="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94" y="54"/>
                  </a:lnTo>
                  <a:lnTo>
                    <a:pt x="94" y="56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482920" y="2241720"/>
              <a:ext cx="146160" cy="63360"/>
            </a:xfrm>
            <a:custGeom>
              <a:avLst/>
              <a:gdLst/>
              <a:ahLst/>
              <a:rect l="l" t="t" r="r" b="b"/>
              <a:pathLst>
                <a:path w="366" h="161">
                  <a:moveTo>
                    <a:pt x="94" y="56"/>
                  </a:moveTo>
                  <a:lnTo>
                    <a:pt x="0" y="21"/>
                  </a:lnTo>
                  <a:lnTo>
                    <a:pt x="232" y="0"/>
                  </a:lnTo>
                  <a:lnTo>
                    <a:pt x="366" y="161"/>
                  </a:lnTo>
                  <a:lnTo>
                    <a:pt x="364" y="161"/>
                  </a:lnTo>
                  <a:lnTo>
                    <a:pt x="232" y="2"/>
                  </a:lnTo>
                  <a:lnTo>
                    <a:pt x="234" y="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94" y="54"/>
                  </a:lnTo>
                  <a:lnTo>
                    <a:pt x="94" y="56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87680" y="2289240"/>
              <a:ext cx="41400" cy="15840"/>
            </a:xfrm>
            <a:custGeom>
              <a:avLst/>
              <a:gdLst/>
              <a:ahLst/>
              <a:rect l="l" t="t" r="r" b="b"/>
              <a:pathLst>
                <a:path w="105" h="42">
                  <a:moveTo>
                    <a:pt x="105" y="42"/>
                  </a:moveTo>
                  <a:lnTo>
                    <a:pt x="103" y="42"/>
                  </a:lnTo>
                  <a:lnTo>
                    <a:pt x="102" y="41"/>
                  </a:lnTo>
                  <a:lnTo>
                    <a:pt x="100" y="41"/>
                  </a:lnTo>
                  <a:lnTo>
                    <a:pt x="97" y="39"/>
                  </a:lnTo>
                  <a:lnTo>
                    <a:pt x="95" y="37"/>
                  </a:lnTo>
                  <a:lnTo>
                    <a:pt x="91" y="36"/>
                  </a:lnTo>
                  <a:lnTo>
                    <a:pt x="88" y="35"/>
                  </a:lnTo>
                  <a:lnTo>
                    <a:pt x="84" y="33"/>
                  </a:lnTo>
                  <a:lnTo>
                    <a:pt x="81" y="31"/>
                  </a:lnTo>
                  <a:lnTo>
                    <a:pt x="77" y="29"/>
                  </a:lnTo>
                  <a:lnTo>
                    <a:pt x="72" y="28"/>
                  </a:lnTo>
                  <a:lnTo>
                    <a:pt x="67" y="25"/>
                  </a:lnTo>
                  <a:lnTo>
                    <a:pt x="64" y="23"/>
                  </a:lnTo>
                  <a:lnTo>
                    <a:pt x="59" y="21"/>
                  </a:lnTo>
                  <a:lnTo>
                    <a:pt x="54" y="19"/>
                  </a:lnTo>
                  <a:lnTo>
                    <a:pt x="49" y="17"/>
                  </a:lnTo>
                  <a:lnTo>
                    <a:pt x="46" y="15"/>
                  </a:lnTo>
                  <a:lnTo>
                    <a:pt x="36" y="11"/>
                  </a:lnTo>
                  <a:lnTo>
                    <a:pt x="31" y="10"/>
                  </a:lnTo>
                  <a:lnTo>
                    <a:pt x="27" y="7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7" y="7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5" y="18"/>
                  </a:lnTo>
                  <a:lnTo>
                    <a:pt x="59" y="21"/>
                  </a:lnTo>
                  <a:lnTo>
                    <a:pt x="64" y="23"/>
                  </a:lnTo>
                  <a:lnTo>
                    <a:pt x="69" y="24"/>
                  </a:lnTo>
                  <a:lnTo>
                    <a:pt x="73" y="27"/>
                  </a:lnTo>
                  <a:lnTo>
                    <a:pt x="77" y="28"/>
                  </a:lnTo>
                  <a:lnTo>
                    <a:pt x="81" y="30"/>
                  </a:lnTo>
                  <a:lnTo>
                    <a:pt x="85" y="33"/>
                  </a:lnTo>
                  <a:lnTo>
                    <a:pt x="88" y="34"/>
                  </a:lnTo>
                  <a:lnTo>
                    <a:pt x="91" y="36"/>
                  </a:lnTo>
                  <a:lnTo>
                    <a:pt x="95" y="37"/>
                  </a:lnTo>
                  <a:lnTo>
                    <a:pt x="97" y="39"/>
                  </a:lnTo>
                  <a:lnTo>
                    <a:pt x="101" y="40"/>
                  </a:lnTo>
                  <a:lnTo>
                    <a:pt x="103" y="41"/>
                  </a:lnTo>
                  <a:lnTo>
                    <a:pt x="105" y="42"/>
                  </a:lnTo>
                  <a:lnTo>
                    <a:pt x="103" y="42"/>
                  </a:lnTo>
                  <a:lnTo>
                    <a:pt x="105" y="42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587680" y="2289240"/>
              <a:ext cx="41400" cy="15840"/>
            </a:xfrm>
            <a:custGeom>
              <a:avLst/>
              <a:gdLst/>
              <a:ahLst/>
              <a:rect l="l" t="t" r="r" b="b"/>
              <a:pathLst>
                <a:path w="105" h="42">
                  <a:moveTo>
                    <a:pt x="105" y="42"/>
                  </a:moveTo>
                  <a:lnTo>
                    <a:pt x="103" y="42"/>
                  </a:lnTo>
                  <a:lnTo>
                    <a:pt x="102" y="41"/>
                  </a:lnTo>
                  <a:lnTo>
                    <a:pt x="100" y="41"/>
                  </a:lnTo>
                  <a:lnTo>
                    <a:pt x="97" y="39"/>
                  </a:lnTo>
                  <a:lnTo>
                    <a:pt x="95" y="37"/>
                  </a:lnTo>
                  <a:lnTo>
                    <a:pt x="91" y="36"/>
                  </a:lnTo>
                  <a:lnTo>
                    <a:pt x="88" y="35"/>
                  </a:lnTo>
                  <a:lnTo>
                    <a:pt x="84" y="33"/>
                  </a:lnTo>
                  <a:lnTo>
                    <a:pt x="81" y="31"/>
                  </a:lnTo>
                  <a:lnTo>
                    <a:pt x="77" y="29"/>
                  </a:lnTo>
                  <a:lnTo>
                    <a:pt x="72" y="28"/>
                  </a:lnTo>
                  <a:lnTo>
                    <a:pt x="67" y="25"/>
                  </a:lnTo>
                  <a:lnTo>
                    <a:pt x="64" y="23"/>
                  </a:lnTo>
                  <a:lnTo>
                    <a:pt x="59" y="21"/>
                  </a:lnTo>
                  <a:lnTo>
                    <a:pt x="54" y="19"/>
                  </a:lnTo>
                  <a:lnTo>
                    <a:pt x="49" y="17"/>
                  </a:lnTo>
                  <a:lnTo>
                    <a:pt x="46" y="15"/>
                  </a:lnTo>
                  <a:lnTo>
                    <a:pt x="36" y="11"/>
                  </a:lnTo>
                  <a:lnTo>
                    <a:pt x="31" y="10"/>
                  </a:lnTo>
                  <a:lnTo>
                    <a:pt x="27" y="7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7" y="7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5" y="18"/>
                  </a:lnTo>
                  <a:lnTo>
                    <a:pt x="59" y="21"/>
                  </a:lnTo>
                  <a:lnTo>
                    <a:pt x="64" y="23"/>
                  </a:lnTo>
                  <a:lnTo>
                    <a:pt x="69" y="24"/>
                  </a:lnTo>
                  <a:lnTo>
                    <a:pt x="73" y="27"/>
                  </a:lnTo>
                  <a:lnTo>
                    <a:pt x="77" y="28"/>
                  </a:lnTo>
                  <a:lnTo>
                    <a:pt x="81" y="30"/>
                  </a:lnTo>
                  <a:lnTo>
                    <a:pt x="85" y="33"/>
                  </a:lnTo>
                  <a:lnTo>
                    <a:pt x="88" y="34"/>
                  </a:lnTo>
                  <a:lnTo>
                    <a:pt x="91" y="36"/>
                  </a:lnTo>
                  <a:lnTo>
                    <a:pt x="95" y="37"/>
                  </a:lnTo>
                  <a:lnTo>
                    <a:pt x="97" y="39"/>
                  </a:lnTo>
                  <a:lnTo>
                    <a:pt x="101" y="40"/>
                  </a:lnTo>
                  <a:lnTo>
                    <a:pt x="103" y="41"/>
                  </a:lnTo>
                  <a:lnTo>
                    <a:pt x="105" y="42"/>
                  </a:lnTo>
                  <a:lnTo>
                    <a:pt x="103" y="42"/>
                  </a:lnTo>
                  <a:lnTo>
                    <a:pt x="105" y="42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05160" y="2289240"/>
              <a:ext cx="182520" cy="588960"/>
            </a:xfrm>
            <a:custGeom>
              <a:avLst/>
              <a:gdLst/>
              <a:ahLst/>
              <a:rect l="l" t="t" r="r" b="b"/>
              <a:pathLst>
                <a:path w="462" h="1484">
                  <a:moveTo>
                    <a:pt x="462" y="0"/>
                  </a:moveTo>
                  <a:lnTo>
                    <a:pt x="392" y="82"/>
                  </a:lnTo>
                  <a:lnTo>
                    <a:pt x="328" y="163"/>
                  </a:lnTo>
                  <a:lnTo>
                    <a:pt x="273" y="243"/>
                  </a:lnTo>
                  <a:lnTo>
                    <a:pt x="223" y="320"/>
                  </a:lnTo>
                  <a:lnTo>
                    <a:pt x="178" y="395"/>
                  </a:lnTo>
                  <a:lnTo>
                    <a:pt x="141" y="467"/>
                  </a:lnTo>
                  <a:lnTo>
                    <a:pt x="108" y="539"/>
                  </a:lnTo>
                  <a:lnTo>
                    <a:pt x="80" y="608"/>
                  </a:lnTo>
                  <a:lnTo>
                    <a:pt x="58" y="675"/>
                  </a:lnTo>
                  <a:lnTo>
                    <a:pt x="39" y="739"/>
                  </a:lnTo>
                  <a:lnTo>
                    <a:pt x="24" y="801"/>
                  </a:lnTo>
                  <a:lnTo>
                    <a:pt x="14" y="861"/>
                  </a:lnTo>
                  <a:lnTo>
                    <a:pt x="7" y="919"/>
                  </a:lnTo>
                  <a:lnTo>
                    <a:pt x="4" y="974"/>
                  </a:lnTo>
                  <a:lnTo>
                    <a:pt x="2" y="1025"/>
                  </a:lnTo>
                  <a:lnTo>
                    <a:pt x="4" y="1076"/>
                  </a:lnTo>
                  <a:lnTo>
                    <a:pt x="8" y="1122"/>
                  </a:lnTo>
                  <a:lnTo>
                    <a:pt x="14" y="1167"/>
                  </a:lnTo>
                  <a:lnTo>
                    <a:pt x="21" y="1209"/>
                  </a:lnTo>
                  <a:lnTo>
                    <a:pt x="31" y="1248"/>
                  </a:lnTo>
                  <a:lnTo>
                    <a:pt x="40" y="1284"/>
                  </a:lnTo>
                  <a:lnTo>
                    <a:pt x="51" y="1318"/>
                  </a:lnTo>
                  <a:lnTo>
                    <a:pt x="62" y="1348"/>
                  </a:lnTo>
                  <a:lnTo>
                    <a:pt x="74" y="1376"/>
                  </a:lnTo>
                  <a:lnTo>
                    <a:pt x="85" y="1401"/>
                  </a:lnTo>
                  <a:lnTo>
                    <a:pt x="96" y="1422"/>
                  </a:lnTo>
                  <a:lnTo>
                    <a:pt x="106" y="1440"/>
                  </a:lnTo>
                  <a:lnTo>
                    <a:pt x="115" y="1456"/>
                  </a:lnTo>
                  <a:lnTo>
                    <a:pt x="122" y="1467"/>
                  </a:lnTo>
                  <a:lnTo>
                    <a:pt x="128" y="1475"/>
                  </a:lnTo>
                  <a:lnTo>
                    <a:pt x="130" y="1481"/>
                  </a:lnTo>
                  <a:lnTo>
                    <a:pt x="133" y="1482"/>
                  </a:lnTo>
                  <a:lnTo>
                    <a:pt x="133" y="1484"/>
                  </a:lnTo>
                  <a:lnTo>
                    <a:pt x="132" y="1482"/>
                  </a:lnTo>
                  <a:lnTo>
                    <a:pt x="133" y="1482"/>
                  </a:lnTo>
                  <a:lnTo>
                    <a:pt x="129" y="1481"/>
                  </a:lnTo>
                  <a:lnTo>
                    <a:pt x="127" y="1475"/>
                  </a:lnTo>
                  <a:lnTo>
                    <a:pt x="121" y="1467"/>
                  </a:lnTo>
                  <a:lnTo>
                    <a:pt x="112" y="1455"/>
                  </a:lnTo>
                  <a:lnTo>
                    <a:pt x="104" y="1439"/>
                  </a:lnTo>
                  <a:lnTo>
                    <a:pt x="94" y="1422"/>
                  </a:lnTo>
                  <a:lnTo>
                    <a:pt x="84" y="1401"/>
                  </a:lnTo>
                  <a:lnTo>
                    <a:pt x="73" y="1377"/>
                  </a:lnTo>
                  <a:lnTo>
                    <a:pt x="61" y="1348"/>
                  </a:lnTo>
                  <a:lnTo>
                    <a:pt x="50" y="1318"/>
                  </a:lnTo>
                  <a:lnTo>
                    <a:pt x="39" y="1284"/>
                  </a:lnTo>
                  <a:lnTo>
                    <a:pt x="28" y="1248"/>
                  </a:lnTo>
                  <a:lnTo>
                    <a:pt x="20" y="1209"/>
                  </a:lnTo>
                  <a:lnTo>
                    <a:pt x="12" y="1167"/>
                  </a:lnTo>
                  <a:lnTo>
                    <a:pt x="6" y="1122"/>
                  </a:lnTo>
                  <a:lnTo>
                    <a:pt x="2" y="1076"/>
                  </a:lnTo>
                  <a:lnTo>
                    <a:pt x="0" y="1025"/>
                  </a:lnTo>
                  <a:lnTo>
                    <a:pt x="2" y="972"/>
                  </a:lnTo>
                  <a:lnTo>
                    <a:pt x="4" y="919"/>
                  </a:lnTo>
                  <a:lnTo>
                    <a:pt x="12" y="861"/>
                  </a:lnTo>
                  <a:lnTo>
                    <a:pt x="24" y="801"/>
                  </a:lnTo>
                  <a:lnTo>
                    <a:pt x="37" y="739"/>
                  </a:lnTo>
                  <a:lnTo>
                    <a:pt x="56" y="674"/>
                  </a:lnTo>
                  <a:lnTo>
                    <a:pt x="79" y="608"/>
                  </a:lnTo>
                  <a:lnTo>
                    <a:pt x="106" y="538"/>
                  </a:lnTo>
                  <a:lnTo>
                    <a:pt x="139" y="467"/>
                  </a:lnTo>
                  <a:lnTo>
                    <a:pt x="177" y="394"/>
                  </a:lnTo>
                  <a:lnTo>
                    <a:pt x="222" y="319"/>
                  </a:lnTo>
                  <a:lnTo>
                    <a:pt x="271" y="242"/>
                  </a:lnTo>
                  <a:lnTo>
                    <a:pt x="327" y="163"/>
                  </a:lnTo>
                  <a:lnTo>
                    <a:pt x="390" y="81"/>
                  </a:lnTo>
                  <a:lnTo>
                    <a:pt x="459" y="0"/>
                  </a:lnTo>
                  <a:lnTo>
                    <a:pt x="462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05160" y="2289240"/>
              <a:ext cx="182520" cy="588960"/>
            </a:xfrm>
            <a:custGeom>
              <a:avLst/>
              <a:gdLst/>
              <a:ahLst/>
              <a:rect l="l" t="t" r="r" b="b"/>
              <a:pathLst>
                <a:path w="462" h="1484">
                  <a:moveTo>
                    <a:pt x="462" y="0"/>
                  </a:moveTo>
                  <a:lnTo>
                    <a:pt x="392" y="82"/>
                  </a:lnTo>
                  <a:lnTo>
                    <a:pt x="328" y="163"/>
                  </a:lnTo>
                  <a:lnTo>
                    <a:pt x="273" y="243"/>
                  </a:lnTo>
                  <a:lnTo>
                    <a:pt x="223" y="320"/>
                  </a:lnTo>
                  <a:lnTo>
                    <a:pt x="178" y="395"/>
                  </a:lnTo>
                  <a:lnTo>
                    <a:pt x="141" y="467"/>
                  </a:lnTo>
                  <a:lnTo>
                    <a:pt x="108" y="539"/>
                  </a:lnTo>
                  <a:lnTo>
                    <a:pt x="80" y="608"/>
                  </a:lnTo>
                  <a:lnTo>
                    <a:pt x="58" y="675"/>
                  </a:lnTo>
                  <a:lnTo>
                    <a:pt x="39" y="739"/>
                  </a:lnTo>
                  <a:lnTo>
                    <a:pt x="24" y="801"/>
                  </a:lnTo>
                  <a:lnTo>
                    <a:pt x="14" y="861"/>
                  </a:lnTo>
                  <a:lnTo>
                    <a:pt x="7" y="919"/>
                  </a:lnTo>
                  <a:lnTo>
                    <a:pt x="4" y="974"/>
                  </a:lnTo>
                  <a:lnTo>
                    <a:pt x="2" y="1025"/>
                  </a:lnTo>
                  <a:lnTo>
                    <a:pt x="4" y="1076"/>
                  </a:lnTo>
                  <a:lnTo>
                    <a:pt x="8" y="1122"/>
                  </a:lnTo>
                  <a:lnTo>
                    <a:pt x="14" y="1167"/>
                  </a:lnTo>
                  <a:lnTo>
                    <a:pt x="21" y="1209"/>
                  </a:lnTo>
                  <a:lnTo>
                    <a:pt x="31" y="1248"/>
                  </a:lnTo>
                  <a:lnTo>
                    <a:pt x="40" y="1284"/>
                  </a:lnTo>
                  <a:lnTo>
                    <a:pt x="51" y="1318"/>
                  </a:lnTo>
                  <a:lnTo>
                    <a:pt x="62" y="1348"/>
                  </a:lnTo>
                  <a:lnTo>
                    <a:pt x="74" y="1376"/>
                  </a:lnTo>
                  <a:lnTo>
                    <a:pt x="85" y="1401"/>
                  </a:lnTo>
                  <a:lnTo>
                    <a:pt x="96" y="1422"/>
                  </a:lnTo>
                  <a:lnTo>
                    <a:pt x="106" y="1440"/>
                  </a:lnTo>
                  <a:lnTo>
                    <a:pt x="115" y="1456"/>
                  </a:lnTo>
                  <a:lnTo>
                    <a:pt x="122" y="1467"/>
                  </a:lnTo>
                  <a:lnTo>
                    <a:pt x="128" y="1475"/>
                  </a:lnTo>
                  <a:lnTo>
                    <a:pt x="130" y="1481"/>
                  </a:lnTo>
                  <a:lnTo>
                    <a:pt x="133" y="1482"/>
                  </a:lnTo>
                  <a:lnTo>
                    <a:pt x="133" y="1484"/>
                  </a:lnTo>
                  <a:lnTo>
                    <a:pt x="132" y="1482"/>
                  </a:lnTo>
                  <a:lnTo>
                    <a:pt x="133" y="1482"/>
                  </a:lnTo>
                  <a:lnTo>
                    <a:pt x="129" y="1481"/>
                  </a:lnTo>
                  <a:lnTo>
                    <a:pt x="127" y="1475"/>
                  </a:lnTo>
                  <a:lnTo>
                    <a:pt x="121" y="1467"/>
                  </a:lnTo>
                  <a:lnTo>
                    <a:pt x="112" y="1455"/>
                  </a:lnTo>
                  <a:lnTo>
                    <a:pt x="104" y="1439"/>
                  </a:lnTo>
                  <a:lnTo>
                    <a:pt x="94" y="1422"/>
                  </a:lnTo>
                  <a:lnTo>
                    <a:pt x="84" y="1401"/>
                  </a:lnTo>
                  <a:lnTo>
                    <a:pt x="73" y="1377"/>
                  </a:lnTo>
                  <a:lnTo>
                    <a:pt x="61" y="1348"/>
                  </a:lnTo>
                  <a:lnTo>
                    <a:pt x="50" y="1318"/>
                  </a:lnTo>
                  <a:lnTo>
                    <a:pt x="39" y="1284"/>
                  </a:lnTo>
                  <a:lnTo>
                    <a:pt x="28" y="1248"/>
                  </a:lnTo>
                  <a:lnTo>
                    <a:pt x="20" y="1209"/>
                  </a:lnTo>
                  <a:lnTo>
                    <a:pt x="12" y="1167"/>
                  </a:lnTo>
                  <a:lnTo>
                    <a:pt x="6" y="1122"/>
                  </a:lnTo>
                  <a:lnTo>
                    <a:pt x="2" y="1076"/>
                  </a:lnTo>
                  <a:lnTo>
                    <a:pt x="0" y="1025"/>
                  </a:lnTo>
                  <a:lnTo>
                    <a:pt x="2" y="972"/>
                  </a:lnTo>
                  <a:lnTo>
                    <a:pt x="4" y="919"/>
                  </a:lnTo>
                  <a:lnTo>
                    <a:pt x="12" y="861"/>
                  </a:lnTo>
                  <a:lnTo>
                    <a:pt x="24" y="801"/>
                  </a:lnTo>
                  <a:lnTo>
                    <a:pt x="37" y="739"/>
                  </a:lnTo>
                  <a:lnTo>
                    <a:pt x="56" y="674"/>
                  </a:lnTo>
                  <a:lnTo>
                    <a:pt x="79" y="608"/>
                  </a:lnTo>
                  <a:lnTo>
                    <a:pt x="106" y="538"/>
                  </a:lnTo>
                  <a:lnTo>
                    <a:pt x="139" y="467"/>
                  </a:lnTo>
                  <a:lnTo>
                    <a:pt x="177" y="394"/>
                  </a:lnTo>
                  <a:lnTo>
                    <a:pt x="222" y="319"/>
                  </a:lnTo>
                  <a:lnTo>
                    <a:pt x="271" y="242"/>
                  </a:lnTo>
                  <a:lnTo>
                    <a:pt x="327" y="163"/>
                  </a:lnTo>
                  <a:lnTo>
                    <a:pt x="390" y="81"/>
                  </a:lnTo>
                  <a:lnTo>
                    <a:pt x="459" y="0"/>
                  </a:lnTo>
                  <a:lnTo>
                    <a:pt x="462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92200" y="2262240"/>
              <a:ext cx="128880" cy="615960"/>
            </a:xfrm>
            <a:custGeom>
              <a:avLst/>
              <a:gdLst/>
              <a:ahLst/>
              <a:rect l="l" t="t" r="r" b="b"/>
              <a:pathLst>
                <a:path w="324" h="1550">
                  <a:moveTo>
                    <a:pt x="166" y="1550"/>
                  </a:moveTo>
                  <a:lnTo>
                    <a:pt x="165" y="1550"/>
                  </a:lnTo>
                  <a:lnTo>
                    <a:pt x="161" y="1549"/>
                  </a:lnTo>
                  <a:lnTo>
                    <a:pt x="159" y="1543"/>
                  </a:lnTo>
                  <a:lnTo>
                    <a:pt x="153" y="1535"/>
                  </a:lnTo>
                  <a:lnTo>
                    <a:pt x="144" y="1523"/>
                  </a:lnTo>
                  <a:lnTo>
                    <a:pt x="135" y="1507"/>
                  </a:lnTo>
                  <a:lnTo>
                    <a:pt x="125" y="1488"/>
                  </a:lnTo>
                  <a:lnTo>
                    <a:pt x="114" y="1465"/>
                  </a:lnTo>
                  <a:lnTo>
                    <a:pt x="101" y="1440"/>
                  </a:lnTo>
                  <a:lnTo>
                    <a:pt x="88" y="1412"/>
                  </a:lnTo>
                  <a:lnTo>
                    <a:pt x="76" y="1380"/>
                  </a:lnTo>
                  <a:lnTo>
                    <a:pt x="64" y="1346"/>
                  </a:lnTo>
                  <a:lnTo>
                    <a:pt x="51" y="1309"/>
                  </a:lnTo>
                  <a:lnTo>
                    <a:pt x="40" y="1268"/>
                  </a:lnTo>
                  <a:lnTo>
                    <a:pt x="28" y="1224"/>
                  </a:lnTo>
                  <a:lnTo>
                    <a:pt x="20" y="1178"/>
                  </a:lnTo>
                  <a:lnTo>
                    <a:pt x="12" y="1129"/>
                  </a:lnTo>
                  <a:lnTo>
                    <a:pt x="6" y="1078"/>
                  </a:lnTo>
                  <a:lnTo>
                    <a:pt x="2" y="1023"/>
                  </a:lnTo>
                  <a:lnTo>
                    <a:pt x="0" y="965"/>
                  </a:lnTo>
                  <a:lnTo>
                    <a:pt x="2" y="906"/>
                  </a:lnTo>
                  <a:lnTo>
                    <a:pt x="5" y="843"/>
                  </a:lnTo>
                  <a:lnTo>
                    <a:pt x="12" y="778"/>
                  </a:lnTo>
                  <a:lnTo>
                    <a:pt x="24" y="711"/>
                  </a:lnTo>
                  <a:lnTo>
                    <a:pt x="39" y="641"/>
                  </a:lnTo>
                  <a:lnTo>
                    <a:pt x="56" y="568"/>
                  </a:lnTo>
                  <a:lnTo>
                    <a:pt x="80" y="493"/>
                  </a:lnTo>
                  <a:lnTo>
                    <a:pt x="107" y="417"/>
                  </a:lnTo>
                  <a:lnTo>
                    <a:pt x="140" y="337"/>
                  </a:lnTo>
                  <a:lnTo>
                    <a:pt x="177" y="256"/>
                  </a:lnTo>
                  <a:lnTo>
                    <a:pt x="219" y="173"/>
                  </a:lnTo>
                  <a:lnTo>
                    <a:pt x="268" y="88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269" y="88"/>
                  </a:lnTo>
                  <a:lnTo>
                    <a:pt x="221" y="173"/>
                  </a:lnTo>
                  <a:lnTo>
                    <a:pt x="178" y="257"/>
                  </a:lnTo>
                  <a:lnTo>
                    <a:pt x="141" y="339"/>
                  </a:lnTo>
                  <a:lnTo>
                    <a:pt x="108" y="417"/>
                  </a:lnTo>
                  <a:lnTo>
                    <a:pt x="82" y="495"/>
                  </a:lnTo>
                  <a:lnTo>
                    <a:pt x="58" y="569"/>
                  </a:lnTo>
                  <a:lnTo>
                    <a:pt x="40" y="641"/>
                  </a:lnTo>
                  <a:lnTo>
                    <a:pt x="26" y="711"/>
                  </a:lnTo>
                  <a:lnTo>
                    <a:pt x="15" y="779"/>
                  </a:lnTo>
                  <a:lnTo>
                    <a:pt x="6" y="843"/>
                  </a:lnTo>
                  <a:lnTo>
                    <a:pt x="3" y="906"/>
                  </a:lnTo>
                  <a:lnTo>
                    <a:pt x="2" y="966"/>
                  </a:lnTo>
                  <a:lnTo>
                    <a:pt x="4" y="1023"/>
                  </a:lnTo>
                  <a:lnTo>
                    <a:pt x="8" y="1078"/>
                  </a:lnTo>
                  <a:lnTo>
                    <a:pt x="15" y="1129"/>
                  </a:lnTo>
                  <a:lnTo>
                    <a:pt x="21" y="1178"/>
                  </a:lnTo>
                  <a:lnTo>
                    <a:pt x="30" y="1225"/>
                  </a:lnTo>
                  <a:lnTo>
                    <a:pt x="41" y="1268"/>
                  </a:lnTo>
                  <a:lnTo>
                    <a:pt x="53" y="1308"/>
                  </a:lnTo>
                  <a:lnTo>
                    <a:pt x="65" y="1346"/>
                  </a:lnTo>
                  <a:lnTo>
                    <a:pt x="77" y="1381"/>
                  </a:lnTo>
                  <a:lnTo>
                    <a:pt x="90" y="1412"/>
                  </a:lnTo>
                  <a:lnTo>
                    <a:pt x="104" y="1441"/>
                  </a:lnTo>
                  <a:lnTo>
                    <a:pt x="116" y="1466"/>
                  </a:lnTo>
                  <a:lnTo>
                    <a:pt x="126" y="1488"/>
                  </a:lnTo>
                  <a:lnTo>
                    <a:pt x="137" y="1507"/>
                  </a:lnTo>
                  <a:lnTo>
                    <a:pt x="147" y="1523"/>
                  </a:lnTo>
                  <a:lnTo>
                    <a:pt x="155" y="1535"/>
                  </a:lnTo>
                  <a:lnTo>
                    <a:pt x="160" y="1543"/>
                  </a:lnTo>
                  <a:lnTo>
                    <a:pt x="162" y="1549"/>
                  </a:lnTo>
                  <a:lnTo>
                    <a:pt x="165" y="1550"/>
                  </a:lnTo>
                  <a:lnTo>
                    <a:pt x="164" y="1550"/>
                  </a:lnTo>
                  <a:lnTo>
                    <a:pt x="166" y="155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92200" y="2262240"/>
              <a:ext cx="128880" cy="615960"/>
            </a:xfrm>
            <a:custGeom>
              <a:avLst/>
              <a:gdLst/>
              <a:ahLst/>
              <a:rect l="l" t="t" r="r" b="b"/>
              <a:pathLst>
                <a:path w="324" h="1550">
                  <a:moveTo>
                    <a:pt x="166" y="1550"/>
                  </a:moveTo>
                  <a:lnTo>
                    <a:pt x="165" y="1550"/>
                  </a:lnTo>
                  <a:lnTo>
                    <a:pt x="161" y="1549"/>
                  </a:lnTo>
                  <a:lnTo>
                    <a:pt x="159" y="1543"/>
                  </a:lnTo>
                  <a:lnTo>
                    <a:pt x="153" y="1535"/>
                  </a:lnTo>
                  <a:lnTo>
                    <a:pt x="144" y="1523"/>
                  </a:lnTo>
                  <a:lnTo>
                    <a:pt x="135" y="1507"/>
                  </a:lnTo>
                  <a:lnTo>
                    <a:pt x="125" y="1488"/>
                  </a:lnTo>
                  <a:lnTo>
                    <a:pt x="114" y="1465"/>
                  </a:lnTo>
                  <a:lnTo>
                    <a:pt x="101" y="1440"/>
                  </a:lnTo>
                  <a:lnTo>
                    <a:pt x="88" y="1412"/>
                  </a:lnTo>
                  <a:lnTo>
                    <a:pt x="76" y="1380"/>
                  </a:lnTo>
                  <a:lnTo>
                    <a:pt x="64" y="1346"/>
                  </a:lnTo>
                  <a:lnTo>
                    <a:pt x="51" y="1309"/>
                  </a:lnTo>
                  <a:lnTo>
                    <a:pt x="40" y="1268"/>
                  </a:lnTo>
                  <a:lnTo>
                    <a:pt x="28" y="1224"/>
                  </a:lnTo>
                  <a:lnTo>
                    <a:pt x="20" y="1178"/>
                  </a:lnTo>
                  <a:lnTo>
                    <a:pt x="12" y="1129"/>
                  </a:lnTo>
                  <a:lnTo>
                    <a:pt x="6" y="1078"/>
                  </a:lnTo>
                  <a:lnTo>
                    <a:pt x="2" y="1023"/>
                  </a:lnTo>
                  <a:lnTo>
                    <a:pt x="0" y="965"/>
                  </a:lnTo>
                  <a:lnTo>
                    <a:pt x="2" y="906"/>
                  </a:lnTo>
                  <a:lnTo>
                    <a:pt x="5" y="843"/>
                  </a:lnTo>
                  <a:lnTo>
                    <a:pt x="12" y="778"/>
                  </a:lnTo>
                  <a:lnTo>
                    <a:pt x="24" y="711"/>
                  </a:lnTo>
                  <a:lnTo>
                    <a:pt x="39" y="641"/>
                  </a:lnTo>
                  <a:lnTo>
                    <a:pt x="56" y="568"/>
                  </a:lnTo>
                  <a:lnTo>
                    <a:pt x="80" y="493"/>
                  </a:lnTo>
                  <a:lnTo>
                    <a:pt x="107" y="417"/>
                  </a:lnTo>
                  <a:lnTo>
                    <a:pt x="140" y="337"/>
                  </a:lnTo>
                  <a:lnTo>
                    <a:pt x="177" y="256"/>
                  </a:lnTo>
                  <a:lnTo>
                    <a:pt x="219" y="173"/>
                  </a:lnTo>
                  <a:lnTo>
                    <a:pt x="268" y="88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269" y="88"/>
                  </a:lnTo>
                  <a:lnTo>
                    <a:pt x="221" y="173"/>
                  </a:lnTo>
                  <a:lnTo>
                    <a:pt x="178" y="257"/>
                  </a:lnTo>
                  <a:lnTo>
                    <a:pt x="141" y="339"/>
                  </a:lnTo>
                  <a:lnTo>
                    <a:pt x="108" y="417"/>
                  </a:lnTo>
                  <a:lnTo>
                    <a:pt x="82" y="495"/>
                  </a:lnTo>
                  <a:lnTo>
                    <a:pt x="58" y="569"/>
                  </a:lnTo>
                  <a:lnTo>
                    <a:pt x="40" y="641"/>
                  </a:lnTo>
                  <a:lnTo>
                    <a:pt x="26" y="711"/>
                  </a:lnTo>
                  <a:lnTo>
                    <a:pt x="15" y="779"/>
                  </a:lnTo>
                  <a:lnTo>
                    <a:pt x="6" y="843"/>
                  </a:lnTo>
                  <a:lnTo>
                    <a:pt x="3" y="906"/>
                  </a:lnTo>
                  <a:lnTo>
                    <a:pt x="2" y="966"/>
                  </a:lnTo>
                  <a:lnTo>
                    <a:pt x="4" y="1023"/>
                  </a:lnTo>
                  <a:lnTo>
                    <a:pt x="8" y="1078"/>
                  </a:lnTo>
                  <a:lnTo>
                    <a:pt x="15" y="1129"/>
                  </a:lnTo>
                  <a:lnTo>
                    <a:pt x="21" y="1178"/>
                  </a:lnTo>
                  <a:lnTo>
                    <a:pt x="30" y="1225"/>
                  </a:lnTo>
                  <a:lnTo>
                    <a:pt x="41" y="1268"/>
                  </a:lnTo>
                  <a:lnTo>
                    <a:pt x="53" y="1308"/>
                  </a:lnTo>
                  <a:lnTo>
                    <a:pt x="65" y="1346"/>
                  </a:lnTo>
                  <a:lnTo>
                    <a:pt x="77" y="1381"/>
                  </a:lnTo>
                  <a:lnTo>
                    <a:pt x="90" y="1412"/>
                  </a:lnTo>
                  <a:lnTo>
                    <a:pt x="104" y="1441"/>
                  </a:lnTo>
                  <a:lnTo>
                    <a:pt x="116" y="1466"/>
                  </a:lnTo>
                  <a:lnTo>
                    <a:pt x="126" y="1488"/>
                  </a:lnTo>
                  <a:lnTo>
                    <a:pt x="137" y="1507"/>
                  </a:lnTo>
                  <a:lnTo>
                    <a:pt x="147" y="1523"/>
                  </a:lnTo>
                  <a:lnTo>
                    <a:pt x="155" y="1535"/>
                  </a:lnTo>
                  <a:lnTo>
                    <a:pt x="160" y="1543"/>
                  </a:lnTo>
                  <a:lnTo>
                    <a:pt x="162" y="1549"/>
                  </a:lnTo>
                  <a:lnTo>
                    <a:pt x="165" y="1550"/>
                  </a:lnTo>
                  <a:lnTo>
                    <a:pt x="164" y="1550"/>
                  </a:lnTo>
                  <a:lnTo>
                    <a:pt x="166" y="155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646360" y="2487600"/>
              <a:ext cx="142920" cy="635040"/>
            </a:xfrm>
            <a:custGeom>
              <a:avLst/>
              <a:gdLst/>
              <a:ahLst/>
              <a:rect l="l" t="t" r="r" b="b"/>
              <a:pathLst>
                <a:path w="361" h="1599">
                  <a:moveTo>
                    <a:pt x="65" y="75"/>
                  </a:moveTo>
                  <a:lnTo>
                    <a:pt x="0" y="57"/>
                  </a:lnTo>
                  <a:lnTo>
                    <a:pt x="135" y="0"/>
                  </a:lnTo>
                  <a:lnTo>
                    <a:pt x="257" y="134"/>
                  </a:lnTo>
                  <a:lnTo>
                    <a:pt x="221" y="120"/>
                  </a:lnTo>
                  <a:lnTo>
                    <a:pt x="197" y="111"/>
                  </a:lnTo>
                  <a:lnTo>
                    <a:pt x="188" y="110"/>
                  </a:lnTo>
                  <a:lnTo>
                    <a:pt x="185" y="112"/>
                  </a:lnTo>
                  <a:lnTo>
                    <a:pt x="163" y="204"/>
                  </a:lnTo>
                  <a:lnTo>
                    <a:pt x="146" y="292"/>
                  </a:lnTo>
                  <a:lnTo>
                    <a:pt x="131" y="378"/>
                  </a:lnTo>
                  <a:lnTo>
                    <a:pt x="121" y="460"/>
                  </a:lnTo>
                  <a:lnTo>
                    <a:pt x="113" y="539"/>
                  </a:lnTo>
                  <a:lnTo>
                    <a:pt x="108" y="616"/>
                  </a:lnTo>
                  <a:lnTo>
                    <a:pt x="105" y="689"/>
                  </a:lnTo>
                  <a:lnTo>
                    <a:pt x="107" y="761"/>
                  </a:lnTo>
                  <a:lnTo>
                    <a:pt x="109" y="830"/>
                  </a:lnTo>
                  <a:lnTo>
                    <a:pt x="115" y="896"/>
                  </a:lnTo>
                  <a:lnTo>
                    <a:pt x="129" y="1017"/>
                  </a:lnTo>
                  <a:lnTo>
                    <a:pt x="152" y="1127"/>
                  </a:lnTo>
                  <a:lnTo>
                    <a:pt x="179" y="1226"/>
                  </a:lnTo>
                  <a:lnTo>
                    <a:pt x="209" y="1313"/>
                  </a:lnTo>
                  <a:lnTo>
                    <a:pt x="239" y="1389"/>
                  </a:lnTo>
                  <a:lnTo>
                    <a:pt x="270" y="1454"/>
                  </a:lnTo>
                  <a:lnTo>
                    <a:pt x="297" y="1505"/>
                  </a:lnTo>
                  <a:lnTo>
                    <a:pt x="323" y="1546"/>
                  </a:lnTo>
                  <a:lnTo>
                    <a:pt x="343" y="1576"/>
                  </a:lnTo>
                  <a:lnTo>
                    <a:pt x="361" y="1599"/>
                  </a:lnTo>
                  <a:lnTo>
                    <a:pt x="343" y="1575"/>
                  </a:lnTo>
                  <a:lnTo>
                    <a:pt x="321" y="1545"/>
                  </a:lnTo>
                  <a:lnTo>
                    <a:pt x="295" y="1503"/>
                  </a:lnTo>
                  <a:lnTo>
                    <a:pt x="264" y="1449"/>
                  </a:lnTo>
                  <a:lnTo>
                    <a:pt x="230" y="1384"/>
                  </a:lnTo>
                  <a:lnTo>
                    <a:pt x="197" y="1305"/>
                  </a:lnTo>
                  <a:lnTo>
                    <a:pt x="161" y="1216"/>
                  </a:lnTo>
                  <a:lnTo>
                    <a:pt x="128" y="1115"/>
                  </a:lnTo>
                  <a:lnTo>
                    <a:pt x="98" y="1001"/>
                  </a:lnTo>
                  <a:lnTo>
                    <a:pt x="85" y="940"/>
                  </a:lnTo>
                  <a:lnTo>
                    <a:pt x="73" y="877"/>
                  </a:lnTo>
                  <a:lnTo>
                    <a:pt x="62" y="809"/>
                  </a:lnTo>
                  <a:lnTo>
                    <a:pt x="53" y="741"/>
                  </a:lnTo>
                  <a:lnTo>
                    <a:pt x="45" y="667"/>
                  </a:lnTo>
                  <a:lnTo>
                    <a:pt x="41" y="591"/>
                  </a:lnTo>
                  <a:lnTo>
                    <a:pt x="37" y="513"/>
                  </a:lnTo>
                  <a:lnTo>
                    <a:pt x="38" y="432"/>
                  </a:lnTo>
                  <a:lnTo>
                    <a:pt x="41" y="346"/>
                  </a:lnTo>
                  <a:lnTo>
                    <a:pt x="47" y="259"/>
                  </a:lnTo>
                  <a:lnTo>
                    <a:pt x="53" y="169"/>
                  </a:lnTo>
                  <a:lnTo>
                    <a:pt x="65" y="75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646360" y="2487600"/>
              <a:ext cx="142920" cy="635040"/>
            </a:xfrm>
            <a:custGeom>
              <a:avLst/>
              <a:gdLst/>
              <a:ahLst/>
              <a:rect l="l" t="t" r="r" b="b"/>
              <a:pathLst>
                <a:path w="361" h="1599">
                  <a:moveTo>
                    <a:pt x="65" y="75"/>
                  </a:moveTo>
                  <a:lnTo>
                    <a:pt x="0" y="57"/>
                  </a:lnTo>
                  <a:lnTo>
                    <a:pt x="135" y="0"/>
                  </a:lnTo>
                  <a:lnTo>
                    <a:pt x="257" y="134"/>
                  </a:lnTo>
                  <a:lnTo>
                    <a:pt x="221" y="120"/>
                  </a:lnTo>
                  <a:lnTo>
                    <a:pt x="197" y="111"/>
                  </a:lnTo>
                  <a:lnTo>
                    <a:pt x="188" y="110"/>
                  </a:lnTo>
                  <a:lnTo>
                    <a:pt x="185" y="112"/>
                  </a:lnTo>
                  <a:lnTo>
                    <a:pt x="163" y="204"/>
                  </a:lnTo>
                  <a:lnTo>
                    <a:pt x="146" y="292"/>
                  </a:lnTo>
                  <a:lnTo>
                    <a:pt x="131" y="378"/>
                  </a:lnTo>
                  <a:lnTo>
                    <a:pt x="121" y="460"/>
                  </a:lnTo>
                  <a:lnTo>
                    <a:pt x="113" y="539"/>
                  </a:lnTo>
                  <a:lnTo>
                    <a:pt x="108" y="616"/>
                  </a:lnTo>
                  <a:lnTo>
                    <a:pt x="105" y="689"/>
                  </a:lnTo>
                  <a:lnTo>
                    <a:pt x="107" y="761"/>
                  </a:lnTo>
                  <a:lnTo>
                    <a:pt x="109" y="830"/>
                  </a:lnTo>
                  <a:lnTo>
                    <a:pt x="115" y="896"/>
                  </a:lnTo>
                  <a:lnTo>
                    <a:pt x="129" y="1017"/>
                  </a:lnTo>
                  <a:lnTo>
                    <a:pt x="152" y="1127"/>
                  </a:lnTo>
                  <a:lnTo>
                    <a:pt x="179" y="1226"/>
                  </a:lnTo>
                  <a:lnTo>
                    <a:pt x="209" y="1313"/>
                  </a:lnTo>
                  <a:lnTo>
                    <a:pt x="239" y="1389"/>
                  </a:lnTo>
                  <a:lnTo>
                    <a:pt x="270" y="1454"/>
                  </a:lnTo>
                  <a:lnTo>
                    <a:pt x="297" y="1505"/>
                  </a:lnTo>
                  <a:lnTo>
                    <a:pt x="323" y="1546"/>
                  </a:lnTo>
                  <a:lnTo>
                    <a:pt x="343" y="1576"/>
                  </a:lnTo>
                  <a:lnTo>
                    <a:pt x="361" y="1599"/>
                  </a:lnTo>
                  <a:lnTo>
                    <a:pt x="343" y="1575"/>
                  </a:lnTo>
                  <a:lnTo>
                    <a:pt x="321" y="1545"/>
                  </a:lnTo>
                  <a:lnTo>
                    <a:pt x="295" y="1503"/>
                  </a:lnTo>
                  <a:lnTo>
                    <a:pt x="264" y="1449"/>
                  </a:lnTo>
                  <a:lnTo>
                    <a:pt x="230" y="1384"/>
                  </a:lnTo>
                  <a:lnTo>
                    <a:pt x="197" y="1305"/>
                  </a:lnTo>
                  <a:lnTo>
                    <a:pt x="161" y="1216"/>
                  </a:lnTo>
                  <a:lnTo>
                    <a:pt x="128" y="1115"/>
                  </a:lnTo>
                  <a:lnTo>
                    <a:pt x="98" y="1001"/>
                  </a:lnTo>
                  <a:lnTo>
                    <a:pt x="85" y="940"/>
                  </a:lnTo>
                  <a:lnTo>
                    <a:pt x="73" y="877"/>
                  </a:lnTo>
                  <a:lnTo>
                    <a:pt x="62" y="809"/>
                  </a:lnTo>
                  <a:lnTo>
                    <a:pt x="53" y="741"/>
                  </a:lnTo>
                  <a:lnTo>
                    <a:pt x="45" y="667"/>
                  </a:lnTo>
                  <a:lnTo>
                    <a:pt x="41" y="591"/>
                  </a:lnTo>
                  <a:lnTo>
                    <a:pt x="37" y="513"/>
                  </a:lnTo>
                  <a:lnTo>
                    <a:pt x="38" y="432"/>
                  </a:lnTo>
                  <a:lnTo>
                    <a:pt x="41" y="346"/>
                  </a:lnTo>
                  <a:lnTo>
                    <a:pt x="47" y="259"/>
                  </a:lnTo>
                  <a:lnTo>
                    <a:pt x="53" y="169"/>
                  </a:lnTo>
                  <a:lnTo>
                    <a:pt x="65" y="75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644920" y="2487600"/>
              <a:ext cx="102960" cy="52560"/>
            </a:xfrm>
            <a:custGeom>
              <a:avLst/>
              <a:gdLst/>
              <a:ahLst/>
              <a:rect l="l" t="t" r="r" b="b"/>
              <a:pathLst>
                <a:path w="259" h="134">
                  <a:moveTo>
                    <a:pt x="66" y="75"/>
                  </a:moveTo>
                  <a:lnTo>
                    <a:pt x="0" y="57"/>
                  </a:lnTo>
                  <a:lnTo>
                    <a:pt x="136" y="0"/>
                  </a:lnTo>
                  <a:lnTo>
                    <a:pt x="259" y="134"/>
                  </a:lnTo>
                  <a:lnTo>
                    <a:pt x="258" y="134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66" y="74"/>
                  </a:lnTo>
                  <a:lnTo>
                    <a:pt x="66" y="75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644920" y="2487600"/>
              <a:ext cx="102960" cy="52560"/>
            </a:xfrm>
            <a:custGeom>
              <a:avLst/>
              <a:gdLst/>
              <a:ahLst/>
              <a:rect l="l" t="t" r="r" b="b"/>
              <a:pathLst>
                <a:path w="259" h="134">
                  <a:moveTo>
                    <a:pt x="66" y="75"/>
                  </a:moveTo>
                  <a:lnTo>
                    <a:pt x="0" y="57"/>
                  </a:lnTo>
                  <a:lnTo>
                    <a:pt x="136" y="0"/>
                  </a:lnTo>
                  <a:lnTo>
                    <a:pt x="259" y="134"/>
                  </a:lnTo>
                  <a:lnTo>
                    <a:pt x="258" y="134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66" y="74"/>
                  </a:lnTo>
                  <a:lnTo>
                    <a:pt x="66" y="75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719440" y="2530440"/>
              <a:ext cx="28440" cy="9720"/>
            </a:xfrm>
            <a:custGeom>
              <a:avLst/>
              <a:gdLst/>
              <a:ahLst/>
              <a:rect l="l" t="t" r="r" b="b"/>
              <a:pathLst>
                <a:path w="75" h="24">
                  <a:moveTo>
                    <a:pt x="75" y="24"/>
                  </a:moveTo>
                  <a:lnTo>
                    <a:pt x="74" y="24"/>
                  </a:lnTo>
                  <a:lnTo>
                    <a:pt x="74" y="24"/>
                  </a:lnTo>
                  <a:lnTo>
                    <a:pt x="71" y="23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65" y="20"/>
                  </a:lnTo>
                  <a:lnTo>
                    <a:pt x="62" y="19"/>
                  </a:lnTo>
                  <a:lnTo>
                    <a:pt x="60" y="18"/>
                  </a:lnTo>
                  <a:lnTo>
                    <a:pt x="57" y="17"/>
                  </a:lnTo>
                  <a:lnTo>
                    <a:pt x="54" y="16"/>
                  </a:lnTo>
                  <a:lnTo>
                    <a:pt x="51" y="16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8" y="4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5" y="12"/>
                  </a:lnTo>
                  <a:lnTo>
                    <a:pt x="47" y="12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0" y="22"/>
                  </a:lnTo>
                  <a:lnTo>
                    <a:pt x="71" y="23"/>
                  </a:lnTo>
                  <a:lnTo>
                    <a:pt x="74" y="23"/>
                  </a:lnTo>
                  <a:lnTo>
                    <a:pt x="75" y="24"/>
                  </a:lnTo>
                  <a:lnTo>
                    <a:pt x="74" y="24"/>
                  </a:lnTo>
                  <a:lnTo>
                    <a:pt x="75" y="24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719440" y="2530440"/>
              <a:ext cx="28440" cy="9720"/>
            </a:xfrm>
            <a:custGeom>
              <a:avLst/>
              <a:gdLst/>
              <a:ahLst/>
              <a:rect l="l" t="t" r="r" b="b"/>
              <a:pathLst>
                <a:path w="75" h="24">
                  <a:moveTo>
                    <a:pt x="75" y="24"/>
                  </a:moveTo>
                  <a:lnTo>
                    <a:pt x="74" y="24"/>
                  </a:lnTo>
                  <a:lnTo>
                    <a:pt x="74" y="24"/>
                  </a:lnTo>
                  <a:lnTo>
                    <a:pt x="71" y="23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65" y="20"/>
                  </a:lnTo>
                  <a:lnTo>
                    <a:pt x="62" y="19"/>
                  </a:lnTo>
                  <a:lnTo>
                    <a:pt x="60" y="18"/>
                  </a:lnTo>
                  <a:lnTo>
                    <a:pt x="57" y="17"/>
                  </a:lnTo>
                  <a:lnTo>
                    <a:pt x="54" y="16"/>
                  </a:lnTo>
                  <a:lnTo>
                    <a:pt x="51" y="16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8" y="4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5" y="12"/>
                  </a:lnTo>
                  <a:lnTo>
                    <a:pt x="47" y="12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0" y="22"/>
                  </a:lnTo>
                  <a:lnTo>
                    <a:pt x="71" y="23"/>
                  </a:lnTo>
                  <a:lnTo>
                    <a:pt x="74" y="23"/>
                  </a:lnTo>
                  <a:lnTo>
                    <a:pt x="75" y="24"/>
                  </a:lnTo>
                  <a:lnTo>
                    <a:pt x="74" y="24"/>
                  </a:lnTo>
                  <a:lnTo>
                    <a:pt x="75" y="24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687760" y="2532240"/>
              <a:ext cx="101520" cy="590400"/>
            </a:xfrm>
            <a:custGeom>
              <a:avLst/>
              <a:gdLst/>
              <a:ahLst/>
              <a:rect l="l" t="t" r="r" b="b"/>
              <a:pathLst>
                <a:path w="256" h="1488">
                  <a:moveTo>
                    <a:pt x="81" y="0"/>
                  </a:moveTo>
                  <a:lnTo>
                    <a:pt x="58" y="92"/>
                  </a:lnTo>
                  <a:lnTo>
                    <a:pt x="40" y="179"/>
                  </a:lnTo>
                  <a:lnTo>
                    <a:pt x="27" y="266"/>
                  </a:lnTo>
                  <a:lnTo>
                    <a:pt x="16" y="348"/>
                  </a:lnTo>
                  <a:lnTo>
                    <a:pt x="8" y="427"/>
                  </a:lnTo>
                  <a:lnTo>
                    <a:pt x="3" y="504"/>
                  </a:lnTo>
                  <a:lnTo>
                    <a:pt x="0" y="579"/>
                  </a:lnTo>
                  <a:lnTo>
                    <a:pt x="2" y="649"/>
                  </a:lnTo>
                  <a:lnTo>
                    <a:pt x="5" y="718"/>
                  </a:lnTo>
                  <a:lnTo>
                    <a:pt x="10" y="784"/>
                  </a:lnTo>
                  <a:lnTo>
                    <a:pt x="16" y="846"/>
                  </a:lnTo>
                  <a:lnTo>
                    <a:pt x="26" y="906"/>
                  </a:lnTo>
                  <a:lnTo>
                    <a:pt x="35" y="963"/>
                  </a:lnTo>
                  <a:lnTo>
                    <a:pt x="47" y="1015"/>
                  </a:lnTo>
                  <a:lnTo>
                    <a:pt x="60" y="1067"/>
                  </a:lnTo>
                  <a:lnTo>
                    <a:pt x="74" y="1115"/>
                  </a:lnTo>
                  <a:lnTo>
                    <a:pt x="88" y="1159"/>
                  </a:lnTo>
                  <a:lnTo>
                    <a:pt x="104" y="1201"/>
                  </a:lnTo>
                  <a:lnTo>
                    <a:pt x="118" y="1241"/>
                  </a:lnTo>
                  <a:lnTo>
                    <a:pt x="134" y="1277"/>
                  </a:lnTo>
                  <a:lnTo>
                    <a:pt x="149" y="1310"/>
                  </a:lnTo>
                  <a:lnTo>
                    <a:pt x="164" y="1342"/>
                  </a:lnTo>
                  <a:lnTo>
                    <a:pt x="179" y="1369"/>
                  </a:lnTo>
                  <a:lnTo>
                    <a:pt x="192" y="1393"/>
                  </a:lnTo>
                  <a:lnTo>
                    <a:pt x="206" y="1416"/>
                  </a:lnTo>
                  <a:lnTo>
                    <a:pt x="218" y="1434"/>
                  </a:lnTo>
                  <a:lnTo>
                    <a:pt x="228" y="1451"/>
                  </a:lnTo>
                  <a:lnTo>
                    <a:pt x="238" y="1464"/>
                  </a:lnTo>
                  <a:lnTo>
                    <a:pt x="245" y="1474"/>
                  </a:lnTo>
                  <a:lnTo>
                    <a:pt x="251" y="1481"/>
                  </a:lnTo>
                  <a:lnTo>
                    <a:pt x="254" y="1486"/>
                  </a:lnTo>
                  <a:lnTo>
                    <a:pt x="256" y="1487"/>
                  </a:lnTo>
                  <a:lnTo>
                    <a:pt x="256" y="1488"/>
                  </a:lnTo>
                  <a:lnTo>
                    <a:pt x="255" y="1487"/>
                  </a:lnTo>
                  <a:lnTo>
                    <a:pt x="256" y="1488"/>
                  </a:lnTo>
                  <a:lnTo>
                    <a:pt x="254" y="1486"/>
                  </a:lnTo>
                  <a:lnTo>
                    <a:pt x="250" y="1481"/>
                  </a:lnTo>
                  <a:lnTo>
                    <a:pt x="244" y="1474"/>
                  </a:lnTo>
                  <a:lnTo>
                    <a:pt x="237" y="1464"/>
                  </a:lnTo>
                  <a:lnTo>
                    <a:pt x="227" y="1451"/>
                  </a:lnTo>
                  <a:lnTo>
                    <a:pt x="216" y="1435"/>
                  </a:lnTo>
                  <a:lnTo>
                    <a:pt x="206" y="1416"/>
                  </a:lnTo>
                  <a:lnTo>
                    <a:pt x="192" y="1394"/>
                  </a:lnTo>
                  <a:lnTo>
                    <a:pt x="178" y="1369"/>
                  </a:lnTo>
                  <a:lnTo>
                    <a:pt x="164" y="1340"/>
                  </a:lnTo>
                  <a:lnTo>
                    <a:pt x="148" y="1310"/>
                  </a:lnTo>
                  <a:lnTo>
                    <a:pt x="132" y="1277"/>
                  </a:lnTo>
                  <a:lnTo>
                    <a:pt x="117" y="1241"/>
                  </a:lnTo>
                  <a:lnTo>
                    <a:pt x="101" y="1201"/>
                  </a:lnTo>
                  <a:lnTo>
                    <a:pt x="87" y="1159"/>
                  </a:lnTo>
                  <a:lnTo>
                    <a:pt x="72" y="1115"/>
                  </a:lnTo>
                  <a:lnTo>
                    <a:pt x="58" y="1067"/>
                  </a:lnTo>
                  <a:lnTo>
                    <a:pt x="46" y="1015"/>
                  </a:lnTo>
                  <a:lnTo>
                    <a:pt x="34" y="961"/>
                  </a:lnTo>
                  <a:lnTo>
                    <a:pt x="24" y="905"/>
                  </a:lnTo>
                  <a:lnTo>
                    <a:pt x="16" y="845"/>
                  </a:lnTo>
                  <a:lnTo>
                    <a:pt x="8" y="783"/>
                  </a:lnTo>
                  <a:lnTo>
                    <a:pt x="3" y="718"/>
                  </a:lnTo>
                  <a:lnTo>
                    <a:pt x="0" y="649"/>
                  </a:lnTo>
                  <a:lnTo>
                    <a:pt x="0" y="579"/>
                  </a:lnTo>
                  <a:lnTo>
                    <a:pt x="2" y="504"/>
                  </a:lnTo>
                  <a:lnTo>
                    <a:pt x="6" y="427"/>
                  </a:lnTo>
                  <a:lnTo>
                    <a:pt x="14" y="347"/>
                  </a:lnTo>
                  <a:lnTo>
                    <a:pt x="24" y="264"/>
                  </a:lnTo>
                  <a:lnTo>
                    <a:pt x="40" y="179"/>
                  </a:lnTo>
                  <a:lnTo>
                    <a:pt x="57" y="92"/>
                  </a:lnTo>
                  <a:lnTo>
                    <a:pt x="7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687760" y="2532240"/>
              <a:ext cx="101520" cy="590400"/>
            </a:xfrm>
            <a:custGeom>
              <a:avLst/>
              <a:gdLst/>
              <a:ahLst/>
              <a:rect l="l" t="t" r="r" b="b"/>
              <a:pathLst>
                <a:path w="256" h="1488">
                  <a:moveTo>
                    <a:pt x="81" y="0"/>
                  </a:moveTo>
                  <a:lnTo>
                    <a:pt x="58" y="92"/>
                  </a:lnTo>
                  <a:lnTo>
                    <a:pt x="40" y="179"/>
                  </a:lnTo>
                  <a:lnTo>
                    <a:pt x="27" y="266"/>
                  </a:lnTo>
                  <a:lnTo>
                    <a:pt x="16" y="348"/>
                  </a:lnTo>
                  <a:lnTo>
                    <a:pt x="8" y="427"/>
                  </a:lnTo>
                  <a:lnTo>
                    <a:pt x="3" y="504"/>
                  </a:lnTo>
                  <a:lnTo>
                    <a:pt x="0" y="579"/>
                  </a:lnTo>
                  <a:lnTo>
                    <a:pt x="2" y="649"/>
                  </a:lnTo>
                  <a:lnTo>
                    <a:pt x="5" y="718"/>
                  </a:lnTo>
                  <a:lnTo>
                    <a:pt x="10" y="784"/>
                  </a:lnTo>
                  <a:lnTo>
                    <a:pt x="16" y="846"/>
                  </a:lnTo>
                  <a:lnTo>
                    <a:pt x="26" y="906"/>
                  </a:lnTo>
                  <a:lnTo>
                    <a:pt x="35" y="963"/>
                  </a:lnTo>
                  <a:lnTo>
                    <a:pt x="47" y="1015"/>
                  </a:lnTo>
                  <a:lnTo>
                    <a:pt x="60" y="1067"/>
                  </a:lnTo>
                  <a:lnTo>
                    <a:pt x="74" y="1115"/>
                  </a:lnTo>
                  <a:lnTo>
                    <a:pt x="88" y="1159"/>
                  </a:lnTo>
                  <a:lnTo>
                    <a:pt x="104" y="1201"/>
                  </a:lnTo>
                  <a:lnTo>
                    <a:pt x="118" y="1241"/>
                  </a:lnTo>
                  <a:lnTo>
                    <a:pt x="134" y="1277"/>
                  </a:lnTo>
                  <a:lnTo>
                    <a:pt x="149" y="1310"/>
                  </a:lnTo>
                  <a:lnTo>
                    <a:pt x="164" y="1342"/>
                  </a:lnTo>
                  <a:lnTo>
                    <a:pt x="179" y="1369"/>
                  </a:lnTo>
                  <a:lnTo>
                    <a:pt x="192" y="1393"/>
                  </a:lnTo>
                  <a:lnTo>
                    <a:pt x="206" y="1416"/>
                  </a:lnTo>
                  <a:lnTo>
                    <a:pt x="218" y="1434"/>
                  </a:lnTo>
                  <a:lnTo>
                    <a:pt x="228" y="1451"/>
                  </a:lnTo>
                  <a:lnTo>
                    <a:pt x="238" y="1464"/>
                  </a:lnTo>
                  <a:lnTo>
                    <a:pt x="245" y="1474"/>
                  </a:lnTo>
                  <a:lnTo>
                    <a:pt x="251" y="1481"/>
                  </a:lnTo>
                  <a:lnTo>
                    <a:pt x="254" y="1486"/>
                  </a:lnTo>
                  <a:lnTo>
                    <a:pt x="256" y="1487"/>
                  </a:lnTo>
                  <a:lnTo>
                    <a:pt x="256" y="1488"/>
                  </a:lnTo>
                  <a:lnTo>
                    <a:pt x="255" y="1487"/>
                  </a:lnTo>
                  <a:lnTo>
                    <a:pt x="256" y="1488"/>
                  </a:lnTo>
                  <a:lnTo>
                    <a:pt x="254" y="1486"/>
                  </a:lnTo>
                  <a:lnTo>
                    <a:pt x="250" y="1481"/>
                  </a:lnTo>
                  <a:lnTo>
                    <a:pt x="244" y="1474"/>
                  </a:lnTo>
                  <a:lnTo>
                    <a:pt x="237" y="1464"/>
                  </a:lnTo>
                  <a:lnTo>
                    <a:pt x="227" y="1451"/>
                  </a:lnTo>
                  <a:lnTo>
                    <a:pt x="216" y="1435"/>
                  </a:lnTo>
                  <a:lnTo>
                    <a:pt x="206" y="1416"/>
                  </a:lnTo>
                  <a:lnTo>
                    <a:pt x="192" y="1394"/>
                  </a:lnTo>
                  <a:lnTo>
                    <a:pt x="178" y="1369"/>
                  </a:lnTo>
                  <a:lnTo>
                    <a:pt x="164" y="1340"/>
                  </a:lnTo>
                  <a:lnTo>
                    <a:pt x="148" y="1310"/>
                  </a:lnTo>
                  <a:lnTo>
                    <a:pt x="132" y="1277"/>
                  </a:lnTo>
                  <a:lnTo>
                    <a:pt x="117" y="1241"/>
                  </a:lnTo>
                  <a:lnTo>
                    <a:pt x="101" y="1201"/>
                  </a:lnTo>
                  <a:lnTo>
                    <a:pt x="87" y="1159"/>
                  </a:lnTo>
                  <a:lnTo>
                    <a:pt x="72" y="1115"/>
                  </a:lnTo>
                  <a:lnTo>
                    <a:pt x="58" y="1067"/>
                  </a:lnTo>
                  <a:lnTo>
                    <a:pt x="46" y="1015"/>
                  </a:lnTo>
                  <a:lnTo>
                    <a:pt x="34" y="961"/>
                  </a:lnTo>
                  <a:lnTo>
                    <a:pt x="24" y="905"/>
                  </a:lnTo>
                  <a:lnTo>
                    <a:pt x="16" y="845"/>
                  </a:lnTo>
                  <a:lnTo>
                    <a:pt x="8" y="783"/>
                  </a:lnTo>
                  <a:lnTo>
                    <a:pt x="3" y="718"/>
                  </a:lnTo>
                  <a:lnTo>
                    <a:pt x="0" y="649"/>
                  </a:lnTo>
                  <a:lnTo>
                    <a:pt x="0" y="579"/>
                  </a:lnTo>
                  <a:lnTo>
                    <a:pt x="2" y="504"/>
                  </a:lnTo>
                  <a:lnTo>
                    <a:pt x="6" y="427"/>
                  </a:lnTo>
                  <a:lnTo>
                    <a:pt x="14" y="347"/>
                  </a:lnTo>
                  <a:lnTo>
                    <a:pt x="24" y="264"/>
                  </a:lnTo>
                  <a:lnTo>
                    <a:pt x="40" y="179"/>
                  </a:lnTo>
                  <a:lnTo>
                    <a:pt x="57" y="92"/>
                  </a:lnTo>
                  <a:lnTo>
                    <a:pt x="78" y="0"/>
                  </a:lnTo>
                  <a:lnTo>
                    <a:pt x="81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60760" y="2517840"/>
              <a:ext cx="128520" cy="604800"/>
            </a:xfrm>
            <a:custGeom>
              <a:avLst/>
              <a:gdLst/>
              <a:ahLst/>
              <a:rect l="l" t="t" r="r" b="b"/>
              <a:pathLst>
                <a:path w="324" h="1526">
                  <a:moveTo>
                    <a:pt x="324" y="1525"/>
                  </a:moveTo>
                  <a:lnTo>
                    <a:pt x="324" y="1526"/>
                  </a:lnTo>
                  <a:lnTo>
                    <a:pt x="322" y="1524"/>
                  </a:lnTo>
                  <a:lnTo>
                    <a:pt x="318" y="1519"/>
                  </a:lnTo>
                  <a:lnTo>
                    <a:pt x="312" y="1512"/>
                  </a:lnTo>
                  <a:lnTo>
                    <a:pt x="304" y="1501"/>
                  </a:lnTo>
                  <a:lnTo>
                    <a:pt x="295" y="1488"/>
                  </a:lnTo>
                  <a:lnTo>
                    <a:pt x="283" y="1471"/>
                  </a:lnTo>
                  <a:lnTo>
                    <a:pt x="271" y="1452"/>
                  </a:lnTo>
                  <a:lnTo>
                    <a:pt x="257" y="1429"/>
                  </a:lnTo>
                  <a:lnTo>
                    <a:pt x="241" y="1404"/>
                  </a:lnTo>
                  <a:lnTo>
                    <a:pt x="227" y="1375"/>
                  </a:lnTo>
                  <a:lnTo>
                    <a:pt x="210" y="1344"/>
                  </a:lnTo>
                  <a:lnTo>
                    <a:pt x="193" y="1310"/>
                  </a:lnTo>
                  <a:lnTo>
                    <a:pt x="175" y="1272"/>
                  </a:lnTo>
                  <a:lnTo>
                    <a:pt x="157" y="1232"/>
                  </a:lnTo>
                  <a:lnTo>
                    <a:pt x="140" y="1188"/>
                  </a:lnTo>
                  <a:lnTo>
                    <a:pt x="124" y="1142"/>
                  </a:lnTo>
                  <a:lnTo>
                    <a:pt x="107" y="1093"/>
                  </a:lnTo>
                  <a:lnTo>
                    <a:pt x="90" y="1040"/>
                  </a:lnTo>
                  <a:lnTo>
                    <a:pt x="74" y="985"/>
                  </a:lnTo>
                  <a:lnTo>
                    <a:pt x="60" y="927"/>
                  </a:lnTo>
                  <a:lnTo>
                    <a:pt x="47" y="866"/>
                  </a:lnTo>
                  <a:lnTo>
                    <a:pt x="34" y="803"/>
                  </a:lnTo>
                  <a:lnTo>
                    <a:pt x="24" y="735"/>
                  </a:lnTo>
                  <a:lnTo>
                    <a:pt x="16" y="666"/>
                  </a:lnTo>
                  <a:lnTo>
                    <a:pt x="7" y="593"/>
                  </a:lnTo>
                  <a:lnTo>
                    <a:pt x="2" y="517"/>
                  </a:lnTo>
                  <a:lnTo>
                    <a:pt x="0" y="438"/>
                  </a:lnTo>
                  <a:lnTo>
                    <a:pt x="0" y="356"/>
                  </a:lnTo>
                  <a:lnTo>
                    <a:pt x="2" y="271"/>
                  </a:lnTo>
                  <a:lnTo>
                    <a:pt x="7" y="184"/>
                  </a:lnTo>
                  <a:lnTo>
                    <a:pt x="16" y="94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16" y="94"/>
                  </a:lnTo>
                  <a:lnTo>
                    <a:pt x="8" y="185"/>
                  </a:lnTo>
                  <a:lnTo>
                    <a:pt x="4" y="272"/>
                  </a:lnTo>
                  <a:lnTo>
                    <a:pt x="1" y="356"/>
                  </a:lnTo>
                  <a:lnTo>
                    <a:pt x="1" y="438"/>
                  </a:lnTo>
                  <a:lnTo>
                    <a:pt x="5" y="517"/>
                  </a:lnTo>
                  <a:lnTo>
                    <a:pt x="8" y="593"/>
                  </a:lnTo>
                  <a:lnTo>
                    <a:pt x="16" y="666"/>
                  </a:lnTo>
                  <a:lnTo>
                    <a:pt x="25" y="735"/>
                  </a:lnTo>
                  <a:lnTo>
                    <a:pt x="36" y="803"/>
                  </a:lnTo>
                  <a:lnTo>
                    <a:pt x="47" y="866"/>
                  </a:lnTo>
                  <a:lnTo>
                    <a:pt x="61" y="927"/>
                  </a:lnTo>
                  <a:lnTo>
                    <a:pt x="76" y="986"/>
                  </a:lnTo>
                  <a:lnTo>
                    <a:pt x="91" y="1040"/>
                  </a:lnTo>
                  <a:lnTo>
                    <a:pt x="107" y="1093"/>
                  </a:lnTo>
                  <a:lnTo>
                    <a:pt x="125" y="1142"/>
                  </a:lnTo>
                  <a:lnTo>
                    <a:pt x="142" y="1189"/>
                  </a:lnTo>
                  <a:lnTo>
                    <a:pt x="158" y="1232"/>
                  </a:lnTo>
                  <a:lnTo>
                    <a:pt x="176" y="1272"/>
                  </a:lnTo>
                  <a:lnTo>
                    <a:pt x="193" y="1309"/>
                  </a:lnTo>
                  <a:lnTo>
                    <a:pt x="211" y="1344"/>
                  </a:lnTo>
                  <a:lnTo>
                    <a:pt x="227" y="1375"/>
                  </a:lnTo>
                  <a:lnTo>
                    <a:pt x="244" y="1404"/>
                  </a:lnTo>
                  <a:lnTo>
                    <a:pt x="258" y="1429"/>
                  </a:lnTo>
                  <a:lnTo>
                    <a:pt x="272" y="1452"/>
                  </a:lnTo>
                  <a:lnTo>
                    <a:pt x="284" y="1471"/>
                  </a:lnTo>
                  <a:lnTo>
                    <a:pt x="295" y="1488"/>
                  </a:lnTo>
                  <a:lnTo>
                    <a:pt x="306" y="1501"/>
                  </a:lnTo>
                  <a:lnTo>
                    <a:pt x="313" y="1512"/>
                  </a:lnTo>
                  <a:lnTo>
                    <a:pt x="319" y="1519"/>
                  </a:lnTo>
                  <a:lnTo>
                    <a:pt x="322" y="1524"/>
                  </a:lnTo>
                  <a:lnTo>
                    <a:pt x="324" y="1525"/>
                  </a:lnTo>
                  <a:lnTo>
                    <a:pt x="323" y="1525"/>
                  </a:lnTo>
                  <a:lnTo>
                    <a:pt x="324" y="1525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60760" y="2517840"/>
              <a:ext cx="128520" cy="604800"/>
            </a:xfrm>
            <a:custGeom>
              <a:avLst/>
              <a:gdLst/>
              <a:ahLst/>
              <a:rect l="l" t="t" r="r" b="b"/>
              <a:pathLst>
                <a:path w="324" h="1526">
                  <a:moveTo>
                    <a:pt x="324" y="1525"/>
                  </a:moveTo>
                  <a:lnTo>
                    <a:pt x="324" y="1526"/>
                  </a:lnTo>
                  <a:lnTo>
                    <a:pt x="322" y="1524"/>
                  </a:lnTo>
                  <a:lnTo>
                    <a:pt x="318" y="1519"/>
                  </a:lnTo>
                  <a:lnTo>
                    <a:pt x="312" y="1512"/>
                  </a:lnTo>
                  <a:lnTo>
                    <a:pt x="304" y="1501"/>
                  </a:lnTo>
                  <a:lnTo>
                    <a:pt x="295" y="1488"/>
                  </a:lnTo>
                  <a:lnTo>
                    <a:pt x="283" y="1471"/>
                  </a:lnTo>
                  <a:lnTo>
                    <a:pt x="271" y="1452"/>
                  </a:lnTo>
                  <a:lnTo>
                    <a:pt x="257" y="1429"/>
                  </a:lnTo>
                  <a:lnTo>
                    <a:pt x="241" y="1404"/>
                  </a:lnTo>
                  <a:lnTo>
                    <a:pt x="227" y="1375"/>
                  </a:lnTo>
                  <a:lnTo>
                    <a:pt x="210" y="1344"/>
                  </a:lnTo>
                  <a:lnTo>
                    <a:pt x="193" y="1310"/>
                  </a:lnTo>
                  <a:lnTo>
                    <a:pt x="175" y="1272"/>
                  </a:lnTo>
                  <a:lnTo>
                    <a:pt x="157" y="1232"/>
                  </a:lnTo>
                  <a:lnTo>
                    <a:pt x="140" y="1188"/>
                  </a:lnTo>
                  <a:lnTo>
                    <a:pt x="124" y="1142"/>
                  </a:lnTo>
                  <a:lnTo>
                    <a:pt x="107" y="1093"/>
                  </a:lnTo>
                  <a:lnTo>
                    <a:pt x="90" y="1040"/>
                  </a:lnTo>
                  <a:lnTo>
                    <a:pt x="74" y="985"/>
                  </a:lnTo>
                  <a:lnTo>
                    <a:pt x="60" y="927"/>
                  </a:lnTo>
                  <a:lnTo>
                    <a:pt x="47" y="866"/>
                  </a:lnTo>
                  <a:lnTo>
                    <a:pt x="34" y="803"/>
                  </a:lnTo>
                  <a:lnTo>
                    <a:pt x="24" y="735"/>
                  </a:lnTo>
                  <a:lnTo>
                    <a:pt x="16" y="666"/>
                  </a:lnTo>
                  <a:lnTo>
                    <a:pt x="7" y="593"/>
                  </a:lnTo>
                  <a:lnTo>
                    <a:pt x="2" y="517"/>
                  </a:lnTo>
                  <a:lnTo>
                    <a:pt x="0" y="438"/>
                  </a:lnTo>
                  <a:lnTo>
                    <a:pt x="0" y="356"/>
                  </a:lnTo>
                  <a:lnTo>
                    <a:pt x="2" y="271"/>
                  </a:lnTo>
                  <a:lnTo>
                    <a:pt x="7" y="184"/>
                  </a:lnTo>
                  <a:lnTo>
                    <a:pt x="16" y="94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16" y="94"/>
                  </a:lnTo>
                  <a:lnTo>
                    <a:pt x="8" y="185"/>
                  </a:lnTo>
                  <a:lnTo>
                    <a:pt x="4" y="272"/>
                  </a:lnTo>
                  <a:lnTo>
                    <a:pt x="1" y="356"/>
                  </a:lnTo>
                  <a:lnTo>
                    <a:pt x="1" y="438"/>
                  </a:lnTo>
                  <a:lnTo>
                    <a:pt x="5" y="517"/>
                  </a:lnTo>
                  <a:lnTo>
                    <a:pt x="8" y="593"/>
                  </a:lnTo>
                  <a:lnTo>
                    <a:pt x="16" y="666"/>
                  </a:lnTo>
                  <a:lnTo>
                    <a:pt x="25" y="735"/>
                  </a:lnTo>
                  <a:lnTo>
                    <a:pt x="36" y="803"/>
                  </a:lnTo>
                  <a:lnTo>
                    <a:pt x="47" y="866"/>
                  </a:lnTo>
                  <a:lnTo>
                    <a:pt x="61" y="927"/>
                  </a:lnTo>
                  <a:lnTo>
                    <a:pt x="76" y="986"/>
                  </a:lnTo>
                  <a:lnTo>
                    <a:pt x="91" y="1040"/>
                  </a:lnTo>
                  <a:lnTo>
                    <a:pt x="107" y="1093"/>
                  </a:lnTo>
                  <a:lnTo>
                    <a:pt x="125" y="1142"/>
                  </a:lnTo>
                  <a:lnTo>
                    <a:pt x="142" y="1189"/>
                  </a:lnTo>
                  <a:lnTo>
                    <a:pt x="158" y="1232"/>
                  </a:lnTo>
                  <a:lnTo>
                    <a:pt x="176" y="1272"/>
                  </a:lnTo>
                  <a:lnTo>
                    <a:pt x="193" y="1309"/>
                  </a:lnTo>
                  <a:lnTo>
                    <a:pt x="211" y="1344"/>
                  </a:lnTo>
                  <a:lnTo>
                    <a:pt x="227" y="1375"/>
                  </a:lnTo>
                  <a:lnTo>
                    <a:pt x="244" y="1404"/>
                  </a:lnTo>
                  <a:lnTo>
                    <a:pt x="258" y="1429"/>
                  </a:lnTo>
                  <a:lnTo>
                    <a:pt x="272" y="1452"/>
                  </a:lnTo>
                  <a:lnTo>
                    <a:pt x="284" y="1471"/>
                  </a:lnTo>
                  <a:lnTo>
                    <a:pt x="295" y="1488"/>
                  </a:lnTo>
                  <a:lnTo>
                    <a:pt x="306" y="1501"/>
                  </a:lnTo>
                  <a:lnTo>
                    <a:pt x="313" y="1512"/>
                  </a:lnTo>
                  <a:lnTo>
                    <a:pt x="319" y="1519"/>
                  </a:lnTo>
                  <a:lnTo>
                    <a:pt x="322" y="1524"/>
                  </a:lnTo>
                  <a:lnTo>
                    <a:pt x="324" y="1525"/>
                  </a:lnTo>
                  <a:lnTo>
                    <a:pt x="323" y="1525"/>
                  </a:lnTo>
                  <a:lnTo>
                    <a:pt x="324" y="1525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859120" y="2246400"/>
              <a:ext cx="479520" cy="550800"/>
            </a:xfrm>
            <a:custGeom>
              <a:avLst/>
              <a:gdLst/>
              <a:ahLst/>
              <a:rect l="l" t="t" r="r" b="b"/>
              <a:pathLst>
                <a:path w="1209" h="1388">
                  <a:moveTo>
                    <a:pt x="88" y="96"/>
                  </a:moveTo>
                  <a:lnTo>
                    <a:pt x="0" y="104"/>
                  </a:lnTo>
                  <a:lnTo>
                    <a:pt x="135" y="0"/>
                  </a:lnTo>
                  <a:lnTo>
                    <a:pt x="348" y="75"/>
                  </a:lnTo>
                  <a:lnTo>
                    <a:pt x="298" y="77"/>
                  </a:lnTo>
                  <a:lnTo>
                    <a:pt x="264" y="79"/>
                  </a:lnTo>
                  <a:lnTo>
                    <a:pt x="253" y="80"/>
                  </a:lnTo>
                  <a:lnTo>
                    <a:pt x="251" y="84"/>
                  </a:lnTo>
                  <a:lnTo>
                    <a:pt x="270" y="176"/>
                  </a:lnTo>
                  <a:lnTo>
                    <a:pt x="294" y="264"/>
                  </a:lnTo>
                  <a:lnTo>
                    <a:pt x="318" y="349"/>
                  </a:lnTo>
                  <a:lnTo>
                    <a:pt x="348" y="429"/>
                  </a:lnTo>
                  <a:lnTo>
                    <a:pt x="378" y="506"/>
                  </a:lnTo>
                  <a:lnTo>
                    <a:pt x="412" y="578"/>
                  </a:lnTo>
                  <a:lnTo>
                    <a:pt x="445" y="648"/>
                  </a:lnTo>
                  <a:lnTo>
                    <a:pt x="481" y="714"/>
                  </a:lnTo>
                  <a:lnTo>
                    <a:pt x="520" y="775"/>
                  </a:lnTo>
                  <a:lnTo>
                    <a:pt x="561" y="834"/>
                  </a:lnTo>
                  <a:lnTo>
                    <a:pt x="639" y="939"/>
                  </a:lnTo>
                  <a:lnTo>
                    <a:pt x="720" y="1033"/>
                  </a:lnTo>
                  <a:lnTo>
                    <a:pt x="802" y="1114"/>
                  </a:lnTo>
                  <a:lnTo>
                    <a:pt x="882" y="1183"/>
                  </a:lnTo>
                  <a:lnTo>
                    <a:pt x="957" y="1241"/>
                  </a:lnTo>
                  <a:lnTo>
                    <a:pt x="1026" y="1288"/>
                  </a:lnTo>
                  <a:lnTo>
                    <a:pt x="1086" y="1325"/>
                  </a:lnTo>
                  <a:lnTo>
                    <a:pt x="1137" y="1354"/>
                  </a:lnTo>
                  <a:lnTo>
                    <a:pt x="1176" y="1373"/>
                  </a:lnTo>
                  <a:lnTo>
                    <a:pt x="1209" y="1388"/>
                  </a:lnTo>
                  <a:lnTo>
                    <a:pt x="1175" y="1372"/>
                  </a:lnTo>
                  <a:lnTo>
                    <a:pt x="1134" y="1353"/>
                  </a:lnTo>
                  <a:lnTo>
                    <a:pt x="1083" y="1325"/>
                  </a:lnTo>
                  <a:lnTo>
                    <a:pt x="1018" y="1287"/>
                  </a:lnTo>
                  <a:lnTo>
                    <a:pt x="945" y="1239"/>
                  </a:lnTo>
                  <a:lnTo>
                    <a:pt x="863" y="1180"/>
                  </a:lnTo>
                  <a:lnTo>
                    <a:pt x="775" y="1112"/>
                  </a:lnTo>
                  <a:lnTo>
                    <a:pt x="687" y="1032"/>
                  </a:lnTo>
                  <a:lnTo>
                    <a:pt x="593" y="938"/>
                  </a:lnTo>
                  <a:lnTo>
                    <a:pt x="546" y="886"/>
                  </a:lnTo>
                  <a:lnTo>
                    <a:pt x="499" y="832"/>
                  </a:lnTo>
                  <a:lnTo>
                    <a:pt x="453" y="775"/>
                  </a:lnTo>
                  <a:lnTo>
                    <a:pt x="407" y="715"/>
                  </a:lnTo>
                  <a:lnTo>
                    <a:pt x="363" y="649"/>
                  </a:lnTo>
                  <a:lnTo>
                    <a:pt x="318" y="582"/>
                  </a:lnTo>
                  <a:lnTo>
                    <a:pt x="274" y="511"/>
                  </a:lnTo>
                  <a:lnTo>
                    <a:pt x="234" y="435"/>
                  </a:lnTo>
                  <a:lnTo>
                    <a:pt x="195" y="355"/>
                  </a:lnTo>
                  <a:lnTo>
                    <a:pt x="157" y="272"/>
                  </a:lnTo>
                  <a:lnTo>
                    <a:pt x="120" y="187"/>
                  </a:lnTo>
                  <a:lnTo>
                    <a:pt x="88" y="96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59120" y="2246400"/>
              <a:ext cx="479520" cy="550800"/>
            </a:xfrm>
            <a:custGeom>
              <a:avLst/>
              <a:gdLst/>
              <a:ahLst/>
              <a:rect l="l" t="t" r="r" b="b"/>
              <a:pathLst>
                <a:path w="1209" h="1388">
                  <a:moveTo>
                    <a:pt x="88" y="96"/>
                  </a:moveTo>
                  <a:lnTo>
                    <a:pt x="0" y="104"/>
                  </a:lnTo>
                  <a:lnTo>
                    <a:pt x="135" y="0"/>
                  </a:lnTo>
                  <a:lnTo>
                    <a:pt x="348" y="75"/>
                  </a:lnTo>
                  <a:lnTo>
                    <a:pt x="298" y="77"/>
                  </a:lnTo>
                  <a:lnTo>
                    <a:pt x="264" y="79"/>
                  </a:lnTo>
                  <a:lnTo>
                    <a:pt x="253" y="80"/>
                  </a:lnTo>
                  <a:lnTo>
                    <a:pt x="251" y="84"/>
                  </a:lnTo>
                  <a:lnTo>
                    <a:pt x="270" y="176"/>
                  </a:lnTo>
                  <a:lnTo>
                    <a:pt x="294" y="264"/>
                  </a:lnTo>
                  <a:lnTo>
                    <a:pt x="318" y="349"/>
                  </a:lnTo>
                  <a:lnTo>
                    <a:pt x="348" y="429"/>
                  </a:lnTo>
                  <a:lnTo>
                    <a:pt x="378" y="506"/>
                  </a:lnTo>
                  <a:lnTo>
                    <a:pt x="412" y="578"/>
                  </a:lnTo>
                  <a:lnTo>
                    <a:pt x="445" y="648"/>
                  </a:lnTo>
                  <a:lnTo>
                    <a:pt x="481" y="714"/>
                  </a:lnTo>
                  <a:lnTo>
                    <a:pt x="520" y="775"/>
                  </a:lnTo>
                  <a:lnTo>
                    <a:pt x="561" y="834"/>
                  </a:lnTo>
                  <a:lnTo>
                    <a:pt x="639" y="939"/>
                  </a:lnTo>
                  <a:lnTo>
                    <a:pt x="720" y="1033"/>
                  </a:lnTo>
                  <a:lnTo>
                    <a:pt x="802" y="1114"/>
                  </a:lnTo>
                  <a:lnTo>
                    <a:pt x="882" y="1183"/>
                  </a:lnTo>
                  <a:lnTo>
                    <a:pt x="957" y="1241"/>
                  </a:lnTo>
                  <a:lnTo>
                    <a:pt x="1026" y="1288"/>
                  </a:lnTo>
                  <a:lnTo>
                    <a:pt x="1086" y="1325"/>
                  </a:lnTo>
                  <a:lnTo>
                    <a:pt x="1137" y="1354"/>
                  </a:lnTo>
                  <a:lnTo>
                    <a:pt x="1176" y="1373"/>
                  </a:lnTo>
                  <a:lnTo>
                    <a:pt x="1209" y="1388"/>
                  </a:lnTo>
                  <a:lnTo>
                    <a:pt x="1175" y="1372"/>
                  </a:lnTo>
                  <a:lnTo>
                    <a:pt x="1134" y="1353"/>
                  </a:lnTo>
                  <a:lnTo>
                    <a:pt x="1083" y="1325"/>
                  </a:lnTo>
                  <a:lnTo>
                    <a:pt x="1018" y="1287"/>
                  </a:lnTo>
                  <a:lnTo>
                    <a:pt x="945" y="1239"/>
                  </a:lnTo>
                  <a:lnTo>
                    <a:pt x="863" y="1180"/>
                  </a:lnTo>
                  <a:lnTo>
                    <a:pt x="775" y="1112"/>
                  </a:lnTo>
                  <a:lnTo>
                    <a:pt x="687" y="1032"/>
                  </a:lnTo>
                  <a:lnTo>
                    <a:pt x="593" y="938"/>
                  </a:lnTo>
                  <a:lnTo>
                    <a:pt x="546" y="886"/>
                  </a:lnTo>
                  <a:lnTo>
                    <a:pt x="499" y="832"/>
                  </a:lnTo>
                  <a:lnTo>
                    <a:pt x="453" y="775"/>
                  </a:lnTo>
                  <a:lnTo>
                    <a:pt x="407" y="715"/>
                  </a:lnTo>
                  <a:lnTo>
                    <a:pt x="363" y="649"/>
                  </a:lnTo>
                  <a:lnTo>
                    <a:pt x="318" y="582"/>
                  </a:lnTo>
                  <a:lnTo>
                    <a:pt x="274" y="511"/>
                  </a:lnTo>
                  <a:lnTo>
                    <a:pt x="234" y="435"/>
                  </a:lnTo>
                  <a:lnTo>
                    <a:pt x="195" y="355"/>
                  </a:lnTo>
                  <a:lnTo>
                    <a:pt x="157" y="272"/>
                  </a:lnTo>
                  <a:lnTo>
                    <a:pt x="120" y="187"/>
                  </a:lnTo>
                  <a:lnTo>
                    <a:pt x="88" y="96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859120" y="2246400"/>
              <a:ext cx="138240" cy="42840"/>
            </a:xfrm>
            <a:custGeom>
              <a:avLst/>
              <a:gdLst/>
              <a:ahLst/>
              <a:rect l="l" t="t" r="r" b="b"/>
              <a:pathLst>
                <a:path w="350" h="105">
                  <a:moveTo>
                    <a:pt x="89" y="96"/>
                  </a:moveTo>
                  <a:lnTo>
                    <a:pt x="0" y="105"/>
                  </a:lnTo>
                  <a:lnTo>
                    <a:pt x="136" y="0"/>
                  </a:lnTo>
                  <a:lnTo>
                    <a:pt x="350" y="75"/>
                  </a:lnTo>
                  <a:lnTo>
                    <a:pt x="349" y="77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89" y="95"/>
                  </a:lnTo>
                  <a:lnTo>
                    <a:pt x="89" y="96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859120" y="2246400"/>
              <a:ext cx="138240" cy="42840"/>
            </a:xfrm>
            <a:custGeom>
              <a:avLst/>
              <a:gdLst/>
              <a:ahLst/>
              <a:rect l="l" t="t" r="r" b="b"/>
              <a:pathLst>
                <a:path w="350" h="105">
                  <a:moveTo>
                    <a:pt x="89" y="96"/>
                  </a:moveTo>
                  <a:lnTo>
                    <a:pt x="0" y="105"/>
                  </a:lnTo>
                  <a:lnTo>
                    <a:pt x="136" y="0"/>
                  </a:lnTo>
                  <a:lnTo>
                    <a:pt x="350" y="75"/>
                  </a:lnTo>
                  <a:lnTo>
                    <a:pt x="349" y="77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89" y="95"/>
                  </a:lnTo>
                  <a:lnTo>
                    <a:pt x="89" y="96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957400" y="2276640"/>
              <a:ext cx="39960" cy="2880"/>
            </a:xfrm>
            <a:custGeom>
              <a:avLst/>
              <a:gdLst/>
              <a:ahLst/>
              <a:rect l="l" t="t" r="r" b="b"/>
              <a:pathLst>
                <a:path w="100" h="9">
                  <a:moveTo>
                    <a:pt x="100" y="0"/>
                  </a:moveTo>
                  <a:lnTo>
                    <a:pt x="99" y="2"/>
                  </a:lnTo>
                  <a:lnTo>
                    <a:pt x="98" y="0"/>
                  </a:lnTo>
                  <a:lnTo>
                    <a:pt x="97" y="2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7" y="0"/>
                  </a:lnTo>
                  <a:lnTo>
                    <a:pt x="82" y="2"/>
                  </a:lnTo>
                  <a:lnTo>
                    <a:pt x="80" y="0"/>
                  </a:lnTo>
                  <a:lnTo>
                    <a:pt x="75" y="2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2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2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8" y="5"/>
                  </a:lnTo>
                  <a:lnTo>
                    <a:pt x="6" y="6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6"/>
                  </a:lnTo>
                  <a:lnTo>
                    <a:pt x="4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957400" y="2276640"/>
              <a:ext cx="39960" cy="2880"/>
            </a:xfrm>
            <a:custGeom>
              <a:avLst/>
              <a:gdLst/>
              <a:ahLst/>
              <a:rect l="l" t="t" r="r" b="b"/>
              <a:pathLst>
                <a:path w="100" h="9">
                  <a:moveTo>
                    <a:pt x="100" y="0"/>
                  </a:moveTo>
                  <a:lnTo>
                    <a:pt x="99" y="2"/>
                  </a:lnTo>
                  <a:lnTo>
                    <a:pt x="98" y="0"/>
                  </a:lnTo>
                  <a:lnTo>
                    <a:pt x="97" y="2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7" y="0"/>
                  </a:lnTo>
                  <a:lnTo>
                    <a:pt x="82" y="2"/>
                  </a:lnTo>
                  <a:lnTo>
                    <a:pt x="80" y="0"/>
                  </a:lnTo>
                  <a:lnTo>
                    <a:pt x="75" y="2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2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2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8" y="5"/>
                  </a:lnTo>
                  <a:lnTo>
                    <a:pt x="6" y="6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6"/>
                  </a:lnTo>
                  <a:lnTo>
                    <a:pt x="4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100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957400" y="2279520"/>
              <a:ext cx="381240" cy="519120"/>
            </a:xfrm>
            <a:custGeom>
              <a:avLst/>
              <a:gdLst/>
              <a:ahLst/>
              <a:rect l="l" t="t" r="r" b="b"/>
              <a:pathLst>
                <a:path w="960" h="1305">
                  <a:moveTo>
                    <a:pt x="1" y="0"/>
                  </a:moveTo>
                  <a:lnTo>
                    <a:pt x="20" y="92"/>
                  </a:lnTo>
                  <a:lnTo>
                    <a:pt x="43" y="181"/>
                  </a:lnTo>
                  <a:lnTo>
                    <a:pt x="69" y="265"/>
                  </a:lnTo>
                  <a:lnTo>
                    <a:pt x="98" y="345"/>
                  </a:lnTo>
                  <a:lnTo>
                    <a:pt x="128" y="422"/>
                  </a:lnTo>
                  <a:lnTo>
                    <a:pt x="162" y="494"/>
                  </a:lnTo>
                  <a:lnTo>
                    <a:pt x="195" y="564"/>
                  </a:lnTo>
                  <a:lnTo>
                    <a:pt x="233" y="630"/>
                  </a:lnTo>
                  <a:lnTo>
                    <a:pt x="271" y="691"/>
                  </a:lnTo>
                  <a:lnTo>
                    <a:pt x="309" y="750"/>
                  </a:lnTo>
                  <a:lnTo>
                    <a:pt x="349" y="805"/>
                  </a:lnTo>
                  <a:lnTo>
                    <a:pt x="390" y="856"/>
                  </a:lnTo>
                  <a:lnTo>
                    <a:pt x="431" y="904"/>
                  </a:lnTo>
                  <a:lnTo>
                    <a:pt x="471" y="949"/>
                  </a:lnTo>
                  <a:lnTo>
                    <a:pt x="512" y="991"/>
                  </a:lnTo>
                  <a:lnTo>
                    <a:pt x="553" y="1030"/>
                  </a:lnTo>
                  <a:lnTo>
                    <a:pt x="593" y="1066"/>
                  </a:lnTo>
                  <a:lnTo>
                    <a:pt x="632" y="1099"/>
                  </a:lnTo>
                  <a:lnTo>
                    <a:pt x="669" y="1130"/>
                  </a:lnTo>
                  <a:lnTo>
                    <a:pt x="708" y="1157"/>
                  </a:lnTo>
                  <a:lnTo>
                    <a:pt x="741" y="1183"/>
                  </a:lnTo>
                  <a:lnTo>
                    <a:pt x="775" y="1204"/>
                  </a:lnTo>
                  <a:lnTo>
                    <a:pt x="807" y="1225"/>
                  </a:lnTo>
                  <a:lnTo>
                    <a:pt x="836" y="1243"/>
                  </a:lnTo>
                  <a:lnTo>
                    <a:pt x="864" y="1257"/>
                  </a:lnTo>
                  <a:lnTo>
                    <a:pt x="887" y="1270"/>
                  </a:lnTo>
                  <a:lnTo>
                    <a:pt x="908" y="1281"/>
                  </a:lnTo>
                  <a:lnTo>
                    <a:pt x="926" y="1289"/>
                  </a:lnTo>
                  <a:lnTo>
                    <a:pt x="941" y="1295"/>
                  </a:lnTo>
                  <a:lnTo>
                    <a:pt x="950" y="1300"/>
                  </a:lnTo>
                  <a:lnTo>
                    <a:pt x="956" y="1304"/>
                  </a:lnTo>
                  <a:lnTo>
                    <a:pt x="959" y="1304"/>
                  </a:lnTo>
                  <a:lnTo>
                    <a:pt x="960" y="1305"/>
                  </a:lnTo>
                  <a:lnTo>
                    <a:pt x="959" y="1305"/>
                  </a:lnTo>
                  <a:lnTo>
                    <a:pt x="959" y="1305"/>
                  </a:lnTo>
                  <a:lnTo>
                    <a:pt x="956" y="1304"/>
                  </a:lnTo>
                  <a:lnTo>
                    <a:pt x="949" y="1301"/>
                  </a:lnTo>
                  <a:lnTo>
                    <a:pt x="938" y="1297"/>
                  </a:lnTo>
                  <a:lnTo>
                    <a:pt x="925" y="1289"/>
                  </a:lnTo>
                  <a:lnTo>
                    <a:pt x="907" y="1281"/>
                  </a:lnTo>
                  <a:lnTo>
                    <a:pt x="885" y="1270"/>
                  </a:lnTo>
                  <a:lnTo>
                    <a:pt x="863" y="1257"/>
                  </a:lnTo>
                  <a:lnTo>
                    <a:pt x="836" y="1243"/>
                  </a:lnTo>
                  <a:lnTo>
                    <a:pt x="806" y="1225"/>
                  </a:lnTo>
                  <a:lnTo>
                    <a:pt x="775" y="1205"/>
                  </a:lnTo>
                  <a:lnTo>
                    <a:pt x="741" y="1183"/>
                  </a:lnTo>
                  <a:lnTo>
                    <a:pt x="705" y="1157"/>
                  </a:lnTo>
                  <a:lnTo>
                    <a:pt x="669" y="1130"/>
                  </a:lnTo>
                  <a:lnTo>
                    <a:pt x="630" y="1100"/>
                  </a:lnTo>
                  <a:lnTo>
                    <a:pt x="591" y="1067"/>
                  </a:lnTo>
                  <a:lnTo>
                    <a:pt x="552" y="1030"/>
                  </a:lnTo>
                  <a:lnTo>
                    <a:pt x="510" y="992"/>
                  </a:lnTo>
                  <a:lnTo>
                    <a:pt x="470" y="950"/>
                  </a:lnTo>
                  <a:lnTo>
                    <a:pt x="428" y="904"/>
                  </a:lnTo>
                  <a:lnTo>
                    <a:pt x="387" y="856"/>
                  </a:lnTo>
                  <a:lnTo>
                    <a:pt x="348" y="805"/>
                  </a:lnTo>
                  <a:lnTo>
                    <a:pt x="307" y="750"/>
                  </a:lnTo>
                  <a:lnTo>
                    <a:pt x="269" y="691"/>
                  </a:lnTo>
                  <a:lnTo>
                    <a:pt x="231" y="630"/>
                  </a:lnTo>
                  <a:lnTo>
                    <a:pt x="195" y="564"/>
                  </a:lnTo>
                  <a:lnTo>
                    <a:pt x="159" y="495"/>
                  </a:lnTo>
                  <a:lnTo>
                    <a:pt x="127" y="422"/>
                  </a:lnTo>
                  <a:lnTo>
                    <a:pt x="96" y="345"/>
                  </a:lnTo>
                  <a:lnTo>
                    <a:pt x="67" y="265"/>
                  </a:lnTo>
                  <a:lnTo>
                    <a:pt x="42" y="181"/>
                  </a:lnTo>
                  <a:lnTo>
                    <a:pt x="19" y="92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957400" y="2279520"/>
              <a:ext cx="381240" cy="519120"/>
            </a:xfrm>
            <a:custGeom>
              <a:avLst/>
              <a:gdLst/>
              <a:ahLst/>
              <a:rect l="l" t="t" r="r" b="b"/>
              <a:pathLst>
                <a:path w="960" h="1305">
                  <a:moveTo>
                    <a:pt x="1" y="0"/>
                  </a:moveTo>
                  <a:lnTo>
                    <a:pt x="20" y="92"/>
                  </a:lnTo>
                  <a:lnTo>
                    <a:pt x="43" y="181"/>
                  </a:lnTo>
                  <a:lnTo>
                    <a:pt x="69" y="265"/>
                  </a:lnTo>
                  <a:lnTo>
                    <a:pt x="98" y="345"/>
                  </a:lnTo>
                  <a:lnTo>
                    <a:pt x="128" y="422"/>
                  </a:lnTo>
                  <a:lnTo>
                    <a:pt x="162" y="494"/>
                  </a:lnTo>
                  <a:lnTo>
                    <a:pt x="195" y="564"/>
                  </a:lnTo>
                  <a:lnTo>
                    <a:pt x="233" y="630"/>
                  </a:lnTo>
                  <a:lnTo>
                    <a:pt x="271" y="691"/>
                  </a:lnTo>
                  <a:lnTo>
                    <a:pt x="309" y="750"/>
                  </a:lnTo>
                  <a:lnTo>
                    <a:pt x="349" y="805"/>
                  </a:lnTo>
                  <a:lnTo>
                    <a:pt x="390" y="856"/>
                  </a:lnTo>
                  <a:lnTo>
                    <a:pt x="431" y="904"/>
                  </a:lnTo>
                  <a:lnTo>
                    <a:pt x="471" y="949"/>
                  </a:lnTo>
                  <a:lnTo>
                    <a:pt x="512" y="991"/>
                  </a:lnTo>
                  <a:lnTo>
                    <a:pt x="553" y="1030"/>
                  </a:lnTo>
                  <a:lnTo>
                    <a:pt x="593" y="1066"/>
                  </a:lnTo>
                  <a:lnTo>
                    <a:pt x="632" y="1099"/>
                  </a:lnTo>
                  <a:lnTo>
                    <a:pt x="669" y="1130"/>
                  </a:lnTo>
                  <a:lnTo>
                    <a:pt x="708" y="1157"/>
                  </a:lnTo>
                  <a:lnTo>
                    <a:pt x="741" y="1183"/>
                  </a:lnTo>
                  <a:lnTo>
                    <a:pt x="775" y="1204"/>
                  </a:lnTo>
                  <a:lnTo>
                    <a:pt x="807" y="1225"/>
                  </a:lnTo>
                  <a:lnTo>
                    <a:pt x="836" y="1243"/>
                  </a:lnTo>
                  <a:lnTo>
                    <a:pt x="864" y="1257"/>
                  </a:lnTo>
                  <a:lnTo>
                    <a:pt x="887" y="1270"/>
                  </a:lnTo>
                  <a:lnTo>
                    <a:pt x="908" y="1281"/>
                  </a:lnTo>
                  <a:lnTo>
                    <a:pt x="926" y="1289"/>
                  </a:lnTo>
                  <a:lnTo>
                    <a:pt x="941" y="1295"/>
                  </a:lnTo>
                  <a:lnTo>
                    <a:pt x="950" y="1300"/>
                  </a:lnTo>
                  <a:lnTo>
                    <a:pt x="956" y="1304"/>
                  </a:lnTo>
                  <a:lnTo>
                    <a:pt x="959" y="1304"/>
                  </a:lnTo>
                  <a:lnTo>
                    <a:pt x="960" y="1305"/>
                  </a:lnTo>
                  <a:lnTo>
                    <a:pt x="959" y="1305"/>
                  </a:lnTo>
                  <a:lnTo>
                    <a:pt x="959" y="1305"/>
                  </a:lnTo>
                  <a:lnTo>
                    <a:pt x="956" y="1304"/>
                  </a:lnTo>
                  <a:lnTo>
                    <a:pt x="949" y="1301"/>
                  </a:lnTo>
                  <a:lnTo>
                    <a:pt x="938" y="1297"/>
                  </a:lnTo>
                  <a:lnTo>
                    <a:pt x="925" y="1289"/>
                  </a:lnTo>
                  <a:lnTo>
                    <a:pt x="907" y="1281"/>
                  </a:lnTo>
                  <a:lnTo>
                    <a:pt x="885" y="1270"/>
                  </a:lnTo>
                  <a:lnTo>
                    <a:pt x="863" y="1257"/>
                  </a:lnTo>
                  <a:lnTo>
                    <a:pt x="836" y="1243"/>
                  </a:lnTo>
                  <a:lnTo>
                    <a:pt x="806" y="1225"/>
                  </a:lnTo>
                  <a:lnTo>
                    <a:pt x="775" y="1205"/>
                  </a:lnTo>
                  <a:lnTo>
                    <a:pt x="741" y="1183"/>
                  </a:lnTo>
                  <a:lnTo>
                    <a:pt x="705" y="1157"/>
                  </a:lnTo>
                  <a:lnTo>
                    <a:pt x="669" y="1130"/>
                  </a:lnTo>
                  <a:lnTo>
                    <a:pt x="630" y="1100"/>
                  </a:lnTo>
                  <a:lnTo>
                    <a:pt x="591" y="1067"/>
                  </a:lnTo>
                  <a:lnTo>
                    <a:pt x="552" y="1030"/>
                  </a:lnTo>
                  <a:lnTo>
                    <a:pt x="510" y="992"/>
                  </a:lnTo>
                  <a:lnTo>
                    <a:pt x="470" y="950"/>
                  </a:lnTo>
                  <a:lnTo>
                    <a:pt x="428" y="904"/>
                  </a:lnTo>
                  <a:lnTo>
                    <a:pt x="387" y="856"/>
                  </a:lnTo>
                  <a:lnTo>
                    <a:pt x="348" y="805"/>
                  </a:lnTo>
                  <a:lnTo>
                    <a:pt x="307" y="750"/>
                  </a:lnTo>
                  <a:lnTo>
                    <a:pt x="269" y="691"/>
                  </a:lnTo>
                  <a:lnTo>
                    <a:pt x="231" y="630"/>
                  </a:lnTo>
                  <a:lnTo>
                    <a:pt x="195" y="564"/>
                  </a:lnTo>
                  <a:lnTo>
                    <a:pt x="159" y="495"/>
                  </a:lnTo>
                  <a:lnTo>
                    <a:pt x="127" y="422"/>
                  </a:lnTo>
                  <a:lnTo>
                    <a:pt x="96" y="345"/>
                  </a:lnTo>
                  <a:lnTo>
                    <a:pt x="67" y="265"/>
                  </a:lnTo>
                  <a:lnTo>
                    <a:pt x="42" y="181"/>
                  </a:lnTo>
                  <a:lnTo>
                    <a:pt x="19" y="9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92600" y="2284560"/>
              <a:ext cx="446040" cy="514080"/>
            </a:xfrm>
            <a:custGeom>
              <a:avLst/>
              <a:gdLst/>
              <a:ahLst/>
              <a:rect l="l" t="t" r="r" b="b"/>
              <a:pathLst>
                <a:path w="1123" h="1293">
                  <a:moveTo>
                    <a:pt x="1123" y="1292"/>
                  </a:moveTo>
                  <a:lnTo>
                    <a:pt x="1122" y="1293"/>
                  </a:lnTo>
                  <a:lnTo>
                    <a:pt x="1119" y="1292"/>
                  </a:lnTo>
                  <a:lnTo>
                    <a:pt x="1112" y="1288"/>
                  </a:lnTo>
                  <a:lnTo>
                    <a:pt x="1101" y="1285"/>
                  </a:lnTo>
                  <a:lnTo>
                    <a:pt x="1087" y="1277"/>
                  </a:lnTo>
                  <a:lnTo>
                    <a:pt x="1069" y="1269"/>
                  </a:lnTo>
                  <a:lnTo>
                    <a:pt x="1046" y="1257"/>
                  </a:lnTo>
                  <a:lnTo>
                    <a:pt x="1022" y="1245"/>
                  </a:lnTo>
                  <a:lnTo>
                    <a:pt x="993" y="1229"/>
                  </a:lnTo>
                  <a:lnTo>
                    <a:pt x="962" y="1211"/>
                  </a:lnTo>
                  <a:lnTo>
                    <a:pt x="930" y="1191"/>
                  </a:lnTo>
                  <a:lnTo>
                    <a:pt x="894" y="1168"/>
                  </a:lnTo>
                  <a:lnTo>
                    <a:pt x="856" y="1143"/>
                  </a:lnTo>
                  <a:lnTo>
                    <a:pt x="817" y="1115"/>
                  </a:lnTo>
                  <a:lnTo>
                    <a:pt x="775" y="1085"/>
                  </a:lnTo>
                  <a:lnTo>
                    <a:pt x="732" y="1052"/>
                  </a:lnTo>
                  <a:lnTo>
                    <a:pt x="688" y="1016"/>
                  </a:lnTo>
                  <a:lnTo>
                    <a:pt x="643" y="977"/>
                  </a:lnTo>
                  <a:lnTo>
                    <a:pt x="597" y="936"/>
                  </a:lnTo>
                  <a:lnTo>
                    <a:pt x="552" y="890"/>
                  </a:lnTo>
                  <a:lnTo>
                    <a:pt x="505" y="842"/>
                  </a:lnTo>
                  <a:lnTo>
                    <a:pt x="458" y="790"/>
                  </a:lnTo>
                  <a:lnTo>
                    <a:pt x="410" y="736"/>
                  </a:lnTo>
                  <a:lnTo>
                    <a:pt x="364" y="679"/>
                  </a:lnTo>
                  <a:lnTo>
                    <a:pt x="319" y="618"/>
                  </a:lnTo>
                  <a:lnTo>
                    <a:pt x="273" y="553"/>
                  </a:lnTo>
                  <a:lnTo>
                    <a:pt x="230" y="484"/>
                  </a:lnTo>
                  <a:lnTo>
                    <a:pt x="187" y="412"/>
                  </a:lnTo>
                  <a:lnTo>
                    <a:pt x="146" y="338"/>
                  </a:lnTo>
                  <a:lnTo>
                    <a:pt x="105" y="259"/>
                  </a:lnTo>
                  <a:lnTo>
                    <a:pt x="67" y="176"/>
                  </a:lnTo>
                  <a:lnTo>
                    <a:pt x="32" y="9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3" y="90"/>
                  </a:lnTo>
                  <a:lnTo>
                    <a:pt x="69" y="176"/>
                  </a:lnTo>
                  <a:lnTo>
                    <a:pt x="108" y="259"/>
                  </a:lnTo>
                  <a:lnTo>
                    <a:pt x="147" y="338"/>
                  </a:lnTo>
                  <a:lnTo>
                    <a:pt x="188" y="412"/>
                  </a:lnTo>
                  <a:lnTo>
                    <a:pt x="231" y="484"/>
                  </a:lnTo>
                  <a:lnTo>
                    <a:pt x="274" y="553"/>
                  </a:lnTo>
                  <a:lnTo>
                    <a:pt x="320" y="618"/>
                  </a:lnTo>
                  <a:lnTo>
                    <a:pt x="366" y="679"/>
                  </a:lnTo>
                  <a:lnTo>
                    <a:pt x="412" y="736"/>
                  </a:lnTo>
                  <a:lnTo>
                    <a:pt x="458" y="790"/>
                  </a:lnTo>
                  <a:lnTo>
                    <a:pt x="506" y="842"/>
                  </a:lnTo>
                  <a:lnTo>
                    <a:pt x="553" y="890"/>
                  </a:lnTo>
                  <a:lnTo>
                    <a:pt x="598" y="934"/>
                  </a:lnTo>
                  <a:lnTo>
                    <a:pt x="644" y="976"/>
                  </a:lnTo>
                  <a:lnTo>
                    <a:pt x="691" y="1016"/>
                  </a:lnTo>
                  <a:lnTo>
                    <a:pt x="734" y="1052"/>
                  </a:lnTo>
                  <a:lnTo>
                    <a:pt x="776" y="1085"/>
                  </a:lnTo>
                  <a:lnTo>
                    <a:pt x="817" y="1115"/>
                  </a:lnTo>
                  <a:lnTo>
                    <a:pt x="858" y="1143"/>
                  </a:lnTo>
                  <a:lnTo>
                    <a:pt x="895" y="1168"/>
                  </a:lnTo>
                  <a:lnTo>
                    <a:pt x="931" y="1191"/>
                  </a:lnTo>
                  <a:lnTo>
                    <a:pt x="964" y="1211"/>
                  </a:lnTo>
                  <a:lnTo>
                    <a:pt x="994" y="1228"/>
                  </a:lnTo>
                  <a:lnTo>
                    <a:pt x="1023" y="1244"/>
                  </a:lnTo>
                  <a:lnTo>
                    <a:pt x="1047" y="1257"/>
                  </a:lnTo>
                  <a:lnTo>
                    <a:pt x="1069" y="1268"/>
                  </a:lnTo>
                  <a:lnTo>
                    <a:pt x="1088" y="1277"/>
                  </a:lnTo>
                  <a:lnTo>
                    <a:pt x="1104" y="1283"/>
                  </a:lnTo>
                  <a:lnTo>
                    <a:pt x="1113" y="1288"/>
                  </a:lnTo>
                  <a:lnTo>
                    <a:pt x="1119" y="1292"/>
                  </a:lnTo>
                  <a:lnTo>
                    <a:pt x="1122" y="1292"/>
                  </a:lnTo>
                  <a:lnTo>
                    <a:pt x="1120" y="1292"/>
                  </a:lnTo>
                  <a:lnTo>
                    <a:pt x="1123" y="1292"/>
                  </a:lnTo>
                  <a:close/>
                </a:path>
              </a:pathLst>
            </a:custGeom>
            <a:solidFill>
              <a:srgbClr val="3f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892600" y="2284560"/>
              <a:ext cx="446040" cy="514080"/>
            </a:xfrm>
            <a:custGeom>
              <a:avLst/>
              <a:gdLst/>
              <a:ahLst/>
              <a:rect l="l" t="t" r="r" b="b"/>
              <a:pathLst>
                <a:path w="1123" h="1293">
                  <a:moveTo>
                    <a:pt x="1123" y="1292"/>
                  </a:moveTo>
                  <a:lnTo>
                    <a:pt x="1122" y="1293"/>
                  </a:lnTo>
                  <a:lnTo>
                    <a:pt x="1119" y="1292"/>
                  </a:lnTo>
                  <a:lnTo>
                    <a:pt x="1112" y="1288"/>
                  </a:lnTo>
                  <a:lnTo>
                    <a:pt x="1101" y="1285"/>
                  </a:lnTo>
                  <a:lnTo>
                    <a:pt x="1087" y="1277"/>
                  </a:lnTo>
                  <a:lnTo>
                    <a:pt x="1069" y="1269"/>
                  </a:lnTo>
                  <a:lnTo>
                    <a:pt x="1046" y="1257"/>
                  </a:lnTo>
                  <a:lnTo>
                    <a:pt x="1022" y="1245"/>
                  </a:lnTo>
                  <a:lnTo>
                    <a:pt x="993" y="1229"/>
                  </a:lnTo>
                  <a:lnTo>
                    <a:pt x="962" y="1211"/>
                  </a:lnTo>
                  <a:lnTo>
                    <a:pt x="930" y="1191"/>
                  </a:lnTo>
                  <a:lnTo>
                    <a:pt x="894" y="1168"/>
                  </a:lnTo>
                  <a:lnTo>
                    <a:pt x="856" y="1143"/>
                  </a:lnTo>
                  <a:lnTo>
                    <a:pt x="817" y="1115"/>
                  </a:lnTo>
                  <a:lnTo>
                    <a:pt x="775" y="1085"/>
                  </a:lnTo>
                  <a:lnTo>
                    <a:pt x="732" y="1052"/>
                  </a:lnTo>
                  <a:lnTo>
                    <a:pt x="688" y="1016"/>
                  </a:lnTo>
                  <a:lnTo>
                    <a:pt x="643" y="977"/>
                  </a:lnTo>
                  <a:lnTo>
                    <a:pt x="597" y="936"/>
                  </a:lnTo>
                  <a:lnTo>
                    <a:pt x="552" y="890"/>
                  </a:lnTo>
                  <a:lnTo>
                    <a:pt x="505" y="842"/>
                  </a:lnTo>
                  <a:lnTo>
                    <a:pt x="458" y="790"/>
                  </a:lnTo>
                  <a:lnTo>
                    <a:pt x="410" y="736"/>
                  </a:lnTo>
                  <a:lnTo>
                    <a:pt x="364" y="679"/>
                  </a:lnTo>
                  <a:lnTo>
                    <a:pt x="319" y="618"/>
                  </a:lnTo>
                  <a:lnTo>
                    <a:pt x="273" y="553"/>
                  </a:lnTo>
                  <a:lnTo>
                    <a:pt x="230" y="484"/>
                  </a:lnTo>
                  <a:lnTo>
                    <a:pt x="187" y="412"/>
                  </a:lnTo>
                  <a:lnTo>
                    <a:pt x="146" y="338"/>
                  </a:lnTo>
                  <a:lnTo>
                    <a:pt x="105" y="259"/>
                  </a:lnTo>
                  <a:lnTo>
                    <a:pt x="67" y="176"/>
                  </a:lnTo>
                  <a:lnTo>
                    <a:pt x="32" y="9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3" y="90"/>
                  </a:lnTo>
                  <a:lnTo>
                    <a:pt x="69" y="176"/>
                  </a:lnTo>
                  <a:lnTo>
                    <a:pt x="108" y="259"/>
                  </a:lnTo>
                  <a:lnTo>
                    <a:pt x="147" y="338"/>
                  </a:lnTo>
                  <a:lnTo>
                    <a:pt x="188" y="412"/>
                  </a:lnTo>
                  <a:lnTo>
                    <a:pt x="231" y="484"/>
                  </a:lnTo>
                  <a:lnTo>
                    <a:pt x="274" y="553"/>
                  </a:lnTo>
                  <a:lnTo>
                    <a:pt x="320" y="618"/>
                  </a:lnTo>
                  <a:lnTo>
                    <a:pt x="366" y="679"/>
                  </a:lnTo>
                  <a:lnTo>
                    <a:pt x="412" y="736"/>
                  </a:lnTo>
                  <a:lnTo>
                    <a:pt x="458" y="790"/>
                  </a:lnTo>
                  <a:lnTo>
                    <a:pt x="506" y="842"/>
                  </a:lnTo>
                  <a:lnTo>
                    <a:pt x="553" y="890"/>
                  </a:lnTo>
                  <a:lnTo>
                    <a:pt x="598" y="934"/>
                  </a:lnTo>
                  <a:lnTo>
                    <a:pt x="644" y="976"/>
                  </a:lnTo>
                  <a:lnTo>
                    <a:pt x="691" y="1016"/>
                  </a:lnTo>
                  <a:lnTo>
                    <a:pt x="734" y="1052"/>
                  </a:lnTo>
                  <a:lnTo>
                    <a:pt x="776" y="1085"/>
                  </a:lnTo>
                  <a:lnTo>
                    <a:pt x="817" y="1115"/>
                  </a:lnTo>
                  <a:lnTo>
                    <a:pt x="858" y="1143"/>
                  </a:lnTo>
                  <a:lnTo>
                    <a:pt x="895" y="1168"/>
                  </a:lnTo>
                  <a:lnTo>
                    <a:pt x="931" y="1191"/>
                  </a:lnTo>
                  <a:lnTo>
                    <a:pt x="964" y="1211"/>
                  </a:lnTo>
                  <a:lnTo>
                    <a:pt x="994" y="1228"/>
                  </a:lnTo>
                  <a:lnTo>
                    <a:pt x="1023" y="1244"/>
                  </a:lnTo>
                  <a:lnTo>
                    <a:pt x="1047" y="1257"/>
                  </a:lnTo>
                  <a:lnTo>
                    <a:pt x="1069" y="1268"/>
                  </a:lnTo>
                  <a:lnTo>
                    <a:pt x="1088" y="1277"/>
                  </a:lnTo>
                  <a:lnTo>
                    <a:pt x="1104" y="1283"/>
                  </a:lnTo>
                  <a:lnTo>
                    <a:pt x="1113" y="1288"/>
                  </a:lnTo>
                  <a:lnTo>
                    <a:pt x="1119" y="1292"/>
                  </a:lnTo>
                  <a:lnTo>
                    <a:pt x="1122" y="1292"/>
                  </a:lnTo>
                  <a:lnTo>
                    <a:pt x="1120" y="1292"/>
                  </a:lnTo>
                  <a:lnTo>
                    <a:pt x="1123" y="1292"/>
                  </a:lnTo>
                </a:path>
              </a:pathLst>
            </a:custGeom>
            <a:noFill/>
            <a:ln w="1440">
              <a:solidFill>
                <a:srgbClr val="b5d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085160" y="3693960"/>
              <a:ext cx="293400" cy="293760"/>
            </a:xfrm>
            <a:custGeom>
              <a:avLst/>
              <a:gdLst/>
              <a:ahLst/>
              <a:rect l="l" t="t" r="r" b="b"/>
              <a:pathLst>
                <a:path w="742" h="742">
                  <a:moveTo>
                    <a:pt x="371" y="0"/>
                  </a:moveTo>
                  <a:lnTo>
                    <a:pt x="390" y="0"/>
                  </a:lnTo>
                  <a:lnTo>
                    <a:pt x="408" y="2"/>
                  </a:lnTo>
                  <a:lnTo>
                    <a:pt x="427" y="4"/>
                  </a:lnTo>
                  <a:lnTo>
                    <a:pt x="445" y="8"/>
                  </a:lnTo>
                  <a:lnTo>
                    <a:pt x="463" y="11"/>
                  </a:lnTo>
                  <a:lnTo>
                    <a:pt x="480" y="17"/>
                  </a:lnTo>
                  <a:lnTo>
                    <a:pt x="498" y="22"/>
                  </a:lnTo>
                  <a:lnTo>
                    <a:pt x="515" y="29"/>
                  </a:lnTo>
                  <a:lnTo>
                    <a:pt x="530" y="36"/>
                  </a:lnTo>
                  <a:lnTo>
                    <a:pt x="547" y="45"/>
                  </a:lnTo>
                  <a:lnTo>
                    <a:pt x="563" y="54"/>
                  </a:lnTo>
                  <a:lnTo>
                    <a:pt x="577" y="64"/>
                  </a:lnTo>
                  <a:lnTo>
                    <a:pt x="592" y="74"/>
                  </a:lnTo>
                  <a:lnTo>
                    <a:pt x="606" y="84"/>
                  </a:lnTo>
                  <a:lnTo>
                    <a:pt x="619" y="96"/>
                  </a:lnTo>
                  <a:lnTo>
                    <a:pt x="632" y="108"/>
                  </a:lnTo>
                  <a:lnTo>
                    <a:pt x="644" y="122"/>
                  </a:lnTo>
                  <a:lnTo>
                    <a:pt x="656" y="135"/>
                  </a:lnTo>
                  <a:lnTo>
                    <a:pt x="667" y="149"/>
                  </a:lnTo>
                  <a:lnTo>
                    <a:pt x="678" y="164"/>
                  </a:lnTo>
                  <a:lnTo>
                    <a:pt x="688" y="179"/>
                  </a:lnTo>
                  <a:lnTo>
                    <a:pt x="696" y="195"/>
                  </a:lnTo>
                  <a:lnTo>
                    <a:pt x="704" y="210"/>
                  </a:lnTo>
                  <a:lnTo>
                    <a:pt x="712" y="227"/>
                  </a:lnTo>
                  <a:lnTo>
                    <a:pt x="719" y="244"/>
                  </a:lnTo>
                  <a:lnTo>
                    <a:pt x="725" y="261"/>
                  </a:lnTo>
                  <a:lnTo>
                    <a:pt x="730" y="279"/>
                  </a:lnTo>
                  <a:lnTo>
                    <a:pt x="733" y="296"/>
                  </a:lnTo>
                  <a:lnTo>
                    <a:pt x="737" y="315"/>
                  </a:lnTo>
                  <a:lnTo>
                    <a:pt x="739" y="333"/>
                  </a:lnTo>
                  <a:lnTo>
                    <a:pt x="740" y="352"/>
                  </a:lnTo>
                  <a:lnTo>
                    <a:pt x="742" y="371"/>
                  </a:lnTo>
                  <a:lnTo>
                    <a:pt x="740" y="389"/>
                  </a:lnTo>
                  <a:lnTo>
                    <a:pt x="739" y="408"/>
                  </a:lnTo>
                  <a:lnTo>
                    <a:pt x="737" y="427"/>
                  </a:lnTo>
                  <a:lnTo>
                    <a:pt x="733" y="445"/>
                  </a:lnTo>
                  <a:lnTo>
                    <a:pt x="730" y="463"/>
                  </a:lnTo>
                  <a:lnTo>
                    <a:pt x="725" y="480"/>
                  </a:lnTo>
                  <a:lnTo>
                    <a:pt x="719" y="498"/>
                  </a:lnTo>
                  <a:lnTo>
                    <a:pt x="712" y="515"/>
                  </a:lnTo>
                  <a:lnTo>
                    <a:pt x="704" y="531"/>
                  </a:lnTo>
                  <a:lnTo>
                    <a:pt x="696" y="547"/>
                  </a:lnTo>
                  <a:lnTo>
                    <a:pt x="688" y="563"/>
                  </a:lnTo>
                  <a:lnTo>
                    <a:pt x="678" y="577"/>
                  </a:lnTo>
                  <a:lnTo>
                    <a:pt x="667" y="592"/>
                  </a:lnTo>
                  <a:lnTo>
                    <a:pt x="656" y="606"/>
                  </a:lnTo>
                  <a:lnTo>
                    <a:pt x="644" y="619"/>
                  </a:lnTo>
                  <a:lnTo>
                    <a:pt x="632" y="633"/>
                  </a:lnTo>
                  <a:lnTo>
                    <a:pt x="619" y="645"/>
                  </a:lnTo>
                  <a:lnTo>
                    <a:pt x="606" y="657"/>
                  </a:lnTo>
                  <a:lnTo>
                    <a:pt x="592" y="667"/>
                  </a:lnTo>
                  <a:lnTo>
                    <a:pt x="577" y="678"/>
                  </a:lnTo>
                  <a:lnTo>
                    <a:pt x="563" y="688"/>
                  </a:lnTo>
                  <a:lnTo>
                    <a:pt x="547" y="696"/>
                  </a:lnTo>
                  <a:lnTo>
                    <a:pt x="530" y="705"/>
                  </a:lnTo>
                  <a:lnTo>
                    <a:pt x="515" y="712"/>
                  </a:lnTo>
                  <a:lnTo>
                    <a:pt x="498" y="719"/>
                  </a:lnTo>
                  <a:lnTo>
                    <a:pt x="480" y="725"/>
                  </a:lnTo>
                  <a:lnTo>
                    <a:pt x="463" y="730"/>
                  </a:lnTo>
                  <a:lnTo>
                    <a:pt x="445" y="733"/>
                  </a:lnTo>
                  <a:lnTo>
                    <a:pt x="427" y="737"/>
                  </a:lnTo>
                  <a:lnTo>
                    <a:pt x="408" y="739"/>
                  </a:lnTo>
                  <a:lnTo>
                    <a:pt x="390" y="741"/>
                  </a:lnTo>
                  <a:lnTo>
                    <a:pt x="371" y="742"/>
                  </a:lnTo>
                  <a:lnTo>
                    <a:pt x="352" y="741"/>
                  </a:lnTo>
                  <a:lnTo>
                    <a:pt x="332" y="739"/>
                  </a:lnTo>
                  <a:lnTo>
                    <a:pt x="314" y="737"/>
                  </a:lnTo>
                  <a:lnTo>
                    <a:pt x="296" y="733"/>
                  </a:lnTo>
                  <a:lnTo>
                    <a:pt x="278" y="730"/>
                  </a:lnTo>
                  <a:lnTo>
                    <a:pt x="260" y="725"/>
                  </a:lnTo>
                  <a:lnTo>
                    <a:pt x="244" y="719"/>
                  </a:lnTo>
                  <a:lnTo>
                    <a:pt x="227" y="712"/>
                  </a:lnTo>
                  <a:lnTo>
                    <a:pt x="210" y="705"/>
                  </a:lnTo>
                  <a:lnTo>
                    <a:pt x="194" y="696"/>
                  </a:lnTo>
                  <a:lnTo>
                    <a:pt x="179" y="688"/>
                  </a:lnTo>
                  <a:lnTo>
                    <a:pt x="163" y="678"/>
                  </a:lnTo>
                  <a:lnTo>
                    <a:pt x="149" y="667"/>
                  </a:lnTo>
                  <a:lnTo>
                    <a:pt x="134" y="657"/>
                  </a:lnTo>
                  <a:lnTo>
                    <a:pt x="121" y="645"/>
                  </a:lnTo>
                  <a:lnTo>
                    <a:pt x="108" y="633"/>
                  </a:lnTo>
                  <a:lnTo>
                    <a:pt x="96" y="619"/>
                  </a:lnTo>
                  <a:lnTo>
                    <a:pt x="84" y="606"/>
                  </a:lnTo>
                  <a:lnTo>
                    <a:pt x="73" y="592"/>
                  </a:lnTo>
                  <a:lnTo>
                    <a:pt x="64" y="577"/>
                  </a:lnTo>
                  <a:lnTo>
                    <a:pt x="54" y="563"/>
                  </a:lnTo>
                  <a:lnTo>
                    <a:pt x="44" y="547"/>
                  </a:lnTo>
                  <a:lnTo>
                    <a:pt x="36" y="531"/>
                  </a:lnTo>
                  <a:lnTo>
                    <a:pt x="29" y="515"/>
                  </a:lnTo>
                  <a:lnTo>
                    <a:pt x="23" y="498"/>
                  </a:lnTo>
                  <a:lnTo>
                    <a:pt x="17" y="480"/>
                  </a:lnTo>
                  <a:lnTo>
                    <a:pt x="12" y="463"/>
                  </a:lnTo>
                  <a:lnTo>
                    <a:pt x="7" y="445"/>
                  </a:lnTo>
                  <a:lnTo>
                    <a:pt x="4" y="427"/>
                  </a:lnTo>
                  <a:lnTo>
                    <a:pt x="1" y="408"/>
                  </a:lnTo>
                  <a:lnTo>
                    <a:pt x="0" y="389"/>
                  </a:lnTo>
                  <a:lnTo>
                    <a:pt x="0" y="371"/>
                  </a:lnTo>
                  <a:lnTo>
                    <a:pt x="0" y="352"/>
                  </a:lnTo>
                  <a:lnTo>
                    <a:pt x="1" y="333"/>
                  </a:lnTo>
                  <a:lnTo>
                    <a:pt x="4" y="315"/>
                  </a:lnTo>
                  <a:lnTo>
                    <a:pt x="7" y="296"/>
                  </a:lnTo>
                  <a:lnTo>
                    <a:pt x="12" y="279"/>
                  </a:lnTo>
                  <a:lnTo>
                    <a:pt x="17" y="261"/>
                  </a:lnTo>
                  <a:lnTo>
                    <a:pt x="23" y="244"/>
                  </a:lnTo>
                  <a:lnTo>
                    <a:pt x="29" y="227"/>
                  </a:lnTo>
                  <a:lnTo>
                    <a:pt x="36" y="210"/>
                  </a:lnTo>
                  <a:lnTo>
                    <a:pt x="44" y="195"/>
                  </a:lnTo>
                  <a:lnTo>
                    <a:pt x="54" y="179"/>
                  </a:lnTo>
                  <a:lnTo>
                    <a:pt x="64" y="164"/>
                  </a:lnTo>
                  <a:lnTo>
                    <a:pt x="73" y="149"/>
                  </a:lnTo>
                  <a:lnTo>
                    <a:pt x="84" y="135"/>
                  </a:lnTo>
                  <a:lnTo>
                    <a:pt x="96" y="122"/>
                  </a:lnTo>
                  <a:lnTo>
                    <a:pt x="108" y="108"/>
                  </a:lnTo>
                  <a:lnTo>
                    <a:pt x="121" y="96"/>
                  </a:lnTo>
                  <a:lnTo>
                    <a:pt x="134" y="84"/>
                  </a:lnTo>
                  <a:lnTo>
                    <a:pt x="149" y="74"/>
                  </a:lnTo>
                  <a:lnTo>
                    <a:pt x="163" y="64"/>
                  </a:lnTo>
                  <a:lnTo>
                    <a:pt x="179" y="54"/>
                  </a:lnTo>
                  <a:lnTo>
                    <a:pt x="194" y="45"/>
                  </a:lnTo>
                  <a:lnTo>
                    <a:pt x="210" y="36"/>
                  </a:lnTo>
                  <a:lnTo>
                    <a:pt x="227" y="29"/>
                  </a:lnTo>
                  <a:lnTo>
                    <a:pt x="244" y="22"/>
                  </a:lnTo>
                  <a:lnTo>
                    <a:pt x="260" y="17"/>
                  </a:lnTo>
                  <a:lnTo>
                    <a:pt x="278" y="11"/>
                  </a:lnTo>
                  <a:lnTo>
                    <a:pt x="296" y="8"/>
                  </a:lnTo>
                  <a:lnTo>
                    <a:pt x="314" y="4"/>
                  </a:lnTo>
                  <a:lnTo>
                    <a:pt x="332" y="2"/>
                  </a:lnTo>
                  <a:lnTo>
                    <a:pt x="352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495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085160" y="3693960"/>
              <a:ext cx="293400" cy="293760"/>
            </a:xfrm>
            <a:custGeom>
              <a:avLst/>
              <a:gdLst/>
              <a:ahLst/>
              <a:rect l="l" t="t" r="r" b="b"/>
              <a:pathLst>
                <a:path w="742" h="742">
                  <a:moveTo>
                    <a:pt x="371" y="0"/>
                  </a:moveTo>
                  <a:lnTo>
                    <a:pt x="390" y="0"/>
                  </a:lnTo>
                  <a:lnTo>
                    <a:pt x="408" y="2"/>
                  </a:lnTo>
                  <a:lnTo>
                    <a:pt x="427" y="4"/>
                  </a:lnTo>
                  <a:lnTo>
                    <a:pt x="445" y="8"/>
                  </a:lnTo>
                  <a:lnTo>
                    <a:pt x="463" y="11"/>
                  </a:lnTo>
                  <a:lnTo>
                    <a:pt x="480" y="17"/>
                  </a:lnTo>
                  <a:lnTo>
                    <a:pt x="498" y="22"/>
                  </a:lnTo>
                  <a:lnTo>
                    <a:pt x="515" y="29"/>
                  </a:lnTo>
                  <a:lnTo>
                    <a:pt x="530" y="36"/>
                  </a:lnTo>
                  <a:lnTo>
                    <a:pt x="547" y="45"/>
                  </a:lnTo>
                  <a:lnTo>
                    <a:pt x="563" y="54"/>
                  </a:lnTo>
                  <a:lnTo>
                    <a:pt x="577" y="64"/>
                  </a:lnTo>
                  <a:lnTo>
                    <a:pt x="592" y="74"/>
                  </a:lnTo>
                  <a:lnTo>
                    <a:pt x="606" y="84"/>
                  </a:lnTo>
                  <a:lnTo>
                    <a:pt x="619" y="96"/>
                  </a:lnTo>
                  <a:lnTo>
                    <a:pt x="632" y="108"/>
                  </a:lnTo>
                  <a:lnTo>
                    <a:pt x="644" y="122"/>
                  </a:lnTo>
                  <a:lnTo>
                    <a:pt x="656" y="135"/>
                  </a:lnTo>
                  <a:lnTo>
                    <a:pt x="667" y="149"/>
                  </a:lnTo>
                  <a:lnTo>
                    <a:pt x="678" y="164"/>
                  </a:lnTo>
                  <a:lnTo>
                    <a:pt x="688" y="179"/>
                  </a:lnTo>
                  <a:lnTo>
                    <a:pt x="696" y="195"/>
                  </a:lnTo>
                  <a:lnTo>
                    <a:pt x="704" y="210"/>
                  </a:lnTo>
                  <a:lnTo>
                    <a:pt x="712" y="227"/>
                  </a:lnTo>
                  <a:lnTo>
                    <a:pt x="719" y="244"/>
                  </a:lnTo>
                  <a:lnTo>
                    <a:pt x="725" y="261"/>
                  </a:lnTo>
                  <a:lnTo>
                    <a:pt x="730" y="279"/>
                  </a:lnTo>
                  <a:lnTo>
                    <a:pt x="733" y="296"/>
                  </a:lnTo>
                  <a:lnTo>
                    <a:pt x="737" y="315"/>
                  </a:lnTo>
                  <a:lnTo>
                    <a:pt x="739" y="333"/>
                  </a:lnTo>
                  <a:lnTo>
                    <a:pt x="740" y="352"/>
                  </a:lnTo>
                  <a:lnTo>
                    <a:pt x="742" y="371"/>
                  </a:lnTo>
                  <a:lnTo>
                    <a:pt x="740" y="389"/>
                  </a:lnTo>
                  <a:lnTo>
                    <a:pt x="739" y="408"/>
                  </a:lnTo>
                  <a:lnTo>
                    <a:pt x="737" y="427"/>
                  </a:lnTo>
                  <a:lnTo>
                    <a:pt x="733" y="445"/>
                  </a:lnTo>
                  <a:lnTo>
                    <a:pt x="730" y="463"/>
                  </a:lnTo>
                  <a:lnTo>
                    <a:pt x="725" y="480"/>
                  </a:lnTo>
                  <a:lnTo>
                    <a:pt x="719" y="498"/>
                  </a:lnTo>
                  <a:lnTo>
                    <a:pt x="712" y="515"/>
                  </a:lnTo>
                  <a:lnTo>
                    <a:pt x="704" y="531"/>
                  </a:lnTo>
                  <a:lnTo>
                    <a:pt x="696" y="547"/>
                  </a:lnTo>
                  <a:lnTo>
                    <a:pt x="688" y="563"/>
                  </a:lnTo>
                  <a:lnTo>
                    <a:pt x="678" y="577"/>
                  </a:lnTo>
                  <a:lnTo>
                    <a:pt x="667" y="592"/>
                  </a:lnTo>
                  <a:lnTo>
                    <a:pt x="656" y="606"/>
                  </a:lnTo>
                  <a:lnTo>
                    <a:pt x="644" y="619"/>
                  </a:lnTo>
                  <a:lnTo>
                    <a:pt x="632" y="633"/>
                  </a:lnTo>
                  <a:lnTo>
                    <a:pt x="619" y="645"/>
                  </a:lnTo>
                  <a:lnTo>
                    <a:pt x="606" y="657"/>
                  </a:lnTo>
                  <a:lnTo>
                    <a:pt x="592" y="667"/>
                  </a:lnTo>
                  <a:lnTo>
                    <a:pt x="577" y="678"/>
                  </a:lnTo>
                  <a:lnTo>
                    <a:pt x="563" y="688"/>
                  </a:lnTo>
                  <a:lnTo>
                    <a:pt x="547" y="696"/>
                  </a:lnTo>
                  <a:lnTo>
                    <a:pt x="530" y="705"/>
                  </a:lnTo>
                  <a:lnTo>
                    <a:pt x="515" y="712"/>
                  </a:lnTo>
                  <a:lnTo>
                    <a:pt x="498" y="719"/>
                  </a:lnTo>
                  <a:lnTo>
                    <a:pt x="480" y="725"/>
                  </a:lnTo>
                  <a:lnTo>
                    <a:pt x="463" y="730"/>
                  </a:lnTo>
                  <a:lnTo>
                    <a:pt x="445" y="733"/>
                  </a:lnTo>
                  <a:lnTo>
                    <a:pt x="427" y="737"/>
                  </a:lnTo>
                  <a:lnTo>
                    <a:pt x="408" y="739"/>
                  </a:lnTo>
                  <a:lnTo>
                    <a:pt x="390" y="741"/>
                  </a:lnTo>
                  <a:lnTo>
                    <a:pt x="371" y="742"/>
                  </a:lnTo>
                  <a:lnTo>
                    <a:pt x="352" y="741"/>
                  </a:lnTo>
                  <a:lnTo>
                    <a:pt x="332" y="739"/>
                  </a:lnTo>
                  <a:lnTo>
                    <a:pt x="314" y="737"/>
                  </a:lnTo>
                  <a:lnTo>
                    <a:pt x="296" y="733"/>
                  </a:lnTo>
                  <a:lnTo>
                    <a:pt x="278" y="730"/>
                  </a:lnTo>
                  <a:lnTo>
                    <a:pt x="260" y="725"/>
                  </a:lnTo>
                  <a:lnTo>
                    <a:pt x="244" y="719"/>
                  </a:lnTo>
                  <a:lnTo>
                    <a:pt x="227" y="712"/>
                  </a:lnTo>
                  <a:lnTo>
                    <a:pt x="210" y="705"/>
                  </a:lnTo>
                  <a:lnTo>
                    <a:pt x="194" y="696"/>
                  </a:lnTo>
                  <a:lnTo>
                    <a:pt x="179" y="688"/>
                  </a:lnTo>
                  <a:lnTo>
                    <a:pt x="163" y="678"/>
                  </a:lnTo>
                  <a:lnTo>
                    <a:pt x="149" y="667"/>
                  </a:lnTo>
                  <a:lnTo>
                    <a:pt x="134" y="657"/>
                  </a:lnTo>
                  <a:lnTo>
                    <a:pt x="121" y="645"/>
                  </a:lnTo>
                  <a:lnTo>
                    <a:pt x="108" y="633"/>
                  </a:lnTo>
                  <a:lnTo>
                    <a:pt x="96" y="619"/>
                  </a:lnTo>
                  <a:lnTo>
                    <a:pt x="84" y="606"/>
                  </a:lnTo>
                  <a:lnTo>
                    <a:pt x="73" y="592"/>
                  </a:lnTo>
                  <a:lnTo>
                    <a:pt x="64" y="577"/>
                  </a:lnTo>
                  <a:lnTo>
                    <a:pt x="54" y="563"/>
                  </a:lnTo>
                  <a:lnTo>
                    <a:pt x="44" y="547"/>
                  </a:lnTo>
                  <a:lnTo>
                    <a:pt x="36" y="531"/>
                  </a:lnTo>
                  <a:lnTo>
                    <a:pt x="29" y="515"/>
                  </a:lnTo>
                  <a:lnTo>
                    <a:pt x="23" y="498"/>
                  </a:lnTo>
                  <a:lnTo>
                    <a:pt x="17" y="480"/>
                  </a:lnTo>
                  <a:lnTo>
                    <a:pt x="12" y="463"/>
                  </a:lnTo>
                  <a:lnTo>
                    <a:pt x="7" y="445"/>
                  </a:lnTo>
                  <a:lnTo>
                    <a:pt x="4" y="427"/>
                  </a:lnTo>
                  <a:lnTo>
                    <a:pt x="1" y="408"/>
                  </a:lnTo>
                  <a:lnTo>
                    <a:pt x="0" y="389"/>
                  </a:lnTo>
                  <a:lnTo>
                    <a:pt x="0" y="371"/>
                  </a:lnTo>
                  <a:lnTo>
                    <a:pt x="0" y="352"/>
                  </a:lnTo>
                  <a:lnTo>
                    <a:pt x="1" y="333"/>
                  </a:lnTo>
                  <a:lnTo>
                    <a:pt x="4" y="315"/>
                  </a:lnTo>
                  <a:lnTo>
                    <a:pt x="7" y="296"/>
                  </a:lnTo>
                  <a:lnTo>
                    <a:pt x="12" y="279"/>
                  </a:lnTo>
                  <a:lnTo>
                    <a:pt x="17" y="261"/>
                  </a:lnTo>
                  <a:lnTo>
                    <a:pt x="23" y="244"/>
                  </a:lnTo>
                  <a:lnTo>
                    <a:pt x="29" y="227"/>
                  </a:lnTo>
                  <a:lnTo>
                    <a:pt x="36" y="210"/>
                  </a:lnTo>
                  <a:lnTo>
                    <a:pt x="44" y="195"/>
                  </a:lnTo>
                  <a:lnTo>
                    <a:pt x="54" y="179"/>
                  </a:lnTo>
                  <a:lnTo>
                    <a:pt x="64" y="164"/>
                  </a:lnTo>
                  <a:lnTo>
                    <a:pt x="73" y="149"/>
                  </a:lnTo>
                  <a:lnTo>
                    <a:pt x="84" y="135"/>
                  </a:lnTo>
                  <a:lnTo>
                    <a:pt x="96" y="122"/>
                  </a:lnTo>
                  <a:lnTo>
                    <a:pt x="108" y="108"/>
                  </a:lnTo>
                  <a:lnTo>
                    <a:pt x="121" y="96"/>
                  </a:lnTo>
                  <a:lnTo>
                    <a:pt x="134" y="84"/>
                  </a:lnTo>
                  <a:lnTo>
                    <a:pt x="149" y="74"/>
                  </a:lnTo>
                  <a:lnTo>
                    <a:pt x="163" y="64"/>
                  </a:lnTo>
                  <a:lnTo>
                    <a:pt x="179" y="54"/>
                  </a:lnTo>
                  <a:lnTo>
                    <a:pt x="194" y="45"/>
                  </a:lnTo>
                  <a:lnTo>
                    <a:pt x="210" y="36"/>
                  </a:lnTo>
                  <a:lnTo>
                    <a:pt x="227" y="29"/>
                  </a:lnTo>
                  <a:lnTo>
                    <a:pt x="244" y="22"/>
                  </a:lnTo>
                  <a:lnTo>
                    <a:pt x="260" y="17"/>
                  </a:lnTo>
                  <a:lnTo>
                    <a:pt x="278" y="11"/>
                  </a:lnTo>
                  <a:lnTo>
                    <a:pt x="296" y="8"/>
                  </a:lnTo>
                  <a:lnTo>
                    <a:pt x="314" y="4"/>
                  </a:lnTo>
                  <a:lnTo>
                    <a:pt x="332" y="2"/>
                  </a:lnTo>
                  <a:lnTo>
                    <a:pt x="352" y="0"/>
                  </a:lnTo>
                  <a:lnTo>
                    <a:pt x="371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302600" y="4322880"/>
              <a:ext cx="295200" cy="293400"/>
            </a:xfrm>
            <a:custGeom>
              <a:avLst/>
              <a:gdLst/>
              <a:ahLst/>
              <a:rect l="l" t="t" r="r" b="b"/>
              <a:pathLst>
                <a:path w="741" h="742">
                  <a:moveTo>
                    <a:pt x="370" y="0"/>
                  </a:moveTo>
                  <a:lnTo>
                    <a:pt x="390" y="1"/>
                  </a:lnTo>
                  <a:lnTo>
                    <a:pt x="409" y="3"/>
                  </a:lnTo>
                  <a:lnTo>
                    <a:pt x="427" y="5"/>
                  </a:lnTo>
                  <a:lnTo>
                    <a:pt x="445" y="7"/>
                  </a:lnTo>
                  <a:lnTo>
                    <a:pt x="463" y="12"/>
                  </a:lnTo>
                  <a:lnTo>
                    <a:pt x="481" y="17"/>
                  </a:lnTo>
                  <a:lnTo>
                    <a:pt x="498" y="23"/>
                  </a:lnTo>
                  <a:lnTo>
                    <a:pt x="514" y="30"/>
                  </a:lnTo>
                  <a:lnTo>
                    <a:pt x="531" y="37"/>
                  </a:lnTo>
                  <a:lnTo>
                    <a:pt x="547" y="46"/>
                  </a:lnTo>
                  <a:lnTo>
                    <a:pt x="562" y="54"/>
                  </a:lnTo>
                  <a:lnTo>
                    <a:pt x="578" y="64"/>
                  </a:lnTo>
                  <a:lnTo>
                    <a:pt x="592" y="75"/>
                  </a:lnTo>
                  <a:lnTo>
                    <a:pt x="606" y="85"/>
                  </a:lnTo>
                  <a:lnTo>
                    <a:pt x="620" y="97"/>
                  </a:lnTo>
                  <a:lnTo>
                    <a:pt x="632" y="109"/>
                  </a:lnTo>
                  <a:lnTo>
                    <a:pt x="645" y="123"/>
                  </a:lnTo>
                  <a:lnTo>
                    <a:pt x="656" y="136"/>
                  </a:lnTo>
                  <a:lnTo>
                    <a:pt x="668" y="149"/>
                  </a:lnTo>
                  <a:lnTo>
                    <a:pt x="678" y="165"/>
                  </a:lnTo>
                  <a:lnTo>
                    <a:pt x="687" y="179"/>
                  </a:lnTo>
                  <a:lnTo>
                    <a:pt x="697" y="195"/>
                  </a:lnTo>
                  <a:lnTo>
                    <a:pt x="705" y="210"/>
                  </a:lnTo>
                  <a:lnTo>
                    <a:pt x="712" y="227"/>
                  </a:lnTo>
                  <a:lnTo>
                    <a:pt x="718" y="244"/>
                  </a:lnTo>
                  <a:lnTo>
                    <a:pt x="724" y="261"/>
                  </a:lnTo>
                  <a:lnTo>
                    <a:pt x="729" y="278"/>
                  </a:lnTo>
                  <a:lnTo>
                    <a:pt x="734" y="296"/>
                  </a:lnTo>
                  <a:lnTo>
                    <a:pt x="738" y="314"/>
                  </a:lnTo>
                  <a:lnTo>
                    <a:pt x="740" y="334"/>
                  </a:lnTo>
                  <a:lnTo>
                    <a:pt x="741" y="352"/>
                  </a:lnTo>
                  <a:lnTo>
                    <a:pt x="741" y="371"/>
                  </a:lnTo>
                  <a:lnTo>
                    <a:pt x="741" y="390"/>
                  </a:lnTo>
                  <a:lnTo>
                    <a:pt x="740" y="409"/>
                  </a:lnTo>
                  <a:lnTo>
                    <a:pt x="738" y="427"/>
                  </a:lnTo>
                  <a:lnTo>
                    <a:pt x="734" y="445"/>
                  </a:lnTo>
                  <a:lnTo>
                    <a:pt x="729" y="463"/>
                  </a:lnTo>
                  <a:lnTo>
                    <a:pt x="724" y="481"/>
                  </a:lnTo>
                  <a:lnTo>
                    <a:pt x="718" y="498"/>
                  </a:lnTo>
                  <a:lnTo>
                    <a:pt x="712" y="515"/>
                  </a:lnTo>
                  <a:lnTo>
                    <a:pt x="705" y="532"/>
                  </a:lnTo>
                  <a:lnTo>
                    <a:pt x="697" y="547"/>
                  </a:lnTo>
                  <a:lnTo>
                    <a:pt x="687" y="563"/>
                  </a:lnTo>
                  <a:lnTo>
                    <a:pt x="678" y="578"/>
                  </a:lnTo>
                  <a:lnTo>
                    <a:pt x="668" y="593"/>
                  </a:lnTo>
                  <a:lnTo>
                    <a:pt x="656" y="606"/>
                  </a:lnTo>
                  <a:lnTo>
                    <a:pt x="645" y="620"/>
                  </a:lnTo>
                  <a:lnTo>
                    <a:pt x="632" y="632"/>
                  </a:lnTo>
                  <a:lnTo>
                    <a:pt x="620" y="646"/>
                  </a:lnTo>
                  <a:lnTo>
                    <a:pt x="606" y="656"/>
                  </a:lnTo>
                  <a:lnTo>
                    <a:pt x="592" y="668"/>
                  </a:lnTo>
                  <a:lnTo>
                    <a:pt x="578" y="678"/>
                  </a:lnTo>
                  <a:lnTo>
                    <a:pt x="562" y="688"/>
                  </a:lnTo>
                  <a:lnTo>
                    <a:pt x="547" y="697"/>
                  </a:lnTo>
                  <a:lnTo>
                    <a:pt x="531" y="704"/>
                  </a:lnTo>
                  <a:lnTo>
                    <a:pt x="514" y="713"/>
                  </a:lnTo>
                  <a:lnTo>
                    <a:pt x="498" y="719"/>
                  </a:lnTo>
                  <a:lnTo>
                    <a:pt x="481" y="725"/>
                  </a:lnTo>
                  <a:lnTo>
                    <a:pt x="463" y="730"/>
                  </a:lnTo>
                  <a:lnTo>
                    <a:pt x="445" y="734"/>
                  </a:lnTo>
                  <a:lnTo>
                    <a:pt x="427" y="737"/>
                  </a:lnTo>
                  <a:lnTo>
                    <a:pt x="409" y="739"/>
                  </a:lnTo>
                  <a:lnTo>
                    <a:pt x="390" y="742"/>
                  </a:lnTo>
                  <a:lnTo>
                    <a:pt x="370" y="742"/>
                  </a:lnTo>
                  <a:lnTo>
                    <a:pt x="351" y="742"/>
                  </a:lnTo>
                  <a:lnTo>
                    <a:pt x="333" y="739"/>
                  </a:lnTo>
                  <a:lnTo>
                    <a:pt x="314" y="737"/>
                  </a:lnTo>
                  <a:lnTo>
                    <a:pt x="296" y="734"/>
                  </a:lnTo>
                  <a:lnTo>
                    <a:pt x="278" y="730"/>
                  </a:lnTo>
                  <a:lnTo>
                    <a:pt x="260" y="725"/>
                  </a:lnTo>
                  <a:lnTo>
                    <a:pt x="243" y="719"/>
                  </a:lnTo>
                  <a:lnTo>
                    <a:pt x="226" y="713"/>
                  </a:lnTo>
                  <a:lnTo>
                    <a:pt x="210" y="704"/>
                  </a:lnTo>
                  <a:lnTo>
                    <a:pt x="194" y="697"/>
                  </a:lnTo>
                  <a:lnTo>
                    <a:pt x="178" y="688"/>
                  </a:lnTo>
                  <a:lnTo>
                    <a:pt x="164" y="678"/>
                  </a:lnTo>
                  <a:lnTo>
                    <a:pt x="150" y="668"/>
                  </a:lnTo>
                  <a:lnTo>
                    <a:pt x="135" y="656"/>
                  </a:lnTo>
                  <a:lnTo>
                    <a:pt x="122" y="646"/>
                  </a:lnTo>
                  <a:lnTo>
                    <a:pt x="109" y="632"/>
                  </a:lnTo>
                  <a:lnTo>
                    <a:pt x="97" y="620"/>
                  </a:lnTo>
                  <a:lnTo>
                    <a:pt x="85" y="606"/>
                  </a:lnTo>
                  <a:lnTo>
                    <a:pt x="74" y="593"/>
                  </a:lnTo>
                  <a:lnTo>
                    <a:pt x="63" y="578"/>
                  </a:lnTo>
                  <a:lnTo>
                    <a:pt x="54" y="563"/>
                  </a:lnTo>
                  <a:lnTo>
                    <a:pt x="45" y="547"/>
                  </a:lnTo>
                  <a:lnTo>
                    <a:pt x="37" y="532"/>
                  </a:lnTo>
                  <a:lnTo>
                    <a:pt x="30" y="515"/>
                  </a:lnTo>
                  <a:lnTo>
                    <a:pt x="22" y="498"/>
                  </a:lnTo>
                  <a:lnTo>
                    <a:pt x="16" y="481"/>
                  </a:lnTo>
                  <a:lnTo>
                    <a:pt x="12" y="463"/>
                  </a:lnTo>
                  <a:lnTo>
                    <a:pt x="8" y="445"/>
                  </a:lnTo>
                  <a:lnTo>
                    <a:pt x="4" y="427"/>
                  </a:lnTo>
                  <a:lnTo>
                    <a:pt x="2" y="409"/>
                  </a:lnTo>
                  <a:lnTo>
                    <a:pt x="1" y="390"/>
                  </a:lnTo>
                  <a:lnTo>
                    <a:pt x="0" y="371"/>
                  </a:lnTo>
                  <a:lnTo>
                    <a:pt x="1" y="352"/>
                  </a:lnTo>
                  <a:lnTo>
                    <a:pt x="2" y="334"/>
                  </a:lnTo>
                  <a:lnTo>
                    <a:pt x="4" y="314"/>
                  </a:lnTo>
                  <a:lnTo>
                    <a:pt x="8" y="296"/>
                  </a:lnTo>
                  <a:lnTo>
                    <a:pt x="12" y="278"/>
                  </a:lnTo>
                  <a:lnTo>
                    <a:pt x="16" y="261"/>
                  </a:lnTo>
                  <a:lnTo>
                    <a:pt x="22" y="244"/>
                  </a:lnTo>
                  <a:lnTo>
                    <a:pt x="30" y="227"/>
                  </a:lnTo>
                  <a:lnTo>
                    <a:pt x="37" y="210"/>
                  </a:lnTo>
                  <a:lnTo>
                    <a:pt x="45" y="195"/>
                  </a:lnTo>
                  <a:lnTo>
                    <a:pt x="54" y="179"/>
                  </a:lnTo>
                  <a:lnTo>
                    <a:pt x="63" y="165"/>
                  </a:lnTo>
                  <a:lnTo>
                    <a:pt x="74" y="149"/>
                  </a:lnTo>
                  <a:lnTo>
                    <a:pt x="85" y="136"/>
                  </a:lnTo>
                  <a:lnTo>
                    <a:pt x="97" y="123"/>
                  </a:lnTo>
                  <a:lnTo>
                    <a:pt x="109" y="109"/>
                  </a:lnTo>
                  <a:lnTo>
                    <a:pt x="122" y="97"/>
                  </a:lnTo>
                  <a:lnTo>
                    <a:pt x="135" y="85"/>
                  </a:lnTo>
                  <a:lnTo>
                    <a:pt x="150" y="75"/>
                  </a:lnTo>
                  <a:lnTo>
                    <a:pt x="164" y="64"/>
                  </a:lnTo>
                  <a:lnTo>
                    <a:pt x="178" y="54"/>
                  </a:lnTo>
                  <a:lnTo>
                    <a:pt x="194" y="46"/>
                  </a:lnTo>
                  <a:lnTo>
                    <a:pt x="210" y="37"/>
                  </a:lnTo>
                  <a:lnTo>
                    <a:pt x="226" y="30"/>
                  </a:lnTo>
                  <a:lnTo>
                    <a:pt x="243" y="23"/>
                  </a:lnTo>
                  <a:lnTo>
                    <a:pt x="260" y="17"/>
                  </a:lnTo>
                  <a:lnTo>
                    <a:pt x="278" y="12"/>
                  </a:lnTo>
                  <a:lnTo>
                    <a:pt x="296" y="7"/>
                  </a:lnTo>
                  <a:lnTo>
                    <a:pt x="314" y="5"/>
                  </a:lnTo>
                  <a:lnTo>
                    <a:pt x="333" y="3"/>
                  </a:lnTo>
                  <a:lnTo>
                    <a:pt x="351" y="1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495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302600" y="4322880"/>
              <a:ext cx="295200" cy="293400"/>
            </a:xfrm>
            <a:custGeom>
              <a:avLst/>
              <a:gdLst/>
              <a:ahLst/>
              <a:rect l="l" t="t" r="r" b="b"/>
              <a:pathLst>
                <a:path w="741" h="742">
                  <a:moveTo>
                    <a:pt x="370" y="0"/>
                  </a:moveTo>
                  <a:lnTo>
                    <a:pt x="390" y="1"/>
                  </a:lnTo>
                  <a:lnTo>
                    <a:pt x="409" y="3"/>
                  </a:lnTo>
                  <a:lnTo>
                    <a:pt x="427" y="5"/>
                  </a:lnTo>
                  <a:lnTo>
                    <a:pt x="445" y="7"/>
                  </a:lnTo>
                  <a:lnTo>
                    <a:pt x="463" y="12"/>
                  </a:lnTo>
                  <a:lnTo>
                    <a:pt x="481" y="17"/>
                  </a:lnTo>
                  <a:lnTo>
                    <a:pt x="498" y="23"/>
                  </a:lnTo>
                  <a:lnTo>
                    <a:pt x="514" y="30"/>
                  </a:lnTo>
                  <a:lnTo>
                    <a:pt x="531" y="37"/>
                  </a:lnTo>
                  <a:lnTo>
                    <a:pt x="547" y="46"/>
                  </a:lnTo>
                  <a:lnTo>
                    <a:pt x="562" y="54"/>
                  </a:lnTo>
                  <a:lnTo>
                    <a:pt x="578" y="64"/>
                  </a:lnTo>
                  <a:lnTo>
                    <a:pt x="592" y="75"/>
                  </a:lnTo>
                  <a:lnTo>
                    <a:pt x="606" y="85"/>
                  </a:lnTo>
                  <a:lnTo>
                    <a:pt x="620" y="97"/>
                  </a:lnTo>
                  <a:lnTo>
                    <a:pt x="632" y="109"/>
                  </a:lnTo>
                  <a:lnTo>
                    <a:pt x="645" y="123"/>
                  </a:lnTo>
                  <a:lnTo>
                    <a:pt x="656" y="136"/>
                  </a:lnTo>
                  <a:lnTo>
                    <a:pt x="668" y="149"/>
                  </a:lnTo>
                  <a:lnTo>
                    <a:pt x="678" y="165"/>
                  </a:lnTo>
                  <a:lnTo>
                    <a:pt x="687" y="179"/>
                  </a:lnTo>
                  <a:lnTo>
                    <a:pt x="697" y="195"/>
                  </a:lnTo>
                  <a:lnTo>
                    <a:pt x="705" y="210"/>
                  </a:lnTo>
                  <a:lnTo>
                    <a:pt x="712" y="227"/>
                  </a:lnTo>
                  <a:lnTo>
                    <a:pt x="718" y="244"/>
                  </a:lnTo>
                  <a:lnTo>
                    <a:pt x="724" y="261"/>
                  </a:lnTo>
                  <a:lnTo>
                    <a:pt x="729" y="278"/>
                  </a:lnTo>
                  <a:lnTo>
                    <a:pt x="734" y="296"/>
                  </a:lnTo>
                  <a:lnTo>
                    <a:pt x="738" y="314"/>
                  </a:lnTo>
                  <a:lnTo>
                    <a:pt x="740" y="334"/>
                  </a:lnTo>
                  <a:lnTo>
                    <a:pt x="741" y="352"/>
                  </a:lnTo>
                  <a:lnTo>
                    <a:pt x="741" y="371"/>
                  </a:lnTo>
                  <a:lnTo>
                    <a:pt x="741" y="390"/>
                  </a:lnTo>
                  <a:lnTo>
                    <a:pt x="740" y="409"/>
                  </a:lnTo>
                  <a:lnTo>
                    <a:pt x="738" y="427"/>
                  </a:lnTo>
                  <a:lnTo>
                    <a:pt x="734" y="445"/>
                  </a:lnTo>
                  <a:lnTo>
                    <a:pt x="729" y="463"/>
                  </a:lnTo>
                  <a:lnTo>
                    <a:pt x="724" y="481"/>
                  </a:lnTo>
                  <a:lnTo>
                    <a:pt x="718" y="498"/>
                  </a:lnTo>
                  <a:lnTo>
                    <a:pt x="712" y="515"/>
                  </a:lnTo>
                  <a:lnTo>
                    <a:pt x="705" y="532"/>
                  </a:lnTo>
                  <a:lnTo>
                    <a:pt x="697" y="547"/>
                  </a:lnTo>
                  <a:lnTo>
                    <a:pt x="687" y="563"/>
                  </a:lnTo>
                  <a:lnTo>
                    <a:pt x="678" y="578"/>
                  </a:lnTo>
                  <a:lnTo>
                    <a:pt x="668" y="593"/>
                  </a:lnTo>
                  <a:lnTo>
                    <a:pt x="656" y="606"/>
                  </a:lnTo>
                  <a:lnTo>
                    <a:pt x="645" y="620"/>
                  </a:lnTo>
                  <a:lnTo>
                    <a:pt x="632" y="632"/>
                  </a:lnTo>
                  <a:lnTo>
                    <a:pt x="620" y="646"/>
                  </a:lnTo>
                  <a:lnTo>
                    <a:pt x="606" y="656"/>
                  </a:lnTo>
                  <a:lnTo>
                    <a:pt x="592" y="668"/>
                  </a:lnTo>
                  <a:lnTo>
                    <a:pt x="578" y="678"/>
                  </a:lnTo>
                  <a:lnTo>
                    <a:pt x="562" y="688"/>
                  </a:lnTo>
                  <a:lnTo>
                    <a:pt x="547" y="697"/>
                  </a:lnTo>
                  <a:lnTo>
                    <a:pt x="531" y="704"/>
                  </a:lnTo>
                  <a:lnTo>
                    <a:pt x="514" y="713"/>
                  </a:lnTo>
                  <a:lnTo>
                    <a:pt x="498" y="719"/>
                  </a:lnTo>
                  <a:lnTo>
                    <a:pt x="481" y="725"/>
                  </a:lnTo>
                  <a:lnTo>
                    <a:pt x="463" y="730"/>
                  </a:lnTo>
                  <a:lnTo>
                    <a:pt x="445" y="734"/>
                  </a:lnTo>
                  <a:lnTo>
                    <a:pt x="427" y="737"/>
                  </a:lnTo>
                  <a:lnTo>
                    <a:pt x="409" y="739"/>
                  </a:lnTo>
                  <a:lnTo>
                    <a:pt x="390" y="742"/>
                  </a:lnTo>
                  <a:lnTo>
                    <a:pt x="370" y="742"/>
                  </a:lnTo>
                  <a:lnTo>
                    <a:pt x="351" y="742"/>
                  </a:lnTo>
                  <a:lnTo>
                    <a:pt x="333" y="739"/>
                  </a:lnTo>
                  <a:lnTo>
                    <a:pt x="314" y="737"/>
                  </a:lnTo>
                  <a:lnTo>
                    <a:pt x="296" y="734"/>
                  </a:lnTo>
                  <a:lnTo>
                    <a:pt x="278" y="730"/>
                  </a:lnTo>
                  <a:lnTo>
                    <a:pt x="260" y="725"/>
                  </a:lnTo>
                  <a:lnTo>
                    <a:pt x="243" y="719"/>
                  </a:lnTo>
                  <a:lnTo>
                    <a:pt x="226" y="713"/>
                  </a:lnTo>
                  <a:lnTo>
                    <a:pt x="210" y="704"/>
                  </a:lnTo>
                  <a:lnTo>
                    <a:pt x="194" y="697"/>
                  </a:lnTo>
                  <a:lnTo>
                    <a:pt x="178" y="688"/>
                  </a:lnTo>
                  <a:lnTo>
                    <a:pt x="164" y="678"/>
                  </a:lnTo>
                  <a:lnTo>
                    <a:pt x="150" y="668"/>
                  </a:lnTo>
                  <a:lnTo>
                    <a:pt x="135" y="656"/>
                  </a:lnTo>
                  <a:lnTo>
                    <a:pt x="122" y="646"/>
                  </a:lnTo>
                  <a:lnTo>
                    <a:pt x="109" y="632"/>
                  </a:lnTo>
                  <a:lnTo>
                    <a:pt x="97" y="620"/>
                  </a:lnTo>
                  <a:lnTo>
                    <a:pt x="85" y="606"/>
                  </a:lnTo>
                  <a:lnTo>
                    <a:pt x="74" y="593"/>
                  </a:lnTo>
                  <a:lnTo>
                    <a:pt x="63" y="578"/>
                  </a:lnTo>
                  <a:lnTo>
                    <a:pt x="54" y="563"/>
                  </a:lnTo>
                  <a:lnTo>
                    <a:pt x="45" y="547"/>
                  </a:lnTo>
                  <a:lnTo>
                    <a:pt x="37" y="532"/>
                  </a:lnTo>
                  <a:lnTo>
                    <a:pt x="30" y="515"/>
                  </a:lnTo>
                  <a:lnTo>
                    <a:pt x="22" y="498"/>
                  </a:lnTo>
                  <a:lnTo>
                    <a:pt x="16" y="481"/>
                  </a:lnTo>
                  <a:lnTo>
                    <a:pt x="12" y="463"/>
                  </a:lnTo>
                  <a:lnTo>
                    <a:pt x="8" y="445"/>
                  </a:lnTo>
                  <a:lnTo>
                    <a:pt x="4" y="427"/>
                  </a:lnTo>
                  <a:lnTo>
                    <a:pt x="2" y="409"/>
                  </a:lnTo>
                  <a:lnTo>
                    <a:pt x="1" y="390"/>
                  </a:lnTo>
                  <a:lnTo>
                    <a:pt x="0" y="371"/>
                  </a:lnTo>
                  <a:lnTo>
                    <a:pt x="1" y="352"/>
                  </a:lnTo>
                  <a:lnTo>
                    <a:pt x="2" y="334"/>
                  </a:lnTo>
                  <a:lnTo>
                    <a:pt x="4" y="314"/>
                  </a:lnTo>
                  <a:lnTo>
                    <a:pt x="8" y="296"/>
                  </a:lnTo>
                  <a:lnTo>
                    <a:pt x="12" y="278"/>
                  </a:lnTo>
                  <a:lnTo>
                    <a:pt x="16" y="261"/>
                  </a:lnTo>
                  <a:lnTo>
                    <a:pt x="22" y="244"/>
                  </a:lnTo>
                  <a:lnTo>
                    <a:pt x="30" y="227"/>
                  </a:lnTo>
                  <a:lnTo>
                    <a:pt x="37" y="210"/>
                  </a:lnTo>
                  <a:lnTo>
                    <a:pt x="45" y="195"/>
                  </a:lnTo>
                  <a:lnTo>
                    <a:pt x="54" y="179"/>
                  </a:lnTo>
                  <a:lnTo>
                    <a:pt x="63" y="165"/>
                  </a:lnTo>
                  <a:lnTo>
                    <a:pt x="74" y="149"/>
                  </a:lnTo>
                  <a:lnTo>
                    <a:pt x="85" y="136"/>
                  </a:lnTo>
                  <a:lnTo>
                    <a:pt x="97" y="123"/>
                  </a:lnTo>
                  <a:lnTo>
                    <a:pt x="109" y="109"/>
                  </a:lnTo>
                  <a:lnTo>
                    <a:pt x="122" y="97"/>
                  </a:lnTo>
                  <a:lnTo>
                    <a:pt x="135" y="85"/>
                  </a:lnTo>
                  <a:lnTo>
                    <a:pt x="150" y="75"/>
                  </a:lnTo>
                  <a:lnTo>
                    <a:pt x="164" y="64"/>
                  </a:lnTo>
                  <a:lnTo>
                    <a:pt x="178" y="54"/>
                  </a:lnTo>
                  <a:lnTo>
                    <a:pt x="194" y="46"/>
                  </a:lnTo>
                  <a:lnTo>
                    <a:pt x="210" y="37"/>
                  </a:lnTo>
                  <a:lnTo>
                    <a:pt x="226" y="30"/>
                  </a:lnTo>
                  <a:lnTo>
                    <a:pt x="243" y="23"/>
                  </a:lnTo>
                  <a:lnTo>
                    <a:pt x="260" y="17"/>
                  </a:lnTo>
                  <a:lnTo>
                    <a:pt x="278" y="12"/>
                  </a:lnTo>
                  <a:lnTo>
                    <a:pt x="296" y="7"/>
                  </a:lnTo>
                  <a:lnTo>
                    <a:pt x="314" y="5"/>
                  </a:lnTo>
                  <a:lnTo>
                    <a:pt x="333" y="3"/>
                  </a:lnTo>
                  <a:lnTo>
                    <a:pt x="351" y="1"/>
                  </a:lnTo>
                  <a:lnTo>
                    <a:pt x="37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242520" y="76212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"/>
                </a:rPr>
                <a:t>Innate I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374120" y="594360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aptive I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579840" y="2362320"/>
              <a:ext cx="155520" cy="95040"/>
            </a:xfrm>
            <a:custGeom>
              <a:avLst/>
              <a:gdLst/>
              <a:ahLst/>
              <a:rect l="l" t="t" r="r" b="b"/>
              <a:pathLst>
                <a:path w="392" h="239">
                  <a:moveTo>
                    <a:pt x="0" y="111"/>
                  </a:moveTo>
                  <a:lnTo>
                    <a:pt x="86" y="1"/>
                  </a:lnTo>
                  <a:lnTo>
                    <a:pt x="310" y="0"/>
                  </a:lnTo>
                  <a:lnTo>
                    <a:pt x="392" y="112"/>
                  </a:lnTo>
                  <a:lnTo>
                    <a:pt x="320" y="231"/>
                  </a:lnTo>
                  <a:lnTo>
                    <a:pt x="95" y="239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79c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960720" y="2438280"/>
              <a:ext cx="155520" cy="95400"/>
            </a:xfrm>
            <a:custGeom>
              <a:avLst/>
              <a:gdLst/>
              <a:ahLst/>
              <a:rect l="l" t="t" r="r" b="b"/>
              <a:pathLst>
                <a:path w="392" h="239">
                  <a:moveTo>
                    <a:pt x="0" y="111"/>
                  </a:moveTo>
                  <a:lnTo>
                    <a:pt x="86" y="1"/>
                  </a:lnTo>
                  <a:lnTo>
                    <a:pt x="310" y="0"/>
                  </a:lnTo>
                  <a:lnTo>
                    <a:pt x="392" y="112"/>
                  </a:lnTo>
                  <a:lnTo>
                    <a:pt x="320" y="231"/>
                  </a:lnTo>
                  <a:lnTo>
                    <a:pt x="95" y="239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79c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960720" y="2743200"/>
              <a:ext cx="155520" cy="95400"/>
            </a:xfrm>
            <a:custGeom>
              <a:avLst/>
              <a:gdLst/>
              <a:ahLst/>
              <a:rect l="l" t="t" r="r" b="b"/>
              <a:pathLst>
                <a:path w="392" h="239">
                  <a:moveTo>
                    <a:pt x="0" y="111"/>
                  </a:moveTo>
                  <a:lnTo>
                    <a:pt x="86" y="1"/>
                  </a:lnTo>
                  <a:lnTo>
                    <a:pt x="310" y="0"/>
                  </a:lnTo>
                  <a:lnTo>
                    <a:pt x="392" y="112"/>
                  </a:lnTo>
                  <a:lnTo>
                    <a:pt x="320" y="231"/>
                  </a:lnTo>
                  <a:lnTo>
                    <a:pt x="95" y="239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79c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814360" y="3397320"/>
              <a:ext cx="1652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Lymphocyte sele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343400" y="1581120"/>
              <a:ext cx="155520" cy="95400"/>
            </a:xfrm>
            <a:custGeom>
              <a:avLst/>
              <a:gdLst/>
              <a:ahLst/>
              <a:rect l="l" t="t" r="r" b="b"/>
              <a:pathLst>
                <a:path w="392" h="239">
                  <a:moveTo>
                    <a:pt x="0" y="111"/>
                  </a:moveTo>
                  <a:lnTo>
                    <a:pt x="86" y="1"/>
                  </a:lnTo>
                  <a:lnTo>
                    <a:pt x="310" y="0"/>
                  </a:lnTo>
                  <a:lnTo>
                    <a:pt x="392" y="112"/>
                  </a:lnTo>
                  <a:lnTo>
                    <a:pt x="320" y="231"/>
                  </a:lnTo>
                  <a:lnTo>
                    <a:pt x="95" y="239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79c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108120" y="5791320"/>
              <a:ext cx="90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Arial"/>
                </a:rPr>
                <a:t>DC apoptosi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3" name=""/>
            <p:cNvGrpSpPr/>
            <p:nvPr/>
          </p:nvGrpSpPr>
          <p:grpSpPr>
            <a:xfrm>
              <a:off x="6724800" y="5181480"/>
              <a:ext cx="666720" cy="663840"/>
              <a:chOff x="6724800" y="5181480"/>
              <a:chExt cx="666720" cy="663840"/>
            </a:xfrm>
          </p:grpSpPr>
          <p:sp>
            <p:nvSpPr>
              <p:cNvPr id="1644" name=""/>
              <p:cNvSpPr/>
              <p:nvPr/>
            </p:nvSpPr>
            <p:spPr>
              <a:xfrm>
                <a:off x="6724800" y="5181480"/>
                <a:ext cx="666720" cy="663840"/>
              </a:xfrm>
              <a:custGeom>
                <a:avLst/>
                <a:gdLst/>
                <a:ahLst/>
                <a:rect l="l" t="t" r="r" b="b"/>
                <a:pathLst>
                  <a:path w="525" h="523">
                    <a:moveTo>
                      <a:pt x="261" y="86"/>
                    </a:moveTo>
                    <a:cubicBezTo>
                      <a:pt x="253" y="91"/>
                      <a:pt x="247" y="102"/>
                      <a:pt x="237" y="102"/>
                    </a:cubicBezTo>
                    <a:cubicBezTo>
                      <a:pt x="203" y="102"/>
                      <a:pt x="165" y="70"/>
                      <a:pt x="133" y="62"/>
                    </a:cubicBezTo>
                    <a:cubicBezTo>
                      <a:pt x="117" y="65"/>
                      <a:pt x="101" y="68"/>
                      <a:pt x="85" y="70"/>
                    </a:cubicBezTo>
                    <a:cubicBezTo>
                      <a:pt x="61" y="73"/>
                      <a:pt x="30" y="61"/>
                      <a:pt x="13" y="78"/>
                    </a:cubicBezTo>
                    <a:cubicBezTo>
                      <a:pt x="0" y="91"/>
                      <a:pt x="13" y="117"/>
                      <a:pt x="21" y="134"/>
                    </a:cubicBezTo>
                    <a:cubicBezTo>
                      <a:pt x="25" y="142"/>
                      <a:pt x="37" y="138"/>
                      <a:pt x="45" y="142"/>
                    </a:cubicBezTo>
                    <a:cubicBezTo>
                      <a:pt x="74" y="157"/>
                      <a:pt x="92" y="166"/>
                      <a:pt x="125" y="174"/>
                    </a:cubicBezTo>
                    <a:cubicBezTo>
                      <a:pt x="149" y="247"/>
                      <a:pt x="81" y="282"/>
                      <a:pt x="61" y="342"/>
                    </a:cubicBezTo>
                    <a:cubicBezTo>
                      <a:pt x="64" y="393"/>
                      <a:pt x="55" y="445"/>
                      <a:pt x="69" y="494"/>
                    </a:cubicBezTo>
                    <a:cubicBezTo>
                      <a:pt x="77" y="523"/>
                      <a:pt x="149" y="454"/>
                      <a:pt x="149" y="454"/>
                    </a:cubicBezTo>
                    <a:cubicBezTo>
                      <a:pt x="169" y="424"/>
                      <a:pt x="184" y="385"/>
                      <a:pt x="213" y="366"/>
                    </a:cubicBezTo>
                    <a:cubicBezTo>
                      <a:pt x="221" y="371"/>
                      <a:pt x="228" y="378"/>
                      <a:pt x="237" y="382"/>
                    </a:cubicBezTo>
                    <a:cubicBezTo>
                      <a:pt x="245" y="386"/>
                      <a:pt x="254" y="386"/>
                      <a:pt x="261" y="390"/>
                    </a:cubicBezTo>
                    <a:cubicBezTo>
                      <a:pt x="297" y="410"/>
                      <a:pt x="319" y="433"/>
                      <a:pt x="357" y="446"/>
                    </a:cubicBezTo>
                    <a:cubicBezTo>
                      <a:pt x="365" y="443"/>
                      <a:pt x="377" y="445"/>
                      <a:pt x="381" y="438"/>
                    </a:cubicBezTo>
                    <a:cubicBezTo>
                      <a:pt x="389" y="424"/>
                      <a:pt x="387" y="406"/>
                      <a:pt x="389" y="390"/>
                    </a:cubicBezTo>
                    <a:cubicBezTo>
                      <a:pt x="393" y="350"/>
                      <a:pt x="394" y="310"/>
                      <a:pt x="397" y="270"/>
                    </a:cubicBezTo>
                    <a:cubicBezTo>
                      <a:pt x="466" y="287"/>
                      <a:pt x="502" y="291"/>
                      <a:pt x="525" y="222"/>
                    </a:cubicBezTo>
                    <a:cubicBezTo>
                      <a:pt x="503" y="135"/>
                      <a:pt x="494" y="159"/>
                      <a:pt x="389" y="150"/>
                    </a:cubicBezTo>
                    <a:cubicBezTo>
                      <a:pt x="363" y="133"/>
                      <a:pt x="351" y="111"/>
                      <a:pt x="325" y="94"/>
                    </a:cubicBezTo>
                    <a:cubicBezTo>
                      <a:pt x="306" y="37"/>
                      <a:pt x="333" y="106"/>
                      <a:pt x="293" y="46"/>
                    </a:cubicBezTo>
                    <a:cubicBezTo>
                      <a:pt x="262" y="0"/>
                      <a:pt x="315" y="42"/>
                      <a:pt x="261" y="6"/>
                    </a:cubicBezTo>
                    <a:cubicBezTo>
                      <a:pt x="253" y="9"/>
                      <a:pt x="238" y="6"/>
                      <a:pt x="237" y="14"/>
                    </a:cubicBezTo>
                    <a:cubicBezTo>
                      <a:pt x="234" y="38"/>
                      <a:pt x="256" y="67"/>
                      <a:pt x="269" y="86"/>
                    </a:cubicBezTo>
                    <a:cubicBezTo>
                      <a:pt x="239" y="106"/>
                      <a:pt x="238" y="109"/>
                      <a:pt x="261" y="86"/>
                    </a:cubicBezTo>
                    <a:close/>
                  </a:path>
                </a:pathLst>
              </a:custGeom>
              <a:solidFill>
                <a:srgbClr val="eb9db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961320" y="5424480"/>
                <a:ext cx="96840" cy="9684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07120" y="5473800"/>
                <a:ext cx="60480" cy="6012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058160" y="5375160"/>
                <a:ext cx="96840" cy="9864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045200" y="5533920"/>
                <a:ext cx="61920" cy="6192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924600" y="5533920"/>
                <a:ext cx="60480" cy="6192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Banchereau%208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6360" cy="3826080"/>
          </a:xfrm>
          <a:prstGeom prst="rect">
            <a:avLst/>
          </a:prstGeom>
          <a:ln w="0">
            <a:noFill/>
          </a:ln>
        </p:spPr>
      </p:pic>
      <p:sp>
        <p:nvSpPr>
          <p:cNvPr id="1651" name=""/>
          <p:cNvSpPr/>
          <p:nvPr/>
        </p:nvSpPr>
        <p:spPr>
          <a:xfrm>
            <a:off x="2590920" y="166680"/>
            <a:ext cx="39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Some Features of D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987560" y="6400800"/>
            <a:ext cx="50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6a0b"/>
                </a:solidFill>
                <a:latin typeface="Arial"/>
              </a:rPr>
              <a:t>From Banchereau and Steinman. Nature 1998. 392: 245-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3" name="Banchereau%2016bis" descr=""/>
          <p:cNvPicPr/>
          <p:nvPr/>
        </p:nvPicPr>
        <p:blipFill>
          <a:blip r:embed="rId1"/>
          <a:stretch/>
        </p:blipFill>
        <p:spPr>
          <a:xfrm>
            <a:off x="2797200" y="182520"/>
            <a:ext cx="5127480" cy="659916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/>
          <p:nvPr/>
        </p:nvSpPr>
        <p:spPr>
          <a:xfrm>
            <a:off x="70200" y="657072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96a0b"/>
                </a:solidFill>
                <a:latin typeface="Arial"/>
              </a:rPr>
              <a:t>From Banchereau et al. (2000). Annu. Rev. Immunol. 18: 767-8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06360" y="6094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DC Mat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04920" y="609480"/>
            <a:ext cx="2286000" cy="457200"/>
          </a:xfrm>
          <a:prstGeom prst="rect">
            <a:avLst/>
          </a:prstGeom>
          <a:noFill/>
          <a:ln w="9360">
            <a:solidFill>
              <a:srgbClr val="e96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943600" y="2971800"/>
            <a:ext cx="1066680" cy="15228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095880" y="5638680"/>
            <a:ext cx="1219320" cy="1526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019920" y="3200400"/>
            <a:ext cx="914400" cy="2286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095880" y="5867280"/>
            <a:ext cx="914400" cy="2286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1" name="Fig1%20Granucci%20EMBO" descr=""/>
          <p:cNvPicPr/>
          <p:nvPr/>
        </p:nvPicPr>
        <p:blipFill>
          <a:blip r:embed="rId1"/>
          <a:stretch/>
        </p:blipFill>
        <p:spPr>
          <a:xfrm>
            <a:off x="789120" y="673200"/>
            <a:ext cx="7440480" cy="5727600"/>
          </a:xfrm>
          <a:prstGeom prst="rect">
            <a:avLst/>
          </a:prstGeom>
          <a:ln w="0">
            <a:noFill/>
          </a:ln>
        </p:spPr>
      </p:pic>
      <p:sp>
        <p:nvSpPr>
          <p:cNvPr id="1662" name=""/>
          <p:cNvSpPr/>
          <p:nvPr/>
        </p:nvSpPr>
        <p:spPr>
          <a:xfrm>
            <a:off x="2523240" y="14400"/>
            <a:ext cx="40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DC Matur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507760" y="6526080"/>
            <a:ext cx="423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96a0b"/>
                </a:solidFill>
                <a:latin typeface="Arial"/>
              </a:rPr>
              <a:t>Adapted from Granucci et al. EMBO J. 2003. 22: 2546-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828800" y="1676520"/>
            <a:ext cx="1371600" cy="304560"/>
          </a:xfrm>
          <a:prstGeom prst="rect">
            <a:avLst/>
          </a:prstGeom>
          <a:noFill/>
          <a:ln w="9360">
            <a:solidFill>
              <a:srgbClr val="e96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791320" y="1523880"/>
            <a:ext cx="1371600" cy="304920"/>
          </a:xfrm>
          <a:prstGeom prst="rect">
            <a:avLst/>
          </a:prstGeom>
          <a:noFill/>
          <a:ln w="9360">
            <a:solidFill>
              <a:srgbClr val="e96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362320" y="480060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876920" y="48769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8" name=""/>
          <p:cNvGrpSpPr/>
          <p:nvPr/>
        </p:nvGrpSpPr>
        <p:grpSpPr>
          <a:xfrm>
            <a:off x="4038480" y="4800600"/>
            <a:ext cx="990720" cy="337320"/>
            <a:chOff x="4038480" y="4800600"/>
            <a:chExt cx="990720" cy="337320"/>
          </a:xfrm>
        </p:grpSpPr>
        <p:sp>
          <p:nvSpPr>
            <p:cNvPr id="1669" name=""/>
            <p:cNvSpPr/>
            <p:nvPr/>
          </p:nvSpPr>
          <p:spPr>
            <a:xfrm>
              <a:off x="4038480" y="4816440"/>
              <a:ext cx="990720" cy="304920"/>
            </a:xfrm>
            <a:prstGeom prst="rect">
              <a:avLst/>
            </a:prstGeom>
            <a:noFill/>
            <a:ln w="9360">
              <a:solidFill>
                <a:srgbClr val="e96a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78160" y="480060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2286000" y="4724280"/>
            <a:ext cx="990720" cy="337320"/>
            <a:chOff x="2286000" y="4724280"/>
            <a:chExt cx="990720" cy="337320"/>
          </a:xfrm>
        </p:grpSpPr>
        <p:sp>
          <p:nvSpPr>
            <p:cNvPr id="1672" name=""/>
            <p:cNvSpPr/>
            <p:nvPr/>
          </p:nvSpPr>
          <p:spPr>
            <a:xfrm>
              <a:off x="2424240" y="472428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ar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286000" y="4740120"/>
              <a:ext cx="990720" cy="304560"/>
            </a:xfrm>
            <a:prstGeom prst="rect">
              <a:avLst/>
            </a:prstGeom>
            <a:noFill/>
            <a:ln w="9360">
              <a:solidFill>
                <a:srgbClr val="e96a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5791320" y="4724280"/>
            <a:ext cx="990360" cy="337320"/>
            <a:chOff x="5791320" y="4724280"/>
            <a:chExt cx="990360" cy="337320"/>
          </a:xfrm>
        </p:grpSpPr>
        <p:sp>
          <p:nvSpPr>
            <p:cNvPr id="1675" name=""/>
            <p:cNvSpPr/>
            <p:nvPr/>
          </p:nvSpPr>
          <p:spPr>
            <a:xfrm>
              <a:off x="6005880" y="47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791320" y="4740120"/>
              <a:ext cx="990360" cy="304920"/>
            </a:xfrm>
            <a:prstGeom prst="rect">
              <a:avLst/>
            </a:prstGeom>
            <a:noFill/>
            <a:ln w="9360">
              <a:solidFill>
                <a:srgbClr val="e96a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7" name=""/>
          <p:cNvSpPr/>
          <p:nvPr/>
        </p:nvSpPr>
        <p:spPr>
          <a:xfrm>
            <a:off x="7162920" y="3429000"/>
            <a:ext cx="1218960" cy="457200"/>
          </a:xfrm>
          <a:prstGeom prst="rect">
            <a:avLst/>
          </a:prstGeom>
          <a:noFill/>
          <a:ln w="9360">
            <a:solidFill>
              <a:srgbClr val="e96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2427120" y="1440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DC Maturation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3120" y="914400"/>
            <a:ext cx="926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1. Genes induced (or repressed) that en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 secreted factors (cytokine, chemok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 membrane factors (cytokine receptor, CMH-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 intracellular factors (cytoskeleton, survi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2. Expression kine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 Early (E), Middle (M), Late (L)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 Transient (T) or Sustained 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3. Consequence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 D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 Other immune cells (B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/>
          <p:nvPr/>
        </p:nvSpPr>
        <p:spPr>
          <a:xfrm>
            <a:off x="2684880" y="304920"/>
            <a:ext cx="40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a0b"/>
                </a:solidFill>
                <a:latin typeface="Arial"/>
              </a:rPr>
              <a:t>DC Matur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933120" y="1098720"/>
            <a:ext cx="77335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Immature</a:t>
            </a: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Early</a:t>
            </a: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Middle</a:t>
            </a: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Late</a:t>
            </a: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Mature</a:t>
            </a: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96a0b"/>
                </a:solidFill>
                <a:latin typeface="Arial"/>
              </a:rPr>
              <a:t>      Apopto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6a0b"/>
                </a:solidFill>
                <a:latin typeface="Arial"/>
              </a:rPr>
              <a:t>(t=0)</a:t>
            </a:r>
            <a:r>
              <a:rPr b="1" lang="en-US" sz="18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96a0b"/>
                </a:solidFill>
                <a:latin typeface="Arial"/>
              </a:rPr>
              <a:t>(0-8h)</a:t>
            </a:r>
            <a:r>
              <a:rPr b="1" lang="en-US" sz="18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96a0b"/>
                </a:solidFill>
                <a:latin typeface="Arial"/>
              </a:rPr>
              <a:t>(8-18h)</a:t>
            </a:r>
            <a:r>
              <a:rPr b="1" lang="en-US" sz="18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96a0b"/>
                </a:solidFill>
                <a:latin typeface="Arial"/>
              </a:rPr>
              <a:t>(18-48h)</a:t>
            </a:r>
            <a:r>
              <a:rPr b="1" lang="en-US" sz="18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96a0b"/>
                </a:solidFill>
                <a:latin typeface="Arial"/>
              </a:rPr>
              <a:t>(48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57200" y="232236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ET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MT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MS 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LT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LS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DES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96a0b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514600" y="1066680"/>
            <a:ext cx="4572000" cy="0"/>
          </a:xfrm>
          <a:prstGeom prst="line">
            <a:avLst/>
          </a:prstGeom>
          <a:ln w="38160">
            <a:solidFill>
              <a:srgbClr val="e96a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20:11:03Z</dcterms:created>
  <dc:creator>AYA</dc:creator>
  <dc:description/>
  <dc:language>en-US</dc:language>
  <cp:lastModifiedBy>AYA</cp:lastModifiedBy>
  <dcterms:modified xsi:type="dcterms:W3CDTF">2004-03-04T21:20:53Z</dcterms:modified>
  <cp:revision>37</cp:revision>
  <dc:subject/>
  <dc:title>PowerPoint Presentation</dc:title>
</cp:coreProperties>
</file>